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wmf" ContentType="image/x-wmf"/>
  <Override PartName="/ppt/media/image3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4.png" ContentType="image/png"/>
  <Override PartName="/ppt/media/image12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5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s-ES_tradnl" sz="13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6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s-ES_tradnl" sz="13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7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s-ES_tradnl" sz="13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9E6494-C77F-456C-89B9-9917A46CC59E}" type="slidenum">
              <a:rPr b="0" lang="es-ES_tradnl" sz="13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5E2EF7-2539-4455-8628-2EE0689F673E}" type="slidenum">
              <a:rPr b="0" lang="es-ES_tradnl" sz="13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body"/>
          </p:nvPr>
        </p:nvSpPr>
        <p:spPr>
          <a:xfrm>
            <a:off x="487080" y="3489120"/>
            <a:ext cx="625932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CCA947-6DE5-4B5E-8CBC-EA6E70CD4A5B}" type="slidenum">
              <a:rPr b="0" lang="es-ES_tradnl" sz="13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D7C861-12D7-4EB0-8753-218603B29324}" type="slidenum">
              <a:rPr b="0" lang="es-ES_tradnl" sz="13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595EF7-5BD4-4B60-AF33-476761F2231F}" type="slidenum">
              <a:rPr b="0" lang="es-ES_tradnl" sz="13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759125-F755-4948-95B0-9971E2E5F9B4}" type="slidenum">
              <a:rPr b="0" lang="es-ES_tradnl" sz="13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280D7F-B749-479E-BB24-746D11F1F9EA}" type="slidenum">
              <a:rPr b="0" lang="es-ES_tradnl" sz="13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8F45E2-C3E2-4FEA-8333-6F8D1DB2A347}" type="slidenum">
              <a:rPr b="0" lang="es-ES_tradnl" sz="13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ABE2C-1552-431E-BAEF-5F45ED72E7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34315-8AAA-416C-AE31-6224C57DA4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F039B-3C2D-48EF-A06B-B7940BC171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D3D22-8BCB-4AFD-A085-4F196D30DF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E50485-18B1-4E4E-A78A-5385DBD2A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313F72-7803-4F90-B843-11EBE77F8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9B2CC2-28F2-4525-BBC3-99820D400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DF501C-B0D5-4ED5-8FD8-158A93CBB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0A9A4B-9609-460B-A076-B4BACEA78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95D014-D0F9-4679-8D62-2A6CBB269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C8E7BA-C427-4B30-9D1F-469FE25C8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251E7-76F7-4F44-A964-D4637D2121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F06975-60ED-47B3-B7D3-0FA54B519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ACC333-E254-4FDC-8657-685B45235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D42A01-0429-4A77-8A37-8083A858C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F9649F-4D05-45FF-A021-3AD1E2424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F936B3-BD7A-4F33-B381-B97542C01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AC628-D452-40AF-AAAC-90DC133A50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7F1B0-4BF8-450D-8F57-F2AD4D39E1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0A811-B50D-4535-B718-C3A3CA6B4D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211F2-CD5E-482C-82A2-3340012913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4CFEF-E410-428A-B490-3486020E86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D1DCF-4602-4A0C-B785-CFC4B02897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24F4D-28D5-4142-B2CC-720E171014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B50B0-7AB2-4A0D-87F7-3796547BCBE4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9520" y="6392880"/>
            <a:ext cx="429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Palatino Linotype"/>
              </a:rPr>
              <a:t>IN 44A - Sesión 2: Pronósticos de Deman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2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1C192-DCDD-4899-ACF8-595BB49CD49B}" type="slidenum"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42900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Capítulo 2: Pronósticos de Dema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Nota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manda observada en el período 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+1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nóstico para el período t+1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medio calculado para el período 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=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-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rror de pronóstic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ípicamente se conocen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-k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,.....,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y se busca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+1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,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+2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,...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A0526-5DAE-48BB-9F86-44D34040595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240" y="1676520"/>
            <a:ext cx="7961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.- Promedios Móviles Si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2.- Promedios Móviles Ponderad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092320" y="2286000"/>
                <a:ext cx="438480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144880" y="4495680"/>
                <a:ext cx="5311440" cy="15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aso simple, 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3F6BE-1DFD-4CEE-8ED5-80D920D7873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240" y="1676520"/>
            <a:ext cx="74278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3.- Alisamiento Exponencial Si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4.- Alisamiento Exponencial con Tendenci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1809720" y="2438280"/>
                <a:ext cx="61722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      0</m:t>
                    </m:r>
                    <m:r>
                      <m:t xml:space="preserve">&lt;</m:t>
                    </m:r>
                    <m:r>
                      <m:t xml:space="preserve">α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1447920" y="4114800"/>
                <a:ext cx="6933960" cy="17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   0</m:t>
                        </m:r>
                        <m:r>
                          <m:t xml:space="preserve">&lt;</m:t>
                        </m:r>
                        <m:r>
                          <m:t xml:space="preserve">α</m:t>
                        </m:r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β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0</m:t>
                        </m:r>
                        <m:r>
                          <m:t xml:space="preserve">&lt;</m:t>
                        </m:r>
                        <m:r>
                          <m:t xml:space="preserve">β</m:t>
                        </m:r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68F47-9B5C-46D6-BD04-6D119F2D7E2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240" y="1447920"/>
            <a:ext cx="75805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rrores de Pronóstic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Palatino Linotype"/>
              </a:rPr>
              <a:t>Los indicadores de error sirven para ver en qué momento el pronóstico falla o los datos no sirv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ndicador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Palatino Linotype"/>
              </a:rPr>
              <a:t>Desviación media absolut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1447920" y="3733920"/>
                <a:ext cx="3200400" cy="97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t</m:t>
                        </m:r>
                      </m:sub>
                      <m:sup/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5257800" y="3962520"/>
                <a:ext cx="332280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1 MAD</m:t>
                        </m:r>
                        <m:r>
                          <m:t xml:space="preserve">≈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 desv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estandar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 de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estandard </m:t>
                        </m:r>
                        <m:r>
                          <m:t xml:space="preserve">≈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 MA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838080" y="4952880"/>
            <a:ext cx="815364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9900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Garamond"/>
              </a:rPr>
              <a:t>El valor ideal de MAD es cero (ie, no existe error de pronósticos)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9900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Garamond"/>
              </a:rPr>
              <a:t>Mientras mas grande MAD, menor la precisión del modelo. MAD se usa par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990033"/>
              </a:buClr>
              <a:buSzPct val="5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Garamond"/>
              </a:rPr>
              <a:t>Compare distintos modelos de pronóstico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990033"/>
              </a:buClr>
              <a:buSzPct val="5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Garamond"/>
              </a:rPr>
              <a:t>Elegir el “mejor” modelo dentro de una familia de modelo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E61E6-6995-4913-8728-4DAF0E76B27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71424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1528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829040" y="1387440"/>
            <a:ext cx="4086360" cy="27907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257040" y="1378080"/>
            <a:ext cx="4343400" cy="28429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333360" y="3989520"/>
            <a:ext cx="4267080" cy="27921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4705200" y="3981600"/>
            <a:ext cx="4086360" cy="27907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763120" cy="116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imes New Roman"/>
              </a:rPr>
              <a:t>MAD para Determinar</a:t>
            </a:r>
            <a:r>
              <a:rPr b="0" lang="es-CL" sz="3600" spc="-1" strike="noStrike">
                <a:solidFill>
                  <a:srgbClr val="ffcf01"/>
                </a:solidFill>
                <a:latin typeface="Times New Roman"/>
              </a:rPr>
              <a:t> </a:t>
            </a:r>
            <a:r>
              <a:rPr b="0" lang="es-CL" sz="3600" spc="-1" strike="noStrike">
                <a:solidFill>
                  <a:srgbClr val="000099"/>
                </a:solidFill>
                <a:latin typeface="Times New Roman"/>
              </a:rPr>
              <a:t>Error de Pronóstico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2346120" y="1066680"/>
            <a:ext cx="5379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Ej: Suavizado Exponencial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Regresión Lineal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ariable independi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ariable dependi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idea es ajustar una curva a los puntos con que se cuen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3276720" y="2286000"/>
                <a:ext cx="228600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928880" y="3441600"/>
                <a:ext cx="3697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373040" y="5181480"/>
                <a:ext cx="7236000" cy="11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n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62562-3F4A-4E22-A4CC-B9E852DED1A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Regresión Line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8458200" cy="40114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330800" y="2260440"/>
            <a:ext cx="53316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380880" y="2057400"/>
            <a:ext cx="8483760" cy="402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A2F3B-04D8-4F0B-8C48-E72DF5A3911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Regresión Line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o resultado se obtien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2286000"/>
                <a:ext cx="5715000" cy="385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f>
                          <m:num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  <m:r>
                                  <m:t xml:space="preserve">⋅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</m:e>
                            </m:d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6E61D-C4CC-41BD-84EE-CE389A8BD57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Regresión Line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Donde R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Garamond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 mide la proporción de la variación de </a:t>
            </a:r>
            <a:r>
              <a:rPr b="0" i="1" lang="es-ES_tradnl" sz="2400" spc="-1" strike="noStrike">
                <a:solidFill>
                  <a:srgbClr val="000000"/>
                </a:solidFill>
                <a:latin typeface="Garamond"/>
              </a:rPr>
              <a:t>y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 explicada por </a:t>
            </a:r>
            <a:r>
              <a:rPr b="0" i="1" lang="es-ES_tradnl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Valores sobre 50% se consideran buen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447920" y="1844640"/>
                <a:ext cx="6858000" cy="234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⋅</m:t>
                                    </m:r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nary>
                                <m:r>
                                  <m:t xml:space="preserve">−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  <m:r>
                                  <m:t xml:space="preserve">⋅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88D74-F348-424B-BCB3-754CF1A37E2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066680" y="60948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99"/>
                </a:solidFill>
                <a:latin typeface="Tahoma"/>
              </a:rPr>
              <a:t>Aplic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143000" y="2581200"/>
            <a:ext cx="2368440" cy="2448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3576600" y="2581200"/>
            <a:ext cx="2368440" cy="2448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6013440" y="2581200"/>
            <a:ext cx="2368440" cy="2448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</p:pic>
      <p:sp>
        <p:nvSpPr>
          <p:cNvPr id="174" name=""/>
          <p:cNvSpPr/>
          <p:nvPr/>
        </p:nvSpPr>
        <p:spPr>
          <a:xfrm>
            <a:off x="1165320" y="5460840"/>
            <a:ext cx="7140600" cy="398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000" spc="-1" strike="noStrike">
                <a:solidFill>
                  <a:srgbClr val="000000"/>
                </a:solidFill>
                <a:latin typeface="Times New Roman"/>
              </a:rPr>
              <a:t>Demanda  =  Estacionalidad </a:t>
            </a:r>
            <a:r>
              <a:rPr b="1" lang="es-H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Elast. Precio × Elast. Invent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39680" y="2133720"/>
            <a:ext cx="339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Tahoma"/>
              </a:rPr>
              <a:t>Modelo de 3 Fac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8160" y="1546200"/>
            <a:ext cx="96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9933"/>
                </a:solidFill>
                <a:latin typeface="Garamond"/>
              </a:rPr>
              <a:t>Estimación de Demanda Para una Tienda por Departa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29CF0-C04C-41D5-A49A-9DE748AB949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ermiten estudiar la demanda futura, acción importante en el diseño de un product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elaciones relevant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nóstico - Plane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manda - Vent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549A1-BE3A-4B93-A606-6E4FBF6E725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"/>
          <p:cNvGrpSpPr/>
          <p:nvPr/>
        </p:nvGrpSpPr>
        <p:grpSpPr>
          <a:xfrm>
            <a:off x="1027080" y="1900080"/>
            <a:ext cx="6740640" cy="4449960"/>
            <a:chOff x="1027080" y="1900080"/>
            <a:chExt cx="6740640" cy="4449960"/>
          </a:xfrm>
        </p:grpSpPr>
        <p:sp>
          <p:nvSpPr>
            <p:cNvPr id="178" name=""/>
            <p:cNvSpPr/>
            <p:nvPr/>
          </p:nvSpPr>
          <p:spPr>
            <a:xfrm>
              <a:off x="1027080" y="1900080"/>
              <a:ext cx="6740640" cy="44499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1207800" y="2022480"/>
              <a:ext cx="6432840" cy="4158360"/>
              <a:chOff x="1207800" y="2022480"/>
              <a:chExt cx="6432840" cy="4158360"/>
            </a:xfrm>
          </p:grpSpPr>
          <p:sp>
            <p:nvSpPr>
              <p:cNvPr id="180" name=""/>
              <p:cNvSpPr/>
              <p:nvPr/>
            </p:nvSpPr>
            <p:spPr>
              <a:xfrm>
                <a:off x="1562040" y="4957920"/>
                <a:ext cx="6075360" cy="2880"/>
              </a:xfrm>
              <a:custGeom>
                <a:avLst/>
                <a:gdLst/>
                <a:ahLst/>
                <a:rect l="l" t="t" r="r" b="b"/>
                <a:pathLst>
                  <a:path w="18511" h="8">
                    <a:moveTo>
                      <a:pt x="2" y="0"/>
                    </a:moveTo>
                    <a:lnTo>
                      <a:pt x="2" y="0"/>
                    </a:lnTo>
                    <a:cubicBezTo>
                      <a:pt x="3" y="0"/>
                      <a:pt x="4" y="1"/>
                      <a:pt x="4" y="2"/>
                    </a:cubicBezTo>
                    <a:cubicBezTo>
                      <a:pt x="4" y="3"/>
                      <a:pt x="3" y="4"/>
                      <a:pt x="2" y="4"/>
                    </a:cubicBezTo>
                    <a:lnTo>
                      <a:pt x="2" y="4"/>
                    </a:lnTo>
                    <a:cubicBezTo>
                      <a:pt x="1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0"/>
                    </a:cubicBezTo>
                    <a:close/>
                    <a:moveTo>
                      <a:pt x="10" y="0"/>
                    </a:moveTo>
                    <a:lnTo>
                      <a:pt x="10" y="0"/>
                    </a:lnTo>
                    <a:cubicBezTo>
                      <a:pt x="11" y="0"/>
                      <a:pt x="12" y="1"/>
                      <a:pt x="12" y="2"/>
                    </a:cubicBezTo>
                    <a:cubicBezTo>
                      <a:pt x="12" y="3"/>
                      <a:pt x="11" y="4"/>
                      <a:pt x="10" y="4"/>
                    </a:cubicBezTo>
                    <a:lnTo>
                      <a:pt x="10" y="4"/>
                    </a:lnTo>
                    <a:cubicBezTo>
                      <a:pt x="9" y="4"/>
                      <a:pt x="8" y="3"/>
                      <a:pt x="8" y="2"/>
                    </a:cubicBezTo>
                    <a:cubicBezTo>
                      <a:pt x="8" y="1"/>
                      <a:pt x="9" y="0"/>
                      <a:pt x="10" y="0"/>
                    </a:cubicBezTo>
                    <a:close/>
                    <a:moveTo>
                      <a:pt x="18" y="0"/>
                    </a:moveTo>
                    <a:lnTo>
                      <a:pt x="18" y="0"/>
                    </a:lnTo>
                    <a:cubicBezTo>
                      <a:pt x="19" y="0"/>
                      <a:pt x="20" y="1"/>
                      <a:pt x="20" y="2"/>
                    </a:cubicBezTo>
                    <a:cubicBezTo>
                      <a:pt x="20" y="3"/>
                      <a:pt x="19" y="4"/>
                      <a:pt x="18" y="4"/>
                    </a:cubicBezTo>
                    <a:lnTo>
                      <a:pt x="18" y="4"/>
                    </a:lnTo>
                    <a:cubicBezTo>
                      <a:pt x="17" y="4"/>
                      <a:pt x="16" y="3"/>
                      <a:pt x="16" y="2"/>
                    </a:cubicBezTo>
                    <a:cubicBezTo>
                      <a:pt x="16" y="1"/>
                      <a:pt x="17" y="0"/>
                      <a:pt x="18" y="0"/>
                    </a:cubicBezTo>
                    <a:close/>
                    <a:moveTo>
                      <a:pt x="26" y="0"/>
                    </a:moveTo>
                    <a:lnTo>
                      <a:pt x="26" y="0"/>
                    </a:lnTo>
                    <a:cubicBezTo>
                      <a:pt x="27" y="0"/>
                      <a:pt x="28" y="1"/>
                      <a:pt x="28" y="2"/>
                    </a:cubicBezTo>
                    <a:cubicBezTo>
                      <a:pt x="28" y="3"/>
                      <a:pt x="27" y="4"/>
                      <a:pt x="26" y="4"/>
                    </a:cubicBezTo>
                    <a:lnTo>
                      <a:pt x="26" y="4"/>
                    </a:lnTo>
                    <a:cubicBezTo>
                      <a:pt x="25" y="4"/>
                      <a:pt x="24" y="3"/>
                      <a:pt x="24" y="2"/>
                    </a:cubicBezTo>
                    <a:cubicBezTo>
                      <a:pt x="24" y="1"/>
                      <a:pt x="25" y="0"/>
                      <a:pt x="26" y="0"/>
                    </a:cubicBezTo>
                    <a:close/>
                    <a:moveTo>
                      <a:pt x="34" y="0"/>
                    </a:moveTo>
                    <a:lnTo>
                      <a:pt x="34" y="0"/>
                    </a:lnTo>
                    <a:cubicBezTo>
                      <a:pt x="35" y="0"/>
                      <a:pt x="36" y="1"/>
                      <a:pt x="36" y="2"/>
                    </a:cubicBezTo>
                    <a:cubicBezTo>
                      <a:pt x="36" y="3"/>
                      <a:pt x="35" y="4"/>
                      <a:pt x="34" y="4"/>
                    </a:cubicBezTo>
                    <a:lnTo>
                      <a:pt x="34" y="4"/>
                    </a:lnTo>
                    <a:cubicBezTo>
                      <a:pt x="33" y="4"/>
                      <a:pt x="32" y="3"/>
                      <a:pt x="32" y="2"/>
                    </a:cubicBezTo>
                    <a:cubicBezTo>
                      <a:pt x="32" y="1"/>
                      <a:pt x="33" y="0"/>
                      <a:pt x="34" y="0"/>
                    </a:cubicBezTo>
                    <a:close/>
                    <a:moveTo>
                      <a:pt x="42" y="0"/>
                    </a:moveTo>
                    <a:lnTo>
                      <a:pt x="42" y="0"/>
                    </a:lnTo>
                    <a:cubicBezTo>
                      <a:pt x="43" y="0"/>
                      <a:pt x="44" y="1"/>
                      <a:pt x="44" y="2"/>
                    </a:cubicBezTo>
                    <a:cubicBezTo>
                      <a:pt x="44" y="3"/>
                      <a:pt x="43" y="4"/>
                      <a:pt x="42" y="4"/>
                    </a:cubicBezTo>
                    <a:lnTo>
                      <a:pt x="42" y="4"/>
                    </a:lnTo>
                    <a:cubicBezTo>
                      <a:pt x="41" y="4"/>
                      <a:pt x="40" y="3"/>
                      <a:pt x="40" y="2"/>
                    </a:cubicBezTo>
                    <a:cubicBezTo>
                      <a:pt x="40" y="1"/>
                      <a:pt x="41" y="0"/>
                      <a:pt x="42" y="0"/>
                    </a:cubicBezTo>
                    <a:close/>
                    <a:moveTo>
                      <a:pt x="50" y="0"/>
                    </a:moveTo>
                    <a:lnTo>
                      <a:pt x="50" y="0"/>
                    </a:lnTo>
                    <a:cubicBezTo>
                      <a:pt x="51" y="0"/>
                      <a:pt x="52" y="1"/>
                      <a:pt x="52" y="2"/>
                    </a:cubicBezTo>
                    <a:cubicBezTo>
                      <a:pt x="52" y="3"/>
                      <a:pt x="51" y="4"/>
                      <a:pt x="50" y="4"/>
                    </a:cubicBezTo>
                    <a:lnTo>
                      <a:pt x="50" y="4"/>
                    </a:lnTo>
                    <a:cubicBezTo>
                      <a:pt x="49" y="4"/>
                      <a:pt x="48" y="3"/>
                      <a:pt x="48" y="2"/>
                    </a:cubicBezTo>
                    <a:cubicBezTo>
                      <a:pt x="48" y="1"/>
                      <a:pt x="49" y="0"/>
                      <a:pt x="50" y="0"/>
                    </a:cubicBezTo>
                    <a:close/>
                    <a:moveTo>
                      <a:pt x="58" y="0"/>
                    </a:moveTo>
                    <a:lnTo>
                      <a:pt x="58" y="0"/>
                    </a:lnTo>
                    <a:cubicBezTo>
                      <a:pt x="59" y="0"/>
                      <a:pt x="60" y="1"/>
                      <a:pt x="60" y="2"/>
                    </a:cubicBezTo>
                    <a:cubicBezTo>
                      <a:pt x="60" y="3"/>
                      <a:pt x="59" y="4"/>
                      <a:pt x="58" y="4"/>
                    </a:cubicBezTo>
                    <a:lnTo>
                      <a:pt x="58" y="4"/>
                    </a:lnTo>
                    <a:cubicBezTo>
                      <a:pt x="57" y="4"/>
                      <a:pt x="56" y="3"/>
                      <a:pt x="56" y="2"/>
                    </a:cubicBezTo>
                    <a:cubicBezTo>
                      <a:pt x="56" y="1"/>
                      <a:pt x="57" y="0"/>
                      <a:pt x="58" y="0"/>
                    </a:cubicBezTo>
                    <a:close/>
                    <a:moveTo>
                      <a:pt x="66" y="0"/>
                    </a:moveTo>
                    <a:lnTo>
                      <a:pt x="66" y="0"/>
                    </a:lnTo>
                    <a:cubicBezTo>
                      <a:pt x="67" y="0"/>
                      <a:pt x="68" y="1"/>
                      <a:pt x="68" y="2"/>
                    </a:cubicBezTo>
                    <a:cubicBezTo>
                      <a:pt x="68" y="3"/>
                      <a:pt x="67" y="4"/>
                      <a:pt x="66" y="4"/>
                    </a:cubicBezTo>
                    <a:lnTo>
                      <a:pt x="66" y="4"/>
                    </a:lnTo>
                    <a:cubicBezTo>
                      <a:pt x="65" y="4"/>
                      <a:pt x="64" y="3"/>
                      <a:pt x="64" y="2"/>
                    </a:cubicBezTo>
                    <a:cubicBezTo>
                      <a:pt x="64" y="1"/>
                      <a:pt x="65" y="0"/>
                      <a:pt x="66" y="0"/>
                    </a:cubicBezTo>
                    <a:close/>
                    <a:moveTo>
                      <a:pt x="74" y="0"/>
                    </a:moveTo>
                    <a:lnTo>
                      <a:pt x="74" y="0"/>
                    </a:lnTo>
                    <a:cubicBezTo>
                      <a:pt x="75" y="0"/>
                      <a:pt x="76" y="1"/>
                      <a:pt x="76" y="2"/>
                    </a:cubicBezTo>
                    <a:cubicBezTo>
                      <a:pt x="76" y="3"/>
                      <a:pt x="75" y="4"/>
                      <a:pt x="74" y="4"/>
                    </a:cubicBezTo>
                    <a:lnTo>
                      <a:pt x="74" y="4"/>
                    </a:lnTo>
                    <a:cubicBezTo>
                      <a:pt x="73" y="4"/>
                      <a:pt x="72" y="3"/>
                      <a:pt x="72" y="2"/>
                    </a:cubicBezTo>
                    <a:cubicBezTo>
                      <a:pt x="72" y="1"/>
                      <a:pt x="73" y="0"/>
                      <a:pt x="74" y="0"/>
                    </a:cubicBezTo>
                    <a:close/>
                    <a:moveTo>
                      <a:pt x="82" y="0"/>
                    </a:moveTo>
                    <a:lnTo>
                      <a:pt x="82" y="0"/>
                    </a:lnTo>
                    <a:cubicBezTo>
                      <a:pt x="83" y="0"/>
                      <a:pt x="84" y="1"/>
                      <a:pt x="84" y="2"/>
                    </a:cubicBezTo>
                    <a:cubicBezTo>
                      <a:pt x="84" y="3"/>
                      <a:pt x="83" y="4"/>
                      <a:pt x="82" y="4"/>
                    </a:cubicBezTo>
                    <a:lnTo>
                      <a:pt x="82" y="4"/>
                    </a:lnTo>
                    <a:cubicBezTo>
                      <a:pt x="81" y="4"/>
                      <a:pt x="80" y="3"/>
                      <a:pt x="80" y="2"/>
                    </a:cubicBezTo>
                    <a:cubicBezTo>
                      <a:pt x="80" y="1"/>
                      <a:pt x="81" y="0"/>
                      <a:pt x="82" y="0"/>
                    </a:cubicBezTo>
                    <a:close/>
                    <a:moveTo>
                      <a:pt x="90" y="0"/>
                    </a:moveTo>
                    <a:lnTo>
                      <a:pt x="90" y="0"/>
                    </a:lnTo>
                    <a:cubicBezTo>
                      <a:pt x="91" y="0"/>
                      <a:pt x="92" y="1"/>
                      <a:pt x="92" y="2"/>
                    </a:cubicBezTo>
                    <a:cubicBezTo>
                      <a:pt x="92" y="3"/>
                      <a:pt x="91" y="4"/>
                      <a:pt x="90" y="4"/>
                    </a:cubicBezTo>
                    <a:lnTo>
                      <a:pt x="90" y="4"/>
                    </a:lnTo>
                    <a:cubicBezTo>
                      <a:pt x="89" y="4"/>
                      <a:pt x="88" y="3"/>
                      <a:pt x="88" y="2"/>
                    </a:cubicBezTo>
                    <a:cubicBezTo>
                      <a:pt x="88" y="1"/>
                      <a:pt x="89" y="0"/>
                      <a:pt x="90" y="0"/>
                    </a:cubicBezTo>
                    <a:close/>
                    <a:moveTo>
                      <a:pt x="98" y="0"/>
                    </a:moveTo>
                    <a:lnTo>
                      <a:pt x="98" y="0"/>
                    </a:lnTo>
                    <a:cubicBezTo>
                      <a:pt x="99" y="0"/>
                      <a:pt x="100" y="1"/>
                      <a:pt x="100" y="2"/>
                    </a:cubicBezTo>
                    <a:cubicBezTo>
                      <a:pt x="100" y="3"/>
                      <a:pt x="99" y="4"/>
                      <a:pt x="98" y="4"/>
                    </a:cubicBezTo>
                    <a:lnTo>
                      <a:pt x="98" y="4"/>
                    </a:lnTo>
                    <a:cubicBezTo>
                      <a:pt x="97" y="4"/>
                      <a:pt x="96" y="3"/>
                      <a:pt x="96" y="2"/>
                    </a:cubicBezTo>
                    <a:cubicBezTo>
                      <a:pt x="96" y="1"/>
                      <a:pt x="97" y="0"/>
                      <a:pt x="98" y="0"/>
                    </a:cubicBezTo>
                    <a:close/>
                    <a:moveTo>
                      <a:pt x="106" y="0"/>
                    </a:moveTo>
                    <a:lnTo>
                      <a:pt x="106" y="0"/>
                    </a:lnTo>
                    <a:cubicBezTo>
                      <a:pt x="107" y="0"/>
                      <a:pt x="108" y="1"/>
                      <a:pt x="108" y="2"/>
                    </a:cubicBezTo>
                    <a:cubicBezTo>
                      <a:pt x="108" y="3"/>
                      <a:pt x="107" y="4"/>
                      <a:pt x="106" y="4"/>
                    </a:cubicBezTo>
                    <a:lnTo>
                      <a:pt x="106" y="4"/>
                    </a:lnTo>
                    <a:cubicBezTo>
                      <a:pt x="105" y="4"/>
                      <a:pt x="104" y="3"/>
                      <a:pt x="104" y="2"/>
                    </a:cubicBezTo>
                    <a:cubicBezTo>
                      <a:pt x="104" y="1"/>
                      <a:pt x="105" y="0"/>
                      <a:pt x="106" y="0"/>
                    </a:cubicBezTo>
                    <a:close/>
                    <a:moveTo>
                      <a:pt x="114" y="0"/>
                    </a:moveTo>
                    <a:lnTo>
                      <a:pt x="114" y="0"/>
                    </a:lnTo>
                    <a:cubicBezTo>
                      <a:pt x="115" y="0"/>
                      <a:pt x="116" y="1"/>
                      <a:pt x="116" y="2"/>
                    </a:cubicBezTo>
                    <a:cubicBezTo>
                      <a:pt x="116" y="3"/>
                      <a:pt x="115" y="4"/>
                      <a:pt x="114" y="4"/>
                    </a:cubicBezTo>
                    <a:lnTo>
                      <a:pt x="114" y="4"/>
                    </a:lnTo>
                    <a:cubicBezTo>
                      <a:pt x="113" y="4"/>
                      <a:pt x="112" y="3"/>
                      <a:pt x="112" y="2"/>
                    </a:cubicBezTo>
                    <a:cubicBezTo>
                      <a:pt x="112" y="1"/>
                      <a:pt x="113" y="0"/>
                      <a:pt x="114" y="0"/>
                    </a:cubicBezTo>
                    <a:close/>
                    <a:moveTo>
                      <a:pt x="122" y="0"/>
                    </a:moveTo>
                    <a:lnTo>
                      <a:pt x="122" y="0"/>
                    </a:lnTo>
                    <a:cubicBezTo>
                      <a:pt x="123" y="0"/>
                      <a:pt x="124" y="1"/>
                      <a:pt x="124" y="2"/>
                    </a:cubicBezTo>
                    <a:cubicBezTo>
                      <a:pt x="124" y="3"/>
                      <a:pt x="123" y="4"/>
                      <a:pt x="122" y="4"/>
                    </a:cubicBezTo>
                    <a:lnTo>
                      <a:pt x="122" y="4"/>
                    </a:lnTo>
                    <a:cubicBezTo>
                      <a:pt x="121" y="4"/>
                      <a:pt x="120" y="3"/>
                      <a:pt x="120" y="2"/>
                    </a:cubicBezTo>
                    <a:cubicBezTo>
                      <a:pt x="120" y="1"/>
                      <a:pt x="121" y="0"/>
                      <a:pt x="122" y="0"/>
                    </a:cubicBezTo>
                    <a:close/>
                    <a:moveTo>
                      <a:pt x="130" y="0"/>
                    </a:moveTo>
                    <a:lnTo>
                      <a:pt x="130" y="0"/>
                    </a:lnTo>
                    <a:cubicBezTo>
                      <a:pt x="131" y="0"/>
                      <a:pt x="132" y="1"/>
                      <a:pt x="132" y="2"/>
                    </a:cubicBezTo>
                    <a:cubicBezTo>
                      <a:pt x="132" y="3"/>
                      <a:pt x="131" y="4"/>
                      <a:pt x="130" y="4"/>
                    </a:cubicBezTo>
                    <a:lnTo>
                      <a:pt x="130" y="4"/>
                    </a:lnTo>
                    <a:cubicBezTo>
                      <a:pt x="129" y="4"/>
                      <a:pt x="128" y="3"/>
                      <a:pt x="128" y="2"/>
                    </a:cubicBezTo>
                    <a:cubicBezTo>
                      <a:pt x="128" y="1"/>
                      <a:pt x="129" y="0"/>
                      <a:pt x="130" y="0"/>
                    </a:cubicBezTo>
                    <a:close/>
                    <a:moveTo>
                      <a:pt x="138" y="0"/>
                    </a:moveTo>
                    <a:lnTo>
                      <a:pt x="138" y="0"/>
                    </a:lnTo>
                    <a:cubicBezTo>
                      <a:pt x="139" y="0"/>
                      <a:pt x="140" y="1"/>
                      <a:pt x="140" y="2"/>
                    </a:cubicBezTo>
                    <a:cubicBezTo>
                      <a:pt x="140" y="3"/>
                      <a:pt x="139" y="4"/>
                      <a:pt x="138" y="4"/>
                    </a:cubicBezTo>
                    <a:lnTo>
                      <a:pt x="138" y="4"/>
                    </a:lnTo>
                    <a:cubicBezTo>
                      <a:pt x="137" y="4"/>
                      <a:pt x="136" y="3"/>
                      <a:pt x="136" y="2"/>
                    </a:cubicBezTo>
                    <a:cubicBezTo>
                      <a:pt x="136" y="1"/>
                      <a:pt x="137" y="0"/>
                      <a:pt x="138" y="0"/>
                    </a:cubicBezTo>
                    <a:close/>
                    <a:moveTo>
                      <a:pt x="146" y="0"/>
                    </a:moveTo>
                    <a:lnTo>
                      <a:pt x="146" y="0"/>
                    </a:lnTo>
                    <a:cubicBezTo>
                      <a:pt x="147" y="0"/>
                      <a:pt x="148" y="1"/>
                      <a:pt x="148" y="2"/>
                    </a:cubicBezTo>
                    <a:cubicBezTo>
                      <a:pt x="148" y="3"/>
                      <a:pt x="147" y="4"/>
                      <a:pt x="146" y="4"/>
                    </a:cubicBezTo>
                    <a:lnTo>
                      <a:pt x="146" y="4"/>
                    </a:lnTo>
                    <a:cubicBezTo>
                      <a:pt x="145" y="4"/>
                      <a:pt x="144" y="3"/>
                      <a:pt x="144" y="2"/>
                    </a:cubicBezTo>
                    <a:cubicBezTo>
                      <a:pt x="144" y="1"/>
                      <a:pt x="145" y="0"/>
                      <a:pt x="146" y="0"/>
                    </a:cubicBezTo>
                    <a:close/>
                    <a:moveTo>
                      <a:pt x="154" y="0"/>
                    </a:moveTo>
                    <a:lnTo>
                      <a:pt x="154" y="0"/>
                    </a:lnTo>
                    <a:cubicBezTo>
                      <a:pt x="155" y="0"/>
                      <a:pt x="156" y="1"/>
                      <a:pt x="156" y="2"/>
                    </a:cubicBezTo>
                    <a:cubicBezTo>
                      <a:pt x="156" y="3"/>
                      <a:pt x="155" y="4"/>
                      <a:pt x="154" y="4"/>
                    </a:cubicBezTo>
                    <a:lnTo>
                      <a:pt x="154" y="4"/>
                    </a:lnTo>
                    <a:cubicBezTo>
                      <a:pt x="153" y="4"/>
                      <a:pt x="152" y="3"/>
                      <a:pt x="152" y="2"/>
                    </a:cubicBezTo>
                    <a:cubicBezTo>
                      <a:pt x="152" y="1"/>
                      <a:pt x="153" y="0"/>
                      <a:pt x="154" y="0"/>
                    </a:cubicBezTo>
                    <a:close/>
                    <a:moveTo>
                      <a:pt x="162" y="0"/>
                    </a:moveTo>
                    <a:lnTo>
                      <a:pt x="162" y="0"/>
                    </a:lnTo>
                    <a:cubicBezTo>
                      <a:pt x="163" y="0"/>
                      <a:pt x="164" y="1"/>
                      <a:pt x="164" y="2"/>
                    </a:cubicBezTo>
                    <a:cubicBezTo>
                      <a:pt x="164" y="3"/>
                      <a:pt x="163" y="4"/>
                      <a:pt x="162" y="4"/>
                    </a:cubicBezTo>
                    <a:lnTo>
                      <a:pt x="162" y="4"/>
                    </a:lnTo>
                    <a:cubicBezTo>
                      <a:pt x="161" y="4"/>
                      <a:pt x="160" y="3"/>
                      <a:pt x="160" y="2"/>
                    </a:cubicBezTo>
                    <a:cubicBezTo>
                      <a:pt x="160" y="1"/>
                      <a:pt x="161" y="0"/>
                      <a:pt x="162" y="0"/>
                    </a:cubicBezTo>
                    <a:close/>
                    <a:moveTo>
                      <a:pt x="170" y="0"/>
                    </a:moveTo>
                    <a:lnTo>
                      <a:pt x="170" y="0"/>
                    </a:lnTo>
                    <a:cubicBezTo>
                      <a:pt x="171" y="0"/>
                      <a:pt x="172" y="1"/>
                      <a:pt x="172" y="2"/>
                    </a:cubicBezTo>
                    <a:cubicBezTo>
                      <a:pt x="172" y="3"/>
                      <a:pt x="171" y="4"/>
                      <a:pt x="170" y="4"/>
                    </a:cubicBezTo>
                    <a:lnTo>
                      <a:pt x="170" y="4"/>
                    </a:lnTo>
                    <a:cubicBezTo>
                      <a:pt x="169" y="4"/>
                      <a:pt x="168" y="3"/>
                      <a:pt x="168" y="2"/>
                    </a:cubicBezTo>
                    <a:cubicBezTo>
                      <a:pt x="168" y="1"/>
                      <a:pt x="169" y="0"/>
                      <a:pt x="170" y="0"/>
                    </a:cubicBezTo>
                    <a:close/>
                    <a:moveTo>
                      <a:pt x="178" y="0"/>
                    </a:moveTo>
                    <a:lnTo>
                      <a:pt x="178" y="0"/>
                    </a:lnTo>
                    <a:cubicBezTo>
                      <a:pt x="179" y="0"/>
                      <a:pt x="180" y="1"/>
                      <a:pt x="180" y="2"/>
                    </a:cubicBezTo>
                    <a:cubicBezTo>
                      <a:pt x="180" y="3"/>
                      <a:pt x="179" y="4"/>
                      <a:pt x="178" y="4"/>
                    </a:cubicBezTo>
                    <a:lnTo>
                      <a:pt x="178" y="4"/>
                    </a:lnTo>
                    <a:cubicBezTo>
                      <a:pt x="177" y="4"/>
                      <a:pt x="176" y="3"/>
                      <a:pt x="176" y="2"/>
                    </a:cubicBezTo>
                    <a:cubicBezTo>
                      <a:pt x="176" y="1"/>
                      <a:pt x="177" y="0"/>
                      <a:pt x="178" y="0"/>
                    </a:cubicBezTo>
                    <a:close/>
                    <a:moveTo>
                      <a:pt x="186" y="0"/>
                    </a:moveTo>
                    <a:lnTo>
                      <a:pt x="186" y="0"/>
                    </a:lnTo>
                    <a:cubicBezTo>
                      <a:pt x="187" y="0"/>
                      <a:pt x="188" y="1"/>
                      <a:pt x="188" y="2"/>
                    </a:cubicBezTo>
                    <a:cubicBezTo>
                      <a:pt x="188" y="3"/>
                      <a:pt x="187" y="4"/>
                      <a:pt x="186" y="4"/>
                    </a:cubicBezTo>
                    <a:lnTo>
                      <a:pt x="186" y="4"/>
                    </a:lnTo>
                    <a:cubicBezTo>
                      <a:pt x="185" y="4"/>
                      <a:pt x="184" y="3"/>
                      <a:pt x="184" y="2"/>
                    </a:cubicBezTo>
                    <a:cubicBezTo>
                      <a:pt x="184" y="1"/>
                      <a:pt x="185" y="0"/>
                      <a:pt x="186" y="0"/>
                    </a:cubicBezTo>
                    <a:close/>
                    <a:moveTo>
                      <a:pt x="194" y="0"/>
                    </a:moveTo>
                    <a:lnTo>
                      <a:pt x="194" y="0"/>
                    </a:lnTo>
                    <a:cubicBezTo>
                      <a:pt x="195" y="0"/>
                      <a:pt x="196" y="1"/>
                      <a:pt x="196" y="2"/>
                    </a:cubicBezTo>
                    <a:cubicBezTo>
                      <a:pt x="196" y="3"/>
                      <a:pt x="195" y="4"/>
                      <a:pt x="194" y="4"/>
                    </a:cubicBezTo>
                    <a:lnTo>
                      <a:pt x="194" y="4"/>
                    </a:lnTo>
                    <a:cubicBezTo>
                      <a:pt x="193" y="4"/>
                      <a:pt x="192" y="3"/>
                      <a:pt x="192" y="2"/>
                    </a:cubicBezTo>
                    <a:cubicBezTo>
                      <a:pt x="192" y="1"/>
                      <a:pt x="193" y="0"/>
                      <a:pt x="194" y="0"/>
                    </a:cubicBezTo>
                    <a:close/>
                    <a:moveTo>
                      <a:pt x="202" y="0"/>
                    </a:moveTo>
                    <a:lnTo>
                      <a:pt x="202" y="0"/>
                    </a:lnTo>
                    <a:cubicBezTo>
                      <a:pt x="203" y="0"/>
                      <a:pt x="204" y="1"/>
                      <a:pt x="204" y="2"/>
                    </a:cubicBezTo>
                    <a:cubicBezTo>
                      <a:pt x="204" y="3"/>
                      <a:pt x="203" y="4"/>
                      <a:pt x="202" y="4"/>
                    </a:cubicBezTo>
                    <a:lnTo>
                      <a:pt x="202" y="4"/>
                    </a:lnTo>
                    <a:cubicBezTo>
                      <a:pt x="201" y="4"/>
                      <a:pt x="200" y="3"/>
                      <a:pt x="200" y="2"/>
                    </a:cubicBezTo>
                    <a:cubicBezTo>
                      <a:pt x="200" y="1"/>
                      <a:pt x="201" y="0"/>
                      <a:pt x="202" y="0"/>
                    </a:cubicBezTo>
                    <a:close/>
                    <a:moveTo>
                      <a:pt x="210" y="0"/>
                    </a:moveTo>
                    <a:lnTo>
                      <a:pt x="210" y="0"/>
                    </a:lnTo>
                    <a:cubicBezTo>
                      <a:pt x="211" y="0"/>
                      <a:pt x="212" y="1"/>
                      <a:pt x="212" y="2"/>
                    </a:cubicBezTo>
                    <a:cubicBezTo>
                      <a:pt x="212" y="3"/>
                      <a:pt x="211" y="4"/>
                      <a:pt x="210" y="4"/>
                    </a:cubicBezTo>
                    <a:lnTo>
                      <a:pt x="210" y="4"/>
                    </a:lnTo>
                    <a:cubicBezTo>
                      <a:pt x="209" y="4"/>
                      <a:pt x="208" y="3"/>
                      <a:pt x="208" y="2"/>
                    </a:cubicBezTo>
                    <a:cubicBezTo>
                      <a:pt x="208" y="1"/>
                      <a:pt x="209" y="0"/>
                      <a:pt x="210" y="0"/>
                    </a:cubicBezTo>
                    <a:close/>
                    <a:moveTo>
                      <a:pt x="218" y="0"/>
                    </a:moveTo>
                    <a:lnTo>
                      <a:pt x="218" y="0"/>
                    </a:lnTo>
                    <a:cubicBezTo>
                      <a:pt x="219" y="0"/>
                      <a:pt x="220" y="1"/>
                      <a:pt x="220" y="2"/>
                    </a:cubicBezTo>
                    <a:cubicBezTo>
                      <a:pt x="220" y="3"/>
                      <a:pt x="219" y="4"/>
                      <a:pt x="218" y="4"/>
                    </a:cubicBezTo>
                    <a:lnTo>
                      <a:pt x="218" y="4"/>
                    </a:lnTo>
                    <a:cubicBezTo>
                      <a:pt x="217" y="4"/>
                      <a:pt x="216" y="3"/>
                      <a:pt x="216" y="2"/>
                    </a:cubicBezTo>
                    <a:cubicBezTo>
                      <a:pt x="216" y="1"/>
                      <a:pt x="217" y="0"/>
                      <a:pt x="218" y="0"/>
                    </a:cubicBezTo>
                    <a:close/>
                    <a:moveTo>
                      <a:pt x="226" y="0"/>
                    </a:moveTo>
                    <a:lnTo>
                      <a:pt x="226" y="0"/>
                    </a:lnTo>
                    <a:cubicBezTo>
                      <a:pt x="227" y="0"/>
                      <a:pt x="228" y="1"/>
                      <a:pt x="228" y="2"/>
                    </a:cubicBezTo>
                    <a:cubicBezTo>
                      <a:pt x="228" y="3"/>
                      <a:pt x="227" y="4"/>
                      <a:pt x="226" y="4"/>
                    </a:cubicBezTo>
                    <a:lnTo>
                      <a:pt x="226" y="4"/>
                    </a:lnTo>
                    <a:cubicBezTo>
                      <a:pt x="225" y="4"/>
                      <a:pt x="224" y="3"/>
                      <a:pt x="224" y="2"/>
                    </a:cubicBezTo>
                    <a:cubicBezTo>
                      <a:pt x="224" y="1"/>
                      <a:pt x="225" y="0"/>
                      <a:pt x="226" y="0"/>
                    </a:cubicBezTo>
                    <a:close/>
                    <a:moveTo>
                      <a:pt x="234" y="0"/>
                    </a:moveTo>
                    <a:lnTo>
                      <a:pt x="234" y="0"/>
                    </a:lnTo>
                    <a:cubicBezTo>
                      <a:pt x="235" y="0"/>
                      <a:pt x="236" y="1"/>
                      <a:pt x="236" y="2"/>
                    </a:cubicBezTo>
                    <a:cubicBezTo>
                      <a:pt x="236" y="3"/>
                      <a:pt x="235" y="4"/>
                      <a:pt x="234" y="4"/>
                    </a:cubicBezTo>
                    <a:lnTo>
                      <a:pt x="234" y="4"/>
                    </a:lnTo>
                    <a:cubicBezTo>
                      <a:pt x="233" y="4"/>
                      <a:pt x="232" y="3"/>
                      <a:pt x="232" y="2"/>
                    </a:cubicBezTo>
                    <a:cubicBezTo>
                      <a:pt x="232" y="1"/>
                      <a:pt x="233" y="0"/>
                      <a:pt x="234" y="0"/>
                    </a:cubicBezTo>
                    <a:close/>
                    <a:moveTo>
                      <a:pt x="242" y="0"/>
                    </a:moveTo>
                    <a:lnTo>
                      <a:pt x="242" y="0"/>
                    </a:lnTo>
                    <a:cubicBezTo>
                      <a:pt x="243" y="0"/>
                      <a:pt x="244" y="1"/>
                      <a:pt x="244" y="2"/>
                    </a:cubicBezTo>
                    <a:cubicBezTo>
                      <a:pt x="244" y="3"/>
                      <a:pt x="243" y="4"/>
                      <a:pt x="242" y="4"/>
                    </a:cubicBezTo>
                    <a:lnTo>
                      <a:pt x="242" y="4"/>
                    </a:lnTo>
                    <a:cubicBezTo>
                      <a:pt x="241" y="4"/>
                      <a:pt x="240" y="3"/>
                      <a:pt x="240" y="2"/>
                    </a:cubicBezTo>
                    <a:cubicBezTo>
                      <a:pt x="240" y="1"/>
                      <a:pt x="241" y="0"/>
                      <a:pt x="242" y="0"/>
                    </a:cubicBezTo>
                    <a:close/>
                    <a:moveTo>
                      <a:pt x="250" y="0"/>
                    </a:moveTo>
                    <a:lnTo>
                      <a:pt x="250" y="0"/>
                    </a:lnTo>
                    <a:cubicBezTo>
                      <a:pt x="251" y="0"/>
                      <a:pt x="252" y="1"/>
                      <a:pt x="252" y="2"/>
                    </a:cubicBezTo>
                    <a:cubicBezTo>
                      <a:pt x="252" y="3"/>
                      <a:pt x="251" y="4"/>
                      <a:pt x="250" y="4"/>
                    </a:cubicBezTo>
                    <a:lnTo>
                      <a:pt x="250" y="4"/>
                    </a:lnTo>
                    <a:cubicBezTo>
                      <a:pt x="249" y="4"/>
                      <a:pt x="248" y="3"/>
                      <a:pt x="248" y="2"/>
                    </a:cubicBezTo>
                    <a:cubicBezTo>
                      <a:pt x="248" y="1"/>
                      <a:pt x="249" y="0"/>
                      <a:pt x="250" y="0"/>
                    </a:cubicBezTo>
                    <a:close/>
                    <a:moveTo>
                      <a:pt x="258" y="0"/>
                    </a:moveTo>
                    <a:lnTo>
                      <a:pt x="258" y="0"/>
                    </a:lnTo>
                    <a:cubicBezTo>
                      <a:pt x="259" y="0"/>
                      <a:pt x="260" y="1"/>
                      <a:pt x="260" y="2"/>
                    </a:cubicBezTo>
                    <a:cubicBezTo>
                      <a:pt x="260" y="3"/>
                      <a:pt x="259" y="4"/>
                      <a:pt x="258" y="4"/>
                    </a:cubicBezTo>
                    <a:lnTo>
                      <a:pt x="258" y="4"/>
                    </a:lnTo>
                    <a:cubicBezTo>
                      <a:pt x="257" y="4"/>
                      <a:pt x="256" y="3"/>
                      <a:pt x="256" y="2"/>
                    </a:cubicBezTo>
                    <a:cubicBezTo>
                      <a:pt x="256" y="1"/>
                      <a:pt x="257" y="0"/>
                      <a:pt x="258" y="0"/>
                    </a:cubicBezTo>
                    <a:close/>
                    <a:moveTo>
                      <a:pt x="266" y="0"/>
                    </a:moveTo>
                    <a:lnTo>
                      <a:pt x="266" y="0"/>
                    </a:lnTo>
                    <a:cubicBezTo>
                      <a:pt x="267" y="0"/>
                      <a:pt x="268" y="1"/>
                      <a:pt x="268" y="2"/>
                    </a:cubicBezTo>
                    <a:cubicBezTo>
                      <a:pt x="268" y="3"/>
                      <a:pt x="267" y="4"/>
                      <a:pt x="266" y="4"/>
                    </a:cubicBezTo>
                    <a:lnTo>
                      <a:pt x="266" y="4"/>
                    </a:lnTo>
                    <a:cubicBezTo>
                      <a:pt x="265" y="4"/>
                      <a:pt x="264" y="3"/>
                      <a:pt x="264" y="2"/>
                    </a:cubicBezTo>
                    <a:cubicBezTo>
                      <a:pt x="264" y="1"/>
                      <a:pt x="265" y="0"/>
                      <a:pt x="266" y="0"/>
                    </a:cubicBezTo>
                    <a:close/>
                    <a:moveTo>
                      <a:pt x="274" y="0"/>
                    </a:moveTo>
                    <a:lnTo>
                      <a:pt x="274" y="0"/>
                    </a:lnTo>
                    <a:cubicBezTo>
                      <a:pt x="275" y="0"/>
                      <a:pt x="276" y="1"/>
                      <a:pt x="276" y="2"/>
                    </a:cubicBezTo>
                    <a:cubicBezTo>
                      <a:pt x="276" y="3"/>
                      <a:pt x="275" y="4"/>
                      <a:pt x="274" y="4"/>
                    </a:cubicBezTo>
                    <a:lnTo>
                      <a:pt x="274" y="4"/>
                    </a:lnTo>
                    <a:cubicBezTo>
                      <a:pt x="273" y="4"/>
                      <a:pt x="272" y="3"/>
                      <a:pt x="272" y="2"/>
                    </a:cubicBezTo>
                    <a:cubicBezTo>
                      <a:pt x="272" y="1"/>
                      <a:pt x="273" y="0"/>
                      <a:pt x="274" y="0"/>
                    </a:cubicBezTo>
                    <a:close/>
                    <a:moveTo>
                      <a:pt x="282" y="0"/>
                    </a:moveTo>
                    <a:lnTo>
                      <a:pt x="282" y="0"/>
                    </a:lnTo>
                    <a:cubicBezTo>
                      <a:pt x="283" y="0"/>
                      <a:pt x="284" y="1"/>
                      <a:pt x="284" y="2"/>
                    </a:cubicBezTo>
                    <a:cubicBezTo>
                      <a:pt x="284" y="3"/>
                      <a:pt x="283" y="4"/>
                      <a:pt x="282" y="4"/>
                    </a:cubicBezTo>
                    <a:lnTo>
                      <a:pt x="282" y="4"/>
                    </a:lnTo>
                    <a:cubicBezTo>
                      <a:pt x="281" y="4"/>
                      <a:pt x="280" y="3"/>
                      <a:pt x="280" y="2"/>
                    </a:cubicBezTo>
                    <a:cubicBezTo>
                      <a:pt x="280" y="1"/>
                      <a:pt x="281" y="0"/>
                      <a:pt x="282" y="0"/>
                    </a:cubicBezTo>
                    <a:close/>
                    <a:moveTo>
                      <a:pt x="290" y="0"/>
                    </a:moveTo>
                    <a:lnTo>
                      <a:pt x="290" y="0"/>
                    </a:lnTo>
                    <a:cubicBezTo>
                      <a:pt x="291" y="0"/>
                      <a:pt x="292" y="1"/>
                      <a:pt x="292" y="2"/>
                    </a:cubicBezTo>
                    <a:cubicBezTo>
                      <a:pt x="292" y="3"/>
                      <a:pt x="291" y="4"/>
                      <a:pt x="290" y="4"/>
                    </a:cubicBezTo>
                    <a:lnTo>
                      <a:pt x="290" y="4"/>
                    </a:lnTo>
                    <a:cubicBezTo>
                      <a:pt x="289" y="4"/>
                      <a:pt x="288" y="3"/>
                      <a:pt x="288" y="2"/>
                    </a:cubicBezTo>
                    <a:cubicBezTo>
                      <a:pt x="288" y="1"/>
                      <a:pt x="289" y="0"/>
                      <a:pt x="290" y="0"/>
                    </a:cubicBezTo>
                    <a:close/>
                    <a:moveTo>
                      <a:pt x="298" y="0"/>
                    </a:moveTo>
                    <a:lnTo>
                      <a:pt x="298" y="0"/>
                    </a:lnTo>
                    <a:cubicBezTo>
                      <a:pt x="299" y="0"/>
                      <a:pt x="300" y="1"/>
                      <a:pt x="300" y="2"/>
                    </a:cubicBezTo>
                    <a:cubicBezTo>
                      <a:pt x="300" y="3"/>
                      <a:pt x="299" y="4"/>
                      <a:pt x="298" y="4"/>
                    </a:cubicBezTo>
                    <a:lnTo>
                      <a:pt x="298" y="4"/>
                    </a:lnTo>
                    <a:cubicBezTo>
                      <a:pt x="297" y="4"/>
                      <a:pt x="296" y="3"/>
                      <a:pt x="296" y="2"/>
                    </a:cubicBezTo>
                    <a:cubicBezTo>
                      <a:pt x="296" y="1"/>
                      <a:pt x="297" y="0"/>
                      <a:pt x="298" y="0"/>
                    </a:cubicBezTo>
                    <a:close/>
                    <a:moveTo>
                      <a:pt x="306" y="0"/>
                    </a:moveTo>
                    <a:lnTo>
                      <a:pt x="306" y="0"/>
                    </a:lnTo>
                    <a:cubicBezTo>
                      <a:pt x="307" y="0"/>
                      <a:pt x="308" y="1"/>
                      <a:pt x="308" y="2"/>
                    </a:cubicBezTo>
                    <a:cubicBezTo>
                      <a:pt x="308" y="3"/>
                      <a:pt x="307" y="4"/>
                      <a:pt x="306" y="4"/>
                    </a:cubicBezTo>
                    <a:lnTo>
                      <a:pt x="306" y="4"/>
                    </a:lnTo>
                    <a:cubicBezTo>
                      <a:pt x="305" y="4"/>
                      <a:pt x="304" y="3"/>
                      <a:pt x="304" y="2"/>
                    </a:cubicBezTo>
                    <a:cubicBezTo>
                      <a:pt x="304" y="1"/>
                      <a:pt x="305" y="0"/>
                      <a:pt x="306" y="0"/>
                    </a:cubicBezTo>
                    <a:close/>
                    <a:moveTo>
                      <a:pt x="314" y="0"/>
                    </a:moveTo>
                    <a:lnTo>
                      <a:pt x="314" y="0"/>
                    </a:lnTo>
                    <a:cubicBezTo>
                      <a:pt x="315" y="0"/>
                      <a:pt x="316" y="1"/>
                      <a:pt x="316" y="2"/>
                    </a:cubicBezTo>
                    <a:cubicBezTo>
                      <a:pt x="316" y="3"/>
                      <a:pt x="315" y="4"/>
                      <a:pt x="314" y="4"/>
                    </a:cubicBezTo>
                    <a:lnTo>
                      <a:pt x="314" y="4"/>
                    </a:lnTo>
                    <a:cubicBezTo>
                      <a:pt x="313" y="4"/>
                      <a:pt x="312" y="3"/>
                      <a:pt x="312" y="2"/>
                    </a:cubicBezTo>
                    <a:cubicBezTo>
                      <a:pt x="312" y="1"/>
                      <a:pt x="313" y="0"/>
                      <a:pt x="314" y="0"/>
                    </a:cubicBezTo>
                    <a:close/>
                    <a:moveTo>
                      <a:pt x="322" y="0"/>
                    </a:moveTo>
                    <a:lnTo>
                      <a:pt x="322" y="0"/>
                    </a:lnTo>
                    <a:cubicBezTo>
                      <a:pt x="323" y="0"/>
                      <a:pt x="324" y="1"/>
                      <a:pt x="324" y="2"/>
                    </a:cubicBezTo>
                    <a:cubicBezTo>
                      <a:pt x="324" y="3"/>
                      <a:pt x="323" y="4"/>
                      <a:pt x="322" y="4"/>
                    </a:cubicBezTo>
                    <a:lnTo>
                      <a:pt x="322" y="4"/>
                    </a:lnTo>
                    <a:cubicBezTo>
                      <a:pt x="321" y="4"/>
                      <a:pt x="320" y="3"/>
                      <a:pt x="320" y="2"/>
                    </a:cubicBezTo>
                    <a:cubicBezTo>
                      <a:pt x="320" y="1"/>
                      <a:pt x="321" y="0"/>
                      <a:pt x="322" y="0"/>
                    </a:cubicBezTo>
                    <a:close/>
                    <a:moveTo>
                      <a:pt x="330" y="0"/>
                    </a:moveTo>
                    <a:lnTo>
                      <a:pt x="330" y="0"/>
                    </a:lnTo>
                    <a:cubicBezTo>
                      <a:pt x="331" y="0"/>
                      <a:pt x="332" y="1"/>
                      <a:pt x="332" y="2"/>
                    </a:cubicBezTo>
                    <a:cubicBezTo>
                      <a:pt x="332" y="3"/>
                      <a:pt x="331" y="4"/>
                      <a:pt x="330" y="4"/>
                    </a:cubicBezTo>
                    <a:lnTo>
                      <a:pt x="330" y="4"/>
                    </a:lnTo>
                    <a:cubicBezTo>
                      <a:pt x="329" y="4"/>
                      <a:pt x="328" y="3"/>
                      <a:pt x="328" y="2"/>
                    </a:cubicBezTo>
                    <a:cubicBezTo>
                      <a:pt x="328" y="1"/>
                      <a:pt x="329" y="0"/>
                      <a:pt x="330" y="0"/>
                    </a:cubicBezTo>
                    <a:close/>
                    <a:moveTo>
                      <a:pt x="338" y="0"/>
                    </a:moveTo>
                    <a:lnTo>
                      <a:pt x="338" y="0"/>
                    </a:lnTo>
                    <a:cubicBezTo>
                      <a:pt x="339" y="0"/>
                      <a:pt x="340" y="1"/>
                      <a:pt x="340" y="2"/>
                    </a:cubicBezTo>
                    <a:cubicBezTo>
                      <a:pt x="340" y="3"/>
                      <a:pt x="339" y="4"/>
                      <a:pt x="338" y="4"/>
                    </a:cubicBezTo>
                    <a:lnTo>
                      <a:pt x="338" y="4"/>
                    </a:lnTo>
                    <a:cubicBezTo>
                      <a:pt x="337" y="4"/>
                      <a:pt x="336" y="3"/>
                      <a:pt x="336" y="2"/>
                    </a:cubicBezTo>
                    <a:cubicBezTo>
                      <a:pt x="336" y="1"/>
                      <a:pt x="337" y="0"/>
                      <a:pt x="338" y="0"/>
                    </a:cubicBezTo>
                    <a:close/>
                    <a:moveTo>
                      <a:pt x="346" y="0"/>
                    </a:moveTo>
                    <a:lnTo>
                      <a:pt x="346" y="0"/>
                    </a:lnTo>
                    <a:cubicBezTo>
                      <a:pt x="347" y="0"/>
                      <a:pt x="348" y="1"/>
                      <a:pt x="348" y="2"/>
                    </a:cubicBezTo>
                    <a:cubicBezTo>
                      <a:pt x="348" y="3"/>
                      <a:pt x="347" y="4"/>
                      <a:pt x="346" y="4"/>
                    </a:cubicBezTo>
                    <a:lnTo>
                      <a:pt x="346" y="4"/>
                    </a:lnTo>
                    <a:cubicBezTo>
                      <a:pt x="345" y="4"/>
                      <a:pt x="344" y="3"/>
                      <a:pt x="344" y="2"/>
                    </a:cubicBezTo>
                    <a:cubicBezTo>
                      <a:pt x="344" y="1"/>
                      <a:pt x="345" y="0"/>
                      <a:pt x="346" y="0"/>
                    </a:cubicBezTo>
                    <a:close/>
                    <a:moveTo>
                      <a:pt x="354" y="0"/>
                    </a:moveTo>
                    <a:lnTo>
                      <a:pt x="354" y="0"/>
                    </a:lnTo>
                    <a:cubicBezTo>
                      <a:pt x="355" y="0"/>
                      <a:pt x="356" y="1"/>
                      <a:pt x="356" y="2"/>
                    </a:cubicBezTo>
                    <a:cubicBezTo>
                      <a:pt x="356" y="3"/>
                      <a:pt x="355" y="4"/>
                      <a:pt x="354" y="4"/>
                    </a:cubicBezTo>
                    <a:lnTo>
                      <a:pt x="354" y="4"/>
                    </a:lnTo>
                    <a:cubicBezTo>
                      <a:pt x="353" y="4"/>
                      <a:pt x="352" y="3"/>
                      <a:pt x="352" y="2"/>
                    </a:cubicBezTo>
                    <a:cubicBezTo>
                      <a:pt x="352" y="1"/>
                      <a:pt x="353" y="0"/>
                      <a:pt x="354" y="0"/>
                    </a:cubicBezTo>
                    <a:close/>
                    <a:moveTo>
                      <a:pt x="362" y="0"/>
                    </a:moveTo>
                    <a:lnTo>
                      <a:pt x="362" y="0"/>
                    </a:lnTo>
                    <a:cubicBezTo>
                      <a:pt x="363" y="0"/>
                      <a:pt x="364" y="1"/>
                      <a:pt x="364" y="2"/>
                    </a:cubicBezTo>
                    <a:cubicBezTo>
                      <a:pt x="364" y="3"/>
                      <a:pt x="363" y="4"/>
                      <a:pt x="362" y="4"/>
                    </a:cubicBezTo>
                    <a:lnTo>
                      <a:pt x="362" y="4"/>
                    </a:lnTo>
                    <a:cubicBezTo>
                      <a:pt x="361" y="4"/>
                      <a:pt x="360" y="3"/>
                      <a:pt x="360" y="2"/>
                    </a:cubicBezTo>
                    <a:cubicBezTo>
                      <a:pt x="360" y="1"/>
                      <a:pt x="361" y="0"/>
                      <a:pt x="362" y="0"/>
                    </a:cubicBezTo>
                    <a:close/>
                    <a:moveTo>
                      <a:pt x="370" y="0"/>
                    </a:moveTo>
                    <a:lnTo>
                      <a:pt x="370" y="0"/>
                    </a:lnTo>
                    <a:cubicBezTo>
                      <a:pt x="371" y="0"/>
                      <a:pt x="372" y="1"/>
                      <a:pt x="372" y="2"/>
                    </a:cubicBezTo>
                    <a:cubicBezTo>
                      <a:pt x="372" y="3"/>
                      <a:pt x="371" y="4"/>
                      <a:pt x="370" y="4"/>
                    </a:cubicBezTo>
                    <a:lnTo>
                      <a:pt x="370" y="4"/>
                    </a:lnTo>
                    <a:cubicBezTo>
                      <a:pt x="369" y="4"/>
                      <a:pt x="368" y="3"/>
                      <a:pt x="368" y="2"/>
                    </a:cubicBezTo>
                    <a:cubicBezTo>
                      <a:pt x="368" y="1"/>
                      <a:pt x="369" y="0"/>
                      <a:pt x="370" y="0"/>
                    </a:cubicBezTo>
                    <a:close/>
                    <a:moveTo>
                      <a:pt x="378" y="0"/>
                    </a:moveTo>
                    <a:lnTo>
                      <a:pt x="378" y="0"/>
                    </a:lnTo>
                    <a:cubicBezTo>
                      <a:pt x="379" y="0"/>
                      <a:pt x="380" y="1"/>
                      <a:pt x="380" y="2"/>
                    </a:cubicBezTo>
                    <a:cubicBezTo>
                      <a:pt x="380" y="3"/>
                      <a:pt x="379" y="4"/>
                      <a:pt x="378" y="4"/>
                    </a:cubicBezTo>
                    <a:lnTo>
                      <a:pt x="378" y="4"/>
                    </a:lnTo>
                    <a:cubicBezTo>
                      <a:pt x="377" y="4"/>
                      <a:pt x="376" y="3"/>
                      <a:pt x="376" y="2"/>
                    </a:cubicBezTo>
                    <a:cubicBezTo>
                      <a:pt x="376" y="1"/>
                      <a:pt x="377" y="0"/>
                      <a:pt x="378" y="0"/>
                    </a:cubicBezTo>
                    <a:close/>
                    <a:moveTo>
                      <a:pt x="386" y="0"/>
                    </a:moveTo>
                    <a:lnTo>
                      <a:pt x="386" y="0"/>
                    </a:lnTo>
                    <a:cubicBezTo>
                      <a:pt x="387" y="0"/>
                      <a:pt x="388" y="1"/>
                      <a:pt x="388" y="2"/>
                    </a:cubicBezTo>
                    <a:cubicBezTo>
                      <a:pt x="388" y="3"/>
                      <a:pt x="387" y="4"/>
                      <a:pt x="386" y="4"/>
                    </a:cubicBezTo>
                    <a:lnTo>
                      <a:pt x="386" y="4"/>
                    </a:lnTo>
                    <a:cubicBezTo>
                      <a:pt x="385" y="4"/>
                      <a:pt x="384" y="3"/>
                      <a:pt x="384" y="2"/>
                    </a:cubicBezTo>
                    <a:cubicBezTo>
                      <a:pt x="384" y="1"/>
                      <a:pt x="385" y="0"/>
                      <a:pt x="386" y="0"/>
                    </a:cubicBezTo>
                    <a:close/>
                    <a:moveTo>
                      <a:pt x="394" y="0"/>
                    </a:moveTo>
                    <a:lnTo>
                      <a:pt x="394" y="0"/>
                    </a:lnTo>
                    <a:cubicBezTo>
                      <a:pt x="395" y="0"/>
                      <a:pt x="396" y="1"/>
                      <a:pt x="396" y="2"/>
                    </a:cubicBezTo>
                    <a:cubicBezTo>
                      <a:pt x="396" y="3"/>
                      <a:pt x="395" y="4"/>
                      <a:pt x="394" y="4"/>
                    </a:cubicBezTo>
                    <a:lnTo>
                      <a:pt x="394" y="4"/>
                    </a:lnTo>
                    <a:cubicBezTo>
                      <a:pt x="393" y="4"/>
                      <a:pt x="392" y="3"/>
                      <a:pt x="392" y="2"/>
                    </a:cubicBezTo>
                    <a:cubicBezTo>
                      <a:pt x="392" y="1"/>
                      <a:pt x="393" y="0"/>
                      <a:pt x="394" y="0"/>
                    </a:cubicBezTo>
                    <a:close/>
                    <a:moveTo>
                      <a:pt x="402" y="0"/>
                    </a:moveTo>
                    <a:lnTo>
                      <a:pt x="402" y="0"/>
                    </a:lnTo>
                    <a:cubicBezTo>
                      <a:pt x="403" y="0"/>
                      <a:pt x="404" y="1"/>
                      <a:pt x="404" y="2"/>
                    </a:cubicBezTo>
                    <a:cubicBezTo>
                      <a:pt x="404" y="3"/>
                      <a:pt x="403" y="4"/>
                      <a:pt x="402" y="4"/>
                    </a:cubicBezTo>
                    <a:lnTo>
                      <a:pt x="402" y="4"/>
                    </a:lnTo>
                    <a:cubicBezTo>
                      <a:pt x="401" y="4"/>
                      <a:pt x="400" y="3"/>
                      <a:pt x="400" y="2"/>
                    </a:cubicBezTo>
                    <a:cubicBezTo>
                      <a:pt x="400" y="1"/>
                      <a:pt x="401" y="0"/>
                      <a:pt x="402" y="0"/>
                    </a:cubicBezTo>
                    <a:close/>
                    <a:moveTo>
                      <a:pt x="410" y="0"/>
                    </a:moveTo>
                    <a:lnTo>
                      <a:pt x="410" y="0"/>
                    </a:lnTo>
                    <a:cubicBezTo>
                      <a:pt x="411" y="0"/>
                      <a:pt x="412" y="1"/>
                      <a:pt x="412" y="2"/>
                    </a:cubicBezTo>
                    <a:cubicBezTo>
                      <a:pt x="412" y="3"/>
                      <a:pt x="411" y="4"/>
                      <a:pt x="410" y="4"/>
                    </a:cubicBezTo>
                    <a:lnTo>
                      <a:pt x="410" y="4"/>
                    </a:lnTo>
                    <a:cubicBezTo>
                      <a:pt x="409" y="4"/>
                      <a:pt x="408" y="3"/>
                      <a:pt x="408" y="2"/>
                    </a:cubicBezTo>
                    <a:cubicBezTo>
                      <a:pt x="408" y="1"/>
                      <a:pt x="409" y="0"/>
                      <a:pt x="410" y="0"/>
                    </a:cubicBezTo>
                    <a:close/>
                    <a:moveTo>
                      <a:pt x="418" y="0"/>
                    </a:moveTo>
                    <a:lnTo>
                      <a:pt x="418" y="0"/>
                    </a:lnTo>
                    <a:cubicBezTo>
                      <a:pt x="419" y="0"/>
                      <a:pt x="420" y="1"/>
                      <a:pt x="420" y="2"/>
                    </a:cubicBezTo>
                    <a:cubicBezTo>
                      <a:pt x="420" y="3"/>
                      <a:pt x="419" y="4"/>
                      <a:pt x="418" y="4"/>
                    </a:cubicBezTo>
                    <a:lnTo>
                      <a:pt x="418" y="4"/>
                    </a:lnTo>
                    <a:cubicBezTo>
                      <a:pt x="417" y="4"/>
                      <a:pt x="416" y="3"/>
                      <a:pt x="416" y="2"/>
                    </a:cubicBezTo>
                    <a:cubicBezTo>
                      <a:pt x="416" y="1"/>
                      <a:pt x="417" y="0"/>
                      <a:pt x="418" y="0"/>
                    </a:cubicBezTo>
                    <a:close/>
                    <a:moveTo>
                      <a:pt x="426" y="0"/>
                    </a:moveTo>
                    <a:lnTo>
                      <a:pt x="426" y="0"/>
                    </a:lnTo>
                    <a:cubicBezTo>
                      <a:pt x="427" y="0"/>
                      <a:pt x="428" y="1"/>
                      <a:pt x="428" y="2"/>
                    </a:cubicBezTo>
                    <a:cubicBezTo>
                      <a:pt x="428" y="3"/>
                      <a:pt x="427" y="4"/>
                      <a:pt x="426" y="4"/>
                    </a:cubicBezTo>
                    <a:lnTo>
                      <a:pt x="426" y="4"/>
                    </a:lnTo>
                    <a:cubicBezTo>
                      <a:pt x="425" y="4"/>
                      <a:pt x="424" y="3"/>
                      <a:pt x="424" y="2"/>
                    </a:cubicBezTo>
                    <a:cubicBezTo>
                      <a:pt x="424" y="1"/>
                      <a:pt x="425" y="0"/>
                      <a:pt x="426" y="0"/>
                    </a:cubicBezTo>
                    <a:close/>
                    <a:moveTo>
                      <a:pt x="434" y="0"/>
                    </a:moveTo>
                    <a:lnTo>
                      <a:pt x="434" y="0"/>
                    </a:lnTo>
                    <a:cubicBezTo>
                      <a:pt x="435" y="0"/>
                      <a:pt x="436" y="1"/>
                      <a:pt x="436" y="2"/>
                    </a:cubicBezTo>
                    <a:cubicBezTo>
                      <a:pt x="436" y="3"/>
                      <a:pt x="435" y="4"/>
                      <a:pt x="434" y="4"/>
                    </a:cubicBezTo>
                    <a:lnTo>
                      <a:pt x="434" y="4"/>
                    </a:lnTo>
                    <a:cubicBezTo>
                      <a:pt x="433" y="4"/>
                      <a:pt x="432" y="3"/>
                      <a:pt x="432" y="2"/>
                    </a:cubicBezTo>
                    <a:cubicBezTo>
                      <a:pt x="432" y="1"/>
                      <a:pt x="433" y="0"/>
                      <a:pt x="434" y="0"/>
                    </a:cubicBezTo>
                    <a:close/>
                    <a:moveTo>
                      <a:pt x="442" y="0"/>
                    </a:moveTo>
                    <a:lnTo>
                      <a:pt x="442" y="0"/>
                    </a:lnTo>
                    <a:cubicBezTo>
                      <a:pt x="443" y="0"/>
                      <a:pt x="444" y="1"/>
                      <a:pt x="444" y="2"/>
                    </a:cubicBezTo>
                    <a:cubicBezTo>
                      <a:pt x="444" y="3"/>
                      <a:pt x="443" y="4"/>
                      <a:pt x="442" y="4"/>
                    </a:cubicBezTo>
                    <a:lnTo>
                      <a:pt x="442" y="4"/>
                    </a:lnTo>
                    <a:cubicBezTo>
                      <a:pt x="441" y="4"/>
                      <a:pt x="440" y="3"/>
                      <a:pt x="440" y="2"/>
                    </a:cubicBezTo>
                    <a:cubicBezTo>
                      <a:pt x="440" y="1"/>
                      <a:pt x="441" y="0"/>
                      <a:pt x="442" y="0"/>
                    </a:cubicBezTo>
                    <a:close/>
                    <a:moveTo>
                      <a:pt x="450" y="0"/>
                    </a:moveTo>
                    <a:lnTo>
                      <a:pt x="450" y="0"/>
                    </a:lnTo>
                    <a:cubicBezTo>
                      <a:pt x="451" y="0"/>
                      <a:pt x="452" y="1"/>
                      <a:pt x="452" y="2"/>
                    </a:cubicBezTo>
                    <a:cubicBezTo>
                      <a:pt x="452" y="3"/>
                      <a:pt x="451" y="4"/>
                      <a:pt x="450" y="4"/>
                    </a:cubicBezTo>
                    <a:lnTo>
                      <a:pt x="450" y="4"/>
                    </a:lnTo>
                    <a:cubicBezTo>
                      <a:pt x="449" y="4"/>
                      <a:pt x="448" y="3"/>
                      <a:pt x="448" y="2"/>
                    </a:cubicBezTo>
                    <a:cubicBezTo>
                      <a:pt x="448" y="1"/>
                      <a:pt x="449" y="0"/>
                      <a:pt x="450" y="0"/>
                    </a:cubicBezTo>
                    <a:close/>
                    <a:moveTo>
                      <a:pt x="458" y="0"/>
                    </a:moveTo>
                    <a:lnTo>
                      <a:pt x="458" y="0"/>
                    </a:lnTo>
                    <a:cubicBezTo>
                      <a:pt x="459" y="0"/>
                      <a:pt x="460" y="1"/>
                      <a:pt x="460" y="2"/>
                    </a:cubicBezTo>
                    <a:cubicBezTo>
                      <a:pt x="460" y="3"/>
                      <a:pt x="459" y="4"/>
                      <a:pt x="458" y="4"/>
                    </a:cubicBezTo>
                    <a:lnTo>
                      <a:pt x="458" y="4"/>
                    </a:lnTo>
                    <a:cubicBezTo>
                      <a:pt x="457" y="4"/>
                      <a:pt x="456" y="3"/>
                      <a:pt x="456" y="2"/>
                    </a:cubicBezTo>
                    <a:cubicBezTo>
                      <a:pt x="456" y="1"/>
                      <a:pt x="457" y="0"/>
                      <a:pt x="458" y="0"/>
                    </a:cubicBezTo>
                    <a:close/>
                    <a:moveTo>
                      <a:pt x="466" y="0"/>
                    </a:moveTo>
                    <a:lnTo>
                      <a:pt x="466" y="0"/>
                    </a:lnTo>
                    <a:cubicBezTo>
                      <a:pt x="467" y="0"/>
                      <a:pt x="468" y="1"/>
                      <a:pt x="468" y="2"/>
                    </a:cubicBezTo>
                    <a:cubicBezTo>
                      <a:pt x="468" y="3"/>
                      <a:pt x="467" y="4"/>
                      <a:pt x="466" y="4"/>
                    </a:cubicBezTo>
                    <a:lnTo>
                      <a:pt x="466" y="4"/>
                    </a:lnTo>
                    <a:cubicBezTo>
                      <a:pt x="465" y="4"/>
                      <a:pt x="464" y="3"/>
                      <a:pt x="464" y="2"/>
                    </a:cubicBezTo>
                    <a:cubicBezTo>
                      <a:pt x="464" y="1"/>
                      <a:pt x="465" y="0"/>
                      <a:pt x="466" y="0"/>
                    </a:cubicBezTo>
                    <a:close/>
                    <a:moveTo>
                      <a:pt x="474" y="0"/>
                    </a:moveTo>
                    <a:lnTo>
                      <a:pt x="474" y="0"/>
                    </a:lnTo>
                    <a:cubicBezTo>
                      <a:pt x="475" y="0"/>
                      <a:pt x="476" y="1"/>
                      <a:pt x="476" y="2"/>
                    </a:cubicBezTo>
                    <a:cubicBezTo>
                      <a:pt x="476" y="3"/>
                      <a:pt x="475" y="4"/>
                      <a:pt x="474" y="4"/>
                    </a:cubicBezTo>
                    <a:lnTo>
                      <a:pt x="474" y="4"/>
                    </a:lnTo>
                    <a:cubicBezTo>
                      <a:pt x="473" y="4"/>
                      <a:pt x="472" y="3"/>
                      <a:pt x="472" y="2"/>
                    </a:cubicBezTo>
                    <a:cubicBezTo>
                      <a:pt x="472" y="1"/>
                      <a:pt x="473" y="0"/>
                      <a:pt x="474" y="0"/>
                    </a:cubicBezTo>
                    <a:close/>
                    <a:moveTo>
                      <a:pt x="482" y="0"/>
                    </a:moveTo>
                    <a:lnTo>
                      <a:pt x="482" y="0"/>
                    </a:lnTo>
                    <a:cubicBezTo>
                      <a:pt x="483" y="0"/>
                      <a:pt x="484" y="1"/>
                      <a:pt x="484" y="2"/>
                    </a:cubicBezTo>
                    <a:cubicBezTo>
                      <a:pt x="484" y="3"/>
                      <a:pt x="483" y="4"/>
                      <a:pt x="482" y="4"/>
                    </a:cubicBezTo>
                    <a:lnTo>
                      <a:pt x="482" y="4"/>
                    </a:lnTo>
                    <a:cubicBezTo>
                      <a:pt x="481" y="4"/>
                      <a:pt x="480" y="3"/>
                      <a:pt x="480" y="2"/>
                    </a:cubicBezTo>
                    <a:cubicBezTo>
                      <a:pt x="480" y="1"/>
                      <a:pt x="481" y="0"/>
                      <a:pt x="482" y="0"/>
                    </a:cubicBezTo>
                    <a:close/>
                    <a:moveTo>
                      <a:pt x="490" y="0"/>
                    </a:moveTo>
                    <a:lnTo>
                      <a:pt x="490" y="0"/>
                    </a:lnTo>
                    <a:cubicBezTo>
                      <a:pt x="491" y="0"/>
                      <a:pt x="492" y="1"/>
                      <a:pt x="492" y="2"/>
                    </a:cubicBezTo>
                    <a:cubicBezTo>
                      <a:pt x="492" y="3"/>
                      <a:pt x="491" y="4"/>
                      <a:pt x="490" y="4"/>
                    </a:cubicBezTo>
                    <a:lnTo>
                      <a:pt x="490" y="4"/>
                    </a:lnTo>
                    <a:cubicBezTo>
                      <a:pt x="489" y="4"/>
                      <a:pt x="488" y="3"/>
                      <a:pt x="488" y="2"/>
                    </a:cubicBezTo>
                    <a:cubicBezTo>
                      <a:pt x="488" y="1"/>
                      <a:pt x="489" y="0"/>
                      <a:pt x="490" y="0"/>
                    </a:cubicBezTo>
                    <a:close/>
                    <a:moveTo>
                      <a:pt x="498" y="0"/>
                    </a:moveTo>
                    <a:lnTo>
                      <a:pt x="498" y="0"/>
                    </a:lnTo>
                    <a:cubicBezTo>
                      <a:pt x="499" y="0"/>
                      <a:pt x="500" y="1"/>
                      <a:pt x="500" y="2"/>
                    </a:cubicBezTo>
                    <a:cubicBezTo>
                      <a:pt x="500" y="3"/>
                      <a:pt x="499" y="4"/>
                      <a:pt x="498" y="4"/>
                    </a:cubicBezTo>
                    <a:lnTo>
                      <a:pt x="498" y="4"/>
                    </a:lnTo>
                    <a:cubicBezTo>
                      <a:pt x="497" y="4"/>
                      <a:pt x="496" y="3"/>
                      <a:pt x="496" y="2"/>
                    </a:cubicBezTo>
                    <a:cubicBezTo>
                      <a:pt x="496" y="1"/>
                      <a:pt x="497" y="0"/>
                      <a:pt x="498" y="0"/>
                    </a:cubicBezTo>
                    <a:close/>
                    <a:moveTo>
                      <a:pt x="506" y="0"/>
                    </a:moveTo>
                    <a:lnTo>
                      <a:pt x="506" y="0"/>
                    </a:lnTo>
                    <a:cubicBezTo>
                      <a:pt x="507" y="0"/>
                      <a:pt x="508" y="1"/>
                      <a:pt x="508" y="2"/>
                    </a:cubicBezTo>
                    <a:cubicBezTo>
                      <a:pt x="508" y="3"/>
                      <a:pt x="507" y="4"/>
                      <a:pt x="506" y="4"/>
                    </a:cubicBezTo>
                    <a:lnTo>
                      <a:pt x="506" y="4"/>
                    </a:lnTo>
                    <a:cubicBezTo>
                      <a:pt x="505" y="4"/>
                      <a:pt x="504" y="3"/>
                      <a:pt x="504" y="2"/>
                    </a:cubicBezTo>
                    <a:cubicBezTo>
                      <a:pt x="504" y="1"/>
                      <a:pt x="505" y="0"/>
                      <a:pt x="506" y="0"/>
                    </a:cubicBezTo>
                    <a:close/>
                    <a:moveTo>
                      <a:pt x="514" y="0"/>
                    </a:moveTo>
                    <a:lnTo>
                      <a:pt x="514" y="0"/>
                    </a:lnTo>
                    <a:cubicBezTo>
                      <a:pt x="515" y="0"/>
                      <a:pt x="516" y="1"/>
                      <a:pt x="516" y="2"/>
                    </a:cubicBezTo>
                    <a:cubicBezTo>
                      <a:pt x="516" y="3"/>
                      <a:pt x="515" y="4"/>
                      <a:pt x="514" y="4"/>
                    </a:cubicBezTo>
                    <a:lnTo>
                      <a:pt x="514" y="4"/>
                    </a:lnTo>
                    <a:cubicBezTo>
                      <a:pt x="513" y="4"/>
                      <a:pt x="512" y="3"/>
                      <a:pt x="512" y="2"/>
                    </a:cubicBezTo>
                    <a:cubicBezTo>
                      <a:pt x="512" y="1"/>
                      <a:pt x="513" y="0"/>
                      <a:pt x="514" y="0"/>
                    </a:cubicBezTo>
                    <a:close/>
                    <a:moveTo>
                      <a:pt x="522" y="0"/>
                    </a:moveTo>
                    <a:lnTo>
                      <a:pt x="522" y="0"/>
                    </a:lnTo>
                    <a:cubicBezTo>
                      <a:pt x="523" y="0"/>
                      <a:pt x="524" y="1"/>
                      <a:pt x="524" y="2"/>
                    </a:cubicBezTo>
                    <a:cubicBezTo>
                      <a:pt x="524" y="3"/>
                      <a:pt x="523" y="4"/>
                      <a:pt x="522" y="4"/>
                    </a:cubicBezTo>
                    <a:lnTo>
                      <a:pt x="522" y="4"/>
                    </a:lnTo>
                    <a:cubicBezTo>
                      <a:pt x="521" y="4"/>
                      <a:pt x="520" y="3"/>
                      <a:pt x="520" y="2"/>
                    </a:cubicBezTo>
                    <a:cubicBezTo>
                      <a:pt x="520" y="1"/>
                      <a:pt x="521" y="0"/>
                      <a:pt x="522" y="0"/>
                    </a:cubicBezTo>
                    <a:close/>
                    <a:moveTo>
                      <a:pt x="530" y="0"/>
                    </a:moveTo>
                    <a:lnTo>
                      <a:pt x="530" y="0"/>
                    </a:lnTo>
                    <a:cubicBezTo>
                      <a:pt x="531" y="0"/>
                      <a:pt x="532" y="1"/>
                      <a:pt x="532" y="2"/>
                    </a:cubicBezTo>
                    <a:cubicBezTo>
                      <a:pt x="532" y="3"/>
                      <a:pt x="531" y="4"/>
                      <a:pt x="530" y="4"/>
                    </a:cubicBezTo>
                    <a:lnTo>
                      <a:pt x="530" y="4"/>
                    </a:lnTo>
                    <a:cubicBezTo>
                      <a:pt x="529" y="4"/>
                      <a:pt x="528" y="3"/>
                      <a:pt x="528" y="2"/>
                    </a:cubicBezTo>
                    <a:cubicBezTo>
                      <a:pt x="528" y="1"/>
                      <a:pt x="529" y="0"/>
                      <a:pt x="530" y="0"/>
                    </a:cubicBezTo>
                    <a:close/>
                    <a:moveTo>
                      <a:pt x="538" y="0"/>
                    </a:moveTo>
                    <a:lnTo>
                      <a:pt x="538" y="0"/>
                    </a:lnTo>
                    <a:cubicBezTo>
                      <a:pt x="539" y="0"/>
                      <a:pt x="540" y="1"/>
                      <a:pt x="540" y="2"/>
                    </a:cubicBezTo>
                    <a:cubicBezTo>
                      <a:pt x="540" y="3"/>
                      <a:pt x="539" y="4"/>
                      <a:pt x="538" y="4"/>
                    </a:cubicBezTo>
                    <a:lnTo>
                      <a:pt x="538" y="4"/>
                    </a:lnTo>
                    <a:cubicBezTo>
                      <a:pt x="537" y="4"/>
                      <a:pt x="536" y="3"/>
                      <a:pt x="536" y="2"/>
                    </a:cubicBezTo>
                    <a:cubicBezTo>
                      <a:pt x="536" y="1"/>
                      <a:pt x="537" y="0"/>
                      <a:pt x="538" y="0"/>
                    </a:cubicBezTo>
                    <a:close/>
                    <a:moveTo>
                      <a:pt x="546" y="0"/>
                    </a:moveTo>
                    <a:lnTo>
                      <a:pt x="546" y="0"/>
                    </a:lnTo>
                    <a:cubicBezTo>
                      <a:pt x="547" y="0"/>
                      <a:pt x="548" y="1"/>
                      <a:pt x="548" y="2"/>
                    </a:cubicBezTo>
                    <a:cubicBezTo>
                      <a:pt x="548" y="3"/>
                      <a:pt x="547" y="4"/>
                      <a:pt x="546" y="4"/>
                    </a:cubicBezTo>
                    <a:lnTo>
                      <a:pt x="546" y="4"/>
                    </a:lnTo>
                    <a:cubicBezTo>
                      <a:pt x="545" y="4"/>
                      <a:pt x="544" y="3"/>
                      <a:pt x="544" y="2"/>
                    </a:cubicBezTo>
                    <a:cubicBezTo>
                      <a:pt x="544" y="1"/>
                      <a:pt x="545" y="0"/>
                      <a:pt x="546" y="0"/>
                    </a:cubicBezTo>
                    <a:close/>
                    <a:moveTo>
                      <a:pt x="554" y="0"/>
                    </a:moveTo>
                    <a:lnTo>
                      <a:pt x="554" y="0"/>
                    </a:lnTo>
                    <a:cubicBezTo>
                      <a:pt x="555" y="0"/>
                      <a:pt x="556" y="1"/>
                      <a:pt x="556" y="2"/>
                    </a:cubicBezTo>
                    <a:cubicBezTo>
                      <a:pt x="556" y="3"/>
                      <a:pt x="555" y="4"/>
                      <a:pt x="554" y="4"/>
                    </a:cubicBezTo>
                    <a:lnTo>
                      <a:pt x="554" y="4"/>
                    </a:lnTo>
                    <a:cubicBezTo>
                      <a:pt x="553" y="4"/>
                      <a:pt x="552" y="3"/>
                      <a:pt x="552" y="2"/>
                    </a:cubicBezTo>
                    <a:cubicBezTo>
                      <a:pt x="552" y="1"/>
                      <a:pt x="553" y="0"/>
                      <a:pt x="554" y="0"/>
                    </a:cubicBezTo>
                    <a:close/>
                    <a:moveTo>
                      <a:pt x="562" y="0"/>
                    </a:moveTo>
                    <a:lnTo>
                      <a:pt x="562" y="0"/>
                    </a:lnTo>
                    <a:cubicBezTo>
                      <a:pt x="563" y="0"/>
                      <a:pt x="564" y="1"/>
                      <a:pt x="564" y="2"/>
                    </a:cubicBezTo>
                    <a:cubicBezTo>
                      <a:pt x="564" y="3"/>
                      <a:pt x="563" y="4"/>
                      <a:pt x="562" y="4"/>
                    </a:cubicBezTo>
                    <a:lnTo>
                      <a:pt x="562" y="4"/>
                    </a:lnTo>
                    <a:cubicBezTo>
                      <a:pt x="561" y="4"/>
                      <a:pt x="560" y="3"/>
                      <a:pt x="560" y="2"/>
                    </a:cubicBezTo>
                    <a:cubicBezTo>
                      <a:pt x="560" y="1"/>
                      <a:pt x="561" y="0"/>
                      <a:pt x="562" y="0"/>
                    </a:cubicBezTo>
                    <a:close/>
                    <a:moveTo>
                      <a:pt x="570" y="0"/>
                    </a:moveTo>
                    <a:lnTo>
                      <a:pt x="570" y="0"/>
                    </a:lnTo>
                    <a:cubicBezTo>
                      <a:pt x="571" y="0"/>
                      <a:pt x="572" y="1"/>
                      <a:pt x="572" y="2"/>
                    </a:cubicBezTo>
                    <a:cubicBezTo>
                      <a:pt x="572" y="3"/>
                      <a:pt x="571" y="4"/>
                      <a:pt x="570" y="4"/>
                    </a:cubicBezTo>
                    <a:lnTo>
                      <a:pt x="570" y="4"/>
                    </a:lnTo>
                    <a:cubicBezTo>
                      <a:pt x="569" y="4"/>
                      <a:pt x="568" y="3"/>
                      <a:pt x="568" y="2"/>
                    </a:cubicBezTo>
                    <a:cubicBezTo>
                      <a:pt x="568" y="1"/>
                      <a:pt x="569" y="0"/>
                      <a:pt x="570" y="0"/>
                    </a:cubicBezTo>
                    <a:close/>
                    <a:moveTo>
                      <a:pt x="578" y="0"/>
                    </a:moveTo>
                    <a:lnTo>
                      <a:pt x="578" y="0"/>
                    </a:lnTo>
                    <a:cubicBezTo>
                      <a:pt x="579" y="0"/>
                      <a:pt x="580" y="1"/>
                      <a:pt x="580" y="2"/>
                    </a:cubicBezTo>
                    <a:cubicBezTo>
                      <a:pt x="580" y="3"/>
                      <a:pt x="579" y="4"/>
                      <a:pt x="578" y="4"/>
                    </a:cubicBezTo>
                    <a:lnTo>
                      <a:pt x="578" y="4"/>
                    </a:lnTo>
                    <a:cubicBezTo>
                      <a:pt x="577" y="4"/>
                      <a:pt x="576" y="3"/>
                      <a:pt x="576" y="2"/>
                    </a:cubicBezTo>
                    <a:cubicBezTo>
                      <a:pt x="576" y="1"/>
                      <a:pt x="577" y="0"/>
                      <a:pt x="578" y="0"/>
                    </a:cubicBezTo>
                    <a:close/>
                    <a:moveTo>
                      <a:pt x="586" y="0"/>
                    </a:moveTo>
                    <a:lnTo>
                      <a:pt x="586" y="0"/>
                    </a:lnTo>
                    <a:cubicBezTo>
                      <a:pt x="587" y="0"/>
                      <a:pt x="588" y="1"/>
                      <a:pt x="588" y="2"/>
                    </a:cubicBezTo>
                    <a:cubicBezTo>
                      <a:pt x="588" y="3"/>
                      <a:pt x="587" y="4"/>
                      <a:pt x="586" y="4"/>
                    </a:cubicBezTo>
                    <a:lnTo>
                      <a:pt x="586" y="4"/>
                    </a:lnTo>
                    <a:cubicBezTo>
                      <a:pt x="585" y="4"/>
                      <a:pt x="584" y="3"/>
                      <a:pt x="584" y="2"/>
                    </a:cubicBezTo>
                    <a:cubicBezTo>
                      <a:pt x="584" y="1"/>
                      <a:pt x="585" y="0"/>
                      <a:pt x="586" y="0"/>
                    </a:cubicBezTo>
                    <a:close/>
                    <a:moveTo>
                      <a:pt x="594" y="0"/>
                    </a:moveTo>
                    <a:lnTo>
                      <a:pt x="594" y="0"/>
                    </a:lnTo>
                    <a:cubicBezTo>
                      <a:pt x="595" y="0"/>
                      <a:pt x="596" y="1"/>
                      <a:pt x="596" y="2"/>
                    </a:cubicBezTo>
                    <a:cubicBezTo>
                      <a:pt x="596" y="3"/>
                      <a:pt x="595" y="4"/>
                      <a:pt x="594" y="4"/>
                    </a:cubicBezTo>
                    <a:lnTo>
                      <a:pt x="594" y="4"/>
                    </a:lnTo>
                    <a:cubicBezTo>
                      <a:pt x="593" y="4"/>
                      <a:pt x="592" y="3"/>
                      <a:pt x="592" y="2"/>
                    </a:cubicBezTo>
                    <a:cubicBezTo>
                      <a:pt x="592" y="1"/>
                      <a:pt x="593" y="0"/>
                      <a:pt x="594" y="0"/>
                    </a:cubicBezTo>
                    <a:close/>
                    <a:moveTo>
                      <a:pt x="602" y="0"/>
                    </a:moveTo>
                    <a:lnTo>
                      <a:pt x="602" y="0"/>
                    </a:lnTo>
                    <a:cubicBezTo>
                      <a:pt x="603" y="0"/>
                      <a:pt x="604" y="1"/>
                      <a:pt x="604" y="2"/>
                    </a:cubicBezTo>
                    <a:cubicBezTo>
                      <a:pt x="604" y="3"/>
                      <a:pt x="603" y="4"/>
                      <a:pt x="602" y="4"/>
                    </a:cubicBezTo>
                    <a:lnTo>
                      <a:pt x="602" y="4"/>
                    </a:lnTo>
                    <a:cubicBezTo>
                      <a:pt x="601" y="4"/>
                      <a:pt x="600" y="3"/>
                      <a:pt x="600" y="2"/>
                    </a:cubicBezTo>
                    <a:cubicBezTo>
                      <a:pt x="600" y="1"/>
                      <a:pt x="601" y="0"/>
                      <a:pt x="602" y="0"/>
                    </a:cubicBezTo>
                    <a:close/>
                    <a:moveTo>
                      <a:pt x="610" y="0"/>
                    </a:moveTo>
                    <a:lnTo>
                      <a:pt x="610" y="0"/>
                    </a:lnTo>
                    <a:cubicBezTo>
                      <a:pt x="611" y="0"/>
                      <a:pt x="612" y="1"/>
                      <a:pt x="612" y="2"/>
                    </a:cubicBezTo>
                    <a:cubicBezTo>
                      <a:pt x="612" y="3"/>
                      <a:pt x="611" y="4"/>
                      <a:pt x="610" y="4"/>
                    </a:cubicBezTo>
                    <a:lnTo>
                      <a:pt x="610" y="4"/>
                    </a:lnTo>
                    <a:cubicBezTo>
                      <a:pt x="609" y="4"/>
                      <a:pt x="608" y="3"/>
                      <a:pt x="608" y="2"/>
                    </a:cubicBezTo>
                    <a:cubicBezTo>
                      <a:pt x="608" y="1"/>
                      <a:pt x="609" y="0"/>
                      <a:pt x="610" y="0"/>
                    </a:cubicBezTo>
                    <a:close/>
                    <a:moveTo>
                      <a:pt x="618" y="0"/>
                    </a:moveTo>
                    <a:lnTo>
                      <a:pt x="618" y="0"/>
                    </a:lnTo>
                    <a:cubicBezTo>
                      <a:pt x="619" y="0"/>
                      <a:pt x="620" y="1"/>
                      <a:pt x="620" y="2"/>
                    </a:cubicBezTo>
                    <a:cubicBezTo>
                      <a:pt x="620" y="3"/>
                      <a:pt x="619" y="4"/>
                      <a:pt x="618" y="4"/>
                    </a:cubicBezTo>
                    <a:lnTo>
                      <a:pt x="618" y="4"/>
                    </a:lnTo>
                    <a:cubicBezTo>
                      <a:pt x="617" y="4"/>
                      <a:pt x="616" y="3"/>
                      <a:pt x="616" y="2"/>
                    </a:cubicBezTo>
                    <a:cubicBezTo>
                      <a:pt x="616" y="1"/>
                      <a:pt x="617" y="0"/>
                      <a:pt x="618" y="0"/>
                    </a:cubicBezTo>
                    <a:close/>
                    <a:moveTo>
                      <a:pt x="626" y="0"/>
                    </a:moveTo>
                    <a:lnTo>
                      <a:pt x="626" y="0"/>
                    </a:lnTo>
                    <a:cubicBezTo>
                      <a:pt x="627" y="0"/>
                      <a:pt x="628" y="1"/>
                      <a:pt x="628" y="2"/>
                    </a:cubicBezTo>
                    <a:cubicBezTo>
                      <a:pt x="628" y="3"/>
                      <a:pt x="627" y="4"/>
                      <a:pt x="626" y="4"/>
                    </a:cubicBezTo>
                    <a:lnTo>
                      <a:pt x="626" y="4"/>
                    </a:lnTo>
                    <a:cubicBezTo>
                      <a:pt x="625" y="4"/>
                      <a:pt x="624" y="3"/>
                      <a:pt x="624" y="2"/>
                    </a:cubicBezTo>
                    <a:cubicBezTo>
                      <a:pt x="624" y="1"/>
                      <a:pt x="625" y="0"/>
                      <a:pt x="626" y="0"/>
                    </a:cubicBezTo>
                    <a:close/>
                    <a:moveTo>
                      <a:pt x="634" y="0"/>
                    </a:moveTo>
                    <a:lnTo>
                      <a:pt x="634" y="0"/>
                    </a:lnTo>
                    <a:cubicBezTo>
                      <a:pt x="635" y="0"/>
                      <a:pt x="636" y="1"/>
                      <a:pt x="636" y="2"/>
                    </a:cubicBezTo>
                    <a:cubicBezTo>
                      <a:pt x="636" y="3"/>
                      <a:pt x="635" y="4"/>
                      <a:pt x="634" y="4"/>
                    </a:cubicBezTo>
                    <a:lnTo>
                      <a:pt x="634" y="4"/>
                    </a:lnTo>
                    <a:cubicBezTo>
                      <a:pt x="633" y="4"/>
                      <a:pt x="632" y="3"/>
                      <a:pt x="632" y="2"/>
                    </a:cubicBezTo>
                    <a:cubicBezTo>
                      <a:pt x="632" y="1"/>
                      <a:pt x="633" y="0"/>
                      <a:pt x="634" y="0"/>
                    </a:cubicBezTo>
                    <a:close/>
                    <a:moveTo>
                      <a:pt x="642" y="0"/>
                    </a:moveTo>
                    <a:lnTo>
                      <a:pt x="642" y="0"/>
                    </a:lnTo>
                    <a:cubicBezTo>
                      <a:pt x="643" y="0"/>
                      <a:pt x="644" y="1"/>
                      <a:pt x="644" y="2"/>
                    </a:cubicBezTo>
                    <a:cubicBezTo>
                      <a:pt x="644" y="3"/>
                      <a:pt x="643" y="4"/>
                      <a:pt x="642" y="4"/>
                    </a:cubicBezTo>
                    <a:lnTo>
                      <a:pt x="642" y="4"/>
                    </a:lnTo>
                    <a:cubicBezTo>
                      <a:pt x="641" y="4"/>
                      <a:pt x="640" y="3"/>
                      <a:pt x="640" y="2"/>
                    </a:cubicBezTo>
                    <a:cubicBezTo>
                      <a:pt x="640" y="1"/>
                      <a:pt x="641" y="0"/>
                      <a:pt x="642" y="0"/>
                    </a:cubicBezTo>
                    <a:close/>
                    <a:moveTo>
                      <a:pt x="650" y="0"/>
                    </a:moveTo>
                    <a:lnTo>
                      <a:pt x="650" y="0"/>
                    </a:lnTo>
                    <a:cubicBezTo>
                      <a:pt x="651" y="0"/>
                      <a:pt x="652" y="1"/>
                      <a:pt x="652" y="2"/>
                    </a:cubicBezTo>
                    <a:cubicBezTo>
                      <a:pt x="652" y="3"/>
                      <a:pt x="651" y="4"/>
                      <a:pt x="650" y="4"/>
                    </a:cubicBezTo>
                    <a:lnTo>
                      <a:pt x="650" y="4"/>
                    </a:lnTo>
                    <a:cubicBezTo>
                      <a:pt x="649" y="4"/>
                      <a:pt x="648" y="3"/>
                      <a:pt x="648" y="2"/>
                    </a:cubicBezTo>
                    <a:cubicBezTo>
                      <a:pt x="648" y="1"/>
                      <a:pt x="649" y="0"/>
                      <a:pt x="650" y="0"/>
                    </a:cubicBezTo>
                    <a:close/>
                    <a:moveTo>
                      <a:pt x="658" y="0"/>
                    </a:moveTo>
                    <a:lnTo>
                      <a:pt x="658" y="0"/>
                    </a:lnTo>
                    <a:cubicBezTo>
                      <a:pt x="659" y="0"/>
                      <a:pt x="660" y="1"/>
                      <a:pt x="660" y="2"/>
                    </a:cubicBezTo>
                    <a:cubicBezTo>
                      <a:pt x="660" y="3"/>
                      <a:pt x="659" y="4"/>
                      <a:pt x="658" y="4"/>
                    </a:cubicBezTo>
                    <a:lnTo>
                      <a:pt x="658" y="4"/>
                    </a:lnTo>
                    <a:cubicBezTo>
                      <a:pt x="657" y="4"/>
                      <a:pt x="656" y="3"/>
                      <a:pt x="656" y="2"/>
                    </a:cubicBezTo>
                    <a:cubicBezTo>
                      <a:pt x="656" y="1"/>
                      <a:pt x="657" y="0"/>
                      <a:pt x="658" y="0"/>
                    </a:cubicBezTo>
                    <a:close/>
                    <a:moveTo>
                      <a:pt x="666" y="0"/>
                    </a:moveTo>
                    <a:lnTo>
                      <a:pt x="666" y="0"/>
                    </a:lnTo>
                    <a:cubicBezTo>
                      <a:pt x="667" y="0"/>
                      <a:pt x="668" y="1"/>
                      <a:pt x="668" y="2"/>
                    </a:cubicBezTo>
                    <a:cubicBezTo>
                      <a:pt x="668" y="3"/>
                      <a:pt x="667" y="4"/>
                      <a:pt x="666" y="4"/>
                    </a:cubicBezTo>
                    <a:lnTo>
                      <a:pt x="666" y="4"/>
                    </a:lnTo>
                    <a:cubicBezTo>
                      <a:pt x="665" y="4"/>
                      <a:pt x="664" y="3"/>
                      <a:pt x="664" y="2"/>
                    </a:cubicBezTo>
                    <a:cubicBezTo>
                      <a:pt x="664" y="1"/>
                      <a:pt x="665" y="0"/>
                      <a:pt x="666" y="0"/>
                    </a:cubicBezTo>
                    <a:close/>
                    <a:moveTo>
                      <a:pt x="674" y="0"/>
                    </a:moveTo>
                    <a:lnTo>
                      <a:pt x="674" y="0"/>
                    </a:lnTo>
                    <a:cubicBezTo>
                      <a:pt x="675" y="0"/>
                      <a:pt x="676" y="1"/>
                      <a:pt x="676" y="2"/>
                    </a:cubicBezTo>
                    <a:cubicBezTo>
                      <a:pt x="676" y="3"/>
                      <a:pt x="675" y="4"/>
                      <a:pt x="674" y="4"/>
                    </a:cubicBezTo>
                    <a:lnTo>
                      <a:pt x="674" y="4"/>
                    </a:lnTo>
                    <a:cubicBezTo>
                      <a:pt x="673" y="4"/>
                      <a:pt x="672" y="3"/>
                      <a:pt x="672" y="2"/>
                    </a:cubicBezTo>
                    <a:cubicBezTo>
                      <a:pt x="672" y="1"/>
                      <a:pt x="673" y="0"/>
                      <a:pt x="674" y="0"/>
                    </a:cubicBezTo>
                    <a:close/>
                    <a:moveTo>
                      <a:pt x="682" y="0"/>
                    </a:moveTo>
                    <a:lnTo>
                      <a:pt x="682" y="0"/>
                    </a:lnTo>
                    <a:cubicBezTo>
                      <a:pt x="683" y="0"/>
                      <a:pt x="684" y="1"/>
                      <a:pt x="684" y="2"/>
                    </a:cubicBezTo>
                    <a:cubicBezTo>
                      <a:pt x="684" y="3"/>
                      <a:pt x="683" y="4"/>
                      <a:pt x="682" y="4"/>
                    </a:cubicBezTo>
                    <a:lnTo>
                      <a:pt x="682" y="4"/>
                    </a:lnTo>
                    <a:cubicBezTo>
                      <a:pt x="681" y="4"/>
                      <a:pt x="680" y="3"/>
                      <a:pt x="680" y="2"/>
                    </a:cubicBezTo>
                    <a:cubicBezTo>
                      <a:pt x="680" y="1"/>
                      <a:pt x="681" y="0"/>
                      <a:pt x="682" y="0"/>
                    </a:cubicBezTo>
                    <a:close/>
                    <a:moveTo>
                      <a:pt x="690" y="0"/>
                    </a:moveTo>
                    <a:lnTo>
                      <a:pt x="690" y="0"/>
                    </a:lnTo>
                    <a:cubicBezTo>
                      <a:pt x="691" y="0"/>
                      <a:pt x="692" y="1"/>
                      <a:pt x="692" y="2"/>
                    </a:cubicBezTo>
                    <a:cubicBezTo>
                      <a:pt x="692" y="3"/>
                      <a:pt x="691" y="4"/>
                      <a:pt x="690" y="4"/>
                    </a:cubicBezTo>
                    <a:lnTo>
                      <a:pt x="690" y="4"/>
                    </a:lnTo>
                    <a:cubicBezTo>
                      <a:pt x="689" y="4"/>
                      <a:pt x="688" y="3"/>
                      <a:pt x="688" y="2"/>
                    </a:cubicBezTo>
                    <a:cubicBezTo>
                      <a:pt x="688" y="1"/>
                      <a:pt x="689" y="0"/>
                      <a:pt x="690" y="0"/>
                    </a:cubicBezTo>
                    <a:close/>
                    <a:moveTo>
                      <a:pt x="698" y="0"/>
                    </a:moveTo>
                    <a:lnTo>
                      <a:pt x="698" y="0"/>
                    </a:lnTo>
                    <a:cubicBezTo>
                      <a:pt x="699" y="0"/>
                      <a:pt x="700" y="1"/>
                      <a:pt x="700" y="2"/>
                    </a:cubicBezTo>
                    <a:cubicBezTo>
                      <a:pt x="700" y="3"/>
                      <a:pt x="699" y="4"/>
                      <a:pt x="698" y="4"/>
                    </a:cubicBezTo>
                    <a:lnTo>
                      <a:pt x="698" y="4"/>
                    </a:lnTo>
                    <a:cubicBezTo>
                      <a:pt x="697" y="4"/>
                      <a:pt x="696" y="3"/>
                      <a:pt x="696" y="2"/>
                    </a:cubicBezTo>
                    <a:cubicBezTo>
                      <a:pt x="696" y="1"/>
                      <a:pt x="697" y="0"/>
                      <a:pt x="698" y="0"/>
                    </a:cubicBezTo>
                    <a:close/>
                    <a:moveTo>
                      <a:pt x="706" y="0"/>
                    </a:moveTo>
                    <a:lnTo>
                      <a:pt x="706" y="0"/>
                    </a:lnTo>
                    <a:cubicBezTo>
                      <a:pt x="707" y="0"/>
                      <a:pt x="708" y="1"/>
                      <a:pt x="708" y="2"/>
                    </a:cubicBezTo>
                    <a:cubicBezTo>
                      <a:pt x="708" y="3"/>
                      <a:pt x="707" y="4"/>
                      <a:pt x="706" y="4"/>
                    </a:cubicBezTo>
                    <a:lnTo>
                      <a:pt x="706" y="4"/>
                    </a:lnTo>
                    <a:cubicBezTo>
                      <a:pt x="705" y="4"/>
                      <a:pt x="704" y="3"/>
                      <a:pt x="704" y="2"/>
                    </a:cubicBezTo>
                    <a:cubicBezTo>
                      <a:pt x="704" y="1"/>
                      <a:pt x="705" y="0"/>
                      <a:pt x="706" y="0"/>
                    </a:cubicBezTo>
                    <a:close/>
                    <a:moveTo>
                      <a:pt x="714" y="0"/>
                    </a:moveTo>
                    <a:lnTo>
                      <a:pt x="714" y="0"/>
                    </a:lnTo>
                    <a:cubicBezTo>
                      <a:pt x="715" y="0"/>
                      <a:pt x="716" y="1"/>
                      <a:pt x="716" y="2"/>
                    </a:cubicBezTo>
                    <a:cubicBezTo>
                      <a:pt x="716" y="3"/>
                      <a:pt x="715" y="4"/>
                      <a:pt x="714" y="4"/>
                    </a:cubicBezTo>
                    <a:lnTo>
                      <a:pt x="714" y="4"/>
                    </a:lnTo>
                    <a:cubicBezTo>
                      <a:pt x="713" y="4"/>
                      <a:pt x="712" y="3"/>
                      <a:pt x="712" y="2"/>
                    </a:cubicBezTo>
                    <a:cubicBezTo>
                      <a:pt x="712" y="1"/>
                      <a:pt x="713" y="0"/>
                      <a:pt x="714" y="0"/>
                    </a:cubicBezTo>
                    <a:close/>
                    <a:moveTo>
                      <a:pt x="722" y="0"/>
                    </a:moveTo>
                    <a:lnTo>
                      <a:pt x="722" y="0"/>
                    </a:lnTo>
                    <a:cubicBezTo>
                      <a:pt x="723" y="0"/>
                      <a:pt x="724" y="1"/>
                      <a:pt x="724" y="2"/>
                    </a:cubicBezTo>
                    <a:cubicBezTo>
                      <a:pt x="724" y="3"/>
                      <a:pt x="723" y="4"/>
                      <a:pt x="722" y="4"/>
                    </a:cubicBezTo>
                    <a:lnTo>
                      <a:pt x="722" y="4"/>
                    </a:lnTo>
                    <a:cubicBezTo>
                      <a:pt x="721" y="4"/>
                      <a:pt x="720" y="3"/>
                      <a:pt x="720" y="2"/>
                    </a:cubicBezTo>
                    <a:cubicBezTo>
                      <a:pt x="720" y="1"/>
                      <a:pt x="721" y="0"/>
                      <a:pt x="722" y="0"/>
                    </a:cubicBezTo>
                    <a:close/>
                    <a:moveTo>
                      <a:pt x="730" y="0"/>
                    </a:moveTo>
                    <a:lnTo>
                      <a:pt x="730" y="0"/>
                    </a:lnTo>
                    <a:cubicBezTo>
                      <a:pt x="731" y="0"/>
                      <a:pt x="732" y="1"/>
                      <a:pt x="732" y="2"/>
                    </a:cubicBezTo>
                    <a:cubicBezTo>
                      <a:pt x="732" y="3"/>
                      <a:pt x="731" y="4"/>
                      <a:pt x="730" y="4"/>
                    </a:cubicBezTo>
                    <a:lnTo>
                      <a:pt x="730" y="4"/>
                    </a:lnTo>
                    <a:cubicBezTo>
                      <a:pt x="729" y="4"/>
                      <a:pt x="728" y="3"/>
                      <a:pt x="728" y="2"/>
                    </a:cubicBezTo>
                    <a:cubicBezTo>
                      <a:pt x="728" y="1"/>
                      <a:pt x="729" y="0"/>
                      <a:pt x="730" y="0"/>
                    </a:cubicBezTo>
                    <a:close/>
                    <a:moveTo>
                      <a:pt x="738" y="0"/>
                    </a:moveTo>
                    <a:lnTo>
                      <a:pt x="738" y="0"/>
                    </a:lnTo>
                    <a:cubicBezTo>
                      <a:pt x="739" y="0"/>
                      <a:pt x="740" y="1"/>
                      <a:pt x="740" y="2"/>
                    </a:cubicBezTo>
                    <a:cubicBezTo>
                      <a:pt x="740" y="3"/>
                      <a:pt x="739" y="4"/>
                      <a:pt x="738" y="4"/>
                    </a:cubicBezTo>
                    <a:lnTo>
                      <a:pt x="738" y="4"/>
                    </a:lnTo>
                    <a:cubicBezTo>
                      <a:pt x="737" y="4"/>
                      <a:pt x="736" y="3"/>
                      <a:pt x="736" y="2"/>
                    </a:cubicBezTo>
                    <a:cubicBezTo>
                      <a:pt x="736" y="1"/>
                      <a:pt x="737" y="0"/>
                      <a:pt x="738" y="0"/>
                    </a:cubicBezTo>
                    <a:close/>
                    <a:moveTo>
                      <a:pt x="746" y="0"/>
                    </a:moveTo>
                    <a:lnTo>
                      <a:pt x="746" y="0"/>
                    </a:lnTo>
                    <a:cubicBezTo>
                      <a:pt x="747" y="0"/>
                      <a:pt x="748" y="1"/>
                      <a:pt x="748" y="2"/>
                    </a:cubicBezTo>
                    <a:cubicBezTo>
                      <a:pt x="748" y="3"/>
                      <a:pt x="747" y="4"/>
                      <a:pt x="746" y="4"/>
                    </a:cubicBezTo>
                    <a:lnTo>
                      <a:pt x="746" y="4"/>
                    </a:lnTo>
                    <a:cubicBezTo>
                      <a:pt x="745" y="4"/>
                      <a:pt x="744" y="3"/>
                      <a:pt x="744" y="2"/>
                    </a:cubicBezTo>
                    <a:cubicBezTo>
                      <a:pt x="744" y="1"/>
                      <a:pt x="745" y="0"/>
                      <a:pt x="746" y="0"/>
                    </a:cubicBezTo>
                    <a:close/>
                    <a:moveTo>
                      <a:pt x="754" y="0"/>
                    </a:moveTo>
                    <a:lnTo>
                      <a:pt x="754" y="0"/>
                    </a:lnTo>
                    <a:cubicBezTo>
                      <a:pt x="755" y="0"/>
                      <a:pt x="756" y="1"/>
                      <a:pt x="756" y="2"/>
                    </a:cubicBezTo>
                    <a:cubicBezTo>
                      <a:pt x="756" y="3"/>
                      <a:pt x="755" y="4"/>
                      <a:pt x="754" y="4"/>
                    </a:cubicBezTo>
                    <a:lnTo>
                      <a:pt x="754" y="4"/>
                    </a:lnTo>
                    <a:cubicBezTo>
                      <a:pt x="753" y="4"/>
                      <a:pt x="752" y="3"/>
                      <a:pt x="752" y="2"/>
                    </a:cubicBezTo>
                    <a:cubicBezTo>
                      <a:pt x="752" y="1"/>
                      <a:pt x="753" y="0"/>
                      <a:pt x="754" y="0"/>
                    </a:cubicBezTo>
                    <a:close/>
                    <a:moveTo>
                      <a:pt x="762" y="0"/>
                    </a:moveTo>
                    <a:lnTo>
                      <a:pt x="762" y="0"/>
                    </a:lnTo>
                    <a:cubicBezTo>
                      <a:pt x="763" y="0"/>
                      <a:pt x="764" y="1"/>
                      <a:pt x="764" y="2"/>
                    </a:cubicBezTo>
                    <a:cubicBezTo>
                      <a:pt x="764" y="3"/>
                      <a:pt x="763" y="4"/>
                      <a:pt x="762" y="4"/>
                    </a:cubicBezTo>
                    <a:lnTo>
                      <a:pt x="762" y="4"/>
                    </a:lnTo>
                    <a:cubicBezTo>
                      <a:pt x="761" y="4"/>
                      <a:pt x="760" y="3"/>
                      <a:pt x="760" y="2"/>
                    </a:cubicBezTo>
                    <a:cubicBezTo>
                      <a:pt x="760" y="1"/>
                      <a:pt x="761" y="0"/>
                      <a:pt x="762" y="0"/>
                    </a:cubicBezTo>
                    <a:close/>
                    <a:moveTo>
                      <a:pt x="770" y="0"/>
                    </a:moveTo>
                    <a:lnTo>
                      <a:pt x="770" y="0"/>
                    </a:lnTo>
                    <a:cubicBezTo>
                      <a:pt x="771" y="0"/>
                      <a:pt x="772" y="1"/>
                      <a:pt x="772" y="2"/>
                    </a:cubicBezTo>
                    <a:cubicBezTo>
                      <a:pt x="772" y="3"/>
                      <a:pt x="771" y="4"/>
                      <a:pt x="770" y="4"/>
                    </a:cubicBezTo>
                    <a:lnTo>
                      <a:pt x="770" y="4"/>
                    </a:lnTo>
                    <a:cubicBezTo>
                      <a:pt x="769" y="4"/>
                      <a:pt x="768" y="3"/>
                      <a:pt x="768" y="2"/>
                    </a:cubicBezTo>
                    <a:cubicBezTo>
                      <a:pt x="768" y="1"/>
                      <a:pt x="769" y="0"/>
                      <a:pt x="770" y="0"/>
                    </a:cubicBezTo>
                    <a:close/>
                    <a:moveTo>
                      <a:pt x="778" y="0"/>
                    </a:moveTo>
                    <a:lnTo>
                      <a:pt x="778" y="0"/>
                    </a:lnTo>
                    <a:cubicBezTo>
                      <a:pt x="779" y="0"/>
                      <a:pt x="780" y="1"/>
                      <a:pt x="780" y="2"/>
                    </a:cubicBezTo>
                    <a:cubicBezTo>
                      <a:pt x="780" y="3"/>
                      <a:pt x="779" y="4"/>
                      <a:pt x="778" y="4"/>
                    </a:cubicBezTo>
                    <a:lnTo>
                      <a:pt x="778" y="4"/>
                    </a:lnTo>
                    <a:cubicBezTo>
                      <a:pt x="777" y="4"/>
                      <a:pt x="776" y="3"/>
                      <a:pt x="776" y="2"/>
                    </a:cubicBezTo>
                    <a:cubicBezTo>
                      <a:pt x="776" y="1"/>
                      <a:pt x="777" y="0"/>
                      <a:pt x="778" y="0"/>
                    </a:cubicBezTo>
                    <a:close/>
                    <a:moveTo>
                      <a:pt x="786" y="0"/>
                    </a:moveTo>
                    <a:lnTo>
                      <a:pt x="786" y="0"/>
                    </a:lnTo>
                    <a:cubicBezTo>
                      <a:pt x="787" y="0"/>
                      <a:pt x="788" y="1"/>
                      <a:pt x="788" y="2"/>
                    </a:cubicBezTo>
                    <a:cubicBezTo>
                      <a:pt x="788" y="3"/>
                      <a:pt x="787" y="4"/>
                      <a:pt x="786" y="4"/>
                    </a:cubicBezTo>
                    <a:lnTo>
                      <a:pt x="786" y="4"/>
                    </a:lnTo>
                    <a:cubicBezTo>
                      <a:pt x="785" y="4"/>
                      <a:pt x="784" y="3"/>
                      <a:pt x="784" y="2"/>
                    </a:cubicBezTo>
                    <a:cubicBezTo>
                      <a:pt x="784" y="1"/>
                      <a:pt x="785" y="0"/>
                      <a:pt x="786" y="0"/>
                    </a:cubicBezTo>
                    <a:close/>
                    <a:moveTo>
                      <a:pt x="794" y="0"/>
                    </a:moveTo>
                    <a:lnTo>
                      <a:pt x="794" y="0"/>
                    </a:lnTo>
                    <a:cubicBezTo>
                      <a:pt x="795" y="0"/>
                      <a:pt x="796" y="1"/>
                      <a:pt x="796" y="2"/>
                    </a:cubicBezTo>
                    <a:cubicBezTo>
                      <a:pt x="796" y="3"/>
                      <a:pt x="795" y="4"/>
                      <a:pt x="794" y="4"/>
                    </a:cubicBezTo>
                    <a:lnTo>
                      <a:pt x="794" y="4"/>
                    </a:lnTo>
                    <a:cubicBezTo>
                      <a:pt x="793" y="4"/>
                      <a:pt x="792" y="3"/>
                      <a:pt x="792" y="2"/>
                    </a:cubicBezTo>
                    <a:cubicBezTo>
                      <a:pt x="792" y="1"/>
                      <a:pt x="793" y="0"/>
                      <a:pt x="794" y="0"/>
                    </a:cubicBezTo>
                    <a:close/>
                    <a:moveTo>
                      <a:pt x="802" y="0"/>
                    </a:moveTo>
                    <a:lnTo>
                      <a:pt x="802" y="0"/>
                    </a:lnTo>
                    <a:cubicBezTo>
                      <a:pt x="803" y="0"/>
                      <a:pt x="804" y="1"/>
                      <a:pt x="804" y="2"/>
                    </a:cubicBezTo>
                    <a:cubicBezTo>
                      <a:pt x="804" y="3"/>
                      <a:pt x="803" y="4"/>
                      <a:pt x="802" y="4"/>
                    </a:cubicBezTo>
                    <a:lnTo>
                      <a:pt x="802" y="4"/>
                    </a:lnTo>
                    <a:cubicBezTo>
                      <a:pt x="801" y="4"/>
                      <a:pt x="800" y="3"/>
                      <a:pt x="800" y="2"/>
                    </a:cubicBezTo>
                    <a:cubicBezTo>
                      <a:pt x="800" y="1"/>
                      <a:pt x="801" y="0"/>
                      <a:pt x="802" y="0"/>
                    </a:cubicBezTo>
                    <a:close/>
                    <a:moveTo>
                      <a:pt x="810" y="0"/>
                    </a:moveTo>
                    <a:lnTo>
                      <a:pt x="810" y="0"/>
                    </a:lnTo>
                    <a:cubicBezTo>
                      <a:pt x="811" y="0"/>
                      <a:pt x="812" y="1"/>
                      <a:pt x="812" y="2"/>
                    </a:cubicBezTo>
                    <a:cubicBezTo>
                      <a:pt x="812" y="3"/>
                      <a:pt x="811" y="4"/>
                      <a:pt x="810" y="4"/>
                    </a:cubicBezTo>
                    <a:lnTo>
                      <a:pt x="810" y="4"/>
                    </a:lnTo>
                    <a:cubicBezTo>
                      <a:pt x="809" y="4"/>
                      <a:pt x="808" y="3"/>
                      <a:pt x="808" y="2"/>
                    </a:cubicBezTo>
                    <a:cubicBezTo>
                      <a:pt x="808" y="1"/>
                      <a:pt x="809" y="0"/>
                      <a:pt x="810" y="0"/>
                    </a:cubicBezTo>
                    <a:close/>
                    <a:moveTo>
                      <a:pt x="818" y="0"/>
                    </a:moveTo>
                    <a:lnTo>
                      <a:pt x="818" y="0"/>
                    </a:lnTo>
                    <a:cubicBezTo>
                      <a:pt x="819" y="0"/>
                      <a:pt x="820" y="1"/>
                      <a:pt x="820" y="2"/>
                    </a:cubicBezTo>
                    <a:cubicBezTo>
                      <a:pt x="820" y="3"/>
                      <a:pt x="819" y="4"/>
                      <a:pt x="818" y="4"/>
                    </a:cubicBezTo>
                    <a:lnTo>
                      <a:pt x="818" y="4"/>
                    </a:lnTo>
                    <a:cubicBezTo>
                      <a:pt x="817" y="4"/>
                      <a:pt x="816" y="3"/>
                      <a:pt x="816" y="2"/>
                    </a:cubicBezTo>
                    <a:cubicBezTo>
                      <a:pt x="816" y="1"/>
                      <a:pt x="817" y="0"/>
                      <a:pt x="818" y="0"/>
                    </a:cubicBezTo>
                    <a:close/>
                    <a:moveTo>
                      <a:pt x="826" y="0"/>
                    </a:moveTo>
                    <a:lnTo>
                      <a:pt x="826" y="0"/>
                    </a:lnTo>
                    <a:cubicBezTo>
                      <a:pt x="827" y="0"/>
                      <a:pt x="828" y="1"/>
                      <a:pt x="828" y="2"/>
                    </a:cubicBezTo>
                    <a:cubicBezTo>
                      <a:pt x="828" y="3"/>
                      <a:pt x="827" y="4"/>
                      <a:pt x="826" y="4"/>
                    </a:cubicBezTo>
                    <a:lnTo>
                      <a:pt x="826" y="4"/>
                    </a:lnTo>
                    <a:cubicBezTo>
                      <a:pt x="825" y="4"/>
                      <a:pt x="824" y="3"/>
                      <a:pt x="824" y="2"/>
                    </a:cubicBezTo>
                    <a:cubicBezTo>
                      <a:pt x="824" y="1"/>
                      <a:pt x="825" y="0"/>
                      <a:pt x="826" y="0"/>
                    </a:cubicBezTo>
                    <a:close/>
                    <a:moveTo>
                      <a:pt x="834" y="0"/>
                    </a:moveTo>
                    <a:lnTo>
                      <a:pt x="834" y="0"/>
                    </a:lnTo>
                    <a:cubicBezTo>
                      <a:pt x="835" y="0"/>
                      <a:pt x="836" y="1"/>
                      <a:pt x="836" y="2"/>
                    </a:cubicBezTo>
                    <a:cubicBezTo>
                      <a:pt x="836" y="3"/>
                      <a:pt x="835" y="4"/>
                      <a:pt x="834" y="4"/>
                    </a:cubicBezTo>
                    <a:lnTo>
                      <a:pt x="834" y="4"/>
                    </a:lnTo>
                    <a:cubicBezTo>
                      <a:pt x="833" y="4"/>
                      <a:pt x="832" y="3"/>
                      <a:pt x="832" y="2"/>
                    </a:cubicBezTo>
                    <a:cubicBezTo>
                      <a:pt x="832" y="1"/>
                      <a:pt x="833" y="0"/>
                      <a:pt x="834" y="0"/>
                    </a:cubicBezTo>
                    <a:close/>
                    <a:moveTo>
                      <a:pt x="842" y="0"/>
                    </a:moveTo>
                    <a:lnTo>
                      <a:pt x="842" y="0"/>
                    </a:lnTo>
                    <a:cubicBezTo>
                      <a:pt x="843" y="0"/>
                      <a:pt x="844" y="1"/>
                      <a:pt x="844" y="2"/>
                    </a:cubicBezTo>
                    <a:cubicBezTo>
                      <a:pt x="844" y="3"/>
                      <a:pt x="843" y="4"/>
                      <a:pt x="842" y="4"/>
                    </a:cubicBezTo>
                    <a:lnTo>
                      <a:pt x="842" y="4"/>
                    </a:lnTo>
                    <a:cubicBezTo>
                      <a:pt x="841" y="4"/>
                      <a:pt x="840" y="3"/>
                      <a:pt x="840" y="2"/>
                    </a:cubicBezTo>
                    <a:cubicBezTo>
                      <a:pt x="840" y="1"/>
                      <a:pt x="841" y="0"/>
                      <a:pt x="842" y="0"/>
                    </a:cubicBezTo>
                    <a:close/>
                    <a:moveTo>
                      <a:pt x="850" y="0"/>
                    </a:moveTo>
                    <a:lnTo>
                      <a:pt x="850" y="0"/>
                    </a:lnTo>
                    <a:cubicBezTo>
                      <a:pt x="851" y="0"/>
                      <a:pt x="852" y="1"/>
                      <a:pt x="852" y="2"/>
                    </a:cubicBezTo>
                    <a:cubicBezTo>
                      <a:pt x="852" y="3"/>
                      <a:pt x="851" y="4"/>
                      <a:pt x="850" y="4"/>
                    </a:cubicBezTo>
                    <a:lnTo>
                      <a:pt x="850" y="4"/>
                    </a:lnTo>
                    <a:cubicBezTo>
                      <a:pt x="849" y="4"/>
                      <a:pt x="848" y="3"/>
                      <a:pt x="848" y="2"/>
                    </a:cubicBezTo>
                    <a:cubicBezTo>
                      <a:pt x="848" y="1"/>
                      <a:pt x="849" y="0"/>
                      <a:pt x="850" y="0"/>
                    </a:cubicBezTo>
                    <a:close/>
                    <a:moveTo>
                      <a:pt x="858" y="0"/>
                    </a:moveTo>
                    <a:lnTo>
                      <a:pt x="858" y="0"/>
                    </a:lnTo>
                    <a:cubicBezTo>
                      <a:pt x="859" y="0"/>
                      <a:pt x="860" y="1"/>
                      <a:pt x="860" y="2"/>
                    </a:cubicBezTo>
                    <a:cubicBezTo>
                      <a:pt x="860" y="3"/>
                      <a:pt x="859" y="4"/>
                      <a:pt x="858" y="4"/>
                    </a:cubicBezTo>
                    <a:lnTo>
                      <a:pt x="858" y="4"/>
                    </a:lnTo>
                    <a:cubicBezTo>
                      <a:pt x="857" y="4"/>
                      <a:pt x="856" y="3"/>
                      <a:pt x="856" y="2"/>
                    </a:cubicBezTo>
                    <a:cubicBezTo>
                      <a:pt x="856" y="1"/>
                      <a:pt x="857" y="0"/>
                      <a:pt x="858" y="0"/>
                    </a:cubicBezTo>
                    <a:close/>
                    <a:moveTo>
                      <a:pt x="866" y="0"/>
                    </a:moveTo>
                    <a:lnTo>
                      <a:pt x="866" y="0"/>
                    </a:lnTo>
                    <a:cubicBezTo>
                      <a:pt x="867" y="0"/>
                      <a:pt x="868" y="1"/>
                      <a:pt x="868" y="2"/>
                    </a:cubicBezTo>
                    <a:cubicBezTo>
                      <a:pt x="868" y="3"/>
                      <a:pt x="867" y="4"/>
                      <a:pt x="866" y="4"/>
                    </a:cubicBezTo>
                    <a:lnTo>
                      <a:pt x="866" y="4"/>
                    </a:lnTo>
                    <a:cubicBezTo>
                      <a:pt x="865" y="4"/>
                      <a:pt x="864" y="3"/>
                      <a:pt x="864" y="2"/>
                    </a:cubicBezTo>
                    <a:cubicBezTo>
                      <a:pt x="864" y="1"/>
                      <a:pt x="865" y="0"/>
                      <a:pt x="866" y="0"/>
                    </a:cubicBezTo>
                    <a:close/>
                    <a:moveTo>
                      <a:pt x="874" y="0"/>
                    </a:moveTo>
                    <a:lnTo>
                      <a:pt x="874" y="0"/>
                    </a:lnTo>
                    <a:cubicBezTo>
                      <a:pt x="875" y="0"/>
                      <a:pt x="876" y="1"/>
                      <a:pt x="876" y="2"/>
                    </a:cubicBezTo>
                    <a:cubicBezTo>
                      <a:pt x="876" y="3"/>
                      <a:pt x="875" y="4"/>
                      <a:pt x="874" y="4"/>
                    </a:cubicBezTo>
                    <a:lnTo>
                      <a:pt x="874" y="4"/>
                    </a:lnTo>
                    <a:cubicBezTo>
                      <a:pt x="873" y="4"/>
                      <a:pt x="872" y="3"/>
                      <a:pt x="872" y="2"/>
                    </a:cubicBezTo>
                    <a:cubicBezTo>
                      <a:pt x="872" y="1"/>
                      <a:pt x="873" y="0"/>
                      <a:pt x="874" y="0"/>
                    </a:cubicBezTo>
                    <a:close/>
                    <a:moveTo>
                      <a:pt x="882" y="0"/>
                    </a:moveTo>
                    <a:lnTo>
                      <a:pt x="882" y="0"/>
                    </a:lnTo>
                    <a:cubicBezTo>
                      <a:pt x="883" y="0"/>
                      <a:pt x="884" y="1"/>
                      <a:pt x="884" y="2"/>
                    </a:cubicBezTo>
                    <a:cubicBezTo>
                      <a:pt x="884" y="3"/>
                      <a:pt x="883" y="4"/>
                      <a:pt x="882" y="4"/>
                    </a:cubicBezTo>
                    <a:lnTo>
                      <a:pt x="882" y="4"/>
                    </a:lnTo>
                    <a:cubicBezTo>
                      <a:pt x="881" y="4"/>
                      <a:pt x="880" y="3"/>
                      <a:pt x="880" y="2"/>
                    </a:cubicBezTo>
                    <a:cubicBezTo>
                      <a:pt x="880" y="1"/>
                      <a:pt x="881" y="0"/>
                      <a:pt x="882" y="0"/>
                    </a:cubicBezTo>
                    <a:close/>
                    <a:moveTo>
                      <a:pt x="890" y="0"/>
                    </a:moveTo>
                    <a:lnTo>
                      <a:pt x="890" y="0"/>
                    </a:lnTo>
                    <a:cubicBezTo>
                      <a:pt x="891" y="0"/>
                      <a:pt x="892" y="1"/>
                      <a:pt x="892" y="2"/>
                    </a:cubicBezTo>
                    <a:cubicBezTo>
                      <a:pt x="892" y="3"/>
                      <a:pt x="891" y="4"/>
                      <a:pt x="890" y="4"/>
                    </a:cubicBezTo>
                    <a:lnTo>
                      <a:pt x="890" y="4"/>
                    </a:lnTo>
                    <a:cubicBezTo>
                      <a:pt x="889" y="4"/>
                      <a:pt x="888" y="3"/>
                      <a:pt x="888" y="2"/>
                    </a:cubicBezTo>
                    <a:cubicBezTo>
                      <a:pt x="888" y="1"/>
                      <a:pt x="889" y="0"/>
                      <a:pt x="890" y="0"/>
                    </a:cubicBezTo>
                    <a:close/>
                    <a:moveTo>
                      <a:pt x="898" y="0"/>
                    </a:moveTo>
                    <a:lnTo>
                      <a:pt x="898" y="0"/>
                    </a:lnTo>
                    <a:cubicBezTo>
                      <a:pt x="899" y="0"/>
                      <a:pt x="900" y="1"/>
                      <a:pt x="900" y="2"/>
                    </a:cubicBezTo>
                    <a:cubicBezTo>
                      <a:pt x="900" y="3"/>
                      <a:pt x="899" y="4"/>
                      <a:pt x="898" y="4"/>
                    </a:cubicBezTo>
                    <a:lnTo>
                      <a:pt x="898" y="4"/>
                    </a:lnTo>
                    <a:cubicBezTo>
                      <a:pt x="897" y="4"/>
                      <a:pt x="896" y="3"/>
                      <a:pt x="896" y="2"/>
                    </a:cubicBezTo>
                    <a:cubicBezTo>
                      <a:pt x="896" y="1"/>
                      <a:pt x="897" y="0"/>
                      <a:pt x="898" y="0"/>
                    </a:cubicBezTo>
                    <a:close/>
                    <a:moveTo>
                      <a:pt x="906" y="0"/>
                    </a:moveTo>
                    <a:lnTo>
                      <a:pt x="906" y="0"/>
                    </a:lnTo>
                    <a:cubicBezTo>
                      <a:pt x="907" y="0"/>
                      <a:pt x="908" y="1"/>
                      <a:pt x="908" y="2"/>
                    </a:cubicBezTo>
                    <a:cubicBezTo>
                      <a:pt x="908" y="3"/>
                      <a:pt x="907" y="4"/>
                      <a:pt x="906" y="4"/>
                    </a:cubicBezTo>
                    <a:lnTo>
                      <a:pt x="906" y="4"/>
                    </a:lnTo>
                    <a:cubicBezTo>
                      <a:pt x="905" y="4"/>
                      <a:pt x="904" y="3"/>
                      <a:pt x="904" y="2"/>
                    </a:cubicBezTo>
                    <a:cubicBezTo>
                      <a:pt x="904" y="1"/>
                      <a:pt x="905" y="0"/>
                      <a:pt x="906" y="0"/>
                    </a:cubicBezTo>
                    <a:close/>
                    <a:moveTo>
                      <a:pt x="914" y="0"/>
                    </a:moveTo>
                    <a:lnTo>
                      <a:pt x="914" y="0"/>
                    </a:lnTo>
                    <a:cubicBezTo>
                      <a:pt x="915" y="0"/>
                      <a:pt x="916" y="1"/>
                      <a:pt x="916" y="2"/>
                    </a:cubicBezTo>
                    <a:cubicBezTo>
                      <a:pt x="916" y="3"/>
                      <a:pt x="915" y="4"/>
                      <a:pt x="914" y="4"/>
                    </a:cubicBezTo>
                    <a:lnTo>
                      <a:pt x="914" y="4"/>
                    </a:lnTo>
                    <a:cubicBezTo>
                      <a:pt x="913" y="4"/>
                      <a:pt x="912" y="3"/>
                      <a:pt x="912" y="2"/>
                    </a:cubicBezTo>
                    <a:cubicBezTo>
                      <a:pt x="912" y="1"/>
                      <a:pt x="913" y="0"/>
                      <a:pt x="914" y="0"/>
                    </a:cubicBezTo>
                    <a:close/>
                    <a:moveTo>
                      <a:pt x="922" y="0"/>
                    </a:moveTo>
                    <a:lnTo>
                      <a:pt x="922" y="0"/>
                    </a:lnTo>
                    <a:cubicBezTo>
                      <a:pt x="923" y="0"/>
                      <a:pt x="924" y="1"/>
                      <a:pt x="924" y="2"/>
                    </a:cubicBezTo>
                    <a:cubicBezTo>
                      <a:pt x="924" y="3"/>
                      <a:pt x="923" y="4"/>
                      <a:pt x="922" y="4"/>
                    </a:cubicBezTo>
                    <a:lnTo>
                      <a:pt x="922" y="4"/>
                    </a:lnTo>
                    <a:cubicBezTo>
                      <a:pt x="921" y="4"/>
                      <a:pt x="920" y="3"/>
                      <a:pt x="920" y="2"/>
                    </a:cubicBezTo>
                    <a:cubicBezTo>
                      <a:pt x="920" y="1"/>
                      <a:pt x="921" y="0"/>
                      <a:pt x="922" y="0"/>
                    </a:cubicBezTo>
                    <a:close/>
                    <a:moveTo>
                      <a:pt x="930" y="0"/>
                    </a:moveTo>
                    <a:lnTo>
                      <a:pt x="930" y="0"/>
                    </a:lnTo>
                    <a:cubicBezTo>
                      <a:pt x="931" y="0"/>
                      <a:pt x="932" y="1"/>
                      <a:pt x="932" y="2"/>
                    </a:cubicBezTo>
                    <a:cubicBezTo>
                      <a:pt x="932" y="3"/>
                      <a:pt x="931" y="4"/>
                      <a:pt x="930" y="4"/>
                    </a:cubicBezTo>
                    <a:lnTo>
                      <a:pt x="930" y="4"/>
                    </a:lnTo>
                    <a:cubicBezTo>
                      <a:pt x="929" y="4"/>
                      <a:pt x="928" y="3"/>
                      <a:pt x="928" y="2"/>
                    </a:cubicBezTo>
                    <a:cubicBezTo>
                      <a:pt x="928" y="1"/>
                      <a:pt x="929" y="0"/>
                      <a:pt x="930" y="0"/>
                    </a:cubicBezTo>
                    <a:close/>
                    <a:moveTo>
                      <a:pt x="938" y="0"/>
                    </a:moveTo>
                    <a:lnTo>
                      <a:pt x="938" y="0"/>
                    </a:lnTo>
                    <a:cubicBezTo>
                      <a:pt x="939" y="0"/>
                      <a:pt x="940" y="1"/>
                      <a:pt x="940" y="2"/>
                    </a:cubicBezTo>
                    <a:cubicBezTo>
                      <a:pt x="940" y="3"/>
                      <a:pt x="939" y="4"/>
                      <a:pt x="938" y="4"/>
                    </a:cubicBezTo>
                    <a:lnTo>
                      <a:pt x="938" y="4"/>
                    </a:lnTo>
                    <a:cubicBezTo>
                      <a:pt x="937" y="4"/>
                      <a:pt x="936" y="3"/>
                      <a:pt x="936" y="2"/>
                    </a:cubicBezTo>
                    <a:cubicBezTo>
                      <a:pt x="936" y="1"/>
                      <a:pt x="937" y="0"/>
                      <a:pt x="938" y="0"/>
                    </a:cubicBezTo>
                    <a:close/>
                    <a:moveTo>
                      <a:pt x="946" y="0"/>
                    </a:moveTo>
                    <a:lnTo>
                      <a:pt x="946" y="0"/>
                    </a:lnTo>
                    <a:cubicBezTo>
                      <a:pt x="947" y="0"/>
                      <a:pt x="948" y="1"/>
                      <a:pt x="948" y="2"/>
                    </a:cubicBezTo>
                    <a:cubicBezTo>
                      <a:pt x="948" y="3"/>
                      <a:pt x="947" y="4"/>
                      <a:pt x="946" y="4"/>
                    </a:cubicBezTo>
                    <a:lnTo>
                      <a:pt x="946" y="4"/>
                    </a:lnTo>
                    <a:cubicBezTo>
                      <a:pt x="945" y="4"/>
                      <a:pt x="944" y="3"/>
                      <a:pt x="944" y="2"/>
                    </a:cubicBezTo>
                    <a:cubicBezTo>
                      <a:pt x="944" y="1"/>
                      <a:pt x="945" y="0"/>
                      <a:pt x="946" y="0"/>
                    </a:cubicBezTo>
                    <a:close/>
                    <a:moveTo>
                      <a:pt x="954" y="0"/>
                    </a:moveTo>
                    <a:lnTo>
                      <a:pt x="954" y="0"/>
                    </a:lnTo>
                    <a:cubicBezTo>
                      <a:pt x="955" y="0"/>
                      <a:pt x="956" y="1"/>
                      <a:pt x="956" y="2"/>
                    </a:cubicBezTo>
                    <a:cubicBezTo>
                      <a:pt x="956" y="3"/>
                      <a:pt x="955" y="4"/>
                      <a:pt x="954" y="4"/>
                    </a:cubicBezTo>
                    <a:lnTo>
                      <a:pt x="954" y="4"/>
                    </a:lnTo>
                    <a:cubicBezTo>
                      <a:pt x="953" y="4"/>
                      <a:pt x="952" y="3"/>
                      <a:pt x="952" y="2"/>
                    </a:cubicBezTo>
                    <a:cubicBezTo>
                      <a:pt x="952" y="1"/>
                      <a:pt x="953" y="0"/>
                      <a:pt x="954" y="0"/>
                    </a:cubicBezTo>
                    <a:close/>
                    <a:moveTo>
                      <a:pt x="962" y="0"/>
                    </a:moveTo>
                    <a:lnTo>
                      <a:pt x="962" y="0"/>
                    </a:lnTo>
                    <a:cubicBezTo>
                      <a:pt x="963" y="0"/>
                      <a:pt x="964" y="1"/>
                      <a:pt x="964" y="2"/>
                    </a:cubicBezTo>
                    <a:cubicBezTo>
                      <a:pt x="964" y="3"/>
                      <a:pt x="963" y="4"/>
                      <a:pt x="962" y="4"/>
                    </a:cubicBezTo>
                    <a:lnTo>
                      <a:pt x="962" y="4"/>
                    </a:lnTo>
                    <a:cubicBezTo>
                      <a:pt x="961" y="4"/>
                      <a:pt x="960" y="3"/>
                      <a:pt x="960" y="2"/>
                    </a:cubicBezTo>
                    <a:cubicBezTo>
                      <a:pt x="960" y="1"/>
                      <a:pt x="961" y="0"/>
                      <a:pt x="962" y="0"/>
                    </a:cubicBezTo>
                    <a:close/>
                    <a:moveTo>
                      <a:pt x="970" y="0"/>
                    </a:moveTo>
                    <a:lnTo>
                      <a:pt x="970" y="0"/>
                    </a:lnTo>
                    <a:cubicBezTo>
                      <a:pt x="971" y="0"/>
                      <a:pt x="972" y="1"/>
                      <a:pt x="972" y="2"/>
                    </a:cubicBezTo>
                    <a:cubicBezTo>
                      <a:pt x="972" y="3"/>
                      <a:pt x="971" y="4"/>
                      <a:pt x="970" y="4"/>
                    </a:cubicBezTo>
                    <a:lnTo>
                      <a:pt x="970" y="4"/>
                    </a:lnTo>
                    <a:cubicBezTo>
                      <a:pt x="969" y="4"/>
                      <a:pt x="968" y="3"/>
                      <a:pt x="968" y="2"/>
                    </a:cubicBezTo>
                    <a:cubicBezTo>
                      <a:pt x="968" y="1"/>
                      <a:pt x="969" y="0"/>
                      <a:pt x="970" y="0"/>
                    </a:cubicBezTo>
                    <a:close/>
                    <a:moveTo>
                      <a:pt x="978" y="0"/>
                    </a:moveTo>
                    <a:lnTo>
                      <a:pt x="978" y="0"/>
                    </a:lnTo>
                    <a:cubicBezTo>
                      <a:pt x="979" y="0"/>
                      <a:pt x="980" y="1"/>
                      <a:pt x="980" y="2"/>
                    </a:cubicBezTo>
                    <a:cubicBezTo>
                      <a:pt x="980" y="3"/>
                      <a:pt x="979" y="4"/>
                      <a:pt x="978" y="4"/>
                    </a:cubicBezTo>
                    <a:lnTo>
                      <a:pt x="978" y="4"/>
                    </a:lnTo>
                    <a:cubicBezTo>
                      <a:pt x="977" y="4"/>
                      <a:pt x="976" y="3"/>
                      <a:pt x="976" y="2"/>
                    </a:cubicBezTo>
                    <a:cubicBezTo>
                      <a:pt x="976" y="1"/>
                      <a:pt x="977" y="0"/>
                      <a:pt x="978" y="0"/>
                    </a:cubicBezTo>
                    <a:close/>
                    <a:moveTo>
                      <a:pt x="986" y="0"/>
                    </a:moveTo>
                    <a:lnTo>
                      <a:pt x="986" y="0"/>
                    </a:lnTo>
                    <a:cubicBezTo>
                      <a:pt x="987" y="0"/>
                      <a:pt x="988" y="1"/>
                      <a:pt x="988" y="2"/>
                    </a:cubicBezTo>
                    <a:cubicBezTo>
                      <a:pt x="988" y="3"/>
                      <a:pt x="987" y="4"/>
                      <a:pt x="986" y="4"/>
                    </a:cubicBezTo>
                    <a:lnTo>
                      <a:pt x="986" y="4"/>
                    </a:lnTo>
                    <a:cubicBezTo>
                      <a:pt x="985" y="4"/>
                      <a:pt x="984" y="3"/>
                      <a:pt x="984" y="2"/>
                    </a:cubicBezTo>
                    <a:cubicBezTo>
                      <a:pt x="984" y="1"/>
                      <a:pt x="985" y="0"/>
                      <a:pt x="986" y="0"/>
                    </a:cubicBezTo>
                    <a:close/>
                    <a:moveTo>
                      <a:pt x="994" y="0"/>
                    </a:moveTo>
                    <a:lnTo>
                      <a:pt x="994" y="0"/>
                    </a:lnTo>
                    <a:cubicBezTo>
                      <a:pt x="995" y="0"/>
                      <a:pt x="996" y="1"/>
                      <a:pt x="996" y="2"/>
                    </a:cubicBezTo>
                    <a:cubicBezTo>
                      <a:pt x="996" y="3"/>
                      <a:pt x="995" y="4"/>
                      <a:pt x="994" y="4"/>
                    </a:cubicBezTo>
                    <a:lnTo>
                      <a:pt x="994" y="4"/>
                    </a:lnTo>
                    <a:cubicBezTo>
                      <a:pt x="993" y="4"/>
                      <a:pt x="992" y="3"/>
                      <a:pt x="992" y="2"/>
                    </a:cubicBezTo>
                    <a:cubicBezTo>
                      <a:pt x="992" y="1"/>
                      <a:pt x="993" y="0"/>
                      <a:pt x="994" y="0"/>
                    </a:cubicBezTo>
                    <a:close/>
                    <a:moveTo>
                      <a:pt x="1002" y="0"/>
                    </a:moveTo>
                    <a:lnTo>
                      <a:pt x="1002" y="0"/>
                    </a:lnTo>
                    <a:cubicBezTo>
                      <a:pt x="1003" y="0"/>
                      <a:pt x="1004" y="1"/>
                      <a:pt x="1004" y="2"/>
                    </a:cubicBezTo>
                    <a:cubicBezTo>
                      <a:pt x="1004" y="3"/>
                      <a:pt x="1003" y="4"/>
                      <a:pt x="1002" y="4"/>
                    </a:cubicBezTo>
                    <a:lnTo>
                      <a:pt x="1002" y="4"/>
                    </a:lnTo>
                    <a:cubicBezTo>
                      <a:pt x="1001" y="4"/>
                      <a:pt x="1000" y="3"/>
                      <a:pt x="1000" y="2"/>
                    </a:cubicBezTo>
                    <a:cubicBezTo>
                      <a:pt x="1000" y="1"/>
                      <a:pt x="1001" y="0"/>
                      <a:pt x="1002" y="0"/>
                    </a:cubicBezTo>
                    <a:close/>
                    <a:moveTo>
                      <a:pt x="1010" y="0"/>
                    </a:moveTo>
                    <a:lnTo>
                      <a:pt x="1010" y="0"/>
                    </a:lnTo>
                    <a:cubicBezTo>
                      <a:pt x="1011" y="0"/>
                      <a:pt x="1012" y="1"/>
                      <a:pt x="1012" y="2"/>
                    </a:cubicBezTo>
                    <a:cubicBezTo>
                      <a:pt x="1012" y="3"/>
                      <a:pt x="1011" y="4"/>
                      <a:pt x="1010" y="4"/>
                    </a:cubicBezTo>
                    <a:lnTo>
                      <a:pt x="1010" y="4"/>
                    </a:lnTo>
                    <a:cubicBezTo>
                      <a:pt x="1009" y="4"/>
                      <a:pt x="1008" y="3"/>
                      <a:pt x="1008" y="2"/>
                    </a:cubicBezTo>
                    <a:cubicBezTo>
                      <a:pt x="1008" y="1"/>
                      <a:pt x="1009" y="0"/>
                      <a:pt x="1010" y="0"/>
                    </a:cubicBezTo>
                    <a:close/>
                    <a:moveTo>
                      <a:pt x="1018" y="0"/>
                    </a:moveTo>
                    <a:lnTo>
                      <a:pt x="1018" y="0"/>
                    </a:lnTo>
                    <a:cubicBezTo>
                      <a:pt x="1019" y="0"/>
                      <a:pt x="1020" y="1"/>
                      <a:pt x="1020" y="2"/>
                    </a:cubicBezTo>
                    <a:cubicBezTo>
                      <a:pt x="1020" y="3"/>
                      <a:pt x="1019" y="4"/>
                      <a:pt x="1018" y="4"/>
                    </a:cubicBezTo>
                    <a:lnTo>
                      <a:pt x="1018" y="4"/>
                    </a:lnTo>
                    <a:cubicBezTo>
                      <a:pt x="1017" y="4"/>
                      <a:pt x="1016" y="3"/>
                      <a:pt x="1016" y="2"/>
                    </a:cubicBezTo>
                    <a:cubicBezTo>
                      <a:pt x="1016" y="1"/>
                      <a:pt x="1017" y="0"/>
                      <a:pt x="1018" y="0"/>
                    </a:cubicBezTo>
                    <a:close/>
                    <a:moveTo>
                      <a:pt x="1026" y="0"/>
                    </a:moveTo>
                    <a:lnTo>
                      <a:pt x="1026" y="0"/>
                    </a:lnTo>
                    <a:cubicBezTo>
                      <a:pt x="1027" y="0"/>
                      <a:pt x="1028" y="1"/>
                      <a:pt x="1028" y="2"/>
                    </a:cubicBezTo>
                    <a:cubicBezTo>
                      <a:pt x="1028" y="3"/>
                      <a:pt x="1027" y="4"/>
                      <a:pt x="1026" y="4"/>
                    </a:cubicBezTo>
                    <a:lnTo>
                      <a:pt x="1026" y="4"/>
                    </a:lnTo>
                    <a:cubicBezTo>
                      <a:pt x="1025" y="4"/>
                      <a:pt x="1024" y="3"/>
                      <a:pt x="1024" y="2"/>
                    </a:cubicBezTo>
                    <a:cubicBezTo>
                      <a:pt x="1024" y="1"/>
                      <a:pt x="1025" y="0"/>
                      <a:pt x="1026" y="0"/>
                    </a:cubicBezTo>
                    <a:close/>
                    <a:moveTo>
                      <a:pt x="1034" y="0"/>
                    </a:moveTo>
                    <a:lnTo>
                      <a:pt x="1034" y="0"/>
                    </a:lnTo>
                    <a:cubicBezTo>
                      <a:pt x="1035" y="0"/>
                      <a:pt x="1036" y="1"/>
                      <a:pt x="1036" y="2"/>
                    </a:cubicBezTo>
                    <a:cubicBezTo>
                      <a:pt x="1036" y="3"/>
                      <a:pt x="1035" y="4"/>
                      <a:pt x="1034" y="4"/>
                    </a:cubicBezTo>
                    <a:lnTo>
                      <a:pt x="1034" y="4"/>
                    </a:lnTo>
                    <a:cubicBezTo>
                      <a:pt x="1033" y="4"/>
                      <a:pt x="1032" y="3"/>
                      <a:pt x="1032" y="2"/>
                    </a:cubicBezTo>
                    <a:cubicBezTo>
                      <a:pt x="1032" y="1"/>
                      <a:pt x="1033" y="0"/>
                      <a:pt x="1034" y="0"/>
                    </a:cubicBezTo>
                    <a:close/>
                    <a:moveTo>
                      <a:pt x="1042" y="0"/>
                    </a:moveTo>
                    <a:lnTo>
                      <a:pt x="1042" y="0"/>
                    </a:lnTo>
                    <a:cubicBezTo>
                      <a:pt x="1043" y="0"/>
                      <a:pt x="1044" y="1"/>
                      <a:pt x="1044" y="2"/>
                    </a:cubicBezTo>
                    <a:cubicBezTo>
                      <a:pt x="1044" y="3"/>
                      <a:pt x="1043" y="4"/>
                      <a:pt x="1042" y="4"/>
                    </a:cubicBezTo>
                    <a:lnTo>
                      <a:pt x="1042" y="4"/>
                    </a:lnTo>
                    <a:cubicBezTo>
                      <a:pt x="1041" y="4"/>
                      <a:pt x="1040" y="3"/>
                      <a:pt x="1040" y="2"/>
                    </a:cubicBezTo>
                    <a:cubicBezTo>
                      <a:pt x="1040" y="1"/>
                      <a:pt x="1041" y="0"/>
                      <a:pt x="1042" y="0"/>
                    </a:cubicBezTo>
                    <a:close/>
                    <a:moveTo>
                      <a:pt x="1050" y="0"/>
                    </a:moveTo>
                    <a:lnTo>
                      <a:pt x="1050" y="0"/>
                    </a:lnTo>
                    <a:cubicBezTo>
                      <a:pt x="1051" y="0"/>
                      <a:pt x="1052" y="1"/>
                      <a:pt x="1052" y="2"/>
                    </a:cubicBezTo>
                    <a:cubicBezTo>
                      <a:pt x="1052" y="3"/>
                      <a:pt x="1051" y="4"/>
                      <a:pt x="1050" y="4"/>
                    </a:cubicBezTo>
                    <a:lnTo>
                      <a:pt x="1050" y="4"/>
                    </a:lnTo>
                    <a:cubicBezTo>
                      <a:pt x="1049" y="4"/>
                      <a:pt x="1048" y="3"/>
                      <a:pt x="1048" y="2"/>
                    </a:cubicBezTo>
                    <a:cubicBezTo>
                      <a:pt x="1048" y="1"/>
                      <a:pt x="1049" y="0"/>
                      <a:pt x="1050" y="0"/>
                    </a:cubicBezTo>
                    <a:close/>
                    <a:moveTo>
                      <a:pt x="1058" y="0"/>
                    </a:moveTo>
                    <a:lnTo>
                      <a:pt x="1058" y="0"/>
                    </a:lnTo>
                    <a:cubicBezTo>
                      <a:pt x="1059" y="0"/>
                      <a:pt x="1060" y="1"/>
                      <a:pt x="1060" y="2"/>
                    </a:cubicBezTo>
                    <a:cubicBezTo>
                      <a:pt x="1060" y="3"/>
                      <a:pt x="1059" y="4"/>
                      <a:pt x="1058" y="4"/>
                    </a:cubicBezTo>
                    <a:lnTo>
                      <a:pt x="1058" y="4"/>
                    </a:lnTo>
                    <a:cubicBezTo>
                      <a:pt x="1057" y="4"/>
                      <a:pt x="1056" y="3"/>
                      <a:pt x="1056" y="2"/>
                    </a:cubicBezTo>
                    <a:cubicBezTo>
                      <a:pt x="1056" y="1"/>
                      <a:pt x="1057" y="0"/>
                      <a:pt x="1058" y="0"/>
                    </a:cubicBezTo>
                    <a:close/>
                    <a:moveTo>
                      <a:pt x="1066" y="0"/>
                    </a:moveTo>
                    <a:lnTo>
                      <a:pt x="1066" y="0"/>
                    </a:lnTo>
                    <a:cubicBezTo>
                      <a:pt x="1067" y="0"/>
                      <a:pt x="1068" y="1"/>
                      <a:pt x="1068" y="2"/>
                    </a:cubicBezTo>
                    <a:cubicBezTo>
                      <a:pt x="1068" y="3"/>
                      <a:pt x="1067" y="4"/>
                      <a:pt x="1066" y="4"/>
                    </a:cubicBezTo>
                    <a:lnTo>
                      <a:pt x="1066" y="4"/>
                    </a:lnTo>
                    <a:cubicBezTo>
                      <a:pt x="1065" y="4"/>
                      <a:pt x="1064" y="3"/>
                      <a:pt x="1064" y="2"/>
                    </a:cubicBezTo>
                    <a:cubicBezTo>
                      <a:pt x="1064" y="1"/>
                      <a:pt x="1065" y="0"/>
                      <a:pt x="1066" y="0"/>
                    </a:cubicBezTo>
                    <a:close/>
                    <a:moveTo>
                      <a:pt x="1074" y="0"/>
                    </a:moveTo>
                    <a:lnTo>
                      <a:pt x="1074" y="0"/>
                    </a:lnTo>
                    <a:cubicBezTo>
                      <a:pt x="1075" y="0"/>
                      <a:pt x="1076" y="1"/>
                      <a:pt x="1076" y="2"/>
                    </a:cubicBezTo>
                    <a:cubicBezTo>
                      <a:pt x="1076" y="3"/>
                      <a:pt x="1075" y="4"/>
                      <a:pt x="1074" y="4"/>
                    </a:cubicBezTo>
                    <a:lnTo>
                      <a:pt x="1074" y="4"/>
                    </a:lnTo>
                    <a:cubicBezTo>
                      <a:pt x="1073" y="4"/>
                      <a:pt x="1072" y="3"/>
                      <a:pt x="1072" y="2"/>
                    </a:cubicBezTo>
                    <a:cubicBezTo>
                      <a:pt x="1072" y="1"/>
                      <a:pt x="1073" y="0"/>
                      <a:pt x="1074" y="0"/>
                    </a:cubicBezTo>
                    <a:close/>
                    <a:moveTo>
                      <a:pt x="1082" y="0"/>
                    </a:moveTo>
                    <a:lnTo>
                      <a:pt x="1082" y="0"/>
                    </a:lnTo>
                    <a:cubicBezTo>
                      <a:pt x="1083" y="0"/>
                      <a:pt x="1084" y="1"/>
                      <a:pt x="1084" y="2"/>
                    </a:cubicBezTo>
                    <a:cubicBezTo>
                      <a:pt x="1084" y="3"/>
                      <a:pt x="1083" y="4"/>
                      <a:pt x="1082" y="4"/>
                    </a:cubicBezTo>
                    <a:lnTo>
                      <a:pt x="1082" y="4"/>
                    </a:lnTo>
                    <a:cubicBezTo>
                      <a:pt x="1081" y="4"/>
                      <a:pt x="1080" y="3"/>
                      <a:pt x="1080" y="2"/>
                    </a:cubicBezTo>
                    <a:cubicBezTo>
                      <a:pt x="1080" y="1"/>
                      <a:pt x="1081" y="0"/>
                      <a:pt x="1082" y="0"/>
                    </a:cubicBezTo>
                    <a:close/>
                    <a:moveTo>
                      <a:pt x="1090" y="0"/>
                    </a:moveTo>
                    <a:lnTo>
                      <a:pt x="1090" y="0"/>
                    </a:lnTo>
                    <a:cubicBezTo>
                      <a:pt x="1091" y="0"/>
                      <a:pt x="1092" y="1"/>
                      <a:pt x="1092" y="2"/>
                    </a:cubicBezTo>
                    <a:cubicBezTo>
                      <a:pt x="1092" y="3"/>
                      <a:pt x="1091" y="4"/>
                      <a:pt x="1090" y="4"/>
                    </a:cubicBezTo>
                    <a:lnTo>
                      <a:pt x="1090" y="4"/>
                    </a:lnTo>
                    <a:cubicBezTo>
                      <a:pt x="1089" y="4"/>
                      <a:pt x="1088" y="3"/>
                      <a:pt x="1088" y="2"/>
                    </a:cubicBezTo>
                    <a:cubicBezTo>
                      <a:pt x="1088" y="1"/>
                      <a:pt x="1089" y="0"/>
                      <a:pt x="1090" y="0"/>
                    </a:cubicBezTo>
                    <a:close/>
                    <a:moveTo>
                      <a:pt x="1098" y="0"/>
                    </a:moveTo>
                    <a:lnTo>
                      <a:pt x="1098" y="0"/>
                    </a:lnTo>
                    <a:cubicBezTo>
                      <a:pt x="1099" y="0"/>
                      <a:pt x="1100" y="1"/>
                      <a:pt x="1100" y="2"/>
                    </a:cubicBezTo>
                    <a:cubicBezTo>
                      <a:pt x="1100" y="3"/>
                      <a:pt x="1099" y="4"/>
                      <a:pt x="1098" y="4"/>
                    </a:cubicBezTo>
                    <a:lnTo>
                      <a:pt x="1098" y="4"/>
                    </a:lnTo>
                    <a:cubicBezTo>
                      <a:pt x="1097" y="4"/>
                      <a:pt x="1096" y="3"/>
                      <a:pt x="1096" y="2"/>
                    </a:cubicBezTo>
                    <a:cubicBezTo>
                      <a:pt x="1096" y="1"/>
                      <a:pt x="1097" y="0"/>
                      <a:pt x="1098" y="0"/>
                    </a:cubicBezTo>
                    <a:close/>
                    <a:moveTo>
                      <a:pt x="1106" y="0"/>
                    </a:moveTo>
                    <a:lnTo>
                      <a:pt x="1106" y="0"/>
                    </a:lnTo>
                    <a:cubicBezTo>
                      <a:pt x="1107" y="0"/>
                      <a:pt x="1108" y="1"/>
                      <a:pt x="1108" y="2"/>
                    </a:cubicBezTo>
                    <a:cubicBezTo>
                      <a:pt x="1108" y="3"/>
                      <a:pt x="1107" y="4"/>
                      <a:pt x="1106" y="4"/>
                    </a:cubicBezTo>
                    <a:lnTo>
                      <a:pt x="1106" y="4"/>
                    </a:lnTo>
                    <a:cubicBezTo>
                      <a:pt x="1105" y="4"/>
                      <a:pt x="1104" y="3"/>
                      <a:pt x="1104" y="2"/>
                    </a:cubicBezTo>
                    <a:cubicBezTo>
                      <a:pt x="1104" y="1"/>
                      <a:pt x="1105" y="0"/>
                      <a:pt x="1106" y="0"/>
                    </a:cubicBezTo>
                    <a:close/>
                    <a:moveTo>
                      <a:pt x="1114" y="0"/>
                    </a:moveTo>
                    <a:lnTo>
                      <a:pt x="1114" y="0"/>
                    </a:lnTo>
                    <a:cubicBezTo>
                      <a:pt x="1115" y="0"/>
                      <a:pt x="1116" y="1"/>
                      <a:pt x="1116" y="2"/>
                    </a:cubicBezTo>
                    <a:cubicBezTo>
                      <a:pt x="1116" y="3"/>
                      <a:pt x="1115" y="4"/>
                      <a:pt x="1114" y="4"/>
                    </a:cubicBezTo>
                    <a:lnTo>
                      <a:pt x="1114" y="4"/>
                    </a:lnTo>
                    <a:cubicBezTo>
                      <a:pt x="1113" y="4"/>
                      <a:pt x="1112" y="3"/>
                      <a:pt x="1112" y="2"/>
                    </a:cubicBezTo>
                    <a:cubicBezTo>
                      <a:pt x="1112" y="1"/>
                      <a:pt x="1113" y="0"/>
                      <a:pt x="1114" y="0"/>
                    </a:cubicBezTo>
                    <a:close/>
                    <a:moveTo>
                      <a:pt x="1122" y="0"/>
                    </a:moveTo>
                    <a:lnTo>
                      <a:pt x="1122" y="0"/>
                    </a:lnTo>
                    <a:cubicBezTo>
                      <a:pt x="1123" y="0"/>
                      <a:pt x="1124" y="1"/>
                      <a:pt x="1124" y="2"/>
                    </a:cubicBezTo>
                    <a:cubicBezTo>
                      <a:pt x="1124" y="3"/>
                      <a:pt x="1123" y="4"/>
                      <a:pt x="1122" y="4"/>
                    </a:cubicBezTo>
                    <a:lnTo>
                      <a:pt x="1122" y="4"/>
                    </a:lnTo>
                    <a:cubicBezTo>
                      <a:pt x="1121" y="4"/>
                      <a:pt x="1120" y="3"/>
                      <a:pt x="1120" y="2"/>
                    </a:cubicBezTo>
                    <a:cubicBezTo>
                      <a:pt x="1120" y="1"/>
                      <a:pt x="1121" y="0"/>
                      <a:pt x="1122" y="0"/>
                    </a:cubicBezTo>
                    <a:close/>
                    <a:moveTo>
                      <a:pt x="1130" y="0"/>
                    </a:moveTo>
                    <a:lnTo>
                      <a:pt x="1130" y="0"/>
                    </a:lnTo>
                    <a:cubicBezTo>
                      <a:pt x="1131" y="0"/>
                      <a:pt x="1132" y="1"/>
                      <a:pt x="1132" y="2"/>
                    </a:cubicBezTo>
                    <a:cubicBezTo>
                      <a:pt x="1132" y="3"/>
                      <a:pt x="1131" y="4"/>
                      <a:pt x="1130" y="4"/>
                    </a:cubicBezTo>
                    <a:lnTo>
                      <a:pt x="1130" y="4"/>
                    </a:lnTo>
                    <a:cubicBezTo>
                      <a:pt x="1129" y="4"/>
                      <a:pt x="1128" y="3"/>
                      <a:pt x="1128" y="2"/>
                    </a:cubicBezTo>
                    <a:cubicBezTo>
                      <a:pt x="1128" y="1"/>
                      <a:pt x="1129" y="0"/>
                      <a:pt x="1130" y="0"/>
                    </a:cubicBezTo>
                    <a:close/>
                    <a:moveTo>
                      <a:pt x="1138" y="0"/>
                    </a:moveTo>
                    <a:lnTo>
                      <a:pt x="1138" y="0"/>
                    </a:lnTo>
                    <a:cubicBezTo>
                      <a:pt x="1139" y="0"/>
                      <a:pt x="1140" y="1"/>
                      <a:pt x="1140" y="2"/>
                    </a:cubicBezTo>
                    <a:cubicBezTo>
                      <a:pt x="1140" y="3"/>
                      <a:pt x="1139" y="4"/>
                      <a:pt x="1138" y="4"/>
                    </a:cubicBezTo>
                    <a:lnTo>
                      <a:pt x="1138" y="4"/>
                    </a:lnTo>
                    <a:cubicBezTo>
                      <a:pt x="1137" y="4"/>
                      <a:pt x="1136" y="3"/>
                      <a:pt x="1136" y="2"/>
                    </a:cubicBezTo>
                    <a:cubicBezTo>
                      <a:pt x="1136" y="1"/>
                      <a:pt x="1137" y="0"/>
                      <a:pt x="1138" y="0"/>
                    </a:cubicBezTo>
                    <a:close/>
                    <a:moveTo>
                      <a:pt x="1146" y="0"/>
                    </a:moveTo>
                    <a:lnTo>
                      <a:pt x="1146" y="0"/>
                    </a:lnTo>
                    <a:cubicBezTo>
                      <a:pt x="1147" y="0"/>
                      <a:pt x="1148" y="1"/>
                      <a:pt x="1148" y="2"/>
                    </a:cubicBezTo>
                    <a:cubicBezTo>
                      <a:pt x="1148" y="3"/>
                      <a:pt x="1147" y="4"/>
                      <a:pt x="1146" y="4"/>
                    </a:cubicBezTo>
                    <a:lnTo>
                      <a:pt x="1146" y="4"/>
                    </a:lnTo>
                    <a:cubicBezTo>
                      <a:pt x="1145" y="4"/>
                      <a:pt x="1144" y="3"/>
                      <a:pt x="1144" y="2"/>
                    </a:cubicBezTo>
                    <a:cubicBezTo>
                      <a:pt x="1144" y="1"/>
                      <a:pt x="1145" y="0"/>
                      <a:pt x="1146" y="0"/>
                    </a:cubicBezTo>
                    <a:close/>
                    <a:moveTo>
                      <a:pt x="1154" y="0"/>
                    </a:moveTo>
                    <a:lnTo>
                      <a:pt x="1154" y="0"/>
                    </a:lnTo>
                    <a:cubicBezTo>
                      <a:pt x="1155" y="0"/>
                      <a:pt x="1156" y="1"/>
                      <a:pt x="1156" y="2"/>
                    </a:cubicBezTo>
                    <a:cubicBezTo>
                      <a:pt x="1156" y="3"/>
                      <a:pt x="1155" y="4"/>
                      <a:pt x="1154" y="4"/>
                    </a:cubicBezTo>
                    <a:lnTo>
                      <a:pt x="1154" y="4"/>
                    </a:lnTo>
                    <a:cubicBezTo>
                      <a:pt x="1153" y="4"/>
                      <a:pt x="1152" y="3"/>
                      <a:pt x="1152" y="2"/>
                    </a:cubicBezTo>
                    <a:cubicBezTo>
                      <a:pt x="1152" y="1"/>
                      <a:pt x="1153" y="0"/>
                      <a:pt x="1154" y="0"/>
                    </a:cubicBezTo>
                    <a:close/>
                    <a:moveTo>
                      <a:pt x="1162" y="0"/>
                    </a:moveTo>
                    <a:lnTo>
                      <a:pt x="1162" y="0"/>
                    </a:lnTo>
                    <a:cubicBezTo>
                      <a:pt x="1163" y="0"/>
                      <a:pt x="1164" y="1"/>
                      <a:pt x="1164" y="2"/>
                    </a:cubicBezTo>
                    <a:cubicBezTo>
                      <a:pt x="1164" y="3"/>
                      <a:pt x="1163" y="4"/>
                      <a:pt x="1162" y="4"/>
                    </a:cubicBezTo>
                    <a:lnTo>
                      <a:pt x="1162" y="4"/>
                    </a:lnTo>
                    <a:cubicBezTo>
                      <a:pt x="1161" y="4"/>
                      <a:pt x="1160" y="3"/>
                      <a:pt x="1160" y="2"/>
                    </a:cubicBezTo>
                    <a:cubicBezTo>
                      <a:pt x="1160" y="1"/>
                      <a:pt x="1161" y="0"/>
                      <a:pt x="1162" y="0"/>
                    </a:cubicBezTo>
                    <a:close/>
                    <a:moveTo>
                      <a:pt x="1170" y="0"/>
                    </a:moveTo>
                    <a:lnTo>
                      <a:pt x="1170" y="0"/>
                    </a:lnTo>
                    <a:cubicBezTo>
                      <a:pt x="1171" y="0"/>
                      <a:pt x="1172" y="1"/>
                      <a:pt x="1172" y="2"/>
                    </a:cubicBezTo>
                    <a:cubicBezTo>
                      <a:pt x="1172" y="3"/>
                      <a:pt x="1171" y="4"/>
                      <a:pt x="1170" y="4"/>
                    </a:cubicBezTo>
                    <a:lnTo>
                      <a:pt x="1170" y="4"/>
                    </a:lnTo>
                    <a:cubicBezTo>
                      <a:pt x="1169" y="4"/>
                      <a:pt x="1168" y="3"/>
                      <a:pt x="1168" y="2"/>
                    </a:cubicBezTo>
                    <a:cubicBezTo>
                      <a:pt x="1168" y="1"/>
                      <a:pt x="1169" y="0"/>
                      <a:pt x="1170" y="0"/>
                    </a:cubicBezTo>
                    <a:close/>
                    <a:moveTo>
                      <a:pt x="1178" y="0"/>
                    </a:moveTo>
                    <a:lnTo>
                      <a:pt x="1178" y="0"/>
                    </a:lnTo>
                    <a:cubicBezTo>
                      <a:pt x="1179" y="0"/>
                      <a:pt x="1180" y="1"/>
                      <a:pt x="1180" y="2"/>
                    </a:cubicBezTo>
                    <a:cubicBezTo>
                      <a:pt x="1180" y="3"/>
                      <a:pt x="1179" y="4"/>
                      <a:pt x="1178" y="4"/>
                    </a:cubicBezTo>
                    <a:lnTo>
                      <a:pt x="1178" y="4"/>
                    </a:lnTo>
                    <a:cubicBezTo>
                      <a:pt x="1177" y="4"/>
                      <a:pt x="1176" y="3"/>
                      <a:pt x="1176" y="2"/>
                    </a:cubicBezTo>
                    <a:cubicBezTo>
                      <a:pt x="1176" y="1"/>
                      <a:pt x="1177" y="0"/>
                      <a:pt x="1178" y="0"/>
                    </a:cubicBezTo>
                    <a:close/>
                    <a:moveTo>
                      <a:pt x="1186" y="0"/>
                    </a:moveTo>
                    <a:lnTo>
                      <a:pt x="1186" y="0"/>
                    </a:lnTo>
                    <a:cubicBezTo>
                      <a:pt x="1187" y="0"/>
                      <a:pt x="1188" y="1"/>
                      <a:pt x="1188" y="2"/>
                    </a:cubicBezTo>
                    <a:cubicBezTo>
                      <a:pt x="1188" y="3"/>
                      <a:pt x="1187" y="4"/>
                      <a:pt x="1186" y="4"/>
                    </a:cubicBezTo>
                    <a:lnTo>
                      <a:pt x="1186" y="4"/>
                    </a:lnTo>
                    <a:cubicBezTo>
                      <a:pt x="1185" y="4"/>
                      <a:pt x="1184" y="3"/>
                      <a:pt x="1184" y="2"/>
                    </a:cubicBezTo>
                    <a:cubicBezTo>
                      <a:pt x="1184" y="1"/>
                      <a:pt x="1185" y="0"/>
                      <a:pt x="1186" y="0"/>
                    </a:cubicBezTo>
                    <a:close/>
                    <a:moveTo>
                      <a:pt x="1194" y="0"/>
                    </a:moveTo>
                    <a:lnTo>
                      <a:pt x="1194" y="0"/>
                    </a:lnTo>
                    <a:cubicBezTo>
                      <a:pt x="1195" y="0"/>
                      <a:pt x="1196" y="1"/>
                      <a:pt x="1196" y="2"/>
                    </a:cubicBezTo>
                    <a:cubicBezTo>
                      <a:pt x="1196" y="3"/>
                      <a:pt x="1195" y="4"/>
                      <a:pt x="1194" y="4"/>
                    </a:cubicBezTo>
                    <a:lnTo>
                      <a:pt x="1194" y="4"/>
                    </a:lnTo>
                    <a:cubicBezTo>
                      <a:pt x="1193" y="4"/>
                      <a:pt x="1192" y="3"/>
                      <a:pt x="1192" y="2"/>
                    </a:cubicBezTo>
                    <a:cubicBezTo>
                      <a:pt x="1192" y="1"/>
                      <a:pt x="1193" y="0"/>
                      <a:pt x="1194" y="0"/>
                    </a:cubicBezTo>
                    <a:close/>
                    <a:moveTo>
                      <a:pt x="1202" y="0"/>
                    </a:moveTo>
                    <a:lnTo>
                      <a:pt x="1202" y="0"/>
                    </a:lnTo>
                    <a:cubicBezTo>
                      <a:pt x="1203" y="0"/>
                      <a:pt x="1204" y="1"/>
                      <a:pt x="1204" y="2"/>
                    </a:cubicBezTo>
                    <a:cubicBezTo>
                      <a:pt x="1204" y="3"/>
                      <a:pt x="1203" y="4"/>
                      <a:pt x="1202" y="4"/>
                    </a:cubicBezTo>
                    <a:lnTo>
                      <a:pt x="1202" y="4"/>
                    </a:lnTo>
                    <a:cubicBezTo>
                      <a:pt x="1201" y="4"/>
                      <a:pt x="1200" y="3"/>
                      <a:pt x="1200" y="2"/>
                    </a:cubicBezTo>
                    <a:cubicBezTo>
                      <a:pt x="1200" y="1"/>
                      <a:pt x="1201" y="0"/>
                      <a:pt x="1202" y="0"/>
                    </a:cubicBezTo>
                    <a:close/>
                    <a:moveTo>
                      <a:pt x="1210" y="0"/>
                    </a:moveTo>
                    <a:lnTo>
                      <a:pt x="1210" y="0"/>
                    </a:lnTo>
                    <a:cubicBezTo>
                      <a:pt x="1212" y="0"/>
                      <a:pt x="1212" y="1"/>
                      <a:pt x="1212" y="2"/>
                    </a:cubicBezTo>
                    <a:cubicBezTo>
                      <a:pt x="1212" y="3"/>
                      <a:pt x="1212" y="4"/>
                      <a:pt x="1210" y="4"/>
                    </a:cubicBezTo>
                    <a:lnTo>
                      <a:pt x="1210" y="4"/>
                    </a:lnTo>
                    <a:cubicBezTo>
                      <a:pt x="1209" y="4"/>
                      <a:pt x="1208" y="3"/>
                      <a:pt x="1208" y="2"/>
                    </a:cubicBezTo>
                    <a:cubicBezTo>
                      <a:pt x="1208" y="1"/>
                      <a:pt x="1209" y="0"/>
                      <a:pt x="1210" y="0"/>
                    </a:cubicBezTo>
                    <a:close/>
                    <a:moveTo>
                      <a:pt x="1218" y="0"/>
                    </a:moveTo>
                    <a:lnTo>
                      <a:pt x="1218" y="0"/>
                    </a:lnTo>
                    <a:cubicBezTo>
                      <a:pt x="1220" y="0"/>
                      <a:pt x="1220" y="1"/>
                      <a:pt x="1220" y="2"/>
                    </a:cubicBezTo>
                    <a:cubicBezTo>
                      <a:pt x="1220" y="3"/>
                      <a:pt x="1220" y="4"/>
                      <a:pt x="1218" y="4"/>
                    </a:cubicBezTo>
                    <a:lnTo>
                      <a:pt x="1218" y="4"/>
                    </a:lnTo>
                    <a:cubicBezTo>
                      <a:pt x="1217" y="4"/>
                      <a:pt x="1216" y="3"/>
                      <a:pt x="1216" y="2"/>
                    </a:cubicBezTo>
                    <a:cubicBezTo>
                      <a:pt x="1216" y="1"/>
                      <a:pt x="1217" y="0"/>
                      <a:pt x="1218" y="0"/>
                    </a:cubicBezTo>
                    <a:close/>
                    <a:moveTo>
                      <a:pt x="1226" y="0"/>
                    </a:moveTo>
                    <a:lnTo>
                      <a:pt x="1226" y="0"/>
                    </a:lnTo>
                    <a:cubicBezTo>
                      <a:pt x="1228" y="0"/>
                      <a:pt x="1228" y="1"/>
                      <a:pt x="1228" y="2"/>
                    </a:cubicBezTo>
                    <a:cubicBezTo>
                      <a:pt x="1228" y="3"/>
                      <a:pt x="1228" y="4"/>
                      <a:pt x="1226" y="4"/>
                    </a:cubicBezTo>
                    <a:lnTo>
                      <a:pt x="1226" y="4"/>
                    </a:lnTo>
                    <a:cubicBezTo>
                      <a:pt x="1225" y="4"/>
                      <a:pt x="1224" y="3"/>
                      <a:pt x="1224" y="2"/>
                    </a:cubicBezTo>
                    <a:cubicBezTo>
                      <a:pt x="1224" y="1"/>
                      <a:pt x="1225" y="0"/>
                      <a:pt x="1226" y="0"/>
                    </a:cubicBezTo>
                    <a:close/>
                    <a:moveTo>
                      <a:pt x="1234" y="0"/>
                    </a:moveTo>
                    <a:lnTo>
                      <a:pt x="1234" y="0"/>
                    </a:lnTo>
                    <a:cubicBezTo>
                      <a:pt x="1236" y="0"/>
                      <a:pt x="1236" y="1"/>
                      <a:pt x="1236" y="2"/>
                    </a:cubicBezTo>
                    <a:cubicBezTo>
                      <a:pt x="1236" y="3"/>
                      <a:pt x="1236" y="4"/>
                      <a:pt x="1234" y="4"/>
                    </a:cubicBezTo>
                    <a:lnTo>
                      <a:pt x="1234" y="4"/>
                    </a:lnTo>
                    <a:cubicBezTo>
                      <a:pt x="1233" y="4"/>
                      <a:pt x="1232" y="3"/>
                      <a:pt x="1232" y="2"/>
                    </a:cubicBezTo>
                    <a:cubicBezTo>
                      <a:pt x="1232" y="1"/>
                      <a:pt x="1233" y="0"/>
                      <a:pt x="1234" y="0"/>
                    </a:cubicBezTo>
                    <a:close/>
                    <a:moveTo>
                      <a:pt x="1242" y="0"/>
                    </a:moveTo>
                    <a:lnTo>
                      <a:pt x="1242" y="0"/>
                    </a:lnTo>
                    <a:cubicBezTo>
                      <a:pt x="1244" y="0"/>
                      <a:pt x="1244" y="1"/>
                      <a:pt x="1244" y="2"/>
                    </a:cubicBezTo>
                    <a:cubicBezTo>
                      <a:pt x="1244" y="3"/>
                      <a:pt x="1244" y="4"/>
                      <a:pt x="1242" y="4"/>
                    </a:cubicBezTo>
                    <a:lnTo>
                      <a:pt x="1242" y="4"/>
                    </a:lnTo>
                    <a:cubicBezTo>
                      <a:pt x="1241" y="4"/>
                      <a:pt x="1240" y="3"/>
                      <a:pt x="1240" y="2"/>
                    </a:cubicBezTo>
                    <a:cubicBezTo>
                      <a:pt x="1240" y="1"/>
                      <a:pt x="1241" y="0"/>
                      <a:pt x="1242" y="0"/>
                    </a:cubicBezTo>
                    <a:close/>
                    <a:moveTo>
                      <a:pt x="1250" y="0"/>
                    </a:moveTo>
                    <a:lnTo>
                      <a:pt x="1250" y="0"/>
                    </a:lnTo>
                    <a:cubicBezTo>
                      <a:pt x="1252" y="0"/>
                      <a:pt x="1252" y="1"/>
                      <a:pt x="1252" y="2"/>
                    </a:cubicBezTo>
                    <a:cubicBezTo>
                      <a:pt x="1252" y="3"/>
                      <a:pt x="1252" y="4"/>
                      <a:pt x="1250" y="4"/>
                    </a:cubicBezTo>
                    <a:lnTo>
                      <a:pt x="1250" y="4"/>
                    </a:lnTo>
                    <a:cubicBezTo>
                      <a:pt x="1249" y="4"/>
                      <a:pt x="1248" y="3"/>
                      <a:pt x="1248" y="2"/>
                    </a:cubicBezTo>
                    <a:cubicBezTo>
                      <a:pt x="1248" y="1"/>
                      <a:pt x="1249" y="0"/>
                      <a:pt x="1250" y="0"/>
                    </a:cubicBezTo>
                    <a:close/>
                    <a:moveTo>
                      <a:pt x="1258" y="0"/>
                    </a:moveTo>
                    <a:lnTo>
                      <a:pt x="1258" y="0"/>
                    </a:lnTo>
                    <a:cubicBezTo>
                      <a:pt x="1260" y="0"/>
                      <a:pt x="1260" y="1"/>
                      <a:pt x="1260" y="2"/>
                    </a:cubicBezTo>
                    <a:cubicBezTo>
                      <a:pt x="1260" y="3"/>
                      <a:pt x="1260" y="4"/>
                      <a:pt x="1258" y="4"/>
                    </a:cubicBezTo>
                    <a:lnTo>
                      <a:pt x="1258" y="4"/>
                    </a:lnTo>
                    <a:cubicBezTo>
                      <a:pt x="1257" y="4"/>
                      <a:pt x="1256" y="3"/>
                      <a:pt x="1256" y="2"/>
                    </a:cubicBezTo>
                    <a:cubicBezTo>
                      <a:pt x="1256" y="1"/>
                      <a:pt x="1257" y="0"/>
                      <a:pt x="1258" y="0"/>
                    </a:cubicBezTo>
                    <a:close/>
                    <a:moveTo>
                      <a:pt x="1266" y="0"/>
                    </a:moveTo>
                    <a:lnTo>
                      <a:pt x="1266" y="0"/>
                    </a:lnTo>
                    <a:cubicBezTo>
                      <a:pt x="1268" y="0"/>
                      <a:pt x="1268" y="1"/>
                      <a:pt x="1268" y="2"/>
                    </a:cubicBezTo>
                    <a:cubicBezTo>
                      <a:pt x="1268" y="3"/>
                      <a:pt x="1268" y="4"/>
                      <a:pt x="1266" y="4"/>
                    </a:cubicBezTo>
                    <a:lnTo>
                      <a:pt x="1266" y="4"/>
                    </a:lnTo>
                    <a:cubicBezTo>
                      <a:pt x="1265" y="4"/>
                      <a:pt x="1264" y="3"/>
                      <a:pt x="1264" y="2"/>
                    </a:cubicBezTo>
                    <a:cubicBezTo>
                      <a:pt x="1264" y="1"/>
                      <a:pt x="1265" y="0"/>
                      <a:pt x="1266" y="0"/>
                    </a:cubicBezTo>
                    <a:close/>
                    <a:moveTo>
                      <a:pt x="1274" y="0"/>
                    </a:moveTo>
                    <a:lnTo>
                      <a:pt x="1274" y="0"/>
                    </a:lnTo>
                    <a:cubicBezTo>
                      <a:pt x="1276" y="0"/>
                      <a:pt x="1276" y="1"/>
                      <a:pt x="1276" y="2"/>
                    </a:cubicBezTo>
                    <a:cubicBezTo>
                      <a:pt x="1276" y="3"/>
                      <a:pt x="1276" y="4"/>
                      <a:pt x="1274" y="4"/>
                    </a:cubicBezTo>
                    <a:lnTo>
                      <a:pt x="1274" y="4"/>
                    </a:lnTo>
                    <a:cubicBezTo>
                      <a:pt x="1273" y="4"/>
                      <a:pt x="1272" y="3"/>
                      <a:pt x="1272" y="2"/>
                    </a:cubicBezTo>
                    <a:cubicBezTo>
                      <a:pt x="1272" y="1"/>
                      <a:pt x="1273" y="0"/>
                      <a:pt x="1274" y="0"/>
                    </a:cubicBezTo>
                    <a:close/>
                    <a:moveTo>
                      <a:pt x="1282" y="0"/>
                    </a:moveTo>
                    <a:lnTo>
                      <a:pt x="1282" y="0"/>
                    </a:lnTo>
                    <a:cubicBezTo>
                      <a:pt x="1284" y="0"/>
                      <a:pt x="1284" y="1"/>
                      <a:pt x="1284" y="2"/>
                    </a:cubicBezTo>
                    <a:cubicBezTo>
                      <a:pt x="1284" y="3"/>
                      <a:pt x="1284" y="4"/>
                      <a:pt x="1282" y="4"/>
                    </a:cubicBezTo>
                    <a:lnTo>
                      <a:pt x="1282" y="4"/>
                    </a:lnTo>
                    <a:cubicBezTo>
                      <a:pt x="1281" y="4"/>
                      <a:pt x="1280" y="3"/>
                      <a:pt x="1280" y="2"/>
                    </a:cubicBezTo>
                    <a:cubicBezTo>
                      <a:pt x="1280" y="1"/>
                      <a:pt x="1281" y="0"/>
                      <a:pt x="1282" y="0"/>
                    </a:cubicBezTo>
                    <a:close/>
                    <a:moveTo>
                      <a:pt x="1290" y="0"/>
                    </a:moveTo>
                    <a:lnTo>
                      <a:pt x="1290" y="0"/>
                    </a:lnTo>
                    <a:cubicBezTo>
                      <a:pt x="1292" y="0"/>
                      <a:pt x="1292" y="1"/>
                      <a:pt x="1292" y="2"/>
                    </a:cubicBezTo>
                    <a:cubicBezTo>
                      <a:pt x="1292" y="3"/>
                      <a:pt x="1292" y="4"/>
                      <a:pt x="1290" y="4"/>
                    </a:cubicBezTo>
                    <a:lnTo>
                      <a:pt x="1290" y="4"/>
                    </a:lnTo>
                    <a:cubicBezTo>
                      <a:pt x="1289" y="4"/>
                      <a:pt x="1288" y="3"/>
                      <a:pt x="1288" y="2"/>
                    </a:cubicBezTo>
                    <a:cubicBezTo>
                      <a:pt x="1288" y="1"/>
                      <a:pt x="1289" y="0"/>
                      <a:pt x="1290" y="0"/>
                    </a:cubicBezTo>
                    <a:close/>
                    <a:moveTo>
                      <a:pt x="1298" y="0"/>
                    </a:moveTo>
                    <a:lnTo>
                      <a:pt x="1298" y="0"/>
                    </a:lnTo>
                    <a:cubicBezTo>
                      <a:pt x="1300" y="0"/>
                      <a:pt x="1300" y="1"/>
                      <a:pt x="1300" y="2"/>
                    </a:cubicBezTo>
                    <a:cubicBezTo>
                      <a:pt x="1300" y="3"/>
                      <a:pt x="1300" y="4"/>
                      <a:pt x="1298" y="4"/>
                    </a:cubicBezTo>
                    <a:lnTo>
                      <a:pt x="1298" y="4"/>
                    </a:lnTo>
                    <a:cubicBezTo>
                      <a:pt x="1297" y="4"/>
                      <a:pt x="1296" y="3"/>
                      <a:pt x="1296" y="2"/>
                    </a:cubicBezTo>
                    <a:cubicBezTo>
                      <a:pt x="1296" y="1"/>
                      <a:pt x="1297" y="0"/>
                      <a:pt x="1298" y="0"/>
                    </a:cubicBezTo>
                    <a:close/>
                    <a:moveTo>
                      <a:pt x="1306" y="0"/>
                    </a:moveTo>
                    <a:lnTo>
                      <a:pt x="1306" y="0"/>
                    </a:lnTo>
                    <a:cubicBezTo>
                      <a:pt x="1308" y="0"/>
                      <a:pt x="1308" y="1"/>
                      <a:pt x="1308" y="2"/>
                    </a:cubicBezTo>
                    <a:cubicBezTo>
                      <a:pt x="1308" y="3"/>
                      <a:pt x="1308" y="4"/>
                      <a:pt x="1306" y="4"/>
                    </a:cubicBezTo>
                    <a:lnTo>
                      <a:pt x="1306" y="4"/>
                    </a:lnTo>
                    <a:cubicBezTo>
                      <a:pt x="1305" y="4"/>
                      <a:pt x="1304" y="3"/>
                      <a:pt x="1304" y="2"/>
                    </a:cubicBezTo>
                    <a:cubicBezTo>
                      <a:pt x="1304" y="1"/>
                      <a:pt x="1305" y="0"/>
                      <a:pt x="1306" y="0"/>
                    </a:cubicBezTo>
                    <a:close/>
                    <a:moveTo>
                      <a:pt x="1314" y="0"/>
                    </a:moveTo>
                    <a:lnTo>
                      <a:pt x="1314" y="0"/>
                    </a:lnTo>
                    <a:cubicBezTo>
                      <a:pt x="1316" y="0"/>
                      <a:pt x="1316" y="1"/>
                      <a:pt x="1316" y="2"/>
                    </a:cubicBezTo>
                    <a:cubicBezTo>
                      <a:pt x="1316" y="3"/>
                      <a:pt x="1316" y="4"/>
                      <a:pt x="1314" y="4"/>
                    </a:cubicBezTo>
                    <a:lnTo>
                      <a:pt x="1314" y="4"/>
                    </a:lnTo>
                    <a:cubicBezTo>
                      <a:pt x="1313" y="4"/>
                      <a:pt x="1312" y="3"/>
                      <a:pt x="1312" y="2"/>
                    </a:cubicBezTo>
                    <a:cubicBezTo>
                      <a:pt x="1312" y="1"/>
                      <a:pt x="1313" y="0"/>
                      <a:pt x="1314" y="0"/>
                    </a:cubicBezTo>
                    <a:close/>
                    <a:moveTo>
                      <a:pt x="1322" y="0"/>
                    </a:moveTo>
                    <a:lnTo>
                      <a:pt x="1322" y="0"/>
                    </a:lnTo>
                    <a:cubicBezTo>
                      <a:pt x="1324" y="0"/>
                      <a:pt x="1324" y="1"/>
                      <a:pt x="1324" y="2"/>
                    </a:cubicBezTo>
                    <a:cubicBezTo>
                      <a:pt x="1324" y="3"/>
                      <a:pt x="1324" y="4"/>
                      <a:pt x="1322" y="4"/>
                    </a:cubicBezTo>
                    <a:lnTo>
                      <a:pt x="1322" y="4"/>
                    </a:lnTo>
                    <a:cubicBezTo>
                      <a:pt x="1321" y="4"/>
                      <a:pt x="1320" y="3"/>
                      <a:pt x="1320" y="2"/>
                    </a:cubicBezTo>
                    <a:cubicBezTo>
                      <a:pt x="1320" y="1"/>
                      <a:pt x="1321" y="0"/>
                      <a:pt x="1322" y="0"/>
                    </a:cubicBezTo>
                    <a:close/>
                    <a:moveTo>
                      <a:pt x="1330" y="0"/>
                    </a:moveTo>
                    <a:lnTo>
                      <a:pt x="1330" y="0"/>
                    </a:lnTo>
                    <a:cubicBezTo>
                      <a:pt x="1332" y="0"/>
                      <a:pt x="1332" y="1"/>
                      <a:pt x="1332" y="2"/>
                    </a:cubicBezTo>
                    <a:cubicBezTo>
                      <a:pt x="1332" y="3"/>
                      <a:pt x="1332" y="4"/>
                      <a:pt x="1330" y="4"/>
                    </a:cubicBezTo>
                    <a:lnTo>
                      <a:pt x="1330" y="4"/>
                    </a:lnTo>
                    <a:cubicBezTo>
                      <a:pt x="1329" y="4"/>
                      <a:pt x="1328" y="3"/>
                      <a:pt x="1328" y="2"/>
                    </a:cubicBezTo>
                    <a:cubicBezTo>
                      <a:pt x="1328" y="1"/>
                      <a:pt x="1329" y="0"/>
                      <a:pt x="1330" y="0"/>
                    </a:cubicBezTo>
                    <a:close/>
                    <a:moveTo>
                      <a:pt x="1338" y="0"/>
                    </a:moveTo>
                    <a:lnTo>
                      <a:pt x="1338" y="0"/>
                    </a:lnTo>
                    <a:cubicBezTo>
                      <a:pt x="1340" y="0"/>
                      <a:pt x="1340" y="1"/>
                      <a:pt x="1340" y="2"/>
                    </a:cubicBezTo>
                    <a:cubicBezTo>
                      <a:pt x="1340" y="3"/>
                      <a:pt x="1340" y="4"/>
                      <a:pt x="1338" y="4"/>
                    </a:cubicBezTo>
                    <a:lnTo>
                      <a:pt x="1338" y="4"/>
                    </a:lnTo>
                    <a:cubicBezTo>
                      <a:pt x="1337" y="4"/>
                      <a:pt x="1336" y="3"/>
                      <a:pt x="1336" y="2"/>
                    </a:cubicBezTo>
                    <a:cubicBezTo>
                      <a:pt x="1336" y="1"/>
                      <a:pt x="1337" y="0"/>
                      <a:pt x="1338" y="0"/>
                    </a:cubicBezTo>
                    <a:close/>
                    <a:moveTo>
                      <a:pt x="1346" y="0"/>
                    </a:moveTo>
                    <a:lnTo>
                      <a:pt x="1346" y="0"/>
                    </a:lnTo>
                    <a:cubicBezTo>
                      <a:pt x="1348" y="0"/>
                      <a:pt x="1348" y="1"/>
                      <a:pt x="1348" y="2"/>
                    </a:cubicBezTo>
                    <a:cubicBezTo>
                      <a:pt x="1348" y="3"/>
                      <a:pt x="1348" y="4"/>
                      <a:pt x="1346" y="4"/>
                    </a:cubicBezTo>
                    <a:lnTo>
                      <a:pt x="1346" y="4"/>
                    </a:lnTo>
                    <a:cubicBezTo>
                      <a:pt x="1345" y="4"/>
                      <a:pt x="1344" y="3"/>
                      <a:pt x="1344" y="2"/>
                    </a:cubicBezTo>
                    <a:cubicBezTo>
                      <a:pt x="1344" y="1"/>
                      <a:pt x="1345" y="0"/>
                      <a:pt x="1346" y="0"/>
                    </a:cubicBezTo>
                    <a:close/>
                    <a:moveTo>
                      <a:pt x="1354" y="0"/>
                    </a:moveTo>
                    <a:lnTo>
                      <a:pt x="1354" y="0"/>
                    </a:lnTo>
                    <a:cubicBezTo>
                      <a:pt x="1356" y="0"/>
                      <a:pt x="1356" y="1"/>
                      <a:pt x="1356" y="2"/>
                    </a:cubicBezTo>
                    <a:cubicBezTo>
                      <a:pt x="1356" y="3"/>
                      <a:pt x="1356" y="4"/>
                      <a:pt x="1354" y="4"/>
                    </a:cubicBezTo>
                    <a:lnTo>
                      <a:pt x="1354" y="4"/>
                    </a:lnTo>
                    <a:cubicBezTo>
                      <a:pt x="1353" y="4"/>
                      <a:pt x="1352" y="3"/>
                      <a:pt x="1352" y="2"/>
                    </a:cubicBezTo>
                    <a:cubicBezTo>
                      <a:pt x="1352" y="1"/>
                      <a:pt x="1353" y="0"/>
                      <a:pt x="1354" y="0"/>
                    </a:cubicBezTo>
                    <a:close/>
                    <a:moveTo>
                      <a:pt x="1362" y="0"/>
                    </a:moveTo>
                    <a:lnTo>
                      <a:pt x="1362" y="0"/>
                    </a:lnTo>
                    <a:cubicBezTo>
                      <a:pt x="1364" y="0"/>
                      <a:pt x="1364" y="1"/>
                      <a:pt x="1364" y="2"/>
                    </a:cubicBezTo>
                    <a:cubicBezTo>
                      <a:pt x="1364" y="3"/>
                      <a:pt x="1364" y="4"/>
                      <a:pt x="1362" y="4"/>
                    </a:cubicBezTo>
                    <a:lnTo>
                      <a:pt x="1362" y="4"/>
                    </a:lnTo>
                    <a:cubicBezTo>
                      <a:pt x="1361" y="4"/>
                      <a:pt x="1360" y="3"/>
                      <a:pt x="1360" y="2"/>
                    </a:cubicBezTo>
                    <a:cubicBezTo>
                      <a:pt x="1360" y="1"/>
                      <a:pt x="1361" y="0"/>
                      <a:pt x="1362" y="0"/>
                    </a:cubicBezTo>
                    <a:close/>
                    <a:moveTo>
                      <a:pt x="1370" y="0"/>
                    </a:moveTo>
                    <a:lnTo>
                      <a:pt x="1370" y="0"/>
                    </a:lnTo>
                    <a:cubicBezTo>
                      <a:pt x="1372" y="0"/>
                      <a:pt x="1372" y="1"/>
                      <a:pt x="1372" y="2"/>
                    </a:cubicBezTo>
                    <a:cubicBezTo>
                      <a:pt x="1372" y="3"/>
                      <a:pt x="1372" y="4"/>
                      <a:pt x="1370" y="4"/>
                    </a:cubicBezTo>
                    <a:lnTo>
                      <a:pt x="1370" y="4"/>
                    </a:lnTo>
                    <a:cubicBezTo>
                      <a:pt x="1369" y="4"/>
                      <a:pt x="1368" y="3"/>
                      <a:pt x="1368" y="2"/>
                    </a:cubicBezTo>
                    <a:cubicBezTo>
                      <a:pt x="1368" y="1"/>
                      <a:pt x="1369" y="0"/>
                      <a:pt x="1370" y="0"/>
                    </a:cubicBezTo>
                    <a:close/>
                    <a:moveTo>
                      <a:pt x="1378" y="0"/>
                    </a:moveTo>
                    <a:lnTo>
                      <a:pt x="1378" y="0"/>
                    </a:lnTo>
                    <a:cubicBezTo>
                      <a:pt x="1380" y="0"/>
                      <a:pt x="1380" y="1"/>
                      <a:pt x="1380" y="2"/>
                    </a:cubicBezTo>
                    <a:cubicBezTo>
                      <a:pt x="1380" y="3"/>
                      <a:pt x="1380" y="4"/>
                      <a:pt x="1378" y="4"/>
                    </a:cubicBezTo>
                    <a:lnTo>
                      <a:pt x="1378" y="4"/>
                    </a:lnTo>
                    <a:cubicBezTo>
                      <a:pt x="1377" y="4"/>
                      <a:pt x="1376" y="3"/>
                      <a:pt x="1376" y="2"/>
                    </a:cubicBezTo>
                    <a:cubicBezTo>
                      <a:pt x="1376" y="1"/>
                      <a:pt x="1377" y="0"/>
                      <a:pt x="1378" y="0"/>
                    </a:cubicBezTo>
                    <a:close/>
                    <a:moveTo>
                      <a:pt x="1386" y="0"/>
                    </a:moveTo>
                    <a:lnTo>
                      <a:pt x="1386" y="0"/>
                    </a:lnTo>
                    <a:cubicBezTo>
                      <a:pt x="1388" y="0"/>
                      <a:pt x="1388" y="1"/>
                      <a:pt x="1388" y="2"/>
                    </a:cubicBezTo>
                    <a:cubicBezTo>
                      <a:pt x="1388" y="3"/>
                      <a:pt x="1388" y="4"/>
                      <a:pt x="1386" y="4"/>
                    </a:cubicBezTo>
                    <a:lnTo>
                      <a:pt x="1386" y="4"/>
                    </a:lnTo>
                    <a:cubicBezTo>
                      <a:pt x="1385" y="4"/>
                      <a:pt x="1384" y="3"/>
                      <a:pt x="1384" y="2"/>
                    </a:cubicBezTo>
                    <a:cubicBezTo>
                      <a:pt x="1384" y="1"/>
                      <a:pt x="1385" y="0"/>
                      <a:pt x="1386" y="0"/>
                    </a:cubicBezTo>
                    <a:close/>
                    <a:moveTo>
                      <a:pt x="1394" y="0"/>
                    </a:moveTo>
                    <a:lnTo>
                      <a:pt x="1394" y="0"/>
                    </a:lnTo>
                    <a:cubicBezTo>
                      <a:pt x="1396" y="0"/>
                      <a:pt x="1396" y="1"/>
                      <a:pt x="1396" y="2"/>
                    </a:cubicBezTo>
                    <a:cubicBezTo>
                      <a:pt x="1396" y="3"/>
                      <a:pt x="1396" y="4"/>
                      <a:pt x="1394" y="4"/>
                    </a:cubicBezTo>
                    <a:lnTo>
                      <a:pt x="1394" y="4"/>
                    </a:lnTo>
                    <a:cubicBezTo>
                      <a:pt x="1393" y="4"/>
                      <a:pt x="1392" y="3"/>
                      <a:pt x="1392" y="2"/>
                    </a:cubicBezTo>
                    <a:cubicBezTo>
                      <a:pt x="1392" y="1"/>
                      <a:pt x="1393" y="0"/>
                      <a:pt x="1394" y="0"/>
                    </a:cubicBezTo>
                    <a:close/>
                    <a:moveTo>
                      <a:pt x="1402" y="0"/>
                    </a:moveTo>
                    <a:lnTo>
                      <a:pt x="1402" y="0"/>
                    </a:lnTo>
                    <a:cubicBezTo>
                      <a:pt x="1404" y="0"/>
                      <a:pt x="1404" y="1"/>
                      <a:pt x="1404" y="2"/>
                    </a:cubicBezTo>
                    <a:cubicBezTo>
                      <a:pt x="1404" y="3"/>
                      <a:pt x="1404" y="4"/>
                      <a:pt x="1402" y="4"/>
                    </a:cubicBezTo>
                    <a:lnTo>
                      <a:pt x="1402" y="4"/>
                    </a:lnTo>
                    <a:cubicBezTo>
                      <a:pt x="1401" y="4"/>
                      <a:pt x="1400" y="3"/>
                      <a:pt x="1400" y="2"/>
                    </a:cubicBezTo>
                    <a:cubicBezTo>
                      <a:pt x="1400" y="1"/>
                      <a:pt x="1401" y="0"/>
                      <a:pt x="1402" y="0"/>
                    </a:cubicBezTo>
                    <a:close/>
                    <a:moveTo>
                      <a:pt x="1410" y="0"/>
                    </a:moveTo>
                    <a:lnTo>
                      <a:pt x="1410" y="0"/>
                    </a:lnTo>
                    <a:cubicBezTo>
                      <a:pt x="1412" y="0"/>
                      <a:pt x="1412" y="1"/>
                      <a:pt x="1412" y="2"/>
                    </a:cubicBezTo>
                    <a:cubicBezTo>
                      <a:pt x="1412" y="3"/>
                      <a:pt x="1412" y="4"/>
                      <a:pt x="1410" y="4"/>
                    </a:cubicBezTo>
                    <a:lnTo>
                      <a:pt x="1410" y="4"/>
                    </a:lnTo>
                    <a:cubicBezTo>
                      <a:pt x="1409" y="4"/>
                      <a:pt x="1408" y="3"/>
                      <a:pt x="1408" y="2"/>
                    </a:cubicBezTo>
                    <a:cubicBezTo>
                      <a:pt x="1408" y="1"/>
                      <a:pt x="1409" y="0"/>
                      <a:pt x="1410" y="0"/>
                    </a:cubicBezTo>
                    <a:close/>
                    <a:moveTo>
                      <a:pt x="1418" y="0"/>
                    </a:moveTo>
                    <a:lnTo>
                      <a:pt x="1418" y="0"/>
                    </a:lnTo>
                    <a:cubicBezTo>
                      <a:pt x="1420" y="0"/>
                      <a:pt x="1420" y="1"/>
                      <a:pt x="1420" y="2"/>
                    </a:cubicBezTo>
                    <a:cubicBezTo>
                      <a:pt x="1420" y="3"/>
                      <a:pt x="1420" y="4"/>
                      <a:pt x="1418" y="4"/>
                    </a:cubicBezTo>
                    <a:lnTo>
                      <a:pt x="1418" y="4"/>
                    </a:lnTo>
                    <a:cubicBezTo>
                      <a:pt x="1417" y="4"/>
                      <a:pt x="1416" y="3"/>
                      <a:pt x="1416" y="2"/>
                    </a:cubicBezTo>
                    <a:cubicBezTo>
                      <a:pt x="1416" y="1"/>
                      <a:pt x="1417" y="0"/>
                      <a:pt x="1418" y="0"/>
                    </a:cubicBezTo>
                    <a:close/>
                    <a:moveTo>
                      <a:pt x="1426" y="0"/>
                    </a:moveTo>
                    <a:lnTo>
                      <a:pt x="1427" y="0"/>
                    </a:lnTo>
                    <a:cubicBezTo>
                      <a:pt x="1428" y="0"/>
                      <a:pt x="1429" y="1"/>
                      <a:pt x="1429" y="2"/>
                    </a:cubicBezTo>
                    <a:cubicBezTo>
                      <a:pt x="1429" y="3"/>
                      <a:pt x="1428" y="4"/>
                      <a:pt x="1427" y="4"/>
                    </a:cubicBezTo>
                    <a:lnTo>
                      <a:pt x="1426" y="4"/>
                    </a:lnTo>
                    <a:cubicBezTo>
                      <a:pt x="1425" y="4"/>
                      <a:pt x="1424" y="3"/>
                      <a:pt x="1424" y="2"/>
                    </a:cubicBezTo>
                    <a:cubicBezTo>
                      <a:pt x="1424" y="1"/>
                      <a:pt x="1425" y="0"/>
                      <a:pt x="1426" y="0"/>
                    </a:cubicBezTo>
                    <a:close/>
                    <a:moveTo>
                      <a:pt x="1435" y="0"/>
                    </a:moveTo>
                    <a:lnTo>
                      <a:pt x="1435" y="0"/>
                    </a:lnTo>
                    <a:cubicBezTo>
                      <a:pt x="1436" y="0"/>
                      <a:pt x="1437" y="1"/>
                      <a:pt x="1437" y="2"/>
                    </a:cubicBezTo>
                    <a:cubicBezTo>
                      <a:pt x="1437" y="3"/>
                      <a:pt x="1436" y="4"/>
                      <a:pt x="1435" y="4"/>
                    </a:cubicBezTo>
                    <a:lnTo>
                      <a:pt x="1435" y="4"/>
                    </a:lnTo>
                    <a:cubicBezTo>
                      <a:pt x="1433" y="4"/>
                      <a:pt x="1433" y="3"/>
                      <a:pt x="1433" y="2"/>
                    </a:cubicBezTo>
                    <a:cubicBezTo>
                      <a:pt x="1433" y="1"/>
                      <a:pt x="1433" y="0"/>
                      <a:pt x="1435" y="0"/>
                    </a:cubicBezTo>
                    <a:close/>
                    <a:moveTo>
                      <a:pt x="1443" y="0"/>
                    </a:moveTo>
                    <a:lnTo>
                      <a:pt x="1443" y="0"/>
                    </a:lnTo>
                    <a:cubicBezTo>
                      <a:pt x="1444" y="0"/>
                      <a:pt x="1445" y="1"/>
                      <a:pt x="1445" y="2"/>
                    </a:cubicBezTo>
                    <a:cubicBezTo>
                      <a:pt x="1445" y="3"/>
                      <a:pt x="1444" y="4"/>
                      <a:pt x="1443" y="4"/>
                    </a:cubicBezTo>
                    <a:lnTo>
                      <a:pt x="1443" y="4"/>
                    </a:lnTo>
                    <a:cubicBezTo>
                      <a:pt x="1441" y="4"/>
                      <a:pt x="1441" y="3"/>
                      <a:pt x="1441" y="2"/>
                    </a:cubicBezTo>
                    <a:cubicBezTo>
                      <a:pt x="1441" y="1"/>
                      <a:pt x="1441" y="0"/>
                      <a:pt x="1443" y="0"/>
                    </a:cubicBezTo>
                    <a:close/>
                    <a:moveTo>
                      <a:pt x="1451" y="0"/>
                    </a:moveTo>
                    <a:lnTo>
                      <a:pt x="1451" y="0"/>
                    </a:lnTo>
                    <a:cubicBezTo>
                      <a:pt x="1452" y="0"/>
                      <a:pt x="1453" y="1"/>
                      <a:pt x="1453" y="2"/>
                    </a:cubicBezTo>
                    <a:cubicBezTo>
                      <a:pt x="1453" y="3"/>
                      <a:pt x="1452" y="4"/>
                      <a:pt x="1451" y="4"/>
                    </a:cubicBezTo>
                    <a:lnTo>
                      <a:pt x="1451" y="4"/>
                    </a:lnTo>
                    <a:cubicBezTo>
                      <a:pt x="1449" y="4"/>
                      <a:pt x="1449" y="3"/>
                      <a:pt x="1449" y="2"/>
                    </a:cubicBezTo>
                    <a:cubicBezTo>
                      <a:pt x="1449" y="1"/>
                      <a:pt x="1449" y="0"/>
                      <a:pt x="1451" y="0"/>
                    </a:cubicBezTo>
                    <a:close/>
                    <a:moveTo>
                      <a:pt x="1459" y="0"/>
                    </a:moveTo>
                    <a:lnTo>
                      <a:pt x="1459" y="0"/>
                    </a:lnTo>
                    <a:cubicBezTo>
                      <a:pt x="1460" y="0"/>
                      <a:pt x="1461" y="1"/>
                      <a:pt x="1461" y="2"/>
                    </a:cubicBezTo>
                    <a:cubicBezTo>
                      <a:pt x="1461" y="3"/>
                      <a:pt x="1460" y="4"/>
                      <a:pt x="1459" y="4"/>
                    </a:cubicBezTo>
                    <a:lnTo>
                      <a:pt x="1459" y="4"/>
                    </a:lnTo>
                    <a:cubicBezTo>
                      <a:pt x="1457" y="4"/>
                      <a:pt x="1457" y="3"/>
                      <a:pt x="1457" y="2"/>
                    </a:cubicBezTo>
                    <a:cubicBezTo>
                      <a:pt x="1457" y="1"/>
                      <a:pt x="1457" y="0"/>
                      <a:pt x="1459" y="0"/>
                    </a:cubicBezTo>
                    <a:close/>
                    <a:moveTo>
                      <a:pt x="1467" y="0"/>
                    </a:moveTo>
                    <a:lnTo>
                      <a:pt x="1467" y="0"/>
                    </a:lnTo>
                    <a:cubicBezTo>
                      <a:pt x="1468" y="0"/>
                      <a:pt x="1469" y="1"/>
                      <a:pt x="1469" y="2"/>
                    </a:cubicBezTo>
                    <a:cubicBezTo>
                      <a:pt x="1469" y="3"/>
                      <a:pt x="1468" y="4"/>
                      <a:pt x="1467" y="4"/>
                    </a:cubicBezTo>
                    <a:lnTo>
                      <a:pt x="1467" y="4"/>
                    </a:lnTo>
                    <a:cubicBezTo>
                      <a:pt x="1465" y="4"/>
                      <a:pt x="1465" y="3"/>
                      <a:pt x="1465" y="2"/>
                    </a:cubicBezTo>
                    <a:cubicBezTo>
                      <a:pt x="1465" y="1"/>
                      <a:pt x="1465" y="0"/>
                      <a:pt x="1467" y="0"/>
                    </a:cubicBezTo>
                    <a:close/>
                    <a:moveTo>
                      <a:pt x="1475" y="0"/>
                    </a:moveTo>
                    <a:lnTo>
                      <a:pt x="1475" y="0"/>
                    </a:lnTo>
                    <a:cubicBezTo>
                      <a:pt x="1476" y="0"/>
                      <a:pt x="1477" y="1"/>
                      <a:pt x="1477" y="2"/>
                    </a:cubicBezTo>
                    <a:cubicBezTo>
                      <a:pt x="1477" y="3"/>
                      <a:pt x="1476" y="4"/>
                      <a:pt x="1475" y="4"/>
                    </a:cubicBezTo>
                    <a:lnTo>
                      <a:pt x="1475" y="4"/>
                    </a:lnTo>
                    <a:cubicBezTo>
                      <a:pt x="1473" y="4"/>
                      <a:pt x="1473" y="3"/>
                      <a:pt x="1473" y="2"/>
                    </a:cubicBezTo>
                    <a:cubicBezTo>
                      <a:pt x="1473" y="1"/>
                      <a:pt x="1473" y="0"/>
                      <a:pt x="1475" y="0"/>
                    </a:cubicBezTo>
                    <a:close/>
                    <a:moveTo>
                      <a:pt x="1483" y="0"/>
                    </a:moveTo>
                    <a:lnTo>
                      <a:pt x="1483" y="0"/>
                    </a:lnTo>
                    <a:cubicBezTo>
                      <a:pt x="1484" y="0"/>
                      <a:pt x="1485" y="1"/>
                      <a:pt x="1485" y="2"/>
                    </a:cubicBezTo>
                    <a:cubicBezTo>
                      <a:pt x="1485" y="3"/>
                      <a:pt x="1484" y="4"/>
                      <a:pt x="1483" y="4"/>
                    </a:cubicBezTo>
                    <a:lnTo>
                      <a:pt x="1483" y="4"/>
                    </a:lnTo>
                    <a:cubicBezTo>
                      <a:pt x="1481" y="4"/>
                      <a:pt x="1481" y="3"/>
                      <a:pt x="1481" y="2"/>
                    </a:cubicBezTo>
                    <a:cubicBezTo>
                      <a:pt x="1481" y="1"/>
                      <a:pt x="1481" y="0"/>
                      <a:pt x="1483" y="0"/>
                    </a:cubicBezTo>
                    <a:close/>
                    <a:moveTo>
                      <a:pt x="1491" y="0"/>
                    </a:moveTo>
                    <a:lnTo>
                      <a:pt x="1491" y="0"/>
                    </a:lnTo>
                    <a:cubicBezTo>
                      <a:pt x="1492" y="0"/>
                      <a:pt x="1493" y="1"/>
                      <a:pt x="1493" y="2"/>
                    </a:cubicBezTo>
                    <a:cubicBezTo>
                      <a:pt x="1493" y="3"/>
                      <a:pt x="1492" y="4"/>
                      <a:pt x="1491" y="4"/>
                    </a:cubicBezTo>
                    <a:lnTo>
                      <a:pt x="1491" y="4"/>
                    </a:lnTo>
                    <a:cubicBezTo>
                      <a:pt x="1489" y="4"/>
                      <a:pt x="1489" y="3"/>
                      <a:pt x="1489" y="2"/>
                    </a:cubicBezTo>
                    <a:cubicBezTo>
                      <a:pt x="1489" y="1"/>
                      <a:pt x="1489" y="0"/>
                      <a:pt x="1491" y="0"/>
                    </a:cubicBezTo>
                    <a:close/>
                    <a:moveTo>
                      <a:pt x="1499" y="0"/>
                    </a:moveTo>
                    <a:lnTo>
                      <a:pt x="1499" y="0"/>
                    </a:lnTo>
                    <a:cubicBezTo>
                      <a:pt x="1500" y="0"/>
                      <a:pt x="1501" y="1"/>
                      <a:pt x="1501" y="2"/>
                    </a:cubicBezTo>
                    <a:cubicBezTo>
                      <a:pt x="1501" y="3"/>
                      <a:pt x="1500" y="4"/>
                      <a:pt x="1499" y="4"/>
                    </a:cubicBezTo>
                    <a:lnTo>
                      <a:pt x="1499" y="4"/>
                    </a:lnTo>
                    <a:cubicBezTo>
                      <a:pt x="1497" y="4"/>
                      <a:pt x="1497" y="3"/>
                      <a:pt x="1497" y="2"/>
                    </a:cubicBezTo>
                    <a:cubicBezTo>
                      <a:pt x="1497" y="1"/>
                      <a:pt x="1497" y="0"/>
                      <a:pt x="1499" y="0"/>
                    </a:cubicBezTo>
                    <a:close/>
                    <a:moveTo>
                      <a:pt x="1507" y="0"/>
                    </a:moveTo>
                    <a:lnTo>
                      <a:pt x="1507" y="0"/>
                    </a:lnTo>
                    <a:cubicBezTo>
                      <a:pt x="1508" y="0"/>
                      <a:pt x="1509" y="1"/>
                      <a:pt x="1509" y="2"/>
                    </a:cubicBezTo>
                    <a:cubicBezTo>
                      <a:pt x="1509" y="3"/>
                      <a:pt x="1508" y="4"/>
                      <a:pt x="1507" y="4"/>
                    </a:cubicBezTo>
                    <a:lnTo>
                      <a:pt x="1507" y="4"/>
                    </a:lnTo>
                    <a:cubicBezTo>
                      <a:pt x="1505" y="4"/>
                      <a:pt x="1505" y="3"/>
                      <a:pt x="1505" y="2"/>
                    </a:cubicBezTo>
                    <a:cubicBezTo>
                      <a:pt x="1505" y="1"/>
                      <a:pt x="1505" y="0"/>
                      <a:pt x="1507" y="0"/>
                    </a:cubicBezTo>
                    <a:close/>
                    <a:moveTo>
                      <a:pt x="1515" y="0"/>
                    </a:moveTo>
                    <a:lnTo>
                      <a:pt x="1515" y="0"/>
                    </a:lnTo>
                    <a:cubicBezTo>
                      <a:pt x="1516" y="0"/>
                      <a:pt x="1517" y="1"/>
                      <a:pt x="1517" y="2"/>
                    </a:cubicBezTo>
                    <a:cubicBezTo>
                      <a:pt x="1517" y="3"/>
                      <a:pt x="1516" y="4"/>
                      <a:pt x="1515" y="4"/>
                    </a:cubicBezTo>
                    <a:lnTo>
                      <a:pt x="1515" y="4"/>
                    </a:lnTo>
                    <a:cubicBezTo>
                      <a:pt x="1513" y="4"/>
                      <a:pt x="1513" y="3"/>
                      <a:pt x="1513" y="2"/>
                    </a:cubicBezTo>
                    <a:cubicBezTo>
                      <a:pt x="1513" y="1"/>
                      <a:pt x="1513" y="0"/>
                      <a:pt x="1515" y="0"/>
                    </a:cubicBezTo>
                    <a:close/>
                    <a:moveTo>
                      <a:pt x="1523" y="0"/>
                    </a:moveTo>
                    <a:lnTo>
                      <a:pt x="1523" y="0"/>
                    </a:lnTo>
                    <a:cubicBezTo>
                      <a:pt x="1524" y="0"/>
                      <a:pt x="1525" y="1"/>
                      <a:pt x="1525" y="2"/>
                    </a:cubicBezTo>
                    <a:cubicBezTo>
                      <a:pt x="1525" y="3"/>
                      <a:pt x="1524" y="4"/>
                      <a:pt x="1523" y="4"/>
                    </a:cubicBezTo>
                    <a:lnTo>
                      <a:pt x="1523" y="4"/>
                    </a:lnTo>
                    <a:cubicBezTo>
                      <a:pt x="1521" y="4"/>
                      <a:pt x="1521" y="3"/>
                      <a:pt x="1521" y="2"/>
                    </a:cubicBezTo>
                    <a:cubicBezTo>
                      <a:pt x="1521" y="1"/>
                      <a:pt x="1521" y="0"/>
                      <a:pt x="1523" y="0"/>
                    </a:cubicBezTo>
                    <a:close/>
                    <a:moveTo>
                      <a:pt x="1531" y="0"/>
                    </a:moveTo>
                    <a:lnTo>
                      <a:pt x="1531" y="0"/>
                    </a:lnTo>
                    <a:cubicBezTo>
                      <a:pt x="1532" y="0"/>
                      <a:pt x="1533" y="1"/>
                      <a:pt x="1533" y="2"/>
                    </a:cubicBezTo>
                    <a:cubicBezTo>
                      <a:pt x="1533" y="3"/>
                      <a:pt x="1532" y="4"/>
                      <a:pt x="1531" y="4"/>
                    </a:cubicBezTo>
                    <a:lnTo>
                      <a:pt x="1531" y="4"/>
                    </a:lnTo>
                    <a:cubicBezTo>
                      <a:pt x="1529" y="4"/>
                      <a:pt x="1529" y="3"/>
                      <a:pt x="1529" y="2"/>
                    </a:cubicBezTo>
                    <a:cubicBezTo>
                      <a:pt x="1529" y="1"/>
                      <a:pt x="1529" y="0"/>
                      <a:pt x="1531" y="0"/>
                    </a:cubicBezTo>
                    <a:close/>
                    <a:moveTo>
                      <a:pt x="1539" y="0"/>
                    </a:moveTo>
                    <a:lnTo>
                      <a:pt x="1539" y="0"/>
                    </a:lnTo>
                    <a:cubicBezTo>
                      <a:pt x="1540" y="0"/>
                      <a:pt x="1541" y="1"/>
                      <a:pt x="1541" y="2"/>
                    </a:cubicBezTo>
                    <a:cubicBezTo>
                      <a:pt x="1541" y="3"/>
                      <a:pt x="1540" y="4"/>
                      <a:pt x="1539" y="4"/>
                    </a:cubicBezTo>
                    <a:lnTo>
                      <a:pt x="1539" y="4"/>
                    </a:lnTo>
                    <a:cubicBezTo>
                      <a:pt x="1537" y="4"/>
                      <a:pt x="1537" y="3"/>
                      <a:pt x="1537" y="2"/>
                    </a:cubicBezTo>
                    <a:cubicBezTo>
                      <a:pt x="1537" y="1"/>
                      <a:pt x="1537" y="0"/>
                      <a:pt x="1539" y="0"/>
                    </a:cubicBezTo>
                    <a:close/>
                    <a:moveTo>
                      <a:pt x="1547" y="0"/>
                    </a:moveTo>
                    <a:lnTo>
                      <a:pt x="1547" y="0"/>
                    </a:lnTo>
                    <a:cubicBezTo>
                      <a:pt x="1548" y="0"/>
                      <a:pt x="1549" y="1"/>
                      <a:pt x="1549" y="2"/>
                    </a:cubicBezTo>
                    <a:cubicBezTo>
                      <a:pt x="1549" y="3"/>
                      <a:pt x="1548" y="4"/>
                      <a:pt x="1547" y="4"/>
                    </a:cubicBezTo>
                    <a:lnTo>
                      <a:pt x="1547" y="4"/>
                    </a:lnTo>
                    <a:cubicBezTo>
                      <a:pt x="1545" y="4"/>
                      <a:pt x="1545" y="3"/>
                      <a:pt x="1545" y="2"/>
                    </a:cubicBezTo>
                    <a:cubicBezTo>
                      <a:pt x="1545" y="1"/>
                      <a:pt x="1545" y="0"/>
                      <a:pt x="1547" y="0"/>
                    </a:cubicBezTo>
                    <a:close/>
                    <a:moveTo>
                      <a:pt x="1555" y="0"/>
                    </a:moveTo>
                    <a:lnTo>
                      <a:pt x="1555" y="0"/>
                    </a:lnTo>
                    <a:cubicBezTo>
                      <a:pt x="1556" y="0"/>
                      <a:pt x="1557" y="1"/>
                      <a:pt x="1557" y="2"/>
                    </a:cubicBezTo>
                    <a:cubicBezTo>
                      <a:pt x="1557" y="3"/>
                      <a:pt x="1556" y="4"/>
                      <a:pt x="1555" y="4"/>
                    </a:cubicBezTo>
                    <a:lnTo>
                      <a:pt x="1555" y="4"/>
                    </a:lnTo>
                    <a:cubicBezTo>
                      <a:pt x="1553" y="4"/>
                      <a:pt x="1553" y="3"/>
                      <a:pt x="1553" y="2"/>
                    </a:cubicBezTo>
                    <a:cubicBezTo>
                      <a:pt x="1553" y="1"/>
                      <a:pt x="1553" y="0"/>
                      <a:pt x="1555" y="0"/>
                    </a:cubicBezTo>
                    <a:close/>
                    <a:moveTo>
                      <a:pt x="1563" y="0"/>
                    </a:moveTo>
                    <a:lnTo>
                      <a:pt x="1563" y="0"/>
                    </a:lnTo>
                    <a:cubicBezTo>
                      <a:pt x="1564" y="0"/>
                      <a:pt x="1565" y="1"/>
                      <a:pt x="1565" y="2"/>
                    </a:cubicBezTo>
                    <a:cubicBezTo>
                      <a:pt x="1565" y="3"/>
                      <a:pt x="1564" y="4"/>
                      <a:pt x="1563" y="4"/>
                    </a:cubicBezTo>
                    <a:lnTo>
                      <a:pt x="1563" y="4"/>
                    </a:lnTo>
                    <a:cubicBezTo>
                      <a:pt x="1561" y="4"/>
                      <a:pt x="1561" y="3"/>
                      <a:pt x="1561" y="2"/>
                    </a:cubicBezTo>
                    <a:cubicBezTo>
                      <a:pt x="1561" y="1"/>
                      <a:pt x="1561" y="0"/>
                      <a:pt x="1563" y="0"/>
                    </a:cubicBezTo>
                    <a:close/>
                    <a:moveTo>
                      <a:pt x="1571" y="0"/>
                    </a:moveTo>
                    <a:lnTo>
                      <a:pt x="1571" y="0"/>
                    </a:lnTo>
                    <a:cubicBezTo>
                      <a:pt x="1572" y="0"/>
                      <a:pt x="1573" y="1"/>
                      <a:pt x="1573" y="2"/>
                    </a:cubicBezTo>
                    <a:cubicBezTo>
                      <a:pt x="1573" y="3"/>
                      <a:pt x="1572" y="4"/>
                      <a:pt x="1571" y="4"/>
                    </a:cubicBezTo>
                    <a:lnTo>
                      <a:pt x="1571" y="4"/>
                    </a:lnTo>
                    <a:cubicBezTo>
                      <a:pt x="1569" y="4"/>
                      <a:pt x="1569" y="3"/>
                      <a:pt x="1569" y="2"/>
                    </a:cubicBezTo>
                    <a:cubicBezTo>
                      <a:pt x="1569" y="1"/>
                      <a:pt x="1569" y="0"/>
                      <a:pt x="1571" y="0"/>
                    </a:cubicBezTo>
                    <a:close/>
                    <a:moveTo>
                      <a:pt x="1579" y="0"/>
                    </a:moveTo>
                    <a:lnTo>
                      <a:pt x="1579" y="0"/>
                    </a:lnTo>
                    <a:cubicBezTo>
                      <a:pt x="1580" y="0"/>
                      <a:pt x="1581" y="1"/>
                      <a:pt x="1581" y="2"/>
                    </a:cubicBezTo>
                    <a:cubicBezTo>
                      <a:pt x="1581" y="3"/>
                      <a:pt x="1580" y="4"/>
                      <a:pt x="1579" y="4"/>
                    </a:cubicBezTo>
                    <a:lnTo>
                      <a:pt x="1579" y="4"/>
                    </a:lnTo>
                    <a:cubicBezTo>
                      <a:pt x="1577" y="4"/>
                      <a:pt x="1577" y="3"/>
                      <a:pt x="1577" y="2"/>
                    </a:cubicBezTo>
                    <a:cubicBezTo>
                      <a:pt x="1577" y="1"/>
                      <a:pt x="1577" y="0"/>
                      <a:pt x="1579" y="0"/>
                    </a:cubicBezTo>
                    <a:close/>
                    <a:moveTo>
                      <a:pt x="1587" y="0"/>
                    </a:moveTo>
                    <a:lnTo>
                      <a:pt x="1587" y="0"/>
                    </a:lnTo>
                    <a:cubicBezTo>
                      <a:pt x="1588" y="0"/>
                      <a:pt x="1589" y="1"/>
                      <a:pt x="1589" y="2"/>
                    </a:cubicBezTo>
                    <a:cubicBezTo>
                      <a:pt x="1589" y="3"/>
                      <a:pt x="1588" y="4"/>
                      <a:pt x="1587" y="4"/>
                    </a:cubicBezTo>
                    <a:lnTo>
                      <a:pt x="1587" y="4"/>
                    </a:lnTo>
                    <a:cubicBezTo>
                      <a:pt x="1585" y="4"/>
                      <a:pt x="1585" y="3"/>
                      <a:pt x="1585" y="2"/>
                    </a:cubicBezTo>
                    <a:cubicBezTo>
                      <a:pt x="1585" y="1"/>
                      <a:pt x="1585" y="0"/>
                      <a:pt x="1587" y="0"/>
                    </a:cubicBezTo>
                    <a:close/>
                    <a:moveTo>
                      <a:pt x="1595" y="0"/>
                    </a:moveTo>
                    <a:lnTo>
                      <a:pt x="1595" y="0"/>
                    </a:lnTo>
                    <a:cubicBezTo>
                      <a:pt x="1596" y="0"/>
                      <a:pt x="1597" y="1"/>
                      <a:pt x="1597" y="2"/>
                    </a:cubicBezTo>
                    <a:cubicBezTo>
                      <a:pt x="1597" y="3"/>
                      <a:pt x="1596" y="4"/>
                      <a:pt x="1595" y="4"/>
                    </a:cubicBezTo>
                    <a:lnTo>
                      <a:pt x="1595" y="4"/>
                    </a:lnTo>
                    <a:cubicBezTo>
                      <a:pt x="1593" y="4"/>
                      <a:pt x="1593" y="3"/>
                      <a:pt x="1593" y="2"/>
                    </a:cubicBezTo>
                    <a:cubicBezTo>
                      <a:pt x="1593" y="1"/>
                      <a:pt x="1593" y="0"/>
                      <a:pt x="1595" y="0"/>
                    </a:cubicBezTo>
                    <a:close/>
                    <a:moveTo>
                      <a:pt x="1603" y="0"/>
                    </a:moveTo>
                    <a:lnTo>
                      <a:pt x="1603" y="0"/>
                    </a:lnTo>
                    <a:cubicBezTo>
                      <a:pt x="1604" y="0"/>
                      <a:pt x="1605" y="1"/>
                      <a:pt x="1605" y="2"/>
                    </a:cubicBezTo>
                    <a:cubicBezTo>
                      <a:pt x="1605" y="3"/>
                      <a:pt x="1604" y="4"/>
                      <a:pt x="1603" y="4"/>
                    </a:cubicBezTo>
                    <a:lnTo>
                      <a:pt x="1603" y="4"/>
                    </a:lnTo>
                    <a:cubicBezTo>
                      <a:pt x="1601" y="4"/>
                      <a:pt x="1601" y="3"/>
                      <a:pt x="1601" y="2"/>
                    </a:cubicBezTo>
                    <a:cubicBezTo>
                      <a:pt x="1601" y="1"/>
                      <a:pt x="1601" y="0"/>
                      <a:pt x="1603" y="0"/>
                    </a:cubicBezTo>
                    <a:close/>
                    <a:moveTo>
                      <a:pt x="1611" y="0"/>
                    </a:moveTo>
                    <a:lnTo>
                      <a:pt x="1611" y="0"/>
                    </a:lnTo>
                    <a:cubicBezTo>
                      <a:pt x="1612" y="0"/>
                      <a:pt x="1613" y="1"/>
                      <a:pt x="1613" y="2"/>
                    </a:cubicBezTo>
                    <a:cubicBezTo>
                      <a:pt x="1613" y="3"/>
                      <a:pt x="1612" y="4"/>
                      <a:pt x="1611" y="4"/>
                    </a:cubicBezTo>
                    <a:lnTo>
                      <a:pt x="1611" y="4"/>
                    </a:lnTo>
                    <a:cubicBezTo>
                      <a:pt x="1609" y="4"/>
                      <a:pt x="1609" y="3"/>
                      <a:pt x="1609" y="2"/>
                    </a:cubicBezTo>
                    <a:cubicBezTo>
                      <a:pt x="1609" y="1"/>
                      <a:pt x="1609" y="0"/>
                      <a:pt x="1611" y="0"/>
                    </a:cubicBezTo>
                    <a:close/>
                    <a:moveTo>
                      <a:pt x="1619" y="0"/>
                    </a:moveTo>
                    <a:lnTo>
                      <a:pt x="1619" y="0"/>
                    </a:lnTo>
                    <a:cubicBezTo>
                      <a:pt x="1620" y="0"/>
                      <a:pt x="1621" y="1"/>
                      <a:pt x="1621" y="2"/>
                    </a:cubicBezTo>
                    <a:cubicBezTo>
                      <a:pt x="1621" y="3"/>
                      <a:pt x="1620" y="4"/>
                      <a:pt x="1619" y="4"/>
                    </a:cubicBezTo>
                    <a:lnTo>
                      <a:pt x="1619" y="4"/>
                    </a:lnTo>
                    <a:cubicBezTo>
                      <a:pt x="1617" y="4"/>
                      <a:pt x="1617" y="3"/>
                      <a:pt x="1617" y="2"/>
                    </a:cubicBezTo>
                    <a:cubicBezTo>
                      <a:pt x="1617" y="1"/>
                      <a:pt x="1617" y="0"/>
                      <a:pt x="1619" y="0"/>
                    </a:cubicBezTo>
                    <a:close/>
                    <a:moveTo>
                      <a:pt x="1627" y="0"/>
                    </a:moveTo>
                    <a:lnTo>
                      <a:pt x="1627" y="0"/>
                    </a:lnTo>
                    <a:cubicBezTo>
                      <a:pt x="1628" y="0"/>
                      <a:pt x="1629" y="1"/>
                      <a:pt x="1629" y="2"/>
                    </a:cubicBezTo>
                    <a:cubicBezTo>
                      <a:pt x="1629" y="3"/>
                      <a:pt x="1628" y="4"/>
                      <a:pt x="1627" y="4"/>
                    </a:cubicBezTo>
                    <a:lnTo>
                      <a:pt x="1627" y="4"/>
                    </a:lnTo>
                    <a:cubicBezTo>
                      <a:pt x="1625" y="4"/>
                      <a:pt x="1625" y="3"/>
                      <a:pt x="1625" y="2"/>
                    </a:cubicBezTo>
                    <a:cubicBezTo>
                      <a:pt x="1625" y="1"/>
                      <a:pt x="1625" y="0"/>
                      <a:pt x="1627" y="0"/>
                    </a:cubicBezTo>
                    <a:close/>
                    <a:moveTo>
                      <a:pt x="1635" y="0"/>
                    </a:moveTo>
                    <a:lnTo>
                      <a:pt x="1635" y="0"/>
                    </a:lnTo>
                    <a:cubicBezTo>
                      <a:pt x="1636" y="0"/>
                      <a:pt x="1637" y="1"/>
                      <a:pt x="1637" y="2"/>
                    </a:cubicBezTo>
                    <a:cubicBezTo>
                      <a:pt x="1637" y="3"/>
                      <a:pt x="1636" y="4"/>
                      <a:pt x="1635" y="4"/>
                    </a:cubicBezTo>
                    <a:lnTo>
                      <a:pt x="1635" y="4"/>
                    </a:lnTo>
                    <a:cubicBezTo>
                      <a:pt x="1633" y="4"/>
                      <a:pt x="1633" y="3"/>
                      <a:pt x="1633" y="2"/>
                    </a:cubicBezTo>
                    <a:cubicBezTo>
                      <a:pt x="1633" y="1"/>
                      <a:pt x="1633" y="0"/>
                      <a:pt x="1635" y="0"/>
                    </a:cubicBezTo>
                    <a:close/>
                    <a:moveTo>
                      <a:pt x="1643" y="0"/>
                    </a:moveTo>
                    <a:lnTo>
                      <a:pt x="1643" y="0"/>
                    </a:lnTo>
                    <a:cubicBezTo>
                      <a:pt x="1644" y="0"/>
                      <a:pt x="1645" y="1"/>
                      <a:pt x="1645" y="2"/>
                    </a:cubicBezTo>
                    <a:cubicBezTo>
                      <a:pt x="1645" y="3"/>
                      <a:pt x="1644" y="4"/>
                      <a:pt x="1643" y="4"/>
                    </a:cubicBezTo>
                    <a:lnTo>
                      <a:pt x="1643" y="4"/>
                    </a:lnTo>
                    <a:cubicBezTo>
                      <a:pt x="1641" y="4"/>
                      <a:pt x="1641" y="3"/>
                      <a:pt x="1641" y="2"/>
                    </a:cubicBezTo>
                    <a:cubicBezTo>
                      <a:pt x="1641" y="1"/>
                      <a:pt x="1641" y="0"/>
                      <a:pt x="1643" y="0"/>
                    </a:cubicBezTo>
                    <a:close/>
                    <a:moveTo>
                      <a:pt x="1651" y="0"/>
                    </a:moveTo>
                    <a:lnTo>
                      <a:pt x="1651" y="0"/>
                    </a:lnTo>
                    <a:cubicBezTo>
                      <a:pt x="1652" y="0"/>
                      <a:pt x="1653" y="1"/>
                      <a:pt x="1653" y="2"/>
                    </a:cubicBezTo>
                    <a:cubicBezTo>
                      <a:pt x="1653" y="3"/>
                      <a:pt x="1652" y="4"/>
                      <a:pt x="1651" y="4"/>
                    </a:cubicBezTo>
                    <a:lnTo>
                      <a:pt x="1651" y="4"/>
                    </a:lnTo>
                    <a:cubicBezTo>
                      <a:pt x="1650" y="4"/>
                      <a:pt x="1649" y="3"/>
                      <a:pt x="1649" y="2"/>
                    </a:cubicBezTo>
                    <a:cubicBezTo>
                      <a:pt x="1649" y="1"/>
                      <a:pt x="1650" y="0"/>
                      <a:pt x="1651" y="0"/>
                    </a:cubicBezTo>
                    <a:close/>
                    <a:moveTo>
                      <a:pt x="1659" y="0"/>
                    </a:moveTo>
                    <a:lnTo>
                      <a:pt x="1659" y="0"/>
                    </a:lnTo>
                    <a:cubicBezTo>
                      <a:pt x="1660" y="0"/>
                      <a:pt x="1661" y="1"/>
                      <a:pt x="1661" y="2"/>
                    </a:cubicBezTo>
                    <a:cubicBezTo>
                      <a:pt x="1661" y="3"/>
                      <a:pt x="1660" y="4"/>
                      <a:pt x="1659" y="4"/>
                    </a:cubicBezTo>
                    <a:lnTo>
                      <a:pt x="1659" y="4"/>
                    </a:lnTo>
                    <a:cubicBezTo>
                      <a:pt x="1658" y="4"/>
                      <a:pt x="1657" y="3"/>
                      <a:pt x="1657" y="2"/>
                    </a:cubicBezTo>
                    <a:cubicBezTo>
                      <a:pt x="1657" y="1"/>
                      <a:pt x="1658" y="0"/>
                      <a:pt x="1659" y="0"/>
                    </a:cubicBezTo>
                    <a:close/>
                    <a:moveTo>
                      <a:pt x="1667" y="0"/>
                    </a:moveTo>
                    <a:lnTo>
                      <a:pt x="1667" y="0"/>
                    </a:lnTo>
                    <a:cubicBezTo>
                      <a:pt x="1668" y="0"/>
                      <a:pt x="1669" y="1"/>
                      <a:pt x="1669" y="2"/>
                    </a:cubicBezTo>
                    <a:cubicBezTo>
                      <a:pt x="1669" y="3"/>
                      <a:pt x="1668" y="4"/>
                      <a:pt x="1667" y="4"/>
                    </a:cubicBezTo>
                    <a:lnTo>
                      <a:pt x="1667" y="4"/>
                    </a:lnTo>
                    <a:cubicBezTo>
                      <a:pt x="1666" y="4"/>
                      <a:pt x="1665" y="3"/>
                      <a:pt x="1665" y="2"/>
                    </a:cubicBezTo>
                    <a:cubicBezTo>
                      <a:pt x="1665" y="1"/>
                      <a:pt x="1666" y="0"/>
                      <a:pt x="1667" y="0"/>
                    </a:cubicBezTo>
                    <a:close/>
                    <a:moveTo>
                      <a:pt x="1675" y="0"/>
                    </a:moveTo>
                    <a:lnTo>
                      <a:pt x="1675" y="0"/>
                    </a:lnTo>
                    <a:cubicBezTo>
                      <a:pt x="1676" y="0"/>
                      <a:pt x="1677" y="1"/>
                      <a:pt x="1677" y="2"/>
                    </a:cubicBezTo>
                    <a:cubicBezTo>
                      <a:pt x="1677" y="3"/>
                      <a:pt x="1676" y="4"/>
                      <a:pt x="1675" y="4"/>
                    </a:cubicBezTo>
                    <a:lnTo>
                      <a:pt x="1675" y="4"/>
                    </a:lnTo>
                    <a:cubicBezTo>
                      <a:pt x="1674" y="4"/>
                      <a:pt x="1673" y="3"/>
                      <a:pt x="1673" y="2"/>
                    </a:cubicBezTo>
                    <a:cubicBezTo>
                      <a:pt x="1673" y="1"/>
                      <a:pt x="1674" y="0"/>
                      <a:pt x="1675" y="0"/>
                    </a:cubicBezTo>
                    <a:close/>
                    <a:moveTo>
                      <a:pt x="1683" y="0"/>
                    </a:moveTo>
                    <a:lnTo>
                      <a:pt x="1683" y="0"/>
                    </a:lnTo>
                    <a:cubicBezTo>
                      <a:pt x="1684" y="0"/>
                      <a:pt x="1685" y="1"/>
                      <a:pt x="1685" y="2"/>
                    </a:cubicBezTo>
                    <a:cubicBezTo>
                      <a:pt x="1685" y="3"/>
                      <a:pt x="1684" y="4"/>
                      <a:pt x="1683" y="4"/>
                    </a:cubicBezTo>
                    <a:lnTo>
                      <a:pt x="1683" y="4"/>
                    </a:lnTo>
                    <a:cubicBezTo>
                      <a:pt x="1682" y="4"/>
                      <a:pt x="1681" y="3"/>
                      <a:pt x="1681" y="2"/>
                    </a:cubicBezTo>
                    <a:cubicBezTo>
                      <a:pt x="1681" y="1"/>
                      <a:pt x="1682" y="0"/>
                      <a:pt x="1683" y="0"/>
                    </a:cubicBezTo>
                    <a:close/>
                    <a:moveTo>
                      <a:pt x="1691" y="0"/>
                    </a:moveTo>
                    <a:lnTo>
                      <a:pt x="1691" y="0"/>
                    </a:lnTo>
                    <a:cubicBezTo>
                      <a:pt x="1692" y="0"/>
                      <a:pt x="1693" y="1"/>
                      <a:pt x="1693" y="2"/>
                    </a:cubicBezTo>
                    <a:cubicBezTo>
                      <a:pt x="1693" y="3"/>
                      <a:pt x="1692" y="4"/>
                      <a:pt x="1691" y="4"/>
                    </a:cubicBezTo>
                    <a:lnTo>
                      <a:pt x="1691" y="4"/>
                    </a:lnTo>
                    <a:cubicBezTo>
                      <a:pt x="1690" y="4"/>
                      <a:pt x="1689" y="3"/>
                      <a:pt x="1689" y="2"/>
                    </a:cubicBezTo>
                    <a:cubicBezTo>
                      <a:pt x="1689" y="1"/>
                      <a:pt x="1690" y="0"/>
                      <a:pt x="1691" y="0"/>
                    </a:cubicBezTo>
                    <a:close/>
                    <a:moveTo>
                      <a:pt x="1699" y="0"/>
                    </a:moveTo>
                    <a:lnTo>
                      <a:pt x="1699" y="0"/>
                    </a:lnTo>
                    <a:cubicBezTo>
                      <a:pt x="1700" y="0"/>
                      <a:pt x="1701" y="1"/>
                      <a:pt x="1701" y="2"/>
                    </a:cubicBezTo>
                    <a:cubicBezTo>
                      <a:pt x="1701" y="3"/>
                      <a:pt x="1700" y="4"/>
                      <a:pt x="1699" y="4"/>
                    </a:cubicBezTo>
                    <a:lnTo>
                      <a:pt x="1699" y="4"/>
                    </a:lnTo>
                    <a:cubicBezTo>
                      <a:pt x="1698" y="4"/>
                      <a:pt x="1697" y="3"/>
                      <a:pt x="1697" y="2"/>
                    </a:cubicBezTo>
                    <a:cubicBezTo>
                      <a:pt x="1697" y="1"/>
                      <a:pt x="1698" y="0"/>
                      <a:pt x="1699" y="0"/>
                    </a:cubicBezTo>
                    <a:close/>
                    <a:moveTo>
                      <a:pt x="1707" y="0"/>
                    </a:moveTo>
                    <a:lnTo>
                      <a:pt x="1707" y="0"/>
                    </a:lnTo>
                    <a:cubicBezTo>
                      <a:pt x="1708" y="0"/>
                      <a:pt x="1709" y="1"/>
                      <a:pt x="1709" y="2"/>
                    </a:cubicBezTo>
                    <a:cubicBezTo>
                      <a:pt x="1709" y="3"/>
                      <a:pt x="1708" y="4"/>
                      <a:pt x="1707" y="4"/>
                    </a:cubicBezTo>
                    <a:lnTo>
                      <a:pt x="1707" y="4"/>
                    </a:lnTo>
                    <a:cubicBezTo>
                      <a:pt x="1706" y="4"/>
                      <a:pt x="1705" y="3"/>
                      <a:pt x="1705" y="2"/>
                    </a:cubicBezTo>
                    <a:cubicBezTo>
                      <a:pt x="1705" y="1"/>
                      <a:pt x="1706" y="0"/>
                      <a:pt x="1707" y="0"/>
                    </a:cubicBezTo>
                    <a:close/>
                    <a:moveTo>
                      <a:pt x="1715" y="0"/>
                    </a:moveTo>
                    <a:lnTo>
                      <a:pt x="1715" y="0"/>
                    </a:lnTo>
                    <a:cubicBezTo>
                      <a:pt x="1716" y="0"/>
                      <a:pt x="1717" y="1"/>
                      <a:pt x="1717" y="2"/>
                    </a:cubicBezTo>
                    <a:cubicBezTo>
                      <a:pt x="1717" y="3"/>
                      <a:pt x="1716" y="4"/>
                      <a:pt x="1715" y="4"/>
                    </a:cubicBezTo>
                    <a:lnTo>
                      <a:pt x="1715" y="4"/>
                    </a:lnTo>
                    <a:cubicBezTo>
                      <a:pt x="1714" y="4"/>
                      <a:pt x="1713" y="3"/>
                      <a:pt x="1713" y="2"/>
                    </a:cubicBezTo>
                    <a:cubicBezTo>
                      <a:pt x="1713" y="1"/>
                      <a:pt x="1714" y="0"/>
                      <a:pt x="1715" y="0"/>
                    </a:cubicBezTo>
                    <a:close/>
                    <a:moveTo>
                      <a:pt x="1723" y="0"/>
                    </a:moveTo>
                    <a:lnTo>
                      <a:pt x="1723" y="0"/>
                    </a:lnTo>
                    <a:cubicBezTo>
                      <a:pt x="1724" y="0"/>
                      <a:pt x="1725" y="1"/>
                      <a:pt x="1725" y="2"/>
                    </a:cubicBezTo>
                    <a:cubicBezTo>
                      <a:pt x="1725" y="3"/>
                      <a:pt x="1724" y="4"/>
                      <a:pt x="1723" y="4"/>
                    </a:cubicBezTo>
                    <a:lnTo>
                      <a:pt x="1723" y="4"/>
                    </a:lnTo>
                    <a:cubicBezTo>
                      <a:pt x="1722" y="4"/>
                      <a:pt x="1721" y="3"/>
                      <a:pt x="1721" y="2"/>
                    </a:cubicBezTo>
                    <a:cubicBezTo>
                      <a:pt x="1721" y="1"/>
                      <a:pt x="1722" y="0"/>
                      <a:pt x="1723" y="0"/>
                    </a:cubicBezTo>
                    <a:close/>
                    <a:moveTo>
                      <a:pt x="1731" y="0"/>
                    </a:moveTo>
                    <a:lnTo>
                      <a:pt x="1731" y="0"/>
                    </a:lnTo>
                    <a:cubicBezTo>
                      <a:pt x="1732" y="0"/>
                      <a:pt x="1733" y="1"/>
                      <a:pt x="1733" y="2"/>
                    </a:cubicBezTo>
                    <a:cubicBezTo>
                      <a:pt x="1733" y="3"/>
                      <a:pt x="1732" y="4"/>
                      <a:pt x="1731" y="4"/>
                    </a:cubicBezTo>
                    <a:lnTo>
                      <a:pt x="1731" y="4"/>
                    </a:lnTo>
                    <a:cubicBezTo>
                      <a:pt x="1730" y="4"/>
                      <a:pt x="1729" y="3"/>
                      <a:pt x="1729" y="2"/>
                    </a:cubicBezTo>
                    <a:cubicBezTo>
                      <a:pt x="1729" y="1"/>
                      <a:pt x="1730" y="0"/>
                      <a:pt x="1731" y="0"/>
                    </a:cubicBezTo>
                    <a:close/>
                    <a:moveTo>
                      <a:pt x="1739" y="0"/>
                    </a:moveTo>
                    <a:lnTo>
                      <a:pt x="1739" y="0"/>
                    </a:lnTo>
                    <a:cubicBezTo>
                      <a:pt x="1740" y="0"/>
                      <a:pt x="1741" y="1"/>
                      <a:pt x="1741" y="2"/>
                    </a:cubicBezTo>
                    <a:cubicBezTo>
                      <a:pt x="1741" y="3"/>
                      <a:pt x="1740" y="4"/>
                      <a:pt x="1739" y="4"/>
                    </a:cubicBezTo>
                    <a:lnTo>
                      <a:pt x="1739" y="4"/>
                    </a:lnTo>
                    <a:cubicBezTo>
                      <a:pt x="1738" y="4"/>
                      <a:pt x="1737" y="3"/>
                      <a:pt x="1737" y="2"/>
                    </a:cubicBezTo>
                    <a:cubicBezTo>
                      <a:pt x="1737" y="1"/>
                      <a:pt x="1738" y="0"/>
                      <a:pt x="1739" y="0"/>
                    </a:cubicBezTo>
                    <a:close/>
                    <a:moveTo>
                      <a:pt x="1747" y="0"/>
                    </a:moveTo>
                    <a:lnTo>
                      <a:pt x="1747" y="0"/>
                    </a:lnTo>
                    <a:cubicBezTo>
                      <a:pt x="1748" y="0"/>
                      <a:pt x="1749" y="1"/>
                      <a:pt x="1749" y="2"/>
                    </a:cubicBezTo>
                    <a:cubicBezTo>
                      <a:pt x="1749" y="3"/>
                      <a:pt x="1748" y="4"/>
                      <a:pt x="1747" y="4"/>
                    </a:cubicBezTo>
                    <a:lnTo>
                      <a:pt x="1747" y="4"/>
                    </a:lnTo>
                    <a:cubicBezTo>
                      <a:pt x="1746" y="4"/>
                      <a:pt x="1745" y="3"/>
                      <a:pt x="1745" y="2"/>
                    </a:cubicBezTo>
                    <a:cubicBezTo>
                      <a:pt x="1745" y="1"/>
                      <a:pt x="1746" y="0"/>
                      <a:pt x="1747" y="0"/>
                    </a:cubicBezTo>
                    <a:close/>
                    <a:moveTo>
                      <a:pt x="1755" y="0"/>
                    </a:moveTo>
                    <a:lnTo>
                      <a:pt x="1755" y="0"/>
                    </a:lnTo>
                    <a:cubicBezTo>
                      <a:pt x="1756" y="0"/>
                      <a:pt x="1757" y="1"/>
                      <a:pt x="1757" y="2"/>
                    </a:cubicBezTo>
                    <a:cubicBezTo>
                      <a:pt x="1757" y="3"/>
                      <a:pt x="1756" y="4"/>
                      <a:pt x="1755" y="4"/>
                    </a:cubicBezTo>
                    <a:lnTo>
                      <a:pt x="1755" y="4"/>
                    </a:lnTo>
                    <a:cubicBezTo>
                      <a:pt x="1754" y="4"/>
                      <a:pt x="1753" y="3"/>
                      <a:pt x="1753" y="2"/>
                    </a:cubicBezTo>
                    <a:cubicBezTo>
                      <a:pt x="1753" y="1"/>
                      <a:pt x="1754" y="0"/>
                      <a:pt x="1755" y="0"/>
                    </a:cubicBezTo>
                    <a:close/>
                    <a:moveTo>
                      <a:pt x="1763" y="0"/>
                    </a:moveTo>
                    <a:lnTo>
                      <a:pt x="1763" y="0"/>
                    </a:lnTo>
                    <a:cubicBezTo>
                      <a:pt x="1764" y="0"/>
                      <a:pt x="1765" y="1"/>
                      <a:pt x="1765" y="2"/>
                    </a:cubicBezTo>
                    <a:cubicBezTo>
                      <a:pt x="1765" y="3"/>
                      <a:pt x="1764" y="4"/>
                      <a:pt x="1763" y="4"/>
                    </a:cubicBezTo>
                    <a:lnTo>
                      <a:pt x="1763" y="4"/>
                    </a:lnTo>
                    <a:cubicBezTo>
                      <a:pt x="1762" y="4"/>
                      <a:pt x="1761" y="3"/>
                      <a:pt x="1761" y="2"/>
                    </a:cubicBezTo>
                    <a:cubicBezTo>
                      <a:pt x="1761" y="1"/>
                      <a:pt x="1762" y="0"/>
                      <a:pt x="1763" y="0"/>
                    </a:cubicBezTo>
                    <a:close/>
                    <a:moveTo>
                      <a:pt x="1771" y="0"/>
                    </a:moveTo>
                    <a:lnTo>
                      <a:pt x="1771" y="0"/>
                    </a:lnTo>
                    <a:cubicBezTo>
                      <a:pt x="1772" y="0"/>
                      <a:pt x="1773" y="1"/>
                      <a:pt x="1773" y="2"/>
                    </a:cubicBezTo>
                    <a:cubicBezTo>
                      <a:pt x="1773" y="3"/>
                      <a:pt x="1772" y="4"/>
                      <a:pt x="1771" y="4"/>
                    </a:cubicBezTo>
                    <a:lnTo>
                      <a:pt x="1771" y="4"/>
                    </a:lnTo>
                    <a:cubicBezTo>
                      <a:pt x="1770" y="4"/>
                      <a:pt x="1769" y="3"/>
                      <a:pt x="1769" y="2"/>
                    </a:cubicBezTo>
                    <a:cubicBezTo>
                      <a:pt x="1769" y="1"/>
                      <a:pt x="1770" y="0"/>
                      <a:pt x="1771" y="0"/>
                    </a:cubicBezTo>
                    <a:close/>
                    <a:moveTo>
                      <a:pt x="1779" y="0"/>
                    </a:moveTo>
                    <a:lnTo>
                      <a:pt x="1779" y="0"/>
                    </a:lnTo>
                    <a:cubicBezTo>
                      <a:pt x="1780" y="0"/>
                      <a:pt x="1781" y="1"/>
                      <a:pt x="1781" y="2"/>
                    </a:cubicBezTo>
                    <a:cubicBezTo>
                      <a:pt x="1781" y="3"/>
                      <a:pt x="1780" y="4"/>
                      <a:pt x="1779" y="4"/>
                    </a:cubicBezTo>
                    <a:lnTo>
                      <a:pt x="1779" y="4"/>
                    </a:lnTo>
                    <a:cubicBezTo>
                      <a:pt x="1778" y="4"/>
                      <a:pt x="1777" y="3"/>
                      <a:pt x="1777" y="2"/>
                    </a:cubicBezTo>
                    <a:cubicBezTo>
                      <a:pt x="1777" y="1"/>
                      <a:pt x="1778" y="0"/>
                      <a:pt x="1779" y="0"/>
                    </a:cubicBezTo>
                    <a:close/>
                    <a:moveTo>
                      <a:pt x="1787" y="0"/>
                    </a:moveTo>
                    <a:lnTo>
                      <a:pt x="1787" y="0"/>
                    </a:lnTo>
                    <a:cubicBezTo>
                      <a:pt x="1788" y="0"/>
                      <a:pt x="1789" y="1"/>
                      <a:pt x="1789" y="2"/>
                    </a:cubicBezTo>
                    <a:cubicBezTo>
                      <a:pt x="1789" y="3"/>
                      <a:pt x="1788" y="4"/>
                      <a:pt x="1787" y="4"/>
                    </a:cubicBezTo>
                    <a:lnTo>
                      <a:pt x="1787" y="4"/>
                    </a:lnTo>
                    <a:cubicBezTo>
                      <a:pt x="1786" y="4"/>
                      <a:pt x="1785" y="3"/>
                      <a:pt x="1785" y="2"/>
                    </a:cubicBezTo>
                    <a:cubicBezTo>
                      <a:pt x="1785" y="1"/>
                      <a:pt x="1786" y="0"/>
                      <a:pt x="1787" y="0"/>
                    </a:cubicBezTo>
                    <a:close/>
                    <a:moveTo>
                      <a:pt x="1795" y="0"/>
                    </a:moveTo>
                    <a:lnTo>
                      <a:pt x="1795" y="0"/>
                    </a:lnTo>
                    <a:cubicBezTo>
                      <a:pt x="1796" y="0"/>
                      <a:pt x="1797" y="1"/>
                      <a:pt x="1797" y="2"/>
                    </a:cubicBezTo>
                    <a:cubicBezTo>
                      <a:pt x="1797" y="3"/>
                      <a:pt x="1796" y="4"/>
                      <a:pt x="1795" y="4"/>
                    </a:cubicBezTo>
                    <a:lnTo>
                      <a:pt x="1795" y="4"/>
                    </a:lnTo>
                    <a:cubicBezTo>
                      <a:pt x="1794" y="4"/>
                      <a:pt x="1793" y="3"/>
                      <a:pt x="1793" y="2"/>
                    </a:cubicBezTo>
                    <a:cubicBezTo>
                      <a:pt x="1793" y="1"/>
                      <a:pt x="1794" y="0"/>
                      <a:pt x="1795" y="0"/>
                    </a:cubicBezTo>
                    <a:close/>
                    <a:moveTo>
                      <a:pt x="1803" y="0"/>
                    </a:moveTo>
                    <a:lnTo>
                      <a:pt x="1803" y="0"/>
                    </a:lnTo>
                    <a:cubicBezTo>
                      <a:pt x="1804" y="0"/>
                      <a:pt x="1805" y="1"/>
                      <a:pt x="1805" y="2"/>
                    </a:cubicBezTo>
                    <a:cubicBezTo>
                      <a:pt x="1805" y="3"/>
                      <a:pt x="1804" y="4"/>
                      <a:pt x="1803" y="4"/>
                    </a:cubicBezTo>
                    <a:lnTo>
                      <a:pt x="1803" y="4"/>
                    </a:lnTo>
                    <a:cubicBezTo>
                      <a:pt x="1802" y="4"/>
                      <a:pt x="1801" y="3"/>
                      <a:pt x="1801" y="2"/>
                    </a:cubicBezTo>
                    <a:cubicBezTo>
                      <a:pt x="1801" y="1"/>
                      <a:pt x="1802" y="0"/>
                      <a:pt x="1803" y="0"/>
                    </a:cubicBezTo>
                    <a:close/>
                    <a:moveTo>
                      <a:pt x="1811" y="0"/>
                    </a:moveTo>
                    <a:lnTo>
                      <a:pt x="1811" y="0"/>
                    </a:lnTo>
                    <a:cubicBezTo>
                      <a:pt x="1812" y="0"/>
                      <a:pt x="1813" y="1"/>
                      <a:pt x="1813" y="2"/>
                    </a:cubicBezTo>
                    <a:cubicBezTo>
                      <a:pt x="1813" y="3"/>
                      <a:pt x="1812" y="4"/>
                      <a:pt x="1811" y="4"/>
                    </a:cubicBezTo>
                    <a:lnTo>
                      <a:pt x="1811" y="4"/>
                    </a:lnTo>
                    <a:cubicBezTo>
                      <a:pt x="1810" y="4"/>
                      <a:pt x="1809" y="3"/>
                      <a:pt x="1809" y="2"/>
                    </a:cubicBezTo>
                    <a:cubicBezTo>
                      <a:pt x="1809" y="1"/>
                      <a:pt x="1810" y="0"/>
                      <a:pt x="1811" y="0"/>
                    </a:cubicBezTo>
                    <a:close/>
                    <a:moveTo>
                      <a:pt x="1819" y="0"/>
                    </a:moveTo>
                    <a:lnTo>
                      <a:pt x="1819" y="0"/>
                    </a:lnTo>
                    <a:cubicBezTo>
                      <a:pt x="1820" y="0"/>
                      <a:pt x="1821" y="1"/>
                      <a:pt x="1821" y="2"/>
                    </a:cubicBezTo>
                    <a:cubicBezTo>
                      <a:pt x="1821" y="3"/>
                      <a:pt x="1820" y="4"/>
                      <a:pt x="1819" y="4"/>
                    </a:cubicBezTo>
                    <a:lnTo>
                      <a:pt x="1819" y="4"/>
                    </a:lnTo>
                    <a:cubicBezTo>
                      <a:pt x="1818" y="4"/>
                      <a:pt x="1817" y="3"/>
                      <a:pt x="1817" y="2"/>
                    </a:cubicBezTo>
                    <a:cubicBezTo>
                      <a:pt x="1817" y="1"/>
                      <a:pt x="1818" y="0"/>
                      <a:pt x="1819" y="0"/>
                    </a:cubicBezTo>
                    <a:close/>
                    <a:moveTo>
                      <a:pt x="1827" y="0"/>
                    </a:moveTo>
                    <a:lnTo>
                      <a:pt x="1827" y="0"/>
                    </a:lnTo>
                    <a:cubicBezTo>
                      <a:pt x="1828" y="0"/>
                      <a:pt x="1829" y="1"/>
                      <a:pt x="1829" y="2"/>
                    </a:cubicBezTo>
                    <a:cubicBezTo>
                      <a:pt x="1829" y="3"/>
                      <a:pt x="1828" y="4"/>
                      <a:pt x="1827" y="4"/>
                    </a:cubicBezTo>
                    <a:lnTo>
                      <a:pt x="1827" y="4"/>
                    </a:lnTo>
                    <a:cubicBezTo>
                      <a:pt x="1826" y="4"/>
                      <a:pt x="1825" y="3"/>
                      <a:pt x="1825" y="2"/>
                    </a:cubicBezTo>
                    <a:cubicBezTo>
                      <a:pt x="1825" y="1"/>
                      <a:pt x="1826" y="0"/>
                      <a:pt x="1827" y="0"/>
                    </a:cubicBezTo>
                    <a:close/>
                    <a:moveTo>
                      <a:pt x="1835" y="0"/>
                    </a:moveTo>
                    <a:lnTo>
                      <a:pt x="1835" y="0"/>
                    </a:lnTo>
                    <a:cubicBezTo>
                      <a:pt x="1836" y="0"/>
                      <a:pt x="1837" y="1"/>
                      <a:pt x="1837" y="2"/>
                    </a:cubicBezTo>
                    <a:cubicBezTo>
                      <a:pt x="1837" y="3"/>
                      <a:pt x="1836" y="4"/>
                      <a:pt x="1835" y="4"/>
                    </a:cubicBezTo>
                    <a:lnTo>
                      <a:pt x="1835" y="4"/>
                    </a:lnTo>
                    <a:cubicBezTo>
                      <a:pt x="1834" y="4"/>
                      <a:pt x="1833" y="3"/>
                      <a:pt x="1833" y="2"/>
                    </a:cubicBezTo>
                    <a:cubicBezTo>
                      <a:pt x="1833" y="1"/>
                      <a:pt x="1834" y="0"/>
                      <a:pt x="1835" y="0"/>
                    </a:cubicBezTo>
                    <a:close/>
                    <a:moveTo>
                      <a:pt x="1843" y="0"/>
                    </a:moveTo>
                    <a:lnTo>
                      <a:pt x="1843" y="0"/>
                    </a:lnTo>
                    <a:cubicBezTo>
                      <a:pt x="1844" y="0"/>
                      <a:pt x="1845" y="1"/>
                      <a:pt x="1845" y="2"/>
                    </a:cubicBezTo>
                    <a:cubicBezTo>
                      <a:pt x="1845" y="3"/>
                      <a:pt x="1844" y="4"/>
                      <a:pt x="1843" y="4"/>
                    </a:cubicBezTo>
                    <a:lnTo>
                      <a:pt x="1843" y="4"/>
                    </a:lnTo>
                    <a:cubicBezTo>
                      <a:pt x="1842" y="4"/>
                      <a:pt x="1841" y="3"/>
                      <a:pt x="1841" y="2"/>
                    </a:cubicBezTo>
                    <a:cubicBezTo>
                      <a:pt x="1841" y="1"/>
                      <a:pt x="1842" y="0"/>
                      <a:pt x="1843" y="0"/>
                    </a:cubicBezTo>
                    <a:close/>
                    <a:moveTo>
                      <a:pt x="1851" y="0"/>
                    </a:moveTo>
                    <a:lnTo>
                      <a:pt x="1851" y="0"/>
                    </a:lnTo>
                    <a:cubicBezTo>
                      <a:pt x="1852" y="0"/>
                      <a:pt x="1853" y="1"/>
                      <a:pt x="1853" y="2"/>
                    </a:cubicBezTo>
                    <a:cubicBezTo>
                      <a:pt x="1853" y="3"/>
                      <a:pt x="1852" y="4"/>
                      <a:pt x="1851" y="4"/>
                    </a:cubicBezTo>
                    <a:lnTo>
                      <a:pt x="1851" y="4"/>
                    </a:lnTo>
                    <a:cubicBezTo>
                      <a:pt x="1850" y="4"/>
                      <a:pt x="1849" y="3"/>
                      <a:pt x="1849" y="2"/>
                    </a:cubicBezTo>
                    <a:cubicBezTo>
                      <a:pt x="1849" y="1"/>
                      <a:pt x="1850" y="0"/>
                      <a:pt x="1851" y="0"/>
                    </a:cubicBezTo>
                    <a:close/>
                    <a:moveTo>
                      <a:pt x="1859" y="0"/>
                    </a:moveTo>
                    <a:lnTo>
                      <a:pt x="1859" y="0"/>
                    </a:lnTo>
                    <a:cubicBezTo>
                      <a:pt x="1860" y="0"/>
                      <a:pt x="1861" y="1"/>
                      <a:pt x="1861" y="2"/>
                    </a:cubicBezTo>
                    <a:cubicBezTo>
                      <a:pt x="1861" y="3"/>
                      <a:pt x="1860" y="4"/>
                      <a:pt x="1859" y="4"/>
                    </a:cubicBezTo>
                    <a:lnTo>
                      <a:pt x="1859" y="4"/>
                    </a:lnTo>
                    <a:cubicBezTo>
                      <a:pt x="1858" y="4"/>
                      <a:pt x="1857" y="3"/>
                      <a:pt x="1857" y="2"/>
                    </a:cubicBezTo>
                    <a:cubicBezTo>
                      <a:pt x="1857" y="1"/>
                      <a:pt x="1858" y="0"/>
                      <a:pt x="1859" y="0"/>
                    </a:cubicBezTo>
                    <a:close/>
                    <a:moveTo>
                      <a:pt x="1867" y="0"/>
                    </a:moveTo>
                    <a:lnTo>
                      <a:pt x="1867" y="0"/>
                    </a:lnTo>
                    <a:cubicBezTo>
                      <a:pt x="1868" y="0"/>
                      <a:pt x="1869" y="1"/>
                      <a:pt x="1869" y="2"/>
                    </a:cubicBezTo>
                    <a:cubicBezTo>
                      <a:pt x="1869" y="3"/>
                      <a:pt x="1868" y="4"/>
                      <a:pt x="1867" y="4"/>
                    </a:cubicBezTo>
                    <a:lnTo>
                      <a:pt x="1867" y="4"/>
                    </a:lnTo>
                    <a:cubicBezTo>
                      <a:pt x="1866" y="4"/>
                      <a:pt x="1865" y="3"/>
                      <a:pt x="1865" y="2"/>
                    </a:cubicBezTo>
                    <a:cubicBezTo>
                      <a:pt x="1865" y="1"/>
                      <a:pt x="1866" y="0"/>
                      <a:pt x="1867" y="0"/>
                    </a:cubicBezTo>
                    <a:close/>
                    <a:moveTo>
                      <a:pt x="1875" y="0"/>
                    </a:moveTo>
                    <a:lnTo>
                      <a:pt x="1875" y="0"/>
                    </a:lnTo>
                    <a:cubicBezTo>
                      <a:pt x="1876" y="0"/>
                      <a:pt x="1877" y="1"/>
                      <a:pt x="1877" y="2"/>
                    </a:cubicBezTo>
                    <a:cubicBezTo>
                      <a:pt x="1877" y="3"/>
                      <a:pt x="1876" y="4"/>
                      <a:pt x="1875" y="4"/>
                    </a:cubicBezTo>
                    <a:lnTo>
                      <a:pt x="1875" y="4"/>
                    </a:lnTo>
                    <a:cubicBezTo>
                      <a:pt x="1874" y="4"/>
                      <a:pt x="1873" y="3"/>
                      <a:pt x="1873" y="2"/>
                    </a:cubicBezTo>
                    <a:cubicBezTo>
                      <a:pt x="1873" y="1"/>
                      <a:pt x="1874" y="0"/>
                      <a:pt x="1875" y="0"/>
                    </a:cubicBezTo>
                    <a:close/>
                    <a:moveTo>
                      <a:pt x="1883" y="0"/>
                    </a:moveTo>
                    <a:lnTo>
                      <a:pt x="1883" y="0"/>
                    </a:lnTo>
                    <a:cubicBezTo>
                      <a:pt x="1884" y="0"/>
                      <a:pt x="1885" y="1"/>
                      <a:pt x="1885" y="2"/>
                    </a:cubicBezTo>
                    <a:cubicBezTo>
                      <a:pt x="1885" y="3"/>
                      <a:pt x="1884" y="4"/>
                      <a:pt x="1883" y="4"/>
                    </a:cubicBezTo>
                    <a:lnTo>
                      <a:pt x="1883" y="4"/>
                    </a:lnTo>
                    <a:cubicBezTo>
                      <a:pt x="1882" y="4"/>
                      <a:pt x="1881" y="3"/>
                      <a:pt x="1881" y="2"/>
                    </a:cubicBezTo>
                    <a:cubicBezTo>
                      <a:pt x="1881" y="1"/>
                      <a:pt x="1882" y="0"/>
                      <a:pt x="1883" y="0"/>
                    </a:cubicBezTo>
                    <a:close/>
                    <a:moveTo>
                      <a:pt x="1891" y="0"/>
                    </a:moveTo>
                    <a:lnTo>
                      <a:pt x="1891" y="0"/>
                    </a:lnTo>
                    <a:cubicBezTo>
                      <a:pt x="1892" y="0"/>
                      <a:pt x="1893" y="1"/>
                      <a:pt x="1893" y="2"/>
                    </a:cubicBezTo>
                    <a:cubicBezTo>
                      <a:pt x="1893" y="3"/>
                      <a:pt x="1892" y="4"/>
                      <a:pt x="1891" y="4"/>
                    </a:cubicBezTo>
                    <a:lnTo>
                      <a:pt x="1891" y="4"/>
                    </a:lnTo>
                    <a:cubicBezTo>
                      <a:pt x="1890" y="4"/>
                      <a:pt x="1889" y="3"/>
                      <a:pt x="1889" y="2"/>
                    </a:cubicBezTo>
                    <a:cubicBezTo>
                      <a:pt x="1889" y="1"/>
                      <a:pt x="1890" y="0"/>
                      <a:pt x="1891" y="0"/>
                    </a:cubicBezTo>
                    <a:close/>
                    <a:moveTo>
                      <a:pt x="1899" y="0"/>
                    </a:moveTo>
                    <a:lnTo>
                      <a:pt x="1899" y="0"/>
                    </a:lnTo>
                    <a:cubicBezTo>
                      <a:pt x="1900" y="0"/>
                      <a:pt x="1901" y="1"/>
                      <a:pt x="1901" y="2"/>
                    </a:cubicBezTo>
                    <a:cubicBezTo>
                      <a:pt x="1901" y="3"/>
                      <a:pt x="1900" y="4"/>
                      <a:pt x="1899" y="4"/>
                    </a:cubicBezTo>
                    <a:lnTo>
                      <a:pt x="1899" y="4"/>
                    </a:lnTo>
                    <a:cubicBezTo>
                      <a:pt x="1898" y="4"/>
                      <a:pt x="1897" y="3"/>
                      <a:pt x="1897" y="2"/>
                    </a:cubicBezTo>
                    <a:cubicBezTo>
                      <a:pt x="1897" y="1"/>
                      <a:pt x="1898" y="0"/>
                      <a:pt x="1899" y="0"/>
                    </a:cubicBezTo>
                    <a:close/>
                    <a:moveTo>
                      <a:pt x="1907" y="0"/>
                    </a:moveTo>
                    <a:lnTo>
                      <a:pt x="1907" y="0"/>
                    </a:lnTo>
                    <a:cubicBezTo>
                      <a:pt x="1908" y="0"/>
                      <a:pt x="1909" y="1"/>
                      <a:pt x="1909" y="2"/>
                    </a:cubicBezTo>
                    <a:cubicBezTo>
                      <a:pt x="1909" y="3"/>
                      <a:pt x="1908" y="4"/>
                      <a:pt x="1907" y="4"/>
                    </a:cubicBezTo>
                    <a:lnTo>
                      <a:pt x="1907" y="4"/>
                    </a:lnTo>
                    <a:cubicBezTo>
                      <a:pt x="1906" y="4"/>
                      <a:pt x="1905" y="3"/>
                      <a:pt x="1905" y="2"/>
                    </a:cubicBezTo>
                    <a:cubicBezTo>
                      <a:pt x="1905" y="1"/>
                      <a:pt x="1906" y="0"/>
                      <a:pt x="1907" y="0"/>
                    </a:cubicBezTo>
                    <a:close/>
                    <a:moveTo>
                      <a:pt x="1915" y="0"/>
                    </a:moveTo>
                    <a:lnTo>
                      <a:pt x="1915" y="0"/>
                    </a:lnTo>
                    <a:cubicBezTo>
                      <a:pt x="1916" y="0"/>
                      <a:pt x="1917" y="1"/>
                      <a:pt x="1917" y="2"/>
                    </a:cubicBezTo>
                    <a:cubicBezTo>
                      <a:pt x="1917" y="3"/>
                      <a:pt x="1916" y="4"/>
                      <a:pt x="1915" y="4"/>
                    </a:cubicBezTo>
                    <a:lnTo>
                      <a:pt x="1915" y="4"/>
                    </a:lnTo>
                    <a:cubicBezTo>
                      <a:pt x="1914" y="4"/>
                      <a:pt x="1913" y="3"/>
                      <a:pt x="1913" y="2"/>
                    </a:cubicBezTo>
                    <a:cubicBezTo>
                      <a:pt x="1913" y="1"/>
                      <a:pt x="1914" y="0"/>
                      <a:pt x="1915" y="0"/>
                    </a:cubicBezTo>
                    <a:close/>
                    <a:moveTo>
                      <a:pt x="1923" y="0"/>
                    </a:moveTo>
                    <a:lnTo>
                      <a:pt x="1923" y="0"/>
                    </a:lnTo>
                    <a:cubicBezTo>
                      <a:pt x="1924" y="0"/>
                      <a:pt x="1925" y="1"/>
                      <a:pt x="1925" y="2"/>
                    </a:cubicBezTo>
                    <a:cubicBezTo>
                      <a:pt x="1925" y="3"/>
                      <a:pt x="1924" y="4"/>
                      <a:pt x="1923" y="4"/>
                    </a:cubicBezTo>
                    <a:lnTo>
                      <a:pt x="1923" y="4"/>
                    </a:lnTo>
                    <a:cubicBezTo>
                      <a:pt x="1922" y="4"/>
                      <a:pt x="1921" y="3"/>
                      <a:pt x="1921" y="2"/>
                    </a:cubicBezTo>
                    <a:cubicBezTo>
                      <a:pt x="1921" y="1"/>
                      <a:pt x="1922" y="0"/>
                      <a:pt x="1923" y="0"/>
                    </a:cubicBezTo>
                    <a:close/>
                    <a:moveTo>
                      <a:pt x="1931" y="0"/>
                    </a:moveTo>
                    <a:lnTo>
                      <a:pt x="1931" y="0"/>
                    </a:lnTo>
                    <a:cubicBezTo>
                      <a:pt x="1932" y="0"/>
                      <a:pt x="1933" y="1"/>
                      <a:pt x="1933" y="2"/>
                    </a:cubicBezTo>
                    <a:cubicBezTo>
                      <a:pt x="1933" y="3"/>
                      <a:pt x="1932" y="4"/>
                      <a:pt x="1931" y="4"/>
                    </a:cubicBezTo>
                    <a:lnTo>
                      <a:pt x="1931" y="4"/>
                    </a:lnTo>
                    <a:cubicBezTo>
                      <a:pt x="1930" y="4"/>
                      <a:pt x="1929" y="3"/>
                      <a:pt x="1929" y="2"/>
                    </a:cubicBezTo>
                    <a:cubicBezTo>
                      <a:pt x="1929" y="1"/>
                      <a:pt x="1930" y="0"/>
                      <a:pt x="1931" y="0"/>
                    </a:cubicBezTo>
                    <a:close/>
                    <a:moveTo>
                      <a:pt x="1939" y="0"/>
                    </a:moveTo>
                    <a:lnTo>
                      <a:pt x="1939" y="0"/>
                    </a:lnTo>
                    <a:cubicBezTo>
                      <a:pt x="1940" y="0"/>
                      <a:pt x="1941" y="1"/>
                      <a:pt x="1941" y="2"/>
                    </a:cubicBezTo>
                    <a:cubicBezTo>
                      <a:pt x="1941" y="3"/>
                      <a:pt x="1940" y="4"/>
                      <a:pt x="1939" y="4"/>
                    </a:cubicBezTo>
                    <a:lnTo>
                      <a:pt x="1939" y="4"/>
                    </a:lnTo>
                    <a:cubicBezTo>
                      <a:pt x="1938" y="4"/>
                      <a:pt x="1937" y="3"/>
                      <a:pt x="1937" y="2"/>
                    </a:cubicBezTo>
                    <a:cubicBezTo>
                      <a:pt x="1937" y="1"/>
                      <a:pt x="1938" y="0"/>
                      <a:pt x="1939" y="0"/>
                    </a:cubicBezTo>
                    <a:close/>
                    <a:moveTo>
                      <a:pt x="1947" y="0"/>
                    </a:moveTo>
                    <a:lnTo>
                      <a:pt x="1947" y="0"/>
                    </a:lnTo>
                    <a:cubicBezTo>
                      <a:pt x="1948" y="0"/>
                      <a:pt x="1949" y="1"/>
                      <a:pt x="1949" y="2"/>
                    </a:cubicBezTo>
                    <a:cubicBezTo>
                      <a:pt x="1949" y="3"/>
                      <a:pt x="1948" y="4"/>
                      <a:pt x="1947" y="4"/>
                    </a:cubicBezTo>
                    <a:lnTo>
                      <a:pt x="1947" y="4"/>
                    </a:lnTo>
                    <a:cubicBezTo>
                      <a:pt x="1946" y="4"/>
                      <a:pt x="1945" y="3"/>
                      <a:pt x="1945" y="2"/>
                    </a:cubicBezTo>
                    <a:cubicBezTo>
                      <a:pt x="1945" y="1"/>
                      <a:pt x="1946" y="0"/>
                      <a:pt x="1947" y="0"/>
                    </a:cubicBezTo>
                    <a:close/>
                    <a:moveTo>
                      <a:pt x="1955" y="0"/>
                    </a:moveTo>
                    <a:lnTo>
                      <a:pt x="1955" y="0"/>
                    </a:lnTo>
                    <a:cubicBezTo>
                      <a:pt x="1956" y="0"/>
                      <a:pt x="1957" y="1"/>
                      <a:pt x="1957" y="2"/>
                    </a:cubicBezTo>
                    <a:cubicBezTo>
                      <a:pt x="1957" y="3"/>
                      <a:pt x="1956" y="4"/>
                      <a:pt x="1955" y="4"/>
                    </a:cubicBezTo>
                    <a:lnTo>
                      <a:pt x="1955" y="4"/>
                    </a:lnTo>
                    <a:cubicBezTo>
                      <a:pt x="1954" y="4"/>
                      <a:pt x="1953" y="3"/>
                      <a:pt x="1953" y="2"/>
                    </a:cubicBezTo>
                    <a:cubicBezTo>
                      <a:pt x="1953" y="1"/>
                      <a:pt x="1954" y="0"/>
                      <a:pt x="1955" y="0"/>
                    </a:cubicBezTo>
                    <a:close/>
                    <a:moveTo>
                      <a:pt x="1963" y="0"/>
                    </a:moveTo>
                    <a:lnTo>
                      <a:pt x="1963" y="0"/>
                    </a:lnTo>
                    <a:cubicBezTo>
                      <a:pt x="1964" y="0"/>
                      <a:pt x="1965" y="1"/>
                      <a:pt x="1965" y="2"/>
                    </a:cubicBezTo>
                    <a:cubicBezTo>
                      <a:pt x="1965" y="3"/>
                      <a:pt x="1964" y="4"/>
                      <a:pt x="1963" y="4"/>
                    </a:cubicBezTo>
                    <a:lnTo>
                      <a:pt x="1963" y="4"/>
                    </a:lnTo>
                    <a:cubicBezTo>
                      <a:pt x="1962" y="4"/>
                      <a:pt x="1961" y="3"/>
                      <a:pt x="1961" y="2"/>
                    </a:cubicBezTo>
                    <a:cubicBezTo>
                      <a:pt x="1961" y="1"/>
                      <a:pt x="1962" y="0"/>
                      <a:pt x="1963" y="0"/>
                    </a:cubicBezTo>
                    <a:close/>
                    <a:moveTo>
                      <a:pt x="1971" y="0"/>
                    </a:moveTo>
                    <a:lnTo>
                      <a:pt x="1971" y="0"/>
                    </a:lnTo>
                    <a:cubicBezTo>
                      <a:pt x="1972" y="0"/>
                      <a:pt x="1973" y="1"/>
                      <a:pt x="1973" y="2"/>
                    </a:cubicBezTo>
                    <a:cubicBezTo>
                      <a:pt x="1973" y="3"/>
                      <a:pt x="1972" y="4"/>
                      <a:pt x="1971" y="4"/>
                    </a:cubicBezTo>
                    <a:lnTo>
                      <a:pt x="1971" y="4"/>
                    </a:lnTo>
                    <a:cubicBezTo>
                      <a:pt x="1970" y="4"/>
                      <a:pt x="1969" y="3"/>
                      <a:pt x="1969" y="2"/>
                    </a:cubicBezTo>
                    <a:cubicBezTo>
                      <a:pt x="1969" y="1"/>
                      <a:pt x="1970" y="0"/>
                      <a:pt x="1971" y="0"/>
                    </a:cubicBezTo>
                    <a:close/>
                    <a:moveTo>
                      <a:pt x="1979" y="0"/>
                    </a:moveTo>
                    <a:lnTo>
                      <a:pt x="1979" y="0"/>
                    </a:lnTo>
                    <a:cubicBezTo>
                      <a:pt x="1980" y="0"/>
                      <a:pt x="1981" y="1"/>
                      <a:pt x="1981" y="2"/>
                    </a:cubicBezTo>
                    <a:cubicBezTo>
                      <a:pt x="1981" y="3"/>
                      <a:pt x="1980" y="4"/>
                      <a:pt x="1979" y="4"/>
                    </a:cubicBezTo>
                    <a:lnTo>
                      <a:pt x="1979" y="4"/>
                    </a:lnTo>
                    <a:cubicBezTo>
                      <a:pt x="1978" y="4"/>
                      <a:pt x="1977" y="3"/>
                      <a:pt x="1977" y="2"/>
                    </a:cubicBezTo>
                    <a:cubicBezTo>
                      <a:pt x="1977" y="1"/>
                      <a:pt x="1978" y="0"/>
                      <a:pt x="1979" y="0"/>
                    </a:cubicBezTo>
                    <a:close/>
                    <a:moveTo>
                      <a:pt x="1987" y="0"/>
                    </a:moveTo>
                    <a:lnTo>
                      <a:pt x="1987" y="0"/>
                    </a:lnTo>
                    <a:cubicBezTo>
                      <a:pt x="1988" y="0"/>
                      <a:pt x="1989" y="1"/>
                      <a:pt x="1989" y="2"/>
                    </a:cubicBezTo>
                    <a:cubicBezTo>
                      <a:pt x="1989" y="3"/>
                      <a:pt x="1988" y="4"/>
                      <a:pt x="1987" y="4"/>
                    </a:cubicBezTo>
                    <a:lnTo>
                      <a:pt x="1987" y="4"/>
                    </a:lnTo>
                    <a:cubicBezTo>
                      <a:pt x="1986" y="4"/>
                      <a:pt x="1985" y="3"/>
                      <a:pt x="1985" y="2"/>
                    </a:cubicBezTo>
                    <a:cubicBezTo>
                      <a:pt x="1985" y="1"/>
                      <a:pt x="1986" y="0"/>
                      <a:pt x="1987" y="0"/>
                    </a:cubicBezTo>
                    <a:close/>
                    <a:moveTo>
                      <a:pt x="1995" y="0"/>
                    </a:moveTo>
                    <a:lnTo>
                      <a:pt x="1995" y="0"/>
                    </a:lnTo>
                    <a:cubicBezTo>
                      <a:pt x="1996" y="0"/>
                      <a:pt x="1997" y="1"/>
                      <a:pt x="1997" y="2"/>
                    </a:cubicBezTo>
                    <a:cubicBezTo>
                      <a:pt x="1997" y="3"/>
                      <a:pt x="1996" y="4"/>
                      <a:pt x="1995" y="4"/>
                    </a:cubicBezTo>
                    <a:lnTo>
                      <a:pt x="1995" y="4"/>
                    </a:lnTo>
                    <a:cubicBezTo>
                      <a:pt x="1994" y="4"/>
                      <a:pt x="1993" y="3"/>
                      <a:pt x="1993" y="2"/>
                    </a:cubicBezTo>
                    <a:cubicBezTo>
                      <a:pt x="1993" y="1"/>
                      <a:pt x="1994" y="0"/>
                      <a:pt x="1995" y="0"/>
                    </a:cubicBezTo>
                    <a:close/>
                    <a:moveTo>
                      <a:pt x="2003" y="0"/>
                    </a:moveTo>
                    <a:lnTo>
                      <a:pt x="2003" y="0"/>
                    </a:lnTo>
                    <a:cubicBezTo>
                      <a:pt x="2004" y="0"/>
                      <a:pt x="2005" y="1"/>
                      <a:pt x="2005" y="2"/>
                    </a:cubicBezTo>
                    <a:cubicBezTo>
                      <a:pt x="2005" y="3"/>
                      <a:pt x="2004" y="4"/>
                      <a:pt x="2003" y="4"/>
                    </a:cubicBezTo>
                    <a:lnTo>
                      <a:pt x="2003" y="4"/>
                    </a:lnTo>
                    <a:cubicBezTo>
                      <a:pt x="2002" y="4"/>
                      <a:pt x="2001" y="3"/>
                      <a:pt x="2001" y="2"/>
                    </a:cubicBezTo>
                    <a:cubicBezTo>
                      <a:pt x="2001" y="1"/>
                      <a:pt x="2002" y="0"/>
                      <a:pt x="2003" y="0"/>
                    </a:cubicBezTo>
                    <a:close/>
                    <a:moveTo>
                      <a:pt x="2011" y="0"/>
                    </a:moveTo>
                    <a:lnTo>
                      <a:pt x="2011" y="0"/>
                    </a:lnTo>
                    <a:cubicBezTo>
                      <a:pt x="2012" y="0"/>
                      <a:pt x="2013" y="1"/>
                      <a:pt x="2013" y="2"/>
                    </a:cubicBezTo>
                    <a:cubicBezTo>
                      <a:pt x="2013" y="3"/>
                      <a:pt x="2012" y="4"/>
                      <a:pt x="2011" y="4"/>
                    </a:cubicBezTo>
                    <a:lnTo>
                      <a:pt x="2011" y="4"/>
                    </a:lnTo>
                    <a:cubicBezTo>
                      <a:pt x="2010" y="4"/>
                      <a:pt x="2009" y="3"/>
                      <a:pt x="2009" y="2"/>
                    </a:cubicBezTo>
                    <a:cubicBezTo>
                      <a:pt x="2009" y="1"/>
                      <a:pt x="2010" y="0"/>
                      <a:pt x="2011" y="0"/>
                    </a:cubicBezTo>
                    <a:close/>
                    <a:moveTo>
                      <a:pt x="2019" y="0"/>
                    </a:moveTo>
                    <a:lnTo>
                      <a:pt x="2019" y="0"/>
                    </a:lnTo>
                    <a:cubicBezTo>
                      <a:pt x="2020" y="0"/>
                      <a:pt x="2021" y="1"/>
                      <a:pt x="2021" y="2"/>
                    </a:cubicBezTo>
                    <a:cubicBezTo>
                      <a:pt x="2021" y="3"/>
                      <a:pt x="2020" y="4"/>
                      <a:pt x="2019" y="4"/>
                    </a:cubicBezTo>
                    <a:lnTo>
                      <a:pt x="2019" y="4"/>
                    </a:lnTo>
                    <a:cubicBezTo>
                      <a:pt x="2018" y="4"/>
                      <a:pt x="2017" y="3"/>
                      <a:pt x="2017" y="2"/>
                    </a:cubicBezTo>
                    <a:cubicBezTo>
                      <a:pt x="2017" y="1"/>
                      <a:pt x="2018" y="0"/>
                      <a:pt x="2019" y="0"/>
                    </a:cubicBezTo>
                    <a:close/>
                    <a:moveTo>
                      <a:pt x="2027" y="0"/>
                    </a:moveTo>
                    <a:lnTo>
                      <a:pt x="2027" y="0"/>
                    </a:lnTo>
                    <a:cubicBezTo>
                      <a:pt x="2028" y="0"/>
                      <a:pt x="2029" y="1"/>
                      <a:pt x="2029" y="2"/>
                    </a:cubicBezTo>
                    <a:cubicBezTo>
                      <a:pt x="2029" y="3"/>
                      <a:pt x="2028" y="4"/>
                      <a:pt x="2027" y="4"/>
                    </a:cubicBezTo>
                    <a:lnTo>
                      <a:pt x="2027" y="4"/>
                    </a:lnTo>
                    <a:cubicBezTo>
                      <a:pt x="2026" y="4"/>
                      <a:pt x="2025" y="3"/>
                      <a:pt x="2025" y="2"/>
                    </a:cubicBezTo>
                    <a:cubicBezTo>
                      <a:pt x="2025" y="1"/>
                      <a:pt x="2026" y="0"/>
                      <a:pt x="2027" y="0"/>
                    </a:cubicBezTo>
                    <a:close/>
                    <a:moveTo>
                      <a:pt x="2035" y="0"/>
                    </a:moveTo>
                    <a:lnTo>
                      <a:pt x="2035" y="0"/>
                    </a:lnTo>
                    <a:cubicBezTo>
                      <a:pt x="2036" y="0"/>
                      <a:pt x="2037" y="1"/>
                      <a:pt x="2037" y="2"/>
                    </a:cubicBezTo>
                    <a:cubicBezTo>
                      <a:pt x="2037" y="3"/>
                      <a:pt x="2036" y="4"/>
                      <a:pt x="2035" y="4"/>
                    </a:cubicBezTo>
                    <a:lnTo>
                      <a:pt x="2035" y="4"/>
                    </a:lnTo>
                    <a:cubicBezTo>
                      <a:pt x="2034" y="4"/>
                      <a:pt x="2033" y="3"/>
                      <a:pt x="2033" y="2"/>
                    </a:cubicBezTo>
                    <a:cubicBezTo>
                      <a:pt x="2033" y="1"/>
                      <a:pt x="2034" y="0"/>
                      <a:pt x="2035" y="0"/>
                    </a:cubicBezTo>
                    <a:close/>
                    <a:moveTo>
                      <a:pt x="2043" y="0"/>
                    </a:moveTo>
                    <a:lnTo>
                      <a:pt x="2043" y="0"/>
                    </a:lnTo>
                    <a:cubicBezTo>
                      <a:pt x="2044" y="0"/>
                      <a:pt x="2045" y="1"/>
                      <a:pt x="2045" y="2"/>
                    </a:cubicBezTo>
                    <a:cubicBezTo>
                      <a:pt x="2045" y="3"/>
                      <a:pt x="2044" y="4"/>
                      <a:pt x="2043" y="4"/>
                    </a:cubicBezTo>
                    <a:lnTo>
                      <a:pt x="2043" y="4"/>
                    </a:lnTo>
                    <a:cubicBezTo>
                      <a:pt x="2042" y="4"/>
                      <a:pt x="2041" y="3"/>
                      <a:pt x="2041" y="2"/>
                    </a:cubicBezTo>
                    <a:cubicBezTo>
                      <a:pt x="2041" y="1"/>
                      <a:pt x="2042" y="0"/>
                      <a:pt x="2043" y="0"/>
                    </a:cubicBezTo>
                    <a:close/>
                    <a:moveTo>
                      <a:pt x="2051" y="0"/>
                    </a:moveTo>
                    <a:lnTo>
                      <a:pt x="2051" y="0"/>
                    </a:lnTo>
                    <a:cubicBezTo>
                      <a:pt x="2052" y="0"/>
                      <a:pt x="2053" y="1"/>
                      <a:pt x="2053" y="2"/>
                    </a:cubicBezTo>
                    <a:cubicBezTo>
                      <a:pt x="2053" y="3"/>
                      <a:pt x="2052" y="4"/>
                      <a:pt x="2051" y="4"/>
                    </a:cubicBezTo>
                    <a:lnTo>
                      <a:pt x="2051" y="4"/>
                    </a:lnTo>
                    <a:cubicBezTo>
                      <a:pt x="2050" y="4"/>
                      <a:pt x="2049" y="3"/>
                      <a:pt x="2049" y="2"/>
                    </a:cubicBezTo>
                    <a:cubicBezTo>
                      <a:pt x="2049" y="1"/>
                      <a:pt x="2050" y="0"/>
                      <a:pt x="2051" y="0"/>
                    </a:cubicBezTo>
                    <a:close/>
                    <a:moveTo>
                      <a:pt x="2059" y="0"/>
                    </a:moveTo>
                    <a:lnTo>
                      <a:pt x="2059" y="0"/>
                    </a:lnTo>
                    <a:cubicBezTo>
                      <a:pt x="2060" y="0"/>
                      <a:pt x="2061" y="1"/>
                      <a:pt x="2061" y="2"/>
                    </a:cubicBezTo>
                    <a:cubicBezTo>
                      <a:pt x="2061" y="3"/>
                      <a:pt x="2060" y="4"/>
                      <a:pt x="2059" y="4"/>
                    </a:cubicBezTo>
                    <a:lnTo>
                      <a:pt x="2059" y="4"/>
                    </a:lnTo>
                    <a:cubicBezTo>
                      <a:pt x="2058" y="4"/>
                      <a:pt x="2057" y="3"/>
                      <a:pt x="2057" y="2"/>
                    </a:cubicBezTo>
                    <a:cubicBezTo>
                      <a:pt x="2057" y="1"/>
                      <a:pt x="2058" y="0"/>
                      <a:pt x="2059" y="0"/>
                    </a:cubicBezTo>
                    <a:close/>
                    <a:moveTo>
                      <a:pt x="2067" y="0"/>
                    </a:moveTo>
                    <a:lnTo>
                      <a:pt x="2067" y="0"/>
                    </a:lnTo>
                    <a:cubicBezTo>
                      <a:pt x="2068" y="0"/>
                      <a:pt x="2069" y="1"/>
                      <a:pt x="2069" y="2"/>
                    </a:cubicBezTo>
                    <a:cubicBezTo>
                      <a:pt x="2069" y="3"/>
                      <a:pt x="2068" y="4"/>
                      <a:pt x="2067" y="4"/>
                    </a:cubicBezTo>
                    <a:lnTo>
                      <a:pt x="2067" y="4"/>
                    </a:lnTo>
                    <a:cubicBezTo>
                      <a:pt x="2066" y="4"/>
                      <a:pt x="2065" y="3"/>
                      <a:pt x="2065" y="2"/>
                    </a:cubicBezTo>
                    <a:cubicBezTo>
                      <a:pt x="2065" y="1"/>
                      <a:pt x="2066" y="0"/>
                      <a:pt x="2067" y="0"/>
                    </a:cubicBezTo>
                    <a:close/>
                    <a:moveTo>
                      <a:pt x="2075" y="0"/>
                    </a:moveTo>
                    <a:lnTo>
                      <a:pt x="2075" y="0"/>
                    </a:lnTo>
                    <a:cubicBezTo>
                      <a:pt x="2076" y="0"/>
                      <a:pt x="2077" y="1"/>
                      <a:pt x="2077" y="2"/>
                    </a:cubicBezTo>
                    <a:cubicBezTo>
                      <a:pt x="2077" y="3"/>
                      <a:pt x="2076" y="4"/>
                      <a:pt x="2075" y="4"/>
                    </a:cubicBezTo>
                    <a:lnTo>
                      <a:pt x="2075" y="4"/>
                    </a:lnTo>
                    <a:cubicBezTo>
                      <a:pt x="2074" y="4"/>
                      <a:pt x="2073" y="3"/>
                      <a:pt x="2073" y="2"/>
                    </a:cubicBezTo>
                    <a:cubicBezTo>
                      <a:pt x="2073" y="1"/>
                      <a:pt x="2074" y="0"/>
                      <a:pt x="2075" y="0"/>
                    </a:cubicBezTo>
                    <a:close/>
                    <a:moveTo>
                      <a:pt x="2083" y="0"/>
                    </a:moveTo>
                    <a:lnTo>
                      <a:pt x="2083" y="0"/>
                    </a:lnTo>
                    <a:cubicBezTo>
                      <a:pt x="2084" y="0"/>
                      <a:pt x="2085" y="1"/>
                      <a:pt x="2085" y="2"/>
                    </a:cubicBezTo>
                    <a:cubicBezTo>
                      <a:pt x="2085" y="3"/>
                      <a:pt x="2084" y="4"/>
                      <a:pt x="2083" y="4"/>
                    </a:cubicBezTo>
                    <a:lnTo>
                      <a:pt x="2083" y="4"/>
                    </a:lnTo>
                    <a:cubicBezTo>
                      <a:pt x="2082" y="4"/>
                      <a:pt x="2081" y="3"/>
                      <a:pt x="2081" y="2"/>
                    </a:cubicBezTo>
                    <a:cubicBezTo>
                      <a:pt x="2081" y="1"/>
                      <a:pt x="2082" y="0"/>
                      <a:pt x="2083" y="0"/>
                    </a:cubicBezTo>
                    <a:close/>
                    <a:moveTo>
                      <a:pt x="2091" y="0"/>
                    </a:moveTo>
                    <a:lnTo>
                      <a:pt x="2091" y="0"/>
                    </a:lnTo>
                    <a:cubicBezTo>
                      <a:pt x="2092" y="0"/>
                      <a:pt x="2093" y="1"/>
                      <a:pt x="2093" y="2"/>
                    </a:cubicBezTo>
                    <a:cubicBezTo>
                      <a:pt x="2093" y="3"/>
                      <a:pt x="2092" y="4"/>
                      <a:pt x="2091" y="4"/>
                    </a:cubicBezTo>
                    <a:lnTo>
                      <a:pt x="2091" y="4"/>
                    </a:lnTo>
                    <a:cubicBezTo>
                      <a:pt x="2090" y="4"/>
                      <a:pt x="2089" y="3"/>
                      <a:pt x="2089" y="2"/>
                    </a:cubicBezTo>
                    <a:cubicBezTo>
                      <a:pt x="2089" y="1"/>
                      <a:pt x="2090" y="0"/>
                      <a:pt x="2091" y="0"/>
                    </a:cubicBezTo>
                    <a:close/>
                    <a:moveTo>
                      <a:pt x="2099" y="0"/>
                    </a:moveTo>
                    <a:lnTo>
                      <a:pt x="2099" y="0"/>
                    </a:lnTo>
                    <a:cubicBezTo>
                      <a:pt x="2100" y="0"/>
                      <a:pt x="2101" y="1"/>
                      <a:pt x="2101" y="2"/>
                    </a:cubicBezTo>
                    <a:cubicBezTo>
                      <a:pt x="2101" y="3"/>
                      <a:pt x="2100" y="4"/>
                      <a:pt x="2099" y="4"/>
                    </a:cubicBezTo>
                    <a:lnTo>
                      <a:pt x="2099" y="4"/>
                    </a:lnTo>
                    <a:cubicBezTo>
                      <a:pt x="2098" y="4"/>
                      <a:pt x="2097" y="3"/>
                      <a:pt x="2097" y="2"/>
                    </a:cubicBezTo>
                    <a:cubicBezTo>
                      <a:pt x="2097" y="1"/>
                      <a:pt x="2098" y="0"/>
                      <a:pt x="2099" y="0"/>
                    </a:cubicBezTo>
                    <a:close/>
                    <a:moveTo>
                      <a:pt x="2107" y="0"/>
                    </a:moveTo>
                    <a:lnTo>
                      <a:pt x="2107" y="0"/>
                    </a:lnTo>
                    <a:cubicBezTo>
                      <a:pt x="2108" y="0"/>
                      <a:pt x="2109" y="1"/>
                      <a:pt x="2109" y="2"/>
                    </a:cubicBezTo>
                    <a:cubicBezTo>
                      <a:pt x="2109" y="3"/>
                      <a:pt x="2108" y="4"/>
                      <a:pt x="2107" y="4"/>
                    </a:cubicBezTo>
                    <a:lnTo>
                      <a:pt x="2107" y="4"/>
                    </a:lnTo>
                    <a:cubicBezTo>
                      <a:pt x="2106" y="4"/>
                      <a:pt x="2105" y="3"/>
                      <a:pt x="2105" y="2"/>
                    </a:cubicBezTo>
                    <a:cubicBezTo>
                      <a:pt x="2105" y="1"/>
                      <a:pt x="2106" y="0"/>
                      <a:pt x="2107" y="0"/>
                    </a:cubicBezTo>
                    <a:close/>
                    <a:moveTo>
                      <a:pt x="2115" y="0"/>
                    </a:moveTo>
                    <a:lnTo>
                      <a:pt x="2115" y="0"/>
                    </a:lnTo>
                    <a:cubicBezTo>
                      <a:pt x="2116" y="0"/>
                      <a:pt x="2117" y="1"/>
                      <a:pt x="2117" y="2"/>
                    </a:cubicBezTo>
                    <a:cubicBezTo>
                      <a:pt x="2117" y="3"/>
                      <a:pt x="2116" y="4"/>
                      <a:pt x="2115" y="4"/>
                    </a:cubicBezTo>
                    <a:lnTo>
                      <a:pt x="2115" y="4"/>
                    </a:lnTo>
                    <a:cubicBezTo>
                      <a:pt x="2114" y="4"/>
                      <a:pt x="2113" y="3"/>
                      <a:pt x="2113" y="2"/>
                    </a:cubicBezTo>
                    <a:cubicBezTo>
                      <a:pt x="2113" y="1"/>
                      <a:pt x="2114" y="0"/>
                      <a:pt x="2115" y="0"/>
                    </a:cubicBezTo>
                    <a:close/>
                    <a:moveTo>
                      <a:pt x="2123" y="0"/>
                    </a:moveTo>
                    <a:lnTo>
                      <a:pt x="2123" y="0"/>
                    </a:lnTo>
                    <a:cubicBezTo>
                      <a:pt x="2124" y="0"/>
                      <a:pt x="2125" y="1"/>
                      <a:pt x="2125" y="2"/>
                    </a:cubicBezTo>
                    <a:cubicBezTo>
                      <a:pt x="2125" y="3"/>
                      <a:pt x="2124" y="4"/>
                      <a:pt x="2123" y="4"/>
                    </a:cubicBezTo>
                    <a:lnTo>
                      <a:pt x="2123" y="4"/>
                    </a:lnTo>
                    <a:cubicBezTo>
                      <a:pt x="2122" y="4"/>
                      <a:pt x="2121" y="3"/>
                      <a:pt x="2121" y="2"/>
                    </a:cubicBezTo>
                    <a:cubicBezTo>
                      <a:pt x="2121" y="1"/>
                      <a:pt x="2122" y="0"/>
                      <a:pt x="2123" y="0"/>
                    </a:cubicBezTo>
                    <a:close/>
                    <a:moveTo>
                      <a:pt x="2131" y="0"/>
                    </a:moveTo>
                    <a:lnTo>
                      <a:pt x="2131" y="0"/>
                    </a:lnTo>
                    <a:cubicBezTo>
                      <a:pt x="2132" y="0"/>
                      <a:pt x="2133" y="1"/>
                      <a:pt x="2133" y="2"/>
                    </a:cubicBezTo>
                    <a:cubicBezTo>
                      <a:pt x="2133" y="4"/>
                      <a:pt x="2132" y="4"/>
                      <a:pt x="2131" y="4"/>
                    </a:cubicBezTo>
                    <a:lnTo>
                      <a:pt x="2131" y="4"/>
                    </a:lnTo>
                    <a:cubicBezTo>
                      <a:pt x="2130" y="4"/>
                      <a:pt x="2129" y="4"/>
                      <a:pt x="2129" y="2"/>
                    </a:cubicBezTo>
                    <a:cubicBezTo>
                      <a:pt x="2129" y="1"/>
                      <a:pt x="2130" y="0"/>
                      <a:pt x="2131" y="0"/>
                    </a:cubicBezTo>
                    <a:close/>
                    <a:moveTo>
                      <a:pt x="2139" y="0"/>
                    </a:moveTo>
                    <a:lnTo>
                      <a:pt x="2139" y="0"/>
                    </a:lnTo>
                    <a:cubicBezTo>
                      <a:pt x="2140" y="0"/>
                      <a:pt x="2141" y="1"/>
                      <a:pt x="2141" y="2"/>
                    </a:cubicBezTo>
                    <a:cubicBezTo>
                      <a:pt x="2141" y="4"/>
                      <a:pt x="2140" y="4"/>
                      <a:pt x="2139" y="4"/>
                    </a:cubicBezTo>
                    <a:lnTo>
                      <a:pt x="2139" y="4"/>
                    </a:lnTo>
                    <a:cubicBezTo>
                      <a:pt x="2138" y="4"/>
                      <a:pt x="2137" y="4"/>
                      <a:pt x="2137" y="2"/>
                    </a:cubicBezTo>
                    <a:cubicBezTo>
                      <a:pt x="2137" y="1"/>
                      <a:pt x="2138" y="0"/>
                      <a:pt x="2139" y="0"/>
                    </a:cubicBezTo>
                    <a:close/>
                    <a:moveTo>
                      <a:pt x="2147" y="0"/>
                    </a:moveTo>
                    <a:lnTo>
                      <a:pt x="2147" y="0"/>
                    </a:lnTo>
                    <a:cubicBezTo>
                      <a:pt x="2148" y="0"/>
                      <a:pt x="2149" y="1"/>
                      <a:pt x="2149" y="2"/>
                    </a:cubicBezTo>
                    <a:cubicBezTo>
                      <a:pt x="2149" y="4"/>
                      <a:pt x="2148" y="4"/>
                      <a:pt x="2147" y="4"/>
                    </a:cubicBezTo>
                    <a:lnTo>
                      <a:pt x="2147" y="4"/>
                    </a:lnTo>
                    <a:cubicBezTo>
                      <a:pt x="2146" y="4"/>
                      <a:pt x="2145" y="4"/>
                      <a:pt x="2145" y="2"/>
                    </a:cubicBezTo>
                    <a:cubicBezTo>
                      <a:pt x="2145" y="1"/>
                      <a:pt x="2146" y="0"/>
                      <a:pt x="2147" y="0"/>
                    </a:cubicBezTo>
                    <a:close/>
                    <a:moveTo>
                      <a:pt x="2155" y="0"/>
                    </a:moveTo>
                    <a:lnTo>
                      <a:pt x="2155" y="0"/>
                    </a:lnTo>
                    <a:cubicBezTo>
                      <a:pt x="2156" y="0"/>
                      <a:pt x="2157" y="1"/>
                      <a:pt x="2157" y="2"/>
                    </a:cubicBezTo>
                    <a:cubicBezTo>
                      <a:pt x="2157" y="4"/>
                      <a:pt x="2156" y="4"/>
                      <a:pt x="2155" y="4"/>
                    </a:cubicBezTo>
                    <a:lnTo>
                      <a:pt x="2155" y="4"/>
                    </a:lnTo>
                    <a:cubicBezTo>
                      <a:pt x="2154" y="4"/>
                      <a:pt x="2153" y="4"/>
                      <a:pt x="2153" y="2"/>
                    </a:cubicBezTo>
                    <a:cubicBezTo>
                      <a:pt x="2153" y="1"/>
                      <a:pt x="2154" y="0"/>
                      <a:pt x="2155" y="0"/>
                    </a:cubicBezTo>
                    <a:close/>
                    <a:moveTo>
                      <a:pt x="2163" y="0"/>
                    </a:moveTo>
                    <a:lnTo>
                      <a:pt x="2163" y="0"/>
                    </a:lnTo>
                    <a:cubicBezTo>
                      <a:pt x="2164" y="0"/>
                      <a:pt x="2165" y="1"/>
                      <a:pt x="2165" y="2"/>
                    </a:cubicBezTo>
                    <a:cubicBezTo>
                      <a:pt x="2165" y="4"/>
                      <a:pt x="2164" y="4"/>
                      <a:pt x="2163" y="4"/>
                    </a:cubicBezTo>
                    <a:lnTo>
                      <a:pt x="2163" y="4"/>
                    </a:lnTo>
                    <a:cubicBezTo>
                      <a:pt x="2162" y="4"/>
                      <a:pt x="2161" y="4"/>
                      <a:pt x="2161" y="2"/>
                    </a:cubicBezTo>
                    <a:cubicBezTo>
                      <a:pt x="2161" y="1"/>
                      <a:pt x="2162" y="0"/>
                      <a:pt x="2163" y="0"/>
                    </a:cubicBezTo>
                    <a:close/>
                    <a:moveTo>
                      <a:pt x="2171" y="0"/>
                    </a:moveTo>
                    <a:lnTo>
                      <a:pt x="2171" y="0"/>
                    </a:lnTo>
                    <a:cubicBezTo>
                      <a:pt x="2172" y="0"/>
                      <a:pt x="2173" y="1"/>
                      <a:pt x="2173" y="2"/>
                    </a:cubicBezTo>
                    <a:cubicBezTo>
                      <a:pt x="2173" y="4"/>
                      <a:pt x="2172" y="4"/>
                      <a:pt x="2171" y="4"/>
                    </a:cubicBezTo>
                    <a:lnTo>
                      <a:pt x="2171" y="4"/>
                    </a:lnTo>
                    <a:cubicBezTo>
                      <a:pt x="2170" y="4"/>
                      <a:pt x="2169" y="4"/>
                      <a:pt x="2169" y="2"/>
                    </a:cubicBezTo>
                    <a:cubicBezTo>
                      <a:pt x="2169" y="1"/>
                      <a:pt x="2170" y="0"/>
                      <a:pt x="2171" y="0"/>
                    </a:cubicBezTo>
                    <a:close/>
                    <a:moveTo>
                      <a:pt x="2179" y="0"/>
                    </a:moveTo>
                    <a:lnTo>
                      <a:pt x="2179" y="0"/>
                    </a:lnTo>
                    <a:cubicBezTo>
                      <a:pt x="2180" y="0"/>
                      <a:pt x="2181" y="1"/>
                      <a:pt x="2181" y="2"/>
                    </a:cubicBezTo>
                    <a:cubicBezTo>
                      <a:pt x="2181" y="4"/>
                      <a:pt x="2180" y="4"/>
                      <a:pt x="2179" y="4"/>
                    </a:cubicBezTo>
                    <a:lnTo>
                      <a:pt x="2179" y="4"/>
                    </a:lnTo>
                    <a:cubicBezTo>
                      <a:pt x="2178" y="4"/>
                      <a:pt x="2177" y="4"/>
                      <a:pt x="2177" y="2"/>
                    </a:cubicBezTo>
                    <a:cubicBezTo>
                      <a:pt x="2177" y="1"/>
                      <a:pt x="2178" y="0"/>
                      <a:pt x="2179" y="0"/>
                    </a:cubicBezTo>
                    <a:close/>
                    <a:moveTo>
                      <a:pt x="2187" y="0"/>
                    </a:moveTo>
                    <a:lnTo>
                      <a:pt x="2187" y="0"/>
                    </a:lnTo>
                    <a:cubicBezTo>
                      <a:pt x="2188" y="0"/>
                      <a:pt x="2189" y="1"/>
                      <a:pt x="2189" y="2"/>
                    </a:cubicBezTo>
                    <a:cubicBezTo>
                      <a:pt x="2189" y="4"/>
                      <a:pt x="2188" y="4"/>
                      <a:pt x="2187" y="4"/>
                    </a:cubicBezTo>
                    <a:lnTo>
                      <a:pt x="2187" y="4"/>
                    </a:lnTo>
                    <a:cubicBezTo>
                      <a:pt x="2186" y="4"/>
                      <a:pt x="2185" y="4"/>
                      <a:pt x="2185" y="2"/>
                    </a:cubicBezTo>
                    <a:cubicBezTo>
                      <a:pt x="2185" y="1"/>
                      <a:pt x="2186" y="0"/>
                      <a:pt x="2187" y="0"/>
                    </a:cubicBezTo>
                    <a:close/>
                    <a:moveTo>
                      <a:pt x="2195" y="0"/>
                    </a:moveTo>
                    <a:lnTo>
                      <a:pt x="2195" y="0"/>
                    </a:lnTo>
                    <a:cubicBezTo>
                      <a:pt x="2196" y="0"/>
                      <a:pt x="2197" y="1"/>
                      <a:pt x="2197" y="2"/>
                    </a:cubicBezTo>
                    <a:cubicBezTo>
                      <a:pt x="2197" y="4"/>
                      <a:pt x="2196" y="4"/>
                      <a:pt x="2195" y="4"/>
                    </a:cubicBezTo>
                    <a:lnTo>
                      <a:pt x="2195" y="4"/>
                    </a:lnTo>
                    <a:cubicBezTo>
                      <a:pt x="2194" y="4"/>
                      <a:pt x="2193" y="4"/>
                      <a:pt x="2193" y="2"/>
                    </a:cubicBezTo>
                    <a:cubicBezTo>
                      <a:pt x="2193" y="1"/>
                      <a:pt x="2194" y="0"/>
                      <a:pt x="2195" y="0"/>
                    </a:cubicBezTo>
                    <a:close/>
                    <a:moveTo>
                      <a:pt x="2203" y="0"/>
                    </a:moveTo>
                    <a:lnTo>
                      <a:pt x="2203" y="0"/>
                    </a:lnTo>
                    <a:cubicBezTo>
                      <a:pt x="2204" y="0"/>
                      <a:pt x="2205" y="1"/>
                      <a:pt x="2205" y="2"/>
                    </a:cubicBezTo>
                    <a:cubicBezTo>
                      <a:pt x="2205" y="4"/>
                      <a:pt x="2204" y="4"/>
                      <a:pt x="2203" y="4"/>
                    </a:cubicBezTo>
                    <a:lnTo>
                      <a:pt x="2203" y="4"/>
                    </a:lnTo>
                    <a:cubicBezTo>
                      <a:pt x="2202" y="4"/>
                      <a:pt x="2201" y="4"/>
                      <a:pt x="2201" y="2"/>
                    </a:cubicBezTo>
                    <a:cubicBezTo>
                      <a:pt x="2201" y="1"/>
                      <a:pt x="2202" y="0"/>
                      <a:pt x="2203" y="0"/>
                    </a:cubicBezTo>
                    <a:close/>
                    <a:moveTo>
                      <a:pt x="2211" y="0"/>
                    </a:moveTo>
                    <a:lnTo>
                      <a:pt x="2211" y="0"/>
                    </a:lnTo>
                    <a:cubicBezTo>
                      <a:pt x="2212" y="0"/>
                      <a:pt x="2213" y="1"/>
                      <a:pt x="2213" y="2"/>
                    </a:cubicBezTo>
                    <a:cubicBezTo>
                      <a:pt x="2213" y="4"/>
                      <a:pt x="2212" y="4"/>
                      <a:pt x="2211" y="4"/>
                    </a:cubicBezTo>
                    <a:lnTo>
                      <a:pt x="2211" y="4"/>
                    </a:lnTo>
                    <a:cubicBezTo>
                      <a:pt x="2210" y="4"/>
                      <a:pt x="2209" y="4"/>
                      <a:pt x="2209" y="2"/>
                    </a:cubicBezTo>
                    <a:cubicBezTo>
                      <a:pt x="2209" y="1"/>
                      <a:pt x="2210" y="0"/>
                      <a:pt x="2211" y="0"/>
                    </a:cubicBezTo>
                    <a:close/>
                    <a:moveTo>
                      <a:pt x="2219" y="0"/>
                    </a:moveTo>
                    <a:lnTo>
                      <a:pt x="2219" y="0"/>
                    </a:lnTo>
                    <a:cubicBezTo>
                      <a:pt x="2220" y="0"/>
                      <a:pt x="2221" y="1"/>
                      <a:pt x="2221" y="2"/>
                    </a:cubicBezTo>
                    <a:cubicBezTo>
                      <a:pt x="2221" y="4"/>
                      <a:pt x="2220" y="4"/>
                      <a:pt x="2219" y="4"/>
                    </a:cubicBezTo>
                    <a:lnTo>
                      <a:pt x="2219" y="4"/>
                    </a:lnTo>
                    <a:cubicBezTo>
                      <a:pt x="2218" y="4"/>
                      <a:pt x="2217" y="4"/>
                      <a:pt x="2217" y="2"/>
                    </a:cubicBezTo>
                    <a:cubicBezTo>
                      <a:pt x="2217" y="1"/>
                      <a:pt x="2218" y="0"/>
                      <a:pt x="2219" y="0"/>
                    </a:cubicBezTo>
                    <a:close/>
                    <a:moveTo>
                      <a:pt x="2227" y="0"/>
                    </a:moveTo>
                    <a:lnTo>
                      <a:pt x="2227" y="0"/>
                    </a:lnTo>
                    <a:cubicBezTo>
                      <a:pt x="2228" y="0"/>
                      <a:pt x="2229" y="1"/>
                      <a:pt x="2229" y="2"/>
                    </a:cubicBezTo>
                    <a:cubicBezTo>
                      <a:pt x="2229" y="4"/>
                      <a:pt x="2228" y="4"/>
                      <a:pt x="2227" y="4"/>
                    </a:cubicBezTo>
                    <a:lnTo>
                      <a:pt x="2227" y="4"/>
                    </a:lnTo>
                    <a:cubicBezTo>
                      <a:pt x="2226" y="4"/>
                      <a:pt x="2225" y="4"/>
                      <a:pt x="2225" y="2"/>
                    </a:cubicBezTo>
                    <a:cubicBezTo>
                      <a:pt x="2225" y="1"/>
                      <a:pt x="2226" y="0"/>
                      <a:pt x="2227" y="0"/>
                    </a:cubicBezTo>
                    <a:close/>
                    <a:moveTo>
                      <a:pt x="2235" y="0"/>
                    </a:moveTo>
                    <a:lnTo>
                      <a:pt x="2235" y="0"/>
                    </a:lnTo>
                    <a:cubicBezTo>
                      <a:pt x="2236" y="0"/>
                      <a:pt x="2237" y="1"/>
                      <a:pt x="2237" y="2"/>
                    </a:cubicBezTo>
                    <a:cubicBezTo>
                      <a:pt x="2237" y="4"/>
                      <a:pt x="2236" y="4"/>
                      <a:pt x="2235" y="4"/>
                    </a:cubicBezTo>
                    <a:lnTo>
                      <a:pt x="2235" y="4"/>
                    </a:lnTo>
                    <a:cubicBezTo>
                      <a:pt x="2234" y="4"/>
                      <a:pt x="2233" y="4"/>
                      <a:pt x="2233" y="2"/>
                    </a:cubicBezTo>
                    <a:cubicBezTo>
                      <a:pt x="2233" y="1"/>
                      <a:pt x="2234" y="0"/>
                      <a:pt x="2235" y="0"/>
                    </a:cubicBezTo>
                    <a:close/>
                    <a:moveTo>
                      <a:pt x="2243" y="0"/>
                    </a:moveTo>
                    <a:lnTo>
                      <a:pt x="2243" y="0"/>
                    </a:lnTo>
                    <a:cubicBezTo>
                      <a:pt x="2244" y="0"/>
                      <a:pt x="2245" y="1"/>
                      <a:pt x="2245" y="2"/>
                    </a:cubicBezTo>
                    <a:cubicBezTo>
                      <a:pt x="2245" y="4"/>
                      <a:pt x="2244" y="4"/>
                      <a:pt x="2243" y="4"/>
                    </a:cubicBezTo>
                    <a:lnTo>
                      <a:pt x="2243" y="4"/>
                    </a:lnTo>
                    <a:cubicBezTo>
                      <a:pt x="2242" y="4"/>
                      <a:pt x="2241" y="4"/>
                      <a:pt x="2241" y="2"/>
                    </a:cubicBezTo>
                    <a:cubicBezTo>
                      <a:pt x="2241" y="1"/>
                      <a:pt x="2242" y="0"/>
                      <a:pt x="2243" y="0"/>
                    </a:cubicBezTo>
                    <a:close/>
                    <a:moveTo>
                      <a:pt x="2251" y="0"/>
                    </a:moveTo>
                    <a:lnTo>
                      <a:pt x="2251" y="0"/>
                    </a:lnTo>
                    <a:cubicBezTo>
                      <a:pt x="2252" y="0"/>
                      <a:pt x="2253" y="1"/>
                      <a:pt x="2253" y="2"/>
                    </a:cubicBezTo>
                    <a:cubicBezTo>
                      <a:pt x="2253" y="4"/>
                      <a:pt x="2252" y="4"/>
                      <a:pt x="2251" y="4"/>
                    </a:cubicBezTo>
                    <a:lnTo>
                      <a:pt x="2251" y="4"/>
                    </a:lnTo>
                    <a:cubicBezTo>
                      <a:pt x="2250" y="4"/>
                      <a:pt x="2249" y="4"/>
                      <a:pt x="2249" y="2"/>
                    </a:cubicBezTo>
                    <a:cubicBezTo>
                      <a:pt x="2249" y="1"/>
                      <a:pt x="2250" y="0"/>
                      <a:pt x="2251" y="0"/>
                    </a:cubicBezTo>
                    <a:close/>
                    <a:moveTo>
                      <a:pt x="2259" y="0"/>
                    </a:moveTo>
                    <a:lnTo>
                      <a:pt x="2259" y="0"/>
                    </a:lnTo>
                    <a:cubicBezTo>
                      <a:pt x="2260" y="0"/>
                      <a:pt x="2261" y="1"/>
                      <a:pt x="2261" y="2"/>
                    </a:cubicBezTo>
                    <a:cubicBezTo>
                      <a:pt x="2261" y="4"/>
                      <a:pt x="2260" y="4"/>
                      <a:pt x="2259" y="4"/>
                    </a:cubicBezTo>
                    <a:lnTo>
                      <a:pt x="2259" y="4"/>
                    </a:lnTo>
                    <a:cubicBezTo>
                      <a:pt x="2258" y="4"/>
                      <a:pt x="2257" y="4"/>
                      <a:pt x="2257" y="2"/>
                    </a:cubicBezTo>
                    <a:cubicBezTo>
                      <a:pt x="2257" y="1"/>
                      <a:pt x="2258" y="0"/>
                      <a:pt x="2259" y="0"/>
                    </a:cubicBezTo>
                    <a:close/>
                    <a:moveTo>
                      <a:pt x="2267" y="0"/>
                    </a:moveTo>
                    <a:lnTo>
                      <a:pt x="2267" y="0"/>
                    </a:lnTo>
                    <a:cubicBezTo>
                      <a:pt x="2268" y="0"/>
                      <a:pt x="2269" y="1"/>
                      <a:pt x="2269" y="2"/>
                    </a:cubicBezTo>
                    <a:cubicBezTo>
                      <a:pt x="2269" y="4"/>
                      <a:pt x="2268" y="4"/>
                      <a:pt x="2267" y="4"/>
                    </a:cubicBezTo>
                    <a:lnTo>
                      <a:pt x="2267" y="4"/>
                    </a:lnTo>
                    <a:cubicBezTo>
                      <a:pt x="2266" y="4"/>
                      <a:pt x="2265" y="4"/>
                      <a:pt x="2265" y="2"/>
                    </a:cubicBezTo>
                    <a:cubicBezTo>
                      <a:pt x="2265" y="1"/>
                      <a:pt x="2266" y="0"/>
                      <a:pt x="2267" y="0"/>
                    </a:cubicBezTo>
                    <a:close/>
                    <a:moveTo>
                      <a:pt x="2275" y="0"/>
                    </a:moveTo>
                    <a:lnTo>
                      <a:pt x="2275" y="0"/>
                    </a:lnTo>
                    <a:cubicBezTo>
                      <a:pt x="2276" y="0"/>
                      <a:pt x="2277" y="1"/>
                      <a:pt x="2277" y="2"/>
                    </a:cubicBezTo>
                    <a:cubicBezTo>
                      <a:pt x="2277" y="4"/>
                      <a:pt x="2276" y="4"/>
                      <a:pt x="2275" y="4"/>
                    </a:cubicBezTo>
                    <a:lnTo>
                      <a:pt x="2275" y="4"/>
                    </a:lnTo>
                    <a:cubicBezTo>
                      <a:pt x="2274" y="4"/>
                      <a:pt x="2273" y="4"/>
                      <a:pt x="2273" y="2"/>
                    </a:cubicBezTo>
                    <a:cubicBezTo>
                      <a:pt x="2273" y="1"/>
                      <a:pt x="2274" y="0"/>
                      <a:pt x="2275" y="0"/>
                    </a:cubicBezTo>
                    <a:close/>
                    <a:moveTo>
                      <a:pt x="2283" y="0"/>
                    </a:moveTo>
                    <a:lnTo>
                      <a:pt x="2283" y="0"/>
                    </a:lnTo>
                    <a:cubicBezTo>
                      <a:pt x="2284" y="0"/>
                      <a:pt x="2285" y="1"/>
                      <a:pt x="2285" y="2"/>
                    </a:cubicBezTo>
                    <a:cubicBezTo>
                      <a:pt x="2285" y="4"/>
                      <a:pt x="2284" y="4"/>
                      <a:pt x="2283" y="4"/>
                    </a:cubicBezTo>
                    <a:lnTo>
                      <a:pt x="2283" y="4"/>
                    </a:lnTo>
                    <a:cubicBezTo>
                      <a:pt x="2282" y="4"/>
                      <a:pt x="2281" y="4"/>
                      <a:pt x="2281" y="2"/>
                    </a:cubicBezTo>
                    <a:cubicBezTo>
                      <a:pt x="2281" y="1"/>
                      <a:pt x="2282" y="0"/>
                      <a:pt x="2283" y="0"/>
                    </a:cubicBezTo>
                    <a:close/>
                    <a:moveTo>
                      <a:pt x="2291" y="0"/>
                    </a:moveTo>
                    <a:lnTo>
                      <a:pt x="2291" y="0"/>
                    </a:lnTo>
                    <a:cubicBezTo>
                      <a:pt x="2292" y="0"/>
                      <a:pt x="2293" y="1"/>
                      <a:pt x="2293" y="2"/>
                    </a:cubicBezTo>
                    <a:cubicBezTo>
                      <a:pt x="2293" y="4"/>
                      <a:pt x="2292" y="4"/>
                      <a:pt x="2291" y="4"/>
                    </a:cubicBezTo>
                    <a:lnTo>
                      <a:pt x="2291" y="4"/>
                    </a:lnTo>
                    <a:cubicBezTo>
                      <a:pt x="2290" y="4"/>
                      <a:pt x="2289" y="4"/>
                      <a:pt x="2289" y="2"/>
                    </a:cubicBezTo>
                    <a:cubicBezTo>
                      <a:pt x="2289" y="1"/>
                      <a:pt x="2290" y="0"/>
                      <a:pt x="2291" y="0"/>
                    </a:cubicBezTo>
                    <a:close/>
                    <a:moveTo>
                      <a:pt x="2299" y="0"/>
                    </a:moveTo>
                    <a:lnTo>
                      <a:pt x="2299" y="0"/>
                    </a:lnTo>
                    <a:cubicBezTo>
                      <a:pt x="2300" y="0"/>
                      <a:pt x="2301" y="1"/>
                      <a:pt x="2301" y="2"/>
                    </a:cubicBezTo>
                    <a:cubicBezTo>
                      <a:pt x="2301" y="4"/>
                      <a:pt x="2300" y="4"/>
                      <a:pt x="2299" y="4"/>
                    </a:cubicBezTo>
                    <a:lnTo>
                      <a:pt x="2299" y="4"/>
                    </a:lnTo>
                    <a:cubicBezTo>
                      <a:pt x="2298" y="4"/>
                      <a:pt x="2297" y="4"/>
                      <a:pt x="2297" y="2"/>
                    </a:cubicBezTo>
                    <a:cubicBezTo>
                      <a:pt x="2297" y="1"/>
                      <a:pt x="2298" y="0"/>
                      <a:pt x="2299" y="0"/>
                    </a:cubicBezTo>
                    <a:close/>
                    <a:moveTo>
                      <a:pt x="2307" y="0"/>
                    </a:moveTo>
                    <a:lnTo>
                      <a:pt x="2307" y="0"/>
                    </a:lnTo>
                    <a:cubicBezTo>
                      <a:pt x="2308" y="0"/>
                      <a:pt x="2309" y="1"/>
                      <a:pt x="2309" y="2"/>
                    </a:cubicBezTo>
                    <a:cubicBezTo>
                      <a:pt x="2309" y="4"/>
                      <a:pt x="2308" y="4"/>
                      <a:pt x="2307" y="4"/>
                    </a:cubicBezTo>
                    <a:lnTo>
                      <a:pt x="2307" y="4"/>
                    </a:lnTo>
                    <a:cubicBezTo>
                      <a:pt x="2306" y="4"/>
                      <a:pt x="2305" y="4"/>
                      <a:pt x="2305" y="2"/>
                    </a:cubicBezTo>
                    <a:cubicBezTo>
                      <a:pt x="2305" y="1"/>
                      <a:pt x="2306" y="0"/>
                      <a:pt x="2307" y="0"/>
                    </a:cubicBezTo>
                    <a:close/>
                    <a:moveTo>
                      <a:pt x="2315" y="0"/>
                    </a:moveTo>
                    <a:lnTo>
                      <a:pt x="2315" y="0"/>
                    </a:lnTo>
                    <a:cubicBezTo>
                      <a:pt x="2316" y="0"/>
                      <a:pt x="2317" y="1"/>
                      <a:pt x="2317" y="2"/>
                    </a:cubicBezTo>
                    <a:cubicBezTo>
                      <a:pt x="2317" y="4"/>
                      <a:pt x="2316" y="4"/>
                      <a:pt x="2315" y="4"/>
                    </a:cubicBezTo>
                    <a:lnTo>
                      <a:pt x="2315" y="4"/>
                    </a:lnTo>
                    <a:cubicBezTo>
                      <a:pt x="2314" y="4"/>
                      <a:pt x="2313" y="4"/>
                      <a:pt x="2313" y="2"/>
                    </a:cubicBezTo>
                    <a:cubicBezTo>
                      <a:pt x="2313" y="1"/>
                      <a:pt x="2314" y="0"/>
                      <a:pt x="2315" y="0"/>
                    </a:cubicBezTo>
                    <a:close/>
                    <a:moveTo>
                      <a:pt x="2323" y="0"/>
                    </a:moveTo>
                    <a:lnTo>
                      <a:pt x="2323" y="0"/>
                    </a:lnTo>
                    <a:cubicBezTo>
                      <a:pt x="2324" y="0"/>
                      <a:pt x="2325" y="1"/>
                      <a:pt x="2325" y="2"/>
                    </a:cubicBezTo>
                    <a:cubicBezTo>
                      <a:pt x="2325" y="4"/>
                      <a:pt x="2324" y="4"/>
                      <a:pt x="2323" y="4"/>
                    </a:cubicBezTo>
                    <a:lnTo>
                      <a:pt x="2323" y="4"/>
                    </a:lnTo>
                    <a:cubicBezTo>
                      <a:pt x="2322" y="4"/>
                      <a:pt x="2321" y="4"/>
                      <a:pt x="2321" y="2"/>
                    </a:cubicBezTo>
                    <a:cubicBezTo>
                      <a:pt x="2321" y="1"/>
                      <a:pt x="2322" y="0"/>
                      <a:pt x="2323" y="0"/>
                    </a:cubicBezTo>
                    <a:close/>
                    <a:moveTo>
                      <a:pt x="2331" y="0"/>
                    </a:moveTo>
                    <a:lnTo>
                      <a:pt x="2331" y="0"/>
                    </a:lnTo>
                    <a:cubicBezTo>
                      <a:pt x="2332" y="0"/>
                      <a:pt x="2333" y="1"/>
                      <a:pt x="2333" y="2"/>
                    </a:cubicBezTo>
                    <a:cubicBezTo>
                      <a:pt x="2333" y="4"/>
                      <a:pt x="2332" y="4"/>
                      <a:pt x="2331" y="4"/>
                    </a:cubicBezTo>
                    <a:lnTo>
                      <a:pt x="2331" y="4"/>
                    </a:lnTo>
                    <a:cubicBezTo>
                      <a:pt x="2330" y="4"/>
                      <a:pt x="2329" y="4"/>
                      <a:pt x="2329" y="2"/>
                    </a:cubicBezTo>
                    <a:cubicBezTo>
                      <a:pt x="2329" y="1"/>
                      <a:pt x="2330" y="0"/>
                      <a:pt x="2331" y="0"/>
                    </a:cubicBezTo>
                    <a:close/>
                    <a:moveTo>
                      <a:pt x="2339" y="0"/>
                    </a:moveTo>
                    <a:lnTo>
                      <a:pt x="2339" y="0"/>
                    </a:lnTo>
                    <a:cubicBezTo>
                      <a:pt x="2340" y="0"/>
                      <a:pt x="2341" y="1"/>
                      <a:pt x="2341" y="2"/>
                    </a:cubicBezTo>
                    <a:cubicBezTo>
                      <a:pt x="2341" y="4"/>
                      <a:pt x="2340" y="4"/>
                      <a:pt x="2339" y="4"/>
                    </a:cubicBezTo>
                    <a:lnTo>
                      <a:pt x="2339" y="4"/>
                    </a:lnTo>
                    <a:cubicBezTo>
                      <a:pt x="2338" y="4"/>
                      <a:pt x="2337" y="4"/>
                      <a:pt x="2337" y="2"/>
                    </a:cubicBezTo>
                    <a:cubicBezTo>
                      <a:pt x="2337" y="1"/>
                      <a:pt x="2338" y="0"/>
                      <a:pt x="2339" y="0"/>
                    </a:cubicBezTo>
                    <a:close/>
                    <a:moveTo>
                      <a:pt x="2347" y="0"/>
                    </a:moveTo>
                    <a:lnTo>
                      <a:pt x="2347" y="0"/>
                    </a:lnTo>
                    <a:cubicBezTo>
                      <a:pt x="2348" y="0"/>
                      <a:pt x="2349" y="1"/>
                      <a:pt x="2349" y="2"/>
                    </a:cubicBezTo>
                    <a:cubicBezTo>
                      <a:pt x="2349" y="4"/>
                      <a:pt x="2348" y="4"/>
                      <a:pt x="2347" y="4"/>
                    </a:cubicBezTo>
                    <a:lnTo>
                      <a:pt x="2347" y="4"/>
                    </a:lnTo>
                    <a:cubicBezTo>
                      <a:pt x="2346" y="4"/>
                      <a:pt x="2345" y="4"/>
                      <a:pt x="2345" y="2"/>
                    </a:cubicBezTo>
                    <a:cubicBezTo>
                      <a:pt x="2345" y="1"/>
                      <a:pt x="2346" y="0"/>
                      <a:pt x="2347" y="0"/>
                    </a:cubicBezTo>
                    <a:close/>
                    <a:moveTo>
                      <a:pt x="2355" y="0"/>
                    </a:moveTo>
                    <a:lnTo>
                      <a:pt x="2355" y="0"/>
                    </a:lnTo>
                    <a:cubicBezTo>
                      <a:pt x="2356" y="0"/>
                      <a:pt x="2357" y="1"/>
                      <a:pt x="2357" y="2"/>
                    </a:cubicBezTo>
                    <a:cubicBezTo>
                      <a:pt x="2357" y="4"/>
                      <a:pt x="2356" y="4"/>
                      <a:pt x="2355" y="4"/>
                    </a:cubicBezTo>
                    <a:lnTo>
                      <a:pt x="2355" y="4"/>
                    </a:lnTo>
                    <a:cubicBezTo>
                      <a:pt x="2354" y="4"/>
                      <a:pt x="2353" y="4"/>
                      <a:pt x="2353" y="2"/>
                    </a:cubicBezTo>
                    <a:cubicBezTo>
                      <a:pt x="2353" y="1"/>
                      <a:pt x="2354" y="0"/>
                      <a:pt x="2355" y="0"/>
                    </a:cubicBezTo>
                    <a:close/>
                    <a:moveTo>
                      <a:pt x="2363" y="0"/>
                    </a:moveTo>
                    <a:lnTo>
                      <a:pt x="2363" y="0"/>
                    </a:lnTo>
                    <a:cubicBezTo>
                      <a:pt x="2364" y="0"/>
                      <a:pt x="2365" y="1"/>
                      <a:pt x="2365" y="2"/>
                    </a:cubicBezTo>
                    <a:cubicBezTo>
                      <a:pt x="2365" y="4"/>
                      <a:pt x="2364" y="4"/>
                      <a:pt x="2363" y="4"/>
                    </a:cubicBezTo>
                    <a:lnTo>
                      <a:pt x="2363" y="4"/>
                    </a:lnTo>
                    <a:cubicBezTo>
                      <a:pt x="2362" y="4"/>
                      <a:pt x="2361" y="4"/>
                      <a:pt x="2361" y="2"/>
                    </a:cubicBezTo>
                    <a:cubicBezTo>
                      <a:pt x="2361" y="1"/>
                      <a:pt x="2362" y="0"/>
                      <a:pt x="2363" y="0"/>
                    </a:cubicBezTo>
                    <a:close/>
                    <a:moveTo>
                      <a:pt x="2371" y="0"/>
                    </a:moveTo>
                    <a:lnTo>
                      <a:pt x="2371" y="0"/>
                    </a:lnTo>
                    <a:cubicBezTo>
                      <a:pt x="2372" y="0"/>
                      <a:pt x="2373" y="1"/>
                      <a:pt x="2373" y="2"/>
                    </a:cubicBezTo>
                    <a:cubicBezTo>
                      <a:pt x="2373" y="4"/>
                      <a:pt x="2372" y="4"/>
                      <a:pt x="2371" y="4"/>
                    </a:cubicBezTo>
                    <a:lnTo>
                      <a:pt x="2371" y="4"/>
                    </a:lnTo>
                    <a:cubicBezTo>
                      <a:pt x="2370" y="4"/>
                      <a:pt x="2369" y="4"/>
                      <a:pt x="2369" y="2"/>
                    </a:cubicBezTo>
                    <a:cubicBezTo>
                      <a:pt x="2369" y="1"/>
                      <a:pt x="2370" y="0"/>
                      <a:pt x="2371" y="0"/>
                    </a:cubicBezTo>
                    <a:close/>
                    <a:moveTo>
                      <a:pt x="2379" y="0"/>
                    </a:moveTo>
                    <a:lnTo>
                      <a:pt x="2379" y="0"/>
                    </a:lnTo>
                    <a:cubicBezTo>
                      <a:pt x="2380" y="0"/>
                      <a:pt x="2381" y="1"/>
                      <a:pt x="2381" y="2"/>
                    </a:cubicBezTo>
                    <a:cubicBezTo>
                      <a:pt x="2381" y="4"/>
                      <a:pt x="2380" y="4"/>
                      <a:pt x="2379" y="4"/>
                    </a:cubicBezTo>
                    <a:lnTo>
                      <a:pt x="2379" y="4"/>
                    </a:lnTo>
                    <a:cubicBezTo>
                      <a:pt x="2378" y="4"/>
                      <a:pt x="2377" y="4"/>
                      <a:pt x="2377" y="2"/>
                    </a:cubicBezTo>
                    <a:cubicBezTo>
                      <a:pt x="2377" y="1"/>
                      <a:pt x="2378" y="0"/>
                      <a:pt x="2379" y="0"/>
                    </a:cubicBezTo>
                    <a:close/>
                    <a:moveTo>
                      <a:pt x="2387" y="0"/>
                    </a:moveTo>
                    <a:lnTo>
                      <a:pt x="2387" y="0"/>
                    </a:lnTo>
                    <a:cubicBezTo>
                      <a:pt x="2388" y="0"/>
                      <a:pt x="2389" y="1"/>
                      <a:pt x="2389" y="2"/>
                    </a:cubicBezTo>
                    <a:cubicBezTo>
                      <a:pt x="2389" y="4"/>
                      <a:pt x="2388" y="4"/>
                      <a:pt x="2387" y="4"/>
                    </a:cubicBezTo>
                    <a:lnTo>
                      <a:pt x="2387" y="4"/>
                    </a:lnTo>
                    <a:cubicBezTo>
                      <a:pt x="2386" y="4"/>
                      <a:pt x="2385" y="4"/>
                      <a:pt x="2385" y="2"/>
                    </a:cubicBezTo>
                    <a:cubicBezTo>
                      <a:pt x="2385" y="1"/>
                      <a:pt x="2386" y="0"/>
                      <a:pt x="2387" y="0"/>
                    </a:cubicBezTo>
                    <a:close/>
                    <a:moveTo>
                      <a:pt x="2395" y="0"/>
                    </a:moveTo>
                    <a:lnTo>
                      <a:pt x="2395" y="0"/>
                    </a:lnTo>
                    <a:cubicBezTo>
                      <a:pt x="2396" y="0"/>
                      <a:pt x="2397" y="1"/>
                      <a:pt x="2397" y="2"/>
                    </a:cubicBezTo>
                    <a:cubicBezTo>
                      <a:pt x="2397" y="4"/>
                      <a:pt x="2396" y="4"/>
                      <a:pt x="2395" y="4"/>
                    </a:cubicBezTo>
                    <a:lnTo>
                      <a:pt x="2395" y="4"/>
                    </a:lnTo>
                    <a:cubicBezTo>
                      <a:pt x="2394" y="4"/>
                      <a:pt x="2393" y="4"/>
                      <a:pt x="2393" y="2"/>
                    </a:cubicBezTo>
                    <a:cubicBezTo>
                      <a:pt x="2393" y="1"/>
                      <a:pt x="2394" y="0"/>
                      <a:pt x="2395" y="0"/>
                    </a:cubicBezTo>
                    <a:close/>
                    <a:moveTo>
                      <a:pt x="2403" y="0"/>
                    </a:moveTo>
                    <a:lnTo>
                      <a:pt x="2403" y="0"/>
                    </a:lnTo>
                    <a:cubicBezTo>
                      <a:pt x="2404" y="0"/>
                      <a:pt x="2405" y="1"/>
                      <a:pt x="2405" y="2"/>
                    </a:cubicBezTo>
                    <a:cubicBezTo>
                      <a:pt x="2405" y="4"/>
                      <a:pt x="2404" y="4"/>
                      <a:pt x="2403" y="4"/>
                    </a:cubicBezTo>
                    <a:lnTo>
                      <a:pt x="2403" y="4"/>
                    </a:lnTo>
                    <a:cubicBezTo>
                      <a:pt x="2402" y="4"/>
                      <a:pt x="2401" y="4"/>
                      <a:pt x="2401" y="2"/>
                    </a:cubicBezTo>
                    <a:cubicBezTo>
                      <a:pt x="2401" y="1"/>
                      <a:pt x="2402" y="0"/>
                      <a:pt x="2403" y="0"/>
                    </a:cubicBezTo>
                    <a:close/>
                    <a:moveTo>
                      <a:pt x="2411" y="0"/>
                    </a:moveTo>
                    <a:lnTo>
                      <a:pt x="2411" y="0"/>
                    </a:lnTo>
                    <a:cubicBezTo>
                      <a:pt x="2412" y="0"/>
                      <a:pt x="2413" y="1"/>
                      <a:pt x="2413" y="2"/>
                    </a:cubicBezTo>
                    <a:cubicBezTo>
                      <a:pt x="2413" y="4"/>
                      <a:pt x="2412" y="4"/>
                      <a:pt x="2411" y="4"/>
                    </a:cubicBezTo>
                    <a:lnTo>
                      <a:pt x="2411" y="4"/>
                    </a:lnTo>
                    <a:cubicBezTo>
                      <a:pt x="2410" y="4"/>
                      <a:pt x="2409" y="4"/>
                      <a:pt x="2409" y="2"/>
                    </a:cubicBezTo>
                    <a:cubicBezTo>
                      <a:pt x="2409" y="1"/>
                      <a:pt x="2410" y="0"/>
                      <a:pt x="2411" y="0"/>
                    </a:cubicBezTo>
                    <a:close/>
                    <a:moveTo>
                      <a:pt x="2419" y="0"/>
                    </a:moveTo>
                    <a:lnTo>
                      <a:pt x="2419" y="0"/>
                    </a:lnTo>
                    <a:cubicBezTo>
                      <a:pt x="2420" y="0"/>
                      <a:pt x="2421" y="1"/>
                      <a:pt x="2421" y="2"/>
                    </a:cubicBezTo>
                    <a:cubicBezTo>
                      <a:pt x="2421" y="4"/>
                      <a:pt x="2420" y="4"/>
                      <a:pt x="2419" y="4"/>
                    </a:cubicBezTo>
                    <a:lnTo>
                      <a:pt x="2419" y="4"/>
                    </a:lnTo>
                    <a:cubicBezTo>
                      <a:pt x="2418" y="4"/>
                      <a:pt x="2417" y="4"/>
                      <a:pt x="2417" y="2"/>
                    </a:cubicBezTo>
                    <a:cubicBezTo>
                      <a:pt x="2417" y="1"/>
                      <a:pt x="2418" y="0"/>
                      <a:pt x="2419" y="0"/>
                    </a:cubicBezTo>
                    <a:close/>
                    <a:moveTo>
                      <a:pt x="2427" y="0"/>
                    </a:moveTo>
                    <a:lnTo>
                      <a:pt x="2427" y="0"/>
                    </a:lnTo>
                    <a:cubicBezTo>
                      <a:pt x="2428" y="0"/>
                      <a:pt x="2429" y="1"/>
                      <a:pt x="2429" y="2"/>
                    </a:cubicBezTo>
                    <a:cubicBezTo>
                      <a:pt x="2429" y="4"/>
                      <a:pt x="2428" y="4"/>
                      <a:pt x="2427" y="4"/>
                    </a:cubicBezTo>
                    <a:lnTo>
                      <a:pt x="2427" y="4"/>
                    </a:lnTo>
                    <a:cubicBezTo>
                      <a:pt x="2426" y="4"/>
                      <a:pt x="2425" y="4"/>
                      <a:pt x="2425" y="2"/>
                    </a:cubicBezTo>
                    <a:cubicBezTo>
                      <a:pt x="2425" y="1"/>
                      <a:pt x="2426" y="0"/>
                      <a:pt x="2427" y="0"/>
                    </a:cubicBezTo>
                    <a:close/>
                    <a:moveTo>
                      <a:pt x="2435" y="0"/>
                    </a:moveTo>
                    <a:lnTo>
                      <a:pt x="2435" y="0"/>
                    </a:lnTo>
                    <a:cubicBezTo>
                      <a:pt x="2436" y="0"/>
                      <a:pt x="2437" y="1"/>
                      <a:pt x="2437" y="2"/>
                    </a:cubicBezTo>
                    <a:cubicBezTo>
                      <a:pt x="2437" y="4"/>
                      <a:pt x="2436" y="4"/>
                      <a:pt x="2435" y="4"/>
                    </a:cubicBezTo>
                    <a:lnTo>
                      <a:pt x="2435" y="4"/>
                    </a:lnTo>
                    <a:cubicBezTo>
                      <a:pt x="2434" y="4"/>
                      <a:pt x="2433" y="4"/>
                      <a:pt x="2433" y="2"/>
                    </a:cubicBezTo>
                    <a:cubicBezTo>
                      <a:pt x="2433" y="1"/>
                      <a:pt x="2434" y="0"/>
                      <a:pt x="2435" y="0"/>
                    </a:cubicBezTo>
                    <a:close/>
                    <a:moveTo>
                      <a:pt x="2443" y="0"/>
                    </a:moveTo>
                    <a:lnTo>
                      <a:pt x="2443" y="0"/>
                    </a:lnTo>
                    <a:cubicBezTo>
                      <a:pt x="2444" y="0"/>
                      <a:pt x="2445" y="1"/>
                      <a:pt x="2445" y="2"/>
                    </a:cubicBezTo>
                    <a:cubicBezTo>
                      <a:pt x="2445" y="4"/>
                      <a:pt x="2444" y="4"/>
                      <a:pt x="2443" y="4"/>
                    </a:cubicBezTo>
                    <a:lnTo>
                      <a:pt x="2443" y="4"/>
                    </a:lnTo>
                    <a:cubicBezTo>
                      <a:pt x="2442" y="4"/>
                      <a:pt x="2441" y="4"/>
                      <a:pt x="2441" y="2"/>
                    </a:cubicBezTo>
                    <a:cubicBezTo>
                      <a:pt x="2441" y="1"/>
                      <a:pt x="2442" y="0"/>
                      <a:pt x="2443" y="0"/>
                    </a:cubicBezTo>
                    <a:close/>
                    <a:moveTo>
                      <a:pt x="2451" y="0"/>
                    </a:moveTo>
                    <a:lnTo>
                      <a:pt x="2451" y="0"/>
                    </a:lnTo>
                    <a:cubicBezTo>
                      <a:pt x="2452" y="0"/>
                      <a:pt x="2453" y="1"/>
                      <a:pt x="2453" y="2"/>
                    </a:cubicBezTo>
                    <a:cubicBezTo>
                      <a:pt x="2453" y="4"/>
                      <a:pt x="2452" y="4"/>
                      <a:pt x="2451" y="4"/>
                    </a:cubicBezTo>
                    <a:lnTo>
                      <a:pt x="2451" y="4"/>
                    </a:lnTo>
                    <a:cubicBezTo>
                      <a:pt x="2450" y="4"/>
                      <a:pt x="2449" y="4"/>
                      <a:pt x="2449" y="2"/>
                    </a:cubicBezTo>
                    <a:cubicBezTo>
                      <a:pt x="2449" y="1"/>
                      <a:pt x="2450" y="0"/>
                      <a:pt x="2451" y="0"/>
                    </a:cubicBezTo>
                    <a:close/>
                    <a:moveTo>
                      <a:pt x="2459" y="0"/>
                    </a:moveTo>
                    <a:lnTo>
                      <a:pt x="2459" y="0"/>
                    </a:lnTo>
                    <a:cubicBezTo>
                      <a:pt x="2460" y="0"/>
                      <a:pt x="2461" y="1"/>
                      <a:pt x="2461" y="2"/>
                    </a:cubicBezTo>
                    <a:cubicBezTo>
                      <a:pt x="2461" y="4"/>
                      <a:pt x="2460" y="4"/>
                      <a:pt x="2459" y="4"/>
                    </a:cubicBezTo>
                    <a:lnTo>
                      <a:pt x="2459" y="4"/>
                    </a:lnTo>
                    <a:cubicBezTo>
                      <a:pt x="2458" y="4"/>
                      <a:pt x="2457" y="4"/>
                      <a:pt x="2457" y="2"/>
                    </a:cubicBezTo>
                    <a:cubicBezTo>
                      <a:pt x="2457" y="1"/>
                      <a:pt x="2458" y="0"/>
                      <a:pt x="2459" y="0"/>
                    </a:cubicBezTo>
                    <a:close/>
                    <a:moveTo>
                      <a:pt x="2467" y="0"/>
                    </a:moveTo>
                    <a:lnTo>
                      <a:pt x="2467" y="0"/>
                    </a:lnTo>
                    <a:cubicBezTo>
                      <a:pt x="2468" y="0"/>
                      <a:pt x="2469" y="1"/>
                      <a:pt x="2469" y="2"/>
                    </a:cubicBezTo>
                    <a:cubicBezTo>
                      <a:pt x="2469" y="4"/>
                      <a:pt x="2468" y="4"/>
                      <a:pt x="2467" y="4"/>
                    </a:cubicBezTo>
                    <a:lnTo>
                      <a:pt x="2467" y="4"/>
                    </a:lnTo>
                    <a:cubicBezTo>
                      <a:pt x="2466" y="4"/>
                      <a:pt x="2465" y="4"/>
                      <a:pt x="2465" y="2"/>
                    </a:cubicBezTo>
                    <a:cubicBezTo>
                      <a:pt x="2465" y="1"/>
                      <a:pt x="2466" y="0"/>
                      <a:pt x="2467" y="0"/>
                    </a:cubicBezTo>
                    <a:close/>
                    <a:moveTo>
                      <a:pt x="2475" y="0"/>
                    </a:moveTo>
                    <a:lnTo>
                      <a:pt x="2475" y="0"/>
                    </a:lnTo>
                    <a:cubicBezTo>
                      <a:pt x="2476" y="0"/>
                      <a:pt x="2477" y="1"/>
                      <a:pt x="2477" y="2"/>
                    </a:cubicBezTo>
                    <a:cubicBezTo>
                      <a:pt x="2477" y="4"/>
                      <a:pt x="2476" y="4"/>
                      <a:pt x="2475" y="4"/>
                    </a:cubicBezTo>
                    <a:lnTo>
                      <a:pt x="2475" y="4"/>
                    </a:lnTo>
                    <a:cubicBezTo>
                      <a:pt x="2474" y="4"/>
                      <a:pt x="2473" y="4"/>
                      <a:pt x="2473" y="2"/>
                    </a:cubicBezTo>
                    <a:cubicBezTo>
                      <a:pt x="2473" y="1"/>
                      <a:pt x="2474" y="0"/>
                      <a:pt x="2475" y="0"/>
                    </a:cubicBezTo>
                    <a:close/>
                    <a:moveTo>
                      <a:pt x="2483" y="0"/>
                    </a:moveTo>
                    <a:lnTo>
                      <a:pt x="2483" y="0"/>
                    </a:lnTo>
                    <a:cubicBezTo>
                      <a:pt x="2484" y="0"/>
                      <a:pt x="2485" y="1"/>
                      <a:pt x="2485" y="2"/>
                    </a:cubicBezTo>
                    <a:cubicBezTo>
                      <a:pt x="2485" y="4"/>
                      <a:pt x="2484" y="4"/>
                      <a:pt x="2483" y="4"/>
                    </a:cubicBezTo>
                    <a:lnTo>
                      <a:pt x="2483" y="4"/>
                    </a:lnTo>
                    <a:cubicBezTo>
                      <a:pt x="2482" y="4"/>
                      <a:pt x="2481" y="4"/>
                      <a:pt x="2481" y="2"/>
                    </a:cubicBezTo>
                    <a:cubicBezTo>
                      <a:pt x="2481" y="1"/>
                      <a:pt x="2482" y="0"/>
                      <a:pt x="2483" y="0"/>
                    </a:cubicBezTo>
                    <a:close/>
                    <a:moveTo>
                      <a:pt x="2491" y="0"/>
                    </a:moveTo>
                    <a:lnTo>
                      <a:pt x="2491" y="0"/>
                    </a:lnTo>
                    <a:cubicBezTo>
                      <a:pt x="2492" y="0"/>
                      <a:pt x="2493" y="1"/>
                      <a:pt x="2493" y="2"/>
                    </a:cubicBezTo>
                    <a:cubicBezTo>
                      <a:pt x="2493" y="4"/>
                      <a:pt x="2492" y="4"/>
                      <a:pt x="2491" y="4"/>
                    </a:cubicBezTo>
                    <a:lnTo>
                      <a:pt x="2491" y="4"/>
                    </a:lnTo>
                    <a:cubicBezTo>
                      <a:pt x="2490" y="4"/>
                      <a:pt x="2489" y="4"/>
                      <a:pt x="2489" y="2"/>
                    </a:cubicBezTo>
                    <a:cubicBezTo>
                      <a:pt x="2489" y="1"/>
                      <a:pt x="2490" y="0"/>
                      <a:pt x="2491" y="0"/>
                    </a:cubicBezTo>
                    <a:close/>
                    <a:moveTo>
                      <a:pt x="2499" y="0"/>
                    </a:moveTo>
                    <a:lnTo>
                      <a:pt x="2499" y="0"/>
                    </a:lnTo>
                    <a:cubicBezTo>
                      <a:pt x="2500" y="0"/>
                      <a:pt x="2501" y="1"/>
                      <a:pt x="2501" y="2"/>
                    </a:cubicBezTo>
                    <a:cubicBezTo>
                      <a:pt x="2501" y="4"/>
                      <a:pt x="2500" y="4"/>
                      <a:pt x="2499" y="4"/>
                    </a:cubicBezTo>
                    <a:lnTo>
                      <a:pt x="2499" y="4"/>
                    </a:lnTo>
                    <a:cubicBezTo>
                      <a:pt x="2498" y="4"/>
                      <a:pt x="2497" y="4"/>
                      <a:pt x="2497" y="2"/>
                    </a:cubicBezTo>
                    <a:cubicBezTo>
                      <a:pt x="2497" y="1"/>
                      <a:pt x="2498" y="0"/>
                      <a:pt x="2499" y="0"/>
                    </a:cubicBezTo>
                    <a:close/>
                    <a:moveTo>
                      <a:pt x="2507" y="0"/>
                    </a:moveTo>
                    <a:lnTo>
                      <a:pt x="2507" y="0"/>
                    </a:lnTo>
                    <a:cubicBezTo>
                      <a:pt x="2508" y="0"/>
                      <a:pt x="2509" y="1"/>
                      <a:pt x="2509" y="2"/>
                    </a:cubicBezTo>
                    <a:cubicBezTo>
                      <a:pt x="2509" y="4"/>
                      <a:pt x="2508" y="4"/>
                      <a:pt x="2507" y="4"/>
                    </a:cubicBezTo>
                    <a:lnTo>
                      <a:pt x="2507" y="4"/>
                    </a:lnTo>
                    <a:cubicBezTo>
                      <a:pt x="2506" y="4"/>
                      <a:pt x="2505" y="4"/>
                      <a:pt x="2505" y="2"/>
                    </a:cubicBezTo>
                    <a:cubicBezTo>
                      <a:pt x="2505" y="1"/>
                      <a:pt x="2506" y="0"/>
                      <a:pt x="2507" y="0"/>
                    </a:cubicBezTo>
                    <a:close/>
                    <a:moveTo>
                      <a:pt x="2515" y="0"/>
                    </a:moveTo>
                    <a:lnTo>
                      <a:pt x="2515" y="0"/>
                    </a:lnTo>
                    <a:cubicBezTo>
                      <a:pt x="2516" y="0"/>
                      <a:pt x="2517" y="1"/>
                      <a:pt x="2517" y="2"/>
                    </a:cubicBezTo>
                    <a:cubicBezTo>
                      <a:pt x="2517" y="4"/>
                      <a:pt x="2516" y="4"/>
                      <a:pt x="2515" y="4"/>
                    </a:cubicBezTo>
                    <a:lnTo>
                      <a:pt x="2515" y="4"/>
                    </a:lnTo>
                    <a:cubicBezTo>
                      <a:pt x="2514" y="4"/>
                      <a:pt x="2513" y="4"/>
                      <a:pt x="2513" y="2"/>
                    </a:cubicBezTo>
                    <a:cubicBezTo>
                      <a:pt x="2513" y="1"/>
                      <a:pt x="2514" y="0"/>
                      <a:pt x="2515" y="0"/>
                    </a:cubicBezTo>
                    <a:close/>
                    <a:moveTo>
                      <a:pt x="2523" y="0"/>
                    </a:moveTo>
                    <a:lnTo>
                      <a:pt x="2523" y="0"/>
                    </a:lnTo>
                    <a:cubicBezTo>
                      <a:pt x="2524" y="0"/>
                      <a:pt x="2525" y="1"/>
                      <a:pt x="2525" y="2"/>
                    </a:cubicBezTo>
                    <a:cubicBezTo>
                      <a:pt x="2525" y="4"/>
                      <a:pt x="2524" y="4"/>
                      <a:pt x="2523" y="4"/>
                    </a:cubicBezTo>
                    <a:lnTo>
                      <a:pt x="2523" y="4"/>
                    </a:lnTo>
                    <a:cubicBezTo>
                      <a:pt x="2522" y="4"/>
                      <a:pt x="2521" y="4"/>
                      <a:pt x="2521" y="2"/>
                    </a:cubicBezTo>
                    <a:cubicBezTo>
                      <a:pt x="2521" y="1"/>
                      <a:pt x="2522" y="0"/>
                      <a:pt x="2523" y="0"/>
                    </a:cubicBezTo>
                    <a:close/>
                    <a:moveTo>
                      <a:pt x="2531" y="0"/>
                    </a:moveTo>
                    <a:lnTo>
                      <a:pt x="2531" y="0"/>
                    </a:lnTo>
                    <a:cubicBezTo>
                      <a:pt x="2532" y="0"/>
                      <a:pt x="2533" y="1"/>
                      <a:pt x="2533" y="2"/>
                    </a:cubicBezTo>
                    <a:cubicBezTo>
                      <a:pt x="2533" y="4"/>
                      <a:pt x="2532" y="4"/>
                      <a:pt x="2531" y="4"/>
                    </a:cubicBezTo>
                    <a:lnTo>
                      <a:pt x="2531" y="4"/>
                    </a:lnTo>
                    <a:cubicBezTo>
                      <a:pt x="2530" y="4"/>
                      <a:pt x="2529" y="4"/>
                      <a:pt x="2529" y="2"/>
                    </a:cubicBezTo>
                    <a:cubicBezTo>
                      <a:pt x="2529" y="1"/>
                      <a:pt x="2530" y="0"/>
                      <a:pt x="2531" y="0"/>
                    </a:cubicBezTo>
                    <a:close/>
                    <a:moveTo>
                      <a:pt x="2539" y="0"/>
                    </a:moveTo>
                    <a:lnTo>
                      <a:pt x="2539" y="0"/>
                    </a:lnTo>
                    <a:cubicBezTo>
                      <a:pt x="2540" y="0"/>
                      <a:pt x="2541" y="1"/>
                      <a:pt x="2541" y="2"/>
                    </a:cubicBezTo>
                    <a:cubicBezTo>
                      <a:pt x="2541" y="4"/>
                      <a:pt x="2540" y="4"/>
                      <a:pt x="2539" y="4"/>
                    </a:cubicBezTo>
                    <a:lnTo>
                      <a:pt x="2539" y="4"/>
                    </a:lnTo>
                    <a:cubicBezTo>
                      <a:pt x="2538" y="4"/>
                      <a:pt x="2537" y="4"/>
                      <a:pt x="2537" y="2"/>
                    </a:cubicBezTo>
                    <a:cubicBezTo>
                      <a:pt x="2537" y="1"/>
                      <a:pt x="2538" y="0"/>
                      <a:pt x="2539" y="0"/>
                    </a:cubicBezTo>
                    <a:close/>
                    <a:moveTo>
                      <a:pt x="2547" y="0"/>
                    </a:moveTo>
                    <a:lnTo>
                      <a:pt x="2547" y="0"/>
                    </a:lnTo>
                    <a:cubicBezTo>
                      <a:pt x="2548" y="0"/>
                      <a:pt x="2549" y="1"/>
                      <a:pt x="2549" y="2"/>
                    </a:cubicBezTo>
                    <a:cubicBezTo>
                      <a:pt x="2549" y="4"/>
                      <a:pt x="2548" y="4"/>
                      <a:pt x="2547" y="4"/>
                    </a:cubicBezTo>
                    <a:lnTo>
                      <a:pt x="2547" y="4"/>
                    </a:lnTo>
                    <a:cubicBezTo>
                      <a:pt x="2546" y="4"/>
                      <a:pt x="2545" y="4"/>
                      <a:pt x="2545" y="2"/>
                    </a:cubicBezTo>
                    <a:cubicBezTo>
                      <a:pt x="2545" y="1"/>
                      <a:pt x="2546" y="0"/>
                      <a:pt x="2547" y="0"/>
                    </a:cubicBezTo>
                    <a:close/>
                    <a:moveTo>
                      <a:pt x="2555" y="0"/>
                    </a:moveTo>
                    <a:lnTo>
                      <a:pt x="2555" y="0"/>
                    </a:lnTo>
                    <a:cubicBezTo>
                      <a:pt x="2556" y="0"/>
                      <a:pt x="2557" y="1"/>
                      <a:pt x="2557" y="2"/>
                    </a:cubicBezTo>
                    <a:cubicBezTo>
                      <a:pt x="2557" y="4"/>
                      <a:pt x="2556" y="4"/>
                      <a:pt x="2555" y="4"/>
                    </a:cubicBezTo>
                    <a:lnTo>
                      <a:pt x="2555" y="4"/>
                    </a:lnTo>
                    <a:cubicBezTo>
                      <a:pt x="2554" y="4"/>
                      <a:pt x="2553" y="4"/>
                      <a:pt x="2553" y="2"/>
                    </a:cubicBezTo>
                    <a:cubicBezTo>
                      <a:pt x="2553" y="1"/>
                      <a:pt x="2554" y="0"/>
                      <a:pt x="2555" y="0"/>
                    </a:cubicBezTo>
                    <a:close/>
                    <a:moveTo>
                      <a:pt x="2563" y="0"/>
                    </a:moveTo>
                    <a:lnTo>
                      <a:pt x="2563" y="0"/>
                    </a:lnTo>
                    <a:cubicBezTo>
                      <a:pt x="2564" y="0"/>
                      <a:pt x="2565" y="1"/>
                      <a:pt x="2565" y="2"/>
                    </a:cubicBezTo>
                    <a:cubicBezTo>
                      <a:pt x="2565" y="4"/>
                      <a:pt x="2564" y="4"/>
                      <a:pt x="2563" y="4"/>
                    </a:cubicBezTo>
                    <a:lnTo>
                      <a:pt x="2563" y="4"/>
                    </a:lnTo>
                    <a:cubicBezTo>
                      <a:pt x="2562" y="4"/>
                      <a:pt x="2561" y="4"/>
                      <a:pt x="2561" y="2"/>
                    </a:cubicBezTo>
                    <a:cubicBezTo>
                      <a:pt x="2561" y="1"/>
                      <a:pt x="2562" y="0"/>
                      <a:pt x="2563" y="0"/>
                    </a:cubicBezTo>
                    <a:close/>
                    <a:moveTo>
                      <a:pt x="2571" y="0"/>
                    </a:moveTo>
                    <a:lnTo>
                      <a:pt x="2571" y="0"/>
                    </a:lnTo>
                    <a:cubicBezTo>
                      <a:pt x="2572" y="0"/>
                      <a:pt x="2573" y="1"/>
                      <a:pt x="2573" y="2"/>
                    </a:cubicBezTo>
                    <a:cubicBezTo>
                      <a:pt x="2573" y="4"/>
                      <a:pt x="2572" y="4"/>
                      <a:pt x="2571" y="4"/>
                    </a:cubicBezTo>
                    <a:lnTo>
                      <a:pt x="2571" y="4"/>
                    </a:lnTo>
                    <a:cubicBezTo>
                      <a:pt x="2570" y="4"/>
                      <a:pt x="2569" y="4"/>
                      <a:pt x="2569" y="2"/>
                    </a:cubicBezTo>
                    <a:cubicBezTo>
                      <a:pt x="2569" y="1"/>
                      <a:pt x="2570" y="0"/>
                      <a:pt x="2571" y="0"/>
                    </a:cubicBezTo>
                    <a:close/>
                    <a:moveTo>
                      <a:pt x="2579" y="0"/>
                    </a:moveTo>
                    <a:lnTo>
                      <a:pt x="2579" y="0"/>
                    </a:lnTo>
                    <a:cubicBezTo>
                      <a:pt x="2580" y="0"/>
                      <a:pt x="2581" y="1"/>
                      <a:pt x="2581" y="2"/>
                    </a:cubicBezTo>
                    <a:cubicBezTo>
                      <a:pt x="2581" y="4"/>
                      <a:pt x="2580" y="4"/>
                      <a:pt x="2579" y="4"/>
                    </a:cubicBezTo>
                    <a:lnTo>
                      <a:pt x="2579" y="4"/>
                    </a:lnTo>
                    <a:cubicBezTo>
                      <a:pt x="2578" y="4"/>
                      <a:pt x="2577" y="4"/>
                      <a:pt x="2577" y="2"/>
                    </a:cubicBezTo>
                    <a:cubicBezTo>
                      <a:pt x="2577" y="1"/>
                      <a:pt x="2578" y="0"/>
                      <a:pt x="2579" y="0"/>
                    </a:cubicBezTo>
                    <a:close/>
                    <a:moveTo>
                      <a:pt x="2587" y="0"/>
                    </a:moveTo>
                    <a:lnTo>
                      <a:pt x="2587" y="0"/>
                    </a:lnTo>
                    <a:cubicBezTo>
                      <a:pt x="2588" y="0"/>
                      <a:pt x="2589" y="1"/>
                      <a:pt x="2589" y="2"/>
                    </a:cubicBezTo>
                    <a:cubicBezTo>
                      <a:pt x="2589" y="4"/>
                      <a:pt x="2588" y="4"/>
                      <a:pt x="2587" y="4"/>
                    </a:cubicBezTo>
                    <a:lnTo>
                      <a:pt x="2587" y="4"/>
                    </a:lnTo>
                    <a:cubicBezTo>
                      <a:pt x="2586" y="4"/>
                      <a:pt x="2585" y="4"/>
                      <a:pt x="2585" y="2"/>
                    </a:cubicBezTo>
                    <a:cubicBezTo>
                      <a:pt x="2585" y="1"/>
                      <a:pt x="2586" y="0"/>
                      <a:pt x="2587" y="0"/>
                    </a:cubicBezTo>
                    <a:close/>
                    <a:moveTo>
                      <a:pt x="2595" y="0"/>
                    </a:moveTo>
                    <a:lnTo>
                      <a:pt x="2595" y="0"/>
                    </a:lnTo>
                    <a:cubicBezTo>
                      <a:pt x="2596" y="0"/>
                      <a:pt x="2597" y="1"/>
                      <a:pt x="2597" y="2"/>
                    </a:cubicBezTo>
                    <a:cubicBezTo>
                      <a:pt x="2597" y="4"/>
                      <a:pt x="2596" y="4"/>
                      <a:pt x="2595" y="4"/>
                    </a:cubicBezTo>
                    <a:lnTo>
                      <a:pt x="2595" y="4"/>
                    </a:lnTo>
                    <a:cubicBezTo>
                      <a:pt x="2594" y="4"/>
                      <a:pt x="2593" y="4"/>
                      <a:pt x="2593" y="2"/>
                    </a:cubicBezTo>
                    <a:cubicBezTo>
                      <a:pt x="2593" y="1"/>
                      <a:pt x="2594" y="0"/>
                      <a:pt x="2595" y="0"/>
                    </a:cubicBezTo>
                    <a:close/>
                    <a:moveTo>
                      <a:pt x="2603" y="0"/>
                    </a:moveTo>
                    <a:lnTo>
                      <a:pt x="2603" y="0"/>
                    </a:lnTo>
                    <a:cubicBezTo>
                      <a:pt x="2604" y="0"/>
                      <a:pt x="2605" y="1"/>
                      <a:pt x="2605" y="2"/>
                    </a:cubicBezTo>
                    <a:cubicBezTo>
                      <a:pt x="2605" y="4"/>
                      <a:pt x="2604" y="4"/>
                      <a:pt x="2603" y="4"/>
                    </a:cubicBezTo>
                    <a:lnTo>
                      <a:pt x="2603" y="4"/>
                    </a:lnTo>
                    <a:cubicBezTo>
                      <a:pt x="2602" y="4"/>
                      <a:pt x="2601" y="4"/>
                      <a:pt x="2601" y="2"/>
                    </a:cubicBezTo>
                    <a:cubicBezTo>
                      <a:pt x="2601" y="1"/>
                      <a:pt x="2602" y="0"/>
                      <a:pt x="2603" y="0"/>
                    </a:cubicBezTo>
                    <a:close/>
                    <a:moveTo>
                      <a:pt x="2611" y="0"/>
                    </a:moveTo>
                    <a:lnTo>
                      <a:pt x="2611" y="0"/>
                    </a:lnTo>
                    <a:cubicBezTo>
                      <a:pt x="2612" y="0"/>
                      <a:pt x="2613" y="1"/>
                      <a:pt x="2613" y="2"/>
                    </a:cubicBezTo>
                    <a:cubicBezTo>
                      <a:pt x="2613" y="4"/>
                      <a:pt x="2612" y="4"/>
                      <a:pt x="2611" y="4"/>
                    </a:cubicBezTo>
                    <a:lnTo>
                      <a:pt x="2611" y="4"/>
                    </a:lnTo>
                    <a:cubicBezTo>
                      <a:pt x="2610" y="4"/>
                      <a:pt x="2609" y="4"/>
                      <a:pt x="2609" y="2"/>
                    </a:cubicBezTo>
                    <a:cubicBezTo>
                      <a:pt x="2609" y="1"/>
                      <a:pt x="2610" y="0"/>
                      <a:pt x="2611" y="0"/>
                    </a:cubicBezTo>
                    <a:close/>
                    <a:moveTo>
                      <a:pt x="2619" y="0"/>
                    </a:moveTo>
                    <a:lnTo>
                      <a:pt x="2619" y="0"/>
                    </a:lnTo>
                    <a:cubicBezTo>
                      <a:pt x="2620" y="0"/>
                      <a:pt x="2621" y="1"/>
                      <a:pt x="2621" y="2"/>
                    </a:cubicBezTo>
                    <a:cubicBezTo>
                      <a:pt x="2621" y="4"/>
                      <a:pt x="2620" y="4"/>
                      <a:pt x="2619" y="4"/>
                    </a:cubicBezTo>
                    <a:lnTo>
                      <a:pt x="2619" y="4"/>
                    </a:lnTo>
                    <a:cubicBezTo>
                      <a:pt x="2618" y="4"/>
                      <a:pt x="2617" y="4"/>
                      <a:pt x="2617" y="2"/>
                    </a:cubicBezTo>
                    <a:cubicBezTo>
                      <a:pt x="2617" y="1"/>
                      <a:pt x="2618" y="0"/>
                      <a:pt x="2619" y="0"/>
                    </a:cubicBezTo>
                    <a:close/>
                    <a:moveTo>
                      <a:pt x="2627" y="0"/>
                    </a:moveTo>
                    <a:lnTo>
                      <a:pt x="2627" y="0"/>
                    </a:lnTo>
                    <a:cubicBezTo>
                      <a:pt x="2628" y="0"/>
                      <a:pt x="2629" y="1"/>
                      <a:pt x="2629" y="2"/>
                    </a:cubicBezTo>
                    <a:cubicBezTo>
                      <a:pt x="2629" y="4"/>
                      <a:pt x="2628" y="4"/>
                      <a:pt x="2627" y="4"/>
                    </a:cubicBezTo>
                    <a:lnTo>
                      <a:pt x="2627" y="4"/>
                    </a:lnTo>
                    <a:cubicBezTo>
                      <a:pt x="2626" y="4"/>
                      <a:pt x="2625" y="4"/>
                      <a:pt x="2625" y="2"/>
                    </a:cubicBezTo>
                    <a:cubicBezTo>
                      <a:pt x="2625" y="1"/>
                      <a:pt x="2626" y="0"/>
                      <a:pt x="2627" y="0"/>
                    </a:cubicBezTo>
                    <a:close/>
                    <a:moveTo>
                      <a:pt x="2635" y="0"/>
                    </a:moveTo>
                    <a:lnTo>
                      <a:pt x="2635" y="0"/>
                    </a:lnTo>
                    <a:cubicBezTo>
                      <a:pt x="2636" y="0"/>
                      <a:pt x="2637" y="1"/>
                      <a:pt x="2637" y="2"/>
                    </a:cubicBezTo>
                    <a:cubicBezTo>
                      <a:pt x="2637" y="4"/>
                      <a:pt x="2636" y="4"/>
                      <a:pt x="2635" y="4"/>
                    </a:cubicBezTo>
                    <a:lnTo>
                      <a:pt x="2635" y="4"/>
                    </a:lnTo>
                    <a:cubicBezTo>
                      <a:pt x="2634" y="4"/>
                      <a:pt x="2633" y="4"/>
                      <a:pt x="2633" y="2"/>
                    </a:cubicBezTo>
                    <a:cubicBezTo>
                      <a:pt x="2633" y="1"/>
                      <a:pt x="2634" y="0"/>
                      <a:pt x="2635" y="0"/>
                    </a:cubicBezTo>
                    <a:close/>
                    <a:moveTo>
                      <a:pt x="2643" y="0"/>
                    </a:moveTo>
                    <a:lnTo>
                      <a:pt x="2643" y="0"/>
                    </a:lnTo>
                    <a:cubicBezTo>
                      <a:pt x="2644" y="0"/>
                      <a:pt x="2645" y="1"/>
                      <a:pt x="2645" y="2"/>
                    </a:cubicBezTo>
                    <a:cubicBezTo>
                      <a:pt x="2645" y="4"/>
                      <a:pt x="2644" y="4"/>
                      <a:pt x="2643" y="4"/>
                    </a:cubicBezTo>
                    <a:lnTo>
                      <a:pt x="2643" y="4"/>
                    </a:lnTo>
                    <a:cubicBezTo>
                      <a:pt x="2642" y="4"/>
                      <a:pt x="2641" y="4"/>
                      <a:pt x="2641" y="2"/>
                    </a:cubicBezTo>
                    <a:cubicBezTo>
                      <a:pt x="2641" y="1"/>
                      <a:pt x="2642" y="0"/>
                      <a:pt x="2643" y="0"/>
                    </a:cubicBezTo>
                    <a:close/>
                    <a:moveTo>
                      <a:pt x="2651" y="0"/>
                    </a:moveTo>
                    <a:lnTo>
                      <a:pt x="2651" y="0"/>
                    </a:lnTo>
                    <a:cubicBezTo>
                      <a:pt x="2652" y="0"/>
                      <a:pt x="2653" y="1"/>
                      <a:pt x="2653" y="2"/>
                    </a:cubicBezTo>
                    <a:cubicBezTo>
                      <a:pt x="2653" y="4"/>
                      <a:pt x="2652" y="4"/>
                      <a:pt x="2651" y="4"/>
                    </a:cubicBezTo>
                    <a:lnTo>
                      <a:pt x="2651" y="4"/>
                    </a:lnTo>
                    <a:cubicBezTo>
                      <a:pt x="2650" y="4"/>
                      <a:pt x="2649" y="4"/>
                      <a:pt x="2649" y="2"/>
                    </a:cubicBezTo>
                    <a:cubicBezTo>
                      <a:pt x="2649" y="1"/>
                      <a:pt x="2650" y="0"/>
                      <a:pt x="2651" y="0"/>
                    </a:cubicBezTo>
                    <a:close/>
                    <a:moveTo>
                      <a:pt x="2659" y="0"/>
                    </a:moveTo>
                    <a:lnTo>
                      <a:pt x="2659" y="0"/>
                    </a:lnTo>
                    <a:cubicBezTo>
                      <a:pt x="2660" y="0"/>
                      <a:pt x="2661" y="1"/>
                      <a:pt x="2661" y="2"/>
                    </a:cubicBezTo>
                    <a:cubicBezTo>
                      <a:pt x="2661" y="4"/>
                      <a:pt x="2660" y="4"/>
                      <a:pt x="2659" y="4"/>
                    </a:cubicBezTo>
                    <a:lnTo>
                      <a:pt x="2659" y="4"/>
                    </a:lnTo>
                    <a:cubicBezTo>
                      <a:pt x="2658" y="4"/>
                      <a:pt x="2657" y="4"/>
                      <a:pt x="2657" y="2"/>
                    </a:cubicBezTo>
                    <a:cubicBezTo>
                      <a:pt x="2657" y="1"/>
                      <a:pt x="2658" y="0"/>
                      <a:pt x="2659" y="0"/>
                    </a:cubicBezTo>
                    <a:close/>
                    <a:moveTo>
                      <a:pt x="2667" y="0"/>
                    </a:moveTo>
                    <a:lnTo>
                      <a:pt x="2667" y="0"/>
                    </a:lnTo>
                    <a:cubicBezTo>
                      <a:pt x="2668" y="0"/>
                      <a:pt x="2669" y="1"/>
                      <a:pt x="2669" y="2"/>
                    </a:cubicBezTo>
                    <a:cubicBezTo>
                      <a:pt x="2669" y="4"/>
                      <a:pt x="2668" y="4"/>
                      <a:pt x="2667" y="4"/>
                    </a:cubicBezTo>
                    <a:lnTo>
                      <a:pt x="2667" y="4"/>
                    </a:lnTo>
                    <a:cubicBezTo>
                      <a:pt x="2666" y="4"/>
                      <a:pt x="2665" y="4"/>
                      <a:pt x="2665" y="2"/>
                    </a:cubicBezTo>
                    <a:cubicBezTo>
                      <a:pt x="2665" y="1"/>
                      <a:pt x="2666" y="0"/>
                      <a:pt x="2667" y="0"/>
                    </a:cubicBezTo>
                    <a:close/>
                    <a:moveTo>
                      <a:pt x="2675" y="0"/>
                    </a:moveTo>
                    <a:lnTo>
                      <a:pt x="2675" y="0"/>
                    </a:lnTo>
                    <a:cubicBezTo>
                      <a:pt x="2676" y="0"/>
                      <a:pt x="2677" y="1"/>
                      <a:pt x="2677" y="2"/>
                    </a:cubicBezTo>
                    <a:cubicBezTo>
                      <a:pt x="2677" y="4"/>
                      <a:pt x="2676" y="4"/>
                      <a:pt x="2675" y="4"/>
                    </a:cubicBezTo>
                    <a:lnTo>
                      <a:pt x="2675" y="4"/>
                    </a:lnTo>
                    <a:cubicBezTo>
                      <a:pt x="2674" y="4"/>
                      <a:pt x="2673" y="4"/>
                      <a:pt x="2673" y="2"/>
                    </a:cubicBezTo>
                    <a:cubicBezTo>
                      <a:pt x="2673" y="1"/>
                      <a:pt x="2674" y="0"/>
                      <a:pt x="2675" y="0"/>
                    </a:cubicBezTo>
                    <a:close/>
                    <a:moveTo>
                      <a:pt x="2683" y="0"/>
                    </a:moveTo>
                    <a:lnTo>
                      <a:pt x="2683" y="0"/>
                    </a:lnTo>
                    <a:cubicBezTo>
                      <a:pt x="2684" y="0"/>
                      <a:pt x="2685" y="1"/>
                      <a:pt x="2685" y="2"/>
                    </a:cubicBezTo>
                    <a:cubicBezTo>
                      <a:pt x="2685" y="4"/>
                      <a:pt x="2684" y="4"/>
                      <a:pt x="2683" y="4"/>
                    </a:cubicBezTo>
                    <a:lnTo>
                      <a:pt x="2683" y="4"/>
                    </a:lnTo>
                    <a:cubicBezTo>
                      <a:pt x="2682" y="4"/>
                      <a:pt x="2681" y="4"/>
                      <a:pt x="2681" y="2"/>
                    </a:cubicBezTo>
                    <a:cubicBezTo>
                      <a:pt x="2681" y="1"/>
                      <a:pt x="2682" y="0"/>
                      <a:pt x="2683" y="0"/>
                    </a:cubicBezTo>
                    <a:close/>
                    <a:moveTo>
                      <a:pt x="2691" y="0"/>
                    </a:moveTo>
                    <a:lnTo>
                      <a:pt x="2691" y="0"/>
                    </a:lnTo>
                    <a:cubicBezTo>
                      <a:pt x="2692" y="0"/>
                      <a:pt x="2693" y="1"/>
                      <a:pt x="2693" y="2"/>
                    </a:cubicBezTo>
                    <a:cubicBezTo>
                      <a:pt x="2693" y="4"/>
                      <a:pt x="2692" y="4"/>
                      <a:pt x="2691" y="4"/>
                    </a:cubicBezTo>
                    <a:lnTo>
                      <a:pt x="2691" y="4"/>
                    </a:lnTo>
                    <a:cubicBezTo>
                      <a:pt x="2690" y="4"/>
                      <a:pt x="2689" y="4"/>
                      <a:pt x="2689" y="2"/>
                    </a:cubicBezTo>
                    <a:cubicBezTo>
                      <a:pt x="2689" y="1"/>
                      <a:pt x="2690" y="0"/>
                      <a:pt x="2691" y="0"/>
                    </a:cubicBezTo>
                    <a:close/>
                    <a:moveTo>
                      <a:pt x="2699" y="0"/>
                    </a:moveTo>
                    <a:lnTo>
                      <a:pt x="2699" y="0"/>
                    </a:lnTo>
                    <a:cubicBezTo>
                      <a:pt x="2700" y="0"/>
                      <a:pt x="2701" y="1"/>
                      <a:pt x="2701" y="2"/>
                    </a:cubicBezTo>
                    <a:cubicBezTo>
                      <a:pt x="2701" y="4"/>
                      <a:pt x="2700" y="4"/>
                      <a:pt x="2699" y="4"/>
                    </a:cubicBezTo>
                    <a:lnTo>
                      <a:pt x="2699" y="4"/>
                    </a:lnTo>
                    <a:cubicBezTo>
                      <a:pt x="2698" y="4"/>
                      <a:pt x="2697" y="4"/>
                      <a:pt x="2697" y="2"/>
                    </a:cubicBezTo>
                    <a:cubicBezTo>
                      <a:pt x="2697" y="1"/>
                      <a:pt x="2698" y="0"/>
                      <a:pt x="2699" y="0"/>
                    </a:cubicBezTo>
                    <a:close/>
                    <a:moveTo>
                      <a:pt x="2707" y="0"/>
                    </a:moveTo>
                    <a:lnTo>
                      <a:pt x="2707" y="0"/>
                    </a:lnTo>
                    <a:cubicBezTo>
                      <a:pt x="2708" y="0"/>
                      <a:pt x="2709" y="1"/>
                      <a:pt x="2709" y="2"/>
                    </a:cubicBezTo>
                    <a:cubicBezTo>
                      <a:pt x="2709" y="4"/>
                      <a:pt x="2708" y="4"/>
                      <a:pt x="2707" y="4"/>
                    </a:cubicBezTo>
                    <a:lnTo>
                      <a:pt x="2707" y="4"/>
                    </a:lnTo>
                    <a:cubicBezTo>
                      <a:pt x="2706" y="4"/>
                      <a:pt x="2705" y="4"/>
                      <a:pt x="2705" y="2"/>
                    </a:cubicBezTo>
                    <a:cubicBezTo>
                      <a:pt x="2705" y="1"/>
                      <a:pt x="2706" y="0"/>
                      <a:pt x="2707" y="0"/>
                    </a:cubicBezTo>
                    <a:close/>
                    <a:moveTo>
                      <a:pt x="2715" y="0"/>
                    </a:moveTo>
                    <a:lnTo>
                      <a:pt x="2715" y="0"/>
                    </a:lnTo>
                    <a:cubicBezTo>
                      <a:pt x="2716" y="0"/>
                      <a:pt x="2717" y="1"/>
                      <a:pt x="2717" y="2"/>
                    </a:cubicBezTo>
                    <a:cubicBezTo>
                      <a:pt x="2717" y="4"/>
                      <a:pt x="2716" y="4"/>
                      <a:pt x="2715" y="4"/>
                    </a:cubicBezTo>
                    <a:lnTo>
                      <a:pt x="2715" y="4"/>
                    </a:lnTo>
                    <a:cubicBezTo>
                      <a:pt x="2714" y="4"/>
                      <a:pt x="2713" y="4"/>
                      <a:pt x="2713" y="2"/>
                    </a:cubicBezTo>
                    <a:cubicBezTo>
                      <a:pt x="2713" y="1"/>
                      <a:pt x="2714" y="0"/>
                      <a:pt x="2715" y="0"/>
                    </a:cubicBezTo>
                    <a:close/>
                    <a:moveTo>
                      <a:pt x="2723" y="0"/>
                    </a:moveTo>
                    <a:lnTo>
                      <a:pt x="2723" y="0"/>
                    </a:lnTo>
                    <a:cubicBezTo>
                      <a:pt x="2724" y="0"/>
                      <a:pt x="2725" y="1"/>
                      <a:pt x="2725" y="2"/>
                    </a:cubicBezTo>
                    <a:cubicBezTo>
                      <a:pt x="2725" y="4"/>
                      <a:pt x="2724" y="4"/>
                      <a:pt x="2723" y="4"/>
                    </a:cubicBezTo>
                    <a:lnTo>
                      <a:pt x="2723" y="4"/>
                    </a:lnTo>
                    <a:cubicBezTo>
                      <a:pt x="2722" y="4"/>
                      <a:pt x="2721" y="4"/>
                      <a:pt x="2721" y="2"/>
                    </a:cubicBezTo>
                    <a:cubicBezTo>
                      <a:pt x="2721" y="1"/>
                      <a:pt x="2722" y="0"/>
                      <a:pt x="2723" y="0"/>
                    </a:cubicBezTo>
                    <a:close/>
                    <a:moveTo>
                      <a:pt x="2731" y="0"/>
                    </a:moveTo>
                    <a:lnTo>
                      <a:pt x="2731" y="0"/>
                    </a:lnTo>
                    <a:cubicBezTo>
                      <a:pt x="2732" y="0"/>
                      <a:pt x="2733" y="1"/>
                      <a:pt x="2733" y="2"/>
                    </a:cubicBezTo>
                    <a:cubicBezTo>
                      <a:pt x="2733" y="4"/>
                      <a:pt x="2732" y="4"/>
                      <a:pt x="2731" y="4"/>
                    </a:cubicBezTo>
                    <a:lnTo>
                      <a:pt x="2731" y="4"/>
                    </a:lnTo>
                    <a:cubicBezTo>
                      <a:pt x="2730" y="4"/>
                      <a:pt x="2729" y="4"/>
                      <a:pt x="2729" y="2"/>
                    </a:cubicBezTo>
                    <a:cubicBezTo>
                      <a:pt x="2729" y="1"/>
                      <a:pt x="2730" y="0"/>
                      <a:pt x="2731" y="0"/>
                    </a:cubicBezTo>
                    <a:close/>
                    <a:moveTo>
                      <a:pt x="2739" y="0"/>
                    </a:moveTo>
                    <a:lnTo>
                      <a:pt x="2739" y="0"/>
                    </a:lnTo>
                    <a:cubicBezTo>
                      <a:pt x="2740" y="0"/>
                      <a:pt x="2741" y="1"/>
                      <a:pt x="2741" y="2"/>
                    </a:cubicBezTo>
                    <a:cubicBezTo>
                      <a:pt x="2741" y="4"/>
                      <a:pt x="2740" y="4"/>
                      <a:pt x="2739" y="4"/>
                    </a:cubicBezTo>
                    <a:lnTo>
                      <a:pt x="2739" y="4"/>
                    </a:lnTo>
                    <a:cubicBezTo>
                      <a:pt x="2738" y="4"/>
                      <a:pt x="2737" y="4"/>
                      <a:pt x="2737" y="2"/>
                    </a:cubicBezTo>
                    <a:cubicBezTo>
                      <a:pt x="2737" y="1"/>
                      <a:pt x="2738" y="0"/>
                      <a:pt x="2739" y="0"/>
                    </a:cubicBezTo>
                    <a:close/>
                    <a:moveTo>
                      <a:pt x="2747" y="0"/>
                    </a:moveTo>
                    <a:lnTo>
                      <a:pt x="2747" y="0"/>
                    </a:lnTo>
                    <a:cubicBezTo>
                      <a:pt x="2748" y="0"/>
                      <a:pt x="2749" y="1"/>
                      <a:pt x="2749" y="2"/>
                    </a:cubicBezTo>
                    <a:cubicBezTo>
                      <a:pt x="2749" y="4"/>
                      <a:pt x="2748" y="4"/>
                      <a:pt x="2747" y="4"/>
                    </a:cubicBezTo>
                    <a:lnTo>
                      <a:pt x="2747" y="4"/>
                    </a:lnTo>
                    <a:cubicBezTo>
                      <a:pt x="2746" y="4"/>
                      <a:pt x="2745" y="4"/>
                      <a:pt x="2745" y="2"/>
                    </a:cubicBezTo>
                    <a:cubicBezTo>
                      <a:pt x="2745" y="1"/>
                      <a:pt x="2746" y="0"/>
                      <a:pt x="2747" y="0"/>
                    </a:cubicBezTo>
                    <a:close/>
                    <a:moveTo>
                      <a:pt x="2755" y="0"/>
                    </a:moveTo>
                    <a:lnTo>
                      <a:pt x="2755" y="0"/>
                    </a:lnTo>
                    <a:cubicBezTo>
                      <a:pt x="2756" y="0"/>
                      <a:pt x="2757" y="1"/>
                      <a:pt x="2757" y="2"/>
                    </a:cubicBezTo>
                    <a:cubicBezTo>
                      <a:pt x="2757" y="4"/>
                      <a:pt x="2756" y="4"/>
                      <a:pt x="2755" y="4"/>
                    </a:cubicBezTo>
                    <a:lnTo>
                      <a:pt x="2755" y="4"/>
                    </a:lnTo>
                    <a:cubicBezTo>
                      <a:pt x="2754" y="4"/>
                      <a:pt x="2753" y="4"/>
                      <a:pt x="2753" y="2"/>
                    </a:cubicBezTo>
                    <a:cubicBezTo>
                      <a:pt x="2753" y="1"/>
                      <a:pt x="2754" y="0"/>
                      <a:pt x="2755" y="0"/>
                    </a:cubicBezTo>
                    <a:close/>
                    <a:moveTo>
                      <a:pt x="2763" y="0"/>
                    </a:moveTo>
                    <a:lnTo>
                      <a:pt x="2763" y="0"/>
                    </a:lnTo>
                    <a:cubicBezTo>
                      <a:pt x="2764" y="0"/>
                      <a:pt x="2765" y="1"/>
                      <a:pt x="2765" y="2"/>
                    </a:cubicBezTo>
                    <a:cubicBezTo>
                      <a:pt x="2765" y="4"/>
                      <a:pt x="2764" y="4"/>
                      <a:pt x="2763" y="4"/>
                    </a:cubicBezTo>
                    <a:lnTo>
                      <a:pt x="2763" y="4"/>
                    </a:lnTo>
                    <a:cubicBezTo>
                      <a:pt x="2762" y="4"/>
                      <a:pt x="2761" y="4"/>
                      <a:pt x="2761" y="2"/>
                    </a:cubicBezTo>
                    <a:cubicBezTo>
                      <a:pt x="2761" y="1"/>
                      <a:pt x="2762" y="0"/>
                      <a:pt x="2763" y="0"/>
                    </a:cubicBezTo>
                    <a:close/>
                    <a:moveTo>
                      <a:pt x="2771" y="0"/>
                    </a:moveTo>
                    <a:lnTo>
                      <a:pt x="2771" y="0"/>
                    </a:lnTo>
                    <a:cubicBezTo>
                      <a:pt x="2772" y="0"/>
                      <a:pt x="2773" y="1"/>
                      <a:pt x="2773" y="2"/>
                    </a:cubicBezTo>
                    <a:cubicBezTo>
                      <a:pt x="2773" y="4"/>
                      <a:pt x="2772" y="4"/>
                      <a:pt x="2771" y="4"/>
                    </a:cubicBezTo>
                    <a:lnTo>
                      <a:pt x="2771" y="4"/>
                    </a:lnTo>
                    <a:cubicBezTo>
                      <a:pt x="2770" y="4"/>
                      <a:pt x="2769" y="4"/>
                      <a:pt x="2769" y="2"/>
                    </a:cubicBezTo>
                    <a:cubicBezTo>
                      <a:pt x="2769" y="1"/>
                      <a:pt x="2770" y="0"/>
                      <a:pt x="2771" y="0"/>
                    </a:cubicBezTo>
                    <a:close/>
                    <a:moveTo>
                      <a:pt x="2779" y="0"/>
                    </a:moveTo>
                    <a:lnTo>
                      <a:pt x="2779" y="0"/>
                    </a:lnTo>
                    <a:cubicBezTo>
                      <a:pt x="2780" y="0"/>
                      <a:pt x="2781" y="1"/>
                      <a:pt x="2781" y="2"/>
                    </a:cubicBezTo>
                    <a:cubicBezTo>
                      <a:pt x="2781" y="4"/>
                      <a:pt x="2780" y="4"/>
                      <a:pt x="2779" y="4"/>
                    </a:cubicBezTo>
                    <a:lnTo>
                      <a:pt x="2779" y="4"/>
                    </a:lnTo>
                    <a:cubicBezTo>
                      <a:pt x="2778" y="4"/>
                      <a:pt x="2777" y="4"/>
                      <a:pt x="2777" y="2"/>
                    </a:cubicBezTo>
                    <a:cubicBezTo>
                      <a:pt x="2777" y="1"/>
                      <a:pt x="2778" y="0"/>
                      <a:pt x="2779" y="0"/>
                    </a:cubicBezTo>
                    <a:close/>
                    <a:moveTo>
                      <a:pt x="2787" y="0"/>
                    </a:moveTo>
                    <a:lnTo>
                      <a:pt x="2787" y="0"/>
                    </a:lnTo>
                    <a:cubicBezTo>
                      <a:pt x="2788" y="0"/>
                      <a:pt x="2789" y="1"/>
                      <a:pt x="2789" y="2"/>
                    </a:cubicBezTo>
                    <a:cubicBezTo>
                      <a:pt x="2789" y="4"/>
                      <a:pt x="2788" y="4"/>
                      <a:pt x="2787" y="4"/>
                    </a:cubicBezTo>
                    <a:lnTo>
                      <a:pt x="2787" y="4"/>
                    </a:lnTo>
                    <a:cubicBezTo>
                      <a:pt x="2786" y="4"/>
                      <a:pt x="2785" y="4"/>
                      <a:pt x="2785" y="2"/>
                    </a:cubicBezTo>
                    <a:cubicBezTo>
                      <a:pt x="2785" y="1"/>
                      <a:pt x="2786" y="0"/>
                      <a:pt x="2787" y="0"/>
                    </a:cubicBezTo>
                    <a:close/>
                    <a:moveTo>
                      <a:pt x="2795" y="0"/>
                    </a:moveTo>
                    <a:lnTo>
                      <a:pt x="2795" y="0"/>
                    </a:lnTo>
                    <a:cubicBezTo>
                      <a:pt x="2796" y="0"/>
                      <a:pt x="2797" y="1"/>
                      <a:pt x="2797" y="2"/>
                    </a:cubicBezTo>
                    <a:cubicBezTo>
                      <a:pt x="2797" y="4"/>
                      <a:pt x="2796" y="4"/>
                      <a:pt x="2795" y="4"/>
                    </a:cubicBezTo>
                    <a:lnTo>
                      <a:pt x="2795" y="4"/>
                    </a:lnTo>
                    <a:cubicBezTo>
                      <a:pt x="2794" y="4"/>
                      <a:pt x="2793" y="4"/>
                      <a:pt x="2793" y="2"/>
                    </a:cubicBezTo>
                    <a:cubicBezTo>
                      <a:pt x="2793" y="1"/>
                      <a:pt x="2794" y="0"/>
                      <a:pt x="2795" y="0"/>
                    </a:cubicBezTo>
                    <a:close/>
                    <a:moveTo>
                      <a:pt x="2803" y="0"/>
                    </a:moveTo>
                    <a:lnTo>
                      <a:pt x="2803" y="0"/>
                    </a:lnTo>
                    <a:cubicBezTo>
                      <a:pt x="2804" y="0"/>
                      <a:pt x="2805" y="1"/>
                      <a:pt x="2805" y="2"/>
                    </a:cubicBezTo>
                    <a:cubicBezTo>
                      <a:pt x="2805" y="4"/>
                      <a:pt x="2804" y="4"/>
                      <a:pt x="2803" y="4"/>
                    </a:cubicBezTo>
                    <a:lnTo>
                      <a:pt x="2803" y="4"/>
                    </a:lnTo>
                    <a:cubicBezTo>
                      <a:pt x="2802" y="4"/>
                      <a:pt x="2801" y="4"/>
                      <a:pt x="2801" y="2"/>
                    </a:cubicBezTo>
                    <a:cubicBezTo>
                      <a:pt x="2801" y="1"/>
                      <a:pt x="2802" y="0"/>
                      <a:pt x="2803" y="0"/>
                    </a:cubicBezTo>
                    <a:close/>
                    <a:moveTo>
                      <a:pt x="2811" y="0"/>
                    </a:moveTo>
                    <a:lnTo>
                      <a:pt x="2811" y="0"/>
                    </a:lnTo>
                    <a:cubicBezTo>
                      <a:pt x="2812" y="0"/>
                      <a:pt x="2813" y="1"/>
                      <a:pt x="2813" y="2"/>
                    </a:cubicBezTo>
                    <a:cubicBezTo>
                      <a:pt x="2813" y="4"/>
                      <a:pt x="2812" y="4"/>
                      <a:pt x="2811" y="4"/>
                    </a:cubicBezTo>
                    <a:lnTo>
                      <a:pt x="2811" y="4"/>
                    </a:lnTo>
                    <a:cubicBezTo>
                      <a:pt x="2810" y="4"/>
                      <a:pt x="2809" y="4"/>
                      <a:pt x="2809" y="2"/>
                    </a:cubicBezTo>
                    <a:cubicBezTo>
                      <a:pt x="2809" y="1"/>
                      <a:pt x="2810" y="0"/>
                      <a:pt x="2811" y="0"/>
                    </a:cubicBezTo>
                    <a:close/>
                    <a:moveTo>
                      <a:pt x="2819" y="0"/>
                    </a:moveTo>
                    <a:lnTo>
                      <a:pt x="2819" y="0"/>
                    </a:lnTo>
                    <a:cubicBezTo>
                      <a:pt x="2820" y="0"/>
                      <a:pt x="2821" y="1"/>
                      <a:pt x="2821" y="2"/>
                    </a:cubicBezTo>
                    <a:cubicBezTo>
                      <a:pt x="2821" y="4"/>
                      <a:pt x="2820" y="4"/>
                      <a:pt x="2819" y="4"/>
                    </a:cubicBezTo>
                    <a:lnTo>
                      <a:pt x="2819" y="4"/>
                    </a:lnTo>
                    <a:cubicBezTo>
                      <a:pt x="2818" y="4"/>
                      <a:pt x="2817" y="4"/>
                      <a:pt x="2817" y="2"/>
                    </a:cubicBezTo>
                    <a:cubicBezTo>
                      <a:pt x="2817" y="1"/>
                      <a:pt x="2818" y="0"/>
                      <a:pt x="2819" y="0"/>
                    </a:cubicBezTo>
                    <a:close/>
                    <a:moveTo>
                      <a:pt x="2827" y="0"/>
                    </a:moveTo>
                    <a:lnTo>
                      <a:pt x="2827" y="0"/>
                    </a:lnTo>
                    <a:cubicBezTo>
                      <a:pt x="2828" y="0"/>
                      <a:pt x="2829" y="1"/>
                      <a:pt x="2829" y="2"/>
                    </a:cubicBezTo>
                    <a:cubicBezTo>
                      <a:pt x="2829" y="4"/>
                      <a:pt x="2828" y="4"/>
                      <a:pt x="2827" y="4"/>
                    </a:cubicBezTo>
                    <a:lnTo>
                      <a:pt x="2827" y="4"/>
                    </a:lnTo>
                    <a:cubicBezTo>
                      <a:pt x="2826" y="4"/>
                      <a:pt x="2825" y="4"/>
                      <a:pt x="2825" y="2"/>
                    </a:cubicBezTo>
                    <a:cubicBezTo>
                      <a:pt x="2825" y="1"/>
                      <a:pt x="2826" y="0"/>
                      <a:pt x="2827" y="0"/>
                    </a:cubicBezTo>
                    <a:close/>
                    <a:moveTo>
                      <a:pt x="2835" y="0"/>
                    </a:moveTo>
                    <a:lnTo>
                      <a:pt x="2835" y="0"/>
                    </a:lnTo>
                    <a:cubicBezTo>
                      <a:pt x="2836" y="0"/>
                      <a:pt x="2837" y="1"/>
                      <a:pt x="2837" y="2"/>
                    </a:cubicBezTo>
                    <a:cubicBezTo>
                      <a:pt x="2837" y="4"/>
                      <a:pt x="2836" y="4"/>
                      <a:pt x="2835" y="4"/>
                    </a:cubicBezTo>
                    <a:lnTo>
                      <a:pt x="2835" y="4"/>
                    </a:lnTo>
                    <a:cubicBezTo>
                      <a:pt x="2834" y="4"/>
                      <a:pt x="2833" y="4"/>
                      <a:pt x="2833" y="2"/>
                    </a:cubicBezTo>
                    <a:cubicBezTo>
                      <a:pt x="2833" y="1"/>
                      <a:pt x="2834" y="0"/>
                      <a:pt x="2835" y="0"/>
                    </a:cubicBezTo>
                    <a:close/>
                    <a:moveTo>
                      <a:pt x="2843" y="0"/>
                    </a:moveTo>
                    <a:lnTo>
                      <a:pt x="2843" y="0"/>
                    </a:lnTo>
                    <a:cubicBezTo>
                      <a:pt x="2844" y="0"/>
                      <a:pt x="2845" y="1"/>
                      <a:pt x="2845" y="2"/>
                    </a:cubicBezTo>
                    <a:cubicBezTo>
                      <a:pt x="2845" y="4"/>
                      <a:pt x="2844" y="4"/>
                      <a:pt x="2843" y="4"/>
                    </a:cubicBezTo>
                    <a:lnTo>
                      <a:pt x="2843" y="4"/>
                    </a:lnTo>
                    <a:cubicBezTo>
                      <a:pt x="2842" y="4"/>
                      <a:pt x="2841" y="4"/>
                      <a:pt x="2841" y="2"/>
                    </a:cubicBezTo>
                    <a:cubicBezTo>
                      <a:pt x="2841" y="1"/>
                      <a:pt x="2842" y="0"/>
                      <a:pt x="2843" y="0"/>
                    </a:cubicBezTo>
                    <a:close/>
                    <a:moveTo>
                      <a:pt x="2851" y="0"/>
                    </a:moveTo>
                    <a:lnTo>
                      <a:pt x="2851" y="0"/>
                    </a:lnTo>
                    <a:cubicBezTo>
                      <a:pt x="2852" y="0"/>
                      <a:pt x="2853" y="1"/>
                      <a:pt x="2853" y="2"/>
                    </a:cubicBezTo>
                    <a:cubicBezTo>
                      <a:pt x="2853" y="4"/>
                      <a:pt x="2852" y="4"/>
                      <a:pt x="2851" y="4"/>
                    </a:cubicBezTo>
                    <a:lnTo>
                      <a:pt x="2851" y="4"/>
                    </a:lnTo>
                    <a:cubicBezTo>
                      <a:pt x="2850" y="4"/>
                      <a:pt x="2849" y="4"/>
                      <a:pt x="2849" y="2"/>
                    </a:cubicBezTo>
                    <a:cubicBezTo>
                      <a:pt x="2849" y="1"/>
                      <a:pt x="2850" y="0"/>
                      <a:pt x="2851" y="0"/>
                    </a:cubicBezTo>
                    <a:close/>
                    <a:moveTo>
                      <a:pt x="2859" y="0"/>
                    </a:moveTo>
                    <a:lnTo>
                      <a:pt x="2859" y="0"/>
                    </a:lnTo>
                    <a:cubicBezTo>
                      <a:pt x="2860" y="0"/>
                      <a:pt x="2861" y="1"/>
                      <a:pt x="2861" y="2"/>
                    </a:cubicBezTo>
                    <a:cubicBezTo>
                      <a:pt x="2861" y="4"/>
                      <a:pt x="2860" y="4"/>
                      <a:pt x="2859" y="4"/>
                    </a:cubicBezTo>
                    <a:lnTo>
                      <a:pt x="2859" y="4"/>
                    </a:lnTo>
                    <a:cubicBezTo>
                      <a:pt x="2858" y="4"/>
                      <a:pt x="2857" y="4"/>
                      <a:pt x="2857" y="2"/>
                    </a:cubicBezTo>
                    <a:cubicBezTo>
                      <a:pt x="2857" y="1"/>
                      <a:pt x="2858" y="0"/>
                      <a:pt x="2859" y="0"/>
                    </a:cubicBezTo>
                    <a:close/>
                    <a:moveTo>
                      <a:pt x="2867" y="0"/>
                    </a:moveTo>
                    <a:lnTo>
                      <a:pt x="2867" y="0"/>
                    </a:lnTo>
                    <a:cubicBezTo>
                      <a:pt x="2868" y="0"/>
                      <a:pt x="2869" y="1"/>
                      <a:pt x="2869" y="2"/>
                    </a:cubicBezTo>
                    <a:cubicBezTo>
                      <a:pt x="2869" y="4"/>
                      <a:pt x="2868" y="4"/>
                      <a:pt x="2867" y="4"/>
                    </a:cubicBezTo>
                    <a:lnTo>
                      <a:pt x="2867" y="4"/>
                    </a:lnTo>
                    <a:cubicBezTo>
                      <a:pt x="2866" y="4"/>
                      <a:pt x="2865" y="4"/>
                      <a:pt x="2865" y="2"/>
                    </a:cubicBezTo>
                    <a:cubicBezTo>
                      <a:pt x="2865" y="1"/>
                      <a:pt x="2866" y="0"/>
                      <a:pt x="2867" y="0"/>
                    </a:cubicBezTo>
                    <a:close/>
                    <a:moveTo>
                      <a:pt x="2875" y="0"/>
                    </a:moveTo>
                    <a:lnTo>
                      <a:pt x="2875" y="0"/>
                    </a:lnTo>
                    <a:cubicBezTo>
                      <a:pt x="2876" y="0"/>
                      <a:pt x="2877" y="1"/>
                      <a:pt x="2877" y="2"/>
                    </a:cubicBezTo>
                    <a:cubicBezTo>
                      <a:pt x="2877" y="4"/>
                      <a:pt x="2876" y="4"/>
                      <a:pt x="2875" y="4"/>
                    </a:cubicBezTo>
                    <a:lnTo>
                      <a:pt x="2875" y="4"/>
                    </a:lnTo>
                    <a:cubicBezTo>
                      <a:pt x="2874" y="4"/>
                      <a:pt x="2873" y="4"/>
                      <a:pt x="2873" y="2"/>
                    </a:cubicBezTo>
                    <a:cubicBezTo>
                      <a:pt x="2873" y="1"/>
                      <a:pt x="2874" y="0"/>
                      <a:pt x="2875" y="0"/>
                    </a:cubicBezTo>
                    <a:close/>
                    <a:moveTo>
                      <a:pt x="2883" y="0"/>
                    </a:moveTo>
                    <a:lnTo>
                      <a:pt x="2883" y="0"/>
                    </a:lnTo>
                    <a:cubicBezTo>
                      <a:pt x="2884" y="0"/>
                      <a:pt x="2885" y="1"/>
                      <a:pt x="2885" y="2"/>
                    </a:cubicBezTo>
                    <a:cubicBezTo>
                      <a:pt x="2885" y="4"/>
                      <a:pt x="2884" y="4"/>
                      <a:pt x="2883" y="4"/>
                    </a:cubicBezTo>
                    <a:lnTo>
                      <a:pt x="2883" y="4"/>
                    </a:lnTo>
                    <a:cubicBezTo>
                      <a:pt x="2882" y="4"/>
                      <a:pt x="2881" y="4"/>
                      <a:pt x="2881" y="2"/>
                    </a:cubicBezTo>
                    <a:cubicBezTo>
                      <a:pt x="2881" y="1"/>
                      <a:pt x="2882" y="0"/>
                      <a:pt x="2883" y="0"/>
                    </a:cubicBezTo>
                    <a:close/>
                    <a:moveTo>
                      <a:pt x="2891" y="0"/>
                    </a:moveTo>
                    <a:lnTo>
                      <a:pt x="2891" y="0"/>
                    </a:lnTo>
                    <a:cubicBezTo>
                      <a:pt x="2892" y="0"/>
                      <a:pt x="2893" y="1"/>
                      <a:pt x="2893" y="2"/>
                    </a:cubicBezTo>
                    <a:cubicBezTo>
                      <a:pt x="2893" y="4"/>
                      <a:pt x="2892" y="4"/>
                      <a:pt x="2891" y="4"/>
                    </a:cubicBezTo>
                    <a:lnTo>
                      <a:pt x="2891" y="4"/>
                    </a:lnTo>
                    <a:cubicBezTo>
                      <a:pt x="2890" y="4"/>
                      <a:pt x="2889" y="4"/>
                      <a:pt x="2889" y="2"/>
                    </a:cubicBezTo>
                    <a:cubicBezTo>
                      <a:pt x="2889" y="1"/>
                      <a:pt x="2890" y="0"/>
                      <a:pt x="2891" y="0"/>
                    </a:cubicBezTo>
                    <a:close/>
                    <a:moveTo>
                      <a:pt x="2899" y="0"/>
                    </a:moveTo>
                    <a:lnTo>
                      <a:pt x="2899" y="0"/>
                    </a:lnTo>
                    <a:cubicBezTo>
                      <a:pt x="2900" y="0"/>
                      <a:pt x="2901" y="1"/>
                      <a:pt x="2901" y="2"/>
                    </a:cubicBezTo>
                    <a:cubicBezTo>
                      <a:pt x="2901" y="4"/>
                      <a:pt x="2900" y="4"/>
                      <a:pt x="2899" y="4"/>
                    </a:cubicBezTo>
                    <a:lnTo>
                      <a:pt x="2899" y="4"/>
                    </a:lnTo>
                    <a:cubicBezTo>
                      <a:pt x="2898" y="4"/>
                      <a:pt x="2897" y="4"/>
                      <a:pt x="2897" y="2"/>
                    </a:cubicBezTo>
                    <a:cubicBezTo>
                      <a:pt x="2897" y="1"/>
                      <a:pt x="2898" y="0"/>
                      <a:pt x="2899" y="0"/>
                    </a:cubicBezTo>
                    <a:close/>
                    <a:moveTo>
                      <a:pt x="2907" y="0"/>
                    </a:moveTo>
                    <a:lnTo>
                      <a:pt x="2907" y="0"/>
                    </a:lnTo>
                    <a:cubicBezTo>
                      <a:pt x="2908" y="0"/>
                      <a:pt x="2909" y="1"/>
                      <a:pt x="2909" y="2"/>
                    </a:cubicBezTo>
                    <a:cubicBezTo>
                      <a:pt x="2909" y="4"/>
                      <a:pt x="2908" y="4"/>
                      <a:pt x="2907" y="4"/>
                    </a:cubicBezTo>
                    <a:lnTo>
                      <a:pt x="2907" y="4"/>
                    </a:lnTo>
                    <a:cubicBezTo>
                      <a:pt x="2906" y="4"/>
                      <a:pt x="2905" y="4"/>
                      <a:pt x="2905" y="2"/>
                    </a:cubicBezTo>
                    <a:cubicBezTo>
                      <a:pt x="2905" y="1"/>
                      <a:pt x="2906" y="0"/>
                      <a:pt x="2907" y="0"/>
                    </a:cubicBezTo>
                    <a:close/>
                    <a:moveTo>
                      <a:pt x="2915" y="0"/>
                    </a:moveTo>
                    <a:lnTo>
                      <a:pt x="2915" y="0"/>
                    </a:lnTo>
                    <a:cubicBezTo>
                      <a:pt x="2916" y="0"/>
                      <a:pt x="2917" y="1"/>
                      <a:pt x="2917" y="2"/>
                    </a:cubicBezTo>
                    <a:cubicBezTo>
                      <a:pt x="2917" y="4"/>
                      <a:pt x="2916" y="4"/>
                      <a:pt x="2915" y="4"/>
                    </a:cubicBezTo>
                    <a:lnTo>
                      <a:pt x="2915" y="4"/>
                    </a:lnTo>
                    <a:cubicBezTo>
                      <a:pt x="2914" y="4"/>
                      <a:pt x="2913" y="4"/>
                      <a:pt x="2913" y="2"/>
                    </a:cubicBezTo>
                    <a:cubicBezTo>
                      <a:pt x="2913" y="1"/>
                      <a:pt x="2914" y="0"/>
                      <a:pt x="2915" y="0"/>
                    </a:cubicBezTo>
                    <a:close/>
                    <a:moveTo>
                      <a:pt x="2923" y="0"/>
                    </a:moveTo>
                    <a:lnTo>
                      <a:pt x="2923" y="0"/>
                    </a:lnTo>
                    <a:cubicBezTo>
                      <a:pt x="2924" y="0"/>
                      <a:pt x="2925" y="1"/>
                      <a:pt x="2925" y="2"/>
                    </a:cubicBezTo>
                    <a:cubicBezTo>
                      <a:pt x="2925" y="4"/>
                      <a:pt x="2924" y="4"/>
                      <a:pt x="2923" y="4"/>
                    </a:cubicBezTo>
                    <a:lnTo>
                      <a:pt x="2923" y="4"/>
                    </a:lnTo>
                    <a:cubicBezTo>
                      <a:pt x="2922" y="4"/>
                      <a:pt x="2921" y="4"/>
                      <a:pt x="2921" y="2"/>
                    </a:cubicBezTo>
                    <a:cubicBezTo>
                      <a:pt x="2921" y="1"/>
                      <a:pt x="2922" y="0"/>
                      <a:pt x="2923" y="0"/>
                    </a:cubicBezTo>
                    <a:close/>
                    <a:moveTo>
                      <a:pt x="2931" y="0"/>
                    </a:moveTo>
                    <a:lnTo>
                      <a:pt x="2931" y="0"/>
                    </a:lnTo>
                    <a:cubicBezTo>
                      <a:pt x="2932" y="0"/>
                      <a:pt x="2933" y="1"/>
                      <a:pt x="2933" y="2"/>
                    </a:cubicBezTo>
                    <a:cubicBezTo>
                      <a:pt x="2933" y="4"/>
                      <a:pt x="2932" y="4"/>
                      <a:pt x="2931" y="4"/>
                    </a:cubicBezTo>
                    <a:lnTo>
                      <a:pt x="2931" y="4"/>
                    </a:lnTo>
                    <a:cubicBezTo>
                      <a:pt x="2930" y="4"/>
                      <a:pt x="2929" y="4"/>
                      <a:pt x="2929" y="2"/>
                    </a:cubicBezTo>
                    <a:cubicBezTo>
                      <a:pt x="2929" y="1"/>
                      <a:pt x="2930" y="0"/>
                      <a:pt x="2931" y="0"/>
                    </a:cubicBezTo>
                    <a:close/>
                    <a:moveTo>
                      <a:pt x="2939" y="0"/>
                    </a:moveTo>
                    <a:lnTo>
                      <a:pt x="2939" y="0"/>
                    </a:lnTo>
                    <a:cubicBezTo>
                      <a:pt x="2940" y="0"/>
                      <a:pt x="2941" y="1"/>
                      <a:pt x="2941" y="3"/>
                    </a:cubicBezTo>
                    <a:cubicBezTo>
                      <a:pt x="2941" y="4"/>
                      <a:pt x="2940" y="5"/>
                      <a:pt x="2939" y="5"/>
                    </a:cubicBezTo>
                    <a:lnTo>
                      <a:pt x="2939" y="5"/>
                    </a:lnTo>
                    <a:cubicBezTo>
                      <a:pt x="2938" y="5"/>
                      <a:pt x="2937" y="4"/>
                      <a:pt x="2937" y="3"/>
                    </a:cubicBezTo>
                    <a:cubicBezTo>
                      <a:pt x="2937" y="1"/>
                      <a:pt x="2938" y="0"/>
                      <a:pt x="2939" y="0"/>
                    </a:cubicBezTo>
                    <a:close/>
                    <a:moveTo>
                      <a:pt x="2947" y="1"/>
                    </a:moveTo>
                    <a:lnTo>
                      <a:pt x="2947" y="1"/>
                    </a:lnTo>
                    <a:cubicBezTo>
                      <a:pt x="2948" y="1"/>
                      <a:pt x="2949" y="1"/>
                      <a:pt x="2949" y="3"/>
                    </a:cubicBezTo>
                    <a:cubicBezTo>
                      <a:pt x="2949" y="4"/>
                      <a:pt x="2948" y="5"/>
                      <a:pt x="2947" y="5"/>
                    </a:cubicBezTo>
                    <a:lnTo>
                      <a:pt x="2947" y="5"/>
                    </a:lnTo>
                    <a:cubicBezTo>
                      <a:pt x="2946" y="5"/>
                      <a:pt x="2945" y="4"/>
                      <a:pt x="2945" y="3"/>
                    </a:cubicBezTo>
                    <a:cubicBezTo>
                      <a:pt x="2945" y="1"/>
                      <a:pt x="2946" y="1"/>
                      <a:pt x="2947" y="1"/>
                    </a:cubicBezTo>
                    <a:close/>
                    <a:moveTo>
                      <a:pt x="2955" y="1"/>
                    </a:moveTo>
                    <a:lnTo>
                      <a:pt x="2955" y="1"/>
                    </a:lnTo>
                    <a:cubicBezTo>
                      <a:pt x="2956" y="1"/>
                      <a:pt x="2957" y="1"/>
                      <a:pt x="2957" y="3"/>
                    </a:cubicBezTo>
                    <a:cubicBezTo>
                      <a:pt x="2957" y="4"/>
                      <a:pt x="2956" y="5"/>
                      <a:pt x="2955" y="5"/>
                    </a:cubicBezTo>
                    <a:lnTo>
                      <a:pt x="2955" y="5"/>
                    </a:lnTo>
                    <a:cubicBezTo>
                      <a:pt x="2954" y="5"/>
                      <a:pt x="2953" y="4"/>
                      <a:pt x="2953" y="3"/>
                    </a:cubicBezTo>
                    <a:cubicBezTo>
                      <a:pt x="2953" y="1"/>
                      <a:pt x="2954" y="1"/>
                      <a:pt x="2955" y="1"/>
                    </a:cubicBezTo>
                    <a:close/>
                    <a:moveTo>
                      <a:pt x="2963" y="1"/>
                    </a:moveTo>
                    <a:lnTo>
                      <a:pt x="2963" y="1"/>
                    </a:lnTo>
                    <a:cubicBezTo>
                      <a:pt x="2964" y="1"/>
                      <a:pt x="2965" y="1"/>
                      <a:pt x="2965" y="3"/>
                    </a:cubicBezTo>
                    <a:cubicBezTo>
                      <a:pt x="2965" y="4"/>
                      <a:pt x="2964" y="5"/>
                      <a:pt x="2963" y="5"/>
                    </a:cubicBezTo>
                    <a:lnTo>
                      <a:pt x="2963" y="5"/>
                    </a:lnTo>
                    <a:cubicBezTo>
                      <a:pt x="2962" y="5"/>
                      <a:pt x="2961" y="4"/>
                      <a:pt x="2961" y="3"/>
                    </a:cubicBezTo>
                    <a:cubicBezTo>
                      <a:pt x="2961" y="1"/>
                      <a:pt x="2962" y="1"/>
                      <a:pt x="2963" y="1"/>
                    </a:cubicBezTo>
                    <a:close/>
                    <a:moveTo>
                      <a:pt x="2971" y="1"/>
                    </a:moveTo>
                    <a:lnTo>
                      <a:pt x="2971" y="1"/>
                    </a:lnTo>
                    <a:cubicBezTo>
                      <a:pt x="2972" y="1"/>
                      <a:pt x="2973" y="1"/>
                      <a:pt x="2973" y="3"/>
                    </a:cubicBezTo>
                    <a:cubicBezTo>
                      <a:pt x="2973" y="4"/>
                      <a:pt x="2972" y="5"/>
                      <a:pt x="2971" y="5"/>
                    </a:cubicBezTo>
                    <a:lnTo>
                      <a:pt x="2971" y="5"/>
                    </a:lnTo>
                    <a:cubicBezTo>
                      <a:pt x="2970" y="5"/>
                      <a:pt x="2969" y="4"/>
                      <a:pt x="2969" y="3"/>
                    </a:cubicBezTo>
                    <a:cubicBezTo>
                      <a:pt x="2969" y="1"/>
                      <a:pt x="2970" y="1"/>
                      <a:pt x="2971" y="1"/>
                    </a:cubicBezTo>
                    <a:close/>
                    <a:moveTo>
                      <a:pt x="2979" y="1"/>
                    </a:moveTo>
                    <a:lnTo>
                      <a:pt x="2979" y="1"/>
                    </a:lnTo>
                    <a:cubicBezTo>
                      <a:pt x="2980" y="1"/>
                      <a:pt x="2981" y="1"/>
                      <a:pt x="2981" y="3"/>
                    </a:cubicBezTo>
                    <a:cubicBezTo>
                      <a:pt x="2981" y="4"/>
                      <a:pt x="2980" y="5"/>
                      <a:pt x="2979" y="5"/>
                    </a:cubicBezTo>
                    <a:lnTo>
                      <a:pt x="2979" y="5"/>
                    </a:lnTo>
                    <a:cubicBezTo>
                      <a:pt x="2978" y="5"/>
                      <a:pt x="2977" y="4"/>
                      <a:pt x="2977" y="3"/>
                    </a:cubicBezTo>
                    <a:cubicBezTo>
                      <a:pt x="2977" y="1"/>
                      <a:pt x="2978" y="1"/>
                      <a:pt x="2979" y="1"/>
                    </a:cubicBezTo>
                    <a:close/>
                    <a:moveTo>
                      <a:pt x="2987" y="1"/>
                    </a:moveTo>
                    <a:lnTo>
                      <a:pt x="2987" y="1"/>
                    </a:lnTo>
                    <a:cubicBezTo>
                      <a:pt x="2988" y="1"/>
                      <a:pt x="2989" y="1"/>
                      <a:pt x="2989" y="3"/>
                    </a:cubicBezTo>
                    <a:cubicBezTo>
                      <a:pt x="2989" y="4"/>
                      <a:pt x="2988" y="5"/>
                      <a:pt x="2987" y="5"/>
                    </a:cubicBezTo>
                    <a:lnTo>
                      <a:pt x="2987" y="5"/>
                    </a:lnTo>
                    <a:cubicBezTo>
                      <a:pt x="2986" y="5"/>
                      <a:pt x="2985" y="4"/>
                      <a:pt x="2985" y="3"/>
                    </a:cubicBezTo>
                    <a:cubicBezTo>
                      <a:pt x="2985" y="1"/>
                      <a:pt x="2986" y="1"/>
                      <a:pt x="2987" y="1"/>
                    </a:cubicBezTo>
                    <a:close/>
                    <a:moveTo>
                      <a:pt x="2995" y="1"/>
                    </a:moveTo>
                    <a:lnTo>
                      <a:pt x="2995" y="1"/>
                    </a:lnTo>
                    <a:cubicBezTo>
                      <a:pt x="2996" y="1"/>
                      <a:pt x="2997" y="1"/>
                      <a:pt x="2997" y="3"/>
                    </a:cubicBezTo>
                    <a:cubicBezTo>
                      <a:pt x="2997" y="4"/>
                      <a:pt x="2996" y="5"/>
                      <a:pt x="2995" y="5"/>
                    </a:cubicBezTo>
                    <a:lnTo>
                      <a:pt x="2995" y="5"/>
                    </a:lnTo>
                    <a:cubicBezTo>
                      <a:pt x="2994" y="5"/>
                      <a:pt x="2993" y="4"/>
                      <a:pt x="2993" y="3"/>
                    </a:cubicBezTo>
                    <a:cubicBezTo>
                      <a:pt x="2993" y="1"/>
                      <a:pt x="2994" y="1"/>
                      <a:pt x="2995" y="1"/>
                    </a:cubicBezTo>
                    <a:close/>
                    <a:moveTo>
                      <a:pt x="3003" y="1"/>
                    </a:moveTo>
                    <a:lnTo>
                      <a:pt x="3003" y="1"/>
                    </a:lnTo>
                    <a:cubicBezTo>
                      <a:pt x="3004" y="1"/>
                      <a:pt x="3005" y="1"/>
                      <a:pt x="3005" y="3"/>
                    </a:cubicBezTo>
                    <a:cubicBezTo>
                      <a:pt x="3005" y="4"/>
                      <a:pt x="3004" y="5"/>
                      <a:pt x="3003" y="5"/>
                    </a:cubicBezTo>
                    <a:lnTo>
                      <a:pt x="3003" y="5"/>
                    </a:lnTo>
                    <a:cubicBezTo>
                      <a:pt x="3002" y="5"/>
                      <a:pt x="3001" y="4"/>
                      <a:pt x="3001" y="3"/>
                    </a:cubicBezTo>
                    <a:cubicBezTo>
                      <a:pt x="3001" y="1"/>
                      <a:pt x="3002" y="1"/>
                      <a:pt x="3003" y="1"/>
                    </a:cubicBezTo>
                    <a:close/>
                    <a:moveTo>
                      <a:pt x="3011" y="1"/>
                    </a:moveTo>
                    <a:lnTo>
                      <a:pt x="3011" y="1"/>
                    </a:lnTo>
                    <a:cubicBezTo>
                      <a:pt x="3012" y="1"/>
                      <a:pt x="3013" y="1"/>
                      <a:pt x="3013" y="3"/>
                    </a:cubicBezTo>
                    <a:cubicBezTo>
                      <a:pt x="3013" y="4"/>
                      <a:pt x="3012" y="5"/>
                      <a:pt x="3011" y="5"/>
                    </a:cubicBezTo>
                    <a:lnTo>
                      <a:pt x="3011" y="5"/>
                    </a:lnTo>
                    <a:cubicBezTo>
                      <a:pt x="3010" y="5"/>
                      <a:pt x="3009" y="4"/>
                      <a:pt x="3009" y="3"/>
                    </a:cubicBezTo>
                    <a:cubicBezTo>
                      <a:pt x="3009" y="1"/>
                      <a:pt x="3010" y="1"/>
                      <a:pt x="3011" y="1"/>
                    </a:cubicBezTo>
                    <a:close/>
                    <a:moveTo>
                      <a:pt x="3019" y="1"/>
                    </a:moveTo>
                    <a:lnTo>
                      <a:pt x="3019" y="1"/>
                    </a:lnTo>
                    <a:cubicBezTo>
                      <a:pt x="3020" y="1"/>
                      <a:pt x="3021" y="1"/>
                      <a:pt x="3021" y="3"/>
                    </a:cubicBezTo>
                    <a:cubicBezTo>
                      <a:pt x="3021" y="4"/>
                      <a:pt x="3020" y="5"/>
                      <a:pt x="3019" y="5"/>
                    </a:cubicBezTo>
                    <a:lnTo>
                      <a:pt x="3019" y="5"/>
                    </a:lnTo>
                    <a:cubicBezTo>
                      <a:pt x="3018" y="5"/>
                      <a:pt x="3017" y="4"/>
                      <a:pt x="3017" y="3"/>
                    </a:cubicBezTo>
                    <a:cubicBezTo>
                      <a:pt x="3017" y="1"/>
                      <a:pt x="3018" y="1"/>
                      <a:pt x="3019" y="1"/>
                    </a:cubicBezTo>
                    <a:close/>
                    <a:moveTo>
                      <a:pt x="3027" y="1"/>
                    </a:moveTo>
                    <a:lnTo>
                      <a:pt x="3027" y="1"/>
                    </a:lnTo>
                    <a:cubicBezTo>
                      <a:pt x="3028" y="1"/>
                      <a:pt x="3029" y="1"/>
                      <a:pt x="3029" y="3"/>
                    </a:cubicBezTo>
                    <a:cubicBezTo>
                      <a:pt x="3029" y="4"/>
                      <a:pt x="3028" y="5"/>
                      <a:pt x="3027" y="5"/>
                    </a:cubicBezTo>
                    <a:lnTo>
                      <a:pt x="3027" y="5"/>
                    </a:lnTo>
                    <a:cubicBezTo>
                      <a:pt x="3026" y="5"/>
                      <a:pt x="3025" y="4"/>
                      <a:pt x="3025" y="3"/>
                    </a:cubicBezTo>
                    <a:cubicBezTo>
                      <a:pt x="3025" y="1"/>
                      <a:pt x="3026" y="1"/>
                      <a:pt x="3027" y="1"/>
                    </a:cubicBezTo>
                    <a:close/>
                    <a:moveTo>
                      <a:pt x="3035" y="1"/>
                    </a:moveTo>
                    <a:lnTo>
                      <a:pt x="3035" y="1"/>
                    </a:lnTo>
                    <a:cubicBezTo>
                      <a:pt x="3036" y="1"/>
                      <a:pt x="3037" y="1"/>
                      <a:pt x="3037" y="3"/>
                    </a:cubicBezTo>
                    <a:cubicBezTo>
                      <a:pt x="3037" y="4"/>
                      <a:pt x="3036" y="5"/>
                      <a:pt x="3035" y="5"/>
                    </a:cubicBezTo>
                    <a:lnTo>
                      <a:pt x="3035" y="5"/>
                    </a:lnTo>
                    <a:cubicBezTo>
                      <a:pt x="3034" y="5"/>
                      <a:pt x="3033" y="4"/>
                      <a:pt x="3033" y="3"/>
                    </a:cubicBezTo>
                    <a:cubicBezTo>
                      <a:pt x="3033" y="1"/>
                      <a:pt x="3034" y="1"/>
                      <a:pt x="3035" y="1"/>
                    </a:cubicBezTo>
                    <a:close/>
                    <a:moveTo>
                      <a:pt x="3043" y="1"/>
                    </a:moveTo>
                    <a:lnTo>
                      <a:pt x="3043" y="1"/>
                    </a:lnTo>
                    <a:cubicBezTo>
                      <a:pt x="3044" y="1"/>
                      <a:pt x="3045" y="1"/>
                      <a:pt x="3045" y="3"/>
                    </a:cubicBezTo>
                    <a:cubicBezTo>
                      <a:pt x="3045" y="4"/>
                      <a:pt x="3044" y="5"/>
                      <a:pt x="3043" y="5"/>
                    </a:cubicBezTo>
                    <a:lnTo>
                      <a:pt x="3043" y="5"/>
                    </a:lnTo>
                    <a:cubicBezTo>
                      <a:pt x="3042" y="5"/>
                      <a:pt x="3041" y="4"/>
                      <a:pt x="3041" y="3"/>
                    </a:cubicBezTo>
                    <a:cubicBezTo>
                      <a:pt x="3041" y="1"/>
                      <a:pt x="3042" y="1"/>
                      <a:pt x="3043" y="1"/>
                    </a:cubicBezTo>
                    <a:close/>
                    <a:moveTo>
                      <a:pt x="3051" y="1"/>
                    </a:moveTo>
                    <a:lnTo>
                      <a:pt x="3051" y="1"/>
                    </a:lnTo>
                    <a:cubicBezTo>
                      <a:pt x="3052" y="1"/>
                      <a:pt x="3053" y="1"/>
                      <a:pt x="3053" y="3"/>
                    </a:cubicBezTo>
                    <a:cubicBezTo>
                      <a:pt x="3053" y="4"/>
                      <a:pt x="3052" y="5"/>
                      <a:pt x="3051" y="5"/>
                    </a:cubicBezTo>
                    <a:lnTo>
                      <a:pt x="3051" y="5"/>
                    </a:lnTo>
                    <a:cubicBezTo>
                      <a:pt x="3050" y="5"/>
                      <a:pt x="3049" y="4"/>
                      <a:pt x="3049" y="3"/>
                    </a:cubicBezTo>
                    <a:cubicBezTo>
                      <a:pt x="3049" y="1"/>
                      <a:pt x="3050" y="1"/>
                      <a:pt x="3051" y="1"/>
                    </a:cubicBezTo>
                    <a:close/>
                    <a:moveTo>
                      <a:pt x="3059" y="1"/>
                    </a:moveTo>
                    <a:lnTo>
                      <a:pt x="3059" y="1"/>
                    </a:lnTo>
                    <a:cubicBezTo>
                      <a:pt x="3060" y="1"/>
                      <a:pt x="3061" y="1"/>
                      <a:pt x="3061" y="3"/>
                    </a:cubicBezTo>
                    <a:cubicBezTo>
                      <a:pt x="3061" y="4"/>
                      <a:pt x="3060" y="5"/>
                      <a:pt x="3059" y="5"/>
                    </a:cubicBezTo>
                    <a:lnTo>
                      <a:pt x="3059" y="5"/>
                    </a:lnTo>
                    <a:cubicBezTo>
                      <a:pt x="3058" y="5"/>
                      <a:pt x="3057" y="4"/>
                      <a:pt x="3057" y="3"/>
                    </a:cubicBezTo>
                    <a:cubicBezTo>
                      <a:pt x="3057" y="1"/>
                      <a:pt x="3058" y="1"/>
                      <a:pt x="3059" y="1"/>
                    </a:cubicBezTo>
                    <a:close/>
                    <a:moveTo>
                      <a:pt x="3067" y="1"/>
                    </a:moveTo>
                    <a:lnTo>
                      <a:pt x="3067" y="1"/>
                    </a:lnTo>
                    <a:cubicBezTo>
                      <a:pt x="3068" y="1"/>
                      <a:pt x="3069" y="1"/>
                      <a:pt x="3069" y="3"/>
                    </a:cubicBezTo>
                    <a:cubicBezTo>
                      <a:pt x="3069" y="4"/>
                      <a:pt x="3068" y="5"/>
                      <a:pt x="3067" y="5"/>
                    </a:cubicBezTo>
                    <a:lnTo>
                      <a:pt x="3067" y="5"/>
                    </a:lnTo>
                    <a:cubicBezTo>
                      <a:pt x="3066" y="5"/>
                      <a:pt x="3065" y="4"/>
                      <a:pt x="3065" y="3"/>
                    </a:cubicBezTo>
                    <a:cubicBezTo>
                      <a:pt x="3065" y="1"/>
                      <a:pt x="3066" y="1"/>
                      <a:pt x="3067" y="1"/>
                    </a:cubicBezTo>
                    <a:close/>
                    <a:moveTo>
                      <a:pt x="3075" y="1"/>
                    </a:moveTo>
                    <a:lnTo>
                      <a:pt x="3075" y="1"/>
                    </a:lnTo>
                    <a:cubicBezTo>
                      <a:pt x="3076" y="1"/>
                      <a:pt x="3077" y="1"/>
                      <a:pt x="3077" y="3"/>
                    </a:cubicBezTo>
                    <a:cubicBezTo>
                      <a:pt x="3077" y="4"/>
                      <a:pt x="3076" y="5"/>
                      <a:pt x="3075" y="5"/>
                    </a:cubicBezTo>
                    <a:lnTo>
                      <a:pt x="3075" y="5"/>
                    </a:lnTo>
                    <a:cubicBezTo>
                      <a:pt x="3074" y="5"/>
                      <a:pt x="3073" y="4"/>
                      <a:pt x="3073" y="3"/>
                    </a:cubicBezTo>
                    <a:cubicBezTo>
                      <a:pt x="3073" y="1"/>
                      <a:pt x="3074" y="1"/>
                      <a:pt x="3075" y="1"/>
                    </a:cubicBezTo>
                    <a:close/>
                    <a:moveTo>
                      <a:pt x="3083" y="1"/>
                    </a:moveTo>
                    <a:lnTo>
                      <a:pt x="3083" y="1"/>
                    </a:lnTo>
                    <a:cubicBezTo>
                      <a:pt x="3084" y="1"/>
                      <a:pt x="3085" y="1"/>
                      <a:pt x="3085" y="3"/>
                    </a:cubicBezTo>
                    <a:cubicBezTo>
                      <a:pt x="3085" y="4"/>
                      <a:pt x="3084" y="5"/>
                      <a:pt x="3083" y="5"/>
                    </a:cubicBezTo>
                    <a:lnTo>
                      <a:pt x="3083" y="5"/>
                    </a:lnTo>
                    <a:cubicBezTo>
                      <a:pt x="3082" y="5"/>
                      <a:pt x="3081" y="4"/>
                      <a:pt x="3081" y="3"/>
                    </a:cubicBezTo>
                    <a:cubicBezTo>
                      <a:pt x="3081" y="1"/>
                      <a:pt x="3082" y="1"/>
                      <a:pt x="3083" y="1"/>
                    </a:cubicBezTo>
                    <a:close/>
                    <a:moveTo>
                      <a:pt x="3091" y="1"/>
                    </a:moveTo>
                    <a:lnTo>
                      <a:pt x="3091" y="1"/>
                    </a:lnTo>
                    <a:cubicBezTo>
                      <a:pt x="3092" y="1"/>
                      <a:pt x="3093" y="1"/>
                      <a:pt x="3093" y="3"/>
                    </a:cubicBezTo>
                    <a:cubicBezTo>
                      <a:pt x="3093" y="4"/>
                      <a:pt x="3092" y="5"/>
                      <a:pt x="3091" y="5"/>
                    </a:cubicBezTo>
                    <a:lnTo>
                      <a:pt x="3091" y="5"/>
                    </a:lnTo>
                    <a:cubicBezTo>
                      <a:pt x="3090" y="5"/>
                      <a:pt x="3089" y="4"/>
                      <a:pt x="3089" y="3"/>
                    </a:cubicBezTo>
                    <a:cubicBezTo>
                      <a:pt x="3089" y="1"/>
                      <a:pt x="3090" y="1"/>
                      <a:pt x="3091" y="1"/>
                    </a:cubicBezTo>
                    <a:close/>
                    <a:moveTo>
                      <a:pt x="3099" y="1"/>
                    </a:moveTo>
                    <a:lnTo>
                      <a:pt x="3099" y="1"/>
                    </a:lnTo>
                    <a:cubicBezTo>
                      <a:pt x="3100" y="1"/>
                      <a:pt x="3101" y="1"/>
                      <a:pt x="3101" y="3"/>
                    </a:cubicBezTo>
                    <a:cubicBezTo>
                      <a:pt x="3101" y="4"/>
                      <a:pt x="3100" y="5"/>
                      <a:pt x="3099" y="5"/>
                    </a:cubicBezTo>
                    <a:lnTo>
                      <a:pt x="3099" y="5"/>
                    </a:lnTo>
                    <a:cubicBezTo>
                      <a:pt x="3098" y="5"/>
                      <a:pt x="3097" y="4"/>
                      <a:pt x="3097" y="3"/>
                    </a:cubicBezTo>
                    <a:cubicBezTo>
                      <a:pt x="3097" y="1"/>
                      <a:pt x="3098" y="1"/>
                      <a:pt x="3099" y="1"/>
                    </a:cubicBezTo>
                    <a:close/>
                    <a:moveTo>
                      <a:pt x="3107" y="1"/>
                    </a:moveTo>
                    <a:lnTo>
                      <a:pt x="3107" y="1"/>
                    </a:lnTo>
                    <a:cubicBezTo>
                      <a:pt x="3108" y="1"/>
                      <a:pt x="3109" y="1"/>
                      <a:pt x="3109" y="3"/>
                    </a:cubicBezTo>
                    <a:cubicBezTo>
                      <a:pt x="3109" y="4"/>
                      <a:pt x="3108" y="5"/>
                      <a:pt x="3107" y="5"/>
                    </a:cubicBezTo>
                    <a:lnTo>
                      <a:pt x="3107" y="5"/>
                    </a:lnTo>
                    <a:cubicBezTo>
                      <a:pt x="3106" y="5"/>
                      <a:pt x="3105" y="4"/>
                      <a:pt x="3105" y="3"/>
                    </a:cubicBezTo>
                    <a:cubicBezTo>
                      <a:pt x="3105" y="1"/>
                      <a:pt x="3106" y="1"/>
                      <a:pt x="3107" y="1"/>
                    </a:cubicBezTo>
                    <a:close/>
                    <a:moveTo>
                      <a:pt x="3115" y="1"/>
                    </a:moveTo>
                    <a:lnTo>
                      <a:pt x="3115" y="1"/>
                    </a:lnTo>
                    <a:cubicBezTo>
                      <a:pt x="3116" y="1"/>
                      <a:pt x="3117" y="1"/>
                      <a:pt x="3117" y="3"/>
                    </a:cubicBezTo>
                    <a:cubicBezTo>
                      <a:pt x="3117" y="4"/>
                      <a:pt x="3116" y="5"/>
                      <a:pt x="3115" y="5"/>
                    </a:cubicBezTo>
                    <a:lnTo>
                      <a:pt x="3115" y="5"/>
                    </a:lnTo>
                    <a:cubicBezTo>
                      <a:pt x="3114" y="5"/>
                      <a:pt x="3113" y="4"/>
                      <a:pt x="3113" y="3"/>
                    </a:cubicBezTo>
                    <a:cubicBezTo>
                      <a:pt x="3113" y="1"/>
                      <a:pt x="3114" y="1"/>
                      <a:pt x="3115" y="1"/>
                    </a:cubicBezTo>
                    <a:close/>
                    <a:moveTo>
                      <a:pt x="3123" y="1"/>
                    </a:moveTo>
                    <a:lnTo>
                      <a:pt x="3123" y="1"/>
                    </a:lnTo>
                    <a:cubicBezTo>
                      <a:pt x="3124" y="1"/>
                      <a:pt x="3125" y="1"/>
                      <a:pt x="3125" y="3"/>
                    </a:cubicBezTo>
                    <a:cubicBezTo>
                      <a:pt x="3125" y="4"/>
                      <a:pt x="3124" y="5"/>
                      <a:pt x="3123" y="5"/>
                    </a:cubicBezTo>
                    <a:lnTo>
                      <a:pt x="3123" y="5"/>
                    </a:lnTo>
                    <a:cubicBezTo>
                      <a:pt x="3122" y="5"/>
                      <a:pt x="3121" y="4"/>
                      <a:pt x="3121" y="3"/>
                    </a:cubicBezTo>
                    <a:cubicBezTo>
                      <a:pt x="3121" y="1"/>
                      <a:pt x="3122" y="1"/>
                      <a:pt x="3123" y="1"/>
                    </a:cubicBezTo>
                    <a:close/>
                    <a:moveTo>
                      <a:pt x="3131" y="1"/>
                    </a:moveTo>
                    <a:lnTo>
                      <a:pt x="3131" y="1"/>
                    </a:lnTo>
                    <a:cubicBezTo>
                      <a:pt x="3132" y="1"/>
                      <a:pt x="3133" y="1"/>
                      <a:pt x="3133" y="3"/>
                    </a:cubicBezTo>
                    <a:cubicBezTo>
                      <a:pt x="3133" y="4"/>
                      <a:pt x="3132" y="5"/>
                      <a:pt x="3131" y="5"/>
                    </a:cubicBezTo>
                    <a:lnTo>
                      <a:pt x="3131" y="5"/>
                    </a:lnTo>
                    <a:cubicBezTo>
                      <a:pt x="3130" y="5"/>
                      <a:pt x="3129" y="4"/>
                      <a:pt x="3129" y="3"/>
                    </a:cubicBezTo>
                    <a:cubicBezTo>
                      <a:pt x="3129" y="1"/>
                      <a:pt x="3130" y="1"/>
                      <a:pt x="3131" y="1"/>
                    </a:cubicBezTo>
                    <a:close/>
                    <a:moveTo>
                      <a:pt x="3139" y="1"/>
                    </a:moveTo>
                    <a:lnTo>
                      <a:pt x="3139" y="1"/>
                    </a:lnTo>
                    <a:cubicBezTo>
                      <a:pt x="3140" y="1"/>
                      <a:pt x="3141" y="1"/>
                      <a:pt x="3141" y="3"/>
                    </a:cubicBezTo>
                    <a:cubicBezTo>
                      <a:pt x="3141" y="4"/>
                      <a:pt x="3140" y="5"/>
                      <a:pt x="3139" y="5"/>
                    </a:cubicBezTo>
                    <a:lnTo>
                      <a:pt x="3139" y="5"/>
                    </a:lnTo>
                    <a:cubicBezTo>
                      <a:pt x="3138" y="5"/>
                      <a:pt x="3137" y="4"/>
                      <a:pt x="3137" y="3"/>
                    </a:cubicBezTo>
                    <a:cubicBezTo>
                      <a:pt x="3137" y="1"/>
                      <a:pt x="3138" y="1"/>
                      <a:pt x="3139" y="1"/>
                    </a:cubicBezTo>
                    <a:close/>
                    <a:moveTo>
                      <a:pt x="3147" y="1"/>
                    </a:moveTo>
                    <a:lnTo>
                      <a:pt x="3147" y="1"/>
                    </a:lnTo>
                    <a:cubicBezTo>
                      <a:pt x="3148" y="1"/>
                      <a:pt x="3149" y="1"/>
                      <a:pt x="3149" y="3"/>
                    </a:cubicBezTo>
                    <a:cubicBezTo>
                      <a:pt x="3149" y="4"/>
                      <a:pt x="3148" y="5"/>
                      <a:pt x="3147" y="5"/>
                    </a:cubicBezTo>
                    <a:lnTo>
                      <a:pt x="3147" y="5"/>
                    </a:lnTo>
                    <a:cubicBezTo>
                      <a:pt x="3146" y="5"/>
                      <a:pt x="3145" y="4"/>
                      <a:pt x="3145" y="3"/>
                    </a:cubicBezTo>
                    <a:cubicBezTo>
                      <a:pt x="3145" y="1"/>
                      <a:pt x="3146" y="1"/>
                      <a:pt x="3147" y="1"/>
                    </a:cubicBezTo>
                    <a:close/>
                    <a:moveTo>
                      <a:pt x="3155" y="1"/>
                    </a:moveTo>
                    <a:lnTo>
                      <a:pt x="3155" y="1"/>
                    </a:lnTo>
                    <a:cubicBezTo>
                      <a:pt x="3156" y="1"/>
                      <a:pt x="3157" y="1"/>
                      <a:pt x="3157" y="3"/>
                    </a:cubicBezTo>
                    <a:cubicBezTo>
                      <a:pt x="3157" y="4"/>
                      <a:pt x="3156" y="5"/>
                      <a:pt x="3155" y="5"/>
                    </a:cubicBezTo>
                    <a:lnTo>
                      <a:pt x="3155" y="5"/>
                    </a:lnTo>
                    <a:cubicBezTo>
                      <a:pt x="3154" y="5"/>
                      <a:pt x="3153" y="4"/>
                      <a:pt x="3153" y="3"/>
                    </a:cubicBezTo>
                    <a:cubicBezTo>
                      <a:pt x="3153" y="1"/>
                      <a:pt x="3154" y="1"/>
                      <a:pt x="3155" y="1"/>
                    </a:cubicBezTo>
                    <a:close/>
                    <a:moveTo>
                      <a:pt x="3163" y="1"/>
                    </a:moveTo>
                    <a:lnTo>
                      <a:pt x="3163" y="1"/>
                    </a:lnTo>
                    <a:cubicBezTo>
                      <a:pt x="3164" y="1"/>
                      <a:pt x="3165" y="1"/>
                      <a:pt x="3165" y="3"/>
                    </a:cubicBezTo>
                    <a:cubicBezTo>
                      <a:pt x="3165" y="4"/>
                      <a:pt x="3164" y="5"/>
                      <a:pt x="3163" y="5"/>
                    </a:cubicBezTo>
                    <a:lnTo>
                      <a:pt x="3163" y="5"/>
                    </a:lnTo>
                    <a:cubicBezTo>
                      <a:pt x="3162" y="5"/>
                      <a:pt x="3161" y="4"/>
                      <a:pt x="3161" y="3"/>
                    </a:cubicBezTo>
                    <a:cubicBezTo>
                      <a:pt x="3161" y="1"/>
                      <a:pt x="3162" y="1"/>
                      <a:pt x="3163" y="1"/>
                    </a:cubicBezTo>
                    <a:close/>
                    <a:moveTo>
                      <a:pt x="3171" y="1"/>
                    </a:moveTo>
                    <a:lnTo>
                      <a:pt x="3171" y="1"/>
                    </a:lnTo>
                    <a:cubicBezTo>
                      <a:pt x="3172" y="1"/>
                      <a:pt x="3173" y="1"/>
                      <a:pt x="3173" y="3"/>
                    </a:cubicBezTo>
                    <a:cubicBezTo>
                      <a:pt x="3173" y="4"/>
                      <a:pt x="3172" y="5"/>
                      <a:pt x="3171" y="5"/>
                    </a:cubicBezTo>
                    <a:lnTo>
                      <a:pt x="3171" y="5"/>
                    </a:lnTo>
                    <a:cubicBezTo>
                      <a:pt x="3170" y="5"/>
                      <a:pt x="3169" y="4"/>
                      <a:pt x="3169" y="3"/>
                    </a:cubicBezTo>
                    <a:cubicBezTo>
                      <a:pt x="3169" y="1"/>
                      <a:pt x="3170" y="1"/>
                      <a:pt x="3171" y="1"/>
                    </a:cubicBezTo>
                    <a:close/>
                    <a:moveTo>
                      <a:pt x="3179" y="1"/>
                    </a:moveTo>
                    <a:lnTo>
                      <a:pt x="3179" y="1"/>
                    </a:lnTo>
                    <a:cubicBezTo>
                      <a:pt x="3180" y="1"/>
                      <a:pt x="3181" y="1"/>
                      <a:pt x="3181" y="3"/>
                    </a:cubicBezTo>
                    <a:cubicBezTo>
                      <a:pt x="3181" y="4"/>
                      <a:pt x="3180" y="5"/>
                      <a:pt x="3179" y="5"/>
                    </a:cubicBezTo>
                    <a:lnTo>
                      <a:pt x="3179" y="5"/>
                    </a:lnTo>
                    <a:cubicBezTo>
                      <a:pt x="3178" y="5"/>
                      <a:pt x="3177" y="4"/>
                      <a:pt x="3177" y="3"/>
                    </a:cubicBezTo>
                    <a:cubicBezTo>
                      <a:pt x="3177" y="1"/>
                      <a:pt x="3178" y="1"/>
                      <a:pt x="3179" y="1"/>
                    </a:cubicBezTo>
                    <a:close/>
                    <a:moveTo>
                      <a:pt x="3187" y="1"/>
                    </a:moveTo>
                    <a:lnTo>
                      <a:pt x="3187" y="1"/>
                    </a:lnTo>
                    <a:cubicBezTo>
                      <a:pt x="3188" y="1"/>
                      <a:pt x="3189" y="1"/>
                      <a:pt x="3189" y="3"/>
                    </a:cubicBezTo>
                    <a:cubicBezTo>
                      <a:pt x="3189" y="4"/>
                      <a:pt x="3188" y="5"/>
                      <a:pt x="3187" y="5"/>
                    </a:cubicBezTo>
                    <a:lnTo>
                      <a:pt x="3187" y="5"/>
                    </a:lnTo>
                    <a:cubicBezTo>
                      <a:pt x="3186" y="5"/>
                      <a:pt x="3185" y="4"/>
                      <a:pt x="3185" y="3"/>
                    </a:cubicBezTo>
                    <a:cubicBezTo>
                      <a:pt x="3185" y="1"/>
                      <a:pt x="3186" y="1"/>
                      <a:pt x="3187" y="1"/>
                    </a:cubicBezTo>
                    <a:close/>
                    <a:moveTo>
                      <a:pt x="3195" y="1"/>
                    </a:moveTo>
                    <a:lnTo>
                      <a:pt x="3195" y="1"/>
                    </a:lnTo>
                    <a:cubicBezTo>
                      <a:pt x="3196" y="1"/>
                      <a:pt x="3197" y="1"/>
                      <a:pt x="3197" y="3"/>
                    </a:cubicBezTo>
                    <a:cubicBezTo>
                      <a:pt x="3197" y="4"/>
                      <a:pt x="3196" y="5"/>
                      <a:pt x="3195" y="5"/>
                    </a:cubicBezTo>
                    <a:lnTo>
                      <a:pt x="3195" y="5"/>
                    </a:lnTo>
                    <a:cubicBezTo>
                      <a:pt x="3194" y="5"/>
                      <a:pt x="3193" y="4"/>
                      <a:pt x="3193" y="3"/>
                    </a:cubicBezTo>
                    <a:cubicBezTo>
                      <a:pt x="3193" y="1"/>
                      <a:pt x="3194" y="1"/>
                      <a:pt x="3195" y="1"/>
                    </a:cubicBezTo>
                    <a:close/>
                    <a:moveTo>
                      <a:pt x="3203" y="1"/>
                    </a:moveTo>
                    <a:lnTo>
                      <a:pt x="3203" y="1"/>
                    </a:lnTo>
                    <a:cubicBezTo>
                      <a:pt x="3204" y="1"/>
                      <a:pt x="3205" y="1"/>
                      <a:pt x="3205" y="3"/>
                    </a:cubicBezTo>
                    <a:cubicBezTo>
                      <a:pt x="3205" y="4"/>
                      <a:pt x="3204" y="5"/>
                      <a:pt x="3203" y="5"/>
                    </a:cubicBezTo>
                    <a:lnTo>
                      <a:pt x="3203" y="5"/>
                    </a:lnTo>
                    <a:cubicBezTo>
                      <a:pt x="3202" y="5"/>
                      <a:pt x="3201" y="4"/>
                      <a:pt x="3201" y="3"/>
                    </a:cubicBezTo>
                    <a:cubicBezTo>
                      <a:pt x="3201" y="1"/>
                      <a:pt x="3202" y="1"/>
                      <a:pt x="3203" y="1"/>
                    </a:cubicBezTo>
                    <a:close/>
                    <a:moveTo>
                      <a:pt x="3211" y="1"/>
                    </a:moveTo>
                    <a:lnTo>
                      <a:pt x="3211" y="1"/>
                    </a:lnTo>
                    <a:cubicBezTo>
                      <a:pt x="3212" y="1"/>
                      <a:pt x="3213" y="1"/>
                      <a:pt x="3213" y="3"/>
                    </a:cubicBezTo>
                    <a:cubicBezTo>
                      <a:pt x="3213" y="4"/>
                      <a:pt x="3212" y="5"/>
                      <a:pt x="3211" y="5"/>
                    </a:cubicBezTo>
                    <a:lnTo>
                      <a:pt x="3211" y="5"/>
                    </a:lnTo>
                    <a:cubicBezTo>
                      <a:pt x="3210" y="5"/>
                      <a:pt x="3209" y="4"/>
                      <a:pt x="3209" y="3"/>
                    </a:cubicBezTo>
                    <a:cubicBezTo>
                      <a:pt x="3209" y="1"/>
                      <a:pt x="3210" y="1"/>
                      <a:pt x="3211" y="1"/>
                    </a:cubicBezTo>
                    <a:close/>
                    <a:moveTo>
                      <a:pt x="3219" y="1"/>
                    </a:moveTo>
                    <a:lnTo>
                      <a:pt x="3219" y="1"/>
                    </a:lnTo>
                    <a:cubicBezTo>
                      <a:pt x="3220" y="1"/>
                      <a:pt x="3221" y="1"/>
                      <a:pt x="3221" y="3"/>
                    </a:cubicBezTo>
                    <a:cubicBezTo>
                      <a:pt x="3221" y="4"/>
                      <a:pt x="3220" y="5"/>
                      <a:pt x="3219" y="5"/>
                    </a:cubicBezTo>
                    <a:lnTo>
                      <a:pt x="3219" y="5"/>
                    </a:lnTo>
                    <a:cubicBezTo>
                      <a:pt x="3218" y="5"/>
                      <a:pt x="3217" y="4"/>
                      <a:pt x="3217" y="3"/>
                    </a:cubicBezTo>
                    <a:cubicBezTo>
                      <a:pt x="3217" y="1"/>
                      <a:pt x="3218" y="1"/>
                      <a:pt x="3219" y="1"/>
                    </a:cubicBezTo>
                    <a:close/>
                    <a:moveTo>
                      <a:pt x="3227" y="1"/>
                    </a:moveTo>
                    <a:lnTo>
                      <a:pt x="3227" y="1"/>
                    </a:lnTo>
                    <a:cubicBezTo>
                      <a:pt x="3228" y="1"/>
                      <a:pt x="3229" y="1"/>
                      <a:pt x="3229" y="3"/>
                    </a:cubicBezTo>
                    <a:cubicBezTo>
                      <a:pt x="3229" y="4"/>
                      <a:pt x="3228" y="5"/>
                      <a:pt x="3227" y="5"/>
                    </a:cubicBezTo>
                    <a:lnTo>
                      <a:pt x="3227" y="5"/>
                    </a:lnTo>
                    <a:cubicBezTo>
                      <a:pt x="3226" y="5"/>
                      <a:pt x="3225" y="4"/>
                      <a:pt x="3225" y="3"/>
                    </a:cubicBezTo>
                    <a:cubicBezTo>
                      <a:pt x="3225" y="1"/>
                      <a:pt x="3226" y="1"/>
                      <a:pt x="3227" y="1"/>
                    </a:cubicBezTo>
                    <a:close/>
                    <a:moveTo>
                      <a:pt x="3235" y="1"/>
                    </a:moveTo>
                    <a:lnTo>
                      <a:pt x="3235" y="1"/>
                    </a:lnTo>
                    <a:cubicBezTo>
                      <a:pt x="3236" y="1"/>
                      <a:pt x="3237" y="1"/>
                      <a:pt x="3237" y="3"/>
                    </a:cubicBezTo>
                    <a:cubicBezTo>
                      <a:pt x="3237" y="4"/>
                      <a:pt x="3236" y="5"/>
                      <a:pt x="3235" y="5"/>
                    </a:cubicBezTo>
                    <a:lnTo>
                      <a:pt x="3235" y="5"/>
                    </a:lnTo>
                    <a:cubicBezTo>
                      <a:pt x="3234" y="5"/>
                      <a:pt x="3233" y="4"/>
                      <a:pt x="3233" y="3"/>
                    </a:cubicBezTo>
                    <a:cubicBezTo>
                      <a:pt x="3233" y="1"/>
                      <a:pt x="3234" y="1"/>
                      <a:pt x="3235" y="1"/>
                    </a:cubicBezTo>
                    <a:close/>
                    <a:moveTo>
                      <a:pt x="3243" y="1"/>
                    </a:moveTo>
                    <a:lnTo>
                      <a:pt x="3243" y="1"/>
                    </a:lnTo>
                    <a:cubicBezTo>
                      <a:pt x="3244" y="1"/>
                      <a:pt x="3245" y="1"/>
                      <a:pt x="3245" y="3"/>
                    </a:cubicBezTo>
                    <a:cubicBezTo>
                      <a:pt x="3245" y="4"/>
                      <a:pt x="3244" y="5"/>
                      <a:pt x="3243" y="5"/>
                    </a:cubicBezTo>
                    <a:lnTo>
                      <a:pt x="3243" y="5"/>
                    </a:lnTo>
                    <a:cubicBezTo>
                      <a:pt x="3242" y="5"/>
                      <a:pt x="3241" y="4"/>
                      <a:pt x="3241" y="3"/>
                    </a:cubicBezTo>
                    <a:cubicBezTo>
                      <a:pt x="3241" y="1"/>
                      <a:pt x="3242" y="1"/>
                      <a:pt x="3243" y="1"/>
                    </a:cubicBezTo>
                    <a:close/>
                    <a:moveTo>
                      <a:pt x="3251" y="1"/>
                    </a:moveTo>
                    <a:lnTo>
                      <a:pt x="3251" y="1"/>
                    </a:lnTo>
                    <a:cubicBezTo>
                      <a:pt x="3252" y="1"/>
                      <a:pt x="3253" y="1"/>
                      <a:pt x="3253" y="3"/>
                    </a:cubicBezTo>
                    <a:cubicBezTo>
                      <a:pt x="3253" y="4"/>
                      <a:pt x="3252" y="5"/>
                      <a:pt x="3251" y="5"/>
                    </a:cubicBezTo>
                    <a:lnTo>
                      <a:pt x="3251" y="5"/>
                    </a:lnTo>
                    <a:cubicBezTo>
                      <a:pt x="3250" y="5"/>
                      <a:pt x="3249" y="4"/>
                      <a:pt x="3249" y="3"/>
                    </a:cubicBezTo>
                    <a:cubicBezTo>
                      <a:pt x="3249" y="1"/>
                      <a:pt x="3250" y="1"/>
                      <a:pt x="3251" y="1"/>
                    </a:cubicBezTo>
                    <a:close/>
                    <a:moveTo>
                      <a:pt x="3259" y="1"/>
                    </a:moveTo>
                    <a:lnTo>
                      <a:pt x="3259" y="1"/>
                    </a:lnTo>
                    <a:cubicBezTo>
                      <a:pt x="3261" y="1"/>
                      <a:pt x="3261" y="1"/>
                      <a:pt x="3261" y="3"/>
                    </a:cubicBezTo>
                    <a:cubicBezTo>
                      <a:pt x="3261" y="4"/>
                      <a:pt x="3261" y="5"/>
                      <a:pt x="3259" y="5"/>
                    </a:cubicBezTo>
                    <a:lnTo>
                      <a:pt x="3259" y="5"/>
                    </a:lnTo>
                    <a:cubicBezTo>
                      <a:pt x="3258" y="5"/>
                      <a:pt x="3257" y="4"/>
                      <a:pt x="3257" y="3"/>
                    </a:cubicBezTo>
                    <a:cubicBezTo>
                      <a:pt x="3257" y="1"/>
                      <a:pt x="3258" y="1"/>
                      <a:pt x="3259" y="1"/>
                    </a:cubicBezTo>
                    <a:close/>
                    <a:moveTo>
                      <a:pt x="3267" y="1"/>
                    </a:moveTo>
                    <a:lnTo>
                      <a:pt x="3267" y="1"/>
                    </a:lnTo>
                    <a:cubicBezTo>
                      <a:pt x="3269" y="1"/>
                      <a:pt x="3269" y="1"/>
                      <a:pt x="3269" y="3"/>
                    </a:cubicBezTo>
                    <a:cubicBezTo>
                      <a:pt x="3269" y="4"/>
                      <a:pt x="3269" y="5"/>
                      <a:pt x="3267" y="5"/>
                    </a:cubicBezTo>
                    <a:lnTo>
                      <a:pt x="3267" y="5"/>
                    </a:lnTo>
                    <a:cubicBezTo>
                      <a:pt x="3266" y="5"/>
                      <a:pt x="3265" y="4"/>
                      <a:pt x="3265" y="3"/>
                    </a:cubicBezTo>
                    <a:cubicBezTo>
                      <a:pt x="3265" y="1"/>
                      <a:pt x="3266" y="1"/>
                      <a:pt x="3267" y="1"/>
                    </a:cubicBezTo>
                    <a:close/>
                    <a:moveTo>
                      <a:pt x="3275" y="1"/>
                    </a:moveTo>
                    <a:lnTo>
                      <a:pt x="3275" y="1"/>
                    </a:lnTo>
                    <a:cubicBezTo>
                      <a:pt x="3277" y="1"/>
                      <a:pt x="3277" y="1"/>
                      <a:pt x="3277" y="3"/>
                    </a:cubicBezTo>
                    <a:cubicBezTo>
                      <a:pt x="3277" y="4"/>
                      <a:pt x="3277" y="5"/>
                      <a:pt x="3275" y="5"/>
                    </a:cubicBezTo>
                    <a:lnTo>
                      <a:pt x="3275" y="5"/>
                    </a:lnTo>
                    <a:cubicBezTo>
                      <a:pt x="3274" y="5"/>
                      <a:pt x="3273" y="4"/>
                      <a:pt x="3273" y="3"/>
                    </a:cubicBezTo>
                    <a:cubicBezTo>
                      <a:pt x="3273" y="1"/>
                      <a:pt x="3274" y="1"/>
                      <a:pt x="3275" y="1"/>
                    </a:cubicBezTo>
                    <a:close/>
                    <a:moveTo>
                      <a:pt x="3283" y="1"/>
                    </a:moveTo>
                    <a:lnTo>
                      <a:pt x="3283" y="1"/>
                    </a:lnTo>
                    <a:cubicBezTo>
                      <a:pt x="3285" y="1"/>
                      <a:pt x="3285" y="1"/>
                      <a:pt x="3285" y="3"/>
                    </a:cubicBezTo>
                    <a:cubicBezTo>
                      <a:pt x="3285" y="4"/>
                      <a:pt x="3285" y="5"/>
                      <a:pt x="3283" y="5"/>
                    </a:cubicBezTo>
                    <a:lnTo>
                      <a:pt x="3283" y="5"/>
                    </a:lnTo>
                    <a:cubicBezTo>
                      <a:pt x="3282" y="5"/>
                      <a:pt x="3281" y="4"/>
                      <a:pt x="3281" y="3"/>
                    </a:cubicBezTo>
                    <a:cubicBezTo>
                      <a:pt x="3281" y="1"/>
                      <a:pt x="3282" y="1"/>
                      <a:pt x="3283" y="1"/>
                    </a:cubicBezTo>
                    <a:close/>
                    <a:moveTo>
                      <a:pt x="3291" y="1"/>
                    </a:moveTo>
                    <a:lnTo>
                      <a:pt x="3291" y="1"/>
                    </a:lnTo>
                    <a:cubicBezTo>
                      <a:pt x="3293" y="1"/>
                      <a:pt x="3293" y="1"/>
                      <a:pt x="3293" y="3"/>
                    </a:cubicBezTo>
                    <a:cubicBezTo>
                      <a:pt x="3293" y="4"/>
                      <a:pt x="3293" y="5"/>
                      <a:pt x="3291" y="5"/>
                    </a:cubicBezTo>
                    <a:lnTo>
                      <a:pt x="3291" y="5"/>
                    </a:lnTo>
                    <a:cubicBezTo>
                      <a:pt x="3290" y="5"/>
                      <a:pt x="3289" y="4"/>
                      <a:pt x="3289" y="3"/>
                    </a:cubicBezTo>
                    <a:cubicBezTo>
                      <a:pt x="3289" y="1"/>
                      <a:pt x="3290" y="1"/>
                      <a:pt x="3291" y="1"/>
                    </a:cubicBezTo>
                    <a:close/>
                    <a:moveTo>
                      <a:pt x="3299" y="1"/>
                    </a:moveTo>
                    <a:lnTo>
                      <a:pt x="3299" y="1"/>
                    </a:lnTo>
                    <a:cubicBezTo>
                      <a:pt x="3301" y="1"/>
                      <a:pt x="3301" y="1"/>
                      <a:pt x="3301" y="3"/>
                    </a:cubicBezTo>
                    <a:cubicBezTo>
                      <a:pt x="3301" y="4"/>
                      <a:pt x="3301" y="5"/>
                      <a:pt x="3299" y="5"/>
                    </a:cubicBezTo>
                    <a:lnTo>
                      <a:pt x="3299" y="5"/>
                    </a:lnTo>
                    <a:cubicBezTo>
                      <a:pt x="3298" y="5"/>
                      <a:pt x="3297" y="4"/>
                      <a:pt x="3297" y="3"/>
                    </a:cubicBezTo>
                    <a:cubicBezTo>
                      <a:pt x="3297" y="1"/>
                      <a:pt x="3298" y="1"/>
                      <a:pt x="3299" y="1"/>
                    </a:cubicBezTo>
                    <a:close/>
                    <a:moveTo>
                      <a:pt x="3307" y="1"/>
                    </a:moveTo>
                    <a:lnTo>
                      <a:pt x="3307" y="1"/>
                    </a:lnTo>
                    <a:cubicBezTo>
                      <a:pt x="3309" y="1"/>
                      <a:pt x="3309" y="1"/>
                      <a:pt x="3309" y="3"/>
                    </a:cubicBezTo>
                    <a:cubicBezTo>
                      <a:pt x="3309" y="4"/>
                      <a:pt x="3309" y="5"/>
                      <a:pt x="3307" y="5"/>
                    </a:cubicBezTo>
                    <a:lnTo>
                      <a:pt x="3307" y="5"/>
                    </a:lnTo>
                    <a:cubicBezTo>
                      <a:pt x="3306" y="5"/>
                      <a:pt x="3305" y="4"/>
                      <a:pt x="3305" y="3"/>
                    </a:cubicBezTo>
                    <a:cubicBezTo>
                      <a:pt x="3305" y="1"/>
                      <a:pt x="3306" y="1"/>
                      <a:pt x="3307" y="1"/>
                    </a:cubicBezTo>
                    <a:close/>
                    <a:moveTo>
                      <a:pt x="3315" y="1"/>
                    </a:moveTo>
                    <a:lnTo>
                      <a:pt x="3315" y="1"/>
                    </a:lnTo>
                    <a:cubicBezTo>
                      <a:pt x="3317" y="1"/>
                      <a:pt x="3317" y="1"/>
                      <a:pt x="3317" y="3"/>
                    </a:cubicBezTo>
                    <a:cubicBezTo>
                      <a:pt x="3317" y="4"/>
                      <a:pt x="3317" y="5"/>
                      <a:pt x="3315" y="5"/>
                    </a:cubicBezTo>
                    <a:lnTo>
                      <a:pt x="3315" y="5"/>
                    </a:lnTo>
                    <a:cubicBezTo>
                      <a:pt x="3314" y="5"/>
                      <a:pt x="3313" y="4"/>
                      <a:pt x="3313" y="3"/>
                    </a:cubicBezTo>
                    <a:cubicBezTo>
                      <a:pt x="3313" y="1"/>
                      <a:pt x="3314" y="1"/>
                      <a:pt x="3315" y="1"/>
                    </a:cubicBezTo>
                    <a:close/>
                    <a:moveTo>
                      <a:pt x="3323" y="1"/>
                    </a:moveTo>
                    <a:lnTo>
                      <a:pt x="3323" y="1"/>
                    </a:lnTo>
                    <a:cubicBezTo>
                      <a:pt x="3325" y="1"/>
                      <a:pt x="3325" y="1"/>
                      <a:pt x="3325" y="3"/>
                    </a:cubicBezTo>
                    <a:cubicBezTo>
                      <a:pt x="3325" y="4"/>
                      <a:pt x="3325" y="5"/>
                      <a:pt x="3323" y="5"/>
                    </a:cubicBezTo>
                    <a:lnTo>
                      <a:pt x="3323" y="5"/>
                    </a:lnTo>
                    <a:cubicBezTo>
                      <a:pt x="3322" y="5"/>
                      <a:pt x="3321" y="4"/>
                      <a:pt x="3321" y="3"/>
                    </a:cubicBezTo>
                    <a:cubicBezTo>
                      <a:pt x="3321" y="1"/>
                      <a:pt x="3322" y="1"/>
                      <a:pt x="3323" y="1"/>
                    </a:cubicBezTo>
                    <a:close/>
                    <a:moveTo>
                      <a:pt x="3331" y="1"/>
                    </a:moveTo>
                    <a:lnTo>
                      <a:pt x="3331" y="1"/>
                    </a:lnTo>
                    <a:cubicBezTo>
                      <a:pt x="3333" y="1"/>
                      <a:pt x="3333" y="1"/>
                      <a:pt x="3333" y="3"/>
                    </a:cubicBezTo>
                    <a:cubicBezTo>
                      <a:pt x="3333" y="4"/>
                      <a:pt x="3333" y="5"/>
                      <a:pt x="3331" y="5"/>
                    </a:cubicBezTo>
                    <a:lnTo>
                      <a:pt x="3331" y="5"/>
                    </a:lnTo>
                    <a:cubicBezTo>
                      <a:pt x="3330" y="5"/>
                      <a:pt x="3329" y="4"/>
                      <a:pt x="3329" y="3"/>
                    </a:cubicBezTo>
                    <a:cubicBezTo>
                      <a:pt x="3329" y="1"/>
                      <a:pt x="3330" y="1"/>
                      <a:pt x="3331" y="1"/>
                    </a:cubicBezTo>
                    <a:close/>
                    <a:moveTo>
                      <a:pt x="3339" y="1"/>
                    </a:moveTo>
                    <a:lnTo>
                      <a:pt x="3339" y="1"/>
                    </a:lnTo>
                    <a:cubicBezTo>
                      <a:pt x="3341" y="1"/>
                      <a:pt x="3341" y="1"/>
                      <a:pt x="3341" y="3"/>
                    </a:cubicBezTo>
                    <a:cubicBezTo>
                      <a:pt x="3341" y="4"/>
                      <a:pt x="3341" y="5"/>
                      <a:pt x="3339" y="5"/>
                    </a:cubicBezTo>
                    <a:lnTo>
                      <a:pt x="3339" y="5"/>
                    </a:lnTo>
                    <a:cubicBezTo>
                      <a:pt x="3338" y="5"/>
                      <a:pt x="3337" y="4"/>
                      <a:pt x="3337" y="3"/>
                    </a:cubicBezTo>
                    <a:cubicBezTo>
                      <a:pt x="3337" y="1"/>
                      <a:pt x="3338" y="1"/>
                      <a:pt x="3339" y="1"/>
                    </a:cubicBezTo>
                    <a:close/>
                    <a:moveTo>
                      <a:pt x="3347" y="1"/>
                    </a:moveTo>
                    <a:lnTo>
                      <a:pt x="3347" y="1"/>
                    </a:lnTo>
                    <a:cubicBezTo>
                      <a:pt x="3349" y="1"/>
                      <a:pt x="3349" y="1"/>
                      <a:pt x="3349" y="3"/>
                    </a:cubicBezTo>
                    <a:cubicBezTo>
                      <a:pt x="3349" y="4"/>
                      <a:pt x="3349" y="5"/>
                      <a:pt x="3347" y="5"/>
                    </a:cubicBezTo>
                    <a:lnTo>
                      <a:pt x="3347" y="5"/>
                    </a:lnTo>
                    <a:cubicBezTo>
                      <a:pt x="3346" y="5"/>
                      <a:pt x="3345" y="4"/>
                      <a:pt x="3345" y="3"/>
                    </a:cubicBezTo>
                    <a:cubicBezTo>
                      <a:pt x="3345" y="1"/>
                      <a:pt x="3346" y="1"/>
                      <a:pt x="3347" y="1"/>
                    </a:cubicBezTo>
                    <a:close/>
                    <a:moveTo>
                      <a:pt x="3355" y="1"/>
                    </a:moveTo>
                    <a:lnTo>
                      <a:pt x="3355" y="1"/>
                    </a:lnTo>
                    <a:cubicBezTo>
                      <a:pt x="3357" y="1"/>
                      <a:pt x="3357" y="1"/>
                      <a:pt x="3357" y="3"/>
                    </a:cubicBezTo>
                    <a:cubicBezTo>
                      <a:pt x="3357" y="4"/>
                      <a:pt x="3357" y="5"/>
                      <a:pt x="3355" y="5"/>
                    </a:cubicBezTo>
                    <a:lnTo>
                      <a:pt x="3355" y="5"/>
                    </a:lnTo>
                    <a:cubicBezTo>
                      <a:pt x="3354" y="5"/>
                      <a:pt x="3353" y="4"/>
                      <a:pt x="3353" y="3"/>
                    </a:cubicBezTo>
                    <a:cubicBezTo>
                      <a:pt x="3353" y="1"/>
                      <a:pt x="3354" y="1"/>
                      <a:pt x="3355" y="1"/>
                    </a:cubicBezTo>
                    <a:close/>
                    <a:moveTo>
                      <a:pt x="3363" y="1"/>
                    </a:moveTo>
                    <a:lnTo>
                      <a:pt x="3363" y="1"/>
                    </a:lnTo>
                    <a:cubicBezTo>
                      <a:pt x="3365" y="1"/>
                      <a:pt x="3365" y="1"/>
                      <a:pt x="3365" y="3"/>
                    </a:cubicBezTo>
                    <a:cubicBezTo>
                      <a:pt x="3365" y="4"/>
                      <a:pt x="3365" y="5"/>
                      <a:pt x="3363" y="5"/>
                    </a:cubicBezTo>
                    <a:lnTo>
                      <a:pt x="3363" y="5"/>
                    </a:lnTo>
                    <a:cubicBezTo>
                      <a:pt x="3362" y="5"/>
                      <a:pt x="3361" y="4"/>
                      <a:pt x="3361" y="3"/>
                    </a:cubicBezTo>
                    <a:cubicBezTo>
                      <a:pt x="3361" y="1"/>
                      <a:pt x="3362" y="1"/>
                      <a:pt x="3363" y="1"/>
                    </a:cubicBezTo>
                    <a:close/>
                    <a:moveTo>
                      <a:pt x="3371" y="1"/>
                    </a:moveTo>
                    <a:lnTo>
                      <a:pt x="3371" y="1"/>
                    </a:lnTo>
                    <a:cubicBezTo>
                      <a:pt x="3373" y="1"/>
                      <a:pt x="3373" y="2"/>
                      <a:pt x="3373" y="3"/>
                    </a:cubicBezTo>
                    <a:cubicBezTo>
                      <a:pt x="3373" y="4"/>
                      <a:pt x="3373" y="5"/>
                      <a:pt x="3371" y="5"/>
                    </a:cubicBezTo>
                    <a:lnTo>
                      <a:pt x="3371" y="5"/>
                    </a:lnTo>
                    <a:cubicBezTo>
                      <a:pt x="3370" y="5"/>
                      <a:pt x="3369" y="4"/>
                      <a:pt x="3369" y="3"/>
                    </a:cubicBezTo>
                    <a:cubicBezTo>
                      <a:pt x="3369" y="2"/>
                      <a:pt x="3370" y="1"/>
                      <a:pt x="3371" y="1"/>
                    </a:cubicBezTo>
                    <a:close/>
                    <a:moveTo>
                      <a:pt x="3379" y="1"/>
                    </a:moveTo>
                    <a:lnTo>
                      <a:pt x="3379" y="1"/>
                    </a:lnTo>
                    <a:cubicBezTo>
                      <a:pt x="3381" y="1"/>
                      <a:pt x="3381" y="2"/>
                      <a:pt x="3381" y="3"/>
                    </a:cubicBezTo>
                    <a:cubicBezTo>
                      <a:pt x="3381" y="4"/>
                      <a:pt x="3381" y="5"/>
                      <a:pt x="3379" y="5"/>
                    </a:cubicBezTo>
                    <a:lnTo>
                      <a:pt x="3379" y="5"/>
                    </a:lnTo>
                    <a:cubicBezTo>
                      <a:pt x="3378" y="5"/>
                      <a:pt x="3377" y="4"/>
                      <a:pt x="3377" y="3"/>
                    </a:cubicBezTo>
                    <a:cubicBezTo>
                      <a:pt x="3377" y="2"/>
                      <a:pt x="3378" y="1"/>
                      <a:pt x="3379" y="1"/>
                    </a:cubicBezTo>
                    <a:close/>
                    <a:moveTo>
                      <a:pt x="3387" y="1"/>
                    </a:moveTo>
                    <a:lnTo>
                      <a:pt x="3387" y="1"/>
                    </a:lnTo>
                    <a:cubicBezTo>
                      <a:pt x="3389" y="1"/>
                      <a:pt x="3389" y="2"/>
                      <a:pt x="3389" y="3"/>
                    </a:cubicBezTo>
                    <a:cubicBezTo>
                      <a:pt x="3389" y="4"/>
                      <a:pt x="3389" y="5"/>
                      <a:pt x="3387" y="5"/>
                    </a:cubicBezTo>
                    <a:lnTo>
                      <a:pt x="3387" y="5"/>
                    </a:lnTo>
                    <a:cubicBezTo>
                      <a:pt x="3386" y="5"/>
                      <a:pt x="3385" y="4"/>
                      <a:pt x="3385" y="3"/>
                    </a:cubicBezTo>
                    <a:cubicBezTo>
                      <a:pt x="3385" y="2"/>
                      <a:pt x="3386" y="1"/>
                      <a:pt x="3387" y="1"/>
                    </a:cubicBezTo>
                    <a:close/>
                    <a:moveTo>
                      <a:pt x="3395" y="1"/>
                    </a:moveTo>
                    <a:lnTo>
                      <a:pt x="3395" y="1"/>
                    </a:lnTo>
                    <a:cubicBezTo>
                      <a:pt x="3397" y="1"/>
                      <a:pt x="3397" y="2"/>
                      <a:pt x="3397" y="3"/>
                    </a:cubicBezTo>
                    <a:cubicBezTo>
                      <a:pt x="3397" y="4"/>
                      <a:pt x="3397" y="5"/>
                      <a:pt x="3395" y="5"/>
                    </a:cubicBezTo>
                    <a:lnTo>
                      <a:pt x="3395" y="5"/>
                    </a:lnTo>
                    <a:cubicBezTo>
                      <a:pt x="3394" y="5"/>
                      <a:pt x="3393" y="4"/>
                      <a:pt x="3393" y="3"/>
                    </a:cubicBezTo>
                    <a:cubicBezTo>
                      <a:pt x="3393" y="2"/>
                      <a:pt x="3394" y="1"/>
                      <a:pt x="3395" y="1"/>
                    </a:cubicBezTo>
                    <a:close/>
                    <a:moveTo>
                      <a:pt x="3403" y="1"/>
                    </a:moveTo>
                    <a:lnTo>
                      <a:pt x="3403" y="1"/>
                    </a:lnTo>
                    <a:cubicBezTo>
                      <a:pt x="3405" y="1"/>
                      <a:pt x="3405" y="2"/>
                      <a:pt x="3405" y="3"/>
                    </a:cubicBezTo>
                    <a:cubicBezTo>
                      <a:pt x="3405" y="4"/>
                      <a:pt x="3405" y="5"/>
                      <a:pt x="3403" y="5"/>
                    </a:cubicBezTo>
                    <a:lnTo>
                      <a:pt x="3403" y="5"/>
                    </a:lnTo>
                    <a:cubicBezTo>
                      <a:pt x="3402" y="5"/>
                      <a:pt x="3401" y="4"/>
                      <a:pt x="3401" y="3"/>
                    </a:cubicBezTo>
                    <a:cubicBezTo>
                      <a:pt x="3401" y="2"/>
                      <a:pt x="3402" y="1"/>
                      <a:pt x="3403" y="1"/>
                    </a:cubicBezTo>
                    <a:close/>
                    <a:moveTo>
                      <a:pt x="3411" y="1"/>
                    </a:moveTo>
                    <a:lnTo>
                      <a:pt x="3411" y="1"/>
                    </a:lnTo>
                    <a:cubicBezTo>
                      <a:pt x="3413" y="1"/>
                      <a:pt x="3413" y="2"/>
                      <a:pt x="3413" y="3"/>
                    </a:cubicBezTo>
                    <a:cubicBezTo>
                      <a:pt x="3413" y="4"/>
                      <a:pt x="3413" y="5"/>
                      <a:pt x="3411" y="5"/>
                    </a:cubicBezTo>
                    <a:lnTo>
                      <a:pt x="3411" y="5"/>
                    </a:lnTo>
                    <a:cubicBezTo>
                      <a:pt x="3410" y="5"/>
                      <a:pt x="3409" y="4"/>
                      <a:pt x="3409" y="3"/>
                    </a:cubicBezTo>
                    <a:cubicBezTo>
                      <a:pt x="3409" y="2"/>
                      <a:pt x="3410" y="1"/>
                      <a:pt x="3411" y="1"/>
                    </a:cubicBezTo>
                    <a:close/>
                    <a:moveTo>
                      <a:pt x="3419" y="1"/>
                    </a:moveTo>
                    <a:lnTo>
                      <a:pt x="3419" y="1"/>
                    </a:lnTo>
                    <a:cubicBezTo>
                      <a:pt x="3421" y="1"/>
                      <a:pt x="3421" y="2"/>
                      <a:pt x="3421" y="3"/>
                    </a:cubicBezTo>
                    <a:cubicBezTo>
                      <a:pt x="3421" y="4"/>
                      <a:pt x="3421" y="5"/>
                      <a:pt x="3419" y="5"/>
                    </a:cubicBezTo>
                    <a:lnTo>
                      <a:pt x="3419" y="5"/>
                    </a:lnTo>
                    <a:cubicBezTo>
                      <a:pt x="3418" y="5"/>
                      <a:pt x="3417" y="4"/>
                      <a:pt x="3417" y="3"/>
                    </a:cubicBezTo>
                    <a:cubicBezTo>
                      <a:pt x="3417" y="2"/>
                      <a:pt x="3418" y="1"/>
                      <a:pt x="3419" y="1"/>
                    </a:cubicBezTo>
                    <a:close/>
                    <a:moveTo>
                      <a:pt x="3427" y="1"/>
                    </a:moveTo>
                    <a:lnTo>
                      <a:pt x="3427" y="1"/>
                    </a:lnTo>
                    <a:cubicBezTo>
                      <a:pt x="3429" y="1"/>
                      <a:pt x="3429" y="2"/>
                      <a:pt x="3429" y="3"/>
                    </a:cubicBezTo>
                    <a:cubicBezTo>
                      <a:pt x="3429" y="4"/>
                      <a:pt x="3429" y="5"/>
                      <a:pt x="3427" y="5"/>
                    </a:cubicBezTo>
                    <a:lnTo>
                      <a:pt x="3427" y="5"/>
                    </a:lnTo>
                    <a:cubicBezTo>
                      <a:pt x="3426" y="5"/>
                      <a:pt x="3425" y="4"/>
                      <a:pt x="3425" y="3"/>
                    </a:cubicBezTo>
                    <a:cubicBezTo>
                      <a:pt x="3425" y="2"/>
                      <a:pt x="3426" y="1"/>
                      <a:pt x="3427" y="1"/>
                    </a:cubicBezTo>
                    <a:close/>
                    <a:moveTo>
                      <a:pt x="3435" y="1"/>
                    </a:moveTo>
                    <a:lnTo>
                      <a:pt x="3435" y="1"/>
                    </a:lnTo>
                    <a:cubicBezTo>
                      <a:pt x="3437" y="1"/>
                      <a:pt x="3437" y="2"/>
                      <a:pt x="3437" y="3"/>
                    </a:cubicBezTo>
                    <a:cubicBezTo>
                      <a:pt x="3437" y="4"/>
                      <a:pt x="3437" y="5"/>
                      <a:pt x="3435" y="5"/>
                    </a:cubicBezTo>
                    <a:lnTo>
                      <a:pt x="3435" y="5"/>
                    </a:lnTo>
                    <a:cubicBezTo>
                      <a:pt x="3434" y="5"/>
                      <a:pt x="3433" y="4"/>
                      <a:pt x="3433" y="3"/>
                    </a:cubicBezTo>
                    <a:cubicBezTo>
                      <a:pt x="3433" y="2"/>
                      <a:pt x="3434" y="1"/>
                      <a:pt x="3435" y="1"/>
                    </a:cubicBezTo>
                    <a:close/>
                    <a:moveTo>
                      <a:pt x="3443" y="1"/>
                    </a:moveTo>
                    <a:lnTo>
                      <a:pt x="3443" y="1"/>
                    </a:lnTo>
                    <a:cubicBezTo>
                      <a:pt x="3445" y="1"/>
                      <a:pt x="3445" y="2"/>
                      <a:pt x="3445" y="3"/>
                    </a:cubicBezTo>
                    <a:cubicBezTo>
                      <a:pt x="3445" y="4"/>
                      <a:pt x="3445" y="5"/>
                      <a:pt x="3443" y="5"/>
                    </a:cubicBezTo>
                    <a:lnTo>
                      <a:pt x="3443" y="5"/>
                    </a:lnTo>
                    <a:cubicBezTo>
                      <a:pt x="3442" y="5"/>
                      <a:pt x="3441" y="4"/>
                      <a:pt x="3441" y="3"/>
                    </a:cubicBezTo>
                    <a:cubicBezTo>
                      <a:pt x="3441" y="2"/>
                      <a:pt x="3442" y="1"/>
                      <a:pt x="3443" y="1"/>
                    </a:cubicBezTo>
                    <a:close/>
                    <a:moveTo>
                      <a:pt x="3451" y="1"/>
                    </a:moveTo>
                    <a:lnTo>
                      <a:pt x="3451" y="1"/>
                    </a:lnTo>
                    <a:cubicBezTo>
                      <a:pt x="3453" y="1"/>
                      <a:pt x="3453" y="2"/>
                      <a:pt x="3453" y="3"/>
                    </a:cubicBezTo>
                    <a:cubicBezTo>
                      <a:pt x="3453" y="4"/>
                      <a:pt x="3453" y="5"/>
                      <a:pt x="3451" y="5"/>
                    </a:cubicBezTo>
                    <a:lnTo>
                      <a:pt x="3451" y="5"/>
                    </a:lnTo>
                    <a:cubicBezTo>
                      <a:pt x="3450" y="5"/>
                      <a:pt x="3449" y="4"/>
                      <a:pt x="3449" y="3"/>
                    </a:cubicBezTo>
                    <a:cubicBezTo>
                      <a:pt x="3449" y="2"/>
                      <a:pt x="3450" y="1"/>
                      <a:pt x="3451" y="1"/>
                    </a:cubicBezTo>
                    <a:close/>
                    <a:moveTo>
                      <a:pt x="3459" y="1"/>
                    </a:moveTo>
                    <a:lnTo>
                      <a:pt x="3459" y="1"/>
                    </a:lnTo>
                    <a:cubicBezTo>
                      <a:pt x="3461" y="1"/>
                      <a:pt x="3461" y="2"/>
                      <a:pt x="3461" y="3"/>
                    </a:cubicBezTo>
                    <a:cubicBezTo>
                      <a:pt x="3461" y="4"/>
                      <a:pt x="3461" y="5"/>
                      <a:pt x="3459" y="5"/>
                    </a:cubicBezTo>
                    <a:lnTo>
                      <a:pt x="3459" y="5"/>
                    </a:lnTo>
                    <a:cubicBezTo>
                      <a:pt x="3458" y="5"/>
                      <a:pt x="3457" y="4"/>
                      <a:pt x="3457" y="3"/>
                    </a:cubicBezTo>
                    <a:cubicBezTo>
                      <a:pt x="3457" y="2"/>
                      <a:pt x="3458" y="1"/>
                      <a:pt x="3459" y="1"/>
                    </a:cubicBezTo>
                    <a:close/>
                    <a:moveTo>
                      <a:pt x="3467" y="1"/>
                    </a:moveTo>
                    <a:lnTo>
                      <a:pt x="3467" y="1"/>
                    </a:lnTo>
                    <a:cubicBezTo>
                      <a:pt x="3469" y="1"/>
                      <a:pt x="3469" y="2"/>
                      <a:pt x="3469" y="3"/>
                    </a:cubicBezTo>
                    <a:cubicBezTo>
                      <a:pt x="3469" y="4"/>
                      <a:pt x="3469" y="5"/>
                      <a:pt x="3467" y="5"/>
                    </a:cubicBezTo>
                    <a:lnTo>
                      <a:pt x="3467" y="5"/>
                    </a:lnTo>
                    <a:cubicBezTo>
                      <a:pt x="3466" y="5"/>
                      <a:pt x="3465" y="4"/>
                      <a:pt x="3465" y="3"/>
                    </a:cubicBezTo>
                    <a:cubicBezTo>
                      <a:pt x="3465" y="2"/>
                      <a:pt x="3466" y="1"/>
                      <a:pt x="3467" y="1"/>
                    </a:cubicBezTo>
                    <a:close/>
                    <a:moveTo>
                      <a:pt x="3475" y="1"/>
                    </a:moveTo>
                    <a:lnTo>
                      <a:pt x="3476" y="1"/>
                    </a:lnTo>
                    <a:cubicBezTo>
                      <a:pt x="3477" y="1"/>
                      <a:pt x="3478" y="2"/>
                      <a:pt x="3478" y="3"/>
                    </a:cubicBezTo>
                    <a:cubicBezTo>
                      <a:pt x="3478" y="4"/>
                      <a:pt x="3477" y="5"/>
                      <a:pt x="3476" y="5"/>
                    </a:cubicBezTo>
                    <a:lnTo>
                      <a:pt x="3475" y="5"/>
                    </a:lnTo>
                    <a:cubicBezTo>
                      <a:pt x="3474" y="5"/>
                      <a:pt x="3473" y="4"/>
                      <a:pt x="3473" y="3"/>
                    </a:cubicBezTo>
                    <a:cubicBezTo>
                      <a:pt x="3473" y="2"/>
                      <a:pt x="3474" y="1"/>
                      <a:pt x="3475" y="1"/>
                    </a:cubicBezTo>
                    <a:close/>
                    <a:moveTo>
                      <a:pt x="3484" y="1"/>
                    </a:moveTo>
                    <a:lnTo>
                      <a:pt x="3484" y="1"/>
                    </a:lnTo>
                    <a:cubicBezTo>
                      <a:pt x="3485" y="1"/>
                      <a:pt x="3486" y="2"/>
                      <a:pt x="3486" y="3"/>
                    </a:cubicBezTo>
                    <a:cubicBezTo>
                      <a:pt x="3486" y="4"/>
                      <a:pt x="3485" y="5"/>
                      <a:pt x="3484" y="5"/>
                    </a:cubicBezTo>
                    <a:lnTo>
                      <a:pt x="3484" y="5"/>
                    </a:lnTo>
                    <a:cubicBezTo>
                      <a:pt x="3482" y="5"/>
                      <a:pt x="3482" y="4"/>
                      <a:pt x="3482" y="3"/>
                    </a:cubicBezTo>
                    <a:cubicBezTo>
                      <a:pt x="3482" y="2"/>
                      <a:pt x="3482" y="1"/>
                      <a:pt x="3484" y="1"/>
                    </a:cubicBezTo>
                    <a:close/>
                    <a:moveTo>
                      <a:pt x="3492" y="1"/>
                    </a:moveTo>
                    <a:lnTo>
                      <a:pt x="3492" y="1"/>
                    </a:lnTo>
                    <a:cubicBezTo>
                      <a:pt x="3493" y="1"/>
                      <a:pt x="3494" y="2"/>
                      <a:pt x="3494" y="3"/>
                    </a:cubicBezTo>
                    <a:cubicBezTo>
                      <a:pt x="3494" y="4"/>
                      <a:pt x="3493" y="5"/>
                      <a:pt x="3492" y="5"/>
                    </a:cubicBezTo>
                    <a:lnTo>
                      <a:pt x="3492" y="5"/>
                    </a:lnTo>
                    <a:cubicBezTo>
                      <a:pt x="3490" y="5"/>
                      <a:pt x="3490" y="4"/>
                      <a:pt x="3490" y="3"/>
                    </a:cubicBezTo>
                    <a:cubicBezTo>
                      <a:pt x="3490" y="2"/>
                      <a:pt x="3490" y="1"/>
                      <a:pt x="3492" y="1"/>
                    </a:cubicBezTo>
                    <a:close/>
                    <a:moveTo>
                      <a:pt x="3500" y="1"/>
                    </a:moveTo>
                    <a:lnTo>
                      <a:pt x="3500" y="1"/>
                    </a:lnTo>
                    <a:cubicBezTo>
                      <a:pt x="3501" y="1"/>
                      <a:pt x="3502" y="2"/>
                      <a:pt x="3502" y="3"/>
                    </a:cubicBezTo>
                    <a:cubicBezTo>
                      <a:pt x="3502" y="4"/>
                      <a:pt x="3501" y="5"/>
                      <a:pt x="3500" y="5"/>
                    </a:cubicBezTo>
                    <a:lnTo>
                      <a:pt x="3500" y="5"/>
                    </a:lnTo>
                    <a:cubicBezTo>
                      <a:pt x="3498" y="5"/>
                      <a:pt x="3498" y="4"/>
                      <a:pt x="3498" y="3"/>
                    </a:cubicBezTo>
                    <a:cubicBezTo>
                      <a:pt x="3498" y="2"/>
                      <a:pt x="3498" y="1"/>
                      <a:pt x="3500" y="1"/>
                    </a:cubicBezTo>
                    <a:close/>
                    <a:moveTo>
                      <a:pt x="3508" y="1"/>
                    </a:moveTo>
                    <a:lnTo>
                      <a:pt x="3508" y="1"/>
                    </a:lnTo>
                    <a:cubicBezTo>
                      <a:pt x="3509" y="1"/>
                      <a:pt x="3510" y="2"/>
                      <a:pt x="3510" y="3"/>
                    </a:cubicBezTo>
                    <a:cubicBezTo>
                      <a:pt x="3510" y="4"/>
                      <a:pt x="3509" y="5"/>
                      <a:pt x="3508" y="5"/>
                    </a:cubicBezTo>
                    <a:lnTo>
                      <a:pt x="3508" y="5"/>
                    </a:lnTo>
                    <a:cubicBezTo>
                      <a:pt x="3506" y="5"/>
                      <a:pt x="3506" y="4"/>
                      <a:pt x="3506" y="3"/>
                    </a:cubicBezTo>
                    <a:cubicBezTo>
                      <a:pt x="3506" y="2"/>
                      <a:pt x="3506" y="1"/>
                      <a:pt x="3508" y="1"/>
                    </a:cubicBezTo>
                    <a:close/>
                    <a:moveTo>
                      <a:pt x="3516" y="1"/>
                    </a:moveTo>
                    <a:lnTo>
                      <a:pt x="3516" y="1"/>
                    </a:lnTo>
                    <a:cubicBezTo>
                      <a:pt x="3517" y="1"/>
                      <a:pt x="3518" y="2"/>
                      <a:pt x="3518" y="3"/>
                    </a:cubicBezTo>
                    <a:cubicBezTo>
                      <a:pt x="3518" y="4"/>
                      <a:pt x="3517" y="5"/>
                      <a:pt x="3516" y="5"/>
                    </a:cubicBezTo>
                    <a:lnTo>
                      <a:pt x="3516" y="5"/>
                    </a:lnTo>
                    <a:cubicBezTo>
                      <a:pt x="3514" y="5"/>
                      <a:pt x="3514" y="4"/>
                      <a:pt x="3514" y="3"/>
                    </a:cubicBezTo>
                    <a:cubicBezTo>
                      <a:pt x="3514" y="2"/>
                      <a:pt x="3514" y="1"/>
                      <a:pt x="3516" y="1"/>
                    </a:cubicBezTo>
                    <a:close/>
                    <a:moveTo>
                      <a:pt x="3524" y="1"/>
                    </a:moveTo>
                    <a:lnTo>
                      <a:pt x="3524" y="1"/>
                    </a:lnTo>
                    <a:cubicBezTo>
                      <a:pt x="3525" y="1"/>
                      <a:pt x="3526" y="2"/>
                      <a:pt x="3526" y="3"/>
                    </a:cubicBezTo>
                    <a:cubicBezTo>
                      <a:pt x="3526" y="4"/>
                      <a:pt x="3525" y="5"/>
                      <a:pt x="3524" y="5"/>
                    </a:cubicBezTo>
                    <a:lnTo>
                      <a:pt x="3524" y="5"/>
                    </a:lnTo>
                    <a:cubicBezTo>
                      <a:pt x="3522" y="5"/>
                      <a:pt x="3522" y="4"/>
                      <a:pt x="3522" y="3"/>
                    </a:cubicBezTo>
                    <a:cubicBezTo>
                      <a:pt x="3522" y="2"/>
                      <a:pt x="3522" y="1"/>
                      <a:pt x="3524" y="1"/>
                    </a:cubicBezTo>
                    <a:close/>
                    <a:moveTo>
                      <a:pt x="3532" y="1"/>
                    </a:moveTo>
                    <a:lnTo>
                      <a:pt x="3532" y="1"/>
                    </a:lnTo>
                    <a:cubicBezTo>
                      <a:pt x="3533" y="1"/>
                      <a:pt x="3534" y="2"/>
                      <a:pt x="3534" y="3"/>
                    </a:cubicBezTo>
                    <a:cubicBezTo>
                      <a:pt x="3534" y="4"/>
                      <a:pt x="3533" y="5"/>
                      <a:pt x="3532" y="5"/>
                    </a:cubicBezTo>
                    <a:lnTo>
                      <a:pt x="3532" y="5"/>
                    </a:lnTo>
                    <a:cubicBezTo>
                      <a:pt x="3530" y="5"/>
                      <a:pt x="3530" y="4"/>
                      <a:pt x="3530" y="3"/>
                    </a:cubicBezTo>
                    <a:cubicBezTo>
                      <a:pt x="3530" y="2"/>
                      <a:pt x="3530" y="1"/>
                      <a:pt x="3532" y="1"/>
                    </a:cubicBezTo>
                    <a:close/>
                    <a:moveTo>
                      <a:pt x="3540" y="1"/>
                    </a:moveTo>
                    <a:lnTo>
                      <a:pt x="3540" y="1"/>
                    </a:lnTo>
                    <a:cubicBezTo>
                      <a:pt x="3541" y="1"/>
                      <a:pt x="3542" y="2"/>
                      <a:pt x="3542" y="3"/>
                    </a:cubicBezTo>
                    <a:cubicBezTo>
                      <a:pt x="3542" y="4"/>
                      <a:pt x="3541" y="5"/>
                      <a:pt x="3540" y="5"/>
                    </a:cubicBezTo>
                    <a:lnTo>
                      <a:pt x="3540" y="5"/>
                    </a:lnTo>
                    <a:cubicBezTo>
                      <a:pt x="3538" y="5"/>
                      <a:pt x="3538" y="4"/>
                      <a:pt x="3538" y="3"/>
                    </a:cubicBezTo>
                    <a:cubicBezTo>
                      <a:pt x="3538" y="2"/>
                      <a:pt x="3538" y="1"/>
                      <a:pt x="3540" y="1"/>
                    </a:cubicBezTo>
                    <a:close/>
                    <a:moveTo>
                      <a:pt x="3548" y="1"/>
                    </a:moveTo>
                    <a:lnTo>
                      <a:pt x="3548" y="1"/>
                    </a:lnTo>
                    <a:cubicBezTo>
                      <a:pt x="3549" y="1"/>
                      <a:pt x="3550" y="2"/>
                      <a:pt x="3550" y="3"/>
                    </a:cubicBezTo>
                    <a:cubicBezTo>
                      <a:pt x="3550" y="4"/>
                      <a:pt x="3549" y="5"/>
                      <a:pt x="3548" y="5"/>
                    </a:cubicBezTo>
                    <a:lnTo>
                      <a:pt x="3548" y="5"/>
                    </a:lnTo>
                    <a:cubicBezTo>
                      <a:pt x="3546" y="5"/>
                      <a:pt x="3546" y="4"/>
                      <a:pt x="3546" y="3"/>
                    </a:cubicBezTo>
                    <a:cubicBezTo>
                      <a:pt x="3546" y="2"/>
                      <a:pt x="3546" y="1"/>
                      <a:pt x="3548" y="1"/>
                    </a:cubicBezTo>
                    <a:close/>
                    <a:moveTo>
                      <a:pt x="3556" y="1"/>
                    </a:moveTo>
                    <a:lnTo>
                      <a:pt x="3556" y="1"/>
                    </a:lnTo>
                    <a:cubicBezTo>
                      <a:pt x="3557" y="1"/>
                      <a:pt x="3558" y="2"/>
                      <a:pt x="3558" y="3"/>
                    </a:cubicBezTo>
                    <a:cubicBezTo>
                      <a:pt x="3558" y="4"/>
                      <a:pt x="3557" y="5"/>
                      <a:pt x="3556" y="5"/>
                    </a:cubicBezTo>
                    <a:lnTo>
                      <a:pt x="3556" y="5"/>
                    </a:lnTo>
                    <a:cubicBezTo>
                      <a:pt x="3554" y="5"/>
                      <a:pt x="3554" y="4"/>
                      <a:pt x="3554" y="3"/>
                    </a:cubicBezTo>
                    <a:cubicBezTo>
                      <a:pt x="3554" y="2"/>
                      <a:pt x="3554" y="1"/>
                      <a:pt x="3556" y="1"/>
                    </a:cubicBezTo>
                    <a:close/>
                    <a:moveTo>
                      <a:pt x="3564" y="1"/>
                    </a:moveTo>
                    <a:lnTo>
                      <a:pt x="3564" y="1"/>
                    </a:lnTo>
                    <a:cubicBezTo>
                      <a:pt x="3565" y="1"/>
                      <a:pt x="3566" y="2"/>
                      <a:pt x="3566" y="3"/>
                    </a:cubicBezTo>
                    <a:cubicBezTo>
                      <a:pt x="3566" y="4"/>
                      <a:pt x="3565" y="5"/>
                      <a:pt x="3564" y="5"/>
                    </a:cubicBezTo>
                    <a:lnTo>
                      <a:pt x="3564" y="5"/>
                    </a:lnTo>
                    <a:cubicBezTo>
                      <a:pt x="3562" y="5"/>
                      <a:pt x="3562" y="4"/>
                      <a:pt x="3562" y="3"/>
                    </a:cubicBezTo>
                    <a:cubicBezTo>
                      <a:pt x="3562" y="2"/>
                      <a:pt x="3562" y="1"/>
                      <a:pt x="3564" y="1"/>
                    </a:cubicBezTo>
                    <a:close/>
                    <a:moveTo>
                      <a:pt x="3572" y="1"/>
                    </a:moveTo>
                    <a:lnTo>
                      <a:pt x="3572" y="1"/>
                    </a:lnTo>
                    <a:cubicBezTo>
                      <a:pt x="3573" y="1"/>
                      <a:pt x="3574" y="2"/>
                      <a:pt x="3574" y="3"/>
                    </a:cubicBezTo>
                    <a:cubicBezTo>
                      <a:pt x="3574" y="4"/>
                      <a:pt x="3573" y="5"/>
                      <a:pt x="3572" y="5"/>
                    </a:cubicBezTo>
                    <a:lnTo>
                      <a:pt x="3572" y="5"/>
                    </a:lnTo>
                    <a:cubicBezTo>
                      <a:pt x="3570" y="5"/>
                      <a:pt x="3570" y="4"/>
                      <a:pt x="3570" y="3"/>
                    </a:cubicBezTo>
                    <a:cubicBezTo>
                      <a:pt x="3570" y="2"/>
                      <a:pt x="3570" y="1"/>
                      <a:pt x="3572" y="1"/>
                    </a:cubicBezTo>
                    <a:close/>
                    <a:moveTo>
                      <a:pt x="3580" y="1"/>
                    </a:moveTo>
                    <a:lnTo>
                      <a:pt x="3580" y="1"/>
                    </a:lnTo>
                    <a:cubicBezTo>
                      <a:pt x="3581" y="1"/>
                      <a:pt x="3582" y="2"/>
                      <a:pt x="3582" y="3"/>
                    </a:cubicBezTo>
                    <a:cubicBezTo>
                      <a:pt x="3582" y="4"/>
                      <a:pt x="3581" y="5"/>
                      <a:pt x="3580" y="5"/>
                    </a:cubicBezTo>
                    <a:lnTo>
                      <a:pt x="3580" y="5"/>
                    </a:lnTo>
                    <a:cubicBezTo>
                      <a:pt x="3578" y="5"/>
                      <a:pt x="3578" y="4"/>
                      <a:pt x="3578" y="3"/>
                    </a:cubicBezTo>
                    <a:cubicBezTo>
                      <a:pt x="3578" y="2"/>
                      <a:pt x="3578" y="1"/>
                      <a:pt x="3580" y="1"/>
                    </a:cubicBezTo>
                    <a:close/>
                    <a:moveTo>
                      <a:pt x="3588" y="1"/>
                    </a:moveTo>
                    <a:lnTo>
                      <a:pt x="3588" y="1"/>
                    </a:lnTo>
                    <a:cubicBezTo>
                      <a:pt x="3589" y="1"/>
                      <a:pt x="3590" y="2"/>
                      <a:pt x="3590" y="3"/>
                    </a:cubicBezTo>
                    <a:cubicBezTo>
                      <a:pt x="3590" y="4"/>
                      <a:pt x="3589" y="5"/>
                      <a:pt x="3588" y="5"/>
                    </a:cubicBezTo>
                    <a:lnTo>
                      <a:pt x="3588" y="5"/>
                    </a:lnTo>
                    <a:cubicBezTo>
                      <a:pt x="3586" y="5"/>
                      <a:pt x="3586" y="4"/>
                      <a:pt x="3586" y="3"/>
                    </a:cubicBezTo>
                    <a:cubicBezTo>
                      <a:pt x="3586" y="2"/>
                      <a:pt x="3586" y="1"/>
                      <a:pt x="3588" y="1"/>
                    </a:cubicBezTo>
                    <a:close/>
                    <a:moveTo>
                      <a:pt x="3596" y="1"/>
                    </a:moveTo>
                    <a:lnTo>
                      <a:pt x="3596" y="1"/>
                    </a:lnTo>
                    <a:cubicBezTo>
                      <a:pt x="3597" y="1"/>
                      <a:pt x="3598" y="2"/>
                      <a:pt x="3598" y="3"/>
                    </a:cubicBezTo>
                    <a:cubicBezTo>
                      <a:pt x="3598" y="4"/>
                      <a:pt x="3597" y="5"/>
                      <a:pt x="3596" y="5"/>
                    </a:cubicBezTo>
                    <a:lnTo>
                      <a:pt x="3596" y="5"/>
                    </a:lnTo>
                    <a:cubicBezTo>
                      <a:pt x="3594" y="5"/>
                      <a:pt x="3594" y="4"/>
                      <a:pt x="3594" y="3"/>
                    </a:cubicBezTo>
                    <a:cubicBezTo>
                      <a:pt x="3594" y="2"/>
                      <a:pt x="3594" y="1"/>
                      <a:pt x="3596" y="1"/>
                    </a:cubicBezTo>
                    <a:close/>
                    <a:moveTo>
                      <a:pt x="3604" y="1"/>
                    </a:moveTo>
                    <a:lnTo>
                      <a:pt x="3604" y="1"/>
                    </a:lnTo>
                    <a:cubicBezTo>
                      <a:pt x="3605" y="1"/>
                      <a:pt x="3606" y="2"/>
                      <a:pt x="3606" y="3"/>
                    </a:cubicBezTo>
                    <a:cubicBezTo>
                      <a:pt x="3606" y="4"/>
                      <a:pt x="3605" y="5"/>
                      <a:pt x="3604" y="5"/>
                    </a:cubicBezTo>
                    <a:lnTo>
                      <a:pt x="3604" y="5"/>
                    </a:lnTo>
                    <a:cubicBezTo>
                      <a:pt x="3602" y="5"/>
                      <a:pt x="3602" y="4"/>
                      <a:pt x="3602" y="3"/>
                    </a:cubicBezTo>
                    <a:cubicBezTo>
                      <a:pt x="3602" y="2"/>
                      <a:pt x="3602" y="1"/>
                      <a:pt x="3604" y="1"/>
                    </a:cubicBezTo>
                    <a:close/>
                    <a:moveTo>
                      <a:pt x="3612" y="1"/>
                    </a:moveTo>
                    <a:lnTo>
                      <a:pt x="3612" y="1"/>
                    </a:lnTo>
                    <a:cubicBezTo>
                      <a:pt x="3613" y="1"/>
                      <a:pt x="3614" y="2"/>
                      <a:pt x="3614" y="3"/>
                    </a:cubicBezTo>
                    <a:cubicBezTo>
                      <a:pt x="3614" y="4"/>
                      <a:pt x="3613" y="5"/>
                      <a:pt x="3612" y="5"/>
                    </a:cubicBezTo>
                    <a:lnTo>
                      <a:pt x="3612" y="5"/>
                    </a:lnTo>
                    <a:cubicBezTo>
                      <a:pt x="3610" y="5"/>
                      <a:pt x="3610" y="4"/>
                      <a:pt x="3610" y="3"/>
                    </a:cubicBezTo>
                    <a:cubicBezTo>
                      <a:pt x="3610" y="2"/>
                      <a:pt x="3610" y="1"/>
                      <a:pt x="3612" y="1"/>
                    </a:cubicBezTo>
                    <a:close/>
                    <a:moveTo>
                      <a:pt x="3620" y="1"/>
                    </a:moveTo>
                    <a:lnTo>
                      <a:pt x="3620" y="1"/>
                    </a:lnTo>
                    <a:cubicBezTo>
                      <a:pt x="3621" y="1"/>
                      <a:pt x="3622" y="2"/>
                      <a:pt x="3622" y="3"/>
                    </a:cubicBezTo>
                    <a:cubicBezTo>
                      <a:pt x="3622" y="4"/>
                      <a:pt x="3621" y="5"/>
                      <a:pt x="3620" y="5"/>
                    </a:cubicBezTo>
                    <a:lnTo>
                      <a:pt x="3620" y="5"/>
                    </a:lnTo>
                    <a:cubicBezTo>
                      <a:pt x="3618" y="5"/>
                      <a:pt x="3618" y="4"/>
                      <a:pt x="3618" y="3"/>
                    </a:cubicBezTo>
                    <a:cubicBezTo>
                      <a:pt x="3618" y="2"/>
                      <a:pt x="3618" y="1"/>
                      <a:pt x="3620" y="1"/>
                    </a:cubicBezTo>
                    <a:close/>
                    <a:moveTo>
                      <a:pt x="3628" y="1"/>
                    </a:moveTo>
                    <a:lnTo>
                      <a:pt x="3628" y="1"/>
                    </a:lnTo>
                    <a:cubicBezTo>
                      <a:pt x="3629" y="1"/>
                      <a:pt x="3630" y="2"/>
                      <a:pt x="3630" y="3"/>
                    </a:cubicBezTo>
                    <a:cubicBezTo>
                      <a:pt x="3630" y="4"/>
                      <a:pt x="3629" y="5"/>
                      <a:pt x="3628" y="5"/>
                    </a:cubicBezTo>
                    <a:lnTo>
                      <a:pt x="3628" y="5"/>
                    </a:lnTo>
                    <a:cubicBezTo>
                      <a:pt x="3626" y="5"/>
                      <a:pt x="3626" y="4"/>
                      <a:pt x="3626" y="3"/>
                    </a:cubicBezTo>
                    <a:cubicBezTo>
                      <a:pt x="3626" y="2"/>
                      <a:pt x="3626" y="1"/>
                      <a:pt x="3628" y="1"/>
                    </a:cubicBezTo>
                    <a:close/>
                    <a:moveTo>
                      <a:pt x="3636" y="1"/>
                    </a:moveTo>
                    <a:lnTo>
                      <a:pt x="3636" y="1"/>
                    </a:lnTo>
                    <a:cubicBezTo>
                      <a:pt x="3637" y="1"/>
                      <a:pt x="3638" y="2"/>
                      <a:pt x="3638" y="3"/>
                    </a:cubicBezTo>
                    <a:cubicBezTo>
                      <a:pt x="3638" y="4"/>
                      <a:pt x="3637" y="5"/>
                      <a:pt x="3636" y="5"/>
                    </a:cubicBezTo>
                    <a:lnTo>
                      <a:pt x="3636" y="5"/>
                    </a:lnTo>
                    <a:cubicBezTo>
                      <a:pt x="3634" y="5"/>
                      <a:pt x="3634" y="4"/>
                      <a:pt x="3634" y="3"/>
                    </a:cubicBezTo>
                    <a:cubicBezTo>
                      <a:pt x="3634" y="2"/>
                      <a:pt x="3634" y="1"/>
                      <a:pt x="3636" y="1"/>
                    </a:cubicBezTo>
                    <a:close/>
                    <a:moveTo>
                      <a:pt x="3644" y="1"/>
                    </a:moveTo>
                    <a:lnTo>
                      <a:pt x="3644" y="1"/>
                    </a:lnTo>
                    <a:cubicBezTo>
                      <a:pt x="3645" y="1"/>
                      <a:pt x="3646" y="2"/>
                      <a:pt x="3646" y="3"/>
                    </a:cubicBezTo>
                    <a:cubicBezTo>
                      <a:pt x="3646" y="4"/>
                      <a:pt x="3645" y="5"/>
                      <a:pt x="3644" y="5"/>
                    </a:cubicBezTo>
                    <a:lnTo>
                      <a:pt x="3644" y="5"/>
                    </a:lnTo>
                    <a:cubicBezTo>
                      <a:pt x="3642" y="5"/>
                      <a:pt x="3642" y="4"/>
                      <a:pt x="3642" y="3"/>
                    </a:cubicBezTo>
                    <a:cubicBezTo>
                      <a:pt x="3642" y="2"/>
                      <a:pt x="3642" y="1"/>
                      <a:pt x="3644" y="1"/>
                    </a:cubicBezTo>
                    <a:close/>
                    <a:moveTo>
                      <a:pt x="3652" y="1"/>
                    </a:moveTo>
                    <a:lnTo>
                      <a:pt x="3652" y="1"/>
                    </a:lnTo>
                    <a:cubicBezTo>
                      <a:pt x="3653" y="1"/>
                      <a:pt x="3654" y="2"/>
                      <a:pt x="3654" y="3"/>
                    </a:cubicBezTo>
                    <a:cubicBezTo>
                      <a:pt x="3654" y="4"/>
                      <a:pt x="3653" y="5"/>
                      <a:pt x="3652" y="5"/>
                    </a:cubicBezTo>
                    <a:lnTo>
                      <a:pt x="3652" y="5"/>
                    </a:lnTo>
                    <a:cubicBezTo>
                      <a:pt x="3650" y="5"/>
                      <a:pt x="3650" y="4"/>
                      <a:pt x="3650" y="3"/>
                    </a:cubicBezTo>
                    <a:cubicBezTo>
                      <a:pt x="3650" y="2"/>
                      <a:pt x="3650" y="1"/>
                      <a:pt x="3652" y="1"/>
                    </a:cubicBezTo>
                    <a:close/>
                    <a:moveTo>
                      <a:pt x="3660" y="1"/>
                    </a:moveTo>
                    <a:lnTo>
                      <a:pt x="3660" y="1"/>
                    </a:lnTo>
                    <a:cubicBezTo>
                      <a:pt x="3661" y="1"/>
                      <a:pt x="3662" y="2"/>
                      <a:pt x="3662" y="3"/>
                    </a:cubicBezTo>
                    <a:cubicBezTo>
                      <a:pt x="3662" y="4"/>
                      <a:pt x="3661" y="5"/>
                      <a:pt x="3660" y="5"/>
                    </a:cubicBezTo>
                    <a:lnTo>
                      <a:pt x="3660" y="5"/>
                    </a:lnTo>
                    <a:cubicBezTo>
                      <a:pt x="3658" y="5"/>
                      <a:pt x="3658" y="4"/>
                      <a:pt x="3658" y="3"/>
                    </a:cubicBezTo>
                    <a:cubicBezTo>
                      <a:pt x="3658" y="2"/>
                      <a:pt x="3658" y="1"/>
                      <a:pt x="3660" y="1"/>
                    </a:cubicBezTo>
                    <a:close/>
                    <a:moveTo>
                      <a:pt x="3668" y="1"/>
                    </a:moveTo>
                    <a:lnTo>
                      <a:pt x="3668" y="1"/>
                    </a:lnTo>
                    <a:cubicBezTo>
                      <a:pt x="3669" y="1"/>
                      <a:pt x="3670" y="2"/>
                      <a:pt x="3670" y="3"/>
                    </a:cubicBezTo>
                    <a:cubicBezTo>
                      <a:pt x="3670" y="4"/>
                      <a:pt x="3669" y="5"/>
                      <a:pt x="3668" y="5"/>
                    </a:cubicBezTo>
                    <a:lnTo>
                      <a:pt x="3668" y="5"/>
                    </a:lnTo>
                    <a:cubicBezTo>
                      <a:pt x="3666" y="5"/>
                      <a:pt x="3666" y="4"/>
                      <a:pt x="3666" y="3"/>
                    </a:cubicBezTo>
                    <a:cubicBezTo>
                      <a:pt x="3666" y="2"/>
                      <a:pt x="3666" y="1"/>
                      <a:pt x="3668" y="1"/>
                    </a:cubicBezTo>
                    <a:close/>
                    <a:moveTo>
                      <a:pt x="3676" y="1"/>
                    </a:moveTo>
                    <a:lnTo>
                      <a:pt x="3676" y="1"/>
                    </a:lnTo>
                    <a:cubicBezTo>
                      <a:pt x="3677" y="1"/>
                      <a:pt x="3678" y="2"/>
                      <a:pt x="3678" y="3"/>
                    </a:cubicBezTo>
                    <a:cubicBezTo>
                      <a:pt x="3678" y="4"/>
                      <a:pt x="3677" y="5"/>
                      <a:pt x="3676" y="5"/>
                    </a:cubicBezTo>
                    <a:lnTo>
                      <a:pt x="3676" y="5"/>
                    </a:lnTo>
                    <a:cubicBezTo>
                      <a:pt x="3674" y="5"/>
                      <a:pt x="3674" y="4"/>
                      <a:pt x="3674" y="3"/>
                    </a:cubicBezTo>
                    <a:cubicBezTo>
                      <a:pt x="3674" y="2"/>
                      <a:pt x="3674" y="1"/>
                      <a:pt x="3676" y="1"/>
                    </a:cubicBezTo>
                    <a:close/>
                    <a:moveTo>
                      <a:pt x="3684" y="1"/>
                    </a:moveTo>
                    <a:lnTo>
                      <a:pt x="3684" y="1"/>
                    </a:lnTo>
                    <a:cubicBezTo>
                      <a:pt x="3685" y="1"/>
                      <a:pt x="3686" y="2"/>
                      <a:pt x="3686" y="3"/>
                    </a:cubicBezTo>
                    <a:cubicBezTo>
                      <a:pt x="3686" y="4"/>
                      <a:pt x="3685" y="5"/>
                      <a:pt x="3684" y="5"/>
                    </a:cubicBezTo>
                    <a:lnTo>
                      <a:pt x="3684" y="5"/>
                    </a:lnTo>
                    <a:cubicBezTo>
                      <a:pt x="3682" y="5"/>
                      <a:pt x="3682" y="4"/>
                      <a:pt x="3682" y="3"/>
                    </a:cubicBezTo>
                    <a:cubicBezTo>
                      <a:pt x="3682" y="2"/>
                      <a:pt x="3682" y="1"/>
                      <a:pt x="3684" y="1"/>
                    </a:cubicBezTo>
                    <a:close/>
                    <a:moveTo>
                      <a:pt x="3692" y="1"/>
                    </a:moveTo>
                    <a:lnTo>
                      <a:pt x="3692" y="1"/>
                    </a:lnTo>
                    <a:cubicBezTo>
                      <a:pt x="3693" y="1"/>
                      <a:pt x="3694" y="2"/>
                      <a:pt x="3694" y="3"/>
                    </a:cubicBezTo>
                    <a:cubicBezTo>
                      <a:pt x="3694" y="4"/>
                      <a:pt x="3693" y="5"/>
                      <a:pt x="3692" y="5"/>
                    </a:cubicBezTo>
                    <a:lnTo>
                      <a:pt x="3692" y="5"/>
                    </a:lnTo>
                    <a:cubicBezTo>
                      <a:pt x="3690" y="5"/>
                      <a:pt x="3690" y="4"/>
                      <a:pt x="3690" y="3"/>
                    </a:cubicBezTo>
                    <a:cubicBezTo>
                      <a:pt x="3690" y="2"/>
                      <a:pt x="3690" y="1"/>
                      <a:pt x="3692" y="1"/>
                    </a:cubicBezTo>
                    <a:close/>
                    <a:moveTo>
                      <a:pt x="3700" y="1"/>
                    </a:moveTo>
                    <a:lnTo>
                      <a:pt x="3700" y="1"/>
                    </a:lnTo>
                    <a:cubicBezTo>
                      <a:pt x="3701" y="1"/>
                      <a:pt x="3702" y="2"/>
                      <a:pt x="3702" y="3"/>
                    </a:cubicBezTo>
                    <a:cubicBezTo>
                      <a:pt x="3702" y="4"/>
                      <a:pt x="3701" y="5"/>
                      <a:pt x="3700" y="5"/>
                    </a:cubicBezTo>
                    <a:lnTo>
                      <a:pt x="3700" y="5"/>
                    </a:lnTo>
                    <a:cubicBezTo>
                      <a:pt x="3699" y="5"/>
                      <a:pt x="3698" y="4"/>
                      <a:pt x="3698" y="3"/>
                    </a:cubicBezTo>
                    <a:cubicBezTo>
                      <a:pt x="3698" y="2"/>
                      <a:pt x="3699" y="1"/>
                      <a:pt x="3700" y="1"/>
                    </a:cubicBezTo>
                    <a:close/>
                    <a:moveTo>
                      <a:pt x="3708" y="1"/>
                    </a:moveTo>
                    <a:lnTo>
                      <a:pt x="3708" y="1"/>
                    </a:lnTo>
                    <a:cubicBezTo>
                      <a:pt x="3709" y="1"/>
                      <a:pt x="3710" y="2"/>
                      <a:pt x="3710" y="3"/>
                    </a:cubicBezTo>
                    <a:cubicBezTo>
                      <a:pt x="3710" y="4"/>
                      <a:pt x="3709" y="5"/>
                      <a:pt x="3708" y="5"/>
                    </a:cubicBezTo>
                    <a:lnTo>
                      <a:pt x="3708" y="5"/>
                    </a:lnTo>
                    <a:cubicBezTo>
                      <a:pt x="3707" y="5"/>
                      <a:pt x="3706" y="4"/>
                      <a:pt x="3706" y="3"/>
                    </a:cubicBezTo>
                    <a:cubicBezTo>
                      <a:pt x="3706" y="2"/>
                      <a:pt x="3707" y="1"/>
                      <a:pt x="3708" y="1"/>
                    </a:cubicBezTo>
                    <a:close/>
                    <a:moveTo>
                      <a:pt x="3716" y="1"/>
                    </a:moveTo>
                    <a:lnTo>
                      <a:pt x="3716" y="1"/>
                    </a:lnTo>
                    <a:cubicBezTo>
                      <a:pt x="3717" y="1"/>
                      <a:pt x="3718" y="2"/>
                      <a:pt x="3718" y="3"/>
                    </a:cubicBezTo>
                    <a:cubicBezTo>
                      <a:pt x="3718" y="4"/>
                      <a:pt x="3717" y="5"/>
                      <a:pt x="3716" y="5"/>
                    </a:cubicBezTo>
                    <a:lnTo>
                      <a:pt x="3716" y="5"/>
                    </a:lnTo>
                    <a:cubicBezTo>
                      <a:pt x="3715" y="5"/>
                      <a:pt x="3714" y="4"/>
                      <a:pt x="3714" y="3"/>
                    </a:cubicBezTo>
                    <a:cubicBezTo>
                      <a:pt x="3714" y="2"/>
                      <a:pt x="3715" y="1"/>
                      <a:pt x="3716" y="1"/>
                    </a:cubicBezTo>
                    <a:close/>
                    <a:moveTo>
                      <a:pt x="3724" y="1"/>
                    </a:moveTo>
                    <a:lnTo>
                      <a:pt x="3724" y="1"/>
                    </a:lnTo>
                    <a:cubicBezTo>
                      <a:pt x="3725" y="1"/>
                      <a:pt x="3726" y="2"/>
                      <a:pt x="3726" y="3"/>
                    </a:cubicBezTo>
                    <a:cubicBezTo>
                      <a:pt x="3726" y="4"/>
                      <a:pt x="3725" y="5"/>
                      <a:pt x="3724" y="5"/>
                    </a:cubicBezTo>
                    <a:lnTo>
                      <a:pt x="3724" y="5"/>
                    </a:lnTo>
                    <a:cubicBezTo>
                      <a:pt x="3723" y="5"/>
                      <a:pt x="3722" y="4"/>
                      <a:pt x="3722" y="3"/>
                    </a:cubicBezTo>
                    <a:cubicBezTo>
                      <a:pt x="3722" y="2"/>
                      <a:pt x="3723" y="1"/>
                      <a:pt x="3724" y="1"/>
                    </a:cubicBezTo>
                    <a:close/>
                    <a:moveTo>
                      <a:pt x="3732" y="1"/>
                    </a:moveTo>
                    <a:lnTo>
                      <a:pt x="3732" y="1"/>
                    </a:lnTo>
                    <a:cubicBezTo>
                      <a:pt x="3733" y="1"/>
                      <a:pt x="3734" y="2"/>
                      <a:pt x="3734" y="3"/>
                    </a:cubicBezTo>
                    <a:cubicBezTo>
                      <a:pt x="3734" y="4"/>
                      <a:pt x="3733" y="5"/>
                      <a:pt x="3732" y="5"/>
                    </a:cubicBezTo>
                    <a:lnTo>
                      <a:pt x="3732" y="5"/>
                    </a:lnTo>
                    <a:cubicBezTo>
                      <a:pt x="3731" y="5"/>
                      <a:pt x="3730" y="4"/>
                      <a:pt x="3730" y="3"/>
                    </a:cubicBezTo>
                    <a:cubicBezTo>
                      <a:pt x="3730" y="2"/>
                      <a:pt x="3731" y="1"/>
                      <a:pt x="3732" y="1"/>
                    </a:cubicBezTo>
                    <a:close/>
                    <a:moveTo>
                      <a:pt x="3740" y="1"/>
                    </a:moveTo>
                    <a:lnTo>
                      <a:pt x="3740" y="1"/>
                    </a:lnTo>
                    <a:cubicBezTo>
                      <a:pt x="3741" y="1"/>
                      <a:pt x="3742" y="2"/>
                      <a:pt x="3742" y="3"/>
                    </a:cubicBezTo>
                    <a:cubicBezTo>
                      <a:pt x="3742" y="4"/>
                      <a:pt x="3741" y="5"/>
                      <a:pt x="3740" y="5"/>
                    </a:cubicBezTo>
                    <a:lnTo>
                      <a:pt x="3740" y="5"/>
                    </a:lnTo>
                    <a:cubicBezTo>
                      <a:pt x="3739" y="5"/>
                      <a:pt x="3738" y="4"/>
                      <a:pt x="3738" y="3"/>
                    </a:cubicBezTo>
                    <a:cubicBezTo>
                      <a:pt x="3738" y="2"/>
                      <a:pt x="3739" y="1"/>
                      <a:pt x="3740" y="1"/>
                    </a:cubicBezTo>
                    <a:close/>
                    <a:moveTo>
                      <a:pt x="3748" y="1"/>
                    </a:moveTo>
                    <a:lnTo>
                      <a:pt x="3748" y="1"/>
                    </a:lnTo>
                    <a:cubicBezTo>
                      <a:pt x="3749" y="1"/>
                      <a:pt x="3750" y="2"/>
                      <a:pt x="3750" y="3"/>
                    </a:cubicBezTo>
                    <a:cubicBezTo>
                      <a:pt x="3750" y="4"/>
                      <a:pt x="3749" y="5"/>
                      <a:pt x="3748" y="5"/>
                    </a:cubicBezTo>
                    <a:lnTo>
                      <a:pt x="3748" y="5"/>
                    </a:lnTo>
                    <a:cubicBezTo>
                      <a:pt x="3747" y="5"/>
                      <a:pt x="3746" y="4"/>
                      <a:pt x="3746" y="3"/>
                    </a:cubicBezTo>
                    <a:cubicBezTo>
                      <a:pt x="3746" y="2"/>
                      <a:pt x="3747" y="1"/>
                      <a:pt x="3748" y="1"/>
                    </a:cubicBezTo>
                    <a:close/>
                    <a:moveTo>
                      <a:pt x="3756" y="1"/>
                    </a:moveTo>
                    <a:lnTo>
                      <a:pt x="3756" y="1"/>
                    </a:lnTo>
                    <a:cubicBezTo>
                      <a:pt x="3757" y="1"/>
                      <a:pt x="3758" y="2"/>
                      <a:pt x="3758" y="3"/>
                    </a:cubicBezTo>
                    <a:cubicBezTo>
                      <a:pt x="3758" y="4"/>
                      <a:pt x="3757" y="5"/>
                      <a:pt x="3756" y="5"/>
                    </a:cubicBezTo>
                    <a:lnTo>
                      <a:pt x="3756" y="5"/>
                    </a:lnTo>
                    <a:cubicBezTo>
                      <a:pt x="3755" y="5"/>
                      <a:pt x="3754" y="4"/>
                      <a:pt x="3754" y="3"/>
                    </a:cubicBezTo>
                    <a:cubicBezTo>
                      <a:pt x="3754" y="2"/>
                      <a:pt x="3755" y="1"/>
                      <a:pt x="3756" y="1"/>
                    </a:cubicBezTo>
                    <a:close/>
                    <a:moveTo>
                      <a:pt x="3764" y="1"/>
                    </a:moveTo>
                    <a:lnTo>
                      <a:pt x="3764" y="1"/>
                    </a:lnTo>
                    <a:cubicBezTo>
                      <a:pt x="3765" y="1"/>
                      <a:pt x="3766" y="2"/>
                      <a:pt x="3766" y="3"/>
                    </a:cubicBezTo>
                    <a:cubicBezTo>
                      <a:pt x="3766" y="4"/>
                      <a:pt x="3765" y="5"/>
                      <a:pt x="3764" y="5"/>
                    </a:cubicBezTo>
                    <a:lnTo>
                      <a:pt x="3764" y="5"/>
                    </a:lnTo>
                    <a:cubicBezTo>
                      <a:pt x="3763" y="5"/>
                      <a:pt x="3762" y="4"/>
                      <a:pt x="3762" y="3"/>
                    </a:cubicBezTo>
                    <a:cubicBezTo>
                      <a:pt x="3762" y="2"/>
                      <a:pt x="3763" y="1"/>
                      <a:pt x="3764" y="1"/>
                    </a:cubicBezTo>
                    <a:close/>
                    <a:moveTo>
                      <a:pt x="3772" y="1"/>
                    </a:moveTo>
                    <a:lnTo>
                      <a:pt x="3772" y="1"/>
                    </a:lnTo>
                    <a:cubicBezTo>
                      <a:pt x="3773" y="1"/>
                      <a:pt x="3774" y="2"/>
                      <a:pt x="3774" y="3"/>
                    </a:cubicBezTo>
                    <a:cubicBezTo>
                      <a:pt x="3774" y="4"/>
                      <a:pt x="3773" y="5"/>
                      <a:pt x="3772" y="5"/>
                    </a:cubicBezTo>
                    <a:lnTo>
                      <a:pt x="3772" y="5"/>
                    </a:lnTo>
                    <a:cubicBezTo>
                      <a:pt x="3771" y="5"/>
                      <a:pt x="3770" y="4"/>
                      <a:pt x="3770" y="3"/>
                    </a:cubicBezTo>
                    <a:cubicBezTo>
                      <a:pt x="3770" y="2"/>
                      <a:pt x="3771" y="1"/>
                      <a:pt x="3772" y="1"/>
                    </a:cubicBezTo>
                    <a:close/>
                    <a:moveTo>
                      <a:pt x="3780" y="1"/>
                    </a:moveTo>
                    <a:lnTo>
                      <a:pt x="3780" y="1"/>
                    </a:lnTo>
                    <a:cubicBezTo>
                      <a:pt x="3781" y="1"/>
                      <a:pt x="3782" y="2"/>
                      <a:pt x="3782" y="3"/>
                    </a:cubicBezTo>
                    <a:cubicBezTo>
                      <a:pt x="3782" y="4"/>
                      <a:pt x="3781" y="5"/>
                      <a:pt x="3780" y="5"/>
                    </a:cubicBezTo>
                    <a:lnTo>
                      <a:pt x="3780" y="5"/>
                    </a:lnTo>
                    <a:cubicBezTo>
                      <a:pt x="3779" y="5"/>
                      <a:pt x="3778" y="4"/>
                      <a:pt x="3778" y="3"/>
                    </a:cubicBezTo>
                    <a:cubicBezTo>
                      <a:pt x="3778" y="2"/>
                      <a:pt x="3779" y="1"/>
                      <a:pt x="3780" y="1"/>
                    </a:cubicBezTo>
                    <a:close/>
                    <a:moveTo>
                      <a:pt x="3788" y="1"/>
                    </a:moveTo>
                    <a:lnTo>
                      <a:pt x="3788" y="1"/>
                    </a:lnTo>
                    <a:cubicBezTo>
                      <a:pt x="3789" y="1"/>
                      <a:pt x="3790" y="2"/>
                      <a:pt x="3790" y="3"/>
                    </a:cubicBezTo>
                    <a:cubicBezTo>
                      <a:pt x="3790" y="4"/>
                      <a:pt x="3789" y="5"/>
                      <a:pt x="3788" y="5"/>
                    </a:cubicBezTo>
                    <a:lnTo>
                      <a:pt x="3788" y="5"/>
                    </a:lnTo>
                    <a:cubicBezTo>
                      <a:pt x="3787" y="5"/>
                      <a:pt x="3786" y="4"/>
                      <a:pt x="3786" y="3"/>
                    </a:cubicBezTo>
                    <a:cubicBezTo>
                      <a:pt x="3786" y="2"/>
                      <a:pt x="3787" y="1"/>
                      <a:pt x="3788" y="1"/>
                    </a:cubicBezTo>
                    <a:close/>
                    <a:moveTo>
                      <a:pt x="3796" y="1"/>
                    </a:moveTo>
                    <a:lnTo>
                      <a:pt x="3796" y="1"/>
                    </a:lnTo>
                    <a:cubicBezTo>
                      <a:pt x="3797" y="1"/>
                      <a:pt x="3798" y="2"/>
                      <a:pt x="3798" y="3"/>
                    </a:cubicBezTo>
                    <a:cubicBezTo>
                      <a:pt x="3798" y="4"/>
                      <a:pt x="3797" y="5"/>
                      <a:pt x="3796" y="5"/>
                    </a:cubicBezTo>
                    <a:lnTo>
                      <a:pt x="3796" y="5"/>
                    </a:lnTo>
                    <a:cubicBezTo>
                      <a:pt x="3795" y="5"/>
                      <a:pt x="3794" y="4"/>
                      <a:pt x="3794" y="3"/>
                    </a:cubicBezTo>
                    <a:cubicBezTo>
                      <a:pt x="3794" y="2"/>
                      <a:pt x="3795" y="1"/>
                      <a:pt x="3796" y="1"/>
                    </a:cubicBezTo>
                    <a:close/>
                    <a:moveTo>
                      <a:pt x="3804" y="1"/>
                    </a:moveTo>
                    <a:lnTo>
                      <a:pt x="3804" y="1"/>
                    </a:lnTo>
                    <a:cubicBezTo>
                      <a:pt x="3805" y="1"/>
                      <a:pt x="3806" y="2"/>
                      <a:pt x="3806" y="3"/>
                    </a:cubicBezTo>
                    <a:cubicBezTo>
                      <a:pt x="3806" y="4"/>
                      <a:pt x="3805" y="5"/>
                      <a:pt x="3804" y="5"/>
                    </a:cubicBezTo>
                    <a:lnTo>
                      <a:pt x="3804" y="5"/>
                    </a:lnTo>
                    <a:cubicBezTo>
                      <a:pt x="3803" y="5"/>
                      <a:pt x="3802" y="4"/>
                      <a:pt x="3802" y="3"/>
                    </a:cubicBezTo>
                    <a:cubicBezTo>
                      <a:pt x="3802" y="2"/>
                      <a:pt x="3803" y="1"/>
                      <a:pt x="3804" y="1"/>
                    </a:cubicBezTo>
                    <a:close/>
                    <a:moveTo>
                      <a:pt x="3812" y="1"/>
                    </a:moveTo>
                    <a:lnTo>
                      <a:pt x="3812" y="1"/>
                    </a:lnTo>
                    <a:cubicBezTo>
                      <a:pt x="3813" y="1"/>
                      <a:pt x="3814" y="2"/>
                      <a:pt x="3814" y="3"/>
                    </a:cubicBezTo>
                    <a:cubicBezTo>
                      <a:pt x="3814" y="4"/>
                      <a:pt x="3813" y="5"/>
                      <a:pt x="3812" y="5"/>
                    </a:cubicBezTo>
                    <a:lnTo>
                      <a:pt x="3812" y="5"/>
                    </a:lnTo>
                    <a:cubicBezTo>
                      <a:pt x="3811" y="5"/>
                      <a:pt x="3810" y="4"/>
                      <a:pt x="3810" y="3"/>
                    </a:cubicBezTo>
                    <a:cubicBezTo>
                      <a:pt x="3810" y="2"/>
                      <a:pt x="3811" y="1"/>
                      <a:pt x="3812" y="1"/>
                    </a:cubicBezTo>
                    <a:close/>
                    <a:moveTo>
                      <a:pt x="3820" y="1"/>
                    </a:moveTo>
                    <a:lnTo>
                      <a:pt x="3820" y="1"/>
                    </a:lnTo>
                    <a:cubicBezTo>
                      <a:pt x="3821" y="1"/>
                      <a:pt x="3822" y="2"/>
                      <a:pt x="3822" y="3"/>
                    </a:cubicBezTo>
                    <a:cubicBezTo>
                      <a:pt x="3822" y="4"/>
                      <a:pt x="3821" y="5"/>
                      <a:pt x="3820" y="5"/>
                    </a:cubicBezTo>
                    <a:lnTo>
                      <a:pt x="3820" y="5"/>
                    </a:lnTo>
                    <a:cubicBezTo>
                      <a:pt x="3819" y="5"/>
                      <a:pt x="3818" y="4"/>
                      <a:pt x="3818" y="3"/>
                    </a:cubicBezTo>
                    <a:cubicBezTo>
                      <a:pt x="3818" y="2"/>
                      <a:pt x="3819" y="1"/>
                      <a:pt x="3820" y="1"/>
                    </a:cubicBezTo>
                    <a:close/>
                    <a:moveTo>
                      <a:pt x="3828" y="1"/>
                    </a:moveTo>
                    <a:lnTo>
                      <a:pt x="3828" y="1"/>
                    </a:lnTo>
                    <a:cubicBezTo>
                      <a:pt x="3829" y="1"/>
                      <a:pt x="3830" y="2"/>
                      <a:pt x="3830" y="3"/>
                    </a:cubicBezTo>
                    <a:cubicBezTo>
                      <a:pt x="3830" y="4"/>
                      <a:pt x="3829" y="5"/>
                      <a:pt x="3828" y="5"/>
                    </a:cubicBezTo>
                    <a:lnTo>
                      <a:pt x="3828" y="5"/>
                    </a:lnTo>
                    <a:cubicBezTo>
                      <a:pt x="3827" y="5"/>
                      <a:pt x="3826" y="4"/>
                      <a:pt x="3826" y="3"/>
                    </a:cubicBezTo>
                    <a:cubicBezTo>
                      <a:pt x="3826" y="2"/>
                      <a:pt x="3827" y="1"/>
                      <a:pt x="3828" y="1"/>
                    </a:cubicBezTo>
                    <a:close/>
                    <a:moveTo>
                      <a:pt x="3836" y="1"/>
                    </a:moveTo>
                    <a:lnTo>
                      <a:pt x="3836" y="1"/>
                    </a:lnTo>
                    <a:cubicBezTo>
                      <a:pt x="3837" y="1"/>
                      <a:pt x="3838" y="2"/>
                      <a:pt x="3838" y="3"/>
                    </a:cubicBezTo>
                    <a:cubicBezTo>
                      <a:pt x="3838" y="4"/>
                      <a:pt x="3837" y="5"/>
                      <a:pt x="3836" y="5"/>
                    </a:cubicBezTo>
                    <a:lnTo>
                      <a:pt x="3836" y="5"/>
                    </a:lnTo>
                    <a:cubicBezTo>
                      <a:pt x="3835" y="5"/>
                      <a:pt x="3834" y="4"/>
                      <a:pt x="3834" y="3"/>
                    </a:cubicBezTo>
                    <a:cubicBezTo>
                      <a:pt x="3834" y="2"/>
                      <a:pt x="3835" y="1"/>
                      <a:pt x="3836" y="1"/>
                    </a:cubicBezTo>
                    <a:close/>
                    <a:moveTo>
                      <a:pt x="3844" y="1"/>
                    </a:moveTo>
                    <a:lnTo>
                      <a:pt x="3844" y="1"/>
                    </a:lnTo>
                    <a:cubicBezTo>
                      <a:pt x="3845" y="1"/>
                      <a:pt x="3846" y="2"/>
                      <a:pt x="3846" y="3"/>
                    </a:cubicBezTo>
                    <a:cubicBezTo>
                      <a:pt x="3846" y="4"/>
                      <a:pt x="3845" y="5"/>
                      <a:pt x="3844" y="5"/>
                    </a:cubicBezTo>
                    <a:lnTo>
                      <a:pt x="3844" y="5"/>
                    </a:lnTo>
                    <a:cubicBezTo>
                      <a:pt x="3843" y="5"/>
                      <a:pt x="3842" y="4"/>
                      <a:pt x="3842" y="3"/>
                    </a:cubicBezTo>
                    <a:cubicBezTo>
                      <a:pt x="3842" y="2"/>
                      <a:pt x="3843" y="1"/>
                      <a:pt x="3844" y="1"/>
                    </a:cubicBezTo>
                    <a:close/>
                    <a:moveTo>
                      <a:pt x="3852" y="1"/>
                    </a:moveTo>
                    <a:lnTo>
                      <a:pt x="3852" y="1"/>
                    </a:lnTo>
                    <a:cubicBezTo>
                      <a:pt x="3853" y="1"/>
                      <a:pt x="3854" y="2"/>
                      <a:pt x="3854" y="3"/>
                    </a:cubicBezTo>
                    <a:cubicBezTo>
                      <a:pt x="3854" y="4"/>
                      <a:pt x="3853" y="5"/>
                      <a:pt x="3852" y="5"/>
                    </a:cubicBezTo>
                    <a:lnTo>
                      <a:pt x="3852" y="5"/>
                    </a:lnTo>
                    <a:cubicBezTo>
                      <a:pt x="3851" y="5"/>
                      <a:pt x="3850" y="4"/>
                      <a:pt x="3850" y="3"/>
                    </a:cubicBezTo>
                    <a:cubicBezTo>
                      <a:pt x="3850" y="2"/>
                      <a:pt x="3851" y="1"/>
                      <a:pt x="3852" y="1"/>
                    </a:cubicBezTo>
                    <a:close/>
                    <a:moveTo>
                      <a:pt x="3860" y="1"/>
                    </a:moveTo>
                    <a:lnTo>
                      <a:pt x="3860" y="1"/>
                    </a:lnTo>
                    <a:cubicBezTo>
                      <a:pt x="3861" y="1"/>
                      <a:pt x="3862" y="2"/>
                      <a:pt x="3862" y="3"/>
                    </a:cubicBezTo>
                    <a:cubicBezTo>
                      <a:pt x="3862" y="4"/>
                      <a:pt x="3861" y="5"/>
                      <a:pt x="3860" y="5"/>
                    </a:cubicBezTo>
                    <a:lnTo>
                      <a:pt x="3860" y="5"/>
                    </a:lnTo>
                    <a:cubicBezTo>
                      <a:pt x="3859" y="5"/>
                      <a:pt x="3858" y="4"/>
                      <a:pt x="3858" y="3"/>
                    </a:cubicBezTo>
                    <a:cubicBezTo>
                      <a:pt x="3858" y="2"/>
                      <a:pt x="3859" y="1"/>
                      <a:pt x="3860" y="1"/>
                    </a:cubicBezTo>
                    <a:close/>
                    <a:moveTo>
                      <a:pt x="3868" y="1"/>
                    </a:moveTo>
                    <a:lnTo>
                      <a:pt x="3868" y="1"/>
                    </a:lnTo>
                    <a:cubicBezTo>
                      <a:pt x="3869" y="1"/>
                      <a:pt x="3870" y="2"/>
                      <a:pt x="3870" y="3"/>
                    </a:cubicBezTo>
                    <a:cubicBezTo>
                      <a:pt x="3870" y="4"/>
                      <a:pt x="3869" y="5"/>
                      <a:pt x="3868" y="5"/>
                    </a:cubicBezTo>
                    <a:lnTo>
                      <a:pt x="3868" y="5"/>
                    </a:lnTo>
                    <a:cubicBezTo>
                      <a:pt x="3867" y="5"/>
                      <a:pt x="3866" y="4"/>
                      <a:pt x="3866" y="3"/>
                    </a:cubicBezTo>
                    <a:cubicBezTo>
                      <a:pt x="3866" y="2"/>
                      <a:pt x="3867" y="1"/>
                      <a:pt x="3868" y="1"/>
                    </a:cubicBezTo>
                    <a:close/>
                    <a:moveTo>
                      <a:pt x="3876" y="1"/>
                    </a:moveTo>
                    <a:lnTo>
                      <a:pt x="3876" y="1"/>
                    </a:lnTo>
                    <a:cubicBezTo>
                      <a:pt x="3877" y="1"/>
                      <a:pt x="3878" y="2"/>
                      <a:pt x="3878" y="3"/>
                    </a:cubicBezTo>
                    <a:cubicBezTo>
                      <a:pt x="3878" y="4"/>
                      <a:pt x="3877" y="5"/>
                      <a:pt x="3876" y="5"/>
                    </a:cubicBezTo>
                    <a:lnTo>
                      <a:pt x="3876" y="5"/>
                    </a:lnTo>
                    <a:cubicBezTo>
                      <a:pt x="3875" y="5"/>
                      <a:pt x="3874" y="4"/>
                      <a:pt x="3874" y="3"/>
                    </a:cubicBezTo>
                    <a:cubicBezTo>
                      <a:pt x="3874" y="2"/>
                      <a:pt x="3875" y="1"/>
                      <a:pt x="3876" y="1"/>
                    </a:cubicBezTo>
                    <a:close/>
                    <a:moveTo>
                      <a:pt x="3884" y="1"/>
                    </a:moveTo>
                    <a:lnTo>
                      <a:pt x="3884" y="1"/>
                    </a:lnTo>
                    <a:cubicBezTo>
                      <a:pt x="3885" y="1"/>
                      <a:pt x="3886" y="2"/>
                      <a:pt x="3886" y="3"/>
                    </a:cubicBezTo>
                    <a:cubicBezTo>
                      <a:pt x="3886" y="4"/>
                      <a:pt x="3885" y="5"/>
                      <a:pt x="3884" y="5"/>
                    </a:cubicBezTo>
                    <a:lnTo>
                      <a:pt x="3884" y="5"/>
                    </a:lnTo>
                    <a:cubicBezTo>
                      <a:pt x="3883" y="5"/>
                      <a:pt x="3882" y="4"/>
                      <a:pt x="3882" y="3"/>
                    </a:cubicBezTo>
                    <a:cubicBezTo>
                      <a:pt x="3882" y="2"/>
                      <a:pt x="3883" y="1"/>
                      <a:pt x="3884" y="1"/>
                    </a:cubicBezTo>
                    <a:close/>
                    <a:moveTo>
                      <a:pt x="3892" y="1"/>
                    </a:moveTo>
                    <a:lnTo>
                      <a:pt x="3892" y="1"/>
                    </a:lnTo>
                    <a:cubicBezTo>
                      <a:pt x="3893" y="1"/>
                      <a:pt x="3894" y="2"/>
                      <a:pt x="3894" y="3"/>
                    </a:cubicBezTo>
                    <a:cubicBezTo>
                      <a:pt x="3894" y="4"/>
                      <a:pt x="3893" y="5"/>
                      <a:pt x="3892" y="5"/>
                    </a:cubicBezTo>
                    <a:lnTo>
                      <a:pt x="3892" y="5"/>
                    </a:lnTo>
                    <a:cubicBezTo>
                      <a:pt x="3891" y="5"/>
                      <a:pt x="3890" y="4"/>
                      <a:pt x="3890" y="3"/>
                    </a:cubicBezTo>
                    <a:cubicBezTo>
                      <a:pt x="3890" y="2"/>
                      <a:pt x="3891" y="1"/>
                      <a:pt x="3892" y="1"/>
                    </a:cubicBezTo>
                    <a:close/>
                    <a:moveTo>
                      <a:pt x="3900" y="1"/>
                    </a:moveTo>
                    <a:lnTo>
                      <a:pt x="3900" y="1"/>
                    </a:lnTo>
                    <a:cubicBezTo>
                      <a:pt x="3901" y="1"/>
                      <a:pt x="3902" y="2"/>
                      <a:pt x="3902" y="3"/>
                    </a:cubicBezTo>
                    <a:cubicBezTo>
                      <a:pt x="3902" y="4"/>
                      <a:pt x="3901" y="5"/>
                      <a:pt x="3900" y="5"/>
                    </a:cubicBezTo>
                    <a:lnTo>
                      <a:pt x="3900" y="5"/>
                    </a:lnTo>
                    <a:cubicBezTo>
                      <a:pt x="3899" y="5"/>
                      <a:pt x="3898" y="4"/>
                      <a:pt x="3898" y="3"/>
                    </a:cubicBezTo>
                    <a:cubicBezTo>
                      <a:pt x="3898" y="2"/>
                      <a:pt x="3899" y="1"/>
                      <a:pt x="3900" y="1"/>
                    </a:cubicBezTo>
                    <a:close/>
                    <a:moveTo>
                      <a:pt x="3908" y="1"/>
                    </a:moveTo>
                    <a:lnTo>
                      <a:pt x="3908" y="1"/>
                    </a:lnTo>
                    <a:cubicBezTo>
                      <a:pt x="3909" y="1"/>
                      <a:pt x="3910" y="2"/>
                      <a:pt x="3910" y="3"/>
                    </a:cubicBezTo>
                    <a:cubicBezTo>
                      <a:pt x="3910" y="4"/>
                      <a:pt x="3909" y="5"/>
                      <a:pt x="3908" y="5"/>
                    </a:cubicBezTo>
                    <a:lnTo>
                      <a:pt x="3908" y="5"/>
                    </a:lnTo>
                    <a:cubicBezTo>
                      <a:pt x="3907" y="5"/>
                      <a:pt x="3906" y="4"/>
                      <a:pt x="3906" y="3"/>
                    </a:cubicBezTo>
                    <a:cubicBezTo>
                      <a:pt x="3906" y="2"/>
                      <a:pt x="3907" y="1"/>
                      <a:pt x="3908" y="1"/>
                    </a:cubicBezTo>
                    <a:close/>
                    <a:moveTo>
                      <a:pt x="3916" y="1"/>
                    </a:moveTo>
                    <a:lnTo>
                      <a:pt x="3916" y="1"/>
                    </a:lnTo>
                    <a:cubicBezTo>
                      <a:pt x="3917" y="1"/>
                      <a:pt x="3918" y="2"/>
                      <a:pt x="3918" y="3"/>
                    </a:cubicBezTo>
                    <a:cubicBezTo>
                      <a:pt x="3918" y="4"/>
                      <a:pt x="3917" y="5"/>
                      <a:pt x="3916" y="5"/>
                    </a:cubicBezTo>
                    <a:lnTo>
                      <a:pt x="3916" y="5"/>
                    </a:lnTo>
                    <a:cubicBezTo>
                      <a:pt x="3915" y="5"/>
                      <a:pt x="3914" y="4"/>
                      <a:pt x="3914" y="3"/>
                    </a:cubicBezTo>
                    <a:cubicBezTo>
                      <a:pt x="3914" y="2"/>
                      <a:pt x="3915" y="1"/>
                      <a:pt x="3916" y="1"/>
                    </a:cubicBezTo>
                    <a:close/>
                    <a:moveTo>
                      <a:pt x="3924" y="1"/>
                    </a:moveTo>
                    <a:lnTo>
                      <a:pt x="3924" y="1"/>
                    </a:lnTo>
                    <a:cubicBezTo>
                      <a:pt x="3925" y="1"/>
                      <a:pt x="3926" y="2"/>
                      <a:pt x="3926" y="3"/>
                    </a:cubicBezTo>
                    <a:cubicBezTo>
                      <a:pt x="3926" y="4"/>
                      <a:pt x="3925" y="5"/>
                      <a:pt x="3924" y="5"/>
                    </a:cubicBezTo>
                    <a:lnTo>
                      <a:pt x="3924" y="5"/>
                    </a:lnTo>
                    <a:cubicBezTo>
                      <a:pt x="3923" y="5"/>
                      <a:pt x="3922" y="4"/>
                      <a:pt x="3922" y="3"/>
                    </a:cubicBezTo>
                    <a:cubicBezTo>
                      <a:pt x="3922" y="2"/>
                      <a:pt x="3923" y="1"/>
                      <a:pt x="3924" y="1"/>
                    </a:cubicBezTo>
                    <a:close/>
                    <a:moveTo>
                      <a:pt x="3932" y="1"/>
                    </a:moveTo>
                    <a:lnTo>
                      <a:pt x="3932" y="1"/>
                    </a:lnTo>
                    <a:cubicBezTo>
                      <a:pt x="3933" y="1"/>
                      <a:pt x="3934" y="2"/>
                      <a:pt x="3934" y="3"/>
                    </a:cubicBezTo>
                    <a:cubicBezTo>
                      <a:pt x="3934" y="4"/>
                      <a:pt x="3933" y="5"/>
                      <a:pt x="3932" y="5"/>
                    </a:cubicBezTo>
                    <a:lnTo>
                      <a:pt x="3932" y="5"/>
                    </a:lnTo>
                    <a:cubicBezTo>
                      <a:pt x="3931" y="5"/>
                      <a:pt x="3930" y="4"/>
                      <a:pt x="3930" y="3"/>
                    </a:cubicBezTo>
                    <a:cubicBezTo>
                      <a:pt x="3930" y="2"/>
                      <a:pt x="3931" y="1"/>
                      <a:pt x="3932" y="1"/>
                    </a:cubicBezTo>
                    <a:close/>
                    <a:moveTo>
                      <a:pt x="3940" y="1"/>
                    </a:moveTo>
                    <a:lnTo>
                      <a:pt x="3940" y="1"/>
                    </a:lnTo>
                    <a:cubicBezTo>
                      <a:pt x="3941" y="1"/>
                      <a:pt x="3942" y="2"/>
                      <a:pt x="3942" y="3"/>
                    </a:cubicBezTo>
                    <a:cubicBezTo>
                      <a:pt x="3942" y="4"/>
                      <a:pt x="3941" y="5"/>
                      <a:pt x="3940" y="5"/>
                    </a:cubicBezTo>
                    <a:lnTo>
                      <a:pt x="3940" y="5"/>
                    </a:lnTo>
                    <a:cubicBezTo>
                      <a:pt x="3939" y="5"/>
                      <a:pt x="3938" y="4"/>
                      <a:pt x="3938" y="3"/>
                    </a:cubicBezTo>
                    <a:cubicBezTo>
                      <a:pt x="3938" y="2"/>
                      <a:pt x="3939" y="1"/>
                      <a:pt x="3940" y="1"/>
                    </a:cubicBezTo>
                    <a:close/>
                    <a:moveTo>
                      <a:pt x="3948" y="1"/>
                    </a:moveTo>
                    <a:lnTo>
                      <a:pt x="3948" y="1"/>
                    </a:lnTo>
                    <a:cubicBezTo>
                      <a:pt x="3949" y="1"/>
                      <a:pt x="3950" y="2"/>
                      <a:pt x="3950" y="3"/>
                    </a:cubicBezTo>
                    <a:cubicBezTo>
                      <a:pt x="3950" y="4"/>
                      <a:pt x="3949" y="5"/>
                      <a:pt x="3948" y="5"/>
                    </a:cubicBezTo>
                    <a:lnTo>
                      <a:pt x="3948" y="5"/>
                    </a:lnTo>
                    <a:cubicBezTo>
                      <a:pt x="3947" y="5"/>
                      <a:pt x="3946" y="4"/>
                      <a:pt x="3946" y="3"/>
                    </a:cubicBezTo>
                    <a:cubicBezTo>
                      <a:pt x="3946" y="2"/>
                      <a:pt x="3947" y="1"/>
                      <a:pt x="3948" y="1"/>
                    </a:cubicBezTo>
                    <a:close/>
                    <a:moveTo>
                      <a:pt x="3956" y="1"/>
                    </a:moveTo>
                    <a:lnTo>
                      <a:pt x="3956" y="1"/>
                    </a:lnTo>
                    <a:cubicBezTo>
                      <a:pt x="3957" y="1"/>
                      <a:pt x="3958" y="2"/>
                      <a:pt x="3958" y="3"/>
                    </a:cubicBezTo>
                    <a:cubicBezTo>
                      <a:pt x="3958" y="4"/>
                      <a:pt x="3957" y="5"/>
                      <a:pt x="3956" y="5"/>
                    </a:cubicBezTo>
                    <a:lnTo>
                      <a:pt x="3956" y="5"/>
                    </a:lnTo>
                    <a:cubicBezTo>
                      <a:pt x="3955" y="5"/>
                      <a:pt x="3954" y="4"/>
                      <a:pt x="3954" y="3"/>
                    </a:cubicBezTo>
                    <a:cubicBezTo>
                      <a:pt x="3954" y="2"/>
                      <a:pt x="3955" y="1"/>
                      <a:pt x="3956" y="1"/>
                    </a:cubicBezTo>
                    <a:close/>
                    <a:moveTo>
                      <a:pt x="3964" y="1"/>
                    </a:moveTo>
                    <a:lnTo>
                      <a:pt x="3964" y="1"/>
                    </a:lnTo>
                    <a:cubicBezTo>
                      <a:pt x="3965" y="1"/>
                      <a:pt x="3966" y="2"/>
                      <a:pt x="3966" y="3"/>
                    </a:cubicBezTo>
                    <a:cubicBezTo>
                      <a:pt x="3966" y="4"/>
                      <a:pt x="3965" y="5"/>
                      <a:pt x="3964" y="5"/>
                    </a:cubicBezTo>
                    <a:lnTo>
                      <a:pt x="3964" y="5"/>
                    </a:lnTo>
                    <a:cubicBezTo>
                      <a:pt x="3963" y="5"/>
                      <a:pt x="3962" y="4"/>
                      <a:pt x="3962" y="3"/>
                    </a:cubicBezTo>
                    <a:cubicBezTo>
                      <a:pt x="3962" y="2"/>
                      <a:pt x="3963" y="1"/>
                      <a:pt x="3964" y="1"/>
                    </a:cubicBezTo>
                    <a:close/>
                    <a:moveTo>
                      <a:pt x="3972" y="1"/>
                    </a:moveTo>
                    <a:lnTo>
                      <a:pt x="3972" y="1"/>
                    </a:lnTo>
                    <a:cubicBezTo>
                      <a:pt x="3973" y="1"/>
                      <a:pt x="3974" y="2"/>
                      <a:pt x="3974" y="3"/>
                    </a:cubicBezTo>
                    <a:cubicBezTo>
                      <a:pt x="3974" y="4"/>
                      <a:pt x="3973" y="5"/>
                      <a:pt x="3972" y="5"/>
                    </a:cubicBezTo>
                    <a:lnTo>
                      <a:pt x="3972" y="5"/>
                    </a:lnTo>
                    <a:cubicBezTo>
                      <a:pt x="3971" y="5"/>
                      <a:pt x="3970" y="4"/>
                      <a:pt x="3970" y="3"/>
                    </a:cubicBezTo>
                    <a:cubicBezTo>
                      <a:pt x="3970" y="2"/>
                      <a:pt x="3971" y="1"/>
                      <a:pt x="3972" y="1"/>
                    </a:cubicBezTo>
                    <a:close/>
                    <a:moveTo>
                      <a:pt x="3980" y="1"/>
                    </a:moveTo>
                    <a:lnTo>
                      <a:pt x="3980" y="1"/>
                    </a:lnTo>
                    <a:cubicBezTo>
                      <a:pt x="3981" y="1"/>
                      <a:pt x="3982" y="2"/>
                      <a:pt x="3982" y="3"/>
                    </a:cubicBezTo>
                    <a:cubicBezTo>
                      <a:pt x="3982" y="4"/>
                      <a:pt x="3981" y="5"/>
                      <a:pt x="3980" y="5"/>
                    </a:cubicBezTo>
                    <a:lnTo>
                      <a:pt x="3980" y="5"/>
                    </a:lnTo>
                    <a:cubicBezTo>
                      <a:pt x="3979" y="5"/>
                      <a:pt x="3978" y="4"/>
                      <a:pt x="3978" y="3"/>
                    </a:cubicBezTo>
                    <a:cubicBezTo>
                      <a:pt x="3978" y="2"/>
                      <a:pt x="3979" y="1"/>
                      <a:pt x="3980" y="1"/>
                    </a:cubicBezTo>
                    <a:close/>
                    <a:moveTo>
                      <a:pt x="3988" y="1"/>
                    </a:moveTo>
                    <a:lnTo>
                      <a:pt x="3988" y="1"/>
                    </a:lnTo>
                    <a:cubicBezTo>
                      <a:pt x="3989" y="1"/>
                      <a:pt x="3990" y="2"/>
                      <a:pt x="3990" y="3"/>
                    </a:cubicBezTo>
                    <a:cubicBezTo>
                      <a:pt x="3990" y="4"/>
                      <a:pt x="3989" y="5"/>
                      <a:pt x="3988" y="5"/>
                    </a:cubicBezTo>
                    <a:lnTo>
                      <a:pt x="3988" y="5"/>
                    </a:lnTo>
                    <a:cubicBezTo>
                      <a:pt x="3987" y="5"/>
                      <a:pt x="3986" y="4"/>
                      <a:pt x="3986" y="3"/>
                    </a:cubicBezTo>
                    <a:cubicBezTo>
                      <a:pt x="3986" y="2"/>
                      <a:pt x="3987" y="1"/>
                      <a:pt x="3988" y="1"/>
                    </a:cubicBezTo>
                    <a:close/>
                    <a:moveTo>
                      <a:pt x="3996" y="1"/>
                    </a:moveTo>
                    <a:lnTo>
                      <a:pt x="3996" y="1"/>
                    </a:lnTo>
                    <a:cubicBezTo>
                      <a:pt x="3997" y="1"/>
                      <a:pt x="3998" y="2"/>
                      <a:pt x="3998" y="3"/>
                    </a:cubicBezTo>
                    <a:cubicBezTo>
                      <a:pt x="3998" y="4"/>
                      <a:pt x="3997" y="5"/>
                      <a:pt x="3996" y="5"/>
                    </a:cubicBezTo>
                    <a:lnTo>
                      <a:pt x="3996" y="5"/>
                    </a:lnTo>
                    <a:cubicBezTo>
                      <a:pt x="3995" y="5"/>
                      <a:pt x="3994" y="4"/>
                      <a:pt x="3994" y="3"/>
                    </a:cubicBezTo>
                    <a:cubicBezTo>
                      <a:pt x="3994" y="2"/>
                      <a:pt x="3995" y="1"/>
                      <a:pt x="3996" y="1"/>
                    </a:cubicBezTo>
                    <a:close/>
                    <a:moveTo>
                      <a:pt x="4004" y="1"/>
                    </a:moveTo>
                    <a:lnTo>
                      <a:pt x="4004" y="1"/>
                    </a:lnTo>
                    <a:cubicBezTo>
                      <a:pt x="4005" y="1"/>
                      <a:pt x="4006" y="2"/>
                      <a:pt x="4006" y="3"/>
                    </a:cubicBezTo>
                    <a:cubicBezTo>
                      <a:pt x="4006" y="4"/>
                      <a:pt x="4005" y="5"/>
                      <a:pt x="4004" y="5"/>
                    </a:cubicBezTo>
                    <a:lnTo>
                      <a:pt x="4004" y="5"/>
                    </a:lnTo>
                    <a:cubicBezTo>
                      <a:pt x="4003" y="5"/>
                      <a:pt x="4002" y="4"/>
                      <a:pt x="4002" y="3"/>
                    </a:cubicBezTo>
                    <a:cubicBezTo>
                      <a:pt x="4002" y="2"/>
                      <a:pt x="4003" y="1"/>
                      <a:pt x="4004" y="1"/>
                    </a:cubicBezTo>
                    <a:close/>
                    <a:moveTo>
                      <a:pt x="4012" y="1"/>
                    </a:moveTo>
                    <a:lnTo>
                      <a:pt x="4012" y="1"/>
                    </a:lnTo>
                    <a:cubicBezTo>
                      <a:pt x="4013" y="1"/>
                      <a:pt x="4014" y="2"/>
                      <a:pt x="4014" y="3"/>
                    </a:cubicBezTo>
                    <a:cubicBezTo>
                      <a:pt x="4014" y="4"/>
                      <a:pt x="4013" y="5"/>
                      <a:pt x="4012" y="5"/>
                    </a:cubicBezTo>
                    <a:lnTo>
                      <a:pt x="4012" y="5"/>
                    </a:lnTo>
                    <a:cubicBezTo>
                      <a:pt x="4011" y="5"/>
                      <a:pt x="4010" y="4"/>
                      <a:pt x="4010" y="3"/>
                    </a:cubicBezTo>
                    <a:cubicBezTo>
                      <a:pt x="4010" y="2"/>
                      <a:pt x="4011" y="1"/>
                      <a:pt x="4012" y="1"/>
                    </a:cubicBezTo>
                    <a:close/>
                    <a:moveTo>
                      <a:pt x="4020" y="1"/>
                    </a:moveTo>
                    <a:lnTo>
                      <a:pt x="4020" y="1"/>
                    </a:lnTo>
                    <a:cubicBezTo>
                      <a:pt x="4021" y="1"/>
                      <a:pt x="4022" y="2"/>
                      <a:pt x="4022" y="3"/>
                    </a:cubicBezTo>
                    <a:cubicBezTo>
                      <a:pt x="4022" y="4"/>
                      <a:pt x="4021" y="5"/>
                      <a:pt x="4020" y="5"/>
                    </a:cubicBezTo>
                    <a:lnTo>
                      <a:pt x="4020" y="5"/>
                    </a:lnTo>
                    <a:cubicBezTo>
                      <a:pt x="4019" y="5"/>
                      <a:pt x="4018" y="4"/>
                      <a:pt x="4018" y="3"/>
                    </a:cubicBezTo>
                    <a:cubicBezTo>
                      <a:pt x="4018" y="2"/>
                      <a:pt x="4019" y="1"/>
                      <a:pt x="4020" y="1"/>
                    </a:cubicBezTo>
                    <a:close/>
                    <a:moveTo>
                      <a:pt x="4028" y="1"/>
                    </a:moveTo>
                    <a:lnTo>
                      <a:pt x="4028" y="1"/>
                    </a:lnTo>
                    <a:cubicBezTo>
                      <a:pt x="4029" y="1"/>
                      <a:pt x="4030" y="2"/>
                      <a:pt x="4030" y="3"/>
                    </a:cubicBezTo>
                    <a:cubicBezTo>
                      <a:pt x="4030" y="4"/>
                      <a:pt x="4029" y="5"/>
                      <a:pt x="4028" y="5"/>
                    </a:cubicBezTo>
                    <a:lnTo>
                      <a:pt x="4028" y="5"/>
                    </a:lnTo>
                    <a:cubicBezTo>
                      <a:pt x="4027" y="5"/>
                      <a:pt x="4026" y="4"/>
                      <a:pt x="4026" y="3"/>
                    </a:cubicBezTo>
                    <a:cubicBezTo>
                      <a:pt x="4026" y="2"/>
                      <a:pt x="4027" y="1"/>
                      <a:pt x="4028" y="1"/>
                    </a:cubicBezTo>
                    <a:close/>
                    <a:moveTo>
                      <a:pt x="4036" y="1"/>
                    </a:moveTo>
                    <a:lnTo>
                      <a:pt x="4036" y="1"/>
                    </a:lnTo>
                    <a:cubicBezTo>
                      <a:pt x="4037" y="1"/>
                      <a:pt x="4038" y="2"/>
                      <a:pt x="4038" y="3"/>
                    </a:cubicBezTo>
                    <a:cubicBezTo>
                      <a:pt x="4038" y="4"/>
                      <a:pt x="4037" y="5"/>
                      <a:pt x="4036" y="5"/>
                    </a:cubicBezTo>
                    <a:lnTo>
                      <a:pt x="4036" y="5"/>
                    </a:lnTo>
                    <a:cubicBezTo>
                      <a:pt x="4035" y="5"/>
                      <a:pt x="4034" y="4"/>
                      <a:pt x="4034" y="3"/>
                    </a:cubicBezTo>
                    <a:cubicBezTo>
                      <a:pt x="4034" y="2"/>
                      <a:pt x="4035" y="1"/>
                      <a:pt x="4036" y="1"/>
                    </a:cubicBezTo>
                    <a:close/>
                    <a:moveTo>
                      <a:pt x="4044" y="1"/>
                    </a:moveTo>
                    <a:lnTo>
                      <a:pt x="4044" y="1"/>
                    </a:lnTo>
                    <a:cubicBezTo>
                      <a:pt x="4045" y="1"/>
                      <a:pt x="4046" y="2"/>
                      <a:pt x="4046" y="3"/>
                    </a:cubicBezTo>
                    <a:cubicBezTo>
                      <a:pt x="4046" y="4"/>
                      <a:pt x="4045" y="5"/>
                      <a:pt x="4044" y="5"/>
                    </a:cubicBezTo>
                    <a:lnTo>
                      <a:pt x="4044" y="5"/>
                    </a:lnTo>
                    <a:cubicBezTo>
                      <a:pt x="4043" y="5"/>
                      <a:pt x="4042" y="4"/>
                      <a:pt x="4042" y="3"/>
                    </a:cubicBezTo>
                    <a:cubicBezTo>
                      <a:pt x="4042" y="2"/>
                      <a:pt x="4043" y="1"/>
                      <a:pt x="4044" y="1"/>
                    </a:cubicBezTo>
                    <a:close/>
                    <a:moveTo>
                      <a:pt x="4052" y="1"/>
                    </a:moveTo>
                    <a:lnTo>
                      <a:pt x="4052" y="1"/>
                    </a:lnTo>
                    <a:cubicBezTo>
                      <a:pt x="4053" y="1"/>
                      <a:pt x="4054" y="2"/>
                      <a:pt x="4054" y="3"/>
                    </a:cubicBezTo>
                    <a:cubicBezTo>
                      <a:pt x="4054" y="4"/>
                      <a:pt x="4053" y="5"/>
                      <a:pt x="4052" y="5"/>
                    </a:cubicBezTo>
                    <a:lnTo>
                      <a:pt x="4052" y="5"/>
                    </a:lnTo>
                    <a:cubicBezTo>
                      <a:pt x="4051" y="5"/>
                      <a:pt x="4050" y="4"/>
                      <a:pt x="4050" y="3"/>
                    </a:cubicBezTo>
                    <a:cubicBezTo>
                      <a:pt x="4050" y="2"/>
                      <a:pt x="4051" y="1"/>
                      <a:pt x="4052" y="1"/>
                    </a:cubicBezTo>
                    <a:close/>
                    <a:moveTo>
                      <a:pt x="4060" y="1"/>
                    </a:moveTo>
                    <a:lnTo>
                      <a:pt x="4060" y="1"/>
                    </a:lnTo>
                    <a:cubicBezTo>
                      <a:pt x="4061" y="1"/>
                      <a:pt x="4062" y="2"/>
                      <a:pt x="4062" y="3"/>
                    </a:cubicBezTo>
                    <a:cubicBezTo>
                      <a:pt x="4062" y="4"/>
                      <a:pt x="4061" y="5"/>
                      <a:pt x="4060" y="5"/>
                    </a:cubicBezTo>
                    <a:lnTo>
                      <a:pt x="4060" y="5"/>
                    </a:lnTo>
                    <a:cubicBezTo>
                      <a:pt x="4059" y="5"/>
                      <a:pt x="4058" y="4"/>
                      <a:pt x="4058" y="3"/>
                    </a:cubicBezTo>
                    <a:cubicBezTo>
                      <a:pt x="4058" y="2"/>
                      <a:pt x="4059" y="1"/>
                      <a:pt x="4060" y="1"/>
                    </a:cubicBezTo>
                    <a:close/>
                    <a:moveTo>
                      <a:pt x="4068" y="1"/>
                    </a:moveTo>
                    <a:lnTo>
                      <a:pt x="4068" y="1"/>
                    </a:lnTo>
                    <a:cubicBezTo>
                      <a:pt x="4069" y="1"/>
                      <a:pt x="4070" y="2"/>
                      <a:pt x="4070" y="3"/>
                    </a:cubicBezTo>
                    <a:cubicBezTo>
                      <a:pt x="4070" y="4"/>
                      <a:pt x="4069" y="5"/>
                      <a:pt x="4068" y="5"/>
                    </a:cubicBezTo>
                    <a:lnTo>
                      <a:pt x="4068" y="5"/>
                    </a:lnTo>
                    <a:cubicBezTo>
                      <a:pt x="4067" y="5"/>
                      <a:pt x="4066" y="4"/>
                      <a:pt x="4066" y="3"/>
                    </a:cubicBezTo>
                    <a:cubicBezTo>
                      <a:pt x="4066" y="2"/>
                      <a:pt x="4067" y="1"/>
                      <a:pt x="4068" y="1"/>
                    </a:cubicBezTo>
                    <a:close/>
                    <a:moveTo>
                      <a:pt x="4076" y="1"/>
                    </a:moveTo>
                    <a:lnTo>
                      <a:pt x="4076" y="1"/>
                    </a:lnTo>
                    <a:cubicBezTo>
                      <a:pt x="4077" y="1"/>
                      <a:pt x="4078" y="2"/>
                      <a:pt x="4078" y="3"/>
                    </a:cubicBezTo>
                    <a:cubicBezTo>
                      <a:pt x="4078" y="4"/>
                      <a:pt x="4077" y="5"/>
                      <a:pt x="4076" y="5"/>
                    </a:cubicBezTo>
                    <a:lnTo>
                      <a:pt x="4076" y="5"/>
                    </a:lnTo>
                    <a:cubicBezTo>
                      <a:pt x="4075" y="5"/>
                      <a:pt x="4074" y="4"/>
                      <a:pt x="4074" y="3"/>
                    </a:cubicBezTo>
                    <a:cubicBezTo>
                      <a:pt x="4074" y="2"/>
                      <a:pt x="4075" y="1"/>
                      <a:pt x="4076" y="1"/>
                    </a:cubicBezTo>
                    <a:close/>
                    <a:moveTo>
                      <a:pt x="4084" y="1"/>
                    </a:moveTo>
                    <a:lnTo>
                      <a:pt x="4084" y="1"/>
                    </a:lnTo>
                    <a:cubicBezTo>
                      <a:pt x="4085" y="1"/>
                      <a:pt x="4086" y="2"/>
                      <a:pt x="4086" y="3"/>
                    </a:cubicBezTo>
                    <a:cubicBezTo>
                      <a:pt x="4086" y="4"/>
                      <a:pt x="4085" y="5"/>
                      <a:pt x="4084" y="5"/>
                    </a:cubicBezTo>
                    <a:lnTo>
                      <a:pt x="4084" y="5"/>
                    </a:lnTo>
                    <a:cubicBezTo>
                      <a:pt x="4083" y="5"/>
                      <a:pt x="4082" y="4"/>
                      <a:pt x="4082" y="3"/>
                    </a:cubicBezTo>
                    <a:cubicBezTo>
                      <a:pt x="4082" y="2"/>
                      <a:pt x="4083" y="1"/>
                      <a:pt x="4084" y="1"/>
                    </a:cubicBezTo>
                    <a:close/>
                    <a:moveTo>
                      <a:pt x="4092" y="1"/>
                    </a:moveTo>
                    <a:lnTo>
                      <a:pt x="4092" y="1"/>
                    </a:lnTo>
                    <a:cubicBezTo>
                      <a:pt x="4093" y="1"/>
                      <a:pt x="4094" y="2"/>
                      <a:pt x="4094" y="3"/>
                    </a:cubicBezTo>
                    <a:cubicBezTo>
                      <a:pt x="4094" y="4"/>
                      <a:pt x="4093" y="5"/>
                      <a:pt x="4092" y="5"/>
                    </a:cubicBezTo>
                    <a:lnTo>
                      <a:pt x="4092" y="5"/>
                    </a:lnTo>
                    <a:cubicBezTo>
                      <a:pt x="4091" y="5"/>
                      <a:pt x="4090" y="4"/>
                      <a:pt x="4090" y="3"/>
                    </a:cubicBezTo>
                    <a:cubicBezTo>
                      <a:pt x="4090" y="2"/>
                      <a:pt x="4091" y="1"/>
                      <a:pt x="4092" y="1"/>
                    </a:cubicBezTo>
                    <a:close/>
                    <a:moveTo>
                      <a:pt x="4100" y="1"/>
                    </a:moveTo>
                    <a:lnTo>
                      <a:pt x="4100" y="1"/>
                    </a:lnTo>
                    <a:cubicBezTo>
                      <a:pt x="4101" y="1"/>
                      <a:pt x="4102" y="2"/>
                      <a:pt x="4102" y="3"/>
                    </a:cubicBezTo>
                    <a:cubicBezTo>
                      <a:pt x="4102" y="4"/>
                      <a:pt x="4101" y="5"/>
                      <a:pt x="4100" y="5"/>
                    </a:cubicBezTo>
                    <a:lnTo>
                      <a:pt x="4100" y="5"/>
                    </a:lnTo>
                    <a:cubicBezTo>
                      <a:pt x="4099" y="5"/>
                      <a:pt x="4098" y="4"/>
                      <a:pt x="4098" y="3"/>
                    </a:cubicBezTo>
                    <a:cubicBezTo>
                      <a:pt x="4098" y="2"/>
                      <a:pt x="4099" y="1"/>
                      <a:pt x="4100" y="1"/>
                    </a:cubicBezTo>
                    <a:close/>
                    <a:moveTo>
                      <a:pt x="4108" y="1"/>
                    </a:moveTo>
                    <a:lnTo>
                      <a:pt x="4108" y="1"/>
                    </a:lnTo>
                    <a:cubicBezTo>
                      <a:pt x="4109" y="1"/>
                      <a:pt x="4110" y="2"/>
                      <a:pt x="4110" y="3"/>
                    </a:cubicBezTo>
                    <a:cubicBezTo>
                      <a:pt x="4110" y="4"/>
                      <a:pt x="4109" y="5"/>
                      <a:pt x="4108" y="5"/>
                    </a:cubicBezTo>
                    <a:lnTo>
                      <a:pt x="4108" y="5"/>
                    </a:lnTo>
                    <a:cubicBezTo>
                      <a:pt x="4107" y="5"/>
                      <a:pt x="4106" y="4"/>
                      <a:pt x="4106" y="3"/>
                    </a:cubicBezTo>
                    <a:cubicBezTo>
                      <a:pt x="4106" y="2"/>
                      <a:pt x="4107" y="1"/>
                      <a:pt x="4108" y="1"/>
                    </a:cubicBezTo>
                    <a:close/>
                    <a:moveTo>
                      <a:pt x="4116" y="1"/>
                    </a:moveTo>
                    <a:lnTo>
                      <a:pt x="4116" y="1"/>
                    </a:lnTo>
                    <a:cubicBezTo>
                      <a:pt x="4117" y="1"/>
                      <a:pt x="4118" y="2"/>
                      <a:pt x="4118" y="3"/>
                    </a:cubicBezTo>
                    <a:cubicBezTo>
                      <a:pt x="4118" y="4"/>
                      <a:pt x="4117" y="5"/>
                      <a:pt x="4116" y="5"/>
                    </a:cubicBezTo>
                    <a:lnTo>
                      <a:pt x="4116" y="5"/>
                    </a:lnTo>
                    <a:cubicBezTo>
                      <a:pt x="4115" y="5"/>
                      <a:pt x="4114" y="4"/>
                      <a:pt x="4114" y="3"/>
                    </a:cubicBezTo>
                    <a:cubicBezTo>
                      <a:pt x="4114" y="2"/>
                      <a:pt x="4115" y="1"/>
                      <a:pt x="4116" y="1"/>
                    </a:cubicBezTo>
                    <a:close/>
                    <a:moveTo>
                      <a:pt x="4124" y="1"/>
                    </a:moveTo>
                    <a:lnTo>
                      <a:pt x="4124" y="1"/>
                    </a:lnTo>
                    <a:cubicBezTo>
                      <a:pt x="4125" y="1"/>
                      <a:pt x="4126" y="2"/>
                      <a:pt x="4126" y="3"/>
                    </a:cubicBezTo>
                    <a:cubicBezTo>
                      <a:pt x="4126" y="4"/>
                      <a:pt x="4125" y="5"/>
                      <a:pt x="4124" y="5"/>
                    </a:cubicBezTo>
                    <a:lnTo>
                      <a:pt x="4124" y="5"/>
                    </a:lnTo>
                    <a:cubicBezTo>
                      <a:pt x="4123" y="5"/>
                      <a:pt x="4122" y="4"/>
                      <a:pt x="4122" y="3"/>
                    </a:cubicBezTo>
                    <a:cubicBezTo>
                      <a:pt x="4122" y="2"/>
                      <a:pt x="4123" y="1"/>
                      <a:pt x="4124" y="1"/>
                    </a:cubicBezTo>
                    <a:close/>
                    <a:moveTo>
                      <a:pt x="4132" y="1"/>
                    </a:moveTo>
                    <a:lnTo>
                      <a:pt x="4132" y="1"/>
                    </a:lnTo>
                    <a:cubicBezTo>
                      <a:pt x="4133" y="1"/>
                      <a:pt x="4134" y="2"/>
                      <a:pt x="4134" y="3"/>
                    </a:cubicBezTo>
                    <a:cubicBezTo>
                      <a:pt x="4134" y="4"/>
                      <a:pt x="4133" y="5"/>
                      <a:pt x="4132" y="5"/>
                    </a:cubicBezTo>
                    <a:lnTo>
                      <a:pt x="4132" y="5"/>
                    </a:lnTo>
                    <a:cubicBezTo>
                      <a:pt x="4131" y="5"/>
                      <a:pt x="4130" y="4"/>
                      <a:pt x="4130" y="3"/>
                    </a:cubicBezTo>
                    <a:cubicBezTo>
                      <a:pt x="4130" y="2"/>
                      <a:pt x="4131" y="1"/>
                      <a:pt x="4132" y="1"/>
                    </a:cubicBezTo>
                    <a:close/>
                    <a:moveTo>
                      <a:pt x="4140" y="1"/>
                    </a:moveTo>
                    <a:lnTo>
                      <a:pt x="4140" y="1"/>
                    </a:lnTo>
                    <a:cubicBezTo>
                      <a:pt x="4141" y="1"/>
                      <a:pt x="4142" y="2"/>
                      <a:pt x="4142" y="3"/>
                    </a:cubicBezTo>
                    <a:cubicBezTo>
                      <a:pt x="4142" y="4"/>
                      <a:pt x="4141" y="5"/>
                      <a:pt x="4140" y="5"/>
                    </a:cubicBezTo>
                    <a:lnTo>
                      <a:pt x="4140" y="5"/>
                    </a:lnTo>
                    <a:cubicBezTo>
                      <a:pt x="4139" y="5"/>
                      <a:pt x="4138" y="4"/>
                      <a:pt x="4138" y="3"/>
                    </a:cubicBezTo>
                    <a:cubicBezTo>
                      <a:pt x="4138" y="2"/>
                      <a:pt x="4139" y="1"/>
                      <a:pt x="4140" y="1"/>
                    </a:cubicBezTo>
                    <a:close/>
                    <a:moveTo>
                      <a:pt x="4148" y="1"/>
                    </a:moveTo>
                    <a:lnTo>
                      <a:pt x="4148" y="1"/>
                    </a:lnTo>
                    <a:cubicBezTo>
                      <a:pt x="4149" y="1"/>
                      <a:pt x="4150" y="2"/>
                      <a:pt x="4150" y="3"/>
                    </a:cubicBezTo>
                    <a:cubicBezTo>
                      <a:pt x="4150" y="4"/>
                      <a:pt x="4149" y="5"/>
                      <a:pt x="4148" y="5"/>
                    </a:cubicBezTo>
                    <a:lnTo>
                      <a:pt x="4148" y="5"/>
                    </a:lnTo>
                    <a:cubicBezTo>
                      <a:pt x="4147" y="5"/>
                      <a:pt x="4146" y="4"/>
                      <a:pt x="4146" y="3"/>
                    </a:cubicBezTo>
                    <a:cubicBezTo>
                      <a:pt x="4146" y="2"/>
                      <a:pt x="4147" y="1"/>
                      <a:pt x="4148" y="1"/>
                    </a:cubicBezTo>
                    <a:close/>
                    <a:moveTo>
                      <a:pt x="4156" y="1"/>
                    </a:moveTo>
                    <a:lnTo>
                      <a:pt x="4156" y="1"/>
                    </a:lnTo>
                    <a:cubicBezTo>
                      <a:pt x="4157" y="1"/>
                      <a:pt x="4158" y="2"/>
                      <a:pt x="4158" y="3"/>
                    </a:cubicBezTo>
                    <a:cubicBezTo>
                      <a:pt x="4158" y="4"/>
                      <a:pt x="4157" y="5"/>
                      <a:pt x="4156" y="5"/>
                    </a:cubicBezTo>
                    <a:lnTo>
                      <a:pt x="4156" y="5"/>
                    </a:lnTo>
                    <a:cubicBezTo>
                      <a:pt x="4155" y="5"/>
                      <a:pt x="4154" y="4"/>
                      <a:pt x="4154" y="3"/>
                    </a:cubicBezTo>
                    <a:cubicBezTo>
                      <a:pt x="4154" y="2"/>
                      <a:pt x="4155" y="1"/>
                      <a:pt x="4156" y="1"/>
                    </a:cubicBezTo>
                    <a:close/>
                    <a:moveTo>
                      <a:pt x="4164" y="1"/>
                    </a:moveTo>
                    <a:lnTo>
                      <a:pt x="4164" y="1"/>
                    </a:lnTo>
                    <a:cubicBezTo>
                      <a:pt x="4165" y="1"/>
                      <a:pt x="4166" y="2"/>
                      <a:pt x="4166" y="3"/>
                    </a:cubicBezTo>
                    <a:cubicBezTo>
                      <a:pt x="4166" y="4"/>
                      <a:pt x="4165" y="5"/>
                      <a:pt x="4164" y="5"/>
                    </a:cubicBezTo>
                    <a:lnTo>
                      <a:pt x="4164" y="5"/>
                    </a:lnTo>
                    <a:cubicBezTo>
                      <a:pt x="4163" y="5"/>
                      <a:pt x="4162" y="4"/>
                      <a:pt x="4162" y="3"/>
                    </a:cubicBezTo>
                    <a:cubicBezTo>
                      <a:pt x="4162" y="2"/>
                      <a:pt x="4163" y="1"/>
                      <a:pt x="4164" y="1"/>
                    </a:cubicBezTo>
                    <a:close/>
                    <a:moveTo>
                      <a:pt x="4172" y="1"/>
                    </a:moveTo>
                    <a:lnTo>
                      <a:pt x="4172" y="1"/>
                    </a:lnTo>
                    <a:cubicBezTo>
                      <a:pt x="4173" y="1"/>
                      <a:pt x="4174" y="2"/>
                      <a:pt x="4174" y="3"/>
                    </a:cubicBezTo>
                    <a:cubicBezTo>
                      <a:pt x="4174" y="4"/>
                      <a:pt x="4173" y="5"/>
                      <a:pt x="4172" y="5"/>
                    </a:cubicBezTo>
                    <a:lnTo>
                      <a:pt x="4172" y="5"/>
                    </a:lnTo>
                    <a:cubicBezTo>
                      <a:pt x="4171" y="5"/>
                      <a:pt x="4170" y="4"/>
                      <a:pt x="4170" y="3"/>
                    </a:cubicBezTo>
                    <a:cubicBezTo>
                      <a:pt x="4170" y="2"/>
                      <a:pt x="4171" y="1"/>
                      <a:pt x="4172" y="1"/>
                    </a:cubicBezTo>
                    <a:close/>
                    <a:moveTo>
                      <a:pt x="4180" y="1"/>
                    </a:moveTo>
                    <a:lnTo>
                      <a:pt x="4180" y="1"/>
                    </a:lnTo>
                    <a:cubicBezTo>
                      <a:pt x="4181" y="1"/>
                      <a:pt x="4182" y="2"/>
                      <a:pt x="4182" y="3"/>
                    </a:cubicBezTo>
                    <a:cubicBezTo>
                      <a:pt x="4182" y="4"/>
                      <a:pt x="4181" y="5"/>
                      <a:pt x="4180" y="5"/>
                    </a:cubicBezTo>
                    <a:lnTo>
                      <a:pt x="4180" y="5"/>
                    </a:lnTo>
                    <a:cubicBezTo>
                      <a:pt x="4179" y="5"/>
                      <a:pt x="4178" y="4"/>
                      <a:pt x="4178" y="3"/>
                    </a:cubicBezTo>
                    <a:cubicBezTo>
                      <a:pt x="4178" y="2"/>
                      <a:pt x="4179" y="1"/>
                      <a:pt x="4180" y="1"/>
                    </a:cubicBezTo>
                    <a:close/>
                    <a:moveTo>
                      <a:pt x="4188" y="1"/>
                    </a:moveTo>
                    <a:lnTo>
                      <a:pt x="4188" y="1"/>
                    </a:lnTo>
                    <a:cubicBezTo>
                      <a:pt x="4189" y="1"/>
                      <a:pt x="4190" y="2"/>
                      <a:pt x="4190" y="3"/>
                    </a:cubicBezTo>
                    <a:cubicBezTo>
                      <a:pt x="4190" y="4"/>
                      <a:pt x="4189" y="5"/>
                      <a:pt x="4188" y="5"/>
                    </a:cubicBezTo>
                    <a:lnTo>
                      <a:pt x="4188" y="5"/>
                    </a:lnTo>
                    <a:cubicBezTo>
                      <a:pt x="4187" y="5"/>
                      <a:pt x="4186" y="4"/>
                      <a:pt x="4186" y="3"/>
                    </a:cubicBezTo>
                    <a:cubicBezTo>
                      <a:pt x="4186" y="2"/>
                      <a:pt x="4187" y="1"/>
                      <a:pt x="4188" y="1"/>
                    </a:cubicBezTo>
                    <a:close/>
                    <a:moveTo>
                      <a:pt x="4196" y="1"/>
                    </a:moveTo>
                    <a:lnTo>
                      <a:pt x="4196" y="1"/>
                    </a:lnTo>
                    <a:cubicBezTo>
                      <a:pt x="4197" y="1"/>
                      <a:pt x="4198" y="2"/>
                      <a:pt x="4198" y="3"/>
                    </a:cubicBezTo>
                    <a:cubicBezTo>
                      <a:pt x="4198" y="4"/>
                      <a:pt x="4197" y="5"/>
                      <a:pt x="4196" y="5"/>
                    </a:cubicBezTo>
                    <a:lnTo>
                      <a:pt x="4196" y="5"/>
                    </a:lnTo>
                    <a:cubicBezTo>
                      <a:pt x="4195" y="5"/>
                      <a:pt x="4194" y="4"/>
                      <a:pt x="4194" y="3"/>
                    </a:cubicBezTo>
                    <a:cubicBezTo>
                      <a:pt x="4194" y="2"/>
                      <a:pt x="4195" y="1"/>
                      <a:pt x="4196" y="1"/>
                    </a:cubicBezTo>
                    <a:close/>
                    <a:moveTo>
                      <a:pt x="4204" y="1"/>
                    </a:moveTo>
                    <a:lnTo>
                      <a:pt x="4204" y="1"/>
                    </a:lnTo>
                    <a:cubicBezTo>
                      <a:pt x="4205" y="1"/>
                      <a:pt x="4206" y="2"/>
                      <a:pt x="4206" y="3"/>
                    </a:cubicBezTo>
                    <a:cubicBezTo>
                      <a:pt x="4206" y="4"/>
                      <a:pt x="4205" y="5"/>
                      <a:pt x="4204" y="5"/>
                    </a:cubicBezTo>
                    <a:lnTo>
                      <a:pt x="4204" y="5"/>
                    </a:lnTo>
                    <a:cubicBezTo>
                      <a:pt x="4203" y="5"/>
                      <a:pt x="4202" y="4"/>
                      <a:pt x="4202" y="3"/>
                    </a:cubicBezTo>
                    <a:cubicBezTo>
                      <a:pt x="4202" y="2"/>
                      <a:pt x="4203" y="1"/>
                      <a:pt x="4204" y="1"/>
                    </a:cubicBezTo>
                    <a:close/>
                    <a:moveTo>
                      <a:pt x="4212" y="1"/>
                    </a:moveTo>
                    <a:lnTo>
                      <a:pt x="4212" y="1"/>
                    </a:lnTo>
                    <a:cubicBezTo>
                      <a:pt x="4213" y="1"/>
                      <a:pt x="4214" y="2"/>
                      <a:pt x="4214" y="3"/>
                    </a:cubicBezTo>
                    <a:cubicBezTo>
                      <a:pt x="4214" y="4"/>
                      <a:pt x="4213" y="5"/>
                      <a:pt x="4212" y="5"/>
                    </a:cubicBezTo>
                    <a:lnTo>
                      <a:pt x="4212" y="5"/>
                    </a:lnTo>
                    <a:cubicBezTo>
                      <a:pt x="4211" y="5"/>
                      <a:pt x="4210" y="4"/>
                      <a:pt x="4210" y="3"/>
                    </a:cubicBezTo>
                    <a:cubicBezTo>
                      <a:pt x="4210" y="2"/>
                      <a:pt x="4211" y="1"/>
                      <a:pt x="4212" y="1"/>
                    </a:cubicBezTo>
                    <a:close/>
                    <a:moveTo>
                      <a:pt x="4220" y="1"/>
                    </a:moveTo>
                    <a:lnTo>
                      <a:pt x="4220" y="1"/>
                    </a:lnTo>
                    <a:cubicBezTo>
                      <a:pt x="4221" y="1"/>
                      <a:pt x="4222" y="2"/>
                      <a:pt x="4222" y="3"/>
                    </a:cubicBezTo>
                    <a:cubicBezTo>
                      <a:pt x="4222" y="4"/>
                      <a:pt x="4221" y="5"/>
                      <a:pt x="4220" y="5"/>
                    </a:cubicBezTo>
                    <a:lnTo>
                      <a:pt x="4220" y="5"/>
                    </a:lnTo>
                    <a:cubicBezTo>
                      <a:pt x="4219" y="5"/>
                      <a:pt x="4218" y="4"/>
                      <a:pt x="4218" y="3"/>
                    </a:cubicBezTo>
                    <a:cubicBezTo>
                      <a:pt x="4218" y="2"/>
                      <a:pt x="4219" y="1"/>
                      <a:pt x="4220" y="1"/>
                    </a:cubicBezTo>
                    <a:close/>
                    <a:moveTo>
                      <a:pt x="4228" y="1"/>
                    </a:moveTo>
                    <a:lnTo>
                      <a:pt x="4228" y="1"/>
                    </a:lnTo>
                    <a:cubicBezTo>
                      <a:pt x="4229" y="1"/>
                      <a:pt x="4230" y="2"/>
                      <a:pt x="4230" y="3"/>
                    </a:cubicBezTo>
                    <a:cubicBezTo>
                      <a:pt x="4230" y="4"/>
                      <a:pt x="4229" y="5"/>
                      <a:pt x="4228" y="5"/>
                    </a:cubicBezTo>
                    <a:lnTo>
                      <a:pt x="4228" y="5"/>
                    </a:lnTo>
                    <a:cubicBezTo>
                      <a:pt x="4227" y="5"/>
                      <a:pt x="4226" y="4"/>
                      <a:pt x="4226" y="3"/>
                    </a:cubicBezTo>
                    <a:cubicBezTo>
                      <a:pt x="4226" y="2"/>
                      <a:pt x="4227" y="1"/>
                      <a:pt x="4228" y="1"/>
                    </a:cubicBezTo>
                    <a:close/>
                    <a:moveTo>
                      <a:pt x="4236" y="1"/>
                    </a:moveTo>
                    <a:lnTo>
                      <a:pt x="4236" y="1"/>
                    </a:lnTo>
                    <a:cubicBezTo>
                      <a:pt x="4237" y="1"/>
                      <a:pt x="4238" y="2"/>
                      <a:pt x="4238" y="3"/>
                    </a:cubicBezTo>
                    <a:cubicBezTo>
                      <a:pt x="4238" y="4"/>
                      <a:pt x="4237" y="5"/>
                      <a:pt x="4236" y="5"/>
                    </a:cubicBezTo>
                    <a:lnTo>
                      <a:pt x="4236" y="5"/>
                    </a:lnTo>
                    <a:cubicBezTo>
                      <a:pt x="4235" y="5"/>
                      <a:pt x="4234" y="4"/>
                      <a:pt x="4234" y="3"/>
                    </a:cubicBezTo>
                    <a:cubicBezTo>
                      <a:pt x="4234" y="2"/>
                      <a:pt x="4235" y="1"/>
                      <a:pt x="4236" y="1"/>
                    </a:cubicBezTo>
                    <a:close/>
                    <a:moveTo>
                      <a:pt x="4244" y="1"/>
                    </a:moveTo>
                    <a:lnTo>
                      <a:pt x="4244" y="1"/>
                    </a:lnTo>
                    <a:cubicBezTo>
                      <a:pt x="4245" y="1"/>
                      <a:pt x="4246" y="2"/>
                      <a:pt x="4246" y="3"/>
                    </a:cubicBezTo>
                    <a:cubicBezTo>
                      <a:pt x="4246" y="4"/>
                      <a:pt x="4245" y="5"/>
                      <a:pt x="4244" y="5"/>
                    </a:cubicBezTo>
                    <a:lnTo>
                      <a:pt x="4244" y="5"/>
                    </a:lnTo>
                    <a:cubicBezTo>
                      <a:pt x="4243" y="5"/>
                      <a:pt x="4242" y="4"/>
                      <a:pt x="4242" y="3"/>
                    </a:cubicBezTo>
                    <a:cubicBezTo>
                      <a:pt x="4242" y="2"/>
                      <a:pt x="4243" y="1"/>
                      <a:pt x="4244" y="1"/>
                    </a:cubicBezTo>
                    <a:close/>
                    <a:moveTo>
                      <a:pt x="4252" y="1"/>
                    </a:moveTo>
                    <a:lnTo>
                      <a:pt x="4252" y="1"/>
                    </a:lnTo>
                    <a:cubicBezTo>
                      <a:pt x="4253" y="1"/>
                      <a:pt x="4254" y="2"/>
                      <a:pt x="4254" y="3"/>
                    </a:cubicBezTo>
                    <a:cubicBezTo>
                      <a:pt x="4254" y="4"/>
                      <a:pt x="4253" y="5"/>
                      <a:pt x="4252" y="5"/>
                    </a:cubicBezTo>
                    <a:lnTo>
                      <a:pt x="4252" y="5"/>
                    </a:lnTo>
                    <a:cubicBezTo>
                      <a:pt x="4251" y="5"/>
                      <a:pt x="4250" y="4"/>
                      <a:pt x="4250" y="3"/>
                    </a:cubicBezTo>
                    <a:cubicBezTo>
                      <a:pt x="4250" y="2"/>
                      <a:pt x="4251" y="1"/>
                      <a:pt x="4252" y="1"/>
                    </a:cubicBezTo>
                    <a:close/>
                    <a:moveTo>
                      <a:pt x="4260" y="1"/>
                    </a:moveTo>
                    <a:lnTo>
                      <a:pt x="4260" y="1"/>
                    </a:lnTo>
                    <a:cubicBezTo>
                      <a:pt x="4261" y="1"/>
                      <a:pt x="4262" y="2"/>
                      <a:pt x="4262" y="3"/>
                    </a:cubicBezTo>
                    <a:cubicBezTo>
                      <a:pt x="4262" y="4"/>
                      <a:pt x="4261" y="5"/>
                      <a:pt x="4260" y="5"/>
                    </a:cubicBezTo>
                    <a:lnTo>
                      <a:pt x="4260" y="5"/>
                    </a:lnTo>
                    <a:cubicBezTo>
                      <a:pt x="4259" y="5"/>
                      <a:pt x="4258" y="4"/>
                      <a:pt x="4258" y="3"/>
                    </a:cubicBezTo>
                    <a:cubicBezTo>
                      <a:pt x="4258" y="2"/>
                      <a:pt x="4259" y="1"/>
                      <a:pt x="4260" y="1"/>
                    </a:cubicBezTo>
                    <a:close/>
                    <a:moveTo>
                      <a:pt x="4268" y="1"/>
                    </a:moveTo>
                    <a:lnTo>
                      <a:pt x="4268" y="1"/>
                    </a:lnTo>
                    <a:cubicBezTo>
                      <a:pt x="4269" y="1"/>
                      <a:pt x="4270" y="2"/>
                      <a:pt x="4270" y="3"/>
                    </a:cubicBezTo>
                    <a:cubicBezTo>
                      <a:pt x="4270" y="4"/>
                      <a:pt x="4269" y="5"/>
                      <a:pt x="4268" y="5"/>
                    </a:cubicBezTo>
                    <a:lnTo>
                      <a:pt x="4268" y="5"/>
                    </a:lnTo>
                    <a:cubicBezTo>
                      <a:pt x="4267" y="5"/>
                      <a:pt x="4266" y="4"/>
                      <a:pt x="4266" y="3"/>
                    </a:cubicBezTo>
                    <a:cubicBezTo>
                      <a:pt x="4266" y="2"/>
                      <a:pt x="4267" y="1"/>
                      <a:pt x="4268" y="1"/>
                    </a:cubicBezTo>
                    <a:close/>
                    <a:moveTo>
                      <a:pt x="4276" y="1"/>
                    </a:moveTo>
                    <a:lnTo>
                      <a:pt x="4276" y="1"/>
                    </a:lnTo>
                    <a:cubicBezTo>
                      <a:pt x="4277" y="1"/>
                      <a:pt x="4278" y="2"/>
                      <a:pt x="4278" y="3"/>
                    </a:cubicBezTo>
                    <a:cubicBezTo>
                      <a:pt x="4278" y="4"/>
                      <a:pt x="4277" y="5"/>
                      <a:pt x="4276" y="5"/>
                    </a:cubicBezTo>
                    <a:lnTo>
                      <a:pt x="4276" y="5"/>
                    </a:lnTo>
                    <a:cubicBezTo>
                      <a:pt x="4275" y="5"/>
                      <a:pt x="4274" y="4"/>
                      <a:pt x="4274" y="3"/>
                    </a:cubicBezTo>
                    <a:cubicBezTo>
                      <a:pt x="4274" y="2"/>
                      <a:pt x="4275" y="1"/>
                      <a:pt x="4276" y="1"/>
                    </a:cubicBezTo>
                    <a:close/>
                    <a:moveTo>
                      <a:pt x="4284" y="1"/>
                    </a:moveTo>
                    <a:lnTo>
                      <a:pt x="4284" y="1"/>
                    </a:lnTo>
                    <a:cubicBezTo>
                      <a:pt x="4285" y="1"/>
                      <a:pt x="4286" y="2"/>
                      <a:pt x="4286" y="3"/>
                    </a:cubicBezTo>
                    <a:cubicBezTo>
                      <a:pt x="4286" y="4"/>
                      <a:pt x="4285" y="5"/>
                      <a:pt x="4284" y="5"/>
                    </a:cubicBezTo>
                    <a:lnTo>
                      <a:pt x="4284" y="5"/>
                    </a:lnTo>
                    <a:cubicBezTo>
                      <a:pt x="4283" y="5"/>
                      <a:pt x="4282" y="4"/>
                      <a:pt x="4282" y="3"/>
                    </a:cubicBezTo>
                    <a:cubicBezTo>
                      <a:pt x="4282" y="2"/>
                      <a:pt x="4283" y="1"/>
                      <a:pt x="4284" y="1"/>
                    </a:cubicBezTo>
                    <a:close/>
                    <a:moveTo>
                      <a:pt x="4292" y="1"/>
                    </a:moveTo>
                    <a:lnTo>
                      <a:pt x="4292" y="1"/>
                    </a:lnTo>
                    <a:cubicBezTo>
                      <a:pt x="4293" y="1"/>
                      <a:pt x="4294" y="2"/>
                      <a:pt x="4294" y="3"/>
                    </a:cubicBezTo>
                    <a:cubicBezTo>
                      <a:pt x="4294" y="4"/>
                      <a:pt x="4293" y="5"/>
                      <a:pt x="4292" y="5"/>
                    </a:cubicBezTo>
                    <a:lnTo>
                      <a:pt x="4292" y="5"/>
                    </a:lnTo>
                    <a:cubicBezTo>
                      <a:pt x="4291" y="5"/>
                      <a:pt x="4290" y="4"/>
                      <a:pt x="4290" y="3"/>
                    </a:cubicBezTo>
                    <a:cubicBezTo>
                      <a:pt x="4290" y="2"/>
                      <a:pt x="4291" y="1"/>
                      <a:pt x="4292" y="1"/>
                    </a:cubicBezTo>
                    <a:close/>
                    <a:moveTo>
                      <a:pt x="4300" y="1"/>
                    </a:moveTo>
                    <a:lnTo>
                      <a:pt x="4300" y="1"/>
                    </a:lnTo>
                    <a:cubicBezTo>
                      <a:pt x="4301" y="1"/>
                      <a:pt x="4302" y="2"/>
                      <a:pt x="4302" y="3"/>
                    </a:cubicBezTo>
                    <a:cubicBezTo>
                      <a:pt x="4302" y="4"/>
                      <a:pt x="4301" y="5"/>
                      <a:pt x="4300" y="5"/>
                    </a:cubicBezTo>
                    <a:lnTo>
                      <a:pt x="4300" y="5"/>
                    </a:lnTo>
                    <a:cubicBezTo>
                      <a:pt x="4299" y="5"/>
                      <a:pt x="4298" y="4"/>
                      <a:pt x="4298" y="3"/>
                    </a:cubicBezTo>
                    <a:cubicBezTo>
                      <a:pt x="4298" y="2"/>
                      <a:pt x="4299" y="1"/>
                      <a:pt x="4300" y="1"/>
                    </a:cubicBezTo>
                    <a:close/>
                    <a:moveTo>
                      <a:pt x="4308" y="1"/>
                    </a:moveTo>
                    <a:lnTo>
                      <a:pt x="4308" y="1"/>
                    </a:lnTo>
                    <a:cubicBezTo>
                      <a:pt x="4309" y="1"/>
                      <a:pt x="4310" y="2"/>
                      <a:pt x="4310" y="3"/>
                    </a:cubicBezTo>
                    <a:cubicBezTo>
                      <a:pt x="4310" y="4"/>
                      <a:pt x="4309" y="5"/>
                      <a:pt x="4308" y="5"/>
                    </a:cubicBezTo>
                    <a:lnTo>
                      <a:pt x="4308" y="5"/>
                    </a:lnTo>
                    <a:cubicBezTo>
                      <a:pt x="4307" y="5"/>
                      <a:pt x="4306" y="4"/>
                      <a:pt x="4306" y="3"/>
                    </a:cubicBezTo>
                    <a:cubicBezTo>
                      <a:pt x="4306" y="2"/>
                      <a:pt x="4307" y="1"/>
                      <a:pt x="4308" y="1"/>
                    </a:cubicBezTo>
                    <a:close/>
                    <a:moveTo>
                      <a:pt x="4316" y="1"/>
                    </a:moveTo>
                    <a:lnTo>
                      <a:pt x="4316" y="1"/>
                    </a:lnTo>
                    <a:cubicBezTo>
                      <a:pt x="4317" y="1"/>
                      <a:pt x="4318" y="2"/>
                      <a:pt x="4318" y="3"/>
                    </a:cubicBezTo>
                    <a:cubicBezTo>
                      <a:pt x="4318" y="4"/>
                      <a:pt x="4317" y="5"/>
                      <a:pt x="4316" y="5"/>
                    </a:cubicBezTo>
                    <a:lnTo>
                      <a:pt x="4316" y="5"/>
                    </a:lnTo>
                    <a:cubicBezTo>
                      <a:pt x="4315" y="5"/>
                      <a:pt x="4314" y="4"/>
                      <a:pt x="4314" y="3"/>
                    </a:cubicBezTo>
                    <a:cubicBezTo>
                      <a:pt x="4314" y="2"/>
                      <a:pt x="4315" y="1"/>
                      <a:pt x="4316" y="1"/>
                    </a:cubicBezTo>
                    <a:close/>
                    <a:moveTo>
                      <a:pt x="4324" y="1"/>
                    </a:moveTo>
                    <a:lnTo>
                      <a:pt x="4324" y="1"/>
                    </a:lnTo>
                    <a:cubicBezTo>
                      <a:pt x="4325" y="1"/>
                      <a:pt x="4326" y="2"/>
                      <a:pt x="4326" y="3"/>
                    </a:cubicBezTo>
                    <a:cubicBezTo>
                      <a:pt x="4326" y="4"/>
                      <a:pt x="4325" y="5"/>
                      <a:pt x="4324" y="5"/>
                    </a:cubicBezTo>
                    <a:lnTo>
                      <a:pt x="4324" y="5"/>
                    </a:lnTo>
                    <a:cubicBezTo>
                      <a:pt x="4323" y="5"/>
                      <a:pt x="4322" y="4"/>
                      <a:pt x="4322" y="3"/>
                    </a:cubicBezTo>
                    <a:cubicBezTo>
                      <a:pt x="4322" y="2"/>
                      <a:pt x="4323" y="1"/>
                      <a:pt x="4324" y="1"/>
                    </a:cubicBezTo>
                    <a:close/>
                    <a:moveTo>
                      <a:pt x="4332" y="1"/>
                    </a:moveTo>
                    <a:lnTo>
                      <a:pt x="4332" y="1"/>
                    </a:lnTo>
                    <a:cubicBezTo>
                      <a:pt x="4333" y="1"/>
                      <a:pt x="4334" y="2"/>
                      <a:pt x="4334" y="3"/>
                    </a:cubicBezTo>
                    <a:cubicBezTo>
                      <a:pt x="4334" y="4"/>
                      <a:pt x="4333" y="5"/>
                      <a:pt x="4332" y="5"/>
                    </a:cubicBezTo>
                    <a:lnTo>
                      <a:pt x="4332" y="5"/>
                    </a:lnTo>
                    <a:cubicBezTo>
                      <a:pt x="4331" y="5"/>
                      <a:pt x="4330" y="4"/>
                      <a:pt x="4330" y="3"/>
                    </a:cubicBezTo>
                    <a:cubicBezTo>
                      <a:pt x="4330" y="2"/>
                      <a:pt x="4331" y="1"/>
                      <a:pt x="4332" y="1"/>
                    </a:cubicBezTo>
                    <a:close/>
                    <a:moveTo>
                      <a:pt x="4340" y="1"/>
                    </a:moveTo>
                    <a:lnTo>
                      <a:pt x="4340" y="1"/>
                    </a:lnTo>
                    <a:cubicBezTo>
                      <a:pt x="4341" y="1"/>
                      <a:pt x="4342" y="2"/>
                      <a:pt x="4342" y="3"/>
                    </a:cubicBezTo>
                    <a:cubicBezTo>
                      <a:pt x="4342" y="4"/>
                      <a:pt x="4341" y="5"/>
                      <a:pt x="4340" y="5"/>
                    </a:cubicBezTo>
                    <a:lnTo>
                      <a:pt x="4340" y="5"/>
                    </a:lnTo>
                    <a:cubicBezTo>
                      <a:pt x="4339" y="5"/>
                      <a:pt x="4338" y="4"/>
                      <a:pt x="4338" y="3"/>
                    </a:cubicBezTo>
                    <a:cubicBezTo>
                      <a:pt x="4338" y="2"/>
                      <a:pt x="4339" y="1"/>
                      <a:pt x="4340" y="1"/>
                    </a:cubicBezTo>
                    <a:close/>
                    <a:moveTo>
                      <a:pt x="4348" y="1"/>
                    </a:moveTo>
                    <a:lnTo>
                      <a:pt x="4348" y="1"/>
                    </a:lnTo>
                    <a:cubicBezTo>
                      <a:pt x="4349" y="1"/>
                      <a:pt x="4350" y="2"/>
                      <a:pt x="4350" y="3"/>
                    </a:cubicBezTo>
                    <a:cubicBezTo>
                      <a:pt x="4350" y="4"/>
                      <a:pt x="4349" y="5"/>
                      <a:pt x="4348" y="5"/>
                    </a:cubicBezTo>
                    <a:lnTo>
                      <a:pt x="4348" y="5"/>
                    </a:lnTo>
                    <a:cubicBezTo>
                      <a:pt x="4347" y="5"/>
                      <a:pt x="4346" y="4"/>
                      <a:pt x="4346" y="3"/>
                    </a:cubicBezTo>
                    <a:cubicBezTo>
                      <a:pt x="4346" y="2"/>
                      <a:pt x="4347" y="1"/>
                      <a:pt x="4348" y="1"/>
                    </a:cubicBezTo>
                    <a:close/>
                    <a:moveTo>
                      <a:pt x="4356" y="1"/>
                    </a:moveTo>
                    <a:lnTo>
                      <a:pt x="4356" y="1"/>
                    </a:lnTo>
                    <a:cubicBezTo>
                      <a:pt x="4357" y="1"/>
                      <a:pt x="4358" y="2"/>
                      <a:pt x="4358" y="3"/>
                    </a:cubicBezTo>
                    <a:cubicBezTo>
                      <a:pt x="4358" y="4"/>
                      <a:pt x="4357" y="5"/>
                      <a:pt x="4356" y="5"/>
                    </a:cubicBezTo>
                    <a:lnTo>
                      <a:pt x="4356" y="5"/>
                    </a:lnTo>
                    <a:cubicBezTo>
                      <a:pt x="4355" y="5"/>
                      <a:pt x="4354" y="4"/>
                      <a:pt x="4354" y="3"/>
                    </a:cubicBezTo>
                    <a:cubicBezTo>
                      <a:pt x="4354" y="2"/>
                      <a:pt x="4355" y="1"/>
                      <a:pt x="4356" y="1"/>
                    </a:cubicBezTo>
                    <a:close/>
                    <a:moveTo>
                      <a:pt x="4364" y="1"/>
                    </a:moveTo>
                    <a:lnTo>
                      <a:pt x="4364" y="1"/>
                    </a:lnTo>
                    <a:cubicBezTo>
                      <a:pt x="4365" y="1"/>
                      <a:pt x="4366" y="2"/>
                      <a:pt x="4366" y="3"/>
                    </a:cubicBezTo>
                    <a:cubicBezTo>
                      <a:pt x="4366" y="4"/>
                      <a:pt x="4365" y="5"/>
                      <a:pt x="4364" y="5"/>
                    </a:cubicBezTo>
                    <a:lnTo>
                      <a:pt x="4364" y="5"/>
                    </a:lnTo>
                    <a:cubicBezTo>
                      <a:pt x="4363" y="5"/>
                      <a:pt x="4362" y="4"/>
                      <a:pt x="4362" y="3"/>
                    </a:cubicBezTo>
                    <a:cubicBezTo>
                      <a:pt x="4362" y="2"/>
                      <a:pt x="4363" y="1"/>
                      <a:pt x="4364" y="1"/>
                    </a:cubicBezTo>
                    <a:close/>
                    <a:moveTo>
                      <a:pt x="4372" y="1"/>
                    </a:moveTo>
                    <a:lnTo>
                      <a:pt x="4372" y="1"/>
                    </a:lnTo>
                    <a:cubicBezTo>
                      <a:pt x="4373" y="1"/>
                      <a:pt x="4374" y="2"/>
                      <a:pt x="4374" y="3"/>
                    </a:cubicBezTo>
                    <a:cubicBezTo>
                      <a:pt x="4374" y="4"/>
                      <a:pt x="4373" y="5"/>
                      <a:pt x="4372" y="5"/>
                    </a:cubicBezTo>
                    <a:lnTo>
                      <a:pt x="4372" y="5"/>
                    </a:lnTo>
                    <a:cubicBezTo>
                      <a:pt x="4371" y="5"/>
                      <a:pt x="4370" y="4"/>
                      <a:pt x="4370" y="3"/>
                    </a:cubicBezTo>
                    <a:cubicBezTo>
                      <a:pt x="4370" y="2"/>
                      <a:pt x="4371" y="1"/>
                      <a:pt x="4372" y="1"/>
                    </a:cubicBezTo>
                    <a:close/>
                    <a:moveTo>
                      <a:pt x="4380" y="1"/>
                    </a:moveTo>
                    <a:lnTo>
                      <a:pt x="4380" y="1"/>
                    </a:lnTo>
                    <a:cubicBezTo>
                      <a:pt x="4381" y="1"/>
                      <a:pt x="4382" y="2"/>
                      <a:pt x="4382" y="3"/>
                    </a:cubicBezTo>
                    <a:cubicBezTo>
                      <a:pt x="4382" y="4"/>
                      <a:pt x="4381" y="5"/>
                      <a:pt x="4380" y="5"/>
                    </a:cubicBezTo>
                    <a:lnTo>
                      <a:pt x="4380" y="5"/>
                    </a:lnTo>
                    <a:cubicBezTo>
                      <a:pt x="4379" y="5"/>
                      <a:pt x="4378" y="4"/>
                      <a:pt x="4378" y="3"/>
                    </a:cubicBezTo>
                    <a:cubicBezTo>
                      <a:pt x="4378" y="2"/>
                      <a:pt x="4379" y="1"/>
                      <a:pt x="4380" y="1"/>
                    </a:cubicBezTo>
                    <a:close/>
                    <a:moveTo>
                      <a:pt x="4388" y="1"/>
                    </a:moveTo>
                    <a:lnTo>
                      <a:pt x="4388" y="1"/>
                    </a:lnTo>
                    <a:cubicBezTo>
                      <a:pt x="4389" y="1"/>
                      <a:pt x="4390" y="2"/>
                      <a:pt x="4390" y="3"/>
                    </a:cubicBezTo>
                    <a:cubicBezTo>
                      <a:pt x="4390" y="4"/>
                      <a:pt x="4389" y="5"/>
                      <a:pt x="4388" y="5"/>
                    </a:cubicBezTo>
                    <a:lnTo>
                      <a:pt x="4388" y="5"/>
                    </a:lnTo>
                    <a:cubicBezTo>
                      <a:pt x="4387" y="5"/>
                      <a:pt x="4386" y="4"/>
                      <a:pt x="4386" y="3"/>
                    </a:cubicBezTo>
                    <a:cubicBezTo>
                      <a:pt x="4386" y="2"/>
                      <a:pt x="4387" y="1"/>
                      <a:pt x="4388" y="1"/>
                    </a:cubicBezTo>
                    <a:close/>
                    <a:moveTo>
                      <a:pt x="4396" y="1"/>
                    </a:moveTo>
                    <a:lnTo>
                      <a:pt x="4396" y="1"/>
                    </a:lnTo>
                    <a:cubicBezTo>
                      <a:pt x="4397" y="1"/>
                      <a:pt x="4398" y="2"/>
                      <a:pt x="4398" y="3"/>
                    </a:cubicBezTo>
                    <a:cubicBezTo>
                      <a:pt x="4398" y="4"/>
                      <a:pt x="4397" y="5"/>
                      <a:pt x="4396" y="5"/>
                    </a:cubicBezTo>
                    <a:lnTo>
                      <a:pt x="4396" y="5"/>
                    </a:lnTo>
                    <a:cubicBezTo>
                      <a:pt x="4395" y="5"/>
                      <a:pt x="4394" y="4"/>
                      <a:pt x="4394" y="3"/>
                    </a:cubicBezTo>
                    <a:cubicBezTo>
                      <a:pt x="4394" y="2"/>
                      <a:pt x="4395" y="1"/>
                      <a:pt x="4396" y="1"/>
                    </a:cubicBezTo>
                    <a:close/>
                    <a:moveTo>
                      <a:pt x="4404" y="1"/>
                    </a:moveTo>
                    <a:lnTo>
                      <a:pt x="4404" y="1"/>
                    </a:lnTo>
                    <a:cubicBezTo>
                      <a:pt x="4405" y="1"/>
                      <a:pt x="4406" y="2"/>
                      <a:pt x="4406" y="3"/>
                    </a:cubicBezTo>
                    <a:cubicBezTo>
                      <a:pt x="4406" y="4"/>
                      <a:pt x="4405" y="5"/>
                      <a:pt x="4404" y="5"/>
                    </a:cubicBezTo>
                    <a:lnTo>
                      <a:pt x="4404" y="5"/>
                    </a:lnTo>
                    <a:cubicBezTo>
                      <a:pt x="4403" y="5"/>
                      <a:pt x="4402" y="4"/>
                      <a:pt x="4402" y="3"/>
                    </a:cubicBezTo>
                    <a:cubicBezTo>
                      <a:pt x="4402" y="2"/>
                      <a:pt x="4403" y="1"/>
                      <a:pt x="4404" y="1"/>
                    </a:cubicBezTo>
                    <a:close/>
                    <a:moveTo>
                      <a:pt x="4412" y="1"/>
                    </a:moveTo>
                    <a:lnTo>
                      <a:pt x="4412" y="1"/>
                    </a:lnTo>
                    <a:cubicBezTo>
                      <a:pt x="4413" y="1"/>
                      <a:pt x="4414" y="2"/>
                      <a:pt x="4414" y="3"/>
                    </a:cubicBezTo>
                    <a:cubicBezTo>
                      <a:pt x="4414" y="4"/>
                      <a:pt x="4413" y="5"/>
                      <a:pt x="4412" y="5"/>
                    </a:cubicBezTo>
                    <a:lnTo>
                      <a:pt x="4412" y="5"/>
                    </a:lnTo>
                    <a:cubicBezTo>
                      <a:pt x="4411" y="5"/>
                      <a:pt x="4410" y="4"/>
                      <a:pt x="4410" y="3"/>
                    </a:cubicBezTo>
                    <a:cubicBezTo>
                      <a:pt x="4410" y="2"/>
                      <a:pt x="4411" y="1"/>
                      <a:pt x="4412" y="1"/>
                    </a:cubicBezTo>
                    <a:close/>
                    <a:moveTo>
                      <a:pt x="4420" y="1"/>
                    </a:moveTo>
                    <a:lnTo>
                      <a:pt x="4420" y="1"/>
                    </a:lnTo>
                    <a:cubicBezTo>
                      <a:pt x="4421" y="1"/>
                      <a:pt x="4422" y="2"/>
                      <a:pt x="4422" y="3"/>
                    </a:cubicBezTo>
                    <a:cubicBezTo>
                      <a:pt x="4422" y="4"/>
                      <a:pt x="4421" y="5"/>
                      <a:pt x="4420" y="5"/>
                    </a:cubicBezTo>
                    <a:lnTo>
                      <a:pt x="4420" y="5"/>
                    </a:lnTo>
                    <a:cubicBezTo>
                      <a:pt x="4419" y="5"/>
                      <a:pt x="4418" y="4"/>
                      <a:pt x="4418" y="3"/>
                    </a:cubicBezTo>
                    <a:cubicBezTo>
                      <a:pt x="4418" y="2"/>
                      <a:pt x="4419" y="1"/>
                      <a:pt x="4420" y="1"/>
                    </a:cubicBezTo>
                    <a:close/>
                    <a:moveTo>
                      <a:pt x="4428" y="1"/>
                    </a:moveTo>
                    <a:lnTo>
                      <a:pt x="4428" y="1"/>
                    </a:lnTo>
                    <a:cubicBezTo>
                      <a:pt x="4429" y="1"/>
                      <a:pt x="4430" y="2"/>
                      <a:pt x="4430" y="3"/>
                    </a:cubicBezTo>
                    <a:cubicBezTo>
                      <a:pt x="4430" y="4"/>
                      <a:pt x="4429" y="5"/>
                      <a:pt x="4428" y="5"/>
                    </a:cubicBezTo>
                    <a:lnTo>
                      <a:pt x="4428" y="5"/>
                    </a:lnTo>
                    <a:cubicBezTo>
                      <a:pt x="4427" y="5"/>
                      <a:pt x="4426" y="4"/>
                      <a:pt x="4426" y="3"/>
                    </a:cubicBezTo>
                    <a:cubicBezTo>
                      <a:pt x="4426" y="2"/>
                      <a:pt x="4427" y="1"/>
                      <a:pt x="4428" y="1"/>
                    </a:cubicBezTo>
                    <a:close/>
                    <a:moveTo>
                      <a:pt x="4436" y="1"/>
                    </a:moveTo>
                    <a:lnTo>
                      <a:pt x="4436" y="1"/>
                    </a:lnTo>
                    <a:cubicBezTo>
                      <a:pt x="4437" y="1"/>
                      <a:pt x="4438" y="2"/>
                      <a:pt x="4438" y="3"/>
                    </a:cubicBezTo>
                    <a:cubicBezTo>
                      <a:pt x="4438" y="4"/>
                      <a:pt x="4437" y="5"/>
                      <a:pt x="4436" y="5"/>
                    </a:cubicBezTo>
                    <a:lnTo>
                      <a:pt x="4436" y="5"/>
                    </a:lnTo>
                    <a:cubicBezTo>
                      <a:pt x="4435" y="5"/>
                      <a:pt x="4434" y="4"/>
                      <a:pt x="4434" y="3"/>
                    </a:cubicBezTo>
                    <a:cubicBezTo>
                      <a:pt x="4434" y="2"/>
                      <a:pt x="4435" y="1"/>
                      <a:pt x="4436" y="1"/>
                    </a:cubicBezTo>
                    <a:close/>
                    <a:moveTo>
                      <a:pt x="4444" y="1"/>
                    </a:moveTo>
                    <a:lnTo>
                      <a:pt x="4444" y="1"/>
                    </a:lnTo>
                    <a:cubicBezTo>
                      <a:pt x="4445" y="1"/>
                      <a:pt x="4446" y="2"/>
                      <a:pt x="4446" y="3"/>
                    </a:cubicBezTo>
                    <a:cubicBezTo>
                      <a:pt x="4446" y="4"/>
                      <a:pt x="4445" y="5"/>
                      <a:pt x="4444" y="5"/>
                    </a:cubicBezTo>
                    <a:lnTo>
                      <a:pt x="4444" y="5"/>
                    </a:lnTo>
                    <a:cubicBezTo>
                      <a:pt x="4443" y="5"/>
                      <a:pt x="4442" y="4"/>
                      <a:pt x="4442" y="3"/>
                    </a:cubicBezTo>
                    <a:cubicBezTo>
                      <a:pt x="4442" y="2"/>
                      <a:pt x="4443" y="1"/>
                      <a:pt x="4444" y="1"/>
                    </a:cubicBezTo>
                    <a:close/>
                    <a:moveTo>
                      <a:pt x="4452" y="1"/>
                    </a:moveTo>
                    <a:lnTo>
                      <a:pt x="4452" y="1"/>
                    </a:lnTo>
                    <a:cubicBezTo>
                      <a:pt x="4453" y="1"/>
                      <a:pt x="4454" y="2"/>
                      <a:pt x="4454" y="3"/>
                    </a:cubicBezTo>
                    <a:cubicBezTo>
                      <a:pt x="4454" y="4"/>
                      <a:pt x="4453" y="5"/>
                      <a:pt x="4452" y="5"/>
                    </a:cubicBezTo>
                    <a:lnTo>
                      <a:pt x="4452" y="5"/>
                    </a:lnTo>
                    <a:cubicBezTo>
                      <a:pt x="4451" y="5"/>
                      <a:pt x="4450" y="4"/>
                      <a:pt x="4450" y="3"/>
                    </a:cubicBezTo>
                    <a:cubicBezTo>
                      <a:pt x="4450" y="2"/>
                      <a:pt x="4451" y="1"/>
                      <a:pt x="4452" y="1"/>
                    </a:cubicBezTo>
                    <a:close/>
                    <a:moveTo>
                      <a:pt x="4460" y="1"/>
                    </a:moveTo>
                    <a:lnTo>
                      <a:pt x="4460" y="1"/>
                    </a:lnTo>
                    <a:cubicBezTo>
                      <a:pt x="4461" y="1"/>
                      <a:pt x="4462" y="2"/>
                      <a:pt x="4462" y="3"/>
                    </a:cubicBezTo>
                    <a:cubicBezTo>
                      <a:pt x="4462" y="4"/>
                      <a:pt x="4461" y="5"/>
                      <a:pt x="4460" y="5"/>
                    </a:cubicBezTo>
                    <a:lnTo>
                      <a:pt x="4460" y="5"/>
                    </a:lnTo>
                    <a:cubicBezTo>
                      <a:pt x="4459" y="5"/>
                      <a:pt x="4458" y="4"/>
                      <a:pt x="4458" y="3"/>
                    </a:cubicBezTo>
                    <a:cubicBezTo>
                      <a:pt x="4458" y="2"/>
                      <a:pt x="4459" y="1"/>
                      <a:pt x="4460" y="1"/>
                    </a:cubicBezTo>
                    <a:close/>
                    <a:moveTo>
                      <a:pt x="4468" y="1"/>
                    </a:moveTo>
                    <a:lnTo>
                      <a:pt x="4468" y="1"/>
                    </a:lnTo>
                    <a:cubicBezTo>
                      <a:pt x="4469" y="1"/>
                      <a:pt x="4470" y="2"/>
                      <a:pt x="4470" y="3"/>
                    </a:cubicBezTo>
                    <a:cubicBezTo>
                      <a:pt x="4470" y="4"/>
                      <a:pt x="4469" y="5"/>
                      <a:pt x="4468" y="5"/>
                    </a:cubicBezTo>
                    <a:lnTo>
                      <a:pt x="4468" y="5"/>
                    </a:lnTo>
                    <a:cubicBezTo>
                      <a:pt x="4467" y="5"/>
                      <a:pt x="4466" y="4"/>
                      <a:pt x="4466" y="3"/>
                    </a:cubicBezTo>
                    <a:cubicBezTo>
                      <a:pt x="4466" y="2"/>
                      <a:pt x="4467" y="1"/>
                      <a:pt x="4468" y="1"/>
                    </a:cubicBezTo>
                    <a:close/>
                    <a:moveTo>
                      <a:pt x="4476" y="1"/>
                    </a:moveTo>
                    <a:lnTo>
                      <a:pt x="4476" y="1"/>
                    </a:lnTo>
                    <a:cubicBezTo>
                      <a:pt x="4477" y="1"/>
                      <a:pt x="4478" y="2"/>
                      <a:pt x="4478" y="3"/>
                    </a:cubicBezTo>
                    <a:cubicBezTo>
                      <a:pt x="4478" y="4"/>
                      <a:pt x="4477" y="5"/>
                      <a:pt x="4476" y="5"/>
                    </a:cubicBezTo>
                    <a:lnTo>
                      <a:pt x="4476" y="5"/>
                    </a:lnTo>
                    <a:cubicBezTo>
                      <a:pt x="4475" y="5"/>
                      <a:pt x="4474" y="4"/>
                      <a:pt x="4474" y="3"/>
                    </a:cubicBezTo>
                    <a:cubicBezTo>
                      <a:pt x="4474" y="2"/>
                      <a:pt x="4475" y="1"/>
                      <a:pt x="4476" y="1"/>
                    </a:cubicBezTo>
                    <a:close/>
                    <a:moveTo>
                      <a:pt x="4484" y="1"/>
                    </a:moveTo>
                    <a:lnTo>
                      <a:pt x="4484" y="1"/>
                    </a:lnTo>
                    <a:cubicBezTo>
                      <a:pt x="4485" y="1"/>
                      <a:pt x="4486" y="2"/>
                      <a:pt x="4486" y="3"/>
                    </a:cubicBezTo>
                    <a:cubicBezTo>
                      <a:pt x="4486" y="4"/>
                      <a:pt x="4485" y="5"/>
                      <a:pt x="4484" y="5"/>
                    </a:cubicBezTo>
                    <a:lnTo>
                      <a:pt x="4484" y="5"/>
                    </a:lnTo>
                    <a:cubicBezTo>
                      <a:pt x="4483" y="5"/>
                      <a:pt x="4482" y="4"/>
                      <a:pt x="4482" y="3"/>
                    </a:cubicBezTo>
                    <a:cubicBezTo>
                      <a:pt x="4482" y="2"/>
                      <a:pt x="4483" y="1"/>
                      <a:pt x="4484" y="1"/>
                    </a:cubicBezTo>
                    <a:close/>
                    <a:moveTo>
                      <a:pt x="4492" y="1"/>
                    </a:moveTo>
                    <a:lnTo>
                      <a:pt x="4492" y="1"/>
                    </a:lnTo>
                    <a:cubicBezTo>
                      <a:pt x="4493" y="1"/>
                      <a:pt x="4494" y="2"/>
                      <a:pt x="4494" y="3"/>
                    </a:cubicBezTo>
                    <a:cubicBezTo>
                      <a:pt x="4494" y="4"/>
                      <a:pt x="4493" y="5"/>
                      <a:pt x="4492" y="5"/>
                    </a:cubicBezTo>
                    <a:lnTo>
                      <a:pt x="4492" y="5"/>
                    </a:lnTo>
                    <a:cubicBezTo>
                      <a:pt x="4491" y="5"/>
                      <a:pt x="4490" y="4"/>
                      <a:pt x="4490" y="3"/>
                    </a:cubicBezTo>
                    <a:cubicBezTo>
                      <a:pt x="4490" y="2"/>
                      <a:pt x="4491" y="1"/>
                      <a:pt x="4492" y="1"/>
                    </a:cubicBezTo>
                    <a:close/>
                    <a:moveTo>
                      <a:pt x="4500" y="1"/>
                    </a:moveTo>
                    <a:lnTo>
                      <a:pt x="4500" y="1"/>
                    </a:lnTo>
                    <a:cubicBezTo>
                      <a:pt x="4501" y="1"/>
                      <a:pt x="4502" y="2"/>
                      <a:pt x="4502" y="3"/>
                    </a:cubicBezTo>
                    <a:cubicBezTo>
                      <a:pt x="4502" y="4"/>
                      <a:pt x="4501" y="5"/>
                      <a:pt x="4500" y="5"/>
                    </a:cubicBezTo>
                    <a:lnTo>
                      <a:pt x="4500" y="5"/>
                    </a:lnTo>
                    <a:cubicBezTo>
                      <a:pt x="4499" y="5"/>
                      <a:pt x="4498" y="4"/>
                      <a:pt x="4498" y="3"/>
                    </a:cubicBezTo>
                    <a:cubicBezTo>
                      <a:pt x="4498" y="2"/>
                      <a:pt x="4499" y="1"/>
                      <a:pt x="4500" y="1"/>
                    </a:cubicBezTo>
                    <a:close/>
                    <a:moveTo>
                      <a:pt x="4508" y="1"/>
                    </a:moveTo>
                    <a:lnTo>
                      <a:pt x="4508" y="1"/>
                    </a:lnTo>
                    <a:cubicBezTo>
                      <a:pt x="4509" y="1"/>
                      <a:pt x="4510" y="2"/>
                      <a:pt x="4510" y="3"/>
                    </a:cubicBezTo>
                    <a:cubicBezTo>
                      <a:pt x="4510" y="4"/>
                      <a:pt x="4509" y="5"/>
                      <a:pt x="4508" y="5"/>
                    </a:cubicBezTo>
                    <a:lnTo>
                      <a:pt x="4508" y="5"/>
                    </a:lnTo>
                    <a:cubicBezTo>
                      <a:pt x="4507" y="5"/>
                      <a:pt x="4506" y="4"/>
                      <a:pt x="4506" y="3"/>
                    </a:cubicBezTo>
                    <a:cubicBezTo>
                      <a:pt x="4506" y="2"/>
                      <a:pt x="4507" y="1"/>
                      <a:pt x="4508" y="1"/>
                    </a:cubicBezTo>
                    <a:close/>
                    <a:moveTo>
                      <a:pt x="4516" y="1"/>
                    </a:moveTo>
                    <a:lnTo>
                      <a:pt x="4516" y="1"/>
                    </a:lnTo>
                    <a:cubicBezTo>
                      <a:pt x="4517" y="1"/>
                      <a:pt x="4518" y="2"/>
                      <a:pt x="4518" y="3"/>
                    </a:cubicBezTo>
                    <a:cubicBezTo>
                      <a:pt x="4518" y="4"/>
                      <a:pt x="4517" y="5"/>
                      <a:pt x="4516" y="5"/>
                    </a:cubicBezTo>
                    <a:lnTo>
                      <a:pt x="4516" y="5"/>
                    </a:lnTo>
                    <a:cubicBezTo>
                      <a:pt x="4515" y="5"/>
                      <a:pt x="4514" y="4"/>
                      <a:pt x="4514" y="3"/>
                    </a:cubicBezTo>
                    <a:cubicBezTo>
                      <a:pt x="4514" y="2"/>
                      <a:pt x="4515" y="1"/>
                      <a:pt x="4516" y="1"/>
                    </a:cubicBezTo>
                    <a:close/>
                    <a:moveTo>
                      <a:pt x="4524" y="1"/>
                    </a:moveTo>
                    <a:lnTo>
                      <a:pt x="4524" y="1"/>
                    </a:lnTo>
                    <a:cubicBezTo>
                      <a:pt x="4525" y="1"/>
                      <a:pt x="4526" y="2"/>
                      <a:pt x="4526" y="3"/>
                    </a:cubicBezTo>
                    <a:cubicBezTo>
                      <a:pt x="4526" y="4"/>
                      <a:pt x="4525" y="5"/>
                      <a:pt x="4524" y="5"/>
                    </a:cubicBezTo>
                    <a:lnTo>
                      <a:pt x="4524" y="5"/>
                    </a:lnTo>
                    <a:cubicBezTo>
                      <a:pt x="4523" y="5"/>
                      <a:pt x="4522" y="4"/>
                      <a:pt x="4522" y="3"/>
                    </a:cubicBezTo>
                    <a:cubicBezTo>
                      <a:pt x="4522" y="2"/>
                      <a:pt x="4523" y="1"/>
                      <a:pt x="4524" y="1"/>
                    </a:cubicBezTo>
                    <a:close/>
                    <a:moveTo>
                      <a:pt x="4532" y="1"/>
                    </a:moveTo>
                    <a:lnTo>
                      <a:pt x="4532" y="1"/>
                    </a:lnTo>
                    <a:cubicBezTo>
                      <a:pt x="4533" y="1"/>
                      <a:pt x="4534" y="2"/>
                      <a:pt x="4534" y="3"/>
                    </a:cubicBezTo>
                    <a:cubicBezTo>
                      <a:pt x="4534" y="4"/>
                      <a:pt x="4533" y="5"/>
                      <a:pt x="4532" y="5"/>
                    </a:cubicBezTo>
                    <a:lnTo>
                      <a:pt x="4532" y="5"/>
                    </a:lnTo>
                    <a:cubicBezTo>
                      <a:pt x="4531" y="5"/>
                      <a:pt x="4530" y="4"/>
                      <a:pt x="4530" y="3"/>
                    </a:cubicBezTo>
                    <a:cubicBezTo>
                      <a:pt x="4530" y="2"/>
                      <a:pt x="4531" y="1"/>
                      <a:pt x="4532" y="1"/>
                    </a:cubicBezTo>
                    <a:close/>
                    <a:moveTo>
                      <a:pt x="4540" y="1"/>
                    </a:moveTo>
                    <a:lnTo>
                      <a:pt x="4540" y="1"/>
                    </a:lnTo>
                    <a:cubicBezTo>
                      <a:pt x="4541" y="1"/>
                      <a:pt x="4542" y="2"/>
                      <a:pt x="4542" y="3"/>
                    </a:cubicBezTo>
                    <a:cubicBezTo>
                      <a:pt x="4542" y="4"/>
                      <a:pt x="4541" y="5"/>
                      <a:pt x="4540" y="5"/>
                    </a:cubicBezTo>
                    <a:lnTo>
                      <a:pt x="4540" y="5"/>
                    </a:lnTo>
                    <a:cubicBezTo>
                      <a:pt x="4539" y="5"/>
                      <a:pt x="4538" y="4"/>
                      <a:pt x="4538" y="3"/>
                    </a:cubicBezTo>
                    <a:cubicBezTo>
                      <a:pt x="4538" y="2"/>
                      <a:pt x="4539" y="1"/>
                      <a:pt x="4540" y="1"/>
                    </a:cubicBezTo>
                    <a:close/>
                    <a:moveTo>
                      <a:pt x="4548" y="1"/>
                    </a:moveTo>
                    <a:lnTo>
                      <a:pt x="4548" y="1"/>
                    </a:lnTo>
                    <a:cubicBezTo>
                      <a:pt x="4549" y="1"/>
                      <a:pt x="4550" y="2"/>
                      <a:pt x="4550" y="3"/>
                    </a:cubicBezTo>
                    <a:cubicBezTo>
                      <a:pt x="4550" y="4"/>
                      <a:pt x="4549" y="5"/>
                      <a:pt x="4548" y="5"/>
                    </a:cubicBezTo>
                    <a:lnTo>
                      <a:pt x="4548" y="5"/>
                    </a:lnTo>
                    <a:cubicBezTo>
                      <a:pt x="4547" y="5"/>
                      <a:pt x="4546" y="4"/>
                      <a:pt x="4546" y="3"/>
                    </a:cubicBezTo>
                    <a:cubicBezTo>
                      <a:pt x="4546" y="2"/>
                      <a:pt x="4547" y="1"/>
                      <a:pt x="4548" y="1"/>
                    </a:cubicBezTo>
                    <a:close/>
                    <a:moveTo>
                      <a:pt x="4556" y="1"/>
                    </a:moveTo>
                    <a:lnTo>
                      <a:pt x="4556" y="1"/>
                    </a:lnTo>
                    <a:cubicBezTo>
                      <a:pt x="4557" y="1"/>
                      <a:pt x="4558" y="2"/>
                      <a:pt x="4558" y="3"/>
                    </a:cubicBezTo>
                    <a:cubicBezTo>
                      <a:pt x="4558" y="4"/>
                      <a:pt x="4557" y="5"/>
                      <a:pt x="4556" y="5"/>
                    </a:cubicBezTo>
                    <a:lnTo>
                      <a:pt x="4556" y="5"/>
                    </a:lnTo>
                    <a:cubicBezTo>
                      <a:pt x="4555" y="5"/>
                      <a:pt x="4554" y="4"/>
                      <a:pt x="4554" y="3"/>
                    </a:cubicBezTo>
                    <a:cubicBezTo>
                      <a:pt x="4554" y="2"/>
                      <a:pt x="4555" y="1"/>
                      <a:pt x="4556" y="1"/>
                    </a:cubicBezTo>
                    <a:close/>
                    <a:moveTo>
                      <a:pt x="4564" y="1"/>
                    </a:moveTo>
                    <a:lnTo>
                      <a:pt x="4564" y="1"/>
                    </a:lnTo>
                    <a:cubicBezTo>
                      <a:pt x="4565" y="1"/>
                      <a:pt x="4566" y="2"/>
                      <a:pt x="4566" y="3"/>
                    </a:cubicBezTo>
                    <a:cubicBezTo>
                      <a:pt x="4566" y="4"/>
                      <a:pt x="4565" y="5"/>
                      <a:pt x="4564" y="5"/>
                    </a:cubicBezTo>
                    <a:lnTo>
                      <a:pt x="4564" y="5"/>
                    </a:lnTo>
                    <a:cubicBezTo>
                      <a:pt x="4563" y="5"/>
                      <a:pt x="4562" y="4"/>
                      <a:pt x="4562" y="3"/>
                    </a:cubicBezTo>
                    <a:cubicBezTo>
                      <a:pt x="4562" y="2"/>
                      <a:pt x="4563" y="1"/>
                      <a:pt x="4564" y="1"/>
                    </a:cubicBezTo>
                    <a:close/>
                    <a:moveTo>
                      <a:pt x="4572" y="1"/>
                    </a:moveTo>
                    <a:lnTo>
                      <a:pt x="4572" y="1"/>
                    </a:lnTo>
                    <a:cubicBezTo>
                      <a:pt x="4573" y="1"/>
                      <a:pt x="4574" y="2"/>
                      <a:pt x="4574" y="3"/>
                    </a:cubicBezTo>
                    <a:cubicBezTo>
                      <a:pt x="4574" y="4"/>
                      <a:pt x="4573" y="5"/>
                      <a:pt x="4572" y="5"/>
                    </a:cubicBezTo>
                    <a:lnTo>
                      <a:pt x="4572" y="5"/>
                    </a:lnTo>
                    <a:cubicBezTo>
                      <a:pt x="4571" y="5"/>
                      <a:pt x="4570" y="4"/>
                      <a:pt x="4570" y="3"/>
                    </a:cubicBezTo>
                    <a:cubicBezTo>
                      <a:pt x="4570" y="2"/>
                      <a:pt x="4571" y="1"/>
                      <a:pt x="4572" y="1"/>
                    </a:cubicBezTo>
                    <a:close/>
                    <a:moveTo>
                      <a:pt x="4580" y="1"/>
                    </a:moveTo>
                    <a:lnTo>
                      <a:pt x="4580" y="1"/>
                    </a:lnTo>
                    <a:cubicBezTo>
                      <a:pt x="4581" y="1"/>
                      <a:pt x="4582" y="2"/>
                      <a:pt x="4582" y="3"/>
                    </a:cubicBezTo>
                    <a:cubicBezTo>
                      <a:pt x="4582" y="4"/>
                      <a:pt x="4581" y="5"/>
                      <a:pt x="4580" y="5"/>
                    </a:cubicBezTo>
                    <a:lnTo>
                      <a:pt x="4580" y="5"/>
                    </a:lnTo>
                    <a:cubicBezTo>
                      <a:pt x="4579" y="5"/>
                      <a:pt x="4578" y="4"/>
                      <a:pt x="4578" y="3"/>
                    </a:cubicBezTo>
                    <a:cubicBezTo>
                      <a:pt x="4578" y="2"/>
                      <a:pt x="4579" y="1"/>
                      <a:pt x="4580" y="1"/>
                    </a:cubicBezTo>
                    <a:close/>
                    <a:moveTo>
                      <a:pt x="4588" y="1"/>
                    </a:moveTo>
                    <a:lnTo>
                      <a:pt x="4588" y="1"/>
                    </a:lnTo>
                    <a:cubicBezTo>
                      <a:pt x="4589" y="1"/>
                      <a:pt x="4590" y="2"/>
                      <a:pt x="4590" y="3"/>
                    </a:cubicBezTo>
                    <a:cubicBezTo>
                      <a:pt x="4590" y="4"/>
                      <a:pt x="4589" y="5"/>
                      <a:pt x="4588" y="5"/>
                    </a:cubicBezTo>
                    <a:lnTo>
                      <a:pt x="4588" y="5"/>
                    </a:lnTo>
                    <a:cubicBezTo>
                      <a:pt x="4587" y="5"/>
                      <a:pt x="4586" y="4"/>
                      <a:pt x="4586" y="3"/>
                    </a:cubicBezTo>
                    <a:cubicBezTo>
                      <a:pt x="4586" y="2"/>
                      <a:pt x="4587" y="1"/>
                      <a:pt x="4588" y="1"/>
                    </a:cubicBezTo>
                    <a:close/>
                    <a:moveTo>
                      <a:pt x="4596" y="1"/>
                    </a:moveTo>
                    <a:lnTo>
                      <a:pt x="4596" y="1"/>
                    </a:lnTo>
                    <a:cubicBezTo>
                      <a:pt x="4597" y="1"/>
                      <a:pt x="4598" y="2"/>
                      <a:pt x="4598" y="3"/>
                    </a:cubicBezTo>
                    <a:cubicBezTo>
                      <a:pt x="4598" y="4"/>
                      <a:pt x="4597" y="5"/>
                      <a:pt x="4596" y="5"/>
                    </a:cubicBezTo>
                    <a:lnTo>
                      <a:pt x="4596" y="5"/>
                    </a:lnTo>
                    <a:cubicBezTo>
                      <a:pt x="4595" y="5"/>
                      <a:pt x="4594" y="4"/>
                      <a:pt x="4594" y="3"/>
                    </a:cubicBezTo>
                    <a:cubicBezTo>
                      <a:pt x="4594" y="2"/>
                      <a:pt x="4595" y="1"/>
                      <a:pt x="4596" y="1"/>
                    </a:cubicBezTo>
                    <a:close/>
                    <a:moveTo>
                      <a:pt x="4604" y="1"/>
                    </a:moveTo>
                    <a:lnTo>
                      <a:pt x="4604" y="1"/>
                    </a:lnTo>
                    <a:cubicBezTo>
                      <a:pt x="4605" y="1"/>
                      <a:pt x="4606" y="2"/>
                      <a:pt x="4606" y="3"/>
                    </a:cubicBezTo>
                    <a:cubicBezTo>
                      <a:pt x="4606" y="4"/>
                      <a:pt x="4605" y="5"/>
                      <a:pt x="4604" y="5"/>
                    </a:cubicBezTo>
                    <a:lnTo>
                      <a:pt x="4604" y="5"/>
                    </a:lnTo>
                    <a:cubicBezTo>
                      <a:pt x="4603" y="5"/>
                      <a:pt x="4602" y="4"/>
                      <a:pt x="4602" y="3"/>
                    </a:cubicBezTo>
                    <a:cubicBezTo>
                      <a:pt x="4602" y="2"/>
                      <a:pt x="4603" y="1"/>
                      <a:pt x="4604" y="1"/>
                    </a:cubicBezTo>
                    <a:close/>
                    <a:moveTo>
                      <a:pt x="4612" y="1"/>
                    </a:moveTo>
                    <a:lnTo>
                      <a:pt x="4612" y="1"/>
                    </a:lnTo>
                    <a:cubicBezTo>
                      <a:pt x="4613" y="1"/>
                      <a:pt x="4614" y="2"/>
                      <a:pt x="4614" y="3"/>
                    </a:cubicBezTo>
                    <a:cubicBezTo>
                      <a:pt x="4614" y="4"/>
                      <a:pt x="4613" y="5"/>
                      <a:pt x="4612" y="5"/>
                    </a:cubicBezTo>
                    <a:lnTo>
                      <a:pt x="4612" y="5"/>
                    </a:lnTo>
                    <a:cubicBezTo>
                      <a:pt x="4611" y="5"/>
                      <a:pt x="4610" y="4"/>
                      <a:pt x="4610" y="3"/>
                    </a:cubicBezTo>
                    <a:cubicBezTo>
                      <a:pt x="4610" y="2"/>
                      <a:pt x="4611" y="1"/>
                      <a:pt x="4612" y="1"/>
                    </a:cubicBezTo>
                    <a:close/>
                    <a:moveTo>
                      <a:pt x="4620" y="1"/>
                    </a:moveTo>
                    <a:lnTo>
                      <a:pt x="4620" y="1"/>
                    </a:lnTo>
                    <a:cubicBezTo>
                      <a:pt x="4621" y="1"/>
                      <a:pt x="4622" y="2"/>
                      <a:pt x="4622" y="3"/>
                    </a:cubicBezTo>
                    <a:cubicBezTo>
                      <a:pt x="4622" y="4"/>
                      <a:pt x="4621" y="5"/>
                      <a:pt x="4620" y="5"/>
                    </a:cubicBezTo>
                    <a:lnTo>
                      <a:pt x="4620" y="5"/>
                    </a:lnTo>
                    <a:cubicBezTo>
                      <a:pt x="4619" y="5"/>
                      <a:pt x="4618" y="4"/>
                      <a:pt x="4618" y="3"/>
                    </a:cubicBezTo>
                    <a:cubicBezTo>
                      <a:pt x="4618" y="2"/>
                      <a:pt x="4619" y="1"/>
                      <a:pt x="4620" y="1"/>
                    </a:cubicBezTo>
                    <a:close/>
                    <a:moveTo>
                      <a:pt x="4628" y="1"/>
                    </a:moveTo>
                    <a:lnTo>
                      <a:pt x="4628" y="1"/>
                    </a:lnTo>
                    <a:cubicBezTo>
                      <a:pt x="4629" y="1"/>
                      <a:pt x="4630" y="2"/>
                      <a:pt x="4630" y="3"/>
                    </a:cubicBezTo>
                    <a:cubicBezTo>
                      <a:pt x="4630" y="4"/>
                      <a:pt x="4629" y="5"/>
                      <a:pt x="4628" y="5"/>
                    </a:cubicBezTo>
                    <a:lnTo>
                      <a:pt x="4628" y="5"/>
                    </a:lnTo>
                    <a:cubicBezTo>
                      <a:pt x="4627" y="5"/>
                      <a:pt x="4626" y="4"/>
                      <a:pt x="4626" y="3"/>
                    </a:cubicBezTo>
                    <a:cubicBezTo>
                      <a:pt x="4626" y="2"/>
                      <a:pt x="4627" y="1"/>
                      <a:pt x="4628" y="1"/>
                    </a:cubicBezTo>
                    <a:close/>
                    <a:moveTo>
                      <a:pt x="4636" y="1"/>
                    </a:moveTo>
                    <a:lnTo>
                      <a:pt x="4636" y="1"/>
                    </a:lnTo>
                    <a:cubicBezTo>
                      <a:pt x="4637" y="1"/>
                      <a:pt x="4638" y="2"/>
                      <a:pt x="4638" y="3"/>
                    </a:cubicBezTo>
                    <a:cubicBezTo>
                      <a:pt x="4638" y="4"/>
                      <a:pt x="4637" y="5"/>
                      <a:pt x="4636" y="5"/>
                    </a:cubicBezTo>
                    <a:lnTo>
                      <a:pt x="4636" y="5"/>
                    </a:lnTo>
                    <a:cubicBezTo>
                      <a:pt x="4635" y="5"/>
                      <a:pt x="4634" y="4"/>
                      <a:pt x="4634" y="3"/>
                    </a:cubicBezTo>
                    <a:cubicBezTo>
                      <a:pt x="4634" y="2"/>
                      <a:pt x="4635" y="1"/>
                      <a:pt x="4636" y="1"/>
                    </a:cubicBezTo>
                    <a:close/>
                    <a:moveTo>
                      <a:pt x="4644" y="1"/>
                    </a:moveTo>
                    <a:lnTo>
                      <a:pt x="4644" y="1"/>
                    </a:lnTo>
                    <a:cubicBezTo>
                      <a:pt x="4645" y="1"/>
                      <a:pt x="4646" y="2"/>
                      <a:pt x="4646" y="3"/>
                    </a:cubicBezTo>
                    <a:cubicBezTo>
                      <a:pt x="4646" y="4"/>
                      <a:pt x="4645" y="5"/>
                      <a:pt x="4644" y="5"/>
                    </a:cubicBezTo>
                    <a:lnTo>
                      <a:pt x="4644" y="5"/>
                    </a:lnTo>
                    <a:cubicBezTo>
                      <a:pt x="4643" y="5"/>
                      <a:pt x="4642" y="4"/>
                      <a:pt x="4642" y="3"/>
                    </a:cubicBezTo>
                    <a:cubicBezTo>
                      <a:pt x="4642" y="2"/>
                      <a:pt x="4643" y="1"/>
                      <a:pt x="4644" y="1"/>
                    </a:cubicBezTo>
                    <a:close/>
                    <a:moveTo>
                      <a:pt x="4652" y="1"/>
                    </a:moveTo>
                    <a:lnTo>
                      <a:pt x="4652" y="1"/>
                    </a:lnTo>
                    <a:cubicBezTo>
                      <a:pt x="4653" y="1"/>
                      <a:pt x="4654" y="2"/>
                      <a:pt x="4654" y="3"/>
                    </a:cubicBezTo>
                    <a:cubicBezTo>
                      <a:pt x="4654" y="4"/>
                      <a:pt x="4653" y="5"/>
                      <a:pt x="4652" y="5"/>
                    </a:cubicBezTo>
                    <a:lnTo>
                      <a:pt x="4652" y="5"/>
                    </a:lnTo>
                    <a:cubicBezTo>
                      <a:pt x="4651" y="5"/>
                      <a:pt x="4650" y="4"/>
                      <a:pt x="4650" y="3"/>
                    </a:cubicBezTo>
                    <a:cubicBezTo>
                      <a:pt x="4650" y="2"/>
                      <a:pt x="4651" y="1"/>
                      <a:pt x="4652" y="1"/>
                    </a:cubicBezTo>
                    <a:close/>
                    <a:moveTo>
                      <a:pt x="4660" y="1"/>
                    </a:moveTo>
                    <a:lnTo>
                      <a:pt x="4660" y="1"/>
                    </a:lnTo>
                    <a:cubicBezTo>
                      <a:pt x="4661" y="1"/>
                      <a:pt x="4662" y="2"/>
                      <a:pt x="4662" y="3"/>
                    </a:cubicBezTo>
                    <a:cubicBezTo>
                      <a:pt x="4662" y="4"/>
                      <a:pt x="4661" y="5"/>
                      <a:pt x="4660" y="5"/>
                    </a:cubicBezTo>
                    <a:lnTo>
                      <a:pt x="4660" y="5"/>
                    </a:lnTo>
                    <a:cubicBezTo>
                      <a:pt x="4659" y="5"/>
                      <a:pt x="4658" y="4"/>
                      <a:pt x="4658" y="3"/>
                    </a:cubicBezTo>
                    <a:cubicBezTo>
                      <a:pt x="4658" y="2"/>
                      <a:pt x="4659" y="1"/>
                      <a:pt x="4660" y="1"/>
                    </a:cubicBezTo>
                    <a:close/>
                    <a:moveTo>
                      <a:pt x="4668" y="1"/>
                    </a:moveTo>
                    <a:lnTo>
                      <a:pt x="4668" y="1"/>
                    </a:lnTo>
                    <a:cubicBezTo>
                      <a:pt x="4669" y="1"/>
                      <a:pt x="4670" y="2"/>
                      <a:pt x="4670" y="3"/>
                    </a:cubicBezTo>
                    <a:cubicBezTo>
                      <a:pt x="4670" y="4"/>
                      <a:pt x="4669" y="5"/>
                      <a:pt x="4668" y="5"/>
                    </a:cubicBezTo>
                    <a:lnTo>
                      <a:pt x="4668" y="5"/>
                    </a:lnTo>
                    <a:cubicBezTo>
                      <a:pt x="4667" y="5"/>
                      <a:pt x="4666" y="4"/>
                      <a:pt x="4666" y="3"/>
                    </a:cubicBezTo>
                    <a:cubicBezTo>
                      <a:pt x="4666" y="2"/>
                      <a:pt x="4667" y="1"/>
                      <a:pt x="4668" y="1"/>
                    </a:cubicBezTo>
                    <a:close/>
                    <a:moveTo>
                      <a:pt x="4676" y="1"/>
                    </a:moveTo>
                    <a:lnTo>
                      <a:pt x="4676" y="1"/>
                    </a:lnTo>
                    <a:cubicBezTo>
                      <a:pt x="4677" y="1"/>
                      <a:pt x="4678" y="2"/>
                      <a:pt x="4678" y="3"/>
                    </a:cubicBezTo>
                    <a:cubicBezTo>
                      <a:pt x="4678" y="4"/>
                      <a:pt x="4677" y="5"/>
                      <a:pt x="4676" y="5"/>
                    </a:cubicBezTo>
                    <a:lnTo>
                      <a:pt x="4676" y="5"/>
                    </a:lnTo>
                    <a:cubicBezTo>
                      <a:pt x="4675" y="5"/>
                      <a:pt x="4674" y="4"/>
                      <a:pt x="4674" y="3"/>
                    </a:cubicBezTo>
                    <a:cubicBezTo>
                      <a:pt x="4674" y="2"/>
                      <a:pt x="4675" y="1"/>
                      <a:pt x="4676" y="1"/>
                    </a:cubicBezTo>
                    <a:close/>
                    <a:moveTo>
                      <a:pt x="4684" y="1"/>
                    </a:moveTo>
                    <a:lnTo>
                      <a:pt x="4684" y="1"/>
                    </a:lnTo>
                    <a:cubicBezTo>
                      <a:pt x="4685" y="1"/>
                      <a:pt x="4686" y="2"/>
                      <a:pt x="4686" y="3"/>
                    </a:cubicBezTo>
                    <a:cubicBezTo>
                      <a:pt x="4686" y="4"/>
                      <a:pt x="4685" y="5"/>
                      <a:pt x="4684" y="5"/>
                    </a:cubicBezTo>
                    <a:lnTo>
                      <a:pt x="4684" y="5"/>
                    </a:lnTo>
                    <a:cubicBezTo>
                      <a:pt x="4683" y="5"/>
                      <a:pt x="4682" y="4"/>
                      <a:pt x="4682" y="3"/>
                    </a:cubicBezTo>
                    <a:cubicBezTo>
                      <a:pt x="4682" y="2"/>
                      <a:pt x="4683" y="1"/>
                      <a:pt x="4684" y="1"/>
                    </a:cubicBezTo>
                    <a:close/>
                    <a:moveTo>
                      <a:pt x="4692" y="1"/>
                    </a:moveTo>
                    <a:lnTo>
                      <a:pt x="4692" y="1"/>
                    </a:lnTo>
                    <a:cubicBezTo>
                      <a:pt x="4693" y="1"/>
                      <a:pt x="4694" y="2"/>
                      <a:pt x="4694" y="3"/>
                    </a:cubicBezTo>
                    <a:cubicBezTo>
                      <a:pt x="4694" y="4"/>
                      <a:pt x="4693" y="5"/>
                      <a:pt x="4692" y="5"/>
                    </a:cubicBezTo>
                    <a:lnTo>
                      <a:pt x="4692" y="5"/>
                    </a:lnTo>
                    <a:cubicBezTo>
                      <a:pt x="4691" y="5"/>
                      <a:pt x="4690" y="4"/>
                      <a:pt x="4690" y="3"/>
                    </a:cubicBezTo>
                    <a:cubicBezTo>
                      <a:pt x="4690" y="2"/>
                      <a:pt x="4691" y="1"/>
                      <a:pt x="4692" y="1"/>
                    </a:cubicBezTo>
                    <a:close/>
                    <a:moveTo>
                      <a:pt x="4700" y="1"/>
                    </a:moveTo>
                    <a:lnTo>
                      <a:pt x="4700" y="1"/>
                    </a:lnTo>
                    <a:cubicBezTo>
                      <a:pt x="4701" y="1"/>
                      <a:pt x="4702" y="2"/>
                      <a:pt x="4702" y="3"/>
                    </a:cubicBezTo>
                    <a:cubicBezTo>
                      <a:pt x="4702" y="4"/>
                      <a:pt x="4701" y="5"/>
                      <a:pt x="4700" y="5"/>
                    </a:cubicBezTo>
                    <a:lnTo>
                      <a:pt x="4700" y="5"/>
                    </a:lnTo>
                    <a:cubicBezTo>
                      <a:pt x="4699" y="5"/>
                      <a:pt x="4698" y="4"/>
                      <a:pt x="4698" y="3"/>
                    </a:cubicBezTo>
                    <a:cubicBezTo>
                      <a:pt x="4698" y="2"/>
                      <a:pt x="4699" y="1"/>
                      <a:pt x="4700" y="1"/>
                    </a:cubicBezTo>
                    <a:close/>
                    <a:moveTo>
                      <a:pt x="4708" y="1"/>
                    </a:moveTo>
                    <a:lnTo>
                      <a:pt x="4708" y="1"/>
                    </a:lnTo>
                    <a:cubicBezTo>
                      <a:pt x="4709" y="1"/>
                      <a:pt x="4710" y="2"/>
                      <a:pt x="4710" y="3"/>
                    </a:cubicBezTo>
                    <a:cubicBezTo>
                      <a:pt x="4710" y="4"/>
                      <a:pt x="4709" y="5"/>
                      <a:pt x="4708" y="5"/>
                    </a:cubicBezTo>
                    <a:lnTo>
                      <a:pt x="4708" y="5"/>
                    </a:lnTo>
                    <a:cubicBezTo>
                      <a:pt x="4707" y="5"/>
                      <a:pt x="4706" y="4"/>
                      <a:pt x="4706" y="3"/>
                    </a:cubicBezTo>
                    <a:cubicBezTo>
                      <a:pt x="4706" y="2"/>
                      <a:pt x="4707" y="1"/>
                      <a:pt x="4708" y="1"/>
                    </a:cubicBezTo>
                    <a:close/>
                    <a:moveTo>
                      <a:pt x="4716" y="1"/>
                    </a:moveTo>
                    <a:lnTo>
                      <a:pt x="4716" y="1"/>
                    </a:lnTo>
                    <a:cubicBezTo>
                      <a:pt x="4717" y="1"/>
                      <a:pt x="4718" y="2"/>
                      <a:pt x="4718" y="3"/>
                    </a:cubicBezTo>
                    <a:cubicBezTo>
                      <a:pt x="4718" y="4"/>
                      <a:pt x="4717" y="5"/>
                      <a:pt x="4716" y="5"/>
                    </a:cubicBezTo>
                    <a:lnTo>
                      <a:pt x="4716" y="5"/>
                    </a:lnTo>
                    <a:cubicBezTo>
                      <a:pt x="4715" y="5"/>
                      <a:pt x="4714" y="4"/>
                      <a:pt x="4714" y="3"/>
                    </a:cubicBezTo>
                    <a:cubicBezTo>
                      <a:pt x="4714" y="2"/>
                      <a:pt x="4715" y="1"/>
                      <a:pt x="4716" y="1"/>
                    </a:cubicBezTo>
                    <a:close/>
                    <a:moveTo>
                      <a:pt x="4724" y="1"/>
                    </a:moveTo>
                    <a:lnTo>
                      <a:pt x="4724" y="1"/>
                    </a:lnTo>
                    <a:cubicBezTo>
                      <a:pt x="4725" y="1"/>
                      <a:pt x="4726" y="2"/>
                      <a:pt x="4726" y="3"/>
                    </a:cubicBezTo>
                    <a:cubicBezTo>
                      <a:pt x="4726" y="4"/>
                      <a:pt x="4725" y="5"/>
                      <a:pt x="4724" y="5"/>
                    </a:cubicBezTo>
                    <a:lnTo>
                      <a:pt x="4724" y="5"/>
                    </a:lnTo>
                    <a:cubicBezTo>
                      <a:pt x="4723" y="5"/>
                      <a:pt x="4722" y="4"/>
                      <a:pt x="4722" y="3"/>
                    </a:cubicBezTo>
                    <a:cubicBezTo>
                      <a:pt x="4722" y="2"/>
                      <a:pt x="4723" y="1"/>
                      <a:pt x="4724" y="1"/>
                    </a:cubicBezTo>
                    <a:close/>
                    <a:moveTo>
                      <a:pt x="4732" y="1"/>
                    </a:moveTo>
                    <a:lnTo>
                      <a:pt x="4732" y="1"/>
                    </a:lnTo>
                    <a:cubicBezTo>
                      <a:pt x="4733" y="1"/>
                      <a:pt x="4734" y="2"/>
                      <a:pt x="4734" y="3"/>
                    </a:cubicBezTo>
                    <a:cubicBezTo>
                      <a:pt x="4734" y="4"/>
                      <a:pt x="4733" y="5"/>
                      <a:pt x="4732" y="5"/>
                    </a:cubicBezTo>
                    <a:lnTo>
                      <a:pt x="4732" y="5"/>
                    </a:lnTo>
                    <a:cubicBezTo>
                      <a:pt x="4731" y="5"/>
                      <a:pt x="4730" y="4"/>
                      <a:pt x="4730" y="3"/>
                    </a:cubicBezTo>
                    <a:cubicBezTo>
                      <a:pt x="4730" y="2"/>
                      <a:pt x="4731" y="1"/>
                      <a:pt x="4732" y="1"/>
                    </a:cubicBezTo>
                    <a:close/>
                    <a:moveTo>
                      <a:pt x="4740" y="1"/>
                    </a:moveTo>
                    <a:lnTo>
                      <a:pt x="4740" y="1"/>
                    </a:lnTo>
                    <a:cubicBezTo>
                      <a:pt x="4741" y="1"/>
                      <a:pt x="4742" y="2"/>
                      <a:pt x="4742" y="3"/>
                    </a:cubicBezTo>
                    <a:cubicBezTo>
                      <a:pt x="4742" y="4"/>
                      <a:pt x="4741" y="5"/>
                      <a:pt x="4740" y="5"/>
                    </a:cubicBezTo>
                    <a:lnTo>
                      <a:pt x="4740" y="5"/>
                    </a:lnTo>
                    <a:cubicBezTo>
                      <a:pt x="4739" y="5"/>
                      <a:pt x="4738" y="4"/>
                      <a:pt x="4738" y="3"/>
                    </a:cubicBezTo>
                    <a:cubicBezTo>
                      <a:pt x="4738" y="2"/>
                      <a:pt x="4739" y="1"/>
                      <a:pt x="4740" y="1"/>
                    </a:cubicBezTo>
                    <a:close/>
                    <a:moveTo>
                      <a:pt x="4748" y="1"/>
                    </a:moveTo>
                    <a:lnTo>
                      <a:pt x="4748" y="1"/>
                    </a:lnTo>
                    <a:cubicBezTo>
                      <a:pt x="4749" y="1"/>
                      <a:pt x="4750" y="2"/>
                      <a:pt x="4750" y="3"/>
                    </a:cubicBezTo>
                    <a:cubicBezTo>
                      <a:pt x="4750" y="4"/>
                      <a:pt x="4749" y="5"/>
                      <a:pt x="4748" y="5"/>
                    </a:cubicBezTo>
                    <a:lnTo>
                      <a:pt x="4748" y="5"/>
                    </a:lnTo>
                    <a:cubicBezTo>
                      <a:pt x="4747" y="5"/>
                      <a:pt x="4746" y="4"/>
                      <a:pt x="4746" y="3"/>
                    </a:cubicBezTo>
                    <a:cubicBezTo>
                      <a:pt x="4746" y="2"/>
                      <a:pt x="4747" y="1"/>
                      <a:pt x="4748" y="1"/>
                    </a:cubicBezTo>
                    <a:close/>
                    <a:moveTo>
                      <a:pt x="4756" y="1"/>
                    </a:moveTo>
                    <a:lnTo>
                      <a:pt x="4756" y="1"/>
                    </a:lnTo>
                    <a:cubicBezTo>
                      <a:pt x="4757" y="1"/>
                      <a:pt x="4758" y="2"/>
                      <a:pt x="4758" y="3"/>
                    </a:cubicBezTo>
                    <a:cubicBezTo>
                      <a:pt x="4758" y="4"/>
                      <a:pt x="4757" y="5"/>
                      <a:pt x="4756" y="5"/>
                    </a:cubicBezTo>
                    <a:lnTo>
                      <a:pt x="4756" y="5"/>
                    </a:lnTo>
                    <a:cubicBezTo>
                      <a:pt x="4755" y="5"/>
                      <a:pt x="4754" y="4"/>
                      <a:pt x="4754" y="3"/>
                    </a:cubicBezTo>
                    <a:cubicBezTo>
                      <a:pt x="4754" y="2"/>
                      <a:pt x="4755" y="1"/>
                      <a:pt x="4756" y="1"/>
                    </a:cubicBezTo>
                    <a:close/>
                    <a:moveTo>
                      <a:pt x="4764" y="1"/>
                    </a:moveTo>
                    <a:lnTo>
                      <a:pt x="4764" y="1"/>
                    </a:lnTo>
                    <a:cubicBezTo>
                      <a:pt x="4765" y="1"/>
                      <a:pt x="4766" y="2"/>
                      <a:pt x="4766" y="3"/>
                    </a:cubicBezTo>
                    <a:cubicBezTo>
                      <a:pt x="4766" y="4"/>
                      <a:pt x="4765" y="5"/>
                      <a:pt x="4764" y="5"/>
                    </a:cubicBezTo>
                    <a:lnTo>
                      <a:pt x="4764" y="5"/>
                    </a:lnTo>
                    <a:cubicBezTo>
                      <a:pt x="4763" y="5"/>
                      <a:pt x="4762" y="4"/>
                      <a:pt x="4762" y="3"/>
                    </a:cubicBezTo>
                    <a:cubicBezTo>
                      <a:pt x="4762" y="2"/>
                      <a:pt x="4763" y="1"/>
                      <a:pt x="4764" y="1"/>
                    </a:cubicBezTo>
                    <a:close/>
                    <a:moveTo>
                      <a:pt x="4772" y="1"/>
                    </a:moveTo>
                    <a:lnTo>
                      <a:pt x="4772" y="1"/>
                    </a:lnTo>
                    <a:cubicBezTo>
                      <a:pt x="4773" y="1"/>
                      <a:pt x="4774" y="2"/>
                      <a:pt x="4774" y="3"/>
                    </a:cubicBezTo>
                    <a:cubicBezTo>
                      <a:pt x="4774" y="4"/>
                      <a:pt x="4773" y="5"/>
                      <a:pt x="4772" y="5"/>
                    </a:cubicBezTo>
                    <a:lnTo>
                      <a:pt x="4772" y="5"/>
                    </a:lnTo>
                    <a:cubicBezTo>
                      <a:pt x="4771" y="5"/>
                      <a:pt x="4770" y="4"/>
                      <a:pt x="4770" y="3"/>
                    </a:cubicBezTo>
                    <a:cubicBezTo>
                      <a:pt x="4770" y="2"/>
                      <a:pt x="4771" y="1"/>
                      <a:pt x="4772" y="1"/>
                    </a:cubicBezTo>
                    <a:close/>
                    <a:moveTo>
                      <a:pt x="4780" y="1"/>
                    </a:moveTo>
                    <a:lnTo>
                      <a:pt x="4780" y="1"/>
                    </a:lnTo>
                    <a:cubicBezTo>
                      <a:pt x="4781" y="1"/>
                      <a:pt x="4782" y="2"/>
                      <a:pt x="4782" y="3"/>
                    </a:cubicBezTo>
                    <a:cubicBezTo>
                      <a:pt x="4782" y="4"/>
                      <a:pt x="4781" y="5"/>
                      <a:pt x="4780" y="5"/>
                    </a:cubicBezTo>
                    <a:lnTo>
                      <a:pt x="4780" y="5"/>
                    </a:lnTo>
                    <a:cubicBezTo>
                      <a:pt x="4779" y="5"/>
                      <a:pt x="4778" y="4"/>
                      <a:pt x="4778" y="3"/>
                    </a:cubicBezTo>
                    <a:cubicBezTo>
                      <a:pt x="4778" y="2"/>
                      <a:pt x="4779" y="1"/>
                      <a:pt x="4780" y="1"/>
                    </a:cubicBezTo>
                    <a:close/>
                    <a:moveTo>
                      <a:pt x="4788" y="1"/>
                    </a:moveTo>
                    <a:lnTo>
                      <a:pt x="4788" y="1"/>
                    </a:lnTo>
                    <a:cubicBezTo>
                      <a:pt x="4789" y="1"/>
                      <a:pt x="4790" y="2"/>
                      <a:pt x="4790" y="3"/>
                    </a:cubicBezTo>
                    <a:cubicBezTo>
                      <a:pt x="4790" y="4"/>
                      <a:pt x="4789" y="5"/>
                      <a:pt x="4788" y="5"/>
                    </a:cubicBezTo>
                    <a:lnTo>
                      <a:pt x="4788" y="5"/>
                    </a:lnTo>
                    <a:cubicBezTo>
                      <a:pt x="4787" y="5"/>
                      <a:pt x="4786" y="4"/>
                      <a:pt x="4786" y="3"/>
                    </a:cubicBezTo>
                    <a:cubicBezTo>
                      <a:pt x="4786" y="2"/>
                      <a:pt x="4787" y="1"/>
                      <a:pt x="4788" y="1"/>
                    </a:cubicBezTo>
                    <a:close/>
                    <a:moveTo>
                      <a:pt x="4796" y="1"/>
                    </a:moveTo>
                    <a:lnTo>
                      <a:pt x="4796" y="1"/>
                    </a:lnTo>
                    <a:cubicBezTo>
                      <a:pt x="4797" y="1"/>
                      <a:pt x="4798" y="2"/>
                      <a:pt x="4798" y="3"/>
                    </a:cubicBezTo>
                    <a:cubicBezTo>
                      <a:pt x="4798" y="4"/>
                      <a:pt x="4797" y="5"/>
                      <a:pt x="4796" y="5"/>
                    </a:cubicBezTo>
                    <a:lnTo>
                      <a:pt x="4796" y="5"/>
                    </a:lnTo>
                    <a:cubicBezTo>
                      <a:pt x="4795" y="5"/>
                      <a:pt x="4794" y="4"/>
                      <a:pt x="4794" y="3"/>
                    </a:cubicBezTo>
                    <a:cubicBezTo>
                      <a:pt x="4794" y="2"/>
                      <a:pt x="4795" y="1"/>
                      <a:pt x="4796" y="1"/>
                    </a:cubicBezTo>
                    <a:close/>
                    <a:moveTo>
                      <a:pt x="4804" y="1"/>
                    </a:moveTo>
                    <a:lnTo>
                      <a:pt x="4804" y="1"/>
                    </a:lnTo>
                    <a:cubicBezTo>
                      <a:pt x="4805" y="1"/>
                      <a:pt x="4806" y="2"/>
                      <a:pt x="4806" y="3"/>
                    </a:cubicBezTo>
                    <a:cubicBezTo>
                      <a:pt x="4806" y="4"/>
                      <a:pt x="4805" y="5"/>
                      <a:pt x="4804" y="5"/>
                    </a:cubicBezTo>
                    <a:lnTo>
                      <a:pt x="4804" y="5"/>
                    </a:lnTo>
                    <a:cubicBezTo>
                      <a:pt x="4803" y="5"/>
                      <a:pt x="4802" y="4"/>
                      <a:pt x="4802" y="3"/>
                    </a:cubicBezTo>
                    <a:cubicBezTo>
                      <a:pt x="4802" y="2"/>
                      <a:pt x="4803" y="1"/>
                      <a:pt x="4804" y="1"/>
                    </a:cubicBezTo>
                    <a:close/>
                    <a:moveTo>
                      <a:pt x="4812" y="1"/>
                    </a:moveTo>
                    <a:lnTo>
                      <a:pt x="4812" y="1"/>
                    </a:lnTo>
                    <a:cubicBezTo>
                      <a:pt x="4813" y="1"/>
                      <a:pt x="4814" y="2"/>
                      <a:pt x="4814" y="3"/>
                    </a:cubicBezTo>
                    <a:cubicBezTo>
                      <a:pt x="4814" y="4"/>
                      <a:pt x="4813" y="5"/>
                      <a:pt x="4812" y="5"/>
                    </a:cubicBezTo>
                    <a:lnTo>
                      <a:pt x="4812" y="5"/>
                    </a:lnTo>
                    <a:cubicBezTo>
                      <a:pt x="4811" y="5"/>
                      <a:pt x="4810" y="4"/>
                      <a:pt x="4810" y="3"/>
                    </a:cubicBezTo>
                    <a:cubicBezTo>
                      <a:pt x="4810" y="2"/>
                      <a:pt x="4811" y="1"/>
                      <a:pt x="4812" y="1"/>
                    </a:cubicBezTo>
                    <a:close/>
                    <a:moveTo>
                      <a:pt x="4820" y="1"/>
                    </a:moveTo>
                    <a:lnTo>
                      <a:pt x="4820" y="1"/>
                    </a:lnTo>
                    <a:cubicBezTo>
                      <a:pt x="4821" y="1"/>
                      <a:pt x="4822" y="2"/>
                      <a:pt x="4822" y="3"/>
                    </a:cubicBezTo>
                    <a:cubicBezTo>
                      <a:pt x="4822" y="4"/>
                      <a:pt x="4821" y="5"/>
                      <a:pt x="4820" y="5"/>
                    </a:cubicBezTo>
                    <a:lnTo>
                      <a:pt x="4820" y="5"/>
                    </a:lnTo>
                    <a:cubicBezTo>
                      <a:pt x="4819" y="5"/>
                      <a:pt x="4818" y="4"/>
                      <a:pt x="4818" y="3"/>
                    </a:cubicBezTo>
                    <a:cubicBezTo>
                      <a:pt x="4818" y="2"/>
                      <a:pt x="4819" y="1"/>
                      <a:pt x="4820" y="1"/>
                    </a:cubicBezTo>
                    <a:close/>
                    <a:moveTo>
                      <a:pt x="4828" y="1"/>
                    </a:moveTo>
                    <a:lnTo>
                      <a:pt x="4828" y="1"/>
                    </a:lnTo>
                    <a:cubicBezTo>
                      <a:pt x="4829" y="1"/>
                      <a:pt x="4830" y="2"/>
                      <a:pt x="4830" y="3"/>
                    </a:cubicBezTo>
                    <a:cubicBezTo>
                      <a:pt x="4830" y="4"/>
                      <a:pt x="4829" y="5"/>
                      <a:pt x="4828" y="5"/>
                    </a:cubicBezTo>
                    <a:lnTo>
                      <a:pt x="4828" y="5"/>
                    </a:lnTo>
                    <a:cubicBezTo>
                      <a:pt x="4827" y="5"/>
                      <a:pt x="4826" y="4"/>
                      <a:pt x="4826" y="3"/>
                    </a:cubicBezTo>
                    <a:cubicBezTo>
                      <a:pt x="4826" y="2"/>
                      <a:pt x="4827" y="1"/>
                      <a:pt x="4828" y="1"/>
                    </a:cubicBezTo>
                    <a:close/>
                    <a:moveTo>
                      <a:pt x="4836" y="1"/>
                    </a:moveTo>
                    <a:lnTo>
                      <a:pt x="4836" y="1"/>
                    </a:lnTo>
                    <a:cubicBezTo>
                      <a:pt x="4837" y="1"/>
                      <a:pt x="4838" y="2"/>
                      <a:pt x="4838" y="3"/>
                    </a:cubicBezTo>
                    <a:cubicBezTo>
                      <a:pt x="4838" y="4"/>
                      <a:pt x="4837" y="5"/>
                      <a:pt x="4836" y="5"/>
                    </a:cubicBezTo>
                    <a:lnTo>
                      <a:pt x="4836" y="5"/>
                    </a:lnTo>
                    <a:cubicBezTo>
                      <a:pt x="4835" y="5"/>
                      <a:pt x="4834" y="4"/>
                      <a:pt x="4834" y="3"/>
                    </a:cubicBezTo>
                    <a:cubicBezTo>
                      <a:pt x="4834" y="2"/>
                      <a:pt x="4835" y="1"/>
                      <a:pt x="4836" y="1"/>
                    </a:cubicBezTo>
                    <a:close/>
                    <a:moveTo>
                      <a:pt x="4844" y="1"/>
                    </a:moveTo>
                    <a:lnTo>
                      <a:pt x="4844" y="1"/>
                    </a:lnTo>
                    <a:cubicBezTo>
                      <a:pt x="4845" y="1"/>
                      <a:pt x="4846" y="2"/>
                      <a:pt x="4846" y="3"/>
                    </a:cubicBezTo>
                    <a:cubicBezTo>
                      <a:pt x="4846" y="4"/>
                      <a:pt x="4845" y="5"/>
                      <a:pt x="4844" y="5"/>
                    </a:cubicBezTo>
                    <a:lnTo>
                      <a:pt x="4844" y="5"/>
                    </a:lnTo>
                    <a:cubicBezTo>
                      <a:pt x="4843" y="5"/>
                      <a:pt x="4842" y="4"/>
                      <a:pt x="4842" y="3"/>
                    </a:cubicBezTo>
                    <a:cubicBezTo>
                      <a:pt x="4842" y="2"/>
                      <a:pt x="4843" y="1"/>
                      <a:pt x="4844" y="1"/>
                    </a:cubicBezTo>
                    <a:close/>
                    <a:moveTo>
                      <a:pt x="4852" y="1"/>
                    </a:moveTo>
                    <a:lnTo>
                      <a:pt x="4852" y="1"/>
                    </a:lnTo>
                    <a:cubicBezTo>
                      <a:pt x="4853" y="1"/>
                      <a:pt x="4854" y="2"/>
                      <a:pt x="4854" y="3"/>
                    </a:cubicBezTo>
                    <a:cubicBezTo>
                      <a:pt x="4854" y="4"/>
                      <a:pt x="4853" y="5"/>
                      <a:pt x="4852" y="5"/>
                    </a:cubicBezTo>
                    <a:lnTo>
                      <a:pt x="4852" y="5"/>
                    </a:lnTo>
                    <a:cubicBezTo>
                      <a:pt x="4851" y="5"/>
                      <a:pt x="4850" y="4"/>
                      <a:pt x="4850" y="3"/>
                    </a:cubicBezTo>
                    <a:cubicBezTo>
                      <a:pt x="4850" y="2"/>
                      <a:pt x="4851" y="1"/>
                      <a:pt x="4852" y="1"/>
                    </a:cubicBezTo>
                    <a:close/>
                    <a:moveTo>
                      <a:pt x="4860" y="1"/>
                    </a:moveTo>
                    <a:lnTo>
                      <a:pt x="4860" y="1"/>
                    </a:lnTo>
                    <a:cubicBezTo>
                      <a:pt x="4861" y="1"/>
                      <a:pt x="4862" y="2"/>
                      <a:pt x="4862" y="3"/>
                    </a:cubicBezTo>
                    <a:cubicBezTo>
                      <a:pt x="4862" y="4"/>
                      <a:pt x="4861" y="5"/>
                      <a:pt x="4860" y="5"/>
                    </a:cubicBezTo>
                    <a:lnTo>
                      <a:pt x="4860" y="5"/>
                    </a:lnTo>
                    <a:cubicBezTo>
                      <a:pt x="4859" y="5"/>
                      <a:pt x="4858" y="4"/>
                      <a:pt x="4858" y="3"/>
                    </a:cubicBezTo>
                    <a:cubicBezTo>
                      <a:pt x="4858" y="2"/>
                      <a:pt x="4859" y="1"/>
                      <a:pt x="4860" y="1"/>
                    </a:cubicBezTo>
                    <a:close/>
                    <a:moveTo>
                      <a:pt x="4868" y="1"/>
                    </a:moveTo>
                    <a:lnTo>
                      <a:pt x="4868" y="1"/>
                    </a:lnTo>
                    <a:cubicBezTo>
                      <a:pt x="4869" y="1"/>
                      <a:pt x="4870" y="2"/>
                      <a:pt x="4870" y="3"/>
                    </a:cubicBezTo>
                    <a:cubicBezTo>
                      <a:pt x="4870" y="4"/>
                      <a:pt x="4869" y="5"/>
                      <a:pt x="4868" y="5"/>
                    </a:cubicBezTo>
                    <a:lnTo>
                      <a:pt x="4868" y="5"/>
                    </a:lnTo>
                    <a:cubicBezTo>
                      <a:pt x="4867" y="5"/>
                      <a:pt x="4866" y="4"/>
                      <a:pt x="4866" y="3"/>
                    </a:cubicBezTo>
                    <a:cubicBezTo>
                      <a:pt x="4866" y="2"/>
                      <a:pt x="4867" y="1"/>
                      <a:pt x="4868" y="1"/>
                    </a:cubicBezTo>
                    <a:close/>
                    <a:moveTo>
                      <a:pt x="4876" y="1"/>
                    </a:moveTo>
                    <a:lnTo>
                      <a:pt x="4876" y="1"/>
                    </a:lnTo>
                    <a:cubicBezTo>
                      <a:pt x="4877" y="1"/>
                      <a:pt x="4878" y="2"/>
                      <a:pt x="4878" y="3"/>
                    </a:cubicBezTo>
                    <a:cubicBezTo>
                      <a:pt x="4878" y="4"/>
                      <a:pt x="4877" y="5"/>
                      <a:pt x="4876" y="5"/>
                    </a:cubicBezTo>
                    <a:lnTo>
                      <a:pt x="4876" y="5"/>
                    </a:lnTo>
                    <a:cubicBezTo>
                      <a:pt x="4875" y="5"/>
                      <a:pt x="4874" y="4"/>
                      <a:pt x="4874" y="3"/>
                    </a:cubicBezTo>
                    <a:cubicBezTo>
                      <a:pt x="4874" y="2"/>
                      <a:pt x="4875" y="1"/>
                      <a:pt x="4876" y="1"/>
                    </a:cubicBezTo>
                    <a:close/>
                    <a:moveTo>
                      <a:pt x="4884" y="1"/>
                    </a:moveTo>
                    <a:lnTo>
                      <a:pt x="4884" y="1"/>
                    </a:lnTo>
                    <a:cubicBezTo>
                      <a:pt x="4885" y="1"/>
                      <a:pt x="4886" y="2"/>
                      <a:pt x="4886" y="3"/>
                    </a:cubicBezTo>
                    <a:cubicBezTo>
                      <a:pt x="4886" y="4"/>
                      <a:pt x="4885" y="5"/>
                      <a:pt x="4884" y="5"/>
                    </a:cubicBezTo>
                    <a:lnTo>
                      <a:pt x="4884" y="5"/>
                    </a:lnTo>
                    <a:cubicBezTo>
                      <a:pt x="4883" y="5"/>
                      <a:pt x="4882" y="4"/>
                      <a:pt x="4882" y="3"/>
                    </a:cubicBezTo>
                    <a:cubicBezTo>
                      <a:pt x="4882" y="2"/>
                      <a:pt x="4883" y="1"/>
                      <a:pt x="4884" y="1"/>
                    </a:cubicBezTo>
                    <a:close/>
                    <a:moveTo>
                      <a:pt x="4892" y="1"/>
                    </a:moveTo>
                    <a:lnTo>
                      <a:pt x="4892" y="1"/>
                    </a:lnTo>
                    <a:cubicBezTo>
                      <a:pt x="4893" y="1"/>
                      <a:pt x="4894" y="2"/>
                      <a:pt x="4894" y="3"/>
                    </a:cubicBezTo>
                    <a:cubicBezTo>
                      <a:pt x="4894" y="4"/>
                      <a:pt x="4893" y="5"/>
                      <a:pt x="4892" y="5"/>
                    </a:cubicBezTo>
                    <a:lnTo>
                      <a:pt x="4892" y="5"/>
                    </a:lnTo>
                    <a:cubicBezTo>
                      <a:pt x="4891" y="5"/>
                      <a:pt x="4890" y="4"/>
                      <a:pt x="4890" y="3"/>
                    </a:cubicBezTo>
                    <a:cubicBezTo>
                      <a:pt x="4890" y="2"/>
                      <a:pt x="4891" y="1"/>
                      <a:pt x="4892" y="1"/>
                    </a:cubicBezTo>
                    <a:close/>
                    <a:moveTo>
                      <a:pt x="4900" y="1"/>
                    </a:moveTo>
                    <a:lnTo>
                      <a:pt x="4900" y="1"/>
                    </a:lnTo>
                    <a:cubicBezTo>
                      <a:pt x="4901" y="1"/>
                      <a:pt x="4902" y="2"/>
                      <a:pt x="4902" y="3"/>
                    </a:cubicBezTo>
                    <a:cubicBezTo>
                      <a:pt x="4902" y="4"/>
                      <a:pt x="4901" y="5"/>
                      <a:pt x="4900" y="5"/>
                    </a:cubicBezTo>
                    <a:lnTo>
                      <a:pt x="4900" y="5"/>
                    </a:lnTo>
                    <a:cubicBezTo>
                      <a:pt x="4899" y="5"/>
                      <a:pt x="4898" y="4"/>
                      <a:pt x="4898" y="3"/>
                    </a:cubicBezTo>
                    <a:cubicBezTo>
                      <a:pt x="4898" y="2"/>
                      <a:pt x="4899" y="1"/>
                      <a:pt x="4900" y="1"/>
                    </a:cubicBezTo>
                    <a:close/>
                    <a:moveTo>
                      <a:pt x="4908" y="1"/>
                    </a:moveTo>
                    <a:lnTo>
                      <a:pt x="4908" y="1"/>
                    </a:lnTo>
                    <a:cubicBezTo>
                      <a:pt x="4909" y="1"/>
                      <a:pt x="4910" y="2"/>
                      <a:pt x="4910" y="3"/>
                    </a:cubicBezTo>
                    <a:cubicBezTo>
                      <a:pt x="4910" y="4"/>
                      <a:pt x="4909" y="5"/>
                      <a:pt x="4908" y="5"/>
                    </a:cubicBezTo>
                    <a:lnTo>
                      <a:pt x="4908" y="5"/>
                    </a:lnTo>
                    <a:cubicBezTo>
                      <a:pt x="4907" y="5"/>
                      <a:pt x="4906" y="4"/>
                      <a:pt x="4906" y="3"/>
                    </a:cubicBezTo>
                    <a:cubicBezTo>
                      <a:pt x="4906" y="2"/>
                      <a:pt x="4907" y="1"/>
                      <a:pt x="4908" y="1"/>
                    </a:cubicBezTo>
                    <a:close/>
                    <a:moveTo>
                      <a:pt x="4916" y="1"/>
                    </a:moveTo>
                    <a:lnTo>
                      <a:pt x="4916" y="1"/>
                    </a:lnTo>
                    <a:cubicBezTo>
                      <a:pt x="4917" y="1"/>
                      <a:pt x="4918" y="2"/>
                      <a:pt x="4918" y="3"/>
                    </a:cubicBezTo>
                    <a:cubicBezTo>
                      <a:pt x="4918" y="4"/>
                      <a:pt x="4917" y="5"/>
                      <a:pt x="4916" y="5"/>
                    </a:cubicBezTo>
                    <a:lnTo>
                      <a:pt x="4916" y="5"/>
                    </a:lnTo>
                    <a:cubicBezTo>
                      <a:pt x="4915" y="5"/>
                      <a:pt x="4914" y="4"/>
                      <a:pt x="4914" y="3"/>
                    </a:cubicBezTo>
                    <a:cubicBezTo>
                      <a:pt x="4914" y="2"/>
                      <a:pt x="4915" y="1"/>
                      <a:pt x="4916" y="1"/>
                    </a:cubicBezTo>
                    <a:close/>
                    <a:moveTo>
                      <a:pt x="4924" y="1"/>
                    </a:moveTo>
                    <a:lnTo>
                      <a:pt x="4924" y="1"/>
                    </a:lnTo>
                    <a:cubicBezTo>
                      <a:pt x="4925" y="1"/>
                      <a:pt x="4926" y="2"/>
                      <a:pt x="4926" y="3"/>
                    </a:cubicBezTo>
                    <a:cubicBezTo>
                      <a:pt x="4926" y="4"/>
                      <a:pt x="4925" y="5"/>
                      <a:pt x="4924" y="5"/>
                    </a:cubicBezTo>
                    <a:lnTo>
                      <a:pt x="4924" y="5"/>
                    </a:lnTo>
                    <a:cubicBezTo>
                      <a:pt x="4923" y="5"/>
                      <a:pt x="4922" y="4"/>
                      <a:pt x="4922" y="3"/>
                    </a:cubicBezTo>
                    <a:cubicBezTo>
                      <a:pt x="4922" y="2"/>
                      <a:pt x="4923" y="1"/>
                      <a:pt x="4924" y="1"/>
                    </a:cubicBezTo>
                    <a:close/>
                    <a:moveTo>
                      <a:pt x="4932" y="1"/>
                    </a:moveTo>
                    <a:lnTo>
                      <a:pt x="4932" y="1"/>
                    </a:lnTo>
                    <a:cubicBezTo>
                      <a:pt x="4933" y="1"/>
                      <a:pt x="4934" y="2"/>
                      <a:pt x="4934" y="3"/>
                    </a:cubicBezTo>
                    <a:cubicBezTo>
                      <a:pt x="4934" y="4"/>
                      <a:pt x="4933" y="5"/>
                      <a:pt x="4932" y="5"/>
                    </a:cubicBezTo>
                    <a:lnTo>
                      <a:pt x="4932" y="5"/>
                    </a:lnTo>
                    <a:cubicBezTo>
                      <a:pt x="4931" y="5"/>
                      <a:pt x="4930" y="4"/>
                      <a:pt x="4930" y="3"/>
                    </a:cubicBezTo>
                    <a:cubicBezTo>
                      <a:pt x="4930" y="2"/>
                      <a:pt x="4931" y="1"/>
                      <a:pt x="4932" y="1"/>
                    </a:cubicBezTo>
                    <a:close/>
                    <a:moveTo>
                      <a:pt x="4940" y="1"/>
                    </a:moveTo>
                    <a:lnTo>
                      <a:pt x="4940" y="1"/>
                    </a:lnTo>
                    <a:cubicBezTo>
                      <a:pt x="4941" y="1"/>
                      <a:pt x="4942" y="2"/>
                      <a:pt x="4942" y="3"/>
                    </a:cubicBezTo>
                    <a:cubicBezTo>
                      <a:pt x="4942" y="4"/>
                      <a:pt x="4941" y="5"/>
                      <a:pt x="4940" y="5"/>
                    </a:cubicBezTo>
                    <a:lnTo>
                      <a:pt x="4940" y="5"/>
                    </a:lnTo>
                    <a:cubicBezTo>
                      <a:pt x="4939" y="5"/>
                      <a:pt x="4938" y="4"/>
                      <a:pt x="4938" y="3"/>
                    </a:cubicBezTo>
                    <a:cubicBezTo>
                      <a:pt x="4938" y="2"/>
                      <a:pt x="4939" y="1"/>
                      <a:pt x="4940" y="1"/>
                    </a:cubicBezTo>
                    <a:close/>
                    <a:moveTo>
                      <a:pt x="4948" y="1"/>
                    </a:moveTo>
                    <a:lnTo>
                      <a:pt x="4948" y="1"/>
                    </a:lnTo>
                    <a:cubicBezTo>
                      <a:pt x="4949" y="1"/>
                      <a:pt x="4950" y="2"/>
                      <a:pt x="4950" y="3"/>
                    </a:cubicBezTo>
                    <a:cubicBezTo>
                      <a:pt x="4950" y="4"/>
                      <a:pt x="4949" y="5"/>
                      <a:pt x="4948" y="5"/>
                    </a:cubicBezTo>
                    <a:lnTo>
                      <a:pt x="4948" y="5"/>
                    </a:lnTo>
                    <a:cubicBezTo>
                      <a:pt x="4947" y="5"/>
                      <a:pt x="4946" y="4"/>
                      <a:pt x="4946" y="3"/>
                    </a:cubicBezTo>
                    <a:cubicBezTo>
                      <a:pt x="4946" y="2"/>
                      <a:pt x="4947" y="1"/>
                      <a:pt x="4948" y="1"/>
                    </a:cubicBezTo>
                    <a:close/>
                    <a:moveTo>
                      <a:pt x="4956" y="1"/>
                    </a:moveTo>
                    <a:lnTo>
                      <a:pt x="4956" y="1"/>
                    </a:lnTo>
                    <a:cubicBezTo>
                      <a:pt x="4957" y="1"/>
                      <a:pt x="4958" y="2"/>
                      <a:pt x="4958" y="3"/>
                    </a:cubicBezTo>
                    <a:cubicBezTo>
                      <a:pt x="4958" y="4"/>
                      <a:pt x="4957" y="5"/>
                      <a:pt x="4956" y="5"/>
                    </a:cubicBezTo>
                    <a:lnTo>
                      <a:pt x="4956" y="5"/>
                    </a:lnTo>
                    <a:cubicBezTo>
                      <a:pt x="4955" y="5"/>
                      <a:pt x="4954" y="4"/>
                      <a:pt x="4954" y="3"/>
                    </a:cubicBezTo>
                    <a:cubicBezTo>
                      <a:pt x="4954" y="2"/>
                      <a:pt x="4955" y="1"/>
                      <a:pt x="4956" y="1"/>
                    </a:cubicBezTo>
                    <a:close/>
                    <a:moveTo>
                      <a:pt x="4964" y="1"/>
                    </a:moveTo>
                    <a:lnTo>
                      <a:pt x="4964" y="1"/>
                    </a:lnTo>
                    <a:cubicBezTo>
                      <a:pt x="4965" y="1"/>
                      <a:pt x="4966" y="2"/>
                      <a:pt x="4966" y="3"/>
                    </a:cubicBezTo>
                    <a:cubicBezTo>
                      <a:pt x="4966" y="4"/>
                      <a:pt x="4965" y="5"/>
                      <a:pt x="4964" y="5"/>
                    </a:cubicBezTo>
                    <a:lnTo>
                      <a:pt x="4964" y="5"/>
                    </a:lnTo>
                    <a:cubicBezTo>
                      <a:pt x="4963" y="5"/>
                      <a:pt x="4962" y="4"/>
                      <a:pt x="4962" y="3"/>
                    </a:cubicBezTo>
                    <a:cubicBezTo>
                      <a:pt x="4962" y="2"/>
                      <a:pt x="4963" y="1"/>
                      <a:pt x="4964" y="1"/>
                    </a:cubicBezTo>
                    <a:close/>
                    <a:moveTo>
                      <a:pt x="4972" y="1"/>
                    </a:moveTo>
                    <a:lnTo>
                      <a:pt x="4972" y="1"/>
                    </a:lnTo>
                    <a:cubicBezTo>
                      <a:pt x="4973" y="1"/>
                      <a:pt x="4974" y="2"/>
                      <a:pt x="4974" y="3"/>
                    </a:cubicBezTo>
                    <a:cubicBezTo>
                      <a:pt x="4974" y="4"/>
                      <a:pt x="4973" y="5"/>
                      <a:pt x="4972" y="5"/>
                    </a:cubicBezTo>
                    <a:lnTo>
                      <a:pt x="4972" y="5"/>
                    </a:lnTo>
                    <a:cubicBezTo>
                      <a:pt x="4971" y="5"/>
                      <a:pt x="4970" y="4"/>
                      <a:pt x="4970" y="3"/>
                    </a:cubicBezTo>
                    <a:cubicBezTo>
                      <a:pt x="4970" y="2"/>
                      <a:pt x="4971" y="1"/>
                      <a:pt x="4972" y="1"/>
                    </a:cubicBezTo>
                    <a:close/>
                    <a:moveTo>
                      <a:pt x="4980" y="1"/>
                    </a:moveTo>
                    <a:lnTo>
                      <a:pt x="4980" y="1"/>
                    </a:lnTo>
                    <a:cubicBezTo>
                      <a:pt x="4981" y="1"/>
                      <a:pt x="4982" y="2"/>
                      <a:pt x="4982" y="3"/>
                    </a:cubicBezTo>
                    <a:cubicBezTo>
                      <a:pt x="4982" y="4"/>
                      <a:pt x="4981" y="5"/>
                      <a:pt x="4980" y="5"/>
                    </a:cubicBezTo>
                    <a:lnTo>
                      <a:pt x="4980" y="5"/>
                    </a:lnTo>
                    <a:cubicBezTo>
                      <a:pt x="4979" y="5"/>
                      <a:pt x="4978" y="4"/>
                      <a:pt x="4978" y="3"/>
                    </a:cubicBezTo>
                    <a:cubicBezTo>
                      <a:pt x="4978" y="2"/>
                      <a:pt x="4979" y="1"/>
                      <a:pt x="4980" y="1"/>
                    </a:cubicBezTo>
                    <a:close/>
                    <a:moveTo>
                      <a:pt x="4988" y="1"/>
                    </a:moveTo>
                    <a:lnTo>
                      <a:pt x="4988" y="1"/>
                    </a:lnTo>
                    <a:cubicBezTo>
                      <a:pt x="4989" y="1"/>
                      <a:pt x="4990" y="2"/>
                      <a:pt x="4990" y="3"/>
                    </a:cubicBezTo>
                    <a:cubicBezTo>
                      <a:pt x="4990" y="4"/>
                      <a:pt x="4989" y="5"/>
                      <a:pt x="4988" y="5"/>
                    </a:cubicBezTo>
                    <a:lnTo>
                      <a:pt x="4988" y="5"/>
                    </a:lnTo>
                    <a:cubicBezTo>
                      <a:pt x="4987" y="5"/>
                      <a:pt x="4986" y="4"/>
                      <a:pt x="4986" y="3"/>
                    </a:cubicBezTo>
                    <a:cubicBezTo>
                      <a:pt x="4986" y="2"/>
                      <a:pt x="4987" y="1"/>
                      <a:pt x="4988" y="1"/>
                    </a:cubicBezTo>
                    <a:close/>
                    <a:moveTo>
                      <a:pt x="4996" y="1"/>
                    </a:moveTo>
                    <a:lnTo>
                      <a:pt x="4996" y="1"/>
                    </a:lnTo>
                    <a:cubicBezTo>
                      <a:pt x="4997" y="1"/>
                      <a:pt x="4998" y="2"/>
                      <a:pt x="4998" y="3"/>
                    </a:cubicBezTo>
                    <a:cubicBezTo>
                      <a:pt x="4998" y="4"/>
                      <a:pt x="4997" y="5"/>
                      <a:pt x="4996" y="5"/>
                    </a:cubicBezTo>
                    <a:lnTo>
                      <a:pt x="4996" y="5"/>
                    </a:lnTo>
                    <a:cubicBezTo>
                      <a:pt x="4995" y="5"/>
                      <a:pt x="4994" y="4"/>
                      <a:pt x="4994" y="3"/>
                    </a:cubicBezTo>
                    <a:cubicBezTo>
                      <a:pt x="4994" y="2"/>
                      <a:pt x="4995" y="1"/>
                      <a:pt x="4996" y="1"/>
                    </a:cubicBezTo>
                    <a:close/>
                    <a:moveTo>
                      <a:pt x="5004" y="1"/>
                    </a:moveTo>
                    <a:lnTo>
                      <a:pt x="5004" y="1"/>
                    </a:lnTo>
                    <a:cubicBezTo>
                      <a:pt x="5005" y="1"/>
                      <a:pt x="5006" y="2"/>
                      <a:pt x="5006" y="3"/>
                    </a:cubicBezTo>
                    <a:cubicBezTo>
                      <a:pt x="5006" y="4"/>
                      <a:pt x="5005" y="5"/>
                      <a:pt x="5004" y="5"/>
                    </a:cubicBezTo>
                    <a:lnTo>
                      <a:pt x="5004" y="5"/>
                    </a:lnTo>
                    <a:cubicBezTo>
                      <a:pt x="5003" y="5"/>
                      <a:pt x="5002" y="4"/>
                      <a:pt x="5002" y="3"/>
                    </a:cubicBezTo>
                    <a:cubicBezTo>
                      <a:pt x="5002" y="2"/>
                      <a:pt x="5003" y="1"/>
                      <a:pt x="5004" y="1"/>
                    </a:cubicBezTo>
                    <a:close/>
                    <a:moveTo>
                      <a:pt x="5012" y="1"/>
                    </a:moveTo>
                    <a:lnTo>
                      <a:pt x="5012" y="1"/>
                    </a:lnTo>
                    <a:cubicBezTo>
                      <a:pt x="5013" y="1"/>
                      <a:pt x="5014" y="2"/>
                      <a:pt x="5014" y="3"/>
                    </a:cubicBezTo>
                    <a:cubicBezTo>
                      <a:pt x="5014" y="4"/>
                      <a:pt x="5013" y="5"/>
                      <a:pt x="5012" y="5"/>
                    </a:cubicBezTo>
                    <a:lnTo>
                      <a:pt x="5012" y="5"/>
                    </a:lnTo>
                    <a:cubicBezTo>
                      <a:pt x="5011" y="5"/>
                      <a:pt x="5010" y="4"/>
                      <a:pt x="5010" y="3"/>
                    </a:cubicBezTo>
                    <a:cubicBezTo>
                      <a:pt x="5010" y="2"/>
                      <a:pt x="5011" y="1"/>
                      <a:pt x="5012" y="1"/>
                    </a:cubicBezTo>
                    <a:close/>
                    <a:moveTo>
                      <a:pt x="5020" y="1"/>
                    </a:moveTo>
                    <a:lnTo>
                      <a:pt x="5020" y="1"/>
                    </a:lnTo>
                    <a:cubicBezTo>
                      <a:pt x="5021" y="1"/>
                      <a:pt x="5022" y="2"/>
                      <a:pt x="5022" y="3"/>
                    </a:cubicBezTo>
                    <a:cubicBezTo>
                      <a:pt x="5022" y="4"/>
                      <a:pt x="5021" y="5"/>
                      <a:pt x="5020" y="5"/>
                    </a:cubicBezTo>
                    <a:lnTo>
                      <a:pt x="5020" y="5"/>
                    </a:lnTo>
                    <a:cubicBezTo>
                      <a:pt x="5019" y="5"/>
                      <a:pt x="5018" y="4"/>
                      <a:pt x="5018" y="3"/>
                    </a:cubicBezTo>
                    <a:cubicBezTo>
                      <a:pt x="5018" y="2"/>
                      <a:pt x="5019" y="1"/>
                      <a:pt x="5020" y="1"/>
                    </a:cubicBezTo>
                    <a:close/>
                    <a:moveTo>
                      <a:pt x="5028" y="1"/>
                    </a:moveTo>
                    <a:lnTo>
                      <a:pt x="5028" y="1"/>
                    </a:lnTo>
                    <a:cubicBezTo>
                      <a:pt x="5029" y="1"/>
                      <a:pt x="5030" y="2"/>
                      <a:pt x="5030" y="3"/>
                    </a:cubicBezTo>
                    <a:cubicBezTo>
                      <a:pt x="5030" y="4"/>
                      <a:pt x="5029" y="5"/>
                      <a:pt x="5028" y="5"/>
                    </a:cubicBezTo>
                    <a:lnTo>
                      <a:pt x="5028" y="5"/>
                    </a:lnTo>
                    <a:cubicBezTo>
                      <a:pt x="5027" y="5"/>
                      <a:pt x="5026" y="4"/>
                      <a:pt x="5026" y="3"/>
                    </a:cubicBezTo>
                    <a:cubicBezTo>
                      <a:pt x="5026" y="2"/>
                      <a:pt x="5027" y="1"/>
                      <a:pt x="5028" y="1"/>
                    </a:cubicBezTo>
                    <a:close/>
                    <a:moveTo>
                      <a:pt x="5036" y="1"/>
                    </a:moveTo>
                    <a:lnTo>
                      <a:pt x="5036" y="1"/>
                    </a:lnTo>
                    <a:cubicBezTo>
                      <a:pt x="5037" y="1"/>
                      <a:pt x="5038" y="2"/>
                      <a:pt x="5038" y="3"/>
                    </a:cubicBezTo>
                    <a:cubicBezTo>
                      <a:pt x="5038" y="4"/>
                      <a:pt x="5037" y="5"/>
                      <a:pt x="5036" y="5"/>
                    </a:cubicBezTo>
                    <a:lnTo>
                      <a:pt x="5036" y="5"/>
                    </a:lnTo>
                    <a:cubicBezTo>
                      <a:pt x="5035" y="5"/>
                      <a:pt x="5034" y="4"/>
                      <a:pt x="5034" y="3"/>
                    </a:cubicBezTo>
                    <a:cubicBezTo>
                      <a:pt x="5034" y="2"/>
                      <a:pt x="5035" y="1"/>
                      <a:pt x="5036" y="1"/>
                    </a:cubicBezTo>
                    <a:close/>
                    <a:moveTo>
                      <a:pt x="5044" y="1"/>
                    </a:moveTo>
                    <a:lnTo>
                      <a:pt x="5044" y="1"/>
                    </a:lnTo>
                    <a:cubicBezTo>
                      <a:pt x="5045" y="1"/>
                      <a:pt x="5046" y="2"/>
                      <a:pt x="5046" y="3"/>
                    </a:cubicBezTo>
                    <a:cubicBezTo>
                      <a:pt x="5046" y="4"/>
                      <a:pt x="5045" y="5"/>
                      <a:pt x="5044" y="5"/>
                    </a:cubicBezTo>
                    <a:lnTo>
                      <a:pt x="5044" y="5"/>
                    </a:lnTo>
                    <a:cubicBezTo>
                      <a:pt x="5043" y="5"/>
                      <a:pt x="5042" y="4"/>
                      <a:pt x="5042" y="3"/>
                    </a:cubicBezTo>
                    <a:cubicBezTo>
                      <a:pt x="5042" y="2"/>
                      <a:pt x="5043" y="1"/>
                      <a:pt x="5044" y="1"/>
                    </a:cubicBezTo>
                    <a:close/>
                    <a:moveTo>
                      <a:pt x="5052" y="1"/>
                    </a:moveTo>
                    <a:lnTo>
                      <a:pt x="5052" y="1"/>
                    </a:lnTo>
                    <a:cubicBezTo>
                      <a:pt x="5053" y="1"/>
                      <a:pt x="5054" y="2"/>
                      <a:pt x="5054" y="3"/>
                    </a:cubicBezTo>
                    <a:cubicBezTo>
                      <a:pt x="5054" y="4"/>
                      <a:pt x="5053" y="5"/>
                      <a:pt x="5052" y="5"/>
                    </a:cubicBezTo>
                    <a:lnTo>
                      <a:pt x="5052" y="5"/>
                    </a:lnTo>
                    <a:cubicBezTo>
                      <a:pt x="5051" y="5"/>
                      <a:pt x="5050" y="4"/>
                      <a:pt x="5050" y="3"/>
                    </a:cubicBezTo>
                    <a:cubicBezTo>
                      <a:pt x="5050" y="2"/>
                      <a:pt x="5051" y="1"/>
                      <a:pt x="5052" y="1"/>
                    </a:cubicBezTo>
                    <a:close/>
                    <a:moveTo>
                      <a:pt x="5060" y="1"/>
                    </a:moveTo>
                    <a:lnTo>
                      <a:pt x="5060" y="1"/>
                    </a:lnTo>
                    <a:cubicBezTo>
                      <a:pt x="5061" y="1"/>
                      <a:pt x="5062" y="2"/>
                      <a:pt x="5062" y="3"/>
                    </a:cubicBezTo>
                    <a:cubicBezTo>
                      <a:pt x="5062" y="4"/>
                      <a:pt x="5061" y="5"/>
                      <a:pt x="5060" y="5"/>
                    </a:cubicBezTo>
                    <a:lnTo>
                      <a:pt x="5060" y="5"/>
                    </a:lnTo>
                    <a:cubicBezTo>
                      <a:pt x="5059" y="5"/>
                      <a:pt x="5058" y="4"/>
                      <a:pt x="5058" y="3"/>
                    </a:cubicBezTo>
                    <a:cubicBezTo>
                      <a:pt x="5058" y="2"/>
                      <a:pt x="5059" y="1"/>
                      <a:pt x="5060" y="1"/>
                    </a:cubicBezTo>
                    <a:close/>
                    <a:moveTo>
                      <a:pt x="5068" y="1"/>
                    </a:moveTo>
                    <a:lnTo>
                      <a:pt x="5068" y="1"/>
                    </a:lnTo>
                    <a:cubicBezTo>
                      <a:pt x="5069" y="1"/>
                      <a:pt x="5070" y="2"/>
                      <a:pt x="5070" y="3"/>
                    </a:cubicBezTo>
                    <a:cubicBezTo>
                      <a:pt x="5070" y="4"/>
                      <a:pt x="5069" y="5"/>
                      <a:pt x="5068" y="5"/>
                    </a:cubicBezTo>
                    <a:lnTo>
                      <a:pt x="5068" y="5"/>
                    </a:lnTo>
                    <a:cubicBezTo>
                      <a:pt x="5067" y="5"/>
                      <a:pt x="5066" y="4"/>
                      <a:pt x="5066" y="3"/>
                    </a:cubicBezTo>
                    <a:cubicBezTo>
                      <a:pt x="5066" y="2"/>
                      <a:pt x="5067" y="1"/>
                      <a:pt x="5068" y="1"/>
                    </a:cubicBezTo>
                    <a:close/>
                    <a:moveTo>
                      <a:pt x="5076" y="1"/>
                    </a:moveTo>
                    <a:lnTo>
                      <a:pt x="5076" y="1"/>
                    </a:lnTo>
                    <a:cubicBezTo>
                      <a:pt x="5077" y="1"/>
                      <a:pt x="5078" y="2"/>
                      <a:pt x="5078" y="3"/>
                    </a:cubicBezTo>
                    <a:cubicBezTo>
                      <a:pt x="5078" y="4"/>
                      <a:pt x="5077" y="5"/>
                      <a:pt x="5076" y="5"/>
                    </a:cubicBezTo>
                    <a:lnTo>
                      <a:pt x="5076" y="5"/>
                    </a:lnTo>
                    <a:cubicBezTo>
                      <a:pt x="5075" y="5"/>
                      <a:pt x="5074" y="4"/>
                      <a:pt x="5074" y="3"/>
                    </a:cubicBezTo>
                    <a:cubicBezTo>
                      <a:pt x="5074" y="2"/>
                      <a:pt x="5075" y="1"/>
                      <a:pt x="5076" y="1"/>
                    </a:cubicBezTo>
                    <a:close/>
                    <a:moveTo>
                      <a:pt x="5084" y="1"/>
                    </a:moveTo>
                    <a:lnTo>
                      <a:pt x="5084" y="1"/>
                    </a:lnTo>
                    <a:cubicBezTo>
                      <a:pt x="5085" y="1"/>
                      <a:pt x="5086" y="2"/>
                      <a:pt x="5086" y="3"/>
                    </a:cubicBezTo>
                    <a:cubicBezTo>
                      <a:pt x="5086" y="4"/>
                      <a:pt x="5085" y="5"/>
                      <a:pt x="5084" y="5"/>
                    </a:cubicBezTo>
                    <a:lnTo>
                      <a:pt x="5084" y="5"/>
                    </a:lnTo>
                    <a:cubicBezTo>
                      <a:pt x="5083" y="5"/>
                      <a:pt x="5082" y="4"/>
                      <a:pt x="5082" y="3"/>
                    </a:cubicBezTo>
                    <a:cubicBezTo>
                      <a:pt x="5082" y="2"/>
                      <a:pt x="5083" y="1"/>
                      <a:pt x="5084" y="1"/>
                    </a:cubicBezTo>
                    <a:close/>
                    <a:moveTo>
                      <a:pt x="5092" y="1"/>
                    </a:moveTo>
                    <a:lnTo>
                      <a:pt x="5092" y="1"/>
                    </a:lnTo>
                    <a:cubicBezTo>
                      <a:pt x="5093" y="1"/>
                      <a:pt x="5094" y="2"/>
                      <a:pt x="5094" y="3"/>
                    </a:cubicBezTo>
                    <a:cubicBezTo>
                      <a:pt x="5094" y="4"/>
                      <a:pt x="5093" y="5"/>
                      <a:pt x="5092" y="5"/>
                    </a:cubicBezTo>
                    <a:lnTo>
                      <a:pt x="5092" y="5"/>
                    </a:lnTo>
                    <a:cubicBezTo>
                      <a:pt x="5091" y="5"/>
                      <a:pt x="5090" y="4"/>
                      <a:pt x="5090" y="3"/>
                    </a:cubicBezTo>
                    <a:cubicBezTo>
                      <a:pt x="5090" y="2"/>
                      <a:pt x="5091" y="1"/>
                      <a:pt x="5092" y="1"/>
                    </a:cubicBezTo>
                    <a:close/>
                    <a:moveTo>
                      <a:pt x="5100" y="1"/>
                    </a:moveTo>
                    <a:lnTo>
                      <a:pt x="5100" y="1"/>
                    </a:lnTo>
                    <a:cubicBezTo>
                      <a:pt x="5101" y="1"/>
                      <a:pt x="5102" y="2"/>
                      <a:pt x="5102" y="3"/>
                    </a:cubicBezTo>
                    <a:cubicBezTo>
                      <a:pt x="5102" y="4"/>
                      <a:pt x="5101" y="5"/>
                      <a:pt x="5100" y="5"/>
                    </a:cubicBezTo>
                    <a:lnTo>
                      <a:pt x="5100" y="5"/>
                    </a:lnTo>
                    <a:cubicBezTo>
                      <a:pt x="5099" y="5"/>
                      <a:pt x="5098" y="4"/>
                      <a:pt x="5098" y="3"/>
                    </a:cubicBezTo>
                    <a:cubicBezTo>
                      <a:pt x="5098" y="2"/>
                      <a:pt x="5099" y="1"/>
                      <a:pt x="5100" y="1"/>
                    </a:cubicBezTo>
                    <a:close/>
                    <a:moveTo>
                      <a:pt x="5108" y="1"/>
                    </a:moveTo>
                    <a:lnTo>
                      <a:pt x="5108" y="1"/>
                    </a:lnTo>
                    <a:cubicBezTo>
                      <a:pt x="5109" y="1"/>
                      <a:pt x="5110" y="2"/>
                      <a:pt x="5110" y="3"/>
                    </a:cubicBezTo>
                    <a:cubicBezTo>
                      <a:pt x="5110" y="4"/>
                      <a:pt x="5109" y="5"/>
                      <a:pt x="5108" y="5"/>
                    </a:cubicBezTo>
                    <a:lnTo>
                      <a:pt x="5108" y="5"/>
                    </a:lnTo>
                    <a:cubicBezTo>
                      <a:pt x="5107" y="5"/>
                      <a:pt x="5106" y="4"/>
                      <a:pt x="5106" y="3"/>
                    </a:cubicBezTo>
                    <a:cubicBezTo>
                      <a:pt x="5106" y="2"/>
                      <a:pt x="5107" y="1"/>
                      <a:pt x="5108" y="1"/>
                    </a:cubicBezTo>
                    <a:close/>
                    <a:moveTo>
                      <a:pt x="5116" y="1"/>
                    </a:moveTo>
                    <a:lnTo>
                      <a:pt x="5116" y="1"/>
                    </a:lnTo>
                    <a:cubicBezTo>
                      <a:pt x="5117" y="1"/>
                      <a:pt x="5118" y="2"/>
                      <a:pt x="5118" y="3"/>
                    </a:cubicBezTo>
                    <a:cubicBezTo>
                      <a:pt x="5118" y="4"/>
                      <a:pt x="5117" y="5"/>
                      <a:pt x="5116" y="5"/>
                    </a:cubicBezTo>
                    <a:lnTo>
                      <a:pt x="5116" y="5"/>
                    </a:lnTo>
                    <a:cubicBezTo>
                      <a:pt x="5115" y="5"/>
                      <a:pt x="5114" y="4"/>
                      <a:pt x="5114" y="3"/>
                    </a:cubicBezTo>
                    <a:cubicBezTo>
                      <a:pt x="5114" y="2"/>
                      <a:pt x="5115" y="1"/>
                      <a:pt x="5116" y="1"/>
                    </a:cubicBezTo>
                    <a:close/>
                    <a:moveTo>
                      <a:pt x="5124" y="1"/>
                    </a:moveTo>
                    <a:lnTo>
                      <a:pt x="5124" y="1"/>
                    </a:lnTo>
                    <a:cubicBezTo>
                      <a:pt x="5125" y="1"/>
                      <a:pt x="5126" y="2"/>
                      <a:pt x="5126" y="3"/>
                    </a:cubicBezTo>
                    <a:cubicBezTo>
                      <a:pt x="5126" y="4"/>
                      <a:pt x="5125" y="5"/>
                      <a:pt x="5124" y="5"/>
                    </a:cubicBezTo>
                    <a:lnTo>
                      <a:pt x="5124" y="5"/>
                    </a:lnTo>
                    <a:cubicBezTo>
                      <a:pt x="5123" y="5"/>
                      <a:pt x="5122" y="4"/>
                      <a:pt x="5122" y="3"/>
                    </a:cubicBezTo>
                    <a:cubicBezTo>
                      <a:pt x="5122" y="2"/>
                      <a:pt x="5123" y="1"/>
                      <a:pt x="5124" y="1"/>
                    </a:cubicBezTo>
                    <a:close/>
                    <a:moveTo>
                      <a:pt x="5132" y="1"/>
                    </a:moveTo>
                    <a:lnTo>
                      <a:pt x="5132" y="1"/>
                    </a:lnTo>
                    <a:cubicBezTo>
                      <a:pt x="5133" y="1"/>
                      <a:pt x="5134" y="2"/>
                      <a:pt x="5134" y="3"/>
                    </a:cubicBezTo>
                    <a:cubicBezTo>
                      <a:pt x="5134" y="4"/>
                      <a:pt x="5133" y="5"/>
                      <a:pt x="5132" y="5"/>
                    </a:cubicBezTo>
                    <a:lnTo>
                      <a:pt x="5132" y="5"/>
                    </a:lnTo>
                    <a:cubicBezTo>
                      <a:pt x="5131" y="5"/>
                      <a:pt x="5130" y="4"/>
                      <a:pt x="5130" y="3"/>
                    </a:cubicBezTo>
                    <a:cubicBezTo>
                      <a:pt x="5130" y="2"/>
                      <a:pt x="5131" y="1"/>
                      <a:pt x="5132" y="1"/>
                    </a:cubicBezTo>
                    <a:close/>
                    <a:moveTo>
                      <a:pt x="5140" y="1"/>
                    </a:moveTo>
                    <a:lnTo>
                      <a:pt x="5140" y="1"/>
                    </a:lnTo>
                    <a:cubicBezTo>
                      <a:pt x="5141" y="1"/>
                      <a:pt x="5142" y="2"/>
                      <a:pt x="5142" y="3"/>
                    </a:cubicBezTo>
                    <a:cubicBezTo>
                      <a:pt x="5142" y="4"/>
                      <a:pt x="5141" y="5"/>
                      <a:pt x="5140" y="5"/>
                    </a:cubicBezTo>
                    <a:lnTo>
                      <a:pt x="5140" y="5"/>
                    </a:lnTo>
                    <a:cubicBezTo>
                      <a:pt x="5139" y="5"/>
                      <a:pt x="5138" y="4"/>
                      <a:pt x="5138" y="3"/>
                    </a:cubicBezTo>
                    <a:cubicBezTo>
                      <a:pt x="5138" y="2"/>
                      <a:pt x="5139" y="1"/>
                      <a:pt x="5140" y="1"/>
                    </a:cubicBezTo>
                    <a:close/>
                    <a:moveTo>
                      <a:pt x="5148" y="1"/>
                    </a:moveTo>
                    <a:lnTo>
                      <a:pt x="5148" y="1"/>
                    </a:lnTo>
                    <a:cubicBezTo>
                      <a:pt x="5149" y="1"/>
                      <a:pt x="5150" y="2"/>
                      <a:pt x="5150" y="3"/>
                    </a:cubicBezTo>
                    <a:cubicBezTo>
                      <a:pt x="5150" y="4"/>
                      <a:pt x="5149" y="5"/>
                      <a:pt x="5148" y="5"/>
                    </a:cubicBezTo>
                    <a:lnTo>
                      <a:pt x="5148" y="5"/>
                    </a:lnTo>
                    <a:cubicBezTo>
                      <a:pt x="5147" y="5"/>
                      <a:pt x="5146" y="4"/>
                      <a:pt x="5146" y="3"/>
                    </a:cubicBezTo>
                    <a:cubicBezTo>
                      <a:pt x="5146" y="2"/>
                      <a:pt x="5147" y="1"/>
                      <a:pt x="5148" y="1"/>
                    </a:cubicBezTo>
                    <a:close/>
                    <a:moveTo>
                      <a:pt x="5156" y="1"/>
                    </a:moveTo>
                    <a:lnTo>
                      <a:pt x="5156" y="1"/>
                    </a:lnTo>
                    <a:cubicBezTo>
                      <a:pt x="5157" y="1"/>
                      <a:pt x="5158" y="2"/>
                      <a:pt x="5158" y="3"/>
                    </a:cubicBezTo>
                    <a:cubicBezTo>
                      <a:pt x="5158" y="4"/>
                      <a:pt x="5157" y="5"/>
                      <a:pt x="5156" y="5"/>
                    </a:cubicBezTo>
                    <a:lnTo>
                      <a:pt x="5156" y="5"/>
                    </a:lnTo>
                    <a:cubicBezTo>
                      <a:pt x="5155" y="5"/>
                      <a:pt x="5154" y="4"/>
                      <a:pt x="5154" y="3"/>
                    </a:cubicBezTo>
                    <a:cubicBezTo>
                      <a:pt x="5154" y="2"/>
                      <a:pt x="5155" y="1"/>
                      <a:pt x="5156" y="1"/>
                    </a:cubicBezTo>
                    <a:close/>
                    <a:moveTo>
                      <a:pt x="5164" y="1"/>
                    </a:moveTo>
                    <a:lnTo>
                      <a:pt x="5164" y="1"/>
                    </a:lnTo>
                    <a:cubicBezTo>
                      <a:pt x="5165" y="1"/>
                      <a:pt x="5166" y="2"/>
                      <a:pt x="5166" y="3"/>
                    </a:cubicBezTo>
                    <a:cubicBezTo>
                      <a:pt x="5166" y="4"/>
                      <a:pt x="5165" y="5"/>
                      <a:pt x="5164" y="5"/>
                    </a:cubicBezTo>
                    <a:lnTo>
                      <a:pt x="5164" y="5"/>
                    </a:lnTo>
                    <a:cubicBezTo>
                      <a:pt x="5163" y="5"/>
                      <a:pt x="5162" y="4"/>
                      <a:pt x="5162" y="3"/>
                    </a:cubicBezTo>
                    <a:cubicBezTo>
                      <a:pt x="5162" y="2"/>
                      <a:pt x="5163" y="1"/>
                      <a:pt x="5164" y="1"/>
                    </a:cubicBezTo>
                    <a:close/>
                    <a:moveTo>
                      <a:pt x="5172" y="1"/>
                    </a:moveTo>
                    <a:lnTo>
                      <a:pt x="5172" y="1"/>
                    </a:lnTo>
                    <a:cubicBezTo>
                      <a:pt x="5173" y="1"/>
                      <a:pt x="5174" y="2"/>
                      <a:pt x="5174" y="3"/>
                    </a:cubicBezTo>
                    <a:cubicBezTo>
                      <a:pt x="5174" y="4"/>
                      <a:pt x="5173" y="5"/>
                      <a:pt x="5172" y="5"/>
                    </a:cubicBezTo>
                    <a:lnTo>
                      <a:pt x="5172" y="5"/>
                    </a:lnTo>
                    <a:cubicBezTo>
                      <a:pt x="5171" y="5"/>
                      <a:pt x="5170" y="4"/>
                      <a:pt x="5170" y="3"/>
                    </a:cubicBezTo>
                    <a:cubicBezTo>
                      <a:pt x="5170" y="2"/>
                      <a:pt x="5171" y="1"/>
                      <a:pt x="5172" y="1"/>
                    </a:cubicBezTo>
                    <a:close/>
                    <a:moveTo>
                      <a:pt x="5180" y="1"/>
                    </a:moveTo>
                    <a:lnTo>
                      <a:pt x="5180" y="1"/>
                    </a:lnTo>
                    <a:cubicBezTo>
                      <a:pt x="5181" y="1"/>
                      <a:pt x="5182" y="2"/>
                      <a:pt x="5182" y="3"/>
                    </a:cubicBezTo>
                    <a:cubicBezTo>
                      <a:pt x="5182" y="4"/>
                      <a:pt x="5181" y="5"/>
                      <a:pt x="5180" y="5"/>
                    </a:cubicBezTo>
                    <a:lnTo>
                      <a:pt x="5180" y="5"/>
                    </a:lnTo>
                    <a:cubicBezTo>
                      <a:pt x="5179" y="5"/>
                      <a:pt x="5178" y="4"/>
                      <a:pt x="5178" y="3"/>
                    </a:cubicBezTo>
                    <a:cubicBezTo>
                      <a:pt x="5178" y="2"/>
                      <a:pt x="5179" y="1"/>
                      <a:pt x="5180" y="1"/>
                    </a:cubicBezTo>
                    <a:close/>
                    <a:moveTo>
                      <a:pt x="5188" y="1"/>
                    </a:moveTo>
                    <a:lnTo>
                      <a:pt x="5188" y="1"/>
                    </a:lnTo>
                    <a:cubicBezTo>
                      <a:pt x="5189" y="1"/>
                      <a:pt x="5190" y="2"/>
                      <a:pt x="5190" y="3"/>
                    </a:cubicBezTo>
                    <a:cubicBezTo>
                      <a:pt x="5190" y="4"/>
                      <a:pt x="5189" y="5"/>
                      <a:pt x="5188" y="5"/>
                    </a:cubicBezTo>
                    <a:lnTo>
                      <a:pt x="5188" y="5"/>
                    </a:lnTo>
                    <a:cubicBezTo>
                      <a:pt x="5187" y="5"/>
                      <a:pt x="5186" y="4"/>
                      <a:pt x="5186" y="3"/>
                    </a:cubicBezTo>
                    <a:cubicBezTo>
                      <a:pt x="5186" y="2"/>
                      <a:pt x="5187" y="1"/>
                      <a:pt x="5188" y="1"/>
                    </a:cubicBezTo>
                    <a:close/>
                    <a:moveTo>
                      <a:pt x="5196" y="1"/>
                    </a:moveTo>
                    <a:lnTo>
                      <a:pt x="5196" y="1"/>
                    </a:lnTo>
                    <a:cubicBezTo>
                      <a:pt x="5197" y="1"/>
                      <a:pt x="5198" y="2"/>
                      <a:pt x="5198" y="3"/>
                    </a:cubicBezTo>
                    <a:cubicBezTo>
                      <a:pt x="5198" y="4"/>
                      <a:pt x="5197" y="5"/>
                      <a:pt x="5196" y="5"/>
                    </a:cubicBezTo>
                    <a:lnTo>
                      <a:pt x="5196" y="5"/>
                    </a:lnTo>
                    <a:cubicBezTo>
                      <a:pt x="5195" y="5"/>
                      <a:pt x="5194" y="4"/>
                      <a:pt x="5194" y="3"/>
                    </a:cubicBezTo>
                    <a:cubicBezTo>
                      <a:pt x="5194" y="2"/>
                      <a:pt x="5195" y="1"/>
                      <a:pt x="5196" y="1"/>
                    </a:cubicBezTo>
                    <a:close/>
                    <a:moveTo>
                      <a:pt x="5204" y="1"/>
                    </a:moveTo>
                    <a:lnTo>
                      <a:pt x="5204" y="1"/>
                    </a:lnTo>
                    <a:cubicBezTo>
                      <a:pt x="5205" y="1"/>
                      <a:pt x="5206" y="2"/>
                      <a:pt x="5206" y="3"/>
                    </a:cubicBezTo>
                    <a:cubicBezTo>
                      <a:pt x="5206" y="4"/>
                      <a:pt x="5205" y="5"/>
                      <a:pt x="5204" y="5"/>
                    </a:cubicBezTo>
                    <a:lnTo>
                      <a:pt x="5204" y="5"/>
                    </a:lnTo>
                    <a:cubicBezTo>
                      <a:pt x="5203" y="5"/>
                      <a:pt x="5202" y="4"/>
                      <a:pt x="5202" y="3"/>
                    </a:cubicBezTo>
                    <a:cubicBezTo>
                      <a:pt x="5202" y="2"/>
                      <a:pt x="5203" y="1"/>
                      <a:pt x="5204" y="1"/>
                    </a:cubicBezTo>
                    <a:close/>
                    <a:moveTo>
                      <a:pt x="5212" y="1"/>
                    </a:moveTo>
                    <a:lnTo>
                      <a:pt x="5212" y="1"/>
                    </a:lnTo>
                    <a:cubicBezTo>
                      <a:pt x="5213" y="1"/>
                      <a:pt x="5214" y="2"/>
                      <a:pt x="5214" y="3"/>
                    </a:cubicBezTo>
                    <a:cubicBezTo>
                      <a:pt x="5214" y="4"/>
                      <a:pt x="5213" y="5"/>
                      <a:pt x="5212" y="5"/>
                    </a:cubicBezTo>
                    <a:lnTo>
                      <a:pt x="5212" y="5"/>
                    </a:lnTo>
                    <a:cubicBezTo>
                      <a:pt x="5211" y="5"/>
                      <a:pt x="5210" y="4"/>
                      <a:pt x="5210" y="3"/>
                    </a:cubicBezTo>
                    <a:cubicBezTo>
                      <a:pt x="5210" y="2"/>
                      <a:pt x="5211" y="1"/>
                      <a:pt x="5212" y="1"/>
                    </a:cubicBezTo>
                    <a:close/>
                    <a:moveTo>
                      <a:pt x="5220" y="1"/>
                    </a:moveTo>
                    <a:lnTo>
                      <a:pt x="5220" y="1"/>
                    </a:lnTo>
                    <a:cubicBezTo>
                      <a:pt x="5221" y="1"/>
                      <a:pt x="5222" y="2"/>
                      <a:pt x="5222" y="3"/>
                    </a:cubicBezTo>
                    <a:cubicBezTo>
                      <a:pt x="5222" y="4"/>
                      <a:pt x="5221" y="5"/>
                      <a:pt x="5220" y="5"/>
                    </a:cubicBezTo>
                    <a:lnTo>
                      <a:pt x="5220" y="5"/>
                    </a:lnTo>
                    <a:cubicBezTo>
                      <a:pt x="5219" y="5"/>
                      <a:pt x="5218" y="4"/>
                      <a:pt x="5218" y="3"/>
                    </a:cubicBezTo>
                    <a:cubicBezTo>
                      <a:pt x="5218" y="2"/>
                      <a:pt x="5219" y="1"/>
                      <a:pt x="5220" y="1"/>
                    </a:cubicBezTo>
                    <a:close/>
                    <a:moveTo>
                      <a:pt x="5228" y="1"/>
                    </a:moveTo>
                    <a:lnTo>
                      <a:pt x="5228" y="1"/>
                    </a:lnTo>
                    <a:cubicBezTo>
                      <a:pt x="5229" y="1"/>
                      <a:pt x="5230" y="2"/>
                      <a:pt x="5230" y="3"/>
                    </a:cubicBezTo>
                    <a:cubicBezTo>
                      <a:pt x="5230" y="4"/>
                      <a:pt x="5229" y="5"/>
                      <a:pt x="5228" y="5"/>
                    </a:cubicBezTo>
                    <a:lnTo>
                      <a:pt x="5228" y="5"/>
                    </a:lnTo>
                    <a:cubicBezTo>
                      <a:pt x="5227" y="5"/>
                      <a:pt x="5226" y="4"/>
                      <a:pt x="5226" y="3"/>
                    </a:cubicBezTo>
                    <a:cubicBezTo>
                      <a:pt x="5226" y="2"/>
                      <a:pt x="5227" y="1"/>
                      <a:pt x="5228" y="1"/>
                    </a:cubicBezTo>
                    <a:close/>
                    <a:moveTo>
                      <a:pt x="5236" y="1"/>
                    </a:moveTo>
                    <a:lnTo>
                      <a:pt x="5236" y="1"/>
                    </a:lnTo>
                    <a:cubicBezTo>
                      <a:pt x="5237" y="1"/>
                      <a:pt x="5238" y="2"/>
                      <a:pt x="5238" y="3"/>
                    </a:cubicBezTo>
                    <a:cubicBezTo>
                      <a:pt x="5238" y="4"/>
                      <a:pt x="5237" y="5"/>
                      <a:pt x="5236" y="5"/>
                    </a:cubicBezTo>
                    <a:lnTo>
                      <a:pt x="5236" y="5"/>
                    </a:lnTo>
                    <a:cubicBezTo>
                      <a:pt x="5235" y="5"/>
                      <a:pt x="5234" y="4"/>
                      <a:pt x="5234" y="3"/>
                    </a:cubicBezTo>
                    <a:cubicBezTo>
                      <a:pt x="5234" y="2"/>
                      <a:pt x="5235" y="1"/>
                      <a:pt x="5236" y="1"/>
                    </a:cubicBezTo>
                    <a:close/>
                    <a:moveTo>
                      <a:pt x="5244" y="1"/>
                    </a:moveTo>
                    <a:lnTo>
                      <a:pt x="5244" y="1"/>
                    </a:lnTo>
                    <a:cubicBezTo>
                      <a:pt x="5245" y="1"/>
                      <a:pt x="5246" y="2"/>
                      <a:pt x="5246" y="3"/>
                    </a:cubicBezTo>
                    <a:cubicBezTo>
                      <a:pt x="5246" y="4"/>
                      <a:pt x="5245" y="5"/>
                      <a:pt x="5244" y="5"/>
                    </a:cubicBezTo>
                    <a:lnTo>
                      <a:pt x="5244" y="5"/>
                    </a:lnTo>
                    <a:cubicBezTo>
                      <a:pt x="5243" y="5"/>
                      <a:pt x="5242" y="4"/>
                      <a:pt x="5242" y="3"/>
                    </a:cubicBezTo>
                    <a:cubicBezTo>
                      <a:pt x="5242" y="2"/>
                      <a:pt x="5243" y="1"/>
                      <a:pt x="5244" y="1"/>
                    </a:cubicBezTo>
                    <a:close/>
                    <a:moveTo>
                      <a:pt x="5252" y="1"/>
                    </a:moveTo>
                    <a:lnTo>
                      <a:pt x="5252" y="1"/>
                    </a:lnTo>
                    <a:cubicBezTo>
                      <a:pt x="5253" y="1"/>
                      <a:pt x="5254" y="2"/>
                      <a:pt x="5254" y="3"/>
                    </a:cubicBezTo>
                    <a:cubicBezTo>
                      <a:pt x="5254" y="4"/>
                      <a:pt x="5253" y="5"/>
                      <a:pt x="5252" y="5"/>
                    </a:cubicBezTo>
                    <a:lnTo>
                      <a:pt x="5252" y="5"/>
                    </a:lnTo>
                    <a:cubicBezTo>
                      <a:pt x="5251" y="5"/>
                      <a:pt x="5250" y="4"/>
                      <a:pt x="5250" y="3"/>
                    </a:cubicBezTo>
                    <a:cubicBezTo>
                      <a:pt x="5250" y="2"/>
                      <a:pt x="5251" y="1"/>
                      <a:pt x="5252" y="1"/>
                    </a:cubicBezTo>
                    <a:close/>
                    <a:moveTo>
                      <a:pt x="5260" y="1"/>
                    </a:moveTo>
                    <a:lnTo>
                      <a:pt x="5260" y="1"/>
                    </a:lnTo>
                    <a:cubicBezTo>
                      <a:pt x="5261" y="1"/>
                      <a:pt x="5262" y="2"/>
                      <a:pt x="5262" y="3"/>
                    </a:cubicBezTo>
                    <a:cubicBezTo>
                      <a:pt x="5262" y="4"/>
                      <a:pt x="5261" y="5"/>
                      <a:pt x="5260" y="5"/>
                    </a:cubicBezTo>
                    <a:lnTo>
                      <a:pt x="5260" y="5"/>
                    </a:lnTo>
                    <a:cubicBezTo>
                      <a:pt x="5259" y="5"/>
                      <a:pt x="5258" y="4"/>
                      <a:pt x="5258" y="3"/>
                    </a:cubicBezTo>
                    <a:cubicBezTo>
                      <a:pt x="5258" y="2"/>
                      <a:pt x="5259" y="1"/>
                      <a:pt x="5260" y="1"/>
                    </a:cubicBezTo>
                    <a:close/>
                    <a:moveTo>
                      <a:pt x="5268" y="1"/>
                    </a:moveTo>
                    <a:lnTo>
                      <a:pt x="5268" y="1"/>
                    </a:lnTo>
                    <a:cubicBezTo>
                      <a:pt x="5270" y="1"/>
                      <a:pt x="5270" y="2"/>
                      <a:pt x="5270" y="3"/>
                    </a:cubicBezTo>
                    <a:cubicBezTo>
                      <a:pt x="5270" y="4"/>
                      <a:pt x="5270" y="5"/>
                      <a:pt x="5268" y="5"/>
                    </a:cubicBezTo>
                    <a:lnTo>
                      <a:pt x="5268" y="5"/>
                    </a:lnTo>
                    <a:cubicBezTo>
                      <a:pt x="5267" y="5"/>
                      <a:pt x="5266" y="4"/>
                      <a:pt x="5266" y="3"/>
                    </a:cubicBezTo>
                    <a:cubicBezTo>
                      <a:pt x="5266" y="2"/>
                      <a:pt x="5267" y="1"/>
                      <a:pt x="5268" y="1"/>
                    </a:cubicBezTo>
                    <a:close/>
                    <a:moveTo>
                      <a:pt x="5276" y="1"/>
                    </a:moveTo>
                    <a:lnTo>
                      <a:pt x="5276" y="1"/>
                    </a:lnTo>
                    <a:cubicBezTo>
                      <a:pt x="5278" y="1"/>
                      <a:pt x="5278" y="2"/>
                      <a:pt x="5278" y="3"/>
                    </a:cubicBezTo>
                    <a:cubicBezTo>
                      <a:pt x="5278" y="4"/>
                      <a:pt x="5278" y="5"/>
                      <a:pt x="5276" y="5"/>
                    </a:cubicBezTo>
                    <a:lnTo>
                      <a:pt x="5276" y="5"/>
                    </a:lnTo>
                    <a:cubicBezTo>
                      <a:pt x="5275" y="5"/>
                      <a:pt x="5274" y="4"/>
                      <a:pt x="5274" y="3"/>
                    </a:cubicBezTo>
                    <a:cubicBezTo>
                      <a:pt x="5274" y="2"/>
                      <a:pt x="5275" y="1"/>
                      <a:pt x="5276" y="1"/>
                    </a:cubicBezTo>
                    <a:close/>
                    <a:moveTo>
                      <a:pt x="5284" y="1"/>
                    </a:moveTo>
                    <a:lnTo>
                      <a:pt x="5284" y="1"/>
                    </a:lnTo>
                    <a:cubicBezTo>
                      <a:pt x="5286" y="1"/>
                      <a:pt x="5286" y="2"/>
                      <a:pt x="5286" y="3"/>
                    </a:cubicBezTo>
                    <a:cubicBezTo>
                      <a:pt x="5286" y="4"/>
                      <a:pt x="5286" y="5"/>
                      <a:pt x="5284" y="5"/>
                    </a:cubicBezTo>
                    <a:lnTo>
                      <a:pt x="5284" y="5"/>
                    </a:lnTo>
                    <a:cubicBezTo>
                      <a:pt x="5283" y="5"/>
                      <a:pt x="5282" y="4"/>
                      <a:pt x="5282" y="3"/>
                    </a:cubicBezTo>
                    <a:cubicBezTo>
                      <a:pt x="5282" y="2"/>
                      <a:pt x="5283" y="1"/>
                      <a:pt x="5284" y="1"/>
                    </a:cubicBezTo>
                    <a:close/>
                    <a:moveTo>
                      <a:pt x="5292" y="1"/>
                    </a:moveTo>
                    <a:lnTo>
                      <a:pt x="5292" y="1"/>
                    </a:lnTo>
                    <a:cubicBezTo>
                      <a:pt x="5294" y="1"/>
                      <a:pt x="5294" y="2"/>
                      <a:pt x="5294" y="3"/>
                    </a:cubicBezTo>
                    <a:cubicBezTo>
                      <a:pt x="5294" y="4"/>
                      <a:pt x="5294" y="5"/>
                      <a:pt x="5292" y="5"/>
                    </a:cubicBezTo>
                    <a:lnTo>
                      <a:pt x="5292" y="5"/>
                    </a:lnTo>
                    <a:cubicBezTo>
                      <a:pt x="5291" y="5"/>
                      <a:pt x="5290" y="4"/>
                      <a:pt x="5290" y="3"/>
                    </a:cubicBezTo>
                    <a:cubicBezTo>
                      <a:pt x="5290" y="2"/>
                      <a:pt x="5291" y="1"/>
                      <a:pt x="5292" y="1"/>
                    </a:cubicBezTo>
                    <a:close/>
                    <a:moveTo>
                      <a:pt x="5300" y="1"/>
                    </a:moveTo>
                    <a:lnTo>
                      <a:pt x="5300" y="1"/>
                    </a:lnTo>
                    <a:cubicBezTo>
                      <a:pt x="5302" y="1"/>
                      <a:pt x="5302" y="2"/>
                      <a:pt x="5302" y="3"/>
                    </a:cubicBezTo>
                    <a:cubicBezTo>
                      <a:pt x="5302" y="4"/>
                      <a:pt x="5302" y="5"/>
                      <a:pt x="5300" y="5"/>
                    </a:cubicBezTo>
                    <a:lnTo>
                      <a:pt x="5300" y="5"/>
                    </a:lnTo>
                    <a:cubicBezTo>
                      <a:pt x="5299" y="5"/>
                      <a:pt x="5298" y="4"/>
                      <a:pt x="5298" y="3"/>
                    </a:cubicBezTo>
                    <a:cubicBezTo>
                      <a:pt x="5298" y="2"/>
                      <a:pt x="5299" y="1"/>
                      <a:pt x="5300" y="1"/>
                    </a:cubicBezTo>
                    <a:close/>
                    <a:moveTo>
                      <a:pt x="5308" y="1"/>
                    </a:moveTo>
                    <a:lnTo>
                      <a:pt x="5308" y="1"/>
                    </a:lnTo>
                    <a:cubicBezTo>
                      <a:pt x="5310" y="1"/>
                      <a:pt x="5310" y="2"/>
                      <a:pt x="5310" y="3"/>
                    </a:cubicBezTo>
                    <a:cubicBezTo>
                      <a:pt x="5310" y="4"/>
                      <a:pt x="5310" y="5"/>
                      <a:pt x="5308" y="5"/>
                    </a:cubicBezTo>
                    <a:lnTo>
                      <a:pt x="5308" y="5"/>
                    </a:lnTo>
                    <a:cubicBezTo>
                      <a:pt x="5307" y="5"/>
                      <a:pt x="5306" y="4"/>
                      <a:pt x="5306" y="3"/>
                    </a:cubicBezTo>
                    <a:cubicBezTo>
                      <a:pt x="5306" y="2"/>
                      <a:pt x="5307" y="1"/>
                      <a:pt x="5308" y="1"/>
                    </a:cubicBezTo>
                    <a:close/>
                    <a:moveTo>
                      <a:pt x="5316" y="1"/>
                    </a:moveTo>
                    <a:lnTo>
                      <a:pt x="5316" y="1"/>
                    </a:lnTo>
                    <a:cubicBezTo>
                      <a:pt x="5318" y="1"/>
                      <a:pt x="5318" y="2"/>
                      <a:pt x="5318" y="3"/>
                    </a:cubicBezTo>
                    <a:cubicBezTo>
                      <a:pt x="5318" y="4"/>
                      <a:pt x="5318" y="5"/>
                      <a:pt x="5316" y="5"/>
                    </a:cubicBezTo>
                    <a:lnTo>
                      <a:pt x="5316" y="5"/>
                    </a:lnTo>
                    <a:cubicBezTo>
                      <a:pt x="5315" y="5"/>
                      <a:pt x="5314" y="4"/>
                      <a:pt x="5314" y="3"/>
                    </a:cubicBezTo>
                    <a:cubicBezTo>
                      <a:pt x="5314" y="2"/>
                      <a:pt x="5315" y="1"/>
                      <a:pt x="5316" y="1"/>
                    </a:cubicBezTo>
                    <a:close/>
                    <a:moveTo>
                      <a:pt x="5324" y="1"/>
                    </a:moveTo>
                    <a:lnTo>
                      <a:pt x="5324" y="1"/>
                    </a:lnTo>
                    <a:cubicBezTo>
                      <a:pt x="5326" y="1"/>
                      <a:pt x="5326" y="2"/>
                      <a:pt x="5326" y="3"/>
                    </a:cubicBezTo>
                    <a:cubicBezTo>
                      <a:pt x="5326" y="4"/>
                      <a:pt x="5326" y="5"/>
                      <a:pt x="5324" y="5"/>
                    </a:cubicBezTo>
                    <a:lnTo>
                      <a:pt x="5324" y="5"/>
                    </a:lnTo>
                    <a:cubicBezTo>
                      <a:pt x="5323" y="5"/>
                      <a:pt x="5322" y="4"/>
                      <a:pt x="5322" y="3"/>
                    </a:cubicBezTo>
                    <a:cubicBezTo>
                      <a:pt x="5322" y="2"/>
                      <a:pt x="5323" y="1"/>
                      <a:pt x="5324" y="1"/>
                    </a:cubicBezTo>
                    <a:close/>
                    <a:moveTo>
                      <a:pt x="5332" y="1"/>
                    </a:moveTo>
                    <a:lnTo>
                      <a:pt x="5332" y="1"/>
                    </a:lnTo>
                    <a:cubicBezTo>
                      <a:pt x="5334" y="1"/>
                      <a:pt x="5334" y="2"/>
                      <a:pt x="5334" y="3"/>
                    </a:cubicBezTo>
                    <a:cubicBezTo>
                      <a:pt x="5334" y="4"/>
                      <a:pt x="5334" y="5"/>
                      <a:pt x="5332" y="5"/>
                    </a:cubicBezTo>
                    <a:lnTo>
                      <a:pt x="5332" y="5"/>
                    </a:lnTo>
                    <a:cubicBezTo>
                      <a:pt x="5331" y="5"/>
                      <a:pt x="5330" y="4"/>
                      <a:pt x="5330" y="3"/>
                    </a:cubicBezTo>
                    <a:cubicBezTo>
                      <a:pt x="5330" y="2"/>
                      <a:pt x="5331" y="1"/>
                      <a:pt x="5332" y="1"/>
                    </a:cubicBezTo>
                    <a:close/>
                    <a:moveTo>
                      <a:pt x="5340" y="1"/>
                    </a:moveTo>
                    <a:lnTo>
                      <a:pt x="5340" y="1"/>
                    </a:lnTo>
                    <a:cubicBezTo>
                      <a:pt x="5342" y="1"/>
                      <a:pt x="5342" y="2"/>
                      <a:pt x="5342" y="3"/>
                    </a:cubicBezTo>
                    <a:cubicBezTo>
                      <a:pt x="5342" y="4"/>
                      <a:pt x="5342" y="5"/>
                      <a:pt x="5340" y="5"/>
                    </a:cubicBezTo>
                    <a:lnTo>
                      <a:pt x="5340" y="5"/>
                    </a:lnTo>
                    <a:cubicBezTo>
                      <a:pt x="5339" y="5"/>
                      <a:pt x="5338" y="4"/>
                      <a:pt x="5338" y="3"/>
                    </a:cubicBezTo>
                    <a:cubicBezTo>
                      <a:pt x="5338" y="2"/>
                      <a:pt x="5339" y="1"/>
                      <a:pt x="5340" y="1"/>
                    </a:cubicBezTo>
                    <a:close/>
                    <a:moveTo>
                      <a:pt x="5348" y="1"/>
                    </a:moveTo>
                    <a:lnTo>
                      <a:pt x="5348" y="1"/>
                    </a:lnTo>
                    <a:cubicBezTo>
                      <a:pt x="5350" y="1"/>
                      <a:pt x="5350" y="2"/>
                      <a:pt x="5350" y="3"/>
                    </a:cubicBezTo>
                    <a:cubicBezTo>
                      <a:pt x="5350" y="4"/>
                      <a:pt x="5350" y="5"/>
                      <a:pt x="5348" y="5"/>
                    </a:cubicBezTo>
                    <a:lnTo>
                      <a:pt x="5348" y="5"/>
                    </a:lnTo>
                    <a:cubicBezTo>
                      <a:pt x="5347" y="5"/>
                      <a:pt x="5346" y="4"/>
                      <a:pt x="5346" y="3"/>
                    </a:cubicBezTo>
                    <a:cubicBezTo>
                      <a:pt x="5346" y="2"/>
                      <a:pt x="5347" y="1"/>
                      <a:pt x="5348" y="1"/>
                    </a:cubicBezTo>
                    <a:close/>
                    <a:moveTo>
                      <a:pt x="5356" y="1"/>
                    </a:moveTo>
                    <a:lnTo>
                      <a:pt x="5356" y="1"/>
                    </a:lnTo>
                    <a:cubicBezTo>
                      <a:pt x="5358" y="1"/>
                      <a:pt x="5358" y="2"/>
                      <a:pt x="5358" y="3"/>
                    </a:cubicBezTo>
                    <a:cubicBezTo>
                      <a:pt x="5358" y="4"/>
                      <a:pt x="5358" y="5"/>
                      <a:pt x="5356" y="5"/>
                    </a:cubicBezTo>
                    <a:lnTo>
                      <a:pt x="5356" y="5"/>
                    </a:lnTo>
                    <a:cubicBezTo>
                      <a:pt x="5355" y="5"/>
                      <a:pt x="5354" y="4"/>
                      <a:pt x="5354" y="3"/>
                    </a:cubicBezTo>
                    <a:cubicBezTo>
                      <a:pt x="5354" y="2"/>
                      <a:pt x="5355" y="1"/>
                      <a:pt x="5356" y="1"/>
                    </a:cubicBezTo>
                    <a:close/>
                    <a:moveTo>
                      <a:pt x="5364" y="1"/>
                    </a:moveTo>
                    <a:lnTo>
                      <a:pt x="5364" y="1"/>
                    </a:lnTo>
                    <a:cubicBezTo>
                      <a:pt x="5366" y="1"/>
                      <a:pt x="5366" y="2"/>
                      <a:pt x="5366" y="3"/>
                    </a:cubicBezTo>
                    <a:cubicBezTo>
                      <a:pt x="5366" y="4"/>
                      <a:pt x="5366" y="5"/>
                      <a:pt x="5364" y="5"/>
                    </a:cubicBezTo>
                    <a:lnTo>
                      <a:pt x="5364" y="5"/>
                    </a:lnTo>
                    <a:cubicBezTo>
                      <a:pt x="5363" y="5"/>
                      <a:pt x="5362" y="4"/>
                      <a:pt x="5362" y="3"/>
                    </a:cubicBezTo>
                    <a:cubicBezTo>
                      <a:pt x="5362" y="2"/>
                      <a:pt x="5363" y="1"/>
                      <a:pt x="5364" y="1"/>
                    </a:cubicBezTo>
                    <a:close/>
                    <a:moveTo>
                      <a:pt x="5372" y="1"/>
                    </a:moveTo>
                    <a:lnTo>
                      <a:pt x="5372" y="1"/>
                    </a:lnTo>
                    <a:cubicBezTo>
                      <a:pt x="5374" y="1"/>
                      <a:pt x="5374" y="2"/>
                      <a:pt x="5374" y="3"/>
                    </a:cubicBezTo>
                    <a:cubicBezTo>
                      <a:pt x="5374" y="4"/>
                      <a:pt x="5374" y="5"/>
                      <a:pt x="5372" y="5"/>
                    </a:cubicBezTo>
                    <a:lnTo>
                      <a:pt x="5372" y="5"/>
                    </a:lnTo>
                    <a:cubicBezTo>
                      <a:pt x="5371" y="5"/>
                      <a:pt x="5370" y="4"/>
                      <a:pt x="5370" y="3"/>
                    </a:cubicBezTo>
                    <a:cubicBezTo>
                      <a:pt x="5370" y="2"/>
                      <a:pt x="5371" y="1"/>
                      <a:pt x="5372" y="1"/>
                    </a:cubicBezTo>
                    <a:close/>
                    <a:moveTo>
                      <a:pt x="5380" y="1"/>
                    </a:moveTo>
                    <a:lnTo>
                      <a:pt x="5380" y="1"/>
                    </a:lnTo>
                    <a:cubicBezTo>
                      <a:pt x="5382" y="1"/>
                      <a:pt x="5382" y="2"/>
                      <a:pt x="5382" y="3"/>
                    </a:cubicBezTo>
                    <a:cubicBezTo>
                      <a:pt x="5382" y="4"/>
                      <a:pt x="5382" y="5"/>
                      <a:pt x="5380" y="5"/>
                    </a:cubicBezTo>
                    <a:lnTo>
                      <a:pt x="5380" y="5"/>
                    </a:lnTo>
                    <a:cubicBezTo>
                      <a:pt x="5379" y="5"/>
                      <a:pt x="5378" y="4"/>
                      <a:pt x="5378" y="3"/>
                    </a:cubicBezTo>
                    <a:cubicBezTo>
                      <a:pt x="5378" y="2"/>
                      <a:pt x="5379" y="1"/>
                      <a:pt x="5380" y="1"/>
                    </a:cubicBezTo>
                    <a:close/>
                    <a:moveTo>
                      <a:pt x="5388" y="1"/>
                    </a:moveTo>
                    <a:lnTo>
                      <a:pt x="5388" y="1"/>
                    </a:lnTo>
                    <a:cubicBezTo>
                      <a:pt x="5390" y="1"/>
                      <a:pt x="5390" y="2"/>
                      <a:pt x="5390" y="3"/>
                    </a:cubicBezTo>
                    <a:cubicBezTo>
                      <a:pt x="5390" y="4"/>
                      <a:pt x="5390" y="5"/>
                      <a:pt x="5388" y="5"/>
                    </a:cubicBezTo>
                    <a:lnTo>
                      <a:pt x="5388" y="5"/>
                    </a:lnTo>
                    <a:cubicBezTo>
                      <a:pt x="5387" y="5"/>
                      <a:pt x="5386" y="4"/>
                      <a:pt x="5386" y="3"/>
                    </a:cubicBezTo>
                    <a:cubicBezTo>
                      <a:pt x="5386" y="2"/>
                      <a:pt x="5387" y="1"/>
                      <a:pt x="5388" y="1"/>
                    </a:cubicBezTo>
                    <a:close/>
                    <a:moveTo>
                      <a:pt x="5396" y="1"/>
                    </a:moveTo>
                    <a:lnTo>
                      <a:pt x="5396" y="1"/>
                    </a:lnTo>
                    <a:cubicBezTo>
                      <a:pt x="5398" y="1"/>
                      <a:pt x="5398" y="2"/>
                      <a:pt x="5398" y="3"/>
                    </a:cubicBezTo>
                    <a:cubicBezTo>
                      <a:pt x="5398" y="4"/>
                      <a:pt x="5398" y="5"/>
                      <a:pt x="5396" y="5"/>
                    </a:cubicBezTo>
                    <a:lnTo>
                      <a:pt x="5396" y="5"/>
                    </a:lnTo>
                    <a:cubicBezTo>
                      <a:pt x="5395" y="5"/>
                      <a:pt x="5394" y="4"/>
                      <a:pt x="5394" y="3"/>
                    </a:cubicBezTo>
                    <a:cubicBezTo>
                      <a:pt x="5394" y="2"/>
                      <a:pt x="5395" y="1"/>
                      <a:pt x="5396" y="1"/>
                    </a:cubicBezTo>
                    <a:close/>
                    <a:moveTo>
                      <a:pt x="5404" y="1"/>
                    </a:moveTo>
                    <a:lnTo>
                      <a:pt x="5404" y="1"/>
                    </a:lnTo>
                    <a:cubicBezTo>
                      <a:pt x="5406" y="1"/>
                      <a:pt x="5406" y="2"/>
                      <a:pt x="5406" y="3"/>
                    </a:cubicBezTo>
                    <a:cubicBezTo>
                      <a:pt x="5406" y="4"/>
                      <a:pt x="5406" y="5"/>
                      <a:pt x="5404" y="5"/>
                    </a:cubicBezTo>
                    <a:lnTo>
                      <a:pt x="5404" y="5"/>
                    </a:lnTo>
                    <a:cubicBezTo>
                      <a:pt x="5403" y="5"/>
                      <a:pt x="5402" y="4"/>
                      <a:pt x="5402" y="3"/>
                    </a:cubicBezTo>
                    <a:cubicBezTo>
                      <a:pt x="5402" y="2"/>
                      <a:pt x="5403" y="1"/>
                      <a:pt x="5404" y="1"/>
                    </a:cubicBezTo>
                    <a:close/>
                    <a:moveTo>
                      <a:pt x="5412" y="1"/>
                    </a:moveTo>
                    <a:lnTo>
                      <a:pt x="5412" y="1"/>
                    </a:lnTo>
                    <a:cubicBezTo>
                      <a:pt x="5414" y="1"/>
                      <a:pt x="5414" y="2"/>
                      <a:pt x="5414" y="3"/>
                    </a:cubicBezTo>
                    <a:cubicBezTo>
                      <a:pt x="5414" y="4"/>
                      <a:pt x="5414" y="5"/>
                      <a:pt x="5412" y="5"/>
                    </a:cubicBezTo>
                    <a:lnTo>
                      <a:pt x="5412" y="5"/>
                    </a:lnTo>
                    <a:cubicBezTo>
                      <a:pt x="5411" y="5"/>
                      <a:pt x="5410" y="4"/>
                      <a:pt x="5410" y="3"/>
                    </a:cubicBezTo>
                    <a:cubicBezTo>
                      <a:pt x="5410" y="2"/>
                      <a:pt x="5411" y="1"/>
                      <a:pt x="5412" y="1"/>
                    </a:cubicBezTo>
                    <a:close/>
                    <a:moveTo>
                      <a:pt x="5420" y="1"/>
                    </a:moveTo>
                    <a:lnTo>
                      <a:pt x="5420" y="1"/>
                    </a:lnTo>
                    <a:cubicBezTo>
                      <a:pt x="5422" y="1"/>
                      <a:pt x="5422" y="2"/>
                      <a:pt x="5422" y="3"/>
                    </a:cubicBezTo>
                    <a:cubicBezTo>
                      <a:pt x="5422" y="4"/>
                      <a:pt x="5422" y="5"/>
                      <a:pt x="5420" y="5"/>
                    </a:cubicBezTo>
                    <a:lnTo>
                      <a:pt x="5420" y="5"/>
                    </a:lnTo>
                    <a:cubicBezTo>
                      <a:pt x="5419" y="5"/>
                      <a:pt x="5418" y="4"/>
                      <a:pt x="5418" y="3"/>
                    </a:cubicBezTo>
                    <a:cubicBezTo>
                      <a:pt x="5418" y="2"/>
                      <a:pt x="5419" y="1"/>
                      <a:pt x="5420" y="1"/>
                    </a:cubicBezTo>
                    <a:close/>
                    <a:moveTo>
                      <a:pt x="5428" y="1"/>
                    </a:moveTo>
                    <a:lnTo>
                      <a:pt x="5428" y="1"/>
                    </a:lnTo>
                    <a:cubicBezTo>
                      <a:pt x="5430" y="1"/>
                      <a:pt x="5430" y="2"/>
                      <a:pt x="5430" y="3"/>
                    </a:cubicBezTo>
                    <a:cubicBezTo>
                      <a:pt x="5430" y="4"/>
                      <a:pt x="5430" y="5"/>
                      <a:pt x="5428" y="5"/>
                    </a:cubicBezTo>
                    <a:lnTo>
                      <a:pt x="5428" y="5"/>
                    </a:lnTo>
                    <a:cubicBezTo>
                      <a:pt x="5427" y="5"/>
                      <a:pt x="5426" y="4"/>
                      <a:pt x="5426" y="3"/>
                    </a:cubicBezTo>
                    <a:cubicBezTo>
                      <a:pt x="5426" y="2"/>
                      <a:pt x="5427" y="1"/>
                      <a:pt x="5428" y="1"/>
                    </a:cubicBezTo>
                    <a:close/>
                    <a:moveTo>
                      <a:pt x="5436" y="1"/>
                    </a:moveTo>
                    <a:lnTo>
                      <a:pt x="5436" y="1"/>
                    </a:lnTo>
                    <a:cubicBezTo>
                      <a:pt x="5438" y="1"/>
                      <a:pt x="5438" y="2"/>
                      <a:pt x="5438" y="3"/>
                    </a:cubicBezTo>
                    <a:cubicBezTo>
                      <a:pt x="5438" y="4"/>
                      <a:pt x="5438" y="5"/>
                      <a:pt x="5436" y="5"/>
                    </a:cubicBezTo>
                    <a:lnTo>
                      <a:pt x="5436" y="5"/>
                    </a:lnTo>
                    <a:cubicBezTo>
                      <a:pt x="5435" y="5"/>
                      <a:pt x="5434" y="4"/>
                      <a:pt x="5434" y="3"/>
                    </a:cubicBezTo>
                    <a:cubicBezTo>
                      <a:pt x="5434" y="2"/>
                      <a:pt x="5435" y="1"/>
                      <a:pt x="5436" y="1"/>
                    </a:cubicBezTo>
                    <a:close/>
                    <a:moveTo>
                      <a:pt x="5444" y="1"/>
                    </a:moveTo>
                    <a:lnTo>
                      <a:pt x="5444" y="1"/>
                    </a:lnTo>
                    <a:cubicBezTo>
                      <a:pt x="5446" y="1"/>
                      <a:pt x="5446" y="2"/>
                      <a:pt x="5446" y="3"/>
                    </a:cubicBezTo>
                    <a:cubicBezTo>
                      <a:pt x="5446" y="4"/>
                      <a:pt x="5446" y="5"/>
                      <a:pt x="5444" y="5"/>
                    </a:cubicBezTo>
                    <a:lnTo>
                      <a:pt x="5444" y="5"/>
                    </a:lnTo>
                    <a:cubicBezTo>
                      <a:pt x="5443" y="5"/>
                      <a:pt x="5442" y="4"/>
                      <a:pt x="5442" y="3"/>
                    </a:cubicBezTo>
                    <a:cubicBezTo>
                      <a:pt x="5442" y="2"/>
                      <a:pt x="5443" y="1"/>
                      <a:pt x="5444" y="1"/>
                    </a:cubicBezTo>
                    <a:close/>
                    <a:moveTo>
                      <a:pt x="5452" y="1"/>
                    </a:moveTo>
                    <a:lnTo>
                      <a:pt x="5452" y="1"/>
                    </a:lnTo>
                    <a:cubicBezTo>
                      <a:pt x="5454" y="1"/>
                      <a:pt x="5454" y="2"/>
                      <a:pt x="5454" y="3"/>
                    </a:cubicBezTo>
                    <a:cubicBezTo>
                      <a:pt x="5454" y="4"/>
                      <a:pt x="5454" y="5"/>
                      <a:pt x="5452" y="5"/>
                    </a:cubicBezTo>
                    <a:lnTo>
                      <a:pt x="5452" y="5"/>
                    </a:lnTo>
                    <a:cubicBezTo>
                      <a:pt x="5451" y="5"/>
                      <a:pt x="5450" y="4"/>
                      <a:pt x="5450" y="3"/>
                    </a:cubicBezTo>
                    <a:cubicBezTo>
                      <a:pt x="5450" y="2"/>
                      <a:pt x="5451" y="1"/>
                      <a:pt x="5452" y="1"/>
                    </a:cubicBezTo>
                    <a:close/>
                    <a:moveTo>
                      <a:pt x="5460" y="1"/>
                    </a:moveTo>
                    <a:lnTo>
                      <a:pt x="5460" y="1"/>
                    </a:lnTo>
                    <a:cubicBezTo>
                      <a:pt x="5462" y="1"/>
                      <a:pt x="5462" y="2"/>
                      <a:pt x="5462" y="3"/>
                    </a:cubicBezTo>
                    <a:cubicBezTo>
                      <a:pt x="5462" y="4"/>
                      <a:pt x="5462" y="5"/>
                      <a:pt x="5460" y="5"/>
                    </a:cubicBezTo>
                    <a:lnTo>
                      <a:pt x="5460" y="5"/>
                    </a:lnTo>
                    <a:cubicBezTo>
                      <a:pt x="5459" y="5"/>
                      <a:pt x="5458" y="4"/>
                      <a:pt x="5458" y="3"/>
                    </a:cubicBezTo>
                    <a:cubicBezTo>
                      <a:pt x="5458" y="2"/>
                      <a:pt x="5459" y="1"/>
                      <a:pt x="5460" y="1"/>
                    </a:cubicBezTo>
                    <a:close/>
                    <a:moveTo>
                      <a:pt x="5468" y="1"/>
                    </a:moveTo>
                    <a:lnTo>
                      <a:pt x="5468" y="1"/>
                    </a:lnTo>
                    <a:cubicBezTo>
                      <a:pt x="5470" y="1"/>
                      <a:pt x="5470" y="2"/>
                      <a:pt x="5470" y="3"/>
                    </a:cubicBezTo>
                    <a:cubicBezTo>
                      <a:pt x="5470" y="4"/>
                      <a:pt x="5470" y="5"/>
                      <a:pt x="5468" y="5"/>
                    </a:cubicBezTo>
                    <a:lnTo>
                      <a:pt x="5468" y="5"/>
                    </a:lnTo>
                    <a:cubicBezTo>
                      <a:pt x="5467" y="5"/>
                      <a:pt x="5466" y="4"/>
                      <a:pt x="5466" y="3"/>
                    </a:cubicBezTo>
                    <a:cubicBezTo>
                      <a:pt x="5466" y="2"/>
                      <a:pt x="5467" y="1"/>
                      <a:pt x="5468" y="1"/>
                    </a:cubicBezTo>
                    <a:close/>
                    <a:moveTo>
                      <a:pt x="5476" y="1"/>
                    </a:moveTo>
                    <a:lnTo>
                      <a:pt x="5476" y="1"/>
                    </a:lnTo>
                    <a:cubicBezTo>
                      <a:pt x="5478" y="1"/>
                      <a:pt x="5478" y="2"/>
                      <a:pt x="5478" y="3"/>
                    </a:cubicBezTo>
                    <a:cubicBezTo>
                      <a:pt x="5478" y="4"/>
                      <a:pt x="5478" y="5"/>
                      <a:pt x="5476" y="5"/>
                    </a:cubicBezTo>
                    <a:lnTo>
                      <a:pt x="5476" y="5"/>
                    </a:lnTo>
                    <a:cubicBezTo>
                      <a:pt x="5475" y="5"/>
                      <a:pt x="5474" y="4"/>
                      <a:pt x="5474" y="3"/>
                    </a:cubicBezTo>
                    <a:cubicBezTo>
                      <a:pt x="5474" y="2"/>
                      <a:pt x="5475" y="1"/>
                      <a:pt x="5476" y="1"/>
                    </a:cubicBezTo>
                    <a:close/>
                    <a:moveTo>
                      <a:pt x="5484" y="1"/>
                    </a:moveTo>
                    <a:lnTo>
                      <a:pt x="5485" y="1"/>
                    </a:lnTo>
                    <a:cubicBezTo>
                      <a:pt x="5486" y="1"/>
                      <a:pt x="5487" y="2"/>
                      <a:pt x="5487" y="3"/>
                    </a:cubicBezTo>
                    <a:cubicBezTo>
                      <a:pt x="5487" y="4"/>
                      <a:pt x="5486" y="5"/>
                      <a:pt x="5485" y="5"/>
                    </a:cubicBezTo>
                    <a:lnTo>
                      <a:pt x="5484" y="5"/>
                    </a:lnTo>
                    <a:cubicBezTo>
                      <a:pt x="5483" y="5"/>
                      <a:pt x="5482" y="4"/>
                      <a:pt x="5482" y="3"/>
                    </a:cubicBezTo>
                    <a:cubicBezTo>
                      <a:pt x="5482" y="2"/>
                      <a:pt x="5483" y="1"/>
                      <a:pt x="5484" y="1"/>
                    </a:cubicBezTo>
                    <a:close/>
                    <a:moveTo>
                      <a:pt x="5493" y="1"/>
                    </a:moveTo>
                    <a:lnTo>
                      <a:pt x="5493" y="1"/>
                    </a:lnTo>
                    <a:cubicBezTo>
                      <a:pt x="5494" y="1"/>
                      <a:pt x="5495" y="2"/>
                      <a:pt x="5495" y="3"/>
                    </a:cubicBezTo>
                    <a:cubicBezTo>
                      <a:pt x="5495" y="4"/>
                      <a:pt x="5494" y="5"/>
                      <a:pt x="5493" y="5"/>
                    </a:cubicBezTo>
                    <a:lnTo>
                      <a:pt x="5493" y="5"/>
                    </a:lnTo>
                    <a:cubicBezTo>
                      <a:pt x="5491" y="5"/>
                      <a:pt x="5491" y="4"/>
                      <a:pt x="5491" y="3"/>
                    </a:cubicBezTo>
                    <a:cubicBezTo>
                      <a:pt x="5491" y="2"/>
                      <a:pt x="5491" y="1"/>
                      <a:pt x="5493" y="1"/>
                    </a:cubicBezTo>
                    <a:close/>
                    <a:moveTo>
                      <a:pt x="5501" y="1"/>
                    </a:moveTo>
                    <a:lnTo>
                      <a:pt x="5501" y="1"/>
                    </a:lnTo>
                    <a:cubicBezTo>
                      <a:pt x="5502" y="1"/>
                      <a:pt x="5503" y="2"/>
                      <a:pt x="5503" y="3"/>
                    </a:cubicBezTo>
                    <a:cubicBezTo>
                      <a:pt x="5503" y="4"/>
                      <a:pt x="5502" y="5"/>
                      <a:pt x="5501" y="5"/>
                    </a:cubicBezTo>
                    <a:lnTo>
                      <a:pt x="5501" y="5"/>
                    </a:lnTo>
                    <a:cubicBezTo>
                      <a:pt x="5499" y="5"/>
                      <a:pt x="5499" y="4"/>
                      <a:pt x="5499" y="3"/>
                    </a:cubicBezTo>
                    <a:cubicBezTo>
                      <a:pt x="5499" y="2"/>
                      <a:pt x="5499" y="1"/>
                      <a:pt x="5501" y="1"/>
                    </a:cubicBezTo>
                    <a:close/>
                    <a:moveTo>
                      <a:pt x="5509" y="1"/>
                    </a:moveTo>
                    <a:lnTo>
                      <a:pt x="5509" y="1"/>
                    </a:lnTo>
                    <a:cubicBezTo>
                      <a:pt x="5510" y="1"/>
                      <a:pt x="5511" y="2"/>
                      <a:pt x="5511" y="3"/>
                    </a:cubicBezTo>
                    <a:cubicBezTo>
                      <a:pt x="5511" y="4"/>
                      <a:pt x="5510" y="5"/>
                      <a:pt x="5509" y="5"/>
                    </a:cubicBezTo>
                    <a:lnTo>
                      <a:pt x="5509" y="5"/>
                    </a:lnTo>
                    <a:cubicBezTo>
                      <a:pt x="5507" y="5"/>
                      <a:pt x="5507" y="4"/>
                      <a:pt x="5507" y="3"/>
                    </a:cubicBezTo>
                    <a:cubicBezTo>
                      <a:pt x="5507" y="2"/>
                      <a:pt x="5507" y="1"/>
                      <a:pt x="5509" y="1"/>
                    </a:cubicBezTo>
                    <a:close/>
                    <a:moveTo>
                      <a:pt x="5517" y="1"/>
                    </a:moveTo>
                    <a:lnTo>
                      <a:pt x="5517" y="1"/>
                    </a:lnTo>
                    <a:cubicBezTo>
                      <a:pt x="5518" y="1"/>
                      <a:pt x="5519" y="2"/>
                      <a:pt x="5519" y="3"/>
                    </a:cubicBezTo>
                    <a:cubicBezTo>
                      <a:pt x="5519" y="4"/>
                      <a:pt x="5518" y="5"/>
                      <a:pt x="5517" y="5"/>
                    </a:cubicBezTo>
                    <a:lnTo>
                      <a:pt x="5517" y="5"/>
                    </a:lnTo>
                    <a:cubicBezTo>
                      <a:pt x="5515" y="5"/>
                      <a:pt x="5515" y="4"/>
                      <a:pt x="5515" y="3"/>
                    </a:cubicBezTo>
                    <a:cubicBezTo>
                      <a:pt x="5515" y="2"/>
                      <a:pt x="5515" y="1"/>
                      <a:pt x="5517" y="1"/>
                    </a:cubicBezTo>
                    <a:close/>
                    <a:moveTo>
                      <a:pt x="5525" y="1"/>
                    </a:moveTo>
                    <a:lnTo>
                      <a:pt x="5525" y="1"/>
                    </a:lnTo>
                    <a:cubicBezTo>
                      <a:pt x="5526" y="1"/>
                      <a:pt x="5527" y="2"/>
                      <a:pt x="5527" y="3"/>
                    </a:cubicBezTo>
                    <a:cubicBezTo>
                      <a:pt x="5527" y="4"/>
                      <a:pt x="5526" y="5"/>
                      <a:pt x="5525" y="5"/>
                    </a:cubicBezTo>
                    <a:lnTo>
                      <a:pt x="5525" y="5"/>
                    </a:lnTo>
                    <a:cubicBezTo>
                      <a:pt x="5523" y="5"/>
                      <a:pt x="5523" y="4"/>
                      <a:pt x="5523" y="3"/>
                    </a:cubicBezTo>
                    <a:cubicBezTo>
                      <a:pt x="5523" y="2"/>
                      <a:pt x="5523" y="1"/>
                      <a:pt x="5525" y="1"/>
                    </a:cubicBezTo>
                    <a:close/>
                    <a:moveTo>
                      <a:pt x="5533" y="1"/>
                    </a:moveTo>
                    <a:lnTo>
                      <a:pt x="5533" y="1"/>
                    </a:lnTo>
                    <a:cubicBezTo>
                      <a:pt x="5534" y="1"/>
                      <a:pt x="5535" y="2"/>
                      <a:pt x="5535" y="3"/>
                    </a:cubicBezTo>
                    <a:cubicBezTo>
                      <a:pt x="5535" y="4"/>
                      <a:pt x="5534" y="5"/>
                      <a:pt x="5533" y="5"/>
                    </a:cubicBezTo>
                    <a:lnTo>
                      <a:pt x="5533" y="5"/>
                    </a:lnTo>
                    <a:cubicBezTo>
                      <a:pt x="5531" y="5"/>
                      <a:pt x="5531" y="4"/>
                      <a:pt x="5531" y="3"/>
                    </a:cubicBezTo>
                    <a:cubicBezTo>
                      <a:pt x="5531" y="2"/>
                      <a:pt x="5531" y="1"/>
                      <a:pt x="5533" y="1"/>
                    </a:cubicBezTo>
                    <a:close/>
                    <a:moveTo>
                      <a:pt x="5541" y="1"/>
                    </a:moveTo>
                    <a:lnTo>
                      <a:pt x="5541" y="1"/>
                    </a:lnTo>
                    <a:cubicBezTo>
                      <a:pt x="5542" y="1"/>
                      <a:pt x="5543" y="2"/>
                      <a:pt x="5543" y="3"/>
                    </a:cubicBezTo>
                    <a:cubicBezTo>
                      <a:pt x="5543" y="4"/>
                      <a:pt x="5542" y="5"/>
                      <a:pt x="5541" y="5"/>
                    </a:cubicBezTo>
                    <a:lnTo>
                      <a:pt x="5541" y="5"/>
                    </a:lnTo>
                    <a:cubicBezTo>
                      <a:pt x="5539" y="5"/>
                      <a:pt x="5539" y="4"/>
                      <a:pt x="5539" y="3"/>
                    </a:cubicBezTo>
                    <a:cubicBezTo>
                      <a:pt x="5539" y="2"/>
                      <a:pt x="5539" y="1"/>
                      <a:pt x="5541" y="1"/>
                    </a:cubicBezTo>
                    <a:close/>
                    <a:moveTo>
                      <a:pt x="5549" y="1"/>
                    </a:moveTo>
                    <a:lnTo>
                      <a:pt x="5549" y="1"/>
                    </a:lnTo>
                    <a:cubicBezTo>
                      <a:pt x="5550" y="1"/>
                      <a:pt x="5551" y="2"/>
                      <a:pt x="5551" y="3"/>
                    </a:cubicBezTo>
                    <a:cubicBezTo>
                      <a:pt x="5551" y="4"/>
                      <a:pt x="5550" y="5"/>
                      <a:pt x="5549" y="5"/>
                    </a:cubicBezTo>
                    <a:lnTo>
                      <a:pt x="5549" y="5"/>
                    </a:lnTo>
                    <a:cubicBezTo>
                      <a:pt x="5547" y="5"/>
                      <a:pt x="5547" y="4"/>
                      <a:pt x="5547" y="3"/>
                    </a:cubicBezTo>
                    <a:cubicBezTo>
                      <a:pt x="5547" y="2"/>
                      <a:pt x="5547" y="1"/>
                      <a:pt x="5549" y="1"/>
                    </a:cubicBezTo>
                    <a:close/>
                    <a:moveTo>
                      <a:pt x="5557" y="1"/>
                    </a:moveTo>
                    <a:lnTo>
                      <a:pt x="5557" y="1"/>
                    </a:lnTo>
                    <a:cubicBezTo>
                      <a:pt x="5558" y="1"/>
                      <a:pt x="5559" y="2"/>
                      <a:pt x="5559" y="3"/>
                    </a:cubicBezTo>
                    <a:cubicBezTo>
                      <a:pt x="5559" y="4"/>
                      <a:pt x="5558" y="5"/>
                      <a:pt x="5557" y="5"/>
                    </a:cubicBezTo>
                    <a:lnTo>
                      <a:pt x="5557" y="5"/>
                    </a:lnTo>
                    <a:cubicBezTo>
                      <a:pt x="5555" y="5"/>
                      <a:pt x="5555" y="4"/>
                      <a:pt x="5555" y="3"/>
                    </a:cubicBezTo>
                    <a:cubicBezTo>
                      <a:pt x="5555" y="2"/>
                      <a:pt x="5555" y="1"/>
                      <a:pt x="5557" y="1"/>
                    </a:cubicBezTo>
                    <a:close/>
                    <a:moveTo>
                      <a:pt x="5565" y="1"/>
                    </a:moveTo>
                    <a:lnTo>
                      <a:pt x="5565" y="1"/>
                    </a:lnTo>
                    <a:cubicBezTo>
                      <a:pt x="5566" y="1"/>
                      <a:pt x="5567" y="2"/>
                      <a:pt x="5567" y="3"/>
                    </a:cubicBezTo>
                    <a:cubicBezTo>
                      <a:pt x="5567" y="4"/>
                      <a:pt x="5566" y="5"/>
                      <a:pt x="5565" y="5"/>
                    </a:cubicBezTo>
                    <a:lnTo>
                      <a:pt x="5565" y="5"/>
                    </a:lnTo>
                    <a:cubicBezTo>
                      <a:pt x="5563" y="5"/>
                      <a:pt x="5563" y="4"/>
                      <a:pt x="5563" y="3"/>
                    </a:cubicBezTo>
                    <a:cubicBezTo>
                      <a:pt x="5563" y="2"/>
                      <a:pt x="5563" y="1"/>
                      <a:pt x="5565" y="1"/>
                    </a:cubicBezTo>
                    <a:close/>
                    <a:moveTo>
                      <a:pt x="5573" y="1"/>
                    </a:moveTo>
                    <a:lnTo>
                      <a:pt x="5573" y="1"/>
                    </a:lnTo>
                    <a:cubicBezTo>
                      <a:pt x="5574" y="1"/>
                      <a:pt x="5575" y="2"/>
                      <a:pt x="5575" y="3"/>
                    </a:cubicBezTo>
                    <a:cubicBezTo>
                      <a:pt x="5575" y="4"/>
                      <a:pt x="5574" y="5"/>
                      <a:pt x="5573" y="5"/>
                    </a:cubicBezTo>
                    <a:lnTo>
                      <a:pt x="5573" y="5"/>
                    </a:lnTo>
                    <a:cubicBezTo>
                      <a:pt x="5571" y="5"/>
                      <a:pt x="5571" y="4"/>
                      <a:pt x="5571" y="3"/>
                    </a:cubicBezTo>
                    <a:cubicBezTo>
                      <a:pt x="5571" y="2"/>
                      <a:pt x="5571" y="1"/>
                      <a:pt x="5573" y="1"/>
                    </a:cubicBezTo>
                    <a:close/>
                    <a:moveTo>
                      <a:pt x="5581" y="1"/>
                    </a:moveTo>
                    <a:lnTo>
                      <a:pt x="5581" y="1"/>
                    </a:lnTo>
                    <a:cubicBezTo>
                      <a:pt x="5582" y="1"/>
                      <a:pt x="5583" y="2"/>
                      <a:pt x="5583" y="3"/>
                    </a:cubicBezTo>
                    <a:cubicBezTo>
                      <a:pt x="5583" y="4"/>
                      <a:pt x="5582" y="5"/>
                      <a:pt x="5581" y="5"/>
                    </a:cubicBezTo>
                    <a:lnTo>
                      <a:pt x="5581" y="5"/>
                    </a:lnTo>
                    <a:cubicBezTo>
                      <a:pt x="5579" y="5"/>
                      <a:pt x="5579" y="4"/>
                      <a:pt x="5579" y="3"/>
                    </a:cubicBezTo>
                    <a:cubicBezTo>
                      <a:pt x="5579" y="2"/>
                      <a:pt x="5579" y="1"/>
                      <a:pt x="5581" y="1"/>
                    </a:cubicBezTo>
                    <a:close/>
                    <a:moveTo>
                      <a:pt x="5589" y="1"/>
                    </a:moveTo>
                    <a:lnTo>
                      <a:pt x="5589" y="1"/>
                    </a:lnTo>
                    <a:cubicBezTo>
                      <a:pt x="5590" y="1"/>
                      <a:pt x="5591" y="2"/>
                      <a:pt x="5591" y="3"/>
                    </a:cubicBezTo>
                    <a:cubicBezTo>
                      <a:pt x="5591" y="4"/>
                      <a:pt x="5590" y="5"/>
                      <a:pt x="5589" y="5"/>
                    </a:cubicBezTo>
                    <a:lnTo>
                      <a:pt x="5589" y="5"/>
                    </a:lnTo>
                    <a:cubicBezTo>
                      <a:pt x="5587" y="5"/>
                      <a:pt x="5587" y="4"/>
                      <a:pt x="5587" y="3"/>
                    </a:cubicBezTo>
                    <a:cubicBezTo>
                      <a:pt x="5587" y="2"/>
                      <a:pt x="5587" y="1"/>
                      <a:pt x="5589" y="1"/>
                    </a:cubicBezTo>
                    <a:close/>
                    <a:moveTo>
                      <a:pt x="5597" y="1"/>
                    </a:moveTo>
                    <a:lnTo>
                      <a:pt x="5597" y="1"/>
                    </a:lnTo>
                    <a:cubicBezTo>
                      <a:pt x="5598" y="1"/>
                      <a:pt x="5599" y="2"/>
                      <a:pt x="5599" y="3"/>
                    </a:cubicBezTo>
                    <a:cubicBezTo>
                      <a:pt x="5599" y="4"/>
                      <a:pt x="5598" y="5"/>
                      <a:pt x="5597" y="5"/>
                    </a:cubicBezTo>
                    <a:lnTo>
                      <a:pt x="5597" y="5"/>
                    </a:lnTo>
                    <a:cubicBezTo>
                      <a:pt x="5595" y="5"/>
                      <a:pt x="5595" y="4"/>
                      <a:pt x="5595" y="3"/>
                    </a:cubicBezTo>
                    <a:cubicBezTo>
                      <a:pt x="5595" y="2"/>
                      <a:pt x="5595" y="1"/>
                      <a:pt x="5597" y="1"/>
                    </a:cubicBezTo>
                    <a:close/>
                    <a:moveTo>
                      <a:pt x="5605" y="1"/>
                    </a:moveTo>
                    <a:lnTo>
                      <a:pt x="5605" y="1"/>
                    </a:lnTo>
                    <a:cubicBezTo>
                      <a:pt x="5606" y="1"/>
                      <a:pt x="5607" y="2"/>
                      <a:pt x="5607" y="3"/>
                    </a:cubicBezTo>
                    <a:cubicBezTo>
                      <a:pt x="5607" y="4"/>
                      <a:pt x="5606" y="5"/>
                      <a:pt x="5605" y="5"/>
                    </a:cubicBezTo>
                    <a:lnTo>
                      <a:pt x="5605" y="5"/>
                    </a:lnTo>
                    <a:cubicBezTo>
                      <a:pt x="5603" y="5"/>
                      <a:pt x="5603" y="4"/>
                      <a:pt x="5603" y="3"/>
                    </a:cubicBezTo>
                    <a:cubicBezTo>
                      <a:pt x="5603" y="2"/>
                      <a:pt x="5603" y="1"/>
                      <a:pt x="5605" y="1"/>
                    </a:cubicBezTo>
                    <a:close/>
                    <a:moveTo>
                      <a:pt x="5613" y="1"/>
                    </a:moveTo>
                    <a:lnTo>
                      <a:pt x="5613" y="1"/>
                    </a:lnTo>
                    <a:cubicBezTo>
                      <a:pt x="5614" y="1"/>
                      <a:pt x="5615" y="2"/>
                      <a:pt x="5615" y="3"/>
                    </a:cubicBezTo>
                    <a:cubicBezTo>
                      <a:pt x="5615" y="4"/>
                      <a:pt x="5614" y="5"/>
                      <a:pt x="5613" y="5"/>
                    </a:cubicBezTo>
                    <a:lnTo>
                      <a:pt x="5613" y="5"/>
                    </a:lnTo>
                    <a:cubicBezTo>
                      <a:pt x="5611" y="5"/>
                      <a:pt x="5611" y="4"/>
                      <a:pt x="5611" y="3"/>
                    </a:cubicBezTo>
                    <a:cubicBezTo>
                      <a:pt x="5611" y="2"/>
                      <a:pt x="5611" y="1"/>
                      <a:pt x="5613" y="1"/>
                    </a:cubicBezTo>
                    <a:close/>
                    <a:moveTo>
                      <a:pt x="5621" y="1"/>
                    </a:moveTo>
                    <a:lnTo>
                      <a:pt x="5621" y="1"/>
                    </a:lnTo>
                    <a:cubicBezTo>
                      <a:pt x="5622" y="1"/>
                      <a:pt x="5623" y="2"/>
                      <a:pt x="5623" y="3"/>
                    </a:cubicBezTo>
                    <a:cubicBezTo>
                      <a:pt x="5623" y="4"/>
                      <a:pt x="5622" y="5"/>
                      <a:pt x="5621" y="5"/>
                    </a:cubicBezTo>
                    <a:lnTo>
                      <a:pt x="5621" y="5"/>
                    </a:lnTo>
                    <a:cubicBezTo>
                      <a:pt x="5619" y="5"/>
                      <a:pt x="5619" y="4"/>
                      <a:pt x="5619" y="3"/>
                    </a:cubicBezTo>
                    <a:cubicBezTo>
                      <a:pt x="5619" y="2"/>
                      <a:pt x="5619" y="1"/>
                      <a:pt x="5621" y="1"/>
                    </a:cubicBezTo>
                    <a:close/>
                    <a:moveTo>
                      <a:pt x="5629" y="1"/>
                    </a:moveTo>
                    <a:lnTo>
                      <a:pt x="5629" y="1"/>
                    </a:lnTo>
                    <a:cubicBezTo>
                      <a:pt x="5630" y="1"/>
                      <a:pt x="5631" y="2"/>
                      <a:pt x="5631" y="3"/>
                    </a:cubicBezTo>
                    <a:cubicBezTo>
                      <a:pt x="5631" y="4"/>
                      <a:pt x="5630" y="5"/>
                      <a:pt x="5629" y="5"/>
                    </a:cubicBezTo>
                    <a:lnTo>
                      <a:pt x="5629" y="5"/>
                    </a:lnTo>
                    <a:cubicBezTo>
                      <a:pt x="5627" y="5"/>
                      <a:pt x="5627" y="4"/>
                      <a:pt x="5627" y="3"/>
                    </a:cubicBezTo>
                    <a:cubicBezTo>
                      <a:pt x="5627" y="2"/>
                      <a:pt x="5627" y="1"/>
                      <a:pt x="5629" y="1"/>
                    </a:cubicBezTo>
                    <a:close/>
                    <a:moveTo>
                      <a:pt x="5637" y="1"/>
                    </a:moveTo>
                    <a:lnTo>
                      <a:pt x="5637" y="1"/>
                    </a:lnTo>
                    <a:cubicBezTo>
                      <a:pt x="5638" y="1"/>
                      <a:pt x="5639" y="2"/>
                      <a:pt x="5639" y="3"/>
                    </a:cubicBezTo>
                    <a:cubicBezTo>
                      <a:pt x="5639" y="4"/>
                      <a:pt x="5638" y="5"/>
                      <a:pt x="5637" y="5"/>
                    </a:cubicBezTo>
                    <a:lnTo>
                      <a:pt x="5637" y="5"/>
                    </a:lnTo>
                    <a:cubicBezTo>
                      <a:pt x="5635" y="5"/>
                      <a:pt x="5635" y="4"/>
                      <a:pt x="5635" y="3"/>
                    </a:cubicBezTo>
                    <a:cubicBezTo>
                      <a:pt x="5635" y="2"/>
                      <a:pt x="5635" y="1"/>
                      <a:pt x="5637" y="1"/>
                    </a:cubicBezTo>
                    <a:close/>
                    <a:moveTo>
                      <a:pt x="5645" y="1"/>
                    </a:moveTo>
                    <a:lnTo>
                      <a:pt x="5645" y="1"/>
                    </a:lnTo>
                    <a:cubicBezTo>
                      <a:pt x="5646" y="1"/>
                      <a:pt x="5647" y="2"/>
                      <a:pt x="5647" y="3"/>
                    </a:cubicBezTo>
                    <a:cubicBezTo>
                      <a:pt x="5647" y="4"/>
                      <a:pt x="5646" y="5"/>
                      <a:pt x="5645" y="5"/>
                    </a:cubicBezTo>
                    <a:lnTo>
                      <a:pt x="5645" y="5"/>
                    </a:lnTo>
                    <a:cubicBezTo>
                      <a:pt x="5643" y="5"/>
                      <a:pt x="5643" y="4"/>
                      <a:pt x="5643" y="3"/>
                    </a:cubicBezTo>
                    <a:cubicBezTo>
                      <a:pt x="5643" y="2"/>
                      <a:pt x="5643" y="1"/>
                      <a:pt x="5645" y="1"/>
                    </a:cubicBezTo>
                    <a:close/>
                    <a:moveTo>
                      <a:pt x="5653" y="1"/>
                    </a:moveTo>
                    <a:lnTo>
                      <a:pt x="5653" y="1"/>
                    </a:lnTo>
                    <a:cubicBezTo>
                      <a:pt x="5654" y="1"/>
                      <a:pt x="5655" y="2"/>
                      <a:pt x="5655" y="3"/>
                    </a:cubicBezTo>
                    <a:cubicBezTo>
                      <a:pt x="5655" y="4"/>
                      <a:pt x="5654" y="5"/>
                      <a:pt x="5653" y="5"/>
                    </a:cubicBezTo>
                    <a:lnTo>
                      <a:pt x="5653" y="5"/>
                    </a:lnTo>
                    <a:cubicBezTo>
                      <a:pt x="5651" y="5"/>
                      <a:pt x="5651" y="4"/>
                      <a:pt x="5651" y="3"/>
                    </a:cubicBezTo>
                    <a:cubicBezTo>
                      <a:pt x="5651" y="2"/>
                      <a:pt x="5651" y="1"/>
                      <a:pt x="5653" y="1"/>
                    </a:cubicBezTo>
                    <a:close/>
                    <a:moveTo>
                      <a:pt x="5661" y="1"/>
                    </a:moveTo>
                    <a:lnTo>
                      <a:pt x="5661" y="1"/>
                    </a:lnTo>
                    <a:cubicBezTo>
                      <a:pt x="5662" y="1"/>
                      <a:pt x="5663" y="2"/>
                      <a:pt x="5663" y="3"/>
                    </a:cubicBezTo>
                    <a:cubicBezTo>
                      <a:pt x="5663" y="4"/>
                      <a:pt x="5662" y="5"/>
                      <a:pt x="5661" y="5"/>
                    </a:cubicBezTo>
                    <a:lnTo>
                      <a:pt x="5661" y="5"/>
                    </a:lnTo>
                    <a:cubicBezTo>
                      <a:pt x="5659" y="5"/>
                      <a:pt x="5659" y="4"/>
                      <a:pt x="5659" y="3"/>
                    </a:cubicBezTo>
                    <a:cubicBezTo>
                      <a:pt x="5659" y="2"/>
                      <a:pt x="5659" y="1"/>
                      <a:pt x="5661" y="1"/>
                    </a:cubicBezTo>
                    <a:close/>
                    <a:moveTo>
                      <a:pt x="5669" y="1"/>
                    </a:moveTo>
                    <a:lnTo>
                      <a:pt x="5669" y="1"/>
                    </a:lnTo>
                    <a:cubicBezTo>
                      <a:pt x="5670" y="1"/>
                      <a:pt x="5671" y="2"/>
                      <a:pt x="5671" y="3"/>
                    </a:cubicBezTo>
                    <a:cubicBezTo>
                      <a:pt x="5671" y="4"/>
                      <a:pt x="5670" y="5"/>
                      <a:pt x="5669" y="5"/>
                    </a:cubicBezTo>
                    <a:lnTo>
                      <a:pt x="5669" y="5"/>
                    </a:lnTo>
                    <a:cubicBezTo>
                      <a:pt x="5667" y="5"/>
                      <a:pt x="5667" y="4"/>
                      <a:pt x="5667" y="3"/>
                    </a:cubicBezTo>
                    <a:cubicBezTo>
                      <a:pt x="5667" y="2"/>
                      <a:pt x="5667" y="1"/>
                      <a:pt x="5669" y="1"/>
                    </a:cubicBezTo>
                    <a:close/>
                    <a:moveTo>
                      <a:pt x="5677" y="1"/>
                    </a:moveTo>
                    <a:lnTo>
                      <a:pt x="5677" y="1"/>
                    </a:lnTo>
                    <a:cubicBezTo>
                      <a:pt x="5678" y="1"/>
                      <a:pt x="5679" y="2"/>
                      <a:pt x="5679" y="3"/>
                    </a:cubicBezTo>
                    <a:cubicBezTo>
                      <a:pt x="5679" y="4"/>
                      <a:pt x="5678" y="5"/>
                      <a:pt x="5677" y="5"/>
                    </a:cubicBezTo>
                    <a:lnTo>
                      <a:pt x="5677" y="5"/>
                    </a:lnTo>
                    <a:cubicBezTo>
                      <a:pt x="5675" y="5"/>
                      <a:pt x="5675" y="4"/>
                      <a:pt x="5675" y="3"/>
                    </a:cubicBezTo>
                    <a:cubicBezTo>
                      <a:pt x="5675" y="2"/>
                      <a:pt x="5675" y="1"/>
                      <a:pt x="5677" y="1"/>
                    </a:cubicBezTo>
                    <a:close/>
                    <a:moveTo>
                      <a:pt x="5685" y="1"/>
                    </a:moveTo>
                    <a:lnTo>
                      <a:pt x="5685" y="1"/>
                    </a:lnTo>
                    <a:cubicBezTo>
                      <a:pt x="5686" y="1"/>
                      <a:pt x="5687" y="2"/>
                      <a:pt x="5687" y="3"/>
                    </a:cubicBezTo>
                    <a:cubicBezTo>
                      <a:pt x="5687" y="4"/>
                      <a:pt x="5686" y="5"/>
                      <a:pt x="5685" y="5"/>
                    </a:cubicBezTo>
                    <a:lnTo>
                      <a:pt x="5685" y="5"/>
                    </a:lnTo>
                    <a:cubicBezTo>
                      <a:pt x="5683" y="5"/>
                      <a:pt x="5683" y="4"/>
                      <a:pt x="5683" y="3"/>
                    </a:cubicBezTo>
                    <a:cubicBezTo>
                      <a:pt x="5683" y="2"/>
                      <a:pt x="5683" y="1"/>
                      <a:pt x="5685" y="1"/>
                    </a:cubicBezTo>
                    <a:close/>
                    <a:moveTo>
                      <a:pt x="5693" y="1"/>
                    </a:moveTo>
                    <a:lnTo>
                      <a:pt x="5693" y="1"/>
                    </a:lnTo>
                    <a:cubicBezTo>
                      <a:pt x="5694" y="1"/>
                      <a:pt x="5695" y="2"/>
                      <a:pt x="5695" y="3"/>
                    </a:cubicBezTo>
                    <a:cubicBezTo>
                      <a:pt x="5695" y="4"/>
                      <a:pt x="5694" y="5"/>
                      <a:pt x="5693" y="5"/>
                    </a:cubicBezTo>
                    <a:lnTo>
                      <a:pt x="5693" y="5"/>
                    </a:lnTo>
                    <a:cubicBezTo>
                      <a:pt x="5691" y="5"/>
                      <a:pt x="5691" y="4"/>
                      <a:pt x="5691" y="3"/>
                    </a:cubicBezTo>
                    <a:cubicBezTo>
                      <a:pt x="5691" y="2"/>
                      <a:pt x="5691" y="1"/>
                      <a:pt x="5693" y="1"/>
                    </a:cubicBezTo>
                    <a:close/>
                    <a:moveTo>
                      <a:pt x="5701" y="1"/>
                    </a:moveTo>
                    <a:lnTo>
                      <a:pt x="5701" y="1"/>
                    </a:lnTo>
                    <a:cubicBezTo>
                      <a:pt x="5702" y="1"/>
                      <a:pt x="5703" y="2"/>
                      <a:pt x="5703" y="3"/>
                    </a:cubicBezTo>
                    <a:cubicBezTo>
                      <a:pt x="5703" y="4"/>
                      <a:pt x="5702" y="5"/>
                      <a:pt x="5701" y="5"/>
                    </a:cubicBezTo>
                    <a:lnTo>
                      <a:pt x="5701" y="5"/>
                    </a:lnTo>
                    <a:cubicBezTo>
                      <a:pt x="5699" y="5"/>
                      <a:pt x="5699" y="4"/>
                      <a:pt x="5699" y="3"/>
                    </a:cubicBezTo>
                    <a:cubicBezTo>
                      <a:pt x="5699" y="2"/>
                      <a:pt x="5699" y="1"/>
                      <a:pt x="5701" y="1"/>
                    </a:cubicBezTo>
                    <a:close/>
                    <a:moveTo>
                      <a:pt x="5709" y="1"/>
                    </a:moveTo>
                    <a:lnTo>
                      <a:pt x="5709" y="1"/>
                    </a:lnTo>
                    <a:cubicBezTo>
                      <a:pt x="5710" y="1"/>
                      <a:pt x="5711" y="2"/>
                      <a:pt x="5711" y="3"/>
                    </a:cubicBezTo>
                    <a:cubicBezTo>
                      <a:pt x="5711" y="4"/>
                      <a:pt x="5710" y="5"/>
                      <a:pt x="5709" y="5"/>
                    </a:cubicBezTo>
                    <a:lnTo>
                      <a:pt x="5709" y="5"/>
                    </a:lnTo>
                    <a:cubicBezTo>
                      <a:pt x="5708" y="5"/>
                      <a:pt x="5707" y="4"/>
                      <a:pt x="5707" y="3"/>
                    </a:cubicBezTo>
                    <a:cubicBezTo>
                      <a:pt x="5707" y="2"/>
                      <a:pt x="5708" y="1"/>
                      <a:pt x="5709" y="1"/>
                    </a:cubicBezTo>
                    <a:close/>
                    <a:moveTo>
                      <a:pt x="5717" y="1"/>
                    </a:moveTo>
                    <a:lnTo>
                      <a:pt x="5717" y="1"/>
                    </a:lnTo>
                    <a:cubicBezTo>
                      <a:pt x="5718" y="1"/>
                      <a:pt x="5719" y="2"/>
                      <a:pt x="5719" y="3"/>
                    </a:cubicBezTo>
                    <a:cubicBezTo>
                      <a:pt x="5719" y="4"/>
                      <a:pt x="5718" y="5"/>
                      <a:pt x="5717" y="5"/>
                    </a:cubicBezTo>
                    <a:lnTo>
                      <a:pt x="5717" y="5"/>
                    </a:lnTo>
                    <a:cubicBezTo>
                      <a:pt x="5716" y="5"/>
                      <a:pt x="5715" y="4"/>
                      <a:pt x="5715" y="3"/>
                    </a:cubicBezTo>
                    <a:cubicBezTo>
                      <a:pt x="5715" y="2"/>
                      <a:pt x="5716" y="1"/>
                      <a:pt x="5717" y="1"/>
                    </a:cubicBezTo>
                    <a:close/>
                    <a:moveTo>
                      <a:pt x="5725" y="1"/>
                    </a:moveTo>
                    <a:lnTo>
                      <a:pt x="5725" y="1"/>
                    </a:lnTo>
                    <a:cubicBezTo>
                      <a:pt x="5726" y="1"/>
                      <a:pt x="5727" y="2"/>
                      <a:pt x="5727" y="3"/>
                    </a:cubicBezTo>
                    <a:cubicBezTo>
                      <a:pt x="5727" y="4"/>
                      <a:pt x="5726" y="5"/>
                      <a:pt x="5725" y="5"/>
                    </a:cubicBezTo>
                    <a:lnTo>
                      <a:pt x="5725" y="5"/>
                    </a:lnTo>
                    <a:cubicBezTo>
                      <a:pt x="5724" y="5"/>
                      <a:pt x="5723" y="4"/>
                      <a:pt x="5723" y="3"/>
                    </a:cubicBezTo>
                    <a:cubicBezTo>
                      <a:pt x="5723" y="2"/>
                      <a:pt x="5724" y="1"/>
                      <a:pt x="5725" y="1"/>
                    </a:cubicBezTo>
                    <a:close/>
                    <a:moveTo>
                      <a:pt x="5733" y="1"/>
                    </a:moveTo>
                    <a:lnTo>
                      <a:pt x="5733" y="1"/>
                    </a:lnTo>
                    <a:cubicBezTo>
                      <a:pt x="5734" y="1"/>
                      <a:pt x="5735" y="2"/>
                      <a:pt x="5735" y="3"/>
                    </a:cubicBezTo>
                    <a:cubicBezTo>
                      <a:pt x="5735" y="4"/>
                      <a:pt x="5734" y="5"/>
                      <a:pt x="5733" y="5"/>
                    </a:cubicBezTo>
                    <a:lnTo>
                      <a:pt x="5733" y="5"/>
                    </a:lnTo>
                    <a:cubicBezTo>
                      <a:pt x="5732" y="5"/>
                      <a:pt x="5731" y="4"/>
                      <a:pt x="5731" y="3"/>
                    </a:cubicBezTo>
                    <a:cubicBezTo>
                      <a:pt x="5731" y="2"/>
                      <a:pt x="5732" y="1"/>
                      <a:pt x="5733" y="1"/>
                    </a:cubicBezTo>
                    <a:close/>
                    <a:moveTo>
                      <a:pt x="5741" y="1"/>
                    </a:moveTo>
                    <a:lnTo>
                      <a:pt x="5741" y="1"/>
                    </a:lnTo>
                    <a:cubicBezTo>
                      <a:pt x="5742" y="1"/>
                      <a:pt x="5743" y="2"/>
                      <a:pt x="5743" y="3"/>
                    </a:cubicBezTo>
                    <a:cubicBezTo>
                      <a:pt x="5743" y="4"/>
                      <a:pt x="5742" y="5"/>
                      <a:pt x="5741" y="5"/>
                    </a:cubicBezTo>
                    <a:lnTo>
                      <a:pt x="5741" y="5"/>
                    </a:lnTo>
                    <a:cubicBezTo>
                      <a:pt x="5740" y="5"/>
                      <a:pt x="5739" y="4"/>
                      <a:pt x="5739" y="3"/>
                    </a:cubicBezTo>
                    <a:cubicBezTo>
                      <a:pt x="5739" y="2"/>
                      <a:pt x="5740" y="1"/>
                      <a:pt x="5741" y="1"/>
                    </a:cubicBezTo>
                    <a:close/>
                    <a:moveTo>
                      <a:pt x="5749" y="1"/>
                    </a:moveTo>
                    <a:lnTo>
                      <a:pt x="5749" y="1"/>
                    </a:lnTo>
                    <a:cubicBezTo>
                      <a:pt x="5750" y="1"/>
                      <a:pt x="5751" y="2"/>
                      <a:pt x="5751" y="3"/>
                    </a:cubicBezTo>
                    <a:cubicBezTo>
                      <a:pt x="5751" y="4"/>
                      <a:pt x="5750" y="5"/>
                      <a:pt x="5749" y="5"/>
                    </a:cubicBezTo>
                    <a:lnTo>
                      <a:pt x="5749" y="5"/>
                    </a:lnTo>
                    <a:cubicBezTo>
                      <a:pt x="5748" y="5"/>
                      <a:pt x="5747" y="4"/>
                      <a:pt x="5747" y="3"/>
                    </a:cubicBezTo>
                    <a:cubicBezTo>
                      <a:pt x="5747" y="2"/>
                      <a:pt x="5748" y="1"/>
                      <a:pt x="5749" y="1"/>
                    </a:cubicBezTo>
                    <a:close/>
                    <a:moveTo>
                      <a:pt x="5757" y="1"/>
                    </a:moveTo>
                    <a:lnTo>
                      <a:pt x="5757" y="1"/>
                    </a:lnTo>
                    <a:cubicBezTo>
                      <a:pt x="5758" y="1"/>
                      <a:pt x="5759" y="2"/>
                      <a:pt x="5759" y="3"/>
                    </a:cubicBezTo>
                    <a:cubicBezTo>
                      <a:pt x="5759" y="4"/>
                      <a:pt x="5758" y="5"/>
                      <a:pt x="5757" y="5"/>
                    </a:cubicBezTo>
                    <a:lnTo>
                      <a:pt x="5757" y="5"/>
                    </a:lnTo>
                    <a:cubicBezTo>
                      <a:pt x="5756" y="5"/>
                      <a:pt x="5755" y="4"/>
                      <a:pt x="5755" y="3"/>
                    </a:cubicBezTo>
                    <a:cubicBezTo>
                      <a:pt x="5755" y="2"/>
                      <a:pt x="5756" y="1"/>
                      <a:pt x="5757" y="1"/>
                    </a:cubicBezTo>
                    <a:close/>
                    <a:moveTo>
                      <a:pt x="5765" y="1"/>
                    </a:moveTo>
                    <a:lnTo>
                      <a:pt x="5765" y="1"/>
                    </a:lnTo>
                    <a:cubicBezTo>
                      <a:pt x="5766" y="1"/>
                      <a:pt x="5767" y="2"/>
                      <a:pt x="5767" y="3"/>
                    </a:cubicBezTo>
                    <a:cubicBezTo>
                      <a:pt x="5767" y="4"/>
                      <a:pt x="5766" y="5"/>
                      <a:pt x="5765" y="5"/>
                    </a:cubicBezTo>
                    <a:lnTo>
                      <a:pt x="5765" y="5"/>
                    </a:lnTo>
                    <a:cubicBezTo>
                      <a:pt x="5764" y="5"/>
                      <a:pt x="5763" y="4"/>
                      <a:pt x="5763" y="3"/>
                    </a:cubicBezTo>
                    <a:cubicBezTo>
                      <a:pt x="5763" y="2"/>
                      <a:pt x="5764" y="1"/>
                      <a:pt x="5765" y="1"/>
                    </a:cubicBezTo>
                    <a:close/>
                    <a:moveTo>
                      <a:pt x="5773" y="1"/>
                    </a:moveTo>
                    <a:lnTo>
                      <a:pt x="5773" y="1"/>
                    </a:lnTo>
                    <a:cubicBezTo>
                      <a:pt x="5774" y="1"/>
                      <a:pt x="5775" y="2"/>
                      <a:pt x="5775" y="3"/>
                    </a:cubicBezTo>
                    <a:cubicBezTo>
                      <a:pt x="5775" y="4"/>
                      <a:pt x="5774" y="5"/>
                      <a:pt x="5773" y="5"/>
                    </a:cubicBezTo>
                    <a:lnTo>
                      <a:pt x="5773" y="5"/>
                    </a:lnTo>
                    <a:cubicBezTo>
                      <a:pt x="5772" y="5"/>
                      <a:pt x="5771" y="4"/>
                      <a:pt x="5771" y="3"/>
                    </a:cubicBezTo>
                    <a:cubicBezTo>
                      <a:pt x="5771" y="2"/>
                      <a:pt x="5772" y="1"/>
                      <a:pt x="5773" y="1"/>
                    </a:cubicBezTo>
                    <a:close/>
                    <a:moveTo>
                      <a:pt x="5781" y="1"/>
                    </a:moveTo>
                    <a:lnTo>
                      <a:pt x="5781" y="1"/>
                    </a:lnTo>
                    <a:cubicBezTo>
                      <a:pt x="5782" y="1"/>
                      <a:pt x="5783" y="2"/>
                      <a:pt x="5783" y="3"/>
                    </a:cubicBezTo>
                    <a:cubicBezTo>
                      <a:pt x="5783" y="4"/>
                      <a:pt x="5782" y="5"/>
                      <a:pt x="5781" y="5"/>
                    </a:cubicBezTo>
                    <a:lnTo>
                      <a:pt x="5781" y="5"/>
                    </a:lnTo>
                    <a:cubicBezTo>
                      <a:pt x="5780" y="5"/>
                      <a:pt x="5779" y="4"/>
                      <a:pt x="5779" y="3"/>
                    </a:cubicBezTo>
                    <a:cubicBezTo>
                      <a:pt x="5779" y="2"/>
                      <a:pt x="5780" y="1"/>
                      <a:pt x="5781" y="1"/>
                    </a:cubicBezTo>
                    <a:close/>
                    <a:moveTo>
                      <a:pt x="5789" y="1"/>
                    </a:moveTo>
                    <a:lnTo>
                      <a:pt x="5789" y="1"/>
                    </a:lnTo>
                    <a:cubicBezTo>
                      <a:pt x="5790" y="1"/>
                      <a:pt x="5791" y="2"/>
                      <a:pt x="5791" y="3"/>
                    </a:cubicBezTo>
                    <a:cubicBezTo>
                      <a:pt x="5791" y="4"/>
                      <a:pt x="5790" y="5"/>
                      <a:pt x="5789" y="5"/>
                    </a:cubicBezTo>
                    <a:lnTo>
                      <a:pt x="5789" y="5"/>
                    </a:lnTo>
                    <a:cubicBezTo>
                      <a:pt x="5788" y="5"/>
                      <a:pt x="5787" y="4"/>
                      <a:pt x="5787" y="3"/>
                    </a:cubicBezTo>
                    <a:cubicBezTo>
                      <a:pt x="5787" y="2"/>
                      <a:pt x="5788" y="1"/>
                      <a:pt x="5789" y="1"/>
                    </a:cubicBezTo>
                    <a:close/>
                    <a:moveTo>
                      <a:pt x="5797" y="1"/>
                    </a:moveTo>
                    <a:lnTo>
                      <a:pt x="5797" y="1"/>
                    </a:lnTo>
                    <a:cubicBezTo>
                      <a:pt x="5798" y="1"/>
                      <a:pt x="5799" y="2"/>
                      <a:pt x="5799" y="3"/>
                    </a:cubicBezTo>
                    <a:cubicBezTo>
                      <a:pt x="5799" y="4"/>
                      <a:pt x="5798" y="5"/>
                      <a:pt x="5797" y="5"/>
                    </a:cubicBezTo>
                    <a:lnTo>
                      <a:pt x="5797" y="5"/>
                    </a:lnTo>
                    <a:cubicBezTo>
                      <a:pt x="5796" y="5"/>
                      <a:pt x="5795" y="4"/>
                      <a:pt x="5795" y="3"/>
                    </a:cubicBezTo>
                    <a:cubicBezTo>
                      <a:pt x="5795" y="2"/>
                      <a:pt x="5796" y="1"/>
                      <a:pt x="5797" y="1"/>
                    </a:cubicBezTo>
                    <a:close/>
                    <a:moveTo>
                      <a:pt x="5805" y="1"/>
                    </a:moveTo>
                    <a:lnTo>
                      <a:pt x="5805" y="1"/>
                    </a:lnTo>
                    <a:cubicBezTo>
                      <a:pt x="5806" y="1"/>
                      <a:pt x="5807" y="2"/>
                      <a:pt x="5807" y="3"/>
                    </a:cubicBezTo>
                    <a:cubicBezTo>
                      <a:pt x="5807" y="4"/>
                      <a:pt x="5806" y="5"/>
                      <a:pt x="5805" y="5"/>
                    </a:cubicBezTo>
                    <a:lnTo>
                      <a:pt x="5805" y="5"/>
                    </a:lnTo>
                    <a:cubicBezTo>
                      <a:pt x="5804" y="5"/>
                      <a:pt x="5803" y="4"/>
                      <a:pt x="5803" y="3"/>
                    </a:cubicBezTo>
                    <a:cubicBezTo>
                      <a:pt x="5803" y="2"/>
                      <a:pt x="5804" y="1"/>
                      <a:pt x="5805" y="1"/>
                    </a:cubicBezTo>
                    <a:close/>
                    <a:moveTo>
                      <a:pt x="5813" y="1"/>
                    </a:moveTo>
                    <a:lnTo>
                      <a:pt x="5813" y="1"/>
                    </a:lnTo>
                    <a:cubicBezTo>
                      <a:pt x="5814" y="1"/>
                      <a:pt x="5815" y="2"/>
                      <a:pt x="5815" y="3"/>
                    </a:cubicBezTo>
                    <a:cubicBezTo>
                      <a:pt x="5815" y="4"/>
                      <a:pt x="5814" y="5"/>
                      <a:pt x="5813" y="5"/>
                    </a:cubicBezTo>
                    <a:lnTo>
                      <a:pt x="5813" y="5"/>
                    </a:lnTo>
                    <a:cubicBezTo>
                      <a:pt x="5812" y="5"/>
                      <a:pt x="5811" y="4"/>
                      <a:pt x="5811" y="3"/>
                    </a:cubicBezTo>
                    <a:cubicBezTo>
                      <a:pt x="5811" y="2"/>
                      <a:pt x="5812" y="1"/>
                      <a:pt x="5813" y="1"/>
                    </a:cubicBezTo>
                    <a:close/>
                    <a:moveTo>
                      <a:pt x="5821" y="1"/>
                    </a:moveTo>
                    <a:lnTo>
                      <a:pt x="5821" y="1"/>
                    </a:lnTo>
                    <a:cubicBezTo>
                      <a:pt x="5822" y="1"/>
                      <a:pt x="5823" y="2"/>
                      <a:pt x="5823" y="3"/>
                    </a:cubicBezTo>
                    <a:cubicBezTo>
                      <a:pt x="5823" y="4"/>
                      <a:pt x="5822" y="5"/>
                      <a:pt x="5821" y="5"/>
                    </a:cubicBezTo>
                    <a:lnTo>
                      <a:pt x="5821" y="5"/>
                    </a:lnTo>
                    <a:cubicBezTo>
                      <a:pt x="5820" y="5"/>
                      <a:pt x="5819" y="4"/>
                      <a:pt x="5819" y="3"/>
                    </a:cubicBezTo>
                    <a:cubicBezTo>
                      <a:pt x="5819" y="2"/>
                      <a:pt x="5820" y="1"/>
                      <a:pt x="5821" y="1"/>
                    </a:cubicBezTo>
                    <a:close/>
                    <a:moveTo>
                      <a:pt x="5829" y="1"/>
                    </a:moveTo>
                    <a:lnTo>
                      <a:pt x="5829" y="1"/>
                    </a:lnTo>
                    <a:cubicBezTo>
                      <a:pt x="5830" y="1"/>
                      <a:pt x="5831" y="2"/>
                      <a:pt x="5831" y="3"/>
                    </a:cubicBezTo>
                    <a:cubicBezTo>
                      <a:pt x="5831" y="4"/>
                      <a:pt x="5830" y="5"/>
                      <a:pt x="5829" y="5"/>
                    </a:cubicBezTo>
                    <a:lnTo>
                      <a:pt x="5829" y="5"/>
                    </a:lnTo>
                    <a:cubicBezTo>
                      <a:pt x="5828" y="5"/>
                      <a:pt x="5827" y="4"/>
                      <a:pt x="5827" y="3"/>
                    </a:cubicBezTo>
                    <a:cubicBezTo>
                      <a:pt x="5827" y="2"/>
                      <a:pt x="5828" y="1"/>
                      <a:pt x="5829" y="1"/>
                    </a:cubicBezTo>
                    <a:close/>
                    <a:moveTo>
                      <a:pt x="5837" y="1"/>
                    </a:moveTo>
                    <a:lnTo>
                      <a:pt x="5837" y="1"/>
                    </a:lnTo>
                    <a:cubicBezTo>
                      <a:pt x="5838" y="1"/>
                      <a:pt x="5839" y="2"/>
                      <a:pt x="5839" y="3"/>
                    </a:cubicBezTo>
                    <a:cubicBezTo>
                      <a:pt x="5839" y="4"/>
                      <a:pt x="5838" y="5"/>
                      <a:pt x="5837" y="5"/>
                    </a:cubicBezTo>
                    <a:lnTo>
                      <a:pt x="5837" y="5"/>
                    </a:lnTo>
                    <a:cubicBezTo>
                      <a:pt x="5836" y="5"/>
                      <a:pt x="5835" y="4"/>
                      <a:pt x="5835" y="3"/>
                    </a:cubicBezTo>
                    <a:cubicBezTo>
                      <a:pt x="5835" y="2"/>
                      <a:pt x="5836" y="1"/>
                      <a:pt x="5837" y="1"/>
                    </a:cubicBezTo>
                    <a:close/>
                    <a:moveTo>
                      <a:pt x="5845" y="1"/>
                    </a:moveTo>
                    <a:lnTo>
                      <a:pt x="5845" y="1"/>
                    </a:lnTo>
                    <a:cubicBezTo>
                      <a:pt x="5846" y="1"/>
                      <a:pt x="5847" y="2"/>
                      <a:pt x="5847" y="3"/>
                    </a:cubicBezTo>
                    <a:cubicBezTo>
                      <a:pt x="5847" y="4"/>
                      <a:pt x="5846" y="5"/>
                      <a:pt x="5845" y="5"/>
                    </a:cubicBezTo>
                    <a:lnTo>
                      <a:pt x="5845" y="5"/>
                    </a:lnTo>
                    <a:cubicBezTo>
                      <a:pt x="5844" y="5"/>
                      <a:pt x="5843" y="4"/>
                      <a:pt x="5843" y="3"/>
                    </a:cubicBezTo>
                    <a:cubicBezTo>
                      <a:pt x="5843" y="2"/>
                      <a:pt x="5844" y="1"/>
                      <a:pt x="5845" y="1"/>
                    </a:cubicBezTo>
                    <a:close/>
                    <a:moveTo>
                      <a:pt x="5853" y="1"/>
                    </a:moveTo>
                    <a:lnTo>
                      <a:pt x="5853" y="1"/>
                    </a:lnTo>
                    <a:cubicBezTo>
                      <a:pt x="5854" y="1"/>
                      <a:pt x="5855" y="2"/>
                      <a:pt x="5855" y="3"/>
                    </a:cubicBezTo>
                    <a:cubicBezTo>
                      <a:pt x="5855" y="4"/>
                      <a:pt x="5854" y="5"/>
                      <a:pt x="5853" y="5"/>
                    </a:cubicBezTo>
                    <a:lnTo>
                      <a:pt x="5853" y="5"/>
                    </a:lnTo>
                    <a:cubicBezTo>
                      <a:pt x="5852" y="5"/>
                      <a:pt x="5851" y="4"/>
                      <a:pt x="5851" y="3"/>
                    </a:cubicBezTo>
                    <a:cubicBezTo>
                      <a:pt x="5851" y="2"/>
                      <a:pt x="5852" y="1"/>
                      <a:pt x="5853" y="1"/>
                    </a:cubicBezTo>
                    <a:close/>
                    <a:moveTo>
                      <a:pt x="5861" y="1"/>
                    </a:moveTo>
                    <a:lnTo>
                      <a:pt x="5861" y="1"/>
                    </a:lnTo>
                    <a:cubicBezTo>
                      <a:pt x="5862" y="1"/>
                      <a:pt x="5863" y="2"/>
                      <a:pt x="5863" y="3"/>
                    </a:cubicBezTo>
                    <a:cubicBezTo>
                      <a:pt x="5863" y="4"/>
                      <a:pt x="5862" y="5"/>
                      <a:pt x="5861" y="5"/>
                    </a:cubicBezTo>
                    <a:lnTo>
                      <a:pt x="5861" y="5"/>
                    </a:lnTo>
                    <a:cubicBezTo>
                      <a:pt x="5860" y="5"/>
                      <a:pt x="5859" y="4"/>
                      <a:pt x="5859" y="3"/>
                    </a:cubicBezTo>
                    <a:cubicBezTo>
                      <a:pt x="5859" y="2"/>
                      <a:pt x="5860" y="1"/>
                      <a:pt x="5861" y="1"/>
                    </a:cubicBezTo>
                    <a:close/>
                    <a:moveTo>
                      <a:pt x="5869" y="1"/>
                    </a:moveTo>
                    <a:lnTo>
                      <a:pt x="5869" y="1"/>
                    </a:lnTo>
                    <a:cubicBezTo>
                      <a:pt x="5870" y="1"/>
                      <a:pt x="5871" y="2"/>
                      <a:pt x="5871" y="3"/>
                    </a:cubicBezTo>
                    <a:cubicBezTo>
                      <a:pt x="5871" y="4"/>
                      <a:pt x="5870" y="5"/>
                      <a:pt x="5869" y="5"/>
                    </a:cubicBezTo>
                    <a:lnTo>
                      <a:pt x="5869" y="5"/>
                    </a:lnTo>
                    <a:cubicBezTo>
                      <a:pt x="5868" y="5"/>
                      <a:pt x="5867" y="4"/>
                      <a:pt x="5867" y="3"/>
                    </a:cubicBezTo>
                    <a:cubicBezTo>
                      <a:pt x="5867" y="2"/>
                      <a:pt x="5868" y="1"/>
                      <a:pt x="5869" y="1"/>
                    </a:cubicBezTo>
                    <a:close/>
                    <a:moveTo>
                      <a:pt x="5877" y="1"/>
                    </a:moveTo>
                    <a:lnTo>
                      <a:pt x="5877" y="1"/>
                    </a:lnTo>
                    <a:cubicBezTo>
                      <a:pt x="5878" y="1"/>
                      <a:pt x="5879" y="2"/>
                      <a:pt x="5879" y="3"/>
                    </a:cubicBezTo>
                    <a:cubicBezTo>
                      <a:pt x="5879" y="4"/>
                      <a:pt x="5878" y="5"/>
                      <a:pt x="5877" y="5"/>
                    </a:cubicBezTo>
                    <a:lnTo>
                      <a:pt x="5877" y="5"/>
                    </a:lnTo>
                    <a:cubicBezTo>
                      <a:pt x="5876" y="5"/>
                      <a:pt x="5875" y="4"/>
                      <a:pt x="5875" y="3"/>
                    </a:cubicBezTo>
                    <a:cubicBezTo>
                      <a:pt x="5875" y="2"/>
                      <a:pt x="5876" y="1"/>
                      <a:pt x="5877" y="1"/>
                    </a:cubicBezTo>
                    <a:close/>
                    <a:moveTo>
                      <a:pt x="5885" y="1"/>
                    </a:moveTo>
                    <a:lnTo>
                      <a:pt x="5885" y="1"/>
                    </a:lnTo>
                    <a:cubicBezTo>
                      <a:pt x="5886" y="1"/>
                      <a:pt x="5887" y="2"/>
                      <a:pt x="5887" y="3"/>
                    </a:cubicBezTo>
                    <a:cubicBezTo>
                      <a:pt x="5887" y="4"/>
                      <a:pt x="5886" y="5"/>
                      <a:pt x="5885" y="5"/>
                    </a:cubicBezTo>
                    <a:lnTo>
                      <a:pt x="5885" y="5"/>
                    </a:lnTo>
                    <a:cubicBezTo>
                      <a:pt x="5884" y="5"/>
                      <a:pt x="5883" y="4"/>
                      <a:pt x="5883" y="3"/>
                    </a:cubicBezTo>
                    <a:cubicBezTo>
                      <a:pt x="5883" y="2"/>
                      <a:pt x="5884" y="1"/>
                      <a:pt x="5885" y="1"/>
                    </a:cubicBezTo>
                    <a:close/>
                    <a:moveTo>
                      <a:pt x="5893" y="1"/>
                    </a:moveTo>
                    <a:lnTo>
                      <a:pt x="5893" y="1"/>
                    </a:lnTo>
                    <a:cubicBezTo>
                      <a:pt x="5894" y="1"/>
                      <a:pt x="5895" y="2"/>
                      <a:pt x="5895" y="3"/>
                    </a:cubicBezTo>
                    <a:cubicBezTo>
                      <a:pt x="5895" y="4"/>
                      <a:pt x="5894" y="5"/>
                      <a:pt x="5893" y="5"/>
                    </a:cubicBezTo>
                    <a:lnTo>
                      <a:pt x="5893" y="5"/>
                    </a:lnTo>
                    <a:cubicBezTo>
                      <a:pt x="5892" y="5"/>
                      <a:pt x="5891" y="4"/>
                      <a:pt x="5891" y="3"/>
                    </a:cubicBezTo>
                    <a:cubicBezTo>
                      <a:pt x="5891" y="2"/>
                      <a:pt x="5892" y="1"/>
                      <a:pt x="5893" y="1"/>
                    </a:cubicBezTo>
                    <a:close/>
                    <a:moveTo>
                      <a:pt x="5901" y="1"/>
                    </a:moveTo>
                    <a:lnTo>
                      <a:pt x="5901" y="1"/>
                    </a:lnTo>
                    <a:cubicBezTo>
                      <a:pt x="5902" y="1"/>
                      <a:pt x="5903" y="2"/>
                      <a:pt x="5903" y="3"/>
                    </a:cubicBezTo>
                    <a:cubicBezTo>
                      <a:pt x="5903" y="4"/>
                      <a:pt x="5902" y="5"/>
                      <a:pt x="5901" y="5"/>
                    </a:cubicBezTo>
                    <a:lnTo>
                      <a:pt x="5901" y="5"/>
                    </a:lnTo>
                    <a:cubicBezTo>
                      <a:pt x="5900" y="5"/>
                      <a:pt x="5899" y="4"/>
                      <a:pt x="5899" y="3"/>
                    </a:cubicBezTo>
                    <a:cubicBezTo>
                      <a:pt x="5899" y="2"/>
                      <a:pt x="5900" y="1"/>
                      <a:pt x="5901" y="1"/>
                    </a:cubicBezTo>
                    <a:close/>
                    <a:moveTo>
                      <a:pt x="5909" y="1"/>
                    </a:moveTo>
                    <a:lnTo>
                      <a:pt x="5909" y="1"/>
                    </a:lnTo>
                    <a:cubicBezTo>
                      <a:pt x="5910" y="1"/>
                      <a:pt x="5911" y="2"/>
                      <a:pt x="5911" y="3"/>
                    </a:cubicBezTo>
                    <a:cubicBezTo>
                      <a:pt x="5911" y="4"/>
                      <a:pt x="5910" y="5"/>
                      <a:pt x="5909" y="5"/>
                    </a:cubicBezTo>
                    <a:lnTo>
                      <a:pt x="5909" y="5"/>
                    </a:lnTo>
                    <a:cubicBezTo>
                      <a:pt x="5908" y="5"/>
                      <a:pt x="5907" y="4"/>
                      <a:pt x="5907" y="3"/>
                    </a:cubicBezTo>
                    <a:cubicBezTo>
                      <a:pt x="5907" y="2"/>
                      <a:pt x="5908" y="1"/>
                      <a:pt x="5909" y="1"/>
                    </a:cubicBezTo>
                    <a:close/>
                    <a:moveTo>
                      <a:pt x="5917" y="1"/>
                    </a:moveTo>
                    <a:lnTo>
                      <a:pt x="5917" y="1"/>
                    </a:lnTo>
                    <a:cubicBezTo>
                      <a:pt x="5918" y="1"/>
                      <a:pt x="5919" y="2"/>
                      <a:pt x="5919" y="3"/>
                    </a:cubicBezTo>
                    <a:cubicBezTo>
                      <a:pt x="5919" y="4"/>
                      <a:pt x="5918" y="5"/>
                      <a:pt x="5917" y="5"/>
                    </a:cubicBezTo>
                    <a:lnTo>
                      <a:pt x="5917" y="5"/>
                    </a:lnTo>
                    <a:cubicBezTo>
                      <a:pt x="5916" y="5"/>
                      <a:pt x="5915" y="4"/>
                      <a:pt x="5915" y="3"/>
                    </a:cubicBezTo>
                    <a:cubicBezTo>
                      <a:pt x="5915" y="2"/>
                      <a:pt x="5916" y="1"/>
                      <a:pt x="5917" y="1"/>
                    </a:cubicBezTo>
                    <a:close/>
                    <a:moveTo>
                      <a:pt x="5925" y="1"/>
                    </a:moveTo>
                    <a:lnTo>
                      <a:pt x="5925" y="1"/>
                    </a:lnTo>
                    <a:cubicBezTo>
                      <a:pt x="5926" y="1"/>
                      <a:pt x="5927" y="2"/>
                      <a:pt x="5927" y="3"/>
                    </a:cubicBezTo>
                    <a:cubicBezTo>
                      <a:pt x="5927" y="4"/>
                      <a:pt x="5926" y="5"/>
                      <a:pt x="5925" y="5"/>
                    </a:cubicBezTo>
                    <a:lnTo>
                      <a:pt x="5925" y="5"/>
                    </a:lnTo>
                    <a:cubicBezTo>
                      <a:pt x="5924" y="5"/>
                      <a:pt x="5923" y="4"/>
                      <a:pt x="5923" y="3"/>
                    </a:cubicBezTo>
                    <a:cubicBezTo>
                      <a:pt x="5923" y="2"/>
                      <a:pt x="5924" y="1"/>
                      <a:pt x="5925" y="1"/>
                    </a:cubicBezTo>
                    <a:close/>
                    <a:moveTo>
                      <a:pt x="5933" y="1"/>
                    </a:moveTo>
                    <a:lnTo>
                      <a:pt x="5933" y="1"/>
                    </a:lnTo>
                    <a:cubicBezTo>
                      <a:pt x="5934" y="1"/>
                      <a:pt x="5935" y="2"/>
                      <a:pt x="5935" y="3"/>
                    </a:cubicBezTo>
                    <a:cubicBezTo>
                      <a:pt x="5935" y="4"/>
                      <a:pt x="5934" y="5"/>
                      <a:pt x="5933" y="5"/>
                    </a:cubicBezTo>
                    <a:lnTo>
                      <a:pt x="5933" y="5"/>
                    </a:lnTo>
                    <a:cubicBezTo>
                      <a:pt x="5932" y="5"/>
                      <a:pt x="5931" y="4"/>
                      <a:pt x="5931" y="3"/>
                    </a:cubicBezTo>
                    <a:cubicBezTo>
                      <a:pt x="5931" y="2"/>
                      <a:pt x="5932" y="1"/>
                      <a:pt x="5933" y="1"/>
                    </a:cubicBezTo>
                    <a:close/>
                    <a:moveTo>
                      <a:pt x="5941" y="1"/>
                    </a:moveTo>
                    <a:lnTo>
                      <a:pt x="5941" y="1"/>
                    </a:lnTo>
                    <a:cubicBezTo>
                      <a:pt x="5942" y="1"/>
                      <a:pt x="5943" y="2"/>
                      <a:pt x="5943" y="3"/>
                    </a:cubicBezTo>
                    <a:cubicBezTo>
                      <a:pt x="5943" y="4"/>
                      <a:pt x="5942" y="5"/>
                      <a:pt x="5941" y="5"/>
                    </a:cubicBezTo>
                    <a:lnTo>
                      <a:pt x="5941" y="5"/>
                    </a:lnTo>
                    <a:cubicBezTo>
                      <a:pt x="5940" y="5"/>
                      <a:pt x="5939" y="4"/>
                      <a:pt x="5939" y="3"/>
                    </a:cubicBezTo>
                    <a:cubicBezTo>
                      <a:pt x="5939" y="2"/>
                      <a:pt x="5940" y="1"/>
                      <a:pt x="5941" y="1"/>
                    </a:cubicBezTo>
                    <a:close/>
                    <a:moveTo>
                      <a:pt x="5949" y="1"/>
                    </a:moveTo>
                    <a:lnTo>
                      <a:pt x="5949" y="1"/>
                    </a:lnTo>
                    <a:cubicBezTo>
                      <a:pt x="5950" y="1"/>
                      <a:pt x="5951" y="2"/>
                      <a:pt x="5951" y="3"/>
                    </a:cubicBezTo>
                    <a:cubicBezTo>
                      <a:pt x="5951" y="4"/>
                      <a:pt x="5950" y="5"/>
                      <a:pt x="5949" y="5"/>
                    </a:cubicBezTo>
                    <a:lnTo>
                      <a:pt x="5949" y="5"/>
                    </a:lnTo>
                    <a:cubicBezTo>
                      <a:pt x="5948" y="5"/>
                      <a:pt x="5947" y="4"/>
                      <a:pt x="5947" y="3"/>
                    </a:cubicBezTo>
                    <a:cubicBezTo>
                      <a:pt x="5947" y="2"/>
                      <a:pt x="5948" y="1"/>
                      <a:pt x="5949" y="1"/>
                    </a:cubicBezTo>
                    <a:close/>
                    <a:moveTo>
                      <a:pt x="5957" y="1"/>
                    </a:moveTo>
                    <a:lnTo>
                      <a:pt x="5957" y="1"/>
                    </a:lnTo>
                    <a:cubicBezTo>
                      <a:pt x="5958" y="1"/>
                      <a:pt x="5959" y="2"/>
                      <a:pt x="5959" y="3"/>
                    </a:cubicBezTo>
                    <a:cubicBezTo>
                      <a:pt x="5959" y="4"/>
                      <a:pt x="5958" y="5"/>
                      <a:pt x="5957" y="5"/>
                    </a:cubicBezTo>
                    <a:lnTo>
                      <a:pt x="5957" y="5"/>
                    </a:lnTo>
                    <a:cubicBezTo>
                      <a:pt x="5956" y="5"/>
                      <a:pt x="5955" y="4"/>
                      <a:pt x="5955" y="3"/>
                    </a:cubicBezTo>
                    <a:cubicBezTo>
                      <a:pt x="5955" y="2"/>
                      <a:pt x="5956" y="1"/>
                      <a:pt x="5957" y="1"/>
                    </a:cubicBezTo>
                    <a:close/>
                    <a:moveTo>
                      <a:pt x="5965" y="1"/>
                    </a:moveTo>
                    <a:lnTo>
                      <a:pt x="5965" y="1"/>
                    </a:lnTo>
                    <a:cubicBezTo>
                      <a:pt x="5966" y="1"/>
                      <a:pt x="5967" y="2"/>
                      <a:pt x="5967" y="3"/>
                    </a:cubicBezTo>
                    <a:cubicBezTo>
                      <a:pt x="5967" y="4"/>
                      <a:pt x="5966" y="5"/>
                      <a:pt x="5965" y="5"/>
                    </a:cubicBezTo>
                    <a:lnTo>
                      <a:pt x="5965" y="5"/>
                    </a:lnTo>
                    <a:cubicBezTo>
                      <a:pt x="5964" y="5"/>
                      <a:pt x="5963" y="4"/>
                      <a:pt x="5963" y="3"/>
                    </a:cubicBezTo>
                    <a:cubicBezTo>
                      <a:pt x="5963" y="2"/>
                      <a:pt x="5964" y="1"/>
                      <a:pt x="5965" y="1"/>
                    </a:cubicBezTo>
                    <a:close/>
                    <a:moveTo>
                      <a:pt x="5973" y="1"/>
                    </a:moveTo>
                    <a:lnTo>
                      <a:pt x="5973" y="1"/>
                    </a:lnTo>
                    <a:cubicBezTo>
                      <a:pt x="5974" y="1"/>
                      <a:pt x="5975" y="2"/>
                      <a:pt x="5975" y="3"/>
                    </a:cubicBezTo>
                    <a:cubicBezTo>
                      <a:pt x="5975" y="4"/>
                      <a:pt x="5974" y="5"/>
                      <a:pt x="5973" y="5"/>
                    </a:cubicBezTo>
                    <a:lnTo>
                      <a:pt x="5973" y="5"/>
                    </a:lnTo>
                    <a:cubicBezTo>
                      <a:pt x="5972" y="5"/>
                      <a:pt x="5971" y="4"/>
                      <a:pt x="5971" y="3"/>
                    </a:cubicBezTo>
                    <a:cubicBezTo>
                      <a:pt x="5971" y="2"/>
                      <a:pt x="5972" y="1"/>
                      <a:pt x="5973" y="1"/>
                    </a:cubicBezTo>
                    <a:close/>
                    <a:moveTo>
                      <a:pt x="5981" y="1"/>
                    </a:moveTo>
                    <a:lnTo>
                      <a:pt x="5981" y="1"/>
                    </a:lnTo>
                    <a:cubicBezTo>
                      <a:pt x="5982" y="1"/>
                      <a:pt x="5983" y="2"/>
                      <a:pt x="5983" y="3"/>
                    </a:cubicBezTo>
                    <a:cubicBezTo>
                      <a:pt x="5983" y="4"/>
                      <a:pt x="5982" y="5"/>
                      <a:pt x="5981" y="5"/>
                    </a:cubicBezTo>
                    <a:lnTo>
                      <a:pt x="5981" y="5"/>
                    </a:lnTo>
                    <a:cubicBezTo>
                      <a:pt x="5980" y="5"/>
                      <a:pt x="5979" y="4"/>
                      <a:pt x="5979" y="3"/>
                    </a:cubicBezTo>
                    <a:cubicBezTo>
                      <a:pt x="5979" y="2"/>
                      <a:pt x="5980" y="1"/>
                      <a:pt x="5981" y="1"/>
                    </a:cubicBezTo>
                    <a:close/>
                    <a:moveTo>
                      <a:pt x="5989" y="1"/>
                    </a:moveTo>
                    <a:lnTo>
                      <a:pt x="5989" y="1"/>
                    </a:lnTo>
                    <a:cubicBezTo>
                      <a:pt x="5990" y="1"/>
                      <a:pt x="5991" y="2"/>
                      <a:pt x="5991" y="3"/>
                    </a:cubicBezTo>
                    <a:cubicBezTo>
                      <a:pt x="5991" y="4"/>
                      <a:pt x="5990" y="5"/>
                      <a:pt x="5989" y="5"/>
                    </a:cubicBezTo>
                    <a:lnTo>
                      <a:pt x="5989" y="5"/>
                    </a:lnTo>
                    <a:cubicBezTo>
                      <a:pt x="5988" y="5"/>
                      <a:pt x="5987" y="4"/>
                      <a:pt x="5987" y="3"/>
                    </a:cubicBezTo>
                    <a:cubicBezTo>
                      <a:pt x="5987" y="2"/>
                      <a:pt x="5988" y="1"/>
                      <a:pt x="5989" y="1"/>
                    </a:cubicBezTo>
                    <a:close/>
                    <a:moveTo>
                      <a:pt x="5997" y="1"/>
                    </a:moveTo>
                    <a:lnTo>
                      <a:pt x="5997" y="1"/>
                    </a:lnTo>
                    <a:cubicBezTo>
                      <a:pt x="5998" y="1"/>
                      <a:pt x="5999" y="2"/>
                      <a:pt x="5999" y="3"/>
                    </a:cubicBezTo>
                    <a:cubicBezTo>
                      <a:pt x="5999" y="4"/>
                      <a:pt x="5998" y="5"/>
                      <a:pt x="5997" y="5"/>
                    </a:cubicBezTo>
                    <a:lnTo>
                      <a:pt x="5997" y="5"/>
                    </a:lnTo>
                    <a:cubicBezTo>
                      <a:pt x="5996" y="5"/>
                      <a:pt x="5995" y="4"/>
                      <a:pt x="5995" y="3"/>
                    </a:cubicBezTo>
                    <a:cubicBezTo>
                      <a:pt x="5995" y="2"/>
                      <a:pt x="5996" y="1"/>
                      <a:pt x="5997" y="1"/>
                    </a:cubicBezTo>
                    <a:close/>
                    <a:moveTo>
                      <a:pt x="6005" y="1"/>
                    </a:moveTo>
                    <a:lnTo>
                      <a:pt x="6005" y="1"/>
                    </a:lnTo>
                    <a:cubicBezTo>
                      <a:pt x="6006" y="1"/>
                      <a:pt x="6007" y="2"/>
                      <a:pt x="6007" y="3"/>
                    </a:cubicBezTo>
                    <a:cubicBezTo>
                      <a:pt x="6007" y="4"/>
                      <a:pt x="6006" y="5"/>
                      <a:pt x="6005" y="5"/>
                    </a:cubicBezTo>
                    <a:lnTo>
                      <a:pt x="6005" y="5"/>
                    </a:lnTo>
                    <a:cubicBezTo>
                      <a:pt x="6004" y="5"/>
                      <a:pt x="6003" y="4"/>
                      <a:pt x="6003" y="3"/>
                    </a:cubicBezTo>
                    <a:cubicBezTo>
                      <a:pt x="6003" y="2"/>
                      <a:pt x="6004" y="1"/>
                      <a:pt x="6005" y="1"/>
                    </a:cubicBezTo>
                    <a:close/>
                    <a:moveTo>
                      <a:pt x="6013" y="1"/>
                    </a:moveTo>
                    <a:lnTo>
                      <a:pt x="6013" y="1"/>
                    </a:lnTo>
                    <a:cubicBezTo>
                      <a:pt x="6014" y="1"/>
                      <a:pt x="6015" y="2"/>
                      <a:pt x="6015" y="3"/>
                    </a:cubicBezTo>
                    <a:cubicBezTo>
                      <a:pt x="6015" y="4"/>
                      <a:pt x="6014" y="5"/>
                      <a:pt x="6013" y="5"/>
                    </a:cubicBezTo>
                    <a:lnTo>
                      <a:pt x="6013" y="5"/>
                    </a:lnTo>
                    <a:cubicBezTo>
                      <a:pt x="6012" y="5"/>
                      <a:pt x="6011" y="4"/>
                      <a:pt x="6011" y="3"/>
                    </a:cubicBezTo>
                    <a:cubicBezTo>
                      <a:pt x="6011" y="2"/>
                      <a:pt x="6012" y="1"/>
                      <a:pt x="6013" y="1"/>
                    </a:cubicBezTo>
                    <a:close/>
                    <a:moveTo>
                      <a:pt x="6021" y="1"/>
                    </a:moveTo>
                    <a:lnTo>
                      <a:pt x="6021" y="1"/>
                    </a:lnTo>
                    <a:cubicBezTo>
                      <a:pt x="6022" y="1"/>
                      <a:pt x="6023" y="2"/>
                      <a:pt x="6023" y="3"/>
                    </a:cubicBezTo>
                    <a:cubicBezTo>
                      <a:pt x="6023" y="4"/>
                      <a:pt x="6022" y="5"/>
                      <a:pt x="6021" y="5"/>
                    </a:cubicBezTo>
                    <a:lnTo>
                      <a:pt x="6021" y="5"/>
                    </a:lnTo>
                    <a:cubicBezTo>
                      <a:pt x="6020" y="5"/>
                      <a:pt x="6019" y="4"/>
                      <a:pt x="6019" y="3"/>
                    </a:cubicBezTo>
                    <a:cubicBezTo>
                      <a:pt x="6019" y="2"/>
                      <a:pt x="6020" y="1"/>
                      <a:pt x="6021" y="1"/>
                    </a:cubicBezTo>
                    <a:close/>
                    <a:moveTo>
                      <a:pt x="6029" y="1"/>
                    </a:moveTo>
                    <a:lnTo>
                      <a:pt x="6029" y="1"/>
                    </a:lnTo>
                    <a:cubicBezTo>
                      <a:pt x="6030" y="1"/>
                      <a:pt x="6031" y="2"/>
                      <a:pt x="6031" y="3"/>
                    </a:cubicBezTo>
                    <a:cubicBezTo>
                      <a:pt x="6031" y="4"/>
                      <a:pt x="6030" y="5"/>
                      <a:pt x="6029" y="5"/>
                    </a:cubicBezTo>
                    <a:lnTo>
                      <a:pt x="6029" y="5"/>
                    </a:lnTo>
                    <a:cubicBezTo>
                      <a:pt x="6028" y="5"/>
                      <a:pt x="6027" y="4"/>
                      <a:pt x="6027" y="3"/>
                    </a:cubicBezTo>
                    <a:cubicBezTo>
                      <a:pt x="6027" y="2"/>
                      <a:pt x="6028" y="1"/>
                      <a:pt x="6029" y="1"/>
                    </a:cubicBezTo>
                    <a:close/>
                    <a:moveTo>
                      <a:pt x="6037" y="1"/>
                    </a:moveTo>
                    <a:lnTo>
                      <a:pt x="6037" y="1"/>
                    </a:lnTo>
                    <a:cubicBezTo>
                      <a:pt x="6038" y="1"/>
                      <a:pt x="6039" y="2"/>
                      <a:pt x="6039" y="3"/>
                    </a:cubicBezTo>
                    <a:cubicBezTo>
                      <a:pt x="6039" y="4"/>
                      <a:pt x="6038" y="5"/>
                      <a:pt x="6037" y="5"/>
                    </a:cubicBezTo>
                    <a:lnTo>
                      <a:pt x="6037" y="5"/>
                    </a:lnTo>
                    <a:cubicBezTo>
                      <a:pt x="6036" y="5"/>
                      <a:pt x="6035" y="4"/>
                      <a:pt x="6035" y="3"/>
                    </a:cubicBezTo>
                    <a:cubicBezTo>
                      <a:pt x="6035" y="2"/>
                      <a:pt x="6036" y="1"/>
                      <a:pt x="6037" y="1"/>
                    </a:cubicBezTo>
                    <a:close/>
                    <a:moveTo>
                      <a:pt x="6045" y="1"/>
                    </a:moveTo>
                    <a:lnTo>
                      <a:pt x="6045" y="1"/>
                    </a:lnTo>
                    <a:cubicBezTo>
                      <a:pt x="6046" y="1"/>
                      <a:pt x="6047" y="2"/>
                      <a:pt x="6047" y="3"/>
                    </a:cubicBezTo>
                    <a:cubicBezTo>
                      <a:pt x="6047" y="4"/>
                      <a:pt x="6046" y="5"/>
                      <a:pt x="6045" y="5"/>
                    </a:cubicBezTo>
                    <a:lnTo>
                      <a:pt x="6045" y="5"/>
                    </a:lnTo>
                    <a:cubicBezTo>
                      <a:pt x="6044" y="5"/>
                      <a:pt x="6043" y="4"/>
                      <a:pt x="6043" y="3"/>
                    </a:cubicBezTo>
                    <a:cubicBezTo>
                      <a:pt x="6043" y="2"/>
                      <a:pt x="6044" y="1"/>
                      <a:pt x="6045" y="1"/>
                    </a:cubicBezTo>
                    <a:close/>
                    <a:moveTo>
                      <a:pt x="6053" y="1"/>
                    </a:moveTo>
                    <a:lnTo>
                      <a:pt x="6053" y="1"/>
                    </a:lnTo>
                    <a:cubicBezTo>
                      <a:pt x="6054" y="1"/>
                      <a:pt x="6055" y="2"/>
                      <a:pt x="6055" y="3"/>
                    </a:cubicBezTo>
                    <a:cubicBezTo>
                      <a:pt x="6055" y="4"/>
                      <a:pt x="6054" y="5"/>
                      <a:pt x="6053" y="5"/>
                    </a:cubicBezTo>
                    <a:lnTo>
                      <a:pt x="6053" y="5"/>
                    </a:lnTo>
                    <a:cubicBezTo>
                      <a:pt x="6052" y="5"/>
                      <a:pt x="6051" y="4"/>
                      <a:pt x="6051" y="3"/>
                    </a:cubicBezTo>
                    <a:cubicBezTo>
                      <a:pt x="6051" y="2"/>
                      <a:pt x="6052" y="1"/>
                      <a:pt x="6053" y="1"/>
                    </a:cubicBezTo>
                    <a:close/>
                    <a:moveTo>
                      <a:pt x="6061" y="1"/>
                    </a:moveTo>
                    <a:lnTo>
                      <a:pt x="6061" y="1"/>
                    </a:lnTo>
                    <a:cubicBezTo>
                      <a:pt x="6062" y="1"/>
                      <a:pt x="6063" y="2"/>
                      <a:pt x="6063" y="3"/>
                    </a:cubicBezTo>
                    <a:cubicBezTo>
                      <a:pt x="6063" y="4"/>
                      <a:pt x="6062" y="5"/>
                      <a:pt x="6061" y="5"/>
                    </a:cubicBezTo>
                    <a:lnTo>
                      <a:pt x="6061" y="5"/>
                    </a:lnTo>
                    <a:cubicBezTo>
                      <a:pt x="6060" y="5"/>
                      <a:pt x="6059" y="4"/>
                      <a:pt x="6059" y="3"/>
                    </a:cubicBezTo>
                    <a:cubicBezTo>
                      <a:pt x="6059" y="2"/>
                      <a:pt x="6060" y="1"/>
                      <a:pt x="6061" y="1"/>
                    </a:cubicBezTo>
                    <a:close/>
                    <a:moveTo>
                      <a:pt x="6069" y="1"/>
                    </a:moveTo>
                    <a:lnTo>
                      <a:pt x="6069" y="1"/>
                    </a:lnTo>
                    <a:cubicBezTo>
                      <a:pt x="6070" y="1"/>
                      <a:pt x="6071" y="2"/>
                      <a:pt x="6071" y="3"/>
                    </a:cubicBezTo>
                    <a:cubicBezTo>
                      <a:pt x="6071" y="4"/>
                      <a:pt x="6070" y="5"/>
                      <a:pt x="6069" y="5"/>
                    </a:cubicBezTo>
                    <a:lnTo>
                      <a:pt x="6069" y="5"/>
                    </a:lnTo>
                    <a:cubicBezTo>
                      <a:pt x="6068" y="5"/>
                      <a:pt x="6067" y="4"/>
                      <a:pt x="6067" y="3"/>
                    </a:cubicBezTo>
                    <a:cubicBezTo>
                      <a:pt x="6067" y="2"/>
                      <a:pt x="6068" y="1"/>
                      <a:pt x="6069" y="1"/>
                    </a:cubicBezTo>
                    <a:close/>
                    <a:moveTo>
                      <a:pt x="6077" y="1"/>
                    </a:moveTo>
                    <a:lnTo>
                      <a:pt x="6077" y="1"/>
                    </a:lnTo>
                    <a:cubicBezTo>
                      <a:pt x="6078" y="1"/>
                      <a:pt x="6079" y="2"/>
                      <a:pt x="6079" y="3"/>
                    </a:cubicBezTo>
                    <a:cubicBezTo>
                      <a:pt x="6079" y="4"/>
                      <a:pt x="6078" y="5"/>
                      <a:pt x="6077" y="5"/>
                    </a:cubicBezTo>
                    <a:lnTo>
                      <a:pt x="6077" y="5"/>
                    </a:lnTo>
                    <a:cubicBezTo>
                      <a:pt x="6076" y="5"/>
                      <a:pt x="6075" y="4"/>
                      <a:pt x="6075" y="3"/>
                    </a:cubicBezTo>
                    <a:cubicBezTo>
                      <a:pt x="6075" y="2"/>
                      <a:pt x="6076" y="1"/>
                      <a:pt x="6077" y="1"/>
                    </a:cubicBezTo>
                    <a:close/>
                    <a:moveTo>
                      <a:pt x="6085" y="1"/>
                    </a:moveTo>
                    <a:lnTo>
                      <a:pt x="6085" y="1"/>
                    </a:lnTo>
                    <a:cubicBezTo>
                      <a:pt x="6086" y="1"/>
                      <a:pt x="6087" y="2"/>
                      <a:pt x="6087" y="3"/>
                    </a:cubicBezTo>
                    <a:cubicBezTo>
                      <a:pt x="6087" y="4"/>
                      <a:pt x="6086" y="5"/>
                      <a:pt x="6085" y="5"/>
                    </a:cubicBezTo>
                    <a:lnTo>
                      <a:pt x="6085" y="5"/>
                    </a:lnTo>
                    <a:cubicBezTo>
                      <a:pt x="6084" y="5"/>
                      <a:pt x="6083" y="4"/>
                      <a:pt x="6083" y="3"/>
                    </a:cubicBezTo>
                    <a:cubicBezTo>
                      <a:pt x="6083" y="2"/>
                      <a:pt x="6084" y="1"/>
                      <a:pt x="6085" y="1"/>
                    </a:cubicBezTo>
                    <a:close/>
                    <a:moveTo>
                      <a:pt x="6093" y="1"/>
                    </a:moveTo>
                    <a:lnTo>
                      <a:pt x="6093" y="1"/>
                    </a:lnTo>
                    <a:cubicBezTo>
                      <a:pt x="6094" y="1"/>
                      <a:pt x="6095" y="2"/>
                      <a:pt x="6095" y="3"/>
                    </a:cubicBezTo>
                    <a:cubicBezTo>
                      <a:pt x="6095" y="4"/>
                      <a:pt x="6094" y="5"/>
                      <a:pt x="6093" y="5"/>
                    </a:cubicBezTo>
                    <a:lnTo>
                      <a:pt x="6093" y="5"/>
                    </a:lnTo>
                    <a:cubicBezTo>
                      <a:pt x="6092" y="5"/>
                      <a:pt x="6091" y="4"/>
                      <a:pt x="6091" y="3"/>
                    </a:cubicBezTo>
                    <a:cubicBezTo>
                      <a:pt x="6091" y="2"/>
                      <a:pt x="6092" y="1"/>
                      <a:pt x="6093" y="1"/>
                    </a:cubicBezTo>
                    <a:close/>
                    <a:moveTo>
                      <a:pt x="6101" y="1"/>
                    </a:moveTo>
                    <a:lnTo>
                      <a:pt x="6101" y="1"/>
                    </a:lnTo>
                    <a:cubicBezTo>
                      <a:pt x="6102" y="1"/>
                      <a:pt x="6103" y="2"/>
                      <a:pt x="6103" y="3"/>
                    </a:cubicBezTo>
                    <a:cubicBezTo>
                      <a:pt x="6103" y="4"/>
                      <a:pt x="6102" y="5"/>
                      <a:pt x="6101" y="5"/>
                    </a:cubicBezTo>
                    <a:lnTo>
                      <a:pt x="6101" y="5"/>
                    </a:lnTo>
                    <a:cubicBezTo>
                      <a:pt x="6100" y="5"/>
                      <a:pt x="6099" y="4"/>
                      <a:pt x="6099" y="3"/>
                    </a:cubicBezTo>
                    <a:cubicBezTo>
                      <a:pt x="6099" y="2"/>
                      <a:pt x="6100" y="1"/>
                      <a:pt x="6101" y="1"/>
                    </a:cubicBezTo>
                    <a:close/>
                    <a:moveTo>
                      <a:pt x="6109" y="1"/>
                    </a:moveTo>
                    <a:lnTo>
                      <a:pt x="6109" y="1"/>
                    </a:lnTo>
                    <a:cubicBezTo>
                      <a:pt x="6110" y="1"/>
                      <a:pt x="6111" y="2"/>
                      <a:pt x="6111" y="3"/>
                    </a:cubicBezTo>
                    <a:cubicBezTo>
                      <a:pt x="6111" y="4"/>
                      <a:pt x="6110" y="5"/>
                      <a:pt x="6109" y="5"/>
                    </a:cubicBezTo>
                    <a:lnTo>
                      <a:pt x="6109" y="5"/>
                    </a:lnTo>
                    <a:cubicBezTo>
                      <a:pt x="6108" y="5"/>
                      <a:pt x="6107" y="4"/>
                      <a:pt x="6107" y="3"/>
                    </a:cubicBezTo>
                    <a:cubicBezTo>
                      <a:pt x="6107" y="2"/>
                      <a:pt x="6108" y="1"/>
                      <a:pt x="6109" y="1"/>
                    </a:cubicBezTo>
                    <a:close/>
                    <a:moveTo>
                      <a:pt x="6117" y="1"/>
                    </a:moveTo>
                    <a:lnTo>
                      <a:pt x="6117" y="1"/>
                    </a:lnTo>
                    <a:cubicBezTo>
                      <a:pt x="6118" y="1"/>
                      <a:pt x="6119" y="2"/>
                      <a:pt x="6119" y="3"/>
                    </a:cubicBezTo>
                    <a:cubicBezTo>
                      <a:pt x="6119" y="4"/>
                      <a:pt x="6118" y="5"/>
                      <a:pt x="6117" y="5"/>
                    </a:cubicBezTo>
                    <a:lnTo>
                      <a:pt x="6117" y="5"/>
                    </a:lnTo>
                    <a:cubicBezTo>
                      <a:pt x="6116" y="5"/>
                      <a:pt x="6115" y="4"/>
                      <a:pt x="6115" y="3"/>
                    </a:cubicBezTo>
                    <a:cubicBezTo>
                      <a:pt x="6115" y="2"/>
                      <a:pt x="6116" y="1"/>
                      <a:pt x="6117" y="1"/>
                    </a:cubicBezTo>
                    <a:close/>
                    <a:moveTo>
                      <a:pt x="6125" y="1"/>
                    </a:moveTo>
                    <a:lnTo>
                      <a:pt x="6125" y="1"/>
                    </a:lnTo>
                    <a:cubicBezTo>
                      <a:pt x="6126" y="1"/>
                      <a:pt x="6127" y="2"/>
                      <a:pt x="6127" y="3"/>
                    </a:cubicBezTo>
                    <a:cubicBezTo>
                      <a:pt x="6127" y="4"/>
                      <a:pt x="6126" y="5"/>
                      <a:pt x="6125" y="5"/>
                    </a:cubicBezTo>
                    <a:lnTo>
                      <a:pt x="6125" y="5"/>
                    </a:lnTo>
                    <a:cubicBezTo>
                      <a:pt x="6124" y="5"/>
                      <a:pt x="6123" y="4"/>
                      <a:pt x="6123" y="3"/>
                    </a:cubicBezTo>
                    <a:cubicBezTo>
                      <a:pt x="6123" y="2"/>
                      <a:pt x="6124" y="1"/>
                      <a:pt x="6125" y="1"/>
                    </a:cubicBezTo>
                    <a:close/>
                    <a:moveTo>
                      <a:pt x="6133" y="1"/>
                    </a:moveTo>
                    <a:lnTo>
                      <a:pt x="6133" y="1"/>
                    </a:lnTo>
                    <a:cubicBezTo>
                      <a:pt x="6134" y="1"/>
                      <a:pt x="6135" y="2"/>
                      <a:pt x="6135" y="3"/>
                    </a:cubicBezTo>
                    <a:cubicBezTo>
                      <a:pt x="6135" y="4"/>
                      <a:pt x="6134" y="5"/>
                      <a:pt x="6133" y="5"/>
                    </a:cubicBezTo>
                    <a:lnTo>
                      <a:pt x="6133" y="5"/>
                    </a:lnTo>
                    <a:cubicBezTo>
                      <a:pt x="6132" y="5"/>
                      <a:pt x="6131" y="4"/>
                      <a:pt x="6131" y="3"/>
                    </a:cubicBezTo>
                    <a:cubicBezTo>
                      <a:pt x="6131" y="2"/>
                      <a:pt x="6132" y="1"/>
                      <a:pt x="6133" y="1"/>
                    </a:cubicBezTo>
                    <a:close/>
                    <a:moveTo>
                      <a:pt x="6141" y="1"/>
                    </a:moveTo>
                    <a:lnTo>
                      <a:pt x="6141" y="1"/>
                    </a:lnTo>
                    <a:cubicBezTo>
                      <a:pt x="6142" y="1"/>
                      <a:pt x="6143" y="2"/>
                      <a:pt x="6143" y="3"/>
                    </a:cubicBezTo>
                    <a:cubicBezTo>
                      <a:pt x="6143" y="4"/>
                      <a:pt x="6142" y="5"/>
                      <a:pt x="6141" y="5"/>
                    </a:cubicBezTo>
                    <a:lnTo>
                      <a:pt x="6141" y="5"/>
                    </a:lnTo>
                    <a:cubicBezTo>
                      <a:pt x="6140" y="5"/>
                      <a:pt x="6139" y="4"/>
                      <a:pt x="6139" y="3"/>
                    </a:cubicBezTo>
                    <a:cubicBezTo>
                      <a:pt x="6139" y="2"/>
                      <a:pt x="6140" y="1"/>
                      <a:pt x="6141" y="1"/>
                    </a:cubicBezTo>
                    <a:close/>
                    <a:moveTo>
                      <a:pt x="6149" y="1"/>
                    </a:moveTo>
                    <a:lnTo>
                      <a:pt x="6149" y="1"/>
                    </a:lnTo>
                    <a:cubicBezTo>
                      <a:pt x="6150" y="1"/>
                      <a:pt x="6151" y="2"/>
                      <a:pt x="6151" y="3"/>
                    </a:cubicBezTo>
                    <a:cubicBezTo>
                      <a:pt x="6151" y="4"/>
                      <a:pt x="6150" y="5"/>
                      <a:pt x="6149" y="5"/>
                    </a:cubicBezTo>
                    <a:lnTo>
                      <a:pt x="6149" y="5"/>
                    </a:lnTo>
                    <a:cubicBezTo>
                      <a:pt x="6148" y="5"/>
                      <a:pt x="6147" y="4"/>
                      <a:pt x="6147" y="3"/>
                    </a:cubicBezTo>
                    <a:cubicBezTo>
                      <a:pt x="6147" y="2"/>
                      <a:pt x="6148" y="1"/>
                      <a:pt x="6149" y="1"/>
                    </a:cubicBezTo>
                    <a:close/>
                    <a:moveTo>
                      <a:pt x="6157" y="1"/>
                    </a:moveTo>
                    <a:lnTo>
                      <a:pt x="6157" y="1"/>
                    </a:lnTo>
                    <a:cubicBezTo>
                      <a:pt x="6158" y="1"/>
                      <a:pt x="6159" y="2"/>
                      <a:pt x="6159" y="3"/>
                    </a:cubicBezTo>
                    <a:cubicBezTo>
                      <a:pt x="6159" y="4"/>
                      <a:pt x="6158" y="5"/>
                      <a:pt x="6157" y="5"/>
                    </a:cubicBezTo>
                    <a:lnTo>
                      <a:pt x="6157" y="5"/>
                    </a:lnTo>
                    <a:cubicBezTo>
                      <a:pt x="6156" y="5"/>
                      <a:pt x="6155" y="4"/>
                      <a:pt x="6155" y="3"/>
                    </a:cubicBezTo>
                    <a:cubicBezTo>
                      <a:pt x="6155" y="2"/>
                      <a:pt x="6156" y="1"/>
                      <a:pt x="6157" y="1"/>
                    </a:cubicBezTo>
                    <a:close/>
                    <a:moveTo>
                      <a:pt x="6165" y="1"/>
                    </a:moveTo>
                    <a:lnTo>
                      <a:pt x="6165" y="1"/>
                    </a:lnTo>
                    <a:cubicBezTo>
                      <a:pt x="6166" y="1"/>
                      <a:pt x="6167" y="2"/>
                      <a:pt x="6167" y="3"/>
                    </a:cubicBezTo>
                    <a:cubicBezTo>
                      <a:pt x="6167" y="4"/>
                      <a:pt x="6166" y="5"/>
                      <a:pt x="6165" y="5"/>
                    </a:cubicBezTo>
                    <a:lnTo>
                      <a:pt x="6165" y="5"/>
                    </a:lnTo>
                    <a:cubicBezTo>
                      <a:pt x="6164" y="5"/>
                      <a:pt x="6163" y="4"/>
                      <a:pt x="6163" y="3"/>
                    </a:cubicBezTo>
                    <a:cubicBezTo>
                      <a:pt x="6163" y="2"/>
                      <a:pt x="6164" y="1"/>
                      <a:pt x="6165" y="1"/>
                    </a:cubicBezTo>
                    <a:close/>
                    <a:moveTo>
                      <a:pt x="6173" y="1"/>
                    </a:moveTo>
                    <a:lnTo>
                      <a:pt x="6173" y="1"/>
                    </a:lnTo>
                    <a:cubicBezTo>
                      <a:pt x="6174" y="1"/>
                      <a:pt x="6175" y="2"/>
                      <a:pt x="6175" y="3"/>
                    </a:cubicBezTo>
                    <a:cubicBezTo>
                      <a:pt x="6175" y="4"/>
                      <a:pt x="6174" y="5"/>
                      <a:pt x="6173" y="5"/>
                    </a:cubicBezTo>
                    <a:lnTo>
                      <a:pt x="6173" y="5"/>
                    </a:lnTo>
                    <a:cubicBezTo>
                      <a:pt x="6172" y="5"/>
                      <a:pt x="6171" y="4"/>
                      <a:pt x="6171" y="3"/>
                    </a:cubicBezTo>
                    <a:cubicBezTo>
                      <a:pt x="6171" y="2"/>
                      <a:pt x="6172" y="1"/>
                      <a:pt x="6173" y="1"/>
                    </a:cubicBezTo>
                    <a:close/>
                    <a:moveTo>
                      <a:pt x="6181" y="1"/>
                    </a:moveTo>
                    <a:lnTo>
                      <a:pt x="6181" y="1"/>
                    </a:lnTo>
                    <a:cubicBezTo>
                      <a:pt x="6182" y="1"/>
                      <a:pt x="6183" y="2"/>
                      <a:pt x="6183" y="3"/>
                    </a:cubicBezTo>
                    <a:cubicBezTo>
                      <a:pt x="6183" y="4"/>
                      <a:pt x="6182" y="5"/>
                      <a:pt x="6181" y="5"/>
                    </a:cubicBezTo>
                    <a:lnTo>
                      <a:pt x="6181" y="5"/>
                    </a:lnTo>
                    <a:cubicBezTo>
                      <a:pt x="6180" y="5"/>
                      <a:pt x="6179" y="4"/>
                      <a:pt x="6179" y="3"/>
                    </a:cubicBezTo>
                    <a:cubicBezTo>
                      <a:pt x="6179" y="2"/>
                      <a:pt x="6180" y="1"/>
                      <a:pt x="6181" y="1"/>
                    </a:cubicBezTo>
                    <a:close/>
                    <a:moveTo>
                      <a:pt x="6189" y="1"/>
                    </a:moveTo>
                    <a:lnTo>
                      <a:pt x="6189" y="1"/>
                    </a:lnTo>
                    <a:cubicBezTo>
                      <a:pt x="6190" y="1"/>
                      <a:pt x="6191" y="2"/>
                      <a:pt x="6191" y="3"/>
                    </a:cubicBezTo>
                    <a:cubicBezTo>
                      <a:pt x="6191" y="4"/>
                      <a:pt x="6190" y="5"/>
                      <a:pt x="6189" y="5"/>
                    </a:cubicBezTo>
                    <a:lnTo>
                      <a:pt x="6189" y="5"/>
                    </a:lnTo>
                    <a:cubicBezTo>
                      <a:pt x="6188" y="5"/>
                      <a:pt x="6187" y="4"/>
                      <a:pt x="6187" y="3"/>
                    </a:cubicBezTo>
                    <a:cubicBezTo>
                      <a:pt x="6187" y="2"/>
                      <a:pt x="6188" y="1"/>
                      <a:pt x="6189" y="1"/>
                    </a:cubicBezTo>
                    <a:close/>
                    <a:moveTo>
                      <a:pt x="6197" y="1"/>
                    </a:moveTo>
                    <a:lnTo>
                      <a:pt x="6197" y="1"/>
                    </a:lnTo>
                    <a:cubicBezTo>
                      <a:pt x="6198" y="1"/>
                      <a:pt x="6199" y="2"/>
                      <a:pt x="6199" y="3"/>
                    </a:cubicBezTo>
                    <a:cubicBezTo>
                      <a:pt x="6199" y="4"/>
                      <a:pt x="6198" y="5"/>
                      <a:pt x="6197" y="5"/>
                    </a:cubicBezTo>
                    <a:lnTo>
                      <a:pt x="6197" y="5"/>
                    </a:lnTo>
                    <a:cubicBezTo>
                      <a:pt x="6196" y="5"/>
                      <a:pt x="6195" y="4"/>
                      <a:pt x="6195" y="3"/>
                    </a:cubicBezTo>
                    <a:cubicBezTo>
                      <a:pt x="6195" y="2"/>
                      <a:pt x="6196" y="1"/>
                      <a:pt x="6197" y="1"/>
                    </a:cubicBezTo>
                    <a:close/>
                    <a:moveTo>
                      <a:pt x="6205" y="1"/>
                    </a:moveTo>
                    <a:lnTo>
                      <a:pt x="6205" y="1"/>
                    </a:lnTo>
                    <a:cubicBezTo>
                      <a:pt x="6206" y="1"/>
                      <a:pt x="6207" y="2"/>
                      <a:pt x="6207" y="3"/>
                    </a:cubicBezTo>
                    <a:cubicBezTo>
                      <a:pt x="6207" y="4"/>
                      <a:pt x="6206" y="5"/>
                      <a:pt x="6205" y="5"/>
                    </a:cubicBezTo>
                    <a:lnTo>
                      <a:pt x="6205" y="5"/>
                    </a:lnTo>
                    <a:cubicBezTo>
                      <a:pt x="6204" y="5"/>
                      <a:pt x="6203" y="4"/>
                      <a:pt x="6203" y="3"/>
                    </a:cubicBezTo>
                    <a:cubicBezTo>
                      <a:pt x="6203" y="2"/>
                      <a:pt x="6204" y="1"/>
                      <a:pt x="6205" y="1"/>
                    </a:cubicBezTo>
                    <a:close/>
                    <a:moveTo>
                      <a:pt x="6213" y="1"/>
                    </a:moveTo>
                    <a:lnTo>
                      <a:pt x="6213" y="1"/>
                    </a:lnTo>
                    <a:cubicBezTo>
                      <a:pt x="6214" y="1"/>
                      <a:pt x="6215" y="2"/>
                      <a:pt x="6215" y="3"/>
                    </a:cubicBezTo>
                    <a:cubicBezTo>
                      <a:pt x="6215" y="4"/>
                      <a:pt x="6214" y="5"/>
                      <a:pt x="6213" y="5"/>
                    </a:cubicBezTo>
                    <a:lnTo>
                      <a:pt x="6213" y="5"/>
                    </a:lnTo>
                    <a:cubicBezTo>
                      <a:pt x="6212" y="5"/>
                      <a:pt x="6211" y="4"/>
                      <a:pt x="6211" y="3"/>
                    </a:cubicBezTo>
                    <a:cubicBezTo>
                      <a:pt x="6211" y="2"/>
                      <a:pt x="6212" y="1"/>
                      <a:pt x="6213" y="1"/>
                    </a:cubicBezTo>
                    <a:close/>
                    <a:moveTo>
                      <a:pt x="6221" y="1"/>
                    </a:moveTo>
                    <a:lnTo>
                      <a:pt x="6221" y="1"/>
                    </a:lnTo>
                    <a:cubicBezTo>
                      <a:pt x="6222" y="1"/>
                      <a:pt x="6223" y="2"/>
                      <a:pt x="6223" y="3"/>
                    </a:cubicBezTo>
                    <a:cubicBezTo>
                      <a:pt x="6223" y="4"/>
                      <a:pt x="6222" y="5"/>
                      <a:pt x="6221" y="5"/>
                    </a:cubicBezTo>
                    <a:lnTo>
                      <a:pt x="6221" y="5"/>
                    </a:lnTo>
                    <a:cubicBezTo>
                      <a:pt x="6220" y="5"/>
                      <a:pt x="6219" y="4"/>
                      <a:pt x="6219" y="3"/>
                    </a:cubicBezTo>
                    <a:cubicBezTo>
                      <a:pt x="6219" y="2"/>
                      <a:pt x="6220" y="1"/>
                      <a:pt x="6221" y="1"/>
                    </a:cubicBezTo>
                    <a:close/>
                    <a:moveTo>
                      <a:pt x="6229" y="1"/>
                    </a:moveTo>
                    <a:lnTo>
                      <a:pt x="6229" y="1"/>
                    </a:lnTo>
                    <a:cubicBezTo>
                      <a:pt x="6230" y="1"/>
                      <a:pt x="6231" y="2"/>
                      <a:pt x="6231" y="3"/>
                    </a:cubicBezTo>
                    <a:cubicBezTo>
                      <a:pt x="6231" y="4"/>
                      <a:pt x="6230" y="5"/>
                      <a:pt x="6229" y="5"/>
                    </a:cubicBezTo>
                    <a:lnTo>
                      <a:pt x="6229" y="5"/>
                    </a:lnTo>
                    <a:cubicBezTo>
                      <a:pt x="6228" y="5"/>
                      <a:pt x="6227" y="4"/>
                      <a:pt x="6227" y="3"/>
                    </a:cubicBezTo>
                    <a:cubicBezTo>
                      <a:pt x="6227" y="2"/>
                      <a:pt x="6228" y="1"/>
                      <a:pt x="6229" y="1"/>
                    </a:cubicBezTo>
                    <a:close/>
                    <a:moveTo>
                      <a:pt x="6237" y="1"/>
                    </a:moveTo>
                    <a:lnTo>
                      <a:pt x="6237" y="1"/>
                    </a:lnTo>
                    <a:cubicBezTo>
                      <a:pt x="6238" y="1"/>
                      <a:pt x="6239" y="2"/>
                      <a:pt x="6239" y="3"/>
                    </a:cubicBezTo>
                    <a:cubicBezTo>
                      <a:pt x="6239" y="4"/>
                      <a:pt x="6238" y="5"/>
                      <a:pt x="6237" y="5"/>
                    </a:cubicBezTo>
                    <a:lnTo>
                      <a:pt x="6237" y="5"/>
                    </a:lnTo>
                    <a:cubicBezTo>
                      <a:pt x="6236" y="5"/>
                      <a:pt x="6235" y="4"/>
                      <a:pt x="6235" y="3"/>
                    </a:cubicBezTo>
                    <a:cubicBezTo>
                      <a:pt x="6235" y="2"/>
                      <a:pt x="6236" y="1"/>
                      <a:pt x="6237" y="1"/>
                    </a:cubicBezTo>
                    <a:close/>
                    <a:moveTo>
                      <a:pt x="6245" y="1"/>
                    </a:moveTo>
                    <a:lnTo>
                      <a:pt x="6245" y="1"/>
                    </a:lnTo>
                    <a:cubicBezTo>
                      <a:pt x="6246" y="1"/>
                      <a:pt x="6247" y="2"/>
                      <a:pt x="6247" y="3"/>
                    </a:cubicBezTo>
                    <a:cubicBezTo>
                      <a:pt x="6247" y="4"/>
                      <a:pt x="6246" y="5"/>
                      <a:pt x="6245" y="5"/>
                    </a:cubicBezTo>
                    <a:lnTo>
                      <a:pt x="6245" y="5"/>
                    </a:lnTo>
                    <a:cubicBezTo>
                      <a:pt x="6244" y="5"/>
                      <a:pt x="6243" y="4"/>
                      <a:pt x="6243" y="3"/>
                    </a:cubicBezTo>
                    <a:cubicBezTo>
                      <a:pt x="6243" y="2"/>
                      <a:pt x="6244" y="1"/>
                      <a:pt x="6245" y="1"/>
                    </a:cubicBezTo>
                    <a:close/>
                    <a:moveTo>
                      <a:pt x="6253" y="1"/>
                    </a:moveTo>
                    <a:lnTo>
                      <a:pt x="6253" y="1"/>
                    </a:lnTo>
                    <a:cubicBezTo>
                      <a:pt x="6254" y="1"/>
                      <a:pt x="6255" y="2"/>
                      <a:pt x="6255" y="3"/>
                    </a:cubicBezTo>
                    <a:cubicBezTo>
                      <a:pt x="6255" y="4"/>
                      <a:pt x="6254" y="5"/>
                      <a:pt x="6253" y="5"/>
                    </a:cubicBezTo>
                    <a:lnTo>
                      <a:pt x="6253" y="5"/>
                    </a:lnTo>
                    <a:cubicBezTo>
                      <a:pt x="6252" y="5"/>
                      <a:pt x="6251" y="4"/>
                      <a:pt x="6251" y="3"/>
                    </a:cubicBezTo>
                    <a:cubicBezTo>
                      <a:pt x="6251" y="2"/>
                      <a:pt x="6252" y="1"/>
                      <a:pt x="6253" y="1"/>
                    </a:cubicBezTo>
                    <a:close/>
                    <a:moveTo>
                      <a:pt x="6261" y="1"/>
                    </a:moveTo>
                    <a:lnTo>
                      <a:pt x="6261" y="1"/>
                    </a:lnTo>
                    <a:cubicBezTo>
                      <a:pt x="6262" y="1"/>
                      <a:pt x="6263" y="2"/>
                      <a:pt x="6263" y="3"/>
                    </a:cubicBezTo>
                    <a:cubicBezTo>
                      <a:pt x="6263" y="4"/>
                      <a:pt x="6262" y="5"/>
                      <a:pt x="6261" y="5"/>
                    </a:cubicBezTo>
                    <a:lnTo>
                      <a:pt x="6261" y="5"/>
                    </a:lnTo>
                    <a:cubicBezTo>
                      <a:pt x="6260" y="5"/>
                      <a:pt x="6259" y="4"/>
                      <a:pt x="6259" y="3"/>
                    </a:cubicBezTo>
                    <a:cubicBezTo>
                      <a:pt x="6259" y="2"/>
                      <a:pt x="6260" y="1"/>
                      <a:pt x="6261" y="1"/>
                    </a:cubicBezTo>
                    <a:close/>
                    <a:moveTo>
                      <a:pt x="6269" y="1"/>
                    </a:moveTo>
                    <a:lnTo>
                      <a:pt x="6269" y="1"/>
                    </a:lnTo>
                    <a:cubicBezTo>
                      <a:pt x="6270" y="1"/>
                      <a:pt x="6271" y="2"/>
                      <a:pt x="6271" y="3"/>
                    </a:cubicBezTo>
                    <a:cubicBezTo>
                      <a:pt x="6271" y="4"/>
                      <a:pt x="6270" y="5"/>
                      <a:pt x="6269" y="5"/>
                    </a:cubicBezTo>
                    <a:lnTo>
                      <a:pt x="6269" y="5"/>
                    </a:lnTo>
                    <a:cubicBezTo>
                      <a:pt x="6268" y="5"/>
                      <a:pt x="6267" y="4"/>
                      <a:pt x="6267" y="3"/>
                    </a:cubicBezTo>
                    <a:cubicBezTo>
                      <a:pt x="6267" y="2"/>
                      <a:pt x="6268" y="1"/>
                      <a:pt x="6269" y="1"/>
                    </a:cubicBezTo>
                    <a:close/>
                    <a:moveTo>
                      <a:pt x="6277" y="1"/>
                    </a:moveTo>
                    <a:lnTo>
                      <a:pt x="6277" y="1"/>
                    </a:lnTo>
                    <a:cubicBezTo>
                      <a:pt x="6278" y="1"/>
                      <a:pt x="6279" y="2"/>
                      <a:pt x="6279" y="3"/>
                    </a:cubicBezTo>
                    <a:cubicBezTo>
                      <a:pt x="6279" y="4"/>
                      <a:pt x="6278" y="5"/>
                      <a:pt x="6277" y="5"/>
                    </a:cubicBezTo>
                    <a:lnTo>
                      <a:pt x="6277" y="5"/>
                    </a:lnTo>
                    <a:cubicBezTo>
                      <a:pt x="6276" y="5"/>
                      <a:pt x="6275" y="4"/>
                      <a:pt x="6275" y="3"/>
                    </a:cubicBezTo>
                    <a:cubicBezTo>
                      <a:pt x="6275" y="2"/>
                      <a:pt x="6276" y="1"/>
                      <a:pt x="6277" y="1"/>
                    </a:cubicBezTo>
                    <a:close/>
                    <a:moveTo>
                      <a:pt x="6285" y="1"/>
                    </a:moveTo>
                    <a:lnTo>
                      <a:pt x="6285" y="1"/>
                    </a:lnTo>
                    <a:cubicBezTo>
                      <a:pt x="6286" y="1"/>
                      <a:pt x="6287" y="2"/>
                      <a:pt x="6287" y="3"/>
                    </a:cubicBezTo>
                    <a:cubicBezTo>
                      <a:pt x="6287" y="4"/>
                      <a:pt x="6286" y="5"/>
                      <a:pt x="6285" y="5"/>
                    </a:cubicBezTo>
                    <a:lnTo>
                      <a:pt x="6285" y="5"/>
                    </a:lnTo>
                    <a:cubicBezTo>
                      <a:pt x="6284" y="5"/>
                      <a:pt x="6283" y="4"/>
                      <a:pt x="6283" y="3"/>
                    </a:cubicBezTo>
                    <a:cubicBezTo>
                      <a:pt x="6283" y="2"/>
                      <a:pt x="6284" y="1"/>
                      <a:pt x="6285" y="1"/>
                    </a:cubicBezTo>
                    <a:close/>
                    <a:moveTo>
                      <a:pt x="6293" y="1"/>
                    </a:moveTo>
                    <a:lnTo>
                      <a:pt x="6293" y="1"/>
                    </a:lnTo>
                    <a:cubicBezTo>
                      <a:pt x="6294" y="1"/>
                      <a:pt x="6295" y="2"/>
                      <a:pt x="6295" y="3"/>
                    </a:cubicBezTo>
                    <a:cubicBezTo>
                      <a:pt x="6295" y="4"/>
                      <a:pt x="6294" y="5"/>
                      <a:pt x="6293" y="5"/>
                    </a:cubicBezTo>
                    <a:lnTo>
                      <a:pt x="6293" y="5"/>
                    </a:lnTo>
                    <a:cubicBezTo>
                      <a:pt x="6292" y="5"/>
                      <a:pt x="6291" y="4"/>
                      <a:pt x="6291" y="3"/>
                    </a:cubicBezTo>
                    <a:cubicBezTo>
                      <a:pt x="6291" y="2"/>
                      <a:pt x="6292" y="1"/>
                      <a:pt x="6293" y="1"/>
                    </a:cubicBezTo>
                    <a:close/>
                    <a:moveTo>
                      <a:pt x="6301" y="1"/>
                    </a:moveTo>
                    <a:lnTo>
                      <a:pt x="6301" y="1"/>
                    </a:lnTo>
                    <a:cubicBezTo>
                      <a:pt x="6302" y="1"/>
                      <a:pt x="6303" y="2"/>
                      <a:pt x="6303" y="3"/>
                    </a:cubicBezTo>
                    <a:cubicBezTo>
                      <a:pt x="6303" y="4"/>
                      <a:pt x="6302" y="5"/>
                      <a:pt x="6301" y="5"/>
                    </a:cubicBezTo>
                    <a:lnTo>
                      <a:pt x="6301" y="5"/>
                    </a:lnTo>
                    <a:cubicBezTo>
                      <a:pt x="6300" y="5"/>
                      <a:pt x="6299" y="4"/>
                      <a:pt x="6299" y="3"/>
                    </a:cubicBezTo>
                    <a:cubicBezTo>
                      <a:pt x="6299" y="2"/>
                      <a:pt x="6300" y="1"/>
                      <a:pt x="6301" y="1"/>
                    </a:cubicBezTo>
                    <a:close/>
                    <a:moveTo>
                      <a:pt x="6309" y="1"/>
                    </a:moveTo>
                    <a:lnTo>
                      <a:pt x="6309" y="1"/>
                    </a:lnTo>
                    <a:cubicBezTo>
                      <a:pt x="6310" y="1"/>
                      <a:pt x="6311" y="2"/>
                      <a:pt x="6311" y="3"/>
                    </a:cubicBezTo>
                    <a:cubicBezTo>
                      <a:pt x="6311" y="4"/>
                      <a:pt x="6310" y="5"/>
                      <a:pt x="6309" y="5"/>
                    </a:cubicBezTo>
                    <a:lnTo>
                      <a:pt x="6309" y="5"/>
                    </a:lnTo>
                    <a:cubicBezTo>
                      <a:pt x="6308" y="5"/>
                      <a:pt x="6307" y="4"/>
                      <a:pt x="6307" y="3"/>
                    </a:cubicBezTo>
                    <a:cubicBezTo>
                      <a:pt x="6307" y="2"/>
                      <a:pt x="6308" y="1"/>
                      <a:pt x="6309" y="1"/>
                    </a:cubicBezTo>
                    <a:close/>
                    <a:moveTo>
                      <a:pt x="6317" y="1"/>
                    </a:moveTo>
                    <a:lnTo>
                      <a:pt x="6317" y="1"/>
                    </a:lnTo>
                    <a:cubicBezTo>
                      <a:pt x="6318" y="1"/>
                      <a:pt x="6319" y="2"/>
                      <a:pt x="6319" y="3"/>
                    </a:cubicBezTo>
                    <a:cubicBezTo>
                      <a:pt x="6319" y="4"/>
                      <a:pt x="6318" y="5"/>
                      <a:pt x="6317" y="5"/>
                    </a:cubicBezTo>
                    <a:lnTo>
                      <a:pt x="6317" y="5"/>
                    </a:lnTo>
                    <a:cubicBezTo>
                      <a:pt x="6316" y="5"/>
                      <a:pt x="6315" y="4"/>
                      <a:pt x="6315" y="3"/>
                    </a:cubicBezTo>
                    <a:cubicBezTo>
                      <a:pt x="6315" y="2"/>
                      <a:pt x="6316" y="1"/>
                      <a:pt x="6317" y="1"/>
                    </a:cubicBezTo>
                    <a:close/>
                    <a:moveTo>
                      <a:pt x="6325" y="1"/>
                    </a:moveTo>
                    <a:lnTo>
                      <a:pt x="6325" y="1"/>
                    </a:lnTo>
                    <a:cubicBezTo>
                      <a:pt x="6326" y="1"/>
                      <a:pt x="6327" y="2"/>
                      <a:pt x="6327" y="3"/>
                    </a:cubicBezTo>
                    <a:cubicBezTo>
                      <a:pt x="6327" y="4"/>
                      <a:pt x="6326" y="5"/>
                      <a:pt x="6325" y="5"/>
                    </a:cubicBezTo>
                    <a:lnTo>
                      <a:pt x="6325" y="5"/>
                    </a:lnTo>
                    <a:cubicBezTo>
                      <a:pt x="6324" y="5"/>
                      <a:pt x="6323" y="4"/>
                      <a:pt x="6323" y="3"/>
                    </a:cubicBezTo>
                    <a:cubicBezTo>
                      <a:pt x="6323" y="2"/>
                      <a:pt x="6324" y="1"/>
                      <a:pt x="6325" y="1"/>
                    </a:cubicBezTo>
                    <a:close/>
                    <a:moveTo>
                      <a:pt x="6333" y="1"/>
                    </a:moveTo>
                    <a:lnTo>
                      <a:pt x="6333" y="1"/>
                    </a:lnTo>
                    <a:cubicBezTo>
                      <a:pt x="6334" y="1"/>
                      <a:pt x="6335" y="2"/>
                      <a:pt x="6335" y="3"/>
                    </a:cubicBezTo>
                    <a:cubicBezTo>
                      <a:pt x="6335" y="4"/>
                      <a:pt x="6334" y="5"/>
                      <a:pt x="6333" y="5"/>
                    </a:cubicBezTo>
                    <a:lnTo>
                      <a:pt x="6333" y="5"/>
                    </a:lnTo>
                    <a:cubicBezTo>
                      <a:pt x="6332" y="5"/>
                      <a:pt x="6331" y="4"/>
                      <a:pt x="6331" y="3"/>
                    </a:cubicBezTo>
                    <a:cubicBezTo>
                      <a:pt x="6331" y="2"/>
                      <a:pt x="6332" y="1"/>
                      <a:pt x="6333" y="1"/>
                    </a:cubicBezTo>
                    <a:close/>
                    <a:moveTo>
                      <a:pt x="6341" y="1"/>
                    </a:moveTo>
                    <a:lnTo>
                      <a:pt x="6341" y="1"/>
                    </a:lnTo>
                    <a:cubicBezTo>
                      <a:pt x="6342" y="1"/>
                      <a:pt x="6343" y="2"/>
                      <a:pt x="6343" y="3"/>
                    </a:cubicBezTo>
                    <a:cubicBezTo>
                      <a:pt x="6343" y="4"/>
                      <a:pt x="6342" y="5"/>
                      <a:pt x="6341" y="5"/>
                    </a:cubicBezTo>
                    <a:lnTo>
                      <a:pt x="6341" y="5"/>
                    </a:lnTo>
                    <a:cubicBezTo>
                      <a:pt x="6340" y="5"/>
                      <a:pt x="6339" y="4"/>
                      <a:pt x="6339" y="3"/>
                    </a:cubicBezTo>
                    <a:cubicBezTo>
                      <a:pt x="6339" y="2"/>
                      <a:pt x="6340" y="1"/>
                      <a:pt x="6341" y="1"/>
                    </a:cubicBezTo>
                    <a:close/>
                    <a:moveTo>
                      <a:pt x="6349" y="1"/>
                    </a:moveTo>
                    <a:lnTo>
                      <a:pt x="6349" y="1"/>
                    </a:lnTo>
                    <a:cubicBezTo>
                      <a:pt x="6350" y="1"/>
                      <a:pt x="6351" y="2"/>
                      <a:pt x="6351" y="3"/>
                    </a:cubicBezTo>
                    <a:cubicBezTo>
                      <a:pt x="6351" y="4"/>
                      <a:pt x="6350" y="5"/>
                      <a:pt x="6349" y="5"/>
                    </a:cubicBezTo>
                    <a:lnTo>
                      <a:pt x="6349" y="5"/>
                    </a:lnTo>
                    <a:cubicBezTo>
                      <a:pt x="6348" y="5"/>
                      <a:pt x="6347" y="4"/>
                      <a:pt x="6347" y="3"/>
                    </a:cubicBezTo>
                    <a:cubicBezTo>
                      <a:pt x="6347" y="2"/>
                      <a:pt x="6348" y="1"/>
                      <a:pt x="6349" y="1"/>
                    </a:cubicBezTo>
                    <a:close/>
                    <a:moveTo>
                      <a:pt x="6357" y="1"/>
                    </a:moveTo>
                    <a:lnTo>
                      <a:pt x="6357" y="1"/>
                    </a:lnTo>
                    <a:cubicBezTo>
                      <a:pt x="6358" y="1"/>
                      <a:pt x="6359" y="2"/>
                      <a:pt x="6359" y="3"/>
                    </a:cubicBezTo>
                    <a:cubicBezTo>
                      <a:pt x="6359" y="4"/>
                      <a:pt x="6358" y="5"/>
                      <a:pt x="6357" y="5"/>
                    </a:cubicBezTo>
                    <a:lnTo>
                      <a:pt x="6357" y="5"/>
                    </a:lnTo>
                    <a:cubicBezTo>
                      <a:pt x="6356" y="5"/>
                      <a:pt x="6355" y="4"/>
                      <a:pt x="6355" y="3"/>
                    </a:cubicBezTo>
                    <a:cubicBezTo>
                      <a:pt x="6355" y="2"/>
                      <a:pt x="6356" y="1"/>
                      <a:pt x="6357" y="1"/>
                    </a:cubicBezTo>
                    <a:close/>
                    <a:moveTo>
                      <a:pt x="6365" y="1"/>
                    </a:moveTo>
                    <a:lnTo>
                      <a:pt x="6365" y="1"/>
                    </a:lnTo>
                    <a:cubicBezTo>
                      <a:pt x="6366" y="1"/>
                      <a:pt x="6367" y="2"/>
                      <a:pt x="6367" y="3"/>
                    </a:cubicBezTo>
                    <a:cubicBezTo>
                      <a:pt x="6367" y="4"/>
                      <a:pt x="6366" y="5"/>
                      <a:pt x="6365" y="5"/>
                    </a:cubicBezTo>
                    <a:lnTo>
                      <a:pt x="6365" y="5"/>
                    </a:lnTo>
                    <a:cubicBezTo>
                      <a:pt x="6364" y="5"/>
                      <a:pt x="6363" y="4"/>
                      <a:pt x="6363" y="3"/>
                    </a:cubicBezTo>
                    <a:cubicBezTo>
                      <a:pt x="6363" y="2"/>
                      <a:pt x="6364" y="1"/>
                      <a:pt x="6365" y="1"/>
                    </a:cubicBezTo>
                    <a:close/>
                    <a:moveTo>
                      <a:pt x="6373" y="1"/>
                    </a:moveTo>
                    <a:lnTo>
                      <a:pt x="6373" y="1"/>
                    </a:lnTo>
                    <a:cubicBezTo>
                      <a:pt x="6374" y="1"/>
                      <a:pt x="6375" y="2"/>
                      <a:pt x="6375" y="3"/>
                    </a:cubicBezTo>
                    <a:cubicBezTo>
                      <a:pt x="6375" y="4"/>
                      <a:pt x="6374" y="5"/>
                      <a:pt x="6373" y="5"/>
                    </a:cubicBezTo>
                    <a:lnTo>
                      <a:pt x="6373" y="5"/>
                    </a:lnTo>
                    <a:cubicBezTo>
                      <a:pt x="6372" y="5"/>
                      <a:pt x="6371" y="4"/>
                      <a:pt x="6371" y="3"/>
                    </a:cubicBezTo>
                    <a:cubicBezTo>
                      <a:pt x="6371" y="2"/>
                      <a:pt x="6372" y="1"/>
                      <a:pt x="6373" y="1"/>
                    </a:cubicBezTo>
                    <a:close/>
                    <a:moveTo>
                      <a:pt x="6381" y="1"/>
                    </a:moveTo>
                    <a:lnTo>
                      <a:pt x="6381" y="1"/>
                    </a:lnTo>
                    <a:cubicBezTo>
                      <a:pt x="6382" y="1"/>
                      <a:pt x="6383" y="2"/>
                      <a:pt x="6383" y="3"/>
                    </a:cubicBezTo>
                    <a:cubicBezTo>
                      <a:pt x="6383" y="4"/>
                      <a:pt x="6382" y="5"/>
                      <a:pt x="6381" y="5"/>
                    </a:cubicBezTo>
                    <a:lnTo>
                      <a:pt x="6381" y="5"/>
                    </a:lnTo>
                    <a:cubicBezTo>
                      <a:pt x="6380" y="5"/>
                      <a:pt x="6379" y="4"/>
                      <a:pt x="6379" y="3"/>
                    </a:cubicBezTo>
                    <a:cubicBezTo>
                      <a:pt x="6379" y="2"/>
                      <a:pt x="6380" y="1"/>
                      <a:pt x="6381" y="1"/>
                    </a:cubicBezTo>
                    <a:close/>
                    <a:moveTo>
                      <a:pt x="6389" y="1"/>
                    </a:moveTo>
                    <a:lnTo>
                      <a:pt x="6389" y="1"/>
                    </a:lnTo>
                    <a:cubicBezTo>
                      <a:pt x="6390" y="1"/>
                      <a:pt x="6391" y="2"/>
                      <a:pt x="6391" y="3"/>
                    </a:cubicBezTo>
                    <a:cubicBezTo>
                      <a:pt x="6391" y="4"/>
                      <a:pt x="6390" y="5"/>
                      <a:pt x="6389" y="5"/>
                    </a:cubicBezTo>
                    <a:lnTo>
                      <a:pt x="6389" y="5"/>
                    </a:lnTo>
                    <a:cubicBezTo>
                      <a:pt x="6388" y="5"/>
                      <a:pt x="6387" y="4"/>
                      <a:pt x="6387" y="3"/>
                    </a:cubicBezTo>
                    <a:cubicBezTo>
                      <a:pt x="6387" y="2"/>
                      <a:pt x="6388" y="1"/>
                      <a:pt x="6389" y="1"/>
                    </a:cubicBezTo>
                    <a:close/>
                    <a:moveTo>
                      <a:pt x="6397" y="1"/>
                    </a:moveTo>
                    <a:lnTo>
                      <a:pt x="6397" y="1"/>
                    </a:lnTo>
                    <a:cubicBezTo>
                      <a:pt x="6398" y="1"/>
                      <a:pt x="6399" y="2"/>
                      <a:pt x="6399" y="3"/>
                    </a:cubicBezTo>
                    <a:cubicBezTo>
                      <a:pt x="6399" y="4"/>
                      <a:pt x="6398" y="5"/>
                      <a:pt x="6397" y="5"/>
                    </a:cubicBezTo>
                    <a:lnTo>
                      <a:pt x="6397" y="5"/>
                    </a:lnTo>
                    <a:cubicBezTo>
                      <a:pt x="6396" y="5"/>
                      <a:pt x="6395" y="4"/>
                      <a:pt x="6395" y="3"/>
                    </a:cubicBezTo>
                    <a:cubicBezTo>
                      <a:pt x="6395" y="2"/>
                      <a:pt x="6396" y="1"/>
                      <a:pt x="6397" y="1"/>
                    </a:cubicBezTo>
                    <a:close/>
                    <a:moveTo>
                      <a:pt x="6405" y="1"/>
                    </a:moveTo>
                    <a:lnTo>
                      <a:pt x="6405" y="1"/>
                    </a:lnTo>
                    <a:cubicBezTo>
                      <a:pt x="6406" y="1"/>
                      <a:pt x="6407" y="2"/>
                      <a:pt x="6407" y="3"/>
                    </a:cubicBezTo>
                    <a:cubicBezTo>
                      <a:pt x="6407" y="4"/>
                      <a:pt x="6406" y="5"/>
                      <a:pt x="6405" y="5"/>
                    </a:cubicBezTo>
                    <a:lnTo>
                      <a:pt x="6405" y="5"/>
                    </a:lnTo>
                    <a:cubicBezTo>
                      <a:pt x="6404" y="5"/>
                      <a:pt x="6403" y="4"/>
                      <a:pt x="6403" y="3"/>
                    </a:cubicBezTo>
                    <a:cubicBezTo>
                      <a:pt x="6403" y="2"/>
                      <a:pt x="6404" y="1"/>
                      <a:pt x="6405" y="1"/>
                    </a:cubicBezTo>
                    <a:close/>
                    <a:moveTo>
                      <a:pt x="6413" y="1"/>
                    </a:moveTo>
                    <a:lnTo>
                      <a:pt x="6413" y="1"/>
                    </a:lnTo>
                    <a:cubicBezTo>
                      <a:pt x="6414" y="1"/>
                      <a:pt x="6415" y="2"/>
                      <a:pt x="6415" y="3"/>
                    </a:cubicBezTo>
                    <a:cubicBezTo>
                      <a:pt x="6415" y="4"/>
                      <a:pt x="6414" y="5"/>
                      <a:pt x="6413" y="5"/>
                    </a:cubicBezTo>
                    <a:lnTo>
                      <a:pt x="6413" y="5"/>
                    </a:lnTo>
                    <a:cubicBezTo>
                      <a:pt x="6412" y="5"/>
                      <a:pt x="6411" y="4"/>
                      <a:pt x="6411" y="3"/>
                    </a:cubicBezTo>
                    <a:cubicBezTo>
                      <a:pt x="6411" y="2"/>
                      <a:pt x="6412" y="1"/>
                      <a:pt x="6413" y="1"/>
                    </a:cubicBezTo>
                    <a:close/>
                    <a:moveTo>
                      <a:pt x="6421" y="1"/>
                    </a:moveTo>
                    <a:lnTo>
                      <a:pt x="6421" y="1"/>
                    </a:lnTo>
                    <a:cubicBezTo>
                      <a:pt x="6422" y="1"/>
                      <a:pt x="6423" y="2"/>
                      <a:pt x="6423" y="3"/>
                    </a:cubicBezTo>
                    <a:cubicBezTo>
                      <a:pt x="6423" y="4"/>
                      <a:pt x="6422" y="5"/>
                      <a:pt x="6421" y="5"/>
                    </a:cubicBezTo>
                    <a:lnTo>
                      <a:pt x="6421" y="5"/>
                    </a:lnTo>
                    <a:cubicBezTo>
                      <a:pt x="6420" y="5"/>
                      <a:pt x="6419" y="4"/>
                      <a:pt x="6419" y="3"/>
                    </a:cubicBezTo>
                    <a:cubicBezTo>
                      <a:pt x="6419" y="2"/>
                      <a:pt x="6420" y="1"/>
                      <a:pt x="6421" y="1"/>
                    </a:cubicBezTo>
                    <a:close/>
                    <a:moveTo>
                      <a:pt x="6429" y="1"/>
                    </a:moveTo>
                    <a:lnTo>
                      <a:pt x="6429" y="1"/>
                    </a:lnTo>
                    <a:cubicBezTo>
                      <a:pt x="6430" y="1"/>
                      <a:pt x="6431" y="2"/>
                      <a:pt x="6431" y="3"/>
                    </a:cubicBezTo>
                    <a:cubicBezTo>
                      <a:pt x="6431" y="4"/>
                      <a:pt x="6430" y="5"/>
                      <a:pt x="6429" y="5"/>
                    </a:cubicBezTo>
                    <a:lnTo>
                      <a:pt x="6429" y="5"/>
                    </a:lnTo>
                    <a:cubicBezTo>
                      <a:pt x="6428" y="5"/>
                      <a:pt x="6427" y="4"/>
                      <a:pt x="6427" y="3"/>
                    </a:cubicBezTo>
                    <a:cubicBezTo>
                      <a:pt x="6427" y="2"/>
                      <a:pt x="6428" y="1"/>
                      <a:pt x="6429" y="1"/>
                    </a:cubicBezTo>
                    <a:close/>
                    <a:moveTo>
                      <a:pt x="6437" y="1"/>
                    </a:moveTo>
                    <a:lnTo>
                      <a:pt x="6437" y="1"/>
                    </a:lnTo>
                    <a:cubicBezTo>
                      <a:pt x="6438" y="1"/>
                      <a:pt x="6439" y="2"/>
                      <a:pt x="6439" y="3"/>
                    </a:cubicBezTo>
                    <a:cubicBezTo>
                      <a:pt x="6439" y="4"/>
                      <a:pt x="6438" y="5"/>
                      <a:pt x="6437" y="5"/>
                    </a:cubicBezTo>
                    <a:lnTo>
                      <a:pt x="6437" y="5"/>
                    </a:lnTo>
                    <a:cubicBezTo>
                      <a:pt x="6436" y="5"/>
                      <a:pt x="6435" y="4"/>
                      <a:pt x="6435" y="3"/>
                    </a:cubicBezTo>
                    <a:cubicBezTo>
                      <a:pt x="6435" y="2"/>
                      <a:pt x="6436" y="1"/>
                      <a:pt x="6437" y="1"/>
                    </a:cubicBezTo>
                    <a:close/>
                    <a:moveTo>
                      <a:pt x="6445" y="1"/>
                    </a:moveTo>
                    <a:lnTo>
                      <a:pt x="6445" y="1"/>
                    </a:lnTo>
                    <a:cubicBezTo>
                      <a:pt x="6446" y="1"/>
                      <a:pt x="6447" y="2"/>
                      <a:pt x="6447" y="3"/>
                    </a:cubicBezTo>
                    <a:cubicBezTo>
                      <a:pt x="6447" y="4"/>
                      <a:pt x="6446" y="5"/>
                      <a:pt x="6445" y="5"/>
                    </a:cubicBezTo>
                    <a:lnTo>
                      <a:pt x="6445" y="5"/>
                    </a:lnTo>
                    <a:cubicBezTo>
                      <a:pt x="6444" y="5"/>
                      <a:pt x="6443" y="4"/>
                      <a:pt x="6443" y="3"/>
                    </a:cubicBezTo>
                    <a:cubicBezTo>
                      <a:pt x="6443" y="2"/>
                      <a:pt x="6444" y="1"/>
                      <a:pt x="6445" y="1"/>
                    </a:cubicBezTo>
                    <a:close/>
                    <a:moveTo>
                      <a:pt x="6453" y="1"/>
                    </a:moveTo>
                    <a:lnTo>
                      <a:pt x="6453" y="1"/>
                    </a:lnTo>
                    <a:cubicBezTo>
                      <a:pt x="6454" y="1"/>
                      <a:pt x="6455" y="2"/>
                      <a:pt x="6455" y="3"/>
                    </a:cubicBezTo>
                    <a:cubicBezTo>
                      <a:pt x="6455" y="4"/>
                      <a:pt x="6454" y="5"/>
                      <a:pt x="6453" y="5"/>
                    </a:cubicBezTo>
                    <a:lnTo>
                      <a:pt x="6453" y="5"/>
                    </a:lnTo>
                    <a:cubicBezTo>
                      <a:pt x="6452" y="5"/>
                      <a:pt x="6451" y="4"/>
                      <a:pt x="6451" y="3"/>
                    </a:cubicBezTo>
                    <a:cubicBezTo>
                      <a:pt x="6451" y="2"/>
                      <a:pt x="6452" y="1"/>
                      <a:pt x="6453" y="1"/>
                    </a:cubicBezTo>
                    <a:close/>
                    <a:moveTo>
                      <a:pt x="6461" y="1"/>
                    </a:moveTo>
                    <a:lnTo>
                      <a:pt x="6461" y="1"/>
                    </a:lnTo>
                    <a:cubicBezTo>
                      <a:pt x="6462" y="1"/>
                      <a:pt x="6463" y="2"/>
                      <a:pt x="6463" y="3"/>
                    </a:cubicBezTo>
                    <a:cubicBezTo>
                      <a:pt x="6463" y="4"/>
                      <a:pt x="6462" y="5"/>
                      <a:pt x="6461" y="5"/>
                    </a:cubicBezTo>
                    <a:lnTo>
                      <a:pt x="6461" y="5"/>
                    </a:lnTo>
                    <a:cubicBezTo>
                      <a:pt x="6460" y="5"/>
                      <a:pt x="6459" y="4"/>
                      <a:pt x="6459" y="3"/>
                    </a:cubicBezTo>
                    <a:cubicBezTo>
                      <a:pt x="6459" y="2"/>
                      <a:pt x="6460" y="1"/>
                      <a:pt x="6461" y="1"/>
                    </a:cubicBezTo>
                    <a:close/>
                    <a:moveTo>
                      <a:pt x="6469" y="1"/>
                    </a:moveTo>
                    <a:lnTo>
                      <a:pt x="6469" y="1"/>
                    </a:lnTo>
                    <a:cubicBezTo>
                      <a:pt x="6470" y="1"/>
                      <a:pt x="6471" y="2"/>
                      <a:pt x="6471" y="3"/>
                    </a:cubicBezTo>
                    <a:cubicBezTo>
                      <a:pt x="6471" y="4"/>
                      <a:pt x="6470" y="5"/>
                      <a:pt x="6469" y="5"/>
                    </a:cubicBezTo>
                    <a:lnTo>
                      <a:pt x="6469" y="5"/>
                    </a:lnTo>
                    <a:cubicBezTo>
                      <a:pt x="6468" y="5"/>
                      <a:pt x="6467" y="4"/>
                      <a:pt x="6467" y="3"/>
                    </a:cubicBezTo>
                    <a:cubicBezTo>
                      <a:pt x="6467" y="2"/>
                      <a:pt x="6468" y="1"/>
                      <a:pt x="6469" y="1"/>
                    </a:cubicBezTo>
                    <a:close/>
                    <a:moveTo>
                      <a:pt x="6477" y="1"/>
                    </a:moveTo>
                    <a:lnTo>
                      <a:pt x="6477" y="1"/>
                    </a:lnTo>
                    <a:cubicBezTo>
                      <a:pt x="6478" y="1"/>
                      <a:pt x="6479" y="2"/>
                      <a:pt x="6479" y="3"/>
                    </a:cubicBezTo>
                    <a:cubicBezTo>
                      <a:pt x="6479" y="4"/>
                      <a:pt x="6478" y="5"/>
                      <a:pt x="6477" y="5"/>
                    </a:cubicBezTo>
                    <a:lnTo>
                      <a:pt x="6477" y="5"/>
                    </a:lnTo>
                    <a:cubicBezTo>
                      <a:pt x="6476" y="5"/>
                      <a:pt x="6475" y="4"/>
                      <a:pt x="6475" y="3"/>
                    </a:cubicBezTo>
                    <a:cubicBezTo>
                      <a:pt x="6475" y="2"/>
                      <a:pt x="6476" y="1"/>
                      <a:pt x="6477" y="1"/>
                    </a:cubicBezTo>
                    <a:close/>
                    <a:moveTo>
                      <a:pt x="6485" y="1"/>
                    </a:moveTo>
                    <a:lnTo>
                      <a:pt x="6485" y="1"/>
                    </a:lnTo>
                    <a:cubicBezTo>
                      <a:pt x="6486" y="1"/>
                      <a:pt x="6487" y="2"/>
                      <a:pt x="6487" y="3"/>
                    </a:cubicBezTo>
                    <a:cubicBezTo>
                      <a:pt x="6487" y="4"/>
                      <a:pt x="6486" y="5"/>
                      <a:pt x="6485" y="5"/>
                    </a:cubicBezTo>
                    <a:lnTo>
                      <a:pt x="6485" y="5"/>
                    </a:lnTo>
                    <a:cubicBezTo>
                      <a:pt x="6484" y="5"/>
                      <a:pt x="6483" y="4"/>
                      <a:pt x="6483" y="3"/>
                    </a:cubicBezTo>
                    <a:cubicBezTo>
                      <a:pt x="6483" y="2"/>
                      <a:pt x="6484" y="1"/>
                      <a:pt x="6485" y="1"/>
                    </a:cubicBezTo>
                    <a:close/>
                    <a:moveTo>
                      <a:pt x="6493" y="1"/>
                    </a:moveTo>
                    <a:lnTo>
                      <a:pt x="6493" y="1"/>
                    </a:lnTo>
                    <a:cubicBezTo>
                      <a:pt x="6494" y="1"/>
                      <a:pt x="6495" y="2"/>
                      <a:pt x="6495" y="3"/>
                    </a:cubicBezTo>
                    <a:cubicBezTo>
                      <a:pt x="6495" y="4"/>
                      <a:pt x="6494" y="5"/>
                      <a:pt x="6493" y="5"/>
                    </a:cubicBezTo>
                    <a:lnTo>
                      <a:pt x="6493" y="5"/>
                    </a:lnTo>
                    <a:cubicBezTo>
                      <a:pt x="6492" y="5"/>
                      <a:pt x="6491" y="4"/>
                      <a:pt x="6491" y="3"/>
                    </a:cubicBezTo>
                    <a:cubicBezTo>
                      <a:pt x="6491" y="2"/>
                      <a:pt x="6492" y="1"/>
                      <a:pt x="6493" y="1"/>
                    </a:cubicBezTo>
                    <a:close/>
                    <a:moveTo>
                      <a:pt x="6501" y="1"/>
                    </a:moveTo>
                    <a:lnTo>
                      <a:pt x="6501" y="1"/>
                    </a:lnTo>
                    <a:cubicBezTo>
                      <a:pt x="6502" y="1"/>
                      <a:pt x="6503" y="2"/>
                      <a:pt x="6503" y="3"/>
                    </a:cubicBezTo>
                    <a:cubicBezTo>
                      <a:pt x="6503" y="4"/>
                      <a:pt x="6502" y="5"/>
                      <a:pt x="6501" y="5"/>
                    </a:cubicBezTo>
                    <a:lnTo>
                      <a:pt x="6501" y="5"/>
                    </a:lnTo>
                    <a:cubicBezTo>
                      <a:pt x="6500" y="5"/>
                      <a:pt x="6499" y="4"/>
                      <a:pt x="6499" y="3"/>
                    </a:cubicBezTo>
                    <a:cubicBezTo>
                      <a:pt x="6499" y="2"/>
                      <a:pt x="6500" y="1"/>
                      <a:pt x="6501" y="1"/>
                    </a:cubicBezTo>
                    <a:close/>
                    <a:moveTo>
                      <a:pt x="6509" y="1"/>
                    </a:moveTo>
                    <a:lnTo>
                      <a:pt x="6509" y="1"/>
                    </a:lnTo>
                    <a:cubicBezTo>
                      <a:pt x="6510" y="1"/>
                      <a:pt x="6511" y="2"/>
                      <a:pt x="6511" y="3"/>
                    </a:cubicBezTo>
                    <a:cubicBezTo>
                      <a:pt x="6511" y="4"/>
                      <a:pt x="6510" y="5"/>
                      <a:pt x="6509" y="5"/>
                    </a:cubicBezTo>
                    <a:lnTo>
                      <a:pt x="6509" y="5"/>
                    </a:lnTo>
                    <a:cubicBezTo>
                      <a:pt x="6508" y="5"/>
                      <a:pt x="6507" y="4"/>
                      <a:pt x="6507" y="3"/>
                    </a:cubicBezTo>
                    <a:cubicBezTo>
                      <a:pt x="6507" y="2"/>
                      <a:pt x="6508" y="1"/>
                      <a:pt x="6509" y="1"/>
                    </a:cubicBezTo>
                    <a:close/>
                    <a:moveTo>
                      <a:pt x="6517" y="1"/>
                    </a:moveTo>
                    <a:lnTo>
                      <a:pt x="6517" y="1"/>
                    </a:lnTo>
                    <a:cubicBezTo>
                      <a:pt x="6518" y="1"/>
                      <a:pt x="6519" y="2"/>
                      <a:pt x="6519" y="3"/>
                    </a:cubicBezTo>
                    <a:cubicBezTo>
                      <a:pt x="6519" y="4"/>
                      <a:pt x="6518" y="5"/>
                      <a:pt x="6517" y="5"/>
                    </a:cubicBezTo>
                    <a:lnTo>
                      <a:pt x="6517" y="5"/>
                    </a:lnTo>
                    <a:cubicBezTo>
                      <a:pt x="6516" y="5"/>
                      <a:pt x="6515" y="4"/>
                      <a:pt x="6515" y="3"/>
                    </a:cubicBezTo>
                    <a:cubicBezTo>
                      <a:pt x="6515" y="2"/>
                      <a:pt x="6516" y="1"/>
                      <a:pt x="6517" y="1"/>
                    </a:cubicBezTo>
                    <a:close/>
                    <a:moveTo>
                      <a:pt x="6525" y="1"/>
                    </a:moveTo>
                    <a:lnTo>
                      <a:pt x="6525" y="1"/>
                    </a:lnTo>
                    <a:cubicBezTo>
                      <a:pt x="6526" y="1"/>
                      <a:pt x="6527" y="2"/>
                      <a:pt x="6527" y="3"/>
                    </a:cubicBezTo>
                    <a:cubicBezTo>
                      <a:pt x="6527" y="4"/>
                      <a:pt x="6526" y="5"/>
                      <a:pt x="6525" y="5"/>
                    </a:cubicBezTo>
                    <a:lnTo>
                      <a:pt x="6525" y="5"/>
                    </a:lnTo>
                    <a:cubicBezTo>
                      <a:pt x="6524" y="5"/>
                      <a:pt x="6523" y="4"/>
                      <a:pt x="6523" y="3"/>
                    </a:cubicBezTo>
                    <a:cubicBezTo>
                      <a:pt x="6523" y="2"/>
                      <a:pt x="6524" y="1"/>
                      <a:pt x="6525" y="1"/>
                    </a:cubicBezTo>
                    <a:close/>
                    <a:moveTo>
                      <a:pt x="6533" y="1"/>
                    </a:moveTo>
                    <a:lnTo>
                      <a:pt x="6533" y="1"/>
                    </a:lnTo>
                    <a:cubicBezTo>
                      <a:pt x="6534" y="1"/>
                      <a:pt x="6535" y="2"/>
                      <a:pt x="6535" y="3"/>
                    </a:cubicBezTo>
                    <a:cubicBezTo>
                      <a:pt x="6535" y="4"/>
                      <a:pt x="6534" y="5"/>
                      <a:pt x="6533" y="5"/>
                    </a:cubicBezTo>
                    <a:lnTo>
                      <a:pt x="6533" y="5"/>
                    </a:lnTo>
                    <a:cubicBezTo>
                      <a:pt x="6532" y="5"/>
                      <a:pt x="6531" y="4"/>
                      <a:pt x="6531" y="3"/>
                    </a:cubicBezTo>
                    <a:cubicBezTo>
                      <a:pt x="6531" y="2"/>
                      <a:pt x="6532" y="1"/>
                      <a:pt x="6533" y="1"/>
                    </a:cubicBezTo>
                    <a:close/>
                    <a:moveTo>
                      <a:pt x="6541" y="1"/>
                    </a:moveTo>
                    <a:lnTo>
                      <a:pt x="6541" y="1"/>
                    </a:lnTo>
                    <a:cubicBezTo>
                      <a:pt x="6542" y="1"/>
                      <a:pt x="6543" y="2"/>
                      <a:pt x="6543" y="3"/>
                    </a:cubicBezTo>
                    <a:cubicBezTo>
                      <a:pt x="6543" y="4"/>
                      <a:pt x="6542" y="5"/>
                      <a:pt x="6541" y="5"/>
                    </a:cubicBezTo>
                    <a:lnTo>
                      <a:pt x="6541" y="5"/>
                    </a:lnTo>
                    <a:cubicBezTo>
                      <a:pt x="6540" y="5"/>
                      <a:pt x="6539" y="4"/>
                      <a:pt x="6539" y="3"/>
                    </a:cubicBezTo>
                    <a:cubicBezTo>
                      <a:pt x="6539" y="2"/>
                      <a:pt x="6540" y="1"/>
                      <a:pt x="6541" y="1"/>
                    </a:cubicBezTo>
                    <a:close/>
                    <a:moveTo>
                      <a:pt x="6549" y="1"/>
                    </a:moveTo>
                    <a:lnTo>
                      <a:pt x="6549" y="1"/>
                    </a:lnTo>
                    <a:cubicBezTo>
                      <a:pt x="6550" y="1"/>
                      <a:pt x="6551" y="2"/>
                      <a:pt x="6551" y="3"/>
                    </a:cubicBezTo>
                    <a:cubicBezTo>
                      <a:pt x="6551" y="4"/>
                      <a:pt x="6550" y="5"/>
                      <a:pt x="6549" y="5"/>
                    </a:cubicBezTo>
                    <a:lnTo>
                      <a:pt x="6549" y="5"/>
                    </a:lnTo>
                    <a:cubicBezTo>
                      <a:pt x="6548" y="5"/>
                      <a:pt x="6547" y="4"/>
                      <a:pt x="6547" y="3"/>
                    </a:cubicBezTo>
                    <a:cubicBezTo>
                      <a:pt x="6547" y="2"/>
                      <a:pt x="6548" y="1"/>
                      <a:pt x="6549" y="1"/>
                    </a:cubicBezTo>
                    <a:close/>
                    <a:moveTo>
                      <a:pt x="6557" y="1"/>
                    </a:moveTo>
                    <a:lnTo>
                      <a:pt x="6557" y="1"/>
                    </a:lnTo>
                    <a:cubicBezTo>
                      <a:pt x="6558" y="1"/>
                      <a:pt x="6559" y="2"/>
                      <a:pt x="6559" y="3"/>
                    </a:cubicBezTo>
                    <a:cubicBezTo>
                      <a:pt x="6559" y="4"/>
                      <a:pt x="6558" y="5"/>
                      <a:pt x="6557" y="5"/>
                    </a:cubicBezTo>
                    <a:lnTo>
                      <a:pt x="6557" y="5"/>
                    </a:lnTo>
                    <a:cubicBezTo>
                      <a:pt x="6556" y="5"/>
                      <a:pt x="6555" y="4"/>
                      <a:pt x="6555" y="3"/>
                    </a:cubicBezTo>
                    <a:cubicBezTo>
                      <a:pt x="6555" y="2"/>
                      <a:pt x="6556" y="1"/>
                      <a:pt x="6557" y="1"/>
                    </a:cubicBezTo>
                    <a:close/>
                    <a:moveTo>
                      <a:pt x="6565" y="1"/>
                    </a:moveTo>
                    <a:lnTo>
                      <a:pt x="6565" y="1"/>
                    </a:lnTo>
                    <a:cubicBezTo>
                      <a:pt x="6566" y="1"/>
                      <a:pt x="6567" y="2"/>
                      <a:pt x="6567" y="3"/>
                    </a:cubicBezTo>
                    <a:cubicBezTo>
                      <a:pt x="6567" y="4"/>
                      <a:pt x="6566" y="5"/>
                      <a:pt x="6565" y="5"/>
                    </a:cubicBezTo>
                    <a:lnTo>
                      <a:pt x="6565" y="5"/>
                    </a:lnTo>
                    <a:cubicBezTo>
                      <a:pt x="6564" y="5"/>
                      <a:pt x="6563" y="4"/>
                      <a:pt x="6563" y="3"/>
                    </a:cubicBezTo>
                    <a:cubicBezTo>
                      <a:pt x="6563" y="2"/>
                      <a:pt x="6564" y="1"/>
                      <a:pt x="6565" y="1"/>
                    </a:cubicBezTo>
                    <a:close/>
                    <a:moveTo>
                      <a:pt x="6573" y="1"/>
                    </a:moveTo>
                    <a:lnTo>
                      <a:pt x="6573" y="1"/>
                    </a:lnTo>
                    <a:cubicBezTo>
                      <a:pt x="6574" y="1"/>
                      <a:pt x="6575" y="2"/>
                      <a:pt x="6575" y="3"/>
                    </a:cubicBezTo>
                    <a:cubicBezTo>
                      <a:pt x="6575" y="4"/>
                      <a:pt x="6574" y="5"/>
                      <a:pt x="6573" y="5"/>
                    </a:cubicBezTo>
                    <a:lnTo>
                      <a:pt x="6573" y="5"/>
                    </a:lnTo>
                    <a:cubicBezTo>
                      <a:pt x="6572" y="5"/>
                      <a:pt x="6571" y="4"/>
                      <a:pt x="6571" y="3"/>
                    </a:cubicBezTo>
                    <a:cubicBezTo>
                      <a:pt x="6571" y="2"/>
                      <a:pt x="6572" y="1"/>
                      <a:pt x="6573" y="1"/>
                    </a:cubicBezTo>
                    <a:close/>
                    <a:moveTo>
                      <a:pt x="6581" y="1"/>
                    </a:moveTo>
                    <a:lnTo>
                      <a:pt x="6581" y="1"/>
                    </a:lnTo>
                    <a:cubicBezTo>
                      <a:pt x="6582" y="1"/>
                      <a:pt x="6583" y="2"/>
                      <a:pt x="6583" y="3"/>
                    </a:cubicBezTo>
                    <a:cubicBezTo>
                      <a:pt x="6583" y="4"/>
                      <a:pt x="6582" y="5"/>
                      <a:pt x="6581" y="5"/>
                    </a:cubicBezTo>
                    <a:lnTo>
                      <a:pt x="6581" y="5"/>
                    </a:lnTo>
                    <a:cubicBezTo>
                      <a:pt x="6580" y="5"/>
                      <a:pt x="6579" y="4"/>
                      <a:pt x="6579" y="3"/>
                    </a:cubicBezTo>
                    <a:cubicBezTo>
                      <a:pt x="6579" y="2"/>
                      <a:pt x="6580" y="1"/>
                      <a:pt x="6581" y="1"/>
                    </a:cubicBezTo>
                    <a:close/>
                    <a:moveTo>
                      <a:pt x="6589" y="1"/>
                    </a:moveTo>
                    <a:lnTo>
                      <a:pt x="6589" y="1"/>
                    </a:lnTo>
                    <a:cubicBezTo>
                      <a:pt x="6590" y="1"/>
                      <a:pt x="6591" y="2"/>
                      <a:pt x="6591" y="3"/>
                    </a:cubicBezTo>
                    <a:cubicBezTo>
                      <a:pt x="6591" y="4"/>
                      <a:pt x="6590" y="5"/>
                      <a:pt x="6589" y="5"/>
                    </a:cubicBezTo>
                    <a:lnTo>
                      <a:pt x="6589" y="5"/>
                    </a:lnTo>
                    <a:cubicBezTo>
                      <a:pt x="6588" y="5"/>
                      <a:pt x="6587" y="4"/>
                      <a:pt x="6587" y="3"/>
                    </a:cubicBezTo>
                    <a:cubicBezTo>
                      <a:pt x="6587" y="2"/>
                      <a:pt x="6588" y="1"/>
                      <a:pt x="6589" y="1"/>
                    </a:cubicBezTo>
                    <a:close/>
                    <a:moveTo>
                      <a:pt x="6597" y="1"/>
                    </a:moveTo>
                    <a:lnTo>
                      <a:pt x="6597" y="1"/>
                    </a:lnTo>
                    <a:cubicBezTo>
                      <a:pt x="6598" y="1"/>
                      <a:pt x="6599" y="2"/>
                      <a:pt x="6599" y="3"/>
                    </a:cubicBezTo>
                    <a:cubicBezTo>
                      <a:pt x="6599" y="4"/>
                      <a:pt x="6598" y="5"/>
                      <a:pt x="6597" y="5"/>
                    </a:cubicBezTo>
                    <a:lnTo>
                      <a:pt x="6597" y="5"/>
                    </a:lnTo>
                    <a:cubicBezTo>
                      <a:pt x="6596" y="5"/>
                      <a:pt x="6595" y="4"/>
                      <a:pt x="6595" y="3"/>
                    </a:cubicBezTo>
                    <a:cubicBezTo>
                      <a:pt x="6595" y="2"/>
                      <a:pt x="6596" y="1"/>
                      <a:pt x="6597" y="1"/>
                    </a:cubicBezTo>
                    <a:close/>
                    <a:moveTo>
                      <a:pt x="6605" y="1"/>
                    </a:moveTo>
                    <a:lnTo>
                      <a:pt x="6605" y="1"/>
                    </a:lnTo>
                    <a:cubicBezTo>
                      <a:pt x="6606" y="1"/>
                      <a:pt x="6607" y="2"/>
                      <a:pt x="6607" y="3"/>
                    </a:cubicBezTo>
                    <a:cubicBezTo>
                      <a:pt x="6607" y="4"/>
                      <a:pt x="6606" y="5"/>
                      <a:pt x="6605" y="5"/>
                    </a:cubicBezTo>
                    <a:lnTo>
                      <a:pt x="6605" y="5"/>
                    </a:lnTo>
                    <a:cubicBezTo>
                      <a:pt x="6604" y="5"/>
                      <a:pt x="6603" y="4"/>
                      <a:pt x="6603" y="3"/>
                    </a:cubicBezTo>
                    <a:cubicBezTo>
                      <a:pt x="6603" y="2"/>
                      <a:pt x="6604" y="1"/>
                      <a:pt x="6605" y="1"/>
                    </a:cubicBezTo>
                    <a:close/>
                    <a:moveTo>
                      <a:pt x="6613" y="1"/>
                    </a:moveTo>
                    <a:lnTo>
                      <a:pt x="6613" y="1"/>
                    </a:lnTo>
                    <a:cubicBezTo>
                      <a:pt x="6614" y="1"/>
                      <a:pt x="6615" y="2"/>
                      <a:pt x="6615" y="3"/>
                    </a:cubicBezTo>
                    <a:cubicBezTo>
                      <a:pt x="6615" y="5"/>
                      <a:pt x="6614" y="5"/>
                      <a:pt x="6613" y="5"/>
                    </a:cubicBezTo>
                    <a:lnTo>
                      <a:pt x="6613" y="5"/>
                    </a:lnTo>
                    <a:cubicBezTo>
                      <a:pt x="6612" y="5"/>
                      <a:pt x="6611" y="5"/>
                      <a:pt x="6611" y="3"/>
                    </a:cubicBezTo>
                    <a:cubicBezTo>
                      <a:pt x="6611" y="2"/>
                      <a:pt x="6612" y="1"/>
                      <a:pt x="6613" y="1"/>
                    </a:cubicBezTo>
                    <a:close/>
                    <a:moveTo>
                      <a:pt x="6621" y="1"/>
                    </a:moveTo>
                    <a:lnTo>
                      <a:pt x="6621" y="1"/>
                    </a:lnTo>
                    <a:cubicBezTo>
                      <a:pt x="6622" y="1"/>
                      <a:pt x="6623" y="2"/>
                      <a:pt x="6623" y="3"/>
                    </a:cubicBezTo>
                    <a:cubicBezTo>
                      <a:pt x="6623" y="5"/>
                      <a:pt x="6622" y="5"/>
                      <a:pt x="6621" y="5"/>
                    </a:cubicBezTo>
                    <a:lnTo>
                      <a:pt x="6621" y="5"/>
                    </a:lnTo>
                    <a:cubicBezTo>
                      <a:pt x="6620" y="5"/>
                      <a:pt x="6619" y="5"/>
                      <a:pt x="6619" y="3"/>
                    </a:cubicBezTo>
                    <a:cubicBezTo>
                      <a:pt x="6619" y="2"/>
                      <a:pt x="6620" y="1"/>
                      <a:pt x="6621" y="1"/>
                    </a:cubicBezTo>
                    <a:close/>
                    <a:moveTo>
                      <a:pt x="6629" y="1"/>
                    </a:moveTo>
                    <a:lnTo>
                      <a:pt x="6629" y="1"/>
                    </a:lnTo>
                    <a:cubicBezTo>
                      <a:pt x="6630" y="1"/>
                      <a:pt x="6631" y="2"/>
                      <a:pt x="6631" y="3"/>
                    </a:cubicBezTo>
                    <a:cubicBezTo>
                      <a:pt x="6631" y="5"/>
                      <a:pt x="6630" y="5"/>
                      <a:pt x="6629" y="5"/>
                    </a:cubicBezTo>
                    <a:lnTo>
                      <a:pt x="6629" y="5"/>
                    </a:lnTo>
                    <a:cubicBezTo>
                      <a:pt x="6628" y="5"/>
                      <a:pt x="6627" y="5"/>
                      <a:pt x="6627" y="3"/>
                    </a:cubicBezTo>
                    <a:cubicBezTo>
                      <a:pt x="6627" y="2"/>
                      <a:pt x="6628" y="1"/>
                      <a:pt x="6629" y="1"/>
                    </a:cubicBezTo>
                    <a:close/>
                    <a:moveTo>
                      <a:pt x="6637" y="1"/>
                    </a:moveTo>
                    <a:lnTo>
                      <a:pt x="6637" y="1"/>
                    </a:lnTo>
                    <a:cubicBezTo>
                      <a:pt x="6638" y="1"/>
                      <a:pt x="6639" y="2"/>
                      <a:pt x="6639" y="3"/>
                    </a:cubicBezTo>
                    <a:cubicBezTo>
                      <a:pt x="6639" y="5"/>
                      <a:pt x="6638" y="5"/>
                      <a:pt x="6637" y="5"/>
                    </a:cubicBezTo>
                    <a:lnTo>
                      <a:pt x="6637" y="5"/>
                    </a:lnTo>
                    <a:cubicBezTo>
                      <a:pt x="6636" y="5"/>
                      <a:pt x="6635" y="5"/>
                      <a:pt x="6635" y="3"/>
                    </a:cubicBezTo>
                    <a:cubicBezTo>
                      <a:pt x="6635" y="2"/>
                      <a:pt x="6636" y="1"/>
                      <a:pt x="6637" y="1"/>
                    </a:cubicBezTo>
                    <a:close/>
                    <a:moveTo>
                      <a:pt x="6645" y="1"/>
                    </a:moveTo>
                    <a:lnTo>
                      <a:pt x="6645" y="1"/>
                    </a:lnTo>
                    <a:cubicBezTo>
                      <a:pt x="6646" y="1"/>
                      <a:pt x="6647" y="2"/>
                      <a:pt x="6647" y="3"/>
                    </a:cubicBezTo>
                    <a:cubicBezTo>
                      <a:pt x="6647" y="5"/>
                      <a:pt x="6646" y="5"/>
                      <a:pt x="6645" y="5"/>
                    </a:cubicBezTo>
                    <a:lnTo>
                      <a:pt x="6645" y="5"/>
                    </a:lnTo>
                    <a:cubicBezTo>
                      <a:pt x="6644" y="5"/>
                      <a:pt x="6643" y="5"/>
                      <a:pt x="6643" y="3"/>
                    </a:cubicBezTo>
                    <a:cubicBezTo>
                      <a:pt x="6643" y="2"/>
                      <a:pt x="6644" y="1"/>
                      <a:pt x="6645" y="1"/>
                    </a:cubicBezTo>
                    <a:close/>
                    <a:moveTo>
                      <a:pt x="6653" y="1"/>
                    </a:moveTo>
                    <a:lnTo>
                      <a:pt x="6653" y="1"/>
                    </a:lnTo>
                    <a:cubicBezTo>
                      <a:pt x="6654" y="1"/>
                      <a:pt x="6655" y="2"/>
                      <a:pt x="6655" y="3"/>
                    </a:cubicBezTo>
                    <a:cubicBezTo>
                      <a:pt x="6655" y="5"/>
                      <a:pt x="6654" y="5"/>
                      <a:pt x="6653" y="5"/>
                    </a:cubicBezTo>
                    <a:lnTo>
                      <a:pt x="6653" y="5"/>
                    </a:lnTo>
                    <a:cubicBezTo>
                      <a:pt x="6652" y="5"/>
                      <a:pt x="6651" y="5"/>
                      <a:pt x="6651" y="3"/>
                    </a:cubicBezTo>
                    <a:cubicBezTo>
                      <a:pt x="6651" y="2"/>
                      <a:pt x="6652" y="1"/>
                      <a:pt x="6653" y="1"/>
                    </a:cubicBezTo>
                    <a:close/>
                    <a:moveTo>
                      <a:pt x="6661" y="1"/>
                    </a:moveTo>
                    <a:lnTo>
                      <a:pt x="6661" y="1"/>
                    </a:lnTo>
                    <a:cubicBezTo>
                      <a:pt x="6662" y="1"/>
                      <a:pt x="6663" y="2"/>
                      <a:pt x="6663" y="3"/>
                    </a:cubicBezTo>
                    <a:cubicBezTo>
                      <a:pt x="6663" y="5"/>
                      <a:pt x="6662" y="5"/>
                      <a:pt x="6661" y="5"/>
                    </a:cubicBezTo>
                    <a:lnTo>
                      <a:pt x="6661" y="5"/>
                    </a:lnTo>
                    <a:cubicBezTo>
                      <a:pt x="6660" y="5"/>
                      <a:pt x="6659" y="5"/>
                      <a:pt x="6659" y="3"/>
                    </a:cubicBezTo>
                    <a:cubicBezTo>
                      <a:pt x="6659" y="2"/>
                      <a:pt x="6660" y="1"/>
                      <a:pt x="6661" y="1"/>
                    </a:cubicBezTo>
                    <a:close/>
                    <a:moveTo>
                      <a:pt x="6669" y="1"/>
                    </a:moveTo>
                    <a:lnTo>
                      <a:pt x="6669" y="1"/>
                    </a:lnTo>
                    <a:cubicBezTo>
                      <a:pt x="6670" y="1"/>
                      <a:pt x="6671" y="2"/>
                      <a:pt x="6671" y="3"/>
                    </a:cubicBezTo>
                    <a:cubicBezTo>
                      <a:pt x="6671" y="5"/>
                      <a:pt x="6670" y="5"/>
                      <a:pt x="6669" y="5"/>
                    </a:cubicBezTo>
                    <a:lnTo>
                      <a:pt x="6669" y="5"/>
                    </a:lnTo>
                    <a:cubicBezTo>
                      <a:pt x="6668" y="5"/>
                      <a:pt x="6667" y="5"/>
                      <a:pt x="6667" y="3"/>
                    </a:cubicBezTo>
                    <a:cubicBezTo>
                      <a:pt x="6667" y="2"/>
                      <a:pt x="6668" y="1"/>
                      <a:pt x="6669" y="1"/>
                    </a:cubicBezTo>
                    <a:close/>
                    <a:moveTo>
                      <a:pt x="6677" y="1"/>
                    </a:moveTo>
                    <a:lnTo>
                      <a:pt x="6677" y="1"/>
                    </a:lnTo>
                    <a:cubicBezTo>
                      <a:pt x="6678" y="1"/>
                      <a:pt x="6679" y="2"/>
                      <a:pt x="6679" y="3"/>
                    </a:cubicBezTo>
                    <a:cubicBezTo>
                      <a:pt x="6679" y="5"/>
                      <a:pt x="6678" y="5"/>
                      <a:pt x="6677" y="5"/>
                    </a:cubicBezTo>
                    <a:lnTo>
                      <a:pt x="6677" y="5"/>
                    </a:lnTo>
                    <a:cubicBezTo>
                      <a:pt x="6676" y="5"/>
                      <a:pt x="6675" y="5"/>
                      <a:pt x="6675" y="3"/>
                    </a:cubicBezTo>
                    <a:cubicBezTo>
                      <a:pt x="6675" y="2"/>
                      <a:pt x="6676" y="1"/>
                      <a:pt x="6677" y="1"/>
                    </a:cubicBezTo>
                    <a:close/>
                    <a:moveTo>
                      <a:pt x="6685" y="1"/>
                    </a:moveTo>
                    <a:lnTo>
                      <a:pt x="6685" y="1"/>
                    </a:lnTo>
                    <a:cubicBezTo>
                      <a:pt x="6686" y="1"/>
                      <a:pt x="6687" y="2"/>
                      <a:pt x="6687" y="3"/>
                    </a:cubicBezTo>
                    <a:cubicBezTo>
                      <a:pt x="6687" y="5"/>
                      <a:pt x="6686" y="5"/>
                      <a:pt x="6685" y="5"/>
                    </a:cubicBezTo>
                    <a:lnTo>
                      <a:pt x="6685" y="5"/>
                    </a:lnTo>
                    <a:cubicBezTo>
                      <a:pt x="6684" y="5"/>
                      <a:pt x="6683" y="5"/>
                      <a:pt x="6683" y="3"/>
                    </a:cubicBezTo>
                    <a:cubicBezTo>
                      <a:pt x="6683" y="2"/>
                      <a:pt x="6684" y="1"/>
                      <a:pt x="6685" y="1"/>
                    </a:cubicBezTo>
                    <a:close/>
                    <a:moveTo>
                      <a:pt x="6693" y="1"/>
                    </a:moveTo>
                    <a:lnTo>
                      <a:pt x="6693" y="1"/>
                    </a:lnTo>
                    <a:cubicBezTo>
                      <a:pt x="6694" y="1"/>
                      <a:pt x="6695" y="2"/>
                      <a:pt x="6695" y="3"/>
                    </a:cubicBezTo>
                    <a:cubicBezTo>
                      <a:pt x="6695" y="5"/>
                      <a:pt x="6694" y="5"/>
                      <a:pt x="6693" y="5"/>
                    </a:cubicBezTo>
                    <a:lnTo>
                      <a:pt x="6693" y="5"/>
                    </a:lnTo>
                    <a:cubicBezTo>
                      <a:pt x="6692" y="5"/>
                      <a:pt x="6691" y="5"/>
                      <a:pt x="6691" y="3"/>
                    </a:cubicBezTo>
                    <a:cubicBezTo>
                      <a:pt x="6691" y="2"/>
                      <a:pt x="6692" y="1"/>
                      <a:pt x="6693" y="1"/>
                    </a:cubicBezTo>
                    <a:close/>
                    <a:moveTo>
                      <a:pt x="6701" y="1"/>
                    </a:moveTo>
                    <a:lnTo>
                      <a:pt x="6701" y="1"/>
                    </a:lnTo>
                    <a:cubicBezTo>
                      <a:pt x="6702" y="1"/>
                      <a:pt x="6703" y="2"/>
                      <a:pt x="6703" y="3"/>
                    </a:cubicBezTo>
                    <a:cubicBezTo>
                      <a:pt x="6703" y="5"/>
                      <a:pt x="6702" y="5"/>
                      <a:pt x="6701" y="5"/>
                    </a:cubicBezTo>
                    <a:lnTo>
                      <a:pt x="6701" y="5"/>
                    </a:lnTo>
                    <a:cubicBezTo>
                      <a:pt x="6700" y="5"/>
                      <a:pt x="6699" y="5"/>
                      <a:pt x="6699" y="3"/>
                    </a:cubicBezTo>
                    <a:cubicBezTo>
                      <a:pt x="6699" y="2"/>
                      <a:pt x="6700" y="1"/>
                      <a:pt x="6701" y="1"/>
                    </a:cubicBezTo>
                    <a:close/>
                    <a:moveTo>
                      <a:pt x="6709" y="1"/>
                    </a:moveTo>
                    <a:lnTo>
                      <a:pt x="6709" y="1"/>
                    </a:lnTo>
                    <a:cubicBezTo>
                      <a:pt x="6710" y="1"/>
                      <a:pt x="6711" y="2"/>
                      <a:pt x="6711" y="3"/>
                    </a:cubicBezTo>
                    <a:cubicBezTo>
                      <a:pt x="6711" y="5"/>
                      <a:pt x="6710" y="5"/>
                      <a:pt x="6709" y="5"/>
                    </a:cubicBezTo>
                    <a:lnTo>
                      <a:pt x="6709" y="5"/>
                    </a:lnTo>
                    <a:cubicBezTo>
                      <a:pt x="6708" y="5"/>
                      <a:pt x="6707" y="5"/>
                      <a:pt x="6707" y="3"/>
                    </a:cubicBezTo>
                    <a:cubicBezTo>
                      <a:pt x="6707" y="2"/>
                      <a:pt x="6708" y="1"/>
                      <a:pt x="6709" y="1"/>
                    </a:cubicBezTo>
                    <a:close/>
                    <a:moveTo>
                      <a:pt x="6717" y="1"/>
                    </a:moveTo>
                    <a:lnTo>
                      <a:pt x="6717" y="1"/>
                    </a:lnTo>
                    <a:cubicBezTo>
                      <a:pt x="6718" y="1"/>
                      <a:pt x="6719" y="2"/>
                      <a:pt x="6719" y="3"/>
                    </a:cubicBezTo>
                    <a:cubicBezTo>
                      <a:pt x="6719" y="5"/>
                      <a:pt x="6718" y="5"/>
                      <a:pt x="6717" y="5"/>
                    </a:cubicBezTo>
                    <a:lnTo>
                      <a:pt x="6717" y="5"/>
                    </a:lnTo>
                    <a:cubicBezTo>
                      <a:pt x="6716" y="5"/>
                      <a:pt x="6715" y="5"/>
                      <a:pt x="6715" y="3"/>
                    </a:cubicBezTo>
                    <a:cubicBezTo>
                      <a:pt x="6715" y="2"/>
                      <a:pt x="6716" y="1"/>
                      <a:pt x="6717" y="1"/>
                    </a:cubicBezTo>
                    <a:close/>
                    <a:moveTo>
                      <a:pt x="6725" y="1"/>
                    </a:moveTo>
                    <a:lnTo>
                      <a:pt x="6725" y="1"/>
                    </a:lnTo>
                    <a:cubicBezTo>
                      <a:pt x="6726" y="1"/>
                      <a:pt x="6727" y="2"/>
                      <a:pt x="6727" y="3"/>
                    </a:cubicBezTo>
                    <a:cubicBezTo>
                      <a:pt x="6727" y="5"/>
                      <a:pt x="6726" y="5"/>
                      <a:pt x="6725" y="5"/>
                    </a:cubicBezTo>
                    <a:lnTo>
                      <a:pt x="6725" y="5"/>
                    </a:lnTo>
                    <a:cubicBezTo>
                      <a:pt x="6724" y="5"/>
                      <a:pt x="6723" y="5"/>
                      <a:pt x="6723" y="3"/>
                    </a:cubicBezTo>
                    <a:cubicBezTo>
                      <a:pt x="6723" y="2"/>
                      <a:pt x="6724" y="1"/>
                      <a:pt x="6725" y="1"/>
                    </a:cubicBezTo>
                    <a:close/>
                    <a:moveTo>
                      <a:pt x="6733" y="1"/>
                    </a:moveTo>
                    <a:lnTo>
                      <a:pt x="6733" y="1"/>
                    </a:lnTo>
                    <a:cubicBezTo>
                      <a:pt x="6734" y="1"/>
                      <a:pt x="6735" y="2"/>
                      <a:pt x="6735" y="3"/>
                    </a:cubicBezTo>
                    <a:cubicBezTo>
                      <a:pt x="6735" y="5"/>
                      <a:pt x="6734" y="5"/>
                      <a:pt x="6733" y="5"/>
                    </a:cubicBezTo>
                    <a:lnTo>
                      <a:pt x="6733" y="5"/>
                    </a:lnTo>
                    <a:cubicBezTo>
                      <a:pt x="6732" y="5"/>
                      <a:pt x="6731" y="5"/>
                      <a:pt x="6731" y="3"/>
                    </a:cubicBezTo>
                    <a:cubicBezTo>
                      <a:pt x="6731" y="2"/>
                      <a:pt x="6732" y="1"/>
                      <a:pt x="6733" y="1"/>
                    </a:cubicBezTo>
                    <a:close/>
                    <a:moveTo>
                      <a:pt x="6741" y="1"/>
                    </a:moveTo>
                    <a:lnTo>
                      <a:pt x="6741" y="1"/>
                    </a:lnTo>
                    <a:cubicBezTo>
                      <a:pt x="6742" y="1"/>
                      <a:pt x="6743" y="2"/>
                      <a:pt x="6743" y="3"/>
                    </a:cubicBezTo>
                    <a:cubicBezTo>
                      <a:pt x="6743" y="5"/>
                      <a:pt x="6742" y="5"/>
                      <a:pt x="6741" y="5"/>
                    </a:cubicBezTo>
                    <a:lnTo>
                      <a:pt x="6741" y="5"/>
                    </a:lnTo>
                    <a:cubicBezTo>
                      <a:pt x="6740" y="5"/>
                      <a:pt x="6739" y="5"/>
                      <a:pt x="6739" y="3"/>
                    </a:cubicBezTo>
                    <a:cubicBezTo>
                      <a:pt x="6739" y="2"/>
                      <a:pt x="6740" y="1"/>
                      <a:pt x="6741" y="1"/>
                    </a:cubicBezTo>
                    <a:close/>
                    <a:moveTo>
                      <a:pt x="6749" y="1"/>
                    </a:moveTo>
                    <a:lnTo>
                      <a:pt x="6749" y="1"/>
                    </a:lnTo>
                    <a:cubicBezTo>
                      <a:pt x="6750" y="1"/>
                      <a:pt x="6751" y="2"/>
                      <a:pt x="6751" y="3"/>
                    </a:cubicBezTo>
                    <a:cubicBezTo>
                      <a:pt x="6751" y="5"/>
                      <a:pt x="6750" y="5"/>
                      <a:pt x="6749" y="5"/>
                    </a:cubicBezTo>
                    <a:lnTo>
                      <a:pt x="6749" y="5"/>
                    </a:lnTo>
                    <a:cubicBezTo>
                      <a:pt x="6748" y="5"/>
                      <a:pt x="6747" y="5"/>
                      <a:pt x="6747" y="3"/>
                    </a:cubicBezTo>
                    <a:cubicBezTo>
                      <a:pt x="6747" y="2"/>
                      <a:pt x="6748" y="1"/>
                      <a:pt x="6749" y="1"/>
                    </a:cubicBezTo>
                    <a:close/>
                    <a:moveTo>
                      <a:pt x="6757" y="1"/>
                    </a:moveTo>
                    <a:lnTo>
                      <a:pt x="6757" y="1"/>
                    </a:lnTo>
                    <a:cubicBezTo>
                      <a:pt x="6758" y="1"/>
                      <a:pt x="6759" y="2"/>
                      <a:pt x="6759" y="3"/>
                    </a:cubicBezTo>
                    <a:cubicBezTo>
                      <a:pt x="6759" y="5"/>
                      <a:pt x="6758" y="5"/>
                      <a:pt x="6757" y="5"/>
                    </a:cubicBezTo>
                    <a:lnTo>
                      <a:pt x="6757" y="5"/>
                    </a:lnTo>
                    <a:cubicBezTo>
                      <a:pt x="6756" y="5"/>
                      <a:pt x="6755" y="5"/>
                      <a:pt x="6755" y="3"/>
                    </a:cubicBezTo>
                    <a:cubicBezTo>
                      <a:pt x="6755" y="2"/>
                      <a:pt x="6756" y="1"/>
                      <a:pt x="6757" y="1"/>
                    </a:cubicBezTo>
                    <a:close/>
                    <a:moveTo>
                      <a:pt x="6765" y="1"/>
                    </a:moveTo>
                    <a:lnTo>
                      <a:pt x="6765" y="1"/>
                    </a:lnTo>
                    <a:cubicBezTo>
                      <a:pt x="6766" y="1"/>
                      <a:pt x="6767" y="2"/>
                      <a:pt x="6767" y="3"/>
                    </a:cubicBezTo>
                    <a:cubicBezTo>
                      <a:pt x="6767" y="5"/>
                      <a:pt x="6766" y="5"/>
                      <a:pt x="6765" y="5"/>
                    </a:cubicBezTo>
                    <a:lnTo>
                      <a:pt x="6765" y="5"/>
                    </a:lnTo>
                    <a:cubicBezTo>
                      <a:pt x="6764" y="5"/>
                      <a:pt x="6763" y="5"/>
                      <a:pt x="6763" y="3"/>
                    </a:cubicBezTo>
                    <a:cubicBezTo>
                      <a:pt x="6763" y="2"/>
                      <a:pt x="6764" y="1"/>
                      <a:pt x="6765" y="1"/>
                    </a:cubicBezTo>
                    <a:close/>
                    <a:moveTo>
                      <a:pt x="6773" y="1"/>
                    </a:moveTo>
                    <a:lnTo>
                      <a:pt x="6773" y="1"/>
                    </a:lnTo>
                    <a:cubicBezTo>
                      <a:pt x="6774" y="1"/>
                      <a:pt x="6775" y="2"/>
                      <a:pt x="6775" y="3"/>
                    </a:cubicBezTo>
                    <a:cubicBezTo>
                      <a:pt x="6775" y="5"/>
                      <a:pt x="6774" y="5"/>
                      <a:pt x="6773" y="5"/>
                    </a:cubicBezTo>
                    <a:lnTo>
                      <a:pt x="6773" y="5"/>
                    </a:lnTo>
                    <a:cubicBezTo>
                      <a:pt x="6772" y="5"/>
                      <a:pt x="6771" y="5"/>
                      <a:pt x="6771" y="3"/>
                    </a:cubicBezTo>
                    <a:cubicBezTo>
                      <a:pt x="6771" y="2"/>
                      <a:pt x="6772" y="1"/>
                      <a:pt x="6773" y="1"/>
                    </a:cubicBezTo>
                    <a:close/>
                    <a:moveTo>
                      <a:pt x="6781" y="1"/>
                    </a:moveTo>
                    <a:lnTo>
                      <a:pt x="6781" y="1"/>
                    </a:lnTo>
                    <a:cubicBezTo>
                      <a:pt x="6782" y="1"/>
                      <a:pt x="6783" y="2"/>
                      <a:pt x="6783" y="3"/>
                    </a:cubicBezTo>
                    <a:cubicBezTo>
                      <a:pt x="6783" y="5"/>
                      <a:pt x="6782" y="5"/>
                      <a:pt x="6781" y="5"/>
                    </a:cubicBezTo>
                    <a:lnTo>
                      <a:pt x="6781" y="5"/>
                    </a:lnTo>
                    <a:cubicBezTo>
                      <a:pt x="6780" y="5"/>
                      <a:pt x="6779" y="5"/>
                      <a:pt x="6779" y="3"/>
                    </a:cubicBezTo>
                    <a:cubicBezTo>
                      <a:pt x="6779" y="2"/>
                      <a:pt x="6780" y="1"/>
                      <a:pt x="6781" y="1"/>
                    </a:cubicBezTo>
                    <a:close/>
                    <a:moveTo>
                      <a:pt x="6789" y="1"/>
                    </a:moveTo>
                    <a:lnTo>
                      <a:pt x="6789" y="1"/>
                    </a:lnTo>
                    <a:cubicBezTo>
                      <a:pt x="6790" y="1"/>
                      <a:pt x="6791" y="2"/>
                      <a:pt x="6791" y="3"/>
                    </a:cubicBezTo>
                    <a:cubicBezTo>
                      <a:pt x="6791" y="5"/>
                      <a:pt x="6790" y="5"/>
                      <a:pt x="6789" y="5"/>
                    </a:cubicBezTo>
                    <a:lnTo>
                      <a:pt x="6789" y="5"/>
                    </a:lnTo>
                    <a:cubicBezTo>
                      <a:pt x="6788" y="5"/>
                      <a:pt x="6787" y="5"/>
                      <a:pt x="6787" y="3"/>
                    </a:cubicBezTo>
                    <a:cubicBezTo>
                      <a:pt x="6787" y="2"/>
                      <a:pt x="6788" y="1"/>
                      <a:pt x="6789" y="1"/>
                    </a:cubicBezTo>
                    <a:close/>
                    <a:moveTo>
                      <a:pt x="6797" y="1"/>
                    </a:moveTo>
                    <a:lnTo>
                      <a:pt x="6797" y="1"/>
                    </a:lnTo>
                    <a:cubicBezTo>
                      <a:pt x="6798" y="1"/>
                      <a:pt x="6799" y="2"/>
                      <a:pt x="6799" y="3"/>
                    </a:cubicBezTo>
                    <a:cubicBezTo>
                      <a:pt x="6799" y="5"/>
                      <a:pt x="6798" y="5"/>
                      <a:pt x="6797" y="5"/>
                    </a:cubicBezTo>
                    <a:lnTo>
                      <a:pt x="6797" y="5"/>
                    </a:lnTo>
                    <a:cubicBezTo>
                      <a:pt x="6796" y="5"/>
                      <a:pt x="6795" y="5"/>
                      <a:pt x="6795" y="3"/>
                    </a:cubicBezTo>
                    <a:cubicBezTo>
                      <a:pt x="6795" y="2"/>
                      <a:pt x="6796" y="1"/>
                      <a:pt x="6797" y="1"/>
                    </a:cubicBezTo>
                    <a:close/>
                    <a:moveTo>
                      <a:pt x="6805" y="1"/>
                    </a:moveTo>
                    <a:lnTo>
                      <a:pt x="6805" y="1"/>
                    </a:lnTo>
                    <a:cubicBezTo>
                      <a:pt x="6806" y="1"/>
                      <a:pt x="6807" y="2"/>
                      <a:pt x="6807" y="3"/>
                    </a:cubicBezTo>
                    <a:cubicBezTo>
                      <a:pt x="6807" y="5"/>
                      <a:pt x="6806" y="5"/>
                      <a:pt x="6805" y="5"/>
                    </a:cubicBezTo>
                    <a:lnTo>
                      <a:pt x="6805" y="5"/>
                    </a:lnTo>
                    <a:cubicBezTo>
                      <a:pt x="6804" y="5"/>
                      <a:pt x="6803" y="5"/>
                      <a:pt x="6803" y="3"/>
                    </a:cubicBezTo>
                    <a:cubicBezTo>
                      <a:pt x="6803" y="2"/>
                      <a:pt x="6804" y="1"/>
                      <a:pt x="6805" y="1"/>
                    </a:cubicBezTo>
                    <a:close/>
                    <a:moveTo>
                      <a:pt x="6813" y="1"/>
                    </a:moveTo>
                    <a:lnTo>
                      <a:pt x="6813" y="1"/>
                    </a:lnTo>
                    <a:cubicBezTo>
                      <a:pt x="6814" y="1"/>
                      <a:pt x="6815" y="2"/>
                      <a:pt x="6815" y="3"/>
                    </a:cubicBezTo>
                    <a:cubicBezTo>
                      <a:pt x="6815" y="5"/>
                      <a:pt x="6814" y="5"/>
                      <a:pt x="6813" y="5"/>
                    </a:cubicBezTo>
                    <a:lnTo>
                      <a:pt x="6813" y="5"/>
                    </a:lnTo>
                    <a:cubicBezTo>
                      <a:pt x="6812" y="5"/>
                      <a:pt x="6811" y="5"/>
                      <a:pt x="6811" y="3"/>
                    </a:cubicBezTo>
                    <a:cubicBezTo>
                      <a:pt x="6811" y="2"/>
                      <a:pt x="6812" y="1"/>
                      <a:pt x="6813" y="1"/>
                    </a:cubicBezTo>
                    <a:close/>
                    <a:moveTo>
                      <a:pt x="6821" y="1"/>
                    </a:moveTo>
                    <a:lnTo>
                      <a:pt x="6821" y="1"/>
                    </a:lnTo>
                    <a:cubicBezTo>
                      <a:pt x="6822" y="1"/>
                      <a:pt x="6823" y="2"/>
                      <a:pt x="6823" y="3"/>
                    </a:cubicBezTo>
                    <a:cubicBezTo>
                      <a:pt x="6823" y="5"/>
                      <a:pt x="6822" y="5"/>
                      <a:pt x="6821" y="5"/>
                    </a:cubicBezTo>
                    <a:lnTo>
                      <a:pt x="6821" y="5"/>
                    </a:lnTo>
                    <a:cubicBezTo>
                      <a:pt x="6820" y="5"/>
                      <a:pt x="6819" y="5"/>
                      <a:pt x="6819" y="3"/>
                    </a:cubicBezTo>
                    <a:cubicBezTo>
                      <a:pt x="6819" y="2"/>
                      <a:pt x="6820" y="1"/>
                      <a:pt x="6821" y="1"/>
                    </a:cubicBezTo>
                    <a:close/>
                    <a:moveTo>
                      <a:pt x="6829" y="1"/>
                    </a:moveTo>
                    <a:lnTo>
                      <a:pt x="6829" y="1"/>
                    </a:lnTo>
                    <a:cubicBezTo>
                      <a:pt x="6830" y="1"/>
                      <a:pt x="6831" y="2"/>
                      <a:pt x="6831" y="3"/>
                    </a:cubicBezTo>
                    <a:cubicBezTo>
                      <a:pt x="6831" y="5"/>
                      <a:pt x="6830" y="5"/>
                      <a:pt x="6829" y="5"/>
                    </a:cubicBezTo>
                    <a:lnTo>
                      <a:pt x="6829" y="5"/>
                    </a:lnTo>
                    <a:cubicBezTo>
                      <a:pt x="6828" y="5"/>
                      <a:pt x="6827" y="5"/>
                      <a:pt x="6827" y="3"/>
                    </a:cubicBezTo>
                    <a:cubicBezTo>
                      <a:pt x="6827" y="2"/>
                      <a:pt x="6828" y="1"/>
                      <a:pt x="6829" y="1"/>
                    </a:cubicBezTo>
                    <a:close/>
                    <a:moveTo>
                      <a:pt x="6837" y="1"/>
                    </a:moveTo>
                    <a:lnTo>
                      <a:pt x="6837" y="1"/>
                    </a:lnTo>
                    <a:cubicBezTo>
                      <a:pt x="6838" y="1"/>
                      <a:pt x="6839" y="2"/>
                      <a:pt x="6839" y="3"/>
                    </a:cubicBezTo>
                    <a:cubicBezTo>
                      <a:pt x="6839" y="5"/>
                      <a:pt x="6838" y="5"/>
                      <a:pt x="6837" y="5"/>
                    </a:cubicBezTo>
                    <a:lnTo>
                      <a:pt x="6837" y="5"/>
                    </a:lnTo>
                    <a:cubicBezTo>
                      <a:pt x="6836" y="5"/>
                      <a:pt x="6835" y="5"/>
                      <a:pt x="6835" y="3"/>
                    </a:cubicBezTo>
                    <a:cubicBezTo>
                      <a:pt x="6835" y="2"/>
                      <a:pt x="6836" y="1"/>
                      <a:pt x="6837" y="1"/>
                    </a:cubicBezTo>
                    <a:close/>
                    <a:moveTo>
                      <a:pt x="6845" y="1"/>
                    </a:moveTo>
                    <a:lnTo>
                      <a:pt x="6845" y="1"/>
                    </a:lnTo>
                    <a:cubicBezTo>
                      <a:pt x="6846" y="1"/>
                      <a:pt x="6847" y="2"/>
                      <a:pt x="6847" y="3"/>
                    </a:cubicBezTo>
                    <a:cubicBezTo>
                      <a:pt x="6847" y="5"/>
                      <a:pt x="6846" y="5"/>
                      <a:pt x="6845" y="5"/>
                    </a:cubicBezTo>
                    <a:lnTo>
                      <a:pt x="6845" y="5"/>
                    </a:lnTo>
                    <a:cubicBezTo>
                      <a:pt x="6844" y="5"/>
                      <a:pt x="6843" y="5"/>
                      <a:pt x="6843" y="3"/>
                    </a:cubicBezTo>
                    <a:cubicBezTo>
                      <a:pt x="6843" y="2"/>
                      <a:pt x="6844" y="1"/>
                      <a:pt x="6845" y="1"/>
                    </a:cubicBezTo>
                    <a:close/>
                    <a:moveTo>
                      <a:pt x="6853" y="1"/>
                    </a:moveTo>
                    <a:lnTo>
                      <a:pt x="6853" y="1"/>
                    </a:lnTo>
                    <a:cubicBezTo>
                      <a:pt x="6854" y="1"/>
                      <a:pt x="6855" y="2"/>
                      <a:pt x="6855" y="3"/>
                    </a:cubicBezTo>
                    <a:cubicBezTo>
                      <a:pt x="6855" y="5"/>
                      <a:pt x="6854" y="5"/>
                      <a:pt x="6853" y="5"/>
                    </a:cubicBezTo>
                    <a:lnTo>
                      <a:pt x="6853" y="5"/>
                    </a:lnTo>
                    <a:cubicBezTo>
                      <a:pt x="6852" y="5"/>
                      <a:pt x="6851" y="5"/>
                      <a:pt x="6851" y="3"/>
                    </a:cubicBezTo>
                    <a:cubicBezTo>
                      <a:pt x="6851" y="2"/>
                      <a:pt x="6852" y="1"/>
                      <a:pt x="6853" y="1"/>
                    </a:cubicBezTo>
                    <a:close/>
                    <a:moveTo>
                      <a:pt x="6861" y="1"/>
                    </a:moveTo>
                    <a:lnTo>
                      <a:pt x="6861" y="1"/>
                    </a:lnTo>
                    <a:cubicBezTo>
                      <a:pt x="6862" y="1"/>
                      <a:pt x="6863" y="2"/>
                      <a:pt x="6863" y="3"/>
                    </a:cubicBezTo>
                    <a:cubicBezTo>
                      <a:pt x="6863" y="5"/>
                      <a:pt x="6862" y="5"/>
                      <a:pt x="6861" y="5"/>
                    </a:cubicBezTo>
                    <a:lnTo>
                      <a:pt x="6861" y="5"/>
                    </a:lnTo>
                    <a:cubicBezTo>
                      <a:pt x="6860" y="5"/>
                      <a:pt x="6859" y="5"/>
                      <a:pt x="6859" y="3"/>
                    </a:cubicBezTo>
                    <a:cubicBezTo>
                      <a:pt x="6859" y="2"/>
                      <a:pt x="6860" y="1"/>
                      <a:pt x="6861" y="1"/>
                    </a:cubicBezTo>
                    <a:close/>
                    <a:moveTo>
                      <a:pt x="6869" y="1"/>
                    </a:moveTo>
                    <a:lnTo>
                      <a:pt x="6869" y="1"/>
                    </a:lnTo>
                    <a:cubicBezTo>
                      <a:pt x="6870" y="1"/>
                      <a:pt x="6871" y="2"/>
                      <a:pt x="6871" y="3"/>
                    </a:cubicBezTo>
                    <a:cubicBezTo>
                      <a:pt x="6871" y="5"/>
                      <a:pt x="6870" y="5"/>
                      <a:pt x="6869" y="5"/>
                    </a:cubicBezTo>
                    <a:lnTo>
                      <a:pt x="6869" y="5"/>
                    </a:lnTo>
                    <a:cubicBezTo>
                      <a:pt x="6868" y="5"/>
                      <a:pt x="6867" y="5"/>
                      <a:pt x="6867" y="3"/>
                    </a:cubicBezTo>
                    <a:cubicBezTo>
                      <a:pt x="6867" y="2"/>
                      <a:pt x="6868" y="1"/>
                      <a:pt x="6869" y="1"/>
                    </a:cubicBezTo>
                    <a:close/>
                    <a:moveTo>
                      <a:pt x="6877" y="1"/>
                    </a:moveTo>
                    <a:lnTo>
                      <a:pt x="6877" y="1"/>
                    </a:lnTo>
                    <a:cubicBezTo>
                      <a:pt x="6878" y="1"/>
                      <a:pt x="6879" y="2"/>
                      <a:pt x="6879" y="3"/>
                    </a:cubicBezTo>
                    <a:cubicBezTo>
                      <a:pt x="6879" y="5"/>
                      <a:pt x="6878" y="5"/>
                      <a:pt x="6877" y="5"/>
                    </a:cubicBezTo>
                    <a:lnTo>
                      <a:pt x="6877" y="5"/>
                    </a:lnTo>
                    <a:cubicBezTo>
                      <a:pt x="6876" y="5"/>
                      <a:pt x="6875" y="5"/>
                      <a:pt x="6875" y="3"/>
                    </a:cubicBezTo>
                    <a:cubicBezTo>
                      <a:pt x="6875" y="2"/>
                      <a:pt x="6876" y="1"/>
                      <a:pt x="6877" y="1"/>
                    </a:cubicBezTo>
                    <a:close/>
                    <a:moveTo>
                      <a:pt x="6885" y="1"/>
                    </a:moveTo>
                    <a:lnTo>
                      <a:pt x="6885" y="1"/>
                    </a:lnTo>
                    <a:cubicBezTo>
                      <a:pt x="6886" y="1"/>
                      <a:pt x="6887" y="2"/>
                      <a:pt x="6887" y="3"/>
                    </a:cubicBezTo>
                    <a:cubicBezTo>
                      <a:pt x="6887" y="5"/>
                      <a:pt x="6886" y="5"/>
                      <a:pt x="6885" y="5"/>
                    </a:cubicBezTo>
                    <a:lnTo>
                      <a:pt x="6885" y="5"/>
                    </a:lnTo>
                    <a:cubicBezTo>
                      <a:pt x="6884" y="5"/>
                      <a:pt x="6883" y="5"/>
                      <a:pt x="6883" y="3"/>
                    </a:cubicBezTo>
                    <a:cubicBezTo>
                      <a:pt x="6883" y="2"/>
                      <a:pt x="6884" y="1"/>
                      <a:pt x="6885" y="1"/>
                    </a:cubicBezTo>
                    <a:close/>
                    <a:moveTo>
                      <a:pt x="6893" y="1"/>
                    </a:moveTo>
                    <a:lnTo>
                      <a:pt x="6893" y="1"/>
                    </a:lnTo>
                    <a:cubicBezTo>
                      <a:pt x="6894" y="1"/>
                      <a:pt x="6895" y="2"/>
                      <a:pt x="6895" y="3"/>
                    </a:cubicBezTo>
                    <a:cubicBezTo>
                      <a:pt x="6895" y="5"/>
                      <a:pt x="6894" y="5"/>
                      <a:pt x="6893" y="5"/>
                    </a:cubicBezTo>
                    <a:lnTo>
                      <a:pt x="6893" y="5"/>
                    </a:lnTo>
                    <a:cubicBezTo>
                      <a:pt x="6892" y="5"/>
                      <a:pt x="6891" y="5"/>
                      <a:pt x="6891" y="3"/>
                    </a:cubicBezTo>
                    <a:cubicBezTo>
                      <a:pt x="6891" y="2"/>
                      <a:pt x="6892" y="1"/>
                      <a:pt x="6893" y="1"/>
                    </a:cubicBezTo>
                    <a:close/>
                    <a:moveTo>
                      <a:pt x="6901" y="1"/>
                    </a:moveTo>
                    <a:lnTo>
                      <a:pt x="6901" y="1"/>
                    </a:lnTo>
                    <a:cubicBezTo>
                      <a:pt x="6902" y="1"/>
                      <a:pt x="6903" y="2"/>
                      <a:pt x="6903" y="3"/>
                    </a:cubicBezTo>
                    <a:cubicBezTo>
                      <a:pt x="6903" y="5"/>
                      <a:pt x="6902" y="5"/>
                      <a:pt x="6901" y="5"/>
                    </a:cubicBezTo>
                    <a:lnTo>
                      <a:pt x="6901" y="5"/>
                    </a:lnTo>
                    <a:cubicBezTo>
                      <a:pt x="6900" y="5"/>
                      <a:pt x="6899" y="5"/>
                      <a:pt x="6899" y="3"/>
                    </a:cubicBezTo>
                    <a:cubicBezTo>
                      <a:pt x="6899" y="2"/>
                      <a:pt x="6900" y="1"/>
                      <a:pt x="6901" y="1"/>
                    </a:cubicBezTo>
                    <a:close/>
                    <a:moveTo>
                      <a:pt x="6909" y="1"/>
                    </a:moveTo>
                    <a:lnTo>
                      <a:pt x="6909" y="1"/>
                    </a:lnTo>
                    <a:cubicBezTo>
                      <a:pt x="6910" y="1"/>
                      <a:pt x="6911" y="2"/>
                      <a:pt x="6911" y="3"/>
                    </a:cubicBezTo>
                    <a:cubicBezTo>
                      <a:pt x="6911" y="5"/>
                      <a:pt x="6910" y="5"/>
                      <a:pt x="6909" y="5"/>
                    </a:cubicBezTo>
                    <a:lnTo>
                      <a:pt x="6909" y="5"/>
                    </a:lnTo>
                    <a:cubicBezTo>
                      <a:pt x="6908" y="5"/>
                      <a:pt x="6907" y="5"/>
                      <a:pt x="6907" y="3"/>
                    </a:cubicBezTo>
                    <a:cubicBezTo>
                      <a:pt x="6907" y="2"/>
                      <a:pt x="6908" y="1"/>
                      <a:pt x="6909" y="1"/>
                    </a:cubicBezTo>
                    <a:close/>
                    <a:moveTo>
                      <a:pt x="6917" y="1"/>
                    </a:moveTo>
                    <a:lnTo>
                      <a:pt x="6917" y="1"/>
                    </a:lnTo>
                    <a:cubicBezTo>
                      <a:pt x="6918" y="1"/>
                      <a:pt x="6919" y="2"/>
                      <a:pt x="6919" y="3"/>
                    </a:cubicBezTo>
                    <a:cubicBezTo>
                      <a:pt x="6919" y="5"/>
                      <a:pt x="6918" y="5"/>
                      <a:pt x="6917" y="5"/>
                    </a:cubicBezTo>
                    <a:lnTo>
                      <a:pt x="6917" y="5"/>
                    </a:lnTo>
                    <a:cubicBezTo>
                      <a:pt x="6916" y="5"/>
                      <a:pt x="6915" y="5"/>
                      <a:pt x="6915" y="3"/>
                    </a:cubicBezTo>
                    <a:cubicBezTo>
                      <a:pt x="6915" y="2"/>
                      <a:pt x="6916" y="1"/>
                      <a:pt x="6917" y="1"/>
                    </a:cubicBezTo>
                    <a:close/>
                    <a:moveTo>
                      <a:pt x="6925" y="1"/>
                    </a:moveTo>
                    <a:lnTo>
                      <a:pt x="6925" y="1"/>
                    </a:lnTo>
                    <a:cubicBezTo>
                      <a:pt x="6926" y="1"/>
                      <a:pt x="6927" y="2"/>
                      <a:pt x="6927" y="3"/>
                    </a:cubicBezTo>
                    <a:cubicBezTo>
                      <a:pt x="6927" y="5"/>
                      <a:pt x="6926" y="5"/>
                      <a:pt x="6925" y="5"/>
                    </a:cubicBezTo>
                    <a:lnTo>
                      <a:pt x="6925" y="5"/>
                    </a:lnTo>
                    <a:cubicBezTo>
                      <a:pt x="6924" y="5"/>
                      <a:pt x="6923" y="5"/>
                      <a:pt x="6923" y="3"/>
                    </a:cubicBezTo>
                    <a:cubicBezTo>
                      <a:pt x="6923" y="2"/>
                      <a:pt x="6924" y="1"/>
                      <a:pt x="6925" y="1"/>
                    </a:cubicBezTo>
                    <a:close/>
                    <a:moveTo>
                      <a:pt x="6933" y="1"/>
                    </a:moveTo>
                    <a:lnTo>
                      <a:pt x="6933" y="1"/>
                    </a:lnTo>
                    <a:cubicBezTo>
                      <a:pt x="6934" y="1"/>
                      <a:pt x="6935" y="2"/>
                      <a:pt x="6935" y="3"/>
                    </a:cubicBezTo>
                    <a:cubicBezTo>
                      <a:pt x="6935" y="5"/>
                      <a:pt x="6934" y="5"/>
                      <a:pt x="6933" y="5"/>
                    </a:cubicBezTo>
                    <a:lnTo>
                      <a:pt x="6933" y="5"/>
                    </a:lnTo>
                    <a:cubicBezTo>
                      <a:pt x="6932" y="5"/>
                      <a:pt x="6931" y="5"/>
                      <a:pt x="6931" y="3"/>
                    </a:cubicBezTo>
                    <a:cubicBezTo>
                      <a:pt x="6931" y="2"/>
                      <a:pt x="6932" y="1"/>
                      <a:pt x="6933" y="1"/>
                    </a:cubicBezTo>
                    <a:close/>
                    <a:moveTo>
                      <a:pt x="6941" y="1"/>
                    </a:moveTo>
                    <a:lnTo>
                      <a:pt x="6941" y="1"/>
                    </a:lnTo>
                    <a:cubicBezTo>
                      <a:pt x="6942" y="1"/>
                      <a:pt x="6943" y="2"/>
                      <a:pt x="6943" y="3"/>
                    </a:cubicBezTo>
                    <a:cubicBezTo>
                      <a:pt x="6943" y="5"/>
                      <a:pt x="6942" y="5"/>
                      <a:pt x="6941" y="5"/>
                    </a:cubicBezTo>
                    <a:lnTo>
                      <a:pt x="6941" y="5"/>
                    </a:lnTo>
                    <a:cubicBezTo>
                      <a:pt x="6940" y="5"/>
                      <a:pt x="6939" y="5"/>
                      <a:pt x="6939" y="3"/>
                    </a:cubicBezTo>
                    <a:cubicBezTo>
                      <a:pt x="6939" y="2"/>
                      <a:pt x="6940" y="1"/>
                      <a:pt x="6941" y="1"/>
                    </a:cubicBezTo>
                    <a:close/>
                    <a:moveTo>
                      <a:pt x="6949" y="1"/>
                    </a:moveTo>
                    <a:lnTo>
                      <a:pt x="6949" y="1"/>
                    </a:lnTo>
                    <a:cubicBezTo>
                      <a:pt x="6950" y="1"/>
                      <a:pt x="6951" y="2"/>
                      <a:pt x="6951" y="3"/>
                    </a:cubicBezTo>
                    <a:cubicBezTo>
                      <a:pt x="6951" y="5"/>
                      <a:pt x="6950" y="5"/>
                      <a:pt x="6949" y="5"/>
                    </a:cubicBezTo>
                    <a:lnTo>
                      <a:pt x="6949" y="5"/>
                    </a:lnTo>
                    <a:cubicBezTo>
                      <a:pt x="6948" y="5"/>
                      <a:pt x="6947" y="5"/>
                      <a:pt x="6947" y="3"/>
                    </a:cubicBezTo>
                    <a:cubicBezTo>
                      <a:pt x="6947" y="2"/>
                      <a:pt x="6948" y="1"/>
                      <a:pt x="6949" y="1"/>
                    </a:cubicBezTo>
                    <a:close/>
                    <a:moveTo>
                      <a:pt x="6957" y="1"/>
                    </a:moveTo>
                    <a:lnTo>
                      <a:pt x="6957" y="1"/>
                    </a:lnTo>
                    <a:cubicBezTo>
                      <a:pt x="6958" y="1"/>
                      <a:pt x="6959" y="2"/>
                      <a:pt x="6959" y="3"/>
                    </a:cubicBezTo>
                    <a:cubicBezTo>
                      <a:pt x="6959" y="5"/>
                      <a:pt x="6958" y="5"/>
                      <a:pt x="6957" y="5"/>
                    </a:cubicBezTo>
                    <a:lnTo>
                      <a:pt x="6957" y="5"/>
                    </a:lnTo>
                    <a:cubicBezTo>
                      <a:pt x="6956" y="5"/>
                      <a:pt x="6955" y="5"/>
                      <a:pt x="6955" y="3"/>
                    </a:cubicBezTo>
                    <a:cubicBezTo>
                      <a:pt x="6955" y="2"/>
                      <a:pt x="6956" y="1"/>
                      <a:pt x="6957" y="1"/>
                    </a:cubicBezTo>
                    <a:close/>
                    <a:moveTo>
                      <a:pt x="6965" y="1"/>
                    </a:moveTo>
                    <a:lnTo>
                      <a:pt x="6965" y="1"/>
                    </a:lnTo>
                    <a:cubicBezTo>
                      <a:pt x="6966" y="1"/>
                      <a:pt x="6967" y="2"/>
                      <a:pt x="6967" y="3"/>
                    </a:cubicBezTo>
                    <a:cubicBezTo>
                      <a:pt x="6967" y="5"/>
                      <a:pt x="6966" y="5"/>
                      <a:pt x="6965" y="5"/>
                    </a:cubicBezTo>
                    <a:lnTo>
                      <a:pt x="6965" y="5"/>
                    </a:lnTo>
                    <a:cubicBezTo>
                      <a:pt x="6964" y="5"/>
                      <a:pt x="6963" y="5"/>
                      <a:pt x="6963" y="3"/>
                    </a:cubicBezTo>
                    <a:cubicBezTo>
                      <a:pt x="6963" y="2"/>
                      <a:pt x="6964" y="1"/>
                      <a:pt x="6965" y="1"/>
                    </a:cubicBezTo>
                    <a:close/>
                    <a:moveTo>
                      <a:pt x="6973" y="1"/>
                    </a:moveTo>
                    <a:lnTo>
                      <a:pt x="6973" y="1"/>
                    </a:lnTo>
                    <a:cubicBezTo>
                      <a:pt x="6974" y="1"/>
                      <a:pt x="6975" y="2"/>
                      <a:pt x="6975" y="3"/>
                    </a:cubicBezTo>
                    <a:cubicBezTo>
                      <a:pt x="6975" y="5"/>
                      <a:pt x="6974" y="5"/>
                      <a:pt x="6973" y="5"/>
                    </a:cubicBezTo>
                    <a:lnTo>
                      <a:pt x="6973" y="5"/>
                    </a:lnTo>
                    <a:cubicBezTo>
                      <a:pt x="6972" y="5"/>
                      <a:pt x="6971" y="5"/>
                      <a:pt x="6971" y="3"/>
                    </a:cubicBezTo>
                    <a:cubicBezTo>
                      <a:pt x="6971" y="2"/>
                      <a:pt x="6972" y="1"/>
                      <a:pt x="6973" y="1"/>
                    </a:cubicBezTo>
                    <a:close/>
                    <a:moveTo>
                      <a:pt x="6981" y="1"/>
                    </a:moveTo>
                    <a:lnTo>
                      <a:pt x="6981" y="1"/>
                    </a:lnTo>
                    <a:cubicBezTo>
                      <a:pt x="6982" y="1"/>
                      <a:pt x="6983" y="2"/>
                      <a:pt x="6983" y="3"/>
                    </a:cubicBezTo>
                    <a:cubicBezTo>
                      <a:pt x="6983" y="5"/>
                      <a:pt x="6982" y="5"/>
                      <a:pt x="6981" y="5"/>
                    </a:cubicBezTo>
                    <a:lnTo>
                      <a:pt x="6981" y="5"/>
                    </a:lnTo>
                    <a:cubicBezTo>
                      <a:pt x="6980" y="5"/>
                      <a:pt x="6979" y="5"/>
                      <a:pt x="6979" y="3"/>
                    </a:cubicBezTo>
                    <a:cubicBezTo>
                      <a:pt x="6979" y="2"/>
                      <a:pt x="6980" y="1"/>
                      <a:pt x="6981" y="1"/>
                    </a:cubicBezTo>
                    <a:close/>
                    <a:moveTo>
                      <a:pt x="6989" y="1"/>
                    </a:moveTo>
                    <a:lnTo>
                      <a:pt x="6989" y="1"/>
                    </a:lnTo>
                    <a:cubicBezTo>
                      <a:pt x="6990" y="1"/>
                      <a:pt x="6991" y="2"/>
                      <a:pt x="6991" y="3"/>
                    </a:cubicBezTo>
                    <a:cubicBezTo>
                      <a:pt x="6991" y="5"/>
                      <a:pt x="6990" y="5"/>
                      <a:pt x="6989" y="5"/>
                    </a:cubicBezTo>
                    <a:lnTo>
                      <a:pt x="6989" y="5"/>
                    </a:lnTo>
                    <a:cubicBezTo>
                      <a:pt x="6988" y="5"/>
                      <a:pt x="6987" y="5"/>
                      <a:pt x="6987" y="3"/>
                    </a:cubicBezTo>
                    <a:cubicBezTo>
                      <a:pt x="6987" y="2"/>
                      <a:pt x="6988" y="1"/>
                      <a:pt x="6989" y="1"/>
                    </a:cubicBezTo>
                    <a:close/>
                    <a:moveTo>
                      <a:pt x="6997" y="1"/>
                    </a:moveTo>
                    <a:lnTo>
                      <a:pt x="6997" y="1"/>
                    </a:lnTo>
                    <a:cubicBezTo>
                      <a:pt x="6998" y="1"/>
                      <a:pt x="6999" y="2"/>
                      <a:pt x="6999" y="3"/>
                    </a:cubicBezTo>
                    <a:cubicBezTo>
                      <a:pt x="6999" y="5"/>
                      <a:pt x="6998" y="5"/>
                      <a:pt x="6997" y="5"/>
                    </a:cubicBezTo>
                    <a:lnTo>
                      <a:pt x="6997" y="5"/>
                    </a:lnTo>
                    <a:cubicBezTo>
                      <a:pt x="6996" y="5"/>
                      <a:pt x="6995" y="5"/>
                      <a:pt x="6995" y="3"/>
                    </a:cubicBezTo>
                    <a:cubicBezTo>
                      <a:pt x="6995" y="2"/>
                      <a:pt x="6996" y="1"/>
                      <a:pt x="6997" y="1"/>
                    </a:cubicBezTo>
                    <a:close/>
                    <a:moveTo>
                      <a:pt x="7005" y="1"/>
                    </a:moveTo>
                    <a:lnTo>
                      <a:pt x="7005" y="1"/>
                    </a:lnTo>
                    <a:cubicBezTo>
                      <a:pt x="7006" y="1"/>
                      <a:pt x="7007" y="2"/>
                      <a:pt x="7007" y="3"/>
                    </a:cubicBezTo>
                    <a:cubicBezTo>
                      <a:pt x="7007" y="5"/>
                      <a:pt x="7006" y="5"/>
                      <a:pt x="7005" y="5"/>
                    </a:cubicBezTo>
                    <a:lnTo>
                      <a:pt x="7005" y="5"/>
                    </a:lnTo>
                    <a:cubicBezTo>
                      <a:pt x="7004" y="5"/>
                      <a:pt x="7003" y="5"/>
                      <a:pt x="7003" y="3"/>
                    </a:cubicBezTo>
                    <a:cubicBezTo>
                      <a:pt x="7003" y="2"/>
                      <a:pt x="7004" y="1"/>
                      <a:pt x="7005" y="1"/>
                    </a:cubicBezTo>
                    <a:close/>
                    <a:moveTo>
                      <a:pt x="7013" y="1"/>
                    </a:moveTo>
                    <a:lnTo>
                      <a:pt x="7013" y="1"/>
                    </a:lnTo>
                    <a:cubicBezTo>
                      <a:pt x="7014" y="1"/>
                      <a:pt x="7015" y="2"/>
                      <a:pt x="7015" y="3"/>
                    </a:cubicBezTo>
                    <a:cubicBezTo>
                      <a:pt x="7015" y="5"/>
                      <a:pt x="7014" y="5"/>
                      <a:pt x="7013" y="5"/>
                    </a:cubicBezTo>
                    <a:lnTo>
                      <a:pt x="7013" y="5"/>
                    </a:lnTo>
                    <a:cubicBezTo>
                      <a:pt x="7012" y="5"/>
                      <a:pt x="7011" y="5"/>
                      <a:pt x="7011" y="3"/>
                    </a:cubicBezTo>
                    <a:cubicBezTo>
                      <a:pt x="7011" y="2"/>
                      <a:pt x="7012" y="1"/>
                      <a:pt x="7013" y="1"/>
                    </a:cubicBezTo>
                    <a:close/>
                    <a:moveTo>
                      <a:pt x="7021" y="1"/>
                    </a:moveTo>
                    <a:lnTo>
                      <a:pt x="7021" y="1"/>
                    </a:lnTo>
                    <a:cubicBezTo>
                      <a:pt x="7022" y="1"/>
                      <a:pt x="7023" y="2"/>
                      <a:pt x="7023" y="3"/>
                    </a:cubicBezTo>
                    <a:cubicBezTo>
                      <a:pt x="7023" y="5"/>
                      <a:pt x="7022" y="5"/>
                      <a:pt x="7021" y="5"/>
                    </a:cubicBezTo>
                    <a:lnTo>
                      <a:pt x="7021" y="5"/>
                    </a:lnTo>
                    <a:cubicBezTo>
                      <a:pt x="7020" y="5"/>
                      <a:pt x="7019" y="5"/>
                      <a:pt x="7019" y="3"/>
                    </a:cubicBezTo>
                    <a:cubicBezTo>
                      <a:pt x="7019" y="2"/>
                      <a:pt x="7020" y="1"/>
                      <a:pt x="7021" y="1"/>
                    </a:cubicBezTo>
                    <a:close/>
                    <a:moveTo>
                      <a:pt x="7029" y="1"/>
                    </a:moveTo>
                    <a:lnTo>
                      <a:pt x="7029" y="1"/>
                    </a:lnTo>
                    <a:cubicBezTo>
                      <a:pt x="7030" y="1"/>
                      <a:pt x="7031" y="2"/>
                      <a:pt x="7031" y="3"/>
                    </a:cubicBezTo>
                    <a:cubicBezTo>
                      <a:pt x="7031" y="5"/>
                      <a:pt x="7030" y="5"/>
                      <a:pt x="7029" y="5"/>
                    </a:cubicBezTo>
                    <a:lnTo>
                      <a:pt x="7029" y="5"/>
                    </a:lnTo>
                    <a:cubicBezTo>
                      <a:pt x="7028" y="5"/>
                      <a:pt x="7027" y="5"/>
                      <a:pt x="7027" y="3"/>
                    </a:cubicBezTo>
                    <a:cubicBezTo>
                      <a:pt x="7027" y="2"/>
                      <a:pt x="7028" y="1"/>
                      <a:pt x="7029" y="1"/>
                    </a:cubicBezTo>
                    <a:close/>
                    <a:moveTo>
                      <a:pt x="7037" y="1"/>
                    </a:moveTo>
                    <a:lnTo>
                      <a:pt x="7037" y="1"/>
                    </a:lnTo>
                    <a:cubicBezTo>
                      <a:pt x="7038" y="1"/>
                      <a:pt x="7039" y="2"/>
                      <a:pt x="7039" y="4"/>
                    </a:cubicBezTo>
                    <a:cubicBezTo>
                      <a:pt x="7039" y="5"/>
                      <a:pt x="7038" y="6"/>
                      <a:pt x="7037" y="6"/>
                    </a:cubicBezTo>
                    <a:lnTo>
                      <a:pt x="7037" y="6"/>
                    </a:lnTo>
                    <a:cubicBezTo>
                      <a:pt x="7036" y="6"/>
                      <a:pt x="7035" y="5"/>
                      <a:pt x="7035" y="4"/>
                    </a:cubicBezTo>
                    <a:cubicBezTo>
                      <a:pt x="7035" y="2"/>
                      <a:pt x="7036" y="1"/>
                      <a:pt x="7037" y="1"/>
                    </a:cubicBezTo>
                    <a:close/>
                    <a:moveTo>
                      <a:pt x="7045" y="2"/>
                    </a:moveTo>
                    <a:lnTo>
                      <a:pt x="7045" y="2"/>
                    </a:lnTo>
                    <a:cubicBezTo>
                      <a:pt x="7046" y="2"/>
                      <a:pt x="7047" y="2"/>
                      <a:pt x="7047" y="4"/>
                    </a:cubicBezTo>
                    <a:cubicBezTo>
                      <a:pt x="7047" y="5"/>
                      <a:pt x="7046" y="6"/>
                      <a:pt x="7045" y="6"/>
                    </a:cubicBezTo>
                    <a:lnTo>
                      <a:pt x="7045" y="6"/>
                    </a:lnTo>
                    <a:cubicBezTo>
                      <a:pt x="7044" y="6"/>
                      <a:pt x="7043" y="5"/>
                      <a:pt x="7043" y="4"/>
                    </a:cubicBezTo>
                    <a:cubicBezTo>
                      <a:pt x="7043" y="2"/>
                      <a:pt x="7044" y="2"/>
                      <a:pt x="7045" y="2"/>
                    </a:cubicBezTo>
                    <a:close/>
                    <a:moveTo>
                      <a:pt x="7053" y="2"/>
                    </a:moveTo>
                    <a:lnTo>
                      <a:pt x="7053" y="2"/>
                    </a:lnTo>
                    <a:cubicBezTo>
                      <a:pt x="7054" y="2"/>
                      <a:pt x="7055" y="2"/>
                      <a:pt x="7055" y="4"/>
                    </a:cubicBezTo>
                    <a:cubicBezTo>
                      <a:pt x="7055" y="5"/>
                      <a:pt x="7054" y="6"/>
                      <a:pt x="7053" y="6"/>
                    </a:cubicBezTo>
                    <a:lnTo>
                      <a:pt x="7053" y="6"/>
                    </a:lnTo>
                    <a:cubicBezTo>
                      <a:pt x="7052" y="6"/>
                      <a:pt x="7051" y="5"/>
                      <a:pt x="7051" y="4"/>
                    </a:cubicBezTo>
                    <a:cubicBezTo>
                      <a:pt x="7051" y="2"/>
                      <a:pt x="7052" y="2"/>
                      <a:pt x="7053" y="2"/>
                    </a:cubicBezTo>
                    <a:close/>
                    <a:moveTo>
                      <a:pt x="7061" y="2"/>
                    </a:moveTo>
                    <a:lnTo>
                      <a:pt x="7061" y="2"/>
                    </a:lnTo>
                    <a:cubicBezTo>
                      <a:pt x="7062" y="2"/>
                      <a:pt x="7063" y="2"/>
                      <a:pt x="7063" y="4"/>
                    </a:cubicBezTo>
                    <a:cubicBezTo>
                      <a:pt x="7063" y="5"/>
                      <a:pt x="7062" y="6"/>
                      <a:pt x="7061" y="6"/>
                    </a:cubicBezTo>
                    <a:lnTo>
                      <a:pt x="7061" y="6"/>
                    </a:lnTo>
                    <a:cubicBezTo>
                      <a:pt x="7060" y="6"/>
                      <a:pt x="7059" y="5"/>
                      <a:pt x="7059" y="4"/>
                    </a:cubicBezTo>
                    <a:cubicBezTo>
                      <a:pt x="7059" y="2"/>
                      <a:pt x="7060" y="2"/>
                      <a:pt x="7061" y="2"/>
                    </a:cubicBezTo>
                    <a:close/>
                    <a:moveTo>
                      <a:pt x="7069" y="2"/>
                    </a:moveTo>
                    <a:lnTo>
                      <a:pt x="7069" y="2"/>
                    </a:lnTo>
                    <a:cubicBezTo>
                      <a:pt x="7070" y="2"/>
                      <a:pt x="7071" y="2"/>
                      <a:pt x="7071" y="4"/>
                    </a:cubicBezTo>
                    <a:cubicBezTo>
                      <a:pt x="7071" y="5"/>
                      <a:pt x="7070" y="6"/>
                      <a:pt x="7069" y="6"/>
                    </a:cubicBezTo>
                    <a:lnTo>
                      <a:pt x="7069" y="6"/>
                    </a:lnTo>
                    <a:cubicBezTo>
                      <a:pt x="7068" y="6"/>
                      <a:pt x="7067" y="5"/>
                      <a:pt x="7067" y="4"/>
                    </a:cubicBezTo>
                    <a:cubicBezTo>
                      <a:pt x="7067" y="2"/>
                      <a:pt x="7068" y="2"/>
                      <a:pt x="7069" y="2"/>
                    </a:cubicBezTo>
                    <a:close/>
                    <a:moveTo>
                      <a:pt x="7077" y="2"/>
                    </a:moveTo>
                    <a:lnTo>
                      <a:pt x="7077" y="2"/>
                    </a:lnTo>
                    <a:cubicBezTo>
                      <a:pt x="7078" y="2"/>
                      <a:pt x="7079" y="2"/>
                      <a:pt x="7079" y="4"/>
                    </a:cubicBezTo>
                    <a:cubicBezTo>
                      <a:pt x="7079" y="5"/>
                      <a:pt x="7078" y="6"/>
                      <a:pt x="7077" y="6"/>
                    </a:cubicBezTo>
                    <a:lnTo>
                      <a:pt x="7077" y="6"/>
                    </a:lnTo>
                    <a:cubicBezTo>
                      <a:pt x="7076" y="6"/>
                      <a:pt x="7075" y="5"/>
                      <a:pt x="7075" y="4"/>
                    </a:cubicBezTo>
                    <a:cubicBezTo>
                      <a:pt x="7075" y="2"/>
                      <a:pt x="7076" y="2"/>
                      <a:pt x="7077" y="2"/>
                    </a:cubicBezTo>
                    <a:close/>
                    <a:moveTo>
                      <a:pt x="7085" y="2"/>
                    </a:moveTo>
                    <a:lnTo>
                      <a:pt x="7085" y="2"/>
                    </a:lnTo>
                    <a:cubicBezTo>
                      <a:pt x="7086" y="2"/>
                      <a:pt x="7087" y="2"/>
                      <a:pt x="7087" y="4"/>
                    </a:cubicBezTo>
                    <a:cubicBezTo>
                      <a:pt x="7087" y="5"/>
                      <a:pt x="7086" y="6"/>
                      <a:pt x="7085" y="6"/>
                    </a:cubicBezTo>
                    <a:lnTo>
                      <a:pt x="7085" y="6"/>
                    </a:lnTo>
                    <a:cubicBezTo>
                      <a:pt x="7084" y="6"/>
                      <a:pt x="7083" y="5"/>
                      <a:pt x="7083" y="4"/>
                    </a:cubicBezTo>
                    <a:cubicBezTo>
                      <a:pt x="7083" y="2"/>
                      <a:pt x="7084" y="2"/>
                      <a:pt x="7085" y="2"/>
                    </a:cubicBezTo>
                    <a:close/>
                    <a:moveTo>
                      <a:pt x="7093" y="2"/>
                    </a:moveTo>
                    <a:lnTo>
                      <a:pt x="7093" y="2"/>
                    </a:lnTo>
                    <a:cubicBezTo>
                      <a:pt x="7094" y="2"/>
                      <a:pt x="7095" y="2"/>
                      <a:pt x="7095" y="4"/>
                    </a:cubicBezTo>
                    <a:cubicBezTo>
                      <a:pt x="7095" y="5"/>
                      <a:pt x="7094" y="6"/>
                      <a:pt x="7093" y="6"/>
                    </a:cubicBezTo>
                    <a:lnTo>
                      <a:pt x="7093" y="6"/>
                    </a:lnTo>
                    <a:cubicBezTo>
                      <a:pt x="7092" y="6"/>
                      <a:pt x="7091" y="5"/>
                      <a:pt x="7091" y="4"/>
                    </a:cubicBezTo>
                    <a:cubicBezTo>
                      <a:pt x="7091" y="2"/>
                      <a:pt x="7092" y="2"/>
                      <a:pt x="7093" y="2"/>
                    </a:cubicBezTo>
                    <a:close/>
                    <a:moveTo>
                      <a:pt x="7101" y="2"/>
                    </a:moveTo>
                    <a:lnTo>
                      <a:pt x="7101" y="2"/>
                    </a:lnTo>
                    <a:cubicBezTo>
                      <a:pt x="7102" y="2"/>
                      <a:pt x="7103" y="2"/>
                      <a:pt x="7103" y="4"/>
                    </a:cubicBezTo>
                    <a:cubicBezTo>
                      <a:pt x="7103" y="5"/>
                      <a:pt x="7102" y="6"/>
                      <a:pt x="7101" y="6"/>
                    </a:cubicBezTo>
                    <a:lnTo>
                      <a:pt x="7101" y="6"/>
                    </a:lnTo>
                    <a:cubicBezTo>
                      <a:pt x="7100" y="6"/>
                      <a:pt x="7099" y="5"/>
                      <a:pt x="7099" y="4"/>
                    </a:cubicBezTo>
                    <a:cubicBezTo>
                      <a:pt x="7099" y="2"/>
                      <a:pt x="7100" y="2"/>
                      <a:pt x="7101" y="2"/>
                    </a:cubicBezTo>
                    <a:close/>
                    <a:moveTo>
                      <a:pt x="7109" y="2"/>
                    </a:moveTo>
                    <a:lnTo>
                      <a:pt x="7109" y="2"/>
                    </a:lnTo>
                    <a:cubicBezTo>
                      <a:pt x="7110" y="2"/>
                      <a:pt x="7111" y="2"/>
                      <a:pt x="7111" y="4"/>
                    </a:cubicBezTo>
                    <a:cubicBezTo>
                      <a:pt x="7111" y="5"/>
                      <a:pt x="7110" y="6"/>
                      <a:pt x="7109" y="6"/>
                    </a:cubicBezTo>
                    <a:lnTo>
                      <a:pt x="7109" y="6"/>
                    </a:lnTo>
                    <a:cubicBezTo>
                      <a:pt x="7108" y="6"/>
                      <a:pt x="7107" y="5"/>
                      <a:pt x="7107" y="4"/>
                    </a:cubicBezTo>
                    <a:cubicBezTo>
                      <a:pt x="7107" y="2"/>
                      <a:pt x="7108" y="2"/>
                      <a:pt x="7109" y="2"/>
                    </a:cubicBezTo>
                    <a:close/>
                    <a:moveTo>
                      <a:pt x="7117" y="2"/>
                    </a:moveTo>
                    <a:lnTo>
                      <a:pt x="7117" y="2"/>
                    </a:lnTo>
                    <a:cubicBezTo>
                      <a:pt x="7118" y="2"/>
                      <a:pt x="7119" y="2"/>
                      <a:pt x="7119" y="4"/>
                    </a:cubicBezTo>
                    <a:cubicBezTo>
                      <a:pt x="7119" y="5"/>
                      <a:pt x="7118" y="6"/>
                      <a:pt x="7117" y="6"/>
                    </a:cubicBezTo>
                    <a:lnTo>
                      <a:pt x="7117" y="6"/>
                    </a:lnTo>
                    <a:cubicBezTo>
                      <a:pt x="7116" y="6"/>
                      <a:pt x="7115" y="5"/>
                      <a:pt x="7115" y="4"/>
                    </a:cubicBezTo>
                    <a:cubicBezTo>
                      <a:pt x="7115" y="2"/>
                      <a:pt x="7116" y="2"/>
                      <a:pt x="7117" y="2"/>
                    </a:cubicBezTo>
                    <a:close/>
                    <a:moveTo>
                      <a:pt x="7125" y="2"/>
                    </a:moveTo>
                    <a:lnTo>
                      <a:pt x="7125" y="2"/>
                    </a:lnTo>
                    <a:cubicBezTo>
                      <a:pt x="7126" y="2"/>
                      <a:pt x="7127" y="2"/>
                      <a:pt x="7127" y="4"/>
                    </a:cubicBezTo>
                    <a:cubicBezTo>
                      <a:pt x="7127" y="5"/>
                      <a:pt x="7126" y="6"/>
                      <a:pt x="7125" y="6"/>
                    </a:cubicBezTo>
                    <a:lnTo>
                      <a:pt x="7125" y="6"/>
                    </a:lnTo>
                    <a:cubicBezTo>
                      <a:pt x="7124" y="6"/>
                      <a:pt x="7123" y="5"/>
                      <a:pt x="7123" y="4"/>
                    </a:cubicBezTo>
                    <a:cubicBezTo>
                      <a:pt x="7123" y="2"/>
                      <a:pt x="7124" y="2"/>
                      <a:pt x="7125" y="2"/>
                    </a:cubicBezTo>
                    <a:close/>
                    <a:moveTo>
                      <a:pt x="7133" y="2"/>
                    </a:moveTo>
                    <a:lnTo>
                      <a:pt x="7133" y="2"/>
                    </a:lnTo>
                    <a:cubicBezTo>
                      <a:pt x="7134" y="2"/>
                      <a:pt x="7135" y="2"/>
                      <a:pt x="7135" y="4"/>
                    </a:cubicBezTo>
                    <a:cubicBezTo>
                      <a:pt x="7135" y="5"/>
                      <a:pt x="7134" y="6"/>
                      <a:pt x="7133" y="6"/>
                    </a:cubicBezTo>
                    <a:lnTo>
                      <a:pt x="7133" y="6"/>
                    </a:lnTo>
                    <a:cubicBezTo>
                      <a:pt x="7132" y="6"/>
                      <a:pt x="7131" y="5"/>
                      <a:pt x="7131" y="4"/>
                    </a:cubicBezTo>
                    <a:cubicBezTo>
                      <a:pt x="7131" y="2"/>
                      <a:pt x="7132" y="2"/>
                      <a:pt x="7133" y="2"/>
                    </a:cubicBezTo>
                    <a:close/>
                    <a:moveTo>
                      <a:pt x="7141" y="2"/>
                    </a:moveTo>
                    <a:lnTo>
                      <a:pt x="7141" y="2"/>
                    </a:lnTo>
                    <a:cubicBezTo>
                      <a:pt x="7142" y="2"/>
                      <a:pt x="7143" y="2"/>
                      <a:pt x="7143" y="4"/>
                    </a:cubicBezTo>
                    <a:cubicBezTo>
                      <a:pt x="7143" y="5"/>
                      <a:pt x="7142" y="6"/>
                      <a:pt x="7141" y="6"/>
                    </a:cubicBezTo>
                    <a:lnTo>
                      <a:pt x="7141" y="6"/>
                    </a:lnTo>
                    <a:cubicBezTo>
                      <a:pt x="7140" y="6"/>
                      <a:pt x="7139" y="5"/>
                      <a:pt x="7139" y="4"/>
                    </a:cubicBezTo>
                    <a:cubicBezTo>
                      <a:pt x="7139" y="2"/>
                      <a:pt x="7140" y="2"/>
                      <a:pt x="7141" y="2"/>
                    </a:cubicBezTo>
                    <a:close/>
                    <a:moveTo>
                      <a:pt x="7149" y="2"/>
                    </a:moveTo>
                    <a:lnTo>
                      <a:pt x="7149" y="2"/>
                    </a:lnTo>
                    <a:cubicBezTo>
                      <a:pt x="7150" y="2"/>
                      <a:pt x="7151" y="2"/>
                      <a:pt x="7151" y="4"/>
                    </a:cubicBezTo>
                    <a:cubicBezTo>
                      <a:pt x="7151" y="5"/>
                      <a:pt x="7150" y="6"/>
                      <a:pt x="7149" y="6"/>
                    </a:cubicBezTo>
                    <a:lnTo>
                      <a:pt x="7149" y="6"/>
                    </a:lnTo>
                    <a:cubicBezTo>
                      <a:pt x="7148" y="6"/>
                      <a:pt x="7147" y="5"/>
                      <a:pt x="7147" y="4"/>
                    </a:cubicBezTo>
                    <a:cubicBezTo>
                      <a:pt x="7147" y="2"/>
                      <a:pt x="7148" y="2"/>
                      <a:pt x="7149" y="2"/>
                    </a:cubicBezTo>
                    <a:close/>
                    <a:moveTo>
                      <a:pt x="7157" y="2"/>
                    </a:moveTo>
                    <a:lnTo>
                      <a:pt x="7157" y="2"/>
                    </a:lnTo>
                    <a:cubicBezTo>
                      <a:pt x="7158" y="2"/>
                      <a:pt x="7159" y="2"/>
                      <a:pt x="7159" y="4"/>
                    </a:cubicBezTo>
                    <a:cubicBezTo>
                      <a:pt x="7159" y="5"/>
                      <a:pt x="7158" y="6"/>
                      <a:pt x="7157" y="6"/>
                    </a:cubicBezTo>
                    <a:lnTo>
                      <a:pt x="7157" y="6"/>
                    </a:lnTo>
                    <a:cubicBezTo>
                      <a:pt x="7156" y="6"/>
                      <a:pt x="7155" y="5"/>
                      <a:pt x="7155" y="4"/>
                    </a:cubicBezTo>
                    <a:cubicBezTo>
                      <a:pt x="7155" y="2"/>
                      <a:pt x="7156" y="2"/>
                      <a:pt x="7157" y="2"/>
                    </a:cubicBezTo>
                    <a:close/>
                    <a:moveTo>
                      <a:pt x="7165" y="2"/>
                    </a:moveTo>
                    <a:lnTo>
                      <a:pt x="7165" y="2"/>
                    </a:lnTo>
                    <a:cubicBezTo>
                      <a:pt x="7166" y="2"/>
                      <a:pt x="7167" y="2"/>
                      <a:pt x="7167" y="4"/>
                    </a:cubicBezTo>
                    <a:cubicBezTo>
                      <a:pt x="7167" y="5"/>
                      <a:pt x="7166" y="6"/>
                      <a:pt x="7165" y="6"/>
                    </a:cubicBezTo>
                    <a:lnTo>
                      <a:pt x="7165" y="6"/>
                    </a:lnTo>
                    <a:cubicBezTo>
                      <a:pt x="7164" y="6"/>
                      <a:pt x="7163" y="5"/>
                      <a:pt x="7163" y="4"/>
                    </a:cubicBezTo>
                    <a:cubicBezTo>
                      <a:pt x="7163" y="2"/>
                      <a:pt x="7164" y="2"/>
                      <a:pt x="7165" y="2"/>
                    </a:cubicBezTo>
                    <a:close/>
                    <a:moveTo>
                      <a:pt x="7173" y="2"/>
                    </a:moveTo>
                    <a:lnTo>
                      <a:pt x="7173" y="2"/>
                    </a:lnTo>
                    <a:cubicBezTo>
                      <a:pt x="7174" y="2"/>
                      <a:pt x="7175" y="2"/>
                      <a:pt x="7175" y="4"/>
                    </a:cubicBezTo>
                    <a:cubicBezTo>
                      <a:pt x="7175" y="5"/>
                      <a:pt x="7174" y="6"/>
                      <a:pt x="7173" y="6"/>
                    </a:cubicBezTo>
                    <a:lnTo>
                      <a:pt x="7173" y="6"/>
                    </a:lnTo>
                    <a:cubicBezTo>
                      <a:pt x="7172" y="6"/>
                      <a:pt x="7171" y="5"/>
                      <a:pt x="7171" y="4"/>
                    </a:cubicBezTo>
                    <a:cubicBezTo>
                      <a:pt x="7171" y="2"/>
                      <a:pt x="7172" y="2"/>
                      <a:pt x="7173" y="2"/>
                    </a:cubicBezTo>
                    <a:close/>
                    <a:moveTo>
                      <a:pt x="7181" y="2"/>
                    </a:moveTo>
                    <a:lnTo>
                      <a:pt x="7181" y="2"/>
                    </a:lnTo>
                    <a:cubicBezTo>
                      <a:pt x="7182" y="2"/>
                      <a:pt x="7183" y="2"/>
                      <a:pt x="7183" y="4"/>
                    </a:cubicBezTo>
                    <a:cubicBezTo>
                      <a:pt x="7183" y="5"/>
                      <a:pt x="7182" y="6"/>
                      <a:pt x="7181" y="6"/>
                    </a:cubicBezTo>
                    <a:lnTo>
                      <a:pt x="7181" y="6"/>
                    </a:lnTo>
                    <a:cubicBezTo>
                      <a:pt x="7180" y="6"/>
                      <a:pt x="7179" y="5"/>
                      <a:pt x="7179" y="4"/>
                    </a:cubicBezTo>
                    <a:cubicBezTo>
                      <a:pt x="7179" y="2"/>
                      <a:pt x="7180" y="2"/>
                      <a:pt x="7181" y="2"/>
                    </a:cubicBezTo>
                    <a:close/>
                    <a:moveTo>
                      <a:pt x="7189" y="2"/>
                    </a:moveTo>
                    <a:lnTo>
                      <a:pt x="7189" y="2"/>
                    </a:lnTo>
                    <a:cubicBezTo>
                      <a:pt x="7190" y="2"/>
                      <a:pt x="7191" y="2"/>
                      <a:pt x="7191" y="4"/>
                    </a:cubicBezTo>
                    <a:cubicBezTo>
                      <a:pt x="7191" y="5"/>
                      <a:pt x="7190" y="6"/>
                      <a:pt x="7189" y="6"/>
                    </a:cubicBezTo>
                    <a:lnTo>
                      <a:pt x="7189" y="6"/>
                    </a:lnTo>
                    <a:cubicBezTo>
                      <a:pt x="7188" y="6"/>
                      <a:pt x="7187" y="5"/>
                      <a:pt x="7187" y="4"/>
                    </a:cubicBezTo>
                    <a:cubicBezTo>
                      <a:pt x="7187" y="2"/>
                      <a:pt x="7188" y="2"/>
                      <a:pt x="7189" y="2"/>
                    </a:cubicBezTo>
                    <a:close/>
                    <a:moveTo>
                      <a:pt x="7197" y="2"/>
                    </a:moveTo>
                    <a:lnTo>
                      <a:pt x="7197" y="2"/>
                    </a:lnTo>
                    <a:cubicBezTo>
                      <a:pt x="7198" y="2"/>
                      <a:pt x="7199" y="2"/>
                      <a:pt x="7199" y="4"/>
                    </a:cubicBezTo>
                    <a:cubicBezTo>
                      <a:pt x="7199" y="5"/>
                      <a:pt x="7198" y="6"/>
                      <a:pt x="7197" y="6"/>
                    </a:cubicBezTo>
                    <a:lnTo>
                      <a:pt x="7197" y="6"/>
                    </a:lnTo>
                    <a:cubicBezTo>
                      <a:pt x="7196" y="6"/>
                      <a:pt x="7195" y="5"/>
                      <a:pt x="7195" y="4"/>
                    </a:cubicBezTo>
                    <a:cubicBezTo>
                      <a:pt x="7195" y="2"/>
                      <a:pt x="7196" y="2"/>
                      <a:pt x="7197" y="2"/>
                    </a:cubicBezTo>
                    <a:close/>
                    <a:moveTo>
                      <a:pt x="7205" y="2"/>
                    </a:moveTo>
                    <a:lnTo>
                      <a:pt x="7205" y="2"/>
                    </a:lnTo>
                    <a:cubicBezTo>
                      <a:pt x="7206" y="2"/>
                      <a:pt x="7207" y="2"/>
                      <a:pt x="7207" y="4"/>
                    </a:cubicBezTo>
                    <a:cubicBezTo>
                      <a:pt x="7207" y="5"/>
                      <a:pt x="7206" y="6"/>
                      <a:pt x="7205" y="6"/>
                    </a:cubicBezTo>
                    <a:lnTo>
                      <a:pt x="7205" y="6"/>
                    </a:lnTo>
                    <a:cubicBezTo>
                      <a:pt x="7204" y="6"/>
                      <a:pt x="7203" y="5"/>
                      <a:pt x="7203" y="4"/>
                    </a:cubicBezTo>
                    <a:cubicBezTo>
                      <a:pt x="7203" y="2"/>
                      <a:pt x="7204" y="2"/>
                      <a:pt x="7205" y="2"/>
                    </a:cubicBezTo>
                    <a:close/>
                    <a:moveTo>
                      <a:pt x="7213" y="2"/>
                    </a:moveTo>
                    <a:lnTo>
                      <a:pt x="7213" y="2"/>
                    </a:lnTo>
                    <a:cubicBezTo>
                      <a:pt x="7214" y="2"/>
                      <a:pt x="7215" y="2"/>
                      <a:pt x="7215" y="4"/>
                    </a:cubicBezTo>
                    <a:cubicBezTo>
                      <a:pt x="7215" y="5"/>
                      <a:pt x="7214" y="6"/>
                      <a:pt x="7213" y="6"/>
                    </a:cubicBezTo>
                    <a:lnTo>
                      <a:pt x="7213" y="6"/>
                    </a:lnTo>
                    <a:cubicBezTo>
                      <a:pt x="7212" y="6"/>
                      <a:pt x="7211" y="5"/>
                      <a:pt x="7211" y="4"/>
                    </a:cubicBezTo>
                    <a:cubicBezTo>
                      <a:pt x="7211" y="2"/>
                      <a:pt x="7212" y="2"/>
                      <a:pt x="7213" y="2"/>
                    </a:cubicBezTo>
                    <a:close/>
                    <a:moveTo>
                      <a:pt x="7221" y="2"/>
                    </a:moveTo>
                    <a:lnTo>
                      <a:pt x="7221" y="2"/>
                    </a:lnTo>
                    <a:cubicBezTo>
                      <a:pt x="7222" y="2"/>
                      <a:pt x="7223" y="2"/>
                      <a:pt x="7223" y="4"/>
                    </a:cubicBezTo>
                    <a:cubicBezTo>
                      <a:pt x="7223" y="5"/>
                      <a:pt x="7222" y="6"/>
                      <a:pt x="7221" y="6"/>
                    </a:cubicBezTo>
                    <a:lnTo>
                      <a:pt x="7221" y="6"/>
                    </a:lnTo>
                    <a:cubicBezTo>
                      <a:pt x="7220" y="6"/>
                      <a:pt x="7219" y="5"/>
                      <a:pt x="7219" y="4"/>
                    </a:cubicBezTo>
                    <a:cubicBezTo>
                      <a:pt x="7219" y="2"/>
                      <a:pt x="7220" y="2"/>
                      <a:pt x="7221" y="2"/>
                    </a:cubicBezTo>
                    <a:close/>
                    <a:moveTo>
                      <a:pt x="7229" y="2"/>
                    </a:moveTo>
                    <a:lnTo>
                      <a:pt x="7229" y="2"/>
                    </a:lnTo>
                    <a:cubicBezTo>
                      <a:pt x="7230" y="2"/>
                      <a:pt x="7231" y="2"/>
                      <a:pt x="7231" y="4"/>
                    </a:cubicBezTo>
                    <a:cubicBezTo>
                      <a:pt x="7231" y="5"/>
                      <a:pt x="7230" y="6"/>
                      <a:pt x="7229" y="6"/>
                    </a:cubicBezTo>
                    <a:lnTo>
                      <a:pt x="7229" y="6"/>
                    </a:lnTo>
                    <a:cubicBezTo>
                      <a:pt x="7228" y="6"/>
                      <a:pt x="7227" y="5"/>
                      <a:pt x="7227" y="4"/>
                    </a:cubicBezTo>
                    <a:cubicBezTo>
                      <a:pt x="7227" y="2"/>
                      <a:pt x="7228" y="2"/>
                      <a:pt x="7229" y="2"/>
                    </a:cubicBezTo>
                    <a:close/>
                    <a:moveTo>
                      <a:pt x="7237" y="2"/>
                    </a:moveTo>
                    <a:lnTo>
                      <a:pt x="7237" y="2"/>
                    </a:lnTo>
                    <a:cubicBezTo>
                      <a:pt x="7238" y="2"/>
                      <a:pt x="7239" y="2"/>
                      <a:pt x="7239" y="4"/>
                    </a:cubicBezTo>
                    <a:cubicBezTo>
                      <a:pt x="7239" y="5"/>
                      <a:pt x="7238" y="6"/>
                      <a:pt x="7237" y="6"/>
                    </a:cubicBezTo>
                    <a:lnTo>
                      <a:pt x="7237" y="6"/>
                    </a:lnTo>
                    <a:cubicBezTo>
                      <a:pt x="7236" y="6"/>
                      <a:pt x="7235" y="5"/>
                      <a:pt x="7235" y="4"/>
                    </a:cubicBezTo>
                    <a:cubicBezTo>
                      <a:pt x="7235" y="2"/>
                      <a:pt x="7236" y="2"/>
                      <a:pt x="7237" y="2"/>
                    </a:cubicBezTo>
                    <a:close/>
                    <a:moveTo>
                      <a:pt x="7245" y="2"/>
                    </a:moveTo>
                    <a:lnTo>
                      <a:pt x="7245" y="2"/>
                    </a:lnTo>
                    <a:cubicBezTo>
                      <a:pt x="7246" y="2"/>
                      <a:pt x="7247" y="2"/>
                      <a:pt x="7247" y="4"/>
                    </a:cubicBezTo>
                    <a:cubicBezTo>
                      <a:pt x="7247" y="5"/>
                      <a:pt x="7246" y="6"/>
                      <a:pt x="7245" y="6"/>
                    </a:cubicBezTo>
                    <a:lnTo>
                      <a:pt x="7245" y="6"/>
                    </a:lnTo>
                    <a:cubicBezTo>
                      <a:pt x="7244" y="6"/>
                      <a:pt x="7243" y="5"/>
                      <a:pt x="7243" y="4"/>
                    </a:cubicBezTo>
                    <a:cubicBezTo>
                      <a:pt x="7243" y="2"/>
                      <a:pt x="7244" y="2"/>
                      <a:pt x="7245" y="2"/>
                    </a:cubicBezTo>
                    <a:close/>
                    <a:moveTo>
                      <a:pt x="7253" y="2"/>
                    </a:moveTo>
                    <a:lnTo>
                      <a:pt x="7253" y="2"/>
                    </a:lnTo>
                    <a:cubicBezTo>
                      <a:pt x="7254" y="2"/>
                      <a:pt x="7255" y="2"/>
                      <a:pt x="7255" y="4"/>
                    </a:cubicBezTo>
                    <a:cubicBezTo>
                      <a:pt x="7255" y="5"/>
                      <a:pt x="7254" y="6"/>
                      <a:pt x="7253" y="6"/>
                    </a:cubicBezTo>
                    <a:lnTo>
                      <a:pt x="7253" y="6"/>
                    </a:lnTo>
                    <a:cubicBezTo>
                      <a:pt x="7252" y="6"/>
                      <a:pt x="7251" y="5"/>
                      <a:pt x="7251" y="4"/>
                    </a:cubicBezTo>
                    <a:cubicBezTo>
                      <a:pt x="7251" y="2"/>
                      <a:pt x="7252" y="2"/>
                      <a:pt x="7253" y="2"/>
                    </a:cubicBezTo>
                    <a:close/>
                    <a:moveTo>
                      <a:pt x="7261" y="2"/>
                    </a:moveTo>
                    <a:lnTo>
                      <a:pt x="7261" y="2"/>
                    </a:lnTo>
                    <a:cubicBezTo>
                      <a:pt x="7262" y="2"/>
                      <a:pt x="7263" y="2"/>
                      <a:pt x="7263" y="4"/>
                    </a:cubicBezTo>
                    <a:cubicBezTo>
                      <a:pt x="7263" y="5"/>
                      <a:pt x="7262" y="6"/>
                      <a:pt x="7261" y="6"/>
                    </a:cubicBezTo>
                    <a:lnTo>
                      <a:pt x="7261" y="6"/>
                    </a:lnTo>
                    <a:cubicBezTo>
                      <a:pt x="7260" y="6"/>
                      <a:pt x="7259" y="5"/>
                      <a:pt x="7259" y="4"/>
                    </a:cubicBezTo>
                    <a:cubicBezTo>
                      <a:pt x="7259" y="2"/>
                      <a:pt x="7260" y="2"/>
                      <a:pt x="7261" y="2"/>
                    </a:cubicBezTo>
                    <a:close/>
                    <a:moveTo>
                      <a:pt x="7269" y="2"/>
                    </a:moveTo>
                    <a:lnTo>
                      <a:pt x="7269" y="2"/>
                    </a:lnTo>
                    <a:cubicBezTo>
                      <a:pt x="7270" y="2"/>
                      <a:pt x="7271" y="2"/>
                      <a:pt x="7271" y="4"/>
                    </a:cubicBezTo>
                    <a:cubicBezTo>
                      <a:pt x="7271" y="5"/>
                      <a:pt x="7270" y="6"/>
                      <a:pt x="7269" y="6"/>
                    </a:cubicBezTo>
                    <a:lnTo>
                      <a:pt x="7269" y="6"/>
                    </a:lnTo>
                    <a:cubicBezTo>
                      <a:pt x="7268" y="6"/>
                      <a:pt x="7267" y="5"/>
                      <a:pt x="7267" y="4"/>
                    </a:cubicBezTo>
                    <a:cubicBezTo>
                      <a:pt x="7267" y="2"/>
                      <a:pt x="7268" y="2"/>
                      <a:pt x="7269" y="2"/>
                    </a:cubicBezTo>
                    <a:close/>
                    <a:moveTo>
                      <a:pt x="7277" y="2"/>
                    </a:moveTo>
                    <a:lnTo>
                      <a:pt x="7277" y="2"/>
                    </a:lnTo>
                    <a:cubicBezTo>
                      <a:pt x="7278" y="2"/>
                      <a:pt x="7279" y="2"/>
                      <a:pt x="7279" y="4"/>
                    </a:cubicBezTo>
                    <a:cubicBezTo>
                      <a:pt x="7279" y="5"/>
                      <a:pt x="7278" y="6"/>
                      <a:pt x="7277" y="6"/>
                    </a:cubicBezTo>
                    <a:lnTo>
                      <a:pt x="7277" y="6"/>
                    </a:lnTo>
                    <a:cubicBezTo>
                      <a:pt x="7276" y="6"/>
                      <a:pt x="7275" y="5"/>
                      <a:pt x="7275" y="4"/>
                    </a:cubicBezTo>
                    <a:cubicBezTo>
                      <a:pt x="7275" y="2"/>
                      <a:pt x="7276" y="2"/>
                      <a:pt x="7277" y="2"/>
                    </a:cubicBezTo>
                    <a:close/>
                    <a:moveTo>
                      <a:pt x="7285" y="2"/>
                    </a:moveTo>
                    <a:lnTo>
                      <a:pt x="7285" y="2"/>
                    </a:lnTo>
                    <a:cubicBezTo>
                      <a:pt x="7286" y="2"/>
                      <a:pt x="7287" y="2"/>
                      <a:pt x="7287" y="4"/>
                    </a:cubicBezTo>
                    <a:cubicBezTo>
                      <a:pt x="7287" y="5"/>
                      <a:pt x="7286" y="6"/>
                      <a:pt x="7285" y="6"/>
                    </a:cubicBezTo>
                    <a:lnTo>
                      <a:pt x="7285" y="6"/>
                    </a:lnTo>
                    <a:cubicBezTo>
                      <a:pt x="7284" y="6"/>
                      <a:pt x="7283" y="5"/>
                      <a:pt x="7283" y="4"/>
                    </a:cubicBezTo>
                    <a:cubicBezTo>
                      <a:pt x="7283" y="2"/>
                      <a:pt x="7284" y="2"/>
                      <a:pt x="7285" y="2"/>
                    </a:cubicBezTo>
                    <a:close/>
                    <a:moveTo>
                      <a:pt x="7293" y="2"/>
                    </a:moveTo>
                    <a:lnTo>
                      <a:pt x="7293" y="2"/>
                    </a:lnTo>
                    <a:cubicBezTo>
                      <a:pt x="7294" y="2"/>
                      <a:pt x="7295" y="2"/>
                      <a:pt x="7295" y="4"/>
                    </a:cubicBezTo>
                    <a:cubicBezTo>
                      <a:pt x="7295" y="5"/>
                      <a:pt x="7294" y="6"/>
                      <a:pt x="7293" y="6"/>
                    </a:cubicBezTo>
                    <a:lnTo>
                      <a:pt x="7293" y="6"/>
                    </a:lnTo>
                    <a:cubicBezTo>
                      <a:pt x="7292" y="6"/>
                      <a:pt x="7291" y="5"/>
                      <a:pt x="7291" y="4"/>
                    </a:cubicBezTo>
                    <a:cubicBezTo>
                      <a:pt x="7291" y="2"/>
                      <a:pt x="7292" y="2"/>
                      <a:pt x="7293" y="2"/>
                    </a:cubicBezTo>
                    <a:close/>
                    <a:moveTo>
                      <a:pt x="7301" y="2"/>
                    </a:moveTo>
                    <a:lnTo>
                      <a:pt x="7301" y="2"/>
                    </a:lnTo>
                    <a:cubicBezTo>
                      <a:pt x="7302" y="2"/>
                      <a:pt x="7303" y="2"/>
                      <a:pt x="7303" y="4"/>
                    </a:cubicBezTo>
                    <a:cubicBezTo>
                      <a:pt x="7303" y="5"/>
                      <a:pt x="7302" y="6"/>
                      <a:pt x="7301" y="6"/>
                    </a:cubicBezTo>
                    <a:lnTo>
                      <a:pt x="7301" y="6"/>
                    </a:lnTo>
                    <a:cubicBezTo>
                      <a:pt x="7300" y="6"/>
                      <a:pt x="7299" y="5"/>
                      <a:pt x="7299" y="4"/>
                    </a:cubicBezTo>
                    <a:cubicBezTo>
                      <a:pt x="7299" y="2"/>
                      <a:pt x="7300" y="2"/>
                      <a:pt x="7301" y="2"/>
                    </a:cubicBezTo>
                    <a:close/>
                    <a:moveTo>
                      <a:pt x="7309" y="2"/>
                    </a:moveTo>
                    <a:lnTo>
                      <a:pt x="7309" y="2"/>
                    </a:lnTo>
                    <a:cubicBezTo>
                      <a:pt x="7310" y="2"/>
                      <a:pt x="7311" y="2"/>
                      <a:pt x="7311" y="4"/>
                    </a:cubicBezTo>
                    <a:cubicBezTo>
                      <a:pt x="7311" y="5"/>
                      <a:pt x="7310" y="6"/>
                      <a:pt x="7309" y="6"/>
                    </a:cubicBezTo>
                    <a:lnTo>
                      <a:pt x="7309" y="6"/>
                    </a:lnTo>
                    <a:cubicBezTo>
                      <a:pt x="7308" y="6"/>
                      <a:pt x="7307" y="5"/>
                      <a:pt x="7307" y="4"/>
                    </a:cubicBezTo>
                    <a:cubicBezTo>
                      <a:pt x="7307" y="2"/>
                      <a:pt x="7308" y="2"/>
                      <a:pt x="7309" y="2"/>
                    </a:cubicBezTo>
                    <a:close/>
                    <a:moveTo>
                      <a:pt x="7317" y="2"/>
                    </a:moveTo>
                    <a:lnTo>
                      <a:pt x="7317" y="2"/>
                    </a:lnTo>
                    <a:cubicBezTo>
                      <a:pt x="7319" y="2"/>
                      <a:pt x="7319" y="2"/>
                      <a:pt x="7319" y="4"/>
                    </a:cubicBezTo>
                    <a:cubicBezTo>
                      <a:pt x="7319" y="5"/>
                      <a:pt x="7319" y="6"/>
                      <a:pt x="7317" y="6"/>
                    </a:cubicBezTo>
                    <a:lnTo>
                      <a:pt x="7317" y="6"/>
                    </a:lnTo>
                    <a:cubicBezTo>
                      <a:pt x="7316" y="6"/>
                      <a:pt x="7315" y="5"/>
                      <a:pt x="7315" y="4"/>
                    </a:cubicBezTo>
                    <a:cubicBezTo>
                      <a:pt x="7315" y="2"/>
                      <a:pt x="7316" y="2"/>
                      <a:pt x="7317" y="2"/>
                    </a:cubicBezTo>
                    <a:close/>
                    <a:moveTo>
                      <a:pt x="7325" y="2"/>
                    </a:moveTo>
                    <a:lnTo>
                      <a:pt x="7325" y="2"/>
                    </a:lnTo>
                    <a:cubicBezTo>
                      <a:pt x="7327" y="2"/>
                      <a:pt x="7327" y="2"/>
                      <a:pt x="7327" y="4"/>
                    </a:cubicBezTo>
                    <a:cubicBezTo>
                      <a:pt x="7327" y="5"/>
                      <a:pt x="7327" y="6"/>
                      <a:pt x="7325" y="6"/>
                    </a:cubicBezTo>
                    <a:lnTo>
                      <a:pt x="7325" y="6"/>
                    </a:lnTo>
                    <a:cubicBezTo>
                      <a:pt x="7324" y="6"/>
                      <a:pt x="7323" y="5"/>
                      <a:pt x="7323" y="4"/>
                    </a:cubicBezTo>
                    <a:cubicBezTo>
                      <a:pt x="7323" y="2"/>
                      <a:pt x="7324" y="2"/>
                      <a:pt x="7325" y="2"/>
                    </a:cubicBezTo>
                    <a:close/>
                    <a:moveTo>
                      <a:pt x="7333" y="2"/>
                    </a:moveTo>
                    <a:lnTo>
                      <a:pt x="7333" y="2"/>
                    </a:lnTo>
                    <a:cubicBezTo>
                      <a:pt x="7335" y="2"/>
                      <a:pt x="7335" y="2"/>
                      <a:pt x="7335" y="4"/>
                    </a:cubicBezTo>
                    <a:cubicBezTo>
                      <a:pt x="7335" y="5"/>
                      <a:pt x="7335" y="6"/>
                      <a:pt x="7333" y="6"/>
                    </a:cubicBezTo>
                    <a:lnTo>
                      <a:pt x="7333" y="6"/>
                    </a:lnTo>
                    <a:cubicBezTo>
                      <a:pt x="7332" y="6"/>
                      <a:pt x="7331" y="5"/>
                      <a:pt x="7331" y="4"/>
                    </a:cubicBezTo>
                    <a:cubicBezTo>
                      <a:pt x="7331" y="2"/>
                      <a:pt x="7332" y="2"/>
                      <a:pt x="7333" y="2"/>
                    </a:cubicBezTo>
                    <a:close/>
                    <a:moveTo>
                      <a:pt x="7341" y="2"/>
                    </a:moveTo>
                    <a:lnTo>
                      <a:pt x="7341" y="2"/>
                    </a:lnTo>
                    <a:cubicBezTo>
                      <a:pt x="7343" y="2"/>
                      <a:pt x="7343" y="2"/>
                      <a:pt x="7343" y="4"/>
                    </a:cubicBezTo>
                    <a:cubicBezTo>
                      <a:pt x="7343" y="5"/>
                      <a:pt x="7343" y="6"/>
                      <a:pt x="7341" y="6"/>
                    </a:cubicBezTo>
                    <a:lnTo>
                      <a:pt x="7341" y="6"/>
                    </a:lnTo>
                    <a:cubicBezTo>
                      <a:pt x="7340" y="6"/>
                      <a:pt x="7339" y="5"/>
                      <a:pt x="7339" y="4"/>
                    </a:cubicBezTo>
                    <a:cubicBezTo>
                      <a:pt x="7339" y="2"/>
                      <a:pt x="7340" y="2"/>
                      <a:pt x="7341" y="2"/>
                    </a:cubicBezTo>
                    <a:close/>
                    <a:moveTo>
                      <a:pt x="7349" y="2"/>
                    </a:moveTo>
                    <a:lnTo>
                      <a:pt x="7349" y="2"/>
                    </a:lnTo>
                    <a:cubicBezTo>
                      <a:pt x="7351" y="2"/>
                      <a:pt x="7351" y="2"/>
                      <a:pt x="7351" y="4"/>
                    </a:cubicBezTo>
                    <a:cubicBezTo>
                      <a:pt x="7351" y="5"/>
                      <a:pt x="7351" y="6"/>
                      <a:pt x="7349" y="6"/>
                    </a:cubicBezTo>
                    <a:lnTo>
                      <a:pt x="7349" y="6"/>
                    </a:lnTo>
                    <a:cubicBezTo>
                      <a:pt x="7348" y="6"/>
                      <a:pt x="7347" y="5"/>
                      <a:pt x="7347" y="4"/>
                    </a:cubicBezTo>
                    <a:cubicBezTo>
                      <a:pt x="7347" y="2"/>
                      <a:pt x="7348" y="2"/>
                      <a:pt x="7349" y="2"/>
                    </a:cubicBezTo>
                    <a:close/>
                    <a:moveTo>
                      <a:pt x="7357" y="2"/>
                    </a:moveTo>
                    <a:lnTo>
                      <a:pt x="7357" y="2"/>
                    </a:lnTo>
                    <a:cubicBezTo>
                      <a:pt x="7359" y="2"/>
                      <a:pt x="7359" y="2"/>
                      <a:pt x="7359" y="4"/>
                    </a:cubicBezTo>
                    <a:cubicBezTo>
                      <a:pt x="7359" y="5"/>
                      <a:pt x="7359" y="6"/>
                      <a:pt x="7357" y="6"/>
                    </a:cubicBezTo>
                    <a:lnTo>
                      <a:pt x="7357" y="6"/>
                    </a:lnTo>
                    <a:cubicBezTo>
                      <a:pt x="7356" y="6"/>
                      <a:pt x="7355" y="5"/>
                      <a:pt x="7355" y="4"/>
                    </a:cubicBezTo>
                    <a:cubicBezTo>
                      <a:pt x="7355" y="2"/>
                      <a:pt x="7356" y="2"/>
                      <a:pt x="7357" y="2"/>
                    </a:cubicBezTo>
                    <a:close/>
                    <a:moveTo>
                      <a:pt x="7365" y="2"/>
                    </a:moveTo>
                    <a:lnTo>
                      <a:pt x="7365" y="2"/>
                    </a:lnTo>
                    <a:cubicBezTo>
                      <a:pt x="7367" y="2"/>
                      <a:pt x="7367" y="2"/>
                      <a:pt x="7367" y="4"/>
                    </a:cubicBezTo>
                    <a:cubicBezTo>
                      <a:pt x="7367" y="5"/>
                      <a:pt x="7367" y="6"/>
                      <a:pt x="7365" y="6"/>
                    </a:cubicBezTo>
                    <a:lnTo>
                      <a:pt x="7365" y="6"/>
                    </a:lnTo>
                    <a:cubicBezTo>
                      <a:pt x="7364" y="6"/>
                      <a:pt x="7363" y="5"/>
                      <a:pt x="7363" y="4"/>
                    </a:cubicBezTo>
                    <a:cubicBezTo>
                      <a:pt x="7363" y="2"/>
                      <a:pt x="7364" y="2"/>
                      <a:pt x="7365" y="2"/>
                    </a:cubicBezTo>
                    <a:close/>
                    <a:moveTo>
                      <a:pt x="7373" y="2"/>
                    </a:moveTo>
                    <a:lnTo>
                      <a:pt x="7373" y="2"/>
                    </a:lnTo>
                    <a:cubicBezTo>
                      <a:pt x="7375" y="2"/>
                      <a:pt x="7375" y="2"/>
                      <a:pt x="7375" y="4"/>
                    </a:cubicBezTo>
                    <a:cubicBezTo>
                      <a:pt x="7375" y="5"/>
                      <a:pt x="7375" y="6"/>
                      <a:pt x="7373" y="6"/>
                    </a:cubicBezTo>
                    <a:lnTo>
                      <a:pt x="7373" y="6"/>
                    </a:lnTo>
                    <a:cubicBezTo>
                      <a:pt x="7372" y="6"/>
                      <a:pt x="7371" y="5"/>
                      <a:pt x="7371" y="4"/>
                    </a:cubicBezTo>
                    <a:cubicBezTo>
                      <a:pt x="7371" y="2"/>
                      <a:pt x="7372" y="2"/>
                      <a:pt x="7373" y="2"/>
                    </a:cubicBezTo>
                    <a:close/>
                    <a:moveTo>
                      <a:pt x="7381" y="2"/>
                    </a:moveTo>
                    <a:lnTo>
                      <a:pt x="7381" y="2"/>
                    </a:lnTo>
                    <a:cubicBezTo>
                      <a:pt x="7383" y="2"/>
                      <a:pt x="7383" y="2"/>
                      <a:pt x="7383" y="4"/>
                    </a:cubicBezTo>
                    <a:cubicBezTo>
                      <a:pt x="7383" y="5"/>
                      <a:pt x="7383" y="6"/>
                      <a:pt x="7381" y="6"/>
                    </a:cubicBezTo>
                    <a:lnTo>
                      <a:pt x="7381" y="6"/>
                    </a:lnTo>
                    <a:cubicBezTo>
                      <a:pt x="7380" y="6"/>
                      <a:pt x="7379" y="5"/>
                      <a:pt x="7379" y="4"/>
                    </a:cubicBezTo>
                    <a:cubicBezTo>
                      <a:pt x="7379" y="2"/>
                      <a:pt x="7380" y="2"/>
                      <a:pt x="7381" y="2"/>
                    </a:cubicBezTo>
                    <a:close/>
                    <a:moveTo>
                      <a:pt x="7389" y="2"/>
                    </a:moveTo>
                    <a:lnTo>
                      <a:pt x="7389" y="2"/>
                    </a:lnTo>
                    <a:cubicBezTo>
                      <a:pt x="7391" y="2"/>
                      <a:pt x="7391" y="2"/>
                      <a:pt x="7391" y="4"/>
                    </a:cubicBezTo>
                    <a:cubicBezTo>
                      <a:pt x="7391" y="5"/>
                      <a:pt x="7391" y="6"/>
                      <a:pt x="7389" y="6"/>
                    </a:cubicBezTo>
                    <a:lnTo>
                      <a:pt x="7389" y="6"/>
                    </a:lnTo>
                    <a:cubicBezTo>
                      <a:pt x="7388" y="6"/>
                      <a:pt x="7387" y="5"/>
                      <a:pt x="7387" y="4"/>
                    </a:cubicBezTo>
                    <a:cubicBezTo>
                      <a:pt x="7387" y="2"/>
                      <a:pt x="7388" y="2"/>
                      <a:pt x="7389" y="2"/>
                    </a:cubicBezTo>
                    <a:close/>
                    <a:moveTo>
                      <a:pt x="7397" y="2"/>
                    </a:moveTo>
                    <a:lnTo>
                      <a:pt x="7397" y="2"/>
                    </a:lnTo>
                    <a:cubicBezTo>
                      <a:pt x="7399" y="2"/>
                      <a:pt x="7399" y="2"/>
                      <a:pt x="7399" y="4"/>
                    </a:cubicBezTo>
                    <a:cubicBezTo>
                      <a:pt x="7399" y="5"/>
                      <a:pt x="7399" y="6"/>
                      <a:pt x="7397" y="6"/>
                    </a:cubicBezTo>
                    <a:lnTo>
                      <a:pt x="7397" y="6"/>
                    </a:lnTo>
                    <a:cubicBezTo>
                      <a:pt x="7396" y="6"/>
                      <a:pt x="7395" y="5"/>
                      <a:pt x="7395" y="4"/>
                    </a:cubicBezTo>
                    <a:cubicBezTo>
                      <a:pt x="7395" y="2"/>
                      <a:pt x="7396" y="2"/>
                      <a:pt x="7397" y="2"/>
                    </a:cubicBezTo>
                    <a:close/>
                    <a:moveTo>
                      <a:pt x="7405" y="2"/>
                    </a:moveTo>
                    <a:lnTo>
                      <a:pt x="7405" y="2"/>
                    </a:lnTo>
                    <a:cubicBezTo>
                      <a:pt x="7407" y="2"/>
                      <a:pt x="7407" y="2"/>
                      <a:pt x="7407" y="4"/>
                    </a:cubicBezTo>
                    <a:cubicBezTo>
                      <a:pt x="7407" y="5"/>
                      <a:pt x="7407" y="6"/>
                      <a:pt x="7405" y="6"/>
                    </a:cubicBezTo>
                    <a:lnTo>
                      <a:pt x="7405" y="6"/>
                    </a:lnTo>
                    <a:cubicBezTo>
                      <a:pt x="7404" y="6"/>
                      <a:pt x="7403" y="5"/>
                      <a:pt x="7403" y="4"/>
                    </a:cubicBezTo>
                    <a:cubicBezTo>
                      <a:pt x="7403" y="2"/>
                      <a:pt x="7404" y="2"/>
                      <a:pt x="7405" y="2"/>
                    </a:cubicBezTo>
                    <a:close/>
                    <a:moveTo>
                      <a:pt x="7413" y="2"/>
                    </a:moveTo>
                    <a:lnTo>
                      <a:pt x="7413" y="2"/>
                    </a:lnTo>
                    <a:cubicBezTo>
                      <a:pt x="7415" y="2"/>
                      <a:pt x="7415" y="2"/>
                      <a:pt x="7415" y="4"/>
                    </a:cubicBezTo>
                    <a:cubicBezTo>
                      <a:pt x="7415" y="5"/>
                      <a:pt x="7415" y="6"/>
                      <a:pt x="7413" y="6"/>
                    </a:cubicBezTo>
                    <a:lnTo>
                      <a:pt x="7413" y="6"/>
                    </a:lnTo>
                    <a:cubicBezTo>
                      <a:pt x="7412" y="6"/>
                      <a:pt x="7411" y="5"/>
                      <a:pt x="7411" y="4"/>
                    </a:cubicBezTo>
                    <a:cubicBezTo>
                      <a:pt x="7411" y="2"/>
                      <a:pt x="7412" y="2"/>
                      <a:pt x="7413" y="2"/>
                    </a:cubicBezTo>
                    <a:close/>
                    <a:moveTo>
                      <a:pt x="7421" y="2"/>
                    </a:moveTo>
                    <a:lnTo>
                      <a:pt x="7421" y="2"/>
                    </a:lnTo>
                    <a:cubicBezTo>
                      <a:pt x="7423" y="2"/>
                      <a:pt x="7423" y="2"/>
                      <a:pt x="7423" y="4"/>
                    </a:cubicBezTo>
                    <a:cubicBezTo>
                      <a:pt x="7423" y="5"/>
                      <a:pt x="7423" y="6"/>
                      <a:pt x="7421" y="6"/>
                    </a:cubicBezTo>
                    <a:lnTo>
                      <a:pt x="7421" y="6"/>
                    </a:lnTo>
                    <a:cubicBezTo>
                      <a:pt x="7420" y="6"/>
                      <a:pt x="7419" y="5"/>
                      <a:pt x="7419" y="4"/>
                    </a:cubicBezTo>
                    <a:cubicBezTo>
                      <a:pt x="7419" y="2"/>
                      <a:pt x="7420" y="2"/>
                      <a:pt x="7421" y="2"/>
                    </a:cubicBezTo>
                    <a:close/>
                    <a:moveTo>
                      <a:pt x="7429" y="2"/>
                    </a:moveTo>
                    <a:lnTo>
                      <a:pt x="7429" y="2"/>
                    </a:lnTo>
                    <a:cubicBezTo>
                      <a:pt x="7431" y="2"/>
                      <a:pt x="7431" y="2"/>
                      <a:pt x="7431" y="4"/>
                    </a:cubicBezTo>
                    <a:cubicBezTo>
                      <a:pt x="7431" y="5"/>
                      <a:pt x="7431" y="6"/>
                      <a:pt x="7429" y="6"/>
                    </a:cubicBezTo>
                    <a:lnTo>
                      <a:pt x="7429" y="6"/>
                    </a:lnTo>
                    <a:cubicBezTo>
                      <a:pt x="7428" y="6"/>
                      <a:pt x="7427" y="5"/>
                      <a:pt x="7427" y="4"/>
                    </a:cubicBezTo>
                    <a:cubicBezTo>
                      <a:pt x="7427" y="2"/>
                      <a:pt x="7428" y="2"/>
                      <a:pt x="7429" y="2"/>
                    </a:cubicBezTo>
                    <a:close/>
                    <a:moveTo>
                      <a:pt x="7437" y="2"/>
                    </a:moveTo>
                    <a:lnTo>
                      <a:pt x="7437" y="2"/>
                    </a:lnTo>
                    <a:cubicBezTo>
                      <a:pt x="7439" y="2"/>
                      <a:pt x="7439" y="2"/>
                      <a:pt x="7439" y="4"/>
                    </a:cubicBezTo>
                    <a:cubicBezTo>
                      <a:pt x="7439" y="5"/>
                      <a:pt x="7439" y="6"/>
                      <a:pt x="7437" y="6"/>
                    </a:cubicBezTo>
                    <a:lnTo>
                      <a:pt x="7437" y="6"/>
                    </a:lnTo>
                    <a:cubicBezTo>
                      <a:pt x="7436" y="6"/>
                      <a:pt x="7435" y="5"/>
                      <a:pt x="7435" y="4"/>
                    </a:cubicBezTo>
                    <a:cubicBezTo>
                      <a:pt x="7435" y="2"/>
                      <a:pt x="7436" y="2"/>
                      <a:pt x="7437" y="2"/>
                    </a:cubicBezTo>
                    <a:close/>
                    <a:moveTo>
                      <a:pt x="7445" y="2"/>
                    </a:moveTo>
                    <a:lnTo>
                      <a:pt x="7445" y="2"/>
                    </a:lnTo>
                    <a:cubicBezTo>
                      <a:pt x="7447" y="2"/>
                      <a:pt x="7447" y="2"/>
                      <a:pt x="7447" y="4"/>
                    </a:cubicBezTo>
                    <a:cubicBezTo>
                      <a:pt x="7447" y="5"/>
                      <a:pt x="7447" y="6"/>
                      <a:pt x="7445" y="6"/>
                    </a:cubicBezTo>
                    <a:lnTo>
                      <a:pt x="7445" y="6"/>
                    </a:lnTo>
                    <a:cubicBezTo>
                      <a:pt x="7444" y="6"/>
                      <a:pt x="7443" y="5"/>
                      <a:pt x="7443" y="4"/>
                    </a:cubicBezTo>
                    <a:cubicBezTo>
                      <a:pt x="7443" y="2"/>
                      <a:pt x="7444" y="2"/>
                      <a:pt x="7445" y="2"/>
                    </a:cubicBezTo>
                    <a:close/>
                    <a:moveTo>
                      <a:pt x="7453" y="2"/>
                    </a:moveTo>
                    <a:lnTo>
                      <a:pt x="7453" y="2"/>
                    </a:lnTo>
                    <a:cubicBezTo>
                      <a:pt x="7455" y="2"/>
                      <a:pt x="7455" y="2"/>
                      <a:pt x="7455" y="4"/>
                    </a:cubicBezTo>
                    <a:cubicBezTo>
                      <a:pt x="7455" y="5"/>
                      <a:pt x="7455" y="6"/>
                      <a:pt x="7453" y="6"/>
                    </a:cubicBezTo>
                    <a:lnTo>
                      <a:pt x="7453" y="6"/>
                    </a:lnTo>
                    <a:cubicBezTo>
                      <a:pt x="7452" y="6"/>
                      <a:pt x="7451" y="5"/>
                      <a:pt x="7451" y="4"/>
                    </a:cubicBezTo>
                    <a:cubicBezTo>
                      <a:pt x="7451" y="2"/>
                      <a:pt x="7452" y="2"/>
                      <a:pt x="7453" y="2"/>
                    </a:cubicBezTo>
                    <a:close/>
                    <a:moveTo>
                      <a:pt x="7461" y="2"/>
                    </a:moveTo>
                    <a:lnTo>
                      <a:pt x="7461" y="2"/>
                    </a:lnTo>
                    <a:cubicBezTo>
                      <a:pt x="7463" y="2"/>
                      <a:pt x="7463" y="2"/>
                      <a:pt x="7463" y="4"/>
                    </a:cubicBezTo>
                    <a:cubicBezTo>
                      <a:pt x="7463" y="5"/>
                      <a:pt x="7463" y="6"/>
                      <a:pt x="7461" y="6"/>
                    </a:cubicBezTo>
                    <a:lnTo>
                      <a:pt x="7461" y="6"/>
                    </a:lnTo>
                    <a:cubicBezTo>
                      <a:pt x="7460" y="6"/>
                      <a:pt x="7459" y="5"/>
                      <a:pt x="7459" y="4"/>
                    </a:cubicBezTo>
                    <a:cubicBezTo>
                      <a:pt x="7459" y="2"/>
                      <a:pt x="7460" y="2"/>
                      <a:pt x="7461" y="2"/>
                    </a:cubicBezTo>
                    <a:close/>
                    <a:moveTo>
                      <a:pt x="7469" y="2"/>
                    </a:moveTo>
                    <a:lnTo>
                      <a:pt x="7469" y="2"/>
                    </a:lnTo>
                    <a:cubicBezTo>
                      <a:pt x="7471" y="2"/>
                      <a:pt x="7471" y="3"/>
                      <a:pt x="7471" y="4"/>
                    </a:cubicBezTo>
                    <a:cubicBezTo>
                      <a:pt x="7471" y="5"/>
                      <a:pt x="7471" y="6"/>
                      <a:pt x="7469" y="6"/>
                    </a:cubicBezTo>
                    <a:lnTo>
                      <a:pt x="7469" y="6"/>
                    </a:lnTo>
                    <a:cubicBezTo>
                      <a:pt x="7468" y="6"/>
                      <a:pt x="7467" y="5"/>
                      <a:pt x="7467" y="4"/>
                    </a:cubicBezTo>
                    <a:cubicBezTo>
                      <a:pt x="7467" y="3"/>
                      <a:pt x="7468" y="2"/>
                      <a:pt x="7469" y="2"/>
                    </a:cubicBezTo>
                    <a:close/>
                    <a:moveTo>
                      <a:pt x="7477" y="2"/>
                    </a:moveTo>
                    <a:lnTo>
                      <a:pt x="7477" y="2"/>
                    </a:lnTo>
                    <a:cubicBezTo>
                      <a:pt x="7479" y="2"/>
                      <a:pt x="7479" y="3"/>
                      <a:pt x="7479" y="4"/>
                    </a:cubicBezTo>
                    <a:cubicBezTo>
                      <a:pt x="7479" y="5"/>
                      <a:pt x="7479" y="6"/>
                      <a:pt x="7477" y="6"/>
                    </a:cubicBezTo>
                    <a:lnTo>
                      <a:pt x="7477" y="6"/>
                    </a:lnTo>
                    <a:cubicBezTo>
                      <a:pt x="7476" y="6"/>
                      <a:pt x="7475" y="5"/>
                      <a:pt x="7475" y="4"/>
                    </a:cubicBezTo>
                    <a:cubicBezTo>
                      <a:pt x="7475" y="3"/>
                      <a:pt x="7476" y="2"/>
                      <a:pt x="7477" y="2"/>
                    </a:cubicBezTo>
                    <a:close/>
                    <a:moveTo>
                      <a:pt x="7485" y="2"/>
                    </a:moveTo>
                    <a:lnTo>
                      <a:pt x="7485" y="2"/>
                    </a:lnTo>
                    <a:cubicBezTo>
                      <a:pt x="7487" y="2"/>
                      <a:pt x="7487" y="3"/>
                      <a:pt x="7487" y="4"/>
                    </a:cubicBezTo>
                    <a:cubicBezTo>
                      <a:pt x="7487" y="5"/>
                      <a:pt x="7487" y="6"/>
                      <a:pt x="7485" y="6"/>
                    </a:cubicBezTo>
                    <a:lnTo>
                      <a:pt x="7485" y="6"/>
                    </a:lnTo>
                    <a:cubicBezTo>
                      <a:pt x="7484" y="6"/>
                      <a:pt x="7483" y="5"/>
                      <a:pt x="7483" y="4"/>
                    </a:cubicBezTo>
                    <a:cubicBezTo>
                      <a:pt x="7483" y="3"/>
                      <a:pt x="7484" y="2"/>
                      <a:pt x="7485" y="2"/>
                    </a:cubicBezTo>
                    <a:close/>
                    <a:moveTo>
                      <a:pt x="7493" y="2"/>
                    </a:moveTo>
                    <a:lnTo>
                      <a:pt x="7493" y="2"/>
                    </a:lnTo>
                    <a:cubicBezTo>
                      <a:pt x="7495" y="2"/>
                      <a:pt x="7495" y="3"/>
                      <a:pt x="7495" y="4"/>
                    </a:cubicBezTo>
                    <a:cubicBezTo>
                      <a:pt x="7495" y="5"/>
                      <a:pt x="7495" y="6"/>
                      <a:pt x="7493" y="6"/>
                    </a:cubicBezTo>
                    <a:lnTo>
                      <a:pt x="7493" y="6"/>
                    </a:lnTo>
                    <a:cubicBezTo>
                      <a:pt x="7492" y="6"/>
                      <a:pt x="7491" y="5"/>
                      <a:pt x="7491" y="4"/>
                    </a:cubicBezTo>
                    <a:cubicBezTo>
                      <a:pt x="7491" y="3"/>
                      <a:pt x="7492" y="2"/>
                      <a:pt x="7493" y="2"/>
                    </a:cubicBezTo>
                    <a:close/>
                    <a:moveTo>
                      <a:pt x="7501" y="2"/>
                    </a:moveTo>
                    <a:lnTo>
                      <a:pt x="7501" y="2"/>
                    </a:lnTo>
                    <a:cubicBezTo>
                      <a:pt x="7503" y="2"/>
                      <a:pt x="7503" y="3"/>
                      <a:pt x="7503" y="4"/>
                    </a:cubicBezTo>
                    <a:cubicBezTo>
                      <a:pt x="7503" y="5"/>
                      <a:pt x="7503" y="6"/>
                      <a:pt x="7501" y="6"/>
                    </a:cubicBezTo>
                    <a:lnTo>
                      <a:pt x="7501" y="6"/>
                    </a:lnTo>
                    <a:cubicBezTo>
                      <a:pt x="7500" y="6"/>
                      <a:pt x="7499" y="5"/>
                      <a:pt x="7499" y="4"/>
                    </a:cubicBezTo>
                    <a:cubicBezTo>
                      <a:pt x="7499" y="3"/>
                      <a:pt x="7500" y="2"/>
                      <a:pt x="7501" y="2"/>
                    </a:cubicBezTo>
                    <a:close/>
                    <a:moveTo>
                      <a:pt x="7509" y="2"/>
                    </a:moveTo>
                    <a:lnTo>
                      <a:pt x="7509" y="2"/>
                    </a:lnTo>
                    <a:cubicBezTo>
                      <a:pt x="7511" y="2"/>
                      <a:pt x="7511" y="3"/>
                      <a:pt x="7511" y="4"/>
                    </a:cubicBezTo>
                    <a:cubicBezTo>
                      <a:pt x="7511" y="5"/>
                      <a:pt x="7511" y="6"/>
                      <a:pt x="7509" y="6"/>
                    </a:cubicBezTo>
                    <a:lnTo>
                      <a:pt x="7509" y="6"/>
                    </a:lnTo>
                    <a:cubicBezTo>
                      <a:pt x="7508" y="6"/>
                      <a:pt x="7507" y="5"/>
                      <a:pt x="7507" y="4"/>
                    </a:cubicBezTo>
                    <a:cubicBezTo>
                      <a:pt x="7507" y="3"/>
                      <a:pt x="7508" y="2"/>
                      <a:pt x="7509" y="2"/>
                    </a:cubicBezTo>
                    <a:close/>
                    <a:moveTo>
                      <a:pt x="7517" y="2"/>
                    </a:moveTo>
                    <a:lnTo>
                      <a:pt x="7517" y="2"/>
                    </a:lnTo>
                    <a:cubicBezTo>
                      <a:pt x="7519" y="2"/>
                      <a:pt x="7519" y="3"/>
                      <a:pt x="7519" y="4"/>
                    </a:cubicBezTo>
                    <a:cubicBezTo>
                      <a:pt x="7519" y="5"/>
                      <a:pt x="7519" y="6"/>
                      <a:pt x="7517" y="6"/>
                    </a:cubicBezTo>
                    <a:lnTo>
                      <a:pt x="7517" y="6"/>
                    </a:lnTo>
                    <a:cubicBezTo>
                      <a:pt x="7516" y="6"/>
                      <a:pt x="7515" y="5"/>
                      <a:pt x="7515" y="4"/>
                    </a:cubicBezTo>
                    <a:cubicBezTo>
                      <a:pt x="7515" y="3"/>
                      <a:pt x="7516" y="2"/>
                      <a:pt x="7517" y="2"/>
                    </a:cubicBezTo>
                    <a:close/>
                    <a:moveTo>
                      <a:pt x="7525" y="2"/>
                    </a:moveTo>
                    <a:lnTo>
                      <a:pt x="7525" y="2"/>
                    </a:lnTo>
                    <a:cubicBezTo>
                      <a:pt x="7527" y="2"/>
                      <a:pt x="7527" y="3"/>
                      <a:pt x="7527" y="4"/>
                    </a:cubicBezTo>
                    <a:cubicBezTo>
                      <a:pt x="7527" y="5"/>
                      <a:pt x="7527" y="6"/>
                      <a:pt x="7525" y="6"/>
                    </a:cubicBezTo>
                    <a:lnTo>
                      <a:pt x="7525" y="6"/>
                    </a:lnTo>
                    <a:cubicBezTo>
                      <a:pt x="7524" y="6"/>
                      <a:pt x="7523" y="5"/>
                      <a:pt x="7523" y="4"/>
                    </a:cubicBezTo>
                    <a:cubicBezTo>
                      <a:pt x="7523" y="3"/>
                      <a:pt x="7524" y="2"/>
                      <a:pt x="7525" y="2"/>
                    </a:cubicBezTo>
                    <a:close/>
                    <a:moveTo>
                      <a:pt x="7533" y="2"/>
                    </a:moveTo>
                    <a:lnTo>
                      <a:pt x="7534" y="2"/>
                    </a:lnTo>
                    <a:cubicBezTo>
                      <a:pt x="7535" y="2"/>
                      <a:pt x="7536" y="3"/>
                      <a:pt x="7536" y="4"/>
                    </a:cubicBezTo>
                    <a:cubicBezTo>
                      <a:pt x="7536" y="5"/>
                      <a:pt x="7535" y="6"/>
                      <a:pt x="7534" y="6"/>
                    </a:cubicBezTo>
                    <a:lnTo>
                      <a:pt x="7533" y="6"/>
                    </a:lnTo>
                    <a:cubicBezTo>
                      <a:pt x="7532" y="6"/>
                      <a:pt x="7531" y="5"/>
                      <a:pt x="7531" y="4"/>
                    </a:cubicBezTo>
                    <a:cubicBezTo>
                      <a:pt x="7531" y="3"/>
                      <a:pt x="7532" y="2"/>
                      <a:pt x="7533" y="2"/>
                    </a:cubicBezTo>
                    <a:close/>
                    <a:moveTo>
                      <a:pt x="7542" y="2"/>
                    </a:moveTo>
                    <a:lnTo>
                      <a:pt x="7542" y="2"/>
                    </a:lnTo>
                    <a:cubicBezTo>
                      <a:pt x="7543" y="2"/>
                      <a:pt x="7544" y="3"/>
                      <a:pt x="7544" y="4"/>
                    </a:cubicBezTo>
                    <a:cubicBezTo>
                      <a:pt x="7544" y="5"/>
                      <a:pt x="7543" y="6"/>
                      <a:pt x="7542" y="6"/>
                    </a:cubicBezTo>
                    <a:lnTo>
                      <a:pt x="7542" y="6"/>
                    </a:lnTo>
                    <a:cubicBezTo>
                      <a:pt x="7540" y="6"/>
                      <a:pt x="7540" y="5"/>
                      <a:pt x="7540" y="4"/>
                    </a:cubicBezTo>
                    <a:cubicBezTo>
                      <a:pt x="7540" y="3"/>
                      <a:pt x="7540" y="2"/>
                      <a:pt x="7542" y="2"/>
                    </a:cubicBezTo>
                    <a:close/>
                    <a:moveTo>
                      <a:pt x="7550" y="2"/>
                    </a:moveTo>
                    <a:lnTo>
                      <a:pt x="7550" y="2"/>
                    </a:lnTo>
                    <a:cubicBezTo>
                      <a:pt x="7551" y="2"/>
                      <a:pt x="7552" y="3"/>
                      <a:pt x="7552" y="4"/>
                    </a:cubicBezTo>
                    <a:cubicBezTo>
                      <a:pt x="7552" y="5"/>
                      <a:pt x="7551" y="6"/>
                      <a:pt x="7550" y="6"/>
                    </a:cubicBezTo>
                    <a:lnTo>
                      <a:pt x="7550" y="6"/>
                    </a:lnTo>
                    <a:cubicBezTo>
                      <a:pt x="7548" y="6"/>
                      <a:pt x="7548" y="5"/>
                      <a:pt x="7548" y="4"/>
                    </a:cubicBezTo>
                    <a:cubicBezTo>
                      <a:pt x="7548" y="3"/>
                      <a:pt x="7548" y="2"/>
                      <a:pt x="7550" y="2"/>
                    </a:cubicBezTo>
                    <a:close/>
                    <a:moveTo>
                      <a:pt x="7558" y="2"/>
                    </a:moveTo>
                    <a:lnTo>
                      <a:pt x="7558" y="2"/>
                    </a:lnTo>
                    <a:cubicBezTo>
                      <a:pt x="7559" y="2"/>
                      <a:pt x="7560" y="3"/>
                      <a:pt x="7560" y="4"/>
                    </a:cubicBezTo>
                    <a:cubicBezTo>
                      <a:pt x="7560" y="5"/>
                      <a:pt x="7559" y="6"/>
                      <a:pt x="7558" y="6"/>
                    </a:cubicBezTo>
                    <a:lnTo>
                      <a:pt x="7558" y="6"/>
                    </a:lnTo>
                    <a:cubicBezTo>
                      <a:pt x="7556" y="6"/>
                      <a:pt x="7556" y="5"/>
                      <a:pt x="7556" y="4"/>
                    </a:cubicBezTo>
                    <a:cubicBezTo>
                      <a:pt x="7556" y="3"/>
                      <a:pt x="7556" y="2"/>
                      <a:pt x="7558" y="2"/>
                    </a:cubicBezTo>
                    <a:close/>
                    <a:moveTo>
                      <a:pt x="7566" y="2"/>
                    </a:moveTo>
                    <a:lnTo>
                      <a:pt x="7566" y="2"/>
                    </a:lnTo>
                    <a:cubicBezTo>
                      <a:pt x="7567" y="2"/>
                      <a:pt x="7568" y="3"/>
                      <a:pt x="7568" y="4"/>
                    </a:cubicBezTo>
                    <a:cubicBezTo>
                      <a:pt x="7568" y="5"/>
                      <a:pt x="7567" y="6"/>
                      <a:pt x="7566" y="6"/>
                    </a:cubicBezTo>
                    <a:lnTo>
                      <a:pt x="7566" y="6"/>
                    </a:lnTo>
                    <a:cubicBezTo>
                      <a:pt x="7564" y="6"/>
                      <a:pt x="7564" y="5"/>
                      <a:pt x="7564" y="4"/>
                    </a:cubicBezTo>
                    <a:cubicBezTo>
                      <a:pt x="7564" y="3"/>
                      <a:pt x="7564" y="2"/>
                      <a:pt x="7566" y="2"/>
                    </a:cubicBezTo>
                    <a:close/>
                    <a:moveTo>
                      <a:pt x="7574" y="2"/>
                    </a:moveTo>
                    <a:lnTo>
                      <a:pt x="7574" y="2"/>
                    </a:lnTo>
                    <a:cubicBezTo>
                      <a:pt x="7575" y="2"/>
                      <a:pt x="7576" y="3"/>
                      <a:pt x="7576" y="4"/>
                    </a:cubicBezTo>
                    <a:cubicBezTo>
                      <a:pt x="7576" y="5"/>
                      <a:pt x="7575" y="6"/>
                      <a:pt x="7574" y="6"/>
                    </a:cubicBezTo>
                    <a:lnTo>
                      <a:pt x="7574" y="6"/>
                    </a:lnTo>
                    <a:cubicBezTo>
                      <a:pt x="7572" y="6"/>
                      <a:pt x="7572" y="5"/>
                      <a:pt x="7572" y="4"/>
                    </a:cubicBezTo>
                    <a:cubicBezTo>
                      <a:pt x="7572" y="3"/>
                      <a:pt x="7572" y="2"/>
                      <a:pt x="7574" y="2"/>
                    </a:cubicBezTo>
                    <a:close/>
                    <a:moveTo>
                      <a:pt x="7582" y="2"/>
                    </a:moveTo>
                    <a:lnTo>
                      <a:pt x="7582" y="2"/>
                    </a:lnTo>
                    <a:cubicBezTo>
                      <a:pt x="7583" y="2"/>
                      <a:pt x="7584" y="3"/>
                      <a:pt x="7584" y="4"/>
                    </a:cubicBezTo>
                    <a:cubicBezTo>
                      <a:pt x="7584" y="5"/>
                      <a:pt x="7583" y="6"/>
                      <a:pt x="7582" y="6"/>
                    </a:cubicBezTo>
                    <a:lnTo>
                      <a:pt x="7582" y="6"/>
                    </a:lnTo>
                    <a:cubicBezTo>
                      <a:pt x="7580" y="6"/>
                      <a:pt x="7580" y="5"/>
                      <a:pt x="7580" y="4"/>
                    </a:cubicBezTo>
                    <a:cubicBezTo>
                      <a:pt x="7580" y="3"/>
                      <a:pt x="7580" y="2"/>
                      <a:pt x="7582" y="2"/>
                    </a:cubicBezTo>
                    <a:close/>
                    <a:moveTo>
                      <a:pt x="7590" y="2"/>
                    </a:moveTo>
                    <a:lnTo>
                      <a:pt x="7590" y="2"/>
                    </a:lnTo>
                    <a:cubicBezTo>
                      <a:pt x="7591" y="2"/>
                      <a:pt x="7592" y="3"/>
                      <a:pt x="7592" y="4"/>
                    </a:cubicBezTo>
                    <a:cubicBezTo>
                      <a:pt x="7592" y="5"/>
                      <a:pt x="7591" y="6"/>
                      <a:pt x="7590" y="6"/>
                    </a:cubicBezTo>
                    <a:lnTo>
                      <a:pt x="7590" y="6"/>
                    </a:lnTo>
                    <a:cubicBezTo>
                      <a:pt x="7588" y="6"/>
                      <a:pt x="7588" y="5"/>
                      <a:pt x="7588" y="4"/>
                    </a:cubicBezTo>
                    <a:cubicBezTo>
                      <a:pt x="7588" y="3"/>
                      <a:pt x="7588" y="2"/>
                      <a:pt x="7590" y="2"/>
                    </a:cubicBezTo>
                    <a:close/>
                    <a:moveTo>
                      <a:pt x="7598" y="2"/>
                    </a:moveTo>
                    <a:lnTo>
                      <a:pt x="7598" y="2"/>
                    </a:lnTo>
                    <a:cubicBezTo>
                      <a:pt x="7599" y="2"/>
                      <a:pt x="7600" y="3"/>
                      <a:pt x="7600" y="4"/>
                    </a:cubicBezTo>
                    <a:cubicBezTo>
                      <a:pt x="7600" y="5"/>
                      <a:pt x="7599" y="6"/>
                      <a:pt x="7598" y="6"/>
                    </a:cubicBezTo>
                    <a:lnTo>
                      <a:pt x="7598" y="6"/>
                    </a:lnTo>
                    <a:cubicBezTo>
                      <a:pt x="7596" y="6"/>
                      <a:pt x="7596" y="5"/>
                      <a:pt x="7596" y="4"/>
                    </a:cubicBezTo>
                    <a:cubicBezTo>
                      <a:pt x="7596" y="3"/>
                      <a:pt x="7596" y="2"/>
                      <a:pt x="7598" y="2"/>
                    </a:cubicBezTo>
                    <a:close/>
                    <a:moveTo>
                      <a:pt x="7606" y="2"/>
                    </a:moveTo>
                    <a:lnTo>
                      <a:pt x="7606" y="2"/>
                    </a:lnTo>
                    <a:cubicBezTo>
                      <a:pt x="7607" y="2"/>
                      <a:pt x="7608" y="3"/>
                      <a:pt x="7608" y="4"/>
                    </a:cubicBezTo>
                    <a:cubicBezTo>
                      <a:pt x="7608" y="5"/>
                      <a:pt x="7607" y="6"/>
                      <a:pt x="7606" y="6"/>
                    </a:cubicBezTo>
                    <a:lnTo>
                      <a:pt x="7606" y="6"/>
                    </a:lnTo>
                    <a:cubicBezTo>
                      <a:pt x="7604" y="6"/>
                      <a:pt x="7604" y="5"/>
                      <a:pt x="7604" y="4"/>
                    </a:cubicBezTo>
                    <a:cubicBezTo>
                      <a:pt x="7604" y="3"/>
                      <a:pt x="7604" y="2"/>
                      <a:pt x="7606" y="2"/>
                    </a:cubicBezTo>
                    <a:close/>
                    <a:moveTo>
                      <a:pt x="7614" y="2"/>
                    </a:moveTo>
                    <a:lnTo>
                      <a:pt x="7614" y="2"/>
                    </a:lnTo>
                    <a:cubicBezTo>
                      <a:pt x="7615" y="2"/>
                      <a:pt x="7616" y="3"/>
                      <a:pt x="7616" y="4"/>
                    </a:cubicBezTo>
                    <a:cubicBezTo>
                      <a:pt x="7616" y="5"/>
                      <a:pt x="7615" y="6"/>
                      <a:pt x="7614" y="6"/>
                    </a:cubicBezTo>
                    <a:lnTo>
                      <a:pt x="7614" y="6"/>
                    </a:lnTo>
                    <a:cubicBezTo>
                      <a:pt x="7612" y="6"/>
                      <a:pt x="7612" y="5"/>
                      <a:pt x="7612" y="4"/>
                    </a:cubicBezTo>
                    <a:cubicBezTo>
                      <a:pt x="7612" y="3"/>
                      <a:pt x="7612" y="2"/>
                      <a:pt x="7614" y="2"/>
                    </a:cubicBezTo>
                    <a:close/>
                    <a:moveTo>
                      <a:pt x="7622" y="2"/>
                    </a:moveTo>
                    <a:lnTo>
                      <a:pt x="7622" y="2"/>
                    </a:lnTo>
                    <a:cubicBezTo>
                      <a:pt x="7623" y="2"/>
                      <a:pt x="7624" y="3"/>
                      <a:pt x="7624" y="4"/>
                    </a:cubicBezTo>
                    <a:cubicBezTo>
                      <a:pt x="7624" y="5"/>
                      <a:pt x="7623" y="6"/>
                      <a:pt x="7622" y="6"/>
                    </a:cubicBezTo>
                    <a:lnTo>
                      <a:pt x="7622" y="6"/>
                    </a:lnTo>
                    <a:cubicBezTo>
                      <a:pt x="7620" y="6"/>
                      <a:pt x="7620" y="5"/>
                      <a:pt x="7620" y="4"/>
                    </a:cubicBezTo>
                    <a:cubicBezTo>
                      <a:pt x="7620" y="3"/>
                      <a:pt x="7620" y="2"/>
                      <a:pt x="7622" y="2"/>
                    </a:cubicBezTo>
                    <a:close/>
                    <a:moveTo>
                      <a:pt x="7630" y="2"/>
                    </a:moveTo>
                    <a:lnTo>
                      <a:pt x="7630" y="2"/>
                    </a:lnTo>
                    <a:cubicBezTo>
                      <a:pt x="7631" y="2"/>
                      <a:pt x="7632" y="3"/>
                      <a:pt x="7632" y="4"/>
                    </a:cubicBezTo>
                    <a:cubicBezTo>
                      <a:pt x="7632" y="5"/>
                      <a:pt x="7631" y="6"/>
                      <a:pt x="7630" y="6"/>
                    </a:cubicBezTo>
                    <a:lnTo>
                      <a:pt x="7630" y="6"/>
                    </a:lnTo>
                    <a:cubicBezTo>
                      <a:pt x="7628" y="6"/>
                      <a:pt x="7628" y="5"/>
                      <a:pt x="7628" y="4"/>
                    </a:cubicBezTo>
                    <a:cubicBezTo>
                      <a:pt x="7628" y="3"/>
                      <a:pt x="7628" y="2"/>
                      <a:pt x="7630" y="2"/>
                    </a:cubicBezTo>
                    <a:close/>
                    <a:moveTo>
                      <a:pt x="7638" y="2"/>
                    </a:moveTo>
                    <a:lnTo>
                      <a:pt x="7638" y="2"/>
                    </a:lnTo>
                    <a:cubicBezTo>
                      <a:pt x="7639" y="2"/>
                      <a:pt x="7640" y="3"/>
                      <a:pt x="7640" y="4"/>
                    </a:cubicBezTo>
                    <a:cubicBezTo>
                      <a:pt x="7640" y="5"/>
                      <a:pt x="7639" y="6"/>
                      <a:pt x="7638" y="6"/>
                    </a:cubicBezTo>
                    <a:lnTo>
                      <a:pt x="7638" y="6"/>
                    </a:lnTo>
                    <a:cubicBezTo>
                      <a:pt x="7636" y="6"/>
                      <a:pt x="7636" y="5"/>
                      <a:pt x="7636" y="4"/>
                    </a:cubicBezTo>
                    <a:cubicBezTo>
                      <a:pt x="7636" y="3"/>
                      <a:pt x="7636" y="2"/>
                      <a:pt x="7638" y="2"/>
                    </a:cubicBezTo>
                    <a:close/>
                    <a:moveTo>
                      <a:pt x="7646" y="2"/>
                    </a:moveTo>
                    <a:lnTo>
                      <a:pt x="7646" y="2"/>
                    </a:lnTo>
                    <a:cubicBezTo>
                      <a:pt x="7647" y="2"/>
                      <a:pt x="7648" y="3"/>
                      <a:pt x="7648" y="4"/>
                    </a:cubicBezTo>
                    <a:cubicBezTo>
                      <a:pt x="7648" y="5"/>
                      <a:pt x="7647" y="6"/>
                      <a:pt x="7646" y="6"/>
                    </a:cubicBezTo>
                    <a:lnTo>
                      <a:pt x="7646" y="6"/>
                    </a:lnTo>
                    <a:cubicBezTo>
                      <a:pt x="7644" y="6"/>
                      <a:pt x="7644" y="5"/>
                      <a:pt x="7644" y="4"/>
                    </a:cubicBezTo>
                    <a:cubicBezTo>
                      <a:pt x="7644" y="3"/>
                      <a:pt x="7644" y="2"/>
                      <a:pt x="7646" y="2"/>
                    </a:cubicBezTo>
                    <a:close/>
                    <a:moveTo>
                      <a:pt x="7654" y="2"/>
                    </a:moveTo>
                    <a:lnTo>
                      <a:pt x="7654" y="2"/>
                    </a:lnTo>
                    <a:cubicBezTo>
                      <a:pt x="7655" y="2"/>
                      <a:pt x="7656" y="3"/>
                      <a:pt x="7656" y="4"/>
                    </a:cubicBezTo>
                    <a:cubicBezTo>
                      <a:pt x="7656" y="5"/>
                      <a:pt x="7655" y="6"/>
                      <a:pt x="7654" y="6"/>
                    </a:cubicBezTo>
                    <a:lnTo>
                      <a:pt x="7654" y="6"/>
                    </a:lnTo>
                    <a:cubicBezTo>
                      <a:pt x="7652" y="6"/>
                      <a:pt x="7652" y="5"/>
                      <a:pt x="7652" y="4"/>
                    </a:cubicBezTo>
                    <a:cubicBezTo>
                      <a:pt x="7652" y="3"/>
                      <a:pt x="7652" y="2"/>
                      <a:pt x="7654" y="2"/>
                    </a:cubicBezTo>
                    <a:close/>
                    <a:moveTo>
                      <a:pt x="7662" y="2"/>
                    </a:moveTo>
                    <a:lnTo>
                      <a:pt x="7662" y="2"/>
                    </a:lnTo>
                    <a:cubicBezTo>
                      <a:pt x="7663" y="2"/>
                      <a:pt x="7664" y="3"/>
                      <a:pt x="7664" y="4"/>
                    </a:cubicBezTo>
                    <a:cubicBezTo>
                      <a:pt x="7664" y="5"/>
                      <a:pt x="7663" y="6"/>
                      <a:pt x="7662" y="6"/>
                    </a:cubicBezTo>
                    <a:lnTo>
                      <a:pt x="7662" y="6"/>
                    </a:lnTo>
                    <a:cubicBezTo>
                      <a:pt x="7660" y="6"/>
                      <a:pt x="7660" y="5"/>
                      <a:pt x="7660" y="4"/>
                    </a:cubicBezTo>
                    <a:cubicBezTo>
                      <a:pt x="7660" y="3"/>
                      <a:pt x="7660" y="2"/>
                      <a:pt x="7662" y="2"/>
                    </a:cubicBezTo>
                    <a:close/>
                    <a:moveTo>
                      <a:pt x="7670" y="2"/>
                    </a:moveTo>
                    <a:lnTo>
                      <a:pt x="7670" y="2"/>
                    </a:lnTo>
                    <a:cubicBezTo>
                      <a:pt x="7671" y="2"/>
                      <a:pt x="7672" y="3"/>
                      <a:pt x="7672" y="4"/>
                    </a:cubicBezTo>
                    <a:cubicBezTo>
                      <a:pt x="7672" y="5"/>
                      <a:pt x="7671" y="6"/>
                      <a:pt x="7670" y="6"/>
                    </a:cubicBezTo>
                    <a:lnTo>
                      <a:pt x="7670" y="6"/>
                    </a:lnTo>
                    <a:cubicBezTo>
                      <a:pt x="7668" y="6"/>
                      <a:pt x="7668" y="5"/>
                      <a:pt x="7668" y="4"/>
                    </a:cubicBezTo>
                    <a:cubicBezTo>
                      <a:pt x="7668" y="3"/>
                      <a:pt x="7668" y="2"/>
                      <a:pt x="7670" y="2"/>
                    </a:cubicBezTo>
                    <a:close/>
                    <a:moveTo>
                      <a:pt x="7678" y="2"/>
                    </a:moveTo>
                    <a:lnTo>
                      <a:pt x="7678" y="2"/>
                    </a:lnTo>
                    <a:cubicBezTo>
                      <a:pt x="7679" y="2"/>
                      <a:pt x="7680" y="3"/>
                      <a:pt x="7680" y="4"/>
                    </a:cubicBezTo>
                    <a:cubicBezTo>
                      <a:pt x="7680" y="5"/>
                      <a:pt x="7679" y="6"/>
                      <a:pt x="7678" y="6"/>
                    </a:cubicBezTo>
                    <a:lnTo>
                      <a:pt x="7678" y="6"/>
                    </a:lnTo>
                    <a:cubicBezTo>
                      <a:pt x="7676" y="6"/>
                      <a:pt x="7676" y="5"/>
                      <a:pt x="7676" y="4"/>
                    </a:cubicBezTo>
                    <a:cubicBezTo>
                      <a:pt x="7676" y="3"/>
                      <a:pt x="7676" y="2"/>
                      <a:pt x="7678" y="2"/>
                    </a:cubicBezTo>
                    <a:close/>
                    <a:moveTo>
                      <a:pt x="7686" y="2"/>
                    </a:moveTo>
                    <a:lnTo>
                      <a:pt x="7686" y="2"/>
                    </a:lnTo>
                    <a:cubicBezTo>
                      <a:pt x="7687" y="2"/>
                      <a:pt x="7688" y="3"/>
                      <a:pt x="7688" y="4"/>
                    </a:cubicBezTo>
                    <a:cubicBezTo>
                      <a:pt x="7688" y="5"/>
                      <a:pt x="7687" y="6"/>
                      <a:pt x="7686" y="6"/>
                    </a:cubicBezTo>
                    <a:lnTo>
                      <a:pt x="7686" y="6"/>
                    </a:lnTo>
                    <a:cubicBezTo>
                      <a:pt x="7684" y="6"/>
                      <a:pt x="7684" y="5"/>
                      <a:pt x="7684" y="4"/>
                    </a:cubicBezTo>
                    <a:cubicBezTo>
                      <a:pt x="7684" y="3"/>
                      <a:pt x="7684" y="2"/>
                      <a:pt x="7686" y="2"/>
                    </a:cubicBezTo>
                    <a:close/>
                    <a:moveTo>
                      <a:pt x="7694" y="2"/>
                    </a:moveTo>
                    <a:lnTo>
                      <a:pt x="7694" y="2"/>
                    </a:lnTo>
                    <a:cubicBezTo>
                      <a:pt x="7695" y="2"/>
                      <a:pt x="7696" y="3"/>
                      <a:pt x="7696" y="4"/>
                    </a:cubicBezTo>
                    <a:cubicBezTo>
                      <a:pt x="7696" y="5"/>
                      <a:pt x="7695" y="6"/>
                      <a:pt x="7694" y="6"/>
                    </a:cubicBezTo>
                    <a:lnTo>
                      <a:pt x="7694" y="6"/>
                    </a:lnTo>
                    <a:cubicBezTo>
                      <a:pt x="7692" y="6"/>
                      <a:pt x="7692" y="5"/>
                      <a:pt x="7692" y="4"/>
                    </a:cubicBezTo>
                    <a:cubicBezTo>
                      <a:pt x="7692" y="3"/>
                      <a:pt x="7692" y="2"/>
                      <a:pt x="7694" y="2"/>
                    </a:cubicBezTo>
                    <a:close/>
                    <a:moveTo>
                      <a:pt x="7702" y="2"/>
                    </a:moveTo>
                    <a:lnTo>
                      <a:pt x="7702" y="2"/>
                    </a:lnTo>
                    <a:cubicBezTo>
                      <a:pt x="7703" y="2"/>
                      <a:pt x="7704" y="3"/>
                      <a:pt x="7704" y="4"/>
                    </a:cubicBezTo>
                    <a:cubicBezTo>
                      <a:pt x="7704" y="5"/>
                      <a:pt x="7703" y="6"/>
                      <a:pt x="7702" y="6"/>
                    </a:cubicBezTo>
                    <a:lnTo>
                      <a:pt x="7702" y="6"/>
                    </a:lnTo>
                    <a:cubicBezTo>
                      <a:pt x="7700" y="6"/>
                      <a:pt x="7700" y="5"/>
                      <a:pt x="7700" y="4"/>
                    </a:cubicBezTo>
                    <a:cubicBezTo>
                      <a:pt x="7700" y="3"/>
                      <a:pt x="7700" y="2"/>
                      <a:pt x="7702" y="2"/>
                    </a:cubicBezTo>
                    <a:close/>
                    <a:moveTo>
                      <a:pt x="7710" y="2"/>
                    </a:moveTo>
                    <a:lnTo>
                      <a:pt x="7710" y="2"/>
                    </a:lnTo>
                    <a:cubicBezTo>
                      <a:pt x="7711" y="2"/>
                      <a:pt x="7712" y="3"/>
                      <a:pt x="7712" y="4"/>
                    </a:cubicBezTo>
                    <a:cubicBezTo>
                      <a:pt x="7712" y="5"/>
                      <a:pt x="7711" y="6"/>
                      <a:pt x="7710" y="6"/>
                    </a:cubicBezTo>
                    <a:lnTo>
                      <a:pt x="7710" y="6"/>
                    </a:lnTo>
                    <a:cubicBezTo>
                      <a:pt x="7708" y="6"/>
                      <a:pt x="7708" y="5"/>
                      <a:pt x="7708" y="4"/>
                    </a:cubicBezTo>
                    <a:cubicBezTo>
                      <a:pt x="7708" y="3"/>
                      <a:pt x="7708" y="2"/>
                      <a:pt x="7710" y="2"/>
                    </a:cubicBezTo>
                    <a:close/>
                    <a:moveTo>
                      <a:pt x="7718" y="2"/>
                    </a:moveTo>
                    <a:lnTo>
                      <a:pt x="7718" y="2"/>
                    </a:lnTo>
                    <a:cubicBezTo>
                      <a:pt x="7719" y="2"/>
                      <a:pt x="7720" y="3"/>
                      <a:pt x="7720" y="4"/>
                    </a:cubicBezTo>
                    <a:cubicBezTo>
                      <a:pt x="7720" y="5"/>
                      <a:pt x="7719" y="6"/>
                      <a:pt x="7718" y="6"/>
                    </a:cubicBezTo>
                    <a:lnTo>
                      <a:pt x="7718" y="6"/>
                    </a:lnTo>
                    <a:cubicBezTo>
                      <a:pt x="7716" y="6"/>
                      <a:pt x="7716" y="5"/>
                      <a:pt x="7716" y="4"/>
                    </a:cubicBezTo>
                    <a:cubicBezTo>
                      <a:pt x="7716" y="3"/>
                      <a:pt x="7716" y="2"/>
                      <a:pt x="7718" y="2"/>
                    </a:cubicBezTo>
                    <a:close/>
                    <a:moveTo>
                      <a:pt x="7726" y="2"/>
                    </a:moveTo>
                    <a:lnTo>
                      <a:pt x="7726" y="2"/>
                    </a:lnTo>
                    <a:cubicBezTo>
                      <a:pt x="7727" y="2"/>
                      <a:pt x="7728" y="3"/>
                      <a:pt x="7728" y="4"/>
                    </a:cubicBezTo>
                    <a:cubicBezTo>
                      <a:pt x="7728" y="5"/>
                      <a:pt x="7727" y="6"/>
                      <a:pt x="7726" y="6"/>
                    </a:cubicBezTo>
                    <a:lnTo>
                      <a:pt x="7726" y="6"/>
                    </a:lnTo>
                    <a:cubicBezTo>
                      <a:pt x="7724" y="6"/>
                      <a:pt x="7724" y="5"/>
                      <a:pt x="7724" y="4"/>
                    </a:cubicBezTo>
                    <a:cubicBezTo>
                      <a:pt x="7724" y="3"/>
                      <a:pt x="7724" y="2"/>
                      <a:pt x="7726" y="2"/>
                    </a:cubicBezTo>
                    <a:close/>
                    <a:moveTo>
                      <a:pt x="7734" y="2"/>
                    </a:moveTo>
                    <a:lnTo>
                      <a:pt x="7734" y="2"/>
                    </a:lnTo>
                    <a:cubicBezTo>
                      <a:pt x="7735" y="2"/>
                      <a:pt x="7736" y="3"/>
                      <a:pt x="7736" y="4"/>
                    </a:cubicBezTo>
                    <a:cubicBezTo>
                      <a:pt x="7736" y="5"/>
                      <a:pt x="7735" y="6"/>
                      <a:pt x="7734" y="6"/>
                    </a:cubicBezTo>
                    <a:lnTo>
                      <a:pt x="7734" y="6"/>
                    </a:lnTo>
                    <a:cubicBezTo>
                      <a:pt x="7732" y="6"/>
                      <a:pt x="7732" y="5"/>
                      <a:pt x="7732" y="4"/>
                    </a:cubicBezTo>
                    <a:cubicBezTo>
                      <a:pt x="7732" y="3"/>
                      <a:pt x="7732" y="2"/>
                      <a:pt x="7734" y="2"/>
                    </a:cubicBezTo>
                    <a:close/>
                    <a:moveTo>
                      <a:pt x="7742" y="2"/>
                    </a:moveTo>
                    <a:lnTo>
                      <a:pt x="7742" y="2"/>
                    </a:lnTo>
                    <a:cubicBezTo>
                      <a:pt x="7743" y="2"/>
                      <a:pt x="7744" y="3"/>
                      <a:pt x="7744" y="4"/>
                    </a:cubicBezTo>
                    <a:cubicBezTo>
                      <a:pt x="7744" y="5"/>
                      <a:pt x="7743" y="6"/>
                      <a:pt x="7742" y="6"/>
                    </a:cubicBezTo>
                    <a:lnTo>
                      <a:pt x="7742" y="6"/>
                    </a:lnTo>
                    <a:cubicBezTo>
                      <a:pt x="7740" y="6"/>
                      <a:pt x="7740" y="5"/>
                      <a:pt x="7740" y="4"/>
                    </a:cubicBezTo>
                    <a:cubicBezTo>
                      <a:pt x="7740" y="3"/>
                      <a:pt x="7740" y="2"/>
                      <a:pt x="7742" y="2"/>
                    </a:cubicBezTo>
                    <a:close/>
                    <a:moveTo>
                      <a:pt x="7750" y="2"/>
                    </a:moveTo>
                    <a:lnTo>
                      <a:pt x="7750" y="2"/>
                    </a:lnTo>
                    <a:cubicBezTo>
                      <a:pt x="7751" y="2"/>
                      <a:pt x="7752" y="3"/>
                      <a:pt x="7752" y="4"/>
                    </a:cubicBezTo>
                    <a:cubicBezTo>
                      <a:pt x="7752" y="5"/>
                      <a:pt x="7751" y="6"/>
                      <a:pt x="7750" y="6"/>
                    </a:cubicBezTo>
                    <a:lnTo>
                      <a:pt x="7750" y="6"/>
                    </a:lnTo>
                    <a:cubicBezTo>
                      <a:pt x="7748" y="6"/>
                      <a:pt x="7748" y="5"/>
                      <a:pt x="7748" y="4"/>
                    </a:cubicBezTo>
                    <a:cubicBezTo>
                      <a:pt x="7748" y="3"/>
                      <a:pt x="7748" y="2"/>
                      <a:pt x="7750" y="2"/>
                    </a:cubicBezTo>
                    <a:close/>
                    <a:moveTo>
                      <a:pt x="7758" y="2"/>
                    </a:moveTo>
                    <a:lnTo>
                      <a:pt x="7758" y="2"/>
                    </a:lnTo>
                    <a:cubicBezTo>
                      <a:pt x="7759" y="2"/>
                      <a:pt x="7760" y="3"/>
                      <a:pt x="7760" y="4"/>
                    </a:cubicBezTo>
                    <a:cubicBezTo>
                      <a:pt x="7760" y="5"/>
                      <a:pt x="7759" y="6"/>
                      <a:pt x="7758" y="6"/>
                    </a:cubicBezTo>
                    <a:lnTo>
                      <a:pt x="7758" y="6"/>
                    </a:lnTo>
                    <a:cubicBezTo>
                      <a:pt x="7757" y="6"/>
                      <a:pt x="7756" y="5"/>
                      <a:pt x="7756" y="4"/>
                    </a:cubicBezTo>
                    <a:cubicBezTo>
                      <a:pt x="7756" y="3"/>
                      <a:pt x="7757" y="2"/>
                      <a:pt x="7758" y="2"/>
                    </a:cubicBezTo>
                    <a:close/>
                    <a:moveTo>
                      <a:pt x="7766" y="2"/>
                    </a:moveTo>
                    <a:lnTo>
                      <a:pt x="7766" y="2"/>
                    </a:lnTo>
                    <a:cubicBezTo>
                      <a:pt x="7767" y="2"/>
                      <a:pt x="7768" y="3"/>
                      <a:pt x="7768" y="4"/>
                    </a:cubicBezTo>
                    <a:cubicBezTo>
                      <a:pt x="7768" y="5"/>
                      <a:pt x="7767" y="6"/>
                      <a:pt x="7766" y="6"/>
                    </a:cubicBezTo>
                    <a:lnTo>
                      <a:pt x="7766" y="6"/>
                    </a:lnTo>
                    <a:cubicBezTo>
                      <a:pt x="7765" y="6"/>
                      <a:pt x="7764" y="5"/>
                      <a:pt x="7764" y="4"/>
                    </a:cubicBezTo>
                    <a:cubicBezTo>
                      <a:pt x="7764" y="3"/>
                      <a:pt x="7765" y="2"/>
                      <a:pt x="7766" y="2"/>
                    </a:cubicBezTo>
                    <a:close/>
                    <a:moveTo>
                      <a:pt x="7774" y="2"/>
                    </a:moveTo>
                    <a:lnTo>
                      <a:pt x="7774" y="2"/>
                    </a:lnTo>
                    <a:cubicBezTo>
                      <a:pt x="7775" y="2"/>
                      <a:pt x="7776" y="3"/>
                      <a:pt x="7776" y="4"/>
                    </a:cubicBezTo>
                    <a:cubicBezTo>
                      <a:pt x="7776" y="5"/>
                      <a:pt x="7775" y="6"/>
                      <a:pt x="7774" y="6"/>
                    </a:cubicBezTo>
                    <a:lnTo>
                      <a:pt x="7774" y="6"/>
                    </a:lnTo>
                    <a:cubicBezTo>
                      <a:pt x="7773" y="6"/>
                      <a:pt x="7772" y="5"/>
                      <a:pt x="7772" y="4"/>
                    </a:cubicBezTo>
                    <a:cubicBezTo>
                      <a:pt x="7772" y="3"/>
                      <a:pt x="7773" y="2"/>
                      <a:pt x="7774" y="2"/>
                    </a:cubicBezTo>
                    <a:close/>
                    <a:moveTo>
                      <a:pt x="7782" y="2"/>
                    </a:moveTo>
                    <a:lnTo>
                      <a:pt x="7782" y="2"/>
                    </a:lnTo>
                    <a:cubicBezTo>
                      <a:pt x="7783" y="2"/>
                      <a:pt x="7784" y="3"/>
                      <a:pt x="7784" y="4"/>
                    </a:cubicBezTo>
                    <a:cubicBezTo>
                      <a:pt x="7784" y="5"/>
                      <a:pt x="7783" y="6"/>
                      <a:pt x="7782" y="6"/>
                    </a:cubicBezTo>
                    <a:lnTo>
                      <a:pt x="7782" y="6"/>
                    </a:lnTo>
                    <a:cubicBezTo>
                      <a:pt x="7781" y="6"/>
                      <a:pt x="7780" y="5"/>
                      <a:pt x="7780" y="4"/>
                    </a:cubicBezTo>
                    <a:cubicBezTo>
                      <a:pt x="7780" y="3"/>
                      <a:pt x="7781" y="2"/>
                      <a:pt x="7782" y="2"/>
                    </a:cubicBezTo>
                    <a:close/>
                    <a:moveTo>
                      <a:pt x="7790" y="2"/>
                    </a:moveTo>
                    <a:lnTo>
                      <a:pt x="7790" y="2"/>
                    </a:lnTo>
                    <a:cubicBezTo>
                      <a:pt x="7791" y="2"/>
                      <a:pt x="7792" y="3"/>
                      <a:pt x="7792" y="4"/>
                    </a:cubicBezTo>
                    <a:cubicBezTo>
                      <a:pt x="7792" y="5"/>
                      <a:pt x="7791" y="6"/>
                      <a:pt x="7790" y="6"/>
                    </a:cubicBezTo>
                    <a:lnTo>
                      <a:pt x="7790" y="6"/>
                    </a:lnTo>
                    <a:cubicBezTo>
                      <a:pt x="7789" y="6"/>
                      <a:pt x="7788" y="5"/>
                      <a:pt x="7788" y="4"/>
                    </a:cubicBezTo>
                    <a:cubicBezTo>
                      <a:pt x="7788" y="3"/>
                      <a:pt x="7789" y="2"/>
                      <a:pt x="7790" y="2"/>
                    </a:cubicBezTo>
                    <a:close/>
                    <a:moveTo>
                      <a:pt x="7798" y="2"/>
                    </a:moveTo>
                    <a:lnTo>
                      <a:pt x="7798" y="2"/>
                    </a:lnTo>
                    <a:cubicBezTo>
                      <a:pt x="7799" y="2"/>
                      <a:pt x="7800" y="3"/>
                      <a:pt x="7800" y="4"/>
                    </a:cubicBezTo>
                    <a:cubicBezTo>
                      <a:pt x="7800" y="5"/>
                      <a:pt x="7799" y="6"/>
                      <a:pt x="7798" y="6"/>
                    </a:cubicBezTo>
                    <a:lnTo>
                      <a:pt x="7798" y="6"/>
                    </a:lnTo>
                    <a:cubicBezTo>
                      <a:pt x="7797" y="6"/>
                      <a:pt x="7796" y="5"/>
                      <a:pt x="7796" y="4"/>
                    </a:cubicBezTo>
                    <a:cubicBezTo>
                      <a:pt x="7796" y="3"/>
                      <a:pt x="7797" y="2"/>
                      <a:pt x="7798" y="2"/>
                    </a:cubicBezTo>
                    <a:close/>
                    <a:moveTo>
                      <a:pt x="7806" y="2"/>
                    </a:moveTo>
                    <a:lnTo>
                      <a:pt x="7806" y="2"/>
                    </a:lnTo>
                    <a:cubicBezTo>
                      <a:pt x="7807" y="2"/>
                      <a:pt x="7808" y="3"/>
                      <a:pt x="7808" y="4"/>
                    </a:cubicBezTo>
                    <a:cubicBezTo>
                      <a:pt x="7808" y="5"/>
                      <a:pt x="7807" y="6"/>
                      <a:pt x="7806" y="6"/>
                    </a:cubicBezTo>
                    <a:lnTo>
                      <a:pt x="7806" y="6"/>
                    </a:lnTo>
                    <a:cubicBezTo>
                      <a:pt x="7805" y="6"/>
                      <a:pt x="7804" y="5"/>
                      <a:pt x="7804" y="4"/>
                    </a:cubicBezTo>
                    <a:cubicBezTo>
                      <a:pt x="7804" y="3"/>
                      <a:pt x="7805" y="2"/>
                      <a:pt x="7806" y="2"/>
                    </a:cubicBezTo>
                    <a:close/>
                    <a:moveTo>
                      <a:pt x="7814" y="2"/>
                    </a:moveTo>
                    <a:lnTo>
                      <a:pt x="7814" y="2"/>
                    </a:lnTo>
                    <a:cubicBezTo>
                      <a:pt x="7815" y="2"/>
                      <a:pt x="7816" y="3"/>
                      <a:pt x="7816" y="4"/>
                    </a:cubicBezTo>
                    <a:cubicBezTo>
                      <a:pt x="7816" y="5"/>
                      <a:pt x="7815" y="6"/>
                      <a:pt x="7814" y="6"/>
                    </a:cubicBezTo>
                    <a:lnTo>
                      <a:pt x="7814" y="6"/>
                    </a:lnTo>
                    <a:cubicBezTo>
                      <a:pt x="7813" y="6"/>
                      <a:pt x="7812" y="5"/>
                      <a:pt x="7812" y="4"/>
                    </a:cubicBezTo>
                    <a:cubicBezTo>
                      <a:pt x="7812" y="3"/>
                      <a:pt x="7813" y="2"/>
                      <a:pt x="7814" y="2"/>
                    </a:cubicBezTo>
                    <a:close/>
                    <a:moveTo>
                      <a:pt x="7822" y="2"/>
                    </a:moveTo>
                    <a:lnTo>
                      <a:pt x="7822" y="2"/>
                    </a:lnTo>
                    <a:cubicBezTo>
                      <a:pt x="7823" y="2"/>
                      <a:pt x="7824" y="3"/>
                      <a:pt x="7824" y="4"/>
                    </a:cubicBezTo>
                    <a:cubicBezTo>
                      <a:pt x="7824" y="5"/>
                      <a:pt x="7823" y="6"/>
                      <a:pt x="7822" y="6"/>
                    </a:cubicBezTo>
                    <a:lnTo>
                      <a:pt x="7822" y="6"/>
                    </a:lnTo>
                    <a:cubicBezTo>
                      <a:pt x="7821" y="6"/>
                      <a:pt x="7820" y="5"/>
                      <a:pt x="7820" y="4"/>
                    </a:cubicBezTo>
                    <a:cubicBezTo>
                      <a:pt x="7820" y="3"/>
                      <a:pt x="7821" y="2"/>
                      <a:pt x="7822" y="2"/>
                    </a:cubicBezTo>
                    <a:close/>
                    <a:moveTo>
                      <a:pt x="7830" y="2"/>
                    </a:moveTo>
                    <a:lnTo>
                      <a:pt x="7830" y="2"/>
                    </a:lnTo>
                    <a:cubicBezTo>
                      <a:pt x="7831" y="2"/>
                      <a:pt x="7832" y="3"/>
                      <a:pt x="7832" y="4"/>
                    </a:cubicBezTo>
                    <a:cubicBezTo>
                      <a:pt x="7832" y="5"/>
                      <a:pt x="7831" y="6"/>
                      <a:pt x="7830" y="6"/>
                    </a:cubicBezTo>
                    <a:lnTo>
                      <a:pt x="7830" y="6"/>
                    </a:lnTo>
                    <a:cubicBezTo>
                      <a:pt x="7829" y="6"/>
                      <a:pt x="7828" y="5"/>
                      <a:pt x="7828" y="4"/>
                    </a:cubicBezTo>
                    <a:cubicBezTo>
                      <a:pt x="7828" y="3"/>
                      <a:pt x="7829" y="2"/>
                      <a:pt x="7830" y="2"/>
                    </a:cubicBezTo>
                    <a:close/>
                    <a:moveTo>
                      <a:pt x="7838" y="2"/>
                    </a:moveTo>
                    <a:lnTo>
                      <a:pt x="7838" y="2"/>
                    </a:lnTo>
                    <a:cubicBezTo>
                      <a:pt x="7839" y="2"/>
                      <a:pt x="7840" y="3"/>
                      <a:pt x="7840" y="4"/>
                    </a:cubicBezTo>
                    <a:cubicBezTo>
                      <a:pt x="7840" y="5"/>
                      <a:pt x="7839" y="6"/>
                      <a:pt x="7838" y="6"/>
                    </a:cubicBezTo>
                    <a:lnTo>
                      <a:pt x="7838" y="6"/>
                    </a:lnTo>
                    <a:cubicBezTo>
                      <a:pt x="7837" y="6"/>
                      <a:pt x="7836" y="5"/>
                      <a:pt x="7836" y="4"/>
                    </a:cubicBezTo>
                    <a:cubicBezTo>
                      <a:pt x="7836" y="3"/>
                      <a:pt x="7837" y="2"/>
                      <a:pt x="7838" y="2"/>
                    </a:cubicBezTo>
                    <a:close/>
                    <a:moveTo>
                      <a:pt x="7846" y="2"/>
                    </a:moveTo>
                    <a:lnTo>
                      <a:pt x="7846" y="2"/>
                    </a:lnTo>
                    <a:cubicBezTo>
                      <a:pt x="7847" y="2"/>
                      <a:pt x="7848" y="3"/>
                      <a:pt x="7848" y="4"/>
                    </a:cubicBezTo>
                    <a:cubicBezTo>
                      <a:pt x="7848" y="5"/>
                      <a:pt x="7847" y="6"/>
                      <a:pt x="7846" y="6"/>
                    </a:cubicBezTo>
                    <a:lnTo>
                      <a:pt x="7846" y="6"/>
                    </a:lnTo>
                    <a:cubicBezTo>
                      <a:pt x="7845" y="6"/>
                      <a:pt x="7844" y="5"/>
                      <a:pt x="7844" y="4"/>
                    </a:cubicBezTo>
                    <a:cubicBezTo>
                      <a:pt x="7844" y="3"/>
                      <a:pt x="7845" y="2"/>
                      <a:pt x="7846" y="2"/>
                    </a:cubicBezTo>
                    <a:close/>
                    <a:moveTo>
                      <a:pt x="7854" y="2"/>
                    </a:moveTo>
                    <a:lnTo>
                      <a:pt x="7854" y="2"/>
                    </a:lnTo>
                    <a:cubicBezTo>
                      <a:pt x="7855" y="2"/>
                      <a:pt x="7856" y="3"/>
                      <a:pt x="7856" y="4"/>
                    </a:cubicBezTo>
                    <a:cubicBezTo>
                      <a:pt x="7856" y="5"/>
                      <a:pt x="7855" y="6"/>
                      <a:pt x="7854" y="6"/>
                    </a:cubicBezTo>
                    <a:lnTo>
                      <a:pt x="7854" y="6"/>
                    </a:lnTo>
                    <a:cubicBezTo>
                      <a:pt x="7853" y="6"/>
                      <a:pt x="7852" y="5"/>
                      <a:pt x="7852" y="4"/>
                    </a:cubicBezTo>
                    <a:cubicBezTo>
                      <a:pt x="7852" y="3"/>
                      <a:pt x="7853" y="2"/>
                      <a:pt x="7854" y="2"/>
                    </a:cubicBezTo>
                    <a:close/>
                    <a:moveTo>
                      <a:pt x="7862" y="2"/>
                    </a:moveTo>
                    <a:lnTo>
                      <a:pt x="7862" y="2"/>
                    </a:lnTo>
                    <a:cubicBezTo>
                      <a:pt x="7863" y="2"/>
                      <a:pt x="7864" y="3"/>
                      <a:pt x="7864" y="4"/>
                    </a:cubicBezTo>
                    <a:cubicBezTo>
                      <a:pt x="7864" y="5"/>
                      <a:pt x="7863" y="6"/>
                      <a:pt x="7862" y="6"/>
                    </a:cubicBezTo>
                    <a:lnTo>
                      <a:pt x="7862" y="6"/>
                    </a:lnTo>
                    <a:cubicBezTo>
                      <a:pt x="7861" y="6"/>
                      <a:pt x="7860" y="5"/>
                      <a:pt x="7860" y="4"/>
                    </a:cubicBezTo>
                    <a:cubicBezTo>
                      <a:pt x="7860" y="3"/>
                      <a:pt x="7861" y="2"/>
                      <a:pt x="7862" y="2"/>
                    </a:cubicBezTo>
                    <a:close/>
                    <a:moveTo>
                      <a:pt x="7870" y="2"/>
                    </a:moveTo>
                    <a:lnTo>
                      <a:pt x="7870" y="2"/>
                    </a:lnTo>
                    <a:cubicBezTo>
                      <a:pt x="7871" y="2"/>
                      <a:pt x="7872" y="3"/>
                      <a:pt x="7872" y="4"/>
                    </a:cubicBezTo>
                    <a:cubicBezTo>
                      <a:pt x="7872" y="5"/>
                      <a:pt x="7871" y="6"/>
                      <a:pt x="7870" y="6"/>
                    </a:cubicBezTo>
                    <a:lnTo>
                      <a:pt x="7870" y="6"/>
                    </a:lnTo>
                    <a:cubicBezTo>
                      <a:pt x="7869" y="6"/>
                      <a:pt x="7868" y="5"/>
                      <a:pt x="7868" y="4"/>
                    </a:cubicBezTo>
                    <a:cubicBezTo>
                      <a:pt x="7868" y="3"/>
                      <a:pt x="7869" y="2"/>
                      <a:pt x="7870" y="2"/>
                    </a:cubicBezTo>
                    <a:close/>
                    <a:moveTo>
                      <a:pt x="7878" y="2"/>
                    </a:moveTo>
                    <a:lnTo>
                      <a:pt x="7878" y="2"/>
                    </a:lnTo>
                    <a:cubicBezTo>
                      <a:pt x="7879" y="2"/>
                      <a:pt x="7880" y="3"/>
                      <a:pt x="7880" y="4"/>
                    </a:cubicBezTo>
                    <a:cubicBezTo>
                      <a:pt x="7880" y="5"/>
                      <a:pt x="7879" y="6"/>
                      <a:pt x="7878" y="6"/>
                    </a:cubicBezTo>
                    <a:lnTo>
                      <a:pt x="7878" y="6"/>
                    </a:lnTo>
                    <a:cubicBezTo>
                      <a:pt x="7877" y="6"/>
                      <a:pt x="7876" y="5"/>
                      <a:pt x="7876" y="4"/>
                    </a:cubicBezTo>
                    <a:cubicBezTo>
                      <a:pt x="7876" y="3"/>
                      <a:pt x="7877" y="2"/>
                      <a:pt x="7878" y="2"/>
                    </a:cubicBezTo>
                    <a:close/>
                    <a:moveTo>
                      <a:pt x="7886" y="2"/>
                    </a:moveTo>
                    <a:lnTo>
                      <a:pt x="7886" y="2"/>
                    </a:lnTo>
                    <a:cubicBezTo>
                      <a:pt x="7887" y="2"/>
                      <a:pt x="7888" y="3"/>
                      <a:pt x="7888" y="4"/>
                    </a:cubicBezTo>
                    <a:cubicBezTo>
                      <a:pt x="7888" y="5"/>
                      <a:pt x="7887" y="6"/>
                      <a:pt x="7886" y="6"/>
                    </a:cubicBezTo>
                    <a:lnTo>
                      <a:pt x="7886" y="6"/>
                    </a:lnTo>
                    <a:cubicBezTo>
                      <a:pt x="7885" y="6"/>
                      <a:pt x="7884" y="5"/>
                      <a:pt x="7884" y="4"/>
                    </a:cubicBezTo>
                    <a:cubicBezTo>
                      <a:pt x="7884" y="3"/>
                      <a:pt x="7885" y="2"/>
                      <a:pt x="7886" y="2"/>
                    </a:cubicBezTo>
                    <a:close/>
                    <a:moveTo>
                      <a:pt x="7894" y="2"/>
                    </a:moveTo>
                    <a:lnTo>
                      <a:pt x="7894" y="2"/>
                    </a:lnTo>
                    <a:cubicBezTo>
                      <a:pt x="7895" y="2"/>
                      <a:pt x="7896" y="3"/>
                      <a:pt x="7896" y="4"/>
                    </a:cubicBezTo>
                    <a:cubicBezTo>
                      <a:pt x="7896" y="5"/>
                      <a:pt x="7895" y="6"/>
                      <a:pt x="7894" y="6"/>
                    </a:cubicBezTo>
                    <a:lnTo>
                      <a:pt x="7894" y="6"/>
                    </a:lnTo>
                    <a:cubicBezTo>
                      <a:pt x="7893" y="6"/>
                      <a:pt x="7892" y="5"/>
                      <a:pt x="7892" y="4"/>
                    </a:cubicBezTo>
                    <a:cubicBezTo>
                      <a:pt x="7892" y="3"/>
                      <a:pt x="7893" y="2"/>
                      <a:pt x="7894" y="2"/>
                    </a:cubicBezTo>
                    <a:close/>
                    <a:moveTo>
                      <a:pt x="7902" y="2"/>
                    </a:moveTo>
                    <a:lnTo>
                      <a:pt x="7902" y="2"/>
                    </a:lnTo>
                    <a:cubicBezTo>
                      <a:pt x="7903" y="2"/>
                      <a:pt x="7904" y="3"/>
                      <a:pt x="7904" y="4"/>
                    </a:cubicBezTo>
                    <a:cubicBezTo>
                      <a:pt x="7904" y="5"/>
                      <a:pt x="7903" y="6"/>
                      <a:pt x="7902" y="6"/>
                    </a:cubicBezTo>
                    <a:lnTo>
                      <a:pt x="7902" y="6"/>
                    </a:lnTo>
                    <a:cubicBezTo>
                      <a:pt x="7901" y="6"/>
                      <a:pt x="7900" y="5"/>
                      <a:pt x="7900" y="4"/>
                    </a:cubicBezTo>
                    <a:cubicBezTo>
                      <a:pt x="7900" y="3"/>
                      <a:pt x="7901" y="2"/>
                      <a:pt x="7902" y="2"/>
                    </a:cubicBezTo>
                    <a:close/>
                    <a:moveTo>
                      <a:pt x="7910" y="2"/>
                    </a:moveTo>
                    <a:lnTo>
                      <a:pt x="7910" y="2"/>
                    </a:lnTo>
                    <a:cubicBezTo>
                      <a:pt x="7911" y="2"/>
                      <a:pt x="7912" y="3"/>
                      <a:pt x="7912" y="4"/>
                    </a:cubicBezTo>
                    <a:cubicBezTo>
                      <a:pt x="7912" y="5"/>
                      <a:pt x="7911" y="6"/>
                      <a:pt x="7910" y="6"/>
                    </a:cubicBezTo>
                    <a:lnTo>
                      <a:pt x="7910" y="6"/>
                    </a:lnTo>
                    <a:cubicBezTo>
                      <a:pt x="7909" y="6"/>
                      <a:pt x="7908" y="5"/>
                      <a:pt x="7908" y="4"/>
                    </a:cubicBezTo>
                    <a:cubicBezTo>
                      <a:pt x="7908" y="3"/>
                      <a:pt x="7909" y="2"/>
                      <a:pt x="7910" y="2"/>
                    </a:cubicBezTo>
                    <a:close/>
                    <a:moveTo>
                      <a:pt x="7918" y="2"/>
                    </a:moveTo>
                    <a:lnTo>
                      <a:pt x="7918" y="2"/>
                    </a:lnTo>
                    <a:cubicBezTo>
                      <a:pt x="7919" y="2"/>
                      <a:pt x="7920" y="3"/>
                      <a:pt x="7920" y="4"/>
                    </a:cubicBezTo>
                    <a:cubicBezTo>
                      <a:pt x="7920" y="5"/>
                      <a:pt x="7919" y="6"/>
                      <a:pt x="7918" y="6"/>
                    </a:cubicBezTo>
                    <a:lnTo>
                      <a:pt x="7918" y="6"/>
                    </a:lnTo>
                    <a:cubicBezTo>
                      <a:pt x="7917" y="6"/>
                      <a:pt x="7916" y="5"/>
                      <a:pt x="7916" y="4"/>
                    </a:cubicBezTo>
                    <a:cubicBezTo>
                      <a:pt x="7916" y="3"/>
                      <a:pt x="7917" y="2"/>
                      <a:pt x="7918" y="2"/>
                    </a:cubicBezTo>
                    <a:close/>
                    <a:moveTo>
                      <a:pt x="7926" y="2"/>
                    </a:moveTo>
                    <a:lnTo>
                      <a:pt x="7926" y="2"/>
                    </a:lnTo>
                    <a:cubicBezTo>
                      <a:pt x="7927" y="2"/>
                      <a:pt x="7928" y="3"/>
                      <a:pt x="7928" y="4"/>
                    </a:cubicBezTo>
                    <a:cubicBezTo>
                      <a:pt x="7928" y="5"/>
                      <a:pt x="7927" y="6"/>
                      <a:pt x="7926" y="6"/>
                    </a:cubicBezTo>
                    <a:lnTo>
                      <a:pt x="7926" y="6"/>
                    </a:lnTo>
                    <a:cubicBezTo>
                      <a:pt x="7925" y="6"/>
                      <a:pt x="7924" y="5"/>
                      <a:pt x="7924" y="4"/>
                    </a:cubicBezTo>
                    <a:cubicBezTo>
                      <a:pt x="7924" y="3"/>
                      <a:pt x="7925" y="2"/>
                      <a:pt x="7926" y="2"/>
                    </a:cubicBezTo>
                    <a:close/>
                    <a:moveTo>
                      <a:pt x="7934" y="2"/>
                    </a:moveTo>
                    <a:lnTo>
                      <a:pt x="7934" y="2"/>
                    </a:lnTo>
                    <a:cubicBezTo>
                      <a:pt x="7935" y="2"/>
                      <a:pt x="7936" y="3"/>
                      <a:pt x="7936" y="4"/>
                    </a:cubicBezTo>
                    <a:cubicBezTo>
                      <a:pt x="7936" y="5"/>
                      <a:pt x="7935" y="6"/>
                      <a:pt x="7934" y="6"/>
                    </a:cubicBezTo>
                    <a:lnTo>
                      <a:pt x="7934" y="6"/>
                    </a:lnTo>
                    <a:cubicBezTo>
                      <a:pt x="7933" y="6"/>
                      <a:pt x="7932" y="5"/>
                      <a:pt x="7932" y="4"/>
                    </a:cubicBezTo>
                    <a:cubicBezTo>
                      <a:pt x="7932" y="3"/>
                      <a:pt x="7933" y="2"/>
                      <a:pt x="7934" y="2"/>
                    </a:cubicBezTo>
                    <a:close/>
                    <a:moveTo>
                      <a:pt x="7942" y="2"/>
                    </a:moveTo>
                    <a:lnTo>
                      <a:pt x="7942" y="2"/>
                    </a:lnTo>
                    <a:cubicBezTo>
                      <a:pt x="7943" y="2"/>
                      <a:pt x="7944" y="3"/>
                      <a:pt x="7944" y="4"/>
                    </a:cubicBezTo>
                    <a:cubicBezTo>
                      <a:pt x="7944" y="5"/>
                      <a:pt x="7943" y="6"/>
                      <a:pt x="7942" y="6"/>
                    </a:cubicBezTo>
                    <a:lnTo>
                      <a:pt x="7942" y="6"/>
                    </a:lnTo>
                    <a:cubicBezTo>
                      <a:pt x="7941" y="6"/>
                      <a:pt x="7940" y="5"/>
                      <a:pt x="7940" y="4"/>
                    </a:cubicBezTo>
                    <a:cubicBezTo>
                      <a:pt x="7940" y="3"/>
                      <a:pt x="7941" y="2"/>
                      <a:pt x="7942" y="2"/>
                    </a:cubicBezTo>
                    <a:close/>
                    <a:moveTo>
                      <a:pt x="7950" y="2"/>
                    </a:moveTo>
                    <a:lnTo>
                      <a:pt x="7950" y="2"/>
                    </a:lnTo>
                    <a:cubicBezTo>
                      <a:pt x="7951" y="2"/>
                      <a:pt x="7952" y="3"/>
                      <a:pt x="7952" y="4"/>
                    </a:cubicBezTo>
                    <a:cubicBezTo>
                      <a:pt x="7952" y="5"/>
                      <a:pt x="7951" y="6"/>
                      <a:pt x="7950" y="6"/>
                    </a:cubicBezTo>
                    <a:lnTo>
                      <a:pt x="7950" y="6"/>
                    </a:lnTo>
                    <a:cubicBezTo>
                      <a:pt x="7949" y="6"/>
                      <a:pt x="7948" y="5"/>
                      <a:pt x="7948" y="4"/>
                    </a:cubicBezTo>
                    <a:cubicBezTo>
                      <a:pt x="7948" y="3"/>
                      <a:pt x="7949" y="2"/>
                      <a:pt x="7950" y="2"/>
                    </a:cubicBezTo>
                    <a:close/>
                    <a:moveTo>
                      <a:pt x="7958" y="2"/>
                    </a:moveTo>
                    <a:lnTo>
                      <a:pt x="7958" y="2"/>
                    </a:lnTo>
                    <a:cubicBezTo>
                      <a:pt x="7959" y="2"/>
                      <a:pt x="7960" y="3"/>
                      <a:pt x="7960" y="4"/>
                    </a:cubicBezTo>
                    <a:cubicBezTo>
                      <a:pt x="7960" y="5"/>
                      <a:pt x="7959" y="6"/>
                      <a:pt x="7958" y="6"/>
                    </a:cubicBezTo>
                    <a:lnTo>
                      <a:pt x="7958" y="6"/>
                    </a:lnTo>
                    <a:cubicBezTo>
                      <a:pt x="7957" y="6"/>
                      <a:pt x="7956" y="5"/>
                      <a:pt x="7956" y="4"/>
                    </a:cubicBezTo>
                    <a:cubicBezTo>
                      <a:pt x="7956" y="3"/>
                      <a:pt x="7957" y="2"/>
                      <a:pt x="7958" y="2"/>
                    </a:cubicBezTo>
                    <a:close/>
                    <a:moveTo>
                      <a:pt x="7966" y="2"/>
                    </a:moveTo>
                    <a:lnTo>
                      <a:pt x="7966" y="2"/>
                    </a:lnTo>
                    <a:cubicBezTo>
                      <a:pt x="7967" y="2"/>
                      <a:pt x="7968" y="3"/>
                      <a:pt x="7968" y="4"/>
                    </a:cubicBezTo>
                    <a:cubicBezTo>
                      <a:pt x="7968" y="5"/>
                      <a:pt x="7967" y="6"/>
                      <a:pt x="7966" y="6"/>
                    </a:cubicBezTo>
                    <a:lnTo>
                      <a:pt x="7966" y="6"/>
                    </a:lnTo>
                    <a:cubicBezTo>
                      <a:pt x="7965" y="6"/>
                      <a:pt x="7964" y="5"/>
                      <a:pt x="7964" y="4"/>
                    </a:cubicBezTo>
                    <a:cubicBezTo>
                      <a:pt x="7964" y="3"/>
                      <a:pt x="7965" y="2"/>
                      <a:pt x="7966" y="2"/>
                    </a:cubicBezTo>
                    <a:close/>
                    <a:moveTo>
                      <a:pt x="7974" y="2"/>
                    </a:moveTo>
                    <a:lnTo>
                      <a:pt x="7974" y="2"/>
                    </a:lnTo>
                    <a:cubicBezTo>
                      <a:pt x="7975" y="2"/>
                      <a:pt x="7976" y="3"/>
                      <a:pt x="7976" y="4"/>
                    </a:cubicBezTo>
                    <a:cubicBezTo>
                      <a:pt x="7976" y="5"/>
                      <a:pt x="7975" y="6"/>
                      <a:pt x="7974" y="6"/>
                    </a:cubicBezTo>
                    <a:lnTo>
                      <a:pt x="7974" y="6"/>
                    </a:lnTo>
                    <a:cubicBezTo>
                      <a:pt x="7973" y="6"/>
                      <a:pt x="7972" y="5"/>
                      <a:pt x="7972" y="4"/>
                    </a:cubicBezTo>
                    <a:cubicBezTo>
                      <a:pt x="7972" y="3"/>
                      <a:pt x="7973" y="2"/>
                      <a:pt x="7974" y="2"/>
                    </a:cubicBezTo>
                    <a:close/>
                    <a:moveTo>
                      <a:pt x="7982" y="2"/>
                    </a:moveTo>
                    <a:lnTo>
                      <a:pt x="7982" y="2"/>
                    </a:lnTo>
                    <a:cubicBezTo>
                      <a:pt x="7983" y="2"/>
                      <a:pt x="7984" y="3"/>
                      <a:pt x="7984" y="4"/>
                    </a:cubicBezTo>
                    <a:cubicBezTo>
                      <a:pt x="7984" y="5"/>
                      <a:pt x="7983" y="6"/>
                      <a:pt x="7982" y="6"/>
                    </a:cubicBezTo>
                    <a:lnTo>
                      <a:pt x="7982" y="6"/>
                    </a:lnTo>
                    <a:cubicBezTo>
                      <a:pt x="7981" y="6"/>
                      <a:pt x="7980" y="5"/>
                      <a:pt x="7980" y="4"/>
                    </a:cubicBezTo>
                    <a:cubicBezTo>
                      <a:pt x="7980" y="3"/>
                      <a:pt x="7981" y="2"/>
                      <a:pt x="7982" y="2"/>
                    </a:cubicBezTo>
                    <a:close/>
                    <a:moveTo>
                      <a:pt x="7990" y="2"/>
                    </a:moveTo>
                    <a:lnTo>
                      <a:pt x="7990" y="2"/>
                    </a:lnTo>
                    <a:cubicBezTo>
                      <a:pt x="7991" y="2"/>
                      <a:pt x="7992" y="3"/>
                      <a:pt x="7992" y="4"/>
                    </a:cubicBezTo>
                    <a:cubicBezTo>
                      <a:pt x="7992" y="5"/>
                      <a:pt x="7991" y="6"/>
                      <a:pt x="7990" y="6"/>
                    </a:cubicBezTo>
                    <a:lnTo>
                      <a:pt x="7990" y="6"/>
                    </a:lnTo>
                    <a:cubicBezTo>
                      <a:pt x="7989" y="6"/>
                      <a:pt x="7988" y="5"/>
                      <a:pt x="7988" y="4"/>
                    </a:cubicBezTo>
                    <a:cubicBezTo>
                      <a:pt x="7988" y="3"/>
                      <a:pt x="7989" y="2"/>
                      <a:pt x="7990" y="2"/>
                    </a:cubicBezTo>
                    <a:close/>
                    <a:moveTo>
                      <a:pt x="7998" y="2"/>
                    </a:moveTo>
                    <a:lnTo>
                      <a:pt x="7998" y="2"/>
                    </a:lnTo>
                    <a:cubicBezTo>
                      <a:pt x="7999" y="2"/>
                      <a:pt x="8000" y="3"/>
                      <a:pt x="8000" y="4"/>
                    </a:cubicBezTo>
                    <a:cubicBezTo>
                      <a:pt x="8000" y="5"/>
                      <a:pt x="7999" y="6"/>
                      <a:pt x="7998" y="6"/>
                    </a:cubicBezTo>
                    <a:lnTo>
                      <a:pt x="7998" y="6"/>
                    </a:lnTo>
                    <a:cubicBezTo>
                      <a:pt x="7997" y="6"/>
                      <a:pt x="7996" y="5"/>
                      <a:pt x="7996" y="4"/>
                    </a:cubicBezTo>
                    <a:cubicBezTo>
                      <a:pt x="7996" y="3"/>
                      <a:pt x="7997" y="2"/>
                      <a:pt x="7998" y="2"/>
                    </a:cubicBezTo>
                    <a:close/>
                    <a:moveTo>
                      <a:pt x="8006" y="2"/>
                    </a:moveTo>
                    <a:lnTo>
                      <a:pt x="8006" y="2"/>
                    </a:lnTo>
                    <a:cubicBezTo>
                      <a:pt x="8007" y="2"/>
                      <a:pt x="8008" y="3"/>
                      <a:pt x="8008" y="4"/>
                    </a:cubicBezTo>
                    <a:cubicBezTo>
                      <a:pt x="8008" y="5"/>
                      <a:pt x="8007" y="6"/>
                      <a:pt x="8006" y="6"/>
                    </a:cubicBezTo>
                    <a:lnTo>
                      <a:pt x="8006" y="6"/>
                    </a:lnTo>
                    <a:cubicBezTo>
                      <a:pt x="8005" y="6"/>
                      <a:pt x="8004" y="5"/>
                      <a:pt x="8004" y="4"/>
                    </a:cubicBezTo>
                    <a:cubicBezTo>
                      <a:pt x="8004" y="3"/>
                      <a:pt x="8005" y="2"/>
                      <a:pt x="8006" y="2"/>
                    </a:cubicBezTo>
                    <a:close/>
                    <a:moveTo>
                      <a:pt x="8014" y="2"/>
                    </a:moveTo>
                    <a:lnTo>
                      <a:pt x="8014" y="2"/>
                    </a:lnTo>
                    <a:cubicBezTo>
                      <a:pt x="8015" y="2"/>
                      <a:pt x="8016" y="3"/>
                      <a:pt x="8016" y="4"/>
                    </a:cubicBezTo>
                    <a:cubicBezTo>
                      <a:pt x="8016" y="5"/>
                      <a:pt x="8015" y="6"/>
                      <a:pt x="8014" y="6"/>
                    </a:cubicBezTo>
                    <a:lnTo>
                      <a:pt x="8014" y="6"/>
                    </a:lnTo>
                    <a:cubicBezTo>
                      <a:pt x="8013" y="6"/>
                      <a:pt x="8012" y="5"/>
                      <a:pt x="8012" y="4"/>
                    </a:cubicBezTo>
                    <a:cubicBezTo>
                      <a:pt x="8012" y="3"/>
                      <a:pt x="8013" y="2"/>
                      <a:pt x="8014" y="2"/>
                    </a:cubicBezTo>
                    <a:close/>
                    <a:moveTo>
                      <a:pt x="8022" y="2"/>
                    </a:moveTo>
                    <a:lnTo>
                      <a:pt x="8022" y="2"/>
                    </a:lnTo>
                    <a:cubicBezTo>
                      <a:pt x="8023" y="2"/>
                      <a:pt x="8024" y="3"/>
                      <a:pt x="8024" y="4"/>
                    </a:cubicBezTo>
                    <a:cubicBezTo>
                      <a:pt x="8024" y="5"/>
                      <a:pt x="8023" y="6"/>
                      <a:pt x="8022" y="6"/>
                    </a:cubicBezTo>
                    <a:lnTo>
                      <a:pt x="8022" y="6"/>
                    </a:lnTo>
                    <a:cubicBezTo>
                      <a:pt x="8021" y="6"/>
                      <a:pt x="8020" y="5"/>
                      <a:pt x="8020" y="4"/>
                    </a:cubicBezTo>
                    <a:cubicBezTo>
                      <a:pt x="8020" y="3"/>
                      <a:pt x="8021" y="2"/>
                      <a:pt x="8022" y="2"/>
                    </a:cubicBezTo>
                    <a:close/>
                    <a:moveTo>
                      <a:pt x="8030" y="2"/>
                    </a:moveTo>
                    <a:lnTo>
                      <a:pt x="8030" y="2"/>
                    </a:lnTo>
                    <a:cubicBezTo>
                      <a:pt x="8031" y="2"/>
                      <a:pt x="8032" y="3"/>
                      <a:pt x="8032" y="4"/>
                    </a:cubicBezTo>
                    <a:cubicBezTo>
                      <a:pt x="8032" y="5"/>
                      <a:pt x="8031" y="6"/>
                      <a:pt x="8030" y="6"/>
                    </a:cubicBezTo>
                    <a:lnTo>
                      <a:pt x="8030" y="6"/>
                    </a:lnTo>
                    <a:cubicBezTo>
                      <a:pt x="8029" y="6"/>
                      <a:pt x="8028" y="5"/>
                      <a:pt x="8028" y="4"/>
                    </a:cubicBezTo>
                    <a:cubicBezTo>
                      <a:pt x="8028" y="3"/>
                      <a:pt x="8029" y="2"/>
                      <a:pt x="8030" y="2"/>
                    </a:cubicBezTo>
                    <a:close/>
                    <a:moveTo>
                      <a:pt x="8038" y="2"/>
                    </a:moveTo>
                    <a:lnTo>
                      <a:pt x="8038" y="2"/>
                    </a:lnTo>
                    <a:cubicBezTo>
                      <a:pt x="8039" y="2"/>
                      <a:pt x="8040" y="3"/>
                      <a:pt x="8040" y="4"/>
                    </a:cubicBezTo>
                    <a:cubicBezTo>
                      <a:pt x="8040" y="5"/>
                      <a:pt x="8039" y="6"/>
                      <a:pt x="8038" y="6"/>
                    </a:cubicBezTo>
                    <a:lnTo>
                      <a:pt x="8038" y="6"/>
                    </a:lnTo>
                    <a:cubicBezTo>
                      <a:pt x="8037" y="6"/>
                      <a:pt x="8036" y="5"/>
                      <a:pt x="8036" y="4"/>
                    </a:cubicBezTo>
                    <a:cubicBezTo>
                      <a:pt x="8036" y="3"/>
                      <a:pt x="8037" y="2"/>
                      <a:pt x="8038" y="2"/>
                    </a:cubicBezTo>
                    <a:close/>
                    <a:moveTo>
                      <a:pt x="8046" y="2"/>
                    </a:moveTo>
                    <a:lnTo>
                      <a:pt x="8046" y="2"/>
                    </a:lnTo>
                    <a:cubicBezTo>
                      <a:pt x="8047" y="2"/>
                      <a:pt x="8048" y="3"/>
                      <a:pt x="8048" y="4"/>
                    </a:cubicBezTo>
                    <a:cubicBezTo>
                      <a:pt x="8048" y="5"/>
                      <a:pt x="8047" y="6"/>
                      <a:pt x="8046" y="6"/>
                    </a:cubicBezTo>
                    <a:lnTo>
                      <a:pt x="8046" y="6"/>
                    </a:lnTo>
                    <a:cubicBezTo>
                      <a:pt x="8045" y="6"/>
                      <a:pt x="8044" y="5"/>
                      <a:pt x="8044" y="4"/>
                    </a:cubicBezTo>
                    <a:cubicBezTo>
                      <a:pt x="8044" y="3"/>
                      <a:pt x="8045" y="2"/>
                      <a:pt x="8046" y="2"/>
                    </a:cubicBezTo>
                    <a:close/>
                    <a:moveTo>
                      <a:pt x="8054" y="2"/>
                    </a:moveTo>
                    <a:lnTo>
                      <a:pt x="8054" y="2"/>
                    </a:lnTo>
                    <a:cubicBezTo>
                      <a:pt x="8055" y="2"/>
                      <a:pt x="8056" y="3"/>
                      <a:pt x="8056" y="4"/>
                    </a:cubicBezTo>
                    <a:cubicBezTo>
                      <a:pt x="8056" y="5"/>
                      <a:pt x="8055" y="6"/>
                      <a:pt x="8054" y="6"/>
                    </a:cubicBezTo>
                    <a:lnTo>
                      <a:pt x="8054" y="6"/>
                    </a:lnTo>
                    <a:cubicBezTo>
                      <a:pt x="8053" y="6"/>
                      <a:pt x="8052" y="5"/>
                      <a:pt x="8052" y="4"/>
                    </a:cubicBezTo>
                    <a:cubicBezTo>
                      <a:pt x="8052" y="3"/>
                      <a:pt x="8053" y="2"/>
                      <a:pt x="8054" y="2"/>
                    </a:cubicBezTo>
                    <a:close/>
                    <a:moveTo>
                      <a:pt x="8062" y="2"/>
                    </a:moveTo>
                    <a:lnTo>
                      <a:pt x="8062" y="2"/>
                    </a:lnTo>
                    <a:cubicBezTo>
                      <a:pt x="8063" y="2"/>
                      <a:pt x="8064" y="3"/>
                      <a:pt x="8064" y="4"/>
                    </a:cubicBezTo>
                    <a:cubicBezTo>
                      <a:pt x="8064" y="5"/>
                      <a:pt x="8063" y="6"/>
                      <a:pt x="8062" y="6"/>
                    </a:cubicBezTo>
                    <a:lnTo>
                      <a:pt x="8062" y="6"/>
                    </a:lnTo>
                    <a:cubicBezTo>
                      <a:pt x="8061" y="6"/>
                      <a:pt x="8060" y="5"/>
                      <a:pt x="8060" y="4"/>
                    </a:cubicBezTo>
                    <a:cubicBezTo>
                      <a:pt x="8060" y="3"/>
                      <a:pt x="8061" y="2"/>
                      <a:pt x="8062" y="2"/>
                    </a:cubicBezTo>
                    <a:close/>
                    <a:moveTo>
                      <a:pt x="8070" y="2"/>
                    </a:moveTo>
                    <a:lnTo>
                      <a:pt x="8070" y="2"/>
                    </a:lnTo>
                    <a:cubicBezTo>
                      <a:pt x="8071" y="2"/>
                      <a:pt x="8072" y="3"/>
                      <a:pt x="8072" y="4"/>
                    </a:cubicBezTo>
                    <a:cubicBezTo>
                      <a:pt x="8072" y="5"/>
                      <a:pt x="8071" y="6"/>
                      <a:pt x="8070" y="6"/>
                    </a:cubicBezTo>
                    <a:lnTo>
                      <a:pt x="8070" y="6"/>
                    </a:lnTo>
                    <a:cubicBezTo>
                      <a:pt x="8069" y="6"/>
                      <a:pt x="8068" y="5"/>
                      <a:pt x="8068" y="4"/>
                    </a:cubicBezTo>
                    <a:cubicBezTo>
                      <a:pt x="8068" y="3"/>
                      <a:pt x="8069" y="2"/>
                      <a:pt x="8070" y="2"/>
                    </a:cubicBezTo>
                    <a:close/>
                    <a:moveTo>
                      <a:pt x="8078" y="2"/>
                    </a:moveTo>
                    <a:lnTo>
                      <a:pt x="8078" y="2"/>
                    </a:lnTo>
                    <a:cubicBezTo>
                      <a:pt x="8079" y="2"/>
                      <a:pt x="8080" y="3"/>
                      <a:pt x="8080" y="4"/>
                    </a:cubicBezTo>
                    <a:cubicBezTo>
                      <a:pt x="8080" y="5"/>
                      <a:pt x="8079" y="6"/>
                      <a:pt x="8078" y="6"/>
                    </a:cubicBezTo>
                    <a:lnTo>
                      <a:pt x="8078" y="6"/>
                    </a:lnTo>
                    <a:cubicBezTo>
                      <a:pt x="8077" y="6"/>
                      <a:pt x="8076" y="5"/>
                      <a:pt x="8076" y="4"/>
                    </a:cubicBezTo>
                    <a:cubicBezTo>
                      <a:pt x="8076" y="3"/>
                      <a:pt x="8077" y="2"/>
                      <a:pt x="8078" y="2"/>
                    </a:cubicBezTo>
                    <a:close/>
                    <a:moveTo>
                      <a:pt x="8086" y="2"/>
                    </a:moveTo>
                    <a:lnTo>
                      <a:pt x="8086" y="2"/>
                    </a:lnTo>
                    <a:cubicBezTo>
                      <a:pt x="8087" y="2"/>
                      <a:pt x="8088" y="3"/>
                      <a:pt x="8088" y="4"/>
                    </a:cubicBezTo>
                    <a:cubicBezTo>
                      <a:pt x="8088" y="5"/>
                      <a:pt x="8087" y="6"/>
                      <a:pt x="8086" y="6"/>
                    </a:cubicBezTo>
                    <a:lnTo>
                      <a:pt x="8086" y="6"/>
                    </a:lnTo>
                    <a:cubicBezTo>
                      <a:pt x="8085" y="6"/>
                      <a:pt x="8084" y="5"/>
                      <a:pt x="8084" y="4"/>
                    </a:cubicBezTo>
                    <a:cubicBezTo>
                      <a:pt x="8084" y="3"/>
                      <a:pt x="8085" y="2"/>
                      <a:pt x="8086" y="2"/>
                    </a:cubicBezTo>
                    <a:close/>
                    <a:moveTo>
                      <a:pt x="8094" y="2"/>
                    </a:moveTo>
                    <a:lnTo>
                      <a:pt x="8094" y="2"/>
                    </a:lnTo>
                    <a:cubicBezTo>
                      <a:pt x="8095" y="2"/>
                      <a:pt x="8096" y="3"/>
                      <a:pt x="8096" y="4"/>
                    </a:cubicBezTo>
                    <a:cubicBezTo>
                      <a:pt x="8096" y="5"/>
                      <a:pt x="8095" y="6"/>
                      <a:pt x="8094" y="6"/>
                    </a:cubicBezTo>
                    <a:lnTo>
                      <a:pt x="8094" y="6"/>
                    </a:lnTo>
                    <a:cubicBezTo>
                      <a:pt x="8093" y="6"/>
                      <a:pt x="8092" y="5"/>
                      <a:pt x="8092" y="4"/>
                    </a:cubicBezTo>
                    <a:cubicBezTo>
                      <a:pt x="8092" y="3"/>
                      <a:pt x="8093" y="2"/>
                      <a:pt x="8094" y="2"/>
                    </a:cubicBezTo>
                    <a:close/>
                    <a:moveTo>
                      <a:pt x="8102" y="2"/>
                    </a:moveTo>
                    <a:lnTo>
                      <a:pt x="8102" y="2"/>
                    </a:lnTo>
                    <a:cubicBezTo>
                      <a:pt x="8103" y="2"/>
                      <a:pt x="8104" y="3"/>
                      <a:pt x="8104" y="4"/>
                    </a:cubicBezTo>
                    <a:cubicBezTo>
                      <a:pt x="8104" y="5"/>
                      <a:pt x="8103" y="6"/>
                      <a:pt x="8102" y="6"/>
                    </a:cubicBezTo>
                    <a:lnTo>
                      <a:pt x="8102" y="6"/>
                    </a:lnTo>
                    <a:cubicBezTo>
                      <a:pt x="8101" y="6"/>
                      <a:pt x="8100" y="5"/>
                      <a:pt x="8100" y="4"/>
                    </a:cubicBezTo>
                    <a:cubicBezTo>
                      <a:pt x="8100" y="3"/>
                      <a:pt x="8101" y="2"/>
                      <a:pt x="8102" y="2"/>
                    </a:cubicBezTo>
                    <a:close/>
                    <a:moveTo>
                      <a:pt x="8110" y="2"/>
                    </a:moveTo>
                    <a:lnTo>
                      <a:pt x="8110" y="2"/>
                    </a:lnTo>
                    <a:cubicBezTo>
                      <a:pt x="8111" y="2"/>
                      <a:pt x="8112" y="3"/>
                      <a:pt x="8112" y="4"/>
                    </a:cubicBezTo>
                    <a:cubicBezTo>
                      <a:pt x="8112" y="5"/>
                      <a:pt x="8111" y="6"/>
                      <a:pt x="8110" y="6"/>
                    </a:cubicBezTo>
                    <a:lnTo>
                      <a:pt x="8110" y="6"/>
                    </a:lnTo>
                    <a:cubicBezTo>
                      <a:pt x="8109" y="6"/>
                      <a:pt x="8108" y="5"/>
                      <a:pt x="8108" y="4"/>
                    </a:cubicBezTo>
                    <a:cubicBezTo>
                      <a:pt x="8108" y="3"/>
                      <a:pt x="8109" y="2"/>
                      <a:pt x="8110" y="2"/>
                    </a:cubicBezTo>
                    <a:close/>
                    <a:moveTo>
                      <a:pt x="8118" y="2"/>
                    </a:moveTo>
                    <a:lnTo>
                      <a:pt x="8118" y="2"/>
                    </a:lnTo>
                    <a:cubicBezTo>
                      <a:pt x="8119" y="2"/>
                      <a:pt x="8120" y="3"/>
                      <a:pt x="8120" y="4"/>
                    </a:cubicBezTo>
                    <a:cubicBezTo>
                      <a:pt x="8120" y="5"/>
                      <a:pt x="8119" y="6"/>
                      <a:pt x="8118" y="6"/>
                    </a:cubicBezTo>
                    <a:lnTo>
                      <a:pt x="8118" y="6"/>
                    </a:lnTo>
                    <a:cubicBezTo>
                      <a:pt x="8117" y="6"/>
                      <a:pt x="8116" y="5"/>
                      <a:pt x="8116" y="4"/>
                    </a:cubicBezTo>
                    <a:cubicBezTo>
                      <a:pt x="8116" y="3"/>
                      <a:pt x="8117" y="2"/>
                      <a:pt x="8118" y="2"/>
                    </a:cubicBezTo>
                    <a:close/>
                    <a:moveTo>
                      <a:pt x="8126" y="2"/>
                    </a:moveTo>
                    <a:lnTo>
                      <a:pt x="8126" y="2"/>
                    </a:lnTo>
                    <a:cubicBezTo>
                      <a:pt x="8127" y="2"/>
                      <a:pt x="8128" y="3"/>
                      <a:pt x="8128" y="4"/>
                    </a:cubicBezTo>
                    <a:cubicBezTo>
                      <a:pt x="8128" y="5"/>
                      <a:pt x="8127" y="6"/>
                      <a:pt x="8126" y="6"/>
                    </a:cubicBezTo>
                    <a:lnTo>
                      <a:pt x="8126" y="6"/>
                    </a:lnTo>
                    <a:cubicBezTo>
                      <a:pt x="8125" y="6"/>
                      <a:pt x="8124" y="5"/>
                      <a:pt x="8124" y="4"/>
                    </a:cubicBezTo>
                    <a:cubicBezTo>
                      <a:pt x="8124" y="3"/>
                      <a:pt x="8125" y="2"/>
                      <a:pt x="8126" y="2"/>
                    </a:cubicBezTo>
                    <a:close/>
                    <a:moveTo>
                      <a:pt x="8134" y="2"/>
                    </a:moveTo>
                    <a:lnTo>
                      <a:pt x="8134" y="2"/>
                    </a:lnTo>
                    <a:cubicBezTo>
                      <a:pt x="8135" y="2"/>
                      <a:pt x="8136" y="3"/>
                      <a:pt x="8136" y="4"/>
                    </a:cubicBezTo>
                    <a:cubicBezTo>
                      <a:pt x="8136" y="5"/>
                      <a:pt x="8135" y="6"/>
                      <a:pt x="8134" y="6"/>
                    </a:cubicBezTo>
                    <a:lnTo>
                      <a:pt x="8134" y="6"/>
                    </a:lnTo>
                    <a:cubicBezTo>
                      <a:pt x="8133" y="6"/>
                      <a:pt x="8132" y="5"/>
                      <a:pt x="8132" y="4"/>
                    </a:cubicBezTo>
                    <a:cubicBezTo>
                      <a:pt x="8132" y="3"/>
                      <a:pt x="8133" y="2"/>
                      <a:pt x="8134" y="2"/>
                    </a:cubicBezTo>
                    <a:close/>
                    <a:moveTo>
                      <a:pt x="8142" y="2"/>
                    </a:moveTo>
                    <a:lnTo>
                      <a:pt x="8142" y="2"/>
                    </a:lnTo>
                    <a:cubicBezTo>
                      <a:pt x="8143" y="2"/>
                      <a:pt x="8144" y="3"/>
                      <a:pt x="8144" y="4"/>
                    </a:cubicBezTo>
                    <a:cubicBezTo>
                      <a:pt x="8144" y="5"/>
                      <a:pt x="8143" y="6"/>
                      <a:pt x="8142" y="6"/>
                    </a:cubicBezTo>
                    <a:lnTo>
                      <a:pt x="8142" y="6"/>
                    </a:lnTo>
                    <a:cubicBezTo>
                      <a:pt x="8141" y="6"/>
                      <a:pt x="8140" y="5"/>
                      <a:pt x="8140" y="4"/>
                    </a:cubicBezTo>
                    <a:cubicBezTo>
                      <a:pt x="8140" y="3"/>
                      <a:pt x="8141" y="2"/>
                      <a:pt x="8142" y="2"/>
                    </a:cubicBezTo>
                    <a:close/>
                    <a:moveTo>
                      <a:pt x="8150" y="2"/>
                    </a:moveTo>
                    <a:lnTo>
                      <a:pt x="8150" y="2"/>
                    </a:lnTo>
                    <a:cubicBezTo>
                      <a:pt x="8151" y="2"/>
                      <a:pt x="8152" y="3"/>
                      <a:pt x="8152" y="4"/>
                    </a:cubicBezTo>
                    <a:cubicBezTo>
                      <a:pt x="8152" y="5"/>
                      <a:pt x="8151" y="6"/>
                      <a:pt x="8150" y="6"/>
                    </a:cubicBezTo>
                    <a:lnTo>
                      <a:pt x="8150" y="6"/>
                    </a:lnTo>
                    <a:cubicBezTo>
                      <a:pt x="8149" y="6"/>
                      <a:pt x="8148" y="5"/>
                      <a:pt x="8148" y="4"/>
                    </a:cubicBezTo>
                    <a:cubicBezTo>
                      <a:pt x="8148" y="3"/>
                      <a:pt x="8149" y="2"/>
                      <a:pt x="8150" y="2"/>
                    </a:cubicBezTo>
                    <a:close/>
                    <a:moveTo>
                      <a:pt x="8158" y="2"/>
                    </a:moveTo>
                    <a:lnTo>
                      <a:pt x="8158" y="2"/>
                    </a:lnTo>
                    <a:cubicBezTo>
                      <a:pt x="8159" y="2"/>
                      <a:pt x="8160" y="3"/>
                      <a:pt x="8160" y="4"/>
                    </a:cubicBezTo>
                    <a:cubicBezTo>
                      <a:pt x="8160" y="5"/>
                      <a:pt x="8159" y="6"/>
                      <a:pt x="8158" y="6"/>
                    </a:cubicBezTo>
                    <a:lnTo>
                      <a:pt x="8158" y="6"/>
                    </a:lnTo>
                    <a:cubicBezTo>
                      <a:pt x="8157" y="6"/>
                      <a:pt x="8156" y="5"/>
                      <a:pt x="8156" y="4"/>
                    </a:cubicBezTo>
                    <a:cubicBezTo>
                      <a:pt x="8156" y="3"/>
                      <a:pt x="8157" y="2"/>
                      <a:pt x="8158" y="2"/>
                    </a:cubicBezTo>
                    <a:close/>
                    <a:moveTo>
                      <a:pt x="8166" y="2"/>
                    </a:moveTo>
                    <a:lnTo>
                      <a:pt x="8166" y="2"/>
                    </a:lnTo>
                    <a:cubicBezTo>
                      <a:pt x="8167" y="2"/>
                      <a:pt x="8168" y="3"/>
                      <a:pt x="8168" y="4"/>
                    </a:cubicBezTo>
                    <a:cubicBezTo>
                      <a:pt x="8168" y="5"/>
                      <a:pt x="8167" y="6"/>
                      <a:pt x="8166" y="6"/>
                    </a:cubicBezTo>
                    <a:lnTo>
                      <a:pt x="8166" y="6"/>
                    </a:lnTo>
                    <a:cubicBezTo>
                      <a:pt x="8165" y="6"/>
                      <a:pt x="8164" y="5"/>
                      <a:pt x="8164" y="4"/>
                    </a:cubicBezTo>
                    <a:cubicBezTo>
                      <a:pt x="8164" y="3"/>
                      <a:pt x="8165" y="2"/>
                      <a:pt x="8166" y="2"/>
                    </a:cubicBezTo>
                    <a:close/>
                    <a:moveTo>
                      <a:pt x="8174" y="2"/>
                    </a:moveTo>
                    <a:lnTo>
                      <a:pt x="8174" y="2"/>
                    </a:lnTo>
                    <a:cubicBezTo>
                      <a:pt x="8175" y="2"/>
                      <a:pt x="8176" y="3"/>
                      <a:pt x="8176" y="4"/>
                    </a:cubicBezTo>
                    <a:cubicBezTo>
                      <a:pt x="8176" y="5"/>
                      <a:pt x="8175" y="6"/>
                      <a:pt x="8174" y="6"/>
                    </a:cubicBezTo>
                    <a:lnTo>
                      <a:pt x="8174" y="6"/>
                    </a:lnTo>
                    <a:cubicBezTo>
                      <a:pt x="8173" y="6"/>
                      <a:pt x="8172" y="5"/>
                      <a:pt x="8172" y="4"/>
                    </a:cubicBezTo>
                    <a:cubicBezTo>
                      <a:pt x="8172" y="3"/>
                      <a:pt x="8173" y="2"/>
                      <a:pt x="8174" y="2"/>
                    </a:cubicBezTo>
                    <a:close/>
                    <a:moveTo>
                      <a:pt x="8182" y="2"/>
                    </a:moveTo>
                    <a:lnTo>
                      <a:pt x="8182" y="2"/>
                    </a:lnTo>
                    <a:cubicBezTo>
                      <a:pt x="8183" y="2"/>
                      <a:pt x="8184" y="3"/>
                      <a:pt x="8184" y="4"/>
                    </a:cubicBezTo>
                    <a:cubicBezTo>
                      <a:pt x="8184" y="5"/>
                      <a:pt x="8183" y="6"/>
                      <a:pt x="8182" y="6"/>
                    </a:cubicBezTo>
                    <a:lnTo>
                      <a:pt x="8182" y="6"/>
                    </a:lnTo>
                    <a:cubicBezTo>
                      <a:pt x="8181" y="6"/>
                      <a:pt x="8180" y="5"/>
                      <a:pt x="8180" y="4"/>
                    </a:cubicBezTo>
                    <a:cubicBezTo>
                      <a:pt x="8180" y="3"/>
                      <a:pt x="8181" y="2"/>
                      <a:pt x="8182" y="2"/>
                    </a:cubicBezTo>
                    <a:close/>
                    <a:moveTo>
                      <a:pt x="8190" y="2"/>
                    </a:moveTo>
                    <a:lnTo>
                      <a:pt x="8190" y="2"/>
                    </a:lnTo>
                    <a:cubicBezTo>
                      <a:pt x="8191" y="2"/>
                      <a:pt x="8192" y="3"/>
                      <a:pt x="8192" y="4"/>
                    </a:cubicBezTo>
                    <a:cubicBezTo>
                      <a:pt x="8192" y="5"/>
                      <a:pt x="8191" y="6"/>
                      <a:pt x="8190" y="6"/>
                    </a:cubicBezTo>
                    <a:lnTo>
                      <a:pt x="8190" y="6"/>
                    </a:lnTo>
                    <a:cubicBezTo>
                      <a:pt x="8189" y="6"/>
                      <a:pt x="8188" y="5"/>
                      <a:pt x="8188" y="4"/>
                    </a:cubicBezTo>
                    <a:cubicBezTo>
                      <a:pt x="8188" y="3"/>
                      <a:pt x="8189" y="2"/>
                      <a:pt x="8190" y="2"/>
                    </a:cubicBezTo>
                    <a:close/>
                    <a:moveTo>
                      <a:pt x="8198" y="2"/>
                    </a:moveTo>
                    <a:lnTo>
                      <a:pt x="8198" y="2"/>
                    </a:lnTo>
                    <a:cubicBezTo>
                      <a:pt x="8199" y="2"/>
                      <a:pt x="8200" y="3"/>
                      <a:pt x="8200" y="4"/>
                    </a:cubicBezTo>
                    <a:cubicBezTo>
                      <a:pt x="8200" y="5"/>
                      <a:pt x="8199" y="6"/>
                      <a:pt x="8198" y="6"/>
                    </a:cubicBezTo>
                    <a:lnTo>
                      <a:pt x="8198" y="6"/>
                    </a:lnTo>
                    <a:cubicBezTo>
                      <a:pt x="8197" y="6"/>
                      <a:pt x="8196" y="5"/>
                      <a:pt x="8196" y="4"/>
                    </a:cubicBezTo>
                    <a:cubicBezTo>
                      <a:pt x="8196" y="3"/>
                      <a:pt x="8197" y="2"/>
                      <a:pt x="8198" y="2"/>
                    </a:cubicBezTo>
                    <a:close/>
                    <a:moveTo>
                      <a:pt x="8206" y="2"/>
                    </a:moveTo>
                    <a:lnTo>
                      <a:pt x="8206" y="2"/>
                    </a:lnTo>
                    <a:cubicBezTo>
                      <a:pt x="8207" y="2"/>
                      <a:pt x="8208" y="3"/>
                      <a:pt x="8208" y="4"/>
                    </a:cubicBezTo>
                    <a:cubicBezTo>
                      <a:pt x="8208" y="5"/>
                      <a:pt x="8207" y="6"/>
                      <a:pt x="8206" y="6"/>
                    </a:cubicBezTo>
                    <a:lnTo>
                      <a:pt x="8206" y="6"/>
                    </a:lnTo>
                    <a:cubicBezTo>
                      <a:pt x="8205" y="6"/>
                      <a:pt x="8204" y="5"/>
                      <a:pt x="8204" y="4"/>
                    </a:cubicBezTo>
                    <a:cubicBezTo>
                      <a:pt x="8204" y="3"/>
                      <a:pt x="8205" y="2"/>
                      <a:pt x="8206" y="2"/>
                    </a:cubicBezTo>
                    <a:close/>
                    <a:moveTo>
                      <a:pt x="8214" y="2"/>
                    </a:moveTo>
                    <a:lnTo>
                      <a:pt x="8214" y="2"/>
                    </a:lnTo>
                    <a:cubicBezTo>
                      <a:pt x="8215" y="2"/>
                      <a:pt x="8216" y="3"/>
                      <a:pt x="8216" y="4"/>
                    </a:cubicBezTo>
                    <a:cubicBezTo>
                      <a:pt x="8216" y="5"/>
                      <a:pt x="8215" y="6"/>
                      <a:pt x="8214" y="6"/>
                    </a:cubicBezTo>
                    <a:lnTo>
                      <a:pt x="8214" y="6"/>
                    </a:lnTo>
                    <a:cubicBezTo>
                      <a:pt x="8213" y="6"/>
                      <a:pt x="8212" y="5"/>
                      <a:pt x="8212" y="4"/>
                    </a:cubicBezTo>
                    <a:cubicBezTo>
                      <a:pt x="8212" y="3"/>
                      <a:pt x="8213" y="2"/>
                      <a:pt x="8214" y="2"/>
                    </a:cubicBezTo>
                    <a:close/>
                    <a:moveTo>
                      <a:pt x="8222" y="2"/>
                    </a:moveTo>
                    <a:lnTo>
                      <a:pt x="8222" y="2"/>
                    </a:lnTo>
                    <a:cubicBezTo>
                      <a:pt x="8223" y="2"/>
                      <a:pt x="8224" y="3"/>
                      <a:pt x="8224" y="4"/>
                    </a:cubicBezTo>
                    <a:cubicBezTo>
                      <a:pt x="8224" y="5"/>
                      <a:pt x="8223" y="6"/>
                      <a:pt x="8222" y="6"/>
                    </a:cubicBezTo>
                    <a:lnTo>
                      <a:pt x="8222" y="6"/>
                    </a:lnTo>
                    <a:cubicBezTo>
                      <a:pt x="8221" y="6"/>
                      <a:pt x="8220" y="5"/>
                      <a:pt x="8220" y="4"/>
                    </a:cubicBezTo>
                    <a:cubicBezTo>
                      <a:pt x="8220" y="3"/>
                      <a:pt x="8221" y="2"/>
                      <a:pt x="8222" y="2"/>
                    </a:cubicBezTo>
                    <a:close/>
                    <a:moveTo>
                      <a:pt x="8230" y="2"/>
                    </a:moveTo>
                    <a:lnTo>
                      <a:pt x="8230" y="2"/>
                    </a:lnTo>
                    <a:cubicBezTo>
                      <a:pt x="8231" y="2"/>
                      <a:pt x="8232" y="3"/>
                      <a:pt x="8232" y="4"/>
                    </a:cubicBezTo>
                    <a:cubicBezTo>
                      <a:pt x="8232" y="5"/>
                      <a:pt x="8231" y="6"/>
                      <a:pt x="8230" y="6"/>
                    </a:cubicBezTo>
                    <a:lnTo>
                      <a:pt x="8230" y="6"/>
                    </a:lnTo>
                    <a:cubicBezTo>
                      <a:pt x="8229" y="6"/>
                      <a:pt x="8228" y="5"/>
                      <a:pt x="8228" y="4"/>
                    </a:cubicBezTo>
                    <a:cubicBezTo>
                      <a:pt x="8228" y="3"/>
                      <a:pt x="8229" y="2"/>
                      <a:pt x="8230" y="2"/>
                    </a:cubicBezTo>
                    <a:close/>
                    <a:moveTo>
                      <a:pt x="8238" y="2"/>
                    </a:moveTo>
                    <a:lnTo>
                      <a:pt x="8238" y="2"/>
                    </a:lnTo>
                    <a:cubicBezTo>
                      <a:pt x="8239" y="2"/>
                      <a:pt x="8240" y="3"/>
                      <a:pt x="8240" y="4"/>
                    </a:cubicBezTo>
                    <a:cubicBezTo>
                      <a:pt x="8240" y="5"/>
                      <a:pt x="8239" y="6"/>
                      <a:pt x="8238" y="6"/>
                    </a:cubicBezTo>
                    <a:lnTo>
                      <a:pt x="8238" y="6"/>
                    </a:lnTo>
                    <a:cubicBezTo>
                      <a:pt x="8237" y="6"/>
                      <a:pt x="8236" y="5"/>
                      <a:pt x="8236" y="4"/>
                    </a:cubicBezTo>
                    <a:cubicBezTo>
                      <a:pt x="8236" y="3"/>
                      <a:pt x="8237" y="2"/>
                      <a:pt x="8238" y="2"/>
                    </a:cubicBezTo>
                    <a:close/>
                    <a:moveTo>
                      <a:pt x="8246" y="2"/>
                    </a:moveTo>
                    <a:lnTo>
                      <a:pt x="8246" y="2"/>
                    </a:lnTo>
                    <a:cubicBezTo>
                      <a:pt x="8247" y="2"/>
                      <a:pt x="8248" y="3"/>
                      <a:pt x="8248" y="4"/>
                    </a:cubicBezTo>
                    <a:cubicBezTo>
                      <a:pt x="8248" y="5"/>
                      <a:pt x="8247" y="6"/>
                      <a:pt x="8246" y="6"/>
                    </a:cubicBezTo>
                    <a:lnTo>
                      <a:pt x="8246" y="6"/>
                    </a:lnTo>
                    <a:cubicBezTo>
                      <a:pt x="8245" y="6"/>
                      <a:pt x="8244" y="5"/>
                      <a:pt x="8244" y="4"/>
                    </a:cubicBezTo>
                    <a:cubicBezTo>
                      <a:pt x="8244" y="3"/>
                      <a:pt x="8245" y="2"/>
                      <a:pt x="8246" y="2"/>
                    </a:cubicBezTo>
                    <a:close/>
                    <a:moveTo>
                      <a:pt x="8254" y="2"/>
                    </a:moveTo>
                    <a:lnTo>
                      <a:pt x="8254" y="2"/>
                    </a:lnTo>
                    <a:cubicBezTo>
                      <a:pt x="8255" y="2"/>
                      <a:pt x="8256" y="3"/>
                      <a:pt x="8256" y="4"/>
                    </a:cubicBezTo>
                    <a:cubicBezTo>
                      <a:pt x="8256" y="5"/>
                      <a:pt x="8255" y="6"/>
                      <a:pt x="8254" y="6"/>
                    </a:cubicBezTo>
                    <a:lnTo>
                      <a:pt x="8254" y="6"/>
                    </a:lnTo>
                    <a:cubicBezTo>
                      <a:pt x="8253" y="6"/>
                      <a:pt x="8252" y="5"/>
                      <a:pt x="8252" y="4"/>
                    </a:cubicBezTo>
                    <a:cubicBezTo>
                      <a:pt x="8252" y="3"/>
                      <a:pt x="8253" y="2"/>
                      <a:pt x="8254" y="2"/>
                    </a:cubicBezTo>
                    <a:close/>
                    <a:moveTo>
                      <a:pt x="8262" y="2"/>
                    </a:moveTo>
                    <a:lnTo>
                      <a:pt x="8262" y="2"/>
                    </a:lnTo>
                    <a:cubicBezTo>
                      <a:pt x="8263" y="2"/>
                      <a:pt x="8264" y="3"/>
                      <a:pt x="8264" y="4"/>
                    </a:cubicBezTo>
                    <a:cubicBezTo>
                      <a:pt x="8264" y="5"/>
                      <a:pt x="8263" y="6"/>
                      <a:pt x="8262" y="6"/>
                    </a:cubicBezTo>
                    <a:lnTo>
                      <a:pt x="8262" y="6"/>
                    </a:lnTo>
                    <a:cubicBezTo>
                      <a:pt x="8261" y="6"/>
                      <a:pt x="8260" y="5"/>
                      <a:pt x="8260" y="4"/>
                    </a:cubicBezTo>
                    <a:cubicBezTo>
                      <a:pt x="8260" y="3"/>
                      <a:pt x="8261" y="2"/>
                      <a:pt x="8262" y="2"/>
                    </a:cubicBezTo>
                    <a:close/>
                    <a:moveTo>
                      <a:pt x="8270" y="2"/>
                    </a:moveTo>
                    <a:lnTo>
                      <a:pt x="8270" y="2"/>
                    </a:lnTo>
                    <a:cubicBezTo>
                      <a:pt x="8271" y="2"/>
                      <a:pt x="8272" y="3"/>
                      <a:pt x="8272" y="4"/>
                    </a:cubicBezTo>
                    <a:cubicBezTo>
                      <a:pt x="8272" y="5"/>
                      <a:pt x="8271" y="6"/>
                      <a:pt x="8270" y="6"/>
                    </a:cubicBezTo>
                    <a:lnTo>
                      <a:pt x="8270" y="6"/>
                    </a:lnTo>
                    <a:cubicBezTo>
                      <a:pt x="8269" y="6"/>
                      <a:pt x="8268" y="5"/>
                      <a:pt x="8268" y="4"/>
                    </a:cubicBezTo>
                    <a:cubicBezTo>
                      <a:pt x="8268" y="3"/>
                      <a:pt x="8269" y="2"/>
                      <a:pt x="8270" y="2"/>
                    </a:cubicBezTo>
                    <a:close/>
                    <a:moveTo>
                      <a:pt x="8278" y="2"/>
                    </a:moveTo>
                    <a:lnTo>
                      <a:pt x="8278" y="2"/>
                    </a:lnTo>
                    <a:cubicBezTo>
                      <a:pt x="8279" y="2"/>
                      <a:pt x="8280" y="3"/>
                      <a:pt x="8280" y="4"/>
                    </a:cubicBezTo>
                    <a:cubicBezTo>
                      <a:pt x="8280" y="5"/>
                      <a:pt x="8279" y="6"/>
                      <a:pt x="8278" y="6"/>
                    </a:cubicBezTo>
                    <a:lnTo>
                      <a:pt x="8278" y="6"/>
                    </a:lnTo>
                    <a:cubicBezTo>
                      <a:pt x="8277" y="6"/>
                      <a:pt x="8276" y="5"/>
                      <a:pt x="8276" y="4"/>
                    </a:cubicBezTo>
                    <a:cubicBezTo>
                      <a:pt x="8276" y="3"/>
                      <a:pt x="8277" y="2"/>
                      <a:pt x="8278" y="2"/>
                    </a:cubicBezTo>
                    <a:close/>
                    <a:moveTo>
                      <a:pt x="8286" y="2"/>
                    </a:moveTo>
                    <a:lnTo>
                      <a:pt x="8286" y="2"/>
                    </a:lnTo>
                    <a:cubicBezTo>
                      <a:pt x="8287" y="2"/>
                      <a:pt x="8288" y="3"/>
                      <a:pt x="8288" y="4"/>
                    </a:cubicBezTo>
                    <a:cubicBezTo>
                      <a:pt x="8288" y="5"/>
                      <a:pt x="8287" y="6"/>
                      <a:pt x="8286" y="6"/>
                    </a:cubicBezTo>
                    <a:lnTo>
                      <a:pt x="8286" y="6"/>
                    </a:lnTo>
                    <a:cubicBezTo>
                      <a:pt x="8285" y="6"/>
                      <a:pt x="8284" y="5"/>
                      <a:pt x="8284" y="4"/>
                    </a:cubicBezTo>
                    <a:cubicBezTo>
                      <a:pt x="8284" y="3"/>
                      <a:pt x="8285" y="2"/>
                      <a:pt x="8286" y="2"/>
                    </a:cubicBezTo>
                    <a:close/>
                    <a:moveTo>
                      <a:pt x="8294" y="2"/>
                    </a:moveTo>
                    <a:lnTo>
                      <a:pt x="8294" y="2"/>
                    </a:lnTo>
                    <a:cubicBezTo>
                      <a:pt x="8295" y="2"/>
                      <a:pt x="8296" y="3"/>
                      <a:pt x="8296" y="4"/>
                    </a:cubicBezTo>
                    <a:cubicBezTo>
                      <a:pt x="8296" y="5"/>
                      <a:pt x="8295" y="6"/>
                      <a:pt x="8294" y="6"/>
                    </a:cubicBezTo>
                    <a:lnTo>
                      <a:pt x="8294" y="6"/>
                    </a:lnTo>
                    <a:cubicBezTo>
                      <a:pt x="8293" y="6"/>
                      <a:pt x="8292" y="5"/>
                      <a:pt x="8292" y="4"/>
                    </a:cubicBezTo>
                    <a:cubicBezTo>
                      <a:pt x="8292" y="3"/>
                      <a:pt x="8293" y="2"/>
                      <a:pt x="8294" y="2"/>
                    </a:cubicBezTo>
                    <a:close/>
                    <a:moveTo>
                      <a:pt x="8302" y="2"/>
                    </a:moveTo>
                    <a:lnTo>
                      <a:pt x="8302" y="2"/>
                    </a:lnTo>
                    <a:cubicBezTo>
                      <a:pt x="8303" y="2"/>
                      <a:pt x="8304" y="3"/>
                      <a:pt x="8304" y="4"/>
                    </a:cubicBezTo>
                    <a:cubicBezTo>
                      <a:pt x="8304" y="5"/>
                      <a:pt x="8303" y="6"/>
                      <a:pt x="8302" y="6"/>
                    </a:cubicBezTo>
                    <a:lnTo>
                      <a:pt x="8302" y="6"/>
                    </a:lnTo>
                    <a:cubicBezTo>
                      <a:pt x="8301" y="6"/>
                      <a:pt x="8300" y="5"/>
                      <a:pt x="8300" y="4"/>
                    </a:cubicBezTo>
                    <a:cubicBezTo>
                      <a:pt x="8300" y="3"/>
                      <a:pt x="8301" y="2"/>
                      <a:pt x="8302" y="2"/>
                    </a:cubicBezTo>
                    <a:close/>
                    <a:moveTo>
                      <a:pt x="8310" y="2"/>
                    </a:moveTo>
                    <a:lnTo>
                      <a:pt x="8310" y="2"/>
                    </a:lnTo>
                    <a:cubicBezTo>
                      <a:pt x="8311" y="2"/>
                      <a:pt x="8312" y="3"/>
                      <a:pt x="8312" y="4"/>
                    </a:cubicBezTo>
                    <a:cubicBezTo>
                      <a:pt x="8312" y="5"/>
                      <a:pt x="8311" y="6"/>
                      <a:pt x="8310" y="6"/>
                    </a:cubicBezTo>
                    <a:lnTo>
                      <a:pt x="8310" y="6"/>
                    </a:lnTo>
                    <a:cubicBezTo>
                      <a:pt x="8309" y="6"/>
                      <a:pt x="8308" y="5"/>
                      <a:pt x="8308" y="4"/>
                    </a:cubicBezTo>
                    <a:cubicBezTo>
                      <a:pt x="8308" y="3"/>
                      <a:pt x="8309" y="2"/>
                      <a:pt x="8310" y="2"/>
                    </a:cubicBezTo>
                    <a:close/>
                    <a:moveTo>
                      <a:pt x="8318" y="2"/>
                    </a:moveTo>
                    <a:lnTo>
                      <a:pt x="8318" y="2"/>
                    </a:lnTo>
                    <a:cubicBezTo>
                      <a:pt x="8319" y="2"/>
                      <a:pt x="8320" y="3"/>
                      <a:pt x="8320" y="4"/>
                    </a:cubicBezTo>
                    <a:cubicBezTo>
                      <a:pt x="8320" y="5"/>
                      <a:pt x="8319" y="6"/>
                      <a:pt x="8318" y="6"/>
                    </a:cubicBezTo>
                    <a:lnTo>
                      <a:pt x="8318" y="6"/>
                    </a:lnTo>
                    <a:cubicBezTo>
                      <a:pt x="8317" y="6"/>
                      <a:pt x="8316" y="5"/>
                      <a:pt x="8316" y="4"/>
                    </a:cubicBezTo>
                    <a:cubicBezTo>
                      <a:pt x="8316" y="3"/>
                      <a:pt x="8317" y="2"/>
                      <a:pt x="8318" y="2"/>
                    </a:cubicBezTo>
                    <a:close/>
                    <a:moveTo>
                      <a:pt x="8326" y="2"/>
                    </a:moveTo>
                    <a:lnTo>
                      <a:pt x="8326" y="2"/>
                    </a:lnTo>
                    <a:cubicBezTo>
                      <a:pt x="8327" y="2"/>
                      <a:pt x="8328" y="3"/>
                      <a:pt x="8328" y="4"/>
                    </a:cubicBezTo>
                    <a:cubicBezTo>
                      <a:pt x="8328" y="5"/>
                      <a:pt x="8327" y="6"/>
                      <a:pt x="8326" y="6"/>
                    </a:cubicBezTo>
                    <a:lnTo>
                      <a:pt x="8326" y="6"/>
                    </a:lnTo>
                    <a:cubicBezTo>
                      <a:pt x="8325" y="6"/>
                      <a:pt x="8324" y="5"/>
                      <a:pt x="8324" y="4"/>
                    </a:cubicBezTo>
                    <a:cubicBezTo>
                      <a:pt x="8324" y="3"/>
                      <a:pt x="8325" y="2"/>
                      <a:pt x="8326" y="2"/>
                    </a:cubicBezTo>
                    <a:close/>
                    <a:moveTo>
                      <a:pt x="8334" y="2"/>
                    </a:moveTo>
                    <a:lnTo>
                      <a:pt x="8334" y="2"/>
                    </a:lnTo>
                    <a:cubicBezTo>
                      <a:pt x="8335" y="2"/>
                      <a:pt x="8336" y="3"/>
                      <a:pt x="8336" y="4"/>
                    </a:cubicBezTo>
                    <a:cubicBezTo>
                      <a:pt x="8336" y="5"/>
                      <a:pt x="8335" y="6"/>
                      <a:pt x="8334" y="6"/>
                    </a:cubicBezTo>
                    <a:lnTo>
                      <a:pt x="8334" y="6"/>
                    </a:lnTo>
                    <a:cubicBezTo>
                      <a:pt x="8333" y="6"/>
                      <a:pt x="8332" y="5"/>
                      <a:pt x="8332" y="4"/>
                    </a:cubicBezTo>
                    <a:cubicBezTo>
                      <a:pt x="8332" y="3"/>
                      <a:pt x="8333" y="2"/>
                      <a:pt x="8334" y="2"/>
                    </a:cubicBezTo>
                    <a:close/>
                    <a:moveTo>
                      <a:pt x="8342" y="2"/>
                    </a:moveTo>
                    <a:lnTo>
                      <a:pt x="8342" y="2"/>
                    </a:lnTo>
                    <a:cubicBezTo>
                      <a:pt x="8343" y="2"/>
                      <a:pt x="8344" y="3"/>
                      <a:pt x="8344" y="4"/>
                    </a:cubicBezTo>
                    <a:cubicBezTo>
                      <a:pt x="8344" y="5"/>
                      <a:pt x="8343" y="6"/>
                      <a:pt x="8342" y="6"/>
                    </a:cubicBezTo>
                    <a:lnTo>
                      <a:pt x="8342" y="6"/>
                    </a:lnTo>
                    <a:cubicBezTo>
                      <a:pt x="8341" y="6"/>
                      <a:pt x="8340" y="5"/>
                      <a:pt x="8340" y="4"/>
                    </a:cubicBezTo>
                    <a:cubicBezTo>
                      <a:pt x="8340" y="3"/>
                      <a:pt x="8341" y="2"/>
                      <a:pt x="8342" y="2"/>
                    </a:cubicBezTo>
                    <a:close/>
                    <a:moveTo>
                      <a:pt x="8350" y="2"/>
                    </a:moveTo>
                    <a:lnTo>
                      <a:pt x="8350" y="2"/>
                    </a:lnTo>
                    <a:cubicBezTo>
                      <a:pt x="8351" y="2"/>
                      <a:pt x="8352" y="3"/>
                      <a:pt x="8352" y="4"/>
                    </a:cubicBezTo>
                    <a:cubicBezTo>
                      <a:pt x="8352" y="5"/>
                      <a:pt x="8351" y="6"/>
                      <a:pt x="8350" y="6"/>
                    </a:cubicBezTo>
                    <a:lnTo>
                      <a:pt x="8350" y="6"/>
                    </a:lnTo>
                    <a:cubicBezTo>
                      <a:pt x="8349" y="6"/>
                      <a:pt x="8348" y="5"/>
                      <a:pt x="8348" y="4"/>
                    </a:cubicBezTo>
                    <a:cubicBezTo>
                      <a:pt x="8348" y="3"/>
                      <a:pt x="8349" y="2"/>
                      <a:pt x="8350" y="2"/>
                    </a:cubicBezTo>
                    <a:close/>
                    <a:moveTo>
                      <a:pt x="8358" y="2"/>
                    </a:moveTo>
                    <a:lnTo>
                      <a:pt x="8358" y="2"/>
                    </a:lnTo>
                    <a:cubicBezTo>
                      <a:pt x="8359" y="2"/>
                      <a:pt x="8360" y="3"/>
                      <a:pt x="8360" y="4"/>
                    </a:cubicBezTo>
                    <a:cubicBezTo>
                      <a:pt x="8360" y="5"/>
                      <a:pt x="8359" y="6"/>
                      <a:pt x="8358" y="6"/>
                    </a:cubicBezTo>
                    <a:lnTo>
                      <a:pt x="8358" y="6"/>
                    </a:lnTo>
                    <a:cubicBezTo>
                      <a:pt x="8357" y="6"/>
                      <a:pt x="8356" y="5"/>
                      <a:pt x="8356" y="4"/>
                    </a:cubicBezTo>
                    <a:cubicBezTo>
                      <a:pt x="8356" y="3"/>
                      <a:pt x="8357" y="2"/>
                      <a:pt x="8358" y="2"/>
                    </a:cubicBezTo>
                    <a:close/>
                    <a:moveTo>
                      <a:pt x="8366" y="2"/>
                    </a:moveTo>
                    <a:lnTo>
                      <a:pt x="8366" y="2"/>
                    </a:lnTo>
                    <a:cubicBezTo>
                      <a:pt x="8367" y="2"/>
                      <a:pt x="8368" y="3"/>
                      <a:pt x="8368" y="4"/>
                    </a:cubicBezTo>
                    <a:cubicBezTo>
                      <a:pt x="8368" y="5"/>
                      <a:pt x="8367" y="6"/>
                      <a:pt x="8366" y="6"/>
                    </a:cubicBezTo>
                    <a:lnTo>
                      <a:pt x="8366" y="6"/>
                    </a:lnTo>
                    <a:cubicBezTo>
                      <a:pt x="8365" y="6"/>
                      <a:pt x="8364" y="5"/>
                      <a:pt x="8364" y="4"/>
                    </a:cubicBezTo>
                    <a:cubicBezTo>
                      <a:pt x="8364" y="3"/>
                      <a:pt x="8365" y="2"/>
                      <a:pt x="8366" y="2"/>
                    </a:cubicBezTo>
                    <a:close/>
                    <a:moveTo>
                      <a:pt x="8374" y="2"/>
                    </a:moveTo>
                    <a:lnTo>
                      <a:pt x="8374" y="2"/>
                    </a:lnTo>
                    <a:cubicBezTo>
                      <a:pt x="8375" y="2"/>
                      <a:pt x="8376" y="3"/>
                      <a:pt x="8376" y="4"/>
                    </a:cubicBezTo>
                    <a:cubicBezTo>
                      <a:pt x="8376" y="5"/>
                      <a:pt x="8375" y="6"/>
                      <a:pt x="8374" y="6"/>
                    </a:cubicBezTo>
                    <a:lnTo>
                      <a:pt x="8374" y="6"/>
                    </a:lnTo>
                    <a:cubicBezTo>
                      <a:pt x="8373" y="6"/>
                      <a:pt x="8372" y="5"/>
                      <a:pt x="8372" y="4"/>
                    </a:cubicBezTo>
                    <a:cubicBezTo>
                      <a:pt x="8372" y="3"/>
                      <a:pt x="8373" y="2"/>
                      <a:pt x="8374" y="2"/>
                    </a:cubicBezTo>
                    <a:close/>
                    <a:moveTo>
                      <a:pt x="8382" y="2"/>
                    </a:moveTo>
                    <a:lnTo>
                      <a:pt x="8382" y="2"/>
                    </a:lnTo>
                    <a:cubicBezTo>
                      <a:pt x="8383" y="2"/>
                      <a:pt x="8384" y="3"/>
                      <a:pt x="8384" y="4"/>
                    </a:cubicBezTo>
                    <a:cubicBezTo>
                      <a:pt x="8384" y="5"/>
                      <a:pt x="8383" y="6"/>
                      <a:pt x="8382" y="6"/>
                    </a:cubicBezTo>
                    <a:lnTo>
                      <a:pt x="8382" y="6"/>
                    </a:lnTo>
                    <a:cubicBezTo>
                      <a:pt x="8381" y="6"/>
                      <a:pt x="8380" y="5"/>
                      <a:pt x="8380" y="4"/>
                    </a:cubicBezTo>
                    <a:cubicBezTo>
                      <a:pt x="8380" y="3"/>
                      <a:pt x="8381" y="2"/>
                      <a:pt x="8382" y="2"/>
                    </a:cubicBezTo>
                    <a:close/>
                    <a:moveTo>
                      <a:pt x="8390" y="2"/>
                    </a:moveTo>
                    <a:lnTo>
                      <a:pt x="8390" y="2"/>
                    </a:lnTo>
                    <a:cubicBezTo>
                      <a:pt x="8391" y="2"/>
                      <a:pt x="8392" y="3"/>
                      <a:pt x="8392" y="4"/>
                    </a:cubicBezTo>
                    <a:cubicBezTo>
                      <a:pt x="8392" y="5"/>
                      <a:pt x="8391" y="6"/>
                      <a:pt x="8390" y="6"/>
                    </a:cubicBezTo>
                    <a:lnTo>
                      <a:pt x="8390" y="6"/>
                    </a:lnTo>
                    <a:cubicBezTo>
                      <a:pt x="8389" y="6"/>
                      <a:pt x="8388" y="5"/>
                      <a:pt x="8388" y="4"/>
                    </a:cubicBezTo>
                    <a:cubicBezTo>
                      <a:pt x="8388" y="3"/>
                      <a:pt x="8389" y="2"/>
                      <a:pt x="8390" y="2"/>
                    </a:cubicBezTo>
                    <a:close/>
                    <a:moveTo>
                      <a:pt x="8398" y="2"/>
                    </a:moveTo>
                    <a:lnTo>
                      <a:pt x="8398" y="2"/>
                    </a:lnTo>
                    <a:cubicBezTo>
                      <a:pt x="8399" y="2"/>
                      <a:pt x="8400" y="3"/>
                      <a:pt x="8400" y="4"/>
                    </a:cubicBezTo>
                    <a:cubicBezTo>
                      <a:pt x="8400" y="5"/>
                      <a:pt x="8399" y="6"/>
                      <a:pt x="8398" y="6"/>
                    </a:cubicBezTo>
                    <a:lnTo>
                      <a:pt x="8398" y="6"/>
                    </a:lnTo>
                    <a:cubicBezTo>
                      <a:pt x="8397" y="6"/>
                      <a:pt x="8396" y="5"/>
                      <a:pt x="8396" y="4"/>
                    </a:cubicBezTo>
                    <a:cubicBezTo>
                      <a:pt x="8396" y="3"/>
                      <a:pt x="8397" y="2"/>
                      <a:pt x="8398" y="2"/>
                    </a:cubicBezTo>
                    <a:close/>
                    <a:moveTo>
                      <a:pt x="8406" y="2"/>
                    </a:moveTo>
                    <a:lnTo>
                      <a:pt x="8406" y="2"/>
                    </a:lnTo>
                    <a:cubicBezTo>
                      <a:pt x="8407" y="2"/>
                      <a:pt x="8408" y="3"/>
                      <a:pt x="8408" y="4"/>
                    </a:cubicBezTo>
                    <a:cubicBezTo>
                      <a:pt x="8408" y="5"/>
                      <a:pt x="8407" y="6"/>
                      <a:pt x="8406" y="6"/>
                    </a:cubicBezTo>
                    <a:lnTo>
                      <a:pt x="8406" y="6"/>
                    </a:lnTo>
                    <a:cubicBezTo>
                      <a:pt x="8405" y="6"/>
                      <a:pt x="8404" y="5"/>
                      <a:pt x="8404" y="4"/>
                    </a:cubicBezTo>
                    <a:cubicBezTo>
                      <a:pt x="8404" y="3"/>
                      <a:pt x="8405" y="2"/>
                      <a:pt x="8406" y="2"/>
                    </a:cubicBezTo>
                    <a:close/>
                    <a:moveTo>
                      <a:pt x="8414" y="2"/>
                    </a:moveTo>
                    <a:lnTo>
                      <a:pt x="8414" y="2"/>
                    </a:lnTo>
                    <a:cubicBezTo>
                      <a:pt x="8415" y="2"/>
                      <a:pt x="8416" y="3"/>
                      <a:pt x="8416" y="4"/>
                    </a:cubicBezTo>
                    <a:cubicBezTo>
                      <a:pt x="8416" y="5"/>
                      <a:pt x="8415" y="6"/>
                      <a:pt x="8414" y="6"/>
                    </a:cubicBezTo>
                    <a:lnTo>
                      <a:pt x="8414" y="6"/>
                    </a:lnTo>
                    <a:cubicBezTo>
                      <a:pt x="8413" y="6"/>
                      <a:pt x="8412" y="5"/>
                      <a:pt x="8412" y="4"/>
                    </a:cubicBezTo>
                    <a:cubicBezTo>
                      <a:pt x="8412" y="3"/>
                      <a:pt x="8413" y="2"/>
                      <a:pt x="8414" y="2"/>
                    </a:cubicBezTo>
                    <a:close/>
                    <a:moveTo>
                      <a:pt x="8422" y="2"/>
                    </a:moveTo>
                    <a:lnTo>
                      <a:pt x="8422" y="2"/>
                    </a:lnTo>
                    <a:cubicBezTo>
                      <a:pt x="8423" y="2"/>
                      <a:pt x="8424" y="3"/>
                      <a:pt x="8424" y="4"/>
                    </a:cubicBezTo>
                    <a:cubicBezTo>
                      <a:pt x="8424" y="5"/>
                      <a:pt x="8423" y="6"/>
                      <a:pt x="8422" y="6"/>
                    </a:cubicBezTo>
                    <a:lnTo>
                      <a:pt x="8422" y="6"/>
                    </a:lnTo>
                    <a:cubicBezTo>
                      <a:pt x="8421" y="6"/>
                      <a:pt x="8420" y="5"/>
                      <a:pt x="8420" y="4"/>
                    </a:cubicBezTo>
                    <a:cubicBezTo>
                      <a:pt x="8420" y="3"/>
                      <a:pt x="8421" y="2"/>
                      <a:pt x="8422" y="2"/>
                    </a:cubicBezTo>
                    <a:close/>
                    <a:moveTo>
                      <a:pt x="8430" y="2"/>
                    </a:moveTo>
                    <a:lnTo>
                      <a:pt x="8430" y="2"/>
                    </a:lnTo>
                    <a:cubicBezTo>
                      <a:pt x="8431" y="2"/>
                      <a:pt x="8432" y="3"/>
                      <a:pt x="8432" y="4"/>
                    </a:cubicBezTo>
                    <a:cubicBezTo>
                      <a:pt x="8432" y="5"/>
                      <a:pt x="8431" y="6"/>
                      <a:pt x="8430" y="6"/>
                    </a:cubicBezTo>
                    <a:lnTo>
                      <a:pt x="8430" y="6"/>
                    </a:lnTo>
                    <a:cubicBezTo>
                      <a:pt x="8429" y="6"/>
                      <a:pt x="8428" y="5"/>
                      <a:pt x="8428" y="4"/>
                    </a:cubicBezTo>
                    <a:cubicBezTo>
                      <a:pt x="8428" y="3"/>
                      <a:pt x="8429" y="2"/>
                      <a:pt x="8430" y="2"/>
                    </a:cubicBezTo>
                    <a:close/>
                    <a:moveTo>
                      <a:pt x="8438" y="2"/>
                    </a:moveTo>
                    <a:lnTo>
                      <a:pt x="8438" y="2"/>
                    </a:lnTo>
                    <a:cubicBezTo>
                      <a:pt x="8439" y="2"/>
                      <a:pt x="8440" y="3"/>
                      <a:pt x="8440" y="4"/>
                    </a:cubicBezTo>
                    <a:cubicBezTo>
                      <a:pt x="8440" y="5"/>
                      <a:pt x="8439" y="6"/>
                      <a:pt x="8438" y="6"/>
                    </a:cubicBezTo>
                    <a:lnTo>
                      <a:pt x="8438" y="6"/>
                    </a:lnTo>
                    <a:cubicBezTo>
                      <a:pt x="8437" y="6"/>
                      <a:pt x="8436" y="5"/>
                      <a:pt x="8436" y="4"/>
                    </a:cubicBezTo>
                    <a:cubicBezTo>
                      <a:pt x="8436" y="3"/>
                      <a:pt x="8437" y="2"/>
                      <a:pt x="8438" y="2"/>
                    </a:cubicBezTo>
                    <a:close/>
                    <a:moveTo>
                      <a:pt x="8446" y="2"/>
                    </a:moveTo>
                    <a:lnTo>
                      <a:pt x="8446" y="2"/>
                    </a:lnTo>
                    <a:cubicBezTo>
                      <a:pt x="8447" y="2"/>
                      <a:pt x="8448" y="3"/>
                      <a:pt x="8448" y="4"/>
                    </a:cubicBezTo>
                    <a:cubicBezTo>
                      <a:pt x="8448" y="5"/>
                      <a:pt x="8447" y="6"/>
                      <a:pt x="8446" y="6"/>
                    </a:cubicBezTo>
                    <a:lnTo>
                      <a:pt x="8446" y="6"/>
                    </a:lnTo>
                    <a:cubicBezTo>
                      <a:pt x="8445" y="6"/>
                      <a:pt x="8444" y="5"/>
                      <a:pt x="8444" y="4"/>
                    </a:cubicBezTo>
                    <a:cubicBezTo>
                      <a:pt x="8444" y="3"/>
                      <a:pt x="8445" y="2"/>
                      <a:pt x="8446" y="2"/>
                    </a:cubicBezTo>
                    <a:close/>
                    <a:moveTo>
                      <a:pt x="8454" y="2"/>
                    </a:moveTo>
                    <a:lnTo>
                      <a:pt x="8454" y="2"/>
                    </a:lnTo>
                    <a:cubicBezTo>
                      <a:pt x="8455" y="2"/>
                      <a:pt x="8456" y="3"/>
                      <a:pt x="8456" y="4"/>
                    </a:cubicBezTo>
                    <a:cubicBezTo>
                      <a:pt x="8456" y="5"/>
                      <a:pt x="8455" y="6"/>
                      <a:pt x="8454" y="6"/>
                    </a:cubicBezTo>
                    <a:lnTo>
                      <a:pt x="8454" y="6"/>
                    </a:lnTo>
                    <a:cubicBezTo>
                      <a:pt x="8453" y="6"/>
                      <a:pt x="8452" y="5"/>
                      <a:pt x="8452" y="4"/>
                    </a:cubicBezTo>
                    <a:cubicBezTo>
                      <a:pt x="8452" y="3"/>
                      <a:pt x="8453" y="2"/>
                      <a:pt x="8454" y="2"/>
                    </a:cubicBezTo>
                    <a:close/>
                    <a:moveTo>
                      <a:pt x="8462" y="2"/>
                    </a:moveTo>
                    <a:lnTo>
                      <a:pt x="8462" y="2"/>
                    </a:lnTo>
                    <a:cubicBezTo>
                      <a:pt x="8463" y="2"/>
                      <a:pt x="8464" y="3"/>
                      <a:pt x="8464" y="4"/>
                    </a:cubicBezTo>
                    <a:cubicBezTo>
                      <a:pt x="8464" y="5"/>
                      <a:pt x="8463" y="6"/>
                      <a:pt x="8462" y="6"/>
                    </a:cubicBezTo>
                    <a:lnTo>
                      <a:pt x="8462" y="6"/>
                    </a:lnTo>
                    <a:cubicBezTo>
                      <a:pt x="8461" y="6"/>
                      <a:pt x="8460" y="5"/>
                      <a:pt x="8460" y="4"/>
                    </a:cubicBezTo>
                    <a:cubicBezTo>
                      <a:pt x="8460" y="3"/>
                      <a:pt x="8461" y="2"/>
                      <a:pt x="8462" y="2"/>
                    </a:cubicBezTo>
                    <a:close/>
                    <a:moveTo>
                      <a:pt x="8470" y="2"/>
                    </a:moveTo>
                    <a:lnTo>
                      <a:pt x="8470" y="2"/>
                    </a:lnTo>
                    <a:cubicBezTo>
                      <a:pt x="8471" y="2"/>
                      <a:pt x="8472" y="3"/>
                      <a:pt x="8472" y="4"/>
                    </a:cubicBezTo>
                    <a:cubicBezTo>
                      <a:pt x="8472" y="5"/>
                      <a:pt x="8471" y="6"/>
                      <a:pt x="8470" y="6"/>
                    </a:cubicBezTo>
                    <a:lnTo>
                      <a:pt x="8470" y="6"/>
                    </a:lnTo>
                    <a:cubicBezTo>
                      <a:pt x="8469" y="6"/>
                      <a:pt x="8468" y="5"/>
                      <a:pt x="8468" y="4"/>
                    </a:cubicBezTo>
                    <a:cubicBezTo>
                      <a:pt x="8468" y="3"/>
                      <a:pt x="8469" y="2"/>
                      <a:pt x="8470" y="2"/>
                    </a:cubicBezTo>
                    <a:close/>
                    <a:moveTo>
                      <a:pt x="8478" y="2"/>
                    </a:moveTo>
                    <a:lnTo>
                      <a:pt x="8478" y="2"/>
                    </a:lnTo>
                    <a:cubicBezTo>
                      <a:pt x="8479" y="2"/>
                      <a:pt x="8480" y="3"/>
                      <a:pt x="8480" y="4"/>
                    </a:cubicBezTo>
                    <a:cubicBezTo>
                      <a:pt x="8480" y="5"/>
                      <a:pt x="8479" y="6"/>
                      <a:pt x="8478" y="6"/>
                    </a:cubicBezTo>
                    <a:lnTo>
                      <a:pt x="8478" y="6"/>
                    </a:lnTo>
                    <a:cubicBezTo>
                      <a:pt x="8477" y="6"/>
                      <a:pt x="8476" y="5"/>
                      <a:pt x="8476" y="4"/>
                    </a:cubicBezTo>
                    <a:cubicBezTo>
                      <a:pt x="8476" y="3"/>
                      <a:pt x="8477" y="2"/>
                      <a:pt x="8478" y="2"/>
                    </a:cubicBezTo>
                    <a:close/>
                    <a:moveTo>
                      <a:pt x="8486" y="2"/>
                    </a:moveTo>
                    <a:lnTo>
                      <a:pt x="8486" y="2"/>
                    </a:lnTo>
                    <a:cubicBezTo>
                      <a:pt x="8487" y="2"/>
                      <a:pt x="8488" y="3"/>
                      <a:pt x="8488" y="4"/>
                    </a:cubicBezTo>
                    <a:cubicBezTo>
                      <a:pt x="8488" y="5"/>
                      <a:pt x="8487" y="6"/>
                      <a:pt x="8486" y="6"/>
                    </a:cubicBezTo>
                    <a:lnTo>
                      <a:pt x="8486" y="6"/>
                    </a:lnTo>
                    <a:cubicBezTo>
                      <a:pt x="8485" y="6"/>
                      <a:pt x="8484" y="5"/>
                      <a:pt x="8484" y="4"/>
                    </a:cubicBezTo>
                    <a:cubicBezTo>
                      <a:pt x="8484" y="3"/>
                      <a:pt x="8485" y="2"/>
                      <a:pt x="8486" y="2"/>
                    </a:cubicBezTo>
                    <a:close/>
                    <a:moveTo>
                      <a:pt x="8494" y="2"/>
                    </a:moveTo>
                    <a:lnTo>
                      <a:pt x="8494" y="2"/>
                    </a:lnTo>
                    <a:cubicBezTo>
                      <a:pt x="8495" y="2"/>
                      <a:pt x="8496" y="3"/>
                      <a:pt x="8496" y="4"/>
                    </a:cubicBezTo>
                    <a:cubicBezTo>
                      <a:pt x="8496" y="5"/>
                      <a:pt x="8495" y="6"/>
                      <a:pt x="8494" y="6"/>
                    </a:cubicBezTo>
                    <a:lnTo>
                      <a:pt x="8494" y="6"/>
                    </a:lnTo>
                    <a:cubicBezTo>
                      <a:pt x="8493" y="6"/>
                      <a:pt x="8492" y="5"/>
                      <a:pt x="8492" y="4"/>
                    </a:cubicBezTo>
                    <a:cubicBezTo>
                      <a:pt x="8492" y="3"/>
                      <a:pt x="8493" y="2"/>
                      <a:pt x="8494" y="2"/>
                    </a:cubicBezTo>
                    <a:close/>
                    <a:moveTo>
                      <a:pt x="8502" y="2"/>
                    </a:moveTo>
                    <a:lnTo>
                      <a:pt x="8502" y="2"/>
                    </a:lnTo>
                    <a:cubicBezTo>
                      <a:pt x="8503" y="2"/>
                      <a:pt x="8504" y="3"/>
                      <a:pt x="8504" y="4"/>
                    </a:cubicBezTo>
                    <a:cubicBezTo>
                      <a:pt x="8504" y="5"/>
                      <a:pt x="8503" y="6"/>
                      <a:pt x="8502" y="6"/>
                    </a:cubicBezTo>
                    <a:lnTo>
                      <a:pt x="8502" y="6"/>
                    </a:lnTo>
                    <a:cubicBezTo>
                      <a:pt x="8501" y="6"/>
                      <a:pt x="8500" y="5"/>
                      <a:pt x="8500" y="4"/>
                    </a:cubicBezTo>
                    <a:cubicBezTo>
                      <a:pt x="8500" y="3"/>
                      <a:pt x="8501" y="2"/>
                      <a:pt x="8502" y="2"/>
                    </a:cubicBezTo>
                    <a:close/>
                    <a:moveTo>
                      <a:pt x="8510" y="2"/>
                    </a:moveTo>
                    <a:lnTo>
                      <a:pt x="8510" y="2"/>
                    </a:lnTo>
                    <a:cubicBezTo>
                      <a:pt x="8511" y="2"/>
                      <a:pt x="8512" y="3"/>
                      <a:pt x="8512" y="4"/>
                    </a:cubicBezTo>
                    <a:cubicBezTo>
                      <a:pt x="8512" y="5"/>
                      <a:pt x="8511" y="6"/>
                      <a:pt x="8510" y="6"/>
                    </a:cubicBezTo>
                    <a:lnTo>
                      <a:pt x="8510" y="6"/>
                    </a:lnTo>
                    <a:cubicBezTo>
                      <a:pt x="8509" y="6"/>
                      <a:pt x="8508" y="5"/>
                      <a:pt x="8508" y="4"/>
                    </a:cubicBezTo>
                    <a:cubicBezTo>
                      <a:pt x="8508" y="3"/>
                      <a:pt x="8509" y="2"/>
                      <a:pt x="8510" y="2"/>
                    </a:cubicBezTo>
                    <a:close/>
                    <a:moveTo>
                      <a:pt x="8518" y="2"/>
                    </a:moveTo>
                    <a:lnTo>
                      <a:pt x="8518" y="2"/>
                    </a:lnTo>
                    <a:cubicBezTo>
                      <a:pt x="8519" y="2"/>
                      <a:pt x="8520" y="3"/>
                      <a:pt x="8520" y="4"/>
                    </a:cubicBezTo>
                    <a:cubicBezTo>
                      <a:pt x="8520" y="5"/>
                      <a:pt x="8519" y="6"/>
                      <a:pt x="8518" y="6"/>
                    </a:cubicBezTo>
                    <a:lnTo>
                      <a:pt x="8518" y="6"/>
                    </a:lnTo>
                    <a:cubicBezTo>
                      <a:pt x="8517" y="6"/>
                      <a:pt x="8516" y="5"/>
                      <a:pt x="8516" y="4"/>
                    </a:cubicBezTo>
                    <a:cubicBezTo>
                      <a:pt x="8516" y="3"/>
                      <a:pt x="8517" y="2"/>
                      <a:pt x="8518" y="2"/>
                    </a:cubicBezTo>
                    <a:close/>
                    <a:moveTo>
                      <a:pt x="8526" y="2"/>
                    </a:moveTo>
                    <a:lnTo>
                      <a:pt x="8526" y="2"/>
                    </a:lnTo>
                    <a:cubicBezTo>
                      <a:pt x="8527" y="2"/>
                      <a:pt x="8528" y="3"/>
                      <a:pt x="8528" y="4"/>
                    </a:cubicBezTo>
                    <a:cubicBezTo>
                      <a:pt x="8528" y="5"/>
                      <a:pt x="8527" y="6"/>
                      <a:pt x="8526" y="6"/>
                    </a:cubicBezTo>
                    <a:lnTo>
                      <a:pt x="8526" y="6"/>
                    </a:lnTo>
                    <a:cubicBezTo>
                      <a:pt x="8525" y="6"/>
                      <a:pt x="8524" y="5"/>
                      <a:pt x="8524" y="4"/>
                    </a:cubicBezTo>
                    <a:cubicBezTo>
                      <a:pt x="8524" y="3"/>
                      <a:pt x="8525" y="2"/>
                      <a:pt x="8526" y="2"/>
                    </a:cubicBezTo>
                    <a:close/>
                    <a:moveTo>
                      <a:pt x="8534" y="2"/>
                    </a:moveTo>
                    <a:lnTo>
                      <a:pt x="8534" y="2"/>
                    </a:lnTo>
                    <a:cubicBezTo>
                      <a:pt x="8535" y="2"/>
                      <a:pt x="8536" y="3"/>
                      <a:pt x="8536" y="4"/>
                    </a:cubicBezTo>
                    <a:cubicBezTo>
                      <a:pt x="8536" y="5"/>
                      <a:pt x="8535" y="6"/>
                      <a:pt x="8534" y="6"/>
                    </a:cubicBezTo>
                    <a:lnTo>
                      <a:pt x="8534" y="6"/>
                    </a:lnTo>
                    <a:cubicBezTo>
                      <a:pt x="8533" y="6"/>
                      <a:pt x="8532" y="5"/>
                      <a:pt x="8532" y="4"/>
                    </a:cubicBezTo>
                    <a:cubicBezTo>
                      <a:pt x="8532" y="3"/>
                      <a:pt x="8533" y="2"/>
                      <a:pt x="8534" y="2"/>
                    </a:cubicBezTo>
                    <a:close/>
                    <a:moveTo>
                      <a:pt x="8542" y="2"/>
                    </a:moveTo>
                    <a:lnTo>
                      <a:pt x="8542" y="2"/>
                    </a:lnTo>
                    <a:cubicBezTo>
                      <a:pt x="8543" y="2"/>
                      <a:pt x="8544" y="3"/>
                      <a:pt x="8544" y="4"/>
                    </a:cubicBezTo>
                    <a:cubicBezTo>
                      <a:pt x="8544" y="5"/>
                      <a:pt x="8543" y="6"/>
                      <a:pt x="8542" y="6"/>
                    </a:cubicBezTo>
                    <a:lnTo>
                      <a:pt x="8542" y="6"/>
                    </a:lnTo>
                    <a:cubicBezTo>
                      <a:pt x="8541" y="6"/>
                      <a:pt x="8540" y="5"/>
                      <a:pt x="8540" y="4"/>
                    </a:cubicBezTo>
                    <a:cubicBezTo>
                      <a:pt x="8540" y="3"/>
                      <a:pt x="8541" y="2"/>
                      <a:pt x="8542" y="2"/>
                    </a:cubicBezTo>
                    <a:close/>
                    <a:moveTo>
                      <a:pt x="8550" y="2"/>
                    </a:moveTo>
                    <a:lnTo>
                      <a:pt x="8550" y="2"/>
                    </a:lnTo>
                    <a:cubicBezTo>
                      <a:pt x="8551" y="2"/>
                      <a:pt x="8552" y="3"/>
                      <a:pt x="8552" y="4"/>
                    </a:cubicBezTo>
                    <a:cubicBezTo>
                      <a:pt x="8552" y="5"/>
                      <a:pt x="8551" y="6"/>
                      <a:pt x="8550" y="6"/>
                    </a:cubicBezTo>
                    <a:lnTo>
                      <a:pt x="8550" y="6"/>
                    </a:lnTo>
                    <a:cubicBezTo>
                      <a:pt x="8549" y="6"/>
                      <a:pt x="8548" y="5"/>
                      <a:pt x="8548" y="4"/>
                    </a:cubicBezTo>
                    <a:cubicBezTo>
                      <a:pt x="8548" y="3"/>
                      <a:pt x="8549" y="2"/>
                      <a:pt x="8550" y="2"/>
                    </a:cubicBezTo>
                    <a:close/>
                    <a:moveTo>
                      <a:pt x="8558" y="2"/>
                    </a:moveTo>
                    <a:lnTo>
                      <a:pt x="8558" y="2"/>
                    </a:lnTo>
                    <a:cubicBezTo>
                      <a:pt x="8559" y="2"/>
                      <a:pt x="8560" y="3"/>
                      <a:pt x="8560" y="4"/>
                    </a:cubicBezTo>
                    <a:cubicBezTo>
                      <a:pt x="8560" y="5"/>
                      <a:pt x="8559" y="6"/>
                      <a:pt x="8558" y="6"/>
                    </a:cubicBezTo>
                    <a:lnTo>
                      <a:pt x="8558" y="6"/>
                    </a:lnTo>
                    <a:cubicBezTo>
                      <a:pt x="8557" y="6"/>
                      <a:pt x="8556" y="5"/>
                      <a:pt x="8556" y="4"/>
                    </a:cubicBezTo>
                    <a:cubicBezTo>
                      <a:pt x="8556" y="3"/>
                      <a:pt x="8557" y="2"/>
                      <a:pt x="8558" y="2"/>
                    </a:cubicBezTo>
                    <a:close/>
                    <a:moveTo>
                      <a:pt x="8566" y="2"/>
                    </a:moveTo>
                    <a:lnTo>
                      <a:pt x="8566" y="2"/>
                    </a:lnTo>
                    <a:cubicBezTo>
                      <a:pt x="8567" y="2"/>
                      <a:pt x="8568" y="3"/>
                      <a:pt x="8568" y="4"/>
                    </a:cubicBezTo>
                    <a:cubicBezTo>
                      <a:pt x="8568" y="5"/>
                      <a:pt x="8567" y="6"/>
                      <a:pt x="8566" y="6"/>
                    </a:cubicBezTo>
                    <a:lnTo>
                      <a:pt x="8566" y="6"/>
                    </a:lnTo>
                    <a:cubicBezTo>
                      <a:pt x="8565" y="6"/>
                      <a:pt x="8564" y="5"/>
                      <a:pt x="8564" y="4"/>
                    </a:cubicBezTo>
                    <a:cubicBezTo>
                      <a:pt x="8564" y="3"/>
                      <a:pt x="8565" y="2"/>
                      <a:pt x="8566" y="2"/>
                    </a:cubicBezTo>
                    <a:close/>
                    <a:moveTo>
                      <a:pt x="8574" y="2"/>
                    </a:moveTo>
                    <a:lnTo>
                      <a:pt x="8574" y="2"/>
                    </a:lnTo>
                    <a:cubicBezTo>
                      <a:pt x="8575" y="2"/>
                      <a:pt x="8576" y="3"/>
                      <a:pt x="8576" y="4"/>
                    </a:cubicBezTo>
                    <a:cubicBezTo>
                      <a:pt x="8576" y="5"/>
                      <a:pt x="8575" y="6"/>
                      <a:pt x="8574" y="6"/>
                    </a:cubicBezTo>
                    <a:lnTo>
                      <a:pt x="8574" y="6"/>
                    </a:lnTo>
                    <a:cubicBezTo>
                      <a:pt x="8573" y="6"/>
                      <a:pt x="8572" y="5"/>
                      <a:pt x="8572" y="4"/>
                    </a:cubicBezTo>
                    <a:cubicBezTo>
                      <a:pt x="8572" y="3"/>
                      <a:pt x="8573" y="2"/>
                      <a:pt x="8574" y="2"/>
                    </a:cubicBezTo>
                    <a:close/>
                    <a:moveTo>
                      <a:pt x="8582" y="2"/>
                    </a:moveTo>
                    <a:lnTo>
                      <a:pt x="8582" y="2"/>
                    </a:lnTo>
                    <a:cubicBezTo>
                      <a:pt x="8583" y="2"/>
                      <a:pt x="8584" y="3"/>
                      <a:pt x="8584" y="4"/>
                    </a:cubicBezTo>
                    <a:cubicBezTo>
                      <a:pt x="8584" y="5"/>
                      <a:pt x="8583" y="6"/>
                      <a:pt x="8582" y="6"/>
                    </a:cubicBezTo>
                    <a:lnTo>
                      <a:pt x="8582" y="6"/>
                    </a:lnTo>
                    <a:cubicBezTo>
                      <a:pt x="8581" y="6"/>
                      <a:pt x="8580" y="5"/>
                      <a:pt x="8580" y="4"/>
                    </a:cubicBezTo>
                    <a:cubicBezTo>
                      <a:pt x="8580" y="3"/>
                      <a:pt x="8581" y="2"/>
                      <a:pt x="8582" y="2"/>
                    </a:cubicBezTo>
                    <a:close/>
                    <a:moveTo>
                      <a:pt x="8590" y="2"/>
                    </a:moveTo>
                    <a:lnTo>
                      <a:pt x="8590" y="2"/>
                    </a:lnTo>
                    <a:cubicBezTo>
                      <a:pt x="8591" y="2"/>
                      <a:pt x="8592" y="3"/>
                      <a:pt x="8592" y="4"/>
                    </a:cubicBezTo>
                    <a:cubicBezTo>
                      <a:pt x="8592" y="5"/>
                      <a:pt x="8591" y="6"/>
                      <a:pt x="8590" y="6"/>
                    </a:cubicBezTo>
                    <a:lnTo>
                      <a:pt x="8590" y="6"/>
                    </a:lnTo>
                    <a:cubicBezTo>
                      <a:pt x="8589" y="6"/>
                      <a:pt x="8588" y="5"/>
                      <a:pt x="8588" y="4"/>
                    </a:cubicBezTo>
                    <a:cubicBezTo>
                      <a:pt x="8588" y="3"/>
                      <a:pt x="8589" y="2"/>
                      <a:pt x="8590" y="2"/>
                    </a:cubicBezTo>
                    <a:close/>
                    <a:moveTo>
                      <a:pt x="8598" y="2"/>
                    </a:moveTo>
                    <a:lnTo>
                      <a:pt x="8598" y="2"/>
                    </a:lnTo>
                    <a:cubicBezTo>
                      <a:pt x="8599" y="2"/>
                      <a:pt x="8600" y="3"/>
                      <a:pt x="8600" y="4"/>
                    </a:cubicBezTo>
                    <a:cubicBezTo>
                      <a:pt x="8600" y="5"/>
                      <a:pt x="8599" y="6"/>
                      <a:pt x="8598" y="6"/>
                    </a:cubicBezTo>
                    <a:lnTo>
                      <a:pt x="8598" y="6"/>
                    </a:lnTo>
                    <a:cubicBezTo>
                      <a:pt x="8597" y="6"/>
                      <a:pt x="8596" y="5"/>
                      <a:pt x="8596" y="4"/>
                    </a:cubicBezTo>
                    <a:cubicBezTo>
                      <a:pt x="8596" y="3"/>
                      <a:pt x="8597" y="2"/>
                      <a:pt x="8598" y="2"/>
                    </a:cubicBezTo>
                    <a:close/>
                    <a:moveTo>
                      <a:pt x="8606" y="2"/>
                    </a:moveTo>
                    <a:lnTo>
                      <a:pt x="8606" y="2"/>
                    </a:lnTo>
                    <a:cubicBezTo>
                      <a:pt x="8607" y="2"/>
                      <a:pt x="8608" y="3"/>
                      <a:pt x="8608" y="4"/>
                    </a:cubicBezTo>
                    <a:cubicBezTo>
                      <a:pt x="8608" y="5"/>
                      <a:pt x="8607" y="6"/>
                      <a:pt x="8606" y="6"/>
                    </a:cubicBezTo>
                    <a:lnTo>
                      <a:pt x="8606" y="6"/>
                    </a:lnTo>
                    <a:cubicBezTo>
                      <a:pt x="8605" y="6"/>
                      <a:pt x="8604" y="5"/>
                      <a:pt x="8604" y="4"/>
                    </a:cubicBezTo>
                    <a:cubicBezTo>
                      <a:pt x="8604" y="3"/>
                      <a:pt x="8605" y="2"/>
                      <a:pt x="8606" y="2"/>
                    </a:cubicBezTo>
                    <a:close/>
                    <a:moveTo>
                      <a:pt x="8614" y="2"/>
                    </a:moveTo>
                    <a:lnTo>
                      <a:pt x="8614" y="2"/>
                    </a:lnTo>
                    <a:cubicBezTo>
                      <a:pt x="8615" y="2"/>
                      <a:pt x="8616" y="3"/>
                      <a:pt x="8616" y="4"/>
                    </a:cubicBezTo>
                    <a:cubicBezTo>
                      <a:pt x="8616" y="5"/>
                      <a:pt x="8615" y="6"/>
                      <a:pt x="8614" y="6"/>
                    </a:cubicBezTo>
                    <a:lnTo>
                      <a:pt x="8614" y="6"/>
                    </a:lnTo>
                    <a:cubicBezTo>
                      <a:pt x="8613" y="6"/>
                      <a:pt x="8612" y="5"/>
                      <a:pt x="8612" y="4"/>
                    </a:cubicBezTo>
                    <a:cubicBezTo>
                      <a:pt x="8612" y="3"/>
                      <a:pt x="8613" y="2"/>
                      <a:pt x="8614" y="2"/>
                    </a:cubicBezTo>
                    <a:close/>
                    <a:moveTo>
                      <a:pt x="8622" y="2"/>
                    </a:moveTo>
                    <a:lnTo>
                      <a:pt x="8622" y="2"/>
                    </a:lnTo>
                    <a:cubicBezTo>
                      <a:pt x="8623" y="2"/>
                      <a:pt x="8624" y="3"/>
                      <a:pt x="8624" y="4"/>
                    </a:cubicBezTo>
                    <a:cubicBezTo>
                      <a:pt x="8624" y="5"/>
                      <a:pt x="8623" y="6"/>
                      <a:pt x="8622" y="6"/>
                    </a:cubicBezTo>
                    <a:lnTo>
                      <a:pt x="8622" y="6"/>
                    </a:lnTo>
                    <a:cubicBezTo>
                      <a:pt x="8621" y="6"/>
                      <a:pt x="8620" y="5"/>
                      <a:pt x="8620" y="4"/>
                    </a:cubicBezTo>
                    <a:cubicBezTo>
                      <a:pt x="8620" y="3"/>
                      <a:pt x="8621" y="2"/>
                      <a:pt x="8622" y="2"/>
                    </a:cubicBezTo>
                    <a:close/>
                    <a:moveTo>
                      <a:pt x="8630" y="2"/>
                    </a:moveTo>
                    <a:lnTo>
                      <a:pt x="8630" y="2"/>
                    </a:lnTo>
                    <a:cubicBezTo>
                      <a:pt x="8631" y="2"/>
                      <a:pt x="8632" y="3"/>
                      <a:pt x="8632" y="4"/>
                    </a:cubicBezTo>
                    <a:cubicBezTo>
                      <a:pt x="8632" y="5"/>
                      <a:pt x="8631" y="6"/>
                      <a:pt x="8630" y="6"/>
                    </a:cubicBezTo>
                    <a:lnTo>
                      <a:pt x="8630" y="6"/>
                    </a:lnTo>
                    <a:cubicBezTo>
                      <a:pt x="8629" y="6"/>
                      <a:pt x="8628" y="5"/>
                      <a:pt x="8628" y="4"/>
                    </a:cubicBezTo>
                    <a:cubicBezTo>
                      <a:pt x="8628" y="3"/>
                      <a:pt x="8629" y="2"/>
                      <a:pt x="8630" y="2"/>
                    </a:cubicBezTo>
                    <a:close/>
                    <a:moveTo>
                      <a:pt x="8638" y="2"/>
                    </a:moveTo>
                    <a:lnTo>
                      <a:pt x="8638" y="2"/>
                    </a:lnTo>
                    <a:cubicBezTo>
                      <a:pt x="8639" y="2"/>
                      <a:pt x="8640" y="3"/>
                      <a:pt x="8640" y="4"/>
                    </a:cubicBezTo>
                    <a:cubicBezTo>
                      <a:pt x="8640" y="5"/>
                      <a:pt x="8639" y="6"/>
                      <a:pt x="8638" y="6"/>
                    </a:cubicBezTo>
                    <a:lnTo>
                      <a:pt x="8638" y="6"/>
                    </a:lnTo>
                    <a:cubicBezTo>
                      <a:pt x="8637" y="6"/>
                      <a:pt x="8636" y="5"/>
                      <a:pt x="8636" y="4"/>
                    </a:cubicBezTo>
                    <a:cubicBezTo>
                      <a:pt x="8636" y="3"/>
                      <a:pt x="8637" y="2"/>
                      <a:pt x="8638" y="2"/>
                    </a:cubicBezTo>
                    <a:close/>
                    <a:moveTo>
                      <a:pt x="8646" y="2"/>
                    </a:moveTo>
                    <a:lnTo>
                      <a:pt x="8646" y="2"/>
                    </a:lnTo>
                    <a:cubicBezTo>
                      <a:pt x="8647" y="2"/>
                      <a:pt x="8648" y="3"/>
                      <a:pt x="8648" y="4"/>
                    </a:cubicBezTo>
                    <a:cubicBezTo>
                      <a:pt x="8648" y="5"/>
                      <a:pt x="8647" y="6"/>
                      <a:pt x="8646" y="6"/>
                    </a:cubicBezTo>
                    <a:lnTo>
                      <a:pt x="8646" y="6"/>
                    </a:lnTo>
                    <a:cubicBezTo>
                      <a:pt x="8645" y="6"/>
                      <a:pt x="8644" y="5"/>
                      <a:pt x="8644" y="4"/>
                    </a:cubicBezTo>
                    <a:cubicBezTo>
                      <a:pt x="8644" y="3"/>
                      <a:pt x="8645" y="2"/>
                      <a:pt x="8646" y="2"/>
                    </a:cubicBezTo>
                    <a:close/>
                    <a:moveTo>
                      <a:pt x="8654" y="2"/>
                    </a:moveTo>
                    <a:lnTo>
                      <a:pt x="8654" y="2"/>
                    </a:lnTo>
                    <a:cubicBezTo>
                      <a:pt x="8655" y="2"/>
                      <a:pt x="8656" y="3"/>
                      <a:pt x="8656" y="4"/>
                    </a:cubicBezTo>
                    <a:cubicBezTo>
                      <a:pt x="8656" y="5"/>
                      <a:pt x="8655" y="6"/>
                      <a:pt x="8654" y="6"/>
                    </a:cubicBezTo>
                    <a:lnTo>
                      <a:pt x="8654" y="6"/>
                    </a:lnTo>
                    <a:cubicBezTo>
                      <a:pt x="8653" y="6"/>
                      <a:pt x="8652" y="5"/>
                      <a:pt x="8652" y="4"/>
                    </a:cubicBezTo>
                    <a:cubicBezTo>
                      <a:pt x="8652" y="3"/>
                      <a:pt x="8653" y="2"/>
                      <a:pt x="8654" y="2"/>
                    </a:cubicBezTo>
                    <a:close/>
                    <a:moveTo>
                      <a:pt x="8662" y="2"/>
                    </a:moveTo>
                    <a:lnTo>
                      <a:pt x="8662" y="2"/>
                    </a:lnTo>
                    <a:cubicBezTo>
                      <a:pt x="8663" y="2"/>
                      <a:pt x="8664" y="3"/>
                      <a:pt x="8664" y="4"/>
                    </a:cubicBezTo>
                    <a:cubicBezTo>
                      <a:pt x="8664" y="5"/>
                      <a:pt x="8663" y="6"/>
                      <a:pt x="8662" y="6"/>
                    </a:cubicBezTo>
                    <a:lnTo>
                      <a:pt x="8662" y="6"/>
                    </a:lnTo>
                    <a:cubicBezTo>
                      <a:pt x="8661" y="6"/>
                      <a:pt x="8660" y="5"/>
                      <a:pt x="8660" y="4"/>
                    </a:cubicBezTo>
                    <a:cubicBezTo>
                      <a:pt x="8660" y="3"/>
                      <a:pt x="8661" y="2"/>
                      <a:pt x="8662" y="2"/>
                    </a:cubicBezTo>
                    <a:close/>
                    <a:moveTo>
                      <a:pt x="8670" y="2"/>
                    </a:moveTo>
                    <a:lnTo>
                      <a:pt x="8670" y="2"/>
                    </a:lnTo>
                    <a:cubicBezTo>
                      <a:pt x="8671" y="2"/>
                      <a:pt x="8672" y="3"/>
                      <a:pt x="8672" y="4"/>
                    </a:cubicBezTo>
                    <a:cubicBezTo>
                      <a:pt x="8672" y="5"/>
                      <a:pt x="8671" y="6"/>
                      <a:pt x="8670" y="6"/>
                    </a:cubicBezTo>
                    <a:lnTo>
                      <a:pt x="8670" y="6"/>
                    </a:lnTo>
                    <a:cubicBezTo>
                      <a:pt x="8669" y="6"/>
                      <a:pt x="8668" y="5"/>
                      <a:pt x="8668" y="4"/>
                    </a:cubicBezTo>
                    <a:cubicBezTo>
                      <a:pt x="8668" y="3"/>
                      <a:pt x="8669" y="2"/>
                      <a:pt x="8670" y="2"/>
                    </a:cubicBezTo>
                    <a:close/>
                    <a:moveTo>
                      <a:pt x="8678" y="2"/>
                    </a:moveTo>
                    <a:lnTo>
                      <a:pt x="8678" y="2"/>
                    </a:lnTo>
                    <a:cubicBezTo>
                      <a:pt x="8679" y="2"/>
                      <a:pt x="8680" y="3"/>
                      <a:pt x="8680" y="4"/>
                    </a:cubicBezTo>
                    <a:cubicBezTo>
                      <a:pt x="8680" y="5"/>
                      <a:pt x="8679" y="6"/>
                      <a:pt x="8678" y="6"/>
                    </a:cubicBezTo>
                    <a:lnTo>
                      <a:pt x="8678" y="6"/>
                    </a:lnTo>
                    <a:cubicBezTo>
                      <a:pt x="8677" y="6"/>
                      <a:pt x="8676" y="5"/>
                      <a:pt x="8676" y="4"/>
                    </a:cubicBezTo>
                    <a:cubicBezTo>
                      <a:pt x="8676" y="3"/>
                      <a:pt x="8677" y="2"/>
                      <a:pt x="8678" y="2"/>
                    </a:cubicBezTo>
                    <a:close/>
                    <a:moveTo>
                      <a:pt x="8686" y="2"/>
                    </a:moveTo>
                    <a:lnTo>
                      <a:pt x="8686" y="2"/>
                    </a:lnTo>
                    <a:cubicBezTo>
                      <a:pt x="8687" y="2"/>
                      <a:pt x="8688" y="3"/>
                      <a:pt x="8688" y="4"/>
                    </a:cubicBezTo>
                    <a:cubicBezTo>
                      <a:pt x="8688" y="5"/>
                      <a:pt x="8687" y="6"/>
                      <a:pt x="8686" y="6"/>
                    </a:cubicBezTo>
                    <a:lnTo>
                      <a:pt x="8686" y="6"/>
                    </a:lnTo>
                    <a:cubicBezTo>
                      <a:pt x="8685" y="6"/>
                      <a:pt x="8684" y="5"/>
                      <a:pt x="8684" y="4"/>
                    </a:cubicBezTo>
                    <a:cubicBezTo>
                      <a:pt x="8684" y="3"/>
                      <a:pt x="8685" y="2"/>
                      <a:pt x="8686" y="2"/>
                    </a:cubicBezTo>
                    <a:close/>
                    <a:moveTo>
                      <a:pt x="8694" y="2"/>
                    </a:moveTo>
                    <a:lnTo>
                      <a:pt x="8694" y="2"/>
                    </a:lnTo>
                    <a:cubicBezTo>
                      <a:pt x="8695" y="2"/>
                      <a:pt x="8696" y="3"/>
                      <a:pt x="8696" y="4"/>
                    </a:cubicBezTo>
                    <a:cubicBezTo>
                      <a:pt x="8696" y="5"/>
                      <a:pt x="8695" y="6"/>
                      <a:pt x="8694" y="6"/>
                    </a:cubicBezTo>
                    <a:lnTo>
                      <a:pt x="8694" y="6"/>
                    </a:lnTo>
                    <a:cubicBezTo>
                      <a:pt x="8693" y="6"/>
                      <a:pt x="8692" y="5"/>
                      <a:pt x="8692" y="4"/>
                    </a:cubicBezTo>
                    <a:cubicBezTo>
                      <a:pt x="8692" y="3"/>
                      <a:pt x="8693" y="2"/>
                      <a:pt x="8694" y="2"/>
                    </a:cubicBezTo>
                    <a:close/>
                    <a:moveTo>
                      <a:pt x="8702" y="2"/>
                    </a:moveTo>
                    <a:lnTo>
                      <a:pt x="8702" y="2"/>
                    </a:lnTo>
                    <a:cubicBezTo>
                      <a:pt x="8703" y="2"/>
                      <a:pt x="8704" y="3"/>
                      <a:pt x="8704" y="4"/>
                    </a:cubicBezTo>
                    <a:cubicBezTo>
                      <a:pt x="8704" y="5"/>
                      <a:pt x="8703" y="6"/>
                      <a:pt x="8702" y="6"/>
                    </a:cubicBezTo>
                    <a:lnTo>
                      <a:pt x="8702" y="6"/>
                    </a:lnTo>
                    <a:cubicBezTo>
                      <a:pt x="8701" y="6"/>
                      <a:pt x="8700" y="5"/>
                      <a:pt x="8700" y="4"/>
                    </a:cubicBezTo>
                    <a:cubicBezTo>
                      <a:pt x="8700" y="3"/>
                      <a:pt x="8701" y="2"/>
                      <a:pt x="8702" y="2"/>
                    </a:cubicBezTo>
                    <a:close/>
                    <a:moveTo>
                      <a:pt x="8710" y="2"/>
                    </a:moveTo>
                    <a:lnTo>
                      <a:pt x="8710" y="2"/>
                    </a:lnTo>
                    <a:cubicBezTo>
                      <a:pt x="8711" y="2"/>
                      <a:pt x="8712" y="3"/>
                      <a:pt x="8712" y="4"/>
                    </a:cubicBezTo>
                    <a:cubicBezTo>
                      <a:pt x="8712" y="5"/>
                      <a:pt x="8711" y="6"/>
                      <a:pt x="8710" y="6"/>
                    </a:cubicBezTo>
                    <a:lnTo>
                      <a:pt x="8710" y="6"/>
                    </a:lnTo>
                    <a:cubicBezTo>
                      <a:pt x="8709" y="6"/>
                      <a:pt x="8708" y="5"/>
                      <a:pt x="8708" y="4"/>
                    </a:cubicBezTo>
                    <a:cubicBezTo>
                      <a:pt x="8708" y="3"/>
                      <a:pt x="8709" y="2"/>
                      <a:pt x="8710" y="2"/>
                    </a:cubicBezTo>
                    <a:close/>
                    <a:moveTo>
                      <a:pt x="8718" y="2"/>
                    </a:moveTo>
                    <a:lnTo>
                      <a:pt x="8718" y="2"/>
                    </a:lnTo>
                    <a:cubicBezTo>
                      <a:pt x="8719" y="2"/>
                      <a:pt x="8720" y="3"/>
                      <a:pt x="8720" y="4"/>
                    </a:cubicBezTo>
                    <a:cubicBezTo>
                      <a:pt x="8720" y="5"/>
                      <a:pt x="8719" y="6"/>
                      <a:pt x="8718" y="6"/>
                    </a:cubicBezTo>
                    <a:lnTo>
                      <a:pt x="8718" y="6"/>
                    </a:lnTo>
                    <a:cubicBezTo>
                      <a:pt x="8717" y="6"/>
                      <a:pt x="8716" y="5"/>
                      <a:pt x="8716" y="4"/>
                    </a:cubicBezTo>
                    <a:cubicBezTo>
                      <a:pt x="8716" y="3"/>
                      <a:pt x="8717" y="2"/>
                      <a:pt x="8718" y="2"/>
                    </a:cubicBezTo>
                    <a:close/>
                    <a:moveTo>
                      <a:pt x="8726" y="2"/>
                    </a:moveTo>
                    <a:lnTo>
                      <a:pt x="8726" y="2"/>
                    </a:lnTo>
                    <a:cubicBezTo>
                      <a:pt x="8727" y="2"/>
                      <a:pt x="8728" y="3"/>
                      <a:pt x="8728" y="4"/>
                    </a:cubicBezTo>
                    <a:cubicBezTo>
                      <a:pt x="8728" y="5"/>
                      <a:pt x="8727" y="6"/>
                      <a:pt x="8726" y="6"/>
                    </a:cubicBezTo>
                    <a:lnTo>
                      <a:pt x="8726" y="6"/>
                    </a:lnTo>
                    <a:cubicBezTo>
                      <a:pt x="8725" y="6"/>
                      <a:pt x="8724" y="5"/>
                      <a:pt x="8724" y="4"/>
                    </a:cubicBezTo>
                    <a:cubicBezTo>
                      <a:pt x="8724" y="3"/>
                      <a:pt x="8725" y="2"/>
                      <a:pt x="8726" y="2"/>
                    </a:cubicBezTo>
                    <a:close/>
                    <a:moveTo>
                      <a:pt x="8734" y="2"/>
                    </a:moveTo>
                    <a:lnTo>
                      <a:pt x="8734" y="2"/>
                    </a:lnTo>
                    <a:cubicBezTo>
                      <a:pt x="8735" y="2"/>
                      <a:pt x="8736" y="3"/>
                      <a:pt x="8736" y="4"/>
                    </a:cubicBezTo>
                    <a:cubicBezTo>
                      <a:pt x="8736" y="5"/>
                      <a:pt x="8735" y="6"/>
                      <a:pt x="8734" y="6"/>
                    </a:cubicBezTo>
                    <a:lnTo>
                      <a:pt x="8734" y="6"/>
                    </a:lnTo>
                    <a:cubicBezTo>
                      <a:pt x="8733" y="6"/>
                      <a:pt x="8732" y="5"/>
                      <a:pt x="8732" y="4"/>
                    </a:cubicBezTo>
                    <a:cubicBezTo>
                      <a:pt x="8732" y="3"/>
                      <a:pt x="8733" y="2"/>
                      <a:pt x="8734" y="2"/>
                    </a:cubicBezTo>
                    <a:close/>
                    <a:moveTo>
                      <a:pt x="8742" y="2"/>
                    </a:moveTo>
                    <a:lnTo>
                      <a:pt x="8742" y="2"/>
                    </a:lnTo>
                    <a:cubicBezTo>
                      <a:pt x="8743" y="2"/>
                      <a:pt x="8744" y="3"/>
                      <a:pt x="8744" y="4"/>
                    </a:cubicBezTo>
                    <a:cubicBezTo>
                      <a:pt x="8744" y="5"/>
                      <a:pt x="8743" y="6"/>
                      <a:pt x="8742" y="6"/>
                    </a:cubicBezTo>
                    <a:lnTo>
                      <a:pt x="8742" y="6"/>
                    </a:lnTo>
                    <a:cubicBezTo>
                      <a:pt x="8741" y="6"/>
                      <a:pt x="8740" y="5"/>
                      <a:pt x="8740" y="4"/>
                    </a:cubicBezTo>
                    <a:cubicBezTo>
                      <a:pt x="8740" y="3"/>
                      <a:pt x="8741" y="2"/>
                      <a:pt x="8742" y="2"/>
                    </a:cubicBezTo>
                    <a:close/>
                    <a:moveTo>
                      <a:pt x="8750" y="2"/>
                    </a:moveTo>
                    <a:lnTo>
                      <a:pt x="8750" y="2"/>
                    </a:lnTo>
                    <a:cubicBezTo>
                      <a:pt x="8751" y="2"/>
                      <a:pt x="8752" y="3"/>
                      <a:pt x="8752" y="4"/>
                    </a:cubicBezTo>
                    <a:cubicBezTo>
                      <a:pt x="8752" y="5"/>
                      <a:pt x="8751" y="6"/>
                      <a:pt x="8750" y="6"/>
                    </a:cubicBezTo>
                    <a:lnTo>
                      <a:pt x="8750" y="6"/>
                    </a:lnTo>
                    <a:cubicBezTo>
                      <a:pt x="8749" y="6"/>
                      <a:pt x="8748" y="5"/>
                      <a:pt x="8748" y="4"/>
                    </a:cubicBezTo>
                    <a:cubicBezTo>
                      <a:pt x="8748" y="3"/>
                      <a:pt x="8749" y="2"/>
                      <a:pt x="8750" y="2"/>
                    </a:cubicBezTo>
                    <a:close/>
                    <a:moveTo>
                      <a:pt x="8758" y="2"/>
                    </a:moveTo>
                    <a:lnTo>
                      <a:pt x="8758" y="2"/>
                    </a:lnTo>
                    <a:cubicBezTo>
                      <a:pt x="8759" y="2"/>
                      <a:pt x="8760" y="3"/>
                      <a:pt x="8760" y="4"/>
                    </a:cubicBezTo>
                    <a:cubicBezTo>
                      <a:pt x="8760" y="5"/>
                      <a:pt x="8759" y="6"/>
                      <a:pt x="8758" y="6"/>
                    </a:cubicBezTo>
                    <a:lnTo>
                      <a:pt x="8758" y="6"/>
                    </a:lnTo>
                    <a:cubicBezTo>
                      <a:pt x="8757" y="6"/>
                      <a:pt x="8756" y="5"/>
                      <a:pt x="8756" y="4"/>
                    </a:cubicBezTo>
                    <a:cubicBezTo>
                      <a:pt x="8756" y="3"/>
                      <a:pt x="8757" y="2"/>
                      <a:pt x="8758" y="2"/>
                    </a:cubicBezTo>
                    <a:close/>
                    <a:moveTo>
                      <a:pt x="8766" y="2"/>
                    </a:moveTo>
                    <a:lnTo>
                      <a:pt x="8766" y="2"/>
                    </a:lnTo>
                    <a:cubicBezTo>
                      <a:pt x="8767" y="2"/>
                      <a:pt x="8768" y="3"/>
                      <a:pt x="8768" y="4"/>
                    </a:cubicBezTo>
                    <a:cubicBezTo>
                      <a:pt x="8768" y="5"/>
                      <a:pt x="8767" y="6"/>
                      <a:pt x="8766" y="6"/>
                    </a:cubicBezTo>
                    <a:lnTo>
                      <a:pt x="8766" y="6"/>
                    </a:lnTo>
                    <a:cubicBezTo>
                      <a:pt x="8765" y="6"/>
                      <a:pt x="8764" y="5"/>
                      <a:pt x="8764" y="4"/>
                    </a:cubicBezTo>
                    <a:cubicBezTo>
                      <a:pt x="8764" y="3"/>
                      <a:pt x="8765" y="2"/>
                      <a:pt x="8766" y="2"/>
                    </a:cubicBezTo>
                    <a:close/>
                    <a:moveTo>
                      <a:pt x="8774" y="2"/>
                    </a:moveTo>
                    <a:lnTo>
                      <a:pt x="8774" y="2"/>
                    </a:lnTo>
                    <a:cubicBezTo>
                      <a:pt x="8775" y="2"/>
                      <a:pt x="8776" y="3"/>
                      <a:pt x="8776" y="4"/>
                    </a:cubicBezTo>
                    <a:cubicBezTo>
                      <a:pt x="8776" y="5"/>
                      <a:pt x="8775" y="6"/>
                      <a:pt x="8774" y="6"/>
                    </a:cubicBezTo>
                    <a:lnTo>
                      <a:pt x="8774" y="6"/>
                    </a:lnTo>
                    <a:cubicBezTo>
                      <a:pt x="8773" y="6"/>
                      <a:pt x="8772" y="5"/>
                      <a:pt x="8772" y="4"/>
                    </a:cubicBezTo>
                    <a:cubicBezTo>
                      <a:pt x="8772" y="3"/>
                      <a:pt x="8773" y="2"/>
                      <a:pt x="8774" y="2"/>
                    </a:cubicBezTo>
                    <a:close/>
                    <a:moveTo>
                      <a:pt x="8782" y="2"/>
                    </a:moveTo>
                    <a:lnTo>
                      <a:pt x="8782" y="2"/>
                    </a:lnTo>
                    <a:cubicBezTo>
                      <a:pt x="8783" y="2"/>
                      <a:pt x="8784" y="3"/>
                      <a:pt x="8784" y="4"/>
                    </a:cubicBezTo>
                    <a:cubicBezTo>
                      <a:pt x="8784" y="5"/>
                      <a:pt x="8783" y="6"/>
                      <a:pt x="8782" y="6"/>
                    </a:cubicBezTo>
                    <a:lnTo>
                      <a:pt x="8782" y="6"/>
                    </a:lnTo>
                    <a:cubicBezTo>
                      <a:pt x="8781" y="6"/>
                      <a:pt x="8780" y="5"/>
                      <a:pt x="8780" y="4"/>
                    </a:cubicBezTo>
                    <a:cubicBezTo>
                      <a:pt x="8780" y="3"/>
                      <a:pt x="8781" y="2"/>
                      <a:pt x="8782" y="2"/>
                    </a:cubicBezTo>
                    <a:close/>
                    <a:moveTo>
                      <a:pt x="8790" y="2"/>
                    </a:moveTo>
                    <a:lnTo>
                      <a:pt x="8790" y="2"/>
                    </a:lnTo>
                    <a:cubicBezTo>
                      <a:pt x="8791" y="2"/>
                      <a:pt x="8792" y="3"/>
                      <a:pt x="8792" y="4"/>
                    </a:cubicBezTo>
                    <a:cubicBezTo>
                      <a:pt x="8792" y="5"/>
                      <a:pt x="8791" y="6"/>
                      <a:pt x="8790" y="6"/>
                    </a:cubicBezTo>
                    <a:lnTo>
                      <a:pt x="8790" y="6"/>
                    </a:lnTo>
                    <a:cubicBezTo>
                      <a:pt x="8789" y="6"/>
                      <a:pt x="8788" y="5"/>
                      <a:pt x="8788" y="4"/>
                    </a:cubicBezTo>
                    <a:cubicBezTo>
                      <a:pt x="8788" y="3"/>
                      <a:pt x="8789" y="2"/>
                      <a:pt x="8790" y="2"/>
                    </a:cubicBezTo>
                    <a:close/>
                    <a:moveTo>
                      <a:pt x="8798" y="2"/>
                    </a:moveTo>
                    <a:lnTo>
                      <a:pt x="8798" y="2"/>
                    </a:lnTo>
                    <a:cubicBezTo>
                      <a:pt x="8799" y="2"/>
                      <a:pt x="8800" y="3"/>
                      <a:pt x="8800" y="4"/>
                    </a:cubicBezTo>
                    <a:cubicBezTo>
                      <a:pt x="8800" y="5"/>
                      <a:pt x="8799" y="6"/>
                      <a:pt x="8798" y="6"/>
                    </a:cubicBezTo>
                    <a:lnTo>
                      <a:pt x="8798" y="6"/>
                    </a:lnTo>
                    <a:cubicBezTo>
                      <a:pt x="8797" y="6"/>
                      <a:pt x="8796" y="5"/>
                      <a:pt x="8796" y="4"/>
                    </a:cubicBezTo>
                    <a:cubicBezTo>
                      <a:pt x="8796" y="3"/>
                      <a:pt x="8797" y="2"/>
                      <a:pt x="8798" y="2"/>
                    </a:cubicBezTo>
                    <a:close/>
                    <a:moveTo>
                      <a:pt x="8806" y="2"/>
                    </a:moveTo>
                    <a:lnTo>
                      <a:pt x="8806" y="2"/>
                    </a:lnTo>
                    <a:cubicBezTo>
                      <a:pt x="8807" y="2"/>
                      <a:pt x="8808" y="3"/>
                      <a:pt x="8808" y="4"/>
                    </a:cubicBezTo>
                    <a:cubicBezTo>
                      <a:pt x="8808" y="5"/>
                      <a:pt x="8807" y="6"/>
                      <a:pt x="8806" y="6"/>
                    </a:cubicBezTo>
                    <a:lnTo>
                      <a:pt x="8806" y="6"/>
                    </a:lnTo>
                    <a:cubicBezTo>
                      <a:pt x="8805" y="6"/>
                      <a:pt x="8804" y="5"/>
                      <a:pt x="8804" y="4"/>
                    </a:cubicBezTo>
                    <a:cubicBezTo>
                      <a:pt x="8804" y="3"/>
                      <a:pt x="8805" y="2"/>
                      <a:pt x="8806" y="2"/>
                    </a:cubicBezTo>
                    <a:close/>
                    <a:moveTo>
                      <a:pt x="8814" y="2"/>
                    </a:moveTo>
                    <a:lnTo>
                      <a:pt x="8814" y="2"/>
                    </a:lnTo>
                    <a:cubicBezTo>
                      <a:pt x="8815" y="2"/>
                      <a:pt x="8816" y="3"/>
                      <a:pt x="8816" y="4"/>
                    </a:cubicBezTo>
                    <a:cubicBezTo>
                      <a:pt x="8816" y="5"/>
                      <a:pt x="8815" y="6"/>
                      <a:pt x="8814" y="6"/>
                    </a:cubicBezTo>
                    <a:lnTo>
                      <a:pt x="8814" y="6"/>
                    </a:lnTo>
                    <a:cubicBezTo>
                      <a:pt x="8813" y="6"/>
                      <a:pt x="8812" y="5"/>
                      <a:pt x="8812" y="4"/>
                    </a:cubicBezTo>
                    <a:cubicBezTo>
                      <a:pt x="8812" y="3"/>
                      <a:pt x="8813" y="2"/>
                      <a:pt x="8814" y="2"/>
                    </a:cubicBezTo>
                    <a:close/>
                    <a:moveTo>
                      <a:pt x="8822" y="2"/>
                    </a:moveTo>
                    <a:lnTo>
                      <a:pt x="8822" y="2"/>
                    </a:lnTo>
                    <a:cubicBezTo>
                      <a:pt x="8823" y="2"/>
                      <a:pt x="8824" y="3"/>
                      <a:pt x="8824" y="4"/>
                    </a:cubicBezTo>
                    <a:cubicBezTo>
                      <a:pt x="8824" y="5"/>
                      <a:pt x="8823" y="6"/>
                      <a:pt x="8822" y="6"/>
                    </a:cubicBezTo>
                    <a:lnTo>
                      <a:pt x="8822" y="6"/>
                    </a:lnTo>
                    <a:cubicBezTo>
                      <a:pt x="8821" y="6"/>
                      <a:pt x="8820" y="5"/>
                      <a:pt x="8820" y="4"/>
                    </a:cubicBezTo>
                    <a:cubicBezTo>
                      <a:pt x="8820" y="3"/>
                      <a:pt x="8821" y="2"/>
                      <a:pt x="8822" y="2"/>
                    </a:cubicBezTo>
                    <a:close/>
                    <a:moveTo>
                      <a:pt x="8830" y="2"/>
                    </a:moveTo>
                    <a:lnTo>
                      <a:pt x="8830" y="2"/>
                    </a:lnTo>
                    <a:cubicBezTo>
                      <a:pt x="8831" y="2"/>
                      <a:pt x="8832" y="3"/>
                      <a:pt x="8832" y="4"/>
                    </a:cubicBezTo>
                    <a:cubicBezTo>
                      <a:pt x="8832" y="5"/>
                      <a:pt x="8831" y="6"/>
                      <a:pt x="8830" y="6"/>
                    </a:cubicBezTo>
                    <a:lnTo>
                      <a:pt x="8830" y="6"/>
                    </a:lnTo>
                    <a:cubicBezTo>
                      <a:pt x="8829" y="6"/>
                      <a:pt x="8828" y="5"/>
                      <a:pt x="8828" y="4"/>
                    </a:cubicBezTo>
                    <a:cubicBezTo>
                      <a:pt x="8828" y="3"/>
                      <a:pt x="8829" y="2"/>
                      <a:pt x="8830" y="2"/>
                    </a:cubicBezTo>
                    <a:close/>
                    <a:moveTo>
                      <a:pt x="8838" y="2"/>
                    </a:moveTo>
                    <a:lnTo>
                      <a:pt x="8838" y="2"/>
                    </a:lnTo>
                    <a:cubicBezTo>
                      <a:pt x="8839" y="2"/>
                      <a:pt x="8840" y="3"/>
                      <a:pt x="8840" y="4"/>
                    </a:cubicBezTo>
                    <a:cubicBezTo>
                      <a:pt x="8840" y="5"/>
                      <a:pt x="8839" y="6"/>
                      <a:pt x="8838" y="6"/>
                    </a:cubicBezTo>
                    <a:lnTo>
                      <a:pt x="8838" y="6"/>
                    </a:lnTo>
                    <a:cubicBezTo>
                      <a:pt x="8837" y="6"/>
                      <a:pt x="8836" y="5"/>
                      <a:pt x="8836" y="4"/>
                    </a:cubicBezTo>
                    <a:cubicBezTo>
                      <a:pt x="8836" y="3"/>
                      <a:pt x="8837" y="2"/>
                      <a:pt x="8838" y="2"/>
                    </a:cubicBezTo>
                    <a:close/>
                    <a:moveTo>
                      <a:pt x="8846" y="2"/>
                    </a:moveTo>
                    <a:lnTo>
                      <a:pt x="8846" y="2"/>
                    </a:lnTo>
                    <a:cubicBezTo>
                      <a:pt x="8847" y="2"/>
                      <a:pt x="8848" y="3"/>
                      <a:pt x="8848" y="4"/>
                    </a:cubicBezTo>
                    <a:cubicBezTo>
                      <a:pt x="8848" y="5"/>
                      <a:pt x="8847" y="6"/>
                      <a:pt x="8846" y="6"/>
                    </a:cubicBezTo>
                    <a:lnTo>
                      <a:pt x="8846" y="6"/>
                    </a:lnTo>
                    <a:cubicBezTo>
                      <a:pt x="8845" y="6"/>
                      <a:pt x="8844" y="5"/>
                      <a:pt x="8844" y="4"/>
                    </a:cubicBezTo>
                    <a:cubicBezTo>
                      <a:pt x="8844" y="3"/>
                      <a:pt x="8845" y="2"/>
                      <a:pt x="8846" y="2"/>
                    </a:cubicBezTo>
                    <a:close/>
                    <a:moveTo>
                      <a:pt x="8854" y="2"/>
                    </a:moveTo>
                    <a:lnTo>
                      <a:pt x="8854" y="2"/>
                    </a:lnTo>
                    <a:cubicBezTo>
                      <a:pt x="8855" y="2"/>
                      <a:pt x="8856" y="3"/>
                      <a:pt x="8856" y="4"/>
                    </a:cubicBezTo>
                    <a:cubicBezTo>
                      <a:pt x="8856" y="5"/>
                      <a:pt x="8855" y="6"/>
                      <a:pt x="8854" y="6"/>
                    </a:cubicBezTo>
                    <a:lnTo>
                      <a:pt x="8854" y="6"/>
                    </a:lnTo>
                    <a:cubicBezTo>
                      <a:pt x="8853" y="6"/>
                      <a:pt x="8852" y="5"/>
                      <a:pt x="8852" y="4"/>
                    </a:cubicBezTo>
                    <a:cubicBezTo>
                      <a:pt x="8852" y="3"/>
                      <a:pt x="8853" y="2"/>
                      <a:pt x="8854" y="2"/>
                    </a:cubicBezTo>
                    <a:close/>
                    <a:moveTo>
                      <a:pt x="8862" y="2"/>
                    </a:moveTo>
                    <a:lnTo>
                      <a:pt x="8862" y="2"/>
                    </a:lnTo>
                    <a:cubicBezTo>
                      <a:pt x="8863" y="2"/>
                      <a:pt x="8864" y="3"/>
                      <a:pt x="8864" y="4"/>
                    </a:cubicBezTo>
                    <a:cubicBezTo>
                      <a:pt x="8864" y="5"/>
                      <a:pt x="8863" y="6"/>
                      <a:pt x="8862" y="6"/>
                    </a:cubicBezTo>
                    <a:lnTo>
                      <a:pt x="8862" y="6"/>
                    </a:lnTo>
                    <a:cubicBezTo>
                      <a:pt x="8861" y="6"/>
                      <a:pt x="8860" y="5"/>
                      <a:pt x="8860" y="4"/>
                    </a:cubicBezTo>
                    <a:cubicBezTo>
                      <a:pt x="8860" y="3"/>
                      <a:pt x="8861" y="2"/>
                      <a:pt x="8862" y="2"/>
                    </a:cubicBezTo>
                    <a:close/>
                    <a:moveTo>
                      <a:pt x="8870" y="2"/>
                    </a:moveTo>
                    <a:lnTo>
                      <a:pt x="8870" y="2"/>
                    </a:lnTo>
                    <a:cubicBezTo>
                      <a:pt x="8871" y="2"/>
                      <a:pt x="8872" y="3"/>
                      <a:pt x="8872" y="4"/>
                    </a:cubicBezTo>
                    <a:cubicBezTo>
                      <a:pt x="8872" y="5"/>
                      <a:pt x="8871" y="6"/>
                      <a:pt x="8870" y="6"/>
                    </a:cubicBezTo>
                    <a:lnTo>
                      <a:pt x="8870" y="6"/>
                    </a:lnTo>
                    <a:cubicBezTo>
                      <a:pt x="8869" y="6"/>
                      <a:pt x="8868" y="5"/>
                      <a:pt x="8868" y="4"/>
                    </a:cubicBezTo>
                    <a:cubicBezTo>
                      <a:pt x="8868" y="3"/>
                      <a:pt x="8869" y="2"/>
                      <a:pt x="8870" y="2"/>
                    </a:cubicBezTo>
                    <a:close/>
                    <a:moveTo>
                      <a:pt x="8878" y="2"/>
                    </a:moveTo>
                    <a:lnTo>
                      <a:pt x="8878" y="2"/>
                    </a:lnTo>
                    <a:cubicBezTo>
                      <a:pt x="8879" y="2"/>
                      <a:pt x="8880" y="3"/>
                      <a:pt x="8880" y="4"/>
                    </a:cubicBezTo>
                    <a:cubicBezTo>
                      <a:pt x="8880" y="5"/>
                      <a:pt x="8879" y="6"/>
                      <a:pt x="8878" y="6"/>
                    </a:cubicBezTo>
                    <a:lnTo>
                      <a:pt x="8878" y="6"/>
                    </a:lnTo>
                    <a:cubicBezTo>
                      <a:pt x="8877" y="6"/>
                      <a:pt x="8876" y="5"/>
                      <a:pt x="8876" y="4"/>
                    </a:cubicBezTo>
                    <a:cubicBezTo>
                      <a:pt x="8876" y="3"/>
                      <a:pt x="8877" y="2"/>
                      <a:pt x="8878" y="2"/>
                    </a:cubicBezTo>
                    <a:close/>
                    <a:moveTo>
                      <a:pt x="8886" y="2"/>
                    </a:moveTo>
                    <a:lnTo>
                      <a:pt x="8886" y="2"/>
                    </a:lnTo>
                    <a:cubicBezTo>
                      <a:pt x="8887" y="2"/>
                      <a:pt x="8888" y="3"/>
                      <a:pt x="8888" y="4"/>
                    </a:cubicBezTo>
                    <a:cubicBezTo>
                      <a:pt x="8888" y="5"/>
                      <a:pt x="8887" y="6"/>
                      <a:pt x="8886" y="6"/>
                    </a:cubicBezTo>
                    <a:lnTo>
                      <a:pt x="8886" y="6"/>
                    </a:lnTo>
                    <a:cubicBezTo>
                      <a:pt x="8885" y="6"/>
                      <a:pt x="8884" y="5"/>
                      <a:pt x="8884" y="4"/>
                    </a:cubicBezTo>
                    <a:cubicBezTo>
                      <a:pt x="8884" y="3"/>
                      <a:pt x="8885" y="2"/>
                      <a:pt x="8886" y="2"/>
                    </a:cubicBezTo>
                    <a:close/>
                    <a:moveTo>
                      <a:pt x="8894" y="2"/>
                    </a:moveTo>
                    <a:lnTo>
                      <a:pt x="8894" y="2"/>
                    </a:lnTo>
                    <a:cubicBezTo>
                      <a:pt x="8895" y="2"/>
                      <a:pt x="8896" y="3"/>
                      <a:pt x="8896" y="4"/>
                    </a:cubicBezTo>
                    <a:cubicBezTo>
                      <a:pt x="8896" y="5"/>
                      <a:pt x="8895" y="6"/>
                      <a:pt x="8894" y="6"/>
                    </a:cubicBezTo>
                    <a:lnTo>
                      <a:pt x="8894" y="6"/>
                    </a:lnTo>
                    <a:cubicBezTo>
                      <a:pt x="8893" y="6"/>
                      <a:pt x="8892" y="5"/>
                      <a:pt x="8892" y="4"/>
                    </a:cubicBezTo>
                    <a:cubicBezTo>
                      <a:pt x="8892" y="3"/>
                      <a:pt x="8893" y="2"/>
                      <a:pt x="8894" y="2"/>
                    </a:cubicBezTo>
                    <a:close/>
                    <a:moveTo>
                      <a:pt x="8902" y="2"/>
                    </a:moveTo>
                    <a:lnTo>
                      <a:pt x="8902" y="2"/>
                    </a:lnTo>
                    <a:cubicBezTo>
                      <a:pt x="8903" y="2"/>
                      <a:pt x="8904" y="3"/>
                      <a:pt x="8904" y="4"/>
                    </a:cubicBezTo>
                    <a:cubicBezTo>
                      <a:pt x="8904" y="5"/>
                      <a:pt x="8903" y="6"/>
                      <a:pt x="8902" y="6"/>
                    </a:cubicBezTo>
                    <a:lnTo>
                      <a:pt x="8902" y="6"/>
                    </a:lnTo>
                    <a:cubicBezTo>
                      <a:pt x="8901" y="6"/>
                      <a:pt x="8900" y="5"/>
                      <a:pt x="8900" y="4"/>
                    </a:cubicBezTo>
                    <a:cubicBezTo>
                      <a:pt x="8900" y="3"/>
                      <a:pt x="8901" y="2"/>
                      <a:pt x="8902" y="2"/>
                    </a:cubicBezTo>
                    <a:close/>
                    <a:moveTo>
                      <a:pt x="8910" y="2"/>
                    </a:moveTo>
                    <a:lnTo>
                      <a:pt x="8910" y="2"/>
                    </a:lnTo>
                    <a:cubicBezTo>
                      <a:pt x="8911" y="2"/>
                      <a:pt x="8912" y="3"/>
                      <a:pt x="8912" y="4"/>
                    </a:cubicBezTo>
                    <a:cubicBezTo>
                      <a:pt x="8912" y="5"/>
                      <a:pt x="8911" y="6"/>
                      <a:pt x="8910" y="6"/>
                    </a:cubicBezTo>
                    <a:lnTo>
                      <a:pt x="8910" y="6"/>
                    </a:lnTo>
                    <a:cubicBezTo>
                      <a:pt x="8909" y="6"/>
                      <a:pt x="8908" y="5"/>
                      <a:pt x="8908" y="4"/>
                    </a:cubicBezTo>
                    <a:cubicBezTo>
                      <a:pt x="8908" y="3"/>
                      <a:pt x="8909" y="2"/>
                      <a:pt x="8910" y="2"/>
                    </a:cubicBezTo>
                    <a:close/>
                    <a:moveTo>
                      <a:pt x="8918" y="2"/>
                    </a:moveTo>
                    <a:lnTo>
                      <a:pt x="8918" y="2"/>
                    </a:lnTo>
                    <a:cubicBezTo>
                      <a:pt x="8919" y="2"/>
                      <a:pt x="8920" y="3"/>
                      <a:pt x="8920" y="4"/>
                    </a:cubicBezTo>
                    <a:cubicBezTo>
                      <a:pt x="8920" y="5"/>
                      <a:pt x="8919" y="6"/>
                      <a:pt x="8918" y="6"/>
                    </a:cubicBezTo>
                    <a:lnTo>
                      <a:pt x="8918" y="6"/>
                    </a:lnTo>
                    <a:cubicBezTo>
                      <a:pt x="8917" y="6"/>
                      <a:pt x="8916" y="5"/>
                      <a:pt x="8916" y="4"/>
                    </a:cubicBezTo>
                    <a:cubicBezTo>
                      <a:pt x="8916" y="3"/>
                      <a:pt x="8917" y="2"/>
                      <a:pt x="8918" y="2"/>
                    </a:cubicBezTo>
                    <a:close/>
                    <a:moveTo>
                      <a:pt x="8926" y="2"/>
                    </a:moveTo>
                    <a:lnTo>
                      <a:pt x="8926" y="2"/>
                    </a:lnTo>
                    <a:cubicBezTo>
                      <a:pt x="8927" y="2"/>
                      <a:pt x="8928" y="3"/>
                      <a:pt x="8928" y="4"/>
                    </a:cubicBezTo>
                    <a:cubicBezTo>
                      <a:pt x="8928" y="5"/>
                      <a:pt x="8927" y="6"/>
                      <a:pt x="8926" y="6"/>
                    </a:cubicBezTo>
                    <a:lnTo>
                      <a:pt x="8926" y="6"/>
                    </a:lnTo>
                    <a:cubicBezTo>
                      <a:pt x="8925" y="6"/>
                      <a:pt x="8924" y="5"/>
                      <a:pt x="8924" y="4"/>
                    </a:cubicBezTo>
                    <a:cubicBezTo>
                      <a:pt x="8924" y="3"/>
                      <a:pt x="8925" y="2"/>
                      <a:pt x="8926" y="2"/>
                    </a:cubicBezTo>
                    <a:close/>
                    <a:moveTo>
                      <a:pt x="8934" y="2"/>
                    </a:moveTo>
                    <a:lnTo>
                      <a:pt x="8934" y="2"/>
                    </a:lnTo>
                    <a:cubicBezTo>
                      <a:pt x="8935" y="2"/>
                      <a:pt x="8936" y="3"/>
                      <a:pt x="8936" y="4"/>
                    </a:cubicBezTo>
                    <a:cubicBezTo>
                      <a:pt x="8936" y="5"/>
                      <a:pt x="8935" y="6"/>
                      <a:pt x="8934" y="6"/>
                    </a:cubicBezTo>
                    <a:lnTo>
                      <a:pt x="8934" y="6"/>
                    </a:lnTo>
                    <a:cubicBezTo>
                      <a:pt x="8933" y="6"/>
                      <a:pt x="8932" y="5"/>
                      <a:pt x="8932" y="4"/>
                    </a:cubicBezTo>
                    <a:cubicBezTo>
                      <a:pt x="8932" y="3"/>
                      <a:pt x="8933" y="2"/>
                      <a:pt x="8934" y="2"/>
                    </a:cubicBezTo>
                    <a:close/>
                    <a:moveTo>
                      <a:pt x="8942" y="2"/>
                    </a:moveTo>
                    <a:lnTo>
                      <a:pt x="8942" y="2"/>
                    </a:lnTo>
                    <a:cubicBezTo>
                      <a:pt x="8943" y="2"/>
                      <a:pt x="8944" y="3"/>
                      <a:pt x="8944" y="4"/>
                    </a:cubicBezTo>
                    <a:cubicBezTo>
                      <a:pt x="8944" y="5"/>
                      <a:pt x="8943" y="6"/>
                      <a:pt x="8942" y="6"/>
                    </a:cubicBezTo>
                    <a:lnTo>
                      <a:pt x="8942" y="6"/>
                    </a:lnTo>
                    <a:cubicBezTo>
                      <a:pt x="8941" y="6"/>
                      <a:pt x="8940" y="5"/>
                      <a:pt x="8940" y="4"/>
                    </a:cubicBezTo>
                    <a:cubicBezTo>
                      <a:pt x="8940" y="3"/>
                      <a:pt x="8941" y="2"/>
                      <a:pt x="8942" y="2"/>
                    </a:cubicBezTo>
                    <a:close/>
                    <a:moveTo>
                      <a:pt x="8950" y="2"/>
                    </a:moveTo>
                    <a:lnTo>
                      <a:pt x="8950" y="2"/>
                    </a:lnTo>
                    <a:cubicBezTo>
                      <a:pt x="8951" y="2"/>
                      <a:pt x="8952" y="3"/>
                      <a:pt x="8952" y="4"/>
                    </a:cubicBezTo>
                    <a:cubicBezTo>
                      <a:pt x="8952" y="5"/>
                      <a:pt x="8951" y="6"/>
                      <a:pt x="8950" y="6"/>
                    </a:cubicBezTo>
                    <a:lnTo>
                      <a:pt x="8950" y="6"/>
                    </a:lnTo>
                    <a:cubicBezTo>
                      <a:pt x="8949" y="6"/>
                      <a:pt x="8948" y="5"/>
                      <a:pt x="8948" y="4"/>
                    </a:cubicBezTo>
                    <a:cubicBezTo>
                      <a:pt x="8948" y="3"/>
                      <a:pt x="8949" y="2"/>
                      <a:pt x="8950" y="2"/>
                    </a:cubicBezTo>
                    <a:close/>
                    <a:moveTo>
                      <a:pt x="8958" y="2"/>
                    </a:moveTo>
                    <a:lnTo>
                      <a:pt x="8958" y="2"/>
                    </a:lnTo>
                    <a:cubicBezTo>
                      <a:pt x="8959" y="2"/>
                      <a:pt x="8960" y="3"/>
                      <a:pt x="8960" y="4"/>
                    </a:cubicBezTo>
                    <a:cubicBezTo>
                      <a:pt x="8960" y="5"/>
                      <a:pt x="8959" y="6"/>
                      <a:pt x="8958" y="6"/>
                    </a:cubicBezTo>
                    <a:lnTo>
                      <a:pt x="8958" y="6"/>
                    </a:lnTo>
                    <a:cubicBezTo>
                      <a:pt x="8957" y="6"/>
                      <a:pt x="8956" y="5"/>
                      <a:pt x="8956" y="4"/>
                    </a:cubicBezTo>
                    <a:cubicBezTo>
                      <a:pt x="8956" y="3"/>
                      <a:pt x="8957" y="2"/>
                      <a:pt x="8958" y="2"/>
                    </a:cubicBezTo>
                    <a:close/>
                    <a:moveTo>
                      <a:pt x="8966" y="2"/>
                    </a:moveTo>
                    <a:lnTo>
                      <a:pt x="8966" y="2"/>
                    </a:lnTo>
                    <a:cubicBezTo>
                      <a:pt x="8967" y="2"/>
                      <a:pt x="8968" y="3"/>
                      <a:pt x="8968" y="4"/>
                    </a:cubicBezTo>
                    <a:cubicBezTo>
                      <a:pt x="8968" y="5"/>
                      <a:pt x="8967" y="6"/>
                      <a:pt x="8966" y="6"/>
                    </a:cubicBezTo>
                    <a:lnTo>
                      <a:pt x="8966" y="6"/>
                    </a:lnTo>
                    <a:cubicBezTo>
                      <a:pt x="8965" y="6"/>
                      <a:pt x="8964" y="5"/>
                      <a:pt x="8964" y="4"/>
                    </a:cubicBezTo>
                    <a:cubicBezTo>
                      <a:pt x="8964" y="3"/>
                      <a:pt x="8965" y="2"/>
                      <a:pt x="8966" y="2"/>
                    </a:cubicBezTo>
                    <a:close/>
                    <a:moveTo>
                      <a:pt x="8974" y="2"/>
                    </a:moveTo>
                    <a:lnTo>
                      <a:pt x="8974" y="2"/>
                    </a:lnTo>
                    <a:cubicBezTo>
                      <a:pt x="8975" y="2"/>
                      <a:pt x="8976" y="3"/>
                      <a:pt x="8976" y="4"/>
                    </a:cubicBezTo>
                    <a:cubicBezTo>
                      <a:pt x="8976" y="5"/>
                      <a:pt x="8975" y="6"/>
                      <a:pt x="8974" y="6"/>
                    </a:cubicBezTo>
                    <a:lnTo>
                      <a:pt x="8974" y="6"/>
                    </a:lnTo>
                    <a:cubicBezTo>
                      <a:pt x="8973" y="6"/>
                      <a:pt x="8972" y="5"/>
                      <a:pt x="8972" y="4"/>
                    </a:cubicBezTo>
                    <a:cubicBezTo>
                      <a:pt x="8972" y="3"/>
                      <a:pt x="8973" y="2"/>
                      <a:pt x="8974" y="2"/>
                    </a:cubicBezTo>
                    <a:close/>
                    <a:moveTo>
                      <a:pt x="8982" y="2"/>
                    </a:moveTo>
                    <a:lnTo>
                      <a:pt x="8982" y="2"/>
                    </a:lnTo>
                    <a:cubicBezTo>
                      <a:pt x="8983" y="2"/>
                      <a:pt x="8984" y="3"/>
                      <a:pt x="8984" y="4"/>
                    </a:cubicBezTo>
                    <a:cubicBezTo>
                      <a:pt x="8984" y="5"/>
                      <a:pt x="8983" y="6"/>
                      <a:pt x="8982" y="6"/>
                    </a:cubicBezTo>
                    <a:lnTo>
                      <a:pt x="8982" y="6"/>
                    </a:lnTo>
                    <a:cubicBezTo>
                      <a:pt x="8981" y="6"/>
                      <a:pt x="8980" y="5"/>
                      <a:pt x="8980" y="4"/>
                    </a:cubicBezTo>
                    <a:cubicBezTo>
                      <a:pt x="8980" y="3"/>
                      <a:pt x="8981" y="2"/>
                      <a:pt x="8982" y="2"/>
                    </a:cubicBezTo>
                    <a:close/>
                    <a:moveTo>
                      <a:pt x="8990" y="2"/>
                    </a:moveTo>
                    <a:lnTo>
                      <a:pt x="8990" y="2"/>
                    </a:lnTo>
                    <a:cubicBezTo>
                      <a:pt x="8991" y="2"/>
                      <a:pt x="8992" y="3"/>
                      <a:pt x="8992" y="4"/>
                    </a:cubicBezTo>
                    <a:cubicBezTo>
                      <a:pt x="8992" y="5"/>
                      <a:pt x="8991" y="6"/>
                      <a:pt x="8990" y="6"/>
                    </a:cubicBezTo>
                    <a:lnTo>
                      <a:pt x="8990" y="6"/>
                    </a:lnTo>
                    <a:cubicBezTo>
                      <a:pt x="8989" y="6"/>
                      <a:pt x="8988" y="5"/>
                      <a:pt x="8988" y="4"/>
                    </a:cubicBezTo>
                    <a:cubicBezTo>
                      <a:pt x="8988" y="3"/>
                      <a:pt x="8989" y="2"/>
                      <a:pt x="8990" y="2"/>
                    </a:cubicBezTo>
                    <a:close/>
                    <a:moveTo>
                      <a:pt x="8998" y="2"/>
                    </a:moveTo>
                    <a:lnTo>
                      <a:pt x="8998" y="2"/>
                    </a:lnTo>
                    <a:cubicBezTo>
                      <a:pt x="8999" y="2"/>
                      <a:pt x="9000" y="3"/>
                      <a:pt x="9000" y="4"/>
                    </a:cubicBezTo>
                    <a:cubicBezTo>
                      <a:pt x="9000" y="5"/>
                      <a:pt x="8999" y="6"/>
                      <a:pt x="8998" y="6"/>
                    </a:cubicBezTo>
                    <a:lnTo>
                      <a:pt x="8998" y="6"/>
                    </a:lnTo>
                    <a:cubicBezTo>
                      <a:pt x="8997" y="6"/>
                      <a:pt x="8996" y="5"/>
                      <a:pt x="8996" y="4"/>
                    </a:cubicBezTo>
                    <a:cubicBezTo>
                      <a:pt x="8996" y="3"/>
                      <a:pt x="8997" y="2"/>
                      <a:pt x="8998" y="2"/>
                    </a:cubicBezTo>
                    <a:close/>
                    <a:moveTo>
                      <a:pt x="9006" y="2"/>
                    </a:moveTo>
                    <a:lnTo>
                      <a:pt x="9006" y="2"/>
                    </a:lnTo>
                    <a:cubicBezTo>
                      <a:pt x="9007" y="2"/>
                      <a:pt x="9008" y="3"/>
                      <a:pt x="9008" y="4"/>
                    </a:cubicBezTo>
                    <a:cubicBezTo>
                      <a:pt x="9008" y="5"/>
                      <a:pt x="9007" y="6"/>
                      <a:pt x="9006" y="6"/>
                    </a:cubicBezTo>
                    <a:lnTo>
                      <a:pt x="9006" y="6"/>
                    </a:lnTo>
                    <a:cubicBezTo>
                      <a:pt x="9005" y="6"/>
                      <a:pt x="9004" y="5"/>
                      <a:pt x="9004" y="4"/>
                    </a:cubicBezTo>
                    <a:cubicBezTo>
                      <a:pt x="9004" y="3"/>
                      <a:pt x="9005" y="2"/>
                      <a:pt x="9006" y="2"/>
                    </a:cubicBezTo>
                    <a:close/>
                    <a:moveTo>
                      <a:pt x="9014" y="2"/>
                    </a:moveTo>
                    <a:lnTo>
                      <a:pt x="9014" y="2"/>
                    </a:lnTo>
                    <a:cubicBezTo>
                      <a:pt x="9015" y="2"/>
                      <a:pt x="9016" y="3"/>
                      <a:pt x="9016" y="4"/>
                    </a:cubicBezTo>
                    <a:cubicBezTo>
                      <a:pt x="9016" y="5"/>
                      <a:pt x="9015" y="6"/>
                      <a:pt x="9014" y="6"/>
                    </a:cubicBezTo>
                    <a:lnTo>
                      <a:pt x="9014" y="6"/>
                    </a:lnTo>
                    <a:cubicBezTo>
                      <a:pt x="9013" y="6"/>
                      <a:pt x="9012" y="5"/>
                      <a:pt x="9012" y="4"/>
                    </a:cubicBezTo>
                    <a:cubicBezTo>
                      <a:pt x="9012" y="3"/>
                      <a:pt x="9013" y="2"/>
                      <a:pt x="9014" y="2"/>
                    </a:cubicBezTo>
                    <a:close/>
                    <a:moveTo>
                      <a:pt x="9022" y="2"/>
                    </a:moveTo>
                    <a:lnTo>
                      <a:pt x="9022" y="2"/>
                    </a:lnTo>
                    <a:cubicBezTo>
                      <a:pt x="9023" y="2"/>
                      <a:pt x="9024" y="3"/>
                      <a:pt x="9024" y="4"/>
                    </a:cubicBezTo>
                    <a:cubicBezTo>
                      <a:pt x="9024" y="5"/>
                      <a:pt x="9023" y="6"/>
                      <a:pt x="9022" y="6"/>
                    </a:cubicBezTo>
                    <a:lnTo>
                      <a:pt x="9022" y="6"/>
                    </a:lnTo>
                    <a:cubicBezTo>
                      <a:pt x="9021" y="6"/>
                      <a:pt x="9020" y="5"/>
                      <a:pt x="9020" y="4"/>
                    </a:cubicBezTo>
                    <a:cubicBezTo>
                      <a:pt x="9020" y="3"/>
                      <a:pt x="9021" y="2"/>
                      <a:pt x="9022" y="2"/>
                    </a:cubicBezTo>
                    <a:close/>
                    <a:moveTo>
                      <a:pt x="9030" y="2"/>
                    </a:moveTo>
                    <a:lnTo>
                      <a:pt x="9030" y="2"/>
                    </a:lnTo>
                    <a:cubicBezTo>
                      <a:pt x="9031" y="2"/>
                      <a:pt x="9032" y="3"/>
                      <a:pt x="9032" y="4"/>
                    </a:cubicBezTo>
                    <a:cubicBezTo>
                      <a:pt x="9032" y="5"/>
                      <a:pt x="9031" y="6"/>
                      <a:pt x="9030" y="6"/>
                    </a:cubicBezTo>
                    <a:lnTo>
                      <a:pt x="9030" y="6"/>
                    </a:lnTo>
                    <a:cubicBezTo>
                      <a:pt x="9029" y="6"/>
                      <a:pt x="9028" y="5"/>
                      <a:pt x="9028" y="4"/>
                    </a:cubicBezTo>
                    <a:cubicBezTo>
                      <a:pt x="9028" y="3"/>
                      <a:pt x="9029" y="2"/>
                      <a:pt x="9030" y="2"/>
                    </a:cubicBezTo>
                    <a:close/>
                    <a:moveTo>
                      <a:pt x="9038" y="2"/>
                    </a:moveTo>
                    <a:lnTo>
                      <a:pt x="9038" y="2"/>
                    </a:lnTo>
                    <a:cubicBezTo>
                      <a:pt x="9039" y="2"/>
                      <a:pt x="9040" y="3"/>
                      <a:pt x="9040" y="4"/>
                    </a:cubicBezTo>
                    <a:cubicBezTo>
                      <a:pt x="9040" y="5"/>
                      <a:pt x="9039" y="6"/>
                      <a:pt x="9038" y="6"/>
                    </a:cubicBezTo>
                    <a:lnTo>
                      <a:pt x="9038" y="6"/>
                    </a:lnTo>
                    <a:cubicBezTo>
                      <a:pt x="9037" y="6"/>
                      <a:pt x="9036" y="5"/>
                      <a:pt x="9036" y="4"/>
                    </a:cubicBezTo>
                    <a:cubicBezTo>
                      <a:pt x="9036" y="3"/>
                      <a:pt x="9037" y="2"/>
                      <a:pt x="9038" y="2"/>
                    </a:cubicBezTo>
                    <a:close/>
                    <a:moveTo>
                      <a:pt x="9046" y="2"/>
                    </a:moveTo>
                    <a:lnTo>
                      <a:pt x="9046" y="2"/>
                    </a:lnTo>
                    <a:cubicBezTo>
                      <a:pt x="9047" y="2"/>
                      <a:pt x="9048" y="3"/>
                      <a:pt x="9048" y="4"/>
                    </a:cubicBezTo>
                    <a:cubicBezTo>
                      <a:pt x="9048" y="5"/>
                      <a:pt x="9047" y="6"/>
                      <a:pt x="9046" y="6"/>
                    </a:cubicBezTo>
                    <a:lnTo>
                      <a:pt x="9046" y="6"/>
                    </a:lnTo>
                    <a:cubicBezTo>
                      <a:pt x="9045" y="6"/>
                      <a:pt x="9044" y="5"/>
                      <a:pt x="9044" y="4"/>
                    </a:cubicBezTo>
                    <a:cubicBezTo>
                      <a:pt x="9044" y="3"/>
                      <a:pt x="9045" y="2"/>
                      <a:pt x="9046" y="2"/>
                    </a:cubicBezTo>
                    <a:close/>
                    <a:moveTo>
                      <a:pt x="9054" y="2"/>
                    </a:moveTo>
                    <a:lnTo>
                      <a:pt x="9054" y="2"/>
                    </a:lnTo>
                    <a:cubicBezTo>
                      <a:pt x="9055" y="2"/>
                      <a:pt x="9056" y="3"/>
                      <a:pt x="9056" y="4"/>
                    </a:cubicBezTo>
                    <a:cubicBezTo>
                      <a:pt x="9056" y="5"/>
                      <a:pt x="9055" y="6"/>
                      <a:pt x="9054" y="6"/>
                    </a:cubicBezTo>
                    <a:lnTo>
                      <a:pt x="9054" y="6"/>
                    </a:lnTo>
                    <a:cubicBezTo>
                      <a:pt x="9053" y="6"/>
                      <a:pt x="9052" y="5"/>
                      <a:pt x="9052" y="4"/>
                    </a:cubicBezTo>
                    <a:cubicBezTo>
                      <a:pt x="9052" y="3"/>
                      <a:pt x="9053" y="2"/>
                      <a:pt x="9054" y="2"/>
                    </a:cubicBezTo>
                    <a:close/>
                    <a:moveTo>
                      <a:pt x="9062" y="2"/>
                    </a:moveTo>
                    <a:lnTo>
                      <a:pt x="9062" y="2"/>
                    </a:lnTo>
                    <a:cubicBezTo>
                      <a:pt x="9063" y="2"/>
                      <a:pt x="9064" y="3"/>
                      <a:pt x="9064" y="4"/>
                    </a:cubicBezTo>
                    <a:cubicBezTo>
                      <a:pt x="9064" y="5"/>
                      <a:pt x="9063" y="6"/>
                      <a:pt x="9062" y="6"/>
                    </a:cubicBezTo>
                    <a:lnTo>
                      <a:pt x="9062" y="6"/>
                    </a:lnTo>
                    <a:cubicBezTo>
                      <a:pt x="9061" y="6"/>
                      <a:pt x="9060" y="5"/>
                      <a:pt x="9060" y="4"/>
                    </a:cubicBezTo>
                    <a:cubicBezTo>
                      <a:pt x="9060" y="3"/>
                      <a:pt x="9061" y="2"/>
                      <a:pt x="9062" y="2"/>
                    </a:cubicBezTo>
                    <a:close/>
                    <a:moveTo>
                      <a:pt x="9070" y="2"/>
                    </a:moveTo>
                    <a:lnTo>
                      <a:pt x="9070" y="2"/>
                    </a:lnTo>
                    <a:cubicBezTo>
                      <a:pt x="9071" y="2"/>
                      <a:pt x="9072" y="3"/>
                      <a:pt x="9072" y="4"/>
                    </a:cubicBezTo>
                    <a:cubicBezTo>
                      <a:pt x="9072" y="5"/>
                      <a:pt x="9071" y="6"/>
                      <a:pt x="9070" y="6"/>
                    </a:cubicBezTo>
                    <a:lnTo>
                      <a:pt x="9070" y="6"/>
                    </a:lnTo>
                    <a:cubicBezTo>
                      <a:pt x="9069" y="6"/>
                      <a:pt x="9068" y="5"/>
                      <a:pt x="9068" y="4"/>
                    </a:cubicBezTo>
                    <a:cubicBezTo>
                      <a:pt x="9068" y="3"/>
                      <a:pt x="9069" y="2"/>
                      <a:pt x="9070" y="2"/>
                    </a:cubicBezTo>
                    <a:close/>
                    <a:moveTo>
                      <a:pt x="9078" y="2"/>
                    </a:moveTo>
                    <a:lnTo>
                      <a:pt x="9078" y="2"/>
                    </a:lnTo>
                    <a:cubicBezTo>
                      <a:pt x="9079" y="2"/>
                      <a:pt x="9080" y="3"/>
                      <a:pt x="9080" y="4"/>
                    </a:cubicBezTo>
                    <a:cubicBezTo>
                      <a:pt x="9080" y="5"/>
                      <a:pt x="9079" y="6"/>
                      <a:pt x="9078" y="6"/>
                    </a:cubicBezTo>
                    <a:lnTo>
                      <a:pt x="9078" y="6"/>
                    </a:lnTo>
                    <a:cubicBezTo>
                      <a:pt x="9077" y="6"/>
                      <a:pt x="9076" y="5"/>
                      <a:pt x="9076" y="4"/>
                    </a:cubicBezTo>
                    <a:cubicBezTo>
                      <a:pt x="9076" y="3"/>
                      <a:pt x="9077" y="2"/>
                      <a:pt x="9078" y="2"/>
                    </a:cubicBezTo>
                    <a:close/>
                    <a:moveTo>
                      <a:pt x="9086" y="2"/>
                    </a:moveTo>
                    <a:lnTo>
                      <a:pt x="9086" y="2"/>
                    </a:lnTo>
                    <a:cubicBezTo>
                      <a:pt x="9087" y="2"/>
                      <a:pt x="9088" y="3"/>
                      <a:pt x="9088" y="4"/>
                    </a:cubicBezTo>
                    <a:cubicBezTo>
                      <a:pt x="9088" y="5"/>
                      <a:pt x="9087" y="6"/>
                      <a:pt x="9086" y="6"/>
                    </a:cubicBezTo>
                    <a:lnTo>
                      <a:pt x="9086" y="6"/>
                    </a:lnTo>
                    <a:cubicBezTo>
                      <a:pt x="9085" y="6"/>
                      <a:pt x="9084" y="5"/>
                      <a:pt x="9084" y="4"/>
                    </a:cubicBezTo>
                    <a:cubicBezTo>
                      <a:pt x="9084" y="3"/>
                      <a:pt x="9085" y="2"/>
                      <a:pt x="9086" y="2"/>
                    </a:cubicBezTo>
                    <a:close/>
                    <a:moveTo>
                      <a:pt x="9094" y="2"/>
                    </a:moveTo>
                    <a:lnTo>
                      <a:pt x="9094" y="2"/>
                    </a:lnTo>
                    <a:cubicBezTo>
                      <a:pt x="9095" y="2"/>
                      <a:pt x="9096" y="3"/>
                      <a:pt x="9096" y="4"/>
                    </a:cubicBezTo>
                    <a:cubicBezTo>
                      <a:pt x="9096" y="5"/>
                      <a:pt x="9095" y="6"/>
                      <a:pt x="9094" y="6"/>
                    </a:cubicBezTo>
                    <a:lnTo>
                      <a:pt x="9094" y="6"/>
                    </a:lnTo>
                    <a:cubicBezTo>
                      <a:pt x="9093" y="6"/>
                      <a:pt x="9092" y="5"/>
                      <a:pt x="9092" y="4"/>
                    </a:cubicBezTo>
                    <a:cubicBezTo>
                      <a:pt x="9092" y="3"/>
                      <a:pt x="9093" y="2"/>
                      <a:pt x="9094" y="2"/>
                    </a:cubicBezTo>
                    <a:close/>
                    <a:moveTo>
                      <a:pt x="9102" y="2"/>
                    </a:moveTo>
                    <a:lnTo>
                      <a:pt x="9102" y="2"/>
                    </a:lnTo>
                    <a:cubicBezTo>
                      <a:pt x="9103" y="2"/>
                      <a:pt x="9104" y="3"/>
                      <a:pt x="9104" y="4"/>
                    </a:cubicBezTo>
                    <a:cubicBezTo>
                      <a:pt x="9104" y="5"/>
                      <a:pt x="9103" y="6"/>
                      <a:pt x="9102" y="6"/>
                    </a:cubicBezTo>
                    <a:lnTo>
                      <a:pt x="9102" y="6"/>
                    </a:lnTo>
                    <a:cubicBezTo>
                      <a:pt x="9101" y="6"/>
                      <a:pt x="9100" y="5"/>
                      <a:pt x="9100" y="4"/>
                    </a:cubicBezTo>
                    <a:cubicBezTo>
                      <a:pt x="9100" y="3"/>
                      <a:pt x="9101" y="2"/>
                      <a:pt x="9102" y="2"/>
                    </a:cubicBezTo>
                    <a:close/>
                    <a:moveTo>
                      <a:pt x="9110" y="2"/>
                    </a:moveTo>
                    <a:lnTo>
                      <a:pt x="9110" y="2"/>
                    </a:lnTo>
                    <a:cubicBezTo>
                      <a:pt x="9111" y="2"/>
                      <a:pt x="9112" y="3"/>
                      <a:pt x="9112" y="4"/>
                    </a:cubicBezTo>
                    <a:cubicBezTo>
                      <a:pt x="9112" y="5"/>
                      <a:pt x="9111" y="6"/>
                      <a:pt x="9110" y="6"/>
                    </a:cubicBezTo>
                    <a:lnTo>
                      <a:pt x="9110" y="6"/>
                    </a:lnTo>
                    <a:cubicBezTo>
                      <a:pt x="9109" y="6"/>
                      <a:pt x="9108" y="5"/>
                      <a:pt x="9108" y="4"/>
                    </a:cubicBezTo>
                    <a:cubicBezTo>
                      <a:pt x="9108" y="3"/>
                      <a:pt x="9109" y="2"/>
                      <a:pt x="9110" y="2"/>
                    </a:cubicBezTo>
                    <a:close/>
                    <a:moveTo>
                      <a:pt x="9118" y="2"/>
                    </a:moveTo>
                    <a:lnTo>
                      <a:pt x="9118" y="2"/>
                    </a:lnTo>
                    <a:cubicBezTo>
                      <a:pt x="9119" y="2"/>
                      <a:pt x="9120" y="3"/>
                      <a:pt x="9120" y="4"/>
                    </a:cubicBezTo>
                    <a:cubicBezTo>
                      <a:pt x="9120" y="5"/>
                      <a:pt x="9119" y="6"/>
                      <a:pt x="9118" y="6"/>
                    </a:cubicBezTo>
                    <a:lnTo>
                      <a:pt x="9118" y="6"/>
                    </a:lnTo>
                    <a:cubicBezTo>
                      <a:pt x="9117" y="6"/>
                      <a:pt x="9116" y="5"/>
                      <a:pt x="9116" y="4"/>
                    </a:cubicBezTo>
                    <a:cubicBezTo>
                      <a:pt x="9116" y="3"/>
                      <a:pt x="9117" y="2"/>
                      <a:pt x="9118" y="2"/>
                    </a:cubicBezTo>
                    <a:close/>
                    <a:moveTo>
                      <a:pt x="9126" y="2"/>
                    </a:moveTo>
                    <a:lnTo>
                      <a:pt x="9126" y="2"/>
                    </a:lnTo>
                    <a:cubicBezTo>
                      <a:pt x="9127" y="2"/>
                      <a:pt x="9128" y="3"/>
                      <a:pt x="9128" y="4"/>
                    </a:cubicBezTo>
                    <a:cubicBezTo>
                      <a:pt x="9128" y="5"/>
                      <a:pt x="9127" y="6"/>
                      <a:pt x="9126" y="6"/>
                    </a:cubicBezTo>
                    <a:lnTo>
                      <a:pt x="9126" y="6"/>
                    </a:lnTo>
                    <a:cubicBezTo>
                      <a:pt x="9125" y="6"/>
                      <a:pt x="9124" y="5"/>
                      <a:pt x="9124" y="4"/>
                    </a:cubicBezTo>
                    <a:cubicBezTo>
                      <a:pt x="9124" y="3"/>
                      <a:pt x="9125" y="2"/>
                      <a:pt x="9126" y="2"/>
                    </a:cubicBezTo>
                    <a:close/>
                    <a:moveTo>
                      <a:pt x="9134" y="2"/>
                    </a:moveTo>
                    <a:lnTo>
                      <a:pt x="9134" y="2"/>
                    </a:lnTo>
                    <a:cubicBezTo>
                      <a:pt x="9135" y="2"/>
                      <a:pt x="9136" y="3"/>
                      <a:pt x="9136" y="4"/>
                    </a:cubicBezTo>
                    <a:cubicBezTo>
                      <a:pt x="9136" y="5"/>
                      <a:pt x="9135" y="6"/>
                      <a:pt x="9134" y="6"/>
                    </a:cubicBezTo>
                    <a:lnTo>
                      <a:pt x="9134" y="6"/>
                    </a:lnTo>
                    <a:cubicBezTo>
                      <a:pt x="9133" y="6"/>
                      <a:pt x="9132" y="5"/>
                      <a:pt x="9132" y="4"/>
                    </a:cubicBezTo>
                    <a:cubicBezTo>
                      <a:pt x="9132" y="3"/>
                      <a:pt x="9133" y="2"/>
                      <a:pt x="9134" y="2"/>
                    </a:cubicBezTo>
                    <a:close/>
                    <a:moveTo>
                      <a:pt x="9142" y="2"/>
                    </a:moveTo>
                    <a:lnTo>
                      <a:pt x="9142" y="2"/>
                    </a:lnTo>
                    <a:cubicBezTo>
                      <a:pt x="9143" y="2"/>
                      <a:pt x="9144" y="3"/>
                      <a:pt x="9144" y="4"/>
                    </a:cubicBezTo>
                    <a:cubicBezTo>
                      <a:pt x="9144" y="5"/>
                      <a:pt x="9143" y="6"/>
                      <a:pt x="9142" y="6"/>
                    </a:cubicBezTo>
                    <a:lnTo>
                      <a:pt x="9142" y="6"/>
                    </a:lnTo>
                    <a:cubicBezTo>
                      <a:pt x="9141" y="6"/>
                      <a:pt x="9140" y="5"/>
                      <a:pt x="9140" y="4"/>
                    </a:cubicBezTo>
                    <a:cubicBezTo>
                      <a:pt x="9140" y="3"/>
                      <a:pt x="9141" y="2"/>
                      <a:pt x="9142" y="2"/>
                    </a:cubicBezTo>
                    <a:close/>
                    <a:moveTo>
                      <a:pt x="9150" y="2"/>
                    </a:moveTo>
                    <a:lnTo>
                      <a:pt x="9150" y="2"/>
                    </a:lnTo>
                    <a:cubicBezTo>
                      <a:pt x="9152" y="2"/>
                      <a:pt x="9152" y="3"/>
                      <a:pt x="9152" y="4"/>
                    </a:cubicBezTo>
                    <a:cubicBezTo>
                      <a:pt x="9152" y="5"/>
                      <a:pt x="9152" y="6"/>
                      <a:pt x="9150" y="6"/>
                    </a:cubicBezTo>
                    <a:lnTo>
                      <a:pt x="9150" y="6"/>
                    </a:lnTo>
                    <a:cubicBezTo>
                      <a:pt x="9149" y="6"/>
                      <a:pt x="9148" y="5"/>
                      <a:pt x="9148" y="4"/>
                    </a:cubicBezTo>
                    <a:cubicBezTo>
                      <a:pt x="9148" y="3"/>
                      <a:pt x="9149" y="2"/>
                      <a:pt x="9150" y="2"/>
                    </a:cubicBezTo>
                    <a:close/>
                    <a:moveTo>
                      <a:pt x="9158" y="2"/>
                    </a:moveTo>
                    <a:lnTo>
                      <a:pt x="9158" y="2"/>
                    </a:lnTo>
                    <a:cubicBezTo>
                      <a:pt x="9160" y="2"/>
                      <a:pt x="9160" y="3"/>
                      <a:pt x="9160" y="4"/>
                    </a:cubicBezTo>
                    <a:cubicBezTo>
                      <a:pt x="9160" y="5"/>
                      <a:pt x="9160" y="6"/>
                      <a:pt x="9158" y="6"/>
                    </a:cubicBezTo>
                    <a:lnTo>
                      <a:pt x="9158" y="6"/>
                    </a:lnTo>
                    <a:cubicBezTo>
                      <a:pt x="9157" y="6"/>
                      <a:pt x="9156" y="5"/>
                      <a:pt x="9156" y="4"/>
                    </a:cubicBezTo>
                    <a:cubicBezTo>
                      <a:pt x="9156" y="3"/>
                      <a:pt x="9157" y="2"/>
                      <a:pt x="9158" y="2"/>
                    </a:cubicBezTo>
                    <a:close/>
                    <a:moveTo>
                      <a:pt x="9166" y="2"/>
                    </a:moveTo>
                    <a:lnTo>
                      <a:pt x="9166" y="2"/>
                    </a:lnTo>
                    <a:cubicBezTo>
                      <a:pt x="9168" y="2"/>
                      <a:pt x="9168" y="3"/>
                      <a:pt x="9168" y="4"/>
                    </a:cubicBezTo>
                    <a:cubicBezTo>
                      <a:pt x="9168" y="5"/>
                      <a:pt x="9168" y="6"/>
                      <a:pt x="9166" y="6"/>
                    </a:cubicBezTo>
                    <a:lnTo>
                      <a:pt x="9166" y="6"/>
                    </a:lnTo>
                    <a:cubicBezTo>
                      <a:pt x="9165" y="6"/>
                      <a:pt x="9164" y="5"/>
                      <a:pt x="9164" y="4"/>
                    </a:cubicBezTo>
                    <a:cubicBezTo>
                      <a:pt x="9164" y="3"/>
                      <a:pt x="9165" y="2"/>
                      <a:pt x="9166" y="2"/>
                    </a:cubicBezTo>
                    <a:close/>
                    <a:moveTo>
                      <a:pt x="9174" y="2"/>
                    </a:moveTo>
                    <a:lnTo>
                      <a:pt x="9174" y="2"/>
                    </a:lnTo>
                    <a:cubicBezTo>
                      <a:pt x="9176" y="2"/>
                      <a:pt x="9176" y="3"/>
                      <a:pt x="9176" y="4"/>
                    </a:cubicBezTo>
                    <a:cubicBezTo>
                      <a:pt x="9176" y="5"/>
                      <a:pt x="9176" y="6"/>
                      <a:pt x="9174" y="6"/>
                    </a:cubicBezTo>
                    <a:lnTo>
                      <a:pt x="9174" y="6"/>
                    </a:lnTo>
                    <a:cubicBezTo>
                      <a:pt x="9173" y="6"/>
                      <a:pt x="9172" y="5"/>
                      <a:pt x="9172" y="4"/>
                    </a:cubicBezTo>
                    <a:cubicBezTo>
                      <a:pt x="9172" y="3"/>
                      <a:pt x="9173" y="2"/>
                      <a:pt x="9174" y="2"/>
                    </a:cubicBezTo>
                    <a:close/>
                    <a:moveTo>
                      <a:pt x="9182" y="2"/>
                    </a:moveTo>
                    <a:lnTo>
                      <a:pt x="9182" y="2"/>
                    </a:lnTo>
                    <a:cubicBezTo>
                      <a:pt x="9184" y="2"/>
                      <a:pt x="9184" y="3"/>
                      <a:pt x="9184" y="4"/>
                    </a:cubicBezTo>
                    <a:cubicBezTo>
                      <a:pt x="9184" y="5"/>
                      <a:pt x="9184" y="6"/>
                      <a:pt x="9182" y="6"/>
                    </a:cubicBezTo>
                    <a:lnTo>
                      <a:pt x="9182" y="6"/>
                    </a:lnTo>
                    <a:cubicBezTo>
                      <a:pt x="9181" y="6"/>
                      <a:pt x="9180" y="5"/>
                      <a:pt x="9180" y="4"/>
                    </a:cubicBezTo>
                    <a:cubicBezTo>
                      <a:pt x="9180" y="3"/>
                      <a:pt x="9181" y="2"/>
                      <a:pt x="9182" y="2"/>
                    </a:cubicBezTo>
                    <a:close/>
                    <a:moveTo>
                      <a:pt x="9190" y="2"/>
                    </a:moveTo>
                    <a:lnTo>
                      <a:pt x="9190" y="2"/>
                    </a:lnTo>
                    <a:cubicBezTo>
                      <a:pt x="9192" y="2"/>
                      <a:pt x="9192" y="3"/>
                      <a:pt x="9192" y="4"/>
                    </a:cubicBezTo>
                    <a:cubicBezTo>
                      <a:pt x="9192" y="5"/>
                      <a:pt x="9192" y="6"/>
                      <a:pt x="9190" y="6"/>
                    </a:cubicBezTo>
                    <a:lnTo>
                      <a:pt x="9190" y="6"/>
                    </a:lnTo>
                    <a:cubicBezTo>
                      <a:pt x="9189" y="6"/>
                      <a:pt x="9188" y="5"/>
                      <a:pt x="9188" y="4"/>
                    </a:cubicBezTo>
                    <a:cubicBezTo>
                      <a:pt x="9188" y="3"/>
                      <a:pt x="9189" y="2"/>
                      <a:pt x="9190" y="2"/>
                    </a:cubicBezTo>
                    <a:close/>
                    <a:moveTo>
                      <a:pt x="9198" y="2"/>
                    </a:moveTo>
                    <a:lnTo>
                      <a:pt x="9198" y="2"/>
                    </a:lnTo>
                    <a:cubicBezTo>
                      <a:pt x="9200" y="2"/>
                      <a:pt x="9200" y="3"/>
                      <a:pt x="9200" y="4"/>
                    </a:cubicBezTo>
                    <a:cubicBezTo>
                      <a:pt x="9200" y="5"/>
                      <a:pt x="9200" y="6"/>
                      <a:pt x="9198" y="6"/>
                    </a:cubicBezTo>
                    <a:lnTo>
                      <a:pt x="9198" y="6"/>
                    </a:lnTo>
                    <a:cubicBezTo>
                      <a:pt x="9197" y="6"/>
                      <a:pt x="9196" y="5"/>
                      <a:pt x="9196" y="4"/>
                    </a:cubicBezTo>
                    <a:cubicBezTo>
                      <a:pt x="9196" y="3"/>
                      <a:pt x="9197" y="2"/>
                      <a:pt x="9198" y="2"/>
                    </a:cubicBezTo>
                    <a:close/>
                    <a:moveTo>
                      <a:pt x="9206" y="2"/>
                    </a:moveTo>
                    <a:lnTo>
                      <a:pt x="9206" y="2"/>
                    </a:lnTo>
                    <a:cubicBezTo>
                      <a:pt x="9208" y="2"/>
                      <a:pt x="9208" y="3"/>
                      <a:pt x="9208" y="4"/>
                    </a:cubicBezTo>
                    <a:cubicBezTo>
                      <a:pt x="9208" y="5"/>
                      <a:pt x="9208" y="6"/>
                      <a:pt x="9206" y="6"/>
                    </a:cubicBezTo>
                    <a:lnTo>
                      <a:pt x="9206" y="6"/>
                    </a:lnTo>
                    <a:cubicBezTo>
                      <a:pt x="9205" y="6"/>
                      <a:pt x="9204" y="5"/>
                      <a:pt x="9204" y="4"/>
                    </a:cubicBezTo>
                    <a:cubicBezTo>
                      <a:pt x="9204" y="3"/>
                      <a:pt x="9205" y="2"/>
                      <a:pt x="9206" y="2"/>
                    </a:cubicBezTo>
                    <a:close/>
                    <a:moveTo>
                      <a:pt x="9214" y="2"/>
                    </a:moveTo>
                    <a:lnTo>
                      <a:pt x="9214" y="2"/>
                    </a:lnTo>
                    <a:cubicBezTo>
                      <a:pt x="9216" y="2"/>
                      <a:pt x="9216" y="3"/>
                      <a:pt x="9216" y="4"/>
                    </a:cubicBezTo>
                    <a:cubicBezTo>
                      <a:pt x="9216" y="5"/>
                      <a:pt x="9216" y="6"/>
                      <a:pt x="9214" y="6"/>
                    </a:cubicBezTo>
                    <a:lnTo>
                      <a:pt x="9214" y="6"/>
                    </a:lnTo>
                    <a:cubicBezTo>
                      <a:pt x="9213" y="6"/>
                      <a:pt x="9212" y="5"/>
                      <a:pt x="9212" y="4"/>
                    </a:cubicBezTo>
                    <a:cubicBezTo>
                      <a:pt x="9212" y="3"/>
                      <a:pt x="9213" y="2"/>
                      <a:pt x="9214" y="2"/>
                    </a:cubicBezTo>
                    <a:close/>
                    <a:moveTo>
                      <a:pt x="9222" y="2"/>
                    </a:moveTo>
                    <a:lnTo>
                      <a:pt x="9222" y="2"/>
                    </a:lnTo>
                    <a:cubicBezTo>
                      <a:pt x="9224" y="2"/>
                      <a:pt x="9224" y="3"/>
                      <a:pt x="9224" y="4"/>
                    </a:cubicBezTo>
                    <a:cubicBezTo>
                      <a:pt x="9224" y="5"/>
                      <a:pt x="9224" y="6"/>
                      <a:pt x="9222" y="6"/>
                    </a:cubicBezTo>
                    <a:lnTo>
                      <a:pt x="9222" y="6"/>
                    </a:lnTo>
                    <a:cubicBezTo>
                      <a:pt x="9221" y="6"/>
                      <a:pt x="9220" y="5"/>
                      <a:pt x="9220" y="4"/>
                    </a:cubicBezTo>
                    <a:cubicBezTo>
                      <a:pt x="9220" y="3"/>
                      <a:pt x="9221" y="2"/>
                      <a:pt x="9222" y="2"/>
                    </a:cubicBezTo>
                    <a:close/>
                    <a:moveTo>
                      <a:pt x="9230" y="2"/>
                    </a:moveTo>
                    <a:lnTo>
                      <a:pt x="9230" y="2"/>
                    </a:lnTo>
                    <a:cubicBezTo>
                      <a:pt x="9232" y="2"/>
                      <a:pt x="9232" y="3"/>
                      <a:pt x="9232" y="4"/>
                    </a:cubicBezTo>
                    <a:cubicBezTo>
                      <a:pt x="9232" y="5"/>
                      <a:pt x="9232" y="6"/>
                      <a:pt x="9230" y="6"/>
                    </a:cubicBezTo>
                    <a:lnTo>
                      <a:pt x="9230" y="6"/>
                    </a:lnTo>
                    <a:cubicBezTo>
                      <a:pt x="9229" y="6"/>
                      <a:pt x="9228" y="5"/>
                      <a:pt x="9228" y="4"/>
                    </a:cubicBezTo>
                    <a:cubicBezTo>
                      <a:pt x="9228" y="3"/>
                      <a:pt x="9229" y="2"/>
                      <a:pt x="9230" y="2"/>
                    </a:cubicBezTo>
                    <a:close/>
                    <a:moveTo>
                      <a:pt x="9238" y="2"/>
                    </a:moveTo>
                    <a:lnTo>
                      <a:pt x="9238" y="2"/>
                    </a:lnTo>
                    <a:cubicBezTo>
                      <a:pt x="9240" y="2"/>
                      <a:pt x="9240" y="3"/>
                      <a:pt x="9240" y="4"/>
                    </a:cubicBezTo>
                    <a:cubicBezTo>
                      <a:pt x="9240" y="5"/>
                      <a:pt x="9240" y="6"/>
                      <a:pt x="9238" y="6"/>
                    </a:cubicBezTo>
                    <a:lnTo>
                      <a:pt x="9238" y="6"/>
                    </a:lnTo>
                    <a:cubicBezTo>
                      <a:pt x="9237" y="6"/>
                      <a:pt x="9236" y="5"/>
                      <a:pt x="9236" y="4"/>
                    </a:cubicBezTo>
                    <a:cubicBezTo>
                      <a:pt x="9236" y="3"/>
                      <a:pt x="9237" y="2"/>
                      <a:pt x="9238" y="2"/>
                    </a:cubicBezTo>
                    <a:close/>
                    <a:moveTo>
                      <a:pt x="9246" y="2"/>
                    </a:moveTo>
                    <a:lnTo>
                      <a:pt x="9246" y="2"/>
                    </a:lnTo>
                    <a:cubicBezTo>
                      <a:pt x="9248" y="2"/>
                      <a:pt x="9248" y="3"/>
                      <a:pt x="9248" y="4"/>
                    </a:cubicBezTo>
                    <a:cubicBezTo>
                      <a:pt x="9248" y="5"/>
                      <a:pt x="9248" y="6"/>
                      <a:pt x="9246" y="6"/>
                    </a:cubicBezTo>
                    <a:lnTo>
                      <a:pt x="9246" y="6"/>
                    </a:lnTo>
                    <a:cubicBezTo>
                      <a:pt x="9245" y="6"/>
                      <a:pt x="9244" y="5"/>
                      <a:pt x="9244" y="4"/>
                    </a:cubicBezTo>
                    <a:cubicBezTo>
                      <a:pt x="9244" y="3"/>
                      <a:pt x="9245" y="2"/>
                      <a:pt x="9246" y="2"/>
                    </a:cubicBezTo>
                    <a:close/>
                    <a:moveTo>
                      <a:pt x="9254" y="2"/>
                    </a:moveTo>
                    <a:lnTo>
                      <a:pt x="9254" y="2"/>
                    </a:lnTo>
                    <a:cubicBezTo>
                      <a:pt x="9256" y="2"/>
                      <a:pt x="9256" y="3"/>
                      <a:pt x="9256" y="4"/>
                    </a:cubicBezTo>
                    <a:cubicBezTo>
                      <a:pt x="9256" y="5"/>
                      <a:pt x="9256" y="6"/>
                      <a:pt x="9254" y="6"/>
                    </a:cubicBezTo>
                    <a:lnTo>
                      <a:pt x="9254" y="6"/>
                    </a:lnTo>
                    <a:cubicBezTo>
                      <a:pt x="9253" y="6"/>
                      <a:pt x="9252" y="5"/>
                      <a:pt x="9252" y="4"/>
                    </a:cubicBezTo>
                    <a:cubicBezTo>
                      <a:pt x="9252" y="3"/>
                      <a:pt x="9253" y="2"/>
                      <a:pt x="9254" y="2"/>
                    </a:cubicBezTo>
                    <a:close/>
                    <a:moveTo>
                      <a:pt x="9262" y="2"/>
                    </a:moveTo>
                    <a:lnTo>
                      <a:pt x="9262" y="2"/>
                    </a:lnTo>
                    <a:cubicBezTo>
                      <a:pt x="9264" y="2"/>
                      <a:pt x="9264" y="3"/>
                      <a:pt x="9264" y="4"/>
                    </a:cubicBezTo>
                    <a:cubicBezTo>
                      <a:pt x="9264" y="5"/>
                      <a:pt x="9264" y="6"/>
                      <a:pt x="9262" y="6"/>
                    </a:cubicBezTo>
                    <a:lnTo>
                      <a:pt x="9262" y="6"/>
                    </a:lnTo>
                    <a:cubicBezTo>
                      <a:pt x="9261" y="6"/>
                      <a:pt x="9260" y="5"/>
                      <a:pt x="9260" y="4"/>
                    </a:cubicBezTo>
                    <a:cubicBezTo>
                      <a:pt x="9260" y="3"/>
                      <a:pt x="9261" y="2"/>
                      <a:pt x="9262" y="2"/>
                    </a:cubicBezTo>
                    <a:close/>
                    <a:moveTo>
                      <a:pt x="9270" y="2"/>
                    </a:moveTo>
                    <a:lnTo>
                      <a:pt x="9270" y="2"/>
                    </a:lnTo>
                    <a:cubicBezTo>
                      <a:pt x="9272" y="2"/>
                      <a:pt x="9272" y="3"/>
                      <a:pt x="9272" y="4"/>
                    </a:cubicBezTo>
                    <a:cubicBezTo>
                      <a:pt x="9272" y="5"/>
                      <a:pt x="9272" y="6"/>
                      <a:pt x="9270" y="6"/>
                    </a:cubicBezTo>
                    <a:lnTo>
                      <a:pt x="9270" y="6"/>
                    </a:lnTo>
                    <a:cubicBezTo>
                      <a:pt x="9269" y="6"/>
                      <a:pt x="9268" y="5"/>
                      <a:pt x="9268" y="4"/>
                    </a:cubicBezTo>
                    <a:cubicBezTo>
                      <a:pt x="9268" y="3"/>
                      <a:pt x="9269" y="2"/>
                      <a:pt x="9270" y="2"/>
                    </a:cubicBezTo>
                    <a:close/>
                    <a:moveTo>
                      <a:pt x="9278" y="2"/>
                    </a:moveTo>
                    <a:lnTo>
                      <a:pt x="9278" y="2"/>
                    </a:lnTo>
                    <a:cubicBezTo>
                      <a:pt x="9280" y="2"/>
                      <a:pt x="9280" y="3"/>
                      <a:pt x="9280" y="4"/>
                    </a:cubicBezTo>
                    <a:cubicBezTo>
                      <a:pt x="9280" y="5"/>
                      <a:pt x="9280" y="6"/>
                      <a:pt x="9278" y="6"/>
                    </a:cubicBezTo>
                    <a:lnTo>
                      <a:pt x="9278" y="6"/>
                    </a:lnTo>
                    <a:cubicBezTo>
                      <a:pt x="9277" y="6"/>
                      <a:pt x="9276" y="5"/>
                      <a:pt x="9276" y="4"/>
                    </a:cubicBezTo>
                    <a:cubicBezTo>
                      <a:pt x="9276" y="3"/>
                      <a:pt x="9277" y="2"/>
                      <a:pt x="9278" y="2"/>
                    </a:cubicBezTo>
                    <a:close/>
                    <a:moveTo>
                      <a:pt x="9286" y="2"/>
                    </a:moveTo>
                    <a:lnTo>
                      <a:pt x="9286" y="2"/>
                    </a:lnTo>
                    <a:cubicBezTo>
                      <a:pt x="9288" y="2"/>
                      <a:pt x="9288" y="3"/>
                      <a:pt x="9288" y="4"/>
                    </a:cubicBezTo>
                    <a:cubicBezTo>
                      <a:pt x="9288" y="5"/>
                      <a:pt x="9288" y="6"/>
                      <a:pt x="9286" y="6"/>
                    </a:cubicBezTo>
                    <a:lnTo>
                      <a:pt x="9286" y="6"/>
                    </a:lnTo>
                    <a:cubicBezTo>
                      <a:pt x="9285" y="6"/>
                      <a:pt x="9284" y="5"/>
                      <a:pt x="9284" y="4"/>
                    </a:cubicBezTo>
                    <a:cubicBezTo>
                      <a:pt x="9284" y="3"/>
                      <a:pt x="9285" y="2"/>
                      <a:pt x="9286" y="2"/>
                    </a:cubicBezTo>
                    <a:close/>
                    <a:moveTo>
                      <a:pt x="9294" y="2"/>
                    </a:moveTo>
                    <a:lnTo>
                      <a:pt x="9294" y="2"/>
                    </a:lnTo>
                    <a:cubicBezTo>
                      <a:pt x="9296" y="2"/>
                      <a:pt x="9296" y="3"/>
                      <a:pt x="9296" y="4"/>
                    </a:cubicBezTo>
                    <a:cubicBezTo>
                      <a:pt x="9296" y="5"/>
                      <a:pt x="9296" y="6"/>
                      <a:pt x="9294" y="6"/>
                    </a:cubicBezTo>
                    <a:lnTo>
                      <a:pt x="9294" y="6"/>
                    </a:lnTo>
                    <a:cubicBezTo>
                      <a:pt x="9293" y="6"/>
                      <a:pt x="9292" y="5"/>
                      <a:pt x="9292" y="4"/>
                    </a:cubicBezTo>
                    <a:cubicBezTo>
                      <a:pt x="9292" y="3"/>
                      <a:pt x="9293" y="2"/>
                      <a:pt x="9294" y="2"/>
                    </a:cubicBezTo>
                    <a:close/>
                    <a:moveTo>
                      <a:pt x="9302" y="2"/>
                    </a:moveTo>
                    <a:lnTo>
                      <a:pt x="9302" y="2"/>
                    </a:lnTo>
                    <a:cubicBezTo>
                      <a:pt x="9304" y="2"/>
                      <a:pt x="9304" y="3"/>
                      <a:pt x="9304" y="4"/>
                    </a:cubicBezTo>
                    <a:cubicBezTo>
                      <a:pt x="9304" y="5"/>
                      <a:pt x="9304" y="6"/>
                      <a:pt x="9302" y="6"/>
                    </a:cubicBezTo>
                    <a:lnTo>
                      <a:pt x="9302" y="6"/>
                    </a:lnTo>
                    <a:cubicBezTo>
                      <a:pt x="9301" y="6"/>
                      <a:pt x="9300" y="5"/>
                      <a:pt x="9300" y="4"/>
                    </a:cubicBezTo>
                    <a:cubicBezTo>
                      <a:pt x="9300" y="3"/>
                      <a:pt x="9301" y="2"/>
                      <a:pt x="9302" y="2"/>
                    </a:cubicBezTo>
                    <a:close/>
                    <a:moveTo>
                      <a:pt x="9310" y="2"/>
                    </a:moveTo>
                    <a:lnTo>
                      <a:pt x="9310" y="2"/>
                    </a:lnTo>
                    <a:cubicBezTo>
                      <a:pt x="9312" y="2"/>
                      <a:pt x="9312" y="3"/>
                      <a:pt x="9312" y="4"/>
                    </a:cubicBezTo>
                    <a:cubicBezTo>
                      <a:pt x="9312" y="5"/>
                      <a:pt x="9312" y="6"/>
                      <a:pt x="9310" y="6"/>
                    </a:cubicBezTo>
                    <a:lnTo>
                      <a:pt x="9310" y="6"/>
                    </a:lnTo>
                    <a:cubicBezTo>
                      <a:pt x="9309" y="6"/>
                      <a:pt x="9308" y="5"/>
                      <a:pt x="9308" y="4"/>
                    </a:cubicBezTo>
                    <a:cubicBezTo>
                      <a:pt x="9308" y="3"/>
                      <a:pt x="9309" y="2"/>
                      <a:pt x="9310" y="2"/>
                    </a:cubicBezTo>
                    <a:close/>
                    <a:moveTo>
                      <a:pt x="9318" y="2"/>
                    </a:moveTo>
                    <a:lnTo>
                      <a:pt x="9319" y="2"/>
                    </a:lnTo>
                    <a:cubicBezTo>
                      <a:pt x="9320" y="2"/>
                      <a:pt x="9321" y="3"/>
                      <a:pt x="9321" y="4"/>
                    </a:cubicBezTo>
                    <a:cubicBezTo>
                      <a:pt x="9321" y="5"/>
                      <a:pt x="9320" y="6"/>
                      <a:pt x="9319" y="6"/>
                    </a:cubicBezTo>
                    <a:lnTo>
                      <a:pt x="9318" y="6"/>
                    </a:lnTo>
                    <a:cubicBezTo>
                      <a:pt x="9317" y="6"/>
                      <a:pt x="9316" y="5"/>
                      <a:pt x="9316" y="4"/>
                    </a:cubicBezTo>
                    <a:cubicBezTo>
                      <a:pt x="9316" y="3"/>
                      <a:pt x="9317" y="2"/>
                      <a:pt x="9318" y="2"/>
                    </a:cubicBezTo>
                    <a:close/>
                    <a:moveTo>
                      <a:pt x="9327" y="2"/>
                    </a:moveTo>
                    <a:lnTo>
                      <a:pt x="9327" y="2"/>
                    </a:lnTo>
                    <a:cubicBezTo>
                      <a:pt x="9328" y="2"/>
                      <a:pt x="9329" y="3"/>
                      <a:pt x="9329" y="4"/>
                    </a:cubicBezTo>
                    <a:cubicBezTo>
                      <a:pt x="9329" y="5"/>
                      <a:pt x="9328" y="6"/>
                      <a:pt x="9327" y="6"/>
                    </a:cubicBezTo>
                    <a:lnTo>
                      <a:pt x="9327" y="6"/>
                    </a:lnTo>
                    <a:cubicBezTo>
                      <a:pt x="9325" y="6"/>
                      <a:pt x="9325" y="5"/>
                      <a:pt x="9325" y="4"/>
                    </a:cubicBezTo>
                    <a:cubicBezTo>
                      <a:pt x="9325" y="3"/>
                      <a:pt x="9325" y="2"/>
                      <a:pt x="9327" y="2"/>
                    </a:cubicBezTo>
                    <a:close/>
                    <a:moveTo>
                      <a:pt x="9335" y="2"/>
                    </a:moveTo>
                    <a:lnTo>
                      <a:pt x="9335" y="2"/>
                    </a:lnTo>
                    <a:cubicBezTo>
                      <a:pt x="9336" y="2"/>
                      <a:pt x="9337" y="3"/>
                      <a:pt x="9337" y="4"/>
                    </a:cubicBezTo>
                    <a:cubicBezTo>
                      <a:pt x="9337" y="5"/>
                      <a:pt x="9336" y="6"/>
                      <a:pt x="9335" y="6"/>
                    </a:cubicBezTo>
                    <a:lnTo>
                      <a:pt x="9335" y="6"/>
                    </a:lnTo>
                    <a:cubicBezTo>
                      <a:pt x="9333" y="6"/>
                      <a:pt x="9333" y="5"/>
                      <a:pt x="9333" y="4"/>
                    </a:cubicBezTo>
                    <a:cubicBezTo>
                      <a:pt x="9333" y="3"/>
                      <a:pt x="9333" y="2"/>
                      <a:pt x="9335" y="2"/>
                    </a:cubicBezTo>
                    <a:close/>
                    <a:moveTo>
                      <a:pt x="9343" y="2"/>
                    </a:moveTo>
                    <a:lnTo>
                      <a:pt x="9343" y="2"/>
                    </a:lnTo>
                    <a:cubicBezTo>
                      <a:pt x="9344" y="2"/>
                      <a:pt x="9345" y="3"/>
                      <a:pt x="9345" y="4"/>
                    </a:cubicBezTo>
                    <a:cubicBezTo>
                      <a:pt x="9345" y="5"/>
                      <a:pt x="9344" y="6"/>
                      <a:pt x="9343" y="6"/>
                    </a:cubicBezTo>
                    <a:lnTo>
                      <a:pt x="9343" y="6"/>
                    </a:lnTo>
                    <a:cubicBezTo>
                      <a:pt x="9341" y="6"/>
                      <a:pt x="9341" y="5"/>
                      <a:pt x="9341" y="4"/>
                    </a:cubicBezTo>
                    <a:cubicBezTo>
                      <a:pt x="9341" y="3"/>
                      <a:pt x="9341" y="2"/>
                      <a:pt x="9343" y="2"/>
                    </a:cubicBezTo>
                    <a:close/>
                    <a:moveTo>
                      <a:pt x="9351" y="2"/>
                    </a:moveTo>
                    <a:lnTo>
                      <a:pt x="9351" y="2"/>
                    </a:lnTo>
                    <a:cubicBezTo>
                      <a:pt x="9352" y="2"/>
                      <a:pt x="9353" y="3"/>
                      <a:pt x="9353" y="4"/>
                    </a:cubicBezTo>
                    <a:cubicBezTo>
                      <a:pt x="9353" y="5"/>
                      <a:pt x="9352" y="6"/>
                      <a:pt x="9351" y="6"/>
                    </a:cubicBezTo>
                    <a:lnTo>
                      <a:pt x="9351" y="6"/>
                    </a:lnTo>
                    <a:cubicBezTo>
                      <a:pt x="9349" y="6"/>
                      <a:pt x="9349" y="5"/>
                      <a:pt x="9349" y="4"/>
                    </a:cubicBezTo>
                    <a:cubicBezTo>
                      <a:pt x="9349" y="3"/>
                      <a:pt x="9349" y="2"/>
                      <a:pt x="9351" y="2"/>
                    </a:cubicBezTo>
                    <a:close/>
                    <a:moveTo>
                      <a:pt x="9359" y="2"/>
                    </a:moveTo>
                    <a:lnTo>
                      <a:pt x="9359" y="2"/>
                    </a:lnTo>
                    <a:cubicBezTo>
                      <a:pt x="9360" y="2"/>
                      <a:pt x="9361" y="3"/>
                      <a:pt x="9361" y="4"/>
                    </a:cubicBezTo>
                    <a:cubicBezTo>
                      <a:pt x="9361" y="5"/>
                      <a:pt x="9360" y="6"/>
                      <a:pt x="9359" y="6"/>
                    </a:cubicBezTo>
                    <a:lnTo>
                      <a:pt x="9359" y="6"/>
                    </a:lnTo>
                    <a:cubicBezTo>
                      <a:pt x="9357" y="6"/>
                      <a:pt x="9357" y="5"/>
                      <a:pt x="9357" y="4"/>
                    </a:cubicBezTo>
                    <a:cubicBezTo>
                      <a:pt x="9357" y="3"/>
                      <a:pt x="9357" y="2"/>
                      <a:pt x="9359" y="2"/>
                    </a:cubicBezTo>
                    <a:close/>
                    <a:moveTo>
                      <a:pt x="9367" y="2"/>
                    </a:moveTo>
                    <a:lnTo>
                      <a:pt x="9367" y="2"/>
                    </a:lnTo>
                    <a:cubicBezTo>
                      <a:pt x="9368" y="2"/>
                      <a:pt x="9369" y="3"/>
                      <a:pt x="9369" y="4"/>
                    </a:cubicBezTo>
                    <a:cubicBezTo>
                      <a:pt x="9369" y="5"/>
                      <a:pt x="9368" y="6"/>
                      <a:pt x="9367" y="6"/>
                    </a:cubicBezTo>
                    <a:lnTo>
                      <a:pt x="9367" y="6"/>
                    </a:lnTo>
                    <a:cubicBezTo>
                      <a:pt x="9365" y="6"/>
                      <a:pt x="9365" y="5"/>
                      <a:pt x="9365" y="4"/>
                    </a:cubicBezTo>
                    <a:cubicBezTo>
                      <a:pt x="9365" y="3"/>
                      <a:pt x="9365" y="2"/>
                      <a:pt x="9367" y="2"/>
                    </a:cubicBezTo>
                    <a:close/>
                    <a:moveTo>
                      <a:pt x="9375" y="2"/>
                    </a:moveTo>
                    <a:lnTo>
                      <a:pt x="9375" y="2"/>
                    </a:lnTo>
                    <a:cubicBezTo>
                      <a:pt x="9376" y="2"/>
                      <a:pt x="9377" y="3"/>
                      <a:pt x="9377" y="4"/>
                    </a:cubicBezTo>
                    <a:cubicBezTo>
                      <a:pt x="9377" y="5"/>
                      <a:pt x="9376" y="6"/>
                      <a:pt x="9375" y="6"/>
                    </a:cubicBezTo>
                    <a:lnTo>
                      <a:pt x="9375" y="6"/>
                    </a:lnTo>
                    <a:cubicBezTo>
                      <a:pt x="9373" y="6"/>
                      <a:pt x="9373" y="5"/>
                      <a:pt x="9373" y="4"/>
                    </a:cubicBezTo>
                    <a:cubicBezTo>
                      <a:pt x="9373" y="3"/>
                      <a:pt x="9373" y="2"/>
                      <a:pt x="9375" y="2"/>
                    </a:cubicBezTo>
                    <a:close/>
                    <a:moveTo>
                      <a:pt x="9383" y="2"/>
                    </a:moveTo>
                    <a:lnTo>
                      <a:pt x="9383" y="2"/>
                    </a:lnTo>
                    <a:cubicBezTo>
                      <a:pt x="9384" y="2"/>
                      <a:pt x="9385" y="3"/>
                      <a:pt x="9385" y="4"/>
                    </a:cubicBezTo>
                    <a:cubicBezTo>
                      <a:pt x="9385" y="5"/>
                      <a:pt x="9384" y="6"/>
                      <a:pt x="9383" y="6"/>
                    </a:cubicBezTo>
                    <a:lnTo>
                      <a:pt x="9383" y="6"/>
                    </a:lnTo>
                    <a:cubicBezTo>
                      <a:pt x="9381" y="6"/>
                      <a:pt x="9381" y="5"/>
                      <a:pt x="9381" y="4"/>
                    </a:cubicBezTo>
                    <a:cubicBezTo>
                      <a:pt x="9381" y="3"/>
                      <a:pt x="9381" y="2"/>
                      <a:pt x="9383" y="2"/>
                    </a:cubicBezTo>
                    <a:close/>
                    <a:moveTo>
                      <a:pt x="9391" y="2"/>
                    </a:moveTo>
                    <a:lnTo>
                      <a:pt x="9391" y="2"/>
                    </a:lnTo>
                    <a:cubicBezTo>
                      <a:pt x="9392" y="2"/>
                      <a:pt x="9393" y="3"/>
                      <a:pt x="9393" y="4"/>
                    </a:cubicBezTo>
                    <a:cubicBezTo>
                      <a:pt x="9393" y="5"/>
                      <a:pt x="9392" y="6"/>
                      <a:pt x="9391" y="6"/>
                    </a:cubicBezTo>
                    <a:lnTo>
                      <a:pt x="9391" y="6"/>
                    </a:lnTo>
                    <a:cubicBezTo>
                      <a:pt x="9389" y="6"/>
                      <a:pt x="9389" y="5"/>
                      <a:pt x="9389" y="4"/>
                    </a:cubicBezTo>
                    <a:cubicBezTo>
                      <a:pt x="9389" y="3"/>
                      <a:pt x="9389" y="2"/>
                      <a:pt x="9391" y="2"/>
                    </a:cubicBezTo>
                    <a:close/>
                    <a:moveTo>
                      <a:pt x="9399" y="2"/>
                    </a:moveTo>
                    <a:lnTo>
                      <a:pt x="9399" y="2"/>
                    </a:lnTo>
                    <a:cubicBezTo>
                      <a:pt x="9400" y="2"/>
                      <a:pt x="9401" y="3"/>
                      <a:pt x="9401" y="4"/>
                    </a:cubicBezTo>
                    <a:cubicBezTo>
                      <a:pt x="9401" y="5"/>
                      <a:pt x="9400" y="6"/>
                      <a:pt x="9399" y="6"/>
                    </a:cubicBezTo>
                    <a:lnTo>
                      <a:pt x="9399" y="6"/>
                    </a:lnTo>
                    <a:cubicBezTo>
                      <a:pt x="9397" y="6"/>
                      <a:pt x="9397" y="5"/>
                      <a:pt x="9397" y="4"/>
                    </a:cubicBezTo>
                    <a:cubicBezTo>
                      <a:pt x="9397" y="3"/>
                      <a:pt x="9397" y="2"/>
                      <a:pt x="9399" y="2"/>
                    </a:cubicBezTo>
                    <a:close/>
                    <a:moveTo>
                      <a:pt x="9407" y="2"/>
                    </a:moveTo>
                    <a:lnTo>
                      <a:pt x="9407" y="2"/>
                    </a:lnTo>
                    <a:cubicBezTo>
                      <a:pt x="9408" y="2"/>
                      <a:pt x="9409" y="3"/>
                      <a:pt x="9409" y="4"/>
                    </a:cubicBezTo>
                    <a:cubicBezTo>
                      <a:pt x="9409" y="5"/>
                      <a:pt x="9408" y="6"/>
                      <a:pt x="9407" y="6"/>
                    </a:cubicBezTo>
                    <a:lnTo>
                      <a:pt x="9407" y="6"/>
                    </a:lnTo>
                    <a:cubicBezTo>
                      <a:pt x="9405" y="6"/>
                      <a:pt x="9405" y="5"/>
                      <a:pt x="9405" y="4"/>
                    </a:cubicBezTo>
                    <a:cubicBezTo>
                      <a:pt x="9405" y="3"/>
                      <a:pt x="9405" y="2"/>
                      <a:pt x="9407" y="2"/>
                    </a:cubicBezTo>
                    <a:close/>
                    <a:moveTo>
                      <a:pt x="9415" y="2"/>
                    </a:moveTo>
                    <a:lnTo>
                      <a:pt x="9415" y="2"/>
                    </a:lnTo>
                    <a:cubicBezTo>
                      <a:pt x="9416" y="2"/>
                      <a:pt x="9417" y="3"/>
                      <a:pt x="9417" y="4"/>
                    </a:cubicBezTo>
                    <a:cubicBezTo>
                      <a:pt x="9417" y="5"/>
                      <a:pt x="9416" y="6"/>
                      <a:pt x="9415" y="6"/>
                    </a:cubicBezTo>
                    <a:lnTo>
                      <a:pt x="9415" y="6"/>
                    </a:lnTo>
                    <a:cubicBezTo>
                      <a:pt x="9413" y="6"/>
                      <a:pt x="9413" y="5"/>
                      <a:pt x="9413" y="4"/>
                    </a:cubicBezTo>
                    <a:cubicBezTo>
                      <a:pt x="9413" y="3"/>
                      <a:pt x="9413" y="2"/>
                      <a:pt x="9415" y="2"/>
                    </a:cubicBezTo>
                    <a:close/>
                    <a:moveTo>
                      <a:pt x="9423" y="2"/>
                    </a:moveTo>
                    <a:lnTo>
                      <a:pt x="9423" y="2"/>
                    </a:lnTo>
                    <a:cubicBezTo>
                      <a:pt x="9424" y="2"/>
                      <a:pt x="9425" y="3"/>
                      <a:pt x="9425" y="4"/>
                    </a:cubicBezTo>
                    <a:cubicBezTo>
                      <a:pt x="9425" y="5"/>
                      <a:pt x="9424" y="6"/>
                      <a:pt x="9423" y="6"/>
                    </a:cubicBezTo>
                    <a:lnTo>
                      <a:pt x="9423" y="6"/>
                    </a:lnTo>
                    <a:cubicBezTo>
                      <a:pt x="9421" y="6"/>
                      <a:pt x="9421" y="5"/>
                      <a:pt x="9421" y="4"/>
                    </a:cubicBezTo>
                    <a:cubicBezTo>
                      <a:pt x="9421" y="3"/>
                      <a:pt x="9421" y="2"/>
                      <a:pt x="9423" y="2"/>
                    </a:cubicBezTo>
                    <a:close/>
                    <a:moveTo>
                      <a:pt x="9431" y="2"/>
                    </a:moveTo>
                    <a:lnTo>
                      <a:pt x="9431" y="2"/>
                    </a:lnTo>
                    <a:cubicBezTo>
                      <a:pt x="9432" y="2"/>
                      <a:pt x="9433" y="3"/>
                      <a:pt x="9433" y="4"/>
                    </a:cubicBezTo>
                    <a:cubicBezTo>
                      <a:pt x="9433" y="5"/>
                      <a:pt x="9432" y="6"/>
                      <a:pt x="9431" y="6"/>
                    </a:cubicBezTo>
                    <a:lnTo>
                      <a:pt x="9431" y="6"/>
                    </a:lnTo>
                    <a:cubicBezTo>
                      <a:pt x="9429" y="6"/>
                      <a:pt x="9429" y="5"/>
                      <a:pt x="9429" y="4"/>
                    </a:cubicBezTo>
                    <a:cubicBezTo>
                      <a:pt x="9429" y="3"/>
                      <a:pt x="9429" y="2"/>
                      <a:pt x="9431" y="2"/>
                    </a:cubicBezTo>
                    <a:close/>
                    <a:moveTo>
                      <a:pt x="9439" y="2"/>
                    </a:moveTo>
                    <a:lnTo>
                      <a:pt x="9439" y="2"/>
                    </a:lnTo>
                    <a:cubicBezTo>
                      <a:pt x="9440" y="2"/>
                      <a:pt x="9441" y="3"/>
                      <a:pt x="9441" y="4"/>
                    </a:cubicBezTo>
                    <a:cubicBezTo>
                      <a:pt x="9441" y="5"/>
                      <a:pt x="9440" y="6"/>
                      <a:pt x="9439" y="6"/>
                    </a:cubicBezTo>
                    <a:lnTo>
                      <a:pt x="9439" y="6"/>
                    </a:lnTo>
                    <a:cubicBezTo>
                      <a:pt x="9437" y="6"/>
                      <a:pt x="9437" y="5"/>
                      <a:pt x="9437" y="4"/>
                    </a:cubicBezTo>
                    <a:cubicBezTo>
                      <a:pt x="9437" y="3"/>
                      <a:pt x="9437" y="2"/>
                      <a:pt x="9439" y="2"/>
                    </a:cubicBezTo>
                    <a:close/>
                    <a:moveTo>
                      <a:pt x="9447" y="2"/>
                    </a:moveTo>
                    <a:lnTo>
                      <a:pt x="9447" y="2"/>
                    </a:lnTo>
                    <a:cubicBezTo>
                      <a:pt x="9448" y="2"/>
                      <a:pt x="9449" y="3"/>
                      <a:pt x="9449" y="4"/>
                    </a:cubicBezTo>
                    <a:cubicBezTo>
                      <a:pt x="9449" y="5"/>
                      <a:pt x="9448" y="6"/>
                      <a:pt x="9447" y="6"/>
                    </a:cubicBezTo>
                    <a:lnTo>
                      <a:pt x="9447" y="6"/>
                    </a:lnTo>
                    <a:cubicBezTo>
                      <a:pt x="9445" y="6"/>
                      <a:pt x="9445" y="5"/>
                      <a:pt x="9445" y="4"/>
                    </a:cubicBezTo>
                    <a:cubicBezTo>
                      <a:pt x="9445" y="3"/>
                      <a:pt x="9445" y="2"/>
                      <a:pt x="9447" y="2"/>
                    </a:cubicBezTo>
                    <a:close/>
                    <a:moveTo>
                      <a:pt x="9455" y="2"/>
                    </a:moveTo>
                    <a:lnTo>
                      <a:pt x="9455" y="2"/>
                    </a:lnTo>
                    <a:cubicBezTo>
                      <a:pt x="9456" y="2"/>
                      <a:pt x="9457" y="3"/>
                      <a:pt x="9457" y="4"/>
                    </a:cubicBezTo>
                    <a:cubicBezTo>
                      <a:pt x="9457" y="5"/>
                      <a:pt x="9456" y="6"/>
                      <a:pt x="9455" y="6"/>
                    </a:cubicBezTo>
                    <a:lnTo>
                      <a:pt x="9455" y="6"/>
                    </a:lnTo>
                    <a:cubicBezTo>
                      <a:pt x="9453" y="6"/>
                      <a:pt x="9453" y="5"/>
                      <a:pt x="9453" y="4"/>
                    </a:cubicBezTo>
                    <a:cubicBezTo>
                      <a:pt x="9453" y="3"/>
                      <a:pt x="9453" y="2"/>
                      <a:pt x="9455" y="2"/>
                    </a:cubicBezTo>
                    <a:close/>
                    <a:moveTo>
                      <a:pt x="9463" y="2"/>
                    </a:moveTo>
                    <a:lnTo>
                      <a:pt x="9463" y="2"/>
                    </a:lnTo>
                    <a:cubicBezTo>
                      <a:pt x="9464" y="2"/>
                      <a:pt x="9465" y="3"/>
                      <a:pt x="9465" y="4"/>
                    </a:cubicBezTo>
                    <a:cubicBezTo>
                      <a:pt x="9465" y="5"/>
                      <a:pt x="9464" y="6"/>
                      <a:pt x="9463" y="6"/>
                    </a:cubicBezTo>
                    <a:lnTo>
                      <a:pt x="9463" y="6"/>
                    </a:lnTo>
                    <a:cubicBezTo>
                      <a:pt x="9461" y="6"/>
                      <a:pt x="9461" y="5"/>
                      <a:pt x="9461" y="4"/>
                    </a:cubicBezTo>
                    <a:cubicBezTo>
                      <a:pt x="9461" y="3"/>
                      <a:pt x="9461" y="2"/>
                      <a:pt x="9463" y="2"/>
                    </a:cubicBezTo>
                    <a:close/>
                    <a:moveTo>
                      <a:pt x="9471" y="2"/>
                    </a:moveTo>
                    <a:lnTo>
                      <a:pt x="9471" y="2"/>
                    </a:lnTo>
                    <a:cubicBezTo>
                      <a:pt x="9472" y="2"/>
                      <a:pt x="9473" y="3"/>
                      <a:pt x="9473" y="4"/>
                    </a:cubicBezTo>
                    <a:cubicBezTo>
                      <a:pt x="9473" y="5"/>
                      <a:pt x="9472" y="6"/>
                      <a:pt x="9471" y="6"/>
                    </a:cubicBezTo>
                    <a:lnTo>
                      <a:pt x="9471" y="6"/>
                    </a:lnTo>
                    <a:cubicBezTo>
                      <a:pt x="9469" y="6"/>
                      <a:pt x="9469" y="5"/>
                      <a:pt x="9469" y="4"/>
                    </a:cubicBezTo>
                    <a:cubicBezTo>
                      <a:pt x="9469" y="3"/>
                      <a:pt x="9469" y="2"/>
                      <a:pt x="9471" y="2"/>
                    </a:cubicBezTo>
                    <a:close/>
                    <a:moveTo>
                      <a:pt x="9479" y="2"/>
                    </a:moveTo>
                    <a:lnTo>
                      <a:pt x="9479" y="2"/>
                    </a:lnTo>
                    <a:cubicBezTo>
                      <a:pt x="9480" y="2"/>
                      <a:pt x="9481" y="3"/>
                      <a:pt x="9481" y="4"/>
                    </a:cubicBezTo>
                    <a:cubicBezTo>
                      <a:pt x="9481" y="5"/>
                      <a:pt x="9480" y="6"/>
                      <a:pt x="9479" y="6"/>
                    </a:cubicBezTo>
                    <a:lnTo>
                      <a:pt x="9479" y="6"/>
                    </a:lnTo>
                    <a:cubicBezTo>
                      <a:pt x="9477" y="6"/>
                      <a:pt x="9477" y="5"/>
                      <a:pt x="9477" y="4"/>
                    </a:cubicBezTo>
                    <a:cubicBezTo>
                      <a:pt x="9477" y="3"/>
                      <a:pt x="9477" y="2"/>
                      <a:pt x="9479" y="2"/>
                    </a:cubicBezTo>
                    <a:close/>
                    <a:moveTo>
                      <a:pt x="9487" y="2"/>
                    </a:moveTo>
                    <a:lnTo>
                      <a:pt x="9487" y="2"/>
                    </a:lnTo>
                    <a:cubicBezTo>
                      <a:pt x="9488" y="2"/>
                      <a:pt x="9489" y="3"/>
                      <a:pt x="9489" y="4"/>
                    </a:cubicBezTo>
                    <a:cubicBezTo>
                      <a:pt x="9489" y="5"/>
                      <a:pt x="9488" y="6"/>
                      <a:pt x="9487" y="6"/>
                    </a:cubicBezTo>
                    <a:lnTo>
                      <a:pt x="9487" y="6"/>
                    </a:lnTo>
                    <a:cubicBezTo>
                      <a:pt x="9485" y="6"/>
                      <a:pt x="9485" y="5"/>
                      <a:pt x="9485" y="4"/>
                    </a:cubicBezTo>
                    <a:cubicBezTo>
                      <a:pt x="9485" y="3"/>
                      <a:pt x="9485" y="2"/>
                      <a:pt x="9487" y="2"/>
                    </a:cubicBezTo>
                    <a:close/>
                    <a:moveTo>
                      <a:pt x="9495" y="2"/>
                    </a:moveTo>
                    <a:lnTo>
                      <a:pt x="9495" y="2"/>
                    </a:lnTo>
                    <a:cubicBezTo>
                      <a:pt x="9496" y="2"/>
                      <a:pt x="9497" y="3"/>
                      <a:pt x="9497" y="4"/>
                    </a:cubicBezTo>
                    <a:cubicBezTo>
                      <a:pt x="9497" y="5"/>
                      <a:pt x="9496" y="6"/>
                      <a:pt x="9495" y="6"/>
                    </a:cubicBezTo>
                    <a:lnTo>
                      <a:pt x="9495" y="6"/>
                    </a:lnTo>
                    <a:cubicBezTo>
                      <a:pt x="9493" y="6"/>
                      <a:pt x="9493" y="5"/>
                      <a:pt x="9493" y="4"/>
                    </a:cubicBezTo>
                    <a:cubicBezTo>
                      <a:pt x="9493" y="3"/>
                      <a:pt x="9493" y="2"/>
                      <a:pt x="9495" y="2"/>
                    </a:cubicBezTo>
                    <a:close/>
                    <a:moveTo>
                      <a:pt x="9503" y="2"/>
                    </a:moveTo>
                    <a:lnTo>
                      <a:pt x="9503" y="2"/>
                    </a:lnTo>
                    <a:cubicBezTo>
                      <a:pt x="9504" y="2"/>
                      <a:pt x="9505" y="3"/>
                      <a:pt x="9505" y="4"/>
                    </a:cubicBezTo>
                    <a:cubicBezTo>
                      <a:pt x="9505" y="5"/>
                      <a:pt x="9504" y="6"/>
                      <a:pt x="9503" y="6"/>
                    </a:cubicBezTo>
                    <a:lnTo>
                      <a:pt x="9503" y="6"/>
                    </a:lnTo>
                    <a:cubicBezTo>
                      <a:pt x="9502" y="6"/>
                      <a:pt x="9501" y="5"/>
                      <a:pt x="9501" y="4"/>
                    </a:cubicBezTo>
                    <a:cubicBezTo>
                      <a:pt x="9501" y="3"/>
                      <a:pt x="9502" y="2"/>
                      <a:pt x="9503" y="2"/>
                    </a:cubicBezTo>
                    <a:close/>
                    <a:moveTo>
                      <a:pt x="9511" y="2"/>
                    </a:moveTo>
                    <a:lnTo>
                      <a:pt x="9511" y="2"/>
                    </a:lnTo>
                    <a:cubicBezTo>
                      <a:pt x="9512" y="2"/>
                      <a:pt x="9513" y="3"/>
                      <a:pt x="9513" y="4"/>
                    </a:cubicBezTo>
                    <a:cubicBezTo>
                      <a:pt x="9513" y="5"/>
                      <a:pt x="9512" y="6"/>
                      <a:pt x="9511" y="6"/>
                    </a:cubicBezTo>
                    <a:lnTo>
                      <a:pt x="9511" y="6"/>
                    </a:lnTo>
                    <a:cubicBezTo>
                      <a:pt x="9510" y="6"/>
                      <a:pt x="9509" y="5"/>
                      <a:pt x="9509" y="4"/>
                    </a:cubicBezTo>
                    <a:cubicBezTo>
                      <a:pt x="9509" y="3"/>
                      <a:pt x="9510" y="2"/>
                      <a:pt x="9511" y="2"/>
                    </a:cubicBezTo>
                    <a:close/>
                    <a:moveTo>
                      <a:pt x="9519" y="2"/>
                    </a:moveTo>
                    <a:lnTo>
                      <a:pt x="9519" y="2"/>
                    </a:lnTo>
                    <a:cubicBezTo>
                      <a:pt x="9520" y="2"/>
                      <a:pt x="9521" y="3"/>
                      <a:pt x="9521" y="4"/>
                    </a:cubicBezTo>
                    <a:cubicBezTo>
                      <a:pt x="9521" y="5"/>
                      <a:pt x="9520" y="6"/>
                      <a:pt x="9519" y="6"/>
                    </a:cubicBezTo>
                    <a:lnTo>
                      <a:pt x="9519" y="6"/>
                    </a:lnTo>
                    <a:cubicBezTo>
                      <a:pt x="9518" y="6"/>
                      <a:pt x="9517" y="5"/>
                      <a:pt x="9517" y="4"/>
                    </a:cubicBezTo>
                    <a:cubicBezTo>
                      <a:pt x="9517" y="3"/>
                      <a:pt x="9518" y="2"/>
                      <a:pt x="9519" y="2"/>
                    </a:cubicBezTo>
                    <a:close/>
                    <a:moveTo>
                      <a:pt x="9527" y="2"/>
                    </a:moveTo>
                    <a:lnTo>
                      <a:pt x="9527" y="2"/>
                    </a:lnTo>
                    <a:cubicBezTo>
                      <a:pt x="9528" y="2"/>
                      <a:pt x="9529" y="3"/>
                      <a:pt x="9529" y="4"/>
                    </a:cubicBezTo>
                    <a:cubicBezTo>
                      <a:pt x="9529" y="5"/>
                      <a:pt x="9528" y="6"/>
                      <a:pt x="9527" y="6"/>
                    </a:cubicBezTo>
                    <a:lnTo>
                      <a:pt x="9527" y="6"/>
                    </a:lnTo>
                    <a:cubicBezTo>
                      <a:pt x="9526" y="6"/>
                      <a:pt x="9525" y="5"/>
                      <a:pt x="9525" y="4"/>
                    </a:cubicBezTo>
                    <a:cubicBezTo>
                      <a:pt x="9525" y="3"/>
                      <a:pt x="9526" y="2"/>
                      <a:pt x="9527" y="2"/>
                    </a:cubicBezTo>
                    <a:close/>
                    <a:moveTo>
                      <a:pt x="9535" y="2"/>
                    </a:moveTo>
                    <a:lnTo>
                      <a:pt x="9535" y="2"/>
                    </a:lnTo>
                    <a:cubicBezTo>
                      <a:pt x="9536" y="2"/>
                      <a:pt x="9537" y="3"/>
                      <a:pt x="9537" y="4"/>
                    </a:cubicBezTo>
                    <a:cubicBezTo>
                      <a:pt x="9537" y="5"/>
                      <a:pt x="9536" y="6"/>
                      <a:pt x="9535" y="6"/>
                    </a:cubicBezTo>
                    <a:lnTo>
                      <a:pt x="9535" y="6"/>
                    </a:lnTo>
                    <a:cubicBezTo>
                      <a:pt x="9534" y="6"/>
                      <a:pt x="9533" y="5"/>
                      <a:pt x="9533" y="4"/>
                    </a:cubicBezTo>
                    <a:cubicBezTo>
                      <a:pt x="9533" y="3"/>
                      <a:pt x="9534" y="2"/>
                      <a:pt x="9535" y="2"/>
                    </a:cubicBezTo>
                    <a:close/>
                    <a:moveTo>
                      <a:pt x="9543" y="2"/>
                    </a:moveTo>
                    <a:lnTo>
                      <a:pt x="9543" y="2"/>
                    </a:lnTo>
                    <a:cubicBezTo>
                      <a:pt x="9544" y="2"/>
                      <a:pt x="9545" y="3"/>
                      <a:pt x="9545" y="4"/>
                    </a:cubicBezTo>
                    <a:cubicBezTo>
                      <a:pt x="9545" y="5"/>
                      <a:pt x="9544" y="6"/>
                      <a:pt x="9543" y="6"/>
                    </a:cubicBezTo>
                    <a:lnTo>
                      <a:pt x="9543" y="6"/>
                    </a:lnTo>
                    <a:cubicBezTo>
                      <a:pt x="9542" y="6"/>
                      <a:pt x="9541" y="5"/>
                      <a:pt x="9541" y="4"/>
                    </a:cubicBezTo>
                    <a:cubicBezTo>
                      <a:pt x="9541" y="3"/>
                      <a:pt x="9542" y="2"/>
                      <a:pt x="9543" y="2"/>
                    </a:cubicBezTo>
                    <a:close/>
                    <a:moveTo>
                      <a:pt x="9551" y="2"/>
                    </a:moveTo>
                    <a:lnTo>
                      <a:pt x="9551" y="2"/>
                    </a:lnTo>
                    <a:cubicBezTo>
                      <a:pt x="9552" y="2"/>
                      <a:pt x="9553" y="3"/>
                      <a:pt x="9553" y="4"/>
                    </a:cubicBezTo>
                    <a:cubicBezTo>
                      <a:pt x="9553" y="5"/>
                      <a:pt x="9552" y="6"/>
                      <a:pt x="9551" y="6"/>
                    </a:cubicBezTo>
                    <a:lnTo>
                      <a:pt x="9551" y="6"/>
                    </a:lnTo>
                    <a:cubicBezTo>
                      <a:pt x="9550" y="6"/>
                      <a:pt x="9549" y="5"/>
                      <a:pt x="9549" y="4"/>
                    </a:cubicBezTo>
                    <a:cubicBezTo>
                      <a:pt x="9549" y="3"/>
                      <a:pt x="9550" y="2"/>
                      <a:pt x="9551" y="2"/>
                    </a:cubicBezTo>
                    <a:close/>
                    <a:moveTo>
                      <a:pt x="9559" y="2"/>
                    </a:moveTo>
                    <a:lnTo>
                      <a:pt x="9559" y="2"/>
                    </a:lnTo>
                    <a:cubicBezTo>
                      <a:pt x="9560" y="2"/>
                      <a:pt x="9561" y="3"/>
                      <a:pt x="9561" y="4"/>
                    </a:cubicBezTo>
                    <a:cubicBezTo>
                      <a:pt x="9561" y="5"/>
                      <a:pt x="9560" y="6"/>
                      <a:pt x="9559" y="6"/>
                    </a:cubicBezTo>
                    <a:lnTo>
                      <a:pt x="9559" y="6"/>
                    </a:lnTo>
                    <a:cubicBezTo>
                      <a:pt x="9558" y="6"/>
                      <a:pt x="9557" y="5"/>
                      <a:pt x="9557" y="4"/>
                    </a:cubicBezTo>
                    <a:cubicBezTo>
                      <a:pt x="9557" y="3"/>
                      <a:pt x="9558" y="2"/>
                      <a:pt x="9559" y="2"/>
                    </a:cubicBezTo>
                    <a:close/>
                    <a:moveTo>
                      <a:pt x="9567" y="2"/>
                    </a:moveTo>
                    <a:lnTo>
                      <a:pt x="9567" y="2"/>
                    </a:lnTo>
                    <a:cubicBezTo>
                      <a:pt x="9568" y="2"/>
                      <a:pt x="9569" y="3"/>
                      <a:pt x="9569" y="4"/>
                    </a:cubicBezTo>
                    <a:cubicBezTo>
                      <a:pt x="9569" y="5"/>
                      <a:pt x="9568" y="6"/>
                      <a:pt x="9567" y="6"/>
                    </a:cubicBezTo>
                    <a:lnTo>
                      <a:pt x="9567" y="6"/>
                    </a:lnTo>
                    <a:cubicBezTo>
                      <a:pt x="9566" y="6"/>
                      <a:pt x="9565" y="5"/>
                      <a:pt x="9565" y="4"/>
                    </a:cubicBezTo>
                    <a:cubicBezTo>
                      <a:pt x="9565" y="3"/>
                      <a:pt x="9566" y="2"/>
                      <a:pt x="9567" y="2"/>
                    </a:cubicBezTo>
                    <a:close/>
                    <a:moveTo>
                      <a:pt x="9575" y="2"/>
                    </a:moveTo>
                    <a:lnTo>
                      <a:pt x="9575" y="2"/>
                    </a:lnTo>
                    <a:cubicBezTo>
                      <a:pt x="9576" y="2"/>
                      <a:pt x="9577" y="3"/>
                      <a:pt x="9577" y="4"/>
                    </a:cubicBezTo>
                    <a:cubicBezTo>
                      <a:pt x="9577" y="5"/>
                      <a:pt x="9576" y="6"/>
                      <a:pt x="9575" y="6"/>
                    </a:cubicBezTo>
                    <a:lnTo>
                      <a:pt x="9575" y="6"/>
                    </a:lnTo>
                    <a:cubicBezTo>
                      <a:pt x="9574" y="6"/>
                      <a:pt x="9573" y="5"/>
                      <a:pt x="9573" y="4"/>
                    </a:cubicBezTo>
                    <a:cubicBezTo>
                      <a:pt x="9573" y="3"/>
                      <a:pt x="9574" y="2"/>
                      <a:pt x="9575" y="2"/>
                    </a:cubicBezTo>
                    <a:close/>
                    <a:moveTo>
                      <a:pt x="9583" y="2"/>
                    </a:moveTo>
                    <a:lnTo>
                      <a:pt x="9583" y="2"/>
                    </a:lnTo>
                    <a:cubicBezTo>
                      <a:pt x="9584" y="2"/>
                      <a:pt x="9585" y="3"/>
                      <a:pt x="9585" y="4"/>
                    </a:cubicBezTo>
                    <a:cubicBezTo>
                      <a:pt x="9585" y="5"/>
                      <a:pt x="9584" y="6"/>
                      <a:pt x="9583" y="6"/>
                    </a:cubicBezTo>
                    <a:lnTo>
                      <a:pt x="9583" y="6"/>
                    </a:lnTo>
                    <a:cubicBezTo>
                      <a:pt x="9582" y="6"/>
                      <a:pt x="9581" y="5"/>
                      <a:pt x="9581" y="4"/>
                    </a:cubicBezTo>
                    <a:cubicBezTo>
                      <a:pt x="9581" y="3"/>
                      <a:pt x="9582" y="2"/>
                      <a:pt x="9583" y="2"/>
                    </a:cubicBezTo>
                    <a:close/>
                    <a:moveTo>
                      <a:pt x="9591" y="2"/>
                    </a:moveTo>
                    <a:lnTo>
                      <a:pt x="9591" y="2"/>
                    </a:lnTo>
                    <a:cubicBezTo>
                      <a:pt x="9592" y="2"/>
                      <a:pt x="9593" y="3"/>
                      <a:pt x="9593" y="4"/>
                    </a:cubicBezTo>
                    <a:cubicBezTo>
                      <a:pt x="9593" y="5"/>
                      <a:pt x="9592" y="6"/>
                      <a:pt x="9591" y="6"/>
                    </a:cubicBezTo>
                    <a:lnTo>
                      <a:pt x="9591" y="6"/>
                    </a:lnTo>
                    <a:cubicBezTo>
                      <a:pt x="9590" y="6"/>
                      <a:pt x="9589" y="5"/>
                      <a:pt x="9589" y="4"/>
                    </a:cubicBezTo>
                    <a:cubicBezTo>
                      <a:pt x="9589" y="3"/>
                      <a:pt x="9590" y="2"/>
                      <a:pt x="9591" y="2"/>
                    </a:cubicBezTo>
                    <a:close/>
                    <a:moveTo>
                      <a:pt x="9599" y="2"/>
                    </a:moveTo>
                    <a:lnTo>
                      <a:pt x="9599" y="2"/>
                    </a:lnTo>
                    <a:cubicBezTo>
                      <a:pt x="9600" y="2"/>
                      <a:pt x="9601" y="3"/>
                      <a:pt x="9601" y="4"/>
                    </a:cubicBezTo>
                    <a:cubicBezTo>
                      <a:pt x="9601" y="5"/>
                      <a:pt x="9600" y="6"/>
                      <a:pt x="9599" y="6"/>
                    </a:cubicBezTo>
                    <a:lnTo>
                      <a:pt x="9599" y="6"/>
                    </a:lnTo>
                    <a:cubicBezTo>
                      <a:pt x="9598" y="6"/>
                      <a:pt x="9597" y="5"/>
                      <a:pt x="9597" y="4"/>
                    </a:cubicBezTo>
                    <a:cubicBezTo>
                      <a:pt x="9597" y="3"/>
                      <a:pt x="9598" y="2"/>
                      <a:pt x="9599" y="2"/>
                    </a:cubicBezTo>
                    <a:close/>
                    <a:moveTo>
                      <a:pt x="9607" y="2"/>
                    </a:moveTo>
                    <a:lnTo>
                      <a:pt x="9607" y="2"/>
                    </a:lnTo>
                    <a:cubicBezTo>
                      <a:pt x="9608" y="2"/>
                      <a:pt x="9609" y="3"/>
                      <a:pt x="9609" y="4"/>
                    </a:cubicBezTo>
                    <a:cubicBezTo>
                      <a:pt x="9609" y="5"/>
                      <a:pt x="9608" y="6"/>
                      <a:pt x="9607" y="6"/>
                    </a:cubicBezTo>
                    <a:lnTo>
                      <a:pt x="9607" y="6"/>
                    </a:lnTo>
                    <a:cubicBezTo>
                      <a:pt x="9606" y="6"/>
                      <a:pt x="9605" y="5"/>
                      <a:pt x="9605" y="4"/>
                    </a:cubicBezTo>
                    <a:cubicBezTo>
                      <a:pt x="9605" y="3"/>
                      <a:pt x="9606" y="2"/>
                      <a:pt x="9607" y="2"/>
                    </a:cubicBezTo>
                    <a:close/>
                    <a:moveTo>
                      <a:pt x="9615" y="2"/>
                    </a:moveTo>
                    <a:lnTo>
                      <a:pt x="9615" y="2"/>
                    </a:lnTo>
                    <a:cubicBezTo>
                      <a:pt x="9616" y="2"/>
                      <a:pt x="9617" y="3"/>
                      <a:pt x="9617" y="4"/>
                    </a:cubicBezTo>
                    <a:cubicBezTo>
                      <a:pt x="9617" y="5"/>
                      <a:pt x="9616" y="6"/>
                      <a:pt x="9615" y="6"/>
                    </a:cubicBezTo>
                    <a:lnTo>
                      <a:pt x="9615" y="6"/>
                    </a:lnTo>
                    <a:cubicBezTo>
                      <a:pt x="9614" y="6"/>
                      <a:pt x="9613" y="5"/>
                      <a:pt x="9613" y="4"/>
                    </a:cubicBezTo>
                    <a:cubicBezTo>
                      <a:pt x="9613" y="3"/>
                      <a:pt x="9614" y="2"/>
                      <a:pt x="9615" y="2"/>
                    </a:cubicBezTo>
                    <a:close/>
                    <a:moveTo>
                      <a:pt x="9623" y="2"/>
                    </a:moveTo>
                    <a:lnTo>
                      <a:pt x="9623" y="2"/>
                    </a:lnTo>
                    <a:cubicBezTo>
                      <a:pt x="9624" y="2"/>
                      <a:pt x="9625" y="3"/>
                      <a:pt x="9625" y="4"/>
                    </a:cubicBezTo>
                    <a:cubicBezTo>
                      <a:pt x="9625" y="5"/>
                      <a:pt x="9624" y="6"/>
                      <a:pt x="9623" y="6"/>
                    </a:cubicBezTo>
                    <a:lnTo>
                      <a:pt x="9623" y="6"/>
                    </a:lnTo>
                    <a:cubicBezTo>
                      <a:pt x="9622" y="6"/>
                      <a:pt x="9621" y="5"/>
                      <a:pt x="9621" y="4"/>
                    </a:cubicBezTo>
                    <a:cubicBezTo>
                      <a:pt x="9621" y="3"/>
                      <a:pt x="9622" y="2"/>
                      <a:pt x="9623" y="2"/>
                    </a:cubicBezTo>
                    <a:close/>
                    <a:moveTo>
                      <a:pt x="9631" y="2"/>
                    </a:moveTo>
                    <a:lnTo>
                      <a:pt x="9631" y="2"/>
                    </a:lnTo>
                    <a:cubicBezTo>
                      <a:pt x="9632" y="2"/>
                      <a:pt x="9633" y="3"/>
                      <a:pt x="9633" y="4"/>
                    </a:cubicBezTo>
                    <a:cubicBezTo>
                      <a:pt x="9633" y="5"/>
                      <a:pt x="9632" y="6"/>
                      <a:pt x="9631" y="6"/>
                    </a:cubicBezTo>
                    <a:lnTo>
                      <a:pt x="9631" y="6"/>
                    </a:lnTo>
                    <a:cubicBezTo>
                      <a:pt x="9630" y="6"/>
                      <a:pt x="9629" y="5"/>
                      <a:pt x="9629" y="4"/>
                    </a:cubicBezTo>
                    <a:cubicBezTo>
                      <a:pt x="9629" y="3"/>
                      <a:pt x="9630" y="2"/>
                      <a:pt x="9631" y="2"/>
                    </a:cubicBezTo>
                    <a:close/>
                    <a:moveTo>
                      <a:pt x="9639" y="2"/>
                    </a:moveTo>
                    <a:lnTo>
                      <a:pt x="9639" y="2"/>
                    </a:lnTo>
                    <a:cubicBezTo>
                      <a:pt x="9640" y="2"/>
                      <a:pt x="9641" y="3"/>
                      <a:pt x="9641" y="4"/>
                    </a:cubicBezTo>
                    <a:cubicBezTo>
                      <a:pt x="9641" y="5"/>
                      <a:pt x="9640" y="6"/>
                      <a:pt x="9639" y="6"/>
                    </a:cubicBezTo>
                    <a:lnTo>
                      <a:pt x="9639" y="6"/>
                    </a:lnTo>
                    <a:cubicBezTo>
                      <a:pt x="9638" y="6"/>
                      <a:pt x="9637" y="5"/>
                      <a:pt x="9637" y="4"/>
                    </a:cubicBezTo>
                    <a:cubicBezTo>
                      <a:pt x="9637" y="3"/>
                      <a:pt x="9638" y="2"/>
                      <a:pt x="9639" y="2"/>
                    </a:cubicBezTo>
                    <a:close/>
                    <a:moveTo>
                      <a:pt x="9647" y="2"/>
                    </a:moveTo>
                    <a:lnTo>
                      <a:pt x="9647" y="2"/>
                    </a:lnTo>
                    <a:cubicBezTo>
                      <a:pt x="9648" y="2"/>
                      <a:pt x="9649" y="3"/>
                      <a:pt x="9649" y="4"/>
                    </a:cubicBezTo>
                    <a:cubicBezTo>
                      <a:pt x="9649" y="5"/>
                      <a:pt x="9648" y="6"/>
                      <a:pt x="9647" y="6"/>
                    </a:cubicBezTo>
                    <a:lnTo>
                      <a:pt x="9647" y="6"/>
                    </a:lnTo>
                    <a:cubicBezTo>
                      <a:pt x="9646" y="6"/>
                      <a:pt x="9645" y="5"/>
                      <a:pt x="9645" y="4"/>
                    </a:cubicBezTo>
                    <a:cubicBezTo>
                      <a:pt x="9645" y="3"/>
                      <a:pt x="9646" y="2"/>
                      <a:pt x="9647" y="2"/>
                    </a:cubicBezTo>
                    <a:close/>
                    <a:moveTo>
                      <a:pt x="9655" y="2"/>
                    </a:moveTo>
                    <a:lnTo>
                      <a:pt x="9655" y="2"/>
                    </a:lnTo>
                    <a:cubicBezTo>
                      <a:pt x="9656" y="2"/>
                      <a:pt x="9657" y="3"/>
                      <a:pt x="9657" y="4"/>
                    </a:cubicBezTo>
                    <a:cubicBezTo>
                      <a:pt x="9657" y="5"/>
                      <a:pt x="9656" y="6"/>
                      <a:pt x="9655" y="6"/>
                    </a:cubicBezTo>
                    <a:lnTo>
                      <a:pt x="9655" y="6"/>
                    </a:lnTo>
                    <a:cubicBezTo>
                      <a:pt x="9654" y="6"/>
                      <a:pt x="9653" y="5"/>
                      <a:pt x="9653" y="4"/>
                    </a:cubicBezTo>
                    <a:cubicBezTo>
                      <a:pt x="9653" y="3"/>
                      <a:pt x="9654" y="2"/>
                      <a:pt x="9655" y="2"/>
                    </a:cubicBezTo>
                    <a:close/>
                    <a:moveTo>
                      <a:pt x="9663" y="2"/>
                    </a:moveTo>
                    <a:lnTo>
                      <a:pt x="9663" y="2"/>
                    </a:lnTo>
                    <a:cubicBezTo>
                      <a:pt x="9664" y="2"/>
                      <a:pt x="9665" y="3"/>
                      <a:pt x="9665" y="4"/>
                    </a:cubicBezTo>
                    <a:cubicBezTo>
                      <a:pt x="9665" y="5"/>
                      <a:pt x="9664" y="6"/>
                      <a:pt x="9663" y="6"/>
                    </a:cubicBezTo>
                    <a:lnTo>
                      <a:pt x="9663" y="6"/>
                    </a:lnTo>
                    <a:cubicBezTo>
                      <a:pt x="9662" y="6"/>
                      <a:pt x="9661" y="5"/>
                      <a:pt x="9661" y="4"/>
                    </a:cubicBezTo>
                    <a:cubicBezTo>
                      <a:pt x="9661" y="3"/>
                      <a:pt x="9662" y="2"/>
                      <a:pt x="9663" y="2"/>
                    </a:cubicBezTo>
                    <a:close/>
                    <a:moveTo>
                      <a:pt x="9671" y="2"/>
                    </a:moveTo>
                    <a:lnTo>
                      <a:pt x="9671" y="2"/>
                    </a:lnTo>
                    <a:cubicBezTo>
                      <a:pt x="9672" y="2"/>
                      <a:pt x="9673" y="3"/>
                      <a:pt x="9673" y="4"/>
                    </a:cubicBezTo>
                    <a:cubicBezTo>
                      <a:pt x="9673" y="5"/>
                      <a:pt x="9672" y="6"/>
                      <a:pt x="9671" y="6"/>
                    </a:cubicBezTo>
                    <a:lnTo>
                      <a:pt x="9671" y="6"/>
                    </a:lnTo>
                    <a:cubicBezTo>
                      <a:pt x="9670" y="6"/>
                      <a:pt x="9669" y="5"/>
                      <a:pt x="9669" y="4"/>
                    </a:cubicBezTo>
                    <a:cubicBezTo>
                      <a:pt x="9669" y="3"/>
                      <a:pt x="9670" y="2"/>
                      <a:pt x="9671" y="2"/>
                    </a:cubicBezTo>
                    <a:close/>
                    <a:moveTo>
                      <a:pt x="9679" y="2"/>
                    </a:moveTo>
                    <a:lnTo>
                      <a:pt x="9679" y="2"/>
                    </a:lnTo>
                    <a:cubicBezTo>
                      <a:pt x="9680" y="2"/>
                      <a:pt x="9681" y="3"/>
                      <a:pt x="9681" y="4"/>
                    </a:cubicBezTo>
                    <a:cubicBezTo>
                      <a:pt x="9681" y="5"/>
                      <a:pt x="9680" y="6"/>
                      <a:pt x="9679" y="6"/>
                    </a:cubicBezTo>
                    <a:lnTo>
                      <a:pt x="9679" y="6"/>
                    </a:lnTo>
                    <a:cubicBezTo>
                      <a:pt x="9678" y="6"/>
                      <a:pt x="9677" y="5"/>
                      <a:pt x="9677" y="4"/>
                    </a:cubicBezTo>
                    <a:cubicBezTo>
                      <a:pt x="9677" y="3"/>
                      <a:pt x="9678" y="2"/>
                      <a:pt x="9679" y="2"/>
                    </a:cubicBezTo>
                    <a:close/>
                    <a:moveTo>
                      <a:pt x="9687" y="2"/>
                    </a:moveTo>
                    <a:lnTo>
                      <a:pt x="9687" y="2"/>
                    </a:lnTo>
                    <a:cubicBezTo>
                      <a:pt x="9688" y="2"/>
                      <a:pt x="9689" y="3"/>
                      <a:pt x="9689" y="4"/>
                    </a:cubicBezTo>
                    <a:cubicBezTo>
                      <a:pt x="9689" y="5"/>
                      <a:pt x="9688" y="6"/>
                      <a:pt x="9687" y="6"/>
                    </a:cubicBezTo>
                    <a:lnTo>
                      <a:pt x="9687" y="6"/>
                    </a:lnTo>
                    <a:cubicBezTo>
                      <a:pt x="9686" y="6"/>
                      <a:pt x="9685" y="5"/>
                      <a:pt x="9685" y="4"/>
                    </a:cubicBezTo>
                    <a:cubicBezTo>
                      <a:pt x="9685" y="3"/>
                      <a:pt x="9686" y="2"/>
                      <a:pt x="9687" y="2"/>
                    </a:cubicBezTo>
                    <a:close/>
                    <a:moveTo>
                      <a:pt x="9695" y="2"/>
                    </a:moveTo>
                    <a:lnTo>
                      <a:pt x="9695" y="2"/>
                    </a:lnTo>
                    <a:cubicBezTo>
                      <a:pt x="9696" y="2"/>
                      <a:pt x="9697" y="3"/>
                      <a:pt x="9697" y="4"/>
                    </a:cubicBezTo>
                    <a:cubicBezTo>
                      <a:pt x="9697" y="5"/>
                      <a:pt x="9696" y="6"/>
                      <a:pt x="9695" y="6"/>
                    </a:cubicBezTo>
                    <a:lnTo>
                      <a:pt x="9695" y="6"/>
                    </a:lnTo>
                    <a:cubicBezTo>
                      <a:pt x="9694" y="6"/>
                      <a:pt x="9693" y="5"/>
                      <a:pt x="9693" y="4"/>
                    </a:cubicBezTo>
                    <a:cubicBezTo>
                      <a:pt x="9693" y="3"/>
                      <a:pt x="9694" y="2"/>
                      <a:pt x="9695" y="2"/>
                    </a:cubicBezTo>
                    <a:close/>
                    <a:moveTo>
                      <a:pt x="9703" y="2"/>
                    </a:moveTo>
                    <a:lnTo>
                      <a:pt x="9703" y="2"/>
                    </a:lnTo>
                    <a:cubicBezTo>
                      <a:pt x="9704" y="2"/>
                      <a:pt x="9705" y="3"/>
                      <a:pt x="9705" y="4"/>
                    </a:cubicBezTo>
                    <a:cubicBezTo>
                      <a:pt x="9705" y="5"/>
                      <a:pt x="9704" y="6"/>
                      <a:pt x="9703" y="6"/>
                    </a:cubicBezTo>
                    <a:lnTo>
                      <a:pt x="9703" y="6"/>
                    </a:lnTo>
                    <a:cubicBezTo>
                      <a:pt x="9702" y="6"/>
                      <a:pt x="9701" y="5"/>
                      <a:pt x="9701" y="4"/>
                    </a:cubicBezTo>
                    <a:cubicBezTo>
                      <a:pt x="9701" y="3"/>
                      <a:pt x="9702" y="2"/>
                      <a:pt x="9703" y="2"/>
                    </a:cubicBezTo>
                    <a:close/>
                    <a:moveTo>
                      <a:pt x="9711" y="2"/>
                    </a:moveTo>
                    <a:lnTo>
                      <a:pt x="9711" y="2"/>
                    </a:lnTo>
                    <a:cubicBezTo>
                      <a:pt x="9712" y="2"/>
                      <a:pt x="9713" y="3"/>
                      <a:pt x="9713" y="4"/>
                    </a:cubicBezTo>
                    <a:cubicBezTo>
                      <a:pt x="9713" y="5"/>
                      <a:pt x="9712" y="6"/>
                      <a:pt x="9711" y="6"/>
                    </a:cubicBezTo>
                    <a:lnTo>
                      <a:pt x="9711" y="6"/>
                    </a:lnTo>
                    <a:cubicBezTo>
                      <a:pt x="9710" y="6"/>
                      <a:pt x="9709" y="5"/>
                      <a:pt x="9709" y="4"/>
                    </a:cubicBezTo>
                    <a:cubicBezTo>
                      <a:pt x="9709" y="3"/>
                      <a:pt x="9710" y="2"/>
                      <a:pt x="9711" y="2"/>
                    </a:cubicBezTo>
                    <a:close/>
                    <a:moveTo>
                      <a:pt x="9719" y="2"/>
                    </a:moveTo>
                    <a:lnTo>
                      <a:pt x="9719" y="2"/>
                    </a:lnTo>
                    <a:cubicBezTo>
                      <a:pt x="9720" y="2"/>
                      <a:pt x="9721" y="3"/>
                      <a:pt x="9721" y="4"/>
                    </a:cubicBezTo>
                    <a:cubicBezTo>
                      <a:pt x="9721" y="5"/>
                      <a:pt x="9720" y="6"/>
                      <a:pt x="9719" y="6"/>
                    </a:cubicBezTo>
                    <a:lnTo>
                      <a:pt x="9719" y="6"/>
                    </a:lnTo>
                    <a:cubicBezTo>
                      <a:pt x="9718" y="6"/>
                      <a:pt x="9717" y="5"/>
                      <a:pt x="9717" y="4"/>
                    </a:cubicBezTo>
                    <a:cubicBezTo>
                      <a:pt x="9717" y="3"/>
                      <a:pt x="9718" y="2"/>
                      <a:pt x="9719" y="2"/>
                    </a:cubicBezTo>
                    <a:close/>
                    <a:moveTo>
                      <a:pt x="9727" y="2"/>
                    </a:moveTo>
                    <a:lnTo>
                      <a:pt x="9727" y="2"/>
                    </a:lnTo>
                    <a:cubicBezTo>
                      <a:pt x="9728" y="2"/>
                      <a:pt x="9729" y="3"/>
                      <a:pt x="9729" y="4"/>
                    </a:cubicBezTo>
                    <a:cubicBezTo>
                      <a:pt x="9729" y="5"/>
                      <a:pt x="9728" y="6"/>
                      <a:pt x="9727" y="6"/>
                    </a:cubicBezTo>
                    <a:lnTo>
                      <a:pt x="9727" y="6"/>
                    </a:lnTo>
                    <a:cubicBezTo>
                      <a:pt x="9726" y="6"/>
                      <a:pt x="9725" y="5"/>
                      <a:pt x="9725" y="4"/>
                    </a:cubicBezTo>
                    <a:cubicBezTo>
                      <a:pt x="9725" y="3"/>
                      <a:pt x="9726" y="2"/>
                      <a:pt x="9727" y="2"/>
                    </a:cubicBezTo>
                    <a:close/>
                    <a:moveTo>
                      <a:pt x="9735" y="2"/>
                    </a:moveTo>
                    <a:lnTo>
                      <a:pt x="9735" y="2"/>
                    </a:lnTo>
                    <a:cubicBezTo>
                      <a:pt x="9736" y="2"/>
                      <a:pt x="9737" y="3"/>
                      <a:pt x="9737" y="4"/>
                    </a:cubicBezTo>
                    <a:cubicBezTo>
                      <a:pt x="9737" y="5"/>
                      <a:pt x="9736" y="6"/>
                      <a:pt x="9735" y="6"/>
                    </a:cubicBezTo>
                    <a:lnTo>
                      <a:pt x="9735" y="6"/>
                    </a:lnTo>
                    <a:cubicBezTo>
                      <a:pt x="9734" y="6"/>
                      <a:pt x="9733" y="5"/>
                      <a:pt x="9733" y="4"/>
                    </a:cubicBezTo>
                    <a:cubicBezTo>
                      <a:pt x="9733" y="3"/>
                      <a:pt x="9734" y="2"/>
                      <a:pt x="9735" y="2"/>
                    </a:cubicBezTo>
                    <a:close/>
                    <a:moveTo>
                      <a:pt x="9743" y="2"/>
                    </a:moveTo>
                    <a:lnTo>
                      <a:pt x="9743" y="2"/>
                    </a:lnTo>
                    <a:cubicBezTo>
                      <a:pt x="9744" y="2"/>
                      <a:pt x="9745" y="3"/>
                      <a:pt x="9745" y="4"/>
                    </a:cubicBezTo>
                    <a:cubicBezTo>
                      <a:pt x="9745" y="5"/>
                      <a:pt x="9744" y="6"/>
                      <a:pt x="9743" y="6"/>
                    </a:cubicBezTo>
                    <a:lnTo>
                      <a:pt x="9743" y="6"/>
                    </a:lnTo>
                    <a:cubicBezTo>
                      <a:pt x="9742" y="6"/>
                      <a:pt x="9741" y="5"/>
                      <a:pt x="9741" y="4"/>
                    </a:cubicBezTo>
                    <a:cubicBezTo>
                      <a:pt x="9741" y="3"/>
                      <a:pt x="9742" y="2"/>
                      <a:pt x="9743" y="2"/>
                    </a:cubicBezTo>
                    <a:close/>
                    <a:moveTo>
                      <a:pt x="9751" y="2"/>
                    </a:moveTo>
                    <a:lnTo>
                      <a:pt x="9751" y="2"/>
                    </a:lnTo>
                    <a:cubicBezTo>
                      <a:pt x="9752" y="2"/>
                      <a:pt x="9753" y="3"/>
                      <a:pt x="9753" y="4"/>
                    </a:cubicBezTo>
                    <a:cubicBezTo>
                      <a:pt x="9753" y="5"/>
                      <a:pt x="9752" y="6"/>
                      <a:pt x="9751" y="6"/>
                    </a:cubicBezTo>
                    <a:lnTo>
                      <a:pt x="9751" y="6"/>
                    </a:lnTo>
                    <a:cubicBezTo>
                      <a:pt x="9750" y="6"/>
                      <a:pt x="9749" y="5"/>
                      <a:pt x="9749" y="4"/>
                    </a:cubicBezTo>
                    <a:cubicBezTo>
                      <a:pt x="9749" y="3"/>
                      <a:pt x="9750" y="2"/>
                      <a:pt x="9751" y="2"/>
                    </a:cubicBezTo>
                    <a:close/>
                    <a:moveTo>
                      <a:pt x="9759" y="2"/>
                    </a:moveTo>
                    <a:lnTo>
                      <a:pt x="9759" y="2"/>
                    </a:lnTo>
                    <a:cubicBezTo>
                      <a:pt x="9760" y="2"/>
                      <a:pt x="9761" y="3"/>
                      <a:pt x="9761" y="4"/>
                    </a:cubicBezTo>
                    <a:cubicBezTo>
                      <a:pt x="9761" y="5"/>
                      <a:pt x="9760" y="6"/>
                      <a:pt x="9759" y="6"/>
                    </a:cubicBezTo>
                    <a:lnTo>
                      <a:pt x="9759" y="6"/>
                    </a:lnTo>
                    <a:cubicBezTo>
                      <a:pt x="9758" y="6"/>
                      <a:pt x="9757" y="5"/>
                      <a:pt x="9757" y="4"/>
                    </a:cubicBezTo>
                    <a:cubicBezTo>
                      <a:pt x="9757" y="3"/>
                      <a:pt x="9758" y="2"/>
                      <a:pt x="9759" y="2"/>
                    </a:cubicBezTo>
                    <a:close/>
                    <a:moveTo>
                      <a:pt x="9767" y="2"/>
                    </a:moveTo>
                    <a:lnTo>
                      <a:pt x="9767" y="2"/>
                    </a:lnTo>
                    <a:cubicBezTo>
                      <a:pt x="9768" y="2"/>
                      <a:pt x="9769" y="3"/>
                      <a:pt x="9769" y="4"/>
                    </a:cubicBezTo>
                    <a:cubicBezTo>
                      <a:pt x="9769" y="5"/>
                      <a:pt x="9768" y="6"/>
                      <a:pt x="9767" y="6"/>
                    </a:cubicBezTo>
                    <a:lnTo>
                      <a:pt x="9767" y="6"/>
                    </a:lnTo>
                    <a:cubicBezTo>
                      <a:pt x="9766" y="6"/>
                      <a:pt x="9765" y="5"/>
                      <a:pt x="9765" y="4"/>
                    </a:cubicBezTo>
                    <a:cubicBezTo>
                      <a:pt x="9765" y="3"/>
                      <a:pt x="9766" y="2"/>
                      <a:pt x="9767" y="2"/>
                    </a:cubicBezTo>
                    <a:close/>
                    <a:moveTo>
                      <a:pt x="9775" y="2"/>
                    </a:moveTo>
                    <a:lnTo>
                      <a:pt x="9775" y="2"/>
                    </a:lnTo>
                    <a:cubicBezTo>
                      <a:pt x="9776" y="2"/>
                      <a:pt x="9777" y="3"/>
                      <a:pt x="9777" y="4"/>
                    </a:cubicBezTo>
                    <a:cubicBezTo>
                      <a:pt x="9777" y="5"/>
                      <a:pt x="9776" y="6"/>
                      <a:pt x="9775" y="6"/>
                    </a:cubicBezTo>
                    <a:lnTo>
                      <a:pt x="9775" y="6"/>
                    </a:lnTo>
                    <a:cubicBezTo>
                      <a:pt x="9774" y="6"/>
                      <a:pt x="9773" y="5"/>
                      <a:pt x="9773" y="4"/>
                    </a:cubicBezTo>
                    <a:cubicBezTo>
                      <a:pt x="9773" y="3"/>
                      <a:pt x="9774" y="2"/>
                      <a:pt x="9775" y="2"/>
                    </a:cubicBezTo>
                    <a:close/>
                    <a:moveTo>
                      <a:pt x="9783" y="2"/>
                    </a:moveTo>
                    <a:lnTo>
                      <a:pt x="9783" y="2"/>
                    </a:lnTo>
                    <a:cubicBezTo>
                      <a:pt x="9784" y="2"/>
                      <a:pt x="9785" y="3"/>
                      <a:pt x="9785" y="4"/>
                    </a:cubicBezTo>
                    <a:cubicBezTo>
                      <a:pt x="9785" y="5"/>
                      <a:pt x="9784" y="6"/>
                      <a:pt x="9783" y="6"/>
                    </a:cubicBezTo>
                    <a:lnTo>
                      <a:pt x="9783" y="6"/>
                    </a:lnTo>
                    <a:cubicBezTo>
                      <a:pt x="9782" y="6"/>
                      <a:pt x="9781" y="5"/>
                      <a:pt x="9781" y="4"/>
                    </a:cubicBezTo>
                    <a:cubicBezTo>
                      <a:pt x="9781" y="3"/>
                      <a:pt x="9782" y="2"/>
                      <a:pt x="9783" y="2"/>
                    </a:cubicBezTo>
                    <a:close/>
                    <a:moveTo>
                      <a:pt x="9791" y="2"/>
                    </a:moveTo>
                    <a:lnTo>
                      <a:pt x="9791" y="2"/>
                    </a:lnTo>
                    <a:cubicBezTo>
                      <a:pt x="9792" y="2"/>
                      <a:pt x="9793" y="3"/>
                      <a:pt x="9793" y="4"/>
                    </a:cubicBezTo>
                    <a:cubicBezTo>
                      <a:pt x="9793" y="5"/>
                      <a:pt x="9792" y="6"/>
                      <a:pt x="9791" y="6"/>
                    </a:cubicBezTo>
                    <a:lnTo>
                      <a:pt x="9791" y="6"/>
                    </a:lnTo>
                    <a:cubicBezTo>
                      <a:pt x="9790" y="6"/>
                      <a:pt x="9789" y="5"/>
                      <a:pt x="9789" y="4"/>
                    </a:cubicBezTo>
                    <a:cubicBezTo>
                      <a:pt x="9789" y="3"/>
                      <a:pt x="9790" y="2"/>
                      <a:pt x="9791" y="2"/>
                    </a:cubicBezTo>
                    <a:close/>
                    <a:moveTo>
                      <a:pt x="9799" y="2"/>
                    </a:moveTo>
                    <a:lnTo>
                      <a:pt x="9799" y="2"/>
                    </a:lnTo>
                    <a:cubicBezTo>
                      <a:pt x="9800" y="2"/>
                      <a:pt x="9801" y="3"/>
                      <a:pt x="9801" y="4"/>
                    </a:cubicBezTo>
                    <a:cubicBezTo>
                      <a:pt x="9801" y="5"/>
                      <a:pt x="9800" y="6"/>
                      <a:pt x="9799" y="6"/>
                    </a:cubicBezTo>
                    <a:lnTo>
                      <a:pt x="9799" y="6"/>
                    </a:lnTo>
                    <a:cubicBezTo>
                      <a:pt x="9798" y="6"/>
                      <a:pt x="9797" y="5"/>
                      <a:pt x="9797" y="4"/>
                    </a:cubicBezTo>
                    <a:cubicBezTo>
                      <a:pt x="9797" y="3"/>
                      <a:pt x="9798" y="2"/>
                      <a:pt x="9799" y="2"/>
                    </a:cubicBezTo>
                    <a:close/>
                    <a:moveTo>
                      <a:pt x="9807" y="2"/>
                    </a:moveTo>
                    <a:lnTo>
                      <a:pt x="9807" y="2"/>
                    </a:lnTo>
                    <a:cubicBezTo>
                      <a:pt x="9808" y="2"/>
                      <a:pt x="9809" y="3"/>
                      <a:pt x="9809" y="4"/>
                    </a:cubicBezTo>
                    <a:cubicBezTo>
                      <a:pt x="9809" y="5"/>
                      <a:pt x="9808" y="6"/>
                      <a:pt x="9807" y="6"/>
                    </a:cubicBezTo>
                    <a:lnTo>
                      <a:pt x="9807" y="6"/>
                    </a:lnTo>
                    <a:cubicBezTo>
                      <a:pt x="9806" y="6"/>
                      <a:pt x="9805" y="5"/>
                      <a:pt x="9805" y="4"/>
                    </a:cubicBezTo>
                    <a:cubicBezTo>
                      <a:pt x="9805" y="3"/>
                      <a:pt x="9806" y="2"/>
                      <a:pt x="9807" y="2"/>
                    </a:cubicBezTo>
                    <a:close/>
                    <a:moveTo>
                      <a:pt x="9815" y="2"/>
                    </a:moveTo>
                    <a:lnTo>
                      <a:pt x="9815" y="2"/>
                    </a:lnTo>
                    <a:cubicBezTo>
                      <a:pt x="9816" y="2"/>
                      <a:pt x="9817" y="3"/>
                      <a:pt x="9817" y="4"/>
                    </a:cubicBezTo>
                    <a:cubicBezTo>
                      <a:pt x="9817" y="5"/>
                      <a:pt x="9816" y="6"/>
                      <a:pt x="9815" y="6"/>
                    </a:cubicBezTo>
                    <a:lnTo>
                      <a:pt x="9815" y="6"/>
                    </a:lnTo>
                    <a:cubicBezTo>
                      <a:pt x="9814" y="6"/>
                      <a:pt x="9813" y="5"/>
                      <a:pt x="9813" y="4"/>
                    </a:cubicBezTo>
                    <a:cubicBezTo>
                      <a:pt x="9813" y="3"/>
                      <a:pt x="9814" y="2"/>
                      <a:pt x="9815" y="2"/>
                    </a:cubicBezTo>
                    <a:close/>
                    <a:moveTo>
                      <a:pt x="9823" y="2"/>
                    </a:moveTo>
                    <a:lnTo>
                      <a:pt x="9823" y="2"/>
                    </a:lnTo>
                    <a:cubicBezTo>
                      <a:pt x="9824" y="2"/>
                      <a:pt x="9825" y="3"/>
                      <a:pt x="9825" y="4"/>
                    </a:cubicBezTo>
                    <a:cubicBezTo>
                      <a:pt x="9825" y="5"/>
                      <a:pt x="9824" y="6"/>
                      <a:pt x="9823" y="6"/>
                    </a:cubicBezTo>
                    <a:lnTo>
                      <a:pt x="9823" y="6"/>
                    </a:lnTo>
                    <a:cubicBezTo>
                      <a:pt x="9822" y="6"/>
                      <a:pt x="9821" y="5"/>
                      <a:pt x="9821" y="4"/>
                    </a:cubicBezTo>
                    <a:cubicBezTo>
                      <a:pt x="9821" y="3"/>
                      <a:pt x="9822" y="2"/>
                      <a:pt x="9823" y="2"/>
                    </a:cubicBezTo>
                    <a:close/>
                    <a:moveTo>
                      <a:pt x="9831" y="2"/>
                    </a:moveTo>
                    <a:lnTo>
                      <a:pt x="9831" y="2"/>
                    </a:lnTo>
                    <a:cubicBezTo>
                      <a:pt x="9832" y="2"/>
                      <a:pt x="9833" y="3"/>
                      <a:pt x="9833" y="4"/>
                    </a:cubicBezTo>
                    <a:cubicBezTo>
                      <a:pt x="9833" y="5"/>
                      <a:pt x="9832" y="6"/>
                      <a:pt x="9831" y="6"/>
                    </a:cubicBezTo>
                    <a:lnTo>
                      <a:pt x="9831" y="6"/>
                    </a:lnTo>
                    <a:cubicBezTo>
                      <a:pt x="9830" y="6"/>
                      <a:pt x="9829" y="5"/>
                      <a:pt x="9829" y="4"/>
                    </a:cubicBezTo>
                    <a:cubicBezTo>
                      <a:pt x="9829" y="3"/>
                      <a:pt x="9830" y="2"/>
                      <a:pt x="9831" y="2"/>
                    </a:cubicBezTo>
                    <a:close/>
                    <a:moveTo>
                      <a:pt x="9839" y="2"/>
                    </a:moveTo>
                    <a:lnTo>
                      <a:pt x="9839" y="2"/>
                    </a:lnTo>
                    <a:cubicBezTo>
                      <a:pt x="9840" y="2"/>
                      <a:pt x="9841" y="3"/>
                      <a:pt x="9841" y="4"/>
                    </a:cubicBezTo>
                    <a:cubicBezTo>
                      <a:pt x="9841" y="5"/>
                      <a:pt x="9840" y="6"/>
                      <a:pt x="9839" y="6"/>
                    </a:cubicBezTo>
                    <a:lnTo>
                      <a:pt x="9839" y="6"/>
                    </a:lnTo>
                    <a:cubicBezTo>
                      <a:pt x="9838" y="6"/>
                      <a:pt x="9837" y="5"/>
                      <a:pt x="9837" y="4"/>
                    </a:cubicBezTo>
                    <a:cubicBezTo>
                      <a:pt x="9837" y="3"/>
                      <a:pt x="9838" y="2"/>
                      <a:pt x="9839" y="2"/>
                    </a:cubicBezTo>
                    <a:close/>
                    <a:moveTo>
                      <a:pt x="9847" y="2"/>
                    </a:moveTo>
                    <a:lnTo>
                      <a:pt x="9847" y="2"/>
                    </a:lnTo>
                    <a:cubicBezTo>
                      <a:pt x="9848" y="2"/>
                      <a:pt x="9849" y="3"/>
                      <a:pt x="9849" y="4"/>
                    </a:cubicBezTo>
                    <a:cubicBezTo>
                      <a:pt x="9849" y="5"/>
                      <a:pt x="9848" y="6"/>
                      <a:pt x="9847" y="6"/>
                    </a:cubicBezTo>
                    <a:lnTo>
                      <a:pt x="9847" y="6"/>
                    </a:lnTo>
                    <a:cubicBezTo>
                      <a:pt x="9846" y="6"/>
                      <a:pt x="9845" y="5"/>
                      <a:pt x="9845" y="4"/>
                    </a:cubicBezTo>
                    <a:cubicBezTo>
                      <a:pt x="9845" y="3"/>
                      <a:pt x="9846" y="2"/>
                      <a:pt x="9847" y="2"/>
                    </a:cubicBezTo>
                    <a:close/>
                    <a:moveTo>
                      <a:pt x="9855" y="2"/>
                    </a:moveTo>
                    <a:lnTo>
                      <a:pt x="9855" y="2"/>
                    </a:lnTo>
                    <a:cubicBezTo>
                      <a:pt x="9856" y="2"/>
                      <a:pt x="9857" y="3"/>
                      <a:pt x="9857" y="4"/>
                    </a:cubicBezTo>
                    <a:cubicBezTo>
                      <a:pt x="9857" y="5"/>
                      <a:pt x="9856" y="6"/>
                      <a:pt x="9855" y="6"/>
                    </a:cubicBezTo>
                    <a:lnTo>
                      <a:pt x="9855" y="6"/>
                    </a:lnTo>
                    <a:cubicBezTo>
                      <a:pt x="9854" y="6"/>
                      <a:pt x="9853" y="5"/>
                      <a:pt x="9853" y="4"/>
                    </a:cubicBezTo>
                    <a:cubicBezTo>
                      <a:pt x="9853" y="3"/>
                      <a:pt x="9854" y="2"/>
                      <a:pt x="9855" y="2"/>
                    </a:cubicBezTo>
                    <a:close/>
                    <a:moveTo>
                      <a:pt x="9863" y="2"/>
                    </a:moveTo>
                    <a:lnTo>
                      <a:pt x="9863" y="2"/>
                    </a:lnTo>
                    <a:cubicBezTo>
                      <a:pt x="9864" y="2"/>
                      <a:pt x="9865" y="3"/>
                      <a:pt x="9865" y="4"/>
                    </a:cubicBezTo>
                    <a:cubicBezTo>
                      <a:pt x="9865" y="5"/>
                      <a:pt x="9864" y="6"/>
                      <a:pt x="9863" y="6"/>
                    </a:cubicBezTo>
                    <a:lnTo>
                      <a:pt x="9863" y="6"/>
                    </a:lnTo>
                    <a:cubicBezTo>
                      <a:pt x="9862" y="6"/>
                      <a:pt x="9861" y="5"/>
                      <a:pt x="9861" y="4"/>
                    </a:cubicBezTo>
                    <a:cubicBezTo>
                      <a:pt x="9861" y="3"/>
                      <a:pt x="9862" y="2"/>
                      <a:pt x="9863" y="2"/>
                    </a:cubicBezTo>
                    <a:close/>
                    <a:moveTo>
                      <a:pt x="9871" y="2"/>
                    </a:moveTo>
                    <a:lnTo>
                      <a:pt x="9871" y="2"/>
                    </a:lnTo>
                    <a:cubicBezTo>
                      <a:pt x="9872" y="2"/>
                      <a:pt x="9873" y="3"/>
                      <a:pt x="9873" y="4"/>
                    </a:cubicBezTo>
                    <a:cubicBezTo>
                      <a:pt x="9873" y="5"/>
                      <a:pt x="9872" y="6"/>
                      <a:pt x="9871" y="6"/>
                    </a:cubicBezTo>
                    <a:lnTo>
                      <a:pt x="9871" y="6"/>
                    </a:lnTo>
                    <a:cubicBezTo>
                      <a:pt x="9870" y="6"/>
                      <a:pt x="9869" y="5"/>
                      <a:pt x="9869" y="4"/>
                    </a:cubicBezTo>
                    <a:cubicBezTo>
                      <a:pt x="9869" y="3"/>
                      <a:pt x="9870" y="2"/>
                      <a:pt x="9871" y="2"/>
                    </a:cubicBezTo>
                    <a:close/>
                    <a:moveTo>
                      <a:pt x="9879" y="2"/>
                    </a:moveTo>
                    <a:lnTo>
                      <a:pt x="9879" y="2"/>
                    </a:lnTo>
                    <a:cubicBezTo>
                      <a:pt x="9880" y="2"/>
                      <a:pt x="9881" y="3"/>
                      <a:pt x="9881" y="4"/>
                    </a:cubicBezTo>
                    <a:cubicBezTo>
                      <a:pt x="9881" y="5"/>
                      <a:pt x="9880" y="6"/>
                      <a:pt x="9879" y="6"/>
                    </a:cubicBezTo>
                    <a:lnTo>
                      <a:pt x="9879" y="6"/>
                    </a:lnTo>
                    <a:cubicBezTo>
                      <a:pt x="9878" y="6"/>
                      <a:pt x="9877" y="5"/>
                      <a:pt x="9877" y="4"/>
                    </a:cubicBezTo>
                    <a:cubicBezTo>
                      <a:pt x="9877" y="3"/>
                      <a:pt x="9878" y="2"/>
                      <a:pt x="9879" y="2"/>
                    </a:cubicBezTo>
                    <a:close/>
                    <a:moveTo>
                      <a:pt x="9887" y="2"/>
                    </a:moveTo>
                    <a:lnTo>
                      <a:pt x="9887" y="2"/>
                    </a:lnTo>
                    <a:cubicBezTo>
                      <a:pt x="9888" y="2"/>
                      <a:pt x="9889" y="3"/>
                      <a:pt x="9889" y="4"/>
                    </a:cubicBezTo>
                    <a:cubicBezTo>
                      <a:pt x="9889" y="5"/>
                      <a:pt x="9888" y="6"/>
                      <a:pt x="9887" y="6"/>
                    </a:cubicBezTo>
                    <a:lnTo>
                      <a:pt x="9887" y="6"/>
                    </a:lnTo>
                    <a:cubicBezTo>
                      <a:pt x="9886" y="6"/>
                      <a:pt x="9885" y="5"/>
                      <a:pt x="9885" y="4"/>
                    </a:cubicBezTo>
                    <a:cubicBezTo>
                      <a:pt x="9885" y="3"/>
                      <a:pt x="9886" y="2"/>
                      <a:pt x="9887" y="2"/>
                    </a:cubicBezTo>
                    <a:close/>
                    <a:moveTo>
                      <a:pt x="9895" y="2"/>
                    </a:moveTo>
                    <a:lnTo>
                      <a:pt x="9895" y="2"/>
                    </a:lnTo>
                    <a:cubicBezTo>
                      <a:pt x="9896" y="2"/>
                      <a:pt x="9897" y="3"/>
                      <a:pt x="9897" y="4"/>
                    </a:cubicBezTo>
                    <a:cubicBezTo>
                      <a:pt x="9897" y="5"/>
                      <a:pt x="9896" y="6"/>
                      <a:pt x="9895" y="6"/>
                    </a:cubicBezTo>
                    <a:lnTo>
                      <a:pt x="9895" y="6"/>
                    </a:lnTo>
                    <a:cubicBezTo>
                      <a:pt x="9894" y="6"/>
                      <a:pt x="9893" y="5"/>
                      <a:pt x="9893" y="4"/>
                    </a:cubicBezTo>
                    <a:cubicBezTo>
                      <a:pt x="9893" y="3"/>
                      <a:pt x="9894" y="2"/>
                      <a:pt x="9895" y="2"/>
                    </a:cubicBezTo>
                    <a:close/>
                    <a:moveTo>
                      <a:pt x="9903" y="2"/>
                    </a:moveTo>
                    <a:lnTo>
                      <a:pt x="9903" y="2"/>
                    </a:lnTo>
                    <a:cubicBezTo>
                      <a:pt x="9904" y="2"/>
                      <a:pt x="9905" y="3"/>
                      <a:pt x="9905" y="4"/>
                    </a:cubicBezTo>
                    <a:cubicBezTo>
                      <a:pt x="9905" y="5"/>
                      <a:pt x="9904" y="6"/>
                      <a:pt x="9903" y="6"/>
                    </a:cubicBezTo>
                    <a:lnTo>
                      <a:pt x="9903" y="6"/>
                    </a:lnTo>
                    <a:cubicBezTo>
                      <a:pt x="9902" y="6"/>
                      <a:pt x="9901" y="5"/>
                      <a:pt x="9901" y="4"/>
                    </a:cubicBezTo>
                    <a:cubicBezTo>
                      <a:pt x="9901" y="3"/>
                      <a:pt x="9902" y="2"/>
                      <a:pt x="9903" y="2"/>
                    </a:cubicBezTo>
                    <a:close/>
                    <a:moveTo>
                      <a:pt x="9911" y="2"/>
                    </a:moveTo>
                    <a:lnTo>
                      <a:pt x="9911" y="2"/>
                    </a:lnTo>
                    <a:cubicBezTo>
                      <a:pt x="9912" y="2"/>
                      <a:pt x="9913" y="3"/>
                      <a:pt x="9913" y="4"/>
                    </a:cubicBezTo>
                    <a:cubicBezTo>
                      <a:pt x="9913" y="5"/>
                      <a:pt x="9912" y="6"/>
                      <a:pt x="9911" y="6"/>
                    </a:cubicBezTo>
                    <a:lnTo>
                      <a:pt x="9911" y="6"/>
                    </a:lnTo>
                    <a:cubicBezTo>
                      <a:pt x="9910" y="6"/>
                      <a:pt x="9909" y="5"/>
                      <a:pt x="9909" y="4"/>
                    </a:cubicBezTo>
                    <a:cubicBezTo>
                      <a:pt x="9909" y="3"/>
                      <a:pt x="9910" y="2"/>
                      <a:pt x="9911" y="2"/>
                    </a:cubicBezTo>
                    <a:close/>
                    <a:moveTo>
                      <a:pt x="9919" y="2"/>
                    </a:moveTo>
                    <a:lnTo>
                      <a:pt x="9919" y="2"/>
                    </a:lnTo>
                    <a:cubicBezTo>
                      <a:pt x="9920" y="2"/>
                      <a:pt x="9921" y="3"/>
                      <a:pt x="9921" y="4"/>
                    </a:cubicBezTo>
                    <a:cubicBezTo>
                      <a:pt x="9921" y="5"/>
                      <a:pt x="9920" y="6"/>
                      <a:pt x="9919" y="6"/>
                    </a:cubicBezTo>
                    <a:lnTo>
                      <a:pt x="9919" y="6"/>
                    </a:lnTo>
                    <a:cubicBezTo>
                      <a:pt x="9918" y="6"/>
                      <a:pt x="9917" y="5"/>
                      <a:pt x="9917" y="4"/>
                    </a:cubicBezTo>
                    <a:cubicBezTo>
                      <a:pt x="9917" y="3"/>
                      <a:pt x="9918" y="2"/>
                      <a:pt x="9919" y="2"/>
                    </a:cubicBezTo>
                    <a:close/>
                    <a:moveTo>
                      <a:pt x="9927" y="2"/>
                    </a:moveTo>
                    <a:lnTo>
                      <a:pt x="9927" y="2"/>
                    </a:lnTo>
                    <a:cubicBezTo>
                      <a:pt x="9928" y="2"/>
                      <a:pt x="9929" y="3"/>
                      <a:pt x="9929" y="4"/>
                    </a:cubicBezTo>
                    <a:cubicBezTo>
                      <a:pt x="9929" y="5"/>
                      <a:pt x="9928" y="6"/>
                      <a:pt x="9927" y="6"/>
                    </a:cubicBezTo>
                    <a:lnTo>
                      <a:pt x="9927" y="6"/>
                    </a:lnTo>
                    <a:cubicBezTo>
                      <a:pt x="9926" y="6"/>
                      <a:pt x="9925" y="5"/>
                      <a:pt x="9925" y="4"/>
                    </a:cubicBezTo>
                    <a:cubicBezTo>
                      <a:pt x="9925" y="3"/>
                      <a:pt x="9926" y="2"/>
                      <a:pt x="9927" y="2"/>
                    </a:cubicBezTo>
                    <a:close/>
                    <a:moveTo>
                      <a:pt x="9935" y="2"/>
                    </a:moveTo>
                    <a:lnTo>
                      <a:pt x="9935" y="2"/>
                    </a:lnTo>
                    <a:cubicBezTo>
                      <a:pt x="9936" y="2"/>
                      <a:pt x="9937" y="3"/>
                      <a:pt x="9937" y="4"/>
                    </a:cubicBezTo>
                    <a:cubicBezTo>
                      <a:pt x="9937" y="5"/>
                      <a:pt x="9936" y="6"/>
                      <a:pt x="9935" y="6"/>
                    </a:cubicBezTo>
                    <a:lnTo>
                      <a:pt x="9935" y="6"/>
                    </a:lnTo>
                    <a:cubicBezTo>
                      <a:pt x="9934" y="6"/>
                      <a:pt x="9933" y="5"/>
                      <a:pt x="9933" y="4"/>
                    </a:cubicBezTo>
                    <a:cubicBezTo>
                      <a:pt x="9933" y="3"/>
                      <a:pt x="9934" y="2"/>
                      <a:pt x="9935" y="2"/>
                    </a:cubicBezTo>
                    <a:close/>
                    <a:moveTo>
                      <a:pt x="9943" y="2"/>
                    </a:moveTo>
                    <a:lnTo>
                      <a:pt x="9943" y="2"/>
                    </a:lnTo>
                    <a:cubicBezTo>
                      <a:pt x="9944" y="2"/>
                      <a:pt x="9945" y="3"/>
                      <a:pt x="9945" y="4"/>
                    </a:cubicBezTo>
                    <a:cubicBezTo>
                      <a:pt x="9945" y="5"/>
                      <a:pt x="9944" y="6"/>
                      <a:pt x="9943" y="6"/>
                    </a:cubicBezTo>
                    <a:lnTo>
                      <a:pt x="9943" y="6"/>
                    </a:lnTo>
                    <a:cubicBezTo>
                      <a:pt x="9942" y="6"/>
                      <a:pt x="9941" y="5"/>
                      <a:pt x="9941" y="4"/>
                    </a:cubicBezTo>
                    <a:cubicBezTo>
                      <a:pt x="9941" y="3"/>
                      <a:pt x="9942" y="2"/>
                      <a:pt x="9943" y="2"/>
                    </a:cubicBezTo>
                    <a:close/>
                    <a:moveTo>
                      <a:pt x="9951" y="2"/>
                    </a:moveTo>
                    <a:lnTo>
                      <a:pt x="9951" y="2"/>
                    </a:lnTo>
                    <a:cubicBezTo>
                      <a:pt x="9952" y="2"/>
                      <a:pt x="9953" y="3"/>
                      <a:pt x="9953" y="4"/>
                    </a:cubicBezTo>
                    <a:cubicBezTo>
                      <a:pt x="9953" y="5"/>
                      <a:pt x="9952" y="6"/>
                      <a:pt x="9951" y="6"/>
                    </a:cubicBezTo>
                    <a:lnTo>
                      <a:pt x="9951" y="6"/>
                    </a:lnTo>
                    <a:cubicBezTo>
                      <a:pt x="9950" y="6"/>
                      <a:pt x="9949" y="5"/>
                      <a:pt x="9949" y="4"/>
                    </a:cubicBezTo>
                    <a:cubicBezTo>
                      <a:pt x="9949" y="3"/>
                      <a:pt x="9950" y="2"/>
                      <a:pt x="9951" y="2"/>
                    </a:cubicBezTo>
                    <a:close/>
                    <a:moveTo>
                      <a:pt x="9959" y="2"/>
                    </a:moveTo>
                    <a:lnTo>
                      <a:pt x="9959" y="2"/>
                    </a:lnTo>
                    <a:cubicBezTo>
                      <a:pt x="9960" y="2"/>
                      <a:pt x="9961" y="3"/>
                      <a:pt x="9961" y="4"/>
                    </a:cubicBezTo>
                    <a:cubicBezTo>
                      <a:pt x="9961" y="5"/>
                      <a:pt x="9960" y="6"/>
                      <a:pt x="9959" y="6"/>
                    </a:cubicBezTo>
                    <a:lnTo>
                      <a:pt x="9959" y="6"/>
                    </a:lnTo>
                    <a:cubicBezTo>
                      <a:pt x="9958" y="6"/>
                      <a:pt x="9957" y="5"/>
                      <a:pt x="9957" y="4"/>
                    </a:cubicBezTo>
                    <a:cubicBezTo>
                      <a:pt x="9957" y="3"/>
                      <a:pt x="9958" y="2"/>
                      <a:pt x="9959" y="2"/>
                    </a:cubicBezTo>
                    <a:close/>
                    <a:moveTo>
                      <a:pt x="9967" y="2"/>
                    </a:moveTo>
                    <a:lnTo>
                      <a:pt x="9967" y="2"/>
                    </a:lnTo>
                    <a:cubicBezTo>
                      <a:pt x="9968" y="2"/>
                      <a:pt x="9969" y="3"/>
                      <a:pt x="9969" y="4"/>
                    </a:cubicBezTo>
                    <a:cubicBezTo>
                      <a:pt x="9969" y="5"/>
                      <a:pt x="9968" y="6"/>
                      <a:pt x="9967" y="6"/>
                    </a:cubicBezTo>
                    <a:lnTo>
                      <a:pt x="9967" y="6"/>
                    </a:lnTo>
                    <a:cubicBezTo>
                      <a:pt x="9966" y="6"/>
                      <a:pt x="9965" y="5"/>
                      <a:pt x="9965" y="4"/>
                    </a:cubicBezTo>
                    <a:cubicBezTo>
                      <a:pt x="9965" y="3"/>
                      <a:pt x="9966" y="2"/>
                      <a:pt x="9967" y="2"/>
                    </a:cubicBezTo>
                    <a:close/>
                    <a:moveTo>
                      <a:pt x="9975" y="2"/>
                    </a:moveTo>
                    <a:lnTo>
                      <a:pt x="9975" y="2"/>
                    </a:lnTo>
                    <a:cubicBezTo>
                      <a:pt x="9976" y="2"/>
                      <a:pt x="9977" y="3"/>
                      <a:pt x="9977" y="4"/>
                    </a:cubicBezTo>
                    <a:cubicBezTo>
                      <a:pt x="9977" y="5"/>
                      <a:pt x="9976" y="6"/>
                      <a:pt x="9975" y="6"/>
                    </a:cubicBezTo>
                    <a:lnTo>
                      <a:pt x="9975" y="6"/>
                    </a:lnTo>
                    <a:cubicBezTo>
                      <a:pt x="9974" y="6"/>
                      <a:pt x="9973" y="5"/>
                      <a:pt x="9973" y="4"/>
                    </a:cubicBezTo>
                    <a:cubicBezTo>
                      <a:pt x="9973" y="3"/>
                      <a:pt x="9974" y="2"/>
                      <a:pt x="9975" y="2"/>
                    </a:cubicBezTo>
                    <a:close/>
                    <a:moveTo>
                      <a:pt x="9983" y="2"/>
                    </a:moveTo>
                    <a:lnTo>
                      <a:pt x="9983" y="2"/>
                    </a:lnTo>
                    <a:cubicBezTo>
                      <a:pt x="9984" y="2"/>
                      <a:pt x="9985" y="3"/>
                      <a:pt x="9985" y="4"/>
                    </a:cubicBezTo>
                    <a:cubicBezTo>
                      <a:pt x="9985" y="5"/>
                      <a:pt x="9984" y="6"/>
                      <a:pt x="9983" y="6"/>
                    </a:cubicBezTo>
                    <a:lnTo>
                      <a:pt x="9983" y="6"/>
                    </a:lnTo>
                    <a:cubicBezTo>
                      <a:pt x="9982" y="6"/>
                      <a:pt x="9981" y="5"/>
                      <a:pt x="9981" y="4"/>
                    </a:cubicBezTo>
                    <a:cubicBezTo>
                      <a:pt x="9981" y="3"/>
                      <a:pt x="9982" y="2"/>
                      <a:pt x="9983" y="2"/>
                    </a:cubicBezTo>
                    <a:close/>
                    <a:moveTo>
                      <a:pt x="9991" y="2"/>
                    </a:moveTo>
                    <a:lnTo>
                      <a:pt x="9991" y="2"/>
                    </a:lnTo>
                    <a:cubicBezTo>
                      <a:pt x="9992" y="2"/>
                      <a:pt x="9993" y="3"/>
                      <a:pt x="9993" y="4"/>
                    </a:cubicBezTo>
                    <a:cubicBezTo>
                      <a:pt x="9993" y="5"/>
                      <a:pt x="9992" y="6"/>
                      <a:pt x="9991" y="6"/>
                    </a:cubicBezTo>
                    <a:lnTo>
                      <a:pt x="9991" y="6"/>
                    </a:lnTo>
                    <a:cubicBezTo>
                      <a:pt x="9990" y="6"/>
                      <a:pt x="9989" y="5"/>
                      <a:pt x="9989" y="4"/>
                    </a:cubicBezTo>
                    <a:cubicBezTo>
                      <a:pt x="9989" y="3"/>
                      <a:pt x="9990" y="2"/>
                      <a:pt x="9991" y="2"/>
                    </a:cubicBezTo>
                    <a:close/>
                    <a:moveTo>
                      <a:pt x="9999" y="2"/>
                    </a:moveTo>
                    <a:lnTo>
                      <a:pt x="9999" y="2"/>
                    </a:lnTo>
                    <a:cubicBezTo>
                      <a:pt x="10000" y="2"/>
                      <a:pt x="10001" y="3"/>
                      <a:pt x="10001" y="4"/>
                    </a:cubicBezTo>
                    <a:cubicBezTo>
                      <a:pt x="10001" y="5"/>
                      <a:pt x="10000" y="6"/>
                      <a:pt x="9999" y="6"/>
                    </a:cubicBezTo>
                    <a:lnTo>
                      <a:pt x="9999" y="6"/>
                    </a:lnTo>
                    <a:cubicBezTo>
                      <a:pt x="9998" y="6"/>
                      <a:pt x="9997" y="5"/>
                      <a:pt x="9997" y="4"/>
                    </a:cubicBezTo>
                    <a:cubicBezTo>
                      <a:pt x="9997" y="3"/>
                      <a:pt x="9998" y="2"/>
                      <a:pt x="9999" y="2"/>
                    </a:cubicBezTo>
                    <a:close/>
                    <a:moveTo>
                      <a:pt x="10007" y="2"/>
                    </a:moveTo>
                    <a:lnTo>
                      <a:pt x="10007" y="2"/>
                    </a:lnTo>
                    <a:cubicBezTo>
                      <a:pt x="10008" y="2"/>
                      <a:pt x="10009" y="3"/>
                      <a:pt x="10009" y="4"/>
                    </a:cubicBezTo>
                    <a:cubicBezTo>
                      <a:pt x="10009" y="5"/>
                      <a:pt x="10008" y="6"/>
                      <a:pt x="10007" y="6"/>
                    </a:cubicBezTo>
                    <a:lnTo>
                      <a:pt x="10007" y="6"/>
                    </a:lnTo>
                    <a:cubicBezTo>
                      <a:pt x="10006" y="6"/>
                      <a:pt x="10005" y="5"/>
                      <a:pt x="10005" y="4"/>
                    </a:cubicBezTo>
                    <a:cubicBezTo>
                      <a:pt x="10005" y="3"/>
                      <a:pt x="10006" y="2"/>
                      <a:pt x="10007" y="2"/>
                    </a:cubicBezTo>
                    <a:close/>
                    <a:moveTo>
                      <a:pt x="10015" y="2"/>
                    </a:moveTo>
                    <a:lnTo>
                      <a:pt x="10015" y="2"/>
                    </a:lnTo>
                    <a:cubicBezTo>
                      <a:pt x="10016" y="2"/>
                      <a:pt x="10017" y="3"/>
                      <a:pt x="10017" y="4"/>
                    </a:cubicBezTo>
                    <a:cubicBezTo>
                      <a:pt x="10017" y="5"/>
                      <a:pt x="10016" y="6"/>
                      <a:pt x="10015" y="6"/>
                    </a:cubicBezTo>
                    <a:lnTo>
                      <a:pt x="10015" y="6"/>
                    </a:lnTo>
                    <a:cubicBezTo>
                      <a:pt x="10014" y="6"/>
                      <a:pt x="10013" y="5"/>
                      <a:pt x="10013" y="4"/>
                    </a:cubicBezTo>
                    <a:cubicBezTo>
                      <a:pt x="10013" y="3"/>
                      <a:pt x="10014" y="2"/>
                      <a:pt x="10015" y="2"/>
                    </a:cubicBezTo>
                    <a:close/>
                    <a:moveTo>
                      <a:pt x="10023" y="2"/>
                    </a:moveTo>
                    <a:lnTo>
                      <a:pt x="10023" y="2"/>
                    </a:lnTo>
                    <a:cubicBezTo>
                      <a:pt x="10024" y="2"/>
                      <a:pt x="10025" y="3"/>
                      <a:pt x="10025" y="4"/>
                    </a:cubicBezTo>
                    <a:cubicBezTo>
                      <a:pt x="10025" y="5"/>
                      <a:pt x="10024" y="6"/>
                      <a:pt x="10023" y="6"/>
                    </a:cubicBezTo>
                    <a:lnTo>
                      <a:pt x="10023" y="6"/>
                    </a:lnTo>
                    <a:cubicBezTo>
                      <a:pt x="10022" y="6"/>
                      <a:pt x="10021" y="5"/>
                      <a:pt x="10021" y="4"/>
                    </a:cubicBezTo>
                    <a:cubicBezTo>
                      <a:pt x="10021" y="3"/>
                      <a:pt x="10022" y="2"/>
                      <a:pt x="10023" y="2"/>
                    </a:cubicBezTo>
                    <a:close/>
                    <a:moveTo>
                      <a:pt x="10031" y="2"/>
                    </a:moveTo>
                    <a:lnTo>
                      <a:pt x="10031" y="2"/>
                    </a:lnTo>
                    <a:cubicBezTo>
                      <a:pt x="10032" y="2"/>
                      <a:pt x="10033" y="3"/>
                      <a:pt x="10033" y="4"/>
                    </a:cubicBezTo>
                    <a:cubicBezTo>
                      <a:pt x="10033" y="5"/>
                      <a:pt x="10032" y="6"/>
                      <a:pt x="10031" y="6"/>
                    </a:cubicBezTo>
                    <a:lnTo>
                      <a:pt x="10031" y="6"/>
                    </a:lnTo>
                    <a:cubicBezTo>
                      <a:pt x="10030" y="6"/>
                      <a:pt x="10029" y="5"/>
                      <a:pt x="10029" y="4"/>
                    </a:cubicBezTo>
                    <a:cubicBezTo>
                      <a:pt x="10029" y="3"/>
                      <a:pt x="10030" y="2"/>
                      <a:pt x="10031" y="2"/>
                    </a:cubicBezTo>
                    <a:close/>
                    <a:moveTo>
                      <a:pt x="10039" y="2"/>
                    </a:moveTo>
                    <a:lnTo>
                      <a:pt x="10039" y="2"/>
                    </a:lnTo>
                    <a:cubicBezTo>
                      <a:pt x="10040" y="2"/>
                      <a:pt x="10041" y="3"/>
                      <a:pt x="10041" y="4"/>
                    </a:cubicBezTo>
                    <a:cubicBezTo>
                      <a:pt x="10041" y="5"/>
                      <a:pt x="10040" y="6"/>
                      <a:pt x="10039" y="6"/>
                    </a:cubicBezTo>
                    <a:lnTo>
                      <a:pt x="10039" y="6"/>
                    </a:lnTo>
                    <a:cubicBezTo>
                      <a:pt x="10038" y="6"/>
                      <a:pt x="10037" y="5"/>
                      <a:pt x="10037" y="4"/>
                    </a:cubicBezTo>
                    <a:cubicBezTo>
                      <a:pt x="10037" y="3"/>
                      <a:pt x="10038" y="2"/>
                      <a:pt x="10039" y="2"/>
                    </a:cubicBezTo>
                    <a:close/>
                    <a:moveTo>
                      <a:pt x="10047" y="2"/>
                    </a:moveTo>
                    <a:lnTo>
                      <a:pt x="10047" y="2"/>
                    </a:lnTo>
                    <a:cubicBezTo>
                      <a:pt x="10048" y="2"/>
                      <a:pt x="10049" y="3"/>
                      <a:pt x="10049" y="4"/>
                    </a:cubicBezTo>
                    <a:cubicBezTo>
                      <a:pt x="10049" y="5"/>
                      <a:pt x="10048" y="6"/>
                      <a:pt x="10047" y="6"/>
                    </a:cubicBezTo>
                    <a:lnTo>
                      <a:pt x="10047" y="6"/>
                    </a:lnTo>
                    <a:cubicBezTo>
                      <a:pt x="10046" y="6"/>
                      <a:pt x="10045" y="5"/>
                      <a:pt x="10045" y="4"/>
                    </a:cubicBezTo>
                    <a:cubicBezTo>
                      <a:pt x="10045" y="3"/>
                      <a:pt x="10046" y="2"/>
                      <a:pt x="10047" y="2"/>
                    </a:cubicBezTo>
                    <a:close/>
                    <a:moveTo>
                      <a:pt x="10055" y="2"/>
                    </a:moveTo>
                    <a:lnTo>
                      <a:pt x="10055" y="2"/>
                    </a:lnTo>
                    <a:cubicBezTo>
                      <a:pt x="10056" y="2"/>
                      <a:pt x="10057" y="3"/>
                      <a:pt x="10057" y="4"/>
                    </a:cubicBezTo>
                    <a:cubicBezTo>
                      <a:pt x="10057" y="5"/>
                      <a:pt x="10056" y="6"/>
                      <a:pt x="10055" y="6"/>
                    </a:cubicBezTo>
                    <a:lnTo>
                      <a:pt x="10055" y="6"/>
                    </a:lnTo>
                    <a:cubicBezTo>
                      <a:pt x="10054" y="6"/>
                      <a:pt x="10053" y="5"/>
                      <a:pt x="10053" y="4"/>
                    </a:cubicBezTo>
                    <a:cubicBezTo>
                      <a:pt x="10053" y="3"/>
                      <a:pt x="10054" y="2"/>
                      <a:pt x="10055" y="2"/>
                    </a:cubicBezTo>
                    <a:close/>
                    <a:moveTo>
                      <a:pt x="10063" y="2"/>
                    </a:moveTo>
                    <a:lnTo>
                      <a:pt x="10063" y="2"/>
                    </a:lnTo>
                    <a:cubicBezTo>
                      <a:pt x="10064" y="2"/>
                      <a:pt x="10065" y="3"/>
                      <a:pt x="10065" y="4"/>
                    </a:cubicBezTo>
                    <a:cubicBezTo>
                      <a:pt x="10065" y="5"/>
                      <a:pt x="10064" y="6"/>
                      <a:pt x="10063" y="6"/>
                    </a:cubicBezTo>
                    <a:lnTo>
                      <a:pt x="10063" y="6"/>
                    </a:lnTo>
                    <a:cubicBezTo>
                      <a:pt x="10062" y="6"/>
                      <a:pt x="10061" y="5"/>
                      <a:pt x="10061" y="4"/>
                    </a:cubicBezTo>
                    <a:cubicBezTo>
                      <a:pt x="10061" y="3"/>
                      <a:pt x="10062" y="2"/>
                      <a:pt x="10063" y="2"/>
                    </a:cubicBezTo>
                    <a:close/>
                    <a:moveTo>
                      <a:pt x="10071" y="2"/>
                    </a:moveTo>
                    <a:lnTo>
                      <a:pt x="10071" y="2"/>
                    </a:lnTo>
                    <a:cubicBezTo>
                      <a:pt x="10072" y="2"/>
                      <a:pt x="10073" y="3"/>
                      <a:pt x="10073" y="4"/>
                    </a:cubicBezTo>
                    <a:cubicBezTo>
                      <a:pt x="10073" y="5"/>
                      <a:pt x="10072" y="6"/>
                      <a:pt x="10071" y="6"/>
                    </a:cubicBezTo>
                    <a:lnTo>
                      <a:pt x="10071" y="6"/>
                    </a:lnTo>
                    <a:cubicBezTo>
                      <a:pt x="10070" y="6"/>
                      <a:pt x="10069" y="5"/>
                      <a:pt x="10069" y="4"/>
                    </a:cubicBezTo>
                    <a:cubicBezTo>
                      <a:pt x="10069" y="3"/>
                      <a:pt x="10070" y="2"/>
                      <a:pt x="10071" y="2"/>
                    </a:cubicBezTo>
                    <a:close/>
                    <a:moveTo>
                      <a:pt x="10079" y="2"/>
                    </a:moveTo>
                    <a:lnTo>
                      <a:pt x="10079" y="2"/>
                    </a:lnTo>
                    <a:cubicBezTo>
                      <a:pt x="10080" y="2"/>
                      <a:pt x="10081" y="3"/>
                      <a:pt x="10081" y="4"/>
                    </a:cubicBezTo>
                    <a:cubicBezTo>
                      <a:pt x="10081" y="5"/>
                      <a:pt x="10080" y="6"/>
                      <a:pt x="10079" y="6"/>
                    </a:cubicBezTo>
                    <a:lnTo>
                      <a:pt x="10079" y="6"/>
                    </a:lnTo>
                    <a:cubicBezTo>
                      <a:pt x="10078" y="6"/>
                      <a:pt x="10077" y="5"/>
                      <a:pt x="10077" y="4"/>
                    </a:cubicBezTo>
                    <a:cubicBezTo>
                      <a:pt x="10077" y="3"/>
                      <a:pt x="10078" y="2"/>
                      <a:pt x="10079" y="2"/>
                    </a:cubicBezTo>
                    <a:close/>
                    <a:moveTo>
                      <a:pt x="10087" y="2"/>
                    </a:moveTo>
                    <a:lnTo>
                      <a:pt x="10087" y="2"/>
                    </a:lnTo>
                    <a:cubicBezTo>
                      <a:pt x="10088" y="2"/>
                      <a:pt x="10089" y="3"/>
                      <a:pt x="10089" y="4"/>
                    </a:cubicBezTo>
                    <a:cubicBezTo>
                      <a:pt x="10089" y="5"/>
                      <a:pt x="10088" y="6"/>
                      <a:pt x="10087" y="6"/>
                    </a:cubicBezTo>
                    <a:lnTo>
                      <a:pt x="10087" y="6"/>
                    </a:lnTo>
                    <a:cubicBezTo>
                      <a:pt x="10086" y="6"/>
                      <a:pt x="10085" y="5"/>
                      <a:pt x="10085" y="4"/>
                    </a:cubicBezTo>
                    <a:cubicBezTo>
                      <a:pt x="10085" y="3"/>
                      <a:pt x="10086" y="2"/>
                      <a:pt x="10087" y="2"/>
                    </a:cubicBezTo>
                    <a:close/>
                    <a:moveTo>
                      <a:pt x="10095" y="2"/>
                    </a:moveTo>
                    <a:lnTo>
                      <a:pt x="10095" y="2"/>
                    </a:lnTo>
                    <a:cubicBezTo>
                      <a:pt x="10096" y="2"/>
                      <a:pt x="10097" y="3"/>
                      <a:pt x="10097" y="4"/>
                    </a:cubicBezTo>
                    <a:cubicBezTo>
                      <a:pt x="10097" y="5"/>
                      <a:pt x="10096" y="6"/>
                      <a:pt x="10095" y="6"/>
                    </a:cubicBezTo>
                    <a:lnTo>
                      <a:pt x="10095" y="6"/>
                    </a:lnTo>
                    <a:cubicBezTo>
                      <a:pt x="10094" y="6"/>
                      <a:pt x="10093" y="5"/>
                      <a:pt x="10093" y="4"/>
                    </a:cubicBezTo>
                    <a:cubicBezTo>
                      <a:pt x="10093" y="3"/>
                      <a:pt x="10094" y="2"/>
                      <a:pt x="10095" y="2"/>
                    </a:cubicBezTo>
                    <a:close/>
                    <a:moveTo>
                      <a:pt x="10103" y="2"/>
                    </a:moveTo>
                    <a:lnTo>
                      <a:pt x="10103" y="2"/>
                    </a:lnTo>
                    <a:cubicBezTo>
                      <a:pt x="10104" y="2"/>
                      <a:pt x="10105" y="3"/>
                      <a:pt x="10105" y="4"/>
                    </a:cubicBezTo>
                    <a:cubicBezTo>
                      <a:pt x="10105" y="5"/>
                      <a:pt x="10104" y="6"/>
                      <a:pt x="10103" y="6"/>
                    </a:cubicBezTo>
                    <a:lnTo>
                      <a:pt x="10103" y="6"/>
                    </a:lnTo>
                    <a:cubicBezTo>
                      <a:pt x="10102" y="6"/>
                      <a:pt x="10101" y="5"/>
                      <a:pt x="10101" y="4"/>
                    </a:cubicBezTo>
                    <a:cubicBezTo>
                      <a:pt x="10101" y="3"/>
                      <a:pt x="10102" y="2"/>
                      <a:pt x="10103" y="2"/>
                    </a:cubicBezTo>
                    <a:close/>
                    <a:moveTo>
                      <a:pt x="10111" y="2"/>
                    </a:moveTo>
                    <a:lnTo>
                      <a:pt x="10111" y="2"/>
                    </a:lnTo>
                    <a:cubicBezTo>
                      <a:pt x="10112" y="2"/>
                      <a:pt x="10113" y="3"/>
                      <a:pt x="10113" y="4"/>
                    </a:cubicBezTo>
                    <a:cubicBezTo>
                      <a:pt x="10113" y="5"/>
                      <a:pt x="10112" y="6"/>
                      <a:pt x="10111" y="6"/>
                    </a:cubicBezTo>
                    <a:lnTo>
                      <a:pt x="10111" y="6"/>
                    </a:lnTo>
                    <a:cubicBezTo>
                      <a:pt x="10110" y="6"/>
                      <a:pt x="10109" y="5"/>
                      <a:pt x="10109" y="4"/>
                    </a:cubicBezTo>
                    <a:cubicBezTo>
                      <a:pt x="10109" y="3"/>
                      <a:pt x="10110" y="2"/>
                      <a:pt x="10111" y="2"/>
                    </a:cubicBezTo>
                    <a:close/>
                    <a:moveTo>
                      <a:pt x="10119" y="2"/>
                    </a:moveTo>
                    <a:lnTo>
                      <a:pt x="10119" y="2"/>
                    </a:lnTo>
                    <a:cubicBezTo>
                      <a:pt x="10120" y="2"/>
                      <a:pt x="10121" y="3"/>
                      <a:pt x="10121" y="4"/>
                    </a:cubicBezTo>
                    <a:cubicBezTo>
                      <a:pt x="10121" y="5"/>
                      <a:pt x="10120" y="6"/>
                      <a:pt x="10119" y="6"/>
                    </a:cubicBezTo>
                    <a:lnTo>
                      <a:pt x="10119" y="6"/>
                    </a:lnTo>
                    <a:cubicBezTo>
                      <a:pt x="10118" y="6"/>
                      <a:pt x="10117" y="5"/>
                      <a:pt x="10117" y="4"/>
                    </a:cubicBezTo>
                    <a:cubicBezTo>
                      <a:pt x="10117" y="3"/>
                      <a:pt x="10118" y="2"/>
                      <a:pt x="10119" y="2"/>
                    </a:cubicBezTo>
                    <a:close/>
                    <a:moveTo>
                      <a:pt x="10127" y="2"/>
                    </a:moveTo>
                    <a:lnTo>
                      <a:pt x="10127" y="2"/>
                    </a:lnTo>
                    <a:cubicBezTo>
                      <a:pt x="10128" y="2"/>
                      <a:pt x="10129" y="3"/>
                      <a:pt x="10129" y="4"/>
                    </a:cubicBezTo>
                    <a:cubicBezTo>
                      <a:pt x="10129" y="5"/>
                      <a:pt x="10128" y="6"/>
                      <a:pt x="10127" y="6"/>
                    </a:cubicBezTo>
                    <a:lnTo>
                      <a:pt x="10127" y="6"/>
                    </a:lnTo>
                    <a:cubicBezTo>
                      <a:pt x="10126" y="6"/>
                      <a:pt x="10125" y="5"/>
                      <a:pt x="10125" y="4"/>
                    </a:cubicBezTo>
                    <a:cubicBezTo>
                      <a:pt x="10125" y="3"/>
                      <a:pt x="10126" y="2"/>
                      <a:pt x="10127" y="2"/>
                    </a:cubicBezTo>
                    <a:close/>
                    <a:moveTo>
                      <a:pt x="10135" y="2"/>
                    </a:moveTo>
                    <a:lnTo>
                      <a:pt x="10135" y="2"/>
                    </a:lnTo>
                    <a:cubicBezTo>
                      <a:pt x="10136" y="2"/>
                      <a:pt x="10137" y="3"/>
                      <a:pt x="10137" y="4"/>
                    </a:cubicBezTo>
                    <a:cubicBezTo>
                      <a:pt x="10137" y="5"/>
                      <a:pt x="10136" y="6"/>
                      <a:pt x="10135" y="6"/>
                    </a:cubicBezTo>
                    <a:lnTo>
                      <a:pt x="10135" y="6"/>
                    </a:lnTo>
                    <a:cubicBezTo>
                      <a:pt x="10134" y="6"/>
                      <a:pt x="10133" y="5"/>
                      <a:pt x="10133" y="4"/>
                    </a:cubicBezTo>
                    <a:cubicBezTo>
                      <a:pt x="10133" y="3"/>
                      <a:pt x="10134" y="2"/>
                      <a:pt x="10135" y="2"/>
                    </a:cubicBezTo>
                    <a:close/>
                    <a:moveTo>
                      <a:pt x="10143" y="2"/>
                    </a:moveTo>
                    <a:lnTo>
                      <a:pt x="10143" y="2"/>
                    </a:lnTo>
                    <a:cubicBezTo>
                      <a:pt x="10144" y="2"/>
                      <a:pt x="10145" y="3"/>
                      <a:pt x="10145" y="4"/>
                    </a:cubicBezTo>
                    <a:cubicBezTo>
                      <a:pt x="10145" y="5"/>
                      <a:pt x="10144" y="6"/>
                      <a:pt x="10143" y="6"/>
                    </a:cubicBezTo>
                    <a:lnTo>
                      <a:pt x="10143" y="6"/>
                    </a:lnTo>
                    <a:cubicBezTo>
                      <a:pt x="10142" y="6"/>
                      <a:pt x="10141" y="5"/>
                      <a:pt x="10141" y="4"/>
                    </a:cubicBezTo>
                    <a:cubicBezTo>
                      <a:pt x="10141" y="3"/>
                      <a:pt x="10142" y="2"/>
                      <a:pt x="10143" y="2"/>
                    </a:cubicBezTo>
                    <a:close/>
                    <a:moveTo>
                      <a:pt x="10151" y="2"/>
                    </a:moveTo>
                    <a:lnTo>
                      <a:pt x="10151" y="2"/>
                    </a:lnTo>
                    <a:cubicBezTo>
                      <a:pt x="10152" y="2"/>
                      <a:pt x="10153" y="3"/>
                      <a:pt x="10153" y="4"/>
                    </a:cubicBezTo>
                    <a:cubicBezTo>
                      <a:pt x="10153" y="5"/>
                      <a:pt x="10152" y="6"/>
                      <a:pt x="10151" y="6"/>
                    </a:cubicBezTo>
                    <a:lnTo>
                      <a:pt x="10151" y="6"/>
                    </a:lnTo>
                    <a:cubicBezTo>
                      <a:pt x="10150" y="6"/>
                      <a:pt x="10149" y="5"/>
                      <a:pt x="10149" y="4"/>
                    </a:cubicBezTo>
                    <a:cubicBezTo>
                      <a:pt x="10149" y="3"/>
                      <a:pt x="10150" y="2"/>
                      <a:pt x="10151" y="2"/>
                    </a:cubicBezTo>
                    <a:close/>
                    <a:moveTo>
                      <a:pt x="10159" y="2"/>
                    </a:moveTo>
                    <a:lnTo>
                      <a:pt x="10159" y="2"/>
                    </a:lnTo>
                    <a:cubicBezTo>
                      <a:pt x="10160" y="2"/>
                      <a:pt x="10161" y="3"/>
                      <a:pt x="10161" y="4"/>
                    </a:cubicBezTo>
                    <a:cubicBezTo>
                      <a:pt x="10161" y="5"/>
                      <a:pt x="10160" y="6"/>
                      <a:pt x="10159" y="6"/>
                    </a:cubicBezTo>
                    <a:lnTo>
                      <a:pt x="10159" y="6"/>
                    </a:lnTo>
                    <a:cubicBezTo>
                      <a:pt x="10158" y="6"/>
                      <a:pt x="10157" y="5"/>
                      <a:pt x="10157" y="4"/>
                    </a:cubicBezTo>
                    <a:cubicBezTo>
                      <a:pt x="10157" y="3"/>
                      <a:pt x="10158" y="2"/>
                      <a:pt x="10159" y="2"/>
                    </a:cubicBezTo>
                    <a:close/>
                    <a:moveTo>
                      <a:pt x="10167" y="2"/>
                    </a:moveTo>
                    <a:lnTo>
                      <a:pt x="10167" y="2"/>
                    </a:lnTo>
                    <a:cubicBezTo>
                      <a:pt x="10168" y="2"/>
                      <a:pt x="10169" y="3"/>
                      <a:pt x="10169" y="4"/>
                    </a:cubicBezTo>
                    <a:cubicBezTo>
                      <a:pt x="10169" y="5"/>
                      <a:pt x="10168" y="6"/>
                      <a:pt x="10167" y="6"/>
                    </a:cubicBezTo>
                    <a:lnTo>
                      <a:pt x="10167" y="6"/>
                    </a:lnTo>
                    <a:cubicBezTo>
                      <a:pt x="10166" y="6"/>
                      <a:pt x="10165" y="5"/>
                      <a:pt x="10165" y="4"/>
                    </a:cubicBezTo>
                    <a:cubicBezTo>
                      <a:pt x="10165" y="3"/>
                      <a:pt x="10166" y="2"/>
                      <a:pt x="10167" y="2"/>
                    </a:cubicBezTo>
                    <a:close/>
                    <a:moveTo>
                      <a:pt x="10175" y="2"/>
                    </a:moveTo>
                    <a:lnTo>
                      <a:pt x="10175" y="2"/>
                    </a:lnTo>
                    <a:cubicBezTo>
                      <a:pt x="10176" y="2"/>
                      <a:pt x="10177" y="3"/>
                      <a:pt x="10177" y="4"/>
                    </a:cubicBezTo>
                    <a:cubicBezTo>
                      <a:pt x="10177" y="5"/>
                      <a:pt x="10176" y="6"/>
                      <a:pt x="10175" y="6"/>
                    </a:cubicBezTo>
                    <a:lnTo>
                      <a:pt x="10175" y="6"/>
                    </a:lnTo>
                    <a:cubicBezTo>
                      <a:pt x="10174" y="6"/>
                      <a:pt x="10173" y="5"/>
                      <a:pt x="10173" y="4"/>
                    </a:cubicBezTo>
                    <a:cubicBezTo>
                      <a:pt x="10173" y="3"/>
                      <a:pt x="10174" y="2"/>
                      <a:pt x="10175" y="2"/>
                    </a:cubicBezTo>
                    <a:close/>
                    <a:moveTo>
                      <a:pt x="10183" y="2"/>
                    </a:moveTo>
                    <a:lnTo>
                      <a:pt x="10183" y="2"/>
                    </a:lnTo>
                    <a:cubicBezTo>
                      <a:pt x="10184" y="2"/>
                      <a:pt x="10185" y="3"/>
                      <a:pt x="10185" y="4"/>
                    </a:cubicBezTo>
                    <a:cubicBezTo>
                      <a:pt x="10185" y="5"/>
                      <a:pt x="10184" y="6"/>
                      <a:pt x="10183" y="6"/>
                    </a:cubicBezTo>
                    <a:lnTo>
                      <a:pt x="10183" y="6"/>
                    </a:lnTo>
                    <a:cubicBezTo>
                      <a:pt x="10182" y="6"/>
                      <a:pt x="10181" y="5"/>
                      <a:pt x="10181" y="4"/>
                    </a:cubicBezTo>
                    <a:cubicBezTo>
                      <a:pt x="10181" y="3"/>
                      <a:pt x="10182" y="2"/>
                      <a:pt x="10183" y="2"/>
                    </a:cubicBezTo>
                    <a:close/>
                    <a:moveTo>
                      <a:pt x="10191" y="2"/>
                    </a:moveTo>
                    <a:lnTo>
                      <a:pt x="10191" y="2"/>
                    </a:lnTo>
                    <a:cubicBezTo>
                      <a:pt x="10192" y="2"/>
                      <a:pt x="10193" y="3"/>
                      <a:pt x="10193" y="4"/>
                    </a:cubicBezTo>
                    <a:cubicBezTo>
                      <a:pt x="10193" y="5"/>
                      <a:pt x="10192" y="6"/>
                      <a:pt x="10191" y="6"/>
                    </a:cubicBezTo>
                    <a:lnTo>
                      <a:pt x="10191" y="6"/>
                    </a:lnTo>
                    <a:cubicBezTo>
                      <a:pt x="10190" y="6"/>
                      <a:pt x="10189" y="5"/>
                      <a:pt x="10189" y="4"/>
                    </a:cubicBezTo>
                    <a:cubicBezTo>
                      <a:pt x="10189" y="3"/>
                      <a:pt x="10190" y="2"/>
                      <a:pt x="10191" y="2"/>
                    </a:cubicBezTo>
                    <a:close/>
                    <a:moveTo>
                      <a:pt x="10199" y="2"/>
                    </a:moveTo>
                    <a:lnTo>
                      <a:pt x="10199" y="2"/>
                    </a:lnTo>
                    <a:cubicBezTo>
                      <a:pt x="10200" y="2"/>
                      <a:pt x="10201" y="3"/>
                      <a:pt x="10201" y="4"/>
                    </a:cubicBezTo>
                    <a:cubicBezTo>
                      <a:pt x="10201" y="5"/>
                      <a:pt x="10200" y="6"/>
                      <a:pt x="10199" y="6"/>
                    </a:cubicBezTo>
                    <a:lnTo>
                      <a:pt x="10199" y="6"/>
                    </a:lnTo>
                    <a:cubicBezTo>
                      <a:pt x="10198" y="6"/>
                      <a:pt x="10197" y="5"/>
                      <a:pt x="10197" y="4"/>
                    </a:cubicBezTo>
                    <a:cubicBezTo>
                      <a:pt x="10197" y="3"/>
                      <a:pt x="10198" y="2"/>
                      <a:pt x="10199" y="2"/>
                    </a:cubicBezTo>
                    <a:close/>
                    <a:moveTo>
                      <a:pt x="10207" y="2"/>
                    </a:moveTo>
                    <a:lnTo>
                      <a:pt x="10207" y="2"/>
                    </a:lnTo>
                    <a:cubicBezTo>
                      <a:pt x="10208" y="2"/>
                      <a:pt x="10209" y="3"/>
                      <a:pt x="10209" y="4"/>
                    </a:cubicBezTo>
                    <a:cubicBezTo>
                      <a:pt x="10209" y="5"/>
                      <a:pt x="10208" y="6"/>
                      <a:pt x="10207" y="6"/>
                    </a:cubicBezTo>
                    <a:lnTo>
                      <a:pt x="10207" y="6"/>
                    </a:lnTo>
                    <a:cubicBezTo>
                      <a:pt x="10206" y="6"/>
                      <a:pt x="10205" y="5"/>
                      <a:pt x="10205" y="4"/>
                    </a:cubicBezTo>
                    <a:cubicBezTo>
                      <a:pt x="10205" y="3"/>
                      <a:pt x="10206" y="2"/>
                      <a:pt x="10207" y="2"/>
                    </a:cubicBezTo>
                    <a:close/>
                    <a:moveTo>
                      <a:pt x="10215" y="2"/>
                    </a:moveTo>
                    <a:lnTo>
                      <a:pt x="10215" y="2"/>
                    </a:lnTo>
                    <a:cubicBezTo>
                      <a:pt x="10216" y="2"/>
                      <a:pt x="10217" y="3"/>
                      <a:pt x="10217" y="4"/>
                    </a:cubicBezTo>
                    <a:cubicBezTo>
                      <a:pt x="10217" y="5"/>
                      <a:pt x="10216" y="6"/>
                      <a:pt x="10215" y="6"/>
                    </a:cubicBezTo>
                    <a:lnTo>
                      <a:pt x="10215" y="6"/>
                    </a:lnTo>
                    <a:cubicBezTo>
                      <a:pt x="10214" y="6"/>
                      <a:pt x="10213" y="5"/>
                      <a:pt x="10213" y="4"/>
                    </a:cubicBezTo>
                    <a:cubicBezTo>
                      <a:pt x="10213" y="3"/>
                      <a:pt x="10214" y="2"/>
                      <a:pt x="10215" y="2"/>
                    </a:cubicBezTo>
                    <a:close/>
                    <a:moveTo>
                      <a:pt x="10223" y="2"/>
                    </a:moveTo>
                    <a:lnTo>
                      <a:pt x="10223" y="2"/>
                    </a:lnTo>
                    <a:cubicBezTo>
                      <a:pt x="10224" y="2"/>
                      <a:pt x="10225" y="3"/>
                      <a:pt x="10225" y="4"/>
                    </a:cubicBezTo>
                    <a:cubicBezTo>
                      <a:pt x="10225" y="5"/>
                      <a:pt x="10224" y="6"/>
                      <a:pt x="10223" y="6"/>
                    </a:cubicBezTo>
                    <a:lnTo>
                      <a:pt x="10223" y="6"/>
                    </a:lnTo>
                    <a:cubicBezTo>
                      <a:pt x="10222" y="6"/>
                      <a:pt x="10221" y="5"/>
                      <a:pt x="10221" y="4"/>
                    </a:cubicBezTo>
                    <a:cubicBezTo>
                      <a:pt x="10221" y="3"/>
                      <a:pt x="10222" y="2"/>
                      <a:pt x="10223" y="2"/>
                    </a:cubicBezTo>
                    <a:close/>
                    <a:moveTo>
                      <a:pt x="10231" y="2"/>
                    </a:moveTo>
                    <a:lnTo>
                      <a:pt x="10231" y="2"/>
                    </a:lnTo>
                    <a:cubicBezTo>
                      <a:pt x="10232" y="2"/>
                      <a:pt x="10233" y="3"/>
                      <a:pt x="10233" y="4"/>
                    </a:cubicBezTo>
                    <a:cubicBezTo>
                      <a:pt x="10233" y="5"/>
                      <a:pt x="10232" y="6"/>
                      <a:pt x="10231" y="6"/>
                    </a:cubicBezTo>
                    <a:lnTo>
                      <a:pt x="10231" y="6"/>
                    </a:lnTo>
                    <a:cubicBezTo>
                      <a:pt x="10230" y="6"/>
                      <a:pt x="10229" y="5"/>
                      <a:pt x="10229" y="4"/>
                    </a:cubicBezTo>
                    <a:cubicBezTo>
                      <a:pt x="10229" y="3"/>
                      <a:pt x="10230" y="2"/>
                      <a:pt x="10231" y="2"/>
                    </a:cubicBezTo>
                    <a:close/>
                    <a:moveTo>
                      <a:pt x="10239" y="2"/>
                    </a:moveTo>
                    <a:lnTo>
                      <a:pt x="10239" y="2"/>
                    </a:lnTo>
                    <a:cubicBezTo>
                      <a:pt x="10240" y="2"/>
                      <a:pt x="10241" y="3"/>
                      <a:pt x="10241" y="4"/>
                    </a:cubicBezTo>
                    <a:cubicBezTo>
                      <a:pt x="10241" y="5"/>
                      <a:pt x="10240" y="6"/>
                      <a:pt x="10239" y="6"/>
                    </a:cubicBezTo>
                    <a:lnTo>
                      <a:pt x="10239" y="6"/>
                    </a:lnTo>
                    <a:cubicBezTo>
                      <a:pt x="10238" y="6"/>
                      <a:pt x="10237" y="5"/>
                      <a:pt x="10237" y="4"/>
                    </a:cubicBezTo>
                    <a:cubicBezTo>
                      <a:pt x="10237" y="3"/>
                      <a:pt x="10238" y="2"/>
                      <a:pt x="10239" y="2"/>
                    </a:cubicBezTo>
                    <a:close/>
                    <a:moveTo>
                      <a:pt x="10247" y="2"/>
                    </a:moveTo>
                    <a:lnTo>
                      <a:pt x="10247" y="2"/>
                    </a:lnTo>
                    <a:cubicBezTo>
                      <a:pt x="10248" y="2"/>
                      <a:pt x="10249" y="3"/>
                      <a:pt x="10249" y="4"/>
                    </a:cubicBezTo>
                    <a:cubicBezTo>
                      <a:pt x="10249" y="5"/>
                      <a:pt x="10248" y="6"/>
                      <a:pt x="10247" y="6"/>
                    </a:cubicBezTo>
                    <a:lnTo>
                      <a:pt x="10247" y="6"/>
                    </a:lnTo>
                    <a:cubicBezTo>
                      <a:pt x="10246" y="6"/>
                      <a:pt x="10245" y="5"/>
                      <a:pt x="10245" y="4"/>
                    </a:cubicBezTo>
                    <a:cubicBezTo>
                      <a:pt x="10245" y="3"/>
                      <a:pt x="10246" y="2"/>
                      <a:pt x="10247" y="2"/>
                    </a:cubicBezTo>
                    <a:close/>
                    <a:moveTo>
                      <a:pt x="10255" y="2"/>
                    </a:moveTo>
                    <a:lnTo>
                      <a:pt x="10255" y="2"/>
                    </a:lnTo>
                    <a:cubicBezTo>
                      <a:pt x="10256" y="2"/>
                      <a:pt x="10257" y="3"/>
                      <a:pt x="10257" y="4"/>
                    </a:cubicBezTo>
                    <a:cubicBezTo>
                      <a:pt x="10257" y="5"/>
                      <a:pt x="10256" y="6"/>
                      <a:pt x="10255" y="6"/>
                    </a:cubicBezTo>
                    <a:lnTo>
                      <a:pt x="10255" y="6"/>
                    </a:lnTo>
                    <a:cubicBezTo>
                      <a:pt x="10254" y="6"/>
                      <a:pt x="10253" y="5"/>
                      <a:pt x="10253" y="4"/>
                    </a:cubicBezTo>
                    <a:cubicBezTo>
                      <a:pt x="10253" y="3"/>
                      <a:pt x="10254" y="2"/>
                      <a:pt x="10255" y="2"/>
                    </a:cubicBezTo>
                    <a:close/>
                    <a:moveTo>
                      <a:pt x="10263" y="2"/>
                    </a:moveTo>
                    <a:lnTo>
                      <a:pt x="10263" y="2"/>
                    </a:lnTo>
                    <a:cubicBezTo>
                      <a:pt x="10264" y="2"/>
                      <a:pt x="10265" y="3"/>
                      <a:pt x="10265" y="4"/>
                    </a:cubicBezTo>
                    <a:cubicBezTo>
                      <a:pt x="10265" y="5"/>
                      <a:pt x="10264" y="6"/>
                      <a:pt x="10263" y="6"/>
                    </a:cubicBezTo>
                    <a:lnTo>
                      <a:pt x="10263" y="6"/>
                    </a:lnTo>
                    <a:cubicBezTo>
                      <a:pt x="10262" y="6"/>
                      <a:pt x="10261" y="5"/>
                      <a:pt x="10261" y="4"/>
                    </a:cubicBezTo>
                    <a:cubicBezTo>
                      <a:pt x="10261" y="3"/>
                      <a:pt x="10262" y="2"/>
                      <a:pt x="10263" y="2"/>
                    </a:cubicBezTo>
                    <a:close/>
                    <a:moveTo>
                      <a:pt x="10271" y="2"/>
                    </a:moveTo>
                    <a:lnTo>
                      <a:pt x="10271" y="2"/>
                    </a:lnTo>
                    <a:cubicBezTo>
                      <a:pt x="10272" y="2"/>
                      <a:pt x="10273" y="3"/>
                      <a:pt x="10273" y="4"/>
                    </a:cubicBezTo>
                    <a:cubicBezTo>
                      <a:pt x="10273" y="5"/>
                      <a:pt x="10272" y="6"/>
                      <a:pt x="10271" y="6"/>
                    </a:cubicBezTo>
                    <a:lnTo>
                      <a:pt x="10271" y="6"/>
                    </a:lnTo>
                    <a:cubicBezTo>
                      <a:pt x="10270" y="6"/>
                      <a:pt x="10269" y="5"/>
                      <a:pt x="10269" y="4"/>
                    </a:cubicBezTo>
                    <a:cubicBezTo>
                      <a:pt x="10269" y="3"/>
                      <a:pt x="10270" y="2"/>
                      <a:pt x="10271" y="2"/>
                    </a:cubicBezTo>
                    <a:close/>
                    <a:moveTo>
                      <a:pt x="10279" y="2"/>
                    </a:moveTo>
                    <a:lnTo>
                      <a:pt x="10279" y="2"/>
                    </a:lnTo>
                    <a:cubicBezTo>
                      <a:pt x="10280" y="2"/>
                      <a:pt x="10281" y="3"/>
                      <a:pt x="10281" y="4"/>
                    </a:cubicBezTo>
                    <a:cubicBezTo>
                      <a:pt x="10281" y="5"/>
                      <a:pt x="10280" y="6"/>
                      <a:pt x="10279" y="6"/>
                    </a:cubicBezTo>
                    <a:lnTo>
                      <a:pt x="10279" y="6"/>
                    </a:lnTo>
                    <a:cubicBezTo>
                      <a:pt x="10278" y="6"/>
                      <a:pt x="10277" y="5"/>
                      <a:pt x="10277" y="4"/>
                    </a:cubicBezTo>
                    <a:cubicBezTo>
                      <a:pt x="10277" y="3"/>
                      <a:pt x="10278" y="2"/>
                      <a:pt x="10279" y="2"/>
                    </a:cubicBezTo>
                    <a:close/>
                    <a:moveTo>
                      <a:pt x="10287" y="2"/>
                    </a:moveTo>
                    <a:lnTo>
                      <a:pt x="10287" y="2"/>
                    </a:lnTo>
                    <a:cubicBezTo>
                      <a:pt x="10288" y="2"/>
                      <a:pt x="10289" y="3"/>
                      <a:pt x="10289" y="4"/>
                    </a:cubicBezTo>
                    <a:cubicBezTo>
                      <a:pt x="10289" y="5"/>
                      <a:pt x="10288" y="6"/>
                      <a:pt x="10287" y="6"/>
                    </a:cubicBezTo>
                    <a:lnTo>
                      <a:pt x="10287" y="6"/>
                    </a:lnTo>
                    <a:cubicBezTo>
                      <a:pt x="10286" y="6"/>
                      <a:pt x="10285" y="5"/>
                      <a:pt x="10285" y="4"/>
                    </a:cubicBezTo>
                    <a:cubicBezTo>
                      <a:pt x="10285" y="3"/>
                      <a:pt x="10286" y="2"/>
                      <a:pt x="10287" y="2"/>
                    </a:cubicBezTo>
                    <a:close/>
                    <a:moveTo>
                      <a:pt x="10295" y="2"/>
                    </a:moveTo>
                    <a:lnTo>
                      <a:pt x="10295" y="2"/>
                    </a:lnTo>
                    <a:cubicBezTo>
                      <a:pt x="10296" y="2"/>
                      <a:pt x="10297" y="3"/>
                      <a:pt x="10297" y="4"/>
                    </a:cubicBezTo>
                    <a:cubicBezTo>
                      <a:pt x="10297" y="5"/>
                      <a:pt x="10296" y="6"/>
                      <a:pt x="10295" y="6"/>
                    </a:cubicBezTo>
                    <a:lnTo>
                      <a:pt x="10295" y="6"/>
                    </a:lnTo>
                    <a:cubicBezTo>
                      <a:pt x="10294" y="6"/>
                      <a:pt x="10293" y="5"/>
                      <a:pt x="10293" y="4"/>
                    </a:cubicBezTo>
                    <a:cubicBezTo>
                      <a:pt x="10293" y="3"/>
                      <a:pt x="10294" y="2"/>
                      <a:pt x="10295" y="2"/>
                    </a:cubicBezTo>
                    <a:close/>
                    <a:moveTo>
                      <a:pt x="10303" y="2"/>
                    </a:moveTo>
                    <a:lnTo>
                      <a:pt x="10303" y="2"/>
                    </a:lnTo>
                    <a:cubicBezTo>
                      <a:pt x="10304" y="2"/>
                      <a:pt x="10305" y="3"/>
                      <a:pt x="10305" y="4"/>
                    </a:cubicBezTo>
                    <a:cubicBezTo>
                      <a:pt x="10305" y="5"/>
                      <a:pt x="10304" y="6"/>
                      <a:pt x="10303" y="6"/>
                    </a:cubicBezTo>
                    <a:lnTo>
                      <a:pt x="10303" y="6"/>
                    </a:lnTo>
                    <a:cubicBezTo>
                      <a:pt x="10302" y="6"/>
                      <a:pt x="10301" y="5"/>
                      <a:pt x="10301" y="4"/>
                    </a:cubicBezTo>
                    <a:cubicBezTo>
                      <a:pt x="10301" y="3"/>
                      <a:pt x="10302" y="2"/>
                      <a:pt x="10303" y="2"/>
                    </a:cubicBezTo>
                    <a:close/>
                    <a:moveTo>
                      <a:pt x="10311" y="2"/>
                    </a:moveTo>
                    <a:lnTo>
                      <a:pt x="10311" y="2"/>
                    </a:lnTo>
                    <a:cubicBezTo>
                      <a:pt x="10312" y="2"/>
                      <a:pt x="10313" y="3"/>
                      <a:pt x="10313" y="4"/>
                    </a:cubicBezTo>
                    <a:cubicBezTo>
                      <a:pt x="10313" y="5"/>
                      <a:pt x="10312" y="6"/>
                      <a:pt x="10311" y="6"/>
                    </a:cubicBezTo>
                    <a:lnTo>
                      <a:pt x="10311" y="6"/>
                    </a:lnTo>
                    <a:cubicBezTo>
                      <a:pt x="10310" y="6"/>
                      <a:pt x="10309" y="5"/>
                      <a:pt x="10309" y="4"/>
                    </a:cubicBezTo>
                    <a:cubicBezTo>
                      <a:pt x="10309" y="3"/>
                      <a:pt x="10310" y="2"/>
                      <a:pt x="10311" y="2"/>
                    </a:cubicBezTo>
                    <a:close/>
                    <a:moveTo>
                      <a:pt x="10319" y="2"/>
                    </a:moveTo>
                    <a:lnTo>
                      <a:pt x="10319" y="2"/>
                    </a:lnTo>
                    <a:cubicBezTo>
                      <a:pt x="10320" y="2"/>
                      <a:pt x="10321" y="3"/>
                      <a:pt x="10321" y="4"/>
                    </a:cubicBezTo>
                    <a:cubicBezTo>
                      <a:pt x="10321" y="5"/>
                      <a:pt x="10320" y="6"/>
                      <a:pt x="10319" y="6"/>
                    </a:cubicBezTo>
                    <a:lnTo>
                      <a:pt x="10319" y="6"/>
                    </a:lnTo>
                    <a:cubicBezTo>
                      <a:pt x="10318" y="6"/>
                      <a:pt x="10317" y="5"/>
                      <a:pt x="10317" y="4"/>
                    </a:cubicBezTo>
                    <a:cubicBezTo>
                      <a:pt x="10317" y="3"/>
                      <a:pt x="10318" y="2"/>
                      <a:pt x="10319" y="2"/>
                    </a:cubicBezTo>
                    <a:close/>
                    <a:moveTo>
                      <a:pt x="10327" y="2"/>
                    </a:moveTo>
                    <a:lnTo>
                      <a:pt x="10327" y="2"/>
                    </a:lnTo>
                    <a:cubicBezTo>
                      <a:pt x="10328" y="2"/>
                      <a:pt x="10329" y="3"/>
                      <a:pt x="10329" y="4"/>
                    </a:cubicBezTo>
                    <a:cubicBezTo>
                      <a:pt x="10329" y="5"/>
                      <a:pt x="10328" y="6"/>
                      <a:pt x="10327" y="6"/>
                    </a:cubicBezTo>
                    <a:lnTo>
                      <a:pt x="10327" y="6"/>
                    </a:lnTo>
                    <a:cubicBezTo>
                      <a:pt x="10326" y="6"/>
                      <a:pt x="10325" y="5"/>
                      <a:pt x="10325" y="4"/>
                    </a:cubicBezTo>
                    <a:cubicBezTo>
                      <a:pt x="10325" y="3"/>
                      <a:pt x="10326" y="2"/>
                      <a:pt x="10327" y="2"/>
                    </a:cubicBezTo>
                    <a:close/>
                    <a:moveTo>
                      <a:pt x="10335" y="2"/>
                    </a:moveTo>
                    <a:lnTo>
                      <a:pt x="10335" y="2"/>
                    </a:lnTo>
                    <a:cubicBezTo>
                      <a:pt x="10336" y="2"/>
                      <a:pt x="10337" y="3"/>
                      <a:pt x="10337" y="4"/>
                    </a:cubicBezTo>
                    <a:cubicBezTo>
                      <a:pt x="10337" y="5"/>
                      <a:pt x="10336" y="6"/>
                      <a:pt x="10335" y="6"/>
                    </a:cubicBezTo>
                    <a:lnTo>
                      <a:pt x="10335" y="6"/>
                    </a:lnTo>
                    <a:cubicBezTo>
                      <a:pt x="10334" y="6"/>
                      <a:pt x="10333" y="5"/>
                      <a:pt x="10333" y="4"/>
                    </a:cubicBezTo>
                    <a:cubicBezTo>
                      <a:pt x="10333" y="3"/>
                      <a:pt x="10334" y="2"/>
                      <a:pt x="10335" y="2"/>
                    </a:cubicBezTo>
                    <a:close/>
                    <a:moveTo>
                      <a:pt x="10343" y="2"/>
                    </a:moveTo>
                    <a:lnTo>
                      <a:pt x="10343" y="2"/>
                    </a:lnTo>
                    <a:cubicBezTo>
                      <a:pt x="10344" y="2"/>
                      <a:pt x="10345" y="3"/>
                      <a:pt x="10345" y="4"/>
                    </a:cubicBezTo>
                    <a:cubicBezTo>
                      <a:pt x="10345" y="5"/>
                      <a:pt x="10344" y="6"/>
                      <a:pt x="10343" y="6"/>
                    </a:cubicBezTo>
                    <a:lnTo>
                      <a:pt x="10343" y="6"/>
                    </a:lnTo>
                    <a:cubicBezTo>
                      <a:pt x="10342" y="6"/>
                      <a:pt x="10341" y="5"/>
                      <a:pt x="10341" y="4"/>
                    </a:cubicBezTo>
                    <a:cubicBezTo>
                      <a:pt x="10341" y="3"/>
                      <a:pt x="10342" y="2"/>
                      <a:pt x="10343" y="2"/>
                    </a:cubicBezTo>
                    <a:close/>
                    <a:moveTo>
                      <a:pt x="10351" y="2"/>
                    </a:moveTo>
                    <a:lnTo>
                      <a:pt x="10351" y="2"/>
                    </a:lnTo>
                    <a:cubicBezTo>
                      <a:pt x="10352" y="2"/>
                      <a:pt x="10353" y="3"/>
                      <a:pt x="10353" y="4"/>
                    </a:cubicBezTo>
                    <a:cubicBezTo>
                      <a:pt x="10353" y="5"/>
                      <a:pt x="10352" y="6"/>
                      <a:pt x="10351" y="6"/>
                    </a:cubicBezTo>
                    <a:lnTo>
                      <a:pt x="10351" y="6"/>
                    </a:lnTo>
                    <a:cubicBezTo>
                      <a:pt x="10350" y="6"/>
                      <a:pt x="10349" y="5"/>
                      <a:pt x="10349" y="4"/>
                    </a:cubicBezTo>
                    <a:cubicBezTo>
                      <a:pt x="10349" y="3"/>
                      <a:pt x="10350" y="2"/>
                      <a:pt x="10351" y="2"/>
                    </a:cubicBezTo>
                    <a:close/>
                    <a:moveTo>
                      <a:pt x="10359" y="2"/>
                    </a:moveTo>
                    <a:lnTo>
                      <a:pt x="10359" y="2"/>
                    </a:lnTo>
                    <a:cubicBezTo>
                      <a:pt x="10360" y="2"/>
                      <a:pt x="10361" y="3"/>
                      <a:pt x="10361" y="4"/>
                    </a:cubicBezTo>
                    <a:cubicBezTo>
                      <a:pt x="10361" y="5"/>
                      <a:pt x="10360" y="6"/>
                      <a:pt x="10359" y="6"/>
                    </a:cubicBezTo>
                    <a:lnTo>
                      <a:pt x="10359" y="6"/>
                    </a:lnTo>
                    <a:cubicBezTo>
                      <a:pt x="10358" y="6"/>
                      <a:pt x="10357" y="5"/>
                      <a:pt x="10357" y="4"/>
                    </a:cubicBezTo>
                    <a:cubicBezTo>
                      <a:pt x="10357" y="3"/>
                      <a:pt x="10358" y="2"/>
                      <a:pt x="10359" y="2"/>
                    </a:cubicBezTo>
                    <a:close/>
                    <a:moveTo>
                      <a:pt x="10367" y="2"/>
                    </a:moveTo>
                    <a:lnTo>
                      <a:pt x="10367" y="2"/>
                    </a:lnTo>
                    <a:cubicBezTo>
                      <a:pt x="10368" y="2"/>
                      <a:pt x="10369" y="3"/>
                      <a:pt x="10369" y="4"/>
                    </a:cubicBezTo>
                    <a:cubicBezTo>
                      <a:pt x="10369" y="5"/>
                      <a:pt x="10368" y="6"/>
                      <a:pt x="10367" y="6"/>
                    </a:cubicBezTo>
                    <a:lnTo>
                      <a:pt x="10367" y="6"/>
                    </a:lnTo>
                    <a:cubicBezTo>
                      <a:pt x="10366" y="6"/>
                      <a:pt x="10365" y="5"/>
                      <a:pt x="10365" y="4"/>
                    </a:cubicBezTo>
                    <a:cubicBezTo>
                      <a:pt x="10365" y="3"/>
                      <a:pt x="10366" y="2"/>
                      <a:pt x="10367" y="2"/>
                    </a:cubicBezTo>
                    <a:close/>
                    <a:moveTo>
                      <a:pt x="10375" y="2"/>
                    </a:moveTo>
                    <a:lnTo>
                      <a:pt x="10375" y="2"/>
                    </a:lnTo>
                    <a:cubicBezTo>
                      <a:pt x="10376" y="2"/>
                      <a:pt x="10377" y="3"/>
                      <a:pt x="10377" y="4"/>
                    </a:cubicBezTo>
                    <a:cubicBezTo>
                      <a:pt x="10377" y="5"/>
                      <a:pt x="10376" y="6"/>
                      <a:pt x="10375" y="6"/>
                    </a:cubicBezTo>
                    <a:lnTo>
                      <a:pt x="10375" y="6"/>
                    </a:lnTo>
                    <a:cubicBezTo>
                      <a:pt x="10374" y="6"/>
                      <a:pt x="10373" y="5"/>
                      <a:pt x="10373" y="4"/>
                    </a:cubicBezTo>
                    <a:cubicBezTo>
                      <a:pt x="10373" y="3"/>
                      <a:pt x="10374" y="2"/>
                      <a:pt x="10375" y="2"/>
                    </a:cubicBezTo>
                    <a:close/>
                    <a:moveTo>
                      <a:pt x="10383" y="2"/>
                    </a:moveTo>
                    <a:lnTo>
                      <a:pt x="10383" y="2"/>
                    </a:lnTo>
                    <a:cubicBezTo>
                      <a:pt x="10384" y="2"/>
                      <a:pt x="10385" y="3"/>
                      <a:pt x="10385" y="4"/>
                    </a:cubicBezTo>
                    <a:cubicBezTo>
                      <a:pt x="10385" y="5"/>
                      <a:pt x="10384" y="6"/>
                      <a:pt x="10383" y="6"/>
                    </a:cubicBezTo>
                    <a:lnTo>
                      <a:pt x="10383" y="6"/>
                    </a:lnTo>
                    <a:cubicBezTo>
                      <a:pt x="10382" y="6"/>
                      <a:pt x="10381" y="5"/>
                      <a:pt x="10381" y="4"/>
                    </a:cubicBezTo>
                    <a:cubicBezTo>
                      <a:pt x="10381" y="3"/>
                      <a:pt x="10382" y="2"/>
                      <a:pt x="10383" y="2"/>
                    </a:cubicBezTo>
                    <a:close/>
                    <a:moveTo>
                      <a:pt x="10391" y="2"/>
                    </a:moveTo>
                    <a:lnTo>
                      <a:pt x="10391" y="2"/>
                    </a:lnTo>
                    <a:cubicBezTo>
                      <a:pt x="10392" y="2"/>
                      <a:pt x="10393" y="3"/>
                      <a:pt x="10393" y="4"/>
                    </a:cubicBezTo>
                    <a:cubicBezTo>
                      <a:pt x="10393" y="5"/>
                      <a:pt x="10392" y="6"/>
                      <a:pt x="10391" y="6"/>
                    </a:cubicBezTo>
                    <a:lnTo>
                      <a:pt x="10391" y="6"/>
                    </a:lnTo>
                    <a:cubicBezTo>
                      <a:pt x="10390" y="6"/>
                      <a:pt x="10389" y="5"/>
                      <a:pt x="10389" y="4"/>
                    </a:cubicBezTo>
                    <a:cubicBezTo>
                      <a:pt x="10389" y="3"/>
                      <a:pt x="10390" y="2"/>
                      <a:pt x="10391" y="2"/>
                    </a:cubicBezTo>
                    <a:close/>
                    <a:moveTo>
                      <a:pt x="10399" y="2"/>
                    </a:moveTo>
                    <a:lnTo>
                      <a:pt x="10399" y="2"/>
                    </a:lnTo>
                    <a:cubicBezTo>
                      <a:pt x="10400" y="2"/>
                      <a:pt x="10401" y="3"/>
                      <a:pt x="10401" y="4"/>
                    </a:cubicBezTo>
                    <a:cubicBezTo>
                      <a:pt x="10401" y="5"/>
                      <a:pt x="10400" y="6"/>
                      <a:pt x="10399" y="6"/>
                    </a:cubicBezTo>
                    <a:lnTo>
                      <a:pt x="10399" y="6"/>
                    </a:lnTo>
                    <a:cubicBezTo>
                      <a:pt x="10398" y="6"/>
                      <a:pt x="10397" y="5"/>
                      <a:pt x="10397" y="4"/>
                    </a:cubicBezTo>
                    <a:cubicBezTo>
                      <a:pt x="10397" y="3"/>
                      <a:pt x="10398" y="2"/>
                      <a:pt x="10399" y="2"/>
                    </a:cubicBezTo>
                    <a:close/>
                    <a:moveTo>
                      <a:pt x="10407" y="2"/>
                    </a:moveTo>
                    <a:lnTo>
                      <a:pt x="10407" y="2"/>
                    </a:lnTo>
                    <a:cubicBezTo>
                      <a:pt x="10408" y="2"/>
                      <a:pt x="10409" y="3"/>
                      <a:pt x="10409" y="4"/>
                    </a:cubicBezTo>
                    <a:cubicBezTo>
                      <a:pt x="10409" y="5"/>
                      <a:pt x="10408" y="6"/>
                      <a:pt x="10407" y="6"/>
                    </a:cubicBezTo>
                    <a:lnTo>
                      <a:pt x="10407" y="6"/>
                    </a:lnTo>
                    <a:cubicBezTo>
                      <a:pt x="10406" y="6"/>
                      <a:pt x="10405" y="5"/>
                      <a:pt x="10405" y="4"/>
                    </a:cubicBezTo>
                    <a:cubicBezTo>
                      <a:pt x="10405" y="3"/>
                      <a:pt x="10406" y="2"/>
                      <a:pt x="10407" y="2"/>
                    </a:cubicBezTo>
                    <a:close/>
                    <a:moveTo>
                      <a:pt x="10415" y="2"/>
                    </a:moveTo>
                    <a:lnTo>
                      <a:pt x="10415" y="2"/>
                    </a:lnTo>
                    <a:cubicBezTo>
                      <a:pt x="10416" y="2"/>
                      <a:pt x="10417" y="3"/>
                      <a:pt x="10417" y="4"/>
                    </a:cubicBezTo>
                    <a:cubicBezTo>
                      <a:pt x="10417" y="5"/>
                      <a:pt x="10416" y="6"/>
                      <a:pt x="10415" y="6"/>
                    </a:cubicBezTo>
                    <a:lnTo>
                      <a:pt x="10415" y="6"/>
                    </a:lnTo>
                    <a:cubicBezTo>
                      <a:pt x="10414" y="6"/>
                      <a:pt x="10413" y="5"/>
                      <a:pt x="10413" y="4"/>
                    </a:cubicBezTo>
                    <a:cubicBezTo>
                      <a:pt x="10413" y="3"/>
                      <a:pt x="10414" y="2"/>
                      <a:pt x="10415" y="2"/>
                    </a:cubicBezTo>
                    <a:close/>
                    <a:moveTo>
                      <a:pt x="10423" y="2"/>
                    </a:moveTo>
                    <a:lnTo>
                      <a:pt x="10423" y="2"/>
                    </a:lnTo>
                    <a:cubicBezTo>
                      <a:pt x="10424" y="2"/>
                      <a:pt x="10425" y="3"/>
                      <a:pt x="10425" y="4"/>
                    </a:cubicBezTo>
                    <a:cubicBezTo>
                      <a:pt x="10425" y="5"/>
                      <a:pt x="10424" y="6"/>
                      <a:pt x="10423" y="6"/>
                    </a:cubicBezTo>
                    <a:lnTo>
                      <a:pt x="10423" y="6"/>
                    </a:lnTo>
                    <a:cubicBezTo>
                      <a:pt x="10422" y="6"/>
                      <a:pt x="10421" y="5"/>
                      <a:pt x="10421" y="4"/>
                    </a:cubicBezTo>
                    <a:cubicBezTo>
                      <a:pt x="10421" y="3"/>
                      <a:pt x="10422" y="2"/>
                      <a:pt x="10423" y="2"/>
                    </a:cubicBezTo>
                    <a:close/>
                    <a:moveTo>
                      <a:pt x="10431" y="2"/>
                    </a:moveTo>
                    <a:lnTo>
                      <a:pt x="10431" y="2"/>
                    </a:lnTo>
                    <a:cubicBezTo>
                      <a:pt x="10432" y="2"/>
                      <a:pt x="10433" y="3"/>
                      <a:pt x="10433" y="4"/>
                    </a:cubicBezTo>
                    <a:cubicBezTo>
                      <a:pt x="10433" y="5"/>
                      <a:pt x="10432" y="6"/>
                      <a:pt x="10431" y="6"/>
                    </a:cubicBezTo>
                    <a:lnTo>
                      <a:pt x="10431" y="6"/>
                    </a:lnTo>
                    <a:cubicBezTo>
                      <a:pt x="10430" y="6"/>
                      <a:pt x="10429" y="5"/>
                      <a:pt x="10429" y="4"/>
                    </a:cubicBezTo>
                    <a:cubicBezTo>
                      <a:pt x="10429" y="3"/>
                      <a:pt x="10430" y="2"/>
                      <a:pt x="10431" y="2"/>
                    </a:cubicBezTo>
                    <a:close/>
                    <a:moveTo>
                      <a:pt x="10439" y="2"/>
                    </a:moveTo>
                    <a:lnTo>
                      <a:pt x="10439" y="2"/>
                    </a:lnTo>
                    <a:cubicBezTo>
                      <a:pt x="10440" y="2"/>
                      <a:pt x="10441" y="3"/>
                      <a:pt x="10441" y="4"/>
                    </a:cubicBezTo>
                    <a:cubicBezTo>
                      <a:pt x="10441" y="5"/>
                      <a:pt x="10440" y="6"/>
                      <a:pt x="10439" y="6"/>
                    </a:cubicBezTo>
                    <a:lnTo>
                      <a:pt x="10439" y="6"/>
                    </a:lnTo>
                    <a:cubicBezTo>
                      <a:pt x="10438" y="6"/>
                      <a:pt x="10437" y="5"/>
                      <a:pt x="10437" y="4"/>
                    </a:cubicBezTo>
                    <a:cubicBezTo>
                      <a:pt x="10437" y="3"/>
                      <a:pt x="10438" y="2"/>
                      <a:pt x="10439" y="2"/>
                    </a:cubicBezTo>
                    <a:close/>
                    <a:moveTo>
                      <a:pt x="10447" y="2"/>
                    </a:moveTo>
                    <a:lnTo>
                      <a:pt x="10447" y="2"/>
                    </a:lnTo>
                    <a:cubicBezTo>
                      <a:pt x="10448" y="2"/>
                      <a:pt x="10449" y="3"/>
                      <a:pt x="10449" y="4"/>
                    </a:cubicBezTo>
                    <a:cubicBezTo>
                      <a:pt x="10449" y="5"/>
                      <a:pt x="10448" y="6"/>
                      <a:pt x="10447" y="6"/>
                    </a:cubicBezTo>
                    <a:lnTo>
                      <a:pt x="10447" y="6"/>
                    </a:lnTo>
                    <a:cubicBezTo>
                      <a:pt x="10446" y="6"/>
                      <a:pt x="10445" y="5"/>
                      <a:pt x="10445" y="4"/>
                    </a:cubicBezTo>
                    <a:cubicBezTo>
                      <a:pt x="10445" y="3"/>
                      <a:pt x="10446" y="2"/>
                      <a:pt x="10447" y="2"/>
                    </a:cubicBezTo>
                    <a:close/>
                    <a:moveTo>
                      <a:pt x="10455" y="2"/>
                    </a:moveTo>
                    <a:lnTo>
                      <a:pt x="10455" y="2"/>
                    </a:lnTo>
                    <a:cubicBezTo>
                      <a:pt x="10456" y="2"/>
                      <a:pt x="10457" y="3"/>
                      <a:pt x="10457" y="4"/>
                    </a:cubicBezTo>
                    <a:cubicBezTo>
                      <a:pt x="10457" y="5"/>
                      <a:pt x="10456" y="6"/>
                      <a:pt x="10455" y="6"/>
                    </a:cubicBezTo>
                    <a:lnTo>
                      <a:pt x="10455" y="6"/>
                    </a:lnTo>
                    <a:cubicBezTo>
                      <a:pt x="10454" y="6"/>
                      <a:pt x="10453" y="5"/>
                      <a:pt x="10453" y="4"/>
                    </a:cubicBezTo>
                    <a:cubicBezTo>
                      <a:pt x="10453" y="3"/>
                      <a:pt x="10454" y="2"/>
                      <a:pt x="10455" y="2"/>
                    </a:cubicBezTo>
                    <a:close/>
                    <a:moveTo>
                      <a:pt x="10463" y="2"/>
                    </a:moveTo>
                    <a:lnTo>
                      <a:pt x="10463" y="2"/>
                    </a:lnTo>
                    <a:cubicBezTo>
                      <a:pt x="10464" y="2"/>
                      <a:pt x="10465" y="3"/>
                      <a:pt x="10465" y="4"/>
                    </a:cubicBezTo>
                    <a:cubicBezTo>
                      <a:pt x="10465" y="5"/>
                      <a:pt x="10464" y="6"/>
                      <a:pt x="10463" y="6"/>
                    </a:cubicBezTo>
                    <a:lnTo>
                      <a:pt x="10463" y="6"/>
                    </a:lnTo>
                    <a:cubicBezTo>
                      <a:pt x="10462" y="6"/>
                      <a:pt x="10461" y="5"/>
                      <a:pt x="10461" y="4"/>
                    </a:cubicBezTo>
                    <a:cubicBezTo>
                      <a:pt x="10461" y="3"/>
                      <a:pt x="10462" y="2"/>
                      <a:pt x="10463" y="2"/>
                    </a:cubicBezTo>
                    <a:close/>
                    <a:moveTo>
                      <a:pt x="10471" y="2"/>
                    </a:moveTo>
                    <a:lnTo>
                      <a:pt x="10471" y="2"/>
                    </a:lnTo>
                    <a:cubicBezTo>
                      <a:pt x="10472" y="2"/>
                      <a:pt x="10473" y="3"/>
                      <a:pt x="10473" y="4"/>
                    </a:cubicBezTo>
                    <a:cubicBezTo>
                      <a:pt x="10473" y="5"/>
                      <a:pt x="10472" y="6"/>
                      <a:pt x="10471" y="6"/>
                    </a:cubicBezTo>
                    <a:lnTo>
                      <a:pt x="10471" y="6"/>
                    </a:lnTo>
                    <a:cubicBezTo>
                      <a:pt x="10470" y="6"/>
                      <a:pt x="10469" y="5"/>
                      <a:pt x="10469" y="4"/>
                    </a:cubicBezTo>
                    <a:cubicBezTo>
                      <a:pt x="10469" y="3"/>
                      <a:pt x="10470" y="2"/>
                      <a:pt x="10471" y="2"/>
                    </a:cubicBezTo>
                    <a:close/>
                    <a:moveTo>
                      <a:pt x="10479" y="2"/>
                    </a:moveTo>
                    <a:lnTo>
                      <a:pt x="10479" y="2"/>
                    </a:lnTo>
                    <a:cubicBezTo>
                      <a:pt x="10480" y="2"/>
                      <a:pt x="10481" y="3"/>
                      <a:pt x="10481" y="4"/>
                    </a:cubicBezTo>
                    <a:cubicBezTo>
                      <a:pt x="10481" y="5"/>
                      <a:pt x="10480" y="6"/>
                      <a:pt x="10479" y="6"/>
                    </a:cubicBezTo>
                    <a:lnTo>
                      <a:pt x="10479" y="6"/>
                    </a:lnTo>
                    <a:cubicBezTo>
                      <a:pt x="10478" y="6"/>
                      <a:pt x="10477" y="5"/>
                      <a:pt x="10477" y="4"/>
                    </a:cubicBezTo>
                    <a:cubicBezTo>
                      <a:pt x="10477" y="3"/>
                      <a:pt x="10478" y="2"/>
                      <a:pt x="10479" y="2"/>
                    </a:cubicBezTo>
                    <a:close/>
                    <a:moveTo>
                      <a:pt x="10487" y="2"/>
                    </a:moveTo>
                    <a:lnTo>
                      <a:pt x="10487" y="2"/>
                    </a:lnTo>
                    <a:cubicBezTo>
                      <a:pt x="10488" y="2"/>
                      <a:pt x="10489" y="3"/>
                      <a:pt x="10489" y="4"/>
                    </a:cubicBezTo>
                    <a:cubicBezTo>
                      <a:pt x="10489" y="5"/>
                      <a:pt x="10488" y="6"/>
                      <a:pt x="10487" y="6"/>
                    </a:cubicBezTo>
                    <a:lnTo>
                      <a:pt x="10487" y="6"/>
                    </a:lnTo>
                    <a:cubicBezTo>
                      <a:pt x="10486" y="6"/>
                      <a:pt x="10485" y="5"/>
                      <a:pt x="10485" y="4"/>
                    </a:cubicBezTo>
                    <a:cubicBezTo>
                      <a:pt x="10485" y="3"/>
                      <a:pt x="10486" y="2"/>
                      <a:pt x="10487" y="2"/>
                    </a:cubicBezTo>
                    <a:close/>
                    <a:moveTo>
                      <a:pt x="10495" y="2"/>
                    </a:moveTo>
                    <a:lnTo>
                      <a:pt x="10495" y="2"/>
                    </a:lnTo>
                    <a:cubicBezTo>
                      <a:pt x="10496" y="2"/>
                      <a:pt x="10497" y="3"/>
                      <a:pt x="10497" y="4"/>
                    </a:cubicBezTo>
                    <a:cubicBezTo>
                      <a:pt x="10497" y="5"/>
                      <a:pt x="10496" y="6"/>
                      <a:pt x="10495" y="6"/>
                    </a:cubicBezTo>
                    <a:lnTo>
                      <a:pt x="10495" y="6"/>
                    </a:lnTo>
                    <a:cubicBezTo>
                      <a:pt x="10494" y="6"/>
                      <a:pt x="10493" y="5"/>
                      <a:pt x="10493" y="4"/>
                    </a:cubicBezTo>
                    <a:cubicBezTo>
                      <a:pt x="10493" y="3"/>
                      <a:pt x="10494" y="2"/>
                      <a:pt x="10495" y="2"/>
                    </a:cubicBezTo>
                    <a:close/>
                    <a:moveTo>
                      <a:pt x="10503" y="2"/>
                    </a:moveTo>
                    <a:lnTo>
                      <a:pt x="10503" y="2"/>
                    </a:lnTo>
                    <a:cubicBezTo>
                      <a:pt x="10504" y="2"/>
                      <a:pt x="10505" y="3"/>
                      <a:pt x="10505" y="4"/>
                    </a:cubicBezTo>
                    <a:cubicBezTo>
                      <a:pt x="10505" y="5"/>
                      <a:pt x="10504" y="6"/>
                      <a:pt x="10503" y="6"/>
                    </a:cubicBezTo>
                    <a:lnTo>
                      <a:pt x="10503" y="6"/>
                    </a:lnTo>
                    <a:cubicBezTo>
                      <a:pt x="10502" y="6"/>
                      <a:pt x="10501" y="5"/>
                      <a:pt x="10501" y="4"/>
                    </a:cubicBezTo>
                    <a:cubicBezTo>
                      <a:pt x="10501" y="3"/>
                      <a:pt x="10502" y="2"/>
                      <a:pt x="10503" y="2"/>
                    </a:cubicBezTo>
                    <a:close/>
                    <a:moveTo>
                      <a:pt x="10511" y="2"/>
                    </a:moveTo>
                    <a:lnTo>
                      <a:pt x="10511" y="2"/>
                    </a:lnTo>
                    <a:cubicBezTo>
                      <a:pt x="10512" y="2"/>
                      <a:pt x="10513" y="3"/>
                      <a:pt x="10513" y="4"/>
                    </a:cubicBezTo>
                    <a:cubicBezTo>
                      <a:pt x="10513" y="5"/>
                      <a:pt x="10512" y="6"/>
                      <a:pt x="10511" y="6"/>
                    </a:cubicBezTo>
                    <a:lnTo>
                      <a:pt x="10511" y="6"/>
                    </a:lnTo>
                    <a:cubicBezTo>
                      <a:pt x="10510" y="6"/>
                      <a:pt x="10509" y="5"/>
                      <a:pt x="10509" y="4"/>
                    </a:cubicBezTo>
                    <a:cubicBezTo>
                      <a:pt x="10509" y="3"/>
                      <a:pt x="10510" y="2"/>
                      <a:pt x="10511" y="2"/>
                    </a:cubicBezTo>
                    <a:close/>
                    <a:moveTo>
                      <a:pt x="10519" y="2"/>
                    </a:moveTo>
                    <a:lnTo>
                      <a:pt x="10519" y="2"/>
                    </a:lnTo>
                    <a:cubicBezTo>
                      <a:pt x="10520" y="2"/>
                      <a:pt x="10521" y="3"/>
                      <a:pt x="10521" y="4"/>
                    </a:cubicBezTo>
                    <a:cubicBezTo>
                      <a:pt x="10521" y="5"/>
                      <a:pt x="10520" y="6"/>
                      <a:pt x="10519" y="6"/>
                    </a:cubicBezTo>
                    <a:lnTo>
                      <a:pt x="10519" y="6"/>
                    </a:lnTo>
                    <a:cubicBezTo>
                      <a:pt x="10518" y="6"/>
                      <a:pt x="10517" y="5"/>
                      <a:pt x="10517" y="4"/>
                    </a:cubicBezTo>
                    <a:cubicBezTo>
                      <a:pt x="10517" y="3"/>
                      <a:pt x="10518" y="2"/>
                      <a:pt x="10519" y="2"/>
                    </a:cubicBezTo>
                    <a:close/>
                    <a:moveTo>
                      <a:pt x="10527" y="2"/>
                    </a:moveTo>
                    <a:lnTo>
                      <a:pt x="10527" y="2"/>
                    </a:lnTo>
                    <a:cubicBezTo>
                      <a:pt x="10528" y="2"/>
                      <a:pt x="10529" y="3"/>
                      <a:pt x="10529" y="4"/>
                    </a:cubicBezTo>
                    <a:cubicBezTo>
                      <a:pt x="10529" y="5"/>
                      <a:pt x="10528" y="6"/>
                      <a:pt x="10527" y="6"/>
                    </a:cubicBezTo>
                    <a:lnTo>
                      <a:pt x="10527" y="6"/>
                    </a:lnTo>
                    <a:cubicBezTo>
                      <a:pt x="10526" y="6"/>
                      <a:pt x="10525" y="5"/>
                      <a:pt x="10525" y="4"/>
                    </a:cubicBezTo>
                    <a:cubicBezTo>
                      <a:pt x="10525" y="3"/>
                      <a:pt x="10526" y="2"/>
                      <a:pt x="10527" y="2"/>
                    </a:cubicBezTo>
                    <a:close/>
                    <a:moveTo>
                      <a:pt x="10535" y="2"/>
                    </a:moveTo>
                    <a:lnTo>
                      <a:pt x="10535" y="2"/>
                    </a:lnTo>
                    <a:cubicBezTo>
                      <a:pt x="10536" y="2"/>
                      <a:pt x="10537" y="3"/>
                      <a:pt x="10537" y="4"/>
                    </a:cubicBezTo>
                    <a:cubicBezTo>
                      <a:pt x="10537" y="5"/>
                      <a:pt x="10536" y="6"/>
                      <a:pt x="10535" y="6"/>
                    </a:cubicBezTo>
                    <a:lnTo>
                      <a:pt x="10535" y="6"/>
                    </a:lnTo>
                    <a:cubicBezTo>
                      <a:pt x="10534" y="6"/>
                      <a:pt x="10533" y="5"/>
                      <a:pt x="10533" y="4"/>
                    </a:cubicBezTo>
                    <a:cubicBezTo>
                      <a:pt x="10533" y="3"/>
                      <a:pt x="10534" y="2"/>
                      <a:pt x="10535" y="2"/>
                    </a:cubicBezTo>
                    <a:close/>
                    <a:moveTo>
                      <a:pt x="10543" y="2"/>
                    </a:moveTo>
                    <a:lnTo>
                      <a:pt x="10543" y="2"/>
                    </a:lnTo>
                    <a:cubicBezTo>
                      <a:pt x="10544" y="2"/>
                      <a:pt x="10545" y="3"/>
                      <a:pt x="10545" y="4"/>
                    </a:cubicBezTo>
                    <a:cubicBezTo>
                      <a:pt x="10545" y="5"/>
                      <a:pt x="10544" y="6"/>
                      <a:pt x="10543" y="6"/>
                    </a:cubicBezTo>
                    <a:lnTo>
                      <a:pt x="10543" y="6"/>
                    </a:lnTo>
                    <a:cubicBezTo>
                      <a:pt x="10542" y="6"/>
                      <a:pt x="10541" y="5"/>
                      <a:pt x="10541" y="4"/>
                    </a:cubicBezTo>
                    <a:cubicBezTo>
                      <a:pt x="10541" y="3"/>
                      <a:pt x="10542" y="2"/>
                      <a:pt x="10543" y="2"/>
                    </a:cubicBezTo>
                    <a:close/>
                    <a:moveTo>
                      <a:pt x="10551" y="2"/>
                    </a:moveTo>
                    <a:lnTo>
                      <a:pt x="10551" y="2"/>
                    </a:lnTo>
                    <a:cubicBezTo>
                      <a:pt x="10552" y="2"/>
                      <a:pt x="10553" y="3"/>
                      <a:pt x="10553" y="4"/>
                    </a:cubicBezTo>
                    <a:cubicBezTo>
                      <a:pt x="10553" y="5"/>
                      <a:pt x="10552" y="6"/>
                      <a:pt x="10551" y="6"/>
                    </a:cubicBezTo>
                    <a:lnTo>
                      <a:pt x="10551" y="6"/>
                    </a:lnTo>
                    <a:cubicBezTo>
                      <a:pt x="10550" y="6"/>
                      <a:pt x="10549" y="5"/>
                      <a:pt x="10549" y="4"/>
                    </a:cubicBezTo>
                    <a:cubicBezTo>
                      <a:pt x="10549" y="3"/>
                      <a:pt x="10550" y="2"/>
                      <a:pt x="10551" y="2"/>
                    </a:cubicBezTo>
                    <a:close/>
                    <a:moveTo>
                      <a:pt x="10559" y="2"/>
                    </a:moveTo>
                    <a:lnTo>
                      <a:pt x="10559" y="2"/>
                    </a:lnTo>
                    <a:cubicBezTo>
                      <a:pt x="10560" y="2"/>
                      <a:pt x="10561" y="3"/>
                      <a:pt x="10561" y="4"/>
                    </a:cubicBezTo>
                    <a:cubicBezTo>
                      <a:pt x="10561" y="5"/>
                      <a:pt x="10560" y="6"/>
                      <a:pt x="10559" y="6"/>
                    </a:cubicBezTo>
                    <a:lnTo>
                      <a:pt x="10559" y="6"/>
                    </a:lnTo>
                    <a:cubicBezTo>
                      <a:pt x="10558" y="6"/>
                      <a:pt x="10557" y="5"/>
                      <a:pt x="10557" y="4"/>
                    </a:cubicBezTo>
                    <a:cubicBezTo>
                      <a:pt x="10557" y="3"/>
                      <a:pt x="10558" y="2"/>
                      <a:pt x="10559" y="2"/>
                    </a:cubicBezTo>
                    <a:close/>
                    <a:moveTo>
                      <a:pt x="10567" y="2"/>
                    </a:moveTo>
                    <a:lnTo>
                      <a:pt x="10567" y="2"/>
                    </a:lnTo>
                    <a:cubicBezTo>
                      <a:pt x="10568" y="2"/>
                      <a:pt x="10569" y="3"/>
                      <a:pt x="10569" y="4"/>
                    </a:cubicBezTo>
                    <a:cubicBezTo>
                      <a:pt x="10569" y="5"/>
                      <a:pt x="10568" y="6"/>
                      <a:pt x="10567" y="6"/>
                    </a:cubicBezTo>
                    <a:lnTo>
                      <a:pt x="10567" y="6"/>
                    </a:lnTo>
                    <a:cubicBezTo>
                      <a:pt x="10566" y="6"/>
                      <a:pt x="10565" y="5"/>
                      <a:pt x="10565" y="4"/>
                    </a:cubicBezTo>
                    <a:cubicBezTo>
                      <a:pt x="10565" y="3"/>
                      <a:pt x="10566" y="2"/>
                      <a:pt x="10567" y="2"/>
                    </a:cubicBezTo>
                    <a:close/>
                    <a:moveTo>
                      <a:pt x="10575" y="2"/>
                    </a:moveTo>
                    <a:lnTo>
                      <a:pt x="10575" y="2"/>
                    </a:lnTo>
                    <a:cubicBezTo>
                      <a:pt x="10576" y="2"/>
                      <a:pt x="10577" y="3"/>
                      <a:pt x="10577" y="4"/>
                    </a:cubicBezTo>
                    <a:cubicBezTo>
                      <a:pt x="10577" y="5"/>
                      <a:pt x="10576" y="6"/>
                      <a:pt x="10575" y="6"/>
                    </a:cubicBezTo>
                    <a:lnTo>
                      <a:pt x="10575" y="6"/>
                    </a:lnTo>
                    <a:cubicBezTo>
                      <a:pt x="10574" y="6"/>
                      <a:pt x="10573" y="5"/>
                      <a:pt x="10573" y="4"/>
                    </a:cubicBezTo>
                    <a:cubicBezTo>
                      <a:pt x="10573" y="3"/>
                      <a:pt x="10574" y="2"/>
                      <a:pt x="10575" y="2"/>
                    </a:cubicBezTo>
                    <a:close/>
                    <a:moveTo>
                      <a:pt x="10583" y="2"/>
                    </a:moveTo>
                    <a:lnTo>
                      <a:pt x="10583" y="2"/>
                    </a:lnTo>
                    <a:cubicBezTo>
                      <a:pt x="10584" y="2"/>
                      <a:pt x="10585" y="3"/>
                      <a:pt x="10585" y="4"/>
                    </a:cubicBezTo>
                    <a:cubicBezTo>
                      <a:pt x="10585" y="5"/>
                      <a:pt x="10584" y="6"/>
                      <a:pt x="10583" y="6"/>
                    </a:cubicBezTo>
                    <a:lnTo>
                      <a:pt x="10583" y="6"/>
                    </a:lnTo>
                    <a:cubicBezTo>
                      <a:pt x="10582" y="6"/>
                      <a:pt x="10581" y="5"/>
                      <a:pt x="10581" y="4"/>
                    </a:cubicBezTo>
                    <a:cubicBezTo>
                      <a:pt x="10581" y="3"/>
                      <a:pt x="10582" y="2"/>
                      <a:pt x="10583" y="2"/>
                    </a:cubicBezTo>
                    <a:close/>
                    <a:moveTo>
                      <a:pt x="10591" y="2"/>
                    </a:moveTo>
                    <a:lnTo>
                      <a:pt x="10591" y="2"/>
                    </a:lnTo>
                    <a:cubicBezTo>
                      <a:pt x="10592" y="2"/>
                      <a:pt x="10593" y="3"/>
                      <a:pt x="10593" y="4"/>
                    </a:cubicBezTo>
                    <a:cubicBezTo>
                      <a:pt x="10593" y="5"/>
                      <a:pt x="10592" y="6"/>
                      <a:pt x="10591" y="6"/>
                    </a:cubicBezTo>
                    <a:lnTo>
                      <a:pt x="10591" y="6"/>
                    </a:lnTo>
                    <a:cubicBezTo>
                      <a:pt x="10590" y="6"/>
                      <a:pt x="10589" y="5"/>
                      <a:pt x="10589" y="4"/>
                    </a:cubicBezTo>
                    <a:cubicBezTo>
                      <a:pt x="10589" y="3"/>
                      <a:pt x="10590" y="2"/>
                      <a:pt x="10591" y="2"/>
                    </a:cubicBezTo>
                    <a:close/>
                    <a:moveTo>
                      <a:pt x="10599" y="2"/>
                    </a:moveTo>
                    <a:lnTo>
                      <a:pt x="10599" y="2"/>
                    </a:lnTo>
                    <a:cubicBezTo>
                      <a:pt x="10600" y="2"/>
                      <a:pt x="10601" y="3"/>
                      <a:pt x="10601" y="4"/>
                    </a:cubicBezTo>
                    <a:cubicBezTo>
                      <a:pt x="10601" y="5"/>
                      <a:pt x="10600" y="6"/>
                      <a:pt x="10599" y="6"/>
                    </a:cubicBezTo>
                    <a:lnTo>
                      <a:pt x="10599" y="6"/>
                    </a:lnTo>
                    <a:cubicBezTo>
                      <a:pt x="10598" y="6"/>
                      <a:pt x="10597" y="5"/>
                      <a:pt x="10597" y="4"/>
                    </a:cubicBezTo>
                    <a:cubicBezTo>
                      <a:pt x="10597" y="3"/>
                      <a:pt x="10598" y="2"/>
                      <a:pt x="10599" y="2"/>
                    </a:cubicBezTo>
                    <a:close/>
                    <a:moveTo>
                      <a:pt x="10607" y="2"/>
                    </a:moveTo>
                    <a:lnTo>
                      <a:pt x="10607" y="2"/>
                    </a:lnTo>
                    <a:cubicBezTo>
                      <a:pt x="10608" y="2"/>
                      <a:pt x="10609" y="3"/>
                      <a:pt x="10609" y="4"/>
                    </a:cubicBezTo>
                    <a:cubicBezTo>
                      <a:pt x="10609" y="5"/>
                      <a:pt x="10608" y="6"/>
                      <a:pt x="10607" y="6"/>
                    </a:cubicBezTo>
                    <a:lnTo>
                      <a:pt x="10607" y="6"/>
                    </a:lnTo>
                    <a:cubicBezTo>
                      <a:pt x="10606" y="6"/>
                      <a:pt x="10605" y="5"/>
                      <a:pt x="10605" y="4"/>
                    </a:cubicBezTo>
                    <a:cubicBezTo>
                      <a:pt x="10605" y="3"/>
                      <a:pt x="10606" y="2"/>
                      <a:pt x="10607" y="2"/>
                    </a:cubicBezTo>
                    <a:close/>
                    <a:moveTo>
                      <a:pt x="10615" y="2"/>
                    </a:moveTo>
                    <a:lnTo>
                      <a:pt x="10615" y="2"/>
                    </a:lnTo>
                    <a:cubicBezTo>
                      <a:pt x="10616" y="2"/>
                      <a:pt x="10617" y="3"/>
                      <a:pt x="10617" y="4"/>
                    </a:cubicBezTo>
                    <a:cubicBezTo>
                      <a:pt x="10617" y="5"/>
                      <a:pt x="10616" y="6"/>
                      <a:pt x="10615" y="6"/>
                    </a:cubicBezTo>
                    <a:lnTo>
                      <a:pt x="10615" y="6"/>
                    </a:lnTo>
                    <a:cubicBezTo>
                      <a:pt x="10614" y="6"/>
                      <a:pt x="10613" y="5"/>
                      <a:pt x="10613" y="4"/>
                    </a:cubicBezTo>
                    <a:cubicBezTo>
                      <a:pt x="10613" y="3"/>
                      <a:pt x="10614" y="2"/>
                      <a:pt x="10615" y="2"/>
                    </a:cubicBezTo>
                    <a:close/>
                    <a:moveTo>
                      <a:pt x="10623" y="2"/>
                    </a:moveTo>
                    <a:lnTo>
                      <a:pt x="10623" y="2"/>
                    </a:lnTo>
                    <a:cubicBezTo>
                      <a:pt x="10624" y="2"/>
                      <a:pt x="10625" y="3"/>
                      <a:pt x="10625" y="4"/>
                    </a:cubicBezTo>
                    <a:cubicBezTo>
                      <a:pt x="10625" y="5"/>
                      <a:pt x="10624" y="6"/>
                      <a:pt x="10623" y="6"/>
                    </a:cubicBezTo>
                    <a:lnTo>
                      <a:pt x="10623" y="6"/>
                    </a:lnTo>
                    <a:cubicBezTo>
                      <a:pt x="10622" y="6"/>
                      <a:pt x="10621" y="5"/>
                      <a:pt x="10621" y="4"/>
                    </a:cubicBezTo>
                    <a:cubicBezTo>
                      <a:pt x="10621" y="3"/>
                      <a:pt x="10622" y="2"/>
                      <a:pt x="10623" y="2"/>
                    </a:cubicBezTo>
                    <a:close/>
                    <a:moveTo>
                      <a:pt x="10631" y="2"/>
                    </a:moveTo>
                    <a:lnTo>
                      <a:pt x="10631" y="2"/>
                    </a:lnTo>
                    <a:cubicBezTo>
                      <a:pt x="10632" y="2"/>
                      <a:pt x="10633" y="3"/>
                      <a:pt x="10633" y="4"/>
                    </a:cubicBezTo>
                    <a:cubicBezTo>
                      <a:pt x="10633" y="5"/>
                      <a:pt x="10632" y="6"/>
                      <a:pt x="10631" y="6"/>
                    </a:cubicBezTo>
                    <a:lnTo>
                      <a:pt x="10631" y="6"/>
                    </a:lnTo>
                    <a:cubicBezTo>
                      <a:pt x="10630" y="6"/>
                      <a:pt x="10629" y="5"/>
                      <a:pt x="10629" y="4"/>
                    </a:cubicBezTo>
                    <a:cubicBezTo>
                      <a:pt x="10629" y="3"/>
                      <a:pt x="10630" y="2"/>
                      <a:pt x="10631" y="2"/>
                    </a:cubicBezTo>
                    <a:close/>
                    <a:moveTo>
                      <a:pt x="10639" y="2"/>
                    </a:moveTo>
                    <a:lnTo>
                      <a:pt x="10639" y="2"/>
                    </a:lnTo>
                    <a:cubicBezTo>
                      <a:pt x="10640" y="2"/>
                      <a:pt x="10641" y="3"/>
                      <a:pt x="10641" y="4"/>
                    </a:cubicBezTo>
                    <a:cubicBezTo>
                      <a:pt x="10641" y="5"/>
                      <a:pt x="10640" y="6"/>
                      <a:pt x="10639" y="6"/>
                    </a:cubicBezTo>
                    <a:lnTo>
                      <a:pt x="10639" y="6"/>
                    </a:lnTo>
                    <a:cubicBezTo>
                      <a:pt x="10638" y="6"/>
                      <a:pt x="10637" y="5"/>
                      <a:pt x="10637" y="4"/>
                    </a:cubicBezTo>
                    <a:cubicBezTo>
                      <a:pt x="10637" y="3"/>
                      <a:pt x="10638" y="2"/>
                      <a:pt x="10639" y="2"/>
                    </a:cubicBezTo>
                    <a:close/>
                    <a:moveTo>
                      <a:pt x="10647" y="2"/>
                    </a:moveTo>
                    <a:lnTo>
                      <a:pt x="10647" y="2"/>
                    </a:lnTo>
                    <a:cubicBezTo>
                      <a:pt x="10648" y="2"/>
                      <a:pt x="10649" y="3"/>
                      <a:pt x="10649" y="4"/>
                    </a:cubicBezTo>
                    <a:cubicBezTo>
                      <a:pt x="10649" y="5"/>
                      <a:pt x="10648" y="6"/>
                      <a:pt x="10647" y="6"/>
                    </a:cubicBezTo>
                    <a:lnTo>
                      <a:pt x="10647" y="6"/>
                    </a:lnTo>
                    <a:cubicBezTo>
                      <a:pt x="10646" y="6"/>
                      <a:pt x="10645" y="5"/>
                      <a:pt x="10645" y="4"/>
                    </a:cubicBezTo>
                    <a:cubicBezTo>
                      <a:pt x="10645" y="3"/>
                      <a:pt x="10646" y="2"/>
                      <a:pt x="10647" y="2"/>
                    </a:cubicBezTo>
                    <a:close/>
                    <a:moveTo>
                      <a:pt x="10655" y="2"/>
                    </a:moveTo>
                    <a:lnTo>
                      <a:pt x="10655" y="2"/>
                    </a:lnTo>
                    <a:cubicBezTo>
                      <a:pt x="10656" y="2"/>
                      <a:pt x="10657" y="3"/>
                      <a:pt x="10657" y="4"/>
                    </a:cubicBezTo>
                    <a:cubicBezTo>
                      <a:pt x="10657" y="5"/>
                      <a:pt x="10656" y="6"/>
                      <a:pt x="10655" y="6"/>
                    </a:cubicBezTo>
                    <a:lnTo>
                      <a:pt x="10655" y="6"/>
                    </a:lnTo>
                    <a:cubicBezTo>
                      <a:pt x="10654" y="6"/>
                      <a:pt x="10653" y="5"/>
                      <a:pt x="10653" y="4"/>
                    </a:cubicBezTo>
                    <a:cubicBezTo>
                      <a:pt x="10653" y="3"/>
                      <a:pt x="10654" y="2"/>
                      <a:pt x="10655" y="2"/>
                    </a:cubicBezTo>
                    <a:close/>
                    <a:moveTo>
                      <a:pt x="10663" y="2"/>
                    </a:moveTo>
                    <a:lnTo>
                      <a:pt x="10663" y="2"/>
                    </a:lnTo>
                    <a:cubicBezTo>
                      <a:pt x="10664" y="2"/>
                      <a:pt x="10665" y="3"/>
                      <a:pt x="10665" y="4"/>
                    </a:cubicBezTo>
                    <a:cubicBezTo>
                      <a:pt x="10665" y="5"/>
                      <a:pt x="10664" y="6"/>
                      <a:pt x="10663" y="6"/>
                    </a:cubicBezTo>
                    <a:lnTo>
                      <a:pt x="10663" y="6"/>
                    </a:lnTo>
                    <a:cubicBezTo>
                      <a:pt x="10662" y="6"/>
                      <a:pt x="10661" y="5"/>
                      <a:pt x="10661" y="4"/>
                    </a:cubicBezTo>
                    <a:cubicBezTo>
                      <a:pt x="10661" y="3"/>
                      <a:pt x="10662" y="2"/>
                      <a:pt x="10663" y="2"/>
                    </a:cubicBezTo>
                    <a:close/>
                    <a:moveTo>
                      <a:pt x="10671" y="2"/>
                    </a:moveTo>
                    <a:lnTo>
                      <a:pt x="10671" y="2"/>
                    </a:lnTo>
                    <a:cubicBezTo>
                      <a:pt x="10672" y="2"/>
                      <a:pt x="10673" y="3"/>
                      <a:pt x="10673" y="4"/>
                    </a:cubicBezTo>
                    <a:cubicBezTo>
                      <a:pt x="10673" y="5"/>
                      <a:pt x="10672" y="6"/>
                      <a:pt x="10671" y="6"/>
                    </a:cubicBezTo>
                    <a:lnTo>
                      <a:pt x="10671" y="6"/>
                    </a:lnTo>
                    <a:cubicBezTo>
                      <a:pt x="10670" y="6"/>
                      <a:pt x="10669" y="5"/>
                      <a:pt x="10669" y="4"/>
                    </a:cubicBezTo>
                    <a:cubicBezTo>
                      <a:pt x="10669" y="3"/>
                      <a:pt x="10670" y="2"/>
                      <a:pt x="10671" y="2"/>
                    </a:cubicBezTo>
                    <a:close/>
                    <a:moveTo>
                      <a:pt x="10679" y="2"/>
                    </a:moveTo>
                    <a:lnTo>
                      <a:pt x="10679" y="2"/>
                    </a:lnTo>
                    <a:cubicBezTo>
                      <a:pt x="10680" y="2"/>
                      <a:pt x="10681" y="3"/>
                      <a:pt x="10681" y="4"/>
                    </a:cubicBezTo>
                    <a:cubicBezTo>
                      <a:pt x="10681" y="5"/>
                      <a:pt x="10680" y="6"/>
                      <a:pt x="10679" y="6"/>
                    </a:cubicBezTo>
                    <a:lnTo>
                      <a:pt x="10679" y="6"/>
                    </a:lnTo>
                    <a:cubicBezTo>
                      <a:pt x="10678" y="6"/>
                      <a:pt x="10677" y="5"/>
                      <a:pt x="10677" y="4"/>
                    </a:cubicBezTo>
                    <a:cubicBezTo>
                      <a:pt x="10677" y="3"/>
                      <a:pt x="10678" y="2"/>
                      <a:pt x="10679" y="2"/>
                    </a:cubicBezTo>
                    <a:close/>
                    <a:moveTo>
                      <a:pt x="10687" y="2"/>
                    </a:moveTo>
                    <a:lnTo>
                      <a:pt x="10687" y="2"/>
                    </a:lnTo>
                    <a:cubicBezTo>
                      <a:pt x="10688" y="2"/>
                      <a:pt x="10689" y="3"/>
                      <a:pt x="10689" y="4"/>
                    </a:cubicBezTo>
                    <a:cubicBezTo>
                      <a:pt x="10689" y="5"/>
                      <a:pt x="10688" y="6"/>
                      <a:pt x="10687" y="6"/>
                    </a:cubicBezTo>
                    <a:lnTo>
                      <a:pt x="10687" y="6"/>
                    </a:lnTo>
                    <a:cubicBezTo>
                      <a:pt x="10686" y="6"/>
                      <a:pt x="10685" y="5"/>
                      <a:pt x="10685" y="4"/>
                    </a:cubicBezTo>
                    <a:cubicBezTo>
                      <a:pt x="10685" y="3"/>
                      <a:pt x="10686" y="2"/>
                      <a:pt x="10687" y="2"/>
                    </a:cubicBezTo>
                    <a:close/>
                    <a:moveTo>
                      <a:pt x="10695" y="2"/>
                    </a:moveTo>
                    <a:lnTo>
                      <a:pt x="10695" y="2"/>
                    </a:lnTo>
                    <a:cubicBezTo>
                      <a:pt x="10696" y="2"/>
                      <a:pt x="10697" y="3"/>
                      <a:pt x="10697" y="4"/>
                    </a:cubicBezTo>
                    <a:cubicBezTo>
                      <a:pt x="10697" y="5"/>
                      <a:pt x="10696" y="6"/>
                      <a:pt x="10695" y="6"/>
                    </a:cubicBezTo>
                    <a:lnTo>
                      <a:pt x="10695" y="6"/>
                    </a:lnTo>
                    <a:cubicBezTo>
                      <a:pt x="10694" y="6"/>
                      <a:pt x="10693" y="5"/>
                      <a:pt x="10693" y="4"/>
                    </a:cubicBezTo>
                    <a:cubicBezTo>
                      <a:pt x="10693" y="3"/>
                      <a:pt x="10694" y="2"/>
                      <a:pt x="10695" y="2"/>
                    </a:cubicBezTo>
                    <a:close/>
                    <a:moveTo>
                      <a:pt x="10703" y="2"/>
                    </a:moveTo>
                    <a:lnTo>
                      <a:pt x="10703" y="2"/>
                    </a:lnTo>
                    <a:cubicBezTo>
                      <a:pt x="10704" y="2"/>
                      <a:pt x="10705" y="3"/>
                      <a:pt x="10705" y="4"/>
                    </a:cubicBezTo>
                    <a:cubicBezTo>
                      <a:pt x="10705" y="5"/>
                      <a:pt x="10704" y="6"/>
                      <a:pt x="10703" y="6"/>
                    </a:cubicBezTo>
                    <a:lnTo>
                      <a:pt x="10703" y="6"/>
                    </a:lnTo>
                    <a:cubicBezTo>
                      <a:pt x="10702" y="6"/>
                      <a:pt x="10701" y="5"/>
                      <a:pt x="10701" y="4"/>
                    </a:cubicBezTo>
                    <a:cubicBezTo>
                      <a:pt x="10701" y="3"/>
                      <a:pt x="10702" y="2"/>
                      <a:pt x="10703" y="2"/>
                    </a:cubicBezTo>
                    <a:close/>
                    <a:moveTo>
                      <a:pt x="10711" y="2"/>
                    </a:moveTo>
                    <a:lnTo>
                      <a:pt x="10711" y="2"/>
                    </a:lnTo>
                    <a:cubicBezTo>
                      <a:pt x="10712" y="2"/>
                      <a:pt x="10713" y="3"/>
                      <a:pt x="10713" y="4"/>
                    </a:cubicBezTo>
                    <a:cubicBezTo>
                      <a:pt x="10713" y="6"/>
                      <a:pt x="10712" y="6"/>
                      <a:pt x="10711" y="6"/>
                    </a:cubicBezTo>
                    <a:lnTo>
                      <a:pt x="10711" y="6"/>
                    </a:lnTo>
                    <a:cubicBezTo>
                      <a:pt x="10710" y="6"/>
                      <a:pt x="10709" y="6"/>
                      <a:pt x="10709" y="4"/>
                    </a:cubicBezTo>
                    <a:cubicBezTo>
                      <a:pt x="10709" y="3"/>
                      <a:pt x="10710" y="2"/>
                      <a:pt x="10711" y="2"/>
                    </a:cubicBezTo>
                    <a:close/>
                    <a:moveTo>
                      <a:pt x="10719" y="2"/>
                    </a:moveTo>
                    <a:lnTo>
                      <a:pt x="10719" y="2"/>
                    </a:lnTo>
                    <a:cubicBezTo>
                      <a:pt x="10720" y="2"/>
                      <a:pt x="10721" y="3"/>
                      <a:pt x="10721" y="4"/>
                    </a:cubicBezTo>
                    <a:cubicBezTo>
                      <a:pt x="10721" y="6"/>
                      <a:pt x="10720" y="6"/>
                      <a:pt x="10719" y="6"/>
                    </a:cubicBezTo>
                    <a:lnTo>
                      <a:pt x="10719" y="6"/>
                    </a:lnTo>
                    <a:cubicBezTo>
                      <a:pt x="10718" y="6"/>
                      <a:pt x="10717" y="6"/>
                      <a:pt x="10717" y="4"/>
                    </a:cubicBezTo>
                    <a:cubicBezTo>
                      <a:pt x="10717" y="3"/>
                      <a:pt x="10718" y="2"/>
                      <a:pt x="10719" y="2"/>
                    </a:cubicBezTo>
                    <a:close/>
                    <a:moveTo>
                      <a:pt x="10727" y="2"/>
                    </a:moveTo>
                    <a:lnTo>
                      <a:pt x="10727" y="2"/>
                    </a:lnTo>
                    <a:cubicBezTo>
                      <a:pt x="10728" y="2"/>
                      <a:pt x="10729" y="3"/>
                      <a:pt x="10729" y="4"/>
                    </a:cubicBezTo>
                    <a:cubicBezTo>
                      <a:pt x="10729" y="6"/>
                      <a:pt x="10728" y="6"/>
                      <a:pt x="10727" y="6"/>
                    </a:cubicBezTo>
                    <a:lnTo>
                      <a:pt x="10727" y="6"/>
                    </a:lnTo>
                    <a:cubicBezTo>
                      <a:pt x="10726" y="6"/>
                      <a:pt x="10725" y="6"/>
                      <a:pt x="10725" y="4"/>
                    </a:cubicBezTo>
                    <a:cubicBezTo>
                      <a:pt x="10725" y="3"/>
                      <a:pt x="10726" y="2"/>
                      <a:pt x="10727" y="2"/>
                    </a:cubicBezTo>
                    <a:close/>
                    <a:moveTo>
                      <a:pt x="10735" y="2"/>
                    </a:moveTo>
                    <a:lnTo>
                      <a:pt x="10735" y="2"/>
                    </a:lnTo>
                    <a:cubicBezTo>
                      <a:pt x="10736" y="2"/>
                      <a:pt x="10737" y="3"/>
                      <a:pt x="10737" y="4"/>
                    </a:cubicBezTo>
                    <a:cubicBezTo>
                      <a:pt x="10737" y="6"/>
                      <a:pt x="10736" y="6"/>
                      <a:pt x="10735" y="6"/>
                    </a:cubicBezTo>
                    <a:lnTo>
                      <a:pt x="10735" y="6"/>
                    </a:lnTo>
                    <a:cubicBezTo>
                      <a:pt x="10734" y="6"/>
                      <a:pt x="10733" y="6"/>
                      <a:pt x="10733" y="4"/>
                    </a:cubicBezTo>
                    <a:cubicBezTo>
                      <a:pt x="10733" y="3"/>
                      <a:pt x="10734" y="2"/>
                      <a:pt x="10735" y="2"/>
                    </a:cubicBezTo>
                    <a:close/>
                    <a:moveTo>
                      <a:pt x="10743" y="2"/>
                    </a:moveTo>
                    <a:lnTo>
                      <a:pt x="10743" y="2"/>
                    </a:lnTo>
                    <a:cubicBezTo>
                      <a:pt x="10744" y="2"/>
                      <a:pt x="10745" y="3"/>
                      <a:pt x="10745" y="4"/>
                    </a:cubicBezTo>
                    <a:cubicBezTo>
                      <a:pt x="10745" y="6"/>
                      <a:pt x="10744" y="6"/>
                      <a:pt x="10743" y="6"/>
                    </a:cubicBezTo>
                    <a:lnTo>
                      <a:pt x="10743" y="6"/>
                    </a:lnTo>
                    <a:cubicBezTo>
                      <a:pt x="10742" y="6"/>
                      <a:pt x="10741" y="6"/>
                      <a:pt x="10741" y="4"/>
                    </a:cubicBezTo>
                    <a:cubicBezTo>
                      <a:pt x="10741" y="3"/>
                      <a:pt x="10742" y="2"/>
                      <a:pt x="10743" y="2"/>
                    </a:cubicBezTo>
                    <a:close/>
                    <a:moveTo>
                      <a:pt x="10751" y="2"/>
                    </a:moveTo>
                    <a:lnTo>
                      <a:pt x="10751" y="2"/>
                    </a:lnTo>
                    <a:cubicBezTo>
                      <a:pt x="10752" y="2"/>
                      <a:pt x="10753" y="3"/>
                      <a:pt x="10753" y="4"/>
                    </a:cubicBezTo>
                    <a:cubicBezTo>
                      <a:pt x="10753" y="6"/>
                      <a:pt x="10752" y="6"/>
                      <a:pt x="10751" y="6"/>
                    </a:cubicBezTo>
                    <a:lnTo>
                      <a:pt x="10751" y="6"/>
                    </a:lnTo>
                    <a:cubicBezTo>
                      <a:pt x="10750" y="6"/>
                      <a:pt x="10749" y="6"/>
                      <a:pt x="10749" y="4"/>
                    </a:cubicBezTo>
                    <a:cubicBezTo>
                      <a:pt x="10749" y="3"/>
                      <a:pt x="10750" y="2"/>
                      <a:pt x="10751" y="2"/>
                    </a:cubicBezTo>
                    <a:close/>
                    <a:moveTo>
                      <a:pt x="10759" y="2"/>
                    </a:moveTo>
                    <a:lnTo>
                      <a:pt x="10759" y="2"/>
                    </a:lnTo>
                    <a:cubicBezTo>
                      <a:pt x="10760" y="2"/>
                      <a:pt x="10761" y="3"/>
                      <a:pt x="10761" y="4"/>
                    </a:cubicBezTo>
                    <a:cubicBezTo>
                      <a:pt x="10761" y="6"/>
                      <a:pt x="10760" y="6"/>
                      <a:pt x="10759" y="6"/>
                    </a:cubicBezTo>
                    <a:lnTo>
                      <a:pt x="10759" y="6"/>
                    </a:lnTo>
                    <a:cubicBezTo>
                      <a:pt x="10758" y="6"/>
                      <a:pt x="10757" y="6"/>
                      <a:pt x="10757" y="4"/>
                    </a:cubicBezTo>
                    <a:cubicBezTo>
                      <a:pt x="10757" y="3"/>
                      <a:pt x="10758" y="2"/>
                      <a:pt x="10759" y="2"/>
                    </a:cubicBezTo>
                    <a:close/>
                    <a:moveTo>
                      <a:pt x="10767" y="2"/>
                    </a:moveTo>
                    <a:lnTo>
                      <a:pt x="10767" y="2"/>
                    </a:lnTo>
                    <a:cubicBezTo>
                      <a:pt x="10768" y="2"/>
                      <a:pt x="10769" y="3"/>
                      <a:pt x="10769" y="4"/>
                    </a:cubicBezTo>
                    <a:cubicBezTo>
                      <a:pt x="10769" y="6"/>
                      <a:pt x="10768" y="6"/>
                      <a:pt x="10767" y="6"/>
                    </a:cubicBezTo>
                    <a:lnTo>
                      <a:pt x="10767" y="6"/>
                    </a:lnTo>
                    <a:cubicBezTo>
                      <a:pt x="10766" y="6"/>
                      <a:pt x="10765" y="6"/>
                      <a:pt x="10765" y="4"/>
                    </a:cubicBezTo>
                    <a:cubicBezTo>
                      <a:pt x="10765" y="3"/>
                      <a:pt x="10766" y="2"/>
                      <a:pt x="10767" y="2"/>
                    </a:cubicBezTo>
                    <a:close/>
                    <a:moveTo>
                      <a:pt x="10775" y="2"/>
                    </a:moveTo>
                    <a:lnTo>
                      <a:pt x="10775" y="2"/>
                    </a:lnTo>
                    <a:cubicBezTo>
                      <a:pt x="10776" y="2"/>
                      <a:pt x="10777" y="3"/>
                      <a:pt x="10777" y="4"/>
                    </a:cubicBezTo>
                    <a:cubicBezTo>
                      <a:pt x="10777" y="6"/>
                      <a:pt x="10776" y="6"/>
                      <a:pt x="10775" y="6"/>
                    </a:cubicBezTo>
                    <a:lnTo>
                      <a:pt x="10775" y="6"/>
                    </a:lnTo>
                    <a:cubicBezTo>
                      <a:pt x="10774" y="6"/>
                      <a:pt x="10773" y="6"/>
                      <a:pt x="10773" y="4"/>
                    </a:cubicBezTo>
                    <a:cubicBezTo>
                      <a:pt x="10773" y="3"/>
                      <a:pt x="10774" y="2"/>
                      <a:pt x="10775" y="2"/>
                    </a:cubicBezTo>
                    <a:close/>
                    <a:moveTo>
                      <a:pt x="10783" y="2"/>
                    </a:moveTo>
                    <a:lnTo>
                      <a:pt x="10783" y="2"/>
                    </a:lnTo>
                    <a:cubicBezTo>
                      <a:pt x="10784" y="2"/>
                      <a:pt x="10785" y="3"/>
                      <a:pt x="10785" y="4"/>
                    </a:cubicBezTo>
                    <a:cubicBezTo>
                      <a:pt x="10785" y="6"/>
                      <a:pt x="10784" y="6"/>
                      <a:pt x="10783" y="6"/>
                    </a:cubicBezTo>
                    <a:lnTo>
                      <a:pt x="10783" y="6"/>
                    </a:lnTo>
                    <a:cubicBezTo>
                      <a:pt x="10782" y="6"/>
                      <a:pt x="10781" y="6"/>
                      <a:pt x="10781" y="4"/>
                    </a:cubicBezTo>
                    <a:cubicBezTo>
                      <a:pt x="10781" y="3"/>
                      <a:pt x="10782" y="2"/>
                      <a:pt x="10783" y="2"/>
                    </a:cubicBezTo>
                    <a:close/>
                    <a:moveTo>
                      <a:pt x="10791" y="2"/>
                    </a:moveTo>
                    <a:lnTo>
                      <a:pt x="10791" y="2"/>
                    </a:lnTo>
                    <a:cubicBezTo>
                      <a:pt x="10793" y="2"/>
                      <a:pt x="10793" y="3"/>
                      <a:pt x="10793" y="4"/>
                    </a:cubicBezTo>
                    <a:cubicBezTo>
                      <a:pt x="10793" y="6"/>
                      <a:pt x="10793" y="6"/>
                      <a:pt x="10791" y="6"/>
                    </a:cubicBezTo>
                    <a:lnTo>
                      <a:pt x="10791" y="6"/>
                    </a:lnTo>
                    <a:cubicBezTo>
                      <a:pt x="10790" y="6"/>
                      <a:pt x="10789" y="6"/>
                      <a:pt x="10789" y="4"/>
                    </a:cubicBezTo>
                    <a:cubicBezTo>
                      <a:pt x="10789" y="3"/>
                      <a:pt x="10790" y="2"/>
                      <a:pt x="10791" y="2"/>
                    </a:cubicBezTo>
                    <a:close/>
                    <a:moveTo>
                      <a:pt x="10799" y="2"/>
                    </a:moveTo>
                    <a:lnTo>
                      <a:pt x="10799" y="2"/>
                    </a:lnTo>
                    <a:cubicBezTo>
                      <a:pt x="10801" y="2"/>
                      <a:pt x="10801" y="3"/>
                      <a:pt x="10801" y="4"/>
                    </a:cubicBezTo>
                    <a:cubicBezTo>
                      <a:pt x="10801" y="6"/>
                      <a:pt x="10801" y="6"/>
                      <a:pt x="10799" y="6"/>
                    </a:cubicBezTo>
                    <a:lnTo>
                      <a:pt x="10799" y="6"/>
                    </a:lnTo>
                    <a:cubicBezTo>
                      <a:pt x="10798" y="6"/>
                      <a:pt x="10797" y="6"/>
                      <a:pt x="10797" y="4"/>
                    </a:cubicBezTo>
                    <a:cubicBezTo>
                      <a:pt x="10797" y="3"/>
                      <a:pt x="10798" y="2"/>
                      <a:pt x="10799" y="2"/>
                    </a:cubicBezTo>
                    <a:close/>
                    <a:moveTo>
                      <a:pt x="10807" y="2"/>
                    </a:moveTo>
                    <a:lnTo>
                      <a:pt x="10807" y="2"/>
                    </a:lnTo>
                    <a:cubicBezTo>
                      <a:pt x="10809" y="2"/>
                      <a:pt x="10809" y="3"/>
                      <a:pt x="10809" y="4"/>
                    </a:cubicBezTo>
                    <a:cubicBezTo>
                      <a:pt x="10809" y="6"/>
                      <a:pt x="10809" y="6"/>
                      <a:pt x="10807" y="6"/>
                    </a:cubicBezTo>
                    <a:lnTo>
                      <a:pt x="10807" y="6"/>
                    </a:lnTo>
                    <a:cubicBezTo>
                      <a:pt x="10806" y="6"/>
                      <a:pt x="10805" y="6"/>
                      <a:pt x="10805" y="4"/>
                    </a:cubicBezTo>
                    <a:cubicBezTo>
                      <a:pt x="10805" y="3"/>
                      <a:pt x="10806" y="2"/>
                      <a:pt x="10807" y="2"/>
                    </a:cubicBezTo>
                    <a:close/>
                    <a:moveTo>
                      <a:pt x="10815" y="2"/>
                    </a:moveTo>
                    <a:lnTo>
                      <a:pt x="10815" y="2"/>
                    </a:lnTo>
                    <a:cubicBezTo>
                      <a:pt x="10817" y="2"/>
                      <a:pt x="10817" y="3"/>
                      <a:pt x="10817" y="4"/>
                    </a:cubicBezTo>
                    <a:cubicBezTo>
                      <a:pt x="10817" y="6"/>
                      <a:pt x="10817" y="6"/>
                      <a:pt x="10815" y="6"/>
                    </a:cubicBezTo>
                    <a:lnTo>
                      <a:pt x="10815" y="6"/>
                    </a:lnTo>
                    <a:cubicBezTo>
                      <a:pt x="10814" y="6"/>
                      <a:pt x="10813" y="6"/>
                      <a:pt x="10813" y="4"/>
                    </a:cubicBezTo>
                    <a:cubicBezTo>
                      <a:pt x="10813" y="3"/>
                      <a:pt x="10814" y="2"/>
                      <a:pt x="10815" y="2"/>
                    </a:cubicBezTo>
                    <a:close/>
                    <a:moveTo>
                      <a:pt x="10823" y="2"/>
                    </a:moveTo>
                    <a:lnTo>
                      <a:pt x="10823" y="2"/>
                    </a:lnTo>
                    <a:cubicBezTo>
                      <a:pt x="10825" y="2"/>
                      <a:pt x="10825" y="3"/>
                      <a:pt x="10825" y="4"/>
                    </a:cubicBezTo>
                    <a:cubicBezTo>
                      <a:pt x="10825" y="6"/>
                      <a:pt x="10825" y="6"/>
                      <a:pt x="10823" y="6"/>
                    </a:cubicBezTo>
                    <a:lnTo>
                      <a:pt x="10823" y="6"/>
                    </a:lnTo>
                    <a:cubicBezTo>
                      <a:pt x="10822" y="6"/>
                      <a:pt x="10821" y="6"/>
                      <a:pt x="10821" y="4"/>
                    </a:cubicBezTo>
                    <a:cubicBezTo>
                      <a:pt x="10821" y="3"/>
                      <a:pt x="10822" y="2"/>
                      <a:pt x="10823" y="2"/>
                    </a:cubicBezTo>
                    <a:close/>
                    <a:moveTo>
                      <a:pt x="10831" y="2"/>
                    </a:moveTo>
                    <a:lnTo>
                      <a:pt x="10831" y="2"/>
                    </a:lnTo>
                    <a:cubicBezTo>
                      <a:pt x="10833" y="2"/>
                      <a:pt x="10833" y="3"/>
                      <a:pt x="10833" y="4"/>
                    </a:cubicBezTo>
                    <a:cubicBezTo>
                      <a:pt x="10833" y="6"/>
                      <a:pt x="10833" y="6"/>
                      <a:pt x="10831" y="6"/>
                    </a:cubicBezTo>
                    <a:lnTo>
                      <a:pt x="10831" y="6"/>
                    </a:lnTo>
                    <a:cubicBezTo>
                      <a:pt x="10830" y="6"/>
                      <a:pt x="10829" y="6"/>
                      <a:pt x="10829" y="4"/>
                    </a:cubicBezTo>
                    <a:cubicBezTo>
                      <a:pt x="10829" y="3"/>
                      <a:pt x="10830" y="2"/>
                      <a:pt x="10831" y="2"/>
                    </a:cubicBezTo>
                    <a:close/>
                    <a:moveTo>
                      <a:pt x="10839" y="2"/>
                    </a:moveTo>
                    <a:lnTo>
                      <a:pt x="10839" y="2"/>
                    </a:lnTo>
                    <a:cubicBezTo>
                      <a:pt x="10841" y="2"/>
                      <a:pt x="10841" y="3"/>
                      <a:pt x="10841" y="4"/>
                    </a:cubicBezTo>
                    <a:cubicBezTo>
                      <a:pt x="10841" y="6"/>
                      <a:pt x="10841" y="6"/>
                      <a:pt x="10839" y="6"/>
                    </a:cubicBezTo>
                    <a:lnTo>
                      <a:pt x="10839" y="6"/>
                    </a:lnTo>
                    <a:cubicBezTo>
                      <a:pt x="10838" y="6"/>
                      <a:pt x="10837" y="6"/>
                      <a:pt x="10837" y="4"/>
                    </a:cubicBezTo>
                    <a:cubicBezTo>
                      <a:pt x="10837" y="3"/>
                      <a:pt x="10838" y="2"/>
                      <a:pt x="10839" y="2"/>
                    </a:cubicBezTo>
                    <a:close/>
                    <a:moveTo>
                      <a:pt x="10847" y="2"/>
                    </a:moveTo>
                    <a:lnTo>
                      <a:pt x="10847" y="2"/>
                    </a:lnTo>
                    <a:cubicBezTo>
                      <a:pt x="10849" y="2"/>
                      <a:pt x="10849" y="3"/>
                      <a:pt x="10849" y="4"/>
                    </a:cubicBezTo>
                    <a:cubicBezTo>
                      <a:pt x="10849" y="6"/>
                      <a:pt x="10849" y="6"/>
                      <a:pt x="10847" y="6"/>
                    </a:cubicBezTo>
                    <a:lnTo>
                      <a:pt x="10847" y="6"/>
                    </a:lnTo>
                    <a:cubicBezTo>
                      <a:pt x="10846" y="6"/>
                      <a:pt x="10845" y="6"/>
                      <a:pt x="10845" y="4"/>
                    </a:cubicBezTo>
                    <a:cubicBezTo>
                      <a:pt x="10845" y="3"/>
                      <a:pt x="10846" y="2"/>
                      <a:pt x="10847" y="2"/>
                    </a:cubicBezTo>
                    <a:close/>
                    <a:moveTo>
                      <a:pt x="10855" y="2"/>
                    </a:moveTo>
                    <a:lnTo>
                      <a:pt x="10855" y="2"/>
                    </a:lnTo>
                    <a:cubicBezTo>
                      <a:pt x="10857" y="2"/>
                      <a:pt x="10857" y="3"/>
                      <a:pt x="10857" y="4"/>
                    </a:cubicBezTo>
                    <a:cubicBezTo>
                      <a:pt x="10857" y="6"/>
                      <a:pt x="10857" y="6"/>
                      <a:pt x="10855" y="6"/>
                    </a:cubicBezTo>
                    <a:lnTo>
                      <a:pt x="10855" y="6"/>
                    </a:lnTo>
                    <a:cubicBezTo>
                      <a:pt x="10854" y="6"/>
                      <a:pt x="10853" y="6"/>
                      <a:pt x="10853" y="4"/>
                    </a:cubicBezTo>
                    <a:cubicBezTo>
                      <a:pt x="10853" y="3"/>
                      <a:pt x="10854" y="2"/>
                      <a:pt x="10855" y="2"/>
                    </a:cubicBezTo>
                    <a:close/>
                    <a:moveTo>
                      <a:pt x="10863" y="2"/>
                    </a:moveTo>
                    <a:lnTo>
                      <a:pt x="10863" y="2"/>
                    </a:lnTo>
                    <a:cubicBezTo>
                      <a:pt x="10865" y="2"/>
                      <a:pt x="10865" y="3"/>
                      <a:pt x="10865" y="4"/>
                    </a:cubicBezTo>
                    <a:cubicBezTo>
                      <a:pt x="10865" y="6"/>
                      <a:pt x="10865" y="6"/>
                      <a:pt x="10863" y="6"/>
                    </a:cubicBezTo>
                    <a:lnTo>
                      <a:pt x="10863" y="6"/>
                    </a:lnTo>
                    <a:cubicBezTo>
                      <a:pt x="10862" y="6"/>
                      <a:pt x="10861" y="6"/>
                      <a:pt x="10861" y="4"/>
                    </a:cubicBezTo>
                    <a:cubicBezTo>
                      <a:pt x="10861" y="3"/>
                      <a:pt x="10862" y="2"/>
                      <a:pt x="10863" y="2"/>
                    </a:cubicBezTo>
                    <a:close/>
                    <a:moveTo>
                      <a:pt x="10871" y="2"/>
                    </a:moveTo>
                    <a:lnTo>
                      <a:pt x="10871" y="2"/>
                    </a:lnTo>
                    <a:cubicBezTo>
                      <a:pt x="10873" y="2"/>
                      <a:pt x="10873" y="3"/>
                      <a:pt x="10873" y="4"/>
                    </a:cubicBezTo>
                    <a:cubicBezTo>
                      <a:pt x="10873" y="6"/>
                      <a:pt x="10873" y="6"/>
                      <a:pt x="10871" y="6"/>
                    </a:cubicBezTo>
                    <a:lnTo>
                      <a:pt x="10871" y="6"/>
                    </a:lnTo>
                    <a:cubicBezTo>
                      <a:pt x="10870" y="6"/>
                      <a:pt x="10869" y="6"/>
                      <a:pt x="10869" y="4"/>
                    </a:cubicBezTo>
                    <a:cubicBezTo>
                      <a:pt x="10869" y="3"/>
                      <a:pt x="10870" y="2"/>
                      <a:pt x="10871" y="2"/>
                    </a:cubicBezTo>
                    <a:close/>
                    <a:moveTo>
                      <a:pt x="10879" y="2"/>
                    </a:moveTo>
                    <a:lnTo>
                      <a:pt x="10879" y="2"/>
                    </a:lnTo>
                    <a:cubicBezTo>
                      <a:pt x="10881" y="2"/>
                      <a:pt x="10881" y="3"/>
                      <a:pt x="10881" y="4"/>
                    </a:cubicBezTo>
                    <a:cubicBezTo>
                      <a:pt x="10881" y="6"/>
                      <a:pt x="10881" y="6"/>
                      <a:pt x="10879" y="6"/>
                    </a:cubicBezTo>
                    <a:lnTo>
                      <a:pt x="10879" y="6"/>
                    </a:lnTo>
                    <a:cubicBezTo>
                      <a:pt x="10878" y="6"/>
                      <a:pt x="10877" y="6"/>
                      <a:pt x="10877" y="4"/>
                    </a:cubicBezTo>
                    <a:cubicBezTo>
                      <a:pt x="10877" y="3"/>
                      <a:pt x="10878" y="2"/>
                      <a:pt x="10879" y="2"/>
                    </a:cubicBezTo>
                    <a:close/>
                    <a:moveTo>
                      <a:pt x="10887" y="2"/>
                    </a:moveTo>
                    <a:lnTo>
                      <a:pt x="10887" y="2"/>
                    </a:lnTo>
                    <a:cubicBezTo>
                      <a:pt x="10889" y="2"/>
                      <a:pt x="10889" y="3"/>
                      <a:pt x="10889" y="4"/>
                    </a:cubicBezTo>
                    <a:cubicBezTo>
                      <a:pt x="10889" y="6"/>
                      <a:pt x="10889" y="6"/>
                      <a:pt x="10887" y="6"/>
                    </a:cubicBezTo>
                    <a:lnTo>
                      <a:pt x="10887" y="6"/>
                    </a:lnTo>
                    <a:cubicBezTo>
                      <a:pt x="10886" y="6"/>
                      <a:pt x="10885" y="6"/>
                      <a:pt x="10885" y="4"/>
                    </a:cubicBezTo>
                    <a:cubicBezTo>
                      <a:pt x="10885" y="3"/>
                      <a:pt x="10886" y="2"/>
                      <a:pt x="10887" y="2"/>
                    </a:cubicBezTo>
                    <a:close/>
                    <a:moveTo>
                      <a:pt x="10895" y="2"/>
                    </a:moveTo>
                    <a:lnTo>
                      <a:pt x="10895" y="2"/>
                    </a:lnTo>
                    <a:cubicBezTo>
                      <a:pt x="10897" y="2"/>
                      <a:pt x="10897" y="3"/>
                      <a:pt x="10897" y="4"/>
                    </a:cubicBezTo>
                    <a:cubicBezTo>
                      <a:pt x="10897" y="6"/>
                      <a:pt x="10897" y="6"/>
                      <a:pt x="10895" y="6"/>
                    </a:cubicBezTo>
                    <a:lnTo>
                      <a:pt x="10895" y="6"/>
                    </a:lnTo>
                    <a:cubicBezTo>
                      <a:pt x="10894" y="6"/>
                      <a:pt x="10893" y="6"/>
                      <a:pt x="10893" y="4"/>
                    </a:cubicBezTo>
                    <a:cubicBezTo>
                      <a:pt x="10893" y="3"/>
                      <a:pt x="10894" y="2"/>
                      <a:pt x="10895" y="2"/>
                    </a:cubicBezTo>
                    <a:close/>
                    <a:moveTo>
                      <a:pt x="10903" y="2"/>
                    </a:moveTo>
                    <a:lnTo>
                      <a:pt x="10903" y="2"/>
                    </a:lnTo>
                    <a:cubicBezTo>
                      <a:pt x="10905" y="2"/>
                      <a:pt x="10905" y="3"/>
                      <a:pt x="10905" y="4"/>
                    </a:cubicBezTo>
                    <a:cubicBezTo>
                      <a:pt x="10905" y="6"/>
                      <a:pt x="10905" y="6"/>
                      <a:pt x="10903" y="6"/>
                    </a:cubicBezTo>
                    <a:lnTo>
                      <a:pt x="10903" y="6"/>
                    </a:lnTo>
                    <a:cubicBezTo>
                      <a:pt x="10902" y="6"/>
                      <a:pt x="10901" y="6"/>
                      <a:pt x="10901" y="4"/>
                    </a:cubicBezTo>
                    <a:cubicBezTo>
                      <a:pt x="10901" y="3"/>
                      <a:pt x="10902" y="2"/>
                      <a:pt x="10903" y="2"/>
                    </a:cubicBezTo>
                    <a:close/>
                    <a:moveTo>
                      <a:pt x="10911" y="2"/>
                    </a:moveTo>
                    <a:lnTo>
                      <a:pt x="10911" y="2"/>
                    </a:lnTo>
                    <a:cubicBezTo>
                      <a:pt x="10913" y="2"/>
                      <a:pt x="10913" y="3"/>
                      <a:pt x="10913" y="4"/>
                    </a:cubicBezTo>
                    <a:cubicBezTo>
                      <a:pt x="10913" y="6"/>
                      <a:pt x="10913" y="6"/>
                      <a:pt x="10911" y="6"/>
                    </a:cubicBezTo>
                    <a:lnTo>
                      <a:pt x="10911" y="6"/>
                    </a:lnTo>
                    <a:cubicBezTo>
                      <a:pt x="10910" y="6"/>
                      <a:pt x="10909" y="6"/>
                      <a:pt x="10909" y="4"/>
                    </a:cubicBezTo>
                    <a:cubicBezTo>
                      <a:pt x="10909" y="3"/>
                      <a:pt x="10910" y="2"/>
                      <a:pt x="10911" y="2"/>
                    </a:cubicBezTo>
                    <a:close/>
                    <a:moveTo>
                      <a:pt x="10919" y="2"/>
                    </a:moveTo>
                    <a:lnTo>
                      <a:pt x="10919" y="2"/>
                    </a:lnTo>
                    <a:cubicBezTo>
                      <a:pt x="10921" y="2"/>
                      <a:pt x="10921" y="3"/>
                      <a:pt x="10921" y="4"/>
                    </a:cubicBezTo>
                    <a:cubicBezTo>
                      <a:pt x="10921" y="6"/>
                      <a:pt x="10921" y="6"/>
                      <a:pt x="10919" y="6"/>
                    </a:cubicBezTo>
                    <a:lnTo>
                      <a:pt x="10919" y="6"/>
                    </a:lnTo>
                    <a:cubicBezTo>
                      <a:pt x="10918" y="6"/>
                      <a:pt x="10917" y="6"/>
                      <a:pt x="10917" y="4"/>
                    </a:cubicBezTo>
                    <a:cubicBezTo>
                      <a:pt x="10917" y="3"/>
                      <a:pt x="10918" y="2"/>
                      <a:pt x="10919" y="2"/>
                    </a:cubicBezTo>
                    <a:close/>
                    <a:moveTo>
                      <a:pt x="10927" y="2"/>
                    </a:moveTo>
                    <a:lnTo>
                      <a:pt x="10927" y="2"/>
                    </a:lnTo>
                    <a:cubicBezTo>
                      <a:pt x="10929" y="2"/>
                      <a:pt x="10929" y="3"/>
                      <a:pt x="10929" y="4"/>
                    </a:cubicBezTo>
                    <a:cubicBezTo>
                      <a:pt x="10929" y="6"/>
                      <a:pt x="10929" y="6"/>
                      <a:pt x="10927" y="6"/>
                    </a:cubicBezTo>
                    <a:lnTo>
                      <a:pt x="10927" y="6"/>
                    </a:lnTo>
                    <a:cubicBezTo>
                      <a:pt x="10926" y="6"/>
                      <a:pt x="10925" y="6"/>
                      <a:pt x="10925" y="4"/>
                    </a:cubicBezTo>
                    <a:cubicBezTo>
                      <a:pt x="10925" y="3"/>
                      <a:pt x="10926" y="2"/>
                      <a:pt x="10927" y="2"/>
                    </a:cubicBezTo>
                    <a:close/>
                    <a:moveTo>
                      <a:pt x="10935" y="2"/>
                    </a:moveTo>
                    <a:lnTo>
                      <a:pt x="10935" y="2"/>
                    </a:lnTo>
                    <a:cubicBezTo>
                      <a:pt x="10937" y="2"/>
                      <a:pt x="10937" y="3"/>
                      <a:pt x="10937" y="4"/>
                    </a:cubicBezTo>
                    <a:cubicBezTo>
                      <a:pt x="10937" y="6"/>
                      <a:pt x="10937" y="6"/>
                      <a:pt x="10935" y="6"/>
                    </a:cubicBezTo>
                    <a:lnTo>
                      <a:pt x="10935" y="6"/>
                    </a:lnTo>
                    <a:cubicBezTo>
                      <a:pt x="10934" y="6"/>
                      <a:pt x="10933" y="6"/>
                      <a:pt x="10933" y="4"/>
                    </a:cubicBezTo>
                    <a:cubicBezTo>
                      <a:pt x="10933" y="3"/>
                      <a:pt x="10934" y="2"/>
                      <a:pt x="10935" y="2"/>
                    </a:cubicBezTo>
                    <a:close/>
                    <a:moveTo>
                      <a:pt x="10943" y="2"/>
                    </a:moveTo>
                    <a:lnTo>
                      <a:pt x="10943" y="2"/>
                    </a:lnTo>
                    <a:cubicBezTo>
                      <a:pt x="10945" y="2"/>
                      <a:pt x="10945" y="3"/>
                      <a:pt x="10945" y="4"/>
                    </a:cubicBezTo>
                    <a:cubicBezTo>
                      <a:pt x="10945" y="6"/>
                      <a:pt x="10945" y="6"/>
                      <a:pt x="10943" y="6"/>
                    </a:cubicBezTo>
                    <a:lnTo>
                      <a:pt x="10943" y="6"/>
                    </a:lnTo>
                    <a:cubicBezTo>
                      <a:pt x="10942" y="6"/>
                      <a:pt x="10941" y="6"/>
                      <a:pt x="10941" y="4"/>
                    </a:cubicBezTo>
                    <a:cubicBezTo>
                      <a:pt x="10941" y="3"/>
                      <a:pt x="10942" y="2"/>
                      <a:pt x="10943" y="2"/>
                    </a:cubicBezTo>
                    <a:close/>
                    <a:moveTo>
                      <a:pt x="10951" y="2"/>
                    </a:moveTo>
                    <a:lnTo>
                      <a:pt x="10951" y="2"/>
                    </a:lnTo>
                    <a:cubicBezTo>
                      <a:pt x="10953" y="2"/>
                      <a:pt x="10953" y="3"/>
                      <a:pt x="10953" y="4"/>
                    </a:cubicBezTo>
                    <a:cubicBezTo>
                      <a:pt x="10953" y="6"/>
                      <a:pt x="10953" y="6"/>
                      <a:pt x="10951" y="6"/>
                    </a:cubicBezTo>
                    <a:lnTo>
                      <a:pt x="10951" y="6"/>
                    </a:lnTo>
                    <a:cubicBezTo>
                      <a:pt x="10950" y="6"/>
                      <a:pt x="10949" y="6"/>
                      <a:pt x="10949" y="4"/>
                    </a:cubicBezTo>
                    <a:cubicBezTo>
                      <a:pt x="10949" y="3"/>
                      <a:pt x="10950" y="2"/>
                      <a:pt x="10951" y="2"/>
                    </a:cubicBezTo>
                    <a:close/>
                    <a:moveTo>
                      <a:pt x="10959" y="2"/>
                    </a:moveTo>
                    <a:lnTo>
                      <a:pt x="10960" y="2"/>
                    </a:lnTo>
                    <a:cubicBezTo>
                      <a:pt x="10961" y="2"/>
                      <a:pt x="10962" y="3"/>
                      <a:pt x="10962" y="4"/>
                    </a:cubicBezTo>
                    <a:cubicBezTo>
                      <a:pt x="10962" y="6"/>
                      <a:pt x="10961" y="6"/>
                      <a:pt x="10960" y="6"/>
                    </a:cubicBezTo>
                    <a:lnTo>
                      <a:pt x="10959" y="6"/>
                    </a:lnTo>
                    <a:cubicBezTo>
                      <a:pt x="10958" y="6"/>
                      <a:pt x="10957" y="6"/>
                      <a:pt x="10957" y="4"/>
                    </a:cubicBezTo>
                    <a:cubicBezTo>
                      <a:pt x="10957" y="3"/>
                      <a:pt x="10958" y="2"/>
                      <a:pt x="10959" y="2"/>
                    </a:cubicBezTo>
                    <a:close/>
                    <a:moveTo>
                      <a:pt x="10968" y="2"/>
                    </a:moveTo>
                    <a:lnTo>
                      <a:pt x="10968" y="2"/>
                    </a:lnTo>
                    <a:cubicBezTo>
                      <a:pt x="10969" y="2"/>
                      <a:pt x="10970" y="3"/>
                      <a:pt x="10970" y="4"/>
                    </a:cubicBezTo>
                    <a:cubicBezTo>
                      <a:pt x="10970" y="6"/>
                      <a:pt x="10969" y="6"/>
                      <a:pt x="10968" y="6"/>
                    </a:cubicBezTo>
                    <a:lnTo>
                      <a:pt x="10968" y="6"/>
                    </a:lnTo>
                    <a:cubicBezTo>
                      <a:pt x="10966" y="6"/>
                      <a:pt x="10966" y="6"/>
                      <a:pt x="10966" y="4"/>
                    </a:cubicBezTo>
                    <a:cubicBezTo>
                      <a:pt x="10966" y="3"/>
                      <a:pt x="10966" y="2"/>
                      <a:pt x="10968" y="2"/>
                    </a:cubicBezTo>
                    <a:close/>
                    <a:moveTo>
                      <a:pt x="10976" y="2"/>
                    </a:moveTo>
                    <a:lnTo>
                      <a:pt x="10976" y="2"/>
                    </a:lnTo>
                    <a:cubicBezTo>
                      <a:pt x="10977" y="2"/>
                      <a:pt x="10978" y="3"/>
                      <a:pt x="10978" y="4"/>
                    </a:cubicBezTo>
                    <a:cubicBezTo>
                      <a:pt x="10978" y="6"/>
                      <a:pt x="10977" y="6"/>
                      <a:pt x="10976" y="6"/>
                    </a:cubicBezTo>
                    <a:lnTo>
                      <a:pt x="10976" y="6"/>
                    </a:lnTo>
                    <a:cubicBezTo>
                      <a:pt x="10974" y="6"/>
                      <a:pt x="10974" y="6"/>
                      <a:pt x="10974" y="4"/>
                    </a:cubicBezTo>
                    <a:cubicBezTo>
                      <a:pt x="10974" y="3"/>
                      <a:pt x="10974" y="2"/>
                      <a:pt x="10976" y="2"/>
                    </a:cubicBezTo>
                    <a:close/>
                    <a:moveTo>
                      <a:pt x="10984" y="2"/>
                    </a:moveTo>
                    <a:lnTo>
                      <a:pt x="10984" y="2"/>
                    </a:lnTo>
                    <a:cubicBezTo>
                      <a:pt x="10985" y="2"/>
                      <a:pt x="10986" y="3"/>
                      <a:pt x="10986" y="4"/>
                    </a:cubicBezTo>
                    <a:cubicBezTo>
                      <a:pt x="10986" y="6"/>
                      <a:pt x="10985" y="6"/>
                      <a:pt x="10984" y="6"/>
                    </a:cubicBezTo>
                    <a:lnTo>
                      <a:pt x="10984" y="6"/>
                    </a:lnTo>
                    <a:cubicBezTo>
                      <a:pt x="10982" y="6"/>
                      <a:pt x="10982" y="6"/>
                      <a:pt x="10982" y="4"/>
                    </a:cubicBezTo>
                    <a:cubicBezTo>
                      <a:pt x="10982" y="3"/>
                      <a:pt x="10982" y="2"/>
                      <a:pt x="10984" y="2"/>
                    </a:cubicBezTo>
                    <a:close/>
                    <a:moveTo>
                      <a:pt x="10992" y="2"/>
                    </a:moveTo>
                    <a:lnTo>
                      <a:pt x="10992" y="2"/>
                    </a:lnTo>
                    <a:cubicBezTo>
                      <a:pt x="10993" y="2"/>
                      <a:pt x="10994" y="3"/>
                      <a:pt x="10994" y="4"/>
                    </a:cubicBezTo>
                    <a:cubicBezTo>
                      <a:pt x="10994" y="6"/>
                      <a:pt x="10993" y="6"/>
                      <a:pt x="10992" y="6"/>
                    </a:cubicBezTo>
                    <a:lnTo>
                      <a:pt x="10992" y="6"/>
                    </a:lnTo>
                    <a:cubicBezTo>
                      <a:pt x="10990" y="6"/>
                      <a:pt x="10990" y="6"/>
                      <a:pt x="10990" y="4"/>
                    </a:cubicBezTo>
                    <a:cubicBezTo>
                      <a:pt x="10990" y="3"/>
                      <a:pt x="10990" y="2"/>
                      <a:pt x="10992" y="2"/>
                    </a:cubicBezTo>
                    <a:close/>
                    <a:moveTo>
                      <a:pt x="11000" y="2"/>
                    </a:moveTo>
                    <a:lnTo>
                      <a:pt x="11000" y="2"/>
                    </a:lnTo>
                    <a:cubicBezTo>
                      <a:pt x="11001" y="2"/>
                      <a:pt x="11002" y="3"/>
                      <a:pt x="11002" y="4"/>
                    </a:cubicBezTo>
                    <a:cubicBezTo>
                      <a:pt x="11002" y="6"/>
                      <a:pt x="11001" y="6"/>
                      <a:pt x="11000" y="6"/>
                    </a:cubicBezTo>
                    <a:lnTo>
                      <a:pt x="11000" y="6"/>
                    </a:lnTo>
                    <a:cubicBezTo>
                      <a:pt x="10998" y="6"/>
                      <a:pt x="10998" y="6"/>
                      <a:pt x="10998" y="4"/>
                    </a:cubicBezTo>
                    <a:cubicBezTo>
                      <a:pt x="10998" y="3"/>
                      <a:pt x="10998" y="2"/>
                      <a:pt x="11000" y="2"/>
                    </a:cubicBezTo>
                    <a:close/>
                    <a:moveTo>
                      <a:pt x="11008" y="2"/>
                    </a:moveTo>
                    <a:lnTo>
                      <a:pt x="11008" y="2"/>
                    </a:lnTo>
                    <a:cubicBezTo>
                      <a:pt x="11009" y="2"/>
                      <a:pt x="11010" y="3"/>
                      <a:pt x="11010" y="4"/>
                    </a:cubicBezTo>
                    <a:cubicBezTo>
                      <a:pt x="11010" y="6"/>
                      <a:pt x="11009" y="6"/>
                      <a:pt x="11008" y="6"/>
                    </a:cubicBezTo>
                    <a:lnTo>
                      <a:pt x="11008" y="6"/>
                    </a:lnTo>
                    <a:cubicBezTo>
                      <a:pt x="11006" y="6"/>
                      <a:pt x="11006" y="6"/>
                      <a:pt x="11006" y="4"/>
                    </a:cubicBezTo>
                    <a:cubicBezTo>
                      <a:pt x="11006" y="3"/>
                      <a:pt x="11006" y="2"/>
                      <a:pt x="11008" y="2"/>
                    </a:cubicBezTo>
                    <a:close/>
                    <a:moveTo>
                      <a:pt x="11016" y="2"/>
                    </a:moveTo>
                    <a:lnTo>
                      <a:pt x="11016" y="2"/>
                    </a:lnTo>
                    <a:cubicBezTo>
                      <a:pt x="11017" y="2"/>
                      <a:pt x="11018" y="3"/>
                      <a:pt x="11018" y="4"/>
                    </a:cubicBezTo>
                    <a:cubicBezTo>
                      <a:pt x="11018" y="6"/>
                      <a:pt x="11017" y="6"/>
                      <a:pt x="11016" y="6"/>
                    </a:cubicBezTo>
                    <a:lnTo>
                      <a:pt x="11016" y="6"/>
                    </a:lnTo>
                    <a:cubicBezTo>
                      <a:pt x="11014" y="6"/>
                      <a:pt x="11014" y="6"/>
                      <a:pt x="11014" y="4"/>
                    </a:cubicBezTo>
                    <a:cubicBezTo>
                      <a:pt x="11014" y="3"/>
                      <a:pt x="11014" y="2"/>
                      <a:pt x="11016" y="2"/>
                    </a:cubicBezTo>
                    <a:close/>
                    <a:moveTo>
                      <a:pt x="11024" y="2"/>
                    </a:moveTo>
                    <a:lnTo>
                      <a:pt x="11024" y="2"/>
                    </a:lnTo>
                    <a:cubicBezTo>
                      <a:pt x="11025" y="2"/>
                      <a:pt x="11026" y="3"/>
                      <a:pt x="11026" y="4"/>
                    </a:cubicBezTo>
                    <a:cubicBezTo>
                      <a:pt x="11026" y="6"/>
                      <a:pt x="11025" y="6"/>
                      <a:pt x="11024" y="6"/>
                    </a:cubicBezTo>
                    <a:lnTo>
                      <a:pt x="11024" y="6"/>
                    </a:lnTo>
                    <a:cubicBezTo>
                      <a:pt x="11022" y="6"/>
                      <a:pt x="11022" y="6"/>
                      <a:pt x="11022" y="4"/>
                    </a:cubicBezTo>
                    <a:cubicBezTo>
                      <a:pt x="11022" y="3"/>
                      <a:pt x="11022" y="2"/>
                      <a:pt x="11024" y="2"/>
                    </a:cubicBezTo>
                    <a:close/>
                    <a:moveTo>
                      <a:pt x="11032" y="2"/>
                    </a:moveTo>
                    <a:lnTo>
                      <a:pt x="11032" y="2"/>
                    </a:lnTo>
                    <a:cubicBezTo>
                      <a:pt x="11033" y="2"/>
                      <a:pt x="11034" y="3"/>
                      <a:pt x="11034" y="4"/>
                    </a:cubicBezTo>
                    <a:cubicBezTo>
                      <a:pt x="11034" y="6"/>
                      <a:pt x="11033" y="6"/>
                      <a:pt x="11032" y="6"/>
                    </a:cubicBezTo>
                    <a:lnTo>
                      <a:pt x="11032" y="6"/>
                    </a:lnTo>
                    <a:cubicBezTo>
                      <a:pt x="11030" y="6"/>
                      <a:pt x="11030" y="6"/>
                      <a:pt x="11030" y="4"/>
                    </a:cubicBezTo>
                    <a:cubicBezTo>
                      <a:pt x="11030" y="3"/>
                      <a:pt x="11030" y="2"/>
                      <a:pt x="11032" y="2"/>
                    </a:cubicBezTo>
                    <a:close/>
                    <a:moveTo>
                      <a:pt x="11040" y="2"/>
                    </a:moveTo>
                    <a:lnTo>
                      <a:pt x="11040" y="2"/>
                    </a:lnTo>
                    <a:cubicBezTo>
                      <a:pt x="11041" y="2"/>
                      <a:pt x="11042" y="3"/>
                      <a:pt x="11042" y="4"/>
                    </a:cubicBezTo>
                    <a:cubicBezTo>
                      <a:pt x="11042" y="6"/>
                      <a:pt x="11041" y="6"/>
                      <a:pt x="11040" y="6"/>
                    </a:cubicBezTo>
                    <a:lnTo>
                      <a:pt x="11040" y="6"/>
                    </a:lnTo>
                    <a:cubicBezTo>
                      <a:pt x="11038" y="6"/>
                      <a:pt x="11038" y="6"/>
                      <a:pt x="11038" y="4"/>
                    </a:cubicBezTo>
                    <a:cubicBezTo>
                      <a:pt x="11038" y="3"/>
                      <a:pt x="11038" y="2"/>
                      <a:pt x="11040" y="2"/>
                    </a:cubicBezTo>
                    <a:close/>
                    <a:moveTo>
                      <a:pt x="11048" y="2"/>
                    </a:moveTo>
                    <a:lnTo>
                      <a:pt x="11048" y="2"/>
                    </a:lnTo>
                    <a:cubicBezTo>
                      <a:pt x="11049" y="2"/>
                      <a:pt x="11050" y="3"/>
                      <a:pt x="11050" y="4"/>
                    </a:cubicBezTo>
                    <a:cubicBezTo>
                      <a:pt x="11050" y="6"/>
                      <a:pt x="11049" y="6"/>
                      <a:pt x="11048" y="6"/>
                    </a:cubicBezTo>
                    <a:lnTo>
                      <a:pt x="11048" y="6"/>
                    </a:lnTo>
                    <a:cubicBezTo>
                      <a:pt x="11046" y="6"/>
                      <a:pt x="11046" y="6"/>
                      <a:pt x="11046" y="4"/>
                    </a:cubicBezTo>
                    <a:cubicBezTo>
                      <a:pt x="11046" y="3"/>
                      <a:pt x="11046" y="2"/>
                      <a:pt x="11048" y="2"/>
                    </a:cubicBezTo>
                    <a:close/>
                    <a:moveTo>
                      <a:pt x="11056" y="2"/>
                    </a:moveTo>
                    <a:lnTo>
                      <a:pt x="11056" y="2"/>
                    </a:lnTo>
                    <a:cubicBezTo>
                      <a:pt x="11057" y="2"/>
                      <a:pt x="11058" y="3"/>
                      <a:pt x="11058" y="4"/>
                    </a:cubicBezTo>
                    <a:cubicBezTo>
                      <a:pt x="11058" y="6"/>
                      <a:pt x="11057" y="6"/>
                      <a:pt x="11056" y="6"/>
                    </a:cubicBezTo>
                    <a:lnTo>
                      <a:pt x="11056" y="6"/>
                    </a:lnTo>
                    <a:cubicBezTo>
                      <a:pt x="11054" y="6"/>
                      <a:pt x="11054" y="6"/>
                      <a:pt x="11054" y="4"/>
                    </a:cubicBezTo>
                    <a:cubicBezTo>
                      <a:pt x="11054" y="3"/>
                      <a:pt x="11054" y="2"/>
                      <a:pt x="11056" y="2"/>
                    </a:cubicBezTo>
                    <a:close/>
                    <a:moveTo>
                      <a:pt x="11064" y="2"/>
                    </a:moveTo>
                    <a:lnTo>
                      <a:pt x="11064" y="2"/>
                    </a:lnTo>
                    <a:cubicBezTo>
                      <a:pt x="11065" y="2"/>
                      <a:pt x="11066" y="3"/>
                      <a:pt x="11066" y="4"/>
                    </a:cubicBezTo>
                    <a:cubicBezTo>
                      <a:pt x="11066" y="6"/>
                      <a:pt x="11065" y="6"/>
                      <a:pt x="11064" y="6"/>
                    </a:cubicBezTo>
                    <a:lnTo>
                      <a:pt x="11064" y="6"/>
                    </a:lnTo>
                    <a:cubicBezTo>
                      <a:pt x="11062" y="6"/>
                      <a:pt x="11062" y="6"/>
                      <a:pt x="11062" y="4"/>
                    </a:cubicBezTo>
                    <a:cubicBezTo>
                      <a:pt x="11062" y="3"/>
                      <a:pt x="11062" y="2"/>
                      <a:pt x="11064" y="2"/>
                    </a:cubicBezTo>
                    <a:close/>
                    <a:moveTo>
                      <a:pt x="11072" y="2"/>
                    </a:moveTo>
                    <a:lnTo>
                      <a:pt x="11072" y="2"/>
                    </a:lnTo>
                    <a:cubicBezTo>
                      <a:pt x="11073" y="2"/>
                      <a:pt x="11074" y="3"/>
                      <a:pt x="11074" y="4"/>
                    </a:cubicBezTo>
                    <a:cubicBezTo>
                      <a:pt x="11074" y="6"/>
                      <a:pt x="11073" y="6"/>
                      <a:pt x="11072" y="6"/>
                    </a:cubicBezTo>
                    <a:lnTo>
                      <a:pt x="11072" y="6"/>
                    </a:lnTo>
                    <a:cubicBezTo>
                      <a:pt x="11070" y="6"/>
                      <a:pt x="11070" y="6"/>
                      <a:pt x="11070" y="4"/>
                    </a:cubicBezTo>
                    <a:cubicBezTo>
                      <a:pt x="11070" y="3"/>
                      <a:pt x="11070" y="2"/>
                      <a:pt x="11072" y="2"/>
                    </a:cubicBezTo>
                    <a:close/>
                    <a:moveTo>
                      <a:pt x="11080" y="2"/>
                    </a:moveTo>
                    <a:lnTo>
                      <a:pt x="11080" y="2"/>
                    </a:lnTo>
                    <a:cubicBezTo>
                      <a:pt x="11081" y="2"/>
                      <a:pt x="11082" y="3"/>
                      <a:pt x="11082" y="4"/>
                    </a:cubicBezTo>
                    <a:cubicBezTo>
                      <a:pt x="11082" y="6"/>
                      <a:pt x="11081" y="6"/>
                      <a:pt x="11080" y="6"/>
                    </a:cubicBezTo>
                    <a:lnTo>
                      <a:pt x="11080" y="6"/>
                    </a:lnTo>
                    <a:cubicBezTo>
                      <a:pt x="11078" y="6"/>
                      <a:pt x="11078" y="6"/>
                      <a:pt x="11078" y="4"/>
                    </a:cubicBezTo>
                    <a:cubicBezTo>
                      <a:pt x="11078" y="3"/>
                      <a:pt x="11078" y="2"/>
                      <a:pt x="11080" y="2"/>
                    </a:cubicBezTo>
                    <a:close/>
                    <a:moveTo>
                      <a:pt x="11088" y="2"/>
                    </a:moveTo>
                    <a:lnTo>
                      <a:pt x="11088" y="2"/>
                    </a:lnTo>
                    <a:cubicBezTo>
                      <a:pt x="11089" y="2"/>
                      <a:pt x="11090" y="3"/>
                      <a:pt x="11090" y="4"/>
                    </a:cubicBezTo>
                    <a:cubicBezTo>
                      <a:pt x="11090" y="6"/>
                      <a:pt x="11089" y="6"/>
                      <a:pt x="11088" y="6"/>
                    </a:cubicBezTo>
                    <a:lnTo>
                      <a:pt x="11088" y="6"/>
                    </a:lnTo>
                    <a:cubicBezTo>
                      <a:pt x="11086" y="6"/>
                      <a:pt x="11086" y="6"/>
                      <a:pt x="11086" y="4"/>
                    </a:cubicBezTo>
                    <a:cubicBezTo>
                      <a:pt x="11086" y="3"/>
                      <a:pt x="11086" y="2"/>
                      <a:pt x="11088" y="2"/>
                    </a:cubicBezTo>
                    <a:close/>
                    <a:moveTo>
                      <a:pt x="11096" y="2"/>
                    </a:moveTo>
                    <a:lnTo>
                      <a:pt x="11096" y="2"/>
                    </a:lnTo>
                    <a:cubicBezTo>
                      <a:pt x="11097" y="2"/>
                      <a:pt x="11098" y="3"/>
                      <a:pt x="11098" y="4"/>
                    </a:cubicBezTo>
                    <a:cubicBezTo>
                      <a:pt x="11098" y="6"/>
                      <a:pt x="11097" y="6"/>
                      <a:pt x="11096" y="6"/>
                    </a:cubicBezTo>
                    <a:lnTo>
                      <a:pt x="11096" y="6"/>
                    </a:lnTo>
                    <a:cubicBezTo>
                      <a:pt x="11094" y="6"/>
                      <a:pt x="11094" y="6"/>
                      <a:pt x="11094" y="4"/>
                    </a:cubicBezTo>
                    <a:cubicBezTo>
                      <a:pt x="11094" y="3"/>
                      <a:pt x="11094" y="2"/>
                      <a:pt x="11096" y="2"/>
                    </a:cubicBezTo>
                    <a:close/>
                    <a:moveTo>
                      <a:pt x="11104" y="2"/>
                    </a:moveTo>
                    <a:lnTo>
                      <a:pt x="11104" y="2"/>
                    </a:lnTo>
                    <a:cubicBezTo>
                      <a:pt x="11105" y="2"/>
                      <a:pt x="11106" y="3"/>
                      <a:pt x="11106" y="4"/>
                    </a:cubicBezTo>
                    <a:cubicBezTo>
                      <a:pt x="11106" y="6"/>
                      <a:pt x="11105" y="6"/>
                      <a:pt x="11104" y="6"/>
                    </a:cubicBezTo>
                    <a:lnTo>
                      <a:pt x="11104" y="6"/>
                    </a:lnTo>
                    <a:cubicBezTo>
                      <a:pt x="11102" y="6"/>
                      <a:pt x="11102" y="6"/>
                      <a:pt x="11102" y="4"/>
                    </a:cubicBezTo>
                    <a:cubicBezTo>
                      <a:pt x="11102" y="3"/>
                      <a:pt x="11102" y="2"/>
                      <a:pt x="11104" y="2"/>
                    </a:cubicBezTo>
                    <a:close/>
                    <a:moveTo>
                      <a:pt x="11112" y="2"/>
                    </a:moveTo>
                    <a:lnTo>
                      <a:pt x="11112" y="2"/>
                    </a:lnTo>
                    <a:cubicBezTo>
                      <a:pt x="11113" y="2"/>
                      <a:pt x="11114" y="3"/>
                      <a:pt x="11114" y="4"/>
                    </a:cubicBezTo>
                    <a:cubicBezTo>
                      <a:pt x="11114" y="6"/>
                      <a:pt x="11113" y="6"/>
                      <a:pt x="11112" y="6"/>
                    </a:cubicBezTo>
                    <a:lnTo>
                      <a:pt x="11112" y="6"/>
                    </a:lnTo>
                    <a:cubicBezTo>
                      <a:pt x="11110" y="6"/>
                      <a:pt x="11110" y="6"/>
                      <a:pt x="11110" y="4"/>
                    </a:cubicBezTo>
                    <a:cubicBezTo>
                      <a:pt x="11110" y="3"/>
                      <a:pt x="11110" y="2"/>
                      <a:pt x="11112" y="2"/>
                    </a:cubicBezTo>
                    <a:close/>
                    <a:moveTo>
                      <a:pt x="11120" y="2"/>
                    </a:moveTo>
                    <a:lnTo>
                      <a:pt x="11120" y="2"/>
                    </a:lnTo>
                    <a:cubicBezTo>
                      <a:pt x="11121" y="2"/>
                      <a:pt x="11122" y="3"/>
                      <a:pt x="11122" y="4"/>
                    </a:cubicBezTo>
                    <a:cubicBezTo>
                      <a:pt x="11122" y="6"/>
                      <a:pt x="11121" y="6"/>
                      <a:pt x="11120" y="6"/>
                    </a:cubicBezTo>
                    <a:lnTo>
                      <a:pt x="11120" y="6"/>
                    </a:lnTo>
                    <a:cubicBezTo>
                      <a:pt x="11118" y="6"/>
                      <a:pt x="11118" y="6"/>
                      <a:pt x="11118" y="4"/>
                    </a:cubicBezTo>
                    <a:cubicBezTo>
                      <a:pt x="11118" y="3"/>
                      <a:pt x="11118" y="2"/>
                      <a:pt x="11120" y="2"/>
                    </a:cubicBezTo>
                    <a:close/>
                    <a:moveTo>
                      <a:pt x="11128" y="2"/>
                    </a:moveTo>
                    <a:lnTo>
                      <a:pt x="11128" y="2"/>
                    </a:lnTo>
                    <a:cubicBezTo>
                      <a:pt x="11129" y="2"/>
                      <a:pt x="11130" y="3"/>
                      <a:pt x="11130" y="4"/>
                    </a:cubicBezTo>
                    <a:cubicBezTo>
                      <a:pt x="11130" y="6"/>
                      <a:pt x="11129" y="6"/>
                      <a:pt x="11128" y="6"/>
                    </a:cubicBezTo>
                    <a:lnTo>
                      <a:pt x="11128" y="6"/>
                    </a:lnTo>
                    <a:cubicBezTo>
                      <a:pt x="11126" y="6"/>
                      <a:pt x="11126" y="6"/>
                      <a:pt x="11126" y="4"/>
                    </a:cubicBezTo>
                    <a:cubicBezTo>
                      <a:pt x="11126" y="3"/>
                      <a:pt x="11126" y="2"/>
                      <a:pt x="11128" y="2"/>
                    </a:cubicBezTo>
                    <a:close/>
                    <a:moveTo>
                      <a:pt x="11136" y="2"/>
                    </a:moveTo>
                    <a:lnTo>
                      <a:pt x="11136" y="2"/>
                    </a:lnTo>
                    <a:cubicBezTo>
                      <a:pt x="11137" y="2"/>
                      <a:pt x="11138" y="3"/>
                      <a:pt x="11138" y="5"/>
                    </a:cubicBezTo>
                    <a:cubicBezTo>
                      <a:pt x="11138" y="6"/>
                      <a:pt x="11137" y="7"/>
                      <a:pt x="11136" y="7"/>
                    </a:cubicBezTo>
                    <a:lnTo>
                      <a:pt x="11136" y="7"/>
                    </a:lnTo>
                    <a:cubicBezTo>
                      <a:pt x="11134" y="7"/>
                      <a:pt x="11134" y="6"/>
                      <a:pt x="11134" y="5"/>
                    </a:cubicBezTo>
                    <a:cubicBezTo>
                      <a:pt x="11134" y="3"/>
                      <a:pt x="11134" y="2"/>
                      <a:pt x="11136" y="2"/>
                    </a:cubicBezTo>
                    <a:close/>
                    <a:moveTo>
                      <a:pt x="11144" y="3"/>
                    </a:moveTo>
                    <a:lnTo>
                      <a:pt x="11144" y="3"/>
                    </a:lnTo>
                    <a:cubicBezTo>
                      <a:pt x="11145" y="3"/>
                      <a:pt x="11146" y="3"/>
                      <a:pt x="11146" y="5"/>
                    </a:cubicBezTo>
                    <a:cubicBezTo>
                      <a:pt x="11146" y="6"/>
                      <a:pt x="11145" y="7"/>
                      <a:pt x="11144" y="7"/>
                    </a:cubicBezTo>
                    <a:lnTo>
                      <a:pt x="11144" y="7"/>
                    </a:lnTo>
                    <a:cubicBezTo>
                      <a:pt x="11143" y="7"/>
                      <a:pt x="11142" y="6"/>
                      <a:pt x="11142" y="5"/>
                    </a:cubicBezTo>
                    <a:cubicBezTo>
                      <a:pt x="11142" y="3"/>
                      <a:pt x="11143" y="3"/>
                      <a:pt x="11144" y="3"/>
                    </a:cubicBezTo>
                    <a:close/>
                    <a:moveTo>
                      <a:pt x="11152" y="3"/>
                    </a:moveTo>
                    <a:lnTo>
                      <a:pt x="11152" y="3"/>
                    </a:lnTo>
                    <a:cubicBezTo>
                      <a:pt x="11153" y="3"/>
                      <a:pt x="11154" y="3"/>
                      <a:pt x="11154" y="5"/>
                    </a:cubicBezTo>
                    <a:cubicBezTo>
                      <a:pt x="11154" y="6"/>
                      <a:pt x="11153" y="7"/>
                      <a:pt x="11152" y="7"/>
                    </a:cubicBezTo>
                    <a:lnTo>
                      <a:pt x="11152" y="7"/>
                    </a:lnTo>
                    <a:cubicBezTo>
                      <a:pt x="11151" y="7"/>
                      <a:pt x="11150" y="6"/>
                      <a:pt x="11150" y="5"/>
                    </a:cubicBezTo>
                    <a:cubicBezTo>
                      <a:pt x="11150" y="3"/>
                      <a:pt x="11151" y="3"/>
                      <a:pt x="11152" y="3"/>
                    </a:cubicBezTo>
                    <a:close/>
                    <a:moveTo>
                      <a:pt x="11160" y="3"/>
                    </a:moveTo>
                    <a:lnTo>
                      <a:pt x="11160" y="3"/>
                    </a:lnTo>
                    <a:cubicBezTo>
                      <a:pt x="11161" y="3"/>
                      <a:pt x="11162" y="3"/>
                      <a:pt x="11162" y="5"/>
                    </a:cubicBezTo>
                    <a:cubicBezTo>
                      <a:pt x="11162" y="6"/>
                      <a:pt x="11161" y="7"/>
                      <a:pt x="11160" y="7"/>
                    </a:cubicBezTo>
                    <a:lnTo>
                      <a:pt x="11160" y="7"/>
                    </a:lnTo>
                    <a:cubicBezTo>
                      <a:pt x="11159" y="7"/>
                      <a:pt x="11158" y="6"/>
                      <a:pt x="11158" y="5"/>
                    </a:cubicBezTo>
                    <a:cubicBezTo>
                      <a:pt x="11158" y="3"/>
                      <a:pt x="11159" y="3"/>
                      <a:pt x="11160" y="3"/>
                    </a:cubicBezTo>
                    <a:close/>
                    <a:moveTo>
                      <a:pt x="11168" y="3"/>
                    </a:moveTo>
                    <a:lnTo>
                      <a:pt x="11168" y="3"/>
                    </a:lnTo>
                    <a:cubicBezTo>
                      <a:pt x="11169" y="3"/>
                      <a:pt x="11170" y="3"/>
                      <a:pt x="11170" y="5"/>
                    </a:cubicBezTo>
                    <a:cubicBezTo>
                      <a:pt x="11170" y="6"/>
                      <a:pt x="11169" y="7"/>
                      <a:pt x="11168" y="7"/>
                    </a:cubicBezTo>
                    <a:lnTo>
                      <a:pt x="11168" y="7"/>
                    </a:lnTo>
                    <a:cubicBezTo>
                      <a:pt x="11167" y="7"/>
                      <a:pt x="11166" y="6"/>
                      <a:pt x="11166" y="5"/>
                    </a:cubicBezTo>
                    <a:cubicBezTo>
                      <a:pt x="11166" y="3"/>
                      <a:pt x="11167" y="3"/>
                      <a:pt x="11168" y="3"/>
                    </a:cubicBezTo>
                    <a:close/>
                    <a:moveTo>
                      <a:pt x="11176" y="3"/>
                    </a:moveTo>
                    <a:lnTo>
                      <a:pt x="11176" y="3"/>
                    </a:lnTo>
                    <a:cubicBezTo>
                      <a:pt x="11177" y="3"/>
                      <a:pt x="11178" y="3"/>
                      <a:pt x="11178" y="5"/>
                    </a:cubicBezTo>
                    <a:cubicBezTo>
                      <a:pt x="11178" y="6"/>
                      <a:pt x="11177" y="7"/>
                      <a:pt x="11176" y="7"/>
                    </a:cubicBezTo>
                    <a:lnTo>
                      <a:pt x="11176" y="7"/>
                    </a:lnTo>
                    <a:cubicBezTo>
                      <a:pt x="11175" y="7"/>
                      <a:pt x="11174" y="6"/>
                      <a:pt x="11174" y="5"/>
                    </a:cubicBezTo>
                    <a:cubicBezTo>
                      <a:pt x="11174" y="3"/>
                      <a:pt x="11175" y="3"/>
                      <a:pt x="11176" y="3"/>
                    </a:cubicBezTo>
                    <a:close/>
                    <a:moveTo>
                      <a:pt x="11184" y="3"/>
                    </a:moveTo>
                    <a:lnTo>
                      <a:pt x="11184" y="3"/>
                    </a:lnTo>
                    <a:cubicBezTo>
                      <a:pt x="11185" y="3"/>
                      <a:pt x="11186" y="3"/>
                      <a:pt x="11186" y="5"/>
                    </a:cubicBezTo>
                    <a:cubicBezTo>
                      <a:pt x="11186" y="6"/>
                      <a:pt x="11185" y="7"/>
                      <a:pt x="11184" y="7"/>
                    </a:cubicBezTo>
                    <a:lnTo>
                      <a:pt x="11184" y="7"/>
                    </a:lnTo>
                    <a:cubicBezTo>
                      <a:pt x="11183" y="7"/>
                      <a:pt x="11182" y="6"/>
                      <a:pt x="11182" y="5"/>
                    </a:cubicBezTo>
                    <a:cubicBezTo>
                      <a:pt x="11182" y="3"/>
                      <a:pt x="11183" y="3"/>
                      <a:pt x="11184" y="3"/>
                    </a:cubicBezTo>
                    <a:close/>
                    <a:moveTo>
                      <a:pt x="11192" y="3"/>
                    </a:moveTo>
                    <a:lnTo>
                      <a:pt x="11192" y="3"/>
                    </a:lnTo>
                    <a:cubicBezTo>
                      <a:pt x="11193" y="3"/>
                      <a:pt x="11194" y="3"/>
                      <a:pt x="11194" y="5"/>
                    </a:cubicBezTo>
                    <a:cubicBezTo>
                      <a:pt x="11194" y="6"/>
                      <a:pt x="11193" y="7"/>
                      <a:pt x="11192" y="7"/>
                    </a:cubicBezTo>
                    <a:lnTo>
                      <a:pt x="11192" y="7"/>
                    </a:lnTo>
                    <a:cubicBezTo>
                      <a:pt x="11191" y="7"/>
                      <a:pt x="11190" y="6"/>
                      <a:pt x="11190" y="5"/>
                    </a:cubicBezTo>
                    <a:cubicBezTo>
                      <a:pt x="11190" y="3"/>
                      <a:pt x="11191" y="3"/>
                      <a:pt x="11192" y="3"/>
                    </a:cubicBezTo>
                    <a:close/>
                    <a:moveTo>
                      <a:pt x="11200" y="3"/>
                    </a:moveTo>
                    <a:lnTo>
                      <a:pt x="11200" y="3"/>
                    </a:lnTo>
                    <a:cubicBezTo>
                      <a:pt x="11201" y="3"/>
                      <a:pt x="11202" y="3"/>
                      <a:pt x="11202" y="5"/>
                    </a:cubicBezTo>
                    <a:cubicBezTo>
                      <a:pt x="11202" y="6"/>
                      <a:pt x="11201" y="7"/>
                      <a:pt x="11200" y="7"/>
                    </a:cubicBezTo>
                    <a:lnTo>
                      <a:pt x="11200" y="7"/>
                    </a:lnTo>
                    <a:cubicBezTo>
                      <a:pt x="11199" y="7"/>
                      <a:pt x="11198" y="6"/>
                      <a:pt x="11198" y="5"/>
                    </a:cubicBezTo>
                    <a:cubicBezTo>
                      <a:pt x="11198" y="3"/>
                      <a:pt x="11199" y="3"/>
                      <a:pt x="11200" y="3"/>
                    </a:cubicBezTo>
                    <a:close/>
                    <a:moveTo>
                      <a:pt x="11208" y="3"/>
                    </a:moveTo>
                    <a:lnTo>
                      <a:pt x="11208" y="3"/>
                    </a:lnTo>
                    <a:cubicBezTo>
                      <a:pt x="11209" y="3"/>
                      <a:pt x="11210" y="3"/>
                      <a:pt x="11210" y="5"/>
                    </a:cubicBezTo>
                    <a:cubicBezTo>
                      <a:pt x="11210" y="6"/>
                      <a:pt x="11209" y="7"/>
                      <a:pt x="11208" y="7"/>
                    </a:cubicBezTo>
                    <a:lnTo>
                      <a:pt x="11208" y="7"/>
                    </a:lnTo>
                    <a:cubicBezTo>
                      <a:pt x="11207" y="7"/>
                      <a:pt x="11206" y="6"/>
                      <a:pt x="11206" y="5"/>
                    </a:cubicBezTo>
                    <a:cubicBezTo>
                      <a:pt x="11206" y="3"/>
                      <a:pt x="11207" y="3"/>
                      <a:pt x="11208" y="3"/>
                    </a:cubicBezTo>
                    <a:close/>
                    <a:moveTo>
                      <a:pt x="11216" y="3"/>
                    </a:moveTo>
                    <a:lnTo>
                      <a:pt x="11216" y="3"/>
                    </a:lnTo>
                    <a:cubicBezTo>
                      <a:pt x="11217" y="3"/>
                      <a:pt x="11218" y="3"/>
                      <a:pt x="11218" y="5"/>
                    </a:cubicBezTo>
                    <a:cubicBezTo>
                      <a:pt x="11218" y="6"/>
                      <a:pt x="11217" y="7"/>
                      <a:pt x="11216" y="7"/>
                    </a:cubicBezTo>
                    <a:lnTo>
                      <a:pt x="11216" y="7"/>
                    </a:lnTo>
                    <a:cubicBezTo>
                      <a:pt x="11215" y="7"/>
                      <a:pt x="11214" y="6"/>
                      <a:pt x="11214" y="5"/>
                    </a:cubicBezTo>
                    <a:cubicBezTo>
                      <a:pt x="11214" y="3"/>
                      <a:pt x="11215" y="3"/>
                      <a:pt x="11216" y="3"/>
                    </a:cubicBezTo>
                    <a:close/>
                    <a:moveTo>
                      <a:pt x="11224" y="3"/>
                    </a:moveTo>
                    <a:lnTo>
                      <a:pt x="11224" y="3"/>
                    </a:lnTo>
                    <a:cubicBezTo>
                      <a:pt x="11225" y="3"/>
                      <a:pt x="11226" y="3"/>
                      <a:pt x="11226" y="5"/>
                    </a:cubicBezTo>
                    <a:cubicBezTo>
                      <a:pt x="11226" y="6"/>
                      <a:pt x="11225" y="7"/>
                      <a:pt x="11224" y="7"/>
                    </a:cubicBezTo>
                    <a:lnTo>
                      <a:pt x="11224" y="7"/>
                    </a:lnTo>
                    <a:cubicBezTo>
                      <a:pt x="11223" y="7"/>
                      <a:pt x="11222" y="6"/>
                      <a:pt x="11222" y="5"/>
                    </a:cubicBezTo>
                    <a:cubicBezTo>
                      <a:pt x="11222" y="3"/>
                      <a:pt x="11223" y="3"/>
                      <a:pt x="11224" y="3"/>
                    </a:cubicBezTo>
                    <a:close/>
                    <a:moveTo>
                      <a:pt x="11232" y="3"/>
                    </a:moveTo>
                    <a:lnTo>
                      <a:pt x="11232" y="3"/>
                    </a:lnTo>
                    <a:cubicBezTo>
                      <a:pt x="11233" y="3"/>
                      <a:pt x="11234" y="3"/>
                      <a:pt x="11234" y="5"/>
                    </a:cubicBezTo>
                    <a:cubicBezTo>
                      <a:pt x="11234" y="6"/>
                      <a:pt x="11233" y="7"/>
                      <a:pt x="11232" y="7"/>
                    </a:cubicBezTo>
                    <a:lnTo>
                      <a:pt x="11232" y="7"/>
                    </a:lnTo>
                    <a:cubicBezTo>
                      <a:pt x="11231" y="7"/>
                      <a:pt x="11230" y="6"/>
                      <a:pt x="11230" y="5"/>
                    </a:cubicBezTo>
                    <a:cubicBezTo>
                      <a:pt x="11230" y="3"/>
                      <a:pt x="11231" y="3"/>
                      <a:pt x="11232" y="3"/>
                    </a:cubicBezTo>
                    <a:close/>
                    <a:moveTo>
                      <a:pt x="11240" y="3"/>
                    </a:moveTo>
                    <a:lnTo>
                      <a:pt x="11240" y="3"/>
                    </a:lnTo>
                    <a:cubicBezTo>
                      <a:pt x="11241" y="3"/>
                      <a:pt x="11242" y="3"/>
                      <a:pt x="11242" y="5"/>
                    </a:cubicBezTo>
                    <a:cubicBezTo>
                      <a:pt x="11242" y="6"/>
                      <a:pt x="11241" y="7"/>
                      <a:pt x="11240" y="7"/>
                    </a:cubicBezTo>
                    <a:lnTo>
                      <a:pt x="11240" y="7"/>
                    </a:lnTo>
                    <a:cubicBezTo>
                      <a:pt x="11239" y="7"/>
                      <a:pt x="11238" y="6"/>
                      <a:pt x="11238" y="5"/>
                    </a:cubicBezTo>
                    <a:cubicBezTo>
                      <a:pt x="11238" y="3"/>
                      <a:pt x="11239" y="3"/>
                      <a:pt x="11240" y="3"/>
                    </a:cubicBezTo>
                    <a:close/>
                    <a:moveTo>
                      <a:pt x="11248" y="3"/>
                    </a:moveTo>
                    <a:lnTo>
                      <a:pt x="11248" y="3"/>
                    </a:lnTo>
                    <a:cubicBezTo>
                      <a:pt x="11249" y="3"/>
                      <a:pt x="11250" y="3"/>
                      <a:pt x="11250" y="5"/>
                    </a:cubicBezTo>
                    <a:cubicBezTo>
                      <a:pt x="11250" y="6"/>
                      <a:pt x="11249" y="7"/>
                      <a:pt x="11248" y="7"/>
                    </a:cubicBezTo>
                    <a:lnTo>
                      <a:pt x="11248" y="7"/>
                    </a:lnTo>
                    <a:cubicBezTo>
                      <a:pt x="11247" y="7"/>
                      <a:pt x="11246" y="6"/>
                      <a:pt x="11246" y="5"/>
                    </a:cubicBezTo>
                    <a:cubicBezTo>
                      <a:pt x="11246" y="3"/>
                      <a:pt x="11247" y="3"/>
                      <a:pt x="11248" y="3"/>
                    </a:cubicBezTo>
                    <a:close/>
                    <a:moveTo>
                      <a:pt x="11256" y="3"/>
                    </a:moveTo>
                    <a:lnTo>
                      <a:pt x="11256" y="3"/>
                    </a:lnTo>
                    <a:cubicBezTo>
                      <a:pt x="11257" y="3"/>
                      <a:pt x="11258" y="3"/>
                      <a:pt x="11258" y="5"/>
                    </a:cubicBezTo>
                    <a:cubicBezTo>
                      <a:pt x="11258" y="6"/>
                      <a:pt x="11257" y="7"/>
                      <a:pt x="11256" y="7"/>
                    </a:cubicBezTo>
                    <a:lnTo>
                      <a:pt x="11256" y="7"/>
                    </a:lnTo>
                    <a:cubicBezTo>
                      <a:pt x="11255" y="7"/>
                      <a:pt x="11254" y="6"/>
                      <a:pt x="11254" y="5"/>
                    </a:cubicBezTo>
                    <a:cubicBezTo>
                      <a:pt x="11254" y="3"/>
                      <a:pt x="11255" y="3"/>
                      <a:pt x="11256" y="3"/>
                    </a:cubicBezTo>
                    <a:close/>
                    <a:moveTo>
                      <a:pt x="11264" y="3"/>
                    </a:moveTo>
                    <a:lnTo>
                      <a:pt x="11264" y="3"/>
                    </a:lnTo>
                    <a:cubicBezTo>
                      <a:pt x="11265" y="3"/>
                      <a:pt x="11266" y="3"/>
                      <a:pt x="11266" y="5"/>
                    </a:cubicBezTo>
                    <a:cubicBezTo>
                      <a:pt x="11266" y="6"/>
                      <a:pt x="11265" y="7"/>
                      <a:pt x="11264" y="7"/>
                    </a:cubicBezTo>
                    <a:lnTo>
                      <a:pt x="11264" y="7"/>
                    </a:lnTo>
                    <a:cubicBezTo>
                      <a:pt x="11263" y="7"/>
                      <a:pt x="11262" y="6"/>
                      <a:pt x="11262" y="5"/>
                    </a:cubicBezTo>
                    <a:cubicBezTo>
                      <a:pt x="11262" y="3"/>
                      <a:pt x="11263" y="3"/>
                      <a:pt x="11264" y="3"/>
                    </a:cubicBezTo>
                    <a:close/>
                    <a:moveTo>
                      <a:pt x="11272" y="3"/>
                    </a:moveTo>
                    <a:lnTo>
                      <a:pt x="11272" y="3"/>
                    </a:lnTo>
                    <a:cubicBezTo>
                      <a:pt x="11273" y="3"/>
                      <a:pt x="11274" y="3"/>
                      <a:pt x="11274" y="5"/>
                    </a:cubicBezTo>
                    <a:cubicBezTo>
                      <a:pt x="11274" y="6"/>
                      <a:pt x="11273" y="7"/>
                      <a:pt x="11272" y="7"/>
                    </a:cubicBezTo>
                    <a:lnTo>
                      <a:pt x="11272" y="7"/>
                    </a:lnTo>
                    <a:cubicBezTo>
                      <a:pt x="11271" y="7"/>
                      <a:pt x="11270" y="6"/>
                      <a:pt x="11270" y="5"/>
                    </a:cubicBezTo>
                    <a:cubicBezTo>
                      <a:pt x="11270" y="3"/>
                      <a:pt x="11271" y="3"/>
                      <a:pt x="11272" y="3"/>
                    </a:cubicBezTo>
                    <a:close/>
                    <a:moveTo>
                      <a:pt x="11280" y="3"/>
                    </a:moveTo>
                    <a:lnTo>
                      <a:pt x="11280" y="3"/>
                    </a:lnTo>
                    <a:cubicBezTo>
                      <a:pt x="11281" y="3"/>
                      <a:pt x="11282" y="3"/>
                      <a:pt x="11282" y="5"/>
                    </a:cubicBezTo>
                    <a:cubicBezTo>
                      <a:pt x="11282" y="6"/>
                      <a:pt x="11281" y="7"/>
                      <a:pt x="11280" y="7"/>
                    </a:cubicBezTo>
                    <a:lnTo>
                      <a:pt x="11280" y="7"/>
                    </a:lnTo>
                    <a:cubicBezTo>
                      <a:pt x="11279" y="7"/>
                      <a:pt x="11278" y="6"/>
                      <a:pt x="11278" y="5"/>
                    </a:cubicBezTo>
                    <a:cubicBezTo>
                      <a:pt x="11278" y="3"/>
                      <a:pt x="11279" y="3"/>
                      <a:pt x="11280" y="3"/>
                    </a:cubicBezTo>
                    <a:close/>
                    <a:moveTo>
                      <a:pt x="11288" y="3"/>
                    </a:moveTo>
                    <a:lnTo>
                      <a:pt x="11288" y="3"/>
                    </a:lnTo>
                    <a:cubicBezTo>
                      <a:pt x="11289" y="3"/>
                      <a:pt x="11290" y="3"/>
                      <a:pt x="11290" y="5"/>
                    </a:cubicBezTo>
                    <a:cubicBezTo>
                      <a:pt x="11290" y="6"/>
                      <a:pt x="11289" y="7"/>
                      <a:pt x="11288" y="7"/>
                    </a:cubicBezTo>
                    <a:lnTo>
                      <a:pt x="11288" y="7"/>
                    </a:lnTo>
                    <a:cubicBezTo>
                      <a:pt x="11287" y="7"/>
                      <a:pt x="11286" y="6"/>
                      <a:pt x="11286" y="5"/>
                    </a:cubicBezTo>
                    <a:cubicBezTo>
                      <a:pt x="11286" y="3"/>
                      <a:pt x="11287" y="3"/>
                      <a:pt x="11288" y="3"/>
                    </a:cubicBezTo>
                    <a:close/>
                    <a:moveTo>
                      <a:pt x="11296" y="3"/>
                    </a:moveTo>
                    <a:lnTo>
                      <a:pt x="11296" y="3"/>
                    </a:lnTo>
                    <a:cubicBezTo>
                      <a:pt x="11297" y="3"/>
                      <a:pt x="11298" y="3"/>
                      <a:pt x="11298" y="5"/>
                    </a:cubicBezTo>
                    <a:cubicBezTo>
                      <a:pt x="11298" y="6"/>
                      <a:pt x="11297" y="7"/>
                      <a:pt x="11296" y="7"/>
                    </a:cubicBezTo>
                    <a:lnTo>
                      <a:pt x="11296" y="7"/>
                    </a:lnTo>
                    <a:cubicBezTo>
                      <a:pt x="11295" y="7"/>
                      <a:pt x="11294" y="6"/>
                      <a:pt x="11294" y="5"/>
                    </a:cubicBezTo>
                    <a:cubicBezTo>
                      <a:pt x="11294" y="3"/>
                      <a:pt x="11295" y="3"/>
                      <a:pt x="11296" y="3"/>
                    </a:cubicBezTo>
                    <a:close/>
                    <a:moveTo>
                      <a:pt x="11304" y="3"/>
                    </a:moveTo>
                    <a:lnTo>
                      <a:pt x="11304" y="3"/>
                    </a:lnTo>
                    <a:cubicBezTo>
                      <a:pt x="11305" y="3"/>
                      <a:pt x="11306" y="3"/>
                      <a:pt x="11306" y="5"/>
                    </a:cubicBezTo>
                    <a:cubicBezTo>
                      <a:pt x="11306" y="6"/>
                      <a:pt x="11305" y="7"/>
                      <a:pt x="11304" y="7"/>
                    </a:cubicBezTo>
                    <a:lnTo>
                      <a:pt x="11304" y="7"/>
                    </a:lnTo>
                    <a:cubicBezTo>
                      <a:pt x="11303" y="7"/>
                      <a:pt x="11302" y="6"/>
                      <a:pt x="11302" y="5"/>
                    </a:cubicBezTo>
                    <a:cubicBezTo>
                      <a:pt x="11302" y="3"/>
                      <a:pt x="11303" y="3"/>
                      <a:pt x="11304" y="3"/>
                    </a:cubicBezTo>
                    <a:close/>
                    <a:moveTo>
                      <a:pt x="11312" y="3"/>
                    </a:moveTo>
                    <a:lnTo>
                      <a:pt x="11312" y="3"/>
                    </a:lnTo>
                    <a:cubicBezTo>
                      <a:pt x="11313" y="3"/>
                      <a:pt x="11314" y="3"/>
                      <a:pt x="11314" y="5"/>
                    </a:cubicBezTo>
                    <a:cubicBezTo>
                      <a:pt x="11314" y="6"/>
                      <a:pt x="11313" y="7"/>
                      <a:pt x="11312" y="7"/>
                    </a:cubicBezTo>
                    <a:lnTo>
                      <a:pt x="11312" y="7"/>
                    </a:lnTo>
                    <a:cubicBezTo>
                      <a:pt x="11311" y="7"/>
                      <a:pt x="11310" y="6"/>
                      <a:pt x="11310" y="5"/>
                    </a:cubicBezTo>
                    <a:cubicBezTo>
                      <a:pt x="11310" y="3"/>
                      <a:pt x="11311" y="3"/>
                      <a:pt x="11312" y="3"/>
                    </a:cubicBezTo>
                    <a:close/>
                    <a:moveTo>
                      <a:pt x="11320" y="3"/>
                    </a:moveTo>
                    <a:lnTo>
                      <a:pt x="11320" y="3"/>
                    </a:lnTo>
                    <a:cubicBezTo>
                      <a:pt x="11321" y="3"/>
                      <a:pt x="11322" y="3"/>
                      <a:pt x="11322" y="5"/>
                    </a:cubicBezTo>
                    <a:cubicBezTo>
                      <a:pt x="11322" y="6"/>
                      <a:pt x="11321" y="7"/>
                      <a:pt x="11320" y="7"/>
                    </a:cubicBezTo>
                    <a:lnTo>
                      <a:pt x="11320" y="7"/>
                    </a:lnTo>
                    <a:cubicBezTo>
                      <a:pt x="11319" y="7"/>
                      <a:pt x="11318" y="6"/>
                      <a:pt x="11318" y="5"/>
                    </a:cubicBezTo>
                    <a:cubicBezTo>
                      <a:pt x="11318" y="3"/>
                      <a:pt x="11319" y="3"/>
                      <a:pt x="11320" y="3"/>
                    </a:cubicBezTo>
                    <a:close/>
                    <a:moveTo>
                      <a:pt x="11328" y="3"/>
                    </a:moveTo>
                    <a:lnTo>
                      <a:pt x="11328" y="3"/>
                    </a:lnTo>
                    <a:cubicBezTo>
                      <a:pt x="11329" y="3"/>
                      <a:pt x="11330" y="3"/>
                      <a:pt x="11330" y="5"/>
                    </a:cubicBezTo>
                    <a:cubicBezTo>
                      <a:pt x="11330" y="6"/>
                      <a:pt x="11329" y="7"/>
                      <a:pt x="11328" y="7"/>
                    </a:cubicBezTo>
                    <a:lnTo>
                      <a:pt x="11328" y="7"/>
                    </a:lnTo>
                    <a:cubicBezTo>
                      <a:pt x="11327" y="7"/>
                      <a:pt x="11326" y="6"/>
                      <a:pt x="11326" y="5"/>
                    </a:cubicBezTo>
                    <a:cubicBezTo>
                      <a:pt x="11326" y="3"/>
                      <a:pt x="11327" y="3"/>
                      <a:pt x="11328" y="3"/>
                    </a:cubicBezTo>
                    <a:close/>
                    <a:moveTo>
                      <a:pt x="11336" y="3"/>
                    </a:moveTo>
                    <a:lnTo>
                      <a:pt x="11336" y="3"/>
                    </a:lnTo>
                    <a:cubicBezTo>
                      <a:pt x="11337" y="3"/>
                      <a:pt x="11338" y="3"/>
                      <a:pt x="11338" y="5"/>
                    </a:cubicBezTo>
                    <a:cubicBezTo>
                      <a:pt x="11338" y="6"/>
                      <a:pt x="11337" y="7"/>
                      <a:pt x="11336" y="7"/>
                    </a:cubicBezTo>
                    <a:lnTo>
                      <a:pt x="11336" y="7"/>
                    </a:lnTo>
                    <a:cubicBezTo>
                      <a:pt x="11335" y="7"/>
                      <a:pt x="11334" y="6"/>
                      <a:pt x="11334" y="5"/>
                    </a:cubicBezTo>
                    <a:cubicBezTo>
                      <a:pt x="11334" y="3"/>
                      <a:pt x="11335" y="3"/>
                      <a:pt x="11336" y="3"/>
                    </a:cubicBezTo>
                    <a:close/>
                    <a:moveTo>
                      <a:pt x="11344" y="3"/>
                    </a:moveTo>
                    <a:lnTo>
                      <a:pt x="11344" y="3"/>
                    </a:lnTo>
                    <a:cubicBezTo>
                      <a:pt x="11345" y="3"/>
                      <a:pt x="11346" y="3"/>
                      <a:pt x="11346" y="5"/>
                    </a:cubicBezTo>
                    <a:cubicBezTo>
                      <a:pt x="11346" y="6"/>
                      <a:pt x="11345" y="7"/>
                      <a:pt x="11344" y="7"/>
                    </a:cubicBezTo>
                    <a:lnTo>
                      <a:pt x="11344" y="7"/>
                    </a:lnTo>
                    <a:cubicBezTo>
                      <a:pt x="11343" y="7"/>
                      <a:pt x="11342" y="6"/>
                      <a:pt x="11342" y="5"/>
                    </a:cubicBezTo>
                    <a:cubicBezTo>
                      <a:pt x="11342" y="3"/>
                      <a:pt x="11343" y="3"/>
                      <a:pt x="11344" y="3"/>
                    </a:cubicBezTo>
                    <a:close/>
                    <a:moveTo>
                      <a:pt x="11352" y="3"/>
                    </a:moveTo>
                    <a:lnTo>
                      <a:pt x="11352" y="3"/>
                    </a:lnTo>
                    <a:cubicBezTo>
                      <a:pt x="11353" y="3"/>
                      <a:pt x="11354" y="3"/>
                      <a:pt x="11354" y="5"/>
                    </a:cubicBezTo>
                    <a:cubicBezTo>
                      <a:pt x="11354" y="6"/>
                      <a:pt x="11353" y="7"/>
                      <a:pt x="11352" y="7"/>
                    </a:cubicBezTo>
                    <a:lnTo>
                      <a:pt x="11352" y="7"/>
                    </a:lnTo>
                    <a:cubicBezTo>
                      <a:pt x="11351" y="7"/>
                      <a:pt x="11350" y="6"/>
                      <a:pt x="11350" y="5"/>
                    </a:cubicBezTo>
                    <a:cubicBezTo>
                      <a:pt x="11350" y="3"/>
                      <a:pt x="11351" y="3"/>
                      <a:pt x="11352" y="3"/>
                    </a:cubicBezTo>
                    <a:close/>
                    <a:moveTo>
                      <a:pt x="11360" y="3"/>
                    </a:moveTo>
                    <a:lnTo>
                      <a:pt x="11360" y="3"/>
                    </a:lnTo>
                    <a:cubicBezTo>
                      <a:pt x="11361" y="3"/>
                      <a:pt x="11362" y="3"/>
                      <a:pt x="11362" y="5"/>
                    </a:cubicBezTo>
                    <a:cubicBezTo>
                      <a:pt x="11362" y="6"/>
                      <a:pt x="11361" y="7"/>
                      <a:pt x="11360" y="7"/>
                    </a:cubicBezTo>
                    <a:lnTo>
                      <a:pt x="11360" y="7"/>
                    </a:lnTo>
                    <a:cubicBezTo>
                      <a:pt x="11359" y="7"/>
                      <a:pt x="11358" y="6"/>
                      <a:pt x="11358" y="5"/>
                    </a:cubicBezTo>
                    <a:cubicBezTo>
                      <a:pt x="11358" y="3"/>
                      <a:pt x="11359" y="3"/>
                      <a:pt x="11360" y="3"/>
                    </a:cubicBezTo>
                    <a:close/>
                    <a:moveTo>
                      <a:pt x="11368" y="3"/>
                    </a:moveTo>
                    <a:lnTo>
                      <a:pt x="11368" y="3"/>
                    </a:lnTo>
                    <a:cubicBezTo>
                      <a:pt x="11369" y="3"/>
                      <a:pt x="11370" y="3"/>
                      <a:pt x="11370" y="5"/>
                    </a:cubicBezTo>
                    <a:cubicBezTo>
                      <a:pt x="11370" y="6"/>
                      <a:pt x="11369" y="7"/>
                      <a:pt x="11368" y="7"/>
                    </a:cubicBezTo>
                    <a:lnTo>
                      <a:pt x="11368" y="7"/>
                    </a:lnTo>
                    <a:cubicBezTo>
                      <a:pt x="11367" y="7"/>
                      <a:pt x="11366" y="6"/>
                      <a:pt x="11366" y="5"/>
                    </a:cubicBezTo>
                    <a:cubicBezTo>
                      <a:pt x="11366" y="3"/>
                      <a:pt x="11367" y="3"/>
                      <a:pt x="11368" y="3"/>
                    </a:cubicBezTo>
                    <a:close/>
                    <a:moveTo>
                      <a:pt x="11376" y="3"/>
                    </a:moveTo>
                    <a:lnTo>
                      <a:pt x="11376" y="3"/>
                    </a:lnTo>
                    <a:cubicBezTo>
                      <a:pt x="11377" y="3"/>
                      <a:pt x="11378" y="3"/>
                      <a:pt x="11378" y="5"/>
                    </a:cubicBezTo>
                    <a:cubicBezTo>
                      <a:pt x="11378" y="6"/>
                      <a:pt x="11377" y="7"/>
                      <a:pt x="11376" y="7"/>
                    </a:cubicBezTo>
                    <a:lnTo>
                      <a:pt x="11376" y="7"/>
                    </a:lnTo>
                    <a:cubicBezTo>
                      <a:pt x="11375" y="7"/>
                      <a:pt x="11374" y="6"/>
                      <a:pt x="11374" y="5"/>
                    </a:cubicBezTo>
                    <a:cubicBezTo>
                      <a:pt x="11374" y="3"/>
                      <a:pt x="11375" y="3"/>
                      <a:pt x="11376" y="3"/>
                    </a:cubicBezTo>
                    <a:close/>
                    <a:moveTo>
                      <a:pt x="11384" y="3"/>
                    </a:moveTo>
                    <a:lnTo>
                      <a:pt x="11384" y="3"/>
                    </a:lnTo>
                    <a:cubicBezTo>
                      <a:pt x="11385" y="3"/>
                      <a:pt x="11386" y="3"/>
                      <a:pt x="11386" y="5"/>
                    </a:cubicBezTo>
                    <a:cubicBezTo>
                      <a:pt x="11386" y="6"/>
                      <a:pt x="11385" y="7"/>
                      <a:pt x="11384" y="7"/>
                    </a:cubicBezTo>
                    <a:lnTo>
                      <a:pt x="11384" y="7"/>
                    </a:lnTo>
                    <a:cubicBezTo>
                      <a:pt x="11383" y="7"/>
                      <a:pt x="11382" y="6"/>
                      <a:pt x="11382" y="5"/>
                    </a:cubicBezTo>
                    <a:cubicBezTo>
                      <a:pt x="11382" y="3"/>
                      <a:pt x="11383" y="3"/>
                      <a:pt x="11384" y="3"/>
                    </a:cubicBezTo>
                    <a:close/>
                    <a:moveTo>
                      <a:pt x="11392" y="3"/>
                    </a:moveTo>
                    <a:lnTo>
                      <a:pt x="11392" y="3"/>
                    </a:lnTo>
                    <a:cubicBezTo>
                      <a:pt x="11393" y="3"/>
                      <a:pt x="11394" y="3"/>
                      <a:pt x="11394" y="5"/>
                    </a:cubicBezTo>
                    <a:cubicBezTo>
                      <a:pt x="11394" y="6"/>
                      <a:pt x="11393" y="7"/>
                      <a:pt x="11392" y="7"/>
                    </a:cubicBezTo>
                    <a:lnTo>
                      <a:pt x="11392" y="7"/>
                    </a:lnTo>
                    <a:cubicBezTo>
                      <a:pt x="11391" y="7"/>
                      <a:pt x="11390" y="6"/>
                      <a:pt x="11390" y="5"/>
                    </a:cubicBezTo>
                    <a:cubicBezTo>
                      <a:pt x="11390" y="3"/>
                      <a:pt x="11391" y="3"/>
                      <a:pt x="11392" y="3"/>
                    </a:cubicBezTo>
                    <a:close/>
                    <a:moveTo>
                      <a:pt x="11400" y="3"/>
                    </a:moveTo>
                    <a:lnTo>
                      <a:pt x="11400" y="3"/>
                    </a:lnTo>
                    <a:cubicBezTo>
                      <a:pt x="11401" y="3"/>
                      <a:pt x="11402" y="3"/>
                      <a:pt x="11402" y="5"/>
                    </a:cubicBezTo>
                    <a:cubicBezTo>
                      <a:pt x="11402" y="6"/>
                      <a:pt x="11401" y="7"/>
                      <a:pt x="11400" y="7"/>
                    </a:cubicBezTo>
                    <a:lnTo>
                      <a:pt x="11400" y="7"/>
                    </a:lnTo>
                    <a:cubicBezTo>
                      <a:pt x="11399" y="7"/>
                      <a:pt x="11398" y="6"/>
                      <a:pt x="11398" y="5"/>
                    </a:cubicBezTo>
                    <a:cubicBezTo>
                      <a:pt x="11398" y="3"/>
                      <a:pt x="11399" y="3"/>
                      <a:pt x="11400" y="3"/>
                    </a:cubicBezTo>
                    <a:close/>
                    <a:moveTo>
                      <a:pt x="11408" y="3"/>
                    </a:moveTo>
                    <a:lnTo>
                      <a:pt x="11408" y="3"/>
                    </a:lnTo>
                    <a:cubicBezTo>
                      <a:pt x="11409" y="3"/>
                      <a:pt x="11410" y="3"/>
                      <a:pt x="11410" y="5"/>
                    </a:cubicBezTo>
                    <a:cubicBezTo>
                      <a:pt x="11410" y="6"/>
                      <a:pt x="11409" y="7"/>
                      <a:pt x="11408" y="7"/>
                    </a:cubicBezTo>
                    <a:lnTo>
                      <a:pt x="11408" y="7"/>
                    </a:lnTo>
                    <a:cubicBezTo>
                      <a:pt x="11407" y="7"/>
                      <a:pt x="11406" y="6"/>
                      <a:pt x="11406" y="5"/>
                    </a:cubicBezTo>
                    <a:cubicBezTo>
                      <a:pt x="11406" y="3"/>
                      <a:pt x="11407" y="3"/>
                      <a:pt x="11408" y="3"/>
                    </a:cubicBezTo>
                    <a:close/>
                    <a:moveTo>
                      <a:pt x="11416" y="3"/>
                    </a:moveTo>
                    <a:lnTo>
                      <a:pt x="11416" y="3"/>
                    </a:lnTo>
                    <a:cubicBezTo>
                      <a:pt x="11417" y="3"/>
                      <a:pt x="11418" y="3"/>
                      <a:pt x="11418" y="5"/>
                    </a:cubicBezTo>
                    <a:cubicBezTo>
                      <a:pt x="11418" y="6"/>
                      <a:pt x="11417" y="7"/>
                      <a:pt x="11416" y="7"/>
                    </a:cubicBezTo>
                    <a:lnTo>
                      <a:pt x="11416" y="7"/>
                    </a:lnTo>
                    <a:cubicBezTo>
                      <a:pt x="11415" y="7"/>
                      <a:pt x="11414" y="6"/>
                      <a:pt x="11414" y="5"/>
                    </a:cubicBezTo>
                    <a:cubicBezTo>
                      <a:pt x="11414" y="3"/>
                      <a:pt x="11415" y="3"/>
                      <a:pt x="11416" y="3"/>
                    </a:cubicBezTo>
                    <a:close/>
                    <a:moveTo>
                      <a:pt x="11424" y="3"/>
                    </a:moveTo>
                    <a:lnTo>
                      <a:pt x="11424" y="3"/>
                    </a:lnTo>
                    <a:cubicBezTo>
                      <a:pt x="11425" y="3"/>
                      <a:pt x="11426" y="3"/>
                      <a:pt x="11426" y="5"/>
                    </a:cubicBezTo>
                    <a:cubicBezTo>
                      <a:pt x="11426" y="6"/>
                      <a:pt x="11425" y="7"/>
                      <a:pt x="11424" y="7"/>
                    </a:cubicBezTo>
                    <a:lnTo>
                      <a:pt x="11424" y="7"/>
                    </a:lnTo>
                    <a:cubicBezTo>
                      <a:pt x="11423" y="7"/>
                      <a:pt x="11422" y="6"/>
                      <a:pt x="11422" y="5"/>
                    </a:cubicBezTo>
                    <a:cubicBezTo>
                      <a:pt x="11422" y="3"/>
                      <a:pt x="11423" y="3"/>
                      <a:pt x="11424" y="3"/>
                    </a:cubicBezTo>
                    <a:close/>
                    <a:moveTo>
                      <a:pt x="11432" y="3"/>
                    </a:moveTo>
                    <a:lnTo>
                      <a:pt x="11432" y="3"/>
                    </a:lnTo>
                    <a:cubicBezTo>
                      <a:pt x="11433" y="3"/>
                      <a:pt x="11434" y="3"/>
                      <a:pt x="11434" y="5"/>
                    </a:cubicBezTo>
                    <a:cubicBezTo>
                      <a:pt x="11434" y="6"/>
                      <a:pt x="11433" y="7"/>
                      <a:pt x="11432" y="7"/>
                    </a:cubicBezTo>
                    <a:lnTo>
                      <a:pt x="11432" y="7"/>
                    </a:lnTo>
                    <a:cubicBezTo>
                      <a:pt x="11431" y="7"/>
                      <a:pt x="11430" y="6"/>
                      <a:pt x="11430" y="5"/>
                    </a:cubicBezTo>
                    <a:cubicBezTo>
                      <a:pt x="11430" y="3"/>
                      <a:pt x="11431" y="3"/>
                      <a:pt x="11432" y="3"/>
                    </a:cubicBezTo>
                    <a:close/>
                    <a:moveTo>
                      <a:pt x="11440" y="3"/>
                    </a:moveTo>
                    <a:lnTo>
                      <a:pt x="11440" y="3"/>
                    </a:lnTo>
                    <a:cubicBezTo>
                      <a:pt x="11441" y="3"/>
                      <a:pt x="11442" y="3"/>
                      <a:pt x="11442" y="5"/>
                    </a:cubicBezTo>
                    <a:cubicBezTo>
                      <a:pt x="11442" y="6"/>
                      <a:pt x="11441" y="7"/>
                      <a:pt x="11440" y="7"/>
                    </a:cubicBezTo>
                    <a:lnTo>
                      <a:pt x="11440" y="7"/>
                    </a:lnTo>
                    <a:cubicBezTo>
                      <a:pt x="11439" y="7"/>
                      <a:pt x="11438" y="6"/>
                      <a:pt x="11438" y="5"/>
                    </a:cubicBezTo>
                    <a:cubicBezTo>
                      <a:pt x="11438" y="3"/>
                      <a:pt x="11439" y="3"/>
                      <a:pt x="11440" y="3"/>
                    </a:cubicBezTo>
                    <a:close/>
                    <a:moveTo>
                      <a:pt x="11448" y="3"/>
                    </a:moveTo>
                    <a:lnTo>
                      <a:pt x="11448" y="3"/>
                    </a:lnTo>
                    <a:cubicBezTo>
                      <a:pt x="11449" y="3"/>
                      <a:pt x="11450" y="3"/>
                      <a:pt x="11450" y="5"/>
                    </a:cubicBezTo>
                    <a:cubicBezTo>
                      <a:pt x="11450" y="6"/>
                      <a:pt x="11449" y="7"/>
                      <a:pt x="11448" y="7"/>
                    </a:cubicBezTo>
                    <a:lnTo>
                      <a:pt x="11448" y="7"/>
                    </a:lnTo>
                    <a:cubicBezTo>
                      <a:pt x="11447" y="7"/>
                      <a:pt x="11446" y="6"/>
                      <a:pt x="11446" y="5"/>
                    </a:cubicBezTo>
                    <a:cubicBezTo>
                      <a:pt x="11446" y="3"/>
                      <a:pt x="11447" y="3"/>
                      <a:pt x="11448" y="3"/>
                    </a:cubicBezTo>
                    <a:close/>
                    <a:moveTo>
                      <a:pt x="11456" y="3"/>
                    </a:moveTo>
                    <a:lnTo>
                      <a:pt x="11456" y="3"/>
                    </a:lnTo>
                    <a:cubicBezTo>
                      <a:pt x="11457" y="3"/>
                      <a:pt x="11458" y="3"/>
                      <a:pt x="11458" y="5"/>
                    </a:cubicBezTo>
                    <a:cubicBezTo>
                      <a:pt x="11458" y="6"/>
                      <a:pt x="11457" y="7"/>
                      <a:pt x="11456" y="7"/>
                    </a:cubicBezTo>
                    <a:lnTo>
                      <a:pt x="11456" y="7"/>
                    </a:lnTo>
                    <a:cubicBezTo>
                      <a:pt x="11455" y="7"/>
                      <a:pt x="11454" y="6"/>
                      <a:pt x="11454" y="5"/>
                    </a:cubicBezTo>
                    <a:cubicBezTo>
                      <a:pt x="11454" y="3"/>
                      <a:pt x="11455" y="3"/>
                      <a:pt x="11456" y="3"/>
                    </a:cubicBezTo>
                    <a:close/>
                    <a:moveTo>
                      <a:pt x="11464" y="3"/>
                    </a:moveTo>
                    <a:lnTo>
                      <a:pt x="11464" y="3"/>
                    </a:lnTo>
                    <a:cubicBezTo>
                      <a:pt x="11465" y="3"/>
                      <a:pt x="11466" y="3"/>
                      <a:pt x="11466" y="5"/>
                    </a:cubicBezTo>
                    <a:cubicBezTo>
                      <a:pt x="11466" y="6"/>
                      <a:pt x="11465" y="7"/>
                      <a:pt x="11464" y="7"/>
                    </a:cubicBezTo>
                    <a:lnTo>
                      <a:pt x="11464" y="7"/>
                    </a:lnTo>
                    <a:cubicBezTo>
                      <a:pt x="11463" y="7"/>
                      <a:pt x="11462" y="6"/>
                      <a:pt x="11462" y="5"/>
                    </a:cubicBezTo>
                    <a:cubicBezTo>
                      <a:pt x="11462" y="3"/>
                      <a:pt x="11463" y="3"/>
                      <a:pt x="11464" y="3"/>
                    </a:cubicBezTo>
                    <a:close/>
                    <a:moveTo>
                      <a:pt x="11472" y="3"/>
                    </a:moveTo>
                    <a:lnTo>
                      <a:pt x="11472" y="3"/>
                    </a:lnTo>
                    <a:cubicBezTo>
                      <a:pt x="11473" y="3"/>
                      <a:pt x="11474" y="3"/>
                      <a:pt x="11474" y="5"/>
                    </a:cubicBezTo>
                    <a:cubicBezTo>
                      <a:pt x="11474" y="6"/>
                      <a:pt x="11473" y="7"/>
                      <a:pt x="11472" y="7"/>
                    </a:cubicBezTo>
                    <a:lnTo>
                      <a:pt x="11472" y="7"/>
                    </a:lnTo>
                    <a:cubicBezTo>
                      <a:pt x="11471" y="7"/>
                      <a:pt x="11470" y="6"/>
                      <a:pt x="11470" y="5"/>
                    </a:cubicBezTo>
                    <a:cubicBezTo>
                      <a:pt x="11470" y="3"/>
                      <a:pt x="11471" y="3"/>
                      <a:pt x="11472" y="3"/>
                    </a:cubicBezTo>
                    <a:close/>
                    <a:moveTo>
                      <a:pt x="11480" y="3"/>
                    </a:moveTo>
                    <a:lnTo>
                      <a:pt x="11480" y="3"/>
                    </a:lnTo>
                    <a:cubicBezTo>
                      <a:pt x="11481" y="3"/>
                      <a:pt x="11482" y="3"/>
                      <a:pt x="11482" y="5"/>
                    </a:cubicBezTo>
                    <a:cubicBezTo>
                      <a:pt x="11482" y="6"/>
                      <a:pt x="11481" y="7"/>
                      <a:pt x="11480" y="7"/>
                    </a:cubicBezTo>
                    <a:lnTo>
                      <a:pt x="11480" y="7"/>
                    </a:lnTo>
                    <a:cubicBezTo>
                      <a:pt x="11479" y="7"/>
                      <a:pt x="11478" y="6"/>
                      <a:pt x="11478" y="5"/>
                    </a:cubicBezTo>
                    <a:cubicBezTo>
                      <a:pt x="11478" y="3"/>
                      <a:pt x="11479" y="3"/>
                      <a:pt x="11480" y="3"/>
                    </a:cubicBezTo>
                    <a:close/>
                    <a:moveTo>
                      <a:pt x="11488" y="3"/>
                    </a:moveTo>
                    <a:lnTo>
                      <a:pt x="11488" y="3"/>
                    </a:lnTo>
                    <a:cubicBezTo>
                      <a:pt x="11489" y="3"/>
                      <a:pt x="11490" y="3"/>
                      <a:pt x="11490" y="5"/>
                    </a:cubicBezTo>
                    <a:cubicBezTo>
                      <a:pt x="11490" y="6"/>
                      <a:pt x="11489" y="7"/>
                      <a:pt x="11488" y="7"/>
                    </a:cubicBezTo>
                    <a:lnTo>
                      <a:pt x="11488" y="7"/>
                    </a:lnTo>
                    <a:cubicBezTo>
                      <a:pt x="11487" y="7"/>
                      <a:pt x="11486" y="6"/>
                      <a:pt x="11486" y="5"/>
                    </a:cubicBezTo>
                    <a:cubicBezTo>
                      <a:pt x="11486" y="3"/>
                      <a:pt x="11487" y="3"/>
                      <a:pt x="11488" y="3"/>
                    </a:cubicBezTo>
                    <a:close/>
                    <a:moveTo>
                      <a:pt x="11496" y="3"/>
                    </a:moveTo>
                    <a:lnTo>
                      <a:pt x="11496" y="3"/>
                    </a:lnTo>
                    <a:cubicBezTo>
                      <a:pt x="11497" y="3"/>
                      <a:pt x="11498" y="3"/>
                      <a:pt x="11498" y="5"/>
                    </a:cubicBezTo>
                    <a:cubicBezTo>
                      <a:pt x="11498" y="6"/>
                      <a:pt x="11497" y="7"/>
                      <a:pt x="11496" y="7"/>
                    </a:cubicBezTo>
                    <a:lnTo>
                      <a:pt x="11496" y="7"/>
                    </a:lnTo>
                    <a:cubicBezTo>
                      <a:pt x="11495" y="7"/>
                      <a:pt x="11494" y="6"/>
                      <a:pt x="11494" y="5"/>
                    </a:cubicBezTo>
                    <a:cubicBezTo>
                      <a:pt x="11494" y="3"/>
                      <a:pt x="11495" y="3"/>
                      <a:pt x="11496" y="3"/>
                    </a:cubicBezTo>
                    <a:close/>
                    <a:moveTo>
                      <a:pt x="11504" y="3"/>
                    </a:moveTo>
                    <a:lnTo>
                      <a:pt x="11504" y="3"/>
                    </a:lnTo>
                    <a:cubicBezTo>
                      <a:pt x="11505" y="3"/>
                      <a:pt x="11506" y="3"/>
                      <a:pt x="11506" y="5"/>
                    </a:cubicBezTo>
                    <a:cubicBezTo>
                      <a:pt x="11506" y="6"/>
                      <a:pt x="11505" y="7"/>
                      <a:pt x="11504" y="7"/>
                    </a:cubicBezTo>
                    <a:lnTo>
                      <a:pt x="11504" y="7"/>
                    </a:lnTo>
                    <a:cubicBezTo>
                      <a:pt x="11503" y="7"/>
                      <a:pt x="11502" y="6"/>
                      <a:pt x="11502" y="5"/>
                    </a:cubicBezTo>
                    <a:cubicBezTo>
                      <a:pt x="11502" y="3"/>
                      <a:pt x="11503" y="3"/>
                      <a:pt x="11504" y="3"/>
                    </a:cubicBezTo>
                    <a:close/>
                    <a:moveTo>
                      <a:pt x="11512" y="3"/>
                    </a:moveTo>
                    <a:lnTo>
                      <a:pt x="11512" y="3"/>
                    </a:lnTo>
                    <a:cubicBezTo>
                      <a:pt x="11513" y="3"/>
                      <a:pt x="11514" y="3"/>
                      <a:pt x="11514" y="5"/>
                    </a:cubicBezTo>
                    <a:cubicBezTo>
                      <a:pt x="11514" y="6"/>
                      <a:pt x="11513" y="7"/>
                      <a:pt x="11512" y="7"/>
                    </a:cubicBezTo>
                    <a:lnTo>
                      <a:pt x="11512" y="7"/>
                    </a:lnTo>
                    <a:cubicBezTo>
                      <a:pt x="11511" y="7"/>
                      <a:pt x="11510" y="6"/>
                      <a:pt x="11510" y="5"/>
                    </a:cubicBezTo>
                    <a:cubicBezTo>
                      <a:pt x="11510" y="3"/>
                      <a:pt x="11511" y="3"/>
                      <a:pt x="11512" y="3"/>
                    </a:cubicBezTo>
                    <a:close/>
                    <a:moveTo>
                      <a:pt x="11520" y="3"/>
                    </a:moveTo>
                    <a:lnTo>
                      <a:pt x="11520" y="3"/>
                    </a:lnTo>
                    <a:cubicBezTo>
                      <a:pt x="11521" y="3"/>
                      <a:pt x="11522" y="3"/>
                      <a:pt x="11522" y="5"/>
                    </a:cubicBezTo>
                    <a:cubicBezTo>
                      <a:pt x="11522" y="6"/>
                      <a:pt x="11521" y="7"/>
                      <a:pt x="11520" y="7"/>
                    </a:cubicBezTo>
                    <a:lnTo>
                      <a:pt x="11520" y="7"/>
                    </a:lnTo>
                    <a:cubicBezTo>
                      <a:pt x="11519" y="7"/>
                      <a:pt x="11518" y="6"/>
                      <a:pt x="11518" y="5"/>
                    </a:cubicBezTo>
                    <a:cubicBezTo>
                      <a:pt x="11518" y="3"/>
                      <a:pt x="11519" y="3"/>
                      <a:pt x="11520" y="3"/>
                    </a:cubicBezTo>
                    <a:close/>
                    <a:moveTo>
                      <a:pt x="11528" y="3"/>
                    </a:moveTo>
                    <a:lnTo>
                      <a:pt x="11528" y="3"/>
                    </a:lnTo>
                    <a:cubicBezTo>
                      <a:pt x="11529" y="3"/>
                      <a:pt x="11530" y="3"/>
                      <a:pt x="11530" y="5"/>
                    </a:cubicBezTo>
                    <a:cubicBezTo>
                      <a:pt x="11530" y="6"/>
                      <a:pt x="11529" y="7"/>
                      <a:pt x="11528" y="7"/>
                    </a:cubicBezTo>
                    <a:lnTo>
                      <a:pt x="11528" y="7"/>
                    </a:lnTo>
                    <a:cubicBezTo>
                      <a:pt x="11527" y="7"/>
                      <a:pt x="11526" y="6"/>
                      <a:pt x="11526" y="5"/>
                    </a:cubicBezTo>
                    <a:cubicBezTo>
                      <a:pt x="11526" y="3"/>
                      <a:pt x="11527" y="3"/>
                      <a:pt x="11528" y="3"/>
                    </a:cubicBezTo>
                    <a:close/>
                    <a:moveTo>
                      <a:pt x="11536" y="3"/>
                    </a:moveTo>
                    <a:lnTo>
                      <a:pt x="11536" y="3"/>
                    </a:lnTo>
                    <a:cubicBezTo>
                      <a:pt x="11537" y="3"/>
                      <a:pt x="11538" y="3"/>
                      <a:pt x="11538" y="5"/>
                    </a:cubicBezTo>
                    <a:cubicBezTo>
                      <a:pt x="11538" y="6"/>
                      <a:pt x="11537" y="7"/>
                      <a:pt x="11536" y="7"/>
                    </a:cubicBezTo>
                    <a:lnTo>
                      <a:pt x="11536" y="7"/>
                    </a:lnTo>
                    <a:cubicBezTo>
                      <a:pt x="11535" y="7"/>
                      <a:pt x="11534" y="6"/>
                      <a:pt x="11534" y="5"/>
                    </a:cubicBezTo>
                    <a:cubicBezTo>
                      <a:pt x="11534" y="3"/>
                      <a:pt x="11535" y="3"/>
                      <a:pt x="11536" y="3"/>
                    </a:cubicBezTo>
                    <a:close/>
                    <a:moveTo>
                      <a:pt x="11544" y="3"/>
                    </a:moveTo>
                    <a:lnTo>
                      <a:pt x="11544" y="3"/>
                    </a:lnTo>
                    <a:cubicBezTo>
                      <a:pt x="11545" y="3"/>
                      <a:pt x="11546" y="3"/>
                      <a:pt x="11546" y="5"/>
                    </a:cubicBezTo>
                    <a:cubicBezTo>
                      <a:pt x="11546" y="6"/>
                      <a:pt x="11545" y="7"/>
                      <a:pt x="11544" y="7"/>
                    </a:cubicBezTo>
                    <a:lnTo>
                      <a:pt x="11544" y="7"/>
                    </a:lnTo>
                    <a:cubicBezTo>
                      <a:pt x="11543" y="7"/>
                      <a:pt x="11542" y="6"/>
                      <a:pt x="11542" y="5"/>
                    </a:cubicBezTo>
                    <a:cubicBezTo>
                      <a:pt x="11542" y="3"/>
                      <a:pt x="11543" y="3"/>
                      <a:pt x="11544" y="3"/>
                    </a:cubicBezTo>
                    <a:close/>
                    <a:moveTo>
                      <a:pt x="11552" y="3"/>
                    </a:moveTo>
                    <a:lnTo>
                      <a:pt x="11552" y="3"/>
                    </a:lnTo>
                    <a:cubicBezTo>
                      <a:pt x="11553" y="3"/>
                      <a:pt x="11554" y="3"/>
                      <a:pt x="11554" y="5"/>
                    </a:cubicBezTo>
                    <a:cubicBezTo>
                      <a:pt x="11554" y="6"/>
                      <a:pt x="11553" y="7"/>
                      <a:pt x="11552" y="7"/>
                    </a:cubicBezTo>
                    <a:lnTo>
                      <a:pt x="11552" y="7"/>
                    </a:lnTo>
                    <a:cubicBezTo>
                      <a:pt x="11551" y="7"/>
                      <a:pt x="11550" y="6"/>
                      <a:pt x="11550" y="5"/>
                    </a:cubicBezTo>
                    <a:cubicBezTo>
                      <a:pt x="11550" y="3"/>
                      <a:pt x="11551" y="3"/>
                      <a:pt x="11552" y="3"/>
                    </a:cubicBezTo>
                    <a:close/>
                    <a:moveTo>
                      <a:pt x="11560" y="3"/>
                    </a:moveTo>
                    <a:lnTo>
                      <a:pt x="11560" y="3"/>
                    </a:lnTo>
                    <a:cubicBezTo>
                      <a:pt x="11561" y="3"/>
                      <a:pt x="11562" y="3"/>
                      <a:pt x="11562" y="5"/>
                    </a:cubicBezTo>
                    <a:cubicBezTo>
                      <a:pt x="11562" y="6"/>
                      <a:pt x="11561" y="7"/>
                      <a:pt x="11560" y="7"/>
                    </a:cubicBezTo>
                    <a:lnTo>
                      <a:pt x="11560" y="7"/>
                    </a:lnTo>
                    <a:cubicBezTo>
                      <a:pt x="11559" y="7"/>
                      <a:pt x="11558" y="6"/>
                      <a:pt x="11558" y="5"/>
                    </a:cubicBezTo>
                    <a:cubicBezTo>
                      <a:pt x="11558" y="3"/>
                      <a:pt x="11559" y="3"/>
                      <a:pt x="11560" y="3"/>
                    </a:cubicBezTo>
                    <a:close/>
                    <a:moveTo>
                      <a:pt x="11568" y="3"/>
                    </a:moveTo>
                    <a:lnTo>
                      <a:pt x="11568" y="3"/>
                    </a:lnTo>
                    <a:cubicBezTo>
                      <a:pt x="11569" y="3"/>
                      <a:pt x="11570" y="4"/>
                      <a:pt x="11570" y="5"/>
                    </a:cubicBezTo>
                    <a:cubicBezTo>
                      <a:pt x="11570" y="6"/>
                      <a:pt x="11569" y="7"/>
                      <a:pt x="11568" y="7"/>
                    </a:cubicBezTo>
                    <a:lnTo>
                      <a:pt x="11568" y="7"/>
                    </a:lnTo>
                    <a:cubicBezTo>
                      <a:pt x="11567" y="7"/>
                      <a:pt x="11566" y="6"/>
                      <a:pt x="11566" y="5"/>
                    </a:cubicBezTo>
                    <a:cubicBezTo>
                      <a:pt x="11566" y="4"/>
                      <a:pt x="11567" y="3"/>
                      <a:pt x="11568" y="3"/>
                    </a:cubicBezTo>
                    <a:close/>
                    <a:moveTo>
                      <a:pt x="11576" y="3"/>
                    </a:moveTo>
                    <a:lnTo>
                      <a:pt x="11576" y="3"/>
                    </a:lnTo>
                    <a:cubicBezTo>
                      <a:pt x="11577" y="3"/>
                      <a:pt x="11578" y="4"/>
                      <a:pt x="11578" y="5"/>
                    </a:cubicBezTo>
                    <a:cubicBezTo>
                      <a:pt x="11578" y="6"/>
                      <a:pt x="11577" y="7"/>
                      <a:pt x="11576" y="7"/>
                    </a:cubicBezTo>
                    <a:lnTo>
                      <a:pt x="11576" y="7"/>
                    </a:lnTo>
                    <a:cubicBezTo>
                      <a:pt x="11575" y="7"/>
                      <a:pt x="11574" y="6"/>
                      <a:pt x="11574" y="5"/>
                    </a:cubicBezTo>
                    <a:cubicBezTo>
                      <a:pt x="11574" y="4"/>
                      <a:pt x="11575" y="3"/>
                      <a:pt x="11576" y="3"/>
                    </a:cubicBezTo>
                    <a:close/>
                    <a:moveTo>
                      <a:pt x="11584" y="3"/>
                    </a:moveTo>
                    <a:lnTo>
                      <a:pt x="11584" y="3"/>
                    </a:lnTo>
                    <a:cubicBezTo>
                      <a:pt x="11585" y="3"/>
                      <a:pt x="11586" y="4"/>
                      <a:pt x="11586" y="5"/>
                    </a:cubicBezTo>
                    <a:cubicBezTo>
                      <a:pt x="11586" y="6"/>
                      <a:pt x="11585" y="7"/>
                      <a:pt x="11584" y="7"/>
                    </a:cubicBezTo>
                    <a:lnTo>
                      <a:pt x="11584" y="7"/>
                    </a:lnTo>
                    <a:cubicBezTo>
                      <a:pt x="11583" y="7"/>
                      <a:pt x="11582" y="6"/>
                      <a:pt x="11582" y="5"/>
                    </a:cubicBezTo>
                    <a:cubicBezTo>
                      <a:pt x="11582" y="4"/>
                      <a:pt x="11583" y="3"/>
                      <a:pt x="11584" y="3"/>
                    </a:cubicBezTo>
                    <a:close/>
                    <a:moveTo>
                      <a:pt x="11592" y="3"/>
                    </a:moveTo>
                    <a:lnTo>
                      <a:pt x="11592" y="3"/>
                    </a:lnTo>
                    <a:cubicBezTo>
                      <a:pt x="11593" y="3"/>
                      <a:pt x="11594" y="4"/>
                      <a:pt x="11594" y="5"/>
                    </a:cubicBezTo>
                    <a:cubicBezTo>
                      <a:pt x="11594" y="6"/>
                      <a:pt x="11593" y="7"/>
                      <a:pt x="11592" y="7"/>
                    </a:cubicBezTo>
                    <a:lnTo>
                      <a:pt x="11592" y="7"/>
                    </a:lnTo>
                    <a:cubicBezTo>
                      <a:pt x="11591" y="7"/>
                      <a:pt x="11590" y="6"/>
                      <a:pt x="11590" y="5"/>
                    </a:cubicBezTo>
                    <a:cubicBezTo>
                      <a:pt x="11590" y="4"/>
                      <a:pt x="11591" y="3"/>
                      <a:pt x="11592" y="3"/>
                    </a:cubicBezTo>
                    <a:close/>
                    <a:moveTo>
                      <a:pt x="11600" y="3"/>
                    </a:moveTo>
                    <a:lnTo>
                      <a:pt x="11600" y="3"/>
                    </a:lnTo>
                    <a:cubicBezTo>
                      <a:pt x="11601" y="3"/>
                      <a:pt x="11602" y="4"/>
                      <a:pt x="11602" y="5"/>
                    </a:cubicBezTo>
                    <a:cubicBezTo>
                      <a:pt x="11602" y="6"/>
                      <a:pt x="11601" y="7"/>
                      <a:pt x="11600" y="7"/>
                    </a:cubicBezTo>
                    <a:lnTo>
                      <a:pt x="11600" y="7"/>
                    </a:lnTo>
                    <a:cubicBezTo>
                      <a:pt x="11599" y="7"/>
                      <a:pt x="11598" y="6"/>
                      <a:pt x="11598" y="5"/>
                    </a:cubicBezTo>
                    <a:cubicBezTo>
                      <a:pt x="11598" y="4"/>
                      <a:pt x="11599" y="3"/>
                      <a:pt x="11600" y="3"/>
                    </a:cubicBezTo>
                    <a:close/>
                    <a:moveTo>
                      <a:pt x="11608" y="3"/>
                    </a:moveTo>
                    <a:lnTo>
                      <a:pt x="11608" y="3"/>
                    </a:lnTo>
                    <a:cubicBezTo>
                      <a:pt x="11609" y="3"/>
                      <a:pt x="11610" y="4"/>
                      <a:pt x="11610" y="5"/>
                    </a:cubicBezTo>
                    <a:cubicBezTo>
                      <a:pt x="11610" y="6"/>
                      <a:pt x="11609" y="7"/>
                      <a:pt x="11608" y="7"/>
                    </a:cubicBezTo>
                    <a:lnTo>
                      <a:pt x="11608" y="7"/>
                    </a:lnTo>
                    <a:cubicBezTo>
                      <a:pt x="11607" y="7"/>
                      <a:pt x="11606" y="6"/>
                      <a:pt x="11606" y="5"/>
                    </a:cubicBezTo>
                    <a:cubicBezTo>
                      <a:pt x="11606" y="4"/>
                      <a:pt x="11607" y="3"/>
                      <a:pt x="11608" y="3"/>
                    </a:cubicBezTo>
                    <a:close/>
                    <a:moveTo>
                      <a:pt x="11616" y="3"/>
                    </a:moveTo>
                    <a:lnTo>
                      <a:pt x="11616" y="3"/>
                    </a:lnTo>
                    <a:cubicBezTo>
                      <a:pt x="11617" y="3"/>
                      <a:pt x="11618" y="4"/>
                      <a:pt x="11618" y="5"/>
                    </a:cubicBezTo>
                    <a:cubicBezTo>
                      <a:pt x="11618" y="6"/>
                      <a:pt x="11617" y="7"/>
                      <a:pt x="11616" y="7"/>
                    </a:cubicBezTo>
                    <a:lnTo>
                      <a:pt x="11616" y="7"/>
                    </a:lnTo>
                    <a:cubicBezTo>
                      <a:pt x="11615" y="7"/>
                      <a:pt x="11614" y="6"/>
                      <a:pt x="11614" y="5"/>
                    </a:cubicBezTo>
                    <a:cubicBezTo>
                      <a:pt x="11614" y="4"/>
                      <a:pt x="11615" y="3"/>
                      <a:pt x="11616" y="3"/>
                    </a:cubicBezTo>
                    <a:close/>
                    <a:moveTo>
                      <a:pt x="11624" y="3"/>
                    </a:moveTo>
                    <a:lnTo>
                      <a:pt x="11624" y="3"/>
                    </a:lnTo>
                    <a:cubicBezTo>
                      <a:pt x="11625" y="3"/>
                      <a:pt x="11626" y="4"/>
                      <a:pt x="11626" y="5"/>
                    </a:cubicBezTo>
                    <a:cubicBezTo>
                      <a:pt x="11626" y="6"/>
                      <a:pt x="11625" y="7"/>
                      <a:pt x="11624" y="7"/>
                    </a:cubicBezTo>
                    <a:lnTo>
                      <a:pt x="11624" y="7"/>
                    </a:lnTo>
                    <a:cubicBezTo>
                      <a:pt x="11623" y="7"/>
                      <a:pt x="11622" y="6"/>
                      <a:pt x="11622" y="5"/>
                    </a:cubicBezTo>
                    <a:cubicBezTo>
                      <a:pt x="11622" y="4"/>
                      <a:pt x="11623" y="3"/>
                      <a:pt x="11624" y="3"/>
                    </a:cubicBezTo>
                    <a:close/>
                    <a:moveTo>
                      <a:pt x="11632" y="3"/>
                    </a:moveTo>
                    <a:lnTo>
                      <a:pt x="11632" y="3"/>
                    </a:lnTo>
                    <a:cubicBezTo>
                      <a:pt x="11633" y="3"/>
                      <a:pt x="11634" y="4"/>
                      <a:pt x="11634" y="5"/>
                    </a:cubicBezTo>
                    <a:cubicBezTo>
                      <a:pt x="11634" y="6"/>
                      <a:pt x="11633" y="7"/>
                      <a:pt x="11632" y="7"/>
                    </a:cubicBezTo>
                    <a:lnTo>
                      <a:pt x="11632" y="7"/>
                    </a:lnTo>
                    <a:cubicBezTo>
                      <a:pt x="11631" y="7"/>
                      <a:pt x="11630" y="6"/>
                      <a:pt x="11630" y="5"/>
                    </a:cubicBezTo>
                    <a:cubicBezTo>
                      <a:pt x="11630" y="4"/>
                      <a:pt x="11631" y="3"/>
                      <a:pt x="11632" y="3"/>
                    </a:cubicBezTo>
                    <a:close/>
                    <a:moveTo>
                      <a:pt x="11640" y="3"/>
                    </a:moveTo>
                    <a:lnTo>
                      <a:pt x="11640" y="3"/>
                    </a:lnTo>
                    <a:cubicBezTo>
                      <a:pt x="11641" y="3"/>
                      <a:pt x="11642" y="4"/>
                      <a:pt x="11642" y="5"/>
                    </a:cubicBezTo>
                    <a:cubicBezTo>
                      <a:pt x="11642" y="6"/>
                      <a:pt x="11641" y="7"/>
                      <a:pt x="11640" y="7"/>
                    </a:cubicBezTo>
                    <a:lnTo>
                      <a:pt x="11640" y="7"/>
                    </a:lnTo>
                    <a:cubicBezTo>
                      <a:pt x="11639" y="7"/>
                      <a:pt x="11638" y="6"/>
                      <a:pt x="11638" y="5"/>
                    </a:cubicBezTo>
                    <a:cubicBezTo>
                      <a:pt x="11638" y="4"/>
                      <a:pt x="11639" y="3"/>
                      <a:pt x="11640" y="3"/>
                    </a:cubicBezTo>
                    <a:close/>
                    <a:moveTo>
                      <a:pt x="11648" y="3"/>
                    </a:moveTo>
                    <a:lnTo>
                      <a:pt x="11648" y="3"/>
                    </a:lnTo>
                    <a:cubicBezTo>
                      <a:pt x="11649" y="3"/>
                      <a:pt x="11650" y="4"/>
                      <a:pt x="11650" y="5"/>
                    </a:cubicBezTo>
                    <a:cubicBezTo>
                      <a:pt x="11650" y="6"/>
                      <a:pt x="11649" y="7"/>
                      <a:pt x="11648" y="7"/>
                    </a:cubicBezTo>
                    <a:lnTo>
                      <a:pt x="11648" y="7"/>
                    </a:lnTo>
                    <a:cubicBezTo>
                      <a:pt x="11647" y="7"/>
                      <a:pt x="11646" y="6"/>
                      <a:pt x="11646" y="5"/>
                    </a:cubicBezTo>
                    <a:cubicBezTo>
                      <a:pt x="11646" y="4"/>
                      <a:pt x="11647" y="3"/>
                      <a:pt x="11648" y="3"/>
                    </a:cubicBezTo>
                    <a:close/>
                    <a:moveTo>
                      <a:pt x="11656" y="3"/>
                    </a:moveTo>
                    <a:lnTo>
                      <a:pt x="11656" y="3"/>
                    </a:lnTo>
                    <a:cubicBezTo>
                      <a:pt x="11657" y="3"/>
                      <a:pt x="11658" y="4"/>
                      <a:pt x="11658" y="5"/>
                    </a:cubicBezTo>
                    <a:cubicBezTo>
                      <a:pt x="11658" y="6"/>
                      <a:pt x="11657" y="7"/>
                      <a:pt x="11656" y="7"/>
                    </a:cubicBezTo>
                    <a:lnTo>
                      <a:pt x="11656" y="7"/>
                    </a:lnTo>
                    <a:cubicBezTo>
                      <a:pt x="11655" y="7"/>
                      <a:pt x="11654" y="6"/>
                      <a:pt x="11654" y="5"/>
                    </a:cubicBezTo>
                    <a:cubicBezTo>
                      <a:pt x="11654" y="4"/>
                      <a:pt x="11655" y="3"/>
                      <a:pt x="11656" y="3"/>
                    </a:cubicBezTo>
                    <a:close/>
                    <a:moveTo>
                      <a:pt x="11664" y="3"/>
                    </a:moveTo>
                    <a:lnTo>
                      <a:pt x="11664" y="3"/>
                    </a:lnTo>
                    <a:cubicBezTo>
                      <a:pt x="11665" y="3"/>
                      <a:pt x="11666" y="4"/>
                      <a:pt x="11666" y="5"/>
                    </a:cubicBezTo>
                    <a:cubicBezTo>
                      <a:pt x="11666" y="6"/>
                      <a:pt x="11665" y="7"/>
                      <a:pt x="11664" y="7"/>
                    </a:cubicBezTo>
                    <a:lnTo>
                      <a:pt x="11664" y="7"/>
                    </a:lnTo>
                    <a:cubicBezTo>
                      <a:pt x="11663" y="7"/>
                      <a:pt x="11662" y="6"/>
                      <a:pt x="11662" y="5"/>
                    </a:cubicBezTo>
                    <a:cubicBezTo>
                      <a:pt x="11662" y="4"/>
                      <a:pt x="11663" y="3"/>
                      <a:pt x="11664" y="3"/>
                    </a:cubicBezTo>
                    <a:close/>
                    <a:moveTo>
                      <a:pt x="11672" y="3"/>
                    </a:moveTo>
                    <a:lnTo>
                      <a:pt x="11672" y="3"/>
                    </a:lnTo>
                    <a:cubicBezTo>
                      <a:pt x="11673" y="3"/>
                      <a:pt x="11674" y="4"/>
                      <a:pt x="11674" y="5"/>
                    </a:cubicBezTo>
                    <a:cubicBezTo>
                      <a:pt x="11674" y="6"/>
                      <a:pt x="11673" y="7"/>
                      <a:pt x="11672" y="7"/>
                    </a:cubicBezTo>
                    <a:lnTo>
                      <a:pt x="11672" y="7"/>
                    </a:lnTo>
                    <a:cubicBezTo>
                      <a:pt x="11671" y="7"/>
                      <a:pt x="11670" y="6"/>
                      <a:pt x="11670" y="5"/>
                    </a:cubicBezTo>
                    <a:cubicBezTo>
                      <a:pt x="11670" y="4"/>
                      <a:pt x="11671" y="3"/>
                      <a:pt x="11672" y="3"/>
                    </a:cubicBezTo>
                    <a:close/>
                    <a:moveTo>
                      <a:pt x="11680" y="3"/>
                    </a:moveTo>
                    <a:lnTo>
                      <a:pt x="11680" y="3"/>
                    </a:lnTo>
                    <a:cubicBezTo>
                      <a:pt x="11681" y="3"/>
                      <a:pt x="11682" y="4"/>
                      <a:pt x="11682" y="5"/>
                    </a:cubicBezTo>
                    <a:cubicBezTo>
                      <a:pt x="11682" y="6"/>
                      <a:pt x="11681" y="7"/>
                      <a:pt x="11680" y="7"/>
                    </a:cubicBezTo>
                    <a:lnTo>
                      <a:pt x="11680" y="7"/>
                    </a:lnTo>
                    <a:cubicBezTo>
                      <a:pt x="11679" y="7"/>
                      <a:pt x="11678" y="6"/>
                      <a:pt x="11678" y="5"/>
                    </a:cubicBezTo>
                    <a:cubicBezTo>
                      <a:pt x="11678" y="4"/>
                      <a:pt x="11679" y="3"/>
                      <a:pt x="11680" y="3"/>
                    </a:cubicBezTo>
                    <a:close/>
                    <a:moveTo>
                      <a:pt x="11688" y="3"/>
                    </a:moveTo>
                    <a:lnTo>
                      <a:pt x="11688" y="3"/>
                    </a:lnTo>
                    <a:cubicBezTo>
                      <a:pt x="11689" y="3"/>
                      <a:pt x="11690" y="4"/>
                      <a:pt x="11690" y="5"/>
                    </a:cubicBezTo>
                    <a:cubicBezTo>
                      <a:pt x="11690" y="6"/>
                      <a:pt x="11689" y="7"/>
                      <a:pt x="11688" y="7"/>
                    </a:cubicBezTo>
                    <a:lnTo>
                      <a:pt x="11688" y="7"/>
                    </a:lnTo>
                    <a:cubicBezTo>
                      <a:pt x="11687" y="7"/>
                      <a:pt x="11686" y="6"/>
                      <a:pt x="11686" y="5"/>
                    </a:cubicBezTo>
                    <a:cubicBezTo>
                      <a:pt x="11686" y="4"/>
                      <a:pt x="11687" y="3"/>
                      <a:pt x="11688" y="3"/>
                    </a:cubicBezTo>
                    <a:close/>
                    <a:moveTo>
                      <a:pt x="11696" y="3"/>
                    </a:moveTo>
                    <a:lnTo>
                      <a:pt x="11696" y="3"/>
                    </a:lnTo>
                    <a:cubicBezTo>
                      <a:pt x="11697" y="3"/>
                      <a:pt x="11698" y="4"/>
                      <a:pt x="11698" y="5"/>
                    </a:cubicBezTo>
                    <a:cubicBezTo>
                      <a:pt x="11698" y="6"/>
                      <a:pt x="11697" y="7"/>
                      <a:pt x="11696" y="7"/>
                    </a:cubicBezTo>
                    <a:lnTo>
                      <a:pt x="11696" y="7"/>
                    </a:lnTo>
                    <a:cubicBezTo>
                      <a:pt x="11695" y="7"/>
                      <a:pt x="11694" y="6"/>
                      <a:pt x="11694" y="5"/>
                    </a:cubicBezTo>
                    <a:cubicBezTo>
                      <a:pt x="11694" y="4"/>
                      <a:pt x="11695" y="3"/>
                      <a:pt x="11696" y="3"/>
                    </a:cubicBezTo>
                    <a:close/>
                    <a:moveTo>
                      <a:pt x="11704" y="3"/>
                    </a:moveTo>
                    <a:lnTo>
                      <a:pt x="11704" y="3"/>
                    </a:lnTo>
                    <a:cubicBezTo>
                      <a:pt x="11705" y="3"/>
                      <a:pt x="11706" y="4"/>
                      <a:pt x="11706" y="5"/>
                    </a:cubicBezTo>
                    <a:cubicBezTo>
                      <a:pt x="11706" y="6"/>
                      <a:pt x="11705" y="7"/>
                      <a:pt x="11704" y="7"/>
                    </a:cubicBezTo>
                    <a:lnTo>
                      <a:pt x="11704" y="7"/>
                    </a:lnTo>
                    <a:cubicBezTo>
                      <a:pt x="11703" y="7"/>
                      <a:pt x="11702" y="6"/>
                      <a:pt x="11702" y="5"/>
                    </a:cubicBezTo>
                    <a:cubicBezTo>
                      <a:pt x="11702" y="4"/>
                      <a:pt x="11703" y="3"/>
                      <a:pt x="11704" y="3"/>
                    </a:cubicBezTo>
                    <a:close/>
                    <a:moveTo>
                      <a:pt x="11712" y="3"/>
                    </a:moveTo>
                    <a:lnTo>
                      <a:pt x="11712" y="3"/>
                    </a:lnTo>
                    <a:cubicBezTo>
                      <a:pt x="11713" y="3"/>
                      <a:pt x="11714" y="4"/>
                      <a:pt x="11714" y="5"/>
                    </a:cubicBezTo>
                    <a:cubicBezTo>
                      <a:pt x="11714" y="6"/>
                      <a:pt x="11713" y="7"/>
                      <a:pt x="11712" y="7"/>
                    </a:cubicBezTo>
                    <a:lnTo>
                      <a:pt x="11712" y="7"/>
                    </a:lnTo>
                    <a:cubicBezTo>
                      <a:pt x="11711" y="7"/>
                      <a:pt x="11710" y="6"/>
                      <a:pt x="11710" y="5"/>
                    </a:cubicBezTo>
                    <a:cubicBezTo>
                      <a:pt x="11710" y="4"/>
                      <a:pt x="11711" y="3"/>
                      <a:pt x="11712" y="3"/>
                    </a:cubicBezTo>
                    <a:close/>
                    <a:moveTo>
                      <a:pt x="11720" y="3"/>
                    </a:moveTo>
                    <a:lnTo>
                      <a:pt x="11720" y="3"/>
                    </a:lnTo>
                    <a:cubicBezTo>
                      <a:pt x="11721" y="3"/>
                      <a:pt x="11722" y="4"/>
                      <a:pt x="11722" y="5"/>
                    </a:cubicBezTo>
                    <a:cubicBezTo>
                      <a:pt x="11722" y="6"/>
                      <a:pt x="11721" y="7"/>
                      <a:pt x="11720" y="7"/>
                    </a:cubicBezTo>
                    <a:lnTo>
                      <a:pt x="11720" y="7"/>
                    </a:lnTo>
                    <a:cubicBezTo>
                      <a:pt x="11719" y="7"/>
                      <a:pt x="11718" y="6"/>
                      <a:pt x="11718" y="5"/>
                    </a:cubicBezTo>
                    <a:cubicBezTo>
                      <a:pt x="11718" y="4"/>
                      <a:pt x="11719" y="3"/>
                      <a:pt x="11720" y="3"/>
                    </a:cubicBezTo>
                    <a:close/>
                    <a:moveTo>
                      <a:pt x="11728" y="3"/>
                    </a:moveTo>
                    <a:lnTo>
                      <a:pt x="11728" y="3"/>
                    </a:lnTo>
                    <a:cubicBezTo>
                      <a:pt x="11729" y="3"/>
                      <a:pt x="11730" y="4"/>
                      <a:pt x="11730" y="5"/>
                    </a:cubicBezTo>
                    <a:cubicBezTo>
                      <a:pt x="11730" y="6"/>
                      <a:pt x="11729" y="7"/>
                      <a:pt x="11728" y="7"/>
                    </a:cubicBezTo>
                    <a:lnTo>
                      <a:pt x="11728" y="7"/>
                    </a:lnTo>
                    <a:cubicBezTo>
                      <a:pt x="11727" y="7"/>
                      <a:pt x="11726" y="6"/>
                      <a:pt x="11726" y="5"/>
                    </a:cubicBezTo>
                    <a:cubicBezTo>
                      <a:pt x="11726" y="4"/>
                      <a:pt x="11727" y="3"/>
                      <a:pt x="11728" y="3"/>
                    </a:cubicBezTo>
                    <a:close/>
                    <a:moveTo>
                      <a:pt x="11736" y="3"/>
                    </a:moveTo>
                    <a:lnTo>
                      <a:pt x="11736" y="3"/>
                    </a:lnTo>
                    <a:cubicBezTo>
                      <a:pt x="11737" y="3"/>
                      <a:pt x="11738" y="4"/>
                      <a:pt x="11738" y="5"/>
                    </a:cubicBezTo>
                    <a:cubicBezTo>
                      <a:pt x="11738" y="6"/>
                      <a:pt x="11737" y="7"/>
                      <a:pt x="11736" y="7"/>
                    </a:cubicBezTo>
                    <a:lnTo>
                      <a:pt x="11736" y="7"/>
                    </a:lnTo>
                    <a:cubicBezTo>
                      <a:pt x="11735" y="7"/>
                      <a:pt x="11734" y="6"/>
                      <a:pt x="11734" y="5"/>
                    </a:cubicBezTo>
                    <a:cubicBezTo>
                      <a:pt x="11734" y="4"/>
                      <a:pt x="11735" y="3"/>
                      <a:pt x="11736" y="3"/>
                    </a:cubicBezTo>
                    <a:close/>
                    <a:moveTo>
                      <a:pt x="11744" y="3"/>
                    </a:moveTo>
                    <a:lnTo>
                      <a:pt x="11744" y="3"/>
                    </a:lnTo>
                    <a:cubicBezTo>
                      <a:pt x="11745" y="3"/>
                      <a:pt x="11746" y="4"/>
                      <a:pt x="11746" y="5"/>
                    </a:cubicBezTo>
                    <a:cubicBezTo>
                      <a:pt x="11746" y="6"/>
                      <a:pt x="11745" y="7"/>
                      <a:pt x="11744" y="7"/>
                    </a:cubicBezTo>
                    <a:lnTo>
                      <a:pt x="11744" y="7"/>
                    </a:lnTo>
                    <a:cubicBezTo>
                      <a:pt x="11743" y="7"/>
                      <a:pt x="11742" y="6"/>
                      <a:pt x="11742" y="5"/>
                    </a:cubicBezTo>
                    <a:cubicBezTo>
                      <a:pt x="11742" y="4"/>
                      <a:pt x="11743" y="3"/>
                      <a:pt x="11744" y="3"/>
                    </a:cubicBezTo>
                    <a:close/>
                    <a:moveTo>
                      <a:pt x="11752" y="3"/>
                    </a:moveTo>
                    <a:lnTo>
                      <a:pt x="11752" y="3"/>
                    </a:lnTo>
                    <a:cubicBezTo>
                      <a:pt x="11753" y="3"/>
                      <a:pt x="11754" y="4"/>
                      <a:pt x="11754" y="5"/>
                    </a:cubicBezTo>
                    <a:cubicBezTo>
                      <a:pt x="11754" y="6"/>
                      <a:pt x="11753" y="7"/>
                      <a:pt x="11752" y="7"/>
                    </a:cubicBezTo>
                    <a:lnTo>
                      <a:pt x="11752" y="7"/>
                    </a:lnTo>
                    <a:cubicBezTo>
                      <a:pt x="11751" y="7"/>
                      <a:pt x="11750" y="6"/>
                      <a:pt x="11750" y="5"/>
                    </a:cubicBezTo>
                    <a:cubicBezTo>
                      <a:pt x="11750" y="4"/>
                      <a:pt x="11751" y="3"/>
                      <a:pt x="11752" y="3"/>
                    </a:cubicBezTo>
                    <a:close/>
                    <a:moveTo>
                      <a:pt x="11760" y="3"/>
                    </a:moveTo>
                    <a:lnTo>
                      <a:pt x="11760" y="3"/>
                    </a:lnTo>
                    <a:cubicBezTo>
                      <a:pt x="11761" y="3"/>
                      <a:pt x="11762" y="4"/>
                      <a:pt x="11762" y="5"/>
                    </a:cubicBezTo>
                    <a:cubicBezTo>
                      <a:pt x="11762" y="6"/>
                      <a:pt x="11761" y="7"/>
                      <a:pt x="11760" y="7"/>
                    </a:cubicBezTo>
                    <a:lnTo>
                      <a:pt x="11760" y="7"/>
                    </a:lnTo>
                    <a:cubicBezTo>
                      <a:pt x="11759" y="7"/>
                      <a:pt x="11758" y="6"/>
                      <a:pt x="11758" y="5"/>
                    </a:cubicBezTo>
                    <a:cubicBezTo>
                      <a:pt x="11758" y="4"/>
                      <a:pt x="11759" y="3"/>
                      <a:pt x="11760" y="3"/>
                    </a:cubicBezTo>
                    <a:close/>
                    <a:moveTo>
                      <a:pt x="11768" y="3"/>
                    </a:moveTo>
                    <a:lnTo>
                      <a:pt x="11768" y="3"/>
                    </a:lnTo>
                    <a:cubicBezTo>
                      <a:pt x="11769" y="3"/>
                      <a:pt x="11770" y="4"/>
                      <a:pt x="11770" y="5"/>
                    </a:cubicBezTo>
                    <a:cubicBezTo>
                      <a:pt x="11770" y="6"/>
                      <a:pt x="11769" y="7"/>
                      <a:pt x="11768" y="7"/>
                    </a:cubicBezTo>
                    <a:lnTo>
                      <a:pt x="11768" y="7"/>
                    </a:lnTo>
                    <a:cubicBezTo>
                      <a:pt x="11767" y="7"/>
                      <a:pt x="11766" y="6"/>
                      <a:pt x="11766" y="5"/>
                    </a:cubicBezTo>
                    <a:cubicBezTo>
                      <a:pt x="11766" y="4"/>
                      <a:pt x="11767" y="3"/>
                      <a:pt x="11768" y="3"/>
                    </a:cubicBezTo>
                    <a:close/>
                    <a:moveTo>
                      <a:pt x="11776" y="3"/>
                    </a:moveTo>
                    <a:lnTo>
                      <a:pt x="11776" y="3"/>
                    </a:lnTo>
                    <a:cubicBezTo>
                      <a:pt x="11777" y="3"/>
                      <a:pt x="11778" y="4"/>
                      <a:pt x="11778" y="5"/>
                    </a:cubicBezTo>
                    <a:cubicBezTo>
                      <a:pt x="11778" y="6"/>
                      <a:pt x="11777" y="7"/>
                      <a:pt x="11776" y="7"/>
                    </a:cubicBezTo>
                    <a:lnTo>
                      <a:pt x="11776" y="7"/>
                    </a:lnTo>
                    <a:cubicBezTo>
                      <a:pt x="11775" y="7"/>
                      <a:pt x="11774" y="6"/>
                      <a:pt x="11774" y="5"/>
                    </a:cubicBezTo>
                    <a:cubicBezTo>
                      <a:pt x="11774" y="4"/>
                      <a:pt x="11775" y="3"/>
                      <a:pt x="11776" y="3"/>
                    </a:cubicBezTo>
                    <a:close/>
                    <a:moveTo>
                      <a:pt x="11784" y="3"/>
                    </a:moveTo>
                    <a:lnTo>
                      <a:pt x="11784" y="3"/>
                    </a:lnTo>
                    <a:cubicBezTo>
                      <a:pt x="11785" y="3"/>
                      <a:pt x="11786" y="4"/>
                      <a:pt x="11786" y="5"/>
                    </a:cubicBezTo>
                    <a:cubicBezTo>
                      <a:pt x="11786" y="6"/>
                      <a:pt x="11785" y="7"/>
                      <a:pt x="11784" y="7"/>
                    </a:cubicBezTo>
                    <a:lnTo>
                      <a:pt x="11784" y="7"/>
                    </a:lnTo>
                    <a:cubicBezTo>
                      <a:pt x="11783" y="7"/>
                      <a:pt x="11782" y="6"/>
                      <a:pt x="11782" y="5"/>
                    </a:cubicBezTo>
                    <a:cubicBezTo>
                      <a:pt x="11782" y="4"/>
                      <a:pt x="11783" y="3"/>
                      <a:pt x="11784" y="3"/>
                    </a:cubicBezTo>
                    <a:close/>
                    <a:moveTo>
                      <a:pt x="11792" y="3"/>
                    </a:moveTo>
                    <a:lnTo>
                      <a:pt x="11792" y="3"/>
                    </a:lnTo>
                    <a:cubicBezTo>
                      <a:pt x="11793" y="3"/>
                      <a:pt x="11794" y="4"/>
                      <a:pt x="11794" y="5"/>
                    </a:cubicBezTo>
                    <a:cubicBezTo>
                      <a:pt x="11794" y="6"/>
                      <a:pt x="11793" y="7"/>
                      <a:pt x="11792" y="7"/>
                    </a:cubicBezTo>
                    <a:lnTo>
                      <a:pt x="11792" y="7"/>
                    </a:lnTo>
                    <a:cubicBezTo>
                      <a:pt x="11791" y="7"/>
                      <a:pt x="11790" y="6"/>
                      <a:pt x="11790" y="5"/>
                    </a:cubicBezTo>
                    <a:cubicBezTo>
                      <a:pt x="11790" y="4"/>
                      <a:pt x="11791" y="3"/>
                      <a:pt x="11792" y="3"/>
                    </a:cubicBezTo>
                    <a:close/>
                    <a:moveTo>
                      <a:pt x="11800" y="3"/>
                    </a:moveTo>
                    <a:lnTo>
                      <a:pt x="11800" y="3"/>
                    </a:lnTo>
                    <a:cubicBezTo>
                      <a:pt x="11801" y="3"/>
                      <a:pt x="11802" y="4"/>
                      <a:pt x="11802" y="5"/>
                    </a:cubicBezTo>
                    <a:cubicBezTo>
                      <a:pt x="11802" y="6"/>
                      <a:pt x="11801" y="7"/>
                      <a:pt x="11800" y="7"/>
                    </a:cubicBezTo>
                    <a:lnTo>
                      <a:pt x="11800" y="7"/>
                    </a:lnTo>
                    <a:cubicBezTo>
                      <a:pt x="11799" y="7"/>
                      <a:pt x="11798" y="6"/>
                      <a:pt x="11798" y="5"/>
                    </a:cubicBezTo>
                    <a:cubicBezTo>
                      <a:pt x="11798" y="4"/>
                      <a:pt x="11799" y="3"/>
                      <a:pt x="11800" y="3"/>
                    </a:cubicBezTo>
                    <a:close/>
                    <a:moveTo>
                      <a:pt x="11808" y="3"/>
                    </a:moveTo>
                    <a:lnTo>
                      <a:pt x="11808" y="3"/>
                    </a:lnTo>
                    <a:cubicBezTo>
                      <a:pt x="11809" y="3"/>
                      <a:pt x="11810" y="4"/>
                      <a:pt x="11810" y="5"/>
                    </a:cubicBezTo>
                    <a:cubicBezTo>
                      <a:pt x="11810" y="6"/>
                      <a:pt x="11809" y="7"/>
                      <a:pt x="11808" y="7"/>
                    </a:cubicBezTo>
                    <a:lnTo>
                      <a:pt x="11808" y="7"/>
                    </a:lnTo>
                    <a:cubicBezTo>
                      <a:pt x="11807" y="7"/>
                      <a:pt x="11806" y="6"/>
                      <a:pt x="11806" y="5"/>
                    </a:cubicBezTo>
                    <a:cubicBezTo>
                      <a:pt x="11806" y="4"/>
                      <a:pt x="11807" y="3"/>
                      <a:pt x="11808" y="3"/>
                    </a:cubicBezTo>
                    <a:close/>
                    <a:moveTo>
                      <a:pt x="11816" y="3"/>
                    </a:moveTo>
                    <a:lnTo>
                      <a:pt x="11816" y="3"/>
                    </a:lnTo>
                    <a:cubicBezTo>
                      <a:pt x="11817" y="3"/>
                      <a:pt x="11818" y="4"/>
                      <a:pt x="11818" y="5"/>
                    </a:cubicBezTo>
                    <a:cubicBezTo>
                      <a:pt x="11818" y="6"/>
                      <a:pt x="11817" y="7"/>
                      <a:pt x="11816" y="7"/>
                    </a:cubicBezTo>
                    <a:lnTo>
                      <a:pt x="11816" y="7"/>
                    </a:lnTo>
                    <a:cubicBezTo>
                      <a:pt x="11815" y="7"/>
                      <a:pt x="11814" y="6"/>
                      <a:pt x="11814" y="5"/>
                    </a:cubicBezTo>
                    <a:cubicBezTo>
                      <a:pt x="11814" y="4"/>
                      <a:pt x="11815" y="3"/>
                      <a:pt x="11816" y="3"/>
                    </a:cubicBezTo>
                    <a:close/>
                    <a:moveTo>
                      <a:pt x="11824" y="3"/>
                    </a:moveTo>
                    <a:lnTo>
                      <a:pt x="11824" y="3"/>
                    </a:lnTo>
                    <a:cubicBezTo>
                      <a:pt x="11825" y="3"/>
                      <a:pt x="11826" y="4"/>
                      <a:pt x="11826" y="5"/>
                    </a:cubicBezTo>
                    <a:cubicBezTo>
                      <a:pt x="11826" y="6"/>
                      <a:pt x="11825" y="7"/>
                      <a:pt x="11824" y="7"/>
                    </a:cubicBezTo>
                    <a:lnTo>
                      <a:pt x="11824" y="7"/>
                    </a:lnTo>
                    <a:cubicBezTo>
                      <a:pt x="11823" y="7"/>
                      <a:pt x="11822" y="6"/>
                      <a:pt x="11822" y="5"/>
                    </a:cubicBezTo>
                    <a:cubicBezTo>
                      <a:pt x="11822" y="4"/>
                      <a:pt x="11823" y="3"/>
                      <a:pt x="11824" y="3"/>
                    </a:cubicBezTo>
                    <a:close/>
                    <a:moveTo>
                      <a:pt x="11832" y="3"/>
                    </a:moveTo>
                    <a:lnTo>
                      <a:pt x="11832" y="3"/>
                    </a:lnTo>
                    <a:cubicBezTo>
                      <a:pt x="11833" y="3"/>
                      <a:pt x="11834" y="4"/>
                      <a:pt x="11834" y="5"/>
                    </a:cubicBezTo>
                    <a:cubicBezTo>
                      <a:pt x="11834" y="6"/>
                      <a:pt x="11833" y="7"/>
                      <a:pt x="11832" y="7"/>
                    </a:cubicBezTo>
                    <a:lnTo>
                      <a:pt x="11832" y="7"/>
                    </a:lnTo>
                    <a:cubicBezTo>
                      <a:pt x="11831" y="7"/>
                      <a:pt x="11830" y="6"/>
                      <a:pt x="11830" y="5"/>
                    </a:cubicBezTo>
                    <a:cubicBezTo>
                      <a:pt x="11830" y="4"/>
                      <a:pt x="11831" y="3"/>
                      <a:pt x="11832" y="3"/>
                    </a:cubicBezTo>
                    <a:close/>
                    <a:moveTo>
                      <a:pt x="11840" y="3"/>
                    </a:moveTo>
                    <a:lnTo>
                      <a:pt x="11840" y="3"/>
                    </a:lnTo>
                    <a:cubicBezTo>
                      <a:pt x="11841" y="3"/>
                      <a:pt x="11842" y="4"/>
                      <a:pt x="11842" y="5"/>
                    </a:cubicBezTo>
                    <a:cubicBezTo>
                      <a:pt x="11842" y="6"/>
                      <a:pt x="11841" y="7"/>
                      <a:pt x="11840" y="7"/>
                    </a:cubicBezTo>
                    <a:lnTo>
                      <a:pt x="11840" y="7"/>
                    </a:lnTo>
                    <a:cubicBezTo>
                      <a:pt x="11839" y="7"/>
                      <a:pt x="11838" y="6"/>
                      <a:pt x="11838" y="5"/>
                    </a:cubicBezTo>
                    <a:cubicBezTo>
                      <a:pt x="11838" y="4"/>
                      <a:pt x="11839" y="3"/>
                      <a:pt x="11840" y="3"/>
                    </a:cubicBezTo>
                    <a:close/>
                    <a:moveTo>
                      <a:pt x="11848" y="3"/>
                    </a:moveTo>
                    <a:lnTo>
                      <a:pt x="11848" y="3"/>
                    </a:lnTo>
                    <a:cubicBezTo>
                      <a:pt x="11849" y="3"/>
                      <a:pt x="11850" y="4"/>
                      <a:pt x="11850" y="5"/>
                    </a:cubicBezTo>
                    <a:cubicBezTo>
                      <a:pt x="11850" y="6"/>
                      <a:pt x="11849" y="7"/>
                      <a:pt x="11848" y="7"/>
                    </a:cubicBezTo>
                    <a:lnTo>
                      <a:pt x="11848" y="7"/>
                    </a:lnTo>
                    <a:cubicBezTo>
                      <a:pt x="11847" y="7"/>
                      <a:pt x="11846" y="6"/>
                      <a:pt x="11846" y="5"/>
                    </a:cubicBezTo>
                    <a:cubicBezTo>
                      <a:pt x="11846" y="4"/>
                      <a:pt x="11847" y="3"/>
                      <a:pt x="11848" y="3"/>
                    </a:cubicBezTo>
                    <a:close/>
                    <a:moveTo>
                      <a:pt x="11856" y="3"/>
                    </a:moveTo>
                    <a:lnTo>
                      <a:pt x="11856" y="3"/>
                    </a:lnTo>
                    <a:cubicBezTo>
                      <a:pt x="11857" y="3"/>
                      <a:pt x="11858" y="4"/>
                      <a:pt x="11858" y="5"/>
                    </a:cubicBezTo>
                    <a:cubicBezTo>
                      <a:pt x="11858" y="6"/>
                      <a:pt x="11857" y="7"/>
                      <a:pt x="11856" y="7"/>
                    </a:cubicBezTo>
                    <a:lnTo>
                      <a:pt x="11856" y="7"/>
                    </a:lnTo>
                    <a:cubicBezTo>
                      <a:pt x="11855" y="7"/>
                      <a:pt x="11854" y="6"/>
                      <a:pt x="11854" y="5"/>
                    </a:cubicBezTo>
                    <a:cubicBezTo>
                      <a:pt x="11854" y="4"/>
                      <a:pt x="11855" y="3"/>
                      <a:pt x="11856" y="3"/>
                    </a:cubicBezTo>
                    <a:close/>
                    <a:moveTo>
                      <a:pt x="11864" y="3"/>
                    </a:moveTo>
                    <a:lnTo>
                      <a:pt x="11864" y="3"/>
                    </a:lnTo>
                    <a:cubicBezTo>
                      <a:pt x="11865" y="3"/>
                      <a:pt x="11866" y="4"/>
                      <a:pt x="11866" y="5"/>
                    </a:cubicBezTo>
                    <a:cubicBezTo>
                      <a:pt x="11866" y="6"/>
                      <a:pt x="11865" y="7"/>
                      <a:pt x="11864" y="7"/>
                    </a:cubicBezTo>
                    <a:lnTo>
                      <a:pt x="11864" y="7"/>
                    </a:lnTo>
                    <a:cubicBezTo>
                      <a:pt x="11863" y="7"/>
                      <a:pt x="11862" y="6"/>
                      <a:pt x="11862" y="5"/>
                    </a:cubicBezTo>
                    <a:cubicBezTo>
                      <a:pt x="11862" y="4"/>
                      <a:pt x="11863" y="3"/>
                      <a:pt x="11864" y="3"/>
                    </a:cubicBezTo>
                    <a:close/>
                    <a:moveTo>
                      <a:pt x="11872" y="3"/>
                    </a:moveTo>
                    <a:lnTo>
                      <a:pt x="11872" y="3"/>
                    </a:lnTo>
                    <a:cubicBezTo>
                      <a:pt x="11873" y="3"/>
                      <a:pt x="11874" y="4"/>
                      <a:pt x="11874" y="5"/>
                    </a:cubicBezTo>
                    <a:cubicBezTo>
                      <a:pt x="11874" y="6"/>
                      <a:pt x="11873" y="7"/>
                      <a:pt x="11872" y="7"/>
                    </a:cubicBezTo>
                    <a:lnTo>
                      <a:pt x="11872" y="7"/>
                    </a:lnTo>
                    <a:cubicBezTo>
                      <a:pt x="11871" y="7"/>
                      <a:pt x="11870" y="6"/>
                      <a:pt x="11870" y="5"/>
                    </a:cubicBezTo>
                    <a:cubicBezTo>
                      <a:pt x="11870" y="4"/>
                      <a:pt x="11871" y="3"/>
                      <a:pt x="11872" y="3"/>
                    </a:cubicBezTo>
                    <a:close/>
                    <a:moveTo>
                      <a:pt x="11880" y="3"/>
                    </a:moveTo>
                    <a:lnTo>
                      <a:pt x="11880" y="3"/>
                    </a:lnTo>
                    <a:cubicBezTo>
                      <a:pt x="11881" y="3"/>
                      <a:pt x="11882" y="4"/>
                      <a:pt x="11882" y="5"/>
                    </a:cubicBezTo>
                    <a:cubicBezTo>
                      <a:pt x="11882" y="6"/>
                      <a:pt x="11881" y="7"/>
                      <a:pt x="11880" y="7"/>
                    </a:cubicBezTo>
                    <a:lnTo>
                      <a:pt x="11880" y="7"/>
                    </a:lnTo>
                    <a:cubicBezTo>
                      <a:pt x="11879" y="7"/>
                      <a:pt x="11878" y="6"/>
                      <a:pt x="11878" y="5"/>
                    </a:cubicBezTo>
                    <a:cubicBezTo>
                      <a:pt x="11878" y="4"/>
                      <a:pt x="11879" y="3"/>
                      <a:pt x="11880" y="3"/>
                    </a:cubicBezTo>
                    <a:close/>
                    <a:moveTo>
                      <a:pt x="11888" y="3"/>
                    </a:moveTo>
                    <a:lnTo>
                      <a:pt x="11888" y="3"/>
                    </a:lnTo>
                    <a:cubicBezTo>
                      <a:pt x="11889" y="3"/>
                      <a:pt x="11890" y="4"/>
                      <a:pt x="11890" y="5"/>
                    </a:cubicBezTo>
                    <a:cubicBezTo>
                      <a:pt x="11890" y="6"/>
                      <a:pt x="11889" y="7"/>
                      <a:pt x="11888" y="7"/>
                    </a:cubicBezTo>
                    <a:lnTo>
                      <a:pt x="11888" y="7"/>
                    </a:lnTo>
                    <a:cubicBezTo>
                      <a:pt x="11887" y="7"/>
                      <a:pt x="11886" y="6"/>
                      <a:pt x="11886" y="5"/>
                    </a:cubicBezTo>
                    <a:cubicBezTo>
                      <a:pt x="11886" y="4"/>
                      <a:pt x="11887" y="3"/>
                      <a:pt x="11888" y="3"/>
                    </a:cubicBezTo>
                    <a:close/>
                    <a:moveTo>
                      <a:pt x="11896" y="3"/>
                    </a:moveTo>
                    <a:lnTo>
                      <a:pt x="11896" y="3"/>
                    </a:lnTo>
                    <a:cubicBezTo>
                      <a:pt x="11897" y="3"/>
                      <a:pt x="11898" y="4"/>
                      <a:pt x="11898" y="5"/>
                    </a:cubicBezTo>
                    <a:cubicBezTo>
                      <a:pt x="11898" y="6"/>
                      <a:pt x="11897" y="7"/>
                      <a:pt x="11896" y="7"/>
                    </a:cubicBezTo>
                    <a:lnTo>
                      <a:pt x="11896" y="7"/>
                    </a:lnTo>
                    <a:cubicBezTo>
                      <a:pt x="11895" y="7"/>
                      <a:pt x="11894" y="6"/>
                      <a:pt x="11894" y="5"/>
                    </a:cubicBezTo>
                    <a:cubicBezTo>
                      <a:pt x="11894" y="4"/>
                      <a:pt x="11895" y="3"/>
                      <a:pt x="11896" y="3"/>
                    </a:cubicBezTo>
                    <a:close/>
                    <a:moveTo>
                      <a:pt x="11904" y="3"/>
                    </a:moveTo>
                    <a:lnTo>
                      <a:pt x="11904" y="3"/>
                    </a:lnTo>
                    <a:cubicBezTo>
                      <a:pt x="11905" y="3"/>
                      <a:pt x="11906" y="4"/>
                      <a:pt x="11906" y="5"/>
                    </a:cubicBezTo>
                    <a:cubicBezTo>
                      <a:pt x="11906" y="6"/>
                      <a:pt x="11905" y="7"/>
                      <a:pt x="11904" y="7"/>
                    </a:cubicBezTo>
                    <a:lnTo>
                      <a:pt x="11904" y="7"/>
                    </a:lnTo>
                    <a:cubicBezTo>
                      <a:pt x="11903" y="7"/>
                      <a:pt x="11902" y="6"/>
                      <a:pt x="11902" y="5"/>
                    </a:cubicBezTo>
                    <a:cubicBezTo>
                      <a:pt x="11902" y="4"/>
                      <a:pt x="11903" y="3"/>
                      <a:pt x="11904" y="3"/>
                    </a:cubicBezTo>
                    <a:close/>
                    <a:moveTo>
                      <a:pt x="11912" y="3"/>
                    </a:moveTo>
                    <a:lnTo>
                      <a:pt x="11912" y="3"/>
                    </a:lnTo>
                    <a:cubicBezTo>
                      <a:pt x="11913" y="3"/>
                      <a:pt x="11914" y="4"/>
                      <a:pt x="11914" y="5"/>
                    </a:cubicBezTo>
                    <a:cubicBezTo>
                      <a:pt x="11914" y="6"/>
                      <a:pt x="11913" y="7"/>
                      <a:pt x="11912" y="7"/>
                    </a:cubicBezTo>
                    <a:lnTo>
                      <a:pt x="11912" y="7"/>
                    </a:lnTo>
                    <a:cubicBezTo>
                      <a:pt x="11911" y="7"/>
                      <a:pt x="11910" y="6"/>
                      <a:pt x="11910" y="5"/>
                    </a:cubicBezTo>
                    <a:cubicBezTo>
                      <a:pt x="11910" y="4"/>
                      <a:pt x="11911" y="3"/>
                      <a:pt x="11912" y="3"/>
                    </a:cubicBezTo>
                    <a:close/>
                    <a:moveTo>
                      <a:pt x="11920" y="3"/>
                    </a:moveTo>
                    <a:lnTo>
                      <a:pt x="11920" y="3"/>
                    </a:lnTo>
                    <a:cubicBezTo>
                      <a:pt x="11921" y="3"/>
                      <a:pt x="11922" y="4"/>
                      <a:pt x="11922" y="5"/>
                    </a:cubicBezTo>
                    <a:cubicBezTo>
                      <a:pt x="11922" y="6"/>
                      <a:pt x="11921" y="7"/>
                      <a:pt x="11920" y="7"/>
                    </a:cubicBezTo>
                    <a:lnTo>
                      <a:pt x="11920" y="7"/>
                    </a:lnTo>
                    <a:cubicBezTo>
                      <a:pt x="11919" y="7"/>
                      <a:pt x="11918" y="6"/>
                      <a:pt x="11918" y="5"/>
                    </a:cubicBezTo>
                    <a:cubicBezTo>
                      <a:pt x="11918" y="4"/>
                      <a:pt x="11919" y="3"/>
                      <a:pt x="11920" y="3"/>
                    </a:cubicBezTo>
                    <a:close/>
                    <a:moveTo>
                      <a:pt x="11928" y="3"/>
                    </a:moveTo>
                    <a:lnTo>
                      <a:pt x="11928" y="3"/>
                    </a:lnTo>
                    <a:cubicBezTo>
                      <a:pt x="11929" y="3"/>
                      <a:pt x="11930" y="4"/>
                      <a:pt x="11930" y="5"/>
                    </a:cubicBezTo>
                    <a:cubicBezTo>
                      <a:pt x="11930" y="6"/>
                      <a:pt x="11929" y="7"/>
                      <a:pt x="11928" y="7"/>
                    </a:cubicBezTo>
                    <a:lnTo>
                      <a:pt x="11928" y="7"/>
                    </a:lnTo>
                    <a:cubicBezTo>
                      <a:pt x="11927" y="7"/>
                      <a:pt x="11926" y="6"/>
                      <a:pt x="11926" y="5"/>
                    </a:cubicBezTo>
                    <a:cubicBezTo>
                      <a:pt x="11926" y="4"/>
                      <a:pt x="11927" y="3"/>
                      <a:pt x="11928" y="3"/>
                    </a:cubicBezTo>
                    <a:close/>
                    <a:moveTo>
                      <a:pt x="11936" y="3"/>
                    </a:moveTo>
                    <a:lnTo>
                      <a:pt x="11936" y="3"/>
                    </a:lnTo>
                    <a:cubicBezTo>
                      <a:pt x="11937" y="3"/>
                      <a:pt x="11938" y="4"/>
                      <a:pt x="11938" y="5"/>
                    </a:cubicBezTo>
                    <a:cubicBezTo>
                      <a:pt x="11938" y="6"/>
                      <a:pt x="11937" y="7"/>
                      <a:pt x="11936" y="7"/>
                    </a:cubicBezTo>
                    <a:lnTo>
                      <a:pt x="11936" y="7"/>
                    </a:lnTo>
                    <a:cubicBezTo>
                      <a:pt x="11935" y="7"/>
                      <a:pt x="11934" y="6"/>
                      <a:pt x="11934" y="5"/>
                    </a:cubicBezTo>
                    <a:cubicBezTo>
                      <a:pt x="11934" y="4"/>
                      <a:pt x="11935" y="3"/>
                      <a:pt x="11936" y="3"/>
                    </a:cubicBezTo>
                    <a:close/>
                    <a:moveTo>
                      <a:pt x="11944" y="3"/>
                    </a:moveTo>
                    <a:lnTo>
                      <a:pt x="11944" y="3"/>
                    </a:lnTo>
                    <a:cubicBezTo>
                      <a:pt x="11945" y="3"/>
                      <a:pt x="11946" y="4"/>
                      <a:pt x="11946" y="5"/>
                    </a:cubicBezTo>
                    <a:cubicBezTo>
                      <a:pt x="11946" y="6"/>
                      <a:pt x="11945" y="7"/>
                      <a:pt x="11944" y="7"/>
                    </a:cubicBezTo>
                    <a:lnTo>
                      <a:pt x="11944" y="7"/>
                    </a:lnTo>
                    <a:cubicBezTo>
                      <a:pt x="11943" y="7"/>
                      <a:pt x="11942" y="6"/>
                      <a:pt x="11942" y="5"/>
                    </a:cubicBezTo>
                    <a:cubicBezTo>
                      <a:pt x="11942" y="4"/>
                      <a:pt x="11943" y="3"/>
                      <a:pt x="11944" y="3"/>
                    </a:cubicBezTo>
                    <a:close/>
                    <a:moveTo>
                      <a:pt x="11952" y="3"/>
                    </a:moveTo>
                    <a:lnTo>
                      <a:pt x="11952" y="3"/>
                    </a:lnTo>
                    <a:cubicBezTo>
                      <a:pt x="11953" y="3"/>
                      <a:pt x="11954" y="4"/>
                      <a:pt x="11954" y="5"/>
                    </a:cubicBezTo>
                    <a:cubicBezTo>
                      <a:pt x="11954" y="6"/>
                      <a:pt x="11953" y="7"/>
                      <a:pt x="11952" y="7"/>
                    </a:cubicBezTo>
                    <a:lnTo>
                      <a:pt x="11952" y="7"/>
                    </a:lnTo>
                    <a:cubicBezTo>
                      <a:pt x="11951" y="7"/>
                      <a:pt x="11950" y="6"/>
                      <a:pt x="11950" y="5"/>
                    </a:cubicBezTo>
                    <a:cubicBezTo>
                      <a:pt x="11950" y="4"/>
                      <a:pt x="11951" y="3"/>
                      <a:pt x="11952" y="3"/>
                    </a:cubicBezTo>
                    <a:close/>
                    <a:moveTo>
                      <a:pt x="11960" y="3"/>
                    </a:moveTo>
                    <a:lnTo>
                      <a:pt x="11960" y="3"/>
                    </a:lnTo>
                    <a:cubicBezTo>
                      <a:pt x="11961" y="3"/>
                      <a:pt x="11962" y="4"/>
                      <a:pt x="11962" y="5"/>
                    </a:cubicBezTo>
                    <a:cubicBezTo>
                      <a:pt x="11962" y="6"/>
                      <a:pt x="11961" y="7"/>
                      <a:pt x="11960" y="7"/>
                    </a:cubicBezTo>
                    <a:lnTo>
                      <a:pt x="11960" y="7"/>
                    </a:lnTo>
                    <a:cubicBezTo>
                      <a:pt x="11959" y="7"/>
                      <a:pt x="11958" y="6"/>
                      <a:pt x="11958" y="5"/>
                    </a:cubicBezTo>
                    <a:cubicBezTo>
                      <a:pt x="11958" y="4"/>
                      <a:pt x="11959" y="3"/>
                      <a:pt x="11960" y="3"/>
                    </a:cubicBezTo>
                    <a:close/>
                    <a:moveTo>
                      <a:pt x="11968" y="3"/>
                    </a:moveTo>
                    <a:lnTo>
                      <a:pt x="11968" y="3"/>
                    </a:lnTo>
                    <a:cubicBezTo>
                      <a:pt x="11969" y="3"/>
                      <a:pt x="11970" y="4"/>
                      <a:pt x="11970" y="5"/>
                    </a:cubicBezTo>
                    <a:cubicBezTo>
                      <a:pt x="11970" y="6"/>
                      <a:pt x="11969" y="7"/>
                      <a:pt x="11968" y="7"/>
                    </a:cubicBezTo>
                    <a:lnTo>
                      <a:pt x="11968" y="7"/>
                    </a:lnTo>
                    <a:cubicBezTo>
                      <a:pt x="11967" y="7"/>
                      <a:pt x="11966" y="6"/>
                      <a:pt x="11966" y="5"/>
                    </a:cubicBezTo>
                    <a:cubicBezTo>
                      <a:pt x="11966" y="4"/>
                      <a:pt x="11967" y="3"/>
                      <a:pt x="11968" y="3"/>
                    </a:cubicBezTo>
                    <a:close/>
                    <a:moveTo>
                      <a:pt x="11976" y="3"/>
                    </a:moveTo>
                    <a:lnTo>
                      <a:pt x="11976" y="3"/>
                    </a:lnTo>
                    <a:cubicBezTo>
                      <a:pt x="11977" y="3"/>
                      <a:pt x="11978" y="4"/>
                      <a:pt x="11978" y="5"/>
                    </a:cubicBezTo>
                    <a:cubicBezTo>
                      <a:pt x="11978" y="6"/>
                      <a:pt x="11977" y="7"/>
                      <a:pt x="11976" y="7"/>
                    </a:cubicBezTo>
                    <a:lnTo>
                      <a:pt x="11976" y="7"/>
                    </a:lnTo>
                    <a:cubicBezTo>
                      <a:pt x="11975" y="7"/>
                      <a:pt x="11974" y="6"/>
                      <a:pt x="11974" y="5"/>
                    </a:cubicBezTo>
                    <a:cubicBezTo>
                      <a:pt x="11974" y="4"/>
                      <a:pt x="11975" y="3"/>
                      <a:pt x="11976" y="3"/>
                    </a:cubicBezTo>
                    <a:close/>
                    <a:moveTo>
                      <a:pt x="11984" y="3"/>
                    </a:moveTo>
                    <a:lnTo>
                      <a:pt x="11984" y="3"/>
                    </a:lnTo>
                    <a:cubicBezTo>
                      <a:pt x="11985" y="3"/>
                      <a:pt x="11986" y="4"/>
                      <a:pt x="11986" y="5"/>
                    </a:cubicBezTo>
                    <a:cubicBezTo>
                      <a:pt x="11986" y="6"/>
                      <a:pt x="11985" y="7"/>
                      <a:pt x="11984" y="7"/>
                    </a:cubicBezTo>
                    <a:lnTo>
                      <a:pt x="11984" y="7"/>
                    </a:lnTo>
                    <a:cubicBezTo>
                      <a:pt x="11983" y="7"/>
                      <a:pt x="11982" y="6"/>
                      <a:pt x="11982" y="5"/>
                    </a:cubicBezTo>
                    <a:cubicBezTo>
                      <a:pt x="11982" y="4"/>
                      <a:pt x="11983" y="3"/>
                      <a:pt x="11984" y="3"/>
                    </a:cubicBezTo>
                    <a:close/>
                    <a:moveTo>
                      <a:pt x="11992" y="3"/>
                    </a:moveTo>
                    <a:lnTo>
                      <a:pt x="11992" y="3"/>
                    </a:lnTo>
                    <a:cubicBezTo>
                      <a:pt x="11993" y="3"/>
                      <a:pt x="11994" y="4"/>
                      <a:pt x="11994" y="5"/>
                    </a:cubicBezTo>
                    <a:cubicBezTo>
                      <a:pt x="11994" y="6"/>
                      <a:pt x="11993" y="7"/>
                      <a:pt x="11992" y="7"/>
                    </a:cubicBezTo>
                    <a:lnTo>
                      <a:pt x="11992" y="7"/>
                    </a:lnTo>
                    <a:cubicBezTo>
                      <a:pt x="11991" y="7"/>
                      <a:pt x="11990" y="6"/>
                      <a:pt x="11990" y="5"/>
                    </a:cubicBezTo>
                    <a:cubicBezTo>
                      <a:pt x="11990" y="4"/>
                      <a:pt x="11991" y="3"/>
                      <a:pt x="11992" y="3"/>
                    </a:cubicBezTo>
                    <a:close/>
                    <a:moveTo>
                      <a:pt x="12000" y="3"/>
                    </a:moveTo>
                    <a:lnTo>
                      <a:pt x="12000" y="3"/>
                    </a:lnTo>
                    <a:cubicBezTo>
                      <a:pt x="12001" y="3"/>
                      <a:pt x="12002" y="4"/>
                      <a:pt x="12002" y="5"/>
                    </a:cubicBezTo>
                    <a:cubicBezTo>
                      <a:pt x="12002" y="6"/>
                      <a:pt x="12001" y="7"/>
                      <a:pt x="12000" y="7"/>
                    </a:cubicBezTo>
                    <a:lnTo>
                      <a:pt x="12000" y="7"/>
                    </a:lnTo>
                    <a:cubicBezTo>
                      <a:pt x="11999" y="7"/>
                      <a:pt x="11998" y="6"/>
                      <a:pt x="11998" y="5"/>
                    </a:cubicBezTo>
                    <a:cubicBezTo>
                      <a:pt x="11998" y="4"/>
                      <a:pt x="11999" y="3"/>
                      <a:pt x="12000" y="3"/>
                    </a:cubicBezTo>
                    <a:close/>
                    <a:moveTo>
                      <a:pt x="12008" y="3"/>
                    </a:moveTo>
                    <a:lnTo>
                      <a:pt x="12008" y="3"/>
                    </a:lnTo>
                    <a:cubicBezTo>
                      <a:pt x="12009" y="3"/>
                      <a:pt x="12010" y="4"/>
                      <a:pt x="12010" y="5"/>
                    </a:cubicBezTo>
                    <a:cubicBezTo>
                      <a:pt x="12010" y="6"/>
                      <a:pt x="12009" y="7"/>
                      <a:pt x="12008" y="7"/>
                    </a:cubicBezTo>
                    <a:lnTo>
                      <a:pt x="12008" y="7"/>
                    </a:lnTo>
                    <a:cubicBezTo>
                      <a:pt x="12007" y="7"/>
                      <a:pt x="12006" y="6"/>
                      <a:pt x="12006" y="5"/>
                    </a:cubicBezTo>
                    <a:cubicBezTo>
                      <a:pt x="12006" y="4"/>
                      <a:pt x="12007" y="3"/>
                      <a:pt x="12008" y="3"/>
                    </a:cubicBezTo>
                    <a:close/>
                    <a:moveTo>
                      <a:pt x="12016" y="3"/>
                    </a:moveTo>
                    <a:lnTo>
                      <a:pt x="12016" y="3"/>
                    </a:lnTo>
                    <a:cubicBezTo>
                      <a:pt x="12017" y="3"/>
                      <a:pt x="12018" y="4"/>
                      <a:pt x="12018" y="5"/>
                    </a:cubicBezTo>
                    <a:cubicBezTo>
                      <a:pt x="12018" y="6"/>
                      <a:pt x="12017" y="7"/>
                      <a:pt x="12016" y="7"/>
                    </a:cubicBezTo>
                    <a:lnTo>
                      <a:pt x="12016" y="7"/>
                    </a:lnTo>
                    <a:cubicBezTo>
                      <a:pt x="12015" y="7"/>
                      <a:pt x="12014" y="6"/>
                      <a:pt x="12014" y="5"/>
                    </a:cubicBezTo>
                    <a:cubicBezTo>
                      <a:pt x="12014" y="4"/>
                      <a:pt x="12015" y="3"/>
                      <a:pt x="12016" y="3"/>
                    </a:cubicBezTo>
                    <a:close/>
                    <a:moveTo>
                      <a:pt x="12024" y="3"/>
                    </a:moveTo>
                    <a:lnTo>
                      <a:pt x="12024" y="3"/>
                    </a:lnTo>
                    <a:cubicBezTo>
                      <a:pt x="12025" y="3"/>
                      <a:pt x="12026" y="4"/>
                      <a:pt x="12026" y="5"/>
                    </a:cubicBezTo>
                    <a:cubicBezTo>
                      <a:pt x="12026" y="6"/>
                      <a:pt x="12025" y="7"/>
                      <a:pt x="12024" y="7"/>
                    </a:cubicBezTo>
                    <a:lnTo>
                      <a:pt x="12024" y="7"/>
                    </a:lnTo>
                    <a:cubicBezTo>
                      <a:pt x="12023" y="7"/>
                      <a:pt x="12022" y="6"/>
                      <a:pt x="12022" y="5"/>
                    </a:cubicBezTo>
                    <a:cubicBezTo>
                      <a:pt x="12022" y="4"/>
                      <a:pt x="12023" y="3"/>
                      <a:pt x="12024" y="3"/>
                    </a:cubicBezTo>
                    <a:close/>
                    <a:moveTo>
                      <a:pt x="12032" y="3"/>
                    </a:moveTo>
                    <a:lnTo>
                      <a:pt x="12032" y="3"/>
                    </a:lnTo>
                    <a:cubicBezTo>
                      <a:pt x="12033" y="3"/>
                      <a:pt x="12034" y="4"/>
                      <a:pt x="12034" y="5"/>
                    </a:cubicBezTo>
                    <a:cubicBezTo>
                      <a:pt x="12034" y="6"/>
                      <a:pt x="12033" y="7"/>
                      <a:pt x="12032" y="7"/>
                    </a:cubicBezTo>
                    <a:lnTo>
                      <a:pt x="12032" y="7"/>
                    </a:lnTo>
                    <a:cubicBezTo>
                      <a:pt x="12031" y="7"/>
                      <a:pt x="12030" y="6"/>
                      <a:pt x="12030" y="5"/>
                    </a:cubicBezTo>
                    <a:cubicBezTo>
                      <a:pt x="12030" y="4"/>
                      <a:pt x="12031" y="3"/>
                      <a:pt x="12032" y="3"/>
                    </a:cubicBezTo>
                    <a:close/>
                    <a:moveTo>
                      <a:pt x="12040" y="3"/>
                    </a:moveTo>
                    <a:lnTo>
                      <a:pt x="12040" y="3"/>
                    </a:lnTo>
                    <a:cubicBezTo>
                      <a:pt x="12041" y="3"/>
                      <a:pt x="12042" y="4"/>
                      <a:pt x="12042" y="5"/>
                    </a:cubicBezTo>
                    <a:cubicBezTo>
                      <a:pt x="12042" y="6"/>
                      <a:pt x="12041" y="7"/>
                      <a:pt x="12040" y="7"/>
                    </a:cubicBezTo>
                    <a:lnTo>
                      <a:pt x="12040" y="7"/>
                    </a:lnTo>
                    <a:cubicBezTo>
                      <a:pt x="12039" y="7"/>
                      <a:pt x="12038" y="6"/>
                      <a:pt x="12038" y="5"/>
                    </a:cubicBezTo>
                    <a:cubicBezTo>
                      <a:pt x="12038" y="4"/>
                      <a:pt x="12039" y="3"/>
                      <a:pt x="12040" y="3"/>
                    </a:cubicBezTo>
                    <a:close/>
                    <a:moveTo>
                      <a:pt x="12048" y="3"/>
                    </a:moveTo>
                    <a:lnTo>
                      <a:pt x="12048" y="3"/>
                    </a:lnTo>
                    <a:cubicBezTo>
                      <a:pt x="12049" y="3"/>
                      <a:pt x="12050" y="4"/>
                      <a:pt x="12050" y="5"/>
                    </a:cubicBezTo>
                    <a:cubicBezTo>
                      <a:pt x="12050" y="6"/>
                      <a:pt x="12049" y="7"/>
                      <a:pt x="12048" y="7"/>
                    </a:cubicBezTo>
                    <a:lnTo>
                      <a:pt x="12048" y="7"/>
                    </a:lnTo>
                    <a:cubicBezTo>
                      <a:pt x="12047" y="7"/>
                      <a:pt x="12046" y="6"/>
                      <a:pt x="12046" y="5"/>
                    </a:cubicBezTo>
                    <a:cubicBezTo>
                      <a:pt x="12046" y="4"/>
                      <a:pt x="12047" y="3"/>
                      <a:pt x="12048" y="3"/>
                    </a:cubicBezTo>
                    <a:close/>
                    <a:moveTo>
                      <a:pt x="12056" y="3"/>
                    </a:moveTo>
                    <a:lnTo>
                      <a:pt x="12056" y="3"/>
                    </a:lnTo>
                    <a:cubicBezTo>
                      <a:pt x="12057" y="3"/>
                      <a:pt x="12058" y="4"/>
                      <a:pt x="12058" y="5"/>
                    </a:cubicBezTo>
                    <a:cubicBezTo>
                      <a:pt x="12058" y="6"/>
                      <a:pt x="12057" y="7"/>
                      <a:pt x="12056" y="7"/>
                    </a:cubicBezTo>
                    <a:lnTo>
                      <a:pt x="12056" y="7"/>
                    </a:lnTo>
                    <a:cubicBezTo>
                      <a:pt x="12055" y="7"/>
                      <a:pt x="12054" y="6"/>
                      <a:pt x="12054" y="5"/>
                    </a:cubicBezTo>
                    <a:cubicBezTo>
                      <a:pt x="12054" y="4"/>
                      <a:pt x="12055" y="3"/>
                      <a:pt x="12056" y="3"/>
                    </a:cubicBezTo>
                    <a:close/>
                    <a:moveTo>
                      <a:pt x="12064" y="3"/>
                    </a:moveTo>
                    <a:lnTo>
                      <a:pt x="12064" y="3"/>
                    </a:lnTo>
                    <a:cubicBezTo>
                      <a:pt x="12065" y="3"/>
                      <a:pt x="12066" y="4"/>
                      <a:pt x="12066" y="5"/>
                    </a:cubicBezTo>
                    <a:cubicBezTo>
                      <a:pt x="12066" y="6"/>
                      <a:pt x="12065" y="7"/>
                      <a:pt x="12064" y="7"/>
                    </a:cubicBezTo>
                    <a:lnTo>
                      <a:pt x="12064" y="7"/>
                    </a:lnTo>
                    <a:cubicBezTo>
                      <a:pt x="12063" y="7"/>
                      <a:pt x="12062" y="6"/>
                      <a:pt x="12062" y="5"/>
                    </a:cubicBezTo>
                    <a:cubicBezTo>
                      <a:pt x="12062" y="4"/>
                      <a:pt x="12063" y="3"/>
                      <a:pt x="12064" y="3"/>
                    </a:cubicBezTo>
                    <a:close/>
                    <a:moveTo>
                      <a:pt x="12072" y="3"/>
                    </a:moveTo>
                    <a:lnTo>
                      <a:pt x="12072" y="3"/>
                    </a:lnTo>
                    <a:cubicBezTo>
                      <a:pt x="12073" y="3"/>
                      <a:pt x="12074" y="4"/>
                      <a:pt x="12074" y="5"/>
                    </a:cubicBezTo>
                    <a:cubicBezTo>
                      <a:pt x="12074" y="6"/>
                      <a:pt x="12073" y="7"/>
                      <a:pt x="12072" y="7"/>
                    </a:cubicBezTo>
                    <a:lnTo>
                      <a:pt x="12072" y="7"/>
                    </a:lnTo>
                    <a:cubicBezTo>
                      <a:pt x="12071" y="7"/>
                      <a:pt x="12070" y="6"/>
                      <a:pt x="12070" y="5"/>
                    </a:cubicBezTo>
                    <a:cubicBezTo>
                      <a:pt x="12070" y="4"/>
                      <a:pt x="12071" y="3"/>
                      <a:pt x="12072" y="3"/>
                    </a:cubicBezTo>
                    <a:close/>
                    <a:moveTo>
                      <a:pt x="12080" y="3"/>
                    </a:moveTo>
                    <a:lnTo>
                      <a:pt x="12080" y="3"/>
                    </a:lnTo>
                    <a:cubicBezTo>
                      <a:pt x="12081" y="3"/>
                      <a:pt x="12082" y="4"/>
                      <a:pt x="12082" y="5"/>
                    </a:cubicBezTo>
                    <a:cubicBezTo>
                      <a:pt x="12082" y="6"/>
                      <a:pt x="12081" y="7"/>
                      <a:pt x="12080" y="7"/>
                    </a:cubicBezTo>
                    <a:lnTo>
                      <a:pt x="12080" y="7"/>
                    </a:lnTo>
                    <a:cubicBezTo>
                      <a:pt x="12079" y="7"/>
                      <a:pt x="12078" y="6"/>
                      <a:pt x="12078" y="5"/>
                    </a:cubicBezTo>
                    <a:cubicBezTo>
                      <a:pt x="12078" y="4"/>
                      <a:pt x="12079" y="3"/>
                      <a:pt x="12080" y="3"/>
                    </a:cubicBezTo>
                    <a:close/>
                    <a:moveTo>
                      <a:pt x="12088" y="3"/>
                    </a:moveTo>
                    <a:lnTo>
                      <a:pt x="12088" y="3"/>
                    </a:lnTo>
                    <a:cubicBezTo>
                      <a:pt x="12089" y="3"/>
                      <a:pt x="12090" y="4"/>
                      <a:pt x="12090" y="5"/>
                    </a:cubicBezTo>
                    <a:cubicBezTo>
                      <a:pt x="12090" y="6"/>
                      <a:pt x="12089" y="7"/>
                      <a:pt x="12088" y="7"/>
                    </a:cubicBezTo>
                    <a:lnTo>
                      <a:pt x="12088" y="7"/>
                    </a:lnTo>
                    <a:cubicBezTo>
                      <a:pt x="12087" y="7"/>
                      <a:pt x="12086" y="6"/>
                      <a:pt x="12086" y="5"/>
                    </a:cubicBezTo>
                    <a:cubicBezTo>
                      <a:pt x="12086" y="4"/>
                      <a:pt x="12087" y="3"/>
                      <a:pt x="12088" y="3"/>
                    </a:cubicBezTo>
                    <a:close/>
                    <a:moveTo>
                      <a:pt x="12096" y="3"/>
                    </a:moveTo>
                    <a:lnTo>
                      <a:pt x="12096" y="3"/>
                    </a:lnTo>
                    <a:cubicBezTo>
                      <a:pt x="12097" y="3"/>
                      <a:pt x="12098" y="4"/>
                      <a:pt x="12098" y="5"/>
                    </a:cubicBezTo>
                    <a:cubicBezTo>
                      <a:pt x="12098" y="6"/>
                      <a:pt x="12097" y="7"/>
                      <a:pt x="12096" y="7"/>
                    </a:cubicBezTo>
                    <a:lnTo>
                      <a:pt x="12096" y="7"/>
                    </a:lnTo>
                    <a:cubicBezTo>
                      <a:pt x="12095" y="7"/>
                      <a:pt x="12094" y="6"/>
                      <a:pt x="12094" y="5"/>
                    </a:cubicBezTo>
                    <a:cubicBezTo>
                      <a:pt x="12094" y="4"/>
                      <a:pt x="12095" y="3"/>
                      <a:pt x="12096" y="3"/>
                    </a:cubicBezTo>
                    <a:close/>
                    <a:moveTo>
                      <a:pt x="12104" y="3"/>
                    </a:moveTo>
                    <a:lnTo>
                      <a:pt x="12104" y="3"/>
                    </a:lnTo>
                    <a:cubicBezTo>
                      <a:pt x="12105" y="3"/>
                      <a:pt x="12106" y="4"/>
                      <a:pt x="12106" y="5"/>
                    </a:cubicBezTo>
                    <a:cubicBezTo>
                      <a:pt x="12106" y="6"/>
                      <a:pt x="12105" y="7"/>
                      <a:pt x="12104" y="7"/>
                    </a:cubicBezTo>
                    <a:lnTo>
                      <a:pt x="12104" y="7"/>
                    </a:lnTo>
                    <a:cubicBezTo>
                      <a:pt x="12103" y="7"/>
                      <a:pt x="12102" y="6"/>
                      <a:pt x="12102" y="5"/>
                    </a:cubicBezTo>
                    <a:cubicBezTo>
                      <a:pt x="12102" y="4"/>
                      <a:pt x="12103" y="3"/>
                      <a:pt x="12104" y="3"/>
                    </a:cubicBezTo>
                    <a:close/>
                    <a:moveTo>
                      <a:pt x="12112" y="3"/>
                    </a:moveTo>
                    <a:lnTo>
                      <a:pt x="12112" y="3"/>
                    </a:lnTo>
                    <a:cubicBezTo>
                      <a:pt x="12113" y="3"/>
                      <a:pt x="12114" y="4"/>
                      <a:pt x="12114" y="5"/>
                    </a:cubicBezTo>
                    <a:cubicBezTo>
                      <a:pt x="12114" y="6"/>
                      <a:pt x="12113" y="7"/>
                      <a:pt x="12112" y="7"/>
                    </a:cubicBezTo>
                    <a:lnTo>
                      <a:pt x="12112" y="7"/>
                    </a:lnTo>
                    <a:cubicBezTo>
                      <a:pt x="12111" y="7"/>
                      <a:pt x="12110" y="6"/>
                      <a:pt x="12110" y="5"/>
                    </a:cubicBezTo>
                    <a:cubicBezTo>
                      <a:pt x="12110" y="4"/>
                      <a:pt x="12111" y="3"/>
                      <a:pt x="12112" y="3"/>
                    </a:cubicBezTo>
                    <a:close/>
                    <a:moveTo>
                      <a:pt x="12120" y="3"/>
                    </a:moveTo>
                    <a:lnTo>
                      <a:pt x="12120" y="3"/>
                    </a:lnTo>
                    <a:cubicBezTo>
                      <a:pt x="12121" y="3"/>
                      <a:pt x="12122" y="4"/>
                      <a:pt x="12122" y="5"/>
                    </a:cubicBezTo>
                    <a:cubicBezTo>
                      <a:pt x="12122" y="6"/>
                      <a:pt x="12121" y="7"/>
                      <a:pt x="12120" y="7"/>
                    </a:cubicBezTo>
                    <a:lnTo>
                      <a:pt x="12120" y="7"/>
                    </a:lnTo>
                    <a:cubicBezTo>
                      <a:pt x="12119" y="7"/>
                      <a:pt x="12118" y="6"/>
                      <a:pt x="12118" y="5"/>
                    </a:cubicBezTo>
                    <a:cubicBezTo>
                      <a:pt x="12118" y="4"/>
                      <a:pt x="12119" y="3"/>
                      <a:pt x="12120" y="3"/>
                    </a:cubicBezTo>
                    <a:close/>
                    <a:moveTo>
                      <a:pt x="12128" y="3"/>
                    </a:moveTo>
                    <a:lnTo>
                      <a:pt x="12128" y="3"/>
                    </a:lnTo>
                    <a:cubicBezTo>
                      <a:pt x="12129" y="3"/>
                      <a:pt x="12130" y="4"/>
                      <a:pt x="12130" y="5"/>
                    </a:cubicBezTo>
                    <a:cubicBezTo>
                      <a:pt x="12130" y="6"/>
                      <a:pt x="12129" y="7"/>
                      <a:pt x="12128" y="7"/>
                    </a:cubicBezTo>
                    <a:lnTo>
                      <a:pt x="12128" y="7"/>
                    </a:lnTo>
                    <a:cubicBezTo>
                      <a:pt x="12127" y="7"/>
                      <a:pt x="12126" y="6"/>
                      <a:pt x="12126" y="5"/>
                    </a:cubicBezTo>
                    <a:cubicBezTo>
                      <a:pt x="12126" y="4"/>
                      <a:pt x="12127" y="3"/>
                      <a:pt x="12128" y="3"/>
                    </a:cubicBezTo>
                    <a:close/>
                    <a:moveTo>
                      <a:pt x="12136" y="3"/>
                    </a:moveTo>
                    <a:lnTo>
                      <a:pt x="12136" y="3"/>
                    </a:lnTo>
                    <a:cubicBezTo>
                      <a:pt x="12137" y="3"/>
                      <a:pt x="12138" y="4"/>
                      <a:pt x="12138" y="5"/>
                    </a:cubicBezTo>
                    <a:cubicBezTo>
                      <a:pt x="12138" y="6"/>
                      <a:pt x="12137" y="7"/>
                      <a:pt x="12136" y="7"/>
                    </a:cubicBezTo>
                    <a:lnTo>
                      <a:pt x="12136" y="7"/>
                    </a:lnTo>
                    <a:cubicBezTo>
                      <a:pt x="12135" y="7"/>
                      <a:pt x="12134" y="6"/>
                      <a:pt x="12134" y="5"/>
                    </a:cubicBezTo>
                    <a:cubicBezTo>
                      <a:pt x="12134" y="4"/>
                      <a:pt x="12135" y="3"/>
                      <a:pt x="12136" y="3"/>
                    </a:cubicBezTo>
                    <a:close/>
                    <a:moveTo>
                      <a:pt x="12144" y="3"/>
                    </a:moveTo>
                    <a:lnTo>
                      <a:pt x="12144" y="3"/>
                    </a:lnTo>
                    <a:cubicBezTo>
                      <a:pt x="12145" y="3"/>
                      <a:pt x="12146" y="4"/>
                      <a:pt x="12146" y="5"/>
                    </a:cubicBezTo>
                    <a:cubicBezTo>
                      <a:pt x="12146" y="6"/>
                      <a:pt x="12145" y="7"/>
                      <a:pt x="12144" y="7"/>
                    </a:cubicBezTo>
                    <a:lnTo>
                      <a:pt x="12144" y="7"/>
                    </a:lnTo>
                    <a:cubicBezTo>
                      <a:pt x="12143" y="7"/>
                      <a:pt x="12142" y="6"/>
                      <a:pt x="12142" y="5"/>
                    </a:cubicBezTo>
                    <a:cubicBezTo>
                      <a:pt x="12142" y="4"/>
                      <a:pt x="12143" y="3"/>
                      <a:pt x="12144" y="3"/>
                    </a:cubicBezTo>
                    <a:close/>
                    <a:moveTo>
                      <a:pt x="12152" y="3"/>
                    </a:moveTo>
                    <a:lnTo>
                      <a:pt x="12152" y="3"/>
                    </a:lnTo>
                    <a:cubicBezTo>
                      <a:pt x="12153" y="3"/>
                      <a:pt x="12154" y="4"/>
                      <a:pt x="12154" y="5"/>
                    </a:cubicBezTo>
                    <a:cubicBezTo>
                      <a:pt x="12154" y="6"/>
                      <a:pt x="12153" y="7"/>
                      <a:pt x="12152" y="7"/>
                    </a:cubicBezTo>
                    <a:lnTo>
                      <a:pt x="12152" y="7"/>
                    </a:lnTo>
                    <a:cubicBezTo>
                      <a:pt x="12151" y="7"/>
                      <a:pt x="12150" y="6"/>
                      <a:pt x="12150" y="5"/>
                    </a:cubicBezTo>
                    <a:cubicBezTo>
                      <a:pt x="12150" y="4"/>
                      <a:pt x="12151" y="3"/>
                      <a:pt x="12152" y="3"/>
                    </a:cubicBezTo>
                    <a:close/>
                    <a:moveTo>
                      <a:pt x="12160" y="3"/>
                    </a:moveTo>
                    <a:lnTo>
                      <a:pt x="12160" y="3"/>
                    </a:lnTo>
                    <a:cubicBezTo>
                      <a:pt x="12161" y="3"/>
                      <a:pt x="12162" y="4"/>
                      <a:pt x="12162" y="5"/>
                    </a:cubicBezTo>
                    <a:cubicBezTo>
                      <a:pt x="12162" y="6"/>
                      <a:pt x="12161" y="7"/>
                      <a:pt x="12160" y="7"/>
                    </a:cubicBezTo>
                    <a:lnTo>
                      <a:pt x="12160" y="7"/>
                    </a:lnTo>
                    <a:cubicBezTo>
                      <a:pt x="12159" y="7"/>
                      <a:pt x="12158" y="6"/>
                      <a:pt x="12158" y="5"/>
                    </a:cubicBezTo>
                    <a:cubicBezTo>
                      <a:pt x="12158" y="4"/>
                      <a:pt x="12159" y="3"/>
                      <a:pt x="12160" y="3"/>
                    </a:cubicBezTo>
                    <a:close/>
                    <a:moveTo>
                      <a:pt x="12168" y="3"/>
                    </a:moveTo>
                    <a:lnTo>
                      <a:pt x="12168" y="3"/>
                    </a:lnTo>
                    <a:cubicBezTo>
                      <a:pt x="12169" y="3"/>
                      <a:pt x="12170" y="4"/>
                      <a:pt x="12170" y="5"/>
                    </a:cubicBezTo>
                    <a:cubicBezTo>
                      <a:pt x="12170" y="6"/>
                      <a:pt x="12169" y="7"/>
                      <a:pt x="12168" y="7"/>
                    </a:cubicBezTo>
                    <a:lnTo>
                      <a:pt x="12168" y="7"/>
                    </a:lnTo>
                    <a:cubicBezTo>
                      <a:pt x="12167" y="7"/>
                      <a:pt x="12166" y="6"/>
                      <a:pt x="12166" y="5"/>
                    </a:cubicBezTo>
                    <a:cubicBezTo>
                      <a:pt x="12166" y="4"/>
                      <a:pt x="12167" y="3"/>
                      <a:pt x="12168" y="3"/>
                    </a:cubicBezTo>
                    <a:close/>
                    <a:moveTo>
                      <a:pt x="12176" y="3"/>
                    </a:moveTo>
                    <a:lnTo>
                      <a:pt x="12176" y="3"/>
                    </a:lnTo>
                    <a:cubicBezTo>
                      <a:pt x="12177" y="3"/>
                      <a:pt x="12178" y="4"/>
                      <a:pt x="12178" y="5"/>
                    </a:cubicBezTo>
                    <a:cubicBezTo>
                      <a:pt x="12178" y="6"/>
                      <a:pt x="12177" y="7"/>
                      <a:pt x="12176" y="7"/>
                    </a:cubicBezTo>
                    <a:lnTo>
                      <a:pt x="12176" y="7"/>
                    </a:lnTo>
                    <a:cubicBezTo>
                      <a:pt x="12175" y="7"/>
                      <a:pt x="12174" y="6"/>
                      <a:pt x="12174" y="5"/>
                    </a:cubicBezTo>
                    <a:cubicBezTo>
                      <a:pt x="12174" y="4"/>
                      <a:pt x="12175" y="3"/>
                      <a:pt x="12176" y="3"/>
                    </a:cubicBezTo>
                    <a:close/>
                    <a:moveTo>
                      <a:pt x="12184" y="3"/>
                    </a:moveTo>
                    <a:lnTo>
                      <a:pt x="12184" y="3"/>
                    </a:lnTo>
                    <a:cubicBezTo>
                      <a:pt x="12185" y="3"/>
                      <a:pt x="12186" y="4"/>
                      <a:pt x="12186" y="5"/>
                    </a:cubicBezTo>
                    <a:cubicBezTo>
                      <a:pt x="12186" y="6"/>
                      <a:pt x="12185" y="7"/>
                      <a:pt x="12184" y="7"/>
                    </a:cubicBezTo>
                    <a:lnTo>
                      <a:pt x="12184" y="7"/>
                    </a:lnTo>
                    <a:cubicBezTo>
                      <a:pt x="12183" y="7"/>
                      <a:pt x="12182" y="6"/>
                      <a:pt x="12182" y="5"/>
                    </a:cubicBezTo>
                    <a:cubicBezTo>
                      <a:pt x="12182" y="4"/>
                      <a:pt x="12183" y="3"/>
                      <a:pt x="12184" y="3"/>
                    </a:cubicBezTo>
                    <a:close/>
                    <a:moveTo>
                      <a:pt x="12192" y="3"/>
                    </a:moveTo>
                    <a:lnTo>
                      <a:pt x="12192" y="3"/>
                    </a:lnTo>
                    <a:cubicBezTo>
                      <a:pt x="12193" y="3"/>
                      <a:pt x="12194" y="4"/>
                      <a:pt x="12194" y="5"/>
                    </a:cubicBezTo>
                    <a:cubicBezTo>
                      <a:pt x="12194" y="6"/>
                      <a:pt x="12193" y="7"/>
                      <a:pt x="12192" y="7"/>
                    </a:cubicBezTo>
                    <a:lnTo>
                      <a:pt x="12192" y="7"/>
                    </a:lnTo>
                    <a:cubicBezTo>
                      <a:pt x="12191" y="7"/>
                      <a:pt x="12190" y="6"/>
                      <a:pt x="12190" y="5"/>
                    </a:cubicBezTo>
                    <a:cubicBezTo>
                      <a:pt x="12190" y="4"/>
                      <a:pt x="12191" y="3"/>
                      <a:pt x="12192" y="3"/>
                    </a:cubicBezTo>
                    <a:close/>
                    <a:moveTo>
                      <a:pt x="12200" y="3"/>
                    </a:moveTo>
                    <a:lnTo>
                      <a:pt x="12200" y="3"/>
                    </a:lnTo>
                    <a:cubicBezTo>
                      <a:pt x="12201" y="3"/>
                      <a:pt x="12202" y="4"/>
                      <a:pt x="12202" y="5"/>
                    </a:cubicBezTo>
                    <a:cubicBezTo>
                      <a:pt x="12202" y="6"/>
                      <a:pt x="12201" y="7"/>
                      <a:pt x="12200" y="7"/>
                    </a:cubicBezTo>
                    <a:lnTo>
                      <a:pt x="12200" y="7"/>
                    </a:lnTo>
                    <a:cubicBezTo>
                      <a:pt x="12199" y="7"/>
                      <a:pt x="12198" y="6"/>
                      <a:pt x="12198" y="5"/>
                    </a:cubicBezTo>
                    <a:cubicBezTo>
                      <a:pt x="12198" y="4"/>
                      <a:pt x="12199" y="3"/>
                      <a:pt x="12200" y="3"/>
                    </a:cubicBezTo>
                    <a:close/>
                    <a:moveTo>
                      <a:pt x="12208" y="3"/>
                    </a:moveTo>
                    <a:lnTo>
                      <a:pt x="12208" y="3"/>
                    </a:lnTo>
                    <a:cubicBezTo>
                      <a:pt x="12209" y="3"/>
                      <a:pt x="12210" y="4"/>
                      <a:pt x="12210" y="5"/>
                    </a:cubicBezTo>
                    <a:cubicBezTo>
                      <a:pt x="12210" y="6"/>
                      <a:pt x="12209" y="7"/>
                      <a:pt x="12208" y="7"/>
                    </a:cubicBezTo>
                    <a:lnTo>
                      <a:pt x="12208" y="7"/>
                    </a:lnTo>
                    <a:cubicBezTo>
                      <a:pt x="12207" y="7"/>
                      <a:pt x="12206" y="6"/>
                      <a:pt x="12206" y="5"/>
                    </a:cubicBezTo>
                    <a:cubicBezTo>
                      <a:pt x="12206" y="4"/>
                      <a:pt x="12207" y="3"/>
                      <a:pt x="12208" y="3"/>
                    </a:cubicBezTo>
                    <a:close/>
                    <a:moveTo>
                      <a:pt x="12216" y="3"/>
                    </a:moveTo>
                    <a:lnTo>
                      <a:pt x="12216" y="3"/>
                    </a:lnTo>
                    <a:cubicBezTo>
                      <a:pt x="12217" y="3"/>
                      <a:pt x="12218" y="4"/>
                      <a:pt x="12218" y="5"/>
                    </a:cubicBezTo>
                    <a:cubicBezTo>
                      <a:pt x="12218" y="6"/>
                      <a:pt x="12217" y="7"/>
                      <a:pt x="12216" y="7"/>
                    </a:cubicBezTo>
                    <a:lnTo>
                      <a:pt x="12216" y="7"/>
                    </a:lnTo>
                    <a:cubicBezTo>
                      <a:pt x="12215" y="7"/>
                      <a:pt x="12214" y="6"/>
                      <a:pt x="12214" y="5"/>
                    </a:cubicBezTo>
                    <a:cubicBezTo>
                      <a:pt x="12214" y="4"/>
                      <a:pt x="12215" y="3"/>
                      <a:pt x="12216" y="3"/>
                    </a:cubicBezTo>
                    <a:close/>
                    <a:moveTo>
                      <a:pt x="12224" y="3"/>
                    </a:moveTo>
                    <a:lnTo>
                      <a:pt x="12224" y="3"/>
                    </a:lnTo>
                    <a:cubicBezTo>
                      <a:pt x="12225" y="3"/>
                      <a:pt x="12226" y="4"/>
                      <a:pt x="12226" y="5"/>
                    </a:cubicBezTo>
                    <a:cubicBezTo>
                      <a:pt x="12226" y="6"/>
                      <a:pt x="12225" y="7"/>
                      <a:pt x="12224" y="7"/>
                    </a:cubicBezTo>
                    <a:lnTo>
                      <a:pt x="12224" y="7"/>
                    </a:lnTo>
                    <a:cubicBezTo>
                      <a:pt x="12223" y="7"/>
                      <a:pt x="12222" y="6"/>
                      <a:pt x="12222" y="5"/>
                    </a:cubicBezTo>
                    <a:cubicBezTo>
                      <a:pt x="12222" y="4"/>
                      <a:pt x="12223" y="3"/>
                      <a:pt x="12224" y="3"/>
                    </a:cubicBezTo>
                    <a:close/>
                    <a:moveTo>
                      <a:pt x="12232" y="3"/>
                    </a:moveTo>
                    <a:lnTo>
                      <a:pt x="12232" y="3"/>
                    </a:lnTo>
                    <a:cubicBezTo>
                      <a:pt x="12233" y="3"/>
                      <a:pt x="12234" y="4"/>
                      <a:pt x="12234" y="5"/>
                    </a:cubicBezTo>
                    <a:cubicBezTo>
                      <a:pt x="12234" y="6"/>
                      <a:pt x="12233" y="7"/>
                      <a:pt x="12232" y="7"/>
                    </a:cubicBezTo>
                    <a:lnTo>
                      <a:pt x="12232" y="7"/>
                    </a:lnTo>
                    <a:cubicBezTo>
                      <a:pt x="12231" y="7"/>
                      <a:pt x="12230" y="6"/>
                      <a:pt x="12230" y="5"/>
                    </a:cubicBezTo>
                    <a:cubicBezTo>
                      <a:pt x="12230" y="4"/>
                      <a:pt x="12231" y="3"/>
                      <a:pt x="12232" y="3"/>
                    </a:cubicBezTo>
                    <a:close/>
                    <a:moveTo>
                      <a:pt x="12240" y="3"/>
                    </a:moveTo>
                    <a:lnTo>
                      <a:pt x="12240" y="3"/>
                    </a:lnTo>
                    <a:cubicBezTo>
                      <a:pt x="12241" y="3"/>
                      <a:pt x="12242" y="4"/>
                      <a:pt x="12242" y="5"/>
                    </a:cubicBezTo>
                    <a:cubicBezTo>
                      <a:pt x="12242" y="6"/>
                      <a:pt x="12241" y="7"/>
                      <a:pt x="12240" y="7"/>
                    </a:cubicBezTo>
                    <a:lnTo>
                      <a:pt x="12240" y="7"/>
                    </a:lnTo>
                    <a:cubicBezTo>
                      <a:pt x="12239" y="7"/>
                      <a:pt x="12238" y="6"/>
                      <a:pt x="12238" y="5"/>
                    </a:cubicBezTo>
                    <a:cubicBezTo>
                      <a:pt x="12238" y="4"/>
                      <a:pt x="12239" y="3"/>
                      <a:pt x="12240" y="3"/>
                    </a:cubicBezTo>
                    <a:close/>
                    <a:moveTo>
                      <a:pt x="12248" y="3"/>
                    </a:moveTo>
                    <a:lnTo>
                      <a:pt x="12248" y="3"/>
                    </a:lnTo>
                    <a:cubicBezTo>
                      <a:pt x="12249" y="3"/>
                      <a:pt x="12250" y="4"/>
                      <a:pt x="12250" y="5"/>
                    </a:cubicBezTo>
                    <a:cubicBezTo>
                      <a:pt x="12250" y="6"/>
                      <a:pt x="12249" y="7"/>
                      <a:pt x="12248" y="7"/>
                    </a:cubicBezTo>
                    <a:lnTo>
                      <a:pt x="12248" y="7"/>
                    </a:lnTo>
                    <a:cubicBezTo>
                      <a:pt x="12247" y="7"/>
                      <a:pt x="12246" y="6"/>
                      <a:pt x="12246" y="5"/>
                    </a:cubicBezTo>
                    <a:cubicBezTo>
                      <a:pt x="12246" y="4"/>
                      <a:pt x="12247" y="3"/>
                      <a:pt x="12248" y="3"/>
                    </a:cubicBezTo>
                    <a:close/>
                    <a:moveTo>
                      <a:pt x="12256" y="3"/>
                    </a:moveTo>
                    <a:lnTo>
                      <a:pt x="12256" y="3"/>
                    </a:lnTo>
                    <a:cubicBezTo>
                      <a:pt x="12257" y="3"/>
                      <a:pt x="12258" y="4"/>
                      <a:pt x="12258" y="5"/>
                    </a:cubicBezTo>
                    <a:cubicBezTo>
                      <a:pt x="12258" y="6"/>
                      <a:pt x="12257" y="7"/>
                      <a:pt x="12256" y="7"/>
                    </a:cubicBezTo>
                    <a:lnTo>
                      <a:pt x="12256" y="7"/>
                    </a:lnTo>
                    <a:cubicBezTo>
                      <a:pt x="12255" y="7"/>
                      <a:pt x="12254" y="6"/>
                      <a:pt x="12254" y="5"/>
                    </a:cubicBezTo>
                    <a:cubicBezTo>
                      <a:pt x="12254" y="4"/>
                      <a:pt x="12255" y="3"/>
                      <a:pt x="12256" y="3"/>
                    </a:cubicBezTo>
                    <a:close/>
                    <a:moveTo>
                      <a:pt x="12264" y="3"/>
                    </a:moveTo>
                    <a:lnTo>
                      <a:pt x="12264" y="3"/>
                    </a:lnTo>
                    <a:cubicBezTo>
                      <a:pt x="12265" y="3"/>
                      <a:pt x="12266" y="4"/>
                      <a:pt x="12266" y="5"/>
                    </a:cubicBezTo>
                    <a:cubicBezTo>
                      <a:pt x="12266" y="6"/>
                      <a:pt x="12265" y="7"/>
                      <a:pt x="12264" y="7"/>
                    </a:cubicBezTo>
                    <a:lnTo>
                      <a:pt x="12264" y="7"/>
                    </a:lnTo>
                    <a:cubicBezTo>
                      <a:pt x="12263" y="7"/>
                      <a:pt x="12262" y="6"/>
                      <a:pt x="12262" y="5"/>
                    </a:cubicBezTo>
                    <a:cubicBezTo>
                      <a:pt x="12262" y="4"/>
                      <a:pt x="12263" y="3"/>
                      <a:pt x="12264" y="3"/>
                    </a:cubicBezTo>
                    <a:close/>
                    <a:moveTo>
                      <a:pt x="12272" y="3"/>
                    </a:moveTo>
                    <a:lnTo>
                      <a:pt x="12272" y="3"/>
                    </a:lnTo>
                    <a:cubicBezTo>
                      <a:pt x="12273" y="3"/>
                      <a:pt x="12274" y="4"/>
                      <a:pt x="12274" y="5"/>
                    </a:cubicBezTo>
                    <a:cubicBezTo>
                      <a:pt x="12274" y="6"/>
                      <a:pt x="12273" y="7"/>
                      <a:pt x="12272" y="7"/>
                    </a:cubicBezTo>
                    <a:lnTo>
                      <a:pt x="12272" y="7"/>
                    </a:lnTo>
                    <a:cubicBezTo>
                      <a:pt x="12271" y="7"/>
                      <a:pt x="12270" y="6"/>
                      <a:pt x="12270" y="5"/>
                    </a:cubicBezTo>
                    <a:cubicBezTo>
                      <a:pt x="12270" y="4"/>
                      <a:pt x="12271" y="3"/>
                      <a:pt x="12272" y="3"/>
                    </a:cubicBezTo>
                    <a:close/>
                    <a:moveTo>
                      <a:pt x="12280" y="3"/>
                    </a:moveTo>
                    <a:lnTo>
                      <a:pt x="12280" y="3"/>
                    </a:lnTo>
                    <a:cubicBezTo>
                      <a:pt x="12281" y="3"/>
                      <a:pt x="12282" y="4"/>
                      <a:pt x="12282" y="5"/>
                    </a:cubicBezTo>
                    <a:cubicBezTo>
                      <a:pt x="12282" y="6"/>
                      <a:pt x="12281" y="7"/>
                      <a:pt x="12280" y="7"/>
                    </a:cubicBezTo>
                    <a:lnTo>
                      <a:pt x="12280" y="7"/>
                    </a:lnTo>
                    <a:cubicBezTo>
                      <a:pt x="12279" y="7"/>
                      <a:pt x="12278" y="6"/>
                      <a:pt x="12278" y="5"/>
                    </a:cubicBezTo>
                    <a:cubicBezTo>
                      <a:pt x="12278" y="4"/>
                      <a:pt x="12279" y="3"/>
                      <a:pt x="12280" y="3"/>
                    </a:cubicBezTo>
                    <a:close/>
                    <a:moveTo>
                      <a:pt x="12288" y="3"/>
                    </a:moveTo>
                    <a:lnTo>
                      <a:pt x="12288" y="3"/>
                    </a:lnTo>
                    <a:cubicBezTo>
                      <a:pt x="12289" y="3"/>
                      <a:pt x="12290" y="4"/>
                      <a:pt x="12290" y="5"/>
                    </a:cubicBezTo>
                    <a:cubicBezTo>
                      <a:pt x="12290" y="6"/>
                      <a:pt x="12289" y="7"/>
                      <a:pt x="12288" y="7"/>
                    </a:cubicBezTo>
                    <a:lnTo>
                      <a:pt x="12288" y="7"/>
                    </a:lnTo>
                    <a:cubicBezTo>
                      <a:pt x="12287" y="7"/>
                      <a:pt x="12286" y="6"/>
                      <a:pt x="12286" y="5"/>
                    </a:cubicBezTo>
                    <a:cubicBezTo>
                      <a:pt x="12286" y="4"/>
                      <a:pt x="12287" y="3"/>
                      <a:pt x="12288" y="3"/>
                    </a:cubicBezTo>
                    <a:close/>
                    <a:moveTo>
                      <a:pt x="12296" y="3"/>
                    </a:moveTo>
                    <a:lnTo>
                      <a:pt x="12296" y="3"/>
                    </a:lnTo>
                    <a:cubicBezTo>
                      <a:pt x="12297" y="3"/>
                      <a:pt x="12298" y="4"/>
                      <a:pt x="12298" y="5"/>
                    </a:cubicBezTo>
                    <a:cubicBezTo>
                      <a:pt x="12298" y="6"/>
                      <a:pt x="12297" y="7"/>
                      <a:pt x="12296" y="7"/>
                    </a:cubicBezTo>
                    <a:lnTo>
                      <a:pt x="12296" y="7"/>
                    </a:lnTo>
                    <a:cubicBezTo>
                      <a:pt x="12295" y="7"/>
                      <a:pt x="12294" y="6"/>
                      <a:pt x="12294" y="5"/>
                    </a:cubicBezTo>
                    <a:cubicBezTo>
                      <a:pt x="12294" y="4"/>
                      <a:pt x="12295" y="3"/>
                      <a:pt x="12296" y="3"/>
                    </a:cubicBezTo>
                    <a:close/>
                    <a:moveTo>
                      <a:pt x="12304" y="3"/>
                    </a:moveTo>
                    <a:lnTo>
                      <a:pt x="12304" y="3"/>
                    </a:lnTo>
                    <a:cubicBezTo>
                      <a:pt x="12305" y="3"/>
                      <a:pt x="12306" y="4"/>
                      <a:pt x="12306" y="5"/>
                    </a:cubicBezTo>
                    <a:cubicBezTo>
                      <a:pt x="12306" y="6"/>
                      <a:pt x="12305" y="7"/>
                      <a:pt x="12304" y="7"/>
                    </a:cubicBezTo>
                    <a:lnTo>
                      <a:pt x="12304" y="7"/>
                    </a:lnTo>
                    <a:cubicBezTo>
                      <a:pt x="12303" y="7"/>
                      <a:pt x="12302" y="6"/>
                      <a:pt x="12302" y="5"/>
                    </a:cubicBezTo>
                    <a:cubicBezTo>
                      <a:pt x="12302" y="4"/>
                      <a:pt x="12303" y="3"/>
                      <a:pt x="12304" y="3"/>
                    </a:cubicBezTo>
                    <a:close/>
                    <a:moveTo>
                      <a:pt x="12312" y="3"/>
                    </a:moveTo>
                    <a:lnTo>
                      <a:pt x="12312" y="3"/>
                    </a:lnTo>
                    <a:cubicBezTo>
                      <a:pt x="12313" y="3"/>
                      <a:pt x="12314" y="4"/>
                      <a:pt x="12314" y="5"/>
                    </a:cubicBezTo>
                    <a:cubicBezTo>
                      <a:pt x="12314" y="6"/>
                      <a:pt x="12313" y="7"/>
                      <a:pt x="12312" y="7"/>
                    </a:cubicBezTo>
                    <a:lnTo>
                      <a:pt x="12312" y="7"/>
                    </a:lnTo>
                    <a:cubicBezTo>
                      <a:pt x="12311" y="7"/>
                      <a:pt x="12310" y="6"/>
                      <a:pt x="12310" y="5"/>
                    </a:cubicBezTo>
                    <a:cubicBezTo>
                      <a:pt x="12310" y="4"/>
                      <a:pt x="12311" y="3"/>
                      <a:pt x="12312" y="3"/>
                    </a:cubicBezTo>
                    <a:close/>
                    <a:moveTo>
                      <a:pt x="12320" y="3"/>
                    </a:moveTo>
                    <a:lnTo>
                      <a:pt x="12320" y="3"/>
                    </a:lnTo>
                    <a:cubicBezTo>
                      <a:pt x="12321" y="3"/>
                      <a:pt x="12322" y="4"/>
                      <a:pt x="12322" y="5"/>
                    </a:cubicBezTo>
                    <a:cubicBezTo>
                      <a:pt x="12322" y="6"/>
                      <a:pt x="12321" y="7"/>
                      <a:pt x="12320" y="7"/>
                    </a:cubicBezTo>
                    <a:lnTo>
                      <a:pt x="12320" y="7"/>
                    </a:lnTo>
                    <a:cubicBezTo>
                      <a:pt x="12319" y="7"/>
                      <a:pt x="12318" y="6"/>
                      <a:pt x="12318" y="5"/>
                    </a:cubicBezTo>
                    <a:cubicBezTo>
                      <a:pt x="12318" y="4"/>
                      <a:pt x="12319" y="3"/>
                      <a:pt x="12320" y="3"/>
                    </a:cubicBezTo>
                    <a:close/>
                    <a:moveTo>
                      <a:pt x="12328" y="3"/>
                    </a:moveTo>
                    <a:lnTo>
                      <a:pt x="12328" y="3"/>
                    </a:lnTo>
                    <a:cubicBezTo>
                      <a:pt x="12329" y="3"/>
                      <a:pt x="12330" y="4"/>
                      <a:pt x="12330" y="5"/>
                    </a:cubicBezTo>
                    <a:cubicBezTo>
                      <a:pt x="12330" y="6"/>
                      <a:pt x="12329" y="7"/>
                      <a:pt x="12328" y="7"/>
                    </a:cubicBezTo>
                    <a:lnTo>
                      <a:pt x="12328" y="7"/>
                    </a:lnTo>
                    <a:cubicBezTo>
                      <a:pt x="12327" y="7"/>
                      <a:pt x="12326" y="6"/>
                      <a:pt x="12326" y="5"/>
                    </a:cubicBezTo>
                    <a:cubicBezTo>
                      <a:pt x="12326" y="4"/>
                      <a:pt x="12327" y="3"/>
                      <a:pt x="12328" y="3"/>
                    </a:cubicBezTo>
                    <a:close/>
                    <a:moveTo>
                      <a:pt x="12336" y="3"/>
                    </a:moveTo>
                    <a:lnTo>
                      <a:pt x="12336" y="3"/>
                    </a:lnTo>
                    <a:cubicBezTo>
                      <a:pt x="12337" y="3"/>
                      <a:pt x="12338" y="4"/>
                      <a:pt x="12338" y="5"/>
                    </a:cubicBezTo>
                    <a:cubicBezTo>
                      <a:pt x="12338" y="6"/>
                      <a:pt x="12337" y="7"/>
                      <a:pt x="12336" y="7"/>
                    </a:cubicBezTo>
                    <a:lnTo>
                      <a:pt x="12336" y="7"/>
                    </a:lnTo>
                    <a:cubicBezTo>
                      <a:pt x="12335" y="7"/>
                      <a:pt x="12334" y="6"/>
                      <a:pt x="12334" y="5"/>
                    </a:cubicBezTo>
                    <a:cubicBezTo>
                      <a:pt x="12334" y="4"/>
                      <a:pt x="12335" y="3"/>
                      <a:pt x="12336" y="3"/>
                    </a:cubicBezTo>
                    <a:close/>
                    <a:moveTo>
                      <a:pt x="12344" y="3"/>
                    </a:moveTo>
                    <a:lnTo>
                      <a:pt x="12344" y="3"/>
                    </a:lnTo>
                    <a:cubicBezTo>
                      <a:pt x="12345" y="3"/>
                      <a:pt x="12346" y="4"/>
                      <a:pt x="12346" y="5"/>
                    </a:cubicBezTo>
                    <a:cubicBezTo>
                      <a:pt x="12346" y="6"/>
                      <a:pt x="12345" y="7"/>
                      <a:pt x="12344" y="7"/>
                    </a:cubicBezTo>
                    <a:lnTo>
                      <a:pt x="12344" y="7"/>
                    </a:lnTo>
                    <a:cubicBezTo>
                      <a:pt x="12343" y="7"/>
                      <a:pt x="12342" y="6"/>
                      <a:pt x="12342" y="5"/>
                    </a:cubicBezTo>
                    <a:cubicBezTo>
                      <a:pt x="12342" y="4"/>
                      <a:pt x="12343" y="3"/>
                      <a:pt x="12344" y="3"/>
                    </a:cubicBezTo>
                    <a:close/>
                    <a:moveTo>
                      <a:pt x="12352" y="3"/>
                    </a:moveTo>
                    <a:lnTo>
                      <a:pt x="12352" y="3"/>
                    </a:lnTo>
                    <a:cubicBezTo>
                      <a:pt x="12353" y="3"/>
                      <a:pt x="12354" y="4"/>
                      <a:pt x="12354" y="5"/>
                    </a:cubicBezTo>
                    <a:cubicBezTo>
                      <a:pt x="12354" y="6"/>
                      <a:pt x="12353" y="7"/>
                      <a:pt x="12352" y="7"/>
                    </a:cubicBezTo>
                    <a:lnTo>
                      <a:pt x="12352" y="7"/>
                    </a:lnTo>
                    <a:cubicBezTo>
                      <a:pt x="12351" y="7"/>
                      <a:pt x="12350" y="6"/>
                      <a:pt x="12350" y="5"/>
                    </a:cubicBezTo>
                    <a:cubicBezTo>
                      <a:pt x="12350" y="4"/>
                      <a:pt x="12351" y="3"/>
                      <a:pt x="12352" y="3"/>
                    </a:cubicBezTo>
                    <a:close/>
                    <a:moveTo>
                      <a:pt x="12360" y="3"/>
                    </a:moveTo>
                    <a:lnTo>
                      <a:pt x="12360" y="3"/>
                    </a:lnTo>
                    <a:cubicBezTo>
                      <a:pt x="12361" y="3"/>
                      <a:pt x="12362" y="4"/>
                      <a:pt x="12362" y="5"/>
                    </a:cubicBezTo>
                    <a:cubicBezTo>
                      <a:pt x="12362" y="6"/>
                      <a:pt x="12361" y="7"/>
                      <a:pt x="12360" y="7"/>
                    </a:cubicBezTo>
                    <a:lnTo>
                      <a:pt x="12360" y="7"/>
                    </a:lnTo>
                    <a:cubicBezTo>
                      <a:pt x="12359" y="7"/>
                      <a:pt x="12358" y="6"/>
                      <a:pt x="12358" y="5"/>
                    </a:cubicBezTo>
                    <a:cubicBezTo>
                      <a:pt x="12358" y="4"/>
                      <a:pt x="12359" y="3"/>
                      <a:pt x="12360" y="3"/>
                    </a:cubicBezTo>
                    <a:close/>
                    <a:moveTo>
                      <a:pt x="12368" y="3"/>
                    </a:moveTo>
                    <a:lnTo>
                      <a:pt x="12368" y="3"/>
                    </a:lnTo>
                    <a:cubicBezTo>
                      <a:pt x="12369" y="3"/>
                      <a:pt x="12370" y="4"/>
                      <a:pt x="12370" y="5"/>
                    </a:cubicBezTo>
                    <a:cubicBezTo>
                      <a:pt x="12370" y="6"/>
                      <a:pt x="12369" y="7"/>
                      <a:pt x="12368" y="7"/>
                    </a:cubicBezTo>
                    <a:lnTo>
                      <a:pt x="12368" y="7"/>
                    </a:lnTo>
                    <a:cubicBezTo>
                      <a:pt x="12367" y="7"/>
                      <a:pt x="12366" y="6"/>
                      <a:pt x="12366" y="5"/>
                    </a:cubicBezTo>
                    <a:cubicBezTo>
                      <a:pt x="12366" y="4"/>
                      <a:pt x="12367" y="3"/>
                      <a:pt x="12368" y="3"/>
                    </a:cubicBezTo>
                    <a:close/>
                    <a:moveTo>
                      <a:pt x="12376" y="3"/>
                    </a:moveTo>
                    <a:lnTo>
                      <a:pt x="12376" y="3"/>
                    </a:lnTo>
                    <a:cubicBezTo>
                      <a:pt x="12377" y="3"/>
                      <a:pt x="12378" y="4"/>
                      <a:pt x="12378" y="5"/>
                    </a:cubicBezTo>
                    <a:cubicBezTo>
                      <a:pt x="12378" y="6"/>
                      <a:pt x="12377" y="7"/>
                      <a:pt x="12376" y="7"/>
                    </a:cubicBezTo>
                    <a:lnTo>
                      <a:pt x="12376" y="7"/>
                    </a:lnTo>
                    <a:cubicBezTo>
                      <a:pt x="12375" y="7"/>
                      <a:pt x="12374" y="6"/>
                      <a:pt x="12374" y="5"/>
                    </a:cubicBezTo>
                    <a:cubicBezTo>
                      <a:pt x="12374" y="4"/>
                      <a:pt x="12375" y="3"/>
                      <a:pt x="12376" y="3"/>
                    </a:cubicBezTo>
                    <a:close/>
                    <a:moveTo>
                      <a:pt x="12384" y="3"/>
                    </a:moveTo>
                    <a:lnTo>
                      <a:pt x="12384" y="3"/>
                    </a:lnTo>
                    <a:cubicBezTo>
                      <a:pt x="12385" y="3"/>
                      <a:pt x="12386" y="4"/>
                      <a:pt x="12386" y="5"/>
                    </a:cubicBezTo>
                    <a:cubicBezTo>
                      <a:pt x="12386" y="6"/>
                      <a:pt x="12385" y="7"/>
                      <a:pt x="12384" y="7"/>
                    </a:cubicBezTo>
                    <a:lnTo>
                      <a:pt x="12384" y="7"/>
                    </a:lnTo>
                    <a:cubicBezTo>
                      <a:pt x="12383" y="7"/>
                      <a:pt x="12382" y="6"/>
                      <a:pt x="12382" y="5"/>
                    </a:cubicBezTo>
                    <a:cubicBezTo>
                      <a:pt x="12382" y="4"/>
                      <a:pt x="12383" y="3"/>
                      <a:pt x="12384" y="3"/>
                    </a:cubicBezTo>
                    <a:close/>
                    <a:moveTo>
                      <a:pt x="12392" y="3"/>
                    </a:moveTo>
                    <a:lnTo>
                      <a:pt x="12392" y="3"/>
                    </a:lnTo>
                    <a:cubicBezTo>
                      <a:pt x="12393" y="3"/>
                      <a:pt x="12394" y="4"/>
                      <a:pt x="12394" y="5"/>
                    </a:cubicBezTo>
                    <a:cubicBezTo>
                      <a:pt x="12394" y="6"/>
                      <a:pt x="12393" y="7"/>
                      <a:pt x="12392" y="7"/>
                    </a:cubicBezTo>
                    <a:lnTo>
                      <a:pt x="12392" y="7"/>
                    </a:lnTo>
                    <a:cubicBezTo>
                      <a:pt x="12391" y="7"/>
                      <a:pt x="12390" y="6"/>
                      <a:pt x="12390" y="5"/>
                    </a:cubicBezTo>
                    <a:cubicBezTo>
                      <a:pt x="12390" y="4"/>
                      <a:pt x="12391" y="3"/>
                      <a:pt x="12392" y="3"/>
                    </a:cubicBezTo>
                    <a:close/>
                    <a:moveTo>
                      <a:pt x="12400" y="3"/>
                    </a:moveTo>
                    <a:lnTo>
                      <a:pt x="12400" y="3"/>
                    </a:lnTo>
                    <a:cubicBezTo>
                      <a:pt x="12401" y="3"/>
                      <a:pt x="12402" y="4"/>
                      <a:pt x="12402" y="5"/>
                    </a:cubicBezTo>
                    <a:cubicBezTo>
                      <a:pt x="12402" y="6"/>
                      <a:pt x="12401" y="7"/>
                      <a:pt x="12400" y="7"/>
                    </a:cubicBezTo>
                    <a:lnTo>
                      <a:pt x="12400" y="7"/>
                    </a:lnTo>
                    <a:cubicBezTo>
                      <a:pt x="12399" y="7"/>
                      <a:pt x="12398" y="6"/>
                      <a:pt x="12398" y="5"/>
                    </a:cubicBezTo>
                    <a:cubicBezTo>
                      <a:pt x="12398" y="4"/>
                      <a:pt x="12399" y="3"/>
                      <a:pt x="12400" y="3"/>
                    </a:cubicBezTo>
                    <a:close/>
                    <a:moveTo>
                      <a:pt x="12408" y="3"/>
                    </a:moveTo>
                    <a:lnTo>
                      <a:pt x="12408" y="3"/>
                    </a:lnTo>
                    <a:cubicBezTo>
                      <a:pt x="12409" y="3"/>
                      <a:pt x="12410" y="4"/>
                      <a:pt x="12410" y="5"/>
                    </a:cubicBezTo>
                    <a:cubicBezTo>
                      <a:pt x="12410" y="6"/>
                      <a:pt x="12409" y="7"/>
                      <a:pt x="12408" y="7"/>
                    </a:cubicBezTo>
                    <a:lnTo>
                      <a:pt x="12408" y="7"/>
                    </a:lnTo>
                    <a:cubicBezTo>
                      <a:pt x="12407" y="7"/>
                      <a:pt x="12406" y="6"/>
                      <a:pt x="12406" y="5"/>
                    </a:cubicBezTo>
                    <a:cubicBezTo>
                      <a:pt x="12406" y="4"/>
                      <a:pt x="12407" y="3"/>
                      <a:pt x="12408" y="3"/>
                    </a:cubicBezTo>
                    <a:close/>
                    <a:moveTo>
                      <a:pt x="12416" y="3"/>
                    </a:moveTo>
                    <a:lnTo>
                      <a:pt x="12416" y="3"/>
                    </a:lnTo>
                    <a:cubicBezTo>
                      <a:pt x="12417" y="3"/>
                      <a:pt x="12418" y="4"/>
                      <a:pt x="12418" y="5"/>
                    </a:cubicBezTo>
                    <a:cubicBezTo>
                      <a:pt x="12418" y="6"/>
                      <a:pt x="12417" y="7"/>
                      <a:pt x="12416" y="7"/>
                    </a:cubicBezTo>
                    <a:lnTo>
                      <a:pt x="12416" y="7"/>
                    </a:lnTo>
                    <a:cubicBezTo>
                      <a:pt x="12415" y="7"/>
                      <a:pt x="12414" y="6"/>
                      <a:pt x="12414" y="5"/>
                    </a:cubicBezTo>
                    <a:cubicBezTo>
                      <a:pt x="12414" y="4"/>
                      <a:pt x="12415" y="3"/>
                      <a:pt x="12416" y="3"/>
                    </a:cubicBezTo>
                    <a:close/>
                    <a:moveTo>
                      <a:pt x="12424" y="3"/>
                    </a:moveTo>
                    <a:lnTo>
                      <a:pt x="12424" y="3"/>
                    </a:lnTo>
                    <a:cubicBezTo>
                      <a:pt x="12425" y="3"/>
                      <a:pt x="12426" y="4"/>
                      <a:pt x="12426" y="5"/>
                    </a:cubicBezTo>
                    <a:cubicBezTo>
                      <a:pt x="12426" y="6"/>
                      <a:pt x="12425" y="7"/>
                      <a:pt x="12424" y="7"/>
                    </a:cubicBezTo>
                    <a:lnTo>
                      <a:pt x="12424" y="7"/>
                    </a:lnTo>
                    <a:cubicBezTo>
                      <a:pt x="12423" y="7"/>
                      <a:pt x="12422" y="6"/>
                      <a:pt x="12422" y="5"/>
                    </a:cubicBezTo>
                    <a:cubicBezTo>
                      <a:pt x="12422" y="4"/>
                      <a:pt x="12423" y="3"/>
                      <a:pt x="12424" y="3"/>
                    </a:cubicBezTo>
                    <a:close/>
                    <a:moveTo>
                      <a:pt x="12432" y="3"/>
                    </a:moveTo>
                    <a:lnTo>
                      <a:pt x="12432" y="3"/>
                    </a:lnTo>
                    <a:cubicBezTo>
                      <a:pt x="12434" y="3"/>
                      <a:pt x="12434" y="4"/>
                      <a:pt x="12434" y="5"/>
                    </a:cubicBezTo>
                    <a:cubicBezTo>
                      <a:pt x="12434" y="6"/>
                      <a:pt x="12434" y="7"/>
                      <a:pt x="12432" y="7"/>
                    </a:cubicBezTo>
                    <a:lnTo>
                      <a:pt x="12432" y="7"/>
                    </a:lnTo>
                    <a:cubicBezTo>
                      <a:pt x="12431" y="7"/>
                      <a:pt x="12430" y="6"/>
                      <a:pt x="12430" y="5"/>
                    </a:cubicBezTo>
                    <a:cubicBezTo>
                      <a:pt x="12430" y="4"/>
                      <a:pt x="12431" y="3"/>
                      <a:pt x="12432" y="3"/>
                    </a:cubicBezTo>
                    <a:close/>
                    <a:moveTo>
                      <a:pt x="12440" y="3"/>
                    </a:moveTo>
                    <a:lnTo>
                      <a:pt x="12440" y="3"/>
                    </a:lnTo>
                    <a:cubicBezTo>
                      <a:pt x="12442" y="3"/>
                      <a:pt x="12442" y="4"/>
                      <a:pt x="12442" y="5"/>
                    </a:cubicBezTo>
                    <a:cubicBezTo>
                      <a:pt x="12442" y="6"/>
                      <a:pt x="12442" y="7"/>
                      <a:pt x="12440" y="7"/>
                    </a:cubicBezTo>
                    <a:lnTo>
                      <a:pt x="12440" y="7"/>
                    </a:lnTo>
                    <a:cubicBezTo>
                      <a:pt x="12439" y="7"/>
                      <a:pt x="12438" y="6"/>
                      <a:pt x="12438" y="5"/>
                    </a:cubicBezTo>
                    <a:cubicBezTo>
                      <a:pt x="12438" y="4"/>
                      <a:pt x="12439" y="3"/>
                      <a:pt x="12440" y="3"/>
                    </a:cubicBezTo>
                    <a:close/>
                    <a:moveTo>
                      <a:pt x="12448" y="3"/>
                    </a:moveTo>
                    <a:lnTo>
                      <a:pt x="12448" y="3"/>
                    </a:lnTo>
                    <a:cubicBezTo>
                      <a:pt x="12450" y="3"/>
                      <a:pt x="12450" y="4"/>
                      <a:pt x="12450" y="5"/>
                    </a:cubicBezTo>
                    <a:cubicBezTo>
                      <a:pt x="12450" y="6"/>
                      <a:pt x="12450" y="7"/>
                      <a:pt x="12448" y="7"/>
                    </a:cubicBezTo>
                    <a:lnTo>
                      <a:pt x="12448" y="7"/>
                    </a:lnTo>
                    <a:cubicBezTo>
                      <a:pt x="12447" y="7"/>
                      <a:pt x="12446" y="6"/>
                      <a:pt x="12446" y="5"/>
                    </a:cubicBezTo>
                    <a:cubicBezTo>
                      <a:pt x="12446" y="4"/>
                      <a:pt x="12447" y="3"/>
                      <a:pt x="12448" y="3"/>
                    </a:cubicBezTo>
                    <a:close/>
                    <a:moveTo>
                      <a:pt x="12456" y="3"/>
                    </a:moveTo>
                    <a:lnTo>
                      <a:pt x="12456" y="3"/>
                    </a:lnTo>
                    <a:cubicBezTo>
                      <a:pt x="12458" y="3"/>
                      <a:pt x="12458" y="4"/>
                      <a:pt x="12458" y="5"/>
                    </a:cubicBezTo>
                    <a:cubicBezTo>
                      <a:pt x="12458" y="6"/>
                      <a:pt x="12458" y="7"/>
                      <a:pt x="12456" y="7"/>
                    </a:cubicBezTo>
                    <a:lnTo>
                      <a:pt x="12456" y="7"/>
                    </a:lnTo>
                    <a:cubicBezTo>
                      <a:pt x="12455" y="7"/>
                      <a:pt x="12454" y="6"/>
                      <a:pt x="12454" y="5"/>
                    </a:cubicBezTo>
                    <a:cubicBezTo>
                      <a:pt x="12454" y="4"/>
                      <a:pt x="12455" y="3"/>
                      <a:pt x="12456" y="3"/>
                    </a:cubicBezTo>
                    <a:close/>
                    <a:moveTo>
                      <a:pt x="12464" y="3"/>
                    </a:moveTo>
                    <a:lnTo>
                      <a:pt x="12464" y="3"/>
                    </a:lnTo>
                    <a:cubicBezTo>
                      <a:pt x="12466" y="3"/>
                      <a:pt x="12466" y="4"/>
                      <a:pt x="12466" y="5"/>
                    </a:cubicBezTo>
                    <a:cubicBezTo>
                      <a:pt x="12466" y="6"/>
                      <a:pt x="12466" y="7"/>
                      <a:pt x="12464" y="7"/>
                    </a:cubicBezTo>
                    <a:lnTo>
                      <a:pt x="12464" y="7"/>
                    </a:lnTo>
                    <a:cubicBezTo>
                      <a:pt x="12463" y="7"/>
                      <a:pt x="12462" y="6"/>
                      <a:pt x="12462" y="5"/>
                    </a:cubicBezTo>
                    <a:cubicBezTo>
                      <a:pt x="12462" y="4"/>
                      <a:pt x="12463" y="3"/>
                      <a:pt x="12464" y="3"/>
                    </a:cubicBezTo>
                    <a:close/>
                    <a:moveTo>
                      <a:pt x="12472" y="3"/>
                    </a:moveTo>
                    <a:lnTo>
                      <a:pt x="12472" y="3"/>
                    </a:lnTo>
                    <a:cubicBezTo>
                      <a:pt x="12474" y="3"/>
                      <a:pt x="12474" y="4"/>
                      <a:pt x="12474" y="5"/>
                    </a:cubicBezTo>
                    <a:cubicBezTo>
                      <a:pt x="12474" y="6"/>
                      <a:pt x="12474" y="7"/>
                      <a:pt x="12472" y="7"/>
                    </a:cubicBezTo>
                    <a:lnTo>
                      <a:pt x="12472" y="7"/>
                    </a:lnTo>
                    <a:cubicBezTo>
                      <a:pt x="12471" y="7"/>
                      <a:pt x="12470" y="6"/>
                      <a:pt x="12470" y="5"/>
                    </a:cubicBezTo>
                    <a:cubicBezTo>
                      <a:pt x="12470" y="4"/>
                      <a:pt x="12471" y="3"/>
                      <a:pt x="12472" y="3"/>
                    </a:cubicBezTo>
                    <a:close/>
                    <a:moveTo>
                      <a:pt x="12480" y="3"/>
                    </a:moveTo>
                    <a:lnTo>
                      <a:pt x="12480" y="3"/>
                    </a:lnTo>
                    <a:cubicBezTo>
                      <a:pt x="12482" y="3"/>
                      <a:pt x="12482" y="4"/>
                      <a:pt x="12482" y="5"/>
                    </a:cubicBezTo>
                    <a:cubicBezTo>
                      <a:pt x="12482" y="6"/>
                      <a:pt x="12482" y="7"/>
                      <a:pt x="12480" y="7"/>
                    </a:cubicBezTo>
                    <a:lnTo>
                      <a:pt x="12480" y="7"/>
                    </a:lnTo>
                    <a:cubicBezTo>
                      <a:pt x="12479" y="7"/>
                      <a:pt x="12478" y="6"/>
                      <a:pt x="12478" y="5"/>
                    </a:cubicBezTo>
                    <a:cubicBezTo>
                      <a:pt x="12478" y="4"/>
                      <a:pt x="12479" y="3"/>
                      <a:pt x="12480" y="3"/>
                    </a:cubicBezTo>
                    <a:close/>
                    <a:moveTo>
                      <a:pt x="12488" y="3"/>
                    </a:moveTo>
                    <a:lnTo>
                      <a:pt x="12488" y="3"/>
                    </a:lnTo>
                    <a:cubicBezTo>
                      <a:pt x="12490" y="3"/>
                      <a:pt x="12490" y="4"/>
                      <a:pt x="12490" y="5"/>
                    </a:cubicBezTo>
                    <a:cubicBezTo>
                      <a:pt x="12490" y="6"/>
                      <a:pt x="12490" y="7"/>
                      <a:pt x="12488" y="7"/>
                    </a:cubicBezTo>
                    <a:lnTo>
                      <a:pt x="12488" y="7"/>
                    </a:lnTo>
                    <a:cubicBezTo>
                      <a:pt x="12487" y="7"/>
                      <a:pt x="12486" y="6"/>
                      <a:pt x="12486" y="5"/>
                    </a:cubicBezTo>
                    <a:cubicBezTo>
                      <a:pt x="12486" y="4"/>
                      <a:pt x="12487" y="3"/>
                      <a:pt x="12488" y="3"/>
                    </a:cubicBezTo>
                    <a:close/>
                    <a:moveTo>
                      <a:pt x="12496" y="3"/>
                    </a:moveTo>
                    <a:lnTo>
                      <a:pt x="12496" y="3"/>
                    </a:lnTo>
                    <a:cubicBezTo>
                      <a:pt x="12498" y="3"/>
                      <a:pt x="12498" y="4"/>
                      <a:pt x="12498" y="5"/>
                    </a:cubicBezTo>
                    <a:cubicBezTo>
                      <a:pt x="12498" y="6"/>
                      <a:pt x="12498" y="7"/>
                      <a:pt x="12496" y="7"/>
                    </a:cubicBezTo>
                    <a:lnTo>
                      <a:pt x="12496" y="7"/>
                    </a:lnTo>
                    <a:cubicBezTo>
                      <a:pt x="12495" y="7"/>
                      <a:pt x="12494" y="6"/>
                      <a:pt x="12494" y="5"/>
                    </a:cubicBezTo>
                    <a:cubicBezTo>
                      <a:pt x="12494" y="4"/>
                      <a:pt x="12495" y="3"/>
                      <a:pt x="12496" y="3"/>
                    </a:cubicBezTo>
                    <a:close/>
                    <a:moveTo>
                      <a:pt x="12504" y="3"/>
                    </a:moveTo>
                    <a:lnTo>
                      <a:pt x="12504" y="3"/>
                    </a:lnTo>
                    <a:cubicBezTo>
                      <a:pt x="12506" y="3"/>
                      <a:pt x="12506" y="4"/>
                      <a:pt x="12506" y="5"/>
                    </a:cubicBezTo>
                    <a:cubicBezTo>
                      <a:pt x="12506" y="6"/>
                      <a:pt x="12506" y="7"/>
                      <a:pt x="12504" y="7"/>
                    </a:cubicBezTo>
                    <a:lnTo>
                      <a:pt x="12504" y="7"/>
                    </a:lnTo>
                    <a:cubicBezTo>
                      <a:pt x="12503" y="7"/>
                      <a:pt x="12502" y="6"/>
                      <a:pt x="12502" y="5"/>
                    </a:cubicBezTo>
                    <a:cubicBezTo>
                      <a:pt x="12502" y="4"/>
                      <a:pt x="12503" y="3"/>
                      <a:pt x="12504" y="3"/>
                    </a:cubicBezTo>
                    <a:close/>
                    <a:moveTo>
                      <a:pt x="12512" y="3"/>
                    </a:moveTo>
                    <a:lnTo>
                      <a:pt x="12512" y="3"/>
                    </a:lnTo>
                    <a:cubicBezTo>
                      <a:pt x="12514" y="3"/>
                      <a:pt x="12514" y="4"/>
                      <a:pt x="12514" y="5"/>
                    </a:cubicBezTo>
                    <a:cubicBezTo>
                      <a:pt x="12514" y="6"/>
                      <a:pt x="12514" y="7"/>
                      <a:pt x="12512" y="7"/>
                    </a:cubicBezTo>
                    <a:lnTo>
                      <a:pt x="12512" y="7"/>
                    </a:lnTo>
                    <a:cubicBezTo>
                      <a:pt x="12511" y="7"/>
                      <a:pt x="12510" y="6"/>
                      <a:pt x="12510" y="5"/>
                    </a:cubicBezTo>
                    <a:cubicBezTo>
                      <a:pt x="12510" y="4"/>
                      <a:pt x="12511" y="3"/>
                      <a:pt x="12512" y="3"/>
                    </a:cubicBezTo>
                    <a:close/>
                    <a:moveTo>
                      <a:pt x="12520" y="3"/>
                    </a:moveTo>
                    <a:lnTo>
                      <a:pt x="12520" y="3"/>
                    </a:lnTo>
                    <a:cubicBezTo>
                      <a:pt x="12522" y="3"/>
                      <a:pt x="12522" y="4"/>
                      <a:pt x="12522" y="5"/>
                    </a:cubicBezTo>
                    <a:cubicBezTo>
                      <a:pt x="12522" y="6"/>
                      <a:pt x="12522" y="7"/>
                      <a:pt x="12520" y="7"/>
                    </a:cubicBezTo>
                    <a:lnTo>
                      <a:pt x="12520" y="7"/>
                    </a:lnTo>
                    <a:cubicBezTo>
                      <a:pt x="12519" y="7"/>
                      <a:pt x="12518" y="6"/>
                      <a:pt x="12518" y="5"/>
                    </a:cubicBezTo>
                    <a:cubicBezTo>
                      <a:pt x="12518" y="4"/>
                      <a:pt x="12519" y="3"/>
                      <a:pt x="12520" y="3"/>
                    </a:cubicBezTo>
                    <a:close/>
                    <a:moveTo>
                      <a:pt x="12528" y="3"/>
                    </a:moveTo>
                    <a:lnTo>
                      <a:pt x="12528" y="3"/>
                    </a:lnTo>
                    <a:cubicBezTo>
                      <a:pt x="12530" y="3"/>
                      <a:pt x="12530" y="4"/>
                      <a:pt x="12530" y="5"/>
                    </a:cubicBezTo>
                    <a:cubicBezTo>
                      <a:pt x="12530" y="6"/>
                      <a:pt x="12530" y="7"/>
                      <a:pt x="12528" y="7"/>
                    </a:cubicBezTo>
                    <a:lnTo>
                      <a:pt x="12528" y="7"/>
                    </a:lnTo>
                    <a:cubicBezTo>
                      <a:pt x="12527" y="7"/>
                      <a:pt x="12526" y="6"/>
                      <a:pt x="12526" y="5"/>
                    </a:cubicBezTo>
                    <a:cubicBezTo>
                      <a:pt x="12526" y="4"/>
                      <a:pt x="12527" y="3"/>
                      <a:pt x="12528" y="3"/>
                    </a:cubicBezTo>
                    <a:close/>
                    <a:moveTo>
                      <a:pt x="12536" y="3"/>
                    </a:moveTo>
                    <a:lnTo>
                      <a:pt x="12536" y="3"/>
                    </a:lnTo>
                    <a:cubicBezTo>
                      <a:pt x="12538" y="3"/>
                      <a:pt x="12538" y="4"/>
                      <a:pt x="12538" y="5"/>
                    </a:cubicBezTo>
                    <a:cubicBezTo>
                      <a:pt x="12538" y="6"/>
                      <a:pt x="12538" y="7"/>
                      <a:pt x="12536" y="7"/>
                    </a:cubicBezTo>
                    <a:lnTo>
                      <a:pt x="12536" y="7"/>
                    </a:lnTo>
                    <a:cubicBezTo>
                      <a:pt x="12535" y="7"/>
                      <a:pt x="12534" y="6"/>
                      <a:pt x="12534" y="5"/>
                    </a:cubicBezTo>
                    <a:cubicBezTo>
                      <a:pt x="12534" y="4"/>
                      <a:pt x="12535" y="3"/>
                      <a:pt x="12536" y="3"/>
                    </a:cubicBezTo>
                    <a:close/>
                    <a:moveTo>
                      <a:pt x="12544" y="3"/>
                    </a:moveTo>
                    <a:lnTo>
                      <a:pt x="12544" y="3"/>
                    </a:lnTo>
                    <a:cubicBezTo>
                      <a:pt x="12546" y="3"/>
                      <a:pt x="12546" y="4"/>
                      <a:pt x="12546" y="5"/>
                    </a:cubicBezTo>
                    <a:cubicBezTo>
                      <a:pt x="12546" y="6"/>
                      <a:pt x="12546" y="7"/>
                      <a:pt x="12544" y="7"/>
                    </a:cubicBezTo>
                    <a:lnTo>
                      <a:pt x="12544" y="7"/>
                    </a:lnTo>
                    <a:cubicBezTo>
                      <a:pt x="12543" y="7"/>
                      <a:pt x="12542" y="6"/>
                      <a:pt x="12542" y="5"/>
                    </a:cubicBezTo>
                    <a:cubicBezTo>
                      <a:pt x="12542" y="4"/>
                      <a:pt x="12543" y="3"/>
                      <a:pt x="12544" y="3"/>
                    </a:cubicBezTo>
                    <a:close/>
                    <a:moveTo>
                      <a:pt x="12552" y="3"/>
                    </a:moveTo>
                    <a:lnTo>
                      <a:pt x="12552" y="3"/>
                    </a:lnTo>
                    <a:cubicBezTo>
                      <a:pt x="12554" y="3"/>
                      <a:pt x="12554" y="4"/>
                      <a:pt x="12554" y="5"/>
                    </a:cubicBezTo>
                    <a:cubicBezTo>
                      <a:pt x="12554" y="6"/>
                      <a:pt x="12554" y="7"/>
                      <a:pt x="12552" y="7"/>
                    </a:cubicBezTo>
                    <a:lnTo>
                      <a:pt x="12552" y="7"/>
                    </a:lnTo>
                    <a:cubicBezTo>
                      <a:pt x="12551" y="7"/>
                      <a:pt x="12550" y="6"/>
                      <a:pt x="12550" y="5"/>
                    </a:cubicBezTo>
                    <a:cubicBezTo>
                      <a:pt x="12550" y="4"/>
                      <a:pt x="12551" y="3"/>
                      <a:pt x="12552" y="3"/>
                    </a:cubicBezTo>
                    <a:close/>
                    <a:moveTo>
                      <a:pt x="12560" y="3"/>
                    </a:moveTo>
                    <a:lnTo>
                      <a:pt x="12560" y="3"/>
                    </a:lnTo>
                    <a:cubicBezTo>
                      <a:pt x="12562" y="3"/>
                      <a:pt x="12562" y="4"/>
                      <a:pt x="12562" y="5"/>
                    </a:cubicBezTo>
                    <a:cubicBezTo>
                      <a:pt x="12562" y="6"/>
                      <a:pt x="12562" y="7"/>
                      <a:pt x="12560" y="7"/>
                    </a:cubicBezTo>
                    <a:lnTo>
                      <a:pt x="12560" y="7"/>
                    </a:lnTo>
                    <a:cubicBezTo>
                      <a:pt x="12559" y="7"/>
                      <a:pt x="12558" y="6"/>
                      <a:pt x="12558" y="5"/>
                    </a:cubicBezTo>
                    <a:cubicBezTo>
                      <a:pt x="12558" y="4"/>
                      <a:pt x="12559" y="3"/>
                      <a:pt x="12560" y="3"/>
                    </a:cubicBezTo>
                    <a:close/>
                    <a:moveTo>
                      <a:pt x="12568" y="3"/>
                    </a:moveTo>
                    <a:lnTo>
                      <a:pt x="12568" y="3"/>
                    </a:lnTo>
                    <a:cubicBezTo>
                      <a:pt x="12570" y="3"/>
                      <a:pt x="12570" y="4"/>
                      <a:pt x="12570" y="5"/>
                    </a:cubicBezTo>
                    <a:cubicBezTo>
                      <a:pt x="12570" y="6"/>
                      <a:pt x="12570" y="7"/>
                      <a:pt x="12568" y="7"/>
                    </a:cubicBezTo>
                    <a:lnTo>
                      <a:pt x="12568" y="7"/>
                    </a:lnTo>
                    <a:cubicBezTo>
                      <a:pt x="12567" y="7"/>
                      <a:pt x="12566" y="6"/>
                      <a:pt x="12566" y="5"/>
                    </a:cubicBezTo>
                    <a:cubicBezTo>
                      <a:pt x="12566" y="4"/>
                      <a:pt x="12567" y="3"/>
                      <a:pt x="12568" y="3"/>
                    </a:cubicBezTo>
                    <a:close/>
                    <a:moveTo>
                      <a:pt x="12576" y="3"/>
                    </a:moveTo>
                    <a:lnTo>
                      <a:pt x="12576" y="3"/>
                    </a:lnTo>
                    <a:cubicBezTo>
                      <a:pt x="12578" y="3"/>
                      <a:pt x="12578" y="4"/>
                      <a:pt x="12578" y="5"/>
                    </a:cubicBezTo>
                    <a:cubicBezTo>
                      <a:pt x="12578" y="6"/>
                      <a:pt x="12578" y="7"/>
                      <a:pt x="12576" y="7"/>
                    </a:cubicBezTo>
                    <a:lnTo>
                      <a:pt x="12576" y="7"/>
                    </a:lnTo>
                    <a:cubicBezTo>
                      <a:pt x="12575" y="7"/>
                      <a:pt x="12574" y="6"/>
                      <a:pt x="12574" y="5"/>
                    </a:cubicBezTo>
                    <a:cubicBezTo>
                      <a:pt x="12574" y="4"/>
                      <a:pt x="12575" y="3"/>
                      <a:pt x="12576" y="3"/>
                    </a:cubicBezTo>
                    <a:close/>
                    <a:moveTo>
                      <a:pt x="12584" y="3"/>
                    </a:moveTo>
                    <a:lnTo>
                      <a:pt x="12584" y="3"/>
                    </a:lnTo>
                    <a:cubicBezTo>
                      <a:pt x="12586" y="3"/>
                      <a:pt x="12586" y="4"/>
                      <a:pt x="12586" y="5"/>
                    </a:cubicBezTo>
                    <a:cubicBezTo>
                      <a:pt x="12586" y="6"/>
                      <a:pt x="12586" y="7"/>
                      <a:pt x="12584" y="7"/>
                    </a:cubicBezTo>
                    <a:lnTo>
                      <a:pt x="12584" y="7"/>
                    </a:lnTo>
                    <a:cubicBezTo>
                      <a:pt x="12583" y="7"/>
                      <a:pt x="12582" y="6"/>
                      <a:pt x="12582" y="5"/>
                    </a:cubicBezTo>
                    <a:cubicBezTo>
                      <a:pt x="12582" y="4"/>
                      <a:pt x="12583" y="3"/>
                      <a:pt x="12584" y="3"/>
                    </a:cubicBezTo>
                    <a:close/>
                    <a:moveTo>
                      <a:pt x="12592" y="3"/>
                    </a:moveTo>
                    <a:lnTo>
                      <a:pt x="12592" y="3"/>
                    </a:lnTo>
                    <a:cubicBezTo>
                      <a:pt x="12594" y="3"/>
                      <a:pt x="12594" y="4"/>
                      <a:pt x="12594" y="5"/>
                    </a:cubicBezTo>
                    <a:cubicBezTo>
                      <a:pt x="12594" y="6"/>
                      <a:pt x="12594" y="7"/>
                      <a:pt x="12592" y="7"/>
                    </a:cubicBezTo>
                    <a:lnTo>
                      <a:pt x="12592" y="7"/>
                    </a:lnTo>
                    <a:cubicBezTo>
                      <a:pt x="12591" y="7"/>
                      <a:pt x="12590" y="6"/>
                      <a:pt x="12590" y="5"/>
                    </a:cubicBezTo>
                    <a:cubicBezTo>
                      <a:pt x="12590" y="4"/>
                      <a:pt x="12591" y="3"/>
                      <a:pt x="12592" y="3"/>
                    </a:cubicBezTo>
                    <a:close/>
                    <a:moveTo>
                      <a:pt x="12600" y="3"/>
                    </a:moveTo>
                    <a:lnTo>
                      <a:pt x="12601" y="3"/>
                    </a:lnTo>
                    <a:cubicBezTo>
                      <a:pt x="12602" y="3"/>
                      <a:pt x="12603" y="4"/>
                      <a:pt x="12603" y="5"/>
                    </a:cubicBezTo>
                    <a:cubicBezTo>
                      <a:pt x="12603" y="6"/>
                      <a:pt x="12602" y="7"/>
                      <a:pt x="12601" y="7"/>
                    </a:cubicBezTo>
                    <a:lnTo>
                      <a:pt x="12600" y="7"/>
                    </a:lnTo>
                    <a:cubicBezTo>
                      <a:pt x="12599" y="7"/>
                      <a:pt x="12598" y="6"/>
                      <a:pt x="12598" y="5"/>
                    </a:cubicBezTo>
                    <a:cubicBezTo>
                      <a:pt x="12598" y="4"/>
                      <a:pt x="12599" y="3"/>
                      <a:pt x="12600" y="3"/>
                    </a:cubicBezTo>
                    <a:close/>
                    <a:moveTo>
                      <a:pt x="12609" y="3"/>
                    </a:moveTo>
                    <a:lnTo>
                      <a:pt x="12609" y="3"/>
                    </a:lnTo>
                    <a:cubicBezTo>
                      <a:pt x="12610" y="3"/>
                      <a:pt x="12611" y="4"/>
                      <a:pt x="12611" y="5"/>
                    </a:cubicBezTo>
                    <a:cubicBezTo>
                      <a:pt x="12611" y="6"/>
                      <a:pt x="12610" y="7"/>
                      <a:pt x="12609" y="7"/>
                    </a:cubicBezTo>
                    <a:lnTo>
                      <a:pt x="12609" y="7"/>
                    </a:lnTo>
                    <a:cubicBezTo>
                      <a:pt x="12607" y="7"/>
                      <a:pt x="12607" y="6"/>
                      <a:pt x="12607" y="5"/>
                    </a:cubicBezTo>
                    <a:cubicBezTo>
                      <a:pt x="12607" y="4"/>
                      <a:pt x="12607" y="3"/>
                      <a:pt x="12609" y="3"/>
                    </a:cubicBezTo>
                    <a:close/>
                    <a:moveTo>
                      <a:pt x="12617" y="3"/>
                    </a:moveTo>
                    <a:lnTo>
                      <a:pt x="12617" y="3"/>
                    </a:lnTo>
                    <a:cubicBezTo>
                      <a:pt x="12618" y="3"/>
                      <a:pt x="12619" y="4"/>
                      <a:pt x="12619" y="5"/>
                    </a:cubicBezTo>
                    <a:cubicBezTo>
                      <a:pt x="12619" y="6"/>
                      <a:pt x="12618" y="7"/>
                      <a:pt x="12617" y="7"/>
                    </a:cubicBezTo>
                    <a:lnTo>
                      <a:pt x="12617" y="7"/>
                    </a:lnTo>
                    <a:cubicBezTo>
                      <a:pt x="12615" y="7"/>
                      <a:pt x="12615" y="6"/>
                      <a:pt x="12615" y="5"/>
                    </a:cubicBezTo>
                    <a:cubicBezTo>
                      <a:pt x="12615" y="4"/>
                      <a:pt x="12615" y="3"/>
                      <a:pt x="12617" y="3"/>
                    </a:cubicBezTo>
                    <a:close/>
                    <a:moveTo>
                      <a:pt x="12625" y="3"/>
                    </a:moveTo>
                    <a:lnTo>
                      <a:pt x="12625" y="3"/>
                    </a:lnTo>
                    <a:cubicBezTo>
                      <a:pt x="12626" y="3"/>
                      <a:pt x="12627" y="4"/>
                      <a:pt x="12627" y="5"/>
                    </a:cubicBezTo>
                    <a:cubicBezTo>
                      <a:pt x="12627" y="6"/>
                      <a:pt x="12626" y="7"/>
                      <a:pt x="12625" y="7"/>
                    </a:cubicBezTo>
                    <a:lnTo>
                      <a:pt x="12625" y="7"/>
                    </a:lnTo>
                    <a:cubicBezTo>
                      <a:pt x="12623" y="7"/>
                      <a:pt x="12623" y="6"/>
                      <a:pt x="12623" y="5"/>
                    </a:cubicBezTo>
                    <a:cubicBezTo>
                      <a:pt x="12623" y="4"/>
                      <a:pt x="12623" y="3"/>
                      <a:pt x="12625" y="3"/>
                    </a:cubicBezTo>
                    <a:close/>
                    <a:moveTo>
                      <a:pt x="12633" y="3"/>
                    </a:moveTo>
                    <a:lnTo>
                      <a:pt x="12633" y="3"/>
                    </a:lnTo>
                    <a:cubicBezTo>
                      <a:pt x="12634" y="3"/>
                      <a:pt x="12635" y="4"/>
                      <a:pt x="12635" y="5"/>
                    </a:cubicBezTo>
                    <a:cubicBezTo>
                      <a:pt x="12635" y="6"/>
                      <a:pt x="12634" y="7"/>
                      <a:pt x="12633" y="7"/>
                    </a:cubicBezTo>
                    <a:lnTo>
                      <a:pt x="12633" y="7"/>
                    </a:lnTo>
                    <a:cubicBezTo>
                      <a:pt x="12631" y="7"/>
                      <a:pt x="12631" y="6"/>
                      <a:pt x="12631" y="5"/>
                    </a:cubicBezTo>
                    <a:cubicBezTo>
                      <a:pt x="12631" y="4"/>
                      <a:pt x="12631" y="3"/>
                      <a:pt x="12633" y="3"/>
                    </a:cubicBezTo>
                    <a:close/>
                    <a:moveTo>
                      <a:pt x="12641" y="3"/>
                    </a:moveTo>
                    <a:lnTo>
                      <a:pt x="12641" y="3"/>
                    </a:lnTo>
                    <a:cubicBezTo>
                      <a:pt x="12642" y="3"/>
                      <a:pt x="12643" y="4"/>
                      <a:pt x="12643" y="5"/>
                    </a:cubicBezTo>
                    <a:cubicBezTo>
                      <a:pt x="12643" y="6"/>
                      <a:pt x="12642" y="7"/>
                      <a:pt x="12641" y="7"/>
                    </a:cubicBezTo>
                    <a:lnTo>
                      <a:pt x="12641" y="7"/>
                    </a:lnTo>
                    <a:cubicBezTo>
                      <a:pt x="12639" y="7"/>
                      <a:pt x="12639" y="6"/>
                      <a:pt x="12639" y="5"/>
                    </a:cubicBezTo>
                    <a:cubicBezTo>
                      <a:pt x="12639" y="4"/>
                      <a:pt x="12639" y="3"/>
                      <a:pt x="12641" y="3"/>
                    </a:cubicBezTo>
                    <a:close/>
                    <a:moveTo>
                      <a:pt x="12649" y="3"/>
                    </a:moveTo>
                    <a:lnTo>
                      <a:pt x="12649" y="3"/>
                    </a:lnTo>
                    <a:cubicBezTo>
                      <a:pt x="12650" y="3"/>
                      <a:pt x="12651" y="4"/>
                      <a:pt x="12651" y="5"/>
                    </a:cubicBezTo>
                    <a:cubicBezTo>
                      <a:pt x="12651" y="6"/>
                      <a:pt x="12650" y="7"/>
                      <a:pt x="12649" y="7"/>
                    </a:cubicBezTo>
                    <a:lnTo>
                      <a:pt x="12649" y="7"/>
                    </a:lnTo>
                    <a:cubicBezTo>
                      <a:pt x="12647" y="7"/>
                      <a:pt x="12647" y="6"/>
                      <a:pt x="12647" y="5"/>
                    </a:cubicBezTo>
                    <a:cubicBezTo>
                      <a:pt x="12647" y="4"/>
                      <a:pt x="12647" y="3"/>
                      <a:pt x="12649" y="3"/>
                    </a:cubicBezTo>
                    <a:close/>
                    <a:moveTo>
                      <a:pt x="12657" y="3"/>
                    </a:moveTo>
                    <a:lnTo>
                      <a:pt x="12657" y="3"/>
                    </a:lnTo>
                    <a:cubicBezTo>
                      <a:pt x="12658" y="3"/>
                      <a:pt x="12659" y="4"/>
                      <a:pt x="12659" y="5"/>
                    </a:cubicBezTo>
                    <a:cubicBezTo>
                      <a:pt x="12659" y="6"/>
                      <a:pt x="12658" y="7"/>
                      <a:pt x="12657" y="7"/>
                    </a:cubicBezTo>
                    <a:lnTo>
                      <a:pt x="12657" y="7"/>
                    </a:lnTo>
                    <a:cubicBezTo>
                      <a:pt x="12655" y="7"/>
                      <a:pt x="12655" y="6"/>
                      <a:pt x="12655" y="5"/>
                    </a:cubicBezTo>
                    <a:cubicBezTo>
                      <a:pt x="12655" y="4"/>
                      <a:pt x="12655" y="3"/>
                      <a:pt x="12657" y="3"/>
                    </a:cubicBezTo>
                    <a:close/>
                    <a:moveTo>
                      <a:pt x="12665" y="3"/>
                    </a:moveTo>
                    <a:lnTo>
                      <a:pt x="12665" y="3"/>
                    </a:lnTo>
                    <a:cubicBezTo>
                      <a:pt x="12666" y="3"/>
                      <a:pt x="12667" y="4"/>
                      <a:pt x="12667" y="5"/>
                    </a:cubicBezTo>
                    <a:cubicBezTo>
                      <a:pt x="12667" y="6"/>
                      <a:pt x="12666" y="7"/>
                      <a:pt x="12665" y="7"/>
                    </a:cubicBezTo>
                    <a:lnTo>
                      <a:pt x="12665" y="7"/>
                    </a:lnTo>
                    <a:cubicBezTo>
                      <a:pt x="12663" y="7"/>
                      <a:pt x="12663" y="6"/>
                      <a:pt x="12663" y="5"/>
                    </a:cubicBezTo>
                    <a:cubicBezTo>
                      <a:pt x="12663" y="4"/>
                      <a:pt x="12663" y="3"/>
                      <a:pt x="12665" y="3"/>
                    </a:cubicBezTo>
                    <a:close/>
                    <a:moveTo>
                      <a:pt x="12673" y="3"/>
                    </a:moveTo>
                    <a:lnTo>
                      <a:pt x="12673" y="3"/>
                    </a:lnTo>
                    <a:cubicBezTo>
                      <a:pt x="12674" y="3"/>
                      <a:pt x="12675" y="4"/>
                      <a:pt x="12675" y="5"/>
                    </a:cubicBezTo>
                    <a:cubicBezTo>
                      <a:pt x="12675" y="6"/>
                      <a:pt x="12674" y="7"/>
                      <a:pt x="12673" y="7"/>
                    </a:cubicBezTo>
                    <a:lnTo>
                      <a:pt x="12673" y="7"/>
                    </a:lnTo>
                    <a:cubicBezTo>
                      <a:pt x="12671" y="7"/>
                      <a:pt x="12671" y="6"/>
                      <a:pt x="12671" y="5"/>
                    </a:cubicBezTo>
                    <a:cubicBezTo>
                      <a:pt x="12671" y="4"/>
                      <a:pt x="12671" y="3"/>
                      <a:pt x="12673" y="3"/>
                    </a:cubicBezTo>
                    <a:close/>
                    <a:moveTo>
                      <a:pt x="12681" y="3"/>
                    </a:moveTo>
                    <a:lnTo>
                      <a:pt x="12681" y="3"/>
                    </a:lnTo>
                    <a:cubicBezTo>
                      <a:pt x="12682" y="3"/>
                      <a:pt x="12683" y="4"/>
                      <a:pt x="12683" y="5"/>
                    </a:cubicBezTo>
                    <a:cubicBezTo>
                      <a:pt x="12683" y="6"/>
                      <a:pt x="12682" y="7"/>
                      <a:pt x="12681" y="7"/>
                    </a:cubicBezTo>
                    <a:lnTo>
                      <a:pt x="12681" y="7"/>
                    </a:lnTo>
                    <a:cubicBezTo>
                      <a:pt x="12679" y="7"/>
                      <a:pt x="12679" y="6"/>
                      <a:pt x="12679" y="5"/>
                    </a:cubicBezTo>
                    <a:cubicBezTo>
                      <a:pt x="12679" y="4"/>
                      <a:pt x="12679" y="3"/>
                      <a:pt x="12681" y="3"/>
                    </a:cubicBezTo>
                    <a:close/>
                    <a:moveTo>
                      <a:pt x="12689" y="3"/>
                    </a:moveTo>
                    <a:lnTo>
                      <a:pt x="12689" y="3"/>
                    </a:lnTo>
                    <a:cubicBezTo>
                      <a:pt x="12690" y="3"/>
                      <a:pt x="12691" y="4"/>
                      <a:pt x="12691" y="5"/>
                    </a:cubicBezTo>
                    <a:cubicBezTo>
                      <a:pt x="12691" y="6"/>
                      <a:pt x="12690" y="7"/>
                      <a:pt x="12689" y="7"/>
                    </a:cubicBezTo>
                    <a:lnTo>
                      <a:pt x="12689" y="7"/>
                    </a:lnTo>
                    <a:cubicBezTo>
                      <a:pt x="12687" y="7"/>
                      <a:pt x="12687" y="6"/>
                      <a:pt x="12687" y="5"/>
                    </a:cubicBezTo>
                    <a:cubicBezTo>
                      <a:pt x="12687" y="4"/>
                      <a:pt x="12687" y="3"/>
                      <a:pt x="12689" y="3"/>
                    </a:cubicBezTo>
                    <a:close/>
                    <a:moveTo>
                      <a:pt x="12697" y="3"/>
                    </a:moveTo>
                    <a:lnTo>
                      <a:pt x="12697" y="3"/>
                    </a:lnTo>
                    <a:cubicBezTo>
                      <a:pt x="12698" y="3"/>
                      <a:pt x="12699" y="4"/>
                      <a:pt x="12699" y="5"/>
                    </a:cubicBezTo>
                    <a:cubicBezTo>
                      <a:pt x="12699" y="6"/>
                      <a:pt x="12698" y="7"/>
                      <a:pt x="12697" y="7"/>
                    </a:cubicBezTo>
                    <a:lnTo>
                      <a:pt x="12697" y="7"/>
                    </a:lnTo>
                    <a:cubicBezTo>
                      <a:pt x="12695" y="7"/>
                      <a:pt x="12695" y="6"/>
                      <a:pt x="12695" y="5"/>
                    </a:cubicBezTo>
                    <a:cubicBezTo>
                      <a:pt x="12695" y="4"/>
                      <a:pt x="12695" y="3"/>
                      <a:pt x="12697" y="3"/>
                    </a:cubicBezTo>
                    <a:close/>
                    <a:moveTo>
                      <a:pt x="12705" y="3"/>
                    </a:moveTo>
                    <a:lnTo>
                      <a:pt x="12705" y="3"/>
                    </a:lnTo>
                    <a:cubicBezTo>
                      <a:pt x="12706" y="3"/>
                      <a:pt x="12707" y="4"/>
                      <a:pt x="12707" y="5"/>
                    </a:cubicBezTo>
                    <a:cubicBezTo>
                      <a:pt x="12707" y="6"/>
                      <a:pt x="12706" y="7"/>
                      <a:pt x="12705" y="7"/>
                    </a:cubicBezTo>
                    <a:lnTo>
                      <a:pt x="12705" y="7"/>
                    </a:lnTo>
                    <a:cubicBezTo>
                      <a:pt x="12703" y="7"/>
                      <a:pt x="12703" y="6"/>
                      <a:pt x="12703" y="5"/>
                    </a:cubicBezTo>
                    <a:cubicBezTo>
                      <a:pt x="12703" y="4"/>
                      <a:pt x="12703" y="3"/>
                      <a:pt x="12705" y="3"/>
                    </a:cubicBezTo>
                    <a:close/>
                    <a:moveTo>
                      <a:pt x="12713" y="3"/>
                    </a:moveTo>
                    <a:lnTo>
                      <a:pt x="12713" y="3"/>
                    </a:lnTo>
                    <a:cubicBezTo>
                      <a:pt x="12714" y="3"/>
                      <a:pt x="12715" y="4"/>
                      <a:pt x="12715" y="5"/>
                    </a:cubicBezTo>
                    <a:cubicBezTo>
                      <a:pt x="12715" y="6"/>
                      <a:pt x="12714" y="7"/>
                      <a:pt x="12713" y="7"/>
                    </a:cubicBezTo>
                    <a:lnTo>
                      <a:pt x="12713" y="7"/>
                    </a:lnTo>
                    <a:cubicBezTo>
                      <a:pt x="12711" y="7"/>
                      <a:pt x="12711" y="6"/>
                      <a:pt x="12711" y="5"/>
                    </a:cubicBezTo>
                    <a:cubicBezTo>
                      <a:pt x="12711" y="4"/>
                      <a:pt x="12711" y="3"/>
                      <a:pt x="12713" y="3"/>
                    </a:cubicBezTo>
                    <a:close/>
                    <a:moveTo>
                      <a:pt x="12721" y="3"/>
                    </a:moveTo>
                    <a:lnTo>
                      <a:pt x="12721" y="3"/>
                    </a:lnTo>
                    <a:cubicBezTo>
                      <a:pt x="12722" y="3"/>
                      <a:pt x="12723" y="4"/>
                      <a:pt x="12723" y="5"/>
                    </a:cubicBezTo>
                    <a:cubicBezTo>
                      <a:pt x="12723" y="6"/>
                      <a:pt x="12722" y="7"/>
                      <a:pt x="12721" y="7"/>
                    </a:cubicBezTo>
                    <a:lnTo>
                      <a:pt x="12721" y="7"/>
                    </a:lnTo>
                    <a:cubicBezTo>
                      <a:pt x="12719" y="7"/>
                      <a:pt x="12719" y="6"/>
                      <a:pt x="12719" y="5"/>
                    </a:cubicBezTo>
                    <a:cubicBezTo>
                      <a:pt x="12719" y="4"/>
                      <a:pt x="12719" y="3"/>
                      <a:pt x="12721" y="3"/>
                    </a:cubicBezTo>
                    <a:close/>
                    <a:moveTo>
                      <a:pt x="12729" y="3"/>
                    </a:moveTo>
                    <a:lnTo>
                      <a:pt x="12729" y="3"/>
                    </a:lnTo>
                    <a:cubicBezTo>
                      <a:pt x="12730" y="3"/>
                      <a:pt x="12731" y="4"/>
                      <a:pt x="12731" y="5"/>
                    </a:cubicBezTo>
                    <a:cubicBezTo>
                      <a:pt x="12731" y="6"/>
                      <a:pt x="12730" y="7"/>
                      <a:pt x="12729" y="7"/>
                    </a:cubicBezTo>
                    <a:lnTo>
                      <a:pt x="12729" y="7"/>
                    </a:lnTo>
                    <a:cubicBezTo>
                      <a:pt x="12727" y="7"/>
                      <a:pt x="12727" y="6"/>
                      <a:pt x="12727" y="5"/>
                    </a:cubicBezTo>
                    <a:cubicBezTo>
                      <a:pt x="12727" y="4"/>
                      <a:pt x="12727" y="3"/>
                      <a:pt x="12729" y="3"/>
                    </a:cubicBezTo>
                    <a:close/>
                    <a:moveTo>
                      <a:pt x="12737" y="3"/>
                    </a:moveTo>
                    <a:lnTo>
                      <a:pt x="12737" y="3"/>
                    </a:lnTo>
                    <a:cubicBezTo>
                      <a:pt x="12738" y="3"/>
                      <a:pt x="12739" y="4"/>
                      <a:pt x="12739" y="5"/>
                    </a:cubicBezTo>
                    <a:cubicBezTo>
                      <a:pt x="12739" y="6"/>
                      <a:pt x="12738" y="7"/>
                      <a:pt x="12737" y="7"/>
                    </a:cubicBezTo>
                    <a:lnTo>
                      <a:pt x="12737" y="7"/>
                    </a:lnTo>
                    <a:cubicBezTo>
                      <a:pt x="12735" y="7"/>
                      <a:pt x="12735" y="6"/>
                      <a:pt x="12735" y="5"/>
                    </a:cubicBezTo>
                    <a:cubicBezTo>
                      <a:pt x="12735" y="4"/>
                      <a:pt x="12735" y="3"/>
                      <a:pt x="12737" y="3"/>
                    </a:cubicBezTo>
                    <a:close/>
                    <a:moveTo>
                      <a:pt x="12745" y="3"/>
                    </a:moveTo>
                    <a:lnTo>
                      <a:pt x="12745" y="3"/>
                    </a:lnTo>
                    <a:cubicBezTo>
                      <a:pt x="12746" y="3"/>
                      <a:pt x="12747" y="4"/>
                      <a:pt x="12747" y="5"/>
                    </a:cubicBezTo>
                    <a:cubicBezTo>
                      <a:pt x="12747" y="6"/>
                      <a:pt x="12746" y="7"/>
                      <a:pt x="12745" y="7"/>
                    </a:cubicBezTo>
                    <a:lnTo>
                      <a:pt x="12745" y="7"/>
                    </a:lnTo>
                    <a:cubicBezTo>
                      <a:pt x="12743" y="7"/>
                      <a:pt x="12743" y="6"/>
                      <a:pt x="12743" y="5"/>
                    </a:cubicBezTo>
                    <a:cubicBezTo>
                      <a:pt x="12743" y="4"/>
                      <a:pt x="12743" y="3"/>
                      <a:pt x="12745" y="3"/>
                    </a:cubicBezTo>
                    <a:close/>
                    <a:moveTo>
                      <a:pt x="12753" y="3"/>
                    </a:moveTo>
                    <a:lnTo>
                      <a:pt x="12753" y="3"/>
                    </a:lnTo>
                    <a:cubicBezTo>
                      <a:pt x="12754" y="3"/>
                      <a:pt x="12755" y="4"/>
                      <a:pt x="12755" y="5"/>
                    </a:cubicBezTo>
                    <a:cubicBezTo>
                      <a:pt x="12755" y="6"/>
                      <a:pt x="12754" y="7"/>
                      <a:pt x="12753" y="7"/>
                    </a:cubicBezTo>
                    <a:lnTo>
                      <a:pt x="12753" y="7"/>
                    </a:lnTo>
                    <a:cubicBezTo>
                      <a:pt x="12751" y="7"/>
                      <a:pt x="12751" y="6"/>
                      <a:pt x="12751" y="5"/>
                    </a:cubicBezTo>
                    <a:cubicBezTo>
                      <a:pt x="12751" y="4"/>
                      <a:pt x="12751" y="3"/>
                      <a:pt x="12753" y="3"/>
                    </a:cubicBezTo>
                    <a:close/>
                    <a:moveTo>
                      <a:pt x="12761" y="3"/>
                    </a:moveTo>
                    <a:lnTo>
                      <a:pt x="12761" y="3"/>
                    </a:lnTo>
                    <a:cubicBezTo>
                      <a:pt x="12762" y="3"/>
                      <a:pt x="12763" y="4"/>
                      <a:pt x="12763" y="5"/>
                    </a:cubicBezTo>
                    <a:cubicBezTo>
                      <a:pt x="12763" y="6"/>
                      <a:pt x="12762" y="7"/>
                      <a:pt x="12761" y="7"/>
                    </a:cubicBezTo>
                    <a:lnTo>
                      <a:pt x="12761" y="7"/>
                    </a:lnTo>
                    <a:cubicBezTo>
                      <a:pt x="12759" y="7"/>
                      <a:pt x="12759" y="6"/>
                      <a:pt x="12759" y="5"/>
                    </a:cubicBezTo>
                    <a:cubicBezTo>
                      <a:pt x="12759" y="4"/>
                      <a:pt x="12759" y="3"/>
                      <a:pt x="12761" y="3"/>
                    </a:cubicBezTo>
                    <a:close/>
                    <a:moveTo>
                      <a:pt x="12769" y="3"/>
                    </a:moveTo>
                    <a:lnTo>
                      <a:pt x="12769" y="3"/>
                    </a:lnTo>
                    <a:cubicBezTo>
                      <a:pt x="12770" y="3"/>
                      <a:pt x="12771" y="4"/>
                      <a:pt x="12771" y="5"/>
                    </a:cubicBezTo>
                    <a:cubicBezTo>
                      <a:pt x="12771" y="6"/>
                      <a:pt x="12770" y="7"/>
                      <a:pt x="12769" y="7"/>
                    </a:cubicBezTo>
                    <a:lnTo>
                      <a:pt x="12769" y="7"/>
                    </a:lnTo>
                    <a:cubicBezTo>
                      <a:pt x="12767" y="7"/>
                      <a:pt x="12767" y="6"/>
                      <a:pt x="12767" y="5"/>
                    </a:cubicBezTo>
                    <a:cubicBezTo>
                      <a:pt x="12767" y="4"/>
                      <a:pt x="12767" y="3"/>
                      <a:pt x="12769" y="3"/>
                    </a:cubicBezTo>
                    <a:close/>
                    <a:moveTo>
                      <a:pt x="12777" y="3"/>
                    </a:moveTo>
                    <a:lnTo>
                      <a:pt x="12777" y="3"/>
                    </a:lnTo>
                    <a:cubicBezTo>
                      <a:pt x="12778" y="3"/>
                      <a:pt x="12779" y="4"/>
                      <a:pt x="12779" y="5"/>
                    </a:cubicBezTo>
                    <a:cubicBezTo>
                      <a:pt x="12779" y="6"/>
                      <a:pt x="12778" y="7"/>
                      <a:pt x="12777" y="7"/>
                    </a:cubicBezTo>
                    <a:lnTo>
                      <a:pt x="12777" y="7"/>
                    </a:lnTo>
                    <a:cubicBezTo>
                      <a:pt x="12776" y="7"/>
                      <a:pt x="12775" y="6"/>
                      <a:pt x="12775" y="5"/>
                    </a:cubicBezTo>
                    <a:cubicBezTo>
                      <a:pt x="12775" y="4"/>
                      <a:pt x="12776" y="3"/>
                      <a:pt x="12777" y="3"/>
                    </a:cubicBezTo>
                    <a:close/>
                    <a:moveTo>
                      <a:pt x="12785" y="3"/>
                    </a:moveTo>
                    <a:lnTo>
                      <a:pt x="12785" y="3"/>
                    </a:lnTo>
                    <a:cubicBezTo>
                      <a:pt x="12786" y="3"/>
                      <a:pt x="12787" y="4"/>
                      <a:pt x="12787" y="5"/>
                    </a:cubicBezTo>
                    <a:cubicBezTo>
                      <a:pt x="12787" y="6"/>
                      <a:pt x="12786" y="7"/>
                      <a:pt x="12785" y="7"/>
                    </a:cubicBezTo>
                    <a:lnTo>
                      <a:pt x="12785" y="7"/>
                    </a:lnTo>
                    <a:cubicBezTo>
                      <a:pt x="12784" y="7"/>
                      <a:pt x="12783" y="6"/>
                      <a:pt x="12783" y="5"/>
                    </a:cubicBezTo>
                    <a:cubicBezTo>
                      <a:pt x="12783" y="4"/>
                      <a:pt x="12784" y="3"/>
                      <a:pt x="12785" y="3"/>
                    </a:cubicBezTo>
                    <a:close/>
                    <a:moveTo>
                      <a:pt x="12793" y="3"/>
                    </a:moveTo>
                    <a:lnTo>
                      <a:pt x="12793" y="3"/>
                    </a:lnTo>
                    <a:cubicBezTo>
                      <a:pt x="12794" y="3"/>
                      <a:pt x="12795" y="4"/>
                      <a:pt x="12795" y="5"/>
                    </a:cubicBezTo>
                    <a:cubicBezTo>
                      <a:pt x="12795" y="6"/>
                      <a:pt x="12794" y="7"/>
                      <a:pt x="12793" y="7"/>
                    </a:cubicBezTo>
                    <a:lnTo>
                      <a:pt x="12793" y="7"/>
                    </a:lnTo>
                    <a:cubicBezTo>
                      <a:pt x="12792" y="7"/>
                      <a:pt x="12791" y="6"/>
                      <a:pt x="12791" y="5"/>
                    </a:cubicBezTo>
                    <a:cubicBezTo>
                      <a:pt x="12791" y="4"/>
                      <a:pt x="12792" y="3"/>
                      <a:pt x="12793" y="3"/>
                    </a:cubicBezTo>
                    <a:close/>
                    <a:moveTo>
                      <a:pt x="12801" y="3"/>
                    </a:moveTo>
                    <a:lnTo>
                      <a:pt x="12801" y="3"/>
                    </a:lnTo>
                    <a:cubicBezTo>
                      <a:pt x="12802" y="3"/>
                      <a:pt x="12803" y="4"/>
                      <a:pt x="12803" y="5"/>
                    </a:cubicBezTo>
                    <a:cubicBezTo>
                      <a:pt x="12803" y="6"/>
                      <a:pt x="12802" y="7"/>
                      <a:pt x="12801" y="7"/>
                    </a:cubicBezTo>
                    <a:lnTo>
                      <a:pt x="12801" y="7"/>
                    </a:lnTo>
                    <a:cubicBezTo>
                      <a:pt x="12800" y="7"/>
                      <a:pt x="12799" y="6"/>
                      <a:pt x="12799" y="5"/>
                    </a:cubicBezTo>
                    <a:cubicBezTo>
                      <a:pt x="12799" y="4"/>
                      <a:pt x="12800" y="3"/>
                      <a:pt x="12801" y="3"/>
                    </a:cubicBezTo>
                    <a:close/>
                    <a:moveTo>
                      <a:pt x="12809" y="3"/>
                    </a:moveTo>
                    <a:lnTo>
                      <a:pt x="12809" y="3"/>
                    </a:lnTo>
                    <a:cubicBezTo>
                      <a:pt x="12810" y="3"/>
                      <a:pt x="12811" y="4"/>
                      <a:pt x="12811" y="5"/>
                    </a:cubicBezTo>
                    <a:cubicBezTo>
                      <a:pt x="12811" y="6"/>
                      <a:pt x="12810" y="7"/>
                      <a:pt x="12809" y="7"/>
                    </a:cubicBezTo>
                    <a:lnTo>
                      <a:pt x="12809" y="7"/>
                    </a:lnTo>
                    <a:cubicBezTo>
                      <a:pt x="12808" y="7"/>
                      <a:pt x="12807" y="6"/>
                      <a:pt x="12807" y="5"/>
                    </a:cubicBezTo>
                    <a:cubicBezTo>
                      <a:pt x="12807" y="4"/>
                      <a:pt x="12808" y="3"/>
                      <a:pt x="12809" y="3"/>
                    </a:cubicBezTo>
                    <a:close/>
                    <a:moveTo>
                      <a:pt x="12817" y="3"/>
                    </a:moveTo>
                    <a:lnTo>
                      <a:pt x="12817" y="3"/>
                    </a:lnTo>
                    <a:cubicBezTo>
                      <a:pt x="12818" y="3"/>
                      <a:pt x="12819" y="4"/>
                      <a:pt x="12819" y="5"/>
                    </a:cubicBezTo>
                    <a:cubicBezTo>
                      <a:pt x="12819" y="6"/>
                      <a:pt x="12818" y="7"/>
                      <a:pt x="12817" y="7"/>
                    </a:cubicBezTo>
                    <a:lnTo>
                      <a:pt x="12817" y="7"/>
                    </a:lnTo>
                    <a:cubicBezTo>
                      <a:pt x="12816" y="7"/>
                      <a:pt x="12815" y="6"/>
                      <a:pt x="12815" y="5"/>
                    </a:cubicBezTo>
                    <a:cubicBezTo>
                      <a:pt x="12815" y="4"/>
                      <a:pt x="12816" y="3"/>
                      <a:pt x="12817" y="3"/>
                    </a:cubicBezTo>
                    <a:close/>
                    <a:moveTo>
                      <a:pt x="12825" y="3"/>
                    </a:moveTo>
                    <a:lnTo>
                      <a:pt x="12825" y="3"/>
                    </a:lnTo>
                    <a:cubicBezTo>
                      <a:pt x="12826" y="3"/>
                      <a:pt x="12827" y="4"/>
                      <a:pt x="12827" y="5"/>
                    </a:cubicBezTo>
                    <a:cubicBezTo>
                      <a:pt x="12827" y="6"/>
                      <a:pt x="12826" y="7"/>
                      <a:pt x="12825" y="7"/>
                    </a:cubicBezTo>
                    <a:lnTo>
                      <a:pt x="12825" y="7"/>
                    </a:lnTo>
                    <a:cubicBezTo>
                      <a:pt x="12824" y="7"/>
                      <a:pt x="12823" y="6"/>
                      <a:pt x="12823" y="5"/>
                    </a:cubicBezTo>
                    <a:cubicBezTo>
                      <a:pt x="12823" y="4"/>
                      <a:pt x="12824" y="3"/>
                      <a:pt x="12825" y="3"/>
                    </a:cubicBezTo>
                    <a:close/>
                    <a:moveTo>
                      <a:pt x="12833" y="3"/>
                    </a:moveTo>
                    <a:lnTo>
                      <a:pt x="12833" y="3"/>
                    </a:lnTo>
                    <a:cubicBezTo>
                      <a:pt x="12834" y="3"/>
                      <a:pt x="12835" y="4"/>
                      <a:pt x="12835" y="5"/>
                    </a:cubicBezTo>
                    <a:cubicBezTo>
                      <a:pt x="12835" y="6"/>
                      <a:pt x="12834" y="7"/>
                      <a:pt x="12833" y="7"/>
                    </a:cubicBezTo>
                    <a:lnTo>
                      <a:pt x="12833" y="7"/>
                    </a:lnTo>
                    <a:cubicBezTo>
                      <a:pt x="12832" y="7"/>
                      <a:pt x="12831" y="6"/>
                      <a:pt x="12831" y="5"/>
                    </a:cubicBezTo>
                    <a:cubicBezTo>
                      <a:pt x="12831" y="4"/>
                      <a:pt x="12832" y="3"/>
                      <a:pt x="12833" y="3"/>
                    </a:cubicBezTo>
                    <a:close/>
                    <a:moveTo>
                      <a:pt x="12841" y="3"/>
                    </a:moveTo>
                    <a:lnTo>
                      <a:pt x="12841" y="3"/>
                    </a:lnTo>
                    <a:cubicBezTo>
                      <a:pt x="12842" y="3"/>
                      <a:pt x="12843" y="4"/>
                      <a:pt x="12843" y="5"/>
                    </a:cubicBezTo>
                    <a:cubicBezTo>
                      <a:pt x="12843" y="6"/>
                      <a:pt x="12842" y="7"/>
                      <a:pt x="12841" y="7"/>
                    </a:cubicBezTo>
                    <a:lnTo>
                      <a:pt x="12841" y="7"/>
                    </a:lnTo>
                    <a:cubicBezTo>
                      <a:pt x="12840" y="7"/>
                      <a:pt x="12839" y="6"/>
                      <a:pt x="12839" y="5"/>
                    </a:cubicBezTo>
                    <a:cubicBezTo>
                      <a:pt x="12839" y="4"/>
                      <a:pt x="12840" y="3"/>
                      <a:pt x="12841" y="3"/>
                    </a:cubicBezTo>
                    <a:close/>
                    <a:moveTo>
                      <a:pt x="12849" y="3"/>
                    </a:moveTo>
                    <a:lnTo>
                      <a:pt x="12849" y="3"/>
                    </a:lnTo>
                    <a:cubicBezTo>
                      <a:pt x="12850" y="3"/>
                      <a:pt x="12851" y="4"/>
                      <a:pt x="12851" y="5"/>
                    </a:cubicBezTo>
                    <a:cubicBezTo>
                      <a:pt x="12851" y="6"/>
                      <a:pt x="12850" y="7"/>
                      <a:pt x="12849" y="7"/>
                    </a:cubicBezTo>
                    <a:lnTo>
                      <a:pt x="12849" y="7"/>
                    </a:lnTo>
                    <a:cubicBezTo>
                      <a:pt x="12848" y="7"/>
                      <a:pt x="12847" y="6"/>
                      <a:pt x="12847" y="5"/>
                    </a:cubicBezTo>
                    <a:cubicBezTo>
                      <a:pt x="12847" y="4"/>
                      <a:pt x="12848" y="3"/>
                      <a:pt x="12849" y="3"/>
                    </a:cubicBezTo>
                    <a:close/>
                    <a:moveTo>
                      <a:pt x="12857" y="3"/>
                    </a:moveTo>
                    <a:lnTo>
                      <a:pt x="12857" y="3"/>
                    </a:lnTo>
                    <a:cubicBezTo>
                      <a:pt x="12858" y="3"/>
                      <a:pt x="12859" y="4"/>
                      <a:pt x="12859" y="5"/>
                    </a:cubicBezTo>
                    <a:cubicBezTo>
                      <a:pt x="12859" y="6"/>
                      <a:pt x="12858" y="7"/>
                      <a:pt x="12857" y="7"/>
                    </a:cubicBezTo>
                    <a:lnTo>
                      <a:pt x="12857" y="7"/>
                    </a:lnTo>
                    <a:cubicBezTo>
                      <a:pt x="12856" y="7"/>
                      <a:pt x="12855" y="6"/>
                      <a:pt x="12855" y="5"/>
                    </a:cubicBezTo>
                    <a:cubicBezTo>
                      <a:pt x="12855" y="4"/>
                      <a:pt x="12856" y="3"/>
                      <a:pt x="12857" y="3"/>
                    </a:cubicBezTo>
                    <a:close/>
                    <a:moveTo>
                      <a:pt x="12865" y="3"/>
                    </a:moveTo>
                    <a:lnTo>
                      <a:pt x="12865" y="3"/>
                    </a:lnTo>
                    <a:cubicBezTo>
                      <a:pt x="12866" y="3"/>
                      <a:pt x="12867" y="4"/>
                      <a:pt x="12867" y="5"/>
                    </a:cubicBezTo>
                    <a:cubicBezTo>
                      <a:pt x="12867" y="6"/>
                      <a:pt x="12866" y="7"/>
                      <a:pt x="12865" y="7"/>
                    </a:cubicBezTo>
                    <a:lnTo>
                      <a:pt x="12865" y="7"/>
                    </a:lnTo>
                    <a:cubicBezTo>
                      <a:pt x="12864" y="7"/>
                      <a:pt x="12863" y="6"/>
                      <a:pt x="12863" y="5"/>
                    </a:cubicBezTo>
                    <a:cubicBezTo>
                      <a:pt x="12863" y="4"/>
                      <a:pt x="12864" y="3"/>
                      <a:pt x="12865" y="3"/>
                    </a:cubicBezTo>
                    <a:close/>
                    <a:moveTo>
                      <a:pt x="12873" y="3"/>
                    </a:moveTo>
                    <a:lnTo>
                      <a:pt x="12873" y="3"/>
                    </a:lnTo>
                    <a:cubicBezTo>
                      <a:pt x="12874" y="3"/>
                      <a:pt x="12875" y="4"/>
                      <a:pt x="12875" y="5"/>
                    </a:cubicBezTo>
                    <a:cubicBezTo>
                      <a:pt x="12875" y="6"/>
                      <a:pt x="12874" y="7"/>
                      <a:pt x="12873" y="7"/>
                    </a:cubicBezTo>
                    <a:lnTo>
                      <a:pt x="12873" y="7"/>
                    </a:lnTo>
                    <a:cubicBezTo>
                      <a:pt x="12872" y="7"/>
                      <a:pt x="12871" y="6"/>
                      <a:pt x="12871" y="5"/>
                    </a:cubicBezTo>
                    <a:cubicBezTo>
                      <a:pt x="12871" y="4"/>
                      <a:pt x="12872" y="3"/>
                      <a:pt x="12873" y="3"/>
                    </a:cubicBezTo>
                    <a:close/>
                    <a:moveTo>
                      <a:pt x="12881" y="3"/>
                    </a:moveTo>
                    <a:lnTo>
                      <a:pt x="12881" y="3"/>
                    </a:lnTo>
                    <a:cubicBezTo>
                      <a:pt x="12882" y="3"/>
                      <a:pt x="12883" y="4"/>
                      <a:pt x="12883" y="5"/>
                    </a:cubicBezTo>
                    <a:cubicBezTo>
                      <a:pt x="12883" y="6"/>
                      <a:pt x="12882" y="7"/>
                      <a:pt x="12881" y="7"/>
                    </a:cubicBezTo>
                    <a:lnTo>
                      <a:pt x="12881" y="7"/>
                    </a:lnTo>
                    <a:cubicBezTo>
                      <a:pt x="12880" y="7"/>
                      <a:pt x="12879" y="6"/>
                      <a:pt x="12879" y="5"/>
                    </a:cubicBezTo>
                    <a:cubicBezTo>
                      <a:pt x="12879" y="4"/>
                      <a:pt x="12880" y="3"/>
                      <a:pt x="12881" y="3"/>
                    </a:cubicBezTo>
                    <a:close/>
                    <a:moveTo>
                      <a:pt x="12889" y="3"/>
                    </a:moveTo>
                    <a:lnTo>
                      <a:pt x="12889" y="3"/>
                    </a:lnTo>
                    <a:cubicBezTo>
                      <a:pt x="12890" y="3"/>
                      <a:pt x="12891" y="4"/>
                      <a:pt x="12891" y="5"/>
                    </a:cubicBezTo>
                    <a:cubicBezTo>
                      <a:pt x="12891" y="6"/>
                      <a:pt x="12890" y="7"/>
                      <a:pt x="12889" y="7"/>
                    </a:cubicBezTo>
                    <a:lnTo>
                      <a:pt x="12889" y="7"/>
                    </a:lnTo>
                    <a:cubicBezTo>
                      <a:pt x="12888" y="7"/>
                      <a:pt x="12887" y="6"/>
                      <a:pt x="12887" y="5"/>
                    </a:cubicBezTo>
                    <a:cubicBezTo>
                      <a:pt x="12887" y="4"/>
                      <a:pt x="12888" y="3"/>
                      <a:pt x="12889" y="3"/>
                    </a:cubicBezTo>
                    <a:close/>
                    <a:moveTo>
                      <a:pt x="12897" y="3"/>
                    </a:moveTo>
                    <a:lnTo>
                      <a:pt x="12897" y="3"/>
                    </a:lnTo>
                    <a:cubicBezTo>
                      <a:pt x="12898" y="3"/>
                      <a:pt x="12899" y="4"/>
                      <a:pt x="12899" y="5"/>
                    </a:cubicBezTo>
                    <a:cubicBezTo>
                      <a:pt x="12899" y="6"/>
                      <a:pt x="12898" y="7"/>
                      <a:pt x="12897" y="7"/>
                    </a:cubicBezTo>
                    <a:lnTo>
                      <a:pt x="12897" y="7"/>
                    </a:lnTo>
                    <a:cubicBezTo>
                      <a:pt x="12896" y="7"/>
                      <a:pt x="12895" y="6"/>
                      <a:pt x="12895" y="5"/>
                    </a:cubicBezTo>
                    <a:cubicBezTo>
                      <a:pt x="12895" y="4"/>
                      <a:pt x="12896" y="3"/>
                      <a:pt x="12897" y="3"/>
                    </a:cubicBezTo>
                    <a:close/>
                    <a:moveTo>
                      <a:pt x="12905" y="3"/>
                    </a:moveTo>
                    <a:lnTo>
                      <a:pt x="12905" y="3"/>
                    </a:lnTo>
                    <a:cubicBezTo>
                      <a:pt x="12906" y="3"/>
                      <a:pt x="12907" y="4"/>
                      <a:pt x="12907" y="5"/>
                    </a:cubicBezTo>
                    <a:cubicBezTo>
                      <a:pt x="12907" y="6"/>
                      <a:pt x="12906" y="7"/>
                      <a:pt x="12905" y="7"/>
                    </a:cubicBezTo>
                    <a:lnTo>
                      <a:pt x="12905" y="7"/>
                    </a:lnTo>
                    <a:cubicBezTo>
                      <a:pt x="12904" y="7"/>
                      <a:pt x="12903" y="6"/>
                      <a:pt x="12903" y="5"/>
                    </a:cubicBezTo>
                    <a:cubicBezTo>
                      <a:pt x="12903" y="4"/>
                      <a:pt x="12904" y="3"/>
                      <a:pt x="12905" y="3"/>
                    </a:cubicBezTo>
                    <a:close/>
                    <a:moveTo>
                      <a:pt x="12913" y="3"/>
                    </a:moveTo>
                    <a:lnTo>
                      <a:pt x="12913" y="3"/>
                    </a:lnTo>
                    <a:cubicBezTo>
                      <a:pt x="12914" y="3"/>
                      <a:pt x="12915" y="4"/>
                      <a:pt x="12915" y="5"/>
                    </a:cubicBezTo>
                    <a:cubicBezTo>
                      <a:pt x="12915" y="6"/>
                      <a:pt x="12914" y="7"/>
                      <a:pt x="12913" y="7"/>
                    </a:cubicBezTo>
                    <a:lnTo>
                      <a:pt x="12913" y="7"/>
                    </a:lnTo>
                    <a:cubicBezTo>
                      <a:pt x="12912" y="7"/>
                      <a:pt x="12911" y="6"/>
                      <a:pt x="12911" y="5"/>
                    </a:cubicBezTo>
                    <a:cubicBezTo>
                      <a:pt x="12911" y="4"/>
                      <a:pt x="12912" y="3"/>
                      <a:pt x="12913" y="3"/>
                    </a:cubicBezTo>
                    <a:close/>
                    <a:moveTo>
                      <a:pt x="12921" y="3"/>
                    </a:moveTo>
                    <a:lnTo>
                      <a:pt x="12921" y="3"/>
                    </a:lnTo>
                    <a:cubicBezTo>
                      <a:pt x="12922" y="3"/>
                      <a:pt x="12923" y="4"/>
                      <a:pt x="12923" y="5"/>
                    </a:cubicBezTo>
                    <a:cubicBezTo>
                      <a:pt x="12923" y="6"/>
                      <a:pt x="12922" y="7"/>
                      <a:pt x="12921" y="7"/>
                    </a:cubicBezTo>
                    <a:lnTo>
                      <a:pt x="12921" y="7"/>
                    </a:lnTo>
                    <a:cubicBezTo>
                      <a:pt x="12920" y="7"/>
                      <a:pt x="12919" y="6"/>
                      <a:pt x="12919" y="5"/>
                    </a:cubicBezTo>
                    <a:cubicBezTo>
                      <a:pt x="12919" y="4"/>
                      <a:pt x="12920" y="3"/>
                      <a:pt x="12921" y="3"/>
                    </a:cubicBezTo>
                    <a:close/>
                    <a:moveTo>
                      <a:pt x="12929" y="3"/>
                    </a:moveTo>
                    <a:lnTo>
                      <a:pt x="12929" y="3"/>
                    </a:lnTo>
                    <a:cubicBezTo>
                      <a:pt x="12930" y="3"/>
                      <a:pt x="12931" y="4"/>
                      <a:pt x="12931" y="5"/>
                    </a:cubicBezTo>
                    <a:cubicBezTo>
                      <a:pt x="12931" y="6"/>
                      <a:pt x="12930" y="7"/>
                      <a:pt x="12929" y="7"/>
                    </a:cubicBezTo>
                    <a:lnTo>
                      <a:pt x="12929" y="7"/>
                    </a:lnTo>
                    <a:cubicBezTo>
                      <a:pt x="12928" y="7"/>
                      <a:pt x="12927" y="6"/>
                      <a:pt x="12927" y="5"/>
                    </a:cubicBezTo>
                    <a:cubicBezTo>
                      <a:pt x="12927" y="4"/>
                      <a:pt x="12928" y="3"/>
                      <a:pt x="12929" y="3"/>
                    </a:cubicBezTo>
                    <a:close/>
                    <a:moveTo>
                      <a:pt x="12937" y="3"/>
                    </a:moveTo>
                    <a:lnTo>
                      <a:pt x="12937" y="3"/>
                    </a:lnTo>
                    <a:cubicBezTo>
                      <a:pt x="12938" y="3"/>
                      <a:pt x="12939" y="4"/>
                      <a:pt x="12939" y="5"/>
                    </a:cubicBezTo>
                    <a:cubicBezTo>
                      <a:pt x="12939" y="6"/>
                      <a:pt x="12938" y="7"/>
                      <a:pt x="12937" y="7"/>
                    </a:cubicBezTo>
                    <a:lnTo>
                      <a:pt x="12937" y="7"/>
                    </a:lnTo>
                    <a:cubicBezTo>
                      <a:pt x="12936" y="7"/>
                      <a:pt x="12935" y="6"/>
                      <a:pt x="12935" y="5"/>
                    </a:cubicBezTo>
                    <a:cubicBezTo>
                      <a:pt x="12935" y="4"/>
                      <a:pt x="12936" y="3"/>
                      <a:pt x="12937" y="3"/>
                    </a:cubicBezTo>
                    <a:close/>
                    <a:moveTo>
                      <a:pt x="12945" y="3"/>
                    </a:moveTo>
                    <a:lnTo>
                      <a:pt x="12945" y="3"/>
                    </a:lnTo>
                    <a:cubicBezTo>
                      <a:pt x="12946" y="3"/>
                      <a:pt x="12947" y="4"/>
                      <a:pt x="12947" y="5"/>
                    </a:cubicBezTo>
                    <a:cubicBezTo>
                      <a:pt x="12947" y="6"/>
                      <a:pt x="12946" y="7"/>
                      <a:pt x="12945" y="7"/>
                    </a:cubicBezTo>
                    <a:lnTo>
                      <a:pt x="12945" y="7"/>
                    </a:lnTo>
                    <a:cubicBezTo>
                      <a:pt x="12944" y="7"/>
                      <a:pt x="12943" y="6"/>
                      <a:pt x="12943" y="5"/>
                    </a:cubicBezTo>
                    <a:cubicBezTo>
                      <a:pt x="12943" y="4"/>
                      <a:pt x="12944" y="3"/>
                      <a:pt x="12945" y="3"/>
                    </a:cubicBezTo>
                    <a:close/>
                    <a:moveTo>
                      <a:pt x="12953" y="3"/>
                    </a:moveTo>
                    <a:lnTo>
                      <a:pt x="12953" y="3"/>
                    </a:lnTo>
                    <a:cubicBezTo>
                      <a:pt x="12954" y="3"/>
                      <a:pt x="12955" y="4"/>
                      <a:pt x="12955" y="5"/>
                    </a:cubicBezTo>
                    <a:cubicBezTo>
                      <a:pt x="12955" y="6"/>
                      <a:pt x="12954" y="7"/>
                      <a:pt x="12953" y="7"/>
                    </a:cubicBezTo>
                    <a:lnTo>
                      <a:pt x="12953" y="7"/>
                    </a:lnTo>
                    <a:cubicBezTo>
                      <a:pt x="12952" y="7"/>
                      <a:pt x="12951" y="6"/>
                      <a:pt x="12951" y="5"/>
                    </a:cubicBezTo>
                    <a:cubicBezTo>
                      <a:pt x="12951" y="4"/>
                      <a:pt x="12952" y="3"/>
                      <a:pt x="12953" y="3"/>
                    </a:cubicBezTo>
                    <a:close/>
                    <a:moveTo>
                      <a:pt x="12961" y="3"/>
                    </a:moveTo>
                    <a:lnTo>
                      <a:pt x="12961" y="3"/>
                    </a:lnTo>
                    <a:cubicBezTo>
                      <a:pt x="12962" y="3"/>
                      <a:pt x="12963" y="4"/>
                      <a:pt x="12963" y="5"/>
                    </a:cubicBezTo>
                    <a:cubicBezTo>
                      <a:pt x="12963" y="6"/>
                      <a:pt x="12962" y="7"/>
                      <a:pt x="12961" y="7"/>
                    </a:cubicBezTo>
                    <a:lnTo>
                      <a:pt x="12961" y="7"/>
                    </a:lnTo>
                    <a:cubicBezTo>
                      <a:pt x="12960" y="7"/>
                      <a:pt x="12959" y="6"/>
                      <a:pt x="12959" y="5"/>
                    </a:cubicBezTo>
                    <a:cubicBezTo>
                      <a:pt x="12959" y="4"/>
                      <a:pt x="12960" y="3"/>
                      <a:pt x="12961" y="3"/>
                    </a:cubicBezTo>
                    <a:close/>
                    <a:moveTo>
                      <a:pt x="12969" y="3"/>
                    </a:moveTo>
                    <a:lnTo>
                      <a:pt x="12969" y="3"/>
                    </a:lnTo>
                    <a:cubicBezTo>
                      <a:pt x="12970" y="3"/>
                      <a:pt x="12971" y="4"/>
                      <a:pt x="12971" y="5"/>
                    </a:cubicBezTo>
                    <a:cubicBezTo>
                      <a:pt x="12971" y="6"/>
                      <a:pt x="12970" y="7"/>
                      <a:pt x="12969" y="7"/>
                    </a:cubicBezTo>
                    <a:lnTo>
                      <a:pt x="12969" y="7"/>
                    </a:lnTo>
                    <a:cubicBezTo>
                      <a:pt x="12968" y="7"/>
                      <a:pt x="12967" y="6"/>
                      <a:pt x="12967" y="5"/>
                    </a:cubicBezTo>
                    <a:cubicBezTo>
                      <a:pt x="12967" y="4"/>
                      <a:pt x="12968" y="3"/>
                      <a:pt x="12969" y="3"/>
                    </a:cubicBezTo>
                    <a:close/>
                    <a:moveTo>
                      <a:pt x="12977" y="3"/>
                    </a:moveTo>
                    <a:lnTo>
                      <a:pt x="12977" y="3"/>
                    </a:lnTo>
                    <a:cubicBezTo>
                      <a:pt x="12978" y="3"/>
                      <a:pt x="12979" y="4"/>
                      <a:pt x="12979" y="5"/>
                    </a:cubicBezTo>
                    <a:cubicBezTo>
                      <a:pt x="12979" y="6"/>
                      <a:pt x="12978" y="7"/>
                      <a:pt x="12977" y="7"/>
                    </a:cubicBezTo>
                    <a:lnTo>
                      <a:pt x="12977" y="7"/>
                    </a:lnTo>
                    <a:cubicBezTo>
                      <a:pt x="12976" y="7"/>
                      <a:pt x="12975" y="6"/>
                      <a:pt x="12975" y="5"/>
                    </a:cubicBezTo>
                    <a:cubicBezTo>
                      <a:pt x="12975" y="4"/>
                      <a:pt x="12976" y="3"/>
                      <a:pt x="12977" y="3"/>
                    </a:cubicBezTo>
                    <a:close/>
                    <a:moveTo>
                      <a:pt x="12985" y="3"/>
                    </a:moveTo>
                    <a:lnTo>
                      <a:pt x="12985" y="3"/>
                    </a:lnTo>
                    <a:cubicBezTo>
                      <a:pt x="12986" y="3"/>
                      <a:pt x="12987" y="4"/>
                      <a:pt x="12987" y="5"/>
                    </a:cubicBezTo>
                    <a:cubicBezTo>
                      <a:pt x="12987" y="6"/>
                      <a:pt x="12986" y="7"/>
                      <a:pt x="12985" y="7"/>
                    </a:cubicBezTo>
                    <a:lnTo>
                      <a:pt x="12985" y="7"/>
                    </a:lnTo>
                    <a:cubicBezTo>
                      <a:pt x="12984" y="7"/>
                      <a:pt x="12983" y="6"/>
                      <a:pt x="12983" y="5"/>
                    </a:cubicBezTo>
                    <a:cubicBezTo>
                      <a:pt x="12983" y="4"/>
                      <a:pt x="12984" y="3"/>
                      <a:pt x="12985" y="3"/>
                    </a:cubicBezTo>
                    <a:close/>
                    <a:moveTo>
                      <a:pt x="12993" y="3"/>
                    </a:moveTo>
                    <a:lnTo>
                      <a:pt x="12993" y="3"/>
                    </a:lnTo>
                    <a:cubicBezTo>
                      <a:pt x="12994" y="3"/>
                      <a:pt x="12995" y="4"/>
                      <a:pt x="12995" y="5"/>
                    </a:cubicBezTo>
                    <a:cubicBezTo>
                      <a:pt x="12995" y="6"/>
                      <a:pt x="12994" y="7"/>
                      <a:pt x="12993" y="7"/>
                    </a:cubicBezTo>
                    <a:lnTo>
                      <a:pt x="12993" y="7"/>
                    </a:lnTo>
                    <a:cubicBezTo>
                      <a:pt x="12992" y="7"/>
                      <a:pt x="12991" y="6"/>
                      <a:pt x="12991" y="5"/>
                    </a:cubicBezTo>
                    <a:cubicBezTo>
                      <a:pt x="12991" y="4"/>
                      <a:pt x="12992" y="3"/>
                      <a:pt x="12993" y="3"/>
                    </a:cubicBezTo>
                    <a:close/>
                    <a:moveTo>
                      <a:pt x="13001" y="3"/>
                    </a:moveTo>
                    <a:lnTo>
                      <a:pt x="13001" y="3"/>
                    </a:lnTo>
                    <a:cubicBezTo>
                      <a:pt x="13002" y="3"/>
                      <a:pt x="13003" y="4"/>
                      <a:pt x="13003" y="5"/>
                    </a:cubicBezTo>
                    <a:cubicBezTo>
                      <a:pt x="13003" y="6"/>
                      <a:pt x="13002" y="7"/>
                      <a:pt x="13001" y="7"/>
                    </a:cubicBezTo>
                    <a:lnTo>
                      <a:pt x="13001" y="7"/>
                    </a:lnTo>
                    <a:cubicBezTo>
                      <a:pt x="13000" y="7"/>
                      <a:pt x="12999" y="6"/>
                      <a:pt x="12999" y="5"/>
                    </a:cubicBezTo>
                    <a:cubicBezTo>
                      <a:pt x="12999" y="4"/>
                      <a:pt x="13000" y="3"/>
                      <a:pt x="13001" y="3"/>
                    </a:cubicBezTo>
                    <a:close/>
                    <a:moveTo>
                      <a:pt x="13009" y="3"/>
                    </a:moveTo>
                    <a:lnTo>
                      <a:pt x="13009" y="3"/>
                    </a:lnTo>
                    <a:cubicBezTo>
                      <a:pt x="13010" y="3"/>
                      <a:pt x="13011" y="4"/>
                      <a:pt x="13011" y="5"/>
                    </a:cubicBezTo>
                    <a:cubicBezTo>
                      <a:pt x="13011" y="6"/>
                      <a:pt x="13010" y="7"/>
                      <a:pt x="13009" y="7"/>
                    </a:cubicBezTo>
                    <a:lnTo>
                      <a:pt x="13009" y="7"/>
                    </a:lnTo>
                    <a:cubicBezTo>
                      <a:pt x="13008" y="7"/>
                      <a:pt x="13007" y="6"/>
                      <a:pt x="13007" y="5"/>
                    </a:cubicBezTo>
                    <a:cubicBezTo>
                      <a:pt x="13007" y="4"/>
                      <a:pt x="13008" y="3"/>
                      <a:pt x="13009" y="3"/>
                    </a:cubicBezTo>
                    <a:close/>
                    <a:moveTo>
                      <a:pt x="13017" y="3"/>
                    </a:moveTo>
                    <a:lnTo>
                      <a:pt x="13017" y="3"/>
                    </a:lnTo>
                    <a:cubicBezTo>
                      <a:pt x="13018" y="3"/>
                      <a:pt x="13019" y="4"/>
                      <a:pt x="13019" y="5"/>
                    </a:cubicBezTo>
                    <a:cubicBezTo>
                      <a:pt x="13019" y="6"/>
                      <a:pt x="13018" y="7"/>
                      <a:pt x="13017" y="7"/>
                    </a:cubicBezTo>
                    <a:lnTo>
                      <a:pt x="13017" y="7"/>
                    </a:lnTo>
                    <a:cubicBezTo>
                      <a:pt x="13016" y="7"/>
                      <a:pt x="13015" y="6"/>
                      <a:pt x="13015" y="5"/>
                    </a:cubicBezTo>
                    <a:cubicBezTo>
                      <a:pt x="13015" y="4"/>
                      <a:pt x="13016" y="3"/>
                      <a:pt x="13017" y="3"/>
                    </a:cubicBezTo>
                    <a:close/>
                    <a:moveTo>
                      <a:pt x="13025" y="3"/>
                    </a:moveTo>
                    <a:lnTo>
                      <a:pt x="13025" y="3"/>
                    </a:lnTo>
                    <a:cubicBezTo>
                      <a:pt x="13026" y="3"/>
                      <a:pt x="13027" y="4"/>
                      <a:pt x="13027" y="5"/>
                    </a:cubicBezTo>
                    <a:cubicBezTo>
                      <a:pt x="13027" y="6"/>
                      <a:pt x="13026" y="7"/>
                      <a:pt x="13025" y="7"/>
                    </a:cubicBezTo>
                    <a:lnTo>
                      <a:pt x="13025" y="7"/>
                    </a:lnTo>
                    <a:cubicBezTo>
                      <a:pt x="13024" y="7"/>
                      <a:pt x="13023" y="6"/>
                      <a:pt x="13023" y="5"/>
                    </a:cubicBezTo>
                    <a:cubicBezTo>
                      <a:pt x="13023" y="4"/>
                      <a:pt x="13024" y="3"/>
                      <a:pt x="13025" y="3"/>
                    </a:cubicBezTo>
                    <a:close/>
                    <a:moveTo>
                      <a:pt x="13033" y="3"/>
                    </a:moveTo>
                    <a:lnTo>
                      <a:pt x="13033" y="3"/>
                    </a:lnTo>
                    <a:cubicBezTo>
                      <a:pt x="13034" y="3"/>
                      <a:pt x="13035" y="4"/>
                      <a:pt x="13035" y="5"/>
                    </a:cubicBezTo>
                    <a:cubicBezTo>
                      <a:pt x="13035" y="6"/>
                      <a:pt x="13034" y="7"/>
                      <a:pt x="13033" y="7"/>
                    </a:cubicBezTo>
                    <a:lnTo>
                      <a:pt x="13033" y="7"/>
                    </a:lnTo>
                    <a:cubicBezTo>
                      <a:pt x="13032" y="7"/>
                      <a:pt x="13031" y="6"/>
                      <a:pt x="13031" y="5"/>
                    </a:cubicBezTo>
                    <a:cubicBezTo>
                      <a:pt x="13031" y="4"/>
                      <a:pt x="13032" y="3"/>
                      <a:pt x="13033" y="3"/>
                    </a:cubicBezTo>
                    <a:close/>
                    <a:moveTo>
                      <a:pt x="13041" y="3"/>
                    </a:moveTo>
                    <a:lnTo>
                      <a:pt x="13041" y="3"/>
                    </a:lnTo>
                    <a:cubicBezTo>
                      <a:pt x="13042" y="3"/>
                      <a:pt x="13043" y="4"/>
                      <a:pt x="13043" y="5"/>
                    </a:cubicBezTo>
                    <a:cubicBezTo>
                      <a:pt x="13043" y="6"/>
                      <a:pt x="13042" y="7"/>
                      <a:pt x="13041" y="7"/>
                    </a:cubicBezTo>
                    <a:lnTo>
                      <a:pt x="13041" y="7"/>
                    </a:lnTo>
                    <a:cubicBezTo>
                      <a:pt x="13040" y="7"/>
                      <a:pt x="13039" y="6"/>
                      <a:pt x="13039" y="5"/>
                    </a:cubicBezTo>
                    <a:cubicBezTo>
                      <a:pt x="13039" y="4"/>
                      <a:pt x="13040" y="3"/>
                      <a:pt x="13041" y="3"/>
                    </a:cubicBezTo>
                    <a:close/>
                    <a:moveTo>
                      <a:pt x="13049" y="3"/>
                    </a:moveTo>
                    <a:lnTo>
                      <a:pt x="13049" y="3"/>
                    </a:lnTo>
                    <a:cubicBezTo>
                      <a:pt x="13050" y="3"/>
                      <a:pt x="13051" y="4"/>
                      <a:pt x="13051" y="5"/>
                    </a:cubicBezTo>
                    <a:cubicBezTo>
                      <a:pt x="13051" y="6"/>
                      <a:pt x="13050" y="7"/>
                      <a:pt x="13049" y="7"/>
                    </a:cubicBezTo>
                    <a:lnTo>
                      <a:pt x="13049" y="7"/>
                    </a:lnTo>
                    <a:cubicBezTo>
                      <a:pt x="13048" y="7"/>
                      <a:pt x="13047" y="6"/>
                      <a:pt x="13047" y="5"/>
                    </a:cubicBezTo>
                    <a:cubicBezTo>
                      <a:pt x="13047" y="4"/>
                      <a:pt x="13048" y="3"/>
                      <a:pt x="13049" y="3"/>
                    </a:cubicBezTo>
                    <a:close/>
                    <a:moveTo>
                      <a:pt x="13057" y="3"/>
                    </a:moveTo>
                    <a:lnTo>
                      <a:pt x="13057" y="3"/>
                    </a:lnTo>
                    <a:cubicBezTo>
                      <a:pt x="13058" y="3"/>
                      <a:pt x="13059" y="4"/>
                      <a:pt x="13059" y="5"/>
                    </a:cubicBezTo>
                    <a:cubicBezTo>
                      <a:pt x="13059" y="6"/>
                      <a:pt x="13058" y="7"/>
                      <a:pt x="13057" y="7"/>
                    </a:cubicBezTo>
                    <a:lnTo>
                      <a:pt x="13057" y="7"/>
                    </a:lnTo>
                    <a:cubicBezTo>
                      <a:pt x="13056" y="7"/>
                      <a:pt x="13055" y="6"/>
                      <a:pt x="13055" y="5"/>
                    </a:cubicBezTo>
                    <a:cubicBezTo>
                      <a:pt x="13055" y="4"/>
                      <a:pt x="13056" y="3"/>
                      <a:pt x="13057" y="3"/>
                    </a:cubicBezTo>
                    <a:close/>
                    <a:moveTo>
                      <a:pt x="13065" y="3"/>
                    </a:moveTo>
                    <a:lnTo>
                      <a:pt x="13065" y="3"/>
                    </a:lnTo>
                    <a:cubicBezTo>
                      <a:pt x="13066" y="3"/>
                      <a:pt x="13067" y="4"/>
                      <a:pt x="13067" y="5"/>
                    </a:cubicBezTo>
                    <a:cubicBezTo>
                      <a:pt x="13067" y="6"/>
                      <a:pt x="13066" y="7"/>
                      <a:pt x="13065" y="7"/>
                    </a:cubicBezTo>
                    <a:lnTo>
                      <a:pt x="13065" y="7"/>
                    </a:lnTo>
                    <a:cubicBezTo>
                      <a:pt x="13064" y="7"/>
                      <a:pt x="13063" y="6"/>
                      <a:pt x="13063" y="5"/>
                    </a:cubicBezTo>
                    <a:cubicBezTo>
                      <a:pt x="13063" y="4"/>
                      <a:pt x="13064" y="3"/>
                      <a:pt x="13065" y="3"/>
                    </a:cubicBezTo>
                    <a:close/>
                    <a:moveTo>
                      <a:pt x="13073" y="3"/>
                    </a:moveTo>
                    <a:lnTo>
                      <a:pt x="13073" y="3"/>
                    </a:lnTo>
                    <a:cubicBezTo>
                      <a:pt x="13074" y="3"/>
                      <a:pt x="13075" y="4"/>
                      <a:pt x="13075" y="5"/>
                    </a:cubicBezTo>
                    <a:cubicBezTo>
                      <a:pt x="13075" y="6"/>
                      <a:pt x="13074" y="7"/>
                      <a:pt x="13073" y="7"/>
                    </a:cubicBezTo>
                    <a:lnTo>
                      <a:pt x="13073" y="7"/>
                    </a:lnTo>
                    <a:cubicBezTo>
                      <a:pt x="13072" y="7"/>
                      <a:pt x="13071" y="6"/>
                      <a:pt x="13071" y="5"/>
                    </a:cubicBezTo>
                    <a:cubicBezTo>
                      <a:pt x="13071" y="4"/>
                      <a:pt x="13072" y="3"/>
                      <a:pt x="13073" y="3"/>
                    </a:cubicBezTo>
                    <a:close/>
                    <a:moveTo>
                      <a:pt x="13081" y="3"/>
                    </a:moveTo>
                    <a:lnTo>
                      <a:pt x="13081" y="3"/>
                    </a:lnTo>
                    <a:cubicBezTo>
                      <a:pt x="13082" y="3"/>
                      <a:pt x="13083" y="4"/>
                      <a:pt x="13083" y="5"/>
                    </a:cubicBezTo>
                    <a:cubicBezTo>
                      <a:pt x="13083" y="6"/>
                      <a:pt x="13082" y="7"/>
                      <a:pt x="13081" y="7"/>
                    </a:cubicBezTo>
                    <a:lnTo>
                      <a:pt x="13081" y="7"/>
                    </a:lnTo>
                    <a:cubicBezTo>
                      <a:pt x="13080" y="7"/>
                      <a:pt x="13079" y="6"/>
                      <a:pt x="13079" y="5"/>
                    </a:cubicBezTo>
                    <a:cubicBezTo>
                      <a:pt x="13079" y="4"/>
                      <a:pt x="13080" y="3"/>
                      <a:pt x="13081" y="3"/>
                    </a:cubicBezTo>
                    <a:close/>
                    <a:moveTo>
                      <a:pt x="13089" y="3"/>
                    </a:moveTo>
                    <a:lnTo>
                      <a:pt x="13089" y="3"/>
                    </a:lnTo>
                    <a:cubicBezTo>
                      <a:pt x="13090" y="3"/>
                      <a:pt x="13091" y="4"/>
                      <a:pt x="13091" y="5"/>
                    </a:cubicBezTo>
                    <a:cubicBezTo>
                      <a:pt x="13091" y="6"/>
                      <a:pt x="13090" y="7"/>
                      <a:pt x="13089" y="7"/>
                    </a:cubicBezTo>
                    <a:lnTo>
                      <a:pt x="13089" y="7"/>
                    </a:lnTo>
                    <a:cubicBezTo>
                      <a:pt x="13088" y="7"/>
                      <a:pt x="13087" y="6"/>
                      <a:pt x="13087" y="5"/>
                    </a:cubicBezTo>
                    <a:cubicBezTo>
                      <a:pt x="13087" y="4"/>
                      <a:pt x="13088" y="3"/>
                      <a:pt x="13089" y="3"/>
                    </a:cubicBezTo>
                    <a:close/>
                    <a:moveTo>
                      <a:pt x="13097" y="3"/>
                    </a:moveTo>
                    <a:lnTo>
                      <a:pt x="13097" y="3"/>
                    </a:lnTo>
                    <a:cubicBezTo>
                      <a:pt x="13098" y="3"/>
                      <a:pt x="13099" y="4"/>
                      <a:pt x="13099" y="5"/>
                    </a:cubicBezTo>
                    <a:cubicBezTo>
                      <a:pt x="13099" y="6"/>
                      <a:pt x="13098" y="7"/>
                      <a:pt x="13097" y="7"/>
                    </a:cubicBezTo>
                    <a:lnTo>
                      <a:pt x="13097" y="7"/>
                    </a:lnTo>
                    <a:cubicBezTo>
                      <a:pt x="13096" y="7"/>
                      <a:pt x="13095" y="6"/>
                      <a:pt x="13095" y="5"/>
                    </a:cubicBezTo>
                    <a:cubicBezTo>
                      <a:pt x="13095" y="4"/>
                      <a:pt x="13096" y="3"/>
                      <a:pt x="13097" y="3"/>
                    </a:cubicBezTo>
                    <a:close/>
                    <a:moveTo>
                      <a:pt x="13105" y="3"/>
                    </a:moveTo>
                    <a:lnTo>
                      <a:pt x="13105" y="3"/>
                    </a:lnTo>
                    <a:cubicBezTo>
                      <a:pt x="13106" y="3"/>
                      <a:pt x="13107" y="4"/>
                      <a:pt x="13107" y="5"/>
                    </a:cubicBezTo>
                    <a:cubicBezTo>
                      <a:pt x="13107" y="6"/>
                      <a:pt x="13106" y="7"/>
                      <a:pt x="13105" y="7"/>
                    </a:cubicBezTo>
                    <a:lnTo>
                      <a:pt x="13105" y="7"/>
                    </a:lnTo>
                    <a:cubicBezTo>
                      <a:pt x="13104" y="7"/>
                      <a:pt x="13103" y="6"/>
                      <a:pt x="13103" y="5"/>
                    </a:cubicBezTo>
                    <a:cubicBezTo>
                      <a:pt x="13103" y="4"/>
                      <a:pt x="13104" y="3"/>
                      <a:pt x="13105" y="3"/>
                    </a:cubicBezTo>
                    <a:close/>
                    <a:moveTo>
                      <a:pt x="13113" y="3"/>
                    </a:moveTo>
                    <a:lnTo>
                      <a:pt x="13113" y="3"/>
                    </a:lnTo>
                    <a:cubicBezTo>
                      <a:pt x="13114" y="3"/>
                      <a:pt x="13115" y="4"/>
                      <a:pt x="13115" y="5"/>
                    </a:cubicBezTo>
                    <a:cubicBezTo>
                      <a:pt x="13115" y="6"/>
                      <a:pt x="13114" y="7"/>
                      <a:pt x="13113" y="7"/>
                    </a:cubicBezTo>
                    <a:lnTo>
                      <a:pt x="13113" y="7"/>
                    </a:lnTo>
                    <a:cubicBezTo>
                      <a:pt x="13112" y="7"/>
                      <a:pt x="13111" y="6"/>
                      <a:pt x="13111" y="5"/>
                    </a:cubicBezTo>
                    <a:cubicBezTo>
                      <a:pt x="13111" y="4"/>
                      <a:pt x="13112" y="3"/>
                      <a:pt x="13113" y="3"/>
                    </a:cubicBezTo>
                    <a:close/>
                    <a:moveTo>
                      <a:pt x="13121" y="3"/>
                    </a:moveTo>
                    <a:lnTo>
                      <a:pt x="13121" y="3"/>
                    </a:lnTo>
                    <a:cubicBezTo>
                      <a:pt x="13122" y="3"/>
                      <a:pt x="13123" y="4"/>
                      <a:pt x="13123" y="5"/>
                    </a:cubicBezTo>
                    <a:cubicBezTo>
                      <a:pt x="13123" y="6"/>
                      <a:pt x="13122" y="7"/>
                      <a:pt x="13121" y="7"/>
                    </a:cubicBezTo>
                    <a:lnTo>
                      <a:pt x="13121" y="7"/>
                    </a:lnTo>
                    <a:cubicBezTo>
                      <a:pt x="13120" y="7"/>
                      <a:pt x="13119" y="6"/>
                      <a:pt x="13119" y="5"/>
                    </a:cubicBezTo>
                    <a:cubicBezTo>
                      <a:pt x="13119" y="4"/>
                      <a:pt x="13120" y="3"/>
                      <a:pt x="13121" y="3"/>
                    </a:cubicBezTo>
                    <a:close/>
                    <a:moveTo>
                      <a:pt x="13129" y="3"/>
                    </a:moveTo>
                    <a:lnTo>
                      <a:pt x="13129" y="3"/>
                    </a:lnTo>
                    <a:cubicBezTo>
                      <a:pt x="13130" y="3"/>
                      <a:pt x="13131" y="4"/>
                      <a:pt x="13131" y="5"/>
                    </a:cubicBezTo>
                    <a:cubicBezTo>
                      <a:pt x="13131" y="6"/>
                      <a:pt x="13130" y="7"/>
                      <a:pt x="13129" y="7"/>
                    </a:cubicBezTo>
                    <a:lnTo>
                      <a:pt x="13129" y="7"/>
                    </a:lnTo>
                    <a:cubicBezTo>
                      <a:pt x="13128" y="7"/>
                      <a:pt x="13127" y="6"/>
                      <a:pt x="13127" y="5"/>
                    </a:cubicBezTo>
                    <a:cubicBezTo>
                      <a:pt x="13127" y="4"/>
                      <a:pt x="13128" y="3"/>
                      <a:pt x="13129" y="3"/>
                    </a:cubicBezTo>
                    <a:close/>
                    <a:moveTo>
                      <a:pt x="13137" y="3"/>
                    </a:moveTo>
                    <a:lnTo>
                      <a:pt x="13137" y="3"/>
                    </a:lnTo>
                    <a:cubicBezTo>
                      <a:pt x="13138" y="3"/>
                      <a:pt x="13139" y="4"/>
                      <a:pt x="13139" y="5"/>
                    </a:cubicBezTo>
                    <a:cubicBezTo>
                      <a:pt x="13139" y="6"/>
                      <a:pt x="13138" y="7"/>
                      <a:pt x="13137" y="7"/>
                    </a:cubicBezTo>
                    <a:lnTo>
                      <a:pt x="13137" y="7"/>
                    </a:lnTo>
                    <a:cubicBezTo>
                      <a:pt x="13136" y="7"/>
                      <a:pt x="13135" y="6"/>
                      <a:pt x="13135" y="5"/>
                    </a:cubicBezTo>
                    <a:cubicBezTo>
                      <a:pt x="13135" y="4"/>
                      <a:pt x="13136" y="3"/>
                      <a:pt x="13137" y="3"/>
                    </a:cubicBezTo>
                    <a:close/>
                    <a:moveTo>
                      <a:pt x="13145" y="3"/>
                    </a:moveTo>
                    <a:lnTo>
                      <a:pt x="13145" y="3"/>
                    </a:lnTo>
                    <a:cubicBezTo>
                      <a:pt x="13146" y="3"/>
                      <a:pt x="13147" y="4"/>
                      <a:pt x="13147" y="5"/>
                    </a:cubicBezTo>
                    <a:cubicBezTo>
                      <a:pt x="13147" y="6"/>
                      <a:pt x="13146" y="7"/>
                      <a:pt x="13145" y="7"/>
                    </a:cubicBezTo>
                    <a:lnTo>
                      <a:pt x="13145" y="7"/>
                    </a:lnTo>
                    <a:cubicBezTo>
                      <a:pt x="13144" y="7"/>
                      <a:pt x="13143" y="6"/>
                      <a:pt x="13143" y="5"/>
                    </a:cubicBezTo>
                    <a:cubicBezTo>
                      <a:pt x="13143" y="4"/>
                      <a:pt x="13144" y="3"/>
                      <a:pt x="13145" y="3"/>
                    </a:cubicBezTo>
                    <a:close/>
                    <a:moveTo>
                      <a:pt x="13153" y="3"/>
                    </a:moveTo>
                    <a:lnTo>
                      <a:pt x="13153" y="3"/>
                    </a:lnTo>
                    <a:cubicBezTo>
                      <a:pt x="13154" y="3"/>
                      <a:pt x="13155" y="4"/>
                      <a:pt x="13155" y="5"/>
                    </a:cubicBezTo>
                    <a:cubicBezTo>
                      <a:pt x="13155" y="6"/>
                      <a:pt x="13154" y="7"/>
                      <a:pt x="13153" y="7"/>
                    </a:cubicBezTo>
                    <a:lnTo>
                      <a:pt x="13153" y="7"/>
                    </a:lnTo>
                    <a:cubicBezTo>
                      <a:pt x="13152" y="7"/>
                      <a:pt x="13151" y="6"/>
                      <a:pt x="13151" y="5"/>
                    </a:cubicBezTo>
                    <a:cubicBezTo>
                      <a:pt x="13151" y="4"/>
                      <a:pt x="13152" y="3"/>
                      <a:pt x="13153" y="3"/>
                    </a:cubicBezTo>
                    <a:close/>
                    <a:moveTo>
                      <a:pt x="13161" y="3"/>
                    </a:moveTo>
                    <a:lnTo>
                      <a:pt x="13161" y="3"/>
                    </a:lnTo>
                    <a:cubicBezTo>
                      <a:pt x="13162" y="3"/>
                      <a:pt x="13163" y="4"/>
                      <a:pt x="13163" y="5"/>
                    </a:cubicBezTo>
                    <a:cubicBezTo>
                      <a:pt x="13163" y="6"/>
                      <a:pt x="13162" y="7"/>
                      <a:pt x="13161" y="7"/>
                    </a:cubicBezTo>
                    <a:lnTo>
                      <a:pt x="13161" y="7"/>
                    </a:lnTo>
                    <a:cubicBezTo>
                      <a:pt x="13160" y="7"/>
                      <a:pt x="13159" y="6"/>
                      <a:pt x="13159" y="5"/>
                    </a:cubicBezTo>
                    <a:cubicBezTo>
                      <a:pt x="13159" y="4"/>
                      <a:pt x="13160" y="3"/>
                      <a:pt x="13161" y="3"/>
                    </a:cubicBezTo>
                    <a:close/>
                    <a:moveTo>
                      <a:pt x="13169" y="3"/>
                    </a:moveTo>
                    <a:lnTo>
                      <a:pt x="13169" y="3"/>
                    </a:lnTo>
                    <a:cubicBezTo>
                      <a:pt x="13170" y="3"/>
                      <a:pt x="13171" y="4"/>
                      <a:pt x="13171" y="5"/>
                    </a:cubicBezTo>
                    <a:cubicBezTo>
                      <a:pt x="13171" y="6"/>
                      <a:pt x="13170" y="7"/>
                      <a:pt x="13169" y="7"/>
                    </a:cubicBezTo>
                    <a:lnTo>
                      <a:pt x="13169" y="7"/>
                    </a:lnTo>
                    <a:cubicBezTo>
                      <a:pt x="13168" y="7"/>
                      <a:pt x="13167" y="6"/>
                      <a:pt x="13167" y="5"/>
                    </a:cubicBezTo>
                    <a:cubicBezTo>
                      <a:pt x="13167" y="4"/>
                      <a:pt x="13168" y="3"/>
                      <a:pt x="13169" y="3"/>
                    </a:cubicBezTo>
                    <a:close/>
                    <a:moveTo>
                      <a:pt x="13177" y="3"/>
                    </a:moveTo>
                    <a:lnTo>
                      <a:pt x="13177" y="3"/>
                    </a:lnTo>
                    <a:cubicBezTo>
                      <a:pt x="13178" y="3"/>
                      <a:pt x="13179" y="4"/>
                      <a:pt x="13179" y="5"/>
                    </a:cubicBezTo>
                    <a:cubicBezTo>
                      <a:pt x="13179" y="6"/>
                      <a:pt x="13178" y="7"/>
                      <a:pt x="13177" y="7"/>
                    </a:cubicBezTo>
                    <a:lnTo>
                      <a:pt x="13177" y="7"/>
                    </a:lnTo>
                    <a:cubicBezTo>
                      <a:pt x="13176" y="7"/>
                      <a:pt x="13175" y="6"/>
                      <a:pt x="13175" y="5"/>
                    </a:cubicBezTo>
                    <a:cubicBezTo>
                      <a:pt x="13175" y="4"/>
                      <a:pt x="13176" y="3"/>
                      <a:pt x="13177" y="3"/>
                    </a:cubicBezTo>
                    <a:close/>
                    <a:moveTo>
                      <a:pt x="13185" y="3"/>
                    </a:moveTo>
                    <a:lnTo>
                      <a:pt x="13185" y="3"/>
                    </a:lnTo>
                    <a:cubicBezTo>
                      <a:pt x="13186" y="3"/>
                      <a:pt x="13187" y="4"/>
                      <a:pt x="13187" y="5"/>
                    </a:cubicBezTo>
                    <a:cubicBezTo>
                      <a:pt x="13187" y="6"/>
                      <a:pt x="13186" y="7"/>
                      <a:pt x="13185" y="7"/>
                    </a:cubicBezTo>
                    <a:lnTo>
                      <a:pt x="13185" y="7"/>
                    </a:lnTo>
                    <a:cubicBezTo>
                      <a:pt x="13184" y="7"/>
                      <a:pt x="13183" y="6"/>
                      <a:pt x="13183" y="5"/>
                    </a:cubicBezTo>
                    <a:cubicBezTo>
                      <a:pt x="13183" y="4"/>
                      <a:pt x="13184" y="3"/>
                      <a:pt x="13185" y="3"/>
                    </a:cubicBezTo>
                    <a:close/>
                    <a:moveTo>
                      <a:pt x="13193" y="3"/>
                    </a:moveTo>
                    <a:lnTo>
                      <a:pt x="13193" y="3"/>
                    </a:lnTo>
                    <a:cubicBezTo>
                      <a:pt x="13194" y="3"/>
                      <a:pt x="13195" y="4"/>
                      <a:pt x="13195" y="5"/>
                    </a:cubicBezTo>
                    <a:cubicBezTo>
                      <a:pt x="13195" y="6"/>
                      <a:pt x="13194" y="7"/>
                      <a:pt x="13193" y="7"/>
                    </a:cubicBezTo>
                    <a:lnTo>
                      <a:pt x="13193" y="7"/>
                    </a:lnTo>
                    <a:cubicBezTo>
                      <a:pt x="13192" y="7"/>
                      <a:pt x="13191" y="6"/>
                      <a:pt x="13191" y="5"/>
                    </a:cubicBezTo>
                    <a:cubicBezTo>
                      <a:pt x="13191" y="4"/>
                      <a:pt x="13192" y="3"/>
                      <a:pt x="13193" y="3"/>
                    </a:cubicBezTo>
                    <a:close/>
                    <a:moveTo>
                      <a:pt x="13201" y="3"/>
                    </a:moveTo>
                    <a:lnTo>
                      <a:pt x="13201" y="3"/>
                    </a:lnTo>
                    <a:cubicBezTo>
                      <a:pt x="13202" y="3"/>
                      <a:pt x="13203" y="4"/>
                      <a:pt x="13203" y="5"/>
                    </a:cubicBezTo>
                    <a:cubicBezTo>
                      <a:pt x="13203" y="6"/>
                      <a:pt x="13202" y="7"/>
                      <a:pt x="13201" y="7"/>
                    </a:cubicBezTo>
                    <a:lnTo>
                      <a:pt x="13201" y="7"/>
                    </a:lnTo>
                    <a:cubicBezTo>
                      <a:pt x="13200" y="7"/>
                      <a:pt x="13199" y="6"/>
                      <a:pt x="13199" y="5"/>
                    </a:cubicBezTo>
                    <a:cubicBezTo>
                      <a:pt x="13199" y="4"/>
                      <a:pt x="13200" y="3"/>
                      <a:pt x="13201" y="3"/>
                    </a:cubicBezTo>
                    <a:close/>
                    <a:moveTo>
                      <a:pt x="13209" y="3"/>
                    </a:moveTo>
                    <a:lnTo>
                      <a:pt x="13209" y="3"/>
                    </a:lnTo>
                    <a:cubicBezTo>
                      <a:pt x="13210" y="3"/>
                      <a:pt x="13211" y="4"/>
                      <a:pt x="13211" y="5"/>
                    </a:cubicBezTo>
                    <a:cubicBezTo>
                      <a:pt x="13211" y="6"/>
                      <a:pt x="13210" y="7"/>
                      <a:pt x="13209" y="7"/>
                    </a:cubicBezTo>
                    <a:lnTo>
                      <a:pt x="13209" y="7"/>
                    </a:lnTo>
                    <a:cubicBezTo>
                      <a:pt x="13208" y="7"/>
                      <a:pt x="13207" y="6"/>
                      <a:pt x="13207" y="5"/>
                    </a:cubicBezTo>
                    <a:cubicBezTo>
                      <a:pt x="13207" y="4"/>
                      <a:pt x="13208" y="3"/>
                      <a:pt x="13209" y="3"/>
                    </a:cubicBezTo>
                    <a:close/>
                    <a:moveTo>
                      <a:pt x="13217" y="3"/>
                    </a:moveTo>
                    <a:lnTo>
                      <a:pt x="13217" y="3"/>
                    </a:lnTo>
                    <a:cubicBezTo>
                      <a:pt x="13218" y="3"/>
                      <a:pt x="13219" y="4"/>
                      <a:pt x="13219" y="5"/>
                    </a:cubicBezTo>
                    <a:cubicBezTo>
                      <a:pt x="13219" y="6"/>
                      <a:pt x="13218" y="7"/>
                      <a:pt x="13217" y="7"/>
                    </a:cubicBezTo>
                    <a:lnTo>
                      <a:pt x="13217" y="7"/>
                    </a:lnTo>
                    <a:cubicBezTo>
                      <a:pt x="13216" y="7"/>
                      <a:pt x="13215" y="6"/>
                      <a:pt x="13215" y="5"/>
                    </a:cubicBezTo>
                    <a:cubicBezTo>
                      <a:pt x="13215" y="4"/>
                      <a:pt x="13216" y="3"/>
                      <a:pt x="13217" y="3"/>
                    </a:cubicBezTo>
                    <a:close/>
                    <a:moveTo>
                      <a:pt x="13225" y="3"/>
                    </a:moveTo>
                    <a:lnTo>
                      <a:pt x="13225" y="3"/>
                    </a:lnTo>
                    <a:cubicBezTo>
                      <a:pt x="13226" y="3"/>
                      <a:pt x="13227" y="4"/>
                      <a:pt x="13227" y="5"/>
                    </a:cubicBezTo>
                    <a:cubicBezTo>
                      <a:pt x="13227" y="6"/>
                      <a:pt x="13226" y="7"/>
                      <a:pt x="13225" y="7"/>
                    </a:cubicBezTo>
                    <a:lnTo>
                      <a:pt x="13225" y="7"/>
                    </a:lnTo>
                    <a:cubicBezTo>
                      <a:pt x="13224" y="7"/>
                      <a:pt x="13223" y="6"/>
                      <a:pt x="13223" y="5"/>
                    </a:cubicBezTo>
                    <a:cubicBezTo>
                      <a:pt x="13223" y="4"/>
                      <a:pt x="13224" y="3"/>
                      <a:pt x="13225" y="3"/>
                    </a:cubicBezTo>
                    <a:close/>
                    <a:moveTo>
                      <a:pt x="13233" y="3"/>
                    </a:moveTo>
                    <a:lnTo>
                      <a:pt x="13233" y="3"/>
                    </a:lnTo>
                    <a:cubicBezTo>
                      <a:pt x="13234" y="3"/>
                      <a:pt x="13235" y="4"/>
                      <a:pt x="13235" y="5"/>
                    </a:cubicBezTo>
                    <a:cubicBezTo>
                      <a:pt x="13235" y="6"/>
                      <a:pt x="13234" y="7"/>
                      <a:pt x="13233" y="7"/>
                    </a:cubicBezTo>
                    <a:lnTo>
                      <a:pt x="13233" y="7"/>
                    </a:lnTo>
                    <a:cubicBezTo>
                      <a:pt x="13232" y="7"/>
                      <a:pt x="13231" y="6"/>
                      <a:pt x="13231" y="5"/>
                    </a:cubicBezTo>
                    <a:cubicBezTo>
                      <a:pt x="13231" y="4"/>
                      <a:pt x="13232" y="3"/>
                      <a:pt x="13233" y="3"/>
                    </a:cubicBezTo>
                    <a:close/>
                    <a:moveTo>
                      <a:pt x="13241" y="3"/>
                    </a:moveTo>
                    <a:lnTo>
                      <a:pt x="13241" y="3"/>
                    </a:lnTo>
                    <a:cubicBezTo>
                      <a:pt x="13242" y="3"/>
                      <a:pt x="13243" y="4"/>
                      <a:pt x="13243" y="5"/>
                    </a:cubicBezTo>
                    <a:cubicBezTo>
                      <a:pt x="13243" y="6"/>
                      <a:pt x="13242" y="7"/>
                      <a:pt x="13241" y="7"/>
                    </a:cubicBezTo>
                    <a:lnTo>
                      <a:pt x="13241" y="7"/>
                    </a:lnTo>
                    <a:cubicBezTo>
                      <a:pt x="13240" y="7"/>
                      <a:pt x="13239" y="6"/>
                      <a:pt x="13239" y="5"/>
                    </a:cubicBezTo>
                    <a:cubicBezTo>
                      <a:pt x="13239" y="4"/>
                      <a:pt x="13240" y="3"/>
                      <a:pt x="13241" y="3"/>
                    </a:cubicBezTo>
                    <a:close/>
                    <a:moveTo>
                      <a:pt x="13249" y="3"/>
                    </a:moveTo>
                    <a:lnTo>
                      <a:pt x="13249" y="3"/>
                    </a:lnTo>
                    <a:cubicBezTo>
                      <a:pt x="13250" y="3"/>
                      <a:pt x="13251" y="4"/>
                      <a:pt x="13251" y="5"/>
                    </a:cubicBezTo>
                    <a:cubicBezTo>
                      <a:pt x="13251" y="6"/>
                      <a:pt x="13250" y="7"/>
                      <a:pt x="13249" y="7"/>
                    </a:cubicBezTo>
                    <a:lnTo>
                      <a:pt x="13249" y="7"/>
                    </a:lnTo>
                    <a:cubicBezTo>
                      <a:pt x="13248" y="7"/>
                      <a:pt x="13247" y="6"/>
                      <a:pt x="13247" y="5"/>
                    </a:cubicBezTo>
                    <a:cubicBezTo>
                      <a:pt x="13247" y="4"/>
                      <a:pt x="13248" y="3"/>
                      <a:pt x="13249" y="3"/>
                    </a:cubicBezTo>
                    <a:close/>
                    <a:moveTo>
                      <a:pt x="13257" y="3"/>
                    </a:moveTo>
                    <a:lnTo>
                      <a:pt x="13257" y="3"/>
                    </a:lnTo>
                    <a:cubicBezTo>
                      <a:pt x="13258" y="3"/>
                      <a:pt x="13259" y="4"/>
                      <a:pt x="13259" y="5"/>
                    </a:cubicBezTo>
                    <a:cubicBezTo>
                      <a:pt x="13259" y="6"/>
                      <a:pt x="13258" y="7"/>
                      <a:pt x="13257" y="7"/>
                    </a:cubicBezTo>
                    <a:lnTo>
                      <a:pt x="13257" y="7"/>
                    </a:lnTo>
                    <a:cubicBezTo>
                      <a:pt x="13256" y="7"/>
                      <a:pt x="13255" y="6"/>
                      <a:pt x="13255" y="5"/>
                    </a:cubicBezTo>
                    <a:cubicBezTo>
                      <a:pt x="13255" y="4"/>
                      <a:pt x="13256" y="3"/>
                      <a:pt x="13257" y="3"/>
                    </a:cubicBezTo>
                    <a:close/>
                    <a:moveTo>
                      <a:pt x="13265" y="3"/>
                    </a:moveTo>
                    <a:lnTo>
                      <a:pt x="13265" y="3"/>
                    </a:lnTo>
                    <a:cubicBezTo>
                      <a:pt x="13266" y="3"/>
                      <a:pt x="13267" y="4"/>
                      <a:pt x="13267" y="5"/>
                    </a:cubicBezTo>
                    <a:cubicBezTo>
                      <a:pt x="13267" y="6"/>
                      <a:pt x="13266" y="7"/>
                      <a:pt x="13265" y="7"/>
                    </a:cubicBezTo>
                    <a:lnTo>
                      <a:pt x="13265" y="7"/>
                    </a:lnTo>
                    <a:cubicBezTo>
                      <a:pt x="13264" y="7"/>
                      <a:pt x="13263" y="6"/>
                      <a:pt x="13263" y="5"/>
                    </a:cubicBezTo>
                    <a:cubicBezTo>
                      <a:pt x="13263" y="4"/>
                      <a:pt x="13264" y="3"/>
                      <a:pt x="13265" y="3"/>
                    </a:cubicBezTo>
                    <a:close/>
                    <a:moveTo>
                      <a:pt x="13273" y="3"/>
                    </a:moveTo>
                    <a:lnTo>
                      <a:pt x="13273" y="3"/>
                    </a:lnTo>
                    <a:cubicBezTo>
                      <a:pt x="13274" y="3"/>
                      <a:pt x="13275" y="4"/>
                      <a:pt x="13275" y="5"/>
                    </a:cubicBezTo>
                    <a:cubicBezTo>
                      <a:pt x="13275" y="6"/>
                      <a:pt x="13274" y="7"/>
                      <a:pt x="13273" y="7"/>
                    </a:cubicBezTo>
                    <a:lnTo>
                      <a:pt x="13273" y="7"/>
                    </a:lnTo>
                    <a:cubicBezTo>
                      <a:pt x="13272" y="7"/>
                      <a:pt x="13271" y="6"/>
                      <a:pt x="13271" y="5"/>
                    </a:cubicBezTo>
                    <a:cubicBezTo>
                      <a:pt x="13271" y="4"/>
                      <a:pt x="13272" y="3"/>
                      <a:pt x="13273" y="3"/>
                    </a:cubicBezTo>
                    <a:close/>
                    <a:moveTo>
                      <a:pt x="13281" y="3"/>
                    </a:moveTo>
                    <a:lnTo>
                      <a:pt x="13281" y="3"/>
                    </a:lnTo>
                    <a:cubicBezTo>
                      <a:pt x="13282" y="3"/>
                      <a:pt x="13283" y="4"/>
                      <a:pt x="13283" y="5"/>
                    </a:cubicBezTo>
                    <a:cubicBezTo>
                      <a:pt x="13283" y="6"/>
                      <a:pt x="13282" y="7"/>
                      <a:pt x="13281" y="7"/>
                    </a:cubicBezTo>
                    <a:lnTo>
                      <a:pt x="13281" y="7"/>
                    </a:lnTo>
                    <a:cubicBezTo>
                      <a:pt x="13280" y="7"/>
                      <a:pt x="13279" y="6"/>
                      <a:pt x="13279" y="5"/>
                    </a:cubicBezTo>
                    <a:cubicBezTo>
                      <a:pt x="13279" y="4"/>
                      <a:pt x="13280" y="3"/>
                      <a:pt x="13281" y="3"/>
                    </a:cubicBezTo>
                    <a:close/>
                    <a:moveTo>
                      <a:pt x="13289" y="3"/>
                    </a:moveTo>
                    <a:lnTo>
                      <a:pt x="13289" y="3"/>
                    </a:lnTo>
                    <a:cubicBezTo>
                      <a:pt x="13290" y="3"/>
                      <a:pt x="13291" y="4"/>
                      <a:pt x="13291" y="5"/>
                    </a:cubicBezTo>
                    <a:cubicBezTo>
                      <a:pt x="13291" y="6"/>
                      <a:pt x="13290" y="7"/>
                      <a:pt x="13289" y="7"/>
                    </a:cubicBezTo>
                    <a:lnTo>
                      <a:pt x="13289" y="7"/>
                    </a:lnTo>
                    <a:cubicBezTo>
                      <a:pt x="13288" y="7"/>
                      <a:pt x="13287" y="6"/>
                      <a:pt x="13287" y="5"/>
                    </a:cubicBezTo>
                    <a:cubicBezTo>
                      <a:pt x="13287" y="4"/>
                      <a:pt x="13288" y="3"/>
                      <a:pt x="13289" y="3"/>
                    </a:cubicBezTo>
                    <a:close/>
                    <a:moveTo>
                      <a:pt x="13297" y="3"/>
                    </a:moveTo>
                    <a:lnTo>
                      <a:pt x="13297" y="3"/>
                    </a:lnTo>
                    <a:cubicBezTo>
                      <a:pt x="13298" y="3"/>
                      <a:pt x="13299" y="4"/>
                      <a:pt x="13299" y="5"/>
                    </a:cubicBezTo>
                    <a:cubicBezTo>
                      <a:pt x="13299" y="6"/>
                      <a:pt x="13298" y="7"/>
                      <a:pt x="13297" y="7"/>
                    </a:cubicBezTo>
                    <a:lnTo>
                      <a:pt x="13297" y="7"/>
                    </a:lnTo>
                    <a:cubicBezTo>
                      <a:pt x="13296" y="7"/>
                      <a:pt x="13295" y="6"/>
                      <a:pt x="13295" y="5"/>
                    </a:cubicBezTo>
                    <a:cubicBezTo>
                      <a:pt x="13295" y="4"/>
                      <a:pt x="13296" y="3"/>
                      <a:pt x="13297" y="3"/>
                    </a:cubicBezTo>
                    <a:close/>
                    <a:moveTo>
                      <a:pt x="13305" y="3"/>
                    </a:moveTo>
                    <a:lnTo>
                      <a:pt x="13305" y="3"/>
                    </a:lnTo>
                    <a:cubicBezTo>
                      <a:pt x="13306" y="3"/>
                      <a:pt x="13307" y="4"/>
                      <a:pt x="13307" y="5"/>
                    </a:cubicBezTo>
                    <a:cubicBezTo>
                      <a:pt x="13307" y="6"/>
                      <a:pt x="13306" y="7"/>
                      <a:pt x="13305" y="7"/>
                    </a:cubicBezTo>
                    <a:lnTo>
                      <a:pt x="13305" y="7"/>
                    </a:lnTo>
                    <a:cubicBezTo>
                      <a:pt x="13304" y="7"/>
                      <a:pt x="13303" y="6"/>
                      <a:pt x="13303" y="5"/>
                    </a:cubicBezTo>
                    <a:cubicBezTo>
                      <a:pt x="13303" y="4"/>
                      <a:pt x="13304" y="3"/>
                      <a:pt x="13305" y="3"/>
                    </a:cubicBezTo>
                    <a:close/>
                    <a:moveTo>
                      <a:pt x="13313" y="3"/>
                    </a:moveTo>
                    <a:lnTo>
                      <a:pt x="13313" y="3"/>
                    </a:lnTo>
                    <a:cubicBezTo>
                      <a:pt x="13314" y="3"/>
                      <a:pt x="13315" y="4"/>
                      <a:pt x="13315" y="5"/>
                    </a:cubicBezTo>
                    <a:cubicBezTo>
                      <a:pt x="13315" y="6"/>
                      <a:pt x="13314" y="7"/>
                      <a:pt x="13313" y="7"/>
                    </a:cubicBezTo>
                    <a:lnTo>
                      <a:pt x="13313" y="7"/>
                    </a:lnTo>
                    <a:cubicBezTo>
                      <a:pt x="13312" y="7"/>
                      <a:pt x="13311" y="6"/>
                      <a:pt x="13311" y="5"/>
                    </a:cubicBezTo>
                    <a:cubicBezTo>
                      <a:pt x="13311" y="4"/>
                      <a:pt x="13312" y="3"/>
                      <a:pt x="13313" y="3"/>
                    </a:cubicBezTo>
                    <a:close/>
                    <a:moveTo>
                      <a:pt x="13321" y="3"/>
                    </a:moveTo>
                    <a:lnTo>
                      <a:pt x="13321" y="3"/>
                    </a:lnTo>
                    <a:cubicBezTo>
                      <a:pt x="13322" y="3"/>
                      <a:pt x="13323" y="4"/>
                      <a:pt x="13323" y="5"/>
                    </a:cubicBezTo>
                    <a:cubicBezTo>
                      <a:pt x="13323" y="6"/>
                      <a:pt x="13322" y="7"/>
                      <a:pt x="13321" y="7"/>
                    </a:cubicBezTo>
                    <a:lnTo>
                      <a:pt x="13321" y="7"/>
                    </a:lnTo>
                    <a:cubicBezTo>
                      <a:pt x="13320" y="7"/>
                      <a:pt x="13319" y="6"/>
                      <a:pt x="13319" y="5"/>
                    </a:cubicBezTo>
                    <a:cubicBezTo>
                      <a:pt x="13319" y="4"/>
                      <a:pt x="13320" y="3"/>
                      <a:pt x="13321" y="3"/>
                    </a:cubicBezTo>
                    <a:close/>
                    <a:moveTo>
                      <a:pt x="13329" y="3"/>
                    </a:moveTo>
                    <a:lnTo>
                      <a:pt x="13329" y="3"/>
                    </a:lnTo>
                    <a:cubicBezTo>
                      <a:pt x="13330" y="3"/>
                      <a:pt x="13331" y="4"/>
                      <a:pt x="13331" y="5"/>
                    </a:cubicBezTo>
                    <a:cubicBezTo>
                      <a:pt x="13331" y="6"/>
                      <a:pt x="13330" y="7"/>
                      <a:pt x="13329" y="7"/>
                    </a:cubicBezTo>
                    <a:lnTo>
                      <a:pt x="13329" y="7"/>
                    </a:lnTo>
                    <a:cubicBezTo>
                      <a:pt x="13328" y="7"/>
                      <a:pt x="13327" y="6"/>
                      <a:pt x="13327" y="5"/>
                    </a:cubicBezTo>
                    <a:cubicBezTo>
                      <a:pt x="13327" y="4"/>
                      <a:pt x="13328" y="3"/>
                      <a:pt x="13329" y="3"/>
                    </a:cubicBezTo>
                    <a:close/>
                    <a:moveTo>
                      <a:pt x="13337" y="3"/>
                    </a:moveTo>
                    <a:lnTo>
                      <a:pt x="13337" y="3"/>
                    </a:lnTo>
                    <a:cubicBezTo>
                      <a:pt x="13338" y="3"/>
                      <a:pt x="13339" y="4"/>
                      <a:pt x="13339" y="5"/>
                    </a:cubicBezTo>
                    <a:cubicBezTo>
                      <a:pt x="13339" y="6"/>
                      <a:pt x="13338" y="7"/>
                      <a:pt x="13337" y="7"/>
                    </a:cubicBezTo>
                    <a:lnTo>
                      <a:pt x="13337" y="7"/>
                    </a:lnTo>
                    <a:cubicBezTo>
                      <a:pt x="13336" y="7"/>
                      <a:pt x="13335" y="6"/>
                      <a:pt x="13335" y="5"/>
                    </a:cubicBezTo>
                    <a:cubicBezTo>
                      <a:pt x="13335" y="4"/>
                      <a:pt x="13336" y="3"/>
                      <a:pt x="13337" y="3"/>
                    </a:cubicBezTo>
                    <a:close/>
                    <a:moveTo>
                      <a:pt x="13345" y="3"/>
                    </a:moveTo>
                    <a:lnTo>
                      <a:pt x="13345" y="3"/>
                    </a:lnTo>
                    <a:cubicBezTo>
                      <a:pt x="13346" y="3"/>
                      <a:pt x="13347" y="4"/>
                      <a:pt x="13347" y="5"/>
                    </a:cubicBezTo>
                    <a:cubicBezTo>
                      <a:pt x="13347" y="6"/>
                      <a:pt x="13346" y="7"/>
                      <a:pt x="13345" y="7"/>
                    </a:cubicBezTo>
                    <a:lnTo>
                      <a:pt x="13345" y="7"/>
                    </a:lnTo>
                    <a:cubicBezTo>
                      <a:pt x="13344" y="7"/>
                      <a:pt x="13343" y="6"/>
                      <a:pt x="13343" y="5"/>
                    </a:cubicBezTo>
                    <a:cubicBezTo>
                      <a:pt x="13343" y="4"/>
                      <a:pt x="13344" y="3"/>
                      <a:pt x="13345" y="3"/>
                    </a:cubicBezTo>
                    <a:close/>
                    <a:moveTo>
                      <a:pt x="13353" y="3"/>
                    </a:moveTo>
                    <a:lnTo>
                      <a:pt x="13353" y="3"/>
                    </a:lnTo>
                    <a:cubicBezTo>
                      <a:pt x="13354" y="3"/>
                      <a:pt x="13355" y="4"/>
                      <a:pt x="13355" y="5"/>
                    </a:cubicBezTo>
                    <a:cubicBezTo>
                      <a:pt x="13355" y="6"/>
                      <a:pt x="13354" y="7"/>
                      <a:pt x="13353" y="7"/>
                    </a:cubicBezTo>
                    <a:lnTo>
                      <a:pt x="13353" y="7"/>
                    </a:lnTo>
                    <a:cubicBezTo>
                      <a:pt x="13352" y="7"/>
                      <a:pt x="13351" y="6"/>
                      <a:pt x="13351" y="5"/>
                    </a:cubicBezTo>
                    <a:cubicBezTo>
                      <a:pt x="13351" y="4"/>
                      <a:pt x="13352" y="3"/>
                      <a:pt x="13353" y="3"/>
                    </a:cubicBezTo>
                    <a:close/>
                    <a:moveTo>
                      <a:pt x="13361" y="3"/>
                    </a:moveTo>
                    <a:lnTo>
                      <a:pt x="13361" y="3"/>
                    </a:lnTo>
                    <a:cubicBezTo>
                      <a:pt x="13362" y="3"/>
                      <a:pt x="13363" y="4"/>
                      <a:pt x="13363" y="5"/>
                    </a:cubicBezTo>
                    <a:cubicBezTo>
                      <a:pt x="13363" y="6"/>
                      <a:pt x="13362" y="7"/>
                      <a:pt x="13361" y="7"/>
                    </a:cubicBezTo>
                    <a:lnTo>
                      <a:pt x="13361" y="7"/>
                    </a:lnTo>
                    <a:cubicBezTo>
                      <a:pt x="13360" y="7"/>
                      <a:pt x="13359" y="6"/>
                      <a:pt x="13359" y="5"/>
                    </a:cubicBezTo>
                    <a:cubicBezTo>
                      <a:pt x="13359" y="4"/>
                      <a:pt x="13360" y="3"/>
                      <a:pt x="13361" y="3"/>
                    </a:cubicBezTo>
                    <a:close/>
                    <a:moveTo>
                      <a:pt x="13369" y="3"/>
                    </a:moveTo>
                    <a:lnTo>
                      <a:pt x="13369" y="3"/>
                    </a:lnTo>
                    <a:cubicBezTo>
                      <a:pt x="13370" y="3"/>
                      <a:pt x="13371" y="4"/>
                      <a:pt x="13371" y="5"/>
                    </a:cubicBezTo>
                    <a:cubicBezTo>
                      <a:pt x="13371" y="6"/>
                      <a:pt x="13370" y="7"/>
                      <a:pt x="13369" y="7"/>
                    </a:cubicBezTo>
                    <a:lnTo>
                      <a:pt x="13369" y="7"/>
                    </a:lnTo>
                    <a:cubicBezTo>
                      <a:pt x="13368" y="7"/>
                      <a:pt x="13367" y="6"/>
                      <a:pt x="13367" y="5"/>
                    </a:cubicBezTo>
                    <a:cubicBezTo>
                      <a:pt x="13367" y="4"/>
                      <a:pt x="13368" y="3"/>
                      <a:pt x="13369" y="3"/>
                    </a:cubicBezTo>
                    <a:close/>
                    <a:moveTo>
                      <a:pt x="13377" y="3"/>
                    </a:moveTo>
                    <a:lnTo>
                      <a:pt x="13377" y="3"/>
                    </a:lnTo>
                    <a:cubicBezTo>
                      <a:pt x="13378" y="3"/>
                      <a:pt x="13379" y="4"/>
                      <a:pt x="13379" y="5"/>
                    </a:cubicBezTo>
                    <a:cubicBezTo>
                      <a:pt x="13379" y="6"/>
                      <a:pt x="13378" y="7"/>
                      <a:pt x="13377" y="7"/>
                    </a:cubicBezTo>
                    <a:lnTo>
                      <a:pt x="13377" y="7"/>
                    </a:lnTo>
                    <a:cubicBezTo>
                      <a:pt x="13376" y="7"/>
                      <a:pt x="13375" y="6"/>
                      <a:pt x="13375" y="5"/>
                    </a:cubicBezTo>
                    <a:cubicBezTo>
                      <a:pt x="13375" y="4"/>
                      <a:pt x="13376" y="3"/>
                      <a:pt x="13377" y="3"/>
                    </a:cubicBezTo>
                    <a:close/>
                    <a:moveTo>
                      <a:pt x="13385" y="3"/>
                    </a:moveTo>
                    <a:lnTo>
                      <a:pt x="13385" y="3"/>
                    </a:lnTo>
                    <a:cubicBezTo>
                      <a:pt x="13386" y="3"/>
                      <a:pt x="13387" y="4"/>
                      <a:pt x="13387" y="5"/>
                    </a:cubicBezTo>
                    <a:cubicBezTo>
                      <a:pt x="13387" y="6"/>
                      <a:pt x="13386" y="7"/>
                      <a:pt x="13385" y="7"/>
                    </a:cubicBezTo>
                    <a:lnTo>
                      <a:pt x="13385" y="7"/>
                    </a:lnTo>
                    <a:cubicBezTo>
                      <a:pt x="13384" y="7"/>
                      <a:pt x="13383" y="6"/>
                      <a:pt x="13383" y="5"/>
                    </a:cubicBezTo>
                    <a:cubicBezTo>
                      <a:pt x="13383" y="4"/>
                      <a:pt x="13384" y="3"/>
                      <a:pt x="13385" y="3"/>
                    </a:cubicBezTo>
                    <a:close/>
                    <a:moveTo>
                      <a:pt x="13393" y="3"/>
                    </a:moveTo>
                    <a:lnTo>
                      <a:pt x="13393" y="3"/>
                    </a:lnTo>
                    <a:cubicBezTo>
                      <a:pt x="13394" y="3"/>
                      <a:pt x="13395" y="4"/>
                      <a:pt x="13395" y="5"/>
                    </a:cubicBezTo>
                    <a:cubicBezTo>
                      <a:pt x="13395" y="6"/>
                      <a:pt x="13394" y="7"/>
                      <a:pt x="13393" y="7"/>
                    </a:cubicBezTo>
                    <a:lnTo>
                      <a:pt x="13393" y="7"/>
                    </a:lnTo>
                    <a:cubicBezTo>
                      <a:pt x="13392" y="7"/>
                      <a:pt x="13391" y="6"/>
                      <a:pt x="13391" y="5"/>
                    </a:cubicBezTo>
                    <a:cubicBezTo>
                      <a:pt x="13391" y="4"/>
                      <a:pt x="13392" y="3"/>
                      <a:pt x="13393" y="3"/>
                    </a:cubicBezTo>
                    <a:close/>
                    <a:moveTo>
                      <a:pt x="13401" y="3"/>
                    </a:moveTo>
                    <a:lnTo>
                      <a:pt x="13401" y="3"/>
                    </a:lnTo>
                    <a:cubicBezTo>
                      <a:pt x="13402" y="3"/>
                      <a:pt x="13403" y="4"/>
                      <a:pt x="13403" y="5"/>
                    </a:cubicBezTo>
                    <a:cubicBezTo>
                      <a:pt x="13403" y="6"/>
                      <a:pt x="13402" y="7"/>
                      <a:pt x="13401" y="7"/>
                    </a:cubicBezTo>
                    <a:lnTo>
                      <a:pt x="13401" y="7"/>
                    </a:lnTo>
                    <a:cubicBezTo>
                      <a:pt x="13400" y="7"/>
                      <a:pt x="13399" y="6"/>
                      <a:pt x="13399" y="5"/>
                    </a:cubicBezTo>
                    <a:cubicBezTo>
                      <a:pt x="13399" y="4"/>
                      <a:pt x="13400" y="3"/>
                      <a:pt x="13401" y="3"/>
                    </a:cubicBezTo>
                    <a:close/>
                    <a:moveTo>
                      <a:pt x="13409" y="3"/>
                    </a:moveTo>
                    <a:lnTo>
                      <a:pt x="13409" y="3"/>
                    </a:lnTo>
                    <a:cubicBezTo>
                      <a:pt x="13410" y="3"/>
                      <a:pt x="13411" y="4"/>
                      <a:pt x="13411" y="5"/>
                    </a:cubicBezTo>
                    <a:cubicBezTo>
                      <a:pt x="13411" y="6"/>
                      <a:pt x="13410" y="7"/>
                      <a:pt x="13409" y="7"/>
                    </a:cubicBezTo>
                    <a:lnTo>
                      <a:pt x="13409" y="7"/>
                    </a:lnTo>
                    <a:cubicBezTo>
                      <a:pt x="13408" y="7"/>
                      <a:pt x="13407" y="6"/>
                      <a:pt x="13407" y="5"/>
                    </a:cubicBezTo>
                    <a:cubicBezTo>
                      <a:pt x="13407" y="4"/>
                      <a:pt x="13408" y="3"/>
                      <a:pt x="13409" y="3"/>
                    </a:cubicBezTo>
                    <a:close/>
                    <a:moveTo>
                      <a:pt x="13417" y="3"/>
                    </a:moveTo>
                    <a:lnTo>
                      <a:pt x="13417" y="3"/>
                    </a:lnTo>
                    <a:cubicBezTo>
                      <a:pt x="13418" y="3"/>
                      <a:pt x="13419" y="4"/>
                      <a:pt x="13419" y="5"/>
                    </a:cubicBezTo>
                    <a:cubicBezTo>
                      <a:pt x="13419" y="6"/>
                      <a:pt x="13418" y="7"/>
                      <a:pt x="13417" y="7"/>
                    </a:cubicBezTo>
                    <a:lnTo>
                      <a:pt x="13417" y="7"/>
                    </a:lnTo>
                    <a:cubicBezTo>
                      <a:pt x="13416" y="7"/>
                      <a:pt x="13415" y="6"/>
                      <a:pt x="13415" y="5"/>
                    </a:cubicBezTo>
                    <a:cubicBezTo>
                      <a:pt x="13415" y="4"/>
                      <a:pt x="13416" y="3"/>
                      <a:pt x="13417" y="3"/>
                    </a:cubicBezTo>
                    <a:close/>
                    <a:moveTo>
                      <a:pt x="13425" y="3"/>
                    </a:moveTo>
                    <a:lnTo>
                      <a:pt x="13425" y="3"/>
                    </a:lnTo>
                    <a:cubicBezTo>
                      <a:pt x="13426" y="3"/>
                      <a:pt x="13427" y="4"/>
                      <a:pt x="13427" y="5"/>
                    </a:cubicBezTo>
                    <a:cubicBezTo>
                      <a:pt x="13427" y="6"/>
                      <a:pt x="13426" y="7"/>
                      <a:pt x="13425" y="7"/>
                    </a:cubicBezTo>
                    <a:lnTo>
                      <a:pt x="13425" y="7"/>
                    </a:lnTo>
                    <a:cubicBezTo>
                      <a:pt x="13424" y="7"/>
                      <a:pt x="13423" y="6"/>
                      <a:pt x="13423" y="5"/>
                    </a:cubicBezTo>
                    <a:cubicBezTo>
                      <a:pt x="13423" y="4"/>
                      <a:pt x="13424" y="3"/>
                      <a:pt x="13425" y="3"/>
                    </a:cubicBezTo>
                    <a:close/>
                    <a:moveTo>
                      <a:pt x="13433" y="3"/>
                    </a:moveTo>
                    <a:lnTo>
                      <a:pt x="13433" y="3"/>
                    </a:lnTo>
                    <a:cubicBezTo>
                      <a:pt x="13434" y="3"/>
                      <a:pt x="13435" y="4"/>
                      <a:pt x="13435" y="5"/>
                    </a:cubicBezTo>
                    <a:cubicBezTo>
                      <a:pt x="13435" y="6"/>
                      <a:pt x="13434" y="7"/>
                      <a:pt x="13433" y="7"/>
                    </a:cubicBezTo>
                    <a:lnTo>
                      <a:pt x="13433" y="7"/>
                    </a:lnTo>
                    <a:cubicBezTo>
                      <a:pt x="13432" y="7"/>
                      <a:pt x="13431" y="6"/>
                      <a:pt x="13431" y="5"/>
                    </a:cubicBezTo>
                    <a:cubicBezTo>
                      <a:pt x="13431" y="4"/>
                      <a:pt x="13432" y="3"/>
                      <a:pt x="13433" y="3"/>
                    </a:cubicBezTo>
                    <a:close/>
                    <a:moveTo>
                      <a:pt x="13441" y="3"/>
                    </a:moveTo>
                    <a:lnTo>
                      <a:pt x="13441" y="3"/>
                    </a:lnTo>
                    <a:cubicBezTo>
                      <a:pt x="13442" y="3"/>
                      <a:pt x="13443" y="4"/>
                      <a:pt x="13443" y="5"/>
                    </a:cubicBezTo>
                    <a:cubicBezTo>
                      <a:pt x="13443" y="6"/>
                      <a:pt x="13442" y="7"/>
                      <a:pt x="13441" y="7"/>
                    </a:cubicBezTo>
                    <a:lnTo>
                      <a:pt x="13441" y="7"/>
                    </a:lnTo>
                    <a:cubicBezTo>
                      <a:pt x="13440" y="7"/>
                      <a:pt x="13439" y="6"/>
                      <a:pt x="13439" y="5"/>
                    </a:cubicBezTo>
                    <a:cubicBezTo>
                      <a:pt x="13439" y="4"/>
                      <a:pt x="13440" y="3"/>
                      <a:pt x="13441" y="3"/>
                    </a:cubicBezTo>
                    <a:close/>
                    <a:moveTo>
                      <a:pt x="13449" y="3"/>
                    </a:moveTo>
                    <a:lnTo>
                      <a:pt x="13449" y="3"/>
                    </a:lnTo>
                    <a:cubicBezTo>
                      <a:pt x="13450" y="3"/>
                      <a:pt x="13451" y="4"/>
                      <a:pt x="13451" y="5"/>
                    </a:cubicBezTo>
                    <a:cubicBezTo>
                      <a:pt x="13451" y="6"/>
                      <a:pt x="13450" y="7"/>
                      <a:pt x="13449" y="7"/>
                    </a:cubicBezTo>
                    <a:lnTo>
                      <a:pt x="13449" y="7"/>
                    </a:lnTo>
                    <a:cubicBezTo>
                      <a:pt x="13448" y="7"/>
                      <a:pt x="13447" y="6"/>
                      <a:pt x="13447" y="5"/>
                    </a:cubicBezTo>
                    <a:cubicBezTo>
                      <a:pt x="13447" y="4"/>
                      <a:pt x="13448" y="3"/>
                      <a:pt x="13449" y="3"/>
                    </a:cubicBezTo>
                    <a:close/>
                    <a:moveTo>
                      <a:pt x="13457" y="3"/>
                    </a:moveTo>
                    <a:lnTo>
                      <a:pt x="13457" y="3"/>
                    </a:lnTo>
                    <a:cubicBezTo>
                      <a:pt x="13458" y="3"/>
                      <a:pt x="13459" y="4"/>
                      <a:pt x="13459" y="5"/>
                    </a:cubicBezTo>
                    <a:cubicBezTo>
                      <a:pt x="13459" y="6"/>
                      <a:pt x="13458" y="7"/>
                      <a:pt x="13457" y="7"/>
                    </a:cubicBezTo>
                    <a:lnTo>
                      <a:pt x="13457" y="7"/>
                    </a:lnTo>
                    <a:cubicBezTo>
                      <a:pt x="13456" y="7"/>
                      <a:pt x="13455" y="6"/>
                      <a:pt x="13455" y="5"/>
                    </a:cubicBezTo>
                    <a:cubicBezTo>
                      <a:pt x="13455" y="4"/>
                      <a:pt x="13456" y="3"/>
                      <a:pt x="13457" y="3"/>
                    </a:cubicBezTo>
                    <a:close/>
                    <a:moveTo>
                      <a:pt x="13465" y="3"/>
                    </a:moveTo>
                    <a:lnTo>
                      <a:pt x="13465" y="3"/>
                    </a:lnTo>
                    <a:cubicBezTo>
                      <a:pt x="13466" y="3"/>
                      <a:pt x="13467" y="4"/>
                      <a:pt x="13467" y="5"/>
                    </a:cubicBezTo>
                    <a:cubicBezTo>
                      <a:pt x="13467" y="6"/>
                      <a:pt x="13466" y="7"/>
                      <a:pt x="13465" y="7"/>
                    </a:cubicBezTo>
                    <a:lnTo>
                      <a:pt x="13465" y="7"/>
                    </a:lnTo>
                    <a:cubicBezTo>
                      <a:pt x="13464" y="7"/>
                      <a:pt x="13463" y="6"/>
                      <a:pt x="13463" y="5"/>
                    </a:cubicBezTo>
                    <a:cubicBezTo>
                      <a:pt x="13463" y="4"/>
                      <a:pt x="13464" y="3"/>
                      <a:pt x="13465" y="3"/>
                    </a:cubicBezTo>
                    <a:close/>
                    <a:moveTo>
                      <a:pt x="13473" y="3"/>
                    </a:moveTo>
                    <a:lnTo>
                      <a:pt x="13473" y="3"/>
                    </a:lnTo>
                    <a:cubicBezTo>
                      <a:pt x="13474" y="3"/>
                      <a:pt x="13475" y="4"/>
                      <a:pt x="13475" y="5"/>
                    </a:cubicBezTo>
                    <a:cubicBezTo>
                      <a:pt x="13475" y="6"/>
                      <a:pt x="13474" y="7"/>
                      <a:pt x="13473" y="7"/>
                    </a:cubicBezTo>
                    <a:lnTo>
                      <a:pt x="13473" y="7"/>
                    </a:lnTo>
                    <a:cubicBezTo>
                      <a:pt x="13472" y="7"/>
                      <a:pt x="13471" y="6"/>
                      <a:pt x="13471" y="5"/>
                    </a:cubicBezTo>
                    <a:cubicBezTo>
                      <a:pt x="13471" y="4"/>
                      <a:pt x="13472" y="3"/>
                      <a:pt x="13473" y="3"/>
                    </a:cubicBezTo>
                    <a:close/>
                    <a:moveTo>
                      <a:pt x="13481" y="3"/>
                    </a:moveTo>
                    <a:lnTo>
                      <a:pt x="13481" y="3"/>
                    </a:lnTo>
                    <a:cubicBezTo>
                      <a:pt x="13482" y="3"/>
                      <a:pt x="13483" y="4"/>
                      <a:pt x="13483" y="5"/>
                    </a:cubicBezTo>
                    <a:cubicBezTo>
                      <a:pt x="13483" y="6"/>
                      <a:pt x="13482" y="7"/>
                      <a:pt x="13481" y="7"/>
                    </a:cubicBezTo>
                    <a:lnTo>
                      <a:pt x="13481" y="7"/>
                    </a:lnTo>
                    <a:cubicBezTo>
                      <a:pt x="13480" y="7"/>
                      <a:pt x="13479" y="6"/>
                      <a:pt x="13479" y="5"/>
                    </a:cubicBezTo>
                    <a:cubicBezTo>
                      <a:pt x="13479" y="4"/>
                      <a:pt x="13480" y="3"/>
                      <a:pt x="13481" y="3"/>
                    </a:cubicBezTo>
                    <a:close/>
                    <a:moveTo>
                      <a:pt x="13489" y="3"/>
                    </a:moveTo>
                    <a:lnTo>
                      <a:pt x="13489" y="3"/>
                    </a:lnTo>
                    <a:cubicBezTo>
                      <a:pt x="13490" y="3"/>
                      <a:pt x="13491" y="4"/>
                      <a:pt x="13491" y="5"/>
                    </a:cubicBezTo>
                    <a:cubicBezTo>
                      <a:pt x="13491" y="6"/>
                      <a:pt x="13490" y="7"/>
                      <a:pt x="13489" y="7"/>
                    </a:cubicBezTo>
                    <a:lnTo>
                      <a:pt x="13489" y="7"/>
                    </a:lnTo>
                    <a:cubicBezTo>
                      <a:pt x="13488" y="7"/>
                      <a:pt x="13487" y="6"/>
                      <a:pt x="13487" y="5"/>
                    </a:cubicBezTo>
                    <a:cubicBezTo>
                      <a:pt x="13487" y="4"/>
                      <a:pt x="13488" y="3"/>
                      <a:pt x="13489" y="3"/>
                    </a:cubicBezTo>
                    <a:close/>
                    <a:moveTo>
                      <a:pt x="13497" y="3"/>
                    </a:moveTo>
                    <a:lnTo>
                      <a:pt x="13497" y="3"/>
                    </a:lnTo>
                    <a:cubicBezTo>
                      <a:pt x="13498" y="3"/>
                      <a:pt x="13499" y="4"/>
                      <a:pt x="13499" y="5"/>
                    </a:cubicBezTo>
                    <a:cubicBezTo>
                      <a:pt x="13499" y="6"/>
                      <a:pt x="13498" y="7"/>
                      <a:pt x="13497" y="7"/>
                    </a:cubicBezTo>
                    <a:lnTo>
                      <a:pt x="13497" y="7"/>
                    </a:lnTo>
                    <a:cubicBezTo>
                      <a:pt x="13496" y="7"/>
                      <a:pt x="13495" y="6"/>
                      <a:pt x="13495" y="5"/>
                    </a:cubicBezTo>
                    <a:cubicBezTo>
                      <a:pt x="13495" y="4"/>
                      <a:pt x="13496" y="3"/>
                      <a:pt x="13497" y="3"/>
                    </a:cubicBezTo>
                    <a:close/>
                    <a:moveTo>
                      <a:pt x="13505" y="3"/>
                    </a:moveTo>
                    <a:lnTo>
                      <a:pt x="13505" y="3"/>
                    </a:lnTo>
                    <a:cubicBezTo>
                      <a:pt x="13506" y="3"/>
                      <a:pt x="13507" y="4"/>
                      <a:pt x="13507" y="5"/>
                    </a:cubicBezTo>
                    <a:cubicBezTo>
                      <a:pt x="13507" y="6"/>
                      <a:pt x="13506" y="7"/>
                      <a:pt x="13505" y="7"/>
                    </a:cubicBezTo>
                    <a:lnTo>
                      <a:pt x="13505" y="7"/>
                    </a:lnTo>
                    <a:cubicBezTo>
                      <a:pt x="13504" y="7"/>
                      <a:pt x="13503" y="6"/>
                      <a:pt x="13503" y="5"/>
                    </a:cubicBezTo>
                    <a:cubicBezTo>
                      <a:pt x="13503" y="4"/>
                      <a:pt x="13504" y="3"/>
                      <a:pt x="13505" y="3"/>
                    </a:cubicBezTo>
                    <a:close/>
                    <a:moveTo>
                      <a:pt x="13513" y="3"/>
                    </a:moveTo>
                    <a:lnTo>
                      <a:pt x="13513" y="3"/>
                    </a:lnTo>
                    <a:cubicBezTo>
                      <a:pt x="13514" y="3"/>
                      <a:pt x="13515" y="4"/>
                      <a:pt x="13515" y="5"/>
                    </a:cubicBezTo>
                    <a:cubicBezTo>
                      <a:pt x="13515" y="6"/>
                      <a:pt x="13514" y="7"/>
                      <a:pt x="13513" y="7"/>
                    </a:cubicBezTo>
                    <a:lnTo>
                      <a:pt x="13513" y="7"/>
                    </a:lnTo>
                    <a:cubicBezTo>
                      <a:pt x="13512" y="7"/>
                      <a:pt x="13511" y="6"/>
                      <a:pt x="13511" y="5"/>
                    </a:cubicBezTo>
                    <a:cubicBezTo>
                      <a:pt x="13511" y="4"/>
                      <a:pt x="13512" y="3"/>
                      <a:pt x="13513" y="3"/>
                    </a:cubicBezTo>
                    <a:close/>
                    <a:moveTo>
                      <a:pt x="13521" y="3"/>
                    </a:moveTo>
                    <a:lnTo>
                      <a:pt x="13521" y="3"/>
                    </a:lnTo>
                    <a:cubicBezTo>
                      <a:pt x="13522" y="3"/>
                      <a:pt x="13523" y="4"/>
                      <a:pt x="13523" y="5"/>
                    </a:cubicBezTo>
                    <a:cubicBezTo>
                      <a:pt x="13523" y="6"/>
                      <a:pt x="13522" y="7"/>
                      <a:pt x="13521" y="7"/>
                    </a:cubicBezTo>
                    <a:lnTo>
                      <a:pt x="13521" y="7"/>
                    </a:lnTo>
                    <a:cubicBezTo>
                      <a:pt x="13520" y="7"/>
                      <a:pt x="13519" y="6"/>
                      <a:pt x="13519" y="5"/>
                    </a:cubicBezTo>
                    <a:cubicBezTo>
                      <a:pt x="13519" y="4"/>
                      <a:pt x="13520" y="3"/>
                      <a:pt x="13521" y="3"/>
                    </a:cubicBezTo>
                    <a:close/>
                    <a:moveTo>
                      <a:pt x="13529" y="3"/>
                    </a:moveTo>
                    <a:lnTo>
                      <a:pt x="13529" y="3"/>
                    </a:lnTo>
                    <a:cubicBezTo>
                      <a:pt x="13530" y="3"/>
                      <a:pt x="13531" y="4"/>
                      <a:pt x="13531" y="5"/>
                    </a:cubicBezTo>
                    <a:cubicBezTo>
                      <a:pt x="13531" y="6"/>
                      <a:pt x="13530" y="7"/>
                      <a:pt x="13529" y="7"/>
                    </a:cubicBezTo>
                    <a:lnTo>
                      <a:pt x="13529" y="7"/>
                    </a:lnTo>
                    <a:cubicBezTo>
                      <a:pt x="13528" y="7"/>
                      <a:pt x="13527" y="6"/>
                      <a:pt x="13527" y="5"/>
                    </a:cubicBezTo>
                    <a:cubicBezTo>
                      <a:pt x="13527" y="4"/>
                      <a:pt x="13528" y="3"/>
                      <a:pt x="13529" y="3"/>
                    </a:cubicBezTo>
                    <a:close/>
                    <a:moveTo>
                      <a:pt x="13537" y="3"/>
                    </a:moveTo>
                    <a:lnTo>
                      <a:pt x="13537" y="3"/>
                    </a:lnTo>
                    <a:cubicBezTo>
                      <a:pt x="13538" y="3"/>
                      <a:pt x="13539" y="4"/>
                      <a:pt x="13539" y="5"/>
                    </a:cubicBezTo>
                    <a:cubicBezTo>
                      <a:pt x="13539" y="6"/>
                      <a:pt x="13538" y="7"/>
                      <a:pt x="13537" y="7"/>
                    </a:cubicBezTo>
                    <a:lnTo>
                      <a:pt x="13537" y="7"/>
                    </a:lnTo>
                    <a:cubicBezTo>
                      <a:pt x="13536" y="7"/>
                      <a:pt x="13535" y="6"/>
                      <a:pt x="13535" y="5"/>
                    </a:cubicBezTo>
                    <a:cubicBezTo>
                      <a:pt x="13535" y="4"/>
                      <a:pt x="13536" y="3"/>
                      <a:pt x="13537" y="3"/>
                    </a:cubicBezTo>
                    <a:close/>
                    <a:moveTo>
                      <a:pt x="13545" y="3"/>
                    </a:moveTo>
                    <a:lnTo>
                      <a:pt x="13545" y="3"/>
                    </a:lnTo>
                    <a:cubicBezTo>
                      <a:pt x="13546" y="3"/>
                      <a:pt x="13547" y="4"/>
                      <a:pt x="13547" y="5"/>
                    </a:cubicBezTo>
                    <a:cubicBezTo>
                      <a:pt x="13547" y="6"/>
                      <a:pt x="13546" y="7"/>
                      <a:pt x="13545" y="7"/>
                    </a:cubicBezTo>
                    <a:lnTo>
                      <a:pt x="13545" y="7"/>
                    </a:lnTo>
                    <a:cubicBezTo>
                      <a:pt x="13544" y="7"/>
                      <a:pt x="13543" y="6"/>
                      <a:pt x="13543" y="5"/>
                    </a:cubicBezTo>
                    <a:cubicBezTo>
                      <a:pt x="13543" y="4"/>
                      <a:pt x="13544" y="3"/>
                      <a:pt x="13545" y="3"/>
                    </a:cubicBezTo>
                    <a:close/>
                    <a:moveTo>
                      <a:pt x="13553" y="3"/>
                    </a:moveTo>
                    <a:lnTo>
                      <a:pt x="13553" y="3"/>
                    </a:lnTo>
                    <a:cubicBezTo>
                      <a:pt x="13554" y="3"/>
                      <a:pt x="13555" y="4"/>
                      <a:pt x="13555" y="5"/>
                    </a:cubicBezTo>
                    <a:cubicBezTo>
                      <a:pt x="13555" y="6"/>
                      <a:pt x="13554" y="7"/>
                      <a:pt x="13553" y="7"/>
                    </a:cubicBezTo>
                    <a:lnTo>
                      <a:pt x="13553" y="7"/>
                    </a:lnTo>
                    <a:cubicBezTo>
                      <a:pt x="13552" y="7"/>
                      <a:pt x="13551" y="6"/>
                      <a:pt x="13551" y="5"/>
                    </a:cubicBezTo>
                    <a:cubicBezTo>
                      <a:pt x="13551" y="4"/>
                      <a:pt x="13552" y="3"/>
                      <a:pt x="13553" y="3"/>
                    </a:cubicBezTo>
                    <a:close/>
                    <a:moveTo>
                      <a:pt x="13561" y="3"/>
                    </a:moveTo>
                    <a:lnTo>
                      <a:pt x="13561" y="3"/>
                    </a:lnTo>
                    <a:cubicBezTo>
                      <a:pt x="13562" y="3"/>
                      <a:pt x="13563" y="4"/>
                      <a:pt x="13563" y="5"/>
                    </a:cubicBezTo>
                    <a:cubicBezTo>
                      <a:pt x="13563" y="6"/>
                      <a:pt x="13562" y="7"/>
                      <a:pt x="13561" y="7"/>
                    </a:cubicBezTo>
                    <a:lnTo>
                      <a:pt x="13561" y="7"/>
                    </a:lnTo>
                    <a:cubicBezTo>
                      <a:pt x="13560" y="7"/>
                      <a:pt x="13559" y="6"/>
                      <a:pt x="13559" y="5"/>
                    </a:cubicBezTo>
                    <a:cubicBezTo>
                      <a:pt x="13559" y="4"/>
                      <a:pt x="13560" y="3"/>
                      <a:pt x="13561" y="3"/>
                    </a:cubicBezTo>
                    <a:close/>
                    <a:moveTo>
                      <a:pt x="13569" y="3"/>
                    </a:moveTo>
                    <a:lnTo>
                      <a:pt x="13569" y="3"/>
                    </a:lnTo>
                    <a:cubicBezTo>
                      <a:pt x="13570" y="3"/>
                      <a:pt x="13571" y="4"/>
                      <a:pt x="13571" y="5"/>
                    </a:cubicBezTo>
                    <a:cubicBezTo>
                      <a:pt x="13571" y="6"/>
                      <a:pt x="13570" y="7"/>
                      <a:pt x="13569" y="7"/>
                    </a:cubicBezTo>
                    <a:lnTo>
                      <a:pt x="13569" y="7"/>
                    </a:lnTo>
                    <a:cubicBezTo>
                      <a:pt x="13568" y="7"/>
                      <a:pt x="13567" y="6"/>
                      <a:pt x="13567" y="5"/>
                    </a:cubicBezTo>
                    <a:cubicBezTo>
                      <a:pt x="13567" y="4"/>
                      <a:pt x="13568" y="3"/>
                      <a:pt x="13569" y="3"/>
                    </a:cubicBezTo>
                    <a:close/>
                    <a:moveTo>
                      <a:pt x="13577" y="3"/>
                    </a:moveTo>
                    <a:lnTo>
                      <a:pt x="13577" y="3"/>
                    </a:lnTo>
                    <a:cubicBezTo>
                      <a:pt x="13578" y="3"/>
                      <a:pt x="13579" y="4"/>
                      <a:pt x="13579" y="5"/>
                    </a:cubicBezTo>
                    <a:cubicBezTo>
                      <a:pt x="13579" y="6"/>
                      <a:pt x="13578" y="7"/>
                      <a:pt x="13577" y="7"/>
                    </a:cubicBezTo>
                    <a:lnTo>
                      <a:pt x="13577" y="7"/>
                    </a:lnTo>
                    <a:cubicBezTo>
                      <a:pt x="13576" y="7"/>
                      <a:pt x="13575" y="6"/>
                      <a:pt x="13575" y="5"/>
                    </a:cubicBezTo>
                    <a:cubicBezTo>
                      <a:pt x="13575" y="4"/>
                      <a:pt x="13576" y="3"/>
                      <a:pt x="13577" y="3"/>
                    </a:cubicBezTo>
                    <a:close/>
                    <a:moveTo>
                      <a:pt x="13585" y="3"/>
                    </a:moveTo>
                    <a:lnTo>
                      <a:pt x="13585" y="3"/>
                    </a:lnTo>
                    <a:cubicBezTo>
                      <a:pt x="13586" y="3"/>
                      <a:pt x="13587" y="4"/>
                      <a:pt x="13587" y="5"/>
                    </a:cubicBezTo>
                    <a:cubicBezTo>
                      <a:pt x="13587" y="6"/>
                      <a:pt x="13586" y="7"/>
                      <a:pt x="13585" y="7"/>
                    </a:cubicBezTo>
                    <a:lnTo>
                      <a:pt x="13585" y="7"/>
                    </a:lnTo>
                    <a:cubicBezTo>
                      <a:pt x="13584" y="7"/>
                      <a:pt x="13583" y="6"/>
                      <a:pt x="13583" y="5"/>
                    </a:cubicBezTo>
                    <a:cubicBezTo>
                      <a:pt x="13583" y="4"/>
                      <a:pt x="13584" y="3"/>
                      <a:pt x="13585" y="3"/>
                    </a:cubicBezTo>
                    <a:close/>
                    <a:moveTo>
                      <a:pt x="13593" y="3"/>
                    </a:moveTo>
                    <a:lnTo>
                      <a:pt x="13593" y="3"/>
                    </a:lnTo>
                    <a:cubicBezTo>
                      <a:pt x="13594" y="3"/>
                      <a:pt x="13595" y="4"/>
                      <a:pt x="13595" y="5"/>
                    </a:cubicBezTo>
                    <a:cubicBezTo>
                      <a:pt x="13595" y="6"/>
                      <a:pt x="13594" y="7"/>
                      <a:pt x="13593" y="7"/>
                    </a:cubicBezTo>
                    <a:lnTo>
                      <a:pt x="13593" y="7"/>
                    </a:lnTo>
                    <a:cubicBezTo>
                      <a:pt x="13592" y="7"/>
                      <a:pt x="13591" y="6"/>
                      <a:pt x="13591" y="5"/>
                    </a:cubicBezTo>
                    <a:cubicBezTo>
                      <a:pt x="13591" y="4"/>
                      <a:pt x="13592" y="3"/>
                      <a:pt x="13593" y="3"/>
                    </a:cubicBezTo>
                    <a:close/>
                    <a:moveTo>
                      <a:pt x="13601" y="3"/>
                    </a:moveTo>
                    <a:lnTo>
                      <a:pt x="13601" y="3"/>
                    </a:lnTo>
                    <a:cubicBezTo>
                      <a:pt x="13602" y="3"/>
                      <a:pt x="13603" y="4"/>
                      <a:pt x="13603" y="5"/>
                    </a:cubicBezTo>
                    <a:cubicBezTo>
                      <a:pt x="13603" y="6"/>
                      <a:pt x="13602" y="7"/>
                      <a:pt x="13601" y="7"/>
                    </a:cubicBezTo>
                    <a:lnTo>
                      <a:pt x="13601" y="7"/>
                    </a:lnTo>
                    <a:cubicBezTo>
                      <a:pt x="13600" y="7"/>
                      <a:pt x="13599" y="6"/>
                      <a:pt x="13599" y="5"/>
                    </a:cubicBezTo>
                    <a:cubicBezTo>
                      <a:pt x="13599" y="4"/>
                      <a:pt x="13600" y="3"/>
                      <a:pt x="13601" y="3"/>
                    </a:cubicBezTo>
                    <a:close/>
                    <a:moveTo>
                      <a:pt x="13609" y="3"/>
                    </a:moveTo>
                    <a:lnTo>
                      <a:pt x="13609" y="3"/>
                    </a:lnTo>
                    <a:cubicBezTo>
                      <a:pt x="13610" y="3"/>
                      <a:pt x="13611" y="4"/>
                      <a:pt x="13611" y="5"/>
                    </a:cubicBezTo>
                    <a:cubicBezTo>
                      <a:pt x="13611" y="6"/>
                      <a:pt x="13610" y="7"/>
                      <a:pt x="13609" y="7"/>
                    </a:cubicBezTo>
                    <a:lnTo>
                      <a:pt x="13609" y="7"/>
                    </a:lnTo>
                    <a:cubicBezTo>
                      <a:pt x="13608" y="7"/>
                      <a:pt x="13607" y="6"/>
                      <a:pt x="13607" y="5"/>
                    </a:cubicBezTo>
                    <a:cubicBezTo>
                      <a:pt x="13607" y="4"/>
                      <a:pt x="13608" y="3"/>
                      <a:pt x="13609" y="3"/>
                    </a:cubicBezTo>
                    <a:close/>
                    <a:moveTo>
                      <a:pt x="13617" y="3"/>
                    </a:moveTo>
                    <a:lnTo>
                      <a:pt x="13617" y="3"/>
                    </a:lnTo>
                    <a:cubicBezTo>
                      <a:pt x="13618" y="3"/>
                      <a:pt x="13619" y="4"/>
                      <a:pt x="13619" y="5"/>
                    </a:cubicBezTo>
                    <a:cubicBezTo>
                      <a:pt x="13619" y="6"/>
                      <a:pt x="13618" y="7"/>
                      <a:pt x="13617" y="7"/>
                    </a:cubicBezTo>
                    <a:lnTo>
                      <a:pt x="13617" y="7"/>
                    </a:lnTo>
                    <a:cubicBezTo>
                      <a:pt x="13616" y="7"/>
                      <a:pt x="13615" y="6"/>
                      <a:pt x="13615" y="5"/>
                    </a:cubicBezTo>
                    <a:cubicBezTo>
                      <a:pt x="13615" y="4"/>
                      <a:pt x="13616" y="3"/>
                      <a:pt x="13617" y="3"/>
                    </a:cubicBezTo>
                    <a:close/>
                    <a:moveTo>
                      <a:pt x="13625" y="3"/>
                    </a:moveTo>
                    <a:lnTo>
                      <a:pt x="13625" y="3"/>
                    </a:lnTo>
                    <a:cubicBezTo>
                      <a:pt x="13626" y="3"/>
                      <a:pt x="13627" y="4"/>
                      <a:pt x="13627" y="5"/>
                    </a:cubicBezTo>
                    <a:cubicBezTo>
                      <a:pt x="13627" y="6"/>
                      <a:pt x="13626" y="7"/>
                      <a:pt x="13625" y="7"/>
                    </a:cubicBezTo>
                    <a:lnTo>
                      <a:pt x="13625" y="7"/>
                    </a:lnTo>
                    <a:cubicBezTo>
                      <a:pt x="13624" y="7"/>
                      <a:pt x="13623" y="6"/>
                      <a:pt x="13623" y="5"/>
                    </a:cubicBezTo>
                    <a:cubicBezTo>
                      <a:pt x="13623" y="4"/>
                      <a:pt x="13624" y="3"/>
                      <a:pt x="13625" y="3"/>
                    </a:cubicBezTo>
                    <a:close/>
                    <a:moveTo>
                      <a:pt x="13633" y="3"/>
                    </a:moveTo>
                    <a:lnTo>
                      <a:pt x="13633" y="3"/>
                    </a:lnTo>
                    <a:cubicBezTo>
                      <a:pt x="13634" y="3"/>
                      <a:pt x="13635" y="4"/>
                      <a:pt x="13635" y="5"/>
                    </a:cubicBezTo>
                    <a:cubicBezTo>
                      <a:pt x="13635" y="6"/>
                      <a:pt x="13634" y="7"/>
                      <a:pt x="13633" y="7"/>
                    </a:cubicBezTo>
                    <a:lnTo>
                      <a:pt x="13633" y="7"/>
                    </a:lnTo>
                    <a:cubicBezTo>
                      <a:pt x="13632" y="7"/>
                      <a:pt x="13631" y="6"/>
                      <a:pt x="13631" y="5"/>
                    </a:cubicBezTo>
                    <a:cubicBezTo>
                      <a:pt x="13631" y="4"/>
                      <a:pt x="13632" y="3"/>
                      <a:pt x="13633" y="3"/>
                    </a:cubicBezTo>
                    <a:close/>
                    <a:moveTo>
                      <a:pt x="13641" y="3"/>
                    </a:moveTo>
                    <a:lnTo>
                      <a:pt x="13641" y="3"/>
                    </a:lnTo>
                    <a:cubicBezTo>
                      <a:pt x="13642" y="3"/>
                      <a:pt x="13643" y="4"/>
                      <a:pt x="13643" y="5"/>
                    </a:cubicBezTo>
                    <a:cubicBezTo>
                      <a:pt x="13643" y="6"/>
                      <a:pt x="13642" y="7"/>
                      <a:pt x="13641" y="7"/>
                    </a:cubicBezTo>
                    <a:lnTo>
                      <a:pt x="13641" y="7"/>
                    </a:lnTo>
                    <a:cubicBezTo>
                      <a:pt x="13640" y="7"/>
                      <a:pt x="13639" y="6"/>
                      <a:pt x="13639" y="5"/>
                    </a:cubicBezTo>
                    <a:cubicBezTo>
                      <a:pt x="13639" y="4"/>
                      <a:pt x="13640" y="3"/>
                      <a:pt x="13641" y="3"/>
                    </a:cubicBezTo>
                    <a:close/>
                    <a:moveTo>
                      <a:pt x="13649" y="3"/>
                    </a:moveTo>
                    <a:lnTo>
                      <a:pt x="13649" y="3"/>
                    </a:lnTo>
                    <a:cubicBezTo>
                      <a:pt x="13650" y="3"/>
                      <a:pt x="13651" y="4"/>
                      <a:pt x="13651" y="5"/>
                    </a:cubicBezTo>
                    <a:cubicBezTo>
                      <a:pt x="13651" y="6"/>
                      <a:pt x="13650" y="7"/>
                      <a:pt x="13649" y="7"/>
                    </a:cubicBezTo>
                    <a:lnTo>
                      <a:pt x="13649" y="7"/>
                    </a:lnTo>
                    <a:cubicBezTo>
                      <a:pt x="13648" y="7"/>
                      <a:pt x="13647" y="6"/>
                      <a:pt x="13647" y="5"/>
                    </a:cubicBezTo>
                    <a:cubicBezTo>
                      <a:pt x="13647" y="4"/>
                      <a:pt x="13648" y="3"/>
                      <a:pt x="13649" y="3"/>
                    </a:cubicBezTo>
                    <a:close/>
                    <a:moveTo>
                      <a:pt x="13657" y="3"/>
                    </a:moveTo>
                    <a:lnTo>
                      <a:pt x="13657" y="3"/>
                    </a:lnTo>
                    <a:cubicBezTo>
                      <a:pt x="13658" y="3"/>
                      <a:pt x="13659" y="4"/>
                      <a:pt x="13659" y="5"/>
                    </a:cubicBezTo>
                    <a:cubicBezTo>
                      <a:pt x="13659" y="6"/>
                      <a:pt x="13658" y="7"/>
                      <a:pt x="13657" y="7"/>
                    </a:cubicBezTo>
                    <a:lnTo>
                      <a:pt x="13657" y="7"/>
                    </a:lnTo>
                    <a:cubicBezTo>
                      <a:pt x="13656" y="7"/>
                      <a:pt x="13655" y="6"/>
                      <a:pt x="13655" y="5"/>
                    </a:cubicBezTo>
                    <a:cubicBezTo>
                      <a:pt x="13655" y="4"/>
                      <a:pt x="13656" y="3"/>
                      <a:pt x="13657" y="3"/>
                    </a:cubicBezTo>
                    <a:close/>
                    <a:moveTo>
                      <a:pt x="13665" y="3"/>
                    </a:moveTo>
                    <a:lnTo>
                      <a:pt x="13665" y="3"/>
                    </a:lnTo>
                    <a:cubicBezTo>
                      <a:pt x="13666" y="3"/>
                      <a:pt x="13667" y="4"/>
                      <a:pt x="13667" y="5"/>
                    </a:cubicBezTo>
                    <a:cubicBezTo>
                      <a:pt x="13667" y="6"/>
                      <a:pt x="13666" y="7"/>
                      <a:pt x="13665" y="7"/>
                    </a:cubicBezTo>
                    <a:lnTo>
                      <a:pt x="13665" y="7"/>
                    </a:lnTo>
                    <a:cubicBezTo>
                      <a:pt x="13664" y="7"/>
                      <a:pt x="13663" y="6"/>
                      <a:pt x="13663" y="5"/>
                    </a:cubicBezTo>
                    <a:cubicBezTo>
                      <a:pt x="13663" y="4"/>
                      <a:pt x="13664" y="3"/>
                      <a:pt x="13665" y="3"/>
                    </a:cubicBezTo>
                    <a:close/>
                    <a:moveTo>
                      <a:pt x="13673" y="3"/>
                    </a:moveTo>
                    <a:lnTo>
                      <a:pt x="13673" y="3"/>
                    </a:lnTo>
                    <a:cubicBezTo>
                      <a:pt x="13674" y="3"/>
                      <a:pt x="13675" y="4"/>
                      <a:pt x="13675" y="5"/>
                    </a:cubicBezTo>
                    <a:cubicBezTo>
                      <a:pt x="13675" y="6"/>
                      <a:pt x="13674" y="7"/>
                      <a:pt x="13673" y="7"/>
                    </a:cubicBezTo>
                    <a:lnTo>
                      <a:pt x="13673" y="7"/>
                    </a:lnTo>
                    <a:cubicBezTo>
                      <a:pt x="13672" y="7"/>
                      <a:pt x="13671" y="6"/>
                      <a:pt x="13671" y="5"/>
                    </a:cubicBezTo>
                    <a:cubicBezTo>
                      <a:pt x="13671" y="4"/>
                      <a:pt x="13672" y="3"/>
                      <a:pt x="13673" y="3"/>
                    </a:cubicBezTo>
                    <a:close/>
                    <a:moveTo>
                      <a:pt x="13681" y="3"/>
                    </a:moveTo>
                    <a:lnTo>
                      <a:pt x="13681" y="3"/>
                    </a:lnTo>
                    <a:cubicBezTo>
                      <a:pt x="13682" y="3"/>
                      <a:pt x="13683" y="4"/>
                      <a:pt x="13683" y="5"/>
                    </a:cubicBezTo>
                    <a:cubicBezTo>
                      <a:pt x="13683" y="6"/>
                      <a:pt x="13682" y="7"/>
                      <a:pt x="13681" y="7"/>
                    </a:cubicBezTo>
                    <a:lnTo>
                      <a:pt x="13681" y="7"/>
                    </a:lnTo>
                    <a:cubicBezTo>
                      <a:pt x="13680" y="7"/>
                      <a:pt x="13679" y="6"/>
                      <a:pt x="13679" y="5"/>
                    </a:cubicBezTo>
                    <a:cubicBezTo>
                      <a:pt x="13679" y="4"/>
                      <a:pt x="13680" y="3"/>
                      <a:pt x="13681" y="3"/>
                    </a:cubicBezTo>
                    <a:close/>
                    <a:moveTo>
                      <a:pt x="13689" y="3"/>
                    </a:moveTo>
                    <a:lnTo>
                      <a:pt x="13689" y="3"/>
                    </a:lnTo>
                    <a:cubicBezTo>
                      <a:pt x="13690" y="3"/>
                      <a:pt x="13691" y="4"/>
                      <a:pt x="13691" y="5"/>
                    </a:cubicBezTo>
                    <a:cubicBezTo>
                      <a:pt x="13691" y="6"/>
                      <a:pt x="13690" y="7"/>
                      <a:pt x="13689" y="7"/>
                    </a:cubicBezTo>
                    <a:lnTo>
                      <a:pt x="13689" y="7"/>
                    </a:lnTo>
                    <a:cubicBezTo>
                      <a:pt x="13688" y="7"/>
                      <a:pt x="13687" y="6"/>
                      <a:pt x="13687" y="5"/>
                    </a:cubicBezTo>
                    <a:cubicBezTo>
                      <a:pt x="13687" y="4"/>
                      <a:pt x="13688" y="3"/>
                      <a:pt x="13689" y="3"/>
                    </a:cubicBezTo>
                    <a:close/>
                    <a:moveTo>
                      <a:pt x="13697" y="3"/>
                    </a:moveTo>
                    <a:lnTo>
                      <a:pt x="13697" y="3"/>
                    </a:lnTo>
                    <a:cubicBezTo>
                      <a:pt x="13698" y="3"/>
                      <a:pt x="13699" y="4"/>
                      <a:pt x="13699" y="5"/>
                    </a:cubicBezTo>
                    <a:cubicBezTo>
                      <a:pt x="13699" y="6"/>
                      <a:pt x="13698" y="7"/>
                      <a:pt x="13697" y="7"/>
                    </a:cubicBezTo>
                    <a:lnTo>
                      <a:pt x="13697" y="7"/>
                    </a:lnTo>
                    <a:cubicBezTo>
                      <a:pt x="13696" y="7"/>
                      <a:pt x="13695" y="6"/>
                      <a:pt x="13695" y="5"/>
                    </a:cubicBezTo>
                    <a:cubicBezTo>
                      <a:pt x="13695" y="4"/>
                      <a:pt x="13696" y="3"/>
                      <a:pt x="13697" y="3"/>
                    </a:cubicBezTo>
                    <a:close/>
                    <a:moveTo>
                      <a:pt x="13705" y="3"/>
                    </a:moveTo>
                    <a:lnTo>
                      <a:pt x="13705" y="3"/>
                    </a:lnTo>
                    <a:cubicBezTo>
                      <a:pt x="13706" y="3"/>
                      <a:pt x="13707" y="4"/>
                      <a:pt x="13707" y="5"/>
                    </a:cubicBezTo>
                    <a:cubicBezTo>
                      <a:pt x="13707" y="6"/>
                      <a:pt x="13706" y="7"/>
                      <a:pt x="13705" y="7"/>
                    </a:cubicBezTo>
                    <a:lnTo>
                      <a:pt x="13705" y="7"/>
                    </a:lnTo>
                    <a:cubicBezTo>
                      <a:pt x="13704" y="7"/>
                      <a:pt x="13703" y="6"/>
                      <a:pt x="13703" y="5"/>
                    </a:cubicBezTo>
                    <a:cubicBezTo>
                      <a:pt x="13703" y="4"/>
                      <a:pt x="13704" y="3"/>
                      <a:pt x="13705" y="3"/>
                    </a:cubicBezTo>
                    <a:close/>
                    <a:moveTo>
                      <a:pt x="13713" y="3"/>
                    </a:moveTo>
                    <a:lnTo>
                      <a:pt x="13713" y="3"/>
                    </a:lnTo>
                    <a:cubicBezTo>
                      <a:pt x="13714" y="3"/>
                      <a:pt x="13715" y="4"/>
                      <a:pt x="13715" y="5"/>
                    </a:cubicBezTo>
                    <a:cubicBezTo>
                      <a:pt x="13715" y="6"/>
                      <a:pt x="13714" y="7"/>
                      <a:pt x="13713" y="7"/>
                    </a:cubicBezTo>
                    <a:lnTo>
                      <a:pt x="13713" y="7"/>
                    </a:lnTo>
                    <a:cubicBezTo>
                      <a:pt x="13712" y="7"/>
                      <a:pt x="13711" y="6"/>
                      <a:pt x="13711" y="5"/>
                    </a:cubicBezTo>
                    <a:cubicBezTo>
                      <a:pt x="13711" y="4"/>
                      <a:pt x="13712" y="3"/>
                      <a:pt x="13713" y="3"/>
                    </a:cubicBezTo>
                    <a:close/>
                    <a:moveTo>
                      <a:pt x="13721" y="3"/>
                    </a:moveTo>
                    <a:lnTo>
                      <a:pt x="13721" y="3"/>
                    </a:lnTo>
                    <a:cubicBezTo>
                      <a:pt x="13722" y="3"/>
                      <a:pt x="13723" y="4"/>
                      <a:pt x="13723" y="5"/>
                    </a:cubicBezTo>
                    <a:cubicBezTo>
                      <a:pt x="13723" y="6"/>
                      <a:pt x="13722" y="7"/>
                      <a:pt x="13721" y="7"/>
                    </a:cubicBezTo>
                    <a:lnTo>
                      <a:pt x="13721" y="7"/>
                    </a:lnTo>
                    <a:cubicBezTo>
                      <a:pt x="13720" y="7"/>
                      <a:pt x="13719" y="6"/>
                      <a:pt x="13719" y="5"/>
                    </a:cubicBezTo>
                    <a:cubicBezTo>
                      <a:pt x="13719" y="4"/>
                      <a:pt x="13720" y="3"/>
                      <a:pt x="13721" y="3"/>
                    </a:cubicBezTo>
                    <a:close/>
                    <a:moveTo>
                      <a:pt x="13729" y="3"/>
                    </a:moveTo>
                    <a:lnTo>
                      <a:pt x="13729" y="3"/>
                    </a:lnTo>
                    <a:cubicBezTo>
                      <a:pt x="13730" y="3"/>
                      <a:pt x="13731" y="4"/>
                      <a:pt x="13731" y="5"/>
                    </a:cubicBezTo>
                    <a:cubicBezTo>
                      <a:pt x="13731" y="6"/>
                      <a:pt x="13730" y="7"/>
                      <a:pt x="13729" y="7"/>
                    </a:cubicBezTo>
                    <a:lnTo>
                      <a:pt x="13729" y="7"/>
                    </a:lnTo>
                    <a:cubicBezTo>
                      <a:pt x="13728" y="7"/>
                      <a:pt x="13727" y="6"/>
                      <a:pt x="13727" y="5"/>
                    </a:cubicBezTo>
                    <a:cubicBezTo>
                      <a:pt x="13727" y="4"/>
                      <a:pt x="13728" y="3"/>
                      <a:pt x="13729" y="3"/>
                    </a:cubicBezTo>
                    <a:close/>
                    <a:moveTo>
                      <a:pt x="13737" y="3"/>
                    </a:moveTo>
                    <a:lnTo>
                      <a:pt x="13737" y="3"/>
                    </a:lnTo>
                    <a:cubicBezTo>
                      <a:pt x="13738" y="3"/>
                      <a:pt x="13739" y="4"/>
                      <a:pt x="13739" y="5"/>
                    </a:cubicBezTo>
                    <a:cubicBezTo>
                      <a:pt x="13739" y="6"/>
                      <a:pt x="13738" y="7"/>
                      <a:pt x="13737" y="7"/>
                    </a:cubicBezTo>
                    <a:lnTo>
                      <a:pt x="13737" y="7"/>
                    </a:lnTo>
                    <a:cubicBezTo>
                      <a:pt x="13736" y="7"/>
                      <a:pt x="13735" y="6"/>
                      <a:pt x="13735" y="5"/>
                    </a:cubicBezTo>
                    <a:cubicBezTo>
                      <a:pt x="13735" y="4"/>
                      <a:pt x="13736" y="3"/>
                      <a:pt x="13737" y="3"/>
                    </a:cubicBezTo>
                    <a:close/>
                    <a:moveTo>
                      <a:pt x="13745" y="3"/>
                    </a:moveTo>
                    <a:lnTo>
                      <a:pt x="13745" y="3"/>
                    </a:lnTo>
                    <a:cubicBezTo>
                      <a:pt x="13746" y="3"/>
                      <a:pt x="13747" y="4"/>
                      <a:pt x="13747" y="5"/>
                    </a:cubicBezTo>
                    <a:cubicBezTo>
                      <a:pt x="13747" y="6"/>
                      <a:pt x="13746" y="7"/>
                      <a:pt x="13745" y="7"/>
                    </a:cubicBezTo>
                    <a:lnTo>
                      <a:pt x="13745" y="7"/>
                    </a:lnTo>
                    <a:cubicBezTo>
                      <a:pt x="13744" y="7"/>
                      <a:pt x="13743" y="6"/>
                      <a:pt x="13743" y="5"/>
                    </a:cubicBezTo>
                    <a:cubicBezTo>
                      <a:pt x="13743" y="4"/>
                      <a:pt x="13744" y="3"/>
                      <a:pt x="13745" y="3"/>
                    </a:cubicBezTo>
                    <a:close/>
                    <a:moveTo>
                      <a:pt x="13753" y="3"/>
                    </a:moveTo>
                    <a:lnTo>
                      <a:pt x="13753" y="3"/>
                    </a:lnTo>
                    <a:cubicBezTo>
                      <a:pt x="13754" y="3"/>
                      <a:pt x="13755" y="4"/>
                      <a:pt x="13755" y="5"/>
                    </a:cubicBezTo>
                    <a:cubicBezTo>
                      <a:pt x="13755" y="6"/>
                      <a:pt x="13754" y="7"/>
                      <a:pt x="13753" y="7"/>
                    </a:cubicBezTo>
                    <a:lnTo>
                      <a:pt x="13753" y="7"/>
                    </a:lnTo>
                    <a:cubicBezTo>
                      <a:pt x="13752" y="7"/>
                      <a:pt x="13751" y="6"/>
                      <a:pt x="13751" y="5"/>
                    </a:cubicBezTo>
                    <a:cubicBezTo>
                      <a:pt x="13751" y="4"/>
                      <a:pt x="13752" y="3"/>
                      <a:pt x="13753" y="3"/>
                    </a:cubicBezTo>
                    <a:close/>
                    <a:moveTo>
                      <a:pt x="13761" y="3"/>
                    </a:moveTo>
                    <a:lnTo>
                      <a:pt x="13761" y="3"/>
                    </a:lnTo>
                    <a:cubicBezTo>
                      <a:pt x="13762" y="3"/>
                      <a:pt x="13763" y="4"/>
                      <a:pt x="13763" y="5"/>
                    </a:cubicBezTo>
                    <a:cubicBezTo>
                      <a:pt x="13763" y="6"/>
                      <a:pt x="13762" y="7"/>
                      <a:pt x="13761" y="7"/>
                    </a:cubicBezTo>
                    <a:lnTo>
                      <a:pt x="13761" y="7"/>
                    </a:lnTo>
                    <a:cubicBezTo>
                      <a:pt x="13760" y="7"/>
                      <a:pt x="13759" y="6"/>
                      <a:pt x="13759" y="5"/>
                    </a:cubicBezTo>
                    <a:cubicBezTo>
                      <a:pt x="13759" y="4"/>
                      <a:pt x="13760" y="3"/>
                      <a:pt x="13761" y="3"/>
                    </a:cubicBezTo>
                    <a:close/>
                    <a:moveTo>
                      <a:pt x="13769" y="3"/>
                    </a:moveTo>
                    <a:lnTo>
                      <a:pt x="13769" y="3"/>
                    </a:lnTo>
                    <a:cubicBezTo>
                      <a:pt x="13770" y="3"/>
                      <a:pt x="13771" y="4"/>
                      <a:pt x="13771" y="5"/>
                    </a:cubicBezTo>
                    <a:cubicBezTo>
                      <a:pt x="13771" y="6"/>
                      <a:pt x="13770" y="7"/>
                      <a:pt x="13769" y="7"/>
                    </a:cubicBezTo>
                    <a:lnTo>
                      <a:pt x="13769" y="7"/>
                    </a:lnTo>
                    <a:cubicBezTo>
                      <a:pt x="13768" y="7"/>
                      <a:pt x="13767" y="6"/>
                      <a:pt x="13767" y="5"/>
                    </a:cubicBezTo>
                    <a:cubicBezTo>
                      <a:pt x="13767" y="4"/>
                      <a:pt x="13768" y="3"/>
                      <a:pt x="13769" y="3"/>
                    </a:cubicBezTo>
                    <a:close/>
                    <a:moveTo>
                      <a:pt x="13777" y="3"/>
                    </a:moveTo>
                    <a:lnTo>
                      <a:pt x="13777" y="3"/>
                    </a:lnTo>
                    <a:cubicBezTo>
                      <a:pt x="13778" y="3"/>
                      <a:pt x="13779" y="4"/>
                      <a:pt x="13779" y="5"/>
                    </a:cubicBezTo>
                    <a:cubicBezTo>
                      <a:pt x="13779" y="6"/>
                      <a:pt x="13778" y="7"/>
                      <a:pt x="13777" y="7"/>
                    </a:cubicBezTo>
                    <a:lnTo>
                      <a:pt x="13777" y="7"/>
                    </a:lnTo>
                    <a:cubicBezTo>
                      <a:pt x="13776" y="7"/>
                      <a:pt x="13775" y="6"/>
                      <a:pt x="13775" y="5"/>
                    </a:cubicBezTo>
                    <a:cubicBezTo>
                      <a:pt x="13775" y="4"/>
                      <a:pt x="13776" y="3"/>
                      <a:pt x="13777" y="3"/>
                    </a:cubicBezTo>
                    <a:close/>
                    <a:moveTo>
                      <a:pt x="13785" y="3"/>
                    </a:moveTo>
                    <a:lnTo>
                      <a:pt x="13785" y="3"/>
                    </a:lnTo>
                    <a:cubicBezTo>
                      <a:pt x="13786" y="3"/>
                      <a:pt x="13787" y="4"/>
                      <a:pt x="13787" y="5"/>
                    </a:cubicBezTo>
                    <a:cubicBezTo>
                      <a:pt x="13787" y="6"/>
                      <a:pt x="13786" y="7"/>
                      <a:pt x="13785" y="7"/>
                    </a:cubicBezTo>
                    <a:lnTo>
                      <a:pt x="13785" y="7"/>
                    </a:lnTo>
                    <a:cubicBezTo>
                      <a:pt x="13784" y="7"/>
                      <a:pt x="13783" y="6"/>
                      <a:pt x="13783" y="5"/>
                    </a:cubicBezTo>
                    <a:cubicBezTo>
                      <a:pt x="13783" y="4"/>
                      <a:pt x="13784" y="3"/>
                      <a:pt x="13785" y="3"/>
                    </a:cubicBezTo>
                    <a:close/>
                    <a:moveTo>
                      <a:pt x="13793" y="3"/>
                    </a:moveTo>
                    <a:lnTo>
                      <a:pt x="13793" y="3"/>
                    </a:lnTo>
                    <a:cubicBezTo>
                      <a:pt x="13794" y="3"/>
                      <a:pt x="13795" y="4"/>
                      <a:pt x="13795" y="5"/>
                    </a:cubicBezTo>
                    <a:cubicBezTo>
                      <a:pt x="13795" y="6"/>
                      <a:pt x="13794" y="7"/>
                      <a:pt x="13793" y="7"/>
                    </a:cubicBezTo>
                    <a:lnTo>
                      <a:pt x="13793" y="7"/>
                    </a:lnTo>
                    <a:cubicBezTo>
                      <a:pt x="13792" y="7"/>
                      <a:pt x="13791" y="6"/>
                      <a:pt x="13791" y="5"/>
                    </a:cubicBezTo>
                    <a:cubicBezTo>
                      <a:pt x="13791" y="4"/>
                      <a:pt x="13792" y="3"/>
                      <a:pt x="13793" y="3"/>
                    </a:cubicBezTo>
                    <a:close/>
                    <a:moveTo>
                      <a:pt x="13801" y="3"/>
                    </a:moveTo>
                    <a:lnTo>
                      <a:pt x="13801" y="3"/>
                    </a:lnTo>
                    <a:cubicBezTo>
                      <a:pt x="13802" y="3"/>
                      <a:pt x="13803" y="4"/>
                      <a:pt x="13803" y="5"/>
                    </a:cubicBezTo>
                    <a:cubicBezTo>
                      <a:pt x="13803" y="6"/>
                      <a:pt x="13802" y="7"/>
                      <a:pt x="13801" y="7"/>
                    </a:cubicBezTo>
                    <a:lnTo>
                      <a:pt x="13801" y="7"/>
                    </a:lnTo>
                    <a:cubicBezTo>
                      <a:pt x="13800" y="7"/>
                      <a:pt x="13799" y="6"/>
                      <a:pt x="13799" y="5"/>
                    </a:cubicBezTo>
                    <a:cubicBezTo>
                      <a:pt x="13799" y="4"/>
                      <a:pt x="13800" y="3"/>
                      <a:pt x="13801" y="3"/>
                    </a:cubicBezTo>
                    <a:close/>
                    <a:moveTo>
                      <a:pt x="13809" y="3"/>
                    </a:moveTo>
                    <a:lnTo>
                      <a:pt x="13809" y="3"/>
                    </a:lnTo>
                    <a:cubicBezTo>
                      <a:pt x="13810" y="3"/>
                      <a:pt x="13811" y="4"/>
                      <a:pt x="13811" y="5"/>
                    </a:cubicBezTo>
                    <a:cubicBezTo>
                      <a:pt x="13811" y="6"/>
                      <a:pt x="13810" y="7"/>
                      <a:pt x="13809" y="7"/>
                    </a:cubicBezTo>
                    <a:lnTo>
                      <a:pt x="13809" y="7"/>
                    </a:lnTo>
                    <a:cubicBezTo>
                      <a:pt x="13808" y="7"/>
                      <a:pt x="13807" y="6"/>
                      <a:pt x="13807" y="5"/>
                    </a:cubicBezTo>
                    <a:cubicBezTo>
                      <a:pt x="13807" y="4"/>
                      <a:pt x="13808" y="3"/>
                      <a:pt x="13809" y="3"/>
                    </a:cubicBezTo>
                    <a:close/>
                    <a:moveTo>
                      <a:pt x="13817" y="3"/>
                    </a:moveTo>
                    <a:lnTo>
                      <a:pt x="13817" y="3"/>
                    </a:lnTo>
                    <a:cubicBezTo>
                      <a:pt x="13818" y="3"/>
                      <a:pt x="13819" y="4"/>
                      <a:pt x="13819" y="5"/>
                    </a:cubicBezTo>
                    <a:cubicBezTo>
                      <a:pt x="13819" y="6"/>
                      <a:pt x="13818" y="7"/>
                      <a:pt x="13817" y="7"/>
                    </a:cubicBezTo>
                    <a:lnTo>
                      <a:pt x="13817" y="7"/>
                    </a:lnTo>
                    <a:cubicBezTo>
                      <a:pt x="13816" y="7"/>
                      <a:pt x="13815" y="6"/>
                      <a:pt x="13815" y="5"/>
                    </a:cubicBezTo>
                    <a:cubicBezTo>
                      <a:pt x="13815" y="4"/>
                      <a:pt x="13816" y="3"/>
                      <a:pt x="13817" y="3"/>
                    </a:cubicBezTo>
                    <a:close/>
                    <a:moveTo>
                      <a:pt x="13825" y="3"/>
                    </a:moveTo>
                    <a:lnTo>
                      <a:pt x="13825" y="3"/>
                    </a:lnTo>
                    <a:cubicBezTo>
                      <a:pt x="13826" y="3"/>
                      <a:pt x="13827" y="4"/>
                      <a:pt x="13827" y="5"/>
                    </a:cubicBezTo>
                    <a:cubicBezTo>
                      <a:pt x="13827" y="6"/>
                      <a:pt x="13826" y="7"/>
                      <a:pt x="13825" y="7"/>
                    </a:cubicBezTo>
                    <a:lnTo>
                      <a:pt x="13825" y="7"/>
                    </a:lnTo>
                    <a:cubicBezTo>
                      <a:pt x="13824" y="7"/>
                      <a:pt x="13823" y="6"/>
                      <a:pt x="13823" y="5"/>
                    </a:cubicBezTo>
                    <a:cubicBezTo>
                      <a:pt x="13823" y="4"/>
                      <a:pt x="13824" y="3"/>
                      <a:pt x="13825" y="3"/>
                    </a:cubicBezTo>
                    <a:close/>
                    <a:moveTo>
                      <a:pt x="13833" y="3"/>
                    </a:moveTo>
                    <a:lnTo>
                      <a:pt x="13833" y="3"/>
                    </a:lnTo>
                    <a:cubicBezTo>
                      <a:pt x="13834" y="3"/>
                      <a:pt x="13835" y="4"/>
                      <a:pt x="13835" y="5"/>
                    </a:cubicBezTo>
                    <a:cubicBezTo>
                      <a:pt x="13835" y="6"/>
                      <a:pt x="13834" y="7"/>
                      <a:pt x="13833" y="7"/>
                    </a:cubicBezTo>
                    <a:lnTo>
                      <a:pt x="13833" y="7"/>
                    </a:lnTo>
                    <a:cubicBezTo>
                      <a:pt x="13832" y="7"/>
                      <a:pt x="13831" y="6"/>
                      <a:pt x="13831" y="5"/>
                    </a:cubicBezTo>
                    <a:cubicBezTo>
                      <a:pt x="13831" y="4"/>
                      <a:pt x="13832" y="3"/>
                      <a:pt x="13833" y="3"/>
                    </a:cubicBezTo>
                    <a:close/>
                    <a:moveTo>
                      <a:pt x="13841" y="3"/>
                    </a:moveTo>
                    <a:lnTo>
                      <a:pt x="13841" y="3"/>
                    </a:lnTo>
                    <a:cubicBezTo>
                      <a:pt x="13842" y="3"/>
                      <a:pt x="13843" y="4"/>
                      <a:pt x="13843" y="5"/>
                    </a:cubicBezTo>
                    <a:cubicBezTo>
                      <a:pt x="13843" y="6"/>
                      <a:pt x="13842" y="7"/>
                      <a:pt x="13841" y="7"/>
                    </a:cubicBezTo>
                    <a:lnTo>
                      <a:pt x="13841" y="7"/>
                    </a:lnTo>
                    <a:cubicBezTo>
                      <a:pt x="13840" y="7"/>
                      <a:pt x="13839" y="6"/>
                      <a:pt x="13839" y="5"/>
                    </a:cubicBezTo>
                    <a:cubicBezTo>
                      <a:pt x="13839" y="4"/>
                      <a:pt x="13840" y="3"/>
                      <a:pt x="13841" y="3"/>
                    </a:cubicBezTo>
                    <a:close/>
                    <a:moveTo>
                      <a:pt x="13849" y="3"/>
                    </a:moveTo>
                    <a:lnTo>
                      <a:pt x="13849" y="3"/>
                    </a:lnTo>
                    <a:cubicBezTo>
                      <a:pt x="13850" y="3"/>
                      <a:pt x="13851" y="4"/>
                      <a:pt x="13851" y="5"/>
                    </a:cubicBezTo>
                    <a:cubicBezTo>
                      <a:pt x="13851" y="6"/>
                      <a:pt x="13850" y="7"/>
                      <a:pt x="13849" y="7"/>
                    </a:cubicBezTo>
                    <a:lnTo>
                      <a:pt x="13849" y="7"/>
                    </a:lnTo>
                    <a:cubicBezTo>
                      <a:pt x="13848" y="7"/>
                      <a:pt x="13847" y="6"/>
                      <a:pt x="13847" y="5"/>
                    </a:cubicBezTo>
                    <a:cubicBezTo>
                      <a:pt x="13847" y="4"/>
                      <a:pt x="13848" y="3"/>
                      <a:pt x="13849" y="3"/>
                    </a:cubicBezTo>
                    <a:close/>
                    <a:moveTo>
                      <a:pt x="13857" y="3"/>
                    </a:moveTo>
                    <a:lnTo>
                      <a:pt x="13857" y="3"/>
                    </a:lnTo>
                    <a:cubicBezTo>
                      <a:pt x="13858" y="3"/>
                      <a:pt x="13859" y="4"/>
                      <a:pt x="13859" y="5"/>
                    </a:cubicBezTo>
                    <a:cubicBezTo>
                      <a:pt x="13859" y="6"/>
                      <a:pt x="13858" y="7"/>
                      <a:pt x="13857" y="7"/>
                    </a:cubicBezTo>
                    <a:lnTo>
                      <a:pt x="13857" y="7"/>
                    </a:lnTo>
                    <a:cubicBezTo>
                      <a:pt x="13856" y="7"/>
                      <a:pt x="13855" y="6"/>
                      <a:pt x="13855" y="5"/>
                    </a:cubicBezTo>
                    <a:cubicBezTo>
                      <a:pt x="13855" y="4"/>
                      <a:pt x="13856" y="3"/>
                      <a:pt x="13857" y="3"/>
                    </a:cubicBezTo>
                    <a:close/>
                    <a:moveTo>
                      <a:pt x="13865" y="3"/>
                    </a:moveTo>
                    <a:lnTo>
                      <a:pt x="13865" y="3"/>
                    </a:lnTo>
                    <a:cubicBezTo>
                      <a:pt x="13866" y="3"/>
                      <a:pt x="13867" y="4"/>
                      <a:pt x="13867" y="5"/>
                    </a:cubicBezTo>
                    <a:cubicBezTo>
                      <a:pt x="13867" y="6"/>
                      <a:pt x="13866" y="7"/>
                      <a:pt x="13865" y="7"/>
                    </a:cubicBezTo>
                    <a:lnTo>
                      <a:pt x="13865" y="7"/>
                    </a:lnTo>
                    <a:cubicBezTo>
                      <a:pt x="13864" y="7"/>
                      <a:pt x="13863" y="6"/>
                      <a:pt x="13863" y="5"/>
                    </a:cubicBezTo>
                    <a:cubicBezTo>
                      <a:pt x="13863" y="4"/>
                      <a:pt x="13864" y="3"/>
                      <a:pt x="13865" y="3"/>
                    </a:cubicBezTo>
                    <a:close/>
                    <a:moveTo>
                      <a:pt x="13873" y="3"/>
                    </a:moveTo>
                    <a:lnTo>
                      <a:pt x="13873" y="3"/>
                    </a:lnTo>
                    <a:cubicBezTo>
                      <a:pt x="13874" y="3"/>
                      <a:pt x="13875" y="4"/>
                      <a:pt x="13875" y="5"/>
                    </a:cubicBezTo>
                    <a:cubicBezTo>
                      <a:pt x="13875" y="6"/>
                      <a:pt x="13874" y="7"/>
                      <a:pt x="13873" y="7"/>
                    </a:cubicBezTo>
                    <a:lnTo>
                      <a:pt x="13873" y="7"/>
                    </a:lnTo>
                    <a:cubicBezTo>
                      <a:pt x="13872" y="7"/>
                      <a:pt x="13871" y="6"/>
                      <a:pt x="13871" y="5"/>
                    </a:cubicBezTo>
                    <a:cubicBezTo>
                      <a:pt x="13871" y="4"/>
                      <a:pt x="13872" y="3"/>
                      <a:pt x="13873" y="3"/>
                    </a:cubicBezTo>
                    <a:close/>
                    <a:moveTo>
                      <a:pt x="13881" y="3"/>
                    </a:moveTo>
                    <a:lnTo>
                      <a:pt x="13881" y="3"/>
                    </a:lnTo>
                    <a:cubicBezTo>
                      <a:pt x="13882" y="3"/>
                      <a:pt x="13883" y="4"/>
                      <a:pt x="13883" y="5"/>
                    </a:cubicBezTo>
                    <a:cubicBezTo>
                      <a:pt x="13883" y="6"/>
                      <a:pt x="13882" y="7"/>
                      <a:pt x="13881" y="7"/>
                    </a:cubicBezTo>
                    <a:lnTo>
                      <a:pt x="13881" y="7"/>
                    </a:lnTo>
                    <a:cubicBezTo>
                      <a:pt x="13880" y="7"/>
                      <a:pt x="13879" y="6"/>
                      <a:pt x="13879" y="5"/>
                    </a:cubicBezTo>
                    <a:cubicBezTo>
                      <a:pt x="13879" y="4"/>
                      <a:pt x="13880" y="3"/>
                      <a:pt x="13881" y="3"/>
                    </a:cubicBezTo>
                    <a:close/>
                    <a:moveTo>
                      <a:pt x="13889" y="3"/>
                    </a:moveTo>
                    <a:lnTo>
                      <a:pt x="13889" y="3"/>
                    </a:lnTo>
                    <a:cubicBezTo>
                      <a:pt x="13890" y="3"/>
                      <a:pt x="13891" y="4"/>
                      <a:pt x="13891" y="5"/>
                    </a:cubicBezTo>
                    <a:cubicBezTo>
                      <a:pt x="13891" y="6"/>
                      <a:pt x="13890" y="7"/>
                      <a:pt x="13889" y="7"/>
                    </a:cubicBezTo>
                    <a:lnTo>
                      <a:pt x="13889" y="7"/>
                    </a:lnTo>
                    <a:cubicBezTo>
                      <a:pt x="13888" y="7"/>
                      <a:pt x="13887" y="6"/>
                      <a:pt x="13887" y="5"/>
                    </a:cubicBezTo>
                    <a:cubicBezTo>
                      <a:pt x="13887" y="4"/>
                      <a:pt x="13888" y="3"/>
                      <a:pt x="13889" y="3"/>
                    </a:cubicBezTo>
                    <a:close/>
                    <a:moveTo>
                      <a:pt x="13897" y="3"/>
                    </a:moveTo>
                    <a:lnTo>
                      <a:pt x="13897" y="3"/>
                    </a:lnTo>
                    <a:cubicBezTo>
                      <a:pt x="13898" y="3"/>
                      <a:pt x="13899" y="4"/>
                      <a:pt x="13899" y="5"/>
                    </a:cubicBezTo>
                    <a:cubicBezTo>
                      <a:pt x="13899" y="6"/>
                      <a:pt x="13898" y="7"/>
                      <a:pt x="13897" y="7"/>
                    </a:cubicBezTo>
                    <a:lnTo>
                      <a:pt x="13897" y="7"/>
                    </a:lnTo>
                    <a:cubicBezTo>
                      <a:pt x="13896" y="7"/>
                      <a:pt x="13895" y="6"/>
                      <a:pt x="13895" y="5"/>
                    </a:cubicBezTo>
                    <a:cubicBezTo>
                      <a:pt x="13895" y="4"/>
                      <a:pt x="13896" y="3"/>
                      <a:pt x="13897" y="3"/>
                    </a:cubicBezTo>
                    <a:close/>
                    <a:moveTo>
                      <a:pt x="13905" y="3"/>
                    </a:moveTo>
                    <a:lnTo>
                      <a:pt x="13905" y="3"/>
                    </a:lnTo>
                    <a:cubicBezTo>
                      <a:pt x="13906" y="3"/>
                      <a:pt x="13907" y="4"/>
                      <a:pt x="13907" y="5"/>
                    </a:cubicBezTo>
                    <a:cubicBezTo>
                      <a:pt x="13907" y="6"/>
                      <a:pt x="13906" y="7"/>
                      <a:pt x="13905" y="7"/>
                    </a:cubicBezTo>
                    <a:lnTo>
                      <a:pt x="13905" y="7"/>
                    </a:lnTo>
                    <a:cubicBezTo>
                      <a:pt x="13904" y="7"/>
                      <a:pt x="13903" y="6"/>
                      <a:pt x="13903" y="5"/>
                    </a:cubicBezTo>
                    <a:cubicBezTo>
                      <a:pt x="13903" y="4"/>
                      <a:pt x="13904" y="3"/>
                      <a:pt x="13905" y="3"/>
                    </a:cubicBezTo>
                    <a:close/>
                    <a:moveTo>
                      <a:pt x="13913" y="3"/>
                    </a:moveTo>
                    <a:lnTo>
                      <a:pt x="13913" y="3"/>
                    </a:lnTo>
                    <a:cubicBezTo>
                      <a:pt x="13914" y="3"/>
                      <a:pt x="13915" y="4"/>
                      <a:pt x="13915" y="5"/>
                    </a:cubicBezTo>
                    <a:cubicBezTo>
                      <a:pt x="13915" y="6"/>
                      <a:pt x="13914" y="7"/>
                      <a:pt x="13913" y="7"/>
                    </a:cubicBezTo>
                    <a:lnTo>
                      <a:pt x="13913" y="7"/>
                    </a:lnTo>
                    <a:cubicBezTo>
                      <a:pt x="13912" y="7"/>
                      <a:pt x="13911" y="6"/>
                      <a:pt x="13911" y="5"/>
                    </a:cubicBezTo>
                    <a:cubicBezTo>
                      <a:pt x="13911" y="4"/>
                      <a:pt x="13912" y="3"/>
                      <a:pt x="13913" y="3"/>
                    </a:cubicBezTo>
                    <a:close/>
                    <a:moveTo>
                      <a:pt x="13921" y="3"/>
                    </a:moveTo>
                    <a:lnTo>
                      <a:pt x="13921" y="3"/>
                    </a:lnTo>
                    <a:cubicBezTo>
                      <a:pt x="13922" y="3"/>
                      <a:pt x="13923" y="4"/>
                      <a:pt x="13923" y="5"/>
                    </a:cubicBezTo>
                    <a:cubicBezTo>
                      <a:pt x="13923" y="6"/>
                      <a:pt x="13922" y="7"/>
                      <a:pt x="13921" y="7"/>
                    </a:cubicBezTo>
                    <a:lnTo>
                      <a:pt x="13921" y="7"/>
                    </a:lnTo>
                    <a:cubicBezTo>
                      <a:pt x="13920" y="7"/>
                      <a:pt x="13919" y="6"/>
                      <a:pt x="13919" y="5"/>
                    </a:cubicBezTo>
                    <a:cubicBezTo>
                      <a:pt x="13919" y="4"/>
                      <a:pt x="13920" y="3"/>
                      <a:pt x="13921" y="3"/>
                    </a:cubicBezTo>
                    <a:close/>
                    <a:moveTo>
                      <a:pt x="13929" y="3"/>
                    </a:moveTo>
                    <a:lnTo>
                      <a:pt x="13929" y="3"/>
                    </a:lnTo>
                    <a:cubicBezTo>
                      <a:pt x="13930" y="3"/>
                      <a:pt x="13931" y="4"/>
                      <a:pt x="13931" y="5"/>
                    </a:cubicBezTo>
                    <a:cubicBezTo>
                      <a:pt x="13931" y="6"/>
                      <a:pt x="13930" y="7"/>
                      <a:pt x="13929" y="7"/>
                    </a:cubicBezTo>
                    <a:lnTo>
                      <a:pt x="13929" y="7"/>
                    </a:lnTo>
                    <a:cubicBezTo>
                      <a:pt x="13928" y="7"/>
                      <a:pt x="13927" y="6"/>
                      <a:pt x="13927" y="5"/>
                    </a:cubicBezTo>
                    <a:cubicBezTo>
                      <a:pt x="13927" y="4"/>
                      <a:pt x="13928" y="3"/>
                      <a:pt x="13929" y="3"/>
                    </a:cubicBezTo>
                    <a:close/>
                    <a:moveTo>
                      <a:pt x="13937" y="3"/>
                    </a:moveTo>
                    <a:lnTo>
                      <a:pt x="13937" y="3"/>
                    </a:lnTo>
                    <a:cubicBezTo>
                      <a:pt x="13938" y="3"/>
                      <a:pt x="13939" y="4"/>
                      <a:pt x="13939" y="5"/>
                    </a:cubicBezTo>
                    <a:cubicBezTo>
                      <a:pt x="13939" y="6"/>
                      <a:pt x="13938" y="7"/>
                      <a:pt x="13937" y="7"/>
                    </a:cubicBezTo>
                    <a:lnTo>
                      <a:pt x="13937" y="7"/>
                    </a:lnTo>
                    <a:cubicBezTo>
                      <a:pt x="13936" y="7"/>
                      <a:pt x="13935" y="6"/>
                      <a:pt x="13935" y="5"/>
                    </a:cubicBezTo>
                    <a:cubicBezTo>
                      <a:pt x="13935" y="4"/>
                      <a:pt x="13936" y="3"/>
                      <a:pt x="13937" y="3"/>
                    </a:cubicBezTo>
                    <a:close/>
                    <a:moveTo>
                      <a:pt x="13945" y="3"/>
                    </a:moveTo>
                    <a:lnTo>
                      <a:pt x="13945" y="3"/>
                    </a:lnTo>
                    <a:cubicBezTo>
                      <a:pt x="13946" y="3"/>
                      <a:pt x="13947" y="4"/>
                      <a:pt x="13947" y="5"/>
                    </a:cubicBezTo>
                    <a:cubicBezTo>
                      <a:pt x="13947" y="6"/>
                      <a:pt x="13946" y="7"/>
                      <a:pt x="13945" y="7"/>
                    </a:cubicBezTo>
                    <a:lnTo>
                      <a:pt x="13945" y="7"/>
                    </a:lnTo>
                    <a:cubicBezTo>
                      <a:pt x="13944" y="7"/>
                      <a:pt x="13943" y="6"/>
                      <a:pt x="13943" y="5"/>
                    </a:cubicBezTo>
                    <a:cubicBezTo>
                      <a:pt x="13943" y="4"/>
                      <a:pt x="13944" y="3"/>
                      <a:pt x="13945" y="3"/>
                    </a:cubicBezTo>
                    <a:close/>
                    <a:moveTo>
                      <a:pt x="13953" y="3"/>
                    </a:moveTo>
                    <a:lnTo>
                      <a:pt x="13953" y="3"/>
                    </a:lnTo>
                    <a:cubicBezTo>
                      <a:pt x="13954" y="3"/>
                      <a:pt x="13955" y="4"/>
                      <a:pt x="13955" y="5"/>
                    </a:cubicBezTo>
                    <a:cubicBezTo>
                      <a:pt x="13955" y="6"/>
                      <a:pt x="13954" y="7"/>
                      <a:pt x="13953" y="7"/>
                    </a:cubicBezTo>
                    <a:lnTo>
                      <a:pt x="13953" y="7"/>
                    </a:lnTo>
                    <a:cubicBezTo>
                      <a:pt x="13952" y="7"/>
                      <a:pt x="13951" y="6"/>
                      <a:pt x="13951" y="5"/>
                    </a:cubicBezTo>
                    <a:cubicBezTo>
                      <a:pt x="13951" y="4"/>
                      <a:pt x="13952" y="3"/>
                      <a:pt x="13953" y="3"/>
                    </a:cubicBezTo>
                    <a:close/>
                    <a:moveTo>
                      <a:pt x="13961" y="3"/>
                    </a:moveTo>
                    <a:lnTo>
                      <a:pt x="13961" y="3"/>
                    </a:lnTo>
                    <a:cubicBezTo>
                      <a:pt x="13962" y="3"/>
                      <a:pt x="13963" y="4"/>
                      <a:pt x="13963" y="5"/>
                    </a:cubicBezTo>
                    <a:cubicBezTo>
                      <a:pt x="13963" y="6"/>
                      <a:pt x="13962" y="7"/>
                      <a:pt x="13961" y="7"/>
                    </a:cubicBezTo>
                    <a:lnTo>
                      <a:pt x="13961" y="7"/>
                    </a:lnTo>
                    <a:cubicBezTo>
                      <a:pt x="13960" y="7"/>
                      <a:pt x="13959" y="6"/>
                      <a:pt x="13959" y="5"/>
                    </a:cubicBezTo>
                    <a:cubicBezTo>
                      <a:pt x="13959" y="4"/>
                      <a:pt x="13960" y="3"/>
                      <a:pt x="13961" y="3"/>
                    </a:cubicBezTo>
                    <a:close/>
                    <a:moveTo>
                      <a:pt x="13969" y="3"/>
                    </a:moveTo>
                    <a:lnTo>
                      <a:pt x="13969" y="3"/>
                    </a:lnTo>
                    <a:cubicBezTo>
                      <a:pt x="13970" y="3"/>
                      <a:pt x="13971" y="4"/>
                      <a:pt x="13971" y="5"/>
                    </a:cubicBezTo>
                    <a:cubicBezTo>
                      <a:pt x="13971" y="6"/>
                      <a:pt x="13970" y="7"/>
                      <a:pt x="13969" y="7"/>
                    </a:cubicBezTo>
                    <a:lnTo>
                      <a:pt x="13969" y="7"/>
                    </a:lnTo>
                    <a:cubicBezTo>
                      <a:pt x="13968" y="7"/>
                      <a:pt x="13967" y="6"/>
                      <a:pt x="13967" y="5"/>
                    </a:cubicBezTo>
                    <a:cubicBezTo>
                      <a:pt x="13967" y="4"/>
                      <a:pt x="13968" y="3"/>
                      <a:pt x="13969" y="3"/>
                    </a:cubicBezTo>
                    <a:close/>
                    <a:moveTo>
                      <a:pt x="13977" y="3"/>
                    </a:moveTo>
                    <a:lnTo>
                      <a:pt x="13977" y="3"/>
                    </a:lnTo>
                    <a:cubicBezTo>
                      <a:pt x="13978" y="3"/>
                      <a:pt x="13979" y="4"/>
                      <a:pt x="13979" y="5"/>
                    </a:cubicBezTo>
                    <a:cubicBezTo>
                      <a:pt x="13979" y="6"/>
                      <a:pt x="13978" y="7"/>
                      <a:pt x="13977" y="7"/>
                    </a:cubicBezTo>
                    <a:lnTo>
                      <a:pt x="13977" y="7"/>
                    </a:lnTo>
                    <a:cubicBezTo>
                      <a:pt x="13976" y="7"/>
                      <a:pt x="13975" y="6"/>
                      <a:pt x="13975" y="5"/>
                    </a:cubicBezTo>
                    <a:cubicBezTo>
                      <a:pt x="13975" y="4"/>
                      <a:pt x="13976" y="3"/>
                      <a:pt x="13977" y="3"/>
                    </a:cubicBezTo>
                    <a:close/>
                    <a:moveTo>
                      <a:pt x="13985" y="3"/>
                    </a:moveTo>
                    <a:lnTo>
                      <a:pt x="13985" y="3"/>
                    </a:lnTo>
                    <a:cubicBezTo>
                      <a:pt x="13986" y="3"/>
                      <a:pt x="13987" y="4"/>
                      <a:pt x="13987" y="5"/>
                    </a:cubicBezTo>
                    <a:cubicBezTo>
                      <a:pt x="13987" y="6"/>
                      <a:pt x="13986" y="7"/>
                      <a:pt x="13985" y="7"/>
                    </a:cubicBezTo>
                    <a:lnTo>
                      <a:pt x="13985" y="7"/>
                    </a:lnTo>
                    <a:cubicBezTo>
                      <a:pt x="13984" y="7"/>
                      <a:pt x="13983" y="6"/>
                      <a:pt x="13983" y="5"/>
                    </a:cubicBezTo>
                    <a:cubicBezTo>
                      <a:pt x="13983" y="4"/>
                      <a:pt x="13984" y="3"/>
                      <a:pt x="13985" y="3"/>
                    </a:cubicBezTo>
                    <a:close/>
                    <a:moveTo>
                      <a:pt x="13993" y="3"/>
                    </a:moveTo>
                    <a:lnTo>
                      <a:pt x="13993" y="3"/>
                    </a:lnTo>
                    <a:cubicBezTo>
                      <a:pt x="13994" y="3"/>
                      <a:pt x="13995" y="4"/>
                      <a:pt x="13995" y="5"/>
                    </a:cubicBezTo>
                    <a:cubicBezTo>
                      <a:pt x="13995" y="6"/>
                      <a:pt x="13994" y="7"/>
                      <a:pt x="13993" y="7"/>
                    </a:cubicBezTo>
                    <a:lnTo>
                      <a:pt x="13993" y="7"/>
                    </a:lnTo>
                    <a:cubicBezTo>
                      <a:pt x="13992" y="7"/>
                      <a:pt x="13991" y="6"/>
                      <a:pt x="13991" y="5"/>
                    </a:cubicBezTo>
                    <a:cubicBezTo>
                      <a:pt x="13991" y="4"/>
                      <a:pt x="13992" y="3"/>
                      <a:pt x="13993" y="3"/>
                    </a:cubicBezTo>
                    <a:close/>
                    <a:moveTo>
                      <a:pt x="14001" y="3"/>
                    </a:moveTo>
                    <a:lnTo>
                      <a:pt x="14001" y="3"/>
                    </a:lnTo>
                    <a:cubicBezTo>
                      <a:pt x="14002" y="3"/>
                      <a:pt x="14003" y="4"/>
                      <a:pt x="14003" y="5"/>
                    </a:cubicBezTo>
                    <a:cubicBezTo>
                      <a:pt x="14003" y="6"/>
                      <a:pt x="14002" y="7"/>
                      <a:pt x="14001" y="7"/>
                    </a:cubicBezTo>
                    <a:lnTo>
                      <a:pt x="14001" y="7"/>
                    </a:lnTo>
                    <a:cubicBezTo>
                      <a:pt x="14000" y="7"/>
                      <a:pt x="13999" y="6"/>
                      <a:pt x="13999" y="5"/>
                    </a:cubicBezTo>
                    <a:cubicBezTo>
                      <a:pt x="13999" y="4"/>
                      <a:pt x="14000" y="3"/>
                      <a:pt x="14001" y="3"/>
                    </a:cubicBezTo>
                    <a:close/>
                    <a:moveTo>
                      <a:pt x="14009" y="3"/>
                    </a:moveTo>
                    <a:lnTo>
                      <a:pt x="14009" y="3"/>
                    </a:lnTo>
                    <a:cubicBezTo>
                      <a:pt x="14010" y="3"/>
                      <a:pt x="14011" y="4"/>
                      <a:pt x="14011" y="5"/>
                    </a:cubicBezTo>
                    <a:cubicBezTo>
                      <a:pt x="14011" y="6"/>
                      <a:pt x="14010" y="7"/>
                      <a:pt x="14009" y="7"/>
                    </a:cubicBezTo>
                    <a:lnTo>
                      <a:pt x="14009" y="7"/>
                    </a:lnTo>
                    <a:cubicBezTo>
                      <a:pt x="14008" y="7"/>
                      <a:pt x="14007" y="6"/>
                      <a:pt x="14007" y="5"/>
                    </a:cubicBezTo>
                    <a:cubicBezTo>
                      <a:pt x="14007" y="4"/>
                      <a:pt x="14008" y="3"/>
                      <a:pt x="14009" y="3"/>
                    </a:cubicBezTo>
                    <a:close/>
                    <a:moveTo>
                      <a:pt x="14017" y="3"/>
                    </a:moveTo>
                    <a:lnTo>
                      <a:pt x="14017" y="3"/>
                    </a:lnTo>
                    <a:cubicBezTo>
                      <a:pt x="14018" y="3"/>
                      <a:pt x="14019" y="4"/>
                      <a:pt x="14019" y="5"/>
                    </a:cubicBezTo>
                    <a:cubicBezTo>
                      <a:pt x="14019" y="6"/>
                      <a:pt x="14018" y="7"/>
                      <a:pt x="14017" y="7"/>
                    </a:cubicBezTo>
                    <a:lnTo>
                      <a:pt x="14017" y="7"/>
                    </a:lnTo>
                    <a:cubicBezTo>
                      <a:pt x="14016" y="7"/>
                      <a:pt x="14015" y="6"/>
                      <a:pt x="14015" y="5"/>
                    </a:cubicBezTo>
                    <a:cubicBezTo>
                      <a:pt x="14015" y="4"/>
                      <a:pt x="14016" y="3"/>
                      <a:pt x="14017" y="3"/>
                    </a:cubicBezTo>
                    <a:close/>
                    <a:moveTo>
                      <a:pt x="14025" y="3"/>
                    </a:moveTo>
                    <a:lnTo>
                      <a:pt x="14025" y="3"/>
                    </a:lnTo>
                    <a:cubicBezTo>
                      <a:pt x="14026" y="3"/>
                      <a:pt x="14027" y="4"/>
                      <a:pt x="14027" y="5"/>
                    </a:cubicBezTo>
                    <a:cubicBezTo>
                      <a:pt x="14027" y="6"/>
                      <a:pt x="14026" y="7"/>
                      <a:pt x="14025" y="7"/>
                    </a:cubicBezTo>
                    <a:lnTo>
                      <a:pt x="14025" y="7"/>
                    </a:lnTo>
                    <a:cubicBezTo>
                      <a:pt x="14024" y="7"/>
                      <a:pt x="14023" y="6"/>
                      <a:pt x="14023" y="5"/>
                    </a:cubicBezTo>
                    <a:cubicBezTo>
                      <a:pt x="14023" y="4"/>
                      <a:pt x="14024" y="3"/>
                      <a:pt x="14025" y="3"/>
                    </a:cubicBezTo>
                    <a:close/>
                    <a:moveTo>
                      <a:pt x="14033" y="3"/>
                    </a:moveTo>
                    <a:lnTo>
                      <a:pt x="14033" y="3"/>
                    </a:lnTo>
                    <a:cubicBezTo>
                      <a:pt x="14034" y="3"/>
                      <a:pt x="14035" y="4"/>
                      <a:pt x="14035" y="5"/>
                    </a:cubicBezTo>
                    <a:cubicBezTo>
                      <a:pt x="14035" y="6"/>
                      <a:pt x="14034" y="7"/>
                      <a:pt x="14033" y="7"/>
                    </a:cubicBezTo>
                    <a:lnTo>
                      <a:pt x="14033" y="7"/>
                    </a:lnTo>
                    <a:cubicBezTo>
                      <a:pt x="14032" y="7"/>
                      <a:pt x="14031" y="6"/>
                      <a:pt x="14031" y="5"/>
                    </a:cubicBezTo>
                    <a:cubicBezTo>
                      <a:pt x="14031" y="4"/>
                      <a:pt x="14032" y="3"/>
                      <a:pt x="14033" y="3"/>
                    </a:cubicBezTo>
                    <a:close/>
                    <a:moveTo>
                      <a:pt x="14041" y="3"/>
                    </a:moveTo>
                    <a:lnTo>
                      <a:pt x="14041" y="3"/>
                    </a:lnTo>
                    <a:cubicBezTo>
                      <a:pt x="14042" y="3"/>
                      <a:pt x="14043" y="4"/>
                      <a:pt x="14043" y="5"/>
                    </a:cubicBezTo>
                    <a:cubicBezTo>
                      <a:pt x="14043" y="6"/>
                      <a:pt x="14042" y="7"/>
                      <a:pt x="14041" y="7"/>
                    </a:cubicBezTo>
                    <a:lnTo>
                      <a:pt x="14041" y="7"/>
                    </a:lnTo>
                    <a:cubicBezTo>
                      <a:pt x="14040" y="7"/>
                      <a:pt x="14039" y="6"/>
                      <a:pt x="14039" y="5"/>
                    </a:cubicBezTo>
                    <a:cubicBezTo>
                      <a:pt x="14039" y="4"/>
                      <a:pt x="14040" y="3"/>
                      <a:pt x="14041" y="3"/>
                    </a:cubicBezTo>
                    <a:close/>
                    <a:moveTo>
                      <a:pt x="14049" y="3"/>
                    </a:moveTo>
                    <a:lnTo>
                      <a:pt x="14049" y="3"/>
                    </a:lnTo>
                    <a:cubicBezTo>
                      <a:pt x="14050" y="3"/>
                      <a:pt x="14051" y="4"/>
                      <a:pt x="14051" y="5"/>
                    </a:cubicBezTo>
                    <a:cubicBezTo>
                      <a:pt x="14051" y="6"/>
                      <a:pt x="14050" y="7"/>
                      <a:pt x="14049" y="7"/>
                    </a:cubicBezTo>
                    <a:lnTo>
                      <a:pt x="14049" y="7"/>
                    </a:lnTo>
                    <a:cubicBezTo>
                      <a:pt x="14048" y="7"/>
                      <a:pt x="14047" y="6"/>
                      <a:pt x="14047" y="5"/>
                    </a:cubicBezTo>
                    <a:cubicBezTo>
                      <a:pt x="14047" y="4"/>
                      <a:pt x="14048" y="3"/>
                      <a:pt x="14049" y="3"/>
                    </a:cubicBezTo>
                    <a:close/>
                    <a:moveTo>
                      <a:pt x="14057" y="3"/>
                    </a:moveTo>
                    <a:lnTo>
                      <a:pt x="14057" y="3"/>
                    </a:lnTo>
                    <a:cubicBezTo>
                      <a:pt x="14058" y="3"/>
                      <a:pt x="14059" y="4"/>
                      <a:pt x="14059" y="5"/>
                    </a:cubicBezTo>
                    <a:cubicBezTo>
                      <a:pt x="14059" y="6"/>
                      <a:pt x="14058" y="7"/>
                      <a:pt x="14057" y="7"/>
                    </a:cubicBezTo>
                    <a:lnTo>
                      <a:pt x="14057" y="7"/>
                    </a:lnTo>
                    <a:cubicBezTo>
                      <a:pt x="14056" y="7"/>
                      <a:pt x="14055" y="6"/>
                      <a:pt x="14055" y="5"/>
                    </a:cubicBezTo>
                    <a:cubicBezTo>
                      <a:pt x="14055" y="4"/>
                      <a:pt x="14056" y="3"/>
                      <a:pt x="14057" y="3"/>
                    </a:cubicBezTo>
                    <a:close/>
                    <a:moveTo>
                      <a:pt x="14065" y="3"/>
                    </a:moveTo>
                    <a:lnTo>
                      <a:pt x="14065" y="3"/>
                    </a:lnTo>
                    <a:cubicBezTo>
                      <a:pt x="14066" y="3"/>
                      <a:pt x="14067" y="4"/>
                      <a:pt x="14067" y="5"/>
                    </a:cubicBezTo>
                    <a:cubicBezTo>
                      <a:pt x="14067" y="6"/>
                      <a:pt x="14066" y="7"/>
                      <a:pt x="14065" y="7"/>
                    </a:cubicBezTo>
                    <a:lnTo>
                      <a:pt x="14065" y="7"/>
                    </a:lnTo>
                    <a:cubicBezTo>
                      <a:pt x="14064" y="7"/>
                      <a:pt x="14063" y="6"/>
                      <a:pt x="14063" y="5"/>
                    </a:cubicBezTo>
                    <a:cubicBezTo>
                      <a:pt x="14063" y="4"/>
                      <a:pt x="14064" y="3"/>
                      <a:pt x="14065" y="3"/>
                    </a:cubicBezTo>
                    <a:close/>
                    <a:moveTo>
                      <a:pt x="14073" y="3"/>
                    </a:moveTo>
                    <a:lnTo>
                      <a:pt x="14073" y="3"/>
                    </a:lnTo>
                    <a:cubicBezTo>
                      <a:pt x="14074" y="3"/>
                      <a:pt x="14075" y="4"/>
                      <a:pt x="14075" y="5"/>
                    </a:cubicBezTo>
                    <a:cubicBezTo>
                      <a:pt x="14075" y="6"/>
                      <a:pt x="14074" y="7"/>
                      <a:pt x="14073" y="7"/>
                    </a:cubicBezTo>
                    <a:lnTo>
                      <a:pt x="14073" y="7"/>
                    </a:lnTo>
                    <a:cubicBezTo>
                      <a:pt x="14072" y="7"/>
                      <a:pt x="14071" y="6"/>
                      <a:pt x="14071" y="5"/>
                    </a:cubicBezTo>
                    <a:cubicBezTo>
                      <a:pt x="14071" y="4"/>
                      <a:pt x="14072" y="3"/>
                      <a:pt x="14073" y="3"/>
                    </a:cubicBezTo>
                    <a:close/>
                    <a:moveTo>
                      <a:pt x="14081" y="3"/>
                    </a:moveTo>
                    <a:lnTo>
                      <a:pt x="14081" y="3"/>
                    </a:lnTo>
                    <a:cubicBezTo>
                      <a:pt x="14082" y="3"/>
                      <a:pt x="14083" y="4"/>
                      <a:pt x="14083" y="5"/>
                    </a:cubicBezTo>
                    <a:cubicBezTo>
                      <a:pt x="14083" y="6"/>
                      <a:pt x="14082" y="7"/>
                      <a:pt x="14081" y="7"/>
                    </a:cubicBezTo>
                    <a:lnTo>
                      <a:pt x="14081" y="7"/>
                    </a:lnTo>
                    <a:cubicBezTo>
                      <a:pt x="14080" y="7"/>
                      <a:pt x="14079" y="6"/>
                      <a:pt x="14079" y="5"/>
                    </a:cubicBezTo>
                    <a:cubicBezTo>
                      <a:pt x="14079" y="4"/>
                      <a:pt x="14080" y="3"/>
                      <a:pt x="14081" y="3"/>
                    </a:cubicBezTo>
                    <a:close/>
                    <a:moveTo>
                      <a:pt x="14089" y="3"/>
                    </a:moveTo>
                    <a:lnTo>
                      <a:pt x="14089" y="3"/>
                    </a:lnTo>
                    <a:cubicBezTo>
                      <a:pt x="14090" y="3"/>
                      <a:pt x="14091" y="4"/>
                      <a:pt x="14091" y="5"/>
                    </a:cubicBezTo>
                    <a:cubicBezTo>
                      <a:pt x="14091" y="6"/>
                      <a:pt x="14090" y="7"/>
                      <a:pt x="14089" y="7"/>
                    </a:cubicBezTo>
                    <a:lnTo>
                      <a:pt x="14089" y="7"/>
                    </a:lnTo>
                    <a:cubicBezTo>
                      <a:pt x="14088" y="7"/>
                      <a:pt x="14087" y="6"/>
                      <a:pt x="14087" y="5"/>
                    </a:cubicBezTo>
                    <a:cubicBezTo>
                      <a:pt x="14087" y="4"/>
                      <a:pt x="14088" y="3"/>
                      <a:pt x="14089" y="3"/>
                    </a:cubicBezTo>
                    <a:close/>
                    <a:moveTo>
                      <a:pt x="14097" y="3"/>
                    </a:moveTo>
                    <a:lnTo>
                      <a:pt x="14097" y="3"/>
                    </a:lnTo>
                    <a:cubicBezTo>
                      <a:pt x="14098" y="3"/>
                      <a:pt x="14099" y="4"/>
                      <a:pt x="14099" y="5"/>
                    </a:cubicBezTo>
                    <a:cubicBezTo>
                      <a:pt x="14099" y="6"/>
                      <a:pt x="14098" y="7"/>
                      <a:pt x="14097" y="7"/>
                    </a:cubicBezTo>
                    <a:lnTo>
                      <a:pt x="14097" y="7"/>
                    </a:lnTo>
                    <a:cubicBezTo>
                      <a:pt x="14096" y="7"/>
                      <a:pt x="14095" y="6"/>
                      <a:pt x="14095" y="5"/>
                    </a:cubicBezTo>
                    <a:cubicBezTo>
                      <a:pt x="14095" y="4"/>
                      <a:pt x="14096" y="3"/>
                      <a:pt x="14097" y="3"/>
                    </a:cubicBezTo>
                    <a:close/>
                    <a:moveTo>
                      <a:pt x="14105" y="3"/>
                    </a:moveTo>
                    <a:lnTo>
                      <a:pt x="14105" y="3"/>
                    </a:lnTo>
                    <a:cubicBezTo>
                      <a:pt x="14106" y="3"/>
                      <a:pt x="14107" y="4"/>
                      <a:pt x="14107" y="5"/>
                    </a:cubicBezTo>
                    <a:cubicBezTo>
                      <a:pt x="14107" y="6"/>
                      <a:pt x="14106" y="7"/>
                      <a:pt x="14105" y="7"/>
                    </a:cubicBezTo>
                    <a:lnTo>
                      <a:pt x="14105" y="7"/>
                    </a:lnTo>
                    <a:cubicBezTo>
                      <a:pt x="14104" y="7"/>
                      <a:pt x="14103" y="6"/>
                      <a:pt x="14103" y="5"/>
                    </a:cubicBezTo>
                    <a:cubicBezTo>
                      <a:pt x="14103" y="4"/>
                      <a:pt x="14104" y="3"/>
                      <a:pt x="14105" y="3"/>
                    </a:cubicBezTo>
                    <a:close/>
                    <a:moveTo>
                      <a:pt x="14113" y="3"/>
                    </a:moveTo>
                    <a:lnTo>
                      <a:pt x="14113" y="3"/>
                    </a:lnTo>
                    <a:cubicBezTo>
                      <a:pt x="14114" y="3"/>
                      <a:pt x="14115" y="4"/>
                      <a:pt x="14115" y="5"/>
                    </a:cubicBezTo>
                    <a:cubicBezTo>
                      <a:pt x="14115" y="6"/>
                      <a:pt x="14114" y="7"/>
                      <a:pt x="14113" y="7"/>
                    </a:cubicBezTo>
                    <a:lnTo>
                      <a:pt x="14113" y="7"/>
                    </a:lnTo>
                    <a:cubicBezTo>
                      <a:pt x="14112" y="7"/>
                      <a:pt x="14111" y="6"/>
                      <a:pt x="14111" y="5"/>
                    </a:cubicBezTo>
                    <a:cubicBezTo>
                      <a:pt x="14111" y="4"/>
                      <a:pt x="14112" y="3"/>
                      <a:pt x="14113" y="3"/>
                    </a:cubicBezTo>
                    <a:close/>
                    <a:moveTo>
                      <a:pt x="14121" y="3"/>
                    </a:moveTo>
                    <a:lnTo>
                      <a:pt x="14121" y="3"/>
                    </a:lnTo>
                    <a:cubicBezTo>
                      <a:pt x="14122" y="3"/>
                      <a:pt x="14123" y="4"/>
                      <a:pt x="14123" y="5"/>
                    </a:cubicBezTo>
                    <a:cubicBezTo>
                      <a:pt x="14123" y="6"/>
                      <a:pt x="14122" y="7"/>
                      <a:pt x="14121" y="7"/>
                    </a:cubicBezTo>
                    <a:lnTo>
                      <a:pt x="14121" y="7"/>
                    </a:lnTo>
                    <a:cubicBezTo>
                      <a:pt x="14120" y="7"/>
                      <a:pt x="14119" y="6"/>
                      <a:pt x="14119" y="5"/>
                    </a:cubicBezTo>
                    <a:cubicBezTo>
                      <a:pt x="14119" y="4"/>
                      <a:pt x="14120" y="3"/>
                      <a:pt x="14121" y="3"/>
                    </a:cubicBezTo>
                    <a:close/>
                    <a:moveTo>
                      <a:pt x="14129" y="3"/>
                    </a:moveTo>
                    <a:lnTo>
                      <a:pt x="14129" y="3"/>
                    </a:lnTo>
                    <a:cubicBezTo>
                      <a:pt x="14130" y="3"/>
                      <a:pt x="14131" y="4"/>
                      <a:pt x="14131" y="5"/>
                    </a:cubicBezTo>
                    <a:cubicBezTo>
                      <a:pt x="14131" y="6"/>
                      <a:pt x="14130" y="7"/>
                      <a:pt x="14129" y="7"/>
                    </a:cubicBezTo>
                    <a:lnTo>
                      <a:pt x="14129" y="7"/>
                    </a:lnTo>
                    <a:cubicBezTo>
                      <a:pt x="14128" y="7"/>
                      <a:pt x="14127" y="6"/>
                      <a:pt x="14127" y="5"/>
                    </a:cubicBezTo>
                    <a:cubicBezTo>
                      <a:pt x="14127" y="4"/>
                      <a:pt x="14128" y="3"/>
                      <a:pt x="14129" y="3"/>
                    </a:cubicBezTo>
                    <a:close/>
                    <a:moveTo>
                      <a:pt x="14137" y="3"/>
                    </a:moveTo>
                    <a:lnTo>
                      <a:pt x="14137" y="3"/>
                    </a:lnTo>
                    <a:cubicBezTo>
                      <a:pt x="14138" y="3"/>
                      <a:pt x="14139" y="4"/>
                      <a:pt x="14139" y="5"/>
                    </a:cubicBezTo>
                    <a:cubicBezTo>
                      <a:pt x="14139" y="6"/>
                      <a:pt x="14138" y="7"/>
                      <a:pt x="14137" y="7"/>
                    </a:cubicBezTo>
                    <a:lnTo>
                      <a:pt x="14137" y="7"/>
                    </a:lnTo>
                    <a:cubicBezTo>
                      <a:pt x="14136" y="7"/>
                      <a:pt x="14135" y="6"/>
                      <a:pt x="14135" y="5"/>
                    </a:cubicBezTo>
                    <a:cubicBezTo>
                      <a:pt x="14135" y="4"/>
                      <a:pt x="14136" y="3"/>
                      <a:pt x="14137" y="3"/>
                    </a:cubicBezTo>
                    <a:close/>
                    <a:moveTo>
                      <a:pt x="14145" y="3"/>
                    </a:moveTo>
                    <a:lnTo>
                      <a:pt x="14145" y="3"/>
                    </a:lnTo>
                    <a:cubicBezTo>
                      <a:pt x="14146" y="3"/>
                      <a:pt x="14147" y="4"/>
                      <a:pt x="14147" y="5"/>
                    </a:cubicBezTo>
                    <a:cubicBezTo>
                      <a:pt x="14147" y="6"/>
                      <a:pt x="14146" y="7"/>
                      <a:pt x="14145" y="7"/>
                    </a:cubicBezTo>
                    <a:lnTo>
                      <a:pt x="14145" y="7"/>
                    </a:lnTo>
                    <a:cubicBezTo>
                      <a:pt x="14144" y="7"/>
                      <a:pt x="14143" y="6"/>
                      <a:pt x="14143" y="5"/>
                    </a:cubicBezTo>
                    <a:cubicBezTo>
                      <a:pt x="14143" y="4"/>
                      <a:pt x="14144" y="3"/>
                      <a:pt x="14145" y="3"/>
                    </a:cubicBezTo>
                    <a:close/>
                    <a:moveTo>
                      <a:pt x="14153" y="3"/>
                    </a:moveTo>
                    <a:lnTo>
                      <a:pt x="14153" y="3"/>
                    </a:lnTo>
                    <a:cubicBezTo>
                      <a:pt x="14154" y="3"/>
                      <a:pt x="14155" y="4"/>
                      <a:pt x="14155" y="5"/>
                    </a:cubicBezTo>
                    <a:cubicBezTo>
                      <a:pt x="14155" y="6"/>
                      <a:pt x="14154" y="7"/>
                      <a:pt x="14153" y="7"/>
                    </a:cubicBezTo>
                    <a:lnTo>
                      <a:pt x="14153" y="7"/>
                    </a:lnTo>
                    <a:cubicBezTo>
                      <a:pt x="14152" y="7"/>
                      <a:pt x="14151" y="6"/>
                      <a:pt x="14151" y="5"/>
                    </a:cubicBezTo>
                    <a:cubicBezTo>
                      <a:pt x="14151" y="4"/>
                      <a:pt x="14152" y="3"/>
                      <a:pt x="14153" y="3"/>
                    </a:cubicBezTo>
                    <a:close/>
                    <a:moveTo>
                      <a:pt x="14161" y="3"/>
                    </a:moveTo>
                    <a:lnTo>
                      <a:pt x="14161" y="3"/>
                    </a:lnTo>
                    <a:cubicBezTo>
                      <a:pt x="14162" y="3"/>
                      <a:pt x="14163" y="4"/>
                      <a:pt x="14163" y="5"/>
                    </a:cubicBezTo>
                    <a:cubicBezTo>
                      <a:pt x="14163" y="6"/>
                      <a:pt x="14162" y="7"/>
                      <a:pt x="14161" y="7"/>
                    </a:cubicBezTo>
                    <a:lnTo>
                      <a:pt x="14161" y="7"/>
                    </a:lnTo>
                    <a:cubicBezTo>
                      <a:pt x="14160" y="7"/>
                      <a:pt x="14159" y="6"/>
                      <a:pt x="14159" y="5"/>
                    </a:cubicBezTo>
                    <a:cubicBezTo>
                      <a:pt x="14159" y="4"/>
                      <a:pt x="14160" y="3"/>
                      <a:pt x="14161" y="3"/>
                    </a:cubicBezTo>
                    <a:close/>
                    <a:moveTo>
                      <a:pt x="14169" y="3"/>
                    </a:moveTo>
                    <a:lnTo>
                      <a:pt x="14169" y="3"/>
                    </a:lnTo>
                    <a:cubicBezTo>
                      <a:pt x="14171" y="3"/>
                      <a:pt x="14171" y="4"/>
                      <a:pt x="14171" y="5"/>
                    </a:cubicBezTo>
                    <a:cubicBezTo>
                      <a:pt x="14171" y="6"/>
                      <a:pt x="14171" y="7"/>
                      <a:pt x="14169" y="7"/>
                    </a:cubicBezTo>
                    <a:lnTo>
                      <a:pt x="14169" y="7"/>
                    </a:lnTo>
                    <a:cubicBezTo>
                      <a:pt x="14168" y="7"/>
                      <a:pt x="14167" y="6"/>
                      <a:pt x="14167" y="5"/>
                    </a:cubicBezTo>
                    <a:cubicBezTo>
                      <a:pt x="14167" y="4"/>
                      <a:pt x="14168" y="3"/>
                      <a:pt x="14169" y="3"/>
                    </a:cubicBezTo>
                    <a:close/>
                    <a:moveTo>
                      <a:pt x="14177" y="3"/>
                    </a:moveTo>
                    <a:lnTo>
                      <a:pt x="14177" y="3"/>
                    </a:lnTo>
                    <a:cubicBezTo>
                      <a:pt x="14179" y="3"/>
                      <a:pt x="14179" y="4"/>
                      <a:pt x="14179" y="5"/>
                    </a:cubicBezTo>
                    <a:cubicBezTo>
                      <a:pt x="14179" y="6"/>
                      <a:pt x="14179" y="7"/>
                      <a:pt x="14177" y="7"/>
                    </a:cubicBezTo>
                    <a:lnTo>
                      <a:pt x="14177" y="7"/>
                    </a:lnTo>
                    <a:cubicBezTo>
                      <a:pt x="14176" y="7"/>
                      <a:pt x="14175" y="6"/>
                      <a:pt x="14175" y="5"/>
                    </a:cubicBezTo>
                    <a:cubicBezTo>
                      <a:pt x="14175" y="4"/>
                      <a:pt x="14176" y="3"/>
                      <a:pt x="14177" y="3"/>
                    </a:cubicBezTo>
                    <a:close/>
                    <a:moveTo>
                      <a:pt x="14185" y="3"/>
                    </a:moveTo>
                    <a:lnTo>
                      <a:pt x="14185" y="3"/>
                    </a:lnTo>
                    <a:cubicBezTo>
                      <a:pt x="14187" y="3"/>
                      <a:pt x="14187" y="4"/>
                      <a:pt x="14187" y="5"/>
                    </a:cubicBezTo>
                    <a:cubicBezTo>
                      <a:pt x="14187" y="6"/>
                      <a:pt x="14187" y="7"/>
                      <a:pt x="14185" y="7"/>
                    </a:cubicBezTo>
                    <a:lnTo>
                      <a:pt x="14185" y="7"/>
                    </a:lnTo>
                    <a:cubicBezTo>
                      <a:pt x="14184" y="7"/>
                      <a:pt x="14183" y="6"/>
                      <a:pt x="14183" y="5"/>
                    </a:cubicBezTo>
                    <a:cubicBezTo>
                      <a:pt x="14183" y="4"/>
                      <a:pt x="14184" y="3"/>
                      <a:pt x="14185" y="3"/>
                    </a:cubicBezTo>
                    <a:close/>
                    <a:moveTo>
                      <a:pt x="14193" y="3"/>
                    </a:moveTo>
                    <a:lnTo>
                      <a:pt x="14193" y="3"/>
                    </a:lnTo>
                    <a:cubicBezTo>
                      <a:pt x="14195" y="3"/>
                      <a:pt x="14195" y="4"/>
                      <a:pt x="14195" y="5"/>
                    </a:cubicBezTo>
                    <a:cubicBezTo>
                      <a:pt x="14195" y="6"/>
                      <a:pt x="14195" y="7"/>
                      <a:pt x="14193" y="7"/>
                    </a:cubicBezTo>
                    <a:lnTo>
                      <a:pt x="14193" y="7"/>
                    </a:lnTo>
                    <a:cubicBezTo>
                      <a:pt x="14192" y="7"/>
                      <a:pt x="14191" y="6"/>
                      <a:pt x="14191" y="5"/>
                    </a:cubicBezTo>
                    <a:cubicBezTo>
                      <a:pt x="14191" y="4"/>
                      <a:pt x="14192" y="3"/>
                      <a:pt x="14193" y="3"/>
                    </a:cubicBezTo>
                    <a:close/>
                    <a:moveTo>
                      <a:pt x="14201" y="3"/>
                    </a:moveTo>
                    <a:lnTo>
                      <a:pt x="14201" y="3"/>
                    </a:lnTo>
                    <a:cubicBezTo>
                      <a:pt x="14203" y="3"/>
                      <a:pt x="14203" y="4"/>
                      <a:pt x="14203" y="5"/>
                    </a:cubicBezTo>
                    <a:cubicBezTo>
                      <a:pt x="14203" y="6"/>
                      <a:pt x="14203" y="7"/>
                      <a:pt x="14201" y="7"/>
                    </a:cubicBezTo>
                    <a:lnTo>
                      <a:pt x="14201" y="7"/>
                    </a:lnTo>
                    <a:cubicBezTo>
                      <a:pt x="14200" y="7"/>
                      <a:pt x="14199" y="6"/>
                      <a:pt x="14199" y="5"/>
                    </a:cubicBezTo>
                    <a:cubicBezTo>
                      <a:pt x="14199" y="4"/>
                      <a:pt x="14200" y="3"/>
                      <a:pt x="14201" y="3"/>
                    </a:cubicBezTo>
                    <a:close/>
                    <a:moveTo>
                      <a:pt x="14209" y="3"/>
                    </a:moveTo>
                    <a:lnTo>
                      <a:pt x="14209" y="3"/>
                    </a:lnTo>
                    <a:cubicBezTo>
                      <a:pt x="14211" y="3"/>
                      <a:pt x="14211" y="4"/>
                      <a:pt x="14211" y="5"/>
                    </a:cubicBezTo>
                    <a:cubicBezTo>
                      <a:pt x="14211" y="6"/>
                      <a:pt x="14211" y="7"/>
                      <a:pt x="14209" y="7"/>
                    </a:cubicBezTo>
                    <a:lnTo>
                      <a:pt x="14209" y="7"/>
                    </a:lnTo>
                    <a:cubicBezTo>
                      <a:pt x="14208" y="7"/>
                      <a:pt x="14207" y="6"/>
                      <a:pt x="14207" y="5"/>
                    </a:cubicBezTo>
                    <a:cubicBezTo>
                      <a:pt x="14207" y="4"/>
                      <a:pt x="14208" y="3"/>
                      <a:pt x="14209" y="3"/>
                    </a:cubicBezTo>
                    <a:close/>
                    <a:moveTo>
                      <a:pt x="14217" y="3"/>
                    </a:moveTo>
                    <a:lnTo>
                      <a:pt x="14217" y="3"/>
                    </a:lnTo>
                    <a:cubicBezTo>
                      <a:pt x="14219" y="3"/>
                      <a:pt x="14219" y="4"/>
                      <a:pt x="14219" y="5"/>
                    </a:cubicBezTo>
                    <a:cubicBezTo>
                      <a:pt x="14219" y="6"/>
                      <a:pt x="14219" y="7"/>
                      <a:pt x="14217" y="7"/>
                    </a:cubicBezTo>
                    <a:lnTo>
                      <a:pt x="14217" y="7"/>
                    </a:lnTo>
                    <a:cubicBezTo>
                      <a:pt x="14216" y="7"/>
                      <a:pt x="14215" y="6"/>
                      <a:pt x="14215" y="5"/>
                    </a:cubicBezTo>
                    <a:cubicBezTo>
                      <a:pt x="14215" y="4"/>
                      <a:pt x="14216" y="3"/>
                      <a:pt x="14217" y="3"/>
                    </a:cubicBezTo>
                    <a:close/>
                    <a:moveTo>
                      <a:pt x="14225" y="3"/>
                    </a:moveTo>
                    <a:lnTo>
                      <a:pt x="14225" y="3"/>
                    </a:lnTo>
                    <a:cubicBezTo>
                      <a:pt x="14227" y="3"/>
                      <a:pt x="14227" y="4"/>
                      <a:pt x="14227" y="5"/>
                    </a:cubicBezTo>
                    <a:cubicBezTo>
                      <a:pt x="14227" y="6"/>
                      <a:pt x="14227" y="7"/>
                      <a:pt x="14225" y="7"/>
                    </a:cubicBezTo>
                    <a:lnTo>
                      <a:pt x="14225" y="7"/>
                    </a:lnTo>
                    <a:cubicBezTo>
                      <a:pt x="14224" y="7"/>
                      <a:pt x="14223" y="6"/>
                      <a:pt x="14223" y="5"/>
                    </a:cubicBezTo>
                    <a:cubicBezTo>
                      <a:pt x="14223" y="4"/>
                      <a:pt x="14224" y="3"/>
                      <a:pt x="14225" y="3"/>
                    </a:cubicBezTo>
                    <a:close/>
                    <a:moveTo>
                      <a:pt x="14233" y="3"/>
                    </a:moveTo>
                    <a:lnTo>
                      <a:pt x="14233" y="3"/>
                    </a:lnTo>
                    <a:cubicBezTo>
                      <a:pt x="14235" y="3"/>
                      <a:pt x="14235" y="4"/>
                      <a:pt x="14235" y="5"/>
                    </a:cubicBezTo>
                    <a:cubicBezTo>
                      <a:pt x="14235" y="6"/>
                      <a:pt x="14235" y="7"/>
                      <a:pt x="14233" y="7"/>
                    </a:cubicBezTo>
                    <a:lnTo>
                      <a:pt x="14233" y="7"/>
                    </a:lnTo>
                    <a:cubicBezTo>
                      <a:pt x="14232" y="7"/>
                      <a:pt x="14231" y="6"/>
                      <a:pt x="14231" y="5"/>
                    </a:cubicBezTo>
                    <a:cubicBezTo>
                      <a:pt x="14231" y="4"/>
                      <a:pt x="14232" y="3"/>
                      <a:pt x="14233" y="3"/>
                    </a:cubicBezTo>
                    <a:close/>
                    <a:moveTo>
                      <a:pt x="14241" y="3"/>
                    </a:moveTo>
                    <a:lnTo>
                      <a:pt x="14241" y="3"/>
                    </a:lnTo>
                    <a:cubicBezTo>
                      <a:pt x="14243" y="3"/>
                      <a:pt x="14243" y="4"/>
                      <a:pt x="14243" y="5"/>
                    </a:cubicBezTo>
                    <a:cubicBezTo>
                      <a:pt x="14243" y="6"/>
                      <a:pt x="14243" y="7"/>
                      <a:pt x="14241" y="7"/>
                    </a:cubicBezTo>
                    <a:lnTo>
                      <a:pt x="14241" y="7"/>
                    </a:lnTo>
                    <a:cubicBezTo>
                      <a:pt x="14240" y="7"/>
                      <a:pt x="14239" y="6"/>
                      <a:pt x="14239" y="5"/>
                    </a:cubicBezTo>
                    <a:cubicBezTo>
                      <a:pt x="14239" y="4"/>
                      <a:pt x="14240" y="3"/>
                      <a:pt x="14241" y="3"/>
                    </a:cubicBezTo>
                    <a:close/>
                    <a:moveTo>
                      <a:pt x="14249" y="3"/>
                    </a:moveTo>
                    <a:lnTo>
                      <a:pt x="14249" y="3"/>
                    </a:lnTo>
                    <a:cubicBezTo>
                      <a:pt x="14251" y="3"/>
                      <a:pt x="14251" y="4"/>
                      <a:pt x="14251" y="5"/>
                    </a:cubicBezTo>
                    <a:cubicBezTo>
                      <a:pt x="14251" y="6"/>
                      <a:pt x="14251" y="7"/>
                      <a:pt x="14249" y="7"/>
                    </a:cubicBezTo>
                    <a:lnTo>
                      <a:pt x="14249" y="7"/>
                    </a:lnTo>
                    <a:cubicBezTo>
                      <a:pt x="14248" y="7"/>
                      <a:pt x="14247" y="6"/>
                      <a:pt x="14247" y="5"/>
                    </a:cubicBezTo>
                    <a:cubicBezTo>
                      <a:pt x="14247" y="4"/>
                      <a:pt x="14248" y="3"/>
                      <a:pt x="14249" y="3"/>
                    </a:cubicBezTo>
                    <a:close/>
                    <a:moveTo>
                      <a:pt x="14257" y="3"/>
                    </a:moveTo>
                    <a:lnTo>
                      <a:pt x="14257" y="3"/>
                    </a:lnTo>
                    <a:cubicBezTo>
                      <a:pt x="14259" y="3"/>
                      <a:pt x="14259" y="4"/>
                      <a:pt x="14259" y="5"/>
                    </a:cubicBezTo>
                    <a:cubicBezTo>
                      <a:pt x="14259" y="6"/>
                      <a:pt x="14259" y="7"/>
                      <a:pt x="14257" y="7"/>
                    </a:cubicBezTo>
                    <a:lnTo>
                      <a:pt x="14257" y="7"/>
                    </a:lnTo>
                    <a:cubicBezTo>
                      <a:pt x="14256" y="7"/>
                      <a:pt x="14255" y="6"/>
                      <a:pt x="14255" y="5"/>
                    </a:cubicBezTo>
                    <a:cubicBezTo>
                      <a:pt x="14255" y="4"/>
                      <a:pt x="14256" y="3"/>
                      <a:pt x="14257" y="3"/>
                    </a:cubicBezTo>
                    <a:close/>
                    <a:moveTo>
                      <a:pt x="14265" y="3"/>
                    </a:moveTo>
                    <a:lnTo>
                      <a:pt x="14265" y="3"/>
                    </a:lnTo>
                    <a:cubicBezTo>
                      <a:pt x="14267" y="3"/>
                      <a:pt x="14267" y="4"/>
                      <a:pt x="14267" y="5"/>
                    </a:cubicBezTo>
                    <a:cubicBezTo>
                      <a:pt x="14267" y="6"/>
                      <a:pt x="14267" y="7"/>
                      <a:pt x="14265" y="7"/>
                    </a:cubicBezTo>
                    <a:lnTo>
                      <a:pt x="14265" y="7"/>
                    </a:lnTo>
                    <a:cubicBezTo>
                      <a:pt x="14264" y="7"/>
                      <a:pt x="14263" y="6"/>
                      <a:pt x="14263" y="5"/>
                    </a:cubicBezTo>
                    <a:cubicBezTo>
                      <a:pt x="14263" y="4"/>
                      <a:pt x="14264" y="3"/>
                      <a:pt x="14265" y="3"/>
                    </a:cubicBezTo>
                    <a:close/>
                    <a:moveTo>
                      <a:pt x="14273" y="3"/>
                    </a:moveTo>
                    <a:lnTo>
                      <a:pt x="14273" y="3"/>
                    </a:lnTo>
                    <a:cubicBezTo>
                      <a:pt x="14275" y="3"/>
                      <a:pt x="14275" y="4"/>
                      <a:pt x="14275" y="5"/>
                    </a:cubicBezTo>
                    <a:cubicBezTo>
                      <a:pt x="14275" y="6"/>
                      <a:pt x="14275" y="7"/>
                      <a:pt x="14273" y="7"/>
                    </a:cubicBezTo>
                    <a:lnTo>
                      <a:pt x="14273" y="7"/>
                    </a:lnTo>
                    <a:cubicBezTo>
                      <a:pt x="14272" y="7"/>
                      <a:pt x="14271" y="6"/>
                      <a:pt x="14271" y="5"/>
                    </a:cubicBezTo>
                    <a:cubicBezTo>
                      <a:pt x="14271" y="4"/>
                      <a:pt x="14272" y="3"/>
                      <a:pt x="14273" y="3"/>
                    </a:cubicBezTo>
                    <a:close/>
                    <a:moveTo>
                      <a:pt x="14281" y="3"/>
                    </a:moveTo>
                    <a:lnTo>
                      <a:pt x="14281" y="3"/>
                    </a:lnTo>
                    <a:cubicBezTo>
                      <a:pt x="14283" y="3"/>
                      <a:pt x="14283" y="4"/>
                      <a:pt x="14283" y="5"/>
                    </a:cubicBezTo>
                    <a:cubicBezTo>
                      <a:pt x="14283" y="6"/>
                      <a:pt x="14283" y="7"/>
                      <a:pt x="14281" y="7"/>
                    </a:cubicBezTo>
                    <a:lnTo>
                      <a:pt x="14281" y="7"/>
                    </a:lnTo>
                    <a:cubicBezTo>
                      <a:pt x="14280" y="7"/>
                      <a:pt x="14279" y="6"/>
                      <a:pt x="14279" y="5"/>
                    </a:cubicBezTo>
                    <a:cubicBezTo>
                      <a:pt x="14279" y="4"/>
                      <a:pt x="14280" y="3"/>
                      <a:pt x="14281" y="3"/>
                    </a:cubicBezTo>
                    <a:close/>
                    <a:moveTo>
                      <a:pt x="14289" y="3"/>
                    </a:moveTo>
                    <a:lnTo>
                      <a:pt x="14289" y="3"/>
                    </a:lnTo>
                    <a:cubicBezTo>
                      <a:pt x="14291" y="3"/>
                      <a:pt x="14291" y="4"/>
                      <a:pt x="14291" y="5"/>
                    </a:cubicBezTo>
                    <a:cubicBezTo>
                      <a:pt x="14291" y="6"/>
                      <a:pt x="14291" y="7"/>
                      <a:pt x="14289" y="7"/>
                    </a:cubicBezTo>
                    <a:lnTo>
                      <a:pt x="14289" y="7"/>
                    </a:lnTo>
                    <a:cubicBezTo>
                      <a:pt x="14288" y="7"/>
                      <a:pt x="14287" y="6"/>
                      <a:pt x="14287" y="5"/>
                    </a:cubicBezTo>
                    <a:cubicBezTo>
                      <a:pt x="14287" y="4"/>
                      <a:pt x="14288" y="3"/>
                      <a:pt x="14289" y="3"/>
                    </a:cubicBezTo>
                    <a:close/>
                    <a:moveTo>
                      <a:pt x="14297" y="3"/>
                    </a:moveTo>
                    <a:lnTo>
                      <a:pt x="14297" y="3"/>
                    </a:lnTo>
                    <a:cubicBezTo>
                      <a:pt x="14299" y="3"/>
                      <a:pt x="14299" y="4"/>
                      <a:pt x="14299" y="5"/>
                    </a:cubicBezTo>
                    <a:cubicBezTo>
                      <a:pt x="14299" y="6"/>
                      <a:pt x="14299" y="7"/>
                      <a:pt x="14297" y="7"/>
                    </a:cubicBezTo>
                    <a:lnTo>
                      <a:pt x="14297" y="7"/>
                    </a:lnTo>
                    <a:cubicBezTo>
                      <a:pt x="14296" y="7"/>
                      <a:pt x="14295" y="6"/>
                      <a:pt x="14295" y="5"/>
                    </a:cubicBezTo>
                    <a:cubicBezTo>
                      <a:pt x="14295" y="4"/>
                      <a:pt x="14296" y="3"/>
                      <a:pt x="14297" y="3"/>
                    </a:cubicBezTo>
                    <a:close/>
                    <a:moveTo>
                      <a:pt x="14305" y="3"/>
                    </a:moveTo>
                    <a:lnTo>
                      <a:pt x="14306" y="3"/>
                    </a:lnTo>
                    <a:cubicBezTo>
                      <a:pt x="14307" y="3"/>
                      <a:pt x="14308" y="4"/>
                      <a:pt x="14308" y="5"/>
                    </a:cubicBezTo>
                    <a:cubicBezTo>
                      <a:pt x="14308" y="6"/>
                      <a:pt x="14307" y="7"/>
                      <a:pt x="14306" y="7"/>
                    </a:cubicBezTo>
                    <a:lnTo>
                      <a:pt x="14305" y="7"/>
                    </a:lnTo>
                    <a:cubicBezTo>
                      <a:pt x="14304" y="7"/>
                      <a:pt x="14303" y="6"/>
                      <a:pt x="14303" y="5"/>
                    </a:cubicBezTo>
                    <a:cubicBezTo>
                      <a:pt x="14303" y="4"/>
                      <a:pt x="14304" y="3"/>
                      <a:pt x="14305" y="3"/>
                    </a:cubicBezTo>
                    <a:close/>
                    <a:moveTo>
                      <a:pt x="14314" y="3"/>
                    </a:moveTo>
                    <a:lnTo>
                      <a:pt x="14314" y="3"/>
                    </a:lnTo>
                    <a:cubicBezTo>
                      <a:pt x="14315" y="3"/>
                      <a:pt x="14316" y="4"/>
                      <a:pt x="14316" y="5"/>
                    </a:cubicBezTo>
                    <a:cubicBezTo>
                      <a:pt x="14316" y="6"/>
                      <a:pt x="14315" y="7"/>
                      <a:pt x="14314" y="7"/>
                    </a:cubicBezTo>
                    <a:lnTo>
                      <a:pt x="14314" y="7"/>
                    </a:lnTo>
                    <a:cubicBezTo>
                      <a:pt x="14312" y="7"/>
                      <a:pt x="14312" y="6"/>
                      <a:pt x="14312" y="5"/>
                    </a:cubicBezTo>
                    <a:cubicBezTo>
                      <a:pt x="14312" y="4"/>
                      <a:pt x="14312" y="3"/>
                      <a:pt x="14314" y="3"/>
                    </a:cubicBezTo>
                    <a:close/>
                    <a:moveTo>
                      <a:pt x="14322" y="3"/>
                    </a:moveTo>
                    <a:lnTo>
                      <a:pt x="14322" y="3"/>
                    </a:lnTo>
                    <a:cubicBezTo>
                      <a:pt x="14323" y="3"/>
                      <a:pt x="14324" y="4"/>
                      <a:pt x="14324" y="5"/>
                    </a:cubicBezTo>
                    <a:cubicBezTo>
                      <a:pt x="14324" y="6"/>
                      <a:pt x="14323" y="7"/>
                      <a:pt x="14322" y="7"/>
                    </a:cubicBezTo>
                    <a:lnTo>
                      <a:pt x="14322" y="7"/>
                    </a:lnTo>
                    <a:cubicBezTo>
                      <a:pt x="14320" y="7"/>
                      <a:pt x="14320" y="6"/>
                      <a:pt x="14320" y="5"/>
                    </a:cubicBezTo>
                    <a:cubicBezTo>
                      <a:pt x="14320" y="4"/>
                      <a:pt x="14320" y="3"/>
                      <a:pt x="14322" y="3"/>
                    </a:cubicBezTo>
                    <a:close/>
                    <a:moveTo>
                      <a:pt x="14330" y="3"/>
                    </a:moveTo>
                    <a:lnTo>
                      <a:pt x="14330" y="3"/>
                    </a:lnTo>
                    <a:cubicBezTo>
                      <a:pt x="14331" y="3"/>
                      <a:pt x="14332" y="4"/>
                      <a:pt x="14332" y="5"/>
                    </a:cubicBezTo>
                    <a:cubicBezTo>
                      <a:pt x="14332" y="6"/>
                      <a:pt x="14331" y="7"/>
                      <a:pt x="14330" y="7"/>
                    </a:cubicBezTo>
                    <a:lnTo>
                      <a:pt x="14330" y="7"/>
                    </a:lnTo>
                    <a:cubicBezTo>
                      <a:pt x="14328" y="7"/>
                      <a:pt x="14328" y="6"/>
                      <a:pt x="14328" y="5"/>
                    </a:cubicBezTo>
                    <a:cubicBezTo>
                      <a:pt x="14328" y="4"/>
                      <a:pt x="14328" y="3"/>
                      <a:pt x="14330" y="3"/>
                    </a:cubicBezTo>
                    <a:close/>
                    <a:moveTo>
                      <a:pt x="14338" y="3"/>
                    </a:moveTo>
                    <a:lnTo>
                      <a:pt x="14338" y="3"/>
                    </a:lnTo>
                    <a:cubicBezTo>
                      <a:pt x="14339" y="3"/>
                      <a:pt x="14340" y="4"/>
                      <a:pt x="14340" y="5"/>
                    </a:cubicBezTo>
                    <a:cubicBezTo>
                      <a:pt x="14340" y="6"/>
                      <a:pt x="14339" y="7"/>
                      <a:pt x="14338" y="7"/>
                    </a:cubicBezTo>
                    <a:lnTo>
                      <a:pt x="14338" y="7"/>
                    </a:lnTo>
                    <a:cubicBezTo>
                      <a:pt x="14336" y="7"/>
                      <a:pt x="14336" y="6"/>
                      <a:pt x="14336" y="5"/>
                    </a:cubicBezTo>
                    <a:cubicBezTo>
                      <a:pt x="14336" y="4"/>
                      <a:pt x="14336" y="3"/>
                      <a:pt x="14338" y="3"/>
                    </a:cubicBezTo>
                    <a:close/>
                    <a:moveTo>
                      <a:pt x="14346" y="3"/>
                    </a:moveTo>
                    <a:lnTo>
                      <a:pt x="14346" y="3"/>
                    </a:lnTo>
                    <a:cubicBezTo>
                      <a:pt x="14347" y="3"/>
                      <a:pt x="14348" y="4"/>
                      <a:pt x="14348" y="5"/>
                    </a:cubicBezTo>
                    <a:cubicBezTo>
                      <a:pt x="14348" y="6"/>
                      <a:pt x="14347" y="7"/>
                      <a:pt x="14346" y="7"/>
                    </a:cubicBezTo>
                    <a:lnTo>
                      <a:pt x="14346" y="7"/>
                    </a:lnTo>
                    <a:cubicBezTo>
                      <a:pt x="14344" y="7"/>
                      <a:pt x="14344" y="6"/>
                      <a:pt x="14344" y="5"/>
                    </a:cubicBezTo>
                    <a:cubicBezTo>
                      <a:pt x="14344" y="4"/>
                      <a:pt x="14344" y="3"/>
                      <a:pt x="14346" y="3"/>
                    </a:cubicBezTo>
                    <a:close/>
                    <a:moveTo>
                      <a:pt x="14354" y="3"/>
                    </a:moveTo>
                    <a:lnTo>
                      <a:pt x="14354" y="3"/>
                    </a:lnTo>
                    <a:cubicBezTo>
                      <a:pt x="14355" y="3"/>
                      <a:pt x="14356" y="4"/>
                      <a:pt x="14356" y="5"/>
                    </a:cubicBezTo>
                    <a:cubicBezTo>
                      <a:pt x="14356" y="6"/>
                      <a:pt x="14355" y="7"/>
                      <a:pt x="14354" y="7"/>
                    </a:cubicBezTo>
                    <a:lnTo>
                      <a:pt x="14354" y="7"/>
                    </a:lnTo>
                    <a:cubicBezTo>
                      <a:pt x="14352" y="7"/>
                      <a:pt x="14352" y="6"/>
                      <a:pt x="14352" y="5"/>
                    </a:cubicBezTo>
                    <a:cubicBezTo>
                      <a:pt x="14352" y="4"/>
                      <a:pt x="14352" y="3"/>
                      <a:pt x="14354" y="3"/>
                    </a:cubicBezTo>
                    <a:close/>
                    <a:moveTo>
                      <a:pt x="14362" y="3"/>
                    </a:moveTo>
                    <a:lnTo>
                      <a:pt x="14362" y="3"/>
                    </a:lnTo>
                    <a:cubicBezTo>
                      <a:pt x="14363" y="3"/>
                      <a:pt x="14364" y="4"/>
                      <a:pt x="14364" y="5"/>
                    </a:cubicBezTo>
                    <a:cubicBezTo>
                      <a:pt x="14364" y="6"/>
                      <a:pt x="14363" y="7"/>
                      <a:pt x="14362" y="7"/>
                    </a:cubicBezTo>
                    <a:lnTo>
                      <a:pt x="14362" y="7"/>
                    </a:lnTo>
                    <a:cubicBezTo>
                      <a:pt x="14360" y="7"/>
                      <a:pt x="14360" y="6"/>
                      <a:pt x="14360" y="5"/>
                    </a:cubicBezTo>
                    <a:cubicBezTo>
                      <a:pt x="14360" y="4"/>
                      <a:pt x="14360" y="3"/>
                      <a:pt x="14362" y="3"/>
                    </a:cubicBezTo>
                    <a:close/>
                    <a:moveTo>
                      <a:pt x="14370" y="3"/>
                    </a:moveTo>
                    <a:lnTo>
                      <a:pt x="14370" y="3"/>
                    </a:lnTo>
                    <a:cubicBezTo>
                      <a:pt x="14371" y="3"/>
                      <a:pt x="14372" y="4"/>
                      <a:pt x="14372" y="5"/>
                    </a:cubicBezTo>
                    <a:cubicBezTo>
                      <a:pt x="14372" y="6"/>
                      <a:pt x="14371" y="7"/>
                      <a:pt x="14370" y="7"/>
                    </a:cubicBezTo>
                    <a:lnTo>
                      <a:pt x="14370" y="7"/>
                    </a:lnTo>
                    <a:cubicBezTo>
                      <a:pt x="14368" y="7"/>
                      <a:pt x="14368" y="6"/>
                      <a:pt x="14368" y="5"/>
                    </a:cubicBezTo>
                    <a:cubicBezTo>
                      <a:pt x="14368" y="4"/>
                      <a:pt x="14368" y="3"/>
                      <a:pt x="14370" y="3"/>
                    </a:cubicBezTo>
                    <a:close/>
                    <a:moveTo>
                      <a:pt x="14378" y="3"/>
                    </a:moveTo>
                    <a:lnTo>
                      <a:pt x="14378" y="3"/>
                    </a:lnTo>
                    <a:cubicBezTo>
                      <a:pt x="14379" y="3"/>
                      <a:pt x="14380" y="4"/>
                      <a:pt x="14380" y="5"/>
                    </a:cubicBezTo>
                    <a:cubicBezTo>
                      <a:pt x="14380" y="6"/>
                      <a:pt x="14379" y="7"/>
                      <a:pt x="14378" y="7"/>
                    </a:cubicBezTo>
                    <a:lnTo>
                      <a:pt x="14378" y="7"/>
                    </a:lnTo>
                    <a:cubicBezTo>
                      <a:pt x="14376" y="7"/>
                      <a:pt x="14376" y="6"/>
                      <a:pt x="14376" y="5"/>
                    </a:cubicBezTo>
                    <a:cubicBezTo>
                      <a:pt x="14376" y="4"/>
                      <a:pt x="14376" y="3"/>
                      <a:pt x="14378" y="3"/>
                    </a:cubicBezTo>
                    <a:close/>
                    <a:moveTo>
                      <a:pt x="14386" y="3"/>
                    </a:moveTo>
                    <a:lnTo>
                      <a:pt x="14386" y="3"/>
                    </a:lnTo>
                    <a:cubicBezTo>
                      <a:pt x="14387" y="3"/>
                      <a:pt x="14388" y="4"/>
                      <a:pt x="14388" y="5"/>
                    </a:cubicBezTo>
                    <a:cubicBezTo>
                      <a:pt x="14388" y="6"/>
                      <a:pt x="14387" y="7"/>
                      <a:pt x="14386" y="7"/>
                    </a:cubicBezTo>
                    <a:lnTo>
                      <a:pt x="14386" y="7"/>
                    </a:lnTo>
                    <a:cubicBezTo>
                      <a:pt x="14384" y="7"/>
                      <a:pt x="14384" y="6"/>
                      <a:pt x="14384" y="5"/>
                    </a:cubicBezTo>
                    <a:cubicBezTo>
                      <a:pt x="14384" y="4"/>
                      <a:pt x="14384" y="3"/>
                      <a:pt x="14386" y="3"/>
                    </a:cubicBezTo>
                    <a:close/>
                    <a:moveTo>
                      <a:pt x="14394" y="3"/>
                    </a:moveTo>
                    <a:lnTo>
                      <a:pt x="14394" y="3"/>
                    </a:lnTo>
                    <a:cubicBezTo>
                      <a:pt x="14395" y="3"/>
                      <a:pt x="14396" y="4"/>
                      <a:pt x="14396" y="5"/>
                    </a:cubicBezTo>
                    <a:cubicBezTo>
                      <a:pt x="14396" y="6"/>
                      <a:pt x="14395" y="7"/>
                      <a:pt x="14394" y="7"/>
                    </a:cubicBezTo>
                    <a:lnTo>
                      <a:pt x="14394" y="7"/>
                    </a:lnTo>
                    <a:cubicBezTo>
                      <a:pt x="14392" y="7"/>
                      <a:pt x="14392" y="6"/>
                      <a:pt x="14392" y="5"/>
                    </a:cubicBezTo>
                    <a:cubicBezTo>
                      <a:pt x="14392" y="4"/>
                      <a:pt x="14392" y="3"/>
                      <a:pt x="14394" y="3"/>
                    </a:cubicBezTo>
                    <a:close/>
                    <a:moveTo>
                      <a:pt x="14402" y="3"/>
                    </a:moveTo>
                    <a:lnTo>
                      <a:pt x="14402" y="3"/>
                    </a:lnTo>
                    <a:cubicBezTo>
                      <a:pt x="14403" y="3"/>
                      <a:pt x="14404" y="4"/>
                      <a:pt x="14404" y="5"/>
                    </a:cubicBezTo>
                    <a:cubicBezTo>
                      <a:pt x="14404" y="6"/>
                      <a:pt x="14403" y="7"/>
                      <a:pt x="14402" y="7"/>
                    </a:cubicBezTo>
                    <a:lnTo>
                      <a:pt x="14402" y="7"/>
                    </a:lnTo>
                    <a:cubicBezTo>
                      <a:pt x="14400" y="7"/>
                      <a:pt x="14400" y="6"/>
                      <a:pt x="14400" y="5"/>
                    </a:cubicBezTo>
                    <a:cubicBezTo>
                      <a:pt x="14400" y="4"/>
                      <a:pt x="14400" y="3"/>
                      <a:pt x="14402" y="3"/>
                    </a:cubicBezTo>
                    <a:close/>
                    <a:moveTo>
                      <a:pt x="14410" y="3"/>
                    </a:moveTo>
                    <a:lnTo>
                      <a:pt x="14410" y="3"/>
                    </a:lnTo>
                    <a:cubicBezTo>
                      <a:pt x="14411" y="3"/>
                      <a:pt x="14412" y="4"/>
                      <a:pt x="14412" y="5"/>
                    </a:cubicBezTo>
                    <a:cubicBezTo>
                      <a:pt x="14412" y="6"/>
                      <a:pt x="14411" y="7"/>
                      <a:pt x="14410" y="7"/>
                    </a:cubicBezTo>
                    <a:lnTo>
                      <a:pt x="14410" y="7"/>
                    </a:lnTo>
                    <a:cubicBezTo>
                      <a:pt x="14408" y="7"/>
                      <a:pt x="14408" y="6"/>
                      <a:pt x="14408" y="5"/>
                    </a:cubicBezTo>
                    <a:cubicBezTo>
                      <a:pt x="14408" y="4"/>
                      <a:pt x="14408" y="3"/>
                      <a:pt x="14410" y="3"/>
                    </a:cubicBezTo>
                    <a:close/>
                    <a:moveTo>
                      <a:pt x="14418" y="3"/>
                    </a:moveTo>
                    <a:lnTo>
                      <a:pt x="14418" y="3"/>
                    </a:lnTo>
                    <a:cubicBezTo>
                      <a:pt x="14419" y="3"/>
                      <a:pt x="14420" y="4"/>
                      <a:pt x="14420" y="5"/>
                    </a:cubicBezTo>
                    <a:cubicBezTo>
                      <a:pt x="14420" y="6"/>
                      <a:pt x="14419" y="7"/>
                      <a:pt x="14418" y="7"/>
                    </a:cubicBezTo>
                    <a:lnTo>
                      <a:pt x="14418" y="7"/>
                    </a:lnTo>
                    <a:cubicBezTo>
                      <a:pt x="14416" y="7"/>
                      <a:pt x="14416" y="6"/>
                      <a:pt x="14416" y="5"/>
                    </a:cubicBezTo>
                    <a:cubicBezTo>
                      <a:pt x="14416" y="4"/>
                      <a:pt x="14416" y="3"/>
                      <a:pt x="14418" y="3"/>
                    </a:cubicBezTo>
                    <a:close/>
                    <a:moveTo>
                      <a:pt x="14426" y="3"/>
                    </a:moveTo>
                    <a:lnTo>
                      <a:pt x="14426" y="3"/>
                    </a:lnTo>
                    <a:cubicBezTo>
                      <a:pt x="14427" y="3"/>
                      <a:pt x="14428" y="4"/>
                      <a:pt x="14428" y="5"/>
                    </a:cubicBezTo>
                    <a:cubicBezTo>
                      <a:pt x="14428" y="6"/>
                      <a:pt x="14427" y="7"/>
                      <a:pt x="14426" y="7"/>
                    </a:cubicBezTo>
                    <a:lnTo>
                      <a:pt x="14426" y="7"/>
                    </a:lnTo>
                    <a:cubicBezTo>
                      <a:pt x="14424" y="7"/>
                      <a:pt x="14424" y="6"/>
                      <a:pt x="14424" y="5"/>
                    </a:cubicBezTo>
                    <a:cubicBezTo>
                      <a:pt x="14424" y="4"/>
                      <a:pt x="14424" y="3"/>
                      <a:pt x="14426" y="3"/>
                    </a:cubicBezTo>
                    <a:close/>
                    <a:moveTo>
                      <a:pt x="14434" y="3"/>
                    </a:moveTo>
                    <a:lnTo>
                      <a:pt x="14434" y="3"/>
                    </a:lnTo>
                    <a:cubicBezTo>
                      <a:pt x="14435" y="3"/>
                      <a:pt x="14436" y="4"/>
                      <a:pt x="14436" y="5"/>
                    </a:cubicBezTo>
                    <a:cubicBezTo>
                      <a:pt x="14436" y="6"/>
                      <a:pt x="14435" y="7"/>
                      <a:pt x="14434" y="7"/>
                    </a:cubicBezTo>
                    <a:lnTo>
                      <a:pt x="14434" y="7"/>
                    </a:lnTo>
                    <a:cubicBezTo>
                      <a:pt x="14432" y="7"/>
                      <a:pt x="14432" y="6"/>
                      <a:pt x="14432" y="5"/>
                    </a:cubicBezTo>
                    <a:cubicBezTo>
                      <a:pt x="14432" y="4"/>
                      <a:pt x="14432" y="3"/>
                      <a:pt x="14434" y="3"/>
                    </a:cubicBezTo>
                    <a:close/>
                    <a:moveTo>
                      <a:pt x="14442" y="3"/>
                    </a:moveTo>
                    <a:lnTo>
                      <a:pt x="14442" y="3"/>
                    </a:lnTo>
                    <a:cubicBezTo>
                      <a:pt x="14443" y="3"/>
                      <a:pt x="14444" y="4"/>
                      <a:pt x="14444" y="5"/>
                    </a:cubicBezTo>
                    <a:cubicBezTo>
                      <a:pt x="14444" y="6"/>
                      <a:pt x="14443" y="7"/>
                      <a:pt x="14442" y="7"/>
                    </a:cubicBezTo>
                    <a:lnTo>
                      <a:pt x="14442" y="7"/>
                    </a:lnTo>
                    <a:cubicBezTo>
                      <a:pt x="14440" y="7"/>
                      <a:pt x="14440" y="6"/>
                      <a:pt x="14440" y="5"/>
                    </a:cubicBezTo>
                    <a:cubicBezTo>
                      <a:pt x="14440" y="4"/>
                      <a:pt x="14440" y="3"/>
                      <a:pt x="14442" y="3"/>
                    </a:cubicBezTo>
                    <a:close/>
                    <a:moveTo>
                      <a:pt x="14450" y="3"/>
                    </a:moveTo>
                    <a:lnTo>
                      <a:pt x="14450" y="3"/>
                    </a:lnTo>
                    <a:cubicBezTo>
                      <a:pt x="14451" y="3"/>
                      <a:pt x="14452" y="4"/>
                      <a:pt x="14452" y="5"/>
                    </a:cubicBezTo>
                    <a:cubicBezTo>
                      <a:pt x="14452" y="6"/>
                      <a:pt x="14451" y="7"/>
                      <a:pt x="14450" y="7"/>
                    </a:cubicBezTo>
                    <a:lnTo>
                      <a:pt x="14450" y="7"/>
                    </a:lnTo>
                    <a:cubicBezTo>
                      <a:pt x="14448" y="7"/>
                      <a:pt x="14448" y="6"/>
                      <a:pt x="14448" y="5"/>
                    </a:cubicBezTo>
                    <a:cubicBezTo>
                      <a:pt x="14448" y="4"/>
                      <a:pt x="14448" y="3"/>
                      <a:pt x="14450" y="3"/>
                    </a:cubicBezTo>
                    <a:close/>
                    <a:moveTo>
                      <a:pt x="14458" y="3"/>
                    </a:moveTo>
                    <a:lnTo>
                      <a:pt x="14458" y="3"/>
                    </a:lnTo>
                    <a:cubicBezTo>
                      <a:pt x="14459" y="3"/>
                      <a:pt x="14460" y="4"/>
                      <a:pt x="14460" y="5"/>
                    </a:cubicBezTo>
                    <a:cubicBezTo>
                      <a:pt x="14460" y="6"/>
                      <a:pt x="14459" y="7"/>
                      <a:pt x="14458" y="7"/>
                    </a:cubicBezTo>
                    <a:lnTo>
                      <a:pt x="14458" y="7"/>
                    </a:lnTo>
                    <a:cubicBezTo>
                      <a:pt x="14457" y="7"/>
                      <a:pt x="14456" y="6"/>
                      <a:pt x="14456" y="5"/>
                    </a:cubicBezTo>
                    <a:cubicBezTo>
                      <a:pt x="14456" y="4"/>
                      <a:pt x="14457" y="3"/>
                      <a:pt x="14458" y="3"/>
                    </a:cubicBezTo>
                    <a:close/>
                    <a:moveTo>
                      <a:pt x="14466" y="3"/>
                    </a:moveTo>
                    <a:lnTo>
                      <a:pt x="14466" y="3"/>
                    </a:lnTo>
                    <a:cubicBezTo>
                      <a:pt x="14467" y="3"/>
                      <a:pt x="14468" y="4"/>
                      <a:pt x="14468" y="5"/>
                    </a:cubicBezTo>
                    <a:cubicBezTo>
                      <a:pt x="14468" y="6"/>
                      <a:pt x="14467" y="7"/>
                      <a:pt x="14466" y="7"/>
                    </a:cubicBezTo>
                    <a:lnTo>
                      <a:pt x="14466" y="7"/>
                    </a:lnTo>
                    <a:cubicBezTo>
                      <a:pt x="14465" y="7"/>
                      <a:pt x="14464" y="6"/>
                      <a:pt x="14464" y="5"/>
                    </a:cubicBezTo>
                    <a:cubicBezTo>
                      <a:pt x="14464" y="4"/>
                      <a:pt x="14465" y="3"/>
                      <a:pt x="14466" y="3"/>
                    </a:cubicBezTo>
                    <a:close/>
                    <a:moveTo>
                      <a:pt x="14474" y="3"/>
                    </a:moveTo>
                    <a:lnTo>
                      <a:pt x="14474" y="3"/>
                    </a:lnTo>
                    <a:cubicBezTo>
                      <a:pt x="14475" y="3"/>
                      <a:pt x="14476" y="4"/>
                      <a:pt x="14476" y="5"/>
                    </a:cubicBezTo>
                    <a:cubicBezTo>
                      <a:pt x="14476" y="6"/>
                      <a:pt x="14475" y="7"/>
                      <a:pt x="14474" y="7"/>
                    </a:cubicBezTo>
                    <a:lnTo>
                      <a:pt x="14474" y="7"/>
                    </a:lnTo>
                    <a:cubicBezTo>
                      <a:pt x="14473" y="7"/>
                      <a:pt x="14472" y="6"/>
                      <a:pt x="14472" y="5"/>
                    </a:cubicBezTo>
                    <a:cubicBezTo>
                      <a:pt x="14472" y="4"/>
                      <a:pt x="14473" y="3"/>
                      <a:pt x="14474" y="3"/>
                    </a:cubicBezTo>
                    <a:close/>
                    <a:moveTo>
                      <a:pt x="14482" y="3"/>
                    </a:moveTo>
                    <a:lnTo>
                      <a:pt x="14482" y="3"/>
                    </a:lnTo>
                    <a:cubicBezTo>
                      <a:pt x="14483" y="3"/>
                      <a:pt x="14484" y="4"/>
                      <a:pt x="14484" y="5"/>
                    </a:cubicBezTo>
                    <a:cubicBezTo>
                      <a:pt x="14484" y="6"/>
                      <a:pt x="14483" y="7"/>
                      <a:pt x="14482" y="7"/>
                    </a:cubicBezTo>
                    <a:lnTo>
                      <a:pt x="14482" y="7"/>
                    </a:lnTo>
                    <a:cubicBezTo>
                      <a:pt x="14481" y="7"/>
                      <a:pt x="14480" y="6"/>
                      <a:pt x="14480" y="5"/>
                    </a:cubicBezTo>
                    <a:cubicBezTo>
                      <a:pt x="14480" y="4"/>
                      <a:pt x="14481" y="3"/>
                      <a:pt x="14482" y="3"/>
                    </a:cubicBezTo>
                    <a:close/>
                    <a:moveTo>
                      <a:pt x="14490" y="3"/>
                    </a:moveTo>
                    <a:lnTo>
                      <a:pt x="14490" y="3"/>
                    </a:lnTo>
                    <a:cubicBezTo>
                      <a:pt x="14491" y="3"/>
                      <a:pt x="14492" y="4"/>
                      <a:pt x="14492" y="5"/>
                    </a:cubicBezTo>
                    <a:cubicBezTo>
                      <a:pt x="14492" y="6"/>
                      <a:pt x="14491" y="7"/>
                      <a:pt x="14490" y="7"/>
                    </a:cubicBezTo>
                    <a:lnTo>
                      <a:pt x="14490" y="7"/>
                    </a:lnTo>
                    <a:cubicBezTo>
                      <a:pt x="14489" y="7"/>
                      <a:pt x="14488" y="6"/>
                      <a:pt x="14488" y="5"/>
                    </a:cubicBezTo>
                    <a:cubicBezTo>
                      <a:pt x="14488" y="4"/>
                      <a:pt x="14489" y="3"/>
                      <a:pt x="14490" y="3"/>
                    </a:cubicBezTo>
                    <a:close/>
                    <a:moveTo>
                      <a:pt x="14498" y="3"/>
                    </a:moveTo>
                    <a:lnTo>
                      <a:pt x="14498" y="3"/>
                    </a:lnTo>
                    <a:cubicBezTo>
                      <a:pt x="14499" y="3"/>
                      <a:pt x="14500" y="4"/>
                      <a:pt x="14500" y="5"/>
                    </a:cubicBezTo>
                    <a:cubicBezTo>
                      <a:pt x="14500" y="6"/>
                      <a:pt x="14499" y="7"/>
                      <a:pt x="14498" y="7"/>
                    </a:cubicBezTo>
                    <a:lnTo>
                      <a:pt x="14498" y="7"/>
                    </a:lnTo>
                    <a:cubicBezTo>
                      <a:pt x="14497" y="7"/>
                      <a:pt x="14496" y="6"/>
                      <a:pt x="14496" y="5"/>
                    </a:cubicBezTo>
                    <a:cubicBezTo>
                      <a:pt x="14496" y="4"/>
                      <a:pt x="14497" y="3"/>
                      <a:pt x="14498" y="3"/>
                    </a:cubicBezTo>
                    <a:close/>
                    <a:moveTo>
                      <a:pt x="14506" y="3"/>
                    </a:moveTo>
                    <a:lnTo>
                      <a:pt x="14506" y="3"/>
                    </a:lnTo>
                    <a:cubicBezTo>
                      <a:pt x="14507" y="3"/>
                      <a:pt x="14508" y="4"/>
                      <a:pt x="14508" y="5"/>
                    </a:cubicBezTo>
                    <a:cubicBezTo>
                      <a:pt x="14508" y="6"/>
                      <a:pt x="14507" y="7"/>
                      <a:pt x="14506" y="7"/>
                    </a:cubicBezTo>
                    <a:lnTo>
                      <a:pt x="14506" y="7"/>
                    </a:lnTo>
                    <a:cubicBezTo>
                      <a:pt x="14505" y="7"/>
                      <a:pt x="14504" y="6"/>
                      <a:pt x="14504" y="5"/>
                    </a:cubicBezTo>
                    <a:cubicBezTo>
                      <a:pt x="14504" y="4"/>
                      <a:pt x="14505" y="3"/>
                      <a:pt x="14506" y="3"/>
                    </a:cubicBezTo>
                    <a:close/>
                    <a:moveTo>
                      <a:pt x="14514" y="3"/>
                    </a:moveTo>
                    <a:lnTo>
                      <a:pt x="14514" y="3"/>
                    </a:lnTo>
                    <a:cubicBezTo>
                      <a:pt x="14515" y="3"/>
                      <a:pt x="14516" y="4"/>
                      <a:pt x="14516" y="5"/>
                    </a:cubicBezTo>
                    <a:cubicBezTo>
                      <a:pt x="14516" y="6"/>
                      <a:pt x="14515" y="7"/>
                      <a:pt x="14514" y="7"/>
                    </a:cubicBezTo>
                    <a:lnTo>
                      <a:pt x="14514" y="7"/>
                    </a:lnTo>
                    <a:cubicBezTo>
                      <a:pt x="14513" y="7"/>
                      <a:pt x="14512" y="6"/>
                      <a:pt x="14512" y="5"/>
                    </a:cubicBezTo>
                    <a:cubicBezTo>
                      <a:pt x="14512" y="4"/>
                      <a:pt x="14513" y="3"/>
                      <a:pt x="14514" y="3"/>
                    </a:cubicBezTo>
                    <a:close/>
                    <a:moveTo>
                      <a:pt x="14522" y="3"/>
                    </a:moveTo>
                    <a:lnTo>
                      <a:pt x="14522" y="3"/>
                    </a:lnTo>
                    <a:cubicBezTo>
                      <a:pt x="14523" y="3"/>
                      <a:pt x="14524" y="4"/>
                      <a:pt x="14524" y="5"/>
                    </a:cubicBezTo>
                    <a:cubicBezTo>
                      <a:pt x="14524" y="6"/>
                      <a:pt x="14523" y="7"/>
                      <a:pt x="14522" y="7"/>
                    </a:cubicBezTo>
                    <a:lnTo>
                      <a:pt x="14522" y="7"/>
                    </a:lnTo>
                    <a:cubicBezTo>
                      <a:pt x="14521" y="7"/>
                      <a:pt x="14520" y="6"/>
                      <a:pt x="14520" y="5"/>
                    </a:cubicBezTo>
                    <a:cubicBezTo>
                      <a:pt x="14520" y="4"/>
                      <a:pt x="14521" y="3"/>
                      <a:pt x="14522" y="3"/>
                    </a:cubicBezTo>
                    <a:close/>
                    <a:moveTo>
                      <a:pt x="14530" y="3"/>
                    </a:moveTo>
                    <a:lnTo>
                      <a:pt x="14530" y="3"/>
                    </a:lnTo>
                    <a:cubicBezTo>
                      <a:pt x="14531" y="3"/>
                      <a:pt x="14532" y="4"/>
                      <a:pt x="14532" y="5"/>
                    </a:cubicBezTo>
                    <a:cubicBezTo>
                      <a:pt x="14532" y="6"/>
                      <a:pt x="14531" y="7"/>
                      <a:pt x="14530" y="7"/>
                    </a:cubicBezTo>
                    <a:lnTo>
                      <a:pt x="14530" y="7"/>
                    </a:lnTo>
                    <a:cubicBezTo>
                      <a:pt x="14529" y="7"/>
                      <a:pt x="14528" y="6"/>
                      <a:pt x="14528" y="5"/>
                    </a:cubicBezTo>
                    <a:cubicBezTo>
                      <a:pt x="14528" y="4"/>
                      <a:pt x="14529" y="3"/>
                      <a:pt x="14530" y="3"/>
                    </a:cubicBezTo>
                    <a:close/>
                    <a:moveTo>
                      <a:pt x="14538" y="3"/>
                    </a:moveTo>
                    <a:lnTo>
                      <a:pt x="14538" y="3"/>
                    </a:lnTo>
                    <a:cubicBezTo>
                      <a:pt x="14539" y="3"/>
                      <a:pt x="14540" y="4"/>
                      <a:pt x="14540" y="5"/>
                    </a:cubicBezTo>
                    <a:cubicBezTo>
                      <a:pt x="14540" y="6"/>
                      <a:pt x="14539" y="7"/>
                      <a:pt x="14538" y="7"/>
                    </a:cubicBezTo>
                    <a:lnTo>
                      <a:pt x="14538" y="7"/>
                    </a:lnTo>
                    <a:cubicBezTo>
                      <a:pt x="14537" y="7"/>
                      <a:pt x="14536" y="6"/>
                      <a:pt x="14536" y="5"/>
                    </a:cubicBezTo>
                    <a:cubicBezTo>
                      <a:pt x="14536" y="4"/>
                      <a:pt x="14537" y="3"/>
                      <a:pt x="14538" y="3"/>
                    </a:cubicBezTo>
                    <a:close/>
                    <a:moveTo>
                      <a:pt x="14546" y="3"/>
                    </a:moveTo>
                    <a:lnTo>
                      <a:pt x="14546" y="3"/>
                    </a:lnTo>
                    <a:cubicBezTo>
                      <a:pt x="14547" y="3"/>
                      <a:pt x="14548" y="4"/>
                      <a:pt x="14548" y="5"/>
                    </a:cubicBezTo>
                    <a:cubicBezTo>
                      <a:pt x="14548" y="6"/>
                      <a:pt x="14547" y="7"/>
                      <a:pt x="14546" y="7"/>
                    </a:cubicBezTo>
                    <a:lnTo>
                      <a:pt x="14546" y="7"/>
                    </a:lnTo>
                    <a:cubicBezTo>
                      <a:pt x="14545" y="7"/>
                      <a:pt x="14544" y="6"/>
                      <a:pt x="14544" y="5"/>
                    </a:cubicBezTo>
                    <a:cubicBezTo>
                      <a:pt x="14544" y="4"/>
                      <a:pt x="14545" y="3"/>
                      <a:pt x="14546" y="3"/>
                    </a:cubicBezTo>
                    <a:close/>
                    <a:moveTo>
                      <a:pt x="14554" y="3"/>
                    </a:moveTo>
                    <a:lnTo>
                      <a:pt x="14554" y="3"/>
                    </a:lnTo>
                    <a:cubicBezTo>
                      <a:pt x="14555" y="3"/>
                      <a:pt x="14556" y="4"/>
                      <a:pt x="14556" y="5"/>
                    </a:cubicBezTo>
                    <a:cubicBezTo>
                      <a:pt x="14556" y="6"/>
                      <a:pt x="14555" y="7"/>
                      <a:pt x="14554" y="7"/>
                    </a:cubicBezTo>
                    <a:lnTo>
                      <a:pt x="14554" y="7"/>
                    </a:lnTo>
                    <a:cubicBezTo>
                      <a:pt x="14553" y="7"/>
                      <a:pt x="14552" y="6"/>
                      <a:pt x="14552" y="5"/>
                    </a:cubicBezTo>
                    <a:cubicBezTo>
                      <a:pt x="14552" y="4"/>
                      <a:pt x="14553" y="3"/>
                      <a:pt x="14554" y="3"/>
                    </a:cubicBezTo>
                    <a:close/>
                    <a:moveTo>
                      <a:pt x="14562" y="3"/>
                    </a:moveTo>
                    <a:lnTo>
                      <a:pt x="14562" y="3"/>
                    </a:lnTo>
                    <a:cubicBezTo>
                      <a:pt x="14563" y="3"/>
                      <a:pt x="14564" y="4"/>
                      <a:pt x="14564" y="5"/>
                    </a:cubicBezTo>
                    <a:cubicBezTo>
                      <a:pt x="14564" y="6"/>
                      <a:pt x="14563" y="7"/>
                      <a:pt x="14562" y="7"/>
                    </a:cubicBezTo>
                    <a:lnTo>
                      <a:pt x="14562" y="7"/>
                    </a:lnTo>
                    <a:cubicBezTo>
                      <a:pt x="14561" y="7"/>
                      <a:pt x="14560" y="6"/>
                      <a:pt x="14560" y="5"/>
                    </a:cubicBezTo>
                    <a:cubicBezTo>
                      <a:pt x="14560" y="4"/>
                      <a:pt x="14561" y="3"/>
                      <a:pt x="14562" y="3"/>
                    </a:cubicBezTo>
                    <a:close/>
                    <a:moveTo>
                      <a:pt x="14570" y="3"/>
                    </a:moveTo>
                    <a:lnTo>
                      <a:pt x="14570" y="3"/>
                    </a:lnTo>
                    <a:cubicBezTo>
                      <a:pt x="14571" y="3"/>
                      <a:pt x="14572" y="4"/>
                      <a:pt x="14572" y="5"/>
                    </a:cubicBezTo>
                    <a:cubicBezTo>
                      <a:pt x="14572" y="6"/>
                      <a:pt x="14571" y="7"/>
                      <a:pt x="14570" y="7"/>
                    </a:cubicBezTo>
                    <a:lnTo>
                      <a:pt x="14570" y="7"/>
                    </a:lnTo>
                    <a:cubicBezTo>
                      <a:pt x="14569" y="7"/>
                      <a:pt x="14568" y="6"/>
                      <a:pt x="14568" y="5"/>
                    </a:cubicBezTo>
                    <a:cubicBezTo>
                      <a:pt x="14568" y="4"/>
                      <a:pt x="14569" y="3"/>
                      <a:pt x="14570" y="3"/>
                    </a:cubicBezTo>
                    <a:close/>
                    <a:moveTo>
                      <a:pt x="14578" y="3"/>
                    </a:moveTo>
                    <a:lnTo>
                      <a:pt x="14578" y="3"/>
                    </a:lnTo>
                    <a:cubicBezTo>
                      <a:pt x="14579" y="3"/>
                      <a:pt x="14580" y="4"/>
                      <a:pt x="14580" y="5"/>
                    </a:cubicBezTo>
                    <a:cubicBezTo>
                      <a:pt x="14580" y="6"/>
                      <a:pt x="14579" y="7"/>
                      <a:pt x="14578" y="7"/>
                    </a:cubicBezTo>
                    <a:lnTo>
                      <a:pt x="14578" y="7"/>
                    </a:lnTo>
                    <a:cubicBezTo>
                      <a:pt x="14577" y="7"/>
                      <a:pt x="14576" y="6"/>
                      <a:pt x="14576" y="5"/>
                    </a:cubicBezTo>
                    <a:cubicBezTo>
                      <a:pt x="14576" y="4"/>
                      <a:pt x="14577" y="3"/>
                      <a:pt x="14578" y="3"/>
                    </a:cubicBezTo>
                    <a:close/>
                    <a:moveTo>
                      <a:pt x="14586" y="3"/>
                    </a:moveTo>
                    <a:lnTo>
                      <a:pt x="14586" y="3"/>
                    </a:lnTo>
                    <a:cubicBezTo>
                      <a:pt x="14587" y="3"/>
                      <a:pt x="14588" y="4"/>
                      <a:pt x="14588" y="5"/>
                    </a:cubicBezTo>
                    <a:cubicBezTo>
                      <a:pt x="14588" y="6"/>
                      <a:pt x="14587" y="7"/>
                      <a:pt x="14586" y="7"/>
                    </a:cubicBezTo>
                    <a:lnTo>
                      <a:pt x="14586" y="7"/>
                    </a:lnTo>
                    <a:cubicBezTo>
                      <a:pt x="14585" y="7"/>
                      <a:pt x="14584" y="6"/>
                      <a:pt x="14584" y="5"/>
                    </a:cubicBezTo>
                    <a:cubicBezTo>
                      <a:pt x="14584" y="4"/>
                      <a:pt x="14585" y="3"/>
                      <a:pt x="14586" y="3"/>
                    </a:cubicBezTo>
                    <a:close/>
                    <a:moveTo>
                      <a:pt x="14594" y="3"/>
                    </a:moveTo>
                    <a:lnTo>
                      <a:pt x="14594" y="3"/>
                    </a:lnTo>
                    <a:cubicBezTo>
                      <a:pt x="14595" y="3"/>
                      <a:pt x="14596" y="4"/>
                      <a:pt x="14596" y="5"/>
                    </a:cubicBezTo>
                    <a:cubicBezTo>
                      <a:pt x="14596" y="6"/>
                      <a:pt x="14595" y="7"/>
                      <a:pt x="14594" y="7"/>
                    </a:cubicBezTo>
                    <a:lnTo>
                      <a:pt x="14594" y="7"/>
                    </a:lnTo>
                    <a:cubicBezTo>
                      <a:pt x="14593" y="7"/>
                      <a:pt x="14592" y="6"/>
                      <a:pt x="14592" y="5"/>
                    </a:cubicBezTo>
                    <a:cubicBezTo>
                      <a:pt x="14592" y="4"/>
                      <a:pt x="14593" y="3"/>
                      <a:pt x="14594" y="3"/>
                    </a:cubicBezTo>
                    <a:close/>
                    <a:moveTo>
                      <a:pt x="14602" y="3"/>
                    </a:moveTo>
                    <a:lnTo>
                      <a:pt x="14602" y="3"/>
                    </a:lnTo>
                    <a:cubicBezTo>
                      <a:pt x="14603" y="3"/>
                      <a:pt x="14604" y="4"/>
                      <a:pt x="14604" y="5"/>
                    </a:cubicBezTo>
                    <a:cubicBezTo>
                      <a:pt x="14604" y="6"/>
                      <a:pt x="14603" y="7"/>
                      <a:pt x="14602" y="7"/>
                    </a:cubicBezTo>
                    <a:lnTo>
                      <a:pt x="14602" y="7"/>
                    </a:lnTo>
                    <a:cubicBezTo>
                      <a:pt x="14601" y="7"/>
                      <a:pt x="14600" y="6"/>
                      <a:pt x="14600" y="5"/>
                    </a:cubicBezTo>
                    <a:cubicBezTo>
                      <a:pt x="14600" y="4"/>
                      <a:pt x="14601" y="3"/>
                      <a:pt x="14602" y="3"/>
                    </a:cubicBezTo>
                    <a:close/>
                    <a:moveTo>
                      <a:pt x="14610" y="3"/>
                    </a:moveTo>
                    <a:lnTo>
                      <a:pt x="14610" y="3"/>
                    </a:lnTo>
                    <a:cubicBezTo>
                      <a:pt x="14611" y="3"/>
                      <a:pt x="14612" y="4"/>
                      <a:pt x="14612" y="5"/>
                    </a:cubicBezTo>
                    <a:cubicBezTo>
                      <a:pt x="14612" y="6"/>
                      <a:pt x="14611" y="7"/>
                      <a:pt x="14610" y="7"/>
                    </a:cubicBezTo>
                    <a:lnTo>
                      <a:pt x="14610" y="7"/>
                    </a:lnTo>
                    <a:cubicBezTo>
                      <a:pt x="14609" y="7"/>
                      <a:pt x="14608" y="6"/>
                      <a:pt x="14608" y="5"/>
                    </a:cubicBezTo>
                    <a:cubicBezTo>
                      <a:pt x="14608" y="4"/>
                      <a:pt x="14609" y="3"/>
                      <a:pt x="14610" y="3"/>
                    </a:cubicBezTo>
                    <a:close/>
                    <a:moveTo>
                      <a:pt x="14618" y="3"/>
                    </a:moveTo>
                    <a:lnTo>
                      <a:pt x="14618" y="3"/>
                    </a:lnTo>
                    <a:cubicBezTo>
                      <a:pt x="14619" y="3"/>
                      <a:pt x="14620" y="4"/>
                      <a:pt x="14620" y="5"/>
                    </a:cubicBezTo>
                    <a:cubicBezTo>
                      <a:pt x="14620" y="6"/>
                      <a:pt x="14619" y="7"/>
                      <a:pt x="14618" y="7"/>
                    </a:cubicBezTo>
                    <a:lnTo>
                      <a:pt x="14618" y="7"/>
                    </a:lnTo>
                    <a:cubicBezTo>
                      <a:pt x="14617" y="7"/>
                      <a:pt x="14616" y="6"/>
                      <a:pt x="14616" y="5"/>
                    </a:cubicBezTo>
                    <a:cubicBezTo>
                      <a:pt x="14616" y="4"/>
                      <a:pt x="14617" y="3"/>
                      <a:pt x="14618" y="3"/>
                    </a:cubicBezTo>
                    <a:close/>
                    <a:moveTo>
                      <a:pt x="14626" y="3"/>
                    </a:moveTo>
                    <a:lnTo>
                      <a:pt x="14626" y="3"/>
                    </a:lnTo>
                    <a:cubicBezTo>
                      <a:pt x="14627" y="3"/>
                      <a:pt x="14628" y="4"/>
                      <a:pt x="14628" y="5"/>
                    </a:cubicBezTo>
                    <a:cubicBezTo>
                      <a:pt x="14628" y="6"/>
                      <a:pt x="14627" y="7"/>
                      <a:pt x="14626" y="7"/>
                    </a:cubicBezTo>
                    <a:lnTo>
                      <a:pt x="14626" y="7"/>
                    </a:lnTo>
                    <a:cubicBezTo>
                      <a:pt x="14625" y="7"/>
                      <a:pt x="14624" y="6"/>
                      <a:pt x="14624" y="5"/>
                    </a:cubicBezTo>
                    <a:cubicBezTo>
                      <a:pt x="14624" y="4"/>
                      <a:pt x="14625" y="3"/>
                      <a:pt x="14626" y="3"/>
                    </a:cubicBezTo>
                    <a:close/>
                    <a:moveTo>
                      <a:pt x="14634" y="3"/>
                    </a:moveTo>
                    <a:lnTo>
                      <a:pt x="14634" y="3"/>
                    </a:lnTo>
                    <a:cubicBezTo>
                      <a:pt x="14635" y="3"/>
                      <a:pt x="14636" y="4"/>
                      <a:pt x="14636" y="5"/>
                    </a:cubicBezTo>
                    <a:cubicBezTo>
                      <a:pt x="14636" y="6"/>
                      <a:pt x="14635" y="7"/>
                      <a:pt x="14634" y="7"/>
                    </a:cubicBezTo>
                    <a:lnTo>
                      <a:pt x="14634" y="7"/>
                    </a:lnTo>
                    <a:cubicBezTo>
                      <a:pt x="14633" y="7"/>
                      <a:pt x="14632" y="6"/>
                      <a:pt x="14632" y="5"/>
                    </a:cubicBezTo>
                    <a:cubicBezTo>
                      <a:pt x="14632" y="4"/>
                      <a:pt x="14633" y="3"/>
                      <a:pt x="14634" y="3"/>
                    </a:cubicBezTo>
                    <a:close/>
                    <a:moveTo>
                      <a:pt x="14642" y="3"/>
                    </a:moveTo>
                    <a:lnTo>
                      <a:pt x="14642" y="3"/>
                    </a:lnTo>
                    <a:cubicBezTo>
                      <a:pt x="14643" y="3"/>
                      <a:pt x="14644" y="4"/>
                      <a:pt x="14644" y="5"/>
                    </a:cubicBezTo>
                    <a:cubicBezTo>
                      <a:pt x="14644" y="6"/>
                      <a:pt x="14643" y="7"/>
                      <a:pt x="14642" y="7"/>
                    </a:cubicBezTo>
                    <a:lnTo>
                      <a:pt x="14642" y="7"/>
                    </a:lnTo>
                    <a:cubicBezTo>
                      <a:pt x="14641" y="7"/>
                      <a:pt x="14640" y="6"/>
                      <a:pt x="14640" y="5"/>
                    </a:cubicBezTo>
                    <a:cubicBezTo>
                      <a:pt x="14640" y="4"/>
                      <a:pt x="14641" y="3"/>
                      <a:pt x="14642" y="3"/>
                    </a:cubicBezTo>
                    <a:close/>
                    <a:moveTo>
                      <a:pt x="14650" y="3"/>
                    </a:moveTo>
                    <a:lnTo>
                      <a:pt x="14650" y="3"/>
                    </a:lnTo>
                    <a:cubicBezTo>
                      <a:pt x="14651" y="3"/>
                      <a:pt x="14652" y="4"/>
                      <a:pt x="14652" y="5"/>
                    </a:cubicBezTo>
                    <a:cubicBezTo>
                      <a:pt x="14652" y="6"/>
                      <a:pt x="14651" y="7"/>
                      <a:pt x="14650" y="7"/>
                    </a:cubicBezTo>
                    <a:lnTo>
                      <a:pt x="14650" y="7"/>
                    </a:lnTo>
                    <a:cubicBezTo>
                      <a:pt x="14649" y="7"/>
                      <a:pt x="14648" y="6"/>
                      <a:pt x="14648" y="5"/>
                    </a:cubicBezTo>
                    <a:cubicBezTo>
                      <a:pt x="14648" y="4"/>
                      <a:pt x="14649" y="3"/>
                      <a:pt x="14650" y="3"/>
                    </a:cubicBezTo>
                    <a:close/>
                    <a:moveTo>
                      <a:pt x="14658" y="3"/>
                    </a:moveTo>
                    <a:lnTo>
                      <a:pt x="14658" y="3"/>
                    </a:lnTo>
                    <a:cubicBezTo>
                      <a:pt x="14659" y="3"/>
                      <a:pt x="14660" y="4"/>
                      <a:pt x="14660" y="5"/>
                    </a:cubicBezTo>
                    <a:cubicBezTo>
                      <a:pt x="14660" y="6"/>
                      <a:pt x="14659" y="7"/>
                      <a:pt x="14658" y="7"/>
                    </a:cubicBezTo>
                    <a:lnTo>
                      <a:pt x="14658" y="7"/>
                    </a:lnTo>
                    <a:cubicBezTo>
                      <a:pt x="14657" y="7"/>
                      <a:pt x="14656" y="6"/>
                      <a:pt x="14656" y="5"/>
                    </a:cubicBezTo>
                    <a:cubicBezTo>
                      <a:pt x="14656" y="4"/>
                      <a:pt x="14657" y="3"/>
                      <a:pt x="14658" y="3"/>
                    </a:cubicBezTo>
                    <a:close/>
                    <a:moveTo>
                      <a:pt x="14666" y="3"/>
                    </a:moveTo>
                    <a:lnTo>
                      <a:pt x="14666" y="3"/>
                    </a:lnTo>
                    <a:cubicBezTo>
                      <a:pt x="14667" y="3"/>
                      <a:pt x="14668" y="4"/>
                      <a:pt x="14668" y="5"/>
                    </a:cubicBezTo>
                    <a:cubicBezTo>
                      <a:pt x="14668" y="6"/>
                      <a:pt x="14667" y="7"/>
                      <a:pt x="14666" y="7"/>
                    </a:cubicBezTo>
                    <a:lnTo>
                      <a:pt x="14666" y="7"/>
                    </a:lnTo>
                    <a:cubicBezTo>
                      <a:pt x="14665" y="7"/>
                      <a:pt x="14664" y="6"/>
                      <a:pt x="14664" y="5"/>
                    </a:cubicBezTo>
                    <a:cubicBezTo>
                      <a:pt x="14664" y="4"/>
                      <a:pt x="14665" y="3"/>
                      <a:pt x="14666" y="3"/>
                    </a:cubicBezTo>
                    <a:close/>
                    <a:moveTo>
                      <a:pt x="14674" y="3"/>
                    </a:moveTo>
                    <a:lnTo>
                      <a:pt x="14674" y="3"/>
                    </a:lnTo>
                    <a:cubicBezTo>
                      <a:pt x="14675" y="3"/>
                      <a:pt x="14676" y="4"/>
                      <a:pt x="14676" y="5"/>
                    </a:cubicBezTo>
                    <a:cubicBezTo>
                      <a:pt x="14676" y="6"/>
                      <a:pt x="14675" y="7"/>
                      <a:pt x="14674" y="7"/>
                    </a:cubicBezTo>
                    <a:lnTo>
                      <a:pt x="14674" y="7"/>
                    </a:lnTo>
                    <a:cubicBezTo>
                      <a:pt x="14673" y="7"/>
                      <a:pt x="14672" y="6"/>
                      <a:pt x="14672" y="5"/>
                    </a:cubicBezTo>
                    <a:cubicBezTo>
                      <a:pt x="14672" y="4"/>
                      <a:pt x="14673" y="3"/>
                      <a:pt x="14674" y="3"/>
                    </a:cubicBezTo>
                    <a:close/>
                    <a:moveTo>
                      <a:pt x="14682" y="3"/>
                    </a:moveTo>
                    <a:lnTo>
                      <a:pt x="14682" y="3"/>
                    </a:lnTo>
                    <a:cubicBezTo>
                      <a:pt x="14683" y="3"/>
                      <a:pt x="14684" y="4"/>
                      <a:pt x="14684" y="5"/>
                    </a:cubicBezTo>
                    <a:cubicBezTo>
                      <a:pt x="14684" y="6"/>
                      <a:pt x="14683" y="7"/>
                      <a:pt x="14682" y="7"/>
                    </a:cubicBezTo>
                    <a:lnTo>
                      <a:pt x="14682" y="7"/>
                    </a:lnTo>
                    <a:cubicBezTo>
                      <a:pt x="14681" y="7"/>
                      <a:pt x="14680" y="6"/>
                      <a:pt x="14680" y="5"/>
                    </a:cubicBezTo>
                    <a:cubicBezTo>
                      <a:pt x="14680" y="4"/>
                      <a:pt x="14681" y="3"/>
                      <a:pt x="14682" y="3"/>
                    </a:cubicBezTo>
                    <a:close/>
                    <a:moveTo>
                      <a:pt x="14690" y="3"/>
                    </a:moveTo>
                    <a:lnTo>
                      <a:pt x="14690" y="3"/>
                    </a:lnTo>
                    <a:cubicBezTo>
                      <a:pt x="14691" y="3"/>
                      <a:pt x="14692" y="4"/>
                      <a:pt x="14692" y="5"/>
                    </a:cubicBezTo>
                    <a:cubicBezTo>
                      <a:pt x="14692" y="6"/>
                      <a:pt x="14691" y="7"/>
                      <a:pt x="14690" y="7"/>
                    </a:cubicBezTo>
                    <a:lnTo>
                      <a:pt x="14690" y="7"/>
                    </a:lnTo>
                    <a:cubicBezTo>
                      <a:pt x="14689" y="7"/>
                      <a:pt x="14688" y="6"/>
                      <a:pt x="14688" y="5"/>
                    </a:cubicBezTo>
                    <a:cubicBezTo>
                      <a:pt x="14688" y="4"/>
                      <a:pt x="14689" y="3"/>
                      <a:pt x="14690" y="3"/>
                    </a:cubicBezTo>
                    <a:close/>
                    <a:moveTo>
                      <a:pt x="14698" y="3"/>
                    </a:moveTo>
                    <a:lnTo>
                      <a:pt x="14698" y="3"/>
                    </a:lnTo>
                    <a:cubicBezTo>
                      <a:pt x="14699" y="3"/>
                      <a:pt x="14700" y="4"/>
                      <a:pt x="14700" y="5"/>
                    </a:cubicBezTo>
                    <a:cubicBezTo>
                      <a:pt x="14700" y="6"/>
                      <a:pt x="14699" y="7"/>
                      <a:pt x="14698" y="7"/>
                    </a:cubicBezTo>
                    <a:lnTo>
                      <a:pt x="14698" y="7"/>
                    </a:lnTo>
                    <a:cubicBezTo>
                      <a:pt x="14697" y="7"/>
                      <a:pt x="14696" y="6"/>
                      <a:pt x="14696" y="5"/>
                    </a:cubicBezTo>
                    <a:cubicBezTo>
                      <a:pt x="14696" y="4"/>
                      <a:pt x="14697" y="3"/>
                      <a:pt x="14698" y="3"/>
                    </a:cubicBezTo>
                    <a:close/>
                    <a:moveTo>
                      <a:pt x="14706" y="3"/>
                    </a:moveTo>
                    <a:lnTo>
                      <a:pt x="14706" y="3"/>
                    </a:lnTo>
                    <a:cubicBezTo>
                      <a:pt x="14707" y="3"/>
                      <a:pt x="14708" y="4"/>
                      <a:pt x="14708" y="5"/>
                    </a:cubicBezTo>
                    <a:cubicBezTo>
                      <a:pt x="14708" y="6"/>
                      <a:pt x="14707" y="7"/>
                      <a:pt x="14706" y="7"/>
                    </a:cubicBezTo>
                    <a:lnTo>
                      <a:pt x="14706" y="7"/>
                    </a:lnTo>
                    <a:cubicBezTo>
                      <a:pt x="14705" y="7"/>
                      <a:pt x="14704" y="6"/>
                      <a:pt x="14704" y="5"/>
                    </a:cubicBezTo>
                    <a:cubicBezTo>
                      <a:pt x="14704" y="4"/>
                      <a:pt x="14705" y="3"/>
                      <a:pt x="14706" y="3"/>
                    </a:cubicBezTo>
                    <a:close/>
                    <a:moveTo>
                      <a:pt x="14714" y="3"/>
                    </a:moveTo>
                    <a:lnTo>
                      <a:pt x="14714" y="3"/>
                    </a:lnTo>
                    <a:cubicBezTo>
                      <a:pt x="14715" y="3"/>
                      <a:pt x="14716" y="4"/>
                      <a:pt x="14716" y="5"/>
                    </a:cubicBezTo>
                    <a:cubicBezTo>
                      <a:pt x="14716" y="6"/>
                      <a:pt x="14715" y="7"/>
                      <a:pt x="14714" y="7"/>
                    </a:cubicBezTo>
                    <a:lnTo>
                      <a:pt x="14714" y="7"/>
                    </a:lnTo>
                    <a:cubicBezTo>
                      <a:pt x="14713" y="7"/>
                      <a:pt x="14712" y="6"/>
                      <a:pt x="14712" y="5"/>
                    </a:cubicBezTo>
                    <a:cubicBezTo>
                      <a:pt x="14712" y="4"/>
                      <a:pt x="14713" y="3"/>
                      <a:pt x="14714" y="3"/>
                    </a:cubicBezTo>
                    <a:close/>
                    <a:moveTo>
                      <a:pt x="14722" y="3"/>
                    </a:moveTo>
                    <a:lnTo>
                      <a:pt x="14722" y="3"/>
                    </a:lnTo>
                    <a:cubicBezTo>
                      <a:pt x="14723" y="3"/>
                      <a:pt x="14724" y="4"/>
                      <a:pt x="14724" y="5"/>
                    </a:cubicBezTo>
                    <a:cubicBezTo>
                      <a:pt x="14724" y="6"/>
                      <a:pt x="14723" y="7"/>
                      <a:pt x="14722" y="7"/>
                    </a:cubicBezTo>
                    <a:lnTo>
                      <a:pt x="14722" y="7"/>
                    </a:lnTo>
                    <a:cubicBezTo>
                      <a:pt x="14721" y="7"/>
                      <a:pt x="14720" y="6"/>
                      <a:pt x="14720" y="5"/>
                    </a:cubicBezTo>
                    <a:cubicBezTo>
                      <a:pt x="14720" y="4"/>
                      <a:pt x="14721" y="3"/>
                      <a:pt x="14722" y="3"/>
                    </a:cubicBezTo>
                    <a:close/>
                    <a:moveTo>
                      <a:pt x="14730" y="3"/>
                    </a:moveTo>
                    <a:lnTo>
                      <a:pt x="14730" y="3"/>
                    </a:lnTo>
                    <a:cubicBezTo>
                      <a:pt x="14731" y="3"/>
                      <a:pt x="14732" y="4"/>
                      <a:pt x="14732" y="5"/>
                    </a:cubicBezTo>
                    <a:cubicBezTo>
                      <a:pt x="14732" y="6"/>
                      <a:pt x="14731" y="7"/>
                      <a:pt x="14730" y="7"/>
                    </a:cubicBezTo>
                    <a:lnTo>
                      <a:pt x="14730" y="7"/>
                    </a:lnTo>
                    <a:cubicBezTo>
                      <a:pt x="14729" y="7"/>
                      <a:pt x="14728" y="6"/>
                      <a:pt x="14728" y="5"/>
                    </a:cubicBezTo>
                    <a:cubicBezTo>
                      <a:pt x="14728" y="4"/>
                      <a:pt x="14729" y="3"/>
                      <a:pt x="14730" y="3"/>
                    </a:cubicBezTo>
                    <a:close/>
                    <a:moveTo>
                      <a:pt x="14738" y="3"/>
                    </a:moveTo>
                    <a:lnTo>
                      <a:pt x="14738" y="3"/>
                    </a:lnTo>
                    <a:cubicBezTo>
                      <a:pt x="14739" y="3"/>
                      <a:pt x="14740" y="4"/>
                      <a:pt x="14740" y="5"/>
                    </a:cubicBezTo>
                    <a:cubicBezTo>
                      <a:pt x="14740" y="6"/>
                      <a:pt x="14739" y="7"/>
                      <a:pt x="14738" y="7"/>
                    </a:cubicBezTo>
                    <a:lnTo>
                      <a:pt x="14738" y="7"/>
                    </a:lnTo>
                    <a:cubicBezTo>
                      <a:pt x="14737" y="7"/>
                      <a:pt x="14736" y="6"/>
                      <a:pt x="14736" y="5"/>
                    </a:cubicBezTo>
                    <a:cubicBezTo>
                      <a:pt x="14736" y="4"/>
                      <a:pt x="14737" y="3"/>
                      <a:pt x="14738" y="3"/>
                    </a:cubicBezTo>
                    <a:close/>
                    <a:moveTo>
                      <a:pt x="14746" y="3"/>
                    </a:moveTo>
                    <a:lnTo>
                      <a:pt x="14746" y="3"/>
                    </a:lnTo>
                    <a:cubicBezTo>
                      <a:pt x="14747" y="3"/>
                      <a:pt x="14748" y="4"/>
                      <a:pt x="14748" y="5"/>
                    </a:cubicBezTo>
                    <a:cubicBezTo>
                      <a:pt x="14748" y="6"/>
                      <a:pt x="14747" y="7"/>
                      <a:pt x="14746" y="7"/>
                    </a:cubicBezTo>
                    <a:lnTo>
                      <a:pt x="14746" y="7"/>
                    </a:lnTo>
                    <a:cubicBezTo>
                      <a:pt x="14745" y="7"/>
                      <a:pt x="14744" y="6"/>
                      <a:pt x="14744" y="5"/>
                    </a:cubicBezTo>
                    <a:cubicBezTo>
                      <a:pt x="14744" y="4"/>
                      <a:pt x="14745" y="3"/>
                      <a:pt x="14746" y="3"/>
                    </a:cubicBezTo>
                    <a:close/>
                    <a:moveTo>
                      <a:pt x="14754" y="3"/>
                    </a:moveTo>
                    <a:lnTo>
                      <a:pt x="14754" y="3"/>
                    </a:lnTo>
                    <a:cubicBezTo>
                      <a:pt x="14755" y="3"/>
                      <a:pt x="14756" y="4"/>
                      <a:pt x="14756" y="5"/>
                    </a:cubicBezTo>
                    <a:cubicBezTo>
                      <a:pt x="14756" y="6"/>
                      <a:pt x="14755" y="7"/>
                      <a:pt x="14754" y="7"/>
                    </a:cubicBezTo>
                    <a:lnTo>
                      <a:pt x="14754" y="7"/>
                    </a:lnTo>
                    <a:cubicBezTo>
                      <a:pt x="14753" y="7"/>
                      <a:pt x="14752" y="6"/>
                      <a:pt x="14752" y="5"/>
                    </a:cubicBezTo>
                    <a:cubicBezTo>
                      <a:pt x="14752" y="4"/>
                      <a:pt x="14753" y="3"/>
                      <a:pt x="14754" y="3"/>
                    </a:cubicBezTo>
                    <a:close/>
                    <a:moveTo>
                      <a:pt x="14762" y="3"/>
                    </a:moveTo>
                    <a:lnTo>
                      <a:pt x="14762" y="3"/>
                    </a:lnTo>
                    <a:cubicBezTo>
                      <a:pt x="14763" y="3"/>
                      <a:pt x="14764" y="4"/>
                      <a:pt x="14764" y="5"/>
                    </a:cubicBezTo>
                    <a:cubicBezTo>
                      <a:pt x="14764" y="6"/>
                      <a:pt x="14763" y="7"/>
                      <a:pt x="14762" y="7"/>
                    </a:cubicBezTo>
                    <a:lnTo>
                      <a:pt x="14762" y="7"/>
                    </a:lnTo>
                    <a:cubicBezTo>
                      <a:pt x="14761" y="7"/>
                      <a:pt x="14760" y="6"/>
                      <a:pt x="14760" y="5"/>
                    </a:cubicBezTo>
                    <a:cubicBezTo>
                      <a:pt x="14760" y="4"/>
                      <a:pt x="14761" y="3"/>
                      <a:pt x="14762" y="3"/>
                    </a:cubicBezTo>
                    <a:close/>
                    <a:moveTo>
                      <a:pt x="14770" y="3"/>
                    </a:moveTo>
                    <a:lnTo>
                      <a:pt x="14770" y="3"/>
                    </a:lnTo>
                    <a:cubicBezTo>
                      <a:pt x="14771" y="3"/>
                      <a:pt x="14772" y="4"/>
                      <a:pt x="14772" y="5"/>
                    </a:cubicBezTo>
                    <a:cubicBezTo>
                      <a:pt x="14772" y="6"/>
                      <a:pt x="14771" y="7"/>
                      <a:pt x="14770" y="7"/>
                    </a:cubicBezTo>
                    <a:lnTo>
                      <a:pt x="14770" y="7"/>
                    </a:lnTo>
                    <a:cubicBezTo>
                      <a:pt x="14769" y="7"/>
                      <a:pt x="14768" y="6"/>
                      <a:pt x="14768" y="5"/>
                    </a:cubicBezTo>
                    <a:cubicBezTo>
                      <a:pt x="14768" y="4"/>
                      <a:pt x="14769" y="3"/>
                      <a:pt x="14770" y="3"/>
                    </a:cubicBezTo>
                    <a:close/>
                    <a:moveTo>
                      <a:pt x="14778" y="3"/>
                    </a:moveTo>
                    <a:lnTo>
                      <a:pt x="14778" y="3"/>
                    </a:lnTo>
                    <a:cubicBezTo>
                      <a:pt x="14779" y="3"/>
                      <a:pt x="14780" y="4"/>
                      <a:pt x="14780" y="5"/>
                    </a:cubicBezTo>
                    <a:cubicBezTo>
                      <a:pt x="14780" y="6"/>
                      <a:pt x="14779" y="7"/>
                      <a:pt x="14778" y="7"/>
                    </a:cubicBezTo>
                    <a:lnTo>
                      <a:pt x="14778" y="7"/>
                    </a:lnTo>
                    <a:cubicBezTo>
                      <a:pt x="14777" y="7"/>
                      <a:pt x="14776" y="6"/>
                      <a:pt x="14776" y="5"/>
                    </a:cubicBezTo>
                    <a:cubicBezTo>
                      <a:pt x="14776" y="4"/>
                      <a:pt x="14777" y="3"/>
                      <a:pt x="14778" y="3"/>
                    </a:cubicBezTo>
                    <a:close/>
                    <a:moveTo>
                      <a:pt x="14786" y="3"/>
                    </a:moveTo>
                    <a:lnTo>
                      <a:pt x="14786" y="3"/>
                    </a:lnTo>
                    <a:cubicBezTo>
                      <a:pt x="14787" y="3"/>
                      <a:pt x="14788" y="4"/>
                      <a:pt x="14788" y="5"/>
                    </a:cubicBezTo>
                    <a:cubicBezTo>
                      <a:pt x="14788" y="6"/>
                      <a:pt x="14787" y="7"/>
                      <a:pt x="14786" y="7"/>
                    </a:cubicBezTo>
                    <a:lnTo>
                      <a:pt x="14786" y="7"/>
                    </a:lnTo>
                    <a:cubicBezTo>
                      <a:pt x="14785" y="7"/>
                      <a:pt x="14784" y="6"/>
                      <a:pt x="14784" y="5"/>
                    </a:cubicBezTo>
                    <a:cubicBezTo>
                      <a:pt x="14784" y="4"/>
                      <a:pt x="14785" y="3"/>
                      <a:pt x="14786" y="3"/>
                    </a:cubicBezTo>
                    <a:close/>
                    <a:moveTo>
                      <a:pt x="14794" y="3"/>
                    </a:moveTo>
                    <a:lnTo>
                      <a:pt x="14794" y="3"/>
                    </a:lnTo>
                    <a:cubicBezTo>
                      <a:pt x="14795" y="3"/>
                      <a:pt x="14796" y="4"/>
                      <a:pt x="14796" y="5"/>
                    </a:cubicBezTo>
                    <a:cubicBezTo>
                      <a:pt x="14796" y="6"/>
                      <a:pt x="14795" y="7"/>
                      <a:pt x="14794" y="7"/>
                    </a:cubicBezTo>
                    <a:lnTo>
                      <a:pt x="14794" y="7"/>
                    </a:lnTo>
                    <a:cubicBezTo>
                      <a:pt x="14793" y="7"/>
                      <a:pt x="14792" y="6"/>
                      <a:pt x="14792" y="5"/>
                    </a:cubicBezTo>
                    <a:cubicBezTo>
                      <a:pt x="14792" y="4"/>
                      <a:pt x="14793" y="3"/>
                      <a:pt x="14794" y="3"/>
                    </a:cubicBezTo>
                    <a:close/>
                    <a:moveTo>
                      <a:pt x="14802" y="3"/>
                    </a:moveTo>
                    <a:lnTo>
                      <a:pt x="14802" y="3"/>
                    </a:lnTo>
                    <a:cubicBezTo>
                      <a:pt x="14803" y="3"/>
                      <a:pt x="14804" y="4"/>
                      <a:pt x="14804" y="5"/>
                    </a:cubicBezTo>
                    <a:cubicBezTo>
                      <a:pt x="14804" y="6"/>
                      <a:pt x="14803" y="7"/>
                      <a:pt x="14802" y="7"/>
                    </a:cubicBezTo>
                    <a:lnTo>
                      <a:pt x="14802" y="7"/>
                    </a:lnTo>
                    <a:cubicBezTo>
                      <a:pt x="14801" y="7"/>
                      <a:pt x="14800" y="6"/>
                      <a:pt x="14800" y="5"/>
                    </a:cubicBezTo>
                    <a:cubicBezTo>
                      <a:pt x="14800" y="4"/>
                      <a:pt x="14801" y="3"/>
                      <a:pt x="14802" y="3"/>
                    </a:cubicBezTo>
                    <a:close/>
                    <a:moveTo>
                      <a:pt x="14810" y="3"/>
                    </a:moveTo>
                    <a:lnTo>
                      <a:pt x="14810" y="3"/>
                    </a:lnTo>
                    <a:cubicBezTo>
                      <a:pt x="14811" y="3"/>
                      <a:pt x="14812" y="4"/>
                      <a:pt x="14812" y="5"/>
                    </a:cubicBezTo>
                    <a:cubicBezTo>
                      <a:pt x="14812" y="7"/>
                      <a:pt x="14811" y="7"/>
                      <a:pt x="14810" y="7"/>
                    </a:cubicBezTo>
                    <a:lnTo>
                      <a:pt x="14810" y="7"/>
                    </a:lnTo>
                    <a:cubicBezTo>
                      <a:pt x="14809" y="7"/>
                      <a:pt x="14808" y="7"/>
                      <a:pt x="14808" y="5"/>
                    </a:cubicBezTo>
                    <a:cubicBezTo>
                      <a:pt x="14808" y="4"/>
                      <a:pt x="14809" y="3"/>
                      <a:pt x="14810" y="3"/>
                    </a:cubicBezTo>
                    <a:close/>
                    <a:moveTo>
                      <a:pt x="14818" y="3"/>
                    </a:moveTo>
                    <a:lnTo>
                      <a:pt x="14818" y="3"/>
                    </a:lnTo>
                    <a:cubicBezTo>
                      <a:pt x="14819" y="3"/>
                      <a:pt x="14820" y="4"/>
                      <a:pt x="14820" y="5"/>
                    </a:cubicBezTo>
                    <a:cubicBezTo>
                      <a:pt x="14820" y="7"/>
                      <a:pt x="14819" y="7"/>
                      <a:pt x="14818" y="7"/>
                    </a:cubicBezTo>
                    <a:lnTo>
                      <a:pt x="14818" y="7"/>
                    </a:lnTo>
                    <a:cubicBezTo>
                      <a:pt x="14817" y="7"/>
                      <a:pt x="14816" y="7"/>
                      <a:pt x="14816" y="5"/>
                    </a:cubicBezTo>
                    <a:cubicBezTo>
                      <a:pt x="14816" y="4"/>
                      <a:pt x="14817" y="3"/>
                      <a:pt x="14818" y="3"/>
                    </a:cubicBezTo>
                    <a:close/>
                    <a:moveTo>
                      <a:pt x="14826" y="3"/>
                    </a:moveTo>
                    <a:lnTo>
                      <a:pt x="14826" y="3"/>
                    </a:lnTo>
                    <a:cubicBezTo>
                      <a:pt x="14827" y="3"/>
                      <a:pt x="14828" y="4"/>
                      <a:pt x="14828" y="5"/>
                    </a:cubicBezTo>
                    <a:cubicBezTo>
                      <a:pt x="14828" y="7"/>
                      <a:pt x="14827" y="7"/>
                      <a:pt x="14826" y="7"/>
                    </a:cubicBezTo>
                    <a:lnTo>
                      <a:pt x="14826" y="7"/>
                    </a:lnTo>
                    <a:cubicBezTo>
                      <a:pt x="14825" y="7"/>
                      <a:pt x="14824" y="7"/>
                      <a:pt x="14824" y="5"/>
                    </a:cubicBezTo>
                    <a:cubicBezTo>
                      <a:pt x="14824" y="4"/>
                      <a:pt x="14825" y="3"/>
                      <a:pt x="14826" y="3"/>
                    </a:cubicBezTo>
                    <a:close/>
                    <a:moveTo>
                      <a:pt x="14834" y="3"/>
                    </a:moveTo>
                    <a:lnTo>
                      <a:pt x="14834" y="3"/>
                    </a:lnTo>
                    <a:cubicBezTo>
                      <a:pt x="14835" y="3"/>
                      <a:pt x="14836" y="4"/>
                      <a:pt x="14836" y="5"/>
                    </a:cubicBezTo>
                    <a:cubicBezTo>
                      <a:pt x="14836" y="7"/>
                      <a:pt x="14835" y="7"/>
                      <a:pt x="14834" y="7"/>
                    </a:cubicBezTo>
                    <a:lnTo>
                      <a:pt x="14834" y="7"/>
                    </a:lnTo>
                    <a:cubicBezTo>
                      <a:pt x="14833" y="7"/>
                      <a:pt x="14832" y="7"/>
                      <a:pt x="14832" y="5"/>
                    </a:cubicBezTo>
                    <a:cubicBezTo>
                      <a:pt x="14832" y="4"/>
                      <a:pt x="14833" y="3"/>
                      <a:pt x="14834" y="3"/>
                    </a:cubicBezTo>
                    <a:close/>
                    <a:moveTo>
                      <a:pt x="14842" y="3"/>
                    </a:moveTo>
                    <a:lnTo>
                      <a:pt x="14842" y="3"/>
                    </a:lnTo>
                    <a:cubicBezTo>
                      <a:pt x="14843" y="3"/>
                      <a:pt x="14844" y="4"/>
                      <a:pt x="14844" y="5"/>
                    </a:cubicBezTo>
                    <a:cubicBezTo>
                      <a:pt x="14844" y="7"/>
                      <a:pt x="14843" y="7"/>
                      <a:pt x="14842" y="7"/>
                    </a:cubicBezTo>
                    <a:lnTo>
                      <a:pt x="14842" y="7"/>
                    </a:lnTo>
                    <a:cubicBezTo>
                      <a:pt x="14841" y="7"/>
                      <a:pt x="14840" y="7"/>
                      <a:pt x="14840" y="5"/>
                    </a:cubicBezTo>
                    <a:cubicBezTo>
                      <a:pt x="14840" y="4"/>
                      <a:pt x="14841" y="3"/>
                      <a:pt x="14842" y="3"/>
                    </a:cubicBezTo>
                    <a:close/>
                    <a:moveTo>
                      <a:pt x="14850" y="3"/>
                    </a:moveTo>
                    <a:lnTo>
                      <a:pt x="14850" y="3"/>
                    </a:lnTo>
                    <a:cubicBezTo>
                      <a:pt x="14851" y="3"/>
                      <a:pt x="14852" y="4"/>
                      <a:pt x="14852" y="5"/>
                    </a:cubicBezTo>
                    <a:cubicBezTo>
                      <a:pt x="14852" y="7"/>
                      <a:pt x="14851" y="7"/>
                      <a:pt x="14850" y="7"/>
                    </a:cubicBezTo>
                    <a:lnTo>
                      <a:pt x="14850" y="7"/>
                    </a:lnTo>
                    <a:cubicBezTo>
                      <a:pt x="14849" y="7"/>
                      <a:pt x="14848" y="7"/>
                      <a:pt x="14848" y="5"/>
                    </a:cubicBezTo>
                    <a:cubicBezTo>
                      <a:pt x="14848" y="4"/>
                      <a:pt x="14849" y="3"/>
                      <a:pt x="14850" y="3"/>
                    </a:cubicBezTo>
                    <a:close/>
                    <a:moveTo>
                      <a:pt x="14858" y="3"/>
                    </a:moveTo>
                    <a:lnTo>
                      <a:pt x="14858" y="3"/>
                    </a:lnTo>
                    <a:cubicBezTo>
                      <a:pt x="14859" y="3"/>
                      <a:pt x="14860" y="4"/>
                      <a:pt x="14860" y="5"/>
                    </a:cubicBezTo>
                    <a:cubicBezTo>
                      <a:pt x="14860" y="7"/>
                      <a:pt x="14859" y="7"/>
                      <a:pt x="14858" y="7"/>
                    </a:cubicBezTo>
                    <a:lnTo>
                      <a:pt x="14858" y="7"/>
                    </a:lnTo>
                    <a:cubicBezTo>
                      <a:pt x="14857" y="7"/>
                      <a:pt x="14856" y="7"/>
                      <a:pt x="14856" y="5"/>
                    </a:cubicBezTo>
                    <a:cubicBezTo>
                      <a:pt x="14856" y="4"/>
                      <a:pt x="14857" y="3"/>
                      <a:pt x="14858" y="3"/>
                    </a:cubicBezTo>
                    <a:close/>
                    <a:moveTo>
                      <a:pt x="14866" y="3"/>
                    </a:moveTo>
                    <a:lnTo>
                      <a:pt x="14866" y="3"/>
                    </a:lnTo>
                    <a:cubicBezTo>
                      <a:pt x="14867" y="3"/>
                      <a:pt x="14868" y="4"/>
                      <a:pt x="14868" y="5"/>
                    </a:cubicBezTo>
                    <a:cubicBezTo>
                      <a:pt x="14868" y="7"/>
                      <a:pt x="14867" y="7"/>
                      <a:pt x="14866" y="7"/>
                    </a:cubicBezTo>
                    <a:lnTo>
                      <a:pt x="14866" y="7"/>
                    </a:lnTo>
                    <a:cubicBezTo>
                      <a:pt x="14865" y="7"/>
                      <a:pt x="14864" y="7"/>
                      <a:pt x="14864" y="5"/>
                    </a:cubicBezTo>
                    <a:cubicBezTo>
                      <a:pt x="14864" y="4"/>
                      <a:pt x="14865" y="3"/>
                      <a:pt x="14866" y="3"/>
                    </a:cubicBezTo>
                    <a:close/>
                    <a:moveTo>
                      <a:pt x="14874" y="3"/>
                    </a:moveTo>
                    <a:lnTo>
                      <a:pt x="14874" y="3"/>
                    </a:lnTo>
                    <a:cubicBezTo>
                      <a:pt x="14875" y="3"/>
                      <a:pt x="14876" y="4"/>
                      <a:pt x="14876" y="5"/>
                    </a:cubicBezTo>
                    <a:cubicBezTo>
                      <a:pt x="14876" y="7"/>
                      <a:pt x="14875" y="7"/>
                      <a:pt x="14874" y="7"/>
                    </a:cubicBezTo>
                    <a:lnTo>
                      <a:pt x="14874" y="7"/>
                    </a:lnTo>
                    <a:cubicBezTo>
                      <a:pt x="14873" y="7"/>
                      <a:pt x="14872" y="7"/>
                      <a:pt x="14872" y="5"/>
                    </a:cubicBezTo>
                    <a:cubicBezTo>
                      <a:pt x="14872" y="4"/>
                      <a:pt x="14873" y="3"/>
                      <a:pt x="14874" y="3"/>
                    </a:cubicBezTo>
                    <a:close/>
                    <a:moveTo>
                      <a:pt x="14882" y="3"/>
                    </a:moveTo>
                    <a:lnTo>
                      <a:pt x="14882" y="3"/>
                    </a:lnTo>
                    <a:cubicBezTo>
                      <a:pt x="14883" y="3"/>
                      <a:pt x="14884" y="4"/>
                      <a:pt x="14884" y="5"/>
                    </a:cubicBezTo>
                    <a:cubicBezTo>
                      <a:pt x="14884" y="7"/>
                      <a:pt x="14883" y="7"/>
                      <a:pt x="14882" y="7"/>
                    </a:cubicBezTo>
                    <a:lnTo>
                      <a:pt x="14882" y="7"/>
                    </a:lnTo>
                    <a:cubicBezTo>
                      <a:pt x="14881" y="7"/>
                      <a:pt x="14880" y="7"/>
                      <a:pt x="14880" y="5"/>
                    </a:cubicBezTo>
                    <a:cubicBezTo>
                      <a:pt x="14880" y="4"/>
                      <a:pt x="14881" y="3"/>
                      <a:pt x="14882" y="3"/>
                    </a:cubicBezTo>
                    <a:close/>
                    <a:moveTo>
                      <a:pt x="14890" y="3"/>
                    </a:moveTo>
                    <a:lnTo>
                      <a:pt x="14890" y="3"/>
                    </a:lnTo>
                    <a:cubicBezTo>
                      <a:pt x="14891" y="3"/>
                      <a:pt x="14892" y="4"/>
                      <a:pt x="14892" y="5"/>
                    </a:cubicBezTo>
                    <a:cubicBezTo>
                      <a:pt x="14892" y="7"/>
                      <a:pt x="14891" y="7"/>
                      <a:pt x="14890" y="7"/>
                    </a:cubicBezTo>
                    <a:lnTo>
                      <a:pt x="14890" y="7"/>
                    </a:lnTo>
                    <a:cubicBezTo>
                      <a:pt x="14889" y="7"/>
                      <a:pt x="14888" y="7"/>
                      <a:pt x="14888" y="5"/>
                    </a:cubicBezTo>
                    <a:cubicBezTo>
                      <a:pt x="14888" y="4"/>
                      <a:pt x="14889" y="3"/>
                      <a:pt x="14890" y="3"/>
                    </a:cubicBezTo>
                    <a:close/>
                    <a:moveTo>
                      <a:pt x="14898" y="3"/>
                    </a:moveTo>
                    <a:lnTo>
                      <a:pt x="14898" y="3"/>
                    </a:lnTo>
                    <a:cubicBezTo>
                      <a:pt x="14899" y="3"/>
                      <a:pt x="14900" y="4"/>
                      <a:pt x="14900" y="5"/>
                    </a:cubicBezTo>
                    <a:cubicBezTo>
                      <a:pt x="14900" y="7"/>
                      <a:pt x="14899" y="7"/>
                      <a:pt x="14898" y="7"/>
                    </a:cubicBezTo>
                    <a:lnTo>
                      <a:pt x="14898" y="7"/>
                    </a:lnTo>
                    <a:cubicBezTo>
                      <a:pt x="14897" y="7"/>
                      <a:pt x="14896" y="7"/>
                      <a:pt x="14896" y="5"/>
                    </a:cubicBezTo>
                    <a:cubicBezTo>
                      <a:pt x="14896" y="4"/>
                      <a:pt x="14897" y="3"/>
                      <a:pt x="14898" y="3"/>
                    </a:cubicBezTo>
                    <a:close/>
                    <a:moveTo>
                      <a:pt x="14906" y="3"/>
                    </a:moveTo>
                    <a:lnTo>
                      <a:pt x="14906" y="3"/>
                    </a:lnTo>
                    <a:cubicBezTo>
                      <a:pt x="14907" y="3"/>
                      <a:pt x="14908" y="4"/>
                      <a:pt x="14908" y="5"/>
                    </a:cubicBezTo>
                    <a:cubicBezTo>
                      <a:pt x="14908" y="7"/>
                      <a:pt x="14907" y="7"/>
                      <a:pt x="14906" y="7"/>
                    </a:cubicBezTo>
                    <a:lnTo>
                      <a:pt x="14906" y="7"/>
                    </a:lnTo>
                    <a:cubicBezTo>
                      <a:pt x="14905" y="7"/>
                      <a:pt x="14904" y="7"/>
                      <a:pt x="14904" y="5"/>
                    </a:cubicBezTo>
                    <a:cubicBezTo>
                      <a:pt x="14904" y="4"/>
                      <a:pt x="14905" y="3"/>
                      <a:pt x="14906" y="3"/>
                    </a:cubicBezTo>
                    <a:close/>
                    <a:moveTo>
                      <a:pt x="14914" y="3"/>
                    </a:moveTo>
                    <a:lnTo>
                      <a:pt x="14914" y="3"/>
                    </a:lnTo>
                    <a:cubicBezTo>
                      <a:pt x="14915" y="3"/>
                      <a:pt x="14916" y="4"/>
                      <a:pt x="14916" y="5"/>
                    </a:cubicBezTo>
                    <a:cubicBezTo>
                      <a:pt x="14916" y="7"/>
                      <a:pt x="14915" y="7"/>
                      <a:pt x="14914" y="7"/>
                    </a:cubicBezTo>
                    <a:lnTo>
                      <a:pt x="14914" y="7"/>
                    </a:lnTo>
                    <a:cubicBezTo>
                      <a:pt x="14913" y="7"/>
                      <a:pt x="14912" y="7"/>
                      <a:pt x="14912" y="5"/>
                    </a:cubicBezTo>
                    <a:cubicBezTo>
                      <a:pt x="14912" y="4"/>
                      <a:pt x="14913" y="3"/>
                      <a:pt x="14914" y="3"/>
                    </a:cubicBezTo>
                    <a:close/>
                    <a:moveTo>
                      <a:pt x="14922" y="3"/>
                    </a:moveTo>
                    <a:lnTo>
                      <a:pt x="14922" y="3"/>
                    </a:lnTo>
                    <a:cubicBezTo>
                      <a:pt x="14923" y="3"/>
                      <a:pt x="14924" y="4"/>
                      <a:pt x="14924" y="5"/>
                    </a:cubicBezTo>
                    <a:cubicBezTo>
                      <a:pt x="14924" y="7"/>
                      <a:pt x="14923" y="7"/>
                      <a:pt x="14922" y="7"/>
                    </a:cubicBezTo>
                    <a:lnTo>
                      <a:pt x="14922" y="7"/>
                    </a:lnTo>
                    <a:cubicBezTo>
                      <a:pt x="14921" y="7"/>
                      <a:pt x="14920" y="7"/>
                      <a:pt x="14920" y="5"/>
                    </a:cubicBezTo>
                    <a:cubicBezTo>
                      <a:pt x="14920" y="4"/>
                      <a:pt x="14921" y="3"/>
                      <a:pt x="14922" y="3"/>
                    </a:cubicBezTo>
                    <a:close/>
                    <a:moveTo>
                      <a:pt x="14930" y="3"/>
                    </a:moveTo>
                    <a:lnTo>
                      <a:pt x="14930" y="3"/>
                    </a:lnTo>
                    <a:cubicBezTo>
                      <a:pt x="14931" y="3"/>
                      <a:pt x="14932" y="4"/>
                      <a:pt x="14932" y="5"/>
                    </a:cubicBezTo>
                    <a:cubicBezTo>
                      <a:pt x="14932" y="7"/>
                      <a:pt x="14931" y="7"/>
                      <a:pt x="14930" y="7"/>
                    </a:cubicBezTo>
                    <a:lnTo>
                      <a:pt x="14930" y="7"/>
                    </a:lnTo>
                    <a:cubicBezTo>
                      <a:pt x="14929" y="7"/>
                      <a:pt x="14928" y="7"/>
                      <a:pt x="14928" y="5"/>
                    </a:cubicBezTo>
                    <a:cubicBezTo>
                      <a:pt x="14928" y="4"/>
                      <a:pt x="14929" y="3"/>
                      <a:pt x="14930" y="3"/>
                    </a:cubicBezTo>
                    <a:close/>
                    <a:moveTo>
                      <a:pt x="14938" y="3"/>
                    </a:moveTo>
                    <a:lnTo>
                      <a:pt x="14938" y="3"/>
                    </a:lnTo>
                    <a:cubicBezTo>
                      <a:pt x="14939" y="3"/>
                      <a:pt x="14940" y="4"/>
                      <a:pt x="14940" y="5"/>
                    </a:cubicBezTo>
                    <a:cubicBezTo>
                      <a:pt x="14940" y="7"/>
                      <a:pt x="14939" y="7"/>
                      <a:pt x="14938" y="7"/>
                    </a:cubicBezTo>
                    <a:lnTo>
                      <a:pt x="14938" y="7"/>
                    </a:lnTo>
                    <a:cubicBezTo>
                      <a:pt x="14937" y="7"/>
                      <a:pt x="14936" y="7"/>
                      <a:pt x="14936" y="5"/>
                    </a:cubicBezTo>
                    <a:cubicBezTo>
                      <a:pt x="14936" y="4"/>
                      <a:pt x="14937" y="3"/>
                      <a:pt x="14938" y="3"/>
                    </a:cubicBezTo>
                    <a:close/>
                    <a:moveTo>
                      <a:pt x="14946" y="3"/>
                    </a:moveTo>
                    <a:lnTo>
                      <a:pt x="14946" y="3"/>
                    </a:lnTo>
                    <a:cubicBezTo>
                      <a:pt x="14947" y="3"/>
                      <a:pt x="14948" y="4"/>
                      <a:pt x="14948" y="5"/>
                    </a:cubicBezTo>
                    <a:cubicBezTo>
                      <a:pt x="14948" y="7"/>
                      <a:pt x="14947" y="7"/>
                      <a:pt x="14946" y="7"/>
                    </a:cubicBezTo>
                    <a:lnTo>
                      <a:pt x="14946" y="7"/>
                    </a:lnTo>
                    <a:cubicBezTo>
                      <a:pt x="14945" y="7"/>
                      <a:pt x="14944" y="7"/>
                      <a:pt x="14944" y="5"/>
                    </a:cubicBezTo>
                    <a:cubicBezTo>
                      <a:pt x="14944" y="4"/>
                      <a:pt x="14945" y="3"/>
                      <a:pt x="14946" y="3"/>
                    </a:cubicBezTo>
                    <a:close/>
                    <a:moveTo>
                      <a:pt x="14954" y="3"/>
                    </a:moveTo>
                    <a:lnTo>
                      <a:pt x="14954" y="3"/>
                    </a:lnTo>
                    <a:cubicBezTo>
                      <a:pt x="14955" y="3"/>
                      <a:pt x="14956" y="4"/>
                      <a:pt x="14956" y="5"/>
                    </a:cubicBezTo>
                    <a:cubicBezTo>
                      <a:pt x="14956" y="7"/>
                      <a:pt x="14955" y="7"/>
                      <a:pt x="14954" y="7"/>
                    </a:cubicBezTo>
                    <a:lnTo>
                      <a:pt x="14954" y="7"/>
                    </a:lnTo>
                    <a:cubicBezTo>
                      <a:pt x="14953" y="7"/>
                      <a:pt x="14952" y="7"/>
                      <a:pt x="14952" y="5"/>
                    </a:cubicBezTo>
                    <a:cubicBezTo>
                      <a:pt x="14952" y="4"/>
                      <a:pt x="14953" y="3"/>
                      <a:pt x="14954" y="3"/>
                    </a:cubicBezTo>
                    <a:close/>
                    <a:moveTo>
                      <a:pt x="14962" y="3"/>
                    </a:moveTo>
                    <a:lnTo>
                      <a:pt x="14962" y="3"/>
                    </a:lnTo>
                    <a:cubicBezTo>
                      <a:pt x="14963" y="3"/>
                      <a:pt x="14964" y="4"/>
                      <a:pt x="14964" y="5"/>
                    </a:cubicBezTo>
                    <a:cubicBezTo>
                      <a:pt x="14964" y="7"/>
                      <a:pt x="14963" y="7"/>
                      <a:pt x="14962" y="7"/>
                    </a:cubicBezTo>
                    <a:lnTo>
                      <a:pt x="14962" y="7"/>
                    </a:lnTo>
                    <a:cubicBezTo>
                      <a:pt x="14961" y="7"/>
                      <a:pt x="14960" y="7"/>
                      <a:pt x="14960" y="5"/>
                    </a:cubicBezTo>
                    <a:cubicBezTo>
                      <a:pt x="14960" y="4"/>
                      <a:pt x="14961" y="3"/>
                      <a:pt x="14962" y="3"/>
                    </a:cubicBezTo>
                    <a:close/>
                    <a:moveTo>
                      <a:pt x="14970" y="3"/>
                    </a:moveTo>
                    <a:lnTo>
                      <a:pt x="14970" y="3"/>
                    </a:lnTo>
                    <a:cubicBezTo>
                      <a:pt x="14971" y="3"/>
                      <a:pt x="14972" y="4"/>
                      <a:pt x="14972" y="5"/>
                    </a:cubicBezTo>
                    <a:cubicBezTo>
                      <a:pt x="14972" y="7"/>
                      <a:pt x="14971" y="7"/>
                      <a:pt x="14970" y="7"/>
                    </a:cubicBezTo>
                    <a:lnTo>
                      <a:pt x="14970" y="7"/>
                    </a:lnTo>
                    <a:cubicBezTo>
                      <a:pt x="14969" y="7"/>
                      <a:pt x="14968" y="7"/>
                      <a:pt x="14968" y="5"/>
                    </a:cubicBezTo>
                    <a:cubicBezTo>
                      <a:pt x="14968" y="4"/>
                      <a:pt x="14969" y="3"/>
                      <a:pt x="14970" y="3"/>
                    </a:cubicBezTo>
                    <a:close/>
                    <a:moveTo>
                      <a:pt x="14978" y="3"/>
                    </a:moveTo>
                    <a:lnTo>
                      <a:pt x="14978" y="3"/>
                    </a:lnTo>
                    <a:cubicBezTo>
                      <a:pt x="14979" y="3"/>
                      <a:pt x="14980" y="4"/>
                      <a:pt x="14980" y="5"/>
                    </a:cubicBezTo>
                    <a:cubicBezTo>
                      <a:pt x="14980" y="7"/>
                      <a:pt x="14979" y="7"/>
                      <a:pt x="14978" y="7"/>
                    </a:cubicBezTo>
                    <a:lnTo>
                      <a:pt x="14978" y="7"/>
                    </a:lnTo>
                    <a:cubicBezTo>
                      <a:pt x="14977" y="7"/>
                      <a:pt x="14976" y="7"/>
                      <a:pt x="14976" y="5"/>
                    </a:cubicBezTo>
                    <a:cubicBezTo>
                      <a:pt x="14976" y="4"/>
                      <a:pt x="14977" y="3"/>
                      <a:pt x="14978" y="3"/>
                    </a:cubicBezTo>
                    <a:close/>
                    <a:moveTo>
                      <a:pt x="14986" y="3"/>
                    </a:moveTo>
                    <a:lnTo>
                      <a:pt x="14986" y="3"/>
                    </a:lnTo>
                    <a:cubicBezTo>
                      <a:pt x="14987" y="3"/>
                      <a:pt x="14988" y="4"/>
                      <a:pt x="14988" y="5"/>
                    </a:cubicBezTo>
                    <a:cubicBezTo>
                      <a:pt x="14988" y="7"/>
                      <a:pt x="14987" y="7"/>
                      <a:pt x="14986" y="7"/>
                    </a:cubicBezTo>
                    <a:lnTo>
                      <a:pt x="14986" y="7"/>
                    </a:lnTo>
                    <a:cubicBezTo>
                      <a:pt x="14985" y="7"/>
                      <a:pt x="14984" y="7"/>
                      <a:pt x="14984" y="5"/>
                    </a:cubicBezTo>
                    <a:cubicBezTo>
                      <a:pt x="14984" y="4"/>
                      <a:pt x="14985" y="3"/>
                      <a:pt x="14986" y="3"/>
                    </a:cubicBezTo>
                    <a:close/>
                    <a:moveTo>
                      <a:pt x="14994" y="3"/>
                    </a:moveTo>
                    <a:lnTo>
                      <a:pt x="14994" y="3"/>
                    </a:lnTo>
                    <a:cubicBezTo>
                      <a:pt x="14995" y="3"/>
                      <a:pt x="14996" y="4"/>
                      <a:pt x="14996" y="5"/>
                    </a:cubicBezTo>
                    <a:cubicBezTo>
                      <a:pt x="14996" y="7"/>
                      <a:pt x="14995" y="7"/>
                      <a:pt x="14994" y="7"/>
                    </a:cubicBezTo>
                    <a:lnTo>
                      <a:pt x="14994" y="7"/>
                    </a:lnTo>
                    <a:cubicBezTo>
                      <a:pt x="14993" y="7"/>
                      <a:pt x="14992" y="7"/>
                      <a:pt x="14992" y="5"/>
                    </a:cubicBezTo>
                    <a:cubicBezTo>
                      <a:pt x="14992" y="4"/>
                      <a:pt x="14993" y="3"/>
                      <a:pt x="14994" y="3"/>
                    </a:cubicBezTo>
                    <a:close/>
                    <a:moveTo>
                      <a:pt x="15002" y="3"/>
                    </a:moveTo>
                    <a:lnTo>
                      <a:pt x="15002" y="3"/>
                    </a:lnTo>
                    <a:cubicBezTo>
                      <a:pt x="15003" y="3"/>
                      <a:pt x="15004" y="4"/>
                      <a:pt x="15004" y="5"/>
                    </a:cubicBezTo>
                    <a:cubicBezTo>
                      <a:pt x="15004" y="7"/>
                      <a:pt x="15003" y="7"/>
                      <a:pt x="15002" y="7"/>
                    </a:cubicBezTo>
                    <a:lnTo>
                      <a:pt x="15002" y="7"/>
                    </a:lnTo>
                    <a:cubicBezTo>
                      <a:pt x="15001" y="7"/>
                      <a:pt x="15000" y="7"/>
                      <a:pt x="15000" y="5"/>
                    </a:cubicBezTo>
                    <a:cubicBezTo>
                      <a:pt x="15000" y="4"/>
                      <a:pt x="15001" y="3"/>
                      <a:pt x="15002" y="3"/>
                    </a:cubicBezTo>
                    <a:close/>
                    <a:moveTo>
                      <a:pt x="15010" y="3"/>
                    </a:moveTo>
                    <a:lnTo>
                      <a:pt x="15010" y="3"/>
                    </a:lnTo>
                    <a:cubicBezTo>
                      <a:pt x="15011" y="3"/>
                      <a:pt x="15012" y="4"/>
                      <a:pt x="15012" y="5"/>
                    </a:cubicBezTo>
                    <a:cubicBezTo>
                      <a:pt x="15012" y="7"/>
                      <a:pt x="15011" y="7"/>
                      <a:pt x="15010" y="7"/>
                    </a:cubicBezTo>
                    <a:lnTo>
                      <a:pt x="15010" y="7"/>
                    </a:lnTo>
                    <a:cubicBezTo>
                      <a:pt x="15009" y="7"/>
                      <a:pt x="15008" y="7"/>
                      <a:pt x="15008" y="5"/>
                    </a:cubicBezTo>
                    <a:cubicBezTo>
                      <a:pt x="15008" y="4"/>
                      <a:pt x="15009" y="3"/>
                      <a:pt x="15010" y="3"/>
                    </a:cubicBezTo>
                    <a:close/>
                    <a:moveTo>
                      <a:pt x="15018" y="3"/>
                    </a:moveTo>
                    <a:lnTo>
                      <a:pt x="15018" y="3"/>
                    </a:lnTo>
                    <a:cubicBezTo>
                      <a:pt x="15019" y="3"/>
                      <a:pt x="15020" y="4"/>
                      <a:pt x="15020" y="5"/>
                    </a:cubicBezTo>
                    <a:cubicBezTo>
                      <a:pt x="15020" y="7"/>
                      <a:pt x="15019" y="7"/>
                      <a:pt x="15018" y="7"/>
                    </a:cubicBezTo>
                    <a:lnTo>
                      <a:pt x="15018" y="7"/>
                    </a:lnTo>
                    <a:cubicBezTo>
                      <a:pt x="15017" y="7"/>
                      <a:pt x="15016" y="7"/>
                      <a:pt x="15016" y="5"/>
                    </a:cubicBezTo>
                    <a:cubicBezTo>
                      <a:pt x="15016" y="4"/>
                      <a:pt x="15017" y="3"/>
                      <a:pt x="15018" y="3"/>
                    </a:cubicBezTo>
                    <a:close/>
                    <a:moveTo>
                      <a:pt x="15026" y="3"/>
                    </a:moveTo>
                    <a:lnTo>
                      <a:pt x="15026" y="3"/>
                    </a:lnTo>
                    <a:cubicBezTo>
                      <a:pt x="15027" y="3"/>
                      <a:pt x="15028" y="4"/>
                      <a:pt x="15028" y="5"/>
                    </a:cubicBezTo>
                    <a:cubicBezTo>
                      <a:pt x="15028" y="7"/>
                      <a:pt x="15027" y="7"/>
                      <a:pt x="15026" y="7"/>
                    </a:cubicBezTo>
                    <a:lnTo>
                      <a:pt x="15026" y="7"/>
                    </a:lnTo>
                    <a:cubicBezTo>
                      <a:pt x="15025" y="7"/>
                      <a:pt x="15024" y="7"/>
                      <a:pt x="15024" y="5"/>
                    </a:cubicBezTo>
                    <a:cubicBezTo>
                      <a:pt x="15024" y="4"/>
                      <a:pt x="15025" y="3"/>
                      <a:pt x="15026" y="3"/>
                    </a:cubicBezTo>
                    <a:close/>
                    <a:moveTo>
                      <a:pt x="15034" y="3"/>
                    </a:moveTo>
                    <a:lnTo>
                      <a:pt x="15034" y="3"/>
                    </a:lnTo>
                    <a:cubicBezTo>
                      <a:pt x="15035" y="3"/>
                      <a:pt x="15036" y="4"/>
                      <a:pt x="15036" y="5"/>
                    </a:cubicBezTo>
                    <a:cubicBezTo>
                      <a:pt x="15036" y="7"/>
                      <a:pt x="15035" y="7"/>
                      <a:pt x="15034" y="7"/>
                    </a:cubicBezTo>
                    <a:lnTo>
                      <a:pt x="15034" y="7"/>
                    </a:lnTo>
                    <a:cubicBezTo>
                      <a:pt x="15033" y="7"/>
                      <a:pt x="15032" y="7"/>
                      <a:pt x="15032" y="5"/>
                    </a:cubicBezTo>
                    <a:cubicBezTo>
                      <a:pt x="15032" y="4"/>
                      <a:pt x="15033" y="3"/>
                      <a:pt x="15034" y="3"/>
                    </a:cubicBezTo>
                    <a:close/>
                    <a:moveTo>
                      <a:pt x="15042" y="3"/>
                    </a:moveTo>
                    <a:lnTo>
                      <a:pt x="15042" y="3"/>
                    </a:lnTo>
                    <a:cubicBezTo>
                      <a:pt x="15043" y="3"/>
                      <a:pt x="15044" y="4"/>
                      <a:pt x="15044" y="5"/>
                    </a:cubicBezTo>
                    <a:cubicBezTo>
                      <a:pt x="15044" y="7"/>
                      <a:pt x="15043" y="7"/>
                      <a:pt x="15042" y="7"/>
                    </a:cubicBezTo>
                    <a:lnTo>
                      <a:pt x="15042" y="7"/>
                    </a:lnTo>
                    <a:cubicBezTo>
                      <a:pt x="15041" y="7"/>
                      <a:pt x="15040" y="7"/>
                      <a:pt x="15040" y="5"/>
                    </a:cubicBezTo>
                    <a:cubicBezTo>
                      <a:pt x="15040" y="4"/>
                      <a:pt x="15041" y="3"/>
                      <a:pt x="15042" y="3"/>
                    </a:cubicBezTo>
                    <a:close/>
                    <a:moveTo>
                      <a:pt x="15050" y="3"/>
                    </a:moveTo>
                    <a:lnTo>
                      <a:pt x="15050" y="3"/>
                    </a:lnTo>
                    <a:cubicBezTo>
                      <a:pt x="15051" y="3"/>
                      <a:pt x="15052" y="4"/>
                      <a:pt x="15052" y="5"/>
                    </a:cubicBezTo>
                    <a:cubicBezTo>
                      <a:pt x="15052" y="7"/>
                      <a:pt x="15051" y="7"/>
                      <a:pt x="15050" y="7"/>
                    </a:cubicBezTo>
                    <a:lnTo>
                      <a:pt x="15050" y="7"/>
                    </a:lnTo>
                    <a:cubicBezTo>
                      <a:pt x="15049" y="7"/>
                      <a:pt x="15048" y="7"/>
                      <a:pt x="15048" y="5"/>
                    </a:cubicBezTo>
                    <a:cubicBezTo>
                      <a:pt x="15048" y="4"/>
                      <a:pt x="15049" y="3"/>
                      <a:pt x="15050" y="3"/>
                    </a:cubicBezTo>
                    <a:close/>
                    <a:moveTo>
                      <a:pt x="15058" y="3"/>
                    </a:moveTo>
                    <a:lnTo>
                      <a:pt x="15058" y="3"/>
                    </a:lnTo>
                    <a:cubicBezTo>
                      <a:pt x="15059" y="3"/>
                      <a:pt x="15060" y="4"/>
                      <a:pt x="15060" y="5"/>
                    </a:cubicBezTo>
                    <a:cubicBezTo>
                      <a:pt x="15060" y="7"/>
                      <a:pt x="15059" y="7"/>
                      <a:pt x="15058" y="7"/>
                    </a:cubicBezTo>
                    <a:lnTo>
                      <a:pt x="15058" y="7"/>
                    </a:lnTo>
                    <a:cubicBezTo>
                      <a:pt x="15057" y="7"/>
                      <a:pt x="15056" y="7"/>
                      <a:pt x="15056" y="5"/>
                    </a:cubicBezTo>
                    <a:cubicBezTo>
                      <a:pt x="15056" y="4"/>
                      <a:pt x="15057" y="3"/>
                      <a:pt x="15058" y="3"/>
                    </a:cubicBezTo>
                    <a:close/>
                    <a:moveTo>
                      <a:pt x="15066" y="3"/>
                    </a:moveTo>
                    <a:lnTo>
                      <a:pt x="15066" y="3"/>
                    </a:lnTo>
                    <a:cubicBezTo>
                      <a:pt x="15067" y="3"/>
                      <a:pt x="15068" y="4"/>
                      <a:pt x="15068" y="5"/>
                    </a:cubicBezTo>
                    <a:cubicBezTo>
                      <a:pt x="15068" y="7"/>
                      <a:pt x="15067" y="7"/>
                      <a:pt x="15066" y="7"/>
                    </a:cubicBezTo>
                    <a:lnTo>
                      <a:pt x="15066" y="7"/>
                    </a:lnTo>
                    <a:cubicBezTo>
                      <a:pt x="15065" y="7"/>
                      <a:pt x="15064" y="7"/>
                      <a:pt x="15064" y="5"/>
                    </a:cubicBezTo>
                    <a:cubicBezTo>
                      <a:pt x="15064" y="4"/>
                      <a:pt x="15065" y="3"/>
                      <a:pt x="15066" y="3"/>
                    </a:cubicBezTo>
                    <a:close/>
                    <a:moveTo>
                      <a:pt x="15074" y="3"/>
                    </a:moveTo>
                    <a:lnTo>
                      <a:pt x="15074" y="3"/>
                    </a:lnTo>
                    <a:cubicBezTo>
                      <a:pt x="15075" y="3"/>
                      <a:pt x="15076" y="4"/>
                      <a:pt x="15076" y="5"/>
                    </a:cubicBezTo>
                    <a:cubicBezTo>
                      <a:pt x="15076" y="7"/>
                      <a:pt x="15075" y="7"/>
                      <a:pt x="15074" y="7"/>
                    </a:cubicBezTo>
                    <a:lnTo>
                      <a:pt x="15074" y="7"/>
                    </a:lnTo>
                    <a:cubicBezTo>
                      <a:pt x="15073" y="7"/>
                      <a:pt x="15072" y="7"/>
                      <a:pt x="15072" y="5"/>
                    </a:cubicBezTo>
                    <a:cubicBezTo>
                      <a:pt x="15072" y="4"/>
                      <a:pt x="15073" y="3"/>
                      <a:pt x="15074" y="3"/>
                    </a:cubicBezTo>
                    <a:close/>
                    <a:moveTo>
                      <a:pt x="15082" y="3"/>
                    </a:moveTo>
                    <a:lnTo>
                      <a:pt x="15082" y="3"/>
                    </a:lnTo>
                    <a:cubicBezTo>
                      <a:pt x="15083" y="3"/>
                      <a:pt x="15084" y="4"/>
                      <a:pt x="15084" y="5"/>
                    </a:cubicBezTo>
                    <a:cubicBezTo>
                      <a:pt x="15084" y="7"/>
                      <a:pt x="15083" y="7"/>
                      <a:pt x="15082" y="7"/>
                    </a:cubicBezTo>
                    <a:lnTo>
                      <a:pt x="15082" y="7"/>
                    </a:lnTo>
                    <a:cubicBezTo>
                      <a:pt x="15081" y="7"/>
                      <a:pt x="15080" y="7"/>
                      <a:pt x="15080" y="5"/>
                    </a:cubicBezTo>
                    <a:cubicBezTo>
                      <a:pt x="15080" y="4"/>
                      <a:pt x="15081" y="3"/>
                      <a:pt x="15082" y="3"/>
                    </a:cubicBezTo>
                    <a:close/>
                    <a:moveTo>
                      <a:pt x="15090" y="3"/>
                    </a:moveTo>
                    <a:lnTo>
                      <a:pt x="15090" y="3"/>
                    </a:lnTo>
                    <a:cubicBezTo>
                      <a:pt x="15091" y="3"/>
                      <a:pt x="15092" y="4"/>
                      <a:pt x="15092" y="5"/>
                    </a:cubicBezTo>
                    <a:cubicBezTo>
                      <a:pt x="15092" y="7"/>
                      <a:pt x="15091" y="7"/>
                      <a:pt x="15090" y="7"/>
                    </a:cubicBezTo>
                    <a:lnTo>
                      <a:pt x="15090" y="7"/>
                    </a:lnTo>
                    <a:cubicBezTo>
                      <a:pt x="15089" y="7"/>
                      <a:pt x="15088" y="7"/>
                      <a:pt x="15088" y="5"/>
                    </a:cubicBezTo>
                    <a:cubicBezTo>
                      <a:pt x="15088" y="4"/>
                      <a:pt x="15089" y="3"/>
                      <a:pt x="15090" y="3"/>
                    </a:cubicBezTo>
                    <a:close/>
                    <a:moveTo>
                      <a:pt x="15098" y="3"/>
                    </a:moveTo>
                    <a:lnTo>
                      <a:pt x="15098" y="3"/>
                    </a:lnTo>
                    <a:cubicBezTo>
                      <a:pt x="15099" y="3"/>
                      <a:pt x="15100" y="4"/>
                      <a:pt x="15100" y="5"/>
                    </a:cubicBezTo>
                    <a:cubicBezTo>
                      <a:pt x="15100" y="7"/>
                      <a:pt x="15099" y="7"/>
                      <a:pt x="15098" y="7"/>
                    </a:cubicBezTo>
                    <a:lnTo>
                      <a:pt x="15098" y="7"/>
                    </a:lnTo>
                    <a:cubicBezTo>
                      <a:pt x="15097" y="7"/>
                      <a:pt x="15096" y="7"/>
                      <a:pt x="15096" y="5"/>
                    </a:cubicBezTo>
                    <a:cubicBezTo>
                      <a:pt x="15096" y="4"/>
                      <a:pt x="15097" y="3"/>
                      <a:pt x="15098" y="3"/>
                    </a:cubicBezTo>
                    <a:close/>
                    <a:moveTo>
                      <a:pt x="15106" y="3"/>
                    </a:moveTo>
                    <a:lnTo>
                      <a:pt x="15106" y="3"/>
                    </a:lnTo>
                    <a:cubicBezTo>
                      <a:pt x="15107" y="3"/>
                      <a:pt x="15108" y="4"/>
                      <a:pt x="15108" y="5"/>
                    </a:cubicBezTo>
                    <a:cubicBezTo>
                      <a:pt x="15108" y="7"/>
                      <a:pt x="15107" y="7"/>
                      <a:pt x="15106" y="7"/>
                    </a:cubicBezTo>
                    <a:lnTo>
                      <a:pt x="15106" y="7"/>
                    </a:lnTo>
                    <a:cubicBezTo>
                      <a:pt x="15105" y="7"/>
                      <a:pt x="15104" y="7"/>
                      <a:pt x="15104" y="5"/>
                    </a:cubicBezTo>
                    <a:cubicBezTo>
                      <a:pt x="15104" y="4"/>
                      <a:pt x="15105" y="3"/>
                      <a:pt x="15106" y="3"/>
                    </a:cubicBezTo>
                    <a:close/>
                    <a:moveTo>
                      <a:pt x="15114" y="3"/>
                    </a:moveTo>
                    <a:lnTo>
                      <a:pt x="15114" y="3"/>
                    </a:lnTo>
                    <a:cubicBezTo>
                      <a:pt x="15115" y="3"/>
                      <a:pt x="15116" y="4"/>
                      <a:pt x="15116" y="5"/>
                    </a:cubicBezTo>
                    <a:cubicBezTo>
                      <a:pt x="15116" y="7"/>
                      <a:pt x="15115" y="7"/>
                      <a:pt x="15114" y="7"/>
                    </a:cubicBezTo>
                    <a:lnTo>
                      <a:pt x="15114" y="7"/>
                    </a:lnTo>
                    <a:cubicBezTo>
                      <a:pt x="15113" y="7"/>
                      <a:pt x="15112" y="7"/>
                      <a:pt x="15112" y="5"/>
                    </a:cubicBezTo>
                    <a:cubicBezTo>
                      <a:pt x="15112" y="4"/>
                      <a:pt x="15113" y="3"/>
                      <a:pt x="15114" y="3"/>
                    </a:cubicBezTo>
                    <a:close/>
                    <a:moveTo>
                      <a:pt x="15122" y="3"/>
                    </a:moveTo>
                    <a:lnTo>
                      <a:pt x="15122" y="3"/>
                    </a:lnTo>
                    <a:cubicBezTo>
                      <a:pt x="15123" y="3"/>
                      <a:pt x="15124" y="4"/>
                      <a:pt x="15124" y="5"/>
                    </a:cubicBezTo>
                    <a:cubicBezTo>
                      <a:pt x="15124" y="7"/>
                      <a:pt x="15123" y="7"/>
                      <a:pt x="15122" y="7"/>
                    </a:cubicBezTo>
                    <a:lnTo>
                      <a:pt x="15122" y="7"/>
                    </a:lnTo>
                    <a:cubicBezTo>
                      <a:pt x="15121" y="7"/>
                      <a:pt x="15120" y="7"/>
                      <a:pt x="15120" y="5"/>
                    </a:cubicBezTo>
                    <a:cubicBezTo>
                      <a:pt x="15120" y="4"/>
                      <a:pt x="15121" y="3"/>
                      <a:pt x="15122" y="3"/>
                    </a:cubicBezTo>
                    <a:close/>
                    <a:moveTo>
                      <a:pt x="15130" y="3"/>
                    </a:moveTo>
                    <a:lnTo>
                      <a:pt x="15130" y="3"/>
                    </a:lnTo>
                    <a:cubicBezTo>
                      <a:pt x="15131" y="3"/>
                      <a:pt x="15132" y="4"/>
                      <a:pt x="15132" y="5"/>
                    </a:cubicBezTo>
                    <a:cubicBezTo>
                      <a:pt x="15132" y="7"/>
                      <a:pt x="15131" y="7"/>
                      <a:pt x="15130" y="7"/>
                    </a:cubicBezTo>
                    <a:lnTo>
                      <a:pt x="15130" y="7"/>
                    </a:lnTo>
                    <a:cubicBezTo>
                      <a:pt x="15129" y="7"/>
                      <a:pt x="15128" y="7"/>
                      <a:pt x="15128" y="5"/>
                    </a:cubicBezTo>
                    <a:cubicBezTo>
                      <a:pt x="15128" y="4"/>
                      <a:pt x="15129" y="3"/>
                      <a:pt x="15130" y="3"/>
                    </a:cubicBezTo>
                    <a:close/>
                    <a:moveTo>
                      <a:pt x="15138" y="3"/>
                    </a:moveTo>
                    <a:lnTo>
                      <a:pt x="15138" y="3"/>
                    </a:lnTo>
                    <a:cubicBezTo>
                      <a:pt x="15139" y="3"/>
                      <a:pt x="15140" y="4"/>
                      <a:pt x="15140" y="5"/>
                    </a:cubicBezTo>
                    <a:cubicBezTo>
                      <a:pt x="15140" y="7"/>
                      <a:pt x="15139" y="7"/>
                      <a:pt x="15138" y="7"/>
                    </a:cubicBezTo>
                    <a:lnTo>
                      <a:pt x="15138" y="7"/>
                    </a:lnTo>
                    <a:cubicBezTo>
                      <a:pt x="15137" y="7"/>
                      <a:pt x="15136" y="7"/>
                      <a:pt x="15136" y="5"/>
                    </a:cubicBezTo>
                    <a:cubicBezTo>
                      <a:pt x="15136" y="4"/>
                      <a:pt x="15137" y="3"/>
                      <a:pt x="15138" y="3"/>
                    </a:cubicBezTo>
                    <a:close/>
                    <a:moveTo>
                      <a:pt x="15146" y="3"/>
                    </a:moveTo>
                    <a:lnTo>
                      <a:pt x="15146" y="3"/>
                    </a:lnTo>
                    <a:cubicBezTo>
                      <a:pt x="15147" y="3"/>
                      <a:pt x="15148" y="4"/>
                      <a:pt x="15148" y="5"/>
                    </a:cubicBezTo>
                    <a:cubicBezTo>
                      <a:pt x="15148" y="7"/>
                      <a:pt x="15147" y="7"/>
                      <a:pt x="15146" y="7"/>
                    </a:cubicBezTo>
                    <a:lnTo>
                      <a:pt x="15146" y="7"/>
                    </a:lnTo>
                    <a:cubicBezTo>
                      <a:pt x="15145" y="7"/>
                      <a:pt x="15144" y="7"/>
                      <a:pt x="15144" y="5"/>
                    </a:cubicBezTo>
                    <a:cubicBezTo>
                      <a:pt x="15144" y="4"/>
                      <a:pt x="15145" y="3"/>
                      <a:pt x="15146" y="3"/>
                    </a:cubicBezTo>
                    <a:close/>
                    <a:moveTo>
                      <a:pt x="15154" y="3"/>
                    </a:moveTo>
                    <a:lnTo>
                      <a:pt x="15154" y="3"/>
                    </a:lnTo>
                    <a:cubicBezTo>
                      <a:pt x="15155" y="3"/>
                      <a:pt x="15156" y="4"/>
                      <a:pt x="15156" y="5"/>
                    </a:cubicBezTo>
                    <a:cubicBezTo>
                      <a:pt x="15156" y="7"/>
                      <a:pt x="15155" y="7"/>
                      <a:pt x="15154" y="7"/>
                    </a:cubicBezTo>
                    <a:lnTo>
                      <a:pt x="15154" y="7"/>
                    </a:lnTo>
                    <a:cubicBezTo>
                      <a:pt x="15153" y="7"/>
                      <a:pt x="15152" y="7"/>
                      <a:pt x="15152" y="5"/>
                    </a:cubicBezTo>
                    <a:cubicBezTo>
                      <a:pt x="15152" y="4"/>
                      <a:pt x="15153" y="3"/>
                      <a:pt x="15154" y="3"/>
                    </a:cubicBezTo>
                    <a:close/>
                    <a:moveTo>
                      <a:pt x="15162" y="3"/>
                    </a:moveTo>
                    <a:lnTo>
                      <a:pt x="15162" y="3"/>
                    </a:lnTo>
                    <a:cubicBezTo>
                      <a:pt x="15163" y="3"/>
                      <a:pt x="15164" y="4"/>
                      <a:pt x="15164" y="5"/>
                    </a:cubicBezTo>
                    <a:cubicBezTo>
                      <a:pt x="15164" y="7"/>
                      <a:pt x="15163" y="7"/>
                      <a:pt x="15162" y="7"/>
                    </a:cubicBezTo>
                    <a:lnTo>
                      <a:pt x="15162" y="7"/>
                    </a:lnTo>
                    <a:cubicBezTo>
                      <a:pt x="15161" y="7"/>
                      <a:pt x="15160" y="7"/>
                      <a:pt x="15160" y="5"/>
                    </a:cubicBezTo>
                    <a:cubicBezTo>
                      <a:pt x="15160" y="4"/>
                      <a:pt x="15161" y="3"/>
                      <a:pt x="15162" y="3"/>
                    </a:cubicBezTo>
                    <a:close/>
                    <a:moveTo>
                      <a:pt x="15170" y="3"/>
                    </a:moveTo>
                    <a:lnTo>
                      <a:pt x="15170" y="3"/>
                    </a:lnTo>
                    <a:cubicBezTo>
                      <a:pt x="15171" y="3"/>
                      <a:pt x="15172" y="4"/>
                      <a:pt x="15172" y="5"/>
                    </a:cubicBezTo>
                    <a:cubicBezTo>
                      <a:pt x="15172" y="7"/>
                      <a:pt x="15171" y="7"/>
                      <a:pt x="15170" y="7"/>
                    </a:cubicBezTo>
                    <a:lnTo>
                      <a:pt x="15170" y="7"/>
                    </a:lnTo>
                    <a:cubicBezTo>
                      <a:pt x="15169" y="7"/>
                      <a:pt x="15168" y="7"/>
                      <a:pt x="15168" y="5"/>
                    </a:cubicBezTo>
                    <a:cubicBezTo>
                      <a:pt x="15168" y="4"/>
                      <a:pt x="15169" y="3"/>
                      <a:pt x="15170" y="3"/>
                    </a:cubicBezTo>
                    <a:close/>
                    <a:moveTo>
                      <a:pt x="15178" y="3"/>
                    </a:moveTo>
                    <a:lnTo>
                      <a:pt x="15178" y="3"/>
                    </a:lnTo>
                    <a:cubicBezTo>
                      <a:pt x="15179" y="3"/>
                      <a:pt x="15180" y="4"/>
                      <a:pt x="15180" y="5"/>
                    </a:cubicBezTo>
                    <a:cubicBezTo>
                      <a:pt x="15180" y="7"/>
                      <a:pt x="15179" y="7"/>
                      <a:pt x="15178" y="7"/>
                    </a:cubicBezTo>
                    <a:lnTo>
                      <a:pt x="15178" y="7"/>
                    </a:lnTo>
                    <a:cubicBezTo>
                      <a:pt x="15177" y="7"/>
                      <a:pt x="15176" y="7"/>
                      <a:pt x="15176" y="5"/>
                    </a:cubicBezTo>
                    <a:cubicBezTo>
                      <a:pt x="15176" y="4"/>
                      <a:pt x="15177" y="3"/>
                      <a:pt x="15178" y="3"/>
                    </a:cubicBezTo>
                    <a:close/>
                    <a:moveTo>
                      <a:pt x="15186" y="3"/>
                    </a:moveTo>
                    <a:lnTo>
                      <a:pt x="15186" y="3"/>
                    </a:lnTo>
                    <a:cubicBezTo>
                      <a:pt x="15187" y="3"/>
                      <a:pt x="15188" y="4"/>
                      <a:pt x="15188" y="5"/>
                    </a:cubicBezTo>
                    <a:cubicBezTo>
                      <a:pt x="15188" y="7"/>
                      <a:pt x="15187" y="7"/>
                      <a:pt x="15186" y="7"/>
                    </a:cubicBezTo>
                    <a:lnTo>
                      <a:pt x="15186" y="7"/>
                    </a:lnTo>
                    <a:cubicBezTo>
                      <a:pt x="15185" y="7"/>
                      <a:pt x="15184" y="7"/>
                      <a:pt x="15184" y="5"/>
                    </a:cubicBezTo>
                    <a:cubicBezTo>
                      <a:pt x="15184" y="4"/>
                      <a:pt x="15185" y="3"/>
                      <a:pt x="15186" y="3"/>
                    </a:cubicBezTo>
                    <a:close/>
                    <a:moveTo>
                      <a:pt x="15194" y="3"/>
                    </a:moveTo>
                    <a:lnTo>
                      <a:pt x="15194" y="3"/>
                    </a:lnTo>
                    <a:cubicBezTo>
                      <a:pt x="15195" y="3"/>
                      <a:pt x="15196" y="4"/>
                      <a:pt x="15196" y="5"/>
                    </a:cubicBezTo>
                    <a:cubicBezTo>
                      <a:pt x="15196" y="7"/>
                      <a:pt x="15195" y="7"/>
                      <a:pt x="15194" y="7"/>
                    </a:cubicBezTo>
                    <a:lnTo>
                      <a:pt x="15194" y="7"/>
                    </a:lnTo>
                    <a:cubicBezTo>
                      <a:pt x="15193" y="7"/>
                      <a:pt x="15192" y="7"/>
                      <a:pt x="15192" y="5"/>
                    </a:cubicBezTo>
                    <a:cubicBezTo>
                      <a:pt x="15192" y="4"/>
                      <a:pt x="15193" y="3"/>
                      <a:pt x="15194" y="3"/>
                    </a:cubicBezTo>
                    <a:close/>
                    <a:moveTo>
                      <a:pt x="15202" y="3"/>
                    </a:moveTo>
                    <a:lnTo>
                      <a:pt x="15202" y="3"/>
                    </a:lnTo>
                    <a:cubicBezTo>
                      <a:pt x="15203" y="3"/>
                      <a:pt x="15204" y="4"/>
                      <a:pt x="15204" y="5"/>
                    </a:cubicBezTo>
                    <a:cubicBezTo>
                      <a:pt x="15204" y="7"/>
                      <a:pt x="15203" y="7"/>
                      <a:pt x="15202" y="7"/>
                    </a:cubicBezTo>
                    <a:lnTo>
                      <a:pt x="15202" y="7"/>
                    </a:lnTo>
                    <a:cubicBezTo>
                      <a:pt x="15201" y="7"/>
                      <a:pt x="15200" y="7"/>
                      <a:pt x="15200" y="5"/>
                    </a:cubicBezTo>
                    <a:cubicBezTo>
                      <a:pt x="15200" y="4"/>
                      <a:pt x="15201" y="3"/>
                      <a:pt x="15202" y="3"/>
                    </a:cubicBezTo>
                    <a:close/>
                    <a:moveTo>
                      <a:pt x="15210" y="3"/>
                    </a:moveTo>
                    <a:lnTo>
                      <a:pt x="15210" y="3"/>
                    </a:lnTo>
                    <a:cubicBezTo>
                      <a:pt x="15211" y="3"/>
                      <a:pt x="15212" y="4"/>
                      <a:pt x="15212" y="5"/>
                    </a:cubicBezTo>
                    <a:cubicBezTo>
                      <a:pt x="15212" y="7"/>
                      <a:pt x="15211" y="7"/>
                      <a:pt x="15210" y="7"/>
                    </a:cubicBezTo>
                    <a:lnTo>
                      <a:pt x="15210" y="7"/>
                    </a:lnTo>
                    <a:cubicBezTo>
                      <a:pt x="15209" y="7"/>
                      <a:pt x="15208" y="7"/>
                      <a:pt x="15208" y="5"/>
                    </a:cubicBezTo>
                    <a:cubicBezTo>
                      <a:pt x="15208" y="4"/>
                      <a:pt x="15209" y="3"/>
                      <a:pt x="15210" y="3"/>
                    </a:cubicBezTo>
                    <a:close/>
                    <a:moveTo>
                      <a:pt x="15218" y="3"/>
                    </a:moveTo>
                    <a:lnTo>
                      <a:pt x="15218" y="3"/>
                    </a:lnTo>
                    <a:cubicBezTo>
                      <a:pt x="15219" y="3"/>
                      <a:pt x="15220" y="4"/>
                      <a:pt x="15220" y="5"/>
                    </a:cubicBezTo>
                    <a:cubicBezTo>
                      <a:pt x="15220" y="7"/>
                      <a:pt x="15219" y="7"/>
                      <a:pt x="15218" y="7"/>
                    </a:cubicBezTo>
                    <a:lnTo>
                      <a:pt x="15218" y="7"/>
                    </a:lnTo>
                    <a:cubicBezTo>
                      <a:pt x="15217" y="7"/>
                      <a:pt x="15216" y="7"/>
                      <a:pt x="15216" y="5"/>
                    </a:cubicBezTo>
                    <a:cubicBezTo>
                      <a:pt x="15216" y="4"/>
                      <a:pt x="15217" y="3"/>
                      <a:pt x="15218" y="3"/>
                    </a:cubicBezTo>
                    <a:close/>
                    <a:moveTo>
                      <a:pt x="15226" y="3"/>
                    </a:moveTo>
                    <a:lnTo>
                      <a:pt x="15226" y="3"/>
                    </a:lnTo>
                    <a:cubicBezTo>
                      <a:pt x="15227" y="3"/>
                      <a:pt x="15228" y="4"/>
                      <a:pt x="15228" y="5"/>
                    </a:cubicBezTo>
                    <a:cubicBezTo>
                      <a:pt x="15228" y="7"/>
                      <a:pt x="15227" y="7"/>
                      <a:pt x="15226" y="7"/>
                    </a:cubicBezTo>
                    <a:lnTo>
                      <a:pt x="15226" y="7"/>
                    </a:lnTo>
                    <a:cubicBezTo>
                      <a:pt x="15225" y="7"/>
                      <a:pt x="15224" y="7"/>
                      <a:pt x="15224" y="5"/>
                    </a:cubicBezTo>
                    <a:cubicBezTo>
                      <a:pt x="15224" y="4"/>
                      <a:pt x="15225" y="3"/>
                      <a:pt x="15226" y="3"/>
                    </a:cubicBezTo>
                    <a:close/>
                    <a:moveTo>
                      <a:pt x="15234" y="3"/>
                    </a:moveTo>
                    <a:lnTo>
                      <a:pt x="15234" y="3"/>
                    </a:lnTo>
                    <a:cubicBezTo>
                      <a:pt x="15235" y="3"/>
                      <a:pt x="15236" y="4"/>
                      <a:pt x="15236" y="6"/>
                    </a:cubicBezTo>
                    <a:cubicBezTo>
                      <a:pt x="15236" y="7"/>
                      <a:pt x="15235" y="8"/>
                      <a:pt x="15234" y="8"/>
                    </a:cubicBezTo>
                    <a:lnTo>
                      <a:pt x="15234" y="8"/>
                    </a:lnTo>
                    <a:cubicBezTo>
                      <a:pt x="15233" y="8"/>
                      <a:pt x="15232" y="7"/>
                      <a:pt x="15232" y="6"/>
                    </a:cubicBezTo>
                    <a:cubicBezTo>
                      <a:pt x="15232" y="4"/>
                      <a:pt x="15233" y="3"/>
                      <a:pt x="15234" y="3"/>
                    </a:cubicBezTo>
                    <a:close/>
                    <a:moveTo>
                      <a:pt x="15242" y="4"/>
                    </a:moveTo>
                    <a:lnTo>
                      <a:pt x="15242" y="4"/>
                    </a:lnTo>
                    <a:cubicBezTo>
                      <a:pt x="15243" y="4"/>
                      <a:pt x="15244" y="4"/>
                      <a:pt x="15244" y="6"/>
                    </a:cubicBezTo>
                    <a:cubicBezTo>
                      <a:pt x="15244" y="7"/>
                      <a:pt x="15243" y="8"/>
                      <a:pt x="15242" y="8"/>
                    </a:cubicBezTo>
                    <a:lnTo>
                      <a:pt x="15242" y="8"/>
                    </a:lnTo>
                    <a:cubicBezTo>
                      <a:pt x="15241" y="8"/>
                      <a:pt x="15240" y="7"/>
                      <a:pt x="15240" y="6"/>
                    </a:cubicBezTo>
                    <a:cubicBezTo>
                      <a:pt x="15240" y="4"/>
                      <a:pt x="15241" y="4"/>
                      <a:pt x="15242" y="4"/>
                    </a:cubicBezTo>
                    <a:close/>
                    <a:moveTo>
                      <a:pt x="15250" y="4"/>
                    </a:moveTo>
                    <a:lnTo>
                      <a:pt x="15250" y="4"/>
                    </a:lnTo>
                    <a:cubicBezTo>
                      <a:pt x="15251" y="4"/>
                      <a:pt x="15252" y="4"/>
                      <a:pt x="15252" y="6"/>
                    </a:cubicBezTo>
                    <a:cubicBezTo>
                      <a:pt x="15252" y="7"/>
                      <a:pt x="15251" y="8"/>
                      <a:pt x="15250" y="8"/>
                    </a:cubicBezTo>
                    <a:lnTo>
                      <a:pt x="15250" y="8"/>
                    </a:lnTo>
                    <a:cubicBezTo>
                      <a:pt x="15249" y="8"/>
                      <a:pt x="15248" y="7"/>
                      <a:pt x="15248" y="6"/>
                    </a:cubicBezTo>
                    <a:cubicBezTo>
                      <a:pt x="15248" y="4"/>
                      <a:pt x="15249" y="4"/>
                      <a:pt x="15250" y="4"/>
                    </a:cubicBezTo>
                    <a:close/>
                    <a:moveTo>
                      <a:pt x="15258" y="4"/>
                    </a:moveTo>
                    <a:lnTo>
                      <a:pt x="15258" y="4"/>
                    </a:lnTo>
                    <a:cubicBezTo>
                      <a:pt x="15259" y="4"/>
                      <a:pt x="15260" y="4"/>
                      <a:pt x="15260" y="6"/>
                    </a:cubicBezTo>
                    <a:cubicBezTo>
                      <a:pt x="15260" y="7"/>
                      <a:pt x="15259" y="8"/>
                      <a:pt x="15258" y="8"/>
                    </a:cubicBezTo>
                    <a:lnTo>
                      <a:pt x="15258" y="8"/>
                    </a:lnTo>
                    <a:cubicBezTo>
                      <a:pt x="15257" y="8"/>
                      <a:pt x="15256" y="7"/>
                      <a:pt x="15256" y="6"/>
                    </a:cubicBezTo>
                    <a:cubicBezTo>
                      <a:pt x="15256" y="4"/>
                      <a:pt x="15257" y="4"/>
                      <a:pt x="15258" y="4"/>
                    </a:cubicBezTo>
                    <a:close/>
                    <a:moveTo>
                      <a:pt x="15266" y="4"/>
                    </a:moveTo>
                    <a:lnTo>
                      <a:pt x="15266" y="4"/>
                    </a:lnTo>
                    <a:cubicBezTo>
                      <a:pt x="15267" y="4"/>
                      <a:pt x="15268" y="4"/>
                      <a:pt x="15268" y="6"/>
                    </a:cubicBezTo>
                    <a:cubicBezTo>
                      <a:pt x="15268" y="7"/>
                      <a:pt x="15267" y="8"/>
                      <a:pt x="15266" y="8"/>
                    </a:cubicBezTo>
                    <a:lnTo>
                      <a:pt x="15266" y="8"/>
                    </a:lnTo>
                    <a:cubicBezTo>
                      <a:pt x="15265" y="8"/>
                      <a:pt x="15264" y="7"/>
                      <a:pt x="15264" y="6"/>
                    </a:cubicBezTo>
                    <a:cubicBezTo>
                      <a:pt x="15264" y="4"/>
                      <a:pt x="15265" y="4"/>
                      <a:pt x="15266" y="4"/>
                    </a:cubicBezTo>
                    <a:close/>
                    <a:moveTo>
                      <a:pt x="15274" y="4"/>
                    </a:moveTo>
                    <a:lnTo>
                      <a:pt x="15274" y="4"/>
                    </a:lnTo>
                    <a:cubicBezTo>
                      <a:pt x="15275" y="4"/>
                      <a:pt x="15276" y="4"/>
                      <a:pt x="15276" y="6"/>
                    </a:cubicBezTo>
                    <a:cubicBezTo>
                      <a:pt x="15276" y="7"/>
                      <a:pt x="15275" y="8"/>
                      <a:pt x="15274" y="8"/>
                    </a:cubicBezTo>
                    <a:lnTo>
                      <a:pt x="15274" y="8"/>
                    </a:lnTo>
                    <a:cubicBezTo>
                      <a:pt x="15273" y="8"/>
                      <a:pt x="15272" y="7"/>
                      <a:pt x="15272" y="6"/>
                    </a:cubicBezTo>
                    <a:cubicBezTo>
                      <a:pt x="15272" y="4"/>
                      <a:pt x="15273" y="4"/>
                      <a:pt x="15274" y="4"/>
                    </a:cubicBezTo>
                    <a:close/>
                    <a:moveTo>
                      <a:pt x="15282" y="4"/>
                    </a:moveTo>
                    <a:lnTo>
                      <a:pt x="15282" y="4"/>
                    </a:lnTo>
                    <a:cubicBezTo>
                      <a:pt x="15283" y="4"/>
                      <a:pt x="15284" y="4"/>
                      <a:pt x="15284" y="6"/>
                    </a:cubicBezTo>
                    <a:cubicBezTo>
                      <a:pt x="15284" y="7"/>
                      <a:pt x="15283" y="8"/>
                      <a:pt x="15282" y="8"/>
                    </a:cubicBezTo>
                    <a:lnTo>
                      <a:pt x="15282" y="8"/>
                    </a:lnTo>
                    <a:cubicBezTo>
                      <a:pt x="15281" y="8"/>
                      <a:pt x="15280" y="7"/>
                      <a:pt x="15280" y="6"/>
                    </a:cubicBezTo>
                    <a:cubicBezTo>
                      <a:pt x="15280" y="4"/>
                      <a:pt x="15281" y="4"/>
                      <a:pt x="15282" y="4"/>
                    </a:cubicBezTo>
                    <a:close/>
                    <a:moveTo>
                      <a:pt x="15290" y="4"/>
                    </a:moveTo>
                    <a:lnTo>
                      <a:pt x="15290" y="4"/>
                    </a:lnTo>
                    <a:cubicBezTo>
                      <a:pt x="15291" y="4"/>
                      <a:pt x="15292" y="4"/>
                      <a:pt x="15292" y="6"/>
                    </a:cubicBezTo>
                    <a:cubicBezTo>
                      <a:pt x="15292" y="7"/>
                      <a:pt x="15291" y="8"/>
                      <a:pt x="15290" y="8"/>
                    </a:cubicBezTo>
                    <a:lnTo>
                      <a:pt x="15290" y="8"/>
                    </a:lnTo>
                    <a:cubicBezTo>
                      <a:pt x="15289" y="8"/>
                      <a:pt x="15288" y="7"/>
                      <a:pt x="15288" y="6"/>
                    </a:cubicBezTo>
                    <a:cubicBezTo>
                      <a:pt x="15288" y="4"/>
                      <a:pt x="15289" y="4"/>
                      <a:pt x="15290" y="4"/>
                    </a:cubicBezTo>
                    <a:close/>
                    <a:moveTo>
                      <a:pt x="15298" y="4"/>
                    </a:moveTo>
                    <a:lnTo>
                      <a:pt x="15298" y="4"/>
                    </a:lnTo>
                    <a:cubicBezTo>
                      <a:pt x="15299" y="4"/>
                      <a:pt x="15300" y="4"/>
                      <a:pt x="15300" y="6"/>
                    </a:cubicBezTo>
                    <a:cubicBezTo>
                      <a:pt x="15300" y="7"/>
                      <a:pt x="15299" y="8"/>
                      <a:pt x="15298" y="8"/>
                    </a:cubicBezTo>
                    <a:lnTo>
                      <a:pt x="15298" y="8"/>
                    </a:lnTo>
                    <a:cubicBezTo>
                      <a:pt x="15297" y="8"/>
                      <a:pt x="15296" y="7"/>
                      <a:pt x="15296" y="6"/>
                    </a:cubicBezTo>
                    <a:cubicBezTo>
                      <a:pt x="15296" y="4"/>
                      <a:pt x="15297" y="4"/>
                      <a:pt x="15298" y="4"/>
                    </a:cubicBezTo>
                    <a:close/>
                    <a:moveTo>
                      <a:pt x="15306" y="4"/>
                    </a:moveTo>
                    <a:lnTo>
                      <a:pt x="15306" y="4"/>
                    </a:lnTo>
                    <a:cubicBezTo>
                      <a:pt x="15307" y="4"/>
                      <a:pt x="15308" y="4"/>
                      <a:pt x="15308" y="6"/>
                    </a:cubicBezTo>
                    <a:cubicBezTo>
                      <a:pt x="15308" y="7"/>
                      <a:pt x="15307" y="8"/>
                      <a:pt x="15306" y="8"/>
                    </a:cubicBezTo>
                    <a:lnTo>
                      <a:pt x="15306" y="8"/>
                    </a:lnTo>
                    <a:cubicBezTo>
                      <a:pt x="15305" y="8"/>
                      <a:pt x="15304" y="7"/>
                      <a:pt x="15304" y="6"/>
                    </a:cubicBezTo>
                    <a:cubicBezTo>
                      <a:pt x="15304" y="4"/>
                      <a:pt x="15305" y="4"/>
                      <a:pt x="15306" y="4"/>
                    </a:cubicBezTo>
                    <a:close/>
                    <a:moveTo>
                      <a:pt x="15314" y="4"/>
                    </a:moveTo>
                    <a:lnTo>
                      <a:pt x="15314" y="4"/>
                    </a:lnTo>
                    <a:cubicBezTo>
                      <a:pt x="15315" y="4"/>
                      <a:pt x="15316" y="4"/>
                      <a:pt x="15316" y="6"/>
                    </a:cubicBezTo>
                    <a:cubicBezTo>
                      <a:pt x="15316" y="7"/>
                      <a:pt x="15315" y="8"/>
                      <a:pt x="15314" y="8"/>
                    </a:cubicBezTo>
                    <a:lnTo>
                      <a:pt x="15314" y="8"/>
                    </a:lnTo>
                    <a:cubicBezTo>
                      <a:pt x="15313" y="8"/>
                      <a:pt x="15312" y="7"/>
                      <a:pt x="15312" y="6"/>
                    </a:cubicBezTo>
                    <a:cubicBezTo>
                      <a:pt x="15312" y="4"/>
                      <a:pt x="15313" y="4"/>
                      <a:pt x="15314" y="4"/>
                    </a:cubicBezTo>
                    <a:close/>
                    <a:moveTo>
                      <a:pt x="15322" y="4"/>
                    </a:moveTo>
                    <a:lnTo>
                      <a:pt x="15322" y="4"/>
                    </a:lnTo>
                    <a:cubicBezTo>
                      <a:pt x="15323" y="4"/>
                      <a:pt x="15324" y="4"/>
                      <a:pt x="15324" y="6"/>
                    </a:cubicBezTo>
                    <a:cubicBezTo>
                      <a:pt x="15324" y="7"/>
                      <a:pt x="15323" y="8"/>
                      <a:pt x="15322" y="8"/>
                    </a:cubicBezTo>
                    <a:lnTo>
                      <a:pt x="15322" y="8"/>
                    </a:lnTo>
                    <a:cubicBezTo>
                      <a:pt x="15321" y="8"/>
                      <a:pt x="15320" y="7"/>
                      <a:pt x="15320" y="6"/>
                    </a:cubicBezTo>
                    <a:cubicBezTo>
                      <a:pt x="15320" y="4"/>
                      <a:pt x="15321" y="4"/>
                      <a:pt x="15322" y="4"/>
                    </a:cubicBezTo>
                    <a:close/>
                    <a:moveTo>
                      <a:pt x="15330" y="4"/>
                    </a:moveTo>
                    <a:lnTo>
                      <a:pt x="15330" y="4"/>
                    </a:lnTo>
                    <a:cubicBezTo>
                      <a:pt x="15331" y="4"/>
                      <a:pt x="15332" y="4"/>
                      <a:pt x="15332" y="6"/>
                    </a:cubicBezTo>
                    <a:cubicBezTo>
                      <a:pt x="15332" y="7"/>
                      <a:pt x="15331" y="8"/>
                      <a:pt x="15330" y="8"/>
                    </a:cubicBezTo>
                    <a:lnTo>
                      <a:pt x="15330" y="8"/>
                    </a:lnTo>
                    <a:cubicBezTo>
                      <a:pt x="15329" y="8"/>
                      <a:pt x="15328" y="7"/>
                      <a:pt x="15328" y="6"/>
                    </a:cubicBezTo>
                    <a:cubicBezTo>
                      <a:pt x="15328" y="4"/>
                      <a:pt x="15329" y="4"/>
                      <a:pt x="15330" y="4"/>
                    </a:cubicBezTo>
                    <a:close/>
                    <a:moveTo>
                      <a:pt x="15338" y="4"/>
                    </a:moveTo>
                    <a:lnTo>
                      <a:pt x="15338" y="4"/>
                    </a:lnTo>
                    <a:cubicBezTo>
                      <a:pt x="15339" y="4"/>
                      <a:pt x="15340" y="4"/>
                      <a:pt x="15340" y="6"/>
                    </a:cubicBezTo>
                    <a:cubicBezTo>
                      <a:pt x="15340" y="7"/>
                      <a:pt x="15339" y="8"/>
                      <a:pt x="15338" y="8"/>
                    </a:cubicBezTo>
                    <a:lnTo>
                      <a:pt x="15338" y="8"/>
                    </a:lnTo>
                    <a:cubicBezTo>
                      <a:pt x="15337" y="8"/>
                      <a:pt x="15336" y="7"/>
                      <a:pt x="15336" y="6"/>
                    </a:cubicBezTo>
                    <a:cubicBezTo>
                      <a:pt x="15336" y="4"/>
                      <a:pt x="15337" y="4"/>
                      <a:pt x="15338" y="4"/>
                    </a:cubicBezTo>
                    <a:close/>
                    <a:moveTo>
                      <a:pt x="15346" y="4"/>
                    </a:moveTo>
                    <a:lnTo>
                      <a:pt x="15346" y="4"/>
                    </a:lnTo>
                    <a:cubicBezTo>
                      <a:pt x="15347" y="4"/>
                      <a:pt x="15348" y="4"/>
                      <a:pt x="15348" y="6"/>
                    </a:cubicBezTo>
                    <a:cubicBezTo>
                      <a:pt x="15348" y="7"/>
                      <a:pt x="15347" y="8"/>
                      <a:pt x="15346" y="8"/>
                    </a:cubicBezTo>
                    <a:lnTo>
                      <a:pt x="15346" y="8"/>
                    </a:lnTo>
                    <a:cubicBezTo>
                      <a:pt x="15345" y="8"/>
                      <a:pt x="15344" y="7"/>
                      <a:pt x="15344" y="6"/>
                    </a:cubicBezTo>
                    <a:cubicBezTo>
                      <a:pt x="15344" y="4"/>
                      <a:pt x="15345" y="4"/>
                      <a:pt x="15346" y="4"/>
                    </a:cubicBezTo>
                    <a:close/>
                    <a:moveTo>
                      <a:pt x="15354" y="4"/>
                    </a:moveTo>
                    <a:lnTo>
                      <a:pt x="15354" y="4"/>
                    </a:lnTo>
                    <a:cubicBezTo>
                      <a:pt x="15355" y="4"/>
                      <a:pt x="15356" y="4"/>
                      <a:pt x="15356" y="6"/>
                    </a:cubicBezTo>
                    <a:cubicBezTo>
                      <a:pt x="15356" y="7"/>
                      <a:pt x="15355" y="8"/>
                      <a:pt x="15354" y="8"/>
                    </a:cubicBezTo>
                    <a:lnTo>
                      <a:pt x="15354" y="8"/>
                    </a:lnTo>
                    <a:cubicBezTo>
                      <a:pt x="15353" y="8"/>
                      <a:pt x="15352" y="7"/>
                      <a:pt x="15352" y="6"/>
                    </a:cubicBezTo>
                    <a:cubicBezTo>
                      <a:pt x="15352" y="4"/>
                      <a:pt x="15353" y="4"/>
                      <a:pt x="15354" y="4"/>
                    </a:cubicBezTo>
                    <a:close/>
                    <a:moveTo>
                      <a:pt x="15362" y="4"/>
                    </a:moveTo>
                    <a:lnTo>
                      <a:pt x="15362" y="4"/>
                    </a:lnTo>
                    <a:cubicBezTo>
                      <a:pt x="15363" y="4"/>
                      <a:pt x="15364" y="4"/>
                      <a:pt x="15364" y="6"/>
                    </a:cubicBezTo>
                    <a:cubicBezTo>
                      <a:pt x="15364" y="7"/>
                      <a:pt x="15363" y="8"/>
                      <a:pt x="15362" y="8"/>
                    </a:cubicBezTo>
                    <a:lnTo>
                      <a:pt x="15362" y="8"/>
                    </a:lnTo>
                    <a:cubicBezTo>
                      <a:pt x="15361" y="8"/>
                      <a:pt x="15360" y="7"/>
                      <a:pt x="15360" y="6"/>
                    </a:cubicBezTo>
                    <a:cubicBezTo>
                      <a:pt x="15360" y="4"/>
                      <a:pt x="15361" y="4"/>
                      <a:pt x="15362" y="4"/>
                    </a:cubicBezTo>
                    <a:close/>
                    <a:moveTo>
                      <a:pt x="15370" y="4"/>
                    </a:moveTo>
                    <a:lnTo>
                      <a:pt x="15370" y="4"/>
                    </a:lnTo>
                    <a:cubicBezTo>
                      <a:pt x="15371" y="4"/>
                      <a:pt x="15372" y="4"/>
                      <a:pt x="15372" y="6"/>
                    </a:cubicBezTo>
                    <a:cubicBezTo>
                      <a:pt x="15372" y="7"/>
                      <a:pt x="15371" y="8"/>
                      <a:pt x="15370" y="8"/>
                    </a:cubicBezTo>
                    <a:lnTo>
                      <a:pt x="15370" y="8"/>
                    </a:lnTo>
                    <a:cubicBezTo>
                      <a:pt x="15369" y="8"/>
                      <a:pt x="15368" y="7"/>
                      <a:pt x="15368" y="6"/>
                    </a:cubicBezTo>
                    <a:cubicBezTo>
                      <a:pt x="15368" y="4"/>
                      <a:pt x="15369" y="4"/>
                      <a:pt x="15370" y="4"/>
                    </a:cubicBezTo>
                    <a:close/>
                    <a:moveTo>
                      <a:pt x="15378" y="4"/>
                    </a:moveTo>
                    <a:lnTo>
                      <a:pt x="15378" y="4"/>
                    </a:lnTo>
                    <a:cubicBezTo>
                      <a:pt x="15379" y="4"/>
                      <a:pt x="15380" y="4"/>
                      <a:pt x="15380" y="6"/>
                    </a:cubicBezTo>
                    <a:cubicBezTo>
                      <a:pt x="15380" y="7"/>
                      <a:pt x="15379" y="8"/>
                      <a:pt x="15378" y="8"/>
                    </a:cubicBezTo>
                    <a:lnTo>
                      <a:pt x="15378" y="8"/>
                    </a:lnTo>
                    <a:cubicBezTo>
                      <a:pt x="15377" y="8"/>
                      <a:pt x="15376" y="7"/>
                      <a:pt x="15376" y="6"/>
                    </a:cubicBezTo>
                    <a:cubicBezTo>
                      <a:pt x="15376" y="4"/>
                      <a:pt x="15377" y="4"/>
                      <a:pt x="15378" y="4"/>
                    </a:cubicBezTo>
                    <a:close/>
                    <a:moveTo>
                      <a:pt x="15386" y="4"/>
                    </a:moveTo>
                    <a:lnTo>
                      <a:pt x="15386" y="4"/>
                    </a:lnTo>
                    <a:cubicBezTo>
                      <a:pt x="15387" y="4"/>
                      <a:pt x="15388" y="4"/>
                      <a:pt x="15388" y="6"/>
                    </a:cubicBezTo>
                    <a:cubicBezTo>
                      <a:pt x="15388" y="7"/>
                      <a:pt x="15387" y="8"/>
                      <a:pt x="15386" y="8"/>
                    </a:cubicBezTo>
                    <a:lnTo>
                      <a:pt x="15386" y="8"/>
                    </a:lnTo>
                    <a:cubicBezTo>
                      <a:pt x="15385" y="8"/>
                      <a:pt x="15384" y="7"/>
                      <a:pt x="15384" y="6"/>
                    </a:cubicBezTo>
                    <a:cubicBezTo>
                      <a:pt x="15384" y="4"/>
                      <a:pt x="15385" y="4"/>
                      <a:pt x="15386" y="4"/>
                    </a:cubicBezTo>
                    <a:close/>
                    <a:moveTo>
                      <a:pt x="15394" y="4"/>
                    </a:moveTo>
                    <a:lnTo>
                      <a:pt x="15394" y="4"/>
                    </a:lnTo>
                    <a:cubicBezTo>
                      <a:pt x="15395" y="4"/>
                      <a:pt x="15396" y="4"/>
                      <a:pt x="15396" y="6"/>
                    </a:cubicBezTo>
                    <a:cubicBezTo>
                      <a:pt x="15396" y="7"/>
                      <a:pt x="15395" y="8"/>
                      <a:pt x="15394" y="8"/>
                    </a:cubicBezTo>
                    <a:lnTo>
                      <a:pt x="15394" y="8"/>
                    </a:lnTo>
                    <a:cubicBezTo>
                      <a:pt x="15393" y="8"/>
                      <a:pt x="15392" y="7"/>
                      <a:pt x="15392" y="6"/>
                    </a:cubicBezTo>
                    <a:cubicBezTo>
                      <a:pt x="15392" y="4"/>
                      <a:pt x="15393" y="4"/>
                      <a:pt x="15394" y="4"/>
                    </a:cubicBezTo>
                    <a:close/>
                    <a:moveTo>
                      <a:pt x="15402" y="4"/>
                    </a:moveTo>
                    <a:lnTo>
                      <a:pt x="15402" y="4"/>
                    </a:lnTo>
                    <a:cubicBezTo>
                      <a:pt x="15403" y="4"/>
                      <a:pt x="15404" y="4"/>
                      <a:pt x="15404" y="6"/>
                    </a:cubicBezTo>
                    <a:cubicBezTo>
                      <a:pt x="15404" y="7"/>
                      <a:pt x="15403" y="8"/>
                      <a:pt x="15402" y="8"/>
                    </a:cubicBezTo>
                    <a:lnTo>
                      <a:pt x="15402" y="8"/>
                    </a:lnTo>
                    <a:cubicBezTo>
                      <a:pt x="15401" y="8"/>
                      <a:pt x="15400" y="7"/>
                      <a:pt x="15400" y="6"/>
                    </a:cubicBezTo>
                    <a:cubicBezTo>
                      <a:pt x="15400" y="4"/>
                      <a:pt x="15401" y="4"/>
                      <a:pt x="15402" y="4"/>
                    </a:cubicBezTo>
                    <a:close/>
                    <a:moveTo>
                      <a:pt x="15410" y="4"/>
                    </a:moveTo>
                    <a:lnTo>
                      <a:pt x="15410" y="4"/>
                    </a:lnTo>
                    <a:cubicBezTo>
                      <a:pt x="15411" y="4"/>
                      <a:pt x="15412" y="4"/>
                      <a:pt x="15412" y="6"/>
                    </a:cubicBezTo>
                    <a:cubicBezTo>
                      <a:pt x="15412" y="7"/>
                      <a:pt x="15411" y="8"/>
                      <a:pt x="15410" y="8"/>
                    </a:cubicBezTo>
                    <a:lnTo>
                      <a:pt x="15410" y="8"/>
                    </a:lnTo>
                    <a:cubicBezTo>
                      <a:pt x="15409" y="8"/>
                      <a:pt x="15408" y="7"/>
                      <a:pt x="15408" y="6"/>
                    </a:cubicBezTo>
                    <a:cubicBezTo>
                      <a:pt x="15408" y="4"/>
                      <a:pt x="15409" y="4"/>
                      <a:pt x="15410" y="4"/>
                    </a:cubicBezTo>
                    <a:close/>
                    <a:moveTo>
                      <a:pt x="15418" y="4"/>
                    </a:moveTo>
                    <a:lnTo>
                      <a:pt x="15418" y="4"/>
                    </a:lnTo>
                    <a:cubicBezTo>
                      <a:pt x="15419" y="4"/>
                      <a:pt x="15420" y="4"/>
                      <a:pt x="15420" y="6"/>
                    </a:cubicBezTo>
                    <a:cubicBezTo>
                      <a:pt x="15420" y="7"/>
                      <a:pt x="15419" y="8"/>
                      <a:pt x="15418" y="8"/>
                    </a:cubicBezTo>
                    <a:lnTo>
                      <a:pt x="15418" y="8"/>
                    </a:lnTo>
                    <a:cubicBezTo>
                      <a:pt x="15417" y="8"/>
                      <a:pt x="15416" y="7"/>
                      <a:pt x="15416" y="6"/>
                    </a:cubicBezTo>
                    <a:cubicBezTo>
                      <a:pt x="15416" y="4"/>
                      <a:pt x="15417" y="4"/>
                      <a:pt x="15418" y="4"/>
                    </a:cubicBezTo>
                    <a:close/>
                    <a:moveTo>
                      <a:pt x="15426" y="4"/>
                    </a:moveTo>
                    <a:lnTo>
                      <a:pt x="15426" y="4"/>
                    </a:lnTo>
                    <a:cubicBezTo>
                      <a:pt x="15427" y="4"/>
                      <a:pt x="15428" y="4"/>
                      <a:pt x="15428" y="6"/>
                    </a:cubicBezTo>
                    <a:cubicBezTo>
                      <a:pt x="15428" y="7"/>
                      <a:pt x="15427" y="8"/>
                      <a:pt x="15426" y="8"/>
                    </a:cubicBezTo>
                    <a:lnTo>
                      <a:pt x="15426" y="8"/>
                    </a:lnTo>
                    <a:cubicBezTo>
                      <a:pt x="15425" y="8"/>
                      <a:pt x="15424" y="7"/>
                      <a:pt x="15424" y="6"/>
                    </a:cubicBezTo>
                    <a:cubicBezTo>
                      <a:pt x="15424" y="4"/>
                      <a:pt x="15425" y="4"/>
                      <a:pt x="15426" y="4"/>
                    </a:cubicBezTo>
                    <a:close/>
                    <a:moveTo>
                      <a:pt x="15434" y="4"/>
                    </a:moveTo>
                    <a:lnTo>
                      <a:pt x="15434" y="4"/>
                    </a:lnTo>
                    <a:cubicBezTo>
                      <a:pt x="15435" y="4"/>
                      <a:pt x="15436" y="4"/>
                      <a:pt x="15436" y="6"/>
                    </a:cubicBezTo>
                    <a:cubicBezTo>
                      <a:pt x="15436" y="7"/>
                      <a:pt x="15435" y="8"/>
                      <a:pt x="15434" y="8"/>
                    </a:cubicBezTo>
                    <a:lnTo>
                      <a:pt x="15434" y="8"/>
                    </a:lnTo>
                    <a:cubicBezTo>
                      <a:pt x="15433" y="8"/>
                      <a:pt x="15432" y="7"/>
                      <a:pt x="15432" y="6"/>
                    </a:cubicBezTo>
                    <a:cubicBezTo>
                      <a:pt x="15432" y="4"/>
                      <a:pt x="15433" y="4"/>
                      <a:pt x="15434" y="4"/>
                    </a:cubicBezTo>
                    <a:close/>
                    <a:moveTo>
                      <a:pt x="15442" y="4"/>
                    </a:moveTo>
                    <a:lnTo>
                      <a:pt x="15442" y="4"/>
                    </a:lnTo>
                    <a:cubicBezTo>
                      <a:pt x="15443" y="4"/>
                      <a:pt x="15444" y="4"/>
                      <a:pt x="15444" y="6"/>
                    </a:cubicBezTo>
                    <a:cubicBezTo>
                      <a:pt x="15444" y="7"/>
                      <a:pt x="15443" y="8"/>
                      <a:pt x="15442" y="8"/>
                    </a:cubicBezTo>
                    <a:lnTo>
                      <a:pt x="15442" y="8"/>
                    </a:lnTo>
                    <a:cubicBezTo>
                      <a:pt x="15441" y="8"/>
                      <a:pt x="15440" y="7"/>
                      <a:pt x="15440" y="6"/>
                    </a:cubicBezTo>
                    <a:cubicBezTo>
                      <a:pt x="15440" y="4"/>
                      <a:pt x="15441" y="4"/>
                      <a:pt x="15442" y="4"/>
                    </a:cubicBezTo>
                    <a:close/>
                    <a:moveTo>
                      <a:pt x="15450" y="4"/>
                    </a:moveTo>
                    <a:lnTo>
                      <a:pt x="15450" y="4"/>
                    </a:lnTo>
                    <a:cubicBezTo>
                      <a:pt x="15451" y="4"/>
                      <a:pt x="15452" y="4"/>
                      <a:pt x="15452" y="6"/>
                    </a:cubicBezTo>
                    <a:cubicBezTo>
                      <a:pt x="15452" y="7"/>
                      <a:pt x="15451" y="8"/>
                      <a:pt x="15450" y="8"/>
                    </a:cubicBezTo>
                    <a:lnTo>
                      <a:pt x="15450" y="8"/>
                    </a:lnTo>
                    <a:cubicBezTo>
                      <a:pt x="15449" y="8"/>
                      <a:pt x="15448" y="7"/>
                      <a:pt x="15448" y="6"/>
                    </a:cubicBezTo>
                    <a:cubicBezTo>
                      <a:pt x="15448" y="4"/>
                      <a:pt x="15449" y="4"/>
                      <a:pt x="15450" y="4"/>
                    </a:cubicBezTo>
                    <a:close/>
                    <a:moveTo>
                      <a:pt x="15458" y="4"/>
                    </a:moveTo>
                    <a:lnTo>
                      <a:pt x="15458" y="4"/>
                    </a:lnTo>
                    <a:cubicBezTo>
                      <a:pt x="15459" y="4"/>
                      <a:pt x="15460" y="4"/>
                      <a:pt x="15460" y="6"/>
                    </a:cubicBezTo>
                    <a:cubicBezTo>
                      <a:pt x="15460" y="7"/>
                      <a:pt x="15459" y="8"/>
                      <a:pt x="15458" y="8"/>
                    </a:cubicBezTo>
                    <a:lnTo>
                      <a:pt x="15458" y="8"/>
                    </a:lnTo>
                    <a:cubicBezTo>
                      <a:pt x="15457" y="8"/>
                      <a:pt x="15456" y="7"/>
                      <a:pt x="15456" y="6"/>
                    </a:cubicBezTo>
                    <a:cubicBezTo>
                      <a:pt x="15456" y="4"/>
                      <a:pt x="15457" y="4"/>
                      <a:pt x="15458" y="4"/>
                    </a:cubicBezTo>
                    <a:close/>
                    <a:moveTo>
                      <a:pt x="15466" y="4"/>
                    </a:moveTo>
                    <a:lnTo>
                      <a:pt x="15466" y="4"/>
                    </a:lnTo>
                    <a:cubicBezTo>
                      <a:pt x="15467" y="4"/>
                      <a:pt x="15468" y="4"/>
                      <a:pt x="15468" y="6"/>
                    </a:cubicBezTo>
                    <a:cubicBezTo>
                      <a:pt x="15468" y="7"/>
                      <a:pt x="15467" y="8"/>
                      <a:pt x="15466" y="8"/>
                    </a:cubicBezTo>
                    <a:lnTo>
                      <a:pt x="15466" y="8"/>
                    </a:lnTo>
                    <a:cubicBezTo>
                      <a:pt x="15465" y="8"/>
                      <a:pt x="15464" y="7"/>
                      <a:pt x="15464" y="6"/>
                    </a:cubicBezTo>
                    <a:cubicBezTo>
                      <a:pt x="15464" y="4"/>
                      <a:pt x="15465" y="4"/>
                      <a:pt x="15466" y="4"/>
                    </a:cubicBezTo>
                    <a:close/>
                    <a:moveTo>
                      <a:pt x="15474" y="4"/>
                    </a:moveTo>
                    <a:lnTo>
                      <a:pt x="15474" y="4"/>
                    </a:lnTo>
                    <a:cubicBezTo>
                      <a:pt x="15475" y="4"/>
                      <a:pt x="15476" y="4"/>
                      <a:pt x="15476" y="6"/>
                    </a:cubicBezTo>
                    <a:cubicBezTo>
                      <a:pt x="15476" y="7"/>
                      <a:pt x="15475" y="8"/>
                      <a:pt x="15474" y="8"/>
                    </a:cubicBezTo>
                    <a:lnTo>
                      <a:pt x="15474" y="8"/>
                    </a:lnTo>
                    <a:cubicBezTo>
                      <a:pt x="15473" y="8"/>
                      <a:pt x="15472" y="7"/>
                      <a:pt x="15472" y="6"/>
                    </a:cubicBezTo>
                    <a:cubicBezTo>
                      <a:pt x="15472" y="4"/>
                      <a:pt x="15473" y="4"/>
                      <a:pt x="15474" y="4"/>
                    </a:cubicBezTo>
                    <a:close/>
                    <a:moveTo>
                      <a:pt x="15482" y="4"/>
                    </a:moveTo>
                    <a:lnTo>
                      <a:pt x="15482" y="4"/>
                    </a:lnTo>
                    <a:cubicBezTo>
                      <a:pt x="15483" y="4"/>
                      <a:pt x="15484" y="4"/>
                      <a:pt x="15484" y="6"/>
                    </a:cubicBezTo>
                    <a:cubicBezTo>
                      <a:pt x="15484" y="7"/>
                      <a:pt x="15483" y="8"/>
                      <a:pt x="15482" y="8"/>
                    </a:cubicBezTo>
                    <a:lnTo>
                      <a:pt x="15482" y="8"/>
                    </a:lnTo>
                    <a:cubicBezTo>
                      <a:pt x="15481" y="8"/>
                      <a:pt x="15480" y="7"/>
                      <a:pt x="15480" y="6"/>
                    </a:cubicBezTo>
                    <a:cubicBezTo>
                      <a:pt x="15480" y="4"/>
                      <a:pt x="15481" y="4"/>
                      <a:pt x="15482" y="4"/>
                    </a:cubicBezTo>
                    <a:close/>
                    <a:moveTo>
                      <a:pt x="15490" y="4"/>
                    </a:moveTo>
                    <a:lnTo>
                      <a:pt x="15490" y="4"/>
                    </a:lnTo>
                    <a:cubicBezTo>
                      <a:pt x="15491" y="4"/>
                      <a:pt x="15492" y="4"/>
                      <a:pt x="15492" y="6"/>
                    </a:cubicBezTo>
                    <a:cubicBezTo>
                      <a:pt x="15492" y="7"/>
                      <a:pt x="15491" y="8"/>
                      <a:pt x="15490" y="8"/>
                    </a:cubicBezTo>
                    <a:lnTo>
                      <a:pt x="15490" y="8"/>
                    </a:lnTo>
                    <a:cubicBezTo>
                      <a:pt x="15489" y="8"/>
                      <a:pt x="15488" y="7"/>
                      <a:pt x="15488" y="6"/>
                    </a:cubicBezTo>
                    <a:cubicBezTo>
                      <a:pt x="15488" y="4"/>
                      <a:pt x="15489" y="4"/>
                      <a:pt x="15490" y="4"/>
                    </a:cubicBezTo>
                    <a:close/>
                    <a:moveTo>
                      <a:pt x="15498" y="4"/>
                    </a:moveTo>
                    <a:lnTo>
                      <a:pt x="15498" y="4"/>
                    </a:lnTo>
                    <a:cubicBezTo>
                      <a:pt x="15499" y="4"/>
                      <a:pt x="15500" y="4"/>
                      <a:pt x="15500" y="6"/>
                    </a:cubicBezTo>
                    <a:cubicBezTo>
                      <a:pt x="15500" y="7"/>
                      <a:pt x="15499" y="8"/>
                      <a:pt x="15498" y="8"/>
                    </a:cubicBezTo>
                    <a:lnTo>
                      <a:pt x="15498" y="8"/>
                    </a:lnTo>
                    <a:cubicBezTo>
                      <a:pt x="15497" y="8"/>
                      <a:pt x="15496" y="7"/>
                      <a:pt x="15496" y="6"/>
                    </a:cubicBezTo>
                    <a:cubicBezTo>
                      <a:pt x="15496" y="4"/>
                      <a:pt x="15497" y="4"/>
                      <a:pt x="15498" y="4"/>
                    </a:cubicBezTo>
                    <a:close/>
                    <a:moveTo>
                      <a:pt x="15506" y="4"/>
                    </a:moveTo>
                    <a:lnTo>
                      <a:pt x="15506" y="4"/>
                    </a:lnTo>
                    <a:cubicBezTo>
                      <a:pt x="15507" y="4"/>
                      <a:pt x="15508" y="4"/>
                      <a:pt x="15508" y="6"/>
                    </a:cubicBezTo>
                    <a:cubicBezTo>
                      <a:pt x="15508" y="7"/>
                      <a:pt x="15507" y="8"/>
                      <a:pt x="15506" y="8"/>
                    </a:cubicBezTo>
                    <a:lnTo>
                      <a:pt x="15506" y="8"/>
                    </a:lnTo>
                    <a:cubicBezTo>
                      <a:pt x="15505" y="8"/>
                      <a:pt x="15504" y="7"/>
                      <a:pt x="15504" y="6"/>
                    </a:cubicBezTo>
                    <a:cubicBezTo>
                      <a:pt x="15504" y="4"/>
                      <a:pt x="15505" y="4"/>
                      <a:pt x="15506" y="4"/>
                    </a:cubicBezTo>
                    <a:close/>
                    <a:moveTo>
                      <a:pt x="15514" y="4"/>
                    </a:moveTo>
                    <a:lnTo>
                      <a:pt x="15514" y="4"/>
                    </a:lnTo>
                    <a:cubicBezTo>
                      <a:pt x="15515" y="4"/>
                      <a:pt x="15516" y="4"/>
                      <a:pt x="15516" y="6"/>
                    </a:cubicBezTo>
                    <a:cubicBezTo>
                      <a:pt x="15516" y="7"/>
                      <a:pt x="15515" y="8"/>
                      <a:pt x="15514" y="8"/>
                    </a:cubicBezTo>
                    <a:lnTo>
                      <a:pt x="15514" y="8"/>
                    </a:lnTo>
                    <a:cubicBezTo>
                      <a:pt x="15513" y="8"/>
                      <a:pt x="15512" y="7"/>
                      <a:pt x="15512" y="6"/>
                    </a:cubicBezTo>
                    <a:cubicBezTo>
                      <a:pt x="15512" y="4"/>
                      <a:pt x="15513" y="4"/>
                      <a:pt x="15514" y="4"/>
                    </a:cubicBezTo>
                    <a:close/>
                    <a:moveTo>
                      <a:pt x="15522" y="4"/>
                    </a:moveTo>
                    <a:lnTo>
                      <a:pt x="15522" y="4"/>
                    </a:lnTo>
                    <a:cubicBezTo>
                      <a:pt x="15523" y="4"/>
                      <a:pt x="15524" y="4"/>
                      <a:pt x="15524" y="6"/>
                    </a:cubicBezTo>
                    <a:cubicBezTo>
                      <a:pt x="15524" y="7"/>
                      <a:pt x="15523" y="8"/>
                      <a:pt x="15522" y="8"/>
                    </a:cubicBezTo>
                    <a:lnTo>
                      <a:pt x="15522" y="8"/>
                    </a:lnTo>
                    <a:cubicBezTo>
                      <a:pt x="15521" y="8"/>
                      <a:pt x="15520" y="7"/>
                      <a:pt x="15520" y="6"/>
                    </a:cubicBezTo>
                    <a:cubicBezTo>
                      <a:pt x="15520" y="4"/>
                      <a:pt x="15521" y="4"/>
                      <a:pt x="15522" y="4"/>
                    </a:cubicBezTo>
                    <a:close/>
                    <a:moveTo>
                      <a:pt x="15530" y="4"/>
                    </a:moveTo>
                    <a:lnTo>
                      <a:pt x="15530" y="4"/>
                    </a:lnTo>
                    <a:cubicBezTo>
                      <a:pt x="15532" y="4"/>
                      <a:pt x="15532" y="4"/>
                      <a:pt x="15532" y="6"/>
                    </a:cubicBezTo>
                    <a:cubicBezTo>
                      <a:pt x="15532" y="7"/>
                      <a:pt x="15532" y="8"/>
                      <a:pt x="15530" y="8"/>
                    </a:cubicBezTo>
                    <a:lnTo>
                      <a:pt x="15530" y="8"/>
                    </a:lnTo>
                    <a:cubicBezTo>
                      <a:pt x="15529" y="8"/>
                      <a:pt x="15528" y="7"/>
                      <a:pt x="15528" y="6"/>
                    </a:cubicBezTo>
                    <a:cubicBezTo>
                      <a:pt x="15528" y="4"/>
                      <a:pt x="15529" y="4"/>
                      <a:pt x="15530" y="4"/>
                    </a:cubicBezTo>
                    <a:close/>
                    <a:moveTo>
                      <a:pt x="15538" y="4"/>
                    </a:moveTo>
                    <a:lnTo>
                      <a:pt x="15538" y="4"/>
                    </a:lnTo>
                    <a:cubicBezTo>
                      <a:pt x="15540" y="4"/>
                      <a:pt x="15540" y="4"/>
                      <a:pt x="15540" y="6"/>
                    </a:cubicBezTo>
                    <a:cubicBezTo>
                      <a:pt x="15540" y="7"/>
                      <a:pt x="15540" y="8"/>
                      <a:pt x="15538" y="8"/>
                    </a:cubicBezTo>
                    <a:lnTo>
                      <a:pt x="15538" y="8"/>
                    </a:lnTo>
                    <a:cubicBezTo>
                      <a:pt x="15537" y="8"/>
                      <a:pt x="15536" y="7"/>
                      <a:pt x="15536" y="6"/>
                    </a:cubicBezTo>
                    <a:cubicBezTo>
                      <a:pt x="15536" y="4"/>
                      <a:pt x="15537" y="4"/>
                      <a:pt x="15538" y="4"/>
                    </a:cubicBezTo>
                    <a:close/>
                    <a:moveTo>
                      <a:pt x="15546" y="4"/>
                    </a:moveTo>
                    <a:lnTo>
                      <a:pt x="15546" y="4"/>
                    </a:lnTo>
                    <a:cubicBezTo>
                      <a:pt x="15548" y="4"/>
                      <a:pt x="15548" y="4"/>
                      <a:pt x="15548" y="6"/>
                    </a:cubicBezTo>
                    <a:cubicBezTo>
                      <a:pt x="15548" y="7"/>
                      <a:pt x="15548" y="8"/>
                      <a:pt x="15546" y="8"/>
                    </a:cubicBezTo>
                    <a:lnTo>
                      <a:pt x="15546" y="8"/>
                    </a:lnTo>
                    <a:cubicBezTo>
                      <a:pt x="15545" y="8"/>
                      <a:pt x="15544" y="7"/>
                      <a:pt x="15544" y="6"/>
                    </a:cubicBezTo>
                    <a:cubicBezTo>
                      <a:pt x="15544" y="4"/>
                      <a:pt x="15545" y="4"/>
                      <a:pt x="15546" y="4"/>
                    </a:cubicBezTo>
                    <a:close/>
                    <a:moveTo>
                      <a:pt x="15554" y="4"/>
                    </a:moveTo>
                    <a:lnTo>
                      <a:pt x="15554" y="4"/>
                    </a:lnTo>
                    <a:cubicBezTo>
                      <a:pt x="15556" y="4"/>
                      <a:pt x="15556" y="4"/>
                      <a:pt x="15556" y="6"/>
                    </a:cubicBezTo>
                    <a:cubicBezTo>
                      <a:pt x="15556" y="7"/>
                      <a:pt x="15556" y="8"/>
                      <a:pt x="15554" y="8"/>
                    </a:cubicBezTo>
                    <a:lnTo>
                      <a:pt x="15554" y="8"/>
                    </a:lnTo>
                    <a:cubicBezTo>
                      <a:pt x="15553" y="8"/>
                      <a:pt x="15552" y="7"/>
                      <a:pt x="15552" y="6"/>
                    </a:cubicBezTo>
                    <a:cubicBezTo>
                      <a:pt x="15552" y="4"/>
                      <a:pt x="15553" y="4"/>
                      <a:pt x="15554" y="4"/>
                    </a:cubicBezTo>
                    <a:close/>
                    <a:moveTo>
                      <a:pt x="15562" y="4"/>
                    </a:moveTo>
                    <a:lnTo>
                      <a:pt x="15562" y="4"/>
                    </a:lnTo>
                    <a:cubicBezTo>
                      <a:pt x="15564" y="4"/>
                      <a:pt x="15564" y="4"/>
                      <a:pt x="15564" y="6"/>
                    </a:cubicBezTo>
                    <a:cubicBezTo>
                      <a:pt x="15564" y="7"/>
                      <a:pt x="15564" y="8"/>
                      <a:pt x="15562" y="8"/>
                    </a:cubicBezTo>
                    <a:lnTo>
                      <a:pt x="15562" y="8"/>
                    </a:lnTo>
                    <a:cubicBezTo>
                      <a:pt x="15561" y="8"/>
                      <a:pt x="15560" y="7"/>
                      <a:pt x="15560" y="6"/>
                    </a:cubicBezTo>
                    <a:cubicBezTo>
                      <a:pt x="15560" y="4"/>
                      <a:pt x="15561" y="4"/>
                      <a:pt x="15562" y="4"/>
                    </a:cubicBezTo>
                    <a:close/>
                    <a:moveTo>
                      <a:pt x="15570" y="4"/>
                    </a:moveTo>
                    <a:lnTo>
                      <a:pt x="15570" y="4"/>
                    </a:lnTo>
                    <a:cubicBezTo>
                      <a:pt x="15572" y="4"/>
                      <a:pt x="15572" y="4"/>
                      <a:pt x="15572" y="6"/>
                    </a:cubicBezTo>
                    <a:cubicBezTo>
                      <a:pt x="15572" y="7"/>
                      <a:pt x="15572" y="8"/>
                      <a:pt x="15570" y="8"/>
                    </a:cubicBezTo>
                    <a:lnTo>
                      <a:pt x="15570" y="8"/>
                    </a:lnTo>
                    <a:cubicBezTo>
                      <a:pt x="15569" y="8"/>
                      <a:pt x="15568" y="7"/>
                      <a:pt x="15568" y="6"/>
                    </a:cubicBezTo>
                    <a:cubicBezTo>
                      <a:pt x="15568" y="4"/>
                      <a:pt x="15569" y="4"/>
                      <a:pt x="15570" y="4"/>
                    </a:cubicBezTo>
                    <a:close/>
                    <a:moveTo>
                      <a:pt x="15578" y="4"/>
                    </a:moveTo>
                    <a:lnTo>
                      <a:pt x="15578" y="4"/>
                    </a:lnTo>
                    <a:cubicBezTo>
                      <a:pt x="15580" y="4"/>
                      <a:pt x="15580" y="4"/>
                      <a:pt x="15580" y="6"/>
                    </a:cubicBezTo>
                    <a:cubicBezTo>
                      <a:pt x="15580" y="7"/>
                      <a:pt x="15580" y="8"/>
                      <a:pt x="15578" y="8"/>
                    </a:cubicBezTo>
                    <a:lnTo>
                      <a:pt x="15578" y="8"/>
                    </a:lnTo>
                    <a:cubicBezTo>
                      <a:pt x="15577" y="8"/>
                      <a:pt x="15576" y="7"/>
                      <a:pt x="15576" y="6"/>
                    </a:cubicBezTo>
                    <a:cubicBezTo>
                      <a:pt x="15576" y="4"/>
                      <a:pt x="15577" y="4"/>
                      <a:pt x="15578" y="4"/>
                    </a:cubicBezTo>
                    <a:close/>
                    <a:moveTo>
                      <a:pt x="15586" y="4"/>
                    </a:moveTo>
                    <a:lnTo>
                      <a:pt x="15586" y="4"/>
                    </a:lnTo>
                    <a:cubicBezTo>
                      <a:pt x="15588" y="4"/>
                      <a:pt x="15588" y="4"/>
                      <a:pt x="15588" y="6"/>
                    </a:cubicBezTo>
                    <a:cubicBezTo>
                      <a:pt x="15588" y="7"/>
                      <a:pt x="15588" y="8"/>
                      <a:pt x="15586" y="8"/>
                    </a:cubicBezTo>
                    <a:lnTo>
                      <a:pt x="15586" y="8"/>
                    </a:lnTo>
                    <a:cubicBezTo>
                      <a:pt x="15585" y="8"/>
                      <a:pt x="15584" y="7"/>
                      <a:pt x="15584" y="6"/>
                    </a:cubicBezTo>
                    <a:cubicBezTo>
                      <a:pt x="15584" y="4"/>
                      <a:pt x="15585" y="4"/>
                      <a:pt x="15586" y="4"/>
                    </a:cubicBezTo>
                    <a:close/>
                    <a:moveTo>
                      <a:pt x="15594" y="4"/>
                    </a:moveTo>
                    <a:lnTo>
                      <a:pt x="15594" y="4"/>
                    </a:lnTo>
                    <a:cubicBezTo>
                      <a:pt x="15596" y="4"/>
                      <a:pt x="15596" y="4"/>
                      <a:pt x="15596" y="6"/>
                    </a:cubicBezTo>
                    <a:cubicBezTo>
                      <a:pt x="15596" y="7"/>
                      <a:pt x="15596" y="8"/>
                      <a:pt x="15594" y="8"/>
                    </a:cubicBezTo>
                    <a:lnTo>
                      <a:pt x="15594" y="8"/>
                    </a:lnTo>
                    <a:cubicBezTo>
                      <a:pt x="15593" y="8"/>
                      <a:pt x="15592" y="7"/>
                      <a:pt x="15592" y="6"/>
                    </a:cubicBezTo>
                    <a:cubicBezTo>
                      <a:pt x="15592" y="4"/>
                      <a:pt x="15593" y="4"/>
                      <a:pt x="15594" y="4"/>
                    </a:cubicBezTo>
                    <a:close/>
                    <a:moveTo>
                      <a:pt x="15602" y="4"/>
                    </a:moveTo>
                    <a:lnTo>
                      <a:pt x="15602" y="4"/>
                    </a:lnTo>
                    <a:cubicBezTo>
                      <a:pt x="15604" y="4"/>
                      <a:pt x="15604" y="4"/>
                      <a:pt x="15604" y="6"/>
                    </a:cubicBezTo>
                    <a:cubicBezTo>
                      <a:pt x="15604" y="7"/>
                      <a:pt x="15604" y="8"/>
                      <a:pt x="15602" y="8"/>
                    </a:cubicBezTo>
                    <a:lnTo>
                      <a:pt x="15602" y="8"/>
                    </a:lnTo>
                    <a:cubicBezTo>
                      <a:pt x="15601" y="8"/>
                      <a:pt x="15600" y="7"/>
                      <a:pt x="15600" y="6"/>
                    </a:cubicBezTo>
                    <a:cubicBezTo>
                      <a:pt x="15600" y="4"/>
                      <a:pt x="15601" y="4"/>
                      <a:pt x="15602" y="4"/>
                    </a:cubicBezTo>
                    <a:close/>
                    <a:moveTo>
                      <a:pt x="15610" y="4"/>
                    </a:moveTo>
                    <a:lnTo>
                      <a:pt x="15610" y="4"/>
                    </a:lnTo>
                    <a:cubicBezTo>
                      <a:pt x="15612" y="4"/>
                      <a:pt x="15612" y="4"/>
                      <a:pt x="15612" y="6"/>
                    </a:cubicBezTo>
                    <a:cubicBezTo>
                      <a:pt x="15612" y="7"/>
                      <a:pt x="15612" y="8"/>
                      <a:pt x="15610" y="8"/>
                    </a:cubicBezTo>
                    <a:lnTo>
                      <a:pt x="15610" y="8"/>
                    </a:lnTo>
                    <a:cubicBezTo>
                      <a:pt x="15609" y="8"/>
                      <a:pt x="15608" y="7"/>
                      <a:pt x="15608" y="6"/>
                    </a:cubicBezTo>
                    <a:cubicBezTo>
                      <a:pt x="15608" y="4"/>
                      <a:pt x="15609" y="4"/>
                      <a:pt x="15610" y="4"/>
                    </a:cubicBezTo>
                    <a:close/>
                    <a:moveTo>
                      <a:pt x="15618" y="4"/>
                    </a:moveTo>
                    <a:lnTo>
                      <a:pt x="15618" y="4"/>
                    </a:lnTo>
                    <a:cubicBezTo>
                      <a:pt x="15620" y="4"/>
                      <a:pt x="15620" y="4"/>
                      <a:pt x="15620" y="6"/>
                    </a:cubicBezTo>
                    <a:cubicBezTo>
                      <a:pt x="15620" y="7"/>
                      <a:pt x="15620" y="8"/>
                      <a:pt x="15618" y="8"/>
                    </a:cubicBezTo>
                    <a:lnTo>
                      <a:pt x="15618" y="8"/>
                    </a:lnTo>
                    <a:cubicBezTo>
                      <a:pt x="15617" y="8"/>
                      <a:pt x="15616" y="7"/>
                      <a:pt x="15616" y="6"/>
                    </a:cubicBezTo>
                    <a:cubicBezTo>
                      <a:pt x="15616" y="4"/>
                      <a:pt x="15617" y="4"/>
                      <a:pt x="15618" y="4"/>
                    </a:cubicBezTo>
                    <a:close/>
                    <a:moveTo>
                      <a:pt x="15626" y="4"/>
                    </a:moveTo>
                    <a:lnTo>
                      <a:pt x="15626" y="4"/>
                    </a:lnTo>
                    <a:cubicBezTo>
                      <a:pt x="15628" y="4"/>
                      <a:pt x="15628" y="4"/>
                      <a:pt x="15628" y="6"/>
                    </a:cubicBezTo>
                    <a:cubicBezTo>
                      <a:pt x="15628" y="7"/>
                      <a:pt x="15628" y="8"/>
                      <a:pt x="15626" y="8"/>
                    </a:cubicBezTo>
                    <a:lnTo>
                      <a:pt x="15626" y="8"/>
                    </a:lnTo>
                    <a:cubicBezTo>
                      <a:pt x="15625" y="8"/>
                      <a:pt x="15624" y="7"/>
                      <a:pt x="15624" y="6"/>
                    </a:cubicBezTo>
                    <a:cubicBezTo>
                      <a:pt x="15624" y="4"/>
                      <a:pt x="15625" y="4"/>
                      <a:pt x="15626" y="4"/>
                    </a:cubicBezTo>
                    <a:close/>
                    <a:moveTo>
                      <a:pt x="15634" y="4"/>
                    </a:moveTo>
                    <a:lnTo>
                      <a:pt x="15634" y="4"/>
                    </a:lnTo>
                    <a:cubicBezTo>
                      <a:pt x="15636" y="4"/>
                      <a:pt x="15636" y="4"/>
                      <a:pt x="15636" y="6"/>
                    </a:cubicBezTo>
                    <a:cubicBezTo>
                      <a:pt x="15636" y="7"/>
                      <a:pt x="15636" y="8"/>
                      <a:pt x="15634" y="8"/>
                    </a:cubicBezTo>
                    <a:lnTo>
                      <a:pt x="15634" y="8"/>
                    </a:lnTo>
                    <a:cubicBezTo>
                      <a:pt x="15633" y="8"/>
                      <a:pt x="15632" y="7"/>
                      <a:pt x="15632" y="6"/>
                    </a:cubicBezTo>
                    <a:cubicBezTo>
                      <a:pt x="15632" y="4"/>
                      <a:pt x="15633" y="4"/>
                      <a:pt x="15634" y="4"/>
                    </a:cubicBezTo>
                    <a:close/>
                    <a:moveTo>
                      <a:pt x="15642" y="4"/>
                    </a:moveTo>
                    <a:lnTo>
                      <a:pt x="15642" y="4"/>
                    </a:lnTo>
                    <a:cubicBezTo>
                      <a:pt x="15644" y="4"/>
                      <a:pt x="15644" y="4"/>
                      <a:pt x="15644" y="6"/>
                    </a:cubicBezTo>
                    <a:cubicBezTo>
                      <a:pt x="15644" y="7"/>
                      <a:pt x="15644" y="8"/>
                      <a:pt x="15642" y="8"/>
                    </a:cubicBezTo>
                    <a:lnTo>
                      <a:pt x="15642" y="8"/>
                    </a:lnTo>
                    <a:cubicBezTo>
                      <a:pt x="15641" y="8"/>
                      <a:pt x="15640" y="7"/>
                      <a:pt x="15640" y="6"/>
                    </a:cubicBezTo>
                    <a:cubicBezTo>
                      <a:pt x="15640" y="4"/>
                      <a:pt x="15641" y="4"/>
                      <a:pt x="15642" y="4"/>
                    </a:cubicBezTo>
                    <a:close/>
                    <a:moveTo>
                      <a:pt x="15650" y="4"/>
                    </a:moveTo>
                    <a:lnTo>
                      <a:pt x="15650" y="4"/>
                    </a:lnTo>
                    <a:cubicBezTo>
                      <a:pt x="15652" y="4"/>
                      <a:pt x="15652" y="4"/>
                      <a:pt x="15652" y="6"/>
                    </a:cubicBezTo>
                    <a:cubicBezTo>
                      <a:pt x="15652" y="7"/>
                      <a:pt x="15652" y="8"/>
                      <a:pt x="15650" y="8"/>
                    </a:cubicBezTo>
                    <a:lnTo>
                      <a:pt x="15650" y="8"/>
                    </a:lnTo>
                    <a:cubicBezTo>
                      <a:pt x="15649" y="8"/>
                      <a:pt x="15648" y="7"/>
                      <a:pt x="15648" y="6"/>
                    </a:cubicBezTo>
                    <a:cubicBezTo>
                      <a:pt x="15648" y="4"/>
                      <a:pt x="15649" y="4"/>
                      <a:pt x="15650" y="4"/>
                    </a:cubicBezTo>
                    <a:close/>
                    <a:moveTo>
                      <a:pt x="15658" y="4"/>
                    </a:moveTo>
                    <a:lnTo>
                      <a:pt x="15658" y="4"/>
                    </a:lnTo>
                    <a:cubicBezTo>
                      <a:pt x="15660" y="4"/>
                      <a:pt x="15660" y="4"/>
                      <a:pt x="15660" y="6"/>
                    </a:cubicBezTo>
                    <a:cubicBezTo>
                      <a:pt x="15660" y="7"/>
                      <a:pt x="15660" y="8"/>
                      <a:pt x="15658" y="8"/>
                    </a:cubicBezTo>
                    <a:lnTo>
                      <a:pt x="15658" y="8"/>
                    </a:lnTo>
                    <a:cubicBezTo>
                      <a:pt x="15657" y="8"/>
                      <a:pt x="15656" y="7"/>
                      <a:pt x="15656" y="6"/>
                    </a:cubicBezTo>
                    <a:cubicBezTo>
                      <a:pt x="15656" y="4"/>
                      <a:pt x="15657" y="4"/>
                      <a:pt x="15658" y="4"/>
                    </a:cubicBezTo>
                    <a:close/>
                    <a:moveTo>
                      <a:pt x="15666" y="4"/>
                    </a:moveTo>
                    <a:lnTo>
                      <a:pt x="15666" y="4"/>
                    </a:lnTo>
                    <a:cubicBezTo>
                      <a:pt x="15668" y="4"/>
                      <a:pt x="15668" y="5"/>
                      <a:pt x="15668" y="6"/>
                    </a:cubicBezTo>
                    <a:cubicBezTo>
                      <a:pt x="15668" y="7"/>
                      <a:pt x="15668" y="8"/>
                      <a:pt x="15666" y="8"/>
                    </a:cubicBezTo>
                    <a:lnTo>
                      <a:pt x="15666" y="8"/>
                    </a:lnTo>
                    <a:cubicBezTo>
                      <a:pt x="15665" y="8"/>
                      <a:pt x="15664" y="7"/>
                      <a:pt x="15664" y="6"/>
                    </a:cubicBezTo>
                    <a:cubicBezTo>
                      <a:pt x="15664" y="5"/>
                      <a:pt x="15665" y="4"/>
                      <a:pt x="15666" y="4"/>
                    </a:cubicBezTo>
                    <a:close/>
                    <a:moveTo>
                      <a:pt x="15674" y="4"/>
                    </a:moveTo>
                    <a:lnTo>
                      <a:pt x="15675" y="4"/>
                    </a:lnTo>
                    <a:cubicBezTo>
                      <a:pt x="15676" y="4"/>
                      <a:pt x="15677" y="5"/>
                      <a:pt x="15677" y="6"/>
                    </a:cubicBezTo>
                    <a:cubicBezTo>
                      <a:pt x="15677" y="7"/>
                      <a:pt x="15676" y="8"/>
                      <a:pt x="15675" y="8"/>
                    </a:cubicBezTo>
                    <a:lnTo>
                      <a:pt x="15674" y="8"/>
                    </a:lnTo>
                    <a:cubicBezTo>
                      <a:pt x="15673" y="8"/>
                      <a:pt x="15672" y="7"/>
                      <a:pt x="15672" y="6"/>
                    </a:cubicBezTo>
                    <a:cubicBezTo>
                      <a:pt x="15672" y="5"/>
                      <a:pt x="15673" y="4"/>
                      <a:pt x="15674" y="4"/>
                    </a:cubicBezTo>
                    <a:close/>
                    <a:moveTo>
                      <a:pt x="15683" y="4"/>
                    </a:moveTo>
                    <a:lnTo>
                      <a:pt x="15683" y="4"/>
                    </a:lnTo>
                    <a:cubicBezTo>
                      <a:pt x="15684" y="4"/>
                      <a:pt x="15685" y="5"/>
                      <a:pt x="15685" y="6"/>
                    </a:cubicBezTo>
                    <a:cubicBezTo>
                      <a:pt x="15685" y="7"/>
                      <a:pt x="15684" y="8"/>
                      <a:pt x="15683" y="8"/>
                    </a:cubicBezTo>
                    <a:lnTo>
                      <a:pt x="15683" y="8"/>
                    </a:lnTo>
                    <a:cubicBezTo>
                      <a:pt x="15681" y="8"/>
                      <a:pt x="15681" y="7"/>
                      <a:pt x="15681" y="6"/>
                    </a:cubicBezTo>
                    <a:cubicBezTo>
                      <a:pt x="15681" y="5"/>
                      <a:pt x="15681" y="4"/>
                      <a:pt x="15683" y="4"/>
                    </a:cubicBezTo>
                    <a:close/>
                    <a:moveTo>
                      <a:pt x="15691" y="4"/>
                    </a:moveTo>
                    <a:lnTo>
                      <a:pt x="15691" y="4"/>
                    </a:lnTo>
                    <a:cubicBezTo>
                      <a:pt x="15692" y="4"/>
                      <a:pt x="15693" y="5"/>
                      <a:pt x="15693" y="6"/>
                    </a:cubicBezTo>
                    <a:cubicBezTo>
                      <a:pt x="15693" y="7"/>
                      <a:pt x="15692" y="8"/>
                      <a:pt x="15691" y="8"/>
                    </a:cubicBezTo>
                    <a:lnTo>
                      <a:pt x="15691" y="8"/>
                    </a:lnTo>
                    <a:cubicBezTo>
                      <a:pt x="15689" y="8"/>
                      <a:pt x="15689" y="7"/>
                      <a:pt x="15689" y="6"/>
                    </a:cubicBezTo>
                    <a:cubicBezTo>
                      <a:pt x="15689" y="5"/>
                      <a:pt x="15689" y="4"/>
                      <a:pt x="15691" y="4"/>
                    </a:cubicBezTo>
                    <a:close/>
                    <a:moveTo>
                      <a:pt x="15699" y="4"/>
                    </a:moveTo>
                    <a:lnTo>
                      <a:pt x="15699" y="4"/>
                    </a:lnTo>
                    <a:cubicBezTo>
                      <a:pt x="15700" y="4"/>
                      <a:pt x="15701" y="5"/>
                      <a:pt x="15701" y="6"/>
                    </a:cubicBezTo>
                    <a:cubicBezTo>
                      <a:pt x="15701" y="7"/>
                      <a:pt x="15700" y="8"/>
                      <a:pt x="15699" y="8"/>
                    </a:cubicBezTo>
                    <a:lnTo>
                      <a:pt x="15699" y="8"/>
                    </a:lnTo>
                    <a:cubicBezTo>
                      <a:pt x="15697" y="8"/>
                      <a:pt x="15697" y="7"/>
                      <a:pt x="15697" y="6"/>
                    </a:cubicBezTo>
                    <a:cubicBezTo>
                      <a:pt x="15697" y="5"/>
                      <a:pt x="15697" y="4"/>
                      <a:pt x="15699" y="4"/>
                    </a:cubicBezTo>
                    <a:close/>
                    <a:moveTo>
                      <a:pt x="15707" y="4"/>
                    </a:moveTo>
                    <a:lnTo>
                      <a:pt x="15707" y="4"/>
                    </a:lnTo>
                    <a:cubicBezTo>
                      <a:pt x="15708" y="4"/>
                      <a:pt x="15709" y="5"/>
                      <a:pt x="15709" y="6"/>
                    </a:cubicBezTo>
                    <a:cubicBezTo>
                      <a:pt x="15709" y="7"/>
                      <a:pt x="15708" y="8"/>
                      <a:pt x="15707" y="8"/>
                    </a:cubicBezTo>
                    <a:lnTo>
                      <a:pt x="15707" y="8"/>
                    </a:lnTo>
                    <a:cubicBezTo>
                      <a:pt x="15705" y="8"/>
                      <a:pt x="15705" y="7"/>
                      <a:pt x="15705" y="6"/>
                    </a:cubicBezTo>
                    <a:cubicBezTo>
                      <a:pt x="15705" y="5"/>
                      <a:pt x="15705" y="4"/>
                      <a:pt x="15707" y="4"/>
                    </a:cubicBezTo>
                    <a:close/>
                    <a:moveTo>
                      <a:pt x="15715" y="4"/>
                    </a:moveTo>
                    <a:lnTo>
                      <a:pt x="15715" y="4"/>
                    </a:lnTo>
                    <a:cubicBezTo>
                      <a:pt x="15716" y="4"/>
                      <a:pt x="15717" y="5"/>
                      <a:pt x="15717" y="6"/>
                    </a:cubicBezTo>
                    <a:cubicBezTo>
                      <a:pt x="15717" y="7"/>
                      <a:pt x="15716" y="8"/>
                      <a:pt x="15715" y="8"/>
                    </a:cubicBezTo>
                    <a:lnTo>
                      <a:pt x="15715" y="8"/>
                    </a:lnTo>
                    <a:cubicBezTo>
                      <a:pt x="15713" y="8"/>
                      <a:pt x="15713" y="7"/>
                      <a:pt x="15713" y="6"/>
                    </a:cubicBezTo>
                    <a:cubicBezTo>
                      <a:pt x="15713" y="5"/>
                      <a:pt x="15713" y="4"/>
                      <a:pt x="15715" y="4"/>
                    </a:cubicBezTo>
                    <a:close/>
                    <a:moveTo>
                      <a:pt x="15723" y="4"/>
                    </a:moveTo>
                    <a:lnTo>
                      <a:pt x="15723" y="4"/>
                    </a:lnTo>
                    <a:cubicBezTo>
                      <a:pt x="15724" y="4"/>
                      <a:pt x="15725" y="5"/>
                      <a:pt x="15725" y="6"/>
                    </a:cubicBezTo>
                    <a:cubicBezTo>
                      <a:pt x="15725" y="7"/>
                      <a:pt x="15724" y="8"/>
                      <a:pt x="15723" y="8"/>
                    </a:cubicBezTo>
                    <a:lnTo>
                      <a:pt x="15723" y="8"/>
                    </a:lnTo>
                    <a:cubicBezTo>
                      <a:pt x="15721" y="8"/>
                      <a:pt x="15721" y="7"/>
                      <a:pt x="15721" y="6"/>
                    </a:cubicBezTo>
                    <a:cubicBezTo>
                      <a:pt x="15721" y="5"/>
                      <a:pt x="15721" y="4"/>
                      <a:pt x="15723" y="4"/>
                    </a:cubicBezTo>
                    <a:close/>
                    <a:moveTo>
                      <a:pt x="15731" y="4"/>
                    </a:moveTo>
                    <a:lnTo>
                      <a:pt x="15731" y="4"/>
                    </a:lnTo>
                    <a:cubicBezTo>
                      <a:pt x="15732" y="4"/>
                      <a:pt x="15733" y="5"/>
                      <a:pt x="15733" y="6"/>
                    </a:cubicBezTo>
                    <a:cubicBezTo>
                      <a:pt x="15733" y="7"/>
                      <a:pt x="15732" y="8"/>
                      <a:pt x="15731" y="8"/>
                    </a:cubicBezTo>
                    <a:lnTo>
                      <a:pt x="15731" y="8"/>
                    </a:lnTo>
                    <a:cubicBezTo>
                      <a:pt x="15729" y="8"/>
                      <a:pt x="15729" y="7"/>
                      <a:pt x="15729" y="6"/>
                    </a:cubicBezTo>
                    <a:cubicBezTo>
                      <a:pt x="15729" y="5"/>
                      <a:pt x="15729" y="4"/>
                      <a:pt x="15731" y="4"/>
                    </a:cubicBezTo>
                    <a:close/>
                    <a:moveTo>
                      <a:pt x="15739" y="4"/>
                    </a:moveTo>
                    <a:lnTo>
                      <a:pt x="15739" y="4"/>
                    </a:lnTo>
                    <a:cubicBezTo>
                      <a:pt x="15740" y="4"/>
                      <a:pt x="15741" y="5"/>
                      <a:pt x="15741" y="6"/>
                    </a:cubicBezTo>
                    <a:cubicBezTo>
                      <a:pt x="15741" y="7"/>
                      <a:pt x="15740" y="8"/>
                      <a:pt x="15739" y="8"/>
                    </a:cubicBezTo>
                    <a:lnTo>
                      <a:pt x="15739" y="8"/>
                    </a:lnTo>
                    <a:cubicBezTo>
                      <a:pt x="15737" y="8"/>
                      <a:pt x="15737" y="7"/>
                      <a:pt x="15737" y="6"/>
                    </a:cubicBezTo>
                    <a:cubicBezTo>
                      <a:pt x="15737" y="5"/>
                      <a:pt x="15737" y="4"/>
                      <a:pt x="15739" y="4"/>
                    </a:cubicBezTo>
                    <a:close/>
                    <a:moveTo>
                      <a:pt x="15747" y="4"/>
                    </a:moveTo>
                    <a:lnTo>
                      <a:pt x="15747" y="4"/>
                    </a:lnTo>
                    <a:cubicBezTo>
                      <a:pt x="15748" y="4"/>
                      <a:pt x="15749" y="5"/>
                      <a:pt x="15749" y="6"/>
                    </a:cubicBezTo>
                    <a:cubicBezTo>
                      <a:pt x="15749" y="7"/>
                      <a:pt x="15748" y="8"/>
                      <a:pt x="15747" y="8"/>
                    </a:cubicBezTo>
                    <a:lnTo>
                      <a:pt x="15747" y="8"/>
                    </a:lnTo>
                    <a:cubicBezTo>
                      <a:pt x="15745" y="8"/>
                      <a:pt x="15745" y="7"/>
                      <a:pt x="15745" y="6"/>
                    </a:cubicBezTo>
                    <a:cubicBezTo>
                      <a:pt x="15745" y="5"/>
                      <a:pt x="15745" y="4"/>
                      <a:pt x="15747" y="4"/>
                    </a:cubicBezTo>
                    <a:close/>
                    <a:moveTo>
                      <a:pt x="15755" y="4"/>
                    </a:moveTo>
                    <a:lnTo>
                      <a:pt x="15755" y="4"/>
                    </a:lnTo>
                    <a:cubicBezTo>
                      <a:pt x="15756" y="4"/>
                      <a:pt x="15757" y="5"/>
                      <a:pt x="15757" y="6"/>
                    </a:cubicBezTo>
                    <a:cubicBezTo>
                      <a:pt x="15757" y="7"/>
                      <a:pt x="15756" y="8"/>
                      <a:pt x="15755" y="8"/>
                    </a:cubicBezTo>
                    <a:lnTo>
                      <a:pt x="15755" y="8"/>
                    </a:lnTo>
                    <a:cubicBezTo>
                      <a:pt x="15753" y="8"/>
                      <a:pt x="15753" y="7"/>
                      <a:pt x="15753" y="6"/>
                    </a:cubicBezTo>
                    <a:cubicBezTo>
                      <a:pt x="15753" y="5"/>
                      <a:pt x="15753" y="4"/>
                      <a:pt x="15755" y="4"/>
                    </a:cubicBezTo>
                    <a:close/>
                    <a:moveTo>
                      <a:pt x="15763" y="4"/>
                    </a:moveTo>
                    <a:lnTo>
                      <a:pt x="15763" y="4"/>
                    </a:lnTo>
                    <a:cubicBezTo>
                      <a:pt x="15764" y="4"/>
                      <a:pt x="15765" y="5"/>
                      <a:pt x="15765" y="6"/>
                    </a:cubicBezTo>
                    <a:cubicBezTo>
                      <a:pt x="15765" y="7"/>
                      <a:pt x="15764" y="8"/>
                      <a:pt x="15763" y="8"/>
                    </a:cubicBezTo>
                    <a:lnTo>
                      <a:pt x="15763" y="8"/>
                    </a:lnTo>
                    <a:cubicBezTo>
                      <a:pt x="15761" y="8"/>
                      <a:pt x="15761" y="7"/>
                      <a:pt x="15761" y="6"/>
                    </a:cubicBezTo>
                    <a:cubicBezTo>
                      <a:pt x="15761" y="5"/>
                      <a:pt x="15761" y="4"/>
                      <a:pt x="15763" y="4"/>
                    </a:cubicBezTo>
                    <a:close/>
                    <a:moveTo>
                      <a:pt x="15771" y="4"/>
                    </a:moveTo>
                    <a:lnTo>
                      <a:pt x="15771" y="4"/>
                    </a:lnTo>
                    <a:cubicBezTo>
                      <a:pt x="15772" y="4"/>
                      <a:pt x="15773" y="5"/>
                      <a:pt x="15773" y="6"/>
                    </a:cubicBezTo>
                    <a:cubicBezTo>
                      <a:pt x="15773" y="7"/>
                      <a:pt x="15772" y="8"/>
                      <a:pt x="15771" y="8"/>
                    </a:cubicBezTo>
                    <a:lnTo>
                      <a:pt x="15771" y="8"/>
                    </a:lnTo>
                    <a:cubicBezTo>
                      <a:pt x="15769" y="8"/>
                      <a:pt x="15769" y="7"/>
                      <a:pt x="15769" y="6"/>
                    </a:cubicBezTo>
                    <a:cubicBezTo>
                      <a:pt x="15769" y="5"/>
                      <a:pt x="15769" y="4"/>
                      <a:pt x="15771" y="4"/>
                    </a:cubicBezTo>
                    <a:close/>
                    <a:moveTo>
                      <a:pt x="15779" y="4"/>
                    </a:moveTo>
                    <a:lnTo>
                      <a:pt x="15779" y="4"/>
                    </a:lnTo>
                    <a:cubicBezTo>
                      <a:pt x="15780" y="4"/>
                      <a:pt x="15781" y="5"/>
                      <a:pt x="15781" y="6"/>
                    </a:cubicBezTo>
                    <a:cubicBezTo>
                      <a:pt x="15781" y="7"/>
                      <a:pt x="15780" y="8"/>
                      <a:pt x="15779" y="8"/>
                    </a:cubicBezTo>
                    <a:lnTo>
                      <a:pt x="15779" y="8"/>
                    </a:lnTo>
                    <a:cubicBezTo>
                      <a:pt x="15777" y="8"/>
                      <a:pt x="15777" y="7"/>
                      <a:pt x="15777" y="6"/>
                    </a:cubicBezTo>
                    <a:cubicBezTo>
                      <a:pt x="15777" y="5"/>
                      <a:pt x="15777" y="4"/>
                      <a:pt x="15779" y="4"/>
                    </a:cubicBezTo>
                    <a:close/>
                    <a:moveTo>
                      <a:pt x="15787" y="4"/>
                    </a:moveTo>
                    <a:lnTo>
                      <a:pt x="15787" y="4"/>
                    </a:lnTo>
                    <a:cubicBezTo>
                      <a:pt x="15788" y="4"/>
                      <a:pt x="15789" y="5"/>
                      <a:pt x="15789" y="6"/>
                    </a:cubicBezTo>
                    <a:cubicBezTo>
                      <a:pt x="15789" y="7"/>
                      <a:pt x="15788" y="8"/>
                      <a:pt x="15787" y="8"/>
                    </a:cubicBezTo>
                    <a:lnTo>
                      <a:pt x="15787" y="8"/>
                    </a:lnTo>
                    <a:cubicBezTo>
                      <a:pt x="15785" y="8"/>
                      <a:pt x="15785" y="7"/>
                      <a:pt x="15785" y="6"/>
                    </a:cubicBezTo>
                    <a:cubicBezTo>
                      <a:pt x="15785" y="5"/>
                      <a:pt x="15785" y="4"/>
                      <a:pt x="15787" y="4"/>
                    </a:cubicBezTo>
                    <a:close/>
                    <a:moveTo>
                      <a:pt x="15795" y="4"/>
                    </a:moveTo>
                    <a:lnTo>
                      <a:pt x="15795" y="4"/>
                    </a:lnTo>
                    <a:cubicBezTo>
                      <a:pt x="15796" y="4"/>
                      <a:pt x="15797" y="5"/>
                      <a:pt x="15797" y="6"/>
                    </a:cubicBezTo>
                    <a:cubicBezTo>
                      <a:pt x="15797" y="7"/>
                      <a:pt x="15796" y="8"/>
                      <a:pt x="15795" y="8"/>
                    </a:cubicBezTo>
                    <a:lnTo>
                      <a:pt x="15795" y="8"/>
                    </a:lnTo>
                    <a:cubicBezTo>
                      <a:pt x="15793" y="8"/>
                      <a:pt x="15793" y="7"/>
                      <a:pt x="15793" y="6"/>
                    </a:cubicBezTo>
                    <a:cubicBezTo>
                      <a:pt x="15793" y="5"/>
                      <a:pt x="15793" y="4"/>
                      <a:pt x="15795" y="4"/>
                    </a:cubicBezTo>
                    <a:close/>
                    <a:moveTo>
                      <a:pt x="15803" y="4"/>
                    </a:moveTo>
                    <a:lnTo>
                      <a:pt x="15803" y="4"/>
                    </a:lnTo>
                    <a:cubicBezTo>
                      <a:pt x="15804" y="4"/>
                      <a:pt x="15805" y="5"/>
                      <a:pt x="15805" y="6"/>
                    </a:cubicBezTo>
                    <a:cubicBezTo>
                      <a:pt x="15805" y="7"/>
                      <a:pt x="15804" y="8"/>
                      <a:pt x="15803" y="8"/>
                    </a:cubicBezTo>
                    <a:lnTo>
                      <a:pt x="15803" y="8"/>
                    </a:lnTo>
                    <a:cubicBezTo>
                      <a:pt x="15801" y="8"/>
                      <a:pt x="15801" y="7"/>
                      <a:pt x="15801" y="6"/>
                    </a:cubicBezTo>
                    <a:cubicBezTo>
                      <a:pt x="15801" y="5"/>
                      <a:pt x="15801" y="4"/>
                      <a:pt x="15803" y="4"/>
                    </a:cubicBezTo>
                    <a:close/>
                    <a:moveTo>
                      <a:pt x="15811" y="4"/>
                    </a:moveTo>
                    <a:lnTo>
                      <a:pt x="15811" y="4"/>
                    </a:lnTo>
                    <a:cubicBezTo>
                      <a:pt x="15812" y="4"/>
                      <a:pt x="15813" y="5"/>
                      <a:pt x="15813" y="6"/>
                    </a:cubicBezTo>
                    <a:cubicBezTo>
                      <a:pt x="15813" y="7"/>
                      <a:pt x="15812" y="8"/>
                      <a:pt x="15811" y="8"/>
                    </a:cubicBezTo>
                    <a:lnTo>
                      <a:pt x="15811" y="8"/>
                    </a:lnTo>
                    <a:cubicBezTo>
                      <a:pt x="15809" y="8"/>
                      <a:pt x="15809" y="7"/>
                      <a:pt x="15809" y="6"/>
                    </a:cubicBezTo>
                    <a:cubicBezTo>
                      <a:pt x="15809" y="5"/>
                      <a:pt x="15809" y="4"/>
                      <a:pt x="15811" y="4"/>
                    </a:cubicBezTo>
                    <a:close/>
                    <a:moveTo>
                      <a:pt x="15819" y="4"/>
                    </a:moveTo>
                    <a:lnTo>
                      <a:pt x="15819" y="4"/>
                    </a:lnTo>
                    <a:cubicBezTo>
                      <a:pt x="15820" y="4"/>
                      <a:pt x="15821" y="5"/>
                      <a:pt x="15821" y="6"/>
                    </a:cubicBezTo>
                    <a:cubicBezTo>
                      <a:pt x="15821" y="7"/>
                      <a:pt x="15820" y="8"/>
                      <a:pt x="15819" y="8"/>
                    </a:cubicBezTo>
                    <a:lnTo>
                      <a:pt x="15819" y="8"/>
                    </a:lnTo>
                    <a:cubicBezTo>
                      <a:pt x="15817" y="8"/>
                      <a:pt x="15817" y="7"/>
                      <a:pt x="15817" y="6"/>
                    </a:cubicBezTo>
                    <a:cubicBezTo>
                      <a:pt x="15817" y="5"/>
                      <a:pt x="15817" y="4"/>
                      <a:pt x="15819" y="4"/>
                    </a:cubicBezTo>
                    <a:close/>
                    <a:moveTo>
                      <a:pt x="15827" y="4"/>
                    </a:moveTo>
                    <a:lnTo>
                      <a:pt x="15827" y="4"/>
                    </a:lnTo>
                    <a:cubicBezTo>
                      <a:pt x="15828" y="4"/>
                      <a:pt x="15829" y="5"/>
                      <a:pt x="15829" y="6"/>
                    </a:cubicBezTo>
                    <a:cubicBezTo>
                      <a:pt x="15829" y="7"/>
                      <a:pt x="15828" y="8"/>
                      <a:pt x="15827" y="8"/>
                    </a:cubicBezTo>
                    <a:lnTo>
                      <a:pt x="15827" y="8"/>
                    </a:lnTo>
                    <a:cubicBezTo>
                      <a:pt x="15826" y="8"/>
                      <a:pt x="15825" y="7"/>
                      <a:pt x="15825" y="6"/>
                    </a:cubicBezTo>
                    <a:cubicBezTo>
                      <a:pt x="15825" y="5"/>
                      <a:pt x="15826" y="4"/>
                      <a:pt x="15827" y="4"/>
                    </a:cubicBezTo>
                    <a:close/>
                    <a:moveTo>
                      <a:pt x="15835" y="4"/>
                    </a:moveTo>
                    <a:lnTo>
                      <a:pt x="15835" y="4"/>
                    </a:lnTo>
                    <a:cubicBezTo>
                      <a:pt x="15836" y="4"/>
                      <a:pt x="15837" y="5"/>
                      <a:pt x="15837" y="6"/>
                    </a:cubicBezTo>
                    <a:cubicBezTo>
                      <a:pt x="15837" y="7"/>
                      <a:pt x="15836" y="8"/>
                      <a:pt x="15835" y="8"/>
                    </a:cubicBezTo>
                    <a:lnTo>
                      <a:pt x="15835" y="8"/>
                    </a:lnTo>
                    <a:cubicBezTo>
                      <a:pt x="15834" y="8"/>
                      <a:pt x="15833" y="7"/>
                      <a:pt x="15833" y="6"/>
                    </a:cubicBezTo>
                    <a:cubicBezTo>
                      <a:pt x="15833" y="5"/>
                      <a:pt x="15834" y="4"/>
                      <a:pt x="15835" y="4"/>
                    </a:cubicBezTo>
                    <a:close/>
                    <a:moveTo>
                      <a:pt x="15843" y="4"/>
                    </a:moveTo>
                    <a:lnTo>
                      <a:pt x="15843" y="4"/>
                    </a:lnTo>
                    <a:cubicBezTo>
                      <a:pt x="15844" y="4"/>
                      <a:pt x="15845" y="5"/>
                      <a:pt x="15845" y="6"/>
                    </a:cubicBezTo>
                    <a:cubicBezTo>
                      <a:pt x="15845" y="7"/>
                      <a:pt x="15844" y="8"/>
                      <a:pt x="15843" y="8"/>
                    </a:cubicBezTo>
                    <a:lnTo>
                      <a:pt x="15843" y="8"/>
                    </a:lnTo>
                    <a:cubicBezTo>
                      <a:pt x="15842" y="8"/>
                      <a:pt x="15841" y="7"/>
                      <a:pt x="15841" y="6"/>
                    </a:cubicBezTo>
                    <a:cubicBezTo>
                      <a:pt x="15841" y="5"/>
                      <a:pt x="15842" y="4"/>
                      <a:pt x="15843" y="4"/>
                    </a:cubicBezTo>
                    <a:close/>
                    <a:moveTo>
                      <a:pt x="15851" y="4"/>
                    </a:moveTo>
                    <a:lnTo>
                      <a:pt x="15851" y="4"/>
                    </a:lnTo>
                    <a:cubicBezTo>
                      <a:pt x="15852" y="4"/>
                      <a:pt x="15853" y="5"/>
                      <a:pt x="15853" y="6"/>
                    </a:cubicBezTo>
                    <a:cubicBezTo>
                      <a:pt x="15853" y="7"/>
                      <a:pt x="15852" y="8"/>
                      <a:pt x="15851" y="8"/>
                    </a:cubicBezTo>
                    <a:lnTo>
                      <a:pt x="15851" y="8"/>
                    </a:lnTo>
                    <a:cubicBezTo>
                      <a:pt x="15850" y="8"/>
                      <a:pt x="15849" y="7"/>
                      <a:pt x="15849" y="6"/>
                    </a:cubicBezTo>
                    <a:cubicBezTo>
                      <a:pt x="15849" y="5"/>
                      <a:pt x="15850" y="4"/>
                      <a:pt x="15851" y="4"/>
                    </a:cubicBezTo>
                    <a:close/>
                    <a:moveTo>
                      <a:pt x="15859" y="4"/>
                    </a:moveTo>
                    <a:lnTo>
                      <a:pt x="15859" y="4"/>
                    </a:lnTo>
                    <a:cubicBezTo>
                      <a:pt x="15860" y="4"/>
                      <a:pt x="15861" y="5"/>
                      <a:pt x="15861" y="6"/>
                    </a:cubicBezTo>
                    <a:cubicBezTo>
                      <a:pt x="15861" y="7"/>
                      <a:pt x="15860" y="8"/>
                      <a:pt x="15859" y="8"/>
                    </a:cubicBezTo>
                    <a:lnTo>
                      <a:pt x="15859" y="8"/>
                    </a:lnTo>
                    <a:cubicBezTo>
                      <a:pt x="15858" y="8"/>
                      <a:pt x="15857" y="7"/>
                      <a:pt x="15857" y="6"/>
                    </a:cubicBezTo>
                    <a:cubicBezTo>
                      <a:pt x="15857" y="5"/>
                      <a:pt x="15858" y="4"/>
                      <a:pt x="15859" y="4"/>
                    </a:cubicBezTo>
                    <a:close/>
                    <a:moveTo>
                      <a:pt x="15867" y="4"/>
                    </a:moveTo>
                    <a:lnTo>
                      <a:pt x="15867" y="4"/>
                    </a:lnTo>
                    <a:cubicBezTo>
                      <a:pt x="15868" y="4"/>
                      <a:pt x="15869" y="5"/>
                      <a:pt x="15869" y="6"/>
                    </a:cubicBezTo>
                    <a:cubicBezTo>
                      <a:pt x="15869" y="7"/>
                      <a:pt x="15868" y="8"/>
                      <a:pt x="15867" y="8"/>
                    </a:cubicBezTo>
                    <a:lnTo>
                      <a:pt x="15867" y="8"/>
                    </a:lnTo>
                    <a:cubicBezTo>
                      <a:pt x="15866" y="8"/>
                      <a:pt x="15865" y="7"/>
                      <a:pt x="15865" y="6"/>
                    </a:cubicBezTo>
                    <a:cubicBezTo>
                      <a:pt x="15865" y="5"/>
                      <a:pt x="15866" y="4"/>
                      <a:pt x="15867" y="4"/>
                    </a:cubicBezTo>
                    <a:close/>
                    <a:moveTo>
                      <a:pt x="15875" y="4"/>
                    </a:moveTo>
                    <a:lnTo>
                      <a:pt x="15875" y="4"/>
                    </a:lnTo>
                    <a:cubicBezTo>
                      <a:pt x="15876" y="4"/>
                      <a:pt x="15877" y="5"/>
                      <a:pt x="15877" y="6"/>
                    </a:cubicBezTo>
                    <a:cubicBezTo>
                      <a:pt x="15877" y="7"/>
                      <a:pt x="15876" y="8"/>
                      <a:pt x="15875" y="8"/>
                    </a:cubicBezTo>
                    <a:lnTo>
                      <a:pt x="15875" y="8"/>
                    </a:lnTo>
                    <a:cubicBezTo>
                      <a:pt x="15874" y="8"/>
                      <a:pt x="15873" y="7"/>
                      <a:pt x="15873" y="6"/>
                    </a:cubicBezTo>
                    <a:cubicBezTo>
                      <a:pt x="15873" y="5"/>
                      <a:pt x="15874" y="4"/>
                      <a:pt x="15875" y="4"/>
                    </a:cubicBezTo>
                    <a:close/>
                    <a:moveTo>
                      <a:pt x="15883" y="4"/>
                    </a:moveTo>
                    <a:lnTo>
                      <a:pt x="15883" y="4"/>
                    </a:lnTo>
                    <a:cubicBezTo>
                      <a:pt x="15884" y="4"/>
                      <a:pt x="15885" y="5"/>
                      <a:pt x="15885" y="6"/>
                    </a:cubicBezTo>
                    <a:cubicBezTo>
                      <a:pt x="15885" y="7"/>
                      <a:pt x="15884" y="8"/>
                      <a:pt x="15883" y="8"/>
                    </a:cubicBezTo>
                    <a:lnTo>
                      <a:pt x="15883" y="8"/>
                    </a:lnTo>
                    <a:cubicBezTo>
                      <a:pt x="15882" y="8"/>
                      <a:pt x="15881" y="7"/>
                      <a:pt x="15881" y="6"/>
                    </a:cubicBezTo>
                    <a:cubicBezTo>
                      <a:pt x="15881" y="5"/>
                      <a:pt x="15882" y="4"/>
                      <a:pt x="15883" y="4"/>
                    </a:cubicBezTo>
                    <a:close/>
                    <a:moveTo>
                      <a:pt x="15891" y="4"/>
                    </a:moveTo>
                    <a:lnTo>
                      <a:pt x="15891" y="4"/>
                    </a:lnTo>
                    <a:cubicBezTo>
                      <a:pt x="15892" y="4"/>
                      <a:pt x="15893" y="5"/>
                      <a:pt x="15893" y="6"/>
                    </a:cubicBezTo>
                    <a:cubicBezTo>
                      <a:pt x="15893" y="7"/>
                      <a:pt x="15892" y="8"/>
                      <a:pt x="15891" y="8"/>
                    </a:cubicBezTo>
                    <a:lnTo>
                      <a:pt x="15891" y="8"/>
                    </a:lnTo>
                    <a:cubicBezTo>
                      <a:pt x="15890" y="8"/>
                      <a:pt x="15889" y="7"/>
                      <a:pt x="15889" y="6"/>
                    </a:cubicBezTo>
                    <a:cubicBezTo>
                      <a:pt x="15889" y="5"/>
                      <a:pt x="15890" y="4"/>
                      <a:pt x="15891" y="4"/>
                    </a:cubicBezTo>
                    <a:close/>
                    <a:moveTo>
                      <a:pt x="15899" y="4"/>
                    </a:moveTo>
                    <a:lnTo>
                      <a:pt x="15899" y="4"/>
                    </a:lnTo>
                    <a:cubicBezTo>
                      <a:pt x="15900" y="4"/>
                      <a:pt x="15901" y="5"/>
                      <a:pt x="15901" y="6"/>
                    </a:cubicBezTo>
                    <a:cubicBezTo>
                      <a:pt x="15901" y="7"/>
                      <a:pt x="15900" y="8"/>
                      <a:pt x="15899" y="8"/>
                    </a:cubicBezTo>
                    <a:lnTo>
                      <a:pt x="15899" y="8"/>
                    </a:lnTo>
                    <a:cubicBezTo>
                      <a:pt x="15898" y="8"/>
                      <a:pt x="15897" y="7"/>
                      <a:pt x="15897" y="6"/>
                    </a:cubicBezTo>
                    <a:cubicBezTo>
                      <a:pt x="15897" y="5"/>
                      <a:pt x="15898" y="4"/>
                      <a:pt x="15899" y="4"/>
                    </a:cubicBezTo>
                    <a:close/>
                    <a:moveTo>
                      <a:pt x="15907" y="4"/>
                    </a:moveTo>
                    <a:lnTo>
                      <a:pt x="15907" y="4"/>
                    </a:lnTo>
                    <a:cubicBezTo>
                      <a:pt x="15908" y="4"/>
                      <a:pt x="15909" y="5"/>
                      <a:pt x="15909" y="6"/>
                    </a:cubicBezTo>
                    <a:cubicBezTo>
                      <a:pt x="15909" y="7"/>
                      <a:pt x="15908" y="8"/>
                      <a:pt x="15907" y="8"/>
                    </a:cubicBezTo>
                    <a:lnTo>
                      <a:pt x="15907" y="8"/>
                    </a:lnTo>
                    <a:cubicBezTo>
                      <a:pt x="15906" y="8"/>
                      <a:pt x="15905" y="7"/>
                      <a:pt x="15905" y="6"/>
                    </a:cubicBezTo>
                    <a:cubicBezTo>
                      <a:pt x="15905" y="5"/>
                      <a:pt x="15906" y="4"/>
                      <a:pt x="15907" y="4"/>
                    </a:cubicBezTo>
                    <a:close/>
                    <a:moveTo>
                      <a:pt x="15915" y="4"/>
                    </a:moveTo>
                    <a:lnTo>
                      <a:pt x="15915" y="4"/>
                    </a:lnTo>
                    <a:cubicBezTo>
                      <a:pt x="15916" y="4"/>
                      <a:pt x="15917" y="5"/>
                      <a:pt x="15917" y="6"/>
                    </a:cubicBezTo>
                    <a:cubicBezTo>
                      <a:pt x="15917" y="7"/>
                      <a:pt x="15916" y="8"/>
                      <a:pt x="15915" y="8"/>
                    </a:cubicBezTo>
                    <a:lnTo>
                      <a:pt x="15915" y="8"/>
                    </a:lnTo>
                    <a:cubicBezTo>
                      <a:pt x="15914" y="8"/>
                      <a:pt x="15913" y="7"/>
                      <a:pt x="15913" y="6"/>
                    </a:cubicBezTo>
                    <a:cubicBezTo>
                      <a:pt x="15913" y="5"/>
                      <a:pt x="15914" y="4"/>
                      <a:pt x="15915" y="4"/>
                    </a:cubicBezTo>
                    <a:close/>
                    <a:moveTo>
                      <a:pt x="15923" y="4"/>
                    </a:moveTo>
                    <a:lnTo>
                      <a:pt x="15923" y="4"/>
                    </a:lnTo>
                    <a:cubicBezTo>
                      <a:pt x="15924" y="4"/>
                      <a:pt x="15925" y="5"/>
                      <a:pt x="15925" y="6"/>
                    </a:cubicBezTo>
                    <a:cubicBezTo>
                      <a:pt x="15925" y="7"/>
                      <a:pt x="15924" y="8"/>
                      <a:pt x="15923" y="8"/>
                    </a:cubicBezTo>
                    <a:lnTo>
                      <a:pt x="15923" y="8"/>
                    </a:lnTo>
                    <a:cubicBezTo>
                      <a:pt x="15922" y="8"/>
                      <a:pt x="15921" y="7"/>
                      <a:pt x="15921" y="6"/>
                    </a:cubicBezTo>
                    <a:cubicBezTo>
                      <a:pt x="15921" y="5"/>
                      <a:pt x="15922" y="4"/>
                      <a:pt x="15923" y="4"/>
                    </a:cubicBezTo>
                    <a:close/>
                    <a:moveTo>
                      <a:pt x="15931" y="4"/>
                    </a:moveTo>
                    <a:lnTo>
                      <a:pt x="15931" y="4"/>
                    </a:lnTo>
                    <a:cubicBezTo>
                      <a:pt x="15932" y="4"/>
                      <a:pt x="15933" y="5"/>
                      <a:pt x="15933" y="6"/>
                    </a:cubicBezTo>
                    <a:cubicBezTo>
                      <a:pt x="15933" y="7"/>
                      <a:pt x="15932" y="8"/>
                      <a:pt x="15931" y="8"/>
                    </a:cubicBezTo>
                    <a:lnTo>
                      <a:pt x="15931" y="8"/>
                    </a:lnTo>
                    <a:cubicBezTo>
                      <a:pt x="15930" y="8"/>
                      <a:pt x="15929" y="7"/>
                      <a:pt x="15929" y="6"/>
                    </a:cubicBezTo>
                    <a:cubicBezTo>
                      <a:pt x="15929" y="5"/>
                      <a:pt x="15930" y="4"/>
                      <a:pt x="15931" y="4"/>
                    </a:cubicBezTo>
                    <a:close/>
                    <a:moveTo>
                      <a:pt x="15939" y="4"/>
                    </a:moveTo>
                    <a:lnTo>
                      <a:pt x="15939" y="4"/>
                    </a:lnTo>
                    <a:cubicBezTo>
                      <a:pt x="15940" y="4"/>
                      <a:pt x="15941" y="5"/>
                      <a:pt x="15941" y="6"/>
                    </a:cubicBezTo>
                    <a:cubicBezTo>
                      <a:pt x="15941" y="7"/>
                      <a:pt x="15940" y="8"/>
                      <a:pt x="15939" y="8"/>
                    </a:cubicBezTo>
                    <a:lnTo>
                      <a:pt x="15939" y="8"/>
                    </a:lnTo>
                    <a:cubicBezTo>
                      <a:pt x="15938" y="8"/>
                      <a:pt x="15937" y="7"/>
                      <a:pt x="15937" y="6"/>
                    </a:cubicBezTo>
                    <a:cubicBezTo>
                      <a:pt x="15937" y="5"/>
                      <a:pt x="15938" y="4"/>
                      <a:pt x="15939" y="4"/>
                    </a:cubicBezTo>
                    <a:close/>
                    <a:moveTo>
                      <a:pt x="15947" y="4"/>
                    </a:moveTo>
                    <a:lnTo>
                      <a:pt x="15947" y="4"/>
                    </a:lnTo>
                    <a:cubicBezTo>
                      <a:pt x="15948" y="4"/>
                      <a:pt x="15949" y="5"/>
                      <a:pt x="15949" y="6"/>
                    </a:cubicBezTo>
                    <a:cubicBezTo>
                      <a:pt x="15949" y="7"/>
                      <a:pt x="15948" y="8"/>
                      <a:pt x="15947" y="8"/>
                    </a:cubicBezTo>
                    <a:lnTo>
                      <a:pt x="15947" y="8"/>
                    </a:lnTo>
                    <a:cubicBezTo>
                      <a:pt x="15946" y="8"/>
                      <a:pt x="15945" y="7"/>
                      <a:pt x="15945" y="6"/>
                    </a:cubicBezTo>
                    <a:cubicBezTo>
                      <a:pt x="15945" y="5"/>
                      <a:pt x="15946" y="4"/>
                      <a:pt x="15947" y="4"/>
                    </a:cubicBezTo>
                    <a:close/>
                    <a:moveTo>
                      <a:pt x="15955" y="4"/>
                    </a:moveTo>
                    <a:lnTo>
                      <a:pt x="15955" y="4"/>
                    </a:lnTo>
                    <a:cubicBezTo>
                      <a:pt x="15956" y="4"/>
                      <a:pt x="15957" y="5"/>
                      <a:pt x="15957" y="6"/>
                    </a:cubicBezTo>
                    <a:cubicBezTo>
                      <a:pt x="15957" y="7"/>
                      <a:pt x="15956" y="8"/>
                      <a:pt x="15955" y="8"/>
                    </a:cubicBezTo>
                    <a:lnTo>
                      <a:pt x="15955" y="8"/>
                    </a:lnTo>
                    <a:cubicBezTo>
                      <a:pt x="15954" y="8"/>
                      <a:pt x="15953" y="7"/>
                      <a:pt x="15953" y="6"/>
                    </a:cubicBezTo>
                    <a:cubicBezTo>
                      <a:pt x="15953" y="5"/>
                      <a:pt x="15954" y="4"/>
                      <a:pt x="15955" y="4"/>
                    </a:cubicBezTo>
                    <a:close/>
                    <a:moveTo>
                      <a:pt x="15963" y="4"/>
                    </a:moveTo>
                    <a:lnTo>
                      <a:pt x="15963" y="4"/>
                    </a:lnTo>
                    <a:cubicBezTo>
                      <a:pt x="15964" y="4"/>
                      <a:pt x="15965" y="5"/>
                      <a:pt x="15965" y="6"/>
                    </a:cubicBezTo>
                    <a:cubicBezTo>
                      <a:pt x="15965" y="7"/>
                      <a:pt x="15964" y="8"/>
                      <a:pt x="15963" y="8"/>
                    </a:cubicBezTo>
                    <a:lnTo>
                      <a:pt x="15963" y="8"/>
                    </a:lnTo>
                    <a:cubicBezTo>
                      <a:pt x="15962" y="8"/>
                      <a:pt x="15961" y="7"/>
                      <a:pt x="15961" y="6"/>
                    </a:cubicBezTo>
                    <a:cubicBezTo>
                      <a:pt x="15961" y="5"/>
                      <a:pt x="15962" y="4"/>
                      <a:pt x="15963" y="4"/>
                    </a:cubicBezTo>
                    <a:close/>
                    <a:moveTo>
                      <a:pt x="15971" y="4"/>
                    </a:moveTo>
                    <a:lnTo>
                      <a:pt x="15971" y="4"/>
                    </a:lnTo>
                    <a:cubicBezTo>
                      <a:pt x="15972" y="4"/>
                      <a:pt x="15973" y="5"/>
                      <a:pt x="15973" y="6"/>
                    </a:cubicBezTo>
                    <a:cubicBezTo>
                      <a:pt x="15973" y="7"/>
                      <a:pt x="15972" y="8"/>
                      <a:pt x="15971" y="8"/>
                    </a:cubicBezTo>
                    <a:lnTo>
                      <a:pt x="15971" y="8"/>
                    </a:lnTo>
                    <a:cubicBezTo>
                      <a:pt x="15970" y="8"/>
                      <a:pt x="15969" y="7"/>
                      <a:pt x="15969" y="6"/>
                    </a:cubicBezTo>
                    <a:cubicBezTo>
                      <a:pt x="15969" y="5"/>
                      <a:pt x="15970" y="4"/>
                      <a:pt x="15971" y="4"/>
                    </a:cubicBezTo>
                    <a:close/>
                    <a:moveTo>
                      <a:pt x="15979" y="4"/>
                    </a:moveTo>
                    <a:lnTo>
                      <a:pt x="15979" y="4"/>
                    </a:lnTo>
                    <a:cubicBezTo>
                      <a:pt x="15980" y="4"/>
                      <a:pt x="15981" y="5"/>
                      <a:pt x="15981" y="6"/>
                    </a:cubicBezTo>
                    <a:cubicBezTo>
                      <a:pt x="15981" y="7"/>
                      <a:pt x="15980" y="8"/>
                      <a:pt x="15979" y="8"/>
                    </a:cubicBezTo>
                    <a:lnTo>
                      <a:pt x="15979" y="8"/>
                    </a:lnTo>
                    <a:cubicBezTo>
                      <a:pt x="15978" y="8"/>
                      <a:pt x="15977" y="7"/>
                      <a:pt x="15977" y="6"/>
                    </a:cubicBezTo>
                    <a:cubicBezTo>
                      <a:pt x="15977" y="5"/>
                      <a:pt x="15978" y="4"/>
                      <a:pt x="15979" y="4"/>
                    </a:cubicBezTo>
                    <a:close/>
                    <a:moveTo>
                      <a:pt x="15987" y="4"/>
                    </a:moveTo>
                    <a:lnTo>
                      <a:pt x="15987" y="4"/>
                    </a:lnTo>
                    <a:cubicBezTo>
                      <a:pt x="15988" y="4"/>
                      <a:pt x="15989" y="5"/>
                      <a:pt x="15989" y="6"/>
                    </a:cubicBezTo>
                    <a:cubicBezTo>
                      <a:pt x="15989" y="7"/>
                      <a:pt x="15988" y="8"/>
                      <a:pt x="15987" y="8"/>
                    </a:cubicBezTo>
                    <a:lnTo>
                      <a:pt x="15987" y="8"/>
                    </a:lnTo>
                    <a:cubicBezTo>
                      <a:pt x="15986" y="8"/>
                      <a:pt x="15985" y="7"/>
                      <a:pt x="15985" y="6"/>
                    </a:cubicBezTo>
                    <a:cubicBezTo>
                      <a:pt x="15985" y="5"/>
                      <a:pt x="15986" y="4"/>
                      <a:pt x="15987" y="4"/>
                    </a:cubicBezTo>
                    <a:close/>
                    <a:moveTo>
                      <a:pt x="15995" y="4"/>
                    </a:moveTo>
                    <a:lnTo>
                      <a:pt x="15995" y="4"/>
                    </a:lnTo>
                    <a:cubicBezTo>
                      <a:pt x="15996" y="4"/>
                      <a:pt x="15997" y="5"/>
                      <a:pt x="15997" y="6"/>
                    </a:cubicBezTo>
                    <a:cubicBezTo>
                      <a:pt x="15997" y="7"/>
                      <a:pt x="15996" y="8"/>
                      <a:pt x="15995" y="8"/>
                    </a:cubicBezTo>
                    <a:lnTo>
                      <a:pt x="15995" y="8"/>
                    </a:lnTo>
                    <a:cubicBezTo>
                      <a:pt x="15994" y="8"/>
                      <a:pt x="15993" y="7"/>
                      <a:pt x="15993" y="6"/>
                    </a:cubicBezTo>
                    <a:cubicBezTo>
                      <a:pt x="15993" y="5"/>
                      <a:pt x="15994" y="4"/>
                      <a:pt x="15995" y="4"/>
                    </a:cubicBezTo>
                    <a:close/>
                    <a:moveTo>
                      <a:pt x="16003" y="4"/>
                    </a:moveTo>
                    <a:lnTo>
                      <a:pt x="16003" y="4"/>
                    </a:lnTo>
                    <a:cubicBezTo>
                      <a:pt x="16004" y="4"/>
                      <a:pt x="16005" y="5"/>
                      <a:pt x="16005" y="6"/>
                    </a:cubicBezTo>
                    <a:cubicBezTo>
                      <a:pt x="16005" y="7"/>
                      <a:pt x="16004" y="8"/>
                      <a:pt x="16003" y="8"/>
                    </a:cubicBezTo>
                    <a:lnTo>
                      <a:pt x="16003" y="8"/>
                    </a:lnTo>
                    <a:cubicBezTo>
                      <a:pt x="16002" y="8"/>
                      <a:pt x="16001" y="7"/>
                      <a:pt x="16001" y="6"/>
                    </a:cubicBezTo>
                    <a:cubicBezTo>
                      <a:pt x="16001" y="5"/>
                      <a:pt x="16002" y="4"/>
                      <a:pt x="16003" y="4"/>
                    </a:cubicBezTo>
                    <a:close/>
                    <a:moveTo>
                      <a:pt x="16011" y="4"/>
                    </a:moveTo>
                    <a:lnTo>
                      <a:pt x="16011" y="4"/>
                    </a:lnTo>
                    <a:cubicBezTo>
                      <a:pt x="16012" y="4"/>
                      <a:pt x="16013" y="5"/>
                      <a:pt x="16013" y="6"/>
                    </a:cubicBezTo>
                    <a:cubicBezTo>
                      <a:pt x="16013" y="7"/>
                      <a:pt x="16012" y="8"/>
                      <a:pt x="16011" y="8"/>
                    </a:cubicBezTo>
                    <a:lnTo>
                      <a:pt x="16011" y="8"/>
                    </a:lnTo>
                    <a:cubicBezTo>
                      <a:pt x="16010" y="8"/>
                      <a:pt x="16009" y="7"/>
                      <a:pt x="16009" y="6"/>
                    </a:cubicBezTo>
                    <a:cubicBezTo>
                      <a:pt x="16009" y="5"/>
                      <a:pt x="16010" y="4"/>
                      <a:pt x="16011" y="4"/>
                    </a:cubicBezTo>
                    <a:close/>
                    <a:moveTo>
                      <a:pt x="16019" y="4"/>
                    </a:moveTo>
                    <a:lnTo>
                      <a:pt x="16019" y="4"/>
                    </a:lnTo>
                    <a:cubicBezTo>
                      <a:pt x="16020" y="4"/>
                      <a:pt x="16021" y="5"/>
                      <a:pt x="16021" y="6"/>
                    </a:cubicBezTo>
                    <a:cubicBezTo>
                      <a:pt x="16021" y="7"/>
                      <a:pt x="16020" y="8"/>
                      <a:pt x="16019" y="8"/>
                    </a:cubicBezTo>
                    <a:lnTo>
                      <a:pt x="16019" y="8"/>
                    </a:lnTo>
                    <a:cubicBezTo>
                      <a:pt x="16018" y="8"/>
                      <a:pt x="16017" y="7"/>
                      <a:pt x="16017" y="6"/>
                    </a:cubicBezTo>
                    <a:cubicBezTo>
                      <a:pt x="16017" y="5"/>
                      <a:pt x="16018" y="4"/>
                      <a:pt x="16019" y="4"/>
                    </a:cubicBezTo>
                    <a:close/>
                    <a:moveTo>
                      <a:pt x="16027" y="4"/>
                    </a:moveTo>
                    <a:lnTo>
                      <a:pt x="16027" y="4"/>
                    </a:lnTo>
                    <a:cubicBezTo>
                      <a:pt x="16028" y="4"/>
                      <a:pt x="16029" y="5"/>
                      <a:pt x="16029" y="6"/>
                    </a:cubicBezTo>
                    <a:cubicBezTo>
                      <a:pt x="16029" y="7"/>
                      <a:pt x="16028" y="8"/>
                      <a:pt x="16027" y="8"/>
                    </a:cubicBezTo>
                    <a:lnTo>
                      <a:pt x="16027" y="8"/>
                    </a:lnTo>
                    <a:cubicBezTo>
                      <a:pt x="16026" y="8"/>
                      <a:pt x="16025" y="7"/>
                      <a:pt x="16025" y="6"/>
                    </a:cubicBezTo>
                    <a:cubicBezTo>
                      <a:pt x="16025" y="5"/>
                      <a:pt x="16026" y="4"/>
                      <a:pt x="16027" y="4"/>
                    </a:cubicBezTo>
                    <a:close/>
                    <a:moveTo>
                      <a:pt x="16035" y="4"/>
                    </a:moveTo>
                    <a:lnTo>
                      <a:pt x="16035" y="4"/>
                    </a:lnTo>
                    <a:cubicBezTo>
                      <a:pt x="16036" y="4"/>
                      <a:pt x="16037" y="5"/>
                      <a:pt x="16037" y="6"/>
                    </a:cubicBezTo>
                    <a:cubicBezTo>
                      <a:pt x="16037" y="7"/>
                      <a:pt x="16036" y="8"/>
                      <a:pt x="16035" y="8"/>
                    </a:cubicBezTo>
                    <a:lnTo>
                      <a:pt x="16035" y="8"/>
                    </a:lnTo>
                    <a:cubicBezTo>
                      <a:pt x="16034" y="8"/>
                      <a:pt x="16033" y="7"/>
                      <a:pt x="16033" y="6"/>
                    </a:cubicBezTo>
                    <a:cubicBezTo>
                      <a:pt x="16033" y="5"/>
                      <a:pt x="16034" y="4"/>
                      <a:pt x="16035" y="4"/>
                    </a:cubicBezTo>
                    <a:close/>
                    <a:moveTo>
                      <a:pt x="16043" y="4"/>
                    </a:moveTo>
                    <a:lnTo>
                      <a:pt x="16043" y="4"/>
                    </a:lnTo>
                    <a:cubicBezTo>
                      <a:pt x="16044" y="4"/>
                      <a:pt x="16045" y="5"/>
                      <a:pt x="16045" y="6"/>
                    </a:cubicBezTo>
                    <a:cubicBezTo>
                      <a:pt x="16045" y="7"/>
                      <a:pt x="16044" y="8"/>
                      <a:pt x="16043" y="8"/>
                    </a:cubicBezTo>
                    <a:lnTo>
                      <a:pt x="16043" y="8"/>
                    </a:lnTo>
                    <a:cubicBezTo>
                      <a:pt x="16042" y="8"/>
                      <a:pt x="16041" y="7"/>
                      <a:pt x="16041" y="6"/>
                    </a:cubicBezTo>
                    <a:cubicBezTo>
                      <a:pt x="16041" y="5"/>
                      <a:pt x="16042" y="4"/>
                      <a:pt x="16043" y="4"/>
                    </a:cubicBezTo>
                    <a:close/>
                    <a:moveTo>
                      <a:pt x="16051" y="4"/>
                    </a:moveTo>
                    <a:lnTo>
                      <a:pt x="16051" y="4"/>
                    </a:lnTo>
                    <a:cubicBezTo>
                      <a:pt x="16052" y="4"/>
                      <a:pt x="16053" y="5"/>
                      <a:pt x="16053" y="6"/>
                    </a:cubicBezTo>
                    <a:cubicBezTo>
                      <a:pt x="16053" y="7"/>
                      <a:pt x="16052" y="8"/>
                      <a:pt x="16051" y="8"/>
                    </a:cubicBezTo>
                    <a:lnTo>
                      <a:pt x="16051" y="8"/>
                    </a:lnTo>
                    <a:cubicBezTo>
                      <a:pt x="16050" y="8"/>
                      <a:pt x="16049" y="7"/>
                      <a:pt x="16049" y="6"/>
                    </a:cubicBezTo>
                    <a:cubicBezTo>
                      <a:pt x="16049" y="5"/>
                      <a:pt x="16050" y="4"/>
                      <a:pt x="16051" y="4"/>
                    </a:cubicBezTo>
                    <a:close/>
                    <a:moveTo>
                      <a:pt x="16059" y="4"/>
                    </a:moveTo>
                    <a:lnTo>
                      <a:pt x="16059" y="4"/>
                    </a:lnTo>
                    <a:cubicBezTo>
                      <a:pt x="16060" y="4"/>
                      <a:pt x="16061" y="5"/>
                      <a:pt x="16061" y="6"/>
                    </a:cubicBezTo>
                    <a:cubicBezTo>
                      <a:pt x="16061" y="7"/>
                      <a:pt x="16060" y="8"/>
                      <a:pt x="16059" y="8"/>
                    </a:cubicBezTo>
                    <a:lnTo>
                      <a:pt x="16059" y="8"/>
                    </a:lnTo>
                    <a:cubicBezTo>
                      <a:pt x="16058" y="8"/>
                      <a:pt x="16057" y="7"/>
                      <a:pt x="16057" y="6"/>
                    </a:cubicBezTo>
                    <a:cubicBezTo>
                      <a:pt x="16057" y="5"/>
                      <a:pt x="16058" y="4"/>
                      <a:pt x="16059" y="4"/>
                    </a:cubicBezTo>
                    <a:close/>
                    <a:moveTo>
                      <a:pt x="16067" y="4"/>
                    </a:moveTo>
                    <a:lnTo>
                      <a:pt x="16067" y="4"/>
                    </a:lnTo>
                    <a:cubicBezTo>
                      <a:pt x="16068" y="4"/>
                      <a:pt x="16069" y="5"/>
                      <a:pt x="16069" y="6"/>
                    </a:cubicBezTo>
                    <a:cubicBezTo>
                      <a:pt x="16069" y="7"/>
                      <a:pt x="16068" y="8"/>
                      <a:pt x="16067" y="8"/>
                    </a:cubicBezTo>
                    <a:lnTo>
                      <a:pt x="16067" y="8"/>
                    </a:lnTo>
                    <a:cubicBezTo>
                      <a:pt x="16066" y="8"/>
                      <a:pt x="16065" y="7"/>
                      <a:pt x="16065" y="6"/>
                    </a:cubicBezTo>
                    <a:cubicBezTo>
                      <a:pt x="16065" y="5"/>
                      <a:pt x="16066" y="4"/>
                      <a:pt x="16067" y="4"/>
                    </a:cubicBezTo>
                    <a:close/>
                    <a:moveTo>
                      <a:pt x="16075" y="4"/>
                    </a:moveTo>
                    <a:lnTo>
                      <a:pt x="16075" y="4"/>
                    </a:lnTo>
                    <a:cubicBezTo>
                      <a:pt x="16076" y="4"/>
                      <a:pt x="16077" y="5"/>
                      <a:pt x="16077" y="6"/>
                    </a:cubicBezTo>
                    <a:cubicBezTo>
                      <a:pt x="16077" y="7"/>
                      <a:pt x="16076" y="8"/>
                      <a:pt x="16075" y="8"/>
                    </a:cubicBezTo>
                    <a:lnTo>
                      <a:pt x="16075" y="8"/>
                    </a:lnTo>
                    <a:cubicBezTo>
                      <a:pt x="16074" y="8"/>
                      <a:pt x="16073" y="7"/>
                      <a:pt x="16073" y="6"/>
                    </a:cubicBezTo>
                    <a:cubicBezTo>
                      <a:pt x="16073" y="5"/>
                      <a:pt x="16074" y="4"/>
                      <a:pt x="16075" y="4"/>
                    </a:cubicBezTo>
                    <a:close/>
                    <a:moveTo>
                      <a:pt x="16083" y="4"/>
                    </a:moveTo>
                    <a:lnTo>
                      <a:pt x="16083" y="4"/>
                    </a:lnTo>
                    <a:cubicBezTo>
                      <a:pt x="16084" y="4"/>
                      <a:pt x="16085" y="5"/>
                      <a:pt x="16085" y="6"/>
                    </a:cubicBezTo>
                    <a:cubicBezTo>
                      <a:pt x="16085" y="7"/>
                      <a:pt x="16084" y="8"/>
                      <a:pt x="16083" y="8"/>
                    </a:cubicBezTo>
                    <a:lnTo>
                      <a:pt x="16083" y="8"/>
                    </a:lnTo>
                    <a:cubicBezTo>
                      <a:pt x="16082" y="8"/>
                      <a:pt x="16081" y="7"/>
                      <a:pt x="16081" y="6"/>
                    </a:cubicBezTo>
                    <a:cubicBezTo>
                      <a:pt x="16081" y="5"/>
                      <a:pt x="16082" y="4"/>
                      <a:pt x="16083" y="4"/>
                    </a:cubicBezTo>
                    <a:close/>
                    <a:moveTo>
                      <a:pt x="16091" y="4"/>
                    </a:moveTo>
                    <a:lnTo>
                      <a:pt x="16091" y="4"/>
                    </a:lnTo>
                    <a:cubicBezTo>
                      <a:pt x="16092" y="4"/>
                      <a:pt x="16093" y="5"/>
                      <a:pt x="16093" y="6"/>
                    </a:cubicBezTo>
                    <a:cubicBezTo>
                      <a:pt x="16093" y="7"/>
                      <a:pt x="16092" y="8"/>
                      <a:pt x="16091" y="8"/>
                    </a:cubicBezTo>
                    <a:lnTo>
                      <a:pt x="16091" y="8"/>
                    </a:lnTo>
                    <a:cubicBezTo>
                      <a:pt x="16090" y="8"/>
                      <a:pt x="16089" y="7"/>
                      <a:pt x="16089" y="6"/>
                    </a:cubicBezTo>
                    <a:cubicBezTo>
                      <a:pt x="16089" y="5"/>
                      <a:pt x="16090" y="4"/>
                      <a:pt x="16091" y="4"/>
                    </a:cubicBezTo>
                    <a:close/>
                    <a:moveTo>
                      <a:pt x="16099" y="4"/>
                    </a:moveTo>
                    <a:lnTo>
                      <a:pt x="16099" y="4"/>
                    </a:lnTo>
                    <a:cubicBezTo>
                      <a:pt x="16100" y="4"/>
                      <a:pt x="16101" y="5"/>
                      <a:pt x="16101" y="6"/>
                    </a:cubicBezTo>
                    <a:cubicBezTo>
                      <a:pt x="16101" y="7"/>
                      <a:pt x="16100" y="8"/>
                      <a:pt x="16099" y="8"/>
                    </a:cubicBezTo>
                    <a:lnTo>
                      <a:pt x="16099" y="8"/>
                    </a:lnTo>
                    <a:cubicBezTo>
                      <a:pt x="16098" y="8"/>
                      <a:pt x="16097" y="7"/>
                      <a:pt x="16097" y="6"/>
                    </a:cubicBezTo>
                    <a:cubicBezTo>
                      <a:pt x="16097" y="5"/>
                      <a:pt x="16098" y="4"/>
                      <a:pt x="16099" y="4"/>
                    </a:cubicBezTo>
                    <a:close/>
                    <a:moveTo>
                      <a:pt x="16107" y="4"/>
                    </a:moveTo>
                    <a:lnTo>
                      <a:pt x="16107" y="4"/>
                    </a:lnTo>
                    <a:cubicBezTo>
                      <a:pt x="16108" y="4"/>
                      <a:pt x="16109" y="5"/>
                      <a:pt x="16109" y="6"/>
                    </a:cubicBezTo>
                    <a:cubicBezTo>
                      <a:pt x="16109" y="7"/>
                      <a:pt x="16108" y="8"/>
                      <a:pt x="16107" y="8"/>
                    </a:cubicBezTo>
                    <a:lnTo>
                      <a:pt x="16107" y="8"/>
                    </a:lnTo>
                    <a:cubicBezTo>
                      <a:pt x="16106" y="8"/>
                      <a:pt x="16105" y="7"/>
                      <a:pt x="16105" y="6"/>
                    </a:cubicBezTo>
                    <a:cubicBezTo>
                      <a:pt x="16105" y="5"/>
                      <a:pt x="16106" y="4"/>
                      <a:pt x="16107" y="4"/>
                    </a:cubicBezTo>
                    <a:close/>
                    <a:moveTo>
                      <a:pt x="16115" y="4"/>
                    </a:moveTo>
                    <a:lnTo>
                      <a:pt x="16115" y="4"/>
                    </a:lnTo>
                    <a:cubicBezTo>
                      <a:pt x="16116" y="4"/>
                      <a:pt x="16117" y="5"/>
                      <a:pt x="16117" y="6"/>
                    </a:cubicBezTo>
                    <a:cubicBezTo>
                      <a:pt x="16117" y="7"/>
                      <a:pt x="16116" y="8"/>
                      <a:pt x="16115" y="8"/>
                    </a:cubicBezTo>
                    <a:lnTo>
                      <a:pt x="16115" y="8"/>
                    </a:lnTo>
                    <a:cubicBezTo>
                      <a:pt x="16114" y="8"/>
                      <a:pt x="16113" y="7"/>
                      <a:pt x="16113" y="6"/>
                    </a:cubicBezTo>
                    <a:cubicBezTo>
                      <a:pt x="16113" y="5"/>
                      <a:pt x="16114" y="4"/>
                      <a:pt x="16115" y="4"/>
                    </a:cubicBezTo>
                    <a:close/>
                    <a:moveTo>
                      <a:pt x="16123" y="4"/>
                    </a:moveTo>
                    <a:lnTo>
                      <a:pt x="16123" y="4"/>
                    </a:lnTo>
                    <a:cubicBezTo>
                      <a:pt x="16124" y="4"/>
                      <a:pt x="16125" y="5"/>
                      <a:pt x="16125" y="6"/>
                    </a:cubicBezTo>
                    <a:cubicBezTo>
                      <a:pt x="16125" y="7"/>
                      <a:pt x="16124" y="8"/>
                      <a:pt x="16123" y="8"/>
                    </a:cubicBezTo>
                    <a:lnTo>
                      <a:pt x="16123" y="8"/>
                    </a:lnTo>
                    <a:cubicBezTo>
                      <a:pt x="16122" y="8"/>
                      <a:pt x="16121" y="7"/>
                      <a:pt x="16121" y="6"/>
                    </a:cubicBezTo>
                    <a:cubicBezTo>
                      <a:pt x="16121" y="5"/>
                      <a:pt x="16122" y="4"/>
                      <a:pt x="16123" y="4"/>
                    </a:cubicBezTo>
                    <a:close/>
                    <a:moveTo>
                      <a:pt x="16131" y="4"/>
                    </a:moveTo>
                    <a:lnTo>
                      <a:pt x="16131" y="4"/>
                    </a:lnTo>
                    <a:cubicBezTo>
                      <a:pt x="16132" y="4"/>
                      <a:pt x="16133" y="5"/>
                      <a:pt x="16133" y="6"/>
                    </a:cubicBezTo>
                    <a:cubicBezTo>
                      <a:pt x="16133" y="7"/>
                      <a:pt x="16132" y="8"/>
                      <a:pt x="16131" y="8"/>
                    </a:cubicBezTo>
                    <a:lnTo>
                      <a:pt x="16131" y="8"/>
                    </a:lnTo>
                    <a:cubicBezTo>
                      <a:pt x="16130" y="8"/>
                      <a:pt x="16129" y="7"/>
                      <a:pt x="16129" y="6"/>
                    </a:cubicBezTo>
                    <a:cubicBezTo>
                      <a:pt x="16129" y="5"/>
                      <a:pt x="16130" y="4"/>
                      <a:pt x="16131" y="4"/>
                    </a:cubicBezTo>
                    <a:close/>
                    <a:moveTo>
                      <a:pt x="16139" y="4"/>
                    </a:moveTo>
                    <a:lnTo>
                      <a:pt x="16139" y="4"/>
                    </a:lnTo>
                    <a:cubicBezTo>
                      <a:pt x="16140" y="4"/>
                      <a:pt x="16141" y="5"/>
                      <a:pt x="16141" y="6"/>
                    </a:cubicBezTo>
                    <a:cubicBezTo>
                      <a:pt x="16141" y="7"/>
                      <a:pt x="16140" y="8"/>
                      <a:pt x="16139" y="8"/>
                    </a:cubicBezTo>
                    <a:lnTo>
                      <a:pt x="16139" y="8"/>
                    </a:lnTo>
                    <a:cubicBezTo>
                      <a:pt x="16138" y="8"/>
                      <a:pt x="16137" y="7"/>
                      <a:pt x="16137" y="6"/>
                    </a:cubicBezTo>
                    <a:cubicBezTo>
                      <a:pt x="16137" y="5"/>
                      <a:pt x="16138" y="4"/>
                      <a:pt x="16139" y="4"/>
                    </a:cubicBezTo>
                    <a:close/>
                    <a:moveTo>
                      <a:pt x="16147" y="4"/>
                    </a:moveTo>
                    <a:lnTo>
                      <a:pt x="16147" y="4"/>
                    </a:lnTo>
                    <a:cubicBezTo>
                      <a:pt x="16148" y="4"/>
                      <a:pt x="16149" y="5"/>
                      <a:pt x="16149" y="6"/>
                    </a:cubicBezTo>
                    <a:cubicBezTo>
                      <a:pt x="16149" y="7"/>
                      <a:pt x="16148" y="8"/>
                      <a:pt x="16147" y="8"/>
                    </a:cubicBezTo>
                    <a:lnTo>
                      <a:pt x="16147" y="8"/>
                    </a:lnTo>
                    <a:cubicBezTo>
                      <a:pt x="16146" y="8"/>
                      <a:pt x="16145" y="7"/>
                      <a:pt x="16145" y="6"/>
                    </a:cubicBezTo>
                    <a:cubicBezTo>
                      <a:pt x="16145" y="5"/>
                      <a:pt x="16146" y="4"/>
                      <a:pt x="16147" y="4"/>
                    </a:cubicBezTo>
                    <a:close/>
                    <a:moveTo>
                      <a:pt x="16155" y="4"/>
                    </a:moveTo>
                    <a:lnTo>
                      <a:pt x="16155" y="4"/>
                    </a:lnTo>
                    <a:cubicBezTo>
                      <a:pt x="16156" y="4"/>
                      <a:pt x="16157" y="5"/>
                      <a:pt x="16157" y="6"/>
                    </a:cubicBezTo>
                    <a:cubicBezTo>
                      <a:pt x="16157" y="7"/>
                      <a:pt x="16156" y="8"/>
                      <a:pt x="16155" y="8"/>
                    </a:cubicBezTo>
                    <a:lnTo>
                      <a:pt x="16155" y="8"/>
                    </a:lnTo>
                    <a:cubicBezTo>
                      <a:pt x="16154" y="8"/>
                      <a:pt x="16153" y="7"/>
                      <a:pt x="16153" y="6"/>
                    </a:cubicBezTo>
                    <a:cubicBezTo>
                      <a:pt x="16153" y="5"/>
                      <a:pt x="16154" y="4"/>
                      <a:pt x="16155" y="4"/>
                    </a:cubicBezTo>
                    <a:close/>
                    <a:moveTo>
                      <a:pt x="16163" y="4"/>
                    </a:moveTo>
                    <a:lnTo>
                      <a:pt x="16163" y="4"/>
                    </a:lnTo>
                    <a:cubicBezTo>
                      <a:pt x="16164" y="4"/>
                      <a:pt x="16165" y="5"/>
                      <a:pt x="16165" y="6"/>
                    </a:cubicBezTo>
                    <a:cubicBezTo>
                      <a:pt x="16165" y="7"/>
                      <a:pt x="16164" y="8"/>
                      <a:pt x="16163" y="8"/>
                    </a:cubicBezTo>
                    <a:lnTo>
                      <a:pt x="16163" y="8"/>
                    </a:lnTo>
                    <a:cubicBezTo>
                      <a:pt x="16162" y="8"/>
                      <a:pt x="16161" y="7"/>
                      <a:pt x="16161" y="6"/>
                    </a:cubicBezTo>
                    <a:cubicBezTo>
                      <a:pt x="16161" y="5"/>
                      <a:pt x="16162" y="4"/>
                      <a:pt x="16163" y="4"/>
                    </a:cubicBezTo>
                    <a:close/>
                    <a:moveTo>
                      <a:pt x="16171" y="4"/>
                    </a:moveTo>
                    <a:lnTo>
                      <a:pt x="16171" y="4"/>
                    </a:lnTo>
                    <a:cubicBezTo>
                      <a:pt x="16172" y="4"/>
                      <a:pt x="16173" y="5"/>
                      <a:pt x="16173" y="6"/>
                    </a:cubicBezTo>
                    <a:cubicBezTo>
                      <a:pt x="16173" y="7"/>
                      <a:pt x="16172" y="8"/>
                      <a:pt x="16171" y="8"/>
                    </a:cubicBezTo>
                    <a:lnTo>
                      <a:pt x="16171" y="8"/>
                    </a:lnTo>
                    <a:cubicBezTo>
                      <a:pt x="16170" y="8"/>
                      <a:pt x="16169" y="7"/>
                      <a:pt x="16169" y="6"/>
                    </a:cubicBezTo>
                    <a:cubicBezTo>
                      <a:pt x="16169" y="5"/>
                      <a:pt x="16170" y="4"/>
                      <a:pt x="16171" y="4"/>
                    </a:cubicBezTo>
                    <a:close/>
                    <a:moveTo>
                      <a:pt x="16179" y="4"/>
                    </a:moveTo>
                    <a:lnTo>
                      <a:pt x="16179" y="4"/>
                    </a:lnTo>
                    <a:cubicBezTo>
                      <a:pt x="16180" y="4"/>
                      <a:pt x="16181" y="5"/>
                      <a:pt x="16181" y="6"/>
                    </a:cubicBezTo>
                    <a:cubicBezTo>
                      <a:pt x="16181" y="7"/>
                      <a:pt x="16180" y="8"/>
                      <a:pt x="16179" y="8"/>
                    </a:cubicBezTo>
                    <a:lnTo>
                      <a:pt x="16179" y="8"/>
                    </a:lnTo>
                    <a:cubicBezTo>
                      <a:pt x="16178" y="8"/>
                      <a:pt x="16177" y="7"/>
                      <a:pt x="16177" y="6"/>
                    </a:cubicBezTo>
                    <a:cubicBezTo>
                      <a:pt x="16177" y="5"/>
                      <a:pt x="16178" y="4"/>
                      <a:pt x="16179" y="4"/>
                    </a:cubicBezTo>
                    <a:close/>
                    <a:moveTo>
                      <a:pt x="16187" y="4"/>
                    </a:moveTo>
                    <a:lnTo>
                      <a:pt x="16187" y="4"/>
                    </a:lnTo>
                    <a:cubicBezTo>
                      <a:pt x="16188" y="4"/>
                      <a:pt x="16189" y="5"/>
                      <a:pt x="16189" y="6"/>
                    </a:cubicBezTo>
                    <a:cubicBezTo>
                      <a:pt x="16189" y="7"/>
                      <a:pt x="16188" y="8"/>
                      <a:pt x="16187" y="8"/>
                    </a:cubicBezTo>
                    <a:lnTo>
                      <a:pt x="16187" y="8"/>
                    </a:lnTo>
                    <a:cubicBezTo>
                      <a:pt x="16186" y="8"/>
                      <a:pt x="16185" y="7"/>
                      <a:pt x="16185" y="6"/>
                    </a:cubicBezTo>
                    <a:cubicBezTo>
                      <a:pt x="16185" y="5"/>
                      <a:pt x="16186" y="4"/>
                      <a:pt x="16187" y="4"/>
                    </a:cubicBezTo>
                    <a:close/>
                    <a:moveTo>
                      <a:pt x="16195" y="4"/>
                    </a:moveTo>
                    <a:lnTo>
                      <a:pt x="16195" y="4"/>
                    </a:lnTo>
                    <a:cubicBezTo>
                      <a:pt x="16196" y="4"/>
                      <a:pt x="16197" y="5"/>
                      <a:pt x="16197" y="6"/>
                    </a:cubicBezTo>
                    <a:cubicBezTo>
                      <a:pt x="16197" y="7"/>
                      <a:pt x="16196" y="8"/>
                      <a:pt x="16195" y="8"/>
                    </a:cubicBezTo>
                    <a:lnTo>
                      <a:pt x="16195" y="8"/>
                    </a:lnTo>
                    <a:cubicBezTo>
                      <a:pt x="16194" y="8"/>
                      <a:pt x="16193" y="7"/>
                      <a:pt x="16193" y="6"/>
                    </a:cubicBezTo>
                    <a:cubicBezTo>
                      <a:pt x="16193" y="5"/>
                      <a:pt x="16194" y="4"/>
                      <a:pt x="16195" y="4"/>
                    </a:cubicBezTo>
                    <a:close/>
                    <a:moveTo>
                      <a:pt x="16203" y="4"/>
                    </a:moveTo>
                    <a:lnTo>
                      <a:pt x="16203" y="4"/>
                    </a:lnTo>
                    <a:cubicBezTo>
                      <a:pt x="16204" y="4"/>
                      <a:pt x="16205" y="5"/>
                      <a:pt x="16205" y="6"/>
                    </a:cubicBezTo>
                    <a:cubicBezTo>
                      <a:pt x="16205" y="7"/>
                      <a:pt x="16204" y="8"/>
                      <a:pt x="16203" y="8"/>
                    </a:cubicBezTo>
                    <a:lnTo>
                      <a:pt x="16203" y="8"/>
                    </a:lnTo>
                    <a:cubicBezTo>
                      <a:pt x="16202" y="8"/>
                      <a:pt x="16201" y="7"/>
                      <a:pt x="16201" y="6"/>
                    </a:cubicBezTo>
                    <a:cubicBezTo>
                      <a:pt x="16201" y="5"/>
                      <a:pt x="16202" y="4"/>
                      <a:pt x="16203" y="4"/>
                    </a:cubicBezTo>
                    <a:close/>
                    <a:moveTo>
                      <a:pt x="16211" y="4"/>
                    </a:moveTo>
                    <a:lnTo>
                      <a:pt x="16211" y="4"/>
                    </a:lnTo>
                    <a:cubicBezTo>
                      <a:pt x="16212" y="4"/>
                      <a:pt x="16213" y="5"/>
                      <a:pt x="16213" y="6"/>
                    </a:cubicBezTo>
                    <a:cubicBezTo>
                      <a:pt x="16213" y="7"/>
                      <a:pt x="16212" y="8"/>
                      <a:pt x="16211" y="8"/>
                    </a:cubicBezTo>
                    <a:lnTo>
                      <a:pt x="16211" y="8"/>
                    </a:lnTo>
                    <a:cubicBezTo>
                      <a:pt x="16210" y="8"/>
                      <a:pt x="16209" y="7"/>
                      <a:pt x="16209" y="6"/>
                    </a:cubicBezTo>
                    <a:cubicBezTo>
                      <a:pt x="16209" y="5"/>
                      <a:pt x="16210" y="4"/>
                      <a:pt x="16211" y="4"/>
                    </a:cubicBezTo>
                    <a:close/>
                    <a:moveTo>
                      <a:pt x="16219" y="4"/>
                    </a:moveTo>
                    <a:lnTo>
                      <a:pt x="16219" y="4"/>
                    </a:lnTo>
                    <a:cubicBezTo>
                      <a:pt x="16220" y="4"/>
                      <a:pt x="16221" y="5"/>
                      <a:pt x="16221" y="6"/>
                    </a:cubicBezTo>
                    <a:cubicBezTo>
                      <a:pt x="16221" y="7"/>
                      <a:pt x="16220" y="8"/>
                      <a:pt x="16219" y="8"/>
                    </a:cubicBezTo>
                    <a:lnTo>
                      <a:pt x="16219" y="8"/>
                    </a:lnTo>
                    <a:cubicBezTo>
                      <a:pt x="16218" y="8"/>
                      <a:pt x="16217" y="7"/>
                      <a:pt x="16217" y="6"/>
                    </a:cubicBezTo>
                    <a:cubicBezTo>
                      <a:pt x="16217" y="5"/>
                      <a:pt x="16218" y="4"/>
                      <a:pt x="16219" y="4"/>
                    </a:cubicBezTo>
                    <a:close/>
                    <a:moveTo>
                      <a:pt x="16227" y="4"/>
                    </a:moveTo>
                    <a:lnTo>
                      <a:pt x="16227" y="4"/>
                    </a:lnTo>
                    <a:cubicBezTo>
                      <a:pt x="16228" y="4"/>
                      <a:pt x="16229" y="5"/>
                      <a:pt x="16229" y="6"/>
                    </a:cubicBezTo>
                    <a:cubicBezTo>
                      <a:pt x="16229" y="7"/>
                      <a:pt x="16228" y="8"/>
                      <a:pt x="16227" y="8"/>
                    </a:cubicBezTo>
                    <a:lnTo>
                      <a:pt x="16227" y="8"/>
                    </a:lnTo>
                    <a:cubicBezTo>
                      <a:pt x="16226" y="8"/>
                      <a:pt x="16225" y="7"/>
                      <a:pt x="16225" y="6"/>
                    </a:cubicBezTo>
                    <a:cubicBezTo>
                      <a:pt x="16225" y="5"/>
                      <a:pt x="16226" y="4"/>
                      <a:pt x="16227" y="4"/>
                    </a:cubicBezTo>
                    <a:close/>
                    <a:moveTo>
                      <a:pt x="16235" y="4"/>
                    </a:moveTo>
                    <a:lnTo>
                      <a:pt x="16235" y="4"/>
                    </a:lnTo>
                    <a:cubicBezTo>
                      <a:pt x="16236" y="4"/>
                      <a:pt x="16237" y="5"/>
                      <a:pt x="16237" y="6"/>
                    </a:cubicBezTo>
                    <a:cubicBezTo>
                      <a:pt x="16237" y="7"/>
                      <a:pt x="16236" y="8"/>
                      <a:pt x="16235" y="8"/>
                    </a:cubicBezTo>
                    <a:lnTo>
                      <a:pt x="16235" y="8"/>
                    </a:lnTo>
                    <a:cubicBezTo>
                      <a:pt x="16234" y="8"/>
                      <a:pt x="16233" y="7"/>
                      <a:pt x="16233" y="6"/>
                    </a:cubicBezTo>
                    <a:cubicBezTo>
                      <a:pt x="16233" y="5"/>
                      <a:pt x="16234" y="4"/>
                      <a:pt x="16235" y="4"/>
                    </a:cubicBezTo>
                    <a:close/>
                    <a:moveTo>
                      <a:pt x="16243" y="4"/>
                    </a:moveTo>
                    <a:lnTo>
                      <a:pt x="16243" y="4"/>
                    </a:lnTo>
                    <a:cubicBezTo>
                      <a:pt x="16244" y="4"/>
                      <a:pt x="16245" y="5"/>
                      <a:pt x="16245" y="6"/>
                    </a:cubicBezTo>
                    <a:cubicBezTo>
                      <a:pt x="16245" y="7"/>
                      <a:pt x="16244" y="8"/>
                      <a:pt x="16243" y="8"/>
                    </a:cubicBezTo>
                    <a:lnTo>
                      <a:pt x="16243" y="8"/>
                    </a:lnTo>
                    <a:cubicBezTo>
                      <a:pt x="16242" y="8"/>
                      <a:pt x="16241" y="7"/>
                      <a:pt x="16241" y="6"/>
                    </a:cubicBezTo>
                    <a:cubicBezTo>
                      <a:pt x="16241" y="5"/>
                      <a:pt x="16242" y="4"/>
                      <a:pt x="16243" y="4"/>
                    </a:cubicBezTo>
                    <a:close/>
                    <a:moveTo>
                      <a:pt x="16251" y="4"/>
                    </a:moveTo>
                    <a:lnTo>
                      <a:pt x="16251" y="4"/>
                    </a:lnTo>
                    <a:cubicBezTo>
                      <a:pt x="16252" y="4"/>
                      <a:pt x="16253" y="5"/>
                      <a:pt x="16253" y="6"/>
                    </a:cubicBezTo>
                    <a:cubicBezTo>
                      <a:pt x="16253" y="7"/>
                      <a:pt x="16252" y="8"/>
                      <a:pt x="16251" y="8"/>
                    </a:cubicBezTo>
                    <a:lnTo>
                      <a:pt x="16251" y="8"/>
                    </a:lnTo>
                    <a:cubicBezTo>
                      <a:pt x="16250" y="8"/>
                      <a:pt x="16249" y="7"/>
                      <a:pt x="16249" y="6"/>
                    </a:cubicBezTo>
                    <a:cubicBezTo>
                      <a:pt x="16249" y="5"/>
                      <a:pt x="16250" y="4"/>
                      <a:pt x="16251" y="4"/>
                    </a:cubicBezTo>
                    <a:close/>
                    <a:moveTo>
                      <a:pt x="16259" y="4"/>
                    </a:moveTo>
                    <a:lnTo>
                      <a:pt x="16259" y="4"/>
                    </a:lnTo>
                    <a:cubicBezTo>
                      <a:pt x="16260" y="4"/>
                      <a:pt x="16261" y="5"/>
                      <a:pt x="16261" y="6"/>
                    </a:cubicBezTo>
                    <a:cubicBezTo>
                      <a:pt x="16261" y="7"/>
                      <a:pt x="16260" y="8"/>
                      <a:pt x="16259" y="8"/>
                    </a:cubicBezTo>
                    <a:lnTo>
                      <a:pt x="16259" y="8"/>
                    </a:lnTo>
                    <a:cubicBezTo>
                      <a:pt x="16258" y="8"/>
                      <a:pt x="16257" y="7"/>
                      <a:pt x="16257" y="6"/>
                    </a:cubicBezTo>
                    <a:cubicBezTo>
                      <a:pt x="16257" y="5"/>
                      <a:pt x="16258" y="4"/>
                      <a:pt x="16259" y="4"/>
                    </a:cubicBezTo>
                    <a:close/>
                    <a:moveTo>
                      <a:pt x="16267" y="4"/>
                    </a:moveTo>
                    <a:lnTo>
                      <a:pt x="16267" y="4"/>
                    </a:lnTo>
                    <a:cubicBezTo>
                      <a:pt x="16268" y="4"/>
                      <a:pt x="16269" y="5"/>
                      <a:pt x="16269" y="6"/>
                    </a:cubicBezTo>
                    <a:cubicBezTo>
                      <a:pt x="16269" y="7"/>
                      <a:pt x="16268" y="8"/>
                      <a:pt x="16267" y="8"/>
                    </a:cubicBezTo>
                    <a:lnTo>
                      <a:pt x="16267" y="8"/>
                    </a:lnTo>
                    <a:cubicBezTo>
                      <a:pt x="16266" y="8"/>
                      <a:pt x="16265" y="7"/>
                      <a:pt x="16265" y="6"/>
                    </a:cubicBezTo>
                    <a:cubicBezTo>
                      <a:pt x="16265" y="5"/>
                      <a:pt x="16266" y="4"/>
                      <a:pt x="16267" y="4"/>
                    </a:cubicBezTo>
                    <a:close/>
                    <a:moveTo>
                      <a:pt x="16275" y="4"/>
                    </a:moveTo>
                    <a:lnTo>
                      <a:pt x="16275" y="4"/>
                    </a:lnTo>
                    <a:cubicBezTo>
                      <a:pt x="16276" y="4"/>
                      <a:pt x="16277" y="5"/>
                      <a:pt x="16277" y="6"/>
                    </a:cubicBezTo>
                    <a:cubicBezTo>
                      <a:pt x="16277" y="7"/>
                      <a:pt x="16276" y="8"/>
                      <a:pt x="16275" y="8"/>
                    </a:cubicBezTo>
                    <a:lnTo>
                      <a:pt x="16275" y="8"/>
                    </a:lnTo>
                    <a:cubicBezTo>
                      <a:pt x="16274" y="8"/>
                      <a:pt x="16273" y="7"/>
                      <a:pt x="16273" y="6"/>
                    </a:cubicBezTo>
                    <a:cubicBezTo>
                      <a:pt x="16273" y="5"/>
                      <a:pt x="16274" y="4"/>
                      <a:pt x="16275" y="4"/>
                    </a:cubicBezTo>
                    <a:close/>
                    <a:moveTo>
                      <a:pt x="16283" y="4"/>
                    </a:moveTo>
                    <a:lnTo>
                      <a:pt x="16283" y="4"/>
                    </a:lnTo>
                    <a:cubicBezTo>
                      <a:pt x="16284" y="4"/>
                      <a:pt x="16285" y="5"/>
                      <a:pt x="16285" y="6"/>
                    </a:cubicBezTo>
                    <a:cubicBezTo>
                      <a:pt x="16285" y="7"/>
                      <a:pt x="16284" y="8"/>
                      <a:pt x="16283" y="8"/>
                    </a:cubicBezTo>
                    <a:lnTo>
                      <a:pt x="16283" y="8"/>
                    </a:lnTo>
                    <a:cubicBezTo>
                      <a:pt x="16282" y="8"/>
                      <a:pt x="16281" y="7"/>
                      <a:pt x="16281" y="6"/>
                    </a:cubicBezTo>
                    <a:cubicBezTo>
                      <a:pt x="16281" y="5"/>
                      <a:pt x="16282" y="4"/>
                      <a:pt x="16283" y="4"/>
                    </a:cubicBezTo>
                    <a:close/>
                    <a:moveTo>
                      <a:pt x="16291" y="4"/>
                    </a:moveTo>
                    <a:lnTo>
                      <a:pt x="16291" y="4"/>
                    </a:lnTo>
                    <a:cubicBezTo>
                      <a:pt x="16292" y="4"/>
                      <a:pt x="16293" y="5"/>
                      <a:pt x="16293" y="6"/>
                    </a:cubicBezTo>
                    <a:cubicBezTo>
                      <a:pt x="16293" y="7"/>
                      <a:pt x="16292" y="8"/>
                      <a:pt x="16291" y="8"/>
                    </a:cubicBezTo>
                    <a:lnTo>
                      <a:pt x="16291" y="8"/>
                    </a:lnTo>
                    <a:cubicBezTo>
                      <a:pt x="16290" y="8"/>
                      <a:pt x="16289" y="7"/>
                      <a:pt x="16289" y="6"/>
                    </a:cubicBezTo>
                    <a:cubicBezTo>
                      <a:pt x="16289" y="5"/>
                      <a:pt x="16290" y="4"/>
                      <a:pt x="16291" y="4"/>
                    </a:cubicBezTo>
                    <a:close/>
                    <a:moveTo>
                      <a:pt x="16299" y="4"/>
                    </a:moveTo>
                    <a:lnTo>
                      <a:pt x="16299" y="4"/>
                    </a:lnTo>
                    <a:cubicBezTo>
                      <a:pt x="16300" y="4"/>
                      <a:pt x="16301" y="5"/>
                      <a:pt x="16301" y="6"/>
                    </a:cubicBezTo>
                    <a:cubicBezTo>
                      <a:pt x="16301" y="7"/>
                      <a:pt x="16300" y="8"/>
                      <a:pt x="16299" y="8"/>
                    </a:cubicBezTo>
                    <a:lnTo>
                      <a:pt x="16299" y="8"/>
                    </a:lnTo>
                    <a:cubicBezTo>
                      <a:pt x="16298" y="8"/>
                      <a:pt x="16297" y="7"/>
                      <a:pt x="16297" y="6"/>
                    </a:cubicBezTo>
                    <a:cubicBezTo>
                      <a:pt x="16297" y="5"/>
                      <a:pt x="16298" y="4"/>
                      <a:pt x="16299" y="4"/>
                    </a:cubicBezTo>
                    <a:close/>
                    <a:moveTo>
                      <a:pt x="16307" y="4"/>
                    </a:moveTo>
                    <a:lnTo>
                      <a:pt x="16307" y="4"/>
                    </a:lnTo>
                    <a:cubicBezTo>
                      <a:pt x="16308" y="4"/>
                      <a:pt x="16309" y="5"/>
                      <a:pt x="16309" y="6"/>
                    </a:cubicBezTo>
                    <a:cubicBezTo>
                      <a:pt x="16309" y="7"/>
                      <a:pt x="16308" y="8"/>
                      <a:pt x="16307" y="8"/>
                    </a:cubicBezTo>
                    <a:lnTo>
                      <a:pt x="16307" y="8"/>
                    </a:lnTo>
                    <a:cubicBezTo>
                      <a:pt x="16306" y="8"/>
                      <a:pt x="16305" y="7"/>
                      <a:pt x="16305" y="6"/>
                    </a:cubicBezTo>
                    <a:cubicBezTo>
                      <a:pt x="16305" y="5"/>
                      <a:pt x="16306" y="4"/>
                      <a:pt x="16307" y="4"/>
                    </a:cubicBezTo>
                    <a:close/>
                    <a:moveTo>
                      <a:pt x="16315" y="4"/>
                    </a:moveTo>
                    <a:lnTo>
                      <a:pt x="16315" y="4"/>
                    </a:lnTo>
                    <a:cubicBezTo>
                      <a:pt x="16316" y="4"/>
                      <a:pt x="16317" y="5"/>
                      <a:pt x="16317" y="6"/>
                    </a:cubicBezTo>
                    <a:cubicBezTo>
                      <a:pt x="16317" y="7"/>
                      <a:pt x="16316" y="8"/>
                      <a:pt x="16315" y="8"/>
                    </a:cubicBezTo>
                    <a:lnTo>
                      <a:pt x="16315" y="8"/>
                    </a:lnTo>
                    <a:cubicBezTo>
                      <a:pt x="16314" y="8"/>
                      <a:pt x="16313" y="7"/>
                      <a:pt x="16313" y="6"/>
                    </a:cubicBezTo>
                    <a:cubicBezTo>
                      <a:pt x="16313" y="5"/>
                      <a:pt x="16314" y="4"/>
                      <a:pt x="16315" y="4"/>
                    </a:cubicBezTo>
                    <a:close/>
                    <a:moveTo>
                      <a:pt x="16323" y="4"/>
                    </a:moveTo>
                    <a:lnTo>
                      <a:pt x="16323" y="4"/>
                    </a:lnTo>
                    <a:cubicBezTo>
                      <a:pt x="16324" y="4"/>
                      <a:pt x="16325" y="5"/>
                      <a:pt x="16325" y="6"/>
                    </a:cubicBezTo>
                    <a:cubicBezTo>
                      <a:pt x="16325" y="7"/>
                      <a:pt x="16324" y="8"/>
                      <a:pt x="16323" y="8"/>
                    </a:cubicBezTo>
                    <a:lnTo>
                      <a:pt x="16323" y="8"/>
                    </a:lnTo>
                    <a:cubicBezTo>
                      <a:pt x="16322" y="8"/>
                      <a:pt x="16321" y="7"/>
                      <a:pt x="16321" y="6"/>
                    </a:cubicBezTo>
                    <a:cubicBezTo>
                      <a:pt x="16321" y="5"/>
                      <a:pt x="16322" y="4"/>
                      <a:pt x="16323" y="4"/>
                    </a:cubicBezTo>
                    <a:close/>
                    <a:moveTo>
                      <a:pt x="16331" y="4"/>
                    </a:moveTo>
                    <a:lnTo>
                      <a:pt x="16331" y="4"/>
                    </a:lnTo>
                    <a:cubicBezTo>
                      <a:pt x="16332" y="4"/>
                      <a:pt x="16333" y="5"/>
                      <a:pt x="16333" y="6"/>
                    </a:cubicBezTo>
                    <a:cubicBezTo>
                      <a:pt x="16333" y="7"/>
                      <a:pt x="16332" y="8"/>
                      <a:pt x="16331" y="8"/>
                    </a:cubicBezTo>
                    <a:lnTo>
                      <a:pt x="16331" y="8"/>
                    </a:lnTo>
                    <a:cubicBezTo>
                      <a:pt x="16330" y="8"/>
                      <a:pt x="16329" y="7"/>
                      <a:pt x="16329" y="6"/>
                    </a:cubicBezTo>
                    <a:cubicBezTo>
                      <a:pt x="16329" y="5"/>
                      <a:pt x="16330" y="4"/>
                      <a:pt x="16331" y="4"/>
                    </a:cubicBezTo>
                    <a:close/>
                    <a:moveTo>
                      <a:pt x="16339" y="4"/>
                    </a:moveTo>
                    <a:lnTo>
                      <a:pt x="16339" y="4"/>
                    </a:lnTo>
                    <a:cubicBezTo>
                      <a:pt x="16340" y="4"/>
                      <a:pt x="16341" y="5"/>
                      <a:pt x="16341" y="6"/>
                    </a:cubicBezTo>
                    <a:cubicBezTo>
                      <a:pt x="16341" y="7"/>
                      <a:pt x="16340" y="8"/>
                      <a:pt x="16339" y="8"/>
                    </a:cubicBezTo>
                    <a:lnTo>
                      <a:pt x="16339" y="8"/>
                    </a:lnTo>
                    <a:cubicBezTo>
                      <a:pt x="16338" y="8"/>
                      <a:pt x="16337" y="7"/>
                      <a:pt x="16337" y="6"/>
                    </a:cubicBezTo>
                    <a:cubicBezTo>
                      <a:pt x="16337" y="5"/>
                      <a:pt x="16338" y="4"/>
                      <a:pt x="16339" y="4"/>
                    </a:cubicBezTo>
                    <a:close/>
                    <a:moveTo>
                      <a:pt x="16347" y="4"/>
                    </a:moveTo>
                    <a:lnTo>
                      <a:pt x="16347" y="4"/>
                    </a:lnTo>
                    <a:cubicBezTo>
                      <a:pt x="16348" y="4"/>
                      <a:pt x="16349" y="5"/>
                      <a:pt x="16349" y="6"/>
                    </a:cubicBezTo>
                    <a:cubicBezTo>
                      <a:pt x="16349" y="7"/>
                      <a:pt x="16348" y="8"/>
                      <a:pt x="16347" y="8"/>
                    </a:cubicBezTo>
                    <a:lnTo>
                      <a:pt x="16347" y="8"/>
                    </a:lnTo>
                    <a:cubicBezTo>
                      <a:pt x="16346" y="8"/>
                      <a:pt x="16345" y="7"/>
                      <a:pt x="16345" y="6"/>
                    </a:cubicBezTo>
                    <a:cubicBezTo>
                      <a:pt x="16345" y="5"/>
                      <a:pt x="16346" y="4"/>
                      <a:pt x="16347" y="4"/>
                    </a:cubicBezTo>
                    <a:close/>
                    <a:moveTo>
                      <a:pt x="16355" y="4"/>
                    </a:moveTo>
                    <a:lnTo>
                      <a:pt x="16355" y="4"/>
                    </a:lnTo>
                    <a:cubicBezTo>
                      <a:pt x="16356" y="4"/>
                      <a:pt x="16357" y="5"/>
                      <a:pt x="16357" y="6"/>
                    </a:cubicBezTo>
                    <a:cubicBezTo>
                      <a:pt x="16357" y="7"/>
                      <a:pt x="16356" y="8"/>
                      <a:pt x="16355" y="8"/>
                    </a:cubicBezTo>
                    <a:lnTo>
                      <a:pt x="16355" y="8"/>
                    </a:lnTo>
                    <a:cubicBezTo>
                      <a:pt x="16354" y="8"/>
                      <a:pt x="16353" y="7"/>
                      <a:pt x="16353" y="6"/>
                    </a:cubicBezTo>
                    <a:cubicBezTo>
                      <a:pt x="16353" y="5"/>
                      <a:pt x="16354" y="4"/>
                      <a:pt x="16355" y="4"/>
                    </a:cubicBezTo>
                    <a:close/>
                    <a:moveTo>
                      <a:pt x="16363" y="4"/>
                    </a:moveTo>
                    <a:lnTo>
                      <a:pt x="16363" y="4"/>
                    </a:lnTo>
                    <a:cubicBezTo>
                      <a:pt x="16364" y="4"/>
                      <a:pt x="16365" y="5"/>
                      <a:pt x="16365" y="6"/>
                    </a:cubicBezTo>
                    <a:cubicBezTo>
                      <a:pt x="16365" y="7"/>
                      <a:pt x="16364" y="8"/>
                      <a:pt x="16363" y="8"/>
                    </a:cubicBezTo>
                    <a:lnTo>
                      <a:pt x="16363" y="8"/>
                    </a:lnTo>
                    <a:cubicBezTo>
                      <a:pt x="16362" y="8"/>
                      <a:pt x="16361" y="7"/>
                      <a:pt x="16361" y="6"/>
                    </a:cubicBezTo>
                    <a:cubicBezTo>
                      <a:pt x="16361" y="5"/>
                      <a:pt x="16362" y="4"/>
                      <a:pt x="16363" y="4"/>
                    </a:cubicBezTo>
                    <a:close/>
                    <a:moveTo>
                      <a:pt x="16371" y="4"/>
                    </a:moveTo>
                    <a:lnTo>
                      <a:pt x="16371" y="4"/>
                    </a:lnTo>
                    <a:cubicBezTo>
                      <a:pt x="16372" y="4"/>
                      <a:pt x="16373" y="5"/>
                      <a:pt x="16373" y="6"/>
                    </a:cubicBezTo>
                    <a:cubicBezTo>
                      <a:pt x="16373" y="7"/>
                      <a:pt x="16372" y="8"/>
                      <a:pt x="16371" y="8"/>
                    </a:cubicBezTo>
                    <a:lnTo>
                      <a:pt x="16371" y="8"/>
                    </a:lnTo>
                    <a:cubicBezTo>
                      <a:pt x="16370" y="8"/>
                      <a:pt x="16369" y="7"/>
                      <a:pt x="16369" y="6"/>
                    </a:cubicBezTo>
                    <a:cubicBezTo>
                      <a:pt x="16369" y="5"/>
                      <a:pt x="16370" y="4"/>
                      <a:pt x="16371" y="4"/>
                    </a:cubicBezTo>
                    <a:close/>
                    <a:moveTo>
                      <a:pt x="16379" y="4"/>
                    </a:moveTo>
                    <a:lnTo>
                      <a:pt x="16379" y="4"/>
                    </a:lnTo>
                    <a:cubicBezTo>
                      <a:pt x="16380" y="4"/>
                      <a:pt x="16381" y="5"/>
                      <a:pt x="16381" y="6"/>
                    </a:cubicBezTo>
                    <a:cubicBezTo>
                      <a:pt x="16381" y="7"/>
                      <a:pt x="16380" y="8"/>
                      <a:pt x="16379" y="8"/>
                    </a:cubicBezTo>
                    <a:lnTo>
                      <a:pt x="16379" y="8"/>
                    </a:lnTo>
                    <a:cubicBezTo>
                      <a:pt x="16378" y="8"/>
                      <a:pt x="16377" y="7"/>
                      <a:pt x="16377" y="6"/>
                    </a:cubicBezTo>
                    <a:cubicBezTo>
                      <a:pt x="16377" y="5"/>
                      <a:pt x="16378" y="4"/>
                      <a:pt x="16379" y="4"/>
                    </a:cubicBezTo>
                    <a:close/>
                    <a:moveTo>
                      <a:pt x="16387" y="4"/>
                    </a:moveTo>
                    <a:lnTo>
                      <a:pt x="16387" y="4"/>
                    </a:lnTo>
                    <a:cubicBezTo>
                      <a:pt x="16388" y="4"/>
                      <a:pt x="16389" y="5"/>
                      <a:pt x="16389" y="6"/>
                    </a:cubicBezTo>
                    <a:cubicBezTo>
                      <a:pt x="16389" y="7"/>
                      <a:pt x="16388" y="8"/>
                      <a:pt x="16387" y="8"/>
                    </a:cubicBezTo>
                    <a:lnTo>
                      <a:pt x="16387" y="8"/>
                    </a:lnTo>
                    <a:cubicBezTo>
                      <a:pt x="16386" y="8"/>
                      <a:pt x="16385" y="7"/>
                      <a:pt x="16385" y="6"/>
                    </a:cubicBezTo>
                    <a:cubicBezTo>
                      <a:pt x="16385" y="5"/>
                      <a:pt x="16386" y="4"/>
                      <a:pt x="16387" y="4"/>
                    </a:cubicBezTo>
                    <a:close/>
                    <a:moveTo>
                      <a:pt x="16395" y="4"/>
                    </a:moveTo>
                    <a:lnTo>
                      <a:pt x="16395" y="4"/>
                    </a:lnTo>
                    <a:cubicBezTo>
                      <a:pt x="16396" y="4"/>
                      <a:pt x="16397" y="5"/>
                      <a:pt x="16397" y="6"/>
                    </a:cubicBezTo>
                    <a:cubicBezTo>
                      <a:pt x="16397" y="7"/>
                      <a:pt x="16396" y="8"/>
                      <a:pt x="16395" y="8"/>
                    </a:cubicBezTo>
                    <a:lnTo>
                      <a:pt x="16395" y="8"/>
                    </a:lnTo>
                    <a:cubicBezTo>
                      <a:pt x="16394" y="8"/>
                      <a:pt x="16393" y="7"/>
                      <a:pt x="16393" y="6"/>
                    </a:cubicBezTo>
                    <a:cubicBezTo>
                      <a:pt x="16393" y="5"/>
                      <a:pt x="16394" y="4"/>
                      <a:pt x="16395" y="4"/>
                    </a:cubicBezTo>
                    <a:close/>
                    <a:moveTo>
                      <a:pt x="16403" y="4"/>
                    </a:moveTo>
                    <a:lnTo>
                      <a:pt x="16403" y="4"/>
                    </a:lnTo>
                    <a:cubicBezTo>
                      <a:pt x="16404" y="4"/>
                      <a:pt x="16405" y="5"/>
                      <a:pt x="16405" y="6"/>
                    </a:cubicBezTo>
                    <a:cubicBezTo>
                      <a:pt x="16405" y="7"/>
                      <a:pt x="16404" y="8"/>
                      <a:pt x="16403" y="8"/>
                    </a:cubicBezTo>
                    <a:lnTo>
                      <a:pt x="16403" y="8"/>
                    </a:lnTo>
                    <a:cubicBezTo>
                      <a:pt x="16402" y="8"/>
                      <a:pt x="16401" y="7"/>
                      <a:pt x="16401" y="6"/>
                    </a:cubicBezTo>
                    <a:cubicBezTo>
                      <a:pt x="16401" y="5"/>
                      <a:pt x="16402" y="4"/>
                      <a:pt x="16403" y="4"/>
                    </a:cubicBezTo>
                    <a:close/>
                    <a:moveTo>
                      <a:pt x="16411" y="4"/>
                    </a:moveTo>
                    <a:lnTo>
                      <a:pt x="16411" y="4"/>
                    </a:lnTo>
                    <a:cubicBezTo>
                      <a:pt x="16412" y="4"/>
                      <a:pt x="16413" y="5"/>
                      <a:pt x="16413" y="6"/>
                    </a:cubicBezTo>
                    <a:cubicBezTo>
                      <a:pt x="16413" y="7"/>
                      <a:pt x="16412" y="8"/>
                      <a:pt x="16411" y="8"/>
                    </a:cubicBezTo>
                    <a:lnTo>
                      <a:pt x="16411" y="8"/>
                    </a:lnTo>
                    <a:cubicBezTo>
                      <a:pt x="16410" y="8"/>
                      <a:pt x="16409" y="7"/>
                      <a:pt x="16409" y="6"/>
                    </a:cubicBezTo>
                    <a:cubicBezTo>
                      <a:pt x="16409" y="5"/>
                      <a:pt x="16410" y="4"/>
                      <a:pt x="16411" y="4"/>
                    </a:cubicBezTo>
                    <a:close/>
                    <a:moveTo>
                      <a:pt x="16419" y="4"/>
                    </a:moveTo>
                    <a:lnTo>
                      <a:pt x="16419" y="4"/>
                    </a:lnTo>
                    <a:cubicBezTo>
                      <a:pt x="16420" y="4"/>
                      <a:pt x="16421" y="5"/>
                      <a:pt x="16421" y="6"/>
                    </a:cubicBezTo>
                    <a:cubicBezTo>
                      <a:pt x="16421" y="7"/>
                      <a:pt x="16420" y="8"/>
                      <a:pt x="16419" y="8"/>
                    </a:cubicBezTo>
                    <a:lnTo>
                      <a:pt x="16419" y="8"/>
                    </a:lnTo>
                    <a:cubicBezTo>
                      <a:pt x="16418" y="8"/>
                      <a:pt x="16417" y="7"/>
                      <a:pt x="16417" y="6"/>
                    </a:cubicBezTo>
                    <a:cubicBezTo>
                      <a:pt x="16417" y="5"/>
                      <a:pt x="16418" y="4"/>
                      <a:pt x="16419" y="4"/>
                    </a:cubicBezTo>
                    <a:close/>
                    <a:moveTo>
                      <a:pt x="16427" y="4"/>
                    </a:moveTo>
                    <a:lnTo>
                      <a:pt x="16427" y="4"/>
                    </a:lnTo>
                    <a:cubicBezTo>
                      <a:pt x="16428" y="4"/>
                      <a:pt x="16429" y="5"/>
                      <a:pt x="16429" y="6"/>
                    </a:cubicBezTo>
                    <a:cubicBezTo>
                      <a:pt x="16429" y="7"/>
                      <a:pt x="16428" y="8"/>
                      <a:pt x="16427" y="8"/>
                    </a:cubicBezTo>
                    <a:lnTo>
                      <a:pt x="16427" y="8"/>
                    </a:lnTo>
                    <a:cubicBezTo>
                      <a:pt x="16426" y="8"/>
                      <a:pt x="16425" y="7"/>
                      <a:pt x="16425" y="6"/>
                    </a:cubicBezTo>
                    <a:cubicBezTo>
                      <a:pt x="16425" y="5"/>
                      <a:pt x="16426" y="4"/>
                      <a:pt x="16427" y="4"/>
                    </a:cubicBezTo>
                    <a:close/>
                    <a:moveTo>
                      <a:pt x="16435" y="4"/>
                    </a:moveTo>
                    <a:lnTo>
                      <a:pt x="16435" y="4"/>
                    </a:lnTo>
                    <a:cubicBezTo>
                      <a:pt x="16436" y="4"/>
                      <a:pt x="16437" y="5"/>
                      <a:pt x="16437" y="6"/>
                    </a:cubicBezTo>
                    <a:cubicBezTo>
                      <a:pt x="16437" y="7"/>
                      <a:pt x="16436" y="8"/>
                      <a:pt x="16435" y="8"/>
                    </a:cubicBezTo>
                    <a:lnTo>
                      <a:pt x="16435" y="8"/>
                    </a:lnTo>
                    <a:cubicBezTo>
                      <a:pt x="16434" y="8"/>
                      <a:pt x="16433" y="7"/>
                      <a:pt x="16433" y="6"/>
                    </a:cubicBezTo>
                    <a:cubicBezTo>
                      <a:pt x="16433" y="5"/>
                      <a:pt x="16434" y="4"/>
                      <a:pt x="16435" y="4"/>
                    </a:cubicBezTo>
                    <a:close/>
                    <a:moveTo>
                      <a:pt x="16443" y="4"/>
                    </a:moveTo>
                    <a:lnTo>
                      <a:pt x="16443" y="4"/>
                    </a:lnTo>
                    <a:cubicBezTo>
                      <a:pt x="16444" y="4"/>
                      <a:pt x="16445" y="5"/>
                      <a:pt x="16445" y="6"/>
                    </a:cubicBezTo>
                    <a:cubicBezTo>
                      <a:pt x="16445" y="7"/>
                      <a:pt x="16444" y="8"/>
                      <a:pt x="16443" y="8"/>
                    </a:cubicBezTo>
                    <a:lnTo>
                      <a:pt x="16443" y="8"/>
                    </a:lnTo>
                    <a:cubicBezTo>
                      <a:pt x="16442" y="8"/>
                      <a:pt x="16441" y="7"/>
                      <a:pt x="16441" y="6"/>
                    </a:cubicBezTo>
                    <a:cubicBezTo>
                      <a:pt x="16441" y="5"/>
                      <a:pt x="16442" y="4"/>
                      <a:pt x="16443" y="4"/>
                    </a:cubicBezTo>
                    <a:close/>
                    <a:moveTo>
                      <a:pt x="16451" y="4"/>
                    </a:moveTo>
                    <a:lnTo>
                      <a:pt x="16451" y="4"/>
                    </a:lnTo>
                    <a:cubicBezTo>
                      <a:pt x="16452" y="4"/>
                      <a:pt x="16453" y="5"/>
                      <a:pt x="16453" y="6"/>
                    </a:cubicBezTo>
                    <a:cubicBezTo>
                      <a:pt x="16453" y="7"/>
                      <a:pt x="16452" y="8"/>
                      <a:pt x="16451" y="8"/>
                    </a:cubicBezTo>
                    <a:lnTo>
                      <a:pt x="16451" y="8"/>
                    </a:lnTo>
                    <a:cubicBezTo>
                      <a:pt x="16450" y="8"/>
                      <a:pt x="16449" y="7"/>
                      <a:pt x="16449" y="6"/>
                    </a:cubicBezTo>
                    <a:cubicBezTo>
                      <a:pt x="16449" y="5"/>
                      <a:pt x="16450" y="4"/>
                      <a:pt x="16451" y="4"/>
                    </a:cubicBezTo>
                    <a:close/>
                    <a:moveTo>
                      <a:pt x="16459" y="4"/>
                    </a:moveTo>
                    <a:lnTo>
                      <a:pt x="16459" y="4"/>
                    </a:lnTo>
                    <a:cubicBezTo>
                      <a:pt x="16460" y="4"/>
                      <a:pt x="16461" y="5"/>
                      <a:pt x="16461" y="6"/>
                    </a:cubicBezTo>
                    <a:cubicBezTo>
                      <a:pt x="16461" y="7"/>
                      <a:pt x="16460" y="8"/>
                      <a:pt x="16459" y="8"/>
                    </a:cubicBezTo>
                    <a:lnTo>
                      <a:pt x="16459" y="8"/>
                    </a:lnTo>
                    <a:cubicBezTo>
                      <a:pt x="16458" y="8"/>
                      <a:pt x="16457" y="7"/>
                      <a:pt x="16457" y="6"/>
                    </a:cubicBezTo>
                    <a:cubicBezTo>
                      <a:pt x="16457" y="5"/>
                      <a:pt x="16458" y="4"/>
                      <a:pt x="16459" y="4"/>
                    </a:cubicBezTo>
                    <a:close/>
                    <a:moveTo>
                      <a:pt x="16467" y="4"/>
                    </a:moveTo>
                    <a:lnTo>
                      <a:pt x="16467" y="4"/>
                    </a:lnTo>
                    <a:cubicBezTo>
                      <a:pt x="16468" y="4"/>
                      <a:pt x="16469" y="5"/>
                      <a:pt x="16469" y="6"/>
                    </a:cubicBezTo>
                    <a:cubicBezTo>
                      <a:pt x="16469" y="7"/>
                      <a:pt x="16468" y="8"/>
                      <a:pt x="16467" y="8"/>
                    </a:cubicBezTo>
                    <a:lnTo>
                      <a:pt x="16467" y="8"/>
                    </a:lnTo>
                    <a:cubicBezTo>
                      <a:pt x="16466" y="8"/>
                      <a:pt x="16465" y="7"/>
                      <a:pt x="16465" y="6"/>
                    </a:cubicBezTo>
                    <a:cubicBezTo>
                      <a:pt x="16465" y="5"/>
                      <a:pt x="16466" y="4"/>
                      <a:pt x="16467" y="4"/>
                    </a:cubicBezTo>
                    <a:close/>
                    <a:moveTo>
                      <a:pt x="16475" y="4"/>
                    </a:moveTo>
                    <a:lnTo>
                      <a:pt x="16475" y="4"/>
                    </a:lnTo>
                    <a:cubicBezTo>
                      <a:pt x="16476" y="4"/>
                      <a:pt x="16477" y="5"/>
                      <a:pt x="16477" y="6"/>
                    </a:cubicBezTo>
                    <a:cubicBezTo>
                      <a:pt x="16477" y="7"/>
                      <a:pt x="16476" y="8"/>
                      <a:pt x="16475" y="8"/>
                    </a:cubicBezTo>
                    <a:lnTo>
                      <a:pt x="16475" y="8"/>
                    </a:lnTo>
                    <a:cubicBezTo>
                      <a:pt x="16474" y="8"/>
                      <a:pt x="16473" y="7"/>
                      <a:pt x="16473" y="6"/>
                    </a:cubicBezTo>
                    <a:cubicBezTo>
                      <a:pt x="16473" y="5"/>
                      <a:pt x="16474" y="4"/>
                      <a:pt x="16475" y="4"/>
                    </a:cubicBezTo>
                    <a:close/>
                    <a:moveTo>
                      <a:pt x="16483" y="4"/>
                    </a:moveTo>
                    <a:lnTo>
                      <a:pt x="16483" y="4"/>
                    </a:lnTo>
                    <a:cubicBezTo>
                      <a:pt x="16484" y="4"/>
                      <a:pt x="16485" y="5"/>
                      <a:pt x="16485" y="6"/>
                    </a:cubicBezTo>
                    <a:cubicBezTo>
                      <a:pt x="16485" y="7"/>
                      <a:pt x="16484" y="8"/>
                      <a:pt x="16483" y="8"/>
                    </a:cubicBezTo>
                    <a:lnTo>
                      <a:pt x="16483" y="8"/>
                    </a:lnTo>
                    <a:cubicBezTo>
                      <a:pt x="16482" y="8"/>
                      <a:pt x="16481" y="7"/>
                      <a:pt x="16481" y="6"/>
                    </a:cubicBezTo>
                    <a:cubicBezTo>
                      <a:pt x="16481" y="5"/>
                      <a:pt x="16482" y="4"/>
                      <a:pt x="16483" y="4"/>
                    </a:cubicBezTo>
                    <a:close/>
                    <a:moveTo>
                      <a:pt x="16491" y="4"/>
                    </a:moveTo>
                    <a:lnTo>
                      <a:pt x="16491" y="4"/>
                    </a:lnTo>
                    <a:cubicBezTo>
                      <a:pt x="16492" y="4"/>
                      <a:pt x="16493" y="5"/>
                      <a:pt x="16493" y="6"/>
                    </a:cubicBezTo>
                    <a:cubicBezTo>
                      <a:pt x="16493" y="7"/>
                      <a:pt x="16492" y="8"/>
                      <a:pt x="16491" y="8"/>
                    </a:cubicBezTo>
                    <a:lnTo>
                      <a:pt x="16491" y="8"/>
                    </a:lnTo>
                    <a:cubicBezTo>
                      <a:pt x="16490" y="8"/>
                      <a:pt x="16489" y="7"/>
                      <a:pt x="16489" y="6"/>
                    </a:cubicBezTo>
                    <a:cubicBezTo>
                      <a:pt x="16489" y="5"/>
                      <a:pt x="16490" y="4"/>
                      <a:pt x="16491" y="4"/>
                    </a:cubicBezTo>
                    <a:close/>
                    <a:moveTo>
                      <a:pt x="16499" y="4"/>
                    </a:moveTo>
                    <a:lnTo>
                      <a:pt x="16499" y="4"/>
                    </a:lnTo>
                    <a:cubicBezTo>
                      <a:pt x="16500" y="4"/>
                      <a:pt x="16501" y="5"/>
                      <a:pt x="16501" y="6"/>
                    </a:cubicBezTo>
                    <a:cubicBezTo>
                      <a:pt x="16501" y="7"/>
                      <a:pt x="16500" y="8"/>
                      <a:pt x="16499" y="8"/>
                    </a:cubicBezTo>
                    <a:lnTo>
                      <a:pt x="16499" y="8"/>
                    </a:lnTo>
                    <a:cubicBezTo>
                      <a:pt x="16498" y="8"/>
                      <a:pt x="16497" y="7"/>
                      <a:pt x="16497" y="6"/>
                    </a:cubicBezTo>
                    <a:cubicBezTo>
                      <a:pt x="16497" y="5"/>
                      <a:pt x="16498" y="4"/>
                      <a:pt x="16499" y="4"/>
                    </a:cubicBezTo>
                    <a:close/>
                    <a:moveTo>
                      <a:pt x="16507" y="4"/>
                    </a:moveTo>
                    <a:lnTo>
                      <a:pt x="16507" y="4"/>
                    </a:lnTo>
                    <a:cubicBezTo>
                      <a:pt x="16508" y="4"/>
                      <a:pt x="16509" y="5"/>
                      <a:pt x="16509" y="6"/>
                    </a:cubicBezTo>
                    <a:cubicBezTo>
                      <a:pt x="16509" y="7"/>
                      <a:pt x="16508" y="8"/>
                      <a:pt x="16507" y="8"/>
                    </a:cubicBezTo>
                    <a:lnTo>
                      <a:pt x="16507" y="8"/>
                    </a:lnTo>
                    <a:cubicBezTo>
                      <a:pt x="16506" y="8"/>
                      <a:pt x="16505" y="7"/>
                      <a:pt x="16505" y="6"/>
                    </a:cubicBezTo>
                    <a:cubicBezTo>
                      <a:pt x="16505" y="5"/>
                      <a:pt x="16506" y="4"/>
                      <a:pt x="16507" y="4"/>
                    </a:cubicBezTo>
                    <a:close/>
                    <a:moveTo>
                      <a:pt x="16515" y="4"/>
                    </a:moveTo>
                    <a:lnTo>
                      <a:pt x="16515" y="4"/>
                    </a:lnTo>
                    <a:cubicBezTo>
                      <a:pt x="16516" y="4"/>
                      <a:pt x="16517" y="5"/>
                      <a:pt x="16517" y="6"/>
                    </a:cubicBezTo>
                    <a:cubicBezTo>
                      <a:pt x="16517" y="7"/>
                      <a:pt x="16516" y="8"/>
                      <a:pt x="16515" y="8"/>
                    </a:cubicBezTo>
                    <a:lnTo>
                      <a:pt x="16515" y="8"/>
                    </a:lnTo>
                    <a:cubicBezTo>
                      <a:pt x="16514" y="8"/>
                      <a:pt x="16513" y="7"/>
                      <a:pt x="16513" y="6"/>
                    </a:cubicBezTo>
                    <a:cubicBezTo>
                      <a:pt x="16513" y="5"/>
                      <a:pt x="16514" y="4"/>
                      <a:pt x="16515" y="4"/>
                    </a:cubicBezTo>
                    <a:close/>
                    <a:moveTo>
                      <a:pt x="16523" y="4"/>
                    </a:moveTo>
                    <a:lnTo>
                      <a:pt x="16523" y="4"/>
                    </a:lnTo>
                    <a:cubicBezTo>
                      <a:pt x="16524" y="4"/>
                      <a:pt x="16525" y="5"/>
                      <a:pt x="16525" y="6"/>
                    </a:cubicBezTo>
                    <a:cubicBezTo>
                      <a:pt x="16525" y="7"/>
                      <a:pt x="16524" y="8"/>
                      <a:pt x="16523" y="8"/>
                    </a:cubicBezTo>
                    <a:lnTo>
                      <a:pt x="16523" y="8"/>
                    </a:lnTo>
                    <a:cubicBezTo>
                      <a:pt x="16522" y="8"/>
                      <a:pt x="16521" y="7"/>
                      <a:pt x="16521" y="6"/>
                    </a:cubicBezTo>
                    <a:cubicBezTo>
                      <a:pt x="16521" y="5"/>
                      <a:pt x="16522" y="4"/>
                      <a:pt x="16523" y="4"/>
                    </a:cubicBezTo>
                    <a:close/>
                    <a:moveTo>
                      <a:pt x="16531" y="4"/>
                    </a:moveTo>
                    <a:lnTo>
                      <a:pt x="16531" y="4"/>
                    </a:lnTo>
                    <a:cubicBezTo>
                      <a:pt x="16532" y="4"/>
                      <a:pt x="16533" y="5"/>
                      <a:pt x="16533" y="6"/>
                    </a:cubicBezTo>
                    <a:cubicBezTo>
                      <a:pt x="16533" y="7"/>
                      <a:pt x="16532" y="8"/>
                      <a:pt x="16531" y="8"/>
                    </a:cubicBezTo>
                    <a:lnTo>
                      <a:pt x="16531" y="8"/>
                    </a:lnTo>
                    <a:cubicBezTo>
                      <a:pt x="16530" y="8"/>
                      <a:pt x="16529" y="7"/>
                      <a:pt x="16529" y="6"/>
                    </a:cubicBezTo>
                    <a:cubicBezTo>
                      <a:pt x="16529" y="5"/>
                      <a:pt x="16530" y="4"/>
                      <a:pt x="16531" y="4"/>
                    </a:cubicBezTo>
                    <a:close/>
                    <a:moveTo>
                      <a:pt x="16539" y="4"/>
                    </a:moveTo>
                    <a:lnTo>
                      <a:pt x="16539" y="4"/>
                    </a:lnTo>
                    <a:cubicBezTo>
                      <a:pt x="16540" y="4"/>
                      <a:pt x="16541" y="5"/>
                      <a:pt x="16541" y="6"/>
                    </a:cubicBezTo>
                    <a:cubicBezTo>
                      <a:pt x="16541" y="7"/>
                      <a:pt x="16540" y="8"/>
                      <a:pt x="16539" y="8"/>
                    </a:cubicBezTo>
                    <a:lnTo>
                      <a:pt x="16539" y="8"/>
                    </a:lnTo>
                    <a:cubicBezTo>
                      <a:pt x="16538" y="8"/>
                      <a:pt x="16537" y="7"/>
                      <a:pt x="16537" y="6"/>
                    </a:cubicBezTo>
                    <a:cubicBezTo>
                      <a:pt x="16537" y="5"/>
                      <a:pt x="16538" y="4"/>
                      <a:pt x="16539" y="4"/>
                    </a:cubicBezTo>
                    <a:close/>
                    <a:moveTo>
                      <a:pt x="16547" y="4"/>
                    </a:moveTo>
                    <a:lnTo>
                      <a:pt x="16547" y="4"/>
                    </a:lnTo>
                    <a:cubicBezTo>
                      <a:pt x="16548" y="4"/>
                      <a:pt x="16549" y="5"/>
                      <a:pt x="16549" y="6"/>
                    </a:cubicBezTo>
                    <a:cubicBezTo>
                      <a:pt x="16549" y="7"/>
                      <a:pt x="16548" y="8"/>
                      <a:pt x="16547" y="8"/>
                    </a:cubicBezTo>
                    <a:lnTo>
                      <a:pt x="16547" y="8"/>
                    </a:lnTo>
                    <a:cubicBezTo>
                      <a:pt x="16546" y="8"/>
                      <a:pt x="16545" y="7"/>
                      <a:pt x="16545" y="6"/>
                    </a:cubicBezTo>
                    <a:cubicBezTo>
                      <a:pt x="16545" y="5"/>
                      <a:pt x="16546" y="4"/>
                      <a:pt x="16547" y="4"/>
                    </a:cubicBezTo>
                    <a:close/>
                    <a:moveTo>
                      <a:pt x="16555" y="4"/>
                    </a:moveTo>
                    <a:lnTo>
                      <a:pt x="16555" y="4"/>
                    </a:lnTo>
                    <a:cubicBezTo>
                      <a:pt x="16556" y="4"/>
                      <a:pt x="16557" y="5"/>
                      <a:pt x="16557" y="6"/>
                    </a:cubicBezTo>
                    <a:cubicBezTo>
                      <a:pt x="16557" y="7"/>
                      <a:pt x="16556" y="8"/>
                      <a:pt x="16555" y="8"/>
                    </a:cubicBezTo>
                    <a:lnTo>
                      <a:pt x="16555" y="8"/>
                    </a:lnTo>
                    <a:cubicBezTo>
                      <a:pt x="16554" y="8"/>
                      <a:pt x="16553" y="7"/>
                      <a:pt x="16553" y="6"/>
                    </a:cubicBezTo>
                    <a:cubicBezTo>
                      <a:pt x="16553" y="5"/>
                      <a:pt x="16554" y="4"/>
                      <a:pt x="16555" y="4"/>
                    </a:cubicBezTo>
                    <a:close/>
                    <a:moveTo>
                      <a:pt x="16563" y="4"/>
                    </a:moveTo>
                    <a:lnTo>
                      <a:pt x="16563" y="4"/>
                    </a:lnTo>
                    <a:cubicBezTo>
                      <a:pt x="16564" y="4"/>
                      <a:pt x="16565" y="5"/>
                      <a:pt x="16565" y="6"/>
                    </a:cubicBezTo>
                    <a:cubicBezTo>
                      <a:pt x="16565" y="7"/>
                      <a:pt x="16564" y="8"/>
                      <a:pt x="16563" y="8"/>
                    </a:cubicBezTo>
                    <a:lnTo>
                      <a:pt x="16563" y="8"/>
                    </a:lnTo>
                    <a:cubicBezTo>
                      <a:pt x="16562" y="8"/>
                      <a:pt x="16561" y="7"/>
                      <a:pt x="16561" y="6"/>
                    </a:cubicBezTo>
                    <a:cubicBezTo>
                      <a:pt x="16561" y="5"/>
                      <a:pt x="16562" y="4"/>
                      <a:pt x="16563" y="4"/>
                    </a:cubicBezTo>
                    <a:close/>
                    <a:moveTo>
                      <a:pt x="16571" y="4"/>
                    </a:moveTo>
                    <a:lnTo>
                      <a:pt x="16571" y="4"/>
                    </a:lnTo>
                    <a:cubicBezTo>
                      <a:pt x="16572" y="4"/>
                      <a:pt x="16573" y="5"/>
                      <a:pt x="16573" y="6"/>
                    </a:cubicBezTo>
                    <a:cubicBezTo>
                      <a:pt x="16573" y="7"/>
                      <a:pt x="16572" y="8"/>
                      <a:pt x="16571" y="8"/>
                    </a:cubicBezTo>
                    <a:lnTo>
                      <a:pt x="16571" y="8"/>
                    </a:lnTo>
                    <a:cubicBezTo>
                      <a:pt x="16570" y="8"/>
                      <a:pt x="16569" y="7"/>
                      <a:pt x="16569" y="6"/>
                    </a:cubicBezTo>
                    <a:cubicBezTo>
                      <a:pt x="16569" y="5"/>
                      <a:pt x="16570" y="4"/>
                      <a:pt x="16571" y="4"/>
                    </a:cubicBezTo>
                    <a:close/>
                    <a:moveTo>
                      <a:pt x="16579" y="4"/>
                    </a:moveTo>
                    <a:lnTo>
                      <a:pt x="16579" y="4"/>
                    </a:lnTo>
                    <a:cubicBezTo>
                      <a:pt x="16580" y="4"/>
                      <a:pt x="16581" y="5"/>
                      <a:pt x="16581" y="6"/>
                    </a:cubicBezTo>
                    <a:cubicBezTo>
                      <a:pt x="16581" y="7"/>
                      <a:pt x="16580" y="8"/>
                      <a:pt x="16579" y="8"/>
                    </a:cubicBezTo>
                    <a:lnTo>
                      <a:pt x="16579" y="8"/>
                    </a:lnTo>
                    <a:cubicBezTo>
                      <a:pt x="16578" y="8"/>
                      <a:pt x="16577" y="7"/>
                      <a:pt x="16577" y="6"/>
                    </a:cubicBezTo>
                    <a:cubicBezTo>
                      <a:pt x="16577" y="5"/>
                      <a:pt x="16578" y="4"/>
                      <a:pt x="16579" y="4"/>
                    </a:cubicBezTo>
                    <a:close/>
                    <a:moveTo>
                      <a:pt x="16587" y="4"/>
                    </a:moveTo>
                    <a:lnTo>
                      <a:pt x="16587" y="4"/>
                    </a:lnTo>
                    <a:cubicBezTo>
                      <a:pt x="16588" y="4"/>
                      <a:pt x="16589" y="5"/>
                      <a:pt x="16589" y="6"/>
                    </a:cubicBezTo>
                    <a:cubicBezTo>
                      <a:pt x="16589" y="7"/>
                      <a:pt x="16588" y="8"/>
                      <a:pt x="16587" y="8"/>
                    </a:cubicBezTo>
                    <a:lnTo>
                      <a:pt x="16587" y="8"/>
                    </a:lnTo>
                    <a:cubicBezTo>
                      <a:pt x="16586" y="8"/>
                      <a:pt x="16585" y="7"/>
                      <a:pt x="16585" y="6"/>
                    </a:cubicBezTo>
                    <a:cubicBezTo>
                      <a:pt x="16585" y="5"/>
                      <a:pt x="16586" y="4"/>
                      <a:pt x="16587" y="4"/>
                    </a:cubicBezTo>
                    <a:close/>
                    <a:moveTo>
                      <a:pt x="16595" y="4"/>
                    </a:moveTo>
                    <a:lnTo>
                      <a:pt x="16595" y="4"/>
                    </a:lnTo>
                    <a:cubicBezTo>
                      <a:pt x="16596" y="4"/>
                      <a:pt x="16597" y="5"/>
                      <a:pt x="16597" y="6"/>
                    </a:cubicBezTo>
                    <a:cubicBezTo>
                      <a:pt x="16597" y="7"/>
                      <a:pt x="16596" y="8"/>
                      <a:pt x="16595" y="8"/>
                    </a:cubicBezTo>
                    <a:lnTo>
                      <a:pt x="16595" y="8"/>
                    </a:lnTo>
                    <a:cubicBezTo>
                      <a:pt x="16594" y="8"/>
                      <a:pt x="16593" y="7"/>
                      <a:pt x="16593" y="6"/>
                    </a:cubicBezTo>
                    <a:cubicBezTo>
                      <a:pt x="16593" y="5"/>
                      <a:pt x="16594" y="4"/>
                      <a:pt x="16595" y="4"/>
                    </a:cubicBezTo>
                    <a:close/>
                    <a:moveTo>
                      <a:pt x="16603" y="4"/>
                    </a:moveTo>
                    <a:lnTo>
                      <a:pt x="16603" y="4"/>
                    </a:lnTo>
                    <a:cubicBezTo>
                      <a:pt x="16604" y="4"/>
                      <a:pt x="16605" y="5"/>
                      <a:pt x="16605" y="6"/>
                    </a:cubicBezTo>
                    <a:cubicBezTo>
                      <a:pt x="16605" y="7"/>
                      <a:pt x="16604" y="8"/>
                      <a:pt x="16603" y="8"/>
                    </a:cubicBezTo>
                    <a:lnTo>
                      <a:pt x="16603" y="8"/>
                    </a:lnTo>
                    <a:cubicBezTo>
                      <a:pt x="16602" y="8"/>
                      <a:pt x="16601" y="7"/>
                      <a:pt x="16601" y="6"/>
                    </a:cubicBezTo>
                    <a:cubicBezTo>
                      <a:pt x="16601" y="5"/>
                      <a:pt x="16602" y="4"/>
                      <a:pt x="16603" y="4"/>
                    </a:cubicBezTo>
                    <a:close/>
                    <a:moveTo>
                      <a:pt x="16611" y="4"/>
                    </a:moveTo>
                    <a:lnTo>
                      <a:pt x="16611" y="4"/>
                    </a:lnTo>
                    <a:cubicBezTo>
                      <a:pt x="16612" y="4"/>
                      <a:pt x="16613" y="5"/>
                      <a:pt x="16613" y="6"/>
                    </a:cubicBezTo>
                    <a:cubicBezTo>
                      <a:pt x="16613" y="7"/>
                      <a:pt x="16612" y="8"/>
                      <a:pt x="16611" y="8"/>
                    </a:cubicBezTo>
                    <a:lnTo>
                      <a:pt x="16611" y="8"/>
                    </a:lnTo>
                    <a:cubicBezTo>
                      <a:pt x="16610" y="8"/>
                      <a:pt x="16609" y="7"/>
                      <a:pt x="16609" y="6"/>
                    </a:cubicBezTo>
                    <a:cubicBezTo>
                      <a:pt x="16609" y="5"/>
                      <a:pt x="16610" y="4"/>
                      <a:pt x="16611" y="4"/>
                    </a:cubicBezTo>
                    <a:close/>
                    <a:moveTo>
                      <a:pt x="16619" y="4"/>
                    </a:moveTo>
                    <a:lnTo>
                      <a:pt x="16619" y="4"/>
                    </a:lnTo>
                    <a:cubicBezTo>
                      <a:pt x="16620" y="4"/>
                      <a:pt x="16621" y="5"/>
                      <a:pt x="16621" y="6"/>
                    </a:cubicBezTo>
                    <a:cubicBezTo>
                      <a:pt x="16621" y="7"/>
                      <a:pt x="16620" y="8"/>
                      <a:pt x="16619" y="8"/>
                    </a:cubicBezTo>
                    <a:lnTo>
                      <a:pt x="16619" y="8"/>
                    </a:lnTo>
                    <a:cubicBezTo>
                      <a:pt x="16618" y="8"/>
                      <a:pt x="16617" y="7"/>
                      <a:pt x="16617" y="6"/>
                    </a:cubicBezTo>
                    <a:cubicBezTo>
                      <a:pt x="16617" y="5"/>
                      <a:pt x="16618" y="4"/>
                      <a:pt x="16619" y="4"/>
                    </a:cubicBezTo>
                    <a:close/>
                    <a:moveTo>
                      <a:pt x="16627" y="4"/>
                    </a:moveTo>
                    <a:lnTo>
                      <a:pt x="16627" y="4"/>
                    </a:lnTo>
                    <a:cubicBezTo>
                      <a:pt x="16628" y="4"/>
                      <a:pt x="16629" y="5"/>
                      <a:pt x="16629" y="6"/>
                    </a:cubicBezTo>
                    <a:cubicBezTo>
                      <a:pt x="16629" y="7"/>
                      <a:pt x="16628" y="8"/>
                      <a:pt x="16627" y="8"/>
                    </a:cubicBezTo>
                    <a:lnTo>
                      <a:pt x="16627" y="8"/>
                    </a:lnTo>
                    <a:cubicBezTo>
                      <a:pt x="16626" y="8"/>
                      <a:pt x="16625" y="7"/>
                      <a:pt x="16625" y="6"/>
                    </a:cubicBezTo>
                    <a:cubicBezTo>
                      <a:pt x="16625" y="5"/>
                      <a:pt x="16626" y="4"/>
                      <a:pt x="16627" y="4"/>
                    </a:cubicBezTo>
                    <a:close/>
                    <a:moveTo>
                      <a:pt x="16635" y="4"/>
                    </a:moveTo>
                    <a:lnTo>
                      <a:pt x="16635" y="4"/>
                    </a:lnTo>
                    <a:cubicBezTo>
                      <a:pt x="16636" y="4"/>
                      <a:pt x="16637" y="5"/>
                      <a:pt x="16637" y="6"/>
                    </a:cubicBezTo>
                    <a:cubicBezTo>
                      <a:pt x="16637" y="7"/>
                      <a:pt x="16636" y="8"/>
                      <a:pt x="16635" y="8"/>
                    </a:cubicBezTo>
                    <a:lnTo>
                      <a:pt x="16635" y="8"/>
                    </a:lnTo>
                    <a:cubicBezTo>
                      <a:pt x="16634" y="8"/>
                      <a:pt x="16633" y="7"/>
                      <a:pt x="16633" y="6"/>
                    </a:cubicBezTo>
                    <a:cubicBezTo>
                      <a:pt x="16633" y="5"/>
                      <a:pt x="16634" y="4"/>
                      <a:pt x="16635" y="4"/>
                    </a:cubicBezTo>
                    <a:close/>
                    <a:moveTo>
                      <a:pt x="16643" y="4"/>
                    </a:moveTo>
                    <a:lnTo>
                      <a:pt x="16643" y="4"/>
                    </a:lnTo>
                    <a:cubicBezTo>
                      <a:pt x="16644" y="4"/>
                      <a:pt x="16645" y="5"/>
                      <a:pt x="16645" y="6"/>
                    </a:cubicBezTo>
                    <a:cubicBezTo>
                      <a:pt x="16645" y="7"/>
                      <a:pt x="16644" y="8"/>
                      <a:pt x="16643" y="8"/>
                    </a:cubicBezTo>
                    <a:lnTo>
                      <a:pt x="16643" y="8"/>
                    </a:lnTo>
                    <a:cubicBezTo>
                      <a:pt x="16642" y="8"/>
                      <a:pt x="16641" y="7"/>
                      <a:pt x="16641" y="6"/>
                    </a:cubicBezTo>
                    <a:cubicBezTo>
                      <a:pt x="16641" y="5"/>
                      <a:pt x="16642" y="4"/>
                      <a:pt x="16643" y="4"/>
                    </a:cubicBezTo>
                    <a:close/>
                    <a:moveTo>
                      <a:pt x="16651" y="4"/>
                    </a:moveTo>
                    <a:lnTo>
                      <a:pt x="16651" y="4"/>
                    </a:lnTo>
                    <a:cubicBezTo>
                      <a:pt x="16652" y="4"/>
                      <a:pt x="16653" y="5"/>
                      <a:pt x="16653" y="6"/>
                    </a:cubicBezTo>
                    <a:cubicBezTo>
                      <a:pt x="16653" y="7"/>
                      <a:pt x="16652" y="8"/>
                      <a:pt x="16651" y="8"/>
                    </a:cubicBezTo>
                    <a:lnTo>
                      <a:pt x="16651" y="8"/>
                    </a:lnTo>
                    <a:cubicBezTo>
                      <a:pt x="16650" y="8"/>
                      <a:pt x="16649" y="7"/>
                      <a:pt x="16649" y="6"/>
                    </a:cubicBezTo>
                    <a:cubicBezTo>
                      <a:pt x="16649" y="5"/>
                      <a:pt x="16650" y="4"/>
                      <a:pt x="16651" y="4"/>
                    </a:cubicBezTo>
                    <a:close/>
                    <a:moveTo>
                      <a:pt x="16659" y="4"/>
                    </a:moveTo>
                    <a:lnTo>
                      <a:pt x="16659" y="4"/>
                    </a:lnTo>
                    <a:cubicBezTo>
                      <a:pt x="16660" y="4"/>
                      <a:pt x="16661" y="5"/>
                      <a:pt x="16661" y="6"/>
                    </a:cubicBezTo>
                    <a:cubicBezTo>
                      <a:pt x="16661" y="7"/>
                      <a:pt x="16660" y="8"/>
                      <a:pt x="16659" y="8"/>
                    </a:cubicBezTo>
                    <a:lnTo>
                      <a:pt x="16659" y="8"/>
                    </a:lnTo>
                    <a:cubicBezTo>
                      <a:pt x="16658" y="8"/>
                      <a:pt x="16657" y="7"/>
                      <a:pt x="16657" y="6"/>
                    </a:cubicBezTo>
                    <a:cubicBezTo>
                      <a:pt x="16657" y="5"/>
                      <a:pt x="16658" y="4"/>
                      <a:pt x="16659" y="4"/>
                    </a:cubicBezTo>
                    <a:close/>
                    <a:moveTo>
                      <a:pt x="16667" y="4"/>
                    </a:moveTo>
                    <a:lnTo>
                      <a:pt x="16667" y="4"/>
                    </a:lnTo>
                    <a:cubicBezTo>
                      <a:pt x="16668" y="4"/>
                      <a:pt x="16669" y="5"/>
                      <a:pt x="16669" y="6"/>
                    </a:cubicBezTo>
                    <a:cubicBezTo>
                      <a:pt x="16669" y="7"/>
                      <a:pt x="16668" y="8"/>
                      <a:pt x="16667" y="8"/>
                    </a:cubicBezTo>
                    <a:lnTo>
                      <a:pt x="16667" y="8"/>
                    </a:lnTo>
                    <a:cubicBezTo>
                      <a:pt x="16666" y="8"/>
                      <a:pt x="16665" y="7"/>
                      <a:pt x="16665" y="6"/>
                    </a:cubicBezTo>
                    <a:cubicBezTo>
                      <a:pt x="16665" y="5"/>
                      <a:pt x="16666" y="4"/>
                      <a:pt x="16667" y="4"/>
                    </a:cubicBezTo>
                    <a:close/>
                    <a:moveTo>
                      <a:pt x="16675" y="4"/>
                    </a:moveTo>
                    <a:lnTo>
                      <a:pt x="16675" y="4"/>
                    </a:lnTo>
                    <a:cubicBezTo>
                      <a:pt x="16676" y="4"/>
                      <a:pt x="16677" y="5"/>
                      <a:pt x="16677" y="6"/>
                    </a:cubicBezTo>
                    <a:cubicBezTo>
                      <a:pt x="16677" y="7"/>
                      <a:pt x="16676" y="8"/>
                      <a:pt x="16675" y="8"/>
                    </a:cubicBezTo>
                    <a:lnTo>
                      <a:pt x="16675" y="8"/>
                    </a:lnTo>
                    <a:cubicBezTo>
                      <a:pt x="16674" y="8"/>
                      <a:pt x="16673" y="7"/>
                      <a:pt x="16673" y="6"/>
                    </a:cubicBezTo>
                    <a:cubicBezTo>
                      <a:pt x="16673" y="5"/>
                      <a:pt x="16674" y="4"/>
                      <a:pt x="16675" y="4"/>
                    </a:cubicBezTo>
                    <a:close/>
                    <a:moveTo>
                      <a:pt x="16683" y="4"/>
                    </a:moveTo>
                    <a:lnTo>
                      <a:pt x="16683" y="4"/>
                    </a:lnTo>
                    <a:cubicBezTo>
                      <a:pt x="16684" y="4"/>
                      <a:pt x="16685" y="5"/>
                      <a:pt x="16685" y="6"/>
                    </a:cubicBezTo>
                    <a:cubicBezTo>
                      <a:pt x="16685" y="7"/>
                      <a:pt x="16684" y="8"/>
                      <a:pt x="16683" y="8"/>
                    </a:cubicBezTo>
                    <a:lnTo>
                      <a:pt x="16683" y="8"/>
                    </a:lnTo>
                    <a:cubicBezTo>
                      <a:pt x="16682" y="8"/>
                      <a:pt x="16681" y="7"/>
                      <a:pt x="16681" y="6"/>
                    </a:cubicBezTo>
                    <a:cubicBezTo>
                      <a:pt x="16681" y="5"/>
                      <a:pt x="16682" y="4"/>
                      <a:pt x="16683" y="4"/>
                    </a:cubicBezTo>
                    <a:close/>
                    <a:moveTo>
                      <a:pt x="16691" y="4"/>
                    </a:moveTo>
                    <a:lnTo>
                      <a:pt x="16691" y="4"/>
                    </a:lnTo>
                    <a:cubicBezTo>
                      <a:pt x="16692" y="4"/>
                      <a:pt x="16693" y="5"/>
                      <a:pt x="16693" y="6"/>
                    </a:cubicBezTo>
                    <a:cubicBezTo>
                      <a:pt x="16693" y="7"/>
                      <a:pt x="16692" y="8"/>
                      <a:pt x="16691" y="8"/>
                    </a:cubicBezTo>
                    <a:lnTo>
                      <a:pt x="16691" y="8"/>
                    </a:lnTo>
                    <a:cubicBezTo>
                      <a:pt x="16690" y="8"/>
                      <a:pt x="16689" y="7"/>
                      <a:pt x="16689" y="6"/>
                    </a:cubicBezTo>
                    <a:cubicBezTo>
                      <a:pt x="16689" y="5"/>
                      <a:pt x="16690" y="4"/>
                      <a:pt x="16691" y="4"/>
                    </a:cubicBezTo>
                    <a:close/>
                    <a:moveTo>
                      <a:pt x="16699" y="4"/>
                    </a:moveTo>
                    <a:lnTo>
                      <a:pt x="16699" y="4"/>
                    </a:lnTo>
                    <a:cubicBezTo>
                      <a:pt x="16700" y="4"/>
                      <a:pt x="16701" y="5"/>
                      <a:pt x="16701" y="6"/>
                    </a:cubicBezTo>
                    <a:cubicBezTo>
                      <a:pt x="16701" y="7"/>
                      <a:pt x="16700" y="8"/>
                      <a:pt x="16699" y="8"/>
                    </a:cubicBezTo>
                    <a:lnTo>
                      <a:pt x="16699" y="8"/>
                    </a:lnTo>
                    <a:cubicBezTo>
                      <a:pt x="16698" y="8"/>
                      <a:pt x="16697" y="7"/>
                      <a:pt x="16697" y="6"/>
                    </a:cubicBezTo>
                    <a:cubicBezTo>
                      <a:pt x="16697" y="5"/>
                      <a:pt x="16698" y="4"/>
                      <a:pt x="16699" y="4"/>
                    </a:cubicBezTo>
                    <a:close/>
                    <a:moveTo>
                      <a:pt x="16707" y="4"/>
                    </a:moveTo>
                    <a:lnTo>
                      <a:pt x="16707" y="4"/>
                    </a:lnTo>
                    <a:cubicBezTo>
                      <a:pt x="16708" y="4"/>
                      <a:pt x="16709" y="5"/>
                      <a:pt x="16709" y="6"/>
                    </a:cubicBezTo>
                    <a:cubicBezTo>
                      <a:pt x="16709" y="7"/>
                      <a:pt x="16708" y="8"/>
                      <a:pt x="16707" y="8"/>
                    </a:cubicBezTo>
                    <a:lnTo>
                      <a:pt x="16707" y="8"/>
                    </a:lnTo>
                    <a:cubicBezTo>
                      <a:pt x="16706" y="8"/>
                      <a:pt x="16705" y="7"/>
                      <a:pt x="16705" y="6"/>
                    </a:cubicBezTo>
                    <a:cubicBezTo>
                      <a:pt x="16705" y="5"/>
                      <a:pt x="16706" y="4"/>
                      <a:pt x="16707" y="4"/>
                    </a:cubicBezTo>
                    <a:close/>
                    <a:moveTo>
                      <a:pt x="16715" y="4"/>
                    </a:moveTo>
                    <a:lnTo>
                      <a:pt x="16715" y="4"/>
                    </a:lnTo>
                    <a:cubicBezTo>
                      <a:pt x="16716" y="4"/>
                      <a:pt x="16717" y="5"/>
                      <a:pt x="16717" y="6"/>
                    </a:cubicBezTo>
                    <a:cubicBezTo>
                      <a:pt x="16717" y="7"/>
                      <a:pt x="16716" y="8"/>
                      <a:pt x="16715" y="8"/>
                    </a:cubicBezTo>
                    <a:lnTo>
                      <a:pt x="16715" y="8"/>
                    </a:lnTo>
                    <a:cubicBezTo>
                      <a:pt x="16714" y="8"/>
                      <a:pt x="16713" y="7"/>
                      <a:pt x="16713" y="6"/>
                    </a:cubicBezTo>
                    <a:cubicBezTo>
                      <a:pt x="16713" y="5"/>
                      <a:pt x="16714" y="4"/>
                      <a:pt x="16715" y="4"/>
                    </a:cubicBezTo>
                    <a:close/>
                    <a:moveTo>
                      <a:pt x="16723" y="4"/>
                    </a:moveTo>
                    <a:lnTo>
                      <a:pt x="16723" y="4"/>
                    </a:lnTo>
                    <a:cubicBezTo>
                      <a:pt x="16724" y="4"/>
                      <a:pt x="16725" y="5"/>
                      <a:pt x="16725" y="6"/>
                    </a:cubicBezTo>
                    <a:cubicBezTo>
                      <a:pt x="16725" y="7"/>
                      <a:pt x="16724" y="8"/>
                      <a:pt x="16723" y="8"/>
                    </a:cubicBezTo>
                    <a:lnTo>
                      <a:pt x="16723" y="8"/>
                    </a:lnTo>
                    <a:cubicBezTo>
                      <a:pt x="16722" y="8"/>
                      <a:pt x="16721" y="7"/>
                      <a:pt x="16721" y="6"/>
                    </a:cubicBezTo>
                    <a:cubicBezTo>
                      <a:pt x="16721" y="5"/>
                      <a:pt x="16722" y="4"/>
                      <a:pt x="16723" y="4"/>
                    </a:cubicBezTo>
                    <a:close/>
                    <a:moveTo>
                      <a:pt x="16731" y="4"/>
                    </a:moveTo>
                    <a:lnTo>
                      <a:pt x="16731" y="4"/>
                    </a:lnTo>
                    <a:cubicBezTo>
                      <a:pt x="16732" y="4"/>
                      <a:pt x="16733" y="5"/>
                      <a:pt x="16733" y="6"/>
                    </a:cubicBezTo>
                    <a:cubicBezTo>
                      <a:pt x="16733" y="7"/>
                      <a:pt x="16732" y="8"/>
                      <a:pt x="16731" y="8"/>
                    </a:cubicBezTo>
                    <a:lnTo>
                      <a:pt x="16731" y="8"/>
                    </a:lnTo>
                    <a:cubicBezTo>
                      <a:pt x="16730" y="8"/>
                      <a:pt x="16729" y="7"/>
                      <a:pt x="16729" y="6"/>
                    </a:cubicBezTo>
                    <a:cubicBezTo>
                      <a:pt x="16729" y="5"/>
                      <a:pt x="16730" y="4"/>
                      <a:pt x="16731" y="4"/>
                    </a:cubicBezTo>
                    <a:close/>
                    <a:moveTo>
                      <a:pt x="16739" y="4"/>
                    </a:moveTo>
                    <a:lnTo>
                      <a:pt x="16739" y="4"/>
                    </a:lnTo>
                    <a:cubicBezTo>
                      <a:pt x="16740" y="4"/>
                      <a:pt x="16741" y="5"/>
                      <a:pt x="16741" y="6"/>
                    </a:cubicBezTo>
                    <a:cubicBezTo>
                      <a:pt x="16741" y="7"/>
                      <a:pt x="16740" y="8"/>
                      <a:pt x="16739" y="8"/>
                    </a:cubicBezTo>
                    <a:lnTo>
                      <a:pt x="16739" y="8"/>
                    </a:lnTo>
                    <a:cubicBezTo>
                      <a:pt x="16738" y="8"/>
                      <a:pt x="16737" y="7"/>
                      <a:pt x="16737" y="6"/>
                    </a:cubicBezTo>
                    <a:cubicBezTo>
                      <a:pt x="16737" y="5"/>
                      <a:pt x="16738" y="4"/>
                      <a:pt x="16739" y="4"/>
                    </a:cubicBezTo>
                    <a:close/>
                    <a:moveTo>
                      <a:pt x="16747" y="4"/>
                    </a:moveTo>
                    <a:lnTo>
                      <a:pt x="16747" y="4"/>
                    </a:lnTo>
                    <a:cubicBezTo>
                      <a:pt x="16748" y="4"/>
                      <a:pt x="16749" y="5"/>
                      <a:pt x="16749" y="6"/>
                    </a:cubicBezTo>
                    <a:cubicBezTo>
                      <a:pt x="16749" y="7"/>
                      <a:pt x="16748" y="8"/>
                      <a:pt x="16747" y="8"/>
                    </a:cubicBezTo>
                    <a:lnTo>
                      <a:pt x="16747" y="8"/>
                    </a:lnTo>
                    <a:cubicBezTo>
                      <a:pt x="16746" y="8"/>
                      <a:pt x="16745" y="7"/>
                      <a:pt x="16745" y="6"/>
                    </a:cubicBezTo>
                    <a:cubicBezTo>
                      <a:pt x="16745" y="5"/>
                      <a:pt x="16746" y="4"/>
                      <a:pt x="16747" y="4"/>
                    </a:cubicBezTo>
                    <a:close/>
                    <a:moveTo>
                      <a:pt x="16755" y="4"/>
                    </a:moveTo>
                    <a:lnTo>
                      <a:pt x="16755" y="4"/>
                    </a:lnTo>
                    <a:cubicBezTo>
                      <a:pt x="16756" y="4"/>
                      <a:pt x="16757" y="5"/>
                      <a:pt x="16757" y="6"/>
                    </a:cubicBezTo>
                    <a:cubicBezTo>
                      <a:pt x="16757" y="7"/>
                      <a:pt x="16756" y="8"/>
                      <a:pt x="16755" y="8"/>
                    </a:cubicBezTo>
                    <a:lnTo>
                      <a:pt x="16755" y="8"/>
                    </a:lnTo>
                    <a:cubicBezTo>
                      <a:pt x="16754" y="8"/>
                      <a:pt x="16753" y="7"/>
                      <a:pt x="16753" y="6"/>
                    </a:cubicBezTo>
                    <a:cubicBezTo>
                      <a:pt x="16753" y="5"/>
                      <a:pt x="16754" y="4"/>
                      <a:pt x="16755" y="4"/>
                    </a:cubicBezTo>
                    <a:close/>
                    <a:moveTo>
                      <a:pt x="16763" y="4"/>
                    </a:moveTo>
                    <a:lnTo>
                      <a:pt x="16763" y="4"/>
                    </a:lnTo>
                    <a:cubicBezTo>
                      <a:pt x="16764" y="4"/>
                      <a:pt x="16765" y="5"/>
                      <a:pt x="16765" y="6"/>
                    </a:cubicBezTo>
                    <a:cubicBezTo>
                      <a:pt x="16765" y="7"/>
                      <a:pt x="16764" y="8"/>
                      <a:pt x="16763" y="8"/>
                    </a:cubicBezTo>
                    <a:lnTo>
                      <a:pt x="16763" y="8"/>
                    </a:lnTo>
                    <a:cubicBezTo>
                      <a:pt x="16762" y="8"/>
                      <a:pt x="16761" y="7"/>
                      <a:pt x="16761" y="6"/>
                    </a:cubicBezTo>
                    <a:cubicBezTo>
                      <a:pt x="16761" y="5"/>
                      <a:pt x="16762" y="4"/>
                      <a:pt x="16763" y="4"/>
                    </a:cubicBezTo>
                    <a:close/>
                    <a:moveTo>
                      <a:pt x="16771" y="4"/>
                    </a:moveTo>
                    <a:lnTo>
                      <a:pt x="16771" y="4"/>
                    </a:lnTo>
                    <a:cubicBezTo>
                      <a:pt x="16772" y="4"/>
                      <a:pt x="16773" y="5"/>
                      <a:pt x="16773" y="6"/>
                    </a:cubicBezTo>
                    <a:cubicBezTo>
                      <a:pt x="16773" y="7"/>
                      <a:pt x="16772" y="8"/>
                      <a:pt x="16771" y="8"/>
                    </a:cubicBezTo>
                    <a:lnTo>
                      <a:pt x="16771" y="8"/>
                    </a:lnTo>
                    <a:cubicBezTo>
                      <a:pt x="16770" y="8"/>
                      <a:pt x="16769" y="7"/>
                      <a:pt x="16769" y="6"/>
                    </a:cubicBezTo>
                    <a:cubicBezTo>
                      <a:pt x="16769" y="5"/>
                      <a:pt x="16770" y="4"/>
                      <a:pt x="16771" y="4"/>
                    </a:cubicBezTo>
                    <a:close/>
                    <a:moveTo>
                      <a:pt x="16779" y="4"/>
                    </a:moveTo>
                    <a:lnTo>
                      <a:pt x="16779" y="4"/>
                    </a:lnTo>
                    <a:cubicBezTo>
                      <a:pt x="16780" y="4"/>
                      <a:pt x="16781" y="5"/>
                      <a:pt x="16781" y="6"/>
                    </a:cubicBezTo>
                    <a:cubicBezTo>
                      <a:pt x="16781" y="7"/>
                      <a:pt x="16780" y="8"/>
                      <a:pt x="16779" y="8"/>
                    </a:cubicBezTo>
                    <a:lnTo>
                      <a:pt x="16779" y="8"/>
                    </a:lnTo>
                    <a:cubicBezTo>
                      <a:pt x="16778" y="8"/>
                      <a:pt x="16777" y="7"/>
                      <a:pt x="16777" y="6"/>
                    </a:cubicBezTo>
                    <a:cubicBezTo>
                      <a:pt x="16777" y="5"/>
                      <a:pt x="16778" y="4"/>
                      <a:pt x="16779" y="4"/>
                    </a:cubicBezTo>
                    <a:close/>
                    <a:moveTo>
                      <a:pt x="16787" y="4"/>
                    </a:moveTo>
                    <a:lnTo>
                      <a:pt x="16787" y="4"/>
                    </a:lnTo>
                    <a:cubicBezTo>
                      <a:pt x="16788" y="4"/>
                      <a:pt x="16789" y="5"/>
                      <a:pt x="16789" y="6"/>
                    </a:cubicBezTo>
                    <a:cubicBezTo>
                      <a:pt x="16789" y="7"/>
                      <a:pt x="16788" y="8"/>
                      <a:pt x="16787" y="8"/>
                    </a:cubicBezTo>
                    <a:lnTo>
                      <a:pt x="16787" y="8"/>
                    </a:lnTo>
                    <a:cubicBezTo>
                      <a:pt x="16786" y="8"/>
                      <a:pt x="16785" y="7"/>
                      <a:pt x="16785" y="6"/>
                    </a:cubicBezTo>
                    <a:cubicBezTo>
                      <a:pt x="16785" y="5"/>
                      <a:pt x="16786" y="4"/>
                      <a:pt x="16787" y="4"/>
                    </a:cubicBezTo>
                    <a:close/>
                    <a:moveTo>
                      <a:pt x="16795" y="4"/>
                    </a:moveTo>
                    <a:lnTo>
                      <a:pt x="16795" y="4"/>
                    </a:lnTo>
                    <a:cubicBezTo>
                      <a:pt x="16796" y="4"/>
                      <a:pt x="16797" y="5"/>
                      <a:pt x="16797" y="6"/>
                    </a:cubicBezTo>
                    <a:cubicBezTo>
                      <a:pt x="16797" y="7"/>
                      <a:pt x="16796" y="8"/>
                      <a:pt x="16795" y="8"/>
                    </a:cubicBezTo>
                    <a:lnTo>
                      <a:pt x="16795" y="8"/>
                    </a:lnTo>
                    <a:cubicBezTo>
                      <a:pt x="16794" y="8"/>
                      <a:pt x="16793" y="7"/>
                      <a:pt x="16793" y="6"/>
                    </a:cubicBezTo>
                    <a:cubicBezTo>
                      <a:pt x="16793" y="5"/>
                      <a:pt x="16794" y="4"/>
                      <a:pt x="16795" y="4"/>
                    </a:cubicBezTo>
                    <a:close/>
                    <a:moveTo>
                      <a:pt x="16803" y="4"/>
                    </a:moveTo>
                    <a:lnTo>
                      <a:pt x="16803" y="4"/>
                    </a:lnTo>
                    <a:cubicBezTo>
                      <a:pt x="16804" y="4"/>
                      <a:pt x="16805" y="5"/>
                      <a:pt x="16805" y="6"/>
                    </a:cubicBezTo>
                    <a:cubicBezTo>
                      <a:pt x="16805" y="7"/>
                      <a:pt x="16804" y="8"/>
                      <a:pt x="16803" y="8"/>
                    </a:cubicBezTo>
                    <a:lnTo>
                      <a:pt x="16803" y="8"/>
                    </a:lnTo>
                    <a:cubicBezTo>
                      <a:pt x="16802" y="8"/>
                      <a:pt x="16801" y="7"/>
                      <a:pt x="16801" y="6"/>
                    </a:cubicBezTo>
                    <a:cubicBezTo>
                      <a:pt x="16801" y="5"/>
                      <a:pt x="16802" y="4"/>
                      <a:pt x="16803" y="4"/>
                    </a:cubicBezTo>
                    <a:close/>
                    <a:moveTo>
                      <a:pt x="16811" y="4"/>
                    </a:moveTo>
                    <a:lnTo>
                      <a:pt x="16811" y="4"/>
                    </a:lnTo>
                    <a:cubicBezTo>
                      <a:pt x="16812" y="4"/>
                      <a:pt x="16813" y="5"/>
                      <a:pt x="16813" y="6"/>
                    </a:cubicBezTo>
                    <a:cubicBezTo>
                      <a:pt x="16813" y="7"/>
                      <a:pt x="16812" y="8"/>
                      <a:pt x="16811" y="8"/>
                    </a:cubicBezTo>
                    <a:lnTo>
                      <a:pt x="16811" y="8"/>
                    </a:lnTo>
                    <a:cubicBezTo>
                      <a:pt x="16810" y="8"/>
                      <a:pt x="16809" y="7"/>
                      <a:pt x="16809" y="6"/>
                    </a:cubicBezTo>
                    <a:cubicBezTo>
                      <a:pt x="16809" y="5"/>
                      <a:pt x="16810" y="4"/>
                      <a:pt x="16811" y="4"/>
                    </a:cubicBezTo>
                    <a:close/>
                    <a:moveTo>
                      <a:pt x="16819" y="4"/>
                    </a:moveTo>
                    <a:lnTo>
                      <a:pt x="16819" y="4"/>
                    </a:lnTo>
                    <a:cubicBezTo>
                      <a:pt x="16820" y="4"/>
                      <a:pt x="16821" y="5"/>
                      <a:pt x="16821" y="6"/>
                    </a:cubicBezTo>
                    <a:cubicBezTo>
                      <a:pt x="16821" y="7"/>
                      <a:pt x="16820" y="8"/>
                      <a:pt x="16819" y="8"/>
                    </a:cubicBezTo>
                    <a:lnTo>
                      <a:pt x="16819" y="8"/>
                    </a:lnTo>
                    <a:cubicBezTo>
                      <a:pt x="16818" y="8"/>
                      <a:pt x="16817" y="7"/>
                      <a:pt x="16817" y="6"/>
                    </a:cubicBezTo>
                    <a:cubicBezTo>
                      <a:pt x="16817" y="5"/>
                      <a:pt x="16818" y="4"/>
                      <a:pt x="16819" y="4"/>
                    </a:cubicBezTo>
                    <a:close/>
                    <a:moveTo>
                      <a:pt x="16827" y="4"/>
                    </a:moveTo>
                    <a:lnTo>
                      <a:pt x="16827" y="4"/>
                    </a:lnTo>
                    <a:cubicBezTo>
                      <a:pt x="16828" y="4"/>
                      <a:pt x="16829" y="5"/>
                      <a:pt x="16829" y="6"/>
                    </a:cubicBezTo>
                    <a:cubicBezTo>
                      <a:pt x="16829" y="7"/>
                      <a:pt x="16828" y="8"/>
                      <a:pt x="16827" y="8"/>
                    </a:cubicBezTo>
                    <a:lnTo>
                      <a:pt x="16827" y="8"/>
                    </a:lnTo>
                    <a:cubicBezTo>
                      <a:pt x="16826" y="8"/>
                      <a:pt x="16825" y="7"/>
                      <a:pt x="16825" y="6"/>
                    </a:cubicBezTo>
                    <a:cubicBezTo>
                      <a:pt x="16825" y="5"/>
                      <a:pt x="16826" y="4"/>
                      <a:pt x="16827" y="4"/>
                    </a:cubicBezTo>
                    <a:close/>
                    <a:moveTo>
                      <a:pt x="16835" y="4"/>
                    </a:moveTo>
                    <a:lnTo>
                      <a:pt x="16835" y="4"/>
                    </a:lnTo>
                    <a:cubicBezTo>
                      <a:pt x="16836" y="4"/>
                      <a:pt x="16837" y="5"/>
                      <a:pt x="16837" y="6"/>
                    </a:cubicBezTo>
                    <a:cubicBezTo>
                      <a:pt x="16837" y="7"/>
                      <a:pt x="16836" y="8"/>
                      <a:pt x="16835" y="8"/>
                    </a:cubicBezTo>
                    <a:lnTo>
                      <a:pt x="16835" y="8"/>
                    </a:lnTo>
                    <a:cubicBezTo>
                      <a:pt x="16834" y="8"/>
                      <a:pt x="16833" y="7"/>
                      <a:pt x="16833" y="6"/>
                    </a:cubicBezTo>
                    <a:cubicBezTo>
                      <a:pt x="16833" y="5"/>
                      <a:pt x="16834" y="4"/>
                      <a:pt x="16835" y="4"/>
                    </a:cubicBezTo>
                    <a:close/>
                    <a:moveTo>
                      <a:pt x="16843" y="4"/>
                    </a:moveTo>
                    <a:lnTo>
                      <a:pt x="16843" y="4"/>
                    </a:lnTo>
                    <a:cubicBezTo>
                      <a:pt x="16844" y="4"/>
                      <a:pt x="16845" y="5"/>
                      <a:pt x="16845" y="6"/>
                    </a:cubicBezTo>
                    <a:cubicBezTo>
                      <a:pt x="16845" y="7"/>
                      <a:pt x="16844" y="8"/>
                      <a:pt x="16843" y="8"/>
                    </a:cubicBezTo>
                    <a:lnTo>
                      <a:pt x="16843" y="8"/>
                    </a:lnTo>
                    <a:cubicBezTo>
                      <a:pt x="16842" y="8"/>
                      <a:pt x="16841" y="7"/>
                      <a:pt x="16841" y="6"/>
                    </a:cubicBezTo>
                    <a:cubicBezTo>
                      <a:pt x="16841" y="5"/>
                      <a:pt x="16842" y="4"/>
                      <a:pt x="16843" y="4"/>
                    </a:cubicBezTo>
                    <a:close/>
                    <a:moveTo>
                      <a:pt x="16851" y="4"/>
                    </a:moveTo>
                    <a:lnTo>
                      <a:pt x="16851" y="4"/>
                    </a:lnTo>
                    <a:cubicBezTo>
                      <a:pt x="16852" y="4"/>
                      <a:pt x="16853" y="5"/>
                      <a:pt x="16853" y="6"/>
                    </a:cubicBezTo>
                    <a:cubicBezTo>
                      <a:pt x="16853" y="7"/>
                      <a:pt x="16852" y="8"/>
                      <a:pt x="16851" y="8"/>
                    </a:cubicBezTo>
                    <a:lnTo>
                      <a:pt x="16851" y="8"/>
                    </a:lnTo>
                    <a:cubicBezTo>
                      <a:pt x="16850" y="8"/>
                      <a:pt x="16849" y="7"/>
                      <a:pt x="16849" y="6"/>
                    </a:cubicBezTo>
                    <a:cubicBezTo>
                      <a:pt x="16849" y="5"/>
                      <a:pt x="16850" y="4"/>
                      <a:pt x="16851" y="4"/>
                    </a:cubicBezTo>
                    <a:close/>
                    <a:moveTo>
                      <a:pt x="16859" y="4"/>
                    </a:moveTo>
                    <a:lnTo>
                      <a:pt x="16859" y="4"/>
                    </a:lnTo>
                    <a:cubicBezTo>
                      <a:pt x="16860" y="4"/>
                      <a:pt x="16861" y="5"/>
                      <a:pt x="16861" y="6"/>
                    </a:cubicBezTo>
                    <a:cubicBezTo>
                      <a:pt x="16861" y="7"/>
                      <a:pt x="16860" y="8"/>
                      <a:pt x="16859" y="8"/>
                    </a:cubicBezTo>
                    <a:lnTo>
                      <a:pt x="16859" y="8"/>
                    </a:lnTo>
                    <a:cubicBezTo>
                      <a:pt x="16858" y="8"/>
                      <a:pt x="16857" y="7"/>
                      <a:pt x="16857" y="6"/>
                    </a:cubicBezTo>
                    <a:cubicBezTo>
                      <a:pt x="16857" y="5"/>
                      <a:pt x="16858" y="4"/>
                      <a:pt x="16859" y="4"/>
                    </a:cubicBezTo>
                    <a:close/>
                    <a:moveTo>
                      <a:pt x="16867" y="4"/>
                    </a:moveTo>
                    <a:lnTo>
                      <a:pt x="16867" y="4"/>
                    </a:lnTo>
                    <a:cubicBezTo>
                      <a:pt x="16868" y="4"/>
                      <a:pt x="16869" y="5"/>
                      <a:pt x="16869" y="6"/>
                    </a:cubicBezTo>
                    <a:cubicBezTo>
                      <a:pt x="16869" y="7"/>
                      <a:pt x="16868" y="8"/>
                      <a:pt x="16867" y="8"/>
                    </a:cubicBezTo>
                    <a:lnTo>
                      <a:pt x="16867" y="8"/>
                    </a:lnTo>
                    <a:cubicBezTo>
                      <a:pt x="16866" y="8"/>
                      <a:pt x="16865" y="7"/>
                      <a:pt x="16865" y="6"/>
                    </a:cubicBezTo>
                    <a:cubicBezTo>
                      <a:pt x="16865" y="5"/>
                      <a:pt x="16866" y="4"/>
                      <a:pt x="16867" y="4"/>
                    </a:cubicBezTo>
                    <a:close/>
                    <a:moveTo>
                      <a:pt x="16875" y="4"/>
                    </a:moveTo>
                    <a:lnTo>
                      <a:pt x="16875" y="4"/>
                    </a:lnTo>
                    <a:cubicBezTo>
                      <a:pt x="16876" y="4"/>
                      <a:pt x="16877" y="5"/>
                      <a:pt x="16877" y="6"/>
                    </a:cubicBezTo>
                    <a:cubicBezTo>
                      <a:pt x="16877" y="7"/>
                      <a:pt x="16876" y="8"/>
                      <a:pt x="16875" y="8"/>
                    </a:cubicBezTo>
                    <a:lnTo>
                      <a:pt x="16875" y="8"/>
                    </a:lnTo>
                    <a:cubicBezTo>
                      <a:pt x="16874" y="8"/>
                      <a:pt x="16873" y="7"/>
                      <a:pt x="16873" y="6"/>
                    </a:cubicBezTo>
                    <a:cubicBezTo>
                      <a:pt x="16873" y="5"/>
                      <a:pt x="16874" y="4"/>
                      <a:pt x="16875" y="4"/>
                    </a:cubicBezTo>
                    <a:close/>
                    <a:moveTo>
                      <a:pt x="16883" y="4"/>
                    </a:moveTo>
                    <a:lnTo>
                      <a:pt x="16883" y="4"/>
                    </a:lnTo>
                    <a:cubicBezTo>
                      <a:pt x="16884" y="4"/>
                      <a:pt x="16885" y="5"/>
                      <a:pt x="16885" y="6"/>
                    </a:cubicBezTo>
                    <a:cubicBezTo>
                      <a:pt x="16885" y="7"/>
                      <a:pt x="16884" y="8"/>
                      <a:pt x="16883" y="8"/>
                    </a:cubicBezTo>
                    <a:lnTo>
                      <a:pt x="16883" y="8"/>
                    </a:lnTo>
                    <a:cubicBezTo>
                      <a:pt x="16882" y="8"/>
                      <a:pt x="16881" y="7"/>
                      <a:pt x="16881" y="6"/>
                    </a:cubicBezTo>
                    <a:cubicBezTo>
                      <a:pt x="16881" y="5"/>
                      <a:pt x="16882" y="4"/>
                      <a:pt x="16883" y="4"/>
                    </a:cubicBezTo>
                    <a:close/>
                    <a:moveTo>
                      <a:pt x="16891" y="4"/>
                    </a:moveTo>
                    <a:lnTo>
                      <a:pt x="16891" y="4"/>
                    </a:lnTo>
                    <a:cubicBezTo>
                      <a:pt x="16892" y="4"/>
                      <a:pt x="16893" y="5"/>
                      <a:pt x="16893" y="6"/>
                    </a:cubicBezTo>
                    <a:cubicBezTo>
                      <a:pt x="16893" y="7"/>
                      <a:pt x="16892" y="8"/>
                      <a:pt x="16891" y="8"/>
                    </a:cubicBezTo>
                    <a:lnTo>
                      <a:pt x="16891" y="8"/>
                    </a:lnTo>
                    <a:cubicBezTo>
                      <a:pt x="16890" y="8"/>
                      <a:pt x="16889" y="7"/>
                      <a:pt x="16889" y="6"/>
                    </a:cubicBezTo>
                    <a:cubicBezTo>
                      <a:pt x="16889" y="5"/>
                      <a:pt x="16890" y="4"/>
                      <a:pt x="16891" y="4"/>
                    </a:cubicBezTo>
                    <a:close/>
                    <a:moveTo>
                      <a:pt x="16899" y="4"/>
                    </a:moveTo>
                    <a:lnTo>
                      <a:pt x="16899" y="4"/>
                    </a:lnTo>
                    <a:cubicBezTo>
                      <a:pt x="16901" y="4"/>
                      <a:pt x="16901" y="5"/>
                      <a:pt x="16901" y="6"/>
                    </a:cubicBezTo>
                    <a:cubicBezTo>
                      <a:pt x="16901" y="7"/>
                      <a:pt x="16901" y="8"/>
                      <a:pt x="16899" y="8"/>
                    </a:cubicBezTo>
                    <a:lnTo>
                      <a:pt x="16899" y="8"/>
                    </a:lnTo>
                    <a:cubicBezTo>
                      <a:pt x="16898" y="8"/>
                      <a:pt x="16897" y="7"/>
                      <a:pt x="16897" y="6"/>
                    </a:cubicBezTo>
                    <a:cubicBezTo>
                      <a:pt x="16897" y="5"/>
                      <a:pt x="16898" y="4"/>
                      <a:pt x="16899" y="4"/>
                    </a:cubicBezTo>
                    <a:close/>
                    <a:moveTo>
                      <a:pt x="16907" y="4"/>
                    </a:moveTo>
                    <a:lnTo>
                      <a:pt x="16907" y="4"/>
                    </a:lnTo>
                    <a:cubicBezTo>
                      <a:pt x="16909" y="4"/>
                      <a:pt x="16909" y="5"/>
                      <a:pt x="16909" y="6"/>
                    </a:cubicBezTo>
                    <a:cubicBezTo>
                      <a:pt x="16909" y="7"/>
                      <a:pt x="16909" y="8"/>
                      <a:pt x="16907" y="8"/>
                    </a:cubicBezTo>
                    <a:lnTo>
                      <a:pt x="16907" y="8"/>
                    </a:lnTo>
                    <a:cubicBezTo>
                      <a:pt x="16906" y="8"/>
                      <a:pt x="16905" y="7"/>
                      <a:pt x="16905" y="6"/>
                    </a:cubicBezTo>
                    <a:cubicBezTo>
                      <a:pt x="16905" y="5"/>
                      <a:pt x="16906" y="4"/>
                      <a:pt x="16907" y="4"/>
                    </a:cubicBezTo>
                    <a:close/>
                    <a:moveTo>
                      <a:pt x="16915" y="4"/>
                    </a:moveTo>
                    <a:lnTo>
                      <a:pt x="16915" y="4"/>
                    </a:lnTo>
                    <a:cubicBezTo>
                      <a:pt x="16917" y="4"/>
                      <a:pt x="16917" y="5"/>
                      <a:pt x="16917" y="6"/>
                    </a:cubicBezTo>
                    <a:cubicBezTo>
                      <a:pt x="16917" y="7"/>
                      <a:pt x="16917" y="8"/>
                      <a:pt x="16915" y="8"/>
                    </a:cubicBezTo>
                    <a:lnTo>
                      <a:pt x="16915" y="8"/>
                    </a:lnTo>
                    <a:cubicBezTo>
                      <a:pt x="16914" y="8"/>
                      <a:pt x="16913" y="7"/>
                      <a:pt x="16913" y="6"/>
                    </a:cubicBezTo>
                    <a:cubicBezTo>
                      <a:pt x="16913" y="5"/>
                      <a:pt x="16914" y="4"/>
                      <a:pt x="16915" y="4"/>
                    </a:cubicBezTo>
                    <a:close/>
                    <a:moveTo>
                      <a:pt x="16923" y="4"/>
                    </a:moveTo>
                    <a:lnTo>
                      <a:pt x="16923" y="4"/>
                    </a:lnTo>
                    <a:cubicBezTo>
                      <a:pt x="16925" y="4"/>
                      <a:pt x="16925" y="5"/>
                      <a:pt x="16925" y="6"/>
                    </a:cubicBezTo>
                    <a:cubicBezTo>
                      <a:pt x="16925" y="7"/>
                      <a:pt x="16925" y="8"/>
                      <a:pt x="16923" y="8"/>
                    </a:cubicBezTo>
                    <a:lnTo>
                      <a:pt x="16923" y="8"/>
                    </a:lnTo>
                    <a:cubicBezTo>
                      <a:pt x="16922" y="8"/>
                      <a:pt x="16921" y="7"/>
                      <a:pt x="16921" y="6"/>
                    </a:cubicBezTo>
                    <a:cubicBezTo>
                      <a:pt x="16921" y="5"/>
                      <a:pt x="16922" y="4"/>
                      <a:pt x="16923" y="4"/>
                    </a:cubicBezTo>
                    <a:close/>
                    <a:moveTo>
                      <a:pt x="16931" y="4"/>
                    </a:moveTo>
                    <a:lnTo>
                      <a:pt x="16931" y="4"/>
                    </a:lnTo>
                    <a:cubicBezTo>
                      <a:pt x="16933" y="4"/>
                      <a:pt x="16933" y="5"/>
                      <a:pt x="16933" y="6"/>
                    </a:cubicBezTo>
                    <a:cubicBezTo>
                      <a:pt x="16933" y="7"/>
                      <a:pt x="16933" y="8"/>
                      <a:pt x="16931" y="8"/>
                    </a:cubicBezTo>
                    <a:lnTo>
                      <a:pt x="16931" y="8"/>
                    </a:lnTo>
                    <a:cubicBezTo>
                      <a:pt x="16930" y="8"/>
                      <a:pt x="16929" y="7"/>
                      <a:pt x="16929" y="6"/>
                    </a:cubicBezTo>
                    <a:cubicBezTo>
                      <a:pt x="16929" y="5"/>
                      <a:pt x="16930" y="4"/>
                      <a:pt x="16931" y="4"/>
                    </a:cubicBezTo>
                    <a:close/>
                    <a:moveTo>
                      <a:pt x="16939" y="4"/>
                    </a:moveTo>
                    <a:lnTo>
                      <a:pt x="16939" y="4"/>
                    </a:lnTo>
                    <a:cubicBezTo>
                      <a:pt x="16941" y="4"/>
                      <a:pt x="16941" y="5"/>
                      <a:pt x="16941" y="6"/>
                    </a:cubicBezTo>
                    <a:cubicBezTo>
                      <a:pt x="16941" y="7"/>
                      <a:pt x="16941" y="8"/>
                      <a:pt x="16939" y="8"/>
                    </a:cubicBezTo>
                    <a:lnTo>
                      <a:pt x="16939" y="8"/>
                    </a:lnTo>
                    <a:cubicBezTo>
                      <a:pt x="16938" y="8"/>
                      <a:pt x="16937" y="7"/>
                      <a:pt x="16937" y="6"/>
                    </a:cubicBezTo>
                    <a:cubicBezTo>
                      <a:pt x="16937" y="5"/>
                      <a:pt x="16938" y="4"/>
                      <a:pt x="16939" y="4"/>
                    </a:cubicBezTo>
                    <a:close/>
                    <a:moveTo>
                      <a:pt x="16947" y="4"/>
                    </a:moveTo>
                    <a:lnTo>
                      <a:pt x="16947" y="4"/>
                    </a:lnTo>
                    <a:cubicBezTo>
                      <a:pt x="16949" y="4"/>
                      <a:pt x="16949" y="5"/>
                      <a:pt x="16949" y="6"/>
                    </a:cubicBezTo>
                    <a:cubicBezTo>
                      <a:pt x="16949" y="7"/>
                      <a:pt x="16949" y="8"/>
                      <a:pt x="16947" y="8"/>
                    </a:cubicBezTo>
                    <a:lnTo>
                      <a:pt x="16947" y="8"/>
                    </a:lnTo>
                    <a:cubicBezTo>
                      <a:pt x="16946" y="8"/>
                      <a:pt x="16945" y="7"/>
                      <a:pt x="16945" y="6"/>
                    </a:cubicBezTo>
                    <a:cubicBezTo>
                      <a:pt x="16945" y="5"/>
                      <a:pt x="16946" y="4"/>
                      <a:pt x="16947" y="4"/>
                    </a:cubicBezTo>
                    <a:close/>
                    <a:moveTo>
                      <a:pt x="16955" y="4"/>
                    </a:moveTo>
                    <a:lnTo>
                      <a:pt x="16955" y="4"/>
                    </a:lnTo>
                    <a:cubicBezTo>
                      <a:pt x="16957" y="4"/>
                      <a:pt x="16957" y="5"/>
                      <a:pt x="16957" y="6"/>
                    </a:cubicBezTo>
                    <a:cubicBezTo>
                      <a:pt x="16957" y="7"/>
                      <a:pt x="16957" y="8"/>
                      <a:pt x="16955" y="8"/>
                    </a:cubicBezTo>
                    <a:lnTo>
                      <a:pt x="16955" y="8"/>
                    </a:lnTo>
                    <a:cubicBezTo>
                      <a:pt x="16954" y="8"/>
                      <a:pt x="16953" y="7"/>
                      <a:pt x="16953" y="6"/>
                    </a:cubicBezTo>
                    <a:cubicBezTo>
                      <a:pt x="16953" y="5"/>
                      <a:pt x="16954" y="4"/>
                      <a:pt x="16955" y="4"/>
                    </a:cubicBezTo>
                    <a:close/>
                    <a:moveTo>
                      <a:pt x="16963" y="4"/>
                    </a:moveTo>
                    <a:lnTo>
                      <a:pt x="16963" y="4"/>
                    </a:lnTo>
                    <a:cubicBezTo>
                      <a:pt x="16965" y="4"/>
                      <a:pt x="16965" y="5"/>
                      <a:pt x="16965" y="6"/>
                    </a:cubicBezTo>
                    <a:cubicBezTo>
                      <a:pt x="16965" y="7"/>
                      <a:pt x="16965" y="8"/>
                      <a:pt x="16963" y="8"/>
                    </a:cubicBezTo>
                    <a:lnTo>
                      <a:pt x="16963" y="8"/>
                    </a:lnTo>
                    <a:cubicBezTo>
                      <a:pt x="16962" y="8"/>
                      <a:pt x="16961" y="7"/>
                      <a:pt x="16961" y="6"/>
                    </a:cubicBezTo>
                    <a:cubicBezTo>
                      <a:pt x="16961" y="5"/>
                      <a:pt x="16962" y="4"/>
                      <a:pt x="16963" y="4"/>
                    </a:cubicBezTo>
                    <a:close/>
                    <a:moveTo>
                      <a:pt x="16971" y="4"/>
                    </a:moveTo>
                    <a:lnTo>
                      <a:pt x="16971" y="4"/>
                    </a:lnTo>
                    <a:cubicBezTo>
                      <a:pt x="16973" y="4"/>
                      <a:pt x="16973" y="5"/>
                      <a:pt x="16973" y="6"/>
                    </a:cubicBezTo>
                    <a:cubicBezTo>
                      <a:pt x="16973" y="7"/>
                      <a:pt x="16973" y="8"/>
                      <a:pt x="16971" y="8"/>
                    </a:cubicBezTo>
                    <a:lnTo>
                      <a:pt x="16971" y="8"/>
                    </a:lnTo>
                    <a:cubicBezTo>
                      <a:pt x="16970" y="8"/>
                      <a:pt x="16969" y="7"/>
                      <a:pt x="16969" y="6"/>
                    </a:cubicBezTo>
                    <a:cubicBezTo>
                      <a:pt x="16969" y="5"/>
                      <a:pt x="16970" y="4"/>
                      <a:pt x="16971" y="4"/>
                    </a:cubicBezTo>
                    <a:close/>
                    <a:moveTo>
                      <a:pt x="16979" y="4"/>
                    </a:moveTo>
                    <a:lnTo>
                      <a:pt x="16979" y="4"/>
                    </a:lnTo>
                    <a:cubicBezTo>
                      <a:pt x="16981" y="4"/>
                      <a:pt x="16981" y="5"/>
                      <a:pt x="16981" y="6"/>
                    </a:cubicBezTo>
                    <a:cubicBezTo>
                      <a:pt x="16981" y="7"/>
                      <a:pt x="16981" y="8"/>
                      <a:pt x="16979" y="8"/>
                    </a:cubicBezTo>
                    <a:lnTo>
                      <a:pt x="16979" y="8"/>
                    </a:lnTo>
                    <a:cubicBezTo>
                      <a:pt x="16978" y="8"/>
                      <a:pt x="16977" y="7"/>
                      <a:pt x="16977" y="6"/>
                    </a:cubicBezTo>
                    <a:cubicBezTo>
                      <a:pt x="16977" y="5"/>
                      <a:pt x="16978" y="4"/>
                      <a:pt x="16979" y="4"/>
                    </a:cubicBezTo>
                    <a:close/>
                    <a:moveTo>
                      <a:pt x="16987" y="4"/>
                    </a:moveTo>
                    <a:lnTo>
                      <a:pt x="16987" y="4"/>
                    </a:lnTo>
                    <a:cubicBezTo>
                      <a:pt x="16989" y="4"/>
                      <a:pt x="16989" y="5"/>
                      <a:pt x="16989" y="6"/>
                    </a:cubicBezTo>
                    <a:cubicBezTo>
                      <a:pt x="16989" y="7"/>
                      <a:pt x="16989" y="8"/>
                      <a:pt x="16987" y="8"/>
                    </a:cubicBezTo>
                    <a:lnTo>
                      <a:pt x="16987" y="8"/>
                    </a:lnTo>
                    <a:cubicBezTo>
                      <a:pt x="16986" y="8"/>
                      <a:pt x="16985" y="7"/>
                      <a:pt x="16985" y="6"/>
                    </a:cubicBezTo>
                    <a:cubicBezTo>
                      <a:pt x="16985" y="5"/>
                      <a:pt x="16986" y="4"/>
                      <a:pt x="16987" y="4"/>
                    </a:cubicBezTo>
                    <a:close/>
                    <a:moveTo>
                      <a:pt x="16995" y="4"/>
                    </a:moveTo>
                    <a:lnTo>
                      <a:pt x="16995" y="4"/>
                    </a:lnTo>
                    <a:cubicBezTo>
                      <a:pt x="16997" y="4"/>
                      <a:pt x="16997" y="5"/>
                      <a:pt x="16997" y="6"/>
                    </a:cubicBezTo>
                    <a:cubicBezTo>
                      <a:pt x="16997" y="7"/>
                      <a:pt x="16997" y="8"/>
                      <a:pt x="16995" y="8"/>
                    </a:cubicBezTo>
                    <a:lnTo>
                      <a:pt x="16995" y="8"/>
                    </a:lnTo>
                    <a:cubicBezTo>
                      <a:pt x="16994" y="8"/>
                      <a:pt x="16993" y="7"/>
                      <a:pt x="16993" y="6"/>
                    </a:cubicBezTo>
                    <a:cubicBezTo>
                      <a:pt x="16993" y="5"/>
                      <a:pt x="16994" y="4"/>
                      <a:pt x="16995" y="4"/>
                    </a:cubicBezTo>
                    <a:close/>
                    <a:moveTo>
                      <a:pt x="17003" y="4"/>
                    </a:moveTo>
                    <a:lnTo>
                      <a:pt x="17003" y="4"/>
                    </a:lnTo>
                    <a:cubicBezTo>
                      <a:pt x="17005" y="4"/>
                      <a:pt x="17005" y="5"/>
                      <a:pt x="17005" y="6"/>
                    </a:cubicBezTo>
                    <a:cubicBezTo>
                      <a:pt x="17005" y="7"/>
                      <a:pt x="17005" y="8"/>
                      <a:pt x="17003" y="8"/>
                    </a:cubicBezTo>
                    <a:lnTo>
                      <a:pt x="17003" y="8"/>
                    </a:lnTo>
                    <a:cubicBezTo>
                      <a:pt x="17002" y="8"/>
                      <a:pt x="17001" y="7"/>
                      <a:pt x="17001" y="6"/>
                    </a:cubicBezTo>
                    <a:cubicBezTo>
                      <a:pt x="17001" y="5"/>
                      <a:pt x="17002" y="4"/>
                      <a:pt x="17003" y="4"/>
                    </a:cubicBezTo>
                    <a:close/>
                    <a:moveTo>
                      <a:pt x="17011" y="4"/>
                    </a:moveTo>
                    <a:lnTo>
                      <a:pt x="17011" y="4"/>
                    </a:lnTo>
                    <a:cubicBezTo>
                      <a:pt x="17013" y="4"/>
                      <a:pt x="17013" y="5"/>
                      <a:pt x="17013" y="6"/>
                    </a:cubicBezTo>
                    <a:cubicBezTo>
                      <a:pt x="17013" y="7"/>
                      <a:pt x="17013" y="8"/>
                      <a:pt x="17011" y="8"/>
                    </a:cubicBezTo>
                    <a:lnTo>
                      <a:pt x="17011" y="8"/>
                    </a:lnTo>
                    <a:cubicBezTo>
                      <a:pt x="17010" y="8"/>
                      <a:pt x="17009" y="7"/>
                      <a:pt x="17009" y="6"/>
                    </a:cubicBezTo>
                    <a:cubicBezTo>
                      <a:pt x="17009" y="5"/>
                      <a:pt x="17010" y="4"/>
                      <a:pt x="17011" y="4"/>
                    </a:cubicBezTo>
                    <a:close/>
                    <a:moveTo>
                      <a:pt x="17019" y="4"/>
                    </a:moveTo>
                    <a:lnTo>
                      <a:pt x="17019" y="4"/>
                    </a:lnTo>
                    <a:cubicBezTo>
                      <a:pt x="17021" y="4"/>
                      <a:pt x="17021" y="5"/>
                      <a:pt x="17021" y="6"/>
                    </a:cubicBezTo>
                    <a:cubicBezTo>
                      <a:pt x="17021" y="7"/>
                      <a:pt x="17021" y="8"/>
                      <a:pt x="17019" y="8"/>
                    </a:cubicBezTo>
                    <a:lnTo>
                      <a:pt x="17019" y="8"/>
                    </a:lnTo>
                    <a:cubicBezTo>
                      <a:pt x="17018" y="8"/>
                      <a:pt x="17017" y="7"/>
                      <a:pt x="17017" y="6"/>
                    </a:cubicBezTo>
                    <a:cubicBezTo>
                      <a:pt x="17017" y="5"/>
                      <a:pt x="17018" y="4"/>
                      <a:pt x="17019" y="4"/>
                    </a:cubicBezTo>
                    <a:close/>
                    <a:moveTo>
                      <a:pt x="17027" y="4"/>
                    </a:moveTo>
                    <a:lnTo>
                      <a:pt x="17027" y="4"/>
                    </a:lnTo>
                    <a:cubicBezTo>
                      <a:pt x="17029" y="4"/>
                      <a:pt x="17029" y="5"/>
                      <a:pt x="17029" y="6"/>
                    </a:cubicBezTo>
                    <a:cubicBezTo>
                      <a:pt x="17029" y="7"/>
                      <a:pt x="17029" y="8"/>
                      <a:pt x="17027" y="8"/>
                    </a:cubicBezTo>
                    <a:lnTo>
                      <a:pt x="17027" y="8"/>
                    </a:lnTo>
                    <a:cubicBezTo>
                      <a:pt x="17026" y="8"/>
                      <a:pt x="17025" y="7"/>
                      <a:pt x="17025" y="6"/>
                    </a:cubicBezTo>
                    <a:cubicBezTo>
                      <a:pt x="17025" y="5"/>
                      <a:pt x="17026" y="4"/>
                      <a:pt x="17027" y="4"/>
                    </a:cubicBezTo>
                    <a:close/>
                    <a:moveTo>
                      <a:pt x="17035" y="4"/>
                    </a:moveTo>
                    <a:lnTo>
                      <a:pt x="17035" y="4"/>
                    </a:lnTo>
                    <a:cubicBezTo>
                      <a:pt x="17037" y="4"/>
                      <a:pt x="17037" y="5"/>
                      <a:pt x="17037" y="6"/>
                    </a:cubicBezTo>
                    <a:cubicBezTo>
                      <a:pt x="17037" y="7"/>
                      <a:pt x="17037" y="8"/>
                      <a:pt x="17035" y="8"/>
                    </a:cubicBezTo>
                    <a:lnTo>
                      <a:pt x="17035" y="8"/>
                    </a:lnTo>
                    <a:cubicBezTo>
                      <a:pt x="17034" y="8"/>
                      <a:pt x="17033" y="7"/>
                      <a:pt x="17033" y="6"/>
                    </a:cubicBezTo>
                    <a:cubicBezTo>
                      <a:pt x="17033" y="5"/>
                      <a:pt x="17034" y="4"/>
                      <a:pt x="17035" y="4"/>
                    </a:cubicBezTo>
                    <a:close/>
                    <a:moveTo>
                      <a:pt x="17044" y="4"/>
                    </a:moveTo>
                    <a:lnTo>
                      <a:pt x="17044" y="4"/>
                    </a:lnTo>
                    <a:cubicBezTo>
                      <a:pt x="17045" y="4"/>
                      <a:pt x="17046" y="5"/>
                      <a:pt x="17046" y="6"/>
                    </a:cubicBezTo>
                    <a:cubicBezTo>
                      <a:pt x="17046" y="7"/>
                      <a:pt x="17045" y="8"/>
                      <a:pt x="17044" y="8"/>
                    </a:cubicBezTo>
                    <a:lnTo>
                      <a:pt x="17044" y="8"/>
                    </a:lnTo>
                    <a:cubicBezTo>
                      <a:pt x="17042" y="8"/>
                      <a:pt x="17041" y="7"/>
                      <a:pt x="17041" y="6"/>
                    </a:cubicBezTo>
                    <a:cubicBezTo>
                      <a:pt x="17041" y="5"/>
                      <a:pt x="17042" y="4"/>
                      <a:pt x="17044" y="4"/>
                    </a:cubicBezTo>
                    <a:close/>
                    <a:moveTo>
                      <a:pt x="17052" y="4"/>
                    </a:moveTo>
                    <a:lnTo>
                      <a:pt x="17052" y="4"/>
                    </a:lnTo>
                    <a:cubicBezTo>
                      <a:pt x="17053" y="4"/>
                      <a:pt x="17054" y="5"/>
                      <a:pt x="17054" y="6"/>
                    </a:cubicBezTo>
                    <a:cubicBezTo>
                      <a:pt x="17054" y="7"/>
                      <a:pt x="17053" y="8"/>
                      <a:pt x="17052" y="8"/>
                    </a:cubicBezTo>
                    <a:lnTo>
                      <a:pt x="17052" y="8"/>
                    </a:lnTo>
                    <a:cubicBezTo>
                      <a:pt x="17050" y="8"/>
                      <a:pt x="17050" y="7"/>
                      <a:pt x="17050" y="6"/>
                    </a:cubicBezTo>
                    <a:cubicBezTo>
                      <a:pt x="17050" y="5"/>
                      <a:pt x="17050" y="4"/>
                      <a:pt x="17052" y="4"/>
                    </a:cubicBezTo>
                    <a:close/>
                    <a:moveTo>
                      <a:pt x="17060" y="4"/>
                    </a:moveTo>
                    <a:lnTo>
                      <a:pt x="17060" y="4"/>
                    </a:lnTo>
                    <a:cubicBezTo>
                      <a:pt x="17061" y="4"/>
                      <a:pt x="17062" y="5"/>
                      <a:pt x="17062" y="6"/>
                    </a:cubicBezTo>
                    <a:cubicBezTo>
                      <a:pt x="17062" y="7"/>
                      <a:pt x="17061" y="8"/>
                      <a:pt x="17060" y="8"/>
                    </a:cubicBezTo>
                    <a:lnTo>
                      <a:pt x="17060" y="8"/>
                    </a:lnTo>
                    <a:cubicBezTo>
                      <a:pt x="17058" y="8"/>
                      <a:pt x="17058" y="7"/>
                      <a:pt x="17058" y="6"/>
                    </a:cubicBezTo>
                    <a:cubicBezTo>
                      <a:pt x="17058" y="5"/>
                      <a:pt x="17058" y="4"/>
                      <a:pt x="17060" y="4"/>
                    </a:cubicBezTo>
                    <a:close/>
                    <a:moveTo>
                      <a:pt x="17068" y="4"/>
                    </a:moveTo>
                    <a:lnTo>
                      <a:pt x="17068" y="4"/>
                    </a:lnTo>
                    <a:cubicBezTo>
                      <a:pt x="17069" y="4"/>
                      <a:pt x="17070" y="5"/>
                      <a:pt x="17070" y="6"/>
                    </a:cubicBezTo>
                    <a:cubicBezTo>
                      <a:pt x="17070" y="7"/>
                      <a:pt x="17069" y="8"/>
                      <a:pt x="17068" y="8"/>
                    </a:cubicBezTo>
                    <a:lnTo>
                      <a:pt x="17068" y="8"/>
                    </a:lnTo>
                    <a:cubicBezTo>
                      <a:pt x="17066" y="8"/>
                      <a:pt x="17066" y="7"/>
                      <a:pt x="17066" y="6"/>
                    </a:cubicBezTo>
                    <a:cubicBezTo>
                      <a:pt x="17066" y="5"/>
                      <a:pt x="17066" y="4"/>
                      <a:pt x="17068" y="4"/>
                    </a:cubicBezTo>
                    <a:close/>
                    <a:moveTo>
                      <a:pt x="17076" y="4"/>
                    </a:moveTo>
                    <a:lnTo>
                      <a:pt x="17076" y="4"/>
                    </a:lnTo>
                    <a:cubicBezTo>
                      <a:pt x="17077" y="4"/>
                      <a:pt x="17078" y="5"/>
                      <a:pt x="17078" y="6"/>
                    </a:cubicBezTo>
                    <a:cubicBezTo>
                      <a:pt x="17078" y="7"/>
                      <a:pt x="17077" y="8"/>
                      <a:pt x="17076" y="8"/>
                    </a:cubicBezTo>
                    <a:lnTo>
                      <a:pt x="17076" y="8"/>
                    </a:lnTo>
                    <a:cubicBezTo>
                      <a:pt x="17074" y="8"/>
                      <a:pt x="17074" y="7"/>
                      <a:pt x="17074" y="6"/>
                    </a:cubicBezTo>
                    <a:cubicBezTo>
                      <a:pt x="17074" y="5"/>
                      <a:pt x="17074" y="4"/>
                      <a:pt x="17076" y="4"/>
                    </a:cubicBezTo>
                    <a:close/>
                    <a:moveTo>
                      <a:pt x="17084" y="4"/>
                    </a:moveTo>
                    <a:lnTo>
                      <a:pt x="17084" y="4"/>
                    </a:lnTo>
                    <a:cubicBezTo>
                      <a:pt x="17085" y="4"/>
                      <a:pt x="17086" y="5"/>
                      <a:pt x="17086" y="6"/>
                    </a:cubicBezTo>
                    <a:cubicBezTo>
                      <a:pt x="17086" y="7"/>
                      <a:pt x="17085" y="8"/>
                      <a:pt x="17084" y="8"/>
                    </a:cubicBezTo>
                    <a:lnTo>
                      <a:pt x="17084" y="8"/>
                    </a:lnTo>
                    <a:cubicBezTo>
                      <a:pt x="17082" y="8"/>
                      <a:pt x="17082" y="7"/>
                      <a:pt x="17082" y="6"/>
                    </a:cubicBezTo>
                    <a:cubicBezTo>
                      <a:pt x="17082" y="5"/>
                      <a:pt x="17082" y="4"/>
                      <a:pt x="17084" y="4"/>
                    </a:cubicBezTo>
                    <a:close/>
                    <a:moveTo>
                      <a:pt x="17092" y="4"/>
                    </a:moveTo>
                    <a:lnTo>
                      <a:pt x="17092" y="4"/>
                    </a:lnTo>
                    <a:cubicBezTo>
                      <a:pt x="17093" y="4"/>
                      <a:pt x="17094" y="5"/>
                      <a:pt x="17094" y="6"/>
                    </a:cubicBezTo>
                    <a:cubicBezTo>
                      <a:pt x="17094" y="7"/>
                      <a:pt x="17093" y="8"/>
                      <a:pt x="17092" y="8"/>
                    </a:cubicBezTo>
                    <a:lnTo>
                      <a:pt x="17092" y="8"/>
                    </a:lnTo>
                    <a:cubicBezTo>
                      <a:pt x="17090" y="8"/>
                      <a:pt x="17090" y="7"/>
                      <a:pt x="17090" y="6"/>
                    </a:cubicBezTo>
                    <a:cubicBezTo>
                      <a:pt x="17090" y="5"/>
                      <a:pt x="17090" y="4"/>
                      <a:pt x="17092" y="4"/>
                    </a:cubicBezTo>
                    <a:close/>
                    <a:moveTo>
                      <a:pt x="17100" y="4"/>
                    </a:moveTo>
                    <a:lnTo>
                      <a:pt x="17100" y="4"/>
                    </a:lnTo>
                    <a:cubicBezTo>
                      <a:pt x="17101" y="4"/>
                      <a:pt x="17102" y="5"/>
                      <a:pt x="17102" y="6"/>
                    </a:cubicBezTo>
                    <a:cubicBezTo>
                      <a:pt x="17102" y="7"/>
                      <a:pt x="17101" y="8"/>
                      <a:pt x="17100" y="8"/>
                    </a:cubicBezTo>
                    <a:lnTo>
                      <a:pt x="17100" y="8"/>
                    </a:lnTo>
                    <a:cubicBezTo>
                      <a:pt x="17098" y="8"/>
                      <a:pt x="17098" y="7"/>
                      <a:pt x="17098" y="6"/>
                    </a:cubicBezTo>
                    <a:cubicBezTo>
                      <a:pt x="17098" y="5"/>
                      <a:pt x="17098" y="4"/>
                      <a:pt x="17100" y="4"/>
                    </a:cubicBezTo>
                    <a:close/>
                    <a:moveTo>
                      <a:pt x="17108" y="4"/>
                    </a:moveTo>
                    <a:lnTo>
                      <a:pt x="17108" y="4"/>
                    </a:lnTo>
                    <a:cubicBezTo>
                      <a:pt x="17109" y="4"/>
                      <a:pt x="17110" y="5"/>
                      <a:pt x="17110" y="6"/>
                    </a:cubicBezTo>
                    <a:cubicBezTo>
                      <a:pt x="17110" y="7"/>
                      <a:pt x="17109" y="8"/>
                      <a:pt x="17108" y="8"/>
                    </a:cubicBezTo>
                    <a:lnTo>
                      <a:pt x="17108" y="8"/>
                    </a:lnTo>
                    <a:cubicBezTo>
                      <a:pt x="17106" y="8"/>
                      <a:pt x="17106" y="7"/>
                      <a:pt x="17106" y="6"/>
                    </a:cubicBezTo>
                    <a:cubicBezTo>
                      <a:pt x="17106" y="5"/>
                      <a:pt x="17106" y="4"/>
                      <a:pt x="17108" y="4"/>
                    </a:cubicBezTo>
                    <a:close/>
                    <a:moveTo>
                      <a:pt x="17116" y="4"/>
                    </a:moveTo>
                    <a:lnTo>
                      <a:pt x="17116" y="4"/>
                    </a:lnTo>
                    <a:cubicBezTo>
                      <a:pt x="17117" y="4"/>
                      <a:pt x="17118" y="5"/>
                      <a:pt x="17118" y="6"/>
                    </a:cubicBezTo>
                    <a:cubicBezTo>
                      <a:pt x="17118" y="7"/>
                      <a:pt x="17117" y="8"/>
                      <a:pt x="17116" y="8"/>
                    </a:cubicBezTo>
                    <a:lnTo>
                      <a:pt x="17116" y="8"/>
                    </a:lnTo>
                    <a:cubicBezTo>
                      <a:pt x="17114" y="8"/>
                      <a:pt x="17114" y="7"/>
                      <a:pt x="17114" y="6"/>
                    </a:cubicBezTo>
                    <a:cubicBezTo>
                      <a:pt x="17114" y="5"/>
                      <a:pt x="17114" y="4"/>
                      <a:pt x="17116" y="4"/>
                    </a:cubicBezTo>
                    <a:close/>
                    <a:moveTo>
                      <a:pt x="17124" y="4"/>
                    </a:moveTo>
                    <a:lnTo>
                      <a:pt x="17124" y="4"/>
                    </a:lnTo>
                    <a:cubicBezTo>
                      <a:pt x="17125" y="4"/>
                      <a:pt x="17126" y="5"/>
                      <a:pt x="17126" y="6"/>
                    </a:cubicBezTo>
                    <a:cubicBezTo>
                      <a:pt x="17126" y="7"/>
                      <a:pt x="17125" y="8"/>
                      <a:pt x="17124" y="8"/>
                    </a:cubicBezTo>
                    <a:lnTo>
                      <a:pt x="17124" y="8"/>
                    </a:lnTo>
                    <a:cubicBezTo>
                      <a:pt x="17122" y="8"/>
                      <a:pt x="17122" y="7"/>
                      <a:pt x="17122" y="6"/>
                    </a:cubicBezTo>
                    <a:cubicBezTo>
                      <a:pt x="17122" y="5"/>
                      <a:pt x="17122" y="4"/>
                      <a:pt x="17124" y="4"/>
                    </a:cubicBezTo>
                    <a:close/>
                    <a:moveTo>
                      <a:pt x="17132" y="4"/>
                    </a:moveTo>
                    <a:lnTo>
                      <a:pt x="17132" y="4"/>
                    </a:lnTo>
                    <a:cubicBezTo>
                      <a:pt x="17133" y="4"/>
                      <a:pt x="17134" y="5"/>
                      <a:pt x="17134" y="6"/>
                    </a:cubicBezTo>
                    <a:cubicBezTo>
                      <a:pt x="17134" y="7"/>
                      <a:pt x="17133" y="8"/>
                      <a:pt x="17132" y="8"/>
                    </a:cubicBezTo>
                    <a:lnTo>
                      <a:pt x="17132" y="8"/>
                    </a:lnTo>
                    <a:cubicBezTo>
                      <a:pt x="17130" y="8"/>
                      <a:pt x="17130" y="7"/>
                      <a:pt x="17130" y="6"/>
                    </a:cubicBezTo>
                    <a:cubicBezTo>
                      <a:pt x="17130" y="5"/>
                      <a:pt x="17130" y="4"/>
                      <a:pt x="17132" y="4"/>
                    </a:cubicBezTo>
                    <a:close/>
                    <a:moveTo>
                      <a:pt x="17140" y="4"/>
                    </a:moveTo>
                    <a:lnTo>
                      <a:pt x="17140" y="4"/>
                    </a:lnTo>
                    <a:cubicBezTo>
                      <a:pt x="17141" y="4"/>
                      <a:pt x="17142" y="5"/>
                      <a:pt x="17142" y="6"/>
                    </a:cubicBezTo>
                    <a:cubicBezTo>
                      <a:pt x="17142" y="7"/>
                      <a:pt x="17141" y="8"/>
                      <a:pt x="17140" y="8"/>
                    </a:cubicBezTo>
                    <a:lnTo>
                      <a:pt x="17140" y="8"/>
                    </a:lnTo>
                    <a:cubicBezTo>
                      <a:pt x="17138" y="8"/>
                      <a:pt x="17138" y="7"/>
                      <a:pt x="17138" y="6"/>
                    </a:cubicBezTo>
                    <a:cubicBezTo>
                      <a:pt x="17138" y="5"/>
                      <a:pt x="17138" y="4"/>
                      <a:pt x="17140" y="4"/>
                    </a:cubicBezTo>
                    <a:close/>
                    <a:moveTo>
                      <a:pt x="17148" y="4"/>
                    </a:moveTo>
                    <a:lnTo>
                      <a:pt x="17148" y="4"/>
                    </a:lnTo>
                    <a:cubicBezTo>
                      <a:pt x="17149" y="4"/>
                      <a:pt x="17150" y="5"/>
                      <a:pt x="17150" y="6"/>
                    </a:cubicBezTo>
                    <a:cubicBezTo>
                      <a:pt x="17150" y="7"/>
                      <a:pt x="17149" y="8"/>
                      <a:pt x="17148" y="8"/>
                    </a:cubicBezTo>
                    <a:lnTo>
                      <a:pt x="17148" y="8"/>
                    </a:lnTo>
                    <a:cubicBezTo>
                      <a:pt x="17146" y="8"/>
                      <a:pt x="17146" y="7"/>
                      <a:pt x="17146" y="6"/>
                    </a:cubicBezTo>
                    <a:cubicBezTo>
                      <a:pt x="17146" y="5"/>
                      <a:pt x="17146" y="4"/>
                      <a:pt x="17148" y="4"/>
                    </a:cubicBezTo>
                    <a:close/>
                    <a:moveTo>
                      <a:pt x="17156" y="4"/>
                    </a:moveTo>
                    <a:lnTo>
                      <a:pt x="17156" y="4"/>
                    </a:lnTo>
                    <a:cubicBezTo>
                      <a:pt x="17157" y="4"/>
                      <a:pt x="17158" y="5"/>
                      <a:pt x="17158" y="6"/>
                    </a:cubicBezTo>
                    <a:cubicBezTo>
                      <a:pt x="17158" y="7"/>
                      <a:pt x="17157" y="8"/>
                      <a:pt x="17156" y="8"/>
                    </a:cubicBezTo>
                    <a:lnTo>
                      <a:pt x="17156" y="8"/>
                    </a:lnTo>
                    <a:cubicBezTo>
                      <a:pt x="17154" y="8"/>
                      <a:pt x="17154" y="7"/>
                      <a:pt x="17154" y="6"/>
                    </a:cubicBezTo>
                    <a:cubicBezTo>
                      <a:pt x="17154" y="5"/>
                      <a:pt x="17154" y="4"/>
                      <a:pt x="17156" y="4"/>
                    </a:cubicBezTo>
                    <a:close/>
                    <a:moveTo>
                      <a:pt x="17164" y="4"/>
                    </a:moveTo>
                    <a:lnTo>
                      <a:pt x="17164" y="4"/>
                    </a:lnTo>
                    <a:cubicBezTo>
                      <a:pt x="17165" y="4"/>
                      <a:pt x="17166" y="5"/>
                      <a:pt x="17166" y="6"/>
                    </a:cubicBezTo>
                    <a:cubicBezTo>
                      <a:pt x="17166" y="7"/>
                      <a:pt x="17165" y="8"/>
                      <a:pt x="17164" y="8"/>
                    </a:cubicBezTo>
                    <a:lnTo>
                      <a:pt x="17164" y="8"/>
                    </a:lnTo>
                    <a:cubicBezTo>
                      <a:pt x="17162" y="8"/>
                      <a:pt x="17162" y="7"/>
                      <a:pt x="17162" y="6"/>
                    </a:cubicBezTo>
                    <a:cubicBezTo>
                      <a:pt x="17162" y="5"/>
                      <a:pt x="17162" y="4"/>
                      <a:pt x="17164" y="4"/>
                    </a:cubicBezTo>
                    <a:close/>
                    <a:moveTo>
                      <a:pt x="17172" y="4"/>
                    </a:moveTo>
                    <a:lnTo>
                      <a:pt x="17172" y="4"/>
                    </a:lnTo>
                    <a:cubicBezTo>
                      <a:pt x="17173" y="4"/>
                      <a:pt x="17174" y="5"/>
                      <a:pt x="17174" y="6"/>
                    </a:cubicBezTo>
                    <a:cubicBezTo>
                      <a:pt x="17174" y="7"/>
                      <a:pt x="17173" y="8"/>
                      <a:pt x="17172" y="8"/>
                    </a:cubicBezTo>
                    <a:lnTo>
                      <a:pt x="17172" y="8"/>
                    </a:lnTo>
                    <a:cubicBezTo>
                      <a:pt x="17170" y="8"/>
                      <a:pt x="17170" y="7"/>
                      <a:pt x="17170" y="6"/>
                    </a:cubicBezTo>
                    <a:cubicBezTo>
                      <a:pt x="17170" y="5"/>
                      <a:pt x="17170" y="4"/>
                      <a:pt x="17172" y="4"/>
                    </a:cubicBezTo>
                    <a:close/>
                    <a:moveTo>
                      <a:pt x="17180" y="4"/>
                    </a:moveTo>
                    <a:lnTo>
                      <a:pt x="17180" y="4"/>
                    </a:lnTo>
                    <a:cubicBezTo>
                      <a:pt x="17181" y="4"/>
                      <a:pt x="17182" y="5"/>
                      <a:pt x="17182" y="6"/>
                    </a:cubicBezTo>
                    <a:cubicBezTo>
                      <a:pt x="17182" y="7"/>
                      <a:pt x="17181" y="8"/>
                      <a:pt x="17180" y="8"/>
                    </a:cubicBezTo>
                    <a:lnTo>
                      <a:pt x="17180" y="8"/>
                    </a:lnTo>
                    <a:cubicBezTo>
                      <a:pt x="17178" y="8"/>
                      <a:pt x="17178" y="7"/>
                      <a:pt x="17178" y="6"/>
                    </a:cubicBezTo>
                    <a:cubicBezTo>
                      <a:pt x="17178" y="5"/>
                      <a:pt x="17178" y="4"/>
                      <a:pt x="17180" y="4"/>
                    </a:cubicBezTo>
                    <a:close/>
                    <a:moveTo>
                      <a:pt x="17188" y="4"/>
                    </a:moveTo>
                    <a:lnTo>
                      <a:pt x="17188" y="4"/>
                    </a:lnTo>
                    <a:cubicBezTo>
                      <a:pt x="17189" y="4"/>
                      <a:pt x="17190" y="5"/>
                      <a:pt x="17190" y="6"/>
                    </a:cubicBezTo>
                    <a:cubicBezTo>
                      <a:pt x="17190" y="7"/>
                      <a:pt x="17189" y="8"/>
                      <a:pt x="17188" y="8"/>
                    </a:cubicBezTo>
                    <a:lnTo>
                      <a:pt x="17188" y="8"/>
                    </a:lnTo>
                    <a:cubicBezTo>
                      <a:pt x="17187" y="8"/>
                      <a:pt x="17186" y="7"/>
                      <a:pt x="17186" y="6"/>
                    </a:cubicBezTo>
                    <a:cubicBezTo>
                      <a:pt x="17186" y="5"/>
                      <a:pt x="17187" y="4"/>
                      <a:pt x="17188" y="4"/>
                    </a:cubicBezTo>
                    <a:close/>
                    <a:moveTo>
                      <a:pt x="17196" y="4"/>
                    </a:moveTo>
                    <a:lnTo>
                      <a:pt x="17196" y="4"/>
                    </a:lnTo>
                    <a:cubicBezTo>
                      <a:pt x="17197" y="4"/>
                      <a:pt x="17198" y="5"/>
                      <a:pt x="17198" y="6"/>
                    </a:cubicBezTo>
                    <a:cubicBezTo>
                      <a:pt x="17198" y="7"/>
                      <a:pt x="17197" y="8"/>
                      <a:pt x="17196" y="8"/>
                    </a:cubicBezTo>
                    <a:lnTo>
                      <a:pt x="17196" y="8"/>
                    </a:lnTo>
                    <a:cubicBezTo>
                      <a:pt x="17195" y="8"/>
                      <a:pt x="17194" y="7"/>
                      <a:pt x="17194" y="6"/>
                    </a:cubicBezTo>
                    <a:cubicBezTo>
                      <a:pt x="17194" y="5"/>
                      <a:pt x="17195" y="4"/>
                      <a:pt x="17196" y="4"/>
                    </a:cubicBezTo>
                    <a:close/>
                    <a:moveTo>
                      <a:pt x="17204" y="4"/>
                    </a:moveTo>
                    <a:lnTo>
                      <a:pt x="17204" y="4"/>
                    </a:lnTo>
                    <a:cubicBezTo>
                      <a:pt x="17205" y="4"/>
                      <a:pt x="17206" y="5"/>
                      <a:pt x="17206" y="6"/>
                    </a:cubicBezTo>
                    <a:cubicBezTo>
                      <a:pt x="17206" y="7"/>
                      <a:pt x="17205" y="8"/>
                      <a:pt x="17204" y="8"/>
                    </a:cubicBezTo>
                    <a:lnTo>
                      <a:pt x="17204" y="8"/>
                    </a:lnTo>
                    <a:cubicBezTo>
                      <a:pt x="17203" y="8"/>
                      <a:pt x="17202" y="7"/>
                      <a:pt x="17202" y="6"/>
                    </a:cubicBezTo>
                    <a:cubicBezTo>
                      <a:pt x="17202" y="5"/>
                      <a:pt x="17203" y="4"/>
                      <a:pt x="17204" y="4"/>
                    </a:cubicBezTo>
                    <a:close/>
                    <a:moveTo>
                      <a:pt x="17212" y="4"/>
                    </a:moveTo>
                    <a:lnTo>
                      <a:pt x="17212" y="4"/>
                    </a:lnTo>
                    <a:cubicBezTo>
                      <a:pt x="17213" y="4"/>
                      <a:pt x="17214" y="5"/>
                      <a:pt x="17214" y="6"/>
                    </a:cubicBezTo>
                    <a:cubicBezTo>
                      <a:pt x="17214" y="7"/>
                      <a:pt x="17213" y="8"/>
                      <a:pt x="17212" y="8"/>
                    </a:cubicBezTo>
                    <a:lnTo>
                      <a:pt x="17212" y="8"/>
                    </a:lnTo>
                    <a:cubicBezTo>
                      <a:pt x="17211" y="8"/>
                      <a:pt x="17210" y="7"/>
                      <a:pt x="17210" y="6"/>
                    </a:cubicBezTo>
                    <a:cubicBezTo>
                      <a:pt x="17210" y="5"/>
                      <a:pt x="17211" y="4"/>
                      <a:pt x="17212" y="4"/>
                    </a:cubicBezTo>
                    <a:close/>
                    <a:moveTo>
                      <a:pt x="17220" y="4"/>
                    </a:moveTo>
                    <a:lnTo>
                      <a:pt x="17220" y="4"/>
                    </a:lnTo>
                    <a:cubicBezTo>
                      <a:pt x="17221" y="4"/>
                      <a:pt x="17222" y="5"/>
                      <a:pt x="17222" y="6"/>
                    </a:cubicBezTo>
                    <a:cubicBezTo>
                      <a:pt x="17222" y="7"/>
                      <a:pt x="17221" y="8"/>
                      <a:pt x="17220" y="8"/>
                    </a:cubicBezTo>
                    <a:lnTo>
                      <a:pt x="17220" y="8"/>
                    </a:lnTo>
                    <a:cubicBezTo>
                      <a:pt x="17219" y="8"/>
                      <a:pt x="17218" y="7"/>
                      <a:pt x="17218" y="6"/>
                    </a:cubicBezTo>
                    <a:cubicBezTo>
                      <a:pt x="17218" y="5"/>
                      <a:pt x="17219" y="4"/>
                      <a:pt x="17220" y="4"/>
                    </a:cubicBezTo>
                    <a:close/>
                    <a:moveTo>
                      <a:pt x="17228" y="4"/>
                    </a:moveTo>
                    <a:lnTo>
                      <a:pt x="17228" y="4"/>
                    </a:lnTo>
                    <a:cubicBezTo>
                      <a:pt x="17229" y="4"/>
                      <a:pt x="17230" y="5"/>
                      <a:pt x="17230" y="6"/>
                    </a:cubicBezTo>
                    <a:cubicBezTo>
                      <a:pt x="17230" y="7"/>
                      <a:pt x="17229" y="8"/>
                      <a:pt x="17228" y="8"/>
                    </a:cubicBezTo>
                    <a:lnTo>
                      <a:pt x="17228" y="8"/>
                    </a:lnTo>
                    <a:cubicBezTo>
                      <a:pt x="17227" y="8"/>
                      <a:pt x="17226" y="7"/>
                      <a:pt x="17226" y="6"/>
                    </a:cubicBezTo>
                    <a:cubicBezTo>
                      <a:pt x="17226" y="5"/>
                      <a:pt x="17227" y="4"/>
                      <a:pt x="17228" y="4"/>
                    </a:cubicBezTo>
                    <a:close/>
                    <a:moveTo>
                      <a:pt x="17236" y="4"/>
                    </a:moveTo>
                    <a:lnTo>
                      <a:pt x="17236" y="4"/>
                    </a:lnTo>
                    <a:cubicBezTo>
                      <a:pt x="17237" y="4"/>
                      <a:pt x="17238" y="5"/>
                      <a:pt x="17238" y="6"/>
                    </a:cubicBezTo>
                    <a:cubicBezTo>
                      <a:pt x="17238" y="7"/>
                      <a:pt x="17237" y="8"/>
                      <a:pt x="17236" y="8"/>
                    </a:cubicBezTo>
                    <a:lnTo>
                      <a:pt x="17236" y="8"/>
                    </a:lnTo>
                    <a:cubicBezTo>
                      <a:pt x="17235" y="8"/>
                      <a:pt x="17234" y="7"/>
                      <a:pt x="17234" y="6"/>
                    </a:cubicBezTo>
                    <a:cubicBezTo>
                      <a:pt x="17234" y="5"/>
                      <a:pt x="17235" y="4"/>
                      <a:pt x="17236" y="4"/>
                    </a:cubicBezTo>
                    <a:close/>
                    <a:moveTo>
                      <a:pt x="17244" y="4"/>
                    </a:moveTo>
                    <a:lnTo>
                      <a:pt x="17244" y="4"/>
                    </a:lnTo>
                    <a:cubicBezTo>
                      <a:pt x="17245" y="4"/>
                      <a:pt x="17246" y="5"/>
                      <a:pt x="17246" y="6"/>
                    </a:cubicBezTo>
                    <a:cubicBezTo>
                      <a:pt x="17246" y="7"/>
                      <a:pt x="17245" y="8"/>
                      <a:pt x="17244" y="8"/>
                    </a:cubicBezTo>
                    <a:lnTo>
                      <a:pt x="17244" y="8"/>
                    </a:lnTo>
                    <a:cubicBezTo>
                      <a:pt x="17243" y="8"/>
                      <a:pt x="17242" y="7"/>
                      <a:pt x="17242" y="6"/>
                    </a:cubicBezTo>
                    <a:cubicBezTo>
                      <a:pt x="17242" y="5"/>
                      <a:pt x="17243" y="4"/>
                      <a:pt x="17244" y="4"/>
                    </a:cubicBezTo>
                    <a:close/>
                    <a:moveTo>
                      <a:pt x="17252" y="4"/>
                    </a:moveTo>
                    <a:lnTo>
                      <a:pt x="17252" y="4"/>
                    </a:lnTo>
                    <a:cubicBezTo>
                      <a:pt x="17253" y="4"/>
                      <a:pt x="17254" y="5"/>
                      <a:pt x="17254" y="6"/>
                    </a:cubicBezTo>
                    <a:cubicBezTo>
                      <a:pt x="17254" y="7"/>
                      <a:pt x="17253" y="8"/>
                      <a:pt x="17252" y="8"/>
                    </a:cubicBezTo>
                    <a:lnTo>
                      <a:pt x="17252" y="8"/>
                    </a:lnTo>
                    <a:cubicBezTo>
                      <a:pt x="17251" y="8"/>
                      <a:pt x="17250" y="7"/>
                      <a:pt x="17250" y="6"/>
                    </a:cubicBezTo>
                    <a:cubicBezTo>
                      <a:pt x="17250" y="5"/>
                      <a:pt x="17251" y="4"/>
                      <a:pt x="17252" y="4"/>
                    </a:cubicBezTo>
                    <a:close/>
                    <a:moveTo>
                      <a:pt x="17260" y="4"/>
                    </a:moveTo>
                    <a:lnTo>
                      <a:pt x="17260" y="4"/>
                    </a:lnTo>
                    <a:cubicBezTo>
                      <a:pt x="17261" y="4"/>
                      <a:pt x="17262" y="5"/>
                      <a:pt x="17262" y="6"/>
                    </a:cubicBezTo>
                    <a:cubicBezTo>
                      <a:pt x="17262" y="7"/>
                      <a:pt x="17261" y="8"/>
                      <a:pt x="17260" y="8"/>
                    </a:cubicBezTo>
                    <a:lnTo>
                      <a:pt x="17260" y="8"/>
                    </a:lnTo>
                    <a:cubicBezTo>
                      <a:pt x="17259" y="8"/>
                      <a:pt x="17258" y="7"/>
                      <a:pt x="17258" y="6"/>
                    </a:cubicBezTo>
                    <a:cubicBezTo>
                      <a:pt x="17258" y="5"/>
                      <a:pt x="17259" y="4"/>
                      <a:pt x="17260" y="4"/>
                    </a:cubicBezTo>
                    <a:close/>
                    <a:moveTo>
                      <a:pt x="17268" y="4"/>
                    </a:moveTo>
                    <a:lnTo>
                      <a:pt x="17268" y="4"/>
                    </a:lnTo>
                    <a:cubicBezTo>
                      <a:pt x="17269" y="4"/>
                      <a:pt x="17270" y="5"/>
                      <a:pt x="17270" y="6"/>
                    </a:cubicBezTo>
                    <a:cubicBezTo>
                      <a:pt x="17270" y="7"/>
                      <a:pt x="17269" y="8"/>
                      <a:pt x="17268" y="8"/>
                    </a:cubicBezTo>
                    <a:lnTo>
                      <a:pt x="17268" y="8"/>
                    </a:lnTo>
                    <a:cubicBezTo>
                      <a:pt x="17267" y="8"/>
                      <a:pt x="17266" y="7"/>
                      <a:pt x="17266" y="6"/>
                    </a:cubicBezTo>
                    <a:cubicBezTo>
                      <a:pt x="17266" y="5"/>
                      <a:pt x="17267" y="4"/>
                      <a:pt x="17268" y="4"/>
                    </a:cubicBezTo>
                    <a:close/>
                    <a:moveTo>
                      <a:pt x="17276" y="4"/>
                    </a:moveTo>
                    <a:lnTo>
                      <a:pt x="17276" y="4"/>
                    </a:lnTo>
                    <a:cubicBezTo>
                      <a:pt x="17277" y="4"/>
                      <a:pt x="17278" y="5"/>
                      <a:pt x="17278" y="6"/>
                    </a:cubicBezTo>
                    <a:cubicBezTo>
                      <a:pt x="17278" y="7"/>
                      <a:pt x="17277" y="8"/>
                      <a:pt x="17276" y="8"/>
                    </a:cubicBezTo>
                    <a:lnTo>
                      <a:pt x="17276" y="8"/>
                    </a:lnTo>
                    <a:cubicBezTo>
                      <a:pt x="17275" y="8"/>
                      <a:pt x="17274" y="7"/>
                      <a:pt x="17274" y="6"/>
                    </a:cubicBezTo>
                    <a:cubicBezTo>
                      <a:pt x="17274" y="5"/>
                      <a:pt x="17275" y="4"/>
                      <a:pt x="17276" y="4"/>
                    </a:cubicBezTo>
                    <a:close/>
                    <a:moveTo>
                      <a:pt x="17284" y="4"/>
                    </a:moveTo>
                    <a:lnTo>
                      <a:pt x="17284" y="4"/>
                    </a:lnTo>
                    <a:cubicBezTo>
                      <a:pt x="17285" y="4"/>
                      <a:pt x="17286" y="5"/>
                      <a:pt x="17286" y="6"/>
                    </a:cubicBezTo>
                    <a:cubicBezTo>
                      <a:pt x="17286" y="7"/>
                      <a:pt x="17285" y="8"/>
                      <a:pt x="17284" y="8"/>
                    </a:cubicBezTo>
                    <a:lnTo>
                      <a:pt x="17284" y="8"/>
                    </a:lnTo>
                    <a:cubicBezTo>
                      <a:pt x="17283" y="8"/>
                      <a:pt x="17282" y="7"/>
                      <a:pt x="17282" y="6"/>
                    </a:cubicBezTo>
                    <a:cubicBezTo>
                      <a:pt x="17282" y="5"/>
                      <a:pt x="17283" y="4"/>
                      <a:pt x="17284" y="4"/>
                    </a:cubicBezTo>
                    <a:close/>
                    <a:moveTo>
                      <a:pt x="17292" y="4"/>
                    </a:moveTo>
                    <a:lnTo>
                      <a:pt x="17292" y="4"/>
                    </a:lnTo>
                    <a:cubicBezTo>
                      <a:pt x="17293" y="4"/>
                      <a:pt x="17294" y="5"/>
                      <a:pt x="17294" y="6"/>
                    </a:cubicBezTo>
                    <a:cubicBezTo>
                      <a:pt x="17294" y="7"/>
                      <a:pt x="17293" y="8"/>
                      <a:pt x="17292" y="8"/>
                    </a:cubicBezTo>
                    <a:lnTo>
                      <a:pt x="17292" y="8"/>
                    </a:lnTo>
                    <a:cubicBezTo>
                      <a:pt x="17291" y="8"/>
                      <a:pt x="17290" y="7"/>
                      <a:pt x="17290" y="6"/>
                    </a:cubicBezTo>
                    <a:cubicBezTo>
                      <a:pt x="17290" y="5"/>
                      <a:pt x="17291" y="4"/>
                      <a:pt x="17292" y="4"/>
                    </a:cubicBezTo>
                    <a:close/>
                    <a:moveTo>
                      <a:pt x="17300" y="4"/>
                    </a:moveTo>
                    <a:lnTo>
                      <a:pt x="17300" y="4"/>
                    </a:lnTo>
                    <a:cubicBezTo>
                      <a:pt x="17301" y="4"/>
                      <a:pt x="17302" y="5"/>
                      <a:pt x="17302" y="6"/>
                    </a:cubicBezTo>
                    <a:cubicBezTo>
                      <a:pt x="17302" y="7"/>
                      <a:pt x="17301" y="8"/>
                      <a:pt x="17300" y="8"/>
                    </a:cubicBezTo>
                    <a:lnTo>
                      <a:pt x="17300" y="8"/>
                    </a:lnTo>
                    <a:cubicBezTo>
                      <a:pt x="17299" y="8"/>
                      <a:pt x="17298" y="7"/>
                      <a:pt x="17298" y="6"/>
                    </a:cubicBezTo>
                    <a:cubicBezTo>
                      <a:pt x="17298" y="5"/>
                      <a:pt x="17299" y="4"/>
                      <a:pt x="17300" y="4"/>
                    </a:cubicBezTo>
                    <a:close/>
                    <a:moveTo>
                      <a:pt x="17308" y="4"/>
                    </a:moveTo>
                    <a:lnTo>
                      <a:pt x="17308" y="4"/>
                    </a:lnTo>
                    <a:cubicBezTo>
                      <a:pt x="17309" y="4"/>
                      <a:pt x="17310" y="5"/>
                      <a:pt x="17310" y="6"/>
                    </a:cubicBezTo>
                    <a:cubicBezTo>
                      <a:pt x="17310" y="7"/>
                      <a:pt x="17309" y="8"/>
                      <a:pt x="17308" y="8"/>
                    </a:cubicBezTo>
                    <a:lnTo>
                      <a:pt x="17308" y="8"/>
                    </a:lnTo>
                    <a:cubicBezTo>
                      <a:pt x="17307" y="8"/>
                      <a:pt x="17306" y="7"/>
                      <a:pt x="17306" y="6"/>
                    </a:cubicBezTo>
                    <a:cubicBezTo>
                      <a:pt x="17306" y="5"/>
                      <a:pt x="17307" y="4"/>
                      <a:pt x="17308" y="4"/>
                    </a:cubicBezTo>
                    <a:close/>
                    <a:moveTo>
                      <a:pt x="17316" y="4"/>
                    </a:moveTo>
                    <a:lnTo>
                      <a:pt x="17316" y="4"/>
                    </a:lnTo>
                    <a:cubicBezTo>
                      <a:pt x="17317" y="4"/>
                      <a:pt x="17318" y="5"/>
                      <a:pt x="17318" y="6"/>
                    </a:cubicBezTo>
                    <a:cubicBezTo>
                      <a:pt x="17318" y="7"/>
                      <a:pt x="17317" y="8"/>
                      <a:pt x="17316" y="8"/>
                    </a:cubicBezTo>
                    <a:lnTo>
                      <a:pt x="17316" y="8"/>
                    </a:lnTo>
                    <a:cubicBezTo>
                      <a:pt x="17315" y="8"/>
                      <a:pt x="17314" y="7"/>
                      <a:pt x="17314" y="6"/>
                    </a:cubicBezTo>
                    <a:cubicBezTo>
                      <a:pt x="17314" y="5"/>
                      <a:pt x="17315" y="4"/>
                      <a:pt x="17316" y="4"/>
                    </a:cubicBezTo>
                    <a:close/>
                    <a:moveTo>
                      <a:pt x="17324" y="4"/>
                    </a:moveTo>
                    <a:lnTo>
                      <a:pt x="17324" y="4"/>
                    </a:lnTo>
                    <a:cubicBezTo>
                      <a:pt x="17325" y="4"/>
                      <a:pt x="17326" y="5"/>
                      <a:pt x="17326" y="6"/>
                    </a:cubicBezTo>
                    <a:cubicBezTo>
                      <a:pt x="17326" y="7"/>
                      <a:pt x="17325" y="8"/>
                      <a:pt x="17324" y="8"/>
                    </a:cubicBezTo>
                    <a:lnTo>
                      <a:pt x="17324" y="8"/>
                    </a:lnTo>
                    <a:cubicBezTo>
                      <a:pt x="17323" y="8"/>
                      <a:pt x="17322" y="7"/>
                      <a:pt x="17322" y="6"/>
                    </a:cubicBezTo>
                    <a:cubicBezTo>
                      <a:pt x="17322" y="5"/>
                      <a:pt x="17323" y="4"/>
                      <a:pt x="17324" y="4"/>
                    </a:cubicBezTo>
                    <a:close/>
                    <a:moveTo>
                      <a:pt x="17332" y="4"/>
                    </a:moveTo>
                    <a:lnTo>
                      <a:pt x="17332" y="4"/>
                    </a:lnTo>
                    <a:cubicBezTo>
                      <a:pt x="17333" y="4"/>
                      <a:pt x="17334" y="5"/>
                      <a:pt x="17334" y="6"/>
                    </a:cubicBezTo>
                    <a:cubicBezTo>
                      <a:pt x="17334" y="7"/>
                      <a:pt x="17333" y="8"/>
                      <a:pt x="17332" y="8"/>
                    </a:cubicBezTo>
                    <a:lnTo>
                      <a:pt x="17332" y="8"/>
                    </a:lnTo>
                    <a:cubicBezTo>
                      <a:pt x="17331" y="8"/>
                      <a:pt x="17330" y="7"/>
                      <a:pt x="17330" y="6"/>
                    </a:cubicBezTo>
                    <a:cubicBezTo>
                      <a:pt x="17330" y="5"/>
                      <a:pt x="17331" y="4"/>
                      <a:pt x="17332" y="4"/>
                    </a:cubicBezTo>
                    <a:close/>
                    <a:moveTo>
                      <a:pt x="17340" y="4"/>
                    </a:moveTo>
                    <a:lnTo>
                      <a:pt x="17340" y="4"/>
                    </a:lnTo>
                    <a:cubicBezTo>
                      <a:pt x="17341" y="4"/>
                      <a:pt x="17342" y="5"/>
                      <a:pt x="17342" y="6"/>
                    </a:cubicBezTo>
                    <a:cubicBezTo>
                      <a:pt x="17342" y="7"/>
                      <a:pt x="17341" y="8"/>
                      <a:pt x="17340" y="8"/>
                    </a:cubicBezTo>
                    <a:lnTo>
                      <a:pt x="17340" y="8"/>
                    </a:lnTo>
                    <a:cubicBezTo>
                      <a:pt x="17339" y="8"/>
                      <a:pt x="17338" y="7"/>
                      <a:pt x="17338" y="6"/>
                    </a:cubicBezTo>
                    <a:cubicBezTo>
                      <a:pt x="17338" y="5"/>
                      <a:pt x="17339" y="4"/>
                      <a:pt x="17340" y="4"/>
                    </a:cubicBezTo>
                    <a:close/>
                    <a:moveTo>
                      <a:pt x="17348" y="4"/>
                    </a:moveTo>
                    <a:lnTo>
                      <a:pt x="17348" y="4"/>
                    </a:lnTo>
                    <a:cubicBezTo>
                      <a:pt x="17349" y="4"/>
                      <a:pt x="17350" y="5"/>
                      <a:pt x="17350" y="6"/>
                    </a:cubicBezTo>
                    <a:cubicBezTo>
                      <a:pt x="17350" y="7"/>
                      <a:pt x="17349" y="8"/>
                      <a:pt x="17348" y="8"/>
                    </a:cubicBezTo>
                    <a:lnTo>
                      <a:pt x="17348" y="8"/>
                    </a:lnTo>
                    <a:cubicBezTo>
                      <a:pt x="17347" y="8"/>
                      <a:pt x="17346" y="7"/>
                      <a:pt x="17346" y="6"/>
                    </a:cubicBezTo>
                    <a:cubicBezTo>
                      <a:pt x="17346" y="5"/>
                      <a:pt x="17347" y="4"/>
                      <a:pt x="17348" y="4"/>
                    </a:cubicBezTo>
                    <a:close/>
                    <a:moveTo>
                      <a:pt x="17356" y="4"/>
                    </a:moveTo>
                    <a:lnTo>
                      <a:pt x="17356" y="4"/>
                    </a:lnTo>
                    <a:cubicBezTo>
                      <a:pt x="17357" y="4"/>
                      <a:pt x="17358" y="5"/>
                      <a:pt x="17358" y="6"/>
                    </a:cubicBezTo>
                    <a:cubicBezTo>
                      <a:pt x="17358" y="7"/>
                      <a:pt x="17357" y="8"/>
                      <a:pt x="17356" y="8"/>
                    </a:cubicBezTo>
                    <a:lnTo>
                      <a:pt x="17356" y="8"/>
                    </a:lnTo>
                    <a:cubicBezTo>
                      <a:pt x="17355" y="8"/>
                      <a:pt x="17354" y="7"/>
                      <a:pt x="17354" y="6"/>
                    </a:cubicBezTo>
                    <a:cubicBezTo>
                      <a:pt x="17354" y="5"/>
                      <a:pt x="17355" y="4"/>
                      <a:pt x="17356" y="4"/>
                    </a:cubicBezTo>
                    <a:close/>
                    <a:moveTo>
                      <a:pt x="17364" y="4"/>
                    </a:moveTo>
                    <a:lnTo>
                      <a:pt x="17364" y="4"/>
                    </a:lnTo>
                    <a:cubicBezTo>
                      <a:pt x="17365" y="4"/>
                      <a:pt x="17366" y="5"/>
                      <a:pt x="17366" y="6"/>
                    </a:cubicBezTo>
                    <a:cubicBezTo>
                      <a:pt x="17366" y="7"/>
                      <a:pt x="17365" y="8"/>
                      <a:pt x="17364" y="8"/>
                    </a:cubicBezTo>
                    <a:lnTo>
                      <a:pt x="17364" y="8"/>
                    </a:lnTo>
                    <a:cubicBezTo>
                      <a:pt x="17363" y="8"/>
                      <a:pt x="17362" y="7"/>
                      <a:pt x="17362" y="6"/>
                    </a:cubicBezTo>
                    <a:cubicBezTo>
                      <a:pt x="17362" y="5"/>
                      <a:pt x="17363" y="4"/>
                      <a:pt x="17364" y="4"/>
                    </a:cubicBezTo>
                    <a:close/>
                    <a:moveTo>
                      <a:pt x="17372" y="4"/>
                    </a:moveTo>
                    <a:lnTo>
                      <a:pt x="17372" y="4"/>
                    </a:lnTo>
                    <a:cubicBezTo>
                      <a:pt x="17373" y="4"/>
                      <a:pt x="17374" y="5"/>
                      <a:pt x="17374" y="6"/>
                    </a:cubicBezTo>
                    <a:cubicBezTo>
                      <a:pt x="17374" y="7"/>
                      <a:pt x="17373" y="8"/>
                      <a:pt x="17372" y="8"/>
                    </a:cubicBezTo>
                    <a:lnTo>
                      <a:pt x="17372" y="8"/>
                    </a:lnTo>
                    <a:cubicBezTo>
                      <a:pt x="17371" y="8"/>
                      <a:pt x="17370" y="7"/>
                      <a:pt x="17370" y="6"/>
                    </a:cubicBezTo>
                    <a:cubicBezTo>
                      <a:pt x="17370" y="5"/>
                      <a:pt x="17371" y="4"/>
                      <a:pt x="17372" y="4"/>
                    </a:cubicBezTo>
                    <a:close/>
                    <a:moveTo>
                      <a:pt x="17380" y="4"/>
                    </a:moveTo>
                    <a:lnTo>
                      <a:pt x="17380" y="4"/>
                    </a:lnTo>
                    <a:cubicBezTo>
                      <a:pt x="17381" y="4"/>
                      <a:pt x="17382" y="5"/>
                      <a:pt x="17382" y="6"/>
                    </a:cubicBezTo>
                    <a:cubicBezTo>
                      <a:pt x="17382" y="7"/>
                      <a:pt x="17381" y="8"/>
                      <a:pt x="17380" y="8"/>
                    </a:cubicBezTo>
                    <a:lnTo>
                      <a:pt x="17380" y="8"/>
                    </a:lnTo>
                    <a:cubicBezTo>
                      <a:pt x="17379" y="8"/>
                      <a:pt x="17378" y="7"/>
                      <a:pt x="17378" y="6"/>
                    </a:cubicBezTo>
                    <a:cubicBezTo>
                      <a:pt x="17378" y="5"/>
                      <a:pt x="17379" y="4"/>
                      <a:pt x="17380" y="4"/>
                    </a:cubicBezTo>
                    <a:close/>
                    <a:moveTo>
                      <a:pt x="17388" y="4"/>
                    </a:moveTo>
                    <a:lnTo>
                      <a:pt x="17388" y="4"/>
                    </a:lnTo>
                    <a:cubicBezTo>
                      <a:pt x="17389" y="4"/>
                      <a:pt x="17390" y="5"/>
                      <a:pt x="17390" y="6"/>
                    </a:cubicBezTo>
                    <a:cubicBezTo>
                      <a:pt x="17390" y="7"/>
                      <a:pt x="17389" y="8"/>
                      <a:pt x="17388" y="8"/>
                    </a:cubicBezTo>
                    <a:lnTo>
                      <a:pt x="17388" y="8"/>
                    </a:lnTo>
                    <a:cubicBezTo>
                      <a:pt x="17387" y="8"/>
                      <a:pt x="17386" y="7"/>
                      <a:pt x="17386" y="6"/>
                    </a:cubicBezTo>
                    <a:cubicBezTo>
                      <a:pt x="17386" y="5"/>
                      <a:pt x="17387" y="4"/>
                      <a:pt x="17388" y="4"/>
                    </a:cubicBezTo>
                    <a:close/>
                    <a:moveTo>
                      <a:pt x="17396" y="4"/>
                    </a:moveTo>
                    <a:lnTo>
                      <a:pt x="17396" y="4"/>
                    </a:lnTo>
                    <a:cubicBezTo>
                      <a:pt x="17397" y="4"/>
                      <a:pt x="17398" y="5"/>
                      <a:pt x="17398" y="6"/>
                    </a:cubicBezTo>
                    <a:cubicBezTo>
                      <a:pt x="17398" y="7"/>
                      <a:pt x="17397" y="8"/>
                      <a:pt x="17396" y="8"/>
                    </a:cubicBezTo>
                    <a:lnTo>
                      <a:pt x="17396" y="8"/>
                    </a:lnTo>
                    <a:cubicBezTo>
                      <a:pt x="17395" y="8"/>
                      <a:pt x="17394" y="7"/>
                      <a:pt x="17394" y="6"/>
                    </a:cubicBezTo>
                    <a:cubicBezTo>
                      <a:pt x="17394" y="5"/>
                      <a:pt x="17395" y="4"/>
                      <a:pt x="17396" y="4"/>
                    </a:cubicBezTo>
                    <a:close/>
                    <a:moveTo>
                      <a:pt x="17404" y="4"/>
                    </a:moveTo>
                    <a:lnTo>
                      <a:pt x="17404" y="4"/>
                    </a:lnTo>
                    <a:cubicBezTo>
                      <a:pt x="17405" y="4"/>
                      <a:pt x="17406" y="5"/>
                      <a:pt x="17406" y="6"/>
                    </a:cubicBezTo>
                    <a:cubicBezTo>
                      <a:pt x="17406" y="7"/>
                      <a:pt x="17405" y="8"/>
                      <a:pt x="17404" y="8"/>
                    </a:cubicBezTo>
                    <a:lnTo>
                      <a:pt x="17404" y="8"/>
                    </a:lnTo>
                    <a:cubicBezTo>
                      <a:pt x="17403" y="8"/>
                      <a:pt x="17402" y="7"/>
                      <a:pt x="17402" y="6"/>
                    </a:cubicBezTo>
                    <a:cubicBezTo>
                      <a:pt x="17402" y="5"/>
                      <a:pt x="17403" y="4"/>
                      <a:pt x="17404" y="4"/>
                    </a:cubicBezTo>
                    <a:close/>
                    <a:moveTo>
                      <a:pt x="17412" y="4"/>
                    </a:moveTo>
                    <a:lnTo>
                      <a:pt x="17412" y="4"/>
                    </a:lnTo>
                    <a:cubicBezTo>
                      <a:pt x="17413" y="4"/>
                      <a:pt x="17414" y="5"/>
                      <a:pt x="17414" y="6"/>
                    </a:cubicBezTo>
                    <a:cubicBezTo>
                      <a:pt x="17414" y="7"/>
                      <a:pt x="17413" y="8"/>
                      <a:pt x="17412" y="8"/>
                    </a:cubicBezTo>
                    <a:lnTo>
                      <a:pt x="17412" y="8"/>
                    </a:lnTo>
                    <a:cubicBezTo>
                      <a:pt x="17411" y="8"/>
                      <a:pt x="17410" y="7"/>
                      <a:pt x="17410" y="6"/>
                    </a:cubicBezTo>
                    <a:cubicBezTo>
                      <a:pt x="17410" y="5"/>
                      <a:pt x="17411" y="4"/>
                      <a:pt x="17412" y="4"/>
                    </a:cubicBezTo>
                    <a:close/>
                    <a:moveTo>
                      <a:pt x="17420" y="4"/>
                    </a:moveTo>
                    <a:lnTo>
                      <a:pt x="17420" y="4"/>
                    </a:lnTo>
                    <a:cubicBezTo>
                      <a:pt x="17421" y="4"/>
                      <a:pt x="17422" y="5"/>
                      <a:pt x="17422" y="6"/>
                    </a:cubicBezTo>
                    <a:cubicBezTo>
                      <a:pt x="17422" y="7"/>
                      <a:pt x="17421" y="8"/>
                      <a:pt x="17420" y="8"/>
                    </a:cubicBezTo>
                    <a:lnTo>
                      <a:pt x="17420" y="8"/>
                    </a:lnTo>
                    <a:cubicBezTo>
                      <a:pt x="17419" y="8"/>
                      <a:pt x="17418" y="7"/>
                      <a:pt x="17418" y="6"/>
                    </a:cubicBezTo>
                    <a:cubicBezTo>
                      <a:pt x="17418" y="5"/>
                      <a:pt x="17419" y="4"/>
                      <a:pt x="17420" y="4"/>
                    </a:cubicBezTo>
                    <a:close/>
                    <a:moveTo>
                      <a:pt x="17428" y="4"/>
                    </a:moveTo>
                    <a:lnTo>
                      <a:pt x="17428" y="4"/>
                    </a:lnTo>
                    <a:cubicBezTo>
                      <a:pt x="17429" y="4"/>
                      <a:pt x="17430" y="5"/>
                      <a:pt x="17430" y="6"/>
                    </a:cubicBezTo>
                    <a:cubicBezTo>
                      <a:pt x="17430" y="7"/>
                      <a:pt x="17429" y="8"/>
                      <a:pt x="17428" y="8"/>
                    </a:cubicBezTo>
                    <a:lnTo>
                      <a:pt x="17428" y="8"/>
                    </a:lnTo>
                    <a:cubicBezTo>
                      <a:pt x="17427" y="8"/>
                      <a:pt x="17426" y="7"/>
                      <a:pt x="17426" y="6"/>
                    </a:cubicBezTo>
                    <a:cubicBezTo>
                      <a:pt x="17426" y="5"/>
                      <a:pt x="17427" y="4"/>
                      <a:pt x="17428" y="4"/>
                    </a:cubicBezTo>
                    <a:close/>
                    <a:moveTo>
                      <a:pt x="17436" y="4"/>
                    </a:moveTo>
                    <a:lnTo>
                      <a:pt x="17436" y="4"/>
                    </a:lnTo>
                    <a:cubicBezTo>
                      <a:pt x="17437" y="4"/>
                      <a:pt x="17438" y="5"/>
                      <a:pt x="17438" y="6"/>
                    </a:cubicBezTo>
                    <a:cubicBezTo>
                      <a:pt x="17438" y="7"/>
                      <a:pt x="17437" y="8"/>
                      <a:pt x="17436" y="8"/>
                    </a:cubicBezTo>
                    <a:lnTo>
                      <a:pt x="17436" y="8"/>
                    </a:lnTo>
                    <a:cubicBezTo>
                      <a:pt x="17435" y="8"/>
                      <a:pt x="17434" y="7"/>
                      <a:pt x="17434" y="6"/>
                    </a:cubicBezTo>
                    <a:cubicBezTo>
                      <a:pt x="17434" y="5"/>
                      <a:pt x="17435" y="4"/>
                      <a:pt x="17436" y="4"/>
                    </a:cubicBezTo>
                    <a:close/>
                    <a:moveTo>
                      <a:pt x="17444" y="4"/>
                    </a:moveTo>
                    <a:lnTo>
                      <a:pt x="17444" y="4"/>
                    </a:lnTo>
                    <a:cubicBezTo>
                      <a:pt x="17445" y="4"/>
                      <a:pt x="17446" y="5"/>
                      <a:pt x="17446" y="6"/>
                    </a:cubicBezTo>
                    <a:cubicBezTo>
                      <a:pt x="17446" y="7"/>
                      <a:pt x="17445" y="8"/>
                      <a:pt x="17444" y="8"/>
                    </a:cubicBezTo>
                    <a:lnTo>
                      <a:pt x="17444" y="8"/>
                    </a:lnTo>
                    <a:cubicBezTo>
                      <a:pt x="17443" y="8"/>
                      <a:pt x="17442" y="7"/>
                      <a:pt x="17442" y="6"/>
                    </a:cubicBezTo>
                    <a:cubicBezTo>
                      <a:pt x="17442" y="5"/>
                      <a:pt x="17443" y="4"/>
                      <a:pt x="17444" y="4"/>
                    </a:cubicBezTo>
                    <a:close/>
                    <a:moveTo>
                      <a:pt x="17452" y="4"/>
                    </a:moveTo>
                    <a:lnTo>
                      <a:pt x="17452" y="4"/>
                    </a:lnTo>
                    <a:cubicBezTo>
                      <a:pt x="17453" y="4"/>
                      <a:pt x="17454" y="5"/>
                      <a:pt x="17454" y="6"/>
                    </a:cubicBezTo>
                    <a:cubicBezTo>
                      <a:pt x="17454" y="7"/>
                      <a:pt x="17453" y="8"/>
                      <a:pt x="17452" y="8"/>
                    </a:cubicBezTo>
                    <a:lnTo>
                      <a:pt x="17452" y="8"/>
                    </a:lnTo>
                    <a:cubicBezTo>
                      <a:pt x="17451" y="8"/>
                      <a:pt x="17450" y="7"/>
                      <a:pt x="17450" y="6"/>
                    </a:cubicBezTo>
                    <a:cubicBezTo>
                      <a:pt x="17450" y="5"/>
                      <a:pt x="17451" y="4"/>
                      <a:pt x="17452" y="4"/>
                    </a:cubicBezTo>
                    <a:close/>
                    <a:moveTo>
                      <a:pt x="17460" y="4"/>
                    </a:moveTo>
                    <a:lnTo>
                      <a:pt x="17460" y="4"/>
                    </a:lnTo>
                    <a:cubicBezTo>
                      <a:pt x="17461" y="4"/>
                      <a:pt x="17462" y="5"/>
                      <a:pt x="17462" y="6"/>
                    </a:cubicBezTo>
                    <a:cubicBezTo>
                      <a:pt x="17462" y="7"/>
                      <a:pt x="17461" y="8"/>
                      <a:pt x="17460" y="8"/>
                    </a:cubicBezTo>
                    <a:lnTo>
                      <a:pt x="17460" y="8"/>
                    </a:lnTo>
                    <a:cubicBezTo>
                      <a:pt x="17459" y="8"/>
                      <a:pt x="17458" y="7"/>
                      <a:pt x="17458" y="6"/>
                    </a:cubicBezTo>
                    <a:cubicBezTo>
                      <a:pt x="17458" y="5"/>
                      <a:pt x="17459" y="4"/>
                      <a:pt x="17460" y="4"/>
                    </a:cubicBezTo>
                    <a:close/>
                    <a:moveTo>
                      <a:pt x="17468" y="4"/>
                    </a:moveTo>
                    <a:lnTo>
                      <a:pt x="17468" y="4"/>
                    </a:lnTo>
                    <a:cubicBezTo>
                      <a:pt x="17469" y="4"/>
                      <a:pt x="17470" y="5"/>
                      <a:pt x="17470" y="6"/>
                    </a:cubicBezTo>
                    <a:cubicBezTo>
                      <a:pt x="17470" y="7"/>
                      <a:pt x="17469" y="8"/>
                      <a:pt x="17468" y="8"/>
                    </a:cubicBezTo>
                    <a:lnTo>
                      <a:pt x="17468" y="8"/>
                    </a:lnTo>
                    <a:cubicBezTo>
                      <a:pt x="17467" y="8"/>
                      <a:pt x="17466" y="7"/>
                      <a:pt x="17466" y="6"/>
                    </a:cubicBezTo>
                    <a:cubicBezTo>
                      <a:pt x="17466" y="5"/>
                      <a:pt x="17467" y="4"/>
                      <a:pt x="17468" y="4"/>
                    </a:cubicBezTo>
                    <a:close/>
                    <a:moveTo>
                      <a:pt x="17476" y="4"/>
                    </a:moveTo>
                    <a:lnTo>
                      <a:pt x="17476" y="4"/>
                    </a:lnTo>
                    <a:cubicBezTo>
                      <a:pt x="17477" y="4"/>
                      <a:pt x="17478" y="5"/>
                      <a:pt x="17478" y="6"/>
                    </a:cubicBezTo>
                    <a:cubicBezTo>
                      <a:pt x="17478" y="7"/>
                      <a:pt x="17477" y="8"/>
                      <a:pt x="17476" y="8"/>
                    </a:cubicBezTo>
                    <a:lnTo>
                      <a:pt x="17476" y="8"/>
                    </a:lnTo>
                    <a:cubicBezTo>
                      <a:pt x="17475" y="8"/>
                      <a:pt x="17474" y="7"/>
                      <a:pt x="17474" y="6"/>
                    </a:cubicBezTo>
                    <a:cubicBezTo>
                      <a:pt x="17474" y="5"/>
                      <a:pt x="17475" y="4"/>
                      <a:pt x="17476" y="4"/>
                    </a:cubicBezTo>
                    <a:close/>
                    <a:moveTo>
                      <a:pt x="17484" y="4"/>
                    </a:moveTo>
                    <a:lnTo>
                      <a:pt x="17484" y="4"/>
                    </a:lnTo>
                    <a:cubicBezTo>
                      <a:pt x="17485" y="4"/>
                      <a:pt x="17486" y="5"/>
                      <a:pt x="17486" y="6"/>
                    </a:cubicBezTo>
                    <a:cubicBezTo>
                      <a:pt x="17486" y="7"/>
                      <a:pt x="17485" y="8"/>
                      <a:pt x="17484" y="8"/>
                    </a:cubicBezTo>
                    <a:lnTo>
                      <a:pt x="17484" y="8"/>
                    </a:lnTo>
                    <a:cubicBezTo>
                      <a:pt x="17483" y="8"/>
                      <a:pt x="17482" y="7"/>
                      <a:pt x="17482" y="6"/>
                    </a:cubicBezTo>
                    <a:cubicBezTo>
                      <a:pt x="17482" y="5"/>
                      <a:pt x="17483" y="4"/>
                      <a:pt x="17484" y="4"/>
                    </a:cubicBezTo>
                    <a:close/>
                    <a:moveTo>
                      <a:pt x="17492" y="4"/>
                    </a:moveTo>
                    <a:lnTo>
                      <a:pt x="17492" y="4"/>
                    </a:lnTo>
                    <a:cubicBezTo>
                      <a:pt x="17493" y="4"/>
                      <a:pt x="17494" y="5"/>
                      <a:pt x="17494" y="6"/>
                    </a:cubicBezTo>
                    <a:cubicBezTo>
                      <a:pt x="17494" y="7"/>
                      <a:pt x="17493" y="8"/>
                      <a:pt x="17492" y="8"/>
                    </a:cubicBezTo>
                    <a:lnTo>
                      <a:pt x="17492" y="8"/>
                    </a:lnTo>
                    <a:cubicBezTo>
                      <a:pt x="17491" y="8"/>
                      <a:pt x="17490" y="7"/>
                      <a:pt x="17490" y="6"/>
                    </a:cubicBezTo>
                    <a:cubicBezTo>
                      <a:pt x="17490" y="5"/>
                      <a:pt x="17491" y="4"/>
                      <a:pt x="17492" y="4"/>
                    </a:cubicBezTo>
                    <a:close/>
                    <a:moveTo>
                      <a:pt x="17500" y="4"/>
                    </a:moveTo>
                    <a:lnTo>
                      <a:pt x="17500" y="4"/>
                    </a:lnTo>
                    <a:cubicBezTo>
                      <a:pt x="17501" y="4"/>
                      <a:pt x="17502" y="5"/>
                      <a:pt x="17502" y="6"/>
                    </a:cubicBezTo>
                    <a:cubicBezTo>
                      <a:pt x="17502" y="7"/>
                      <a:pt x="17501" y="8"/>
                      <a:pt x="17500" y="8"/>
                    </a:cubicBezTo>
                    <a:lnTo>
                      <a:pt x="17500" y="8"/>
                    </a:lnTo>
                    <a:cubicBezTo>
                      <a:pt x="17499" y="8"/>
                      <a:pt x="17498" y="7"/>
                      <a:pt x="17498" y="6"/>
                    </a:cubicBezTo>
                    <a:cubicBezTo>
                      <a:pt x="17498" y="5"/>
                      <a:pt x="17499" y="4"/>
                      <a:pt x="17500" y="4"/>
                    </a:cubicBezTo>
                    <a:close/>
                    <a:moveTo>
                      <a:pt x="17508" y="4"/>
                    </a:moveTo>
                    <a:lnTo>
                      <a:pt x="17508" y="4"/>
                    </a:lnTo>
                    <a:cubicBezTo>
                      <a:pt x="17509" y="4"/>
                      <a:pt x="17510" y="5"/>
                      <a:pt x="17510" y="6"/>
                    </a:cubicBezTo>
                    <a:cubicBezTo>
                      <a:pt x="17510" y="7"/>
                      <a:pt x="17509" y="8"/>
                      <a:pt x="17508" y="8"/>
                    </a:cubicBezTo>
                    <a:lnTo>
                      <a:pt x="17508" y="8"/>
                    </a:lnTo>
                    <a:cubicBezTo>
                      <a:pt x="17507" y="8"/>
                      <a:pt x="17506" y="7"/>
                      <a:pt x="17506" y="6"/>
                    </a:cubicBezTo>
                    <a:cubicBezTo>
                      <a:pt x="17506" y="5"/>
                      <a:pt x="17507" y="4"/>
                      <a:pt x="17508" y="4"/>
                    </a:cubicBezTo>
                    <a:close/>
                    <a:moveTo>
                      <a:pt x="17516" y="4"/>
                    </a:moveTo>
                    <a:lnTo>
                      <a:pt x="17516" y="4"/>
                    </a:lnTo>
                    <a:cubicBezTo>
                      <a:pt x="17517" y="4"/>
                      <a:pt x="17518" y="5"/>
                      <a:pt x="17518" y="6"/>
                    </a:cubicBezTo>
                    <a:cubicBezTo>
                      <a:pt x="17518" y="7"/>
                      <a:pt x="17517" y="8"/>
                      <a:pt x="17516" y="8"/>
                    </a:cubicBezTo>
                    <a:lnTo>
                      <a:pt x="17516" y="8"/>
                    </a:lnTo>
                    <a:cubicBezTo>
                      <a:pt x="17515" y="8"/>
                      <a:pt x="17514" y="7"/>
                      <a:pt x="17514" y="6"/>
                    </a:cubicBezTo>
                    <a:cubicBezTo>
                      <a:pt x="17514" y="5"/>
                      <a:pt x="17515" y="4"/>
                      <a:pt x="17516" y="4"/>
                    </a:cubicBezTo>
                    <a:close/>
                    <a:moveTo>
                      <a:pt x="17524" y="4"/>
                    </a:moveTo>
                    <a:lnTo>
                      <a:pt x="17524" y="4"/>
                    </a:lnTo>
                    <a:cubicBezTo>
                      <a:pt x="17525" y="4"/>
                      <a:pt x="17526" y="5"/>
                      <a:pt x="17526" y="6"/>
                    </a:cubicBezTo>
                    <a:cubicBezTo>
                      <a:pt x="17526" y="7"/>
                      <a:pt x="17525" y="8"/>
                      <a:pt x="17524" y="8"/>
                    </a:cubicBezTo>
                    <a:lnTo>
                      <a:pt x="17524" y="8"/>
                    </a:lnTo>
                    <a:cubicBezTo>
                      <a:pt x="17523" y="8"/>
                      <a:pt x="17522" y="7"/>
                      <a:pt x="17522" y="6"/>
                    </a:cubicBezTo>
                    <a:cubicBezTo>
                      <a:pt x="17522" y="5"/>
                      <a:pt x="17523" y="4"/>
                      <a:pt x="17524" y="4"/>
                    </a:cubicBezTo>
                    <a:close/>
                    <a:moveTo>
                      <a:pt x="17532" y="4"/>
                    </a:moveTo>
                    <a:lnTo>
                      <a:pt x="17532" y="4"/>
                    </a:lnTo>
                    <a:cubicBezTo>
                      <a:pt x="17533" y="4"/>
                      <a:pt x="17534" y="5"/>
                      <a:pt x="17534" y="6"/>
                    </a:cubicBezTo>
                    <a:cubicBezTo>
                      <a:pt x="17534" y="7"/>
                      <a:pt x="17533" y="8"/>
                      <a:pt x="17532" y="8"/>
                    </a:cubicBezTo>
                    <a:lnTo>
                      <a:pt x="17532" y="8"/>
                    </a:lnTo>
                    <a:cubicBezTo>
                      <a:pt x="17531" y="8"/>
                      <a:pt x="17530" y="7"/>
                      <a:pt x="17530" y="6"/>
                    </a:cubicBezTo>
                    <a:cubicBezTo>
                      <a:pt x="17530" y="5"/>
                      <a:pt x="17531" y="4"/>
                      <a:pt x="17532" y="4"/>
                    </a:cubicBezTo>
                    <a:close/>
                    <a:moveTo>
                      <a:pt x="17540" y="4"/>
                    </a:moveTo>
                    <a:lnTo>
                      <a:pt x="17540" y="4"/>
                    </a:lnTo>
                    <a:cubicBezTo>
                      <a:pt x="17541" y="4"/>
                      <a:pt x="17542" y="5"/>
                      <a:pt x="17542" y="6"/>
                    </a:cubicBezTo>
                    <a:cubicBezTo>
                      <a:pt x="17542" y="7"/>
                      <a:pt x="17541" y="8"/>
                      <a:pt x="17540" y="8"/>
                    </a:cubicBezTo>
                    <a:lnTo>
                      <a:pt x="17540" y="8"/>
                    </a:lnTo>
                    <a:cubicBezTo>
                      <a:pt x="17539" y="8"/>
                      <a:pt x="17538" y="7"/>
                      <a:pt x="17538" y="6"/>
                    </a:cubicBezTo>
                    <a:cubicBezTo>
                      <a:pt x="17538" y="5"/>
                      <a:pt x="17539" y="4"/>
                      <a:pt x="17540" y="4"/>
                    </a:cubicBezTo>
                    <a:close/>
                    <a:moveTo>
                      <a:pt x="17548" y="4"/>
                    </a:moveTo>
                    <a:lnTo>
                      <a:pt x="17548" y="4"/>
                    </a:lnTo>
                    <a:cubicBezTo>
                      <a:pt x="17549" y="4"/>
                      <a:pt x="17550" y="5"/>
                      <a:pt x="17550" y="6"/>
                    </a:cubicBezTo>
                    <a:cubicBezTo>
                      <a:pt x="17550" y="7"/>
                      <a:pt x="17549" y="8"/>
                      <a:pt x="17548" y="8"/>
                    </a:cubicBezTo>
                    <a:lnTo>
                      <a:pt x="17548" y="8"/>
                    </a:lnTo>
                    <a:cubicBezTo>
                      <a:pt x="17547" y="8"/>
                      <a:pt x="17546" y="7"/>
                      <a:pt x="17546" y="6"/>
                    </a:cubicBezTo>
                    <a:cubicBezTo>
                      <a:pt x="17546" y="5"/>
                      <a:pt x="17547" y="4"/>
                      <a:pt x="17548" y="4"/>
                    </a:cubicBezTo>
                    <a:close/>
                    <a:moveTo>
                      <a:pt x="17556" y="4"/>
                    </a:moveTo>
                    <a:lnTo>
                      <a:pt x="17556" y="4"/>
                    </a:lnTo>
                    <a:cubicBezTo>
                      <a:pt x="17557" y="4"/>
                      <a:pt x="17558" y="5"/>
                      <a:pt x="17558" y="6"/>
                    </a:cubicBezTo>
                    <a:cubicBezTo>
                      <a:pt x="17558" y="7"/>
                      <a:pt x="17557" y="8"/>
                      <a:pt x="17556" y="8"/>
                    </a:cubicBezTo>
                    <a:lnTo>
                      <a:pt x="17556" y="8"/>
                    </a:lnTo>
                    <a:cubicBezTo>
                      <a:pt x="17555" y="8"/>
                      <a:pt x="17554" y="7"/>
                      <a:pt x="17554" y="6"/>
                    </a:cubicBezTo>
                    <a:cubicBezTo>
                      <a:pt x="17554" y="5"/>
                      <a:pt x="17555" y="4"/>
                      <a:pt x="17556" y="4"/>
                    </a:cubicBezTo>
                    <a:close/>
                    <a:moveTo>
                      <a:pt x="17564" y="4"/>
                    </a:moveTo>
                    <a:lnTo>
                      <a:pt x="17564" y="4"/>
                    </a:lnTo>
                    <a:cubicBezTo>
                      <a:pt x="17565" y="4"/>
                      <a:pt x="17566" y="5"/>
                      <a:pt x="17566" y="6"/>
                    </a:cubicBezTo>
                    <a:cubicBezTo>
                      <a:pt x="17566" y="7"/>
                      <a:pt x="17565" y="8"/>
                      <a:pt x="17564" y="8"/>
                    </a:cubicBezTo>
                    <a:lnTo>
                      <a:pt x="17564" y="8"/>
                    </a:lnTo>
                    <a:cubicBezTo>
                      <a:pt x="17563" y="8"/>
                      <a:pt x="17562" y="7"/>
                      <a:pt x="17562" y="6"/>
                    </a:cubicBezTo>
                    <a:cubicBezTo>
                      <a:pt x="17562" y="5"/>
                      <a:pt x="17563" y="4"/>
                      <a:pt x="17564" y="4"/>
                    </a:cubicBezTo>
                    <a:close/>
                    <a:moveTo>
                      <a:pt x="17572" y="4"/>
                    </a:moveTo>
                    <a:lnTo>
                      <a:pt x="17572" y="4"/>
                    </a:lnTo>
                    <a:cubicBezTo>
                      <a:pt x="17573" y="4"/>
                      <a:pt x="17574" y="5"/>
                      <a:pt x="17574" y="6"/>
                    </a:cubicBezTo>
                    <a:cubicBezTo>
                      <a:pt x="17574" y="7"/>
                      <a:pt x="17573" y="8"/>
                      <a:pt x="17572" y="8"/>
                    </a:cubicBezTo>
                    <a:lnTo>
                      <a:pt x="17572" y="8"/>
                    </a:lnTo>
                    <a:cubicBezTo>
                      <a:pt x="17571" y="8"/>
                      <a:pt x="17570" y="7"/>
                      <a:pt x="17570" y="6"/>
                    </a:cubicBezTo>
                    <a:cubicBezTo>
                      <a:pt x="17570" y="5"/>
                      <a:pt x="17571" y="4"/>
                      <a:pt x="17572" y="4"/>
                    </a:cubicBezTo>
                    <a:close/>
                    <a:moveTo>
                      <a:pt x="17580" y="4"/>
                    </a:moveTo>
                    <a:lnTo>
                      <a:pt x="17580" y="4"/>
                    </a:lnTo>
                    <a:cubicBezTo>
                      <a:pt x="17581" y="4"/>
                      <a:pt x="17582" y="5"/>
                      <a:pt x="17582" y="6"/>
                    </a:cubicBezTo>
                    <a:cubicBezTo>
                      <a:pt x="17582" y="7"/>
                      <a:pt x="17581" y="8"/>
                      <a:pt x="17580" y="8"/>
                    </a:cubicBezTo>
                    <a:lnTo>
                      <a:pt x="17580" y="8"/>
                    </a:lnTo>
                    <a:cubicBezTo>
                      <a:pt x="17579" y="8"/>
                      <a:pt x="17578" y="7"/>
                      <a:pt x="17578" y="6"/>
                    </a:cubicBezTo>
                    <a:cubicBezTo>
                      <a:pt x="17578" y="5"/>
                      <a:pt x="17579" y="4"/>
                      <a:pt x="17580" y="4"/>
                    </a:cubicBezTo>
                    <a:close/>
                    <a:moveTo>
                      <a:pt x="17588" y="4"/>
                    </a:moveTo>
                    <a:lnTo>
                      <a:pt x="17588" y="4"/>
                    </a:lnTo>
                    <a:cubicBezTo>
                      <a:pt x="17589" y="4"/>
                      <a:pt x="17590" y="5"/>
                      <a:pt x="17590" y="6"/>
                    </a:cubicBezTo>
                    <a:cubicBezTo>
                      <a:pt x="17590" y="7"/>
                      <a:pt x="17589" y="8"/>
                      <a:pt x="17588" y="8"/>
                    </a:cubicBezTo>
                    <a:lnTo>
                      <a:pt x="17588" y="8"/>
                    </a:lnTo>
                    <a:cubicBezTo>
                      <a:pt x="17587" y="8"/>
                      <a:pt x="17586" y="7"/>
                      <a:pt x="17586" y="6"/>
                    </a:cubicBezTo>
                    <a:cubicBezTo>
                      <a:pt x="17586" y="5"/>
                      <a:pt x="17587" y="4"/>
                      <a:pt x="17588" y="4"/>
                    </a:cubicBezTo>
                    <a:close/>
                    <a:moveTo>
                      <a:pt x="17596" y="4"/>
                    </a:moveTo>
                    <a:lnTo>
                      <a:pt x="17596" y="4"/>
                    </a:lnTo>
                    <a:cubicBezTo>
                      <a:pt x="17597" y="4"/>
                      <a:pt x="17598" y="5"/>
                      <a:pt x="17598" y="6"/>
                    </a:cubicBezTo>
                    <a:cubicBezTo>
                      <a:pt x="17598" y="7"/>
                      <a:pt x="17597" y="8"/>
                      <a:pt x="17596" y="8"/>
                    </a:cubicBezTo>
                    <a:lnTo>
                      <a:pt x="17596" y="8"/>
                    </a:lnTo>
                    <a:cubicBezTo>
                      <a:pt x="17595" y="8"/>
                      <a:pt x="17594" y="7"/>
                      <a:pt x="17594" y="6"/>
                    </a:cubicBezTo>
                    <a:cubicBezTo>
                      <a:pt x="17594" y="5"/>
                      <a:pt x="17595" y="4"/>
                      <a:pt x="17596" y="4"/>
                    </a:cubicBezTo>
                    <a:close/>
                    <a:moveTo>
                      <a:pt x="17604" y="4"/>
                    </a:moveTo>
                    <a:lnTo>
                      <a:pt x="17604" y="4"/>
                    </a:lnTo>
                    <a:cubicBezTo>
                      <a:pt x="17605" y="4"/>
                      <a:pt x="17606" y="5"/>
                      <a:pt x="17606" y="6"/>
                    </a:cubicBezTo>
                    <a:cubicBezTo>
                      <a:pt x="17606" y="7"/>
                      <a:pt x="17605" y="8"/>
                      <a:pt x="17604" y="8"/>
                    </a:cubicBezTo>
                    <a:lnTo>
                      <a:pt x="17604" y="8"/>
                    </a:lnTo>
                    <a:cubicBezTo>
                      <a:pt x="17603" y="8"/>
                      <a:pt x="17602" y="7"/>
                      <a:pt x="17602" y="6"/>
                    </a:cubicBezTo>
                    <a:cubicBezTo>
                      <a:pt x="17602" y="5"/>
                      <a:pt x="17603" y="4"/>
                      <a:pt x="17604" y="4"/>
                    </a:cubicBezTo>
                    <a:close/>
                    <a:moveTo>
                      <a:pt x="17612" y="4"/>
                    </a:moveTo>
                    <a:lnTo>
                      <a:pt x="17612" y="4"/>
                    </a:lnTo>
                    <a:cubicBezTo>
                      <a:pt x="17613" y="4"/>
                      <a:pt x="17614" y="5"/>
                      <a:pt x="17614" y="6"/>
                    </a:cubicBezTo>
                    <a:cubicBezTo>
                      <a:pt x="17614" y="7"/>
                      <a:pt x="17613" y="8"/>
                      <a:pt x="17612" y="8"/>
                    </a:cubicBezTo>
                    <a:lnTo>
                      <a:pt x="17612" y="8"/>
                    </a:lnTo>
                    <a:cubicBezTo>
                      <a:pt x="17611" y="8"/>
                      <a:pt x="17610" y="7"/>
                      <a:pt x="17610" y="6"/>
                    </a:cubicBezTo>
                    <a:cubicBezTo>
                      <a:pt x="17610" y="5"/>
                      <a:pt x="17611" y="4"/>
                      <a:pt x="17612" y="4"/>
                    </a:cubicBezTo>
                    <a:close/>
                    <a:moveTo>
                      <a:pt x="17620" y="4"/>
                    </a:moveTo>
                    <a:lnTo>
                      <a:pt x="17620" y="4"/>
                    </a:lnTo>
                    <a:cubicBezTo>
                      <a:pt x="17621" y="4"/>
                      <a:pt x="17622" y="5"/>
                      <a:pt x="17622" y="6"/>
                    </a:cubicBezTo>
                    <a:cubicBezTo>
                      <a:pt x="17622" y="7"/>
                      <a:pt x="17621" y="8"/>
                      <a:pt x="17620" y="8"/>
                    </a:cubicBezTo>
                    <a:lnTo>
                      <a:pt x="17620" y="8"/>
                    </a:lnTo>
                    <a:cubicBezTo>
                      <a:pt x="17619" y="8"/>
                      <a:pt x="17618" y="7"/>
                      <a:pt x="17618" y="6"/>
                    </a:cubicBezTo>
                    <a:cubicBezTo>
                      <a:pt x="17618" y="5"/>
                      <a:pt x="17619" y="4"/>
                      <a:pt x="17620" y="4"/>
                    </a:cubicBezTo>
                    <a:close/>
                    <a:moveTo>
                      <a:pt x="17628" y="4"/>
                    </a:moveTo>
                    <a:lnTo>
                      <a:pt x="17628" y="4"/>
                    </a:lnTo>
                    <a:cubicBezTo>
                      <a:pt x="17629" y="4"/>
                      <a:pt x="17630" y="5"/>
                      <a:pt x="17630" y="6"/>
                    </a:cubicBezTo>
                    <a:cubicBezTo>
                      <a:pt x="17630" y="7"/>
                      <a:pt x="17629" y="8"/>
                      <a:pt x="17628" y="8"/>
                    </a:cubicBezTo>
                    <a:lnTo>
                      <a:pt x="17628" y="8"/>
                    </a:lnTo>
                    <a:cubicBezTo>
                      <a:pt x="17627" y="8"/>
                      <a:pt x="17626" y="7"/>
                      <a:pt x="17626" y="6"/>
                    </a:cubicBezTo>
                    <a:cubicBezTo>
                      <a:pt x="17626" y="5"/>
                      <a:pt x="17627" y="4"/>
                      <a:pt x="17628" y="4"/>
                    </a:cubicBezTo>
                    <a:close/>
                    <a:moveTo>
                      <a:pt x="17636" y="4"/>
                    </a:moveTo>
                    <a:lnTo>
                      <a:pt x="17636" y="4"/>
                    </a:lnTo>
                    <a:cubicBezTo>
                      <a:pt x="17637" y="4"/>
                      <a:pt x="17638" y="5"/>
                      <a:pt x="17638" y="6"/>
                    </a:cubicBezTo>
                    <a:cubicBezTo>
                      <a:pt x="17638" y="7"/>
                      <a:pt x="17637" y="8"/>
                      <a:pt x="17636" y="8"/>
                    </a:cubicBezTo>
                    <a:lnTo>
                      <a:pt x="17636" y="8"/>
                    </a:lnTo>
                    <a:cubicBezTo>
                      <a:pt x="17635" y="8"/>
                      <a:pt x="17634" y="7"/>
                      <a:pt x="17634" y="6"/>
                    </a:cubicBezTo>
                    <a:cubicBezTo>
                      <a:pt x="17634" y="5"/>
                      <a:pt x="17635" y="4"/>
                      <a:pt x="17636" y="4"/>
                    </a:cubicBezTo>
                    <a:close/>
                    <a:moveTo>
                      <a:pt x="17644" y="4"/>
                    </a:moveTo>
                    <a:lnTo>
                      <a:pt x="17644" y="4"/>
                    </a:lnTo>
                    <a:cubicBezTo>
                      <a:pt x="17645" y="4"/>
                      <a:pt x="17646" y="5"/>
                      <a:pt x="17646" y="6"/>
                    </a:cubicBezTo>
                    <a:cubicBezTo>
                      <a:pt x="17646" y="7"/>
                      <a:pt x="17645" y="8"/>
                      <a:pt x="17644" y="8"/>
                    </a:cubicBezTo>
                    <a:lnTo>
                      <a:pt x="17644" y="8"/>
                    </a:lnTo>
                    <a:cubicBezTo>
                      <a:pt x="17643" y="8"/>
                      <a:pt x="17642" y="7"/>
                      <a:pt x="17642" y="6"/>
                    </a:cubicBezTo>
                    <a:cubicBezTo>
                      <a:pt x="17642" y="5"/>
                      <a:pt x="17643" y="4"/>
                      <a:pt x="17644" y="4"/>
                    </a:cubicBezTo>
                    <a:close/>
                    <a:moveTo>
                      <a:pt x="17652" y="4"/>
                    </a:moveTo>
                    <a:lnTo>
                      <a:pt x="17652" y="4"/>
                    </a:lnTo>
                    <a:cubicBezTo>
                      <a:pt x="17653" y="4"/>
                      <a:pt x="17654" y="5"/>
                      <a:pt x="17654" y="6"/>
                    </a:cubicBezTo>
                    <a:cubicBezTo>
                      <a:pt x="17654" y="7"/>
                      <a:pt x="17653" y="8"/>
                      <a:pt x="17652" y="8"/>
                    </a:cubicBezTo>
                    <a:lnTo>
                      <a:pt x="17652" y="8"/>
                    </a:lnTo>
                    <a:cubicBezTo>
                      <a:pt x="17651" y="8"/>
                      <a:pt x="17650" y="7"/>
                      <a:pt x="17650" y="6"/>
                    </a:cubicBezTo>
                    <a:cubicBezTo>
                      <a:pt x="17650" y="5"/>
                      <a:pt x="17651" y="4"/>
                      <a:pt x="17652" y="4"/>
                    </a:cubicBezTo>
                    <a:close/>
                    <a:moveTo>
                      <a:pt x="17660" y="4"/>
                    </a:moveTo>
                    <a:lnTo>
                      <a:pt x="17660" y="4"/>
                    </a:lnTo>
                    <a:cubicBezTo>
                      <a:pt x="17661" y="4"/>
                      <a:pt x="17662" y="5"/>
                      <a:pt x="17662" y="6"/>
                    </a:cubicBezTo>
                    <a:cubicBezTo>
                      <a:pt x="17662" y="7"/>
                      <a:pt x="17661" y="8"/>
                      <a:pt x="17660" y="8"/>
                    </a:cubicBezTo>
                    <a:lnTo>
                      <a:pt x="17660" y="8"/>
                    </a:lnTo>
                    <a:cubicBezTo>
                      <a:pt x="17659" y="8"/>
                      <a:pt x="17658" y="7"/>
                      <a:pt x="17658" y="6"/>
                    </a:cubicBezTo>
                    <a:cubicBezTo>
                      <a:pt x="17658" y="5"/>
                      <a:pt x="17659" y="4"/>
                      <a:pt x="17660" y="4"/>
                    </a:cubicBezTo>
                    <a:close/>
                    <a:moveTo>
                      <a:pt x="17668" y="4"/>
                    </a:moveTo>
                    <a:lnTo>
                      <a:pt x="17668" y="4"/>
                    </a:lnTo>
                    <a:cubicBezTo>
                      <a:pt x="17669" y="4"/>
                      <a:pt x="17670" y="5"/>
                      <a:pt x="17670" y="6"/>
                    </a:cubicBezTo>
                    <a:cubicBezTo>
                      <a:pt x="17670" y="7"/>
                      <a:pt x="17669" y="8"/>
                      <a:pt x="17668" y="8"/>
                    </a:cubicBezTo>
                    <a:lnTo>
                      <a:pt x="17668" y="8"/>
                    </a:lnTo>
                    <a:cubicBezTo>
                      <a:pt x="17667" y="8"/>
                      <a:pt x="17666" y="7"/>
                      <a:pt x="17666" y="6"/>
                    </a:cubicBezTo>
                    <a:cubicBezTo>
                      <a:pt x="17666" y="5"/>
                      <a:pt x="17667" y="4"/>
                      <a:pt x="17668" y="4"/>
                    </a:cubicBezTo>
                    <a:close/>
                    <a:moveTo>
                      <a:pt x="17676" y="4"/>
                    </a:moveTo>
                    <a:lnTo>
                      <a:pt x="17676" y="4"/>
                    </a:lnTo>
                    <a:cubicBezTo>
                      <a:pt x="17677" y="4"/>
                      <a:pt x="17678" y="5"/>
                      <a:pt x="17678" y="6"/>
                    </a:cubicBezTo>
                    <a:cubicBezTo>
                      <a:pt x="17678" y="7"/>
                      <a:pt x="17677" y="8"/>
                      <a:pt x="17676" y="8"/>
                    </a:cubicBezTo>
                    <a:lnTo>
                      <a:pt x="17676" y="8"/>
                    </a:lnTo>
                    <a:cubicBezTo>
                      <a:pt x="17675" y="8"/>
                      <a:pt x="17674" y="7"/>
                      <a:pt x="17674" y="6"/>
                    </a:cubicBezTo>
                    <a:cubicBezTo>
                      <a:pt x="17674" y="5"/>
                      <a:pt x="17675" y="4"/>
                      <a:pt x="17676" y="4"/>
                    </a:cubicBezTo>
                    <a:close/>
                    <a:moveTo>
                      <a:pt x="17684" y="4"/>
                    </a:moveTo>
                    <a:lnTo>
                      <a:pt x="17684" y="4"/>
                    </a:lnTo>
                    <a:cubicBezTo>
                      <a:pt x="17685" y="4"/>
                      <a:pt x="17686" y="5"/>
                      <a:pt x="17686" y="6"/>
                    </a:cubicBezTo>
                    <a:cubicBezTo>
                      <a:pt x="17686" y="7"/>
                      <a:pt x="17685" y="8"/>
                      <a:pt x="17684" y="8"/>
                    </a:cubicBezTo>
                    <a:lnTo>
                      <a:pt x="17684" y="8"/>
                    </a:lnTo>
                    <a:cubicBezTo>
                      <a:pt x="17683" y="8"/>
                      <a:pt x="17682" y="7"/>
                      <a:pt x="17682" y="6"/>
                    </a:cubicBezTo>
                    <a:cubicBezTo>
                      <a:pt x="17682" y="5"/>
                      <a:pt x="17683" y="4"/>
                      <a:pt x="17684" y="4"/>
                    </a:cubicBezTo>
                    <a:close/>
                    <a:moveTo>
                      <a:pt x="17692" y="4"/>
                    </a:moveTo>
                    <a:lnTo>
                      <a:pt x="17692" y="4"/>
                    </a:lnTo>
                    <a:cubicBezTo>
                      <a:pt x="17693" y="4"/>
                      <a:pt x="17694" y="5"/>
                      <a:pt x="17694" y="6"/>
                    </a:cubicBezTo>
                    <a:cubicBezTo>
                      <a:pt x="17694" y="7"/>
                      <a:pt x="17693" y="8"/>
                      <a:pt x="17692" y="8"/>
                    </a:cubicBezTo>
                    <a:lnTo>
                      <a:pt x="17692" y="8"/>
                    </a:lnTo>
                    <a:cubicBezTo>
                      <a:pt x="17691" y="8"/>
                      <a:pt x="17690" y="7"/>
                      <a:pt x="17690" y="6"/>
                    </a:cubicBezTo>
                    <a:cubicBezTo>
                      <a:pt x="17690" y="5"/>
                      <a:pt x="17691" y="4"/>
                      <a:pt x="17692" y="4"/>
                    </a:cubicBezTo>
                    <a:close/>
                    <a:moveTo>
                      <a:pt x="17700" y="4"/>
                    </a:moveTo>
                    <a:lnTo>
                      <a:pt x="17700" y="4"/>
                    </a:lnTo>
                    <a:cubicBezTo>
                      <a:pt x="17701" y="4"/>
                      <a:pt x="17702" y="5"/>
                      <a:pt x="17702" y="6"/>
                    </a:cubicBezTo>
                    <a:cubicBezTo>
                      <a:pt x="17702" y="7"/>
                      <a:pt x="17701" y="8"/>
                      <a:pt x="17700" y="8"/>
                    </a:cubicBezTo>
                    <a:lnTo>
                      <a:pt x="17700" y="8"/>
                    </a:lnTo>
                    <a:cubicBezTo>
                      <a:pt x="17699" y="8"/>
                      <a:pt x="17698" y="7"/>
                      <a:pt x="17698" y="6"/>
                    </a:cubicBezTo>
                    <a:cubicBezTo>
                      <a:pt x="17698" y="5"/>
                      <a:pt x="17699" y="4"/>
                      <a:pt x="17700" y="4"/>
                    </a:cubicBezTo>
                    <a:close/>
                    <a:moveTo>
                      <a:pt x="17708" y="4"/>
                    </a:moveTo>
                    <a:lnTo>
                      <a:pt x="17708" y="4"/>
                    </a:lnTo>
                    <a:cubicBezTo>
                      <a:pt x="17709" y="4"/>
                      <a:pt x="17710" y="5"/>
                      <a:pt x="17710" y="6"/>
                    </a:cubicBezTo>
                    <a:cubicBezTo>
                      <a:pt x="17710" y="7"/>
                      <a:pt x="17709" y="8"/>
                      <a:pt x="17708" y="8"/>
                    </a:cubicBezTo>
                    <a:lnTo>
                      <a:pt x="17708" y="8"/>
                    </a:lnTo>
                    <a:cubicBezTo>
                      <a:pt x="17707" y="8"/>
                      <a:pt x="17706" y="7"/>
                      <a:pt x="17706" y="6"/>
                    </a:cubicBezTo>
                    <a:cubicBezTo>
                      <a:pt x="17706" y="5"/>
                      <a:pt x="17707" y="4"/>
                      <a:pt x="17708" y="4"/>
                    </a:cubicBezTo>
                    <a:close/>
                    <a:moveTo>
                      <a:pt x="17716" y="4"/>
                    </a:moveTo>
                    <a:lnTo>
                      <a:pt x="17716" y="4"/>
                    </a:lnTo>
                    <a:cubicBezTo>
                      <a:pt x="17717" y="4"/>
                      <a:pt x="17718" y="5"/>
                      <a:pt x="17718" y="6"/>
                    </a:cubicBezTo>
                    <a:cubicBezTo>
                      <a:pt x="17718" y="7"/>
                      <a:pt x="17717" y="8"/>
                      <a:pt x="17716" y="8"/>
                    </a:cubicBezTo>
                    <a:lnTo>
                      <a:pt x="17716" y="8"/>
                    </a:lnTo>
                    <a:cubicBezTo>
                      <a:pt x="17715" y="8"/>
                      <a:pt x="17714" y="7"/>
                      <a:pt x="17714" y="6"/>
                    </a:cubicBezTo>
                    <a:cubicBezTo>
                      <a:pt x="17714" y="5"/>
                      <a:pt x="17715" y="4"/>
                      <a:pt x="17716" y="4"/>
                    </a:cubicBezTo>
                    <a:close/>
                    <a:moveTo>
                      <a:pt x="17724" y="4"/>
                    </a:moveTo>
                    <a:lnTo>
                      <a:pt x="17724" y="4"/>
                    </a:lnTo>
                    <a:cubicBezTo>
                      <a:pt x="17725" y="4"/>
                      <a:pt x="17726" y="5"/>
                      <a:pt x="17726" y="6"/>
                    </a:cubicBezTo>
                    <a:cubicBezTo>
                      <a:pt x="17726" y="7"/>
                      <a:pt x="17725" y="8"/>
                      <a:pt x="17724" y="8"/>
                    </a:cubicBezTo>
                    <a:lnTo>
                      <a:pt x="17724" y="8"/>
                    </a:lnTo>
                    <a:cubicBezTo>
                      <a:pt x="17723" y="8"/>
                      <a:pt x="17722" y="7"/>
                      <a:pt x="17722" y="6"/>
                    </a:cubicBezTo>
                    <a:cubicBezTo>
                      <a:pt x="17722" y="5"/>
                      <a:pt x="17723" y="4"/>
                      <a:pt x="17724" y="4"/>
                    </a:cubicBezTo>
                    <a:close/>
                    <a:moveTo>
                      <a:pt x="17732" y="4"/>
                    </a:moveTo>
                    <a:lnTo>
                      <a:pt x="17732" y="4"/>
                    </a:lnTo>
                    <a:cubicBezTo>
                      <a:pt x="17733" y="4"/>
                      <a:pt x="17734" y="5"/>
                      <a:pt x="17734" y="6"/>
                    </a:cubicBezTo>
                    <a:cubicBezTo>
                      <a:pt x="17734" y="7"/>
                      <a:pt x="17733" y="8"/>
                      <a:pt x="17732" y="8"/>
                    </a:cubicBezTo>
                    <a:lnTo>
                      <a:pt x="17732" y="8"/>
                    </a:lnTo>
                    <a:cubicBezTo>
                      <a:pt x="17731" y="8"/>
                      <a:pt x="17730" y="7"/>
                      <a:pt x="17730" y="6"/>
                    </a:cubicBezTo>
                    <a:cubicBezTo>
                      <a:pt x="17730" y="5"/>
                      <a:pt x="17731" y="4"/>
                      <a:pt x="17732" y="4"/>
                    </a:cubicBezTo>
                    <a:close/>
                    <a:moveTo>
                      <a:pt x="17740" y="4"/>
                    </a:moveTo>
                    <a:lnTo>
                      <a:pt x="17740" y="4"/>
                    </a:lnTo>
                    <a:cubicBezTo>
                      <a:pt x="17741" y="4"/>
                      <a:pt x="17742" y="5"/>
                      <a:pt x="17742" y="6"/>
                    </a:cubicBezTo>
                    <a:cubicBezTo>
                      <a:pt x="17742" y="7"/>
                      <a:pt x="17741" y="8"/>
                      <a:pt x="17740" y="8"/>
                    </a:cubicBezTo>
                    <a:lnTo>
                      <a:pt x="17740" y="8"/>
                    </a:lnTo>
                    <a:cubicBezTo>
                      <a:pt x="17739" y="8"/>
                      <a:pt x="17738" y="7"/>
                      <a:pt x="17738" y="6"/>
                    </a:cubicBezTo>
                    <a:cubicBezTo>
                      <a:pt x="17738" y="5"/>
                      <a:pt x="17739" y="4"/>
                      <a:pt x="17740" y="4"/>
                    </a:cubicBezTo>
                    <a:close/>
                    <a:moveTo>
                      <a:pt x="17748" y="4"/>
                    </a:moveTo>
                    <a:lnTo>
                      <a:pt x="17748" y="4"/>
                    </a:lnTo>
                    <a:cubicBezTo>
                      <a:pt x="17749" y="4"/>
                      <a:pt x="17750" y="5"/>
                      <a:pt x="17750" y="6"/>
                    </a:cubicBezTo>
                    <a:cubicBezTo>
                      <a:pt x="17750" y="7"/>
                      <a:pt x="17749" y="8"/>
                      <a:pt x="17748" y="8"/>
                    </a:cubicBezTo>
                    <a:lnTo>
                      <a:pt x="17748" y="8"/>
                    </a:lnTo>
                    <a:cubicBezTo>
                      <a:pt x="17747" y="8"/>
                      <a:pt x="17746" y="7"/>
                      <a:pt x="17746" y="6"/>
                    </a:cubicBezTo>
                    <a:cubicBezTo>
                      <a:pt x="17746" y="5"/>
                      <a:pt x="17747" y="4"/>
                      <a:pt x="17748" y="4"/>
                    </a:cubicBezTo>
                    <a:close/>
                    <a:moveTo>
                      <a:pt x="17756" y="4"/>
                    </a:moveTo>
                    <a:lnTo>
                      <a:pt x="17756" y="4"/>
                    </a:lnTo>
                    <a:cubicBezTo>
                      <a:pt x="17757" y="4"/>
                      <a:pt x="17758" y="5"/>
                      <a:pt x="17758" y="6"/>
                    </a:cubicBezTo>
                    <a:cubicBezTo>
                      <a:pt x="17758" y="7"/>
                      <a:pt x="17757" y="8"/>
                      <a:pt x="17756" y="8"/>
                    </a:cubicBezTo>
                    <a:lnTo>
                      <a:pt x="17756" y="8"/>
                    </a:lnTo>
                    <a:cubicBezTo>
                      <a:pt x="17755" y="8"/>
                      <a:pt x="17754" y="7"/>
                      <a:pt x="17754" y="6"/>
                    </a:cubicBezTo>
                    <a:cubicBezTo>
                      <a:pt x="17754" y="5"/>
                      <a:pt x="17755" y="4"/>
                      <a:pt x="17756" y="4"/>
                    </a:cubicBezTo>
                    <a:close/>
                    <a:moveTo>
                      <a:pt x="17764" y="4"/>
                    </a:moveTo>
                    <a:lnTo>
                      <a:pt x="17764" y="4"/>
                    </a:lnTo>
                    <a:cubicBezTo>
                      <a:pt x="17765" y="4"/>
                      <a:pt x="17766" y="5"/>
                      <a:pt x="17766" y="6"/>
                    </a:cubicBezTo>
                    <a:cubicBezTo>
                      <a:pt x="17766" y="7"/>
                      <a:pt x="17765" y="8"/>
                      <a:pt x="17764" y="8"/>
                    </a:cubicBezTo>
                    <a:lnTo>
                      <a:pt x="17764" y="8"/>
                    </a:lnTo>
                    <a:cubicBezTo>
                      <a:pt x="17763" y="8"/>
                      <a:pt x="17762" y="7"/>
                      <a:pt x="17762" y="6"/>
                    </a:cubicBezTo>
                    <a:cubicBezTo>
                      <a:pt x="17762" y="5"/>
                      <a:pt x="17763" y="4"/>
                      <a:pt x="17764" y="4"/>
                    </a:cubicBezTo>
                    <a:close/>
                    <a:moveTo>
                      <a:pt x="17772" y="4"/>
                    </a:moveTo>
                    <a:lnTo>
                      <a:pt x="17772" y="4"/>
                    </a:lnTo>
                    <a:cubicBezTo>
                      <a:pt x="17773" y="4"/>
                      <a:pt x="17774" y="5"/>
                      <a:pt x="17774" y="6"/>
                    </a:cubicBezTo>
                    <a:cubicBezTo>
                      <a:pt x="17774" y="7"/>
                      <a:pt x="17773" y="8"/>
                      <a:pt x="17772" y="8"/>
                    </a:cubicBezTo>
                    <a:lnTo>
                      <a:pt x="17772" y="8"/>
                    </a:lnTo>
                    <a:cubicBezTo>
                      <a:pt x="17771" y="8"/>
                      <a:pt x="17770" y="7"/>
                      <a:pt x="17770" y="6"/>
                    </a:cubicBezTo>
                    <a:cubicBezTo>
                      <a:pt x="17770" y="5"/>
                      <a:pt x="17771" y="4"/>
                      <a:pt x="17772" y="4"/>
                    </a:cubicBezTo>
                    <a:close/>
                    <a:moveTo>
                      <a:pt x="17780" y="4"/>
                    </a:moveTo>
                    <a:lnTo>
                      <a:pt x="17780" y="4"/>
                    </a:lnTo>
                    <a:cubicBezTo>
                      <a:pt x="17781" y="4"/>
                      <a:pt x="17782" y="5"/>
                      <a:pt x="17782" y="6"/>
                    </a:cubicBezTo>
                    <a:cubicBezTo>
                      <a:pt x="17782" y="7"/>
                      <a:pt x="17781" y="8"/>
                      <a:pt x="17780" y="8"/>
                    </a:cubicBezTo>
                    <a:lnTo>
                      <a:pt x="17780" y="8"/>
                    </a:lnTo>
                    <a:cubicBezTo>
                      <a:pt x="17779" y="8"/>
                      <a:pt x="17778" y="7"/>
                      <a:pt x="17778" y="6"/>
                    </a:cubicBezTo>
                    <a:cubicBezTo>
                      <a:pt x="17778" y="5"/>
                      <a:pt x="17779" y="4"/>
                      <a:pt x="17780" y="4"/>
                    </a:cubicBezTo>
                    <a:close/>
                    <a:moveTo>
                      <a:pt x="17788" y="4"/>
                    </a:moveTo>
                    <a:lnTo>
                      <a:pt x="17788" y="4"/>
                    </a:lnTo>
                    <a:cubicBezTo>
                      <a:pt x="17789" y="4"/>
                      <a:pt x="17790" y="5"/>
                      <a:pt x="17790" y="6"/>
                    </a:cubicBezTo>
                    <a:cubicBezTo>
                      <a:pt x="17790" y="7"/>
                      <a:pt x="17789" y="8"/>
                      <a:pt x="17788" y="8"/>
                    </a:cubicBezTo>
                    <a:lnTo>
                      <a:pt x="17788" y="8"/>
                    </a:lnTo>
                    <a:cubicBezTo>
                      <a:pt x="17787" y="8"/>
                      <a:pt x="17786" y="7"/>
                      <a:pt x="17786" y="6"/>
                    </a:cubicBezTo>
                    <a:cubicBezTo>
                      <a:pt x="17786" y="5"/>
                      <a:pt x="17787" y="4"/>
                      <a:pt x="17788" y="4"/>
                    </a:cubicBezTo>
                    <a:close/>
                    <a:moveTo>
                      <a:pt x="17796" y="4"/>
                    </a:moveTo>
                    <a:lnTo>
                      <a:pt x="17796" y="4"/>
                    </a:lnTo>
                    <a:cubicBezTo>
                      <a:pt x="17797" y="4"/>
                      <a:pt x="17798" y="5"/>
                      <a:pt x="17798" y="6"/>
                    </a:cubicBezTo>
                    <a:cubicBezTo>
                      <a:pt x="17798" y="7"/>
                      <a:pt x="17797" y="8"/>
                      <a:pt x="17796" y="8"/>
                    </a:cubicBezTo>
                    <a:lnTo>
                      <a:pt x="17796" y="8"/>
                    </a:lnTo>
                    <a:cubicBezTo>
                      <a:pt x="17795" y="8"/>
                      <a:pt x="17794" y="7"/>
                      <a:pt x="17794" y="6"/>
                    </a:cubicBezTo>
                    <a:cubicBezTo>
                      <a:pt x="17794" y="5"/>
                      <a:pt x="17795" y="4"/>
                      <a:pt x="17796" y="4"/>
                    </a:cubicBezTo>
                    <a:close/>
                    <a:moveTo>
                      <a:pt x="17804" y="4"/>
                    </a:moveTo>
                    <a:lnTo>
                      <a:pt x="17804" y="4"/>
                    </a:lnTo>
                    <a:cubicBezTo>
                      <a:pt x="17805" y="4"/>
                      <a:pt x="17806" y="5"/>
                      <a:pt x="17806" y="6"/>
                    </a:cubicBezTo>
                    <a:cubicBezTo>
                      <a:pt x="17806" y="7"/>
                      <a:pt x="17805" y="8"/>
                      <a:pt x="17804" y="8"/>
                    </a:cubicBezTo>
                    <a:lnTo>
                      <a:pt x="17804" y="8"/>
                    </a:lnTo>
                    <a:cubicBezTo>
                      <a:pt x="17803" y="8"/>
                      <a:pt x="17802" y="7"/>
                      <a:pt x="17802" y="6"/>
                    </a:cubicBezTo>
                    <a:cubicBezTo>
                      <a:pt x="17802" y="5"/>
                      <a:pt x="17803" y="4"/>
                      <a:pt x="17804" y="4"/>
                    </a:cubicBezTo>
                    <a:close/>
                    <a:moveTo>
                      <a:pt x="17812" y="4"/>
                    </a:moveTo>
                    <a:lnTo>
                      <a:pt x="17812" y="4"/>
                    </a:lnTo>
                    <a:cubicBezTo>
                      <a:pt x="17813" y="4"/>
                      <a:pt x="17814" y="5"/>
                      <a:pt x="17814" y="6"/>
                    </a:cubicBezTo>
                    <a:cubicBezTo>
                      <a:pt x="17814" y="7"/>
                      <a:pt x="17813" y="8"/>
                      <a:pt x="17812" y="8"/>
                    </a:cubicBezTo>
                    <a:lnTo>
                      <a:pt x="17812" y="8"/>
                    </a:lnTo>
                    <a:cubicBezTo>
                      <a:pt x="17811" y="8"/>
                      <a:pt x="17810" y="7"/>
                      <a:pt x="17810" y="6"/>
                    </a:cubicBezTo>
                    <a:cubicBezTo>
                      <a:pt x="17810" y="5"/>
                      <a:pt x="17811" y="4"/>
                      <a:pt x="17812" y="4"/>
                    </a:cubicBezTo>
                    <a:close/>
                    <a:moveTo>
                      <a:pt x="17820" y="4"/>
                    </a:moveTo>
                    <a:lnTo>
                      <a:pt x="17820" y="4"/>
                    </a:lnTo>
                    <a:cubicBezTo>
                      <a:pt x="17821" y="4"/>
                      <a:pt x="17822" y="5"/>
                      <a:pt x="17822" y="6"/>
                    </a:cubicBezTo>
                    <a:cubicBezTo>
                      <a:pt x="17822" y="7"/>
                      <a:pt x="17821" y="8"/>
                      <a:pt x="17820" y="8"/>
                    </a:cubicBezTo>
                    <a:lnTo>
                      <a:pt x="17820" y="8"/>
                    </a:lnTo>
                    <a:cubicBezTo>
                      <a:pt x="17819" y="8"/>
                      <a:pt x="17818" y="7"/>
                      <a:pt x="17818" y="6"/>
                    </a:cubicBezTo>
                    <a:cubicBezTo>
                      <a:pt x="17818" y="5"/>
                      <a:pt x="17819" y="4"/>
                      <a:pt x="17820" y="4"/>
                    </a:cubicBezTo>
                    <a:close/>
                    <a:moveTo>
                      <a:pt x="17828" y="4"/>
                    </a:moveTo>
                    <a:lnTo>
                      <a:pt x="17828" y="4"/>
                    </a:lnTo>
                    <a:cubicBezTo>
                      <a:pt x="17829" y="4"/>
                      <a:pt x="17830" y="5"/>
                      <a:pt x="17830" y="6"/>
                    </a:cubicBezTo>
                    <a:cubicBezTo>
                      <a:pt x="17830" y="7"/>
                      <a:pt x="17829" y="8"/>
                      <a:pt x="17828" y="8"/>
                    </a:cubicBezTo>
                    <a:lnTo>
                      <a:pt x="17828" y="8"/>
                    </a:lnTo>
                    <a:cubicBezTo>
                      <a:pt x="17827" y="8"/>
                      <a:pt x="17826" y="7"/>
                      <a:pt x="17826" y="6"/>
                    </a:cubicBezTo>
                    <a:cubicBezTo>
                      <a:pt x="17826" y="5"/>
                      <a:pt x="17827" y="4"/>
                      <a:pt x="17828" y="4"/>
                    </a:cubicBezTo>
                    <a:close/>
                    <a:moveTo>
                      <a:pt x="17836" y="4"/>
                    </a:moveTo>
                    <a:lnTo>
                      <a:pt x="17836" y="4"/>
                    </a:lnTo>
                    <a:cubicBezTo>
                      <a:pt x="17837" y="4"/>
                      <a:pt x="17838" y="5"/>
                      <a:pt x="17838" y="6"/>
                    </a:cubicBezTo>
                    <a:cubicBezTo>
                      <a:pt x="17838" y="7"/>
                      <a:pt x="17837" y="8"/>
                      <a:pt x="17836" y="8"/>
                    </a:cubicBezTo>
                    <a:lnTo>
                      <a:pt x="17836" y="8"/>
                    </a:lnTo>
                    <a:cubicBezTo>
                      <a:pt x="17835" y="8"/>
                      <a:pt x="17834" y="7"/>
                      <a:pt x="17834" y="6"/>
                    </a:cubicBezTo>
                    <a:cubicBezTo>
                      <a:pt x="17834" y="5"/>
                      <a:pt x="17835" y="4"/>
                      <a:pt x="17836" y="4"/>
                    </a:cubicBezTo>
                    <a:close/>
                    <a:moveTo>
                      <a:pt x="17844" y="4"/>
                    </a:moveTo>
                    <a:lnTo>
                      <a:pt x="17844" y="4"/>
                    </a:lnTo>
                    <a:cubicBezTo>
                      <a:pt x="17845" y="4"/>
                      <a:pt x="17846" y="5"/>
                      <a:pt x="17846" y="6"/>
                    </a:cubicBezTo>
                    <a:cubicBezTo>
                      <a:pt x="17846" y="7"/>
                      <a:pt x="17845" y="8"/>
                      <a:pt x="17844" y="8"/>
                    </a:cubicBezTo>
                    <a:lnTo>
                      <a:pt x="17844" y="8"/>
                    </a:lnTo>
                    <a:cubicBezTo>
                      <a:pt x="17843" y="8"/>
                      <a:pt x="17842" y="7"/>
                      <a:pt x="17842" y="6"/>
                    </a:cubicBezTo>
                    <a:cubicBezTo>
                      <a:pt x="17842" y="5"/>
                      <a:pt x="17843" y="4"/>
                      <a:pt x="17844" y="4"/>
                    </a:cubicBezTo>
                    <a:close/>
                    <a:moveTo>
                      <a:pt x="17852" y="4"/>
                    </a:moveTo>
                    <a:lnTo>
                      <a:pt x="17852" y="4"/>
                    </a:lnTo>
                    <a:cubicBezTo>
                      <a:pt x="17853" y="4"/>
                      <a:pt x="17854" y="5"/>
                      <a:pt x="17854" y="6"/>
                    </a:cubicBezTo>
                    <a:cubicBezTo>
                      <a:pt x="17854" y="7"/>
                      <a:pt x="17853" y="8"/>
                      <a:pt x="17852" y="8"/>
                    </a:cubicBezTo>
                    <a:lnTo>
                      <a:pt x="17852" y="8"/>
                    </a:lnTo>
                    <a:cubicBezTo>
                      <a:pt x="17851" y="8"/>
                      <a:pt x="17850" y="7"/>
                      <a:pt x="17850" y="6"/>
                    </a:cubicBezTo>
                    <a:cubicBezTo>
                      <a:pt x="17850" y="5"/>
                      <a:pt x="17851" y="4"/>
                      <a:pt x="17852" y="4"/>
                    </a:cubicBezTo>
                    <a:close/>
                    <a:moveTo>
                      <a:pt x="17860" y="4"/>
                    </a:moveTo>
                    <a:lnTo>
                      <a:pt x="17860" y="4"/>
                    </a:lnTo>
                    <a:cubicBezTo>
                      <a:pt x="17861" y="4"/>
                      <a:pt x="17862" y="5"/>
                      <a:pt x="17862" y="6"/>
                    </a:cubicBezTo>
                    <a:cubicBezTo>
                      <a:pt x="17862" y="7"/>
                      <a:pt x="17861" y="8"/>
                      <a:pt x="17860" y="8"/>
                    </a:cubicBezTo>
                    <a:lnTo>
                      <a:pt x="17860" y="8"/>
                    </a:lnTo>
                    <a:cubicBezTo>
                      <a:pt x="17859" y="8"/>
                      <a:pt x="17858" y="7"/>
                      <a:pt x="17858" y="6"/>
                    </a:cubicBezTo>
                    <a:cubicBezTo>
                      <a:pt x="17858" y="5"/>
                      <a:pt x="17859" y="4"/>
                      <a:pt x="17860" y="4"/>
                    </a:cubicBezTo>
                    <a:close/>
                    <a:moveTo>
                      <a:pt x="17868" y="4"/>
                    </a:moveTo>
                    <a:lnTo>
                      <a:pt x="17868" y="4"/>
                    </a:lnTo>
                    <a:cubicBezTo>
                      <a:pt x="17869" y="4"/>
                      <a:pt x="17870" y="5"/>
                      <a:pt x="17870" y="6"/>
                    </a:cubicBezTo>
                    <a:cubicBezTo>
                      <a:pt x="17870" y="7"/>
                      <a:pt x="17869" y="8"/>
                      <a:pt x="17868" y="8"/>
                    </a:cubicBezTo>
                    <a:lnTo>
                      <a:pt x="17868" y="8"/>
                    </a:lnTo>
                    <a:cubicBezTo>
                      <a:pt x="17867" y="8"/>
                      <a:pt x="17866" y="7"/>
                      <a:pt x="17866" y="6"/>
                    </a:cubicBezTo>
                    <a:cubicBezTo>
                      <a:pt x="17866" y="5"/>
                      <a:pt x="17867" y="4"/>
                      <a:pt x="17868" y="4"/>
                    </a:cubicBezTo>
                    <a:close/>
                    <a:moveTo>
                      <a:pt x="17876" y="4"/>
                    </a:moveTo>
                    <a:lnTo>
                      <a:pt x="17876" y="4"/>
                    </a:lnTo>
                    <a:cubicBezTo>
                      <a:pt x="17877" y="4"/>
                      <a:pt x="17878" y="5"/>
                      <a:pt x="17878" y="6"/>
                    </a:cubicBezTo>
                    <a:cubicBezTo>
                      <a:pt x="17878" y="7"/>
                      <a:pt x="17877" y="8"/>
                      <a:pt x="17876" y="8"/>
                    </a:cubicBezTo>
                    <a:lnTo>
                      <a:pt x="17876" y="8"/>
                    </a:lnTo>
                    <a:cubicBezTo>
                      <a:pt x="17875" y="8"/>
                      <a:pt x="17874" y="7"/>
                      <a:pt x="17874" y="6"/>
                    </a:cubicBezTo>
                    <a:cubicBezTo>
                      <a:pt x="17874" y="5"/>
                      <a:pt x="17875" y="4"/>
                      <a:pt x="17876" y="4"/>
                    </a:cubicBezTo>
                    <a:close/>
                    <a:moveTo>
                      <a:pt x="17884" y="4"/>
                    </a:moveTo>
                    <a:lnTo>
                      <a:pt x="17884" y="4"/>
                    </a:lnTo>
                    <a:cubicBezTo>
                      <a:pt x="17885" y="4"/>
                      <a:pt x="17886" y="5"/>
                      <a:pt x="17886" y="6"/>
                    </a:cubicBezTo>
                    <a:cubicBezTo>
                      <a:pt x="17886" y="7"/>
                      <a:pt x="17885" y="8"/>
                      <a:pt x="17884" y="8"/>
                    </a:cubicBezTo>
                    <a:lnTo>
                      <a:pt x="17884" y="8"/>
                    </a:lnTo>
                    <a:cubicBezTo>
                      <a:pt x="17883" y="8"/>
                      <a:pt x="17882" y="7"/>
                      <a:pt x="17882" y="6"/>
                    </a:cubicBezTo>
                    <a:cubicBezTo>
                      <a:pt x="17882" y="5"/>
                      <a:pt x="17883" y="4"/>
                      <a:pt x="17884" y="4"/>
                    </a:cubicBezTo>
                    <a:close/>
                    <a:moveTo>
                      <a:pt x="17892" y="4"/>
                    </a:moveTo>
                    <a:lnTo>
                      <a:pt x="17892" y="4"/>
                    </a:lnTo>
                    <a:cubicBezTo>
                      <a:pt x="17893" y="4"/>
                      <a:pt x="17894" y="5"/>
                      <a:pt x="17894" y="6"/>
                    </a:cubicBezTo>
                    <a:cubicBezTo>
                      <a:pt x="17894" y="7"/>
                      <a:pt x="17893" y="8"/>
                      <a:pt x="17892" y="8"/>
                    </a:cubicBezTo>
                    <a:lnTo>
                      <a:pt x="17892" y="8"/>
                    </a:lnTo>
                    <a:cubicBezTo>
                      <a:pt x="17891" y="8"/>
                      <a:pt x="17890" y="7"/>
                      <a:pt x="17890" y="6"/>
                    </a:cubicBezTo>
                    <a:cubicBezTo>
                      <a:pt x="17890" y="5"/>
                      <a:pt x="17891" y="4"/>
                      <a:pt x="17892" y="4"/>
                    </a:cubicBezTo>
                    <a:close/>
                    <a:moveTo>
                      <a:pt x="17900" y="4"/>
                    </a:moveTo>
                    <a:lnTo>
                      <a:pt x="17900" y="4"/>
                    </a:lnTo>
                    <a:cubicBezTo>
                      <a:pt x="17901" y="4"/>
                      <a:pt x="17902" y="5"/>
                      <a:pt x="17902" y="6"/>
                    </a:cubicBezTo>
                    <a:cubicBezTo>
                      <a:pt x="17902" y="7"/>
                      <a:pt x="17901" y="8"/>
                      <a:pt x="17900" y="8"/>
                    </a:cubicBezTo>
                    <a:lnTo>
                      <a:pt x="17900" y="8"/>
                    </a:lnTo>
                    <a:cubicBezTo>
                      <a:pt x="17899" y="8"/>
                      <a:pt x="17898" y="7"/>
                      <a:pt x="17898" y="6"/>
                    </a:cubicBezTo>
                    <a:cubicBezTo>
                      <a:pt x="17898" y="5"/>
                      <a:pt x="17899" y="4"/>
                      <a:pt x="17900" y="4"/>
                    </a:cubicBezTo>
                    <a:close/>
                    <a:moveTo>
                      <a:pt x="17908" y="4"/>
                    </a:moveTo>
                    <a:lnTo>
                      <a:pt x="17908" y="4"/>
                    </a:lnTo>
                    <a:cubicBezTo>
                      <a:pt x="17909" y="4"/>
                      <a:pt x="17910" y="5"/>
                      <a:pt x="17910" y="6"/>
                    </a:cubicBezTo>
                    <a:cubicBezTo>
                      <a:pt x="17910" y="7"/>
                      <a:pt x="17909" y="8"/>
                      <a:pt x="17908" y="8"/>
                    </a:cubicBezTo>
                    <a:lnTo>
                      <a:pt x="17908" y="8"/>
                    </a:lnTo>
                    <a:cubicBezTo>
                      <a:pt x="17907" y="8"/>
                      <a:pt x="17906" y="7"/>
                      <a:pt x="17906" y="6"/>
                    </a:cubicBezTo>
                    <a:cubicBezTo>
                      <a:pt x="17906" y="5"/>
                      <a:pt x="17907" y="4"/>
                      <a:pt x="17908" y="4"/>
                    </a:cubicBezTo>
                    <a:close/>
                    <a:moveTo>
                      <a:pt x="17916" y="4"/>
                    </a:moveTo>
                    <a:lnTo>
                      <a:pt x="17916" y="4"/>
                    </a:lnTo>
                    <a:cubicBezTo>
                      <a:pt x="17917" y="4"/>
                      <a:pt x="17918" y="5"/>
                      <a:pt x="17918" y="6"/>
                    </a:cubicBezTo>
                    <a:cubicBezTo>
                      <a:pt x="17918" y="7"/>
                      <a:pt x="17917" y="8"/>
                      <a:pt x="17916" y="8"/>
                    </a:cubicBezTo>
                    <a:lnTo>
                      <a:pt x="17916" y="8"/>
                    </a:lnTo>
                    <a:cubicBezTo>
                      <a:pt x="17915" y="8"/>
                      <a:pt x="17914" y="7"/>
                      <a:pt x="17914" y="6"/>
                    </a:cubicBezTo>
                    <a:cubicBezTo>
                      <a:pt x="17914" y="5"/>
                      <a:pt x="17915" y="4"/>
                      <a:pt x="17916" y="4"/>
                    </a:cubicBezTo>
                    <a:close/>
                    <a:moveTo>
                      <a:pt x="17924" y="4"/>
                    </a:moveTo>
                    <a:lnTo>
                      <a:pt x="17924" y="4"/>
                    </a:lnTo>
                    <a:cubicBezTo>
                      <a:pt x="17925" y="4"/>
                      <a:pt x="17926" y="5"/>
                      <a:pt x="17926" y="6"/>
                    </a:cubicBezTo>
                    <a:cubicBezTo>
                      <a:pt x="17926" y="7"/>
                      <a:pt x="17925" y="8"/>
                      <a:pt x="17924" y="8"/>
                    </a:cubicBezTo>
                    <a:lnTo>
                      <a:pt x="17924" y="8"/>
                    </a:lnTo>
                    <a:cubicBezTo>
                      <a:pt x="17923" y="8"/>
                      <a:pt x="17922" y="7"/>
                      <a:pt x="17922" y="6"/>
                    </a:cubicBezTo>
                    <a:cubicBezTo>
                      <a:pt x="17922" y="5"/>
                      <a:pt x="17923" y="4"/>
                      <a:pt x="17924" y="4"/>
                    </a:cubicBezTo>
                    <a:close/>
                    <a:moveTo>
                      <a:pt x="17932" y="4"/>
                    </a:moveTo>
                    <a:lnTo>
                      <a:pt x="17932" y="4"/>
                    </a:lnTo>
                    <a:cubicBezTo>
                      <a:pt x="17933" y="4"/>
                      <a:pt x="17934" y="5"/>
                      <a:pt x="17934" y="6"/>
                    </a:cubicBezTo>
                    <a:cubicBezTo>
                      <a:pt x="17934" y="7"/>
                      <a:pt x="17933" y="8"/>
                      <a:pt x="17932" y="8"/>
                    </a:cubicBezTo>
                    <a:lnTo>
                      <a:pt x="17932" y="8"/>
                    </a:lnTo>
                    <a:cubicBezTo>
                      <a:pt x="17931" y="8"/>
                      <a:pt x="17930" y="7"/>
                      <a:pt x="17930" y="6"/>
                    </a:cubicBezTo>
                    <a:cubicBezTo>
                      <a:pt x="17930" y="5"/>
                      <a:pt x="17931" y="4"/>
                      <a:pt x="17932" y="4"/>
                    </a:cubicBezTo>
                    <a:close/>
                    <a:moveTo>
                      <a:pt x="17940" y="4"/>
                    </a:moveTo>
                    <a:lnTo>
                      <a:pt x="17940" y="4"/>
                    </a:lnTo>
                    <a:cubicBezTo>
                      <a:pt x="17941" y="4"/>
                      <a:pt x="17942" y="5"/>
                      <a:pt x="17942" y="6"/>
                    </a:cubicBezTo>
                    <a:cubicBezTo>
                      <a:pt x="17942" y="7"/>
                      <a:pt x="17941" y="8"/>
                      <a:pt x="17940" y="8"/>
                    </a:cubicBezTo>
                    <a:lnTo>
                      <a:pt x="17940" y="8"/>
                    </a:lnTo>
                    <a:cubicBezTo>
                      <a:pt x="17939" y="8"/>
                      <a:pt x="17938" y="7"/>
                      <a:pt x="17938" y="6"/>
                    </a:cubicBezTo>
                    <a:cubicBezTo>
                      <a:pt x="17938" y="5"/>
                      <a:pt x="17939" y="4"/>
                      <a:pt x="17940" y="4"/>
                    </a:cubicBezTo>
                    <a:close/>
                    <a:moveTo>
                      <a:pt x="17948" y="4"/>
                    </a:moveTo>
                    <a:lnTo>
                      <a:pt x="17948" y="4"/>
                    </a:lnTo>
                    <a:cubicBezTo>
                      <a:pt x="17949" y="4"/>
                      <a:pt x="17950" y="5"/>
                      <a:pt x="17950" y="6"/>
                    </a:cubicBezTo>
                    <a:cubicBezTo>
                      <a:pt x="17950" y="7"/>
                      <a:pt x="17949" y="8"/>
                      <a:pt x="17948" y="8"/>
                    </a:cubicBezTo>
                    <a:lnTo>
                      <a:pt x="17948" y="8"/>
                    </a:lnTo>
                    <a:cubicBezTo>
                      <a:pt x="17947" y="8"/>
                      <a:pt x="17946" y="7"/>
                      <a:pt x="17946" y="6"/>
                    </a:cubicBezTo>
                    <a:cubicBezTo>
                      <a:pt x="17946" y="5"/>
                      <a:pt x="17947" y="4"/>
                      <a:pt x="17948" y="4"/>
                    </a:cubicBezTo>
                    <a:close/>
                    <a:moveTo>
                      <a:pt x="17956" y="4"/>
                    </a:moveTo>
                    <a:lnTo>
                      <a:pt x="17956" y="4"/>
                    </a:lnTo>
                    <a:cubicBezTo>
                      <a:pt x="17957" y="4"/>
                      <a:pt x="17958" y="5"/>
                      <a:pt x="17958" y="6"/>
                    </a:cubicBezTo>
                    <a:cubicBezTo>
                      <a:pt x="17958" y="7"/>
                      <a:pt x="17957" y="8"/>
                      <a:pt x="17956" y="8"/>
                    </a:cubicBezTo>
                    <a:lnTo>
                      <a:pt x="17956" y="8"/>
                    </a:lnTo>
                    <a:cubicBezTo>
                      <a:pt x="17955" y="8"/>
                      <a:pt x="17954" y="7"/>
                      <a:pt x="17954" y="6"/>
                    </a:cubicBezTo>
                    <a:cubicBezTo>
                      <a:pt x="17954" y="5"/>
                      <a:pt x="17955" y="4"/>
                      <a:pt x="17956" y="4"/>
                    </a:cubicBezTo>
                    <a:close/>
                    <a:moveTo>
                      <a:pt x="17964" y="4"/>
                    </a:moveTo>
                    <a:lnTo>
                      <a:pt x="17964" y="4"/>
                    </a:lnTo>
                    <a:cubicBezTo>
                      <a:pt x="17965" y="4"/>
                      <a:pt x="17966" y="5"/>
                      <a:pt x="17966" y="6"/>
                    </a:cubicBezTo>
                    <a:cubicBezTo>
                      <a:pt x="17966" y="7"/>
                      <a:pt x="17965" y="8"/>
                      <a:pt x="17964" y="8"/>
                    </a:cubicBezTo>
                    <a:lnTo>
                      <a:pt x="17964" y="8"/>
                    </a:lnTo>
                    <a:cubicBezTo>
                      <a:pt x="17963" y="8"/>
                      <a:pt x="17962" y="7"/>
                      <a:pt x="17962" y="6"/>
                    </a:cubicBezTo>
                    <a:cubicBezTo>
                      <a:pt x="17962" y="5"/>
                      <a:pt x="17963" y="4"/>
                      <a:pt x="17964" y="4"/>
                    </a:cubicBezTo>
                    <a:close/>
                    <a:moveTo>
                      <a:pt x="17972" y="4"/>
                    </a:moveTo>
                    <a:lnTo>
                      <a:pt x="17972" y="4"/>
                    </a:lnTo>
                    <a:cubicBezTo>
                      <a:pt x="17973" y="4"/>
                      <a:pt x="17974" y="5"/>
                      <a:pt x="17974" y="6"/>
                    </a:cubicBezTo>
                    <a:cubicBezTo>
                      <a:pt x="17974" y="7"/>
                      <a:pt x="17973" y="8"/>
                      <a:pt x="17972" y="8"/>
                    </a:cubicBezTo>
                    <a:lnTo>
                      <a:pt x="17972" y="8"/>
                    </a:lnTo>
                    <a:cubicBezTo>
                      <a:pt x="17971" y="8"/>
                      <a:pt x="17970" y="7"/>
                      <a:pt x="17970" y="6"/>
                    </a:cubicBezTo>
                    <a:cubicBezTo>
                      <a:pt x="17970" y="5"/>
                      <a:pt x="17971" y="4"/>
                      <a:pt x="17972" y="4"/>
                    </a:cubicBezTo>
                    <a:close/>
                    <a:moveTo>
                      <a:pt x="17980" y="4"/>
                    </a:moveTo>
                    <a:lnTo>
                      <a:pt x="17980" y="4"/>
                    </a:lnTo>
                    <a:cubicBezTo>
                      <a:pt x="17981" y="4"/>
                      <a:pt x="17982" y="5"/>
                      <a:pt x="17982" y="6"/>
                    </a:cubicBezTo>
                    <a:cubicBezTo>
                      <a:pt x="17982" y="7"/>
                      <a:pt x="17981" y="8"/>
                      <a:pt x="17980" y="8"/>
                    </a:cubicBezTo>
                    <a:lnTo>
                      <a:pt x="17980" y="8"/>
                    </a:lnTo>
                    <a:cubicBezTo>
                      <a:pt x="17979" y="8"/>
                      <a:pt x="17978" y="7"/>
                      <a:pt x="17978" y="6"/>
                    </a:cubicBezTo>
                    <a:cubicBezTo>
                      <a:pt x="17978" y="5"/>
                      <a:pt x="17979" y="4"/>
                      <a:pt x="17980" y="4"/>
                    </a:cubicBezTo>
                    <a:close/>
                    <a:moveTo>
                      <a:pt x="17988" y="4"/>
                    </a:moveTo>
                    <a:lnTo>
                      <a:pt x="17988" y="4"/>
                    </a:lnTo>
                    <a:cubicBezTo>
                      <a:pt x="17989" y="4"/>
                      <a:pt x="17990" y="5"/>
                      <a:pt x="17990" y="6"/>
                    </a:cubicBezTo>
                    <a:cubicBezTo>
                      <a:pt x="17990" y="7"/>
                      <a:pt x="17989" y="8"/>
                      <a:pt x="17988" y="8"/>
                    </a:cubicBezTo>
                    <a:lnTo>
                      <a:pt x="17988" y="8"/>
                    </a:lnTo>
                    <a:cubicBezTo>
                      <a:pt x="17987" y="8"/>
                      <a:pt x="17986" y="7"/>
                      <a:pt x="17986" y="6"/>
                    </a:cubicBezTo>
                    <a:cubicBezTo>
                      <a:pt x="17986" y="5"/>
                      <a:pt x="17987" y="4"/>
                      <a:pt x="17988" y="4"/>
                    </a:cubicBezTo>
                    <a:close/>
                    <a:moveTo>
                      <a:pt x="17996" y="4"/>
                    </a:moveTo>
                    <a:lnTo>
                      <a:pt x="17996" y="4"/>
                    </a:lnTo>
                    <a:cubicBezTo>
                      <a:pt x="17997" y="4"/>
                      <a:pt x="17998" y="5"/>
                      <a:pt x="17998" y="6"/>
                    </a:cubicBezTo>
                    <a:cubicBezTo>
                      <a:pt x="17998" y="7"/>
                      <a:pt x="17997" y="8"/>
                      <a:pt x="17996" y="8"/>
                    </a:cubicBezTo>
                    <a:lnTo>
                      <a:pt x="17996" y="8"/>
                    </a:lnTo>
                    <a:cubicBezTo>
                      <a:pt x="17995" y="8"/>
                      <a:pt x="17994" y="7"/>
                      <a:pt x="17994" y="6"/>
                    </a:cubicBezTo>
                    <a:cubicBezTo>
                      <a:pt x="17994" y="5"/>
                      <a:pt x="17995" y="4"/>
                      <a:pt x="17996" y="4"/>
                    </a:cubicBezTo>
                    <a:close/>
                    <a:moveTo>
                      <a:pt x="18004" y="4"/>
                    </a:moveTo>
                    <a:lnTo>
                      <a:pt x="18004" y="4"/>
                    </a:lnTo>
                    <a:cubicBezTo>
                      <a:pt x="18005" y="4"/>
                      <a:pt x="18006" y="5"/>
                      <a:pt x="18006" y="6"/>
                    </a:cubicBezTo>
                    <a:cubicBezTo>
                      <a:pt x="18006" y="7"/>
                      <a:pt x="18005" y="8"/>
                      <a:pt x="18004" y="8"/>
                    </a:cubicBezTo>
                    <a:lnTo>
                      <a:pt x="18004" y="8"/>
                    </a:lnTo>
                    <a:cubicBezTo>
                      <a:pt x="18003" y="8"/>
                      <a:pt x="18002" y="7"/>
                      <a:pt x="18002" y="6"/>
                    </a:cubicBezTo>
                    <a:cubicBezTo>
                      <a:pt x="18002" y="5"/>
                      <a:pt x="18003" y="4"/>
                      <a:pt x="18004" y="4"/>
                    </a:cubicBezTo>
                    <a:close/>
                    <a:moveTo>
                      <a:pt x="18012" y="4"/>
                    </a:moveTo>
                    <a:lnTo>
                      <a:pt x="18012" y="4"/>
                    </a:lnTo>
                    <a:cubicBezTo>
                      <a:pt x="18013" y="4"/>
                      <a:pt x="18014" y="5"/>
                      <a:pt x="18014" y="6"/>
                    </a:cubicBezTo>
                    <a:cubicBezTo>
                      <a:pt x="18014" y="7"/>
                      <a:pt x="18013" y="8"/>
                      <a:pt x="18012" y="8"/>
                    </a:cubicBezTo>
                    <a:lnTo>
                      <a:pt x="18012" y="8"/>
                    </a:lnTo>
                    <a:cubicBezTo>
                      <a:pt x="18011" y="8"/>
                      <a:pt x="18010" y="7"/>
                      <a:pt x="18010" y="6"/>
                    </a:cubicBezTo>
                    <a:cubicBezTo>
                      <a:pt x="18010" y="5"/>
                      <a:pt x="18011" y="4"/>
                      <a:pt x="18012" y="4"/>
                    </a:cubicBezTo>
                    <a:close/>
                    <a:moveTo>
                      <a:pt x="18020" y="4"/>
                    </a:moveTo>
                    <a:lnTo>
                      <a:pt x="18020" y="4"/>
                    </a:lnTo>
                    <a:cubicBezTo>
                      <a:pt x="18021" y="4"/>
                      <a:pt x="18022" y="5"/>
                      <a:pt x="18022" y="6"/>
                    </a:cubicBezTo>
                    <a:cubicBezTo>
                      <a:pt x="18022" y="7"/>
                      <a:pt x="18021" y="8"/>
                      <a:pt x="18020" y="8"/>
                    </a:cubicBezTo>
                    <a:lnTo>
                      <a:pt x="18020" y="8"/>
                    </a:lnTo>
                    <a:cubicBezTo>
                      <a:pt x="18019" y="8"/>
                      <a:pt x="18018" y="7"/>
                      <a:pt x="18018" y="6"/>
                    </a:cubicBezTo>
                    <a:cubicBezTo>
                      <a:pt x="18018" y="5"/>
                      <a:pt x="18019" y="4"/>
                      <a:pt x="18020" y="4"/>
                    </a:cubicBezTo>
                    <a:close/>
                    <a:moveTo>
                      <a:pt x="18028" y="4"/>
                    </a:moveTo>
                    <a:lnTo>
                      <a:pt x="18028" y="4"/>
                    </a:lnTo>
                    <a:cubicBezTo>
                      <a:pt x="18029" y="4"/>
                      <a:pt x="18030" y="5"/>
                      <a:pt x="18030" y="6"/>
                    </a:cubicBezTo>
                    <a:cubicBezTo>
                      <a:pt x="18030" y="7"/>
                      <a:pt x="18029" y="8"/>
                      <a:pt x="18028" y="8"/>
                    </a:cubicBezTo>
                    <a:lnTo>
                      <a:pt x="18028" y="8"/>
                    </a:lnTo>
                    <a:cubicBezTo>
                      <a:pt x="18027" y="8"/>
                      <a:pt x="18026" y="7"/>
                      <a:pt x="18026" y="6"/>
                    </a:cubicBezTo>
                    <a:cubicBezTo>
                      <a:pt x="18026" y="5"/>
                      <a:pt x="18027" y="4"/>
                      <a:pt x="18028" y="4"/>
                    </a:cubicBezTo>
                    <a:close/>
                    <a:moveTo>
                      <a:pt x="18036" y="4"/>
                    </a:moveTo>
                    <a:lnTo>
                      <a:pt x="18036" y="4"/>
                    </a:lnTo>
                    <a:cubicBezTo>
                      <a:pt x="18037" y="4"/>
                      <a:pt x="18038" y="5"/>
                      <a:pt x="18038" y="6"/>
                    </a:cubicBezTo>
                    <a:cubicBezTo>
                      <a:pt x="18038" y="7"/>
                      <a:pt x="18037" y="8"/>
                      <a:pt x="18036" y="8"/>
                    </a:cubicBezTo>
                    <a:lnTo>
                      <a:pt x="18036" y="8"/>
                    </a:lnTo>
                    <a:cubicBezTo>
                      <a:pt x="18035" y="8"/>
                      <a:pt x="18034" y="7"/>
                      <a:pt x="18034" y="6"/>
                    </a:cubicBezTo>
                    <a:cubicBezTo>
                      <a:pt x="18034" y="5"/>
                      <a:pt x="18035" y="4"/>
                      <a:pt x="18036" y="4"/>
                    </a:cubicBezTo>
                    <a:close/>
                    <a:moveTo>
                      <a:pt x="18044" y="4"/>
                    </a:moveTo>
                    <a:lnTo>
                      <a:pt x="18044" y="4"/>
                    </a:lnTo>
                    <a:cubicBezTo>
                      <a:pt x="18045" y="4"/>
                      <a:pt x="18046" y="5"/>
                      <a:pt x="18046" y="6"/>
                    </a:cubicBezTo>
                    <a:cubicBezTo>
                      <a:pt x="18046" y="7"/>
                      <a:pt x="18045" y="8"/>
                      <a:pt x="18044" y="8"/>
                    </a:cubicBezTo>
                    <a:lnTo>
                      <a:pt x="18044" y="8"/>
                    </a:lnTo>
                    <a:cubicBezTo>
                      <a:pt x="18043" y="8"/>
                      <a:pt x="18042" y="7"/>
                      <a:pt x="18042" y="6"/>
                    </a:cubicBezTo>
                    <a:cubicBezTo>
                      <a:pt x="18042" y="5"/>
                      <a:pt x="18043" y="4"/>
                      <a:pt x="18044" y="4"/>
                    </a:cubicBezTo>
                    <a:close/>
                    <a:moveTo>
                      <a:pt x="18052" y="4"/>
                    </a:moveTo>
                    <a:lnTo>
                      <a:pt x="18052" y="4"/>
                    </a:lnTo>
                    <a:cubicBezTo>
                      <a:pt x="18053" y="4"/>
                      <a:pt x="18054" y="5"/>
                      <a:pt x="18054" y="6"/>
                    </a:cubicBezTo>
                    <a:cubicBezTo>
                      <a:pt x="18054" y="7"/>
                      <a:pt x="18053" y="8"/>
                      <a:pt x="18052" y="8"/>
                    </a:cubicBezTo>
                    <a:lnTo>
                      <a:pt x="18052" y="8"/>
                    </a:lnTo>
                    <a:cubicBezTo>
                      <a:pt x="18051" y="8"/>
                      <a:pt x="18050" y="7"/>
                      <a:pt x="18050" y="6"/>
                    </a:cubicBezTo>
                    <a:cubicBezTo>
                      <a:pt x="18050" y="5"/>
                      <a:pt x="18051" y="4"/>
                      <a:pt x="18052" y="4"/>
                    </a:cubicBezTo>
                    <a:close/>
                    <a:moveTo>
                      <a:pt x="18060" y="4"/>
                    </a:moveTo>
                    <a:lnTo>
                      <a:pt x="18060" y="4"/>
                    </a:lnTo>
                    <a:cubicBezTo>
                      <a:pt x="18061" y="4"/>
                      <a:pt x="18062" y="5"/>
                      <a:pt x="18062" y="6"/>
                    </a:cubicBezTo>
                    <a:cubicBezTo>
                      <a:pt x="18062" y="7"/>
                      <a:pt x="18061" y="8"/>
                      <a:pt x="18060" y="8"/>
                    </a:cubicBezTo>
                    <a:lnTo>
                      <a:pt x="18060" y="8"/>
                    </a:lnTo>
                    <a:cubicBezTo>
                      <a:pt x="18059" y="8"/>
                      <a:pt x="18058" y="7"/>
                      <a:pt x="18058" y="6"/>
                    </a:cubicBezTo>
                    <a:cubicBezTo>
                      <a:pt x="18058" y="5"/>
                      <a:pt x="18059" y="4"/>
                      <a:pt x="18060" y="4"/>
                    </a:cubicBezTo>
                    <a:close/>
                    <a:moveTo>
                      <a:pt x="18068" y="4"/>
                    </a:moveTo>
                    <a:lnTo>
                      <a:pt x="18068" y="4"/>
                    </a:lnTo>
                    <a:cubicBezTo>
                      <a:pt x="18069" y="4"/>
                      <a:pt x="18070" y="5"/>
                      <a:pt x="18070" y="6"/>
                    </a:cubicBezTo>
                    <a:cubicBezTo>
                      <a:pt x="18070" y="7"/>
                      <a:pt x="18069" y="8"/>
                      <a:pt x="18068" y="8"/>
                    </a:cubicBezTo>
                    <a:lnTo>
                      <a:pt x="18068" y="8"/>
                    </a:lnTo>
                    <a:cubicBezTo>
                      <a:pt x="18067" y="8"/>
                      <a:pt x="18066" y="7"/>
                      <a:pt x="18066" y="6"/>
                    </a:cubicBezTo>
                    <a:cubicBezTo>
                      <a:pt x="18066" y="5"/>
                      <a:pt x="18067" y="4"/>
                      <a:pt x="18068" y="4"/>
                    </a:cubicBezTo>
                    <a:close/>
                    <a:moveTo>
                      <a:pt x="18076" y="4"/>
                    </a:moveTo>
                    <a:lnTo>
                      <a:pt x="18076" y="4"/>
                    </a:lnTo>
                    <a:cubicBezTo>
                      <a:pt x="18077" y="4"/>
                      <a:pt x="18078" y="5"/>
                      <a:pt x="18078" y="6"/>
                    </a:cubicBezTo>
                    <a:cubicBezTo>
                      <a:pt x="18078" y="7"/>
                      <a:pt x="18077" y="8"/>
                      <a:pt x="18076" y="8"/>
                    </a:cubicBezTo>
                    <a:lnTo>
                      <a:pt x="18076" y="8"/>
                    </a:lnTo>
                    <a:cubicBezTo>
                      <a:pt x="18075" y="8"/>
                      <a:pt x="18074" y="7"/>
                      <a:pt x="18074" y="6"/>
                    </a:cubicBezTo>
                    <a:cubicBezTo>
                      <a:pt x="18074" y="5"/>
                      <a:pt x="18075" y="4"/>
                      <a:pt x="18076" y="4"/>
                    </a:cubicBezTo>
                    <a:close/>
                    <a:moveTo>
                      <a:pt x="18084" y="4"/>
                    </a:moveTo>
                    <a:lnTo>
                      <a:pt x="18084" y="4"/>
                    </a:lnTo>
                    <a:cubicBezTo>
                      <a:pt x="18085" y="4"/>
                      <a:pt x="18086" y="5"/>
                      <a:pt x="18086" y="6"/>
                    </a:cubicBezTo>
                    <a:cubicBezTo>
                      <a:pt x="18086" y="7"/>
                      <a:pt x="18085" y="8"/>
                      <a:pt x="18084" y="8"/>
                    </a:cubicBezTo>
                    <a:lnTo>
                      <a:pt x="18084" y="8"/>
                    </a:lnTo>
                    <a:cubicBezTo>
                      <a:pt x="18083" y="8"/>
                      <a:pt x="18082" y="7"/>
                      <a:pt x="18082" y="6"/>
                    </a:cubicBezTo>
                    <a:cubicBezTo>
                      <a:pt x="18082" y="5"/>
                      <a:pt x="18083" y="4"/>
                      <a:pt x="18084" y="4"/>
                    </a:cubicBezTo>
                    <a:close/>
                    <a:moveTo>
                      <a:pt x="18092" y="4"/>
                    </a:moveTo>
                    <a:lnTo>
                      <a:pt x="18092" y="4"/>
                    </a:lnTo>
                    <a:cubicBezTo>
                      <a:pt x="18093" y="4"/>
                      <a:pt x="18094" y="5"/>
                      <a:pt x="18094" y="6"/>
                    </a:cubicBezTo>
                    <a:cubicBezTo>
                      <a:pt x="18094" y="7"/>
                      <a:pt x="18093" y="8"/>
                      <a:pt x="18092" y="8"/>
                    </a:cubicBezTo>
                    <a:lnTo>
                      <a:pt x="18092" y="8"/>
                    </a:lnTo>
                    <a:cubicBezTo>
                      <a:pt x="18091" y="8"/>
                      <a:pt x="18090" y="7"/>
                      <a:pt x="18090" y="6"/>
                    </a:cubicBezTo>
                    <a:cubicBezTo>
                      <a:pt x="18090" y="5"/>
                      <a:pt x="18091" y="4"/>
                      <a:pt x="18092" y="4"/>
                    </a:cubicBezTo>
                    <a:close/>
                    <a:moveTo>
                      <a:pt x="18100" y="4"/>
                    </a:moveTo>
                    <a:lnTo>
                      <a:pt x="18100" y="4"/>
                    </a:lnTo>
                    <a:cubicBezTo>
                      <a:pt x="18101" y="4"/>
                      <a:pt x="18102" y="5"/>
                      <a:pt x="18102" y="6"/>
                    </a:cubicBezTo>
                    <a:cubicBezTo>
                      <a:pt x="18102" y="7"/>
                      <a:pt x="18101" y="8"/>
                      <a:pt x="18100" y="8"/>
                    </a:cubicBezTo>
                    <a:lnTo>
                      <a:pt x="18100" y="8"/>
                    </a:lnTo>
                    <a:cubicBezTo>
                      <a:pt x="18099" y="8"/>
                      <a:pt x="18098" y="7"/>
                      <a:pt x="18098" y="6"/>
                    </a:cubicBezTo>
                    <a:cubicBezTo>
                      <a:pt x="18098" y="5"/>
                      <a:pt x="18099" y="4"/>
                      <a:pt x="18100" y="4"/>
                    </a:cubicBezTo>
                    <a:close/>
                    <a:moveTo>
                      <a:pt x="18108" y="4"/>
                    </a:moveTo>
                    <a:lnTo>
                      <a:pt x="18108" y="4"/>
                    </a:lnTo>
                    <a:cubicBezTo>
                      <a:pt x="18109" y="4"/>
                      <a:pt x="18110" y="5"/>
                      <a:pt x="18110" y="6"/>
                    </a:cubicBezTo>
                    <a:cubicBezTo>
                      <a:pt x="18110" y="7"/>
                      <a:pt x="18109" y="8"/>
                      <a:pt x="18108" y="8"/>
                    </a:cubicBezTo>
                    <a:lnTo>
                      <a:pt x="18108" y="8"/>
                    </a:lnTo>
                    <a:cubicBezTo>
                      <a:pt x="18107" y="8"/>
                      <a:pt x="18106" y="7"/>
                      <a:pt x="18106" y="6"/>
                    </a:cubicBezTo>
                    <a:cubicBezTo>
                      <a:pt x="18106" y="5"/>
                      <a:pt x="18107" y="4"/>
                      <a:pt x="18108" y="4"/>
                    </a:cubicBezTo>
                    <a:close/>
                    <a:moveTo>
                      <a:pt x="18116" y="4"/>
                    </a:moveTo>
                    <a:lnTo>
                      <a:pt x="18116" y="4"/>
                    </a:lnTo>
                    <a:cubicBezTo>
                      <a:pt x="18117" y="4"/>
                      <a:pt x="18118" y="5"/>
                      <a:pt x="18118" y="6"/>
                    </a:cubicBezTo>
                    <a:cubicBezTo>
                      <a:pt x="18118" y="7"/>
                      <a:pt x="18117" y="8"/>
                      <a:pt x="18116" y="8"/>
                    </a:cubicBezTo>
                    <a:lnTo>
                      <a:pt x="18116" y="8"/>
                    </a:lnTo>
                    <a:cubicBezTo>
                      <a:pt x="18115" y="8"/>
                      <a:pt x="18114" y="7"/>
                      <a:pt x="18114" y="6"/>
                    </a:cubicBezTo>
                    <a:cubicBezTo>
                      <a:pt x="18114" y="5"/>
                      <a:pt x="18115" y="4"/>
                      <a:pt x="18116" y="4"/>
                    </a:cubicBezTo>
                    <a:close/>
                    <a:moveTo>
                      <a:pt x="18124" y="4"/>
                    </a:moveTo>
                    <a:lnTo>
                      <a:pt x="18124" y="4"/>
                    </a:lnTo>
                    <a:cubicBezTo>
                      <a:pt x="18125" y="4"/>
                      <a:pt x="18126" y="5"/>
                      <a:pt x="18126" y="6"/>
                    </a:cubicBezTo>
                    <a:cubicBezTo>
                      <a:pt x="18126" y="7"/>
                      <a:pt x="18125" y="8"/>
                      <a:pt x="18124" y="8"/>
                    </a:cubicBezTo>
                    <a:lnTo>
                      <a:pt x="18124" y="8"/>
                    </a:lnTo>
                    <a:cubicBezTo>
                      <a:pt x="18123" y="8"/>
                      <a:pt x="18122" y="7"/>
                      <a:pt x="18122" y="6"/>
                    </a:cubicBezTo>
                    <a:cubicBezTo>
                      <a:pt x="18122" y="5"/>
                      <a:pt x="18123" y="4"/>
                      <a:pt x="18124" y="4"/>
                    </a:cubicBezTo>
                    <a:close/>
                    <a:moveTo>
                      <a:pt x="18132" y="4"/>
                    </a:moveTo>
                    <a:lnTo>
                      <a:pt x="18132" y="4"/>
                    </a:lnTo>
                    <a:cubicBezTo>
                      <a:pt x="18133" y="4"/>
                      <a:pt x="18134" y="5"/>
                      <a:pt x="18134" y="6"/>
                    </a:cubicBezTo>
                    <a:cubicBezTo>
                      <a:pt x="18134" y="7"/>
                      <a:pt x="18133" y="8"/>
                      <a:pt x="18132" y="8"/>
                    </a:cubicBezTo>
                    <a:lnTo>
                      <a:pt x="18132" y="8"/>
                    </a:lnTo>
                    <a:cubicBezTo>
                      <a:pt x="18131" y="8"/>
                      <a:pt x="18130" y="7"/>
                      <a:pt x="18130" y="6"/>
                    </a:cubicBezTo>
                    <a:cubicBezTo>
                      <a:pt x="18130" y="5"/>
                      <a:pt x="18131" y="4"/>
                      <a:pt x="18132" y="4"/>
                    </a:cubicBezTo>
                    <a:close/>
                    <a:moveTo>
                      <a:pt x="18140" y="4"/>
                    </a:moveTo>
                    <a:lnTo>
                      <a:pt x="18140" y="4"/>
                    </a:lnTo>
                    <a:cubicBezTo>
                      <a:pt x="18141" y="4"/>
                      <a:pt x="18142" y="5"/>
                      <a:pt x="18142" y="6"/>
                    </a:cubicBezTo>
                    <a:cubicBezTo>
                      <a:pt x="18142" y="7"/>
                      <a:pt x="18141" y="8"/>
                      <a:pt x="18140" y="8"/>
                    </a:cubicBezTo>
                    <a:lnTo>
                      <a:pt x="18140" y="8"/>
                    </a:lnTo>
                    <a:cubicBezTo>
                      <a:pt x="18139" y="8"/>
                      <a:pt x="18138" y="7"/>
                      <a:pt x="18138" y="6"/>
                    </a:cubicBezTo>
                    <a:cubicBezTo>
                      <a:pt x="18138" y="5"/>
                      <a:pt x="18139" y="4"/>
                      <a:pt x="18140" y="4"/>
                    </a:cubicBezTo>
                    <a:close/>
                    <a:moveTo>
                      <a:pt x="18148" y="4"/>
                    </a:moveTo>
                    <a:lnTo>
                      <a:pt x="18148" y="4"/>
                    </a:lnTo>
                    <a:cubicBezTo>
                      <a:pt x="18149" y="4"/>
                      <a:pt x="18150" y="5"/>
                      <a:pt x="18150" y="6"/>
                    </a:cubicBezTo>
                    <a:cubicBezTo>
                      <a:pt x="18150" y="7"/>
                      <a:pt x="18149" y="8"/>
                      <a:pt x="18148" y="8"/>
                    </a:cubicBezTo>
                    <a:lnTo>
                      <a:pt x="18148" y="8"/>
                    </a:lnTo>
                    <a:cubicBezTo>
                      <a:pt x="18147" y="8"/>
                      <a:pt x="18146" y="7"/>
                      <a:pt x="18146" y="6"/>
                    </a:cubicBezTo>
                    <a:cubicBezTo>
                      <a:pt x="18146" y="5"/>
                      <a:pt x="18147" y="4"/>
                      <a:pt x="18148" y="4"/>
                    </a:cubicBezTo>
                    <a:close/>
                    <a:moveTo>
                      <a:pt x="18156" y="4"/>
                    </a:moveTo>
                    <a:lnTo>
                      <a:pt x="18156" y="4"/>
                    </a:lnTo>
                    <a:cubicBezTo>
                      <a:pt x="18157" y="4"/>
                      <a:pt x="18158" y="5"/>
                      <a:pt x="18158" y="6"/>
                    </a:cubicBezTo>
                    <a:cubicBezTo>
                      <a:pt x="18158" y="7"/>
                      <a:pt x="18157" y="8"/>
                      <a:pt x="18156" y="8"/>
                    </a:cubicBezTo>
                    <a:lnTo>
                      <a:pt x="18156" y="8"/>
                    </a:lnTo>
                    <a:cubicBezTo>
                      <a:pt x="18155" y="8"/>
                      <a:pt x="18154" y="7"/>
                      <a:pt x="18154" y="6"/>
                    </a:cubicBezTo>
                    <a:cubicBezTo>
                      <a:pt x="18154" y="5"/>
                      <a:pt x="18155" y="4"/>
                      <a:pt x="18156" y="4"/>
                    </a:cubicBezTo>
                    <a:close/>
                    <a:moveTo>
                      <a:pt x="18164" y="4"/>
                    </a:moveTo>
                    <a:lnTo>
                      <a:pt x="18164" y="4"/>
                    </a:lnTo>
                    <a:cubicBezTo>
                      <a:pt x="18165" y="4"/>
                      <a:pt x="18166" y="5"/>
                      <a:pt x="18166" y="6"/>
                    </a:cubicBezTo>
                    <a:cubicBezTo>
                      <a:pt x="18166" y="7"/>
                      <a:pt x="18165" y="8"/>
                      <a:pt x="18164" y="8"/>
                    </a:cubicBezTo>
                    <a:lnTo>
                      <a:pt x="18164" y="8"/>
                    </a:lnTo>
                    <a:cubicBezTo>
                      <a:pt x="18163" y="8"/>
                      <a:pt x="18162" y="7"/>
                      <a:pt x="18162" y="6"/>
                    </a:cubicBezTo>
                    <a:cubicBezTo>
                      <a:pt x="18162" y="5"/>
                      <a:pt x="18163" y="4"/>
                      <a:pt x="18164" y="4"/>
                    </a:cubicBezTo>
                    <a:close/>
                    <a:moveTo>
                      <a:pt x="18172" y="4"/>
                    </a:moveTo>
                    <a:lnTo>
                      <a:pt x="18172" y="4"/>
                    </a:lnTo>
                    <a:cubicBezTo>
                      <a:pt x="18173" y="4"/>
                      <a:pt x="18174" y="5"/>
                      <a:pt x="18174" y="6"/>
                    </a:cubicBezTo>
                    <a:cubicBezTo>
                      <a:pt x="18174" y="7"/>
                      <a:pt x="18173" y="8"/>
                      <a:pt x="18172" y="8"/>
                    </a:cubicBezTo>
                    <a:lnTo>
                      <a:pt x="18172" y="8"/>
                    </a:lnTo>
                    <a:cubicBezTo>
                      <a:pt x="18171" y="8"/>
                      <a:pt x="18170" y="7"/>
                      <a:pt x="18170" y="6"/>
                    </a:cubicBezTo>
                    <a:cubicBezTo>
                      <a:pt x="18170" y="5"/>
                      <a:pt x="18171" y="4"/>
                      <a:pt x="18172" y="4"/>
                    </a:cubicBezTo>
                    <a:close/>
                    <a:moveTo>
                      <a:pt x="18180" y="4"/>
                    </a:moveTo>
                    <a:lnTo>
                      <a:pt x="18180" y="4"/>
                    </a:lnTo>
                    <a:cubicBezTo>
                      <a:pt x="18181" y="4"/>
                      <a:pt x="18182" y="5"/>
                      <a:pt x="18182" y="6"/>
                    </a:cubicBezTo>
                    <a:cubicBezTo>
                      <a:pt x="18182" y="7"/>
                      <a:pt x="18181" y="8"/>
                      <a:pt x="18180" y="8"/>
                    </a:cubicBezTo>
                    <a:lnTo>
                      <a:pt x="18180" y="8"/>
                    </a:lnTo>
                    <a:cubicBezTo>
                      <a:pt x="18179" y="8"/>
                      <a:pt x="18178" y="7"/>
                      <a:pt x="18178" y="6"/>
                    </a:cubicBezTo>
                    <a:cubicBezTo>
                      <a:pt x="18178" y="5"/>
                      <a:pt x="18179" y="4"/>
                      <a:pt x="18180" y="4"/>
                    </a:cubicBezTo>
                    <a:close/>
                    <a:moveTo>
                      <a:pt x="18188" y="4"/>
                    </a:moveTo>
                    <a:lnTo>
                      <a:pt x="18188" y="4"/>
                    </a:lnTo>
                    <a:cubicBezTo>
                      <a:pt x="18189" y="4"/>
                      <a:pt x="18190" y="5"/>
                      <a:pt x="18190" y="6"/>
                    </a:cubicBezTo>
                    <a:cubicBezTo>
                      <a:pt x="18190" y="7"/>
                      <a:pt x="18189" y="8"/>
                      <a:pt x="18188" y="8"/>
                    </a:cubicBezTo>
                    <a:lnTo>
                      <a:pt x="18188" y="8"/>
                    </a:lnTo>
                    <a:cubicBezTo>
                      <a:pt x="18187" y="8"/>
                      <a:pt x="18186" y="7"/>
                      <a:pt x="18186" y="6"/>
                    </a:cubicBezTo>
                    <a:cubicBezTo>
                      <a:pt x="18186" y="5"/>
                      <a:pt x="18187" y="4"/>
                      <a:pt x="18188" y="4"/>
                    </a:cubicBezTo>
                    <a:close/>
                    <a:moveTo>
                      <a:pt x="18196" y="4"/>
                    </a:moveTo>
                    <a:lnTo>
                      <a:pt x="18196" y="4"/>
                    </a:lnTo>
                    <a:cubicBezTo>
                      <a:pt x="18197" y="4"/>
                      <a:pt x="18198" y="5"/>
                      <a:pt x="18198" y="6"/>
                    </a:cubicBezTo>
                    <a:cubicBezTo>
                      <a:pt x="18198" y="7"/>
                      <a:pt x="18197" y="8"/>
                      <a:pt x="18196" y="8"/>
                    </a:cubicBezTo>
                    <a:lnTo>
                      <a:pt x="18196" y="8"/>
                    </a:lnTo>
                    <a:cubicBezTo>
                      <a:pt x="18195" y="8"/>
                      <a:pt x="18194" y="7"/>
                      <a:pt x="18194" y="6"/>
                    </a:cubicBezTo>
                    <a:cubicBezTo>
                      <a:pt x="18194" y="5"/>
                      <a:pt x="18195" y="4"/>
                      <a:pt x="18196" y="4"/>
                    </a:cubicBezTo>
                    <a:close/>
                    <a:moveTo>
                      <a:pt x="18204" y="4"/>
                    </a:moveTo>
                    <a:lnTo>
                      <a:pt x="18204" y="4"/>
                    </a:lnTo>
                    <a:cubicBezTo>
                      <a:pt x="18205" y="4"/>
                      <a:pt x="18206" y="5"/>
                      <a:pt x="18206" y="6"/>
                    </a:cubicBezTo>
                    <a:cubicBezTo>
                      <a:pt x="18206" y="7"/>
                      <a:pt x="18205" y="8"/>
                      <a:pt x="18204" y="8"/>
                    </a:cubicBezTo>
                    <a:lnTo>
                      <a:pt x="18204" y="8"/>
                    </a:lnTo>
                    <a:cubicBezTo>
                      <a:pt x="18203" y="8"/>
                      <a:pt x="18202" y="7"/>
                      <a:pt x="18202" y="6"/>
                    </a:cubicBezTo>
                    <a:cubicBezTo>
                      <a:pt x="18202" y="5"/>
                      <a:pt x="18203" y="4"/>
                      <a:pt x="18204" y="4"/>
                    </a:cubicBezTo>
                    <a:close/>
                    <a:moveTo>
                      <a:pt x="18212" y="4"/>
                    </a:moveTo>
                    <a:lnTo>
                      <a:pt x="18212" y="4"/>
                    </a:lnTo>
                    <a:cubicBezTo>
                      <a:pt x="18214" y="4"/>
                      <a:pt x="18214" y="5"/>
                      <a:pt x="18214" y="6"/>
                    </a:cubicBezTo>
                    <a:cubicBezTo>
                      <a:pt x="18214" y="7"/>
                      <a:pt x="18214" y="8"/>
                      <a:pt x="18212" y="8"/>
                    </a:cubicBezTo>
                    <a:lnTo>
                      <a:pt x="18212" y="8"/>
                    </a:lnTo>
                    <a:cubicBezTo>
                      <a:pt x="18211" y="8"/>
                      <a:pt x="18210" y="7"/>
                      <a:pt x="18210" y="6"/>
                    </a:cubicBezTo>
                    <a:cubicBezTo>
                      <a:pt x="18210" y="5"/>
                      <a:pt x="18211" y="4"/>
                      <a:pt x="18212" y="4"/>
                    </a:cubicBezTo>
                    <a:close/>
                    <a:moveTo>
                      <a:pt x="18220" y="4"/>
                    </a:moveTo>
                    <a:lnTo>
                      <a:pt x="18220" y="4"/>
                    </a:lnTo>
                    <a:cubicBezTo>
                      <a:pt x="18222" y="4"/>
                      <a:pt x="18222" y="5"/>
                      <a:pt x="18222" y="6"/>
                    </a:cubicBezTo>
                    <a:cubicBezTo>
                      <a:pt x="18222" y="7"/>
                      <a:pt x="18222" y="8"/>
                      <a:pt x="18220" y="8"/>
                    </a:cubicBezTo>
                    <a:lnTo>
                      <a:pt x="18220" y="8"/>
                    </a:lnTo>
                    <a:cubicBezTo>
                      <a:pt x="18219" y="8"/>
                      <a:pt x="18218" y="7"/>
                      <a:pt x="18218" y="6"/>
                    </a:cubicBezTo>
                    <a:cubicBezTo>
                      <a:pt x="18218" y="5"/>
                      <a:pt x="18219" y="4"/>
                      <a:pt x="18220" y="4"/>
                    </a:cubicBezTo>
                    <a:close/>
                    <a:moveTo>
                      <a:pt x="18228" y="4"/>
                    </a:moveTo>
                    <a:lnTo>
                      <a:pt x="18228" y="4"/>
                    </a:lnTo>
                    <a:cubicBezTo>
                      <a:pt x="18230" y="4"/>
                      <a:pt x="18230" y="5"/>
                      <a:pt x="18230" y="6"/>
                    </a:cubicBezTo>
                    <a:cubicBezTo>
                      <a:pt x="18230" y="7"/>
                      <a:pt x="18230" y="8"/>
                      <a:pt x="18228" y="8"/>
                    </a:cubicBezTo>
                    <a:lnTo>
                      <a:pt x="18228" y="8"/>
                    </a:lnTo>
                    <a:cubicBezTo>
                      <a:pt x="18227" y="8"/>
                      <a:pt x="18226" y="7"/>
                      <a:pt x="18226" y="6"/>
                    </a:cubicBezTo>
                    <a:cubicBezTo>
                      <a:pt x="18226" y="5"/>
                      <a:pt x="18227" y="4"/>
                      <a:pt x="18228" y="4"/>
                    </a:cubicBezTo>
                    <a:close/>
                    <a:moveTo>
                      <a:pt x="18236" y="4"/>
                    </a:moveTo>
                    <a:lnTo>
                      <a:pt x="18236" y="4"/>
                    </a:lnTo>
                    <a:cubicBezTo>
                      <a:pt x="18238" y="4"/>
                      <a:pt x="18238" y="5"/>
                      <a:pt x="18238" y="6"/>
                    </a:cubicBezTo>
                    <a:cubicBezTo>
                      <a:pt x="18238" y="7"/>
                      <a:pt x="18238" y="8"/>
                      <a:pt x="18236" y="8"/>
                    </a:cubicBezTo>
                    <a:lnTo>
                      <a:pt x="18236" y="8"/>
                    </a:lnTo>
                    <a:cubicBezTo>
                      <a:pt x="18235" y="8"/>
                      <a:pt x="18234" y="7"/>
                      <a:pt x="18234" y="6"/>
                    </a:cubicBezTo>
                    <a:cubicBezTo>
                      <a:pt x="18234" y="5"/>
                      <a:pt x="18235" y="4"/>
                      <a:pt x="18236" y="4"/>
                    </a:cubicBezTo>
                    <a:close/>
                    <a:moveTo>
                      <a:pt x="18244" y="4"/>
                    </a:moveTo>
                    <a:lnTo>
                      <a:pt x="18244" y="4"/>
                    </a:lnTo>
                    <a:cubicBezTo>
                      <a:pt x="18246" y="4"/>
                      <a:pt x="18246" y="5"/>
                      <a:pt x="18246" y="6"/>
                    </a:cubicBezTo>
                    <a:cubicBezTo>
                      <a:pt x="18246" y="7"/>
                      <a:pt x="18246" y="8"/>
                      <a:pt x="18244" y="8"/>
                    </a:cubicBezTo>
                    <a:lnTo>
                      <a:pt x="18244" y="8"/>
                    </a:lnTo>
                    <a:cubicBezTo>
                      <a:pt x="18243" y="8"/>
                      <a:pt x="18242" y="7"/>
                      <a:pt x="18242" y="6"/>
                    </a:cubicBezTo>
                    <a:cubicBezTo>
                      <a:pt x="18242" y="5"/>
                      <a:pt x="18243" y="4"/>
                      <a:pt x="18244" y="4"/>
                    </a:cubicBezTo>
                    <a:close/>
                    <a:moveTo>
                      <a:pt x="18252" y="4"/>
                    </a:moveTo>
                    <a:lnTo>
                      <a:pt x="18252" y="4"/>
                    </a:lnTo>
                    <a:cubicBezTo>
                      <a:pt x="18254" y="4"/>
                      <a:pt x="18254" y="5"/>
                      <a:pt x="18254" y="6"/>
                    </a:cubicBezTo>
                    <a:cubicBezTo>
                      <a:pt x="18254" y="7"/>
                      <a:pt x="18254" y="8"/>
                      <a:pt x="18252" y="8"/>
                    </a:cubicBezTo>
                    <a:lnTo>
                      <a:pt x="18252" y="8"/>
                    </a:lnTo>
                    <a:cubicBezTo>
                      <a:pt x="18251" y="8"/>
                      <a:pt x="18250" y="7"/>
                      <a:pt x="18250" y="6"/>
                    </a:cubicBezTo>
                    <a:cubicBezTo>
                      <a:pt x="18250" y="5"/>
                      <a:pt x="18251" y="4"/>
                      <a:pt x="18252" y="4"/>
                    </a:cubicBezTo>
                    <a:close/>
                    <a:moveTo>
                      <a:pt x="18260" y="4"/>
                    </a:moveTo>
                    <a:lnTo>
                      <a:pt x="18260" y="4"/>
                    </a:lnTo>
                    <a:cubicBezTo>
                      <a:pt x="18262" y="4"/>
                      <a:pt x="18262" y="5"/>
                      <a:pt x="18262" y="6"/>
                    </a:cubicBezTo>
                    <a:cubicBezTo>
                      <a:pt x="18262" y="7"/>
                      <a:pt x="18262" y="8"/>
                      <a:pt x="18260" y="8"/>
                    </a:cubicBezTo>
                    <a:lnTo>
                      <a:pt x="18260" y="8"/>
                    </a:lnTo>
                    <a:cubicBezTo>
                      <a:pt x="18259" y="8"/>
                      <a:pt x="18258" y="7"/>
                      <a:pt x="18258" y="6"/>
                    </a:cubicBezTo>
                    <a:cubicBezTo>
                      <a:pt x="18258" y="5"/>
                      <a:pt x="18259" y="4"/>
                      <a:pt x="18260" y="4"/>
                    </a:cubicBezTo>
                    <a:close/>
                    <a:moveTo>
                      <a:pt x="18268" y="4"/>
                    </a:moveTo>
                    <a:lnTo>
                      <a:pt x="18268" y="4"/>
                    </a:lnTo>
                    <a:cubicBezTo>
                      <a:pt x="18270" y="4"/>
                      <a:pt x="18270" y="5"/>
                      <a:pt x="18270" y="6"/>
                    </a:cubicBezTo>
                    <a:cubicBezTo>
                      <a:pt x="18270" y="7"/>
                      <a:pt x="18270" y="8"/>
                      <a:pt x="18268" y="8"/>
                    </a:cubicBezTo>
                    <a:lnTo>
                      <a:pt x="18268" y="8"/>
                    </a:lnTo>
                    <a:cubicBezTo>
                      <a:pt x="18267" y="8"/>
                      <a:pt x="18266" y="7"/>
                      <a:pt x="18266" y="6"/>
                    </a:cubicBezTo>
                    <a:cubicBezTo>
                      <a:pt x="18266" y="5"/>
                      <a:pt x="18267" y="4"/>
                      <a:pt x="18268" y="4"/>
                    </a:cubicBezTo>
                    <a:close/>
                    <a:moveTo>
                      <a:pt x="18276" y="4"/>
                    </a:moveTo>
                    <a:lnTo>
                      <a:pt x="18276" y="4"/>
                    </a:lnTo>
                    <a:cubicBezTo>
                      <a:pt x="18278" y="4"/>
                      <a:pt x="18278" y="5"/>
                      <a:pt x="18278" y="6"/>
                    </a:cubicBezTo>
                    <a:cubicBezTo>
                      <a:pt x="18278" y="7"/>
                      <a:pt x="18278" y="8"/>
                      <a:pt x="18276" y="8"/>
                    </a:cubicBezTo>
                    <a:lnTo>
                      <a:pt x="18276" y="8"/>
                    </a:lnTo>
                    <a:cubicBezTo>
                      <a:pt x="18275" y="8"/>
                      <a:pt x="18274" y="7"/>
                      <a:pt x="18274" y="6"/>
                    </a:cubicBezTo>
                    <a:cubicBezTo>
                      <a:pt x="18274" y="5"/>
                      <a:pt x="18275" y="4"/>
                      <a:pt x="18276" y="4"/>
                    </a:cubicBezTo>
                    <a:close/>
                    <a:moveTo>
                      <a:pt x="18284" y="4"/>
                    </a:moveTo>
                    <a:lnTo>
                      <a:pt x="18284" y="4"/>
                    </a:lnTo>
                    <a:cubicBezTo>
                      <a:pt x="18286" y="4"/>
                      <a:pt x="18286" y="5"/>
                      <a:pt x="18286" y="6"/>
                    </a:cubicBezTo>
                    <a:cubicBezTo>
                      <a:pt x="18286" y="7"/>
                      <a:pt x="18286" y="8"/>
                      <a:pt x="18284" y="8"/>
                    </a:cubicBezTo>
                    <a:lnTo>
                      <a:pt x="18284" y="8"/>
                    </a:lnTo>
                    <a:cubicBezTo>
                      <a:pt x="18283" y="8"/>
                      <a:pt x="18282" y="7"/>
                      <a:pt x="18282" y="6"/>
                    </a:cubicBezTo>
                    <a:cubicBezTo>
                      <a:pt x="18282" y="5"/>
                      <a:pt x="18283" y="4"/>
                      <a:pt x="18284" y="4"/>
                    </a:cubicBezTo>
                    <a:close/>
                    <a:moveTo>
                      <a:pt x="18292" y="4"/>
                    </a:moveTo>
                    <a:lnTo>
                      <a:pt x="18292" y="4"/>
                    </a:lnTo>
                    <a:cubicBezTo>
                      <a:pt x="18294" y="4"/>
                      <a:pt x="18294" y="5"/>
                      <a:pt x="18294" y="6"/>
                    </a:cubicBezTo>
                    <a:cubicBezTo>
                      <a:pt x="18294" y="7"/>
                      <a:pt x="18294" y="8"/>
                      <a:pt x="18292" y="8"/>
                    </a:cubicBezTo>
                    <a:lnTo>
                      <a:pt x="18292" y="8"/>
                    </a:lnTo>
                    <a:cubicBezTo>
                      <a:pt x="18291" y="8"/>
                      <a:pt x="18290" y="7"/>
                      <a:pt x="18290" y="6"/>
                    </a:cubicBezTo>
                    <a:cubicBezTo>
                      <a:pt x="18290" y="5"/>
                      <a:pt x="18291" y="4"/>
                      <a:pt x="18292" y="4"/>
                    </a:cubicBezTo>
                    <a:close/>
                    <a:moveTo>
                      <a:pt x="18300" y="4"/>
                    </a:moveTo>
                    <a:lnTo>
                      <a:pt x="18300" y="4"/>
                    </a:lnTo>
                    <a:cubicBezTo>
                      <a:pt x="18302" y="4"/>
                      <a:pt x="18302" y="5"/>
                      <a:pt x="18302" y="6"/>
                    </a:cubicBezTo>
                    <a:cubicBezTo>
                      <a:pt x="18302" y="7"/>
                      <a:pt x="18302" y="8"/>
                      <a:pt x="18300" y="8"/>
                    </a:cubicBezTo>
                    <a:lnTo>
                      <a:pt x="18300" y="8"/>
                    </a:lnTo>
                    <a:cubicBezTo>
                      <a:pt x="18299" y="8"/>
                      <a:pt x="18298" y="7"/>
                      <a:pt x="18298" y="6"/>
                    </a:cubicBezTo>
                    <a:cubicBezTo>
                      <a:pt x="18298" y="5"/>
                      <a:pt x="18299" y="4"/>
                      <a:pt x="18300" y="4"/>
                    </a:cubicBezTo>
                    <a:close/>
                    <a:moveTo>
                      <a:pt x="18308" y="4"/>
                    </a:moveTo>
                    <a:lnTo>
                      <a:pt x="18308" y="4"/>
                    </a:lnTo>
                    <a:cubicBezTo>
                      <a:pt x="18310" y="4"/>
                      <a:pt x="18310" y="5"/>
                      <a:pt x="18310" y="6"/>
                    </a:cubicBezTo>
                    <a:cubicBezTo>
                      <a:pt x="18310" y="7"/>
                      <a:pt x="18310" y="8"/>
                      <a:pt x="18308" y="8"/>
                    </a:cubicBezTo>
                    <a:lnTo>
                      <a:pt x="18308" y="8"/>
                    </a:lnTo>
                    <a:cubicBezTo>
                      <a:pt x="18307" y="8"/>
                      <a:pt x="18306" y="7"/>
                      <a:pt x="18306" y="6"/>
                    </a:cubicBezTo>
                    <a:cubicBezTo>
                      <a:pt x="18306" y="5"/>
                      <a:pt x="18307" y="4"/>
                      <a:pt x="18308" y="4"/>
                    </a:cubicBezTo>
                    <a:close/>
                    <a:moveTo>
                      <a:pt x="18316" y="4"/>
                    </a:moveTo>
                    <a:lnTo>
                      <a:pt x="18317" y="4"/>
                    </a:lnTo>
                    <a:cubicBezTo>
                      <a:pt x="18318" y="4"/>
                      <a:pt x="18319" y="5"/>
                      <a:pt x="18319" y="6"/>
                    </a:cubicBezTo>
                    <a:cubicBezTo>
                      <a:pt x="18319" y="7"/>
                      <a:pt x="18318" y="8"/>
                      <a:pt x="18317" y="8"/>
                    </a:cubicBezTo>
                    <a:lnTo>
                      <a:pt x="18316" y="8"/>
                    </a:lnTo>
                    <a:cubicBezTo>
                      <a:pt x="18315" y="8"/>
                      <a:pt x="18314" y="7"/>
                      <a:pt x="18314" y="6"/>
                    </a:cubicBezTo>
                    <a:cubicBezTo>
                      <a:pt x="18314" y="5"/>
                      <a:pt x="18315" y="4"/>
                      <a:pt x="18316" y="4"/>
                    </a:cubicBezTo>
                    <a:close/>
                    <a:moveTo>
                      <a:pt x="18325" y="4"/>
                    </a:moveTo>
                    <a:lnTo>
                      <a:pt x="18325" y="4"/>
                    </a:lnTo>
                    <a:cubicBezTo>
                      <a:pt x="18326" y="4"/>
                      <a:pt x="18327" y="5"/>
                      <a:pt x="18327" y="6"/>
                    </a:cubicBezTo>
                    <a:cubicBezTo>
                      <a:pt x="18327" y="7"/>
                      <a:pt x="18326" y="8"/>
                      <a:pt x="18325" y="8"/>
                    </a:cubicBezTo>
                    <a:lnTo>
                      <a:pt x="18325" y="8"/>
                    </a:lnTo>
                    <a:cubicBezTo>
                      <a:pt x="18323" y="8"/>
                      <a:pt x="18323" y="7"/>
                      <a:pt x="18323" y="6"/>
                    </a:cubicBezTo>
                    <a:cubicBezTo>
                      <a:pt x="18323" y="5"/>
                      <a:pt x="18323" y="4"/>
                      <a:pt x="18325" y="4"/>
                    </a:cubicBezTo>
                    <a:close/>
                    <a:moveTo>
                      <a:pt x="18333" y="4"/>
                    </a:moveTo>
                    <a:lnTo>
                      <a:pt x="18333" y="4"/>
                    </a:lnTo>
                    <a:cubicBezTo>
                      <a:pt x="18334" y="4"/>
                      <a:pt x="18335" y="5"/>
                      <a:pt x="18335" y="6"/>
                    </a:cubicBezTo>
                    <a:cubicBezTo>
                      <a:pt x="18335" y="7"/>
                      <a:pt x="18334" y="8"/>
                      <a:pt x="18333" y="8"/>
                    </a:cubicBezTo>
                    <a:lnTo>
                      <a:pt x="18333" y="8"/>
                    </a:lnTo>
                    <a:cubicBezTo>
                      <a:pt x="18331" y="8"/>
                      <a:pt x="18331" y="7"/>
                      <a:pt x="18331" y="6"/>
                    </a:cubicBezTo>
                    <a:cubicBezTo>
                      <a:pt x="18331" y="5"/>
                      <a:pt x="18331" y="4"/>
                      <a:pt x="18333" y="4"/>
                    </a:cubicBezTo>
                    <a:close/>
                    <a:moveTo>
                      <a:pt x="18341" y="4"/>
                    </a:moveTo>
                    <a:lnTo>
                      <a:pt x="18341" y="4"/>
                    </a:lnTo>
                    <a:cubicBezTo>
                      <a:pt x="18342" y="4"/>
                      <a:pt x="18343" y="5"/>
                      <a:pt x="18343" y="6"/>
                    </a:cubicBezTo>
                    <a:cubicBezTo>
                      <a:pt x="18343" y="7"/>
                      <a:pt x="18342" y="8"/>
                      <a:pt x="18341" y="8"/>
                    </a:cubicBezTo>
                    <a:lnTo>
                      <a:pt x="18341" y="8"/>
                    </a:lnTo>
                    <a:cubicBezTo>
                      <a:pt x="18339" y="8"/>
                      <a:pt x="18339" y="7"/>
                      <a:pt x="18339" y="6"/>
                    </a:cubicBezTo>
                    <a:cubicBezTo>
                      <a:pt x="18339" y="5"/>
                      <a:pt x="18339" y="4"/>
                      <a:pt x="18341" y="4"/>
                    </a:cubicBezTo>
                    <a:close/>
                    <a:moveTo>
                      <a:pt x="18349" y="4"/>
                    </a:moveTo>
                    <a:lnTo>
                      <a:pt x="18349" y="4"/>
                    </a:lnTo>
                    <a:cubicBezTo>
                      <a:pt x="18350" y="4"/>
                      <a:pt x="18351" y="5"/>
                      <a:pt x="18351" y="6"/>
                    </a:cubicBezTo>
                    <a:cubicBezTo>
                      <a:pt x="18351" y="7"/>
                      <a:pt x="18350" y="8"/>
                      <a:pt x="18349" y="8"/>
                    </a:cubicBezTo>
                    <a:lnTo>
                      <a:pt x="18349" y="8"/>
                    </a:lnTo>
                    <a:cubicBezTo>
                      <a:pt x="18347" y="8"/>
                      <a:pt x="18347" y="7"/>
                      <a:pt x="18347" y="6"/>
                    </a:cubicBezTo>
                    <a:cubicBezTo>
                      <a:pt x="18347" y="5"/>
                      <a:pt x="18347" y="4"/>
                      <a:pt x="18349" y="4"/>
                    </a:cubicBezTo>
                    <a:close/>
                    <a:moveTo>
                      <a:pt x="18357" y="4"/>
                    </a:moveTo>
                    <a:lnTo>
                      <a:pt x="18357" y="4"/>
                    </a:lnTo>
                    <a:cubicBezTo>
                      <a:pt x="18358" y="4"/>
                      <a:pt x="18359" y="5"/>
                      <a:pt x="18359" y="6"/>
                    </a:cubicBezTo>
                    <a:cubicBezTo>
                      <a:pt x="18359" y="7"/>
                      <a:pt x="18358" y="8"/>
                      <a:pt x="18357" y="8"/>
                    </a:cubicBezTo>
                    <a:lnTo>
                      <a:pt x="18357" y="8"/>
                    </a:lnTo>
                    <a:cubicBezTo>
                      <a:pt x="18355" y="8"/>
                      <a:pt x="18355" y="7"/>
                      <a:pt x="18355" y="6"/>
                    </a:cubicBezTo>
                    <a:cubicBezTo>
                      <a:pt x="18355" y="5"/>
                      <a:pt x="18355" y="4"/>
                      <a:pt x="18357" y="4"/>
                    </a:cubicBezTo>
                    <a:close/>
                    <a:moveTo>
                      <a:pt x="18365" y="4"/>
                    </a:moveTo>
                    <a:lnTo>
                      <a:pt x="18365" y="4"/>
                    </a:lnTo>
                    <a:cubicBezTo>
                      <a:pt x="18366" y="4"/>
                      <a:pt x="18367" y="5"/>
                      <a:pt x="18367" y="6"/>
                    </a:cubicBezTo>
                    <a:cubicBezTo>
                      <a:pt x="18367" y="7"/>
                      <a:pt x="18366" y="8"/>
                      <a:pt x="18365" y="8"/>
                    </a:cubicBezTo>
                    <a:lnTo>
                      <a:pt x="18365" y="8"/>
                    </a:lnTo>
                    <a:cubicBezTo>
                      <a:pt x="18363" y="8"/>
                      <a:pt x="18363" y="7"/>
                      <a:pt x="18363" y="6"/>
                    </a:cubicBezTo>
                    <a:cubicBezTo>
                      <a:pt x="18363" y="5"/>
                      <a:pt x="18363" y="4"/>
                      <a:pt x="18365" y="4"/>
                    </a:cubicBezTo>
                    <a:close/>
                    <a:moveTo>
                      <a:pt x="18373" y="4"/>
                    </a:moveTo>
                    <a:lnTo>
                      <a:pt x="18373" y="4"/>
                    </a:lnTo>
                    <a:cubicBezTo>
                      <a:pt x="18374" y="4"/>
                      <a:pt x="18375" y="5"/>
                      <a:pt x="18375" y="6"/>
                    </a:cubicBezTo>
                    <a:cubicBezTo>
                      <a:pt x="18375" y="7"/>
                      <a:pt x="18374" y="8"/>
                      <a:pt x="18373" y="8"/>
                    </a:cubicBezTo>
                    <a:lnTo>
                      <a:pt x="18373" y="8"/>
                    </a:lnTo>
                    <a:cubicBezTo>
                      <a:pt x="18371" y="8"/>
                      <a:pt x="18371" y="7"/>
                      <a:pt x="18371" y="6"/>
                    </a:cubicBezTo>
                    <a:cubicBezTo>
                      <a:pt x="18371" y="5"/>
                      <a:pt x="18371" y="4"/>
                      <a:pt x="18373" y="4"/>
                    </a:cubicBezTo>
                    <a:close/>
                    <a:moveTo>
                      <a:pt x="18381" y="4"/>
                    </a:moveTo>
                    <a:lnTo>
                      <a:pt x="18381" y="4"/>
                    </a:lnTo>
                    <a:cubicBezTo>
                      <a:pt x="18382" y="4"/>
                      <a:pt x="18383" y="5"/>
                      <a:pt x="18383" y="6"/>
                    </a:cubicBezTo>
                    <a:cubicBezTo>
                      <a:pt x="18383" y="7"/>
                      <a:pt x="18382" y="8"/>
                      <a:pt x="18381" y="8"/>
                    </a:cubicBezTo>
                    <a:lnTo>
                      <a:pt x="18381" y="8"/>
                    </a:lnTo>
                    <a:cubicBezTo>
                      <a:pt x="18379" y="8"/>
                      <a:pt x="18379" y="7"/>
                      <a:pt x="18379" y="6"/>
                    </a:cubicBezTo>
                    <a:cubicBezTo>
                      <a:pt x="18379" y="5"/>
                      <a:pt x="18379" y="4"/>
                      <a:pt x="18381" y="4"/>
                    </a:cubicBezTo>
                    <a:close/>
                    <a:moveTo>
                      <a:pt x="18389" y="4"/>
                    </a:moveTo>
                    <a:lnTo>
                      <a:pt x="18389" y="4"/>
                    </a:lnTo>
                    <a:cubicBezTo>
                      <a:pt x="18390" y="4"/>
                      <a:pt x="18391" y="5"/>
                      <a:pt x="18391" y="6"/>
                    </a:cubicBezTo>
                    <a:cubicBezTo>
                      <a:pt x="18391" y="7"/>
                      <a:pt x="18390" y="8"/>
                      <a:pt x="18389" y="8"/>
                    </a:cubicBezTo>
                    <a:lnTo>
                      <a:pt x="18389" y="8"/>
                    </a:lnTo>
                    <a:cubicBezTo>
                      <a:pt x="18387" y="8"/>
                      <a:pt x="18387" y="7"/>
                      <a:pt x="18387" y="6"/>
                    </a:cubicBezTo>
                    <a:cubicBezTo>
                      <a:pt x="18387" y="5"/>
                      <a:pt x="18387" y="4"/>
                      <a:pt x="18389" y="4"/>
                    </a:cubicBezTo>
                    <a:close/>
                    <a:moveTo>
                      <a:pt x="18397" y="4"/>
                    </a:moveTo>
                    <a:lnTo>
                      <a:pt x="18397" y="4"/>
                    </a:lnTo>
                    <a:cubicBezTo>
                      <a:pt x="18398" y="4"/>
                      <a:pt x="18399" y="5"/>
                      <a:pt x="18399" y="6"/>
                    </a:cubicBezTo>
                    <a:cubicBezTo>
                      <a:pt x="18399" y="7"/>
                      <a:pt x="18398" y="8"/>
                      <a:pt x="18397" y="8"/>
                    </a:cubicBezTo>
                    <a:lnTo>
                      <a:pt x="18397" y="8"/>
                    </a:lnTo>
                    <a:cubicBezTo>
                      <a:pt x="18395" y="8"/>
                      <a:pt x="18395" y="7"/>
                      <a:pt x="18395" y="6"/>
                    </a:cubicBezTo>
                    <a:cubicBezTo>
                      <a:pt x="18395" y="5"/>
                      <a:pt x="18395" y="4"/>
                      <a:pt x="18397" y="4"/>
                    </a:cubicBezTo>
                    <a:close/>
                    <a:moveTo>
                      <a:pt x="18405" y="4"/>
                    </a:moveTo>
                    <a:lnTo>
                      <a:pt x="18405" y="4"/>
                    </a:lnTo>
                    <a:cubicBezTo>
                      <a:pt x="18406" y="4"/>
                      <a:pt x="18407" y="5"/>
                      <a:pt x="18407" y="6"/>
                    </a:cubicBezTo>
                    <a:cubicBezTo>
                      <a:pt x="18407" y="7"/>
                      <a:pt x="18406" y="8"/>
                      <a:pt x="18405" y="8"/>
                    </a:cubicBezTo>
                    <a:lnTo>
                      <a:pt x="18405" y="8"/>
                    </a:lnTo>
                    <a:cubicBezTo>
                      <a:pt x="18403" y="8"/>
                      <a:pt x="18403" y="7"/>
                      <a:pt x="18403" y="6"/>
                    </a:cubicBezTo>
                    <a:cubicBezTo>
                      <a:pt x="18403" y="5"/>
                      <a:pt x="18403" y="4"/>
                      <a:pt x="18405" y="4"/>
                    </a:cubicBezTo>
                    <a:close/>
                    <a:moveTo>
                      <a:pt x="18413" y="4"/>
                    </a:moveTo>
                    <a:lnTo>
                      <a:pt x="18413" y="4"/>
                    </a:lnTo>
                    <a:cubicBezTo>
                      <a:pt x="18414" y="4"/>
                      <a:pt x="18415" y="5"/>
                      <a:pt x="18415" y="6"/>
                    </a:cubicBezTo>
                    <a:cubicBezTo>
                      <a:pt x="18415" y="7"/>
                      <a:pt x="18414" y="8"/>
                      <a:pt x="18413" y="8"/>
                    </a:cubicBezTo>
                    <a:lnTo>
                      <a:pt x="18413" y="8"/>
                    </a:lnTo>
                    <a:cubicBezTo>
                      <a:pt x="18411" y="8"/>
                      <a:pt x="18411" y="7"/>
                      <a:pt x="18411" y="6"/>
                    </a:cubicBezTo>
                    <a:cubicBezTo>
                      <a:pt x="18411" y="5"/>
                      <a:pt x="18411" y="4"/>
                      <a:pt x="18413" y="4"/>
                    </a:cubicBezTo>
                    <a:close/>
                    <a:moveTo>
                      <a:pt x="18421" y="4"/>
                    </a:moveTo>
                    <a:lnTo>
                      <a:pt x="18421" y="4"/>
                    </a:lnTo>
                    <a:cubicBezTo>
                      <a:pt x="18422" y="4"/>
                      <a:pt x="18423" y="5"/>
                      <a:pt x="18423" y="6"/>
                    </a:cubicBezTo>
                    <a:cubicBezTo>
                      <a:pt x="18423" y="7"/>
                      <a:pt x="18422" y="8"/>
                      <a:pt x="18421" y="8"/>
                    </a:cubicBezTo>
                    <a:lnTo>
                      <a:pt x="18421" y="8"/>
                    </a:lnTo>
                    <a:cubicBezTo>
                      <a:pt x="18419" y="8"/>
                      <a:pt x="18419" y="7"/>
                      <a:pt x="18419" y="6"/>
                    </a:cubicBezTo>
                    <a:cubicBezTo>
                      <a:pt x="18419" y="5"/>
                      <a:pt x="18419" y="4"/>
                      <a:pt x="18421" y="4"/>
                    </a:cubicBezTo>
                    <a:close/>
                    <a:moveTo>
                      <a:pt x="18429" y="4"/>
                    </a:moveTo>
                    <a:lnTo>
                      <a:pt x="18429" y="4"/>
                    </a:lnTo>
                    <a:cubicBezTo>
                      <a:pt x="18430" y="4"/>
                      <a:pt x="18431" y="5"/>
                      <a:pt x="18431" y="6"/>
                    </a:cubicBezTo>
                    <a:cubicBezTo>
                      <a:pt x="18431" y="7"/>
                      <a:pt x="18430" y="8"/>
                      <a:pt x="18429" y="8"/>
                    </a:cubicBezTo>
                    <a:lnTo>
                      <a:pt x="18429" y="8"/>
                    </a:lnTo>
                    <a:cubicBezTo>
                      <a:pt x="18428" y="8"/>
                      <a:pt x="18427" y="7"/>
                      <a:pt x="18427" y="6"/>
                    </a:cubicBezTo>
                    <a:cubicBezTo>
                      <a:pt x="18427" y="5"/>
                      <a:pt x="18428" y="4"/>
                      <a:pt x="18429" y="4"/>
                    </a:cubicBezTo>
                    <a:close/>
                    <a:moveTo>
                      <a:pt x="18437" y="4"/>
                    </a:moveTo>
                    <a:lnTo>
                      <a:pt x="18437" y="4"/>
                    </a:lnTo>
                    <a:cubicBezTo>
                      <a:pt x="18438" y="4"/>
                      <a:pt x="18439" y="5"/>
                      <a:pt x="18439" y="6"/>
                    </a:cubicBezTo>
                    <a:cubicBezTo>
                      <a:pt x="18439" y="7"/>
                      <a:pt x="18438" y="8"/>
                      <a:pt x="18437" y="8"/>
                    </a:cubicBezTo>
                    <a:lnTo>
                      <a:pt x="18437" y="8"/>
                    </a:lnTo>
                    <a:cubicBezTo>
                      <a:pt x="18436" y="8"/>
                      <a:pt x="18435" y="7"/>
                      <a:pt x="18435" y="6"/>
                    </a:cubicBezTo>
                    <a:cubicBezTo>
                      <a:pt x="18435" y="5"/>
                      <a:pt x="18436" y="4"/>
                      <a:pt x="18437" y="4"/>
                    </a:cubicBezTo>
                    <a:close/>
                    <a:moveTo>
                      <a:pt x="18445" y="4"/>
                    </a:moveTo>
                    <a:lnTo>
                      <a:pt x="18445" y="4"/>
                    </a:lnTo>
                    <a:cubicBezTo>
                      <a:pt x="18446" y="4"/>
                      <a:pt x="18447" y="5"/>
                      <a:pt x="18447" y="6"/>
                    </a:cubicBezTo>
                    <a:cubicBezTo>
                      <a:pt x="18447" y="7"/>
                      <a:pt x="18446" y="8"/>
                      <a:pt x="18445" y="8"/>
                    </a:cubicBezTo>
                    <a:lnTo>
                      <a:pt x="18445" y="8"/>
                    </a:lnTo>
                    <a:cubicBezTo>
                      <a:pt x="18444" y="8"/>
                      <a:pt x="18443" y="7"/>
                      <a:pt x="18443" y="6"/>
                    </a:cubicBezTo>
                    <a:cubicBezTo>
                      <a:pt x="18443" y="5"/>
                      <a:pt x="18444" y="4"/>
                      <a:pt x="18445" y="4"/>
                    </a:cubicBezTo>
                    <a:close/>
                    <a:moveTo>
                      <a:pt x="18453" y="4"/>
                    </a:moveTo>
                    <a:lnTo>
                      <a:pt x="18453" y="4"/>
                    </a:lnTo>
                    <a:cubicBezTo>
                      <a:pt x="18454" y="4"/>
                      <a:pt x="18455" y="5"/>
                      <a:pt x="18455" y="6"/>
                    </a:cubicBezTo>
                    <a:cubicBezTo>
                      <a:pt x="18455" y="7"/>
                      <a:pt x="18454" y="8"/>
                      <a:pt x="18453" y="8"/>
                    </a:cubicBezTo>
                    <a:lnTo>
                      <a:pt x="18453" y="8"/>
                    </a:lnTo>
                    <a:cubicBezTo>
                      <a:pt x="18452" y="8"/>
                      <a:pt x="18451" y="7"/>
                      <a:pt x="18451" y="6"/>
                    </a:cubicBezTo>
                    <a:cubicBezTo>
                      <a:pt x="18451" y="5"/>
                      <a:pt x="18452" y="4"/>
                      <a:pt x="18453" y="4"/>
                    </a:cubicBezTo>
                    <a:close/>
                    <a:moveTo>
                      <a:pt x="18461" y="4"/>
                    </a:moveTo>
                    <a:lnTo>
                      <a:pt x="18461" y="4"/>
                    </a:lnTo>
                    <a:cubicBezTo>
                      <a:pt x="18462" y="4"/>
                      <a:pt x="18463" y="5"/>
                      <a:pt x="18463" y="6"/>
                    </a:cubicBezTo>
                    <a:cubicBezTo>
                      <a:pt x="18463" y="7"/>
                      <a:pt x="18462" y="8"/>
                      <a:pt x="18461" y="8"/>
                    </a:cubicBezTo>
                    <a:lnTo>
                      <a:pt x="18461" y="8"/>
                    </a:lnTo>
                    <a:cubicBezTo>
                      <a:pt x="18460" y="8"/>
                      <a:pt x="18459" y="7"/>
                      <a:pt x="18459" y="6"/>
                    </a:cubicBezTo>
                    <a:cubicBezTo>
                      <a:pt x="18459" y="5"/>
                      <a:pt x="18460" y="4"/>
                      <a:pt x="18461" y="4"/>
                    </a:cubicBezTo>
                    <a:close/>
                    <a:moveTo>
                      <a:pt x="18469" y="4"/>
                    </a:moveTo>
                    <a:lnTo>
                      <a:pt x="18469" y="4"/>
                    </a:lnTo>
                    <a:cubicBezTo>
                      <a:pt x="18470" y="4"/>
                      <a:pt x="18471" y="5"/>
                      <a:pt x="18471" y="6"/>
                    </a:cubicBezTo>
                    <a:cubicBezTo>
                      <a:pt x="18471" y="7"/>
                      <a:pt x="18470" y="8"/>
                      <a:pt x="18469" y="8"/>
                    </a:cubicBezTo>
                    <a:lnTo>
                      <a:pt x="18469" y="8"/>
                    </a:lnTo>
                    <a:cubicBezTo>
                      <a:pt x="18468" y="8"/>
                      <a:pt x="18467" y="7"/>
                      <a:pt x="18467" y="6"/>
                    </a:cubicBezTo>
                    <a:cubicBezTo>
                      <a:pt x="18467" y="5"/>
                      <a:pt x="18468" y="4"/>
                      <a:pt x="18469" y="4"/>
                    </a:cubicBezTo>
                    <a:close/>
                    <a:moveTo>
                      <a:pt x="18477" y="4"/>
                    </a:moveTo>
                    <a:lnTo>
                      <a:pt x="18477" y="4"/>
                    </a:lnTo>
                    <a:cubicBezTo>
                      <a:pt x="18478" y="4"/>
                      <a:pt x="18479" y="5"/>
                      <a:pt x="18479" y="6"/>
                    </a:cubicBezTo>
                    <a:cubicBezTo>
                      <a:pt x="18479" y="7"/>
                      <a:pt x="18478" y="8"/>
                      <a:pt x="18477" y="8"/>
                    </a:cubicBezTo>
                    <a:lnTo>
                      <a:pt x="18477" y="8"/>
                    </a:lnTo>
                    <a:cubicBezTo>
                      <a:pt x="18476" y="8"/>
                      <a:pt x="18475" y="7"/>
                      <a:pt x="18475" y="6"/>
                    </a:cubicBezTo>
                    <a:cubicBezTo>
                      <a:pt x="18475" y="5"/>
                      <a:pt x="18476" y="4"/>
                      <a:pt x="18477" y="4"/>
                    </a:cubicBezTo>
                    <a:close/>
                    <a:moveTo>
                      <a:pt x="18485" y="4"/>
                    </a:moveTo>
                    <a:lnTo>
                      <a:pt x="18485" y="4"/>
                    </a:lnTo>
                    <a:cubicBezTo>
                      <a:pt x="18486" y="4"/>
                      <a:pt x="18487" y="5"/>
                      <a:pt x="18487" y="6"/>
                    </a:cubicBezTo>
                    <a:cubicBezTo>
                      <a:pt x="18487" y="7"/>
                      <a:pt x="18486" y="8"/>
                      <a:pt x="18485" y="8"/>
                    </a:cubicBezTo>
                    <a:lnTo>
                      <a:pt x="18485" y="8"/>
                    </a:lnTo>
                    <a:cubicBezTo>
                      <a:pt x="18484" y="8"/>
                      <a:pt x="18483" y="7"/>
                      <a:pt x="18483" y="6"/>
                    </a:cubicBezTo>
                    <a:cubicBezTo>
                      <a:pt x="18483" y="5"/>
                      <a:pt x="18484" y="4"/>
                      <a:pt x="18485" y="4"/>
                    </a:cubicBezTo>
                    <a:close/>
                    <a:moveTo>
                      <a:pt x="18493" y="4"/>
                    </a:moveTo>
                    <a:lnTo>
                      <a:pt x="18493" y="4"/>
                    </a:lnTo>
                    <a:cubicBezTo>
                      <a:pt x="18494" y="4"/>
                      <a:pt x="18495" y="5"/>
                      <a:pt x="18495" y="6"/>
                    </a:cubicBezTo>
                    <a:cubicBezTo>
                      <a:pt x="18495" y="7"/>
                      <a:pt x="18494" y="8"/>
                      <a:pt x="18493" y="8"/>
                    </a:cubicBezTo>
                    <a:lnTo>
                      <a:pt x="18493" y="8"/>
                    </a:lnTo>
                    <a:cubicBezTo>
                      <a:pt x="18492" y="8"/>
                      <a:pt x="18491" y="7"/>
                      <a:pt x="18491" y="6"/>
                    </a:cubicBezTo>
                    <a:cubicBezTo>
                      <a:pt x="18491" y="5"/>
                      <a:pt x="18492" y="4"/>
                      <a:pt x="18493" y="4"/>
                    </a:cubicBezTo>
                    <a:close/>
                    <a:moveTo>
                      <a:pt x="18501" y="4"/>
                    </a:moveTo>
                    <a:lnTo>
                      <a:pt x="18501" y="4"/>
                    </a:lnTo>
                    <a:cubicBezTo>
                      <a:pt x="18502" y="4"/>
                      <a:pt x="18503" y="5"/>
                      <a:pt x="18503" y="6"/>
                    </a:cubicBezTo>
                    <a:cubicBezTo>
                      <a:pt x="18503" y="7"/>
                      <a:pt x="18502" y="8"/>
                      <a:pt x="18501" y="8"/>
                    </a:cubicBezTo>
                    <a:lnTo>
                      <a:pt x="18501" y="8"/>
                    </a:lnTo>
                    <a:cubicBezTo>
                      <a:pt x="18500" y="8"/>
                      <a:pt x="18499" y="7"/>
                      <a:pt x="18499" y="6"/>
                    </a:cubicBezTo>
                    <a:cubicBezTo>
                      <a:pt x="18499" y="5"/>
                      <a:pt x="18500" y="4"/>
                      <a:pt x="18501" y="4"/>
                    </a:cubicBezTo>
                    <a:close/>
                    <a:moveTo>
                      <a:pt x="18509" y="4"/>
                    </a:moveTo>
                    <a:lnTo>
                      <a:pt x="18509" y="4"/>
                    </a:lnTo>
                    <a:cubicBezTo>
                      <a:pt x="18510" y="4"/>
                      <a:pt x="18511" y="5"/>
                      <a:pt x="18511" y="6"/>
                    </a:cubicBezTo>
                    <a:cubicBezTo>
                      <a:pt x="18511" y="7"/>
                      <a:pt x="18510" y="8"/>
                      <a:pt x="18509" y="8"/>
                    </a:cubicBezTo>
                    <a:lnTo>
                      <a:pt x="18509" y="8"/>
                    </a:lnTo>
                    <a:cubicBezTo>
                      <a:pt x="18508" y="8"/>
                      <a:pt x="18507" y="7"/>
                      <a:pt x="18507" y="6"/>
                    </a:cubicBezTo>
                    <a:cubicBezTo>
                      <a:pt x="18507" y="5"/>
                      <a:pt x="18508" y="4"/>
                      <a:pt x="18509" y="4"/>
                    </a:cubicBez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562040" y="4478400"/>
                <a:ext cx="6075360" cy="1440"/>
              </a:xfrm>
              <a:custGeom>
                <a:avLst/>
                <a:gdLst/>
                <a:ahLst/>
                <a:rect l="l" t="t" r="r" b="b"/>
                <a:pathLst>
                  <a:path w="18511" h="9">
                    <a:moveTo>
                      <a:pt x="2" y="0"/>
                    </a:moveTo>
                    <a:lnTo>
                      <a:pt x="2" y="0"/>
                    </a:lnTo>
                    <a:cubicBezTo>
                      <a:pt x="3" y="0"/>
                      <a:pt x="4" y="1"/>
                      <a:pt x="4" y="2"/>
                    </a:cubicBezTo>
                    <a:cubicBezTo>
                      <a:pt x="4" y="4"/>
                      <a:pt x="3" y="4"/>
                      <a:pt x="2" y="4"/>
                    </a:cubicBezTo>
                    <a:lnTo>
                      <a:pt x="2" y="4"/>
                    </a:lnTo>
                    <a:cubicBezTo>
                      <a:pt x="1" y="4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0"/>
                    </a:cubicBezTo>
                    <a:close/>
                    <a:moveTo>
                      <a:pt x="10" y="0"/>
                    </a:moveTo>
                    <a:lnTo>
                      <a:pt x="10" y="0"/>
                    </a:lnTo>
                    <a:cubicBezTo>
                      <a:pt x="11" y="0"/>
                      <a:pt x="12" y="1"/>
                      <a:pt x="12" y="2"/>
                    </a:cubicBezTo>
                    <a:cubicBezTo>
                      <a:pt x="12" y="4"/>
                      <a:pt x="11" y="4"/>
                      <a:pt x="10" y="4"/>
                    </a:cubicBezTo>
                    <a:lnTo>
                      <a:pt x="10" y="4"/>
                    </a:lnTo>
                    <a:cubicBezTo>
                      <a:pt x="9" y="4"/>
                      <a:pt x="8" y="4"/>
                      <a:pt x="8" y="2"/>
                    </a:cubicBezTo>
                    <a:cubicBezTo>
                      <a:pt x="8" y="1"/>
                      <a:pt x="9" y="0"/>
                      <a:pt x="10" y="0"/>
                    </a:cubicBezTo>
                    <a:close/>
                    <a:moveTo>
                      <a:pt x="18" y="0"/>
                    </a:moveTo>
                    <a:lnTo>
                      <a:pt x="18" y="0"/>
                    </a:lnTo>
                    <a:cubicBezTo>
                      <a:pt x="19" y="0"/>
                      <a:pt x="20" y="1"/>
                      <a:pt x="20" y="2"/>
                    </a:cubicBezTo>
                    <a:cubicBezTo>
                      <a:pt x="20" y="4"/>
                      <a:pt x="19" y="4"/>
                      <a:pt x="18" y="4"/>
                    </a:cubicBezTo>
                    <a:lnTo>
                      <a:pt x="18" y="4"/>
                    </a:lnTo>
                    <a:cubicBezTo>
                      <a:pt x="17" y="4"/>
                      <a:pt x="16" y="4"/>
                      <a:pt x="16" y="2"/>
                    </a:cubicBezTo>
                    <a:cubicBezTo>
                      <a:pt x="16" y="1"/>
                      <a:pt x="17" y="0"/>
                      <a:pt x="18" y="0"/>
                    </a:cubicBezTo>
                    <a:close/>
                    <a:moveTo>
                      <a:pt x="26" y="0"/>
                    </a:moveTo>
                    <a:lnTo>
                      <a:pt x="26" y="0"/>
                    </a:lnTo>
                    <a:cubicBezTo>
                      <a:pt x="27" y="0"/>
                      <a:pt x="28" y="1"/>
                      <a:pt x="28" y="2"/>
                    </a:cubicBezTo>
                    <a:cubicBezTo>
                      <a:pt x="28" y="4"/>
                      <a:pt x="27" y="4"/>
                      <a:pt x="26" y="4"/>
                    </a:cubicBezTo>
                    <a:lnTo>
                      <a:pt x="26" y="4"/>
                    </a:lnTo>
                    <a:cubicBezTo>
                      <a:pt x="25" y="4"/>
                      <a:pt x="24" y="4"/>
                      <a:pt x="24" y="2"/>
                    </a:cubicBezTo>
                    <a:cubicBezTo>
                      <a:pt x="24" y="1"/>
                      <a:pt x="25" y="0"/>
                      <a:pt x="26" y="0"/>
                    </a:cubicBezTo>
                    <a:close/>
                    <a:moveTo>
                      <a:pt x="34" y="0"/>
                    </a:moveTo>
                    <a:lnTo>
                      <a:pt x="34" y="0"/>
                    </a:lnTo>
                    <a:cubicBezTo>
                      <a:pt x="35" y="0"/>
                      <a:pt x="36" y="1"/>
                      <a:pt x="36" y="2"/>
                    </a:cubicBezTo>
                    <a:cubicBezTo>
                      <a:pt x="36" y="4"/>
                      <a:pt x="35" y="4"/>
                      <a:pt x="34" y="4"/>
                    </a:cubicBezTo>
                    <a:lnTo>
                      <a:pt x="34" y="4"/>
                    </a:lnTo>
                    <a:cubicBezTo>
                      <a:pt x="33" y="4"/>
                      <a:pt x="32" y="4"/>
                      <a:pt x="32" y="2"/>
                    </a:cubicBezTo>
                    <a:cubicBezTo>
                      <a:pt x="32" y="1"/>
                      <a:pt x="33" y="0"/>
                      <a:pt x="34" y="0"/>
                    </a:cubicBezTo>
                    <a:close/>
                    <a:moveTo>
                      <a:pt x="42" y="0"/>
                    </a:moveTo>
                    <a:lnTo>
                      <a:pt x="42" y="0"/>
                    </a:lnTo>
                    <a:cubicBezTo>
                      <a:pt x="43" y="0"/>
                      <a:pt x="44" y="1"/>
                      <a:pt x="44" y="2"/>
                    </a:cubicBezTo>
                    <a:cubicBezTo>
                      <a:pt x="44" y="4"/>
                      <a:pt x="43" y="4"/>
                      <a:pt x="42" y="4"/>
                    </a:cubicBezTo>
                    <a:lnTo>
                      <a:pt x="42" y="4"/>
                    </a:lnTo>
                    <a:cubicBezTo>
                      <a:pt x="41" y="4"/>
                      <a:pt x="40" y="4"/>
                      <a:pt x="40" y="2"/>
                    </a:cubicBezTo>
                    <a:cubicBezTo>
                      <a:pt x="40" y="1"/>
                      <a:pt x="41" y="0"/>
                      <a:pt x="42" y="0"/>
                    </a:cubicBezTo>
                    <a:close/>
                    <a:moveTo>
                      <a:pt x="50" y="0"/>
                    </a:moveTo>
                    <a:lnTo>
                      <a:pt x="50" y="0"/>
                    </a:lnTo>
                    <a:cubicBezTo>
                      <a:pt x="51" y="0"/>
                      <a:pt x="52" y="1"/>
                      <a:pt x="52" y="2"/>
                    </a:cubicBezTo>
                    <a:cubicBezTo>
                      <a:pt x="52" y="4"/>
                      <a:pt x="51" y="4"/>
                      <a:pt x="50" y="4"/>
                    </a:cubicBezTo>
                    <a:lnTo>
                      <a:pt x="50" y="4"/>
                    </a:lnTo>
                    <a:cubicBezTo>
                      <a:pt x="49" y="4"/>
                      <a:pt x="48" y="4"/>
                      <a:pt x="48" y="2"/>
                    </a:cubicBezTo>
                    <a:cubicBezTo>
                      <a:pt x="48" y="1"/>
                      <a:pt x="49" y="0"/>
                      <a:pt x="50" y="0"/>
                    </a:cubicBezTo>
                    <a:close/>
                    <a:moveTo>
                      <a:pt x="58" y="0"/>
                    </a:moveTo>
                    <a:lnTo>
                      <a:pt x="58" y="0"/>
                    </a:lnTo>
                    <a:cubicBezTo>
                      <a:pt x="59" y="0"/>
                      <a:pt x="60" y="1"/>
                      <a:pt x="60" y="2"/>
                    </a:cubicBezTo>
                    <a:cubicBezTo>
                      <a:pt x="60" y="4"/>
                      <a:pt x="59" y="4"/>
                      <a:pt x="58" y="4"/>
                    </a:cubicBezTo>
                    <a:lnTo>
                      <a:pt x="58" y="4"/>
                    </a:lnTo>
                    <a:cubicBezTo>
                      <a:pt x="57" y="4"/>
                      <a:pt x="56" y="4"/>
                      <a:pt x="56" y="2"/>
                    </a:cubicBezTo>
                    <a:cubicBezTo>
                      <a:pt x="56" y="1"/>
                      <a:pt x="57" y="0"/>
                      <a:pt x="58" y="0"/>
                    </a:cubicBezTo>
                    <a:close/>
                    <a:moveTo>
                      <a:pt x="66" y="0"/>
                    </a:moveTo>
                    <a:lnTo>
                      <a:pt x="66" y="0"/>
                    </a:lnTo>
                    <a:cubicBezTo>
                      <a:pt x="67" y="0"/>
                      <a:pt x="68" y="1"/>
                      <a:pt x="68" y="2"/>
                    </a:cubicBezTo>
                    <a:cubicBezTo>
                      <a:pt x="68" y="4"/>
                      <a:pt x="67" y="4"/>
                      <a:pt x="66" y="4"/>
                    </a:cubicBezTo>
                    <a:lnTo>
                      <a:pt x="66" y="4"/>
                    </a:lnTo>
                    <a:cubicBezTo>
                      <a:pt x="65" y="4"/>
                      <a:pt x="64" y="4"/>
                      <a:pt x="64" y="2"/>
                    </a:cubicBezTo>
                    <a:cubicBezTo>
                      <a:pt x="64" y="1"/>
                      <a:pt x="65" y="0"/>
                      <a:pt x="66" y="0"/>
                    </a:cubicBezTo>
                    <a:close/>
                    <a:moveTo>
                      <a:pt x="74" y="0"/>
                    </a:moveTo>
                    <a:lnTo>
                      <a:pt x="74" y="0"/>
                    </a:lnTo>
                    <a:cubicBezTo>
                      <a:pt x="75" y="0"/>
                      <a:pt x="76" y="1"/>
                      <a:pt x="76" y="2"/>
                    </a:cubicBezTo>
                    <a:cubicBezTo>
                      <a:pt x="76" y="4"/>
                      <a:pt x="75" y="4"/>
                      <a:pt x="74" y="4"/>
                    </a:cubicBezTo>
                    <a:lnTo>
                      <a:pt x="74" y="4"/>
                    </a:lnTo>
                    <a:cubicBezTo>
                      <a:pt x="73" y="4"/>
                      <a:pt x="72" y="4"/>
                      <a:pt x="72" y="2"/>
                    </a:cubicBezTo>
                    <a:cubicBezTo>
                      <a:pt x="72" y="1"/>
                      <a:pt x="73" y="0"/>
                      <a:pt x="74" y="0"/>
                    </a:cubicBezTo>
                    <a:close/>
                    <a:moveTo>
                      <a:pt x="82" y="0"/>
                    </a:moveTo>
                    <a:lnTo>
                      <a:pt x="82" y="0"/>
                    </a:lnTo>
                    <a:cubicBezTo>
                      <a:pt x="83" y="0"/>
                      <a:pt x="84" y="1"/>
                      <a:pt x="84" y="2"/>
                    </a:cubicBezTo>
                    <a:cubicBezTo>
                      <a:pt x="84" y="4"/>
                      <a:pt x="83" y="4"/>
                      <a:pt x="82" y="4"/>
                    </a:cubicBezTo>
                    <a:lnTo>
                      <a:pt x="82" y="4"/>
                    </a:lnTo>
                    <a:cubicBezTo>
                      <a:pt x="81" y="4"/>
                      <a:pt x="80" y="4"/>
                      <a:pt x="80" y="2"/>
                    </a:cubicBezTo>
                    <a:cubicBezTo>
                      <a:pt x="80" y="1"/>
                      <a:pt x="81" y="0"/>
                      <a:pt x="82" y="0"/>
                    </a:cubicBezTo>
                    <a:close/>
                    <a:moveTo>
                      <a:pt x="90" y="0"/>
                    </a:moveTo>
                    <a:lnTo>
                      <a:pt x="90" y="0"/>
                    </a:lnTo>
                    <a:cubicBezTo>
                      <a:pt x="91" y="0"/>
                      <a:pt x="92" y="1"/>
                      <a:pt x="92" y="2"/>
                    </a:cubicBezTo>
                    <a:cubicBezTo>
                      <a:pt x="92" y="4"/>
                      <a:pt x="91" y="4"/>
                      <a:pt x="90" y="4"/>
                    </a:cubicBezTo>
                    <a:lnTo>
                      <a:pt x="90" y="4"/>
                    </a:lnTo>
                    <a:cubicBezTo>
                      <a:pt x="89" y="4"/>
                      <a:pt x="88" y="4"/>
                      <a:pt x="88" y="2"/>
                    </a:cubicBezTo>
                    <a:cubicBezTo>
                      <a:pt x="88" y="1"/>
                      <a:pt x="89" y="0"/>
                      <a:pt x="90" y="0"/>
                    </a:cubicBezTo>
                    <a:close/>
                    <a:moveTo>
                      <a:pt x="98" y="0"/>
                    </a:moveTo>
                    <a:lnTo>
                      <a:pt x="98" y="0"/>
                    </a:lnTo>
                    <a:cubicBezTo>
                      <a:pt x="99" y="0"/>
                      <a:pt x="100" y="1"/>
                      <a:pt x="100" y="2"/>
                    </a:cubicBezTo>
                    <a:cubicBezTo>
                      <a:pt x="100" y="4"/>
                      <a:pt x="99" y="4"/>
                      <a:pt x="98" y="4"/>
                    </a:cubicBezTo>
                    <a:lnTo>
                      <a:pt x="98" y="4"/>
                    </a:lnTo>
                    <a:cubicBezTo>
                      <a:pt x="97" y="4"/>
                      <a:pt x="96" y="4"/>
                      <a:pt x="96" y="2"/>
                    </a:cubicBezTo>
                    <a:cubicBezTo>
                      <a:pt x="96" y="1"/>
                      <a:pt x="97" y="0"/>
                      <a:pt x="98" y="0"/>
                    </a:cubicBezTo>
                    <a:close/>
                    <a:moveTo>
                      <a:pt x="106" y="0"/>
                    </a:moveTo>
                    <a:lnTo>
                      <a:pt x="106" y="0"/>
                    </a:lnTo>
                    <a:cubicBezTo>
                      <a:pt x="107" y="0"/>
                      <a:pt x="108" y="1"/>
                      <a:pt x="108" y="2"/>
                    </a:cubicBezTo>
                    <a:cubicBezTo>
                      <a:pt x="108" y="4"/>
                      <a:pt x="107" y="4"/>
                      <a:pt x="106" y="4"/>
                    </a:cubicBezTo>
                    <a:lnTo>
                      <a:pt x="106" y="4"/>
                    </a:lnTo>
                    <a:cubicBezTo>
                      <a:pt x="105" y="4"/>
                      <a:pt x="104" y="4"/>
                      <a:pt x="104" y="2"/>
                    </a:cubicBezTo>
                    <a:cubicBezTo>
                      <a:pt x="104" y="1"/>
                      <a:pt x="105" y="0"/>
                      <a:pt x="106" y="0"/>
                    </a:cubicBezTo>
                    <a:close/>
                    <a:moveTo>
                      <a:pt x="114" y="0"/>
                    </a:moveTo>
                    <a:lnTo>
                      <a:pt x="114" y="0"/>
                    </a:lnTo>
                    <a:cubicBezTo>
                      <a:pt x="115" y="0"/>
                      <a:pt x="116" y="1"/>
                      <a:pt x="116" y="2"/>
                    </a:cubicBezTo>
                    <a:cubicBezTo>
                      <a:pt x="116" y="4"/>
                      <a:pt x="115" y="4"/>
                      <a:pt x="114" y="4"/>
                    </a:cubicBezTo>
                    <a:lnTo>
                      <a:pt x="114" y="4"/>
                    </a:lnTo>
                    <a:cubicBezTo>
                      <a:pt x="113" y="4"/>
                      <a:pt x="112" y="4"/>
                      <a:pt x="112" y="2"/>
                    </a:cubicBezTo>
                    <a:cubicBezTo>
                      <a:pt x="112" y="1"/>
                      <a:pt x="113" y="0"/>
                      <a:pt x="114" y="0"/>
                    </a:cubicBezTo>
                    <a:close/>
                    <a:moveTo>
                      <a:pt x="122" y="0"/>
                    </a:moveTo>
                    <a:lnTo>
                      <a:pt x="122" y="0"/>
                    </a:lnTo>
                    <a:cubicBezTo>
                      <a:pt x="123" y="0"/>
                      <a:pt x="124" y="1"/>
                      <a:pt x="124" y="2"/>
                    </a:cubicBezTo>
                    <a:cubicBezTo>
                      <a:pt x="124" y="4"/>
                      <a:pt x="123" y="4"/>
                      <a:pt x="122" y="4"/>
                    </a:cubicBezTo>
                    <a:lnTo>
                      <a:pt x="122" y="4"/>
                    </a:lnTo>
                    <a:cubicBezTo>
                      <a:pt x="121" y="4"/>
                      <a:pt x="120" y="4"/>
                      <a:pt x="120" y="2"/>
                    </a:cubicBezTo>
                    <a:cubicBezTo>
                      <a:pt x="120" y="1"/>
                      <a:pt x="121" y="0"/>
                      <a:pt x="122" y="0"/>
                    </a:cubicBezTo>
                    <a:close/>
                    <a:moveTo>
                      <a:pt x="130" y="0"/>
                    </a:moveTo>
                    <a:lnTo>
                      <a:pt x="130" y="0"/>
                    </a:lnTo>
                    <a:cubicBezTo>
                      <a:pt x="131" y="0"/>
                      <a:pt x="132" y="1"/>
                      <a:pt x="132" y="2"/>
                    </a:cubicBezTo>
                    <a:cubicBezTo>
                      <a:pt x="132" y="4"/>
                      <a:pt x="131" y="4"/>
                      <a:pt x="130" y="4"/>
                    </a:cubicBezTo>
                    <a:lnTo>
                      <a:pt x="130" y="4"/>
                    </a:lnTo>
                    <a:cubicBezTo>
                      <a:pt x="129" y="4"/>
                      <a:pt x="128" y="4"/>
                      <a:pt x="128" y="2"/>
                    </a:cubicBezTo>
                    <a:cubicBezTo>
                      <a:pt x="128" y="1"/>
                      <a:pt x="129" y="0"/>
                      <a:pt x="130" y="0"/>
                    </a:cubicBezTo>
                    <a:close/>
                    <a:moveTo>
                      <a:pt x="138" y="0"/>
                    </a:moveTo>
                    <a:lnTo>
                      <a:pt x="138" y="0"/>
                    </a:lnTo>
                    <a:cubicBezTo>
                      <a:pt x="139" y="0"/>
                      <a:pt x="140" y="1"/>
                      <a:pt x="140" y="2"/>
                    </a:cubicBezTo>
                    <a:cubicBezTo>
                      <a:pt x="140" y="4"/>
                      <a:pt x="139" y="4"/>
                      <a:pt x="138" y="4"/>
                    </a:cubicBezTo>
                    <a:lnTo>
                      <a:pt x="138" y="4"/>
                    </a:lnTo>
                    <a:cubicBezTo>
                      <a:pt x="137" y="4"/>
                      <a:pt x="136" y="4"/>
                      <a:pt x="136" y="2"/>
                    </a:cubicBezTo>
                    <a:cubicBezTo>
                      <a:pt x="136" y="1"/>
                      <a:pt x="137" y="0"/>
                      <a:pt x="138" y="0"/>
                    </a:cubicBezTo>
                    <a:close/>
                    <a:moveTo>
                      <a:pt x="146" y="0"/>
                    </a:moveTo>
                    <a:lnTo>
                      <a:pt x="146" y="0"/>
                    </a:lnTo>
                    <a:cubicBezTo>
                      <a:pt x="147" y="0"/>
                      <a:pt x="148" y="1"/>
                      <a:pt x="148" y="2"/>
                    </a:cubicBezTo>
                    <a:cubicBezTo>
                      <a:pt x="148" y="4"/>
                      <a:pt x="147" y="4"/>
                      <a:pt x="146" y="4"/>
                    </a:cubicBezTo>
                    <a:lnTo>
                      <a:pt x="146" y="4"/>
                    </a:lnTo>
                    <a:cubicBezTo>
                      <a:pt x="145" y="4"/>
                      <a:pt x="144" y="4"/>
                      <a:pt x="144" y="2"/>
                    </a:cubicBezTo>
                    <a:cubicBezTo>
                      <a:pt x="144" y="1"/>
                      <a:pt x="145" y="0"/>
                      <a:pt x="146" y="0"/>
                    </a:cubicBezTo>
                    <a:close/>
                    <a:moveTo>
                      <a:pt x="154" y="0"/>
                    </a:moveTo>
                    <a:lnTo>
                      <a:pt x="154" y="0"/>
                    </a:lnTo>
                    <a:cubicBezTo>
                      <a:pt x="155" y="0"/>
                      <a:pt x="156" y="1"/>
                      <a:pt x="156" y="2"/>
                    </a:cubicBezTo>
                    <a:cubicBezTo>
                      <a:pt x="156" y="4"/>
                      <a:pt x="155" y="4"/>
                      <a:pt x="154" y="4"/>
                    </a:cubicBezTo>
                    <a:lnTo>
                      <a:pt x="154" y="4"/>
                    </a:lnTo>
                    <a:cubicBezTo>
                      <a:pt x="153" y="4"/>
                      <a:pt x="152" y="4"/>
                      <a:pt x="152" y="2"/>
                    </a:cubicBezTo>
                    <a:cubicBezTo>
                      <a:pt x="152" y="1"/>
                      <a:pt x="153" y="0"/>
                      <a:pt x="154" y="0"/>
                    </a:cubicBezTo>
                    <a:close/>
                    <a:moveTo>
                      <a:pt x="162" y="0"/>
                    </a:moveTo>
                    <a:lnTo>
                      <a:pt x="162" y="0"/>
                    </a:lnTo>
                    <a:cubicBezTo>
                      <a:pt x="163" y="0"/>
                      <a:pt x="164" y="1"/>
                      <a:pt x="164" y="2"/>
                    </a:cubicBezTo>
                    <a:cubicBezTo>
                      <a:pt x="164" y="4"/>
                      <a:pt x="163" y="4"/>
                      <a:pt x="162" y="4"/>
                    </a:cubicBezTo>
                    <a:lnTo>
                      <a:pt x="162" y="4"/>
                    </a:lnTo>
                    <a:cubicBezTo>
                      <a:pt x="161" y="4"/>
                      <a:pt x="160" y="4"/>
                      <a:pt x="160" y="2"/>
                    </a:cubicBezTo>
                    <a:cubicBezTo>
                      <a:pt x="160" y="1"/>
                      <a:pt x="161" y="0"/>
                      <a:pt x="162" y="0"/>
                    </a:cubicBezTo>
                    <a:close/>
                    <a:moveTo>
                      <a:pt x="170" y="0"/>
                    </a:moveTo>
                    <a:lnTo>
                      <a:pt x="170" y="0"/>
                    </a:lnTo>
                    <a:cubicBezTo>
                      <a:pt x="171" y="0"/>
                      <a:pt x="172" y="1"/>
                      <a:pt x="172" y="2"/>
                    </a:cubicBezTo>
                    <a:cubicBezTo>
                      <a:pt x="172" y="4"/>
                      <a:pt x="171" y="4"/>
                      <a:pt x="170" y="4"/>
                    </a:cubicBezTo>
                    <a:lnTo>
                      <a:pt x="170" y="4"/>
                    </a:lnTo>
                    <a:cubicBezTo>
                      <a:pt x="169" y="4"/>
                      <a:pt x="168" y="4"/>
                      <a:pt x="168" y="2"/>
                    </a:cubicBezTo>
                    <a:cubicBezTo>
                      <a:pt x="168" y="1"/>
                      <a:pt x="169" y="0"/>
                      <a:pt x="170" y="0"/>
                    </a:cubicBezTo>
                    <a:close/>
                    <a:moveTo>
                      <a:pt x="178" y="0"/>
                    </a:moveTo>
                    <a:lnTo>
                      <a:pt x="178" y="0"/>
                    </a:lnTo>
                    <a:cubicBezTo>
                      <a:pt x="179" y="0"/>
                      <a:pt x="180" y="1"/>
                      <a:pt x="180" y="2"/>
                    </a:cubicBezTo>
                    <a:cubicBezTo>
                      <a:pt x="180" y="4"/>
                      <a:pt x="179" y="4"/>
                      <a:pt x="178" y="4"/>
                    </a:cubicBezTo>
                    <a:lnTo>
                      <a:pt x="178" y="4"/>
                    </a:lnTo>
                    <a:cubicBezTo>
                      <a:pt x="177" y="4"/>
                      <a:pt x="176" y="4"/>
                      <a:pt x="176" y="2"/>
                    </a:cubicBezTo>
                    <a:cubicBezTo>
                      <a:pt x="176" y="1"/>
                      <a:pt x="177" y="0"/>
                      <a:pt x="178" y="0"/>
                    </a:cubicBezTo>
                    <a:close/>
                    <a:moveTo>
                      <a:pt x="186" y="0"/>
                    </a:moveTo>
                    <a:lnTo>
                      <a:pt x="186" y="0"/>
                    </a:lnTo>
                    <a:cubicBezTo>
                      <a:pt x="187" y="0"/>
                      <a:pt x="188" y="1"/>
                      <a:pt x="188" y="2"/>
                    </a:cubicBezTo>
                    <a:cubicBezTo>
                      <a:pt x="188" y="4"/>
                      <a:pt x="187" y="4"/>
                      <a:pt x="186" y="4"/>
                    </a:cubicBezTo>
                    <a:lnTo>
                      <a:pt x="186" y="4"/>
                    </a:lnTo>
                    <a:cubicBezTo>
                      <a:pt x="185" y="4"/>
                      <a:pt x="184" y="4"/>
                      <a:pt x="184" y="2"/>
                    </a:cubicBezTo>
                    <a:cubicBezTo>
                      <a:pt x="184" y="1"/>
                      <a:pt x="185" y="0"/>
                      <a:pt x="186" y="0"/>
                    </a:cubicBezTo>
                    <a:close/>
                    <a:moveTo>
                      <a:pt x="194" y="0"/>
                    </a:moveTo>
                    <a:lnTo>
                      <a:pt x="194" y="0"/>
                    </a:lnTo>
                    <a:cubicBezTo>
                      <a:pt x="195" y="0"/>
                      <a:pt x="196" y="1"/>
                      <a:pt x="196" y="2"/>
                    </a:cubicBezTo>
                    <a:cubicBezTo>
                      <a:pt x="196" y="4"/>
                      <a:pt x="195" y="4"/>
                      <a:pt x="194" y="4"/>
                    </a:cubicBezTo>
                    <a:lnTo>
                      <a:pt x="194" y="4"/>
                    </a:lnTo>
                    <a:cubicBezTo>
                      <a:pt x="193" y="4"/>
                      <a:pt x="192" y="4"/>
                      <a:pt x="192" y="2"/>
                    </a:cubicBezTo>
                    <a:cubicBezTo>
                      <a:pt x="192" y="1"/>
                      <a:pt x="193" y="0"/>
                      <a:pt x="194" y="0"/>
                    </a:cubicBezTo>
                    <a:close/>
                    <a:moveTo>
                      <a:pt x="202" y="0"/>
                    </a:moveTo>
                    <a:lnTo>
                      <a:pt x="202" y="0"/>
                    </a:lnTo>
                    <a:cubicBezTo>
                      <a:pt x="203" y="0"/>
                      <a:pt x="204" y="1"/>
                      <a:pt x="204" y="2"/>
                    </a:cubicBezTo>
                    <a:cubicBezTo>
                      <a:pt x="204" y="4"/>
                      <a:pt x="203" y="4"/>
                      <a:pt x="202" y="4"/>
                    </a:cubicBezTo>
                    <a:lnTo>
                      <a:pt x="202" y="4"/>
                    </a:lnTo>
                    <a:cubicBezTo>
                      <a:pt x="201" y="4"/>
                      <a:pt x="200" y="4"/>
                      <a:pt x="200" y="2"/>
                    </a:cubicBezTo>
                    <a:cubicBezTo>
                      <a:pt x="200" y="1"/>
                      <a:pt x="201" y="0"/>
                      <a:pt x="202" y="0"/>
                    </a:cubicBezTo>
                    <a:close/>
                    <a:moveTo>
                      <a:pt x="210" y="0"/>
                    </a:moveTo>
                    <a:lnTo>
                      <a:pt x="210" y="0"/>
                    </a:lnTo>
                    <a:cubicBezTo>
                      <a:pt x="211" y="0"/>
                      <a:pt x="212" y="1"/>
                      <a:pt x="212" y="2"/>
                    </a:cubicBezTo>
                    <a:cubicBezTo>
                      <a:pt x="212" y="4"/>
                      <a:pt x="211" y="4"/>
                      <a:pt x="210" y="4"/>
                    </a:cubicBezTo>
                    <a:lnTo>
                      <a:pt x="210" y="4"/>
                    </a:lnTo>
                    <a:cubicBezTo>
                      <a:pt x="209" y="4"/>
                      <a:pt x="208" y="4"/>
                      <a:pt x="208" y="2"/>
                    </a:cubicBezTo>
                    <a:cubicBezTo>
                      <a:pt x="208" y="1"/>
                      <a:pt x="209" y="0"/>
                      <a:pt x="210" y="0"/>
                    </a:cubicBezTo>
                    <a:close/>
                    <a:moveTo>
                      <a:pt x="218" y="0"/>
                    </a:moveTo>
                    <a:lnTo>
                      <a:pt x="218" y="0"/>
                    </a:lnTo>
                    <a:cubicBezTo>
                      <a:pt x="219" y="0"/>
                      <a:pt x="220" y="1"/>
                      <a:pt x="220" y="2"/>
                    </a:cubicBezTo>
                    <a:cubicBezTo>
                      <a:pt x="220" y="4"/>
                      <a:pt x="219" y="4"/>
                      <a:pt x="218" y="4"/>
                    </a:cubicBezTo>
                    <a:lnTo>
                      <a:pt x="218" y="4"/>
                    </a:lnTo>
                    <a:cubicBezTo>
                      <a:pt x="217" y="4"/>
                      <a:pt x="216" y="4"/>
                      <a:pt x="216" y="2"/>
                    </a:cubicBezTo>
                    <a:cubicBezTo>
                      <a:pt x="216" y="1"/>
                      <a:pt x="217" y="0"/>
                      <a:pt x="218" y="0"/>
                    </a:cubicBezTo>
                    <a:close/>
                    <a:moveTo>
                      <a:pt x="226" y="0"/>
                    </a:moveTo>
                    <a:lnTo>
                      <a:pt x="226" y="0"/>
                    </a:lnTo>
                    <a:cubicBezTo>
                      <a:pt x="227" y="0"/>
                      <a:pt x="228" y="1"/>
                      <a:pt x="228" y="2"/>
                    </a:cubicBezTo>
                    <a:cubicBezTo>
                      <a:pt x="228" y="4"/>
                      <a:pt x="227" y="4"/>
                      <a:pt x="226" y="4"/>
                    </a:cubicBezTo>
                    <a:lnTo>
                      <a:pt x="226" y="4"/>
                    </a:lnTo>
                    <a:cubicBezTo>
                      <a:pt x="225" y="4"/>
                      <a:pt x="224" y="4"/>
                      <a:pt x="224" y="2"/>
                    </a:cubicBezTo>
                    <a:cubicBezTo>
                      <a:pt x="224" y="1"/>
                      <a:pt x="225" y="0"/>
                      <a:pt x="226" y="0"/>
                    </a:cubicBezTo>
                    <a:close/>
                    <a:moveTo>
                      <a:pt x="234" y="0"/>
                    </a:moveTo>
                    <a:lnTo>
                      <a:pt x="234" y="0"/>
                    </a:lnTo>
                    <a:cubicBezTo>
                      <a:pt x="235" y="0"/>
                      <a:pt x="236" y="1"/>
                      <a:pt x="236" y="2"/>
                    </a:cubicBezTo>
                    <a:cubicBezTo>
                      <a:pt x="236" y="4"/>
                      <a:pt x="235" y="4"/>
                      <a:pt x="234" y="4"/>
                    </a:cubicBezTo>
                    <a:lnTo>
                      <a:pt x="234" y="4"/>
                    </a:lnTo>
                    <a:cubicBezTo>
                      <a:pt x="233" y="4"/>
                      <a:pt x="232" y="4"/>
                      <a:pt x="232" y="2"/>
                    </a:cubicBezTo>
                    <a:cubicBezTo>
                      <a:pt x="232" y="1"/>
                      <a:pt x="233" y="0"/>
                      <a:pt x="234" y="0"/>
                    </a:cubicBezTo>
                    <a:close/>
                    <a:moveTo>
                      <a:pt x="242" y="0"/>
                    </a:moveTo>
                    <a:lnTo>
                      <a:pt x="242" y="0"/>
                    </a:lnTo>
                    <a:cubicBezTo>
                      <a:pt x="243" y="0"/>
                      <a:pt x="244" y="1"/>
                      <a:pt x="244" y="2"/>
                    </a:cubicBezTo>
                    <a:cubicBezTo>
                      <a:pt x="244" y="4"/>
                      <a:pt x="243" y="4"/>
                      <a:pt x="242" y="4"/>
                    </a:cubicBezTo>
                    <a:lnTo>
                      <a:pt x="242" y="4"/>
                    </a:lnTo>
                    <a:cubicBezTo>
                      <a:pt x="241" y="4"/>
                      <a:pt x="240" y="4"/>
                      <a:pt x="240" y="2"/>
                    </a:cubicBezTo>
                    <a:cubicBezTo>
                      <a:pt x="240" y="1"/>
                      <a:pt x="241" y="0"/>
                      <a:pt x="242" y="0"/>
                    </a:cubicBezTo>
                    <a:close/>
                    <a:moveTo>
                      <a:pt x="250" y="0"/>
                    </a:moveTo>
                    <a:lnTo>
                      <a:pt x="250" y="0"/>
                    </a:lnTo>
                    <a:cubicBezTo>
                      <a:pt x="251" y="0"/>
                      <a:pt x="252" y="1"/>
                      <a:pt x="252" y="2"/>
                    </a:cubicBezTo>
                    <a:cubicBezTo>
                      <a:pt x="252" y="4"/>
                      <a:pt x="251" y="4"/>
                      <a:pt x="250" y="4"/>
                    </a:cubicBezTo>
                    <a:lnTo>
                      <a:pt x="250" y="4"/>
                    </a:lnTo>
                    <a:cubicBezTo>
                      <a:pt x="249" y="4"/>
                      <a:pt x="248" y="4"/>
                      <a:pt x="248" y="2"/>
                    </a:cubicBezTo>
                    <a:cubicBezTo>
                      <a:pt x="248" y="1"/>
                      <a:pt x="249" y="0"/>
                      <a:pt x="250" y="0"/>
                    </a:cubicBezTo>
                    <a:close/>
                    <a:moveTo>
                      <a:pt x="258" y="0"/>
                    </a:moveTo>
                    <a:lnTo>
                      <a:pt x="258" y="0"/>
                    </a:lnTo>
                    <a:cubicBezTo>
                      <a:pt x="259" y="0"/>
                      <a:pt x="260" y="1"/>
                      <a:pt x="260" y="3"/>
                    </a:cubicBezTo>
                    <a:cubicBezTo>
                      <a:pt x="260" y="4"/>
                      <a:pt x="259" y="5"/>
                      <a:pt x="258" y="5"/>
                    </a:cubicBezTo>
                    <a:lnTo>
                      <a:pt x="258" y="5"/>
                    </a:lnTo>
                    <a:cubicBezTo>
                      <a:pt x="257" y="5"/>
                      <a:pt x="256" y="4"/>
                      <a:pt x="256" y="3"/>
                    </a:cubicBezTo>
                    <a:cubicBezTo>
                      <a:pt x="256" y="1"/>
                      <a:pt x="257" y="0"/>
                      <a:pt x="258" y="0"/>
                    </a:cubicBezTo>
                    <a:close/>
                    <a:moveTo>
                      <a:pt x="266" y="1"/>
                    </a:moveTo>
                    <a:lnTo>
                      <a:pt x="266" y="1"/>
                    </a:lnTo>
                    <a:cubicBezTo>
                      <a:pt x="267" y="1"/>
                      <a:pt x="268" y="1"/>
                      <a:pt x="268" y="3"/>
                    </a:cubicBezTo>
                    <a:cubicBezTo>
                      <a:pt x="268" y="4"/>
                      <a:pt x="267" y="5"/>
                      <a:pt x="266" y="5"/>
                    </a:cubicBezTo>
                    <a:lnTo>
                      <a:pt x="266" y="5"/>
                    </a:lnTo>
                    <a:cubicBezTo>
                      <a:pt x="265" y="5"/>
                      <a:pt x="264" y="4"/>
                      <a:pt x="264" y="3"/>
                    </a:cubicBezTo>
                    <a:cubicBezTo>
                      <a:pt x="264" y="1"/>
                      <a:pt x="265" y="1"/>
                      <a:pt x="266" y="1"/>
                    </a:cubicBezTo>
                    <a:close/>
                    <a:moveTo>
                      <a:pt x="274" y="1"/>
                    </a:moveTo>
                    <a:lnTo>
                      <a:pt x="274" y="1"/>
                    </a:lnTo>
                    <a:cubicBezTo>
                      <a:pt x="275" y="1"/>
                      <a:pt x="276" y="1"/>
                      <a:pt x="276" y="3"/>
                    </a:cubicBezTo>
                    <a:cubicBezTo>
                      <a:pt x="276" y="4"/>
                      <a:pt x="275" y="5"/>
                      <a:pt x="274" y="5"/>
                    </a:cubicBezTo>
                    <a:lnTo>
                      <a:pt x="274" y="5"/>
                    </a:lnTo>
                    <a:cubicBezTo>
                      <a:pt x="273" y="5"/>
                      <a:pt x="272" y="4"/>
                      <a:pt x="272" y="3"/>
                    </a:cubicBezTo>
                    <a:cubicBezTo>
                      <a:pt x="272" y="1"/>
                      <a:pt x="273" y="1"/>
                      <a:pt x="274" y="1"/>
                    </a:cubicBezTo>
                    <a:close/>
                    <a:moveTo>
                      <a:pt x="282" y="1"/>
                    </a:moveTo>
                    <a:lnTo>
                      <a:pt x="282" y="1"/>
                    </a:lnTo>
                    <a:cubicBezTo>
                      <a:pt x="283" y="1"/>
                      <a:pt x="284" y="1"/>
                      <a:pt x="284" y="3"/>
                    </a:cubicBezTo>
                    <a:cubicBezTo>
                      <a:pt x="284" y="4"/>
                      <a:pt x="283" y="5"/>
                      <a:pt x="282" y="5"/>
                    </a:cubicBezTo>
                    <a:lnTo>
                      <a:pt x="282" y="5"/>
                    </a:lnTo>
                    <a:cubicBezTo>
                      <a:pt x="281" y="5"/>
                      <a:pt x="280" y="4"/>
                      <a:pt x="280" y="3"/>
                    </a:cubicBezTo>
                    <a:cubicBezTo>
                      <a:pt x="280" y="1"/>
                      <a:pt x="281" y="1"/>
                      <a:pt x="282" y="1"/>
                    </a:cubicBezTo>
                    <a:close/>
                    <a:moveTo>
                      <a:pt x="290" y="1"/>
                    </a:moveTo>
                    <a:lnTo>
                      <a:pt x="290" y="1"/>
                    </a:lnTo>
                    <a:cubicBezTo>
                      <a:pt x="291" y="1"/>
                      <a:pt x="292" y="1"/>
                      <a:pt x="292" y="3"/>
                    </a:cubicBezTo>
                    <a:cubicBezTo>
                      <a:pt x="292" y="4"/>
                      <a:pt x="291" y="5"/>
                      <a:pt x="290" y="5"/>
                    </a:cubicBezTo>
                    <a:lnTo>
                      <a:pt x="290" y="5"/>
                    </a:lnTo>
                    <a:cubicBezTo>
                      <a:pt x="289" y="5"/>
                      <a:pt x="288" y="4"/>
                      <a:pt x="288" y="3"/>
                    </a:cubicBezTo>
                    <a:cubicBezTo>
                      <a:pt x="288" y="1"/>
                      <a:pt x="289" y="1"/>
                      <a:pt x="290" y="1"/>
                    </a:cubicBezTo>
                    <a:close/>
                    <a:moveTo>
                      <a:pt x="298" y="1"/>
                    </a:moveTo>
                    <a:lnTo>
                      <a:pt x="298" y="1"/>
                    </a:lnTo>
                    <a:cubicBezTo>
                      <a:pt x="299" y="1"/>
                      <a:pt x="300" y="1"/>
                      <a:pt x="300" y="3"/>
                    </a:cubicBezTo>
                    <a:cubicBezTo>
                      <a:pt x="300" y="4"/>
                      <a:pt x="299" y="5"/>
                      <a:pt x="298" y="5"/>
                    </a:cubicBezTo>
                    <a:lnTo>
                      <a:pt x="298" y="5"/>
                    </a:lnTo>
                    <a:cubicBezTo>
                      <a:pt x="297" y="5"/>
                      <a:pt x="296" y="4"/>
                      <a:pt x="296" y="3"/>
                    </a:cubicBezTo>
                    <a:cubicBezTo>
                      <a:pt x="296" y="1"/>
                      <a:pt x="297" y="1"/>
                      <a:pt x="298" y="1"/>
                    </a:cubicBezTo>
                    <a:close/>
                    <a:moveTo>
                      <a:pt x="306" y="1"/>
                    </a:moveTo>
                    <a:lnTo>
                      <a:pt x="306" y="1"/>
                    </a:lnTo>
                    <a:cubicBezTo>
                      <a:pt x="307" y="1"/>
                      <a:pt x="308" y="1"/>
                      <a:pt x="308" y="3"/>
                    </a:cubicBezTo>
                    <a:cubicBezTo>
                      <a:pt x="308" y="4"/>
                      <a:pt x="307" y="5"/>
                      <a:pt x="306" y="5"/>
                    </a:cubicBezTo>
                    <a:lnTo>
                      <a:pt x="306" y="5"/>
                    </a:lnTo>
                    <a:cubicBezTo>
                      <a:pt x="305" y="5"/>
                      <a:pt x="304" y="4"/>
                      <a:pt x="304" y="3"/>
                    </a:cubicBezTo>
                    <a:cubicBezTo>
                      <a:pt x="304" y="1"/>
                      <a:pt x="305" y="1"/>
                      <a:pt x="306" y="1"/>
                    </a:cubicBezTo>
                    <a:close/>
                    <a:moveTo>
                      <a:pt x="314" y="1"/>
                    </a:moveTo>
                    <a:lnTo>
                      <a:pt x="314" y="1"/>
                    </a:lnTo>
                    <a:cubicBezTo>
                      <a:pt x="315" y="1"/>
                      <a:pt x="316" y="1"/>
                      <a:pt x="316" y="3"/>
                    </a:cubicBezTo>
                    <a:cubicBezTo>
                      <a:pt x="316" y="4"/>
                      <a:pt x="315" y="5"/>
                      <a:pt x="314" y="5"/>
                    </a:cubicBezTo>
                    <a:lnTo>
                      <a:pt x="314" y="5"/>
                    </a:lnTo>
                    <a:cubicBezTo>
                      <a:pt x="313" y="5"/>
                      <a:pt x="312" y="4"/>
                      <a:pt x="312" y="3"/>
                    </a:cubicBezTo>
                    <a:cubicBezTo>
                      <a:pt x="312" y="1"/>
                      <a:pt x="313" y="1"/>
                      <a:pt x="314" y="1"/>
                    </a:cubicBezTo>
                    <a:close/>
                    <a:moveTo>
                      <a:pt x="322" y="1"/>
                    </a:moveTo>
                    <a:lnTo>
                      <a:pt x="322" y="1"/>
                    </a:lnTo>
                    <a:cubicBezTo>
                      <a:pt x="323" y="1"/>
                      <a:pt x="324" y="1"/>
                      <a:pt x="324" y="3"/>
                    </a:cubicBezTo>
                    <a:cubicBezTo>
                      <a:pt x="324" y="4"/>
                      <a:pt x="323" y="5"/>
                      <a:pt x="322" y="5"/>
                    </a:cubicBezTo>
                    <a:lnTo>
                      <a:pt x="322" y="5"/>
                    </a:lnTo>
                    <a:cubicBezTo>
                      <a:pt x="321" y="5"/>
                      <a:pt x="320" y="4"/>
                      <a:pt x="320" y="3"/>
                    </a:cubicBezTo>
                    <a:cubicBezTo>
                      <a:pt x="320" y="1"/>
                      <a:pt x="321" y="1"/>
                      <a:pt x="322" y="1"/>
                    </a:cubicBezTo>
                    <a:close/>
                    <a:moveTo>
                      <a:pt x="330" y="1"/>
                    </a:moveTo>
                    <a:lnTo>
                      <a:pt x="330" y="1"/>
                    </a:lnTo>
                    <a:cubicBezTo>
                      <a:pt x="331" y="1"/>
                      <a:pt x="332" y="1"/>
                      <a:pt x="332" y="3"/>
                    </a:cubicBezTo>
                    <a:cubicBezTo>
                      <a:pt x="332" y="4"/>
                      <a:pt x="331" y="5"/>
                      <a:pt x="330" y="5"/>
                    </a:cubicBezTo>
                    <a:lnTo>
                      <a:pt x="330" y="5"/>
                    </a:lnTo>
                    <a:cubicBezTo>
                      <a:pt x="329" y="5"/>
                      <a:pt x="328" y="4"/>
                      <a:pt x="328" y="3"/>
                    </a:cubicBezTo>
                    <a:cubicBezTo>
                      <a:pt x="328" y="1"/>
                      <a:pt x="329" y="1"/>
                      <a:pt x="330" y="1"/>
                    </a:cubicBezTo>
                    <a:close/>
                    <a:moveTo>
                      <a:pt x="338" y="1"/>
                    </a:moveTo>
                    <a:lnTo>
                      <a:pt x="338" y="1"/>
                    </a:lnTo>
                    <a:cubicBezTo>
                      <a:pt x="339" y="1"/>
                      <a:pt x="340" y="1"/>
                      <a:pt x="340" y="3"/>
                    </a:cubicBezTo>
                    <a:cubicBezTo>
                      <a:pt x="340" y="4"/>
                      <a:pt x="339" y="5"/>
                      <a:pt x="338" y="5"/>
                    </a:cubicBezTo>
                    <a:lnTo>
                      <a:pt x="338" y="5"/>
                    </a:lnTo>
                    <a:cubicBezTo>
                      <a:pt x="337" y="5"/>
                      <a:pt x="336" y="4"/>
                      <a:pt x="336" y="3"/>
                    </a:cubicBezTo>
                    <a:cubicBezTo>
                      <a:pt x="336" y="1"/>
                      <a:pt x="337" y="1"/>
                      <a:pt x="338" y="1"/>
                    </a:cubicBezTo>
                    <a:close/>
                    <a:moveTo>
                      <a:pt x="346" y="1"/>
                    </a:moveTo>
                    <a:lnTo>
                      <a:pt x="346" y="1"/>
                    </a:lnTo>
                    <a:cubicBezTo>
                      <a:pt x="347" y="1"/>
                      <a:pt x="348" y="1"/>
                      <a:pt x="348" y="3"/>
                    </a:cubicBezTo>
                    <a:cubicBezTo>
                      <a:pt x="348" y="4"/>
                      <a:pt x="347" y="5"/>
                      <a:pt x="346" y="5"/>
                    </a:cubicBezTo>
                    <a:lnTo>
                      <a:pt x="346" y="5"/>
                    </a:lnTo>
                    <a:cubicBezTo>
                      <a:pt x="345" y="5"/>
                      <a:pt x="344" y="4"/>
                      <a:pt x="344" y="3"/>
                    </a:cubicBezTo>
                    <a:cubicBezTo>
                      <a:pt x="344" y="1"/>
                      <a:pt x="345" y="1"/>
                      <a:pt x="346" y="1"/>
                    </a:cubicBezTo>
                    <a:close/>
                    <a:moveTo>
                      <a:pt x="354" y="1"/>
                    </a:moveTo>
                    <a:lnTo>
                      <a:pt x="354" y="1"/>
                    </a:lnTo>
                    <a:cubicBezTo>
                      <a:pt x="355" y="1"/>
                      <a:pt x="356" y="1"/>
                      <a:pt x="356" y="3"/>
                    </a:cubicBezTo>
                    <a:cubicBezTo>
                      <a:pt x="356" y="4"/>
                      <a:pt x="355" y="5"/>
                      <a:pt x="354" y="5"/>
                    </a:cubicBezTo>
                    <a:lnTo>
                      <a:pt x="354" y="5"/>
                    </a:lnTo>
                    <a:cubicBezTo>
                      <a:pt x="353" y="5"/>
                      <a:pt x="352" y="4"/>
                      <a:pt x="352" y="3"/>
                    </a:cubicBezTo>
                    <a:cubicBezTo>
                      <a:pt x="352" y="1"/>
                      <a:pt x="353" y="1"/>
                      <a:pt x="354" y="1"/>
                    </a:cubicBezTo>
                    <a:close/>
                    <a:moveTo>
                      <a:pt x="362" y="1"/>
                    </a:moveTo>
                    <a:lnTo>
                      <a:pt x="362" y="1"/>
                    </a:lnTo>
                    <a:cubicBezTo>
                      <a:pt x="363" y="1"/>
                      <a:pt x="364" y="1"/>
                      <a:pt x="364" y="3"/>
                    </a:cubicBezTo>
                    <a:cubicBezTo>
                      <a:pt x="364" y="4"/>
                      <a:pt x="363" y="5"/>
                      <a:pt x="362" y="5"/>
                    </a:cubicBezTo>
                    <a:lnTo>
                      <a:pt x="362" y="5"/>
                    </a:lnTo>
                    <a:cubicBezTo>
                      <a:pt x="361" y="5"/>
                      <a:pt x="360" y="4"/>
                      <a:pt x="360" y="3"/>
                    </a:cubicBezTo>
                    <a:cubicBezTo>
                      <a:pt x="360" y="1"/>
                      <a:pt x="361" y="1"/>
                      <a:pt x="362" y="1"/>
                    </a:cubicBezTo>
                    <a:close/>
                    <a:moveTo>
                      <a:pt x="370" y="1"/>
                    </a:moveTo>
                    <a:lnTo>
                      <a:pt x="370" y="1"/>
                    </a:lnTo>
                    <a:cubicBezTo>
                      <a:pt x="371" y="1"/>
                      <a:pt x="372" y="1"/>
                      <a:pt x="372" y="3"/>
                    </a:cubicBezTo>
                    <a:cubicBezTo>
                      <a:pt x="372" y="4"/>
                      <a:pt x="371" y="5"/>
                      <a:pt x="370" y="5"/>
                    </a:cubicBezTo>
                    <a:lnTo>
                      <a:pt x="370" y="5"/>
                    </a:lnTo>
                    <a:cubicBezTo>
                      <a:pt x="369" y="5"/>
                      <a:pt x="368" y="4"/>
                      <a:pt x="368" y="3"/>
                    </a:cubicBezTo>
                    <a:cubicBezTo>
                      <a:pt x="368" y="1"/>
                      <a:pt x="369" y="1"/>
                      <a:pt x="370" y="1"/>
                    </a:cubicBezTo>
                    <a:close/>
                    <a:moveTo>
                      <a:pt x="378" y="1"/>
                    </a:moveTo>
                    <a:lnTo>
                      <a:pt x="378" y="1"/>
                    </a:lnTo>
                    <a:cubicBezTo>
                      <a:pt x="379" y="1"/>
                      <a:pt x="380" y="1"/>
                      <a:pt x="380" y="3"/>
                    </a:cubicBezTo>
                    <a:cubicBezTo>
                      <a:pt x="380" y="4"/>
                      <a:pt x="379" y="5"/>
                      <a:pt x="378" y="5"/>
                    </a:cubicBezTo>
                    <a:lnTo>
                      <a:pt x="378" y="5"/>
                    </a:lnTo>
                    <a:cubicBezTo>
                      <a:pt x="377" y="5"/>
                      <a:pt x="376" y="4"/>
                      <a:pt x="376" y="3"/>
                    </a:cubicBezTo>
                    <a:cubicBezTo>
                      <a:pt x="376" y="1"/>
                      <a:pt x="377" y="1"/>
                      <a:pt x="378" y="1"/>
                    </a:cubicBezTo>
                    <a:close/>
                    <a:moveTo>
                      <a:pt x="386" y="1"/>
                    </a:moveTo>
                    <a:lnTo>
                      <a:pt x="386" y="1"/>
                    </a:lnTo>
                    <a:cubicBezTo>
                      <a:pt x="387" y="1"/>
                      <a:pt x="388" y="1"/>
                      <a:pt x="388" y="3"/>
                    </a:cubicBezTo>
                    <a:cubicBezTo>
                      <a:pt x="388" y="4"/>
                      <a:pt x="387" y="5"/>
                      <a:pt x="386" y="5"/>
                    </a:cubicBezTo>
                    <a:lnTo>
                      <a:pt x="386" y="5"/>
                    </a:lnTo>
                    <a:cubicBezTo>
                      <a:pt x="385" y="5"/>
                      <a:pt x="384" y="4"/>
                      <a:pt x="384" y="3"/>
                    </a:cubicBezTo>
                    <a:cubicBezTo>
                      <a:pt x="384" y="1"/>
                      <a:pt x="385" y="1"/>
                      <a:pt x="386" y="1"/>
                    </a:cubicBezTo>
                    <a:close/>
                    <a:moveTo>
                      <a:pt x="394" y="1"/>
                    </a:moveTo>
                    <a:lnTo>
                      <a:pt x="394" y="1"/>
                    </a:lnTo>
                    <a:cubicBezTo>
                      <a:pt x="395" y="1"/>
                      <a:pt x="396" y="1"/>
                      <a:pt x="396" y="3"/>
                    </a:cubicBezTo>
                    <a:cubicBezTo>
                      <a:pt x="396" y="4"/>
                      <a:pt x="395" y="5"/>
                      <a:pt x="394" y="5"/>
                    </a:cubicBezTo>
                    <a:lnTo>
                      <a:pt x="394" y="5"/>
                    </a:lnTo>
                    <a:cubicBezTo>
                      <a:pt x="393" y="5"/>
                      <a:pt x="392" y="4"/>
                      <a:pt x="392" y="3"/>
                    </a:cubicBezTo>
                    <a:cubicBezTo>
                      <a:pt x="392" y="1"/>
                      <a:pt x="393" y="1"/>
                      <a:pt x="394" y="1"/>
                    </a:cubicBezTo>
                    <a:close/>
                    <a:moveTo>
                      <a:pt x="402" y="1"/>
                    </a:moveTo>
                    <a:lnTo>
                      <a:pt x="402" y="1"/>
                    </a:lnTo>
                    <a:cubicBezTo>
                      <a:pt x="403" y="1"/>
                      <a:pt x="404" y="1"/>
                      <a:pt x="404" y="3"/>
                    </a:cubicBezTo>
                    <a:cubicBezTo>
                      <a:pt x="404" y="4"/>
                      <a:pt x="403" y="5"/>
                      <a:pt x="402" y="5"/>
                    </a:cubicBezTo>
                    <a:lnTo>
                      <a:pt x="402" y="5"/>
                    </a:lnTo>
                    <a:cubicBezTo>
                      <a:pt x="401" y="5"/>
                      <a:pt x="400" y="4"/>
                      <a:pt x="400" y="3"/>
                    </a:cubicBezTo>
                    <a:cubicBezTo>
                      <a:pt x="400" y="1"/>
                      <a:pt x="401" y="1"/>
                      <a:pt x="402" y="1"/>
                    </a:cubicBezTo>
                    <a:close/>
                    <a:moveTo>
                      <a:pt x="410" y="1"/>
                    </a:moveTo>
                    <a:lnTo>
                      <a:pt x="410" y="1"/>
                    </a:lnTo>
                    <a:cubicBezTo>
                      <a:pt x="411" y="1"/>
                      <a:pt x="412" y="1"/>
                      <a:pt x="412" y="3"/>
                    </a:cubicBezTo>
                    <a:cubicBezTo>
                      <a:pt x="412" y="4"/>
                      <a:pt x="411" y="5"/>
                      <a:pt x="410" y="5"/>
                    </a:cubicBezTo>
                    <a:lnTo>
                      <a:pt x="410" y="5"/>
                    </a:lnTo>
                    <a:cubicBezTo>
                      <a:pt x="409" y="5"/>
                      <a:pt x="408" y="4"/>
                      <a:pt x="408" y="3"/>
                    </a:cubicBezTo>
                    <a:cubicBezTo>
                      <a:pt x="408" y="1"/>
                      <a:pt x="409" y="1"/>
                      <a:pt x="410" y="1"/>
                    </a:cubicBezTo>
                    <a:close/>
                    <a:moveTo>
                      <a:pt x="418" y="1"/>
                    </a:moveTo>
                    <a:lnTo>
                      <a:pt x="418" y="1"/>
                    </a:lnTo>
                    <a:cubicBezTo>
                      <a:pt x="419" y="1"/>
                      <a:pt x="420" y="1"/>
                      <a:pt x="420" y="3"/>
                    </a:cubicBezTo>
                    <a:cubicBezTo>
                      <a:pt x="420" y="4"/>
                      <a:pt x="419" y="5"/>
                      <a:pt x="418" y="5"/>
                    </a:cubicBezTo>
                    <a:lnTo>
                      <a:pt x="418" y="5"/>
                    </a:lnTo>
                    <a:cubicBezTo>
                      <a:pt x="417" y="5"/>
                      <a:pt x="416" y="4"/>
                      <a:pt x="416" y="3"/>
                    </a:cubicBezTo>
                    <a:cubicBezTo>
                      <a:pt x="416" y="1"/>
                      <a:pt x="417" y="1"/>
                      <a:pt x="418" y="1"/>
                    </a:cubicBezTo>
                    <a:close/>
                    <a:moveTo>
                      <a:pt x="426" y="1"/>
                    </a:moveTo>
                    <a:lnTo>
                      <a:pt x="426" y="1"/>
                    </a:lnTo>
                    <a:cubicBezTo>
                      <a:pt x="427" y="1"/>
                      <a:pt x="428" y="1"/>
                      <a:pt x="428" y="3"/>
                    </a:cubicBezTo>
                    <a:cubicBezTo>
                      <a:pt x="428" y="4"/>
                      <a:pt x="427" y="5"/>
                      <a:pt x="426" y="5"/>
                    </a:cubicBezTo>
                    <a:lnTo>
                      <a:pt x="426" y="5"/>
                    </a:lnTo>
                    <a:cubicBezTo>
                      <a:pt x="425" y="5"/>
                      <a:pt x="424" y="4"/>
                      <a:pt x="424" y="3"/>
                    </a:cubicBezTo>
                    <a:cubicBezTo>
                      <a:pt x="424" y="1"/>
                      <a:pt x="425" y="1"/>
                      <a:pt x="426" y="1"/>
                    </a:cubicBezTo>
                    <a:close/>
                    <a:moveTo>
                      <a:pt x="434" y="1"/>
                    </a:moveTo>
                    <a:lnTo>
                      <a:pt x="434" y="1"/>
                    </a:lnTo>
                    <a:cubicBezTo>
                      <a:pt x="435" y="1"/>
                      <a:pt x="436" y="1"/>
                      <a:pt x="436" y="3"/>
                    </a:cubicBezTo>
                    <a:cubicBezTo>
                      <a:pt x="436" y="4"/>
                      <a:pt x="435" y="5"/>
                      <a:pt x="434" y="5"/>
                    </a:cubicBezTo>
                    <a:lnTo>
                      <a:pt x="434" y="5"/>
                    </a:lnTo>
                    <a:cubicBezTo>
                      <a:pt x="433" y="5"/>
                      <a:pt x="432" y="4"/>
                      <a:pt x="432" y="3"/>
                    </a:cubicBezTo>
                    <a:cubicBezTo>
                      <a:pt x="432" y="1"/>
                      <a:pt x="433" y="1"/>
                      <a:pt x="434" y="1"/>
                    </a:cubicBezTo>
                    <a:close/>
                    <a:moveTo>
                      <a:pt x="442" y="1"/>
                    </a:moveTo>
                    <a:lnTo>
                      <a:pt x="442" y="1"/>
                    </a:lnTo>
                    <a:cubicBezTo>
                      <a:pt x="443" y="1"/>
                      <a:pt x="444" y="1"/>
                      <a:pt x="444" y="3"/>
                    </a:cubicBezTo>
                    <a:cubicBezTo>
                      <a:pt x="444" y="4"/>
                      <a:pt x="443" y="5"/>
                      <a:pt x="442" y="5"/>
                    </a:cubicBezTo>
                    <a:lnTo>
                      <a:pt x="442" y="5"/>
                    </a:lnTo>
                    <a:cubicBezTo>
                      <a:pt x="441" y="5"/>
                      <a:pt x="440" y="4"/>
                      <a:pt x="440" y="3"/>
                    </a:cubicBezTo>
                    <a:cubicBezTo>
                      <a:pt x="440" y="1"/>
                      <a:pt x="441" y="1"/>
                      <a:pt x="442" y="1"/>
                    </a:cubicBezTo>
                    <a:close/>
                    <a:moveTo>
                      <a:pt x="450" y="1"/>
                    </a:moveTo>
                    <a:lnTo>
                      <a:pt x="450" y="1"/>
                    </a:lnTo>
                    <a:cubicBezTo>
                      <a:pt x="451" y="1"/>
                      <a:pt x="452" y="1"/>
                      <a:pt x="452" y="3"/>
                    </a:cubicBezTo>
                    <a:cubicBezTo>
                      <a:pt x="452" y="4"/>
                      <a:pt x="451" y="5"/>
                      <a:pt x="450" y="5"/>
                    </a:cubicBezTo>
                    <a:lnTo>
                      <a:pt x="450" y="5"/>
                    </a:lnTo>
                    <a:cubicBezTo>
                      <a:pt x="449" y="5"/>
                      <a:pt x="448" y="4"/>
                      <a:pt x="448" y="3"/>
                    </a:cubicBezTo>
                    <a:cubicBezTo>
                      <a:pt x="448" y="1"/>
                      <a:pt x="449" y="1"/>
                      <a:pt x="450" y="1"/>
                    </a:cubicBezTo>
                    <a:close/>
                    <a:moveTo>
                      <a:pt x="458" y="1"/>
                    </a:moveTo>
                    <a:lnTo>
                      <a:pt x="458" y="1"/>
                    </a:lnTo>
                    <a:cubicBezTo>
                      <a:pt x="459" y="1"/>
                      <a:pt x="460" y="1"/>
                      <a:pt x="460" y="3"/>
                    </a:cubicBezTo>
                    <a:cubicBezTo>
                      <a:pt x="460" y="4"/>
                      <a:pt x="459" y="5"/>
                      <a:pt x="458" y="5"/>
                    </a:cubicBezTo>
                    <a:lnTo>
                      <a:pt x="458" y="5"/>
                    </a:lnTo>
                    <a:cubicBezTo>
                      <a:pt x="457" y="5"/>
                      <a:pt x="456" y="4"/>
                      <a:pt x="456" y="3"/>
                    </a:cubicBezTo>
                    <a:cubicBezTo>
                      <a:pt x="456" y="1"/>
                      <a:pt x="457" y="1"/>
                      <a:pt x="458" y="1"/>
                    </a:cubicBezTo>
                    <a:close/>
                    <a:moveTo>
                      <a:pt x="466" y="1"/>
                    </a:moveTo>
                    <a:lnTo>
                      <a:pt x="466" y="1"/>
                    </a:lnTo>
                    <a:cubicBezTo>
                      <a:pt x="467" y="1"/>
                      <a:pt x="468" y="1"/>
                      <a:pt x="468" y="3"/>
                    </a:cubicBezTo>
                    <a:cubicBezTo>
                      <a:pt x="468" y="4"/>
                      <a:pt x="467" y="5"/>
                      <a:pt x="466" y="5"/>
                    </a:cubicBezTo>
                    <a:lnTo>
                      <a:pt x="466" y="5"/>
                    </a:lnTo>
                    <a:cubicBezTo>
                      <a:pt x="465" y="5"/>
                      <a:pt x="464" y="4"/>
                      <a:pt x="464" y="3"/>
                    </a:cubicBezTo>
                    <a:cubicBezTo>
                      <a:pt x="464" y="1"/>
                      <a:pt x="465" y="1"/>
                      <a:pt x="466" y="1"/>
                    </a:cubicBezTo>
                    <a:close/>
                    <a:moveTo>
                      <a:pt x="474" y="1"/>
                    </a:moveTo>
                    <a:lnTo>
                      <a:pt x="474" y="1"/>
                    </a:lnTo>
                    <a:cubicBezTo>
                      <a:pt x="475" y="1"/>
                      <a:pt x="476" y="1"/>
                      <a:pt x="476" y="3"/>
                    </a:cubicBezTo>
                    <a:cubicBezTo>
                      <a:pt x="476" y="4"/>
                      <a:pt x="475" y="5"/>
                      <a:pt x="474" y="5"/>
                    </a:cubicBezTo>
                    <a:lnTo>
                      <a:pt x="474" y="5"/>
                    </a:lnTo>
                    <a:cubicBezTo>
                      <a:pt x="473" y="5"/>
                      <a:pt x="472" y="4"/>
                      <a:pt x="472" y="3"/>
                    </a:cubicBezTo>
                    <a:cubicBezTo>
                      <a:pt x="472" y="1"/>
                      <a:pt x="473" y="1"/>
                      <a:pt x="474" y="1"/>
                    </a:cubicBezTo>
                    <a:close/>
                    <a:moveTo>
                      <a:pt x="482" y="1"/>
                    </a:moveTo>
                    <a:lnTo>
                      <a:pt x="482" y="1"/>
                    </a:lnTo>
                    <a:cubicBezTo>
                      <a:pt x="483" y="1"/>
                      <a:pt x="484" y="1"/>
                      <a:pt x="484" y="3"/>
                    </a:cubicBezTo>
                    <a:cubicBezTo>
                      <a:pt x="484" y="4"/>
                      <a:pt x="483" y="5"/>
                      <a:pt x="482" y="5"/>
                    </a:cubicBezTo>
                    <a:lnTo>
                      <a:pt x="482" y="5"/>
                    </a:lnTo>
                    <a:cubicBezTo>
                      <a:pt x="481" y="5"/>
                      <a:pt x="480" y="4"/>
                      <a:pt x="480" y="3"/>
                    </a:cubicBezTo>
                    <a:cubicBezTo>
                      <a:pt x="480" y="1"/>
                      <a:pt x="481" y="1"/>
                      <a:pt x="482" y="1"/>
                    </a:cubicBezTo>
                    <a:close/>
                    <a:moveTo>
                      <a:pt x="490" y="1"/>
                    </a:moveTo>
                    <a:lnTo>
                      <a:pt x="490" y="1"/>
                    </a:lnTo>
                    <a:cubicBezTo>
                      <a:pt x="491" y="1"/>
                      <a:pt x="492" y="1"/>
                      <a:pt x="492" y="3"/>
                    </a:cubicBezTo>
                    <a:cubicBezTo>
                      <a:pt x="492" y="4"/>
                      <a:pt x="491" y="5"/>
                      <a:pt x="490" y="5"/>
                    </a:cubicBezTo>
                    <a:lnTo>
                      <a:pt x="490" y="5"/>
                    </a:lnTo>
                    <a:cubicBezTo>
                      <a:pt x="489" y="5"/>
                      <a:pt x="488" y="4"/>
                      <a:pt x="488" y="3"/>
                    </a:cubicBezTo>
                    <a:cubicBezTo>
                      <a:pt x="488" y="1"/>
                      <a:pt x="489" y="1"/>
                      <a:pt x="490" y="1"/>
                    </a:cubicBezTo>
                    <a:close/>
                    <a:moveTo>
                      <a:pt x="498" y="1"/>
                    </a:moveTo>
                    <a:lnTo>
                      <a:pt x="498" y="1"/>
                    </a:lnTo>
                    <a:cubicBezTo>
                      <a:pt x="499" y="1"/>
                      <a:pt x="500" y="1"/>
                      <a:pt x="500" y="3"/>
                    </a:cubicBezTo>
                    <a:cubicBezTo>
                      <a:pt x="500" y="4"/>
                      <a:pt x="499" y="5"/>
                      <a:pt x="498" y="5"/>
                    </a:cubicBezTo>
                    <a:lnTo>
                      <a:pt x="498" y="5"/>
                    </a:lnTo>
                    <a:cubicBezTo>
                      <a:pt x="497" y="5"/>
                      <a:pt x="496" y="4"/>
                      <a:pt x="496" y="3"/>
                    </a:cubicBezTo>
                    <a:cubicBezTo>
                      <a:pt x="496" y="1"/>
                      <a:pt x="497" y="1"/>
                      <a:pt x="498" y="1"/>
                    </a:cubicBezTo>
                    <a:close/>
                    <a:moveTo>
                      <a:pt x="506" y="1"/>
                    </a:moveTo>
                    <a:lnTo>
                      <a:pt x="506" y="1"/>
                    </a:lnTo>
                    <a:cubicBezTo>
                      <a:pt x="507" y="1"/>
                      <a:pt x="508" y="1"/>
                      <a:pt x="508" y="3"/>
                    </a:cubicBezTo>
                    <a:cubicBezTo>
                      <a:pt x="508" y="4"/>
                      <a:pt x="507" y="5"/>
                      <a:pt x="506" y="5"/>
                    </a:cubicBezTo>
                    <a:lnTo>
                      <a:pt x="506" y="5"/>
                    </a:lnTo>
                    <a:cubicBezTo>
                      <a:pt x="505" y="5"/>
                      <a:pt x="504" y="4"/>
                      <a:pt x="504" y="3"/>
                    </a:cubicBezTo>
                    <a:cubicBezTo>
                      <a:pt x="504" y="1"/>
                      <a:pt x="505" y="1"/>
                      <a:pt x="506" y="1"/>
                    </a:cubicBezTo>
                    <a:close/>
                    <a:moveTo>
                      <a:pt x="514" y="1"/>
                    </a:moveTo>
                    <a:lnTo>
                      <a:pt x="514" y="1"/>
                    </a:lnTo>
                    <a:cubicBezTo>
                      <a:pt x="515" y="1"/>
                      <a:pt x="516" y="1"/>
                      <a:pt x="516" y="3"/>
                    </a:cubicBezTo>
                    <a:cubicBezTo>
                      <a:pt x="516" y="4"/>
                      <a:pt x="515" y="5"/>
                      <a:pt x="514" y="5"/>
                    </a:cubicBezTo>
                    <a:lnTo>
                      <a:pt x="514" y="5"/>
                    </a:lnTo>
                    <a:cubicBezTo>
                      <a:pt x="513" y="5"/>
                      <a:pt x="512" y="4"/>
                      <a:pt x="512" y="3"/>
                    </a:cubicBezTo>
                    <a:cubicBezTo>
                      <a:pt x="512" y="1"/>
                      <a:pt x="513" y="1"/>
                      <a:pt x="514" y="1"/>
                    </a:cubicBezTo>
                    <a:close/>
                    <a:moveTo>
                      <a:pt x="522" y="1"/>
                    </a:moveTo>
                    <a:lnTo>
                      <a:pt x="522" y="1"/>
                    </a:lnTo>
                    <a:cubicBezTo>
                      <a:pt x="523" y="1"/>
                      <a:pt x="524" y="1"/>
                      <a:pt x="524" y="3"/>
                    </a:cubicBezTo>
                    <a:cubicBezTo>
                      <a:pt x="524" y="4"/>
                      <a:pt x="523" y="5"/>
                      <a:pt x="522" y="5"/>
                    </a:cubicBezTo>
                    <a:lnTo>
                      <a:pt x="522" y="5"/>
                    </a:lnTo>
                    <a:cubicBezTo>
                      <a:pt x="521" y="5"/>
                      <a:pt x="520" y="4"/>
                      <a:pt x="520" y="3"/>
                    </a:cubicBezTo>
                    <a:cubicBezTo>
                      <a:pt x="520" y="1"/>
                      <a:pt x="521" y="1"/>
                      <a:pt x="522" y="1"/>
                    </a:cubicBezTo>
                    <a:close/>
                    <a:moveTo>
                      <a:pt x="530" y="1"/>
                    </a:moveTo>
                    <a:lnTo>
                      <a:pt x="530" y="1"/>
                    </a:lnTo>
                    <a:cubicBezTo>
                      <a:pt x="531" y="1"/>
                      <a:pt x="532" y="1"/>
                      <a:pt x="532" y="3"/>
                    </a:cubicBezTo>
                    <a:cubicBezTo>
                      <a:pt x="532" y="4"/>
                      <a:pt x="531" y="5"/>
                      <a:pt x="530" y="5"/>
                    </a:cubicBezTo>
                    <a:lnTo>
                      <a:pt x="530" y="5"/>
                    </a:lnTo>
                    <a:cubicBezTo>
                      <a:pt x="529" y="5"/>
                      <a:pt x="528" y="4"/>
                      <a:pt x="528" y="3"/>
                    </a:cubicBezTo>
                    <a:cubicBezTo>
                      <a:pt x="528" y="1"/>
                      <a:pt x="529" y="1"/>
                      <a:pt x="530" y="1"/>
                    </a:cubicBezTo>
                    <a:close/>
                    <a:moveTo>
                      <a:pt x="538" y="1"/>
                    </a:moveTo>
                    <a:lnTo>
                      <a:pt x="538" y="1"/>
                    </a:lnTo>
                    <a:cubicBezTo>
                      <a:pt x="539" y="1"/>
                      <a:pt x="540" y="1"/>
                      <a:pt x="540" y="3"/>
                    </a:cubicBezTo>
                    <a:cubicBezTo>
                      <a:pt x="540" y="4"/>
                      <a:pt x="539" y="5"/>
                      <a:pt x="538" y="5"/>
                    </a:cubicBezTo>
                    <a:lnTo>
                      <a:pt x="538" y="5"/>
                    </a:lnTo>
                    <a:cubicBezTo>
                      <a:pt x="537" y="5"/>
                      <a:pt x="536" y="4"/>
                      <a:pt x="536" y="3"/>
                    </a:cubicBezTo>
                    <a:cubicBezTo>
                      <a:pt x="536" y="1"/>
                      <a:pt x="537" y="1"/>
                      <a:pt x="538" y="1"/>
                    </a:cubicBezTo>
                    <a:close/>
                    <a:moveTo>
                      <a:pt x="546" y="1"/>
                    </a:moveTo>
                    <a:lnTo>
                      <a:pt x="546" y="1"/>
                    </a:lnTo>
                    <a:cubicBezTo>
                      <a:pt x="547" y="1"/>
                      <a:pt x="548" y="1"/>
                      <a:pt x="548" y="3"/>
                    </a:cubicBezTo>
                    <a:cubicBezTo>
                      <a:pt x="548" y="4"/>
                      <a:pt x="547" y="5"/>
                      <a:pt x="546" y="5"/>
                    </a:cubicBezTo>
                    <a:lnTo>
                      <a:pt x="546" y="5"/>
                    </a:lnTo>
                    <a:cubicBezTo>
                      <a:pt x="545" y="5"/>
                      <a:pt x="544" y="4"/>
                      <a:pt x="544" y="3"/>
                    </a:cubicBezTo>
                    <a:cubicBezTo>
                      <a:pt x="544" y="1"/>
                      <a:pt x="545" y="1"/>
                      <a:pt x="546" y="1"/>
                    </a:cubicBezTo>
                    <a:close/>
                    <a:moveTo>
                      <a:pt x="554" y="1"/>
                    </a:moveTo>
                    <a:lnTo>
                      <a:pt x="554" y="1"/>
                    </a:lnTo>
                    <a:cubicBezTo>
                      <a:pt x="555" y="1"/>
                      <a:pt x="556" y="1"/>
                      <a:pt x="556" y="3"/>
                    </a:cubicBezTo>
                    <a:cubicBezTo>
                      <a:pt x="556" y="4"/>
                      <a:pt x="555" y="5"/>
                      <a:pt x="554" y="5"/>
                    </a:cubicBezTo>
                    <a:lnTo>
                      <a:pt x="554" y="5"/>
                    </a:lnTo>
                    <a:cubicBezTo>
                      <a:pt x="553" y="5"/>
                      <a:pt x="552" y="4"/>
                      <a:pt x="552" y="3"/>
                    </a:cubicBezTo>
                    <a:cubicBezTo>
                      <a:pt x="552" y="1"/>
                      <a:pt x="553" y="1"/>
                      <a:pt x="554" y="1"/>
                    </a:cubicBezTo>
                    <a:close/>
                    <a:moveTo>
                      <a:pt x="562" y="1"/>
                    </a:moveTo>
                    <a:lnTo>
                      <a:pt x="562" y="1"/>
                    </a:lnTo>
                    <a:cubicBezTo>
                      <a:pt x="563" y="1"/>
                      <a:pt x="564" y="1"/>
                      <a:pt x="564" y="3"/>
                    </a:cubicBezTo>
                    <a:cubicBezTo>
                      <a:pt x="564" y="4"/>
                      <a:pt x="563" y="5"/>
                      <a:pt x="562" y="5"/>
                    </a:cubicBezTo>
                    <a:lnTo>
                      <a:pt x="562" y="5"/>
                    </a:lnTo>
                    <a:cubicBezTo>
                      <a:pt x="561" y="5"/>
                      <a:pt x="560" y="4"/>
                      <a:pt x="560" y="3"/>
                    </a:cubicBezTo>
                    <a:cubicBezTo>
                      <a:pt x="560" y="1"/>
                      <a:pt x="561" y="1"/>
                      <a:pt x="562" y="1"/>
                    </a:cubicBezTo>
                    <a:close/>
                    <a:moveTo>
                      <a:pt x="570" y="1"/>
                    </a:moveTo>
                    <a:lnTo>
                      <a:pt x="570" y="1"/>
                    </a:lnTo>
                    <a:cubicBezTo>
                      <a:pt x="571" y="1"/>
                      <a:pt x="572" y="1"/>
                      <a:pt x="572" y="3"/>
                    </a:cubicBezTo>
                    <a:cubicBezTo>
                      <a:pt x="572" y="4"/>
                      <a:pt x="571" y="5"/>
                      <a:pt x="570" y="5"/>
                    </a:cubicBezTo>
                    <a:lnTo>
                      <a:pt x="570" y="5"/>
                    </a:lnTo>
                    <a:cubicBezTo>
                      <a:pt x="569" y="5"/>
                      <a:pt x="568" y="4"/>
                      <a:pt x="568" y="3"/>
                    </a:cubicBezTo>
                    <a:cubicBezTo>
                      <a:pt x="568" y="1"/>
                      <a:pt x="569" y="1"/>
                      <a:pt x="570" y="1"/>
                    </a:cubicBezTo>
                    <a:close/>
                    <a:moveTo>
                      <a:pt x="578" y="1"/>
                    </a:moveTo>
                    <a:lnTo>
                      <a:pt x="578" y="1"/>
                    </a:lnTo>
                    <a:cubicBezTo>
                      <a:pt x="579" y="1"/>
                      <a:pt x="580" y="1"/>
                      <a:pt x="580" y="3"/>
                    </a:cubicBezTo>
                    <a:cubicBezTo>
                      <a:pt x="580" y="4"/>
                      <a:pt x="579" y="5"/>
                      <a:pt x="578" y="5"/>
                    </a:cubicBezTo>
                    <a:lnTo>
                      <a:pt x="578" y="5"/>
                    </a:lnTo>
                    <a:cubicBezTo>
                      <a:pt x="577" y="5"/>
                      <a:pt x="576" y="4"/>
                      <a:pt x="576" y="3"/>
                    </a:cubicBezTo>
                    <a:cubicBezTo>
                      <a:pt x="576" y="1"/>
                      <a:pt x="577" y="1"/>
                      <a:pt x="578" y="1"/>
                    </a:cubicBezTo>
                    <a:close/>
                    <a:moveTo>
                      <a:pt x="586" y="1"/>
                    </a:moveTo>
                    <a:lnTo>
                      <a:pt x="586" y="1"/>
                    </a:lnTo>
                    <a:cubicBezTo>
                      <a:pt x="587" y="1"/>
                      <a:pt x="588" y="1"/>
                      <a:pt x="588" y="3"/>
                    </a:cubicBezTo>
                    <a:cubicBezTo>
                      <a:pt x="588" y="4"/>
                      <a:pt x="587" y="5"/>
                      <a:pt x="586" y="5"/>
                    </a:cubicBezTo>
                    <a:lnTo>
                      <a:pt x="586" y="5"/>
                    </a:lnTo>
                    <a:cubicBezTo>
                      <a:pt x="585" y="5"/>
                      <a:pt x="584" y="4"/>
                      <a:pt x="584" y="3"/>
                    </a:cubicBezTo>
                    <a:cubicBezTo>
                      <a:pt x="584" y="1"/>
                      <a:pt x="585" y="1"/>
                      <a:pt x="586" y="1"/>
                    </a:cubicBezTo>
                    <a:close/>
                    <a:moveTo>
                      <a:pt x="594" y="1"/>
                    </a:moveTo>
                    <a:lnTo>
                      <a:pt x="594" y="1"/>
                    </a:lnTo>
                    <a:cubicBezTo>
                      <a:pt x="595" y="1"/>
                      <a:pt x="596" y="1"/>
                      <a:pt x="596" y="3"/>
                    </a:cubicBezTo>
                    <a:cubicBezTo>
                      <a:pt x="596" y="4"/>
                      <a:pt x="595" y="5"/>
                      <a:pt x="594" y="5"/>
                    </a:cubicBezTo>
                    <a:lnTo>
                      <a:pt x="594" y="5"/>
                    </a:lnTo>
                    <a:cubicBezTo>
                      <a:pt x="593" y="5"/>
                      <a:pt x="592" y="4"/>
                      <a:pt x="592" y="3"/>
                    </a:cubicBezTo>
                    <a:cubicBezTo>
                      <a:pt x="592" y="1"/>
                      <a:pt x="593" y="1"/>
                      <a:pt x="594" y="1"/>
                    </a:cubicBezTo>
                    <a:close/>
                    <a:moveTo>
                      <a:pt x="602" y="1"/>
                    </a:moveTo>
                    <a:lnTo>
                      <a:pt x="602" y="1"/>
                    </a:lnTo>
                    <a:cubicBezTo>
                      <a:pt x="603" y="1"/>
                      <a:pt x="604" y="1"/>
                      <a:pt x="604" y="3"/>
                    </a:cubicBezTo>
                    <a:cubicBezTo>
                      <a:pt x="604" y="4"/>
                      <a:pt x="603" y="5"/>
                      <a:pt x="602" y="5"/>
                    </a:cubicBezTo>
                    <a:lnTo>
                      <a:pt x="602" y="5"/>
                    </a:lnTo>
                    <a:cubicBezTo>
                      <a:pt x="601" y="5"/>
                      <a:pt x="600" y="4"/>
                      <a:pt x="600" y="3"/>
                    </a:cubicBezTo>
                    <a:cubicBezTo>
                      <a:pt x="600" y="1"/>
                      <a:pt x="601" y="1"/>
                      <a:pt x="602" y="1"/>
                    </a:cubicBezTo>
                    <a:close/>
                    <a:moveTo>
                      <a:pt x="610" y="1"/>
                    </a:moveTo>
                    <a:lnTo>
                      <a:pt x="610" y="1"/>
                    </a:lnTo>
                    <a:cubicBezTo>
                      <a:pt x="611" y="1"/>
                      <a:pt x="612" y="1"/>
                      <a:pt x="612" y="3"/>
                    </a:cubicBezTo>
                    <a:cubicBezTo>
                      <a:pt x="612" y="4"/>
                      <a:pt x="611" y="5"/>
                      <a:pt x="610" y="5"/>
                    </a:cubicBezTo>
                    <a:lnTo>
                      <a:pt x="610" y="5"/>
                    </a:lnTo>
                    <a:cubicBezTo>
                      <a:pt x="609" y="5"/>
                      <a:pt x="608" y="4"/>
                      <a:pt x="608" y="3"/>
                    </a:cubicBezTo>
                    <a:cubicBezTo>
                      <a:pt x="608" y="1"/>
                      <a:pt x="609" y="1"/>
                      <a:pt x="610" y="1"/>
                    </a:cubicBezTo>
                    <a:close/>
                    <a:moveTo>
                      <a:pt x="618" y="1"/>
                    </a:moveTo>
                    <a:lnTo>
                      <a:pt x="618" y="1"/>
                    </a:lnTo>
                    <a:cubicBezTo>
                      <a:pt x="619" y="1"/>
                      <a:pt x="620" y="1"/>
                      <a:pt x="620" y="3"/>
                    </a:cubicBezTo>
                    <a:cubicBezTo>
                      <a:pt x="620" y="4"/>
                      <a:pt x="619" y="5"/>
                      <a:pt x="618" y="5"/>
                    </a:cubicBezTo>
                    <a:lnTo>
                      <a:pt x="618" y="5"/>
                    </a:lnTo>
                    <a:cubicBezTo>
                      <a:pt x="617" y="5"/>
                      <a:pt x="616" y="4"/>
                      <a:pt x="616" y="3"/>
                    </a:cubicBezTo>
                    <a:cubicBezTo>
                      <a:pt x="616" y="1"/>
                      <a:pt x="617" y="1"/>
                      <a:pt x="618" y="1"/>
                    </a:cubicBezTo>
                    <a:close/>
                    <a:moveTo>
                      <a:pt x="626" y="1"/>
                    </a:moveTo>
                    <a:lnTo>
                      <a:pt x="626" y="1"/>
                    </a:lnTo>
                    <a:cubicBezTo>
                      <a:pt x="627" y="1"/>
                      <a:pt x="628" y="1"/>
                      <a:pt x="628" y="3"/>
                    </a:cubicBezTo>
                    <a:cubicBezTo>
                      <a:pt x="628" y="4"/>
                      <a:pt x="627" y="5"/>
                      <a:pt x="626" y="5"/>
                    </a:cubicBezTo>
                    <a:lnTo>
                      <a:pt x="626" y="5"/>
                    </a:lnTo>
                    <a:cubicBezTo>
                      <a:pt x="625" y="5"/>
                      <a:pt x="624" y="4"/>
                      <a:pt x="624" y="3"/>
                    </a:cubicBezTo>
                    <a:cubicBezTo>
                      <a:pt x="624" y="1"/>
                      <a:pt x="625" y="1"/>
                      <a:pt x="626" y="1"/>
                    </a:cubicBezTo>
                    <a:close/>
                    <a:moveTo>
                      <a:pt x="634" y="1"/>
                    </a:moveTo>
                    <a:lnTo>
                      <a:pt x="634" y="1"/>
                    </a:lnTo>
                    <a:cubicBezTo>
                      <a:pt x="635" y="1"/>
                      <a:pt x="636" y="1"/>
                      <a:pt x="636" y="3"/>
                    </a:cubicBezTo>
                    <a:cubicBezTo>
                      <a:pt x="636" y="4"/>
                      <a:pt x="635" y="5"/>
                      <a:pt x="634" y="5"/>
                    </a:cubicBezTo>
                    <a:lnTo>
                      <a:pt x="634" y="5"/>
                    </a:lnTo>
                    <a:cubicBezTo>
                      <a:pt x="633" y="5"/>
                      <a:pt x="632" y="4"/>
                      <a:pt x="632" y="3"/>
                    </a:cubicBezTo>
                    <a:cubicBezTo>
                      <a:pt x="632" y="1"/>
                      <a:pt x="633" y="1"/>
                      <a:pt x="634" y="1"/>
                    </a:cubicBezTo>
                    <a:close/>
                    <a:moveTo>
                      <a:pt x="642" y="1"/>
                    </a:moveTo>
                    <a:lnTo>
                      <a:pt x="642" y="1"/>
                    </a:lnTo>
                    <a:cubicBezTo>
                      <a:pt x="643" y="1"/>
                      <a:pt x="644" y="1"/>
                      <a:pt x="644" y="3"/>
                    </a:cubicBezTo>
                    <a:cubicBezTo>
                      <a:pt x="644" y="4"/>
                      <a:pt x="643" y="5"/>
                      <a:pt x="642" y="5"/>
                    </a:cubicBezTo>
                    <a:lnTo>
                      <a:pt x="642" y="5"/>
                    </a:lnTo>
                    <a:cubicBezTo>
                      <a:pt x="641" y="5"/>
                      <a:pt x="640" y="4"/>
                      <a:pt x="640" y="3"/>
                    </a:cubicBezTo>
                    <a:cubicBezTo>
                      <a:pt x="640" y="1"/>
                      <a:pt x="641" y="1"/>
                      <a:pt x="642" y="1"/>
                    </a:cubicBezTo>
                    <a:close/>
                    <a:moveTo>
                      <a:pt x="650" y="1"/>
                    </a:moveTo>
                    <a:lnTo>
                      <a:pt x="650" y="1"/>
                    </a:lnTo>
                    <a:cubicBezTo>
                      <a:pt x="651" y="1"/>
                      <a:pt x="652" y="1"/>
                      <a:pt x="652" y="3"/>
                    </a:cubicBezTo>
                    <a:cubicBezTo>
                      <a:pt x="652" y="4"/>
                      <a:pt x="651" y="5"/>
                      <a:pt x="650" y="5"/>
                    </a:cubicBezTo>
                    <a:lnTo>
                      <a:pt x="650" y="5"/>
                    </a:lnTo>
                    <a:cubicBezTo>
                      <a:pt x="649" y="5"/>
                      <a:pt x="648" y="4"/>
                      <a:pt x="648" y="3"/>
                    </a:cubicBezTo>
                    <a:cubicBezTo>
                      <a:pt x="648" y="1"/>
                      <a:pt x="649" y="1"/>
                      <a:pt x="650" y="1"/>
                    </a:cubicBezTo>
                    <a:close/>
                    <a:moveTo>
                      <a:pt x="658" y="1"/>
                    </a:moveTo>
                    <a:lnTo>
                      <a:pt x="658" y="1"/>
                    </a:lnTo>
                    <a:cubicBezTo>
                      <a:pt x="659" y="1"/>
                      <a:pt x="660" y="1"/>
                      <a:pt x="660" y="3"/>
                    </a:cubicBezTo>
                    <a:cubicBezTo>
                      <a:pt x="660" y="4"/>
                      <a:pt x="659" y="5"/>
                      <a:pt x="658" y="5"/>
                    </a:cubicBezTo>
                    <a:lnTo>
                      <a:pt x="658" y="5"/>
                    </a:lnTo>
                    <a:cubicBezTo>
                      <a:pt x="657" y="5"/>
                      <a:pt x="656" y="4"/>
                      <a:pt x="656" y="3"/>
                    </a:cubicBezTo>
                    <a:cubicBezTo>
                      <a:pt x="656" y="1"/>
                      <a:pt x="657" y="1"/>
                      <a:pt x="658" y="1"/>
                    </a:cubicBezTo>
                    <a:close/>
                    <a:moveTo>
                      <a:pt x="666" y="1"/>
                    </a:moveTo>
                    <a:lnTo>
                      <a:pt x="666" y="1"/>
                    </a:lnTo>
                    <a:cubicBezTo>
                      <a:pt x="667" y="1"/>
                      <a:pt x="668" y="1"/>
                      <a:pt x="668" y="3"/>
                    </a:cubicBezTo>
                    <a:cubicBezTo>
                      <a:pt x="668" y="4"/>
                      <a:pt x="667" y="5"/>
                      <a:pt x="666" y="5"/>
                    </a:cubicBezTo>
                    <a:lnTo>
                      <a:pt x="666" y="5"/>
                    </a:lnTo>
                    <a:cubicBezTo>
                      <a:pt x="665" y="5"/>
                      <a:pt x="664" y="4"/>
                      <a:pt x="664" y="3"/>
                    </a:cubicBezTo>
                    <a:cubicBezTo>
                      <a:pt x="664" y="1"/>
                      <a:pt x="665" y="1"/>
                      <a:pt x="666" y="1"/>
                    </a:cubicBezTo>
                    <a:close/>
                    <a:moveTo>
                      <a:pt x="674" y="1"/>
                    </a:moveTo>
                    <a:lnTo>
                      <a:pt x="674" y="1"/>
                    </a:lnTo>
                    <a:cubicBezTo>
                      <a:pt x="675" y="1"/>
                      <a:pt x="676" y="1"/>
                      <a:pt x="676" y="3"/>
                    </a:cubicBezTo>
                    <a:cubicBezTo>
                      <a:pt x="676" y="4"/>
                      <a:pt x="675" y="5"/>
                      <a:pt x="674" y="5"/>
                    </a:cubicBezTo>
                    <a:lnTo>
                      <a:pt x="674" y="5"/>
                    </a:lnTo>
                    <a:cubicBezTo>
                      <a:pt x="673" y="5"/>
                      <a:pt x="672" y="4"/>
                      <a:pt x="672" y="3"/>
                    </a:cubicBezTo>
                    <a:cubicBezTo>
                      <a:pt x="672" y="1"/>
                      <a:pt x="673" y="1"/>
                      <a:pt x="674" y="1"/>
                    </a:cubicBezTo>
                    <a:close/>
                    <a:moveTo>
                      <a:pt x="682" y="1"/>
                    </a:moveTo>
                    <a:lnTo>
                      <a:pt x="682" y="1"/>
                    </a:lnTo>
                    <a:cubicBezTo>
                      <a:pt x="683" y="1"/>
                      <a:pt x="684" y="1"/>
                      <a:pt x="684" y="3"/>
                    </a:cubicBezTo>
                    <a:cubicBezTo>
                      <a:pt x="684" y="4"/>
                      <a:pt x="683" y="5"/>
                      <a:pt x="682" y="5"/>
                    </a:cubicBezTo>
                    <a:lnTo>
                      <a:pt x="682" y="5"/>
                    </a:lnTo>
                    <a:cubicBezTo>
                      <a:pt x="681" y="5"/>
                      <a:pt x="680" y="4"/>
                      <a:pt x="680" y="3"/>
                    </a:cubicBezTo>
                    <a:cubicBezTo>
                      <a:pt x="680" y="1"/>
                      <a:pt x="681" y="1"/>
                      <a:pt x="682" y="1"/>
                    </a:cubicBezTo>
                    <a:close/>
                    <a:moveTo>
                      <a:pt x="690" y="1"/>
                    </a:moveTo>
                    <a:lnTo>
                      <a:pt x="690" y="1"/>
                    </a:lnTo>
                    <a:cubicBezTo>
                      <a:pt x="691" y="1"/>
                      <a:pt x="692" y="1"/>
                      <a:pt x="692" y="3"/>
                    </a:cubicBezTo>
                    <a:cubicBezTo>
                      <a:pt x="692" y="4"/>
                      <a:pt x="691" y="5"/>
                      <a:pt x="690" y="5"/>
                    </a:cubicBezTo>
                    <a:lnTo>
                      <a:pt x="690" y="5"/>
                    </a:lnTo>
                    <a:cubicBezTo>
                      <a:pt x="689" y="5"/>
                      <a:pt x="688" y="4"/>
                      <a:pt x="688" y="3"/>
                    </a:cubicBezTo>
                    <a:cubicBezTo>
                      <a:pt x="688" y="1"/>
                      <a:pt x="689" y="1"/>
                      <a:pt x="690" y="1"/>
                    </a:cubicBezTo>
                    <a:close/>
                    <a:moveTo>
                      <a:pt x="698" y="1"/>
                    </a:moveTo>
                    <a:lnTo>
                      <a:pt x="698" y="1"/>
                    </a:lnTo>
                    <a:cubicBezTo>
                      <a:pt x="699" y="1"/>
                      <a:pt x="700" y="1"/>
                      <a:pt x="700" y="3"/>
                    </a:cubicBezTo>
                    <a:cubicBezTo>
                      <a:pt x="700" y="4"/>
                      <a:pt x="699" y="5"/>
                      <a:pt x="698" y="5"/>
                    </a:cubicBezTo>
                    <a:lnTo>
                      <a:pt x="698" y="5"/>
                    </a:lnTo>
                    <a:cubicBezTo>
                      <a:pt x="697" y="5"/>
                      <a:pt x="696" y="4"/>
                      <a:pt x="696" y="3"/>
                    </a:cubicBezTo>
                    <a:cubicBezTo>
                      <a:pt x="696" y="1"/>
                      <a:pt x="697" y="1"/>
                      <a:pt x="698" y="1"/>
                    </a:cubicBezTo>
                    <a:close/>
                    <a:moveTo>
                      <a:pt x="706" y="1"/>
                    </a:moveTo>
                    <a:lnTo>
                      <a:pt x="706" y="1"/>
                    </a:lnTo>
                    <a:cubicBezTo>
                      <a:pt x="707" y="1"/>
                      <a:pt x="708" y="1"/>
                      <a:pt x="708" y="3"/>
                    </a:cubicBezTo>
                    <a:cubicBezTo>
                      <a:pt x="708" y="4"/>
                      <a:pt x="707" y="5"/>
                      <a:pt x="706" y="5"/>
                    </a:cubicBezTo>
                    <a:lnTo>
                      <a:pt x="706" y="5"/>
                    </a:lnTo>
                    <a:cubicBezTo>
                      <a:pt x="705" y="5"/>
                      <a:pt x="704" y="4"/>
                      <a:pt x="704" y="3"/>
                    </a:cubicBezTo>
                    <a:cubicBezTo>
                      <a:pt x="704" y="1"/>
                      <a:pt x="705" y="1"/>
                      <a:pt x="706" y="1"/>
                    </a:cubicBezTo>
                    <a:close/>
                    <a:moveTo>
                      <a:pt x="714" y="1"/>
                    </a:moveTo>
                    <a:lnTo>
                      <a:pt x="714" y="1"/>
                    </a:lnTo>
                    <a:cubicBezTo>
                      <a:pt x="715" y="1"/>
                      <a:pt x="716" y="1"/>
                      <a:pt x="716" y="3"/>
                    </a:cubicBezTo>
                    <a:cubicBezTo>
                      <a:pt x="716" y="4"/>
                      <a:pt x="715" y="5"/>
                      <a:pt x="714" y="5"/>
                    </a:cubicBezTo>
                    <a:lnTo>
                      <a:pt x="714" y="5"/>
                    </a:lnTo>
                    <a:cubicBezTo>
                      <a:pt x="713" y="5"/>
                      <a:pt x="712" y="4"/>
                      <a:pt x="712" y="3"/>
                    </a:cubicBezTo>
                    <a:cubicBezTo>
                      <a:pt x="712" y="1"/>
                      <a:pt x="713" y="1"/>
                      <a:pt x="714" y="1"/>
                    </a:cubicBezTo>
                    <a:close/>
                    <a:moveTo>
                      <a:pt x="722" y="1"/>
                    </a:moveTo>
                    <a:lnTo>
                      <a:pt x="722" y="1"/>
                    </a:lnTo>
                    <a:cubicBezTo>
                      <a:pt x="723" y="1"/>
                      <a:pt x="724" y="1"/>
                      <a:pt x="724" y="3"/>
                    </a:cubicBezTo>
                    <a:cubicBezTo>
                      <a:pt x="724" y="4"/>
                      <a:pt x="723" y="5"/>
                      <a:pt x="722" y="5"/>
                    </a:cubicBezTo>
                    <a:lnTo>
                      <a:pt x="722" y="5"/>
                    </a:lnTo>
                    <a:cubicBezTo>
                      <a:pt x="721" y="5"/>
                      <a:pt x="720" y="4"/>
                      <a:pt x="720" y="3"/>
                    </a:cubicBezTo>
                    <a:cubicBezTo>
                      <a:pt x="720" y="1"/>
                      <a:pt x="721" y="1"/>
                      <a:pt x="722" y="1"/>
                    </a:cubicBezTo>
                    <a:close/>
                    <a:moveTo>
                      <a:pt x="730" y="1"/>
                    </a:moveTo>
                    <a:lnTo>
                      <a:pt x="730" y="1"/>
                    </a:lnTo>
                    <a:cubicBezTo>
                      <a:pt x="731" y="1"/>
                      <a:pt x="732" y="1"/>
                      <a:pt x="732" y="3"/>
                    </a:cubicBezTo>
                    <a:cubicBezTo>
                      <a:pt x="732" y="4"/>
                      <a:pt x="731" y="5"/>
                      <a:pt x="730" y="5"/>
                    </a:cubicBezTo>
                    <a:lnTo>
                      <a:pt x="730" y="5"/>
                    </a:lnTo>
                    <a:cubicBezTo>
                      <a:pt x="729" y="5"/>
                      <a:pt x="728" y="4"/>
                      <a:pt x="728" y="3"/>
                    </a:cubicBezTo>
                    <a:cubicBezTo>
                      <a:pt x="728" y="1"/>
                      <a:pt x="729" y="1"/>
                      <a:pt x="730" y="1"/>
                    </a:cubicBezTo>
                    <a:close/>
                    <a:moveTo>
                      <a:pt x="738" y="1"/>
                    </a:moveTo>
                    <a:lnTo>
                      <a:pt x="738" y="1"/>
                    </a:lnTo>
                    <a:cubicBezTo>
                      <a:pt x="739" y="1"/>
                      <a:pt x="740" y="1"/>
                      <a:pt x="740" y="3"/>
                    </a:cubicBezTo>
                    <a:cubicBezTo>
                      <a:pt x="740" y="4"/>
                      <a:pt x="739" y="5"/>
                      <a:pt x="738" y="5"/>
                    </a:cubicBezTo>
                    <a:lnTo>
                      <a:pt x="738" y="5"/>
                    </a:lnTo>
                    <a:cubicBezTo>
                      <a:pt x="737" y="5"/>
                      <a:pt x="736" y="4"/>
                      <a:pt x="736" y="3"/>
                    </a:cubicBezTo>
                    <a:cubicBezTo>
                      <a:pt x="736" y="1"/>
                      <a:pt x="737" y="1"/>
                      <a:pt x="738" y="1"/>
                    </a:cubicBezTo>
                    <a:close/>
                    <a:moveTo>
                      <a:pt x="746" y="1"/>
                    </a:moveTo>
                    <a:lnTo>
                      <a:pt x="746" y="1"/>
                    </a:lnTo>
                    <a:cubicBezTo>
                      <a:pt x="747" y="1"/>
                      <a:pt x="748" y="1"/>
                      <a:pt x="748" y="3"/>
                    </a:cubicBezTo>
                    <a:cubicBezTo>
                      <a:pt x="748" y="4"/>
                      <a:pt x="747" y="5"/>
                      <a:pt x="746" y="5"/>
                    </a:cubicBezTo>
                    <a:lnTo>
                      <a:pt x="746" y="5"/>
                    </a:lnTo>
                    <a:cubicBezTo>
                      <a:pt x="745" y="5"/>
                      <a:pt x="744" y="4"/>
                      <a:pt x="744" y="3"/>
                    </a:cubicBezTo>
                    <a:cubicBezTo>
                      <a:pt x="744" y="1"/>
                      <a:pt x="745" y="1"/>
                      <a:pt x="746" y="1"/>
                    </a:cubicBezTo>
                    <a:close/>
                    <a:moveTo>
                      <a:pt x="754" y="1"/>
                    </a:moveTo>
                    <a:lnTo>
                      <a:pt x="754" y="1"/>
                    </a:lnTo>
                    <a:cubicBezTo>
                      <a:pt x="755" y="1"/>
                      <a:pt x="756" y="1"/>
                      <a:pt x="756" y="3"/>
                    </a:cubicBezTo>
                    <a:cubicBezTo>
                      <a:pt x="756" y="4"/>
                      <a:pt x="755" y="5"/>
                      <a:pt x="754" y="5"/>
                    </a:cubicBezTo>
                    <a:lnTo>
                      <a:pt x="754" y="5"/>
                    </a:lnTo>
                    <a:cubicBezTo>
                      <a:pt x="753" y="5"/>
                      <a:pt x="752" y="4"/>
                      <a:pt x="752" y="3"/>
                    </a:cubicBezTo>
                    <a:cubicBezTo>
                      <a:pt x="752" y="1"/>
                      <a:pt x="753" y="1"/>
                      <a:pt x="754" y="1"/>
                    </a:cubicBezTo>
                    <a:close/>
                    <a:moveTo>
                      <a:pt x="762" y="1"/>
                    </a:moveTo>
                    <a:lnTo>
                      <a:pt x="762" y="1"/>
                    </a:lnTo>
                    <a:cubicBezTo>
                      <a:pt x="763" y="1"/>
                      <a:pt x="764" y="1"/>
                      <a:pt x="764" y="3"/>
                    </a:cubicBezTo>
                    <a:cubicBezTo>
                      <a:pt x="764" y="4"/>
                      <a:pt x="763" y="5"/>
                      <a:pt x="762" y="5"/>
                    </a:cubicBezTo>
                    <a:lnTo>
                      <a:pt x="762" y="5"/>
                    </a:lnTo>
                    <a:cubicBezTo>
                      <a:pt x="761" y="5"/>
                      <a:pt x="760" y="4"/>
                      <a:pt x="760" y="3"/>
                    </a:cubicBezTo>
                    <a:cubicBezTo>
                      <a:pt x="760" y="1"/>
                      <a:pt x="761" y="1"/>
                      <a:pt x="762" y="1"/>
                    </a:cubicBezTo>
                    <a:close/>
                    <a:moveTo>
                      <a:pt x="770" y="1"/>
                    </a:moveTo>
                    <a:lnTo>
                      <a:pt x="770" y="1"/>
                    </a:lnTo>
                    <a:cubicBezTo>
                      <a:pt x="771" y="1"/>
                      <a:pt x="772" y="1"/>
                      <a:pt x="772" y="3"/>
                    </a:cubicBezTo>
                    <a:cubicBezTo>
                      <a:pt x="772" y="4"/>
                      <a:pt x="771" y="5"/>
                      <a:pt x="770" y="5"/>
                    </a:cubicBezTo>
                    <a:lnTo>
                      <a:pt x="770" y="5"/>
                    </a:lnTo>
                    <a:cubicBezTo>
                      <a:pt x="769" y="5"/>
                      <a:pt x="768" y="4"/>
                      <a:pt x="768" y="3"/>
                    </a:cubicBezTo>
                    <a:cubicBezTo>
                      <a:pt x="768" y="1"/>
                      <a:pt x="769" y="1"/>
                      <a:pt x="770" y="1"/>
                    </a:cubicBezTo>
                    <a:close/>
                    <a:moveTo>
                      <a:pt x="778" y="1"/>
                    </a:moveTo>
                    <a:lnTo>
                      <a:pt x="778" y="1"/>
                    </a:lnTo>
                    <a:cubicBezTo>
                      <a:pt x="779" y="1"/>
                      <a:pt x="780" y="1"/>
                      <a:pt x="780" y="3"/>
                    </a:cubicBezTo>
                    <a:cubicBezTo>
                      <a:pt x="780" y="4"/>
                      <a:pt x="779" y="5"/>
                      <a:pt x="778" y="5"/>
                    </a:cubicBezTo>
                    <a:lnTo>
                      <a:pt x="778" y="5"/>
                    </a:lnTo>
                    <a:cubicBezTo>
                      <a:pt x="777" y="5"/>
                      <a:pt x="776" y="4"/>
                      <a:pt x="776" y="3"/>
                    </a:cubicBezTo>
                    <a:cubicBezTo>
                      <a:pt x="776" y="1"/>
                      <a:pt x="777" y="1"/>
                      <a:pt x="778" y="1"/>
                    </a:cubicBezTo>
                    <a:close/>
                    <a:moveTo>
                      <a:pt x="786" y="1"/>
                    </a:moveTo>
                    <a:lnTo>
                      <a:pt x="786" y="1"/>
                    </a:lnTo>
                    <a:cubicBezTo>
                      <a:pt x="787" y="1"/>
                      <a:pt x="788" y="1"/>
                      <a:pt x="788" y="3"/>
                    </a:cubicBezTo>
                    <a:cubicBezTo>
                      <a:pt x="788" y="4"/>
                      <a:pt x="787" y="5"/>
                      <a:pt x="786" y="5"/>
                    </a:cubicBezTo>
                    <a:lnTo>
                      <a:pt x="786" y="5"/>
                    </a:lnTo>
                    <a:cubicBezTo>
                      <a:pt x="785" y="5"/>
                      <a:pt x="784" y="4"/>
                      <a:pt x="784" y="3"/>
                    </a:cubicBezTo>
                    <a:cubicBezTo>
                      <a:pt x="784" y="1"/>
                      <a:pt x="785" y="1"/>
                      <a:pt x="786" y="1"/>
                    </a:cubicBezTo>
                    <a:close/>
                    <a:moveTo>
                      <a:pt x="794" y="1"/>
                    </a:moveTo>
                    <a:lnTo>
                      <a:pt x="794" y="1"/>
                    </a:lnTo>
                    <a:cubicBezTo>
                      <a:pt x="795" y="1"/>
                      <a:pt x="796" y="1"/>
                      <a:pt x="796" y="3"/>
                    </a:cubicBezTo>
                    <a:cubicBezTo>
                      <a:pt x="796" y="4"/>
                      <a:pt x="795" y="5"/>
                      <a:pt x="794" y="5"/>
                    </a:cubicBezTo>
                    <a:lnTo>
                      <a:pt x="794" y="5"/>
                    </a:lnTo>
                    <a:cubicBezTo>
                      <a:pt x="793" y="5"/>
                      <a:pt x="792" y="4"/>
                      <a:pt x="792" y="3"/>
                    </a:cubicBezTo>
                    <a:cubicBezTo>
                      <a:pt x="792" y="1"/>
                      <a:pt x="793" y="1"/>
                      <a:pt x="794" y="1"/>
                    </a:cubicBezTo>
                    <a:close/>
                    <a:moveTo>
                      <a:pt x="802" y="1"/>
                    </a:moveTo>
                    <a:lnTo>
                      <a:pt x="802" y="1"/>
                    </a:lnTo>
                    <a:cubicBezTo>
                      <a:pt x="803" y="1"/>
                      <a:pt x="804" y="1"/>
                      <a:pt x="804" y="3"/>
                    </a:cubicBezTo>
                    <a:cubicBezTo>
                      <a:pt x="804" y="4"/>
                      <a:pt x="803" y="5"/>
                      <a:pt x="802" y="5"/>
                    </a:cubicBezTo>
                    <a:lnTo>
                      <a:pt x="802" y="5"/>
                    </a:lnTo>
                    <a:cubicBezTo>
                      <a:pt x="801" y="5"/>
                      <a:pt x="800" y="4"/>
                      <a:pt x="800" y="3"/>
                    </a:cubicBezTo>
                    <a:cubicBezTo>
                      <a:pt x="800" y="1"/>
                      <a:pt x="801" y="1"/>
                      <a:pt x="802" y="1"/>
                    </a:cubicBezTo>
                    <a:close/>
                    <a:moveTo>
                      <a:pt x="810" y="1"/>
                    </a:moveTo>
                    <a:lnTo>
                      <a:pt x="810" y="1"/>
                    </a:lnTo>
                    <a:cubicBezTo>
                      <a:pt x="811" y="1"/>
                      <a:pt x="812" y="1"/>
                      <a:pt x="812" y="3"/>
                    </a:cubicBezTo>
                    <a:cubicBezTo>
                      <a:pt x="812" y="4"/>
                      <a:pt x="811" y="5"/>
                      <a:pt x="810" y="5"/>
                    </a:cubicBezTo>
                    <a:lnTo>
                      <a:pt x="810" y="5"/>
                    </a:lnTo>
                    <a:cubicBezTo>
                      <a:pt x="809" y="5"/>
                      <a:pt x="808" y="4"/>
                      <a:pt x="808" y="3"/>
                    </a:cubicBezTo>
                    <a:cubicBezTo>
                      <a:pt x="808" y="1"/>
                      <a:pt x="809" y="1"/>
                      <a:pt x="810" y="1"/>
                    </a:cubicBezTo>
                    <a:close/>
                    <a:moveTo>
                      <a:pt x="818" y="1"/>
                    </a:moveTo>
                    <a:lnTo>
                      <a:pt x="818" y="1"/>
                    </a:lnTo>
                    <a:cubicBezTo>
                      <a:pt x="819" y="1"/>
                      <a:pt x="820" y="1"/>
                      <a:pt x="820" y="3"/>
                    </a:cubicBezTo>
                    <a:cubicBezTo>
                      <a:pt x="820" y="4"/>
                      <a:pt x="819" y="5"/>
                      <a:pt x="818" y="5"/>
                    </a:cubicBezTo>
                    <a:lnTo>
                      <a:pt x="818" y="5"/>
                    </a:lnTo>
                    <a:cubicBezTo>
                      <a:pt x="817" y="5"/>
                      <a:pt x="816" y="4"/>
                      <a:pt x="816" y="3"/>
                    </a:cubicBezTo>
                    <a:cubicBezTo>
                      <a:pt x="816" y="1"/>
                      <a:pt x="817" y="1"/>
                      <a:pt x="818" y="1"/>
                    </a:cubicBezTo>
                    <a:close/>
                    <a:moveTo>
                      <a:pt x="826" y="1"/>
                    </a:moveTo>
                    <a:lnTo>
                      <a:pt x="826" y="1"/>
                    </a:lnTo>
                    <a:cubicBezTo>
                      <a:pt x="827" y="1"/>
                      <a:pt x="828" y="1"/>
                      <a:pt x="828" y="3"/>
                    </a:cubicBezTo>
                    <a:cubicBezTo>
                      <a:pt x="828" y="4"/>
                      <a:pt x="827" y="5"/>
                      <a:pt x="826" y="5"/>
                    </a:cubicBezTo>
                    <a:lnTo>
                      <a:pt x="826" y="5"/>
                    </a:lnTo>
                    <a:cubicBezTo>
                      <a:pt x="825" y="5"/>
                      <a:pt x="824" y="4"/>
                      <a:pt x="824" y="3"/>
                    </a:cubicBezTo>
                    <a:cubicBezTo>
                      <a:pt x="824" y="1"/>
                      <a:pt x="825" y="1"/>
                      <a:pt x="826" y="1"/>
                    </a:cubicBezTo>
                    <a:close/>
                    <a:moveTo>
                      <a:pt x="834" y="1"/>
                    </a:moveTo>
                    <a:lnTo>
                      <a:pt x="834" y="1"/>
                    </a:lnTo>
                    <a:cubicBezTo>
                      <a:pt x="835" y="1"/>
                      <a:pt x="836" y="1"/>
                      <a:pt x="836" y="3"/>
                    </a:cubicBezTo>
                    <a:cubicBezTo>
                      <a:pt x="836" y="4"/>
                      <a:pt x="835" y="5"/>
                      <a:pt x="834" y="5"/>
                    </a:cubicBezTo>
                    <a:lnTo>
                      <a:pt x="834" y="5"/>
                    </a:lnTo>
                    <a:cubicBezTo>
                      <a:pt x="833" y="5"/>
                      <a:pt x="832" y="4"/>
                      <a:pt x="832" y="3"/>
                    </a:cubicBezTo>
                    <a:cubicBezTo>
                      <a:pt x="832" y="1"/>
                      <a:pt x="833" y="1"/>
                      <a:pt x="834" y="1"/>
                    </a:cubicBezTo>
                    <a:close/>
                    <a:moveTo>
                      <a:pt x="842" y="1"/>
                    </a:moveTo>
                    <a:lnTo>
                      <a:pt x="842" y="1"/>
                    </a:lnTo>
                    <a:cubicBezTo>
                      <a:pt x="843" y="1"/>
                      <a:pt x="844" y="1"/>
                      <a:pt x="844" y="3"/>
                    </a:cubicBezTo>
                    <a:cubicBezTo>
                      <a:pt x="844" y="4"/>
                      <a:pt x="843" y="5"/>
                      <a:pt x="842" y="5"/>
                    </a:cubicBezTo>
                    <a:lnTo>
                      <a:pt x="842" y="5"/>
                    </a:lnTo>
                    <a:cubicBezTo>
                      <a:pt x="841" y="5"/>
                      <a:pt x="840" y="4"/>
                      <a:pt x="840" y="3"/>
                    </a:cubicBezTo>
                    <a:cubicBezTo>
                      <a:pt x="840" y="1"/>
                      <a:pt x="841" y="1"/>
                      <a:pt x="842" y="1"/>
                    </a:cubicBezTo>
                    <a:close/>
                    <a:moveTo>
                      <a:pt x="850" y="1"/>
                    </a:moveTo>
                    <a:lnTo>
                      <a:pt x="850" y="1"/>
                    </a:lnTo>
                    <a:cubicBezTo>
                      <a:pt x="851" y="1"/>
                      <a:pt x="852" y="1"/>
                      <a:pt x="852" y="3"/>
                    </a:cubicBezTo>
                    <a:cubicBezTo>
                      <a:pt x="852" y="4"/>
                      <a:pt x="851" y="5"/>
                      <a:pt x="850" y="5"/>
                    </a:cubicBezTo>
                    <a:lnTo>
                      <a:pt x="850" y="5"/>
                    </a:lnTo>
                    <a:cubicBezTo>
                      <a:pt x="849" y="5"/>
                      <a:pt x="848" y="4"/>
                      <a:pt x="848" y="3"/>
                    </a:cubicBezTo>
                    <a:cubicBezTo>
                      <a:pt x="848" y="1"/>
                      <a:pt x="849" y="1"/>
                      <a:pt x="850" y="1"/>
                    </a:cubicBezTo>
                    <a:close/>
                    <a:moveTo>
                      <a:pt x="858" y="1"/>
                    </a:moveTo>
                    <a:lnTo>
                      <a:pt x="858" y="1"/>
                    </a:lnTo>
                    <a:cubicBezTo>
                      <a:pt x="859" y="1"/>
                      <a:pt x="860" y="1"/>
                      <a:pt x="860" y="3"/>
                    </a:cubicBezTo>
                    <a:cubicBezTo>
                      <a:pt x="860" y="4"/>
                      <a:pt x="859" y="5"/>
                      <a:pt x="858" y="5"/>
                    </a:cubicBezTo>
                    <a:lnTo>
                      <a:pt x="858" y="5"/>
                    </a:lnTo>
                    <a:cubicBezTo>
                      <a:pt x="857" y="5"/>
                      <a:pt x="856" y="4"/>
                      <a:pt x="856" y="3"/>
                    </a:cubicBezTo>
                    <a:cubicBezTo>
                      <a:pt x="856" y="1"/>
                      <a:pt x="857" y="1"/>
                      <a:pt x="858" y="1"/>
                    </a:cubicBezTo>
                    <a:close/>
                    <a:moveTo>
                      <a:pt x="866" y="1"/>
                    </a:moveTo>
                    <a:lnTo>
                      <a:pt x="866" y="1"/>
                    </a:lnTo>
                    <a:cubicBezTo>
                      <a:pt x="867" y="1"/>
                      <a:pt x="868" y="1"/>
                      <a:pt x="868" y="3"/>
                    </a:cubicBezTo>
                    <a:cubicBezTo>
                      <a:pt x="868" y="4"/>
                      <a:pt x="867" y="5"/>
                      <a:pt x="866" y="5"/>
                    </a:cubicBezTo>
                    <a:lnTo>
                      <a:pt x="866" y="5"/>
                    </a:lnTo>
                    <a:cubicBezTo>
                      <a:pt x="865" y="5"/>
                      <a:pt x="864" y="4"/>
                      <a:pt x="864" y="3"/>
                    </a:cubicBezTo>
                    <a:cubicBezTo>
                      <a:pt x="864" y="1"/>
                      <a:pt x="865" y="1"/>
                      <a:pt x="866" y="1"/>
                    </a:cubicBezTo>
                    <a:close/>
                    <a:moveTo>
                      <a:pt x="874" y="1"/>
                    </a:moveTo>
                    <a:lnTo>
                      <a:pt x="874" y="1"/>
                    </a:lnTo>
                    <a:cubicBezTo>
                      <a:pt x="875" y="1"/>
                      <a:pt x="876" y="1"/>
                      <a:pt x="876" y="3"/>
                    </a:cubicBezTo>
                    <a:cubicBezTo>
                      <a:pt x="876" y="4"/>
                      <a:pt x="875" y="5"/>
                      <a:pt x="874" y="5"/>
                    </a:cubicBezTo>
                    <a:lnTo>
                      <a:pt x="874" y="5"/>
                    </a:lnTo>
                    <a:cubicBezTo>
                      <a:pt x="873" y="5"/>
                      <a:pt x="872" y="4"/>
                      <a:pt x="872" y="3"/>
                    </a:cubicBezTo>
                    <a:cubicBezTo>
                      <a:pt x="872" y="1"/>
                      <a:pt x="873" y="1"/>
                      <a:pt x="874" y="1"/>
                    </a:cubicBezTo>
                    <a:close/>
                    <a:moveTo>
                      <a:pt x="882" y="1"/>
                    </a:moveTo>
                    <a:lnTo>
                      <a:pt x="882" y="1"/>
                    </a:lnTo>
                    <a:cubicBezTo>
                      <a:pt x="883" y="1"/>
                      <a:pt x="884" y="1"/>
                      <a:pt x="884" y="3"/>
                    </a:cubicBezTo>
                    <a:cubicBezTo>
                      <a:pt x="884" y="4"/>
                      <a:pt x="883" y="5"/>
                      <a:pt x="882" y="5"/>
                    </a:cubicBezTo>
                    <a:lnTo>
                      <a:pt x="882" y="5"/>
                    </a:lnTo>
                    <a:cubicBezTo>
                      <a:pt x="881" y="5"/>
                      <a:pt x="880" y="4"/>
                      <a:pt x="880" y="3"/>
                    </a:cubicBezTo>
                    <a:cubicBezTo>
                      <a:pt x="880" y="1"/>
                      <a:pt x="881" y="1"/>
                      <a:pt x="882" y="1"/>
                    </a:cubicBezTo>
                    <a:close/>
                    <a:moveTo>
                      <a:pt x="890" y="1"/>
                    </a:moveTo>
                    <a:lnTo>
                      <a:pt x="890" y="1"/>
                    </a:lnTo>
                    <a:cubicBezTo>
                      <a:pt x="891" y="1"/>
                      <a:pt x="892" y="1"/>
                      <a:pt x="892" y="3"/>
                    </a:cubicBezTo>
                    <a:cubicBezTo>
                      <a:pt x="892" y="4"/>
                      <a:pt x="891" y="5"/>
                      <a:pt x="890" y="5"/>
                    </a:cubicBezTo>
                    <a:lnTo>
                      <a:pt x="890" y="5"/>
                    </a:lnTo>
                    <a:cubicBezTo>
                      <a:pt x="889" y="5"/>
                      <a:pt x="888" y="4"/>
                      <a:pt x="888" y="3"/>
                    </a:cubicBezTo>
                    <a:cubicBezTo>
                      <a:pt x="888" y="1"/>
                      <a:pt x="889" y="1"/>
                      <a:pt x="890" y="1"/>
                    </a:cubicBezTo>
                    <a:close/>
                    <a:moveTo>
                      <a:pt x="898" y="1"/>
                    </a:moveTo>
                    <a:lnTo>
                      <a:pt x="898" y="1"/>
                    </a:lnTo>
                    <a:cubicBezTo>
                      <a:pt x="899" y="1"/>
                      <a:pt x="900" y="1"/>
                      <a:pt x="900" y="3"/>
                    </a:cubicBezTo>
                    <a:cubicBezTo>
                      <a:pt x="900" y="4"/>
                      <a:pt x="899" y="5"/>
                      <a:pt x="898" y="5"/>
                    </a:cubicBezTo>
                    <a:lnTo>
                      <a:pt x="898" y="5"/>
                    </a:lnTo>
                    <a:cubicBezTo>
                      <a:pt x="897" y="5"/>
                      <a:pt x="896" y="4"/>
                      <a:pt x="896" y="3"/>
                    </a:cubicBezTo>
                    <a:cubicBezTo>
                      <a:pt x="896" y="1"/>
                      <a:pt x="897" y="1"/>
                      <a:pt x="898" y="1"/>
                    </a:cubicBezTo>
                    <a:close/>
                    <a:moveTo>
                      <a:pt x="906" y="1"/>
                    </a:moveTo>
                    <a:lnTo>
                      <a:pt x="906" y="1"/>
                    </a:lnTo>
                    <a:cubicBezTo>
                      <a:pt x="907" y="1"/>
                      <a:pt x="908" y="1"/>
                      <a:pt x="908" y="3"/>
                    </a:cubicBezTo>
                    <a:cubicBezTo>
                      <a:pt x="908" y="4"/>
                      <a:pt x="907" y="5"/>
                      <a:pt x="906" y="5"/>
                    </a:cubicBezTo>
                    <a:lnTo>
                      <a:pt x="906" y="5"/>
                    </a:lnTo>
                    <a:cubicBezTo>
                      <a:pt x="905" y="5"/>
                      <a:pt x="904" y="4"/>
                      <a:pt x="904" y="3"/>
                    </a:cubicBezTo>
                    <a:cubicBezTo>
                      <a:pt x="904" y="1"/>
                      <a:pt x="905" y="1"/>
                      <a:pt x="906" y="1"/>
                    </a:cubicBezTo>
                    <a:close/>
                    <a:moveTo>
                      <a:pt x="914" y="1"/>
                    </a:moveTo>
                    <a:lnTo>
                      <a:pt x="914" y="1"/>
                    </a:lnTo>
                    <a:cubicBezTo>
                      <a:pt x="915" y="1"/>
                      <a:pt x="916" y="1"/>
                      <a:pt x="916" y="3"/>
                    </a:cubicBezTo>
                    <a:cubicBezTo>
                      <a:pt x="916" y="4"/>
                      <a:pt x="915" y="5"/>
                      <a:pt x="914" y="5"/>
                    </a:cubicBezTo>
                    <a:lnTo>
                      <a:pt x="914" y="5"/>
                    </a:lnTo>
                    <a:cubicBezTo>
                      <a:pt x="913" y="5"/>
                      <a:pt x="912" y="4"/>
                      <a:pt x="912" y="3"/>
                    </a:cubicBezTo>
                    <a:cubicBezTo>
                      <a:pt x="912" y="1"/>
                      <a:pt x="913" y="1"/>
                      <a:pt x="914" y="1"/>
                    </a:cubicBezTo>
                    <a:close/>
                    <a:moveTo>
                      <a:pt x="922" y="1"/>
                    </a:moveTo>
                    <a:lnTo>
                      <a:pt x="922" y="1"/>
                    </a:lnTo>
                    <a:cubicBezTo>
                      <a:pt x="923" y="1"/>
                      <a:pt x="924" y="1"/>
                      <a:pt x="924" y="3"/>
                    </a:cubicBezTo>
                    <a:cubicBezTo>
                      <a:pt x="924" y="4"/>
                      <a:pt x="923" y="5"/>
                      <a:pt x="922" y="5"/>
                    </a:cubicBezTo>
                    <a:lnTo>
                      <a:pt x="922" y="5"/>
                    </a:lnTo>
                    <a:cubicBezTo>
                      <a:pt x="921" y="5"/>
                      <a:pt x="920" y="4"/>
                      <a:pt x="920" y="3"/>
                    </a:cubicBezTo>
                    <a:cubicBezTo>
                      <a:pt x="920" y="1"/>
                      <a:pt x="921" y="1"/>
                      <a:pt x="922" y="1"/>
                    </a:cubicBezTo>
                    <a:close/>
                    <a:moveTo>
                      <a:pt x="930" y="1"/>
                    </a:moveTo>
                    <a:lnTo>
                      <a:pt x="930" y="1"/>
                    </a:lnTo>
                    <a:cubicBezTo>
                      <a:pt x="931" y="1"/>
                      <a:pt x="932" y="1"/>
                      <a:pt x="932" y="3"/>
                    </a:cubicBezTo>
                    <a:cubicBezTo>
                      <a:pt x="932" y="4"/>
                      <a:pt x="931" y="5"/>
                      <a:pt x="930" y="5"/>
                    </a:cubicBezTo>
                    <a:lnTo>
                      <a:pt x="930" y="5"/>
                    </a:lnTo>
                    <a:cubicBezTo>
                      <a:pt x="929" y="5"/>
                      <a:pt x="928" y="4"/>
                      <a:pt x="928" y="3"/>
                    </a:cubicBezTo>
                    <a:cubicBezTo>
                      <a:pt x="928" y="1"/>
                      <a:pt x="929" y="1"/>
                      <a:pt x="930" y="1"/>
                    </a:cubicBezTo>
                    <a:close/>
                    <a:moveTo>
                      <a:pt x="938" y="1"/>
                    </a:moveTo>
                    <a:lnTo>
                      <a:pt x="938" y="1"/>
                    </a:lnTo>
                    <a:cubicBezTo>
                      <a:pt x="939" y="1"/>
                      <a:pt x="940" y="1"/>
                      <a:pt x="940" y="3"/>
                    </a:cubicBezTo>
                    <a:cubicBezTo>
                      <a:pt x="940" y="4"/>
                      <a:pt x="939" y="5"/>
                      <a:pt x="938" y="5"/>
                    </a:cubicBezTo>
                    <a:lnTo>
                      <a:pt x="938" y="5"/>
                    </a:lnTo>
                    <a:cubicBezTo>
                      <a:pt x="937" y="5"/>
                      <a:pt x="936" y="4"/>
                      <a:pt x="936" y="3"/>
                    </a:cubicBezTo>
                    <a:cubicBezTo>
                      <a:pt x="936" y="1"/>
                      <a:pt x="937" y="1"/>
                      <a:pt x="938" y="1"/>
                    </a:cubicBezTo>
                    <a:close/>
                    <a:moveTo>
                      <a:pt x="946" y="1"/>
                    </a:moveTo>
                    <a:lnTo>
                      <a:pt x="946" y="1"/>
                    </a:lnTo>
                    <a:cubicBezTo>
                      <a:pt x="947" y="1"/>
                      <a:pt x="948" y="1"/>
                      <a:pt x="948" y="3"/>
                    </a:cubicBezTo>
                    <a:cubicBezTo>
                      <a:pt x="948" y="4"/>
                      <a:pt x="947" y="5"/>
                      <a:pt x="946" y="5"/>
                    </a:cubicBezTo>
                    <a:lnTo>
                      <a:pt x="946" y="5"/>
                    </a:lnTo>
                    <a:cubicBezTo>
                      <a:pt x="945" y="5"/>
                      <a:pt x="944" y="4"/>
                      <a:pt x="944" y="3"/>
                    </a:cubicBezTo>
                    <a:cubicBezTo>
                      <a:pt x="944" y="1"/>
                      <a:pt x="945" y="1"/>
                      <a:pt x="946" y="1"/>
                    </a:cubicBezTo>
                    <a:close/>
                    <a:moveTo>
                      <a:pt x="954" y="1"/>
                    </a:moveTo>
                    <a:lnTo>
                      <a:pt x="954" y="1"/>
                    </a:lnTo>
                    <a:cubicBezTo>
                      <a:pt x="955" y="1"/>
                      <a:pt x="956" y="1"/>
                      <a:pt x="956" y="3"/>
                    </a:cubicBezTo>
                    <a:cubicBezTo>
                      <a:pt x="956" y="4"/>
                      <a:pt x="955" y="5"/>
                      <a:pt x="954" y="5"/>
                    </a:cubicBezTo>
                    <a:lnTo>
                      <a:pt x="954" y="5"/>
                    </a:lnTo>
                    <a:cubicBezTo>
                      <a:pt x="953" y="5"/>
                      <a:pt x="952" y="4"/>
                      <a:pt x="952" y="3"/>
                    </a:cubicBezTo>
                    <a:cubicBezTo>
                      <a:pt x="952" y="1"/>
                      <a:pt x="953" y="1"/>
                      <a:pt x="954" y="1"/>
                    </a:cubicBezTo>
                    <a:close/>
                    <a:moveTo>
                      <a:pt x="962" y="1"/>
                    </a:moveTo>
                    <a:lnTo>
                      <a:pt x="962" y="1"/>
                    </a:lnTo>
                    <a:cubicBezTo>
                      <a:pt x="963" y="1"/>
                      <a:pt x="964" y="1"/>
                      <a:pt x="964" y="3"/>
                    </a:cubicBezTo>
                    <a:cubicBezTo>
                      <a:pt x="964" y="4"/>
                      <a:pt x="963" y="5"/>
                      <a:pt x="962" y="5"/>
                    </a:cubicBezTo>
                    <a:lnTo>
                      <a:pt x="962" y="5"/>
                    </a:lnTo>
                    <a:cubicBezTo>
                      <a:pt x="961" y="5"/>
                      <a:pt x="960" y="4"/>
                      <a:pt x="960" y="3"/>
                    </a:cubicBezTo>
                    <a:cubicBezTo>
                      <a:pt x="960" y="1"/>
                      <a:pt x="961" y="1"/>
                      <a:pt x="962" y="1"/>
                    </a:cubicBezTo>
                    <a:close/>
                    <a:moveTo>
                      <a:pt x="970" y="1"/>
                    </a:moveTo>
                    <a:lnTo>
                      <a:pt x="970" y="1"/>
                    </a:lnTo>
                    <a:cubicBezTo>
                      <a:pt x="971" y="1"/>
                      <a:pt x="972" y="1"/>
                      <a:pt x="972" y="3"/>
                    </a:cubicBezTo>
                    <a:cubicBezTo>
                      <a:pt x="972" y="4"/>
                      <a:pt x="971" y="5"/>
                      <a:pt x="970" y="5"/>
                    </a:cubicBezTo>
                    <a:lnTo>
                      <a:pt x="970" y="5"/>
                    </a:lnTo>
                    <a:cubicBezTo>
                      <a:pt x="969" y="5"/>
                      <a:pt x="968" y="4"/>
                      <a:pt x="968" y="3"/>
                    </a:cubicBezTo>
                    <a:cubicBezTo>
                      <a:pt x="968" y="1"/>
                      <a:pt x="969" y="1"/>
                      <a:pt x="970" y="1"/>
                    </a:cubicBezTo>
                    <a:close/>
                    <a:moveTo>
                      <a:pt x="978" y="1"/>
                    </a:moveTo>
                    <a:lnTo>
                      <a:pt x="978" y="1"/>
                    </a:lnTo>
                    <a:cubicBezTo>
                      <a:pt x="979" y="1"/>
                      <a:pt x="980" y="1"/>
                      <a:pt x="980" y="3"/>
                    </a:cubicBezTo>
                    <a:cubicBezTo>
                      <a:pt x="980" y="4"/>
                      <a:pt x="979" y="5"/>
                      <a:pt x="978" y="5"/>
                    </a:cubicBezTo>
                    <a:lnTo>
                      <a:pt x="978" y="5"/>
                    </a:lnTo>
                    <a:cubicBezTo>
                      <a:pt x="977" y="5"/>
                      <a:pt x="976" y="4"/>
                      <a:pt x="976" y="3"/>
                    </a:cubicBezTo>
                    <a:cubicBezTo>
                      <a:pt x="976" y="1"/>
                      <a:pt x="977" y="1"/>
                      <a:pt x="978" y="1"/>
                    </a:cubicBezTo>
                    <a:close/>
                    <a:moveTo>
                      <a:pt x="986" y="1"/>
                    </a:moveTo>
                    <a:lnTo>
                      <a:pt x="986" y="1"/>
                    </a:lnTo>
                    <a:cubicBezTo>
                      <a:pt x="987" y="1"/>
                      <a:pt x="988" y="1"/>
                      <a:pt x="988" y="3"/>
                    </a:cubicBezTo>
                    <a:cubicBezTo>
                      <a:pt x="988" y="4"/>
                      <a:pt x="987" y="5"/>
                      <a:pt x="986" y="5"/>
                    </a:cubicBezTo>
                    <a:lnTo>
                      <a:pt x="986" y="5"/>
                    </a:lnTo>
                    <a:cubicBezTo>
                      <a:pt x="985" y="5"/>
                      <a:pt x="984" y="4"/>
                      <a:pt x="984" y="3"/>
                    </a:cubicBezTo>
                    <a:cubicBezTo>
                      <a:pt x="984" y="1"/>
                      <a:pt x="985" y="1"/>
                      <a:pt x="986" y="1"/>
                    </a:cubicBezTo>
                    <a:close/>
                    <a:moveTo>
                      <a:pt x="994" y="1"/>
                    </a:moveTo>
                    <a:lnTo>
                      <a:pt x="994" y="1"/>
                    </a:lnTo>
                    <a:cubicBezTo>
                      <a:pt x="995" y="1"/>
                      <a:pt x="996" y="1"/>
                      <a:pt x="996" y="3"/>
                    </a:cubicBezTo>
                    <a:cubicBezTo>
                      <a:pt x="996" y="4"/>
                      <a:pt x="995" y="5"/>
                      <a:pt x="994" y="5"/>
                    </a:cubicBezTo>
                    <a:lnTo>
                      <a:pt x="994" y="5"/>
                    </a:lnTo>
                    <a:cubicBezTo>
                      <a:pt x="993" y="5"/>
                      <a:pt x="992" y="4"/>
                      <a:pt x="992" y="3"/>
                    </a:cubicBezTo>
                    <a:cubicBezTo>
                      <a:pt x="992" y="1"/>
                      <a:pt x="993" y="1"/>
                      <a:pt x="994" y="1"/>
                    </a:cubicBezTo>
                    <a:close/>
                    <a:moveTo>
                      <a:pt x="1002" y="1"/>
                    </a:moveTo>
                    <a:lnTo>
                      <a:pt x="1002" y="1"/>
                    </a:lnTo>
                    <a:cubicBezTo>
                      <a:pt x="1003" y="1"/>
                      <a:pt x="1004" y="1"/>
                      <a:pt x="1004" y="3"/>
                    </a:cubicBezTo>
                    <a:cubicBezTo>
                      <a:pt x="1004" y="4"/>
                      <a:pt x="1003" y="5"/>
                      <a:pt x="1002" y="5"/>
                    </a:cubicBezTo>
                    <a:lnTo>
                      <a:pt x="1002" y="5"/>
                    </a:lnTo>
                    <a:cubicBezTo>
                      <a:pt x="1001" y="5"/>
                      <a:pt x="1000" y="4"/>
                      <a:pt x="1000" y="3"/>
                    </a:cubicBezTo>
                    <a:cubicBezTo>
                      <a:pt x="1000" y="1"/>
                      <a:pt x="1001" y="1"/>
                      <a:pt x="1002" y="1"/>
                    </a:cubicBezTo>
                    <a:close/>
                    <a:moveTo>
                      <a:pt x="1010" y="1"/>
                    </a:moveTo>
                    <a:lnTo>
                      <a:pt x="1010" y="1"/>
                    </a:lnTo>
                    <a:cubicBezTo>
                      <a:pt x="1011" y="1"/>
                      <a:pt x="1012" y="1"/>
                      <a:pt x="1012" y="3"/>
                    </a:cubicBezTo>
                    <a:cubicBezTo>
                      <a:pt x="1012" y="4"/>
                      <a:pt x="1011" y="5"/>
                      <a:pt x="1010" y="5"/>
                    </a:cubicBezTo>
                    <a:lnTo>
                      <a:pt x="1010" y="5"/>
                    </a:lnTo>
                    <a:cubicBezTo>
                      <a:pt x="1009" y="5"/>
                      <a:pt x="1008" y="4"/>
                      <a:pt x="1008" y="3"/>
                    </a:cubicBezTo>
                    <a:cubicBezTo>
                      <a:pt x="1008" y="1"/>
                      <a:pt x="1009" y="1"/>
                      <a:pt x="1010" y="1"/>
                    </a:cubicBezTo>
                    <a:close/>
                    <a:moveTo>
                      <a:pt x="1018" y="1"/>
                    </a:moveTo>
                    <a:lnTo>
                      <a:pt x="1018" y="1"/>
                    </a:lnTo>
                    <a:cubicBezTo>
                      <a:pt x="1019" y="1"/>
                      <a:pt x="1020" y="1"/>
                      <a:pt x="1020" y="3"/>
                    </a:cubicBezTo>
                    <a:cubicBezTo>
                      <a:pt x="1020" y="4"/>
                      <a:pt x="1019" y="5"/>
                      <a:pt x="1018" y="5"/>
                    </a:cubicBezTo>
                    <a:lnTo>
                      <a:pt x="1018" y="5"/>
                    </a:lnTo>
                    <a:cubicBezTo>
                      <a:pt x="1017" y="5"/>
                      <a:pt x="1016" y="4"/>
                      <a:pt x="1016" y="3"/>
                    </a:cubicBezTo>
                    <a:cubicBezTo>
                      <a:pt x="1016" y="1"/>
                      <a:pt x="1017" y="1"/>
                      <a:pt x="1018" y="1"/>
                    </a:cubicBezTo>
                    <a:close/>
                    <a:moveTo>
                      <a:pt x="1026" y="1"/>
                    </a:moveTo>
                    <a:lnTo>
                      <a:pt x="1026" y="1"/>
                    </a:lnTo>
                    <a:cubicBezTo>
                      <a:pt x="1027" y="1"/>
                      <a:pt x="1028" y="1"/>
                      <a:pt x="1028" y="3"/>
                    </a:cubicBezTo>
                    <a:cubicBezTo>
                      <a:pt x="1028" y="4"/>
                      <a:pt x="1027" y="5"/>
                      <a:pt x="1026" y="5"/>
                    </a:cubicBezTo>
                    <a:lnTo>
                      <a:pt x="1026" y="5"/>
                    </a:lnTo>
                    <a:cubicBezTo>
                      <a:pt x="1025" y="5"/>
                      <a:pt x="1024" y="4"/>
                      <a:pt x="1024" y="3"/>
                    </a:cubicBezTo>
                    <a:cubicBezTo>
                      <a:pt x="1024" y="1"/>
                      <a:pt x="1025" y="1"/>
                      <a:pt x="1026" y="1"/>
                    </a:cubicBezTo>
                    <a:close/>
                    <a:moveTo>
                      <a:pt x="1034" y="1"/>
                    </a:moveTo>
                    <a:lnTo>
                      <a:pt x="1034" y="1"/>
                    </a:lnTo>
                    <a:cubicBezTo>
                      <a:pt x="1035" y="1"/>
                      <a:pt x="1036" y="1"/>
                      <a:pt x="1036" y="3"/>
                    </a:cubicBezTo>
                    <a:cubicBezTo>
                      <a:pt x="1036" y="4"/>
                      <a:pt x="1035" y="5"/>
                      <a:pt x="1034" y="5"/>
                    </a:cubicBezTo>
                    <a:lnTo>
                      <a:pt x="1034" y="5"/>
                    </a:lnTo>
                    <a:cubicBezTo>
                      <a:pt x="1033" y="5"/>
                      <a:pt x="1032" y="4"/>
                      <a:pt x="1032" y="3"/>
                    </a:cubicBezTo>
                    <a:cubicBezTo>
                      <a:pt x="1032" y="1"/>
                      <a:pt x="1033" y="1"/>
                      <a:pt x="1034" y="1"/>
                    </a:cubicBezTo>
                    <a:close/>
                    <a:moveTo>
                      <a:pt x="1042" y="1"/>
                    </a:moveTo>
                    <a:lnTo>
                      <a:pt x="1042" y="1"/>
                    </a:lnTo>
                    <a:cubicBezTo>
                      <a:pt x="1043" y="1"/>
                      <a:pt x="1044" y="1"/>
                      <a:pt x="1044" y="3"/>
                    </a:cubicBezTo>
                    <a:cubicBezTo>
                      <a:pt x="1044" y="4"/>
                      <a:pt x="1043" y="5"/>
                      <a:pt x="1042" y="5"/>
                    </a:cubicBezTo>
                    <a:lnTo>
                      <a:pt x="1042" y="5"/>
                    </a:lnTo>
                    <a:cubicBezTo>
                      <a:pt x="1041" y="5"/>
                      <a:pt x="1040" y="4"/>
                      <a:pt x="1040" y="3"/>
                    </a:cubicBezTo>
                    <a:cubicBezTo>
                      <a:pt x="1040" y="1"/>
                      <a:pt x="1041" y="1"/>
                      <a:pt x="1042" y="1"/>
                    </a:cubicBezTo>
                    <a:close/>
                    <a:moveTo>
                      <a:pt x="1050" y="1"/>
                    </a:moveTo>
                    <a:lnTo>
                      <a:pt x="1050" y="1"/>
                    </a:lnTo>
                    <a:cubicBezTo>
                      <a:pt x="1051" y="1"/>
                      <a:pt x="1052" y="1"/>
                      <a:pt x="1052" y="3"/>
                    </a:cubicBezTo>
                    <a:cubicBezTo>
                      <a:pt x="1052" y="4"/>
                      <a:pt x="1051" y="5"/>
                      <a:pt x="1050" y="5"/>
                    </a:cubicBezTo>
                    <a:lnTo>
                      <a:pt x="1050" y="5"/>
                    </a:lnTo>
                    <a:cubicBezTo>
                      <a:pt x="1049" y="5"/>
                      <a:pt x="1048" y="4"/>
                      <a:pt x="1048" y="3"/>
                    </a:cubicBezTo>
                    <a:cubicBezTo>
                      <a:pt x="1048" y="1"/>
                      <a:pt x="1049" y="1"/>
                      <a:pt x="1050" y="1"/>
                    </a:cubicBezTo>
                    <a:close/>
                    <a:moveTo>
                      <a:pt x="1058" y="1"/>
                    </a:moveTo>
                    <a:lnTo>
                      <a:pt x="1058" y="1"/>
                    </a:lnTo>
                    <a:cubicBezTo>
                      <a:pt x="1059" y="1"/>
                      <a:pt x="1060" y="1"/>
                      <a:pt x="1060" y="3"/>
                    </a:cubicBezTo>
                    <a:cubicBezTo>
                      <a:pt x="1060" y="4"/>
                      <a:pt x="1059" y="5"/>
                      <a:pt x="1058" y="5"/>
                    </a:cubicBezTo>
                    <a:lnTo>
                      <a:pt x="1058" y="5"/>
                    </a:lnTo>
                    <a:cubicBezTo>
                      <a:pt x="1057" y="5"/>
                      <a:pt x="1056" y="4"/>
                      <a:pt x="1056" y="3"/>
                    </a:cubicBezTo>
                    <a:cubicBezTo>
                      <a:pt x="1056" y="1"/>
                      <a:pt x="1057" y="1"/>
                      <a:pt x="1058" y="1"/>
                    </a:cubicBezTo>
                    <a:close/>
                    <a:moveTo>
                      <a:pt x="1066" y="1"/>
                    </a:moveTo>
                    <a:lnTo>
                      <a:pt x="1066" y="1"/>
                    </a:lnTo>
                    <a:cubicBezTo>
                      <a:pt x="1067" y="1"/>
                      <a:pt x="1068" y="1"/>
                      <a:pt x="1068" y="3"/>
                    </a:cubicBezTo>
                    <a:cubicBezTo>
                      <a:pt x="1068" y="4"/>
                      <a:pt x="1067" y="5"/>
                      <a:pt x="1066" y="5"/>
                    </a:cubicBezTo>
                    <a:lnTo>
                      <a:pt x="1066" y="5"/>
                    </a:lnTo>
                    <a:cubicBezTo>
                      <a:pt x="1065" y="5"/>
                      <a:pt x="1064" y="4"/>
                      <a:pt x="1064" y="3"/>
                    </a:cubicBezTo>
                    <a:cubicBezTo>
                      <a:pt x="1064" y="1"/>
                      <a:pt x="1065" y="1"/>
                      <a:pt x="1066" y="1"/>
                    </a:cubicBezTo>
                    <a:close/>
                    <a:moveTo>
                      <a:pt x="1074" y="1"/>
                    </a:moveTo>
                    <a:lnTo>
                      <a:pt x="1074" y="1"/>
                    </a:lnTo>
                    <a:cubicBezTo>
                      <a:pt x="1075" y="1"/>
                      <a:pt x="1076" y="1"/>
                      <a:pt x="1076" y="3"/>
                    </a:cubicBezTo>
                    <a:cubicBezTo>
                      <a:pt x="1076" y="4"/>
                      <a:pt x="1075" y="5"/>
                      <a:pt x="1074" y="5"/>
                    </a:cubicBezTo>
                    <a:lnTo>
                      <a:pt x="1074" y="5"/>
                    </a:lnTo>
                    <a:cubicBezTo>
                      <a:pt x="1073" y="5"/>
                      <a:pt x="1072" y="4"/>
                      <a:pt x="1072" y="3"/>
                    </a:cubicBezTo>
                    <a:cubicBezTo>
                      <a:pt x="1072" y="1"/>
                      <a:pt x="1073" y="1"/>
                      <a:pt x="1074" y="1"/>
                    </a:cubicBezTo>
                    <a:close/>
                    <a:moveTo>
                      <a:pt x="1082" y="1"/>
                    </a:moveTo>
                    <a:lnTo>
                      <a:pt x="1082" y="1"/>
                    </a:lnTo>
                    <a:cubicBezTo>
                      <a:pt x="1083" y="1"/>
                      <a:pt x="1084" y="1"/>
                      <a:pt x="1084" y="3"/>
                    </a:cubicBezTo>
                    <a:cubicBezTo>
                      <a:pt x="1084" y="4"/>
                      <a:pt x="1083" y="5"/>
                      <a:pt x="1082" y="5"/>
                    </a:cubicBezTo>
                    <a:lnTo>
                      <a:pt x="1082" y="5"/>
                    </a:lnTo>
                    <a:cubicBezTo>
                      <a:pt x="1081" y="5"/>
                      <a:pt x="1080" y="4"/>
                      <a:pt x="1080" y="3"/>
                    </a:cubicBezTo>
                    <a:cubicBezTo>
                      <a:pt x="1080" y="1"/>
                      <a:pt x="1081" y="1"/>
                      <a:pt x="1082" y="1"/>
                    </a:cubicBezTo>
                    <a:close/>
                    <a:moveTo>
                      <a:pt x="1090" y="1"/>
                    </a:moveTo>
                    <a:lnTo>
                      <a:pt x="1090" y="1"/>
                    </a:lnTo>
                    <a:cubicBezTo>
                      <a:pt x="1091" y="1"/>
                      <a:pt x="1092" y="1"/>
                      <a:pt x="1092" y="3"/>
                    </a:cubicBezTo>
                    <a:cubicBezTo>
                      <a:pt x="1092" y="4"/>
                      <a:pt x="1091" y="5"/>
                      <a:pt x="1090" y="5"/>
                    </a:cubicBezTo>
                    <a:lnTo>
                      <a:pt x="1090" y="5"/>
                    </a:lnTo>
                    <a:cubicBezTo>
                      <a:pt x="1089" y="5"/>
                      <a:pt x="1088" y="4"/>
                      <a:pt x="1088" y="3"/>
                    </a:cubicBezTo>
                    <a:cubicBezTo>
                      <a:pt x="1088" y="1"/>
                      <a:pt x="1089" y="1"/>
                      <a:pt x="1090" y="1"/>
                    </a:cubicBezTo>
                    <a:close/>
                    <a:moveTo>
                      <a:pt x="1098" y="1"/>
                    </a:moveTo>
                    <a:lnTo>
                      <a:pt x="1098" y="1"/>
                    </a:lnTo>
                    <a:cubicBezTo>
                      <a:pt x="1099" y="1"/>
                      <a:pt x="1100" y="1"/>
                      <a:pt x="1100" y="3"/>
                    </a:cubicBezTo>
                    <a:cubicBezTo>
                      <a:pt x="1100" y="4"/>
                      <a:pt x="1099" y="5"/>
                      <a:pt x="1098" y="5"/>
                    </a:cubicBezTo>
                    <a:lnTo>
                      <a:pt x="1098" y="5"/>
                    </a:lnTo>
                    <a:cubicBezTo>
                      <a:pt x="1097" y="5"/>
                      <a:pt x="1096" y="4"/>
                      <a:pt x="1096" y="3"/>
                    </a:cubicBezTo>
                    <a:cubicBezTo>
                      <a:pt x="1096" y="1"/>
                      <a:pt x="1097" y="1"/>
                      <a:pt x="1098" y="1"/>
                    </a:cubicBezTo>
                    <a:close/>
                    <a:moveTo>
                      <a:pt x="1106" y="1"/>
                    </a:moveTo>
                    <a:lnTo>
                      <a:pt x="1106" y="1"/>
                    </a:lnTo>
                    <a:cubicBezTo>
                      <a:pt x="1107" y="1"/>
                      <a:pt x="1108" y="1"/>
                      <a:pt x="1108" y="3"/>
                    </a:cubicBezTo>
                    <a:cubicBezTo>
                      <a:pt x="1108" y="4"/>
                      <a:pt x="1107" y="5"/>
                      <a:pt x="1106" y="5"/>
                    </a:cubicBezTo>
                    <a:lnTo>
                      <a:pt x="1106" y="5"/>
                    </a:lnTo>
                    <a:cubicBezTo>
                      <a:pt x="1105" y="5"/>
                      <a:pt x="1104" y="4"/>
                      <a:pt x="1104" y="3"/>
                    </a:cubicBezTo>
                    <a:cubicBezTo>
                      <a:pt x="1104" y="1"/>
                      <a:pt x="1105" y="1"/>
                      <a:pt x="1106" y="1"/>
                    </a:cubicBezTo>
                    <a:close/>
                    <a:moveTo>
                      <a:pt x="1114" y="1"/>
                    </a:moveTo>
                    <a:lnTo>
                      <a:pt x="1114" y="1"/>
                    </a:lnTo>
                    <a:cubicBezTo>
                      <a:pt x="1115" y="1"/>
                      <a:pt x="1116" y="1"/>
                      <a:pt x="1116" y="3"/>
                    </a:cubicBezTo>
                    <a:cubicBezTo>
                      <a:pt x="1116" y="4"/>
                      <a:pt x="1115" y="5"/>
                      <a:pt x="1114" y="5"/>
                    </a:cubicBezTo>
                    <a:lnTo>
                      <a:pt x="1114" y="5"/>
                    </a:lnTo>
                    <a:cubicBezTo>
                      <a:pt x="1113" y="5"/>
                      <a:pt x="1112" y="4"/>
                      <a:pt x="1112" y="3"/>
                    </a:cubicBezTo>
                    <a:cubicBezTo>
                      <a:pt x="1112" y="1"/>
                      <a:pt x="1113" y="1"/>
                      <a:pt x="1114" y="1"/>
                    </a:cubicBezTo>
                    <a:close/>
                    <a:moveTo>
                      <a:pt x="1122" y="1"/>
                    </a:moveTo>
                    <a:lnTo>
                      <a:pt x="1122" y="1"/>
                    </a:lnTo>
                    <a:cubicBezTo>
                      <a:pt x="1123" y="1"/>
                      <a:pt x="1124" y="2"/>
                      <a:pt x="1124" y="3"/>
                    </a:cubicBezTo>
                    <a:cubicBezTo>
                      <a:pt x="1124" y="4"/>
                      <a:pt x="1123" y="5"/>
                      <a:pt x="1122" y="5"/>
                    </a:cubicBezTo>
                    <a:lnTo>
                      <a:pt x="1122" y="5"/>
                    </a:lnTo>
                    <a:cubicBezTo>
                      <a:pt x="1121" y="5"/>
                      <a:pt x="1120" y="4"/>
                      <a:pt x="1120" y="3"/>
                    </a:cubicBezTo>
                    <a:cubicBezTo>
                      <a:pt x="1120" y="2"/>
                      <a:pt x="1121" y="1"/>
                      <a:pt x="1122" y="1"/>
                    </a:cubicBezTo>
                    <a:close/>
                    <a:moveTo>
                      <a:pt x="1130" y="1"/>
                    </a:moveTo>
                    <a:lnTo>
                      <a:pt x="1130" y="1"/>
                    </a:lnTo>
                    <a:cubicBezTo>
                      <a:pt x="1131" y="1"/>
                      <a:pt x="1132" y="2"/>
                      <a:pt x="1132" y="3"/>
                    </a:cubicBezTo>
                    <a:cubicBezTo>
                      <a:pt x="1132" y="4"/>
                      <a:pt x="1131" y="5"/>
                      <a:pt x="1130" y="5"/>
                    </a:cubicBezTo>
                    <a:lnTo>
                      <a:pt x="1130" y="5"/>
                    </a:lnTo>
                    <a:cubicBezTo>
                      <a:pt x="1129" y="5"/>
                      <a:pt x="1128" y="4"/>
                      <a:pt x="1128" y="3"/>
                    </a:cubicBezTo>
                    <a:cubicBezTo>
                      <a:pt x="1128" y="2"/>
                      <a:pt x="1129" y="1"/>
                      <a:pt x="1130" y="1"/>
                    </a:cubicBezTo>
                    <a:close/>
                    <a:moveTo>
                      <a:pt x="1138" y="1"/>
                    </a:moveTo>
                    <a:lnTo>
                      <a:pt x="1138" y="1"/>
                    </a:lnTo>
                    <a:cubicBezTo>
                      <a:pt x="1139" y="1"/>
                      <a:pt x="1140" y="2"/>
                      <a:pt x="1140" y="3"/>
                    </a:cubicBezTo>
                    <a:cubicBezTo>
                      <a:pt x="1140" y="4"/>
                      <a:pt x="1139" y="5"/>
                      <a:pt x="1138" y="5"/>
                    </a:cubicBezTo>
                    <a:lnTo>
                      <a:pt x="1138" y="5"/>
                    </a:lnTo>
                    <a:cubicBezTo>
                      <a:pt x="1137" y="5"/>
                      <a:pt x="1136" y="4"/>
                      <a:pt x="1136" y="3"/>
                    </a:cubicBezTo>
                    <a:cubicBezTo>
                      <a:pt x="1136" y="2"/>
                      <a:pt x="1137" y="1"/>
                      <a:pt x="1138" y="1"/>
                    </a:cubicBezTo>
                    <a:close/>
                    <a:moveTo>
                      <a:pt x="1146" y="1"/>
                    </a:moveTo>
                    <a:lnTo>
                      <a:pt x="1146" y="1"/>
                    </a:lnTo>
                    <a:cubicBezTo>
                      <a:pt x="1147" y="1"/>
                      <a:pt x="1148" y="2"/>
                      <a:pt x="1148" y="3"/>
                    </a:cubicBezTo>
                    <a:cubicBezTo>
                      <a:pt x="1148" y="4"/>
                      <a:pt x="1147" y="5"/>
                      <a:pt x="1146" y="5"/>
                    </a:cubicBezTo>
                    <a:lnTo>
                      <a:pt x="1146" y="5"/>
                    </a:lnTo>
                    <a:cubicBezTo>
                      <a:pt x="1145" y="5"/>
                      <a:pt x="1144" y="4"/>
                      <a:pt x="1144" y="3"/>
                    </a:cubicBezTo>
                    <a:cubicBezTo>
                      <a:pt x="1144" y="2"/>
                      <a:pt x="1145" y="1"/>
                      <a:pt x="1146" y="1"/>
                    </a:cubicBezTo>
                    <a:close/>
                    <a:moveTo>
                      <a:pt x="1154" y="1"/>
                    </a:moveTo>
                    <a:lnTo>
                      <a:pt x="1154" y="1"/>
                    </a:lnTo>
                    <a:cubicBezTo>
                      <a:pt x="1155" y="1"/>
                      <a:pt x="1156" y="2"/>
                      <a:pt x="1156" y="3"/>
                    </a:cubicBezTo>
                    <a:cubicBezTo>
                      <a:pt x="1156" y="4"/>
                      <a:pt x="1155" y="5"/>
                      <a:pt x="1154" y="5"/>
                    </a:cubicBezTo>
                    <a:lnTo>
                      <a:pt x="1154" y="5"/>
                    </a:lnTo>
                    <a:cubicBezTo>
                      <a:pt x="1153" y="5"/>
                      <a:pt x="1152" y="4"/>
                      <a:pt x="1152" y="3"/>
                    </a:cubicBezTo>
                    <a:cubicBezTo>
                      <a:pt x="1152" y="2"/>
                      <a:pt x="1153" y="1"/>
                      <a:pt x="1154" y="1"/>
                    </a:cubicBezTo>
                    <a:close/>
                    <a:moveTo>
                      <a:pt x="1162" y="1"/>
                    </a:moveTo>
                    <a:lnTo>
                      <a:pt x="1162" y="1"/>
                    </a:lnTo>
                    <a:cubicBezTo>
                      <a:pt x="1163" y="1"/>
                      <a:pt x="1164" y="2"/>
                      <a:pt x="1164" y="3"/>
                    </a:cubicBezTo>
                    <a:cubicBezTo>
                      <a:pt x="1164" y="4"/>
                      <a:pt x="1163" y="5"/>
                      <a:pt x="1162" y="5"/>
                    </a:cubicBezTo>
                    <a:lnTo>
                      <a:pt x="1162" y="5"/>
                    </a:lnTo>
                    <a:cubicBezTo>
                      <a:pt x="1161" y="5"/>
                      <a:pt x="1160" y="4"/>
                      <a:pt x="1160" y="3"/>
                    </a:cubicBezTo>
                    <a:cubicBezTo>
                      <a:pt x="1160" y="2"/>
                      <a:pt x="1161" y="1"/>
                      <a:pt x="1162" y="1"/>
                    </a:cubicBezTo>
                    <a:close/>
                    <a:moveTo>
                      <a:pt x="1170" y="1"/>
                    </a:moveTo>
                    <a:lnTo>
                      <a:pt x="1170" y="1"/>
                    </a:lnTo>
                    <a:cubicBezTo>
                      <a:pt x="1171" y="1"/>
                      <a:pt x="1172" y="2"/>
                      <a:pt x="1172" y="3"/>
                    </a:cubicBezTo>
                    <a:cubicBezTo>
                      <a:pt x="1172" y="4"/>
                      <a:pt x="1171" y="5"/>
                      <a:pt x="1170" y="5"/>
                    </a:cubicBezTo>
                    <a:lnTo>
                      <a:pt x="1170" y="5"/>
                    </a:lnTo>
                    <a:cubicBezTo>
                      <a:pt x="1169" y="5"/>
                      <a:pt x="1168" y="4"/>
                      <a:pt x="1168" y="3"/>
                    </a:cubicBezTo>
                    <a:cubicBezTo>
                      <a:pt x="1168" y="2"/>
                      <a:pt x="1169" y="1"/>
                      <a:pt x="1170" y="1"/>
                    </a:cubicBezTo>
                    <a:close/>
                    <a:moveTo>
                      <a:pt x="1178" y="1"/>
                    </a:moveTo>
                    <a:lnTo>
                      <a:pt x="1178" y="1"/>
                    </a:lnTo>
                    <a:cubicBezTo>
                      <a:pt x="1179" y="1"/>
                      <a:pt x="1180" y="2"/>
                      <a:pt x="1180" y="3"/>
                    </a:cubicBezTo>
                    <a:cubicBezTo>
                      <a:pt x="1180" y="4"/>
                      <a:pt x="1179" y="5"/>
                      <a:pt x="1178" y="5"/>
                    </a:cubicBezTo>
                    <a:lnTo>
                      <a:pt x="1178" y="5"/>
                    </a:lnTo>
                    <a:cubicBezTo>
                      <a:pt x="1177" y="5"/>
                      <a:pt x="1176" y="4"/>
                      <a:pt x="1176" y="3"/>
                    </a:cubicBezTo>
                    <a:cubicBezTo>
                      <a:pt x="1176" y="2"/>
                      <a:pt x="1177" y="1"/>
                      <a:pt x="1178" y="1"/>
                    </a:cubicBezTo>
                    <a:close/>
                    <a:moveTo>
                      <a:pt x="1186" y="1"/>
                    </a:moveTo>
                    <a:lnTo>
                      <a:pt x="1186" y="1"/>
                    </a:lnTo>
                    <a:cubicBezTo>
                      <a:pt x="1187" y="1"/>
                      <a:pt x="1188" y="2"/>
                      <a:pt x="1188" y="3"/>
                    </a:cubicBezTo>
                    <a:cubicBezTo>
                      <a:pt x="1188" y="4"/>
                      <a:pt x="1187" y="5"/>
                      <a:pt x="1186" y="5"/>
                    </a:cubicBezTo>
                    <a:lnTo>
                      <a:pt x="1186" y="5"/>
                    </a:lnTo>
                    <a:cubicBezTo>
                      <a:pt x="1185" y="5"/>
                      <a:pt x="1184" y="4"/>
                      <a:pt x="1184" y="3"/>
                    </a:cubicBezTo>
                    <a:cubicBezTo>
                      <a:pt x="1184" y="2"/>
                      <a:pt x="1185" y="1"/>
                      <a:pt x="1186" y="1"/>
                    </a:cubicBezTo>
                    <a:close/>
                    <a:moveTo>
                      <a:pt x="1194" y="1"/>
                    </a:moveTo>
                    <a:lnTo>
                      <a:pt x="1194" y="1"/>
                    </a:lnTo>
                    <a:cubicBezTo>
                      <a:pt x="1195" y="1"/>
                      <a:pt x="1196" y="2"/>
                      <a:pt x="1196" y="3"/>
                    </a:cubicBezTo>
                    <a:cubicBezTo>
                      <a:pt x="1196" y="4"/>
                      <a:pt x="1195" y="5"/>
                      <a:pt x="1194" y="5"/>
                    </a:cubicBezTo>
                    <a:lnTo>
                      <a:pt x="1194" y="5"/>
                    </a:lnTo>
                    <a:cubicBezTo>
                      <a:pt x="1193" y="5"/>
                      <a:pt x="1192" y="4"/>
                      <a:pt x="1192" y="3"/>
                    </a:cubicBezTo>
                    <a:cubicBezTo>
                      <a:pt x="1192" y="2"/>
                      <a:pt x="1193" y="1"/>
                      <a:pt x="1194" y="1"/>
                    </a:cubicBezTo>
                    <a:close/>
                    <a:moveTo>
                      <a:pt x="1202" y="1"/>
                    </a:moveTo>
                    <a:lnTo>
                      <a:pt x="1202" y="1"/>
                    </a:lnTo>
                    <a:cubicBezTo>
                      <a:pt x="1203" y="1"/>
                      <a:pt x="1204" y="2"/>
                      <a:pt x="1204" y="3"/>
                    </a:cubicBezTo>
                    <a:cubicBezTo>
                      <a:pt x="1204" y="4"/>
                      <a:pt x="1203" y="5"/>
                      <a:pt x="1202" y="5"/>
                    </a:cubicBezTo>
                    <a:lnTo>
                      <a:pt x="1202" y="5"/>
                    </a:lnTo>
                    <a:cubicBezTo>
                      <a:pt x="1201" y="5"/>
                      <a:pt x="1200" y="4"/>
                      <a:pt x="1200" y="3"/>
                    </a:cubicBezTo>
                    <a:cubicBezTo>
                      <a:pt x="1200" y="2"/>
                      <a:pt x="1201" y="1"/>
                      <a:pt x="1202" y="1"/>
                    </a:cubicBezTo>
                    <a:close/>
                    <a:moveTo>
                      <a:pt x="1210" y="1"/>
                    </a:moveTo>
                    <a:lnTo>
                      <a:pt x="1210" y="1"/>
                    </a:lnTo>
                    <a:cubicBezTo>
                      <a:pt x="1212" y="1"/>
                      <a:pt x="1212" y="2"/>
                      <a:pt x="1212" y="3"/>
                    </a:cubicBezTo>
                    <a:cubicBezTo>
                      <a:pt x="1212" y="4"/>
                      <a:pt x="1212" y="5"/>
                      <a:pt x="1210" y="5"/>
                    </a:cubicBezTo>
                    <a:lnTo>
                      <a:pt x="1210" y="5"/>
                    </a:lnTo>
                    <a:cubicBezTo>
                      <a:pt x="1209" y="5"/>
                      <a:pt x="1208" y="4"/>
                      <a:pt x="1208" y="3"/>
                    </a:cubicBezTo>
                    <a:cubicBezTo>
                      <a:pt x="1208" y="2"/>
                      <a:pt x="1209" y="1"/>
                      <a:pt x="1210" y="1"/>
                    </a:cubicBezTo>
                    <a:close/>
                    <a:moveTo>
                      <a:pt x="1218" y="1"/>
                    </a:moveTo>
                    <a:lnTo>
                      <a:pt x="1218" y="1"/>
                    </a:lnTo>
                    <a:cubicBezTo>
                      <a:pt x="1220" y="1"/>
                      <a:pt x="1220" y="2"/>
                      <a:pt x="1220" y="3"/>
                    </a:cubicBezTo>
                    <a:cubicBezTo>
                      <a:pt x="1220" y="4"/>
                      <a:pt x="1220" y="5"/>
                      <a:pt x="1218" y="5"/>
                    </a:cubicBezTo>
                    <a:lnTo>
                      <a:pt x="1218" y="5"/>
                    </a:lnTo>
                    <a:cubicBezTo>
                      <a:pt x="1217" y="5"/>
                      <a:pt x="1216" y="4"/>
                      <a:pt x="1216" y="3"/>
                    </a:cubicBezTo>
                    <a:cubicBezTo>
                      <a:pt x="1216" y="2"/>
                      <a:pt x="1217" y="1"/>
                      <a:pt x="1218" y="1"/>
                    </a:cubicBezTo>
                    <a:close/>
                    <a:moveTo>
                      <a:pt x="1226" y="1"/>
                    </a:moveTo>
                    <a:lnTo>
                      <a:pt x="1226" y="1"/>
                    </a:lnTo>
                    <a:cubicBezTo>
                      <a:pt x="1228" y="1"/>
                      <a:pt x="1228" y="2"/>
                      <a:pt x="1228" y="3"/>
                    </a:cubicBezTo>
                    <a:cubicBezTo>
                      <a:pt x="1228" y="4"/>
                      <a:pt x="1228" y="5"/>
                      <a:pt x="1226" y="5"/>
                    </a:cubicBezTo>
                    <a:lnTo>
                      <a:pt x="1226" y="5"/>
                    </a:lnTo>
                    <a:cubicBezTo>
                      <a:pt x="1225" y="5"/>
                      <a:pt x="1224" y="4"/>
                      <a:pt x="1224" y="3"/>
                    </a:cubicBezTo>
                    <a:cubicBezTo>
                      <a:pt x="1224" y="2"/>
                      <a:pt x="1225" y="1"/>
                      <a:pt x="1226" y="1"/>
                    </a:cubicBezTo>
                    <a:close/>
                    <a:moveTo>
                      <a:pt x="1234" y="1"/>
                    </a:moveTo>
                    <a:lnTo>
                      <a:pt x="1234" y="1"/>
                    </a:lnTo>
                    <a:cubicBezTo>
                      <a:pt x="1236" y="1"/>
                      <a:pt x="1236" y="2"/>
                      <a:pt x="1236" y="3"/>
                    </a:cubicBezTo>
                    <a:cubicBezTo>
                      <a:pt x="1236" y="4"/>
                      <a:pt x="1236" y="5"/>
                      <a:pt x="1234" y="5"/>
                    </a:cubicBezTo>
                    <a:lnTo>
                      <a:pt x="1234" y="5"/>
                    </a:lnTo>
                    <a:cubicBezTo>
                      <a:pt x="1233" y="5"/>
                      <a:pt x="1232" y="4"/>
                      <a:pt x="1232" y="3"/>
                    </a:cubicBezTo>
                    <a:cubicBezTo>
                      <a:pt x="1232" y="2"/>
                      <a:pt x="1233" y="1"/>
                      <a:pt x="1234" y="1"/>
                    </a:cubicBezTo>
                    <a:close/>
                    <a:moveTo>
                      <a:pt x="1242" y="1"/>
                    </a:moveTo>
                    <a:lnTo>
                      <a:pt x="1242" y="1"/>
                    </a:lnTo>
                    <a:cubicBezTo>
                      <a:pt x="1244" y="1"/>
                      <a:pt x="1244" y="2"/>
                      <a:pt x="1244" y="3"/>
                    </a:cubicBezTo>
                    <a:cubicBezTo>
                      <a:pt x="1244" y="4"/>
                      <a:pt x="1244" y="5"/>
                      <a:pt x="1242" y="5"/>
                    </a:cubicBezTo>
                    <a:lnTo>
                      <a:pt x="1242" y="5"/>
                    </a:lnTo>
                    <a:cubicBezTo>
                      <a:pt x="1241" y="5"/>
                      <a:pt x="1240" y="4"/>
                      <a:pt x="1240" y="3"/>
                    </a:cubicBezTo>
                    <a:cubicBezTo>
                      <a:pt x="1240" y="2"/>
                      <a:pt x="1241" y="1"/>
                      <a:pt x="1242" y="1"/>
                    </a:cubicBezTo>
                    <a:close/>
                    <a:moveTo>
                      <a:pt x="1250" y="1"/>
                    </a:moveTo>
                    <a:lnTo>
                      <a:pt x="1250" y="1"/>
                    </a:lnTo>
                    <a:cubicBezTo>
                      <a:pt x="1252" y="1"/>
                      <a:pt x="1252" y="2"/>
                      <a:pt x="1252" y="3"/>
                    </a:cubicBezTo>
                    <a:cubicBezTo>
                      <a:pt x="1252" y="4"/>
                      <a:pt x="1252" y="5"/>
                      <a:pt x="1250" y="5"/>
                    </a:cubicBezTo>
                    <a:lnTo>
                      <a:pt x="1250" y="5"/>
                    </a:lnTo>
                    <a:cubicBezTo>
                      <a:pt x="1249" y="5"/>
                      <a:pt x="1248" y="4"/>
                      <a:pt x="1248" y="3"/>
                    </a:cubicBezTo>
                    <a:cubicBezTo>
                      <a:pt x="1248" y="2"/>
                      <a:pt x="1249" y="1"/>
                      <a:pt x="1250" y="1"/>
                    </a:cubicBezTo>
                    <a:close/>
                    <a:moveTo>
                      <a:pt x="1258" y="1"/>
                    </a:moveTo>
                    <a:lnTo>
                      <a:pt x="1258" y="1"/>
                    </a:lnTo>
                    <a:cubicBezTo>
                      <a:pt x="1260" y="1"/>
                      <a:pt x="1260" y="2"/>
                      <a:pt x="1260" y="3"/>
                    </a:cubicBezTo>
                    <a:cubicBezTo>
                      <a:pt x="1260" y="4"/>
                      <a:pt x="1260" y="5"/>
                      <a:pt x="1258" y="5"/>
                    </a:cubicBezTo>
                    <a:lnTo>
                      <a:pt x="1258" y="5"/>
                    </a:lnTo>
                    <a:cubicBezTo>
                      <a:pt x="1257" y="5"/>
                      <a:pt x="1256" y="4"/>
                      <a:pt x="1256" y="3"/>
                    </a:cubicBezTo>
                    <a:cubicBezTo>
                      <a:pt x="1256" y="2"/>
                      <a:pt x="1257" y="1"/>
                      <a:pt x="1258" y="1"/>
                    </a:cubicBezTo>
                    <a:close/>
                    <a:moveTo>
                      <a:pt x="1266" y="1"/>
                    </a:moveTo>
                    <a:lnTo>
                      <a:pt x="1266" y="1"/>
                    </a:lnTo>
                    <a:cubicBezTo>
                      <a:pt x="1268" y="1"/>
                      <a:pt x="1268" y="2"/>
                      <a:pt x="1268" y="3"/>
                    </a:cubicBezTo>
                    <a:cubicBezTo>
                      <a:pt x="1268" y="4"/>
                      <a:pt x="1268" y="5"/>
                      <a:pt x="1266" y="5"/>
                    </a:cubicBezTo>
                    <a:lnTo>
                      <a:pt x="1266" y="5"/>
                    </a:lnTo>
                    <a:cubicBezTo>
                      <a:pt x="1265" y="5"/>
                      <a:pt x="1264" y="4"/>
                      <a:pt x="1264" y="3"/>
                    </a:cubicBezTo>
                    <a:cubicBezTo>
                      <a:pt x="1264" y="2"/>
                      <a:pt x="1265" y="1"/>
                      <a:pt x="1266" y="1"/>
                    </a:cubicBezTo>
                    <a:close/>
                    <a:moveTo>
                      <a:pt x="1274" y="1"/>
                    </a:moveTo>
                    <a:lnTo>
                      <a:pt x="1274" y="1"/>
                    </a:lnTo>
                    <a:cubicBezTo>
                      <a:pt x="1276" y="1"/>
                      <a:pt x="1276" y="2"/>
                      <a:pt x="1276" y="3"/>
                    </a:cubicBezTo>
                    <a:cubicBezTo>
                      <a:pt x="1276" y="4"/>
                      <a:pt x="1276" y="5"/>
                      <a:pt x="1274" y="5"/>
                    </a:cubicBezTo>
                    <a:lnTo>
                      <a:pt x="1274" y="5"/>
                    </a:lnTo>
                    <a:cubicBezTo>
                      <a:pt x="1273" y="5"/>
                      <a:pt x="1272" y="4"/>
                      <a:pt x="1272" y="3"/>
                    </a:cubicBezTo>
                    <a:cubicBezTo>
                      <a:pt x="1272" y="2"/>
                      <a:pt x="1273" y="1"/>
                      <a:pt x="1274" y="1"/>
                    </a:cubicBezTo>
                    <a:close/>
                    <a:moveTo>
                      <a:pt x="1282" y="1"/>
                    </a:moveTo>
                    <a:lnTo>
                      <a:pt x="1282" y="1"/>
                    </a:lnTo>
                    <a:cubicBezTo>
                      <a:pt x="1284" y="1"/>
                      <a:pt x="1284" y="2"/>
                      <a:pt x="1284" y="3"/>
                    </a:cubicBezTo>
                    <a:cubicBezTo>
                      <a:pt x="1284" y="4"/>
                      <a:pt x="1284" y="5"/>
                      <a:pt x="1282" y="5"/>
                    </a:cubicBezTo>
                    <a:lnTo>
                      <a:pt x="1282" y="5"/>
                    </a:lnTo>
                    <a:cubicBezTo>
                      <a:pt x="1281" y="5"/>
                      <a:pt x="1280" y="4"/>
                      <a:pt x="1280" y="3"/>
                    </a:cubicBezTo>
                    <a:cubicBezTo>
                      <a:pt x="1280" y="2"/>
                      <a:pt x="1281" y="1"/>
                      <a:pt x="1282" y="1"/>
                    </a:cubicBezTo>
                    <a:close/>
                    <a:moveTo>
                      <a:pt x="1290" y="1"/>
                    </a:moveTo>
                    <a:lnTo>
                      <a:pt x="1290" y="1"/>
                    </a:lnTo>
                    <a:cubicBezTo>
                      <a:pt x="1292" y="1"/>
                      <a:pt x="1292" y="2"/>
                      <a:pt x="1292" y="3"/>
                    </a:cubicBezTo>
                    <a:cubicBezTo>
                      <a:pt x="1292" y="4"/>
                      <a:pt x="1292" y="5"/>
                      <a:pt x="1290" y="5"/>
                    </a:cubicBezTo>
                    <a:lnTo>
                      <a:pt x="1290" y="5"/>
                    </a:lnTo>
                    <a:cubicBezTo>
                      <a:pt x="1289" y="5"/>
                      <a:pt x="1288" y="4"/>
                      <a:pt x="1288" y="3"/>
                    </a:cubicBezTo>
                    <a:cubicBezTo>
                      <a:pt x="1288" y="2"/>
                      <a:pt x="1289" y="1"/>
                      <a:pt x="1290" y="1"/>
                    </a:cubicBezTo>
                    <a:close/>
                    <a:moveTo>
                      <a:pt x="1298" y="1"/>
                    </a:moveTo>
                    <a:lnTo>
                      <a:pt x="1298" y="1"/>
                    </a:lnTo>
                    <a:cubicBezTo>
                      <a:pt x="1300" y="1"/>
                      <a:pt x="1300" y="2"/>
                      <a:pt x="1300" y="3"/>
                    </a:cubicBezTo>
                    <a:cubicBezTo>
                      <a:pt x="1300" y="4"/>
                      <a:pt x="1300" y="5"/>
                      <a:pt x="1298" y="5"/>
                    </a:cubicBezTo>
                    <a:lnTo>
                      <a:pt x="1298" y="5"/>
                    </a:lnTo>
                    <a:cubicBezTo>
                      <a:pt x="1297" y="5"/>
                      <a:pt x="1296" y="4"/>
                      <a:pt x="1296" y="3"/>
                    </a:cubicBezTo>
                    <a:cubicBezTo>
                      <a:pt x="1296" y="2"/>
                      <a:pt x="1297" y="1"/>
                      <a:pt x="1298" y="1"/>
                    </a:cubicBezTo>
                    <a:close/>
                    <a:moveTo>
                      <a:pt x="1306" y="1"/>
                    </a:moveTo>
                    <a:lnTo>
                      <a:pt x="1306" y="1"/>
                    </a:lnTo>
                    <a:cubicBezTo>
                      <a:pt x="1308" y="1"/>
                      <a:pt x="1308" y="2"/>
                      <a:pt x="1308" y="3"/>
                    </a:cubicBezTo>
                    <a:cubicBezTo>
                      <a:pt x="1308" y="4"/>
                      <a:pt x="1308" y="5"/>
                      <a:pt x="1306" y="5"/>
                    </a:cubicBezTo>
                    <a:lnTo>
                      <a:pt x="1306" y="5"/>
                    </a:lnTo>
                    <a:cubicBezTo>
                      <a:pt x="1305" y="5"/>
                      <a:pt x="1304" y="4"/>
                      <a:pt x="1304" y="3"/>
                    </a:cubicBezTo>
                    <a:cubicBezTo>
                      <a:pt x="1304" y="2"/>
                      <a:pt x="1305" y="1"/>
                      <a:pt x="1306" y="1"/>
                    </a:cubicBezTo>
                    <a:close/>
                    <a:moveTo>
                      <a:pt x="1314" y="1"/>
                    </a:moveTo>
                    <a:lnTo>
                      <a:pt x="1314" y="1"/>
                    </a:lnTo>
                    <a:cubicBezTo>
                      <a:pt x="1316" y="1"/>
                      <a:pt x="1316" y="2"/>
                      <a:pt x="1316" y="3"/>
                    </a:cubicBezTo>
                    <a:cubicBezTo>
                      <a:pt x="1316" y="4"/>
                      <a:pt x="1316" y="5"/>
                      <a:pt x="1314" y="5"/>
                    </a:cubicBezTo>
                    <a:lnTo>
                      <a:pt x="1314" y="5"/>
                    </a:lnTo>
                    <a:cubicBezTo>
                      <a:pt x="1313" y="5"/>
                      <a:pt x="1312" y="4"/>
                      <a:pt x="1312" y="3"/>
                    </a:cubicBezTo>
                    <a:cubicBezTo>
                      <a:pt x="1312" y="2"/>
                      <a:pt x="1313" y="1"/>
                      <a:pt x="1314" y="1"/>
                    </a:cubicBezTo>
                    <a:close/>
                    <a:moveTo>
                      <a:pt x="1322" y="1"/>
                    </a:moveTo>
                    <a:lnTo>
                      <a:pt x="1322" y="1"/>
                    </a:lnTo>
                    <a:cubicBezTo>
                      <a:pt x="1324" y="1"/>
                      <a:pt x="1324" y="2"/>
                      <a:pt x="1324" y="3"/>
                    </a:cubicBezTo>
                    <a:cubicBezTo>
                      <a:pt x="1324" y="4"/>
                      <a:pt x="1324" y="5"/>
                      <a:pt x="1322" y="5"/>
                    </a:cubicBezTo>
                    <a:lnTo>
                      <a:pt x="1322" y="5"/>
                    </a:lnTo>
                    <a:cubicBezTo>
                      <a:pt x="1321" y="5"/>
                      <a:pt x="1320" y="4"/>
                      <a:pt x="1320" y="3"/>
                    </a:cubicBezTo>
                    <a:cubicBezTo>
                      <a:pt x="1320" y="2"/>
                      <a:pt x="1321" y="1"/>
                      <a:pt x="1322" y="1"/>
                    </a:cubicBezTo>
                    <a:close/>
                    <a:moveTo>
                      <a:pt x="1330" y="1"/>
                    </a:moveTo>
                    <a:lnTo>
                      <a:pt x="1330" y="1"/>
                    </a:lnTo>
                    <a:cubicBezTo>
                      <a:pt x="1332" y="1"/>
                      <a:pt x="1332" y="2"/>
                      <a:pt x="1332" y="3"/>
                    </a:cubicBezTo>
                    <a:cubicBezTo>
                      <a:pt x="1332" y="4"/>
                      <a:pt x="1332" y="5"/>
                      <a:pt x="1330" y="5"/>
                    </a:cubicBezTo>
                    <a:lnTo>
                      <a:pt x="1330" y="5"/>
                    </a:lnTo>
                    <a:cubicBezTo>
                      <a:pt x="1329" y="5"/>
                      <a:pt x="1328" y="4"/>
                      <a:pt x="1328" y="3"/>
                    </a:cubicBezTo>
                    <a:cubicBezTo>
                      <a:pt x="1328" y="2"/>
                      <a:pt x="1329" y="1"/>
                      <a:pt x="1330" y="1"/>
                    </a:cubicBezTo>
                    <a:close/>
                    <a:moveTo>
                      <a:pt x="1338" y="1"/>
                    </a:moveTo>
                    <a:lnTo>
                      <a:pt x="1338" y="1"/>
                    </a:lnTo>
                    <a:cubicBezTo>
                      <a:pt x="1340" y="1"/>
                      <a:pt x="1340" y="2"/>
                      <a:pt x="1340" y="3"/>
                    </a:cubicBezTo>
                    <a:cubicBezTo>
                      <a:pt x="1340" y="4"/>
                      <a:pt x="1340" y="5"/>
                      <a:pt x="1338" y="5"/>
                    </a:cubicBezTo>
                    <a:lnTo>
                      <a:pt x="1338" y="5"/>
                    </a:lnTo>
                    <a:cubicBezTo>
                      <a:pt x="1337" y="5"/>
                      <a:pt x="1336" y="4"/>
                      <a:pt x="1336" y="3"/>
                    </a:cubicBezTo>
                    <a:cubicBezTo>
                      <a:pt x="1336" y="2"/>
                      <a:pt x="1337" y="1"/>
                      <a:pt x="1338" y="1"/>
                    </a:cubicBezTo>
                    <a:close/>
                    <a:moveTo>
                      <a:pt x="1346" y="1"/>
                    </a:moveTo>
                    <a:lnTo>
                      <a:pt x="1346" y="1"/>
                    </a:lnTo>
                    <a:cubicBezTo>
                      <a:pt x="1348" y="1"/>
                      <a:pt x="1348" y="2"/>
                      <a:pt x="1348" y="3"/>
                    </a:cubicBezTo>
                    <a:cubicBezTo>
                      <a:pt x="1348" y="4"/>
                      <a:pt x="1348" y="5"/>
                      <a:pt x="1346" y="5"/>
                    </a:cubicBezTo>
                    <a:lnTo>
                      <a:pt x="1346" y="5"/>
                    </a:lnTo>
                    <a:cubicBezTo>
                      <a:pt x="1345" y="5"/>
                      <a:pt x="1344" y="4"/>
                      <a:pt x="1344" y="3"/>
                    </a:cubicBezTo>
                    <a:cubicBezTo>
                      <a:pt x="1344" y="2"/>
                      <a:pt x="1345" y="1"/>
                      <a:pt x="1346" y="1"/>
                    </a:cubicBezTo>
                    <a:close/>
                    <a:moveTo>
                      <a:pt x="1354" y="1"/>
                    </a:moveTo>
                    <a:lnTo>
                      <a:pt x="1354" y="1"/>
                    </a:lnTo>
                    <a:cubicBezTo>
                      <a:pt x="1356" y="1"/>
                      <a:pt x="1356" y="2"/>
                      <a:pt x="1356" y="3"/>
                    </a:cubicBezTo>
                    <a:cubicBezTo>
                      <a:pt x="1356" y="4"/>
                      <a:pt x="1356" y="5"/>
                      <a:pt x="1354" y="5"/>
                    </a:cubicBezTo>
                    <a:lnTo>
                      <a:pt x="1354" y="5"/>
                    </a:lnTo>
                    <a:cubicBezTo>
                      <a:pt x="1353" y="5"/>
                      <a:pt x="1352" y="4"/>
                      <a:pt x="1352" y="3"/>
                    </a:cubicBezTo>
                    <a:cubicBezTo>
                      <a:pt x="1352" y="2"/>
                      <a:pt x="1353" y="1"/>
                      <a:pt x="1354" y="1"/>
                    </a:cubicBezTo>
                    <a:close/>
                    <a:moveTo>
                      <a:pt x="1362" y="1"/>
                    </a:moveTo>
                    <a:lnTo>
                      <a:pt x="1362" y="1"/>
                    </a:lnTo>
                    <a:cubicBezTo>
                      <a:pt x="1364" y="1"/>
                      <a:pt x="1364" y="2"/>
                      <a:pt x="1364" y="3"/>
                    </a:cubicBezTo>
                    <a:cubicBezTo>
                      <a:pt x="1364" y="4"/>
                      <a:pt x="1364" y="5"/>
                      <a:pt x="1362" y="5"/>
                    </a:cubicBezTo>
                    <a:lnTo>
                      <a:pt x="1362" y="5"/>
                    </a:lnTo>
                    <a:cubicBezTo>
                      <a:pt x="1361" y="5"/>
                      <a:pt x="1360" y="4"/>
                      <a:pt x="1360" y="3"/>
                    </a:cubicBezTo>
                    <a:cubicBezTo>
                      <a:pt x="1360" y="2"/>
                      <a:pt x="1361" y="1"/>
                      <a:pt x="1362" y="1"/>
                    </a:cubicBezTo>
                    <a:close/>
                    <a:moveTo>
                      <a:pt x="1370" y="1"/>
                    </a:moveTo>
                    <a:lnTo>
                      <a:pt x="1370" y="1"/>
                    </a:lnTo>
                    <a:cubicBezTo>
                      <a:pt x="1372" y="1"/>
                      <a:pt x="1372" y="2"/>
                      <a:pt x="1372" y="3"/>
                    </a:cubicBezTo>
                    <a:cubicBezTo>
                      <a:pt x="1372" y="4"/>
                      <a:pt x="1372" y="5"/>
                      <a:pt x="1370" y="5"/>
                    </a:cubicBezTo>
                    <a:lnTo>
                      <a:pt x="1370" y="5"/>
                    </a:lnTo>
                    <a:cubicBezTo>
                      <a:pt x="1369" y="5"/>
                      <a:pt x="1368" y="4"/>
                      <a:pt x="1368" y="3"/>
                    </a:cubicBezTo>
                    <a:cubicBezTo>
                      <a:pt x="1368" y="2"/>
                      <a:pt x="1369" y="1"/>
                      <a:pt x="1370" y="1"/>
                    </a:cubicBezTo>
                    <a:close/>
                    <a:moveTo>
                      <a:pt x="1378" y="1"/>
                    </a:moveTo>
                    <a:lnTo>
                      <a:pt x="1378" y="1"/>
                    </a:lnTo>
                    <a:cubicBezTo>
                      <a:pt x="1380" y="1"/>
                      <a:pt x="1380" y="2"/>
                      <a:pt x="1380" y="3"/>
                    </a:cubicBezTo>
                    <a:cubicBezTo>
                      <a:pt x="1380" y="4"/>
                      <a:pt x="1380" y="5"/>
                      <a:pt x="1378" y="5"/>
                    </a:cubicBezTo>
                    <a:lnTo>
                      <a:pt x="1378" y="5"/>
                    </a:lnTo>
                    <a:cubicBezTo>
                      <a:pt x="1377" y="5"/>
                      <a:pt x="1376" y="4"/>
                      <a:pt x="1376" y="3"/>
                    </a:cubicBezTo>
                    <a:cubicBezTo>
                      <a:pt x="1376" y="2"/>
                      <a:pt x="1377" y="1"/>
                      <a:pt x="1378" y="1"/>
                    </a:cubicBezTo>
                    <a:close/>
                    <a:moveTo>
                      <a:pt x="1386" y="1"/>
                    </a:moveTo>
                    <a:lnTo>
                      <a:pt x="1386" y="1"/>
                    </a:lnTo>
                    <a:cubicBezTo>
                      <a:pt x="1388" y="1"/>
                      <a:pt x="1388" y="2"/>
                      <a:pt x="1388" y="3"/>
                    </a:cubicBezTo>
                    <a:cubicBezTo>
                      <a:pt x="1388" y="4"/>
                      <a:pt x="1388" y="5"/>
                      <a:pt x="1386" y="5"/>
                    </a:cubicBezTo>
                    <a:lnTo>
                      <a:pt x="1386" y="5"/>
                    </a:lnTo>
                    <a:cubicBezTo>
                      <a:pt x="1385" y="5"/>
                      <a:pt x="1384" y="4"/>
                      <a:pt x="1384" y="3"/>
                    </a:cubicBezTo>
                    <a:cubicBezTo>
                      <a:pt x="1384" y="2"/>
                      <a:pt x="1385" y="1"/>
                      <a:pt x="1386" y="1"/>
                    </a:cubicBezTo>
                    <a:close/>
                    <a:moveTo>
                      <a:pt x="1394" y="1"/>
                    </a:moveTo>
                    <a:lnTo>
                      <a:pt x="1394" y="1"/>
                    </a:lnTo>
                    <a:cubicBezTo>
                      <a:pt x="1396" y="1"/>
                      <a:pt x="1396" y="2"/>
                      <a:pt x="1396" y="3"/>
                    </a:cubicBezTo>
                    <a:cubicBezTo>
                      <a:pt x="1396" y="4"/>
                      <a:pt x="1396" y="5"/>
                      <a:pt x="1394" y="5"/>
                    </a:cubicBezTo>
                    <a:lnTo>
                      <a:pt x="1394" y="5"/>
                    </a:lnTo>
                    <a:cubicBezTo>
                      <a:pt x="1393" y="5"/>
                      <a:pt x="1392" y="4"/>
                      <a:pt x="1392" y="3"/>
                    </a:cubicBezTo>
                    <a:cubicBezTo>
                      <a:pt x="1392" y="2"/>
                      <a:pt x="1393" y="1"/>
                      <a:pt x="1394" y="1"/>
                    </a:cubicBezTo>
                    <a:close/>
                    <a:moveTo>
                      <a:pt x="1402" y="1"/>
                    </a:moveTo>
                    <a:lnTo>
                      <a:pt x="1402" y="1"/>
                    </a:lnTo>
                    <a:cubicBezTo>
                      <a:pt x="1404" y="1"/>
                      <a:pt x="1404" y="2"/>
                      <a:pt x="1404" y="3"/>
                    </a:cubicBezTo>
                    <a:cubicBezTo>
                      <a:pt x="1404" y="4"/>
                      <a:pt x="1404" y="5"/>
                      <a:pt x="1402" y="5"/>
                    </a:cubicBezTo>
                    <a:lnTo>
                      <a:pt x="1402" y="5"/>
                    </a:lnTo>
                    <a:cubicBezTo>
                      <a:pt x="1401" y="5"/>
                      <a:pt x="1400" y="4"/>
                      <a:pt x="1400" y="3"/>
                    </a:cubicBezTo>
                    <a:cubicBezTo>
                      <a:pt x="1400" y="2"/>
                      <a:pt x="1401" y="1"/>
                      <a:pt x="1402" y="1"/>
                    </a:cubicBezTo>
                    <a:close/>
                    <a:moveTo>
                      <a:pt x="1410" y="1"/>
                    </a:moveTo>
                    <a:lnTo>
                      <a:pt x="1410" y="1"/>
                    </a:lnTo>
                    <a:cubicBezTo>
                      <a:pt x="1412" y="1"/>
                      <a:pt x="1412" y="2"/>
                      <a:pt x="1412" y="3"/>
                    </a:cubicBezTo>
                    <a:cubicBezTo>
                      <a:pt x="1412" y="4"/>
                      <a:pt x="1412" y="5"/>
                      <a:pt x="1410" y="5"/>
                    </a:cubicBezTo>
                    <a:lnTo>
                      <a:pt x="1410" y="5"/>
                    </a:lnTo>
                    <a:cubicBezTo>
                      <a:pt x="1409" y="5"/>
                      <a:pt x="1408" y="4"/>
                      <a:pt x="1408" y="3"/>
                    </a:cubicBezTo>
                    <a:cubicBezTo>
                      <a:pt x="1408" y="2"/>
                      <a:pt x="1409" y="1"/>
                      <a:pt x="1410" y="1"/>
                    </a:cubicBezTo>
                    <a:close/>
                    <a:moveTo>
                      <a:pt x="1418" y="1"/>
                    </a:moveTo>
                    <a:lnTo>
                      <a:pt x="1418" y="1"/>
                    </a:lnTo>
                    <a:cubicBezTo>
                      <a:pt x="1420" y="1"/>
                      <a:pt x="1420" y="2"/>
                      <a:pt x="1420" y="3"/>
                    </a:cubicBezTo>
                    <a:cubicBezTo>
                      <a:pt x="1420" y="4"/>
                      <a:pt x="1420" y="5"/>
                      <a:pt x="1418" y="5"/>
                    </a:cubicBezTo>
                    <a:lnTo>
                      <a:pt x="1418" y="5"/>
                    </a:lnTo>
                    <a:cubicBezTo>
                      <a:pt x="1417" y="5"/>
                      <a:pt x="1416" y="4"/>
                      <a:pt x="1416" y="3"/>
                    </a:cubicBezTo>
                    <a:cubicBezTo>
                      <a:pt x="1416" y="2"/>
                      <a:pt x="1417" y="1"/>
                      <a:pt x="1418" y="1"/>
                    </a:cubicBezTo>
                    <a:close/>
                    <a:moveTo>
                      <a:pt x="1426" y="1"/>
                    </a:moveTo>
                    <a:lnTo>
                      <a:pt x="1427" y="1"/>
                    </a:lnTo>
                    <a:cubicBezTo>
                      <a:pt x="1428" y="1"/>
                      <a:pt x="1429" y="2"/>
                      <a:pt x="1429" y="3"/>
                    </a:cubicBezTo>
                    <a:cubicBezTo>
                      <a:pt x="1429" y="4"/>
                      <a:pt x="1428" y="5"/>
                      <a:pt x="1427" y="5"/>
                    </a:cubicBezTo>
                    <a:lnTo>
                      <a:pt x="1426" y="5"/>
                    </a:lnTo>
                    <a:cubicBezTo>
                      <a:pt x="1425" y="5"/>
                      <a:pt x="1424" y="4"/>
                      <a:pt x="1424" y="3"/>
                    </a:cubicBezTo>
                    <a:cubicBezTo>
                      <a:pt x="1424" y="2"/>
                      <a:pt x="1425" y="1"/>
                      <a:pt x="1426" y="1"/>
                    </a:cubicBezTo>
                    <a:close/>
                    <a:moveTo>
                      <a:pt x="1435" y="1"/>
                    </a:moveTo>
                    <a:lnTo>
                      <a:pt x="1435" y="1"/>
                    </a:lnTo>
                    <a:cubicBezTo>
                      <a:pt x="1436" y="1"/>
                      <a:pt x="1437" y="2"/>
                      <a:pt x="1437" y="3"/>
                    </a:cubicBezTo>
                    <a:cubicBezTo>
                      <a:pt x="1437" y="4"/>
                      <a:pt x="1436" y="5"/>
                      <a:pt x="1435" y="5"/>
                    </a:cubicBezTo>
                    <a:lnTo>
                      <a:pt x="1435" y="5"/>
                    </a:lnTo>
                    <a:cubicBezTo>
                      <a:pt x="1433" y="5"/>
                      <a:pt x="1433" y="4"/>
                      <a:pt x="1433" y="3"/>
                    </a:cubicBezTo>
                    <a:cubicBezTo>
                      <a:pt x="1433" y="2"/>
                      <a:pt x="1433" y="1"/>
                      <a:pt x="1435" y="1"/>
                    </a:cubicBezTo>
                    <a:close/>
                    <a:moveTo>
                      <a:pt x="1443" y="1"/>
                    </a:moveTo>
                    <a:lnTo>
                      <a:pt x="1443" y="1"/>
                    </a:lnTo>
                    <a:cubicBezTo>
                      <a:pt x="1444" y="1"/>
                      <a:pt x="1445" y="2"/>
                      <a:pt x="1445" y="3"/>
                    </a:cubicBezTo>
                    <a:cubicBezTo>
                      <a:pt x="1445" y="4"/>
                      <a:pt x="1444" y="5"/>
                      <a:pt x="1443" y="5"/>
                    </a:cubicBezTo>
                    <a:lnTo>
                      <a:pt x="1443" y="5"/>
                    </a:lnTo>
                    <a:cubicBezTo>
                      <a:pt x="1441" y="5"/>
                      <a:pt x="1441" y="4"/>
                      <a:pt x="1441" y="3"/>
                    </a:cubicBezTo>
                    <a:cubicBezTo>
                      <a:pt x="1441" y="2"/>
                      <a:pt x="1441" y="1"/>
                      <a:pt x="1443" y="1"/>
                    </a:cubicBezTo>
                    <a:close/>
                    <a:moveTo>
                      <a:pt x="1451" y="1"/>
                    </a:moveTo>
                    <a:lnTo>
                      <a:pt x="1451" y="1"/>
                    </a:lnTo>
                    <a:cubicBezTo>
                      <a:pt x="1452" y="1"/>
                      <a:pt x="1453" y="2"/>
                      <a:pt x="1453" y="3"/>
                    </a:cubicBezTo>
                    <a:cubicBezTo>
                      <a:pt x="1453" y="4"/>
                      <a:pt x="1452" y="5"/>
                      <a:pt x="1451" y="5"/>
                    </a:cubicBezTo>
                    <a:lnTo>
                      <a:pt x="1451" y="5"/>
                    </a:lnTo>
                    <a:cubicBezTo>
                      <a:pt x="1449" y="5"/>
                      <a:pt x="1449" y="4"/>
                      <a:pt x="1449" y="3"/>
                    </a:cubicBezTo>
                    <a:cubicBezTo>
                      <a:pt x="1449" y="2"/>
                      <a:pt x="1449" y="1"/>
                      <a:pt x="1451" y="1"/>
                    </a:cubicBezTo>
                    <a:close/>
                    <a:moveTo>
                      <a:pt x="1459" y="1"/>
                    </a:moveTo>
                    <a:lnTo>
                      <a:pt x="1459" y="1"/>
                    </a:lnTo>
                    <a:cubicBezTo>
                      <a:pt x="1460" y="1"/>
                      <a:pt x="1461" y="2"/>
                      <a:pt x="1461" y="3"/>
                    </a:cubicBezTo>
                    <a:cubicBezTo>
                      <a:pt x="1461" y="4"/>
                      <a:pt x="1460" y="5"/>
                      <a:pt x="1459" y="5"/>
                    </a:cubicBezTo>
                    <a:lnTo>
                      <a:pt x="1459" y="5"/>
                    </a:lnTo>
                    <a:cubicBezTo>
                      <a:pt x="1457" y="5"/>
                      <a:pt x="1457" y="4"/>
                      <a:pt x="1457" y="3"/>
                    </a:cubicBezTo>
                    <a:cubicBezTo>
                      <a:pt x="1457" y="2"/>
                      <a:pt x="1457" y="1"/>
                      <a:pt x="1459" y="1"/>
                    </a:cubicBezTo>
                    <a:close/>
                    <a:moveTo>
                      <a:pt x="1467" y="1"/>
                    </a:moveTo>
                    <a:lnTo>
                      <a:pt x="1467" y="1"/>
                    </a:lnTo>
                    <a:cubicBezTo>
                      <a:pt x="1468" y="1"/>
                      <a:pt x="1469" y="2"/>
                      <a:pt x="1469" y="3"/>
                    </a:cubicBezTo>
                    <a:cubicBezTo>
                      <a:pt x="1469" y="4"/>
                      <a:pt x="1468" y="5"/>
                      <a:pt x="1467" y="5"/>
                    </a:cubicBezTo>
                    <a:lnTo>
                      <a:pt x="1467" y="5"/>
                    </a:lnTo>
                    <a:cubicBezTo>
                      <a:pt x="1465" y="5"/>
                      <a:pt x="1465" y="4"/>
                      <a:pt x="1465" y="3"/>
                    </a:cubicBezTo>
                    <a:cubicBezTo>
                      <a:pt x="1465" y="2"/>
                      <a:pt x="1465" y="1"/>
                      <a:pt x="1467" y="1"/>
                    </a:cubicBezTo>
                    <a:close/>
                    <a:moveTo>
                      <a:pt x="1475" y="1"/>
                    </a:moveTo>
                    <a:lnTo>
                      <a:pt x="1475" y="1"/>
                    </a:lnTo>
                    <a:cubicBezTo>
                      <a:pt x="1476" y="1"/>
                      <a:pt x="1477" y="2"/>
                      <a:pt x="1477" y="3"/>
                    </a:cubicBezTo>
                    <a:cubicBezTo>
                      <a:pt x="1477" y="4"/>
                      <a:pt x="1476" y="5"/>
                      <a:pt x="1475" y="5"/>
                    </a:cubicBezTo>
                    <a:lnTo>
                      <a:pt x="1475" y="5"/>
                    </a:lnTo>
                    <a:cubicBezTo>
                      <a:pt x="1473" y="5"/>
                      <a:pt x="1473" y="4"/>
                      <a:pt x="1473" y="3"/>
                    </a:cubicBezTo>
                    <a:cubicBezTo>
                      <a:pt x="1473" y="2"/>
                      <a:pt x="1473" y="1"/>
                      <a:pt x="1475" y="1"/>
                    </a:cubicBezTo>
                    <a:close/>
                    <a:moveTo>
                      <a:pt x="1483" y="1"/>
                    </a:moveTo>
                    <a:lnTo>
                      <a:pt x="1483" y="1"/>
                    </a:lnTo>
                    <a:cubicBezTo>
                      <a:pt x="1484" y="1"/>
                      <a:pt x="1485" y="2"/>
                      <a:pt x="1485" y="3"/>
                    </a:cubicBezTo>
                    <a:cubicBezTo>
                      <a:pt x="1485" y="4"/>
                      <a:pt x="1484" y="5"/>
                      <a:pt x="1483" y="5"/>
                    </a:cubicBezTo>
                    <a:lnTo>
                      <a:pt x="1483" y="5"/>
                    </a:lnTo>
                    <a:cubicBezTo>
                      <a:pt x="1481" y="5"/>
                      <a:pt x="1481" y="4"/>
                      <a:pt x="1481" y="3"/>
                    </a:cubicBezTo>
                    <a:cubicBezTo>
                      <a:pt x="1481" y="2"/>
                      <a:pt x="1481" y="1"/>
                      <a:pt x="1483" y="1"/>
                    </a:cubicBezTo>
                    <a:close/>
                    <a:moveTo>
                      <a:pt x="1491" y="1"/>
                    </a:moveTo>
                    <a:lnTo>
                      <a:pt x="1491" y="1"/>
                    </a:lnTo>
                    <a:cubicBezTo>
                      <a:pt x="1492" y="1"/>
                      <a:pt x="1493" y="2"/>
                      <a:pt x="1493" y="3"/>
                    </a:cubicBezTo>
                    <a:cubicBezTo>
                      <a:pt x="1493" y="4"/>
                      <a:pt x="1492" y="5"/>
                      <a:pt x="1491" y="5"/>
                    </a:cubicBezTo>
                    <a:lnTo>
                      <a:pt x="1491" y="5"/>
                    </a:lnTo>
                    <a:cubicBezTo>
                      <a:pt x="1489" y="5"/>
                      <a:pt x="1489" y="4"/>
                      <a:pt x="1489" y="3"/>
                    </a:cubicBezTo>
                    <a:cubicBezTo>
                      <a:pt x="1489" y="2"/>
                      <a:pt x="1489" y="1"/>
                      <a:pt x="1491" y="1"/>
                    </a:cubicBezTo>
                    <a:close/>
                    <a:moveTo>
                      <a:pt x="1499" y="1"/>
                    </a:moveTo>
                    <a:lnTo>
                      <a:pt x="1499" y="1"/>
                    </a:lnTo>
                    <a:cubicBezTo>
                      <a:pt x="1500" y="1"/>
                      <a:pt x="1501" y="2"/>
                      <a:pt x="1501" y="3"/>
                    </a:cubicBezTo>
                    <a:cubicBezTo>
                      <a:pt x="1501" y="4"/>
                      <a:pt x="1500" y="5"/>
                      <a:pt x="1499" y="5"/>
                    </a:cubicBezTo>
                    <a:lnTo>
                      <a:pt x="1499" y="5"/>
                    </a:lnTo>
                    <a:cubicBezTo>
                      <a:pt x="1497" y="5"/>
                      <a:pt x="1497" y="4"/>
                      <a:pt x="1497" y="3"/>
                    </a:cubicBezTo>
                    <a:cubicBezTo>
                      <a:pt x="1497" y="2"/>
                      <a:pt x="1497" y="1"/>
                      <a:pt x="1499" y="1"/>
                    </a:cubicBezTo>
                    <a:close/>
                    <a:moveTo>
                      <a:pt x="1507" y="1"/>
                    </a:moveTo>
                    <a:lnTo>
                      <a:pt x="1507" y="1"/>
                    </a:lnTo>
                    <a:cubicBezTo>
                      <a:pt x="1508" y="1"/>
                      <a:pt x="1509" y="2"/>
                      <a:pt x="1509" y="3"/>
                    </a:cubicBezTo>
                    <a:cubicBezTo>
                      <a:pt x="1509" y="4"/>
                      <a:pt x="1508" y="5"/>
                      <a:pt x="1507" y="5"/>
                    </a:cubicBezTo>
                    <a:lnTo>
                      <a:pt x="1507" y="5"/>
                    </a:lnTo>
                    <a:cubicBezTo>
                      <a:pt x="1505" y="5"/>
                      <a:pt x="1505" y="4"/>
                      <a:pt x="1505" y="3"/>
                    </a:cubicBezTo>
                    <a:cubicBezTo>
                      <a:pt x="1505" y="2"/>
                      <a:pt x="1505" y="1"/>
                      <a:pt x="1507" y="1"/>
                    </a:cubicBezTo>
                    <a:close/>
                    <a:moveTo>
                      <a:pt x="1515" y="1"/>
                    </a:moveTo>
                    <a:lnTo>
                      <a:pt x="1515" y="1"/>
                    </a:lnTo>
                    <a:cubicBezTo>
                      <a:pt x="1516" y="1"/>
                      <a:pt x="1517" y="2"/>
                      <a:pt x="1517" y="3"/>
                    </a:cubicBezTo>
                    <a:cubicBezTo>
                      <a:pt x="1517" y="4"/>
                      <a:pt x="1516" y="5"/>
                      <a:pt x="1515" y="5"/>
                    </a:cubicBezTo>
                    <a:lnTo>
                      <a:pt x="1515" y="5"/>
                    </a:lnTo>
                    <a:cubicBezTo>
                      <a:pt x="1513" y="5"/>
                      <a:pt x="1513" y="4"/>
                      <a:pt x="1513" y="3"/>
                    </a:cubicBezTo>
                    <a:cubicBezTo>
                      <a:pt x="1513" y="2"/>
                      <a:pt x="1513" y="1"/>
                      <a:pt x="1515" y="1"/>
                    </a:cubicBezTo>
                    <a:close/>
                    <a:moveTo>
                      <a:pt x="1523" y="1"/>
                    </a:moveTo>
                    <a:lnTo>
                      <a:pt x="1523" y="1"/>
                    </a:lnTo>
                    <a:cubicBezTo>
                      <a:pt x="1524" y="1"/>
                      <a:pt x="1525" y="2"/>
                      <a:pt x="1525" y="3"/>
                    </a:cubicBezTo>
                    <a:cubicBezTo>
                      <a:pt x="1525" y="4"/>
                      <a:pt x="1524" y="5"/>
                      <a:pt x="1523" y="5"/>
                    </a:cubicBezTo>
                    <a:lnTo>
                      <a:pt x="1523" y="5"/>
                    </a:lnTo>
                    <a:cubicBezTo>
                      <a:pt x="1521" y="5"/>
                      <a:pt x="1521" y="4"/>
                      <a:pt x="1521" y="3"/>
                    </a:cubicBezTo>
                    <a:cubicBezTo>
                      <a:pt x="1521" y="2"/>
                      <a:pt x="1521" y="1"/>
                      <a:pt x="1523" y="1"/>
                    </a:cubicBezTo>
                    <a:close/>
                    <a:moveTo>
                      <a:pt x="1531" y="1"/>
                    </a:moveTo>
                    <a:lnTo>
                      <a:pt x="1531" y="1"/>
                    </a:lnTo>
                    <a:cubicBezTo>
                      <a:pt x="1532" y="1"/>
                      <a:pt x="1533" y="2"/>
                      <a:pt x="1533" y="3"/>
                    </a:cubicBezTo>
                    <a:cubicBezTo>
                      <a:pt x="1533" y="4"/>
                      <a:pt x="1532" y="5"/>
                      <a:pt x="1531" y="5"/>
                    </a:cubicBezTo>
                    <a:lnTo>
                      <a:pt x="1531" y="5"/>
                    </a:lnTo>
                    <a:cubicBezTo>
                      <a:pt x="1529" y="5"/>
                      <a:pt x="1529" y="4"/>
                      <a:pt x="1529" y="3"/>
                    </a:cubicBezTo>
                    <a:cubicBezTo>
                      <a:pt x="1529" y="2"/>
                      <a:pt x="1529" y="1"/>
                      <a:pt x="1531" y="1"/>
                    </a:cubicBezTo>
                    <a:close/>
                    <a:moveTo>
                      <a:pt x="1539" y="1"/>
                    </a:moveTo>
                    <a:lnTo>
                      <a:pt x="1539" y="1"/>
                    </a:lnTo>
                    <a:cubicBezTo>
                      <a:pt x="1540" y="1"/>
                      <a:pt x="1541" y="2"/>
                      <a:pt x="1541" y="3"/>
                    </a:cubicBezTo>
                    <a:cubicBezTo>
                      <a:pt x="1541" y="4"/>
                      <a:pt x="1540" y="5"/>
                      <a:pt x="1539" y="5"/>
                    </a:cubicBezTo>
                    <a:lnTo>
                      <a:pt x="1539" y="5"/>
                    </a:lnTo>
                    <a:cubicBezTo>
                      <a:pt x="1537" y="5"/>
                      <a:pt x="1537" y="4"/>
                      <a:pt x="1537" y="3"/>
                    </a:cubicBezTo>
                    <a:cubicBezTo>
                      <a:pt x="1537" y="2"/>
                      <a:pt x="1537" y="1"/>
                      <a:pt x="1539" y="1"/>
                    </a:cubicBezTo>
                    <a:close/>
                    <a:moveTo>
                      <a:pt x="1547" y="1"/>
                    </a:moveTo>
                    <a:lnTo>
                      <a:pt x="1547" y="1"/>
                    </a:lnTo>
                    <a:cubicBezTo>
                      <a:pt x="1548" y="1"/>
                      <a:pt x="1549" y="2"/>
                      <a:pt x="1549" y="3"/>
                    </a:cubicBezTo>
                    <a:cubicBezTo>
                      <a:pt x="1549" y="4"/>
                      <a:pt x="1548" y="5"/>
                      <a:pt x="1547" y="5"/>
                    </a:cubicBezTo>
                    <a:lnTo>
                      <a:pt x="1547" y="5"/>
                    </a:lnTo>
                    <a:cubicBezTo>
                      <a:pt x="1545" y="5"/>
                      <a:pt x="1545" y="4"/>
                      <a:pt x="1545" y="3"/>
                    </a:cubicBezTo>
                    <a:cubicBezTo>
                      <a:pt x="1545" y="2"/>
                      <a:pt x="1545" y="1"/>
                      <a:pt x="1547" y="1"/>
                    </a:cubicBezTo>
                    <a:close/>
                    <a:moveTo>
                      <a:pt x="1555" y="1"/>
                    </a:moveTo>
                    <a:lnTo>
                      <a:pt x="1555" y="1"/>
                    </a:lnTo>
                    <a:cubicBezTo>
                      <a:pt x="1556" y="1"/>
                      <a:pt x="1557" y="2"/>
                      <a:pt x="1557" y="3"/>
                    </a:cubicBezTo>
                    <a:cubicBezTo>
                      <a:pt x="1557" y="4"/>
                      <a:pt x="1556" y="5"/>
                      <a:pt x="1555" y="5"/>
                    </a:cubicBezTo>
                    <a:lnTo>
                      <a:pt x="1555" y="5"/>
                    </a:lnTo>
                    <a:cubicBezTo>
                      <a:pt x="1553" y="5"/>
                      <a:pt x="1553" y="4"/>
                      <a:pt x="1553" y="3"/>
                    </a:cubicBezTo>
                    <a:cubicBezTo>
                      <a:pt x="1553" y="2"/>
                      <a:pt x="1553" y="1"/>
                      <a:pt x="1555" y="1"/>
                    </a:cubicBezTo>
                    <a:close/>
                    <a:moveTo>
                      <a:pt x="1563" y="1"/>
                    </a:moveTo>
                    <a:lnTo>
                      <a:pt x="1563" y="1"/>
                    </a:lnTo>
                    <a:cubicBezTo>
                      <a:pt x="1564" y="1"/>
                      <a:pt x="1565" y="2"/>
                      <a:pt x="1565" y="3"/>
                    </a:cubicBezTo>
                    <a:cubicBezTo>
                      <a:pt x="1565" y="4"/>
                      <a:pt x="1564" y="5"/>
                      <a:pt x="1563" y="5"/>
                    </a:cubicBezTo>
                    <a:lnTo>
                      <a:pt x="1563" y="5"/>
                    </a:lnTo>
                    <a:cubicBezTo>
                      <a:pt x="1561" y="5"/>
                      <a:pt x="1561" y="4"/>
                      <a:pt x="1561" y="3"/>
                    </a:cubicBezTo>
                    <a:cubicBezTo>
                      <a:pt x="1561" y="2"/>
                      <a:pt x="1561" y="1"/>
                      <a:pt x="1563" y="1"/>
                    </a:cubicBezTo>
                    <a:close/>
                    <a:moveTo>
                      <a:pt x="1571" y="1"/>
                    </a:moveTo>
                    <a:lnTo>
                      <a:pt x="1571" y="1"/>
                    </a:lnTo>
                    <a:cubicBezTo>
                      <a:pt x="1572" y="1"/>
                      <a:pt x="1573" y="2"/>
                      <a:pt x="1573" y="3"/>
                    </a:cubicBezTo>
                    <a:cubicBezTo>
                      <a:pt x="1573" y="4"/>
                      <a:pt x="1572" y="5"/>
                      <a:pt x="1571" y="5"/>
                    </a:cubicBezTo>
                    <a:lnTo>
                      <a:pt x="1571" y="5"/>
                    </a:lnTo>
                    <a:cubicBezTo>
                      <a:pt x="1569" y="5"/>
                      <a:pt x="1569" y="4"/>
                      <a:pt x="1569" y="3"/>
                    </a:cubicBezTo>
                    <a:cubicBezTo>
                      <a:pt x="1569" y="2"/>
                      <a:pt x="1569" y="1"/>
                      <a:pt x="1571" y="1"/>
                    </a:cubicBezTo>
                    <a:close/>
                    <a:moveTo>
                      <a:pt x="1579" y="1"/>
                    </a:moveTo>
                    <a:lnTo>
                      <a:pt x="1579" y="1"/>
                    </a:lnTo>
                    <a:cubicBezTo>
                      <a:pt x="1580" y="1"/>
                      <a:pt x="1581" y="2"/>
                      <a:pt x="1581" y="3"/>
                    </a:cubicBezTo>
                    <a:cubicBezTo>
                      <a:pt x="1581" y="4"/>
                      <a:pt x="1580" y="5"/>
                      <a:pt x="1579" y="5"/>
                    </a:cubicBezTo>
                    <a:lnTo>
                      <a:pt x="1579" y="5"/>
                    </a:lnTo>
                    <a:cubicBezTo>
                      <a:pt x="1577" y="5"/>
                      <a:pt x="1577" y="4"/>
                      <a:pt x="1577" y="3"/>
                    </a:cubicBezTo>
                    <a:cubicBezTo>
                      <a:pt x="1577" y="2"/>
                      <a:pt x="1577" y="1"/>
                      <a:pt x="1579" y="1"/>
                    </a:cubicBezTo>
                    <a:close/>
                    <a:moveTo>
                      <a:pt x="1587" y="1"/>
                    </a:moveTo>
                    <a:lnTo>
                      <a:pt x="1587" y="1"/>
                    </a:lnTo>
                    <a:cubicBezTo>
                      <a:pt x="1588" y="1"/>
                      <a:pt x="1589" y="2"/>
                      <a:pt x="1589" y="3"/>
                    </a:cubicBezTo>
                    <a:cubicBezTo>
                      <a:pt x="1589" y="4"/>
                      <a:pt x="1588" y="5"/>
                      <a:pt x="1587" y="5"/>
                    </a:cubicBezTo>
                    <a:lnTo>
                      <a:pt x="1587" y="5"/>
                    </a:lnTo>
                    <a:cubicBezTo>
                      <a:pt x="1585" y="5"/>
                      <a:pt x="1585" y="4"/>
                      <a:pt x="1585" y="3"/>
                    </a:cubicBezTo>
                    <a:cubicBezTo>
                      <a:pt x="1585" y="2"/>
                      <a:pt x="1585" y="1"/>
                      <a:pt x="1587" y="1"/>
                    </a:cubicBezTo>
                    <a:close/>
                    <a:moveTo>
                      <a:pt x="1595" y="1"/>
                    </a:moveTo>
                    <a:lnTo>
                      <a:pt x="1595" y="1"/>
                    </a:lnTo>
                    <a:cubicBezTo>
                      <a:pt x="1596" y="1"/>
                      <a:pt x="1597" y="2"/>
                      <a:pt x="1597" y="3"/>
                    </a:cubicBezTo>
                    <a:cubicBezTo>
                      <a:pt x="1597" y="4"/>
                      <a:pt x="1596" y="5"/>
                      <a:pt x="1595" y="5"/>
                    </a:cubicBezTo>
                    <a:lnTo>
                      <a:pt x="1595" y="5"/>
                    </a:lnTo>
                    <a:cubicBezTo>
                      <a:pt x="1593" y="5"/>
                      <a:pt x="1593" y="4"/>
                      <a:pt x="1593" y="3"/>
                    </a:cubicBezTo>
                    <a:cubicBezTo>
                      <a:pt x="1593" y="2"/>
                      <a:pt x="1593" y="1"/>
                      <a:pt x="1595" y="1"/>
                    </a:cubicBezTo>
                    <a:close/>
                    <a:moveTo>
                      <a:pt x="1603" y="1"/>
                    </a:moveTo>
                    <a:lnTo>
                      <a:pt x="1603" y="1"/>
                    </a:lnTo>
                    <a:cubicBezTo>
                      <a:pt x="1604" y="1"/>
                      <a:pt x="1605" y="2"/>
                      <a:pt x="1605" y="3"/>
                    </a:cubicBezTo>
                    <a:cubicBezTo>
                      <a:pt x="1605" y="4"/>
                      <a:pt x="1604" y="5"/>
                      <a:pt x="1603" y="5"/>
                    </a:cubicBezTo>
                    <a:lnTo>
                      <a:pt x="1603" y="5"/>
                    </a:lnTo>
                    <a:cubicBezTo>
                      <a:pt x="1601" y="5"/>
                      <a:pt x="1601" y="4"/>
                      <a:pt x="1601" y="3"/>
                    </a:cubicBezTo>
                    <a:cubicBezTo>
                      <a:pt x="1601" y="2"/>
                      <a:pt x="1601" y="1"/>
                      <a:pt x="1603" y="1"/>
                    </a:cubicBezTo>
                    <a:close/>
                    <a:moveTo>
                      <a:pt x="1611" y="1"/>
                    </a:moveTo>
                    <a:lnTo>
                      <a:pt x="1611" y="1"/>
                    </a:lnTo>
                    <a:cubicBezTo>
                      <a:pt x="1612" y="1"/>
                      <a:pt x="1613" y="2"/>
                      <a:pt x="1613" y="3"/>
                    </a:cubicBezTo>
                    <a:cubicBezTo>
                      <a:pt x="1613" y="4"/>
                      <a:pt x="1612" y="5"/>
                      <a:pt x="1611" y="5"/>
                    </a:cubicBezTo>
                    <a:lnTo>
                      <a:pt x="1611" y="5"/>
                    </a:lnTo>
                    <a:cubicBezTo>
                      <a:pt x="1609" y="5"/>
                      <a:pt x="1609" y="4"/>
                      <a:pt x="1609" y="3"/>
                    </a:cubicBezTo>
                    <a:cubicBezTo>
                      <a:pt x="1609" y="2"/>
                      <a:pt x="1609" y="1"/>
                      <a:pt x="1611" y="1"/>
                    </a:cubicBezTo>
                    <a:close/>
                    <a:moveTo>
                      <a:pt x="1619" y="1"/>
                    </a:moveTo>
                    <a:lnTo>
                      <a:pt x="1619" y="1"/>
                    </a:lnTo>
                    <a:cubicBezTo>
                      <a:pt x="1620" y="1"/>
                      <a:pt x="1621" y="2"/>
                      <a:pt x="1621" y="3"/>
                    </a:cubicBezTo>
                    <a:cubicBezTo>
                      <a:pt x="1621" y="4"/>
                      <a:pt x="1620" y="5"/>
                      <a:pt x="1619" y="5"/>
                    </a:cubicBezTo>
                    <a:lnTo>
                      <a:pt x="1619" y="5"/>
                    </a:lnTo>
                    <a:cubicBezTo>
                      <a:pt x="1617" y="5"/>
                      <a:pt x="1617" y="4"/>
                      <a:pt x="1617" y="3"/>
                    </a:cubicBezTo>
                    <a:cubicBezTo>
                      <a:pt x="1617" y="2"/>
                      <a:pt x="1617" y="1"/>
                      <a:pt x="1619" y="1"/>
                    </a:cubicBezTo>
                    <a:close/>
                    <a:moveTo>
                      <a:pt x="1627" y="1"/>
                    </a:moveTo>
                    <a:lnTo>
                      <a:pt x="1627" y="1"/>
                    </a:lnTo>
                    <a:cubicBezTo>
                      <a:pt x="1628" y="1"/>
                      <a:pt x="1629" y="2"/>
                      <a:pt x="1629" y="3"/>
                    </a:cubicBezTo>
                    <a:cubicBezTo>
                      <a:pt x="1629" y="4"/>
                      <a:pt x="1628" y="5"/>
                      <a:pt x="1627" y="5"/>
                    </a:cubicBezTo>
                    <a:lnTo>
                      <a:pt x="1627" y="5"/>
                    </a:lnTo>
                    <a:cubicBezTo>
                      <a:pt x="1625" y="5"/>
                      <a:pt x="1625" y="4"/>
                      <a:pt x="1625" y="3"/>
                    </a:cubicBezTo>
                    <a:cubicBezTo>
                      <a:pt x="1625" y="2"/>
                      <a:pt x="1625" y="1"/>
                      <a:pt x="1627" y="1"/>
                    </a:cubicBezTo>
                    <a:close/>
                    <a:moveTo>
                      <a:pt x="1635" y="1"/>
                    </a:moveTo>
                    <a:lnTo>
                      <a:pt x="1635" y="1"/>
                    </a:lnTo>
                    <a:cubicBezTo>
                      <a:pt x="1636" y="1"/>
                      <a:pt x="1637" y="2"/>
                      <a:pt x="1637" y="3"/>
                    </a:cubicBezTo>
                    <a:cubicBezTo>
                      <a:pt x="1637" y="4"/>
                      <a:pt x="1636" y="5"/>
                      <a:pt x="1635" y="5"/>
                    </a:cubicBezTo>
                    <a:lnTo>
                      <a:pt x="1635" y="5"/>
                    </a:lnTo>
                    <a:cubicBezTo>
                      <a:pt x="1633" y="5"/>
                      <a:pt x="1633" y="4"/>
                      <a:pt x="1633" y="3"/>
                    </a:cubicBezTo>
                    <a:cubicBezTo>
                      <a:pt x="1633" y="2"/>
                      <a:pt x="1633" y="1"/>
                      <a:pt x="1635" y="1"/>
                    </a:cubicBezTo>
                    <a:close/>
                    <a:moveTo>
                      <a:pt x="1643" y="1"/>
                    </a:moveTo>
                    <a:lnTo>
                      <a:pt x="1643" y="1"/>
                    </a:lnTo>
                    <a:cubicBezTo>
                      <a:pt x="1644" y="1"/>
                      <a:pt x="1645" y="2"/>
                      <a:pt x="1645" y="3"/>
                    </a:cubicBezTo>
                    <a:cubicBezTo>
                      <a:pt x="1645" y="4"/>
                      <a:pt x="1644" y="5"/>
                      <a:pt x="1643" y="5"/>
                    </a:cubicBezTo>
                    <a:lnTo>
                      <a:pt x="1643" y="5"/>
                    </a:lnTo>
                    <a:cubicBezTo>
                      <a:pt x="1641" y="5"/>
                      <a:pt x="1641" y="4"/>
                      <a:pt x="1641" y="3"/>
                    </a:cubicBezTo>
                    <a:cubicBezTo>
                      <a:pt x="1641" y="2"/>
                      <a:pt x="1641" y="1"/>
                      <a:pt x="1643" y="1"/>
                    </a:cubicBezTo>
                    <a:close/>
                    <a:moveTo>
                      <a:pt x="1651" y="1"/>
                    </a:moveTo>
                    <a:lnTo>
                      <a:pt x="1651" y="1"/>
                    </a:lnTo>
                    <a:cubicBezTo>
                      <a:pt x="1652" y="1"/>
                      <a:pt x="1653" y="2"/>
                      <a:pt x="1653" y="3"/>
                    </a:cubicBezTo>
                    <a:cubicBezTo>
                      <a:pt x="1653" y="4"/>
                      <a:pt x="1652" y="5"/>
                      <a:pt x="1651" y="5"/>
                    </a:cubicBezTo>
                    <a:lnTo>
                      <a:pt x="1651" y="5"/>
                    </a:lnTo>
                    <a:cubicBezTo>
                      <a:pt x="1650" y="5"/>
                      <a:pt x="1649" y="4"/>
                      <a:pt x="1649" y="3"/>
                    </a:cubicBezTo>
                    <a:cubicBezTo>
                      <a:pt x="1649" y="2"/>
                      <a:pt x="1650" y="1"/>
                      <a:pt x="1651" y="1"/>
                    </a:cubicBezTo>
                    <a:close/>
                    <a:moveTo>
                      <a:pt x="1659" y="1"/>
                    </a:moveTo>
                    <a:lnTo>
                      <a:pt x="1659" y="1"/>
                    </a:lnTo>
                    <a:cubicBezTo>
                      <a:pt x="1660" y="1"/>
                      <a:pt x="1661" y="2"/>
                      <a:pt x="1661" y="3"/>
                    </a:cubicBezTo>
                    <a:cubicBezTo>
                      <a:pt x="1661" y="4"/>
                      <a:pt x="1660" y="5"/>
                      <a:pt x="1659" y="5"/>
                    </a:cubicBezTo>
                    <a:lnTo>
                      <a:pt x="1659" y="5"/>
                    </a:lnTo>
                    <a:cubicBezTo>
                      <a:pt x="1658" y="5"/>
                      <a:pt x="1657" y="4"/>
                      <a:pt x="1657" y="3"/>
                    </a:cubicBezTo>
                    <a:cubicBezTo>
                      <a:pt x="1657" y="2"/>
                      <a:pt x="1658" y="1"/>
                      <a:pt x="1659" y="1"/>
                    </a:cubicBezTo>
                    <a:close/>
                    <a:moveTo>
                      <a:pt x="1667" y="1"/>
                    </a:moveTo>
                    <a:lnTo>
                      <a:pt x="1667" y="1"/>
                    </a:lnTo>
                    <a:cubicBezTo>
                      <a:pt x="1668" y="1"/>
                      <a:pt x="1669" y="2"/>
                      <a:pt x="1669" y="3"/>
                    </a:cubicBezTo>
                    <a:cubicBezTo>
                      <a:pt x="1669" y="4"/>
                      <a:pt x="1668" y="5"/>
                      <a:pt x="1667" y="5"/>
                    </a:cubicBezTo>
                    <a:lnTo>
                      <a:pt x="1667" y="5"/>
                    </a:lnTo>
                    <a:cubicBezTo>
                      <a:pt x="1666" y="5"/>
                      <a:pt x="1665" y="4"/>
                      <a:pt x="1665" y="3"/>
                    </a:cubicBezTo>
                    <a:cubicBezTo>
                      <a:pt x="1665" y="2"/>
                      <a:pt x="1666" y="1"/>
                      <a:pt x="1667" y="1"/>
                    </a:cubicBezTo>
                    <a:close/>
                    <a:moveTo>
                      <a:pt x="1675" y="1"/>
                    </a:moveTo>
                    <a:lnTo>
                      <a:pt x="1675" y="1"/>
                    </a:lnTo>
                    <a:cubicBezTo>
                      <a:pt x="1676" y="1"/>
                      <a:pt x="1677" y="2"/>
                      <a:pt x="1677" y="3"/>
                    </a:cubicBezTo>
                    <a:cubicBezTo>
                      <a:pt x="1677" y="4"/>
                      <a:pt x="1676" y="5"/>
                      <a:pt x="1675" y="5"/>
                    </a:cubicBezTo>
                    <a:lnTo>
                      <a:pt x="1675" y="5"/>
                    </a:lnTo>
                    <a:cubicBezTo>
                      <a:pt x="1674" y="5"/>
                      <a:pt x="1673" y="4"/>
                      <a:pt x="1673" y="3"/>
                    </a:cubicBezTo>
                    <a:cubicBezTo>
                      <a:pt x="1673" y="2"/>
                      <a:pt x="1674" y="1"/>
                      <a:pt x="1675" y="1"/>
                    </a:cubicBezTo>
                    <a:close/>
                    <a:moveTo>
                      <a:pt x="1683" y="1"/>
                    </a:moveTo>
                    <a:lnTo>
                      <a:pt x="1683" y="1"/>
                    </a:lnTo>
                    <a:cubicBezTo>
                      <a:pt x="1684" y="1"/>
                      <a:pt x="1685" y="2"/>
                      <a:pt x="1685" y="3"/>
                    </a:cubicBezTo>
                    <a:cubicBezTo>
                      <a:pt x="1685" y="4"/>
                      <a:pt x="1684" y="5"/>
                      <a:pt x="1683" y="5"/>
                    </a:cubicBezTo>
                    <a:lnTo>
                      <a:pt x="1683" y="5"/>
                    </a:lnTo>
                    <a:cubicBezTo>
                      <a:pt x="1682" y="5"/>
                      <a:pt x="1681" y="4"/>
                      <a:pt x="1681" y="3"/>
                    </a:cubicBezTo>
                    <a:cubicBezTo>
                      <a:pt x="1681" y="2"/>
                      <a:pt x="1682" y="1"/>
                      <a:pt x="1683" y="1"/>
                    </a:cubicBezTo>
                    <a:close/>
                    <a:moveTo>
                      <a:pt x="1691" y="1"/>
                    </a:moveTo>
                    <a:lnTo>
                      <a:pt x="1691" y="1"/>
                    </a:lnTo>
                    <a:cubicBezTo>
                      <a:pt x="1692" y="1"/>
                      <a:pt x="1693" y="2"/>
                      <a:pt x="1693" y="3"/>
                    </a:cubicBezTo>
                    <a:cubicBezTo>
                      <a:pt x="1693" y="4"/>
                      <a:pt x="1692" y="5"/>
                      <a:pt x="1691" y="5"/>
                    </a:cubicBezTo>
                    <a:lnTo>
                      <a:pt x="1691" y="5"/>
                    </a:lnTo>
                    <a:cubicBezTo>
                      <a:pt x="1690" y="5"/>
                      <a:pt x="1689" y="4"/>
                      <a:pt x="1689" y="3"/>
                    </a:cubicBezTo>
                    <a:cubicBezTo>
                      <a:pt x="1689" y="2"/>
                      <a:pt x="1690" y="1"/>
                      <a:pt x="1691" y="1"/>
                    </a:cubicBezTo>
                    <a:close/>
                    <a:moveTo>
                      <a:pt x="1699" y="1"/>
                    </a:moveTo>
                    <a:lnTo>
                      <a:pt x="1699" y="1"/>
                    </a:lnTo>
                    <a:cubicBezTo>
                      <a:pt x="1700" y="1"/>
                      <a:pt x="1701" y="2"/>
                      <a:pt x="1701" y="3"/>
                    </a:cubicBezTo>
                    <a:cubicBezTo>
                      <a:pt x="1701" y="4"/>
                      <a:pt x="1700" y="5"/>
                      <a:pt x="1699" y="5"/>
                    </a:cubicBezTo>
                    <a:lnTo>
                      <a:pt x="1699" y="5"/>
                    </a:lnTo>
                    <a:cubicBezTo>
                      <a:pt x="1698" y="5"/>
                      <a:pt x="1697" y="4"/>
                      <a:pt x="1697" y="3"/>
                    </a:cubicBezTo>
                    <a:cubicBezTo>
                      <a:pt x="1697" y="2"/>
                      <a:pt x="1698" y="1"/>
                      <a:pt x="1699" y="1"/>
                    </a:cubicBezTo>
                    <a:close/>
                    <a:moveTo>
                      <a:pt x="1707" y="1"/>
                    </a:moveTo>
                    <a:lnTo>
                      <a:pt x="1707" y="1"/>
                    </a:lnTo>
                    <a:cubicBezTo>
                      <a:pt x="1708" y="1"/>
                      <a:pt x="1709" y="2"/>
                      <a:pt x="1709" y="3"/>
                    </a:cubicBezTo>
                    <a:cubicBezTo>
                      <a:pt x="1709" y="4"/>
                      <a:pt x="1708" y="5"/>
                      <a:pt x="1707" y="5"/>
                    </a:cubicBezTo>
                    <a:lnTo>
                      <a:pt x="1707" y="5"/>
                    </a:lnTo>
                    <a:cubicBezTo>
                      <a:pt x="1706" y="5"/>
                      <a:pt x="1705" y="4"/>
                      <a:pt x="1705" y="3"/>
                    </a:cubicBezTo>
                    <a:cubicBezTo>
                      <a:pt x="1705" y="2"/>
                      <a:pt x="1706" y="1"/>
                      <a:pt x="1707" y="1"/>
                    </a:cubicBezTo>
                    <a:close/>
                    <a:moveTo>
                      <a:pt x="1715" y="1"/>
                    </a:moveTo>
                    <a:lnTo>
                      <a:pt x="1715" y="1"/>
                    </a:lnTo>
                    <a:cubicBezTo>
                      <a:pt x="1716" y="1"/>
                      <a:pt x="1717" y="2"/>
                      <a:pt x="1717" y="3"/>
                    </a:cubicBezTo>
                    <a:cubicBezTo>
                      <a:pt x="1717" y="4"/>
                      <a:pt x="1716" y="5"/>
                      <a:pt x="1715" y="5"/>
                    </a:cubicBezTo>
                    <a:lnTo>
                      <a:pt x="1715" y="5"/>
                    </a:lnTo>
                    <a:cubicBezTo>
                      <a:pt x="1714" y="5"/>
                      <a:pt x="1713" y="4"/>
                      <a:pt x="1713" y="3"/>
                    </a:cubicBezTo>
                    <a:cubicBezTo>
                      <a:pt x="1713" y="2"/>
                      <a:pt x="1714" y="1"/>
                      <a:pt x="1715" y="1"/>
                    </a:cubicBezTo>
                    <a:close/>
                    <a:moveTo>
                      <a:pt x="1723" y="1"/>
                    </a:moveTo>
                    <a:lnTo>
                      <a:pt x="1723" y="1"/>
                    </a:lnTo>
                    <a:cubicBezTo>
                      <a:pt x="1724" y="1"/>
                      <a:pt x="1725" y="2"/>
                      <a:pt x="1725" y="3"/>
                    </a:cubicBezTo>
                    <a:cubicBezTo>
                      <a:pt x="1725" y="4"/>
                      <a:pt x="1724" y="5"/>
                      <a:pt x="1723" y="5"/>
                    </a:cubicBezTo>
                    <a:lnTo>
                      <a:pt x="1723" y="5"/>
                    </a:lnTo>
                    <a:cubicBezTo>
                      <a:pt x="1722" y="5"/>
                      <a:pt x="1721" y="4"/>
                      <a:pt x="1721" y="3"/>
                    </a:cubicBezTo>
                    <a:cubicBezTo>
                      <a:pt x="1721" y="2"/>
                      <a:pt x="1722" y="1"/>
                      <a:pt x="1723" y="1"/>
                    </a:cubicBezTo>
                    <a:close/>
                    <a:moveTo>
                      <a:pt x="1731" y="1"/>
                    </a:moveTo>
                    <a:lnTo>
                      <a:pt x="1731" y="1"/>
                    </a:lnTo>
                    <a:cubicBezTo>
                      <a:pt x="1732" y="1"/>
                      <a:pt x="1733" y="2"/>
                      <a:pt x="1733" y="3"/>
                    </a:cubicBezTo>
                    <a:cubicBezTo>
                      <a:pt x="1733" y="4"/>
                      <a:pt x="1732" y="5"/>
                      <a:pt x="1731" y="5"/>
                    </a:cubicBezTo>
                    <a:lnTo>
                      <a:pt x="1731" y="5"/>
                    </a:lnTo>
                    <a:cubicBezTo>
                      <a:pt x="1730" y="5"/>
                      <a:pt x="1729" y="4"/>
                      <a:pt x="1729" y="3"/>
                    </a:cubicBezTo>
                    <a:cubicBezTo>
                      <a:pt x="1729" y="2"/>
                      <a:pt x="1730" y="1"/>
                      <a:pt x="1731" y="1"/>
                    </a:cubicBezTo>
                    <a:close/>
                    <a:moveTo>
                      <a:pt x="1739" y="1"/>
                    </a:moveTo>
                    <a:lnTo>
                      <a:pt x="1739" y="1"/>
                    </a:lnTo>
                    <a:cubicBezTo>
                      <a:pt x="1740" y="1"/>
                      <a:pt x="1741" y="2"/>
                      <a:pt x="1741" y="3"/>
                    </a:cubicBezTo>
                    <a:cubicBezTo>
                      <a:pt x="1741" y="4"/>
                      <a:pt x="1740" y="5"/>
                      <a:pt x="1739" y="5"/>
                    </a:cubicBezTo>
                    <a:lnTo>
                      <a:pt x="1739" y="5"/>
                    </a:lnTo>
                    <a:cubicBezTo>
                      <a:pt x="1738" y="5"/>
                      <a:pt x="1737" y="4"/>
                      <a:pt x="1737" y="3"/>
                    </a:cubicBezTo>
                    <a:cubicBezTo>
                      <a:pt x="1737" y="2"/>
                      <a:pt x="1738" y="1"/>
                      <a:pt x="1739" y="1"/>
                    </a:cubicBezTo>
                    <a:close/>
                    <a:moveTo>
                      <a:pt x="1747" y="1"/>
                    </a:moveTo>
                    <a:lnTo>
                      <a:pt x="1747" y="1"/>
                    </a:lnTo>
                    <a:cubicBezTo>
                      <a:pt x="1748" y="1"/>
                      <a:pt x="1749" y="2"/>
                      <a:pt x="1749" y="3"/>
                    </a:cubicBezTo>
                    <a:cubicBezTo>
                      <a:pt x="1749" y="4"/>
                      <a:pt x="1748" y="5"/>
                      <a:pt x="1747" y="5"/>
                    </a:cubicBezTo>
                    <a:lnTo>
                      <a:pt x="1747" y="5"/>
                    </a:lnTo>
                    <a:cubicBezTo>
                      <a:pt x="1746" y="5"/>
                      <a:pt x="1745" y="4"/>
                      <a:pt x="1745" y="3"/>
                    </a:cubicBezTo>
                    <a:cubicBezTo>
                      <a:pt x="1745" y="2"/>
                      <a:pt x="1746" y="1"/>
                      <a:pt x="1747" y="1"/>
                    </a:cubicBezTo>
                    <a:close/>
                    <a:moveTo>
                      <a:pt x="1755" y="1"/>
                    </a:moveTo>
                    <a:lnTo>
                      <a:pt x="1755" y="1"/>
                    </a:lnTo>
                    <a:cubicBezTo>
                      <a:pt x="1756" y="1"/>
                      <a:pt x="1757" y="2"/>
                      <a:pt x="1757" y="3"/>
                    </a:cubicBezTo>
                    <a:cubicBezTo>
                      <a:pt x="1757" y="4"/>
                      <a:pt x="1756" y="5"/>
                      <a:pt x="1755" y="5"/>
                    </a:cubicBezTo>
                    <a:lnTo>
                      <a:pt x="1755" y="5"/>
                    </a:lnTo>
                    <a:cubicBezTo>
                      <a:pt x="1754" y="5"/>
                      <a:pt x="1753" y="4"/>
                      <a:pt x="1753" y="3"/>
                    </a:cubicBezTo>
                    <a:cubicBezTo>
                      <a:pt x="1753" y="2"/>
                      <a:pt x="1754" y="1"/>
                      <a:pt x="1755" y="1"/>
                    </a:cubicBezTo>
                    <a:close/>
                    <a:moveTo>
                      <a:pt x="1763" y="1"/>
                    </a:moveTo>
                    <a:lnTo>
                      <a:pt x="1763" y="1"/>
                    </a:lnTo>
                    <a:cubicBezTo>
                      <a:pt x="1764" y="1"/>
                      <a:pt x="1765" y="2"/>
                      <a:pt x="1765" y="3"/>
                    </a:cubicBezTo>
                    <a:cubicBezTo>
                      <a:pt x="1765" y="4"/>
                      <a:pt x="1764" y="5"/>
                      <a:pt x="1763" y="5"/>
                    </a:cubicBezTo>
                    <a:lnTo>
                      <a:pt x="1763" y="5"/>
                    </a:lnTo>
                    <a:cubicBezTo>
                      <a:pt x="1762" y="5"/>
                      <a:pt x="1761" y="4"/>
                      <a:pt x="1761" y="3"/>
                    </a:cubicBezTo>
                    <a:cubicBezTo>
                      <a:pt x="1761" y="2"/>
                      <a:pt x="1762" y="1"/>
                      <a:pt x="1763" y="1"/>
                    </a:cubicBezTo>
                    <a:close/>
                    <a:moveTo>
                      <a:pt x="1771" y="1"/>
                    </a:moveTo>
                    <a:lnTo>
                      <a:pt x="1771" y="1"/>
                    </a:lnTo>
                    <a:cubicBezTo>
                      <a:pt x="1772" y="1"/>
                      <a:pt x="1773" y="2"/>
                      <a:pt x="1773" y="3"/>
                    </a:cubicBezTo>
                    <a:cubicBezTo>
                      <a:pt x="1773" y="4"/>
                      <a:pt x="1772" y="5"/>
                      <a:pt x="1771" y="5"/>
                    </a:cubicBezTo>
                    <a:lnTo>
                      <a:pt x="1771" y="5"/>
                    </a:lnTo>
                    <a:cubicBezTo>
                      <a:pt x="1770" y="5"/>
                      <a:pt x="1769" y="4"/>
                      <a:pt x="1769" y="3"/>
                    </a:cubicBezTo>
                    <a:cubicBezTo>
                      <a:pt x="1769" y="2"/>
                      <a:pt x="1770" y="1"/>
                      <a:pt x="1771" y="1"/>
                    </a:cubicBezTo>
                    <a:close/>
                    <a:moveTo>
                      <a:pt x="1779" y="1"/>
                    </a:moveTo>
                    <a:lnTo>
                      <a:pt x="1779" y="1"/>
                    </a:lnTo>
                    <a:cubicBezTo>
                      <a:pt x="1780" y="1"/>
                      <a:pt x="1781" y="2"/>
                      <a:pt x="1781" y="3"/>
                    </a:cubicBezTo>
                    <a:cubicBezTo>
                      <a:pt x="1781" y="4"/>
                      <a:pt x="1780" y="5"/>
                      <a:pt x="1779" y="5"/>
                    </a:cubicBezTo>
                    <a:lnTo>
                      <a:pt x="1779" y="5"/>
                    </a:lnTo>
                    <a:cubicBezTo>
                      <a:pt x="1778" y="5"/>
                      <a:pt x="1777" y="4"/>
                      <a:pt x="1777" y="3"/>
                    </a:cubicBezTo>
                    <a:cubicBezTo>
                      <a:pt x="1777" y="2"/>
                      <a:pt x="1778" y="1"/>
                      <a:pt x="1779" y="1"/>
                    </a:cubicBezTo>
                    <a:close/>
                    <a:moveTo>
                      <a:pt x="1787" y="1"/>
                    </a:moveTo>
                    <a:lnTo>
                      <a:pt x="1787" y="1"/>
                    </a:lnTo>
                    <a:cubicBezTo>
                      <a:pt x="1788" y="1"/>
                      <a:pt x="1789" y="2"/>
                      <a:pt x="1789" y="3"/>
                    </a:cubicBezTo>
                    <a:cubicBezTo>
                      <a:pt x="1789" y="4"/>
                      <a:pt x="1788" y="5"/>
                      <a:pt x="1787" y="5"/>
                    </a:cubicBezTo>
                    <a:lnTo>
                      <a:pt x="1787" y="5"/>
                    </a:lnTo>
                    <a:cubicBezTo>
                      <a:pt x="1786" y="5"/>
                      <a:pt x="1785" y="4"/>
                      <a:pt x="1785" y="3"/>
                    </a:cubicBezTo>
                    <a:cubicBezTo>
                      <a:pt x="1785" y="2"/>
                      <a:pt x="1786" y="1"/>
                      <a:pt x="1787" y="1"/>
                    </a:cubicBezTo>
                    <a:close/>
                    <a:moveTo>
                      <a:pt x="1795" y="1"/>
                    </a:moveTo>
                    <a:lnTo>
                      <a:pt x="1795" y="1"/>
                    </a:lnTo>
                    <a:cubicBezTo>
                      <a:pt x="1796" y="1"/>
                      <a:pt x="1797" y="2"/>
                      <a:pt x="1797" y="3"/>
                    </a:cubicBezTo>
                    <a:cubicBezTo>
                      <a:pt x="1797" y="4"/>
                      <a:pt x="1796" y="5"/>
                      <a:pt x="1795" y="5"/>
                    </a:cubicBezTo>
                    <a:lnTo>
                      <a:pt x="1795" y="5"/>
                    </a:lnTo>
                    <a:cubicBezTo>
                      <a:pt x="1794" y="5"/>
                      <a:pt x="1793" y="4"/>
                      <a:pt x="1793" y="3"/>
                    </a:cubicBezTo>
                    <a:cubicBezTo>
                      <a:pt x="1793" y="2"/>
                      <a:pt x="1794" y="1"/>
                      <a:pt x="1795" y="1"/>
                    </a:cubicBezTo>
                    <a:close/>
                    <a:moveTo>
                      <a:pt x="1803" y="1"/>
                    </a:moveTo>
                    <a:lnTo>
                      <a:pt x="1803" y="1"/>
                    </a:lnTo>
                    <a:cubicBezTo>
                      <a:pt x="1804" y="1"/>
                      <a:pt x="1805" y="2"/>
                      <a:pt x="1805" y="3"/>
                    </a:cubicBezTo>
                    <a:cubicBezTo>
                      <a:pt x="1805" y="4"/>
                      <a:pt x="1804" y="5"/>
                      <a:pt x="1803" y="5"/>
                    </a:cubicBezTo>
                    <a:lnTo>
                      <a:pt x="1803" y="5"/>
                    </a:lnTo>
                    <a:cubicBezTo>
                      <a:pt x="1802" y="5"/>
                      <a:pt x="1801" y="4"/>
                      <a:pt x="1801" y="3"/>
                    </a:cubicBezTo>
                    <a:cubicBezTo>
                      <a:pt x="1801" y="2"/>
                      <a:pt x="1802" y="1"/>
                      <a:pt x="1803" y="1"/>
                    </a:cubicBezTo>
                    <a:close/>
                    <a:moveTo>
                      <a:pt x="1811" y="1"/>
                    </a:moveTo>
                    <a:lnTo>
                      <a:pt x="1811" y="1"/>
                    </a:lnTo>
                    <a:cubicBezTo>
                      <a:pt x="1812" y="1"/>
                      <a:pt x="1813" y="2"/>
                      <a:pt x="1813" y="3"/>
                    </a:cubicBezTo>
                    <a:cubicBezTo>
                      <a:pt x="1813" y="4"/>
                      <a:pt x="1812" y="5"/>
                      <a:pt x="1811" y="5"/>
                    </a:cubicBezTo>
                    <a:lnTo>
                      <a:pt x="1811" y="5"/>
                    </a:lnTo>
                    <a:cubicBezTo>
                      <a:pt x="1810" y="5"/>
                      <a:pt x="1809" y="4"/>
                      <a:pt x="1809" y="3"/>
                    </a:cubicBezTo>
                    <a:cubicBezTo>
                      <a:pt x="1809" y="2"/>
                      <a:pt x="1810" y="1"/>
                      <a:pt x="1811" y="1"/>
                    </a:cubicBezTo>
                    <a:close/>
                    <a:moveTo>
                      <a:pt x="1819" y="1"/>
                    </a:moveTo>
                    <a:lnTo>
                      <a:pt x="1819" y="1"/>
                    </a:lnTo>
                    <a:cubicBezTo>
                      <a:pt x="1820" y="1"/>
                      <a:pt x="1821" y="2"/>
                      <a:pt x="1821" y="3"/>
                    </a:cubicBezTo>
                    <a:cubicBezTo>
                      <a:pt x="1821" y="4"/>
                      <a:pt x="1820" y="5"/>
                      <a:pt x="1819" y="5"/>
                    </a:cubicBezTo>
                    <a:lnTo>
                      <a:pt x="1819" y="5"/>
                    </a:lnTo>
                    <a:cubicBezTo>
                      <a:pt x="1818" y="5"/>
                      <a:pt x="1817" y="4"/>
                      <a:pt x="1817" y="3"/>
                    </a:cubicBezTo>
                    <a:cubicBezTo>
                      <a:pt x="1817" y="2"/>
                      <a:pt x="1818" y="1"/>
                      <a:pt x="1819" y="1"/>
                    </a:cubicBezTo>
                    <a:close/>
                    <a:moveTo>
                      <a:pt x="1827" y="1"/>
                    </a:moveTo>
                    <a:lnTo>
                      <a:pt x="1827" y="1"/>
                    </a:lnTo>
                    <a:cubicBezTo>
                      <a:pt x="1828" y="1"/>
                      <a:pt x="1829" y="2"/>
                      <a:pt x="1829" y="3"/>
                    </a:cubicBezTo>
                    <a:cubicBezTo>
                      <a:pt x="1829" y="4"/>
                      <a:pt x="1828" y="5"/>
                      <a:pt x="1827" y="5"/>
                    </a:cubicBezTo>
                    <a:lnTo>
                      <a:pt x="1827" y="5"/>
                    </a:lnTo>
                    <a:cubicBezTo>
                      <a:pt x="1826" y="5"/>
                      <a:pt x="1825" y="4"/>
                      <a:pt x="1825" y="3"/>
                    </a:cubicBezTo>
                    <a:cubicBezTo>
                      <a:pt x="1825" y="2"/>
                      <a:pt x="1826" y="1"/>
                      <a:pt x="1827" y="1"/>
                    </a:cubicBezTo>
                    <a:close/>
                    <a:moveTo>
                      <a:pt x="1835" y="1"/>
                    </a:moveTo>
                    <a:lnTo>
                      <a:pt x="1835" y="1"/>
                    </a:lnTo>
                    <a:cubicBezTo>
                      <a:pt x="1836" y="1"/>
                      <a:pt x="1837" y="2"/>
                      <a:pt x="1837" y="3"/>
                    </a:cubicBezTo>
                    <a:cubicBezTo>
                      <a:pt x="1837" y="4"/>
                      <a:pt x="1836" y="5"/>
                      <a:pt x="1835" y="5"/>
                    </a:cubicBezTo>
                    <a:lnTo>
                      <a:pt x="1835" y="5"/>
                    </a:lnTo>
                    <a:cubicBezTo>
                      <a:pt x="1834" y="5"/>
                      <a:pt x="1833" y="4"/>
                      <a:pt x="1833" y="3"/>
                    </a:cubicBezTo>
                    <a:cubicBezTo>
                      <a:pt x="1833" y="2"/>
                      <a:pt x="1834" y="1"/>
                      <a:pt x="1835" y="1"/>
                    </a:cubicBezTo>
                    <a:close/>
                    <a:moveTo>
                      <a:pt x="1843" y="1"/>
                    </a:moveTo>
                    <a:lnTo>
                      <a:pt x="1843" y="1"/>
                    </a:lnTo>
                    <a:cubicBezTo>
                      <a:pt x="1844" y="1"/>
                      <a:pt x="1845" y="2"/>
                      <a:pt x="1845" y="3"/>
                    </a:cubicBezTo>
                    <a:cubicBezTo>
                      <a:pt x="1845" y="4"/>
                      <a:pt x="1844" y="5"/>
                      <a:pt x="1843" y="5"/>
                    </a:cubicBezTo>
                    <a:lnTo>
                      <a:pt x="1843" y="5"/>
                    </a:lnTo>
                    <a:cubicBezTo>
                      <a:pt x="1842" y="5"/>
                      <a:pt x="1841" y="4"/>
                      <a:pt x="1841" y="3"/>
                    </a:cubicBezTo>
                    <a:cubicBezTo>
                      <a:pt x="1841" y="2"/>
                      <a:pt x="1842" y="1"/>
                      <a:pt x="1843" y="1"/>
                    </a:cubicBezTo>
                    <a:close/>
                    <a:moveTo>
                      <a:pt x="1851" y="1"/>
                    </a:moveTo>
                    <a:lnTo>
                      <a:pt x="1851" y="1"/>
                    </a:lnTo>
                    <a:cubicBezTo>
                      <a:pt x="1852" y="1"/>
                      <a:pt x="1853" y="2"/>
                      <a:pt x="1853" y="3"/>
                    </a:cubicBezTo>
                    <a:cubicBezTo>
                      <a:pt x="1853" y="4"/>
                      <a:pt x="1852" y="5"/>
                      <a:pt x="1851" y="5"/>
                    </a:cubicBezTo>
                    <a:lnTo>
                      <a:pt x="1851" y="5"/>
                    </a:lnTo>
                    <a:cubicBezTo>
                      <a:pt x="1850" y="5"/>
                      <a:pt x="1849" y="4"/>
                      <a:pt x="1849" y="3"/>
                    </a:cubicBezTo>
                    <a:cubicBezTo>
                      <a:pt x="1849" y="2"/>
                      <a:pt x="1850" y="1"/>
                      <a:pt x="1851" y="1"/>
                    </a:cubicBezTo>
                    <a:close/>
                    <a:moveTo>
                      <a:pt x="1859" y="1"/>
                    </a:moveTo>
                    <a:lnTo>
                      <a:pt x="1859" y="1"/>
                    </a:lnTo>
                    <a:cubicBezTo>
                      <a:pt x="1860" y="1"/>
                      <a:pt x="1861" y="2"/>
                      <a:pt x="1861" y="3"/>
                    </a:cubicBezTo>
                    <a:cubicBezTo>
                      <a:pt x="1861" y="4"/>
                      <a:pt x="1860" y="5"/>
                      <a:pt x="1859" y="5"/>
                    </a:cubicBezTo>
                    <a:lnTo>
                      <a:pt x="1859" y="5"/>
                    </a:lnTo>
                    <a:cubicBezTo>
                      <a:pt x="1858" y="5"/>
                      <a:pt x="1857" y="4"/>
                      <a:pt x="1857" y="3"/>
                    </a:cubicBezTo>
                    <a:cubicBezTo>
                      <a:pt x="1857" y="2"/>
                      <a:pt x="1858" y="1"/>
                      <a:pt x="1859" y="1"/>
                    </a:cubicBezTo>
                    <a:close/>
                    <a:moveTo>
                      <a:pt x="1867" y="1"/>
                    </a:moveTo>
                    <a:lnTo>
                      <a:pt x="1867" y="1"/>
                    </a:lnTo>
                    <a:cubicBezTo>
                      <a:pt x="1868" y="1"/>
                      <a:pt x="1869" y="2"/>
                      <a:pt x="1869" y="3"/>
                    </a:cubicBezTo>
                    <a:cubicBezTo>
                      <a:pt x="1869" y="4"/>
                      <a:pt x="1868" y="5"/>
                      <a:pt x="1867" y="5"/>
                    </a:cubicBezTo>
                    <a:lnTo>
                      <a:pt x="1867" y="5"/>
                    </a:lnTo>
                    <a:cubicBezTo>
                      <a:pt x="1866" y="5"/>
                      <a:pt x="1865" y="4"/>
                      <a:pt x="1865" y="3"/>
                    </a:cubicBezTo>
                    <a:cubicBezTo>
                      <a:pt x="1865" y="2"/>
                      <a:pt x="1866" y="1"/>
                      <a:pt x="1867" y="1"/>
                    </a:cubicBezTo>
                    <a:close/>
                    <a:moveTo>
                      <a:pt x="1875" y="1"/>
                    </a:moveTo>
                    <a:lnTo>
                      <a:pt x="1875" y="1"/>
                    </a:lnTo>
                    <a:cubicBezTo>
                      <a:pt x="1876" y="1"/>
                      <a:pt x="1877" y="2"/>
                      <a:pt x="1877" y="3"/>
                    </a:cubicBezTo>
                    <a:cubicBezTo>
                      <a:pt x="1877" y="4"/>
                      <a:pt x="1876" y="5"/>
                      <a:pt x="1875" y="5"/>
                    </a:cubicBezTo>
                    <a:lnTo>
                      <a:pt x="1875" y="5"/>
                    </a:lnTo>
                    <a:cubicBezTo>
                      <a:pt x="1874" y="5"/>
                      <a:pt x="1873" y="4"/>
                      <a:pt x="1873" y="3"/>
                    </a:cubicBezTo>
                    <a:cubicBezTo>
                      <a:pt x="1873" y="2"/>
                      <a:pt x="1874" y="1"/>
                      <a:pt x="1875" y="1"/>
                    </a:cubicBezTo>
                    <a:close/>
                    <a:moveTo>
                      <a:pt x="1883" y="1"/>
                    </a:moveTo>
                    <a:lnTo>
                      <a:pt x="1883" y="1"/>
                    </a:lnTo>
                    <a:cubicBezTo>
                      <a:pt x="1884" y="1"/>
                      <a:pt x="1885" y="2"/>
                      <a:pt x="1885" y="3"/>
                    </a:cubicBezTo>
                    <a:cubicBezTo>
                      <a:pt x="1885" y="4"/>
                      <a:pt x="1884" y="5"/>
                      <a:pt x="1883" y="5"/>
                    </a:cubicBezTo>
                    <a:lnTo>
                      <a:pt x="1883" y="5"/>
                    </a:lnTo>
                    <a:cubicBezTo>
                      <a:pt x="1882" y="5"/>
                      <a:pt x="1881" y="4"/>
                      <a:pt x="1881" y="3"/>
                    </a:cubicBezTo>
                    <a:cubicBezTo>
                      <a:pt x="1881" y="2"/>
                      <a:pt x="1882" y="1"/>
                      <a:pt x="1883" y="1"/>
                    </a:cubicBezTo>
                    <a:close/>
                    <a:moveTo>
                      <a:pt x="1891" y="1"/>
                    </a:moveTo>
                    <a:lnTo>
                      <a:pt x="1891" y="1"/>
                    </a:lnTo>
                    <a:cubicBezTo>
                      <a:pt x="1892" y="1"/>
                      <a:pt x="1893" y="2"/>
                      <a:pt x="1893" y="3"/>
                    </a:cubicBezTo>
                    <a:cubicBezTo>
                      <a:pt x="1893" y="4"/>
                      <a:pt x="1892" y="5"/>
                      <a:pt x="1891" y="5"/>
                    </a:cubicBezTo>
                    <a:lnTo>
                      <a:pt x="1891" y="5"/>
                    </a:lnTo>
                    <a:cubicBezTo>
                      <a:pt x="1890" y="5"/>
                      <a:pt x="1889" y="4"/>
                      <a:pt x="1889" y="3"/>
                    </a:cubicBezTo>
                    <a:cubicBezTo>
                      <a:pt x="1889" y="2"/>
                      <a:pt x="1890" y="1"/>
                      <a:pt x="1891" y="1"/>
                    </a:cubicBezTo>
                    <a:close/>
                    <a:moveTo>
                      <a:pt x="1899" y="1"/>
                    </a:moveTo>
                    <a:lnTo>
                      <a:pt x="1899" y="1"/>
                    </a:lnTo>
                    <a:cubicBezTo>
                      <a:pt x="1900" y="1"/>
                      <a:pt x="1901" y="2"/>
                      <a:pt x="1901" y="3"/>
                    </a:cubicBezTo>
                    <a:cubicBezTo>
                      <a:pt x="1901" y="4"/>
                      <a:pt x="1900" y="5"/>
                      <a:pt x="1899" y="5"/>
                    </a:cubicBezTo>
                    <a:lnTo>
                      <a:pt x="1899" y="5"/>
                    </a:lnTo>
                    <a:cubicBezTo>
                      <a:pt x="1898" y="5"/>
                      <a:pt x="1897" y="4"/>
                      <a:pt x="1897" y="3"/>
                    </a:cubicBezTo>
                    <a:cubicBezTo>
                      <a:pt x="1897" y="2"/>
                      <a:pt x="1898" y="1"/>
                      <a:pt x="1899" y="1"/>
                    </a:cubicBezTo>
                    <a:close/>
                    <a:moveTo>
                      <a:pt x="1907" y="1"/>
                    </a:moveTo>
                    <a:lnTo>
                      <a:pt x="1907" y="1"/>
                    </a:lnTo>
                    <a:cubicBezTo>
                      <a:pt x="1908" y="1"/>
                      <a:pt x="1909" y="2"/>
                      <a:pt x="1909" y="3"/>
                    </a:cubicBezTo>
                    <a:cubicBezTo>
                      <a:pt x="1909" y="4"/>
                      <a:pt x="1908" y="5"/>
                      <a:pt x="1907" y="5"/>
                    </a:cubicBezTo>
                    <a:lnTo>
                      <a:pt x="1907" y="5"/>
                    </a:lnTo>
                    <a:cubicBezTo>
                      <a:pt x="1906" y="5"/>
                      <a:pt x="1905" y="4"/>
                      <a:pt x="1905" y="3"/>
                    </a:cubicBezTo>
                    <a:cubicBezTo>
                      <a:pt x="1905" y="2"/>
                      <a:pt x="1906" y="1"/>
                      <a:pt x="1907" y="1"/>
                    </a:cubicBezTo>
                    <a:close/>
                    <a:moveTo>
                      <a:pt x="1915" y="1"/>
                    </a:moveTo>
                    <a:lnTo>
                      <a:pt x="1915" y="1"/>
                    </a:lnTo>
                    <a:cubicBezTo>
                      <a:pt x="1916" y="1"/>
                      <a:pt x="1917" y="2"/>
                      <a:pt x="1917" y="3"/>
                    </a:cubicBezTo>
                    <a:cubicBezTo>
                      <a:pt x="1917" y="4"/>
                      <a:pt x="1916" y="5"/>
                      <a:pt x="1915" y="5"/>
                    </a:cubicBezTo>
                    <a:lnTo>
                      <a:pt x="1915" y="5"/>
                    </a:lnTo>
                    <a:cubicBezTo>
                      <a:pt x="1914" y="5"/>
                      <a:pt x="1913" y="4"/>
                      <a:pt x="1913" y="3"/>
                    </a:cubicBezTo>
                    <a:cubicBezTo>
                      <a:pt x="1913" y="2"/>
                      <a:pt x="1914" y="1"/>
                      <a:pt x="1915" y="1"/>
                    </a:cubicBezTo>
                    <a:close/>
                    <a:moveTo>
                      <a:pt x="1923" y="1"/>
                    </a:moveTo>
                    <a:lnTo>
                      <a:pt x="1923" y="1"/>
                    </a:lnTo>
                    <a:cubicBezTo>
                      <a:pt x="1924" y="1"/>
                      <a:pt x="1925" y="2"/>
                      <a:pt x="1925" y="3"/>
                    </a:cubicBezTo>
                    <a:cubicBezTo>
                      <a:pt x="1925" y="4"/>
                      <a:pt x="1924" y="5"/>
                      <a:pt x="1923" y="5"/>
                    </a:cubicBezTo>
                    <a:lnTo>
                      <a:pt x="1923" y="5"/>
                    </a:lnTo>
                    <a:cubicBezTo>
                      <a:pt x="1922" y="5"/>
                      <a:pt x="1921" y="4"/>
                      <a:pt x="1921" y="3"/>
                    </a:cubicBezTo>
                    <a:cubicBezTo>
                      <a:pt x="1921" y="2"/>
                      <a:pt x="1922" y="1"/>
                      <a:pt x="1923" y="1"/>
                    </a:cubicBezTo>
                    <a:close/>
                    <a:moveTo>
                      <a:pt x="1931" y="1"/>
                    </a:moveTo>
                    <a:lnTo>
                      <a:pt x="1931" y="1"/>
                    </a:lnTo>
                    <a:cubicBezTo>
                      <a:pt x="1932" y="1"/>
                      <a:pt x="1933" y="2"/>
                      <a:pt x="1933" y="3"/>
                    </a:cubicBezTo>
                    <a:cubicBezTo>
                      <a:pt x="1933" y="4"/>
                      <a:pt x="1932" y="5"/>
                      <a:pt x="1931" y="5"/>
                    </a:cubicBezTo>
                    <a:lnTo>
                      <a:pt x="1931" y="5"/>
                    </a:lnTo>
                    <a:cubicBezTo>
                      <a:pt x="1930" y="5"/>
                      <a:pt x="1929" y="4"/>
                      <a:pt x="1929" y="3"/>
                    </a:cubicBezTo>
                    <a:cubicBezTo>
                      <a:pt x="1929" y="2"/>
                      <a:pt x="1930" y="1"/>
                      <a:pt x="1931" y="1"/>
                    </a:cubicBezTo>
                    <a:close/>
                    <a:moveTo>
                      <a:pt x="1939" y="1"/>
                    </a:moveTo>
                    <a:lnTo>
                      <a:pt x="1939" y="1"/>
                    </a:lnTo>
                    <a:cubicBezTo>
                      <a:pt x="1940" y="1"/>
                      <a:pt x="1941" y="2"/>
                      <a:pt x="1941" y="3"/>
                    </a:cubicBezTo>
                    <a:cubicBezTo>
                      <a:pt x="1941" y="4"/>
                      <a:pt x="1940" y="5"/>
                      <a:pt x="1939" y="5"/>
                    </a:cubicBezTo>
                    <a:lnTo>
                      <a:pt x="1939" y="5"/>
                    </a:lnTo>
                    <a:cubicBezTo>
                      <a:pt x="1938" y="5"/>
                      <a:pt x="1937" y="4"/>
                      <a:pt x="1937" y="3"/>
                    </a:cubicBezTo>
                    <a:cubicBezTo>
                      <a:pt x="1937" y="2"/>
                      <a:pt x="1938" y="1"/>
                      <a:pt x="1939" y="1"/>
                    </a:cubicBezTo>
                    <a:close/>
                    <a:moveTo>
                      <a:pt x="1947" y="1"/>
                    </a:moveTo>
                    <a:lnTo>
                      <a:pt x="1947" y="1"/>
                    </a:lnTo>
                    <a:cubicBezTo>
                      <a:pt x="1948" y="1"/>
                      <a:pt x="1949" y="2"/>
                      <a:pt x="1949" y="3"/>
                    </a:cubicBezTo>
                    <a:cubicBezTo>
                      <a:pt x="1949" y="4"/>
                      <a:pt x="1948" y="5"/>
                      <a:pt x="1947" y="5"/>
                    </a:cubicBezTo>
                    <a:lnTo>
                      <a:pt x="1947" y="5"/>
                    </a:lnTo>
                    <a:cubicBezTo>
                      <a:pt x="1946" y="5"/>
                      <a:pt x="1945" y="4"/>
                      <a:pt x="1945" y="3"/>
                    </a:cubicBezTo>
                    <a:cubicBezTo>
                      <a:pt x="1945" y="2"/>
                      <a:pt x="1946" y="1"/>
                      <a:pt x="1947" y="1"/>
                    </a:cubicBezTo>
                    <a:close/>
                    <a:moveTo>
                      <a:pt x="1955" y="1"/>
                    </a:moveTo>
                    <a:lnTo>
                      <a:pt x="1955" y="1"/>
                    </a:lnTo>
                    <a:cubicBezTo>
                      <a:pt x="1956" y="1"/>
                      <a:pt x="1957" y="2"/>
                      <a:pt x="1957" y="3"/>
                    </a:cubicBezTo>
                    <a:cubicBezTo>
                      <a:pt x="1957" y="4"/>
                      <a:pt x="1956" y="5"/>
                      <a:pt x="1955" y="5"/>
                    </a:cubicBezTo>
                    <a:lnTo>
                      <a:pt x="1955" y="5"/>
                    </a:lnTo>
                    <a:cubicBezTo>
                      <a:pt x="1954" y="5"/>
                      <a:pt x="1953" y="4"/>
                      <a:pt x="1953" y="3"/>
                    </a:cubicBezTo>
                    <a:cubicBezTo>
                      <a:pt x="1953" y="2"/>
                      <a:pt x="1954" y="1"/>
                      <a:pt x="1955" y="1"/>
                    </a:cubicBezTo>
                    <a:close/>
                    <a:moveTo>
                      <a:pt x="1963" y="1"/>
                    </a:moveTo>
                    <a:lnTo>
                      <a:pt x="1963" y="1"/>
                    </a:lnTo>
                    <a:cubicBezTo>
                      <a:pt x="1964" y="1"/>
                      <a:pt x="1965" y="2"/>
                      <a:pt x="1965" y="3"/>
                    </a:cubicBezTo>
                    <a:cubicBezTo>
                      <a:pt x="1965" y="4"/>
                      <a:pt x="1964" y="5"/>
                      <a:pt x="1963" y="5"/>
                    </a:cubicBezTo>
                    <a:lnTo>
                      <a:pt x="1963" y="5"/>
                    </a:lnTo>
                    <a:cubicBezTo>
                      <a:pt x="1962" y="5"/>
                      <a:pt x="1961" y="4"/>
                      <a:pt x="1961" y="3"/>
                    </a:cubicBezTo>
                    <a:cubicBezTo>
                      <a:pt x="1961" y="2"/>
                      <a:pt x="1962" y="1"/>
                      <a:pt x="1963" y="1"/>
                    </a:cubicBezTo>
                    <a:close/>
                    <a:moveTo>
                      <a:pt x="1971" y="1"/>
                    </a:moveTo>
                    <a:lnTo>
                      <a:pt x="1971" y="1"/>
                    </a:lnTo>
                    <a:cubicBezTo>
                      <a:pt x="1972" y="1"/>
                      <a:pt x="1973" y="2"/>
                      <a:pt x="1973" y="3"/>
                    </a:cubicBezTo>
                    <a:cubicBezTo>
                      <a:pt x="1973" y="4"/>
                      <a:pt x="1972" y="5"/>
                      <a:pt x="1971" y="5"/>
                    </a:cubicBezTo>
                    <a:lnTo>
                      <a:pt x="1971" y="5"/>
                    </a:lnTo>
                    <a:cubicBezTo>
                      <a:pt x="1970" y="5"/>
                      <a:pt x="1969" y="4"/>
                      <a:pt x="1969" y="3"/>
                    </a:cubicBezTo>
                    <a:cubicBezTo>
                      <a:pt x="1969" y="2"/>
                      <a:pt x="1970" y="1"/>
                      <a:pt x="1971" y="1"/>
                    </a:cubicBezTo>
                    <a:close/>
                    <a:moveTo>
                      <a:pt x="1979" y="1"/>
                    </a:moveTo>
                    <a:lnTo>
                      <a:pt x="1979" y="1"/>
                    </a:lnTo>
                    <a:cubicBezTo>
                      <a:pt x="1980" y="1"/>
                      <a:pt x="1981" y="2"/>
                      <a:pt x="1981" y="3"/>
                    </a:cubicBezTo>
                    <a:cubicBezTo>
                      <a:pt x="1981" y="4"/>
                      <a:pt x="1980" y="5"/>
                      <a:pt x="1979" y="5"/>
                    </a:cubicBezTo>
                    <a:lnTo>
                      <a:pt x="1979" y="5"/>
                    </a:lnTo>
                    <a:cubicBezTo>
                      <a:pt x="1978" y="5"/>
                      <a:pt x="1977" y="4"/>
                      <a:pt x="1977" y="3"/>
                    </a:cubicBezTo>
                    <a:cubicBezTo>
                      <a:pt x="1977" y="2"/>
                      <a:pt x="1978" y="1"/>
                      <a:pt x="1979" y="1"/>
                    </a:cubicBezTo>
                    <a:close/>
                    <a:moveTo>
                      <a:pt x="1987" y="1"/>
                    </a:moveTo>
                    <a:lnTo>
                      <a:pt x="1987" y="1"/>
                    </a:lnTo>
                    <a:cubicBezTo>
                      <a:pt x="1988" y="1"/>
                      <a:pt x="1989" y="2"/>
                      <a:pt x="1989" y="3"/>
                    </a:cubicBezTo>
                    <a:cubicBezTo>
                      <a:pt x="1989" y="4"/>
                      <a:pt x="1988" y="5"/>
                      <a:pt x="1987" y="5"/>
                    </a:cubicBezTo>
                    <a:lnTo>
                      <a:pt x="1987" y="5"/>
                    </a:lnTo>
                    <a:cubicBezTo>
                      <a:pt x="1986" y="5"/>
                      <a:pt x="1985" y="4"/>
                      <a:pt x="1985" y="3"/>
                    </a:cubicBezTo>
                    <a:cubicBezTo>
                      <a:pt x="1985" y="2"/>
                      <a:pt x="1986" y="1"/>
                      <a:pt x="1987" y="1"/>
                    </a:cubicBezTo>
                    <a:close/>
                    <a:moveTo>
                      <a:pt x="1995" y="1"/>
                    </a:moveTo>
                    <a:lnTo>
                      <a:pt x="1995" y="1"/>
                    </a:lnTo>
                    <a:cubicBezTo>
                      <a:pt x="1996" y="1"/>
                      <a:pt x="1997" y="2"/>
                      <a:pt x="1997" y="3"/>
                    </a:cubicBezTo>
                    <a:cubicBezTo>
                      <a:pt x="1997" y="4"/>
                      <a:pt x="1996" y="5"/>
                      <a:pt x="1995" y="5"/>
                    </a:cubicBezTo>
                    <a:lnTo>
                      <a:pt x="1995" y="5"/>
                    </a:lnTo>
                    <a:cubicBezTo>
                      <a:pt x="1994" y="5"/>
                      <a:pt x="1993" y="4"/>
                      <a:pt x="1993" y="3"/>
                    </a:cubicBezTo>
                    <a:cubicBezTo>
                      <a:pt x="1993" y="2"/>
                      <a:pt x="1994" y="1"/>
                      <a:pt x="1995" y="1"/>
                    </a:cubicBezTo>
                    <a:close/>
                    <a:moveTo>
                      <a:pt x="2003" y="1"/>
                    </a:moveTo>
                    <a:lnTo>
                      <a:pt x="2003" y="1"/>
                    </a:lnTo>
                    <a:cubicBezTo>
                      <a:pt x="2004" y="1"/>
                      <a:pt x="2005" y="2"/>
                      <a:pt x="2005" y="3"/>
                    </a:cubicBezTo>
                    <a:cubicBezTo>
                      <a:pt x="2005" y="4"/>
                      <a:pt x="2004" y="5"/>
                      <a:pt x="2003" y="5"/>
                    </a:cubicBezTo>
                    <a:lnTo>
                      <a:pt x="2003" y="5"/>
                    </a:lnTo>
                    <a:cubicBezTo>
                      <a:pt x="2002" y="5"/>
                      <a:pt x="2001" y="4"/>
                      <a:pt x="2001" y="3"/>
                    </a:cubicBezTo>
                    <a:cubicBezTo>
                      <a:pt x="2001" y="2"/>
                      <a:pt x="2002" y="1"/>
                      <a:pt x="2003" y="1"/>
                    </a:cubicBezTo>
                    <a:close/>
                    <a:moveTo>
                      <a:pt x="2011" y="1"/>
                    </a:moveTo>
                    <a:lnTo>
                      <a:pt x="2011" y="1"/>
                    </a:lnTo>
                    <a:cubicBezTo>
                      <a:pt x="2012" y="1"/>
                      <a:pt x="2013" y="2"/>
                      <a:pt x="2013" y="3"/>
                    </a:cubicBezTo>
                    <a:cubicBezTo>
                      <a:pt x="2013" y="4"/>
                      <a:pt x="2012" y="5"/>
                      <a:pt x="2011" y="5"/>
                    </a:cubicBezTo>
                    <a:lnTo>
                      <a:pt x="2011" y="5"/>
                    </a:lnTo>
                    <a:cubicBezTo>
                      <a:pt x="2010" y="5"/>
                      <a:pt x="2009" y="4"/>
                      <a:pt x="2009" y="3"/>
                    </a:cubicBezTo>
                    <a:cubicBezTo>
                      <a:pt x="2009" y="2"/>
                      <a:pt x="2010" y="1"/>
                      <a:pt x="2011" y="1"/>
                    </a:cubicBezTo>
                    <a:close/>
                    <a:moveTo>
                      <a:pt x="2019" y="1"/>
                    </a:moveTo>
                    <a:lnTo>
                      <a:pt x="2019" y="1"/>
                    </a:lnTo>
                    <a:cubicBezTo>
                      <a:pt x="2020" y="1"/>
                      <a:pt x="2021" y="2"/>
                      <a:pt x="2021" y="3"/>
                    </a:cubicBezTo>
                    <a:cubicBezTo>
                      <a:pt x="2021" y="4"/>
                      <a:pt x="2020" y="5"/>
                      <a:pt x="2019" y="5"/>
                    </a:cubicBezTo>
                    <a:lnTo>
                      <a:pt x="2019" y="5"/>
                    </a:lnTo>
                    <a:cubicBezTo>
                      <a:pt x="2018" y="5"/>
                      <a:pt x="2017" y="4"/>
                      <a:pt x="2017" y="3"/>
                    </a:cubicBezTo>
                    <a:cubicBezTo>
                      <a:pt x="2017" y="2"/>
                      <a:pt x="2018" y="1"/>
                      <a:pt x="2019" y="1"/>
                    </a:cubicBezTo>
                    <a:close/>
                    <a:moveTo>
                      <a:pt x="2027" y="1"/>
                    </a:moveTo>
                    <a:lnTo>
                      <a:pt x="2027" y="1"/>
                    </a:lnTo>
                    <a:cubicBezTo>
                      <a:pt x="2028" y="1"/>
                      <a:pt x="2029" y="2"/>
                      <a:pt x="2029" y="3"/>
                    </a:cubicBezTo>
                    <a:cubicBezTo>
                      <a:pt x="2029" y="4"/>
                      <a:pt x="2028" y="5"/>
                      <a:pt x="2027" y="5"/>
                    </a:cubicBezTo>
                    <a:lnTo>
                      <a:pt x="2027" y="5"/>
                    </a:lnTo>
                    <a:cubicBezTo>
                      <a:pt x="2026" y="5"/>
                      <a:pt x="2025" y="4"/>
                      <a:pt x="2025" y="3"/>
                    </a:cubicBezTo>
                    <a:cubicBezTo>
                      <a:pt x="2025" y="2"/>
                      <a:pt x="2026" y="1"/>
                      <a:pt x="2027" y="1"/>
                    </a:cubicBezTo>
                    <a:close/>
                    <a:moveTo>
                      <a:pt x="2035" y="1"/>
                    </a:moveTo>
                    <a:lnTo>
                      <a:pt x="2035" y="1"/>
                    </a:lnTo>
                    <a:cubicBezTo>
                      <a:pt x="2036" y="1"/>
                      <a:pt x="2037" y="2"/>
                      <a:pt x="2037" y="3"/>
                    </a:cubicBezTo>
                    <a:cubicBezTo>
                      <a:pt x="2037" y="4"/>
                      <a:pt x="2036" y="5"/>
                      <a:pt x="2035" y="5"/>
                    </a:cubicBezTo>
                    <a:lnTo>
                      <a:pt x="2035" y="5"/>
                    </a:lnTo>
                    <a:cubicBezTo>
                      <a:pt x="2034" y="5"/>
                      <a:pt x="2033" y="4"/>
                      <a:pt x="2033" y="3"/>
                    </a:cubicBezTo>
                    <a:cubicBezTo>
                      <a:pt x="2033" y="2"/>
                      <a:pt x="2034" y="1"/>
                      <a:pt x="2035" y="1"/>
                    </a:cubicBezTo>
                    <a:close/>
                    <a:moveTo>
                      <a:pt x="2043" y="1"/>
                    </a:moveTo>
                    <a:lnTo>
                      <a:pt x="2043" y="1"/>
                    </a:lnTo>
                    <a:cubicBezTo>
                      <a:pt x="2044" y="1"/>
                      <a:pt x="2045" y="2"/>
                      <a:pt x="2045" y="3"/>
                    </a:cubicBezTo>
                    <a:cubicBezTo>
                      <a:pt x="2045" y="4"/>
                      <a:pt x="2044" y="5"/>
                      <a:pt x="2043" y="5"/>
                    </a:cubicBezTo>
                    <a:lnTo>
                      <a:pt x="2043" y="5"/>
                    </a:lnTo>
                    <a:cubicBezTo>
                      <a:pt x="2042" y="5"/>
                      <a:pt x="2041" y="4"/>
                      <a:pt x="2041" y="3"/>
                    </a:cubicBezTo>
                    <a:cubicBezTo>
                      <a:pt x="2041" y="2"/>
                      <a:pt x="2042" y="1"/>
                      <a:pt x="2043" y="1"/>
                    </a:cubicBezTo>
                    <a:close/>
                    <a:moveTo>
                      <a:pt x="2051" y="1"/>
                    </a:moveTo>
                    <a:lnTo>
                      <a:pt x="2051" y="1"/>
                    </a:lnTo>
                    <a:cubicBezTo>
                      <a:pt x="2052" y="1"/>
                      <a:pt x="2053" y="2"/>
                      <a:pt x="2053" y="3"/>
                    </a:cubicBezTo>
                    <a:cubicBezTo>
                      <a:pt x="2053" y="4"/>
                      <a:pt x="2052" y="5"/>
                      <a:pt x="2051" y="5"/>
                    </a:cubicBezTo>
                    <a:lnTo>
                      <a:pt x="2051" y="5"/>
                    </a:lnTo>
                    <a:cubicBezTo>
                      <a:pt x="2050" y="5"/>
                      <a:pt x="2049" y="4"/>
                      <a:pt x="2049" y="3"/>
                    </a:cubicBezTo>
                    <a:cubicBezTo>
                      <a:pt x="2049" y="2"/>
                      <a:pt x="2050" y="1"/>
                      <a:pt x="2051" y="1"/>
                    </a:cubicBezTo>
                    <a:close/>
                    <a:moveTo>
                      <a:pt x="2059" y="1"/>
                    </a:moveTo>
                    <a:lnTo>
                      <a:pt x="2059" y="1"/>
                    </a:lnTo>
                    <a:cubicBezTo>
                      <a:pt x="2060" y="1"/>
                      <a:pt x="2061" y="2"/>
                      <a:pt x="2061" y="3"/>
                    </a:cubicBezTo>
                    <a:cubicBezTo>
                      <a:pt x="2061" y="4"/>
                      <a:pt x="2060" y="5"/>
                      <a:pt x="2059" y="5"/>
                    </a:cubicBezTo>
                    <a:lnTo>
                      <a:pt x="2059" y="5"/>
                    </a:lnTo>
                    <a:cubicBezTo>
                      <a:pt x="2058" y="5"/>
                      <a:pt x="2057" y="4"/>
                      <a:pt x="2057" y="3"/>
                    </a:cubicBezTo>
                    <a:cubicBezTo>
                      <a:pt x="2057" y="2"/>
                      <a:pt x="2058" y="1"/>
                      <a:pt x="2059" y="1"/>
                    </a:cubicBezTo>
                    <a:close/>
                    <a:moveTo>
                      <a:pt x="2067" y="1"/>
                    </a:moveTo>
                    <a:lnTo>
                      <a:pt x="2067" y="1"/>
                    </a:lnTo>
                    <a:cubicBezTo>
                      <a:pt x="2068" y="1"/>
                      <a:pt x="2069" y="2"/>
                      <a:pt x="2069" y="3"/>
                    </a:cubicBezTo>
                    <a:cubicBezTo>
                      <a:pt x="2069" y="4"/>
                      <a:pt x="2068" y="5"/>
                      <a:pt x="2067" y="5"/>
                    </a:cubicBezTo>
                    <a:lnTo>
                      <a:pt x="2067" y="5"/>
                    </a:lnTo>
                    <a:cubicBezTo>
                      <a:pt x="2066" y="5"/>
                      <a:pt x="2065" y="4"/>
                      <a:pt x="2065" y="3"/>
                    </a:cubicBezTo>
                    <a:cubicBezTo>
                      <a:pt x="2065" y="2"/>
                      <a:pt x="2066" y="1"/>
                      <a:pt x="2067" y="1"/>
                    </a:cubicBezTo>
                    <a:close/>
                    <a:moveTo>
                      <a:pt x="2075" y="1"/>
                    </a:moveTo>
                    <a:lnTo>
                      <a:pt x="2075" y="1"/>
                    </a:lnTo>
                    <a:cubicBezTo>
                      <a:pt x="2076" y="1"/>
                      <a:pt x="2077" y="2"/>
                      <a:pt x="2077" y="3"/>
                    </a:cubicBezTo>
                    <a:cubicBezTo>
                      <a:pt x="2077" y="4"/>
                      <a:pt x="2076" y="5"/>
                      <a:pt x="2075" y="5"/>
                    </a:cubicBezTo>
                    <a:lnTo>
                      <a:pt x="2075" y="5"/>
                    </a:lnTo>
                    <a:cubicBezTo>
                      <a:pt x="2074" y="5"/>
                      <a:pt x="2073" y="4"/>
                      <a:pt x="2073" y="3"/>
                    </a:cubicBezTo>
                    <a:cubicBezTo>
                      <a:pt x="2073" y="2"/>
                      <a:pt x="2074" y="1"/>
                      <a:pt x="2075" y="1"/>
                    </a:cubicBezTo>
                    <a:close/>
                    <a:moveTo>
                      <a:pt x="2083" y="1"/>
                    </a:moveTo>
                    <a:lnTo>
                      <a:pt x="2083" y="1"/>
                    </a:lnTo>
                    <a:cubicBezTo>
                      <a:pt x="2084" y="1"/>
                      <a:pt x="2085" y="2"/>
                      <a:pt x="2085" y="3"/>
                    </a:cubicBezTo>
                    <a:cubicBezTo>
                      <a:pt x="2085" y="4"/>
                      <a:pt x="2084" y="5"/>
                      <a:pt x="2083" y="5"/>
                    </a:cubicBezTo>
                    <a:lnTo>
                      <a:pt x="2083" y="5"/>
                    </a:lnTo>
                    <a:cubicBezTo>
                      <a:pt x="2082" y="5"/>
                      <a:pt x="2081" y="4"/>
                      <a:pt x="2081" y="3"/>
                    </a:cubicBezTo>
                    <a:cubicBezTo>
                      <a:pt x="2081" y="2"/>
                      <a:pt x="2082" y="1"/>
                      <a:pt x="2083" y="1"/>
                    </a:cubicBezTo>
                    <a:close/>
                    <a:moveTo>
                      <a:pt x="2091" y="1"/>
                    </a:moveTo>
                    <a:lnTo>
                      <a:pt x="2091" y="1"/>
                    </a:lnTo>
                    <a:cubicBezTo>
                      <a:pt x="2092" y="1"/>
                      <a:pt x="2093" y="2"/>
                      <a:pt x="2093" y="3"/>
                    </a:cubicBezTo>
                    <a:cubicBezTo>
                      <a:pt x="2093" y="4"/>
                      <a:pt x="2092" y="5"/>
                      <a:pt x="2091" y="5"/>
                    </a:cubicBezTo>
                    <a:lnTo>
                      <a:pt x="2091" y="5"/>
                    </a:lnTo>
                    <a:cubicBezTo>
                      <a:pt x="2090" y="5"/>
                      <a:pt x="2089" y="4"/>
                      <a:pt x="2089" y="3"/>
                    </a:cubicBezTo>
                    <a:cubicBezTo>
                      <a:pt x="2089" y="2"/>
                      <a:pt x="2090" y="1"/>
                      <a:pt x="2091" y="1"/>
                    </a:cubicBezTo>
                    <a:close/>
                    <a:moveTo>
                      <a:pt x="2099" y="1"/>
                    </a:moveTo>
                    <a:lnTo>
                      <a:pt x="2099" y="1"/>
                    </a:lnTo>
                    <a:cubicBezTo>
                      <a:pt x="2100" y="1"/>
                      <a:pt x="2101" y="2"/>
                      <a:pt x="2101" y="3"/>
                    </a:cubicBezTo>
                    <a:cubicBezTo>
                      <a:pt x="2101" y="4"/>
                      <a:pt x="2100" y="5"/>
                      <a:pt x="2099" y="5"/>
                    </a:cubicBezTo>
                    <a:lnTo>
                      <a:pt x="2099" y="5"/>
                    </a:lnTo>
                    <a:cubicBezTo>
                      <a:pt x="2098" y="5"/>
                      <a:pt x="2097" y="4"/>
                      <a:pt x="2097" y="3"/>
                    </a:cubicBezTo>
                    <a:cubicBezTo>
                      <a:pt x="2097" y="2"/>
                      <a:pt x="2098" y="1"/>
                      <a:pt x="2099" y="1"/>
                    </a:cubicBezTo>
                    <a:close/>
                    <a:moveTo>
                      <a:pt x="2107" y="1"/>
                    </a:moveTo>
                    <a:lnTo>
                      <a:pt x="2107" y="1"/>
                    </a:lnTo>
                    <a:cubicBezTo>
                      <a:pt x="2108" y="1"/>
                      <a:pt x="2109" y="2"/>
                      <a:pt x="2109" y="3"/>
                    </a:cubicBezTo>
                    <a:cubicBezTo>
                      <a:pt x="2109" y="4"/>
                      <a:pt x="2108" y="5"/>
                      <a:pt x="2107" y="5"/>
                    </a:cubicBezTo>
                    <a:lnTo>
                      <a:pt x="2107" y="5"/>
                    </a:lnTo>
                    <a:cubicBezTo>
                      <a:pt x="2106" y="5"/>
                      <a:pt x="2105" y="4"/>
                      <a:pt x="2105" y="3"/>
                    </a:cubicBezTo>
                    <a:cubicBezTo>
                      <a:pt x="2105" y="2"/>
                      <a:pt x="2106" y="1"/>
                      <a:pt x="2107" y="1"/>
                    </a:cubicBezTo>
                    <a:close/>
                    <a:moveTo>
                      <a:pt x="2115" y="1"/>
                    </a:moveTo>
                    <a:lnTo>
                      <a:pt x="2115" y="1"/>
                    </a:lnTo>
                    <a:cubicBezTo>
                      <a:pt x="2116" y="1"/>
                      <a:pt x="2117" y="2"/>
                      <a:pt x="2117" y="3"/>
                    </a:cubicBezTo>
                    <a:cubicBezTo>
                      <a:pt x="2117" y="4"/>
                      <a:pt x="2116" y="5"/>
                      <a:pt x="2115" y="5"/>
                    </a:cubicBezTo>
                    <a:lnTo>
                      <a:pt x="2115" y="5"/>
                    </a:lnTo>
                    <a:cubicBezTo>
                      <a:pt x="2114" y="5"/>
                      <a:pt x="2113" y="4"/>
                      <a:pt x="2113" y="3"/>
                    </a:cubicBezTo>
                    <a:cubicBezTo>
                      <a:pt x="2113" y="2"/>
                      <a:pt x="2114" y="1"/>
                      <a:pt x="2115" y="1"/>
                    </a:cubicBezTo>
                    <a:close/>
                    <a:moveTo>
                      <a:pt x="2123" y="1"/>
                    </a:moveTo>
                    <a:lnTo>
                      <a:pt x="2123" y="1"/>
                    </a:lnTo>
                    <a:cubicBezTo>
                      <a:pt x="2124" y="1"/>
                      <a:pt x="2125" y="2"/>
                      <a:pt x="2125" y="3"/>
                    </a:cubicBezTo>
                    <a:cubicBezTo>
                      <a:pt x="2125" y="4"/>
                      <a:pt x="2124" y="5"/>
                      <a:pt x="2123" y="5"/>
                    </a:cubicBezTo>
                    <a:lnTo>
                      <a:pt x="2123" y="5"/>
                    </a:lnTo>
                    <a:cubicBezTo>
                      <a:pt x="2122" y="5"/>
                      <a:pt x="2121" y="4"/>
                      <a:pt x="2121" y="3"/>
                    </a:cubicBezTo>
                    <a:cubicBezTo>
                      <a:pt x="2121" y="2"/>
                      <a:pt x="2122" y="1"/>
                      <a:pt x="2123" y="1"/>
                    </a:cubicBezTo>
                    <a:close/>
                    <a:moveTo>
                      <a:pt x="2131" y="1"/>
                    </a:moveTo>
                    <a:lnTo>
                      <a:pt x="2131" y="1"/>
                    </a:lnTo>
                    <a:cubicBezTo>
                      <a:pt x="2132" y="1"/>
                      <a:pt x="2133" y="2"/>
                      <a:pt x="2133" y="3"/>
                    </a:cubicBezTo>
                    <a:cubicBezTo>
                      <a:pt x="2133" y="4"/>
                      <a:pt x="2132" y="5"/>
                      <a:pt x="2131" y="5"/>
                    </a:cubicBezTo>
                    <a:lnTo>
                      <a:pt x="2131" y="5"/>
                    </a:lnTo>
                    <a:cubicBezTo>
                      <a:pt x="2130" y="5"/>
                      <a:pt x="2129" y="4"/>
                      <a:pt x="2129" y="3"/>
                    </a:cubicBezTo>
                    <a:cubicBezTo>
                      <a:pt x="2129" y="2"/>
                      <a:pt x="2130" y="1"/>
                      <a:pt x="2131" y="1"/>
                    </a:cubicBezTo>
                    <a:close/>
                    <a:moveTo>
                      <a:pt x="2139" y="1"/>
                    </a:moveTo>
                    <a:lnTo>
                      <a:pt x="2139" y="1"/>
                    </a:lnTo>
                    <a:cubicBezTo>
                      <a:pt x="2140" y="1"/>
                      <a:pt x="2141" y="2"/>
                      <a:pt x="2141" y="3"/>
                    </a:cubicBezTo>
                    <a:cubicBezTo>
                      <a:pt x="2141" y="4"/>
                      <a:pt x="2140" y="5"/>
                      <a:pt x="2139" y="5"/>
                    </a:cubicBezTo>
                    <a:lnTo>
                      <a:pt x="2139" y="5"/>
                    </a:lnTo>
                    <a:cubicBezTo>
                      <a:pt x="2138" y="5"/>
                      <a:pt x="2137" y="4"/>
                      <a:pt x="2137" y="3"/>
                    </a:cubicBezTo>
                    <a:cubicBezTo>
                      <a:pt x="2137" y="2"/>
                      <a:pt x="2138" y="1"/>
                      <a:pt x="2139" y="1"/>
                    </a:cubicBezTo>
                    <a:close/>
                    <a:moveTo>
                      <a:pt x="2147" y="1"/>
                    </a:moveTo>
                    <a:lnTo>
                      <a:pt x="2147" y="1"/>
                    </a:lnTo>
                    <a:cubicBezTo>
                      <a:pt x="2148" y="1"/>
                      <a:pt x="2149" y="2"/>
                      <a:pt x="2149" y="3"/>
                    </a:cubicBezTo>
                    <a:cubicBezTo>
                      <a:pt x="2149" y="4"/>
                      <a:pt x="2148" y="5"/>
                      <a:pt x="2147" y="5"/>
                    </a:cubicBezTo>
                    <a:lnTo>
                      <a:pt x="2147" y="5"/>
                    </a:lnTo>
                    <a:cubicBezTo>
                      <a:pt x="2146" y="5"/>
                      <a:pt x="2145" y="4"/>
                      <a:pt x="2145" y="3"/>
                    </a:cubicBezTo>
                    <a:cubicBezTo>
                      <a:pt x="2145" y="2"/>
                      <a:pt x="2146" y="1"/>
                      <a:pt x="2147" y="1"/>
                    </a:cubicBezTo>
                    <a:close/>
                    <a:moveTo>
                      <a:pt x="2155" y="1"/>
                    </a:moveTo>
                    <a:lnTo>
                      <a:pt x="2155" y="1"/>
                    </a:lnTo>
                    <a:cubicBezTo>
                      <a:pt x="2156" y="1"/>
                      <a:pt x="2157" y="2"/>
                      <a:pt x="2157" y="3"/>
                    </a:cubicBezTo>
                    <a:cubicBezTo>
                      <a:pt x="2157" y="4"/>
                      <a:pt x="2156" y="5"/>
                      <a:pt x="2155" y="5"/>
                    </a:cubicBezTo>
                    <a:lnTo>
                      <a:pt x="2155" y="5"/>
                    </a:lnTo>
                    <a:cubicBezTo>
                      <a:pt x="2154" y="5"/>
                      <a:pt x="2153" y="4"/>
                      <a:pt x="2153" y="3"/>
                    </a:cubicBezTo>
                    <a:cubicBezTo>
                      <a:pt x="2153" y="2"/>
                      <a:pt x="2154" y="1"/>
                      <a:pt x="2155" y="1"/>
                    </a:cubicBezTo>
                    <a:close/>
                    <a:moveTo>
                      <a:pt x="2163" y="1"/>
                    </a:moveTo>
                    <a:lnTo>
                      <a:pt x="2163" y="1"/>
                    </a:lnTo>
                    <a:cubicBezTo>
                      <a:pt x="2164" y="1"/>
                      <a:pt x="2165" y="2"/>
                      <a:pt x="2165" y="3"/>
                    </a:cubicBezTo>
                    <a:cubicBezTo>
                      <a:pt x="2165" y="4"/>
                      <a:pt x="2164" y="5"/>
                      <a:pt x="2163" y="5"/>
                    </a:cubicBezTo>
                    <a:lnTo>
                      <a:pt x="2163" y="5"/>
                    </a:lnTo>
                    <a:cubicBezTo>
                      <a:pt x="2162" y="5"/>
                      <a:pt x="2161" y="4"/>
                      <a:pt x="2161" y="3"/>
                    </a:cubicBezTo>
                    <a:cubicBezTo>
                      <a:pt x="2161" y="2"/>
                      <a:pt x="2162" y="1"/>
                      <a:pt x="2163" y="1"/>
                    </a:cubicBezTo>
                    <a:close/>
                    <a:moveTo>
                      <a:pt x="2171" y="1"/>
                    </a:moveTo>
                    <a:lnTo>
                      <a:pt x="2171" y="1"/>
                    </a:lnTo>
                    <a:cubicBezTo>
                      <a:pt x="2172" y="1"/>
                      <a:pt x="2173" y="2"/>
                      <a:pt x="2173" y="3"/>
                    </a:cubicBezTo>
                    <a:cubicBezTo>
                      <a:pt x="2173" y="4"/>
                      <a:pt x="2172" y="5"/>
                      <a:pt x="2171" y="5"/>
                    </a:cubicBezTo>
                    <a:lnTo>
                      <a:pt x="2171" y="5"/>
                    </a:lnTo>
                    <a:cubicBezTo>
                      <a:pt x="2170" y="5"/>
                      <a:pt x="2169" y="4"/>
                      <a:pt x="2169" y="3"/>
                    </a:cubicBezTo>
                    <a:cubicBezTo>
                      <a:pt x="2169" y="2"/>
                      <a:pt x="2170" y="1"/>
                      <a:pt x="2171" y="1"/>
                    </a:cubicBezTo>
                    <a:close/>
                    <a:moveTo>
                      <a:pt x="2179" y="1"/>
                    </a:moveTo>
                    <a:lnTo>
                      <a:pt x="2179" y="1"/>
                    </a:lnTo>
                    <a:cubicBezTo>
                      <a:pt x="2180" y="1"/>
                      <a:pt x="2181" y="2"/>
                      <a:pt x="2181" y="3"/>
                    </a:cubicBezTo>
                    <a:cubicBezTo>
                      <a:pt x="2181" y="4"/>
                      <a:pt x="2180" y="5"/>
                      <a:pt x="2179" y="5"/>
                    </a:cubicBezTo>
                    <a:lnTo>
                      <a:pt x="2179" y="5"/>
                    </a:lnTo>
                    <a:cubicBezTo>
                      <a:pt x="2178" y="5"/>
                      <a:pt x="2177" y="4"/>
                      <a:pt x="2177" y="3"/>
                    </a:cubicBezTo>
                    <a:cubicBezTo>
                      <a:pt x="2177" y="2"/>
                      <a:pt x="2178" y="1"/>
                      <a:pt x="2179" y="1"/>
                    </a:cubicBezTo>
                    <a:close/>
                    <a:moveTo>
                      <a:pt x="2187" y="1"/>
                    </a:moveTo>
                    <a:lnTo>
                      <a:pt x="2187" y="1"/>
                    </a:lnTo>
                    <a:cubicBezTo>
                      <a:pt x="2188" y="1"/>
                      <a:pt x="2189" y="2"/>
                      <a:pt x="2189" y="3"/>
                    </a:cubicBezTo>
                    <a:cubicBezTo>
                      <a:pt x="2189" y="4"/>
                      <a:pt x="2188" y="5"/>
                      <a:pt x="2187" y="5"/>
                    </a:cubicBezTo>
                    <a:lnTo>
                      <a:pt x="2187" y="5"/>
                    </a:lnTo>
                    <a:cubicBezTo>
                      <a:pt x="2186" y="5"/>
                      <a:pt x="2185" y="4"/>
                      <a:pt x="2185" y="3"/>
                    </a:cubicBezTo>
                    <a:cubicBezTo>
                      <a:pt x="2185" y="2"/>
                      <a:pt x="2186" y="1"/>
                      <a:pt x="2187" y="1"/>
                    </a:cubicBezTo>
                    <a:close/>
                    <a:moveTo>
                      <a:pt x="2195" y="1"/>
                    </a:moveTo>
                    <a:lnTo>
                      <a:pt x="2195" y="1"/>
                    </a:lnTo>
                    <a:cubicBezTo>
                      <a:pt x="2196" y="1"/>
                      <a:pt x="2197" y="2"/>
                      <a:pt x="2197" y="3"/>
                    </a:cubicBezTo>
                    <a:cubicBezTo>
                      <a:pt x="2197" y="4"/>
                      <a:pt x="2196" y="5"/>
                      <a:pt x="2195" y="5"/>
                    </a:cubicBezTo>
                    <a:lnTo>
                      <a:pt x="2195" y="5"/>
                    </a:lnTo>
                    <a:cubicBezTo>
                      <a:pt x="2194" y="5"/>
                      <a:pt x="2193" y="4"/>
                      <a:pt x="2193" y="3"/>
                    </a:cubicBezTo>
                    <a:cubicBezTo>
                      <a:pt x="2193" y="2"/>
                      <a:pt x="2194" y="1"/>
                      <a:pt x="2195" y="1"/>
                    </a:cubicBezTo>
                    <a:close/>
                    <a:moveTo>
                      <a:pt x="2203" y="1"/>
                    </a:moveTo>
                    <a:lnTo>
                      <a:pt x="2203" y="1"/>
                    </a:lnTo>
                    <a:cubicBezTo>
                      <a:pt x="2204" y="1"/>
                      <a:pt x="2205" y="2"/>
                      <a:pt x="2205" y="3"/>
                    </a:cubicBezTo>
                    <a:cubicBezTo>
                      <a:pt x="2205" y="4"/>
                      <a:pt x="2204" y="5"/>
                      <a:pt x="2203" y="5"/>
                    </a:cubicBezTo>
                    <a:lnTo>
                      <a:pt x="2203" y="5"/>
                    </a:lnTo>
                    <a:cubicBezTo>
                      <a:pt x="2202" y="5"/>
                      <a:pt x="2201" y="4"/>
                      <a:pt x="2201" y="3"/>
                    </a:cubicBezTo>
                    <a:cubicBezTo>
                      <a:pt x="2201" y="2"/>
                      <a:pt x="2202" y="1"/>
                      <a:pt x="2203" y="1"/>
                    </a:cubicBezTo>
                    <a:close/>
                    <a:moveTo>
                      <a:pt x="2211" y="1"/>
                    </a:moveTo>
                    <a:lnTo>
                      <a:pt x="2211" y="1"/>
                    </a:lnTo>
                    <a:cubicBezTo>
                      <a:pt x="2212" y="1"/>
                      <a:pt x="2213" y="2"/>
                      <a:pt x="2213" y="3"/>
                    </a:cubicBezTo>
                    <a:cubicBezTo>
                      <a:pt x="2213" y="4"/>
                      <a:pt x="2212" y="5"/>
                      <a:pt x="2211" y="5"/>
                    </a:cubicBezTo>
                    <a:lnTo>
                      <a:pt x="2211" y="5"/>
                    </a:lnTo>
                    <a:cubicBezTo>
                      <a:pt x="2210" y="5"/>
                      <a:pt x="2209" y="4"/>
                      <a:pt x="2209" y="3"/>
                    </a:cubicBezTo>
                    <a:cubicBezTo>
                      <a:pt x="2209" y="2"/>
                      <a:pt x="2210" y="1"/>
                      <a:pt x="2211" y="1"/>
                    </a:cubicBezTo>
                    <a:close/>
                    <a:moveTo>
                      <a:pt x="2219" y="1"/>
                    </a:moveTo>
                    <a:lnTo>
                      <a:pt x="2219" y="1"/>
                    </a:lnTo>
                    <a:cubicBezTo>
                      <a:pt x="2220" y="1"/>
                      <a:pt x="2221" y="2"/>
                      <a:pt x="2221" y="3"/>
                    </a:cubicBezTo>
                    <a:cubicBezTo>
                      <a:pt x="2221" y="4"/>
                      <a:pt x="2220" y="5"/>
                      <a:pt x="2219" y="5"/>
                    </a:cubicBezTo>
                    <a:lnTo>
                      <a:pt x="2219" y="5"/>
                    </a:lnTo>
                    <a:cubicBezTo>
                      <a:pt x="2218" y="5"/>
                      <a:pt x="2217" y="4"/>
                      <a:pt x="2217" y="3"/>
                    </a:cubicBezTo>
                    <a:cubicBezTo>
                      <a:pt x="2217" y="2"/>
                      <a:pt x="2218" y="1"/>
                      <a:pt x="2219" y="1"/>
                    </a:cubicBezTo>
                    <a:close/>
                    <a:moveTo>
                      <a:pt x="2227" y="1"/>
                    </a:moveTo>
                    <a:lnTo>
                      <a:pt x="2227" y="1"/>
                    </a:lnTo>
                    <a:cubicBezTo>
                      <a:pt x="2228" y="1"/>
                      <a:pt x="2229" y="2"/>
                      <a:pt x="2229" y="3"/>
                    </a:cubicBezTo>
                    <a:cubicBezTo>
                      <a:pt x="2229" y="4"/>
                      <a:pt x="2228" y="5"/>
                      <a:pt x="2227" y="5"/>
                    </a:cubicBezTo>
                    <a:lnTo>
                      <a:pt x="2227" y="5"/>
                    </a:lnTo>
                    <a:cubicBezTo>
                      <a:pt x="2226" y="5"/>
                      <a:pt x="2225" y="4"/>
                      <a:pt x="2225" y="3"/>
                    </a:cubicBezTo>
                    <a:cubicBezTo>
                      <a:pt x="2225" y="2"/>
                      <a:pt x="2226" y="1"/>
                      <a:pt x="2227" y="1"/>
                    </a:cubicBezTo>
                    <a:close/>
                    <a:moveTo>
                      <a:pt x="2235" y="1"/>
                    </a:moveTo>
                    <a:lnTo>
                      <a:pt x="2235" y="1"/>
                    </a:lnTo>
                    <a:cubicBezTo>
                      <a:pt x="2236" y="1"/>
                      <a:pt x="2237" y="2"/>
                      <a:pt x="2237" y="3"/>
                    </a:cubicBezTo>
                    <a:cubicBezTo>
                      <a:pt x="2237" y="4"/>
                      <a:pt x="2236" y="5"/>
                      <a:pt x="2235" y="5"/>
                    </a:cubicBezTo>
                    <a:lnTo>
                      <a:pt x="2235" y="5"/>
                    </a:lnTo>
                    <a:cubicBezTo>
                      <a:pt x="2234" y="5"/>
                      <a:pt x="2233" y="4"/>
                      <a:pt x="2233" y="3"/>
                    </a:cubicBezTo>
                    <a:cubicBezTo>
                      <a:pt x="2233" y="2"/>
                      <a:pt x="2234" y="1"/>
                      <a:pt x="2235" y="1"/>
                    </a:cubicBezTo>
                    <a:close/>
                    <a:moveTo>
                      <a:pt x="2243" y="1"/>
                    </a:moveTo>
                    <a:lnTo>
                      <a:pt x="2243" y="1"/>
                    </a:lnTo>
                    <a:cubicBezTo>
                      <a:pt x="2244" y="1"/>
                      <a:pt x="2245" y="2"/>
                      <a:pt x="2245" y="3"/>
                    </a:cubicBezTo>
                    <a:cubicBezTo>
                      <a:pt x="2245" y="4"/>
                      <a:pt x="2244" y="5"/>
                      <a:pt x="2243" y="5"/>
                    </a:cubicBezTo>
                    <a:lnTo>
                      <a:pt x="2243" y="5"/>
                    </a:lnTo>
                    <a:cubicBezTo>
                      <a:pt x="2242" y="5"/>
                      <a:pt x="2241" y="4"/>
                      <a:pt x="2241" y="3"/>
                    </a:cubicBezTo>
                    <a:cubicBezTo>
                      <a:pt x="2241" y="2"/>
                      <a:pt x="2242" y="1"/>
                      <a:pt x="2243" y="1"/>
                    </a:cubicBezTo>
                    <a:close/>
                    <a:moveTo>
                      <a:pt x="2251" y="1"/>
                    </a:moveTo>
                    <a:lnTo>
                      <a:pt x="2251" y="1"/>
                    </a:lnTo>
                    <a:cubicBezTo>
                      <a:pt x="2252" y="1"/>
                      <a:pt x="2253" y="2"/>
                      <a:pt x="2253" y="3"/>
                    </a:cubicBezTo>
                    <a:cubicBezTo>
                      <a:pt x="2253" y="4"/>
                      <a:pt x="2252" y="5"/>
                      <a:pt x="2251" y="5"/>
                    </a:cubicBezTo>
                    <a:lnTo>
                      <a:pt x="2251" y="5"/>
                    </a:lnTo>
                    <a:cubicBezTo>
                      <a:pt x="2250" y="5"/>
                      <a:pt x="2249" y="4"/>
                      <a:pt x="2249" y="3"/>
                    </a:cubicBezTo>
                    <a:cubicBezTo>
                      <a:pt x="2249" y="2"/>
                      <a:pt x="2250" y="1"/>
                      <a:pt x="2251" y="1"/>
                    </a:cubicBezTo>
                    <a:close/>
                    <a:moveTo>
                      <a:pt x="2259" y="1"/>
                    </a:moveTo>
                    <a:lnTo>
                      <a:pt x="2259" y="1"/>
                    </a:lnTo>
                    <a:cubicBezTo>
                      <a:pt x="2260" y="1"/>
                      <a:pt x="2261" y="2"/>
                      <a:pt x="2261" y="3"/>
                    </a:cubicBezTo>
                    <a:cubicBezTo>
                      <a:pt x="2261" y="4"/>
                      <a:pt x="2260" y="5"/>
                      <a:pt x="2259" y="5"/>
                    </a:cubicBezTo>
                    <a:lnTo>
                      <a:pt x="2259" y="5"/>
                    </a:lnTo>
                    <a:cubicBezTo>
                      <a:pt x="2258" y="5"/>
                      <a:pt x="2257" y="4"/>
                      <a:pt x="2257" y="3"/>
                    </a:cubicBezTo>
                    <a:cubicBezTo>
                      <a:pt x="2257" y="2"/>
                      <a:pt x="2258" y="1"/>
                      <a:pt x="2259" y="1"/>
                    </a:cubicBezTo>
                    <a:close/>
                    <a:moveTo>
                      <a:pt x="2267" y="1"/>
                    </a:moveTo>
                    <a:lnTo>
                      <a:pt x="2267" y="1"/>
                    </a:lnTo>
                    <a:cubicBezTo>
                      <a:pt x="2268" y="1"/>
                      <a:pt x="2269" y="2"/>
                      <a:pt x="2269" y="3"/>
                    </a:cubicBezTo>
                    <a:cubicBezTo>
                      <a:pt x="2269" y="4"/>
                      <a:pt x="2268" y="5"/>
                      <a:pt x="2267" y="5"/>
                    </a:cubicBezTo>
                    <a:lnTo>
                      <a:pt x="2267" y="5"/>
                    </a:lnTo>
                    <a:cubicBezTo>
                      <a:pt x="2266" y="5"/>
                      <a:pt x="2265" y="4"/>
                      <a:pt x="2265" y="3"/>
                    </a:cubicBezTo>
                    <a:cubicBezTo>
                      <a:pt x="2265" y="2"/>
                      <a:pt x="2266" y="1"/>
                      <a:pt x="2267" y="1"/>
                    </a:cubicBezTo>
                    <a:close/>
                    <a:moveTo>
                      <a:pt x="2275" y="1"/>
                    </a:moveTo>
                    <a:lnTo>
                      <a:pt x="2275" y="1"/>
                    </a:lnTo>
                    <a:cubicBezTo>
                      <a:pt x="2276" y="1"/>
                      <a:pt x="2277" y="2"/>
                      <a:pt x="2277" y="3"/>
                    </a:cubicBezTo>
                    <a:cubicBezTo>
                      <a:pt x="2277" y="4"/>
                      <a:pt x="2276" y="5"/>
                      <a:pt x="2275" y="5"/>
                    </a:cubicBezTo>
                    <a:lnTo>
                      <a:pt x="2275" y="5"/>
                    </a:lnTo>
                    <a:cubicBezTo>
                      <a:pt x="2274" y="5"/>
                      <a:pt x="2273" y="4"/>
                      <a:pt x="2273" y="3"/>
                    </a:cubicBezTo>
                    <a:cubicBezTo>
                      <a:pt x="2273" y="2"/>
                      <a:pt x="2274" y="1"/>
                      <a:pt x="2275" y="1"/>
                    </a:cubicBezTo>
                    <a:close/>
                    <a:moveTo>
                      <a:pt x="2283" y="1"/>
                    </a:moveTo>
                    <a:lnTo>
                      <a:pt x="2283" y="1"/>
                    </a:lnTo>
                    <a:cubicBezTo>
                      <a:pt x="2284" y="1"/>
                      <a:pt x="2285" y="2"/>
                      <a:pt x="2285" y="3"/>
                    </a:cubicBezTo>
                    <a:cubicBezTo>
                      <a:pt x="2285" y="4"/>
                      <a:pt x="2284" y="5"/>
                      <a:pt x="2283" y="5"/>
                    </a:cubicBezTo>
                    <a:lnTo>
                      <a:pt x="2283" y="5"/>
                    </a:lnTo>
                    <a:cubicBezTo>
                      <a:pt x="2282" y="5"/>
                      <a:pt x="2281" y="4"/>
                      <a:pt x="2281" y="3"/>
                    </a:cubicBezTo>
                    <a:cubicBezTo>
                      <a:pt x="2281" y="2"/>
                      <a:pt x="2282" y="1"/>
                      <a:pt x="2283" y="1"/>
                    </a:cubicBezTo>
                    <a:close/>
                    <a:moveTo>
                      <a:pt x="2291" y="1"/>
                    </a:moveTo>
                    <a:lnTo>
                      <a:pt x="2291" y="1"/>
                    </a:lnTo>
                    <a:cubicBezTo>
                      <a:pt x="2292" y="1"/>
                      <a:pt x="2293" y="2"/>
                      <a:pt x="2293" y="3"/>
                    </a:cubicBezTo>
                    <a:cubicBezTo>
                      <a:pt x="2293" y="4"/>
                      <a:pt x="2292" y="5"/>
                      <a:pt x="2291" y="5"/>
                    </a:cubicBezTo>
                    <a:lnTo>
                      <a:pt x="2291" y="5"/>
                    </a:lnTo>
                    <a:cubicBezTo>
                      <a:pt x="2290" y="5"/>
                      <a:pt x="2289" y="4"/>
                      <a:pt x="2289" y="3"/>
                    </a:cubicBezTo>
                    <a:cubicBezTo>
                      <a:pt x="2289" y="2"/>
                      <a:pt x="2290" y="1"/>
                      <a:pt x="2291" y="1"/>
                    </a:cubicBezTo>
                    <a:close/>
                    <a:moveTo>
                      <a:pt x="2299" y="1"/>
                    </a:moveTo>
                    <a:lnTo>
                      <a:pt x="2299" y="1"/>
                    </a:lnTo>
                    <a:cubicBezTo>
                      <a:pt x="2300" y="1"/>
                      <a:pt x="2301" y="2"/>
                      <a:pt x="2301" y="3"/>
                    </a:cubicBezTo>
                    <a:cubicBezTo>
                      <a:pt x="2301" y="4"/>
                      <a:pt x="2300" y="5"/>
                      <a:pt x="2299" y="5"/>
                    </a:cubicBezTo>
                    <a:lnTo>
                      <a:pt x="2299" y="5"/>
                    </a:lnTo>
                    <a:cubicBezTo>
                      <a:pt x="2298" y="5"/>
                      <a:pt x="2297" y="4"/>
                      <a:pt x="2297" y="3"/>
                    </a:cubicBezTo>
                    <a:cubicBezTo>
                      <a:pt x="2297" y="2"/>
                      <a:pt x="2298" y="1"/>
                      <a:pt x="2299" y="1"/>
                    </a:cubicBezTo>
                    <a:close/>
                    <a:moveTo>
                      <a:pt x="2307" y="1"/>
                    </a:moveTo>
                    <a:lnTo>
                      <a:pt x="2307" y="1"/>
                    </a:lnTo>
                    <a:cubicBezTo>
                      <a:pt x="2308" y="1"/>
                      <a:pt x="2309" y="2"/>
                      <a:pt x="2309" y="3"/>
                    </a:cubicBezTo>
                    <a:cubicBezTo>
                      <a:pt x="2309" y="4"/>
                      <a:pt x="2308" y="5"/>
                      <a:pt x="2307" y="5"/>
                    </a:cubicBezTo>
                    <a:lnTo>
                      <a:pt x="2307" y="5"/>
                    </a:lnTo>
                    <a:cubicBezTo>
                      <a:pt x="2306" y="5"/>
                      <a:pt x="2305" y="4"/>
                      <a:pt x="2305" y="3"/>
                    </a:cubicBezTo>
                    <a:cubicBezTo>
                      <a:pt x="2305" y="2"/>
                      <a:pt x="2306" y="1"/>
                      <a:pt x="2307" y="1"/>
                    </a:cubicBezTo>
                    <a:close/>
                    <a:moveTo>
                      <a:pt x="2315" y="1"/>
                    </a:moveTo>
                    <a:lnTo>
                      <a:pt x="2315" y="1"/>
                    </a:lnTo>
                    <a:cubicBezTo>
                      <a:pt x="2316" y="1"/>
                      <a:pt x="2317" y="2"/>
                      <a:pt x="2317" y="3"/>
                    </a:cubicBezTo>
                    <a:cubicBezTo>
                      <a:pt x="2317" y="4"/>
                      <a:pt x="2316" y="5"/>
                      <a:pt x="2315" y="5"/>
                    </a:cubicBezTo>
                    <a:lnTo>
                      <a:pt x="2315" y="5"/>
                    </a:lnTo>
                    <a:cubicBezTo>
                      <a:pt x="2314" y="5"/>
                      <a:pt x="2313" y="4"/>
                      <a:pt x="2313" y="3"/>
                    </a:cubicBezTo>
                    <a:cubicBezTo>
                      <a:pt x="2313" y="2"/>
                      <a:pt x="2314" y="1"/>
                      <a:pt x="2315" y="1"/>
                    </a:cubicBezTo>
                    <a:close/>
                    <a:moveTo>
                      <a:pt x="2323" y="1"/>
                    </a:moveTo>
                    <a:lnTo>
                      <a:pt x="2323" y="1"/>
                    </a:lnTo>
                    <a:cubicBezTo>
                      <a:pt x="2324" y="1"/>
                      <a:pt x="2325" y="2"/>
                      <a:pt x="2325" y="3"/>
                    </a:cubicBezTo>
                    <a:cubicBezTo>
                      <a:pt x="2325" y="4"/>
                      <a:pt x="2324" y="5"/>
                      <a:pt x="2323" y="5"/>
                    </a:cubicBezTo>
                    <a:lnTo>
                      <a:pt x="2323" y="5"/>
                    </a:lnTo>
                    <a:cubicBezTo>
                      <a:pt x="2322" y="5"/>
                      <a:pt x="2321" y="4"/>
                      <a:pt x="2321" y="3"/>
                    </a:cubicBezTo>
                    <a:cubicBezTo>
                      <a:pt x="2321" y="2"/>
                      <a:pt x="2322" y="1"/>
                      <a:pt x="2323" y="1"/>
                    </a:cubicBezTo>
                    <a:close/>
                    <a:moveTo>
                      <a:pt x="2331" y="1"/>
                    </a:moveTo>
                    <a:lnTo>
                      <a:pt x="2331" y="1"/>
                    </a:lnTo>
                    <a:cubicBezTo>
                      <a:pt x="2332" y="1"/>
                      <a:pt x="2333" y="2"/>
                      <a:pt x="2333" y="3"/>
                    </a:cubicBezTo>
                    <a:cubicBezTo>
                      <a:pt x="2333" y="4"/>
                      <a:pt x="2332" y="5"/>
                      <a:pt x="2331" y="5"/>
                    </a:cubicBezTo>
                    <a:lnTo>
                      <a:pt x="2331" y="5"/>
                    </a:lnTo>
                    <a:cubicBezTo>
                      <a:pt x="2330" y="5"/>
                      <a:pt x="2329" y="4"/>
                      <a:pt x="2329" y="3"/>
                    </a:cubicBezTo>
                    <a:cubicBezTo>
                      <a:pt x="2329" y="2"/>
                      <a:pt x="2330" y="1"/>
                      <a:pt x="2331" y="1"/>
                    </a:cubicBezTo>
                    <a:close/>
                    <a:moveTo>
                      <a:pt x="2339" y="1"/>
                    </a:moveTo>
                    <a:lnTo>
                      <a:pt x="2339" y="1"/>
                    </a:lnTo>
                    <a:cubicBezTo>
                      <a:pt x="2340" y="1"/>
                      <a:pt x="2341" y="2"/>
                      <a:pt x="2341" y="3"/>
                    </a:cubicBezTo>
                    <a:cubicBezTo>
                      <a:pt x="2341" y="4"/>
                      <a:pt x="2340" y="5"/>
                      <a:pt x="2339" y="5"/>
                    </a:cubicBezTo>
                    <a:lnTo>
                      <a:pt x="2339" y="5"/>
                    </a:lnTo>
                    <a:cubicBezTo>
                      <a:pt x="2338" y="5"/>
                      <a:pt x="2337" y="4"/>
                      <a:pt x="2337" y="3"/>
                    </a:cubicBezTo>
                    <a:cubicBezTo>
                      <a:pt x="2337" y="2"/>
                      <a:pt x="2338" y="1"/>
                      <a:pt x="2339" y="1"/>
                    </a:cubicBezTo>
                    <a:close/>
                    <a:moveTo>
                      <a:pt x="2347" y="1"/>
                    </a:moveTo>
                    <a:lnTo>
                      <a:pt x="2347" y="1"/>
                    </a:lnTo>
                    <a:cubicBezTo>
                      <a:pt x="2348" y="1"/>
                      <a:pt x="2349" y="2"/>
                      <a:pt x="2349" y="3"/>
                    </a:cubicBezTo>
                    <a:cubicBezTo>
                      <a:pt x="2349" y="4"/>
                      <a:pt x="2348" y="5"/>
                      <a:pt x="2347" y="5"/>
                    </a:cubicBezTo>
                    <a:lnTo>
                      <a:pt x="2347" y="5"/>
                    </a:lnTo>
                    <a:cubicBezTo>
                      <a:pt x="2346" y="5"/>
                      <a:pt x="2345" y="4"/>
                      <a:pt x="2345" y="3"/>
                    </a:cubicBezTo>
                    <a:cubicBezTo>
                      <a:pt x="2345" y="2"/>
                      <a:pt x="2346" y="1"/>
                      <a:pt x="2347" y="1"/>
                    </a:cubicBezTo>
                    <a:close/>
                    <a:moveTo>
                      <a:pt x="2355" y="1"/>
                    </a:moveTo>
                    <a:lnTo>
                      <a:pt x="2355" y="1"/>
                    </a:lnTo>
                    <a:cubicBezTo>
                      <a:pt x="2356" y="1"/>
                      <a:pt x="2357" y="2"/>
                      <a:pt x="2357" y="3"/>
                    </a:cubicBezTo>
                    <a:cubicBezTo>
                      <a:pt x="2357" y="4"/>
                      <a:pt x="2356" y="5"/>
                      <a:pt x="2355" y="5"/>
                    </a:cubicBezTo>
                    <a:lnTo>
                      <a:pt x="2355" y="5"/>
                    </a:lnTo>
                    <a:cubicBezTo>
                      <a:pt x="2354" y="5"/>
                      <a:pt x="2353" y="4"/>
                      <a:pt x="2353" y="3"/>
                    </a:cubicBezTo>
                    <a:cubicBezTo>
                      <a:pt x="2353" y="2"/>
                      <a:pt x="2354" y="1"/>
                      <a:pt x="2355" y="1"/>
                    </a:cubicBezTo>
                    <a:close/>
                    <a:moveTo>
                      <a:pt x="2363" y="1"/>
                    </a:moveTo>
                    <a:lnTo>
                      <a:pt x="2363" y="1"/>
                    </a:lnTo>
                    <a:cubicBezTo>
                      <a:pt x="2364" y="1"/>
                      <a:pt x="2365" y="2"/>
                      <a:pt x="2365" y="3"/>
                    </a:cubicBezTo>
                    <a:cubicBezTo>
                      <a:pt x="2365" y="4"/>
                      <a:pt x="2364" y="5"/>
                      <a:pt x="2363" y="5"/>
                    </a:cubicBezTo>
                    <a:lnTo>
                      <a:pt x="2363" y="5"/>
                    </a:lnTo>
                    <a:cubicBezTo>
                      <a:pt x="2362" y="5"/>
                      <a:pt x="2361" y="4"/>
                      <a:pt x="2361" y="3"/>
                    </a:cubicBezTo>
                    <a:cubicBezTo>
                      <a:pt x="2361" y="2"/>
                      <a:pt x="2362" y="1"/>
                      <a:pt x="2363" y="1"/>
                    </a:cubicBezTo>
                    <a:close/>
                    <a:moveTo>
                      <a:pt x="2371" y="1"/>
                    </a:moveTo>
                    <a:lnTo>
                      <a:pt x="2371" y="1"/>
                    </a:lnTo>
                    <a:cubicBezTo>
                      <a:pt x="2372" y="1"/>
                      <a:pt x="2373" y="2"/>
                      <a:pt x="2373" y="3"/>
                    </a:cubicBezTo>
                    <a:cubicBezTo>
                      <a:pt x="2373" y="4"/>
                      <a:pt x="2372" y="5"/>
                      <a:pt x="2371" y="5"/>
                    </a:cubicBezTo>
                    <a:lnTo>
                      <a:pt x="2371" y="5"/>
                    </a:lnTo>
                    <a:cubicBezTo>
                      <a:pt x="2370" y="5"/>
                      <a:pt x="2369" y="4"/>
                      <a:pt x="2369" y="3"/>
                    </a:cubicBezTo>
                    <a:cubicBezTo>
                      <a:pt x="2369" y="2"/>
                      <a:pt x="2370" y="1"/>
                      <a:pt x="2371" y="1"/>
                    </a:cubicBezTo>
                    <a:close/>
                    <a:moveTo>
                      <a:pt x="2379" y="1"/>
                    </a:moveTo>
                    <a:lnTo>
                      <a:pt x="2379" y="1"/>
                    </a:lnTo>
                    <a:cubicBezTo>
                      <a:pt x="2380" y="1"/>
                      <a:pt x="2381" y="2"/>
                      <a:pt x="2381" y="3"/>
                    </a:cubicBezTo>
                    <a:cubicBezTo>
                      <a:pt x="2381" y="4"/>
                      <a:pt x="2380" y="5"/>
                      <a:pt x="2379" y="5"/>
                    </a:cubicBezTo>
                    <a:lnTo>
                      <a:pt x="2379" y="5"/>
                    </a:lnTo>
                    <a:cubicBezTo>
                      <a:pt x="2378" y="5"/>
                      <a:pt x="2377" y="4"/>
                      <a:pt x="2377" y="3"/>
                    </a:cubicBezTo>
                    <a:cubicBezTo>
                      <a:pt x="2377" y="2"/>
                      <a:pt x="2378" y="1"/>
                      <a:pt x="2379" y="1"/>
                    </a:cubicBezTo>
                    <a:close/>
                    <a:moveTo>
                      <a:pt x="2387" y="1"/>
                    </a:moveTo>
                    <a:lnTo>
                      <a:pt x="2387" y="1"/>
                    </a:lnTo>
                    <a:cubicBezTo>
                      <a:pt x="2388" y="1"/>
                      <a:pt x="2389" y="2"/>
                      <a:pt x="2389" y="3"/>
                    </a:cubicBezTo>
                    <a:cubicBezTo>
                      <a:pt x="2389" y="4"/>
                      <a:pt x="2388" y="5"/>
                      <a:pt x="2387" y="5"/>
                    </a:cubicBezTo>
                    <a:lnTo>
                      <a:pt x="2387" y="5"/>
                    </a:lnTo>
                    <a:cubicBezTo>
                      <a:pt x="2386" y="5"/>
                      <a:pt x="2385" y="4"/>
                      <a:pt x="2385" y="3"/>
                    </a:cubicBezTo>
                    <a:cubicBezTo>
                      <a:pt x="2385" y="2"/>
                      <a:pt x="2386" y="1"/>
                      <a:pt x="2387" y="1"/>
                    </a:cubicBezTo>
                    <a:close/>
                    <a:moveTo>
                      <a:pt x="2395" y="1"/>
                    </a:moveTo>
                    <a:lnTo>
                      <a:pt x="2395" y="1"/>
                    </a:lnTo>
                    <a:cubicBezTo>
                      <a:pt x="2396" y="1"/>
                      <a:pt x="2397" y="2"/>
                      <a:pt x="2397" y="3"/>
                    </a:cubicBezTo>
                    <a:cubicBezTo>
                      <a:pt x="2397" y="4"/>
                      <a:pt x="2396" y="5"/>
                      <a:pt x="2395" y="5"/>
                    </a:cubicBezTo>
                    <a:lnTo>
                      <a:pt x="2395" y="5"/>
                    </a:lnTo>
                    <a:cubicBezTo>
                      <a:pt x="2394" y="5"/>
                      <a:pt x="2393" y="4"/>
                      <a:pt x="2393" y="3"/>
                    </a:cubicBezTo>
                    <a:cubicBezTo>
                      <a:pt x="2393" y="2"/>
                      <a:pt x="2394" y="1"/>
                      <a:pt x="2395" y="1"/>
                    </a:cubicBezTo>
                    <a:close/>
                    <a:moveTo>
                      <a:pt x="2403" y="1"/>
                    </a:moveTo>
                    <a:lnTo>
                      <a:pt x="2403" y="1"/>
                    </a:lnTo>
                    <a:cubicBezTo>
                      <a:pt x="2404" y="1"/>
                      <a:pt x="2405" y="2"/>
                      <a:pt x="2405" y="3"/>
                    </a:cubicBezTo>
                    <a:cubicBezTo>
                      <a:pt x="2405" y="4"/>
                      <a:pt x="2404" y="5"/>
                      <a:pt x="2403" y="5"/>
                    </a:cubicBezTo>
                    <a:lnTo>
                      <a:pt x="2403" y="5"/>
                    </a:lnTo>
                    <a:cubicBezTo>
                      <a:pt x="2402" y="5"/>
                      <a:pt x="2401" y="4"/>
                      <a:pt x="2401" y="3"/>
                    </a:cubicBezTo>
                    <a:cubicBezTo>
                      <a:pt x="2401" y="2"/>
                      <a:pt x="2402" y="1"/>
                      <a:pt x="2403" y="1"/>
                    </a:cubicBezTo>
                    <a:close/>
                    <a:moveTo>
                      <a:pt x="2411" y="1"/>
                    </a:moveTo>
                    <a:lnTo>
                      <a:pt x="2411" y="1"/>
                    </a:lnTo>
                    <a:cubicBezTo>
                      <a:pt x="2412" y="1"/>
                      <a:pt x="2413" y="2"/>
                      <a:pt x="2413" y="3"/>
                    </a:cubicBezTo>
                    <a:cubicBezTo>
                      <a:pt x="2413" y="4"/>
                      <a:pt x="2412" y="5"/>
                      <a:pt x="2411" y="5"/>
                    </a:cubicBezTo>
                    <a:lnTo>
                      <a:pt x="2411" y="5"/>
                    </a:lnTo>
                    <a:cubicBezTo>
                      <a:pt x="2410" y="5"/>
                      <a:pt x="2409" y="4"/>
                      <a:pt x="2409" y="3"/>
                    </a:cubicBezTo>
                    <a:cubicBezTo>
                      <a:pt x="2409" y="2"/>
                      <a:pt x="2410" y="1"/>
                      <a:pt x="2411" y="1"/>
                    </a:cubicBezTo>
                    <a:close/>
                    <a:moveTo>
                      <a:pt x="2419" y="1"/>
                    </a:moveTo>
                    <a:lnTo>
                      <a:pt x="2419" y="1"/>
                    </a:lnTo>
                    <a:cubicBezTo>
                      <a:pt x="2420" y="1"/>
                      <a:pt x="2421" y="2"/>
                      <a:pt x="2421" y="3"/>
                    </a:cubicBezTo>
                    <a:cubicBezTo>
                      <a:pt x="2421" y="4"/>
                      <a:pt x="2420" y="5"/>
                      <a:pt x="2419" y="5"/>
                    </a:cubicBezTo>
                    <a:lnTo>
                      <a:pt x="2419" y="5"/>
                    </a:lnTo>
                    <a:cubicBezTo>
                      <a:pt x="2418" y="5"/>
                      <a:pt x="2417" y="4"/>
                      <a:pt x="2417" y="3"/>
                    </a:cubicBezTo>
                    <a:cubicBezTo>
                      <a:pt x="2417" y="2"/>
                      <a:pt x="2418" y="1"/>
                      <a:pt x="2419" y="1"/>
                    </a:cubicBezTo>
                    <a:close/>
                    <a:moveTo>
                      <a:pt x="2427" y="1"/>
                    </a:moveTo>
                    <a:lnTo>
                      <a:pt x="2427" y="1"/>
                    </a:lnTo>
                    <a:cubicBezTo>
                      <a:pt x="2428" y="1"/>
                      <a:pt x="2429" y="2"/>
                      <a:pt x="2429" y="3"/>
                    </a:cubicBezTo>
                    <a:cubicBezTo>
                      <a:pt x="2429" y="4"/>
                      <a:pt x="2428" y="5"/>
                      <a:pt x="2427" y="5"/>
                    </a:cubicBezTo>
                    <a:lnTo>
                      <a:pt x="2427" y="5"/>
                    </a:lnTo>
                    <a:cubicBezTo>
                      <a:pt x="2426" y="5"/>
                      <a:pt x="2425" y="4"/>
                      <a:pt x="2425" y="3"/>
                    </a:cubicBezTo>
                    <a:cubicBezTo>
                      <a:pt x="2425" y="2"/>
                      <a:pt x="2426" y="1"/>
                      <a:pt x="2427" y="1"/>
                    </a:cubicBezTo>
                    <a:close/>
                    <a:moveTo>
                      <a:pt x="2435" y="1"/>
                    </a:moveTo>
                    <a:lnTo>
                      <a:pt x="2435" y="1"/>
                    </a:lnTo>
                    <a:cubicBezTo>
                      <a:pt x="2436" y="1"/>
                      <a:pt x="2437" y="2"/>
                      <a:pt x="2437" y="3"/>
                    </a:cubicBezTo>
                    <a:cubicBezTo>
                      <a:pt x="2437" y="4"/>
                      <a:pt x="2436" y="5"/>
                      <a:pt x="2435" y="5"/>
                    </a:cubicBezTo>
                    <a:lnTo>
                      <a:pt x="2435" y="5"/>
                    </a:lnTo>
                    <a:cubicBezTo>
                      <a:pt x="2434" y="5"/>
                      <a:pt x="2433" y="4"/>
                      <a:pt x="2433" y="3"/>
                    </a:cubicBezTo>
                    <a:cubicBezTo>
                      <a:pt x="2433" y="2"/>
                      <a:pt x="2434" y="1"/>
                      <a:pt x="2435" y="1"/>
                    </a:cubicBezTo>
                    <a:close/>
                    <a:moveTo>
                      <a:pt x="2443" y="1"/>
                    </a:moveTo>
                    <a:lnTo>
                      <a:pt x="2443" y="1"/>
                    </a:lnTo>
                    <a:cubicBezTo>
                      <a:pt x="2444" y="1"/>
                      <a:pt x="2445" y="2"/>
                      <a:pt x="2445" y="3"/>
                    </a:cubicBezTo>
                    <a:cubicBezTo>
                      <a:pt x="2445" y="4"/>
                      <a:pt x="2444" y="5"/>
                      <a:pt x="2443" y="5"/>
                    </a:cubicBezTo>
                    <a:lnTo>
                      <a:pt x="2443" y="5"/>
                    </a:lnTo>
                    <a:cubicBezTo>
                      <a:pt x="2442" y="5"/>
                      <a:pt x="2441" y="4"/>
                      <a:pt x="2441" y="3"/>
                    </a:cubicBezTo>
                    <a:cubicBezTo>
                      <a:pt x="2441" y="2"/>
                      <a:pt x="2442" y="1"/>
                      <a:pt x="2443" y="1"/>
                    </a:cubicBezTo>
                    <a:close/>
                    <a:moveTo>
                      <a:pt x="2451" y="1"/>
                    </a:moveTo>
                    <a:lnTo>
                      <a:pt x="2451" y="1"/>
                    </a:lnTo>
                    <a:cubicBezTo>
                      <a:pt x="2452" y="1"/>
                      <a:pt x="2453" y="2"/>
                      <a:pt x="2453" y="3"/>
                    </a:cubicBezTo>
                    <a:cubicBezTo>
                      <a:pt x="2453" y="4"/>
                      <a:pt x="2452" y="5"/>
                      <a:pt x="2451" y="5"/>
                    </a:cubicBezTo>
                    <a:lnTo>
                      <a:pt x="2451" y="5"/>
                    </a:lnTo>
                    <a:cubicBezTo>
                      <a:pt x="2450" y="5"/>
                      <a:pt x="2449" y="4"/>
                      <a:pt x="2449" y="3"/>
                    </a:cubicBezTo>
                    <a:cubicBezTo>
                      <a:pt x="2449" y="2"/>
                      <a:pt x="2450" y="1"/>
                      <a:pt x="2451" y="1"/>
                    </a:cubicBezTo>
                    <a:close/>
                    <a:moveTo>
                      <a:pt x="2459" y="1"/>
                    </a:moveTo>
                    <a:lnTo>
                      <a:pt x="2459" y="1"/>
                    </a:lnTo>
                    <a:cubicBezTo>
                      <a:pt x="2460" y="1"/>
                      <a:pt x="2461" y="2"/>
                      <a:pt x="2461" y="3"/>
                    </a:cubicBezTo>
                    <a:cubicBezTo>
                      <a:pt x="2461" y="4"/>
                      <a:pt x="2460" y="5"/>
                      <a:pt x="2459" y="5"/>
                    </a:cubicBezTo>
                    <a:lnTo>
                      <a:pt x="2459" y="5"/>
                    </a:lnTo>
                    <a:cubicBezTo>
                      <a:pt x="2458" y="5"/>
                      <a:pt x="2457" y="4"/>
                      <a:pt x="2457" y="3"/>
                    </a:cubicBezTo>
                    <a:cubicBezTo>
                      <a:pt x="2457" y="2"/>
                      <a:pt x="2458" y="1"/>
                      <a:pt x="2459" y="1"/>
                    </a:cubicBezTo>
                    <a:close/>
                    <a:moveTo>
                      <a:pt x="2467" y="1"/>
                    </a:moveTo>
                    <a:lnTo>
                      <a:pt x="2467" y="1"/>
                    </a:lnTo>
                    <a:cubicBezTo>
                      <a:pt x="2468" y="1"/>
                      <a:pt x="2469" y="2"/>
                      <a:pt x="2469" y="3"/>
                    </a:cubicBezTo>
                    <a:cubicBezTo>
                      <a:pt x="2469" y="4"/>
                      <a:pt x="2468" y="5"/>
                      <a:pt x="2467" y="5"/>
                    </a:cubicBezTo>
                    <a:lnTo>
                      <a:pt x="2467" y="5"/>
                    </a:lnTo>
                    <a:cubicBezTo>
                      <a:pt x="2466" y="5"/>
                      <a:pt x="2465" y="4"/>
                      <a:pt x="2465" y="3"/>
                    </a:cubicBezTo>
                    <a:cubicBezTo>
                      <a:pt x="2465" y="2"/>
                      <a:pt x="2466" y="1"/>
                      <a:pt x="2467" y="1"/>
                    </a:cubicBezTo>
                    <a:close/>
                    <a:moveTo>
                      <a:pt x="2475" y="1"/>
                    </a:moveTo>
                    <a:lnTo>
                      <a:pt x="2475" y="1"/>
                    </a:lnTo>
                    <a:cubicBezTo>
                      <a:pt x="2476" y="1"/>
                      <a:pt x="2477" y="2"/>
                      <a:pt x="2477" y="3"/>
                    </a:cubicBezTo>
                    <a:cubicBezTo>
                      <a:pt x="2477" y="4"/>
                      <a:pt x="2476" y="5"/>
                      <a:pt x="2475" y="5"/>
                    </a:cubicBezTo>
                    <a:lnTo>
                      <a:pt x="2475" y="5"/>
                    </a:lnTo>
                    <a:cubicBezTo>
                      <a:pt x="2474" y="5"/>
                      <a:pt x="2473" y="4"/>
                      <a:pt x="2473" y="3"/>
                    </a:cubicBezTo>
                    <a:cubicBezTo>
                      <a:pt x="2473" y="2"/>
                      <a:pt x="2474" y="1"/>
                      <a:pt x="2475" y="1"/>
                    </a:cubicBezTo>
                    <a:close/>
                    <a:moveTo>
                      <a:pt x="2483" y="1"/>
                    </a:moveTo>
                    <a:lnTo>
                      <a:pt x="2483" y="1"/>
                    </a:lnTo>
                    <a:cubicBezTo>
                      <a:pt x="2484" y="1"/>
                      <a:pt x="2485" y="2"/>
                      <a:pt x="2485" y="3"/>
                    </a:cubicBezTo>
                    <a:cubicBezTo>
                      <a:pt x="2485" y="4"/>
                      <a:pt x="2484" y="5"/>
                      <a:pt x="2483" y="5"/>
                    </a:cubicBezTo>
                    <a:lnTo>
                      <a:pt x="2483" y="5"/>
                    </a:lnTo>
                    <a:cubicBezTo>
                      <a:pt x="2482" y="5"/>
                      <a:pt x="2481" y="4"/>
                      <a:pt x="2481" y="3"/>
                    </a:cubicBezTo>
                    <a:cubicBezTo>
                      <a:pt x="2481" y="2"/>
                      <a:pt x="2482" y="1"/>
                      <a:pt x="2483" y="1"/>
                    </a:cubicBezTo>
                    <a:close/>
                    <a:moveTo>
                      <a:pt x="2491" y="1"/>
                    </a:moveTo>
                    <a:lnTo>
                      <a:pt x="2491" y="1"/>
                    </a:lnTo>
                    <a:cubicBezTo>
                      <a:pt x="2492" y="1"/>
                      <a:pt x="2493" y="2"/>
                      <a:pt x="2493" y="3"/>
                    </a:cubicBezTo>
                    <a:cubicBezTo>
                      <a:pt x="2493" y="4"/>
                      <a:pt x="2492" y="5"/>
                      <a:pt x="2491" y="5"/>
                    </a:cubicBezTo>
                    <a:lnTo>
                      <a:pt x="2491" y="5"/>
                    </a:lnTo>
                    <a:cubicBezTo>
                      <a:pt x="2490" y="5"/>
                      <a:pt x="2489" y="4"/>
                      <a:pt x="2489" y="3"/>
                    </a:cubicBezTo>
                    <a:cubicBezTo>
                      <a:pt x="2489" y="2"/>
                      <a:pt x="2490" y="1"/>
                      <a:pt x="2491" y="1"/>
                    </a:cubicBezTo>
                    <a:close/>
                    <a:moveTo>
                      <a:pt x="2499" y="1"/>
                    </a:moveTo>
                    <a:lnTo>
                      <a:pt x="2499" y="1"/>
                    </a:lnTo>
                    <a:cubicBezTo>
                      <a:pt x="2500" y="1"/>
                      <a:pt x="2501" y="2"/>
                      <a:pt x="2501" y="3"/>
                    </a:cubicBezTo>
                    <a:cubicBezTo>
                      <a:pt x="2501" y="4"/>
                      <a:pt x="2500" y="5"/>
                      <a:pt x="2499" y="5"/>
                    </a:cubicBezTo>
                    <a:lnTo>
                      <a:pt x="2499" y="5"/>
                    </a:lnTo>
                    <a:cubicBezTo>
                      <a:pt x="2498" y="5"/>
                      <a:pt x="2497" y="4"/>
                      <a:pt x="2497" y="3"/>
                    </a:cubicBezTo>
                    <a:cubicBezTo>
                      <a:pt x="2497" y="2"/>
                      <a:pt x="2498" y="1"/>
                      <a:pt x="2499" y="1"/>
                    </a:cubicBezTo>
                    <a:close/>
                    <a:moveTo>
                      <a:pt x="2507" y="1"/>
                    </a:moveTo>
                    <a:lnTo>
                      <a:pt x="2507" y="1"/>
                    </a:lnTo>
                    <a:cubicBezTo>
                      <a:pt x="2508" y="1"/>
                      <a:pt x="2509" y="2"/>
                      <a:pt x="2509" y="3"/>
                    </a:cubicBezTo>
                    <a:cubicBezTo>
                      <a:pt x="2509" y="4"/>
                      <a:pt x="2508" y="5"/>
                      <a:pt x="2507" y="5"/>
                    </a:cubicBezTo>
                    <a:lnTo>
                      <a:pt x="2507" y="5"/>
                    </a:lnTo>
                    <a:cubicBezTo>
                      <a:pt x="2506" y="5"/>
                      <a:pt x="2505" y="4"/>
                      <a:pt x="2505" y="3"/>
                    </a:cubicBezTo>
                    <a:cubicBezTo>
                      <a:pt x="2505" y="2"/>
                      <a:pt x="2506" y="1"/>
                      <a:pt x="2507" y="1"/>
                    </a:cubicBezTo>
                    <a:close/>
                    <a:moveTo>
                      <a:pt x="2515" y="1"/>
                    </a:moveTo>
                    <a:lnTo>
                      <a:pt x="2515" y="1"/>
                    </a:lnTo>
                    <a:cubicBezTo>
                      <a:pt x="2516" y="1"/>
                      <a:pt x="2517" y="2"/>
                      <a:pt x="2517" y="3"/>
                    </a:cubicBezTo>
                    <a:cubicBezTo>
                      <a:pt x="2517" y="4"/>
                      <a:pt x="2516" y="5"/>
                      <a:pt x="2515" y="5"/>
                    </a:cubicBezTo>
                    <a:lnTo>
                      <a:pt x="2515" y="5"/>
                    </a:lnTo>
                    <a:cubicBezTo>
                      <a:pt x="2514" y="5"/>
                      <a:pt x="2513" y="4"/>
                      <a:pt x="2513" y="3"/>
                    </a:cubicBezTo>
                    <a:cubicBezTo>
                      <a:pt x="2513" y="2"/>
                      <a:pt x="2514" y="1"/>
                      <a:pt x="2515" y="1"/>
                    </a:cubicBezTo>
                    <a:close/>
                    <a:moveTo>
                      <a:pt x="2523" y="1"/>
                    </a:moveTo>
                    <a:lnTo>
                      <a:pt x="2523" y="1"/>
                    </a:lnTo>
                    <a:cubicBezTo>
                      <a:pt x="2524" y="1"/>
                      <a:pt x="2525" y="2"/>
                      <a:pt x="2525" y="3"/>
                    </a:cubicBezTo>
                    <a:cubicBezTo>
                      <a:pt x="2525" y="4"/>
                      <a:pt x="2524" y="5"/>
                      <a:pt x="2523" y="5"/>
                    </a:cubicBezTo>
                    <a:lnTo>
                      <a:pt x="2523" y="5"/>
                    </a:lnTo>
                    <a:cubicBezTo>
                      <a:pt x="2522" y="5"/>
                      <a:pt x="2521" y="4"/>
                      <a:pt x="2521" y="3"/>
                    </a:cubicBezTo>
                    <a:cubicBezTo>
                      <a:pt x="2521" y="2"/>
                      <a:pt x="2522" y="1"/>
                      <a:pt x="2523" y="1"/>
                    </a:cubicBezTo>
                    <a:close/>
                    <a:moveTo>
                      <a:pt x="2531" y="1"/>
                    </a:moveTo>
                    <a:lnTo>
                      <a:pt x="2531" y="1"/>
                    </a:lnTo>
                    <a:cubicBezTo>
                      <a:pt x="2532" y="1"/>
                      <a:pt x="2533" y="2"/>
                      <a:pt x="2533" y="3"/>
                    </a:cubicBezTo>
                    <a:cubicBezTo>
                      <a:pt x="2533" y="4"/>
                      <a:pt x="2532" y="5"/>
                      <a:pt x="2531" y="5"/>
                    </a:cubicBezTo>
                    <a:lnTo>
                      <a:pt x="2531" y="5"/>
                    </a:lnTo>
                    <a:cubicBezTo>
                      <a:pt x="2530" y="5"/>
                      <a:pt x="2529" y="4"/>
                      <a:pt x="2529" y="3"/>
                    </a:cubicBezTo>
                    <a:cubicBezTo>
                      <a:pt x="2529" y="2"/>
                      <a:pt x="2530" y="1"/>
                      <a:pt x="2531" y="1"/>
                    </a:cubicBezTo>
                    <a:close/>
                    <a:moveTo>
                      <a:pt x="2539" y="1"/>
                    </a:moveTo>
                    <a:lnTo>
                      <a:pt x="2539" y="1"/>
                    </a:lnTo>
                    <a:cubicBezTo>
                      <a:pt x="2540" y="1"/>
                      <a:pt x="2541" y="2"/>
                      <a:pt x="2541" y="3"/>
                    </a:cubicBezTo>
                    <a:cubicBezTo>
                      <a:pt x="2541" y="4"/>
                      <a:pt x="2540" y="5"/>
                      <a:pt x="2539" y="5"/>
                    </a:cubicBezTo>
                    <a:lnTo>
                      <a:pt x="2539" y="5"/>
                    </a:lnTo>
                    <a:cubicBezTo>
                      <a:pt x="2538" y="5"/>
                      <a:pt x="2537" y="4"/>
                      <a:pt x="2537" y="3"/>
                    </a:cubicBezTo>
                    <a:cubicBezTo>
                      <a:pt x="2537" y="2"/>
                      <a:pt x="2538" y="1"/>
                      <a:pt x="2539" y="1"/>
                    </a:cubicBezTo>
                    <a:close/>
                    <a:moveTo>
                      <a:pt x="2547" y="1"/>
                    </a:moveTo>
                    <a:lnTo>
                      <a:pt x="2547" y="1"/>
                    </a:lnTo>
                    <a:cubicBezTo>
                      <a:pt x="2548" y="1"/>
                      <a:pt x="2549" y="2"/>
                      <a:pt x="2549" y="3"/>
                    </a:cubicBezTo>
                    <a:cubicBezTo>
                      <a:pt x="2549" y="4"/>
                      <a:pt x="2548" y="5"/>
                      <a:pt x="2547" y="5"/>
                    </a:cubicBezTo>
                    <a:lnTo>
                      <a:pt x="2547" y="5"/>
                    </a:lnTo>
                    <a:cubicBezTo>
                      <a:pt x="2546" y="5"/>
                      <a:pt x="2545" y="4"/>
                      <a:pt x="2545" y="3"/>
                    </a:cubicBezTo>
                    <a:cubicBezTo>
                      <a:pt x="2545" y="2"/>
                      <a:pt x="2546" y="1"/>
                      <a:pt x="2547" y="1"/>
                    </a:cubicBezTo>
                    <a:close/>
                    <a:moveTo>
                      <a:pt x="2555" y="1"/>
                    </a:moveTo>
                    <a:lnTo>
                      <a:pt x="2555" y="1"/>
                    </a:lnTo>
                    <a:cubicBezTo>
                      <a:pt x="2556" y="1"/>
                      <a:pt x="2557" y="2"/>
                      <a:pt x="2557" y="3"/>
                    </a:cubicBezTo>
                    <a:cubicBezTo>
                      <a:pt x="2557" y="4"/>
                      <a:pt x="2556" y="5"/>
                      <a:pt x="2555" y="5"/>
                    </a:cubicBezTo>
                    <a:lnTo>
                      <a:pt x="2555" y="5"/>
                    </a:lnTo>
                    <a:cubicBezTo>
                      <a:pt x="2554" y="5"/>
                      <a:pt x="2553" y="4"/>
                      <a:pt x="2553" y="3"/>
                    </a:cubicBezTo>
                    <a:cubicBezTo>
                      <a:pt x="2553" y="2"/>
                      <a:pt x="2554" y="1"/>
                      <a:pt x="2555" y="1"/>
                    </a:cubicBezTo>
                    <a:close/>
                    <a:moveTo>
                      <a:pt x="2563" y="1"/>
                    </a:moveTo>
                    <a:lnTo>
                      <a:pt x="2563" y="1"/>
                    </a:lnTo>
                    <a:cubicBezTo>
                      <a:pt x="2564" y="1"/>
                      <a:pt x="2565" y="2"/>
                      <a:pt x="2565" y="3"/>
                    </a:cubicBezTo>
                    <a:cubicBezTo>
                      <a:pt x="2565" y="4"/>
                      <a:pt x="2564" y="5"/>
                      <a:pt x="2563" y="5"/>
                    </a:cubicBezTo>
                    <a:lnTo>
                      <a:pt x="2563" y="5"/>
                    </a:lnTo>
                    <a:cubicBezTo>
                      <a:pt x="2562" y="5"/>
                      <a:pt x="2561" y="4"/>
                      <a:pt x="2561" y="3"/>
                    </a:cubicBezTo>
                    <a:cubicBezTo>
                      <a:pt x="2561" y="2"/>
                      <a:pt x="2562" y="1"/>
                      <a:pt x="2563" y="1"/>
                    </a:cubicBezTo>
                    <a:close/>
                    <a:moveTo>
                      <a:pt x="2571" y="1"/>
                    </a:moveTo>
                    <a:lnTo>
                      <a:pt x="2571" y="1"/>
                    </a:lnTo>
                    <a:cubicBezTo>
                      <a:pt x="2572" y="1"/>
                      <a:pt x="2573" y="2"/>
                      <a:pt x="2573" y="3"/>
                    </a:cubicBezTo>
                    <a:cubicBezTo>
                      <a:pt x="2573" y="4"/>
                      <a:pt x="2572" y="5"/>
                      <a:pt x="2571" y="5"/>
                    </a:cubicBezTo>
                    <a:lnTo>
                      <a:pt x="2571" y="5"/>
                    </a:lnTo>
                    <a:cubicBezTo>
                      <a:pt x="2570" y="5"/>
                      <a:pt x="2569" y="4"/>
                      <a:pt x="2569" y="3"/>
                    </a:cubicBezTo>
                    <a:cubicBezTo>
                      <a:pt x="2569" y="2"/>
                      <a:pt x="2570" y="1"/>
                      <a:pt x="2571" y="1"/>
                    </a:cubicBezTo>
                    <a:close/>
                    <a:moveTo>
                      <a:pt x="2579" y="1"/>
                    </a:moveTo>
                    <a:lnTo>
                      <a:pt x="2579" y="1"/>
                    </a:lnTo>
                    <a:cubicBezTo>
                      <a:pt x="2580" y="1"/>
                      <a:pt x="2581" y="2"/>
                      <a:pt x="2581" y="3"/>
                    </a:cubicBezTo>
                    <a:cubicBezTo>
                      <a:pt x="2581" y="4"/>
                      <a:pt x="2580" y="5"/>
                      <a:pt x="2579" y="5"/>
                    </a:cubicBezTo>
                    <a:lnTo>
                      <a:pt x="2579" y="5"/>
                    </a:lnTo>
                    <a:cubicBezTo>
                      <a:pt x="2578" y="5"/>
                      <a:pt x="2577" y="4"/>
                      <a:pt x="2577" y="3"/>
                    </a:cubicBezTo>
                    <a:cubicBezTo>
                      <a:pt x="2577" y="2"/>
                      <a:pt x="2578" y="1"/>
                      <a:pt x="2579" y="1"/>
                    </a:cubicBezTo>
                    <a:close/>
                    <a:moveTo>
                      <a:pt x="2587" y="1"/>
                    </a:moveTo>
                    <a:lnTo>
                      <a:pt x="2587" y="1"/>
                    </a:lnTo>
                    <a:cubicBezTo>
                      <a:pt x="2588" y="1"/>
                      <a:pt x="2589" y="2"/>
                      <a:pt x="2589" y="3"/>
                    </a:cubicBezTo>
                    <a:cubicBezTo>
                      <a:pt x="2589" y="4"/>
                      <a:pt x="2588" y="5"/>
                      <a:pt x="2587" y="5"/>
                    </a:cubicBezTo>
                    <a:lnTo>
                      <a:pt x="2587" y="5"/>
                    </a:lnTo>
                    <a:cubicBezTo>
                      <a:pt x="2586" y="5"/>
                      <a:pt x="2585" y="4"/>
                      <a:pt x="2585" y="3"/>
                    </a:cubicBezTo>
                    <a:cubicBezTo>
                      <a:pt x="2585" y="2"/>
                      <a:pt x="2586" y="1"/>
                      <a:pt x="2587" y="1"/>
                    </a:cubicBezTo>
                    <a:close/>
                    <a:moveTo>
                      <a:pt x="2595" y="1"/>
                    </a:moveTo>
                    <a:lnTo>
                      <a:pt x="2595" y="1"/>
                    </a:lnTo>
                    <a:cubicBezTo>
                      <a:pt x="2596" y="1"/>
                      <a:pt x="2597" y="2"/>
                      <a:pt x="2597" y="3"/>
                    </a:cubicBezTo>
                    <a:cubicBezTo>
                      <a:pt x="2597" y="4"/>
                      <a:pt x="2596" y="5"/>
                      <a:pt x="2595" y="5"/>
                    </a:cubicBezTo>
                    <a:lnTo>
                      <a:pt x="2595" y="5"/>
                    </a:lnTo>
                    <a:cubicBezTo>
                      <a:pt x="2594" y="5"/>
                      <a:pt x="2593" y="4"/>
                      <a:pt x="2593" y="3"/>
                    </a:cubicBezTo>
                    <a:cubicBezTo>
                      <a:pt x="2593" y="2"/>
                      <a:pt x="2594" y="1"/>
                      <a:pt x="2595" y="1"/>
                    </a:cubicBezTo>
                    <a:close/>
                    <a:moveTo>
                      <a:pt x="2603" y="1"/>
                    </a:moveTo>
                    <a:lnTo>
                      <a:pt x="2603" y="1"/>
                    </a:lnTo>
                    <a:cubicBezTo>
                      <a:pt x="2604" y="1"/>
                      <a:pt x="2605" y="2"/>
                      <a:pt x="2605" y="3"/>
                    </a:cubicBezTo>
                    <a:cubicBezTo>
                      <a:pt x="2605" y="4"/>
                      <a:pt x="2604" y="5"/>
                      <a:pt x="2603" y="5"/>
                    </a:cubicBezTo>
                    <a:lnTo>
                      <a:pt x="2603" y="5"/>
                    </a:lnTo>
                    <a:cubicBezTo>
                      <a:pt x="2602" y="5"/>
                      <a:pt x="2601" y="4"/>
                      <a:pt x="2601" y="3"/>
                    </a:cubicBezTo>
                    <a:cubicBezTo>
                      <a:pt x="2601" y="2"/>
                      <a:pt x="2602" y="1"/>
                      <a:pt x="2603" y="1"/>
                    </a:cubicBezTo>
                    <a:close/>
                    <a:moveTo>
                      <a:pt x="2611" y="1"/>
                    </a:moveTo>
                    <a:lnTo>
                      <a:pt x="2611" y="1"/>
                    </a:lnTo>
                    <a:cubicBezTo>
                      <a:pt x="2612" y="1"/>
                      <a:pt x="2613" y="2"/>
                      <a:pt x="2613" y="3"/>
                    </a:cubicBezTo>
                    <a:cubicBezTo>
                      <a:pt x="2613" y="4"/>
                      <a:pt x="2612" y="5"/>
                      <a:pt x="2611" y="5"/>
                    </a:cubicBezTo>
                    <a:lnTo>
                      <a:pt x="2611" y="5"/>
                    </a:lnTo>
                    <a:cubicBezTo>
                      <a:pt x="2610" y="5"/>
                      <a:pt x="2609" y="4"/>
                      <a:pt x="2609" y="3"/>
                    </a:cubicBezTo>
                    <a:cubicBezTo>
                      <a:pt x="2609" y="2"/>
                      <a:pt x="2610" y="1"/>
                      <a:pt x="2611" y="1"/>
                    </a:cubicBezTo>
                    <a:close/>
                    <a:moveTo>
                      <a:pt x="2619" y="1"/>
                    </a:moveTo>
                    <a:lnTo>
                      <a:pt x="2619" y="1"/>
                    </a:lnTo>
                    <a:cubicBezTo>
                      <a:pt x="2620" y="1"/>
                      <a:pt x="2621" y="2"/>
                      <a:pt x="2621" y="3"/>
                    </a:cubicBezTo>
                    <a:cubicBezTo>
                      <a:pt x="2621" y="4"/>
                      <a:pt x="2620" y="5"/>
                      <a:pt x="2619" y="5"/>
                    </a:cubicBezTo>
                    <a:lnTo>
                      <a:pt x="2619" y="5"/>
                    </a:lnTo>
                    <a:cubicBezTo>
                      <a:pt x="2618" y="5"/>
                      <a:pt x="2617" y="4"/>
                      <a:pt x="2617" y="3"/>
                    </a:cubicBezTo>
                    <a:cubicBezTo>
                      <a:pt x="2617" y="2"/>
                      <a:pt x="2618" y="1"/>
                      <a:pt x="2619" y="1"/>
                    </a:cubicBezTo>
                    <a:close/>
                    <a:moveTo>
                      <a:pt x="2627" y="1"/>
                    </a:moveTo>
                    <a:lnTo>
                      <a:pt x="2627" y="1"/>
                    </a:lnTo>
                    <a:cubicBezTo>
                      <a:pt x="2628" y="1"/>
                      <a:pt x="2629" y="2"/>
                      <a:pt x="2629" y="3"/>
                    </a:cubicBezTo>
                    <a:cubicBezTo>
                      <a:pt x="2629" y="4"/>
                      <a:pt x="2628" y="5"/>
                      <a:pt x="2627" y="5"/>
                    </a:cubicBezTo>
                    <a:lnTo>
                      <a:pt x="2627" y="5"/>
                    </a:lnTo>
                    <a:cubicBezTo>
                      <a:pt x="2626" y="5"/>
                      <a:pt x="2625" y="4"/>
                      <a:pt x="2625" y="3"/>
                    </a:cubicBezTo>
                    <a:cubicBezTo>
                      <a:pt x="2625" y="2"/>
                      <a:pt x="2626" y="1"/>
                      <a:pt x="2627" y="1"/>
                    </a:cubicBezTo>
                    <a:close/>
                    <a:moveTo>
                      <a:pt x="2635" y="1"/>
                    </a:moveTo>
                    <a:lnTo>
                      <a:pt x="2635" y="1"/>
                    </a:lnTo>
                    <a:cubicBezTo>
                      <a:pt x="2636" y="1"/>
                      <a:pt x="2637" y="2"/>
                      <a:pt x="2637" y="3"/>
                    </a:cubicBezTo>
                    <a:cubicBezTo>
                      <a:pt x="2637" y="4"/>
                      <a:pt x="2636" y="5"/>
                      <a:pt x="2635" y="5"/>
                    </a:cubicBezTo>
                    <a:lnTo>
                      <a:pt x="2635" y="5"/>
                    </a:lnTo>
                    <a:cubicBezTo>
                      <a:pt x="2634" y="5"/>
                      <a:pt x="2633" y="4"/>
                      <a:pt x="2633" y="3"/>
                    </a:cubicBezTo>
                    <a:cubicBezTo>
                      <a:pt x="2633" y="2"/>
                      <a:pt x="2634" y="1"/>
                      <a:pt x="2635" y="1"/>
                    </a:cubicBezTo>
                    <a:close/>
                    <a:moveTo>
                      <a:pt x="2643" y="1"/>
                    </a:moveTo>
                    <a:lnTo>
                      <a:pt x="2643" y="1"/>
                    </a:lnTo>
                    <a:cubicBezTo>
                      <a:pt x="2644" y="1"/>
                      <a:pt x="2645" y="2"/>
                      <a:pt x="2645" y="3"/>
                    </a:cubicBezTo>
                    <a:cubicBezTo>
                      <a:pt x="2645" y="4"/>
                      <a:pt x="2644" y="5"/>
                      <a:pt x="2643" y="5"/>
                    </a:cubicBezTo>
                    <a:lnTo>
                      <a:pt x="2643" y="5"/>
                    </a:lnTo>
                    <a:cubicBezTo>
                      <a:pt x="2642" y="5"/>
                      <a:pt x="2641" y="4"/>
                      <a:pt x="2641" y="3"/>
                    </a:cubicBezTo>
                    <a:cubicBezTo>
                      <a:pt x="2641" y="2"/>
                      <a:pt x="2642" y="1"/>
                      <a:pt x="2643" y="1"/>
                    </a:cubicBezTo>
                    <a:close/>
                    <a:moveTo>
                      <a:pt x="2651" y="1"/>
                    </a:moveTo>
                    <a:lnTo>
                      <a:pt x="2651" y="1"/>
                    </a:lnTo>
                    <a:cubicBezTo>
                      <a:pt x="2652" y="1"/>
                      <a:pt x="2653" y="2"/>
                      <a:pt x="2653" y="3"/>
                    </a:cubicBezTo>
                    <a:cubicBezTo>
                      <a:pt x="2653" y="4"/>
                      <a:pt x="2652" y="5"/>
                      <a:pt x="2651" y="5"/>
                    </a:cubicBezTo>
                    <a:lnTo>
                      <a:pt x="2651" y="5"/>
                    </a:lnTo>
                    <a:cubicBezTo>
                      <a:pt x="2650" y="5"/>
                      <a:pt x="2649" y="4"/>
                      <a:pt x="2649" y="3"/>
                    </a:cubicBezTo>
                    <a:cubicBezTo>
                      <a:pt x="2649" y="2"/>
                      <a:pt x="2650" y="1"/>
                      <a:pt x="2651" y="1"/>
                    </a:cubicBezTo>
                    <a:close/>
                    <a:moveTo>
                      <a:pt x="2659" y="1"/>
                    </a:moveTo>
                    <a:lnTo>
                      <a:pt x="2659" y="1"/>
                    </a:lnTo>
                    <a:cubicBezTo>
                      <a:pt x="2660" y="1"/>
                      <a:pt x="2661" y="2"/>
                      <a:pt x="2661" y="3"/>
                    </a:cubicBezTo>
                    <a:cubicBezTo>
                      <a:pt x="2661" y="4"/>
                      <a:pt x="2660" y="5"/>
                      <a:pt x="2659" y="5"/>
                    </a:cubicBezTo>
                    <a:lnTo>
                      <a:pt x="2659" y="5"/>
                    </a:lnTo>
                    <a:cubicBezTo>
                      <a:pt x="2658" y="5"/>
                      <a:pt x="2657" y="4"/>
                      <a:pt x="2657" y="3"/>
                    </a:cubicBezTo>
                    <a:cubicBezTo>
                      <a:pt x="2657" y="2"/>
                      <a:pt x="2658" y="1"/>
                      <a:pt x="2659" y="1"/>
                    </a:cubicBezTo>
                    <a:close/>
                    <a:moveTo>
                      <a:pt x="2667" y="1"/>
                    </a:moveTo>
                    <a:lnTo>
                      <a:pt x="2667" y="1"/>
                    </a:lnTo>
                    <a:cubicBezTo>
                      <a:pt x="2668" y="1"/>
                      <a:pt x="2669" y="2"/>
                      <a:pt x="2669" y="3"/>
                    </a:cubicBezTo>
                    <a:cubicBezTo>
                      <a:pt x="2669" y="4"/>
                      <a:pt x="2668" y="5"/>
                      <a:pt x="2667" y="5"/>
                    </a:cubicBezTo>
                    <a:lnTo>
                      <a:pt x="2667" y="5"/>
                    </a:lnTo>
                    <a:cubicBezTo>
                      <a:pt x="2666" y="5"/>
                      <a:pt x="2665" y="4"/>
                      <a:pt x="2665" y="3"/>
                    </a:cubicBezTo>
                    <a:cubicBezTo>
                      <a:pt x="2665" y="2"/>
                      <a:pt x="2666" y="1"/>
                      <a:pt x="2667" y="1"/>
                    </a:cubicBezTo>
                    <a:close/>
                    <a:moveTo>
                      <a:pt x="2675" y="1"/>
                    </a:moveTo>
                    <a:lnTo>
                      <a:pt x="2675" y="1"/>
                    </a:lnTo>
                    <a:cubicBezTo>
                      <a:pt x="2676" y="1"/>
                      <a:pt x="2677" y="2"/>
                      <a:pt x="2677" y="3"/>
                    </a:cubicBezTo>
                    <a:cubicBezTo>
                      <a:pt x="2677" y="4"/>
                      <a:pt x="2676" y="5"/>
                      <a:pt x="2675" y="5"/>
                    </a:cubicBezTo>
                    <a:lnTo>
                      <a:pt x="2675" y="5"/>
                    </a:lnTo>
                    <a:cubicBezTo>
                      <a:pt x="2674" y="5"/>
                      <a:pt x="2673" y="4"/>
                      <a:pt x="2673" y="3"/>
                    </a:cubicBezTo>
                    <a:cubicBezTo>
                      <a:pt x="2673" y="2"/>
                      <a:pt x="2674" y="1"/>
                      <a:pt x="2675" y="1"/>
                    </a:cubicBezTo>
                    <a:close/>
                    <a:moveTo>
                      <a:pt x="2683" y="1"/>
                    </a:moveTo>
                    <a:lnTo>
                      <a:pt x="2683" y="1"/>
                    </a:lnTo>
                    <a:cubicBezTo>
                      <a:pt x="2684" y="1"/>
                      <a:pt x="2685" y="2"/>
                      <a:pt x="2685" y="3"/>
                    </a:cubicBezTo>
                    <a:cubicBezTo>
                      <a:pt x="2685" y="4"/>
                      <a:pt x="2684" y="5"/>
                      <a:pt x="2683" y="5"/>
                    </a:cubicBezTo>
                    <a:lnTo>
                      <a:pt x="2683" y="5"/>
                    </a:lnTo>
                    <a:cubicBezTo>
                      <a:pt x="2682" y="5"/>
                      <a:pt x="2681" y="4"/>
                      <a:pt x="2681" y="3"/>
                    </a:cubicBezTo>
                    <a:cubicBezTo>
                      <a:pt x="2681" y="2"/>
                      <a:pt x="2682" y="1"/>
                      <a:pt x="2683" y="1"/>
                    </a:cubicBezTo>
                    <a:close/>
                    <a:moveTo>
                      <a:pt x="2691" y="1"/>
                    </a:moveTo>
                    <a:lnTo>
                      <a:pt x="2691" y="1"/>
                    </a:lnTo>
                    <a:cubicBezTo>
                      <a:pt x="2692" y="1"/>
                      <a:pt x="2693" y="2"/>
                      <a:pt x="2693" y="3"/>
                    </a:cubicBezTo>
                    <a:cubicBezTo>
                      <a:pt x="2693" y="4"/>
                      <a:pt x="2692" y="5"/>
                      <a:pt x="2691" y="5"/>
                    </a:cubicBezTo>
                    <a:lnTo>
                      <a:pt x="2691" y="5"/>
                    </a:lnTo>
                    <a:cubicBezTo>
                      <a:pt x="2690" y="5"/>
                      <a:pt x="2689" y="4"/>
                      <a:pt x="2689" y="3"/>
                    </a:cubicBezTo>
                    <a:cubicBezTo>
                      <a:pt x="2689" y="2"/>
                      <a:pt x="2690" y="1"/>
                      <a:pt x="2691" y="1"/>
                    </a:cubicBezTo>
                    <a:close/>
                    <a:moveTo>
                      <a:pt x="2699" y="1"/>
                    </a:moveTo>
                    <a:lnTo>
                      <a:pt x="2699" y="1"/>
                    </a:lnTo>
                    <a:cubicBezTo>
                      <a:pt x="2700" y="1"/>
                      <a:pt x="2701" y="2"/>
                      <a:pt x="2701" y="3"/>
                    </a:cubicBezTo>
                    <a:cubicBezTo>
                      <a:pt x="2701" y="4"/>
                      <a:pt x="2700" y="5"/>
                      <a:pt x="2699" y="5"/>
                    </a:cubicBezTo>
                    <a:lnTo>
                      <a:pt x="2699" y="5"/>
                    </a:lnTo>
                    <a:cubicBezTo>
                      <a:pt x="2698" y="5"/>
                      <a:pt x="2697" y="4"/>
                      <a:pt x="2697" y="3"/>
                    </a:cubicBezTo>
                    <a:cubicBezTo>
                      <a:pt x="2697" y="2"/>
                      <a:pt x="2698" y="1"/>
                      <a:pt x="2699" y="1"/>
                    </a:cubicBezTo>
                    <a:close/>
                    <a:moveTo>
                      <a:pt x="2707" y="1"/>
                    </a:moveTo>
                    <a:lnTo>
                      <a:pt x="2707" y="1"/>
                    </a:lnTo>
                    <a:cubicBezTo>
                      <a:pt x="2708" y="1"/>
                      <a:pt x="2709" y="2"/>
                      <a:pt x="2709" y="3"/>
                    </a:cubicBezTo>
                    <a:cubicBezTo>
                      <a:pt x="2709" y="4"/>
                      <a:pt x="2708" y="5"/>
                      <a:pt x="2707" y="5"/>
                    </a:cubicBezTo>
                    <a:lnTo>
                      <a:pt x="2707" y="5"/>
                    </a:lnTo>
                    <a:cubicBezTo>
                      <a:pt x="2706" y="5"/>
                      <a:pt x="2705" y="4"/>
                      <a:pt x="2705" y="3"/>
                    </a:cubicBezTo>
                    <a:cubicBezTo>
                      <a:pt x="2705" y="2"/>
                      <a:pt x="2706" y="1"/>
                      <a:pt x="2707" y="1"/>
                    </a:cubicBezTo>
                    <a:close/>
                    <a:moveTo>
                      <a:pt x="2715" y="1"/>
                    </a:moveTo>
                    <a:lnTo>
                      <a:pt x="2715" y="1"/>
                    </a:lnTo>
                    <a:cubicBezTo>
                      <a:pt x="2716" y="1"/>
                      <a:pt x="2717" y="2"/>
                      <a:pt x="2717" y="3"/>
                    </a:cubicBezTo>
                    <a:cubicBezTo>
                      <a:pt x="2717" y="4"/>
                      <a:pt x="2716" y="5"/>
                      <a:pt x="2715" y="5"/>
                    </a:cubicBezTo>
                    <a:lnTo>
                      <a:pt x="2715" y="5"/>
                    </a:lnTo>
                    <a:cubicBezTo>
                      <a:pt x="2714" y="5"/>
                      <a:pt x="2713" y="4"/>
                      <a:pt x="2713" y="3"/>
                    </a:cubicBezTo>
                    <a:cubicBezTo>
                      <a:pt x="2713" y="2"/>
                      <a:pt x="2714" y="1"/>
                      <a:pt x="2715" y="1"/>
                    </a:cubicBezTo>
                    <a:close/>
                    <a:moveTo>
                      <a:pt x="2723" y="1"/>
                    </a:moveTo>
                    <a:lnTo>
                      <a:pt x="2723" y="1"/>
                    </a:lnTo>
                    <a:cubicBezTo>
                      <a:pt x="2724" y="1"/>
                      <a:pt x="2725" y="2"/>
                      <a:pt x="2725" y="3"/>
                    </a:cubicBezTo>
                    <a:cubicBezTo>
                      <a:pt x="2725" y="4"/>
                      <a:pt x="2724" y="5"/>
                      <a:pt x="2723" y="5"/>
                    </a:cubicBezTo>
                    <a:lnTo>
                      <a:pt x="2723" y="5"/>
                    </a:lnTo>
                    <a:cubicBezTo>
                      <a:pt x="2722" y="5"/>
                      <a:pt x="2721" y="4"/>
                      <a:pt x="2721" y="3"/>
                    </a:cubicBezTo>
                    <a:cubicBezTo>
                      <a:pt x="2721" y="2"/>
                      <a:pt x="2722" y="1"/>
                      <a:pt x="2723" y="1"/>
                    </a:cubicBezTo>
                    <a:close/>
                    <a:moveTo>
                      <a:pt x="2731" y="1"/>
                    </a:moveTo>
                    <a:lnTo>
                      <a:pt x="2731" y="1"/>
                    </a:lnTo>
                    <a:cubicBezTo>
                      <a:pt x="2732" y="1"/>
                      <a:pt x="2733" y="2"/>
                      <a:pt x="2733" y="3"/>
                    </a:cubicBezTo>
                    <a:cubicBezTo>
                      <a:pt x="2733" y="4"/>
                      <a:pt x="2732" y="5"/>
                      <a:pt x="2731" y="5"/>
                    </a:cubicBezTo>
                    <a:lnTo>
                      <a:pt x="2731" y="5"/>
                    </a:lnTo>
                    <a:cubicBezTo>
                      <a:pt x="2730" y="5"/>
                      <a:pt x="2729" y="4"/>
                      <a:pt x="2729" y="3"/>
                    </a:cubicBezTo>
                    <a:cubicBezTo>
                      <a:pt x="2729" y="2"/>
                      <a:pt x="2730" y="1"/>
                      <a:pt x="2731" y="1"/>
                    </a:cubicBezTo>
                    <a:close/>
                    <a:moveTo>
                      <a:pt x="2739" y="1"/>
                    </a:moveTo>
                    <a:lnTo>
                      <a:pt x="2739" y="1"/>
                    </a:lnTo>
                    <a:cubicBezTo>
                      <a:pt x="2740" y="1"/>
                      <a:pt x="2741" y="2"/>
                      <a:pt x="2741" y="3"/>
                    </a:cubicBezTo>
                    <a:cubicBezTo>
                      <a:pt x="2741" y="4"/>
                      <a:pt x="2740" y="5"/>
                      <a:pt x="2739" y="5"/>
                    </a:cubicBezTo>
                    <a:lnTo>
                      <a:pt x="2739" y="5"/>
                    </a:lnTo>
                    <a:cubicBezTo>
                      <a:pt x="2738" y="5"/>
                      <a:pt x="2737" y="4"/>
                      <a:pt x="2737" y="3"/>
                    </a:cubicBezTo>
                    <a:cubicBezTo>
                      <a:pt x="2737" y="2"/>
                      <a:pt x="2738" y="1"/>
                      <a:pt x="2739" y="1"/>
                    </a:cubicBezTo>
                    <a:close/>
                    <a:moveTo>
                      <a:pt x="2747" y="1"/>
                    </a:moveTo>
                    <a:lnTo>
                      <a:pt x="2747" y="1"/>
                    </a:lnTo>
                    <a:cubicBezTo>
                      <a:pt x="2748" y="1"/>
                      <a:pt x="2749" y="2"/>
                      <a:pt x="2749" y="3"/>
                    </a:cubicBezTo>
                    <a:cubicBezTo>
                      <a:pt x="2749" y="4"/>
                      <a:pt x="2748" y="5"/>
                      <a:pt x="2747" y="5"/>
                    </a:cubicBezTo>
                    <a:lnTo>
                      <a:pt x="2747" y="5"/>
                    </a:lnTo>
                    <a:cubicBezTo>
                      <a:pt x="2746" y="5"/>
                      <a:pt x="2745" y="4"/>
                      <a:pt x="2745" y="3"/>
                    </a:cubicBezTo>
                    <a:cubicBezTo>
                      <a:pt x="2745" y="2"/>
                      <a:pt x="2746" y="1"/>
                      <a:pt x="2747" y="1"/>
                    </a:cubicBezTo>
                    <a:close/>
                    <a:moveTo>
                      <a:pt x="2755" y="1"/>
                    </a:moveTo>
                    <a:lnTo>
                      <a:pt x="2755" y="1"/>
                    </a:lnTo>
                    <a:cubicBezTo>
                      <a:pt x="2756" y="1"/>
                      <a:pt x="2757" y="2"/>
                      <a:pt x="2757" y="3"/>
                    </a:cubicBezTo>
                    <a:cubicBezTo>
                      <a:pt x="2757" y="4"/>
                      <a:pt x="2756" y="5"/>
                      <a:pt x="2755" y="5"/>
                    </a:cubicBezTo>
                    <a:lnTo>
                      <a:pt x="2755" y="5"/>
                    </a:lnTo>
                    <a:cubicBezTo>
                      <a:pt x="2754" y="5"/>
                      <a:pt x="2753" y="4"/>
                      <a:pt x="2753" y="3"/>
                    </a:cubicBezTo>
                    <a:cubicBezTo>
                      <a:pt x="2753" y="2"/>
                      <a:pt x="2754" y="1"/>
                      <a:pt x="2755" y="1"/>
                    </a:cubicBezTo>
                    <a:close/>
                    <a:moveTo>
                      <a:pt x="2763" y="1"/>
                    </a:moveTo>
                    <a:lnTo>
                      <a:pt x="2763" y="1"/>
                    </a:lnTo>
                    <a:cubicBezTo>
                      <a:pt x="2764" y="1"/>
                      <a:pt x="2765" y="2"/>
                      <a:pt x="2765" y="3"/>
                    </a:cubicBezTo>
                    <a:cubicBezTo>
                      <a:pt x="2765" y="4"/>
                      <a:pt x="2764" y="5"/>
                      <a:pt x="2763" y="5"/>
                    </a:cubicBezTo>
                    <a:lnTo>
                      <a:pt x="2763" y="5"/>
                    </a:lnTo>
                    <a:cubicBezTo>
                      <a:pt x="2762" y="5"/>
                      <a:pt x="2761" y="4"/>
                      <a:pt x="2761" y="3"/>
                    </a:cubicBezTo>
                    <a:cubicBezTo>
                      <a:pt x="2761" y="2"/>
                      <a:pt x="2762" y="1"/>
                      <a:pt x="2763" y="1"/>
                    </a:cubicBezTo>
                    <a:close/>
                    <a:moveTo>
                      <a:pt x="2771" y="1"/>
                    </a:moveTo>
                    <a:lnTo>
                      <a:pt x="2771" y="1"/>
                    </a:lnTo>
                    <a:cubicBezTo>
                      <a:pt x="2772" y="1"/>
                      <a:pt x="2773" y="2"/>
                      <a:pt x="2773" y="3"/>
                    </a:cubicBezTo>
                    <a:cubicBezTo>
                      <a:pt x="2773" y="4"/>
                      <a:pt x="2772" y="5"/>
                      <a:pt x="2771" y="5"/>
                    </a:cubicBezTo>
                    <a:lnTo>
                      <a:pt x="2771" y="5"/>
                    </a:lnTo>
                    <a:cubicBezTo>
                      <a:pt x="2770" y="5"/>
                      <a:pt x="2769" y="4"/>
                      <a:pt x="2769" y="3"/>
                    </a:cubicBezTo>
                    <a:cubicBezTo>
                      <a:pt x="2769" y="2"/>
                      <a:pt x="2770" y="1"/>
                      <a:pt x="2771" y="1"/>
                    </a:cubicBezTo>
                    <a:close/>
                    <a:moveTo>
                      <a:pt x="2779" y="1"/>
                    </a:moveTo>
                    <a:lnTo>
                      <a:pt x="2779" y="1"/>
                    </a:lnTo>
                    <a:cubicBezTo>
                      <a:pt x="2780" y="1"/>
                      <a:pt x="2781" y="2"/>
                      <a:pt x="2781" y="3"/>
                    </a:cubicBezTo>
                    <a:cubicBezTo>
                      <a:pt x="2781" y="4"/>
                      <a:pt x="2780" y="5"/>
                      <a:pt x="2779" y="5"/>
                    </a:cubicBezTo>
                    <a:lnTo>
                      <a:pt x="2779" y="5"/>
                    </a:lnTo>
                    <a:cubicBezTo>
                      <a:pt x="2778" y="5"/>
                      <a:pt x="2777" y="4"/>
                      <a:pt x="2777" y="3"/>
                    </a:cubicBezTo>
                    <a:cubicBezTo>
                      <a:pt x="2777" y="2"/>
                      <a:pt x="2778" y="1"/>
                      <a:pt x="2779" y="1"/>
                    </a:cubicBezTo>
                    <a:close/>
                    <a:moveTo>
                      <a:pt x="2787" y="1"/>
                    </a:moveTo>
                    <a:lnTo>
                      <a:pt x="2787" y="1"/>
                    </a:lnTo>
                    <a:cubicBezTo>
                      <a:pt x="2788" y="1"/>
                      <a:pt x="2789" y="2"/>
                      <a:pt x="2789" y="3"/>
                    </a:cubicBezTo>
                    <a:cubicBezTo>
                      <a:pt x="2789" y="4"/>
                      <a:pt x="2788" y="5"/>
                      <a:pt x="2787" y="5"/>
                    </a:cubicBezTo>
                    <a:lnTo>
                      <a:pt x="2787" y="5"/>
                    </a:lnTo>
                    <a:cubicBezTo>
                      <a:pt x="2786" y="5"/>
                      <a:pt x="2785" y="4"/>
                      <a:pt x="2785" y="3"/>
                    </a:cubicBezTo>
                    <a:cubicBezTo>
                      <a:pt x="2785" y="2"/>
                      <a:pt x="2786" y="1"/>
                      <a:pt x="2787" y="1"/>
                    </a:cubicBezTo>
                    <a:close/>
                    <a:moveTo>
                      <a:pt x="2795" y="1"/>
                    </a:moveTo>
                    <a:lnTo>
                      <a:pt x="2795" y="1"/>
                    </a:lnTo>
                    <a:cubicBezTo>
                      <a:pt x="2796" y="1"/>
                      <a:pt x="2797" y="2"/>
                      <a:pt x="2797" y="3"/>
                    </a:cubicBezTo>
                    <a:cubicBezTo>
                      <a:pt x="2797" y="4"/>
                      <a:pt x="2796" y="5"/>
                      <a:pt x="2795" y="5"/>
                    </a:cubicBezTo>
                    <a:lnTo>
                      <a:pt x="2795" y="5"/>
                    </a:lnTo>
                    <a:cubicBezTo>
                      <a:pt x="2794" y="5"/>
                      <a:pt x="2793" y="4"/>
                      <a:pt x="2793" y="3"/>
                    </a:cubicBezTo>
                    <a:cubicBezTo>
                      <a:pt x="2793" y="2"/>
                      <a:pt x="2794" y="1"/>
                      <a:pt x="2795" y="1"/>
                    </a:cubicBezTo>
                    <a:close/>
                    <a:moveTo>
                      <a:pt x="2803" y="1"/>
                    </a:moveTo>
                    <a:lnTo>
                      <a:pt x="2803" y="1"/>
                    </a:lnTo>
                    <a:cubicBezTo>
                      <a:pt x="2804" y="1"/>
                      <a:pt x="2805" y="2"/>
                      <a:pt x="2805" y="3"/>
                    </a:cubicBezTo>
                    <a:cubicBezTo>
                      <a:pt x="2805" y="4"/>
                      <a:pt x="2804" y="5"/>
                      <a:pt x="2803" y="5"/>
                    </a:cubicBezTo>
                    <a:lnTo>
                      <a:pt x="2803" y="5"/>
                    </a:lnTo>
                    <a:cubicBezTo>
                      <a:pt x="2802" y="5"/>
                      <a:pt x="2801" y="4"/>
                      <a:pt x="2801" y="3"/>
                    </a:cubicBezTo>
                    <a:cubicBezTo>
                      <a:pt x="2801" y="2"/>
                      <a:pt x="2802" y="1"/>
                      <a:pt x="2803" y="1"/>
                    </a:cubicBezTo>
                    <a:close/>
                    <a:moveTo>
                      <a:pt x="2811" y="1"/>
                    </a:moveTo>
                    <a:lnTo>
                      <a:pt x="2811" y="1"/>
                    </a:lnTo>
                    <a:cubicBezTo>
                      <a:pt x="2812" y="1"/>
                      <a:pt x="2813" y="2"/>
                      <a:pt x="2813" y="3"/>
                    </a:cubicBezTo>
                    <a:cubicBezTo>
                      <a:pt x="2813" y="4"/>
                      <a:pt x="2812" y="5"/>
                      <a:pt x="2811" y="5"/>
                    </a:cubicBezTo>
                    <a:lnTo>
                      <a:pt x="2811" y="5"/>
                    </a:lnTo>
                    <a:cubicBezTo>
                      <a:pt x="2810" y="5"/>
                      <a:pt x="2809" y="4"/>
                      <a:pt x="2809" y="3"/>
                    </a:cubicBezTo>
                    <a:cubicBezTo>
                      <a:pt x="2809" y="2"/>
                      <a:pt x="2810" y="1"/>
                      <a:pt x="2811" y="1"/>
                    </a:cubicBezTo>
                    <a:close/>
                    <a:moveTo>
                      <a:pt x="2819" y="1"/>
                    </a:moveTo>
                    <a:lnTo>
                      <a:pt x="2819" y="1"/>
                    </a:lnTo>
                    <a:cubicBezTo>
                      <a:pt x="2820" y="1"/>
                      <a:pt x="2821" y="2"/>
                      <a:pt x="2821" y="3"/>
                    </a:cubicBezTo>
                    <a:cubicBezTo>
                      <a:pt x="2821" y="4"/>
                      <a:pt x="2820" y="5"/>
                      <a:pt x="2819" y="5"/>
                    </a:cubicBezTo>
                    <a:lnTo>
                      <a:pt x="2819" y="5"/>
                    </a:lnTo>
                    <a:cubicBezTo>
                      <a:pt x="2818" y="5"/>
                      <a:pt x="2817" y="4"/>
                      <a:pt x="2817" y="3"/>
                    </a:cubicBezTo>
                    <a:cubicBezTo>
                      <a:pt x="2817" y="2"/>
                      <a:pt x="2818" y="1"/>
                      <a:pt x="2819" y="1"/>
                    </a:cubicBezTo>
                    <a:close/>
                    <a:moveTo>
                      <a:pt x="2827" y="1"/>
                    </a:moveTo>
                    <a:lnTo>
                      <a:pt x="2827" y="1"/>
                    </a:lnTo>
                    <a:cubicBezTo>
                      <a:pt x="2828" y="1"/>
                      <a:pt x="2829" y="2"/>
                      <a:pt x="2829" y="3"/>
                    </a:cubicBezTo>
                    <a:cubicBezTo>
                      <a:pt x="2829" y="4"/>
                      <a:pt x="2828" y="5"/>
                      <a:pt x="2827" y="5"/>
                    </a:cubicBezTo>
                    <a:lnTo>
                      <a:pt x="2827" y="5"/>
                    </a:lnTo>
                    <a:cubicBezTo>
                      <a:pt x="2826" y="5"/>
                      <a:pt x="2825" y="4"/>
                      <a:pt x="2825" y="3"/>
                    </a:cubicBezTo>
                    <a:cubicBezTo>
                      <a:pt x="2825" y="2"/>
                      <a:pt x="2826" y="1"/>
                      <a:pt x="2827" y="1"/>
                    </a:cubicBezTo>
                    <a:close/>
                    <a:moveTo>
                      <a:pt x="2835" y="1"/>
                    </a:moveTo>
                    <a:lnTo>
                      <a:pt x="2835" y="1"/>
                    </a:lnTo>
                    <a:cubicBezTo>
                      <a:pt x="2836" y="1"/>
                      <a:pt x="2837" y="2"/>
                      <a:pt x="2837" y="3"/>
                    </a:cubicBezTo>
                    <a:cubicBezTo>
                      <a:pt x="2837" y="4"/>
                      <a:pt x="2836" y="5"/>
                      <a:pt x="2835" y="5"/>
                    </a:cubicBezTo>
                    <a:lnTo>
                      <a:pt x="2835" y="5"/>
                    </a:lnTo>
                    <a:cubicBezTo>
                      <a:pt x="2834" y="5"/>
                      <a:pt x="2833" y="4"/>
                      <a:pt x="2833" y="3"/>
                    </a:cubicBezTo>
                    <a:cubicBezTo>
                      <a:pt x="2833" y="2"/>
                      <a:pt x="2834" y="1"/>
                      <a:pt x="2835" y="1"/>
                    </a:cubicBezTo>
                    <a:close/>
                    <a:moveTo>
                      <a:pt x="2843" y="1"/>
                    </a:moveTo>
                    <a:lnTo>
                      <a:pt x="2843" y="1"/>
                    </a:lnTo>
                    <a:cubicBezTo>
                      <a:pt x="2844" y="1"/>
                      <a:pt x="2845" y="2"/>
                      <a:pt x="2845" y="3"/>
                    </a:cubicBezTo>
                    <a:cubicBezTo>
                      <a:pt x="2845" y="4"/>
                      <a:pt x="2844" y="5"/>
                      <a:pt x="2843" y="5"/>
                    </a:cubicBezTo>
                    <a:lnTo>
                      <a:pt x="2843" y="5"/>
                    </a:lnTo>
                    <a:cubicBezTo>
                      <a:pt x="2842" y="5"/>
                      <a:pt x="2841" y="4"/>
                      <a:pt x="2841" y="3"/>
                    </a:cubicBezTo>
                    <a:cubicBezTo>
                      <a:pt x="2841" y="2"/>
                      <a:pt x="2842" y="1"/>
                      <a:pt x="2843" y="1"/>
                    </a:cubicBezTo>
                    <a:close/>
                    <a:moveTo>
                      <a:pt x="2851" y="1"/>
                    </a:moveTo>
                    <a:lnTo>
                      <a:pt x="2851" y="1"/>
                    </a:lnTo>
                    <a:cubicBezTo>
                      <a:pt x="2852" y="1"/>
                      <a:pt x="2853" y="2"/>
                      <a:pt x="2853" y="3"/>
                    </a:cubicBezTo>
                    <a:cubicBezTo>
                      <a:pt x="2853" y="4"/>
                      <a:pt x="2852" y="5"/>
                      <a:pt x="2851" y="5"/>
                    </a:cubicBezTo>
                    <a:lnTo>
                      <a:pt x="2851" y="5"/>
                    </a:lnTo>
                    <a:cubicBezTo>
                      <a:pt x="2850" y="5"/>
                      <a:pt x="2849" y="4"/>
                      <a:pt x="2849" y="3"/>
                    </a:cubicBezTo>
                    <a:cubicBezTo>
                      <a:pt x="2849" y="2"/>
                      <a:pt x="2850" y="1"/>
                      <a:pt x="2851" y="1"/>
                    </a:cubicBezTo>
                    <a:close/>
                    <a:moveTo>
                      <a:pt x="2859" y="1"/>
                    </a:moveTo>
                    <a:lnTo>
                      <a:pt x="2859" y="1"/>
                    </a:lnTo>
                    <a:cubicBezTo>
                      <a:pt x="2860" y="1"/>
                      <a:pt x="2861" y="2"/>
                      <a:pt x="2861" y="3"/>
                    </a:cubicBezTo>
                    <a:cubicBezTo>
                      <a:pt x="2861" y="4"/>
                      <a:pt x="2860" y="5"/>
                      <a:pt x="2859" y="5"/>
                    </a:cubicBezTo>
                    <a:lnTo>
                      <a:pt x="2859" y="5"/>
                    </a:lnTo>
                    <a:cubicBezTo>
                      <a:pt x="2858" y="5"/>
                      <a:pt x="2857" y="4"/>
                      <a:pt x="2857" y="3"/>
                    </a:cubicBezTo>
                    <a:cubicBezTo>
                      <a:pt x="2857" y="2"/>
                      <a:pt x="2858" y="1"/>
                      <a:pt x="2859" y="1"/>
                    </a:cubicBezTo>
                    <a:close/>
                    <a:moveTo>
                      <a:pt x="2867" y="1"/>
                    </a:moveTo>
                    <a:lnTo>
                      <a:pt x="2867" y="1"/>
                    </a:lnTo>
                    <a:cubicBezTo>
                      <a:pt x="2868" y="1"/>
                      <a:pt x="2869" y="2"/>
                      <a:pt x="2869" y="3"/>
                    </a:cubicBezTo>
                    <a:cubicBezTo>
                      <a:pt x="2869" y="4"/>
                      <a:pt x="2868" y="5"/>
                      <a:pt x="2867" y="5"/>
                    </a:cubicBezTo>
                    <a:lnTo>
                      <a:pt x="2867" y="5"/>
                    </a:lnTo>
                    <a:cubicBezTo>
                      <a:pt x="2866" y="5"/>
                      <a:pt x="2865" y="4"/>
                      <a:pt x="2865" y="3"/>
                    </a:cubicBezTo>
                    <a:cubicBezTo>
                      <a:pt x="2865" y="2"/>
                      <a:pt x="2866" y="1"/>
                      <a:pt x="2867" y="1"/>
                    </a:cubicBezTo>
                    <a:close/>
                    <a:moveTo>
                      <a:pt x="2875" y="1"/>
                    </a:moveTo>
                    <a:lnTo>
                      <a:pt x="2875" y="1"/>
                    </a:lnTo>
                    <a:cubicBezTo>
                      <a:pt x="2876" y="1"/>
                      <a:pt x="2877" y="2"/>
                      <a:pt x="2877" y="3"/>
                    </a:cubicBezTo>
                    <a:cubicBezTo>
                      <a:pt x="2877" y="4"/>
                      <a:pt x="2876" y="5"/>
                      <a:pt x="2875" y="5"/>
                    </a:cubicBezTo>
                    <a:lnTo>
                      <a:pt x="2875" y="5"/>
                    </a:lnTo>
                    <a:cubicBezTo>
                      <a:pt x="2874" y="5"/>
                      <a:pt x="2873" y="4"/>
                      <a:pt x="2873" y="3"/>
                    </a:cubicBezTo>
                    <a:cubicBezTo>
                      <a:pt x="2873" y="2"/>
                      <a:pt x="2874" y="1"/>
                      <a:pt x="2875" y="1"/>
                    </a:cubicBezTo>
                    <a:close/>
                    <a:moveTo>
                      <a:pt x="2883" y="1"/>
                    </a:moveTo>
                    <a:lnTo>
                      <a:pt x="2883" y="1"/>
                    </a:lnTo>
                    <a:cubicBezTo>
                      <a:pt x="2884" y="1"/>
                      <a:pt x="2885" y="2"/>
                      <a:pt x="2885" y="3"/>
                    </a:cubicBezTo>
                    <a:cubicBezTo>
                      <a:pt x="2885" y="4"/>
                      <a:pt x="2884" y="5"/>
                      <a:pt x="2883" y="5"/>
                    </a:cubicBezTo>
                    <a:lnTo>
                      <a:pt x="2883" y="5"/>
                    </a:lnTo>
                    <a:cubicBezTo>
                      <a:pt x="2882" y="5"/>
                      <a:pt x="2881" y="4"/>
                      <a:pt x="2881" y="3"/>
                    </a:cubicBezTo>
                    <a:cubicBezTo>
                      <a:pt x="2881" y="2"/>
                      <a:pt x="2882" y="1"/>
                      <a:pt x="2883" y="1"/>
                    </a:cubicBezTo>
                    <a:close/>
                    <a:moveTo>
                      <a:pt x="2891" y="1"/>
                    </a:moveTo>
                    <a:lnTo>
                      <a:pt x="2891" y="1"/>
                    </a:lnTo>
                    <a:cubicBezTo>
                      <a:pt x="2892" y="1"/>
                      <a:pt x="2893" y="2"/>
                      <a:pt x="2893" y="3"/>
                    </a:cubicBezTo>
                    <a:cubicBezTo>
                      <a:pt x="2893" y="4"/>
                      <a:pt x="2892" y="5"/>
                      <a:pt x="2891" y="5"/>
                    </a:cubicBezTo>
                    <a:lnTo>
                      <a:pt x="2891" y="5"/>
                    </a:lnTo>
                    <a:cubicBezTo>
                      <a:pt x="2890" y="5"/>
                      <a:pt x="2889" y="4"/>
                      <a:pt x="2889" y="3"/>
                    </a:cubicBezTo>
                    <a:cubicBezTo>
                      <a:pt x="2889" y="2"/>
                      <a:pt x="2890" y="1"/>
                      <a:pt x="2891" y="1"/>
                    </a:cubicBezTo>
                    <a:close/>
                    <a:moveTo>
                      <a:pt x="2899" y="1"/>
                    </a:moveTo>
                    <a:lnTo>
                      <a:pt x="2899" y="1"/>
                    </a:lnTo>
                    <a:cubicBezTo>
                      <a:pt x="2900" y="1"/>
                      <a:pt x="2901" y="2"/>
                      <a:pt x="2901" y="3"/>
                    </a:cubicBezTo>
                    <a:cubicBezTo>
                      <a:pt x="2901" y="4"/>
                      <a:pt x="2900" y="5"/>
                      <a:pt x="2899" y="5"/>
                    </a:cubicBezTo>
                    <a:lnTo>
                      <a:pt x="2899" y="5"/>
                    </a:lnTo>
                    <a:cubicBezTo>
                      <a:pt x="2898" y="5"/>
                      <a:pt x="2897" y="4"/>
                      <a:pt x="2897" y="3"/>
                    </a:cubicBezTo>
                    <a:cubicBezTo>
                      <a:pt x="2897" y="2"/>
                      <a:pt x="2898" y="1"/>
                      <a:pt x="2899" y="1"/>
                    </a:cubicBezTo>
                    <a:close/>
                    <a:moveTo>
                      <a:pt x="2907" y="1"/>
                    </a:moveTo>
                    <a:lnTo>
                      <a:pt x="2907" y="1"/>
                    </a:lnTo>
                    <a:cubicBezTo>
                      <a:pt x="2908" y="1"/>
                      <a:pt x="2909" y="2"/>
                      <a:pt x="2909" y="3"/>
                    </a:cubicBezTo>
                    <a:cubicBezTo>
                      <a:pt x="2909" y="4"/>
                      <a:pt x="2908" y="5"/>
                      <a:pt x="2907" y="5"/>
                    </a:cubicBezTo>
                    <a:lnTo>
                      <a:pt x="2907" y="5"/>
                    </a:lnTo>
                    <a:cubicBezTo>
                      <a:pt x="2906" y="5"/>
                      <a:pt x="2905" y="4"/>
                      <a:pt x="2905" y="3"/>
                    </a:cubicBezTo>
                    <a:cubicBezTo>
                      <a:pt x="2905" y="2"/>
                      <a:pt x="2906" y="1"/>
                      <a:pt x="2907" y="1"/>
                    </a:cubicBezTo>
                    <a:close/>
                    <a:moveTo>
                      <a:pt x="2915" y="1"/>
                    </a:moveTo>
                    <a:lnTo>
                      <a:pt x="2915" y="1"/>
                    </a:lnTo>
                    <a:cubicBezTo>
                      <a:pt x="2916" y="1"/>
                      <a:pt x="2917" y="2"/>
                      <a:pt x="2917" y="3"/>
                    </a:cubicBezTo>
                    <a:cubicBezTo>
                      <a:pt x="2917" y="4"/>
                      <a:pt x="2916" y="5"/>
                      <a:pt x="2915" y="5"/>
                    </a:cubicBezTo>
                    <a:lnTo>
                      <a:pt x="2915" y="5"/>
                    </a:lnTo>
                    <a:cubicBezTo>
                      <a:pt x="2914" y="5"/>
                      <a:pt x="2913" y="4"/>
                      <a:pt x="2913" y="3"/>
                    </a:cubicBezTo>
                    <a:cubicBezTo>
                      <a:pt x="2913" y="2"/>
                      <a:pt x="2914" y="1"/>
                      <a:pt x="2915" y="1"/>
                    </a:cubicBezTo>
                    <a:close/>
                    <a:moveTo>
                      <a:pt x="2923" y="1"/>
                    </a:moveTo>
                    <a:lnTo>
                      <a:pt x="2923" y="1"/>
                    </a:lnTo>
                    <a:cubicBezTo>
                      <a:pt x="2924" y="1"/>
                      <a:pt x="2925" y="2"/>
                      <a:pt x="2925" y="3"/>
                    </a:cubicBezTo>
                    <a:cubicBezTo>
                      <a:pt x="2925" y="4"/>
                      <a:pt x="2924" y="5"/>
                      <a:pt x="2923" y="5"/>
                    </a:cubicBezTo>
                    <a:lnTo>
                      <a:pt x="2923" y="5"/>
                    </a:lnTo>
                    <a:cubicBezTo>
                      <a:pt x="2922" y="5"/>
                      <a:pt x="2921" y="4"/>
                      <a:pt x="2921" y="3"/>
                    </a:cubicBezTo>
                    <a:cubicBezTo>
                      <a:pt x="2921" y="2"/>
                      <a:pt x="2922" y="1"/>
                      <a:pt x="2923" y="1"/>
                    </a:cubicBezTo>
                    <a:close/>
                    <a:moveTo>
                      <a:pt x="2931" y="1"/>
                    </a:moveTo>
                    <a:lnTo>
                      <a:pt x="2931" y="1"/>
                    </a:lnTo>
                    <a:cubicBezTo>
                      <a:pt x="2932" y="1"/>
                      <a:pt x="2933" y="2"/>
                      <a:pt x="2933" y="3"/>
                    </a:cubicBezTo>
                    <a:cubicBezTo>
                      <a:pt x="2933" y="4"/>
                      <a:pt x="2932" y="5"/>
                      <a:pt x="2931" y="5"/>
                    </a:cubicBezTo>
                    <a:lnTo>
                      <a:pt x="2931" y="5"/>
                    </a:lnTo>
                    <a:cubicBezTo>
                      <a:pt x="2930" y="5"/>
                      <a:pt x="2929" y="4"/>
                      <a:pt x="2929" y="3"/>
                    </a:cubicBezTo>
                    <a:cubicBezTo>
                      <a:pt x="2929" y="2"/>
                      <a:pt x="2930" y="1"/>
                      <a:pt x="2931" y="1"/>
                    </a:cubicBezTo>
                    <a:close/>
                    <a:moveTo>
                      <a:pt x="2939" y="1"/>
                    </a:moveTo>
                    <a:lnTo>
                      <a:pt x="2939" y="1"/>
                    </a:lnTo>
                    <a:cubicBezTo>
                      <a:pt x="2940" y="1"/>
                      <a:pt x="2941" y="2"/>
                      <a:pt x="2941" y="3"/>
                    </a:cubicBezTo>
                    <a:cubicBezTo>
                      <a:pt x="2941" y="4"/>
                      <a:pt x="2940" y="5"/>
                      <a:pt x="2939" y="5"/>
                    </a:cubicBezTo>
                    <a:lnTo>
                      <a:pt x="2939" y="5"/>
                    </a:lnTo>
                    <a:cubicBezTo>
                      <a:pt x="2938" y="5"/>
                      <a:pt x="2937" y="4"/>
                      <a:pt x="2937" y="3"/>
                    </a:cubicBezTo>
                    <a:cubicBezTo>
                      <a:pt x="2937" y="2"/>
                      <a:pt x="2938" y="1"/>
                      <a:pt x="2939" y="1"/>
                    </a:cubicBezTo>
                    <a:close/>
                    <a:moveTo>
                      <a:pt x="2947" y="1"/>
                    </a:moveTo>
                    <a:lnTo>
                      <a:pt x="2947" y="1"/>
                    </a:lnTo>
                    <a:cubicBezTo>
                      <a:pt x="2948" y="1"/>
                      <a:pt x="2949" y="2"/>
                      <a:pt x="2949" y="3"/>
                    </a:cubicBezTo>
                    <a:cubicBezTo>
                      <a:pt x="2949" y="4"/>
                      <a:pt x="2948" y="5"/>
                      <a:pt x="2947" y="5"/>
                    </a:cubicBezTo>
                    <a:lnTo>
                      <a:pt x="2947" y="5"/>
                    </a:lnTo>
                    <a:cubicBezTo>
                      <a:pt x="2946" y="5"/>
                      <a:pt x="2945" y="4"/>
                      <a:pt x="2945" y="3"/>
                    </a:cubicBezTo>
                    <a:cubicBezTo>
                      <a:pt x="2945" y="2"/>
                      <a:pt x="2946" y="1"/>
                      <a:pt x="2947" y="1"/>
                    </a:cubicBezTo>
                    <a:close/>
                    <a:moveTo>
                      <a:pt x="2955" y="1"/>
                    </a:moveTo>
                    <a:lnTo>
                      <a:pt x="2955" y="1"/>
                    </a:lnTo>
                    <a:cubicBezTo>
                      <a:pt x="2956" y="1"/>
                      <a:pt x="2957" y="2"/>
                      <a:pt x="2957" y="3"/>
                    </a:cubicBezTo>
                    <a:cubicBezTo>
                      <a:pt x="2957" y="4"/>
                      <a:pt x="2956" y="5"/>
                      <a:pt x="2955" y="5"/>
                    </a:cubicBezTo>
                    <a:lnTo>
                      <a:pt x="2955" y="5"/>
                    </a:lnTo>
                    <a:cubicBezTo>
                      <a:pt x="2954" y="5"/>
                      <a:pt x="2953" y="4"/>
                      <a:pt x="2953" y="3"/>
                    </a:cubicBezTo>
                    <a:cubicBezTo>
                      <a:pt x="2953" y="2"/>
                      <a:pt x="2954" y="1"/>
                      <a:pt x="2955" y="1"/>
                    </a:cubicBezTo>
                    <a:close/>
                    <a:moveTo>
                      <a:pt x="2963" y="1"/>
                    </a:moveTo>
                    <a:lnTo>
                      <a:pt x="2963" y="1"/>
                    </a:lnTo>
                    <a:cubicBezTo>
                      <a:pt x="2964" y="1"/>
                      <a:pt x="2965" y="2"/>
                      <a:pt x="2965" y="3"/>
                    </a:cubicBezTo>
                    <a:cubicBezTo>
                      <a:pt x="2965" y="4"/>
                      <a:pt x="2964" y="5"/>
                      <a:pt x="2963" y="5"/>
                    </a:cubicBezTo>
                    <a:lnTo>
                      <a:pt x="2963" y="5"/>
                    </a:lnTo>
                    <a:cubicBezTo>
                      <a:pt x="2962" y="5"/>
                      <a:pt x="2961" y="4"/>
                      <a:pt x="2961" y="3"/>
                    </a:cubicBezTo>
                    <a:cubicBezTo>
                      <a:pt x="2961" y="2"/>
                      <a:pt x="2962" y="1"/>
                      <a:pt x="2963" y="1"/>
                    </a:cubicBezTo>
                    <a:close/>
                    <a:moveTo>
                      <a:pt x="2971" y="1"/>
                    </a:moveTo>
                    <a:lnTo>
                      <a:pt x="2971" y="1"/>
                    </a:lnTo>
                    <a:cubicBezTo>
                      <a:pt x="2972" y="1"/>
                      <a:pt x="2973" y="2"/>
                      <a:pt x="2973" y="3"/>
                    </a:cubicBezTo>
                    <a:cubicBezTo>
                      <a:pt x="2973" y="4"/>
                      <a:pt x="2972" y="5"/>
                      <a:pt x="2971" y="5"/>
                    </a:cubicBezTo>
                    <a:lnTo>
                      <a:pt x="2971" y="5"/>
                    </a:lnTo>
                    <a:cubicBezTo>
                      <a:pt x="2970" y="5"/>
                      <a:pt x="2969" y="4"/>
                      <a:pt x="2969" y="3"/>
                    </a:cubicBezTo>
                    <a:cubicBezTo>
                      <a:pt x="2969" y="2"/>
                      <a:pt x="2970" y="1"/>
                      <a:pt x="2971" y="1"/>
                    </a:cubicBezTo>
                    <a:close/>
                    <a:moveTo>
                      <a:pt x="2979" y="1"/>
                    </a:moveTo>
                    <a:lnTo>
                      <a:pt x="2979" y="1"/>
                    </a:lnTo>
                    <a:cubicBezTo>
                      <a:pt x="2980" y="1"/>
                      <a:pt x="2981" y="2"/>
                      <a:pt x="2981" y="3"/>
                    </a:cubicBezTo>
                    <a:cubicBezTo>
                      <a:pt x="2981" y="4"/>
                      <a:pt x="2980" y="5"/>
                      <a:pt x="2979" y="5"/>
                    </a:cubicBezTo>
                    <a:lnTo>
                      <a:pt x="2979" y="5"/>
                    </a:lnTo>
                    <a:cubicBezTo>
                      <a:pt x="2978" y="5"/>
                      <a:pt x="2977" y="4"/>
                      <a:pt x="2977" y="3"/>
                    </a:cubicBezTo>
                    <a:cubicBezTo>
                      <a:pt x="2977" y="2"/>
                      <a:pt x="2978" y="1"/>
                      <a:pt x="2979" y="1"/>
                    </a:cubicBezTo>
                    <a:close/>
                    <a:moveTo>
                      <a:pt x="2987" y="1"/>
                    </a:moveTo>
                    <a:lnTo>
                      <a:pt x="2987" y="1"/>
                    </a:lnTo>
                    <a:cubicBezTo>
                      <a:pt x="2988" y="1"/>
                      <a:pt x="2989" y="2"/>
                      <a:pt x="2989" y="3"/>
                    </a:cubicBezTo>
                    <a:cubicBezTo>
                      <a:pt x="2989" y="4"/>
                      <a:pt x="2988" y="5"/>
                      <a:pt x="2987" y="5"/>
                    </a:cubicBezTo>
                    <a:lnTo>
                      <a:pt x="2987" y="5"/>
                    </a:lnTo>
                    <a:cubicBezTo>
                      <a:pt x="2986" y="5"/>
                      <a:pt x="2985" y="4"/>
                      <a:pt x="2985" y="3"/>
                    </a:cubicBezTo>
                    <a:cubicBezTo>
                      <a:pt x="2985" y="2"/>
                      <a:pt x="2986" y="1"/>
                      <a:pt x="2987" y="1"/>
                    </a:cubicBezTo>
                    <a:close/>
                    <a:moveTo>
                      <a:pt x="2995" y="1"/>
                    </a:moveTo>
                    <a:lnTo>
                      <a:pt x="2995" y="1"/>
                    </a:lnTo>
                    <a:cubicBezTo>
                      <a:pt x="2996" y="1"/>
                      <a:pt x="2997" y="2"/>
                      <a:pt x="2997" y="3"/>
                    </a:cubicBezTo>
                    <a:cubicBezTo>
                      <a:pt x="2997" y="4"/>
                      <a:pt x="2996" y="5"/>
                      <a:pt x="2995" y="5"/>
                    </a:cubicBezTo>
                    <a:lnTo>
                      <a:pt x="2995" y="5"/>
                    </a:lnTo>
                    <a:cubicBezTo>
                      <a:pt x="2994" y="5"/>
                      <a:pt x="2993" y="4"/>
                      <a:pt x="2993" y="3"/>
                    </a:cubicBezTo>
                    <a:cubicBezTo>
                      <a:pt x="2993" y="2"/>
                      <a:pt x="2994" y="1"/>
                      <a:pt x="2995" y="1"/>
                    </a:cubicBezTo>
                    <a:close/>
                    <a:moveTo>
                      <a:pt x="3003" y="1"/>
                    </a:moveTo>
                    <a:lnTo>
                      <a:pt x="3003" y="1"/>
                    </a:lnTo>
                    <a:cubicBezTo>
                      <a:pt x="3004" y="1"/>
                      <a:pt x="3005" y="2"/>
                      <a:pt x="3005" y="3"/>
                    </a:cubicBezTo>
                    <a:cubicBezTo>
                      <a:pt x="3005" y="4"/>
                      <a:pt x="3004" y="5"/>
                      <a:pt x="3003" y="5"/>
                    </a:cubicBezTo>
                    <a:lnTo>
                      <a:pt x="3003" y="5"/>
                    </a:lnTo>
                    <a:cubicBezTo>
                      <a:pt x="3002" y="5"/>
                      <a:pt x="3001" y="4"/>
                      <a:pt x="3001" y="3"/>
                    </a:cubicBezTo>
                    <a:cubicBezTo>
                      <a:pt x="3001" y="2"/>
                      <a:pt x="3002" y="1"/>
                      <a:pt x="3003" y="1"/>
                    </a:cubicBezTo>
                    <a:close/>
                    <a:moveTo>
                      <a:pt x="3011" y="1"/>
                    </a:moveTo>
                    <a:lnTo>
                      <a:pt x="3011" y="1"/>
                    </a:lnTo>
                    <a:cubicBezTo>
                      <a:pt x="3012" y="1"/>
                      <a:pt x="3013" y="2"/>
                      <a:pt x="3013" y="3"/>
                    </a:cubicBezTo>
                    <a:cubicBezTo>
                      <a:pt x="3013" y="4"/>
                      <a:pt x="3012" y="5"/>
                      <a:pt x="3011" y="5"/>
                    </a:cubicBezTo>
                    <a:lnTo>
                      <a:pt x="3011" y="5"/>
                    </a:lnTo>
                    <a:cubicBezTo>
                      <a:pt x="3010" y="5"/>
                      <a:pt x="3009" y="4"/>
                      <a:pt x="3009" y="3"/>
                    </a:cubicBezTo>
                    <a:cubicBezTo>
                      <a:pt x="3009" y="2"/>
                      <a:pt x="3010" y="1"/>
                      <a:pt x="3011" y="1"/>
                    </a:cubicBezTo>
                    <a:close/>
                    <a:moveTo>
                      <a:pt x="3019" y="1"/>
                    </a:moveTo>
                    <a:lnTo>
                      <a:pt x="3019" y="1"/>
                    </a:lnTo>
                    <a:cubicBezTo>
                      <a:pt x="3020" y="1"/>
                      <a:pt x="3021" y="2"/>
                      <a:pt x="3021" y="3"/>
                    </a:cubicBezTo>
                    <a:cubicBezTo>
                      <a:pt x="3021" y="4"/>
                      <a:pt x="3020" y="5"/>
                      <a:pt x="3019" y="5"/>
                    </a:cubicBezTo>
                    <a:lnTo>
                      <a:pt x="3019" y="5"/>
                    </a:lnTo>
                    <a:cubicBezTo>
                      <a:pt x="3018" y="5"/>
                      <a:pt x="3017" y="4"/>
                      <a:pt x="3017" y="3"/>
                    </a:cubicBezTo>
                    <a:cubicBezTo>
                      <a:pt x="3017" y="2"/>
                      <a:pt x="3018" y="1"/>
                      <a:pt x="3019" y="1"/>
                    </a:cubicBezTo>
                    <a:close/>
                    <a:moveTo>
                      <a:pt x="3027" y="1"/>
                    </a:moveTo>
                    <a:lnTo>
                      <a:pt x="3027" y="1"/>
                    </a:lnTo>
                    <a:cubicBezTo>
                      <a:pt x="3028" y="1"/>
                      <a:pt x="3029" y="2"/>
                      <a:pt x="3029" y="3"/>
                    </a:cubicBezTo>
                    <a:cubicBezTo>
                      <a:pt x="3029" y="4"/>
                      <a:pt x="3028" y="5"/>
                      <a:pt x="3027" y="5"/>
                    </a:cubicBezTo>
                    <a:lnTo>
                      <a:pt x="3027" y="5"/>
                    </a:lnTo>
                    <a:cubicBezTo>
                      <a:pt x="3026" y="5"/>
                      <a:pt x="3025" y="4"/>
                      <a:pt x="3025" y="3"/>
                    </a:cubicBezTo>
                    <a:cubicBezTo>
                      <a:pt x="3025" y="2"/>
                      <a:pt x="3026" y="1"/>
                      <a:pt x="3027" y="1"/>
                    </a:cubicBezTo>
                    <a:close/>
                    <a:moveTo>
                      <a:pt x="3035" y="1"/>
                    </a:moveTo>
                    <a:lnTo>
                      <a:pt x="3035" y="1"/>
                    </a:lnTo>
                    <a:cubicBezTo>
                      <a:pt x="3036" y="1"/>
                      <a:pt x="3037" y="2"/>
                      <a:pt x="3037" y="3"/>
                    </a:cubicBezTo>
                    <a:cubicBezTo>
                      <a:pt x="3037" y="4"/>
                      <a:pt x="3036" y="5"/>
                      <a:pt x="3035" y="5"/>
                    </a:cubicBezTo>
                    <a:lnTo>
                      <a:pt x="3035" y="5"/>
                    </a:lnTo>
                    <a:cubicBezTo>
                      <a:pt x="3034" y="5"/>
                      <a:pt x="3033" y="4"/>
                      <a:pt x="3033" y="3"/>
                    </a:cubicBezTo>
                    <a:cubicBezTo>
                      <a:pt x="3033" y="2"/>
                      <a:pt x="3034" y="1"/>
                      <a:pt x="3035" y="1"/>
                    </a:cubicBezTo>
                    <a:close/>
                    <a:moveTo>
                      <a:pt x="3043" y="1"/>
                    </a:moveTo>
                    <a:lnTo>
                      <a:pt x="3043" y="1"/>
                    </a:lnTo>
                    <a:cubicBezTo>
                      <a:pt x="3044" y="1"/>
                      <a:pt x="3045" y="2"/>
                      <a:pt x="3045" y="3"/>
                    </a:cubicBezTo>
                    <a:cubicBezTo>
                      <a:pt x="3045" y="4"/>
                      <a:pt x="3044" y="5"/>
                      <a:pt x="3043" y="5"/>
                    </a:cubicBezTo>
                    <a:lnTo>
                      <a:pt x="3043" y="5"/>
                    </a:lnTo>
                    <a:cubicBezTo>
                      <a:pt x="3042" y="5"/>
                      <a:pt x="3041" y="4"/>
                      <a:pt x="3041" y="3"/>
                    </a:cubicBezTo>
                    <a:cubicBezTo>
                      <a:pt x="3041" y="2"/>
                      <a:pt x="3042" y="1"/>
                      <a:pt x="3043" y="1"/>
                    </a:cubicBezTo>
                    <a:close/>
                    <a:moveTo>
                      <a:pt x="3051" y="1"/>
                    </a:moveTo>
                    <a:lnTo>
                      <a:pt x="3051" y="1"/>
                    </a:lnTo>
                    <a:cubicBezTo>
                      <a:pt x="3052" y="1"/>
                      <a:pt x="3053" y="2"/>
                      <a:pt x="3053" y="3"/>
                    </a:cubicBezTo>
                    <a:cubicBezTo>
                      <a:pt x="3053" y="4"/>
                      <a:pt x="3052" y="5"/>
                      <a:pt x="3051" y="5"/>
                    </a:cubicBezTo>
                    <a:lnTo>
                      <a:pt x="3051" y="5"/>
                    </a:lnTo>
                    <a:cubicBezTo>
                      <a:pt x="3050" y="5"/>
                      <a:pt x="3049" y="4"/>
                      <a:pt x="3049" y="3"/>
                    </a:cubicBezTo>
                    <a:cubicBezTo>
                      <a:pt x="3049" y="2"/>
                      <a:pt x="3050" y="1"/>
                      <a:pt x="3051" y="1"/>
                    </a:cubicBezTo>
                    <a:close/>
                    <a:moveTo>
                      <a:pt x="3059" y="1"/>
                    </a:moveTo>
                    <a:lnTo>
                      <a:pt x="3059" y="1"/>
                    </a:lnTo>
                    <a:cubicBezTo>
                      <a:pt x="3060" y="1"/>
                      <a:pt x="3061" y="2"/>
                      <a:pt x="3061" y="3"/>
                    </a:cubicBezTo>
                    <a:cubicBezTo>
                      <a:pt x="3061" y="4"/>
                      <a:pt x="3060" y="5"/>
                      <a:pt x="3059" y="5"/>
                    </a:cubicBezTo>
                    <a:lnTo>
                      <a:pt x="3059" y="5"/>
                    </a:lnTo>
                    <a:cubicBezTo>
                      <a:pt x="3058" y="5"/>
                      <a:pt x="3057" y="4"/>
                      <a:pt x="3057" y="3"/>
                    </a:cubicBezTo>
                    <a:cubicBezTo>
                      <a:pt x="3057" y="2"/>
                      <a:pt x="3058" y="1"/>
                      <a:pt x="3059" y="1"/>
                    </a:cubicBezTo>
                    <a:close/>
                    <a:moveTo>
                      <a:pt x="3067" y="1"/>
                    </a:moveTo>
                    <a:lnTo>
                      <a:pt x="3067" y="1"/>
                    </a:lnTo>
                    <a:cubicBezTo>
                      <a:pt x="3068" y="1"/>
                      <a:pt x="3069" y="2"/>
                      <a:pt x="3069" y="3"/>
                    </a:cubicBezTo>
                    <a:cubicBezTo>
                      <a:pt x="3069" y="4"/>
                      <a:pt x="3068" y="5"/>
                      <a:pt x="3067" y="5"/>
                    </a:cubicBezTo>
                    <a:lnTo>
                      <a:pt x="3067" y="5"/>
                    </a:lnTo>
                    <a:cubicBezTo>
                      <a:pt x="3066" y="5"/>
                      <a:pt x="3065" y="4"/>
                      <a:pt x="3065" y="3"/>
                    </a:cubicBezTo>
                    <a:cubicBezTo>
                      <a:pt x="3065" y="2"/>
                      <a:pt x="3066" y="1"/>
                      <a:pt x="3067" y="1"/>
                    </a:cubicBezTo>
                    <a:close/>
                    <a:moveTo>
                      <a:pt x="3075" y="1"/>
                    </a:moveTo>
                    <a:lnTo>
                      <a:pt x="3075" y="1"/>
                    </a:lnTo>
                    <a:cubicBezTo>
                      <a:pt x="3076" y="1"/>
                      <a:pt x="3077" y="2"/>
                      <a:pt x="3077" y="3"/>
                    </a:cubicBezTo>
                    <a:cubicBezTo>
                      <a:pt x="3077" y="4"/>
                      <a:pt x="3076" y="5"/>
                      <a:pt x="3075" y="5"/>
                    </a:cubicBezTo>
                    <a:lnTo>
                      <a:pt x="3075" y="5"/>
                    </a:lnTo>
                    <a:cubicBezTo>
                      <a:pt x="3074" y="5"/>
                      <a:pt x="3073" y="4"/>
                      <a:pt x="3073" y="3"/>
                    </a:cubicBezTo>
                    <a:cubicBezTo>
                      <a:pt x="3073" y="2"/>
                      <a:pt x="3074" y="1"/>
                      <a:pt x="3075" y="1"/>
                    </a:cubicBezTo>
                    <a:close/>
                    <a:moveTo>
                      <a:pt x="3083" y="1"/>
                    </a:moveTo>
                    <a:lnTo>
                      <a:pt x="3083" y="1"/>
                    </a:lnTo>
                    <a:cubicBezTo>
                      <a:pt x="3084" y="1"/>
                      <a:pt x="3085" y="2"/>
                      <a:pt x="3085" y="3"/>
                    </a:cubicBezTo>
                    <a:cubicBezTo>
                      <a:pt x="3085" y="4"/>
                      <a:pt x="3084" y="5"/>
                      <a:pt x="3083" y="5"/>
                    </a:cubicBezTo>
                    <a:lnTo>
                      <a:pt x="3083" y="5"/>
                    </a:lnTo>
                    <a:cubicBezTo>
                      <a:pt x="3082" y="5"/>
                      <a:pt x="3081" y="4"/>
                      <a:pt x="3081" y="3"/>
                    </a:cubicBezTo>
                    <a:cubicBezTo>
                      <a:pt x="3081" y="2"/>
                      <a:pt x="3082" y="1"/>
                      <a:pt x="3083" y="1"/>
                    </a:cubicBezTo>
                    <a:close/>
                    <a:moveTo>
                      <a:pt x="3091" y="1"/>
                    </a:moveTo>
                    <a:lnTo>
                      <a:pt x="3091" y="1"/>
                    </a:lnTo>
                    <a:cubicBezTo>
                      <a:pt x="3092" y="1"/>
                      <a:pt x="3093" y="2"/>
                      <a:pt x="3093" y="3"/>
                    </a:cubicBezTo>
                    <a:cubicBezTo>
                      <a:pt x="3093" y="4"/>
                      <a:pt x="3092" y="5"/>
                      <a:pt x="3091" y="5"/>
                    </a:cubicBezTo>
                    <a:lnTo>
                      <a:pt x="3091" y="5"/>
                    </a:lnTo>
                    <a:cubicBezTo>
                      <a:pt x="3090" y="5"/>
                      <a:pt x="3089" y="4"/>
                      <a:pt x="3089" y="3"/>
                    </a:cubicBezTo>
                    <a:cubicBezTo>
                      <a:pt x="3089" y="2"/>
                      <a:pt x="3090" y="1"/>
                      <a:pt x="3091" y="1"/>
                    </a:cubicBezTo>
                    <a:close/>
                    <a:moveTo>
                      <a:pt x="3099" y="1"/>
                    </a:moveTo>
                    <a:lnTo>
                      <a:pt x="3099" y="1"/>
                    </a:lnTo>
                    <a:cubicBezTo>
                      <a:pt x="3100" y="1"/>
                      <a:pt x="3101" y="2"/>
                      <a:pt x="3101" y="3"/>
                    </a:cubicBezTo>
                    <a:cubicBezTo>
                      <a:pt x="3101" y="4"/>
                      <a:pt x="3100" y="5"/>
                      <a:pt x="3099" y="5"/>
                    </a:cubicBezTo>
                    <a:lnTo>
                      <a:pt x="3099" y="5"/>
                    </a:lnTo>
                    <a:cubicBezTo>
                      <a:pt x="3098" y="5"/>
                      <a:pt x="3097" y="4"/>
                      <a:pt x="3097" y="3"/>
                    </a:cubicBezTo>
                    <a:cubicBezTo>
                      <a:pt x="3097" y="2"/>
                      <a:pt x="3098" y="1"/>
                      <a:pt x="3099" y="1"/>
                    </a:cubicBezTo>
                    <a:close/>
                    <a:moveTo>
                      <a:pt x="3107" y="1"/>
                    </a:moveTo>
                    <a:lnTo>
                      <a:pt x="3107" y="1"/>
                    </a:lnTo>
                    <a:cubicBezTo>
                      <a:pt x="3108" y="1"/>
                      <a:pt x="3109" y="2"/>
                      <a:pt x="3109" y="3"/>
                    </a:cubicBezTo>
                    <a:cubicBezTo>
                      <a:pt x="3109" y="4"/>
                      <a:pt x="3108" y="5"/>
                      <a:pt x="3107" y="5"/>
                    </a:cubicBezTo>
                    <a:lnTo>
                      <a:pt x="3107" y="5"/>
                    </a:lnTo>
                    <a:cubicBezTo>
                      <a:pt x="3106" y="5"/>
                      <a:pt x="3105" y="4"/>
                      <a:pt x="3105" y="3"/>
                    </a:cubicBezTo>
                    <a:cubicBezTo>
                      <a:pt x="3105" y="2"/>
                      <a:pt x="3106" y="1"/>
                      <a:pt x="3107" y="1"/>
                    </a:cubicBezTo>
                    <a:close/>
                    <a:moveTo>
                      <a:pt x="3115" y="1"/>
                    </a:moveTo>
                    <a:lnTo>
                      <a:pt x="3115" y="1"/>
                    </a:lnTo>
                    <a:cubicBezTo>
                      <a:pt x="3116" y="1"/>
                      <a:pt x="3117" y="2"/>
                      <a:pt x="3117" y="3"/>
                    </a:cubicBezTo>
                    <a:cubicBezTo>
                      <a:pt x="3117" y="4"/>
                      <a:pt x="3116" y="5"/>
                      <a:pt x="3115" y="5"/>
                    </a:cubicBezTo>
                    <a:lnTo>
                      <a:pt x="3115" y="5"/>
                    </a:lnTo>
                    <a:cubicBezTo>
                      <a:pt x="3114" y="5"/>
                      <a:pt x="3113" y="4"/>
                      <a:pt x="3113" y="3"/>
                    </a:cubicBezTo>
                    <a:cubicBezTo>
                      <a:pt x="3113" y="2"/>
                      <a:pt x="3114" y="1"/>
                      <a:pt x="3115" y="1"/>
                    </a:cubicBezTo>
                    <a:close/>
                    <a:moveTo>
                      <a:pt x="3123" y="1"/>
                    </a:moveTo>
                    <a:lnTo>
                      <a:pt x="3123" y="1"/>
                    </a:lnTo>
                    <a:cubicBezTo>
                      <a:pt x="3124" y="1"/>
                      <a:pt x="3125" y="2"/>
                      <a:pt x="3125" y="3"/>
                    </a:cubicBezTo>
                    <a:cubicBezTo>
                      <a:pt x="3125" y="4"/>
                      <a:pt x="3124" y="5"/>
                      <a:pt x="3123" y="5"/>
                    </a:cubicBezTo>
                    <a:lnTo>
                      <a:pt x="3123" y="5"/>
                    </a:lnTo>
                    <a:cubicBezTo>
                      <a:pt x="3122" y="5"/>
                      <a:pt x="3121" y="4"/>
                      <a:pt x="3121" y="3"/>
                    </a:cubicBezTo>
                    <a:cubicBezTo>
                      <a:pt x="3121" y="2"/>
                      <a:pt x="3122" y="1"/>
                      <a:pt x="3123" y="1"/>
                    </a:cubicBezTo>
                    <a:close/>
                    <a:moveTo>
                      <a:pt x="3131" y="1"/>
                    </a:moveTo>
                    <a:lnTo>
                      <a:pt x="3131" y="1"/>
                    </a:lnTo>
                    <a:cubicBezTo>
                      <a:pt x="3132" y="1"/>
                      <a:pt x="3133" y="2"/>
                      <a:pt x="3133" y="3"/>
                    </a:cubicBezTo>
                    <a:cubicBezTo>
                      <a:pt x="3133" y="4"/>
                      <a:pt x="3132" y="5"/>
                      <a:pt x="3131" y="5"/>
                    </a:cubicBezTo>
                    <a:lnTo>
                      <a:pt x="3131" y="5"/>
                    </a:lnTo>
                    <a:cubicBezTo>
                      <a:pt x="3130" y="5"/>
                      <a:pt x="3129" y="4"/>
                      <a:pt x="3129" y="3"/>
                    </a:cubicBezTo>
                    <a:cubicBezTo>
                      <a:pt x="3129" y="2"/>
                      <a:pt x="3130" y="1"/>
                      <a:pt x="3131" y="1"/>
                    </a:cubicBezTo>
                    <a:close/>
                    <a:moveTo>
                      <a:pt x="3139" y="1"/>
                    </a:moveTo>
                    <a:lnTo>
                      <a:pt x="3139" y="1"/>
                    </a:lnTo>
                    <a:cubicBezTo>
                      <a:pt x="3140" y="1"/>
                      <a:pt x="3141" y="2"/>
                      <a:pt x="3141" y="3"/>
                    </a:cubicBezTo>
                    <a:cubicBezTo>
                      <a:pt x="3141" y="4"/>
                      <a:pt x="3140" y="5"/>
                      <a:pt x="3139" y="5"/>
                    </a:cubicBezTo>
                    <a:lnTo>
                      <a:pt x="3139" y="5"/>
                    </a:lnTo>
                    <a:cubicBezTo>
                      <a:pt x="3138" y="5"/>
                      <a:pt x="3137" y="4"/>
                      <a:pt x="3137" y="3"/>
                    </a:cubicBezTo>
                    <a:cubicBezTo>
                      <a:pt x="3137" y="2"/>
                      <a:pt x="3138" y="1"/>
                      <a:pt x="3139" y="1"/>
                    </a:cubicBezTo>
                    <a:close/>
                    <a:moveTo>
                      <a:pt x="3147" y="1"/>
                    </a:moveTo>
                    <a:lnTo>
                      <a:pt x="3147" y="1"/>
                    </a:lnTo>
                    <a:cubicBezTo>
                      <a:pt x="3148" y="1"/>
                      <a:pt x="3149" y="2"/>
                      <a:pt x="3149" y="3"/>
                    </a:cubicBezTo>
                    <a:cubicBezTo>
                      <a:pt x="3149" y="4"/>
                      <a:pt x="3148" y="5"/>
                      <a:pt x="3147" y="5"/>
                    </a:cubicBezTo>
                    <a:lnTo>
                      <a:pt x="3147" y="5"/>
                    </a:lnTo>
                    <a:cubicBezTo>
                      <a:pt x="3146" y="5"/>
                      <a:pt x="3145" y="4"/>
                      <a:pt x="3145" y="3"/>
                    </a:cubicBezTo>
                    <a:cubicBezTo>
                      <a:pt x="3145" y="2"/>
                      <a:pt x="3146" y="1"/>
                      <a:pt x="3147" y="1"/>
                    </a:cubicBezTo>
                    <a:close/>
                    <a:moveTo>
                      <a:pt x="3155" y="1"/>
                    </a:moveTo>
                    <a:lnTo>
                      <a:pt x="3155" y="1"/>
                    </a:lnTo>
                    <a:cubicBezTo>
                      <a:pt x="3156" y="1"/>
                      <a:pt x="3157" y="2"/>
                      <a:pt x="3157" y="3"/>
                    </a:cubicBezTo>
                    <a:cubicBezTo>
                      <a:pt x="3157" y="4"/>
                      <a:pt x="3156" y="5"/>
                      <a:pt x="3155" y="5"/>
                    </a:cubicBezTo>
                    <a:lnTo>
                      <a:pt x="3155" y="5"/>
                    </a:lnTo>
                    <a:cubicBezTo>
                      <a:pt x="3154" y="5"/>
                      <a:pt x="3153" y="4"/>
                      <a:pt x="3153" y="3"/>
                    </a:cubicBezTo>
                    <a:cubicBezTo>
                      <a:pt x="3153" y="2"/>
                      <a:pt x="3154" y="1"/>
                      <a:pt x="3155" y="1"/>
                    </a:cubicBezTo>
                    <a:close/>
                    <a:moveTo>
                      <a:pt x="3163" y="1"/>
                    </a:moveTo>
                    <a:lnTo>
                      <a:pt x="3163" y="1"/>
                    </a:lnTo>
                    <a:cubicBezTo>
                      <a:pt x="3164" y="1"/>
                      <a:pt x="3165" y="2"/>
                      <a:pt x="3165" y="3"/>
                    </a:cubicBezTo>
                    <a:cubicBezTo>
                      <a:pt x="3165" y="4"/>
                      <a:pt x="3164" y="5"/>
                      <a:pt x="3163" y="5"/>
                    </a:cubicBezTo>
                    <a:lnTo>
                      <a:pt x="3163" y="5"/>
                    </a:lnTo>
                    <a:cubicBezTo>
                      <a:pt x="3162" y="5"/>
                      <a:pt x="3161" y="4"/>
                      <a:pt x="3161" y="3"/>
                    </a:cubicBezTo>
                    <a:cubicBezTo>
                      <a:pt x="3161" y="2"/>
                      <a:pt x="3162" y="1"/>
                      <a:pt x="3163" y="1"/>
                    </a:cubicBezTo>
                    <a:close/>
                    <a:moveTo>
                      <a:pt x="3171" y="1"/>
                    </a:moveTo>
                    <a:lnTo>
                      <a:pt x="3171" y="1"/>
                    </a:lnTo>
                    <a:cubicBezTo>
                      <a:pt x="3172" y="1"/>
                      <a:pt x="3173" y="2"/>
                      <a:pt x="3173" y="3"/>
                    </a:cubicBezTo>
                    <a:cubicBezTo>
                      <a:pt x="3173" y="4"/>
                      <a:pt x="3172" y="5"/>
                      <a:pt x="3171" y="5"/>
                    </a:cubicBezTo>
                    <a:lnTo>
                      <a:pt x="3171" y="5"/>
                    </a:lnTo>
                    <a:cubicBezTo>
                      <a:pt x="3170" y="5"/>
                      <a:pt x="3169" y="4"/>
                      <a:pt x="3169" y="3"/>
                    </a:cubicBezTo>
                    <a:cubicBezTo>
                      <a:pt x="3169" y="2"/>
                      <a:pt x="3170" y="1"/>
                      <a:pt x="3171" y="1"/>
                    </a:cubicBezTo>
                    <a:close/>
                    <a:moveTo>
                      <a:pt x="3179" y="1"/>
                    </a:moveTo>
                    <a:lnTo>
                      <a:pt x="3179" y="1"/>
                    </a:lnTo>
                    <a:cubicBezTo>
                      <a:pt x="3180" y="1"/>
                      <a:pt x="3181" y="2"/>
                      <a:pt x="3181" y="3"/>
                    </a:cubicBezTo>
                    <a:cubicBezTo>
                      <a:pt x="3181" y="4"/>
                      <a:pt x="3180" y="5"/>
                      <a:pt x="3179" y="5"/>
                    </a:cubicBezTo>
                    <a:lnTo>
                      <a:pt x="3179" y="5"/>
                    </a:lnTo>
                    <a:cubicBezTo>
                      <a:pt x="3178" y="5"/>
                      <a:pt x="3177" y="4"/>
                      <a:pt x="3177" y="3"/>
                    </a:cubicBezTo>
                    <a:cubicBezTo>
                      <a:pt x="3177" y="2"/>
                      <a:pt x="3178" y="1"/>
                      <a:pt x="3179" y="1"/>
                    </a:cubicBezTo>
                    <a:close/>
                    <a:moveTo>
                      <a:pt x="3187" y="1"/>
                    </a:moveTo>
                    <a:lnTo>
                      <a:pt x="3187" y="1"/>
                    </a:lnTo>
                    <a:cubicBezTo>
                      <a:pt x="3188" y="1"/>
                      <a:pt x="3189" y="2"/>
                      <a:pt x="3189" y="3"/>
                    </a:cubicBezTo>
                    <a:cubicBezTo>
                      <a:pt x="3189" y="4"/>
                      <a:pt x="3188" y="5"/>
                      <a:pt x="3187" y="5"/>
                    </a:cubicBezTo>
                    <a:lnTo>
                      <a:pt x="3187" y="5"/>
                    </a:lnTo>
                    <a:cubicBezTo>
                      <a:pt x="3186" y="5"/>
                      <a:pt x="3185" y="4"/>
                      <a:pt x="3185" y="3"/>
                    </a:cubicBezTo>
                    <a:cubicBezTo>
                      <a:pt x="3185" y="2"/>
                      <a:pt x="3186" y="1"/>
                      <a:pt x="3187" y="1"/>
                    </a:cubicBezTo>
                    <a:close/>
                    <a:moveTo>
                      <a:pt x="3195" y="1"/>
                    </a:moveTo>
                    <a:lnTo>
                      <a:pt x="3195" y="1"/>
                    </a:lnTo>
                    <a:cubicBezTo>
                      <a:pt x="3196" y="1"/>
                      <a:pt x="3197" y="2"/>
                      <a:pt x="3197" y="3"/>
                    </a:cubicBezTo>
                    <a:cubicBezTo>
                      <a:pt x="3197" y="4"/>
                      <a:pt x="3196" y="5"/>
                      <a:pt x="3195" y="5"/>
                    </a:cubicBezTo>
                    <a:lnTo>
                      <a:pt x="3195" y="5"/>
                    </a:lnTo>
                    <a:cubicBezTo>
                      <a:pt x="3194" y="5"/>
                      <a:pt x="3193" y="4"/>
                      <a:pt x="3193" y="3"/>
                    </a:cubicBezTo>
                    <a:cubicBezTo>
                      <a:pt x="3193" y="2"/>
                      <a:pt x="3194" y="1"/>
                      <a:pt x="3195" y="1"/>
                    </a:cubicBezTo>
                    <a:close/>
                    <a:moveTo>
                      <a:pt x="3203" y="1"/>
                    </a:moveTo>
                    <a:lnTo>
                      <a:pt x="3203" y="1"/>
                    </a:lnTo>
                    <a:cubicBezTo>
                      <a:pt x="3204" y="1"/>
                      <a:pt x="3205" y="2"/>
                      <a:pt x="3205" y="3"/>
                    </a:cubicBezTo>
                    <a:cubicBezTo>
                      <a:pt x="3205" y="4"/>
                      <a:pt x="3204" y="5"/>
                      <a:pt x="3203" y="5"/>
                    </a:cubicBezTo>
                    <a:lnTo>
                      <a:pt x="3203" y="5"/>
                    </a:lnTo>
                    <a:cubicBezTo>
                      <a:pt x="3202" y="5"/>
                      <a:pt x="3201" y="4"/>
                      <a:pt x="3201" y="3"/>
                    </a:cubicBezTo>
                    <a:cubicBezTo>
                      <a:pt x="3201" y="2"/>
                      <a:pt x="3202" y="1"/>
                      <a:pt x="3203" y="1"/>
                    </a:cubicBezTo>
                    <a:close/>
                    <a:moveTo>
                      <a:pt x="3211" y="1"/>
                    </a:moveTo>
                    <a:lnTo>
                      <a:pt x="3211" y="1"/>
                    </a:lnTo>
                    <a:cubicBezTo>
                      <a:pt x="3212" y="1"/>
                      <a:pt x="3213" y="2"/>
                      <a:pt x="3213" y="3"/>
                    </a:cubicBezTo>
                    <a:cubicBezTo>
                      <a:pt x="3213" y="4"/>
                      <a:pt x="3212" y="5"/>
                      <a:pt x="3211" y="5"/>
                    </a:cubicBezTo>
                    <a:lnTo>
                      <a:pt x="3211" y="5"/>
                    </a:lnTo>
                    <a:cubicBezTo>
                      <a:pt x="3210" y="5"/>
                      <a:pt x="3209" y="4"/>
                      <a:pt x="3209" y="3"/>
                    </a:cubicBezTo>
                    <a:cubicBezTo>
                      <a:pt x="3209" y="2"/>
                      <a:pt x="3210" y="1"/>
                      <a:pt x="3211" y="1"/>
                    </a:cubicBezTo>
                    <a:close/>
                    <a:moveTo>
                      <a:pt x="3219" y="1"/>
                    </a:moveTo>
                    <a:lnTo>
                      <a:pt x="3219" y="1"/>
                    </a:lnTo>
                    <a:cubicBezTo>
                      <a:pt x="3220" y="1"/>
                      <a:pt x="3221" y="2"/>
                      <a:pt x="3221" y="3"/>
                    </a:cubicBezTo>
                    <a:cubicBezTo>
                      <a:pt x="3221" y="4"/>
                      <a:pt x="3220" y="5"/>
                      <a:pt x="3219" y="5"/>
                    </a:cubicBezTo>
                    <a:lnTo>
                      <a:pt x="3219" y="5"/>
                    </a:lnTo>
                    <a:cubicBezTo>
                      <a:pt x="3218" y="5"/>
                      <a:pt x="3217" y="4"/>
                      <a:pt x="3217" y="3"/>
                    </a:cubicBezTo>
                    <a:cubicBezTo>
                      <a:pt x="3217" y="2"/>
                      <a:pt x="3218" y="1"/>
                      <a:pt x="3219" y="1"/>
                    </a:cubicBezTo>
                    <a:close/>
                    <a:moveTo>
                      <a:pt x="3227" y="1"/>
                    </a:moveTo>
                    <a:lnTo>
                      <a:pt x="3227" y="1"/>
                    </a:lnTo>
                    <a:cubicBezTo>
                      <a:pt x="3228" y="1"/>
                      <a:pt x="3229" y="2"/>
                      <a:pt x="3229" y="3"/>
                    </a:cubicBezTo>
                    <a:cubicBezTo>
                      <a:pt x="3229" y="4"/>
                      <a:pt x="3228" y="5"/>
                      <a:pt x="3227" y="5"/>
                    </a:cubicBezTo>
                    <a:lnTo>
                      <a:pt x="3227" y="5"/>
                    </a:lnTo>
                    <a:cubicBezTo>
                      <a:pt x="3226" y="5"/>
                      <a:pt x="3225" y="4"/>
                      <a:pt x="3225" y="3"/>
                    </a:cubicBezTo>
                    <a:cubicBezTo>
                      <a:pt x="3225" y="2"/>
                      <a:pt x="3226" y="1"/>
                      <a:pt x="3227" y="1"/>
                    </a:cubicBezTo>
                    <a:close/>
                    <a:moveTo>
                      <a:pt x="3235" y="1"/>
                    </a:moveTo>
                    <a:lnTo>
                      <a:pt x="3235" y="1"/>
                    </a:lnTo>
                    <a:cubicBezTo>
                      <a:pt x="3236" y="1"/>
                      <a:pt x="3237" y="2"/>
                      <a:pt x="3237" y="3"/>
                    </a:cubicBezTo>
                    <a:cubicBezTo>
                      <a:pt x="3237" y="4"/>
                      <a:pt x="3236" y="5"/>
                      <a:pt x="3235" y="5"/>
                    </a:cubicBezTo>
                    <a:lnTo>
                      <a:pt x="3235" y="5"/>
                    </a:lnTo>
                    <a:cubicBezTo>
                      <a:pt x="3234" y="5"/>
                      <a:pt x="3233" y="4"/>
                      <a:pt x="3233" y="3"/>
                    </a:cubicBezTo>
                    <a:cubicBezTo>
                      <a:pt x="3233" y="2"/>
                      <a:pt x="3234" y="1"/>
                      <a:pt x="3235" y="1"/>
                    </a:cubicBezTo>
                    <a:close/>
                    <a:moveTo>
                      <a:pt x="3243" y="1"/>
                    </a:moveTo>
                    <a:lnTo>
                      <a:pt x="3243" y="1"/>
                    </a:lnTo>
                    <a:cubicBezTo>
                      <a:pt x="3244" y="1"/>
                      <a:pt x="3245" y="2"/>
                      <a:pt x="3245" y="3"/>
                    </a:cubicBezTo>
                    <a:cubicBezTo>
                      <a:pt x="3245" y="4"/>
                      <a:pt x="3244" y="5"/>
                      <a:pt x="3243" y="5"/>
                    </a:cubicBezTo>
                    <a:lnTo>
                      <a:pt x="3243" y="5"/>
                    </a:lnTo>
                    <a:cubicBezTo>
                      <a:pt x="3242" y="5"/>
                      <a:pt x="3241" y="4"/>
                      <a:pt x="3241" y="3"/>
                    </a:cubicBezTo>
                    <a:cubicBezTo>
                      <a:pt x="3241" y="2"/>
                      <a:pt x="3242" y="1"/>
                      <a:pt x="3243" y="1"/>
                    </a:cubicBezTo>
                    <a:close/>
                    <a:moveTo>
                      <a:pt x="3251" y="1"/>
                    </a:moveTo>
                    <a:lnTo>
                      <a:pt x="3251" y="1"/>
                    </a:lnTo>
                    <a:cubicBezTo>
                      <a:pt x="3252" y="1"/>
                      <a:pt x="3253" y="2"/>
                      <a:pt x="3253" y="3"/>
                    </a:cubicBezTo>
                    <a:cubicBezTo>
                      <a:pt x="3253" y="4"/>
                      <a:pt x="3252" y="5"/>
                      <a:pt x="3251" y="5"/>
                    </a:cubicBezTo>
                    <a:lnTo>
                      <a:pt x="3251" y="5"/>
                    </a:lnTo>
                    <a:cubicBezTo>
                      <a:pt x="3250" y="5"/>
                      <a:pt x="3249" y="4"/>
                      <a:pt x="3249" y="3"/>
                    </a:cubicBezTo>
                    <a:cubicBezTo>
                      <a:pt x="3249" y="2"/>
                      <a:pt x="3250" y="1"/>
                      <a:pt x="3251" y="1"/>
                    </a:cubicBezTo>
                    <a:close/>
                    <a:moveTo>
                      <a:pt x="3259" y="1"/>
                    </a:moveTo>
                    <a:lnTo>
                      <a:pt x="3259" y="1"/>
                    </a:lnTo>
                    <a:cubicBezTo>
                      <a:pt x="3261" y="1"/>
                      <a:pt x="3261" y="2"/>
                      <a:pt x="3261" y="3"/>
                    </a:cubicBezTo>
                    <a:cubicBezTo>
                      <a:pt x="3261" y="4"/>
                      <a:pt x="3261" y="5"/>
                      <a:pt x="3259" y="5"/>
                    </a:cubicBezTo>
                    <a:lnTo>
                      <a:pt x="3259" y="5"/>
                    </a:lnTo>
                    <a:cubicBezTo>
                      <a:pt x="3258" y="5"/>
                      <a:pt x="3257" y="4"/>
                      <a:pt x="3257" y="3"/>
                    </a:cubicBezTo>
                    <a:cubicBezTo>
                      <a:pt x="3257" y="2"/>
                      <a:pt x="3258" y="1"/>
                      <a:pt x="3259" y="1"/>
                    </a:cubicBezTo>
                    <a:close/>
                    <a:moveTo>
                      <a:pt x="3267" y="1"/>
                    </a:moveTo>
                    <a:lnTo>
                      <a:pt x="3267" y="1"/>
                    </a:lnTo>
                    <a:cubicBezTo>
                      <a:pt x="3269" y="1"/>
                      <a:pt x="3269" y="2"/>
                      <a:pt x="3269" y="3"/>
                    </a:cubicBezTo>
                    <a:cubicBezTo>
                      <a:pt x="3269" y="4"/>
                      <a:pt x="3269" y="5"/>
                      <a:pt x="3267" y="5"/>
                    </a:cubicBezTo>
                    <a:lnTo>
                      <a:pt x="3267" y="5"/>
                    </a:lnTo>
                    <a:cubicBezTo>
                      <a:pt x="3266" y="5"/>
                      <a:pt x="3265" y="4"/>
                      <a:pt x="3265" y="3"/>
                    </a:cubicBezTo>
                    <a:cubicBezTo>
                      <a:pt x="3265" y="2"/>
                      <a:pt x="3266" y="1"/>
                      <a:pt x="3267" y="1"/>
                    </a:cubicBezTo>
                    <a:close/>
                    <a:moveTo>
                      <a:pt x="3275" y="1"/>
                    </a:moveTo>
                    <a:lnTo>
                      <a:pt x="3275" y="1"/>
                    </a:lnTo>
                    <a:cubicBezTo>
                      <a:pt x="3277" y="1"/>
                      <a:pt x="3277" y="2"/>
                      <a:pt x="3277" y="3"/>
                    </a:cubicBezTo>
                    <a:cubicBezTo>
                      <a:pt x="3277" y="4"/>
                      <a:pt x="3277" y="5"/>
                      <a:pt x="3275" y="5"/>
                    </a:cubicBezTo>
                    <a:lnTo>
                      <a:pt x="3275" y="5"/>
                    </a:lnTo>
                    <a:cubicBezTo>
                      <a:pt x="3274" y="5"/>
                      <a:pt x="3273" y="4"/>
                      <a:pt x="3273" y="3"/>
                    </a:cubicBezTo>
                    <a:cubicBezTo>
                      <a:pt x="3273" y="2"/>
                      <a:pt x="3274" y="1"/>
                      <a:pt x="3275" y="1"/>
                    </a:cubicBezTo>
                    <a:close/>
                    <a:moveTo>
                      <a:pt x="3283" y="1"/>
                    </a:moveTo>
                    <a:lnTo>
                      <a:pt x="3283" y="1"/>
                    </a:lnTo>
                    <a:cubicBezTo>
                      <a:pt x="3285" y="1"/>
                      <a:pt x="3285" y="2"/>
                      <a:pt x="3285" y="3"/>
                    </a:cubicBezTo>
                    <a:cubicBezTo>
                      <a:pt x="3285" y="4"/>
                      <a:pt x="3285" y="5"/>
                      <a:pt x="3283" y="5"/>
                    </a:cubicBezTo>
                    <a:lnTo>
                      <a:pt x="3283" y="5"/>
                    </a:lnTo>
                    <a:cubicBezTo>
                      <a:pt x="3282" y="5"/>
                      <a:pt x="3281" y="4"/>
                      <a:pt x="3281" y="3"/>
                    </a:cubicBezTo>
                    <a:cubicBezTo>
                      <a:pt x="3281" y="2"/>
                      <a:pt x="3282" y="1"/>
                      <a:pt x="3283" y="1"/>
                    </a:cubicBezTo>
                    <a:close/>
                    <a:moveTo>
                      <a:pt x="3291" y="1"/>
                    </a:moveTo>
                    <a:lnTo>
                      <a:pt x="3291" y="1"/>
                    </a:lnTo>
                    <a:cubicBezTo>
                      <a:pt x="3293" y="1"/>
                      <a:pt x="3293" y="2"/>
                      <a:pt x="3293" y="3"/>
                    </a:cubicBezTo>
                    <a:cubicBezTo>
                      <a:pt x="3293" y="4"/>
                      <a:pt x="3293" y="5"/>
                      <a:pt x="3291" y="5"/>
                    </a:cubicBezTo>
                    <a:lnTo>
                      <a:pt x="3291" y="5"/>
                    </a:lnTo>
                    <a:cubicBezTo>
                      <a:pt x="3290" y="5"/>
                      <a:pt x="3289" y="4"/>
                      <a:pt x="3289" y="3"/>
                    </a:cubicBezTo>
                    <a:cubicBezTo>
                      <a:pt x="3289" y="2"/>
                      <a:pt x="3290" y="1"/>
                      <a:pt x="3291" y="1"/>
                    </a:cubicBezTo>
                    <a:close/>
                    <a:moveTo>
                      <a:pt x="3299" y="1"/>
                    </a:moveTo>
                    <a:lnTo>
                      <a:pt x="3299" y="1"/>
                    </a:lnTo>
                    <a:cubicBezTo>
                      <a:pt x="3301" y="1"/>
                      <a:pt x="3301" y="2"/>
                      <a:pt x="3301" y="3"/>
                    </a:cubicBezTo>
                    <a:cubicBezTo>
                      <a:pt x="3301" y="4"/>
                      <a:pt x="3301" y="5"/>
                      <a:pt x="3299" y="5"/>
                    </a:cubicBezTo>
                    <a:lnTo>
                      <a:pt x="3299" y="5"/>
                    </a:lnTo>
                    <a:cubicBezTo>
                      <a:pt x="3298" y="5"/>
                      <a:pt x="3297" y="4"/>
                      <a:pt x="3297" y="3"/>
                    </a:cubicBezTo>
                    <a:cubicBezTo>
                      <a:pt x="3297" y="2"/>
                      <a:pt x="3298" y="1"/>
                      <a:pt x="3299" y="1"/>
                    </a:cubicBezTo>
                    <a:close/>
                    <a:moveTo>
                      <a:pt x="3307" y="1"/>
                    </a:moveTo>
                    <a:lnTo>
                      <a:pt x="3307" y="1"/>
                    </a:lnTo>
                    <a:cubicBezTo>
                      <a:pt x="3309" y="1"/>
                      <a:pt x="3309" y="2"/>
                      <a:pt x="3309" y="3"/>
                    </a:cubicBezTo>
                    <a:cubicBezTo>
                      <a:pt x="3309" y="4"/>
                      <a:pt x="3309" y="5"/>
                      <a:pt x="3307" y="5"/>
                    </a:cubicBezTo>
                    <a:lnTo>
                      <a:pt x="3307" y="5"/>
                    </a:lnTo>
                    <a:cubicBezTo>
                      <a:pt x="3306" y="5"/>
                      <a:pt x="3305" y="4"/>
                      <a:pt x="3305" y="3"/>
                    </a:cubicBezTo>
                    <a:cubicBezTo>
                      <a:pt x="3305" y="2"/>
                      <a:pt x="3306" y="1"/>
                      <a:pt x="3307" y="1"/>
                    </a:cubicBezTo>
                    <a:close/>
                    <a:moveTo>
                      <a:pt x="3315" y="1"/>
                    </a:moveTo>
                    <a:lnTo>
                      <a:pt x="3315" y="1"/>
                    </a:lnTo>
                    <a:cubicBezTo>
                      <a:pt x="3317" y="1"/>
                      <a:pt x="3317" y="2"/>
                      <a:pt x="3317" y="3"/>
                    </a:cubicBezTo>
                    <a:cubicBezTo>
                      <a:pt x="3317" y="4"/>
                      <a:pt x="3317" y="5"/>
                      <a:pt x="3315" y="5"/>
                    </a:cubicBezTo>
                    <a:lnTo>
                      <a:pt x="3315" y="5"/>
                    </a:lnTo>
                    <a:cubicBezTo>
                      <a:pt x="3314" y="5"/>
                      <a:pt x="3313" y="4"/>
                      <a:pt x="3313" y="3"/>
                    </a:cubicBezTo>
                    <a:cubicBezTo>
                      <a:pt x="3313" y="2"/>
                      <a:pt x="3314" y="1"/>
                      <a:pt x="3315" y="1"/>
                    </a:cubicBezTo>
                    <a:close/>
                    <a:moveTo>
                      <a:pt x="3323" y="1"/>
                    </a:moveTo>
                    <a:lnTo>
                      <a:pt x="3323" y="1"/>
                    </a:lnTo>
                    <a:cubicBezTo>
                      <a:pt x="3325" y="1"/>
                      <a:pt x="3325" y="2"/>
                      <a:pt x="3325" y="3"/>
                    </a:cubicBezTo>
                    <a:cubicBezTo>
                      <a:pt x="3325" y="4"/>
                      <a:pt x="3325" y="5"/>
                      <a:pt x="3323" y="5"/>
                    </a:cubicBezTo>
                    <a:lnTo>
                      <a:pt x="3323" y="5"/>
                    </a:lnTo>
                    <a:cubicBezTo>
                      <a:pt x="3322" y="5"/>
                      <a:pt x="3321" y="4"/>
                      <a:pt x="3321" y="3"/>
                    </a:cubicBezTo>
                    <a:cubicBezTo>
                      <a:pt x="3321" y="2"/>
                      <a:pt x="3322" y="1"/>
                      <a:pt x="3323" y="1"/>
                    </a:cubicBezTo>
                    <a:close/>
                    <a:moveTo>
                      <a:pt x="3331" y="1"/>
                    </a:moveTo>
                    <a:lnTo>
                      <a:pt x="3331" y="1"/>
                    </a:lnTo>
                    <a:cubicBezTo>
                      <a:pt x="3333" y="1"/>
                      <a:pt x="3333" y="2"/>
                      <a:pt x="3333" y="3"/>
                    </a:cubicBezTo>
                    <a:cubicBezTo>
                      <a:pt x="3333" y="4"/>
                      <a:pt x="3333" y="5"/>
                      <a:pt x="3331" y="5"/>
                    </a:cubicBezTo>
                    <a:lnTo>
                      <a:pt x="3331" y="5"/>
                    </a:lnTo>
                    <a:cubicBezTo>
                      <a:pt x="3330" y="5"/>
                      <a:pt x="3329" y="4"/>
                      <a:pt x="3329" y="3"/>
                    </a:cubicBezTo>
                    <a:cubicBezTo>
                      <a:pt x="3329" y="2"/>
                      <a:pt x="3330" y="1"/>
                      <a:pt x="3331" y="1"/>
                    </a:cubicBezTo>
                    <a:close/>
                    <a:moveTo>
                      <a:pt x="3339" y="1"/>
                    </a:moveTo>
                    <a:lnTo>
                      <a:pt x="3339" y="1"/>
                    </a:lnTo>
                    <a:cubicBezTo>
                      <a:pt x="3341" y="1"/>
                      <a:pt x="3341" y="2"/>
                      <a:pt x="3341" y="3"/>
                    </a:cubicBezTo>
                    <a:cubicBezTo>
                      <a:pt x="3341" y="4"/>
                      <a:pt x="3341" y="5"/>
                      <a:pt x="3339" y="5"/>
                    </a:cubicBezTo>
                    <a:lnTo>
                      <a:pt x="3339" y="5"/>
                    </a:lnTo>
                    <a:cubicBezTo>
                      <a:pt x="3338" y="5"/>
                      <a:pt x="3337" y="4"/>
                      <a:pt x="3337" y="3"/>
                    </a:cubicBezTo>
                    <a:cubicBezTo>
                      <a:pt x="3337" y="2"/>
                      <a:pt x="3338" y="1"/>
                      <a:pt x="3339" y="1"/>
                    </a:cubicBezTo>
                    <a:close/>
                    <a:moveTo>
                      <a:pt x="3347" y="1"/>
                    </a:moveTo>
                    <a:lnTo>
                      <a:pt x="3347" y="1"/>
                    </a:lnTo>
                    <a:cubicBezTo>
                      <a:pt x="3349" y="1"/>
                      <a:pt x="3349" y="2"/>
                      <a:pt x="3349" y="3"/>
                    </a:cubicBezTo>
                    <a:cubicBezTo>
                      <a:pt x="3349" y="4"/>
                      <a:pt x="3349" y="5"/>
                      <a:pt x="3347" y="5"/>
                    </a:cubicBezTo>
                    <a:lnTo>
                      <a:pt x="3347" y="5"/>
                    </a:lnTo>
                    <a:cubicBezTo>
                      <a:pt x="3346" y="5"/>
                      <a:pt x="3345" y="4"/>
                      <a:pt x="3345" y="3"/>
                    </a:cubicBezTo>
                    <a:cubicBezTo>
                      <a:pt x="3345" y="2"/>
                      <a:pt x="3346" y="1"/>
                      <a:pt x="3347" y="1"/>
                    </a:cubicBezTo>
                    <a:close/>
                    <a:moveTo>
                      <a:pt x="3355" y="1"/>
                    </a:moveTo>
                    <a:lnTo>
                      <a:pt x="3355" y="1"/>
                    </a:lnTo>
                    <a:cubicBezTo>
                      <a:pt x="3357" y="1"/>
                      <a:pt x="3357" y="2"/>
                      <a:pt x="3357" y="3"/>
                    </a:cubicBezTo>
                    <a:cubicBezTo>
                      <a:pt x="3357" y="4"/>
                      <a:pt x="3357" y="5"/>
                      <a:pt x="3355" y="5"/>
                    </a:cubicBezTo>
                    <a:lnTo>
                      <a:pt x="3355" y="5"/>
                    </a:lnTo>
                    <a:cubicBezTo>
                      <a:pt x="3354" y="5"/>
                      <a:pt x="3353" y="4"/>
                      <a:pt x="3353" y="3"/>
                    </a:cubicBezTo>
                    <a:cubicBezTo>
                      <a:pt x="3353" y="2"/>
                      <a:pt x="3354" y="1"/>
                      <a:pt x="3355" y="1"/>
                    </a:cubicBezTo>
                    <a:close/>
                    <a:moveTo>
                      <a:pt x="3363" y="1"/>
                    </a:moveTo>
                    <a:lnTo>
                      <a:pt x="3363" y="1"/>
                    </a:lnTo>
                    <a:cubicBezTo>
                      <a:pt x="3365" y="1"/>
                      <a:pt x="3365" y="2"/>
                      <a:pt x="3365" y="3"/>
                    </a:cubicBezTo>
                    <a:cubicBezTo>
                      <a:pt x="3365" y="4"/>
                      <a:pt x="3365" y="5"/>
                      <a:pt x="3363" y="5"/>
                    </a:cubicBezTo>
                    <a:lnTo>
                      <a:pt x="3363" y="5"/>
                    </a:lnTo>
                    <a:cubicBezTo>
                      <a:pt x="3362" y="5"/>
                      <a:pt x="3361" y="4"/>
                      <a:pt x="3361" y="3"/>
                    </a:cubicBezTo>
                    <a:cubicBezTo>
                      <a:pt x="3361" y="2"/>
                      <a:pt x="3362" y="1"/>
                      <a:pt x="3363" y="1"/>
                    </a:cubicBezTo>
                    <a:close/>
                    <a:moveTo>
                      <a:pt x="3371" y="1"/>
                    </a:moveTo>
                    <a:lnTo>
                      <a:pt x="3371" y="1"/>
                    </a:lnTo>
                    <a:cubicBezTo>
                      <a:pt x="3373" y="1"/>
                      <a:pt x="3373" y="2"/>
                      <a:pt x="3373" y="3"/>
                    </a:cubicBezTo>
                    <a:cubicBezTo>
                      <a:pt x="3373" y="4"/>
                      <a:pt x="3373" y="5"/>
                      <a:pt x="3371" y="5"/>
                    </a:cubicBezTo>
                    <a:lnTo>
                      <a:pt x="3371" y="5"/>
                    </a:lnTo>
                    <a:cubicBezTo>
                      <a:pt x="3370" y="5"/>
                      <a:pt x="3369" y="4"/>
                      <a:pt x="3369" y="3"/>
                    </a:cubicBezTo>
                    <a:cubicBezTo>
                      <a:pt x="3369" y="2"/>
                      <a:pt x="3370" y="1"/>
                      <a:pt x="3371" y="1"/>
                    </a:cubicBezTo>
                    <a:close/>
                    <a:moveTo>
                      <a:pt x="3379" y="1"/>
                    </a:moveTo>
                    <a:lnTo>
                      <a:pt x="3379" y="1"/>
                    </a:lnTo>
                    <a:cubicBezTo>
                      <a:pt x="3381" y="1"/>
                      <a:pt x="3381" y="2"/>
                      <a:pt x="3381" y="3"/>
                    </a:cubicBezTo>
                    <a:cubicBezTo>
                      <a:pt x="3381" y="4"/>
                      <a:pt x="3381" y="5"/>
                      <a:pt x="3379" y="5"/>
                    </a:cubicBezTo>
                    <a:lnTo>
                      <a:pt x="3379" y="5"/>
                    </a:lnTo>
                    <a:cubicBezTo>
                      <a:pt x="3378" y="5"/>
                      <a:pt x="3377" y="4"/>
                      <a:pt x="3377" y="3"/>
                    </a:cubicBezTo>
                    <a:cubicBezTo>
                      <a:pt x="3377" y="2"/>
                      <a:pt x="3378" y="1"/>
                      <a:pt x="3379" y="1"/>
                    </a:cubicBezTo>
                    <a:close/>
                    <a:moveTo>
                      <a:pt x="3387" y="1"/>
                    </a:moveTo>
                    <a:lnTo>
                      <a:pt x="3387" y="1"/>
                    </a:lnTo>
                    <a:cubicBezTo>
                      <a:pt x="3389" y="1"/>
                      <a:pt x="3389" y="2"/>
                      <a:pt x="3389" y="3"/>
                    </a:cubicBezTo>
                    <a:cubicBezTo>
                      <a:pt x="3389" y="4"/>
                      <a:pt x="3389" y="5"/>
                      <a:pt x="3387" y="5"/>
                    </a:cubicBezTo>
                    <a:lnTo>
                      <a:pt x="3387" y="5"/>
                    </a:lnTo>
                    <a:cubicBezTo>
                      <a:pt x="3386" y="5"/>
                      <a:pt x="3385" y="4"/>
                      <a:pt x="3385" y="3"/>
                    </a:cubicBezTo>
                    <a:cubicBezTo>
                      <a:pt x="3385" y="2"/>
                      <a:pt x="3386" y="1"/>
                      <a:pt x="3387" y="1"/>
                    </a:cubicBezTo>
                    <a:close/>
                    <a:moveTo>
                      <a:pt x="3395" y="1"/>
                    </a:moveTo>
                    <a:lnTo>
                      <a:pt x="3395" y="1"/>
                    </a:lnTo>
                    <a:cubicBezTo>
                      <a:pt x="3397" y="1"/>
                      <a:pt x="3397" y="2"/>
                      <a:pt x="3397" y="3"/>
                    </a:cubicBezTo>
                    <a:cubicBezTo>
                      <a:pt x="3397" y="4"/>
                      <a:pt x="3397" y="5"/>
                      <a:pt x="3395" y="5"/>
                    </a:cubicBezTo>
                    <a:lnTo>
                      <a:pt x="3395" y="5"/>
                    </a:lnTo>
                    <a:cubicBezTo>
                      <a:pt x="3394" y="5"/>
                      <a:pt x="3393" y="4"/>
                      <a:pt x="3393" y="3"/>
                    </a:cubicBezTo>
                    <a:cubicBezTo>
                      <a:pt x="3393" y="2"/>
                      <a:pt x="3394" y="1"/>
                      <a:pt x="3395" y="1"/>
                    </a:cubicBezTo>
                    <a:close/>
                    <a:moveTo>
                      <a:pt x="3403" y="1"/>
                    </a:moveTo>
                    <a:lnTo>
                      <a:pt x="3403" y="1"/>
                    </a:lnTo>
                    <a:cubicBezTo>
                      <a:pt x="3405" y="1"/>
                      <a:pt x="3405" y="2"/>
                      <a:pt x="3405" y="3"/>
                    </a:cubicBezTo>
                    <a:cubicBezTo>
                      <a:pt x="3405" y="4"/>
                      <a:pt x="3405" y="5"/>
                      <a:pt x="3403" y="5"/>
                    </a:cubicBezTo>
                    <a:lnTo>
                      <a:pt x="3403" y="5"/>
                    </a:lnTo>
                    <a:cubicBezTo>
                      <a:pt x="3402" y="5"/>
                      <a:pt x="3401" y="4"/>
                      <a:pt x="3401" y="3"/>
                    </a:cubicBezTo>
                    <a:cubicBezTo>
                      <a:pt x="3401" y="2"/>
                      <a:pt x="3402" y="1"/>
                      <a:pt x="3403" y="1"/>
                    </a:cubicBezTo>
                    <a:close/>
                    <a:moveTo>
                      <a:pt x="3411" y="1"/>
                    </a:moveTo>
                    <a:lnTo>
                      <a:pt x="3411" y="1"/>
                    </a:lnTo>
                    <a:cubicBezTo>
                      <a:pt x="3413" y="1"/>
                      <a:pt x="3413" y="2"/>
                      <a:pt x="3413" y="3"/>
                    </a:cubicBezTo>
                    <a:cubicBezTo>
                      <a:pt x="3413" y="4"/>
                      <a:pt x="3413" y="5"/>
                      <a:pt x="3411" y="5"/>
                    </a:cubicBezTo>
                    <a:lnTo>
                      <a:pt x="3411" y="5"/>
                    </a:lnTo>
                    <a:cubicBezTo>
                      <a:pt x="3410" y="5"/>
                      <a:pt x="3409" y="4"/>
                      <a:pt x="3409" y="3"/>
                    </a:cubicBezTo>
                    <a:cubicBezTo>
                      <a:pt x="3409" y="2"/>
                      <a:pt x="3410" y="1"/>
                      <a:pt x="3411" y="1"/>
                    </a:cubicBezTo>
                    <a:close/>
                    <a:moveTo>
                      <a:pt x="3419" y="1"/>
                    </a:moveTo>
                    <a:lnTo>
                      <a:pt x="3419" y="1"/>
                    </a:lnTo>
                    <a:cubicBezTo>
                      <a:pt x="3421" y="1"/>
                      <a:pt x="3421" y="2"/>
                      <a:pt x="3421" y="3"/>
                    </a:cubicBezTo>
                    <a:cubicBezTo>
                      <a:pt x="3421" y="4"/>
                      <a:pt x="3421" y="5"/>
                      <a:pt x="3419" y="5"/>
                    </a:cubicBezTo>
                    <a:lnTo>
                      <a:pt x="3419" y="5"/>
                    </a:lnTo>
                    <a:cubicBezTo>
                      <a:pt x="3418" y="5"/>
                      <a:pt x="3417" y="4"/>
                      <a:pt x="3417" y="3"/>
                    </a:cubicBezTo>
                    <a:cubicBezTo>
                      <a:pt x="3417" y="2"/>
                      <a:pt x="3418" y="1"/>
                      <a:pt x="3419" y="1"/>
                    </a:cubicBezTo>
                    <a:close/>
                    <a:moveTo>
                      <a:pt x="3427" y="1"/>
                    </a:moveTo>
                    <a:lnTo>
                      <a:pt x="3427" y="1"/>
                    </a:lnTo>
                    <a:cubicBezTo>
                      <a:pt x="3429" y="1"/>
                      <a:pt x="3429" y="2"/>
                      <a:pt x="3429" y="3"/>
                    </a:cubicBezTo>
                    <a:cubicBezTo>
                      <a:pt x="3429" y="4"/>
                      <a:pt x="3429" y="5"/>
                      <a:pt x="3427" y="5"/>
                    </a:cubicBezTo>
                    <a:lnTo>
                      <a:pt x="3427" y="5"/>
                    </a:lnTo>
                    <a:cubicBezTo>
                      <a:pt x="3426" y="5"/>
                      <a:pt x="3425" y="4"/>
                      <a:pt x="3425" y="3"/>
                    </a:cubicBezTo>
                    <a:cubicBezTo>
                      <a:pt x="3425" y="2"/>
                      <a:pt x="3426" y="1"/>
                      <a:pt x="3427" y="1"/>
                    </a:cubicBezTo>
                    <a:close/>
                    <a:moveTo>
                      <a:pt x="3435" y="1"/>
                    </a:moveTo>
                    <a:lnTo>
                      <a:pt x="3435" y="1"/>
                    </a:lnTo>
                    <a:cubicBezTo>
                      <a:pt x="3437" y="1"/>
                      <a:pt x="3437" y="2"/>
                      <a:pt x="3437" y="3"/>
                    </a:cubicBezTo>
                    <a:cubicBezTo>
                      <a:pt x="3437" y="4"/>
                      <a:pt x="3437" y="5"/>
                      <a:pt x="3435" y="5"/>
                    </a:cubicBezTo>
                    <a:lnTo>
                      <a:pt x="3435" y="5"/>
                    </a:lnTo>
                    <a:cubicBezTo>
                      <a:pt x="3434" y="5"/>
                      <a:pt x="3433" y="4"/>
                      <a:pt x="3433" y="3"/>
                    </a:cubicBezTo>
                    <a:cubicBezTo>
                      <a:pt x="3433" y="2"/>
                      <a:pt x="3434" y="1"/>
                      <a:pt x="3435" y="1"/>
                    </a:cubicBezTo>
                    <a:close/>
                    <a:moveTo>
                      <a:pt x="3443" y="1"/>
                    </a:moveTo>
                    <a:lnTo>
                      <a:pt x="3443" y="1"/>
                    </a:lnTo>
                    <a:cubicBezTo>
                      <a:pt x="3445" y="1"/>
                      <a:pt x="3445" y="2"/>
                      <a:pt x="3445" y="3"/>
                    </a:cubicBezTo>
                    <a:cubicBezTo>
                      <a:pt x="3445" y="4"/>
                      <a:pt x="3445" y="5"/>
                      <a:pt x="3443" y="5"/>
                    </a:cubicBezTo>
                    <a:lnTo>
                      <a:pt x="3443" y="5"/>
                    </a:lnTo>
                    <a:cubicBezTo>
                      <a:pt x="3442" y="5"/>
                      <a:pt x="3441" y="4"/>
                      <a:pt x="3441" y="3"/>
                    </a:cubicBezTo>
                    <a:cubicBezTo>
                      <a:pt x="3441" y="2"/>
                      <a:pt x="3442" y="1"/>
                      <a:pt x="3443" y="1"/>
                    </a:cubicBezTo>
                    <a:close/>
                    <a:moveTo>
                      <a:pt x="3451" y="1"/>
                    </a:moveTo>
                    <a:lnTo>
                      <a:pt x="3451" y="1"/>
                    </a:lnTo>
                    <a:cubicBezTo>
                      <a:pt x="3453" y="1"/>
                      <a:pt x="3453" y="2"/>
                      <a:pt x="3453" y="3"/>
                    </a:cubicBezTo>
                    <a:cubicBezTo>
                      <a:pt x="3453" y="4"/>
                      <a:pt x="3453" y="5"/>
                      <a:pt x="3451" y="5"/>
                    </a:cubicBezTo>
                    <a:lnTo>
                      <a:pt x="3451" y="5"/>
                    </a:lnTo>
                    <a:cubicBezTo>
                      <a:pt x="3450" y="5"/>
                      <a:pt x="3449" y="4"/>
                      <a:pt x="3449" y="3"/>
                    </a:cubicBezTo>
                    <a:cubicBezTo>
                      <a:pt x="3449" y="2"/>
                      <a:pt x="3450" y="1"/>
                      <a:pt x="3451" y="1"/>
                    </a:cubicBezTo>
                    <a:close/>
                    <a:moveTo>
                      <a:pt x="3459" y="1"/>
                    </a:moveTo>
                    <a:lnTo>
                      <a:pt x="3459" y="1"/>
                    </a:lnTo>
                    <a:cubicBezTo>
                      <a:pt x="3461" y="1"/>
                      <a:pt x="3461" y="2"/>
                      <a:pt x="3461" y="3"/>
                    </a:cubicBezTo>
                    <a:cubicBezTo>
                      <a:pt x="3461" y="4"/>
                      <a:pt x="3461" y="5"/>
                      <a:pt x="3459" y="5"/>
                    </a:cubicBezTo>
                    <a:lnTo>
                      <a:pt x="3459" y="5"/>
                    </a:lnTo>
                    <a:cubicBezTo>
                      <a:pt x="3458" y="5"/>
                      <a:pt x="3457" y="4"/>
                      <a:pt x="3457" y="3"/>
                    </a:cubicBezTo>
                    <a:cubicBezTo>
                      <a:pt x="3457" y="2"/>
                      <a:pt x="3458" y="1"/>
                      <a:pt x="3459" y="1"/>
                    </a:cubicBezTo>
                    <a:close/>
                    <a:moveTo>
                      <a:pt x="3467" y="1"/>
                    </a:moveTo>
                    <a:lnTo>
                      <a:pt x="3467" y="1"/>
                    </a:lnTo>
                    <a:cubicBezTo>
                      <a:pt x="3469" y="1"/>
                      <a:pt x="3469" y="2"/>
                      <a:pt x="3469" y="3"/>
                    </a:cubicBezTo>
                    <a:cubicBezTo>
                      <a:pt x="3469" y="4"/>
                      <a:pt x="3469" y="5"/>
                      <a:pt x="3467" y="5"/>
                    </a:cubicBezTo>
                    <a:lnTo>
                      <a:pt x="3467" y="5"/>
                    </a:lnTo>
                    <a:cubicBezTo>
                      <a:pt x="3466" y="5"/>
                      <a:pt x="3465" y="4"/>
                      <a:pt x="3465" y="3"/>
                    </a:cubicBezTo>
                    <a:cubicBezTo>
                      <a:pt x="3465" y="2"/>
                      <a:pt x="3466" y="1"/>
                      <a:pt x="3467" y="1"/>
                    </a:cubicBezTo>
                    <a:close/>
                    <a:moveTo>
                      <a:pt x="3475" y="1"/>
                    </a:moveTo>
                    <a:lnTo>
                      <a:pt x="3476" y="1"/>
                    </a:lnTo>
                    <a:cubicBezTo>
                      <a:pt x="3477" y="1"/>
                      <a:pt x="3478" y="2"/>
                      <a:pt x="3478" y="3"/>
                    </a:cubicBezTo>
                    <a:cubicBezTo>
                      <a:pt x="3478" y="4"/>
                      <a:pt x="3477" y="5"/>
                      <a:pt x="3476" y="5"/>
                    </a:cubicBezTo>
                    <a:lnTo>
                      <a:pt x="3475" y="5"/>
                    </a:lnTo>
                    <a:cubicBezTo>
                      <a:pt x="3474" y="5"/>
                      <a:pt x="3473" y="4"/>
                      <a:pt x="3473" y="3"/>
                    </a:cubicBezTo>
                    <a:cubicBezTo>
                      <a:pt x="3473" y="2"/>
                      <a:pt x="3474" y="1"/>
                      <a:pt x="3475" y="1"/>
                    </a:cubicBezTo>
                    <a:close/>
                    <a:moveTo>
                      <a:pt x="3484" y="1"/>
                    </a:moveTo>
                    <a:lnTo>
                      <a:pt x="3484" y="1"/>
                    </a:lnTo>
                    <a:cubicBezTo>
                      <a:pt x="3485" y="1"/>
                      <a:pt x="3486" y="2"/>
                      <a:pt x="3486" y="3"/>
                    </a:cubicBezTo>
                    <a:cubicBezTo>
                      <a:pt x="3486" y="4"/>
                      <a:pt x="3485" y="5"/>
                      <a:pt x="3484" y="5"/>
                    </a:cubicBezTo>
                    <a:lnTo>
                      <a:pt x="3484" y="5"/>
                    </a:lnTo>
                    <a:cubicBezTo>
                      <a:pt x="3482" y="5"/>
                      <a:pt x="3482" y="4"/>
                      <a:pt x="3482" y="3"/>
                    </a:cubicBezTo>
                    <a:cubicBezTo>
                      <a:pt x="3482" y="2"/>
                      <a:pt x="3482" y="1"/>
                      <a:pt x="3484" y="1"/>
                    </a:cubicBezTo>
                    <a:close/>
                    <a:moveTo>
                      <a:pt x="3492" y="1"/>
                    </a:moveTo>
                    <a:lnTo>
                      <a:pt x="3492" y="1"/>
                    </a:lnTo>
                    <a:cubicBezTo>
                      <a:pt x="3493" y="1"/>
                      <a:pt x="3494" y="2"/>
                      <a:pt x="3494" y="3"/>
                    </a:cubicBezTo>
                    <a:cubicBezTo>
                      <a:pt x="3494" y="4"/>
                      <a:pt x="3493" y="5"/>
                      <a:pt x="3492" y="5"/>
                    </a:cubicBezTo>
                    <a:lnTo>
                      <a:pt x="3492" y="5"/>
                    </a:lnTo>
                    <a:cubicBezTo>
                      <a:pt x="3490" y="5"/>
                      <a:pt x="3490" y="4"/>
                      <a:pt x="3490" y="3"/>
                    </a:cubicBezTo>
                    <a:cubicBezTo>
                      <a:pt x="3490" y="2"/>
                      <a:pt x="3490" y="1"/>
                      <a:pt x="3492" y="1"/>
                    </a:cubicBezTo>
                    <a:close/>
                    <a:moveTo>
                      <a:pt x="3500" y="1"/>
                    </a:moveTo>
                    <a:lnTo>
                      <a:pt x="3500" y="1"/>
                    </a:lnTo>
                    <a:cubicBezTo>
                      <a:pt x="3501" y="1"/>
                      <a:pt x="3502" y="2"/>
                      <a:pt x="3502" y="3"/>
                    </a:cubicBezTo>
                    <a:cubicBezTo>
                      <a:pt x="3502" y="4"/>
                      <a:pt x="3501" y="5"/>
                      <a:pt x="3500" y="5"/>
                    </a:cubicBezTo>
                    <a:lnTo>
                      <a:pt x="3500" y="5"/>
                    </a:lnTo>
                    <a:cubicBezTo>
                      <a:pt x="3498" y="5"/>
                      <a:pt x="3498" y="4"/>
                      <a:pt x="3498" y="3"/>
                    </a:cubicBezTo>
                    <a:cubicBezTo>
                      <a:pt x="3498" y="2"/>
                      <a:pt x="3498" y="1"/>
                      <a:pt x="3500" y="1"/>
                    </a:cubicBezTo>
                    <a:close/>
                    <a:moveTo>
                      <a:pt x="3508" y="1"/>
                    </a:moveTo>
                    <a:lnTo>
                      <a:pt x="3508" y="1"/>
                    </a:lnTo>
                    <a:cubicBezTo>
                      <a:pt x="3509" y="1"/>
                      <a:pt x="3510" y="2"/>
                      <a:pt x="3510" y="3"/>
                    </a:cubicBezTo>
                    <a:cubicBezTo>
                      <a:pt x="3510" y="4"/>
                      <a:pt x="3509" y="5"/>
                      <a:pt x="3508" y="5"/>
                    </a:cubicBezTo>
                    <a:lnTo>
                      <a:pt x="3508" y="5"/>
                    </a:lnTo>
                    <a:cubicBezTo>
                      <a:pt x="3506" y="5"/>
                      <a:pt x="3506" y="4"/>
                      <a:pt x="3506" y="3"/>
                    </a:cubicBezTo>
                    <a:cubicBezTo>
                      <a:pt x="3506" y="2"/>
                      <a:pt x="3506" y="1"/>
                      <a:pt x="3508" y="1"/>
                    </a:cubicBezTo>
                    <a:close/>
                    <a:moveTo>
                      <a:pt x="3516" y="1"/>
                    </a:moveTo>
                    <a:lnTo>
                      <a:pt x="3516" y="1"/>
                    </a:lnTo>
                    <a:cubicBezTo>
                      <a:pt x="3517" y="1"/>
                      <a:pt x="3518" y="2"/>
                      <a:pt x="3518" y="3"/>
                    </a:cubicBezTo>
                    <a:cubicBezTo>
                      <a:pt x="3518" y="4"/>
                      <a:pt x="3517" y="5"/>
                      <a:pt x="3516" y="5"/>
                    </a:cubicBezTo>
                    <a:lnTo>
                      <a:pt x="3516" y="5"/>
                    </a:lnTo>
                    <a:cubicBezTo>
                      <a:pt x="3514" y="5"/>
                      <a:pt x="3514" y="4"/>
                      <a:pt x="3514" y="3"/>
                    </a:cubicBezTo>
                    <a:cubicBezTo>
                      <a:pt x="3514" y="2"/>
                      <a:pt x="3514" y="1"/>
                      <a:pt x="3516" y="1"/>
                    </a:cubicBezTo>
                    <a:close/>
                    <a:moveTo>
                      <a:pt x="3524" y="1"/>
                    </a:moveTo>
                    <a:lnTo>
                      <a:pt x="3524" y="1"/>
                    </a:lnTo>
                    <a:cubicBezTo>
                      <a:pt x="3525" y="1"/>
                      <a:pt x="3526" y="2"/>
                      <a:pt x="3526" y="3"/>
                    </a:cubicBezTo>
                    <a:cubicBezTo>
                      <a:pt x="3526" y="4"/>
                      <a:pt x="3525" y="5"/>
                      <a:pt x="3524" y="5"/>
                    </a:cubicBezTo>
                    <a:lnTo>
                      <a:pt x="3524" y="5"/>
                    </a:lnTo>
                    <a:cubicBezTo>
                      <a:pt x="3522" y="5"/>
                      <a:pt x="3522" y="4"/>
                      <a:pt x="3522" y="3"/>
                    </a:cubicBezTo>
                    <a:cubicBezTo>
                      <a:pt x="3522" y="2"/>
                      <a:pt x="3522" y="1"/>
                      <a:pt x="3524" y="1"/>
                    </a:cubicBezTo>
                    <a:close/>
                    <a:moveTo>
                      <a:pt x="3532" y="1"/>
                    </a:moveTo>
                    <a:lnTo>
                      <a:pt x="3532" y="1"/>
                    </a:lnTo>
                    <a:cubicBezTo>
                      <a:pt x="3533" y="1"/>
                      <a:pt x="3534" y="2"/>
                      <a:pt x="3534" y="3"/>
                    </a:cubicBezTo>
                    <a:cubicBezTo>
                      <a:pt x="3534" y="4"/>
                      <a:pt x="3533" y="5"/>
                      <a:pt x="3532" y="5"/>
                    </a:cubicBezTo>
                    <a:lnTo>
                      <a:pt x="3532" y="5"/>
                    </a:lnTo>
                    <a:cubicBezTo>
                      <a:pt x="3530" y="5"/>
                      <a:pt x="3530" y="4"/>
                      <a:pt x="3530" y="3"/>
                    </a:cubicBezTo>
                    <a:cubicBezTo>
                      <a:pt x="3530" y="2"/>
                      <a:pt x="3530" y="1"/>
                      <a:pt x="3532" y="1"/>
                    </a:cubicBezTo>
                    <a:close/>
                    <a:moveTo>
                      <a:pt x="3540" y="1"/>
                    </a:moveTo>
                    <a:lnTo>
                      <a:pt x="3540" y="1"/>
                    </a:lnTo>
                    <a:cubicBezTo>
                      <a:pt x="3541" y="1"/>
                      <a:pt x="3542" y="2"/>
                      <a:pt x="3542" y="3"/>
                    </a:cubicBezTo>
                    <a:cubicBezTo>
                      <a:pt x="3542" y="4"/>
                      <a:pt x="3541" y="5"/>
                      <a:pt x="3540" y="5"/>
                    </a:cubicBezTo>
                    <a:lnTo>
                      <a:pt x="3540" y="5"/>
                    </a:lnTo>
                    <a:cubicBezTo>
                      <a:pt x="3538" y="5"/>
                      <a:pt x="3538" y="4"/>
                      <a:pt x="3538" y="3"/>
                    </a:cubicBezTo>
                    <a:cubicBezTo>
                      <a:pt x="3538" y="2"/>
                      <a:pt x="3538" y="1"/>
                      <a:pt x="3540" y="1"/>
                    </a:cubicBezTo>
                    <a:close/>
                    <a:moveTo>
                      <a:pt x="3548" y="1"/>
                    </a:moveTo>
                    <a:lnTo>
                      <a:pt x="3548" y="1"/>
                    </a:lnTo>
                    <a:cubicBezTo>
                      <a:pt x="3549" y="1"/>
                      <a:pt x="3550" y="2"/>
                      <a:pt x="3550" y="3"/>
                    </a:cubicBezTo>
                    <a:cubicBezTo>
                      <a:pt x="3550" y="4"/>
                      <a:pt x="3549" y="5"/>
                      <a:pt x="3548" y="5"/>
                    </a:cubicBezTo>
                    <a:lnTo>
                      <a:pt x="3548" y="5"/>
                    </a:lnTo>
                    <a:cubicBezTo>
                      <a:pt x="3546" y="5"/>
                      <a:pt x="3546" y="4"/>
                      <a:pt x="3546" y="3"/>
                    </a:cubicBezTo>
                    <a:cubicBezTo>
                      <a:pt x="3546" y="2"/>
                      <a:pt x="3546" y="1"/>
                      <a:pt x="3548" y="1"/>
                    </a:cubicBezTo>
                    <a:close/>
                    <a:moveTo>
                      <a:pt x="3556" y="1"/>
                    </a:moveTo>
                    <a:lnTo>
                      <a:pt x="3556" y="1"/>
                    </a:lnTo>
                    <a:cubicBezTo>
                      <a:pt x="3557" y="1"/>
                      <a:pt x="3558" y="2"/>
                      <a:pt x="3558" y="3"/>
                    </a:cubicBezTo>
                    <a:cubicBezTo>
                      <a:pt x="3558" y="4"/>
                      <a:pt x="3557" y="5"/>
                      <a:pt x="3556" y="5"/>
                    </a:cubicBezTo>
                    <a:lnTo>
                      <a:pt x="3556" y="5"/>
                    </a:lnTo>
                    <a:cubicBezTo>
                      <a:pt x="3554" y="5"/>
                      <a:pt x="3554" y="4"/>
                      <a:pt x="3554" y="3"/>
                    </a:cubicBezTo>
                    <a:cubicBezTo>
                      <a:pt x="3554" y="2"/>
                      <a:pt x="3554" y="1"/>
                      <a:pt x="3556" y="1"/>
                    </a:cubicBezTo>
                    <a:close/>
                    <a:moveTo>
                      <a:pt x="3564" y="1"/>
                    </a:moveTo>
                    <a:lnTo>
                      <a:pt x="3564" y="1"/>
                    </a:lnTo>
                    <a:cubicBezTo>
                      <a:pt x="3565" y="1"/>
                      <a:pt x="3566" y="2"/>
                      <a:pt x="3566" y="3"/>
                    </a:cubicBezTo>
                    <a:cubicBezTo>
                      <a:pt x="3566" y="4"/>
                      <a:pt x="3565" y="5"/>
                      <a:pt x="3564" y="5"/>
                    </a:cubicBezTo>
                    <a:lnTo>
                      <a:pt x="3564" y="5"/>
                    </a:lnTo>
                    <a:cubicBezTo>
                      <a:pt x="3562" y="5"/>
                      <a:pt x="3562" y="4"/>
                      <a:pt x="3562" y="3"/>
                    </a:cubicBezTo>
                    <a:cubicBezTo>
                      <a:pt x="3562" y="2"/>
                      <a:pt x="3562" y="1"/>
                      <a:pt x="3564" y="1"/>
                    </a:cubicBezTo>
                    <a:close/>
                    <a:moveTo>
                      <a:pt x="3572" y="1"/>
                    </a:moveTo>
                    <a:lnTo>
                      <a:pt x="3572" y="1"/>
                    </a:lnTo>
                    <a:cubicBezTo>
                      <a:pt x="3573" y="1"/>
                      <a:pt x="3574" y="2"/>
                      <a:pt x="3574" y="3"/>
                    </a:cubicBezTo>
                    <a:cubicBezTo>
                      <a:pt x="3574" y="4"/>
                      <a:pt x="3573" y="5"/>
                      <a:pt x="3572" y="5"/>
                    </a:cubicBezTo>
                    <a:lnTo>
                      <a:pt x="3572" y="5"/>
                    </a:lnTo>
                    <a:cubicBezTo>
                      <a:pt x="3570" y="5"/>
                      <a:pt x="3570" y="4"/>
                      <a:pt x="3570" y="3"/>
                    </a:cubicBezTo>
                    <a:cubicBezTo>
                      <a:pt x="3570" y="2"/>
                      <a:pt x="3570" y="1"/>
                      <a:pt x="3572" y="1"/>
                    </a:cubicBezTo>
                    <a:close/>
                    <a:moveTo>
                      <a:pt x="3580" y="1"/>
                    </a:moveTo>
                    <a:lnTo>
                      <a:pt x="3580" y="1"/>
                    </a:lnTo>
                    <a:cubicBezTo>
                      <a:pt x="3581" y="1"/>
                      <a:pt x="3582" y="2"/>
                      <a:pt x="3582" y="3"/>
                    </a:cubicBezTo>
                    <a:cubicBezTo>
                      <a:pt x="3582" y="4"/>
                      <a:pt x="3581" y="5"/>
                      <a:pt x="3580" y="5"/>
                    </a:cubicBezTo>
                    <a:lnTo>
                      <a:pt x="3580" y="5"/>
                    </a:lnTo>
                    <a:cubicBezTo>
                      <a:pt x="3578" y="5"/>
                      <a:pt x="3578" y="4"/>
                      <a:pt x="3578" y="3"/>
                    </a:cubicBezTo>
                    <a:cubicBezTo>
                      <a:pt x="3578" y="2"/>
                      <a:pt x="3578" y="1"/>
                      <a:pt x="3580" y="1"/>
                    </a:cubicBezTo>
                    <a:close/>
                    <a:moveTo>
                      <a:pt x="3588" y="1"/>
                    </a:moveTo>
                    <a:lnTo>
                      <a:pt x="3588" y="1"/>
                    </a:lnTo>
                    <a:cubicBezTo>
                      <a:pt x="3589" y="1"/>
                      <a:pt x="3590" y="2"/>
                      <a:pt x="3590" y="3"/>
                    </a:cubicBezTo>
                    <a:cubicBezTo>
                      <a:pt x="3590" y="4"/>
                      <a:pt x="3589" y="5"/>
                      <a:pt x="3588" y="5"/>
                    </a:cubicBezTo>
                    <a:lnTo>
                      <a:pt x="3588" y="5"/>
                    </a:lnTo>
                    <a:cubicBezTo>
                      <a:pt x="3586" y="5"/>
                      <a:pt x="3586" y="4"/>
                      <a:pt x="3586" y="3"/>
                    </a:cubicBezTo>
                    <a:cubicBezTo>
                      <a:pt x="3586" y="2"/>
                      <a:pt x="3586" y="1"/>
                      <a:pt x="3588" y="1"/>
                    </a:cubicBezTo>
                    <a:close/>
                    <a:moveTo>
                      <a:pt x="3596" y="1"/>
                    </a:moveTo>
                    <a:lnTo>
                      <a:pt x="3596" y="1"/>
                    </a:lnTo>
                    <a:cubicBezTo>
                      <a:pt x="3597" y="1"/>
                      <a:pt x="3598" y="2"/>
                      <a:pt x="3598" y="3"/>
                    </a:cubicBezTo>
                    <a:cubicBezTo>
                      <a:pt x="3598" y="4"/>
                      <a:pt x="3597" y="5"/>
                      <a:pt x="3596" y="5"/>
                    </a:cubicBezTo>
                    <a:lnTo>
                      <a:pt x="3596" y="5"/>
                    </a:lnTo>
                    <a:cubicBezTo>
                      <a:pt x="3594" y="5"/>
                      <a:pt x="3594" y="4"/>
                      <a:pt x="3594" y="3"/>
                    </a:cubicBezTo>
                    <a:cubicBezTo>
                      <a:pt x="3594" y="2"/>
                      <a:pt x="3594" y="1"/>
                      <a:pt x="3596" y="1"/>
                    </a:cubicBezTo>
                    <a:close/>
                    <a:moveTo>
                      <a:pt x="3604" y="1"/>
                    </a:moveTo>
                    <a:lnTo>
                      <a:pt x="3604" y="1"/>
                    </a:lnTo>
                    <a:cubicBezTo>
                      <a:pt x="3605" y="1"/>
                      <a:pt x="3606" y="2"/>
                      <a:pt x="3606" y="3"/>
                    </a:cubicBezTo>
                    <a:cubicBezTo>
                      <a:pt x="3606" y="4"/>
                      <a:pt x="3605" y="5"/>
                      <a:pt x="3604" y="5"/>
                    </a:cubicBezTo>
                    <a:lnTo>
                      <a:pt x="3604" y="5"/>
                    </a:lnTo>
                    <a:cubicBezTo>
                      <a:pt x="3602" y="5"/>
                      <a:pt x="3602" y="4"/>
                      <a:pt x="3602" y="3"/>
                    </a:cubicBezTo>
                    <a:cubicBezTo>
                      <a:pt x="3602" y="2"/>
                      <a:pt x="3602" y="1"/>
                      <a:pt x="3604" y="1"/>
                    </a:cubicBezTo>
                    <a:close/>
                    <a:moveTo>
                      <a:pt x="3612" y="1"/>
                    </a:moveTo>
                    <a:lnTo>
                      <a:pt x="3612" y="1"/>
                    </a:lnTo>
                    <a:cubicBezTo>
                      <a:pt x="3613" y="1"/>
                      <a:pt x="3614" y="2"/>
                      <a:pt x="3614" y="3"/>
                    </a:cubicBezTo>
                    <a:cubicBezTo>
                      <a:pt x="3614" y="4"/>
                      <a:pt x="3613" y="5"/>
                      <a:pt x="3612" y="5"/>
                    </a:cubicBezTo>
                    <a:lnTo>
                      <a:pt x="3612" y="5"/>
                    </a:lnTo>
                    <a:cubicBezTo>
                      <a:pt x="3610" y="5"/>
                      <a:pt x="3610" y="4"/>
                      <a:pt x="3610" y="3"/>
                    </a:cubicBezTo>
                    <a:cubicBezTo>
                      <a:pt x="3610" y="2"/>
                      <a:pt x="3610" y="1"/>
                      <a:pt x="3612" y="1"/>
                    </a:cubicBezTo>
                    <a:close/>
                    <a:moveTo>
                      <a:pt x="3620" y="1"/>
                    </a:moveTo>
                    <a:lnTo>
                      <a:pt x="3620" y="1"/>
                    </a:lnTo>
                    <a:cubicBezTo>
                      <a:pt x="3621" y="1"/>
                      <a:pt x="3622" y="2"/>
                      <a:pt x="3622" y="3"/>
                    </a:cubicBezTo>
                    <a:cubicBezTo>
                      <a:pt x="3622" y="4"/>
                      <a:pt x="3621" y="5"/>
                      <a:pt x="3620" y="5"/>
                    </a:cubicBezTo>
                    <a:lnTo>
                      <a:pt x="3620" y="5"/>
                    </a:lnTo>
                    <a:cubicBezTo>
                      <a:pt x="3618" y="5"/>
                      <a:pt x="3618" y="4"/>
                      <a:pt x="3618" y="3"/>
                    </a:cubicBezTo>
                    <a:cubicBezTo>
                      <a:pt x="3618" y="2"/>
                      <a:pt x="3618" y="1"/>
                      <a:pt x="3620" y="1"/>
                    </a:cubicBezTo>
                    <a:close/>
                    <a:moveTo>
                      <a:pt x="3628" y="1"/>
                    </a:moveTo>
                    <a:lnTo>
                      <a:pt x="3628" y="1"/>
                    </a:lnTo>
                    <a:cubicBezTo>
                      <a:pt x="3629" y="1"/>
                      <a:pt x="3630" y="2"/>
                      <a:pt x="3630" y="3"/>
                    </a:cubicBezTo>
                    <a:cubicBezTo>
                      <a:pt x="3630" y="4"/>
                      <a:pt x="3629" y="5"/>
                      <a:pt x="3628" y="5"/>
                    </a:cubicBezTo>
                    <a:lnTo>
                      <a:pt x="3628" y="5"/>
                    </a:lnTo>
                    <a:cubicBezTo>
                      <a:pt x="3626" y="5"/>
                      <a:pt x="3626" y="4"/>
                      <a:pt x="3626" y="3"/>
                    </a:cubicBezTo>
                    <a:cubicBezTo>
                      <a:pt x="3626" y="2"/>
                      <a:pt x="3626" y="1"/>
                      <a:pt x="3628" y="1"/>
                    </a:cubicBezTo>
                    <a:close/>
                    <a:moveTo>
                      <a:pt x="3636" y="1"/>
                    </a:moveTo>
                    <a:lnTo>
                      <a:pt x="3636" y="1"/>
                    </a:lnTo>
                    <a:cubicBezTo>
                      <a:pt x="3637" y="1"/>
                      <a:pt x="3638" y="2"/>
                      <a:pt x="3638" y="3"/>
                    </a:cubicBezTo>
                    <a:cubicBezTo>
                      <a:pt x="3638" y="4"/>
                      <a:pt x="3637" y="5"/>
                      <a:pt x="3636" y="5"/>
                    </a:cubicBezTo>
                    <a:lnTo>
                      <a:pt x="3636" y="5"/>
                    </a:lnTo>
                    <a:cubicBezTo>
                      <a:pt x="3634" y="5"/>
                      <a:pt x="3634" y="4"/>
                      <a:pt x="3634" y="3"/>
                    </a:cubicBezTo>
                    <a:cubicBezTo>
                      <a:pt x="3634" y="2"/>
                      <a:pt x="3634" y="1"/>
                      <a:pt x="3636" y="1"/>
                    </a:cubicBezTo>
                    <a:close/>
                    <a:moveTo>
                      <a:pt x="3644" y="1"/>
                    </a:moveTo>
                    <a:lnTo>
                      <a:pt x="3644" y="1"/>
                    </a:lnTo>
                    <a:cubicBezTo>
                      <a:pt x="3645" y="1"/>
                      <a:pt x="3646" y="2"/>
                      <a:pt x="3646" y="3"/>
                    </a:cubicBezTo>
                    <a:cubicBezTo>
                      <a:pt x="3646" y="4"/>
                      <a:pt x="3645" y="5"/>
                      <a:pt x="3644" y="5"/>
                    </a:cubicBezTo>
                    <a:lnTo>
                      <a:pt x="3644" y="5"/>
                    </a:lnTo>
                    <a:cubicBezTo>
                      <a:pt x="3642" y="5"/>
                      <a:pt x="3642" y="4"/>
                      <a:pt x="3642" y="3"/>
                    </a:cubicBezTo>
                    <a:cubicBezTo>
                      <a:pt x="3642" y="2"/>
                      <a:pt x="3642" y="1"/>
                      <a:pt x="3644" y="1"/>
                    </a:cubicBezTo>
                    <a:close/>
                    <a:moveTo>
                      <a:pt x="3652" y="1"/>
                    </a:moveTo>
                    <a:lnTo>
                      <a:pt x="3652" y="1"/>
                    </a:lnTo>
                    <a:cubicBezTo>
                      <a:pt x="3653" y="1"/>
                      <a:pt x="3654" y="2"/>
                      <a:pt x="3654" y="3"/>
                    </a:cubicBezTo>
                    <a:cubicBezTo>
                      <a:pt x="3654" y="4"/>
                      <a:pt x="3653" y="5"/>
                      <a:pt x="3652" y="5"/>
                    </a:cubicBezTo>
                    <a:lnTo>
                      <a:pt x="3652" y="5"/>
                    </a:lnTo>
                    <a:cubicBezTo>
                      <a:pt x="3650" y="5"/>
                      <a:pt x="3650" y="4"/>
                      <a:pt x="3650" y="3"/>
                    </a:cubicBezTo>
                    <a:cubicBezTo>
                      <a:pt x="3650" y="2"/>
                      <a:pt x="3650" y="1"/>
                      <a:pt x="3652" y="1"/>
                    </a:cubicBezTo>
                    <a:close/>
                    <a:moveTo>
                      <a:pt x="3660" y="1"/>
                    </a:moveTo>
                    <a:lnTo>
                      <a:pt x="3660" y="1"/>
                    </a:lnTo>
                    <a:cubicBezTo>
                      <a:pt x="3661" y="1"/>
                      <a:pt x="3662" y="2"/>
                      <a:pt x="3662" y="3"/>
                    </a:cubicBezTo>
                    <a:cubicBezTo>
                      <a:pt x="3662" y="4"/>
                      <a:pt x="3661" y="5"/>
                      <a:pt x="3660" y="5"/>
                    </a:cubicBezTo>
                    <a:lnTo>
                      <a:pt x="3660" y="5"/>
                    </a:lnTo>
                    <a:cubicBezTo>
                      <a:pt x="3658" y="5"/>
                      <a:pt x="3658" y="4"/>
                      <a:pt x="3658" y="3"/>
                    </a:cubicBezTo>
                    <a:cubicBezTo>
                      <a:pt x="3658" y="2"/>
                      <a:pt x="3658" y="1"/>
                      <a:pt x="3660" y="1"/>
                    </a:cubicBezTo>
                    <a:close/>
                    <a:moveTo>
                      <a:pt x="3668" y="1"/>
                    </a:moveTo>
                    <a:lnTo>
                      <a:pt x="3668" y="1"/>
                    </a:lnTo>
                    <a:cubicBezTo>
                      <a:pt x="3669" y="1"/>
                      <a:pt x="3670" y="2"/>
                      <a:pt x="3670" y="3"/>
                    </a:cubicBezTo>
                    <a:cubicBezTo>
                      <a:pt x="3670" y="4"/>
                      <a:pt x="3669" y="5"/>
                      <a:pt x="3668" y="5"/>
                    </a:cubicBezTo>
                    <a:lnTo>
                      <a:pt x="3668" y="5"/>
                    </a:lnTo>
                    <a:cubicBezTo>
                      <a:pt x="3666" y="5"/>
                      <a:pt x="3666" y="4"/>
                      <a:pt x="3666" y="3"/>
                    </a:cubicBezTo>
                    <a:cubicBezTo>
                      <a:pt x="3666" y="2"/>
                      <a:pt x="3666" y="1"/>
                      <a:pt x="3668" y="1"/>
                    </a:cubicBezTo>
                    <a:close/>
                    <a:moveTo>
                      <a:pt x="3676" y="1"/>
                    </a:moveTo>
                    <a:lnTo>
                      <a:pt x="3676" y="1"/>
                    </a:lnTo>
                    <a:cubicBezTo>
                      <a:pt x="3677" y="1"/>
                      <a:pt x="3678" y="2"/>
                      <a:pt x="3678" y="3"/>
                    </a:cubicBezTo>
                    <a:cubicBezTo>
                      <a:pt x="3678" y="4"/>
                      <a:pt x="3677" y="5"/>
                      <a:pt x="3676" y="5"/>
                    </a:cubicBezTo>
                    <a:lnTo>
                      <a:pt x="3676" y="5"/>
                    </a:lnTo>
                    <a:cubicBezTo>
                      <a:pt x="3674" y="5"/>
                      <a:pt x="3674" y="4"/>
                      <a:pt x="3674" y="3"/>
                    </a:cubicBezTo>
                    <a:cubicBezTo>
                      <a:pt x="3674" y="2"/>
                      <a:pt x="3674" y="1"/>
                      <a:pt x="3676" y="1"/>
                    </a:cubicBezTo>
                    <a:close/>
                    <a:moveTo>
                      <a:pt x="3684" y="1"/>
                    </a:moveTo>
                    <a:lnTo>
                      <a:pt x="3684" y="1"/>
                    </a:lnTo>
                    <a:cubicBezTo>
                      <a:pt x="3685" y="1"/>
                      <a:pt x="3686" y="2"/>
                      <a:pt x="3686" y="3"/>
                    </a:cubicBezTo>
                    <a:cubicBezTo>
                      <a:pt x="3686" y="4"/>
                      <a:pt x="3685" y="5"/>
                      <a:pt x="3684" y="5"/>
                    </a:cubicBezTo>
                    <a:lnTo>
                      <a:pt x="3684" y="5"/>
                    </a:lnTo>
                    <a:cubicBezTo>
                      <a:pt x="3682" y="5"/>
                      <a:pt x="3682" y="4"/>
                      <a:pt x="3682" y="3"/>
                    </a:cubicBezTo>
                    <a:cubicBezTo>
                      <a:pt x="3682" y="2"/>
                      <a:pt x="3682" y="1"/>
                      <a:pt x="3684" y="1"/>
                    </a:cubicBezTo>
                    <a:close/>
                    <a:moveTo>
                      <a:pt x="3692" y="1"/>
                    </a:moveTo>
                    <a:lnTo>
                      <a:pt x="3692" y="1"/>
                    </a:lnTo>
                    <a:cubicBezTo>
                      <a:pt x="3693" y="1"/>
                      <a:pt x="3694" y="2"/>
                      <a:pt x="3694" y="3"/>
                    </a:cubicBezTo>
                    <a:cubicBezTo>
                      <a:pt x="3694" y="4"/>
                      <a:pt x="3693" y="5"/>
                      <a:pt x="3692" y="5"/>
                    </a:cubicBezTo>
                    <a:lnTo>
                      <a:pt x="3692" y="5"/>
                    </a:lnTo>
                    <a:cubicBezTo>
                      <a:pt x="3690" y="5"/>
                      <a:pt x="3690" y="4"/>
                      <a:pt x="3690" y="3"/>
                    </a:cubicBezTo>
                    <a:cubicBezTo>
                      <a:pt x="3690" y="2"/>
                      <a:pt x="3690" y="1"/>
                      <a:pt x="3692" y="1"/>
                    </a:cubicBezTo>
                    <a:close/>
                    <a:moveTo>
                      <a:pt x="3700" y="1"/>
                    </a:moveTo>
                    <a:lnTo>
                      <a:pt x="3700" y="1"/>
                    </a:lnTo>
                    <a:cubicBezTo>
                      <a:pt x="3701" y="1"/>
                      <a:pt x="3702" y="2"/>
                      <a:pt x="3702" y="3"/>
                    </a:cubicBezTo>
                    <a:cubicBezTo>
                      <a:pt x="3702" y="4"/>
                      <a:pt x="3701" y="5"/>
                      <a:pt x="3700" y="5"/>
                    </a:cubicBezTo>
                    <a:lnTo>
                      <a:pt x="3700" y="5"/>
                    </a:lnTo>
                    <a:cubicBezTo>
                      <a:pt x="3699" y="5"/>
                      <a:pt x="3698" y="4"/>
                      <a:pt x="3698" y="3"/>
                    </a:cubicBezTo>
                    <a:cubicBezTo>
                      <a:pt x="3698" y="2"/>
                      <a:pt x="3699" y="1"/>
                      <a:pt x="3700" y="1"/>
                    </a:cubicBezTo>
                    <a:close/>
                    <a:moveTo>
                      <a:pt x="3708" y="1"/>
                    </a:moveTo>
                    <a:lnTo>
                      <a:pt x="3708" y="1"/>
                    </a:lnTo>
                    <a:cubicBezTo>
                      <a:pt x="3709" y="1"/>
                      <a:pt x="3710" y="2"/>
                      <a:pt x="3710" y="3"/>
                    </a:cubicBezTo>
                    <a:cubicBezTo>
                      <a:pt x="3710" y="4"/>
                      <a:pt x="3709" y="5"/>
                      <a:pt x="3708" y="5"/>
                    </a:cubicBezTo>
                    <a:lnTo>
                      <a:pt x="3708" y="5"/>
                    </a:lnTo>
                    <a:cubicBezTo>
                      <a:pt x="3707" y="5"/>
                      <a:pt x="3706" y="4"/>
                      <a:pt x="3706" y="3"/>
                    </a:cubicBezTo>
                    <a:cubicBezTo>
                      <a:pt x="3706" y="2"/>
                      <a:pt x="3707" y="1"/>
                      <a:pt x="3708" y="1"/>
                    </a:cubicBezTo>
                    <a:close/>
                    <a:moveTo>
                      <a:pt x="3716" y="1"/>
                    </a:moveTo>
                    <a:lnTo>
                      <a:pt x="3716" y="1"/>
                    </a:lnTo>
                    <a:cubicBezTo>
                      <a:pt x="3717" y="1"/>
                      <a:pt x="3718" y="2"/>
                      <a:pt x="3718" y="3"/>
                    </a:cubicBezTo>
                    <a:cubicBezTo>
                      <a:pt x="3718" y="4"/>
                      <a:pt x="3717" y="5"/>
                      <a:pt x="3716" y="5"/>
                    </a:cubicBezTo>
                    <a:lnTo>
                      <a:pt x="3716" y="5"/>
                    </a:lnTo>
                    <a:cubicBezTo>
                      <a:pt x="3715" y="5"/>
                      <a:pt x="3714" y="4"/>
                      <a:pt x="3714" y="3"/>
                    </a:cubicBezTo>
                    <a:cubicBezTo>
                      <a:pt x="3714" y="2"/>
                      <a:pt x="3715" y="1"/>
                      <a:pt x="3716" y="1"/>
                    </a:cubicBezTo>
                    <a:close/>
                    <a:moveTo>
                      <a:pt x="3724" y="1"/>
                    </a:moveTo>
                    <a:lnTo>
                      <a:pt x="3724" y="1"/>
                    </a:lnTo>
                    <a:cubicBezTo>
                      <a:pt x="3725" y="1"/>
                      <a:pt x="3726" y="2"/>
                      <a:pt x="3726" y="3"/>
                    </a:cubicBezTo>
                    <a:cubicBezTo>
                      <a:pt x="3726" y="4"/>
                      <a:pt x="3725" y="5"/>
                      <a:pt x="3724" y="5"/>
                    </a:cubicBezTo>
                    <a:lnTo>
                      <a:pt x="3724" y="5"/>
                    </a:lnTo>
                    <a:cubicBezTo>
                      <a:pt x="3723" y="5"/>
                      <a:pt x="3722" y="4"/>
                      <a:pt x="3722" y="3"/>
                    </a:cubicBezTo>
                    <a:cubicBezTo>
                      <a:pt x="3722" y="2"/>
                      <a:pt x="3723" y="1"/>
                      <a:pt x="3724" y="1"/>
                    </a:cubicBezTo>
                    <a:close/>
                    <a:moveTo>
                      <a:pt x="3732" y="1"/>
                    </a:moveTo>
                    <a:lnTo>
                      <a:pt x="3732" y="1"/>
                    </a:lnTo>
                    <a:cubicBezTo>
                      <a:pt x="3733" y="1"/>
                      <a:pt x="3734" y="2"/>
                      <a:pt x="3734" y="3"/>
                    </a:cubicBezTo>
                    <a:cubicBezTo>
                      <a:pt x="3734" y="4"/>
                      <a:pt x="3733" y="5"/>
                      <a:pt x="3732" y="5"/>
                    </a:cubicBezTo>
                    <a:lnTo>
                      <a:pt x="3732" y="5"/>
                    </a:lnTo>
                    <a:cubicBezTo>
                      <a:pt x="3731" y="5"/>
                      <a:pt x="3730" y="4"/>
                      <a:pt x="3730" y="3"/>
                    </a:cubicBezTo>
                    <a:cubicBezTo>
                      <a:pt x="3730" y="2"/>
                      <a:pt x="3731" y="1"/>
                      <a:pt x="3732" y="1"/>
                    </a:cubicBezTo>
                    <a:close/>
                    <a:moveTo>
                      <a:pt x="3740" y="1"/>
                    </a:moveTo>
                    <a:lnTo>
                      <a:pt x="3740" y="1"/>
                    </a:lnTo>
                    <a:cubicBezTo>
                      <a:pt x="3741" y="1"/>
                      <a:pt x="3742" y="2"/>
                      <a:pt x="3742" y="3"/>
                    </a:cubicBezTo>
                    <a:cubicBezTo>
                      <a:pt x="3742" y="4"/>
                      <a:pt x="3741" y="5"/>
                      <a:pt x="3740" y="5"/>
                    </a:cubicBezTo>
                    <a:lnTo>
                      <a:pt x="3740" y="5"/>
                    </a:lnTo>
                    <a:cubicBezTo>
                      <a:pt x="3739" y="5"/>
                      <a:pt x="3738" y="4"/>
                      <a:pt x="3738" y="3"/>
                    </a:cubicBezTo>
                    <a:cubicBezTo>
                      <a:pt x="3738" y="2"/>
                      <a:pt x="3739" y="1"/>
                      <a:pt x="3740" y="1"/>
                    </a:cubicBezTo>
                    <a:close/>
                    <a:moveTo>
                      <a:pt x="3748" y="1"/>
                    </a:moveTo>
                    <a:lnTo>
                      <a:pt x="3748" y="1"/>
                    </a:lnTo>
                    <a:cubicBezTo>
                      <a:pt x="3749" y="1"/>
                      <a:pt x="3750" y="2"/>
                      <a:pt x="3750" y="3"/>
                    </a:cubicBezTo>
                    <a:cubicBezTo>
                      <a:pt x="3750" y="4"/>
                      <a:pt x="3749" y="5"/>
                      <a:pt x="3748" y="5"/>
                    </a:cubicBezTo>
                    <a:lnTo>
                      <a:pt x="3748" y="5"/>
                    </a:lnTo>
                    <a:cubicBezTo>
                      <a:pt x="3747" y="5"/>
                      <a:pt x="3746" y="4"/>
                      <a:pt x="3746" y="3"/>
                    </a:cubicBezTo>
                    <a:cubicBezTo>
                      <a:pt x="3746" y="2"/>
                      <a:pt x="3747" y="1"/>
                      <a:pt x="3748" y="1"/>
                    </a:cubicBezTo>
                    <a:close/>
                    <a:moveTo>
                      <a:pt x="3756" y="1"/>
                    </a:moveTo>
                    <a:lnTo>
                      <a:pt x="3756" y="1"/>
                    </a:lnTo>
                    <a:cubicBezTo>
                      <a:pt x="3757" y="1"/>
                      <a:pt x="3758" y="2"/>
                      <a:pt x="3758" y="3"/>
                    </a:cubicBezTo>
                    <a:cubicBezTo>
                      <a:pt x="3758" y="4"/>
                      <a:pt x="3757" y="5"/>
                      <a:pt x="3756" y="5"/>
                    </a:cubicBezTo>
                    <a:lnTo>
                      <a:pt x="3756" y="5"/>
                    </a:lnTo>
                    <a:cubicBezTo>
                      <a:pt x="3755" y="5"/>
                      <a:pt x="3754" y="4"/>
                      <a:pt x="3754" y="3"/>
                    </a:cubicBezTo>
                    <a:cubicBezTo>
                      <a:pt x="3754" y="2"/>
                      <a:pt x="3755" y="1"/>
                      <a:pt x="3756" y="1"/>
                    </a:cubicBezTo>
                    <a:close/>
                    <a:moveTo>
                      <a:pt x="3764" y="1"/>
                    </a:moveTo>
                    <a:lnTo>
                      <a:pt x="3764" y="1"/>
                    </a:lnTo>
                    <a:cubicBezTo>
                      <a:pt x="3765" y="1"/>
                      <a:pt x="3766" y="2"/>
                      <a:pt x="3766" y="3"/>
                    </a:cubicBezTo>
                    <a:cubicBezTo>
                      <a:pt x="3766" y="4"/>
                      <a:pt x="3765" y="5"/>
                      <a:pt x="3764" y="5"/>
                    </a:cubicBezTo>
                    <a:lnTo>
                      <a:pt x="3764" y="5"/>
                    </a:lnTo>
                    <a:cubicBezTo>
                      <a:pt x="3763" y="5"/>
                      <a:pt x="3762" y="4"/>
                      <a:pt x="3762" y="3"/>
                    </a:cubicBezTo>
                    <a:cubicBezTo>
                      <a:pt x="3762" y="2"/>
                      <a:pt x="3763" y="1"/>
                      <a:pt x="3764" y="1"/>
                    </a:cubicBezTo>
                    <a:close/>
                    <a:moveTo>
                      <a:pt x="3772" y="1"/>
                    </a:moveTo>
                    <a:lnTo>
                      <a:pt x="3772" y="1"/>
                    </a:lnTo>
                    <a:cubicBezTo>
                      <a:pt x="3773" y="1"/>
                      <a:pt x="3774" y="2"/>
                      <a:pt x="3774" y="3"/>
                    </a:cubicBezTo>
                    <a:cubicBezTo>
                      <a:pt x="3774" y="4"/>
                      <a:pt x="3773" y="5"/>
                      <a:pt x="3772" y="5"/>
                    </a:cubicBezTo>
                    <a:lnTo>
                      <a:pt x="3772" y="5"/>
                    </a:lnTo>
                    <a:cubicBezTo>
                      <a:pt x="3771" y="5"/>
                      <a:pt x="3770" y="4"/>
                      <a:pt x="3770" y="3"/>
                    </a:cubicBezTo>
                    <a:cubicBezTo>
                      <a:pt x="3770" y="2"/>
                      <a:pt x="3771" y="1"/>
                      <a:pt x="3772" y="1"/>
                    </a:cubicBezTo>
                    <a:close/>
                    <a:moveTo>
                      <a:pt x="3780" y="1"/>
                    </a:moveTo>
                    <a:lnTo>
                      <a:pt x="3780" y="1"/>
                    </a:lnTo>
                    <a:cubicBezTo>
                      <a:pt x="3781" y="1"/>
                      <a:pt x="3782" y="2"/>
                      <a:pt x="3782" y="3"/>
                    </a:cubicBezTo>
                    <a:cubicBezTo>
                      <a:pt x="3782" y="4"/>
                      <a:pt x="3781" y="5"/>
                      <a:pt x="3780" y="5"/>
                    </a:cubicBezTo>
                    <a:lnTo>
                      <a:pt x="3780" y="5"/>
                    </a:lnTo>
                    <a:cubicBezTo>
                      <a:pt x="3779" y="5"/>
                      <a:pt x="3778" y="4"/>
                      <a:pt x="3778" y="3"/>
                    </a:cubicBezTo>
                    <a:cubicBezTo>
                      <a:pt x="3778" y="2"/>
                      <a:pt x="3779" y="1"/>
                      <a:pt x="3780" y="1"/>
                    </a:cubicBezTo>
                    <a:close/>
                    <a:moveTo>
                      <a:pt x="3788" y="1"/>
                    </a:moveTo>
                    <a:lnTo>
                      <a:pt x="3788" y="1"/>
                    </a:lnTo>
                    <a:cubicBezTo>
                      <a:pt x="3789" y="1"/>
                      <a:pt x="3790" y="2"/>
                      <a:pt x="3790" y="3"/>
                    </a:cubicBezTo>
                    <a:cubicBezTo>
                      <a:pt x="3790" y="4"/>
                      <a:pt x="3789" y="5"/>
                      <a:pt x="3788" y="5"/>
                    </a:cubicBezTo>
                    <a:lnTo>
                      <a:pt x="3788" y="5"/>
                    </a:lnTo>
                    <a:cubicBezTo>
                      <a:pt x="3787" y="5"/>
                      <a:pt x="3786" y="4"/>
                      <a:pt x="3786" y="3"/>
                    </a:cubicBezTo>
                    <a:cubicBezTo>
                      <a:pt x="3786" y="2"/>
                      <a:pt x="3787" y="1"/>
                      <a:pt x="3788" y="1"/>
                    </a:cubicBezTo>
                    <a:close/>
                    <a:moveTo>
                      <a:pt x="3796" y="1"/>
                    </a:moveTo>
                    <a:lnTo>
                      <a:pt x="3796" y="1"/>
                    </a:lnTo>
                    <a:cubicBezTo>
                      <a:pt x="3797" y="1"/>
                      <a:pt x="3798" y="2"/>
                      <a:pt x="3798" y="3"/>
                    </a:cubicBezTo>
                    <a:cubicBezTo>
                      <a:pt x="3798" y="4"/>
                      <a:pt x="3797" y="5"/>
                      <a:pt x="3796" y="5"/>
                    </a:cubicBezTo>
                    <a:lnTo>
                      <a:pt x="3796" y="5"/>
                    </a:lnTo>
                    <a:cubicBezTo>
                      <a:pt x="3795" y="5"/>
                      <a:pt x="3794" y="4"/>
                      <a:pt x="3794" y="3"/>
                    </a:cubicBezTo>
                    <a:cubicBezTo>
                      <a:pt x="3794" y="2"/>
                      <a:pt x="3795" y="1"/>
                      <a:pt x="3796" y="1"/>
                    </a:cubicBezTo>
                    <a:close/>
                    <a:moveTo>
                      <a:pt x="3804" y="1"/>
                    </a:moveTo>
                    <a:lnTo>
                      <a:pt x="3804" y="1"/>
                    </a:lnTo>
                    <a:cubicBezTo>
                      <a:pt x="3805" y="1"/>
                      <a:pt x="3806" y="2"/>
                      <a:pt x="3806" y="3"/>
                    </a:cubicBezTo>
                    <a:cubicBezTo>
                      <a:pt x="3806" y="4"/>
                      <a:pt x="3805" y="5"/>
                      <a:pt x="3804" y="5"/>
                    </a:cubicBezTo>
                    <a:lnTo>
                      <a:pt x="3804" y="5"/>
                    </a:lnTo>
                    <a:cubicBezTo>
                      <a:pt x="3803" y="5"/>
                      <a:pt x="3802" y="4"/>
                      <a:pt x="3802" y="3"/>
                    </a:cubicBezTo>
                    <a:cubicBezTo>
                      <a:pt x="3802" y="2"/>
                      <a:pt x="3803" y="1"/>
                      <a:pt x="3804" y="1"/>
                    </a:cubicBezTo>
                    <a:close/>
                    <a:moveTo>
                      <a:pt x="3812" y="1"/>
                    </a:moveTo>
                    <a:lnTo>
                      <a:pt x="3812" y="1"/>
                    </a:lnTo>
                    <a:cubicBezTo>
                      <a:pt x="3813" y="1"/>
                      <a:pt x="3814" y="2"/>
                      <a:pt x="3814" y="3"/>
                    </a:cubicBezTo>
                    <a:cubicBezTo>
                      <a:pt x="3814" y="4"/>
                      <a:pt x="3813" y="5"/>
                      <a:pt x="3812" y="5"/>
                    </a:cubicBezTo>
                    <a:lnTo>
                      <a:pt x="3812" y="5"/>
                    </a:lnTo>
                    <a:cubicBezTo>
                      <a:pt x="3811" y="5"/>
                      <a:pt x="3810" y="4"/>
                      <a:pt x="3810" y="3"/>
                    </a:cubicBezTo>
                    <a:cubicBezTo>
                      <a:pt x="3810" y="2"/>
                      <a:pt x="3811" y="1"/>
                      <a:pt x="3812" y="1"/>
                    </a:cubicBezTo>
                    <a:close/>
                    <a:moveTo>
                      <a:pt x="3820" y="1"/>
                    </a:moveTo>
                    <a:lnTo>
                      <a:pt x="3820" y="1"/>
                    </a:lnTo>
                    <a:cubicBezTo>
                      <a:pt x="3821" y="1"/>
                      <a:pt x="3822" y="2"/>
                      <a:pt x="3822" y="3"/>
                    </a:cubicBezTo>
                    <a:cubicBezTo>
                      <a:pt x="3822" y="4"/>
                      <a:pt x="3821" y="5"/>
                      <a:pt x="3820" y="5"/>
                    </a:cubicBezTo>
                    <a:lnTo>
                      <a:pt x="3820" y="5"/>
                    </a:lnTo>
                    <a:cubicBezTo>
                      <a:pt x="3819" y="5"/>
                      <a:pt x="3818" y="4"/>
                      <a:pt x="3818" y="3"/>
                    </a:cubicBezTo>
                    <a:cubicBezTo>
                      <a:pt x="3818" y="2"/>
                      <a:pt x="3819" y="1"/>
                      <a:pt x="3820" y="1"/>
                    </a:cubicBezTo>
                    <a:close/>
                    <a:moveTo>
                      <a:pt x="3828" y="1"/>
                    </a:moveTo>
                    <a:lnTo>
                      <a:pt x="3828" y="1"/>
                    </a:lnTo>
                    <a:cubicBezTo>
                      <a:pt x="3829" y="1"/>
                      <a:pt x="3830" y="2"/>
                      <a:pt x="3830" y="3"/>
                    </a:cubicBezTo>
                    <a:cubicBezTo>
                      <a:pt x="3830" y="4"/>
                      <a:pt x="3829" y="5"/>
                      <a:pt x="3828" y="5"/>
                    </a:cubicBezTo>
                    <a:lnTo>
                      <a:pt x="3828" y="5"/>
                    </a:lnTo>
                    <a:cubicBezTo>
                      <a:pt x="3827" y="5"/>
                      <a:pt x="3826" y="4"/>
                      <a:pt x="3826" y="3"/>
                    </a:cubicBezTo>
                    <a:cubicBezTo>
                      <a:pt x="3826" y="2"/>
                      <a:pt x="3827" y="1"/>
                      <a:pt x="3828" y="1"/>
                    </a:cubicBezTo>
                    <a:close/>
                    <a:moveTo>
                      <a:pt x="3836" y="1"/>
                    </a:moveTo>
                    <a:lnTo>
                      <a:pt x="3836" y="1"/>
                    </a:lnTo>
                    <a:cubicBezTo>
                      <a:pt x="3837" y="1"/>
                      <a:pt x="3838" y="2"/>
                      <a:pt x="3838" y="3"/>
                    </a:cubicBezTo>
                    <a:cubicBezTo>
                      <a:pt x="3838" y="4"/>
                      <a:pt x="3837" y="5"/>
                      <a:pt x="3836" y="5"/>
                    </a:cubicBezTo>
                    <a:lnTo>
                      <a:pt x="3836" y="5"/>
                    </a:lnTo>
                    <a:cubicBezTo>
                      <a:pt x="3835" y="5"/>
                      <a:pt x="3834" y="4"/>
                      <a:pt x="3834" y="3"/>
                    </a:cubicBezTo>
                    <a:cubicBezTo>
                      <a:pt x="3834" y="2"/>
                      <a:pt x="3835" y="1"/>
                      <a:pt x="3836" y="1"/>
                    </a:cubicBezTo>
                    <a:close/>
                    <a:moveTo>
                      <a:pt x="3844" y="1"/>
                    </a:moveTo>
                    <a:lnTo>
                      <a:pt x="3844" y="1"/>
                    </a:lnTo>
                    <a:cubicBezTo>
                      <a:pt x="3845" y="1"/>
                      <a:pt x="3846" y="2"/>
                      <a:pt x="3846" y="3"/>
                    </a:cubicBezTo>
                    <a:cubicBezTo>
                      <a:pt x="3846" y="4"/>
                      <a:pt x="3845" y="5"/>
                      <a:pt x="3844" y="5"/>
                    </a:cubicBezTo>
                    <a:lnTo>
                      <a:pt x="3844" y="5"/>
                    </a:lnTo>
                    <a:cubicBezTo>
                      <a:pt x="3843" y="5"/>
                      <a:pt x="3842" y="4"/>
                      <a:pt x="3842" y="3"/>
                    </a:cubicBezTo>
                    <a:cubicBezTo>
                      <a:pt x="3842" y="2"/>
                      <a:pt x="3843" y="1"/>
                      <a:pt x="3844" y="1"/>
                    </a:cubicBezTo>
                    <a:close/>
                    <a:moveTo>
                      <a:pt x="3852" y="1"/>
                    </a:moveTo>
                    <a:lnTo>
                      <a:pt x="3852" y="1"/>
                    </a:lnTo>
                    <a:cubicBezTo>
                      <a:pt x="3853" y="1"/>
                      <a:pt x="3854" y="2"/>
                      <a:pt x="3854" y="3"/>
                    </a:cubicBezTo>
                    <a:cubicBezTo>
                      <a:pt x="3854" y="4"/>
                      <a:pt x="3853" y="5"/>
                      <a:pt x="3852" y="5"/>
                    </a:cubicBezTo>
                    <a:lnTo>
                      <a:pt x="3852" y="5"/>
                    </a:lnTo>
                    <a:cubicBezTo>
                      <a:pt x="3851" y="5"/>
                      <a:pt x="3850" y="4"/>
                      <a:pt x="3850" y="3"/>
                    </a:cubicBezTo>
                    <a:cubicBezTo>
                      <a:pt x="3850" y="2"/>
                      <a:pt x="3851" y="1"/>
                      <a:pt x="3852" y="1"/>
                    </a:cubicBezTo>
                    <a:close/>
                    <a:moveTo>
                      <a:pt x="3860" y="1"/>
                    </a:moveTo>
                    <a:lnTo>
                      <a:pt x="3860" y="1"/>
                    </a:lnTo>
                    <a:cubicBezTo>
                      <a:pt x="3861" y="1"/>
                      <a:pt x="3862" y="2"/>
                      <a:pt x="3862" y="3"/>
                    </a:cubicBezTo>
                    <a:cubicBezTo>
                      <a:pt x="3862" y="4"/>
                      <a:pt x="3861" y="5"/>
                      <a:pt x="3860" y="5"/>
                    </a:cubicBezTo>
                    <a:lnTo>
                      <a:pt x="3860" y="5"/>
                    </a:lnTo>
                    <a:cubicBezTo>
                      <a:pt x="3859" y="5"/>
                      <a:pt x="3858" y="4"/>
                      <a:pt x="3858" y="3"/>
                    </a:cubicBezTo>
                    <a:cubicBezTo>
                      <a:pt x="3858" y="2"/>
                      <a:pt x="3859" y="1"/>
                      <a:pt x="3860" y="1"/>
                    </a:cubicBezTo>
                    <a:close/>
                    <a:moveTo>
                      <a:pt x="3868" y="1"/>
                    </a:moveTo>
                    <a:lnTo>
                      <a:pt x="3868" y="1"/>
                    </a:lnTo>
                    <a:cubicBezTo>
                      <a:pt x="3869" y="1"/>
                      <a:pt x="3870" y="2"/>
                      <a:pt x="3870" y="3"/>
                    </a:cubicBezTo>
                    <a:cubicBezTo>
                      <a:pt x="3870" y="4"/>
                      <a:pt x="3869" y="5"/>
                      <a:pt x="3868" y="5"/>
                    </a:cubicBezTo>
                    <a:lnTo>
                      <a:pt x="3868" y="5"/>
                    </a:lnTo>
                    <a:cubicBezTo>
                      <a:pt x="3867" y="5"/>
                      <a:pt x="3866" y="4"/>
                      <a:pt x="3866" y="3"/>
                    </a:cubicBezTo>
                    <a:cubicBezTo>
                      <a:pt x="3866" y="2"/>
                      <a:pt x="3867" y="1"/>
                      <a:pt x="3868" y="1"/>
                    </a:cubicBezTo>
                    <a:close/>
                    <a:moveTo>
                      <a:pt x="3876" y="1"/>
                    </a:moveTo>
                    <a:lnTo>
                      <a:pt x="3876" y="1"/>
                    </a:lnTo>
                    <a:cubicBezTo>
                      <a:pt x="3877" y="1"/>
                      <a:pt x="3878" y="2"/>
                      <a:pt x="3878" y="3"/>
                    </a:cubicBezTo>
                    <a:cubicBezTo>
                      <a:pt x="3878" y="4"/>
                      <a:pt x="3877" y="5"/>
                      <a:pt x="3876" y="5"/>
                    </a:cubicBezTo>
                    <a:lnTo>
                      <a:pt x="3876" y="5"/>
                    </a:lnTo>
                    <a:cubicBezTo>
                      <a:pt x="3875" y="5"/>
                      <a:pt x="3874" y="4"/>
                      <a:pt x="3874" y="3"/>
                    </a:cubicBezTo>
                    <a:cubicBezTo>
                      <a:pt x="3874" y="2"/>
                      <a:pt x="3875" y="1"/>
                      <a:pt x="3876" y="1"/>
                    </a:cubicBezTo>
                    <a:close/>
                    <a:moveTo>
                      <a:pt x="3884" y="1"/>
                    </a:moveTo>
                    <a:lnTo>
                      <a:pt x="3884" y="1"/>
                    </a:lnTo>
                    <a:cubicBezTo>
                      <a:pt x="3885" y="1"/>
                      <a:pt x="3886" y="2"/>
                      <a:pt x="3886" y="3"/>
                    </a:cubicBezTo>
                    <a:cubicBezTo>
                      <a:pt x="3886" y="4"/>
                      <a:pt x="3885" y="5"/>
                      <a:pt x="3884" y="5"/>
                    </a:cubicBezTo>
                    <a:lnTo>
                      <a:pt x="3884" y="5"/>
                    </a:lnTo>
                    <a:cubicBezTo>
                      <a:pt x="3883" y="5"/>
                      <a:pt x="3882" y="4"/>
                      <a:pt x="3882" y="3"/>
                    </a:cubicBezTo>
                    <a:cubicBezTo>
                      <a:pt x="3882" y="2"/>
                      <a:pt x="3883" y="1"/>
                      <a:pt x="3884" y="1"/>
                    </a:cubicBezTo>
                    <a:close/>
                    <a:moveTo>
                      <a:pt x="3892" y="1"/>
                    </a:moveTo>
                    <a:lnTo>
                      <a:pt x="3892" y="1"/>
                    </a:lnTo>
                    <a:cubicBezTo>
                      <a:pt x="3893" y="1"/>
                      <a:pt x="3894" y="2"/>
                      <a:pt x="3894" y="3"/>
                    </a:cubicBezTo>
                    <a:cubicBezTo>
                      <a:pt x="3894" y="4"/>
                      <a:pt x="3893" y="5"/>
                      <a:pt x="3892" y="5"/>
                    </a:cubicBezTo>
                    <a:lnTo>
                      <a:pt x="3892" y="5"/>
                    </a:lnTo>
                    <a:cubicBezTo>
                      <a:pt x="3891" y="5"/>
                      <a:pt x="3890" y="4"/>
                      <a:pt x="3890" y="3"/>
                    </a:cubicBezTo>
                    <a:cubicBezTo>
                      <a:pt x="3890" y="2"/>
                      <a:pt x="3891" y="1"/>
                      <a:pt x="3892" y="1"/>
                    </a:cubicBezTo>
                    <a:close/>
                    <a:moveTo>
                      <a:pt x="3900" y="1"/>
                    </a:moveTo>
                    <a:lnTo>
                      <a:pt x="3900" y="1"/>
                    </a:lnTo>
                    <a:cubicBezTo>
                      <a:pt x="3901" y="1"/>
                      <a:pt x="3902" y="2"/>
                      <a:pt x="3902" y="3"/>
                    </a:cubicBezTo>
                    <a:cubicBezTo>
                      <a:pt x="3902" y="4"/>
                      <a:pt x="3901" y="5"/>
                      <a:pt x="3900" y="5"/>
                    </a:cubicBezTo>
                    <a:lnTo>
                      <a:pt x="3900" y="5"/>
                    </a:lnTo>
                    <a:cubicBezTo>
                      <a:pt x="3899" y="5"/>
                      <a:pt x="3898" y="4"/>
                      <a:pt x="3898" y="3"/>
                    </a:cubicBezTo>
                    <a:cubicBezTo>
                      <a:pt x="3898" y="2"/>
                      <a:pt x="3899" y="1"/>
                      <a:pt x="3900" y="1"/>
                    </a:cubicBezTo>
                    <a:close/>
                    <a:moveTo>
                      <a:pt x="3908" y="1"/>
                    </a:moveTo>
                    <a:lnTo>
                      <a:pt x="3908" y="1"/>
                    </a:lnTo>
                    <a:cubicBezTo>
                      <a:pt x="3909" y="1"/>
                      <a:pt x="3910" y="2"/>
                      <a:pt x="3910" y="3"/>
                    </a:cubicBezTo>
                    <a:cubicBezTo>
                      <a:pt x="3910" y="4"/>
                      <a:pt x="3909" y="5"/>
                      <a:pt x="3908" y="5"/>
                    </a:cubicBezTo>
                    <a:lnTo>
                      <a:pt x="3908" y="5"/>
                    </a:lnTo>
                    <a:cubicBezTo>
                      <a:pt x="3907" y="5"/>
                      <a:pt x="3906" y="4"/>
                      <a:pt x="3906" y="3"/>
                    </a:cubicBezTo>
                    <a:cubicBezTo>
                      <a:pt x="3906" y="2"/>
                      <a:pt x="3907" y="1"/>
                      <a:pt x="3908" y="1"/>
                    </a:cubicBezTo>
                    <a:close/>
                    <a:moveTo>
                      <a:pt x="3916" y="1"/>
                    </a:moveTo>
                    <a:lnTo>
                      <a:pt x="3916" y="1"/>
                    </a:lnTo>
                    <a:cubicBezTo>
                      <a:pt x="3917" y="1"/>
                      <a:pt x="3918" y="2"/>
                      <a:pt x="3918" y="3"/>
                    </a:cubicBezTo>
                    <a:cubicBezTo>
                      <a:pt x="3918" y="4"/>
                      <a:pt x="3917" y="5"/>
                      <a:pt x="3916" y="5"/>
                    </a:cubicBezTo>
                    <a:lnTo>
                      <a:pt x="3916" y="5"/>
                    </a:lnTo>
                    <a:cubicBezTo>
                      <a:pt x="3915" y="5"/>
                      <a:pt x="3914" y="4"/>
                      <a:pt x="3914" y="3"/>
                    </a:cubicBezTo>
                    <a:cubicBezTo>
                      <a:pt x="3914" y="2"/>
                      <a:pt x="3915" y="1"/>
                      <a:pt x="3916" y="1"/>
                    </a:cubicBezTo>
                    <a:close/>
                    <a:moveTo>
                      <a:pt x="3924" y="1"/>
                    </a:moveTo>
                    <a:lnTo>
                      <a:pt x="3924" y="1"/>
                    </a:lnTo>
                    <a:cubicBezTo>
                      <a:pt x="3925" y="1"/>
                      <a:pt x="3926" y="2"/>
                      <a:pt x="3926" y="3"/>
                    </a:cubicBezTo>
                    <a:cubicBezTo>
                      <a:pt x="3926" y="4"/>
                      <a:pt x="3925" y="5"/>
                      <a:pt x="3924" y="5"/>
                    </a:cubicBezTo>
                    <a:lnTo>
                      <a:pt x="3924" y="5"/>
                    </a:lnTo>
                    <a:cubicBezTo>
                      <a:pt x="3923" y="5"/>
                      <a:pt x="3922" y="4"/>
                      <a:pt x="3922" y="3"/>
                    </a:cubicBezTo>
                    <a:cubicBezTo>
                      <a:pt x="3922" y="2"/>
                      <a:pt x="3923" y="1"/>
                      <a:pt x="3924" y="1"/>
                    </a:cubicBezTo>
                    <a:close/>
                    <a:moveTo>
                      <a:pt x="3932" y="1"/>
                    </a:moveTo>
                    <a:lnTo>
                      <a:pt x="3932" y="1"/>
                    </a:lnTo>
                    <a:cubicBezTo>
                      <a:pt x="3933" y="1"/>
                      <a:pt x="3934" y="2"/>
                      <a:pt x="3934" y="3"/>
                    </a:cubicBezTo>
                    <a:cubicBezTo>
                      <a:pt x="3934" y="4"/>
                      <a:pt x="3933" y="5"/>
                      <a:pt x="3932" y="5"/>
                    </a:cubicBezTo>
                    <a:lnTo>
                      <a:pt x="3932" y="5"/>
                    </a:lnTo>
                    <a:cubicBezTo>
                      <a:pt x="3931" y="5"/>
                      <a:pt x="3930" y="4"/>
                      <a:pt x="3930" y="3"/>
                    </a:cubicBezTo>
                    <a:cubicBezTo>
                      <a:pt x="3930" y="2"/>
                      <a:pt x="3931" y="1"/>
                      <a:pt x="3932" y="1"/>
                    </a:cubicBezTo>
                    <a:close/>
                    <a:moveTo>
                      <a:pt x="3940" y="1"/>
                    </a:moveTo>
                    <a:lnTo>
                      <a:pt x="3940" y="1"/>
                    </a:lnTo>
                    <a:cubicBezTo>
                      <a:pt x="3941" y="1"/>
                      <a:pt x="3942" y="2"/>
                      <a:pt x="3942" y="3"/>
                    </a:cubicBezTo>
                    <a:cubicBezTo>
                      <a:pt x="3942" y="4"/>
                      <a:pt x="3941" y="5"/>
                      <a:pt x="3940" y="5"/>
                    </a:cubicBezTo>
                    <a:lnTo>
                      <a:pt x="3940" y="5"/>
                    </a:lnTo>
                    <a:cubicBezTo>
                      <a:pt x="3939" y="5"/>
                      <a:pt x="3938" y="4"/>
                      <a:pt x="3938" y="3"/>
                    </a:cubicBezTo>
                    <a:cubicBezTo>
                      <a:pt x="3938" y="2"/>
                      <a:pt x="3939" y="1"/>
                      <a:pt x="3940" y="1"/>
                    </a:cubicBezTo>
                    <a:close/>
                    <a:moveTo>
                      <a:pt x="3948" y="1"/>
                    </a:moveTo>
                    <a:lnTo>
                      <a:pt x="3948" y="1"/>
                    </a:lnTo>
                    <a:cubicBezTo>
                      <a:pt x="3949" y="1"/>
                      <a:pt x="3950" y="2"/>
                      <a:pt x="3950" y="3"/>
                    </a:cubicBezTo>
                    <a:cubicBezTo>
                      <a:pt x="3950" y="4"/>
                      <a:pt x="3949" y="5"/>
                      <a:pt x="3948" y="5"/>
                    </a:cubicBezTo>
                    <a:lnTo>
                      <a:pt x="3948" y="5"/>
                    </a:lnTo>
                    <a:cubicBezTo>
                      <a:pt x="3947" y="5"/>
                      <a:pt x="3946" y="4"/>
                      <a:pt x="3946" y="3"/>
                    </a:cubicBezTo>
                    <a:cubicBezTo>
                      <a:pt x="3946" y="2"/>
                      <a:pt x="3947" y="1"/>
                      <a:pt x="3948" y="1"/>
                    </a:cubicBezTo>
                    <a:close/>
                    <a:moveTo>
                      <a:pt x="3956" y="1"/>
                    </a:moveTo>
                    <a:lnTo>
                      <a:pt x="3956" y="1"/>
                    </a:lnTo>
                    <a:cubicBezTo>
                      <a:pt x="3957" y="1"/>
                      <a:pt x="3958" y="2"/>
                      <a:pt x="3958" y="3"/>
                    </a:cubicBezTo>
                    <a:cubicBezTo>
                      <a:pt x="3958" y="4"/>
                      <a:pt x="3957" y="5"/>
                      <a:pt x="3956" y="5"/>
                    </a:cubicBezTo>
                    <a:lnTo>
                      <a:pt x="3956" y="5"/>
                    </a:lnTo>
                    <a:cubicBezTo>
                      <a:pt x="3955" y="5"/>
                      <a:pt x="3954" y="4"/>
                      <a:pt x="3954" y="3"/>
                    </a:cubicBezTo>
                    <a:cubicBezTo>
                      <a:pt x="3954" y="2"/>
                      <a:pt x="3955" y="1"/>
                      <a:pt x="3956" y="1"/>
                    </a:cubicBezTo>
                    <a:close/>
                    <a:moveTo>
                      <a:pt x="3964" y="1"/>
                    </a:moveTo>
                    <a:lnTo>
                      <a:pt x="3964" y="1"/>
                    </a:lnTo>
                    <a:cubicBezTo>
                      <a:pt x="3965" y="1"/>
                      <a:pt x="3966" y="2"/>
                      <a:pt x="3966" y="3"/>
                    </a:cubicBezTo>
                    <a:cubicBezTo>
                      <a:pt x="3966" y="4"/>
                      <a:pt x="3965" y="5"/>
                      <a:pt x="3964" y="5"/>
                    </a:cubicBezTo>
                    <a:lnTo>
                      <a:pt x="3964" y="5"/>
                    </a:lnTo>
                    <a:cubicBezTo>
                      <a:pt x="3963" y="5"/>
                      <a:pt x="3962" y="4"/>
                      <a:pt x="3962" y="3"/>
                    </a:cubicBezTo>
                    <a:cubicBezTo>
                      <a:pt x="3962" y="2"/>
                      <a:pt x="3963" y="1"/>
                      <a:pt x="3964" y="1"/>
                    </a:cubicBezTo>
                    <a:close/>
                    <a:moveTo>
                      <a:pt x="3972" y="1"/>
                    </a:moveTo>
                    <a:lnTo>
                      <a:pt x="3972" y="1"/>
                    </a:lnTo>
                    <a:cubicBezTo>
                      <a:pt x="3973" y="1"/>
                      <a:pt x="3974" y="2"/>
                      <a:pt x="3974" y="3"/>
                    </a:cubicBezTo>
                    <a:cubicBezTo>
                      <a:pt x="3974" y="4"/>
                      <a:pt x="3973" y="5"/>
                      <a:pt x="3972" y="5"/>
                    </a:cubicBezTo>
                    <a:lnTo>
                      <a:pt x="3972" y="5"/>
                    </a:lnTo>
                    <a:cubicBezTo>
                      <a:pt x="3971" y="5"/>
                      <a:pt x="3970" y="4"/>
                      <a:pt x="3970" y="3"/>
                    </a:cubicBezTo>
                    <a:cubicBezTo>
                      <a:pt x="3970" y="2"/>
                      <a:pt x="3971" y="1"/>
                      <a:pt x="3972" y="1"/>
                    </a:cubicBezTo>
                    <a:close/>
                    <a:moveTo>
                      <a:pt x="3980" y="1"/>
                    </a:moveTo>
                    <a:lnTo>
                      <a:pt x="3980" y="1"/>
                    </a:lnTo>
                    <a:cubicBezTo>
                      <a:pt x="3981" y="1"/>
                      <a:pt x="3982" y="2"/>
                      <a:pt x="3982" y="3"/>
                    </a:cubicBezTo>
                    <a:cubicBezTo>
                      <a:pt x="3982" y="4"/>
                      <a:pt x="3981" y="5"/>
                      <a:pt x="3980" y="5"/>
                    </a:cubicBezTo>
                    <a:lnTo>
                      <a:pt x="3980" y="5"/>
                    </a:lnTo>
                    <a:cubicBezTo>
                      <a:pt x="3979" y="5"/>
                      <a:pt x="3978" y="4"/>
                      <a:pt x="3978" y="3"/>
                    </a:cubicBezTo>
                    <a:cubicBezTo>
                      <a:pt x="3978" y="2"/>
                      <a:pt x="3979" y="1"/>
                      <a:pt x="3980" y="1"/>
                    </a:cubicBezTo>
                    <a:close/>
                    <a:moveTo>
                      <a:pt x="3988" y="1"/>
                    </a:moveTo>
                    <a:lnTo>
                      <a:pt x="3988" y="1"/>
                    </a:lnTo>
                    <a:cubicBezTo>
                      <a:pt x="3989" y="1"/>
                      <a:pt x="3990" y="2"/>
                      <a:pt x="3990" y="3"/>
                    </a:cubicBezTo>
                    <a:cubicBezTo>
                      <a:pt x="3990" y="4"/>
                      <a:pt x="3989" y="5"/>
                      <a:pt x="3988" y="5"/>
                    </a:cubicBezTo>
                    <a:lnTo>
                      <a:pt x="3988" y="5"/>
                    </a:lnTo>
                    <a:cubicBezTo>
                      <a:pt x="3987" y="5"/>
                      <a:pt x="3986" y="4"/>
                      <a:pt x="3986" y="3"/>
                    </a:cubicBezTo>
                    <a:cubicBezTo>
                      <a:pt x="3986" y="2"/>
                      <a:pt x="3987" y="1"/>
                      <a:pt x="3988" y="1"/>
                    </a:cubicBezTo>
                    <a:close/>
                    <a:moveTo>
                      <a:pt x="3996" y="1"/>
                    </a:moveTo>
                    <a:lnTo>
                      <a:pt x="3996" y="1"/>
                    </a:lnTo>
                    <a:cubicBezTo>
                      <a:pt x="3997" y="1"/>
                      <a:pt x="3998" y="2"/>
                      <a:pt x="3998" y="3"/>
                    </a:cubicBezTo>
                    <a:cubicBezTo>
                      <a:pt x="3998" y="4"/>
                      <a:pt x="3997" y="5"/>
                      <a:pt x="3996" y="5"/>
                    </a:cubicBezTo>
                    <a:lnTo>
                      <a:pt x="3996" y="5"/>
                    </a:lnTo>
                    <a:cubicBezTo>
                      <a:pt x="3995" y="5"/>
                      <a:pt x="3994" y="4"/>
                      <a:pt x="3994" y="3"/>
                    </a:cubicBezTo>
                    <a:cubicBezTo>
                      <a:pt x="3994" y="2"/>
                      <a:pt x="3995" y="1"/>
                      <a:pt x="3996" y="1"/>
                    </a:cubicBezTo>
                    <a:close/>
                    <a:moveTo>
                      <a:pt x="4004" y="1"/>
                    </a:moveTo>
                    <a:lnTo>
                      <a:pt x="4004" y="1"/>
                    </a:lnTo>
                    <a:cubicBezTo>
                      <a:pt x="4005" y="1"/>
                      <a:pt x="4006" y="2"/>
                      <a:pt x="4006" y="3"/>
                    </a:cubicBezTo>
                    <a:cubicBezTo>
                      <a:pt x="4006" y="4"/>
                      <a:pt x="4005" y="5"/>
                      <a:pt x="4004" y="5"/>
                    </a:cubicBezTo>
                    <a:lnTo>
                      <a:pt x="4004" y="5"/>
                    </a:lnTo>
                    <a:cubicBezTo>
                      <a:pt x="4003" y="5"/>
                      <a:pt x="4002" y="4"/>
                      <a:pt x="4002" y="3"/>
                    </a:cubicBezTo>
                    <a:cubicBezTo>
                      <a:pt x="4002" y="2"/>
                      <a:pt x="4003" y="1"/>
                      <a:pt x="4004" y="1"/>
                    </a:cubicBezTo>
                    <a:close/>
                    <a:moveTo>
                      <a:pt x="4012" y="1"/>
                    </a:moveTo>
                    <a:lnTo>
                      <a:pt x="4012" y="1"/>
                    </a:lnTo>
                    <a:cubicBezTo>
                      <a:pt x="4013" y="1"/>
                      <a:pt x="4014" y="2"/>
                      <a:pt x="4014" y="3"/>
                    </a:cubicBezTo>
                    <a:cubicBezTo>
                      <a:pt x="4014" y="4"/>
                      <a:pt x="4013" y="5"/>
                      <a:pt x="4012" y="5"/>
                    </a:cubicBezTo>
                    <a:lnTo>
                      <a:pt x="4012" y="5"/>
                    </a:lnTo>
                    <a:cubicBezTo>
                      <a:pt x="4011" y="5"/>
                      <a:pt x="4010" y="4"/>
                      <a:pt x="4010" y="3"/>
                    </a:cubicBezTo>
                    <a:cubicBezTo>
                      <a:pt x="4010" y="2"/>
                      <a:pt x="4011" y="1"/>
                      <a:pt x="4012" y="1"/>
                    </a:cubicBezTo>
                    <a:close/>
                    <a:moveTo>
                      <a:pt x="4020" y="1"/>
                    </a:moveTo>
                    <a:lnTo>
                      <a:pt x="4020" y="1"/>
                    </a:lnTo>
                    <a:cubicBezTo>
                      <a:pt x="4021" y="1"/>
                      <a:pt x="4022" y="2"/>
                      <a:pt x="4022" y="3"/>
                    </a:cubicBezTo>
                    <a:cubicBezTo>
                      <a:pt x="4022" y="4"/>
                      <a:pt x="4021" y="5"/>
                      <a:pt x="4020" y="5"/>
                    </a:cubicBezTo>
                    <a:lnTo>
                      <a:pt x="4020" y="5"/>
                    </a:lnTo>
                    <a:cubicBezTo>
                      <a:pt x="4019" y="5"/>
                      <a:pt x="4018" y="4"/>
                      <a:pt x="4018" y="3"/>
                    </a:cubicBezTo>
                    <a:cubicBezTo>
                      <a:pt x="4018" y="2"/>
                      <a:pt x="4019" y="1"/>
                      <a:pt x="4020" y="1"/>
                    </a:cubicBezTo>
                    <a:close/>
                    <a:moveTo>
                      <a:pt x="4028" y="1"/>
                    </a:moveTo>
                    <a:lnTo>
                      <a:pt x="4028" y="1"/>
                    </a:lnTo>
                    <a:cubicBezTo>
                      <a:pt x="4029" y="1"/>
                      <a:pt x="4030" y="2"/>
                      <a:pt x="4030" y="3"/>
                    </a:cubicBezTo>
                    <a:cubicBezTo>
                      <a:pt x="4030" y="4"/>
                      <a:pt x="4029" y="5"/>
                      <a:pt x="4028" y="5"/>
                    </a:cubicBezTo>
                    <a:lnTo>
                      <a:pt x="4028" y="5"/>
                    </a:lnTo>
                    <a:cubicBezTo>
                      <a:pt x="4027" y="5"/>
                      <a:pt x="4026" y="4"/>
                      <a:pt x="4026" y="3"/>
                    </a:cubicBezTo>
                    <a:cubicBezTo>
                      <a:pt x="4026" y="2"/>
                      <a:pt x="4027" y="1"/>
                      <a:pt x="4028" y="1"/>
                    </a:cubicBezTo>
                    <a:close/>
                    <a:moveTo>
                      <a:pt x="4036" y="1"/>
                    </a:moveTo>
                    <a:lnTo>
                      <a:pt x="4036" y="1"/>
                    </a:lnTo>
                    <a:cubicBezTo>
                      <a:pt x="4037" y="1"/>
                      <a:pt x="4038" y="2"/>
                      <a:pt x="4038" y="3"/>
                    </a:cubicBezTo>
                    <a:cubicBezTo>
                      <a:pt x="4038" y="4"/>
                      <a:pt x="4037" y="5"/>
                      <a:pt x="4036" y="5"/>
                    </a:cubicBezTo>
                    <a:lnTo>
                      <a:pt x="4036" y="5"/>
                    </a:lnTo>
                    <a:cubicBezTo>
                      <a:pt x="4035" y="5"/>
                      <a:pt x="4034" y="4"/>
                      <a:pt x="4034" y="3"/>
                    </a:cubicBezTo>
                    <a:cubicBezTo>
                      <a:pt x="4034" y="2"/>
                      <a:pt x="4035" y="1"/>
                      <a:pt x="4036" y="1"/>
                    </a:cubicBezTo>
                    <a:close/>
                    <a:moveTo>
                      <a:pt x="4044" y="1"/>
                    </a:moveTo>
                    <a:lnTo>
                      <a:pt x="4044" y="1"/>
                    </a:lnTo>
                    <a:cubicBezTo>
                      <a:pt x="4045" y="1"/>
                      <a:pt x="4046" y="2"/>
                      <a:pt x="4046" y="3"/>
                    </a:cubicBezTo>
                    <a:cubicBezTo>
                      <a:pt x="4046" y="4"/>
                      <a:pt x="4045" y="5"/>
                      <a:pt x="4044" y="5"/>
                    </a:cubicBezTo>
                    <a:lnTo>
                      <a:pt x="4044" y="5"/>
                    </a:lnTo>
                    <a:cubicBezTo>
                      <a:pt x="4043" y="5"/>
                      <a:pt x="4042" y="4"/>
                      <a:pt x="4042" y="3"/>
                    </a:cubicBezTo>
                    <a:cubicBezTo>
                      <a:pt x="4042" y="2"/>
                      <a:pt x="4043" y="1"/>
                      <a:pt x="4044" y="1"/>
                    </a:cubicBezTo>
                    <a:close/>
                    <a:moveTo>
                      <a:pt x="4052" y="1"/>
                    </a:moveTo>
                    <a:lnTo>
                      <a:pt x="4052" y="1"/>
                    </a:lnTo>
                    <a:cubicBezTo>
                      <a:pt x="4053" y="1"/>
                      <a:pt x="4054" y="2"/>
                      <a:pt x="4054" y="3"/>
                    </a:cubicBezTo>
                    <a:cubicBezTo>
                      <a:pt x="4054" y="4"/>
                      <a:pt x="4053" y="5"/>
                      <a:pt x="4052" y="5"/>
                    </a:cubicBezTo>
                    <a:lnTo>
                      <a:pt x="4052" y="5"/>
                    </a:lnTo>
                    <a:cubicBezTo>
                      <a:pt x="4051" y="5"/>
                      <a:pt x="4050" y="4"/>
                      <a:pt x="4050" y="3"/>
                    </a:cubicBezTo>
                    <a:cubicBezTo>
                      <a:pt x="4050" y="2"/>
                      <a:pt x="4051" y="1"/>
                      <a:pt x="4052" y="1"/>
                    </a:cubicBezTo>
                    <a:close/>
                    <a:moveTo>
                      <a:pt x="4060" y="1"/>
                    </a:moveTo>
                    <a:lnTo>
                      <a:pt x="4060" y="1"/>
                    </a:lnTo>
                    <a:cubicBezTo>
                      <a:pt x="4061" y="1"/>
                      <a:pt x="4062" y="2"/>
                      <a:pt x="4062" y="3"/>
                    </a:cubicBezTo>
                    <a:cubicBezTo>
                      <a:pt x="4062" y="4"/>
                      <a:pt x="4061" y="5"/>
                      <a:pt x="4060" y="5"/>
                    </a:cubicBezTo>
                    <a:lnTo>
                      <a:pt x="4060" y="5"/>
                    </a:lnTo>
                    <a:cubicBezTo>
                      <a:pt x="4059" y="5"/>
                      <a:pt x="4058" y="4"/>
                      <a:pt x="4058" y="3"/>
                    </a:cubicBezTo>
                    <a:cubicBezTo>
                      <a:pt x="4058" y="2"/>
                      <a:pt x="4059" y="1"/>
                      <a:pt x="4060" y="1"/>
                    </a:cubicBezTo>
                    <a:close/>
                    <a:moveTo>
                      <a:pt x="4068" y="1"/>
                    </a:moveTo>
                    <a:lnTo>
                      <a:pt x="4068" y="1"/>
                    </a:lnTo>
                    <a:cubicBezTo>
                      <a:pt x="4069" y="1"/>
                      <a:pt x="4070" y="2"/>
                      <a:pt x="4070" y="3"/>
                    </a:cubicBezTo>
                    <a:cubicBezTo>
                      <a:pt x="4070" y="4"/>
                      <a:pt x="4069" y="5"/>
                      <a:pt x="4068" y="5"/>
                    </a:cubicBezTo>
                    <a:lnTo>
                      <a:pt x="4068" y="5"/>
                    </a:lnTo>
                    <a:cubicBezTo>
                      <a:pt x="4067" y="5"/>
                      <a:pt x="4066" y="4"/>
                      <a:pt x="4066" y="3"/>
                    </a:cubicBezTo>
                    <a:cubicBezTo>
                      <a:pt x="4066" y="2"/>
                      <a:pt x="4067" y="1"/>
                      <a:pt x="4068" y="1"/>
                    </a:cubicBezTo>
                    <a:close/>
                    <a:moveTo>
                      <a:pt x="4076" y="1"/>
                    </a:moveTo>
                    <a:lnTo>
                      <a:pt x="4076" y="1"/>
                    </a:lnTo>
                    <a:cubicBezTo>
                      <a:pt x="4077" y="1"/>
                      <a:pt x="4078" y="2"/>
                      <a:pt x="4078" y="3"/>
                    </a:cubicBezTo>
                    <a:cubicBezTo>
                      <a:pt x="4078" y="4"/>
                      <a:pt x="4077" y="5"/>
                      <a:pt x="4076" y="5"/>
                    </a:cubicBezTo>
                    <a:lnTo>
                      <a:pt x="4076" y="5"/>
                    </a:lnTo>
                    <a:cubicBezTo>
                      <a:pt x="4075" y="5"/>
                      <a:pt x="4074" y="4"/>
                      <a:pt x="4074" y="3"/>
                    </a:cubicBezTo>
                    <a:cubicBezTo>
                      <a:pt x="4074" y="2"/>
                      <a:pt x="4075" y="1"/>
                      <a:pt x="4076" y="1"/>
                    </a:cubicBezTo>
                    <a:close/>
                    <a:moveTo>
                      <a:pt x="4084" y="1"/>
                    </a:moveTo>
                    <a:lnTo>
                      <a:pt x="4084" y="1"/>
                    </a:lnTo>
                    <a:cubicBezTo>
                      <a:pt x="4085" y="1"/>
                      <a:pt x="4086" y="2"/>
                      <a:pt x="4086" y="3"/>
                    </a:cubicBezTo>
                    <a:cubicBezTo>
                      <a:pt x="4086" y="4"/>
                      <a:pt x="4085" y="5"/>
                      <a:pt x="4084" y="5"/>
                    </a:cubicBezTo>
                    <a:lnTo>
                      <a:pt x="4084" y="5"/>
                    </a:lnTo>
                    <a:cubicBezTo>
                      <a:pt x="4083" y="5"/>
                      <a:pt x="4082" y="4"/>
                      <a:pt x="4082" y="3"/>
                    </a:cubicBezTo>
                    <a:cubicBezTo>
                      <a:pt x="4082" y="2"/>
                      <a:pt x="4083" y="1"/>
                      <a:pt x="4084" y="1"/>
                    </a:cubicBezTo>
                    <a:close/>
                    <a:moveTo>
                      <a:pt x="4092" y="1"/>
                    </a:moveTo>
                    <a:lnTo>
                      <a:pt x="4092" y="1"/>
                    </a:lnTo>
                    <a:cubicBezTo>
                      <a:pt x="4093" y="1"/>
                      <a:pt x="4094" y="2"/>
                      <a:pt x="4094" y="3"/>
                    </a:cubicBezTo>
                    <a:cubicBezTo>
                      <a:pt x="4094" y="4"/>
                      <a:pt x="4093" y="5"/>
                      <a:pt x="4092" y="5"/>
                    </a:cubicBezTo>
                    <a:lnTo>
                      <a:pt x="4092" y="5"/>
                    </a:lnTo>
                    <a:cubicBezTo>
                      <a:pt x="4091" y="5"/>
                      <a:pt x="4090" y="4"/>
                      <a:pt x="4090" y="3"/>
                    </a:cubicBezTo>
                    <a:cubicBezTo>
                      <a:pt x="4090" y="2"/>
                      <a:pt x="4091" y="1"/>
                      <a:pt x="4092" y="1"/>
                    </a:cubicBezTo>
                    <a:close/>
                    <a:moveTo>
                      <a:pt x="4100" y="1"/>
                    </a:moveTo>
                    <a:lnTo>
                      <a:pt x="4100" y="1"/>
                    </a:lnTo>
                    <a:cubicBezTo>
                      <a:pt x="4101" y="1"/>
                      <a:pt x="4102" y="2"/>
                      <a:pt x="4102" y="3"/>
                    </a:cubicBezTo>
                    <a:cubicBezTo>
                      <a:pt x="4102" y="4"/>
                      <a:pt x="4101" y="5"/>
                      <a:pt x="4100" y="5"/>
                    </a:cubicBezTo>
                    <a:lnTo>
                      <a:pt x="4100" y="5"/>
                    </a:lnTo>
                    <a:cubicBezTo>
                      <a:pt x="4099" y="5"/>
                      <a:pt x="4098" y="4"/>
                      <a:pt x="4098" y="3"/>
                    </a:cubicBezTo>
                    <a:cubicBezTo>
                      <a:pt x="4098" y="2"/>
                      <a:pt x="4099" y="1"/>
                      <a:pt x="4100" y="1"/>
                    </a:cubicBezTo>
                    <a:close/>
                    <a:moveTo>
                      <a:pt x="4108" y="1"/>
                    </a:moveTo>
                    <a:lnTo>
                      <a:pt x="4108" y="1"/>
                    </a:lnTo>
                    <a:cubicBezTo>
                      <a:pt x="4109" y="1"/>
                      <a:pt x="4110" y="2"/>
                      <a:pt x="4110" y="3"/>
                    </a:cubicBezTo>
                    <a:cubicBezTo>
                      <a:pt x="4110" y="4"/>
                      <a:pt x="4109" y="5"/>
                      <a:pt x="4108" y="5"/>
                    </a:cubicBezTo>
                    <a:lnTo>
                      <a:pt x="4108" y="5"/>
                    </a:lnTo>
                    <a:cubicBezTo>
                      <a:pt x="4107" y="5"/>
                      <a:pt x="4106" y="4"/>
                      <a:pt x="4106" y="3"/>
                    </a:cubicBezTo>
                    <a:cubicBezTo>
                      <a:pt x="4106" y="2"/>
                      <a:pt x="4107" y="1"/>
                      <a:pt x="4108" y="1"/>
                    </a:cubicBezTo>
                    <a:close/>
                    <a:moveTo>
                      <a:pt x="4116" y="1"/>
                    </a:moveTo>
                    <a:lnTo>
                      <a:pt x="4116" y="1"/>
                    </a:lnTo>
                    <a:cubicBezTo>
                      <a:pt x="4117" y="1"/>
                      <a:pt x="4118" y="2"/>
                      <a:pt x="4118" y="3"/>
                    </a:cubicBezTo>
                    <a:cubicBezTo>
                      <a:pt x="4118" y="4"/>
                      <a:pt x="4117" y="5"/>
                      <a:pt x="4116" y="5"/>
                    </a:cubicBezTo>
                    <a:lnTo>
                      <a:pt x="4116" y="5"/>
                    </a:lnTo>
                    <a:cubicBezTo>
                      <a:pt x="4115" y="5"/>
                      <a:pt x="4114" y="4"/>
                      <a:pt x="4114" y="3"/>
                    </a:cubicBezTo>
                    <a:cubicBezTo>
                      <a:pt x="4114" y="2"/>
                      <a:pt x="4115" y="1"/>
                      <a:pt x="4116" y="1"/>
                    </a:cubicBezTo>
                    <a:close/>
                    <a:moveTo>
                      <a:pt x="4124" y="1"/>
                    </a:moveTo>
                    <a:lnTo>
                      <a:pt x="4124" y="1"/>
                    </a:lnTo>
                    <a:cubicBezTo>
                      <a:pt x="4125" y="1"/>
                      <a:pt x="4126" y="2"/>
                      <a:pt x="4126" y="3"/>
                    </a:cubicBezTo>
                    <a:cubicBezTo>
                      <a:pt x="4126" y="4"/>
                      <a:pt x="4125" y="5"/>
                      <a:pt x="4124" y="5"/>
                    </a:cubicBezTo>
                    <a:lnTo>
                      <a:pt x="4124" y="5"/>
                    </a:lnTo>
                    <a:cubicBezTo>
                      <a:pt x="4123" y="5"/>
                      <a:pt x="4122" y="4"/>
                      <a:pt x="4122" y="3"/>
                    </a:cubicBezTo>
                    <a:cubicBezTo>
                      <a:pt x="4122" y="2"/>
                      <a:pt x="4123" y="1"/>
                      <a:pt x="4124" y="1"/>
                    </a:cubicBezTo>
                    <a:close/>
                    <a:moveTo>
                      <a:pt x="4132" y="1"/>
                    </a:moveTo>
                    <a:lnTo>
                      <a:pt x="4132" y="1"/>
                    </a:lnTo>
                    <a:cubicBezTo>
                      <a:pt x="4133" y="1"/>
                      <a:pt x="4134" y="2"/>
                      <a:pt x="4134" y="3"/>
                    </a:cubicBezTo>
                    <a:cubicBezTo>
                      <a:pt x="4134" y="4"/>
                      <a:pt x="4133" y="5"/>
                      <a:pt x="4132" y="5"/>
                    </a:cubicBezTo>
                    <a:lnTo>
                      <a:pt x="4132" y="5"/>
                    </a:lnTo>
                    <a:cubicBezTo>
                      <a:pt x="4131" y="5"/>
                      <a:pt x="4130" y="4"/>
                      <a:pt x="4130" y="3"/>
                    </a:cubicBezTo>
                    <a:cubicBezTo>
                      <a:pt x="4130" y="2"/>
                      <a:pt x="4131" y="1"/>
                      <a:pt x="4132" y="1"/>
                    </a:cubicBezTo>
                    <a:close/>
                    <a:moveTo>
                      <a:pt x="4140" y="1"/>
                    </a:moveTo>
                    <a:lnTo>
                      <a:pt x="4140" y="1"/>
                    </a:lnTo>
                    <a:cubicBezTo>
                      <a:pt x="4141" y="1"/>
                      <a:pt x="4142" y="2"/>
                      <a:pt x="4142" y="3"/>
                    </a:cubicBezTo>
                    <a:cubicBezTo>
                      <a:pt x="4142" y="4"/>
                      <a:pt x="4141" y="5"/>
                      <a:pt x="4140" y="5"/>
                    </a:cubicBezTo>
                    <a:lnTo>
                      <a:pt x="4140" y="5"/>
                    </a:lnTo>
                    <a:cubicBezTo>
                      <a:pt x="4139" y="5"/>
                      <a:pt x="4138" y="4"/>
                      <a:pt x="4138" y="3"/>
                    </a:cubicBezTo>
                    <a:cubicBezTo>
                      <a:pt x="4138" y="2"/>
                      <a:pt x="4139" y="1"/>
                      <a:pt x="4140" y="1"/>
                    </a:cubicBezTo>
                    <a:close/>
                    <a:moveTo>
                      <a:pt x="4148" y="1"/>
                    </a:moveTo>
                    <a:lnTo>
                      <a:pt x="4148" y="1"/>
                    </a:lnTo>
                    <a:cubicBezTo>
                      <a:pt x="4149" y="1"/>
                      <a:pt x="4150" y="2"/>
                      <a:pt x="4150" y="3"/>
                    </a:cubicBezTo>
                    <a:cubicBezTo>
                      <a:pt x="4150" y="4"/>
                      <a:pt x="4149" y="5"/>
                      <a:pt x="4148" y="5"/>
                    </a:cubicBezTo>
                    <a:lnTo>
                      <a:pt x="4148" y="5"/>
                    </a:lnTo>
                    <a:cubicBezTo>
                      <a:pt x="4147" y="5"/>
                      <a:pt x="4146" y="4"/>
                      <a:pt x="4146" y="3"/>
                    </a:cubicBezTo>
                    <a:cubicBezTo>
                      <a:pt x="4146" y="2"/>
                      <a:pt x="4147" y="1"/>
                      <a:pt x="4148" y="1"/>
                    </a:cubicBezTo>
                    <a:close/>
                    <a:moveTo>
                      <a:pt x="4156" y="1"/>
                    </a:moveTo>
                    <a:lnTo>
                      <a:pt x="4156" y="1"/>
                    </a:lnTo>
                    <a:cubicBezTo>
                      <a:pt x="4157" y="1"/>
                      <a:pt x="4158" y="2"/>
                      <a:pt x="4158" y="3"/>
                    </a:cubicBezTo>
                    <a:cubicBezTo>
                      <a:pt x="4158" y="4"/>
                      <a:pt x="4157" y="5"/>
                      <a:pt x="4156" y="5"/>
                    </a:cubicBezTo>
                    <a:lnTo>
                      <a:pt x="4156" y="5"/>
                    </a:lnTo>
                    <a:cubicBezTo>
                      <a:pt x="4155" y="5"/>
                      <a:pt x="4154" y="4"/>
                      <a:pt x="4154" y="3"/>
                    </a:cubicBezTo>
                    <a:cubicBezTo>
                      <a:pt x="4154" y="2"/>
                      <a:pt x="4155" y="1"/>
                      <a:pt x="4156" y="1"/>
                    </a:cubicBezTo>
                    <a:close/>
                    <a:moveTo>
                      <a:pt x="4164" y="1"/>
                    </a:moveTo>
                    <a:lnTo>
                      <a:pt x="4164" y="1"/>
                    </a:lnTo>
                    <a:cubicBezTo>
                      <a:pt x="4165" y="1"/>
                      <a:pt x="4166" y="2"/>
                      <a:pt x="4166" y="3"/>
                    </a:cubicBezTo>
                    <a:cubicBezTo>
                      <a:pt x="4166" y="4"/>
                      <a:pt x="4165" y="5"/>
                      <a:pt x="4164" y="5"/>
                    </a:cubicBezTo>
                    <a:lnTo>
                      <a:pt x="4164" y="5"/>
                    </a:lnTo>
                    <a:cubicBezTo>
                      <a:pt x="4163" y="5"/>
                      <a:pt x="4162" y="4"/>
                      <a:pt x="4162" y="3"/>
                    </a:cubicBezTo>
                    <a:cubicBezTo>
                      <a:pt x="4162" y="2"/>
                      <a:pt x="4163" y="1"/>
                      <a:pt x="4164" y="1"/>
                    </a:cubicBezTo>
                    <a:close/>
                    <a:moveTo>
                      <a:pt x="4172" y="1"/>
                    </a:moveTo>
                    <a:lnTo>
                      <a:pt x="4172" y="1"/>
                    </a:lnTo>
                    <a:cubicBezTo>
                      <a:pt x="4173" y="1"/>
                      <a:pt x="4174" y="2"/>
                      <a:pt x="4174" y="3"/>
                    </a:cubicBezTo>
                    <a:cubicBezTo>
                      <a:pt x="4174" y="4"/>
                      <a:pt x="4173" y="5"/>
                      <a:pt x="4172" y="5"/>
                    </a:cubicBezTo>
                    <a:lnTo>
                      <a:pt x="4172" y="5"/>
                    </a:lnTo>
                    <a:cubicBezTo>
                      <a:pt x="4171" y="5"/>
                      <a:pt x="4170" y="4"/>
                      <a:pt x="4170" y="3"/>
                    </a:cubicBezTo>
                    <a:cubicBezTo>
                      <a:pt x="4170" y="2"/>
                      <a:pt x="4171" y="1"/>
                      <a:pt x="4172" y="1"/>
                    </a:cubicBezTo>
                    <a:close/>
                    <a:moveTo>
                      <a:pt x="4180" y="1"/>
                    </a:moveTo>
                    <a:lnTo>
                      <a:pt x="4180" y="1"/>
                    </a:lnTo>
                    <a:cubicBezTo>
                      <a:pt x="4181" y="1"/>
                      <a:pt x="4182" y="2"/>
                      <a:pt x="4182" y="3"/>
                    </a:cubicBezTo>
                    <a:cubicBezTo>
                      <a:pt x="4182" y="4"/>
                      <a:pt x="4181" y="5"/>
                      <a:pt x="4180" y="5"/>
                    </a:cubicBezTo>
                    <a:lnTo>
                      <a:pt x="4180" y="5"/>
                    </a:lnTo>
                    <a:cubicBezTo>
                      <a:pt x="4179" y="5"/>
                      <a:pt x="4178" y="4"/>
                      <a:pt x="4178" y="3"/>
                    </a:cubicBezTo>
                    <a:cubicBezTo>
                      <a:pt x="4178" y="2"/>
                      <a:pt x="4179" y="1"/>
                      <a:pt x="4180" y="1"/>
                    </a:cubicBezTo>
                    <a:close/>
                    <a:moveTo>
                      <a:pt x="4188" y="1"/>
                    </a:moveTo>
                    <a:lnTo>
                      <a:pt x="4188" y="1"/>
                    </a:lnTo>
                    <a:cubicBezTo>
                      <a:pt x="4189" y="1"/>
                      <a:pt x="4190" y="2"/>
                      <a:pt x="4190" y="3"/>
                    </a:cubicBezTo>
                    <a:cubicBezTo>
                      <a:pt x="4190" y="4"/>
                      <a:pt x="4189" y="5"/>
                      <a:pt x="4188" y="5"/>
                    </a:cubicBezTo>
                    <a:lnTo>
                      <a:pt x="4188" y="5"/>
                    </a:lnTo>
                    <a:cubicBezTo>
                      <a:pt x="4187" y="5"/>
                      <a:pt x="4186" y="4"/>
                      <a:pt x="4186" y="3"/>
                    </a:cubicBezTo>
                    <a:cubicBezTo>
                      <a:pt x="4186" y="2"/>
                      <a:pt x="4187" y="1"/>
                      <a:pt x="4188" y="1"/>
                    </a:cubicBezTo>
                    <a:close/>
                    <a:moveTo>
                      <a:pt x="4196" y="1"/>
                    </a:moveTo>
                    <a:lnTo>
                      <a:pt x="4196" y="1"/>
                    </a:lnTo>
                    <a:cubicBezTo>
                      <a:pt x="4197" y="1"/>
                      <a:pt x="4198" y="2"/>
                      <a:pt x="4198" y="3"/>
                    </a:cubicBezTo>
                    <a:cubicBezTo>
                      <a:pt x="4198" y="4"/>
                      <a:pt x="4197" y="5"/>
                      <a:pt x="4196" y="5"/>
                    </a:cubicBezTo>
                    <a:lnTo>
                      <a:pt x="4196" y="5"/>
                    </a:lnTo>
                    <a:cubicBezTo>
                      <a:pt x="4195" y="5"/>
                      <a:pt x="4194" y="4"/>
                      <a:pt x="4194" y="3"/>
                    </a:cubicBezTo>
                    <a:cubicBezTo>
                      <a:pt x="4194" y="2"/>
                      <a:pt x="4195" y="1"/>
                      <a:pt x="4196" y="1"/>
                    </a:cubicBezTo>
                    <a:close/>
                    <a:moveTo>
                      <a:pt x="4204" y="1"/>
                    </a:moveTo>
                    <a:lnTo>
                      <a:pt x="4204" y="1"/>
                    </a:lnTo>
                    <a:cubicBezTo>
                      <a:pt x="4205" y="1"/>
                      <a:pt x="4206" y="2"/>
                      <a:pt x="4206" y="3"/>
                    </a:cubicBezTo>
                    <a:cubicBezTo>
                      <a:pt x="4206" y="4"/>
                      <a:pt x="4205" y="5"/>
                      <a:pt x="4204" y="5"/>
                    </a:cubicBezTo>
                    <a:lnTo>
                      <a:pt x="4204" y="5"/>
                    </a:lnTo>
                    <a:cubicBezTo>
                      <a:pt x="4203" y="5"/>
                      <a:pt x="4202" y="4"/>
                      <a:pt x="4202" y="3"/>
                    </a:cubicBezTo>
                    <a:cubicBezTo>
                      <a:pt x="4202" y="2"/>
                      <a:pt x="4203" y="1"/>
                      <a:pt x="4204" y="1"/>
                    </a:cubicBezTo>
                    <a:close/>
                    <a:moveTo>
                      <a:pt x="4212" y="1"/>
                    </a:moveTo>
                    <a:lnTo>
                      <a:pt x="4212" y="1"/>
                    </a:lnTo>
                    <a:cubicBezTo>
                      <a:pt x="4213" y="1"/>
                      <a:pt x="4214" y="2"/>
                      <a:pt x="4214" y="3"/>
                    </a:cubicBezTo>
                    <a:cubicBezTo>
                      <a:pt x="4214" y="4"/>
                      <a:pt x="4213" y="5"/>
                      <a:pt x="4212" y="5"/>
                    </a:cubicBezTo>
                    <a:lnTo>
                      <a:pt x="4212" y="5"/>
                    </a:lnTo>
                    <a:cubicBezTo>
                      <a:pt x="4211" y="5"/>
                      <a:pt x="4210" y="4"/>
                      <a:pt x="4210" y="3"/>
                    </a:cubicBezTo>
                    <a:cubicBezTo>
                      <a:pt x="4210" y="2"/>
                      <a:pt x="4211" y="1"/>
                      <a:pt x="4212" y="1"/>
                    </a:cubicBezTo>
                    <a:close/>
                    <a:moveTo>
                      <a:pt x="4220" y="1"/>
                    </a:moveTo>
                    <a:lnTo>
                      <a:pt x="4220" y="1"/>
                    </a:lnTo>
                    <a:cubicBezTo>
                      <a:pt x="4221" y="1"/>
                      <a:pt x="4222" y="2"/>
                      <a:pt x="4222" y="3"/>
                    </a:cubicBezTo>
                    <a:cubicBezTo>
                      <a:pt x="4222" y="4"/>
                      <a:pt x="4221" y="5"/>
                      <a:pt x="4220" y="5"/>
                    </a:cubicBezTo>
                    <a:lnTo>
                      <a:pt x="4220" y="5"/>
                    </a:lnTo>
                    <a:cubicBezTo>
                      <a:pt x="4219" y="5"/>
                      <a:pt x="4218" y="4"/>
                      <a:pt x="4218" y="3"/>
                    </a:cubicBezTo>
                    <a:cubicBezTo>
                      <a:pt x="4218" y="2"/>
                      <a:pt x="4219" y="1"/>
                      <a:pt x="4220" y="1"/>
                    </a:cubicBezTo>
                    <a:close/>
                    <a:moveTo>
                      <a:pt x="4228" y="1"/>
                    </a:moveTo>
                    <a:lnTo>
                      <a:pt x="4228" y="1"/>
                    </a:lnTo>
                    <a:cubicBezTo>
                      <a:pt x="4229" y="1"/>
                      <a:pt x="4230" y="2"/>
                      <a:pt x="4230" y="3"/>
                    </a:cubicBezTo>
                    <a:cubicBezTo>
                      <a:pt x="4230" y="4"/>
                      <a:pt x="4229" y="5"/>
                      <a:pt x="4228" y="5"/>
                    </a:cubicBezTo>
                    <a:lnTo>
                      <a:pt x="4228" y="5"/>
                    </a:lnTo>
                    <a:cubicBezTo>
                      <a:pt x="4227" y="5"/>
                      <a:pt x="4226" y="4"/>
                      <a:pt x="4226" y="3"/>
                    </a:cubicBezTo>
                    <a:cubicBezTo>
                      <a:pt x="4226" y="2"/>
                      <a:pt x="4227" y="1"/>
                      <a:pt x="4228" y="1"/>
                    </a:cubicBezTo>
                    <a:close/>
                    <a:moveTo>
                      <a:pt x="4236" y="1"/>
                    </a:moveTo>
                    <a:lnTo>
                      <a:pt x="4236" y="1"/>
                    </a:lnTo>
                    <a:cubicBezTo>
                      <a:pt x="4237" y="1"/>
                      <a:pt x="4238" y="2"/>
                      <a:pt x="4238" y="3"/>
                    </a:cubicBezTo>
                    <a:cubicBezTo>
                      <a:pt x="4238" y="4"/>
                      <a:pt x="4237" y="5"/>
                      <a:pt x="4236" y="5"/>
                    </a:cubicBezTo>
                    <a:lnTo>
                      <a:pt x="4236" y="5"/>
                    </a:lnTo>
                    <a:cubicBezTo>
                      <a:pt x="4235" y="5"/>
                      <a:pt x="4234" y="4"/>
                      <a:pt x="4234" y="3"/>
                    </a:cubicBezTo>
                    <a:cubicBezTo>
                      <a:pt x="4234" y="2"/>
                      <a:pt x="4235" y="1"/>
                      <a:pt x="4236" y="1"/>
                    </a:cubicBezTo>
                    <a:close/>
                    <a:moveTo>
                      <a:pt x="4244" y="1"/>
                    </a:moveTo>
                    <a:lnTo>
                      <a:pt x="4244" y="1"/>
                    </a:lnTo>
                    <a:cubicBezTo>
                      <a:pt x="4245" y="1"/>
                      <a:pt x="4246" y="2"/>
                      <a:pt x="4246" y="3"/>
                    </a:cubicBezTo>
                    <a:cubicBezTo>
                      <a:pt x="4246" y="4"/>
                      <a:pt x="4245" y="5"/>
                      <a:pt x="4244" y="5"/>
                    </a:cubicBezTo>
                    <a:lnTo>
                      <a:pt x="4244" y="5"/>
                    </a:lnTo>
                    <a:cubicBezTo>
                      <a:pt x="4243" y="5"/>
                      <a:pt x="4242" y="4"/>
                      <a:pt x="4242" y="3"/>
                    </a:cubicBezTo>
                    <a:cubicBezTo>
                      <a:pt x="4242" y="2"/>
                      <a:pt x="4243" y="1"/>
                      <a:pt x="4244" y="1"/>
                    </a:cubicBezTo>
                    <a:close/>
                    <a:moveTo>
                      <a:pt x="4252" y="1"/>
                    </a:moveTo>
                    <a:lnTo>
                      <a:pt x="4252" y="1"/>
                    </a:lnTo>
                    <a:cubicBezTo>
                      <a:pt x="4253" y="1"/>
                      <a:pt x="4254" y="2"/>
                      <a:pt x="4254" y="3"/>
                    </a:cubicBezTo>
                    <a:cubicBezTo>
                      <a:pt x="4254" y="4"/>
                      <a:pt x="4253" y="5"/>
                      <a:pt x="4252" y="5"/>
                    </a:cubicBezTo>
                    <a:lnTo>
                      <a:pt x="4252" y="5"/>
                    </a:lnTo>
                    <a:cubicBezTo>
                      <a:pt x="4251" y="5"/>
                      <a:pt x="4250" y="4"/>
                      <a:pt x="4250" y="3"/>
                    </a:cubicBezTo>
                    <a:cubicBezTo>
                      <a:pt x="4250" y="2"/>
                      <a:pt x="4251" y="1"/>
                      <a:pt x="4252" y="1"/>
                    </a:cubicBezTo>
                    <a:close/>
                    <a:moveTo>
                      <a:pt x="4260" y="1"/>
                    </a:moveTo>
                    <a:lnTo>
                      <a:pt x="4260" y="1"/>
                    </a:lnTo>
                    <a:cubicBezTo>
                      <a:pt x="4261" y="1"/>
                      <a:pt x="4262" y="2"/>
                      <a:pt x="4262" y="3"/>
                    </a:cubicBezTo>
                    <a:cubicBezTo>
                      <a:pt x="4262" y="4"/>
                      <a:pt x="4261" y="5"/>
                      <a:pt x="4260" y="5"/>
                    </a:cubicBezTo>
                    <a:lnTo>
                      <a:pt x="4260" y="5"/>
                    </a:lnTo>
                    <a:cubicBezTo>
                      <a:pt x="4259" y="5"/>
                      <a:pt x="4258" y="4"/>
                      <a:pt x="4258" y="3"/>
                    </a:cubicBezTo>
                    <a:cubicBezTo>
                      <a:pt x="4258" y="2"/>
                      <a:pt x="4259" y="1"/>
                      <a:pt x="4260" y="1"/>
                    </a:cubicBezTo>
                    <a:close/>
                    <a:moveTo>
                      <a:pt x="4268" y="1"/>
                    </a:moveTo>
                    <a:lnTo>
                      <a:pt x="4268" y="1"/>
                    </a:lnTo>
                    <a:cubicBezTo>
                      <a:pt x="4269" y="1"/>
                      <a:pt x="4270" y="2"/>
                      <a:pt x="4270" y="3"/>
                    </a:cubicBezTo>
                    <a:cubicBezTo>
                      <a:pt x="4270" y="4"/>
                      <a:pt x="4269" y="5"/>
                      <a:pt x="4268" y="5"/>
                    </a:cubicBezTo>
                    <a:lnTo>
                      <a:pt x="4268" y="5"/>
                    </a:lnTo>
                    <a:cubicBezTo>
                      <a:pt x="4267" y="5"/>
                      <a:pt x="4266" y="4"/>
                      <a:pt x="4266" y="3"/>
                    </a:cubicBezTo>
                    <a:cubicBezTo>
                      <a:pt x="4266" y="2"/>
                      <a:pt x="4267" y="1"/>
                      <a:pt x="4268" y="1"/>
                    </a:cubicBezTo>
                    <a:close/>
                    <a:moveTo>
                      <a:pt x="4276" y="1"/>
                    </a:moveTo>
                    <a:lnTo>
                      <a:pt x="4276" y="1"/>
                    </a:lnTo>
                    <a:cubicBezTo>
                      <a:pt x="4277" y="1"/>
                      <a:pt x="4278" y="2"/>
                      <a:pt x="4278" y="3"/>
                    </a:cubicBezTo>
                    <a:cubicBezTo>
                      <a:pt x="4278" y="4"/>
                      <a:pt x="4277" y="5"/>
                      <a:pt x="4276" y="5"/>
                    </a:cubicBezTo>
                    <a:lnTo>
                      <a:pt x="4276" y="5"/>
                    </a:lnTo>
                    <a:cubicBezTo>
                      <a:pt x="4275" y="5"/>
                      <a:pt x="4274" y="4"/>
                      <a:pt x="4274" y="3"/>
                    </a:cubicBezTo>
                    <a:cubicBezTo>
                      <a:pt x="4274" y="2"/>
                      <a:pt x="4275" y="1"/>
                      <a:pt x="4276" y="1"/>
                    </a:cubicBezTo>
                    <a:close/>
                    <a:moveTo>
                      <a:pt x="4284" y="1"/>
                    </a:moveTo>
                    <a:lnTo>
                      <a:pt x="4284" y="1"/>
                    </a:lnTo>
                    <a:cubicBezTo>
                      <a:pt x="4285" y="1"/>
                      <a:pt x="4286" y="2"/>
                      <a:pt x="4286" y="3"/>
                    </a:cubicBezTo>
                    <a:cubicBezTo>
                      <a:pt x="4286" y="4"/>
                      <a:pt x="4285" y="5"/>
                      <a:pt x="4284" y="5"/>
                    </a:cubicBezTo>
                    <a:lnTo>
                      <a:pt x="4284" y="5"/>
                    </a:lnTo>
                    <a:cubicBezTo>
                      <a:pt x="4283" y="5"/>
                      <a:pt x="4282" y="4"/>
                      <a:pt x="4282" y="3"/>
                    </a:cubicBezTo>
                    <a:cubicBezTo>
                      <a:pt x="4282" y="2"/>
                      <a:pt x="4283" y="1"/>
                      <a:pt x="4284" y="1"/>
                    </a:cubicBezTo>
                    <a:close/>
                    <a:moveTo>
                      <a:pt x="4292" y="1"/>
                    </a:moveTo>
                    <a:lnTo>
                      <a:pt x="4292" y="1"/>
                    </a:lnTo>
                    <a:cubicBezTo>
                      <a:pt x="4293" y="1"/>
                      <a:pt x="4294" y="2"/>
                      <a:pt x="4294" y="3"/>
                    </a:cubicBezTo>
                    <a:cubicBezTo>
                      <a:pt x="4294" y="4"/>
                      <a:pt x="4293" y="5"/>
                      <a:pt x="4292" y="5"/>
                    </a:cubicBezTo>
                    <a:lnTo>
                      <a:pt x="4292" y="5"/>
                    </a:lnTo>
                    <a:cubicBezTo>
                      <a:pt x="4291" y="5"/>
                      <a:pt x="4290" y="4"/>
                      <a:pt x="4290" y="3"/>
                    </a:cubicBezTo>
                    <a:cubicBezTo>
                      <a:pt x="4290" y="2"/>
                      <a:pt x="4291" y="1"/>
                      <a:pt x="4292" y="1"/>
                    </a:cubicBezTo>
                    <a:close/>
                    <a:moveTo>
                      <a:pt x="4300" y="1"/>
                    </a:moveTo>
                    <a:lnTo>
                      <a:pt x="4300" y="1"/>
                    </a:lnTo>
                    <a:cubicBezTo>
                      <a:pt x="4301" y="1"/>
                      <a:pt x="4302" y="2"/>
                      <a:pt x="4302" y="3"/>
                    </a:cubicBezTo>
                    <a:cubicBezTo>
                      <a:pt x="4302" y="4"/>
                      <a:pt x="4301" y="5"/>
                      <a:pt x="4300" y="5"/>
                    </a:cubicBezTo>
                    <a:lnTo>
                      <a:pt x="4300" y="5"/>
                    </a:lnTo>
                    <a:cubicBezTo>
                      <a:pt x="4299" y="5"/>
                      <a:pt x="4298" y="4"/>
                      <a:pt x="4298" y="3"/>
                    </a:cubicBezTo>
                    <a:cubicBezTo>
                      <a:pt x="4298" y="2"/>
                      <a:pt x="4299" y="1"/>
                      <a:pt x="4300" y="1"/>
                    </a:cubicBezTo>
                    <a:close/>
                    <a:moveTo>
                      <a:pt x="4308" y="1"/>
                    </a:moveTo>
                    <a:lnTo>
                      <a:pt x="4308" y="1"/>
                    </a:lnTo>
                    <a:cubicBezTo>
                      <a:pt x="4309" y="1"/>
                      <a:pt x="4310" y="2"/>
                      <a:pt x="4310" y="3"/>
                    </a:cubicBezTo>
                    <a:cubicBezTo>
                      <a:pt x="4310" y="4"/>
                      <a:pt x="4309" y="5"/>
                      <a:pt x="4308" y="5"/>
                    </a:cubicBezTo>
                    <a:lnTo>
                      <a:pt x="4308" y="5"/>
                    </a:lnTo>
                    <a:cubicBezTo>
                      <a:pt x="4307" y="5"/>
                      <a:pt x="4306" y="4"/>
                      <a:pt x="4306" y="3"/>
                    </a:cubicBezTo>
                    <a:cubicBezTo>
                      <a:pt x="4306" y="2"/>
                      <a:pt x="4307" y="1"/>
                      <a:pt x="4308" y="1"/>
                    </a:cubicBezTo>
                    <a:close/>
                    <a:moveTo>
                      <a:pt x="4316" y="1"/>
                    </a:moveTo>
                    <a:lnTo>
                      <a:pt x="4316" y="1"/>
                    </a:lnTo>
                    <a:cubicBezTo>
                      <a:pt x="4317" y="1"/>
                      <a:pt x="4318" y="2"/>
                      <a:pt x="4318" y="3"/>
                    </a:cubicBezTo>
                    <a:cubicBezTo>
                      <a:pt x="4318" y="4"/>
                      <a:pt x="4317" y="5"/>
                      <a:pt x="4316" y="5"/>
                    </a:cubicBezTo>
                    <a:lnTo>
                      <a:pt x="4316" y="5"/>
                    </a:lnTo>
                    <a:cubicBezTo>
                      <a:pt x="4315" y="5"/>
                      <a:pt x="4314" y="4"/>
                      <a:pt x="4314" y="3"/>
                    </a:cubicBezTo>
                    <a:cubicBezTo>
                      <a:pt x="4314" y="2"/>
                      <a:pt x="4315" y="1"/>
                      <a:pt x="4316" y="1"/>
                    </a:cubicBezTo>
                    <a:close/>
                    <a:moveTo>
                      <a:pt x="4324" y="1"/>
                    </a:moveTo>
                    <a:lnTo>
                      <a:pt x="4324" y="1"/>
                    </a:lnTo>
                    <a:cubicBezTo>
                      <a:pt x="4325" y="1"/>
                      <a:pt x="4326" y="2"/>
                      <a:pt x="4326" y="3"/>
                    </a:cubicBezTo>
                    <a:cubicBezTo>
                      <a:pt x="4326" y="4"/>
                      <a:pt x="4325" y="5"/>
                      <a:pt x="4324" y="5"/>
                    </a:cubicBezTo>
                    <a:lnTo>
                      <a:pt x="4324" y="5"/>
                    </a:lnTo>
                    <a:cubicBezTo>
                      <a:pt x="4323" y="5"/>
                      <a:pt x="4322" y="4"/>
                      <a:pt x="4322" y="3"/>
                    </a:cubicBezTo>
                    <a:cubicBezTo>
                      <a:pt x="4322" y="2"/>
                      <a:pt x="4323" y="1"/>
                      <a:pt x="4324" y="1"/>
                    </a:cubicBezTo>
                    <a:close/>
                    <a:moveTo>
                      <a:pt x="4332" y="1"/>
                    </a:moveTo>
                    <a:lnTo>
                      <a:pt x="4332" y="1"/>
                    </a:lnTo>
                    <a:cubicBezTo>
                      <a:pt x="4333" y="1"/>
                      <a:pt x="4334" y="2"/>
                      <a:pt x="4334" y="3"/>
                    </a:cubicBezTo>
                    <a:cubicBezTo>
                      <a:pt x="4334" y="4"/>
                      <a:pt x="4333" y="5"/>
                      <a:pt x="4332" y="5"/>
                    </a:cubicBezTo>
                    <a:lnTo>
                      <a:pt x="4332" y="5"/>
                    </a:lnTo>
                    <a:cubicBezTo>
                      <a:pt x="4331" y="5"/>
                      <a:pt x="4330" y="4"/>
                      <a:pt x="4330" y="3"/>
                    </a:cubicBezTo>
                    <a:cubicBezTo>
                      <a:pt x="4330" y="2"/>
                      <a:pt x="4331" y="1"/>
                      <a:pt x="4332" y="1"/>
                    </a:cubicBezTo>
                    <a:close/>
                    <a:moveTo>
                      <a:pt x="4340" y="1"/>
                    </a:moveTo>
                    <a:lnTo>
                      <a:pt x="4340" y="1"/>
                    </a:lnTo>
                    <a:cubicBezTo>
                      <a:pt x="4341" y="1"/>
                      <a:pt x="4342" y="2"/>
                      <a:pt x="4342" y="3"/>
                    </a:cubicBezTo>
                    <a:cubicBezTo>
                      <a:pt x="4342" y="4"/>
                      <a:pt x="4341" y="5"/>
                      <a:pt x="4340" y="5"/>
                    </a:cubicBezTo>
                    <a:lnTo>
                      <a:pt x="4340" y="5"/>
                    </a:lnTo>
                    <a:cubicBezTo>
                      <a:pt x="4339" y="5"/>
                      <a:pt x="4338" y="4"/>
                      <a:pt x="4338" y="3"/>
                    </a:cubicBezTo>
                    <a:cubicBezTo>
                      <a:pt x="4338" y="2"/>
                      <a:pt x="4339" y="1"/>
                      <a:pt x="4340" y="1"/>
                    </a:cubicBezTo>
                    <a:close/>
                    <a:moveTo>
                      <a:pt x="4348" y="1"/>
                    </a:moveTo>
                    <a:lnTo>
                      <a:pt x="4348" y="1"/>
                    </a:lnTo>
                    <a:cubicBezTo>
                      <a:pt x="4349" y="1"/>
                      <a:pt x="4350" y="2"/>
                      <a:pt x="4350" y="3"/>
                    </a:cubicBezTo>
                    <a:cubicBezTo>
                      <a:pt x="4350" y="4"/>
                      <a:pt x="4349" y="5"/>
                      <a:pt x="4348" y="5"/>
                    </a:cubicBezTo>
                    <a:lnTo>
                      <a:pt x="4348" y="5"/>
                    </a:lnTo>
                    <a:cubicBezTo>
                      <a:pt x="4347" y="5"/>
                      <a:pt x="4346" y="4"/>
                      <a:pt x="4346" y="3"/>
                    </a:cubicBezTo>
                    <a:cubicBezTo>
                      <a:pt x="4346" y="2"/>
                      <a:pt x="4347" y="1"/>
                      <a:pt x="4348" y="1"/>
                    </a:cubicBezTo>
                    <a:close/>
                    <a:moveTo>
                      <a:pt x="4356" y="1"/>
                    </a:moveTo>
                    <a:lnTo>
                      <a:pt x="4356" y="1"/>
                    </a:lnTo>
                    <a:cubicBezTo>
                      <a:pt x="4357" y="1"/>
                      <a:pt x="4358" y="2"/>
                      <a:pt x="4358" y="3"/>
                    </a:cubicBezTo>
                    <a:cubicBezTo>
                      <a:pt x="4358" y="4"/>
                      <a:pt x="4357" y="5"/>
                      <a:pt x="4356" y="5"/>
                    </a:cubicBezTo>
                    <a:lnTo>
                      <a:pt x="4356" y="5"/>
                    </a:lnTo>
                    <a:cubicBezTo>
                      <a:pt x="4355" y="5"/>
                      <a:pt x="4354" y="4"/>
                      <a:pt x="4354" y="3"/>
                    </a:cubicBezTo>
                    <a:cubicBezTo>
                      <a:pt x="4354" y="2"/>
                      <a:pt x="4355" y="1"/>
                      <a:pt x="4356" y="1"/>
                    </a:cubicBezTo>
                    <a:close/>
                    <a:moveTo>
                      <a:pt x="4364" y="1"/>
                    </a:moveTo>
                    <a:lnTo>
                      <a:pt x="4364" y="1"/>
                    </a:lnTo>
                    <a:cubicBezTo>
                      <a:pt x="4365" y="1"/>
                      <a:pt x="4366" y="2"/>
                      <a:pt x="4366" y="3"/>
                    </a:cubicBezTo>
                    <a:cubicBezTo>
                      <a:pt x="4366" y="4"/>
                      <a:pt x="4365" y="5"/>
                      <a:pt x="4364" y="5"/>
                    </a:cubicBezTo>
                    <a:lnTo>
                      <a:pt x="4364" y="5"/>
                    </a:lnTo>
                    <a:cubicBezTo>
                      <a:pt x="4363" y="5"/>
                      <a:pt x="4362" y="4"/>
                      <a:pt x="4362" y="3"/>
                    </a:cubicBezTo>
                    <a:cubicBezTo>
                      <a:pt x="4362" y="2"/>
                      <a:pt x="4363" y="1"/>
                      <a:pt x="4364" y="1"/>
                    </a:cubicBezTo>
                    <a:close/>
                    <a:moveTo>
                      <a:pt x="4372" y="1"/>
                    </a:moveTo>
                    <a:lnTo>
                      <a:pt x="4372" y="1"/>
                    </a:lnTo>
                    <a:cubicBezTo>
                      <a:pt x="4373" y="1"/>
                      <a:pt x="4374" y="2"/>
                      <a:pt x="4374" y="3"/>
                    </a:cubicBezTo>
                    <a:cubicBezTo>
                      <a:pt x="4374" y="4"/>
                      <a:pt x="4373" y="5"/>
                      <a:pt x="4372" y="5"/>
                    </a:cubicBezTo>
                    <a:lnTo>
                      <a:pt x="4372" y="5"/>
                    </a:lnTo>
                    <a:cubicBezTo>
                      <a:pt x="4371" y="5"/>
                      <a:pt x="4370" y="4"/>
                      <a:pt x="4370" y="3"/>
                    </a:cubicBezTo>
                    <a:cubicBezTo>
                      <a:pt x="4370" y="2"/>
                      <a:pt x="4371" y="1"/>
                      <a:pt x="4372" y="1"/>
                    </a:cubicBezTo>
                    <a:close/>
                    <a:moveTo>
                      <a:pt x="4380" y="1"/>
                    </a:moveTo>
                    <a:lnTo>
                      <a:pt x="4380" y="1"/>
                    </a:lnTo>
                    <a:cubicBezTo>
                      <a:pt x="4381" y="1"/>
                      <a:pt x="4382" y="2"/>
                      <a:pt x="4382" y="3"/>
                    </a:cubicBezTo>
                    <a:cubicBezTo>
                      <a:pt x="4382" y="4"/>
                      <a:pt x="4381" y="5"/>
                      <a:pt x="4380" y="5"/>
                    </a:cubicBezTo>
                    <a:lnTo>
                      <a:pt x="4380" y="5"/>
                    </a:lnTo>
                    <a:cubicBezTo>
                      <a:pt x="4379" y="5"/>
                      <a:pt x="4378" y="4"/>
                      <a:pt x="4378" y="3"/>
                    </a:cubicBezTo>
                    <a:cubicBezTo>
                      <a:pt x="4378" y="2"/>
                      <a:pt x="4379" y="1"/>
                      <a:pt x="4380" y="1"/>
                    </a:cubicBezTo>
                    <a:close/>
                    <a:moveTo>
                      <a:pt x="4388" y="1"/>
                    </a:moveTo>
                    <a:lnTo>
                      <a:pt x="4388" y="1"/>
                    </a:lnTo>
                    <a:cubicBezTo>
                      <a:pt x="4389" y="1"/>
                      <a:pt x="4390" y="2"/>
                      <a:pt x="4390" y="3"/>
                    </a:cubicBezTo>
                    <a:cubicBezTo>
                      <a:pt x="4390" y="4"/>
                      <a:pt x="4389" y="5"/>
                      <a:pt x="4388" y="5"/>
                    </a:cubicBezTo>
                    <a:lnTo>
                      <a:pt x="4388" y="5"/>
                    </a:lnTo>
                    <a:cubicBezTo>
                      <a:pt x="4387" y="5"/>
                      <a:pt x="4386" y="4"/>
                      <a:pt x="4386" y="3"/>
                    </a:cubicBezTo>
                    <a:cubicBezTo>
                      <a:pt x="4386" y="2"/>
                      <a:pt x="4387" y="1"/>
                      <a:pt x="4388" y="1"/>
                    </a:cubicBezTo>
                    <a:close/>
                    <a:moveTo>
                      <a:pt x="4396" y="1"/>
                    </a:moveTo>
                    <a:lnTo>
                      <a:pt x="4396" y="1"/>
                    </a:lnTo>
                    <a:cubicBezTo>
                      <a:pt x="4397" y="1"/>
                      <a:pt x="4398" y="2"/>
                      <a:pt x="4398" y="3"/>
                    </a:cubicBezTo>
                    <a:cubicBezTo>
                      <a:pt x="4398" y="4"/>
                      <a:pt x="4397" y="5"/>
                      <a:pt x="4396" y="5"/>
                    </a:cubicBezTo>
                    <a:lnTo>
                      <a:pt x="4396" y="5"/>
                    </a:lnTo>
                    <a:cubicBezTo>
                      <a:pt x="4395" y="5"/>
                      <a:pt x="4394" y="4"/>
                      <a:pt x="4394" y="3"/>
                    </a:cubicBezTo>
                    <a:cubicBezTo>
                      <a:pt x="4394" y="2"/>
                      <a:pt x="4395" y="1"/>
                      <a:pt x="4396" y="1"/>
                    </a:cubicBezTo>
                    <a:close/>
                    <a:moveTo>
                      <a:pt x="4404" y="1"/>
                    </a:moveTo>
                    <a:lnTo>
                      <a:pt x="4404" y="1"/>
                    </a:lnTo>
                    <a:cubicBezTo>
                      <a:pt x="4405" y="1"/>
                      <a:pt x="4406" y="2"/>
                      <a:pt x="4406" y="3"/>
                    </a:cubicBezTo>
                    <a:cubicBezTo>
                      <a:pt x="4406" y="4"/>
                      <a:pt x="4405" y="5"/>
                      <a:pt x="4404" y="5"/>
                    </a:cubicBezTo>
                    <a:lnTo>
                      <a:pt x="4404" y="5"/>
                    </a:lnTo>
                    <a:cubicBezTo>
                      <a:pt x="4403" y="5"/>
                      <a:pt x="4402" y="4"/>
                      <a:pt x="4402" y="3"/>
                    </a:cubicBezTo>
                    <a:cubicBezTo>
                      <a:pt x="4402" y="2"/>
                      <a:pt x="4403" y="1"/>
                      <a:pt x="4404" y="1"/>
                    </a:cubicBezTo>
                    <a:close/>
                    <a:moveTo>
                      <a:pt x="4412" y="1"/>
                    </a:moveTo>
                    <a:lnTo>
                      <a:pt x="4412" y="1"/>
                    </a:lnTo>
                    <a:cubicBezTo>
                      <a:pt x="4413" y="1"/>
                      <a:pt x="4414" y="2"/>
                      <a:pt x="4414" y="3"/>
                    </a:cubicBezTo>
                    <a:cubicBezTo>
                      <a:pt x="4414" y="4"/>
                      <a:pt x="4413" y="5"/>
                      <a:pt x="4412" y="5"/>
                    </a:cubicBezTo>
                    <a:lnTo>
                      <a:pt x="4412" y="5"/>
                    </a:lnTo>
                    <a:cubicBezTo>
                      <a:pt x="4411" y="5"/>
                      <a:pt x="4410" y="4"/>
                      <a:pt x="4410" y="3"/>
                    </a:cubicBezTo>
                    <a:cubicBezTo>
                      <a:pt x="4410" y="2"/>
                      <a:pt x="4411" y="1"/>
                      <a:pt x="4412" y="1"/>
                    </a:cubicBezTo>
                    <a:close/>
                    <a:moveTo>
                      <a:pt x="4420" y="1"/>
                    </a:moveTo>
                    <a:lnTo>
                      <a:pt x="4420" y="1"/>
                    </a:lnTo>
                    <a:cubicBezTo>
                      <a:pt x="4421" y="1"/>
                      <a:pt x="4422" y="2"/>
                      <a:pt x="4422" y="3"/>
                    </a:cubicBezTo>
                    <a:cubicBezTo>
                      <a:pt x="4422" y="4"/>
                      <a:pt x="4421" y="5"/>
                      <a:pt x="4420" y="5"/>
                    </a:cubicBezTo>
                    <a:lnTo>
                      <a:pt x="4420" y="5"/>
                    </a:lnTo>
                    <a:cubicBezTo>
                      <a:pt x="4419" y="5"/>
                      <a:pt x="4418" y="4"/>
                      <a:pt x="4418" y="3"/>
                    </a:cubicBezTo>
                    <a:cubicBezTo>
                      <a:pt x="4418" y="2"/>
                      <a:pt x="4419" y="1"/>
                      <a:pt x="4420" y="1"/>
                    </a:cubicBezTo>
                    <a:close/>
                    <a:moveTo>
                      <a:pt x="4428" y="1"/>
                    </a:moveTo>
                    <a:lnTo>
                      <a:pt x="4428" y="1"/>
                    </a:lnTo>
                    <a:cubicBezTo>
                      <a:pt x="4429" y="1"/>
                      <a:pt x="4430" y="2"/>
                      <a:pt x="4430" y="3"/>
                    </a:cubicBezTo>
                    <a:cubicBezTo>
                      <a:pt x="4430" y="4"/>
                      <a:pt x="4429" y="5"/>
                      <a:pt x="4428" y="5"/>
                    </a:cubicBezTo>
                    <a:lnTo>
                      <a:pt x="4428" y="5"/>
                    </a:lnTo>
                    <a:cubicBezTo>
                      <a:pt x="4427" y="5"/>
                      <a:pt x="4426" y="4"/>
                      <a:pt x="4426" y="3"/>
                    </a:cubicBezTo>
                    <a:cubicBezTo>
                      <a:pt x="4426" y="2"/>
                      <a:pt x="4427" y="1"/>
                      <a:pt x="4428" y="1"/>
                    </a:cubicBezTo>
                    <a:close/>
                    <a:moveTo>
                      <a:pt x="4436" y="1"/>
                    </a:moveTo>
                    <a:lnTo>
                      <a:pt x="4436" y="1"/>
                    </a:lnTo>
                    <a:cubicBezTo>
                      <a:pt x="4437" y="1"/>
                      <a:pt x="4438" y="2"/>
                      <a:pt x="4438" y="3"/>
                    </a:cubicBezTo>
                    <a:cubicBezTo>
                      <a:pt x="4438" y="4"/>
                      <a:pt x="4437" y="5"/>
                      <a:pt x="4436" y="5"/>
                    </a:cubicBezTo>
                    <a:lnTo>
                      <a:pt x="4436" y="5"/>
                    </a:lnTo>
                    <a:cubicBezTo>
                      <a:pt x="4435" y="5"/>
                      <a:pt x="4434" y="4"/>
                      <a:pt x="4434" y="3"/>
                    </a:cubicBezTo>
                    <a:cubicBezTo>
                      <a:pt x="4434" y="2"/>
                      <a:pt x="4435" y="1"/>
                      <a:pt x="4436" y="1"/>
                    </a:cubicBezTo>
                    <a:close/>
                    <a:moveTo>
                      <a:pt x="4444" y="1"/>
                    </a:moveTo>
                    <a:lnTo>
                      <a:pt x="4444" y="1"/>
                    </a:lnTo>
                    <a:cubicBezTo>
                      <a:pt x="4445" y="1"/>
                      <a:pt x="4446" y="2"/>
                      <a:pt x="4446" y="3"/>
                    </a:cubicBezTo>
                    <a:cubicBezTo>
                      <a:pt x="4446" y="4"/>
                      <a:pt x="4445" y="5"/>
                      <a:pt x="4444" y="5"/>
                    </a:cubicBezTo>
                    <a:lnTo>
                      <a:pt x="4444" y="5"/>
                    </a:lnTo>
                    <a:cubicBezTo>
                      <a:pt x="4443" y="5"/>
                      <a:pt x="4442" y="4"/>
                      <a:pt x="4442" y="3"/>
                    </a:cubicBezTo>
                    <a:cubicBezTo>
                      <a:pt x="4442" y="2"/>
                      <a:pt x="4443" y="1"/>
                      <a:pt x="4444" y="1"/>
                    </a:cubicBezTo>
                    <a:close/>
                    <a:moveTo>
                      <a:pt x="4452" y="1"/>
                    </a:moveTo>
                    <a:lnTo>
                      <a:pt x="4452" y="1"/>
                    </a:lnTo>
                    <a:cubicBezTo>
                      <a:pt x="4453" y="1"/>
                      <a:pt x="4454" y="2"/>
                      <a:pt x="4454" y="3"/>
                    </a:cubicBezTo>
                    <a:cubicBezTo>
                      <a:pt x="4454" y="4"/>
                      <a:pt x="4453" y="5"/>
                      <a:pt x="4452" y="5"/>
                    </a:cubicBezTo>
                    <a:lnTo>
                      <a:pt x="4452" y="5"/>
                    </a:lnTo>
                    <a:cubicBezTo>
                      <a:pt x="4451" y="5"/>
                      <a:pt x="4450" y="4"/>
                      <a:pt x="4450" y="3"/>
                    </a:cubicBezTo>
                    <a:cubicBezTo>
                      <a:pt x="4450" y="2"/>
                      <a:pt x="4451" y="1"/>
                      <a:pt x="4452" y="1"/>
                    </a:cubicBezTo>
                    <a:close/>
                    <a:moveTo>
                      <a:pt x="4460" y="1"/>
                    </a:moveTo>
                    <a:lnTo>
                      <a:pt x="4460" y="1"/>
                    </a:lnTo>
                    <a:cubicBezTo>
                      <a:pt x="4461" y="1"/>
                      <a:pt x="4462" y="2"/>
                      <a:pt x="4462" y="3"/>
                    </a:cubicBezTo>
                    <a:cubicBezTo>
                      <a:pt x="4462" y="4"/>
                      <a:pt x="4461" y="5"/>
                      <a:pt x="4460" y="5"/>
                    </a:cubicBezTo>
                    <a:lnTo>
                      <a:pt x="4460" y="5"/>
                    </a:lnTo>
                    <a:cubicBezTo>
                      <a:pt x="4459" y="5"/>
                      <a:pt x="4458" y="4"/>
                      <a:pt x="4458" y="3"/>
                    </a:cubicBezTo>
                    <a:cubicBezTo>
                      <a:pt x="4458" y="2"/>
                      <a:pt x="4459" y="1"/>
                      <a:pt x="4460" y="1"/>
                    </a:cubicBezTo>
                    <a:close/>
                    <a:moveTo>
                      <a:pt x="4468" y="1"/>
                    </a:moveTo>
                    <a:lnTo>
                      <a:pt x="4468" y="1"/>
                    </a:lnTo>
                    <a:cubicBezTo>
                      <a:pt x="4469" y="1"/>
                      <a:pt x="4470" y="2"/>
                      <a:pt x="4470" y="3"/>
                    </a:cubicBezTo>
                    <a:cubicBezTo>
                      <a:pt x="4470" y="4"/>
                      <a:pt x="4469" y="5"/>
                      <a:pt x="4468" y="5"/>
                    </a:cubicBezTo>
                    <a:lnTo>
                      <a:pt x="4468" y="5"/>
                    </a:lnTo>
                    <a:cubicBezTo>
                      <a:pt x="4467" y="5"/>
                      <a:pt x="4466" y="4"/>
                      <a:pt x="4466" y="3"/>
                    </a:cubicBezTo>
                    <a:cubicBezTo>
                      <a:pt x="4466" y="2"/>
                      <a:pt x="4467" y="1"/>
                      <a:pt x="4468" y="1"/>
                    </a:cubicBezTo>
                    <a:close/>
                    <a:moveTo>
                      <a:pt x="4476" y="1"/>
                    </a:moveTo>
                    <a:lnTo>
                      <a:pt x="4476" y="1"/>
                    </a:lnTo>
                    <a:cubicBezTo>
                      <a:pt x="4477" y="1"/>
                      <a:pt x="4478" y="2"/>
                      <a:pt x="4478" y="3"/>
                    </a:cubicBezTo>
                    <a:cubicBezTo>
                      <a:pt x="4478" y="4"/>
                      <a:pt x="4477" y="5"/>
                      <a:pt x="4476" y="5"/>
                    </a:cubicBezTo>
                    <a:lnTo>
                      <a:pt x="4476" y="5"/>
                    </a:lnTo>
                    <a:cubicBezTo>
                      <a:pt x="4475" y="5"/>
                      <a:pt x="4474" y="4"/>
                      <a:pt x="4474" y="3"/>
                    </a:cubicBezTo>
                    <a:cubicBezTo>
                      <a:pt x="4474" y="2"/>
                      <a:pt x="4475" y="1"/>
                      <a:pt x="4476" y="1"/>
                    </a:cubicBezTo>
                    <a:close/>
                    <a:moveTo>
                      <a:pt x="4484" y="1"/>
                    </a:moveTo>
                    <a:lnTo>
                      <a:pt x="4484" y="1"/>
                    </a:lnTo>
                    <a:cubicBezTo>
                      <a:pt x="4485" y="1"/>
                      <a:pt x="4486" y="2"/>
                      <a:pt x="4486" y="3"/>
                    </a:cubicBezTo>
                    <a:cubicBezTo>
                      <a:pt x="4486" y="4"/>
                      <a:pt x="4485" y="5"/>
                      <a:pt x="4484" y="5"/>
                    </a:cubicBezTo>
                    <a:lnTo>
                      <a:pt x="4484" y="5"/>
                    </a:lnTo>
                    <a:cubicBezTo>
                      <a:pt x="4483" y="5"/>
                      <a:pt x="4482" y="4"/>
                      <a:pt x="4482" y="3"/>
                    </a:cubicBezTo>
                    <a:cubicBezTo>
                      <a:pt x="4482" y="2"/>
                      <a:pt x="4483" y="1"/>
                      <a:pt x="4484" y="1"/>
                    </a:cubicBezTo>
                    <a:close/>
                    <a:moveTo>
                      <a:pt x="4492" y="1"/>
                    </a:moveTo>
                    <a:lnTo>
                      <a:pt x="4492" y="1"/>
                    </a:lnTo>
                    <a:cubicBezTo>
                      <a:pt x="4493" y="1"/>
                      <a:pt x="4494" y="2"/>
                      <a:pt x="4494" y="3"/>
                    </a:cubicBezTo>
                    <a:cubicBezTo>
                      <a:pt x="4494" y="4"/>
                      <a:pt x="4493" y="5"/>
                      <a:pt x="4492" y="5"/>
                    </a:cubicBezTo>
                    <a:lnTo>
                      <a:pt x="4492" y="5"/>
                    </a:lnTo>
                    <a:cubicBezTo>
                      <a:pt x="4491" y="5"/>
                      <a:pt x="4490" y="4"/>
                      <a:pt x="4490" y="3"/>
                    </a:cubicBezTo>
                    <a:cubicBezTo>
                      <a:pt x="4490" y="2"/>
                      <a:pt x="4491" y="1"/>
                      <a:pt x="4492" y="1"/>
                    </a:cubicBezTo>
                    <a:close/>
                    <a:moveTo>
                      <a:pt x="4500" y="1"/>
                    </a:moveTo>
                    <a:lnTo>
                      <a:pt x="4500" y="1"/>
                    </a:lnTo>
                    <a:cubicBezTo>
                      <a:pt x="4501" y="1"/>
                      <a:pt x="4502" y="2"/>
                      <a:pt x="4502" y="3"/>
                    </a:cubicBezTo>
                    <a:cubicBezTo>
                      <a:pt x="4502" y="4"/>
                      <a:pt x="4501" y="5"/>
                      <a:pt x="4500" y="5"/>
                    </a:cubicBezTo>
                    <a:lnTo>
                      <a:pt x="4500" y="5"/>
                    </a:lnTo>
                    <a:cubicBezTo>
                      <a:pt x="4499" y="5"/>
                      <a:pt x="4498" y="4"/>
                      <a:pt x="4498" y="3"/>
                    </a:cubicBezTo>
                    <a:cubicBezTo>
                      <a:pt x="4498" y="2"/>
                      <a:pt x="4499" y="1"/>
                      <a:pt x="4500" y="1"/>
                    </a:cubicBezTo>
                    <a:close/>
                    <a:moveTo>
                      <a:pt x="4508" y="1"/>
                    </a:moveTo>
                    <a:lnTo>
                      <a:pt x="4508" y="1"/>
                    </a:lnTo>
                    <a:cubicBezTo>
                      <a:pt x="4509" y="1"/>
                      <a:pt x="4510" y="2"/>
                      <a:pt x="4510" y="3"/>
                    </a:cubicBezTo>
                    <a:cubicBezTo>
                      <a:pt x="4510" y="4"/>
                      <a:pt x="4509" y="5"/>
                      <a:pt x="4508" y="5"/>
                    </a:cubicBezTo>
                    <a:lnTo>
                      <a:pt x="4508" y="5"/>
                    </a:lnTo>
                    <a:cubicBezTo>
                      <a:pt x="4507" y="5"/>
                      <a:pt x="4506" y="4"/>
                      <a:pt x="4506" y="3"/>
                    </a:cubicBezTo>
                    <a:cubicBezTo>
                      <a:pt x="4506" y="2"/>
                      <a:pt x="4507" y="1"/>
                      <a:pt x="4508" y="1"/>
                    </a:cubicBezTo>
                    <a:close/>
                    <a:moveTo>
                      <a:pt x="4516" y="1"/>
                    </a:moveTo>
                    <a:lnTo>
                      <a:pt x="4516" y="1"/>
                    </a:lnTo>
                    <a:cubicBezTo>
                      <a:pt x="4517" y="1"/>
                      <a:pt x="4518" y="2"/>
                      <a:pt x="4518" y="3"/>
                    </a:cubicBezTo>
                    <a:cubicBezTo>
                      <a:pt x="4518" y="4"/>
                      <a:pt x="4517" y="5"/>
                      <a:pt x="4516" y="5"/>
                    </a:cubicBezTo>
                    <a:lnTo>
                      <a:pt x="4516" y="5"/>
                    </a:lnTo>
                    <a:cubicBezTo>
                      <a:pt x="4515" y="5"/>
                      <a:pt x="4514" y="4"/>
                      <a:pt x="4514" y="3"/>
                    </a:cubicBezTo>
                    <a:cubicBezTo>
                      <a:pt x="4514" y="2"/>
                      <a:pt x="4515" y="1"/>
                      <a:pt x="4516" y="1"/>
                    </a:cubicBezTo>
                    <a:close/>
                    <a:moveTo>
                      <a:pt x="4524" y="1"/>
                    </a:moveTo>
                    <a:lnTo>
                      <a:pt x="4524" y="1"/>
                    </a:lnTo>
                    <a:cubicBezTo>
                      <a:pt x="4525" y="1"/>
                      <a:pt x="4526" y="2"/>
                      <a:pt x="4526" y="3"/>
                    </a:cubicBezTo>
                    <a:cubicBezTo>
                      <a:pt x="4526" y="4"/>
                      <a:pt x="4525" y="5"/>
                      <a:pt x="4524" y="5"/>
                    </a:cubicBezTo>
                    <a:lnTo>
                      <a:pt x="4524" y="5"/>
                    </a:lnTo>
                    <a:cubicBezTo>
                      <a:pt x="4523" y="5"/>
                      <a:pt x="4522" y="4"/>
                      <a:pt x="4522" y="3"/>
                    </a:cubicBezTo>
                    <a:cubicBezTo>
                      <a:pt x="4522" y="2"/>
                      <a:pt x="4523" y="1"/>
                      <a:pt x="4524" y="1"/>
                    </a:cubicBezTo>
                    <a:close/>
                    <a:moveTo>
                      <a:pt x="4532" y="1"/>
                    </a:moveTo>
                    <a:lnTo>
                      <a:pt x="4532" y="1"/>
                    </a:lnTo>
                    <a:cubicBezTo>
                      <a:pt x="4533" y="1"/>
                      <a:pt x="4534" y="2"/>
                      <a:pt x="4534" y="3"/>
                    </a:cubicBezTo>
                    <a:cubicBezTo>
                      <a:pt x="4534" y="4"/>
                      <a:pt x="4533" y="5"/>
                      <a:pt x="4532" y="5"/>
                    </a:cubicBezTo>
                    <a:lnTo>
                      <a:pt x="4532" y="5"/>
                    </a:lnTo>
                    <a:cubicBezTo>
                      <a:pt x="4531" y="5"/>
                      <a:pt x="4530" y="4"/>
                      <a:pt x="4530" y="3"/>
                    </a:cubicBezTo>
                    <a:cubicBezTo>
                      <a:pt x="4530" y="2"/>
                      <a:pt x="4531" y="1"/>
                      <a:pt x="4532" y="1"/>
                    </a:cubicBezTo>
                    <a:close/>
                    <a:moveTo>
                      <a:pt x="4540" y="1"/>
                    </a:moveTo>
                    <a:lnTo>
                      <a:pt x="4540" y="1"/>
                    </a:lnTo>
                    <a:cubicBezTo>
                      <a:pt x="4541" y="1"/>
                      <a:pt x="4542" y="2"/>
                      <a:pt x="4542" y="3"/>
                    </a:cubicBezTo>
                    <a:cubicBezTo>
                      <a:pt x="4542" y="4"/>
                      <a:pt x="4541" y="5"/>
                      <a:pt x="4540" y="5"/>
                    </a:cubicBezTo>
                    <a:lnTo>
                      <a:pt x="4540" y="5"/>
                    </a:lnTo>
                    <a:cubicBezTo>
                      <a:pt x="4539" y="5"/>
                      <a:pt x="4538" y="4"/>
                      <a:pt x="4538" y="3"/>
                    </a:cubicBezTo>
                    <a:cubicBezTo>
                      <a:pt x="4538" y="2"/>
                      <a:pt x="4539" y="1"/>
                      <a:pt x="4540" y="1"/>
                    </a:cubicBezTo>
                    <a:close/>
                    <a:moveTo>
                      <a:pt x="4548" y="1"/>
                    </a:moveTo>
                    <a:lnTo>
                      <a:pt x="4548" y="1"/>
                    </a:lnTo>
                    <a:cubicBezTo>
                      <a:pt x="4549" y="1"/>
                      <a:pt x="4550" y="2"/>
                      <a:pt x="4550" y="3"/>
                    </a:cubicBezTo>
                    <a:cubicBezTo>
                      <a:pt x="4550" y="4"/>
                      <a:pt x="4549" y="5"/>
                      <a:pt x="4548" y="5"/>
                    </a:cubicBezTo>
                    <a:lnTo>
                      <a:pt x="4548" y="5"/>
                    </a:lnTo>
                    <a:cubicBezTo>
                      <a:pt x="4547" y="5"/>
                      <a:pt x="4546" y="4"/>
                      <a:pt x="4546" y="3"/>
                    </a:cubicBezTo>
                    <a:cubicBezTo>
                      <a:pt x="4546" y="2"/>
                      <a:pt x="4547" y="1"/>
                      <a:pt x="4548" y="1"/>
                    </a:cubicBezTo>
                    <a:close/>
                    <a:moveTo>
                      <a:pt x="4556" y="1"/>
                    </a:moveTo>
                    <a:lnTo>
                      <a:pt x="4556" y="1"/>
                    </a:lnTo>
                    <a:cubicBezTo>
                      <a:pt x="4557" y="1"/>
                      <a:pt x="4558" y="2"/>
                      <a:pt x="4558" y="3"/>
                    </a:cubicBezTo>
                    <a:cubicBezTo>
                      <a:pt x="4558" y="4"/>
                      <a:pt x="4557" y="5"/>
                      <a:pt x="4556" y="5"/>
                    </a:cubicBezTo>
                    <a:lnTo>
                      <a:pt x="4556" y="5"/>
                    </a:lnTo>
                    <a:cubicBezTo>
                      <a:pt x="4555" y="5"/>
                      <a:pt x="4554" y="4"/>
                      <a:pt x="4554" y="3"/>
                    </a:cubicBezTo>
                    <a:cubicBezTo>
                      <a:pt x="4554" y="2"/>
                      <a:pt x="4555" y="1"/>
                      <a:pt x="4556" y="1"/>
                    </a:cubicBezTo>
                    <a:close/>
                    <a:moveTo>
                      <a:pt x="4564" y="1"/>
                    </a:moveTo>
                    <a:lnTo>
                      <a:pt x="4564" y="1"/>
                    </a:lnTo>
                    <a:cubicBezTo>
                      <a:pt x="4565" y="1"/>
                      <a:pt x="4566" y="2"/>
                      <a:pt x="4566" y="3"/>
                    </a:cubicBezTo>
                    <a:cubicBezTo>
                      <a:pt x="4566" y="4"/>
                      <a:pt x="4565" y="5"/>
                      <a:pt x="4564" y="5"/>
                    </a:cubicBezTo>
                    <a:lnTo>
                      <a:pt x="4564" y="5"/>
                    </a:lnTo>
                    <a:cubicBezTo>
                      <a:pt x="4563" y="5"/>
                      <a:pt x="4562" y="4"/>
                      <a:pt x="4562" y="3"/>
                    </a:cubicBezTo>
                    <a:cubicBezTo>
                      <a:pt x="4562" y="2"/>
                      <a:pt x="4563" y="1"/>
                      <a:pt x="4564" y="1"/>
                    </a:cubicBezTo>
                    <a:close/>
                    <a:moveTo>
                      <a:pt x="4572" y="1"/>
                    </a:moveTo>
                    <a:lnTo>
                      <a:pt x="4572" y="1"/>
                    </a:lnTo>
                    <a:cubicBezTo>
                      <a:pt x="4573" y="1"/>
                      <a:pt x="4574" y="2"/>
                      <a:pt x="4574" y="3"/>
                    </a:cubicBezTo>
                    <a:cubicBezTo>
                      <a:pt x="4574" y="4"/>
                      <a:pt x="4573" y="5"/>
                      <a:pt x="4572" y="5"/>
                    </a:cubicBezTo>
                    <a:lnTo>
                      <a:pt x="4572" y="5"/>
                    </a:lnTo>
                    <a:cubicBezTo>
                      <a:pt x="4571" y="5"/>
                      <a:pt x="4570" y="4"/>
                      <a:pt x="4570" y="3"/>
                    </a:cubicBezTo>
                    <a:cubicBezTo>
                      <a:pt x="4570" y="2"/>
                      <a:pt x="4571" y="1"/>
                      <a:pt x="4572" y="1"/>
                    </a:cubicBezTo>
                    <a:close/>
                    <a:moveTo>
                      <a:pt x="4580" y="1"/>
                    </a:moveTo>
                    <a:lnTo>
                      <a:pt x="4580" y="1"/>
                    </a:lnTo>
                    <a:cubicBezTo>
                      <a:pt x="4581" y="1"/>
                      <a:pt x="4582" y="2"/>
                      <a:pt x="4582" y="3"/>
                    </a:cubicBezTo>
                    <a:cubicBezTo>
                      <a:pt x="4582" y="4"/>
                      <a:pt x="4581" y="5"/>
                      <a:pt x="4580" y="5"/>
                    </a:cubicBezTo>
                    <a:lnTo>
                      <a:pt x="4580" y="5"/>
                    </a:lnTo>
                    <a:cubicBezTo>
                      <a:pt x="4579" y="5"/>
                      <a:pt x="4578" y="4"/>
                      <a:pt x="4578" y="3"/>
                    </a:cubicBezTo>
                    <a:cubicBezTo>
                      <a:pt x="4578" y="2"/>
                      <a:pt x="4579" y="1"/>
                      <a:pt x="4580" y="1"/>
                    </a:cubicBezTo>
                    <a:close/>
                    <a:moveTo>
                      <a:pt x="4588" y="1"/>
                    </a:moveTo>
                    <a:lnTo>
                      <a:pt x="4588" y="1"/>
                    </a:lnTo>
                    <a:cubicBezTo>
                      <a:pt x="4589" y="1"/>
                      <a:pt x="4590" y="2"/>
                      <a:pt x="4590" y="3"/>
                    </a:cubicBezTo>
                    <a:cubicBezTo>
                      <a:pt x="4590" y="4"/>
                      <a:pt x="4589" y="5"/>
                      <a:pt x="4588" y="5"/>
                    </a:cubicBezTo>
                    <a:lnTo>
                      <a:pt x="4588" y="5"/>
                    </a:lnTo>
                    <a:cubicBezTo>
                      <a:pt x="4587" y="5"/>
                      <a:pt x="4586" y="4"/>
                      <a:pt x="4586" y="3"/>
                    </a:cubicBezTo>
                    <a:cubicBezTo>
                      <a:pt x="4586" y="2"/>
                      <a:pt x="4587" y="1"/>
                      <a:pt x="4588" y="1"/>
                    </a:cubicBezTo>
                    <a:close/>
                    <a:moveTo>
                      <a:pt x="4596" y="1"/>
                    </a:moveTo>
                    <a:lnTo>
                      <a:pt x="4596" y="1"/>
                    </a:lnTo>
                    <a:cubicBezTo>
                      <a:pt x="4597" y="1"/>
                      <a:pt x="4598" y="2"/>
                      <a:pt x="4598" y="3"/>
                    </a:cubicBezTo>
                    <a:cubicBezTo>
                      <a:pt x="4598" y="4"/>
                      <a:pt x="4597" y="5"/>
                      <a:pt x="4596" y="5"/>
                    </a:cubicBezTo>
                    <a:lnTo>
                      <a:pt x="4596" y="5"/>
                    </a:lnTo>
                    <a:cubicBezTo>
                      <a:pt x="4595" y="5"/>
                      <a:pt x="4594" y="4"/>
                      <a:pt x="4594" y="3"/>
                    </a:cubicBezTo>
                    <a:cubicBezTo>
                      <a:pt x="4594" y="2"/>
                      <a:pt x="4595" y="1"/>
                      <a:pt x="4596" y="1"/>
                    </a:cubicBezTo>
                    <a:close/>
                    <a:moveTo>
                      <a:pt x="4604" y="1"/>
                    </a:moveTo>
                    <a:lnTo>
                      <a:pt x="4604" y="1"/>
                    </a:lnTo>
                    <a:cubicBezTo>
                      <a:pt x="4605" y="1"/>
                      <a:pt x="4606" y="2"/>
                      <a:pt x="4606" y="3"/>
                    </a:cubicBezTo>
                    <a:cubicBezTo>
                      <a:pt x="4606" y="4"/>
                      <a:pt x="4605" y="5"/>
                      <a:pt x="4604" y="5"/>
                    </a:cubicBezTo>
                    <a:lnTo>
                      <a:pt x="4604" y="5"/>
                    </a:lnTo>
                    <a:cubicBezTo>
                      <a:pt x="4603" y="5"/>
                      <a:pt x="4602" y="4"/>
                      <a:pt x="4602" y="3"/>
                    </a:cubicBezTo>
                    <a:cubicBezTo>
                      <a:pt x="4602" y="2"/>
                      <a:pt x="4603" y="1"/>
                      <a:pt x="4604" y="1"/>
                    </a:cubicBezTo>
                    <a:close/>
                    <a:moveTo>
                      <a:pt x="4612" y="1"/>
                    </a:moveTo>
                    <a:lnTo>
                      <a:pt x="4612" y="1"/>
                    </a:lnTo>
                    <a:cubicBezTo>
                      <a:pt x="4613" y="1"/>
                      <a:pt x="4614" y="2"/>
                      <a:pt x="4614" y="3"/>
                    </a:cubicBezTo>
                    <a:cubicBezTo>
                      <a:pt x="4614" y="4"/>
                      <a:pt x="4613" y="5"/>
                      <a:pt x="4612" y="5"/>
                    </a:cubicBezTo>
                    <a:lnTo>
                      <a:pt x="4612" y="5"/>
                    </a:lnTo>
                    <a:cubicBezTo>
                      <a:pt x="4611" y="5"/>
                      <a:pt x="4610" y="4"/>
                      <a:pt x="4610" y="3"/>
                    </a:cubicBezTo>
                    <a:cubicBezTo>
                      <a:pt x="4610" y="2"/>
                      <a:pt x="4611" y="1"/>
                      <a:pt x="4612" y="1"/>
                    </a:cubicBezTo>
                    <a:close/>
                    <a:moveTo>
                      <a:pt x="4620" y="1"/>
                    </a:moveTo>
                    <a:lnTo>
                      <a:pt x="4620" y="1"/>
                    </a:lnTo>
                    <a:cubicBezTo>
                      <a:pt x="4621" y="1"/>
                      <a:pt x="4622" y="2"/>
                      <a:pt x="4622" y="3"/>
                    </a:cubicBezTo>
                    <a:cubicBezTo>
                      <a:pt x="4622" y="4"/>
                      <a:pt x="4621" y="5"/>
                      <a:pt x="4620" y="5"/>
                    </a:cubicBezTo>
                    <a:lnTo>
                      <a:pt x="4620" y="5"/>
                    </a:lnTo>
                    <a:cubicBezTo>
                      <a:pt x="4619" y="5"/>
                      <a:pt x="4618" y="4"/>
                      <a:pt x="4618" y="3"/>
                    </a:cubicBezTo>
                    <a:cubicBezTo>
                      <a:pt x="4618" y="2"/>
                      <a:pt x="4619" y="1"/>
                      <a:pt x="4620" y="1"/>
                    </a:cubicBezTo>
                    <a:close/>
                    <a:moveTo>
                      <a:pt x="4628" y="1"/>
                    </a:moveTo>
                    <a:lnTo>
                      <a:pt x="4628" y="1"/>
                    </a:lnTo>
                    <a:cubicBezTo>
                      <a:pt x="4629" y="1"/>
                      <a:pt x="4630" y="2"/>
                      <a:pt x="4630" y="3"/>
                    </a:cubicBezTo>
                    <a:cubicBezTo>
                      <a:pt x="4630" y="4"/>
                      <a:pt x="4629" y="5"/>
                      <a:pt x="4628" y="5"/>
                    </a:cubicBezTo>
                    <a:lnTo>
                      <a:pt x="4628" y="5"/>
                    </a:lnTo>
                    <a:cubicBezTo>
                      <a:pt x="4627" y="5"/>
                      <a:pt x="4626" y="4"/>
                      <a:pt x="4626" y="3"/>
                    </a:cubicBezTo>
                    <a:cubicBezTo>
                      <a:pt x="4626" y="2"/>
                      <a:pt x="4627" y="1"/>
                      <a:pt x="4628" y="1"/>
                    </a:cubicBezTo>
                    <a:close/>
                    <a:moveTo>
                      <a:pt x="4636" y="1"/>
                    </a:moveTo>
                    <a:lnTo>
                      <a:pt x="4636" y="1"/>
                    </a:lnTo>
                    <a:cubicBezTo>
                      <a:pt x="4637" y="1"/>
                      <a:pt x="4638" y="2"/>
                      <a:pt x="4638" y="3"/>
                    </a:cubicBezTo>
                    <a:cubicBezTo>
                      <a:pt x="4638" y="4"/>
                      <a:pt x="4637" y="5"/>
                      <a:pt x="4636" y="5"/>
                    </a:cubicBezTo>
                    <a:lnTo>
                      <a:pt x="4636" y="5"/>
                    </a:lnTo>
                    <a:cubicBezTo>
                      <a:pt x="4635" y="5"/>
                      <a:pt x="4634" y="4"/>
                      <a:pt x="4634" y="3"/>
                    </a:cubicBezTo>
                    <a:cubicBezTo>
                      <a:pt x="4634" y="2"/>
                      <a:pt x="4635" y="1"/>
                      <a:pt x="4636" y="1"/>
                    </a:cubicBezTo>
                    <a:close/>
                    <a:moveTo>
                      <a:pt x="4644" y="1"/>
                    </a:moveTo>
                    <a:lnTo>
                      <a:pt x="4644" y="1"/>
                    </a:lnTo>
                    <a:cubicBezTo>
                      <a:pt x="4645" y="1"/>
                      <a:pt x="4646" y="2"/>
                      <a:pt x="4646" y="3"/>
                    </a:cubicBezTo>
                    <a:cubicBezTo>
                      <a:pt x="4646" y="4"/>
                      <a:pt x="4645" y="5"/>
                      <a:pt x="4644" y="5"/>
                    </a:cubicBezTo>
                    <a:lnTo>
                      <a:pt x="4644" y="5"/>
                    </a:lnTo>
                    <a:cubicBezTo>
                      <a:pt x="4643" y="5"/>
                      <a:pt x="4642" y="4"/>
                      <a:pt x="4642" y="3"/>
                    </a:cubicBezTo>
                    <a:cubicBezTo>
                      <a:pt x="4642" y="2"/>
                      <a:pt x="4643" y="1"/>
                      <a:pt x="4644" y="1"/>
                    </a:cubicBezTo>
                    <a:close/>
                    <a:moveTo>
                      <a:pt x="4652" y="1"/>
                    </a:moveTo>
                    <a:lnTo>
                      <a:pt x="4652" y="1"/>
                    </a:lnTo>
                    <a:cubicBezTo>
                      <a:pt x="4653" y="1"/>
                      <a:pt x="4654" y="2"/>
                      <a:pt x="4654" y="3"/>
                    </a:cubicBezTo>
                    <a:cubicBezTo>
                      <a:pt x="4654" y="4"/>
                      <a:pt x="4653" y="5"/>
                      <a:pt x="4652" y="5"/>
                    </a:cubicBezTo>
                    <a:lnTo>
                      <a:pt x="4652" y="5"/>
                    </a:lnTo>
                    <a:cubicBezTo>
                      <a:pt x="4651" y="5"/>
                      <a:pt x="4650" y="4"/>
                      <a:pt x="4650" y="3"/>
                    </a:cubicBezTo>
                    <a:cubicBezTo>
                      <a:pt x="4650" y="2"/>
                      <a:pt x="4651" y="1"/>
                      <a:pt x="4652" y="1"/>
                    </a:cubicBezTo>
                    <a:close/>
                    <a:moveTo>
                      <a:pt x="4660" y="1"/>
                    </a:moveTo>
                    <a:lnTo>
                      <a:pt x="4660" y="1"/>
                    </a:lnTo>
                    <a:cubicBezTo>
                      <a:pt x="4661" y="1"/>
                      <a:pt x="4662" y="2"/>
                      <a:pt x="4662" y="3"/>
                    </a:cubicBezTo>
                    <a:cubicBezTo>
                      <a:pt x="4662" y="4"/>
                      <a:pt x="4661" y="5"/>
                      <a:pt x="4660" y="5"/>
                    </a:cubicBezTo>
                    <a:lnTo>
                      <a:pt x="4660" y="5"/>
                    </a:lnTo>
                    <a:cubicBezTo>
                      <a:pt x="4659" y="5"/>
                      <a:pt x="4658" y="4"/>
                      <a:pt x="4658" y="3"/>
                    </a:cubicBezTo>
                    <a:cubicBezTo>
                      <a:pt x="4658" y="2"/>
                      <a:pt x="4659" y="1"/>
                      <a:pt x="4660" y="1"/>
                    </a:cubicBezTo>
                    <a:close/>
                    <a:moveTo>
                      <a:pt x="4668" y="1"/>
                    </a:moveTo>
                    <a:lnTo>
                      <a:pt x="4668" y="1"/>
                    </a:lnTo>
                    <a:cubicBezTo>
                      <a:pt x="4669" y="1"/>
                      <a:pt x="4670" y="2"/>
                      <a:pt x="4670" y="3"/>
                    </a:cubicBezTo>
                    <a:cubicBezTo>
                      <a:pt x="4670" y="4"/>
                      <a:pt x="4669" y="5"/>
                      <a:pt x="4668" y="5"/>
                    </a:cubicBezTo>
                    <a:lnTo>
                      <a:pt x="4668" y="5"/>
                    </a:lnTo>
                    <a:cubicBezTo>
                      <a:pt x="4667" y="5"/>
                      <a:pt x="4666" y="4"/>
                      <a:pt x="4666" y="3"/>
                    </a:cubicBezTo>
                    <a:cubicBezTo>
                      <a:pt x="4666" y="2"/>
                      <a:pt x="4667" y="1"/>
                      <a:pt x="4668" y="1"/>
                    </a:cubicBezTo>
                    <a:close/>
                    <a:moveTo>
                      <a:pt x="4676" y="1"/>
                    </a:moveTo>
                    <a:lnTo>
                      <a:pt x="4676" y="1"/>
                    </a:lnTo>
                    <a:cubicBezTo>
                      <a:pt x="4677" y="1"/>
                      <a:pt x="4678" y="2"/>
                      <a:pt x="4678" y="3"/>
                    </a:cubicBezTo>
                    <a:cubicBezTo>
                      <a:pt x="4678" y="4"/>
                      <a:pt x="4677" y="5"/>
                      <a:pt x="4676" y="5"/>
                    </a:cubicBezTo>
                    <a:lnTo>
                      <a:pt x="4676" y="5"/>
                    </a:lnTo>
                    <a:cubicBezTo>
                      <a:pt x="4675" y="5"/>
                      <a:pt x="4674" y="4"/>
                      <a:pt x="4674" y="3"/>
                    </a:cubicBezTo>
                    <a:cubicBezTo>
                      <a:pt x="4674" y="2"/>
                      <a:pt x="4675" y="1"/>
                      <a:pt x="4676" y="1"/>
                    </a:cubicBezTo>
                    <a:close/>
                    <a:moveTo>
                      <a:pt x="4684" y="1"/>
                    </a:moveTo>
                    <a:lnTo>
                      <a:pt x="4684" y="1"/>
                    </a:lnTo>
                    <a:cubicBezTo>
                      <a:pt x="4685" y="1"/>
                      <a:pt x="4686" y="2"/>
                      <a:pt x="4686" y="3"/>
                    </a:cubicBezTo>
                    <a:cubicBezTo>
                      <a:pt x="4686" y="4"/>
                      <a:pt x="4685" y="5"/>
                      <a:pt x="4684" y="5"/>
                    </a:cubicBezTo>
                    <a:lnTo>
                      <a:pt x="4684" y="5"/>
                    </a:lnTo>
                    <a:cubicBezTo>
                      <a:pt x="4683" y="5"/>
                      <a:pt x="4682" y="4"/>
                      <a:pt x="4682" y="3"/>
                    </a:cubicBezTo>
                    <a:cubicBezTo>
                      <a:pt x="4682" y="2"/>
                      <a:pt x="4683" y="1"/>
                      <a:pt x="4684" y="1"/>
                    </a:cubicBezTo>
                    <a:close/>
                    <a:moveTo>
                      <a:pt x="4692" y="1"/>
                    </a:moveTo>
                    <a:lnTo>
                      <a:pt x="4692" y="1"/>
                    </a:lnTo>
                    <a:cubicBezTo>
                      <a:pt x="4693" y="1"/>
                      <a:pt x="4694" y="2"/>
                      <a:pt x="4694" y="3"/>
                    </a:cubicBezTo>
                    <a:cubicBezTo>
                      <a:pt x="4694" y="4"/>
                      <a:pt x="4693" y="5"/>
                      <a:pt x="4692" y="5"/>
                    </a:cubicBezTo>
                    <a:lnTo>
                      <a:pt x="4692" y="5"/>
                    </a:lnTo>
                    <a:cubicBezTo>
                      <a:pt x="4691" y="5"/>
                      <a:pt x="4690" y="4"/>
                      <a:pt x="4690" y="3"/>
                    </a:cubicBezTo>
                    <a:cubicBezTo>
                      <a:pt x="4690" y="2"/>
                      <a:pt x="4691" y="1"/>
                      <a:pt x="4692" y="1"/>
                    </a:cubicBezTo>
                    <a:close/>
                    <a:moveTo>
                      <a:pt x="4700" y="1"/>
                    </a:moveTo>
                    <a:lnTo>
                      <a:pt x="4700" y="1"/>
                    </a:lnTo>
                    <a:cubicBezTo>
                      <a:pt x="4701" y="1"/>
                      <a:pt x="4702" y="2"/>
                      <a:pt x="4702" y="3"/>
                    </a:cubicBezTo>
                    <a:cubicBezTo>
                      <a:pt x="4702" y="4"/>
                      <a:pt x="4701" y="5"/>
                      <a:pt x="4700" y="5"/>
                    </a:cubicBezTo>
                    <a:lnTo>
                      <a:pt x="4700" y="5"/>
                    </a:lnTo>
                    <a:cubicBezTo>
                      <a:pt x="4699" y="5"/>
                      <a:pt x="4698" y="4"/>
                      <a:pt x="4698" y="3"/>
                    </a:cubicBezTo>
                    <a:cubicBezTo>
                      <a:pt x="4698" y="2"/>
                      <a:pt x="4699" y="1"/>
                      <a:pt x="4700" y="1"/>
                    </a:cubicBezTo>
                    <a:close/>
                    <a:moveTo>
                      <a:pt x="4708" y="1"/>
                    </a:moveTo>
                    <a:lnTo>
                      <a:pt x="4708" y="1"/>
                    </a:lnTo>
                    <a:cubicBezTo>
                      <a:pt x="4709" y="1"/>
                      <a:pt x="4710" y="2"/>
                      <a:pt x="4710" y="3"/>
                    </a:cubicBezTo>
                    <a:cubicBezTo>
                      <a:pt x="4710" y="4"/>
                      <a:pt x="4709" y="5"/>
                      <a:pt x="4708" y="5"/>
                    </a:cubicBezTo>
                    <a:lnTo>
                      <a:pt x="4708" y="5"/>
                    </a:lnTo>
                    <a:cubicBezTo>
                      <a:pt x="4707" y="5"/>
                      <a:pt x="4706" y="4"/>
                      <a:pt x="4706" y="3"/>
                    </a:cubicBezTo>
                    <a:cubicBezTo>
                      <a:pt x="4706" y="2"/>
                      <a:pt x="4707" y="1"/>
                      <a:pt x="4708" y="1"/>
                    </a:cubicBezTo>
                    <a:close/>
                    <a:moveTo>
                      <a:pt x="4716" y="1"/>
                    </a:moveTo>
                    <a:lnTo>
                      <a:pt x="4716" y="1"/>
                    </a:lnTo>
                    <a:cubicBezTo>
                      <a:pt x="4717" y="1"/>
                      <a:pt x="4718" y="2"/>
                      <a:pt x="4718" y="3"/>
                    </a:cubicBezTo>
                    <a:cubicBezTo>
                      <a:pt x="4718" y="4"/>
                      <a:pt x="4717" y="5"/>
                      <a:pt x="4716" y="5"/>
                    </a:cubicBezTo>
                    <a:lnTo>
                      <a:pt x="4716" y="5"/>
                    </a:lnTo>
                    <a:cubicBezTo>
                      <a:pt x="4715" y="5"/>
                      <a:pt x="4714" y="4"/>
                      <a:pt x="4714" y="3"/>
                    </a:cubicBezTo>
                    <a:cubicBezTo>
                      <a:pt x="4714" y="2"/>
                      <a:pt x="4715" y="1"/>
                      <a:pt x="4716" y="1"/>
                    </a:cubicBezTo>
                    <a:close/>
                    <a:moveTo>
                      <a:pt x="4724" y="1"/>
                    </a:moveTo>
                    <a:lnTo>
                      <a:pt x="4724" y="1"/>
                    </a:lnTo>
                    <a:cubicBezTo>
                      <a:pt x="4725" y="1"/>
                      <a:pt x="4726" y="2"/>
                      <a:pt x="4726" y="3"/>
                    </a:cubicBezTo>
                    <a:cubicBezTo>
                      <a:pt x="4726" y="4"/>
                      <a:pt x="4725" y="5"/>
                      <a:pt x="4724" y="5"/>
                    </a:cubicBezTo>
                    <a:lnTo>
                      <a:pt x="4724" y="5"/>
                    </a:lnTo>
                    <a:cubicBezTo>
                      <a:pt x="4723" y="5"/>
                      <a:pt x="4722" y="4"/>
                      <a:pt x="4722" y="3"/>
                    </a:cubicBezTo>
                    <a:cubicBezTo>
                      <a:pt x="4722" y="2"/>
                      <a:pt x="4723" y="1"/>
                      <a:pt x="4724" y="1"/>
                    </a:cubicBezTo>
                    <a:close/>
                    <a:moveTo>
                      <a:pt x="4732" y="1"/>
                    </a:moveTo>
                    <a:lnTo>
                      <a:pt x="4732" y="1"/>
                    </a:lnTo>
                    <a:cubicBezTo>
                      <a:pt x="4733" y="1"/>
                      <a:pt x="4734" y="2"/>
                      <a:pt x="4734" y="3"/>
                    </a:cubicBezTo>
                    <a:cubicBezTo>
                      <a:pt x="4734" y="4"/>
                      <a:pt x="4733" y="5"/>
                      <a:pt x="4732" y="5"/>
                    </a:cubicBezTo>
                    <a:lnTo>
                      <a:pt x="4732" y="5"/>
                    </a:lnTo>
                    <a:cubicBezTo>
                      <a:pt x="4731" y="5"/>
                      <a:pt x="4730" y="4"/>
                      <a:pt x="4730" y="3"/>
                    </a:cubicBezTo>
                    <a:cubicBezTo>
                      <a:pt x="4730" y="2"/>
                      <a:pt x="4731" y="1"/>
                      <a:pt x="4732" y="1"/>
                    </a:cubicBezTo>
                    <a:close/>
                    <a:moveTo>
                      <a:pt x="4740" y="1"/>
                    </a:moveTo>
                    <a:lnTo>
                      <a:pt x="4740" y="1"/>
                    </a:lnTo>
                    <a:cubicBezTo>
                      <a:pt x="4741" y="1"/>
                      <a:pt x="4742" y="2"/>
                      <a:pt x="4742" y="3"/>
                    </a:cubicBezTo>
                    <a:cubicBezTo>
                      <a:pt x="4742" y="4"/>
                      <a:pt x="4741" y="5"/>
                      <a:pt x="4740" y="5"/>
                    </a:cubicBezTo>
                    <a:lnTo>
                      <a:pt x="4740" y="5"/>
                    </a:lnTo>
                    <a:cubicBezTo>
                      <a:pt x="4739" y="5"/>
                      <a:pt x="4738" y="4"/>
                      <a:pt x="4738" y="3"/>
                    </a:cubicBezTo>
                    <a:cubicBezTo>
                      <a:pt x="4738" y="2"/>
                      <a:pt x="4739" y="1"/>
                      <a:pt x="4740" y="1"/>
                    </a:cubicBezTo>
                    <a:close/>
                    <a:moveTo>
                      <a:pt x="4748" y="1"/>
                    </a:moveTo>
                    <a:lnTo>
                      <a:pt x="4748" y="1"/>
                    </a:lnTo>
                    <a:cubicBezTo>
                      <a:pt x="4749" y="1"/>
                      <a:pt x="4750" y="2"/>
                      <a:pt x="4750" y="3"/>
                    </a:cubicBezTo>
                    <a:cubicBezTo>
                      <a:pt x="4750" y="4"/>
                      <a:pt x="4749" y="5"/>
                      <a:pt x="4748" y="5"/>
                    </a:cubicBezTo>
                    <a:lnTo>
                      <a:pt x="4748" y="5"/>
                    </a:lnTo>
                    <a:cubicBezTo>
                      <a:pt x="4747" y="5"/>
                      <a:pt x="4746" y="4"/>
                      <a:pt x="4746" y="3"/>
                    </a:cubicBezTo>
                    <a:cubicBezTo>
                      <a:pt x="4746" y="2"/>
                      <a:pt x="4747" y="1"/>
                      <a:pt x="4748" y="1"/>
                    </a:cubicBezTo>
                    <a:close/>
                    <a:moveTo>
                      <a:pt x="4756" y="1"/>
                    </a:moveTo>
                    <a:lnTo>
                      <a:pt x="4756" y="1"/>
                    </a:lnTo>
                    <a:cubicBezTo>
                      <a:pt x="4757" y="1"/>
                      <a:pt x="4758" y="2"/>
                      <a:pt x="4758" y="3"/>
                    </a:cubicBezTo>
                    <a:cubicBezTo>
                      <a:pt x="4758" y="4"/>
                      <a:pt x="4757" y="5"/>
                      <a:pt x="4756" y="5"/>
                    </a:cubicBezTo>
                    <a:lnTo>
                      <a:pt x="4756" y="5"/>
                    </a:lnTo>
                    <a:cubicBezTo>
                      <a:pt x="4755" y="5"/>
                      <a:pt x="4754" y="4"/>
                      <a:pt x="4754" y="3"/>
                    </a:cubicBezTo>
                    <a:cubicBezTo>
                      <a:pt x="4754" y="2"/>
                      <a:pt x="4755" y="1"/>
                      <a:pt x="4756" y="1"/>
                    </a:cubicBezTo>
                    <a:close/>
                    <a:moveTo>
                      <a:pt x="4764" y="1"/>
                    </a:moveTo>
                    <a:lnTo>
                      <a:pt x="4764" y="1"/>
                    </a:lnTo>
                    <a:cubicBezTo>
                      <a:pt x="4765" y="1"/>
                      <a:pt x="4766" y="2"/>
                      <a:pt x="4766" y="3"/>
                    </a:cubicBezTo>
                    <a:cubicBezTo>
                      <a:pt x="4766" y="4"/>
                      <a:pt x="4765" y="5"/>
                      <a:pt x="4764" y="5"/>
                    </a:cubicBezTo>
                    <a:lnTo>
                      <a:pt x="4764" y="5"/>
                    </a:lnTo>
                    <a:cubicBezTo>
                      <a:pt x="4763" y="5"/>
                      <a:pt x="4762" y="4"/>
                      <a:pt x="4762" y="3"/>
                    </a:cubicBezTo>
                    <a:cubicBezTo>
                      <a:pt x="4762" y="2"/>
                      <a:pt x="4763" y="1"/>
                      <a:pt x="4764" y="1"/>
                    </a:cubicBezTo>
                    <a:close/>
                    <a:moveTo>
                      <a:pt x="4772" y="1"/>
                    </a:moveTo>
                    <a:lnTo>
                      <a:pt x="4772" y="1"/>
                    </a:lnTo>
                    <a:cubicBezTo>
                      <a:pt x="4773" y="1"/>
                      <a:pt x="4774" y="2"/>
                      <a:pt x="4774" y="3"/>
                    </a:cubicBezTo>
                    <a:cubicBezTo>
                      <a:pt x="4774" y="4"/>
                      <a:pt x="4773" y="5"/>
                      <a:pt x="4772" y="5"/>
                    </a:cubicBezTo>
                    <a:lnTo>
                      <a:pt x="4772" y="5"/>
                    </a:lnTo>
                    <a:cubicBezTo>
                      <a:pt x="4771" y="5"/>
                      <a:pt x="4770" y="4"/>
                      <a:pt x="4770" y="3"/>
                    </a:cubicBezTo>
                    <a:cubicBezTo>
                      <a:pt x="4770" y="2"/>
                      <a:pt x="4771" y="1"/>
                      <a:pt x="4772" y="1"/>
                    </a:cubicBezTo>
                    <a:close/>
                    <a:moveTo>
                      <a:pt x="4780" y="1"/>
                    </a:moveTo>
                    <a:lnTo>
                      <a:pt x="4780" y="1"/>
                    </a:lnTo>
                    <a:cubicBezTo>
                      <a:pt x="4781" y="1"/>
                      <a:pt x="4782" y="2"/>
                      <a:pt x="4782" y="3"/>
                    </a:cubicBezTo>
                    <a:cubicBezTo>
                      <a:pt x="4782" y="4"/>
                      <a:pt x="4781" y="5"/>
                      <a:pt x="4780" y="5"/>
                    </a:cubicBezTo>
                    <a:lnTo>
                      <a:pt x="4780" y="5"/>
                    </a:lnTo>
                    <a:cubicBezTo>
                      <a:pt x="4779" y="5"/>
                      <a:pt x="4778" y="4"/>
                      <a:pt x="4778" y="3"/>
                    </a:cubicBezTo>
                    <a:cubicBezTo>
                      <a:pt x="4778" y="2"/>
                      <a:pt x="4779" y="1"/>
                      <a:pt x="4780" y="1"/>
                    </a:cubicBezTo>
                    <a:close/>
                    <a:moveTo>
                      <a:pt x="4788" y="1"/>
                    </a:moveTo>
                    <a:lnTo>
                      <a:pt x="4788" y="1"/>
                    </a:lnTo>
                    <a:cubicBezTo>
                      <a:pt x="4789" y="1"/>
                      <a:pt x="4790" y="2"/>
                      <a:pt x="4790" y="3"/>
                    </a:cubicBezTo>
                    <a:cubicBezTo>
                      <a:pt x="4790" y="4"/>
                      <a:pt x="4789" y="5"/>
                      <a:pt x="4788" y="5"/>
                    </a:cubicBezTo>
                    <a:lnTo>
                      <a:pt x="4788" y="5"/>
                    </a:lnTo>
                    <a:cubicBezTo>
                      <a:pt x="4787" y="5"/>
                      <a:pt x="4786" y="4"/>
                      <a:pt x="4786" y="3"/>
                    </a:cubicBezTo>
                    <a:cubicBezTo>
                      <a:pt x="4786" y="2"/>
                      <a:pt x="4787" y="1"/>
                      <a:pt x="4788" y="1"/>
                    </a:cubicBezTo>
                    <a:close/>
                    <a:moveTo>
                      <a:pt x="4796" y="1"/>
                    </a:moveTo>
                    <a:lnTo>
                      <a:pt x="4796" y="1"/>
                    </a:lnTo>
                    <a:cubicBezTo>
                      <a:pt x="4797" y="1"/>
                      <a:pt x="4798" y="2"/>
                      <a:pt x="4798" y="3"/>
                    </a:cubicBezTo>
                    <a:cubicBezTo>
                      <a:pt x="4798" y="4"/>
                      <a:pt x="4797" y="5"/>
                      <a:pt x="4796" y="5"/>
                    </a:cubicBezTo>
                    <a:lnTo>
                      <a:pt x="4796" y="5"/>
                    </a:lnTo>
                    <a:cubicBezTo>
                      <a:pt x="4795" y="5"/>
                      <a:pt x="4794" y="4"/>
                      <a:pt x="4794" y="3"/>
                    </a:cubicBezTo>
                    <a:cubicBezTo>
                      <a:pt x="4794" y="2"/>
                      <a:pt x="4795" y="1"/>
                      <a:pt x="4796" y="1"/>
                    </a:cubicBezTo>
                    <a:close/>
                    <a:moveTo>
                      <a:pt x="4804" y="1"/>
                    </a:moveTo>
                    <a:lnTo>
                      <a:pt x="4804" y="1"/>
                    </a:lnTo>
                    <a:cubicBezTo>
                      <a:pt x="4805" y="1"/>
                      <a:pt x="4806" y="2"/>
                      <a:pt x="4806" y="3"/>
                    </a:cubicBezTo>
                    <a:cubicBezTo>
                      <a:pt x="4806" y="4"/>
                      <a:pt x="4805" y="5"/>
                      <a:pt x="4804" y="5"/>
                    </a:cubicBezTo>
                    <a:lnTo>
                      <a:pt x="4804" y="5"/>
                    </a:lnTo>
                    <a:cubicBezTo>
                      <a:pt x="4803" y="5"/>
                      <a:pt x="4802" y="4"/>
                      <a:pt x="4802" y="3"/>
                    </a:cubicBezTo>
                    <a:cubicBezTo>
                      <a:pt x="4802" y="2"/>
                      <a:pt x="4803" y="1"/>
                      <a:pt x="4804" y="1"/>
                    </a:cubicBezTo>
                    <a:close/>
                    <a:moveTo>
                      <a:pt x="4812" y="1"/>
                    </a:moveTo>
                    <a:lnTo>
                      <a:pt x="4812" y="1"/>
                    </a:lnTo>
                    <a:cubicBezTo>
                      <a:pt x="4813" y="1"/>
                      <a:pt x="4814" y="2"/>
                      <a:pt x="4814" y="3"/>
                    </a:cubicBezTo>
                    <a:cubicBezTo>
                      <a:pt x="4814" y="4"/>
                      <a:pt x="4813" y="5"/>
                      <a:pt x="4812" y="5"/>
                    </a:cubicBezTo>
                    <a:lnTo>
                      <a:pt x="4812" y="5"/>
                    </a:lnTo>
                    <a:cubicBezTo>
                      <a:pt x="4811" y="5"/>
                      <a:pt x="4810" y="4"/>
                      <a:pt x="4810" y="3"/>
                    </a:cubicBezTo>
                    <a:cubicBezTo>
                      <a:pt x="4810" y="2"/>
                      <a:pt x="4811" y="1"/>
                      <a:pt x="4812" y="1"/>
                    </a:cubicBezTo>
                    <a:close/>
                    <a:moveTo>
                      <a:pt x="4820" y="1"/>
                    </a:moveTo>
                    <a:lnTo>
                      <a:pt x="4820" y="1"/>
                    </a:lnTo>
                    <a:cubicBezTo>
                      <a:pt x="4821" y="1"/>
                      <a:pt x="4822" y="2"/>
                      <a:pt x="4822" y="3"/>
                    </a:cubicBezTo>
                    <a:cubicBezTo>
                      <a:pt x="4822" y="4"/>
                      <a:pt x="4821" y="5"/>
                      <a:pt x="4820" y="5"/>
                    </a:cubicBezTo>
                    <a:lnTo>
                      <a:pt x="4820" y="5"/>
                    </a:lnTo>
                    <a:cubicBezTo>
                      <a:pt x="4819" y="5"/>
                      <a:pt x="4818" y="4"/>
                      <a:pt x="4818" y="3"/>
                    </a:cubicBezTo>
                    <a:cubicBezTo>
                      <a:pt x="4818" y="2"/>
                      <a:pt x="4819" y="1"/>
                      <a:pt x="4820" y="1"/>
                    </a:cubicBezTo>
                    <a:close/>
                    <a:moveTo>
                      <a:pt x="4828" y="1"/>
                    </a:moveTo>
                    <a:lnTo>
                      <a:pt x="4828" y="1"/>
                    </a:lnTo>
                    <a:cubicBezTo>
                      <a:pt x="4829" y="1"/>
                      <a:pt x="4830" y="2"/>
                      <a:pt x="4830" y="3"/>
                    </a:cubicBezTo>
                    <a:cubicBezTo>
                      <a:pt x="4830" y="4"/>
                      <a:pt x="4829" y="5"/>
                      <a:pt x="4828" y="5"/>
                    </a:cubicBezTo>
                    <a:lnTo>
                      <a:pt x="4828" y="5"/>
                    </a:lnTo>
                    <a:cubicBezTo>
                      <a:pt x="4827" y="5"/>
                      <a:pt x="4826" y="4"/>
                      <a:pt x="4826" y="3"/>
                    </a:cubicBezTo>
                    <a:cubicBezTo>
                      <a:pt x="4826" y="2"/>
                      <a:pt x="4827" y="1"/>
                      <a:pt x="4828" y="1"/>
                    </a:cubicBezTo>
                    <a:close/>
                    <a:moveTo>
                      <a:pt x="4836" y="1"/>
                    </a:moveTo>
                    <a:lnTo>
                      <a:pt x="4836" y="1"/>
                    </a:lnTo>
                    <a:cubicBezTo>
                      <a:pt x="4837" y="1"/>
                      <a:pt x="4838" y="2"/>
                      <a:pt x="4838" y="3"/>
                    </a:cubicBezTo>
                    <a:cubicBezTo>
                      <a:pt x="4838" y="4"/>
                      <a:pt x="4837" y="5"/>
                      <a:pt x="4836" y="5"/>
                    </a:cubicBezTo>
                    <a:lnTo>
                      <a:pt x="4836" y="5"/>
                    </a:lnTo>
                    <a:cubicBezTo>
                      <a:pt x="4835" y="5"/>
                      <a:pt x="4834" y="4"/>
                      <a:pt x="4834" y="3"/>
                    </a:cubicBezTo>
                    <a:cubicBezTo>
                      <a:pt x="4834" y="2"/>
                      <a:pt x="4835" y="1"/>
                      <a:pt x="4836" y="1"/>
                    </a:cubicBezTo>
                    <a:close/>
                    <a:moveTo>
                      <a:pt x="4844" y="1"/>
                    </a:moveTo>
                    <a:lnTo>
                      <a:pt x="4844" y="1"/>
                    </a:lnTo>
                    <a:cubicBezTo>
                      <a:pt x="4845" y="1"/>
                      <a:pt x="4846" y="2"/>
                      <a:pt x="4846" y="3"/>
                    </a:cubicBezTo>
                    <a:cubicBezTo>
                      <a:pt x="4846" y="4"/>
                      <a:pt x="4845" y="5"/>
                      <a:pt x="4844" y="5"/>
                    </a:cubicBezTo>
                    <a:lnTo>
                      <a:pt x="4844" y="5"/>
                    </a:lnTo>
                    <a:cubicBezTo>
                      <a:pt x="4843" y="5"/>
                      <a:pt x="4842" y="4"/>
                      <a:pt x="4842" y="3"/>
                    </a:cubicBezTo>
                    <a:cubicBezTo>
                      <a:pt x="4842" y="2"/>
                      <a:pt x="4843" y="1"/>
                      <a:pt x="4844" y="1"/>
                    </a:cubicBezTo>
                    <a:close/>
                    <a:moveTo>
                      <a:pt x="4852" y="1"/>
                    </a:moveTo>
                    <a:lnTo>
                      <a:pt x="4852" y="1"/>
                    </a:lnTo>
                    <a:cubicBezTo>
                      <a:pt x="4853" y="1"/>
                      <a:pt x="4854" y="2"/>
                      <a:pt x="4854" y="3"/>
                    </a:cubicBezTo>
                    <a:cubicBezTo>
                      <a:pt x="4854" y="4"/>
                      <a:pt x="4853" y="5"/>
                      <a:pt x="4852" y="5"/>
                    </a:cubicBezTo>
                    <a:lnTo>
                      <a:pt x="4852" y="5"/>
                    </a:lnTo>
                    <a:cubicBezTo>
                      <a:pt x="4851" y="5"/>
                      <a:pt x="4850" y="4"/>
                      <a:pt x="4850" y="3"/>
                    </a:cubicBezTo>
                    <a:cubicBezTo>
                      <a:pt x="4850" y="2"/>
                      <a:pt x="4851" y="1"/>
                      <a:pt x="4852" y="1"/>
                    </a:cubicBezTo>
                    <a:close/>
                    <a:moveTo>
                      <a:pt x="4860" y="1"/>
                    </a:moveTo>
                    <a:lnTo>
                      <a:pt x="4860" y="1"/>
                    </a:lnTo>
                    <a:cubicBezTo>
                      <a:pt x="4861" y="1"/>
                      <a:pt x="4862" y="2"/>
                      <a:pt x="4862" y="3"/>
                    </a:cubicBezTo>
                    <a:cubicBezTo>
                      <a:pt x="4862" y="4"/>
                      <a:pt x="4861" y="5"/>
                      <a:pt x="4860" y="5"/>
                    </a:cubicBezTo>
                    <a:lnTo>
                      <a:pt x="4860" y="5"/>
                    </a:lnTo>
                    <a:cubicBezTo>
                      <a:pt x="4859" y="5"/>
                      <a:pt x="4858" y="4"/>
                      <a:pt x="4858" y="3"/>
                    </a:cubicBezTo>
                    <a:cubicBezTo>
                      <a:pt x="4858" y="2"/>
                      <a:pt x="4859" y="1"/>
                      <a:pt x="4860" y="1"/>
                    </a:cubicBezTo>
                    <a:close/>
                    <a:moveTo>
                      <a:pt x="4868" y="1"/>
                    </a:moveTo>
                    <a:lnTo>
                      <a:pt x="4868" y="1"/>
                    </a:lnTo>
                    <a:cubicBezTo>
                      <a:pt x="4869" y="1"/>
                      <a:pt x="4870" y="2"/>
                      <a:pt x="4870" y="3"/>
                    </a:cubicBezTo>
                    <a:cubicBezTo>
                      <a:pt x="4870" y="4"/>
                      <a:pt x="4869" y="5"/>
                      <a:pt x="4868" y="5"/>
                    </a:cubicBezTo>
                    <a:lnTo>
                      <a:pt x="4868" y="5"/>
                    </a:lnTo>
                    <a:cubicBezTo>
                      <a:pt x="4867" y="5"/>
                      <a:pt x="4866" y="4"/>
                      <a:pt x="4866" y="3"/>
                    </a:cubicBezTo>
                    <a:cubicBezTo>
                      <a:pt x="4866" y="2"/>
                      <a:pt x="4867" y="1"/>
                      <a:pt x="4868" y="1"/>
                    </a:cubicBezTo>
                    <a:close/>
                    <a:moveTo>
                      <a:pt x="4876" y="1"/>
                    </a:moveTo>
                    <a:lnTo>
                      <a:pt x="4876" y="1"/>
                    </a:lnTo>
                    <a:cubicBezTo>
                      <a:pt x="4877" y="1"/>
                      <a:pt x="4878" y="2"/>
                      <a:pt x="4878" y="3"/>
                    </a:cubicBezTo>
                    <a:cubicBezTo>
                      <a:pt x="4878" y="4"/>
                      <a:pt x="4877" y="5"/>
                      <a:pt x="4876" y="5"/>
                    </a:cubicBezTo>
                    <a:lnTo>
                      <a:pt x="4876" y="5"/>
                    </a:lnTo>
                    <a:cubicBezTo>
                      <a:pt x="4875" y="5"/>
                      <a:pt x="4874" y="4"/>
                      <a:pt x="4874" y="3"/>
                    </a:cubicBezTo>
                    <a:cubicBezTo>
                      <a:pt x="4874" y="2"/>
                      <a:pt x="4875" y="1"/>
                      <a:pt x="4876" y="1"/>
                    </a:cubicBezTo>
                    <a:close/>
                    <a:moveTo>
                      <a:pt x="4884" y="1"/>
                    </a:moveTo>
                    <a:lnTo>
                      <a:pt x="4884" y="1"/>
                    </a:lnTo>
                    <a:cubicBezTo>
                      <a:pt x="4885" y="1"/>
                      <a:pt x="4886" y="2"/>
                      <a:pt x="4886" y="3"/>
                    </a:cubicBezTo>
                    <a:cubicBezTo>
                      <a:pt x="4886" y="4"/>
                      <a:pt x="4885" y="5"/>
                      <a:pt x="4884" y="5"/>
                    </a:cubicBezTo>
                    <a:lnTo>
                      <a:pt x="4884" y="5"/>
                    </a:lnTo>
                    <a:cubicBezTo>
                      <a:pt x="4883" y="5"/>
                      <a:pt x="4882" y="4"/>
                      <a:pt x="4882" y="3"/>
                    </a:cubicBezTo>
                    <a:cubicBezTo>
                      <a:pt x="4882" y="2"/>
                      <a:pt x="4883" y="1"/>
                      <a:pt x="4884" y="1"/>
                    </a:cubicBezTo>
                    <a:close/>
                    <a:moveTo>
                      <a:pt x="4892" y="1"/>
                    </a:moveTo>
                    <a:lnTo>
                      <a:pt x="4892" y="1"/>
                    </a:lnTo>
                    <a:cubicBezTo>
                      <a:pt x="4893" y="1"/>
                      <a:pt x="4894" y="2"/>
                      <a:pt x="4894" y="3"/>
                    </a:cubicBezTo>
                    <a:cubicBezTo>
                      <a:pt x="4894" y="4"/>
                      <a:pt x="4893" y="5"/>
                      <a:pt x="4892" y="5"/>
                    </a:cubicBezTo>
                    <a:lnTo>
                      <a:pt x="4892" y="5"/>
                    </a:lnTo>
                    <a:cubicBezTo>
                      <a:pt x="4891" y="5"/>
                      <a:pt x="4890" y="4"/>
                      <a:pt x="4890" y="3"/>
                    </a:cubicBezTo>
                    <a:cubicBezTo>
                      <a:pt x="4890" y="2"/>
                      <a:pt x="4891" y="1"/>
                      <a:pt x="4892" y="1"/>
                    </a:cubicBezTo>
                    <a:close/>
                    <a:moveTo>
                      <a:pt x="4900" y="1"/>
                    </a:moveTo>
                    <a:lnTo>
                      <a:pt x="4900" y="1"/>
                    </a:lnTo>
                    <a:cubicBezTo>
                      <a:pt x="4901" y="1"/>
                      <a:pt x="4902" y="2"/>
                      <a:pt x="4902" y="3"/>
                    </a:cubicBezTo>
                    <a:cubicBezTo>
                      <a:pt x="4902" y="4"/>
                      <a:pt x="4901" y="5"/>
                      <a:pt x="4900" y="5"/>
                    </a:cubicBezTo>
                    <a:lnTo>
                      <a:pt x="4900" y="5"/>
                    </a:lnTo>
                    <a:cubicBezTo>
                      <a:pt x="4899" y="5"/>
                      <a:pt x="4898" y="4"/>
                      <a:pt x="4898" y="3"/>
                    </a:cubicBezTo>
                    <a:cubicBezTo>
                      <a:pt x="4898" y="2"/>
                      <a:pt x="4899" y="1"/>
                      <a:pt x="4900" y="1"/>
                    </a:cubicBezTo>
                    <a:close/>
                    <a:moveTo>
                      <a:pt x="4908" y="1"/>
                    </a:moveTo>
                    <a:lnTo>
                      <a:pt x="4908" y="1"/>
                    </a:lnTo>
                    <a:cubicBezTo>
                      <a:pt x="4909" y="1"/>
                      <a:pt x="4910" y="2"/>
                      <a:pt x="4910" y="3"/>
                    </a:cubicBezTo>
                    <a:cubicBezTo>
                      <a:pt x="4910" y="4"/>
                      <a:pt x="4909" y="5"/>
                      <a:pt x="4908" y="5"/>
                    </a:cubicBezTo>
                    <a:lnTo>
                      <a:pt x="4908" y="5"/>
                    </a:lnTo>
                    <a:cubicBezTo>
                      <a:pt x="4907" y="5"/>
                      <a:pt x="4906" y="4"/>
                      <a:pt x="4906" y="3"/>
                    </a:cubicBezTo>
                    <a:cubicBezTo>
                      <a:pt x="4906" y="2"/>
                      <a:pt x="4907" y="1"/>
                      <a:pt x="4908" y="1"/>
                    </a:cubicBezTo>
                    <a:close/>
                    <a:moveTo>
                      <a:pt x="4916" y="1"/>
                    </a:moveTo>
                    <a:lnTo>
                      <a:pt x="4916" y="1"/>
                    </a:lnTo>
                    <a:cubicBezTo>
                      <a:pt x="4917" y="1"/>
                      <a:pt x="4918" y="2"/>
                      <a:pt x="4918" y="3"/>
                    </a:cubicBezTo>
                    <a:cubicBezTo>
                      <a:pt x="4918" y="4"/>
                      <a:pt x="4917" y="5"/>
                      <a:pt x="4916" y="5"/>
                    </a:cubicBezTo>
                    <a:lnTo>
                      <a:pt x="4916" y="5"/>
                    </a:lnTo>
                    <a:cubicBezTo>
                      <a:pt x="4915" y="5"/>
                      <a:pt x="4914" y="4"/>
                      <a:pt x="4914" y="3"/>
                    </a:cubicBezTo>
                    <a:cubicBezTo>
                      <a:pt x="4914" y="2"/>
                      <a:pt x="4915" y="1"/>
                      <a:pt x="4916" y="1"/>
                    </a:cubicBezTo>
                    <a:close/>
                    <a:moveTo>
                      <a:pt x="4924" y="1"/>
                    </a:moveTo>
                    <a:lnTo>
                      <a:pt x="4924" y="1"/>
                    </a:lnTo>
                    <a:cubicBezTo>
                      <a:pt x="4925" y="1"/>
                      <a:pt x="4926" y="2"/>
                      <a:pt x="4926" y="3"/>
                    </a:cubicBezTo>
                    <a:cubicBezTo>
                      <a:pt x="4926" y="4"/>
                      <a:pt x="4925" y="5"/>
                      <a:pt x="4924" y="5"/>
                    </a:cubicBezTo>
                    <a:lnTo>
                      <a:pt x="4924" y="5"/>
                    </a:lnTo>
                    <a:cubicBezTo>
                      <a:pt x="4923" y="5"/>
                      <a:pt x="4922" y="4"/>
                      <a:pt x="4922" y="3"/>
                    </a:cubicBezTo>
                    <a:cubicBezTo>
                      <a:pt x="4922" y="2"/>
                      <a:pt x="4923" y="1"/>
                      <a:pt x="4924" y="1"/>
                    </a:cubicBezTo>
                    <a:close/>
                    <a:moveTo>
                      <a:pt x="4932" y="1"/>
                    </a:moveTo>
                    <a:lnTo>
                      <a:pt x="4932" y="1"/>
                    </a:lnTo>
                    <a:cubicBezTo>
                      <a:pt x="4933" y="1"/>
                      <a:pt x="4934" y="2"/>
                      <a:pt x="4934" y="3"/>
                    </a:cubicBezTo>
                    <a:cubicBezTo>
                      <a:pt x="4934" y="4"/>
                      <a:pt x="4933" y="5"/>
                      <a:pt x="4932" y="5"/>
                    </a:cubicBezTo>
                    <a:lnTo>
                      <a:pt x="4932" y="5"/>
                    </a:lnTo>
                    <a:cubicBezTo>
                      <a:pt x="4931" y="5"/>
                      <a:pt x="4930" y="4"/>
                      <a:pt x="4930" y="3"/>
                    </a:cubicBezTo>
                    <a:cubicBezTo>
                      <a:pt x="4930" y="2"/>
                      <a:pt x="4931" y="1"/>
                      <a:pt x="4932" y="1"/>
                    </a:cubicBezTo>
                    <a:close/>
                    <a:moveTo>
                      <a:pt x="4940" y="1"/>
                    </a:moveTo>
                    <a:lnTo>
                      <a:pt x="4940" y="1"/>
                    </a:lnTo>
                    <a:cubicBezTo>
                      <a:pt x="4941" y="1"/>
                      <a:pt x="4942" y="2"/>
                      <a:pt x="4942" y="3"/>
                    </a:cubicBezTo>
                    <a:cubicBezTo>
                      <a:pt x="4942" y="4"/>
                      <a:pt x="4941" y="5"/>
                      <a:pt x="4940" y="5"/>
                    </a:cubicBezTo>
                    <a:lnTo>
                      <a:pt x="4940" y="5"/>
                    </a:lnTo>
                    <a:cubicBezTo>
                      <a:pt x="4939" y="5"/>
                      <a:pt x="4938" y="4"/>
                      <a:pt x="4938" y="3"/>
                    </a:cubicBezTo>
                    <a:cubicBezTo>
                      <a:pt x="4938" y="2"/>
                      <a:pt x="4939" y="1"/>
                      <a:pt x="4940" y="1"/>
                    </a:cubicBezTo>
                    <a:close/>
                    <a:moveTo>
                      <a:pt x="4948" y="1"/>
                    </a:moveTo>
                    <a:lnTo>
                      <a:pt x="4948" y="1"/>
                    </a:lnTo>
                    <a:cubicBezTo>
                      <a:pt x="4949" y="1"/>
                      <a:pt x="4950" y="2"/>
                      <a:pt x="4950" y="3"/>
                    </a:cubicBezTo>
                    <a:cubicBezTo>
                      <a:pt x="4950" y="4"/>
                      <a:pt x="4949" y="5"/>
                      <a:pt x="4948" y="5"/>
                    </a:cubicBezTo>
                    <a:lnTo>
                      <a:pt x="4948" y="5"/>
                    </a:lnTo>
                    <a:cubicBezTo>
                      <a:pt x="4947" y="5"/>
                      <a:pt x="4946" y="4"/>
                      <a:pt x="4946" y="3"/>
                    </a:cubicBezTo>
                    <a:cubicBezTo>
                      <a:pt x="4946" y="2"/>
                      <a:pt x="4947" y="1"/>
                      <a:pt x="4948" y="1"/>
                    </a:cubicBezTo>
                    <a:close/>
                    <a:moveTo>
                      <a:pt x="4956" y="1"/>
                    </a:moveTo>
                    <a:lnTo>
                      <a:pt x="4956" y="1"/>
                    </a:lnTo>
                    <a:cubicBezTo>
                      <a:pt x="4957" y="1"/>
                      <a:pt x="4958" y="2"/>
                      <a:pt x="4958" y="3"/>
                    </a:cubicBezTo>
                    <a:cubicBezTo>
                      <a:pt x="4958" y="4"/>
                      <a:pt x="4957" y="5"/>
                      <a:pt x="4956" y="5"/>
                    </a:cubicBezTo>
                    <a:lnTo>
                      <a:pt x="4956" y="5"/>
                    </a:lnTo>
                    <a:cubicBezTo>
                      <a:pt x="4955" y="5"/>
                      <a:pt x="4954" y="4"/>
                      <a:pt x="4954" y="3"/>
                    </a:cubicBezTo>
                    <a:cubicBezTo>
                      <a:pt x="4954" y="2"/>
                      <a:pt x="4955" y="1"/>
                      <a:pt x="4956" y="1"/>
                    </a:cubicBezTo>
                    <a:close/>
                    <a:moveTo>
                      <a:pt x="4964" y="1"/>
                    </a:moveTo>
                    <a:lnTo>
                      <a:pt x="4964" y="1"/>
                    </a:lnTo>
                    <a:cubicBezTo>
                      <a:pt x="4965" y="1"/>
                      <a:pt x="4966" y="2"/>
                      <a:pt x="4966" y="3"/>
                    </a:cubicBezTo>
                    <a:cubicBezTo>
                      <a:pt x="4966" y="4"/>
                      <a:pt x="4965" y="5"/>
                      <a:pt x="4964" y="5"/>
                    </a:cubicBezTo>
                    <a:lnTo>
                      <a:pt x="4964" y="5"/>
                    </a:lnTo>
                    <a:cubicBezTo>
                      <a:pt x="4963" y="5"/>
                      <a:pt x="4962" y="4"/>
                      <a:pt x="4962" y="3"/>
                    </a:cubicBezTo>
                    <a:cubicBezTo>
                      <a:pt x="4962" y="2"/>
                      <a:pt x="4963" y="1"/>
                      <a:pt x="4964" y="1"/>
                    </a:cubicBezTo>
                    <a:close/>
                    <a:moveTo>
                      <a:pt x="4972" y="1"/>
                    </a:moveTo>
                    <a:lnTo>
                      <a:pt x="4972" y="1"/>
                    </a:lnTo>
                    <a:cubicBezTo>
                      <a:pt x="4973" y="1"/>
                      <a:pt x="4974" y="2"/>
                      <a:pt x="4974" y="3"/>
                    </a:cubicBezTo>
                    <a:cubicBezTo>
                      <a:pt x="4974" y="4"/>
                      <a:pt x="4973" y="5"/>
                      <a:pt x="4972" y="5"/>
                    </a:cubicBezTo>
                    <a:lnTo>
                      <a:pt x="4972" y="5"/>
                    </a:lnTo>
                    <a:cubicBezTo>
                      <a:pt x="4971" y="5"/>
                      <a:pt x="4970" y="4"/>
                      <a:pt x="4970" y="3"/>
                    </a:cubicBezTo>
                    <a:cubicBezTo>
                      <a:pt x="4970" y="2"/>
                      <a:pt x="4971" y="1"/>
                      <a:pt x="4972" y="1"/>
                    </a:cubicBezTo>
                    <a:close/>
                    <a:moveTo>
                      <a:pt x="4980" y="1"/>
                    </a:moveTo>
                    <a:lnTo>
                      <a:pt x="4980" y="1"/>
                    </a:lnTo>
                    <a:cubicBezTo>
                      <a:pt x="4981" y="1"/>
                      <a:pt x="4982" y="2"/>
                      <a:pt x="4982" y="3"/>
                    </a:cubicBezTo>
                    <a:cubicBezTo>
                      <a:pt x="4982" y="4"/>
                      <a:pt x="4981" y="5"/>
                      <a:pt x="4980" y="5"/>
                    </a:cubicBezTo>
                    <a:lnTo>
                      <a:pt x="4980" y="5"/>
                    </a:lnTo>
                    <a:cubicBezTo>
                      <a:pt x="4979" y="5"/>
                      <a:pt x="4978" y="4"/>
                      <a:pt x="4978" y="3"/>
                    </a:cubicBezTo>
                    <a:cubicBezTo>
                      <a:pt x="4978" y="2"/>
                      <a:pt x="4979" y="1"/>
                      <a:pt x="4980" y="1"/>
                    </a:cubicBezTo>
                    <a:close/>
                    <a:moveTo>
                      <a:pt x="4988" y="1"/>
                    </a:moveTo>
                    <a:lnTo>
                      <a:pt x="4988" y="1"/>
                    </a:lnTo>
                    <a:cubicBezTo>
                      <a:pt x="4989" y="1"/>
                      <a:pt x="4990" y="2"/>
                      <a:pt x="4990" y="3"/>
                    </a:cubicBezTo>
                    <a:cubicBezTo>
                      <a:pt x="4990" y="4"/>
                      <a:pt x="4989" y="5"/>
                      <a:pt x="4988" y="5"/>
                    </a:cubicBezTo>
                    <a:lnTo>
                      <a:pt x="4988" y="5"/>
                    </a:lnTo>
                    <a:cubicBezTo>
                      <a:pt x="4987" y="5"/>
                      <a:pt x="4986" y="4"/>
                      <a:pt x="4986" y="3"/>
                    </a:cubicBezTo>
                    <a:cubicBezTo>
                      <a:pt x="4986" y="2"/>
                      <a:pt x="4987" y="1"/>
                      <a:pt x="4988" y="1"/>
                    </a:cubicBezTo>
                    <a:close/>
                    <a:moveTo>
                      <a:pt x="4996" y="1"/>
                    </a:moveTo>
                    <a:lnTo>
                      <a:pt x="4996" y="1"/>
                    </a:lnTo>
                    <a:cubicBezTo>
                      <a:pt x="4997" y="1"/>
                      <a:pt x="4998" y="2"/>
                      <a:pt x="4998" y="3"/>
                    </a:cubicBezTo>
                    <a:cubicBezTo>
                      <a:pt x="4998" y="4"/>
                      <a:pt x="4997" y="5"/>
                      <a:pt x="4996" y="5"/>
                    </a:cubicBezTo>
                    <a:lnTo>
                      <a:pt x="4996" y="5"/>
                    </a:lnTo>
                    <a:cubicBezTo>
                      <a:pt x="4995" y="5"/>
                      <a:pt x="4994" y="4"/>
                      <a:pt x="4994" y="3"/>
                    </a:cubicBezTo>
                    <a:cubicBezTo>
                      <a:pt x="4994" y="2"/>
                      <a:pt x="4995" y="1"/>
                      <a:pt x="4996" y="1"/>
                    </a:cubicBezTo>
                    <a:close/>
                    <a:moveTo>
                      <a:pt x="5004" y="1"/>
                    </a:moveTo>
                    <a:lnTo>
                      <a:pt x="5004" y="1"/>
                    </a:lnTo>
                    <a:cubicBezTo>
                      <a:pt x="5005" y="1"/>
                      <a:pt x="5006" y="2"/>
                      <a:pt x="5006" y="3"/>
                    </a:cubicBezTo>
                    <a:cubicBezTo>
                      <a:pt x="5006" y="4"/>
                      <a:pt x="5005" y="5"/>
                      <a:pt x="5004" y="5"/>
                    </a:cubicBezTo>
                    <a:lnTo>
                      <a:pt x="5004" y="5"/>
                    </a:lnTo>
                    <a:cubicBezTo>
                      <a:pt x="5003" y="5"/>
                      <a:pt x="5002" y="4"/>
                      <a:pt x="5002" y="3"/>
                    </a:cubicBezTo>
                    <a:cubicBezTo>
                      <a:pt x="5002" y="2"/>
                      <a:pt x="5003" y="1"/>
                      <a:pt x="5004" y="1"/>
                    </a:cubicBezTo>
                    <a:close/>
                    <a:moveTo>
                      <a:pt x="5012" y="1"/>
                    </a:moveTo>
                    <a:lnTo>
                      <a:pt x="5012" y="1"/>
                    </a:lnTo>
                    <a:cubicBezTo>
                      <a:pt x="5013" y="1"/>
                      <a:pt x="5014" y="2"/>
                      <a:pt x="5014" y="3"/>
                    </a:cubicBezTo>
                    <a:cubicBezTo>
                      <a:pt x="5014" y="4"/>
                      <a:pt x="5013" y="5"/>
                      <a:pt x="5012" y="5"/>
                    </a:cubicBezTo>
                    <a:lnTo>
                      <a:pt x="5012" y="5"/>
                    </a:lnTo>
                    <a:cubicBezTo>
                      <a:pt x="5011" y="5"/>
                      <a:pt x="5010" y="4"/>
                      <a:pt x="5010" y="3"/>
                    </a:cubicBezTo>
                    <a:cubicBezTo>
                      <a:pt x="5010" y="2"/>
                      <a:pt x="5011" y="1"/>
                      <a:pt x="5012" y="1"/>
                    </a:cubicBezTo>
                    <a:close/>
                    <a:moveTo>
                      <a:pt x="5020" y="1"/>
                    </a:moveTo>
                    <a:lnTo>
                      <a:pt x="5020" y="1"/>
                    </a:lnTo>
                    <a:cubicBezTo>
                      <a:pt x="5021" y="1"/>
                      <a:pt x="5022" y="2"/>
                      <a:pt x="5022" y="3"/>
                    </a:cubicBezTo>
                    <a:cubicBezTo>
                      <a:pt x="5022" y="4"/>
                      <a:pt x="5021" y="5"/>
                      <a:pt x="5020" y="5"/>
                    </a:cubicBezTo>
                    <a:lnTo>
                      <a:pt x="5020" y="5"/>
                    </a:lnTo>
                    <a:cubicBezTo>
                      <a:pt x="5019" y="5"/>
                      <a:pt x="5018" y="4"/>
                      <a:pt x="5018" y="3"/>
                    </a:cubicBezTo>
                    <a:cubicBezTo>
                      <a:pt x="5018" y="2"/>
                      <a:pt x="5019" y="1"/>
                      <a:pt x="5020" y="1"/>
                    </a:cubicBezTo>
                    <a:close/>
                    <a:moveTo>
                      <a:pt x="5028" y="1"/>
                    </a:moveTo>
                    <a:lnTo>
                      <a:pt x="5028" y="1"/>
                    </a:lnTo>
                    <a:cubicBezTo>
                      <a:pt x="5029" y="1"/>
                      <a:pt x="5030" y="2"/>
                      <a:pt x="5030" y="3"/>
                    </a:cubicBezTo>
                    <a:cubicBezTo>
                      <a:pt x="5030" y="4"/>
                      <a:pt x="5029" y="5"/>
                      <a:pt x="5028" y="5"/>
                    </a:cubicBezTo>
                    <a:lnTo>
                      <a:pt x="5028" y="5"/>
                    </a:lnTo>
                    <a:cubicBezTo>
                      <a:pt x="5027" y="5"/>
                      <a:pt x="5026" y="4"/>
                      <a:pt x="5026" y="3"/>
                    </a:cubicBezTo>
                    <a:cubicBezTo>
                      <a:pt x="5026" y="2"/>
                      <a:pt x="5027" y="1"/>
                      <a:pt x="5028" y="1"/>
                    </a:cubicBezTo>
                    <a:close/>
                    <a:moveTo>
                      <a:pt x="5036" y="1"/>
                    </a:moveTo>
                    <a:lnTo>
                      <a:pt x="5036" y="1"/>
                    </a:lnTo>
                    <a:cubicBezTo>
                      <a:pt x="5037" y="1"/>
                      <a:pt x="5038" y="2"/>
                      <a:pt x="5038" y="3"/>
                    </a:cubicBezTo>
                    <a:cubicBezTo>
                      <a:pt x="5038" y="4"/>
                      <a:pt x="5037" y="5"/>
                      <a:pt x="5036" y="5"/>
                    </a:cubicBezTo>
                    <a:lnTo>
                      <a:pt x="5036" y="5"/>
                    </a:lnTo>
                    <a:cubicBezTo>
                      <a:pt x="5035" y="5"/>
                      <a:pt x="5034" y="4"/>
                      <a:pt x="5034" y="3"/>
                    </a:cubicBezTo>
                    <a:cubicBezTo>
                      <a:pt x="5034" y="2"/>
                      <a:pt x="5035" y="1"/>
                      <a:pt x="5036" y="1"/>
                    </a:cubicBezTo>
                    <a:close/>
                    <a:moveTo>
                      <a:pt x="5044" y="1"/>
                    </a:moveTo>
                    <a:lnTo>
                      <a:pt x="5044" y="1"/>
                    </a:lnTo>
                    <a:cubicBezTo>
                      <a:pt x="5045" y="1"/>
                      <a:pt x="5046" y="2"/>
                      <a:pt x="5046" y="3"/>
                    </a:cubicBezTo>
                    <a:cubicBezTo>
                      <a:pt x="5046" y="4"/>
                      <a:pt x="5045" y="5"/>
                      <a:pt x="5044" y="5"/>
                    </a:cubicBezTo>
                    <a:lnTo>
                      <a:pt x="5044" y="5"/>
                    </a:lnTo>
                    <a:cubicBezTo>
                      <a:pt x="5043" y="5"/>
                      <a:pt x="5042" y="4"/>
                      <a:pt x="5042" y="3"/>
                    </a:cubicBezTo>
                    <a:cubicBezTo>
                      <a:pt x="5042" y="2"/>
                      <a:pt x="5043" y="1"/>
                      <a:pt x="5044" y="1"/>
                    </a:cubicBezTo>
                    <a:close/>
                    <a:moveTo>
                      <a:pt x="5052" y="1"/>
                    </a:moveTo>
                    <a:lnTo>
                      <a:pt x="5052" y="1"/>
                    </a:lnTo>
                    <a:cubicBezTo>
                      <a:pt x="5053" y="1"/>
                      <a:pt x="5054" y="2"/>
                      <a:pt x="5054" y="3"/>
                    </a:cubicBezTo>
                    <a:cubicBezTo>
                      <a:pt x="5054" y="4"/>
                      <a:pt x="5053" y="5"/>
                      <a:pt x="5052" y="5"/>
                    </a:cubicBezTo>
                    <a:lnTo>
                      <a:pt x="5052" y="5"/>
                    </a:lnTo>
                    <a:cubicBezTo>
                      <a:pt x="5051" y="5"/>
                      <a:pt x="5050" y="4"/>
                      <a:pt x="5050" y="3"/>
                    </a:cubicBezTo>
                    <a:cubicBezTo>
                      <a:pt x="5050" y="2"/>
                      <a:pt x="5051" y="1"/>
                      <a:pt x="5052" y="1"/>
                    </a:cubicBezTo>
                    <a:close/>
                    <a:moveTo>
                      <a:pt x="5060" y="1"/>
                    </a:moveTo>
                    <a:lnTo>
                      <a:pt x="5060" y="1"/>
                    </a:lnTo>
                    <a:cubicBezTo>
                      <a:pt x="5061" y="1"/>
                      <a:pt x="5062" y="2"/>
                      <a:pt x="5062" y="3"/>
                    </a:cubicBezTo>
                    <a:cubicBezTo>
                      <a:pt x="5062" y="4"/>
                      <a:pt x="5061" y="5"/>
                      <a:pt x="5060" y="5"/>
                    </a:cubicBezTo>
                    <a:lnTo>
                      <a:pt x="5060" y="5"/>
                    </a:lnTo>
                    <a:cubicBezTo>
                      <a:pt x="5059" y="5"/>
                      <a:pt x="5058" y="4"/>
                      <a:pt x="5058" y="3"/>
                    </a:cubicBezTo>
                    <a:cubicBezTo>
                      <a:pt x="5058" y="2"/>
                      <a:pt x="5059" y="1"/>
                      <a:pt x="5060" y="1"/>
                    </a:cubicBezTo>
                    <a:close/>
                    <a:moveTo>
                      <a:pt x="5068" y="1"/>
                    </a:moveTo>
                    <a:lnTo>
                      <a:pt x="5068" y="1"/>
                    </a:lnTo>
                    <a:cubicBezTo>
                      <a:pt x="5069" y="1"/>
                      <a:pt x="5070" y="2"/>
                      <a:pt x="5070" y="3"/>
                    </a:cubicBezTo>
                    <a:cubicBezTo>
                      <a:pt x="5070" y="4"/>
                      <a:pt x="5069" y="5"/>
                      <a:pt x="5068" y="5"/>
                    </a:cubicBezTo>
                    <a:lnTo>
                      <a:pt x="5068" y="5"/>
                    </a:lnTo>
                    <a:cubicBezTo>
                      <a:pt x="5067" y="5"/>
                      <a:pt x="5066" y="4"/>
                      <a:pt x="5066" y="3"/>
                    </a:cubicBezTo>
                    <a:cubicBezTo>
                      <a:pt x="5066" y="2"/>
                      <a:pt x="5067" y="1"/>
                      <a:pt x="5068" y="1"/>
                    </a:cubicBezTo>
                    <a:close/>
                    <a:moveTo>
                      <a:pt x="5076" y="1"/>
                    </a:moveTo>
                    <a:lnTo>
                      <a:pt x="5076" y="1"/>
                    </a:lnTo>
                    <a:cubicBezTo>
                      <a:pt x="5077" y="1"/>
                      <a:pt x="5078" y="2"/>
                      <a:pt x="5078" y="3"/>
                    </a:cubicBezTo>
                    <a:cubicBezTo>
                      <a:pt x="5078" y="4"/>
                      <a:pt x="5077" y="5"/>
                      <a:pt x="5076" y="5"/>
                    </a:cubicBezTo>
                    <a:lnTo>
                      <a:pt x="5076" y="5"/>
                    </a:lnTo>
                    <a:cubicBezTo>
                      <a:pt x="5075" y="5"/>
                      <a:pt x="5074" y="4"/>
                      <a:pt x="5074" y="3"/>
                    </a:cubicBezTo>
                    <a:cubicBezTo>
                      <a:pt x="5074" y="2"/>
                      <a:pt x="5075" y="1"/>
                      <a:pt x="5076" y="1"/>
                    </a:cubicBezTo>
                    <a:close/>
                    <a:moveTo>
                      <a:pt x="5084" y="1"/>
                    </a:moveTo>
                    <a:lnTo>
                      <a:pt x="5084" y="1"/>
                    </a:lnTo>
                    <a:cubicBezTo>
                      <a:pt x="5085" y="1"/>
                      <a:pt x="5086" y="2"/>
                      <a:pt x="5086" y="3"/>
                    </a:cubicBezTo>
                    <a:cubicBezTo>
                      <a:pt x="5086" y="4"/>
                      <a:pt x="5085" y="5"/>
                      <a:pt x="5084" y="5"/>
                    </a:cubicBezTo>
                    <a:lnTo>
                      <a:pt x="5084" y="5"/>
                    </a:lnTo>
                    <a:cubicBezTo>
                      <a:pt x="5083" y="5"/>
                      <a:pt x="5082" y="4"/>
                      <a:pt x="5082" y="3"/>
                    </a:cubicBezTo>
                    <a:cubicBezTo>
                      <a:pt x="5082" y="2"/>
                      <a:pt x="5083" y="1"/>
                      <a:pt x="5084" y="1"/>
                    </a:cubicBezTo>
                    <a:close/>
                    <a:moveTo>
                      <a:pt x="5092" y="1"/>
                    </a:moveTo>
                    <a:lnTo>
                      <a:pt x="5092" y="1"/>
                    </a:lnTo>
                    <a:cubicBezTo>
                      <a:pt x="5093" y="1"/>
                      <a:pt x="5094" y="2"/>
                      <a:pt x="5094" y="3"/>
                    </a:cubicBezTo>
                    <a:cubicBezTo>
                      <a:pt x="5094" y="4"/>
                      <a:pt x="5093" y="5"/>
                      <a:pt x="5092" y="5"/>
                    </a:cubicBezTo>
                    <a:lnTo>
                      <a:pt x="5092" y="5"/>
                    </a:lnTo>
                    <a:cubicBezTo>
                      <a:pt x="5091" y="5"/>
                      <a:pt x="5090" y="4"/>
                      <a:pt x="5090" y="3"/>
                    </a:cubicBezTo>
                    <a:cubicBezTo>
                      <a:pt x="5090" y="2"/>
                      <a:pt x="5091" y="1"/>
                      <a:pt x="5092" y="1"/>
                    </a:cubicBezTo>
                    <a:close/>
                    <a:moveTo>
                      <a:pt x="5100" y="1"/>
                    </a:moveTo>
                    <a:lnTo>
                      <a:pt x="5100" y="1"/>
                    </a:lnTo>
                    <a:cubicBezTo>
                      <a:pt x="5101" y="1"/>
                      <a:pt x="5102" y="2"/>
                      <a:pt x="5102" y="3"/>
                    </a:cubicBezTo>
                    <a:cubicBezTo>
                      <a:pt x="5102" y="4"/>
                      <a:pt x="5101" y="5"/>
                      <a:pt x="5100" y="5"/>
                    </a:cubicBezTo>
                    <a:lnTo>
                      <a:pt x="5100" y="5"/>
                    </a:lnTo>
                    <a:cubicBezTo>
                      <a:pt x="5099" y="5"/>
                      <a:pt x="5098" y="4"/>
                      <a:pt x="5098" y="3"/>
                    </a:cubicBezTo>
                    <a:cubicBezTo>
                      <a:pt x="5098" y="2"/>
                      <a:pt x="5099" y="1"/>
                      <a:pt x="5100" y="1"/>
                    </a:cubicBezTo>
                    <a:close/>
                    <a:moveTo>
                      <a:pt x="5108" y="1"/>
                    </a:moveTo>
                    <a:lnTo>
                      <a:pt x="5108" y="1"/>
                    </a:lnTo>
                    <a:cubicBezTo>
                      <a:pt x="5109" y="1"/>
                      <a:pt x="5110" y="2"/>
                      <a:pt x="5110" y="3"/>
                    </a:cubicBezTo>
                    <a:cubicBezTo>
                      <a:pt x="5110" y="4"/>
                      <a:pt x="5109" y="5"/>
                      <a:pt x="5108" y="5"/>
                    </a:cubicBezTo>
                    <a:lnTo>
                      <a:pt x="5108" y="5"/>
                    </a:lnTo>
                    <a:cubicBezTo>
                      <a:pt x="5107" y="5"/>
                      <a:pt x="5106" y="4"/>
                      <a:pt x="5106" y="3"/>
                    </a:cubicBezTo>
                    <a:cubicBezTo>
                      <a:pt x="5106" y="2"/>
                      <a:pt x="5107" y="1"/>
                      <a:pt x="5108" y="1"/>
                    </a:cubicBezTo>
                    <a:close/>
                    <a:moveTo>
                      <a:pt x="5116" y="1"/>
                    </a:moveTo>
                    <a:lnTo>
                      <a:pt x="5116" y="1"/>
                    </a:lnTo>
                    <a:cubicBezTo>
                      <a:pt x="5117" y="1"/>
                      <a:pt x="5118" y="2"/>
                      <a:pt x="5118" y="3"/>
                    </a:cubicBezTo>
                    <a:cubicBezTo>
                      <a:pt x="5118" y="4"/>
                      <a:pt x="5117" y="5"/>
                      <a:pt x="5116" y="5"/>
                    </a:cubicBezTo>
                    <a:lnTo>
                      <a:pt x="5116" y="5"/>
                    </a:lnTo>
                    <a:cubicBezTo>
                      <a:pt x="5115" y="5"/>
                      <a:pt x="5114" y="4"/>
                      <a:pt x="5114" y="3"/>
                    </a:cubicBezTo>
                    <a:cubicBezTo>
                      <a:pt x="5114" y="2"/>
                      <a:pt x="5115" y="1"/>
                      <a:pt x="5116" y="1"/>
                    </a:cubicBezTo>
                    <a:close/>
                    <a:moveTo>
                      <a:pt x="5124" y="1"/>
                    </a:moveTo>
                    <a:lnTo>
                      <a:pt x="5124" y="1"/>
                    </a:lnTo>
                    <a:cubicBezTo>
                      <a:pt x="5125" y="1"/>
                      <a:pt x="5126" y="2"/>
                      <a:pt x="5126" y="3"/>
                    </a:cubicBezTo>
                    <a:cubicBezTo>
                      <a:pt x="5126" y="4"/>
                      <a:pt x="5125" y="5"/>
                      <a:pt x="5124" y="5"/>
                    </a:cubicBezTo>
                    <a:lnTo>
                      <a:pt x="5124" y="5"/>
                    </a:lnTo>
                    <a:cubicBezTo>
                      <a:pt x="5123" y="5"/>
                      <a:pt x="5122" y="4"/>
                      <a:pt x="5122" y="3"/>
                    </a:cubicBezTo>
                    <a:cubicBezTo>
                      <a:pt x="5122" y="2"/>
                      <a:pt x="5123" y="1"/>
                      <a:pt x="5124" y="1"/>
                    </a:cubicBezTo>
                    <a:close/>
                    <a:moveTo>
                      <a:pt x="5132" y="1"/>
                    </a:moveTo>
                    <a:lnTo>
                      <a:pt x="5132" y="1"/>
                    </a:lnTo>
                    <a:cubicBezTo>
                      <a:pt x="5133" y="1"/>
                      <a:pt x="5134" y="2"/>
                      <a:pt x="5134" y="3"/>
                    </a:cubicBezTo>
                    <a:cubicBezTo>
                      <a:pt x="5134" y="4"/>
                      <a:pt x="5133" y="5"/>
                      <a:pt x="5132" y="5"/>
                    </a:cubicBezTo>
                    <a:lnTo>
                      <a:pt x="5132" y="5"/>
                    </a:lnTo>
                    <a:cubicBezTo>
                      <a:pt x="5131" y="5"/>
                      <a:pt x="5130" y="4"/>
                      <a:pt x="5130" y="3"/>
                    </a:cubicBezTo>
                    <a:cubicBezTo>
                      <a:pt x="5130" y="2"/>
                      <a:pt x="5131" y="1"/>
                      <a:pt x="5132" y="1"/>
                    </a:cubicBezTo>
                    <a:close/>
                    <a:moveTo>
                      <a:pt x="5140" y="1"/>
                    </a:moveTo>
                    <a:lnTo>
                      <a:pt x="5140" y="1"/>
                    </a:lnTo>
                    <a:cubicBezTo>
                      <a:pt x="5141" y="1"/>
                      <a:pt x="5142" y="2"/>
                      <a:pt x="5142" y="3"/>
                    </a:cubicBezTo>
                    <a:cubicBezTo>
                      <a:pt x="5142" y="4"/>
                      <a:pt x="5141" y="5"/>
                      <a:pt x="5140" y="5"/>
                    </a:cubicBezTo>
                    <a:lnTo>
                      <a:pt x="5140" y="5"/>
                    </a:lnTo>
                    <a:cubicBezTo>
                      <a:pt x="5139" y="5"/>
                      <a:pt x="5138" y="4"/>
                      <a:pt x="5138" y="3"/>
                    </a:cubicBezTo>
                    <a:cubicBezTo>
                      <a:pt x="5138" y="2"/>
                      <a:pt x="5139" y="1"/>
                      <a:pt x="5140" y="1"/>
                    </a:cubicBezTo>
                    <a:close/>
                    <a:moveTo>
                      <a:pt x="5148" y="1"/>
                    </a:moveTo>
                    <a:lnTo>
                      <a:pt x="5148" y="1"/>
                    </a:lnTo>
                    <a:cubicBezTo>
                      <a:pt x="5149" y="1"/>
                      <a:pt x="5150" y="2"/>
                      <a:pt x="5150" y="3"/>
                    </a:cubicBezTo>
                    <a:cubicBezTo>
                      <a:pt x="5150" y="4"/>
                      <a:pt x="5149" y="5"/>
                      <a:pt x="5148" y="5"/>
                    </a:cubicBezTo>
                    <a:lnTo>
                      <a:pt x="5148" y="5"/>
                    </a:lnTo>
                    <a:cubicBezTo>
                      <a:pt x="5147" y="5"/>
                      <a:pt x="5146" y="4"/>
                      <a:pt x="5146" y="3"/>
                    </a:cubicBezTo>
                    <a:cubicBezTo>
                      <a:pt x="5146" y="2"/>
                      <a:pt x="5147" y="1"/>
                      <a:pt x="5148" y="1"/>
                    </a:cubicBezTo>
                    <a:close/>
                    <a:moveTo>
                      <a:pt x="5156" y="1"/>
                    </a:moveTo>
                    <a:lnTo>
                      <a:pt x="5156" y="1"/>
                    </a:lnTo>
                    <a:cubicBezTo>
                      <a:pt x="5157" y="1"/>
                      <a:pt x="5158" y="2"/>
                      <a:pt x="5158" y="3"/>
                    </a:cubicBezTo>
                    <a:cubicBezTo>
                      <a:pt x="5158" y="4"/>
                      <a:pt x="5157" y="5"/>
                      <a:pt x="5156" y="5"/>
                    </a:cubicBezTo>
                    <a:lnTo>
                      <a:pt x="5156" y="5"/>
                    </a:lnTo>
                    <a:cubicBezTo>
                      <a:pt x="5155" y="5"/>
                      <a:pt x="5154" y="4"/>
                      <a:pt x="5154" y="3"/>
                    </a:cubicBezTo>
                    <a:cubicBezTo>
                      <a:pt x="5154" y="2"/>
                      <a:pt x="5155" y="1"/>
                      <a:pt x="5156" y="1"/>
                    </a:cubicBezTo>
                    <a:close/>
                    <a:moveTo>
                      <a:pt x="5164" y="1"/>
                    </a:moveTo>
                    <a:lnTo>
                      <a:pt x="5164" y="1"/>
                    </a:lnTo>
                    <a:cubicBezTo>
                      <a:pt x="5165" y="1"/>
                      <a:pt x="5166" y="2"/>
                      <a:pt x="5166" y="3"/>
                    </a:cubicBezTo>
                    <a:cubicBezTo>
                      <a:pt x="5166" y="4"/>
                      <a:pt x="5165" y="5"/>
                      <a:pt x="5164" y="5"/>
                    </a:cubicBezTo>
                    <a:lnTo>
                      <a:pt x="5164" y="5"/>
                    </a:lnTo>
                    <a:cubicBezTo>
                      <a:pt x="5163" y="5"/>
                      <a:pt x="5162" y="4"/>
                      <a:pt x="5162" y="3"/>
                    </a:cubicBezTo>
                    <a:cubicBezTo>
                      <a:pt x="5162" y="2"/>
                      <a:pt x="5163" y="1"/>
                      <a:pt x="5164" y="1"/>
                    </a:cubicBezTo>
                    <a:close/>
                    <a:moveTo>
                      <a:pt x="5172" y="1"/>
                    </a:moveTo>
                    <a:lnTo>
                      <a:pt x="5172" y="1"/>
                    </a:lnTo>
                    <a:cubicBezTo>
                      <a:pt x="5173" y="1"/>
                      <a:pt x="5174" y="2"/>
                      <a:pt x="5174" y="3"/>
                    </a:cubicBezTo>
                    <a:cubicBezTo>
                      <a:pt x="5174" y="4"/>
                      <a:pt x="5173" y="5"/>
                      <a:pt x="5172" y="5"/>
                    </a:cubicBezTo>
                    <a:lnTo>
                      <a:pt x="5172" y="5"/>
                    </a:lnTo>
                    <a:cubicBezTo>
                      <a:pt x="5171" y="5"/>
                      <a:pt x="5170" y="4"/>
                      <a:pt x="5170" y="3"/>
                    </a:cubicBezTo>
                    <a:cubicBezTo>
                      <a:pt x="5170" y="2"/>
                      <a:pt x="5171" y="1"/>
                      <a:pt x="5172" y="1"/>
                    </a:cubicBezTo>
                    <a:close/>
                    <a:moveTo>
                      <a:pt x="5180" y="1"/>
                    </a:moveTo>
                    <a:lnTo>
                      <a:pt x="5180" y="1"/>
                    </a:lnTo>
                    <a:cubicBezTo>
                      <a:pt x="5181" y="1"/>
                      <a:pt x="5182" y="2"/>
                      <a:pt x="5182" y="3"/>
                    </a:cubicBezTo>
                    <a:cubicBezTo>
                      <a:pt x="5182" y="4"/>
                      <a:pt x="5181" y="5"/>
                      <a:pt x="5180" y="5"/>
                    </a:cubicBezTo>
                    <a:lnTo>
                      <a:pt x="5180" y="5"/>
                    </a:lnTo>
                    <a:cubicBezTo>
                      <a:pt x="5179" y="5"/>
                      <a:pt x="5178" y="4"/>
                      <a:pt x="5178" y="3"/>
                    </a:cubicBezTo>
                    <a:cubicBezTo>
                      <a:pt x="5178" y="2"/>
                      <a:pt x="5179" y="1"/>
                      <a:pt x="5180" y="1"/>
                    </a:cubicBezTo>
                    <a:close/>
                    <a:moveTo>
                      <a:pt x="5188" y="1"/>
                    </a:moveTo>
                    <a:lnTo>
                      <a:pt x="5188" y="1"/>
                    </a:lnTo>
                    <a:cubicBezTo>
                      <a:pt x="5189" y="1"/>
                      <a:pt x="5190" y="2"/>
                      <a:pt x="5190" y="3"/>
                    </a:cubicBezTo>
                    <a:cubicBezTo>
                      <a:pt x="5190" y="4"/>
                      <a:pt x="5189" y="5"/>
                      <a:pt x="5188" y="5"/>
                    </a:cubicBezTo>
                    <a:lnTo>
                      <a:pt x="5188" y="5"/>
                    </a:lnTo>
                    <a:cubicBezTo>
                      <a:pt x="5187" y="5"/>
                      <a:pt x="5186" y="4"/>
                      <a:pt x="5186" y="3"/>
                    </a:cubicBezTo>
                    <a:cubicBezTo>
                      <a:pt x="5186" y="2"/>
                      <a:pt x="5187" y="1"/>
                      <a:pt x="5188" y="1"/>
                    </a:cubicBezTo>
                    <a:close/>
                    <a:moveTo>
                      <a:pt x="5196" y="1"/>
                    </a:moveTo>
                    <a:lnTo>
                      <a:pt x="5196" y="1"/>
                    </a:lnTo>
                    <a:cubicBezTo>
                      <a:pt x="5197" y="1"/>
                      <a:pt x="5198" y="2"/>
                      <a:pt x="5198" y="3"/>
                    </a:cubicBezTo>
                    <a:cubicBezTo>
                      <a:pt x="5198" y="4"/>
                      <a:pt x="5197" y="5"/>
                      <a:pt x="5196" y="5"/>
                    </a:cubicBezTo>
                    <a:lnTo>
                      <a:pt x="5196" y="5"/>
                    </a:lnTo>
                    <a:cubicBezTo>
                      <a:pt x="5195" y="5"/>
                      <a:pt x="5194" y="4"/>
                      <a:pt x="5194" y="3"/>
                    </a:cubicBezTo>
                    <a:cubicBezTo>
                      <a:pt x="5194" y="2"/>
                      <a:pt x="5195" y="1"/>
                      <a:pt x="5196" y="1"/>
                    </a:cubicBezTo>
                    <a:close/>
                    <a:moveTo>
                      <a:pt x="5204" y="1"/>
                    </a:moveTo>
                    <a:lnTo>
                      <a:pt x="5204" y="1"/>
                    </a:lnTo>
                    <a:cubicBezTo>
                      <a:pt x="5205" y="1"/>
                      <a:pt x="5206" y="2"/>
                      <a:pt x="5206" y="3"/>
                    </a:cubicBezTo>
                    <a:cubicBezTo>
                      <a:pt x="5206" y="4"/>
                      <a:pt x="5205" y="5"/>
                      <a:pt x="5204" y="5"/>
                    </a:cubicBezTo>
                    <a:lnTo>
                      <a:pt x="5204" y="5"/>
                    </a:lnTo>
                    <a:cubicBezTo>
                      <a:pt x="5203" y="5"/>
                      <a:pt x="5202" y="4"/>
                      <a:pt x="5202" y="3"/>
                    </a:cubicBezTo>
                    <a:cubicBezTo>
                      <a:pt x="5202" y="2"/>
                      <a:pt x="5203" y="1"/>
                      <a:pt x="5204" y="1"/>
                    </a:cubicBezTo>
                    <a:close/>
                    <a:moveTo>
                      <a:pt x="5212" y="1"/>
                    </a:moveTo>
                    <a:lnTo>
                      <a:pt x="5212" y="1"/>
                    </a:lnTo>
                    <a:cubicBezTo>
                      <a:pt x="5213" y="1"/>
                      <a:pt x="5214" y="2"/>
                      <a:pt x="5214" y="3"/>
                    </a:cubicBezTo>
                    <a:cubicBezTo>
                      <a:pt x="5214" y="4"/>
                      <a:pt x="5213" y="5"/>
                      <a:pt x="5212" y="5"/>
                    </a:cubicBezTo>
                    <a:lnTo>
                      <a:pt x="5212" y="5"/>
                    </a:lnTo>
                    <a:cubicBezTo>
                      <a:pt x="5211" y="5"/>
                      <a:pt x="5210" y="4"/>
                      <a:pt x="5210" y="3"/>
                    </a:cubicBezTo>
                    <a:cubicBezTo>
                      <a:pt x="5210" y="2"/>
                      <a:pt x="5211" y="1"/>
                      <a:pt x="5212" y="1"/>
                    </a:cubicBezTo>
                    <a:close/>
                    <a:moveTo>
                      <a:pt x="5220" y="1"/>
                    </a:moveTo>
                    <a:lnTo>
                      <a:pt x="5220" y="1"/>
                    </a:lnTo>
                    <a:cubicBezTo>
                      <a:pt x="5221" y="1"/>
                      <a:pt x="5222" y="2"/>
                      <a:pt x="5222" y="3"/>
                    </a:cubicBezTo>
                    <a:cubicBezTo>
                      <a:pt x="5222" y="4"/>
                      <a:pt x="5221" y="5"/>
                      <a:pt x="5220" y="5"/>
                    </a:cubicBezTo>
                    <a:lnTo>
                      <a:pt x="5220" y="5"/>
                    </a:lnTo>
                    <a:cubicBezTo>
                      <a:pt x="5219" y="5"/>
                      <a:pt x="5218" y="4"/>
                      <a:pt x="5218" y="3"/>
                    </a:cubicBezTo>
                    <a:cubicBezTo>
                      <a:pt x="5218" y="2"/>
                      <a:pt x="5219" y="1"/>
                      <a:pt x="5220" y="1"/>
                    </a:cubicBezTo>
                    <a:close/>
                    <a:moveTo>
                      <a:pt x="5228" y="1"/>
                    </a:moveTo>
                    <a:lnTo>
                      <a:pt x="5228" y="1"/>
                    </a:lnTo>
                    <a:cubicBezTo>
                      <a:pt x="5229" y="1"/>
                      <a:pt x="5230" y="2"/>
                      <a:pt x="5230" y="3"/>
                    </a:cubicBezTo>
                    <a:cubicBezTo>
                      <a:pt x="5230" y="4"/>
                      <a:pt x="5229" y="5"/>
                      <a:pt x="5228" y="5"/>
                    </a:cubicBezTo>
                    <a:lnTo>
                      <a:pt x="5228" y="5"/>
                    </a:lnTo>
                    <a:cubicBezTo>
                      <a:pt x="5227" y="5"/>
                      <a:pt x="5226" y="4"/>
                      <a:pt x="5226" y="3"/>
                    </a:cubicBezTo>
                    <a:cubicBezTo>
                      <a:pt x="5226" y="2"/>
                      <a:pt x="5227" y="1"/>
                      <a:pt x="5228" y="1"/>
                    </a:cubicBezTo>
                    <a:close/>
                    <a:moveTo>
                      <a:pt x="5236" y="1"/>
                    </a:moveTo>
                    <a:lnTo>
                      <a:pt x="5236" y="1"/>
                    </a:lnTo>
                    <a:cubicBezTo>
                      <a:pt x="5237" y="1"/>
                      <a:pt x="5238" y="2"/>
                      <a:pt x="5238" y="3"/>
                    </a:cubicBezTo>
                    <a:cubicBezTo>
                      <a:pt x="5238" y="4"/>
                      <a:pt x="5237" y="5"/>
                      <a:pt x="5236" y="5"/>
                    </a:cubicBezTo>
                    <a:lnTo>
                      <a:pt x="5236" y="5"/>
                    </a:lnTo>
                    <a:cubicBezTo>
                      <a:pt x="5235" y="5"/>
                      <a:pt x="5234" y="4"/>
                      <a:pt x="5234" y="3"/>
                    </a:cubicBezTo>
                    <a:cubicBezTo>
                      <a:pt x="5234" y="2"/>
                      <a:pt x="5235" y="1"/>
                      <a:pt x="5236" y="1"/>
                    </a:cubicBezTo>
                    <a:close/>
                    <a:moveTo>
                      <a:pt x="5244" y="1"/>
                    </a:moveTo>
                    <a:lnTo>
                      <a:pt x="5244" y="1"/>
                    </a:lnTo>
                    <a:cubicBezTo>
                      <a:pt x="5245" y="1"/>
                      <a:pt x="5246" y="2"/>
                      <a:pt x="5246" y="3"/>
                    </a:cubicBezTo>
                    <a:cubicBezTo>
                      <a:pt x="5246" y="5"/>
                      <a:pt x="5245" y="5"/>
                      <a:pt x="5244" y="5"/>
                    </a:cubicBezTo>
                    <a:lnTo>
                      <a:pt x="5244" y="5"/>
                    </a:lnTo>
                    <a:cubicBezTo>
                      <a:pt x="5243" y="5"/>
                      <a:pt x="5242" y="5"/>
                      <a:pt x="5242" y="3"/>
                    </a:cubicBezTo>
                    <a:cubicBezTo>
                      <a:pt x="5242" y="2"/>
                      <a:pt x="5243" y="1"/>
                      <a:pt x="5244" y="1"/>
                    </a:cubicBezTo>
                    <a:close/>
                    <a:moveTo>
                      <a:pt x="5252" y="1"/>
                    </a:moveTo>
                    <a:lnTo>
                      <a:pt x="5252" y="1"/>
                    </a:lnTo>
                    <a:cubicBezTo>
                      <a:pt x="5253" y="1"/>
                      <a:pt x="5254" y="2"/>
                      <a:pt x="5254" y="3"/>
                    </a:cubicBezTo>
                    <a:cubicBezTo>
                      <a:pt x="5254" y="5"/>
                      <a:pt x="5253" y="5"/>
                      <a:pt x="5252" y="5"/>
                    </a:cubicBezTo>
                    <a:lnTo>
                      <a:pt x="5252" y="5"/>
                    </a:lnTo>
                    <a:cubicBezTo>
                      <a:pt x="5251" y="5"/>
                      <a:pt x="5250" y="5"/>
                      <a:pt x="5250" y="3"/>
                    </a:cubicBezTo>
                    <a:cubicBezTo>
                      <a:pt x="5250" y="2"/>
                      <a:pt x="5251" y="1"/>
                      <a:pt x="5252" y="1"/>
                    </a:cubicBezTo>
                    <a:close/>
                    <a:moveTo>
                      <a:pt x="5260" y="1"/>
                    </a:moveTo>
                    <a:lnTo>
                      <a:pt x="5260" y="1"/>
                    </a:lnTo>
                    <a:cubicBezTo>
                      <a:pt x="5261" y="1"/>
                      <a:pt x="5262" y="2"/>
                      <a:pt x="5262" y="3"/>
                    </a:cubicBezTo>
                    <a:cubicBezTo>
                      <a:pt x="5262" y="5"/>
                      <a:pt x="5261" y="5"/>
                      <a:pt x="5260" y="5"/>
                    </a:cubicBezTo>
                    <a:lnTo>
                      <a:pt x="5260" y="5"/>
                    </a:lnTo>
                    <a:cubicBezTo>
                      <a:pt x="5259" y="5"/>
                      <a:pt x="5258" y="5"/>
                      <a:pt x="5258" y="3"/>
                    </a:cubicBezTo>
                    <a:cubicBezTo>
                      <a:pt x="5258" y="2"/>
                      <a:pt x="5259" y="1"/>
                      <a:pt x="5260" y="1"/>
                    </a:cubicBezTo>
                    <a:close/>
                    <a:moveTo>
                      <a:pt x="5268" y="1"/>
                    </a:moveTo>
                    <a:lnTo>
                      <a:pt x="5268" y="1"/>
                    </a:lnTo>
                    <a:cubicBezTo>
                      <a:pt x="5270" y="1"/>
                      <a:pt x="5270" y="2"/>
                      <a:pt x="5270" y="3"/>
                    </a:cubicBezTo>
                    <a:cubicBezTo>
                      <a:pt x="5270" y="5"/>
                      <a:pt x="5270" y="5"/>
                      <a:pt x="5268" y="5"/>
                    </a:cubicBezTo>
                    <a:lnTo>
                      <a:pt x="5268" y="5"/>
                    </a:lnTo>
                    <a:cubicBezTo>
                      <a:pt x="5267" y="5"/>
                      <a:pt x="5266" y="5"/>
                      <a:pt x="5266" y="3"/>
                    </a:cubicBezTo>
                    <a:cubicBezTo>
                      <a:pt x="5266" y="2"/>
                      <a:pt x="5267" y="1"/>
                      <a:pt x="5268" y="1"/>
                    </a:cubicBezTo>
                    <a:close/>
                    <a:moveTo>
                      <a:pt x="5276" y="1"/>
                    </a:moveTo>
                    <a:lnTo>
                      <a:pt x="5276" y="1"/>
                    </a:lnTo>
                    <a:cubicBezTo>
                      <a:pt x="5278" y="1"/>
                      <a:pt x="5278" y="2"/>
                      <a:pt x="5278" y="3"/>
                    </a:cubicBezTo>
                    <a:cubicBezTo>
                      <a:pt x="5278" y="5"/>
                      <a:pt x="5278" y="5"/>
                      <a:pt x="5276" y="5"/>
                    </a:cubicBezTo>
                    <a:lnTo>
                      <a:pt x="5276" y="5"/>
                    </a:lnTo>
                    <a:cubicBezTo>
                      <a:pt x="5275" y="5"/>
                      <a:pt x="5274" y="5"/>
                      <a:pt x="5274" y="3"/>
                    </a:cubicBezTo>
                    <a:cubicBezTo>
                      <a:pt x="5274" y="2"/>
                      <a:pt x="5275" y="1"/>
                      <a:pt x="5276" y="1"/>
                    </a:cubicBezTo>
                    <a:close/>
                    <a:moveTo>
                      <a:pt x="5284" y="1"/>
                    </a:moveTo>
                    <a:lnTo>
                      <a:pt x="5284" y="1"/>
                    </a:lnTo>
                    <a:cubicBezTo>
                      <a:pt x="5286" y="1"/>
                      <a:pt x="5286" y="2"/>
                      <a:pt x="5286" y="3"/>
                    </a:cubicBezTo>
                    <a:cubicBezTo>
                      <a:pt x="5286" y="5"/>
                      <a:pt x="5286" y="5"/>
                      <a:pt x="5284" y="5"/>
                    </a:cubicBezTo>
                    <a:lnTo>
                      <a:pt x="5284" y="5"/>
                    </a:lnTo>
                    <a:cubicBezTo>
                      <a:pt x="5283" y="5"/>
                      <a:pt x="5282" y="5"/>
                      <a:pt x="5282" y="3"/>
                    </a:cubicBezTo>
                    <a:cubicBezTo>
                      <a:pt x="5282" y="2"/>
                      <a:pt x="5283" y="1"/>
                      <a:pt x="5284" y="1"/>
                    </a:cubicBezTo>
                    <a:close/>
                    <a:moveTo>
                      <a:pt x="5292" y="1"/>
                    </a:moveTo>
                    <a:lnTo>
                      <a:pt x="5292" y="1"/>
                    </a:lnTo>
                    <a:cubicBezTo>
                      <a:pt x="5294" y="1"/>
                      <a:pt x="5294" y="2"/>
                      <a:pt x="5294" y="3"/>
                    </a:cubicBezTo>
                    <a:cubicBezTo>
                      <a:pt x="5294" y="5"/>
                      <a:pt x="5294" y="5"/>
                      <a:pt x="5292" y="5"/>
                    </a:cubicBezTo>
                    <a:lnTo>
                      <a:pt x="5292" y="5"/>
                    </a:lnTo>
                    <a:cubicBezTo>
                      <a:pt x="5291" y="5"/>
                      <a:pt x="5290" y="5"/>
                      <a:pt x="5290" y="3"/>
                    </a:cubicBezTo>
                    <a:cubicBezTo>
                      <a:pt x="5290" y="2"/>
                      <a:pt x="5291" y="1"/>
                      <a:pt x="5292" y="1"/>
                    </a:cubicBezTo>
                    <a:close/>
                    <a:moveTo>
                      <a:pt x="5300" y="1"/>
                    </a:moveTo>
                    <a:lnTo>
                      <a:pt x="5300" y="1"/>
                    </a:lnTo>
                    <a:cubicBezTo>
                      <a:pt x="5302" y="1"/>
                      <a:pt x="5302" y="2"/>
                      <a:pt x="5302" y="3"/>
                    </a:cubicBezTo>
                    <a:cubicBezTo>
                      <a:pt x="5302" y="5"/>
                      <a:pt x="5302" y="5"/>
                      <a:pt x="5300" y="5"/>
                    </a:cubicBezTo>
                    <a:lnTo>
                      <a:pt x="5300" y="5"/>
                    </a:lnTo>
                    <a:cubicBezTo>
                      <a:pt x="5299" y="5"/>
                      <a:pt x="5298" y="5"/>
                      <a:pt x="5298" y="3"/>
                    </a:cubicBezTo>
                    <a:cubicBezTo>
                      <a:pt x="5298" y="2"/>
                      <a:pt x="5299" y="1"/>
                      <a:pt x="5300" y="1"/>
                    </a:cubicBezTo>
                    <a:close/>
                    <a:moveTo>
                      <a:pt x="5308" y="1"/>
                    </a:moveTo>
                    <a:lnTo>
                      <a:pt x="5308" y="1"/>
                    </a:lnTo>
                    <a:cubicBezTo>
                      <a:pt x="5310" y="1"/>
                      <a:pt x="5310" y="2"/>
                      <a:pt x="5310" y="3"/>
                    </a:cubicBezTo>
                    <a:cubicBezTo>
                      <a:pt x="5310" y="5"/>
                      <a:pt x="5310" y="5"/>
                      <a:pt x="5308" y="5"/>
                    </a:cubicBezTo>
                    <a:lnTo>
                      <a:pt x="5308" y="5"/>
                    </a:lnTo>
                    <a:cubicBezTo>
                      <a:pt x="5307" y="5"/>
                      <a:pt x="5306" y="5"/>
                      <a:pt x="5306" y="3"/>
                    </a:cubicBezTo>
                    <a:cubicBezTo>
                      <a:pt x="5306" y="2"/>
                      <a:pt x="5307" y="1"/>
                      <a:pt x="5308" y="1"/>
                    </a:cubicBezTo>
                    <a:close/>
                    <a:moveTo>
                      <a:pt x="5316" y="1"/>
                    </a:moveTo>
                    <a:lnTo>
                      <a:pt x="5316" y="1"/>
                    </a:lnTo>
                    <a:cubicBezTo>
                      <a:pt x="5318" y="1"/>
                      <a:pt x="5318" y="2"/>
                      <a:pt x="5318" y="3"/>
                    </a:cubicBezTo>
                    <a:cubicBezTo>
                      <a:pt x="5318" y="5"/>
                      <a:pt x="5318" y="5"/>
                      <a:pt x="5316" y="5"/>
                    </a:cubicBezTo>
                    <a:lnTo>
                      <a:pt x="5316" y="5"/>
                    </a:lnTo>
                    <a:cubicBezTo>
                      <a:pt x="5315" y="5"/>
                      <a:pt x="5314" y="5"/>
                      <a:pt x="5314" y="3"/>
                    </a:cubicBezTo>
                    <a:cubicBezTo>
                      <a:pt x="5314" y="2"/>
                      <a:pt x="5315" y="1"/>
                      <a:pt x="5316" y="1"/>
                    </a:cubicBezTo>
                    <a:close/>
                    <a:moveTo>
                      <a:pt x="5324" y="1"/>
                    </a:moveTo>
                    <a:lnTo>
                      <a:pt x="5324" y="1"/>
                    </a:lnTo>
                    <a:cubicBezTo>
                      <a:pt x="5326" y="1"/>
                      <a:pt x="5326" y="2"/>
                      <a:pt x="5326" y="3"/>
                    </a:cubicBezTo>
                    <a:cubicBezTo>
                      <a:pt x="5326" y="5"/>
                      <a:pt x="5326" y="5"/>
                      <a:pt x="5324" y="5"/>
                    </a:cubicBezTo>
                    <a:lnTo>
                      <a:pt x="5324" y="5"/>
                    </a:lnTo>
                    <a:cubicBezTo>
                      <a:pt x="5323" y="5"/>
                      <a:pt x="5322" y="5"/>
                      <a:pt x="5322" y="3"/>
                    </a:cubicBezTo>
                    <a:cubicBezTo>
                      <a:pt x="5322" y="2"/>
                      <a:pt x="5323" y="1"/>
                      <a:pt x="5324" y="1"/>
                    </a:cubicBezTo>
                    <a:close/>
                    <a:moveTo>
                      <a:pt x="5332" y="1"/>
                    </a:moveTo>
                    <a:lnTo>
                      <a:pt x="5332" y="1"/>
                    </a:lnTo>
                    <a:cubicBezTo>
                      <a:pt x="5334" y="1"/>
                      <a:pt x="5334" y="2"/>
                      <a:pt x="5334" y="3"/>
                    </a:cubicBezTo>
                    <a:cubicBezTo>
                      <a:pt x="5334" y="5"/>
                      <a:pt x="5334" y="5"/>
                      <a:pt x="5332" y="5"/>
                    </a:cubicBezTo>
                    <a:lnTo>
                      <a:pt x="5332" y="5"/>
                    </a:lnTo>
                    <a:cubicBezTo>
                      <a:pt x="5331" y="5"/>
                      <a:pt x="5330" y="5"/>
                      <a:pt x="5330" y="3"/>
                    </a:cubicBezTo>
                    <a:cubicBezTo>
                      <a:pt x="5330" y="2"/>
                      <a:pt x="5331" y="1"/>
                      <a:pt x="5332" y="1"/>
                    </a:cubicBezTo>
                    <a:close/>
                    <a:moveTo>
                      <a:pt x="5340" y="1"/>
                    </a:moveTo>
                    <a:lnTo>
                      <a:pt x="5340" y="1"/>
                    </a:lnTo>
                    <a:cubicBezTo>
                      <a:pt x="5342" y="1"/>
                      <a:pt x="5342" y="2"/>
                      <a:pt x="5342" y="3"/>
                    </a:cubicBezTo>
                    <a:cubicBezTo>
                      <a:pt x="5342" y="5"/>
                      <a:pt x="5342" y="5"/>
                      <a:pt x="5340" y="5"/>
                    </a:cubicBezTo>
                    <a:lnTo>
                      <a:pt x="5340" y="5"/>
                    </a:lnTo>
                    <a:cubicBezTo>
                      <a:pt x="5339" y="5"/>
                      <a:pt x="5338" y="5"/>
                      <a:pt x="5338" y="3"/>
                    </a:cubicBezTo>
                    <a:cubicBezTo>
                      <a:pt x="5338" y="2"/>
                      <a:pt x="5339" y="1"/>
                      <a:pt x="5340" y="1"/>
                    </a:cubicBezTo>
                    <a:close/>
                    <a:moveTo>
                      <a:pt x="5348" y="1"/>
                    </a:moveTo>
                    <a:lnTo>
                      <a:pt x="5348" y="1"/>
                    </a:lnTo>
                    <a:cubicBezTo>
                      <a:pt x="5350" y="1"/>
                      <a:pt x="5350" y="2"/>
                      <a:pt x="5350" y="3"/>
                    </a:cubicBezTo>
                    <a:cubicBezTo>
                      <a:pt x="5350" y="5"/>
                      <a:pt x="5350" y="5"/>
                      <a:pt x="5348" y="5"/>
                    </a:cubicBezTo>
                    <a:lnTo>
                      <a:pt x="5348" y="5"/>
                    </a:lnTo>
                    <a:cubicBezTo>
                      <a:pt x="5347" y="5"/>
                      <a:pt x="5346" y="5"/>
                      <a:pt x="5346" y="3"/>
                    </a:cubicBezTo>
                    <a:cubicBezTo>
                      <a:pt x="5346" y="2"/>
                      <a:pt x="5347" y="1"/>
                      <a:pt x="5348" y="1"/>
                    </a:cubicBezTo>
                    <a:close/>
                    <a:moveTo>
                      <a:pt x="5356" y="1"/>
                    </a:moveTo>
                    <a:lnTo>
                      <a:pt x="5356" y="1"/>
                    </a:lnTo>
                    <a:cubicBezTo>
                      <a:pt x="5358" y="1"/>
                      <a:pt x="5358" y="2"/>
                      <a:pt x="5358" y="3"/>
                    </a:cubicBezTo>
                    <a:cubicBezTo>
                      <a:pt x="5358" y="5"/>
                      <a:pt x="5358" y="5"/>
                      <a:pt x="5356" y="5"/>
                    </a:cubicBezTo>
                    <a:lnTo>
                      <a:pt x="5356" y="5"/>
                    </a:lnTo>
                    <a:cubicBezTo>
                      <a:pt x="5355" y="5"/>
                      <a:pt x="5354" y="5"/>
                      <a:pt x="5354" y="3"/>
                    </a:cubicBezTo>
                    <a:cubicBezTo>
                      <a:pt x="5354" y="2"/>
                      <a:pt x="5355" y="1"/>
                      <a:pt x="5356" y="1"/>
                    </a:cubicBezTo>
                    <a:close/>
                    <a:moveTo>
                      <a:pt x="5364" y="1"/>
                    </a:moveTo>
                    <a:lnTo>
                      <a:pt x="5364" y="1"/>
                    </a:lnTo>
                    <a:cubicBezTo>
                      <a:pt x="5366" y="1"/>
                      <a:pt x="5366" y="2"/>
                      <a:pt x="5366" y="3"/>
                    </a:cubicBezTo>
                    <a:cubicBezTo>
                      <a:pt x="5366" y="5"/>
                      <a:pt x="5366" y="5"/>
                      <a:pt x="5364" y="5"/>
                    </a:cubicBezTo>
                    <a:lnTo>
                      <a:pt x="5364" y="5"/>
                    </a:lnTo>
                    <a:cubicBezTo>
                      <a:pt x="5363" y="5"/>
                      <a:pt x="5362" y="5"/>
                      <a:pt x="5362" y="3"/>
                    </a:cubicBezTo>
                    <a:cubicBezTo>
                      <a:pt x="5362" y="2"/>
                      <a:pt x="5363" y="1"/>
                      <a:pt x="5364" y="1"/>
                    </a:cubicBezTo>
                    <a:close/>
                    <a:moveTo>
                      <a:pt x="5372" y="1"/>
                    </a:moveTo>
                    <a:lnTo>
                      <a:pt x="5372" y="1"/>
                    </a:lnTo>
                    <a:cubicBezTo>
                      <a:pt x="5374" y="1"/>
                      <a:pt x="5374" y="2"/>
                      <a:pt x="5374" y="3"/>
                    </a:cubicBezTo>
                    <a:cubicBezTo>
                      <a:pt x="5374" y="5"/>
                      <a:pt x="5374" y="5"/>
                      <a:pt x="5372" y="5"/>
                    </a:cubicBezTo>
                    <a:lnTo>
                      <a:pt x="5372" y="5"/>
                    </a:lnTo>
                    <a:cubicBezTo>
                      <a:pt x="5371" y="5"/>
                      <a:pt x="5370" y="5"/>
                      <a:pt x="5370" y="3"/>
                    </a:cubicBezTo>
                    <a:cubicBezTo>
                      <a:pt x="5370" y="2"/>
                      <a:pt x="5371" y="1"/>
                      <a:pt x="5372" y="1"/>
                    </a:cubicBezTo>
                    <a:close/>
                    <a:moveTo>
                      <a:pt x="5380" y="1"/>
                    </a:moveTo>
                    <a:lnTo>
                      <a:pt x="5380" y="1"/>
                    </a:lnTo>
                    <a:cubicBezTo>
                      <a:pt x="5382" y="1"/>
                      <a:pt x="5382" y="2"/>
                      <a:pt x="5382" y="3"/>
                    </a:cubicBezTo>
                    <a:cubicBezTo>
                      <a:pt x="5382" y="5"/>
                      <a:pt x="5382" y="5"/>
                      <a:pt x="5380" y="5"/>
                    </a:cubicBezTo>
                    <a:lnTo>
                      <a:pt x="5380" y="5"/>
                    </a:lnTo>
                    <a:cubicBezTo>
                      <a:pt x="5379" y="5"/>
                      <a:pt x="5378" y="5"/>
                      <a:pt x="5378" y="3"/>
                    </a:cubicBezTo>
                    <a:cubicBezTo>
                      <a:pt x="5378" y="2"/>
                      <a:pt x="5379" y="1"/>
                      <a:pt x="5380" y="1"/>
                    </a:cubicBezTo>
                    <a:close/>
                    <a:moveTo>
                      <a:pt x="5388" y="1"/>
                    </a:moveTo>
                    <a:lnTo>
                      <a:pt x="5388" y="1"/>
                    </a:lnTo>
                    <a:cubicBezTo>
                      <a:pt x="5390" y="1"/>
                      <a:pt x="5390" y="2"/>
                      <a:pt x="5390" y="3"/>
                    </a:cubicBezTo>
                    <a:cubicBezTo>
                      <a:pt x="5390" y="5"/>
                      <a:pt x="5390" y="5"/>
                      <a:pt x="5388" y="5"/>
                    </a:cubicBezTo>
                    <a:lnTo>
                      <a:pt x="5388" y="5"/>
                    </a:lnTo>
                    <a:cubicBezTo>
                      <a:pt x="5387" y="5"/>
                      <a:pt x="5386" y="5"/>
                      <a:pt x="5386" y="3"/>
                    </a:cubicBezTo>
                    <a:cubicBezTo>
                      <a:pt x="5386" y="2"/>
                      <a:pt x="5387" y="1"/>
                      <a:pt x="5388" y="1"/>
                    </a:cubicBezTo>
                    <a:close/>
                    <a:moveTo>
                      <a:pt x="5396" y="1"/>
                    </a:moveTo>
                    <a:lnTo>
                      <a:pt x="5396" y="1"/>
                    </a:lnTo>
                    <a:cubicBezTo>
                      <a:pt x="5398" y="1"/>
                      <a:pt x="5398" y="2"/>
                      <a:pt x="5398" y="3"/>
                    </a:cubicBezTo>
                    <a:cubicBezTo>
                      <a:pt x="5398" y="5"/>
                      <a:pt x="5398" y="5"/>
                      <a:pt x="5396" y="5"/>
                    </a:cubicBezTo>
                    <a:lnTo>
                      <a:pt x="5396" y="5"/>
                    </a:lnTo>
                    <a:cubicBezTo>
                      <a:pt x="5395" y="5"/>
                      <a:pt x="5394" y="5"/>
                      <a:pt x="5394" y="3"/>
                    </a:cubicBezTo>
                    <a:cubicBezTo>
                      <a:pt x="5394" y="2"/>
                      <a:pt x="5395" y="1"/>
                      <a:pt x="5396" y="1"/>
                    </a:cubicBezTo>
                    <a:close/>
                    <a:moveTo>
                      <a:pt x="5404" y="1"/>
                    </a:moveTo>
                    <a:lnTo>
                      <a:pt x="5404" y="1"/>
                    </a:lnTo>
                    <a:cubicBezTo>
                      <a:pt x="5406" y="1"/>
                      <a:pt x="5406" y="2"/>
                      <a:pt x="5406" y="3"/>
                    </a:cubicBezTo>
                    <a:cubicBezTo>
                      <a:pt x="5406" y="5"/>
                      <a:pt x="5406" y="5"/>
                      <a:pt x="5404" y="5"/>
                    </a:cubicBezTo>
                    <a:lnTo>
                      <a:pt x="5404" y="5"/>
                    </a:lnTo>
                    <a:cubicBezTo>
                      <a:pt x="5403" y="5"/>
                      <a:pt x="5402" y="5"/>
                      <a:pt x="5402" y="3"/>
                    </a:cubicBezTo>
                    <a:cubicBezTo>
                      <a:pt x="5402" y="2"/>
                      <a:pt x="5403" y="1"/>
                      <a:pt x="5404" y="1"/>
                    </a:cubicBezTo>
                    <a:close/>
                    <a:moveTo>
                      <a:pt x="5412" y="1"/>
                    </a:moveTo>
                    <a:lnTo>
                      <a:pt x="5412" y="1"/>
                    </a:lnTo>
                    <a:cubicBezTo>
                      <a:pt x="5414" y="1"/>
                      <a:pt x="5414" y="2"/>
                      <a:pt x="5414" y="3"/>
                    </a:cubicBezTo>
                    <a:cubicBezTo>
                      <a:pt x="5414" y="5"/>
                      <a:pt x="5414" y="5"/>
                      <a:pt x="5412" y="5"/>
                    </a:cubicBezTo>
                    <a:lnTo>
                      <a:pt x="5412" y="5"/>
                    </a:lnTo>
                    <a:cubicBezTo>
                      <a:pt x="5411" y="5"/>
                      <a:pt x="5410" y="5"/>
                      <a:pt x="5410" y="3"/>
                    </a:cubicBezTo>
                    <a:cubicBezTo>
                      <a:pt x="5410" y="2"/>
                      <a:pt x="5411" y="1"/>
                      <a:pt x="5412" y="1"/>
                    </a:cubicBezTo>
                    <a:close/>
                    <a:moveTo>
                      <a:pt x="5420" y="1"/>
                    </a:moveTo>
                    <a:lnTo>
                      <a:pt x="5420" y="1"/>
                    </a:lnTo>
                    <a:cubicBezTo>
                      <a:pt x="5422" y="1"/>
                      <a:pt x="5422" y="2"/>
                      <a:pt x="5422" y="3"/>
                    </a:cubicBezTo>
                    <a:cubicBezTo>
                      <a:pt x="5422" y="5"/>
                      <a:pt x="5422" y="5"/>
                      <a:pt x="5420" y="5"/>
                    </a:cubicBezTo>
                    <a:lnTo>
                      <a:pt x="5420" y="5"/>
                    </a:lnTo>
                    <a:cubicBezTo>
                      <a:pt x="5419" y="5"/>
                      <a:pt x="5418" y="5"/>
                      <a:pt x="5418" y="3"/>
                    </a:cubicBezTo>
                    <a:cubicBezTo>
                      <a:pt x="5418" y="2"/>
                      <a:pt x="5419" y="1"/>
                      <a:pt x="5420" y="1"/>
                    </a:cubicBezTo>
                    <a:close/>
                    <a:moveTo>
                      <a:pt x="5428" y="1"/>
                    </a:moveTo>
                    <a:lnTo>
                      <a:pt x="5428" y="1"/>
                    </a:lnTo>
                    <a:cubicBezTo>
                      <a:pt x="5430" y="1"/>
                      <a:pt x="5430" y="2"/>
                      <a:pt x="5430" y="3"/>
                    </a:cubicBezTo>
                    <a:cubicBezTo>
                      <a:pt x="5430" y="5"/>
                      <a:pt x="5430" y="5"/>
                      <a:pt x="5428" y="5"/>
                    </a:cubicBezTo>
                    <a:lnTo>
                      <a:pt x="5428" y="5"/>
                    </a:lnTo>
                    <a:cubicBezTo>
                      <a:pt x="5427" y="5"/>
                      <a:pt x="5426" y="5"/>
                      <a:pt x="5426" y="3"/>
                    </a:cubicBezTo>
                    <a:cubicBezTo>
                      <a:pt x="5426" y="2"/>
                      <a:pt x="5427" y="1"/>
                      <a:pt x="5428" y="1"/>
                    </a:cubicBezTo>
                    <a:close/>
                    <a:moveTo>
                      <a:pt x="5436" y="1"/>
                    </a:moveTo>
                    <a:lnTo>
                      <a:pt x="5436" y="1"/>
                    </a:lnTo>
                    <a:cubicBezTo>
                      <a:pt x="5438" y="1"/>
                      <a:pt x="5438" y="2"/>
                      <a:pt x="5438" y="3"/>
                    </a:cubicBezTo>
                    <a:cubicBezTo>
                      <a:pt x="5438" y="5"/>
                      <a:pt x="5438" y="5"/>
                      <a:pt x="5436" y="5"/>
                    </a:cubicBezTo>
                    <a:lnTo>
                      <a:pt x="5436" y="5"/>
                    </a:lnTo>
                    <a:cubicBezTo>
                      <a:pt x="5435" y="5"/>
                      <a:pt x="5434" y="5"/>
                      <a:pt x="5434" y="3"/>
                    </a:cubicBezTo>
                    <a:cubicBezTo>
                      <a:pt x="5434" y="2"/>
                      <a:pt x="5435" y="1"/>
                      <a:pt x="5436" y="1"/>
                    </a:cubicBezTo>
                    <a:close/>
                    <a:moveTo>
                      <a:pt x="5444" y="1"/>
                    </a:moveTo>
                    <a:lnTo>
                      <a:pt x="5444" y="1"/>
                    </a:lnTo>
                    <a:cubicBezTo>
                      <a:pt x="5446" y="1"/>
                      <a:pt x="5446" y="2"/>
                      <a:pt x="5446" y="3"/>
                    </a:cubicBezTo>
                    <a:cubicBezTo>
                      <a:pt x="5446" y="5"/>
                      <a:pt x="5446" y="5"/>
                      <a:pt x="5444" y="5"/>
                    </a:cubicBezTo>
                    <a:lnTo>
                      <a:pt x="5444" y="5"/>
                    </a:lnTo>
                    <a:cubicBezTo>
                      <a:pt x="5443" y="5"/>
                      <a:pt x="5442" y="5"/>
                      <a:pt x="5442" y="3"/>
                    </a:cubicBezTo>
                    <a:cubicBezTo>
                      <a:pt x="5442" y="2"/>
                      <a:pt x="5443" y="1"/>
                      <a:pt x="5444" y="1"/>
                    </a:cubicBezTo>
                    <a:close/>
                    <a:moveTo>
                      <a:pt x="5452" y="1"/>
                    </a:moveTo>
                    <a:lnTo>
                      <a:pt x="5452" y="1"/>
                    </a:lnTo>
                    <a:cubicBezTo>
                      <a:pt x="5454" y="1"/>
                      <a:pt x="5454" y="2"/>
                      <a:pt x="5454" y="3"/>
                    </a:cubicBezTo>
                    <a:cubicBezTo>
                      <a:pt x="5454" y="5"/>
                      <a:pt x="5454" y="5"/>
                      <a:pt x="5452" y="5"/>
                    </a:cubicBezTo>
                    <a:lnTo>
                      <a:pt x="5452" y="5"/>
                    </a:lnTo>
                    <a:cubicBezTo>
                      <a:pt x="5451" y="5"/>
                      <a:pt x="5450" y="5"/>
                      <a:pt x="5450" y="3"/>
                    </a:cubicBezTo>
                    <a:cubicBezTo>
                      <a:pt x="5450" y="2"/>
                      <a:pt x="5451" y="1"/>
                      <a:pt x="5452" y="1"/>
                    </a:cubicBezTo>
                    <a:close/>
                    <a:moveTo>
                      <a:pt x="5460" y="1"/>
                    </a:moveTo>
                    <a:lnTo>
                      <a:pt x="5460" y="1"/>
                    </a:lnTo>
                    <a:cubicBezTo>
                      <a:pt x="5462" y="1"/>
                      <a:pt x="5462" y="2"/>
                      <a:pt x="5462" y="3"/>
                    </a:cubicBezTo>
                    <a:cubicBezTo>
                      <a:pt x="5462" y="5"/>
                      <a:pt x="5462" y="5"/>
                      <a:pt x="5460" y="5"/>
                    </a:cubicBezTo>
                    <a:lnTo>
                      <a:pt x="5460" y="5"/>
                    </a:lnTo>
                    <a:cubicBezTo>
                      <a:pt x="5459" y="5"/>
                      <a:pt x="5458" y="5"/>
                      <a:pt x="5458" y="3"/>
                    </a:cubicBezTo>
                    <a:cubicBezTo>
                      <a:pt x="5458" y="2"/>
                      <a:pt x="5459" y="1"/>
                      <a:pt x="5460" y="1"/>
                    </a:cubicBezTo>
                    <a:close/>
                    <a:moveTo>
                      <a:pt x="5468" y="1"/>
                    </a:moveTo>
                    <a:lnTo>
                      <a:pt x="5468" y="1"/>
                    </a:lnTo>
                    <a:cubicBezTo>
                      <a:pt x="5470" y="1"/>
                      <a:pt x="5470" y="2"/>
                      <a:pt x="5470" y="3"/>
                    </a:cubicBezTo>
                    <a:cubicBezTo>
                      <a:pt x="5470" y="5"/>
                      <a:pt x="5470" y="5"/>
                      <a:pt x="5468" y="5"/>
                    </a:cubicBezTo>
                    <a:lnTo>
                      <a:pt x="5468" y="5"/>
                    </a:lnTo>
                    <a:cubicBezTo>
                      <a:pt x="5467" y="5"/>
                      <a:pt x="5466" y="5"/>
                      <a:pt x="5466" y="3"/>
                    </a:cubicBezTo>
                    <a:cubicBezTo>
                      <a:pt x="5466" y="2"/>
                      <a:pt x="5467" y="1"/>
                      <a:pt x="5468" y="1"/>
                    </a:cubicBezTo>
                    <a:close/>
                    <a:moveTo>
                      <a:pt x="5476" y="1"/>
                    </a:moveTo>
                    <a:lnTo>
                      <a:pt x="5476" y="1"/>
                    </a:lnTo>
                    <a:cubicBezTo>
                      <a:pt x="5478" y="1"/>
                      <a:pt x="5478" y="2"/>
                      <a:pt x="5478" y="3"/>
                    </a:cubicBezTo>
                    <a:cubicBezTo>
                      <a:pt x="5478" y="5"/>
                      <a:pt x="5478" y="5"/>
                      <a:pt x="5476" y="5"/>
                    </a:cubicBezTo>
                    <a:lnTo>
                      <a:pt x="5476" y="5"/>
                    </a:lnTo>
                    <a:cubicBezTo>
                      <a:pt x="5475" y="5"/>
                      <a:pt x="5474" y="5"/>
                      <a:pt x="5474" y="3"/>
                    </a:cubicBezTo>
                    <a:cubicBezTo>
                      <a:pt x="5474" y="2"/>
                      <a:pt x="5475" y="1"/>
                      <a:pt x="5476" y="1"/>
                    </a:cubicBezTo>
                    <a:close/>
                    <a:moveTo>
                      <a:pt x="5484" y="1"/>
                    </a:moveTo>
                    <a:lnTo>
                      <a:pt x="5485" y="1"/>
                    </a:lnTo>
                    <a:cubicBezTo>
                      <a:pt x="5486" y="1"/>
                      <a:pt x="5487" y="2"/>
                      <a:pt x="5487" y="3"/>
                    </a:cubicBezTo>
                    <a:cubicBezTo>
                      <a:pt x="5487" y="5"/>
                      <a:pt x="5486" y="5"/>
                      <a:pt x="5485" y="5"/>
                    </a:cubicBezTo>
                    <a:lnTo>
                      <a:pt x="5484" y="5"/>
                    </a:lnTo>
                    <a:cubicBezTo>
                      <a:pt x="5483" y="5"/>
                      <a:pt x="5482" y="5"/>
                      <a:pt x="5482" y="3"/>
                    </a:cubicBezTo>
                    <a:cubicBezTo>
                      <a:pt x="5482" y="2"/>
                      <a:pt x="5483" y="1"/>
                      <a:pt x="5484" y="1"/>
                    </a:cubicBezTo>
                    <a:close/>
                    <a:moveTo>
                      <a:pt x="5493" y="1"/>
                    </a:moveTo>
                    <a:lnTo>
                      <a:pt x="5493" y="1"/>
                    </a:lnTo>
                    <a:cubicBezTo>
                      <a:pt x="5494" y="1"/>
                      <a:pt x="5495" y="2"/>
                      <a:pt x="5495" y="3"/>
                    </a:cubicBezTo>
                    <a:cubicBezTo>
                      <a:pt x="5495" y="5"/>
                      <a:pt x="5494" y="5"/>
                      <a:pt x="5493" y="5"/>
                    </a:cubicBezTo>
                    <a:lnTo>
                      <a:pt x="5493" y="5"/>
                    </a:lnTo>
                    <a:cubicBezTo>
                      <a:pt x="5491" y="5"/>
                      <a:pt x="5491" y="5"/>
                      <a:pt x="5491" y="3"/>
                    </a:cubicBezTo>
                    <a:cubicBezTo>
                      <a:pt x="5491" y="2"/>
                      <a:pt x="5491" y="1"/>
                      <a:pt x="5493" y="1"/>
                    </a:cubicBezTo>
                    <a:close/>
                    <a:moveTo>
                      <a:pt x="5501" y="1"/>
                    </a:moveTo>
                    <a:lnTo>
                      <a:pt x="5501" y="1"/>
                    </a:lnTo>
                    <a:cubicBezTo>
                      <a:pt x="5502" y="1"/>
                      <a:pt x="5503" y="2"/>
                      <a:pt x="5503" y="3"/>
                    </a:cubicBezTo>
                    <a:cubicBezTo>
                      <a:pt x="5503" y="5"/>
                      <a:pt x="5502" y="5"/>
                      <a:pt x="5501" y="5"/>
                    </a:cubicBezTo>
                    <a:lnTo>
                      <a:pt x="5501" y="5"/>
                    </a:lnTo>
                    <a:cubicBezTo>
                      <a:pt x="5499" y="5"/>
                      <a:pt x="5499" y="5"/>
                      <a:pt x="5499" y="3"/>
                    </a:cubicBezTo>
                    <a:cubicBezTo>
                      <a:pt x="5499" y="2"/>
                      <a:pt x="5499" y="1"/>
                      <a:pt x="5501" y="1"/>
                    </a:cubicBezTo>
                    <a:close/>
                    <a:moveTo>
                      <a:pt x="5509" y="1"/>
                    </a:moveTo>
                    <a:lnTo>
                      <a:pt x="5509" y="1"/>
                    </a:lnTo>
                    <a:cubicBezTo>
                      <a:pt x="5510" y="1"/>
                      <a:pt x="5511" y="2"/>
                      <a:pt x="5511" y="3"/>
                    </a:cubicBezTo>
                    <a:cubicBezTo>
                      <a:pt x="5511" y="5"/>
                      <a:pt x="5510" y="5"/>
                      <a:pt x="5509" y="5"/>
                    </a:cubicBezTo>
                    <a:lnTo>
                      <a:pt x="5509" y="5"/>
                    </a:lnTo>
                    <a:cubicBezTo>
                      <a:pt x="5507" y="5"/>
                      <a:pt x="5507" y="5"/>
                      <a:pt x="5507" y="3"/>
                    </a:cubicBezTo>
                    <a:cubicBezTo>
                      <a:pt x="5507" y="2"/>
                      <a:pt x="5507" y="1"/>
                      <a:pt x="5509" y="1"/>
                    </a:cubicBezTo>
                    <a:close/>
                    <a:moveTo>
                      <a:pt x="5517" y="1"/>
                    </a:moveTo>
                    <a:lnTo>
                      <a:pt x="5517" y="1"/>
                    </a:lnTo>
                    <a:cubicBezTo>
                      <a:pt x="5518" y="1"/>
                      <a:pt x="5519" y="2"/>
                      <a:pt x="5519" y="3"/>
                    </a:cubicBezTo>
                    <a:cubicBezTo>
                      <a:pt x="5519" y="5"/>
                      <a:pt x="5518" y="5"/>
                      <a:pt x="5517" y="5"/>
                    </a:cubicBezTo>
                    <a:lnTo>
                      <a:pt x="5517" y="5"/>
                    </a:lnTo>
                    <a:cubicBezTo>
                      <a:pt x="5515" y="5"/>
                      <a:pt x="5515" y="5"/>
                      <a:pt x="5515" y="3"/>
                    </a:cubicBezTo>
                    <a:cubicBezTo>
                      <a:pt x="5515" y="2"/>
                      <a:pt x="5515" y="1"/>
                      <a:pt x="5517" y="1"/>
                    </a:cubicBezTo>
                    <a:close/>
                    <a:moveTo>
                      <a:pt x="5525" y="1"/>
                    </a:moveTo>
                    <a:lnTo>
                      <a:pt x="5525" y="1"/>
                    </a:lnTo>
                    <a:cubicBezTo>
                      <a:pt x="5526" y="1"/>
                      <a:pt x="5527" y="2"/>
                      <a:pt x="5527" y="3"/>
                    </a:cubicBezTo>
                    <a:cubicBezTo>
                      <a:pt x="5527" y="5"/>
                      <a:pt x="5526" y="5"/>
                      <a:pt x="5525" y="5"/>
                    </a:cubicBezTo>
                    <a:lnTo>
                      <a:pt x="5525" y="5"/>
                    </a:lnTo>
                    <a:cubicBezTo>
                      <a:pt x="5523" y="5"/>
                      <a:pt x="5523" y="5"/>
                      <a:pt x="5523" y="3"/>
                    </a:cubicBezTo>
                    <a:cubicBezTo>
                      <a:pt x="5523" y="2"/>
                      <a:pt x="5523" y="1"/>
                      <a:pt x="5525" y="1"/>
                    </a:cubicBezTo>
                    <a:close/>
                    <a:moveTo>
                      <a:pt x="5533" y="1"/>
                    </a:moveTo>
                    <a:lnTo>
                      <a:pt x="5533" y="1"/>
                    </a:lnTo>
                    <a:cubicBezTo>
                      <a:pt x="5534" y="1"/>
                      <a:pt x="5535" y="2"/>
                      <a:pt x="5535" y="3"/>
                    </a:cubicBezTo>
                    <a:cubicBezTo>
                      <a:pt x="5535" y="5"/>
                      <a:pt x="5534" y="5"/>
                      <a:pt x="5533" y="5"/>
                    </a:cubicBezTo>
                    <a:lnTo>
                      <a:pt x="5533" y="5"/>
                    </a:lnTo>
                    <a:cubicBezTo>
                      <a:pt x="5531" y="5"/>
                      <a:pt x="5531" y="5"/>
                      <a:pt x="5531" y="3"/>
                    </a:cubicBezTo>
                    <a:cubicBezTo>
                      <a:pt x="5531" y="2"/>
                      <a:pt x="5531" y="1"/>
                      <a:pt x="5533" y="1"/>
                    </a:cubicBezTo>
                    <a:close/>
                    <a:moveTo>
                      <a:pt x="5541" y="1"/>
                    </a:moveTo>
                    <a:lnTo>
                      <a:pt x="5541" y="1"/>
                    </a:lnTo>
                    <a:cubicBezTo>
                      <a:pt x="5542" y="1"/>
                      <a:pt x="5543" y="2"/>
                      <a:pt x="5543" y="3"/>
                    </a:cubicBezTo>
                    <a:cubicBezTo>
                      <a:pt x="5543" y="5"/>
                      <a:pt x="5542" y="5"/>
                      <a:pt x="5541" y="5"/>
                    </a:cubicBezTo>
                    <a:lnTo>
                      <a:pt x="5541" y="5"/>
                    </a:lnTo>
                    <a:cubicBezTo>
                      <a:pt x="5539" y="5"/>
                      <a:pt x="5539" y="5"/>
                      <a:pt x="5539" y="3"/>
                    </a:cubicBezTo>
                    <a:cubicBezTo>
                      <a:pt x="5539" y="2"/>
                      <a:pt x="5539" y="1"/>
                      <a:pt x="5541" y="1"/>
                    </a:cubicBezTo>
                    <a:close/>
                    <a:moveTo>
                      <a:pt x="5549" y="1"/>
                    </a:moveTo>
                    <a:lnTo>
                      <a:pt x="5549" y="1"/>
                    </a:lnTo>
                    <a:cubicBezTo>
                      <a:pt x="5550" y="1"/>
                      <a:pt x="5551" y="2"/>
                      <a:pt x="5551" y="3"/>
                    </a:cubicBezTo>
                    <a:cubicBezTo>
                      <a:pt x="5551" y="5"/>
                      <a:pt x="5550" y="5"/>
                      <a:pt x="5549" y="5"/>
                    </a:cubicBezTo>
                    <a:lnTo>
                      <a:pt x="5549" y="5"/>
                    </a:lnTo>
                    <a:cubicBezTo>
                      <a:pt x="5547" y="5"/>
                      <a:pt x="5547" y="5"/>
                      <a:pt x="5547" y="3"/>
                    </a:cubicBezTo>
                    <a:cubicBezTo>
                      <a:pt x="5547" y="2"/>
                      <a:pt x="5547" y="1"/>
                      <a:pt x="5549" y="1"/>
                    </a:cubicBezTo>
                    <a:close/>
                    <a:moveTo>
                      <a:pt x="5557" y="1"/>
                    </a:moveTo>
                    <a:lnTo>
                      <a:pt x="5557" y="1"/>
                    </a:lnTo>
                    <a:cubicBezTo>
                      <a:pt x="5558" y="1"/>
                      <a:pt x="5559" y="2"/>
                      <a:pt x="5559" y="3"/>
                    </a:cubicBezTo>
                    <a:cubicBezTo>
                      <a:pt x="5559" y="5"/>
                      <a:pt x="5558" y="5"/>
                      <a:pt x="5557" y="5"/>
                    </a:cubicBezTo>
                    <a:lnTo>
                      <a:pt x="5557" y="5"/>
                    </a:lnTo>
                    <a:cubicBezTo>
                      <a:pt x="5555" y="5"/>
                      <a:pt x="5555" y="5"/>
                      <a:pt x="5555" y="3"/>
                    </a:cubicBezTo>
                    <a:cubicBezTo>
                      <a:pt x="5555" y="2"/>
                      <a:pt x="5555" y="1"/>
                      <a:pt x="5557" y="1"/>
                    </a:cubicBezTo>
                    <a:close/>
                    <a:moveTo>
                      <a:pt x="5565" y="1"/>
                    </a:moveTo>
                    <a:lnTo>
                      <a:pt x="5565" y="1"/>
                    </a:lnTo>
                    <a:cubicBezTo>
                      <a:pt x="5566" y="1"/>
                      <a:pt x="5567" y="2"/>
                      <a:pt x="5567" y="3"/>
                    </a:cubicBezTo>
                    <a:cubicBezTo>
                      <a:pt x="5567" y="5"/>
                      <a:pt x="5566" y="5"/>
                      <a:pt x="5565" y="5"/>
                    </a:cubicBezTo>
                    <a:lnTo>
                      <a:pt x="5565" y="5"/>
                    </a:lnTo>
                    <a:cubicBezTo>
                      <a:pt x="5563" y="5"/>
                      <a:pt x="5563" y="5"/>
                      <a:pt x="5563" y="3"/>
                    </a:cubicBezTo>
                    <a:cubicBezTo>
                      <a:pt x="5563" y="2"/>
                      <a:pt x="5563" y="1"/>
                      <a:pt x="5565" y="1"/>
                    </a:cubicBezTo>
                    <a:close/>
                    <a:moveTo>
                      <a:pt x="5573" y="1"/>
                    </a:moveTo>
                    <a:lnTo>
                      <a:pt x="5573" y="1"/>
                    </a:lnTo>
                    <a:cubicBezTo>
                      <a:pt x="5574" y="1"/>
                      <a:pt x="5575" y="2"/>
                      <a:pt x="5575" y="3"/>
                    </a:cubicBezTo>
                    <a:cubicBezTo>
                      <a:pt x="5575" y="5"/>
                      <a:pt x="5574" y="5"/>
                      <a:pt x="5573" y="5"/>
                    </a:cubicBezTo>
                    <a:lnTo>
                      <a:pt x="5573" y="5"/>
                    </a:lnTo>
                    <a:cubicBezTo>
                      <a:pt x="5571" y="5"/>
                      <a:pt x="5571" y="5"/>
                      <a:pt x="5571" y="3"/>
                    </a:cubicBezTo>
                    <a:cubicBezTo>
                      <a:pt x="5571" y="2"/>
                      <a:pt x="5571" y="1"/>
                      <a:pt x="5573" y="1"/>
                    </a:cubicBezTo>
                    <a:close/>
                    <a:moveTo>
                      <a:pt x="5581" y="1"/>
                    </a:moveTo>
                    <a:lnTo>
                      <a:pt x="5581" y="1"/>
                    </a:lnTo>
                    <a:cubicBezTo>
                      <a:pt x="5582" y="1"/>
                      <a:pt x="5583" y="2"/>
                      <a:pt x="5583" y="3"/>
                    </a:cubicBezTo>
                    <a:cubicBezTo>
                      <a:pt x="5583" y="5"/>
                      <a:pt x="5582" y="5"/>
                      <a:pt x="5581" y="5"/>
                    </a:cubicBezTo>
                    <a:lnTo>
                      <a:pt x="5581" y="5"/>
                    </a:lnTo>
                    <a:cubicBezTo>
                      <a:pt x="5579" y="5"/>
                      <a:pt x="5579" y="5"/>
                      <a:pt x="5579" y="3"/>
                    </a:cubicBezTo>
                    <a:cubicBezTo>
                      <a:pt x="5579" y="2"/>
                      <a:pt x="5579" y="1"/>
                      <a:pt x="5581" y="1"/>
                    </a:cubicBezTo>
                    <a:close/>
                    <a:moveTo>
                      <a:pt x="5589" y="1"/>
                    </a:moveTo>
                    <a:lnTo>
                      <a:pt x="5589" y="1"/>
                    </a:lnTo>
                    <a:cubicBezTo>
                      <a:pt x="5590" y="1"/>
                      <a:pt x="5591" y="2"/>
                      <a:pt x="5591" y="3"/>
                    </a:cubicBezTo>
                    <a:cubicBezTo>
                      <a:pt x="5591" y="5"/>
                      <a:pt x="5590" y="5"/>
                      <a:pt x="5589" y="5"/>
                    </a:cubicBezTo>
                    <a:lnTo>
                      <a:pt x="5589" y="5"/>
                    </a:lnTo>
                    <a:cubicBezTo>
                      <a:pt x="5587" y="5"/>
                      <a:pt x="5587" y="5"/>
                      <a:pt x="5587" y="3"/>
                    </a:cubicBezTo>
                    <a:cubicBezTo>
                      <a:pt x="5587" y="2"/>
                      <a:pt x="5587" y="1"/>
                      <a:pt x="5589" y="1"/>
                    </a:cubicBezTo>
                    <a:close/>
                    <a:moveTo>
                      <a:pt x="5597" y="1"/>
                    </a:moveTo>
                    <a:lnTo>
                      <a:pt x="5597" y="1"/>
                    </a:lnTo>
                    <a:cubicBezTo>
                      <a:pt x="5598" y="1"/>
                      <a:pt x="5599" y="2"/>
                      <a:pt x="5599" y="3"/>
                    </a:cubicBezTo>
                    <a:cubicBezTo>
                      <a:pt x="5599" y="5"/>
                      <a:pt x="5598" y="5"/>
                      <a:pt x="5597" y="5"/>
                    </a:cubicBezTo>
                    <a:lnTo>
                      <a:pt x="5597" y="5"/>
                    </a:lnTo>
                    <a:cubicBezTo>
                      <a:pt x="5595" y="5"/>
                      <a:pt x="5595" y="5"/>
                      <a:pt x="5595" y="3"/>
                    </a:cubicBezTo>
                    <a:cubicBezTo>
                      <a:pt x="5595" y="2"/>
                      <a:pt x="5595" y="1"/>
                      <a:pt x="5597" y="1"/>
                    </a:cubicBezTo>
                    <a:close/>
                    <a:moveTo>
                      <a:pt x="5605" y="1"/>
                    </a:moveTo>
                    <a:lnTo>
                      <a:pt x="5605" y="1"/>
                    </a:lnTo>
                    <a:cubicBezTo>
                      <a:pt x="5606" y="1"/>
                      <a:pt x="5607" y="2"/>
                      <a:pt x="5607" y="3"/>
                    </a:cubicBezTo>
                    <a:cubicBezTo>
                      <a:pt x="5607" y="5"/>
                      <a:pt x="5606" y="5"/>
                      <a:pt x="5605" y="5"/>
                    </a:cubicBezTo>
                    <a:lnTo>
                      <a:pt x="5605" y="5"/>
                    </a:lnTo>
                    <a:cubicBezTo>
                      <a:pt x="5603" y="5"/>
                      <a:pt x="5603" y="5"/>
                      <a:pt x="5603" y="3"/>
                    </a:cubicBezTo>
                    <a:cubicBezTo>
                      <a:pt x="5603" y="2"/>
                      <a:pt x="5603" y="1"/>
                      <a:pt x="5605" y="1"/>
                    </a:cubicBezTo>
                    <a:close/>
                    <a:moveTo>
                      <a:pt x="5613" y="1"/>
                    </a:moveTo>
                    <a:lnTo>
                      <a:pt x="5613" y="1"/>
                    </a:lnTo>
                    <a:cubicBezTo>
                      <a:pt x="5614" y="1"/>
                      <a:pt x="5615" y="2"/>
                      <a:pt x="5615" y="3"/>
                    </a:cubicBezTo>
                    <a:cubicBezTo>
                      <a:pt x="5615" y="5"/>
                      <a:pt x="5614" y="5"/>
                      <a:pt x="5613" y="5"/>
                    </a:cubicBezTo>
                    <a:lnTo>
                      <a:pt x="5613" y="5"/>
                    </a:lnTo>
                    <a:cubicBezTo>
                      <a:pt x="5611" y="5"/>
                      <a:pt x="5611" y="5"/>
                      <a:pt x="5611" y="3"/>
                    </a:cubicBezTo>
                    <a:cubicBezTo>
                      <a:pt x="5611" y="2"/>
                      <a:pt x="5611" y="1"/>
                      <a:pt x="5613" y="1"/>
                    </a:cubicBezTo>
                    <a:close/>
                    <a:moveTo>
                      <a:pt x="5621" y="1"/>
                    </a:moveTo>
                    <a:lnTo>
                      <a:pt x="5621" y="1"/>
                    </a:lnTo>
                    <a:cubicBezTo>
                      <a:pt x="5622" y="1"/>
                      <a:pt x="5623" y="2"/>
                      <a:pt x="5623" y="3"/>
                    </a:cubicBezTo>
                    <a:cubicBezTo>
                      <a:pt x="5623" y="5"/>
                      <a:pt x="5622" y="5"/>
                      <a:pt x="5621" y="5"/>
                    </a:cubicBezTo>
                    <a:lnTo>
                      <a:pt x="5621" y="5"/>
                    </a:lnTo>
                    <a:cubicBezTo>
                      <a:pt x="5619" y="5"/>
                      <a:pt x="5619" y="5"/>
                      <a:pt x="5619" y="3"/>
                    </a:cubicBezTo>
                    <a:cubicBezTo>
                      <a:pt x="5619" y="2"/>
                      <a:pt x="5619" y="1"/>
                      <a:pt x="5621" y="1"/>
                    </a:cubicBezTo>
                    <a:close/>
                    <a:moveTo>
                      <a:pt x="5629" y="1"/>
                    </a:moveTo>
                    <a:lnTo>
                      <a:pt x="5629" y="1"/>
                    </a:lnTo>
                    <a:cubicBezTo>
                      <a:pt x="5630" y="1"/>
                      <a:pt x="5631" y="2"/>
                      <a:pt x="5631" y="3"/>
                    </a:cubicBezTo>
                    <a:cubicBezTo>
                      <a:pt x="5631" y="5"/>
                      <a:pt x="5630" y="5"/>
                      <a:pt x="5629" y="5"/>
                    </a:cubicBezTo>
                    <a:lnTo>
                      <a:pt x="5629" y="5"/>
                    </a:lnTo>
                    <a:cubicBezTo>
                      <a:pt x="5627" y="5"/>
                      <a:pt x="5627" y="5"/>
                      <a:pt x="5627" y="3"/>
                    </a:cubicBezTo>
                    <a:cubicBezTo>
                      <a:pt x="5627" y="2"/>
                      <a:pt x="5627" y="1"/>
                      <a:pt x="5629" y="1"/>
                    </a:cubicBezTo>
                    <a:close/>
                    <a:moveTo>
                      <a:pt x="5637" y="1"/>
                    </a:moveTo>
                    <a:lnTo>
                      <a:pt x="5637" y="1"/>
                    </a:lnTo>
                    <a:cubicBezTo>
                      <a:pt x="5638" y="1"/>
                      <a:pt x="5639" y="2"/>
                      <a:pt x="5639" y="3"/>
                    </a:cubicBezTo>
                    <a:cubicBezTo>
                      <a:pt x="5639" y="5"/>
                      <a:pt x="5638" y="5"/>
                      <a:pt x="5637" y="5"/>
                    </a:cubicBezTo>
                    <a:lnTo>
                      <a:pt x="5637" y="5"/>
                    </a:lnTo>
                    <a:cubicBezTo>
                      <a:pt x="5635" y="5"/>
                      <a:pt x="5635" y="5"/>
                      <a:pt x="5635" y="3"/>
                    </a:cubicBezTo>
                    <a:cubicBezTo>
                      <a:pt x="5635" y="2"/>
                      <a:pt x="5635" y="1"/>
                      <a:pt x="5637" y="1"/>
                    </a:cubicBezTo>
                    <a:close/>
                    <a:moveTo>
                      <a:pt x="5645" y="1"/>
                    </a:moveTo>
                    <a:lnTo>
                      <a:pt x="5645" y="1"/>
                    </a:lnTo>
                    <a:cubicBezTo>
                      <a:pt x="5646" y="1"/>
                      <a:pt x="5647" y="2"/>
                      <a:pt x="5647" y="3"/>
                    </a:cubicBezTo>
                    <a:cubicBezTo>
                      <a:pt x="5647" y="5"/>
                      <a:pt x="5646" y="5"/>
                      <a:pt x="5645" y="5"/>
                    </a:cubicBezTo>
                    <a:lnTo>
                      <a:pt x="5645" y="5"/>
                    </a:lnTo>
                    <a:cubicBezTo>
                      <a:pt x="5643" y="5"/>
                      <a:pt x="5643" y="5"/>
                      <a:pt x="5643" y="3"/>
                    </a:cubicBezTo>
                    <a:cubicBezTo>
                      <a:pt x="5643" y="2"/>
                      <a:pt x="5643" y="1"/>
                      <a:pt x="5645" y="1"/>
                    </a:cubicBezTo>
                    <a:close/>
                    <a:moveTo>
                      <a:pt x="5653" y="1"/>
                    </a:moveTo>
                    <a:lnTo>
                      <a:pt x="5653" y="1"/>
                    </a:lnTo>
                    <a:cubicBezTo>
                      <a:pt x="5654" y="1"/>
                      <a:pt x="5655" y="2"/>
                      <a:pt x="5655" y="3"/>
                    </a:cubicBezTo>
                    <a:cubicBezTo>
                      <a:pt x="5655" y="5"/>
                      <a:pt x="5654" y="5"/>
                      <a:pt x="5653" y="5"/>
                    </a:cubicBezTo>
                    <a:lnTo>
                      <a:pt x="5653" y="5"/>
                    </a:lnTo>
                    <a:cubicBezTo>
                      <a:pt x="5651" y="5"/>
                      <a:pt x="5651" y="5"/>
                      <a:pt x="5651" y="3"/>
                    </a:cubicBezTo>
                    <a:cubicBezTo>
                      <a:pt x="5651" y="2"/>
                      <a:pt x="5651" y="1"/>
                      <a:pt x="5653" y="1"/>
                    </a:cubicBezTo>
                    <a:close/>
                    <a:moveTo>
                      <a:pt x="5661" y="1"/>
                    </a:moveTo>
                    <a:lnTo>
                      <a:pt x="5661" y="1"/>
                    </a:lnTo>
                    <a:cubicBezTo>
                      <a:pt x="5662" y="1"/>
                      <a:pt x="5663" y="2"/>
                      <a:pt x="5663" y="3"/>
                    </a:cubicBezTo>
                    <a:cubicBezTo>
                      <a:pt x="5663" y="5"/>
                      <a:pt x="5662" y="5"/>
                      <a:pt x="5661" y="5"/>
                    </a:cubicBezTo>
                    <a:lnTo>
                      <a:pt x="5661" y="5"/>
                    </a:lnTo>
                    <a:cubicBezTo>
                      <a:pt x="5659" y="5"/>
                      <a:pt x="5659" y="5"/>
                      <a:pt x="5659" y="3"/>
                    </a:cubicBezTo>
                    <a:cubicBezTo>
                      <a:pt x="5659" y="2"/>
                      <a:pt x="5659" y="1"/>
                      <a:pt x="5661" y="1"/>
                    </a:cubicBezTo>
                    <a:close/>
                    <a:moveTo>
                      <a:pt x="5669" y="1"/>
                    </a:moveTo>
                    <a:lnTo>
                      <a:pt x="5669" y="1"/>
                    </a:lnTo>
                    <a:cubicBezTo>
                      <a:pt x="5670" y="1"/>
                      <a:pt x="5671" y="2"/>
                      <a:pt x="5671" y="3"/>
                    </a:cubicBezTo>
                    <a:cubicBezTo>
                      <a:pt x="5671" y="5"/>
                      <a:pt x="5670" y="5"/>
                      <a:pt x="5669" y="5"/>
                    </a:cubicBezTo>
                    <a:lnTo>
                      <a:pt x="5669" y="5"/>
                    </a:lnTo>
                    <a:cubicBezTo>
                      <a:pt x="5667" y="5"/>
                      <a:pt x="5667" y="5"/>
                      <a:pt x="5667" y="3"/>
                    </a:cubicBezTo>
                    <a:cubicBezTo>
                      <a:pt x="5667" y="2"/>
                      <a:pt x="5667" y="1"/>
                      <a:pt x="5669" y="1"/>
                    </a:cubicBezTo>
                    <a:close/>
                    <a:moveTo>
                      <a:pt x="5677" y="2"/>
                    </a:moveTo>
                    <a:lnTo>
                      <a:pt x="5677" y="2"/>
                    </a:lnTo>
                    <a:cubicBezTo>
                      <a:pt x="5678" y="2"/>
                      <a:pt x="5679" y="2"/>
                      <a:pt x="5679" y="4"/>
                    </a:cubicBezTo>
                    <a:cubicBezTo>
                      <a:pt x="5679" y="5"/>
                      <a:pt x="5678" y="6"/>
                      <a:pt x="5677" y="6"/>
                    </a:cubicBezTo>
                    <a:lnTo>
                      <a:pt x="5677" y="6"/>
                    </a:lnTo>
                    <a:cubicBezTo>
                      <a:pt x="5675" y="6"/>
                      <a:pt x="5675" y="5"/>
                      <a:pt x="5675" y="4"/>
                    </a:cubicBezTo>
                    <a:cubicBezTo>
                      <a:pt x="5675" y="2"/>
                      <a:pt x="5675" y="2"/>
                      <a:pt x="5677" y="2"/>
                    </a:cubicBezTo>
                    <a:close/>
                    <a:moveTo>
                      <a:pt x="5685" y="2"/>
                    </a:moveTo>
                    <a:lnTo>
                      <a:pt x="5685" y="2"/>
                    </a:lnTo>
                    <a:cubicBezTo>
                      <a:pt x="5686" y="2"/>
                      <a:pt x="5687" y="2"/>
                      <a:pt x="5687" y="4"/>
                    </a:cubicBezTo>
                    <a:cubicBezTo>
                      <a:pt x="5687" y="5"/>
                      <a:pt x="5686" y="6"/>
                      <a:pt x="5685" y="6"/>
                    </a:cubicBezTo>
                    <a:lnTo>
                      <a:pt x="5685" y="6"/>
                    </a:lnTo>
                    <a:cubicBezTo>
                      <a:pt x="5683" y="6"/>
                      <a:pt x="5683" y="5"/>
                      <a:pt x="5683" y="4"/>
                    </a:cubicBezTo>
                    <a:cubicBezTo>
                      <a:pt x="5683" y="2"/>
                      <a:pt x="5683" y="2"/>
                      <a:pt x="5685" y="2"/>
                    </a:cubicBezTo>
                    <a:close/>
                    <a:moveTo>
                      <a:pt x="5693" y="2"/>
                    </a:moveTo>
                    <a:lnTo>
                      <a:pt x="5693" y="2"/>
                    </a:lnTo>
                    <a:cubicBezTo>
                      <a:pt x="5694" y="2"/>
                      <a:pt x="5695" y="2"/>
                      <a:pt x="5695" y="4"/>
                    </a:cubicBezTo>
                    <a:cubicBezTo>
                      <a:pt x="5695" y="5"/>
                      <a:pt x="5694" y="6"/>
                      <a:pt x="5693" y="6"/>
                    </a:cubicBezTo>
                    <a:lnTo>
                      <a:pt x="5693" y="6"/>
                    </a:lnTo>
                    <a:cubicBezTo>
                      <a:pt x="5691" y="6"/>
                      <a:pt x="5691" y="5"/>
                      <a:pt x="5691" y="4"/>
                    </a:cubicBezTo>
                    <a:cubicBezTo>
                      <a:pt x="5691" y="2"/>
                      <a:pt x="5691" y="2"/>
                      <a:pt x="5693" y="2"/>
                    </a:cubicBezTo>
                    <a:close/>
                    <a:moveTo>
                      <a:pt x="5701" y="2"/>
                    </a:moveTo>
                    <a:lnTo>
                      <a:pt x="5701" y="2"/>
                    </a:lnTo>
                    <a:cubicBezTo>
                      <a:pt x="5702" y="2"/>
                      <a:pt x="5703" y="2"/>
                      <a:pt x="5703" y="4"/>
                    </a:cubicBezTo>
                    <a:cubicBezTo>
                      <a:pt x="5703" y="5"/>
                      <a:pt x="5702" y="6"/>
                      <a:pt x="5701" y="6"/>
                    </a:cubicBezTo>
                    <a:lnTo>
                      <a:pt x="5701" y="6"/>
                    </a:lnTo>
                    <a:cubicBezTo>
                      <a:pt x="5699" y="6"/>
                      <a:pt x="5699" y="5"/>
                      <a:pt x="5699" y="4"/>
                    </a:cubicBezTo>
                    <a:cubicBezTo>
                      <a:pt x="5699" y="2"/>
                      <a:pt x="5699" y="2"/>
                      <a:pt x="5701" y="2"/>
                    </a:cubicBezTo>
                    <a:close/>
                    <a:moveTo>
                      <a:pt x="5709" y="2"/>
                    </a:moveTo>
                    <a:lnTo>
                      <a:pt x="5709" y="2"/>
                    </a:lnTo>
                    <a:cubicBezTo>
                      <a:pt x="5710" y="2"/>
                      <a:pt x="5711" y="2"/>
                      <a:pt x="5711" y="4"/>
                    </a:cubicBezTo>
                    <a:cubicBezTo>
                      <a:pt x="5711" y="5"/>
                      <a:pt x="5710" y="6"/>
                      <a:pt x="5709" y="6"/>
                    </a:cubicBezTo>
                    <a:lnTo>
                      <a:pt x="5709" y="6"/>
                    </a:lnTo>
                    <a:cubicBezTo>
                      <a:pt x="5708" y="6"/>
                      <a:pt x="5707" y="5"/>
                      <a:pt x="5707" y="4"/>
                    </a:cubicBezTo>
                    <a:cubicBezTo>
                      <a:pt x="5707" y="2"/>
                      <a:pt x="5708" y="2"/>
                      <a:pt x="5709" y="2"/>
                    </a:cubicBezTo>
                    <a:close/>
                    <a:moveTo>
                      <a:pt x="5717" y="2"/>
                    </a:moveTo>
                    <a:lnTo>
                      <a:pt x="5717" y="2"/>
                    </a:lnTo>
                    <a:cubicBezTo>
                      <a:pt x="5718" y="2"/>
                      <a:pt x="5719" y="2"/>
                      <a:pt x="5719" y="4"/>
                    </a:cubicBezTo>
                    <a:cubicBezTo>
                      <a:pt x="5719" y="5"/>
                      <a:pt x="5718" y="6"/>
                      <a:pt x="5717" y="6"/>
                    </a:cubicBezTo>
                    <a:lnTo>
                      <a:pt x="5717" y="6"/>
                    </a:lnTo>
                    <a:cubicBezTo>
                      <a:pt x="5716" y="6"/>
                      <a:pt x="5715" y="5"/>
                      <a:pt x="5715" y="4"/>
                    </a:cubicBezTo>
                    <a:cubicBezTo>
                      <a:pt x="5715" y="2"/>
                      <a:pt x="5716" y="2"/>
                      <a:pt x="5717" y="2"/>
                    </a:cubicBezTo>
                    <a:close/>
                    <a:moveTo>
                      <a:pt x="5725" y="2"/>
                    </a:moveTo>
                    <a:lnTo>
                      <a:pt x="5725" y="2"/>
                    </a:lnTo>
                    <a:cubicBezTo>
                      <a:pt x="5726" y="2"/>
                      <a:pt x="5727" y="2"/>
                      <a:pt x="5727" y="4"/>
                    </a:cubicBezTo>
                    <a:cubicBezTo>
                      <a:pt x="5727" y="5"/>
                      <a:pt x="5726" y="6"/>
                      <a:pt x="5725" y="6"/>
                    </a:cubicBezTo>
                    <a:lnTo>
                      <a:pt x="5725" y="6"/>
                    </a:lnTo>
                    <a:cubicBezTo>
                      <a:pt x="5724" y="6"/>
                      <a:pt x="5723" y="5"/>
                      <a:pt x="5723" y="4"/>
                    </a:cubicBezTo>
                    <a:cubicBezTo>
                      <a:pt x="5723" y="2"/>
                      <a:pt x="5724" y="2"/>
                      <a:pt x="5725" y="2"/>
                    </a:cubicBezTo>
                    <a:close/>
                    <a:moveTo>
                      <a:pt x="5733" y="2"/>
                    </a:moveTo>
                    <a:lnTo>
                      <a:pt x="5733" y="2"/>
                    </a:lnTo>
                    <a:cubicBezTo>
                      <a:pt x="5734" y="2"/>
                      <a:pt x="5735" y="2"/>
                      <a:pt x="5735" y="4"/>
                    </a:cubicBezTo>
                    <a:cubicBezTo>
                      <a:pt x="5735" y="5"/>
                      <a:pt x="5734" y="6"/>
                      <a:pt x="5733" y="6"/>
                    </a:cubicBezTo>
                    <a:lnTo>
                      <a:pt x="5733" y="6"/>
                    </a:lnTo>
                    <a:cubicBezTo>
                      <a:pt x="5732" y="6"/>
                      <a:pt x="5731" y="5"/>
                      <a:pt x="5731" y="4"/>
                    </a:cubicBezTo>
                    <a:cubicBezTo>
                      <a:pt x="5731" y="2"/>
                      <a:pt x="5732" y="2"/>
                      <a:pt x="5733" y="2"/>
                    </a:cubicBezTo>
                    <a:close/>
                    <a:moveTo>
                      <a:pt x="5741" y="2"/>
                    </a:moveTo>
                    <a:lnTo>
                      <a:pt x="5741" y="2"/>
                    </a:lnTo>
                    <a:cubicBezTo>
                      <a:pt x="5742" y="2"/>
                      <a:pt x="5743" y="2"/>
                      <a:pt x="5743" y="4"/>
                    </a:cubicBezTo>
                    <a:cubicBezTo>
                      <a:pt x="5743" y="5"/>
                      <a:pt x="5742" y="6"/>
                      <a:pt x="5741" y="6"/>
                    </a:cubicBezTo>
                    <a:lnTo>
                      <a:pt x="5741" y="6"/>
                    </a:lnTo>
                    <a:cubicBezTo>
                      <a:pt x="5740" y="6"/>
                      <a:pt x="5739" y="5"/>
                      <a:pt x="5739" y="4"/>
                    </a:cubicBezTo>
                    <a:cubicBezTo>
                      <a:pt x="5739" y="2"/>
                      <a:pt x="5740" y="2"/>
                      <a:pt x="5741" y="2"/>
                    </a:cubicBezTo>
                    <a:close/>
                    <a:moveTo>
                      <a:pt x="5749" y="2"/>
                    </a:moveTo>
                    <a:lnTo>
                      <a:pt x="5749" y="2"/>
                    </a:lnTo>
                    <a:cubicBezTo>
                      <a:pt x="5750" y="2"/>
                      <a:pt x="5751" y="2"/>
                      <a:pt x="5751" y="4"/>
                    </a:cubicBezTo>
                    <a:cubicBezTo>
                      <a:pt x="5751" y="5"/>
                      <a:pt x="5750" y="6"/>
                      <a:pt x="5749" y="6"/>
                    </a:cubicBezTo>
                    <a:lnTo>
                      <a:pt x="5749" y="6"/>
                    </a:lnTo>
                    <a:cubicBezTo>
                      <a:pt x="5748" y="6"/>
                      <a:pt x="5747" y="5"/>
                      <a:pt x="5747" y="4"/>
                    </a:cubicBezTo>
                    <a:cubicBezTo>
                      <a:pt x="5747" y="2"/>
                      <a:pt x="5748" y="2"/>
                      <a:pt x="5749" y="2"/>
                    </a:cubicBezTo>
                    <a:close/>
                    <a:moveTo>
                      <a:pt x="5757" y="2"/>
                    </a:moveTo>
                    <a:lnTo>
                      <a:pt x="5757" y="2"/>
                    </a:lnTo>
                    <a:cubicBezTo>
                      <a:pt x="5758" y="2"/>
                      <a:pt x="5759" y="2"/>
                      <a:pt x="5759" y="4"/>
                    </a:cubicBezTo>
                    <a:cubicBezTo>
                      <a:pt x="5759" y="5"/>
                      <a:pt x="5758" y="6"/>
                      <a:pt x="5757" y="6"/>
                    </a:cubicBezTo>
                    <a:lnTo>
                      <a:pt x="5757" y="6"/>
                    </a:lnTo>
                    <a:cubicBezTo>
                      <a:pt x="5756" y="6"/>
                      <a:pt x="5755" y="5"/>
                      <a:pt x="5755" y="4"/>
                    </a:cubicBezTo>
                    <a:cubicBezTo>
                      <a:pt x="5755" y="2"/>
                      <a:pt x="5756" y="2"/>
                      <a:pt x="5757" y="2"/>
                    </a:cubicBezTo>
                    <a:close/>
                    <a:moveTo>
                      <a:pt x="5765" y="2"/>
                    </a:moveTo>
                    <a:lnTo>
                      <a:pt x="5765" y="2"/>
                    </a:lnTo>
                    <a:cubicBezTo>
                      <a:pt x="5766" y="2"/>
                      <a:pt x="5767" y="2"/>
                      <a:pt x="5767" y="4"/>
                    </a:cubicBezTo>
                    <a:cubicBezTo>
                      <a:pt x="5767" y="5"/>
                      <a:pt x="5766" y="6"/>
                      <a:pt x="5765" y="6"/>
                    </a:cubicBezTo>
                    <a:lnTo>
                      <a:pt x="5765" y="6"/>
                    </a:lnTo>
                    <a:cubicBezTo>
                      <a:pt x="5764" y="6"/>
                      <a:pt x="5763" y="5"/>
                      <a:pt x="5763" y="4"/>
                    </a:cubicBezTo>
                    <a:cubicBezTo>
                      <a:pt x="5763" y="2"/>
                      <a:pt x="5764" y="2"/>
                      <a:pt x="5765" y="2"/>
                    </a:cubicBezTo>
                    <a:close/>
                    <a:moveTo>
                      <a:pt x="5773" y="2"/>
                    </a:moveTo>
                    <a:lnTo>
                      <a:pt x="5773" y="2"/>
                    </a:lnTo>
                    <a:cubicBezTo>
                      <a:pt x="5774" y="2"/>
                      <a:pt x="5775" y="2"/>
                      <a:pt x="5775" y="4"/>
                    </a:cubicBezTo>
                    <a:cubicBezTo>
                      <a:pt x="5775" y="5"/>
                      <a:pt x="5774" y="6"/>
                      <a:pt x="5773" y="6"/>
                    </a:cubicBezTo>
                    <a:lnTo>
                      <a:pt x="5773" y="6"/>
                    </a:lnTo>
                    <a:cubicBezTo>
                      <a:pt x="5772" y="6"/>
                      <a:pt x="5771" y="5"/>
                      <a:pt x="5771" y="4"/>
                    </a:cubicBezTo>
                    <a:cubicBezTo>
                      <a:pt x="5771" y="2"/>
                      <a:pt x="5772" y="2"/>
                      <a:pt x="5773" y="2"/>
                    </a:cubicBezTo>
                    <a:close/>
                    <a:moveTo>
                      <a:pt x="5781" y="2"/>
                    </a:moveTo>
                    <a:lnTo>
                      <a:pt x="5781" y="2"/>
                    </a:lnTo>
                    <a:cubicBezTo>
                      <a:pt x="5782" y="2"/>
                      <a:pt x="5783" y="2"/>
                      <a:pt x="5783" y="4"/>
                    </a:cubicBezTo>
                    <a:cubicBezTo>
                      <a:pt x="5783" y="5"/>
                      <a:pt x="5782" y="6"/>
                      <a:pt x="5781" y="6"/>
                    </a:cubicBezTo>
                    <a:lnTo>
                      <a:pt x="5781" y="6"/>
                    </a:lnTo>
                    <a:cubicBezTo>
                      <a:pt x="5780" y="6"/>
                      <a:pt x="5779" y="5"/>
                      <a:pt x="5779" y="4"/>
                    </a:cubicBezTo>
                    <a:cubicBezTo>
                      <a:pt x="5779" y="2"/>
                      <a:pt x="5780" y="2"/>
                      <a:pt x="5781" y="2"/>
                    </a:cubicBezTo>
                    <a:close/>
                    <a:moveTo>
                      <a:pt x="5789" y="2"/>
                    </a:moveTo>
                    <a:lnTo>
                      <a:pt x="5789" y="2"/>
                    </a:lnTo>
                    <a:cubicBezTo>
                      <a:pt x="5790" y="2"/>
                      <a:pt x="5791" y="2"/>
                      <a:pt x="5791" y="4"/>
                    </a:cubicBezTo>
                    <a:cubicBezTo>
                      <a:pt x="5791" y="5"/>
                      <a:pt x="5790" y="6"/>
                      <a:pt x="5789" y="6"/>
                    </a:cubicBezTo>
                    <a:lnTo>
                      <a:pt x="5789" y="6"/>
                    </a:lnTo>
                    <a:cubicBezTo>
                      <a:pt x="5788" y="6"/>
                      <a:pt x="5787" y="5"/>
                      <a:pt x="5787" y="4"/>
                    </a:cubicBezTo>
                    <a:cubicBezTo>
                      <a:pt x="5787" y="2"/>
                      <a:pt x="5788" y="2"/>
                      <a:pt x="5789" y="2"/>
                    </a:cubicBezTo>
                    <a:close/>
                    <a:moveTo>
                      <a:pt x="5797" y="2"/>
                    </a:moveTo>
                    <a:lnTo>
                      <a:pt x="5797" y="2"/>
                    </a:lnTo>
                    <a:cubicBezTo>
                      <a:pt x="5798" y="2"/>
                      <a:pt x="5799" y="2"/>
                      <a:pt x="5799" y="4"/>
                    </a:cubicBezTo>
                    <a:cubicBezTo>
                      <a:pt x="5799" y="5"/>
                      <a:pt x="5798" y="6"/>
                      <a:pt x="5797" y="6"/>
                    </a:cubicBezTo>
                    <a:lnTo>
                      <a:pt x="5797" y="6"/>
                    </a:lnTo>
                    <a:cubicBezTo>
                      <a:pt x="5796" y="6"/>
                      <a:pt x="5795" y="5"/>
                      <a:pt x="5795" y="4"/>
                    </a:cubicBezTo>
                    <a:cubicBezTo>
                      <a:pt x="5795" y="2"/>
                      <a:pt x="5796" y="2"/>
                      <a:pt x="5797" y="2"/>
                    </a:cubicBezTo>
                    <a:close/>
                    <a:moveTo>
                      <a:pt x="5805" y="2"/>
                    </a:moveTo>
                    <a:lnTo>
                      <a:pt x="5805" y="2"/>
                    </a:lnTo>
                    <a:cubicBezTo>
                      <a:pt x="5806" y="2"/>
                      <a:pt x="5807" y="2"/>
                      <a:pt x="5807" y="4"/>
                    </a:cubicBezTo>
                    <a:cubicBezTo>
                      <a:pt x="5807" y="5"/>
                      <a:pt x="5806" y="6"/>
                      <a:pt x="5805" y="6"/>
                    </a:cubicBezTo>
                    <a:lnTo>
                      <a:pt x="5805" y="6"/>
                    </a:lnTo>
                    <a:cubicBezTo>
                      <a:pt x="5804" y="6"/>
                      <a:pt x="5803" y="5"/>
                      <a:pt x="5803" y="4"/>
                    </a:cubicBezTo>
                    <a:cubicBezTo>
                      <a:pt x="5803" y="2"/>
                      <a:pt x="5804" y="2"/>
                      <a:pt x="5805" y="2"/>
                    </a:cubicBezTo>
                    <a:close/>
                    <a:moveTo>
                      <a:pt x="5813" y="2"/>
                    </a:moveTo>
                    <a:lnTo>
                      <a:pt x="5813" y="2"/>
                    </a:lnTo>
                    <a:cubicBezTo>
                      <a:pt x="5814" y="2"/>
                      <a:pt x="5815" y="2"/>
                      <a:pt x="5815" y="4"/>
                    </a:cubicBezTo>
                    <a:cubicBezTo>
                      <a:pt x="5815" y="5"/>
                      <a:pt x="5814" y="6"/>
                      <a:pt x="5813" y="6"/>
                    </a:cubicBezTo>
                    <a:lnTo>
                      <a:pt x="5813" y="6"/>
                    </a:lnTo>
                    <a:cubicBezTo>
                      <a:pt x="5812" y="6"/>
                      <a:pt x="5811" y="5"/>
                      <a:pt x="5811" y="4"/>
                    </a:cubicBezTo>
                    <a:cubicBezTo>
                      <a:pt x="5811" y="2"/>
                      <a:pt x="5812" y="2"/>
                      <a:pt x="5813" y="2"/>
                    </a:cubicBezTo>
                    <a:close/>
                    <a:moveTo>
                      <a:pt x="5821" y="2"/>
                    </a:moveTo>
                    <a:lnTo>
                      <a:pt x="5821" y="2"/>
                    </a:lnTo>
                    <a:cubicBezTo>
                      <a:pt x="5822" y="2"/>
                      <a:pt x="5823" y="2"/>
                      <a:pt x="5823" y="4"/>
                    </a:cubicBezTo>
                    <a:cubicBezTo>
                      <a:pt x="5823" y="5"/>
                      <a:pt x="5822" y="6"/>
                      <a:pt x="5821" y="6"/>
                    </a:cubicBezTo>
                    <a:lnTo>
                      <a:pt x="5821" y="6"/>
                    </a:lnTo>
                    <a:cubicBezTo>
                      <a:pt x="5820" y="6"/>
                      <a:pt x="5819" y="5"/>
                      <a:pt x="5819" y="4"/>
                    </a:cubicBezTo>
                    <a:cubicBezTo>
                      <a:pt x="5819" y="2"/>
                      <a:pt x="5820" y="2"/>
                      <a:pt x="5821" y="2"/>
                    </a:cubicBezTo>
                    <a:close/>
                    <a:moveTo>
                      <a:pt x="5829" y="2"/>
                    </a:moveTo>
                    <a:lnTo>
                      <a:pt x="5829" y="2"/>
                    </a:lnTo>
                    <a:cubicBezTo>
                      <a:pt x="5830" y="2"/>
                      <a:pt x="5831" y="2"/>
                      <a:pt x="5831" y="4"/>
                    </a:cubicBezTo>
                    <a:cubicBezTo>
                      <a:pt x="5831" y="5"/>
                      <a:pt x="5830" y="6"/>
                      <a:pt x="5829" y="6"/>
                    </a:cubicBezTo>
                    <a:lnTo>
                      <a:pt x="5829" y="6"/>
                    </a:lnTo>
                    <a:cubicBezTo>
                      <a:pt x="5828" y="6"/>
                      <a:pt x="5827" y="5"/>
                      <a:pt x="5827" y="4"/>
                    </a:cubicBezTo>
                    <a:cubicBezTo>
                      <a:pt x="5827" y="2"/>
                      <a:pt x="5828" y="2"/>
                      <a:pt x="5829" y="2"/>
                    </a:cubicBezTo>
                    <a:close/>
                    <a:moveTo>
                      <a:pt x="5837" y="2"/>
                    </a:moveTo>
                    <a:lnTo>
                      <a:pt x="5837" y="2"/>
                    </a:lnTo>
                    <a:cubicBezTo>
                      <a:pt x="5838" y="2"/>
                      <a:pt x="5839" y="2"/>
                      <a:pt x="5839" y="4"/>
                    </a:cubicBezTo>
                    <a:cubicBezTo>
                      <a:pt x="5839" y="5"/>
                      <a:pt x="5838" y="6"/>
                      <a:pt x="5837" y="6"/>
                    </a:cubicBezTo>
                    <a:lnTo>
                      <a:pt x="5837" y="6"/>
                    </a:lnTo>
                    <a:cubicBezTo>
                      <a:pt x="5836" y="6"/>
                      <a:pt x="5835" y="5"/>
                      <a:pt x="5835" y="4"/>
                    </a:cubicBezTo>
                    <a:cubicBezTo>
                      <a:pt x="5835" y="2"/>
                      <a:pt x="5836" y="2"/>
                      <a:pt x="5837" y="2"/>
                    </a:cubicBezTo>
                    <a:close/>
                    <a:moveTo>
                      <a:pt x="5845" y="2"/>
                    </a:moveTo>
                    <a:lnTo>
                      <a:pt x="5845" y="2"/>
                    </a:lnTo>
                    <a:cubicBezTo>
                      <a:pt x="5846" y="2"/>
                      <a:pt x="5847" y="2"/>
                      <a:pt x="5847" y="4"/>
                    </a:cubicBezTo>
                    <a:cubicBezTo>
                      <a:pt x="5847" y="5"/>
                      <a:pt x="5846" y="6"/>
                      <a:pt x="5845" y="6"/>
                    </a:cubicBezTo>
                    <a:lnTo>
                      <a:pt x="5845" y="6"/>
                    </a:lnTo>
                    <a:cubicBezTo>
                      <a:pt x="5844" y="6"/>
                      <a:pt x="5843" y="5"/>
                      <a:pt x="5843" y="4"/>
                    </a:cubicBezTo>
                    <a:cubicBezTo>
                      <a:pt x="5843" y="2"/>
                      <a:pt x="5844" y="2"/>
                      <a:pt x="5845" y="2"/>
                    </a:cubicBezTo>
                    <a:close/>
                    <a:moveTo>
                      <a:pt x="5853" y="2"/>
                    </a:moveTo>
                    <a:lnTo>
                      <a:pt x="5853" y="2"/>
                    </a:lnTo>
                    <a:cubicBezTo>
                      <a:pt x="5854" y="2"/>
                      <a:pt x="5855" y="2"/>
                      <a:pt x="5855" y="4"/>
                    </a:cubicBezTo>
                    <a:cubicBezTo>
                      <a:pt x="5855" y="5"/>
                      <a:pt x="5854" y="6"/>
                      <a:pt x="5853" y="6"/>
                    </a:cubicBezTo>
                    <a:lnTo>
                      <a:pt x="5853" y="6"/>
                    </a:lnTo>
                    <a:cubicBezTo>
                      <a:pt x="5852" y="6"/>
                      <a:pt x="5851" y="5"/>
                      <a:pt x="5851" y="4"/>
                    </a:cubicBezTo>
                    <a:cubicBezTo>
                      <a:pt x="5851" y="2"/>
                      <a:pt x="5852" y="2"/>
                      <a:pt x="5853" y="2"/>
                    </a:cubicBezTo>
                    <a:close/>
                    <a:moveTo>
                      <a:pt x="5861" y="2"/>
                    </a:moveTo>
                    <a:lnTo>
                      <a:pt x="5861" y="2"/>
                    </a:lnTo>
                    <a:cubicBezTo>
                      <a:pt x="5862" y="2"/>
                      <a:pt x="5863" y="2"/>
                      <a:pt x="5863" y="4"/>
                    </a:cubicBezTo>
                    <a:cubicBezTo>
                      <a:pt x="5863" y="5"/>
                      <a:pt x="5862" y="6"/>
                      <a:pt x="5861" y="6"/>
                    </a:cubicBezTo>
                    <a:lnTo>
                      <a:pt x="5861" y="6"/>
                    </a:lnTo>
                    <a:cubicBezTo>
                      <a:pt x="5860" y="6"/>
                      <a:pt x="5859" y="5"/>
                      <a:pt x="5859" y="4"/>
                    </a:cubicBezTo>
                    <a:cubicBezTo>
                      <a:pt x="5859" y="2"/>
                      <a:pt x="5860" y="2"/>
                      <a:pt x="5861" y="2"/>
                    </a:cubicBezTo>
                    <a:close/>
                    <a:moveTo>
                      <a:pt x="5869" y="2"/>
                    </a:moveTo>
                    <a:lnTo>
                      <a:pt x="5869" y="2"/>
                    </a:lnTo>
                    <a:cubicBezTo>
                      <a:pt x="5870" y="2"/>
                      <a:pt x="5871" y="2"/>
                      <a:pt x="5871" y="4"/>
                    </a:cubicBezTo>
                    <a:cubicBezTo>
                      <a:pt x="5871" y="5"/>
                      <a:pt x="5870" y="6"/>
                      <a:pt x="5869" y="6"/>
                    </a:cubicBezTo>
                    <a:lnTo>
                      <a:pt x="5869" y="6"/>
                    </a:lnTo>
                    <a:cubicBezTo>
                      <a:pt x="5868" y="6"/>
                      <a:pt x="5867" y="5"/>
                      <a:pt x="5867" y="4"/>
                    </a:cubicBezTo>
                    <a:cubicBezTo>
                      <a:pt x="5867" y="2"/>
                      <a:pt x="5868" y="2"/>
                      <a:pt x="5869" y="2"/>
                    </a:cubicBezTo>
                    <a:close/>
                    <a:moveTo>
                      <a:pt x="5877" y="2"/>
                    </a:moveTo>
                    <a:lnTo>
                      <a:pt x="5877" y="2"/>
                    </a:lnTo>
                    <a:cubicBezTo>
                      <a:pt x="5878" y="2"/>
                      <a:pt x="5879" y="2"/>
                      <a:pt x="5879" y="4"/>
                    </a:cubicBezTo>
                    <a:cubicBezTo>
                      <a:pt x="5879" y="5"/>
                      <a:pt x="5878" y="6"/>
                      <a:pt x="5877" y="6"/>
                    </a:cubicBezTo>
                    <a:lnTo>
                      <a:pt x="5877" y="6"/>
                    </a:lnTo>
                    <a:cubicBezTo>
                      <a:pt x="5876" y="6"/>
                      <a:pt x="5875" y="5"/>
                      <a:pt x="5875" y="4"/>
                    </a:cubicBezTo>
                    <a:cubicBezTo>
                      <a:pt x="5875" y="2"/>
                      <a:pt x="5876" y="2"/>
                      <a:pt x="5877" y="2"/>
                    </a:cubicBezTo>
                    <a:close/>
                    <a:moveTo>
                      <a:pt x="5885" y="2"/>
                    </a:moveTo>
                    <a:lnTo>
                      <a:pt x="5885" y="2"/>
                    </a:lnTo>
                    <a:cubicBezTo>
                      <a:pt x="5886" y="2"/>
                      <a:pt x="5887" y="2"/>
                      <a:pt x="5887" y="4"/>
                    </a:cubicBezTo>
                    <a:cubicBezTo>
                      <a:pt x="5887" y="5"/>
                      <a:pt x="5886" y="6"/>
                      <a:pt x="5885" y="6"/>
                    </a:cubicBezTo>
                    <a:lnTo>
                      <a:pt x="5885" y="6"/>
                    </a:lnTo>
                    <a:cubicBezTo>
                      <a:pt x="5884" y="6"/>
                      <a:pt x="5883" y="5"/>
                      <a:pt x="5883" y="4"/>
                    </a:cubicBezTo>
                    <a:cubicBezTo>
                      <a:pt x="5883" y="2"/>
                      <a:pt x="5884" y="2"/>
                      <a:pt x="5885" y="2"/>
                    </a:cubicBezTo>
                    <a:close/>
                    <a:moveTo>
                      <a:pt x="5893" y="2"/>
                    </a:moveTo>
                    <a:lnTo>
                      <a:pt x="5893" y="2"/>
                    </a:lnTo>
                    <a:cubicBezTo>
                      <a:pt x="5894" y="2"/>
                      <a:pt x="5895" y="2"/>
                      <a:pt x="5895" y="4"/>
                    </a:cubicBezTo>
                    <a:cubicBezTo>
                      <a:pt x="5895" y="5"/>
                      <a:pt x="5894" y="6"/>
                      <a:pt x="5893" y="6"/>
                    </a:cubicBezTo>
                    <a:lnTo>
                      <a:pt x="5893" y="6"/>
                    </a:lnTo>
                    <a:cubicBezTo>
                      <a:pt x="5892" y="6"/>
                      <a:pt x="5891" y="5"/>
                      <a:pt x="5891" y="4"/>
                    </a:cubicBezTo>
                    <a:cubicBezTo>
                      <a:pt x="5891" y="2"/>
                      <a:pt x="5892" y="2"/>
                      <a:pt x="5893" y="2"/>
                    </a:cubicBezTo>
                    <a:close/>
                    <a:moveTo>
                      <a:pt x="5901" y="2"/>
                    </a:moveTo>
                    <a:lnTo>
                      <a:pt x="5901" y="2"/>
                    </a:lnTo>
                    <a:cubicBezTo>
                      <a:pt x="5902" y="2"/>
                      <a:pt x="5903" y="2"/>
                      <a:pt x="5903" y="4"/>
                    </a:cubicBezTo>
                    <a:cubicBezTo>
                      <a:pt x="5903" y="5"/>
                      <a:pt x="5902" y="6"/>
                      <a:pt x="5901" y="6"/>
                    </a:cubicBezTo>
                    <a:lnTo>
                      <a:pt x="5901" y="6"/>
                    </a:lnTo>
                    <a:cubicBezTo>
                      <a:pt x="5900" y="6"/>
                      <a:pt x="5899" y="5"/>
                      <a:pt x="5899" y="4"/>
                    </a:cubicBezTo>
                    <a:cubicBezTo>
                      <a:pt x="5899" y="2"/>
                      <a:pt x="5900" y="2"/>
                      <a:pt x="5901" y="2"/>
                    </a:cubicBezTo>
                    <a:close/>
                    <a:moveTo>
                      <a:pt x="5909" y="2"/>
                    </a:moveTo>
                    <a:lnTo>
                      <a:pt x="5909" y="2"/>
                    </a:lnTo>
                    <a:cubicBezTo>
                      <a:pt x="5910" y="2"/>
                      <a:pt x="5911" y="2"/>
                      <a:pt x="5911" y="4"/>
                    </a:cubicBezTo>
                    <a:cubicBezTo>
                      <a:pt x="5911" y="5"/>
                      <a:pt x="5910" y="6"/>
                      <a:pt x="5909" y="6"/>
                    </a:cubicBezTo>
                    <a:lnTo>
                      <a:pt x="5909" y="6"/>
                    </a:lnTo>
                    <a:cubicBezTo>
                      <a:pt x="5908" y="6"/>
                      <a:pt x="5907" y="5"/>
                      <a:pt x="5907" y="4"/>
                    </a:cubicBezTo>
                    <a:cubicBezTo>
                      <a:pt x="5907" y="2"/>
                      <a:pt x="5908" y="2"/>
                      <a:pt x="5909" y="2"/>
                    </a:cubicBezTo>
                    <a:close/>
                    <a:moveTo>
                      <a:pt x="5917" y="2"/>
                    </a:moveTo>
                    <a:lnTo>
                      <a:pt x="5917" y="2"/>
                    </a:lnTo>
                    <a:cubicBezTo>
                      <a:pt x="5918" y="2"/>
                      <a:pt x="5919" y="2"/>
                      <a:pt x="5919" y="4"/>
                    </a:cubicBezTo>
                    <a:cubicBezTo>
                      <a:pt x="5919" y="5"/>
                      <a:pt x="5918" y="6"/>
                      <a:pt x="5917" y="6"/>
                    </a:cubicBezTo>
                    <a:lnTo>
                      <a:pt x="5917" y="6"/>
                    </a:lnTo>
                    <a:cubicBezTo>
                      <a:pt x="5916" y="6"/>
                      <a:pt x="5915" y="5"/>
                      <a:pt x="5915" y="4"/>
                    </a:cubicBezTo>
                    <a:cubicBezTo>
                      <a:pt x="5915" y="2"/>
                      <a:pt x="5916" y="2"/>
                      <a:pt x="5917" y="2"/>
                    </a:cubicBezTo>
                    <a:close/>
                    <a:moveTo>
                      <a:pt x="5925" y="2"/>
                    </a:moveTo>
                    <a:lnTo>
                      <a:pt x="5925" y="2"/>
                    </a:lnTo>
                    <a:cubicBezTo>
                      <a:pt x="5926" y="2"/>
                      <a:pt x="5927" y="2"/>
                      <a:pt x="5927" y="4"/>
                    </a:cubicBezTo>
                    <a:cubicBezTo>
                      <a:pt x="5927" y="5"/>
                      <a:pt x="5926" y="6"/>
                      <a:pt x="5925" y="6"/>
                    </a:cubicBezTo>
                    <a:lnTo>
                      <a:pt x="5925" y="6"/>
                    </a:lnTo>
                    <a:cubicBezTo>
                      <a:pt x="5924" y="6"/>
                      <a:pt x="5923" y="5"/>
                      <a:pt x="5923" y="4"/>
                    </a:cubicBezTo>
                    <a:cubicBezTo>
                      <a:pt x="5923" y="2"/>
                      <a:pt x="5924" y="2"/>
                      <a:pt x="5925" y="2"/>
                    </a:cubicBezTo>
                    <a:close/>
                    <a:moveTo>
                      <a:pt x="5933" y="2"/>
                    </a:moveTo>
                    <a:lnTo>
                      <a:pt x="5933" y="2"/>
                    </a:lnTo>
                    <a:cubicBezTo>
                      <a:pt x="5934" y="2"/>
                      <a:pt x="5935" y="2"/>
                      <a:pt x="5935" y="4"/>
                    </a:cubicBezTo>
                    <a:cubicBezTo>
                      <a:pt x="5935" y="5"/>
                      <a:pt x="5934" y="6"/>
                      <a:pt x="5933" y="6"/>
                    </a:cubicBezTo>
                    <a:lnTo>
                      <a:pt x="5933" y="6"/>
                    </a:lnTo>
                    <a:cubicBezTo>
                      <a:pt x="5932" y="6"/>
                      <a:pt x="5931" y="5"/>
                      <a:pt x="5931" y="4"/>
                    </a:cubicBezTo>
                    <a:cubicBezTo>
                      <a:pt x="5931" y="2"/>
                      <a:pt x="5932" y="2"/>
                      <a:pt x="5933" y="2"/>
                    </a:cubicBezTo>
                    <a:close/>
                    <a:moveTo>
                      <a:pt x="5941" y="2"/>
                    </a:moveTo>
                    <a:lnTo>
                      <a:pt x="5941" y="2"/>
                    </a:lnTo>
                    <a:cubicBezTo>
                      <a:pt x="5942" y="2"/>
                      <a:pt x="5943" y="2"/>
                      <a:pt x="5943" y="4"/>
                    </a:cubicBezTo>
                    <a:cubicBezTo>
                      <a:pt x="5943" y="5"/>
                      <a:pt x="5942" y="6"/>
                      <a:pt x="5941" y="6"/>
                    </a:cubicBezTo>
                    <a:lnTo>
                      <a:pt x="5941" y="6"/>
                    </a:lnTo>
                    <a:cubicBezTo>
                      <a:pt x="5940" y="6"/>
                      <a:pt x="5939" y="5"/>
                      <a:pt x="5939" y="4"/>
                    </a:cubicBezTo>
                    <a:cubicBezTo>
                      <a:pt x="5939" y="2"/>
                      <a:pt x="5940" y="2"/>
                      <a:pt x="5941" y="2"/>
                    </a:cubicBezTo>
                    <a:close/>
                    <a:moveTo>
                      <a:pt x="5949" y="2"/>
                    </a:moveTo>
                    <a:lnTo>
                      <a:pt x="5949" y="2"/>
                    </a:lnTo>
                    <a:cubicBezTo>
                      <a:pt x="5950" y="2"/>
                      <a:pt x="5951" y="2"/>
                      <a:pt x="5951" y="4"/>
                    </a:cubicBezTo>
                    <a:cubicBezTo>
                      <a:pt x="5951" y="5"/>
                      <a:pt x="5950" y="6"/>
                      <a:pt x="5949" y="6"/>
                    </a:cubicBezTo>
                    <a:lnTo>
                      <a:pt x="5949" y="6"/>
                    </a:lnTo>
                    <a:cubicBezTo>
                      <a:pt x="5948" y="6"/>
                      <a:pt x="5947" y="5"/>
                      <a:pt x="5947" y="4"/>
                    </a:cubicBezTo>
                    <a:cubicBezTo>
                      <a:pt x="5947" y="2"/>
                      <a:pt x="5948" y="2"/>
                      <a:pt x="5949" y="2"/>
                    </a:cubicBezTo>
                    <a:close/>
                    <a:moveTo>
                      <a:pt x="5957" y="2"/>
                    </a:moveTo>
                    <a:lnTo>
                      <a:pt x="5957" y="2"/>
                    </a:lnTo>
                    <a:cubicBezTo>
                      <a:pt x="5958" y="2"/>
                      <a:pt x="5959" y="2"/>
                      <a:pt x="5959" y="4"/>
                    </a:cubicBezTo>
                    <a:cubicBezTo>
                      <a:pt x="5959" y="5"/>
                      <a:pt x="5958" y="6"/>
                      <a:pt x="5957" y="6"/>
                    </a:cubicBezTo>
                    <a:lnTo>
                      <a:pt x="5957" y="6"/>
                    </a:lnTo>
                    <a:cubicBezTo>
                      <a:pt x="5956" y="6"/>
                      <a:pt x="5955" y="5"/>
                      <a:pt x="5955" y="4"/>
                    </a:cubicBezTo>
                    <a:cubicBezTo>
                      <a:pt x="5955" y="2"/>
                      <a:pt x="5956" y="2"/>
                      <a:pt x="5957" y="2"/>
                    </a:cubicBezTo>
                    <a:close/>
                    <a:moveTo>
                      <a:pt x="5965" y="2"/>
                    </a:moveTo>
                    <a:lnTo>
                      <a:pt x="5965" y="2"/>
                    </a:lnTo>
                    <a:cubicBezTo>
                      <a:pt x="5966" y="2"/>
                      <a:pt x="5967" y="2"/>
                      <a:pt x="5967" y="4"/>
                    </a:cubicBezTo>
                    <a:cubicBezTo>
                      <a:pt x="5967" y="5"/>
                      <a:pt x="5966" y="6"/>
                      <a:pt x="5965" y="6"/>
                    </a:cubicBezTo>
                    <a:lnTo>
                      <a:pt x="5965" y="6"/>
                    </a:lnTo>
                    <a:cubicBezTo>
                      <a:pt x="5964" y="6"/>
                      <a:pt x="5963" y="5"/>
                      <a:pt x="5963" y="4"/>
                    </a:cubicBezTo>
                    <a:cubicBezTo>
                      <a:pt x="5963" y="2"/>
                      <a:pt x="5964" y="2"/>
                      <a:pt x="5965" y="2"/>
                    </a:cubicBezTo>
                    <a:close/>
                    <a:moveTo>
                      <a:pt x="5973" y="2"/>
                    </a:moveTo>
                    <a:lnTo>
                      <a:pt x="5973" y="2"/>
                    </a:lnTo>
                    <a:cubicBezTo>
                      <a:pt x="5974" y="2"/>
                      <a:pt x="5975" y="2"/>
                      <a:pt x="5975" y="4"/>
                    </a:cubicBezTo>
                    <a:cubicBezTo>
                      <a:pt x="5975" y="5"/>
                      <a:pt x="5974" y="6"/>
                      <a:pt x="5973" y="6"/>
                    </a:cubicBezTo>
                    <a:lnTo>
                      <a:pt x="5973" y="6"/>
                    </a:lnTo>
                    <a:cubicBezTo>
                      <a:pt x="5972" y="6"/>
                      <a:pt x="5971" y="5"/>
                      <a:pt x="5971" y="4"/>
                    </a:cubicBezTo>
                    <a:cubicBezTo>
                      <a:pt x="5971" y="2"/>
                      <a:pt x="5972" y="2"/>
                      <a:pt x="5973" y="2"/>
                    </a:cubicBezTo>
                    <a:close/>
                    <a:moveTo>
                      <a:pt x="5981" y="2"/>
                    </a:moveTo>
                    <a:lnTo>
                      <a:pt x="5981" y="2"/>
                    </a:lnTo>
                    <a:cubicBezTo>
                      <a:pt x="5982" y="2"/>
                      <a:pt x="5983" y="2"/>
                      <a:pt x="5983" y="4"/>
                    </a:cubicBezTo>
                    <a:cubicBezTo>
                      <a:pt x="5983" y="5"/>
                      <a:pt x="5982" y="6"/>
                      <a:pt x="5981" y="6"/>
                    </a:cubicBezTo>
                    <a:lnTo>
                      <a:pt x="5981" y="6"/>
                    </a:lnTo>
                    <a:cubicBezTo>
                      <a:pt x="5980" y="6"/>
                      <a:pt x="5979" y="5"/>
                      <a:pt x="5979" y="4"/>
                    </a:cubicBezTo>
                    <a:cubicBezTo>
                      <a:pt x="5979" y="2"/>
                      <a:pt x="5980" y="2"/>
                      <a:pt x="5981" y="2"/>
                    </a:cubicBezTo>
                    <a:close/>
                    <a:moveTo>
                      <a:pt x="5989" y="2"/>
                    </a:moveTo>
                    <a:lnTo>
                      <a:pt x="5989" y="2"/>
                    </a:lnTo>
                    <a:cubicBezTo>
                      <a:pt x="5990" y="2"/>
                      <a:pt x="5991" y="2"/>
                      <a:pt x="5991" y="4"/>
                    </a:cubicBezTo>
                    <a:cubicBezTo>
                      <a:pt x="5991" y="5"/>
                      <a:pt x="5990" y="6"/>
                      <a:pt x="5989" y="6"/>
                    </a:cubicBezTo>
                    <a:lnTo>
                      <a:pt x="5989" y="6"/>
                    </a:lnTo>
                    <a:cubicBezTo>
                      <a:pt x="5988" y="6"/>
                      <a:pt x="5987" y="5"/>
                      <a:pt x="5987" y="4"/>
                    </a:cubicBezTo>
                    <a:cubicBezTo>
                      <a:pt x="5987" y="2"/>
                      <a:pt x="5988" y="2"/>
                      <a:pt x="5989" y="2"/>
                    </a:cubicBezTo>
                    <a:close/>
                    <a:moveTo>
                      <a:pt x="5997" y="2"/>
                    </a:moveTo>
                    <a:lnTo>
                      <a:pt x="5997" y="2"/>
                    </a:lnTo>
                    <a:cubicBezTo>
                      <a:pt x="5998" y="2"/>
                      <a:pt x="5999" y="2"/>
                      <a:pt x="5999" y="4"/>
                    </a:cubicBezTo>
                    <a:cubicBezTo>
                      <a:pt x="5999" y="5"/>
                      <a:pt x="5998" y="6"/>
                      <a:pt x="5997" y="6"/>
                    </a:cubicBezTo>
                    <a:lnTo>
                      <a:pt x="5997" y="6"/>
                    </a:lnTo>
                    <a:cubicBezTo>
                      <a:pt x="5996" y="6"/>
                      <a:pt x="5995" y="5"/>
                      <a:pt x="5995" y="4"/>
                    </a:cubicBezTo>
                    <a:cubicBezTo>
                      <a:pt x="5995" y="2"/>
                      <a:pt x="5996" y="2"/>
                      <a:pt x="5997" y="2"/>
                    </a:cubicBezTo>
                    <a:close/>
                    <a:moveTo>
                      <a:pt x="6005" y="2"/>
                    </a:moveTo>
                    <a:lnTo>
                      <a:pt x="6005" y="2"/>
                    </a:lnTo>
                    <a:cubicBezTo>
                      <a:pt x="6006" y="2"/>
                      <a:pt x="6007" y="2"/>
                      <a:pt x="6007" y="4"/>
                    </a:cubicBezTo>
                    <a:cubicBezTo>
                      <a:pt x="6007" y="5"/>
                      <a:pt x="6006" y="6"/>
                      <a:pt x="6005" y="6"/>
                    </a:cubicBezTo>
                    <a:lnTo>
                      <a:pt x="6005" y="6"/>
                    </a:lnTo>
                    <a:cubicBezTo>
                      <a:pt x="6004" y="6"/>
                      <a:pt x="6003" y="5"/>
                      <a:pt x="6003" y="4"/>
                    </a:cubicBezTo>
                    <a:cubicBezTo>
                      <a:pt x="6003" y="2"/>
                      <a:pt x="6004" y="2"/>
                      <a:pt x="6005" y="2"/>
                    </a:cubicBezTo>
                    <a:close/>
                    <a:moveTo>
                      <a:pt x="6013" y="2"/>
                    </a:moveTo>
                    <a:lnTo>
                      <a:pt x="6013" y="2"/>
                    </a:lnTo>
                    <a:cubicBezTo>
                      <a:pt x="6014" y="2"/>
                      <a:pt x="6015" y="2"/>
                      <a:pt x="6015" y="4"/>
                    </a:cubicBezTo>
                    <a:cubicBezTo>
                      <a:pt x="6015" y="5"/>
                      <a:pt x="6014" y="6"/>
                      <a:pt x="6013" y="6"/>
                    </a:cubicBezTo>
                    <a:lnTo>
                      <a:pt x="6013" y="6"/>
                    </a:lnTo>
                    <a:cubicBezTo>
                      <a:pt x="6012" y="6"/>
                      <a:pt x="6011" y="5"/>
                      <a:pt x="6011" y="4"/>
                    </a:cubicBezTo>
                    <a:cubicBezTo>
                      <a:pt x="6011" y="2"/>
                      <a:pt x="6012" y="2"/>
                      <a:pt x="6013" y="2"/>
                    </a:cubicBezTo>
                    <a:close/>
                    <a:moveTo>
                      <a:pt x="6021" y="2"/>
                    </a:moveTo>
                    <a:lnTo>
                      <a:pt x="6021" y="2"/>
                    </a:lnTo>
                    <a:cubicBezTo>
                      <a:pt x="6022" y="2"/>
                      <a:pt x="6023" y="2"/>
                      <a:pt x="6023" y="4"/>
                    </a:cubicBezTo>
                    <a:cubicBezTo>
                      <a:pt x="6023" y="5"/>
                      <a:pt x="6022" y="6"/>
                      <a:pt x="6021" y="6"/>
                    </a:cubicBezTo>
                    <a:lnTo>
                      <a:pt x="6021" y="6"/>
                    </a:lnTo>
                    <a:cubicBezTo>
                      <a:pt x="6020" y="6"/>
                      <a:pt x="6019" y="5"/>
                      <a:pt x="6019" y="4"/>
                    </a:cubicBezTo>
                    <a:cubicBezTo>
                      <a:pt x="6019" y="2"/>
                      <a:pt x="6020" y="2"/>
                      <a:pt x="6021" y="2"/>
                    </a:cubicBezTo>
                    <a:close/>
                    <a:moveTo>
                      <a:pt x="6029" y="2"/>
                    </a:moveTo>
                    <a:lnTo>
                      <a:pt x="6029" y="2"/>
                    </a:lnTo>
                    <a:cubicBezTo>
                      <a:pt x="6030" y="2"/>
                      <a:pt x="6031" y="2"/>
                      <a:pt x="6031" y="4"/>
                    </a:cubicBezTo>
                    <a:cubicBezTo>
                      <a:pt x="6031" y="5"/>
                      <a:pt x="6030" y="6"/>
                      <a:pt x="6029" y="6"/>
                    </a:cubicBezTo>
                    <a:lnTo>
                      <a:pt x="6029" y="6"/>
                    </a:lnTo>
                    <a:cubicBezTo>
                      <a:pt x="6028" y="6"/>
                      <a:pt x="6027" y="5"/>
                      <a:pt x="6027" y="4"/>
                    </a:cubicBezTo>
                    <a:cubicBezTo>
                      <a:pt x="6027" y="2"/>
                      <a:pt x="6028" y="2"/>
                      <a:pt x="6029" y="2"/>
                    </a:cubicBezTo>
                    <a:close/>
                    <a:moveTo>
                      <a:pt x="6037" y="2"/>
                    </a:moveTo>
                    <a:lnTo>
                      <a:pt x="6037" y="2"/>
                    </a:lnTo>
                    <a:cubicBezTo>
                      <a:pt x="6038" y="2"/>
                      <a:pt x="6039" y="2"/>
                      <a:pt x="6039" y="4"/>
                    </a:cubicBezTo>
                    <a:cubicBezTo>
                      <a:pt x="6039" y="5"/>
                      <a:pt x="6038" y="6"/>
                      <a:pt x="6037" y="6"/>
                    </a:cubicBezTo>
                    <a:lnTo>
                      <a:pt x="6037" y="6"/>
                    </a:lnTo>
                    <a:cubicBezTo>
                      <a:pt x="6036" y="6"/>
                      <a:pt x="6035" y="5"/>
                      <a:pt x="6035" y="4"/>
                    </a:cubicBezTo>
                    <a:cubicBezTo>
                      <a:pt x="6035" y="2"/>
                      <a:pt x="6036" y="2"/>
                      <a:pt x="6037" y="2"/>
                    </a:cubicBezTo>
                    <a:close/>
                    <a:moveTo>
                      <a:pt x="6045" y="2"/>
                    </a:moveTo>
                    <a:lnTo>
                      <a:pt x="6045" y="2"/>
                    </a:lnTo>
                    <a:cubicBezTo>
                      <a:pt x="6046" y="2"/>
                      <a:pt x="6047" y="2"/>
                      <a:pt x="6047" y="4"/>
                    </a:cubicBezTo>
                    <a:cubicBezTo>
                      <a:pt x="6047" y="5"/>
                      <a:pt x="6046" y="6"/>
                      <a:pt x="6045" y="6"/>
                    </a:cubicBezTo>
                    <a:lnTo>
                      <a:pt x="6045" y="6"/>
                    </a:lnTo>
                    <a:cubicBezTo>
                      <a:pt x="6044" y="6"/>
                      <a:pt x="6043" y="5"/>
                      <a:pt x="6043" y="4"/>
                    </a:cubicBezTo>
                    <a:cubicBezTo>
                      <a:pt x="6043" y="2"/>
                      <a:pt x="6044" y="2"/>
                      <a:pt x="6045" y="2"/>
                    </a:cubicBezTo>
                    <a:close/>
                    <a:moveTo>
                      <a:pt x="6053" y="2"/>
                    </a:moveTo>
                    <a:lnTo>
                      <a:pt x="6053" y="2"/>
                    </a:lnTo>
                    <a:cubicBezTo>
                      <a:pt x="6054" y="2"/>
                      <a:pt x="6055" y="2"/>
                      <a:pt x="6055" y="4"/>
                    </a:cubicBezTo>
                    <a:cubicBezTo>
                      <a:pt x="6055" y="5"/>
                      <a:pt x="6054" y="6"/>
                      <a:pt x="6053" y="6"/>
                    </a:cubicBezTo>
                    <a:lnTo>
                      <a:pt x="6053" y="6"/>
                    </a:lnTo>
                    <a:cubicBezTo>
                      <a:pt x="6052" y="6"/>
                      <a:pt x="6051" y="5"/>
                      <a:pt x="6051" y="4"/>
                    </a:cubicBezTo>
                    <a:cubicBezTo>
                      <a:pt x="6051" y="2"/>
                      <a:pt x="6052" y="2"/>
                      <a:pt x="6053" y="2"/>
                    </a:cubicBezTo>
                    <a:close/>
                    <a:moveTo>
                      <a:pt x="6061" y="2"/>
                    </a:moveTo>
                    <a:lnTo>
                      <a:pt x="6061" y="2"/>
                    </a:lnTo>
                    <a:cubicBezTo>
                      <a:pt x="6062" y="2"/>
                      <a:pt x="6063" y="2"/>
                      <a:pt x="6063" y="4"/>
                    </a:cubicBezTo>
                    <a:cubicBezTo>
                      <a:pt x="6063" y="5"/>
                      <a:pt x="6062" y="6"/>
                      <a:pt x="6061" y="6"/>
                    </a:cubicBezTo>
                    <a:lnTo>
                      <a:pt x="6061" y="6"/>
                    </a:lnTo>
                    <a:cubicBezTo>
                      <a:pt x="6060" y="6"/>
                      <a:pt x="6059" y="5"/>
                      <a:pt x="6059" y="4"/>
                    </a:cubicBezTo>
                    <a:cubicBezTo>
                      <a:pt x="6059" y="2"/>
                      <a:pt x="6060" y="2"/>
                      <a:pt x="6061" y="2"/>
                    </a:cubicBezTo>
                    <a:close/>
                    <a:moveTo>
                      <a:pt x="6069" y="2"/>
                    </a:moveTo>
                    <a:lnTo>
                      <a:pt x="6069" y="2"/>
                    </a:lnTo>
                    <a:cubicBezTo>
                      <a:pt x="6070" y="2"/>
                      <a:pt x="6071" y="2"/>
                      <a:pt x="6071" y="4"/>
                    </a:cubicBezTo>
                    <a:cubicBezTo>
                      <a:pt x="6071" y="5"/>
                      <a:pt x="6070" y="6"/>
                      <a:pt x="6069" y="6"/>
                    </a:cubicBezTo>
                    <a:lnTo>
                      <a:pt x="6069" y="6"/>
                    </a:lnTo>
                    <a:cubicBezTo>
                      <a:pt x="6068" y="6"/>
                      <a:pt x="6067" y="5"/>
                      <a:pt x="6067" y="4"/>
                    </a:cubicBezTo>
                    <a:cubicBezTo>
                      <a:pt x="6067" y="2"/>
                      <a:pt x="6068" y="2"/>
                      <a:pt x="6069" y="2"/>
                    </a:cubicBezTo>
                    <a:close/>
                    <a:moveTo>
                      <a:pt x="6077" y="2"/>
                    </a:moveTo>
                    <a:lnTo>
                      <a:pt x="6077" y="2"/>
                    </a:lnTo>
                    <a:cubicBezTo>
                      <a:pt x="6078" y="2"/>
                      <a:pt x="6079" y="2"/>
                      <a:pt x="6079" y="4"/>
                    </a:cubicBezTo>
                    <a:cubicBezTo>
                      <a:pt x="6079" y="5"/>
                      <a:pt x="6078" y="6"/>
                      <a:pt x="6077" y="6"/>
                    </a:cubicBezTo>
                    <a:lnTo>
                      <a:pt x="6077" y="6"/>
                    </a:lnTo>
                    <a:cubicBezTo>
                      <a:pt x="6076" y="6"/>
                      <a:pt x="6075" y="5"/>
                      <a:pt x="6075" y="4"/>
                    </a:cubicBezTo>
                    <a:cubicBezTo>
                      <a:pt x="6075" y="2"/>
                      <a:pt x="6076" y="2"/>
                      <a:pt x="6077" y="2"/>
                    </a:cubicBezTo>
                    <a:close/>
                    <a:moveTo>
                      <a:pt x="6085" y="2"/>
                    </a:moveTo>
                    <a:lnTo>
                      <a:pt x="6085" y="2"/>
                    </a:lnTo>
                    <a:cubicBezTo>
                      <a:pt x="6086" y="2"/>
                      <a:pt x="6087" y="2"/>
                      <a:pt x="6087" y="4"/>
                    </a:cubicBezTo>
                    <a:cubicBezTo>
                      <a:pt x="6087" y="5"/>
                      <a:pt x="6086" y="6"/>
                      <a:pt x="6085" y="6"/>
                    </a:cubicBezTo>
                    <a:lnTo>
                      <a:pt x="6085" y="6"/>
                    </a:lnTo>
                    <a:cubicBezTo>
                      <a:pt x="6084" y="6"/>
                      <a:pt x="6083" y="5"/>
                      <a:pt x="6083" y="4"/>
                    </a:cubicBezTo>
                    <a:cubicBezTo>
                      <a:pt x="6083" y="2"/>
                      <a:pt x="6084" y="2"/>
                      <a:pt x="6085" y="2"/>
                    </a:cubicBezTo>
                    <a:close/>
                    <a:moveTo>
                      <a:pt x="6093" y="2"/>
                    </a:moveTo>
                    <a:lnTo>
                      <a:pt x="6093" y="2"/>
                    </a:lnTo>
                    <a:cubicBezTo>
                      <a:pt x="6094" y="2"/>
                      <a:pt x="6095" y="2"/>
                      <a:pt x="6095" y="4"/>
                    </a:cubicBezTo>
                    <a:cubicBezTo>
                      <a:pt x="6095" y="5"/>
                      <a:pt x="6094" y="6"/>
                      <a:pt x="6093" y="6"/>
                    </a:cubicBezTo>
                    <a:lnTo>
                      <a:pt x="6093" y="6"/>
                    </a:lnTo>
                    <a:cubicBezTo>
                      <a:pt x="6092" y="6"/>
                      <a:pt x="6091" y="5"/>
                      <a:pt x="6091" y="4"/>
                    </a:cubicBezTo>
                    <a:cubicBezTo>
                      <a:pt x="6091" y="2"/>
                      <a:pt x="6092" y="2"/>
                      <a:pt x="6093" y="2"/>
                    </a:cubicBezTo>
                    <a:close/>
                    <a:moveTo>
                      <a:pt x="6101" y="2"/>
                    </a:moveTo>
                    <a:lnTo>
                      <a:pt x="6101" y="2"/>
                    </a:lnTo>
                    <a:cubicBezTo>
                      <a:pt x="6102" y="2"/>
                      <a:pt x="6103" y="2"/>
                      <a:pt x="6103" y="4"/>
                    </a:cubicBezTo>
                    <a:cubicBezTo>
                      <a:pt x="6103" y="5"/>
                      <a:pt x="6102" y="6"/>
                      <a:pt x="6101" y="6"/>
                    </a:cubicBezTo>
                    <a:lnTo>
                      <a:pt x="6101" y="6"/>
                    </a:lnTo>
                    <a:cubicBezTo>
                      <a:pt x="6100" y="6"/>
                      <a:pt x="6099" y="5"/>
                      <a:pt x="6099" y="4"/>
                    </a:cubicBezTo>
                    <a:cubicBezTo>
                      <a:pt x="6099" y="2"/>
                      <a:pt x="6100" y="2"/>
                      <a:pt x="6101" y="2"/>
                    </a:cubicBezTo>
                    <a:close/>
                    <a:moveTo>
                      <a:pt x="6109" y="2"/>
                    </a:moveTo>
                    <a:lnTo>
                      <a:pt x="6109" y="2"/>
                    </a:lnTo>
                    <a:cubicBezTo>
                      <a:pt x="6110" y="2"/>
                      <a:pt x="6111" y="3"/>
                      <a:pt x="6111" y="4"/>
                    </a:cubicBezTo>
                    <a:cubicBezTo>
                      <a:pt x="6111" y="5"/>
                      <a:pt x="6110" y="6"/>
                      <a:pt x="6109" y="6"/>
                    </a:cubicBezTo>
                    <a:lnTo>
                      <a:pt x="6109" y="6"/>
                    </a:lnTo>
                    <a:cubicBezTo>
                      <a:pt x="6108" y="6"/>
                      <a:pt x="6107" y="5"/>
                      <a:pt x="6107" y="4"/>
                    </a:cubicBezTo>
                    <a:cubicBezTo>
                      <a:pt x="6107" y="3"/>
                      <a:pt x="6108" y="2"/>
                      <a:pt x="6109" y="2"/>
                    </a:cubicBezTo>
                    <a:close/>
                    <a:moveTo>
                      <a:pt x="6117" y="2"/>
                    </a:moveTo>
                    <a:lnTo>
                      <a:pt x="6117" y="2"/>
                    </a:lnTo>
                    <a:cubicBezTo>
                      <a:pt x="6118" y="2"/>
                      <a:pt x="6119" y="3"/>
                      <a:pt x="6119" y="4"/>
                    </a:cubicBezTo>
                    <a:cubicBezTo>
                      <a:pt x="6119" y="5"/>
                      <a:pt x="6118" y="6"/>
                      <a:pt x="6117" y="6"/>
                    </a:cubicBezTo>
                    <a:lnTo>
                      <a:pt x="6117" y="6"/>
                    </a:lnTo>
                    <a:cubicBezTo>
                      <a:pt x="6116" y="6"/>
                      <a:pt x="6115" y="5"/>
                      <a:pt x="6115" y="4"/>
                    </a:cubicBezTo>
                    <a:cubicBezTo>
                      <a:pt x="6115" y="3"/>
                      <a:pt x="6116" y="2"/>
                      <a:pt x="6117" y="2"/>
                    </a:cubicBezTo>
                    <a:close/>
                    <a:moveTo>
                      <a:pt x="6125" y="2"/>
                    </a:moveTo>
                    <a:lnTo>
                      <a:pt x="6125" y="2"/>
                    </a:lnTo>
                    <a:cubicBezTo>
                      <a:pt x="6126" y="2"/>
                      <a:pt x="6127" y="3"/>
                      <a:pt x="6127" y="4"/>
                    </a:cubicBezTo>
                    <a:cubicBezTo>
                      <a:pt x="6127" y="5"/>
                      <a:pt x="6126" y="6"/>
                      <a:pt x="6125" y="6"/>
                    </a:cubicBezTo>
                    <a:lnTo>
                      <a:pt x="6125" y="6"/>
                    </a:lnTo>
                    <a:cubicBezTo>
                      <a:pt x="6124" y="6"/>
                      <a:pt x="6123" y="5"/>
                      <a:pt x="6123" y="4"/>
                    </a:cubicBezTo>
                    <a:cubicBezTo>
                      <a:pt x="6123" y="3"/>
                      <a:pt x="6124" y="2"/>
                      <a:pt x="6125" y="2"/>
                    </a:cubicBezTo>
                    <a:close/>
                    <a:moveTo>
                      <a:pt x="6133" y="2"/>
                    </a:moveTo>
                    <a:lnTo>
                      <a:pt x="6133" y="2"/>
                    </a:lnTo>
                    <a:cubicBezTo>
                      <a:pt x="6134" y="2"/>
                      <a:pt x="6135" y="3"/>
                      <a:pt x="6135" y="4"/>
                    </a:cubicBezTo>
                    <a:cubicBezTo>
                      <a:pt x="6135" y="5"/>
                      <a:pt x="6134" y="6"/>
                      <a:pt x="6133" y="6"/>
                    </a:cubicBezTo>
                    <a:lnTo>
                      <a:pt x="6133" y="6"/>
                    </a:lnTo>
                    <a:cubicBezTo>
                      <a:pt x="6132" y="6"/>
                      <a:pt x="6131" y="5"/>
                      <a:pt x="6131" y="4"/>
                    </a:cubicBezTo>
                    <a:cubicBezTo>
                      <a:pt x="6131" y="3"/>
                      <a:pt x="6132" y="2"/>
                      <a:pt x="6133" y="2"/>
                    </a:cubicBezTo>
                    <a:close/>
                    <a:moveTo>
                      <a:pt x="6141" y="2"/>
                    </a:moveTo>
                    <a:lnTo>
                      <a:pt x="6141" y="2"/>
                    </a:lnTo>
                    <a:cubicBezTo>
                      <a:pt x="6142" y="2"/>
                      <a:pt x="6143" y="3"/>
                      <a:pt x="6143" y="4"/>
                    </a:cubicBezTo>
                    <a:cubicBezTo>
                      <a:pt x="6143" y="5"/>
                      <a:pt x="6142" y="6"/>
                      <a:pt x="6141" y="6"/>
                    </a:cubicBezTo>
                    <a:lnTo>
                      <a:pt x="6141" y="6"/>
                    </a:lnTo>
                    <a:cubicBezTo>
                      <a:pt x="6140" y="6"/>
                      <a:pt x="6139" y="5"/>
                      <a:pt x="6139" y="4"/>
                    </a:cubicBezTo>
                    <a:cubicBezTo>
                      <a:pt x="6139" y="3"/>
                      <a:pt x="6140" y="2"/>
                      <a:pt x="6141" y="2"/>
                    </a:cubicBezTo>
                    <a:close/>
                    <a:moveTo>
                      <a:pt x="6149" y="2"/>
                    </a:moveTo>
                    <a:lnTo>
                      <a:pt x="6149" y="2"/>
                    </a:lnTo>
                    <a:cubicBezTo>
                      <a:pt x="6150" y="2"/>
                      <a:pt x="6151" y="3"/>
                      <a:pt x="6151" y="4"/>
                    </a:cubicBezTo>
                    <a:cubicBezTo>
                      <a:pt x="6151" y="5"/>
                      <a:pt x="6150" y="6"/>
                      <a:pt x="6149" y="6"/>
                    </a:cubicBezTo>
                    <a:lnTo>
                      <a:pt x="6149" y="6"/>
                    </a:lnTo>
                    <a:cubicBezTo>
                      <a:pt x="6148" y="6"/>
                      <a:pt x="6147" y="5"/>
                      <a:pt x="6147" y="4"/>
                    </a:cubicBezTo>
                    <a:cubicBezTo>
                      <a:pt x="6147" y="3"/>
                      <a:pt x="6148" y="2"/>
                      <a:pt x="6149" y="2"/>
                    </a:cubicBezTo>
                    <a:close/>
                    <a:moveTo>
                      <a:pt x="6157" y="2"/>
                    </a:moveTo>
                    <a:lnTo>
                      <a:pt x="6157" y="2"/>
                    </a:lnTo>
                    <a:cubicBezTo>
                      <a:pt x="6158" y="2"/>
                      <a:pt x="6159" y="3"/>
                      <a:pt x="6159" y="4"/>
                    </a:cubicBezTo>
                    <a:cubicBezTo>
                      <a:pt x="6159" y="5"/>
                      <a:pt x="6158" y="6"/>
                      <a:pt x="6157" y="6"/>
                    </a:cubicBezTo>
                    <a:lnTo>
                      <a:pt x="6157" y="6"/>
                    </a:lnTo>
                    <a:cubicBezTo>
                      <a:pt x="6156" y="6"/>
                      <a:pt x="6155" y="5"/>
                      <a:pt x="6155" y="4"/>
                    </a:cubicBezTo>
                    <a:cubicBezTo>
                      <a:pt x="6155" y="3"/>
                      <a:pt x="6156" y="2"/>
                      <a:pt x="6157" y="2"/>
                    </a:cubicBezTo>
                    <a:close/>
                    <a:moveTo>
                      <a:pt x="6165" y="2"/>
                    </a:moveTo>
                    <a:lnTo>
                      <a:pt x="6165" y="2"/>
                    </a:lnTo>
                    <a:cubicBezTo>
                      <a:pt x="6166" y="2"/>
                      <a:pt x="6167" y="3"/>
                      <a:pt x="6167" y="4"/>
                    </a:cubicBezTo>
                    <a:cubicBezTo>
                      <a:pt x="6167" y="5"/>
                      <a:pt x="6166" y="6"/>
                      <a:pt x="6165" y="6"/>
                    </a:cubicBezTo>
                    <a:lnTo>
                      <a:pt x="6165" y="6"/>
                    </a:lnTo>
                    <a:cubicBezTo>
                      <a:pt x="6164" y="6"/>
                      <a:pt x="6163" y="5"/>
                      <a:pt x="6163" y="4"/>
                    </a:cubicBezTo>
                    <a:cubicBezTo>
                      <a:pt x="6163" y="3"/>
                      <a:pt x="6164" y="2"/>
                      <a:pt x="6165" y="2"/>
                    </a:cubicBezTo>
                    <a:close/>
                    <a:moveTo>
                      <a:pt x="6173" y="2"/>
                    </a:moveTo>
                    <a:lnTo>
                      <a:pt x="6173" y="2"/>
                    </a:lnTo>
                    <a:cubicBezTo>
                      <a:pt x="6174" y="2"/>
                      <a:pt x="6175" y="3"/>
                      <a:pt x="6175" y="4"/>
                    </a:cubicBezTo>
                    <a:cubicBezTo>
                      <a:pt x="6175" y="5"/>
                      <a:pt x="6174" y="6"/>
                      <a:pt x="6173" y="6"/>
                    </a:cubicBezTo>
                    <a:lnTo>
                      <a:pt x="6173" y="6"/>
                    </a:lnTo>
                    <a:cubicBezTo>
                      <a:pt x="6172" y="6"/>
                      <a:pt x="6171" y="5"/>
                      <a:pt x="6171" y="4"/>
                    </a:cubicBezTo>
                    <a:cubicBezTo>
                      <a:pt x="6171" y="3"/>
                      <a:pt x="6172" y="2"/>
                      <a:pt x="6173" y="2"/>
                    </a:cubicBezTo>
                    <a:close/>
                    <a:moveTo>
                      <a:pt x="6181" y="2"/>
                    </a:moveTo>
                    <a:lnTo>
                      <a:pt x="6181" y="2"/>
                    </a:lnTo>
                    <a:cubicBezTo>
                      <a:pt x="6182" y="2"/>
                      <a:pt x="6183" y="3"/>
                      <a:pt x="6183" y="4"/>
                    </a:cubicBezTo>
                    <a:cubicBezTo>
                      <a:pt x="6183" y="5"/>
                      <a:pt x="6182" y="6"/>
                      <a:pt x="6181" y="6"/>
                    </a:cubicBezTo>
                    <a:lnTo>
                      <a:pt x="6181" y="6"/>
                    </a:lnTo>
                    <a:cubicBezTo>
                      <a:pt x="6180" y="6"/>
                      <a:pt x="6179" y="5"/>
                      <a:pt x="6179" y="4"/>
                    </a:cubicBezTo>
                    <a:cubicBezTo>
                      <a:pt x="6179" y="3"/>
                      <a:pt x="6180" y="2"/>
                      <a:pt x="6181" y="2"/>
                    </a:cubicBezTo>
                    <a:close/>
                    <a:moveTo>
                      <a:pt x="6189" y="2"/>
                    </a:moveTo>
                    <a:lnTo>
                      <a:pt x="6189" y="2"/>
                    </a:lnTo>
                    <a:cubicBezTo>
                      <a:pt x="6190" y="2"/>
                      <a:pt x="6191" y="3"/>
                      <a:pt x="6191" y="4"/>
                    </a:cubicBezTo>
                    <a:cubicBezTo>
                      <a:pt x="6191" y="5"/>
                      <a:pt x="6190" y="6"/>
                      <a:pt x="6189" y="6"/>
                    </a:cubicBezTo>
                    <a:lnTo>
                      <a:pt x="6189" y="6"/>
                    </a:lnTo>
                    <a:cubicBezTo>
                      <a:pt x="6188" y="6"/>
                      <a:pt x="6187" y="5"/>
                      <a:pt x="6187" y="4"/>
                    </a:cubicBezTo>
                    <a:cubicBezTo>
                      <a:pt x="6187" y="3"/>
                      <a:pt x="6188" y="2"/>
                      <a:pt x="6189" y="2"/>
                    </a:cubicBezTo>
                    <a:close/>
                    <a:moveTo>
                      <a:pt x="6197" y="2"/>
                    </a:moveTo>
                    <a:lnTo>
                      <a:pt x="6197" y="2"/>
                    </a:lnTo>
                    <a:cubicBezTo>
                      <a:pt x="6198" y="2"/>
                      <a:pt x="6199" y="3"/>
                      <a:pt x="6199" y="4"/>
                    </a:cubicBezTo>
                    <a:cubicBezTo>
                      <a:pt x="6199" y="5"/>
                      <a:pt x="6198" y="6"/>
                      <a:pt x="6197" y="6"/>
                    </a:cubicBezTo>
                    <a:lnTo>
                      <a:pt x="6197" y="6"/>
                    </a:lnTo>
                    <a:cubicBezTo>
                      <a:pt x="6196" y="6"/>
                      <a:pt x="6195" y="5"/>
                      <a:pt x="6195" y="4"/>
                    </a:cubicBezTo>
                    <a:cubicBezTo>
                      <a:pt x="6195" y="3"/>
                      <a:pt x="6196" y="2"/>
                      <a:pt x="6197" y="2"/>
                    </a:cubicBezTo>
                    <a:close/>
                    <a:moveTo>
                      <a:pt x="6205" y="2"/>
                    </a:moveTo>
                    <a:lnTo>
                      <a:pt x="6205" y="2"/>
                    </a:lnTo>
                    <a:cubicBezTo>
                      <a:pt x="6206" y="2"/>
                      <a:pt x="6207" y="3"/>
                      <a:pt x="6207" y="4"/>
                    </a:cubicBezTo>
                    <a:cubicBezTo>
                      <a:pt x="6207" y="5"/>
                      <a:pt x="6206" y="6"/>
                      <a:pt x="6205" y="6"/>
                    </a:cubicBezTo>
                    <a:lnTo>
                      <a:pt x="6205" y="6"/>
                    </a:lnTo>
                    <a:cubicBezTo>
                      <a:pt x="6204" y="6"/>
                      <a:pt x="6203" y="5"/>
                      <a:pt x="6203" y="4"/>
                    </a:cubicBezTo>
                    <a:cubicBezTo>
                      <a:pt x="6203" y="3"/>
                      <a:pt x="6204" y="2"/>
                      <a:pt x="6205" y="2"/>
                    </a:cubicBezTo>
                    <a:close/>
                    <a:moveTo>
                      <a:pt x="6213" y="2"/>
                    </a:moveTo>
                    <a:lnTo>
                      <a:pt x="6213" y="2"/>
                    </a:lnTo>
                    <a:cubicBezTo>
                      <a:pt x="6214" y="2"/>
                      <a:pt x="6215" y="3"/>
                      <a:pt x="6215" y="4"/>
                    </a:cubicBezTo>
                    <a:cubicBezTo>
                      <a:pt x="6215" y="5"/>
                      <a:pt x="6214" y="6"/>
                      <a:pt x="6213" y="6"/>
                    </a:cubicBezTo>
                    <a:lnTo>
                      <a:pt x="6213" y="6"/>
                    </a:lnTo>
                    <a:cubicBezTo>
                      <a:pt x="6212" y="6"/>
                      <a:pt x="6211" y="5"/>
                      <a:pt x="6211" y="4"/>
                    </a:cubicBezTo>
                    <a:cubicBezTo>
                      <a:pt x="6211" y="3"/>
                      <a:pt x="6212" y="2"/>
                      <a:pt x="6213" y="2"/>
                    </a:cubicBezTo>
                    <a:close/>
                    <a:moveTo>
                      <a:pt x="6221" y="2"/>
                    </a:moveTo>
                    <a:lnTo>
                      <a:pt x="6221" y="2"/>
                    </a:lnTo>
                    <a:cubicBezTo>
                      <a:pt x="6222" y="2"/>
                      <a:pt x="6223" y="3"/>
                      <a:pt x="6223" y="4"/>
                    </a:cubicBezTo>
                    <a:cubicBezTo>
                      <a:pt x="6223" y="5"/>
                      <a:pt x="6222" y="6"/>
                      <a:pt x="6221" y="6"/>
                    </a:cubicBezTo>
                    <a:lnTo>
                      <a:pt x="6221" y="6"/>
                    </a:lnTo>
                    <a:cubicBezTo>
                      <a:pt x="6220" y="6"/>
                      <a:pt x="6219" y="5"/>
                      <a:pt x="6219" y="4"/>
                    </a:cubicBezTo>
                    <a:cubicBezTo>
                      <a:pt x="6219" y="3"/>
                      <a:pt x="6220" y="2"/>
                      <a:pt x="6221" y="2"/>
                    </a:cubicBezTo>
                    <a:close/>
                    <a:moveTo>
                      <a:pt x="6229" y="2"/>
                    </a:moveTo>
                    <a:lnTo>
                      <a:pt x="6229" y="2"/>
                    </a:lnTo>
                    <a:cubicBezTo>
                      <a:pt x="6230" y="2"/>
                      <a:pt x="6231" y="3"/>
                      <a:pt x="6231" y="4"/>
                    </a:cubicBezTo>
                    <a:cubicBezTo>
                      <a:pt x="6231" y="5"/>
                      <a:pt x="6230" y="6"/>
                      <a:pt x="6229" y="6"/>
                    </a:cubicBezTo>
                    <a:lnTo>
                      <a:pt x="6229" y="6"/>
                    </a:lnTo>
                    <a:cubicBezTo>
                      <a:pt x="6228" y="6"/>
                      <a:pt x="6227" y="5"/>
                      <a:pt x="6227" y="4"/>
                    </a:cubicBezTo>
                    <a:cubicBezTo>
                      <a:pt x="6227" y="3"/>
                      <a:pt x="6228" y="2"/>
                      <a:pt x="6229" y="2"/>
                    </a:cubicBezTo>
                    <a:close/>
                    <a:moveTo>
                      <a:pt x="6237" y="2"/>
                    </a:moveTo>
                    <a:lnTo>
                      <a:pt x="6237" y="2"/>
                    </a:lnTo>
                    <a:cubicBezTo>
                      <a:pt x="6238" y="2"/>
                      <a:pt x="6239" y="3"/>
                      <a:pt x="6239" y="4"/>
                    </a:cubicBezTo>
                    <a:cubicBezTo>
                      <a:pt x="6239" y="5"/>
                      <a:pt x="6238" y="6"/>
                      <a:pt x="6237" y="6"/>
                    </a:cubicBezTo>
                    <a:lnTo>
                      <a:pt x="6237" y="6"/>
                    </a:lnTo>
                    <a:cubicBezTo>
                      <a:pt x="6236" y="6"/>
                      <a:pt x="6235" y="5"/>
                      <a:pt x="6235" y="4"/>
                    </a:cubicBezTo>
                    <a:cubicBezTo>
                      <a:pt x="6235" y="3"/>
                      <a:pt x="6236" y="2"/>
                      <a:pt x="6237" y="2"/>
                    </a:cubicBezTo>
                    <a:close/>
                    <a:moveTo>
                      <a:pt x="6245" y="2"/>
                    </a:moveTo>
                    <a:lnTo>
                      <a:pt x="6245" y="2"/>
                    </a:lnTo>
                    <a:cubicBezTo>
                      <a:pt x="6246" y="2"/>
                      <a:pt x="6247" y="3"/>
                      <a:pt x="6247" y="4"/>
                    </a:cubicBezTo>
                    <a:cubicBezTo>
                      <a:pt x="6247" y="5"/>
                      <a:pt x="6246" y="6"/>
                      <a:pt x="6245" y="6"/>
                    </a:cubicBezTo>
                    <a:lnTo>
                      <a:pt x="6245" y="6"/>
                    </a:lnTo>
                    <a:cubicBezTo>
                      <a:pt x="6244" y="6"/>
                      <a:pt x="6243" y="5"/>
                      <a:pt x="6243" y="4"/>
                    </a:cubicBezTo>
                    <a:cubicBezTo>
                      <a:pt x="6243" y="3"/>
                      <a:pt x="6244" y="2"/>
                      <a:pt x="6245" y="2"/>
                    </a:cubicBezTo>
                    <a:close/>
                    <a:moveTo>
                      <a:pt x="6253" y="2"/>
                    </a:moveTo>
                    <a:lnTo>
                      <a:pt x="6253" y="2"/>
                    </a:lnTo>
                    <a:cubicBezTo>
                      <a:pt x="6254" y="2"/>
                      <a:pt x="6255" y="3"/>
                      <a:pt x="6255" y="4"/>
                    </a:cubicBezTo>
                    <a:cubicBezTo>
                      <a:pt x="6255" y="5"/>
                      <a:pt x="6254" y="6"/>
                      <a:pt x="6253" y="6"/>
                    </a:cubicBezTo>
                    <a:lnTo>
                      <a:pt x="6253" y="6"/>
                    </a:lnTo>
                    <a:cubicBezTo>
                      <a:pt x="6252" y="6"/>
                      <a:pt x="6251" y="5"/>
                      <a:pt x="6251" y="4"/>
                    </a:cubicBezTo>
                    <a:cubicBezTo>
                      <a:pt x="6251" y="3"/>
                      <a:pt x="6252" y="2"/>
                      <a:pt x="6253" y="2"/>
                    </a:cubicBezTo>
                    <a:close/>
                    <a:moveTo>
                      <a:pt x="6261" y="2"/>
                    </a:moveTo>
                    <a:lnTo>
                      <a:pt x="6261" y="2"/>
                    </a:lnTo>
                    <a:cubicBezTo>
                      <a:pt x="6262" y="2"/>
                      <a:pt x="6263" y="3"/>
                      <a:pt x="6263" y="4"/>
                    </a:cubicBezTo>
                    <a:cubicBezTo>
                      <a:pt x="6263" y="5"/>
                      <a:pt x="6262" y="6"/>
                      <a:pt x="6261" y="6"/>
                    </a:cubicBezTo>
                    <a:lnTo>
                      <a:pt x="6261" y="6"/>
                    </a:lnTo>
                    <a:cubicBezTo>
                      <a:pt x="6260" y="6"/>
                      <a:pt x="6259" y="5"/>
                      <a:pt x="6259" y="4"/>
                    </a:cubicBezTo>
                    <a:cubicBezTo>
                      <a:pt x="6259" y="3"/>
                      <a:pt x="6260" y="2"/>
                      <a:pt x="6261" y="2"/>
                    </a:cubicBezTo>
                    <a:close/>
                    <a:moveTo>
                      <a:pt x="6269" y="2"/>
                    </a:moveTo>
                    <a:lnTo>
                      <a:pt x="6269" y="2"/>
                    </a:lnTo>
                    <a:cubicBezTo>
                      <a:pt x="6270" y="2"/>
                      <a:pt x="6271" y="3"/>
                      <a:pt x="6271" y="4"/>
                    </a:cubicBezTo>
                    <a:cubicBezTo>
                      <a:pt x="6271" y="5"/>
                      <a:pt x="6270" y="6"/>
                      <a:pt x="6269" y="6"/>
                    </a:cubicBezTo>
                    <a:lnTo>
                      <a:pt x="6269" y="6"/>
                    </a:lnTo>
                    <a:cubicBezTo>
                      <a:pt x="6268" y="6"/>
                      <a:pt x="6267" y="5"/>
                      <a:pt x="6267" y="4"/>
                    </a:cubicBezTo>
                    <a:cubicBezTo>
                      <a:pt x="6267" y="3"/>
                      <a:pt x="6268" y="2"/>
                      <a:pt x="6269" y="2"/>
                    </a:cubicBezTo>
                    <a:close/>
                    <a:moveTo>
                      <a:pt x="6277" y="2"/>
                    </a:moveTo>
                    <a:lnTo>
                      <a:pt x="6277" y="2"/>
                    </a:lnTo>
                    <a:cubicBezTo>
                      <a:pt x="6278" y="2"/>
                      <a:pt x="6279" y="3"/>
                      <a:pt x="6279" y="4"/>
                    </a:cubicBezTo>
                    <a:cubicBezTo>
                      <a:pt x="6279" y="5"/>
                      <a:pt x="6278" y="6"/>
                      <a:pt x="6277" y="6"/>
                    </a:cubicBezTo>
                    <a:lnTo>
                      <a:pt x="6277" y="6"/>
                    </a:lnTo>
                    <a:cubicBezTo>
                      <a:pt x="6276" y="6"/>
                      <a:pt x="6275" y="5"/>
                      <a:pt x="6275" y="4"/>
                    </a:cubicBezTo>
                    <a:cubicBezTo>
                      <a:pt x="6275" y="3"/>
                      <a:pt x="6276" y="2"/>
                      <a:pt x="6277" y="2"/>
                    </a:cubicBezTo>
                    <a:close/>
                    <a:moveTo>
                      <a:pt x="6285" y="2"/>
                    </a:moveTo>
                    <a:lnTo>
                      <a:pt x="6285" y="2"/>
                    </a:lnTo>
                    <a:cubicBezTo>
                      <a:pt x="6286" y="2"/>
                      <a:pt x="6287" y="3"/>
                      <a:pt x="6287" y="4"/>
                    </a:cubicBezTo>
                    <a:cubicBezTo>
                      <a:pt x="6287" y="5"/>
                      <a:pt x="6286" y="6"/>
                      <a:pt x="6285" y="6"/>
                    </a:cubicBezTo>
                    <a:lnTo>
                      <a:pt x="6285" y="6"/>
                    </a:lnTo>
                    <a:cubicBezTo>
                      <a:pt x="6284" y="6"/>
                      <a:pt x="6283" y="5"/>
                      <a:pt x="6283" y="4"/>
                    </a:cubicBezTo>
                    <a:cubicBezTo>
                      <a:pt x="6283" y="3"/>
                      <a:pt x="6284" y="2"/>
                      <a:pt x="6285" y="2"/>
                    </a:cubicBezTo>
                    <a:close/>
                    <a:moveTo>
                      <a:pt x="6293" y="2"/>
                    </a:moveTo>
                    <a:lnTo>
                      <a:pt x="6293" y="2"/>
                    </a:lnTo>
                    <a:cubicBezTo>
                      <a:pt x="6294" y="2"/>
                      <a:pt x="6295" y="3"/>
                      <a:pt x="6295" y="4"/>
                    </a:cubicBezTo>
                    <a:cubicBezTo>
                      <a:pt x="6295" y="5"/>
                      <a:pt x="6294" y="6"/>
                      <a:pt x="6293" y="6"/>
                    </a:cubicBezTo>
                    <a:lnTo>
                      <a:pt x="6293" y="6"/>
                    </a:lnTo>
                    <a:cubicBezTo>
                      <a:pt x="6292" y="6"/>
                      <a:pt x="6291" y="5"/>
                      <a:pt x="6291" y="4"/>
                    </a:cubicBezTo>
                    <a:cubicBezTo>
                      <a:pt x="6291" y="3"/>
                      <a:pt x="6292" y="2"/>
                      <a:pt x="6293" y="2"/>
                    </a:cubicBezTo>
                    <a:close/>
                    <a:moveTo>
                      <a:pt x="6301" y="2"/>
                    </a:moveTo>
                    <a:lnTo>
                      <a:pt x="6301" y="2"/>
                    </a:lnTo>
                    <a:cubicBezTo>
                      <a:pt x="6302" y="2"/>
                      <a:pt x="6303" y="3"/>
                      <a:pt x="6303" y="4"/>
                    </a:cubicBezTo>
                    <a:cubicBezTo>
                      <a:pt x="6303" y="5"/>
                      <a:pt x="6302" y="6"/>
                      <a:pt x="6301" y="6"/>
                    </a:cubicBezTo>
                    <a:lnTo>
                      <a:pt x="6301" y="6"/>
                    </a:lnTo>
                    <a:cubicBezTo>
                      <a:pt x="6300" y="6"/>
                      <a:pt x="6299" y="5"/>
                      <a:pt x="6299" y="4"/>
                    </a:cubicBezTo>
                    <a:cubicBezTo>
                      <a:pt x="6299" y="3"/>
                      <a:pt x="6300" y="2"/>
                      <a:pt x="6301" y="2"/>
                    </a:cubicBezTo>
                    <a:close/>
                    <a:moveTo>
                      <a:pt x="6309" y="2"/>
                    </a:moveTo>
                    <a:lnTo>
                      <a:pt x="6309" y="2"/>
                    </a:lnTo>
                    <a:cubicBezTo>
                      <a:pt x="6310" y="2"/>
                      <a:pt x="6311" y="3"/>
                      <a:pt x="6311" y="4"/>
                    </a:cubicBezTo>
                    <a:cubicBezTo>
                      <a:pt x="6311" y="5"/>
                      <a:pt x="6310" y="6"/>
                      <a:pt x="6309" y="6"/>
                    </a:cubicBezTo>
                    <a:lnTo>
                      <a:pt x="6309" y="6"/>
                    </a:lnTo>
                    <a:cubicBezTo>
                      <a:pt x="6308" y="6"/>
                      <a:pt x="6307" y="5"/>
                      <a:pt x="6307" y="4"/>
                    </a:cubicBezTo>
                    <a:cubicBezTo>
                      <a:pt x="6307" y="3"/>
                      <a:pt x="6308" y="2"/>
                      <a:pt x="6309" y="2"/>
                    </a:cubicBezTo>
                    <a:close/>
                    <a:moveTo>
                      <a:pt x="6317" y="2"/>
                    </a:moveTo>
                    <a:lnTo>
                      <a:pt x="6317" y="2"/>
                    </a:lnTo>
                    <a:cubicBezTo>
                      <a:pt x="6318" y="2"/>
                      <a:pt x="6319" y="3"/>
                      <a:pt x="6319" y="4"/>
                    </a:cubicBezTo>
                    <a:cubicBezTo>
                      <a:pt x="6319" y="5"/>
                      <a:pt x="6318" y="6"/>
                      <a:pt x="6317" y="6"/>
                    </a:cubicBezTo>
                    <a:lnTo>
                      <a:pt x="6317" y="6"/>
                    </a:lnTo>
                    <a:cubicBezTo>
                      <a:pt x="6316" y="6"/>
                      <a:pt x="6315" y="5"/>
                      <a:pt x="6315" y="4"/>
                    </a:cubicBezTo>
                    <a:cubicBezTo>
                      <a:pt x="6315" y="3"/>
                      <a:pt x="6316" y="2"/>
                      <a:pt x="6317" y="2"/>
                    </a:cubicBezTo>
                    <a:close/>
                    <a:moveTo>
                      <a:pt x="6325" y="2"/>
                    </a:moveTo>
                    <a:lnTo>
                      <a:pt x="6325" y="2"/>
                    </a:lnTo>
                    <a:cubicBezTo>
                      <a:pt x="6326" y="2"/>
                      <a:pt x="6327" y="3"/>
                      <a:pt x="6327" y="4"/>
                    </a:cubicBezTo>
                    <a:cubicBezTo>
                      <a:pt x="6327" y="5"/>
                      <a:pt x="6326" y="6"/>
                      <a:pt x="6325" y="6"/>
                    </a:cubicBezTo>
                    <a:lnTo>
                      <a:pt x="6325" y="6"/>
                    </a:lnTo>
                    <a:cubicBezTo>
                      <a:pt x="6324" y="6"/>
                      <a:pt x="6323" y="5"/>
                      <a:pt x="6323" y="4"/>
                    </a:cubicBezTo>
                    <a:cubicBezTo>
                      <a:pt x="6323" y="3"/>
                      <a:pt x="6324" y="2"/>
                      <a:pt x="6325" y="2"/>
                    </a:cubicBezTo>
                    <a:close/>
                    <a:moveTo>
                      <a:pt x="6333" y="2"/>
                    </a:moveTo>
                    <a:lnTo>
                      <a:pt x="6333" y="2"/>
                    </a:lnTo>
                    <a:cubicBezTo>
                      <a:pt x="6334" y="2"/>
                      <a:pt x="6335" y="3"/>
                      <a:pt x="6335" y="4"/>
                    </a:cubicBezTo>
                    <a:cubicBezTo>
                      <a:pt x="6335" y="5"/>
                      <a:pt x="6334" y="6"/>
                      <a:pt x="6333" y="6"/>
                    </a:cubicBezTo>
                    <a:lnTo>
                      <a:pt x="6333" y="6"/>
                    </a:lnTo>
                    <a:cubicBezTo>
                      <a:pt x="6332" y="6"/>
                      <a:pt x="6331" y="5"/>
                      <a:pt x="6331" y="4"/>
                    </a:cubicBezTo>
                    <a:cubicBezTo>
                      <a:pt x="6331" y="3"/>
                      <a:pt x="6332" y="2"/>
                      <a:pt x="6333" y="2"/>
                    </a:cubicBezTo>
                    <a:close/>
                    <a:moveTo>
                      <a:pt x="6341" y="2"/>
                    </a:moveTo>
                    <a:lnTo>
                      <a:pt x="6341" y="2"/>
                    </a:lnTo>
                    <a:cubicBezTo>
                      <a:pt x="6342" y="2"/>
                      <a:pt x="6343" y="3"/>
                      <a:pt x="6343" y="4"/>
                    </a:cubicBezTo>
                    <a:cubicBezTo>
                      <a:pt x="6343" y="5"/>
                      <a:pt x="6342" y="6"/>
                      <a:pt x="6341" y="6"/>
                    </a:cubicBezTo>
                    <a:lnTo>
                      <a:pt x="6341" y="6"/>
                    </a:lnTo>
                    <a:cubicBezTo>
                      <a:pt x="6340" y="6"/>
                      <a:pt x="6339" y="5"/>
                      <a:pt x="6339" y="4"/>
                    </a:cubicBezTo>
                    <a:cubicBezTo>
                      <a:pt x="6339" y="3"/>
                      <a:pt x="6340" y="2"/>
                      <a:pt x="6341" y="2"/>
                    </a:cubicBezTo>
                    <a:close/>
                    <a:moveTo>
                      <a:pt x="6349" y="2"/>
                    </a:moveTo>
                    <a:lnTo>
                      <a:pt x="6349" y="2"/>
                    </a:lnTo>
                    <a:cubicBezTo>
                      <a:pt x="6350" y="2"/>
                      <a:pt x="6351" y="3"/>
                      <a:pt x="6351" y="4"/>
                    </a:cubicBezTo>
                    <a:cubicBezTo>
                      <a:pt x="6351" y="5"/>
                      <a:pt x="6350" y="6"/>
                      <a:pt x="6349" y="6"/>
                    </a:cubicBezTo>
                    <a:lnTo>
                      <a:pt x="6349" y="6"/>
                    </a:lnTo>
                    <a:cubicBezTo>
                      <a:pt x="6348" y="6"/>
                      <a:pt x="6347" y="5"/>
                      <a:pt x="6347" y="4"/>
                    </a:cubicBezTo>
                    <a:cubicBezTo>
                      <a:pt x="6347" y="3"/>
                      <a:pt x="6348" y="2"/>
                      <a:pt x="6349" y="2"/>
                    </a:cubicBezTo>
                    <a:close/>
                    <a:moveTo>
                      <a:pt x="6357" y="2"/>
                    </a:moveTo>
                    <a:lnTo>
                      <a:pt x="6357" y="2"/>
                    </a:lnTo>
                    <a:cubicBezTo>
                      <a:pt x="6358" y="2"/>
                      <a:pt x="6359" y="3"/>
                      <a:pt x="6359" y="4"/>
                    </a:cubicBezTo>
                    <a:cubicBezTo>
                      <a:pt x="6359" y="5"/>
                      <a:pt x="6358" y="6"/>
                      <a:pt x="6357" y="6"/>
                    </a:cubicBezTo>
                    <a:lnTo>
                      <a:pt x="6357" y="6"/>
                    </a:lnTo>
                    <a:cubicBezTo>
                      <a:pt x="6356" y="6"/>
                      <a:pt x="6355" y="5"/>
                      <a:pt x="6355" y="4"/>
                    </a:cubicBezTo>
                    <a:cubicBezTo>
                      <a:pt x="6355" y="3"/>
                      <a:pt x="6356" y="2"/>
                      <a:pt x="6357" y="2"/>
                    </a:cubicBezTo>
                    <a:close/>
                    <a:moveTo>
                      <a:pt x="6365" y="2"/>
                    </a:moveTo>
                    <a:lnTo>
                      <a:pt x="6365" y="2"/>
                    </a:lnTo>
                    <a:cubicBezTo>
                      <a:pt x="6366" y="2"/>
                      <a:pt x="6367" y="3"/>
                      <a:pt x="6367" y="4"/>
                    </a:cubicBezTo>
                    <a:cubicBezTo>
                      <a:pt x="6367" y="5"/>
                      <a:pt x="6366" y="6"/>
                      <a:pt x="6365" y="6"/>
                    </a:cubicBezTo>
                    <a:lnTo>
                      <a:pt x="6365" y="6"/>
                    </a:lnTo>
                    <a:cubicBezTo>
                      <a:pt x="6364" y="6"/>
                      <a:pt x="6363" y="5"/>
                      <a:pt x="6363" y="4"/>
                    </a:cubicBezTo>
                    <a:cubicBezTo>
                      <a:pt x="6363" y="3"/>
                      <a:pt x="6364" y="2"/>
                      <a:pt x="6365" y="2"/>
                    </a:cubicBezTo>
                    <a:close/>
                    <a:moveTo>
                      <a:pt x="6373" y="2"/>
                    </a:moveTo>
                    <a:lnTo>
                      <a:pt x="6373" y="2"/>
                    </a:lnTo>
                    <a:cubicBezTo>
                      <a:pt x="6374" y="2"/>
                      <a:pt x="6375" y="3"/>
                      <a:pt x="6375" y="4"/>
                    </a:cubicBezTo>
                    <a:cubicBezTo>
                      <a:pt x="6375" y="5"/>
                      <a:pt x="6374" y="6"/>
                      <a:pt x="6373" y="6"/>
                    </a:cubicBezTo>
                    <a:lnTo>
                      <a:pt x="6373" y="6"/>
                    </a:lnTo>
                    <a:cubicBezTo>
                      <a:pt x="6372" y="6"/>
                      <a:pt x="6371" y="5"/>
                      <a:pt x="6371" y="4"/>
                    </a:cubicBezTo>
                    <a:cubicBezTo>
                      <a:pt x="6371" y="3"/>
                      <a:pt x="6372" y="2"/>
                      <a:pt x="6373" y="2"/>
                    </a:cubicBezTo>
                    <a:close/>
                    <a:moveTo>
                      <a:pt x="6381" y="2"/>
                    </a:moveTo>
                    <a:lnTo>
                      <a:pt x="6381" y="2"/>
                    </a:lnTo>
                    <a:cubicBezTo>
                      <a:pt x="6382" y="2"/>
                      <a:pt x="6383" y="3"/>
                      <a:pt x="6383" y="4"/>
                    </a:cubicBezTo>
                    <a:cubicBezTo>
                      <a:pt x="6383" y="5"/>
                      <a:pt x="6382" y="6"/>
                      <a:pt x="6381" y="6"/>
                    </a:cubicBezTo>
                    <a:lnTo>
                      <a:pt x="6381" y="6"/>
                    </a:lnTo>
                    <a:cubicBezTo>
                      <a:pt x="6380" y="6"/>
                      <a:pt x="6379" y="5"/>
                      <a:pt x="6379" y="4"/>
                    </a:cubicBezTo>
                    <a:cubicBezTo>
                      <a:pt x="6379" y="3"/>
                      <a:pt x="6380" y="2"/>
                      <a:pt x="6381" y="2"/>
                    </a:cubicBezTo>
                    <a:close/>
                    <a:moveTo>
                      <a:pt x="6389" y="2"/>
                    </a:moveTo>
                    <a:lnTo>
                      <a:pt x="6389" y="2"/>
                    </a:lnTo>
                    <a:cubicBezTo>
                      <a:pt x="6390" y="2"/>
                      <a:pt x="6391" y="3"/>
                      <a:pt x="6391" y="4"/>
                    </a:cubicBezTo>
                    <a:cubicBezTo>
                      <a:pt x="6391" y="5"/>
                      <a:pt x="6390" y="6"/>
                      <a:pt x="6389" y="6"/>
                    </a:cubicBezTo>
                    <a:lnTo>
                      <a:pt x="6389" y="6"/>
                    </a:lnTo>
                    <a:cubicBezTo>
                      <a:pt x="6388" y="6"/>
                      <a:pt x="6387" y="5"/>
                      <a:pt x="6387" y="4"/>
                    </a:cubicBezTo>
                    <a:cubicBezTo>
                      <a:pt x="6387" y="3"/>
                      <a:pt x="6388" y="2"/>
                      <a:pt x="6389" y="2"/>
                    </a:cubicBezTo>
                    <a:close/>
                    <a:moveTo>
                      <a:pt x="6397" y="2"/>
                    </a:moveTo>
                    <a:lnTo>
                      <a:pt x="6397" y="2"/>
                    </a:lnTo>
                    <a:cubicBezTo>
                      <a:pt x="6398" y="2"/>
                      <a:pt x="6399" y="3"/>
                      <a:pt x="6399" y="4"/>
                    </a:cubicBezTo>
                    <a:cubicBezTo>
                      <a:pt x="6399" y="5"/>
                      <a:pt x="6398" y="6"/>
                      <a:pt x="6397" y="6"/>
                    </a:cubicBezTo>
                    <a:lnTo>
                      <a:pt x="6397" y="6"/>
                    </a:lnTo>
                    <a:cubicBezTo>
                      <a:pt x="6396" y="6"/>
                      <a:pt x="6395" y="5"/>
                      <a:pt x="6395" y="4"/>
                    </a:cubicBezTo>
                    <a:cubicBezTo>
                      <a:pt x="6395" y="3"/>
                      <a:pt x="6396" y="2"/>
                      <a:pt x="6397" y="2"/>
                    </a:cubicBezTo>
                    <a:close/>
                    <a:moveTo>
                      <a:pt x="6405" y="2"/>
                    </a:moveTo>
                    <a:lnTo>
                      <a:pt x="6405" y="2"/>
                    </a:lnTo>
                    <a:cubicBezTo>
                      <a:pt x="6406" y="2"/>
                      <a:pt x="6407" y="3"/>
                      <a:pt x="6407" y="4"/>
                    </a:cubicBezTo>
                    <a:cubicBezTo>
                      <a:pt x="6407" y="5"/>
                      <a:pt x="6406" y="6"/>
                      <a:pt x="6405" y="6"/>
                    </a:cubicBezTo>
                    <a:lnTo>
                      <a:pt x="6405" y="6"/>
                    </a:lnTo>
                    <a:cubicBezTo>
                      <a:pt x="6404" y="6"/>
                      <a:pt x="6403" y="5"/>
                      <a:pt x="6403" y="4"/>
                    </a:cubicBezTo>
                    <a:cubicBezTo>
                      <a:pt x="6403" y="3"/>
                      <a:pt x="6404" y="2"/>
                      <a:pt x="6405" y="2"/>
                    </a:cubicBezTo>
                    <a:close/>
                    <a:moveTo>
                      <a:pt x="6413" y="2"/>
                    </a:moveTo>
                    <a:lnTo>
                      <a:pt x="6413" y="2"/>
                    </a:lnTo>
                    <a:cubicBezTo>
                      <a:pt x="6414" y="2"/>
                      <a:pt x="6415" y="3"/>
                      <a:pt x="6415" y="4"/>
                    </a:cubicBezTo>
                    <a:cubicBezTo>
                      <a:pt x="6415" y="5"/>
                      <a:pt x="6414" y="6"/>
                      <a:pt x="6413" y="6"/>
                    </a:cubicBezTo>
                    <a:lnTo>
                      <a:pt x="6413" y="6"/>
                    </a:lnTo>
                    <a:cubicBezTo>
                      <a:pt x="6412" y="6"/>
                      <a:pt x="6411" y="5"/>
                      <a:pt x="6411" y="4"/>
                    </a:cubicBezTo>
                    <a:cubicBezTo>
                      <a:pt x="6411" y="3"/>
                      <a:pt x="6412" y="2"/>
                      <a:pt x="6413" y="2"/>
                    </a:cubicBezTo>
                    <a:close/>
                    <a:moveTo>
                      <a:pt x="6421" y="2"/>
                    </a:moveTo>
                    <a:lnTo>
                      <a:pt x="6421" y="2"/>
                    </a:lnTo>
                    <a:cubicBezTo>
                      <a:pt x="6422" y="2"/>
                      <a:pt x="6423" y="3"/>
                      <a:pt x="6423" y="4"/>
                    </a:cubicBezTo>
                    <a:cubicBezTo>
                      <a:pt x="6423" y="5"/>
                      <a:pt x="6422" y="6"/>
                      <a:pt x="6421" y="6"/>
                    </a:cubicBezTo>
                    <a:lnTo>
                      <a:pt x="6421" y="6"/>
                    </a:lnTo>
                    <a:cubicBezTo>
                      <a:pt x="6420" y="6"/>
                      <a:pt x="6419" y="5"/>
                      <a:pt x="6419" y="4"/>
                    </a:cubicBezTo>
                    <a:cubicBezTo>
                      <a:pt x="6419" y="3"/>
                      <a:pt x="6420" y="2"/>
                      <a:pt x="6421" y="2"/>
                    </a:cubicBezTo>
                    <a:close/>
                    <a:moveTo>
                      <a:pt x="6429" y="2"/>
                    </a:moveTo>
                    <a:lnTo>
                      <a:pt x="6429" y="2"/>
                    </a:lnTo>
                    <a:cubicBezTo>
                      <a:pt x="6430" y="2"/>
                      <a:pt x="6431" y="3"/>
                      <a:pt x="6431" y="4"/>
                    </a:cubicBezTo>
                    <a:cubicBezTo>
                      <a:pt x="6431" y="5"/>
                      <a:pt x="6430" y="6"/>
                      <a:pt x="6429" y="6"/>
                    </a:cubicBezTo>
                    <a:lnTo>
                      <a:pt x="6429" y="6"/>
                    </a:lnTo>
                    <a:cubicBezTo>
                      <a:pt x="6428" y="6"/>
                      <a:pt x="6427" y="5"/>
                      <a:pt x="6427" y="4"/>
                    </a:cubicBezTo>
                    <a:cubicBezTo>
                      <a:pt x="6427" y="3"/>
                      <a:pt x="6428" y="2"/>
                      <a:pt x="6429" y="2"/>
                    </a:cubicBezTo>
                    <a:close/>
                    <a:moveTo>
                      <a:pt x="6437" y="2"/>
                    </a:moveTo>
                    <a:lnTo>
                      <a:pt x="6437" y="2"/>
                    </a:lnTo>
                    <a:cubicBezTo>
                      <a:pt x="6438" y="2"/>
                      <a:pt x="6439" y="3"/>
                      <a:pt x="6439" y="4"/>
                    </a:cubicBezTo>
                    <a:cubicBezTo>
                      <a:pt x="6439" y="5"/>
                      <a:pt x="6438" y="6"/>
                      <a:pt x="6437" y="6"/>
                    </a:cubicBezTo>
                    <a:lnTo>
                      <a:pt x="6437" y="6"/>
                    </a:lnTo>
                    <a:cubicBezTo>
                      <a:pt x="6436" y="6"/>
                      <a:pt x="6435" y="5"/>
                      <a:pt x="6435" y="4"/>
                    </a:cubicBezTo>
                    <a:cubicBezTo>
                      <a:pt x="6435" y="3"/>
                      <a:pt x="6436" y="2"/>
                      <a:pt x="6437" y="2"/>
                    </a:cubicBezTo>
                    <a:close/>
                    <a:moveTo>
                      <a:pt x="6445" y="2"/>
                    </a:moveTo>
                    <a:lnTo>
                      <a:pt x="6445" y="2"/>
                    </a:lnTo>
                    <a:cubicBezTo>
                      <a:pt x="6446" y="2"/>
                      <a:pt x="6447" y="3"/>
                      <a:pt x="6447" y="4"/>
                    </a:cubicBezTo>
                    <a:cubicBezTo>
                      <a:pt x="6447" y="5"/>
                      <a:pt x="6446" y="6"/>
                      <a:pt x="6445" y="6"/>
                    </a:cubicBezTo>
                    <a:lnTo>
                      <a:pt x="6445" y="6"/>
                    </a:lnTo>
                    <a:cubicBezTo>
                      <a:pt x="6444" y="6"/>
                      <a:pt x="6443" y="5"/>
                      <a:pt x="6443" y="4"/>
                    </a:cubicBezTo>
                    <a:cubicBezTo>
                      <a:pt x="6443" y="3"/>
                      <a:pt x="6444" y="2"/>
                      <a:pt x="6445" y="2"/>
                    </a:cubicBezTo>
                    <a:close/>
                    <a:moveTo>
                      <a:pt x="6453" y="2"/>
                    </a:moveTo>
                    <a:lnTo>
                      <a:pt x="6453" y="2"/>
                    </a:lnTo>
                    <a:cubicBezTo>
                      <a:pt x="6454" y="2"/>
                      <a:pt x="6455" y="3"/>
                      <a:pt x="6455" y="4"/>
                    </a:cubicBezTo>
                    <a:cubicBezTo>
                      <a:pt x="6455" y="5"/>
                      <a:pt x="6454" y="6"/>
                      <a:pt x="6453" y="6"/>
                    </a:cubicBezTo>
                    <a:lnTo>
                      <a:pt x="6453" y="6"/>
                    </a:lnTo>
                    <a:cubicBezTo>
                      <a:pt x="6452" y="6"/>
                      <a:pt x="6451" y="5"/>
                      <a:pt x="6451" y="4"/>
                    </a:cubicBezTo>
                    <a:cubicBezTo>
                      <a:pt x="6451" y="3"/>
                      <a:pt x="6452" y="2"/>
                      <a:pt x="6453" y="2"/>
                    </a:cubicBezTo>
                    <a:close/>
                    <a:moveTo>
                      <a:pt x="6461" y="2"/>
                    </a:moveTo>
                    <a:lnTo>
                      <a:pt x="6461" y="2"/>
                    </a:lnTo>
                    <a:cubicBezTo>
                      <a:pt x="6462" y="2"/>
                      <a:pt x="6463" y="3"/>
                      <a:pt x="6463" y="4"/>
                    </a:cubicBezTo>
                    <a:cubicBezTo>
                      <a:pt x="6463" y="5"/>
                      <a:pt x="6462" y="6"/>
                      <a:pt x="6461" y="6"/>
                    </a:cubicBezTo>
                    <a:lnTo>
                      <a:pt x="6461" y="6"/>
                    </a:lnTo>
                    <a:cubicBezTo>
                      <a:pt x="6460" y="6"/>
                      <a:pt x="6459" y="5"/>
                      <a:pt x="6459" y="4"/>
                    </a:cubicBezTo>
                    <a:cubicBezTo>
                      <a:pt x="6459" y="3"/>
                      <a:pt x="6460" y="2"/>
                      <a:pt x="6461" y="2"/>
                    </a:cubicBezTo>
                    <a:close/>
                    <a:moveTo>
                      <a:pt x="6469" y="2"/>
                    </a:moveTo>
                    <a:lnTo>
                      <a:pt x="6469" y="2"/>
                    </a:lnTo>
                    <a:cubicBezTo>
                      <a:pt x="6470" y="2"/>
                      <a:pt x="6471" y="3"/>
                      <a:pt x="6471" y="4"/>
                    </a:cubicBezTo>
                    <a:cubicBezTo>
                      <a:pt x="6471" y="5"/>
                      <a:pt x="6470" y="6"/>
                      <a:pt x="6469" y="6"/>
                    </a:cubicBezTo>
                    <a:lnTo>
                      <a:pt x="6469" y="6"/>
                    </a:lnTo>
                    <a:cubicBezTo>
                      <a:pt x="6468" y="6"/>
                      <a:pt x="6467" y="5"/>
                      <a:pt x="6467" y="4"/>
                    </a:cubicBezTo>
                    <a:cubicBezTo>
                      <a:pt x="6467" y="3"/>
                      <a:pt x="6468" y="2"/>
                      <a:pt x="6469" y="2"/>
                    </a:cubicBezTo>
                    <a:close/>
                    <a:moveTo>
                      <a:pt x="6477" y="2"/>
                    </a:moveTo>
                    <a:lnTo>
                      <a:pt x="6477" y="2"/>
                    </a:lnTo>
                    <a:cubicBezTo>
                      <a:pt x="6478" y="2"/>
                      <a:pt x="6479" y="3"/>
                      <a:pt x="6479" y="4"/>
                    </a:cubicBezTo>
                    <a:cubicBezTo>
                      <a:pt x="6479" y="5"/>
                      <a:pt x="6478" y="6"/>
                      <a:pt x="6477" y="6"/>
                    </a:cubicBezTo>
                    <a:lnTo>
                      <a:pt x="6477" y="6"/>
                    </a:lnTo>
                    <a:cubicBezTo>
                      <a:pt x="6476" y="6"/>
                      <a:pt x="6475" y="5"/>
                      <a:pt x="6475" y="4"/>
                    </a:cubicBezTo>
                    <a:cubicBezTo>
                      <a:pt x="6475" y="3"/>
                      <a:pt x="6476" y="2"/>
                      <a:pt x="6477" y="2"/>
                    </a:cubicBezTo>
                    <a:close/>
                    <a:moveTo>
                      <a:pt x="6485" y="2"/>
                    </a:moveTo>
                    <a:lnTo>
                      <a:pt x="6485" y="2"/>
                    </a:lnTo>
                    <a:cubicBezTo>
                      <a:pt x="6486" y="2"/>
                      <a:pt x="6487" y="3"/>
                      <a:pt x="6487" y="4"/>
                    </a:cubicBezTo>
                    <a:cubicBezTo>
                      <a:pt x="6487" y="5"/>
                      <a:pt x="6486" y="6"/>
                      <a:pt x="6485" y="6"/>
                    </a:cubicBezTo>
                    <a:lnTo>
                      <a:pt x="6485" y="6"/>
                    </a:lnTo>
                    <a:cubicBezTo>
                      <a:pt x="6484" y="6"/>
                      <a:pt x="6483" y="5"/>
                      <a:pt x="6483" y="4"/>
                    </a:cubicBezTo>
                    <a:cubicBezTo>
                      <a:pt x="6483" y="3"/>
                      <a:pt x="6484" y="2"/>
                      <a:pt x="6485" y="2"/>
                    </a:cubicBezTo>
                    <a:close/>
                    <a:moveTo>
                      <a:pt x="6493" y="2"/>
                    </a:moveTo>
                    <a:lnTo>
                      <a:pt x="6493" y="2"/>
                    </a:lnTo>
                    <a:cubicBezTo>
                      <a:pt x="6494" y="2"/>
                      <a:pt x="6495" y="3"/>
                      <a:pt x="6495" y="4"/>
                    </a:cubicBezTo>
                    <a:cubicBezTo>
                      <a:pt x="6495" y="5"/>
                      <a:pt x="6494" y="6"/>
                      <a:pt x="6493" y="6"/>
                    </a:cubicBezTo>
                    <a:lnTo>
                      <a:pt x="6493" y="6"/>
                    </a:lnTo>
                    <a:cubicBezTo>
                      <a:pt x="6492" y="6"/>
                      <a:pt x="6491" y="5"/>
                      <a:pt x="6491" y="4"/>
                    </a:cubicBezTo>
                    <a:cubicBezTo>
                      <a:pt x="6491" y="3"/>
                      <a:pt x="6492" y="2"/>
                      <a:pt x="6493" y="2"/>
                    </a:cubicBezTo>
                    <a:close/>
                    <a:moveTo>
                      <a:pt x="6501" y="2"/>
                    </a:moveTo>
                    <a:lnTo>
                      <a:pt x="6501" y="2"/>
                    </a:lnTo>
                    <a:cubicBezTo>
                      <a:pt x="6502" y="2"/>
                      <a:pt x="6503" y="3"/>
                      <a:pt x="6503" y="4"/>
                    </a:cubicBezTo>
                    <a:cubicBezTo>
                      <a:pt x="6503" y="5"/>
                      <a:pt x="6502" y="6"/>
                      <a:pt x="6501" y="6"/>
                    </a:cubicBezTo>
                    <a:lnTo>
                      <a:pt x="6501" y="6"/>
                    </a:lnTo>
                    <a:cubicBezTo>
                      <a:pt x="6500" y="6"/>
                      <a:pt x="6499" y="5"/>
                      <a:pt x="6499" y="4"/>
                    </a:cubicBezTo>
                    <a:cubicBezTo>
                      <a:pt x="6499" y="3"/>
                      <a:pt x="6500" y="2"/>
                      <a:pt x="6501" y="2"/>
                    </a:cubicBezTo>
                    <a:close/>
                    <a:moveTo>
                      <a:pt x="6509" y="2"/>
                    </a:moveTo>
                    <a:lnTo>
                      <a:pt x="6509" y="2"/>
                    </a:lnTo>
                    <a:cubicBezTo>
                      <a:pt x="6510" y="2"/>
                      <a:pt x="6511" y="3"/>
                      <a:pt x="6511" y="4"/>
                    </a:cubicBezTo>
                    <a:cubicBezTo>
                      <a:pt x="6511" y="5"/>
                      <a:pt x="6510" y="6"/>
                      <a:pt x="6509" y="6"/>
                    </a:cubicBezTo>
                    <a:lnTo>
                      <a:pt x="6509" y="6"/>
                    </a:lnTo>
                    <a:cubicBezTo>
                      <a:pt x="6508" y="6"/>
                      <a:pt x="6507" y="5"/>
                      <a:pt x="6507" y="4"/>
                    </a:cubicBezTo>
                    <a:cubicBezTo>
                      <a:pt x="6507" y="3"/>
                      <a:pt x="6508" y="2"/>
                      <a:pt x="6509" y="2"/>
                    </a:cubicBezTo>
                    <a:close/>
                    <a:moveTo>
                      <a:pt x="6517" y="2"/>
                    </a:moveTo>
                    <a:lnTo>
                      <a:pt x="6517" y="2"/>
                    </a:lnTo>
                    <a:cubicBezTo>
                      <a:pt x="6518" y="2"/>
                      <a:pt x="6519" y="3"/>
                      <a:pt x="6519" y="4"/>
                    </a:cubicBezTo>
                    <a:cubicBezTo>
                      <a:pt x="6519" y="5"/>
                      <a:pt x="6518" y="6"/>
                      <a:pt x="6517" y="6"/>
                    </a:cubicBezTo>
                    <a:lnTo>
                      <a:pt x="6517" y="6"/>
                    </a:lnTo>
                    <a:cubicBezTo>
                      <a:pt x="6516" y="6"/>
                      <a:pt x="6515" y="5"/>
                      <a:pt x="6515" y="4"/>
                    </a:cubicBezTo>
                    <a:cubicBezTo>
                      <a:pt x="6515" y="3"/>
                      <a:pt x="6516" y="2"/>
                      <a:pt x="6517" y="2"/>
                    </a:cubicBezTo>
                    <a:close/>
                    <a:moveTo>
                      <a:pt x="6525" y="2"/>
                    </a:moveTo>
                    <a:lnTo>
                      <a:pt x="6525" y="2"/>
                    </a:lnTo>
                    <a:cubicBezTo>
                      <a:pt x="6526" y="2"/>
                      <a:pt x="6527" y="3"/>
                      <a:pt x="6527" y="4"/>
                    </a:cubicBezTo>
                    <a:cubicBezTo>
                      <a:pt x="6527" y="5"/>
                      <a:pt x="6526" y="6"/>
                      <a:pt x="6525" y="6"/>
                    </a:cubicBezTo>
                    <a:lnTo>
                      <a:pt x="6525" y="6"/>
                    </a:lnTo>
                    <a:cubicBezTo>
                      <a:pt x="6524" y="6"/>
                      <a:pt x="6523" y="5"/>
                      <a:pt x="6523" y="4"/>
                    </a:cubicBezTo>
                    <a:cubicBezTo>
                      <a:pt x="6523" y="3"/>
                      <a:pt x="6524" y="2"/>
                      <a:pt x="6525" y="2"/>
                    </a:cubicBezTo>
                    <a:close/>
                    <a:moveTo>
                      <a:pt x="6533" y="2"/>
                    </a:moveTo>
                    <a:lnTo>
                      <a:pt x="6533" y="2"/>
                    </a:lnTo>
                    <a:cubicBezTo>
                      <a:pt x="6534" y="2"/>
                      <a:pt x="6535" y="3"/>
                      <a:pt x="6535" y="4"/>
                    </a:cubicBezTo>
                    <a:cubicBezTo>
                      <a:pt x="6535" y="5"/>
                      <a:pt x="6534" y="6"/>
                      <a:pt x="6533" y="6"/>
                    </a:cubicBezTo>
                    <a:lnTo>
                      <a:pt x="6533" y="6"/>
                    </a:lnTo>
                    <a:cubicBezTo>
                      <a:pt x="6532" y="6"/>
                      <a:pt x="6531" y="5"/>
                      <a:pt x="6531" y="4"/>
                    </a:cubicBezTo>
                    <a:cubicBezTo>
                      <a:pt x="6531" y="3"/>
                      <a:pt x="6532" y="2"/>
                      <a:pt x="6533" y="2"/>
                    </a:cubicBezTo>
                    <a:close/>
                    <a:moveTo>
                      <a:pt x="6541" y="2"/>
                    </a:moveTo>
                    <a:lnTo>
                      <a:pt x="6541" y="2"/>
                    </a:lnTo>
                    <a:cubicBezTo>
                      <a:pt x="6542" y="2"/>
                      <a:pt x="6543" y="3"/>
                      <a:pt x="6543" y="4"/>
                    </a:cubicBezTo>
                    <a:cubicBezTo>
                      <a:pt x="6543" y="5"/>
                      <a:pt x="6542" y="6"/>
                      <a:pt x="6541" y="6"/>
                    </a:cubicBezTo>
                    <a:lnTo>
                      <a:pt x="6541" y="6"/>
                    </a:lnTo>
                    <a:cubicBezTo>
                      <a:pt x="6540" y="6"/>
                      <a:pt x="6539" y="5"/>
                      <a:pt x="6539" y="4"/>
                    </a:cubicBezTo>
                    <a:cubicBezTo>
                      <a:pt x="6539" y="3"/>
                      <a:pt x="6540" y="2"/>
                      <a:pt x="6541" y="2"/>
                    </a:cubicBezTo>
                    <a:close/>
                    <a:moveTo>
                      <a:pt x="6549" y="2"/>
                    </a:moveTo>
                    <a:lnTo>
                      <a:pt x="6549" y="2"/>
                    </a:lnTo>
                    <a:cubicBezTo>
                      <a:pt x="6550" y="2"/>
                      <a:pt x="6551" y="3"/>
                      <a:pt x="6551" y="4"/>
                    </a:cubicBezTo>
                    <a:cubicBezTo>
                      <a:pt x="6551" y="5"/>
                      <a:pt x="6550" y="6"/>
                      <a:pt x="6549" y="6"/>
                    </a:cubicBezTo>
                    <a:lnTo>
                      <a:pt x="6549" y="6"/>
                    </a:lnTo>
                    <a:cubicBezTo>
                      <a:pt x="6548" y="6"/>
                      <a:pt x="6547" y="5"/>
                      <a:pt x="6547" y="4"/>
                    </a:cubicBezTo>
                    <a:cubicBezTo>
                      <a:pt x="6547" y="3"/>
                      <a:pt x="6548" y="2"/>
                      <a:pt x="6549" y="2"/>
                    </a:cubicBezTo>
                    <a:close/>
                    <a:moveTo>
                      <a:pt x="6557" y="2"/>
                    </a:moveTo>
                    <a:lnTo>
                      <a:pt x="6557" y="2"/>
                    </a:lnTo>
                    <a:cubicBezTo>
                      <a:pt x="6558" y="2"/>
                      <a:pt x="6559" y="3"/>
                      <a:pt x="6559" y="4"/>
                    </a:cubicBezTo>
                    <a:cubicBezTo>
                      <a:pt x="6559" y="5"/>
                      <a:pt x="6558" y="6"/>
                      <a:pt x="6557" y="6"/>
                    </a:cubicBezTo>
                    <a:lnTo>
                      <a:pt x="6557" y="6"/>
                    </a:lnTo>
                    <a:cubicBezTo>
                      <a:pt x="6556" y="6"/>
                      <a:pt x="6555" y="5"/>
                      <a:pt x="6555" y="4"/>
                    </a:cubicBezTo>
                    <a:cubicBezTo>
                      <a:pt x="6555" y="3"/>
                      <a:pt x="6556" y="2"/>
                      <a:pt x="6557" y="2"/>
                    </a:cubicBezTo>
                    <a:close/>
                    <a:moveTo>
                      <a:pt x="6565" y="2"/>
                    </a:moveTo>
                    <a:lnTo>
                      <a:pt x="6565" y="2"/>
                    </a:lnTo>
                    <a:cubicBezTo>
                      <a:pt x="6566" y="2"/>
                      <a:pt x="6567" y="3"/>
                      <a:pt x="6567" y="4"/>
                    </a:cubicBezTo>
                    <a:cubicBezTo>
                      <a:pt x="6567" y="5"/>
                      <a:pt x="6566" y="6"/>
                      <a:pt x="6565" y="6"/>
                    </a:cubicBezTo>
                    <a:lnTo>
                      <a:pt x="6565" y="6"/>
                    </a:lnTo>
                    <a:cubicBezTo>
                      <a:pt x="6564" y="6"/>
                      <a:pt x="6563" y="5"/>
                      <a:pt x="6563" y="4"/>
                    </a:cubicBezTo>
                    <a:cubicBezTo>
                      <a:pt x="6563" y="3"/>
                      <a:pt x="6564" y="2"/>
                      <a:pt x="6565" y="2"/>
                    </a:cubicBezTo>
                    <a:close/>
                    <a:moveTo>
                      <a:pt x="6573" y="2"/>
                    </a:moveTo>
                    <a:lnTo>
                      <a:pt x="6573" y="2"/>
                    </a:lnTo>
                    <a:cubicBezTo>
                      <a:pt x="6574" y="2"/>
                      <a:pt x="6575" y="3"/>
                      <a:pt x="6575" y="4"/>
                    </a:cubicBezTo>
                    <a:cubicBezTo>
                      <a:pt x="6575" y="5"/>
                      <a:pt x="6574" y="6"/>
                      <a:pt x="6573" y="6"/>
                    </a:cubicBezTo>
                    <a:lnTo>
                      <a:pt x="6573" y="6"/>
                    </a:lnTo>
                    <a:cubicBezTo>
                      <a:pt x="6572" y="6"/>
                      <a:pt x="6571" y="5"/>
                      <a:pt x="6571" y="4"/>
                    </a:cubicBezTo>
                    <a:cubicBezTo>
                      <a:pt x="6571" y="3"/>
                      <a:pt x="6572" y="2"/>
                      <a:pt x="6573" y="2"/>
                    </a:cubicBezTo>
                    <a:close/>
                    <a:moveTo>
                      <a:pt x="6581" y="2"/>
                    </a:moveTo>
                    <a:lnTo>
                      <a:pt x="6581" y="2"/>
                    </a:lnTo>
                    <a:cubicBezTo>
                      <a:pt x="6582" y="2"/>
                      <a:pt x="6583" y="3"/>
                      <a:pt x="6583" y="4"/>
                    </a:cubicBezTo>
                    <a:cubicBezTo>
                      <a:pt x="6583" y="5"/>
                      <a:pt x="6582" y="6"/>
                      <a:pt x="6581" y="6"/>
                    </a:cubicBezTo>
                    <a:lnTo>
                      <a:pt x="6581" y="6"/>
                    </a:lnTo>
                    <a:cubicBezTo>
                      <a:pt x="6580" y="6"/>
                      <a:pt x="6579" y="5"/>
                      <a:pt x="6579" y="4"/>
                    </a:cubicBezTo>
                    <a:cubicBezTo>
                      <a:pt x="6579" y="3"/>
                      <a:pt x="6580" y="2"/>
                      <a:pt x="6581" y="2"/>
                    </a:cubicBezTo>
                    <a:close/>
                    <a:moveTo>
                      <a:pt x="6589" y="2"/>
                    </a:moveTo>
                    <a:lnTo>
                      <a:pt x="6589" y="2"/>
                    </a:lnTo>
                    <a:cubicBezTo>
                      <a:pt x="6590" y="2"/>
                      <a:pt x="6591" y="3"/>
                      <a:pt x="6591" y="4"/>
                    </a:cubicBezTo>
                    <a:cubicBezTo>
                      <a:pt x="6591" y="5"/>
                      <a:pt x="6590" y="6"/>
                      <a:pt x="6589" y="6"/>
                    </a:cubicBezTo>
                    <a:lnTo>
                      <a:pt x="6589" y="6"/>
                    </a:lnTo>
                    <a:cubicBezTo>
                      <a:pt x="6588" y="6"/>
                      <a:pt x="6587" y="5"/>
                      <a:pt x="6587" y="4"/>
                    </a:cubicBezTo>
                    <a:cubicBezTo>
                      <a:pt x="6587" y="3"/>
                      <a:pt x="6588" y="2"/>
                      <a:pt x="6589" y="2"/>
                    </a:cubicBezTo>
                    <a:close/>
                    <a:moveTo>
                      <a:pt x="6597" y="2"/>
                    </a:moveTo>
                    <a:lnTo>
                      <a:pt x="6597" y="2"/>
                    </a:lnTo>
                    <a:cubicBezTo>
                      <a:pt x="6598" y="2"/>
                      <a:pt x="6599" y="3"/>
                      <a:pt x="6599" y="4"/>
                    </a:cubicBezTo>
                    <a:cubicBezTo>
                      <a:pt x="6599" y="5"/>
                      <a:pt x="6598" y="6"/>
                      <a:pt x="6597" y="6"/>
                    </a:cubicBezTo>
                    <a:lnTo>
                      <a:pt x="6597" y="6"/>
                    </a:lnTo>
                    <a:cubicBezTo>
                      <a:pt x="6596" y="6"/>
                      <a:pt x="6595" y="5"/>
                      <a:pt x="6595" y="4"/>
                    </a:cubicBezTo>
                    <a:cubicBezTo>
                      <a:pt x="6595" y="3"/>
                      <a:pt x="6596" y="2"/>
                      <a:pt x="6597" y="2"/>
                    </a:cubicBezTo>
                    <a:close/>
                    <a:moveTo>
                      <a:pt x="6605" y="2"/>
                    </a:moveTo>
                    <a:lnTo>
                      <a:pt x="6605" y="2"/>
                    </a:lnTo>
                    <a:cubicBezTo>
                      <a:pt x="6606" y="2"/>
                      <a:pt x="6607" y="3"/>
                      <a:pt x="6607" y="4"/>
                    </a:cubicBezTo>
                    <a:cubicBezTo>
                      <a:pt x="6607" y="5"/>
                      <a:pt x="6606" y="6"/>
                      <a:pt x="6605" y="6"/>
                    </a:cubicBezTo>
                    <a:lnTo>
                      <a:pt x="6605" y="6"/>
                    </a:lnTo>
                    <a:cubicBezTo>
                      <a:pt x="6604" y="6"/>
                      <a:pt x="6603" y="5"/>
                      <a:pt x="6603" y="4"/>
                    </a:cubicBezTo>
                    <a:cubicBezTo>
                      <a:pt x="6603" y="3"/>
                      <a:pt x="6604" y="2"/>
                      <a:pt x="6605" y="2"/>
                    </a:cubicBezTo>
                    <a:close/>
                    <a:moveTo>
                      <a:pt x="6613" y="2"/>
                    </a:moveTo>
                    <a:lnTo>
                      <a:pt x="6613" y="2"/>
                    </a:lnTo>
                    <a:cubicBezTo>
                      <a:pt x="6614" y="2"/>
                      <a:pt x="6615" y="3"/>
                      <a:pt x="6615" y="4"/>
                    </a:cubicBezTo>
                    <a:cubicBezTo>
                      <a:pt x="6615" y="5"/>
                      <a:pt x="6614" y="6"/>
                      <a:pt x="6613" y="6"/>
                    </a:cubicBezTo>
                    <a:lnTo>
                      <a:pt x="6613" y="6"/>
                    </a:lnTo>
                    <a:cubicBezTo>
                      <a:pt x="6612" y="6"/>
                      <a:pt x="6611" y="5"/>
                      <a:pt x="6611" y="4"/>
                    </a:cubicBezTo>
                    <a:cubicBezTo>
                      <a:pt x="6611" y="3"/>
                      <a:pt x="6612" y="2"/>
                      <a:pt x="6613" y="2"/>
                    </a:cubicBezTo>
                    <a:close/>
                    <a:moveTo>
                      <a:pt x="6621" y="2"/>
                    </a:moveTo>
                    <a:lnTo>
                      <a:pt x="6621" y="2"/>
                    </a:lnTo>
                    <a:cubicBezTo>
                      <a:pt x="6622" y="2"/>
                      <a:pt x="6623" y="3"/>
                      <a:pt x="6623" y="4"/>
                    </a:cubicBezTo>
                    <a:cubicBezTo>
                      <a:pt x="6623" y="5"/>
                      <a:pt x="6622" y="6"/>
                      <a:pt x="6621" y="6"/>
                    </a:cubicBezTo>
                    <a:lnTo>
                      <a:pt x="6621" y="6"/>
                    </a:lnTo>
                    <a:cubicBezTo>
                      <a:pt x="6620" y="6"/>
                      <a:pt x="6619" y="5"/>
                      <a:pt x="6619" y="4"/>
                    </a:cubicBezTo>
                    <a:cubicBezTo>
                      <a:pt x="6619" y="3"/>
                      <a:pt x="6620" y="2"/>
                      <a:pt x="6621" y="2"/>
                    </a:cubicBezTo>
                    <a:close/>
                    <a:moveTo>
                      <a:pt x="6629" y="2"/>
                    </a:moveTo>
                    <a:lnTo>
                      <a:pt x="6629" y="2"/>
                    </a:lnTo>
                    <a:cubicBezTo>
                      <a:pt x="6630" y="2"/>
                      <a:pt x="6631" y="3"/>
                      <a:pt x="6631" y="4"/>
                    </a:cubicBezTo>
                    <a:cubicBezTo>
                      <a:pt x="6631" y="5"/>
                      <a:pt x="6630" y="6"/>
                      <a:pt x="6629" y="6"/>
                    </a:cubicBezTo>
                    <a:lnTo>
                      <a:pt x="6629" y="6"/>
                    </a:lnTo>
                    <a:cubicBezTo>
                      <a:pt x="6628" y="6"/>
                      <a:pt x="6627" y="5"/>
                      <a:pt x="6627" y="4"/>
                    </a:cubicBezTo>
                    <a:cubicBezTo>
                      <a:pt x="6627" y="3"/>
                      <a:pt x="6628" y="2"/>
                      <a:pt x="6629" y="2"/>
                    </a:cubicBezTo>
                    <a:close/>
                    <a:moveTo>
                      <a:pt x="6637" y="2"/>
                    </a:moveTo>
                    <a:lnTo>
                      <a:pt x="6637" y="2"/>
                    </a:lnTo>
                    <a:cubicBezTo>
                      <a:pt x="6638" y="2"/>
                      <a:pt x="6639" y="3"/>
                      <a:pt x="6639" y="4"/>
                    </a:cubicBezTo>
                    <a:cubicBezTo>
                      <a:pt x="6639" y="5"/>
                      <a:pt x="6638" y="6"/>
                      <a:pt x="6637" y="6"/>
                    </a:cubicBezTo>
                    <a:lnTo>
                      <a:pt x="6637" y="6"/>
                    </a:lnTo>
                    <a:cubicBezTo>
                      <a:pt x="6636" y="6"/>
                      <a:pt x="6635" y="5"/>
                      <a:pt x="6635" y="4"/>
                    </a:cubicBezTo>
                    <a:cubicBezTo>
                      <a:pt x="6635" y="3"/>
                      <a:pt x="6636" y="2"/>
                      <a:pt x="6637" y="2"/>
                    </a:cubicBezTo>
                    <a:close/>
                    <a:moveTo>
                      <a:pt x="6645" y="2"/>
                    </a:moveTo>
                    <a:lnTo>
                      <a:pt x="6645" y="2"/>
                    </a:lnTo>
                    <a:cubicBezTo>
                      <a:pt x="6646" y="2"/>
                      <a:pt x="6647" y="3"/>
                      <a:pt x="6647" y="4"/>
                    </a:cubicBezTo>
                    <a:cubicBezTo>
                      <a:pt x="6647" y="5"/>
                      <a:pt x="6646" y="6"/>
                      <a:pt x="6645" y="6"/>
                    </a:cubicBezTo>
                    <a:lnTo>
                      <a:pt x="6645" y="6"/>
                    </a:lnTo>
                    <a:cubicBezTo>
                      <a:pt x="6644" y="6"/>
                      <a:pt x="6643" y="5"/>
                      <a:pt x="6643" y="4"/>
                    </a:cubicBezTo>
                    <a:cubicBezTo>
                      <a:pt x="6643" y="3"/>
                      <a:pt x="6644" y="2"/>
                      <a:pt x="6645" y="2"/>
                    </a:cubicBezTo>
                    <a:close/>
                    <a:moveTo>
                      <a:pt x="6653" y="2"/>
                    </a:moveTo>
                    <a:lnTo>
                      <a:pt x="6653" y="2"/>
                    </a:lnTo>
                    <a:cubicBezTo>
                      <a:pt x="6654" y="2"/>
                      <a:pt x="6655" y="3"/>
                      <a:pt x="6655" y="4"/>
                    </a:cubicBezTo>
                    <a:cubicBezTo>
                      <a:pt x="6655" y="5"/>
                      <a:pt x="6654" y="6"/>
                      <a:pt x="6653" y="6"/>
                    </a:cubicBezTo>
                    <a:lnTo>
                      <a:pt x="6653" y="6"/>
                    </a:lnTo>
                    <a:cubicBezTo>
                      <a:pt x="6652" y="6"/>
                      <a:pt x="6651" y="5"/>
                      <a:pt x="6651" y="4"/>
                    </a:cubicBezTo>
                    <a:cubicBezTo>
                      <a:pt x="6651" y="3"/>
                      <a:pt x="6652" y="2"/>
                      <a:pt x="6653" y="2"/>
                    </a:cubicBezTo>
                    <a:close/>
                    <a:moveTo>
                      <a:pt x="6661" y="2"/>
                    </a:moveTo>
                    <a:lnTo>
                      <a:pt x="6661" y="2"/>
                    </a:lnTo>
                    <a:cubicBezTo>
                      <a:pt x="6662" y="2"/>
                      <a:pt x="6663" y="3"/>
                      <a:pt x="6663" y="4"/>
                    </a:cubicBezTo>
                    <a:cubicBezTo>
                      <a:pt x="6663" y="5"/>
                      <a:pt x="6662" y="6"/>
                      <a:pt x="6661" y="6"/>
                    </a:cubicBezTo>
                    <a:lnTo>
                      <a:pt x="6661" y="6"/>
                    </a:lnTo>
                    <a:cubicBezTo>
                      <a:pt x="6660" y="6"/>
                      <a:pt x="6659" y="5"/>
                      <a:pt x="6659" y="4"/>
                    </a:cubicBezTo>
                    <a:cubicBezTo>
                      <a:pt x="6659" y="3"/>
                      <a:pt x="6660" y="2"/>
                      <a:pt x="6661" y="2"/>
                    </a:cubicBezTo>
                    <a:close/>
                    <a:moveTo>
                      <a:pt x="6669" y="2"/>
                    </a:moveTo>
                    <a:lnTo>
                      <a:pt x="6669" y="2"/>
                    </a:lnTo>
                    <a:cubicBezTo>
                      <a:pt x="6670" y="2"/>
                      <a:pt x="6671" y="3"/>
                      <a:pt x="6671" y="4"/>
                    </a:cubicBezTo>
                    <a:cubicBezTo>
                      <a:pt x="6671" y="5"/>
                      <a:pt x="6670" y="6"/>
                      <a:pt x="6669" y="6"/>
                    </a:cubicBezTo>
                    <a:lnTo>
                      <a:pt x="6669" y="6"/>
                    </a:lnTo>
                    <a:cubicBezTo>
                      <a:pt x="6668" y="6"/>
                      <a:pt x="6667" y="5"/>
                      <a:pt x="6667" y="4"/>
                    </a:cubicBezTo>
                    <a:cubicBezTo>
                      <a:pt x="6667" y="3"/>
                      <a:pt x="6668" y="2"/>
                      <a:pt x="6669" y="2"/>
                    </a:cubicBezTo>
                    <a:close/>
                    <a:moveTo>
                      <a:pt x="6677" y="2"/>
                    </a:moveTo>
                    <a:lnTo>
                      <a:pt x="6677" y="2"/>
                    </a:lnTo>
                    <a:cubicBezTo>
                      <a:pt x="6678" y="2"/>
                      <a:pt x="6679" y="3"/>
                      <a:pt x="6679" y="4"/>
                    </a:cubicBezTo>
                    <a:cubicBezTo>
                      <a:pt x="6679" y="5"/>
                      <a:pt x="6678" y="6"/>
                      <a:pt x="6677" y="6"/>
                    </a:cubicBezTo>
                    <a:lnTo>
                      <a:pt x="6677" y="6"/>
                    </a:lnTo>
                    <a:cubicBezTo>
                      <a:pt x="6676" y="6"/>
                      <a:pt x="6675" y="5"/>
                      <a:pt x="6675" y="4"/>
                    </a:cubicBezTo>
                    <a:cubicBezTo>
                      <a:pt x="6675" y="3"/>
                      <a:pt x="6676" y="2"/>
                      <a:pt x="6677" y="2"/>
                    </a:cubicBezTo>
                    <a:close/>
                    <a:moveTo>
                      <a:pt x="6685" y="2"/>
                    </a:moveTo>
                    <a:lnTo>
                      <a:pt x="6685" y="2"/>
                    </a:lnTo>
                    <a:cubicBezTo>
                      <a:pt x="6686" y="2"/>
                      <a:pt x="6687" y="3"/>
                      <a:pt x="6687" y="4"/>
                    </a:cubicBezTo>
                    <a:cubicBezTo>
                      <a:pt x="6687" y="5"/>
                      <a:pt x="6686" y="6"/>
                      <a:pt x="6685" y="6"/>
                    </a:cubicBezTo>
                    <a:lnTo>
                      <a:pt x="6685" y="6"/>
                    </a:lnTo>
                    <a:cubicBezTo>
                      <a:pt x="6684" y="6"/>
                      <a:pt x="6683" y="5"/>
                      <a:pt x="6683" y="4"/>
                    </a:cubicBezTo>
                    <a:cubicBezTo>
                      <a:pt x="6683" y="3"/>
                      <a:pt x="6684" y="2"/>
                      <a:pt x="6685" y="2"/>
                    </a:cubicBezTo>
                    <a:close/>
                    <a:moveTo>
                      <a:pt x="6693" y="2"/>
                    </a:moveTo>
                    <a:lnTo>
                      <a:pt x="6693" y="2"/>
                    </a:lnTo>
                    <a:cubicBezTo>
                      <a:pt x="6694" y="2"/>
                      <a:pt x="6695" y="3"/>
                      <a:pt x="6695" y="4"/>
                    </a:cubicBezTo>
                    <a:cubicBezTo>
                      <a:pt x="6695" y="5"/>
                      <a:pt x="6694" y="6"/>
                      <a:pt x="6693" y="6"/>
                    </a:cubicBezTo>
                    <a:lnTo>
                      <a:pt x="6693" y="6"/>
                    </a:lnTo>
                    <a:cubicBezTo>
                      <a:pt x="6692" y="6"/>
                      <a:pt x="6691" y="5"/>
                      <a:pt x="6691" y="4"/>
                    </a:cubicBezTo>
                    <a:cubicBezTo>
                      <a:pt x="6691" y="3"/>
                      <a:pt x="6692" y="2"/>
                      <a:pt x="6693" y="2"/>
                    </a:cubicBezTo>
                    <a:close/>
                    <a:moveTo>
                      <a:pt x="6701" y="2"/>
                    </a:moveTo>
                    <a:lnTo>
                      <a:pt x="6701" y="2"/>
                    </a:lnTo>
                    <a:cubicBezTo>
                      <a:pt x="6702" y="2"/>
                      <a:pt x="6703" y="3"/>
                      <a:pt x="6703" y="4"/>
                    </a:cubicBezTo>
                    <a:cubicBezTo>
                      <a:pt x="6703" y="5"/>
                      <a:pt x="6702" y="6"/>
                      <a:pt x="6701" y="6"/>
                    </a:cubicBezTo>
                    <a:lnTo>
                      <a:pt x="6701" y="6"/>
                    </a:lnTo>
                    <a:cubicBezTo>
                      <a:pt x="6700" y="6"/>
                      <a:pt x="6699" y="5"/>
                      <a:pt x="6699" y="4"/>
                    </a:cubicBezTo>
                    <a:cubicBezTo>
                      <a:pt x="6699" y="3"/>
                      <a:pt x="6700" y="2"/>
                      <a:pt x="6701" y="2"/>
                    </a:cubicBezTo>
                    <a:close/>
                    <a:moveTo>
                      <a:pt x="6709" y="2"/>
                    </a:moveTo>
                    <a:lnTo>
                      <a:pt x="6709" y="2"/>
                    </a:lnTo>
                    <a:cubicBezTo>
                      <a:pt x="6710" y="2"/>
                      <a:pt x="6711" y="3"/>
                      <a:pt x="6711" y="4"/>
                    </a:cubicBezTo>
                    <a:cubicBezTo>
                      <a:pt x="6711" y="5"/>
                      <a:pt x="6710" y="6"/>
                      <a:pt x="6709" y="6"/>
                    </a:cubicBezTo>
                    <a:lnTo>
                      <a:pt x="6709" y="6"/>
                    </a:lnTo>
                    <a:cubicBezTo>
                      <a:pt x="6708" y="6"/>
                      <a:pt x="6707" y="5"/>
                      <a:pt x="6707" y="4"/>
                    </a:cubicBezTo>
                    <a:cubicBezTo>
                      <a:pt x="6707" y="3"/>
                      <a:pt x="6708" y="2"/>
                      <a:pt x="6709" y="2"/>
                    </a:cubicBezTo>
                    <a:close/>
                    <a:moveTo>
                      <a:pt x="6717" y="2"/>
                    </a:moveTo>
                    <a:lnTo>
                      <a:pt x="6717" y="2"/>
                    </a:lnTo>
                    <a:cubicBezTo>
                      <a:pt x="6718" y="2"/>
                      <a:pt x="6719" y="3"/>
                      <a:pt x="6719" y="4"/>
                    </a:cubicBezTo>
                    <a:cubicBezTo>
                      <a:pt x="6719" y="5"/>
                      <a:pt x="6718" y="6"/>
                      <a:pt x="6717" y="6"/>
                    </a:cubicBezTo>
                    <a:lnTo>
                      <a:pt x="6717" y="6"/>
                    </a:lnTo>
                    <a:cubicBezTo>
                      <a:pt x="6716" y="6"/>
                      <a:pt x="6715" y="5"/>
                      <a:pt x="6715" y="4"/>
                    </a:cubicBezTo>
                    <a:cubicBezTo>
                      <a:pt x="6715" y="3"/>
                      <a:pt x="6716" y="2"/>
                      <a:pt x="6717" y="2"/>
                    </a:cubicBezTo>
                    <a:close/>
                    <a:moveTo>
                      <a:pt x="6725" y="2"/>
                    </a:moveTo>
                    <a:lnTo>
                      <a:pt x="6725" y="2"/>
                    </a:lnTo>
                    <a:cubicBezTo>
                      <a:pt x="6726" y="2"/>
                      <a:pt x="6727" y="3"/>
                      <a:pt x="6727" y="4"/>
                    </a:cubicBezTo>
                    <a:cubicBezTo>
                      <a:pt x="6727" y="5"/>
                      <a:pt x="6726" y="6"/>
                      <a:pt x="6725" y="6"/>
                    </a:cubicBezTo>
                    <a:lnTo>
                      <a:pt x="6725" y="6"/>
                    </a:lnTo>
                    <a:cubicBezTo>
                      <a:pt x="6724" y="6"/>
                      <a:pt x="6723" y="5"/>
                      <a:pt x="6723" y="4"/>
                    </a:cubicBezTo>
                    <a:cubicBezTo>
                      <a:pt x="6723" y="3"/>
                      <a:pt x="6724" y="2"/>
                      <a:pt x="6725" y="2"/>
                    </a:cubicBezTo>
                    <a:close/>
                    <a:moveTo>
                      <a:pt x="6733" y="2"/>
                    </a:moveTo>
                    <a:lnTo>
                      <a:pt x="6733" y="2"/>
                    </a:lnTo>
                    <a:cubicBezTo>
                      <a:pt x="6734" y="2"/>
                      <a:pt x="6735" y="3"/>
                      <a:pt x="6735" y="4"/>
                    </a:cubicBezTo>
                    <a:cubicBezTo>
                      <a:pt x="6735" y="5"/>
                      <a:pt x="6734" y="6"/>
                      <a:pt x="6733" y="6"/>
                    </a:cubicBezTo>
                    <a:lnTo>
                      <a:pt x="6733" y="6"/>
                    </a:lnTo>
                    <a:cubicBezTo>
                      <a:pt x="6732" y="6"/>
                      <a:pt x="6731" y="5"/>
                      <a:pt x="6731" y="4"/>
                    </a:cubicBezTo>
                    <a:cubicBezTo>
                      <a:pt x="6731" y="3"/>
                      <a:pt x="6732" y="2"/>
                      <a:pt x="6733" y="2"/>
                    </a:cubicBezTo>
                    <a:close/>
                    <a:moveTo>
                      <a:pt x="6741" y="2"/>
                    </a:moveTo>
                    <a:lnTo>
                      <a:pt x="6741" y="2"/>
                    </a:lnTo>
                    <a:cubicBezTo>
                      <a:pt x="6742" y="2"/>
                      <a:pt x="6743" y="3"/>
                      <a:pt x="6743" y="4"/>
                    </a:cubicBezTo>
                    <a:cubicBezTo>
                      <a:pt x="6743" y="5"/>
                      <a:pt x="6742" y="6"/>
                      <a:pt x="6741" y="6"/>
                    </a:cubicBezTo>
                    <a:lnTo>
                      <a:pt x="6741" y="6"/>
                    </a:lnTo>
                    <a:cubicBezTo>
                      <a:pt x="6740" y="6"/>
                      <a:pt x="6739" y="5"/>
                      <a:pt x="6739" y="4"/>
                    </a:cubicBezTo>
                    <a:cubicBezTo>
                      <a:pt x="6739" y="3"/>
                      <a:pt x="6740" y="2"/>
                      <a:pt x="6741" y="2"/>
                    </a:cubicBezTo>
                    <a:close/>
                    <a:moveTo>
                      <a:pt x="6749" y="2"/>
                    </a:moveTo>
                    <a:lnTo>
                      <a:pt x="6749" y="2"/>
                    </a:lnTo>
                    <a:cubicBezTo>
                      <a:pt x="6750" y="2"/>
                      <a:pt x="6751" y="3"/>
                      <a:pt x="6751" y="4"/>
                    </a:cubicBezTo>
                    <a:cubicBezTo>
                      <a:pt x="6751" y="5"/>
                      <a:pt x="6750" y="6"/>
                      <a:pt x="6749" y="6"/>
                    </a:cubicBezTo>
                    <a:lnTo>
                      <a:pt x="6749" y="6"/>
                    </a:lnTo>
                    <a:cubicBezTo>
                      <a:pt x="6748" y="6"/>
                      <a:pt x="6747" y="5"/>
                      <a:pt x="6747" y="4"/>
                    </a:cubicBezTo>
                    <a:cubicBezTo>
                      <a:pt x="6747" y="3"/>
                      <a:pt x="6748" y="2"/>
                      <a:pt x="6749" y="2"/>
                    </a:cubicBezTo>
                    <a:close/>
                    <a:moveTo>
                      <a:pt x="6757" y="2"/>
                    </a:moveTo>
                    <a:lnTo>
                      <a:pt x="6757" y="2"/>
                    </a:lnTo>
                    <a:cubicBezTo>
                      <a:pt x="6758" y="2"/>
                      <a:pt x="6759" y="3"/>
                      <a:pt x="6759" y="4"/>
                    </a:cubicBezTo>
                    <a:cubicBezTo>
                      <a:pt x="6759" y="5"/>
                      <a:pt x="6758" y="6"/>
                      <a:pt x="6757" y="6"/>
                    </a:cubicBezTo>
                    <a:lnTo>
                      <a:pt x="6757" y="6"/>
                    </a:lnTo>
                    <a:cubicBezTo>
                      <a:pt x="6756" y="6"/>
                      <a:pt x="6755" y="5"/>
                      <a:pt x="6755" y="4"/>
                    </a:cubicBezTo>
                    <a:cubicBezTo>
                      <a:pt x="6755" y="3"/>
                      <a:pt x="6756" y="2"/>
                      <a:pt x="6757" y="2"/>
                    </a:cubicBezTo>
                    <a:close/>
                    <a:moveTo>
                      <a:pt x="6765" y="2"/>
                    </a:moveTo>
                    <a:lnTo>
                      <a:pt x="6765" y="2"/>
                    </a:lnTo>
                    <a:cubicBezTo>
                      <a:pt x="6766" y="2"/>
                      <a:pt x="6767" y="3"/>
                      <a:pt x="6767" y="4"/>
                    </a:cubicBezTo>
                    <a:cubicBezTo>
                      <a:pt x="6767" y="5"/>
                      <a:pt x="6766" y="6"/>
                      <a:pt x="6765" y="6"/>
                    </a:cubicBezTo>
                    <a:lnTo>
                      <a:pt x="6765" y="6"/>
                    </a:lnTo>
                    <a:cubicBezTo>
                      <a:pt x="6764" y="6"/>
                      <a:pt x="6763" y="5"/>
                      <a:pt x="6763" y="4"/>
                    </a:cubicBezTo>
                    <a:cubicBezTo>
                      <a:pt x="6763" y="3"/>
                      <a:pt x="6764" y="2"/>
                      <a:pt x="6765" y="2"/>
                    </a:cubicBezTo>
                    <a:close/>
                    <a:moveTo>
                      <a:pt x="6773" y="2"/>
                    </a:moveTo>
                    <a:lnTo>
                      <a:pt x="6773" y="2"/>
                    </a:lnTo>
                    <a:cubicBezTo>
                      <a:pt x="6774" y="2"/>
                      <a:pt x="6775" y="3"/>
                      <a:pt x="6775" y="4"/>
                    </a:cubicBezTo>
                    <a:cubicBezTo>
                      <a:pt x="6775" y="5"/>
                      <a:pt x="6774" y="6"/>
                      <a:pt x="6773" y="6"/>
                    </a:cubicBezTo>
                    <a:lnTo>
                      <a:pt x="6773" y="6"/>
                    </a:lnTo>
                    <a:cubicBezTo>
                      <a:pt x="6772" y="6"/>
                      <a:pt x="6771" y="5"/>
                      <a:pt x="6771" y="4"/>
                    </a:cubicBezTo>
                    <a:cubicBezTo>
                      <a:pt x="6771" y="3"/>
                      <a:pt x="6772" y="2"/>
                      <a:pt x="6773" y="2"/>
                    </a:cubicBezTo>
                    <a:close/>
                    <a:moveTo>
                      <a:pt x="6781" y="2"/>
                    </a:moveTo>
                    <a:lnTo>
                      <a:pt x="6781" y="2"/>
                    </a:lnTo>
                    <a:cubicBezTo>
                      <a:pt x="6782" y="2"/>
                      <a:pt x="6783" y="3"/>
                      <a:pt x="6783" y="4"/>
                    </a:cubicBezTo>
                    <a:cubicBezTo>
                      <a:pt x="6783" y="5"/>
                      <a:pt x="6782" y="6"/>
                      <a:pt x="6781" y="6"/>
                    </a:cubicBezTo>
                    <a:lnTo>
                      <a:pt x="6781" y="6"/>
                    </a:lnTo>
                    <a:cubicBezTo>
                      <a:pt x="6780" y="6"/>
                      <a:pt x="6779" y="5"/>
                      <a:pt x="6779" y="4"/>
                    </a:cubicBezTo>
                    <a:cubicBezTo>
                      <a:pt x="6779" y="3"/>
                      <a:pt x="6780" y="2"/>
                      <a:pt x="6781" y="2"/>
                    </a:cubicBezTo>
                    <a:close/>
                    <a:moveTo>
                      <a:pt x="6789" y="2"/>
                    </a:moveTo>
                    <a:lnTo>
                      <a:pt x="6789" y="2"/>
                    </a:lnTo>
                    <a:cubicBezTo>
                      <a:pt x="6790" y="2"/>
                      <a:pt x="6791" y="3"/>
                      <a:pt x="6791" y="4"/>
                    </a:cubicBezTo>
                    <a:cubicBezTo>
                      <a:pt x="6791" y="5"/>
                      <a:pt x="6790" y="6"/>
                      <a:pt x="6789" y="6"/>
                    </a:cubicBezTo>
                    <a:lnTo>
                      <a:pt x="6789" y="6"/>
                    </a:lnTo>
                    <a:cubicBezTo>
                      <a:pt x="6788" y="6"/>
                      <a:pt x="6787" y="5"/>
                      <a:pt x="6787" y="4"/>
                    </a:cubicBezTo>
                    <a:cubicBezTo>
                      <a:pt x="6787" y="3"/>
                      <a:pt x="6788" y="2"/>
                      <a:pt x="6789" y="2"/>
                    </a:cubicBezTo>
                    <a:close/>
                    <a:moveTo>
                      <a:pt x="6797" y="2"/>
                    </a:moveTo>
                    <a:lnTo>
                      <a:pt x="6797" y="2"/>
                    </a:lnTo>
                    <a:cubicBezTo>
                      <a:pt x="6798" y="2"/>
                      <a:pt x="6799" y="3"/>
                      <a:pt x="6799" y="4"/>
                    </a:cubicBezTo>
                    <a:cubicBezTo>
                      <a:pt x="6799" y="5"/>
                      <a:pt x="6798" y="6"/>
                      <a:pt x="6797" y="6"/>
                    </a:cubicBezTo>
                    <a:lnTo>
                      <a:pt x="6797" y="6"/>
                    </a:lnTo>
                    <a:cubicBezTo>
                      <a:pt x="6796" y="6"/>
                      <a:pt x="6795" y="5"/>
                      <a:pt x="6795" y="4"/>
                    </a:cubicBezTo>
                    <a:cubicBezTo>
                      <a:pt x="6795" y="3"/>
                      <a:pt x="6796" y="2"/>
                      <a:pt x="6797" y="2"/>
                    </a:cubicBezTo>
                    <a:close/>
                    <a:moveTo>
                      <a:pt x="6805" y="2"/>
                    </a:moveTo>
                    <a:lnTo>
                      <a:pt x="6805" y="2"/>
                    </a:lnTo>
                    <a:cubicBezTo>
                      <a:pt x="6806" y="2"/>
                      <a:pt x="6807" y="3"/>
                      <a:pt x="6807" y="4"/>
                    </a:cubicBezTo>
                    <a:cubicBezTo>
                      <a:pt x="6807" y="5"/>
                      <a:pt x="6806" y="6"/>
                      <a:pt x="6805" y="6"/>
                    </a:cubicBezTo>
                    <a:lnTo>
                      <a:pt x="6805" y="6"/>
                    </a:lnTo>
                    <a:cubicBezTo>
                      <a:pt x="6804" y="6"/>
                      <a:pt x="6803" y="5"/>
                      <a:pt x="6803" y="4"/>
                    </a:cubicBezTo>
                    <a:cubicBezTo>
                      <a:pt x="6803" y="3"/>
                      <a:pt x="6804" y="2"/>
                      <a:pt x="6805" y="2"/>
                    </a:cubicBezTo>
                    <a:close/>
                    <a:moveTo>
                      <a:pt x="6813" y="2"/>
                    </a:moveTo>
                    <a:lnTo>
                      <a:pt x="6813" y="2"/>
                    </a:lnTo>
                    <a:cubicBezTo>
                      <a:pt x="6814" y="2"/>
                      <a:pt x="6815" y="3"/>
                      <a:pt x="6815" y="4"/>
                    </a:cubicBezTo>
                    <a:cubicBezTo>
                      <a:pt x="6815" y="5"/>
                      <a:pt x="6814" y="6"/>
                      <a:pt x="6813" y="6"/>
                    </a:cubicBezTo>
                    <a:lnTo>
                      <a:pt x="6813" y="6"/>
                    </a:lnTo>
                    <a:cubicBezTo>
                      <a:pt x="6812" y="6"/>
                      <a:pt x="6811" y="5"/>
                      <a:pt x="6811" y="4"/>
                    </a:cubicBezTo>
                    <a:cubicBezTo>
                      <a:pt x="6811" y="3"/>
                      <a:pt x="6812" y="2"/>
                      <a:pt x="6813" y="2"/>
                    </a:cubicBezTo>
                    <a:close/>
                    <a:moveTo>
                      <a:pt x="6821" y="2"/>
                    </a:moveTo>
                    <a:lnTo>
                      <a:pt x="6821" y="2"/>
                    </a:lnTo>
                    <a:cubicBezTo>
                      <a:pt x="6822" y="2"/>
                      <a:pt x="6823" y="3"/>
                      <a:pt x="6823" y="4"/>
                    </a:cubicBezTo>
                    <a:cubicBezTo>
                      <a:pt x="6823" y="5"/>
                      <a:pt x="6822" y="6"/>
                      <a:pt x="6821" y="6"/>
                    </a:cubicBezTo>
                    <a:lnTo>
                      <a:pt x="6821" y="6"/>
                    </a:lnTo>
                    <a:cubicBezTo>
                      <a:pt x="6820" y="6"/>
                      <a:pt x="6819" y="5"/>
                      <a:pt x="6819" y="4"/>
                    </a:cubicBezTo>
                    <a:cubicBezTo>
                      <a:pt x="6819" y="3"/>
                      <a:pt x="6820" y="2"/>
                      <a:pt x="6821" y="2"/>
                    </a:cubicBezTo>
                    <a:close/>
                    <a:moveTo>
                      <a:pt x="6829" y="2"/>
                    </a:moveTo>
                    <a:lnTo>
                      <a:pt x="6829" y="2"/>
                    </a:lnTo>
                    <a:cubicBezTo>
                      <a:pt x="6830" y="2"/>
                      <a:pt x="6831" y="3"/>
                      <a:pt x="6831" y="4"/>
                    </a:cubicBezTo>
                    <a:cubicBezTo>
                      <a:pt x="6831" y="5"/>
                      <a:pt x="6830" y="6"/>
                      <a:pt x="6829" y="6"/>
                    </a:cubicBezTo>
                    <a:lnTo>
                      <a:pt x="6829" y="6"/>
                    </a:lnTo>
                    <a:cubicBezTo>
                      <a:pt x="6828" y="6"/>
                      <a:pt x="6827" y="5"/>
                      <a:pt x="6827" y="4"/>
                    </a:cubicBezTo>
                    <a:cubicBezTo>
                      <a:pt x="6827" y="3"/>
                      <a:pt x="6828" y="2"/>
                      <a:pt x="6829" y="2"/>
                    </a:cubicBezTo>
                    <a:close/>
                    <a:moveTo>
                      <a:pt x="6837" y="2"/>
                    </a:moveTo>
                    <a:lnTo>
                      <a:pt x="6837" y="2"/>
                    </a:lnTo>
                    <a:cubicBezTo>
                      <a:pt x="6838" y="2"/>
                      <a:pt x="6839" y="3"/>
                      <a:pt x="6839" y="4"/>
                    </a:cubicBezTo>
                    <a:cubicBezTo>
                      <a:pt x="6839" y="5"/>
                      <a:pt x="6838" y="6"/>
                      <a:pt x="6837" y="6"/>
                    </a:cubicBezTo>
                    <a:lnTo>
                      <a:pt x="6837" y="6"/>
                    </a:lnTo>
                    <a:cubicBezTo>
                      <a:pt x="6836" y="6"/>
                      <a:pt x="6835" y="5"/>
                      <a:pt x="6835" y="4"/>
                    </a:cubicBezTo>
                    <a:cubicBezTo>
                      <a:pt x="6835" y="3"/>
                      <a:pt x="6836" y="2"/>
                      <a:pt x="6837" y="2"/>
                    </a:cubicBezTo>
                    <a:close/>
                    <a:moveTo>
                      <a:pt x="6845" y="2"/>
                    </a:moveTo>
                    <a:lnTo>
                      <a:pt x="6845" y="2"/>
                    </a:lnTo>
                    <a:cubicBezTo>
                      <a:pt x="6846" y="2"/>
                      <a:pt x="6847" y="3"/>
                      <a:pt x="6847" y="4"/>
                    </a:cubicBezTo>
                    <a:cubicBezTo>
                      <a:pt x="6847" y="5"/>
                      <a:pt x="6846" y="6"/>
                      <a:pt x="6845" y="6"/>
                    </a:cubicBezTo>
                    <a:lnTo>
                      <a:pt x="6845" y="6"/>
                    </a:lnTo>
                    <a:cubicBezTo>
                      <a:pt x="6844" y="6"/>
                      <a:pt x="6843" y="5"/>
                      <a:pt x="6843" y="4"/>
                    </a:cubicBezTo>
                    <a:cubicBezTo>
                      <a:pt x="6843" y="3"/>
                      <a:pt x="6844" y="2"/>
                      <a:pt x="6845" y="2"/>
                    </a:cubicBezTo>
                    <a:close/>
                    <a:moveTo>
                      <a:pt x="6853" y="2"/>
                    </a:moveTo>
                    <a:lnTo>
                      <a:pt x="6853" y="2"/>
                    </a:lnTo>
                    <a:cubicBezTo>
                      <a:pt x="6854" y="2"/>
                      <a:pt x="6855" y="3"/>
                      <a:pt x="6855" y="4"/>
                    </a:cubicBezTo>
                    <a:cubicBezTo>
                      <a:pt x="6855" y="5"/>
                      <a:pt x="6854" y="6"/>
                      <a:pt x="6853" y="6"/>
                    </a:cubicBezTo>
                    <a:lnTo>
                      <a:pt x="6853" y="6"/>
                    </a:lnTo>
                    <a:cubicBezTo>
                      <a:pt x="6852" y="6"/>
                      <a:pt x="6851" y="5"/>
                      <a:pt x="6851" y="4"/>
                    </a:cubicBezTo>
                    <a:cubicBezTo>
                      <a:pt x="6851" y="3"/>
                      <a:pt x="6852" y="2"/>
                      <a:pt x="6853" y="2"/>
                    </a:cubicBezTo>
                    <a:close/>
                    <a:moveTo>
                      <a:pt x="6861" y="2"/>
                    </a:moveTo>
                    <a:lnTo>
                      <a:pt x="6861" y="2"/>
                    </a:lnTo>
                    <a:cubicBezTo>
                      <a:pt x="6862" y="2"/>
                      <a:pt x="6863" y="3"/>
                      <a:pt x="6863" y="4"/>
                    </a:cubicBezTo>
                    <a:cubicBezTo>
                      <a:pt x="6863" y="5"/>
                      <a:pt x="6862" y="6"/>
                      <a:pt x="6861" y="6"/>
                    </a:cubicBezTo>
                    <a:lnTo>
                      <a:pt x="6861" y="6"/>
                    </a:lnTo>
                    <a:cubicBezTo>
                      <a:pt x="6860" y="6"/>
                      <a:pt x="6859" y="5"/>
                      <a:pt x="6859" y="4"/>
                    </a:cubicBezTo>
                    <a:cubicBezTo>
                      <a:pt x="6859" y="3"/>
                      <a:pt x="6860" y="2"/>
                      <a:pt x="6861" y="2"/>
                    </a:cubicBezTo>
                    <a:close/>
                    <a:moveTo>
                      <a:pt x="6869" y="2"/>
                    </a:moveTo>
                    <a:lnTo>
                      <a:pt x="6869" y="2"/>
                    </a:lnTo>
                    <a:cubicBezTo>
                      <a:pt x="6870" y="2"/>
                      <a:pt x="6871" y="3"/>
                      <a:pt x="6871" y="4"/>
                    </a:cubicBezTo>
                    <a:cubicBezTo>
                      <a:pt x="6871" y="5"/>
                      <a:pt x="6870" y="6"/>
                      <a:pt x="6869" y="6"/>
                    </a:cubicBezTo>
                    <a:lnTo>
                      <a:pt x="6869" y="6"/>
                    </a:lnTo>
                    <a:cubicBezTo>
                      <a:pt x="6868" y="6"/>
                      <a:pt x="6867" y="5"/>
                      <a:pt x="6867" y="4"/>
                    </a:cubicBezTo>
                    <a:cubicBezTo>
                      <a:pt x="6867" y="3"/>
                      <a:pt x="6868" y="2"/>
                      <a:pt x="6869" y="2"/>
                    </a:cubicBezTo>
                    <a:close/>
                    <a:moveTo>
                      <a:pt x="6877" y="2"/>
                    </a:moveTo>
                    <a:lnTo>
                      <a:pt x="6877" y="2"/>
                    </a:lnTo>
                    <a:cubicBezTo>
                      <a:pt x="6878" y="2"/>
                      <a:pt x="6879" y="3"/>
                      <a:pt x="6879" y="4"/>
                    </a:cubicBezTo>
                    <a:cubicBezTo>
                      <a:pt x="6879" y="5"/>
                      <a:pt x="6878" y="6"/>
                      <a:pt x="6877" y="6"/>
                    </a:cubicBezTo>
                    <a:lnTo>
                      <a:pt x="6877" y="6"/>
                    </a:lnTo>
                    <a:cubicBezTo>
                      <a:pt x="6876" y="6"/>
                      <a:pt x="6875" y="5"/>
                      <a:pt x="6875" y="4"/>
                    </a:cubicBezTo>
                    <a:cubicBezTo>
                      <a:pt x="6875" y="3"/>
                      <a:pt x="6876" y="2"/>
                      <a:pt x="6877" y="2"/>
                    </a:cubicBezTo>
                    <a:close/>
                    <a:moveTo>
                      <a:pt x="6885" y="2"/>
                    </a:moveTo>
                    <a:lnTo>
                      <a:pt x="6885" y="2"/>
                    </a:lnTo>
                    <a:cubicBezTo>
                      <a:pt x="6886" y="2"/>
                      <a:pt x="6887" y="3"/>
                      <a:pt x="6887" y="4"/>
                    </a:cubicBezTo>
                    <a:cubicBezTo>
                      <a:pt x="6887" y="5"/>
                      <a:pt x="6886" y="6"/>
                      <a:pt x="6885" y="6"/>
                    </a:cubicBezTo>
                    <a:lnTo>
                      <a:pt x="6885" y="6"/>
                    </a:lnTo>
                    <a:cubicBezTo>
                      <a:pt x="6884" y="6"/>
                      <a:pt x="6883" y="5"/>
                      <a:pt x="6883" y="4"/>
                    </a:cubicBezTo>
                    <a:cubicBezTo>
                      <a:pt x="6883" y="3"/>
                      <a:pt x="6884" y="2"/>
                      <a:pt x="6885" y="2"/>
                    </a:cubicBezTo>
                    <a:close/>
                    <a:moveTo>
                      <a:pt x="6893" y="2"/>
                    </a:moveTo>
                    <a:lnTo>
                      <a:pt x="6893" y="2"/>
                    </a:lnTo>
                    <a:cubicBezTo>
                      <a:pt x="6894" y="2"/>
                      <a:pt x="6895" y="3"/>
                      <a:pt x="6895" y="4"/>
                    </a:cubicBezTo>
                    <a:cubicBezTo>
                      <a:pt x="6895" y="5"/>
                      <a:pt x="6894" y="6"/>
                      <a:pt x="6893" y="6"/>
                    </a:cubicBezTo>
                    <a:lnTo>
                      <a:pt x="6893" y="6"/>
                    </a:lnTo>
                    <a:cubicBezTo>
                      <a:pt x="6892" y="6"/>
                      <a:pt x="6891" y="5"/>
                      <a:pt x="6891" y="4"/>
                    </a:cubicBezTo>
                    <a:cubicBezTo>
                      <a:pt x="6891" y="3"/>
                      <a:pt x="6892" y="2"/>
                      <a:pt x="6893" y="2"/>
                    </a:cubicBezTo>
                    <a:close/>
                    <a:moveTo>
                      <a:pt x="6901" y="2"/>
                    </a:moveTo>
                    <a:lnTo>
                      <a:pt x="6901" y="2"/>
                    </a:lnTo>
                    <a:cubicBezTo>
                      <a:pt x="6902" y="2"/>
                      <a:pt x="6903" y="3"/>
                      <a:pt x="6903" y="4"/>
                    </a:cubicBezTo>
                    <a:cubicBezTo>
                      <a:pt x="6903" y="5"/>
                      <a:pt x="6902" y="6"/>
                      <a:pt x="6901" y="6"/>
                    </a:cubicBezTo>
                    <a:lnTo>
                      <a:pt x="6901" y="6"/>
                    </a:lnTo>
                    <a:cubicBezTo>
                      <a:pt x="6900" y="6"/>
                      <a:pt x="6899" y="5"/>
                      <a:pt x="6899" y="4"/>
                    </a:cubicBezTo>
                    <a:cubicBezTo>
                      <a:pt x="6899" y="3"/>
                      <a:pt x="6900" y="2"/>
                      <a:pt x="6901" y="2"/>
                    </a:cubicBezTo>
                    <a:close/>
                    <a:moveTo>
                      <a:pt x="6909" y="2"/>
                    </a:moveTo>
                    <a:lnTo>
                      <a:pt x="6909" y="2"/>
                    </a:lnTo>
                    <a:cubicBezTo>
                      <a:pt x="6910" y="2"/>
                      <a:pt x="6911" y="3"/>
                      <a:pt x="6911" y="4"/>
                    </a:cubicBezTo>
                    <a:cubicBezTo>
                      <a:pt x="6911" y="5"/>
                      <a:pt x="6910" y="6"/>
                      <a:pt x="6909" y="6"/>
                    </a:cubicBezTo>
                    <a:lnTo>
                      <a:pt x="6909" y="6"/>
                    </a:lnTo>
                    <a:cubicBezTo>
                      <a:pt x="6908" y="6"/>
                      <a:pt x="6907" y="5"/>
                      <a:pt x="6907" y="4"/>
                    </a:cubicBezTo>
                    <a:cubicBezTo>
                      <a:pt x="6907" y="3"/>
                      <a:pt x="6908" y="2"/>
                      <a:pt x="6909" y="2"/>
                    </a:cubicBezTo>
                    <a:close/>
                    <a:moveTo>
                      <a:pt x="6917" y="2"/>
                    </a:moveTo>
                    <a:lnTo>
                      <a:pt x="6917" y="2"/>
                    </a:lnTo>
                    <a:cubicBezTo>
                      <a:pt x="6918" y="2"/>
                      <a:pt x="6919" y="3"/>
                      <a:pt x="6919" y="4"/>
                    </a:cubicBezTo>
                    <a:cubicBezTo>
                      <a:pt x="6919" y="5"/>
                      <a:pt x="6918" y="6"/>
                      <a:pt x="6917" y="6"/>
                    </a:cubicBezTo>
                    <a:lnTo>
                      <a:pt x="6917" y="6"/>
                    </a:lnTo>
                    <a:cubicBezTo>
                      <a:pt x="6916" y="6"/>
                      <a:pt x="6915" y="5"/>
                      <a:pt x="6915" y="4"/>
                    </a:cubicBezTo>
                    <a:cubicBezTo>
                      <a:pt x="6915" y="3"/>
                      <a:pt x="6916" y="2"/>
                      <a:pt x="6917" y="2"/>
                    </a:cubicBezTo>
                    <a:close/>
                    <a:moveTo>
                      <a:pt x="6925" y="2"/>
                    </a:moveTo>
                    <a:lnTo>
                      <a:pt x="6925" y="2"/>
                    </a:lnTo>
                    <a:cubicBezTo>
                      <a:pt x="6926" y="2"/>
                      <a:pt x="6927" y="3"/>
                      <a:pt x="6927" y="4"/>
                    </a:cubicBezTo>
                    <a:cubicBezTo>
                      <a:pt x="6927" y="5"/>
                      <a:pt x="6926" y="6"/>
                      <a:pt x="6925" y="6"/>
                    </a:cubicBezTo>
                    <a:lnTo>
                      <a:pt x="6925" y="6"/>
                    </a:lnTo>
                    <a:cubicBezTo>
                      <a:pt x="6924" y="6"/>
                      <a:pt x="6923" y="5"/>
                      <a:pt x="6923" y="4"/>
                    </a:cubicBezTo>
                    <a:cubicBezTo>
                      <a:pt x="6923" y="3"/>
                      <a:pt x="6924" y="2"/>
                      <a:pt x="6925" y="2"/>
                    </a:cubicBezTo>
                    <a:close/>
                    <a:moveTo>
                      <a:pt x="6933" y="2"/>
                    </a:moveTo>
                    <a:lnTo>
                      <a:pt x="6933" y="2"/>
                    </a:lnTo>
                    <a:cubicBezTo>
                      <a:pt x="6934" y="2"/>
                      <a:pt x="6935" y="3"/>
                      <a:pt x="6935" y="4"/>
                    </a:cubicBezTo>
                    <a:cubicBezTo>
                      <a:pt x="6935" y="5"/>
                      <a:pt x="6934" y="6"/>
                      <a:pt x="6933" y="6"/>
                    </a:cubicBezTo>
                    <a:lnTo>
                      <a:pt x="6933" y="6"/>
                    </a:lnTo>
                    <a:cubicBezTo>
                      <a:pt x="6932" y="6"/>
                      <a:pt x="6931" y="5"/>
                      <a:pt x="6931" y="4"/>
                    </a:cubicBezTo>
                    <a:cubicBezTo>
                      <a:pt x="6931" y="3"/>
                      <a:pt x="6932" y="2"/>
                      <a:pt x="6933" y="2"/>
                    </a:cubicBezTo>
                    <a:close/>
                    <a:moveTo>
                      <a:pt x="6941" y="2"/>
                    </a:moveTo>
                    <a:lnTo>
                      <a:pt x="6941" y="2"/>
                    </a:lnTo>
                    <a:cubicBezTo>
                      <a:pt x="6942" y="2"/>
                      <a:pt x="6943" y="3"/>
                      <a:pt x="6943" y="4"/>
                    </a:cubicBezTo>
                    <a:cubicBezTo>
                      <a:pt x="6943" y="5"/>
                      <a:pt x="6942" y="6"/>
                      <a:pt x="6941" y="6"/>
                    </a:cubicBezTo>
                    <a:lnTo>
                      <a:pt x="6941" y="6"/>
                    </a:lnTo>
                    <a:cubicBezTo>
                      <a:pt x="6940" y="6"/>
                      <a:pt x="6939" y="5"/>
                      <a:pt x="6939" y="4"/>
                    </a:cubicBezTo>
                    <a:cubicBezTo>
                      <a:pt x="6939" y="3"/>
                      <a:pt x="6940" y="2"/>
                      <a:pt x="6941" y="2"/>
                    </a:cubicBezTo>
                    <a:close/>
                    <a:moveTo>
                      <a:pt x="6949" y="2"/>
                    </a:moveTo>
                    <a:lnTo>
                      <a:pt x="6949" y="2"/>
                    </a:lnTo>
                    <a:cubicBezTo>
                      <a:pt x="6950" y="2"/>
                      <a:pt x="6951" y="3"/>
                      <a:pt x="6951" y="4"/>
                    </a:cubicBezTo>
                    <a:cubicBezTo>
                      <a:pt x="6951" y="5"/>
                      <a:pt x="6950" y="6"/>
                      <a:pt x="6949" y="6"/>
                    </a:cubicBezTo>
                    <a:lnTo>
                      <a:pt x="6949" y="6"/>
                    </a:lnTo>
                    <a:cubicBezTo>
                      <a:pt x="6948" y="6"/>
                      <a:pt x="6947" y="5"/>
                      <a:pt x="6947" y="4"/>
                    </a:cubicBezTo>
                    <a:cubicBezTo>
                      <a:pt x="6947" y="3"/>
                      <a:pt x="6948" y="2"/>
                      <a:pt x="6949" y="2"/>
                    </a:cubicBezTo>
                    <a:close/>
                    <a:moveTo>
                      <a:pt x="6957" y="2"/>
                    </a:moveTo>
                    <a:lnTo>
                      <a:pt x="6957" y="2"/>
                    </a:lnTo>
                    <a:cubicBezTo>
                      <a:pt x="6958" y="2"/>
                      <a:pt x="6959" y="3"/>
                      <a:pt x="6959" y="4"/>
                    </a:cubicBezTo>
                    <a:cubicBezTo>
                      <a:pt x="6959" y="5"/>
                      <a:pt x="6958" y="6"/>
                      <a:pt x="6957" y="6"/>
                    </a:cubicBezTo>
                    <a:lnTo>
                      <a:pt x="6957" y="6"/>
                    </a:lnTo>
                    <a:cubicBezTo>
                      <a:pt x="6956" y="6"/>
                      <a:pt x="6955" y="5"/>
                      <a:pt x="6955" y="4"/>
                    </a:cubicBezTo>
                    <a:cubicBezTo>
                      <a:pt x="6955" y="3"/>
                      <a:pt x="6956" y="2"/>
                      <a:pt x="6957" y="2"/>
                    </a:cubicBezTo>
                    <a:close/>
                    <a:moveTo>
                      <a:pt x="6965" y="2"/>
                    </a:moveTo>
                    <a:lnTo>
                      <a:pt x="6965" y="2"/>
                    </a:lnTo>
                    <a:cubicBezTo>
                      <a:pt x="6966" y="2"/>
                      <a:pt x="6967" y="3"/>
                      <a:pt x="6967" y="4"/>
                    </a:cubicBezTo>
                    <a:cubicBezTo>
                      <a:pt x="6967" y="5"/>
                      <a:pt x="6966" y="6"/>
                      <a:pt x="6965" y="6"/>
                    </a:cubicBezTo>
                    <a:lnTo>
                      <a:pt x="6965" y="6"/>
                    </a:lnTo>
                    <a:cubicBezTo>
                      <a:pt x="6964" y="6"/>
                      <a:pt x="6963" y="5"/>
                      <a:pt x="6963" y="4"/>
                    </a:cubicBezTo>
                    <a:cubicBezTo>
                      <a:pt x="6963" y="3"/>
                      <a:pt x="6964" y="2"/>
                      <a:pt x="6965" y="2"/>
                    </a:cubicBezTo>
                    <a:close/>
                    <a:moveTo>
                      <a:pt x="6973" y="2"/>
                    </a:moveTo>
                    <a:lnTo>
                      <a:pt x="6973" y="2"/>
                    </a:lnTo>
                    <a:cubicBezTo>
                      <a:pt x="6974" y="2"/>
                      <a:pt x="6975" y="3"/>
                      <a:pt x="6975" y="4"/>
                    </a:cubicBezTo>
                    <a:cubicBezTo>
                      <a:pt x="6975" y="5"/>
                      <a:pt x="6974" y="6"/>
                      <a:pt x="6973" y="6"/>
                    </a:cubicBezTo>
                    <a:lnTo>
                      <a:pt x="6973" y="6"/>
                    </a:lnTo>
                    <a:cubicBezTo>
                      <a:pt x="6972" y="6"/>
                      <a:pt x="6971" y="5"/>
                      <a:pt x="6971" y="4"/>
                    </a:cubicBezTo>
                    <a:cubicBezTo>
                      <a:pt x="6971" y="3"/>
                      <a:pt x="6972" y="2"/>
                      <a:pt x="6973" y="2"/>
                    </a:cubicBezTo>
                    <a:close/>
                    <a:moveTo>
                      <a:pt x="6981" y="2"/>
                    </a:moveTo>
                    <a:lnTo>
                      <a:pt x="6981" y="2"/>
                    </a:lnTo>
                    <a:cubicBezTo>
                      <a:pt x="6982" y="2"/>
                      <a:pt x="6983" y="3"/>
                      <a:pt x="6983" y="4"/>
                    </a:cubicBezTo>
                    <a:cubicBezTo>
                      <a:pt x="6983" y="5"/>
                      <a:pt x="6982" y="6"/>
                      <a:pt x="6981" y="6"/>
                    </a:cubicBezTo>
                    <a:lnTo>
                      <a:pt x="6981" y="6"/>
                    </a:lnTo>
                    <a:cubicBezTo>
                      <a:pt x="6980" y="6"/>
                      <a:pt x="6979" y="5"/>
                      <a:pt x="6979" y="4"/>
                    </a:cubicBezTo>
                    <a:cubicBezTo>
                      <a:pt x="6979" y="3"/>
                      <a:pt x="6980" y="2"/>
                      <a:pt x="6981" y="2"/>
                    </a:cubicBezTo>
                    <a:close/>
                    <a:moveTo>
                      <a:pt x="6989" y="2"/>
                    </a:moveTo>
                    <a:lnTo>
                      <a:pt x="6989" y="2"/>
                    </a:lnTo>
                    <a:cubicBezTo>
                      <a:pt x="6990" y="2"/>
                      <a:pt x="6991" y="3"/>
                      <a:pt x="6991" y="4"/>
                    </a:cubicBezTo>
                    <a:cubicBezTo>
                      <a:pt x="6991" y="5"/>
                      <a:pt x="6990" y="6"/>
                      <a:pt x="6989" y="6"/>
                    </a:cubicBezTo>
                    <a:lnTo>
                      <a:pt x="6989" y="6"/>
                    </a:lnTo>
                    <a:cubicBezTo>
                      <a:pt x="6988" y="6"/>
                      <a:pt x="6987" y="5"/>
                      <a:pt x="6987" y="4"/>
                    </a:cubicBezTo>
                    <a:cubicBezTo>
                      <a:pt x="6987" y="3"/>
                      <a:pt x="6988" y="2"/>
                      <a:pt x="6989" y="2"/>
                    </a:cubicBezTo>
                    <a:close/>
                    <a:moveTo>
                      <a:pt x="6997" y="2"/>
                    </a:moveTo>
                    <a:lnTo>
                      <a:pt x="6997" y="2"/>
                    </a:lnTo>
                    <a:cubicBezTo>
                      <a:pt x="6998" y="2"/>
                      <a:pt x="6999" y="3"/>
                      <a:pt x="6999" y="4"/>
                    </a:cubicBezTo>
                    <a:cubicBezTo>
                      <a:pt x="6999" y="5"/>
                      <a:pt x="6998" y="6"/>
                      <a:pt x="6997" y="6"/>
                    </a:cubicBezTo>
                    <a:lnTo>
                      <a:pt x="6997" y="6"/>
                    </a:lnTo>
                    <a:cubicBezTo>
                      <a:pt x="6996" y="6"/>
                      <a:pt x="6995" y="5"/>
                      <a:pt x="6995" y="4"/>
                    </a:cubicBezTo>
                    <a:cubicBezTo>
                      <a:pt x="6995" y="3"/>
                      <a:pt x="6996" y="2"/>
                      <a:pt x="6997" y="2"/>
                    </a:cubicBezTo>
                    <a:close/>
                    <a:moveTo>
                      <a:pt x="7005" y="2"/>
                    </a:moveTo>
                    <a:lnTo>
                      <a:pt x="7005" y="2"/>
                    </a:lnTo>
                    <a:cubicBezTo>
                      <a:pt x="7006" y="2"/>
                      <a:pt x="7007" y="3"/>
                      <a:pt x="7007" y="4"/>
                    </a:cubicBezTo>
                    <a:cubicBezTo>
                      <a:pt x="7007" y="5"/>
                      <a:pt x="7006" y="6"/>
                      <a:pt x="7005" y="6"/>
                    </a:cubicBezTo>
                    <a:lnTo>
                      <a:pt x="7005" y="6"/>
                    </a:lnTo>
                    <a:cubicBezTo>
                      <a:pt x="7004" y="6"/>
                      <a:pt x="7003" y="5"/>
                      <a:pt x="7003" y="4"/>
                    </a:cubicBezTo>
                    <a:cubicBezTo>
                      <a:pt x="7003" y="3"/>
                      <a:pt x="7004" y="2"/>
                      <a:pt x="7005" y="2"/>
                    </a:cubicBezTo>
                    <a:close/>
                    <a:moveTo>
                      <a:pt x="7013" y="2"/>
                    </a:moveTo>
                    <a:lnTo>
                      <a:pt x="7013" y="2"/>
                    </a:lnTo>
                    <a:cubicBezTo>
                      <a:pt x="7014" y="2"/>
                      <a:pt x="7015" y="3"/>
                      <a:pt x="7015" y="4"/>
                    </a:cubicBezTo>
                    <a:cubicBezTo>
                      <a:pt x="7015" y="5"/>
                      <a:pt x="7014" y="6"/>
                      <a:pt x="7013" y="6"/>
                    </a:cubicBezTo>
                    <a:lnTo>
                      <a:pt x="7013" y="6"/>
                    </a:lnTo>
                    <a:cubicBezTo>
                      <a:pt x="7012" y="6"/>
                      <a:pt x="7011" y="5"/>
                      <a:pt x="7011" y="4"/>
                    </a:cubicBezTo>
                    <a:cubicBezTo>
                      <a:pt x="7011" y="3"/>
                      <a:pt x="7012" y="2"/>
                      <a:pt x="7013" y="2"/>
                    </a:cubicBezTo>
                    <a:close/>
                    <a:moveTo>
                      <a:pt x="7021" y="2"/>
                    </a:moveTo>
                    <a:lnTo>
                      <a:pt x="7021" y="2"/>
                    </a:lnTo>
                    <a:cubicBezTo>
                      <a:pt x="7022" y="2"/>
                      <a:pt x="7023" y="3"/>
                      <a:pt x="7023" y="4"/>
                    </a:cubicBezTo>
                    <a:cubicBezTo>
                      <a:pt x="7023" y="5"/>
                      <a:pt x="7022" y="6"/>
                      <a:pt x="7021" y="6"/>
                    </a:cubicBezTo>
                    <a:lnTo>
                      <a:pt x="7021" y="6"/>
                    </a:lnTo>
                    <a:cubicBezTo>
                      <a:pt x="7020" y="6"/>
                      <a:pt x="7019" y="5"/>
                      <a:pt x="7019" y="4"/>
                    </a:cubicBezTo>
                    <a:cubicBezTo>
                      <a:pt x="7019" y="3"/>
                      <a:pt x="7020" y="2"/>
                      <a:pt x="7021" y="2"/>
                    </a:cubicBezTo>
                    <a:close/>
                    <a:moveTo>
                      <a:pt x="7029" y="2"/>
                    </a:moveTo>
                    <a:lnTo>
                      <a:pt x="7029" y="2"/>
                    </a:lnTo>
                    <a:cubicBezTo>
                      <a:pt x="7030" y="2"/>
                      <a:pt x="7031" y="3"/>
                      <a:pt x="7031" y="4"/>
                    </a:cubicBezTo>
                    <a:cubicBezTo>
                      <a:pt x="7031" y="5"/>
                      <a:pt x="7030" y="6"/>
                      <a:pt x="7029" y="6"/>
                    </a:cubicBezTo>
                    <a:lnTo>
                      <a:pt x="7029" y="6"/>
                    </a:lnTo>
                    <a:cubicBezTo>
                      <a:pt x="7028" y="6"/>
                      <a:pt x="7027" y="5"/>
                      <a:pt x="7027" y="4"/>
                    </a:cubicBezTo>
                    <a:cubicBezTo>
                      <a:pt x="7027" y="3"/>
                      <a:pt x="7028" y="2"/>
                      <a:pt x="7029" y="2"/>
                    </a:cubicBezTo>
                    <a:close/>
                    <a:moveTo>
                      <a:pt x="7037" y="2"/>
                    </a:moveTo>
                    <a:lnTo>
                      <a:pt x="7037" y="2"/>
                    </a:lnTo>
                    <a:cubicBezTo>
                      <a:pt x="7038" y="2"/>
                      <a:pt x="7039" y="3"/>
                      <a:pt x="7039" y="4"/>
                    </a:cubicBezTo>
                    <a:cubicBezTo>
                      <a:pt x="7039" y="5"/>
                      <a:pt x="7038" y="6"/>
                      <a:pt x="7037" y="6"/>
                    </a:cubicBezTo>
                    <a:lnTo>
                      <a:pt x="7037" y="6"/>
                    </a:lnTo>
                    <a:cubicBezTo>
                      <a:pt x="7036" y="6"/>
                      <a:pt x="7035" y="5"/>
                      <a:pt x="7035" y="4"/>
                    </a:cubicBezTo>
                    <a:cubicBezTo>
                      <a:pt x="7035" y="3"/>
                      <a:pt x="7036" y="2"/>
                      <a:pt x="7037" y="2"/>
                    </a:cubicBezTo>
                    <a:close/>
                    <a:moveTo>
                      <a:pt x="7045" y="2"/>
                    </a:moveTo>
                    <a:lnTo>
                      <a:pt x="7045" y="2"/>
                    </a:lnTo>
                    <a:cubicBezTo>
                      <a:pt x="7046" y="2"/>
                      <a:pt x="7047" y="3"/>
                      <a:pt x="7047" y="4"/>
                    </a:cubicBezTo>
                    <a:cubicBezTo>
                      <a:pt x="7047" y="5"/>
                      <a:pt x="7046" y="6"/>
                      <a:pt x="7045" y="6"/>
                    </a:cubicBezTo>
                    <a:lnTo>
                      <a:pt x="7045" y="6"/>
                    </a:lnTo>
                    <a:cubicBezTo>
                      <a:pt x="7044" y="6"/>
                      <a:pt x="7043" y="5"/>
                      <a:pt x="7043" y="4"/>
                    </a:cubicBezTo>
                    <a:cubicBezTo>
                      <a:pt x="7043" y="3"/>
                      <a:pt x="7044" y="2"/>
                      <a:pt x="7045" y="2"/>
                    </a:cubicBezTo>
                    <a:close/>
                    <a:moveTo>
                      <a:pt x="7053" y="2"/>
                    </a:moveTo>
                    <a:lnTo>
                      <a:pt x="7053" y="2"/>
                    </a:lnTo>
                    <a:cubicBezTo>
                      <a:pt x="7054" y="2"/>
                      <a:pt x="7055" y="3"/>
                      <a:pt x="7055" y="4"/>
                    </a:cubicBezTo>
                    <a:cubicBezTo>
                      <a:pt x="7055" y="5"/>
                      <a:pt x="7054" y="6"/>
                      <a:pt x="7053" y="6"/>
                    </a:cubicBezTo>
                    <a:lnTo>
                      <a:pt x="7053" y="6"/>
                    </a:lnTo>
                    <a:cubicBezTo>
                      <a:pt x="7052" y="6"/>
                      <a:pt x="7051" y="5"/>
                      <a:pt x="7051" y="4"/>
                    </a:cubicBezTo>
                    <a:cubicBezTo>
                      <a:pt x="7051" y="3"/>
                      <a:pt x="7052" y="2"/>
                      <a:pt x="7053" y="2"/>
                    </a:cubicBezTo>
                    <a:close/>
                    <a:moveTo>
                      <a:pt x="7061" y="2"/>
                    </a:moveTo>
                    <a:lnTo>
                      <a:pt x="7061" y="2"/>
                    </a:lnTo>
                    <a:cubicBezTo>
                      <a:pt x="7062" y="2"/>
                      <a:pt x="7063" y="3"/>
                      <a:pt x="7063" y="4"/>
                    </a:cubicBezTo>
                    <a:cubicBezTo>
                      <a:pt x="7063" y="5"/>
                      <a:pt x="7062" y="6"/>
                      <a:pt x="7061" y="6"/>
                    </a:cubicBezTo>
                    <a:lnTo>
                      <a:pt x="7061" y="6"/>
                    </a:lnTo>
                    <a:cubicBezTo>
                      <a:pt x="7060" y="6"/>
                      <a:pt x="7059" y="5"/>
                      <a:pt x="7059" y="4"/>
                    </a:cubicBezTo>
                    <a:cubicBezTo>
                      <a:pt x="7059" y="3"/>
                      <a:pt x="7060" y="2"/>
                      <a:pt x="7061" y="2"/>
                    </a:cubicBezTo>
                    <a:close/>
                    <a:moveTo>
                      <a:pt x="7069" y="2"/>
                    </a:moveTo>
                    <a:lnTo>
                      <a:pt x="7069" y="2"/>
                    </a:lnTo>
                    <a:cubicBezTo>
                      <a:pt x="7070" y="2"/>
                      <a:pt x="7071" y="3"/>
                      <a:pt x="7071" y="4"/>
                    </a:cubicBezTo>
                    <a:cubicBezTo>
                      <a:pt x="7071" y="5"/>
                      <a:pt x="7070" y="6"/>
                      <a:pt x="7069" y="6"/>
                    </a:cubicBezTo>
                    <a:lnTo>
                      <a:pt x="7069" y="6"/>
                    </a:lnTo>
                    <a:cubicBezTo>
                      <a:pt x="7068" y="6"/>
                      <a:pt x="7067" y="5"/>
                      <a:pt x="7067" y="4"/>
                    </a:cubicBezTo>
                    <a:cubicBezTo>
                      <a:pt x="7067" y="3"/>
                      <a:pt x="7068" y="2"/>
                      <a:pt x="7069" y="2"/>
                    </a:cubicBezTo>
                    <a:close/>
                    <a:moveTo>
                      <a:pt x="7077" y="2"/>
                    </a:moveTo>
                    <a:lnTo>
                      <a:pt x="7077" y="2"/>
                    </a:lnTo>
                    <a:cubicBezTo>
                      <a:pt x="7078" y="2"/>
                      <a:pt x="7079" y="3"/>
                      <a:pt x="7079" y="4"/>
                    </a:cubicBezTo>
                    <a:cubicBezTo>
                      <a:pt x="7079" y="5"/>
                      <a:pt x="7078" y="6"/>
                      <a:pt x="7077" y="6"/>
                    </a:cubicBezTo>
                    <a:lnTo>
                      <a:pt x="7077" y="6"/>
                    </a:lnTo>
                    <a:cubicBezTo>
                      <a:pt x="7076" y="6"/>
                      <a:pt x="7075" y="5"/>
                      <a:pt x="7075" y="4"/>
                    </a:cubicBezTo>
                    <a:cubicBezTo>
                      <a:pt x="7075" y="3"/>
                      <a:pt x="7076" y="2"/>
                      <a:pt x="7077" y="2"/>
                    </a:cubicBezTo>
                    <a:close/>
                    <a:moveTo>
                      <a:pt x="7085" y="2"/>
                    </a:moveTo>
                    <a:lnTo>
                      <a:pt x="7085" y="2"/>
                    </a:lnTo>
                    <a:cubicBezTo>
                      <a:pt x="7086" y="2"/>
                      <a:pt x="7087" y="3"/>
                      <a:pt x="7087" y="4"/>
                    </a:cubicBezTo>
                    <a:cubicBezTo>
                      <a:pt x="7087" y="5"/>
                      <a:pt x="7086" y="6"/>
                      <a:pt x="7085" y="6"/>
                    </a:cubicBezTo>
                    <a:lnTo>
                      <a:pt x="7085" y="6"/>
                    </a:lnTo>
                    <a:cubicBezTo>
                      <a:pt x="7084" y="6"/>
                      <a:pt x="7083" y="5"/>
                      <a:pt x="7083" y="4"/>
                    </a:cubicBezTo>
                    <a:cubicBezTo>
                      <a:pt x="7083" y="3"/>
                      <a:pt x="7084" y="2"/>
                      <a:pt x="7085" y="2"/>
                    </a:cubicBezTo>
                    <a:close/>
                    <a:moveTo>
                      <a:pt x="7093" y="2"/>
                    </a:moveTo>
                    <a:lnTo>
                      <a:pt x="7093" y="2"/>
                    </a:lnTo>
                    <a:cubicBezTo>
                      <a:pt x="7094" y="2"/>
                      <a:pt x="7095" y="3"/>
                      <a:pt x="7095" y="4"/>
                    </a:cubicBezTo>
                    <a:cubicBezTo>
                      <a:pt x="7095" y="5"/>
                      <a:pt x="7094" y="6"/>
                      <a:pt x="7093" y="6"/>
                    </a:cubicBezTo>
                    <a:lnTo>
                      <a:pt x="7093" y="6"/>
                    </a:lnTo>
                    <a:cubicBezTo>
                      <a:pt x="7092" y="6"/>
                      <a:pt x="7091" y="5"/>
                      <a:pt x="7091" y="4"/>
                    </a:cubicBezTo>
                    <a:cubicBezTo>
                      <a:pt x="7091" y="3"/>
                      <a:pt x="7092" y="2"/>
                      <a:pt x="7093" y="2"/>
                    </a:cubicBezTo>
                    <a:close/>
                    <a:moveTo>
                      <a:pt x="7101" y="2"/>
                    </a:moveTo>
                    <a:lnTo>
                      <a:pt x="7101" y="2"/>
                    </a:lnTo>
                    <a:cubicBezTo>
                      <a:pt x="7102" y="2"/>
                      <a:pt x="7103" y="3"/>
                      <a:pt x="7103" y="4"/>
                    </a:cubicBezTo>
                    <a:cubicBezTo>
                      <a:pt x="7103" y="5"/>
                      <a:pt x="7102" y="6"/>
                      <a:pt x="7101" y="6"/>
                    </a:cubicBezTo>
                    <a:lnTo>
                      <a:pt x="7101" y="6"/>
                    </a:lnTo>
                    <a:cubicBezTo>
                      <a:pt x="7100" y="6"/>
                      <a:pt x="7099" y="5"/>
                      <a:pt x="7099" y="4"/>
                    </a:cubicBezTo>
                    <a:cubicBezTo>
                      <a:pt x="7099" y="3"/>
                      <a:pt x="7100" y="2"/>
                      <a:pt x="7101" y="2"/>
                    </a:cubicBezTo>
                    <a:close/>
                    <a:moveTo>
                      <a:pt x="7109" y="2"/>
                    </a:moveTo>
                    <a:lnTo>
                      <a:pt x="7109" y="2"/>
                    </a:lnTo>
                    <a:cubicBezTo>
                      <a:pt x="7110" y="2"/>
                      <a:pt x="7111" y="3"/>
                      <a:pt x="7111" y="4"/>
                    </a:cubicBezTo>
                    <a:cubicBezTo>
                      <a:pt x="7111" y="5"/>
                      <a:pt x="7110" y="6"/>
                      <a:pt x="7109" y="6"/>
                    </a:cubicBezTo>
                    <a:lnTo>
                      <a:pt x="7109" y="6"/>
                    </a:lnTo>
                    <a:cubicBezTo>
                      <a:pt x="7108" y="6"/>
                      <a:pt x="7107" y="5"/>
                      <a:pt x="7107" y="4"/>
                    </a:cubicBezTo>
                    <a:cubicBezTo>
                      <a:pt x="7107" y="3"/>
                      <a:pt x="7108" y="2"/>
                      <a:pt x="7109" y="2"/>
                    </a:cubicBezTo>
                    <a:close/>
                    <a:moveTo>
                      <a:pt x="7117" y="2"/>
                    </a:moveTo>
                    <a:lnTo>
                      <a:pt x="7117" y="2"/>
                    </a:lnTo>
                    <a:cubicBezTo>
                      <a:pt x="7118" y="2"/>
                      <a:pt x="7119" y="3"/>
                      <a:pt x="7119" y="4"/>
                    </a:cubicBezTo>
                    <a:cubicBezTo>
                      <a:pt x="7119" y="5"/>
                      <a:pt x="7118" y="6"/>
                      <a:pt x="7117" y="6"/>
                    </a:cubicBezTo>
                    <a:lnTo>
                      <a:pt x="7117" y="6"/>
                    </a:lnTo>
                    <a:cubicBezTo>
                      <a:pt x="7116" y="6"/>
                      <a:pt x="7115" y="5"/>
                      <a:pt x="7115" y="4"/>
                    </a:cubicBezTo>
                    <a:cubicBezTo>
                      <a:pt x="7115" y="3"/>
                      <a:pt x="7116" y="2"/>
                      <a:pt x="7117" y="2"/>
                    </a:cubicBezTo>
                    <a:close/>
                    <a:moveTo>
                      <a:pt x="7125" y="2"/>
                    </a:moveTo>
                    <a:lnTo>
                      <a:pt x="7125" y="2"/>
                    </a:lnTo>
                    <a:cubicBezTo>
                      <a:pt x="7126" y="2"/>
                      <a:pt x="7127" y="3"/>
                      <a:pt x="7127" y="4"/>
                    </a:cubicBezTo>
                    <a:cubicBezTo>
                      <a:pt x="7127" y="5"/>
                      <a:pt x="7126" y="6"/>
                      <a:pt x="7125" y="6"/>
                    </a:cubicBezTo>
                    <a:lnTo>
                      <a:pt x="7125" y="6"/>
                    </a:lnTo>
                    <a:cubicBezTo>
                      <a:pt x="7124" y="6"/>
                      <a:pt x="7123" y="5"/>
                      <a:pt x="7123" y="4"/>
                    </a:cubicBezTo>
                    <a:cubicBezTo>
                      <a:pt x="7123" y="3"/>
                      <a:pt x="7124" y="2"/>
                      <a:pt x="7125" y="2"/>
                    </a:cubicBezTo>
                    <a:close/>
                    <a:moveTo>
                      <a:pt x="7133" y="2"/>
                    </a:moveTo>
                    <a:lnTo>
                      <a:pt x="7133" y="2"/>
                    </a:lnTo>
                    <a:cubicBezTo>
                      <a:pt x="7134" y="2"/>
                      <a:pt x="7135" y="3"/>
                      <a:pt x="7135" y="4"/>
                    </a:cubicBezTo>
                    <a:cubicBezTo>
                      <a:pt x="7135" y="5"/>
                      <a:pt x="7134" y="6"/>
                      <a:pt x="7133" y="6"/>
                    </a:cubicBezTo>
                    <a:lnTo>
                      <a:pt x="7133" y="6"/>
                    </a:lnTo>
                    <a:cubicBezTo>
                      <a:pt x="7132" y="6"/>
                      <a:pt x="7131" y="5"/>
                      <a:pt x="7131" y="4"/>
                    </a:cubicBezTo>
                    <a:cubicBezTo>
                      <a:pt x="7131" y="3"/>
                      <a:pt x="7132" y="2"/>
                      <a:pt x="7133" y="2"/>
                    </a:cubicBezTo>
                    <a:close/>
                    <a:moveTo>
                      <a:pt x="7141" y="2"/>
                    </a:moveTo>
                    <a:lnTo>
                      <a:pt x="7141" y="2"/>
                    </a:lnTo>
                    <a:cubicBezTo>
                      <a:pt x="7142" y="2"/>
                      <a:pt x="7143" y="3"/>
                      <a:pt x="7143" y="4"/>
                    </a:cubicBezTo>
                    <a:cubicBezTo>
                      <a:pt x="7143" y="5"/>
                      <a:pt x="7142" y="6"/>
                      <a:pt x="7141" y="6"/>
                    </a:cubicBezTo>
                    <a:lnTo>
                      <a:pt x="7141" y="6"/>
                    </a:lnTo>
                    <a:cubicBezTo>
                      <a:pt x="7140" y="6"/>
                      <a:pt x="7139" y="5"/>
                      <a:pt x="7139" y="4"/>
                    </a:cubicBezTo>
                    <a:cubicBezTo>
                      <a:pt x="7139" y="3"/>
                      <a:pt x="7140" y="2"/>
                      <a:pt x="7141" y="2"/>
                    </a:cubicBezTo>
                    <a:close/>
                    <a:moveTo>
                      <a:pt x="7149" y="2"/>
                    </a:moveTo>
                    <a:lnTo>
                      <a:pt x="7149" y="2"/>
                    </a:lnTo>
                    <a:cubicBezTo>
                      <a:pt x="7150" y="2"/>
                      <a:pt x="7151" y="3"/>
                      <a:pt x="7151" y="4"/>
                    </a:cubicBezTo>
                    <a:cubicBezTo>
                      <a:pt x="7151" y="5"/>
                      <a:pt x="7150" y="6"/>
                      <a:pt x="7149" y="6"/>
                    </a:cubicBezTo>
                    <a:lnTo>
                      <a:pt x="7149" y="6"/>
                    </a:lnTo>
                    <a:cubicBezTo>
                      <a:pt x="7148" y="6"/>
                      <a:pt x="7147" y="5"/>
                      <a:pt x="7147" y="4"/>
                    </a:cubicBezTo>
                    <a:cubicBezTo>
                      <a:pt x="7147" y="3"/>
                      <a:pt x="7148" y="2"/>
                      <a:pt x="7149" y="2"/>
                    </a:cubicBezTo>
                    <a:close/>
                    <a:moveTo>
                      <a:pt x="7157" y="2"/>
                    </a:moveTo>
                    <a:lnTo>
                      <a:pt x="7157" y="2"/>
                    </a:lnTo>
                    <a:cubicBezTo>
                      <a:pt x="7158" y="2"/>
                      <a:pt x="7159" y="3"/>
                      <a:pt x="7159" y="4"/>
                    </a:cubicBezTo>
                    <a:cubicBezTo>
                      <a:pt x="7159" y="5"/>
                      <a:pt x="7158" y="6"/>
                      <a:pt x="7157" y="6"/>
                    </a:cubicBezTo>
                    <a:lnTo>
                      <a:pt x="7157" y="6"/>
                    </a:lnTo>
                    <a:cubicBezTo>
                      <a:pt x="7156" y="6"/>
                      <a:pt x="7155" y="5"/>
                      <a:pt x="7155" y="4"/>
                    </a:cubicBezTo>
                    <a:cubicBezTo>
                      <a:pt x="7155" y="3"/>
                      <a:pt x="7156" y="2"/>
                      <a:pt x="7157" y="2"/>
                    </a:cubicBezTo>
                    <a:close/>
                    <a:moveTo>
                      <a:pt x="7165" y="2"/>
                    </a:moveTo>
                    <a:lnTo>
                      <a:pt x="7165" y="2"/>
                    </a:lnTo>
                    <a:cubicBezTo>
                      <a:pt x="7166" y="2"/>
                      <a:pt x="7167" y="3"/>
                      <a:pt x="7167" y="4"/>
                    </a:cubicBezTo>
                    <a:cubicBezTo>
                      <a:pt x="7167" y="5"/>
                      <a:pt x="7166" y="6"/>
                      <a:pt x="7165" y="6"/>
                    </a:cubicBezTo>
                    <a:lnTo>
                      <a:pt x="7165" y="6"/>
                    </a:lnTo>
                    <a:cubicBezTo>
                      <a:pt x="7164" y="6"/>
                      <a:pt x="7163" y="5"/>
                      <a:pt x="7163" y="4"/>
                    </a:cubicBezTo>
                    <a:cubicBezTo>
                      <a:pt x="7163" y="3"/>
                      <a:pt x="7164" y="2"/>
                      <a:pt x="7165" y="2"/>
                    </a:cubicBezTo>
                    <a:close/>
                    <a:moveTo>
                      <a:pt x="7173" y="2"/>
                    </a:moveTo>
                    <a:lnTo>
                      <a:pt x="7173" y="2"/>
                    </a:lnTo>
                    <a:cubicBezTo>
                      <a:pt x="7174" y="2"/>
                      <a:pt x="7175" y="3"/>
                      <a:pt x="7175" y="4"/>
                    </a:cubicBezTo>
                    <a:cubicBezTo>
                      <a:pt x="7175" y="5"/>
                      <a:pt x="7174" y="6"/>
                      <a:pt x="7173" y="6"/>
                    </a:cubicBezTo>
                    <a:lnTo>
                      <a:pt x="7173" y="6"/>
                    </a:lnTo>
                    <a:cubicBezTo>
                      <a:pt x="7172" y="6"/>
                      <a:pt x="7171" y="5"/>
                      <a:pt x="7171" y="4"/>
                    </a:cubicBezTo>
                    <a:cubicBezTo>
                      <a:pt x="7171" y="3"/>
                      <a:pt x="7172" y="2"/>
                      <a:pt x="7173" y="2"/>
                    </a:cubicBezTo>
                    <a:close/>
                    <a:moveTo>
                      <a:pt x="7181" y="2"/>
                    </a:moveTo>
                    <a:lnTo>
                      <a:pt x="7181" y="2"/>
                    </a:lnTo>
                    <a:cubicBezTo>
                      <a:pt x="7182" y="2"/>
                      <a:pt x="7183" y="3"/>
                      <a:pt x="7183" y="4"/>
                    </a:cubicBezTo>
                    <a:cubicBezTo>
                      <a:pt x="7183" y="5"/>
                      <a:pt x="7182" y="6"/>
                      <a:pt x="7181" y="6"/>
                    </a:cubicBezTo>
                    <a:lnTo>
                      <a:pt x="7181" y="6"/>
                    </a:lnTo>
                    <a:cubicBezTo>
                      <a:pt x="7180" y="6"/>
                      <a:pt x="7179" y="5"/>
                      <a:pt x="7179" y="4"/>
                    </a:cubicBezTo>
                    <a:cubicBezTo>
                      <a:pt x="7179" y="3"/>
                      <a:pt x="7180" y="2"/>
                      <a:pt x="7181" y="2"/>
                    </a:cubicBezTo>
                    <a:close/>
                    <a:moveTo>
                      <a:pt x="7189" y="2"/>
                    </a:moveTo>
                    <a:lnTo>
                      <a:pt x="7189" y="2"/>
                    </a:lnTo>
                    <a:cubicBezTo>
                      <a:pt x="7190" y="2"/>
                      <a:pt x="7191" y="3"/>
                      <a:pt x="7191" y="4"/>
                    </a:cubicBezTo>
                    <a:cubicBezTo>
                      <a:pt x="7191" y="5"/>
                      <a:pt x="7190" y="6"/>
                      <a:pt x="7189" y="6"/>
                    </a:cubicBezTo>
                    <a:lnTo>
                      <a:pt x="7189" y="6"/>
                    </a:lnTo>
                    <a:cubicBezTo>
                      <a:pt x="7188" y="6"/>
                      <a:pt x="7187" y="5"/>
                      <a:pt x="7187" y="4"/>
                    </a:cubicBezTo>
                    <a:cubicBezTo>
                      <a:pt x="7187" y="3"/>
                      <a:pt x="7188" y="2"/>
                      <a:pt x="7189" y="2"/>
                    </a:cubicBezTo>
                    <a:close/>
                    <a:moveTo>
                      <a:pt x="7197" y="2"/>
                    </a:moveTo>
                    <a:lnTo>
                      <a:pt x="7197" y="2"/>
                    </a:lnTo>
                    <a:cubicBezTo>
                      <a:pt x="7198" y="2"/>
                      <a:pt x="7199" y="3"/>
                      <a:pt x="7199" y="4"/>
                    </a:cubicBezTo>
                    <a:cubicBezTo>
                      <a:pt x="7199" y="5"/>
                      <a:pt x="7198" y="6"/>
                      <a:pt x="7197" y="6"/>
                    </a:cubicBezTo>
                    <a:lnTo>
                      <a:pt x="7197" y="6"/>
                    </a:lnTo>
                    <a:cubicBezTo>
                      <a:pt x="7196" y="6"/>
                      <a:pt x="7195" y="5"/>
                      <a:pt x="7195" y="4"/>
                    </a:cubicBezTo>
                    <a:cubicBezTo>
                      <a:pt x="7195" y="3"/>
                      <a:pt x="7196" y="2"/>
                      <a:pt x="7197" y="2"/>
                    </a:cubicBezTo>
                    <a:close/>
                    <a:moveTo>
                      <a:pt x="7205" y="2"/>
                    </a:moveTo>
                    <a:lnTo>
                      <a:pt x="7205" y="2"/>
                    </a:lnTo>
                    <a:cubicBezTo>
                      <a:pt x="7206" y="2"/>
                      <a:pt x="7207" y="3"/>
                      <a:pt x="7207" y="4"/>
                    </a:cubicBezTo>
                    <a:cubicBezTo>
                      <a:pt x="7207" y="5"/>
                      <a:pt x="7206" y="6"/>
                      <a:pt x="7205" y="6"/>
                    </a:cubicBezTo>
                    <a:lnTo>
                      <a:pt x="7205" y="6"/>
                    </a:lnTo>
                    <a:cubicBezTo>
                      <a:pt x="7204" y="6"/>
                      <a:pt x="7203" y="5"/>
                      <a:pt x="7203" y="4"/>
                    </a:cubicBezTo>
                    <a:cubicBezTo>
                      <a:pt x="7203" y="3"/>
                      <a:pt x="7204" y="2"/>
                      <a:pt x="7205" y="2"/>
                    </a:cubicBezTo>
                    <a:close/>
                    <a:moveTo>
                      <a:pt x="7213" y="2"/>
                    </a:moveTo>
                    <a:lnTo>
                      <a:pt x="7213" y="2"/>
                    </a:lnTo>
                    <a:cubicBezTo>
                      <a:pt x="7214" y="2"/>
                      <a:pt x="7215" y="3"/>
                      <a:pt x="7215" y="4"/>
                    </a:cubicBezTo>
                    <a:cubicBezTo>
                      <a:pt x="7215" y="5"/>
                      <a:pt x="7214" y="6"/>
                      <a:pt x="7213" y="6"/>
                    </a:cubicBezTo>
                    <a:lnTo>
                      <a:pt x="7213" y="6"/>
                    </a:lnTo>
                    <a:cubicBezTo>
                      <a:pt x="7212" y="6"/>
                      <a:pt x="7211" y="5"/>
                      <a:pt x="7211" y="4"/>
                    </a:cubicBezTo>
                    <a:cubicBezTo>
                      <a:pt x="7211" y="3"/>
                      <a:pt x="7212" y="2"/>
                      <a:pt x="7213" y="2"/>
                    </a:cubicBezTo>
                    <a:close/>
                    <a:moveTo>
                      <a:pt x="7221" y="2"/>
                    </a:moveTo>
                    <a:lnTo>
                      <a:pt x="7221" y="2"/>
                    </a:lnTo>
                    <a:cubicBezTo>
                      <a:pt x="7222" y="2"/>
                      <a:pt x="7223" y="3"/>
                      <a:pt x="7223" y="4"/>
                    </a:cubicBezTo>
                    <a:cubicBezTo>
                      <a:pt x="7223" y="5"/>
                      <a:pt x="7222" y="6"/>
                      <a:pt x="7221" y="6"/>
                    </a:cubicBezTo>
                    <a:lnTo>
                      <a:pt x="7221" y="6"/>
                    </a:lnTo>
                    <a:cubicBezTo>
                      <a:pt x="7220" y="6"/>
                      <a:pt x="7219" y="5"/>
                      <a:pt x="7219" y="4"/>
                    </a:cubicBezTo>
                    <a:cubicBezTo>
                      <a:pt x="7219" y="3"/>
                      <a:pt x="7220" y="2"/>
                      <a:pt x="7221" y="2"/>
                    </a:cubicBezTo>
                    <a:close/>
                    <a:moveTo>
                      <a:pt x="7229" y="2"/>
                    </a:moveTo>
                    <a:lnTo>
                      <a:pt x="7229" y="2"/>
                    </a:lnTo>
                    <a:cubicBezTo>
                      <a:pt x="7230" y="2"/>
                      <a:pt x="7231" y="3"/>
                      <a:pt x="7231" y="4"/>
                    </a:cubicBezTo>
                    <a:cubicBezTo>
                      <a:pt x="7231" y="5"/>
                      <a:pt x="7230" y="6"/>
                      <a:pt x="7229" y="6"/>
                    </a:cubicBezTo>
                    <a:lnTo>
                      <a:pt x="7229" y="6"/>
                    </a:lnTo>
                    <a:cubicBezTo>
                      <a:pt x="7228" y="6"/>
                      <a:pt x="7227" y="5"/>
                      <a:pt x="7227" y="4"/>
                    </a:cubicBezTo>
                    <a:cubicBezTo>
                      <a:pt x="7227" y="3"/>
                      <a:pt x="7228" y="2"/>
                      <a:pt x="7229" y="2"/>
                    </a:cubicBezTo>
                    <a:close/>
                    <a:moveTo>
                      <a:pt x="7237" y="2"/>
                    </a:moveTo>
                    <a:lnTo>
                      <a:pt x="7237" y="2"/>
                    </a:lnTo>
                    <a:cubicBezTo>
                      <a:pt x="7238" y="2"/>
                      <a:pt x="7239" y="3"/>
                      <a:pt x="7239" y="4"/>
                    </a:cubicBezTo>
                    <a:cubicBezTo>
                      <a:pt x="7239" y="5"/>
                      <a:pt x="7238" y="6"/>
                      <a:pt x="7237" y="6"/>
                    </a:cubicBezTo>
                    <a:lnTo>
                      <a:pt x="7237" y="6"/>
                    </a:lnTo>
                    <a:cubicBezTo>
                      <a:pt x="7236" y="6"/>
                      <a:pt x="7235" y="5"/>
                      <a:pt x="7235" y="4"/>
                    </a:cubicBezTo>
                    <a:cubicBezTo>
                      <a:pt x="7235" y="3"/>
                      <a:pt x="7236" y="2"/>
                      <a:pt x="7237" y="2"/>
                    </a:cubicBezTo>
                    <a:close/>
                    <a:moveTo>
                      <a:pt x="7245" y="2"/>
                    </a:moveTo>
                    <a:lnTo>
                      <a:pt x="7245" y="2"/>
                    </a:lnTo>
                    <a:cubicBezTo>
                      <a:pt x="7246" y="2"/>
                      <a:pt x="7247" y="3"/>
                      <a:pt x="7247" y="4"/>
                    </a:cubicBezTo>
                    <a:cubicBezTo>
                      <a:pt x="7247" y="5"/>
                      <a:pt x="7246" y="6"/>
                      <a:pt x="7245" y="6"/>
                    </a:cubicBezTo>
                    <a:lnTo>
                      <a:pt x="7245" y="6"/>
                    </a:lnTo>
                    <a:cubicBezTo>
                      <a:pt x="7244" y="6"/>
                      <a:pt x="7243" y="5"/>
                      <a:pt x="7243" y="4"/>
                    </a:cubicBezTo>
                    <a:cubicBezTo>
                      <a:pt x="7243" y="3"/>
                      <a:pt x="7244" y="2"/>
                      <a:pt x="7245" y="2"/>
                    </a:cubicBezTo>
                    <a:close/>
                    <a:moveTo>
                      <a:pt x="7253" y="2"/>
                    </a:moveTo>
                    <a:lnTo>
                      <a:pt x="7253" y="2"/>
                    </a:lnTo>
                    <a:cubicBezTo>
                      <a:pt x="7254" y="2"/>
                      <a:pt x="7255" y="3"/>
                      <a:pt x="7255" y="4"/>
                    </a:cubicBezTo>
                    <a:cubicBezTo>
                      <a:pt x="7255" y="5"/>
                      <a:pt x="7254" y="6"/>
                      <a:pt x="7253" y="6"/>
                    </a:cubicBezTo>
                    <a:lnTo>
                      <a:pt x="7253" y="6"/>
                    </a:lnTo>
                    <a:cubicBezTo>
                      <a:pt x="7252" y="6"/>
                      <a:pt x="7251" y="5"/>
                      <a:pt x="7251" y="4"/>
                    </a:cubicBezTo>
                    <a:cubicBezTo>
                      <a:pt x="7251" y="3"/>
                      <a:pt x="7252" y="2"/>
                      <a:pt x="7253" y="2"/>
                    </a:cubicBezTo>
                    <a:close/>
                    <a:moveTo>
                      <a:pt x="7261" y="2"/>
                    </a:moveTo>
                    <a:lnTo>
                      <a:pt x="7261" y="2"/>
                    </a:lnTo>
                    <a:cubicBezTo>
                      <a:pt x="7262" y="2"/>
                      <a:pt x="7263" y="3"/>
                      <a:pt x="7263" y="4"/>
                    </a:cubicBezTo>
                    <a:cubicBezTo>
                      <a:pt x="7263" y="5"/>
                      <a:pt x="7262" y="6"/>
                      <a:pt x="7261" y="6"/>
                    </a:cubicBezTo>
                    <a:lnTo>
                      <a:pt x="7261" y="6"/>
                    </a:lnTo>
                    <a:cubicBezTo>
                      <a:pt x="7260" y="6"/>
                      <a:pt x="7259" y="5"/>
                      <a:pt x="7259" y="4"/>
                    </a:cubicBezTo>
                    <a:cubicBezTo>
                      <a:pt x="7259" y="3"/>
                      <a:pt x="7260" y="2"/>
                      <a:pt x="7261" y="2"/>
                    </a:cubicBezTo>
                    <a:close/>
                    <a:moveTo>
                      <a:pt x="7269" y="2"/>
                    </a:moveTo>
                    <a:lnTo>
                      <a:pt x="7269" y="2"/>
                    </a:lnTo>
                    <a:cubicBezTo>
                      <a:pt x="7270" y="2"/>
                      <a:pt x="7271" y="3"/>
                      <a:pt x="7271" y="4"/>
                    </a:cubicBezTo>
                    <a:cubicBezTo>
                      <a:pt x="7271" y="5"/>
                      <a:pt x="7270" y="6"/>
                      <a:pt x="7269" y="6"/>
                    </a:cubicBezTo>
                    <a:lnTo>
                      <a:pt x="7269" y="6"/>
                    </a:lnTo>
                    <a:cubicBezTo>
                      <a:pt x="7268" y="6"/>
                      <a:pt x="7267" y="5"/>
                      <a:pt x="7267" y="4"/>
                    </a:cubicBezTo>
                    <a:cubicBezTo>
                      <a:pt x="7267" y="3"/>
                      <a:pt x="7268" y="2"/>
                      <a:pt x="7269" y="2"/>
                    </a:cubicBezTo>
                    <a:close/>
                    <a:moveTo>
                      <a:pt x="7277" y="2"/>
                    </a:moveTo>
                    <a:lnTo>
                      <a:pt x="7277" y="2"/>
                    </a:lnTo>
                    <a:cubicBezTo>
                      <a:pt x="7278" y="2"/>
                      <a:pt x="7279" y="3"/>
                      <a:pt x="7279" y="4"/>
                    </a:cubicBezTo>
                    <a:cubicBezTo>
                      <a:pt x="7279" y="5"/>
                      <a:pt x="7278" y="6"/>
                      <a:pt x="7277" y="6"/>
                    </a:cubicBezTo>
                    <a:lnTo>
                      <a:pt x="7277" y="6"/>
                    </a:lnTo>
                    <a:cubicBezTo>
                      <a:pt x="7276" y="6"/>
                      <a:pt x="7275" y="5"/>
                      <a:pt x="7275" y="4"/>
                    </a:cubicBezTo>
                    <a:cubicBezTo>
                      <a:pt x="7275" y="3"/>
                      <a:pt x="7276" y="2"/>
                      <a:pt x="7277" y="2"/>
                    </a:cubicBezTo>
                    <a:close/>
                    <a:moveTo>
                      <a:pt x="7285" y="2"/>
                    </a:moveTo>
                    <a:lnTo>
                      <a:pt x="7285" y="2"/>
                    </a:lnTo>
                    <a:cubicBezTo>
                      <a:pt x="7286" y="2"/>
                      <a:pt x="7287" y="3"/>
                      <a:pt x="7287" y="4"/>
                    </a:cubicBezTo>
                    <a:cubicBezTo>
                      <a:pt x="7287" y="5"/>
                      <a:pt x="7286" y="6"/>
                      <a:pt x="7285" y="6"/>
                    </a:cubicBezTo>
                    <a:lnTo>
                      <a:pt x="7285" y="6"/>
                    </a:lnTo>
                    <a:cubicBezTo>
                      <a:pt x="7284" y="6"/>
                      <a:pt x="7283" y="5"/>
                      <a:pt x="7283" y="4"/>
                    </a:cubicBezTo>
                    <a:cubicBezTo>
                      <a:pt x="7283" y="3"/>
                      <a:pt x="7284" y="2"/>
                      <a:pt x="7285" y="2"/>
                    </a:cubicBezTo>
                    <a:close/>
                    <a:moveTo>
                      <a:pt x="7293" y="2"/>
                    </a:moveTo>
                    <a:lnTo>
                      <a:pt x="7293" y="2"/>
                    </a:lnTo>
                    <a:cubicBezTo>
                      <a:pt x="7294" y="2"/>
                      <a:pt x="7295" y="3"/>
                      <a:pt x="7295" y="4"/>
                    </a:cubicBezTo>
                    <a:cubicBezTo>
                      <a:pt x="7295" y="5"/>
                      <a:pt x="7294" y="6"/>
                      <a:pt x="7293" y="6"/>
                    </a:cubicBezTo>
                    <a:lnTo>
                      <a:pt x="7293" y="6"/>
                    </a:lnTo>
                    <a:cubicBezTo>
                      <a:pt x="7292" y="6"/>
                      <a:pt x="7291" y="5"/>
                      <a:pt x="7291" y="4"/>
                    </a:cubicBezTo>
                    <a:cubicBezTo>
                      <a:pt x="7291" y="3"/>
                      <a:pt x="7292" y="2"/>
                      <a:pt x="7293" y="2"/>
                    </a:cubicBezTo>
                    <a:close/>
                    <a:moveTo>
                      <a:pt x="7301" y="2"/>
                    </a:moveTo>
                    <a:lnTo>
                      <a:pt x="7301" y="2"/>
                    </a:lnTo>
                    <a:cubicBezTo>
                      <a:pt x="7302" y="2"/>
                      <a:pt x="7303" y="3"/>
                      <a:pt x="7303" y="4"/>
                    </a:cubicBezTo>
                    <a:cubicBezTo>
                      <a:pt x="7303" y="5"/>
                      <a:pt x="7302" y="6"/>
                      <a:pt x="7301" y="6"/>
                    </a:cubicBezTo>
                    <a:lnTo>
                      <a:pt x="7301" y="6"/>
                    </a:lnTo>
                    <a:cubicBezTo>
                      <a:pt x="7300" y="6"/>
                      <a:pt x="7299" y="5"/>
                      <a:pt x="7299" y="4"/>
                    </a:cubicBezTo>
                    <a:cubicBezTo>
                      <a:pt x="7299" y="3"/>
                      <a:pt x="7300" y="2"/>
                      <a:pt x="7301" y="2"/>
                    </a:cubicBezTo>
                    <a:close/>
                    <a:moveTo>
                      <a:pt x="7309" y="2"/>
                    </a:moveTo>
                    <a:lnTo>
                      <a:pt x="7309" y="2"/>
                    </a:lnTo>
                    <a:cubicBezTo>
                      <a:pt x="7310" y="2"/>
                      <a:pt x="7311" y="3"/>
                      <a:pt x="7311" y="4"/>
                    </a:cubicBezTo>
                    <a:cubicBezTo>
                      <a:pt x="7311" y="5"/>
                      <a:pt x="7310" y="6"/>
                      <a:pt x="7309" y="6"/>
                    </a:cubicBezTo>
                    <a:lnTo>
                      <a:pt x="7309" y="6"/>
                    </a:lnTo>
                    <a:cubicBezTo>
                      <a:pt x="7308" y="6"/>
                      <a:pt x="7307" y="5"/>
                      <a:pt x="7307" y="4"/>
                    </a:cubicBezTo>
                    <a:cubicBezTo>
                      <a:pt x="7307" y="3"/>
                      <a:pt x="7308" y="2"/>
                      <a:pt x="7309" y="2"/>
                    </a:cubicBezTo>
                    <a:close/>
                    <a:moveTo>
                      <a:pt x="7317" y="2"/>
                    </a:moveTo>
                    <a:lnTo>
                      <a:pt x="7317" y="2"/>
                    </a:lnTo>
                    <a:cubicBezTo>
                      <a:pt x="7319" y="2"/>
                      <a:pt x="7319" y="3"/>
                      <a:pt x="7319" y="4"/>
                    </a:cubicBezTo>
                    <a:cubicBezTo>
                      <a:pt x="7319" y="5"/>
                      <a:pt x="7319" y="6"/>
                      <a:pt x="7317" y="6"/>
                    </a:cubicBezTo>
                    <a:lnTo>
                      <a:pt x="7317" y="6"/>
                    </a:lnTo>
                    <a:cubicBezTo>
                      <a:pt x="7316" y="6"/>
                      <a:pt x="7315" y="5"/>
                      <a:pt x="7315" y="4"/>
                    </a:cubicBezTo>
                    <a:cubicBezTo>
                      <a:pt x="7315" y="3"/>
                      <a:pt x="7316" y="2"/>
                      <a:pt x="7317" y="2"/>
                    </a:cubicBezTo>
                    <a:close/>
                    <a:moveTo>
                      <a:pt x="7325" y="2"/>
                    </a:moveTo>
                    <a:lnTo>
                      <a:pt x="7325" y="2"/>
                    </a:lnTo>
                    <a:cubicBezTo>
                      <a:pt x="7327" y="2"/>
                      <a:pt x="7327" y="3"/>
                      <a:pt x="7327" y="4"/>
                    </a:cubicBezTo>
                    <a:cubicBezTo>
                      <a:pt x="7327" y="5"/>
                      <a:pt x="7327" y="6"/>
                      <a:pt x="7325" y="6"/>
                    </a:cubicBezTo>
                    <a:lnTo>
                      <a:pt x="7325" y="6"/>
                    </a:lnTo>
                    <a:cubicBezTo>
                      <a:pt x="7324" y="6"/>
                      <a:pt x="7323" y="5"/>
                      <a:pt x="7323" y="4"/>
                    </a:cubicBezTo>
                    <a:cubicBezTo>
                      <a:pt x="7323" y="3"/>
                      <a:pt x="7324" y="2"/>
                      <a:pt x="7325" y="2"/>
                    </a:cubicBezTo>
                    <a:close/>
                    <a:moveTo>
                      <a:pt x="7333" y="2"/>
                    </a:moveTo>
                    <a:lnTo>
                      <a:pt x="7333" y="2"/>
                    </a:lnTo>
                    <a:cubicBezTo>
                      <a:pt x="7335" y="2"/>
                      <a:pt x="7335" y="3"/>
                      <a:pt x="7335" y="4"/>
                    </a:cubicBezTo>
                    <a:cubicBezTo>
                      <a:pt x="7335" y="5"/>
                      <a:pt x="7335" y="6"/>
                      <a:pt x="7333" y="6"/>
                    </a:cubicBezTo>
                    <a:lnTo>
                      <a:pt x="7333" y="6"/>
                    </a:lnTo>
                    <a:cubicBezTo>
                      <a:pt x="7332" y="6"/>
                      <a:pt x="7331" y="5"/>
                      <a:pt x="7331" y="4"/>
                    </a:cubicBezTo>
                    <a:cubicBezTo>
                      <a:pt x="7331" y="3"/>
                      <a:pt x="7332" y="2"/>
                      <a:pt x="7333" y="2"/>
                    </a:cubicBezTo>
                    <a:close/>
                    <a:moveTo>
                      <a:pt x="7341" y="2"/>
                    </a:moveTo>
                    <a:lnTo>
                      <a:pt x="7341" y="2"/>
                    </a:lnTo>
                    <a:cubicBezTo>
                      <a:pt x="7343" y="2"/>
                      <a:pt x="7343" y="3"/>
                      <a:pt x="7343" y="4"/>
                    </a:cubicBezTo>
                    <a:cubicBezTo>
                      <a:pt x="7343" y="5"/>
                      <a:pt x="7343" y="6"/>
                      <a:pt x="7341" y="6"/>
                    </a:cubicBezTo>
                    <a:lnTo>
                      <a:pt x="7341" y="6"/>
                    </a:lnTo>
                    <a:cubicBezTo>
                      <a:pt x="7340" y="6"/>
                      <a:pt x="7339" y="5"/>
                      <a:pt x="7339" y="4"/>
                    </a:cubicBezTo>
                    <a:cubicBezTo>
                      <a:pt x="7339" y="3"/>
                      <a:pt x="7340" y="2"/>
                      <a:pt x="7341" y="2"/>
                    </a:cubicBezTo>
                    <a:close/>
                    <a:moveTo>
                      <a:pt x="7349" y="2"/>
                    </a:moveTo>
                    <a:lnTo>
                      <a:pt x="7349" y="2"/>
                    </a:lnTo>
                    <a:cubicBezTo>
                      <a:pt x="7351" y="2"/>
                      <a:pt x="7351" y="3"/>
                      <a:pt x="7351" y="4"/>
                    </a:cubicBezTo>
                    <a:cubicBezTo>
                      <a:pt x="7351" y="5"/>
                      <a:pt x="7351" y="6"/>
                      <a:pt x="7349" y="6"/>
                    </a:cubicBezTo>
                    <a:lnTo>
                      <a:pt x="7349" y="6"/>
                    </a:lnTo>
                    <a:cubicBezTo>
                      <a:pt x="7348" y="6"/>
                      <a:pt x="7347" y="5"/>
                      <a:pt x="7347" y="4"/>
                    </a:cubicBezTo>
                    <a:cubicBezTo>
                      <a:pt x="7347" y="3"/>
                      <a:pt x="7348" y="2"/>
                      <a:pt x="7349" y="2"/>
                    </a:cubicBezTo>
                    <a:close/>
                    <a:moveTo>
                      <a:pt x="7357" y="2"/>
                    </a:moveTo>
                    <a:lnTo>
                      <a:pt x="7357" y="2"/>
                    </a:lnTo>
                    <a:cubicBezTo>
                      <a:pt x="7359" y="2"/>
                      <a:pt x="7359" y="3"/>
                      <a:pt x="7359" y="4"/>
                    </a:cubicBezTo>
                    <a:cubicBezTo>
                      <a:pt x="7359" y="5"/>
                      <a:pt x="7359" y="6"/>
                      <a:pt x="7357" y="6"/>
                    </a:cubicBezTo>
                    <a:lnTo>
                      <a:pt x="7357" y="6"/>
                    </a:lnTo>
                    <a:cubicBezTo>
                      <a:pt x="7356" y="6"/>
                      <a:pt x="7355" y="5"/>
                      <a:pt x="7355" y="4"/>
                    </a:cubicBezTo>
                    <a:cubicBezTo>
                      <a:pt x="7355" y="3"/>
                      <a:pt x="7356" y="2"/>
                      <a:pt x="7357" y="2"/>
                    </a:cubicBezTo>
                    <a:close/>
                    <a:moveTo>
                      <a:pt x="7365" y="2"/>
                    </a:moveTo>
                    <a:lnTo>
                      <a:pt x="7365" y="2"/>
                    </a:lnTo>
                    <a:cubicBezTo>
                      <a:pt x="7367" y="2"/>
                      <a:pt x="7367" y="3"/>
                      <a:pt x="7367" y="4"/>
                    </a:cubicBezTo>
                    <a:cubicBezTo>
                      <a:pt x="7367" y="5"/>
                      <a:pt x="7367" y="6"/>
                      <a:pt x="7365" y="6"/>
                    </a:cubicBezTo>
                    <a:lnTo>
                      <a:pt x="7365" y="6"/>
                    </a:lnTo>
                    <a:cubicBezTo>
                      <a:pt x="7364" y="6"/>
                      <a:pt x="7363" y="5"/>
                      <a:pt x="7363" y="4"/>
                    </a:cubicBezTo>
                    <a:cubicBezTo>
                      <a:pt x="7363" y="3"/>
                      <a:pt x="7364" y="2"/>
                      <a:pt x="7365" y="2"/>
                    </a:cubicBezTo>
                    <a:close/>
                    <a:moveTo>
                      <a:pt x="7373" y="2"/>
                    </a:moveTo>
                    <a:lnTo>
                      <a:pt x="7373" y="2"/>
                    </a:lnTo>
                    <a:cubicBezTo>
                      <a:pt x="7375" y="2"/>
                      <a:pt x="7375" y="3"/>
                      <a:pt x="7375" y="4"/>
                    </a:cubicBezTo>
                    <a:cubicBezTo>
                      <a:pt x="7375" y="5"/>
                      <a:pt x="7375" y="6"/>
                      <a:pt x="7373" y="6"/>
                    </a:cubicBezTo>
                    <a:lnTo>
                      <a:pt x="7373" y="6"/>
                    </a:lnTo>
                    <a:cubicBezTo>
                      <a:pt x="7372" y="6"/>
                      <a:pt x="7371" y="5"/>
                      <a:pt x="7371" y="4"/>
                    </a:cubicBezTo>
                    <a:cubicBezTo>
                      <a:pt x="7371" y="3"/>
                      <a:pt x="7372" y="2"/>
                      <a:pt x="7373" y="2"/>
                    </a:cubicBezTo>
                    <a:close/>
                    <a:moveTo>
                      <a:pt x="7381" y="2"/>
                    </a:moveTo>
                    <a:lnTo>
                      <a:pt x="7381" y="2"/>
                    </a:lnTo>
                    <a:cubicBezTo>
                      <a:pt x="7383" y="2"/>
                      <a:pt x="7383" y="3"/>
                      <a:pt x="7383" y="4"/>
                    </a:cubicBezTo>
                    <a:cubicBezTo>
                      <a:pt x="7383" y="5"/>
                      <a:pt x="7383" y="6"/>
                      <a:pt x="7381" y="6"/>
                    </a:cubicBezTo>
                    <a:lnTo>
                      <a:pt x="7381" y="6"/>
                    </a:lnTo>
                    <a:cubicBezTo>
                      <a:pt x="7380" y="6"/>
                      <a:pt x="7379" y="5"/>
                      <a:pt x="7379" y="4"/>
                    </a:cubicBezTo>
                    <a:cubicBezTo>
                      <a:pt x="7379" y="3"/>
                      <a:pt x="7380" y="2"/>
                      <a:pt x="7381" y="2"/>
                    </a:cubicBezTo>
                    <a:close/>
                    <a:moveTo>
                      <a:pt x="7389" y="2"/>
                    </a:moveTo>
                    <a:lnTo>
                      <a:pt x="7389" y="2"/>
                    </a:lnTo>
                    <a:cubicBezTo>
                      <a:pt x="7391" y="2"/>
                      <a:pt x="7391" y="3"/>
                      <a:pt x="7391" y="4"/>
                    </a:cubicBezTo>
                    <a:cubicBezTo>
                      <a:pt x="7391" y="5"/>
                      <a:pt x="7391" y="6"/>
                      <a:pt x="7389" y="6"/>
                    </a:cubicBezTo>
                    <a:lnTo>
                      <a:pt x="7389" y="6"/>
                    </a:lnTo>
                    <a:cubicBezTo>
                      <a:pt x="7388" y="6"/>
                      <a:pt x="7387" y="5"/>
                      <a:pt x="7387" y="4"/>
                    </a:cubicBezTo>
                    <a:cubicBezTo>
                      <a:pt x="7387" y="3"/>
                      <a:pt x="7388" y="2"/>
                      <a:pt x="7389" y="2"/>
                    </a:cubicBezTo>
                    <a:close/>
                    <a:moveTo>
                      <a:pt x="7397" y="2"/>
                    </a:moveTo>
                    <a:lnTo>
                      <a:pt x="7397" y="2"/>
                    </a:lnTo>
                    <a:cubicBezTo>
                      <a:pt x="7399" y="2"/>
                      <a:pt x="7399" y="3"/>
                      <a:pt x="7399" y="4"/>
                    </a:cubicBezTo>
                    <a:cubicBezTo>
                      <a:pt x="7399" y="5"/>
                      <a:pt x="7399" y="6"/>
                      <a:pt x="7397" y="6"/>
                    </a:cubicBezTo>
                    <a:lnTo>
                      <a:pt x="7397" y="6"/>
                    </a:lnTo>
                    <a:cubicBezTo>
                      <a:pt x="7396" y="6"/>
                      <a:pt x="7395" y="5"/>
                      <a:pt x="7395" y="4"/>
                    </a:cubicBezTo>
                    <a:cubicBezTo>
                      <a:pt x="7395" y="3"/>
                      <a:pt x="7396" y="2"/>
                      <a:pt x="7397" y="2"/>
                    </a:cubicBezTo>
                    <a:close/>
                    <a:moveTo>
                      <a:pt x="7405" y="2"/>
                    </a:moveTo>
                    <a:lnTo>
                      <a:pt x="7405" y="2"/>
                    </a:lnTo>
                    <a:cubicBezTo>
                      <a:pt x="7407" y="2"/>
                      <a:pt x="7407" y="3"/>
                      <a:pt x="7407" y="4"/>
                    </a:cubicBezTo>
                    <a:cubicBezTo>
                      <a:pt x="7407" y="5"/>
                      <a:pt x="7407" y="6"/>
                      <a:pt x="7405" y="6"/>
                    </a:cubicBezTo>
                    <a:lnTo>
                      <a:pt x="7405" y="6"/>
                    </a:lnTo>
                    <a:cubicBezTo>
                      <a:pt x="7404" y="6"/>
                      <a:pt x="7403" y="5"/>
                      <a:pt x="7403" y="4"/>
                    </a:cubicBezTo>
                    <a:cubicBezTo>
                      <a:pt x="7403" y="3"/>
                      <a:pt x="7404" y="2"/>
                      <a:pt x="7405" y="2"/>
                    </a:cubicBezTo>
                    <a:close/>
                    <a:moveTo>
                      <a:pt x="7413" y="2"/>
                    </a:moveTo>
                    <a:lnTo>
                      <a:pt x="7413" y="2"/>
                    </a:lnTo>
                    <a:cubicBezTo>
                      <a:pt x="7415" y="2"/>
                      <a:pt x="7415" y="3"/>
                      <a:pt x="7415" y="4"/>
                    </a:cubicBezTo>
                    <a:cubicBezTo>
                      <a:pt x="7415" y="5"/>
                      <a:pt x="7415" y="6"/>
                      <a:pt x="7413" y="6"/>
                    </a:cubicBezTo>
                    <a:lnTo>
                      <a:pt x="7413" y="6"/>
                    </a:lnTo>
                    <a:cubicBezTo>
                      <a:pt x="7412" y="6"/>
                      <a:pt x="7411" y="5"/>
                      <a:pt x="7411" y="4"/>
                    </a:cubicBezTo>
                    <a:cubicBezTo>
                      <a:pt x="7411" y="3"/>
                      <a:pt x="7412" y="2"/>
                      <a:pt x="7413" y="2"/>
                    </a:cubicBezTo>
                    <a:close/>
                    <a:moveTo>
                      <a:pt x="7421" y="2"/>
                    </a:moveTo>
                    <a:lnTo>
                      <a:pt x="7421" y="2"/>
                    </a:lnTo>
                    <a:cubicBezTo>
                      <a:pt x="7423" y="2"/>
                      <a:pt x="7423" y="3"/>
                      <a:pt x="7423" y="4"/>
                    </a:cubicBezTo>
                    <a:cubicBezTo>
                      <a:pt x="7423" y="5"/>
                      <a:pt x="7423" y="6"/>
                      <a:pt x="7421" y="6"/>
                    </a:cubicBezTo>
                    <a:lnTo>
                      <a:pt x="7421" y="6"/>
                    </a:lnTo>
                    <a:cubicBezTo>
                      <a:pt x="7420" y="6"/>
                      <a:pt x="7419" y="5"/>
                      <a:pt x="7419" y="4"/>
                    </a:cubicBezTo>
                    <a:cubicBezTo>
                      <a:pt x="7419" y="3"/>
                      <a:pt x="7420" y="2"/>
                      <a:pt x="7421" y="2"/>
                    </a:cubicBezTo>
                    <a:close/>
                    <a:moveTo>
                      <a:pt x="7429" y="2"/>
                    </a:moveTo>
                    <a:lnTo>
                      <a:pt x="7429" y="2"/>
                    </a:lnTo>
                    <a:cubicBezTo>
                      <a:pt x="7431" y="2"/>
                      <a:pt x="7431" y="3"/>
                      <a:pt x="7431" y="4"/>
                    </a:cubicBezTo>
                    <a:cubicBezTo>
                      <a:pt x="7431" y="5"/>
                      <a:pt x="7431" y="6"/>
                      <a:pt x="7429" y="6"/>
                    </a:cubicBezTo>
                    <a:lnTo>
                      <a:pt x="7429" y="6"/>
                    </a:lnTo>
                    <a:cubicBezTo>
                      <a:pt x="7428" y="6"/>
                      <a:pt x="7427" y="5"/>
                      <a:pt x="7427" y="4"/>
                    </a:cubicBezTo>
                    <a:cubicBezTo>
                      <a:pt x="7427" y="3"/>
                      <a:pt x="7428" y="2"/>
                      <a:pt x="7429" y="2"/>
                    </a:cubicBezTo>
                    <a:close/>
                    <a:moveTo>
                      <a:pt x="7437" y="2"/>
                    </a:moveTo>
                    <a:lnTo>
                      <a:pt x="7437" y="2"/>
                    </a:lnTo>
                    <a:cubicBezTo>
                      <a:pt x="7439" y="2"/>
                      <a:pt x="7439" y="3"/>
                      <a:pt x="7439" y="4"/>
                    </a:cubicBezTo>
                    <a:cubicBezTo>
                      <a:pt x="7439" y="5"/>
                      <a:pt x="7439" y="6"/>
                      <a:pt x="7437" y="6"/>
                    </a:cubicBezTo>
                    <a:lnTo>
                      <a:pt x="7437" y="6"/>
                    </a:lnTo>
                    <a:cubicBezTo>
                      <a:pt x="7436" y="6"/>
                      <a:pt x="7435" y="5"/>
                      <a:pt x="7435" y="4"/>
                    </a:cubicBezTo>
                    <a:cubicBezTo>
                      <a:pt x="7435" y="3"/>
                      <a:pt x="7436" y="2"/>
                      <a:pt x="7437" y="2"/>
                    </a:cubicBezTo>
                    <a:close/>
                    <a:moveTo>
                      <a:pt x="7445" y="2"/>
                    </a:moveTo>
                    <a:lnTo>
                      <a:pt x="7445" y="2"/>
                    </a:lnTo>
                    <a:cubicBezTo>
                      <a:pt x="7447" y="2"/>
                      <a:pt x="7447" y="3"/>
                      <a:pt x="7447" y="4"/>
                    </a:cubicBezTo>
                    <a:cubicBezTo>
                      <a:pt x="7447" y="5"/>
                      <a:pt x="7447" y="6"/>
                      <a:pt x="7445" y="6"/>
                    </a:cubicBezTo>
                    <a:lnTo>
                      <a:pt x="7445" y="6"/>
                    </a:lnTo>
                    <a:cubicBezTo>
                      <a:pt x="7444" y="6"/>
                      <a:pt x="7443" y="5"/>
                      <a:pt x="7443" y="4"/>
                    </a:cubicBezTo>
                    <a:cubicBezTo>
                      <a:pt x="7443" y="3"/>
                      <a:pt x="7444" y="2"/>
                      <a:pt x="7445" y="2"/>
                    </a:cubicBezTo>
                    <a:close/>
                    <a:moveTo>
                      <a:pt x="7453" y="2"/>
                    </a:moveTo>
                    <a:lnTo>
                      <a:pt x="7453" y="2"/>
                    </a:lnTo>
                    <a:cubicBezTo>
                      <a:pt x="7455" y="2"/>
                      <a:pt x="7455" y="3"/>
                      <a:pt x="7455" y="4"/>
                    </a:cubicBezTo>
                    <a:cubicBezTo>
                      <a:pt x="7455" y="5"/>
                      <a:pt x="7455" y="6"/>
                      <a:pt x="7453" y="6"/>
                    </a:cubicBezTo>
                    <a:lnTo>
                      <a:pt x="7453" y="6"/>
                    </a:lnTo>
                    <a:cubicBezTo>
                      <a:pt x="7452" y="6"/>
                      <a:pt x="7451" y="5"/>
                      <a:pt x="7451" y="4"/>
                    </a:cubicBezTo>
                    <a:cubicBezTo>
                      <a:pt x="7451" y="3"/>
                      <a:pt x="7452" y="2"/>
                      <a:pt x="7453" y="2"/>
                    </a:cubicBezTo>
                    <a:close/>
                    <a:moveTo>
                      <a:pt x="7461" y="2"/>
                    </a:moveTo>
                    <a:lnTo>
                      <a:pt x="7461" y="2"/>
                    </a:lnTo>
                    <a:cubicBezTo>
                      <a:pt x="7463" y="2"/>
                      <a:pt x="7463" y="3"/>
                      <a:pt x="7463" y="4"/>
                    </a:cubicBezTo>
                    <a:cubicBezTo>
                      <a:pt x="7463" y="5"/>
                      <a:pt x="7463" y="6"/>
                      <a:pt x="7461" y="6"/>
                    </a:cubicBezTo>
                    <a:lnTo>
                      <a:pt x="7461" y="6"/>
                    </a:lnTo>
                    <a:cubicBezTo>
                      <a:pt x="7460" y="6"/>
                      <a:pt x="7459" y="5"/>
                      <a:pt x="7459" y="4"/>
                    </a:cubicBezTo>
                    <a:cubicBezTo>
                      <a:pt x="7459" y="3"/>
                      <a:pt x="7460" y="2"/>
                      <a:pt x="7461" y="2"/>
                    </a:cubicBezTo>
                    <a:close/>
                    <a:moveTo>
                      <a:pt x="7469" y="2"/>
                    </a:moveTo>
                    <a:lnTo>
                      <a:pt x="7469" y="2"/>
                    </a:lnTo>
                    <a:cubicBezTo>
                      <a:pt x="7471" y="2"/>
                      <a:pt x="7471" y="3"/>
                      <a:pt x="7471" y="4"/>
                    </a:cubicBezTo>
                    <a:cubicBezTo>
                      <a:pt x="7471" y="5"/>
                      <a:pt x="7471" y="6"/>
                      <a:pt x="7469" y="6"/>
                    </a:cubicBezTo>
                    <a:lnTo>
                      <a:pt x="7469" y="6"/>
                    </a:lnTo>
                    <a:cubicBezTo>
                      <a:pt x="7468" y="6"/>
                      <a:pt x="7467" y="5"/>
                      <a:pt x="7467" y="4"/>
                    </a:cubicBezTo>
                    <a:cubicBezTo>
                      <a:pt x="7467" y="3"/>
                      <a:pt x="7468" y="2"/>
                      <a:pt x="7469" y="2"/>
                    </a:cubicBezTo>
                    <a:close/>
                    <a:moveTo>
                      <a:pt x="7477" y="2"/>
                    </a:moveTo>
                    <a:lnTo>
                      <a:pt x="7477" y="2"/>
                    </a:lnTo>
                    <a:cubicBezTo>
                      <a:pt x="7479" y="2"/>
                      <a:pt x="7479" y="3"/>
                      <a:pt x="7479" y="4"/>
                    </a:cubicBezTo>
                    <a:cubicBezTo>
                      <a:pt x="7479" y="5"/>
                      <a:pt x="7479" y="6"/>
                      <a:pt x="7477" y="6"/>
                    </a:cubicBezTo>
                    <a:lnTo>
                      <a:pt x="7477" y="6"/>
                    </a:lnTo>
                    <a:cubicBezTo>
                      <a:pt x="7476" y="6"/>
                      <a:pt x="7475" y="5"/>
                      <a:pt x="7475" y="4"/>
                    </a:cubicBezTo>
                    <a:cubicBezTo>
                      <a:pt x="7475" y="3"/>
                      <a:pt x="7476" y="2"/>
                      <a:pt x="7477" y="2"/>
                    </a:cubicBezTo>
                    <a:close/>
                    <a:moveTo>
                      <a:pt x="7485" y="2"/>
                    </a:moveTo>
                    <a:lnTo>
                      <a:pt x="7485" y="2"/>
                    </a:lnTo>
                    <a:cubicBezTo>
                      <a:pt x="7487" y="2"/>
                      <a:pt x="7487" y="3"/>
                      <a:pt x="7487" y="4"/>
                    </a:cubicBezTo>
                    <a:cubicBezTo>
                      <a:pt x="7487" y="5"/>
                      <a:pt x="7487" y="6"/>
                      <a:pt x="7485" y="6"/>
                    </a:cubicBezTo>
                    <a:lnTo>
                      <a:pt x="7485" y="6"/>
                    </a:lnTo>
                    <a:cubicBezTo>
                      <a:pt x="7484" y="6"/>
                      <a:pt x="7483" y="5"/>
                      <a:pt x="7483" y="4"/>
                    </a:cubicBezTo>
                    <a:cubicBezTo>
                      <a:pt x="7483" y="3"/>
                      <a:pt x="7484" y="2"/>
                      <a:pt x="7485" y="2"/>
                    </a:cubicBezTo>
                    <a:close/>
                    <a:moveTo>
                      <a:pt x="7493" y="2"/>
                    </a:moveTo>
                    <a:lnTo>
                      <a:pt x="7493" y="2"/>
                    </a:lnTo>
                    <a:cubicBezTo>
                      <a:pt x="7495" y="2"/>
                      <a:pt x="7495" y="3"/>
                      <a:pt x="7495" y="4"/>
                    </a:cubicBezTo>
                    <a:cubicBezTo>
                      <a:pt x="7495" y="5"/>
                      <a:pt x="7495" y="6"/>
                      <a:pt x="7493" y="6"/>
                    </a:cubicBezTo>
                    <a:lnTo>
                      <a:pt x="7493" y="6"/>
                    </a:lnTo>
                    <a:cubicBezTo>
                      <a:pt x="7492" y="6"/>
                      <a:pt x="7491" y="5"/>
                      <a:pt x="7491" y="4"/>
                    </a:cubicBezTo>
                    <a:cubicBezTo>
                      <a:pt x="7491" y="3"/>
                      <a:pt x="7492" y="2"/>
                      <a:pt x="7493" y="2"/>
                    </a:cubicBezTo>
                    <a:close/>
                    <a:moveTo>
                      <a:pt x="7501" y="2"/>
                    </a:moveTo>
                    <a:lnTo>
                      <a:pt x="7501" y="2"/>
                    </a:lnTo>
                    <a:cubicBezTo>
                      <a:pt x="7503" y="2"/>
                      <a:pt x="7503" y="3"/>
                      <a:pt x="7503" y="4"/>
                    </a:cubicBezTo>
                    <a:cubicBezTo>
                      <a:pt x="7503" y="5"/>
                      <a:pt x="7503" y="6"/>
                      <a:pt x="7501" y="6"/>
                    </a:cubicBezTo>
                    <a:lnTo>
                      <a:pt x="7501" y="6"/>
                    </a:lnTo>
                    <a:cubicBezTo>
                      <a:pt x="7500" y="6"/>
                      <a:pt x="7499" y="5"/>
                      <a:pt x="7499" y="4"/>
                    </a:cubicBezTo>
                    <a:cubicBezTo>
                      <a:pt x="7499" y="3"/>
                      <a:pt x="7500" y="2"/>
                      <a:pt x="7501" y="2"/>
                    </a:cubicBezTo>
                    <a:close/>
                    <a:moveTo>
                      <a:pt x="7509" y="2"/>
                    </a:moveTo>
                    <a:lnTo>
                      <a:pt x="7509" y="2"/>
                    </a:lnTo>
                    <a:cubicBezTo>
                      <a:pt x="7511" y="2"/>
                      <a:pt x="7511" y="3"/>
                      <a:pt x="7511" y="4"/>
                    </a:cubicBezTo>
                    <a:cubicBezTo>
                      <a:pt x="7511" y="5"/>
                      <a:pt x="7511" y="6"/>
                      <a:pt x="7509" y="6"/>
                    </a:cubicBezTo>
                    <a:lnTo>
                      <a:pt x="7509" y="6"/>
                    </a:lnTo>
                    <a:cubicBezTo>
                      <a:pt x="7508" y="6"/>
                      <a:pt x="7507" y="5"/>
                      <a:pt x="7507" y="4"/>
                    </a:cubicBezTo>
                    <a:cubicBezTo>
                      <a:pt x="7507" y="3"/>
                      <a:pt x="7508" y="2"/>
                      <a:pt x="7509" y="2"/>
                    </a:cubicBezTo>
                    <a:close/>
                    <a:moveTo>
                      <a:pt x="7517" y="2"/>
                    </a:moveTo>
                    <a:lnTo>
                      <a:pt x="7517" y="2"/>
                    </a:lnTo>
                    <a:cubicBezTo>
                      <a:pt x="7519" y="2"/>
                      <a:pt x="7519" y="3"/>
                      <a:pt x="7519" y="4"/>
                    </a:cubicBezTo>
                    <a:cubicBezTo>
                      <a:pt x="7519" y="5"/>
                      <a:pt x="7519" y="6"/>
                      <a:pt x="7517" y="6"/>
                    </a:cubicBezTo>
                    <a:lnTo>
                      <a:pt x="7517" y="6"/>
                    </a:lnTo>
                    <a:cubicBezTo>
                      <a:pt x="7516" y="6"/>
                      <a:pt x="7515" y="5"/>
                      <a:pt x="7515" y="4"/>
                    </a:cubicBezTo>
                    <a:cubicBezTo>
                      <a:pt x="7515" y="3"/>
                      <a:pt x="7516" y="2"/>
                      <a:pt x="7517" y="2"/>
                    </a:cubicBezTo>
                    <a:close/>
                    <a:moveTo>
                      <a:pt x="7525" y="2"/>
                    </a:moveTo>
                    <a:lnTo>
                      <a:pt x="7525" y="2"/>
                    </a:lnTo>
                    <a:cubicBezTo>
                      <a:pt x="7527" y="2"/>
                      <a:pt x="7527" y="3"/>
                      <a:pt x="7527" y="4"/>
                    </a:cubicBezTo>
                    <a:cubicBezTo>
                      <a:pt x="7527" y="5"/>
                      <a:pt x="7527" y="6"/>
                      <a:pt x="7525" y="6"/>
                    </a:cubicBezTo>
                    <a:lnTo>
                      <a:pt x="7525" y="6"/>
                    </a:lnTo>
                    <a:cubicBezTo>
                      <a:pt x="7524" y="6"/>
                      <a:pt x="7523" y="5"/>
                      <a:pt x="7523" y="4"/>
                    </a:cubicBezTo>
                    <a:cubicBezTo>
                      <a:pt x="7523" y="3"/>
                      <a:pt x="7524" y="2"/>
                      <a:pt x="7525" y="2"/>
                    </a:cubicBezTo>
                    <a:close/>
                    <a:moveTo>
                      <a:pt x="7533" y="2"/>
                    </a:moveTo>
                    <a:lnTo>
                      <a:pt x="7534" y="2"/>
                    </a:lnTo>
                    <a:cubicBezTo>
                      <a:pt x="7535" y="2"/>
                      <a:pt x="7536" y="3"/>
                      <a:pt x="7536" y="4"/>
                    </a:cubicBezTo>
                    <a:cubicBezTo>
                      <a:pt x="7536" y="5"/>
                      <a:pt x="7535" y="6"/>
                      <a:pt x="7534" y="6"/>
                    </a:cubicBezTo>
                    <a:lnTo>
                      <a:pt x="7533" y="6"/>
                    </a:lnTo>
                    <a:cubicBezTo>
                      <a:pt x="7532" y="6"/>
                      <a:pt x="7531" y="5"/>
                      <a:pt x="7531" y="4"/>
                    </a:cubicBezTo>
                    <a:cubicBezTo>
                      <a:pt x="7531" y="3"/>
                      <a:pt x="7532" y="2"/>
                      <a:pt x="7533" y="2"/>
                    </a:cubicBezTo>
                    <a:close/>
                    <a:moveTo>
                      <a:pt x="7542" y="2"/>
                    </a:moveTo>
                    <a:lnTo>
                      <a:pt x="7542" y="2"/>
                    </a:lnTo>
                    <a:cubicBezTo>
                      <a:pt x="7543" y="2"/>
                      <a:pt x="7544" y="3"/>
                      <a:pt x="7544" y="4"/>
                    </a:cubicBezTo>
                    <a:cubicBezTo>
                      <a:pt x="7544" y="5"/>
                      <a:pt x="7543" y="6"/>
                      <a:pt x="7542" y="6"/>
                    </a:cubicBezTo>
                    <a:lnTo>
                      <a:pt x="7542" y="6"/>
                    </a:lnTo>
                    <a:cubicBezTo>
                      <a:pt x="7540" y="6"/>
                      <a:pt x="7540" y="5"/>
                      <a:pt x="7540" y="4"/>
                    </a:cubicBezTo>
                    <a:cubicBezTo>
                      <a:pt x="7540" y="3"/>
                      <a:pt x="7540" y="2"/>
                      <a:pt x="7542" y="2"/>
                    </a:cubicBezTo>
                    <a:close/>
                    <a:moveTo>
                      <a:pt x="7550" y="2"/>
                    </a:moveTo>
                    <a:lnTo>
                      <a:pt x="7550" y="2"/>
                    </a:lnTo>
                    <a:cubicBezTo>
                      <a:pt x="7551" y="2"/>
                      <a:pt x="7552" y="3"/>
                      <a:pt x="7552" y="4"/>
                    </a:cubicBezTo>
                    <a:cubicBezTo>
                      <a:pt x="7552" y="5"/>
                      <a:pt x="7551" y="6"/>
                      <a:pt x="7550" y="6"/>
                    </a:cubicBezTo>
                    <a:lnTo>
                      <a:pt x="7550" y="6"/>
                    </a:lnTo>
                    <a:cubicBezTo>
                      <a:pt x="7548" y="6"/>
                      <a:pt x="7548" y="5"/>
                      <a:pt x="7548" y="4"/>
                    </a:cubicBezTo>
                    <a:cubicBezTo>
                      <a:pt x="7548" y="3"/>
                      <a:pt x="7548" y="2"/>
                      <a:pt x="7550" y="2"/>
                    </a:cubicBezTo>
                    <a:close/>
                    <a:moveTo>
                      <a:pt x="7558" y="2"/>
                    </a:moveTo>
                    <a:lnTo>
                      <a:pt x="7558" y="2"/>
                    </a:lnTo>
                    <a:cubicBezTo>
                      <a:pt x="7559" y="2"/>
                      <a:pt x="7560" y="3"/>
                      <a:pt x="7560" y="4"/>
                    </a:cubicBezTo>
                    <a:cubicBezTo>
                      <a:pt x="7560" y="5"/>
                      <a:pt x="7559" y="6"/>
                      <a:pt x="7558" y="6"/>
                    </a:cubicBezTo>
                    <a:lnTo>
                      <a:pt x="7558" y="6"/>
                    </a:lnTo>
                    <a:cubicBezTo>
                      <a:pt x="7556" y="6"/>
                      <a:pt x="7556" y="5"/>
                      <a:pt x="7556" y="4"/>
                    </a:cubicBezTo>
                    <a:cubicBezTo>
                      <a:pt x="7556" y="3"/>
                      <a:pt x="7556" y="2"/>
                      <a:pt x="7558" y="2"/>
                    </a:cubicBezTo>
                    <a:close/>
                    <a:moveTo>
                      <a:pt x="7566" y="2"/>
                    </a:moveTo>
                    <a:lnTo>
                      <a:pt x="7566" y="2"/>
                    </a:lnTo>
                    <a:cubicBezTo>
                      <a:pt x="7567" y="2"/>
                      <a:pt x="7568" y="3"/>
                      <a:pt x="7568" y="4"/>
                    </a:cubicBezTo>
                    <a:cubicBezTo>
                      <a:pt x="7568" y="5"/>
                      <a:pt x="7567" y="6"/>
                      <a:pt x="7566" y="6"/>
                    </a:cubicBezTo>
                    <a:lnTo>
                      <a:pt x="7566" y="6"/>
                    </a:lnTo>
                    <a:cubicBezTo>
                      <a:pt x="7564" y="6"/>
                      <a:pt x="7564" y="5"/>
                      <a:pt x="7564" y="4"/>
                    </a:cubicBezTo>
                    <a:cubicBezTo>
                      <a:pt x="7564" y="3"/>
                      <a:pt x="7564" y="2"/>
                      <a:pt x="7566" y="2"/>
                    </a:cubicBezTo>
                    <a:close/>
                    <a:moveTo>
                      <a:pt x="7574" y="2"/>
                    </a:moveTo>
                    <a:lnTo>
                      <a:pt x="7574" y="2"/>
                    </a:lnTo>
                    <a:cubicBezTo>
                      <a:pt x="7575" y="2"/>
                      <a:pt x="7576" y="3"/>
                      <a:pt x="7576" y="4"/>
                    </a:cubicBezTo>
                    <a:cubicBezTo>
                      <a:pt x="7576" y="5"/>
                      <a:pt x="7575" y="6"/>
                      <a:pt x="7574" y="6"/>
                    </a:cubicBezTo>
                    <a:lnTo>
                      <a:pt x="7574" y="6"/>
                    </a:lnTo>
                    <a:cubicBezTo>
                      <a:pt x="7572" y="6"/>
                      <a:pt x="7572" y="5"/>
                      <a:pt x="7572" y="4"/>
                    </a:cubicBezTo>
                    <a:cubicBezTo>
                      <a:pt x="7572" y="3"/>
                      <a:pt x="7572" y="2"/>
                      <a:pt x="7574" y="2"/>
                    </a:cubicBezTo>
                    <a:close/>
                    <a:moveTo>
                      <a:pt x="7582" y="2"/>
                    </a:moveTo>
                    <a:lnTo>
                      <a:pt x="7582" y="2"/>
                    </a:lnTo>
                    <a:cubicBezTo>
                      <a:pt x="7583" y="2"/>
                      <a:pt x="7584" y="3"/>
                      <a:pt x="7584" y="4"/>
                    </a:cubicBezTo>
                    <a:cubicBezTo>
                      <a:pt x="7584" y="5"/>
                      <a:pt x="7583" y="6"/>
                      <a:pt x="7582" y="6"/>
                    </a:cubicBezTo>
                    <a:lnTo>
                      <a:pt x="7582" y="6"/>
                    </a:lnTo>
                    <a:cubicBezTo>
                      <a:pt x="7580" y="6"/>
                      <a:pt x="7580" y="5"/>
                      <a:pt x="7580" y="4"/>
                    </a:cubicBezTo>
                    <a:cubicBezTo>
                      <a:pt x="7580" y="3"/>
                      <a:pt x="7580" y="2"/>
                      <a:pt x="7582" y="2"/>
                    </a:cubicBezTo>
                    <a:close/>
                    <a:moveTo>
                      <a:pt x="7590" y="2"/>
                    </a:moveTo>
                    <a:lnTo>
                      <a:pt x="7590" y="2"/>
                    </a:lnTo>
                    <a:cubicBezTo>
                      <a:pt x="7591" y="2"/>
                      <a:pt x="7592" y="3"/>
                      <a:pt x="7592" y="4"/>
                    </a:cubicBezTo>
                    <a:cubicBezTo>
                      <a:pt x="7592" y="5"/>
                      <a:pt x="7591" y="6"/>
                      <a:pt x="7590" y="6"/>
                    </a:cubicBezTo>
                    <a:lnTo>
                      <a:pt x="7590" y="6"/>
                    </a:lnTo>
                    <a:cubicBezTo>
                      <a:pt x="7588" y="6"/>
                      <a:pt x="7588" y="5"/>
                      <a:pt x="7588" y="4"/>
                    </a:cubicBezTo>
                    <a:cubicBezTo>
                      <a:pt x="7588" y="3"/>
                      <a:pt x="7588" y="2"/>
                      <a:pt x="7590" y="2"/>
                    </a:cubicBezTo>
                    <a:close/>
                    <a:moveTo>
                      <a:pt x="7598" y="2"/>
                    </a:moveTo>
                    <a:lnTo>
                      <a:pt x="7598" y="2"/>
                    </a:lnTo>
                    <a:cubicBezTo>
                      <a:pt x="7599" y="2"/>
                      <a:pt x="7600" y="3"/>
                      <a:pt x="7600" y="4"/>
                    </a:cubicBezTo>
                    <a:cubicBezTo>
                      <a:pt x="7600" y="5"/>
                      <a:pt x="7599" y="6"/>
                      <a:pt x="7598" y="6"/>
                    </a:cubicBezTo>
                    <a:lnTo>
                      <a:pt x="7598" y="6"/>
                    </a:lnTo>
                    <a:cubicBezTo>
                      <a:pt x="7596" y="6"/>
                      <a:pt x="7596" y="5"/>
                      <a:pt x="7596" y="4"/>
                    </a:cubicBezTo>
                    <a:cubicBezTo>
                      <a:pt x="7596" y="3"/>
                      <a:pt x="7596" y="2"/>
                      <a:pt x="7598" y="2"/>
                    </a:cubicBezTo>
                    <a:close/>
                    <a:moveTo>
                      <a:pt x="7606" y="2"/>
                    </a:moveTo>
                    <a:lnTo>
                      <a:pt x="7606" y="2"/>
                    </a:lnTo>
                    <a:cubicBezTo>
                      <a:pt x="7607" y="2"/>
                      <a:pt x="7608" y="3"/>
                      <a:pt x="7608" y="4"/>
                    </a:cubicBezTo>
                    <a:cubicBezTo>
                      <a:pt x="7608" y="5"/>
                      <a:pt x="7607" y="6"/>
                      <a:pt x="7606" y="6"/>
                    </a:cubicBezTo>
                    <a:lnTo>
                      <a:pt x="7606" y="6"/>
                    </a:lnTo>
                    <a:cubicBezTo>
                      <a:pt x="7604" y="6"/>
                      <a:pt x="7604" y="5"/>
                      <a:pt x="7604" y="4"/>
                    </a:cubicBezTo>
                    <a:cubicBezTo>
                      <a:pt x="7604" y="3"/>
                      <a:pt x="7604" y="2"/>
                      <a:pt x="7606" y="2"/>
                    </a:cubicBezTo>
                    <a:close/>
                    <a:moveTo>
                      <a:pt x="7614" y="2"/>
                    </a:moveTo>
                    <a:lnTo>
                      <a:pt x="7614" y="2"/>
                    </a:lnTo>
                    <a:cubicBezTo>
                      <a:pt x="7615" y="2"/>
                      <a:pt x="7616" y="3"/>
                      <a:pt x="7616" y="4"/>
                    </a:cubicBezTo>
                    <a:cubicBezTo>
                      <a:pt x="7616" y="5"/>
                      <a:pt x="7615" y="6"/>
                      <a:pt x="7614" y="6"/>
                    </a:cubicBezTo>
                    <a:lnTo>
                      <a:pt x="7614" y="6"/>
                    </a:lnTo>
                    <a:cubicBezTo>
                      <a:pt x="7612" y="6"/>
                      <a:pt x="7612" y="5"/>
                      <a:pt x="7612" y="4"/>
                    </a:cubicBezTo>
                    <a:cubicBezTo>
                      <a:pt x="7612" y="3"/>
                      <a:pt x="7612" y="2"/>
                      <a:pt x="7614" y="2"/>
                    </a:cubicBezTo>
                    <a:close/>
                    <a:moveTo>
                      <a:pt x="7622" y="2"/>
                    </a:moveTo>
                    <a:lnTo>
                      <a:pt x="7622" y="2"/>
                    </a:lnTo>
                    <a:cubicBezTo>
                      <a:pt x="7623" y="2"/>
                      <a:pt x="7624" y="3"/>
                      <a:pt x="7624" y="4"/>
                    </a:cubicBezTo>
                    <a:cubicBezTo>
                      <a:pt x="7624" y="5"/>
                      <a:pt x="7623" y="6"/>
                      <a:pt x="7622" y="6"/>
                    </a:cubicBezTo>
                    <a:lnTo>
                      <a:pt x="7622" y="6"/>
                    </a:lnTo>
                    <a:cubicBezTo>
                      <a:pt x="7620" y="6"/>
                      <a:pt x="7620" y="5"/>
                      <a:pt x="7620" y="4"/>
                    </a:cubicBezTo>
                    <a:cubicBezTo>
                      <a:pt x="7620" y="3"/>
                      <a:pt x="7620" y="2"/>
                      <a:pt x="7622" y="2"/>
                    </a:cubicBezTo>
                    <a:close/>
                    <a:moveTo>
                      <a:pt x="7630" y="2"/>
                    </a:moveTo>
                    <a:lnTo>
                      <a:pt x="7630" y="2"/>
                    </a:lnTo>
                    <a:cubicBezTo>
                      <a:pt x="7631" y="2"/>
                      <a:pt x="7632" y="3"/>
                      <a:pt x="7632" y="4"/>
                    </a:cubicBezTo>
                    <a:cubicBezTo>
                      <a:pt x="7632" y="5"/>
                      <a:pt x="7631" y="6"/>
                      <a:pt x="7630" y="6"/>
                    </a:cubicBezTo>
                    <a:lnTo>
                      <a:pt x="7630" y="6"/>
                    </a:lnTo>
                    <a:cubicBezTo>
                      <a:pt x="7628" y="6"/>
                      <a:pt x="7628" y="5"/>
                      <a:pt x="7628" y="4"/>
                    </a:cubicBezTo>
                    <a:cubicBezTo>
                      <a:pt x="7628" y="3"/>
                      <a:pt x="7628" y="2"/>
                      <a:pt x="7630" y="2"/>
                    </a:cubicBezTo>
                    <a:close/>
                    <a:moveTo>
                      <a:pt x="7638" y="2"/>
                    </a:moveTo>
                    <a:lnTo>
                      <a:pt x="7638" y="2"/>
                    </a:lnTo>
                    <a:cubicBezTo>
                      <a:pt x="7639" y="2"/>
                      <a:pt x="7640" y="3"/>
                      <a:pt x="7640" y="4"/>
                    </a:cubicBezTo>
                    <a:cubicBezTo>
                      <a:pt x="7640" y="5"/>
                      <a:pt x="7639" y="6"/>
                      <a:pt x="7638" y="6"/>
                    </a:cubicBezTo>
                    <a:lnTo>
                      <a:pt x="7638" y="6"/>
                    </a:lnTo>
                    <a:cubicBezTo>
                      <a:pt x="7636" y="6"/>
                      <a:pt x="7636" y="5"/>
                      <a:pt x="7636" y="4"/>
                    </a:cubicBezTo>
                    <a:cubicBezTo>
                      <a:pt x="7636" y="3"/>
                      <a:pt x="7636" y="2"/>
                      <a:pt x="7638" y="2"/>
                    </a:cubicBezTo>
                    <a:close/>
                    <a:moveTo>
                      <a:pt x="7646" y="2"/>
                    </a:moveTo>
                    <a:lnTo>
                      <a:pt x="7646" y="2"/>
                    </a:lnTo>
                    <a:cubicBezTo>
                      <a:pt x="7647" y="2"/>
                      <a:pt x="7648" y="3"/>
                      <a:pt x="7648" y="4"/>
                    </a:cubicBezTo>
                    <a:cubicBezTo>
                      <a:pt x="7648" y="5"/>
                      <a:pt x="7647" y="6"/>
                      <a:pt x="7646" y="6"/>
                    </a:cubicBezTo>
                    <a:lnTo>
                      <a:pt x="7646" y="6"/>
                    </a:lnTo>
                    <a:cubicBezTo>
                      <a:pt x="7644" y="6"/>
                      <a:pt x="7644" y="5"/>
                      <a:pt x="7644" y="4"/>
                    </a:cubicBezTo>
                    <a:cubicBezTo>
                      <a:pt x="7644" y="3"/>
                      <a:pt x="7644" y="2"/>
                      <a:pt x="7646" y="2"/>
                    </a:cubicBezTo>
                    <a:close/>
                    <a:moveTo>
                      <a:pt x="7654" y="2"/>
                    </a:moveTo>
                    <a:lnTo>
                      <a:pt x="7654" y="2"/>
                    </a:lnTo>
                    <a:cubicBezTo>
                      <a:pt x="7655" y="2"/>
                      <a:pt x="7656" y="3"/>
                      <a:pt x="7656" y="4"/>
                    </a:cubicBezTo>
                    <a:cubicBezTo>
                      <a:pt x="7656" y="5"/>
                      <a:pt x="7655" y="6"/>
                      <a:pt x="7654" y="6"/>
                    </a:cubicBezTo>
                    <a:lnTo>
                      <a:pt x="7654" y="6"/>
                    </a:lnTo>
                    <a:cubicBezTo>
                      <a:pt x="7652" y="6"/>
                      <a:pt x="7652" y="5"/>
                      <a:pt x="7652" y="4"/>
                    </a:cubicBezTo>
                    <a:cubicBezTo>
                      <a:pt x="7652" y="3"/>
                      <a:pt x="7652" y="2"/>
                      <a:pt x="7654" y="2"/>
                    </a:cubicBezTo>
                    <a:close/>
                    <a:moveTo>
                      <a:pt x="7662" y="2"/>
                    </a:moveTo>
                    <a:lnTo>
                      <a:pt x="7662" y="2"/>
                    </a:lnTo>
                    <a:cubicBezTo>
                      <a:pt x="7663" y="2"/>
                      <a:pt x="7664" y="3"/>
                      <a:pt x="7664" y="4"/>
                    </a:cubicBezTo>
                    <a:cubicBezTo>
                      <a:pt x="7664" y="5"/>
                      <a:pt x="7663" y="6"/>
                      <a:pt x="7662" y="6"/>
                    </a:cubicBezTo>
                    <a:lnTo>
                      <a:pt x="7662" y="6"/>
                    </a:lnTo>
                    <a:cubicBezTo>
                      <a:pt x="7660" y="6"/>
                      <a:pt x="7660" y="5"/>
                      <a:pt x="7660" y="4"/>
                    </a:cubicBezTo>
                    <a:cubicBezTo>
                      <a:pt x="7660" y="3"/>
                      <a:pt x="7660" y="2"/>
                      <a:pt x="7662" y="2"/>
                    </a:cubicBezTo>
                    <a:close/>
                    <a:moveTo>
                      <a:pt x="7670" y="2"/>
                    </a:moveTo>
                    <a:lnTo>
                      <a:pt x="7670" y="2"/>
                    </a:lnTo>
                    <a:cubicBezTo>
                      <a:pt x="7671" y="2"/>
                      <a:pt x="7672" y="3"/>
                      <a:pt x="7672" y="4"/>
                    </a:cubicBezTo>
                    <a:cubicBezTo>
                      <a:pt x="7672" y="5"/>
                      <a:pt x="7671" y="6"/>
                      <a:pt x="7670" y="6"/>
                    </a:cubicBezTo>
                    <a:lnTo>
                      <a:pt x="7670" y="6"/>
                    </a:lnTo>
                    <a:cubicBezTo>
                      <a:pt x="7668" y="6"/>
                      <a:pt x="7668" y="5"/>
                      <a:pt x="7668" y="4"/>
                    </a:cubicBezTo>
                    <a:cubicBezTo>
                      <a:pt x="7668" y="3"/>
                      <a:pt x="7668" y="2"/>
                      <a:pt x="7670" y="2"/>
                    </a:cubicBezTo>
                    <a:close/>
                    <a:moveTo>
                      <a:pt x="7678" y="2"/>
                    </a:moveTo>
                    <a:lnTo>
                      <a:pt x="7678" y="2"/>
                    </a:lnTo>
                    <a:cubicBezTo>
                      <a:pt x="7679" y="2"/>
                      <a:pt x="7680" y="3"/>
                      <a:pt x="7680" y="4"/>
                    </a:cubicBezTo>
                    <a:cubicBezTo>
                      <a:pt x="7680" y="5"/>
                      <a:pt x="7679" y="6"/>
                      <a:pt x="7678" y="6"/>
                    </a:cubicBezTo>
                    <a:lnTo>
                      <a:pt x="7678" y="6"/>
                    </a:lnTo>
                    <a:cubicBezTo>
                      <a:pt x="7676" y="6"/>
                      <a:pt x="7676" y="5"/>
                      <a:pt x="7676" y="4"/>
                    </a:cubicBezTo>
                    <a:cubicBezTo>
                      <a:pt x="7676" y="3"/>
                      <a:pt x="7676" y="2"/>
                      <a:pt x="7678" y="2"/>
                    </a:cubicBezTo>
                    <a:close/>
                    <a:moveTo>
                      <a:pt x="7686" y="2"/>
                    </a:moveTo>
                    <a:lnTo>
                      <a:pt x="7686" y="2"/>
                    </a:lnTo>
                    <a:cubicBezTo>
                      <a:pt x="7687" y="2"/>
                      <a:pt x="7688" y="3"/>
                      <a:pt x="7688" y="4"/>
                    </a:cubicBezTo>
                    <a:cubicBezTo>
                      <a:pt x="7688" y="5"/>
                      <a:pt x="7687" y="6"/>
                      <a:pt x="7686" y="6"/>
                    </a:cubicBezTo>
                    <a:lnTo>
                      <a:pt x="7686" y="6"/>
                    </a:lnTo>
                    <a:cubicBezTo>
                      <a:pt x="7684" y="6"/>
                      <a:pt x="7684" y="5"/>
                      <a:pt x="7684" y="4"/>
                    </a:cubicBezTo>
                    <a:cubicBezTo>
                      <a:pt x="7684" y="3"/>
                      <a:pt x="7684" y="2"/>
                      <a:pt x="7686" y="2"/>
                    </a:cubicBezTo>
                    <a:close/>
                    <a:moveTo>
                      <a:pt x="7694" y="2"/>
                    </a:moveTo>
                    <a:lnTo>
                      <a:pt x="7694" y="2"/>
                    </a:lnTo>
                    <a:cubicBezTo>
                      <a:pt x="7695" y="2"/>
                      <a:pt x="7696" y="3"/>
                      <a:pt x="7696" y="4"/>
                    </a:cubicBezTo>
                    <a:cubicBezTo>
                      <a:pt x="7696" y="5"/>
                      <a:pt x="7695" y="6"/>
                      <a:pt x="7694" y="6"/>
                    </a:cubicBezTo>
                    <a:lnTo>
                      <a:pt x="7694" y="6"/>
                    </a:lnTo>
                    <a:cubicBezTo>
                      <a:pt x="7692" y="6"/>
                      <a:pt x="7692" y="5"/>
                      <a:pt x="7692" y="4"/>
                    </a:cubicBezTo>
                    <a:cubicBezTo>
                      <a:pt x="7692" y="3"/>
                      <a:pt x="7692" y="2"/>
                      <a:pt x="7694" y="2"/>
                    </a:cubicBezTo>
                    <a:close/>
                    <a:moveTo>
                      <a:pt x="7702" y="2"/>
                    </a:moveTo>
                    <a:lnTo>
                      <a:pt x="7702" y="2"/>
                    </a:lnTo>
                    <a:cubicBezTo>
                      <a:pt x="7703" y="2"/>
                      <a:pt x="7704" y="3"/>
                      <a:pt x="7704" y="4"/>
                    </a:cubicBezTo>
                    <a:cubicBezTo>
                      <a:pt x="7704" y="5"/>
                      <a:pt x="7703" y="6"/>
                      <a:pt x="7702" y="6"/>
                    </a:cubicBezTo>
                    <a:lnTo>
                      <a:pt x="7702" y="6"/>
                    </a:lnTo>
                    <a:cubicBezTo>
                      <a:pt x="7700" y="6"/>
                      <a:pt x="7700" y="5"/>
                      <a:pt x="7700" y="4"/>
                    </a:cubicBezTo>
                    <a:cubicBezTo>
                      <a:pt x="7700" y="3"/>
                      <a:pt x="7700" y="2"/>
                      <a:pt x="7702" y="2"/>
                    </a:cubicBezTo>
                    <a:close/>
                    <a:moveTo>
                      <a:pt x="7710" y="2"/>
                    </a:moveTo>
                    <a:lnTo>
                      <a:pt x="7710" y="2"/>
                    </a:lnTo>
                    <a:cubicBezTo>
                      <a:pt x="7711" y="2"/>
                      <a:pt x="7712" y="3"/>
                      <a:pt x="7712" y="4"/>
                    </a:cubicBezTo>
                    <a:cubicBezTo>
                      <a:pt x="7712" y="5"/>
                      <a:pt x="7711" y="6"/>
                      <a:pt x="7710" y="6"/>
                    </a:cubicBezTo>
                    <a:lnTo>
                      <a:pt x="7710" y="6"/>
                    </a:lnTo>
                    <a:cubicBezTo>
                      <a:pt x="7708" y="6"/>
                      <a:pt x="7708" y="5"/>
                      <a:pt x="7708" y="4"/>
                    </a:cubicBezTo>
                    <a:cubicBezTo>
                      <a:pt x="7708" y="3"/>
                      <a:pt x="7708" y="2"/>
                      <a:pt x="7710" y="2"/>
                    </a:cubicBezTo>
                    <a:close/>
                    <a:moveTo>
                      <a:pt x="7718" y="2"/>
                    </a:moveTo>
                    <a:lnTo>
                      <a:pt x="7718" y="2"/>
                    </a:lnTo>
                    <a:cubicBezTo>
                      <a:pt x="7719" y="2"/>
                      <a:pt x="7720" y="3"/>
                      <a:pt x="7720" y="4"/>
                    </a:cubicBezTo>
                    <a:cubicBezTo>
                      <a:pt x="7720" y="5"/>
                      <a:pt x="7719" y="6"/>
                      <a:pt x="7718" y="6"/>
                    </a:cubicBezTo>
                    <a:lnTo>
                      <a:pt x="7718" y="6"/>
                    </a:lnTo>
                    <a:cubicBezTo>
                      <a:pt x="7716" y="6"/>
                      <a:pt x="7716" y="5"/>
                      <a:pt x="7716" y="4"/>
                    </a:cubicBezTo>
                    <a:cubicBezTo>
                      <a:pt x="7716" y="3"/>
                      <a:pt x="7716" y="2"/>
                      <a:pt x="7718" y="2"/>
                    </a:cubicBezTo>
                    <a:close/>
                    <a:moveTo>
                      <a:pt x="7726" y="2"/>
                    </a:moveTo>
                    <a:lnTo>
                      <a:pt x="7726" y="2"/>
                    </a:lnTo>
                    <a:cubicBezTo>
                      <a:pt x="7727" y="2"/>
                      <a:pt x="7728" y="3"/>
                      <a:pt x="7728" y="4"/>
                    </a:cubicBezTo>
                    <a:cubicBezTo>
                      <a:pt x="7728" y="5"/>
                      <a:pt x="7727" y="6"/>
                      <a:pt x="7726" y="6"/>
                    </a:cubicBezTo>
                    <a:lnTo>
                      <a:pt x="7726" y="6"/>
                    </a:lnTo>
                    <a:cubicBezTo>
                      <a:pt x="7724" y="6"/>
                      <a:pt x="7724" y="5"/>
                      <a:pt x="7724" y="4"/>
                    </a:cubicBezTo>
                    <a:cubicBezTo>
                      <a:pt x="7724" y="3"/>
                      <a:pt x="7724" y="2"/>
                      <a:pt x="7726" y="2"/>
                    </a:cubicBezTo>
                    <a:close/>
                    <a:moveTo>
                      <a:pt x="7734" y="2"/>
                    </a:moveTo>
                    <a:lnTo>
                      <a:pt x="7734" y="2"/>
                    </a:lnTo>
                    <a:cubicBezTo>
                      <a:pt x="7735" y="2"/>
                      <a:pt x="7736" y="3"/>
                      <a:pt x="7736" y="4"/>
                    </a:cubicBezTo>
                    <a:cubicBezTo>
                      <a:pt x="7736" y="5"/>
                      <a:pt x="7735" y="6"/>
                      <a:pt x="7734" y="6"/>
                    </a:cubicBezTo>
                    <a:lnTo>
                      <a:pt x="7734" y="6"/>
                    </a:lnTo>
                    <a:cubicBezTo>
                      <a:pt x="7732" y="6"/>
                      <a:pt x="7732" y="5"/>
                      <a:pt x="7732" y="4"/>
                    </a:cubicBezTo>
                    <a:cubicBezTo>
                      <a:pt x="7732" y="3"/>
                      <a:pt x="7732" y="2"/>
                      <a:pt x="7734" y="2"/>
                    </a:cubicBezTo>
                    <a:close/>
                    <a:moveTo>
                      <a:pt x="7742" y="2"/>
                    </a:moveTo>
                    <a:lnTo>
                      <a:pt x="7742" y="2"/>
                    </a:lnTo>
                    <a:cubicBezTo>
                      <a:pt x="7743" y="2"/>
                      <a:pt x="7744" y="3"/>
                      <a:pt x="7744" y="4"/>
                    </a:cubicBezTo>
                    <a:cubicBezTo>
                      <a:pt x="7744" y="5"/>
                      <a:pt x="7743" y="6"/>
                      <a:pt x="7742" y="6"/>
                    </a:cubicBezTo>
                    <a:lnTo>
                      <a:pt x="7742" y="6"/>
                    </a:lnTo>
                    <a:cubicBezTo>
                      <a:pt x="7740" y="6"/>
                      <a:pt x="7740" y="5"/>
                      <a:pt x="7740" y="4"/>
                    </a:cubicBezTo>
                    <a:cubicBezTo>
                      <a:pt x="7740" y="3"/>
                      <a:pt x="7740" y="2"/>
                      <a:pt x="7742" y="2"/>
                    </a:cubicBezTo>
                    <a:close/>
                    <a:moveTo>
                      <a:pt x="7750" y="2"/>
                    </a:moveTo>
                    <a:lnTo>
                      <a:pt x="7750" y="2"/>
                    </a:lnTo>
                    <a:cubicBezTo>
                      <a:pt x="7751" y="2"/>
                      <a:pt x="7752" y="3"/>
                      <a:pt x="7752" y="4"/>
                    </a:cubicBezTo>
                    <a:cubicBezTo>
                      <a:pt x="7752" y="5"/>
                      <a:pt x="7751" y="6"/>
                      <a:pt x="7750" y="6"/>
                    </a:cubicBezTo>
                    <a:lnTo>
                      <a:pt x="7750" y="6"/>
                    </a:lnTo>
                    <a:cubicBezTo>
                      <a:pt x="7748" y="6"/>
                      <a:pt x="7748" y="5"/>
                      <a:pt x="7748" y="4"/>
                    </a:cubicBezTo>
                    <a:cubicBezTo>
                      <a:pt x="7748" y="3"/>
                      <a:pt x="7748" y="2"/>
                      <a:pt x="7750" y="2"/>
                    </a:cubicBezTo>
                    <a:close/>
                    <a:moveTo>
                      <a:pt x="7758" y="2"/>
                    </a:moveTo>
                    <a:lnTo>
                      <a:pt x="7758" y="2"/>
                    </a:lnTo>
                    <a:cubicBezTo>
                      <a:pt x="7759" y="2"/>
                      <a:pt x="7760" y="3"/>
                      <a:pt x="7760" y="4"/>
                    </a:cubicBezTo>
                    <a:cubicBezTo>
                      <a:pt x="7760" y="5"/>
                      <a:pt x="7759" y="6"/>
                      <a:pt x="7758" y="6"/>
                    </a:cubicBezTo>
                    <a:lnTo>
                      <a:pt x="7758" y="6"/>
                    </a:lnTo>
                    <a:cubicBezTo>
                      <a:pt x="7757" y="6"/>
                      <a:pt x="7756" y="5"/>
                      <a:pt x="7756" y="4"/>
                    </a:cubicBezTo>
                    <a:cubicBezTo>
                      <a:pt x="7756" y="3"/>
                      <a:pt x="7757" y="2"/>
                      <a:pt x="7758" y="2"/>
                    </a:cubicBezTo>
                    <a:close/>
                    <a:moveTo>
                      <a:pt x="7766" y="2"/>
                    </a:moveTo>
                    <a:lnTo>
                      <a:pt x="7766" y="2"/>
                    </a:lnTo>
                    <a:cubicBezTo>
                      <a:pt x="7767" y="2"/>
                      <a:pt x="7768" y="3"/>
                      <a:pt x="7768" y="4"/>
                    </a:cubicBezTo>
                    <a:cubicBezTo>
                      <a:pt x="7768" y="5"/>
                      <a:pt x="7767" y="6"/>
                      <a:pt x="7766" y="6"/>
                    </a:cubicBezTo>
                    <a:lnTo>
                      <a:pt x="7766" y="6"/>
                    </a:lnTo>
                    <a:cubicBezTo>
                      <a:pt x="7765" y="6"/>
                      <a:pt x="7764" y="5"/>
                      <a:pt x="7764" y="4"/>
                    </a:cubicBezTo>
                    <a:cubicBezTo>
                      <a:pt x="7764" y="3"/>
                      <a:pt x="7765" y="2"/>
                      <a:pt x="7766" y="2"/>
                    </a:cubicBezTo>
                    <a:close/>
                    <a:moveTo>
                      <a:pt x="7774" y="2"/>
                    </a:moveTo>
                    <a:lnTo>
                      <a:pt x="7774" y="2"/>
                    </a:lnTo>
                    <a:cubicBezTo>
                      <a:pt x="7775" y="2"/>
                      <a:pt x="7776" y="3"/>
                      <a:pt x="7776" y="4"/>
                    </a:cubicBezTo>
                    <a:cubicBezTo>
                      <a:pt x="7776" y="5"/>
                      <a:pt x="7775" y="6"/>
                      <a:pt x="7774" y="6"/>
                    </a:cubicBezTo>
                    <a:lnTo>
                      <a:pt x="7774" y="6"/>
                    </a:lnTo>
                    <a:cubicBezTo>
                      <a:pt x="7773" y="6"/>
                      <a:pt x="7772" y="5"/>
                      <a:pt x="7772" y="4"/>
                    </a:cubicBezTo>
                    <a:cubicBezTo>
                      <a:pt x="7772" y="3"/>
                      <a:pt x="7773" y="2"/>
                      <a:pt x="7774" y="2"/>
                    </a:cubicBezTo>
                    <a:close/>
                    <a:moveTo>
                      <a:pt x="7782" y="2"/>
                    </a:moveTo>
                    <a:lnTo>
                      <a:pt x="7782" y="2"/>
                    </a:lnTo>
                    <a:cubicBezTo>
                      <a:pt x="7783" y="2"/>
                      <a:pt x="7784" y="3"/>
                      <a:pt x="7784" y="4"/>
                    </a:cubicBezTo>
                    <a:cubicBezTo>
                      <a:pt x="7784" y="5"/>
                      <a:pt x="7783" y="6"/>
                      <a:pt x="7782" y="6"/>
                    </a:cubicBezTo>
                    <a:lnTo>
                      <a:pt x="7782" y="6"/>
                    </a:lnTo>
                    <a:cubicBezTo>
                      <a:pt x="7781" y="6"/>
                      <a:pt x="7780" y="5"/>
                      <a:pt x="7780" y="4"/>
                    </a:cubicBezTo>
                    <a:cubicBezTo>
                      <a:pt x="7780" y="3"/>
                      <a:pt x="7781" y="2"/>
                      <a:pt x="7782" y="2"/>
                    </a:cubicBezTo>
                    <a:close/>
                    <a:moveTo>
                      <a:pt x="7790" y="2"/>
                    </a:moveTo>
                    <a:lnTo>
                      <a:pt x="7790" y="2"/>
                    </a:lnTo>
                    <a:cubicBezTo>
                      <a:pt x="7791" y="2"/>
                      <a:pt x="7792" y="3"/>
                      <a:pt x="7792" y="4"/>
                    </a:cubicBezTo>
                    <a:cubicBezTo>
                      <a:pt x="7792" y="5"/>
                      <a:pt x="7791" y="6"/>
                      <a:pt x="7790" y="6"/>
                    </a:cubicBezTo>
                    <a:lnTo>
                      <a:pt x="7790" y="6"/>
                    </a:lnTo>
                    <a:cubicBezTo>
                      <a:pt x="7789" y="6"/>
                      <a:pt x="7788" y="5"/>
                      <a:pt x="7788" y="4"/>
                    </a:cubicBezTo>
                    <a:cubicBezTo>
                      <a:pt x="7788" y="3"/>
                      <a:pt x="7789" y="2"/>
                      <a:pt x="7790" y="2"/>
                    </a:cubicBezTo>
                    <a:close/>
                    <a:moveTo>
                      <a:pt x="7798" y="2"/>
                    </a:moveTo>
                    <a:lnTo>
                      <a:pt x="7798" y="2"/>
                    </a:lnTo>
                    <a:cubicBezTo>
                      <a:pt x="7799" y="2"/>
                      <a:pt x="7800" y="3"/>
                      <a:pt x="7800" y="4"/>
                    </a:cubicBezTo>
                    <a:cubicBezTo>
                      <a:pt x="7800" y="5"/>
                      <a:pt x="7799" y="6"/>
                      <a:pt x="7798" y="6"/>
                    </a:cubicBezTo>
                    <a:lnTo>
                      <a:pt x="7798" y="6"/>
                    </a:lnTo>
                    <a:cubicBezTo>
                      <a:pt x="7797" y="6"/>
                      <a:pt x="7796" y="5"/>
                      <a:pt x="7796" y="4"/>
                    </a:cubicBezTo>
                    <a:cubicBezTo>
                      <a:pt x="7796" y="3"/>
                      <a:pt x="7797" y="2"/>
                      <a:pt x="7798" y="2"/>
                    </a:cubicBezTo>
                    <a:close/>
                    <a:moveTo>
                      <a:pt x="7806" y="2"/>
                    </a:moveTo>
                    <a:lnTo>
                      <a:pt x="7806" y="2"/>
                    </a:lnTo>
                    <a:cubicBezTo>
                      <a:pt x="7807" y="2"/>
                      <a:pt x="7808" y="3"/>
                      <a:pt x="7808" y="4"/>
                    </a:cubicBezTo>
                    <a:cubicBezTo>
                      <a:pt x="7808" y="5"/>
                      <a:pt x="7807" y="6"/>
                      <a:pt x="7806" y="6"/>
                    </a:cubicBezTo>
                    <a:lnTo>
                      <a:pt x="7806" y="6"/>
                    </a:lnTo>
                    <a:cubicBezTo>
                      <a:pt x="7805" y="6"/>
                      <a:pt x="7804" y="5"/>
                      <a:pt x="7804" y="4"/>
                    </a:cubicBezTo>
                    <a:cubicBezTo>
                      <a:pt x="7804" y="3"/>
                      <a:pt x="7805" y="2"/>
                      <a:pt x="7806" y="2"/>
                    </a:cubicBezTo>
                    <a:close/>
                    <a:moveTo>
                      <a:pt x="7814" y="2"/>
                    </a:moveTo>
                    <a:lnTo>
                      <a:pt x="7814" y="2"/>
                    </a:lnTo>
                    <a:cubicBezTo>
                      <a:pt x="7815" y="2"/>
                      <a:pt x="7816" y="3"/>
                      <a:pt x="7816" y="4"/>
                    </a:cubicBezTo>
                    <a:cubicBezTo>
                      <a:pt x="7816" y="5"/>
                      <a:pt x="7815" y="6"/>
                      <a:pt x="7814" y="6"/>
                    </a:cubicBezTo>
                    <a:lnTo>
                      <a:pt x="7814" y="6"/>
                    </a:lnTo>
                    <a:cubicBezTo>
                      <a:pt x="7813" y="6"/>
                      <a:pt x="7812" y="5"/>
                      <a:pt x="7812" y="4"/>
                    </a:cubicBezTo>
                    <a:cubicBezTo>
                      <a:pt x="7812" y="3"/>
                      <a:pt x="7813" y="2"/>
                      <a:pt x="7814" y="2"/>
                    </a:cubicBezTo>
                    <a:close/>
                    <a:moveTo>
                      <a:pt x="7822" y="2"/>
                    </a:moveTo>
                    <a:lnTo>
                      <a:pt x="7822" y="2"/>
                    </a:lnTo>
                    <a:cubicBezTo>
                      <a:pt x="7823" y="2"/>
                      <a:pt x="7824" y="3"/>
                      <a:pt x="7824" y="4"/>
                    </a:cubicBezTo>
                    <a:cubicBezTo>
                      <a:pt x="7824" y="5"/>
                      <a:pt x="7823" y="6"/>
                      <a:pt x="7822" y="6"/>
                    </a:cubicBezTo>
                    <a:lnTo>
                      <a:pt x="7822" y="6"/>
                    </a:lnTo>
                    <a:cubicBezTo>
                      <a:pt x="7821" y="6"/>
                      <a:pt x="7820" y="5"/>
                      <a:pt x="7820" y="4"/>
                    </a:cubicBezTo>
                    <a:cubicBezTo>
                      <a:pt x="7820" y="3"/>
                      <a:pt x="7821" y="2"/>
                      <a:pt x="7822" y="2"/>
                    </a:cubicBezTo>
                    <a:close/>
                    <a:moveTo>
                      <a:pt x="7830" y="2"/>
                    </a:moveTo>
                    <a:lnTo>
                      <a:pt x="7830" y="2"/>
                    </a:lnTo>
                    <a:cubicBezTo>
                      <a:pt x="7831" y="2"/>
                      <a:pt x="7832" y="3"/>
                      <a:pt x="7832" y="4"/>
                    </a:cubicBezTo>
                    <a:cubicBezTo>
                      <a:pt x="7832" y="5"/>
                      <a:pt x="7831" y="6"/>
                      <a:pt x="7830" y="6"/>
                    </a:cubicBezTo>
                    <a:lnTo>
                      <a:pt x="7830" y="6"/>
                    </a:lnTo>
                    <a:cubicBezTo>
                      <a:pt x="7829" y="6"/>
                      <a:pt x="7828" y="5"/>
                      <a:pt x="7828" y="4"/>
                    </a:cubicBezTo>
                    <a:cubicBezTo>
                      <a:pt x="7828" y="3"/>
                      <a:pt x="7829" y="2"/>
                      <a:pt x="7830" y="2"/>
                    </a:cubicBezTo>
                    <a:close/>
                    <a:moveTo>
                      <a:pt x="7838" y="2"/>
                    </a:moveTo>
                    <a:lnTo>
                      <a:pt x="7838" y="2"/>
                    </a:lnTo>
                    <a:cubicBezTo>
                      <a:pt x="7839" y="2"/>
                      <a:pt x="7840" y="3"/>
                      <a:pt x="7840" y="4"/>
                    </a:cubicBezTo>
                    <a:cubicBezTo>
                      <a:pt x="7840" y="5"/>
                      <a:pt x="7839" y="6"/>
                      <a:pt x="7838" y="6"/>
                    </a:cubicBezTo>
                    <a:lnTo>
                      <a:pt x="7838" y="6"/>
                    </a:lnTo>
                    <a:cubicBezTo>
                      <a:pt x="7837" y="6"/>
                      <a:pt x="7836" y="5"/>
                      <a:pt x="7836" y="4"/>
                    </a:cubicBezTo>
                    <a:cubicBezTo>
                      <a:pt x="7836" y="3"/>
                      <a:pt x="7837" y="2"/>
                      <a:pt x="7838" y="2"/>
                    </a:cubicBezTo>
                    <a:close/>
                    <a:moveTo>
                      <a:pt x="7846" y="2"/>
                    </a:moveTo>
                    <a:lnTo>
                      <a:pt x="7846" y="2"/>
                    </a:lnTo>
                    <a:cubicBezTo>
                      <a:pt x="7847" y="2"/>
                      <a:pt x="7848" y="3"/>
                      <a:pt x="7848" y="4"/>
                    </a:cubicBezTo>
                    <a:cubicBezTo>
                      <a:pt x="7848" y="5"/>
                      <a:pt x="7847" y="6"/>
                      <a:pt x="7846" y="6"/>
                    </a:cubicBezTo>
                    <a:lnTo>
                      <a:pt x="7846" y="6"/>
                    </a:lnTo>
                    <a:cubicBezTo>
                      <a:pt x="7845" y="6"/>
                      <a:pt x="7844" y="5"/>
                      <a:pt x="7844" y="4"/>
                    </a:cubicBezTo>
                    <a:cubicBezTo>
                      <a:pt x="7844" y="3"/>
                      <a:pt x="7845" y="2"/>
                      <a:pt x="7846" y="2"/>
                    </a:cubicBezTo>
                    <a:close/>
                    <a:moveTo>
                      <a:pt x="7854" y="2"/>
                    </a:moveTo>
                    <a:lnTo>
                      <a:pt x="7854" y="2"/>
                    </a:lnTo>
                    <a:cubicBezTo>
                      <a:pt x="7855" y="2"/>
                      <a:pt x="7856" y="3"/>
                      <a:pt x="7856" y="4"/>
                    </a:cubicBezTo>
                    <a:cubicBezTo>
                      <a:pt x="7856" y="5"/>
                      <a:pt x="7855" y="6"/>
                      <a:pt x="7854" y="6"/>
                    </a:cubicBezTo>
                    <a:lnTo>
                      <a:pt x="7854" y="6"/>
                    </a:lnTo>
                    <a:cubicBezTo>
                      <a:pt x="7853" y="6"/>
                      <a:pt x="7852" y="5"/>
                      <a:pt x="7852" y="4"/>
                    </a:cubicBezTo>
                    <a:cubicBezTo>
                      <a:pt x="7852" y="3"/>
                      <a:pt x="7853" y="2"/>
                      <a:pt x="7854" y="2"/>
                    </a:cubicBezTo>
                    <a:close/>
                    <a:moveTo>
                      <a:pt x="7862" y="2"/>
                    </a:moveTo>
                    <a:lnTo>
                      <a:pt x="7862" y="2"/>
                    </a:lnTo>
                    <a:cubicBezTo>
                      <a:pt x="7863" y="2"/>
                      <a:pt x="7864" y="3"/>
                      <a:pt x="7864" y="4"/>
                    </a:cubicBezTo>
                    <a:cubicBezTo>
                      <a:pt x="7864" y="5"/>
                      <a:pt x="7863" y="6"/>
                      <a:pt x="7862" y="6"/>
                    </a:cubicBezTo>
                    <a:lnTo>
                      <a:pt x="7862" y="6"/>
                    </a:lnTo>
                    <a:cubicBezTo>
                      <a:pt x="7861" y="6"/>
                      <a:pt x="7860" y="5"/>
                      <a:pt x="7860" y="4"/>
                    </a:cubicBezTo>
                    <a:cubicBezTo>
                      <a:pt x="7860" y="3"/>
                      <a:pt x="7861" y="2"/>
                      <a:pt x="7862" y="2"/>
                    </a:cubicBezTo>
                    <a:close/>
                    <a:moveTo>
                      <a:pt x="7870" y="2"/>
                    </a:moveTo>
                    <a:lnTo>
                      <a:pt x="7870" y="2"/>
                    </a:lnTo>
                    <a:cubicBezTo>
                      <a:pt x="7871" y="2"/>
                      <a:pt x="7872" y="3"/>
                      <a:pt x="7872" y="4"/>
                    </a:cubicBezTo>
                    <a:cubicBezTo>
                      <a:pt x="7872" y="5"/>
                      <a:pt x="7871" y="6"/>
                      <a:pt x="7870" y="6"/>
                    </a:cubicBezTo>
                    <a:lnTo>
                      <a:pt x="7870" y="6"/>
                    </a:lnTo>
                    <a:cubicBezTo>
                      <a:pt x="7869" y="6"/>
                      <a:pt x="7868" y="5"/>
                      <a:pt x="7868" y="4"/>
                    </a:cubicBezTo>
                    <a:cubicBezTo>
                      <a:pt x="7868" y="3"/>
                      <a:pt x="7869" y="2"/>
                      <a:pt x="7870" y="2"/>
                    </a:cubicBezTo>
                    <a:close/>
                    <a:moveTo>
                      <a:pt x="7878" y="2"/>
                    </a:moveTo>
                    <a:lnTo>
                      <a:pt x="7878" y="2"/>
                    </a:lnTo>
                    <a:cubicBezTo>
                      <a:pt x="7879" y="2"/>
                      <a:pt x="7880" y="3"/>
                      <a:pt x="7880" y="4"/>
                    </a:cubicBezTo>
                    <a:cubicBezTo>
                      <a:pt x="7880" y="5"/>
                      <a:pt x="7879" y="6"/>
                      <a:pt x="7878" y="6"/>
                    </a:cubicBezTo>
                    <a:lnTo>
                      <a:pt x="7878" y="6"/>
                    </a:lnTo>
                    <a:cubicBezTo>
                      <a:pt x="7877" y="6"/>
                      <a:pt x="7876" y="5"/>
                      <a:pt x="7876" y="4"/>
                    </a:cubicBezTo>
                    <a:cubicBezTo>
                      <a:pt x="7876" y="3"/>
                      <a:pt x="7877" y="2"/>
                      <a:pt x="7878" y="2"/>
                    </a:cubicBezTo>
                    <a:close/>
                    <a:moveTo>
                      <a:pt x="7886" y="2"/>
                    </a:moveTo>
                    <a:lnTo>
                      <a:pt x="7886" y="2"/>
                    </a:lnTo>
                    <a:cubicBezTo>
                      <a:pt x="7887" y="2"/>
                      <a:pt x="7888" y="3"/>
                      <a:pt x="7888" y="4"/>
                    </a:cubicBezTo>
                    <a:cubicBezTo>
                      <a:pt x="7888" y="5"/>
                      <a:pt x="7887" y="6"/>
                      <a:pt x="7886" y="6"/>
                    </a:cubicBezTo>
                    <a:lnTo>
                      <a:pt x="7886" y="6"/>
                    </a:lnTo>
                    <a:cubicBezTo>
                      <a:pt x="7885" y="6"/>
                      <a:pt x="7884" y="5"/>
                      <a:pt x="7884" y="4"/>
                    </a:cubicBezTo>
                    <a:cubicBezTo>
                      <a:pt x="7884" y="3"/>
                      <a:pt x="7885" y="2"/>
                      <a:pt x="7886" y="2"/>
                    </a:cubicBezTo>
                    <a:close/>
                    <a:moveTo>
                      <a:pt x="7894" y="2"/>
                    </a:moveTo>
                    <a:lnTo>
                      <a:pt x="7894" y="2"/>
                    </a:lnTo>
                    <a:cubicBezTo>
                      <a:pt x="7895" y="2"/>
                      <a:pt x="7896" y="3"/>
                      <a:pt x="7896" y="4"/>
                    </a:cubicBezTo>
                    <a:cubicBezTo>
                      <a:pt x="7896" y="5"/>
                      <a:pt x="7895" y="6"/>
                      <a:pt x="7894" y="6"/>
                    </a:cubicBezTo>
                    <a:lnTo>
                      <a:pt x="7894" y="6"/>
                    </a:lnTo>
                    <a:cubicBezTo>
                      <a:pt x="7893" y="6"/>
                      <a:pt x="7892" y="5"/>
                      <a:pt x="7892" y="4"/>
                    </a:cubicBezTo>
                    <a:cubicBezTo>
                      <a:pt x="7892" y="3"/>
                      <a:pt x="7893" y="2"/>
                      <a:pt x="7894" y="2"/>
                    </a:cubicBezTo>
                    <a:close/>
                    <a:moveTo>
                      <a:pt x="7902" y="2"/>
                    </a:moveTo>
                    <a:lnTo>
                      <a:pt x="7902" y="2"/>
                    </a:lnTo>
                    <a:cubicBezTo>
                      <a:pt x="7903" y="2"/>
                      <a:pt x="7904" y="3"/>
                      <a:pt x="7904" y="4"/>
                    </a:cubicBezTo>
                    <a:cubicBezTo>
                      <a:pt x="7904" y="5"/>
                      <a:pt x="7903" y="6"/>
                      <a:pt x="7902" y="6"/>
                    </a:cubicBezTo>
                    <a:lnTo>
                      <a:pt x="7902" y="6"/>
                    </a:lnTo>
                    <a:cubicBezTo>
                      <a:pt x="7901" y="6"/>
                      <a:pt x="7900" y="5"/>
                      <a:pt x="7900" y="4"/>
                    </a:cubicBezTo>
                    <a:cubicBezTo>
                      <a:pt x="7900" y="3"/>
                      <a:pt x="7901" y="2"/>
                      <a:pt x="7902" y="2"/>
                    </a:cubicBezTo>
                    <a:close/>
                    <a:moveTo>
                      <a:pt x="7910" y="2"/>
                    </a:moveTo>
                    <a:lnTo>
                      <a:pt x="7910" y="2"/>
                    </a:lnTo>
                    <a:cubicBezTo>
                      <a:pt x="7911" y="2"/>
                      <a:pt x="7912" y="3"/>
                      <a:pt x="7912" y="4"/>
                    </a:cubicBezTo>
                    <a:cubicBezTo>
                      <a:pt x="7912" y="5"/>
                      <a:pt x="7911" y="6"/>
                      <a:pt x="7910" y="6"/>
                    </a:cubicBezTo>
                    <a:lnTo>
                      <a:pt x="7910" y="6"/>
                    </a:lnTo>
                    <a:cubicBezTo>
                      <a:pt x="7909" y="6"/>
                      <a:pt x="7908" y="5"/>
                      <a:pt x="7908" y="4"/>
                    </a:cubicBezTo>
                    <a:cubicBezTo>
                      <a:pt x="7908" y="3"/>
                      <a:pt x="7909" y="2"/>
                      <a:pt x="7910" y="2"/>
                    </a:cubicBezTo>
                    <a:close/>
                    <a:moveTo>
                      <a:pt x="7918" y="2"/>
                    </a:moveTo>
                    <a:lnTo>
                      <a:pt x="7918" y="2"/>
                    </a:lnTo>
                    <a:cubicBezTo>
                      <a:pt x="7919" y="2"/>
                      <a:pt x="7920" y="3"/>
                      <a:pt x="7920" y="4"/>
                    </a:cubicBezTo>
                    <a:cubicBezTo>
                      <a:pt x="7920" y="5"/>
                      <a:pt x="7919" y="6"/>
                      <a:pt x="7918" y="6"/>
                    </a:cubicBezTo>
                    <a:lnTo>
                      <a:pt x="7918" y="6"/>
                    </a:lnTo>
                    <a:cubicBezTo>
                      <a:pt x="7917" y="6"/>
                      <a:pt x="7916" y="5"/>
                      <a:pt x="7916" y="4"/>
                    </a:cubicBezTo>
                    <a:cubicBezTo>
                      <a:pt x="7916" y="3"/>
                      <a:pt x="7917" y="2"/>
                      <a:pt x="7918" y="2"/>
                    </a:cubicBezTo>
                    <a:close/>
                    <a:moveTo>
                      <a:pt x="7926" y="2"/>
                    </a:moveTo>
                    <a:lnTo>
                      <a:pt x="7926" y="2"/>
                    </a:lnTo>
                    <a:cubicBezTo>
                      <a:pt x="7927" y="2"/>
                      <a:pt x="7928" y="3"/>
                      <a:pt x="7928" y="4"/>
                    </a:cubicBezTo>
                    <a:cubicBezTo>
                      <a:pt x="7928" y="5"/>
                      <a:pt x="7927" y="6"/>
                      <a:pt x="7926" y="6"/>
                    </a:cubicBezTo>
                    <a:lnTo>
                      <a:pt x="7926" y="6"/>
                    </a:lnTo>
                    <a:cubicBezTo>
                      <a:pt x="7925" y="6"/>
                      <a:pt x="7924" y="5"/>
                      <a:pt x="7924" y="4"/>
                    </a:cubicBezTo>
                    <a:cubicBezTo>
                      <a:pt x="7924" y="3"/>
                      <a:pt x="7925" y="2"/>
                      <a:pt x="7926" y="2"/>
                    </a:cubicBezTo>
                    <a:close/>
                    <a:moveTo>
                      <a:pt x="7934" y="2"/>
                    </a:moveTo>
                    <a:lnTo>
                      <a:pt x="7934" y="2"/>
                    </a:lnTo>
                    <a:cubicBezTo>
                      <a:pt x="7935" y="2"/>
                      <a:pt x="7936" y="3"/>
                      <a:pt x="7936" y="4"/>
                    </a:cubicBezTo>
                    <a:cubicBezTo>
                      <a:pt x="7936" y="5"/>
                      <a:pt x="7935" y="6"/>
                      <a:pt x="7934" y="6"/>
                    </a:cubicBezTo>
                    <a:lnTo>
                      <a:pt x="7934" y="6"/>
                    </a:lnTo>
                    <a:cubicBezTo>
                      <a:pt x="7933" y="6"/>
                      <a:pt x="7932" y="5"/>
                      <a:pt x="7932" y="4"/>
                    </a:cubicBezTo>
                    <a:cubicBezTo>
                      <a:pt x="7932" y="3"/>
                      <a:pt x="7933" y="2"/>
                      <a:pt x="7934" y="2"/>
                    </a:cubicBezTo>
                    <a:close/>
                    <a:moveTo>
                      <a:pt x="7942" y="2"/>
                    </a:moveTo>
                    <a:lnTo>
                      <a:pt x="7942" y="2"/>
                    </a:lnTo>
                    <a:cubicBezTo>
                      <a:pt x="7943" y="2"/>
                      <a:pt x="7944" y="3"/>
                      <a:pt x="7944" y="4"/>
                    </a:cubicBezTo>
                    <a:cubicBezTo>
                      <a:pt x="7944" y="5"/>
                      <a:pt x="7943" y="6"/>
                      <a:pt x="7942" y="6"/>
                    </a:cubicBezTo>
                    <a:lnTo>
                      <a:pt x="7942" y="6"/>
                    </a:lnTo>
                    <a:cubicBezTo>
                      <a:pt x="7941" y="6"/>
                      <a:pt x="7940" y="5"/>
                      <a:pt x="7940" y="4"/>
                    </a:cubicBezTo>
                    <a:cubicBezTo>
                      <a:pt x="7940" y="3"/>
                      <a:pt x="7941" y="2"/>
                      <a:pt x="7942" y="2"/>
                    </a:cubicBezTo>
                    <a:close/>
                    <a:moveTo>
                      <a:pt x="7950" y="2"/>
                    </a:moveTo>
                    <a:lnTo>
                      <a:pt x="7950" y="2"/>
                    </a:lnTo>
                    <a:cubicBezTo>
                      <a:pt x="7951" y="2"/>
                      <a:pt x="7952" y="3"/>
                      <a:pt x="7952" y="4"/>
                    </a:cubicBezTo>
                    <a:cubicBezTo>
                      <a:pt x="7952" y="5"/>
                      <a:pt x="7951" y="6"/>
                      <a:pt x="7950" y="6"/>
                    </a:cubicBezTo>
                    <a:lnTo>
                      <a:pt x="7950" y="6"/>
                    </a:lnTo>
                    <a:cubicBezTo>
                      <a:pt x="7949" y="6"/>
                      <a:pt x="7948" y="5"/>
                      <a:pt x="7948" y="4"/>
                    </a:cubicBezTo>
                    <a:cubicBezTo>
                      <a:pt x="7948" y="3"/>
                      <a:pt x="7949" y="2"/>
                      <a:pt x="7950" y="2"/>
                    </a:cubicBezTo>
                    <a:close/>
                    <a:moveTo>
                      <a:pt x="7958" y="2"/>
                    </a:moveTo>
                    <a:lnTo>
                      <a:pt x="7958" y="2"/>
                    </a:lnTo>
                    <a:cubicBezTo>
                      <a:pt x="7959" y="2"/>
                      <a:pt x="7960" y="3"/>
                      <a:pt x="7960" y="4"/>
                    </a:cubicBezTo>
                    <a:cubicBezTo>
                      <a:pt x="7960" y="5"/>
                      <a:pt x="7959" y="6"/>
                      <a:pt x="7958" y="6"/>
                    </a:cubicBezTo>
                    <a:lnTo>
                      <a:pt x="7958" y="6"/>
                    </a:lnTo>
                    <a:cubicBezTo>
                      <a:pt x="7957" y="6"/>
                      <a:pt x="7956" y="5"/>
                      <a:pt x="7956" y="4"/>
                    </a:cubicBezTo>
                    <a:cubicBezTo>
                      <a:pt x="7956" y="3"/>
                      <a:pt x="7957" y="2"/>
                      <a:pt x="7958" y="2"/>
                    </a:cubicBezTo>
                    <a:close/>
                    <a:moveTo>
                      <a:pt x="7966" y="2"/>
                    </a:moveTo>
                    <a:lnTo>
                      <a:pt x="7966" y="2"/>
                    </a:lnTo>
                    <a:cubicBezTo>
                      <a:pt x="7967" y="2"/>
                      <a:pt x="7968" y="3"/>
                      <a:pt x="7968" y="4"/>
                    </a:cubicBezTo>
                    <a:cubicBezTo>
                      <a:pt x="7968" y="5"/>
                      <a:pt x="7967" y="6"/>
                      <a:pt x="7966" y="6"/>
                    </a:cubicBezTo>
                    <a:lnTo>
                      <a:pt x="7966" y="6"/>
                    </a:lnTo>
                    <a:cubicBezTo>
                      <a:pt x="7965" y="6"/>
                      <a:pt x="7964" y="5"/>
                      <a:pt x="7964" y="4"/>
                    </a:cubicBezTo>
                    <a:cubicBezTo>
                      <a:pt x="7964" y="3"/>
                      <a:pt x="7965" y="2"/>
                      <a:pt x="7966" y="2"/>
                    </a:cubicBezTo>
                    <a:close/>
                    <a:moveTo>
                      <a:pt x="7974" y="2"/>
                    </a:moveTo>
                    <a:lnTo>
                      <a:pt x="7974" y="2"/>
                    </a:lnTo>
                    <a:cubicBezTo>
                      <a:pt x="7975" y="2"/>
                      <a:pt x="7976" y="3"/>
                      <a:pt x="7976" y="4"/>
                    </a:cubicBezTo>
                    <a:cubicBezTo>
                      <a:pt x="7976" y="5"/>
                      <a:pt x="7975" y="6"/>
                      <a:pt x="7974" y="6"/>
                    </a:cubicBezTo>
                    <a:lnTo>
                      <a:pt x="7974" y="6"/>
                    </a:lnTo>
                    <a:cubicBezTo>
                      <a:pt x="7973" y="6"/>
                      <a:pt x="7972" y="5"/>
                      <a:pt x="7972" y="4"/>
                    </a:cubicBezTo>
                    <a:cubicBezTo>
                      <a:pt x="7972" y="3"/>
                      <a:pt x="7973" y="2"/>
                      <a:pt x="7974" y="2"/>
                    </a:cubicBezTo>
                    <a:close/>
                    <a:moveTo>
                      <a:pt x="7982" y="2"/>
                    </a:moveTo>
                    <a:lnTo>
                      <a:pt x="7982" y="2"/>
                    </a:lnTo>
                    <a:cubicBezTo>
                      <a:pt x="7983" y="2"/>
                      <a:pt x="7984" y="3"/>
                      <a:pt x="7984" y="4"/>
                    </a:cubicBezTo>
                    <a:cubicBezTo>
                      <a:pt x="7984" y="5"/>
                      <a:pt x="7983" y="6"/>
                      <a:pt x="7982" y="6"/>
                    </a:cubicBezTo>
                    <a:lnTo>
                      <a:pt x="7982" y="6"/>
                    </a:lnTo>
                    <a:cubicBezTo>
                      <a:pt x="7981" y="6"/>
                      <a:pt x="7980" y="5"/>
                      <a:pt x="7980" y="4"/>
                    </a:cubicBezTo>
                    <a:cubicBezTo>
                      <a:pt x="7980" y="3"/>
                      <a:pt x="7981" y="2"/>
                      <a:pt x="7982" y="2"/>
                    </a:cubicBezTo>
                    <a:close/>
                    <a:moveTo>
                      <a:pt x="7990" y="2"/>
                    </a:moveTo>
                    <a:lnTo>
                      <a:pt x="7990" y="2"/>
                    </a:lnTo>
                    <a:cubicBezTo>
                      <a:pt x="7991" y="2"/>
                      <a:pt x="7992" y="3"/>
                      <a:pt x="7992" y="4"/>
                    </a:cubicBezTo>
                    <a:cubicBezTo>
                      <a:pt x="7992" y="5"/>
                      <a:pt x="7991" y="6"/>
                      <a:pt x="7990" y="6"/>
                    </a:cubicBezTo>
                    <a:lnTo>
                      <a:pt x="7990" y="6"/>
                    </a:lnTo>
                    <a:cubicBezTo>
                      <a:pt x="7989" y="6"/>
                      <a:pt x="7988" y="5"/>
                      <a:pt x="7988" y="4"/>
                    </a:cubicBezTo>
                    <a:cubicBezTo>
                      <a:pt x="7988" y="3"/>
                      <a:pt x="7989" y="2"/>
                      <a:pt x="7990" y="2"/>
                    </a:cubicBezTo>
                    <a:close/>
                    <a:moveTo>
                      <a:pt x="7998" y="2"/>
                    </a:moveTo>
                    <a:lnTo>
                      <a:pt x="7998" y="2"/>
                    </a:lnTo>
                    <a:cubicBezTo>
                      <a:pt x="7999" y="2"/>
                      <a:pt x="8000" y="3"/>
                      <a:pt x="8000" y="4"/>
                    </a:cubicBezTo>
                    <a:cubicBezTo>
                      <a:pt x="8000" y="5"/>
                      <a:pt x="7999" y="6"/>
                      <a:pt x="7998" y="6"/>
                    </a:cubicBezTo>
                    <a:lnTo>
                      <a:pt x="7998" y="6"/>
                    </a:lnTo>
                    <a:cubicBezTo>
                      <a:pt x="7997" y="6"/>
                      <a:pt x="7996" y="5"/>
                      <a:pt x="7996" y="4"/>
                    </a:cubicBezTo>
                    <a:cubicBezTo>
                      <a:pt x="7996" y="3"/>
                      <a:pt x="7997" y="2"/>
                      <a:pt x="7998" y="2"/>
                    </a:cubicBezTo>
                    <a:close/>
                    <a:moveTo>
                      <a:pt x="8006" y="2"/>
                    </a:moveTo>
                    <a:lnTo>
                      <a:pt x="8006" y="2"/>
                    </a:lnTo>
                    <a:cubicBezTo>
                      <a:pt x="8007" y="2"/>
                      <a:pt x="8008" y="3"/>
                      <a:pt x="8008" y="4"/>
                    </a:cubicBezTo>
                    <a:cubicBezTo>
                      <a:pt x="8008" y="5"/>
                      <a:pt x="8007" y="6"/>
                      <a:pt x="8006" y="6"/>
                    </a:cubicBezTo>
                    <a:lnTo>
                      <a:pt x="8006" y="6"/>
                    </a:lnTo>
                    <a:cubicBezTo>
                      <a:pt x="8005" y="6"/>
                      <a:pt x="8004" y="5"/>
                      <a:pt x="8004" y="4"/>
                    </a:cubicBezTo>
                    <a:cubicBezTo>
                      <a:pt x="8004" y="3"/>
                      <a:pt x="8005" y="2"/>
                      <a:pt x="8006" y="2"/>
                    </a:cubicBezTo>
                    <a:close/>
                    <a:moveTo>
                      <a:pt x="8014" y="2"/>
                    </a:moveTo>
                    <a:lnTo>
                      <a:pt x="8014" y="2"/>
                    </a:lnTo>
                    <a:cubicBezTo>
                      <a:pt x="8015" y="2"/>
                      <a:pt x="8016" y="3"/>
                      <a:pt x="8016" y="4"/>
                    </a:cubicBezTo>
                    <a:cubicBezTo>
                      <a:pt x="8016" y="5"/>
                      <a:pt x="8015" y="6"/>
                      <a:pt x="8014" y="6"/>
                    </a:cubicBezTo>
                    <a:lnTo>
                      <a:pt x="8014" y="6"/>
                    </a:lnTo>
                    <a:cubicBezTo>
                      <a:pt x="8013" y="6"/>
                      <a:pt x="8012" y="5"/>
                      <a:pt x="8012" y="4"/>
                    </a:cubicBezTo>
                    <a:cubicBezTo>
                      <a:pt x="8012" y="3"/>
                      <a:pt x="8013" y="2"/>
                      <a:pt x="8014" y="2"/>
                    </a:cubicBezTo>
                    <a:close/>
                    <a:moveTo>
                      <a:pt x="8022" y="2"/>
                    </a:moveTo>
                    <a:lnTo>
                      <a:pt x="8022" y="2"/>
                    </a:lnTo>
                    <a:cubicBezTo>
                      <a:pt x="8023" y="2"/>
                      <a:pt x="8024" y="3"/>
                      <a:pt x="8024" y="4"/>
                    </a:cubicBezTo>
                    <a:cubicBezTo>
                      <a:pt x="8024" y="5"/>
                      <a:pt x="8023" y="6"/>
                      <a:pt x="8022" y="6"/>
                    </a:cubicBezTo>
                    <a:lnTo>
                      <a:pt x="8022" y="6"/>
                    </a:lnTo>
                    <a:cubicBezTo>
                      <a:pt x="8021" y="6"/>
                      <a:pt x="8020" y="5"/>
                      <a:pt x="8020" y="4"/>
                    </a:cubicBezTo>
                    <a:cubicBezTo>
                      <a:pt x="8020" y="3"/>
                      <a:pt x="8021" y="2"/>
                      <a:pt x="8022" y="2"/>
                    </a:cubicBezTo>
                    <a:close/>
                    <a:moveTo>
                      <a:pt x="8030" y="2"/>
                    </a:moveTo>
                    <a:lnTo>
                      <a:pt x="8030" y="2"/>
                    </a:lnTo>
                    <a:cubicBezTo>
                      <a:pt x="8031" y="2"/>
                      <a:pt x="8032" y="3"/>
                      <a:pt x="8032" y="4"/>
                    </a:cubicBezTo>
                    <a:cubicBezTo>
                      <a:pt x="8032" y="5"/>
                      <a:pt x="8031" y="6"/>
                      <a:pt x="8030" y="6"/>
                    </a:cubicBezTo>
                    <a:lnTo>
                      <a:pt x="8030" y="6"/>
                    </a:lnTo>
                    <a:cubicBezTo>
                      <a:pt x="8029" y="6"/>
                      <a:pt x="8028" y="5"/>
                      <a:pt x="8028" y="4"/>
                    </a:cubicBezTo>
                    <a:cubicBezTo>
                      <a:pt x="8028" y="3"/>
                      <a:pt x="8029" y="2"/>
                      <a:pt x="8030" y="2"/>
                    </a:cubicBezTo>
                    <a:close/>
                    <a:moveTo>
                      <a:pt x="8038" y="2"/>
                    </a:moveTo>
                    <a:lnTo>
                      <a:pt x="8038" y="2"/>
                    </a:lnTo>
                    <a:cubicBezTo>
                      <a:pt x="8039" y="2"/>
                      <a:pt x="8040" y="3"/>
                      <a:pt x="8040" y="4"/>
                    </a:cubicBezTo>
                    <a:cubicBezTo>
                      <a:pt x="8040" y="5"/>
                      <a:pt x="8039" y="6"/>
                      <a:pt x="8038" y="6"/>
                    </a:cubicBezTo>
                    <a:lnTo>
                      <a:pt x="8038" y="6"/>
                    </a:lnTo>
                    <a:cubicBezTo>
                      <a:pt x="8037" y="6"/>
                      <a:pt x="8036" y="5"/>
                      <a:pt x="8036" y="4"/>
                    </a:cubicBezTo>
                    <a:cubicBezTo>
                      <a:pt x="8036" y="3"/>
                      <a:pt x="8037" y="2"/>
                      <a:pt x="8038" y="2"/>
                    </a:cubicBezTo>
                    <a:close/>
                    <a:moveTo>
                      <a:pt x="8046" y="2"/>
                    </a:moveTo>
                    <a:lnTo>
                      <a:pt x="8046" y="2"/>
                    </a:lnTo>
                    <a:cubicBezTo>
                      <a:pt x="8047" y="2"/>
                      <a:pt x="8048" y="3"/>
                      <a:pt x="8048" y="4"/>
                    </a:cubicBezTo>
                    <a:cubicBezTo>
                      <a:pt x="8048" y="5"/>
                      <a:pt x="8047" y="6"/>
                      <a:pt x="8046" y="6"/>
                    </a:cubicBezTo>
                    <a:lnTo>
                      <a:pt x="8046" y="6"/>
                    </a:lnTo>
                    <a:cubicBezTo>
                      <a:pt x="8045" y="6"/>
                      <a:pt x="8044" y="5"/>
                      <a:pt x="8044" y="4"/>
                    </a:cubicBezTo>
                    <a:cubicBezTo>
                      <a:pt x="8044" y="3"/>
                      <a:pt x="8045" y="2"/>
                      <a:pt x="8046" y="2"/>
                    </a:cubicBezTo>
                    <a:close/>
                    <a:moveTo>
                      <a:pt x="8054" y="2"/>
                    </a:moveTo>
                    <a:lnTo>
                      <a:pt x="8054" y="2"/>
                    </a:lnTo>
                    <a:cubicBezTo>
                      <a:pt x="8055" y="2"/>
                      <a:pt x="8056" y="3"/>
                      <a:pt x="8056" y="4"/>
                    </a:cubicBezTo>
                    <a:cubicBezTo>
                      <a:pt x="8056" y="5"/>
                      <a:pt x="8055" y="6"/>
                      <a:pt x="8054" y="6"/>
                    </a:cubicBezTo>
                    <a:lnTo>
                      <a:pt x="8054" y="6"/>
                    </a:lnTo>
                    <a:cubicBezTo>
                      <a:pt x="8053" y="6"/>
                      <a:pt x="8052" y="5"/>
                      <a:pt x="8052" y="4"/>
                    </a:cubicBezTo>
                    <a:cubicBezTo>
                      <a:pt x="8052" y="3"/>
                      <a:pt x="8053" y="2"/>
                      <a:pt x="8054" y="2"/>
                    </a:cubicBezTo>
                    <a:close/>
                    <a:moveTo>
                      <a:pt x="8062" y="2"/>
                    </a:moveTo>
                    <a:lnTo>
                      <a:pt x="8062" y="2"/>
                    </a:lnTo>
                    <a:cubicBezTo>
                      <a:pt x="8063" y="2"/>
                      <a:pt x="8064" y="3"/>
                      <a:pt x="8064" y="4"/>
                    </a:cubicBezTo>
                    <a:cubicBezTo>
                      <a:pt x="8064" y="5"/>
                      <a:pt x="8063" y="6"/>
                      <a:pt x="8062" y="6"/>
                    </a:cubicBezTo>
                    <a:lnTo>
                      <a:pt x="8062" y="6"/>
                    </a:lnTo>
                    <a:cubicBezTo>
                      <a:pt x="8061" y="6"/>
                      <a:pt x="8060" y="5"/>
                      <a:pt x="8060" y="4"/>
                    </a:cubicBezTo>
                    <a:cubicBezTo>
                      <a:pt x="8060" y="3"/>
                      <a:pt x="8061" y="2"/>
                      <a:pt x="8062" y="2"/>
                    </a:cubicBezTo>
                    <a:close/>
                    <a:moveTo>
                      <a:pt x="8070" y="2"/>
                    </a:moveTo>
                    <a:lnTo>
                      <a:pt x="8070" y="2"/>
                    </a:lnTo>
                    <a:cubicBezTo>
                      <a:pt x="8071" y="2"/>
                      <a:pt x="8072" y="3"/>
                      <a:pt x="8072" y="4"/>
                    </a:cubicBezTo>
                    <a:cubicBezTo>
                      <a:pt x="8072" y="5"/>
                      <a:pt x="8071" y="6"/>
                      <a:pt x="8070" y="6"/>
                    </a:cubicBezTo>
                    <a:lnTo>
                      <a:pt x="8070" y="6"/>
                    </a:lnTo>
                    <a:cubicBezTo>
                      <a:pt x="8069" y="6"/>
                      <a:pt x="8068" y="5"/>
                      <a:pt x="8068" y="4"/>
                    </a:cubicBezTo>
                    <a:cubicBezTo>
                      <a:pt x="8068" y="3"/>
                      <a:pt x="8069" y="2"/>
                      <a:pt x="8070" y="2"/>
                    </a:cubicBezTo>
                    <a:close/>
                    <a:moveTo>
                      <a:pt x="8078" y="2"/>
                    </a:moveTo>
                    <a:lnTo>
                      <a:pt x="8078" y="2"/>
                    </a:lnTo>
                    <a:cubicBezTo>
                      <a:pt x="8079" y="2"/>
                      <a:pt x="8080" y="3"/>
                      <a:pt x="8080" y="4"/>
                    </a:cubicBezTo>
                    <a:cubicBezTo>
                      <a:pt x="8080" y="5"/>
                      <a:pt x="8079" y="6"/>
                      <a:pt x="8078" y="6"/>
                    </a:cubicBezTo>
                    <a:lnTo>
                      <a:pt x="8078" y="6"/>
                    </a:lnTo>
                    <a:cubicBezTo>
                      <a:pt x="8077" y="6"/>
                      <a:pt x="8076" y="5"/>
                      <a:pt x="8076" y="4"/>
                    </a:cubicBezTo>
                    <a:cubicBezTo>
                      <a:pt x="8076" y="3"/>
                      <a:pt x="8077" y="2"/>
                      <a:pt x="8078" y="2"/>
                    </a:cubicBezTo>
                    <a:close/>
                    <a:moveTo>
                      <a:pt x="8086" y="2"/>
                    </a:moveTo>
                    <a:lnTo>
                      <a:pt x="8086" y="2"/>
                    </a:lnTo>
                    <a:cubicBezTo>
                      <a:pt x="8087" y="2"/>
                      <a:pt x="8088" y="3"/>
                      <a:pt x="8088" y="4"/>
                    </a:cubicBezTo>
                    <a:cubicBezTo>
                      <a:pt x="8088" y="5"/>
                      <a:pt x="8087" y="6"/>
                      <a:pt x="8086" y="6"/>
                    </a:cubicBezTo>
                    <a:lnTo>
                      <a:pt x="8086" y="6"/>
                    </a:lnTo>
                    <a:cubicBezTo>
                      <a:pt x="8085" y="6"/>
                      <a:pt x="8084" y="5"/>
                      <a:pt x="8084" y="4"/>
                    </a:cubicBezTo>
                    <a:cubicBezTo>
                      <a:pt x="8084" y="3"/>
                      <a:pt x="8085" y="2"/>
                      <a:pt x="8086" y="2"/>
                    </a:cubicBezTo>
                    <a:close/>
                    <a:moveTo>
                      <a:pt x="8094" y="2"/>
                    </a:moveTo>
                    <a:lnTo>
                      <a:pt x="8094" y="2"/>
                    </a:lnTo>
                    <a:cubicBezTo>
                      <a:pt x="8095" y="2"/>
                      <a:pt x="8096" y="3"/>
                      <a:pt x="8096" y="4"/>
                    </a:cubicBezTo>
                    <a:cubicBezTo>
                      <a:pt x="8096" y="5"/>
                      <a:pt x="8095" y="6"/>
                      <a:pt x="8094" y="6"/>
                    </a:cubicBezTo>
                    <a:lnTo>
                      <a:pt x="8094" y="6"/>
                    </a:lnTo>
                    <a:cubicBezTo>
                      <a:pt x="8093" y="6"/>
                      <a:pt x="8092" y="5"/>
                      <a:pt x="8092" y="4"/>
                    </a:cubicBezTo>
                    <a:cubicBezTo>
                      <a:pt x="8092" y="3"/>
                      <a:pt x="8093" y="2"/>
                      <a:pt x="8094" y="2"/>
                    </a:cubicBezTo>
                    <a:close/>
                    <a:moveTo>
                      <a:pt x="8102" y="2"/>
                    </a:moveTo>
                    <a:lnTo>
                      <a:pt x="8102" y="2"/>
                    </a:lnTo>
                    <a:cubicBezTo>
                      <a:pt x="8103" y="2"/>
                      <a:pt x="8104" y="3"/>
                      <a:pt x="8104" y="4"/>
                    </a:cubicBezTo>
                    <a:cubicBezTo>
                      <a:pt x="8104" y="5"/>
                      <a:pt x="8103" y="6"/>
                      <a:pt x="8102" y="6"/>
                    </a:cubicBezTo>
                    <a:lnTo>
                      <a:pt x="8102" y="6"/>
                    </a:lnTo>
                    <a:cubicBezTo>
                      <a:pt x="8101" y="6"/>
                      <a:pt x="8100" y="5"/>
                      <a:pt x="8100" y="4"/>
                    </a:cubicBezTo>
                    <a:cubicBezTo>
                      <a:pt x="8100" y="3"/>
                      <a:pt x="8101" y="2"/>
                      <a:pt x="8102" y="2"/>
                    </a:cubicBezTo>
                    <a:close/>
                    <a:moveTo>
                      <a:pt x="8110" y="2"/>
                    </a:moveTo>
                    <a:lnTo>
                      <a:pt x="8110" y="2"/>
                    </a:lnTo>
                    <a:cubicBezTo>
                      <a:pt x="8111" y="2"/>
                      <a:pt x="8112" y="3"/>
                      <a:pt x="8112" y="4"/>
                    </a:cubicBezTo>
                    <a:cubicBezTo>
                      <a:pt x="8112" y="5"/>
                      <a:pt x="8111" y="6"/>
                      <a:pt x="8110" y="6"/>
                    </a:cubicBezTo>
                    <a:lnTo>
                      <a:pt x="8110" y="6"/>
                    </a:lnTo>
                    <a:cubicBezTo>
                      <a:pt x="8109" y="6"/>
                      <a:pt x="8108" y="5"/>
                      <a:pt x="8108" y="4"/>
                    </a:cubicBezTo>
                    <a:cubicBezTo>
                      <a:pt x="8108" y="3"/>
                      <a:pt x="8109" y="2"/>
                      <a:pt x="8110" y="2"/>
                    </a:cubicBezTo>
                    <a:close/>
                    <a:moveTo>
                      <a:pt x="8118" y="2"/>
                    </a:moveTo>
                    <a:lnTo>
                      <a:pt x="8118" y="2"/>
                    </a:lnTo>
                    <a:cubicBezTo>
                      <a:pt x="8119" y="2"/>
                      <a:pt x="8120" y="3"/>
                      <a:pt x="8120" y="4"/>
                    </a:cubicBezTo>
                    <a:cubicBezTo>
                      <a:pt x="8120" y="5"/>
                      <a:pt x="8119" y="6"/>
                      <a:pt x="8118" y="6"/>
                    </a:cubicBezTo>
                    <a:lnTo>
                      <a:pt x="8118" y="6"/>
                    </a:lnTo>
                    <a:cubicBezTo>
                      <a:pt x="8117" y="6"/>
                      <a:pt x="8116" y="5"/>
                      <a:pt x="8116" y="4"/>
                    </a:cubicBezTo>
                    <a:cubicBezTo>
                      <a:pt x="8116" y="3"/>
                      <a:pt x="8117" y="2"/>
                      <a:pt x="8118" y="2"/>
                    </a:cubicBezTo>
                    <a:close/>
                    <a:moveTo>
                      <a:pt x="8126" y="2"/>
                    </a:moveTo>
                    <a:lnTo>
                      <a:pt x="8126" y="2"/>
                    </a:lnTo>
                    <a:cubicBezTo>
                      <a:pt x="8127" y="2"/>
                      <a:pt x="8128" y="3"/>
                      <a:pt x="8128" y="4"/>
                    </a:cubicBezTo>
                    <a:cubicBezTo>
                      <a:pt x="8128" y="5"/>
                      <a:pt x="8127" y="6"/>
                      <a:pt x="8126" y="6"/>
                    </a:cubicBezTo>
                    <a:lnTo>
                      <a:pt x="8126" y="6"/>
                    </a:lnTo>
                    <a:cubicBezTo>
                      <a:pt x="8125" y="6"/>
                      <a:pt x="8124" y="5"/>
                      <a:pt x="8124" y="4"/>
                    </a:cubicBezTo>
                    <a:cubicBezTo>
                      <a:pt x="8124" y="3"/>
                      <a:pt x="8125" y="2"/>
                      <a:pt x="8126" y="2"/>
                    </a:cubicBezTo>
                    <a:close/>
                    <a:moveTo>
                      <a:pt x="8134" y="2"/>
                    </a:moveTo>
                    <a:lnTo>
                      <a:pt x="8134" y="2"/>
                    </a:lnTo>
                    <a:cubicBezTo>
                      <a:pt x="8135" y="2"/>
                      <a:pt x="8136" y="3"/>
                      <a:pt x="8136" y="4"/>
                    </a:cubicBezTo>
                    <a:cubicBezTo>
                      <a:pt x="8136" y="5"/>
                      <a:pt x="8135" y="6"/>
                      <a:pt x="8134" y="6"/>
                    </a:cubicBezTo>
                    <a:lnTo>
                      <a:pt x="8134" y="6"/>
                    </a:lnTo>
                    <a:cubicBezTo>
                      <a:pt x="8133" y="6"/>
                      <a:pt x="8132" y="5"/>
                      <a:pt x="8132" y="4"/>
                    </a:cubicBezTo>
                    <a:cubicBezTo>
                      <a:pt x="8132" y="3"/>
                      <a:pt x="8133" y="2"/>
                      <a:pt x="8134" y="2"/>
                    </a:cubicBezTo>
                    <a:close/>
                    <a:moveTo>
                      <a:pt x="8142" y="2"/>
                    </a:moveTo>
                    <a:lnTo>
                      <a:pt x="8142" y="2"/>
                    </a:lnTo>
                    <a:cubicBezTo>
                      <a:pt x="8143" y="2"/>
                      <a:pt x="8144" y="3"/>
                      <a:pt x="8144" y="4"/>
                    </a:cubicBezTo>
                    <a:cubicBezTo>
                      <a:pt x="8144" y="5"/>
                      <a:pt x="8143" y="6"/>
                      <a:pt x="8142" y="6"/>
                    </a:cubicBezTo>
                    <a:lnTo>
                      <a:pt x="8142" y="6"/>
                    </a:lnTo>
                    <a:cubicBezTo>
                      <a:pt x="8141" y="6"/>
                      <a:pt x="8140" y="5"/>
                      <a:pt x="8140" y="4"/>
                    </a:cubicBezTo>
                    <a:cubicBezTo>
                      <a:pt x="8140" y="3"/>
                      <a:pt x="8141" y="2"/>
                      <a:pt x="8142" y="2"/>
                    </a:cubicBezTo>
                    <a:close/>
                    <a:moveTo>
                      <a:pt x="8150" y="2"/>
                    </a:moveTo>
                    <a:lnTo>
                      <a:pt x="8150" y="2"/>
                    </a:lnTo>
                    <a:cubicBezTo>
                      <a:pt x="8151" y="2"/>
                      <a:pt x="8152" y="3"/>
                      <a:pt x="8152" y="4"/>
                    </a:cubicBezTo>
                    <a:cubicBezTo>
                      <a:pt x="8152" y="5"/>
                      <a:pt x="8151" y="6"/>
                      <a:pt x="8150" y="6"/>
                    </a:cubicBezTo>
                    <a:lnTo>
                      <a:pt x="8150" y="6"/>
                    </a:lnTo>
                    <a:cubicBezTo>
                      <a:pt x="8149" y="6"/>
                      <a:pt x="8148" y="5"/>
                      <a:pt x="8148" y="4"/>
                    </a:cubicBezTo>
                    <a:cubicBezTo>
                      <a:pt x="8148" y="3"/>
                      <a:pt x="8149" y="2"/>
                      <a:pt x="8150" y="2"/>
                    </a:cubicBezTo>
                    <a:close/>
                    <a:moveTo>
                      <a:pt x="8158" y="2"/>
                    </a:moveTo>
                    <a:lnTo>
                      <a:pt x="8158" y="2"/>
                    </a:lnTo>
                    <a:cubicBezTo>
                      <a:pt x="8159" y="2"/>
                      <a:pt x="8160" y="3"/>
                      <a:pt x="8160" y="4"/>
                    </a:cubicBezTo>
                    <a:cubicBezTo>
                      <a:pt x="8160" y="5"/>
                      <a:pt x="8159" y="6"/>
                      <a:pt x="8158" y="6"/>
                    </a:cubicBezTo>
                    <a:lnTo>
                      <a:pt x="8158" y="6"/>
                    </a:lnTo>
                    <a:cubicBezTo>
                      <a:pt x="8157" y="6"/>
                      <a:pt x="8156" y="5"/>
                      <a:pt x="8156" y="4"/>
                    </a:cubicBezTo>
                    <a:cubicBezTo>
                      <a:pt x="8156" y="3"/>
                      <a:pt x="8157" y="2"/>
                      <a:pt x="8158" y="2"/>
                    </a:cubicBezTo>
                    <a:close/>
                    <a:moveTo>
                      <a:pt x="8166" y="2"/>
                    </a:moveTo>
                    <a:lnTo>
                      <a:pt x="8166" y="2"/>
                    </a:lnTo>
                    <a:cubicBezTo>
                      <a:pt x="8167" y="2"/>
                      <a:pt x="8168" y="3"/>
                      <a:pt x="8168" y="4"/>
                    </a:cubicBezTo>
                    <a:cubicBezTo>
                      <a:pt x="8168" y="5"/>
                      <a:pt x="8167" y="6"/>
                      <a:pt x="8166" y="6"/>
                    </a:cubicBezTo>
                    <a:lnTo>
                      <a:pt x="8166" y="6"/>
                    </a:lnTo>
                    <a:cubicBezTo>
                      <a:pt x="8165" y="6"/>
                      <a:pt x="8164" y="5"/>
                      <a:pt x="8164" y="4"/>
                    </a:cubicBezTo>
                    <a:cubicBezTo>
                      <a:pt x="8164" y="3"/>
                      <a:pt x="8165" y="2"/>
                      <a:pt x="8166" y="2"/>
                    </a:cubicBezTo>
                    <a:close/>
                    <a:moveTo>
                      <a:pt x="8174" y="2"/>
                    </a:moveTo>
                    <a:lnTo>
                      <a:pt x="8174" y="2"/>
                    </a:lnTo>
                    <a:cubicBezTo>
                      <a:pt x="8175" y="2"/>
                      <a:pt x="8176" y="3"/>
                      <a:pt x="8176" y="4"/>
                    </a:cubicBezTo>
                    <a:cubicBezTo>
                      <a:pt x="8176" y="5"/>
                      <a:pt x="8175" y="6"/>
                      <a:pt x="8174" y="6"/>
                    </a:cubicBezTo>
                    <a:lnTo>
                      <a:pt x="8174" y="6"/>
                    </a:lnTo>
                    <a:cubicBezTo>
                      <a:pt x="8173" y="6"/>
                      <a:pt x="8172" y="5"/>
                      <a:pt x="8172" y="4"/>
                    </a:cubicBezTo>
                    <a:cubicBezTo>
                      <a:pt x="8172" y="3"/>
                      <a:pt x="8173" y="2"/>
                      <a:pt x="8174" y="2"/>
                    </a:cubicBezTo>
                    <a:close/>
                    <a:moveTo>
                      <a:pt x="8182" y="2"/>
                    </a:moveTo>
                    <a:lnTo>
                      <a:pt x="8182" y="2"/>
                    </a:lnTo>
                    <a:cubicBezTo>
                      <a:pt x="8183" y="2"/>
                      <a:pt x="8184" y="3"/>
                      <a:pt x="8184" y="4"/>
                    </a:cubicBezTo>
                    <a:cubicBezTo>
                      <a:pt x="8184" y="5"/>
                      <a:pt x="8183" y="6"/>
                      <a:pt x="8182" y="6"/>
                    </a:cubicBezTo>
                    <a:lnTo>
                      <a:pt x="8182" y="6"/>
                    </a:lnTo>
                    <a:cubicBezTo>
                      <a:pt x="8181" y="6"/>
                      <a:pt x="8180" y="5"/>
                      <a:pt x="8180" y="4"/>
                    </a:cubicBezTo>
                    <a:cubicBezTo>
                      <a:pt x="8180" y="3"/>
                      <a:pt x="8181" y="2"/>
                      <a:pt x="8182" y="2"/>
                    </a:cubicBezTo>
                    <a:close/>
                    <a:moveTo>
                      <a:pt x="8190" y="2"/>
                    </a:moveTo>
                    <a:lnTo>
                      <a:pt x="8190" y="2"/>
                    </a:lnTo>
                    <a:cubicBezTo>
                      <a:pt x="8191" y="2"/>
                      <a:pt x="8192" y="3"/>
                      <a:pt x="8192" y="4"/>
                    </a:cubicBezTo>
                    <a:cubicBezTo>
                      <a:pt x="8192" y="5"/>
                      <a:pt x="8191" y="6"/>
                      <a:pt x="8190" y="6"/>
                    </a:cubicBezTo>
                    <a:lnTo>
                      <a:pt x="8190" y="6"/>
                    </a:lnTo>
                    <a:cubicBezTo>
                      <a:pt x="8189" y="6"/>
                      <a:pt x="8188" y="5"/>
                      <a:pt x="8188" y="4"/>
                    </a:cubicBezTo>
                    <a:cubicBezTo>
                      <a:pt x="8188" y="3"/>
                      <a:pt x="8189" y="2"/>
                      <a:pt x="8190" y="2"/>
                    </a:cubicBezTo>
                    <a:close/>
                    <a:moveTo>
                      <a:pt x="8198" y="2"/>
                    </a:moveTo>
                    <a:lnTo>
                      <a:pt x="8198" y="2"/>
                    </a:lnTo>
                    <a:cubicBezTo>
                      <a:pt x="8199" y="2"/>
                      <a:pt x="8200" y="3"/>
                      <a:pt x="8200" y="4"/>
                    </a:cubicBezTo>
                    <a:cubicBezTo>
                      <a:pt x="8200" y="5"/>
                      <a:pt x="8199" y="6"/>
                      <a:pt x="8198" y="6"/>
                    </a:cubicBezTo>
                    <a:lnTo>
                      <a:pt x="8198" y="6"/>
                    </a:lnTo>
                    <a:cubicBezTo>
                      <a:pt x="8197" y="6"/>
                      <a:pt x="8196" y="5"/>
                      <a:pt x="8196" y="4"/>
                    </a:cubicBezTo>
                    <a:cubicBezTo>
                      <a:pt x="8196" y="3"/>
                      <a:pt x="8197" y="2"/>
                      <a:pt x="8198" y="2"/>
                    </a:cubicBezTo>
                    <a:close/>
                    <a:moveTo>
                      <a:pt x="8206" y="2"/>
                    </a:moveTo>
                    <a:lnTo>
                      <a:pt x="8206" y="2"/>
                    </a:lnTo>
                    <a:cubicBezTo>
                      <a:pt x="8207" y="2"/>
                      <a:pt x="8208" y="3"/>
                      <a:pt x="8208" y="4"/>
                    </a:cubicBezTo>
                    <a:cubicBezTo>
                      <a:pt x="8208" y="5"/>
                      <a:pt x="8207" y="6"/>
                      <a:pt x="8206" y="6"/>
                    </a:cubicBezTo>
                    <a:lnTo>
                      <a:pt x="8206" y="6"/>
                    </a:lnTo>
                    <a:cubicBezTo>
                      <a:pt x="8205" y="6"/>
                      <a:pt x="8204" y="5"/>
                      <a:pt x="8204" y="4"/>
                    </a:cubicBezTo>
                    <a:cubicBezTo>
                      <a:pt x="8204" y="3"/>
                      <a:pt x="8205" y="2"/>
                      <a:pt x="8206" y="2"/>
                    </a:cubicBezTo>
                    <a:close/>
                    <a:moveTo>
                      <a:pt x="8214" y="2"/>
                    </a:moveTo>
                    <a:lnTo>
                      <a:pt x="8214" y="2"/>
                    </a:lnTo>
                    <a:cubicBezTo>
                      <a:pt x="8215" y="2"/>
                      <a:pt x="8216" y="3"/>
                      <a:pt x="8216" y="4"/>
                    </a:cubicBezTo>
                    <a:cubicBezTo>
                      <a:pt x="8216" y="5"/>
                      <a:pt x="8215" y="6"/>
                      <a:pt x="8214" y="6"/>
                    </a:cubicBezTo>
                    <a:lnTo>
                      <a:pt x="8214" y="6"/>
                    </a:lnTo>
                    <a:cubicBezTo>
                      <a:pt x="8213" y="6"/>
                      <a:pt x="8212" y="5"/>
                      <a:pt x="8212" y="4"/>
                    </a:cubicBezTo>
                    <a:cubicBezTo>
                      <a:pt x="8212" y="3"/>
                      <a:pt x="8213" y="2"/>
                      <a:pt x="8214" y="2"/>
                    </a:cubicBezTo>
                    <a:close/>
                    <a:moveTo>
                      <a:pt x="8222" y="2"/>
                    </a:moveTo>
                    <a:lnTo>
                      <a:pt x="8222" y="2"/>
                    </a:lnTo>
                    <a:cubicBezTo>
                      <a:pt x="8223" y="2"/>
                      <a:pt x="8224" y="3"/>
                      <a:pt x="8224" y="4"/>
                    </a:cubicBezTo>
                    <a:cubicBezTo>
                      <a:pt x="8224" y="5"/>
                      <a:pt x="8223" y="6"/>
                      <a:pt x="8222" y="6"/>
                    </a:cubicBezTo>
                    <a:lnTo>
                      <a:pt x="8222" y="6"/>
                    </a:lnTo>
                    <a:cubicBezTo>
                      <a:pt x="8221" y="6"/>
                      <a:pt x="8220" y="5"/>
                      <a:pt x="8220" y="4"/>
                    </a:cubicBezTo>
                    <a:cubicBezTo>
                      <a:pt x="8220" y="3"/>
                      <a:pt x="8221" y="2"/>
                      <a:pt x="8222" y="2"/>
                    </a:cubicBezTo>
                    <a:close/>
                    <a:moveTo>
                      <a:pt x="8230" y="2"/>
                    </a:moveTo>
                    <a:lnTo>
                      <a:pt x="8230" y="2"/>
                    </a:lnTo>
                    <a:cubicBezTo>
                      <a:pt x="8231" y="2"/>
                      <a:pt x="8232" y="3"/>
                      <a:pt x="8232" y="4"/>
                    </a:cubicBezTo>
                    <a:cubicBezTo>
                      <a:pt x="8232" y="5"/>
                      <a:pt x="8231" y="6"/>
                      <a:pt x="8230" y="6"/>
                    </a:cubicBezTo>
                    <a:lnTo>
                      <a:pt x="8230" y="6"/>
                    </a:lnTo>
                    <a:cubicBezTo>
                      <a:pt x="8229" y="6"/>
                      <a:pt x="8228" y="5"/>
                      <a:pt x="8228" y="4"/>
                    </a:cubicBezTo>
                    <a:cubicBezTo>
                      <a:pt x="8228" y="3"/>
                      <a:pt x="8229" y="2"/>
                      <a:pt x="8230" y="2"/>
                    </a:cubicBezTo>
                    <a:close/>
                    <a:moveTo>
                      <a:pt x="8238" y="2"/>
                    </a:moveTo>
                    <a:lnTo>
                      <a:pt x="8238" y="2"/>
                    </a:lnTo>
                    <a:cubicBezTo>
                      <a:pt x="8239" y="2"/>
                      <a:pt x="8240" y="3"/>
                      <a:pt x="8240" y="4"/>
                    </a:cubicBezTo>
                    <a:cubicBezTo>
                      <a:pt x="8240" y="5"/>
                      <a:pt x="8239" y="6"/>
                      <a:pt x="8238" y="6"/>
                    </a:cubicBezTo>
                    <a:lnTo>
                      <a:pt x="8238" y="6"/>
                    </a:lnTo>
                    <a:cubicBezTo>
                      <a:pt x="8237" y="6"/>
                      <a:pt x="8236" y="5"/>
                      <a:pt x="8236" y="4"/>
                    </a:cubicBezTo>
                    <a:cubicBezTo>
                      <a:pt x="8236" y="3"/>
                      <a:pt x="8237" y="2"/>
                      <a:pt x="8238" y="2"/>
                    </a:cubicBezTo>
                    <a:close/>
                    <a:moveTo>
                      <a:pt x="8246" y="2"/>
                    </a:moveTo>
                    <a:lnTo>
                      <a:pt x="8246" y="2"/>
                    </a:lnTo>
                    <a:cubicBezTo>
                      <a:pt x="8247" y="2"/>
                      <a:pt x="8248" y="3"/>
                      <a:pt x="8248" y="4"/>
                    </a:cubicBezTo>
                    <a:cubicBezTo>
                      <a:pt x="8248" y="5"/>
                      <a:pt x="8247" y="6"/>
                      <a:pt x="8246" y="6"/>
                    </a:cubicBezTo>
                    <a:lnTo>
                      <a:pt x="8246" y="6"/>
                    </a:lnTo>
                    <a:cubicBezTo>
                      <a:pt x="8245" y="6"/>
                      <a:pt x="8244" y="5"/>
                      <a:pt x="8244" y="4"/>
                    </a:cubicBezTo>
                    <a:cubicBezTo>
                      <a:pt x="8244" y="3"/>
                      <a:pt x="8245" y="2"/>
                      <a:pt x="8246" y="2"/>
                    </a:cubicBezTo>
                    <a:close/>
                    <a:moveTo>
                      <a:pt x="8254" y="2"/>
                    </a:moveTo>
                    <a:lnTo>
                      <a:pt x="8254" y="2"/>
                    </a:lnTo>
                    <a:cubicBezTo>
                      <a:pt x="8255" y="2"/>
                      <a:pt x="8256" y="3"/>
                      <a:pt x="8256" y="4"/>
                    </a:cubicBezTo>
                    <a:cubicBezTo>
                      <a:pt x="8256" y="5"/>
                      <a:pt x="8255" y="6"/>
                      <a:pt x="8254" y="6"/>
                    </a:cubicBezTo>
                    <a:lnTo>
                      <a:pt x="8254" y="6"/>
                    </a:lnTo>
                    <a:cubicBezTo>
                      <a:pt x="8253" y="6"/>
                      <a:pt x="8252" y="5"/>
                      <a:pt x="8252" y="4"/>
                    </a:cubicBezTo>
                    <a:cubicBezTo>
                      <a:pt x="8252" y="3"/>
                      <a:pt x="8253" y="2"/>
                      <a:pt x="8254" y="2"/>
                    </a:cubicBezTo>
                    <a:close/>
                    <a:moveTo>
                      <a:pt x="8262" y="2"/>
                    </a:moveTo>
                    <a:lnTo>
                      <a:pt x="8262" y="2"/>
                    </a:lnTo>
                    <a:cubicBezTo>
                      <a:pt x="8263" y="2"/>
                      <a:pt x="8264" y="3"/>
                      <a:pt x="8264" y="4"/>
                    </a:cubicBezTo>
                    <a:cubicBezTo>
                      <a:pt x="8264" y="5"/>
                      <a:pt x="8263" y="6"/>
                      <a:pt x="8262" y="6"/>
                    </a:cubicBezTo>
                    <a:lnTo>
                      <a:pt x="8262" y="6"/>
                    </a:lnTo>
                    <a:cubicBezTo>
                      <a:pt x="8261" y="6"/>
                      <a:pt x="8260" y="5"/>
                      <a:pt x="8260" y="4"/>
                    </a:cubicBezTo>
                    <a:cubicBezTo>
                      <a:pt x="8260" y="3"/>
                      <a:pt x="8261" y="2"/>
                      <a:pt x="8262" y="2"/>
                    </a:cubicBezTo>
                    <a:close/>
                    <a:moveTo>
                      <a:pt x="8270" y="2"/>
                    </a:moveTo>
                    <a:lnTo>
                      <a:pt x="8270" y="2"/>
                    </a:lnTo>
                    <a:cubicBezTo>
                      <a:pt x="8271" y="2"/>
                      <a:pt x="8272" y="3"/>
                      <a:pt x="8272" y="4"/>
                    </a:cubicBezTo>
                    <a:cubicBezTo>
                      <a:pt x="8272" y="5"/>
                      <a:pt x="8271" y="6"/>
                      <a:pt x="8270" y="6"/>
                    </a:cubicBezTo>
                    <a:lnTo>
                      <a:pt x="8270" y="6"/>
                    </a:lnTo>
                    <a:cubicBezTo>
                      <a:pt x="8269" y="6"/>
                      <a:pt x="8268" y="5"/>
                      <a:pt x="8268" y="4"/>
                    </a:cubicBezTo>
                    <a:cubicBezTo>
                      <a:pt x="8268" y="3"/>
                      <a:pt x="8269" y="2"/>
                      <a:pt x="8270" y="2"/>
                    </a:cubicBezTo>
                    <a:close/>
                    <a:moveTo>
                      <a:pt x="8278" y="2"/>
                    </a:moveTo>
                    <a:lnTo>
                      <a:pt x="8278" y="2"/>
                    </a:lnTo>
                    <a:cubicBezTo>
                      <a:pt x="8279" y="2"/>
                      <a:pt x="8280" y="3"/>
                      <a:pt x="8280" y="4"/>
                    </a:cubicBezTo>
                    <a:cubicBezTo>
                      <a:pt x="8280" y="5"/>
                      <a:pt x="8279" y="6"/>
                      <a:pt x="8278" y="6"/>
                    </a:cubicBezTo>
                    <a:lnTo>
                      <a:pt x="8278" y="6"/>
                    </a:lnTo>
                    <a:cubicBezTo>
                      <a:pt x="8277" y="6"/>
                      <a:pt x="8276" y="5"/>
                      <a:pt x="8276" y="4"/>
                    </a:cubicBezTo>
                    <a:cubicBezTo>
                      <a:pt x="8276" y="3"/>
                      <a:pt x="8277" y="2"/>
                      <a:pt x="8278" y="2"/>
                    </a:cubicBezTo>
                    <a:close/>
                    <a:moveTo>
                      <a:pt x="8286" y="2"/>
                    </a:moveTo>
                    <a:lnTo>
                      <a:pt x="8286" y="2"/>
                    </a:lnTo>
                    <a:cubicBezTo>
                      <a:pt x="8287" y="2"/>
                      <a:pt x="8288" y="3"/>
                      <a:pt x="8288" y="4"/>
                    </a:cubicBezTo>
                    <a:cubicBezTo>
                      <a:pt x="8288" y="5"/>
                      <a:pt x="8287" y="6"/>
                      <a:pt x="8286" y="6"/>
                    </a:cubicBezTo>
                    <a:lnTo>
                      <a:pt x="8286" y="6"/>
                    </a:lnTo>
                    <a:cubicBezTo>
                      <a:pt x="8285" y="6"/>
                      <a:pt x="8284" y="5"/>
                      <a:pt x="8284" y="4"/>
                    </a:cubicBezTo>
                    <a:cubicBezTo>
                      <a:pt x="8284" y="3"/>
                      <a:pt x="8285" y="2"/>
                      <a:pt x="8286" y="2"/>
                    </a:cubicBezTo>
                    <a:close/>
                    <a:moveTo>
                      <a:pt x="8294" y="2"/>
                    </a:moveTo>
                    <a:lnTo>
                      <a:pt x="8294" y="2"/>
                    </a:lnTo>
                    <a:cubicBezTo>
                      <a:pt x="8295" y="2"/>
                      <a:pt x="8296" y="3"/>
                      <a:pt x="8296" y="4"/>
                    </a:cubicBezTo>
                    <a:cubicBezTo>
                      <a:pt x="8296" y="5"/>
                      <a:pt x="8295" y="6"/>
                      <a:pt x="8294" y="6"/>
                    </a:cubicBezTo>
                    <a:lnTo>
                      <a:pt x="8294" y="6"/>
                    </a:lnTo>
                    <a:cubicBezTo>
                      <a:pt x="8293" y="6"/>
                      <a:pt x="8292" y="5"/>
                      <a:pt x="8292" y="4"/>
                    </a:cubicBezTo>
                    <a:cubicBezTo>
                      <a:pt x="8292" y="3"/>
                      <a:pt x="8293" y="2"/>
                      <a:pt x="8294" y="2"/>
                    </a:cubicBezTo>
                    <a:close/>
                    <a:moveTo>
                      <a:pt x="8302" y="2"/>
                    </a:moveTo>
                    <a:lnTo>
                      <a:pt x="8302" y="2"/>
                    </a:lnTo>
                    <a:cubicBezTo>
                      <a:pt x="8303" y="2"/>
                      <a:pt x="8304" y="3"/>
                      <a:pt x="8304" y="4"/>
                    </a:cubicBezTo>
                    <a:cubicBezTo>
                      <a:pt x="8304" y="5"/>
                      <a:pt x="8303" y="6"/>
                      <a:pt x="8302" y="6"/>
                    </a:cubicBezTo>
                    <a:lnTo>
                      <a:pt x="8302" y="6"/>
                    </a:lnTo>
                    <a:cubicBezTo>
                      <a:pt x="8301" y="6"/>
                      <a:pt x="8300" y="5"/>
                      <a:pt x="8300" y="4"/>
                    </a:cubicBezTo>
                    <a:cubicBezTo>
                      <a:pt x="8300" y="3"/>
                      <a:pt x="8301" y="2"/>
                      <a:pt x="8302" y="2"/>
                    </a:cubicBezTo>
                    <a:close/>
                    <a:moveTo>
                      <a:pt x="8310" y="2"/>
                    </a:moveTo>
                    <a:lnTo>
                      <a:pt x="8310" y="2"/>
                    </a:lnTo>
                    <a:cubicBezTo>
                      <a:pt x="8311" y="2"/>
                      <a:pt x="8312" y="3"/>
                      <a:pt x="8312" y="4"/>
                    </a:cubicBezTo>
                    <a:cubicBezTo>
                      <a:pt x="8312" y="5"/>
                      <a:pt x="8311" y="6"/>
                      <a:pt x="8310" y="6"/>
                    </a:cubicBezTo>
                    <a:lnTo>
                      <a:pt x="8310" y="6"/>
                    </a:lnTo>
                    <a:cubicBezTo>
                      <a:pt x="8309" y="6"/>
                      <a:pt x="8308" y="5"/>
                      <a:pt x="8308" y="4"/>
                    </a:cubicBezTo>
                    <a:cubicBezTo>
                      <a:pt x="8308" y="3"/>
                      <a:pt x="8309" y="2"/>
                      <a:pt x="8310" y="2"/>
                    </a:cubicBezTo>
                    <a:close/>
                    <a:moveTo>
                      <a:pt x="8318" y="2"/>
                    </a:moveTo>
                    <a:lnTo>
                      <a:pt x="8318" y="2"/>
                    </a:lnTo>
                    <a:cubicBezTo>
                      <a:pt x="8319" y="2"/>
                      <a:pt x="8320" y="3"/>
                      <a:pt x="8320" y="4"/>
                    </a:cubicBezTo>
                    <a:cubicBezTo>
                      <a:pt x="8320" y="5"/>
                      <a:pt x="8319" y="6"/>
                      <a:pt x="8318" y="6"/>
                    </a:cubicBezTo>
                    <a:lnTo>
                      <a:pt x="8318" y="6"/>
                    </a:lnTo>
                    <a:cubicBezTo>
                      <a:pt x="8317" y="6"/>
                      <a:pt x="8316" y="5"/>
                      <a:pt x="8316" y="4"/>
                    </a:cubicBezTo>
                    <a:cubicBezTo>
                      <a:pt x="8316" y="3"/>
                      <a:pt x="8317" y="2"/>
                      <a:pt x="8318" y="2"/>
                    </a:cubicBezTo>
                    <a:close/>
                    <a:moveTo>
                      <a:pt x="8326" y="2"/>
                    </a:moveTo>
                    <a:lnTo>
                      <a:pt x="8326" y="2"/>
                    </a:lnTo>
                    <a:cubicBezTo>
                      <a:pt x="8327" y="2"/>
                      <a:pt x="8328" y="3"/>
                      <a:pt x="8328" y="4"/>
                    </a:cubicBezTo>
                    <a:cubicBezTo>
                      <a:pt x="8328" y="5"/>
                      <a:pt x="8327" y="6"/>
                      <a:pt x="8326" y="6"/>
                    </a:cubicBezTo>
                    <a:lnTo>
                      <a:pt x="8326" y="6"/>
                    </a:lnTo>
                    <a:cubicBezTo>
                      <a:pt x="8325" y="6"/>
                      <a:pt x="8324" y="5"/>
                      <a:pt x="8324" y="4"/>
                    </a:cubicBezTo>
                    <a:cubicBezTo>
                      <a:pt x="8324" y="3"/>
                      <a:pt x="8325" y="2"/>
                      <a:pt x="8326" y="2"/>
                    </a:cubicBezTo>
                    <a:close/>
                    <a:moveTo>
                      <a:pt x="8334" y="2"/>
                    </a:moveTo>
                    <a:lnTo>
                      <a:pt x="8334" y="2"/>
                    </a:lnTo>
                    <a:cubicBezTo>
                      <a:pt x="8335" y="2"/>
                      <a:pt x="8336" y="3"/>
                      <a:pt x="8336" y="4"/>
                    </a:cubicBezTo>
                    <a:cubicBezTo>
                      <a:pt x="8336" y="5"/>
                      <a:pt x="8335" y="6"/>
                      <a:pt x="8334" y="6"/>
                    </a:cubicBezTo>
                    <a:lnTo>
                      <a:pt x="8334" y="6"/>
                    </a:lnTo>
                    <a:cubicBezTo>
                      <a:pt x="8333" y="6"/>
                      <a:pt x="8332" y="5"/>
                      <a:pt x="8332" y="4"/>
                    </a:cubicBezTo>
                    <a:cubicBezTo>
                      <a:pt x="8332" y="3"/>
                      <a:pt x="8333" y="2"/>
                      <a:pt x="8334" y="2"/>
                    </a:cubicBezTo>
                    <a:close/>
                    <a:moveTo>
                      <a:pt x="8342" y="2"/>
                    </a:moveTo>
                    <a:lnTo>
                      <a:pt x="8342" y="2"/>
                    </a:lnTo>
                    <a:cubicBezTo>
                      <a:pt x="8343" y="2"/>
                      <a:pt x="8344" y="3"/>
                      <a:pt x="8344" y="4"/>
                    </a:cubicBezTo>
                    <a:cubicBezTo>
                      <a:pt x="8344" y="5"/>
                      <a:pt x="8343" y="6"/>
                      <a:pt x="8342" y="6"/>
                    </a:cubicBezTo>
                    <a:lnTo>
                      <a:pt x="8342" y="6"/>
                    </a:lnTo>
                    <a:cubicBezTo>
                      <a:pt x="8341" y="6"/>
                      <a:pt x="8340" y="5"/>
                      <a:pt x="8340" y="4"/>
                    </a:cubicBezTo>
                    <a:cubicBezTo>
                      <a:pt x="8340" y="3"/>
                      <a:pt x="8341" y="2"/>
                      <a:pt x="8342" y="2"/>
                    </a:cubicBezTo>
                    <a:close/>
                    <a:moveTo>
                      <a:pt x="8350" y="2"/>
                    </a:moveTo>
                    <a:lnTo>
                      <a:pt x="8350" y="2"/>
                    </a:lnTo>
                    <a:cubicBezTo>
                      <a:pt x="8351" y="2"/>
                      <a:pt x="8352" y="3"/>
                      <a:pt x="8352" y="4"/>
                    </a:cubicBezTo>
                    <a:cubicBezTo>
                      <a:pt x="8352" y="5"/>
                      <a:pt x="8351" y="6"/>
                      <a:pt x="8350" y="6"/>
                    </a:cubicBezTo>
                    <a:lnTo>
                      <a:pt x="8350" y="6"/>
                    </a:lnTo>
                    <a:cubicBezTo>
                      <a:pt x="8349" y="6"/>
                      <a:pt x="8348" y="5"/>
                      <a:pt x="8348" y="4"/>
                    </a:cubicBezTo>
                    <a:cubicBezTo>
                      <a:pt x="8348" y="3"/>
                      <a:pt x="8349" y="2"/>
                      <a:pt x="8350" y="2"/>
                    </a:cubicBezTo>
                    <a:close/>
                    <a:moveTo>
                      <a:pt x="8358" y="2"/>
                    </a:moveTo>
                    <a:lnTo>
                      <a:pt x="8358" y="2"/>
                    </a:lnTo>
                    <a:cubicBezTo>
                      <a:pt x="8359" y="2"/>
                      <a:pt x="8360" y="3"/>
                      <a:pt x="8360" y="4"/>
                    </a:cubicBezTo>
                    <a:cubicBezTo>
                      <a:pt x="8360" y="5"/>
                      <a:pt x="8359" y="6"/>
                      <a:pt x="8358" y="6"/>
                    </a:cubicBezTo>
                    <a:lnTo>
                      <a:pt x="8358" y="6"/>
                    </a:lnTo>
                    <a:cubicBezTo>
                      <a:pt x="8357" y="6"/>
                      <a:pt x="8356" y="5"/>
                      <a:pt x="8356" y="4"/>
                    </a:cubicBezTo>
                    <a:cubicBezTo>
                      <a:pt x="8356" y="3"/>
                      <a:pt x="8357" y="2"/>
                      <a:pt x="8358" y="2"/>
                    </a:cubicBezTo>
                    <a:close/>
                    <a:moveTo>
                      <a:pt x="8366" y="2"/>
                    </a:moveTo>
                    <a:lnTo>
                      <a:pt x="8366" y="2"/>
                    </a:lnTo>
                    <a:cubicBezTo>
                      <a:pt x="8367" y="2"/>
                      <a:pt x="8368" y="3"/>
                      <a:pt x="8368" y="4"/>
                    </a:cubicBezTo>
                    <a:cubicBezTo>
                      <a:pt x="8368" y="5"/>
                      <a:pt x="8367" y="6"/>
                      <a:pt x="8366" y="6"/>
                    </a:cubicBezTo>
                    <a:lnTo>
                      <a:pt x="8366" y="6"/>
                    </a:lnTo>
                    <a:cubicBezTo>
                      <a:pt x="8365" y="6"/>
                      <a:pt x="8364" y="5"/>
                      <a:pt x="8364" y="4"/>
                    </a:cubicBezTo>
                    <a:cubicBezTo>
                      <a:pt x="8364" y="3"/>
                      <a:pt x="8365" y="2"/>
                      <a:pt x="8366" y="2"/>
                    </a:cubicBezTo>
                    <a:close/>
                    <a:moveTo>
                      <a:pt x="8374" y="2"/>
                    </a:moveTo>
                    <a:lnTo>
                      <a:pt x="8374" y="2"/>
                    </a:lnTo>
                    <a:cubicBezTo>
                      <a:pt x="8375" y="2"/>
                      <a:pt x="8376" y="3"/>
                      <a:pt x="8376" y="4"/>
                    </a:cubicBezTo>
                    <a:cubicBezTo>
                      <a:pt x="8376" y="5"/>
                      <a:pt x="8375" y="6"/>
                      <a:pt x="8374" y="6"/>
                    </a:cubicBezTo>
                    <a:lnTo>
                      <a:pt x="8374" y="6"/>
                    </a:lnTo>
                    <a:cubicBezTo>
                      <a:pt x="8373" y="6"/>
                      <a:pt x="8372" y="5"/>
                      <a:pt x="8372" y="4"/>
                    </a:cubicBezTo>
                    <a:cubicBezTo>
                      <a:pt x="8372" y="3"/>
                      <a:pt x="8373" y="2"/>
                      <a:pt x="8374" y="2"/>
                    </a:cubicBezTo>
                    <a:close/>
                    <a:moveTo>
                      <a:pt x="8382" y="2"/>
                    </a:moveTo>
                    <a:lnTo>
                      <a:pt x="8382" y="2"/>
                    </a:lnTo>
                    <a:cubicBezTo>
                      <a:pt x="8383" y="2"/>
                      <a:pt x="8384" y="3"/>
                      <a:pt x="8384" y="4"/>
                    </a:cubicBezTo>
                    <a:cubicBezTo>
                      <a:pt x="8384" y="5"/>
                      <a:pt x="8383" y="6"/>
                      <a:pt x="8382" y="6"/>
                    </a:cubicBezTo>
                    <a:lnTo>
                      <a:pt x="8382" y="6"/>
                    </a:lnTo>
                    <a:cubicBezTo>
                      <a:pt x="8381" y="6"/>
                      <a:pt x="8380" y="5"/>
                      <a:pt x="8380" y="4"/>
                    </a:cubicBezTo>
                    <a:cubicBezTo>
                      <a:pt x="8380" y="3"/>
                      <a:pt x="8381" y="2"/>
                      <a:pt x="8382" y="2"/>
                    </a:cubicBezTo>
                    <a:close/>
                    <a:moveTo>
                      <a:pt x="8390" y="2"/>
                    </a:moveTo>
                    <a:lnTo>
                      <a:pt x="8390" y="2"/>
                    </a:lnTo>
                    <a:cubicBezTo>
                      <a:pt x="8391" y="2"/>
                      <a:pt x="8392" y="3"/>
                      <a:pt x="8392" y="4"/>
                    </a:cubicBezTo>
                    <a:cubicBezTo>
                      <a:pt x="8392" y="5"/>
                      <a:pt x="8391" y="6"/>
                      <a:pt x="8390" y="6"/>
                    </a:cubicBezTo>
                    <a:lnTo>
                      <a:pt x="8390" y="6"/>
                    </a:lnTo>
                    <a:cubicBezTo>
                      <a:pt x="8389" y="6"/>
                      <a:pt x="8388" y="5"/>
                      <a:pt x="8388" y="4"/>
                    </a:cubicBezTo>
                    <a:cubicBezTo>
                      <a:pt x="8388" y="3"/>
                      <a:pt x="8389" y="2"/>
                      <a:pt x="8390" y="2"/>
                    </a:cubicBezTo>
                    <a:close/>
                    <a:moveTo>
                      <a:pt x="8398" y="2"/>
                    </a:moveTo>
                    <a:lnTo>
                      <a:pt x="8398" y="2"/>
                    </a:lnTo>
                    <a:cubicBezTo>
                      <a:pt x="8399" y="2"/>
                      <a:pt x="8400" y="3"/>
                      <a:pt x="8400" y="4"/>
                    </a:cubicBezTo>
                    <a:cubicBezTo>
                      <a:pt x="8400" y="5"/>
                      <a:pt x="8399" y="6"/>
                      <a:pt x="8398" y="6"/>
                    </a:cubicBezTo>
                    <a:lnTo>
                      <a:pt x="8398" y="6"/>
                    </a:lnTo>
                    <a:cubicBezTo>
                      <a:pt x="8397" y="6"/>
                      <a:pt x="8396" y="5"/>
                      <a:pt x="8396" y="4"/>
                    </a:cubicBezTo>
                    <a:cubicBezTo>
                      <a:pt x="8396" y="3"/>
                      <a:pt x="8397" y="2"/>
                      <a:pt x="8398" y="2"/>
                    </a:cubicBezTo>
                    <a:close/>
                    <a:moveTo>
                      <a:pt x="8406" y="2"/>
                    </a:moveTo>
                    <a:lnTo>
                      <a:pt x="8406" y="2"/>
                    </a:lnTo>
                    <a:cubicBezTo>
                      <a:pt x="8407" y="2"/>
                      <a:pt x="8408" y="3"/>
                      <a:pt x="8408" y="4"/>
                    </a:cubicBezTo>
                    <a:cubicBezTo>
                      <a:pt x="8408" y="5"/>
                      <a:pt x="8407" y="6"/>
                      <a:pt x="8406" y="6"/>
                    </a:cubicBezTo>
                    <a:lnTo>
                      <a:pt x="8406" y="6"/>
                    </a:lnTo>
                    <a:cubicBezTo>
                      <a:pt x="8405" y="6"/>
                      <a:pt x="8404" y="5"/>
                      <a:pt x="8404" y="4"/>
                    </a:cubicBezTo>
                    <a:cubicBezTo>
                      <a:pt x="8404" y="3"/>
                      <a:pt x="8405" y="2"/>
                      <a:pt x="8406" y="2"/>
                    </a:cubicBezTo>
                    <a:close/>
                    <a:moveTo>
                      <a:pt x="8414" y="2"/>
                    </a:moveTo>
                    <a:lnTo>
                      <a:pt x="8414" y="2"/>
                    </a:lnTo>
                    <a:cubicBezTo>
                      <a:pt x="8415" y="2"/>
                      <a:pt x="8416" y="3"/>
                      <a:pt x="8416" y="4"/>
                    </a:cubicBezTo>
                    <a:cubicBezTo>
                      <a:pt x="8416" y="5"/>
                      <a:pt x="8415" y="6"/>
                      <a:pt x="8414" y="6"/>
                    </a:cubicBezTo>
                    <a:lnTo>
                      <a:pt x="8414" y="6"/>
                    </a:lnTo>
                    <a:cubicBezTo>
                      <a:pt x="8413" y="6"/>
                      <a:pt x="8412" y="5"/>
                      <a:pt x="8412" y="4"/>
                    </a:cubicBezTo>
                    <a:cubicBezTo>
                      <a:pt x="8412" y="3"/>
                      <a:pt x="8413" y="2"/>
                      <a:pt x="8414" y="2"/>
                    </a:cubicBezTo>
                    <a:close/>
                    <a:moveTo>
                      <a:pt x="8422" y="2"/>
                    </a:moveTo>
                    <a:lnTo>
                      <a:pt x="8422" y="2"/>
                    </a:lnTo>
                    <a:cubicBezTo>
                      <a:pt x="8423" y="2"/>
                      <a:pt x="8424" y="3"/>
                      <a:pt x="8424" y="4"/>
                    </a:cubicBezTo>
                    <a:cubicBezTo>
                      <a:pt x="8424" y="5"/>
                      <a:pt x="8423" y="6"/>
                      <a:pt x="8422" y="6"/>
                    </a:cubicBezTo>
                    <a:lnTo>
                      <a:pt x="8422" y="6"/>
                    </a:lnTo>
                    <a:cubicBezTo>
                      <a:pt x="8421" y="6"/>
                      <a:pt x="8420" y="5"/>
                      <a:pt x="8420" y="4"/>
                    </a:cubicBezTo>
                    <a:cubicBezTo>
                      <a:pt x="8420" y="3"/>
                      <a:pt x="8421" y="2"/>
                      <a:pt x="8422" y="2"/>
                    </a:cubicBezTo>
                    <a:close/>
                    <a:moveTo>
                      <a:pt x="8430" y="2"/>
                    </a:moveTo>
                    <a:lnTo>
                      <a:pt x="8430" y="2"/>
                    </a:lnTo>
                    <a:cubicBezTo>
                      <a:pt x="8431" y="2"/>
                      <a:pt x="8432" y="3"/>
                      <a:pt x="8432" y="4"/>
                    </a:cubicBezTo>
                    <a:cubicBezTo>
                      <a:pt x="8432" y="5"/>
                      <a:pt x="8431" y="6"/>
                      <a:pt x="8430" y="6"/>
                    </a:cubicBezTo>
                    <a:lnTo>
                      <a:pt x="8430" y="6"/>
                    </a:lnTo>
                    <a:cubicBezTo>
                      <a:pt x="8429" y="6"/>
                      <a:pt x="8428" y="5"/>
                      <a:pt x="8428" y="4"/>
                    </a:cubicBezTo>
                    <a:cubicBezTo>
                      <a:pt x="8428" y="3"/>
                      <a:pt x="8429" y="2"/>
                      <a:pt x="8430" y="2"/>
                    </a:cubicBezTo>
                    <a:close/>
                    <a:moveTo>
                      <a:pt x="8438" y="2"/>
                    </a:moveTo>
                    <a:lnTo>
                      <a:pt x="8438" y="2"/>
                    </a:lnTo>
                    <a:cubicBezTo>
                      <a:pt x="8439" y="2"/>
                      <a:pt x="8440" y="3"/>
                      <a:pt x="8440" y="4"/>
                    </a:cubicBezTo>
                    <a:cubicBezTo>
                      <a:pt x="8440" y="5"/>
                      <a:pt x="8439" y="6"/>
                      <a:pt x="8438" y="6"/>
                    </a:cubicBezTo>
                    <a:lnTo>
                      <a:pt x="8438" y="6"/>
                    </a:lnTo>
                    <a:cubicBezTo>
                      <a:pt x="8437" y="6"/>
                      <a:pt x="8436" y="5"/>
                      <a:pt x="8436" y="4"/>
                    </a:cubicBezTo>
                    <a:cubicBezTo>
                      <a:pt x="8436" y="3"/>
                      <a:pt x="8437" y="2"/>
                      <a:pt x="8438" y="2"/>
                    </a:cubicBezTo>
                    <a:close/>
                    <a:moveTo>
                      <a:pt x="8446" y="2"/>
                    </a:moveTo>
                    <a:lnTo>
                      <a:pt x="8446" y="2"/>
                    </a:lnTo>
                    <a:cubicBezTo>
                      <a:pt x="8447" y="2"/>
                      <a:pt x="8448" y="3"/>
                      <a:pt x="8448" y="4"/>
                    </a:cubicBezTo>
                    <a:cubicBezTo>
                      <a:pt x="8448" y="5"/>
                      <a:pt x="8447" y="6"/>
                      <a:pt x="8446" y="6"/>
                    </a:cubicBezTo>
                    <a:lnTo>
                      <a:pt x="8446" y="6"/>
                    </a:lnTo>
                    <a:cubicBezTo>
                      <a:pt x="8445" y="6"/>
                      <a:pt x="8444" y="5"/>
                      <a:pt x="8444" y="4"/>
                    </a:cubicBezTo>
                    <a:cubicBezTo>
                      <a:pt x="8444" y="3"/>
                      <a:pt x="8445" y="2"/>
                      <a:pt x="8446" y="2"/>
                    </a:cubicBezTo>
                    <a:close/>
                    <a:moveTo>
                      <a:pt x="8454" y="2"/>
                    </a:moveTo>
                    <a:lnTo>
                      <a:pt x="8454" y="2"/>
                    </a:lnTo>
                    <a:cubicBezTo>
                      <a:pt x="8455" y="2"/>
                      <a:pt x="8456" y="3"/>
                      <a:pt x="8456" y="4"/>
                    </a:cubicBezTo>
                    <a:cubicBezTo>
                      <a:pt x="8456" y="5"/>
                      <a:pt x="8455" y="6"/>
                      <a:pt x="8454" y="6"/>
                    </a:cubicBezTo>
                    <a:lnTo>
                      <a:pt x="8454" y="6"/>
                    </a:lnTo>
                    <a:cubicBezTo>
                      <a:pt x="8453" y="6"/>
                      <a:pt x="8452" y="5"/>
                      <a:pt x="8452" y="4"/>
                    </a:cubicBezTo>
                    <a:cubicBezTo>
                      <a:pt x="8452" y="3"/>
                      <a:pt x="8453" y="2"/>
                      <a:pt x="8454" y="2"/>
                    </a:cubicBezTo>
                    <a:close/>
                    <a:moveTo>
                      <a:pt x="8462" y="2"/>
                    </a:moveTo>
                    <a:lnTo>
                      <a:pt x="8462" y="2"/>
                    </a:lnTo>
                    <a:cubicBezTo>
                      <a:pt x="8463" y="2"/>
                      <a:pt x="8464" y="3"/>
                      <a:pt x="8464" y="4"/>
                    </a:cubicBezTo>
                    <a:cubicBezTo>
                      <a:pt x="8464" y="5"/>
                      <a:pt x="8463" y="6"/>
                      <a:pt x="8462" y="6"/>
                    </a:cubicBezTo>
                    <a:lnTo>
                      <a:pt x="8462" y="6"/>
                    </a:lnTo>
                    <a:cubicBezTo>
                      <a:pt x="8461" y="6"/>
                      <a:pt x="8460" y="5"/>
                      <a:pt x="8460" y="4"/>
                    </a:cubicBezTo>
                    <a:cubicBezTo>
                      <a:pt x="8460" y="3"/>
                      <a:pt x="8461" y="2"/>
                      <a:pt x="8462" y="2"/>
                    </a:cubicBezTo>
                    <a:close/>
                    <a:moveTo>
                      <a:pt x="8470" y="2"/>
                    </a:moveTo>
                    <a:lnTo>
                      <a:pt x="8470" y="2"/>
                    </a:lnTo>
                    <a:cubicBezTo>
                      <a:pt x="8471" y="2"/>
                      <a:pt x="8472" y="3"/>
                      <a:pt x="8472" y="4"/>
                    </a:cubicBezTo>
                    <a:cubicBezTo>
                      <a:pt x="8472" y="5"/>
                      <a:pt x="8471" y="6"/>
                      <a:pt x="8470" y="6"/>
                    </a:cubicBezTo>
                    <a:lnTo>
                      <a:pt x="8470" y="6"/>
                    </a:lnTo>
                    <a:cubicBezTo>
                      <a:pt x="8469" y="6"/>
                      <a:pt x="8468" y="5"/>
                      <a:pt x="8468" y="4"/>
                    </a:cubicBezTo>
                    <a:cubicBezTo>
                      <a:pt x="8468" y="3"/>
                      <a:pt x="8469" y="2"/>
                      <a:pt x="8470" y="2"/>
                    </a:cubicBezTo>
                    <a:close/>
                    <a:moveTo>
                      <a:pt x="8478" y="2"/>
                    </a:moveTo>
                    <a:lnTo>
                      <a:pt x="8478" y="2"/>
                    </a:lnTo>
                    <a:cubicBezTo>
                      <a:pt x="8479" y="2"/>
                      <a:pt x="8480" y="3"/>
                      <a:pt x="8480" y="4"/>
                    </a:cubicBezTo>
                    <a:cubicBezTo>
                      <a:pt x="8480" y="5"/>
                      <a:pt x="8479" y="6"/>
                      <a:pt x="8478" y="6"/>
                    </a:cubicBezTo>
                    <a:lnTo>
                      <a:pt x="8478" y="6"/>
                    </a:lnTo>
                    <a:cubicBezTo>
                      <a:pt x="8477" y="6"/>
                      <a:pt x="8476" y="5"/>
                      <a:pt x="8476" y="4"/>
                    </a:cubicBezTo>
                    <a:cubicBezTo>
                      <a:pt x="8476" y="3"/>
                      <a:pt x="8477" y="2"/>
                      <a:pt x="8478" y="2"/>
                    </a:cubicBezTo>
                    <a:close/>
                    <a:moveTo>
                      <a:pt x="8486" y="2"/>
                    </a:moveTo>
                    <a:lnTo>
                      <a:pt x="8486" y="2"/>
                    </a:lnTo>
                    <a:cubicBezTo>
                      <a:pt x="8487" y="2"/>
                      <a:pt x="8488" y="3"/>
                      <a:pt x="8488" y="4"/>
                    </a:cubicBezTo>
                    <a:cubicBezTo>
                      <a:pt x="8488" y="5"/>
                      <a:pt x="8487" y="6"/>
                      <a:pt x="8486" y="6"/>
                    </a:cubicBezTo>
                    <a:lnTo>
                      <a:pt x="8486" y="6"/>
                    </a:lnTo>
                    <a:cubicBezTo>
                      <a:pt x="8485" y="6"/>
                      <a:pt x="8484" y="5"/>
                      <a:pt x="8484" y="4"/>
                    </a:cubicBezTo>
                    <a:cubicBezTo>
                      <a:pt x="8484" y="3"/>
                      <a:pt x="8485" y="2"/>
                      <a:pt x="8486" y="2"/>
                    </a:cubicBezTo>
                    <a:close/>
                    <a:moveTo>
                      <a:pt x="8494" y="2"/>
                    </a:moveTo>
                    <a:lnTo>
                      <a:pt x="8494" y="2"/>
                    </a:lnTo>
                    <a:cubicBezTo>
                      <a:pt x="8495" y="2"/>
                      <a:pt x="8496" y="3"/>
                      <a:pt x="8496" y="4"/>
                    </a:cubicBezTo>
                    <a:cubicBezTo>
                      <a:pt x="8496" y="5"/>
                      <a:pt x="8495" y="6"/>
                      <a:pt x="8494" y="6"/>
                    </a:cubicBezTo>
                    <a:lnTo>
                      <a:pt x="8494" y="6"/>
                    </a:lnTo>
                    <a:cubicBezTo>
                      <a:pt x="8493" y="6"/>
                      <a:pt x="8492" y="5"/>
                      <a:pt x="8492" y="4"/>
                    </a:cubicBezTo>
                    <a:cubicBezTo>
                      <a:pt x="8492" y="3"/>
                      <a:pt x="8493" y="2"/>
                      <a:pt x="8494" y="2"/>
                    </a:cubicBezTo>
                    <a:close/>
                    <a:moveTo>
                      <a:pt x="8502" y="2"/>
                    </a:moveTo>
                    <a:lnTo>
                      <a:pt x="8502" y="2"/>
                    </a:lnTo>
                    <a:cubicBezTo>
                      <a:pt x="8503" y="2"/>
                      <a:pt x="8504" y="3"/>
                      <a:pt x="8504" y="4"/>
                    </a:cubicBezTo>
                    <a:cubicBezTo>
                      <a:pt x="8504" y="5"/>
                      <a:pt x="8503" y="6"/>
                      <a:pt x="8502" y="6"/>
                    </a:cubicBezTo>
                    <a:lnTo>
                      <a:pt x="8502" y="6"/>
                    </a:lnTo>
                    <a:cubicBezTo>
                      <a:pt x="8501" y="6"/>
                      <a:pt x="8500" y="5"/>
                      <a:pt x="8500" y="4"/>
                    </a:cubicBezTo>
                    <a:cubicBezTo>
                      <a:pt x="8500" y="3"/>
                      <a:pt x="8501" y="2"/>
                      <a:pt x="8502" y="2"/>
                    </a:cubicBezTo>
                    <a:close/>
                    <a:moveTo>
                      <a:pt x="8510" y="2"/>
                    </a:moveTo>
                    <a:lnTo>
                      <a:pt x="8510" y="2"/>
                    </a:lnTo>
                    <a:cubicBezTo>
                      <a:pt x="8511" y="2"/>
                      <a:pt x="8512" y="3"/>
                      <a:pt x="8512" y="4"/>
                    </a:cubicBezTo>
                    <a:cubicBezTo>
                      <a:pt x="8512" y="5"/>
                      <a:pt x="8511" y="6"/>
                      <a:pt x="8510" y="6"/>
                    </a:cubicBezTo>
                    <a:lnTo>
                      <a:pt x="8510" y="6"/>
                    </a:lnTo>
                    <a:cubicBezTo>
                      <a:pt x="8509" y="6"/>
                      <a:pt x="8508" y="5"/>
                      <a:pt x="8508" y="4"/>
                    </a:cubicBezTo>
                    <a:cubicBezTo>
                      <a:pt x="8508" y="3"/>
                      <a:pt x="8509" y="2"/>
                      <a:pt x="8510" y="2"/>
                    </a:cubicBezTo>
                    <a:close/>
                    <a:moveTo>
                      <a:pt x="8518" y="2"/>
                    </a:moveTo>
                    <a:lnTo>
                      <a:pt x="8518" y="2"/>
                    </a:lnTo>
                    <a:cubicBezTo>
                      <a:pt x="8519" y="2"/>
                      <a:pt x="8520" y="3"/>
                      <a:pt x="8520" y="4"/>
                    </a:cubicBezTo>
                    <a:cubicBezTo>
                      <a:pt x="8520" y="5"/>
                      <a:pt x="8519" y="6"/>
                      <a:pt x="8518" y="6"/>
                    </a:cubicBezTo>
                    <a:lnTo>
                      <a:pt x="8518" y="6"/>
                    </a:lnTo>
                    <a:cubicBezTo>
                      <a:pt x="8517" y="6"/>
                      <a:pt x="8516" y="5"/>
                      <a:pt x="8516" y="4"/>
                    </a:cubicBezTo>
                    <a:cubicBezTo>
                      <a:pt x="8516" y="3"/>
                      <a:pt x="8517" y="2"/>
                      <a:pt x="8518" y="2"/>
                    </a:cubicBezTo>
                    <a:close/>
                    <a:moveTo>
                      <a:pt x="8526" y="2"/>
                    </a:moveTo>
                    <a:lnTo>
                      <a:pt x="8526" y="2"/>
                    </a:lnTo>
                    <a:cubicBezTo>
                      <a:pt x="8527" y="2"/>
                      <a:pt x="8528" y="3"/>
                      <a:pt x="8528" y="4"/>
                    </a:cubicBezTo>
                    <a:cubicBezTo>
                      <a:pt x="8528" y="5"/>
                      <a:pt x="8527" y="6"/>
                      <a:pt x="8526" y="6"/>
                    </a:cubicBezTo>
                    <a:lnTo>
                      <a:pt x="8526" y="6"/>
                    </a:lnTo>
                    <a:cubicBezTo>
                      <a:pt x="8525" y="6"/>
                      <a:pt x="8524" y="5"/>
                      <a:pt x="8524" y="4"/>
                    </a:cubicBezTo>
                    <a:cubicBezTo>
                      <a:pt x="8524" y="3"/>
                      <a:pt x="8525" y="2"/>
                      <a:pt x="8526" y="2"/>
                    </a:cubicBezTo>
                    <a:close/>
                    <a:moveTo>
                      <a:pt x="8534" y="2"/>
                    </a:moveTo>
                    <a:lnTo>
                      <a:pt x="8534" y="2"/>
                    </a:lnTo>
                    <a:cubicBezTo>
                      <a:pt x="8535" y="2"/>
                      <a:pt x="8536" y="3"/>
                      <a:pt x="8536" y="4"/>
                    </a:cubicBezTo>
                    <a:cubicBezTo>
                      <a:pt x="8536" y="5"/>
                      <a:pt x="8535" y="6"/>
                      <a:pt x="8534" y="6"/>
                    </a:cubicBezTo>
                    <a:lnTo>
                      <a:pt x="8534" y="6"/>
                    </a:lnTo>
                    <a:cubicBezTo>
                      <a:pt x="8533" y="6"/>
                      <a:pt x="8532" y="5"/>
                      <a:pt x="8532" y="4"/>
                    </a:cubicBezTo>
                    <a:cubicBezTo>
                      <a:pt x="8532" y="3"/>
                      <a:pt x="8533" y="2"/>
                      <a:pt x="8534" y="2"/>
                    </a:cubicBezTo>
                    <a:close/>
                    <a:moveTo>
                      <a:pt x="8542" y="2"/>
                    </a:moveTo>
                    <a:lnTo>
                      <a:pt x="8542" y="2"/>
                    </a:lnTo>
                    <a:cubicBezTo>
                      <a:pt x="8543" y="2"/>
                      <a:pt x="8544" y="3"/>
                      <a:pt x="8544" y="4"/>
                    </a:cubicBezTo>
                    <a:cubicBezTo>
                      <a:pt x="8544" y="5"/>
                      <a:pt x="8543" y="6"/>
                      <a:pt x="8542" y="6"/>
                    </a:cubicBezTo>
                    <a:lnTo>
                      <a:pt x="8542" y="6"/>
                    </a:lnTo>
                    <a:cubicBezTo>
                      <a:pt x="8541" y="6"/>
                      <a:pt x="8540" y="5"/>
                      <a:pt x="8540" y="4"/>
                    </a:cubicBezTo>
                    <a:cubicBezTo>
                      <a:pt x="8540" y="3"/>
                      <a:pt x="8541" y="2"/>
                      <a:pt x="8542" y="2"/>
                    </a:cubicBezTo>
                    <a:close/>
                    <a:moveTo>
                      <a:pt x="8550" y="2"/>
                    </a:moveTo>
                    <a:lnTo>
                      <a:pt x="8550" y="2"/>
                    </a:lnTo>
                    <a:cubicBezTo>
                      <a:pt x="8551" y="2"/>
                      <a:pt x="8552" y="3"/>
                      <a:pt x="8552" y="4"/>
                    </a:cubicBezTo>
                    <a:cubicBezTo>
                      <a:pt x="8552" y="5"/>
                      <a:pt x="8551" y="6"/>
                      <a:pt x="8550" y="6"/>
                    </a:cubicBezTo>
                    <a:lnTo>
                      <a:pt x="8550" y="6"/>
                    </a:lnTo>
                    <a:cubicBezTo>
                      <a:pt x="8549" y="6"/>
                      <a:pt x="8548" y="5"/>
                      <a:pt x="8548" y="4"/>
                    </a:cubicBezTo>
                    <a:cubicBezTo>
                      <a:pt x="8548" y="3"/>
                      <a:pt x="8549" y="2"/>
                      <a:pt x="8550" y="2"/>
                    </a:cubicBezTo>
                    <a:close/>
                    <a:moveTo>
                      <a:pt x="8558" y="2"/>
                    </a:moveTo>
                    <a:lnTo>
                      <a:pt x="8558" y="2"/>
                    </a:lnTo>
                    <a:cubicBezTo>
                      <a:pt x="8559" y="2"/>
                      <a:pt x="8560" y="3"/>
                      <a:pt x="8560" y="4"/>
                    </a:cubicBezTo>
                    <a:cubicBezTo>
                      <a:pt x="8560" y="5"/>
                      <a:pt x="8559" y="6"/>
                      <a:pt x="8558" y="6"/>
                    </a:cubicBezTo>
                    <a:lnTo>
                      <a:pt x="8558" y="6"/>
                    </a:lnTo>
                    <a:cubicBezTo>
                      <a:pt x="8557" y="6"/>
                      <a:pt x="8556" y="5"/>
                      <a:pt x="8556" y="4"/>
                    </a:cubicBezTo>
                    <a:cubicBezTo>
                      <a:pt x="8556" y="3"/>
                      <a:pt x="8557" y="2"/>
                      <a:pt x="8558" y="2"/>
                    </a:cubicBezTo>
                    <a:close/>
                    <a:moveTo>
                      <a:pt x="8566" y="2"/>
                    </a:moveTo>
                    <a:lnTo>
                      <a:pt x="8566" y="2"/>
                    </a:lnTo>
                    <a:cubicBezTo>
                      <a:pt x="8567" y="2"/>
                      <a:pt x="8568" y="3"/>
                      <a:pt x="8568" y="4"/>
                    </a:cubicBezTo>
                    <a:cubicBezTo>
                      <a:pt x="8568" y="5"/>
                      <a:pt x="8567" y="6"/>
                      <a:pt x="8566" y="6"/>
                    </a:cubicBezTo>
                    <a:lnTo>
                      <a:pt x="8566" y="6"/>
                    </a:lnTo>
                    <a:cubicBezTo>
                      <a:pt x="8565" y="6"/>
                      <a:pt x="8564" y="5"/>
                      <a:pt x="8564" y="4"/>
                    </a:cubicBezTo>
                    <a:cubicBezTo>
                      <a:pt x="8564" y="3"/>
                      <a:pt x="8565" y="2"/>
                      <a:pt x="8566" y="2"/>
                    </a:cubicBezTo>
                    <a:close/>
                    <a:moveTo>
                      <a:pt x="8574" y="2"/>
                    </a:moveTo>
                    <a:lnTo>
                      <a:pt x="8574" y="2"/>
                    </a:lnTo>
                    <a:cubicBezTo>
                      <a:pt x="8575" y="2"/>
                      <a:pt x="8576" y="3"/>
                      <a:pt x="8576" y="4"/>
                    </a:cubicBezTo>
                    <a:cubicBezTo>
                      <a:pt x="8576" y="5"/>
                      <a:pt x="8575" y="6"/>
                      <a:pt x="8574" y="6"/>
                    </a:cubicBezTo>
                    <a:lnTo>
                      <a:pt x="8574" y="6"/>
                    </a:lnTo>
                    <a:cubicBezTo>
                      <a:pt x="8573" y="6"/>
                      <a:pt x="8572" y="5"/>
                      <a:pt x="8572" y="4"/>
                    </a:cubicBezTo>
                    <a:cubicBezTo>
                      <a:pt x="8572" y="3"/>
                      <a:pt x="8573" y="2"/>
                      <a:pt x="8574" y="2"/>
                    </a:cubicBezTo>
                    <a:close/>
                    <a:moveTo>
                      <a:pt x="8582" y="2"/>
                    </a:moveTo>
                    <a:lnTo>
                      <a:pt x="8582" y="2"/>
                    </a:lnTo>
                    <a:cubicBezTo>
                      <a:pt x="8583" y="2"/>
                      <a:pt x="8584" y="3"/>
                      <a:pt x="8584" y="4"/>
                    </a:cubicBezTo>
                    <a:cubicBezTo>
                      <a:pt x="8584" y="5"/>
                      <a:pt x="8583" y="6"/>
                      <a:pt x="8582" y="6"/>
                    </a:cubicBezTo>
                    <a:lnTo>
                      <a:pt x="8582" y="6"/>
                    </a:lnTo>
                    <a:cubicBezTo>
                      <a:pt x="8581" y="6"/>
                      <a:pt x="8580" y="5"/>
                      <a:pt x="8580" y="4"/>
                    </a:cubicBezTo>
                    <a:cubicBezTo>
                      <a:pt x="8580" y="3"/>
                      <a:pt x="8581" y="2"/>
                      <a:pt x="8582" y="2"/>
                    </a:cubicBezTo>
                    <a:close/>
                    <a:moveTo>
                      <a:pt x="8590" y="2"/>
                    </a:moveTo>
                    <a:lnTo>
                      <a:pt x="8590" y="2"/>
                    </a:lnTo>
                    <a:cubicBezTo>
                      <a:pt x="8591" y="2"/>
                      <a:pt x="8592" y="3"/>
                      <a:pt x="8592" y="4"/>
                    </a:cubicBezTo>
                    <a:cubicBezTo>
                      <a:pt x="8592" y="5"/>
                      <a:pt x="8591" y="6"/>
                      <a:pt x="8590" y="6"/>
                    </a:cubicBezTo>
                    <a:lnTo>
                      <a:pt x="8590" y="6"/>
                    </a:lnTo>
                    <a:cubicBezTo>
                      <a:pt x="8589" y="6"/>
                      <a:pt x="8588" y="5"/>
                      <a:pt x="8588" y="4"/>
                    </a:cubicBezTo>
                    <a:cubicBezTo>
                      <a:pt x="8588" y="3"/>
                      <a:pt x="8589" y="2"/>
                      <a:pt x="8590" y="2"/>
                    </a:cubicBezTo>
                    <a:close/>
                    <a:moveTo>
                      <a:pt x="8598" y="2"/>
                    </a:moveTo>
                    <a:lnTo>
                      <a:pt x="8598" y="2"/>
                    </a:lnTo>
                    <a:cubicBezTo>
                      <a:pt x="8599" y="2"/>
                      <a:pt x="8600" y="3"/>
                      <a:pt x="8600" y="4"/>
                    </a:cubicBezTo>
                    <a:cubicBezTo>
                      <a:pt x="8600" y="5"/>
                      <a:pt x="8599" y="6"/>
                      <a:pt x="8598" y="6"/>
                    </a:cubicBezTo>
                    <a:lnTo>
                      <a:pt x="8598" y="6"/>
                    </a:lnTo>
                    <a:cubicBezTo>
                      <a:pt x="8597" y="6"/>
                      <a:pt x="8596" y="5"/>
                      <a:pt x="8596" y="4"/>
                    </a:cubicBezTo>
                    <a:cubicBezTo>
                      <a:pt x="8596" y="3"/>
                      <a:pt x="8597" y="2"/>
                      <a:pt x="8598" y="2"/>
                    </a:cubicBezTo>
                    <a:close/>
                    <a:moveTo>
                      <a:pt x="8606" y="2"/>
                    </a:moveTo>
                    <a:lnTo>
                      <a:pt x="8606" y="2"/>
                    </a:lnTo>
                    <a:cubicBezTo>
                      <a:pt x="8607" y="2"/>
                      <a:pt x="8608" y="3"/>
                      <a:pt x="8608" y="4"/>
                    </a:cubicBezTo>
                    <a:cubicBezTo>
                      <a:pt x="8608" y="5"/>
                      <a:pt x="8607" y="6"/>
                      <a:pt x="8606" y="6"/>
                    </a:cubicBezTo>
                    <a:lnTo>
                      <a:pt x="8606" y="6"/>
                    </a:lnTo>
                    <a:cubicBezTo>
                      <a:pt x="8605" y="6"/>
                      <a:pt x="8604" y="5"/>
                      <a:pt x="8604" y="4"/>
                    </a:cubicBezTo>
                    <a:cubicBezTo>
                      <a:pt x="8604" y="3"/>
                      <a:pt x="8605" y="2"/>
                      <a:pt x="8606" y="2"/>
                    </a:cubicBezTo>
                    <a:close/>
                    <a:moveTo>
                      <a:pt x="8614" y="2"/>
                    </a:moveTo>
                    <a:lnTo>
                      <a:pt x="8614" y="2"/>
                    </a:lnTo>
                    <a:cubicBezTo>
                      <a:pt x="8615" y="2"/>
                      <a:pt x="8616" y="3"/>
                      <a:pt x="8616" y="4"/>
                    </a:cubicBezTo>
                    <a:cubicBezTo>
                      <a:pt x="8616" y="5"/>
                      <a:pt x="8615" y="6"/>
                      <a:pt x="8614" y="6"/>
                    </a:cubicBezTo>
                    <a:lnTo>
                      <a:pt x="8614" y="6"/>
                    </a:lnTo>
                    <a:cubicBezTo>
                      <a:pt x="8613" y="6"/>
                      <a:pt x="8612" y="5"/>
                      <a:pt x="8612" y="4"/>
                    </a:cubicBezTo>
                    <a:cubicBezTo>
                      <a:pt x="8612" y="3"/>
                      <a:pt x="8613" y="2"/>
                      <a:pt x="8614" y="2"/>
                    </a:cubicBezTo>
                    <a:close/>
                    <a:moveTo>
                      <a:pt x="8622" y="2"/>
                    </a:moveTo>
                    <a:lnTo>
                      <a:pt x="8622" y="2"/>
                    </a:lnTo>
                    <a:cubicBezTo>
                      <a:pt x="8623" y="2"/>
                      <a:pt x="8624" y="3"/>
                      <a:pt x="8624" y="4"/>
                    </a:cubicBezTo>
                    <a:cubicBezTo>
                      <a:pt x="8624" y="5"/>
                      <a:pt x="8623" y="6"/>
                      <a:pt x="8622" y="6"/>
                    </a:cubicBezTo>
                    <a:lnTo>
                      <a:pt x="8622" y="6"/>
                    </a:lnTo>
                    <a:cubicBezTo>
                      <a:pt x="8621" y="6"/>
                      <a:pt x="8620" y="5"/>
                      <a:pt x="8620" y="4"/>
                    </a:cubicBezTo>
                    <a:cubicBezTo>
                      <a:pt x="8620" y="3"/>
                      <a:pt x="8621" y="2"/>
                      <a:pt x="8622" y="2"/>
                    </a:cubicBezTo>
                    <a:close/>
                    <a:moveTo>
                      <a:pt x="8630" y="2"/>
                    </a:moveTo>
                    <a:lnTo>
                      <a:pt x="8630" y="2"/>
                    </a:lnTo>
                    <a:cubicBezTo>
                      <a:pt x="8631" y="2"/>
                      <a:pt x="8632" y="3"/>
                      <a:pt x="8632" y="4"/>
                    </a:cubicBezTo>
                    <a:cubicBezTo>
                      <a:pt x="8632" y="5"/>
                      <a:pt x="8631" y="6"/>
                      <a:pt x="8630" y="6"/>
                    </a:cubicBezTo>
                    <a:lnTo>
                      <a:pt x="8630" y="6"/>
                    </a:lnTo>
                    <a:cubicBezTo>
                      <a:pt x="8629" y="6"/>
                      <a:pt x="8628" y="5"/>
                      <a:pt x="8628" y="4"/>
                    </a:cubicBezTo>
                    <a:cubicBezTo>
                      <a:pt x="8628" y="3"/>
                      <a:pt x="8629" y="2"/>
                      <a:pt x="8630" y="2"/>
                    </a:cubicBezTo>
                    <a:close/>
                    <a:moveTo>
                      <a:pt x="8638" y="2"/>
                    </a:moveTo>
                    <a:lnTo>
                      <a:pt x="8638" y="2"/>
                    </a:lnTo>
                    <a:cubicBezTo>
                      <a:pt x="8639" y="2"/>
                      <a:pt x="8640" y="3"/>
                      <a:pt x="8640" y="4"/>
                    </a:cubicBezTo>
                    <a:cubicBezTo>
                      <a:pt x="8640" y="5"/>
                      <a:pt x="8639" y="6"/>
                      <a:pt x="8638" y="6"/>
                    </a:cubicBezTo>
                    <a:lnTo>
                      <a:pt x="8638" y="6"/>
                    </a:lnTo>
                    <a:cubicBezTo>
                      <a:pt x="8637" y="6"/>
                      <a:pt x="8636" y="5"/>
                      <a:pt x="8636" y="4"/>
                    </a:cubicBezTo>
                    <a:cubicBezTo>
                      <a:pt x="8636" y="3"/>
                      <a:pt x="8637" y="2"/>
                      <a:pt x="8638" y="2"/>
                    </a:cubicBezTo>
                    <a:close/>
                    <a:moveTo>
                      <a:pt x="8646" y="2"/>
                    </a:moveTo>
                    <a:lnTo>
                      <a:pt x="8646" y="2"/>
                    </a:lnTo>
                    <a:cubicBezTo>
                      <a:pt x="8647" y="2"/>
                      <a:pt x="8648" y="3"/>
                      <a:pt x="8648" y="4"/>
                    </a:cubicBezTo>
                    <a:cubicBezTo>
                      <a:pt x="8648" y="5"/>
                      <a:pt x="8647" y="6"/>
                      <a:pt x="8646" y="6"/>
                    </a:cubicBezTo>
                    <a:lnTo>
                      <a:pt x="8646" y="6"/>
                    </a:lnTo>
                    <a:cubicBezTo>
                      <a:pt x="8645" y="6"/>
                      <a:pt x="8644" y="5"/>
                      <a:pt x="8644" y="4"/>
                    </a:cubicBezTo>
                    <a:cubicBezTo>
                      <a:pt x="8644" y="3"/>
                      <a:pt x="8645" y="2"/>
                      <a:pt x="8646" y="2"/>
                    </a:cubicBezTo>
                    <a:close/>
                    <a:moveTo>
                      <a:pt x="8654" y="2"/>
                    </a:moveTo>
                    <a:lnTo>
                      <a:pt x="8654" y="2"/>
                    </a:lnTo>
                    <a:cubicBezTo>
                      <a:pt x="8655" y="2"/>
                      <a:pt x="8656" y="3"/>
                      <a:pt x="8656" y="4"/>
                    </a:cubicBezTo>
                    <a:cubicBezTo>
                      <a:pt x="8656" y="5"/>
                      <a:pt x="8655" y="6"/>
                      <a:pt x="8654" y="6"/>
                    </a:cubicBezTo>
                    <a:lnTo>
                      <a:pt x="8654" y="6"/>
                    </a:lnTo>
                    <a:cubicBezTo>
                      <a:pt x="8653" y="6"/>
                      <a:pt x="8652" y="5"/>
                      <a:pt x="8652" y="4"/>
                    </a:cubicBezTo>
                    <a:cubicBezTo>
                      <a:pt x="8652" y="3"/>
                      <a:pt x="8653" y="2"/>
                      <a:pt x="8654" y="2"/>
                    </a:cubicBezTo>
                    <a:close/>
                    <a:moveTo>
                      <a:pt x="8662" y="2"/>
                    </a:moveTo>
                    <a:lnTo>
                      <a:pt x="8662" y="2"/>
                    </a:lnTo>
                    <a:cubicBezTo>
                      <a:pt x="8663" y="2"/>
                      <a:pt x="8664" y="3"/>
                      <a:pt x="8664" y="4"/>
                    </a:cubicBezTo>
                    <a:cubicBezTo>
                      <a:pt x="8664" y="5"/>
                      <a:pt x="8663" y="6"/>
                      <a:pt x="8662" y="6"/>
                    </a:cubicBezTo>
                    <a:lnTo>
                      <a:pt x="8662" y="6"/>
                    </a:lnTo>
                    <a:cubicBezTo>
                      <a:pt x="8661" y="6"/>
                      <a:pt x="8660" y="5"/>
                      <a:pt x="8660" y="4"/>
                    </a:cubicBezTo>
                    <a:cubicBezTo>
                      <a:pt x="8660" y="3"/>
                      <a:pt x="8661" y="2"/>
                      <a:pt x="8662" y="2"/>
                    </a:cubicBezTo>
                    <a:close/>
                    <a:moveTo>
                      <a:pt x="8670" y="2"/>
                    </a:moveTo>
                    <a:lnTo>
                      <a:pt x="8670" y="2"/>
                    </a:lnTo>
                    <a:cubicBezTo>
                      <a:pt x="8671" y="2"/>
                      <a:pt x="8672" y="3"/>
                      <a:pt x="8672" y="4"/>
                    </a:cubicBezTo>
                    <a:cubicBezTo>
                      <a:pt x="8672" y="5"/>
                      <a:pt x="8671" y="6"/>
                      <a:pt x="8670" y="6"/>
                    </a:cubicBezTo>
                    <a:lnTo>
                      <a:pt x="8670" y="6"/>
                    </a:lnTo>
                    <a:cubicBezTo>
                      <a:pt x="8669" y="6"/>
                      <a:pt x="8668" y="5"/>
                      <a:pt x="8668" y="4"/>
                    </a:cubicBezTo>
                    <a:cubicBezTo>
                      <a:pt x="8668" y="3"/>
                      <a:pt x="8669" y="2"/>
                      <a:pt x="8670" y="2"/>
                    </a:cubicBezTo>
                    <a:close/>
                    <a:moveTo>
                      <a:pt x="8678" y="2"/>
                    </a:moveTo>
                    <a:lnTo>
                      <a:pt x="8678" y="2"/>
                    </a:lnTo>
                    <a:cubicBezTo>
                      <a:pt x="8679" y="2"/>
                      <a:pt x="8680" y="3"/>
                      <a:pt x="8680" y="4"/>
                    </a:cubicBezTo>
                    <a:cubicBezTo>
                      <a:pt x="8680" y="5"/>
                      <a:pt x="8679" y="6"/>
                      <a:pt x="8678" y="6"/>
                    </a:cubicBezTo>
                    <a:lnTo>
                      <a:pt x="8678" y="6"/>
                    </a:lnTo>
                    <a:cubicBezTo>
                      <a:pt x="8677" y="6"/>
                      <a:pt x="8676" y="5"/>
                      <a:pt x="8676" y="4"/>
                    </a:cubicBezTo>
                    <a:cubicBezTo>
                      <a:pt x="8676" y="3"/>
                      <a:pt x="8677" y="2"/>
                      <a:pt x="8678" y="2"/>
                    </a:cubicBezTo>
                    <a:close/>
                    <a:moveTo>
                      <a:pt x="8686" y="2"/>
                    </a:moveTo>
                    <a:lnTo>
                      <a:pt x="8686" y="2"/>
                    </a:lnTo>
                    <a:cubicBezTo>
                      <a:pt x="8687" y="2"/>
                      <a:pt x="8688" y="3"/>
                      <a:pt x="8688" y="4"/>
                    </a:cubicBezTo>
                    <a:cubicBezTo>
                      <a:pt x="8688" y="5"/>
                      <a:pt x="8687" y="6"/>
                      <a:pt x="8686" y="6"/>
                    </a:cubicBezTo>
                    <a:lnTo>
                      <a:pt x="8686" y="6"/>
                    </a:lnTo>
                    <a:cubicBezTo>
                      <a:pt x="8685" y="6"/>
                      <a:pt x="8684" y="5"/>
                      <a:pt x="8684" y="4"/>
                    </a:cubicBezTo>
                    <a:cubicBezTo>
                      <a:pt x="8684" y="3"/>
                      <a:pt x="8685" y="2"/>
                      <a:pt x="8686" y="2"/>
                    </a:cubicBezTo>
                    <a:close/>
                    <a:moveTo>
                      <a:pt x="8694" y="2"/>
                    </a:moveTo>
                    <a:lnTo>
                      <a:pt x="8694" y="2"/>
                    </a:lnTo>
                    <a:cubicBezTo>
                      <a:pt x="8695" y="2"/>
                      <a:pt x="8696" y="3"/>
                      <a:pt x="8696" y="4"/>
                    </a:cubicBezTo>
                    <a:cubicBezTo>
                      <a:pt x="8696" y="5"/>
                      <a:pt x="8695" y="6"/>
                      <a:pt x="8694" y="6"/>
                    </a:cubicBezTo>
                    <a:lnTo>
                      <a:pt x="8694" y="6"/>
                    </a:lnTo>
                    <a:cubicBezTo>
                      <a:pt x="8693" y="6"/>
                      <a:pt x="8692" y="5"/>
                      <a:pt x="8692" y="4"/>
                    </a:cubicBezTo>
                    <a:cubicBezTo>
                      <a:pt x="8692" y="3"/>
                      <a:pt x="8693" y="2"/>
                      <a:pt x="8694" y="2"/>
                    </a:cubicBezTo>
                    <a:close/>
                    <a:moveTo>
                      <a:pt x="8702" y="2"/>
                    </a:moveTo>
                    <a:lnTo>
                      <a:pt x="8702" y="2"/>
                    </a:lnTo>
                    <a:cubicBezTo>
                      <a:pt x="8703" y="2"/>
                      <a:pt x="8704" y="3"/>
                      <a:pt x="8704" y="4"/>
                    </a:cubicBezTo>
                    <a:cubicBezTo>
                      <a:pt x="8704" y="5"/>
                      <a:pt x="8703" y="6"/>
                      <a:pt x="8702" y="6"/>
                    </a:cubicBezTo>
                    <a:lnTo>
                      <a:pt x="8702" y="6"/>
                    </a:lnTo>
                    <a:cubicBezTo>
                      <a:pt x="8701" y="6"/>
                      <a:pt x="8700" y="5"/>
                      <a:pt x="8700" y="4"/>
                    </a:cubicBezTo>
                    <a:cubicBezTo>
                      <a:pt x="8700" y="3"/>
                      <a:pt x="8701" y="2"/>
                      <a:pt x="8702" y="2"/>
                    </a:cubicBezTo>
                    <a:close/>
                    <a:moveTo>
                      <a:pt x="8710" y="2"/>
                    </a:moveTo>
                    <a:lnTo>
                      <a:pt x="8710" y="2"/>
                    </a:lnTo>
                    <a:cubicBezTo>
                      <a:pt x="8711" y="2"/>
                      <a:pt x="8712" y="3"/>
                      <a:pt x="8712" y="4"/>
                    </a:cubicBezTo>
                    <a:cubicBezTo>
                      <a:pt x="8712" y="5"/>
                      <a:pt x="8711" y="6"/>
                      <a:pt x="8710" y="6"/>
                    </a:cubicBezTo>
                    <a:lnTo>
                      <a:pt x="8710" y="6"/>
                    </a:lnTo>
                    <a:cubicBezTo>
                      <a:pt x="8709" y="6"/>
                      <a:pt x="8708" y="5"/>
                      <a:pt x="8708" y="4"/>
                    </a:cubicBezTo>
                    <a:cubicBezTo>
                      <a:pt x="8708" y="3"/>
                      <a:pt x="8709" y="2"/>
                      <a:pt x="8710" y="2"/>
                    </a:cubicBezTo>
                    <a:close/>
                    <a:moveTo>
                      <a:pt x="8718" y="2"/>
                    </a:moveTo>
                    <a:lnTo>
                      <a:pt x="8718" y="2"/>
                    </a:lnTo>
                    <a:cubicBezTo>
                      <a:pt x="8719" y="2"/>
                      <a:pt x="8720" y="3"/>
                      <a:pt x="8720" y="4"/>
                    </a:cubicBezTo>
                    <a:cubicBezTo>
                      <a:pt x="8720" y="5"/>
                      <a:pt x="8719" y="6"/>
                      <a:pt x="8718" y="6"/>
                    </a:cubicBezTo>
                    <a:lnTo>
                      <a:pt x="8718" y="6"/>
                    </a:lnTo>
                    <a:cubicBezTo>
                      <a:pt x="8717" y="6"/>
                      <a:pt x="8716" y="5"/>
                      <a:pt x="8716" y="4"/>
                    </a:cubicBezTo>
                    <a:cubicBezTo>
                      <a:pt x="8716" y="3"/>
                      <a:pt x="8717" y="2"/>
                      <a:pt x="8718" y="2"/>
                    </a:cubicBezTo>
                    <a:close/>
                    <a:moveTo>
                      <a:pt x="8726" y="2"/>
                    </a:moveTo>
                    <a:lnTo>
                      <a:pt x="8726" y="2"/>
                    </a:lnTo>
                    <a:cubicBezTo>
                      <a:pt x="8727" y="2"/>
                      <a:pt x="8728" y="3"/>
                      <a:pt x="8728" y="4"/>
                    </a:cubicBezTo>
                    <a:cubicBezTo>
                      <a:pt x="8728" y="5"/>
                      <a:pt x="8727" y="6"/>
                      <a:pt x="8726" y="6"/>
                    </a:cubicBezTo>
                    <a:lnTo>
                      <a:pt x="8726" y="6"/>
                    </a:lnTo>
                    <a:cubicBezTo>
                      <a:pt x="8725" y="6"/>
                      <a:pt x="8724" y="5"/>
                      <a:pt x="8724" y="4"/>
                    </a:cubicBezTo>
                    <a:cubicBezTo>
                      <a:pt x="8724" y="3"/>
                      <a:pt x="8725" y="2"/>
                      <a:pt x="8726" y="2"/>
                    </a:cubicBezTo>
                    <a:close/>
                    <a:moveTo>
                      <a:pt x="8734" y="2"/>
                    </a:moveTo>
                    <a:lnTo>
                      <a:pt x="8734" y="2"/>
                    </a:lnTo>
                    <a:cubicBezTo>
                      <a:pt x="8735" y="2"/>
                      <a:pt x="8736" y="3"/>
                      <a:pt x="8736" y="4"/>
                    </a:cubicBezTo>
                    <a:cubicBezTo>
                      <a:pt x="8736" y="5"/>
                      <a:pt x="8735" y="6"/>
                      <a:pt x="8734" y="6"/>
                    </a:cubicBezTo>
                    <a:lnTo>
                      <a:pt x="8734" y="6"/>
                    </a:lnTo>
                    <a:cubicBezTo>
                      <a:pt x="8733" y="6"/>
                      <a:pt x="8732" y="5"/>
                      <a:pt x="8732" y="4"/>
                    </a:cubicBezTo>
                    <a:cubicBezTo>
                      <a:pt x="8732" y="3"/>
                      <a:pt x="8733" y="2"/>
                      <a:pt x="8734" y="2"/>
                    </a:cubicBezTo>
                    <a:close/>
                    <a:moveTo>
                      <a:pt x="8742" y="2"/>
                    </a:moveTo>
                    <a:lnTo>
                      <a:pt x="8742" y="2"/>
                    </a:lnTo>
                    <a:cubicBezTo>
                      <a:pt x="8743" y="2"/>
                      <a:pt x="8744" y="3"/>
                      <a:pt x="8744" y="4"/>
                    </a:cubicBezTo>
                    <a:cubicBezTo>
                      <a:pt x="8744" y="5"/>
                      <a:pt x="8743" y="6"/>
                      <a:pt x="8742" y="6"/>
                    </a:cubicBezTo>
                    <a:lnTo>
                      <a:pt x="8742" y="6"/>
                    </a:lnTo>
                    <a:cubicBezTo>
                      <a:pt x="8741" y="6"/>
                      <a:pt x="8740" y="5"/>
                      <a:pt x="8740" y="4"/>
                    </a:cubicBezTo>
                    <a:cubicBezTo>
                      <a:pt x="8740" y="3"/>
                      <a:pt x="8741" y="2"/>
                      <a:pt x="8742" y="2"/>
                    </a:cubicBezTo>
                    <a:close/>
                    <a:moveTo>
                      <a:pt x="8750" y="2"/>
                    </a:moveTo>
                    <a:lnTo>
                      <a:pt x="8750" y="2"/>
                    </a:lnTo>
                    <a:cubicBezTo>
                      <a:pt x="8751" y="2"/>
                      <a:pt x="8752" y="3"/>
                      <a:pt x="8752" y="4"/>
                    </a:cubicBezTo>
                    <a:cubicBezTo>
                      <a:pt x="8752" y="5"/>
                      <a:pt x="8751" y="6"/>
                      <a:pt x="8750" y="6"/>
                    </a:cubicBezTo>
                    <a:lnTo>
                      <a:pt x="8750" y="6"/>
                    </a:lnTo>
                    <a:cubicBezTo>
                      <a:pt x="8749" y="6"/>
                      <a:pt x="8748" y="5"/>
                      <a:pt x="8748" y="4"/>
                    </a:cubicBezTo>
                    <a:cubicBezTo>
                      <a:pt x="8748" y="3"/>
                      <a:pt x="8749" y="2"/>
                      <a:pt x="8750" y="2"/>
                    </a:cubicBezTo>
                    <a:close/>
                    <a:moveTo>
                      <a:pt x="8758" y="2"/>
                    </a:moveTo>
                    <a:lnTo>
                      <a:pt x="8758" y="2"/>
                    </a:lnTo>
                    <a:cubicBezTo>
                      <a:pt x="8759" y="2"/>
                      <a:pt x="8760" y="3"/>
                      <a:pt x="8760" y="4"/>
                    </a:cubicBezTo>
                    <a:cubicBezTo>
                      <a:pt x="8760" y="5"/>
                      <a:pt x="8759" y="6"/>
                      <a:pt x="8758" y="6"/>
                    </a:cubicBezTo>
                    <a:lnTo>
                      <a:pt x="8758" y="6"/>
                    </a:lnTo>
                    <a:cubicBezTo>
                      <a:pt x="8757" y="6"/>
                      <a:pt x="8756" y="5"/>
                      <a:pt x="8756" y="4"/>
                    </a:cubicBezTo>
                    <a:cubicBezTo>
                      <a:pt x="8756" y="3"/>
                      <a:pt x="8757" y="2"/>
                      <a:pt x="8758" y="2"/>
                    </a:cubicBezTo>
                    <a:close/>
                    <a:moveTo>
                      <a:pt x="8766" y="2"/>
                    </a:moveTo>
                    <a:lnTo>
                      <a:pt x="8766" y="2"/>
                    </a:lnTo>
                    <a:cubicBezTo>
                      <a:pt x="8767" y="2"/>
                      <a:pt x="8768" y="3"/>
                      <a:pt x="8768" y="4"/>
                    </a:cubicBezTo>
                    <a:cubicBezTo>
                      <a:pt x="8768" y="5"/>
                      <a:pt x="8767" y="6"/>
                      <a:pt x="8766" y="6"/>
                    </a:cubicBezTo>
                    <a:lnTo>
                      <a:pt x="8766" y="6"/>
                    </a:lnTo>
                    <a:cubicBezTo>
                      <a:pt x="8765" y="6"/>
                      <a:pt x="8764" y="5"/>
                      <a:pt x="8764" y="4"/>
                    </a:cubicBezTo>
                    <a:cubicBezTo>
                      <a:pt x="8764" y="3"/>
                      <a:pt x="8765" y="2"/>
                      <a:pt x="8766" y="2"/>
                    </a:cubicBezTo>
                    <a:close/>
                    <a:moveTo>
                      <a:pt x="8774" y="2"/>
                    </a:moveTo>
                    <a:lnTo>
                      <a:pt x="8774" y="2"/>
                    </a:lnTo>
                    <a:cubicBezTo>
                      <a:pt x="8775" y="2"/>
                      <a:pt x="8776" y="3"/>
                      <a:pt x="8776" y="4"/>
                    </a:cubicBezTo>
                    <a:cubicBezTo>
                      <a:pt x="8776" y="5"/>
                      <a:pt x="8775" y="6"/>
                      <a:pt x="8774" y="6"/>
                    </a:cubicBezTo>
                    <a:lnTo>
                      <a:pt x="8774" y="6"/>
                    </a:lnTo>
                    <a:cubicBezTo>
                      <a:pt x="8773" y="6"/>
                      <a:pt x="8772" y="5"/>
                      <a:pt x="8772" y="4"/>
                    </a:cubicBezTo>
                    <a:cubicBezTo>
                      <a:pt x="8772" y="3"/>
                      <a:pt x="8773" y="2"/>
                      <a:pt x="8774" y="2"/>
                    </a:cubicBezTo>
                    <a:close/>
                    <a:moveTo>
                      <a:pt x="8782" y="2"/>
                    </a:moveTo>
                    <a:lnTo>
                      <a:pt x="8782" y="2"/>
                    </a:lnTo>
                    <a:cubicBezTo>
                      <a:pt x="8783" y="2"/>
                      <a:pt x="8784" y="3"/>
                      <a:pt x="8784" y="4"/>
                    </a:cubicBezTo>
                    <a:cubicBezTo>
                      <a:pt x="8784" y="5"/>
                      <a:pt x="8783" y="6"/>
                      <a:pt x="8782" y="6"/>
                    </a:cubicBezTo>
                    <a:lnTo>
                      <a:pt x="8782" y="6"/>
                    </a:lnTo>
                    <a:cubicBezTo>
                      <a:pt x="8781" y="6"/>
                      <a:pt x="8780" y="5"/>
                      <a:pt x="8780" y="4"/>
                    </a:cubicBezTo>
                    <a:cubicBezTo>
                      <a:pt x="8780" y="3"/>
                      <a:pt x="8781" y="2"/>
                      <a:pt x="8782" y="2"/>
                    </a:cubicBezTo>
                    <a:close/>
                    <a:moveTo>
                      <a:pt x="8790" y="2"/>
                    </a:moveTo>
                    <a:lnTo>
                      <a:pt x="8790" y="2"/>
                    </a:lnTo>
                    <a:cubicBezTo>
                      <a:pt x="8791" y="2"/>
                      <a:pt x="8792" y="3"/>
                      <a:pt x="8792" y="4"/>
                    </a:cubicBezTo>
                    <a:cubicBezTo>
                      <a:pt x="8792" y="5"/>
                      <a:pt x="8791" y="6"/>
                      <a:pt x="8790" y="6"/>
                    </a:cubicBezTo>
                    <a:lnTo>
                      <a:pt x="8790" y="6"/>
                    </a:lnTo>
                    <a:cubicBezTo>
                      <a:pt x="8789" y="6"/>
                      <a:pt x="8788" y="5"/>
                      <a:pt x="8788" y="4"/>
                    </a:cubicBezTo>
                    <a:cubicBezTo>
                      <a:pt x="8788" y="3"/>
                      <a:pt x="8789" y="2"/>
                      <a:pt x="8790" y="2"/>
                    </a:cubicBezTo>
                    <a:close/>
                    <a:moveTo>
                      <a:pt x="8798" y="2"/>
                    </a:moveTo>
                    <a:lnTo>
                      <a:pt x="8798" y="2"/>
                    </a:lnTo>
                    <a:cubicBezTo>
                      <a:pt x="8799" y="2"/>
                      <a:pt x="8800" y="3"/>
                      <a:pt x="8800" y="4"/>
                    </a:cubicBezTo>
                    <a:cubicBezTo>
                      <a:pt x="8800" y="5"/>
                      <a:pt x="8799" y="6"/>
                      <a:pt x="8798" y="6"/>
                    </a:cubicBezTo>
                    <a:lnTo>
                      <a:pt x="8798" y="6"/>
                    </a:lnTo>
                    <a:cubicBezTo>
                      <a:pt x="8797" y="6"/>
                      <a:pt x="8796" y="5"/>
                      <a:pt x="8796" y="4"/>
                    </a:cubicBezTo>
                    <a:cubicBezTo>
                      <a:pt x="8796" y="3"/>
                      <a:pt x="8797" y="2"/>
                      <a:pt x="8798" y="2"/>
                    </a:cubicBezTo>
                    <a:close/>
                    <a:moveTo>
                      <a:pt x="8806" y="2"/>
                    </a:moveTo>
                    <a:lnTo>
                      <a:pt x="8806" y="2"/>
                    </a:lnTo>
                    <a:cubicBezTo>
                      <a:pt x="8807" y="2"/>
                      <a:pt x="8808" y="3"/>
                      <a:pt x="8808" y="4"/>
                    </a:cubicBezTo>
                    <a:cubicBezTo>
                      <a:pt x="8808" y="5"/>
                      <a:pt x="8807" y="6"/>
                      <a:pt x="8806" y="6"/>
                    </a:cubicBezTo>
                    <a:lnTo>
                      <a:pt x="8806" y="6"/>
                    </a:lnTo>
                    <a:cubicBezTo>
                      <a:pt x="8805" y="6"/>
                      <a:pt x="8804" y="5"/>
                      <a:pt x="8804" y="4"/>
                    </a:cubicBezTo>
                    <a:cubicBezTo>
                      <a:pt x="8804" y="3"/>
                      <a:pt x="8805" y="2"/>
                      <a:pt x="8806" y="2"/>
                    </a:cubicBezTo>
                    <a:close/>
                    <a:moveTo>
                      <a:pt x="8814" y="2"/>
                    </a:moveTo>
                    <a:lnTo>
                      <a:pt x="8814" y="2"/>
                    </a:lnTo>
                    <a:cubicBezTo>
                      <a:pt x="8815" y="2"/>
                      <a:pt x="8816" y="3"/>
                      <a:pt x="8816" y="4"/>
                    </a:cubicBezTo>
                    <a:cubicBezTo>
                      <a:pt x="8816" y="5"/>
                      <a:pt x="8815" y="6"/>
                      <a:pt x="8814" y="6"/>
                    </a:cubicBezTo>
                    <a:lnTo>
                      <a:pt x="8814" y="6"/>
                    </a:lnTo>
                    <a:cubicBezTo>
                      <a:pt x="8813" y="6"/>
                      <a:pt x="8812" y="5"/>
                      <a:pt x="8812" y="4"/>
                    </a:cubicBezTo>
                    <a:cubicBezTo>
                      <a:pt x="8812" y="3"/>
                      <a:pt x="8813" y="2"/>
                      <a:pt x="8814" y="2"/>
                    </a:cubicBezTo>
                    <a:close/>
                    <a:moveTo>
                      <a:pt x="8822" y="2"/>
                    </a:moveTo>
                    <a:lnTo>
                      <a:pt x="8822" y="2"/>
                    </a:lnTo>
                    <a:cubicBezTo>
                      <a:pt x="8823" y="2"/>
                      <a:pt x="8824" y="3"/>
                      <a:pt x="8824" y="4"/>
                    </a:cubicBezTo>
                    <a:cubicBezTo>
                      <a:pt x="8824" y="5"/>
                      <a:pt x="8823" y="6"/>
                      <a:pt x="8822" y="6"/>
                    </a:cubicBezTo>
                    <a:lnTo>
                      <a:pt x="8822" y="6"/>
                    </a:lnTo>
                    <a:cubicBezTo>
                      <a:pt x="8821" y="6"/>
                      <a:pt x="8820" y="5"/>
                      <a:pt x="8820" y="4"/>
                    </a:cubicBezTo>
                    <a:cubicBezTo>
                      <a:pt x="8820" y="3"/>
                      <a:pt x="8821" y="2"/>
                      <a:pt x="8822" y="2"/>
                    </a:cubicBezTo>
                    <a:close/>
                    <a:moveTo>
                      <a:pt x="8830" y="2"/>
                    </a:moveTo>
                    <a:lnTo>
                      <a:pt x="8830" y="2"/>
                    </a:lnTo>
                    <a:cubicBezTo>
                      <a:pt x="8831" y="2"/>
                      <a:pt x="8832" y="3"/>
                      <a:pt x="8832" y="4"/>
                    </a:cubicBezTo>
                    <a:cubicBezTo>
                      <a:pt x="8832" y="5"/>
                      <a:pt x="8831" y="6"/>
                      <a:pt x="8830" y="6"/>
                    </a:cubicBezTo>
                    <a:lnTo>
                      <a:pt x="8830" y="6"/>
                    </a:lnTo>
                    <a:cubicBezTo>
                      <a:pt x="8829" y="6"/>
                      <a:pt x="8828" y="5"/>
                      <a:pt x="8828" y="4"/>
                    </a:cubicBezTo>
                    <a:cubicBezTo>
                      <a:pt x="8828" y="3"/>
                      <a:pt x="8829" y="2"/>
                      <a:pt x="8830" y="2"/>
                    </a:cubicBezTo>
                    <a:close/>
                    <a:moveTo>
                      <a:pt x="8838" y="2"/>
                    </a:moveTo>
                    <a:lnTo>
                      <a:pt x="8838" y="2"/>
                    </a:lnTo>
                    <a:cubicBezTo>
                      <a:pt x="8839" y="2"/>
                      <a:pt x="8840" y="3"/>
                      <a:pt x="8840" y="4"/>
                    </a:cubicBezTo>
                    <a:cubicBezTo>
                      <a:pt x="8840" y="5"/>
                      <a:pt x="8839" y="6"/>
                      <a:pt x="8838" y="6"/>
                    </a:cubicBezTo>
                    <a:lnTo>
                      <a:pt x="8838" y="6"/>
                    </a:lnTo>
                    <a:cubicBezTo>
                      <a:pt x="8837" y="6"/>
                      <a:pt x="8836" y="5"/>
                      <a:pt x="8836" y="4"/>
                    </a:cubicBezTo>
                    <a:cubicBezTo>
                      <a:pt x="8836" y="3"/>
                      <a:pt x="8837" y="2"/>
                      <a:pt x="8838" y="2"/>
                    </a:cubicBezTo>
                    <a:close/>
                    <a:moveTo>
                      <a:pt x="8846" y="2"/>
                    </a:moveTo>
                    <a:lnTo>
                      <a:pt x="8846" y="2"/>
                    </a:lnTo>
                    <a:cubicBezTo>
                      <a:pt x="8847" y="2"/>
                      <a:pt x="8848" y="3"/>
                      <a:pt x="8848" y="4"/>
                    </a:cubicBezTo>
                    <a:cubicBezTo>
                      <a:pt x="8848" y="5"/>
                      <a:pt x="8847" y="6"/>
                      <a:pt x="8846" y="6"/>
                    </a:cubicBezTo>
                    <a:lnTo>
                      <a:pt x="8846" y="6"/>
                    </a:lnTo>
                    <a:cubicBezTo>
                      <a:pt x="8845" y="6"/>
                      <a:pt x="8844" y="5"/>
                      <a:pt x="8844" y="4"/>
                    </a:cubicBezTo>
                    <a:cubicBezTo>
                      <a:pt x="8844" y="3"/>
                      <a:pt x="8845" y="2"/>
                      <a:pt x="8846" y="2"/>
                    </a:cubicBezTo>
                    <a:close/>
                    <a:moveTo>
                      <a:pt x="8854" y="2"/>
                    </a:moveTo>
                    <a:lnTo>
                      <a:pt x="8854" y="2"/>
                    </a:lnTo>
                    <a:cubicBezTo>
                      <a:pt x="8855" y="2"/>
                      <a:pt x="8856" y="3"/>
                      <a:pt x="8856" y="4"/>
                    </a:cubicBezTo>
                    <a:cubicBezTo>
                      <a:pt x="8856" y="5"/>
                      <a:pt x="8855" y="6"/>
                      <a:pt x="8854" y="6"/>
                    </a:cubicBezTo>
                    <a:lnTo>
                      <a:pt x="8854" y="6"/>
                    </a:lnTo>
                    <a:cubicBezTo>
                      <a:pt x="8853" y="6"/>
                      <a:pt x="8852" y="5"/>
                      <a:pt x="8852" y="4"/>
                    </a:cubicBezTo>
                    <a:cubicBezTo>
                      <a:pt x="8852" y="3"/>
                      <a:pt x="8853" y="2"/>
                      <a:pt x="8854" y="2"/>
                    </a:cubicBezTo>
                    <a:close/>
                    <a:moveTo>
                      <a:pt x="8862" y="2"/>
                    </a:moveTo>
                    <a:lnTo>
                      <a:pt x="8862" y="2"/>
                    </a:lnTo>
                    <a:cubicBezTo>
                      <a:pt x="8863" y="2"/>
                      <a:pt x="8864" y="3"/>
                      <a:pt x="8864" y="4"/>
                    </a:cubicBezTo>
                    <a:cubicBezTo>
                      <a:pt x="8864" y="5"/>
                      <a:pt x="8863" y="6"/>
                      <a:pt x="8862" y="6"/>
                    </a:cubicBezTo>
                    <a:lnTo>
                      <a:pt x="8862" y="6"/>
                    </a:lnTo>
                    <a:cubicBezTo>
                      <a:pt x="8861" y="6"/>
                      <a:pt x="8860" y="5"/>
                      <a:pt x="8860" y="4"/>
                    </a:cubicBezTo>
                    <a:cubicBezTo>
                      <a:pt x="8860" y="3"/>
                      <a:pt x="8861" y="2"/>
                      <a:pt x="8862" y="2"/>
                    </a:cubicBezTo>
                    <a:close/>
                    <a:moveTo>
                      <a:pt x="8870" y="2"/>
                    </a:moveTo>
                    <a:lnTo>
                      <a:pt x="8870" y="2"/>
                    </a:lnTo>
                    <a:cubicBezTo>
                      <a:pt x="8871" y="2"/>
                      <a:pt x="8872" y="3"/>
                      <a:pt x="8872" y="4"/>
                    </a:cubicBezTo>
                    <a:cubicBezTo>
                      <a:pt x="8872" y="5"/>
                      <a:pt x="8871" y="6"/>
                      <a:pt x="8870" y="6"/>
                    </a:cubicBezTo>
                    <a:lnTo>
                      <a:pt x="8870" y="6"/>
                    </a:lnTo>
                    <a:cubicBezTo>
                      <a:pt x="8869" y="6"/>
                      <a:pt x="8868" y="5"/>
                      <a:pt x="8868" y="4"/>
                    </a:cubicBezTo>
                    <a:cubicBezTo>
                      <a:pt x="8868" y="3"/>
                      <a:pt x="8869" y="2"/>
                      <a:pt x="8870" y="2"/>
                    </a:cubicBezTo>
                    <a:close/>
                    <a:moveTo>
                      <a:pt x="8878" y="2"/>
                    </a:moveTo>
                    <a:lnTo>
                      <a:pt x="8878" y="2"/>
                    </a:lnTo>
                    <a:cubicBezTo>
                      <a:pt x="8879" y="2"/>
                      <a:pt x="8880" y="3"/>
                      <a:pt x="8880" y="4"/>
                    </a:cubicBezTo>
                    <a:cubicBezTo>
                      <a:pt x="8880" y="5"/>
                      <a:pt x="8879" y="6"/>
                      <a:pt x="8878" y="6"/>
                    </a:cubicBezTo>
                    <a:lnTo>
                      <a:pt x="8878" y="6"/>
                    </a:lnTo>
                    <a:cubicBezTo>
                      <a:pt x="8877" y="6"/>
                      <a:pt x="8876" y="5"/>
                      <a:pt x="8876" y="4"/>
                    </a:cubicBezTo>
                    <a:cubicBezTo>
                      <a:pt x="8876" y="3"/>
                      <a:pt x="8877" y="2"/>
                      <a:pt x="8878" y="2"/>
                    </a:cubicBezTo>
                    <a:close/>
                    <a:moveTo>
                      <a:pt x="8886" y="2"/>
                    </a:moveTo>
                    <a:lnTo>
                      <a:pt x="8886" y="2"/>
                    </a:lnTo>
                    <a:cubicBezTo>
                      <a:pt x="8887" y="2"/>
                      <a:pt x="8888" y="3"/>
                      <a:pt x="8888" y="4"/>
                    </a:cubicBezTo>
                    <a:cubicBezTo>
                      <a:pt x="8888" y="5"/>
                      <a:pt x="8887" y="6"/>
                      <a:pt x="8886" y="6"/>
                    </a:cubicBezTo>
                    <a:lnTo>
                      <a:pt x="8886" y="6"/>
                    </a:lnTo>
                    <a:cubicBezTo>
                      <a:pt x="8885" y="6"/>
                      <a:pt x="8884" y="5"/>
                      <a:pt x="8884" y="4"/>
                    </a:cubicBezTo>
                    <a:cubicBezTo>
                      <a:pt x="8884" y="3"/>
                      <a:pt x="8885" y="2"/>
                      <a:pt x="8886" y="2"/>
                    </a:cubicBezTo>
                    <a:close/>
                    <a:moveTo>
                      <a:pt x="8894" y="2"/>
                    </a:moveTo>
                    <a:lnTo>
                      <a:pt x="8894" y="2"/>
                    </a:lnTo>
                    <a:cubicBezTo>
                      <a:pt x="8895" y="2"/>
                      <a:pt x="8896" y="3"/>
                      <a:pt x="8896" y="4"/>
                    </a:cubicBezTo>
                    <a:cubicBezTo>
                      <a:pt x="8896" y="5"/>
                      <a:pt x="8895" y="6"/>
                      <a:pt x="8894" y="6"/>
                    </a:cubicBezTo>
                    <a:lnTo>
                      <a:pt x="8894" y="6"/>
                    </a:lnTo>
                    <a:cubicBezTo>
                      <a:pt x="8893" y="6"/>
                      <a:pt x="8892" y="5"/>
                      <a:pt x="8892" y="4"/>
                    </a:cubicBezTo>
                    <a:cubicBezTo>
                      <a:pt x="8892" y="3"/>
                      <a:pt x="8893" y="2"/>
                      <a:pt x="8894" y="2"/>
                    </a:cubicBezTo>
                    <a:close/>
                    <a:moveTo>
                      <a:pt x="8902" y="2"/>
                    </a:moveTo>
                    <a:lnTo>
                      <a:pt x="8902" y="2"/>
                    </a:lnTo>
                    <a:cubicBezTo>
                      <a:pt x="8903" y="2"/>
                      <a:pt x="8904" y="3"/>
                      <a:pt x="8904" y="4"/>
                    </a:cubicBezTo>
                    <a:cubicBezTo>
                      <a:pt x="8904" y="5"/>
                      <a:pt x="8903" y="6"/>
                      <a:pt x="8902" y="6"/>
                    </a:cubicBezTo>
                    <a:lnTo>
                      <a:pt x="8902" y="6"/>
                    </a:lnTo>
                    <a:cubicBezTo>
                      <a:pt x="8901" y="6"/>
                      <a:pt x="8900" y="5"/>
                      <a:pt x="8900" y="4"/>
                    </a:cubicBezTo>
                    <a:cubicBezTo>
                      <a:pt x="8900" y="3"/>
                      <a:pt x="8901" y="2"/>
                      <a:pt x="8902" y="2"/>
                    </a:cubicBezTo>
                    <a:close/>
                    <a:moveTo>
                      <a:pt x="8910" y="2"/>
                    </a:moveTo>
                    <a:lnTo>
                      <a:pt x="8910" y="2"/>
                    </a:lnTo>
                    <a:cubicBezTo>
                      <a:pt x="8911" y="2"/>
                      <a:pt x="8912" y="3"/>
                      <a:pt x="8912" y="4"/>
                    </a:cubicBezTo>
                    <a:cubicBezTo>
                      <a:pt x="8912" y="5"/>
                      <a:pt x="8911" y="6"/>
                      <a:pt x="8910" y="6"/>
                    </a:cubicBezTo>
                    <a:lnTo>
                      <a:pt x="8910" y="6"/>
                    </a:lnTo>
                    <a:cubicBezTo>
                      <a:pt x="8909" y="6"/>
                      <a:pt x="8908" y="5"/>
                      <a:pt x="8908" y="4"/>
                    </a:cubicBezTo>
                    <a:cubicBezTo>
                      <a:pt x="8908" y="3"/>
                      <a:pt x="8909" y="2"/>
                      <a:pt x="8910" y="2"/>
                    </a:cubicBezTo>
                    <a:close/>
                    <a:moveTo>
                      <a:pt x="8918" y="2"/>
                    </a:moveTo>
                    <a:lnTo>
                      <a:pt x="8918" y="2"/>
                    </a:lnTo>
                    <a:cubicBezTo>
                      <a:pt x="8919" y="2"/>
                      <a:pt x="8920" y="3"/>
                      <a:pt x="8920" y="4"/>
                    </a:cubicBezTo>
                    <a:cubicBezTo>
                      <a:pt x="8920" y="5"/>
                      <a:pt x="8919" y="6"/>
                      <a:pt x="8918" y="6"/>
                    </a:cubicBezTo>
                    <a:lnTo>
                      <a:pt x="8918" y="6"/>
                    </a:lnTo>
                    <a:cubicBezTo>
                      <a:pt x="8917" y="6"/>
                      <a:pt x="8916" y="5"/>
                      <a:pt x="8916" y="4"/>
                    </a:cubicBezTo>
                    <a:cubicBezTo>
                      <a:pt x="8916" y="3"/>
                      <a:pt x="8917" y="2"/>
                      <a:pt x="8918" y="2"/>
                    </a:cubicBezTo>
                    <a:close/>
                    <a:moveTo>
                      <a:pt x="8926" y="2"/>
                    </a:moveTo>
                    <a:lnTo>
                      <a:pt x="8926" y="2"/>
                    </a:lnTo>
                    <a:cubicBezTo>
                      <a:pt x="8927" y="2"/>
                      <a:pt x="8928" y="3"/>
                      <a:pt x="8928" y="4"/>
                    </a:cubicBezTo>
                    <a:cubicBezTo>
                      <a:pt x="8928" y="5"/>
                      <a:pt x="8927" y="6"/>
                      <a:pt x="8926" y="6"/>
                    </a:cubicBezTo>
                    <a:lnTo>
                      <a:pt x="8926" y="6"/>
                    </a:lnTo>
                    <a:cubicBezTo>
                      <a:pt x="8925" y="6"/>
                      <a:pt x="8924" y="5"/>
                      <a:pt x="8924" y="4"/>
                    </a:cubicBezTo>
                    <a:cubicBezTo>
                      <a:pt x="8924" y="3"/>
                      <a:pt x="8925" y="2"/>
                      <a:pt x="8926" y="2"/>
                    </a:cubicBezTo>
                    <a:close/>
                    <a:moveTo>
                      <a:pt x="8934" y="2"/>
                    </a:moveTo>
                    <a:lnTo>
                      <a:pt x="8934" y="2"/>
                    </a:lnTo>
                    <a:cubicBezTo>
                      <a:pt x="8935" y="2"/>
                      <a:pt x="8936" y="3"/>
                      <a:pt x="8936" y="4"/>
                    </a:cubicBezTo>
                    <a:cubicBezTo>
                      <a:pt x="8936" y="5"/>
                      <a:pt x="8935" y="6"/>
                      <a:pt x="8934" y="6"/>
                    </a:cubicBezTo>
                    <a:lnTo>
                      <a:pt x="8934" y="6"/>
                    </a:lnTo>
                    <a:cubicBezTo>
                      <a:pt x="8933" y="6"/>
                      <a:pt x="8932" y="5"/>
                      <a:pt x="8932" y="4"/>
                    </a:cubicBezTo>
                    <a:cubicBezTo>
                      <a:pt x="8932" y="3"/>
                      <a:pt x="8933" y="2"/>
                      <a:pt x="8934" y="2"/>
                    </a:cubicBezTo>
                    <a:close/>
                    <a:moveTo>
                      <a:pt x="8942" y="2"/>
                    </a:moveTo>
                    <a:lnTo>
                      <a:pt x="8942" y="2"/>
                    </a:lnTo>
                    <a:cubicBezTo>
                      <a:pt x="8943" y="2"/>
                      <a:pt x="8944" y="3"/>
                      <a:pt x="8944" y="4"/>
                    </a:cubicBezTo>
                    <a:cubicBezTo>
                      <a:pt x="8944" y="5"/>
                      <a:pt x="8943" y="6"/>
                      <a:pt x="8942" y="6"/>
                    </a:cubicBezTo>
                    <a:lnTo>
                      <a:pt x="8942" y="6"/>
                    </a:lnTo>
                    <a:cubicBezTo>
                      <a:pt x="8941" y="6"/>
                      <a:pt x="8940" y="5"/>
                      <a:pt x="8940" y="4"/>
                    </a:cubicBezTo>
                    <a:cubicBezTo>
                      <a:pt x="8940" y="3"/>
                      <a:pt x="8941" y="2"/>
                      <a:pt x="8942" y="2"/>
                    </a:cubicBezTo>
                    <a:close/>
                    <a:moveTo>
                      <a:pt x="8950" y="2"/>
                    </a:moveTo>
                    <a:lnTo>
                      <a:pt x="8950" y="2"/>
                    </a:lnTo>
                    <a:cubicBezTo>
                      <a:pt x="8951" y="2"/>
                      <a:pt x="8952" y="3"/>
                      <a:pt x="8952" y="4"/>
                    </a:cubicBezTo>
                    <a:cubicBezTo>
                      <a:pt x="8952" y="5"/>
                      <a:pt x="8951" y="6"/>
                      <a:pt x="8950" y="6"/>
                    </a:cubicBezTo>
                    <a:lnTo>
                      <a:pt x="8950" y="6"/>
                    </a:lnTo>
                    <a:cubicBezTo>
                      <a:pt x="8949" y="6"/>
                      <a:pt x="8948" y="5"/>
                      <a:pt x="8948" y="4"/>
                    </a:cubicBezTo>
                    <a:cubicBezTo>
                      <a:pt x="8948" y="3"/>
                      <a:pt x="8949" y="2"/>
                      <a:pt x="8950" y="2"/>
                    </a:cubicBezTo>
                    <a:close/>
                    <a:moveTo>
                      <a:pt x="8958" y="2"/>
                    </a:moveTo>
                    <a:lnTo>
                      <a:pt x="8958" y="2"/>
                    </a:lnTo>
                    <a:cubicBezTo>
                      <a:pt x="8959" y="2"/>
                      <a:pt x="8960" y="3"/>
                      <a:pt x="8960" y="4"/>
                    </a:cubicBezTo>
                    <a:cubicBezTo>
                      <a:pt x="8960" y="5"/>
                      <a:pt x="8959" y="6"/>
                      <a:pt x="8958" y="6"/>
                    </a:cubicBezTo>
                    <a:lnTo>
                      <a:pt x="8958" y="6"/>
                    </a:lnTo>
                    <a:cubicBezTo>
                      <a:pt x="8957" y="6"/>
                      <a:pt x="8956" y="5"/>
                      <a:pt x="8956" y="4"/>
                    </a:cubicBezTo>
                    <a:cubicBezTo>
                      <a:pt x="8956" y="3"/>
                      <a:pt x="8957" y="2"/>
                      <a:pt x="8958" y="2"/>
                    </a:cubicBezTo>
                    <a:close/>
                    <a:moveTo>
                      <a:pt x="8966" y="2"/>
                    </a:moveTo>
                    <a:lnTo>
                      <a:pt x="8966" y="2"/>
                    </a:lnTo>
                    <a:cubicBezTo>
                      <a:pt x="8967" y="2"/>
                      <a:pt x="8968" y="3"/>
                      <a:pt x="8968" y="4"/>
                    </a:cubicBezTo>
                    <a:cubicBezTo>
                      <a:pt x="8968" y="5"/>
                      <a:pt x="8967" y="6"/>
                      <a:pt x="8966" y="6"/>
                    </a:cubicBezTo>
                    <a:lnTo>
                      <a:pt x="8966" y="6"/>
                    </a:lnTo>
                    <a:cubicBezTo>
                      <a:pt x="8965" y="6"/>
                      <a:pt x="8964" y="5"/>
                      <a:pt x="8964" y="4"/>
                    </a:cubicBezTo>
                    <a:cubicBezTo>
                      <a:pt x="8964" y="3"/>
                      <a:pt x="8965" y="2"/>
                      <a:pt x="8966" y="2"/>
                    </a:cubicBezTo>
                    <a:close/>
                    <a:moveTo>
                      <a:pt x="8974" y="2"/>
                    </a:moveTo>
                    <a:lnTo>
                      <a:pt x="8974" y="2"/>
                    </a:lnTo>
                    <a:cubicBezTo>
                      <a:pt x="8975" y="2"/>
                      <a:pt x="8976" y="3"/>
                      <a:pt x="8976" y="4"/>
                    </a:cubicBezTo>
                    <a:cubicBezTo>
                      <a:pt x="8976" y="5"/>
                      <a:pt x="8975" y="6"/>
                      <a:pt x="8974" y="6"/>
                    </a:cubicBezTo>
                    <a:lnTo>
                      <a:pt x="8974" y="6"/>
                    </a:lnTo>
                    <a:cubicBezTo>
                      <a:pt x="8973" y="6"/>
                      <a:pt x="8972" y="5"/>
                      <a:pt x="8972" y="4"/>
                    </a:cubicBezTo>
                    <a:cubicBezTo>
                      <a:pt x="8972" y="3"/>
                      <a:pt x="8973" y="2"/>
                      <a:pt x="8974" y="2"/>
                    </a:cubicBezTo>
                    <a:close/>
                    <a:moveTo>
                      <a:pt x="8982" y="2"/>
                    </a:moveTo>
                    <a:lnTo>
                      <a:pt x="8982" y="2"/>
                    </a:lnTo>
                    <a:cubicBezTo>
                      <a:pt x="8983" y="2"/>
                      <a:pt x="8984" y="3"/>
                      <a:pt x="8984" y="4"/>
                    </a:cubicBezTo>
                    <a:cubicBezTo>
                      <a:pt x="8984" y="5"/>
                      <a:pt x="8983" y="6"/>
                      <a:pt x="8982" y="6"/>
                    </a:cubicBezTo>
                    <a:lnTo>
                      <a:pt x="8982" y="6"/>
                    </a:lnTo>
                    <a:cubicBezTo>
                      <a:pt x="8981" y="6"/>
                      <a:pt x="8980" y="5"/>
                      <a:pt x="8980" y="4"/>
                    </a:cubicBezTo>
                    <a:cubicBezTo>
                      <a:pt x="8980" y="3"/>
                      <a:pt x="8981" y="2"/>
                      <a:pt x="8982" y="2"/>
                    </a:cubicBezTo>
                    <a:close/>
                    <a:moveTo>
                      <a:pt x="8990" y="2"/>
                    </a:moveTo>
                    <a:lnTo>
                      <a:pt x="8990" y="2"/>
                    </a:lnTo>
                    <a:cubicBezTo>
                      <a:pt x="8991" y="2"/>
                      <a:pt x="8992" y="3"/>
                      <a:pt x="8992" y="4"/>
                    </a:cubicBezTo>
                    <a:cubicBezTo>
                      <a:pt x="8992" y="5"/>
                      <a:pt x="8991" y="6"/>
                      <a:pt x="8990" y="6"/>
                    </a:cubicBezTo>
                    <a:lnTo>
                      <a:pt x="8990" y="6"/>
                    </a:lnTo>
                    <a:cubicBezTo>
                      <a:pt x="8989" y="6"/>
                      <a:pt x="8988" y="5"/>
                      <a:pt x="8988" y="4"/>
                    </a:cubicBezTo>
                    <a:cubicBezTo>
                      <a:pt x="8988" y="3"/>
                      <a:pt x="8989" y="2"/>
                      <a:pt x="8990" y="2"/>
                    </a:cubicBezTo>
                    <a:close/>
                    <a:moveTo>
                      <a:pt x="8998" y="2"/>
                    </a:moveTo>
                    <a:lnTo>
                      <a:pt x="8998" y="2"/>
                    </a:lnTo>
                    <a:cubicBezTo>
                      <a:pt x="8999" y="2"/>
                      <a:pt x="9000" y="3"/>
                      <a:pt x="9000" y="4"/>
                    </a:cubicBezTo>
                    <a:cubicBezTo>
                      <a:pt x="9000" y="5"/>
                      <a:pt x="8999" y="6"/>
                      <a:pt x="8998" y="6"/>
                    </a:cubicBezTo>
                    <a:lnTo>
                      <a:pt x="8998" y="6"/>
                    </a:lnTo>
                    <a:cubicBezTo>
                      <a:pt x="8997" y="6"/>
                      <a:pt x="8996" y="5"/>
                      <a:pt x="8996" y="4"/>
                    </a:cubicBezTo>
                    <a:cubicBezTo>
                      <a:pt x="8996" y="3"/>
                      <a:pt x="8997" y="2"/>
                      <a:pt x="8998" y="2"/>
                    </a:cubicBezTo>
                    <a:close/>
                    <a:moveTo>
                      <a:pt x="9006" y="2"/>
                    </a:moveTo>
                    <a:lnTo>
                      <a:pt x="9006" y="2"/>
                    </a:lnTo>
                    <a:cubicBezTo>
                      <a:pt x="9007" y="2"/>
                      <a:pt x="9008" y="3"/>
                      <a:pt x="9008" y="4"/>
                    </a:cubicBezTo>
                    <a:cubicBezTo>
                      <a:pt x="9008" y="5"/>
                      <a:pt x="9007" y="6"/>
                      <a:pt x="9006" y="6"/>
                    </a:cubicBezTo>
                    <a:lnTo>
                      <a:pt x="9006" y="6"/>
                    </a:lnTo>
                    <a:cubicBezTo>
                      <a:pt x="9005" y="6"/>
                      <a:pt x="9004" y="5"/>
                      <a:pt x="9004" y="4"/>
                    </a:cubicBezTo>
                    <a:cubicBezTo>
                      <a:pt x="9004" y="3"/>
                      <a:pt x="9005" y="2"/>
                      <a:pt x="9006" y="2"/>
                    </a:cubicBezTo>
                    <a:close/>
                    <a:moveTo>
                      <a:pt x="9014" y="2"/>
                    </a:moveTo>
                    <a:lnTo>
                      <a:pt x="9014" y="2"/>
                    </a:lnTo>
                    <a:cubicBezTo>
                      <a:pt x="9015" y="2"/>
                      <a:pt x="9016" y="3"/>
                      <a:pt x="9016" y="4"/>
                    </a:cubicBezTo>
                    <a:cubicBezTo>
                      <a:pt x="9016" y="5"/>
                      <a:pt x="9015" y="6"/>
                      <a:pt x="9014" y="6"/>
                    </a:cubicBezTo>
                    <a:lnTo>
                      <a:pt x="9014" y="6"/>
                    </a:lnTo>
                    <a:cubicBezTo>
                      <a:pt x="9013" y="6"/>
                      <a:pt x="9012" y="5"/>
                      <a:pt x="9012" y="4"/>
                    </a:cubicBezTo>
                    <a:cubicBezTo>
                      <a:pt x="9012" y="3"/>
                      <a:pt x="9013" y="2"/>
                      <a:pt x="9014" y="2"/>
                    </a:cubicBezTo>
                    <a:close/>
                    <a:moveTo>
                      <a:pt x="9022" y="2"/>
                    </a:moveTo>
                    <a:lnTo>
                      <a:pt x="9022" y="2"/>
                    </a:lnTo>
                    <a:cubicBezTo>
                      <a:pt x="9023" y="2"/>
                      <a:pt x="9024" y="3"/>
                      <a:pt x="9024" y="4"/>
                    </a:cubicBezTo>
                    <a:cubicBezTo>
                      <a:pt x="9024" y="5"/>
                      <a:pt x="9023" y="6"/>
                      <a:pt x="9022" y="6"/>
                    </a:cubicBezTo>
                    <a:lnTo>
                      <a:pt x="9022" y="6"/>
                    </a:lnTo>
                    <a:cubicBezTo>
                      <a:pt x="9021" y="6"/>
                      <a:pt x="9020" y="5"/>
                      <a:pt x="9020" y="4"/>
                    </a:cubicBezTo>
                    <a:cubicBezTo>
                      <a:pt x="9020" y="3"/>
                      <a:pt x="9021" y="2"/>
                      <a:pt x="9022" y="2"/>
                    </a:cubicBezTo>
                    <a:close/>
                    <a:moveTo>
                      <a:pt x="9030" y="2"/>
                    </a:moveTo>
                    <a:lnTo>
                      <a:pt x="9030" y="2"/>
                    </a:lnTo>
                    <a:cubicBezTo>
                      <a:pt x="9031" y="2"/>
                      <a:pt x="9032" y="3"/>
                      <a:pt x="9032" y="4"/>
                    </a:cubicBezTo>
                    <a:cubicBezTo>
                      <a:pt x="9032" y="5"/>
                      <a:pt x="9031" y="6"/>
                      <a:pt x="9030" y="6"/>
                    </a:cubicBezTo>
                    <a:lnTo>
                      <a:pt x="9030" y="6"/>
                    </a:lnTo>
                    <a:cubicBezTo>
                      <a:pt x="9029" y="6"/>
                      <a:pt x="9028" y="5"/>
                      <a:pt x="9028" y="4"/>
                    </a:cubicBezTo>
                    <a:cubicBezTo>
                      <a:pt x="9028" y="3"/>
                      <a:pt x="9029" y="2"/>
                      <a:pt x="9030" y="2"/>
                    </a:cubicBezTo>
                    <a:close/>
                    <a:moveTo>
                      <a:pt x="9038" y="2"/>
                    </a:moveTo>
                    <a:lnTo>
                      <a:pt x="9038" y="2"/>
                    </a:lnTo>
                    <a:cubicBezTo>
                      <a:pt x="9039" y="2"/>
                      <a:pt x="9040" y="3"/>
                      <a:pt x="9040" y="4"/>
                    </a:cubicBezTo>
                    <a:cubicBezTo>
                      <a:pt x="9040" y="5"/>
                      <a:pt x="9039" y="6"/>
                      <a:pt x="9038" y="6"/>
                    </a:cubicBezTo>
                    <a:lnTo>
                      <a:pt x="9038" y="6"/>
                    </a:lnTo>
                    <a:cubicBezTo>
                      <a:pt x="9037" y="6"/>
                      <a:pt x="9036" y="5"/>
                      <a:pt x="9036" y="4"/>
                    </a:cubicBezTo>
                    <a:cubicBezTo>
                      <a:pt x="9036" y="3"/>
                      <a:pt x="9037" y="2"/>
                      <a:pt x="9038" y="2"/>
                    </a:cubicBezTo>
                    <a:close/>
                    <a:moveTo>
                      <a:pt x="9046" y="2"/>
                    </a:moveTo>
                    <a:lnTo>
                      <a:pt x="9046" y="2"/>
                    </a:lnTo>
                    <a:cubicBezTo>
                      <a:pt x="9047" y="2"/>
                      <a:pt x="9048" y="3"/>
                      <a:pt x="9048" y="4"/>
                    </a:cubicBezTo>
                    <a:cubicBezTo>
                      <a:pt x="9048" y="5"/>
                      <a:pt x="9047" y="6"/>
                      <a:pt x="9046" y="6"/>
                    </a:cubicBezTo>
                    <a:lnTo>
                      <a:pt x="9046" y="6"/>
                    </a:lnTo>
                    <a:cubicBezTo>
                      <a:pt x="9045" y="6"/>
                      <a:pt x="9044" y="5"/>
                      <a:pt x="9044" y="4"/>
                    </a:cubicBezTo>
                    <a:cubicBezTo>
                      <a:pt x="9044" y="3"/>
                      <a:pt x="9045" y="2"/>
                      <a:pt x="9046" y="2"/>
                    </a:cubicBezTo>
                    <a:close/>
                    <a:moveTo>
                      <a:pt x="9054" y="2"/>
                    </a:moveTo>
                    <a:lnTo>
                      <a:pt x="9054" y="2"/>
                    </a:lnTo>
                    <a:cubicBezTo>
                      <a:pt x="9055" y="2"/>
                      <a:pt x="9056" y="3"/>
                      <a:pt x="9056" y="4"/>
                    </a:cubicBezTo>
                    <a:cubicBezTo>
                      <a:pt x="9056" y="5"/>
                      <a:pt x="9055" y="6"/>
                      <a:pt x="9054" y="6"/>
                    </a:cubicBezTo>
                    <a:lnTo>
                      <a:pt x="9054" y="6"/>
                    </a:lnTo>
                    <a:cubicBezTo>
                      <a:pt x="9053" y="6"/>
                      <a:pt x="9052" y="5"/>
                      <a:pt x="9052" y="4"/>
                    </a:cubicBezTo>
                    <a:cubicBezTo>
                      <a:pt x="9052" y="3"/>
                      <a:pt x="9053" y="2"/>
                      <a:pt x="9054" y="2"/>
                    </a:cubicBezTo>
                    <a:close/>
                    <a:moveTo>
                      <a:pt x="9062" y="2"/>
                    </a:moveTo>
                    <a:lnTo>
                      <a:pt x="9062" y="2"/>
                    </a:lnTo>
                    <a:cubicBezTo>
                      <a:pt x="9063" y="2"/>
                      <a:pt x="9064" y="3"/>
                      <a:pt x="9064" y="4"/>
                    </a:cubicBezTo>
                    <a:cubicBezTo>
                      <a:pt x="9064" y="5"/>
                      <a:pt x="9063" y="6"/>
                      <a:pt x="9062" y="6"/>
                    </a:cubicBezTo>
                    <a:lnTo>
                      <a:pt x="9062" y="6"/>
                    </a:lnTo>
                    <a:cubicBezTo>
                      <a:pt x="9061" y="6"/>
                      <a:pt x="9060" y="5"/>
                      <a:pt x="9060" y="4"/>
                    </a:cubicBezTo>
                    <a:cubicBezTo>
                      <a:pt x="9060" y="3"/>
                      <a:pt x="9061" y="2"/>
                      <a:pt x="9062" y="2"/>
                    </a:cubicBezTo>
                    <a:close/>
                    <a:moveTo>
                      <a:pt x="9070" y="2"/>
                    </a:moveTo>
                    <a:lnTo>
                      <a:pt x="9070" y="2"/>
                    </a:lnTo>
                    <a:cubicBezTo>
                      <a:pt x="9071" y="2"/>
                      <a:pt x="9072" y="3"/>
                      <a:pt x="9072" y="4"/>
                    </a:cubicBezTo>
                    <a:cubicBezTo>
                      <a:pt x="9072" y="5"/>
                      <a:pt x="9071" y="6"/>
                      <a:pt x="9070" y="6"/>
                    </a:cubicBezTo>
                    <a:lnTo>
                      <a:pt x="9070" y="6"/>
                    </a:lnTo>
                    <a:cubicBezTo>
                      <a:pt x="9069" y="6"/>
                      <a:pt x="9068" y="5"/>
                      <a:pt x="9068" y="4"/>
                    </a:cubicBezTo>
                    <a:cubicBezTo>
                      <a:pt x="9068" y="3"/>
                      <a:pt x="9069" y="2"/>
                      <a:pt x="9070" y="2"/>
                    </a:cubicBezTo>
                    <a:close/>
                    <a:moveTo>
                      <a:pt x="9078" y="2"/>
                    </a:moveTo>
                    <a:lnTo>
                      <a:pt x="9078" y="2"/>
                    </a:lnTo>
                    <a:cubicBezTo>
                      <a:pt x="9079" y="2"/>
                      <a:pt x="9080" y="3"/>
                      <a:pt x="9080" y="4"/>
                    </a:cubicBezTo>
                    <a:cubicBezTo>
                      <a:pt x="9080" y="5"/>
                      <a:pt x="9079" y="6"/>
                      <a:pt x="9078" y="6"/>
                    </a:cubicBezTo>
                    <a:lnTo>
                      <a:pt x="9078" y="6"/>
                    </a:lnTo>
                    <a:cubicBezTo>
                      <a:pt x="9077" y="6"/>
                      <a:pt x="9076" y="5"/>
                      <a:pt x="9076" y="4"/>
                    </a:cubicBezTo>
                    <a:cubicBezTo>
                      <a:pt x="9076" y="3"/>
                      <a:pt x="9077" y="2"/>
                      <a:pt x="9078" y="2"/>
                    </a:cubicBezTo>
                    <a:close/>
                    <a:moveTo>
                      <a:pt x="9086" y="2"/>
                    </a:moveTo>
                    <a:lnTo>
                      <a:pt x="9086" y="2"/>
                    </a:lnTo>
                    <a:cubicBezTo>
                      <a:pt x="9087" y="2"/>
                      <a:pt x="9088" y="3"/>
                      <a:pt x="9088" y="4"/>
                    </a:cubicBezTo>
                    <a:cubicBezTo>
                      <a:pt x="9088" y="5"/>
                      <a:pt x="9087" y="6"/>
                      <a:pt x="9086" y="6"/>
                    </a:cubicBezTo>
                    <a:lnTo>
                      <a:pt x="9086" y="6"/>
                    </a:lnTo>
                    <a:cubicBezTo>
                      <a:pt x="9085" y="6"/>
                      <a:pt x="9084" y="5"/>
                      <a:pt x="9084" y="4"/>
                    </a:cubicBezTo>
                    <a:cubicBezTo>
                      <a:pt x="9084" y="3"/>
                      <a:pt x="9085" y="2"/>
                      <a:pt x="9086" y="2"/>
                    </a:cubicBezTo>
                    <a:close/>
                    <a:moveTo>
                      <a:pt x="9094" y="2"/>
                    </a:moveTo>
                    <a:lnTo>
                      <a:pt x="9094" y="2"/>
                    </a:lnTo>
                    <a:cubicBezTo>
                      <a:pt x="9095" y="2"/>
                      <a:pt x="9096" y="3"/>
                      <a:pt x="9096" y="4"/>
                    </a:cubicBezTo>
                    <a:cubicBezTo>
                      <a:pt x="9096" y="5"/>
                      <a:pt x="9095" y="6"/>
                      <a:pt x="9094" y="6"/>
                    </a:cubicBezTo>
                    <a:lnTo>
                      <a:pt x="9094" y="6"/>
                    </a:lnTo>
                    <a:cubicBezTo>
                      <a:pt x="9093" y="6"/>
                      <a:pt x="9092" y="5"/>
                      <a:pt x="9092" y="4"/>
                    </a:cubicBezTo>
                    <a:cubicBezTo>
                      <a:pt x="9092" y="3"/>
                      <a:pt x="9093" y="2"/>
                      <a:pt x="9094" y="2"/>
                    </a:cubicBezTo>
                    <a:close/>
                    <a:moveTo>
                      <a:pt x="9102" y="2"/>
                    </a:moveTo>
                    <a:lnTo>
                      <a:pt x="9102" y="2"/>
                    </a:lnTo>
                    <a:cubicBezTo>
                      <a:pt x="9103" y="2"/>
                      <a:pt x="9104" y="3"/>
                      <a:pt x="9104" y="4"/>
                    </a:cubicBezTo>
                    <a:cubicBezTo>
                      <a:pt x="9104" y="5"/>
                      <a:pt x="9103" y="6"/>
                      <a:pt x="9102" y="6"/>
                    </a:cubicBezTo>
                    <a:lnTo>
                      <a:pt x="9102" y="6"/>
                    </a:lnTo>
                    <a:cubicBezTo>
                      <a:pt x="9101" y="6"/>
                      <a:pt x="9100" y="5"/>
                      <a:pt x="9100" y="4"/>
                    </a:cubicBezTo>
                    <a:cubicBezTo>
                      <a:pt x="9100" y="3"/>
                      <a:pt x="9101" y="2"/>
                      <a:pt x="9102" y="2"/>
                    </a:cubicBezTo>
                    <a:close/>
                    <a:moveTo>
                      <a:pt x="9110" y="2"/>
                    </a:moveTo>
                    <a:lnTo>
                      <a:pt x="9110" y="2"/>
                    </a:lnTo>
                    <a:cubicBezTo>
                      <a:pt x="9111" y="2"/>
                      <a:pt x="9112" y="3"/>
                      <a:pt x="9112" y="4"/>
                    </a:cubicBezTo>
                    <a:cubicBezTo>
                      <a:pt x="9112" y="5"/>
                      <a:pt x="9111" y="6"/>
                      <a:pt x="9110" y="6"/>
                    </a:cubicBezTo>
                    <a:lnTo>
                      <a:pt x="9110" y="6"/>
                    </a:lnTo>
                    <a:cubicBezTo>
                      <a:pt x="9109" y="6"/>
                      <a:pt x="9108" y="5"/>
                      <a:pt x="9108" y="4"/>
                    </a:cubicBezTo>
                    <a:cubicBezTo>
                      <a:pt x="9108" y="3"/>
                      <a:pt x="9109" y="2"/>
                      <a:pt x="9110" y="2"/>
                    </a:cubicBezTo>
                    <a:close/>
                    <a:moveTo>
                      <a:pt x="9118" y="2"/>
                    </a:moveTo>
                    <a:lnTo>
                      <a:pt x="9118" y="2"/>
                    </a:lnTo>
                    <a:cubicBezTo>
                      <a:pt x="9119" y="2"/>
                      <a:pt x="9120" y="3"/>
                      <a:pt x="9120" y="4"/>
                    </a:cubicBezTo>
                    <a:cubicBezTo>
                      <a:pt x="9120" y="5"/>
                      <a:pt x="9119" y="6"/>
                      <a:pt x="9118" y="6"/>
                    </a:cubicBezTo>
                    <a:lnTo>
                      <a:pt x="9118" y="6"/>
                    </a:lnTo>
                    <a:cubicBezTo>
                      <a:pt x="9117" y="6"/>
                      <a:pt x="9116" y="5"/>
                      <a:pt x="9116" y="4"/>
                    </a:cubicBezTo>
                    <a:cubicBezTo>
                      <a:pt x="9116" y="3"/>
                      <a:pt x="9117" y="2"/>
                      <a:pt x="9118" y="2"/>
                    </a:cubicBezTo>
                    <a:close/>
                    <a:moveTo>
                      <a:pt x="9126" y="2"/>
                    </a:moveTo>
                    <a:lnTo>
                      <a:pt x="9126" y="2"/>
                    </a:lnTo>
                    <a:cubicBezTo>
                      <a:pt x="9127" y="2"/>
                      <a:pt x="9128" y="3"/>
                      <a:pt x="9128" y="4"/>
                    </a:cubicBezTo>
                    <a:cubicBezTo>
                      <a:pt x="9128" y="5"/>
                      <a:pt x="9127" y="6"/>
                      <a:pt x="9126" y="6"/>
                    </a:cubicBezTo>
                    <a:lnTo>
                      <a:pt x="9126" y="6"/>
                    </a:lnTo>
                    <a:cubicBezTo>
                      <a:pt x="9125" y="6"/>
                      <a:pt x="9124" y="5"/>
                      <a:pt x="9124" y="4"/>
                    </a:cubicBezTo>
                    <a:cubicBezTo>
                      <a:pt x="9124" y="3"/>
                      <a:pt x="9125" y="2"/>
                      <a:pt x="9126" y="2"/>
                    </a:cubicBezTo>
                    <a:close/>
                    <a:moveTo>
                      <a:pt x="9134" y="2"/>
                    </a:moveTo>
                    <a:lnTo>
                      <a:pt x="9134" y="2"/>
                    </a:lnTo>
                    <a:cubicBezTo>
                      <a:pt x="9135" y="2"/>
                      <a:pt x="9136" y="3"/>
                      <a:pt x="9136" y="4"/>
                    </a:cubicBezTo>
                    <a:cubicBezTo>
                      <a:pt x="9136" y="5"/>
                      <a:pt x="9135" y="6"/>
                      <a:pt x="9134" y="6"/>
                    </a:cubicBezTo>
                    <a:lnTo>
                      <a:pt x="9134" y="6"/>
                    </a:lnTo>
                    <a:cubicBezTo>
                      <a:pt x="9133" y="6"/>
                      <a:pt x="9132" y="5"/>
                      <a:pt x="9132" y="4"/>
                    </a:cubicBezTo>
                    <a:cubicBezTo>
                      <a:pt x="9132" y="3"/>
                      <a:pt x="9133" y="2"/>
                      <a:pt x="9134" y="2"/>
                    </a:cubicBezTo>
                    <a:close/>
                    <a:moveTo>
                      <a:pt x="9142" y="2"/>
                    </a:moveTo>
                    <a:lnTo>
                      <a:pt x="9142" y="2"/>
                    </a:lnTo>
                    <a:cubicBezTo>
                      <a:pt x="9143" y="2"/>
                      <a:pt x="9144" y="3"/>
                      <a:pt x="9144" y="4"/>
                    </a:cubicBezTo>
                    <a:cubicBezTo>
                      <a:pt x="9144" y="5"/>
                      <a:pt x="9143" y="6"/>
                      <a:pt x="9142" y="6"/>
                    </a:cubicBezTo>
                    <a:lnTo>
                      <a:pt x="9142" y="6"/>
                    </a:lnTo>
                    <a:cubicBezTo>
                      <a:pt x="9141" y="6"/>
                      <a:pt x="9140" y="5"/>
                      <a:pt x="9140" y="4"/>
                    </a:cubicBezTo>
                    <a:cubicBezTo>
                      <a:pt x="9140" y="3"/>
                      <a:pt x="9141" y="2"/>
                      <a:pt x="9142" y="2"/>
                    </a:cubicBezTo>
                    <a:close/>
                    <a:moveTo>
                      <a:pt x="9150" y="2"/>
                    </a:moveTo>
                    <a:lnTo>
                      <a:pt x="9150" y="2"/>
                    </a:lnTo>
                    <a:cubicBezTo>
                      <a:pt x="9152" y="2"/>
                      <a:pt x="9152" y="3"/>
                      <a:pt x="9152" y="4"/>
                    </a:cubicBezTo>
                    <a:cubicBezTo>
                      <a:pt x="9152" y="5"/>
                      <a:pt x="9152" y="6"/>
                      <a:pt x="9150" y="6"/>
                    </a:cubicBezTo>
                    <a:lnTo>
                      <a:pt x="9150" y="6"/>
                    </a:lnTo>
                    <a:cubicBezTo>
                      <a:pt x="9149" y="6"/>
                      <a:pt x="9148" y="5"/>
                      <a:pt x="9148" y="4"/>
                    </a:cubicBezTo>
                    <a:cubicBezTo>
                      <a:pt x="9148" y="3"/>
                      <a:pt x="9149" y="2"/>
                      <a:pt x="9150" y="2"/>
                    </a:cubicBezTo>
                    <a:close/>
                    <a:moveTo>
                      <a:pt x="9158" y="2"/>
                    </a:moveTo>
                    <a:lnTo>
                      <a:pt x="9158" y="2"/>
                    </a:lnTo>
                    <a:cubicBezTo>
                      <a:pt x="9160" y="2"/>
                      <a:pt x="9160" y="3"/>
                      <a:pt x="9160" y="4"/>
                    </a:cubicBezTo>
                    <a:cubicBezTo>
                      <a:pt x="9160" y="5"/>
                      <a:pt x="9160" y="6"/>
                      <a:pt x="9158" y="6"/>
                    </a:cubicBezTo>
                    <a:lnTo>
                      <a:pt x="9158" y="6"/>
                    </a:lnTo>
                    <a:cubicBezTo>
                      <a:pt x="9157" y="6"/>
                      <a:pt x="9156" y="5"/>
                      <a:pt x="9156" y="4"/>
                    </a:cubicBezTo>
                    <a:cubicBezTo>
                      <a:pt x="9156" y="3"/>
                      <a:pt x="9157" y="2"/>
                      <a:pt x="9158" y="2"/>
                    </a:cubicBezTo>
                    <a:close/>
                    <a:moveTo>
                      <a:pt x="9166" y="2"/>
                    </a:moveTo>
                    <a:lnTo>
                      <a:pt x="9166" y="2"/>
                    </a:lnTo>
                    <a:cubicBezTo>
                      <a:pt x="9168" y="2"/>
                      <a:pt x="9168" y="3"/>
                      <a:pt x="9168" y="4"/>
                    </a:cubicBezTo>
                    <a:cubicBezTo>
                      <a:pt x="9168" y="5"/>
                      <a:pt x="9168" y="6"/>
                      <a:pt x="9166" y="6"/>
                    </a:cubicBezTo>
                    <a:lnTo>
                      <a:pt x="9166" y="6"/>
                    </a:lnTo>
                    <a:cubicBezTo>
                      <a:pt x="9165" y="6"/>
                      <a:pt x="9164" y="5"/>
                      <a:pt x="9164" y="4"/>
                    </a:cubicBezTo>
                    <a:cubicBezTo>
                      <a:pt x="9164" y="3"/>
                      <a:pt x="9165" y="2"/>
                      <a:pt x="9166" y="2"/>
                    </a:cubicBezTo>
                    <a:close/>
                    <a:moveTo>
                      <a:pt x="9174" y="2"/>
                    </a:moveTo>
                    <a:lnTo>
                      <a:pt x="9174" y="2"/>
                    </a:lnTo>
                    <a:cubicBezTo>
                      <a:pt x="9176" y="2"/>
                      <a:pt x="9176" y="3"/>
                      <a:pt x="9176" y="4"/>
                    </a:cubicBezTo>
                    <a:cubicBezTo>
                      <a:pt x="9176" y="5"/>
                      <a:pt x="9176" y="6"/>
                      <a:pt x="9174" y="6"/>
                    </a:cubicBezTo>
                    <a:lnTo>
                      <a:pt x="9174" y="6"/>
                    </a:lnTo>
                    <a:cubicBezTo>
                      <a:pt x="9173" y="6"/>
                      <a:pt x="9172" y="5"/>
                      <a:pt x="9172" y="4"/>
                    </a:cubicBezTo>
                    <a:cubicBezTo>
                      <a:pt x="9172" y="3"/>
                      <a:pt x="9173" y="2"/>
                      <a:pt x="9174" y="2"/>
                    </a:cubicBezTo>
                    <a:close/>
                    <a:moveTo>
                      <a:pt x="9182" y="2"/>
                    </a:moveTo>
                    <a:lnTo>
                      <a:pt x="9182" y="2"/>
                    </a:lnTo>
                    <a:cubicBezTo>
                      <a:pt x="9184" y="2"/>
                      <a:pt x="9184" y="3"/>
                      <a:pt x="9184" y="4"/>
                    </a:cubicBezTo>
                    <a:cubicBezTo>
                      <a:pt x="9184" y="5"/>
                      <a:pt x="9184" y="6"/>
                      <a:pt x="9182" y="6"/>
                    </a:cubicBezTo>
                    <a:lnTo>
                      <a:pt x="9182" y="6"/>
                    </a:lnTo>
                    <a:cubicBezTo>
                      <a:pt x="9181" y="6"/>
                      <a:pt x="9180" y="5"/>
                      <a:pt x="9180" y="4"/>
                    </a:cubicBezTo>
                    <a:cubicBezTo>
                      <a:pt x="9180" y="3"/>
                      <a:pt x="9181" y="2"/>
                      <a:pt x="9182" y="2"/>
                    </a:cubicBezTo>
                    <a:close/>
                    <a:moveTo>
                      <a:pt x="9190" y="2"/>
                    </a:moveTo>
                    <a:lnTo>
                      <a:pt x="9190" y="2"/>
                    </a:lnTo>
                    <a:cubicBezTo>
                      <a:pt x="9192" y="2"/>
                      <a:pt x="9192" y="3"/>
                      <a:pt x="9192" y="4"/>
                    </a:cubicBezTo>
                    <a:cubicBezTo>
                      <a:pt x="9192" y="5"/>
                      <a:pt x="9192" y="6"/>
                      <a:pt x="9190" y="6"/>
                    </a:cubicBezTo>
                    <a:lnTo>
                      <a:pt x="9190" y="6"/>
                    </a:lnTo>
                    <a:cubicBezTo>
                      <a:pt x="9189" y="6"/>
                      <a:pt x="9188" y="5"/>
                      <a:pt x="9188" y="4"/>
                    </a:cubicBezTo>
                    <a:cubicBezTo>
                      <a:pt x="9188" y="3"/>
                      <a:pt x="9189" y="2"/>
                      <a:pt x="9190" y="2"/>
                    </a:cubicBezTo>
                    <a:close/>
                    <a:moveTo>
                      <a:pt x="9198" y="2"/>
                    </a:moveTo>
                    <a:lnTo>
                      <a:pt x="9198" y="2"/>
                    </a:lnTo>
                    <a:cubicBezTo>
                      <a:pt x="9200" y="2"/>
                      <a:pt x="9200" y="3"/>
                      <a:pt x="9200" y="4"/>
                    </a:cubicBezTo>
                    <a:cubicBezTo>
                      <a:pt x="9200" y="5"/>
                      <a:pt x="9200" y="6"/>
                      <a:pt x="9198" y="6"/>
                    </a:cubicBezTo>
                    <a:lnTo>
                      <a:pt x="9198" y="6"/>
                    </a:lnTo>
                    <a:cubicBezTo>
                      <a:pt x="9197" y="6"/>
                      <a:pt x="9196" y="5"/>
                      <a:pt x="9196" y="4"/>
                    </a:cubicBezTo>
                    <a:cubicBezTo>
                      <a:pt x="9196" y="3"/>
                      <a:pt x="9197" y="2"/>
                      <a:pt x="9198" y="2"/>
                    </a:cubicBezTo>
                    <a:close/>
                    <a:moveTo>
                      <a:pt x="9206" y="2"/>
                    </a:moveTo>
                    <a:lnTo>
                      <a:pt x="9206" y="2"/>
                    </a:lnTo>
                    <a:cubicBezTo>
                      <a:pt x="9208" y="2"/>
                      <a:pt x="9208" y="3"/>
                      <a:pt x="9208" y="4"/>
                    </a:cubicBezTo>
                    <a:cubicBezTo>
                      <a:pt x="9208" y="5"/>
                      <a:pt x="9208" y="6"/>
                      <a:pt x="9206" y="6"/>
                    </a:cubicBezTo>
                    <a:lnTo>
                      <a:pt x="9206" y="6"/>
                    </a:lnTo>
                    <a:cubicBezTo>
                      <a:pt x="9205" y="6"/>
                      <a:pt x="9204" y="5"/>
                      <a:pt x="9204" y="4"/>
                    </a:cubicBezTo>
                    <a:cubicBezTo>
                      <a:pt x="9204" y="3"/>
                      <a:pt x="9205" y="2"/>
                      <a:pt x="9206" y="2"/>
                    </a:cubicBezTo>
                    <a:close/>
                    <a:moveTo>
                      <a:pt x="9214" y="2"/>
                    </a:moveTo>
                    <a:lnTo>
                      <a:pt x="9214" y="2"/>
                    </a:lnTo>
                    <a:cubicBezTo>
                      <a:pt x="9216" y="2"/>
                      <a:pt x="9216" y="3"/>
                      <a:pt x="9216" y="4"/>
                    </a:cubicBezTo>
                    <a:cubicBezTo>
                      <a:pt x="9216" y="5"/>
                      <a:pt x="9216" y="6"/>
                      <a:pt x="9214" y="6"/>
                    </a:cubicBezTo>
                    <a:lnTo>
                      <a:pt x="9214" y="6"/>
                    </a:lnTo>
                    <a:cubicBezTo>
                      <a:pt x="9213" y="6"/>
                      <a:pt x="9212" y="5"/>
                      <a:pt x="9212" y="4"/>
                    </a:cubicBezTo>
                    <a:cubicBezTo>
                      <a:pt x="9212" y="3"/>
                      <a:pt x="9213" y="2"/>
                      <a:pt x="9214" y="2"/>
                    </a:cubicBezTo>
                    <a:close/>
                    <a:moveTo>
                      <a:pt x="9222" y="2"/>
                    </a:moveTo>
                    <a:lnTo>
                      <a:pt x="9222" y="2"/>
                    </a:lnTo>
                    <a:cubicBezTo>
                      <a:pt x="9224" y="2"/>
                      <a:pt x="9224" y="3"/>
                      <a:pt x="9224" y="4"/>
                    </a:cubicBezTo>
                    <a:cubicBezTo>
                      <a:pt x="9224" y="5"/>
                      <a:pt x="9224" y="6"/>
                      <a:pt x="9222" y="6"/>
                    </a:cubicBezTo>
                    <a:lnTo>
                      <a:pt x="9222" y="6"/>
                    </a:lnTo>
                    <a:cubicBezTo>
                      <a:pt x="9221" y="6"/>
                      <a:pt x="9220" y="5"/>
                      <a:pt x="9220" y="4"/>
                    </a:cubicBezTo>
                    <a:cubicBezTo>
                      <a:pt x="9220" y="3"/>
                      <a:pt x="9221" y="2"/>
                      <a:pt x="9222" y="2"/>
                    </a:cubicBezTo>
                    <a:close/>
                    <a:moveTo>
                      <a:pt x="9230" y="2"/>
                    </a:moveTo>
                    <a:lnTo>
                      <a:pt x="9230" y="2"/>
                    </a:lnTo>
                    <a:cubicBezTo>
                      <a:pt x="9232" y="2"/>
                      <a:pt x="9232" y="3"/>
                      <a:pt x="9232" y="4"/>
                    </a:cubicBezTo>
                    <a:cubicBezTo>
                      <a:pt x="9232" y="5"/>
                      <a:pt x="9232" y="6"/>
                      <a:pt x="9230" y="6"/>
                    </a:cubicBezTo>
                    <a:lnTo>
                      <a:pt x="9230" y="6"/>
                    </a:lnTo>
                    <a:cubicBezTo>
                      <a:pt x="9229" y="6"/>
                      <a:pt x="9228" y="5"/>
                      <a:pt x="9228" y="4"/>
                    </a:cubicBezTo>
                    <a:cubicBezTo>
                      <a:pt x="9228" y="3"/>
                      <a:pt x="9229" y="2"/>
                      <a:pt x="9230" y="2"/>
                    </a:cubicBezTo>
                    <a:close/>
                    <a:moveTo>
                      <a:pt x="9238" y="2"/>
                    </a:moveTo>
                    <a:lnTo>
                      <a:pt x="9238" y="2"/>
                    </a:lnTo>
                    <a:cubicBezTo>
                      <a:pt x="9240" y="2"/>
                      <a:pt x="9240" y="3"/>
                      <a:pt x="9240" y="4"/>
                    </a:cubicBezTo>
                    <a:cubicBezTo>
                      <a:pt x="9240" y="5"/>
                      <a:pt x="9240" y="6"/>
                      <a:pt x="9238" y="6"/>
                    </a:cubicBezTo>
                    <a:lnTo>
                      <a:pt x="9238" y="6"/>
                    </a:lnTo>
                    <a:cubicBezTo>
                      <a:pt x="9237" y="6"/>
                      <a:pt x="9236" y="5"/>
                      <a:pt x="9236" y="4"/>
                    </a:cubicBezTo>
                    <a:cubicBezTo>
                      <a:pt x="9236" y="3"/>
                      <a:pt x="9237" y="2"/>
                      <a:pt x="9238" y="2"/>
                    </a:cubicBezTo>
                    <a:close/>
                    <a:moveTo>
                      <a:pt x="9246" y="2"/>
                    </a:moveTo>
                    <a:lnTo>
                      <a:pt x="9246" y="2"/>
                    </a:lnTo>
                    <a:cubicBezTo>
                      <a:pt x="9248" y="2"/>
                      <a:pt x="9248" y="3"/>
                      <a:pt x="9248" y="4"/>
                    </a:cubicBezTo>
                    <a:cubicBezTo>
                      <a:pt x="9248" y="5"/>
                      <a:pt x="9248" y="6"/>
                      <a:pt x="9246" y="6"/>
                    </a:cubicBezTo>
                    <a:lnTo>
                      <a:pt x="9246" y="6"/>
                    </a:lnTo>
                    <a:cubicBezTo>
                      <a:pt x="9245" y="6"/>
                      <a:pt x="9244" y="5"/>
                      <a:pt x="9244" y="4"/>
                    </a:cubicBezTo>
                    <a:cubicBezTo>
                      <a:pt x="9244" y="3"/>
                      <a:pt x="9245" y="2"/>
                      <a:pt x="9246" y="2"/>
                    </a:cubicBezTo>
                    <a:close/>
                    <a:moveTo>
                      <a:pt x="9254" y="2"/>
                    </a:moveTo>
                    <a:lnTo>
                      <a:pt x="9254" y="2"/>
                    </a:lnTo>
                    <a:cubicBezTo>
                      <a:pt x="9256" y="2"/>
                      <a:pt x="9256" y="3"/>
                      <a:pt x="9256" y="4"/>
                    </a:cubicBezTo>
                    <a:cubicBezTo>
                      <a:pt x="9256" y="5"/>
                      <a:pt x="9256" y="6"/>
                      <a:pt x="9254" y="6"/>
                    </a:cubicBezTo>
                    <a:lnTo>
                      <a:pt x="9254" y="6"/>
                    </a:lnTo>
                    <a:cubicBezTo>
                      <a:pt x="9253" y="6"/>
                      <a:pt x="9252" y="5"/>
                      <a:pt x="9252" y="4"/>
                    </a:cubicBezTo>
                    <a:cubicBezTo>
                      <a:pt x="9252" y="3"/>
                      <a:pt x="9253" y="2"/>
                      <a:pt x="9254" y="2"/>
                    </a:cubicBezTo>
                    <a:close/>
                    <a:moveTo>
                      <a:pt x="9262" y="2"/>
                    </a:moveTo>
                    <a:lnTo>
                      <a:pt x="9262" y="2"/>
                    </a:lnTo>
                    <a:cubicBezTo>
                      <a:pt x="9264" y="2"/>
                      <a:pt x="9264" y="3"/>
                      <a:pt x="9264" y="4"/>
                    </a:cubicBezTo>
                    <a:cubicBezTo>
                      <a:pt x="9264" y="5"/>
                      <a:pt x="9264" y="6"/>
                      <a:pt x="9262" y="6"/>
                    </a:cubicBezTo>
                    <a:lnTo>
                      <a:pt x="9262" y="6"/>
                    </a:lnTo>
                    <a:cubicBezTo>
                      <a:pt x="9261" y="6"/>
                      <a:pt x="9260" y="5"/>
                      <a:pt x="9260" y="4"/>
                    </a:cubicBezTo>
                    <a:cubicBezTo>
                      <a:pt x="9260" y="3"/>
                      <a:pt x="9261" y="2"/>
                      <a:pt x="9262" y="2"/>
                    </a:cubicBezTo>
                    <a:close/>
                    <a:moveTo>
                      <a:pt x="9270" y="2"/>
                    </a:moveTo>
                    <a:lnTo>
                      <a:pt x="9270" y="2"/>
                    </a:lnTo>
                    <a:cubicBezTo>
                      <a:pt x="9272" y="2"/>
                      <a:pt x="9272" y="3"/>
                      <a:pt x="9272" y="4"/>
                    </a:cubicBezTo>
                    <a:cubicBezTo>
                      <a:pt x="9272" y="5"/>
                      <a:pt x="9272" y="6"/>
                      <a:pt x="9270" y="6"/>
                    </a:cubicBezTo>
                    <a:lnTo>
                      <a:pt x="9270" y="6"/>
                    </a:lnTo>
                    <a:cubicBezTo>
                      <a:pt x="9269" y="6"/>
                      <a:pt x="9268" y="5"/>
                      <a:pt x="9268" y="4"/>
                    </a:cubicBezTo>
                    <a:cubicBezTo>
                      <a:pt x="9268" y="3"/>
                      <a:pt x="9269" y="2"/>
                      <a:pt x="9270" y="2"/>
                    </a:cubicBezTo>
                    <a:close/>
                    <a:moveTo>
                      <a:pt x="9278" y="2"/>
                    </a:moveTo>
                    <a:lnTo>
                      <a:pt x="9278" y="2"/>
                    </a:lnTo>
                    <a:cubicBezTo>
                      <a:pt x="9280" y="2"/>
                      <a:pt x="9280" y="3"/>
                      <a:pt x="9280" y="4"/>
                    </a:cubicBezTo>
                    <a:cubicBezTo>
                      <a:pt x="9280" y="5"/>
                      <a:pt x="9280" y="6"/>
                      <a:pt x="9278" y="6"/>
                    </a:cubicBezTo>
                    <a:lnTo>
                      <a:pt x="9278" y="6"/>
                    </a:lnTo>
                    <a:cubicBezTo>
                      <a:pt x="9277" y="6"/>
                      <a:pt x="9276" y="5"/>
                      <a:pt x="9276" y="4"/>
                    </a:cubicBezTo>
                    <a:cubicBezTo>
                      <a:pt x="9276" y="3"/>
                      <a:pt x="9277" y="2"/>
                      <a:pt x="9278" y="2"/>
                    </a:cubicBezTo>
                    <a:close/>
                    <a:moveTo>
                      <a:pt x="9286" y="2"/>
                    </a:moveTo>
                    <a:lnTo>
                      <a:pt x="9286" y="2"/>
                    </a:lnTo>
                    <a:cubicBezTo>
                      <a:pt x="9288" y="2"/>
                      <a:pt x="9288" y="3"/>
                      <a:pt x="9288" y="4"/>
                    </a:cubicBezTo>
                    <a:cubicBezTo>
                      <a:pt x="9288" y="5"/>
                      <a:pt x="9288" y="6"/>
                      <a:pt x="9286" y="6"/>
                    </a:cubicBezTo>
                    <a:lnTo>
                      <a:pt x="9286" y="6"/>
                    </a:lnTo>
                    <a:cubicBezTo>
                      <a:pt x="9285" y="6"/>
                      <a:pt x="9284" y="5"/>
                      <a:pt x="9284" y="4"/>
                    </a:cubicBezTo>
                    <a:cubicBezTo>
                      <a:pt x="9284" y="3"/>
                      <a:pt x="9285" y="2"/>
                      <a:pt x="9286" y="2"/>
                    </a:cubicBezTo>
                    <a:close/>
                    <a:moveTo>
                      <a:pt x="9294" y="2"/>
                    </a:moveTo>
                    <a:lnTo>
                      <a:pt x="9294" y="2"/>
                    </a:lnTo>
                    <a:cubicBezTo>
                      <a:pt x="9296" y="2"/>
                      <a:pt x="9296" y="3"/>
                      <a:pt x="9296" y="4"/>
                    </a:cubicBezTo>
                    <a:cubicBezTo>
                      <a:pt x="9296" y="5"/>
                      <a:pt x="9296" y="6"/>
                      <a:pt x="9294" y="6"/>
                    </a:cubicBezTo>
                    <a:lnTo>
                      <a:pt x="9294" y="6"/>
                    </a:lnTo>
                    <a:cubicBezTo>
                      <a:pt x="9293" y="6"/>
                      <a:pt x="9292" y="5"/>
                      <a:pt x="9292" y="4"/>
                    </a:cubicBezTo>
                    <a:cubicBezTo>
                      <a:pt x="9292" y="3"/>
                      <a:pt x="9293" y="2"/>
                      <a:pt x="9294" y="2"/>
                    </a:cubicBezTo>
                    <a:close/>
                    <a:moveTo>
                      <a:pt x="9302" y="2"/>
                    </a:moveTo>
                    <a:lnTo>
                      <a:pt x="9302" y="2"/>
                    </a:lnTo>
                    <a:cubicBezTo>
                      <a:pt x="9304" y="2"/>
                      <a:pt x="9304" y="3"/>
                      <a:pt x="9304" y="4"/>
                    </a:cubicBezTo>
                    <a:cubicBezTo>
                      <a:pt x="9304" y="5"/>
                      <a:pt x="9304" y="6"/>
                      <a:pt x="9302" y="6"/>
                    </a:cubicBezTo>
                    <a:lnTo>
                      <a:pt x="9302" y="6"/>
                    </a:lnTo>
                    <a:cubicBezTo>
                      <a:pt x="9301" y="6"/>
                      <a:pt x="9300" y="5"/>
                      <a:pt x="9300" y="4"/>
                    </a:cubicBezTo>
                    <a:cubicBezTo>
                      <a:pt x="9300" y="3"/>
                      <a:pt x="9301" y="2"/>
                      <a:pt x="9302" y="2"/>
                    </a:cubicBezTo>
                    <a:close/>
                    <a:moveTo>
                      <a:pt x="9310" y="2"/>
                    </a:moveTo>
                    <a:lnTo>
                      <a:pt x="9310" y="2"/>
                    </a:lnTo>
                    <a:cubicBezTo>
                      <a:pt x="9312" y="2"/>
                      <a:pt x="9312" y="3"/>
                      <a:pt x="9312" y="4"/>
                    </a:cubicBezTo>
                    <a:cubicBezTo>
                      <a:pt x="9312" y="5"/>
                      <a:pt x="9312" y="6"/>
                      <a:pt x="9310" y="6"/>
                    </a:cubicBezTo>
                    <a:lnTo>
                      <a:pt x="9310" y="6"/>
                    </a:lnTo>
                    <a:cubicBezTo>
                      <a:pt x="9309" y="6"/>
                      <a:pt x="9308" y="5"/>
                      <a:pt x="9308" y="4"/>
                    </a:cubicBezTo>
                    <a:cubicBezTo>
                      <a:pt x="9308" y="3"/>
                      <a:pt x="9309" y="2"/>
                      <a:pt x="9310" y="2"/>
                    </a:cubicBezTo>
                    <a:close/>
                    <a:moveTo>
                      <a:pt x="9318" y="2"/>
                    </a:moveTo>
                    <a:lnTo>
                      <a:pt x="9319" y="2"/>
                    </a:lnTo>
                    <a:cubicBezTo>
                      <a:pt x="9320" y="2"/>
                      <a:pt x="9321" y="3"/>
                      <a:pt x="9321" y="4"/>
                    </a:cubicBezTo>
                    <a:cubicBezTo>
                      <a:pt x="9321" y="5"/>
                      <a:pt x="9320" y="6"/>
                      <a:pt x="9319" y="6"/>
                    </a:cubicBezTo>
                    <a:lnTo>
                      <a:pt x="9318" y="6"/>
                    </a:lnTo>
                    <a:cubicBezTo>
                      <a:pt x="9317" y="6"/>
                      <a:pt x="9316" y="5"/>
                      <a:pt x="9316" y="4"/>
                    </a:cubicBezTo>
                    <a:cubicBezTo>
                      <a:pt x="9316" y="3"/>
                      <a:pt x="9317" y="2"/>
                      <a:pt x="9318" y="2"/>
                    </a:cubicBezTo>
                    <a:close/>
                    <a:moveTo>
                      <a:pt x="9327" y="2"/>
                    </a:moveTo>
                    <a:lnTo>
                      <a:pt x="9327" y="2"/>
                    </a:lnTo>
                    <a:cubicBezTo>
                      <a:pt x="9328" y="2"/>
                      <a:pt x="9329" y="3"/>
                      <a:pt x="9329" y="4"/>
                    </a:cubicBezTo>
                    <a:cubicBezTo>
                      <a:pt x="9329" y="5"/>
                      <a:pt x="9328" y="6"/>
                      <a:pt x="9327" y="6"/>
                    </a:cubicBezTo>
                    <a:lnTo>
                      <a:pt x="9327" y="6"/>
                    </a:lnTo>
                    <a:cubicBezTo>
                      <a:pt x="9325" y="6"/>
                      <a:pt x="9325" y="5"/>
                      <a:pt x="9325" y="4"/>
                    </a:cubicBezTo>
                    <a:cubicBezTo>
                      <a:pt x="9325" y="3"/>
                      <a:pt x="9325" y="2"/>
                      <a:pt x="9327" y="2"/>
                    </a:cubicBezTo>
                    <a:close/>
                    <a:moveTo>
                      <a:pt x="9335" y="2"/>
                    </a:moveTo>
                    <a:lnTo>
                      <a:pt x="9335" y="2"/>
                    </a:lnTo>
                    <a:cubicBezTo>
                      <a:pt x="9336" y="2"/>
                      <a:pt x="9337" y="3"/>
                      <a:pt x="9337" y="4"/>
                    </a:cubicBezTo>
                    <a:cubicBezTo>
                      <a:pt x="9337" y="5"/>
                      <a:pt x="9336" y="6"/>
                      <a:pt x="9335" y="6"/>
                    </a:cubicBezTo>
                    <a:lnTo>
                      <a:pt x="9335" y="6"/>
                    </a:lnTo>
                    <a:cubicBezTo>
                      <a:pt x="9333" y="6"/>
                      <a:pt x="9333" y="5"/>
                      <a:pt x="9333" y="4"/>
                    </a:cubicBezTo>
                    <a:cubicBezTo>
                      <a:pt x="9333" y="3"/>
                      <a:pt x="9333" y="2"/>
                      <a:pt x="9335" y="2"/>
                    </a:cubicBezTo>
                    <a:close/>
                    <a:moveTo>
                      <a:pt x="9343" y="2"/>
                    </a:moveTo>
                    <a:lnTo>
                      <a:pt x="9343" y="2"/>
                    </a:lnTo>
                    <a:cubicBezTo>
                      <a:pt x="9344" y="2"/>
                      <a:pt x="9345" y="3"/>
                      <a:pt x="9345" y="4"/>
                    </a:cubicBezTo>
                    <a:cubicBezTo>
                      <a:pt x="9345" y="6"/>
                      <a:pt x="9344" y="6"/>
                      <a:pt x="9343" y="6"/>
                    </a:cubicBezTo>
                    <a:lnTo>
                      <a:pt x="9343" y="6"/>
                    </a:lnTo>
                    <a:cubicBezTo>
                      <a:pt x="9341" y="6"/>
                      <a:pt x="9341" y="6"/>
                      <a:pt x="9341" y="4"/>
                    </a:cubicBezTo>
                    <a:cubicBezTo>
                      <a:pt x="9341" y="3"/>
                      <a:pt x="9341" y="2"/>
                      <a:pt x="9343" y="2"/>
                    </a:cubicBezTo>
                    <a:close/>
                    <a:moveTo>
                      <a:pt x="9351" y="2"/>
                    </a:moveTo>
                    <a:lnTo>
                      <a:pt x="9351" y="2"/>
                    </a:lnTo>
                    <a:cubicBezTo>
                      <a:pt x="9352" y="2"/>
                      <a:pt x="9353" y="3"/>
                      <a:pt x="9353" y="4"/>
                    </a:cubicBezTo>
                    <a:cubicBezTo>
                      <a:pt x="9353" y="6"/>
                      <a:pt x="9352" y="6"/>
                      <a:pt x="9351" y="6"/>
                    </a:cubicBezTo>
                    <a:lnTo>
                      <a:pt x="9351" y="6"/>
                    </a:lnTo>
                    <a:cubicBezTo>
                      <a:pt x="9349" y="6"/>
                      <a:pt x="9349" y="6"/>
                      <a:pt x="9349" y="4"/>
                    </a:cubicBezTo>
                    <a:cubicBezTo>
                      <a:pt x="9349" y="3"/>
                      <a:pt x="9349" y="2"/>
                      <a:pt x="9351" y="2"/>
                    </a:cubicBezTo>
                    <a:close/>
                    <a:moveTo>
                      <a:pt x="9359" y="2"/>
                    </a:moveTo>
                    <a:lnTo>
                      <a:pt x="9359" y="2"/>
                    </a:lnTo>
                    <a:cubicBezTo>
                      <a:pt x="9360" y="2"/>
                      <a:pt x="9361" y="3"/>
                      <a:pt x="9361" y="4"/>
                    </a:cubicBezTo>
                    <a:cubicBezTo>
                      <a:pt x="9361" y="6"/>
                      <a:pt x="9360" y="6"/>
                      <a:pt x="9359" y="6"/>
                    </a:cubicBezTo>
                    <a:lnTo>
                      <a:pt x="9359" y="6"/>
                    </a:lnTo>
                    <a:cubicBezTo>
                      <a:pt x="9357" y="6"/>
                      <a:pt x="9357" y="6"/>
                      <a:pt x="9357" y="4"/>
                    </a:cubicBezTo>
                    <a:cubicBezTo>
                      <a:pt x="9357" y="3"/>
                      <a:pt x="9357" y="2"/>
                      <a:pt x="9359" y="2"/>
                    </a:cubicBezTo>
                    <a:close/>
                    <a:moveTo>
                      <a:pt x="9367" y="2"/>
                    </a:moveTo>
                    <a:lnTo>
                      <a:pt x="9367" y="2"/>
                    </a:lnTo>
                    <a:cubicBezTo>
                      <a:pt x="9368" y="2"/>
                      <a:pt x="9369" y="3"/>
                      <a:pt x="9369" y="4"/>
                    </a:cubicBezTo>
                    <a:cubicBezTo>
                      <a:pt x="9369" y="6"/>
                      <a:pt x="9368" y="6"/>
                      <a:pt x="9367" y="6"/>
                    </a:cubicBezTo>
                    <a:lnTo>
                      <a:pt x="9367" y="6"/>
                    </a:lnTo>
                    <a:cubicBezTo>
                      <a:pt x="9365" y="6"/>
                      <a:pt x="9365" y="6"/>
                      <a:pt x="9365" y="4"/>
                    </a:cubicBezTo>
                    <a:cubicBezTo>
                      <a:pt x="9365" y="3"/>
                      <a:pt x="9365" y="2"/>
                      <a:pt x="9367" y="2"/>
                    </a:cubicBezTo>
                    <a:close/>
                    <a:moveTo>
                      <a:pt x="9375" y="2"/>
                    </a:moveTo>
                    <a:lnTo>
                      <a:pt x="9375" y="2"/>
                    </a:lnTo>
                    <a:cubicBezTo>
                      <a:pt x="9376" y="2"/>
                      <a:pt x="9377" y="3"/>
                      <a:pt x="9377" y="4"/>
                    </a:cubicBezTo>
                    <a:cubicBezTo>
                      <a:pt x="9377" y="6"/>
                      <a:pt x="9376" y="6"/>
                      <a:pt x="9375" y="6"/>
                    </a:cubicBezTo>
                    <a:lnTo>
                      <a:pt x="9375" y="6"/>
                    </a:lnTo>
                    <a:cubicBezTo>
                      <a:pt x="9373" y="6"/>
                      <a:pt x="9373" y="6"/>
                      <a:pt x="9373" y="4"/>
                    </a:cubicBezTo>
                    <a:cubicBezTo>
                      <a:pt x="9373" y="3"/>
                      <a:pt x="9373" y="2"/>
                      <a:pt x="9375" y="2"/>
                    </a:cubicBezTo>
                    <a:close/>
                    <a:moveTo>
                      <a:pt x="9383" y="2"/>
                    </a:moveTo>
                    <a:lnTo>
                      <a:pt x="9383" y="2"/>
                    </a:lnTo>
                    <a:cubicBezTo>
                      <a:pt x="9384" y="2"/>
                      <a:pt x="9385" y="3"/>
                      <a:pt x="9385" y="4"/>
                    </a:cubicBezTo>
                    <a:cubicBezTo>
                      <a:pt x="9385" y="6"/>
                      <a:pt x="9384" y="6"/>
                      <a:pt x="9383" y="6"/>
                    </a:cubicBezTo>
                    <a:lnTo>
                      <a:pt x="9383" y="6"/>
                    </a:lnTo>
                    <a:cubicBezTo>
                      <a:pt x="9381" y="6"/>
                      <a:pt x="9381" y="6"/>
                      <a:pt x="9381" y="4"/>
                    </a:cubicBezTo>
                    <a:cubicBezTo>
                      <a:pt x="9381" y="3"/>
                      <a:pt x="9381" y="2"/>
                      <a:pt x="9383" y="2"/>
                    </a:cubicBezTo>
                    <a:close/>
                    <a:moveTo>
                      <a:pt x="9391" y="2"/>
                    </a:moveTo>
                    <a:lnTo>
                      <a:pt x="9391" y="2"/>
                    </a:lnTo>
                    <a:cubicBezTo>
                      <a:pt x="9392" y="2"/>
                      <a:pt x="9393" y="3"/>
                      <a:pt x="9393" y="4"/>
                    </a:cubicBezTo>
                    <a:cubicBezTo>
                      <a:pt x="9393" y="6"/>
                      <a:pt x="9392" y="6"/>
                      <a:pt x="9391" y="6"/>
                    </a:cubicBezTo>
                    <a:lnTo>
                      <a:pt x="9391" y="6"/>
                    </a:lnTo>
                    <a:cubicBezTo>
                      <a:pt x="9389" y="6"/>
                      <a:pt x="9389" y="6"/>
                      <a:pt x="9389" y="4"/>
                    </a:cubicBezTo>
                    <a:cubicBezTo>
                      <a:pt x="9389" y="3"/>
                      <a:pt x="9389" y="2"/>
                      <a:pt x="9391" y="2"/>
                    </a:cubicBezTo>
                    <a:close/>
                    <a:moveTo>
                      <a:pt x="9399" y="2"/>
                    </a:moveTo>
                    <a:lnTo>
                      <a:pt x="9399" y="2"/>
                    </a:lnTo>
                    <a:cubicBezTo>
                      <a:pt x="9400" y="2"/>
                      <a:pt x="9401" y="3"/>
                      <a:pt x="9401" y="4"/>
                    </a:cubicBezTo>
                    <a:cubicBezTo>
                      <a:pt x="9401" y="6"/>
                      <a:pt x="9400" y="6"/>
                      <a:pt x="9399" y="6"/>
                    </a:cubicBezTo>
                    <a:lnTo>
                      <a:pt x="9399" y="6"/>
                    </a:lnTo>
                    <a:cubicBezTo>
                      <a:pt x="9397" y="6"/>
                      <a:pt x="9397" y="6"/>
                      <a:pt x="9397" y="4"/>
                    </a:cubicBezTo>
                    <a:cubicBezTo>
                      <a:pt x="9397" y="3"/>
                      <a:pt x="9397" y="2"/>
                      <a:pt x="9399" y="2"/>
                    </a:cubicBezTo>
                    <a:close/>
                    <a:moveTo>
                      <a:pt x="9407" y="2"/>
                    </a:moveTo>
                    <a:lnTo>
                      <a:pt x="9407" y="2"/>
                    </a:lnTo>
                    <a:cubicBezTo>
                      <a:pt x="9408" y="2"/>
                      <a:pt x="9409" y="3"/>
                      <a:pt x="9409" y="4"/>
                    </a:cubicBezTo>
                    <a:cubicBezTo>
                      <a:pt x="9409" y="6"/>
                      <a:pt x="9408" y="6"/>
                      <a:pt x="9407" y="6"/>
                    </a:cubicBezTo>
                    <a:lnTo>
                      <a:pt x="9407" y="6"/>
                    </a:lnTo>
                    <a:cubicBezTo>
                      <a:pt x="9405" y="6"/>
                      <a:pt x="9405" y="6"/>
                      <a:pt x="9405" y="4"/>
                    </a:cubicBezTo>
                    <a:cubicBezTo>
                      <a:pt x="9405" y="3"/>
                      <a:pt x="9405" y="2"/>
                      <a:pt x="9407" y="2"/>
                    </a:cubicBezTo>
                    <a:close/>
                    <a:moveTo>
                      <a:pt x="9415" y="2"/>
                    </a:moveTo>
                    <a:lnTo>
                      <a:pt x="9415" y="2"/>
                    </a:lnTo>
                    <a:cubicBezTo>
                      <a:pt x="9416" y="2"/>
                      <a:pt x="9417" y="3"/>
                      <a:pt x="9417" y="4"/>
                    </a:cubicBezTo>
                    <a:cubicBezTo>
                      <a:pt x="9417" y="6"/>
                      <a:pt x="9416" y="6"/>
                      <a:pt x="9415" y="6"/>
                    </a:cubicBezTo>
                    <a:lnTo>
                      <a:pt x="9415" y="6"/>
                    </a:lnTo>
                    <a:cubicBezTo>
                      <a:pt x="9413" y="6"/>
                      <a:pt x="9413" y="6"/>
                      <a:pt x="9413" y="4"/>
                    </a:cubicBezTo>
                    <a:cubicBezTo>
                      <a:pt x="9413" y="3"/>
                      <a:pt x="9413" y="2"/>
                      <a:pt x="9415" y="2"/>
                    </a:cubicBezTo>
                    <a:close/>
                    <a:moveTo>
                      <a:pt x="9423" y="2"/>
                    </a:moveTo>
                    <a:lnTo>
                      <a:pt x="9423" y="2"/>
                    </a:lnTo>
                    <a:cubicBezTo>
                      <a:pt x="9424" y="2"/>
                      <a:pt x="9425" y="3"/>
                      <a:pt x="9425" y="4"/>
                    </a:cubicBezTo>
                    <a:cubicBezTo>
                      <a:pt x="9425" y="6"/>
                      <a:pt x="9424" y="6"/>
                      <a:pt x="9423" y="6"/>
                    </a:cubicBezTo>
                    <a:lnTo>
                      <a:pt x="9423" y="6"/>
                    </a:lnTo>
                    <a:cubicBezTo>
                      <a:pt x="9421" y="6"/>
                      <a:pt x="9421" y="6"/>
                      <a:pt x="9421" y="4"/>
                    </a:cubicBezTo>
                    <a:cubicBezTo>
                      <a:pt x="9421" y="3"/>
                      <a:pt x="9421" y="2"/>
                      <a:pt x="9423" y="2"/>
                    </a:cubicBezTo>
                    <a:close/>
                    <a:moveTo>
                      <a:pt x="9431" y="2"/>
                    </a:moveTo>
                    <a:lnTo>
                      <a:pt x="9431" y="2"/>
                    </a:lnTo>
                    <a:cubicBezTo>
                      <a:pt x="9432" y="2"/>
                      <a:pt x="9433" y="3"/>
                      <a:pt x="9433" y="4"/>
                    </a:cubicBezTo>
                    <a:cubicBezTo>
                      <a:pt x="9433" y="6"/>
                      <a:pt x="9432" y="6"/>
                      <a:pt x="9431" y="6"/>
                    </a:cubicBezTo>
                    <a:lnTo>
                      <a:pt x="9431" y="6"/>
                    </a:lnTo>
                    <a:cubicBezTo>
                      <a:pt x="9429" y="6"/>
                      <a:pt x="9429" y="6"/>
                      <a:pt x="9429" y="4"/>
                    </a:cubicBezTo>
                    <a:cubicBezTo>
                      <a:pt x="9429" y="3"/>
                      <a:pt x="9429" y="2"/>
                      <a:pt x="9431" y="2"/>
                    </a:cubicBezTo>
                    <a:close/>
                    <a:moveTo>
                      <a:pt x="9439" y="2"/>
                    </a:moveTo>
                    <a:lnTo>
                      <a:pt x="9439" y="2"/>
                    </a:lnTo>
                    <a:cubicBezTo>
                      <a:pt x="9440" y="2"/>
                      <a:pt x="9441" y="3"/>
                      <a:pt x="9441" y="4"/>
                    </a:cubicBezTo>
                    <a:cubicBezTo>
                      <a:pt x="9441" y="6"/>
                      <a:pt x="9440" y="6"/>
                      <a:pt x="9439" y="6"/>
                    </a:cubicBezTo>
                    <a:lnTo>
                      <a:pt x="9439" y="6"/>
                    </a:lnTo>
                    <a:cubicBezTo>
                      <a:pt x="9437" y="6"/>
                      <a:pt x="9437" y="6"/>
                      <a:pt x="9437" y="4"/>
                    </a:cubicBezTo>
                    <a:cubicBezTo>
                      <a:pt x="9437" y="3"/>
                      <a:pt x="9437" y="2"/>
                      <a:pt x="9439" y="2"/>
                    </a:cubicBezTo>
                    <a:close/>
                    <a:moveTo>
                      <a:pt x="9447" y="2"/>
                    </a:moveTo>
                    <a:lnTo>
                      <a:pt x="9447" y="2"/>
                    </a:lnTo>
                    <a:cubicBezTo>
                      <a:pt x="9448" y="2"/>
                      <a:pt x="9449" y="3"/>
                      <a:pt x="9449" y="4"/>
                    </a:cubicBezTo>
                    <a:cubicBezTo>
                      <a:pt x="9449" y="6"/>
                      <a:pt x="9448" y="6"/>
                      <a:pt x="9447" y="6"/>
                    </a:cubicBezTo>
                    <a:lnTo>
                      <a:pt x="9447" y="6"/>
                    </a:lnTo>
                    <a:cubicBezTo>
                      <a:pt x="9445" y="6"/>
                      <a:pt x="9445" y="6"/>
                      <a:pt x="9445" y="4"/>
                    </a:cubicBezTo>
                    <a:cubicBezTo>
                      <a:pt x="9445" y="3"/>
                      <a:pt x="9445" y="2"/>
                      <a:pt x="9447" y="2"/>
                    </a:cubicBezTo>
                    <a:close/>
                    <a:moveTo>
                      <a:pt x="9455" y="2"/>
                    </a:moveTo>
                    <a:lnTo>
                      <a:pt x="9455" y="2"/>
                    </a:lnTo>
                    <a:cubicBezTo>
                      <a:pt x="9456" y="2"/>
                      <a:pt x="9457" y="3"/>
                      <a:pt x="9457" y="4"/>
                    </a:cubicBezTo>
                    <a:cubicBezTo>
                      <a:pt x="9457" y="6"/>
                      <a:pt x="9456" y="6"/>
                      <a:pt x="9455" y="6"/>
                    </a:cubicBezTo>
                    <a:lnTo>
                      <a:pt x="9455" y="6"/>
                    </a:lnTo>
                    <a:cubicBezTo>
                      <a:pt x="9453" y="6"/>
                      <a:pt x="9453" y="6"/>
                      <a:pt x="9453" y="4"/>
                    </a:cubicBezTo>
                    <a:cubicBezTo>
                      <a:pt x="9453" y="3"/>
                      <a:pt x="9453" y="2"/>
                      <a:pt x="9455" y="2"/>
                    </a:cubicBezTo>
                    <a:close/>
                    <a:moveTo>
                      <a:pt x="9463" y="2"/>
                    </a:moveTo>
                    <a:lnTo>
                      <a:pt x="9463" y="2"/>
                    </a:lnTo>
                    <a:cubicBezTo>
                      <a:pt x="9464" y="2"/>
                      <a:pt x="9465" y="3"/>
                      <a:pt x="9465" y="4"/>
                    </a:cubicBezTo>
                    <a:cubicBezTo>
                      <a:pt x="9465" y="6"/>
                      <a:pt x="9464" y="6"/>
                      <a:pt x="9463" y="6"/>
                    </a:cubicBezTo>
                    <a:lnTo>
                      <a:pt x="9463" y="6"/>
                    </a:lnTo>
                    <a:cubicBezTo>
                      <a:pt x="9461" y="6"/>
                      <a:pt x="9461" y="6"/>
                      <a:pt x="9461" y="4"/>
                    </a:cubicBezTo>
                    <a:cubicBezTo>
                      <a:pt x="9461" y="3"/>
                      <a:pt x="9461" y="2"/>
                      <a:pt x="9463" y="2"/>
                    </a:cubicBezTo>
                    <a:close/>
                    <a:moveTo>
                      <a:pt x="9471" y="2"/>
                    </a:moveTo>
                    <a:lnTo>
                      <a:pt x="9471" y="2"/>
                    </a:lnTo>
                    <a:cubicBezTo>
                      <a:pt x="9472" y="2"/>
                      <a:pt x="9473" y="3"/>
                      <a:pt x="9473" y="4"/>
                    </a:cubicBezTo>
                    <a:cubicBezTo>
                      <a:pt x="9473" y="6"/>
                      <a:pt x="9472" y="6"/>
                      <a:pt x="9471" y="6"/>
                    </a:cubicBezTo>
                    <a:lnTo>
                      <a:pt x="9471" y="6"/>
                    </a:lnTo>
                    <a:cubicBezTo>
                      <a:pt x="9469" y="6"/>
                      <a:pt x="9469" y="6"/>
                      <a:pt x="9469" y="4"/>
                    </a:cubicBezTo>
                    <a:cubicBezTo>
                      <a:pt x="9469" y="3"/>
                      <a:pt x="9469" y="2"/>
                      <a:pt x="9471" y="2"/>
                    </a:cubicBezTo>
                    <a:close/>
                    <a:moveTo>
                      <a:pt x="9479" y="2"/>
                    </a:moveTo>
                    <a:lnTo>
                      <a:pt x="9479" y="2"/>
                    </a:lnTo>
                    <a:cubicBezTo>
                      <a:pt x="9480" y="2"/>
                      <a:pt x="9481" y="3"/>
                      <a:pt x="9481" y="4"/>
                    </a:cubicBezTo>
                    <a:cubicBezTo>
                      <a:pt x="9481" y="6"/>
                      <a:pt x="9480" y="6"/>
                      <a:pt x="9479" y="6"/>
                    </a:cubicBezTo>
                    <a:lnTo>
                      <a:pt x="9479" y="6"/>
                    </a:lnTo>
                    <a:cubicBezTo>
                      <a:pt x="9477" y="6"/>
                      <a:pt x="9477" y="6"/>
                      <a:pt x="9477" y="4"/>
                    </a:cubicBezTo>
                    <a:cubicBezTo>
                      <a:pt x="9477" y="3"/>
                      <a:pt x="9477" y="2"/>
                      <a:pt x="9479" y="2"/>
                    </a:cubicBezTo>
                    <a:close/>
                    <a:moveTo>
                      <a:pt x="9487" y="2"/>
                    </a:moveTo>
                    <a:lnTo>
                      <a:pt x="9487" y="2"/>
                    </a:lnTo>
                    <a:cubicBezTo>
                      <a:pt x="9488" y="2"/>
                      <a:pt x="9489" y="3"/>
                      <a:pt x="9489" y="4"/>
                    </a:cubicBezTo>
                    <a:cubicBezTo>
                      <a:pt x="9489" y="6"/>
                      <a:pt x="9488" y="6"/>
                      <a:pt x="9487" y="6"/>
                    </a:cubicBezTo>
                    <a:lnTo>
                      <a:pt x="9487" y="6"/>
                    </a:lnTo>
                    <a:cubicBezTo>
                      <a:pt x="9485" y="6"/>
                      <a:pt x="9485" y="6"/>
                      <a:pt x="9485" y="4"/>
                    </a:cubicBezTo>
                    <a:cubicBezTo>
                      <a:pt x="9485" y="3"/>
                      <a:pt x="9485" y="2"/>
                      <a:pt x="9487" y="2"/>
                    </a:cubicBezTo>
                    <a:close/>
                    <a:moveTo>
                      <a:pt x="9495" y="2"/>
                    </a:moveTo>
                    <a:lnTo>
                      <a:pt x="9495" y="2"/>
                    </a:lnTo>
                    <a:cubicBezTo>
                      <a:pt x="9496" y="2"/>
                      <a:pt x="9497" y="3"/>
                      <a:pt x="9497" y="4"/>
                    </a:cubicBezTo>
                    <a:cubicBezTo>
                      <a:pt x="9497" y="6"/>
                      <a:pt x="9496" y="6"/>
                      <a:pt x="9495" y="6"/>
                    </a:cubicBezTo>
                    <a:lnTo>
                      <a:pt x="9495" y="6"/>
                    </a:lnTo>
                    <a:cubicBezTo>
                      <a:pt x="9493" y="6"/>
                      <a:pt x="9493" y="6"/>
                      <a:pt x="9493" y="4"/>
                    </a:cubicBezTo>
                    <a:cubicBezTo>
                      <a:pt x="9493" y="3"/>
                      <a:pt x="9493" y="2"/>
                      <a:pt x="9495" y="2"/>
                    </a:cubicBezTo>
                    <a:close/>
                    <a:moveTo>
                      <a:pt x="9503" y="2"/>
                    </a:moveTo>
                    <a:lnTo>
                      <a:pt x="9503" y="2"/>
                    </a:lnTo>
                    <a:cubicBezTo>
                      <a:pt x="9504" y="2"/>
                      <a:pt x="9505" y="3"/>
                      <a:pt x="9505" y="4"/>
                    </a:cubicBezTo>
                    <a:cubicBezTo>
                      <a:pt x="9505" y="6"/>
                      <a:pt x="9504" y="6"/>
                      <a:pt x="9503" y="6"/>
                    </a:cubicBezTo>
                    <a:lnTo>
                      <a:pt x="9503" y="6"/>
                    </a:lnTo>
                    <a:cubicBezTo>
                      <a:pt x="9502" y="6"/>
                      <a:pt x="9501" y="6"/>
                      <a:pt x="9501" y="4"/>
                    </a:cubicBezTo>
                    <a:cubicBezTo>
                      <a:pt x="9501" y="3"/>
                      <a:pt x="9502" y="2"/>
                      <a:pt x="9503" y="2"/>
                    </a:cubicBezTo>
                    <a:close/>
                    <a:moveTo>
                      <a:pt x="9511" y="2"/>
                    </a:moveTo>
                    <a:lnTo>
                      <a:pt x="9511" y="2"/>
                    </a:lnTo>
                    <a:cubicBezTo>
                      <a:pt x="9512" y="2"/>
                      <a:pt x="9513" y="3"/>
                      <a:pt x="9513" y="4"/>
                    </a:cubicBezTo>
                    <a:cubicBezTo>
                      <a:pt x="9513" y="6"/>
                      <a:pt x="9512" y="6"/>
                      <a:pt x="9511" y="6"/>
                    </a:cubicBezTo>
                    <a:lnTo>
                      <a:pt x="9511" y="6"/>
                    </a:lnTo>
                    <a:cubicBezTo>
                      <a:pt x="9510" y="6"/>
                      <a:pt x="9509" y="6"/>
                      <a:pt x="9509" y="4"/>
                    </a:cubicBezTo>
                    <a:cubicBezTo>
                      <a:pt x="9509" y="3"/>
                      <a:pt x="9510" y="2"/>
                      <a:pt x="9511" y="2"/>
                    </a:cubicBezTo>
                    <a:close/>
                    <a:moveTo>
                      <a:pt x="9519" y="2"/>
                    </a:moveTo>
                    <a:lnTo>
                      <a:pt x="9519" y="2"/>
                    </a:lnTo>
                    <a:cubicBezTo>
                      <a:pt x="9520" y="2"/>
                      <a:pt x="9521" y="3"/>
                      <a:pt x="9521" y="4"/>
                    </a:cubicBezTo>
                    <a:cubicBezTo>
                      <a:pt x="9521" y="6"/>
                      <a:pt x="9520" y="6"/>
                      <a:pt x="9519" y="6"/>
                    </a:cubicBezTo>
                    <a:lnTo>
                      <a:pt x="9519" y="6"/>
                    </a:lnTo>
                    <a:cubicBezTo>
                      <a:pt x="9518" y="6"/>
                      <a:pt x="9517" y="6"/>
                      <a:pt x="9517" y="4"/>
                    </a:cubicBezTo>
                    <a:cubicBezTo>
                      <a:pt x="9517" y="3"/>
                      <a:pt x="9518" y="2"/>
                      <a:pt x="9519" y="2"/>
                    </a:cubicBezTo>
                    <a:close/>
                    <a:moveTo>
                      <a:pt x="9527" y="2"/>
                    </a:moveTo>
                    <a:lnTo>
                      <a:pt x="9527" y="2"/>
                    </a:lnTo>
                    <a:cubicBezTo>
                      <a:pt x="9528" y="2"/>
                      <a:pt x="9529" y="3"/>
                      <a:pt x="9529" y="4"/>
                    </a:cubicBezTo>
                    <a:cubicBezTo>
                      <a:pt x="9529" y="6"/>
                      <a:pt x="9528" y="6"/>
                      <a:pt x="9527" y="6"/>
                    </a:cubicBezTo>
                    <a:lnTo>
                      <a:pt x="9527" y="6"/>
                    </a:lnTo>
                    <a:cubicBezTo>
                      <a:pt x="9526" y="6"/>
                      <a:pt x="9525" y="6"/>
                      <a:pt x="9525" y="4"/>
                    </a:cubicBezTo>
                    <a:cubicBezTo>
                      <a:pt x="9525" y="3"/>
                      <a:pt x="9526" y="2"/>
                      <a:pt x="9527" y="2"/>
                    </a:cubicBezTo>
                    <a:close/>
                    <a:moveTo>
                      <a:pt x="9535" y="2"/>
                    </a:moveTo>
                    <a:lnTo>
                      <a:pt x="9535" y="2"/>
                    </a:lnTo>
                    <a:cubicBezTo>
                      <a:pt x="9536" y="2"/>
                      <a:pt x="9537" y="3"/>
                      <a:pt x="9537" y="4"/>
                    </a:cubicBezTo>
                    <a:cubicBezTo>
                      <a:pt x="9537" y="6"/>
                      <a:pt x="9536" y="6"/>
                      <a:pt x="9535" y="6"/>
                    </a:cubicBezTo>
                    <a:lnTo>
                      <a:pt x="9535" y="6"/>
                    </a:lnTo>
                    <a:cubicBezTo>
                      <a:pt x="9534" y="6"/>
                      <a:pt x="9533" y="6"/>
                      <a:pt x="9533" y="4"/>
                    </a:cubicBezTo>
                    <a:cubicBezTo>
                      <a:pt x="9533" y="3"/>
                      <a:pt x="9534" y="2"/>
                      <a:pt x="9535" y="2"/>
                    </a:cubicBezTo>
                    <a:close/>
                    <a:moveTo>
                      <a:pt x="9543" y="2"/>
                    </a:moveTo>
                    <a:lnTo>
                      <a:pt x="9543" y="2"/>
                    </a:lnTo>
                    <a:cubicBezTo>
                      <a:pt x="9544" y="2"/>
                      <a:pt x="9545" y="3"/>
                      <a:pt x="9545" y="4"/>
                    </a:cubicBezTo>
                    <a:cubicBezTo>
                      <a:pt x="9545" y="6"/>
                      <a:pt x="9544" y="6"/>
                      <a:pt x="9543" y="6"/>
                    </a:cubicBezTo>
                    <a:lnTo>
                      <a:pt x="9543" y="6"/>
                    </a:lnTo>
                    <a:cubicBezTo>
                      <a:pt x="9542" y="6"/>
                      <a:pt x="9541" y="6"/>
                      <a:pt x="9541" y="4"/>
                    </a:cubicBezTo>
                    <a:cubicBezTo>
                      <a:pt x="9541" y="3"/>
                      <a:pt x="9542" y="2"/>
                      <a:pt x="9543" y="2"/>
                    </a:cubicBezTo>
                    <a:close/>
                    <a:moveTo>
                      <a:pt x="9551" y="2"/>
                    </a:moveTo>
                    <a:lnTo>
                      <a:pt x="9551" y="2"/>
                    </a:lnTo>
                    <a:cubicBezTo>
                      <a:pt x="9552" y="2"/>
                      <a:pt x="9553" y="3"/>
                      <a:pt x="9553" y="4"/>
                    </a:cubicBezTo>
                    <a:cubicBezTo>
                      <a:pt x="9553" y="6"/>
                      <a:pt x="9552" y="6"/>
                      <a:pt x="9551" y="6"/>
                    </a:cubicBezTo>
                    <a:lnTo>
                      <a:pt x="9551" y="6"/>
                    </a:lnTo>
                    <a:cubicBezTo>
                      <a:pt x="9550" y="6"/>
                      <a:pt x="9549" y="6"/>
                      <a:pt x="9549" y="4"/>
                    </a:cubicBezTo>
                    <a:cubicBezTo>
                      <a:pt x="9549" y="3"/>
                      <a:pt x="9550" y="2"/>
                      <a:pt x="9551" y="2"/>
                    </a:cubicBezTo>
                    <a:close/>
                    <a:moveTo>
                      <a:pt x="9559" y="2"/>
                    </a:moveTo>
                    <a:lnTo>
                      <a:pt x="9559" y="2"/>
                    </a:lnTo>
                    <a:cubicBezTo>
                      <a:pt x="9560" y="2"/>
                      <a:pt x="9561" y="3"/>
                      <a:pt x="9561" y="4"/>
                    </a:cubicBezTo>
                    <a:cubicBezTo>
                      <a:pt x="9561" y="6"/>
                      <a:pt x="9560" y="6"/>
                      <a:pt x="9559" y="6"/>
                    </a:cubicBezTo>
                    <a:lnTo>
                      <a:pt x="9559" y="6"/>
                    </a:lnTo>
                    <a:cubicBezTo>
                      <a:pt x="9558" y="6"/>
                      <a:pt x="9557" y="6"/>
                      <a:pt x="9557" y="4"/>
                    </a:cubicBezTo>
                    <a:cubicBezTo>
                      <a:pt x="9557" y="3"/>
                      <a:pt x="9558" y="2"/>
                      <a:pt x="9559" y="2"/>
                    </a:cubicBezTo>
                    <a:close/>
                    <a:moveTo>
                      <a:pt x="9567" y="2"/>
                    </a:moveTo>
                    <a:lnTo>
                      <a:pt x="9567" y="2"/>
                    </a:lnTo>
                    <a:cubicBezTo>
                      <a:pt x="9568" y="2"/>
                      <a:pt x="9569" y="3"/>
                      <a:pt x="9569" y="4"/>
                    </a:cubicBezTo>
                    <a:cubicBezTo>
                      <a:pt x="9569" y="6"/>
                      <a:pt x="9568" y="6"/>
                      <a:pt x="9567" y="6"/>
                    </a:cubicBezTo>
                    <a:lnTo>
                      <a:pt x="9567" y="6"/>
                    </a:lnTo>
                    <a:cubicBezTo>
                      <a:pt x="9566" y="6"/>
                      <a:pt x="9565" y="6"/>
                      <a:pt x="9565" y="4"/>
                    </a:cubicBezTo>
                    <a:cubicBezTo>
                      <a:pt x="9565" y="3"/>
                      <a:pt x="9566" y="2"/>
                      <a:pt x="9567" y="2"/>
                    </a:cubicBezTo>
                    <a:close/>
                    <a:moveTo>
                      <a:pt x="9575" y="2"/>
                    </a:moveTo>
                    <a:lnTo>
                      <a:pt x="9575" y="2"/>
                    </a:lnTo>
                    <a:cubicBezTo>
                      <a:pt x="9576" y="2"/>
                      <a:pt x="9577" y="3"/>
                      <a:pt x="9577" y="4"/>
                    </a:cubicBezTo>
                    <a:cubicBezTo>
                      <a:pt x="9577" y="6"/>
                      <a:pt x="9576" y="6"/>
                      <a:pt x="9575" y="6"/>
                    </a:cubicBezTo>
                    <a:lnTo>
                      <a:pt x="9575" y="6"/>
                    </a:lnTo>
                    <a:cubicBezTo>
                      <a:pt x="9574" y="6"/>
                      <a:pt x="9573" y="6"/>
                      <a:pt x="9573" y="4"/>
                    </a:cubicBezTo>
                    <a:cubicBezTo>
                      <a:pt x="9573" y="3"/>
                      <a:pt x="9574" y="2"/>
                      <a:pt x="9575" y="2"/>
                    </a:cubicBezTo>
                    <a:close/>
                    <a:moveTo>
                      <a:pt x="9583" y="2"/>
                    </a:moveTo>
                    <a:lnTo>
                      <a:pt x="9583" y="2"/>
                    </a:lnTo>
                    <a:cubicBezTo>
                      <a:pt x="9584" y="2"/>
                      <a:pt x="9585" y="3"/>
                      <a:pt x="9585" y="4"/>
                    </a:cubicBezTo>
                    <a:cubicBezTo>
                      <a:pt x="9585" y="6"/>
                      <a:pt x="9584" y="6"/>
                      <a:pt x="9583" y="6"/>
                    </a:cubicBezTo>
                    <a:lnTo>
                      <a:pt x="9583" y="6"/>
                    </a:lnTo>
                    <a:cubicBezTo>
                      <a:pt x="9582" y="6"/>
                      <a:pt x="9581" y="6"/>
                      <a:pt x="9581" y="4"/>
                    </a:cubicBezTo>
                    <a:cubicBezTo>
                      <a:pt x="9581" y="3"/>
                      <a:pt x="9582" y="2"/>
                      <a:pt x="9583" y="2"/>
                    </a:cubicBezTo>
                    <a:close/>
                    <a:moveTo>
                      <a:pt x="9591" y="2"/>
                    </a:moveTo>
                    <a:lnTo>
                      <a:pt x="9591" y="2"/>
                    </a:lnTo>
                    <a:cubicBezTo>
                      <a:pt x="9592" y="2"/>
                      <a:pt x="9593" y="3"/>
                      <a:pt x="9593" y="4"/>
                    </a:cubicBezTo>
                    <a:cubicBezTo>
                      <a:pt x="9593" y="6"/>
                      <a:pt x="9592" y="6"/>
                      <a:pt x="9591" y="6"/>
                    </a:cubicBezTo>
                    <a:lnTo>
                      <a:pt x="9591" y="6"/>
                    </a:lnTo>
                    <a:cubicBezTo>
                      <a:pt x="9590" y="6"/>
                      <a:pt x="9589" y="6"/>
                      <a:pt x="9589" y="4"/>
                    </a:cubicBezTo>
                    <a:cubicBezTo>
                      <a:pt x="9589" y="3"/>
                      <a:pt x="9590" y="2"/>
                      <a:pt x="9591" y="2"/>
                    </a:cubicBezTo>
                    <a:close/>
                    <a:moveTo>
                      <a:pt x="9599" y="2"/>
                    </a:moveTo>
                    <a:lnTo>
                      <a:pt x="9599" y="2"/>
                    </a:lnTo>
                    <a:cubicBezTo>
                      <a:pt x="9600" y="2"/>
                      <a:pt x="9601" y="3"/>
                      <a:pt x="9601" y="4"/>
                    </a:cubicBezTo>
                    <a:cubicBezTo>
                      <a:pt x="9601" y="6"/>
                      <a:pt x="9600" y="6"/>
                      <a:pt x="9599" y="6"/>
                    </a:cubicBezTo>
                    <a:lnTo>
                      <a:pt x="9599" y="6"/>
                    </a:lnTo>
                    <a:cubicBezTo>
                      <a:pt x="9598" y="6"/>
                      <a:pt x="9597" y="6"/>
                      <a:pt x="9597" y="4"/>
                    </a:cubicBezTo>
                    <a:cubicBezTo>
                      <a:pt x="9597" y="3"/>
                      <a:pt x="9598" y="2"/>
                      <a:pt x="9599" y="2"/>
                    </a:cubicBezTo>
                    <a:close/>
                    <a:moveTo>
                      <a:pt x="9607" y="2"/>
                    </a:moveTo>
                    <a:lnTo>
                      <a:pt x="9607" y="2"/>
                    </a:lnTo>
                    <a:cubicBezTo>
                      <a:pt x="9608" y="2"/>
                      <a:pt x="9609" y="3"/>
                      <a:pt x="9609" y="4"/>
                    </a:cubicBezTo>
                    <a:cubicBezTo>
                      <a:pt x="9609" y="6"/>
                      <a:pt x="9608" y="6"/>
                      <a:pt x="9607" y="6"/>
                    </a:cubicBezTo>
                    <a:lnTo>
                      <a:pt x="9607" y="6"/>
                    </a:lnTo>
                    <a:cubicBezTo>
                      <a:pt x="9606" y="6"/>
                      <a:pt x="9605" y="6"/>
                      <a:pt x="9605" y="4"/>
                    </a:cubicBezTo>
                    <a:cubicBezTo>
                      <a:pt x="9605" y="3"/>
                      <a:pt x="9606" y="2"/>
                      <a:pt x="9607" y="2"/>
                    </a:cubicBezTo>
                    <a:close/>
                    <a:moveTo>
                      <a:pt x="9615" y="2"/>
                    </a:moveTo>
                    <a:lnTo>
                      <a:pt x="9615" y="2"/>
                    </a:lnTo>
                    <a:cubicBezTo>
                      <a:pt x="9616" y="2"/>
                      <a:pt x="9617" y="3"/>
                      <a:pt x="9617" y="4"/>
                    </a:cubicBezTo>
                    <a:cubicBezTo>
                      <a:pt x="9617" y="6"/>
                      <a:pt x="9616" y="6"/>
                      <a:pt x="9615" y="6"/>
                    </a:cubicBezTo>
                    <a:lnTo>
                      <a:pt x="9615" y="6"/>
                    </a:lnTo>
                    <a:cubicBezTo>
                      <a:pt x="9614" y="6"/>
                      <a:pt x="9613" y="6"/>
                      <a:pt x="9613" y="4"/>
                    </a:cubicBezTo>
                    <a:cubicBezTo>
                      <a:pt x="9613" y="3"/>
                      <a:pt x="9614" y="2"/>
                      <a:pt x="9615" y="2"/>
                    </a:cubicBezTo>
                    <a:close/>
                    <a:moveTo>
                      <a:pt x="9623" y="2"/>
                    </a:moveTo>
                    <a:lnTo>
                      <a:pt x="9623" y="2"/>
                    </a:lnTo>
                    <a:cubicBezTo>
                      <a:pt x="9624" y="2"/>
                      <a:pt x="9625" y="3"/>
                      <a:pt x="9625" y="4"/>
                    </a:cubicBezTo>
                    <a:cubicBezTo>
                      <a:pt x="9625" y="6"/>
                      <a:pt x="9624" y="6"/>
                      <a:pt x="9623" y="6"/>
                    </a:cubicBezTo>
                    <a:lnTo>
                      <a:pt x="9623" y="6"/>
                    </a:lnTo>
                    <a:cubicBezTo>
                      <a:pt x="9622" y="6"/>
                      <a:pt x="9621" y="6"/>
                      <a:pt x="9621" y="4"/>
                    </a:cubicBezTo>
                    <a:cubicBezTo>
                      <a:pt x="9621" y="3"/>
                      <a:pt x="9622" y="2"/>
                      <a:pt x="9623" y="2"/>
                    </a:cubicBezTo>
                    <a:close/>
                    <a:moveTo>
                      <a:pt x="9631" y="2"/>
                    </a:moveTo>
                    <a:lnTo>
                      <a:pt x="9631" y="2"/>
                    </a:lnTo>
                    <a:cubicBezTo>
                      <a:pt x="9632" y="2"/>
                      <a:pt x="9633" y="3"/>
                      <a:pt x="9633" y="4"/>
                    </a:cubicBezTo>
                    <a:cubicBezTo>
                      <a:pt x="9633" y="6"/>
                      <a:pt x="9632" y="6"/>
                      <a:pt x="9631" y="6"/>
                    </a:cubicBezTo>
                    <a:lnTo>
                      <a:pt x="9631" y="6"/>
                    </a:lnTo>
                    <a:cubicBezTo>
                      <a:pt x="9630" y="6"/>
                      <a:pt x="9629" y="6"/>
                      <a:pt x="9629" y="4"/>
                    </a:cubicBezTo>
                    <a:cubicBezTo>
                      <a:pt x="9629" y="3"/>
                      <a:pt x="9630" y="2"/>
                      <a:pt x="9631" y="2"/>
                    </a:cubicBezTo>
                    <a:close/>
                    <a:moveTo>
                      <a:pt x="9639" y="2"/>
                    </a:moveTo>
                    <a:lnTo>
                      <a:pt x="9639" y="2"/>
                    </a:lnTo>
                    <a:cubicBezTo>
                      <a:pt x="9640" y="2"/>
                      <a:pt x="9641" y="3"/>
                      <a:pt x="9641" y="4"/>
                    </a:cubicBezTo>
                    <a:cubicBezTo>
                      <a:pt x="9641" y="6"/>
                      <a:pt x="9640" y="6"/>
                      <a:pt x="9639" y="6"/>
                    </a:cubicBezTo>
                    <a:lnTo>
                      <a:pt x="9639" y="6"/>
                    </a:lnTo>
                    <a:cubicBezTo>
                      <a:pt x="9638" y="6"/>
                      <a:pt x="9637" y="6"/>
                      <a:pt x="9637" y="4"/>
                    </a:cubicBezTo>
                    <a:cubicBezTo>
                      <a:pt x="9637" y="3"/>
                      <a:pt x="9638" y="2"/>
                      <a:pt x="9639" y="2"/>
                    </a:cubicBezTo>
                    <a:close/>
                    <a:moveTo>
                      <a:pt x="9647" y="2"/>
                    </a:moveTo>
                    <a:lnTo>
                      <a:pt x="9647" y="2"/>
                    </a:lnTo>
                    <a:cubicBezTo>
                      <a:pt x="9648" y="2"/>
                      <a:pt x="9649" y="3"/>
                      <a:pt x="9649" y="4"/>
                    </a:cubicBezTo>
                    <a:cubicBezTo>
                      <a:pt x="9649" y="6"/>
                      <a:pt x="9648" y="6"/>
                      <a:pt x="9647" y="6"/>
                    </a:cubicBezTo>
                    <a:lnTo>
                      <a:pt x="9647" y="6"/>
                    </a:lnTo>
                    <a:cubicBezTo>
                      <a:pt x="9646" y="6"/>
                      <a:pt x="9645" y="6"/>
                      <a:pt x="9645" y="4"/>
                    </a:cubicBezTo>
                    <a:cubicBezTo>
                      <a:pt x="9645" y="3"/>
                      <a:pt x="9646" y="2"/>
                      <a:pt x="9647" y="2"/>
                    </a:cubicBezTo>
                    <a:close/>
                    <a:moveTo>
                      <a:pt x="9655" y="2"/>
                    </a:moveTo>
                    <a:lnTo>
                      <a:pt x="9655" y="2"/>
                    </a:lnTo>
                    <a:cubicBezTo>
                      <a:pt x="9656" y="2"/>
                      <a:pt x="9657" y="3"/>
                      <a:pt x="9657" y="4"/>
                    </a:cubicBezTo>
                    <a:cubicBezTo>
                      <a:pt x="9657" y="6"/>
                      <a:pt x="9656" y="6"/>
                      <a:pt x="9655" y="6"/>
                    </a:cubicBezTo>
                    <a:lnTo>
                      <a:pt x="9655" y="6"/>
                    </a:lnTo>
                    <a:cubicBezTo>
                      <a:pt x="9654" y="6"/>
                      <a:pt x="9653" y="6"/>
                      <a:pt x="9653" y="4"/>
                    </a:cubicBezTo>
                    <a:cubicBezTo>
                      <a:pt x="9653" y="3"/>
                      <a:pt x="9654" y="2"/>
                      <a:pt x="9655" y="2"/>
                    </a:cubicBezTo>
                    <a:close/>
                    <a:moveTo>
                      <a:pt x="9663" y="2"/>
                    </a:moveTo>
                    <a:lnTo>
                      <a:pt x="9663" y="2"/>
                    </a:lnTo>
                    <a:cubicBezTo>
                      <a:pt x="9664" y="2"/>
                      <a:pt x="9665" y="3"/>
                      <a:pt x="9665" y="4"/>
                    </a:cubicBezTo>
                    <a:cubicBezTo>
                      <a:pt x="9665" y="6"/>
                      <a:pt x="9664" y="6"/>
                      <a:pt x="9663" y="6"/>
                    </a:cubicBezTo>
                    <a:lnTo>
                      <a:pt x="9663" y="6"/>
                    </a:lnTo>
                    <a:cubicBezTo>
                      <a:pt x="9662" y="6"/>
                      <a:pt x="9661" y="6"/>
                      <a:pt x="9661" y="4"/>
                    </a:cubicBezTo>
                    <a:cubicBezTo>
                      <a:pt x="9661" y="3"/>
                      <a:pt x="9662" y="2"/>
                      <a:pt x="9663" y="2"/>
                    </a:cubicBezTo>
                    <a:close/>
                    <a:moveTo>
                      <a:pt x="9671" y="2"/>
                    </a:moveTo>
                    <a:lnTo>
                      <a:pt x="9671" y="2"/>
                    </a:lnTo>
                    <a:cubicBezTo>
                      <a:pt x="9672" y="2"/>
                      <a:pt x="9673" y="3"/>
                      <a:pt x="9673" y="4"/>
                    </a:cubicBezTo>
                    <a:cubicBezTo>
                      <a:pt x="9673" y="6"/>
                      <a:pt x="9672" y="6"/>
                      <a:pt x="9671" y="6"/>
                    </a:cubicBezTo>
                    <a:lnTo>
                      <a:pt x="9671" y="6"/>
                    </a:lnTo>
                    <a:cubicBezTo>
                      <a:pt x="9670" y="6"/>
                      <a:pt x="9669" y="6"/>
                      <a:pt x="9669" y="4"/>
                    </a:cubicBezTo>
                    <a:cubicBezTo>
                      <a:pt x="9669" y="3"/>
                      <a:pt x="9670" y="2"/>
                      <a:pt x="9671" y="2"/>
                    </a:cubicBezTo>
                    <a:close/>
                    <a:moveTo>
                      <a:pt x="9679" y="2"/>
                    </a:moveTo>
                    <a:lnTo>
                      <a:pt x="9679" y="2"/>
                    </a:lnTo>
                    <a:cubicBezTo>
                      <a:pt x="9680" y="2"/>
                      <a:pt x="9681" y="3"/>
                      <a:pt x="9681" y="4"/>
                    </a:cubicBezTo>
                    <a:cubicBezTo>
                      <a:pt x="9681" y="6"/>
                      <a:pt x="9680" y="6"/>
                      <a:pt x="9679" y="6"/>
                    </a:cubicBezTo>
                    <a:lnTo>
                      <a:pt x="9679" y="6"/>
                    </a:lnTo>
                    <a:cubicBezTo>
                      <a:pt x="9678" y="6"/>
                      <a:pt x="9677" y="6"/>
                      <a:pt x="9677" y="4"/>
                    </a:cubicBezTo>
                    <a:cubicBezTo>
                      <a:pt x="9677" y="3"/>
                      <a:pt x="9678" y="2"/>
                      <a:pt x="9679" y="2"/>
                    </a:cubicBezTo>
                    <a:close/>
                    <a:moveTo>
                      <a:pt x="9687" y="2"/>
                    </a:moveTo>
                    <a:lnTo>
                      <a:pt x="9687" y="2"/>
                    </a:lnTo>
                    <a:cubicBezTo>
                      <a:pt x="9688" y="2"/>
                      <a:pt x="9689" y="3"/>
                      <a:pt x="9689" y="4"/>
                    </a:cubicBezTo>
                    <a:cubicBezTo>
                      <a:pt x="9689" y="6"/>
                      <a:pt x="9688" y="6"/>
                      <a:pt x="9687" y="6"/>
                    </a:cubicBezTo>
                    <a:lnTo>
                      <a:pt x="9687" y="6"/>
                    </a:lnTo>
                    <a:cubicBezTo>
                      <a:pt x="9686" y="6"/>
                      <a:pt x="9685" y="6"/>
                      <a:pt x="9685" y="4"/>
                    </a:cubicBezTo>
                    <a:cubicBezTo>
                      <a:pt x="9685" y="3"/>
                      <a:pt x="9686" y="2"/>
                      <a:pt x="9687" y="2"/>
                    </a:cubicBezTo>
                    <a:close/>
                    <a:moveTo>
                      <a:pt x="9695" y="2"/>
                    </a:moveTo>
                    <a:lnTo>
                      <a:pt x="9695" y="2"/>
                    </a:lnTo>
                    <a:cubicBezTo>
                      <a:pt x="9696" y="2"/>
                      <a:pt x="9697" y="3"/>
                      <a:pt x="9697" y="4"/>
                    </a:cubicBezTo>
                    <a:cubicBezTo>
                      <a:pt x="9697" y="6"/>
                      <a:pt x="9696" y="6"/>
                      <a:pt x="9695" y="6"/>
                    </a:cubicBezTo>
                    <a:lnTo>
                      <a:pt x="9695" y="6"/>
                    </a:lnTo>
                    <a:cubicBezTo>
                      <a:pt x="9694" y="6"/>
                      <a:pt x="9693" y="6"/>
                      <a:pt x="9693" y="4"/>
                    </a:cubicBezTo>
                    <a:cubicBezTo>
                      <a:pt x="9693" y="3"/>
                      <a:pt x="9694" y="2"/>
                      <a:pt x="9695" y="2"/>
                    </a:cubicBezTo>
                    <a:close/>
                    <a:moveTo>
                      <a:pt x="9703" y="2"/>
                    </a:moveTo>
                    <a:lnTo>
                      <a:pt x="9703" y="2"/>
                    </a:lnTo>
                    <a:cubicBezTo>
                      <a:pt x="9704" y="2"/>
                      <a:pt x="9705" y="3"/>
                      <a:pt x="9705" y="4"/>
                    </a:cubicBezTo>
                    <a:cubicBezTo>
                      <a:pt x="9705" y="6"/>
                      <a:pt x="9704" y="6"/>
                      <a:pt x="9703" y="6"/>
                    </a:cubicBezTo>
                    <a:lnTo>
                      <a:pt x="9703" y="6"/>
                    </a:lnTo>
                    <a:cubicBezTo>
                      <a:pt x="9702" y="6"/>
                      <a:pt x="9701" y="6"/>
                      <a:pt x="9701" y="4"/>
                    </a:cubicBezTo>
                    <a:cubicBezTo>
                      <a:pt x="9701" y="3"/>
                      <a:pt x="9702" y="2"/>
                      <a:pt x="9703" y="2"/>
                    </a:cubicBezTo>
                    <a:close/>
                    <a:moveTo>
                      <a:pt x="9711" y="2"/>
                    </a:moveTo>
                    <a:lnTo>
                      <a:pt x="9711" y="2"/>
                    </a:lnTo>
                    <a:cubicBezTo>
                      <a:pt x="9712" y="2"/>
                      <a:pt x="9713" y="3"/>
                      <a:pt x="9713" y="4"/>
                    </a:cubicBezTo>
                    <a:cubicBezTo>
                      <a:pt x="9713" y="6"/>
                      <a:pt x="9712" y="6"/>
                      <a:pt x="9711" y="6"/>
                    </a:cubicBezTo>
                    <a:lnTo>
                      <a:pt x="9711" y="6"/>
                    </a:lnTo>
                    <a:cubicBezTo>
                      <a:pt x="9710" y="6"/>
                      <a:pt x="9709" y="6"/>
                      <a:pt x="9709" y="4"/>
                    </a:cubicBezTo>
                    <a:cubicBezTo>
                      <a:pt x="9709" y="3"/>
                      <a:pt x="9710" y="2"/>
                      <a:pt x="9711" y="2"/>
                    </a:cubicBezTo>
                    <a:close/>
                    <a:moveTo>
                      <a:pt x="9719" y="2"/>
                    </a:moveTo>
                    <a:lnTo>
                      <a:pt x="9719" y="2"/>
                    </a:lnTo>
                    <a:cubicBezTo>
                      <a:pt x="9720" y="2"/>
                      <a:pt x="9721" y="3"/>
                      <a:pt x="9721" y="4"/>
                    </a:cubicBezTo>
                    <a:cubicBezTo>
                      <a:pt x="9721" y="6"/>
                      <a:pt x="9720" y="6"/>
                      <a:pt x="9719" y="6"/>
                    </a:cubicBezTo>
                    <a:lnTo>
                      <a:pt x="9719" y="6"/>
                    </a:lnTo>
                    <a:cubicBezTo>
                      <a:pt x="9718" y="6"/>
                      <a:pt x="9717" y="6"/>
                      <a:pt x="9717" y="4"/>
                    </a:cubicBezTo>
                    <a:cubicBezTo>
                      <a:pt x="9717" y="3"/>
                      <a:pt x="9718" y="2"/>
                      <a:pt x="9719" y="2"/>
                    </a:cubicBezTo>
                    <a:close/>
                    <a:moveTo>
                      <a:pt x="9727" y="2"/>
                    </a:moveTo>
                    <a:lnTo>
                      <a:pt x="9727" y="2"/>
                    </a:lnTo>
                    <a:cubicBezTo>
                      <a:pt x="9728" y="2"/>
                      <a:pt x="9729" y="3"/>
                      <a:pt x="9729" y="4"/>
                    </a:cubicBezTo>
                    <a:cubicBezTo>
                      <a:pt x="9729" y="6"/>
                      <a:pt x="9728" y="6"/>
                      <a:pt x="9727" y="6"/>
                    </a:cubicBezTo>
                    <a:lnTo>
                      <a:pt x="9727" y="6"/>
                    </a:lnTo>
                    <a:cubicBezTo>
                      <a:pt x="9726" y="6"/>
                      <a:pt x="9725" y="6"/>
                      <a:pt x="9725" y="4"/>
                    </a:cubicBezTo>
                    <a:cubicBezTo>
                      <a:pt x="9725" y="3"/>
                      <a:pt x="9726" y="2"/>
                      <a:pt x="9727" y="2"/>
                    </a:cubicBezTo>
                    <a:close/>
                    <a:moveTo>
                      <a:pt x="9735" y="2"/>
                    </a:moveTo>
                    <a:lnTo>
                      <a:pt x="9735" y="2"/>
                    </a:lnTo>
                    <a:cubicBezTo>
                      <a:pt x="9736" y="2"/>
                      <a:pt x="9737" y="3"/>
                      <a:pt x="9737" y="4"/>
                    </a:cubicBezTo>
                    <a:cubicBezTo>
                      <a:pt x="9737" y="6"/>
                      <a:pt x="9736" y="6"/>
                      <a:pt x="9735" y="6"/>
                    </a:cubicBezTo>
                    <a:lnTo>
                      <a:pt x="9735" y="6"/>
                    </a:lnTo>
                    <a:cubicBezTo>
                      <a:pt x="9734" y="6"/>
                      <a:pt x="9733" y="6"/>
                      <a:pt x="9733" y="4"/>
                    </a:cubicBezTo>
                    <a:cubicBezTo>
                      <a:pt x="9733" y="3"/>
                      <a:pt x="9734" y="2"/>
                      <a:pt x="9735" y="2"/>
                    </a:cubicBezTo>
                    <a:close/>
                    <a:moveTo>
                      <a:pt x="9743" y="2"/>
                    </a:moveTo>
                    <a:lnTo>
                      <a:pt x="9743" y="2"/>
                    </a:lnTo>
                    <a:cubicBezTo>
                      <a:pt x="9744" y="2"/>
                      <a:pt x="9745" y="3"/>
                      <a:pt x="9745" y="4"/>
                    </a:cubicBezTo>
                    <a:cubicBezTo>
                      <a:pt x="9745" y="6"/>
                      <a:pt x="9744" y="6"/>
                      <a:pt x="9743" y="6"/>
                    </a:cubicBezTo>
                    <a:lnTo>
                      <a:pt x="9743" y="6"/>
                    </a:lnTo>
                    <a:cubicBezTo>
                      <a:pt x="9742" y="6"/>
                      <a:pt x="9741" y="6"/>
                      <a:pt x="9741" y="4"/>
                    </a:cubicBezTo>
                    <a:cubicBezTo>
                      <a:pt x="9741" y="3"/>
                      <a:pt x="9742" y="2"/>
                      <a:pt x="9743" y="2"/>
                    </a:cubicBezTo>
                    <a:close/>
                    <a:moveTo>
                      <a:pt x="9751" y="2"/>
                    </a:moveTo>
                    <a:lnTo>
                      <a:pt x="9751" y="2"/>
                    </a:lnTo>
                    <a:cubicBezTo>
                      <a:pt x="9752" y="2"/>
                      <a:pt x="9753" y="3"/>
                      <a:pt x="9753" y="4"/>
                    </a:cubicBezTo>
                    <a:cubicBezTo>
                      <a:pt x="9753" y="6"/>
                      <a:pt x="9752" y="6"/>
                      <a:pt x="9751" y="6"/>
                    </a:cubicBezTo>
                    <a:lnTo>
                      <a:pt x="9751" y="6"/>
                    </a:lnTo>
                    <a:cubicBezTo>
                      <a:pt x="9750" y="6"/>
                      <a:pt x="9749" y="6"/>
                      <a:pt x="9749" y="4"/>
                    </a:cubicBezTo>
                    <a:cubicBezTo>
                      <a:pt x="9749" y="3"/>
                      <a:pt x="9750" y="2"/>
                      <a:pt x="9751" y="2"/>
                    </a:cubicBezTo>
                    <a:close/>
                    <a:moveTo>
                      <a:pt x="9759" y="2"/>
                    </a:moveTo>
                    <a:lnTo>
                      <a:pt x="9759" y="2"/>
                    </a:lnTo>
                    <a:cubicBezTo>
                      <a:pt x="9760" y="2"/>
                      <a:pt x="9761" y="3"/>
                      <a:pt x="9761" y="4"/>
                    </a:cubicBezTo>
                    <a:cubicBezTo>
                      <a:pt x="9761" y="6"/>
                      <a:pt x="9760" y="6"/>
                      <a:pt x="9759" y="6"/>
                    </a:cubicBezTo>
                    <a:lnTo>
                      <a:pt x="9759" y="6"/>
                    </a:lnTo>
                    <a:cubicBezTo>
                      <a:pt x="9758" y="6"/>
                      <a:pt x="9757" y="6"/>
                      <a:pt x="9757" y="4"/>
                    </a:cubicBezTo>
                    <a:cubicBezTo>
                      <a:pt x="9757" y="3"/>
                      <a:pt x="9758" y="2"/>
                      <a:pt x="9759" y="2"/>
                    </a:cubicBezTo>
                    <a:close/>
                    <a:moveTo>
                      <a:pt x="9767" y="2"/>
                    </a:moveTo>
                    <a:lnTo>
                      <a:pt x="9767" y="2"/>
                    </a:lnTo>
                    <a:cubicBezTo>
                      <a:pt x="9768" y="2"/>
                      <a:pt x="9769" y="3"/>
                      <a:pt x="9769" y="4"/>
                    </a:cubicBezTo>
                    <a:cubicBezTo>
                      <a:pt x="9769" y="6"/>
                      <a:pt x="9768" y="6"/>
                      <a:pt x="9767" y="6"/>
                    </a:cubicBezTo>
                    <a:lnTo>
                      <a:pt x="9767" y="6"/>
                    </a:lnTo>
                    <a:cubicBezTo>
                      <a:pt x="9766" y="6"/>
                      <a:pt x="9765" y="6"/>
                      <a:pt x="9765" y="4"/>
                    </a:cubicBezTo>
                    <a:cubicBezTo>
                      <a:pt x="9765" y="3"/>
                      <a:pt x="9766" y="2"/>
                      <a:pt x="9767" y="2"/>
                    </a:cubicBezTo>
                    <a:close/>
                    <a:moveTo>
                      <a:pt x="9775" y="3"/>
                    </a:moveTo>
                    <a:lnTo>
                      <a:pt x="9775" y="3"/>
                    </a:lnTo>
                    <a:cubicBezTo>
                      <a:pt x="9776" y="3"/>
                      <a:pt x="9777" y="3"/>
                      <a:pt x="9777" y="5"/>
                    </a:cubicBezTo>
                    <a:cubicBezTo>
                      <a:pt x="9777" y="6"/>
                      <a:pt x="9776" y="7"/>
                      <a:pt x="9775" y="7"/>
                    </a:cubicBezTo>
                    <a:lnTo>
                      <a:pt x="9775" y="7"/>
                    </a:lnTo>
                    <a:cubicBezTo>
                      <a:pt x="9774" y="7"/>
                      <a:pt x="9773" y="6"/>
                      <a:pt x="9773" y="5"/>
                    </a:cubicBezTo>
                    <a:cubicBezTo>
                      <a:pt x="9773" y="3"/>
                      <a:pt x="9774" y="3"/>
                      <a:pt x="9775" y="3"/>
                    </a:cubicBezTo>
                    <a:close/>
                    <a:moveTo>
                      <a:pt x="9783" y="3"/>
                    </a:moveTo>
                    <a:lnTo>
                      <a:pt x="9783" y="3"/>
                    </a:lnTo>
                    <a:cubicBezTo>
                      <a:pt x="9784" y="3"/>
                      <a:pt x="9785" y="3"/>
                      <a:pt x="9785" y="5"/>
                    </a:cubicBezTo>
                    <a:cubicBezTo>
                      <a:pt x="9785" y="6"/>
                      <a:pt x="9784" y="7"/>
                      <a:pt x="9783" y="7"/>
                    </a:cubicBezTo>
                    <a:lnTo>
                      <a:pt x="9783" y="7"/>
                    </a:lnTo>
                    <a:cubicBezTo>
                      <a:pt x="9782" y="7"/>
                      <a:pt x="9781" y="6"/>
                      <a:pt x="9781" y="5"/>
                    </a:cubicBezTo>
                    <a:cubicBezTo>
                      <a:pt x="9781" y="3"/>
                      <a:pt x="9782" y="3"/>
                      <a:pt x="9783" y="3"/>
                    </a:cubicBezTo>
                    <a:close/>
                    <a:moveTo>
                      <a:pt x="9791" y="3"/>
                    </a:moveTo>
                    <a:lnTo>
                      <a:pt x="9791" y="3"/>
                    </a:lnTo>
                    <a:cubicBezTo>
                      <a:pt x="9792" y="3"/>
                      <a:pt x="9793" y="3"/>
                      <a:pt x="9793" y="5"/>
                    </a:cubicBezTo>
                    <a:cubicBezTo>
                      <a:pt x="9793" y="6"/>
                      <a:pt x="9792" y="7"/>
                      <a:pt x="9791" y="7"/>
                    </a:cubicBezTo>
                    <a:lnTo>
                      <a:pt x="9791" y="7"/>
                    </a:lnTo>
                    <a:cubicBezTo>
                      <a:pt x="9790" y="7"/>
                      <a:pt x="9789" y="6"/>
                      <a:pt x="9789" y="5"/>
                    </a:cubicBezTo>
                    <a:cubicBezTo>
                      <a:pt x="9789" y="3"/>
                      <a:pt x="9790" y="3"/>
                      <a:pt x="9791" y="3"/>
                    </a:cubicBezTo>
                    <a:close/>
                    <a:moveTo>
                      <a:pt x="9799" y="3"/>
                    </a:moveTo>
                    <a:lnTo>
                      <a:pt x="9799" y="3"/>
                    </a:lnTo>
                    <a:cubicBezTo>
                      <a:pt x="9800" y="3"/>
                      <a:pt x="9801" y="3"/>
                      <a:pt x="9801" y="5"/>
                    </a:cubicBezTo>
                    <a:cubicBezTo>
                      <a:pt x="9801" y="6"/>
                      <a:pt x="9800" y="7"/>
                      <a:pt x="9799" y="7"/>
                    </a:cubicBezTo>
                    <a:lnTo>
                      <a:pt x="9799" y="7"/>
                    </a:lnTo>
                    <a:cubicBezTo>
                      <a:pt x="9798" y="7"/>
                      <a:pt x="9797" y="6"/>
                      <a:pt x="9797" y="5"/>
                    </a:cubicBezTo>
                    <a:cubicBezTo>
                      <a:pt x="9797" y="3"/>
                      <a:pt x="9798" y="3"/>
                      <a:pt x="9799" y="3"/>
                    </a:cubicBezTo>
                    <a:close/>
                    <a:moveTo>
                      <a:pt x="9807" y="3"/>
                    </a:moveTo>
                    <a:lnTo>
                      <a:pt x="9807" y="3"/>
                    </a:lnTo>
                    <a:cubicBezTo>
                      <a:pt x="9808" y="3"/>
                      <a:pt x="9809" y="3"/>
                      <a:pt x="9809" y="5"/>
                    </a:cubicBezTo>
                    <a:cubicBezTo>
                      <a:pt x="9809" y="6"/>
                      <a:pt x="9808" y="7"/>
                      <a:pt x="9807" y="7"/>
                    </a:cubicBezTo>
                    <a:lnTo>
                      <a:pt x="9807" y="7"/>
                    </a:lnTo>
                    <a:cubicBezTo>
                      <a:pt x="9806" y="7"/>
                      <a:pt x="9805" y="6"/>
                      <a:pt x="9805" y="5"/>
                    </a:cubicBezTo>
                    <a:cubicBezTo>
                      <a:pt x="9805" y="3"/>
                      <a:pt x="9806" y="3"/>
                      <a:pt x="9807" y="3"/>
                    </a:cubicBezTo>
                    <a:close/>
                    <a:moveTo>
                      <a:pt x="9815" y="3"/>
                    </a:moveTo>
                    <a:lnTo>
                      <a:pt x="9815" y="3"/>
                    </a:lnTo>
                    <a:cubicBezTo>
                      <a:pt x="9816" y="3"/>
                      <a:pt x="9817" y="3"/>
                      <a:pt x="9817" y="5"/>
                    </a:cubicBezTo>
                    <a:cubicBezTo>
                      <a:pt x="9817" y="6"/>
                      <a:pt x="9816" y="7"/>
                      <a:pt x="9815" y="7"/>
                    </a:cubicBezTo>
                    <a:lnTo>
                      <a:pt x="9815" y="7"/>
                    </a:lnTo>
                    <a:cubicBezTo>
                      <a:pt x="9814" y="7"/>
                      <a:pt x="9813" y="6"/>
                      <a:pt x="9813" y="5"/>
                    </a:cubicBezTo>
                    <a:cubicBezTo>
                      <a:pt x="9813" y="3"/>
                      <a:pt x="9814" y="3"/>
                      <a:pt x="9815" y="3"/>
                    </a:cubicBezTo>
                    <a:close/>
                    <a:moveTo>
                      <a:pt x="9823" y="3"/>
                    </a:moveTo>
                    <a:lnTo>
                      <a:pt x="9823" y="3"/>
                    </a:lnTo>
                    <a:cubicBezTo>
                      <a:pt x="9824" y="3"/>
                      <a:pt x="9825" y="3"/>
                      <a:pt x="9825" y="5"/>
                    </a:cubicBezTo>
                    <a:cubicBezTo>
                      <a:pt x="9825" y="6"/>
                      <a:pt x="9824" y="7"/>
                      <a:pt x="9823" y="7"/>
                    </a:cubicBezTo>
                    <a:lnTo>
                      <a:pt x="9823" y="7"/>
                    </a:lnTo>
                    <a:cubicBezTo>
                      <a:pt x="9822" y="7"/>
                      <a:pt x="9821" y="6"/>
                      <a:pt x="9821" y="5"/>
                    </a:cubicBezTo>
                    <a:cubicBezTo>
                      <a:pt x="9821" y="3"/>
                      <a:pt x="9822" y="3"/>
                      <a:pt x="9823" y="3"/>
                    </a:cubicBezTo>
                    <a:close/>
                    <a:moveTo>
                      <a:pt x="9831" y="3"/>
                    </a:moveTo>
                    <a:lnTo>
                      <a:pt x="9831" y="3"/>
                    </a:lnTo>
                    <a:cubicBezTo>
                      <a:pt x="9832" y="3"/>
                      <a:pt x="9833" y="3"/>
                      <a:pt x="9833" y="5"/>
                    </a:cubicBezTo>
                    <a:cubicBezTo>
                      <a:pt x="9833" y="6"/>
                      <a:pt x="9832" y="7"/>
                      <a:pt x="9831" y="7"/>
                    </a:cubicBezTo>
                    <a:lnTo>
                      <a:pt x="9831" y="7"/>
                    </a:lnTo>
                    <a:cubicBezTo>
                      <a:pt x="9830" y="7"/>
                      <a:pt x="9829" y="6"/>
                      <a:pt x="9829" y="5"/>
                    </a:cubicBezTo>
                    <a:cubicBezTo>
                      <a:pt x="9829" y="3"/>
                      <a:pt x="9830" y="3"/>
                      <a:pt x="9831" y="3"/>
                    </a:cubicBezTo>
                    <a:close/>
                    <a:moveTo>
                      <a:pt x="9839" y="3"/>
                    </a:moveTo>
                    <a:lnTo>
                      <a:pt x="9839" y="3"/>
                    </a:lnTo>
                    <a:cubicBezTo>
                      <a:pt x="9840" y="3"/>
                      <a:pt x="9841" y="3"/>
                      <a:pt x="9841" y="5"/>
                    </a:cubicBezTo>
                    <a:cubicBezTo>
                      <a:pt x="9841" y="6"/>
                      <a:pt x="9840" y="7"/>
                      <a:pt x="9839" y="7"/>
                    </a:cubicBezTo>
                    <a:lnTo>
                      <a:pt x="9839" y="7"/>
                    </a:lnTo>
                    <a:cubicBezTo>
                      <a:pt x="9838" y="7"/>
                      <a:pt x="9837" y="6"/>
                      <a:pt x="9837" y="5"/>
                    </a:cubicBezTo>
                    <a:cubicBezTo>
                      <a:pt x="9837" y="3"/>
                      <a:pt x="9838" y="3"/>
                      <a:pt x="9839" y="3"/>
                    </a:cubicBezTo>
                    <a:close/>
                    <a:moveTo>
                      <a:pt x="9847" y="3"/>
                    </a:moveTo>
                    <a:lnTo>
                      <a:pt x="9847" y="3"/>
                    </a:lnTo>
                    <a:cubicBezTo>
                      <a:pt x="9848" y="3"/>
                      <a:pt x="9849" y="3"/>
                      <a:pt x="9849" y="5"/>
                    </a:cubicBezTo>
                    <a:cubicBezTo>
                      <a:pt x="9849" y="6"/>
                      <a:pt x="9848" y="7"/>
                      <a:pt x="9847" y="7"/>
                    </a:cubicBezTo>
                    <a:lnTo>
                      <a:pt x="9847" y="7"/>
                    </a:lnTo>
                    <a:cubicBezTo>
                      <a:pt x="9846" y="7"/>
                      <a:pt x="9845" y="6"/>
                      <a:pt x="9845" y="5"/>
                    </a:cubicBezTo>
                    <a:cubicBezTo>
                      <a:pt x="9845" y="3"/>
                      <a:pt x="9846" y="3"/>
                      <a:pt x="9847" y="3"/>
                    </a:cubicBezTo>
                    <a:close/>
                    <a:moveTo>
                      <a:pt x="9855" y="3"/>
                    </a:moveTo>
                    <a:lnTo>
                      <a:pt x="9855" y="3"/>
                    </a:lnTo>
                    <a:cubicBezTo>
                      <a:pt x="9856" y="3"/>
                      <a:pt x="9857" y="3"/>
                      <a:pt x="9857" y="5"/>
                    </a:cubicBezTo>
                    <a:cubicBezTo>
                      <a:pt x="9857" y="6"/>
                      <a:pt x="9856" y="7"/>
                      <a:pt x="9855" y="7"/>
                    </a:cubicBezTo>
                    <a:lnTo>
                      <a:pt x="9855" y="7"/>
                    </a:lnTo>
                    <a:cubicBezTo>
                      <a:pt x="9854" y="7"/>
                      <a:pt x="9853" y="6"/>
                      <a:pt x="9853" y="5"/>
                    </a:cubicBezTo>
                    <a:cubicBezTo>
                      <a:pt x="9853" y="3"/>
                      <a:pt x="9854" y="3"/>
                      <a:pt x="9855" y="3"/>
                    </a:cubicBezTo>
                    <a:close/>
                    <a:moveTo>
                      <a:pt x="9863" y="3"/>
                    </a:moveTo>
                    <a:lnTo>
                      <a:pt x="9863" y="3"/>
                    </a:lnTo>
                    <a:cubicBezTo>
                      <a:pt x="9864" y="3"/>
                      <a:pt x="9865" y="3"/>
                      <a:pt x="9865" y="5"/>
                    </a:cubicBezTo>
                    <a:cubicBezTo>
                      <a:pt x="9865" y="6"/>
                      <a:pt x="9864" y="7"/>
                      <a:pt x="9863" y="7"/>
                    </a:cubicBezTo>
                    <a:lnTo>
                      <a:pt x="9863" y="7"/>
                    </a:lnTo>
                    <a:cubicBezTo>
                      <a:pt x="9862" y="7"/>
                      <a:pt x="9861" y="6"/>
                      <a:pt x="9861" y="5"/>
                    </a:cubicBezTo>
                    <a:cubicBezTo>
                      <a:pt x="9861" y="3"/>
                      <a:pt x="9862" y="3"/>
                      <a:pt x="9863" y="3"/>
                    </a:cubicBezTo>
                    <a:close/>
                    <a:moveTo>
                      <a:pt x="9871" y="3"/>
                    </a:moveTo>
                    <a:lnTo>
                      <a:pt x="9871" y="3"/>
                    </a:lnTo>
                    <a:cubicBezTo>
                      <a:pt x="9872" y="3"/>
                      <a:pt x="9873" y="3"/>
                      <a:pt x="9873" y="5"/>
                    </a:cubicBezTo>
                    <a:cubicBezTo>
                      <a:pt x="9873" y="6"/>
                      <a:pt x="9872" y="7"/>
                      <a:pt x="9871" y="7"/>
                    </a:cubicBezTo>
                    <a:lnTo>
                      <a:pt x="9871" y="7"/>
                    </a:lnTo>
                    <a:cubicBezTo>
                      <a:pt x="9870" y="7"/>
                      <a:pt x="9869" y="6"/>
                      <a:pt x="9869" y="5"/>
                    </a:cubicBezTo>
                    <a:cubicBezTo>
                      <a:pt x="9869" y="3"/>
                      <a:pt x="9870" y="3"/>
                      <a:pt x="9871" y="3"/>
                    </a:cubicBezTo>
                    <a:close/>
                    <a:moveTo>
                      <a:pt x="9879" y="3"/>
                    </a:moveTo>
                    <a:lnTo>
                      <a:pt x="9879" y="3"/>
                    </a:lnTo>
                    <a:cubicBezTo>
                      <a:pt x="9880" y="3"/>
                      <a:pt x="9881" y="3"/>
                      <a:pt x="9881" y="5"/>
                    </a:cubicBezTo>
                    <a:cubicBezTo>
                      <a:pt x="9881" y="6"/>
                      <a:pt x="9880" y="7"/>
                      <a:pt x="9879" y="7"/>
                    </a:cubicBezTo>
                    <a:lnTo>
                      <a:pt x="9879" y="7"/>
                    </a:lnTo>
                    <a:cubicBezTo>
                      <a:pt x="9878" y="7"/>
                      <a:pt x="9877" y="6"/>
                      <a:pt x="9877" y="5"/>
                    </a:cubicBezTo>
                    <a:cubicBezTo>
                      <a:pt x="9877" y="3"/>
                      <a:pt x="9878" y="3"/>
                      <a:pt x="9879" y="3"/>
                    </a:cubicBezTo>
                    <a:close/>
                    <a:moveTo>
                      <a:pt x="9887" y="3"/>
                    </a:moveTo>
                    <a:lnTo>
                      <a:pt x="9887" y="3"/>
                    </a:lnTo>
                    <a:cubicBezTo>
                      <a:pt x="9888" y="3"/>
                      <a:pt x="9889" y="3"/>
                      <a:pt x="9889" y="5"/>
                    </a:cubicBezTo>
                    <a:cubicBezTo>
                      <a:pt x="9889" y="6"/>
                      <a:pt x="9888" y="7"/>
                      <a:pt x="9887" y="7"/>
                    </a:cubicBezTo>
                    <a:lnTo>
                      <a:pt x="9887" y="7"/>
                    </a:lnTo>
                    <a:cubicBezTo>
                      <a:pt x="9886" y="7"/>
                      <a:pt x="9885" y="6"/>
                      <a:pt x="9885" y="5"/>
                    </a:cubicBezTo>
                    <a:cubicBezTo>
                      <a:pt x="9885" y="3"/>
                      <a:pt x="9886" y="3"/>
                      <a:pt x="9887" y="3"/>
                    </a:cubicBezTo>
                    <a:close/>
                    <a:moveTo>
                      <a:pt x="9895" y="3"/>
                    </a:moveTo>
                    <a:lnTo>
                      <a:pt x="9895" y="3"/>
                    </a:lnTo>
                    <a:cubicBezTo>
                      <a:pt x="9896" y="3"/>
                      <a:pt x="9897" y="3"/>
                      <a:pt x="9897" y="5"/>
                    </a:cubicBezTo>
                    <a:cubicBezTo>
                      <a:pt x="9897" y="6"/>
                      <a:pt x="9896" y="7"/>
                      <a:pt x="9895" y="7"/>
                    </a:cubicBezTo>
                    <a:lnTo>
                      <a:pt x="9895" y="7"/>
                    </a:lnTo>
                    <a:cubicBezTo>
                      <a:pt x="9894" y="7"/>
                      <a:pt x="9893" y="6"/>
                      <a:pt x="9893" y="5"/>
                    </a:cubicBezTo>
                    <a:cubicBezTo>
                      <a:pt x="9893" y="3"/>
                      <a:pt x="9894" y="3"/>
                      <a:pt x="9895" y="3"/>
                    </a:cubicBezTo>
                    <a:close/>
                    <a:moveTo>
                      <a:pt x="9903" y="3"/>
                    </a:moveTo>
                    <a:lnTo>
                      <a:pt x="9903" y="3"/>
                    </a:lnTo>
                    <a:cubicBezTo>
                      <a:pt x="9904" y="3"/>
                      <a:pt x="9905" y="3"/>
                      <a:pt x="9905" y="5"/>
                    </a:cubicBezTo>
                    <a:cubicBezTo>
                      <a:pt x="9905" y="6"/>
                      <a:pt x="9904" y="7"/>
                      <a:pt x="9903" y="7"/>
                    </a:cubicBezTo>
                    <a:lnTo>
                      <a:pt x="9903" y="7"/>
                    </a:lnTo>
                    <a:cubicBezTo>
                      <a:pt x="9902" y="7"/>
                      <a:pt x="9901" y="6"/>
                      <a:pt x="9901" y="5"/>
                    </a:cubicBezTo>
                    <a:cubicBezTo>
                      <a:pt x="9901" y="3"/>
                      <a:pt x="9902" y="3"/>
                      <a:pt x="9903" y="3"/>
                    </a:cubicBezTo>
                    <a:close/>
                    <a:moveTo>
                      <a:pt x="9911" y="3"/>
                    </a:moveTo>
                    <a:lnTo>
                      <a:pt x="9911" y="3"/>
                    </a:lnTo>
                    <a:cubicBezTo>
                      <a:pt x="9912" y="3"/>
                      <a:pt x="9913" y="3"/>
                      <a:pt x="9913" y="5"/>
                    </a:cubicBezTo>
                    <a:cubicBezTo>
                      <a:pt x="9913" y="6"/>
                      <a:pt x="9912" y="7"/>
                      <a:pt x="9911" y="7"/>
                    </a:cubicBezTo>
                    <a:lnTo>
                      <a:pt x="9911" y="7"/>
                    </a:lnTo>
                    <a:cubicBezTo>
                      <a:pt x="9910" y="7"/>
                      <a:pt x="9909" y="6"/>
                      <a:pt x="9909" y="5"/>
                    </a:cubicBezTo>
                    <a:cubicBezTo>
                      <a:pt x="9909" y="3"/>
                      <a:pt x="9910" y="3"/>
                      <a:pt x="9911" y="3"/>
                    </a:cubicBezTo>
                    <a:close/>
                    <a:moveTo>
                      <a:pt x="9919" y="3"/>
                    </a:moveTo>
                    <a:lnTo>
                      <a:pt x="9919" y="3"/>
                    </a:lnTo>
                    <a:cubicBezTo>
                      <a:pt x="9920" y="3"/>
                      <a:pt x="9921" y="3"/>
                      <a:pt x="9921" y="5"/>
                    </a:cubicBezTo>
                    <a:cubicBezTo>
                      <a:pt x="9921" y="6"/>
                      <a:pt x="9920" y="7"/>
                      <a:pt x="9919" y="7"/>
                    </a:cubicBezTo>
                    <a:lnTo>
                      <a:pt x="9919" y="7"/>
                    </a:lnTo>
                    <a:cubicBezTo>
                      <a:pt x="9918" y="7"/>
                      <a:pt x="9917" y="6"/>
                      <a:pt x="9917" y="5"/>
                    </a:cubicBezTo>
                    <a:cubicBezTo>
                      <a:pt x="9917" y="3"/>
                      <a:pt x="9918" y="3"/>
                      <a:pt x="9919" y="3"/>
                    </a:cubicBezTo>
                    <a:close/>
                    <a:moveTo>
                      <a:pt x="9927" y="3"/>
                    </a:moveTo>
                    <a:lnTo>
                      <a:pt x="9927" y="3"/>
                    </a:lnTo>
                    <a:cubicBezTo>
                      <a:pt x="9928" y="3"/>
                      <a:pt x="9929" y="3"/>
                      <a:pt x="9929" y="5"/>
                    </a:cubicBezTo>
                    <a:cubicBezTo>
                      <a:pt x="9929" y="6"/>
                      <a:pt x="9928" y="7"/>
                      <a:pt x="9927" y="7"/>
                    </a:cubicBezTo>
                    <a:lnTo>
                      <a:pt x="9927" y="7"/>
                    </a:lnTo>
                    <a:cubicBezTo>
                      <a:pt x="9926" y="7"/>
                      <a:pt x="9925" y="6"/>
                      <a:pt x="9925" y="5"/>
                    </a:cubicBezTo>
                    <a:cubicBezTo>
                      <a:pt x="9925" y="3"/>
                      <a:pt x="9926" y="3"/>
                      <a:pt x="9927" y="3"/>
                    </a:cubicBezTo>
                    <a:close/>
                    <a:moveTo>
                      <a:pt x="9935" y="3"/>
                    </a:moveTo>
                    <a:lnTo>
                      <a:pt x="9935" y="3"/>
                    </a:lnTo>
                    <a:cubicBezTo>
                      <a:pt x="9936" y="3"/>
                      <a:pt x="9937" y="3"/>
                      <a:pt x="9937" y="5"/>
                    </a:cubicBezTo>
                    <a:cubicBezTo>
                      <a:pt x="9937" y="6"/>
                      <a:pt x="9936" y="7"/>
                      <a:pt x="9935" y="7"/>
                    </a:cubicBezTo>
                    <a:lnTo>
                      <a:pt x="9935" y="7"/>
                    </a:lnTo>
                    <a:cubicBezTo>
                      <a:pt x="9934" y="7"/>
                      <a:pt x="9933" y="6"/>
                      <a:pt x="9933" y="5"/>
                    </a:cubicBezTo>
                    <a:cubicBezTo>
                      <a:pt x="9933" y="3"/>
                      <a:pt x="9934" y="3"/>
                      <a:pt x="9935" y="3"/>
                    </a:cubicBezTo>
                    <a:close/>
                    <a:moveTo>
                      <a:pt x="9943" y="3"/>
                    </a:moveTo>
                    <a:lnTo>
                      <a:pt x="9943" y="3"/>
                    </a:lnTo>
                    <a:cubicBezTo>
                      <a:pt x="9944" y="3"/>
                      <a:pt x="9945" y="3"/>
                      <a:pt x="9945" y="5"/>
                    </a:cubicBezTo>
                    <a:cubicBezTo>
                      <a:pt x="9945" y="6"/>
                      <a:pt x="9944" y="7"/>
                      <a:pt x="9943" y="7"/>
                    </a:cubicBezTo>
                    <a:lnTo>
                      <a:pt x="9943" y="7"/>
                    </a:lnTo>
                    <a:cubicBezTo>
                      <a:pt x="9942" y="7"/>
                      <a:pt x="9941" y="6"/>
                      <a:pt x="9941" y="5"/>
                    </a:cubicBezTo>
                    <a:cubicBezTo>
                      <a:pt x="9941" y="3"/>
                      <a:pt x="9942" y="3"/>
                      <a:pt x="9943" y="3"/>
                    </a:cubicBezTo>
                    <a:close/>
                    <a:moveTo>
                      <a:pt x="9951" y="3"/>
                    </a:moveTo>
                    <a:lnTo>
                      <a:pt x="9951" y="3"/>
                    </a:lnTo>
                    <a:cubicBezTo>
                      <a:pt x="9952" y="3"/>
                      <a:pt x="9953" y="3"/>
                      <a:pt x="9953" y="5"/>
                    </a:cubicBezTo>
                    <a:cubicBezTo>
                      <a:pt x="9953" y="6"/>
                      <a:pt x="9952" y="7"/>
                      <a:pt x="9951" y="7"/>
                    </a:cubicBezTo>
                    <a:lnTo>
                      <a:pt x="9951" y="7"/>
                    </a:lnTo>
                    <a:cubicBezTo>
                      <a:pt x="9950" y="7"/>
                      <a:pt x="9949" y="6"/>
                      <a:pt x="9949" y="5"/>
                    </a:cubicBezTo>
                    <a:cubicBezTo>
                      <a:pt x="9949" y="3"/>
                      <a:pt x="9950" y="3"/>
                      <a:pt x="9951" y="3"/>
                    </a:cubicBezTo>
                    <a:close/>
                    <a:moveTo>
                      <a:pt x="9959" y="3"/>
                    </a:moveTo>
                    <a:lnTo>
                      <a:pt x="9959" y="3"/>
                    </a:lnTo>
                    <a:cubicBezTo>
                      <a:pt x="9960" y="3"/>
                      <a:pt x="9961" y="3"/>
                      <a:pt x="9961" y="5"/>
                    </a:cubicBezTo>
                    <a:cubicBezTo>
                      <a:pt x="9961" y="6"/>
                      <a:pt x="9960" y="7"/>
                      <a:pt x="9959" y="7"/>
                    </a:cubicBezTo>
                    <a:lnTo>
                      <a:pt x="9959" y="7"/>
                    </a:lnTo>
                    <a:cubicBezTo>
                      <a:pt x="9958" y="7"/>
                      <a:pt x="9957" y="6"/>
                      <a:pt x="9957" y="5"/>
                    </a:cubicBezTo>
                    <a:cubicBezTo>
                      <a:pt x="9957" y="3"/>
                      <a:pt x="9958" y="3"/>
                      <a:pt x="9959" y="3"/>
                    </a:cubicBezTo>
                    <a:close/>
                    <a:moveTo>
                      <a:pt x="9967" y="3"/>
                    </a:moveTo>
                    <a:lnTo>
                      <a:pt x="9967" y="3"/>
                    </a:lnTo>
                    <a:cubicBezTo>
                      <a:pt x="9968" y="3"/>
                      <a:pt x="9969" y="3"/>
                      <a:pt x="9969" y="5"/>
                    </a:cubicBezTo>
                    <a:cubicBezTo>
                      <a:pt x="9969" y="6"/>
                      <a:pt x="9968" y="7"/>
                      <a:pt x="9967" y="7"/>
                    </a:cubicBezTo>
                    <a:lnTo>
                      <a:pt x="9967" y="7"/>
                    </a:lnTo>
                    <a:cubicBezTo>
                      <a:pt x="9966" y="7"/>
                      <a:pt x="9965" y="6"/>
                      <a:pt x="9965" y="5"/>
                    </a:cubicBezTo>
                    <a:cubicBezTo>
                      <a:pt x="9965" y="3"/>
                      <a:pt x="9966" y="3"/>
                      <a:pt x="9967" y="3"/>
                    </a:cubicBezTo>
                    <a:close/>
                    <a:moveTo>
                      <a:pt x="9975" y="3"/>
                    </a:moveTo>
                    <a:lnTo>
                      <a:pt x="9975" y="3"/>
                    </a:lnTo>
                    <a:cubicBezTo>
                      <a:pt x="9976" y="3"/>
                      <a:pt x="9977" y="3"/>
                      <a:pt x="9977" y="5"/>
                    </a:cubicBezTo>
                    <a:cubicBezTo>
                      <a:pt x="9977" y="6"/>
                      <a:pt x="9976" y="7"/>
                      <a:pt x="9975" y="7"/>
                    </a:cubicBezTo>
                    <a:lnTo>
                      <a:pt x="9975" y="7"/>
                    </a:lnTo>
                    <a:cubicBezTo>
                      <a:pt x="9974" y="7"/>
                      <a:pt x="9973" y="6"/>
                      <a:pt x="9973" y="5"/>
                    </a:cubicBezTo>
                    <a:cubicBezTo>
                      <a:pt x="9973" y="3"/>
                      <a:pt x="9974" y="3"/>
                      <a:pt x="9975" y="3"/>
                    </a:cubicBezTo>
                    <a:close/>
                    <a:moveTo>
                      <a:pt x="9983" y="3"/>
                    </a:moveTo>
                    <a:lnTo>
                      <a:pt x="9983" y="3"/>
                    </a:lnTo>
                    <a:cubicBezTo>
                      <a:pt x="9984" y="3"/>
                      <a:pt x="9985" y="3"/>
                      <a:pt x="9985" y="5"/>
                    </a:cubicBezTo>
                    <a:cubicBezTo>
                      <a:pt x="9985" y="6"/>
                      <a:pt x="9984" y="7"/>
                      <a:pt x="9983" y="7"/>
                    </a:cubicBezTo>
                    <a:lnTo>
                      <a:pt x="9983" y="7"/>
                    </a:lnTo>
                    <a:cubicBezTo>
                      <a:pt x="9982" y="7"/>
                      <a:pt x="9981" y="6"/>
                      <a:pt x="9981" y="5"/>
                    </a:cubicBezTo>
                    <a:cubicBezTo>
                      <a:pt x="9981" y="3"/>
                      <a:pt x="9982" y="3"/>
                      <a:pt x="9983" y="3"/>
                    </a:cubicBezTo>
                    <a:close/>
                    <a:moveTo>
                      <a:pt x="9991" y="3"/>
                    </a:moveTo>
                    <a:lnTo>
                      <a:pt x="9991" y="3"/>
                    </a:lnTo>
                    <a:cubicBezTo>
                      <a:pt x="9992" y="3"/>
                      <a:pt x="9993" y="3"/>
                      <a:pt x="9993" y="5"/>
                    </a:cubicBezTo>
                    <a:cubicBezTo>
                      <a:pt x="9993" y="6"/>
                      <a:pt x="9992" y="7"/>
                      <a:pt x="9991" y="7"/>
                    </a:cubicBezTo>
                    <a:lnTo>
                      <a:pt x="9991" y="7"/>
                    </a:lnTo>
                    <a:cubicBezTo>
                      <a:pt x="9990" y="7"/>
                      <a:pt x="9989" y="6"/>
                      <a:pt x="9989" y="5"/>
                    </a:cubicBezTo>
                    <a:cubicBezTo>
                      <a:pt x="9989" y="3"/>
                      <a:pt x="9990" y="3"/>
                      <a:pt x="9991" y="3"/>
                    </a:cubicBezTo>
                    <a:close/>
                    <a:moveTo>
                      <a:pt x="9999" y="3"/>
                    </a:moveTo>
                    <a:lnTo>
                      <a:pt x="9999" y="3"/>
                    </a:lnTo>
                    <a:cubicBezTo>
                      <a:pt x="10000" y="3"/>
                      <a:pt x="10001" y="3"/>
                      <a:pt x="10001" y="5"/>
                    </a:cubicBezTo>
                    <a:cubicBezTo>
                      <a:pt x="10001" y="6"/>
                      <a:pt x="10000" y="7"/>
                      <a:pt x="9999" y="7"/>
                    </a:cubicBezTo>
                    <a:lnTo>
                      <a:pt x="9999" y="7"/>
                    </a:lnTo>
                    <a:cubicBezTo>
                      <a:pt x="9998" y="7"/>
                      <a:pt x="9997" y="6"/>
                      <a:pt x="9997" y="5"/>
                    </a:cubicBezTo>
                    <a:cubicBezTo>
                      <a:pt x="9997" y="3"/>
                      <a:pt x="9998" y="3"/>
                      <a:pt x="9999" y="3"/>
                    </a:cubicBezTo>
                    <a:close/>
                    <a:moveTo>
                      <a:pt x="10007" y="3"/>
                    </a:moveTo>
                    <a:lnTo>
                      <a:pt x="10007" y="3"/>
                    </a:lnTo>
                    <a:cubicBezTo>
                      <a:pt x="10008" y="3"/>
                      <a:pt x="10009" y="3"/>
                      <a:pt x="10009" y="5"/>
                    </a:cubicBezTo>
                    <a:cubicBezTo>
                      <a:pt x="10009" y="6"/>
                      <a:pt x="10008" y="7"/>
                      <a:pt x="10007" y="7"/>
                    </a:cubicBezTo>
                    <a:lnTo>
                      <a:pt x="10007" y="7"/>
                    </a:lnTo>
                    <a:cubicBezTo>
                      <a:pt x="10006" y="7"/>
                      <a:pt x="10005" y="6"/>
                      <a:pt x="10005" y="5"/>
                    </a:cubicBezTo>
                    <a:cubicBezTo>
                      <a:pt x="10005" y="3"/>
                      <a:pt x="10006" y="3"/>
                      <a:pt x="10007" y="3"/>
                    </a:cubicBezTo>
                    <a:close/>
                    <a:moveTo>
                      <a:pt x="10015" y="3"/>
                    </a:moveTo>
                    <a:lnTo>
                      <a:pt x="10015" y="3"/>
                    </a:lnTo>
                    <a:cubicBezTo>
                      <a:pt x="10016" y="3"/>
                      <a:pt x="10017" y="3"/>
                      <a:pt x="10017" y="5"/>
                    </a:cubicBezTo>
                    <a:cubicBezTo>
                      <a:pt x="10017" y="6"/>
                      <a:pt x="10016" y="7"/>
                      <a:pt x="10015" y="7"/>
                    </a:cubicBezTo>
                    <a:lnTo>
                      <a:pt x="10015" y="7"/>
                    </a:lnTo>
                    <a:cubicBezTo>
                      <a:pt x="10014" y="7"/>
                      <a:pt x="10013" y="6"/>
                      <a:pt x="10013" y="5"/>
                    </a:cubicBezTo>
                    <a:cubicBezTo>
                      <a:pt x="10013" y="3"/>
                      <a:pt x="10014" y="3"/>
                      <a:pt x="10015" y="3"/>
                    </a:cubicBezTo>
                    <a:close/>
                    <a:moveTo>
                      <a:pt x="10023" y="3"/>
                    </a:moveTo>
                    <a:lnTo>
                      <a:pt x="10023" y="3"/>
                    </a:lnTo>
                    <a:cubicBezTo>
                      <a:pt x="10024" y="3"/>
                      <a:pt x="10025" y="3"/>
                      <a:pt x="10025" y="5"/>
                    </a:cubicBezTo>
                    <a:cubicBezTo>
                      <a:pt x="10025" y="6"/>
                      <a:pt x="10024" y="7"/>
                      <a:pt x="10023" y="7"/>
                    </a:cubicBezTo>
                    <a:lnTo>
                      <a:pt x="10023" y="7"/>
                    </a:lnTo>
                    <a:cubicBezTo>
                      <a:pt x="10022" y="7"/>
                      <a:pt x="10021" y="6"/>
                      <a:pt x="10021" y="5"/>
                    </a:cubicBezTo>
                    <a:cubicBezTo>
                      <a:pt x="10021" y="3"/>
                      <a:pt x="10022" y="3"/>
                      <a:pt x="10023" y="3"/>
                    </a:cubicBezTo>
                    <a:close/>
                    <a:moveTo>
                      <a:pt x="10031" y="3"/>
                    </a:moveTo>
                    <a:lnTo>
                      <a:pt x="10031" y="3"/>
                    </a:lnTo>
                    <a:cubicBezTo>
                      <a:pt x="10032" y="3"/>
                      <a:pt x="10033" y="3"/>
                      <a:pt x="10033" y="5"/>
                    </a:cubicBezTo>
                    <a:cubicBezTo>
                      <a:pt x="10033" y="6"/>
                      <a:pt x="10032" y="7"/>
                      <a:pt x="10031" y="7"/>
                    </a:cubicBezTo>
                    <a:lnTo>
                      <a:pt x="10031" y="7"/>
                    </a:lnTo>
                    <a:cubicBezTo>
                      <a:pt x="10030" y="7"/>
                      <a:pt x="10029" y="6"/>
                      <a:pt x="10029" y="5"/>
                    </a:cubicBezTo>
                    <a:cubicBezTo>
                      <a:pt x="10029" y="3"/>
                      <a:pt x="10030" y="3"/>
                      <a:pt x="10031" y="3"/>
                    </a:cubicBezTo>
                    <a:close/>
                    <a:moveTo>
                      <a:pt x="10039" y="3"/>
                    </a:moveTo>
                    <a:lnTo>
                      <a:pt x="10039" y="3"/>
                    </a:lnTo>
                    <a:cubicBezTo>
                      <a:pt x="10040" y="3"/>
                      <a:pt x="10041" y="3"/>
                      <a:pt x="10041" y="5"/>
                    </a:cubicBezTo>
                    <a:cubicBezTo>
                      <a:pt x="10041" y="6"/>
                      <a:pt x="10040" y="7"/>
                      <a:pt x="10039" y="7"/>
                    </a:cubicBezTo>
                    <a:lnTo>
                      <a:pt x="10039" y="7"/>
                    </a:lnTo>
                    <a:cubicBezTo>
                      <a:pt x="10038" y="7"/>
                      <a:pt x="10037" y="6"/>
                      <a:pt x="10037" y="5"/>
                    </a:cubicBezTo>
                    <a:cubicBezTo>
                      <a:pt x="10037" y="3"/>
                      <a:pt x="10038" y="3"/>
                      <a:pt x="10039" y="3"/>
                    </a:cubicBezTo>
                    <a:close/>
                    <a:moveTo>
                      <a:pt x="10047" y="3"/>
                    </a:moveTo>
                    <a:lnTo>
                      <a:pt x="10047" y="3"/>
                    </a:lnTo>
                    <a:cubicBezTo>
                      <a:pt x="10048" y="3"/>
                      <a:pt x="10049" y="3"/>
                      <a:pt x="10049" y="5"/>
                    </a:cubicBezTo>
                    <a:cubicBezTo>
                      <a:pt x="10049" y="6"/>
                      <a:pt x="10048" y="7"/>
                      <a:pt x="10047" y="7"/>
                    </a:cubicBezTo>
                    <a:lnTo>
                      <a:pt x="10047" y="7"/>
                    </a:lnTo>
                    <a:cubicBezTo>
                      <a:pt x="10046" y="7"/>
                      <a:pt x="10045" y="6"/>
                      <a:pt x="10045" y="5"/>
                    </a:cubicBezTo>
                    <a:cubicBezTo>
                      <a:pt x="10045" y="3"/>
                      <a:pt x="10046" y="3"/>
                      <a:pt x="10047" y="3"/>
                    </a:cubicBezTo>
                    <a:close/>
                    <a:moveTo>
                      <a:pt x="10055" y="3"/>
                    </a:moveTo>
                    <a:lnTo>
                      <a:pt x="10055" y="3"/>
                    </a:lnTo>
                    <a:cubicBezTo>
                      <a:pt x="10056" y="3"/>
                      <a:pt x="10057" y="3"/>
                      <a:pt x="10057" y="5"/>
                    </a:cubicBezTo>
                    <a:cubicBezTo>
                      <a:pt x="10057" y="6"/>
                      <a:pt x="10056" y="7"/>
                      <a:pt x="10055" y="7"/>
                    </a:cubicBezTo>
                    <a:lnTo>
                      <a:pt x="10055" y="7"/>
                    </a:lnTo>
                    <a:cubicBezTo>
                      <a:pt x="10054" y="7"/>
                      <a:pt x="10053" y="6"/>
                      <a:pt x="10053" y="5"/>
                    </a:cubicBezTo>
                    <a:cubicBezTo>
                      <a:pt x="10053" y="3"/>
                      <a:pt x="10054" y="3"/>
                      <a:pt x="10055" y="3"/>
                    </a:cubicBezTo>
                    <a:close/>
                    <a:moveTo>
                      <a:pt x="10063" y="3"/>
                    </a:moveTo>
                    <a:lnTo>
                      <a:pt x="10063" y="3"/>
                    </a:lnTo>
                    <a:cubicBezTo>
                      <a:pt x="10064" y="3"/>
                      <a:pt x="10065" y="3"/>
                      <a:pt x="10065" y="5"/>
                    </a:cubicBezTo>
                    <a:cubicBezTo>
                      <a:pt x="10065" y="6"/>
                      <a:pt x="10064" y="7"/>
                      <a:pt x="10063" y="7"/>
                    </a:cubicBezTo>
                    <a:lnTo>
                      <a:pt x="10063" y="7"/>
                    </a:lnTo>
                    <a:cubicBezTo>
                      <a:pt x="10062" y="7"/>
                      <a:pt x="10061" y="6"/>
                      <a:pt x="10061" y="5"/>
                    </a:cubicBezTo>
                    <a:cubicBezTo>
                      <a:pt x="10061" y="3"/>
                      <a:pt x="10062" y="3"/>
                      <a:pt x="10063" y="3"/>
                    </a:cubicBezTo>
                    <a:close/>
                    <a:moveTo>
                      <a:pt x="10071" y="3"/>
                    </a:moveTo>
                    <a:lnTo>
                      <a:pt x="10071" y="3"/>
                    </a:lnTo>
                    <a:cubicBezTo>
                      <a:pt x="10072" y="3"/>
                      <a:pt x="10073" y="3"/>
                      <a:pt x="10073" y="5"/>
                    </a:cubicBezTo>
                    <a:cubicBezTo>
                      <a:pt x="10073" y="6"/>
                      <a:pt x="10072" y="7"/>
                      <a:pt x="10071" y="7"/>
                    </a:cubicBezTo>
                    <a:lnTo>
                      <a:pt x="10071" y="7"/>
                    </a:lnTo>
                    <a:cubicBezTo>
                      <a:pt x="10070" y="7"/>
                      <a:pt x="10069" y="6"/>
                      <a:pt x="10069" y="5"/>
                    </a:cubicBezTo>
                    <a:cubicBezTo>
                      <a:pt x="10069" y="3"/>
                      <a:pt x="10070" y="3"/>
                      <a:pt x="10071" y="3"/>
                    </a:cubicBezTo>
                    <a:close/>
                    <a:moveTo>
                      <a:pt x="10079" y="3"/>
                    </a:moveTo>
                    <a:lnTo>
                      <a:pt x="10079" y="3"/>
                    </a:lnTo>
                    <a:cubicBezTo>
                      <a:pt x="10080" y="3"/>
                      <a:pt x="10081" y="3"/>
                      <a:pt x="10081" y="5"/>
                    </a:cubicBezTo>
                    <a:cubicBezTo>
                      <a:pt x="10081" y="6"/>
                      <a:pt x="10080" y="7"/>
                      <a:pt x="10079" y="7"/>
                    </a:cubicBezTo>
                    <a:lnTo>
                      <a:pt x="10079" y="7"/>
                    </a:lnTo>
                    <a:cubicBezTo>
                      <a:pt x="10078" y="7"/>
                      <a:pt x="10077" y="6"/>
                      <a:pt x="10077" y="5"/>
                    </a:cubicBezTo>
                    <a:cubicBezTo>
                      <a:pt x="10077" y="3"/>
                      <a:pt x="10078" y="3"/>
                      <a:pt x="10079" y="3"/>
                    </a:cubicBezTo>
                    <a:close/>
                    <a:moveTo>
                      <a:pt x="10087" y="3"/>
                    </a:moveTo>
                    <a:lnTo>
                      <a:pt x="10087" y="3"/>
                    </a:lnTo>
                    <a:cubicBezTo>
                      <a:pt x="10088" y="3"/>
                      <a:pt x="10089" y="3"/>
                      <a:pt x="10089" y="5"/>
                    </a:cubicBezTo>
                    <a:cubicBezTo>
                      <a:pt x="10089" y="6"/>
                      <a:pt x="10088" y="7"/>
                      <a:pt x="10087" y="7"/>
                    </a:cubicBezTo>
                    <a:lnTo>
                      <a:pt x="10087" y="7"/>
                    </a:lnTo>
                    <a:cubicBezTo>
                      <a:pt x="10086" y="7"/>
                      <a:pt x="10085" y="6"/>
                      <a:pt x="10085" y="5"/>
                    </a:cubicBezTo>
                    <a:cubicBezTo>
                      <a:pt x="10085" y="3"/>
                      <a:pt x="10086" y="3"/>
                      <a:pt x="10087" y="3"/>
                    </a:cubicBezTo>
                    <a:close/>
                    <a:moveTo>
                      <a:pt x="10095" y="3"/>
                    </a:moveTo>
                    <a:lnTo>
                      <a:pt x="10095" y="3"/>
                    </a:lnTo>
                    <a:cubicBezTo>
                      <a:pt x="10096" y="3"/>
                      <a:pt x="10097" y="3"/>
                      <a:pt x="10097" y="5"/>
                    </a:cubicBezTo>
                    <a:cubicBezTo>
                      <a:pt x="10097" y="6"/>
                      <a:pt x="10096" y="7"/>
                      <a:pt x="10095" y="7"/>
                    </a:cubicBezTo>
                    <a:lnTo>
                      <a:pt x="10095" y="7"/>
                    </a:lnTo>
                    <a:cubicBezTo>
                      <a:pt x="10094" y="7"/>
                      <a:pt x="10093" y="6"/>
                      <a:pt x="10093" y="5"/>
                    </a:cubicBezTo>
                    <a:cubicBezTo>
                      <a:pt x="10093" y="3"/>
                      <a:pt x="10094" y="3"/>
                      <a:pt x="10095" y="3"/>
                    </a:cubicBezTo>
                    <a:close/>
                    <a:moveTo>
                      <a:pt x="10103" y="3"/>
                    </a:moveTo>
                    <a:lnTo>
                      <a:pt x="10103" y="3"/>
                    </a:lnTo>
                    <a:cubicBezTo>
                      <a:pt x="10104" y="3"/>
                      <a:pt x="10105" y="3"/>
                      <a:pt x="10105" y="5"/>
                    </a:cubicBezTo>
                    <a:cubicBezTo>
                      <a:pt x="10105" y="6"/>
                      <a:pt x="10104" y="7"/>
                      <a:pt x="10103" y="7"/>
                    </a:cubicBezTo>
                    <a:lnTo>
                      <a:pt x="10103" y="7"/>
                    </a:lnTo>
                    <a:cubicBezTo>
                      <a:pt x="10102" y="7"/>
                      <a:pt x="10101" y="6"/>
                      <a:pt x="10101" y="5"/>
                    </a:cubicBezTo>
                    <a:cubicBezTo>
                      <a:pt x="10101" y="3"/>
                      <a:pt x="10102" y="3"/>
                      <a:pt x="10103" y="3"/>
                    </a:cubicBezTo>
                    <a:close/>
                    <a:moveTo>
                      <a:pt x="10111" y="3"/>
                    </a:moveTo>
                    <a:lnTo>
                      <a:pt x="10111" y="3"/>
                    </a:lnTo>
                    <a:cubicBezTo>
                      <a:pt x="10112" y="3"/>
                      <a:pt x="10113" y="3"/>
                      <a:pt x="10113" y="5"/>
                    </a:cubicBezTo>
                    <a:cubicBezTo>
                      <a:pt x="10113" y="6"/>
                      <a:pt x="10112" y="7"/>
                      <a:pt x="10111" y="7"/>
                    </a:cubicBezTo>
                    <a:lnTo>
                      <a:pt x="10111" y="7"/>
                    </a:lnTo>
                    <a:cubicBezTo>
                      <a:pt x="10110" y="7"/>
                      <a:pt x="10109" y="6"/>
                      <a:pt x="10109" y="5"/>
                    </a:cubicBezTo>
                    <a:cubicBezTo>
                      <a:pt x="10109" y="3"/>
                      <a:pt x="10110" y="3"/>
                      <a:pt x="10111" y="3"/>
                    </a:cubicBezTo>
                    <a:close/>
                    <a:moveTo>
                      <a:pt x="10119" y="3"/>
                    </a:moveTo>
                    <a:lnTo>
                      <a:pt x="10119" y="3"/>
                    </a:lnTo>
                    <a:cubicBezTo>
                      <a:pt x="10120" y="3"/>
                      <a:pt x="10121" y="3"/>
                      <a:pt x="10121" y="5"/>
                    </a:cubicBezTo>
                    <a:cubicBezTo>
                      <a:pt x="10121" y="6"/>
                      <a:pt x="10120" y="7"/>
                      <a:pt x="10119" y="7"/>
                    </a:cubicBezTo>
                    <a:lnTo>
                      <a:pt x="10119" y="7"/>
                    </a:lnTo>
                    <a:cubicBezTo>
                      <a:pt x="10118" y="7"/>
                      <a:pt x="10117" y="6"/>
                      <a:pt x="10117" y="5"/>
                    </a:cubicBezTo>
                    <a:cubicBezTo>
                      <a:pt x="10117" y="3"/>
                      <a:pt x="10118" y="3"/>
                      <a:pt x="10119" y="3"/>
                    </a:cubicBezTo>
                    <a:close/>
                    <a:moveTo>
                      <a:pt x="10127" y="3"/>
                    </a:moveTo>
                    <a:lnTo>
                      <a:pt x="10127" y="3"/>
                    </a:lnTo>
                    <a:cubicBezTo>
                      <a:pt x="10128" y="3"/>
                      <a:pt x="10129" y="3"/>
                      <a:pt x="10129" y="5"/>
                    </a:cubicBezTo>
                    <a:cubicBezTo>
                      <a:pt x="10129" y="6"/>
                      <a:pt x="10128" y="7"/>
                      <a:pt x="10127" y="7"/>
                    </a:cubicBezTo>
                    <a:lnTo>
                      <a:pt x="10127" y="7"/>
                    </a:lnTo>
                    <a:cubicBezTo>
                      <a:pt x="10126" y="7"/>
                      <a:pt x="10125" y="6"/>
                      <a:pt x="10125" y="5"/>
                    </a:cubicBezTo>
                    <a:cubicBezTo>
                      <a:pt x="10125" y="3"/>
                      <a:pt x="10126" y="3"/>
                      <a:pt x="10127" y="3"/>
                    </a:cubicBezTo>
                    <a:close/>
                    <a:moveTo>
                      <a:pt x="10135" y="3"/>
                    </a:moveTo>
                    <a:lnTo>
                      <a:pt x="10135" y="3"/>
                    </a:lnTo>
                    <a:cubicBezTo>
                      <a:pt x="10136" y="3"/>
                      <a:pt x="10137" y="3"/>
                      <a:pt x="10137" y="5"/>
                    </a:cubicBezTo>
                    <a:cubicBezTo>
                      <a:pt x="10137" y="6"/>
                      <a:pt x="10136" y="7"/>
                      <a:pt x="10135" y="7"/>
                    </a:cubicBezTo>
                    <a:lnTo>
                      <a:pt x="10135" y="7"/>
                    </a:lnTo>
                    <a:cubicBezTo>
                      <a:pt x="10134" y="7"/>
                      <a:pt x="10133" y="6"/>
                      <a:pt x="10133" y="5"/>
                    </a:cubicBezTo>
                    <a:cubicBezTo>
                      <a:pt x="10133" y="3"/>
                      <a:pt x="10134" y="3"/>
                      <a:pt x="10135" y="3"/>
                    </a:cubicBezTo>
                    <a:close/>
                    <a:moveTo>
                      <a:pt x="10143" y="3"/>
                    </a:moveTo>
                    <a:lnTo>
                      <a:pt x="10143" y="3"/>
                    </a:lnTo>
                    <a:cubicBezTo>
                      <a:pt x="10144" y="3"/>
                      <a:pt x="10145" y="3"/>
                      <a:pt x="10145" y="5"/>
                    </a:cubicBezTo>
                    <a:cubicBezTo>
                      <a:pt x="10145" y="6"/>
                      <a:pt x="10144" y="7"/>
                      <a:pt x="10143" y="7"/>
                    </a:cubicBezTo>
                    <a:lnTo>
                      <a:pt x="10143" y="7"/>
                    </a:lnTo>
                    <a:cubicBezTo>
                      <a:pt x="10142" y="7"/>
                      <a:pt x="10141" y="6"/>
                      <a:pt x="10141" y="5"/>
                    </a:cubicBezTo>
                    <a:cubicBezTo>
                      <a:pt x="10141" y="3"/>
                      <a:pt x="10142" y="3"/>
                      <a:pt x="10143" y="3"/>
                    </a:cubicBezTo>
                    <a:close/>
                    <a:moveTo>
                      <a:pt x="10151" y="3"/>
                    </a:moveTo>
                    <a:lnTo>
                      <a:pt x="10151" y="3"/>
                    </a:lnTo>
                    <a:cubicBezTo>
                      <a:pt x="10152" y="3"/>
                      <a:pt x="10153" y="3"/>
                      <a:pt x="10153" y="5"/>
                    </a:cubicBezTo>
                    <a:cubicBezTo>
                      <a:pt x="10153" y="6"/>
                      <a:pt x="10152" y="7"/>
                      <a:pt x="10151" y="7"/>
                    </a:cubicBezTo>
                    <a:lnTo>
                      <a:pt x="10151" y="7"/>
                    </a:lnTo>
                    <a:cubicBezTo>
                      <a:pt x="10150" y="7"/>
                      <a:pt x="10149" y="6"/>
                      <a:pt x="10149" y="5"/>
                    </a:cubicBezTo>
                    <a:cubicBezTo>
                      <a:pt x="10149" y="3"/>
                      <a:pt x="10150" y="3"/>
                      <a:pt x="10151" y="3"/>
                    </a:cubicBezTo>
                    <a:close/>
                    <a:moveTo>
                      <a:pt x="10159" y="3"/>
                    </a:moveTo>
                    <a:lnTo>
                      <a:pt x="10159" y="3"/>
                    </a:lnTo>
                    <a:cubicBezTo>
                      <a:pt x="10160" y="3"/>
                      <a:pt x="10161" y="3"/>
                      <a:pt x="10161" y="5"/>
                    </a:cubicBezTo>
                    <a:cubicBezTo>
                      <a:pt x="10161" y="6"/>
                      <a:pt x="10160" y="7"/>
                      <a:pt x="10159" y="7"/>
                    </a:cubicBezTo>
                    <a:lnTo>
                      <a:pt x="10159" y="7"/>
                    </a:lnTo>
                    <a:cubicBezTo>
                      <a:pt x="10158" y="7"/>
                      <a:pt x="10157" y="6"/>
                      <a:pt x="10157" y="5"/>
                    </a:cubicBezTo>
                    <a:cubicBezTo>
                      <a:pt x="10157" y="3"/>
                      <a:pt x="10158" y="3"/>
                      <a:pt x="10159" y="3"/>
                    </a:cubicBezTo>
                    <a:close/>
                    <a:moveTo>
                      <a:pt x="10167" y="3"/>
                    </a:moveTo>
                    <a:lnTo>
                      <a:pt x="10167" y="3"/>
                    </a:lnTo>
                    <a:cubicBezTo>
                      <a:pt x="10168" y="3"/>
                      <a:pt x="10169" y="3"/>
                      <a:pt x="10169" y="5"/>
                    </a:cubicBezTo>
                    <a:cubicBezTo>
                      <a:pt x="10169" y="6"/>
                      <a:pt x="10168" y="7"/>
                      <a:pt x="10167" y="7"/>
                    </a:cubicBezTo>
                    <a:lnTo>
                      <a:pt x="10167" y="7"/>
                    </a:lnTo>
                    <a:cubicBezTo>
                      <a:pt x="10166" y="7"/>
                      <a:pt x="10165" y="6"/>
                      <a:pt x="10165" y="5"/>
                    </a:cubicBezTo>
                    <a:cubicBezTo>
                      <a:pt x="10165" y="3"/>
                      <a:pt x="10166" y="3"/>
                      <a:pt x="10167" y="3"/>
                    </a:cubicBezTo>
                    <a:close/>
                    <a:moveTo>
                      <a:pt x="10175" y="3"/>
                    </a:moveTo>
                    <a:lnTo>
                      <a:pt x="10175" y="3"/>
                    </a:lnTo>
                    <a:cubicBezTo>
                      <a:pt x="10176" y="3"/>
                      <a:pt x="10177" y="3"/>
                      <a:pt x="10177" y="5"/>
                    </a:cubicBezTo>
                    <a:cubicBezTo>
                      <a:pt x="10177" y="6"/>
                      <a:pt x="10176" y="7"/>
                      <a:pt x="10175" y="7"/>
                    </a:cubicBezTo>
                    <a:lnTo>
                      <a:pt x="10175" y="7"/>
                    </a:lnTo>
                    <a:cubicBezTo>
                      <a:pt x="10174" y="7"/>
                      <a:pt x="10173" y="6"/>
                      <a:pt x="10173" y="5"/>
                    </a:cubicBezTo>
                    <a:cubicBezTo>
                      <a:pt x="10173" y="3"/>
                      <a:pt x="10174" y="3"/>
                      <a:pt x="10175" y="3"/>
                    </a:cubicBezTo>
                    <a:close/>
                    <a:moveTo>
                      <a:pt x="10183" y="3"/>
                    </a:moveTo>
                    <a:lnTo>
                      <a:pt x="10183" y="3"/>
                    </a:lnTo>
                    <a:cubicBezTo>
                      <a:pt x="10184" y="3"/>
                      <a:pt x="10185" y="3"/>
                      <a:pt x="10185" y="5"/>
                    </a:cubicBezTo>
                    <a:cubicBezTo>
                      <a:pt x="10185" y="6"/>
                      <a:pt x="10184" y="7"/>
                      <a:pt x="10183" y="7"/>
                    </a:cubicBezTo>
                    <a:lnTo>
                      <a:pt x="10183" y="7"/>
                    </a:lnTo>
                    <a:cubicBezTo>
                      <a:pt x="10182" y="7"/>
                      <a:pt x="10181" y="6"/>
                      <a:pt x="10181" y="5"/>
                    </a:cubicBezTo>
                    <a:cubicBezTo>
                      <a:pt x="10181" y="3"/>
                      <a:pt x="10182" y="3"/>
                      <a:pt x="10183" y="3"/>
                    </a:cubicBezTo>
                    <a:close/>
                    <a:moveTo>
                      <a:pt x="10191" y="3"/>
                    </a:moveTo>
                    <a:lnTo>
                      <a:pt x="10191" y="3"/>
                    </a:lnTo>
                    <a:cubicBezTo>
                      <a:pt x="10192" y="3"/>
                      <a:pt x="10193" y="3"/>
                      <a:pt x="10193" y="5"/>
                    </a:cubicBezTo>
                    <a:cubicBezTo>
                      <a:pt x="10193" y="6"/>
                      <a:pt x="10192" y="7"/>
                      <a:pt x="10191" y="7"/>
                    </a:cubicBezTo>
                    <a:lnTo>
                      <a:pt x="10191" y="7"/>
                    </a:lnTo>
                    <a:cubicBezTo>
                      <a:pt x="10190" y="7"/>
                      <a:pt x="10189" y="6"/>
                      <a:pt x="10189" y="5"/>
                    </a:cubicBezTo>
                    <a:cubicBezTo>
                      <a:pt x="10189" y="3"/>
                      <a:pt x="10190" y="3"/>
                      <a:pt x="10191" y="3"/>
                    </a:cubicBezTo>
                    <a:close/>
                    <a:moveTo>
                      <a:pt x="10199" y="3"/>
                    </a:moveTo>
                    <a:lnTo>
                      <a:pt x="10199" y="3"/>
                    </a:lnTo>
                    <a:cubicBezTo>
                      <a:pt x="10200" y="3"/>
                      <a:pt x="10201" y="3"/>
                      <a:pt x="10201" y="5"/>
                    </a:cubicBezTo>
                    <a:cubicBezTo>
                      <a:pt x="10201" y="6"/>
                      <a:pt x="10200" y="7"/>
                      <a:pt x="10199" y="7"/>
                    </a:cubicBezTo>
                    <a:lnTo>
                      <a:pt x="10199" y="7"/>
                    </a:lnTo>
                    <a:cubicBezTo>
                      <a:pt x="10198" y="7"/>
                      <a:pt x="10197" y="6"/>
                      <a:pt x="10197" y="5"/>
                    </a:cubicBezTo>
                    <a:cubicBezTo>
                      <a:pt x="10197" y="3"/>
                      <a:pt x="10198" y="3"/>
                      <a:pt x="10199" y="3"/>
                    </a:cubicBezTo>
                    <a:close/>
                    <a:moveTo>
                      <a:pt x="10207" y="3"/>
                    </a:moveTo>
                    <a:lnTo>
                      <a:pt x="10207" y="3"/>
                    </a:lnTo>
                    <a:cubicBezTo>
                      <a:pt x="10208" y="3"/>
                      <a:pt x="10209" y="4"/>
                      <a:pt x="10209" y="5"/>
                    </a:cubicBezTo>
                    <a:cubicBezTo>
                      <a:pt x="10209" y="6"/>
                      <a:pt x="10208" y="7"/>
                      <a:pt x="10207" y="7"/>
                    </a:cubicBezTo>
                    <a:lnTo>
                      <a:pt x="10207" y="7"/>
                    </a:lnTo>
                    <a:cubicBezTo>
                      <a:pt x="10206" y="7"/>
                      <a:pt x="10205" y="6"/>
                      <a:pt x="10205" y="5"/>
                    </a:cubicBezTo>
                    <a:cubicBezTo>
                      <a:pt x="10205" y="4"/>
                      <a:pt x="10206" y="3"/>
                      <a:pt x="10207" y="3"/>
                    </a:cubicBezTo>
                    <a:close/>
                    <a:moveTo>
                      <a:pt x="10215" y="3"/>
                    </a:moveTo>
                    <a:lnTo>
                      <a:pt x="10215" y="3"/>
                    </a:lnTo>
                    <a:cubicBezTo>
                      <a:pt x="10216" y="3"/>
                      <a:pt x="10217" y="4"/>
                      <a:pt x="10217" y="5"/>
                    </a:cubicBezTo>
                    <a:cubicBezTo>
                      <a:pt x="10217" y="6"/>
                      <a:pt x="10216" y="7"/>
                      <a:pt x="10215" y="7"/>
                    </a:cubicBezTo>
                    <a:lnTo>
                      <a:pt x="10215" y="7"/>
                    </a:lnTo>
                    <a:cubicBezTo>
                      <a:pt x="10214" y="7"/>
                      <a:pt x="10213" y="6"/>
                      <a:pt x="10213" y="5"/>
                    </a:cubicBezTo>
                    <a:cubicBezTo>
                      <a:pt x="10213" y="4"/>
                      <a:pt x="10214" y="3"/>
                      <a:pt x="10215" y="3"/>
                    </a:cubicBezTo>
                    <a:close/>
                    <a:moveTo>
                      <a:pt x="10223" y="3"/>
                    </a:moveTo>
                    <a:lnTo>
                      <a:pt x="10223" y="3"/>
                    </a:lnTo>
                    <a:cubicBezTo>
                      <a:pt x="10224" y="3"/>
                      <a:pt x="10225" y="4"/>
                      <a:pt x="10225" y="5"/>
                    </a:cubicBezTo>
                    <a:cubicBezTo>
                      <a:pt x="10225" y="6"/>
                      <a:pt x="10224" y="7"/>
                      <a:pt x="10223" y="7"/>
                    </a:cubicBezTo>
                    <a:lnTo>
                      <a:pt x="10223" y="7"/>
                    </a:lnTo>
                    <a:cubicBezTo>
                      <a:pt x="10222" y="7"/>
                      <a:pt x="10221" y="6"/>
                      <a:pt x="10221" y="5"/>
                    </a:cubicBezTo>
                    <a:cubicBezTo>
                      <a:pt x="10221" y="4"/>
                      <a:pt x="10222" y="3"/>
                      <a:pt x="10223" y="3"/>
                    </a:cubicBezTo>
                    <a:close/>
                    <a:moveTo>
                      <a:pt x="10231" y="3"/>
                    </a:moveTo>
                    <a:lnTo>
                      <a:pt x="10231" y="3"/>
                    </a:lnTo>
                    <a:cubicBezTo>
                      <a:pt x="10232" y="3"/>
                      <a:pt x="10233" y="4"/>
                      <a:pt x="10233" y="5"/>
                    </a:cubicBezTo>
                    <a:cubicBezTo>
                      <a:pt x="10233" y="6"/>
                      <a:pt x="10232" y="7"/>
                      <a:pt x="10231" y="7"/>
                    </a:cubicBezTo>
                    <a:lnTo>
                      <a:pt x="10231" y="7"/>
                    </a:lnTo>
                    <a:cubicBezTo>
                      <a:pt x="10230" y="7"/>
                      <a:pt x="10229" y="6"/>
                      <a:pt x="10229" y="5"/>
                    </a:cubicBezTo>
                    <a:cubicBezTo>
                      <a:pt x="10229" y="4"/>
                      <a:pt x="10230" y="3"/>
                      <a:pt x="10231" y="3"/>
                    </a:cubicBezTo>
                    <a:close/>
                    <a:moveTo>
                      <a:pt x="10239" y="3"/>
                    </a:moveTo>
                    <a:lnTo>
                      <a:pt x="10239" y="3"/>
                    </a:lnTo>
                    <a:cubicBezTo>
                      <a:pt x="10240" y="3"/>
                      <a:pt x="10241" y="4"/>
                      <a:pt x="10241" y="5"/>
                    </a:cubicBezTo>
                    <a:cubicBezTo>
                      <a:pt x="10241" y="6"/>
                      <a:pt x="10240" y="7"/>
                      <a:pt x="10239" y="7"/>
                    </a:cubicBezTo>
                    <a:lnTo>
                      <a:pt x="10239" y="7"/>
                    </a:lnTo>
                    <a:cubicBezTo>
                      <a:pt x="10238" y="7"/>
                      <a:pt x="10237" y="6"/>
                      <a:pt x="10237" y="5"/>
                    </a:cubicBezTo>
                    <a:cubicBezTo>
                      <a:pt x="10237" y="4"/>
                      <a:pt x="10238" y="3"/>
                      <a:pt x="10239" y="3"/>
                    </a:cubicBezTo>
                    <a:close/>
                    <a:moveTo>
                      <a:pt x="10247" y="3"/>
                    </a:moveTo>
                    <a:lnTo>
                      <a:pt x="10247" y="3"/>
                    </a:lnTo>
                    <a:cubicBezTo>
                      <a:pt x="10248" y="3"/>
                      <a:pt x="10249" y="4"/>
                      <a:pt x="10249" y="5"/>
                    </a:cubicBezTo>
                    <a:cubicBezTo>
                      <a:pt x="10249" y="6"/>
                      <a:pt x="10248" y="7"/>
                      <a:pt x="10247" y="7"/>
                    </a:cubicBezTo>
                    <a:lnTo>
                      <a:pt x="10247" y="7"/>
                    </a:lnTo>
                    <a:cubicBezTo>
                      <a:pt x="10246" y="7"/>
                      <a:pt x="10245" y="6"/>
                      <a:pt x="10245" y="5"/>
                    </a:cubicBezTo>
                    <a:cubicBezTo>
                      <a:pt x="10245" y="4"/>
                      <a:pt x="10246" y="3"/>
                      <a:pt x="10247" y="3"/>
                    </a:cubicBezTo>
                    <a:close/>
                    <a:moveTo>
                      <a:pt x="10255" y="3"/>
                    </a:moveTo>
                    <a:lnTo>
                      <a:pt x="10255" y="3"/>
                    </a:lnTo>
                    <a:cubicBezTo>
                      <a:pt x="10256" y="3"/>
                      <a:pt x="10257" y="4"/>
                      <a:pt x="10257" y="5"/>
                    </a:cubicBezTo>
                    <a:cubicBezTo>
                      <a:pt x="10257" y="6"/>
                      <a:pt x="10256" y="7"/>
                      <a:pt x="10255" y="7"/>
                    </a:cubicBezTo>
                    <a:lnTo>
                      <a:pt x="10255" y="7"/>
                    </a:lnTo>
                    <a:cubicBezTo>
                      <a:pt x="10254" y="7"/>
                      <a:pt x="10253" y="6"/>
                      <a:pt x="10253" y="5"/>
                    </a:cubicBezTo>
                    <a:cubicBezTo>
                      <a:pt x="10253" y="4"/>
                      <a:pt x="10254" y="3"/>
                      <a:pt x="10255" y="3"/>
                    </a:cubicBezTo>
                    <a:close/>
                    <a:moveTo>
                      <a:pt x="10263" y="3"/>
                    </a:moveTo>
                    <a:lnTo>
                      <a:pt x="10263" y="3"/>
                    </a:lnTo>
                    <a:cubicBezTo>
                      <a:pt x="10264" y="3"/>
                      <a:pt x="10265" y="4"/>
                      <a:pt x="10265" y="5"/>
                    </a:cubicBezTo>
                    <a:cubicBezTo>
                      <a:pt x="10265" y="6"/>
                      <a:pt x="10264" y="7"/>
                      <a:pt x="10263" y="7"/>
                    </a:cubicBezTo>
                    <a:lnTo>
                      <a:pt x="10263" y="7"/>
                    </a:lnTo>
                    <a:cubicBezTo>
                      <a:pt x="10262" y="7"/>
                      <a:pt x="10261" y="6"/>
                      <a:pt x="10261" y="5"/>
                    </a:cubicBezTo>
                    <a:cubicBezTo>
                      <a:pt x="10261" y="4"/>
                      <a:pt x="10262" y="3"/>
                      <a:pt x="10263" y="3"/>
                    </a:cubicBezTo>
                    <a:close/>
                    <a:moveTo>
                      <a:pt x="10271" y="3"/>
                    </a:moveTo>
                    <a:lnTo>
                      <a:pt x="10271" y="3"/>
                    </a:lnTo>
                    <a:cubicBezTo>
                      <a:pt x="10272" y="3"/>
                      <a:pt x="10273" y="4"/>
                      <a:pt x="10273" y="5"/>
                    </a:cubicBezTo>
                    <a:cubicBezTo>
                      <a:pt x="10273" y="6"/>
                      <a:pt x="10272" y="7"/>
                      <a:pt x="10271" y="7"/>
                    </a:cubicBezTo>
                    <a:lnTo>
                      <a:pt x="10271" y="7"/>
                    </a:lnTo>
                    <a:cubicBezTo>
                      <a:pt x="10270" y="7"/>
                      <a:pt x="10269" y="6"/>
                      <a:pt x="10269" y="5"/>
                    </a:cubicBezTo>
                    <a:cubicBezTo>
                      <a:pt x="10269" y="4"/>
                      <a:pt x="10270" y="3"/>
                      <a:pt x="10271" y="3"/>
                    </a:cubicBezTo>
                    <a:close/>
                    <a:moveTo>
                      <a:pt x="10279" y="3"/>
                    </a:moveTo>
                    <a:lnTo>
                      <a:pt x="10279" y="3"/>
                    </a:lnTo>
                    <a:cubicBezTo>
                      <a:pt x="10280" y="3"/>
                      <a:pt x="10281" y="4"/>
                      <a:pt x="10281" y="5"/>
                    </a:cubicBezTo>
                    <a:cubicBezTo>
                      <a:pt x="10281" y="6"/>
                      <a:pt x="10280" y="7"/>
                      <a:pt x="10279" y="7"/>
                    </a:cubicBezTo>
                    <a:lnTo>
                      <a:pt x="10279" y="7"/>
                    </a:lnTo>
                    <a:cubicBezTo>
                      <a:pt x="10278" y="7"/>
                      <a:pt x="10277" y="6"/>
                      <a:pt x="10277" y="5"/>
                    </a:cubicBezTo>
                    <a:cubicBezTo>
                      <a:pt x="10277" y="4"/>
                      <a:pt x="10278" y="3"/>
                      <a:pt x="10279" y="3"/>
                    </a:cubicBezTo>
                    <a:close/>
                    <a:moveTo>
                      <a:pt x="10287" y="3"/>
                    </a:moveTo>
                    <a:lnTo>
                      <a:pt x="10287" y="3"/>
                    </a:lnTo>
                    <a:cubicBezTo>
                      <a:pt x="10288" y="3"/>
                      <a:pt x="10289" y="4"/>
                      <a:pt x="10289" y="5"/>
                    </a:cubicBezTo>
                    <a:cubicBezTo>
                      <a:pt x="10289" y="6"/>
                      <a:pt x="10288" y="7"/>
                      <a:pt x="10287" y="7"/>
                    </a:cubicBezTo>
                    <a:lnTo>
                      <a:pt x="10287" y="7"/>
                    </a:lnTo>
                    <a:cubicBezTo>
                      <a:pt x="10286" y="7"/>
                      <a:pt x="10285" y="6"/>
                      <a:pt x="10285" y="5"/>
                    </a:cubicBezTo>
                    <a:cubicBezTo>
                      <a:pt x="10285" y="4"/>
                      <a:pt x="10286" y="3"/>
                      <a:pt x="10287" y="3"/>
                    </a:cubicBezTo>
                    <a:close/>
                    <a:moveTo>
                      <a:pt x="10295" y="3"/>
                    </a:moveTo>
                    <a:lnTo>
                      <a:pt x="10295" y="3"/>
                    </a:lnTo>
                    <a:cubicBezTo>
                      <a:pt x="10296" y="3"/>
                      <a:pt x="10297" y="4"/>
                      <a:pt x="10297" y="5"/>
                    </a:cubicBezTo>
                    <a:cubicBezTo>
                      <a:pt x="10297" y="6"/>
                      <a:pt x="10296" y="7"/>
                      <a:pt x="10295" y="7"/>
                    </a:cubicBezTo>
                    <a:lnTo>
                      <a:pt x="10295" y="7"/>
                    </a:lnTo>
                    <a:cubicBezTo>
                      <a:pt x="10294" y="7"/>
                      <a:pt x="10293" y="6"/>
                      <a:pt x="10293" y="5"/>
                    </a:cubicBezTo>
                    <a:cubicBezTo>
                      <a:pt x="10293" y="4"/>
                      <a:pt x="10294" y="3"/>
                      <a:pt x="10295" y="3"/>
                    </a:cubicBezTo>
                    <a:close/>
                    <a:moveTo>
                      <a:pt x="10303" y="3"/>
                    </a:moveTo>
                    <a:lnTo>
                      <a:pt x="10303" y="3"/>
                    </a:lnTo>
                    <a:cubicBezTo>
                      <a:pt x="10304" y="3"/>
                      <a:pt x="10305" y="4"/>
                      <a:pt x="10305" y="5"/>
                    </a:cubicBezTo>
                    <a:cubicBezTo>
                      <a:pt x="10305" y="6"/>
                      <a:pt x="10304" y="7"/>
                      <a:pt x="10303" y="7"/>
                    </a:cubicBezTo>
                    <a:lnTo>
                      <a:pt x="10303" y="7"/>
                    </a:lnTo>
                    <a:cubicBezTo>
                      <a:pt x="10302" y="7"/>
                      <a:pt x="10301" y="6"/>
                      <a:pt x="10301" y="5"/>
                    </a:cubicBezTo>
                    <a:cubicBezTo>
                      <a:pt x="10301" y="4"/>
                      <a:pt x="10302" y="3"/>
                      <a:pt x="10303" y="3"/>
                    </a:cubicBezTo>
                    <a:close/>
                    <a:moveTo>
                      <a:pt x="10311" y="3"/>
                    </a:moveTo>
                    <a:lnTo>
                      <a:pt x="10311" y="3"/>
                    </a:lnTo>
                    <a:cubicBezTo>
                      <a:pt x="10312" y="3"/>
                      <a:pt x="10313" y="4"/>
                      <a:pt x="10313" y="5"/>
                    </a:cubicBezTo>
                    <a:cubicBezTo>
                      <a:pt x="10313" y="6"/>
                      <a:pt x="10312" y="7"/>
                      <a:pt x="10311" y="7"/>
                    </a:cubicBezTo>
                    <a:lnTo>
                      <a:pt x="10311" y="7"/>
                    </a:lnTo>
                    <a:cubicBezTo>
                      <a:pt x="10310" y="7"/>
                      <a:pt x="10309" y="6"/>
                      <a:pt x="10309" y="5"/>
                    </a:cubicBezTo>
                    <a:cubicBezTo>
                      <a:pt x="10309" y="4"/>
                      <a:pt x="10310" y="3"/>
                      <a:pt x="10311" y="3"/>
                    </a:cubicBezTo>
                    <a:close/>
                    <a:moveTo>
                      <a:pt x="10319" y="3"/>
                    </a:moveTo>
                    <a:lnTo>
                      <a:pt x="10319" y="3"/>
                    </a:lnTo>
                    <a:cubicBezTo>
                      <a:pt x="10320" y="3"/>
                      <a:pt x="10321" y="4"/>
                      <a:pt x="10321" y="5"/>
                    </a:cubicBezTo>
                    <a:cubicBezTo>
                      <a:pt x="10321" y="6"/>
                      <a:pt x="10320" y="7"/>
                      <a:pt x="10319" y="7"/>
                    </a:cubicBezTo>
                    <a:lnTo>
                      <a:pt x="10319" y="7"/>
                    </a:lnTo>
                    <a:cubicBezTo>
                      <a:pt x="10318" y="7"/>
                      <a:pt x="10317" y="6"/>
                      <a:pt x="10317" y="5"/>
                    </a:cubicBezTo>
                    <a:cubicBezTo>
                      <a:pt x="10317" y="4"/>
                      <a:pt x="10318" y="3"/>
                      <a:pt x="10319" y="3"/>
                    </a:cubicBezTo>
                    <a:close/>
                    <a:moveTo>
                      <a:pt x="10327" y="3"/>
                    </a:moveTo>
                    <a:lnTo>
                      <a:pt x="10327" y="3"/>
                    </a:lnTo>
                    <a:cubicBezTo>
                      <a:pt x="10328" y="3"/>
                      <a:pt x="10329" y="4"/>
                      <a:pt x="10329" y="5"/>
                    </a:cubicBezTo>
                    <a:cubicBezTo>
                      <a:pt x="10329" y="6"/>
                      <a:pt x="10328" y="7"/>
                      <a:pt x="10327" y="7"/>
                    </a:cubicBezTo>
                    <a:lnTo>
                      <a:pt x="10327" y="7"/>
                    </a:lnTo>
                    <a:cubicBezTo>
                      <a:pt x="10326" y="7"/>
                      <a:pt x="10325" y="6"/>
                      <a:pt x="10325" y="5"/>
                    </a:cubicBezTo>
                    <a:cubicBezTo>
                      <a:pt x="10325" y="4"/>
                      <a:pt x="10326" y="3"/>
                      <a:pt x="10327" y="3"/>
                    </a:cubicBezTo>
                    <a:close/>
                    <a:moveTo>
                      <a:pt x="10335" y="3"/>
                    </a:moveTo>
                    <a:lnTo>
                      <a:pt x="10335" y="3"/>
                    </a:lnTo>
                    <a:cubicBezTo>
                      <a:pt x="10336" y="3"/>
                      <a:pt x="10337" y="4"/>
                      <a:pt x="10337" y="5"/>
                    </a:cubicBezTo>
                    <a:cubicBezTo>
                      <a:pt x="10337" y="6"/>
                      <a:pt x="10336" y="7"/>
                      <a:pt x="10335" y="7"/>
                    </a:cubicBezTo>
                    <a:lnTo>
                      <a:pt x="10335" y="7"/>
                    </a:lnTo>
                    <a:cubicBezTo>
                      <a:pt x="10334" y="7"/>
                      <a:pt x="10333" y="6"/>
                      <a:pt x="10333" y="5"/>
                    </a:cubicBezTo>
                    <a:cubicBezTo>
                      <a:pt x="10333" y="4"/>
                      <a:pt x="10334" y="3"/>
                      <a:pt x="10335" y="3"/>
                    </a:cubicBezTo>
                    <a:close/>
                    <a:moveTo>
                      <a:pt x="10343" y="3"/>
                    </a:moveTo>
                    <a:lnTo>
                      <a:pt x="10343" y="3"/>
                    </a:lnTo>
                    <a:cubicBezTo>
                      <a:pt x="10344" y="3"/>
                      <a:pt x="10345" y="4"/>
                      <a:pt x="10345" y="5"/>
                    </a:cubicBezTo>
                    <a:cubicBezTo>
                      <a:pt x="10345" y="6"/>
                      <a:pt x="10344" y="7"/>
                      <a:pt x="10343" y="7"/>
                    </a:cubicBezTo>
                    <a:lnTo>
                      <a:pt x="10343" y="7"/>
                    </a:lnTo>
                    <a:cubicBezTo>
                      <a:pt x="10342" y="7"/>
                      <a:pt x="10341" y="6"/>
                      <a:pt x="10341" y="5"/>
                    </a:cubicBezTo>
                    <a:cubicBezTo>
                      <a:pt x="10341" y="4"/>
                      <a:pt x="10342" y="3"/>
                      <a:pt x="10343" y="3"/>
                    </a:cubicBezTo>
                    <a:close/>
                    <a:moveTo>
                      <a:pt x="10351" y="3"/>
                    </a:moveTo>
                    <a:lnTo>
                      <a:pt x="10351" y="3"/>
                    </a:lnTo>
                    <a:cubicBezTo>
                      <a:pt x="10352" y="3"/>
                      <a:pt x="10353" y="4"/>
                      <a:pt x="10353" y="5"/>
                    </a:cubicBezTo>
                    <a:cubicBezTo>
                      <a:pt x="10353" y="6"/>
                      <a:pt x="10352" y="7"/>
                      <a:pt x="10351" y="7"/>
                    </a:cubicBezTo>
                    <a:lnTo>
                      <a:pt x="10351" y="7"/>
                    </a:lnTo>
                    <a:cubicBezTo>
                      <a:pt x="10350" y="7"/>
                      <a:pt x="10349" y="6"/>
                      <a:pt x="10349" y="5"/>
                    </a:cubicBezTo>
                    <a:cubicBezTo>
                      <a:pt x="10349" y="4"/>
                      <a:pt x="10350" y="3"/>
                      <a:pt x="10351" y="3"/>
                    </a:cubicBezTo>
                    <a:close/>
                    <a:moveTo>
                      <a:pt x="10359" y="3"/>
                    </a:moveTo>
                    <a:lnTo>
                      <a:pt x="10359" y="3"/>
                    </a:lnTo>
                    <a:cubicBezTo>
                      <a:pt x="10360" y="3"/>
                      <a:pt x="10361" y="4"/>
                      <a:pt x="10361" y="5"/>
                    </a:cubicBezTo>
                    <a:cubicBezTo>
                      <a:pt x="10361" y="6"/>
                      <a:pt x="10360" y="7"/>
                      <a:pt x="10359" y="7"/>
                    </a:cubicBezTo>
                    <a:lnTo>
                      <a:pt x="10359" y="7"/>
                    </a:lnTo>
                    <a:cubicBezTo>
                      <a:pt x="10358" y="7"/>
                      <a:pt x="10357" y="6"/>
                      <a:pt x="10357" y="5"/>
                    </a:cubicBezTo>
                    <a:cubicBezTo>
                      <a:pt x="10357" y="4"/>
                      <a:pt x="10358" y="3"/>
                      <a:pt x="10359" y="3"/>
                    </a:cubicBezTo>
                    <a:close/>
                    <a:moveTo>
                      <a:pt x="10367" y="3"/>
                    </a:moveTo>
                    <a:lnTo>
                      <a:pt x="10367" y="3"/>
                    </a:lnTo>
                    <a:cubicBezTo>
                      <a:pt x="10368" y="3"/>
                      <a:pt x="10369" y="4"/>
                      <a:pt x="10369" y="5"/>
                    </a:cubicBezTo>
                    <a:cubicBezTo>
                      <a:pt x="10369" y="6"/>
                      <a:pt x="10368" y="7"/>
                      <a:pt x="10367" y="7"/>
                    </a:cubicBezTo>
                    <a:lnTo>
                      <a:pt x="10367" y="7"/>
                    </a:lnTo>
                    <a:cubicBezTo>
                      <a:pt x="10366" y="7"/>
                      <a:pt x="10365" y="6"/>
                      <a:pt x="10365" y="5"/>
                    </a:cubicBezTo>
                    <a:cubicBezTo>
                      <a:pt x="10365" y="4"/>
                      <a:pt x="10366" y="3"/>
                      <a:pt x="10367" y="3"/>
                    </a:cubicBezTo>
                    <a:close/>
                    <a:moveTo>
                      <a:pt x="10375" y="3"/>
                    </a:moveTo>
                    <a:lnTo>
                      <a:pt x="10375" y="3"/>
                    </a:lnTo>
                    <a:cubicBezTo>
                      <a:pt x="10376" y="3"/>
                      <a:pt x="10377" y="4"/>
                      <a:pt x="10377" y="5"/>
                    </a:cubicBezTo>
                    <a:cubicBezTo>
                      <a:pt x="10377" y="6"/>
                      <a:pt x="10376" y="7"/>
                      <a:pt x="10375" y="7"/>
                    </a:cubicBezTo>
                    <a:lnTo>
                      <a:pt x="10375" y="7"/>
                    </a:lnTo>
                    <a:cubicBezTo>
                      <a:pt x="10374" y="7"/>
                      <a:pt x="10373" y="6"/>
                      <a:pt x="10373" y="5"/>
                    </a:cubicBezTo>
                    <a:cubicBezTo>
                      <a:pt x="10373" y="4"/>
                      <a:pt x="10374" y="3"/>
                      <a:pt x="10375" y="3"/>
                    </a:cubicBezTo>
                    <a:close/>
                    <a:moveTo>
                      <a:pt x="10383" y="3"/>
                    </a:moveTo>
                    <a:lnTo>
                      <a:pt x="10383" y="3"/>
                    </a:lnTo>
                    <a:cubicBezTo>
                      <a:pt x="10384" y="3"/>
                      <a:pt x="10385" y="4"/>
                      <a:pt x="10385" y="5"/>
                    </a:cubicBezTo>
                    <a:cubicBezTo>
                      <a:pt x="10385" y="6"/>
                      <a:pt x="10384" y="7"/>
                      <a:pt x="10383" y="7"/>
                    </a:cubicBezTo>
                    <a:lnTo>
                      <a:pt x="10383" y="7"/>
                    </a:lnTo>
                    <a:cubicBezTo>
                      <a:pt x="10382" y="7"/>
                      <a:pt x="10381" y="6"/>
                      <a:pt x="10381" y="5"/>
                    </a:cubicBezTo>
                    <a:cubicBezTo>
                      <a:pt x="10381" y="4"/>
                      <a:pt x="10382" y="3"/>
                      <a:pt x="10383" y="3"/>
                    </a:cubicBezTo>
                    <a:close/>
                    <a:moveTo>
                      <a:pt x="10391" y="3"/>
                    </a:moveTo>
                    <a:lnTo>
                      <a:pt x="10391" y="3"/>
                    </a:lnTo>
                    <a:cubicBezTo>
                      <a:pt x="10392" y="3"/>
                      <a:pt x="10393" y="4"/>
                      <a:pt x="10393" y="5"/>
                    </a:cubicBezTo>
                    <a:cubicBezTo>
                      <a:pt x="10393" y="6"/>
                      <a:pt x="10392" y="7"/>
                      <a:pt x="10391" y="7"/>
                    </a:cubicBezTo>
                    <a:lnTo>
                      <a:pt x="10391" y="7"/>
                    </a:lnTo>
                    <a:cubicBezTo>
                      <a:pt x="10390" y="7"/>
                      <a:pt x="10389" y="6"/>
                      <a:pt x="10389" y="5"/>
                    </a:cubicBezTo>
                    <a:cubicBezTo>
                      <a:pt x="10389" y="4"/>
                      <a:pt x="10390" y="3"/>
                      <a:pt x="10391" y="3"/>
                    </a:cubicBezTo>
                    <a:close/>
                    <a:moveTo>
                      <a:pt x="10399" y="3"/>
                    </a:moveTo>
                    <a:lnTo>
                      <a:pt x="10399" y="3"/>
                    </a:lnTo>
                    <a:cubicBezTo>
                      <a:pt x="10400" y="3"/>
                      <a:pt x="10401" y="4"/>
                      <a:pt x="10401" y="5"/>
                    </a:cubicBezTo>
                    <a:cubicBezTo>
                      <a:pt x="10401" y="6"/>
                      <a:pt x="10400" y="7"/>
                      <a:pt x="10399" y="7"/>
                    </a:cubicBezTo>
                    <a:lnTo>
                      <a:pt x="10399" y="7"/>
                    </a:lnTo>
                    <a:cubicBezTo>
                      <a:pt x="10398" y="7"/>
                      <a:pt x="10397" y="6"/>
                      <a:pt x="10397" y="5"/>
                    </a:cubicBezTo>
                    <a:cubicBezTo>
                      <a:pt x="10397" y="4"/>
                      <a:pt x="10398" y="3"/>
                      <a:pt x="10399" y="3"/>
                    </a:cubicBezTo>
                    <a:close/>
                    <a:moveTo>
                      <a:pt x="10407" y="3"/>
                    </a:moveTo>
                    <a:lnTo>
                      <a:pt x="10407" y="3"/>
                    </a:lnTo>
                    <a:cubicBezTo>
                      <a:pt x="10408" y="3"/>
                      <a:pt x="10409" y="4"/>
                      <a:pt x="10409" y="5"/>
                    </a:cubicBezTo>
                    <a:cubicBezTo>
                      <a:pt x="10409" y="6"/>
                      <a:pt x="10408" y="7"/>
                      <a:pt x="10407" y="7"/>
                    </a:cubicBezTo>
                    <a:lnTo>
                      <a:pt x="10407" y="7"/>
                    </a:lnTo>
                    <a:cubicBezTo>
                      <a:pt x="10406" y="7"/>
                      <a:pt x="10405" y="6"/>
                      <a:pt x="10405" y="5"/>
                    </a:cubicBezTo>
                    <a:cubicBezTo>
                      <a:pt x="10405" y="4"/>
                      <a:pt x="10406" y="3"/>
                      <a:pt x="10407" y="3"/>
                    </a:cubicBezTo>
                    <a:close/>
                    <a:moveTo>
                      <a:pt x="10415" y="3"/>
                    </a:moveTo>
                    <a:lnTo>
                      <a:pt x="10415" y="3"/>
                    </a:lnTo>
                    <a:cubicBezTo>
                      <a:pt x="10416" y="3"/>
                      <a:pt x="10417" y="4"/>
                      <a:pt x="10417" y="5"/>
                    </a:cubicBezTo>
                    <a:cubicBezTo>
                      <a:pt x="10417" y="6"/>
                      <a:pt x="10416" y="7"/>
                      <a:pt x="10415" y="7"/>
                    </a:cubicBezTo>
                    <a:lnTo>
                      <a:pt x="10415" y="7"/>
                    </a:lnTo>
                    <a:cubicBezTo>
                      <a:pt x="10414" y="7"/>
                      <a:pt x="10413" y="6"/>
                      <a:pt x="10413" y="5"/>
                    </a:cubicBezTo>
                    <a:cubicBezTo>
                      <a:pt x="10413" y="4"/>
                      <a:pt x="10414" y="3"/>
                      <a:pt x="10415" y="3"/>
                    </a:cubicBezTo>
                    <a:close/>
                    <a:moveTo>
                      <a:pt x="10423" y="3"/>
                    </a:moveTo>
                    <a:lnTo>
                      <a:pt x="10423" y="3"/>
                    </a:lnTo>
                    <a:cubicBezTo>
                      <a:pt x="10424" y="3"/>
                      <a:pt x="10425" y="4"/>
                      <a:pt x="10425" y="5"/>
                    </a:cubicBezTo>
                    <a:cubicBezTo>
                      <a:pt x="10425" y="6"/>
                      <a:pt x="10424" y="7"/>
                      <a:pt x="10423" y="7"/>
                    </a:cubicBezTo>
                    <a:lnTo>
                      <a:pt x="10423" y="7"/>
                    </a:lnTo>
                    <a:cubicBezTo>
                      <a:pt x="10422" y="7"/>
                      <a:pt x="10421" y="6"/>
                      <a:pt x="10421" y="5"/>
                    </a:cubicBezTo>
                    <a:cubicBezTo>
                      <a:pt x="10421" y="4"/>
                      <a:pt x="10422" y="3"/>
                      <a:pt x="10423" y="3"/>
                    </a:cubicBezTo>
                    <a:close/>
                    <a:moveTo>
                      <a:pt x="10431" y="3"/>
                    </a:moveTo>
                    <a:lnTo>
                      <a:pt x="10431" y="3"/>
                    </a:lnTo>
                    <a:cubicBezTo>
                      <a:pt x="10432" y="3"/>
                      <a:pt x="10433" y="4"/>
                      <a:pt x="10433" y="5"/>
                    </a:cubicBezTo>
                    <a:cubicBezTo>
                      <a:pt x="10433" y="6"/>
                      <a:pt x="10432" y="7"/>
                      <a:pt x="10431" y="7"/>
                    </a:cubicBezTo>
                    <a:lnTo>
                      <a:pt x="10431" y="7"/>
                    </a:lnTo>
                    <a:cubicBezTo>
                      <a:pt x="10430" y="7"/>
                      <a:pt x="10429" y="6"/>
                      <a:pt x="10429" y="5"/>
                    </a:cubicBezTo>
                    <a:cubicBezTo>
                      <a:pt x="10429" y="4"/>
                      <a:pt x="10430" y="3"/>
                      <a:pt x="10431" y="3"/>
                    </a:cubicBezTo>
                    <a:close/>
                    <a:moveTo>
                      <a:pt x="10439" y="3"/>
                    </a:moveTo>
                    <a:lnTo>
                      <a:pt x="10439" y="3"/>
                    </a:lnTo>
                    <a:cubicBezTo>
                      <a:pt x="10440" y="3"/>
                      <a:pt x="10441" y="4"/>
                      <a:pt x="10441" y="5"/>
                    </a:cubicBezTo>
                    <a:cubicBezTo>
                      <a:pt x="10441" y="6"/>
                      <a:pt x="10440" y="7"/>
                      <a:pt x="10439" y="7"/>
                    </a:cubicBezTo>
                    <a:lnTo>
                      <a:pt x="10439" y="7"/>
                    </a:lnTo>
                    <a:cubicBezTo>
                      <a:pt x="10438" y="7"/>
                      <a:pt x="10437" y="6"/>
                      <a:pt x="10437" y="5"/>
                    </a:cubicBezTo>
                    <a:cubicBezTo>
                      <a:pt x="10437" y="4"/>
                      <a:pt x="10438" y="3"/>
                      <a:pt x="10439" y="3"/>
                    </a:cubicBezTo>
                    <a:close/>
                    <a:moveTo>
                      <a:pt x="10447" y="3"/>
                    </a:moveTo>
                    <a:lnTo>
                      <a:pt x="10447" y="3"/>
                    </a:lnTo>
                    <a:cubicBezTo>
                      <a:pt x="10448" y="3"/>
                      <a:pt x="10449" y="4"/>
                      <a:pt x="10449" y="5"/>
                    </a:cubicBezTo>
                    <a:cubicBezTo>
                      <a:pt x="10449" y="6"/>
                      <a:pt x="10448" y="7"/>
                      <a:pt x="10447" y="7"/>
                    </a:cubicBezTo>
                    <a:lnTo>
                      <a:pt x="10447" y="7"/>
                    </a:lnTo>
                    <a:cubicBezTo>
                      <a:pt x="10446" y="7"/>
                      <a:pt x="10445" y="6"/>
                      <a:pt x="10445" y="5"/>
                    </a:cubicBezTo>
                    <a:cubicBezTo>
                      <a:pt x="10445" y="4"/>
                      <a:pt x="10446" y="3"/>
                      <a:pt x="10447" y="3"/>
                    </a:cubicBezTo>
                    <a:close/>
                    <a:moveTo>
                      <a:pt x="10455" y="3"/>
                    </a:moveTo>
                    <a:lnTo>
                      <a:pt x="10455" y="3"/>
                    </a:lnTo>
                    <a:cubicBezTo>
                      <a:pt x="10456" y="3"/>
                      <a:pt x="10457" y="4"/>
                      <a:pt x="10457" y="5"/>
                    </a:cubicBezTo>
                    <a:cubicBezTo>
                      <a:pt x="10457" y="6"/>
                      <a:pt x="10456" y="7"/>
                      <a:pt x="10455" y="7"/>
                    </a:cubicBezTo>
                    <a:lnTo>
                      <a:pt x="10455" y="7"/>
                    </a:lnTo>
                    <a:cubicBezTo>
                      <a:pt x="10454" y="7"/>
                      <a:pt x="10453" y="6"/>
                      <a:pt x="10453" y="5"/>
                    </a:cubicBezTo>
                    <a:cubicBezTo>
                      <a:pt x="10453" y="4"/>
                      <a:pt x="10454" y="3"/>
                      <a:pt x="10455" y="3"/>
                    </a:cubicBezTo>
                    <a:close/>
                    <a:moveTo>
                      <a:pt x="10463" y="3"/>
                    </a:moveTo>
                    <a:lnTo>
                      <a:pt x="10463" y="3"/>
                    </a:lnTo>
                    <a:cubicBezTo>
                      <a:pt x="10464" y="3"/>
                      <a:pt x="10465" y="4"/>
                      <a:pt x="10465" y="5"/>
                    </a:cubicBezTo>
                    <a:cubicBezTo>
                      <a:pt x="10465" y="6"/>
                      <a:pt x="10464" y="7"/>
                      <a:pt x="10463" y="7"/>
                    </a:cubicBezTo>
                    <a:lnTo>
                      <a:pt x="10463" y="7"/>
                    </a:lnTo>
                    <a:cubicBezTo>
                      <a:pt x="10462" y="7"/>
                      <a:pt x="10461" y="6"/>
                      <a:pt x="10461" y="5"/>
                    </a:cubicBezTo>
                    <a:cubicBezTo>
                      <a:pt x="10461" y="4"/>
                      <a:pt x="10462" y="3"/>
                      <a:pt x="10463" y="3"/>
                    </a:cubicBezTo>
                    <a:close/>
                    <a:moveTo>
                      <a:pt x="10471" y="3"/>
                    </a:moveTo>
                    <a:lnTo>
                      <a:pt x="10471" y="3"/>
                    </a:lnTo>
                    <a:cubicBezTo>
                      <a:pt x="10472" y="3"/>
                      <a:pt x="10473" y="4"/>
                      <a:pt x="10473" y="5"/>
                    </a:cubicBezTo>
                    <a:cubicBezTo>
                      <a:pt x="10473" y="6"/>
                      <a:pt x="10472" y="7"/>
                      <a:pt x="10471" y="7"/>
                    </a:cubicBezTo>
                    <a:lnTo>
                      <a:pt x="10471" y="7"/>
                    </a:lnTo>
                    <a:cubicBezTo>
                      <a:pt x="10470" y="7"/>
                      <a:pt x="10469" y="6"/>
                      <a:pt x="10469" y="5"/>
                    </a:cubicBezTo>
                    <a:cubicBezTo>
                      <a:pt x="10469" y="4"/>
                      <a:pt x="10470" y="3"/>
                      <a:pt x="10471" y="3"/>
                    </a:cubicBezTo>
                    <a:close/>
                    <a:moveTo>
                      <a:pt x="10479" y="3"/>
                    </a:moveTo>
                    <a:lnTo>
                      <a:pt x="10479" y="3"/>
                    </a:lnTo>
                    <a:cubicBezTo>
                      <a:pt x="10480" y="3"/>
                      <a:pt x="10481" y="4"/>
                      <a:pt x="10481" y="5"/>
                    </a:cubicBezTo>
                    <a:cubicBezTo>
                      <a:pt x="10481" y="6"/>
                      <a:pt x="10480" y="7"/>
                      <a:pt x="10479" y="7"/>
                    </a:cubicBezTo>
                    <a:lnTo>
                      <a:pt x="10479" y="7"/>
                    </a:lnTo>
                    <a:cubicBezTo>
                      <a:pt x="10478" y="7"/>
                      <a:pt x="10477" y="6"/>
                      <a:pt x="10477" y="5"/>
                    </a:cubicBezTo>
                    <a:cubicBezTo>
                      <a:pt x="10477" y="4"/>
                      <a:pt x="10478" y="3"/>
                      <a:pt x="10479" y="3"/>
                    </a:cubicBezTo>
                    <a:close/>
                    <a:moveTo>
                      <a:pt x="10487" y="3"/>
                    </a:moveTo>
                    <a:lnTo>
                      <a:pt x="10487" y="3"/>
                    </a:lnTo>
                    <a:cubicBezTo>
                      <a:pt x="10488" y="3"/>
                      <a:pt x="10489" y="4"/>
                      <a:pt x="10489" y="5"/>
                    </a:cubicBezTo>
                    <a:cubicBezTo>
                      <a:pt x="10489" y="6"/>
                      <a:pt x="10488" y="7"/>
                      <a:pt x="10487" y="7"/>
                    </a:cubicBezTo>
                    <a:lnTo>
                      <a:pt x="10487" y="7"/>
                    </a:lnTo>
                    <a:cubicBezTo>
                      <a:pt x="10486" y="7"/>
                      <a:pt x="10485" y="6"/>
                      <a:pt x="10485" y="5"/>
                    </a:cubicBezTo>
                    <a:cubicBezTo>
                      <a:pt x="10485" y="4"/>
                      <a:pt x="10486" y="3"/>
                      <a:pt x="10487" y="3"/>
                    </a:cubicBezTo>
                    <a:close/>
                    <a:moveTo>
                      <a:pt x="10495" y="3"/>
                    </a:moveTo>
                    <a:lnTo>
                      <a:pt x="10495" y="3"/>
                    </a:lnTo>
                    <a:cubicBezTo>
                      <a:pt x="10496" y="3"/>
                      <a:pt x="10497" y="4"/>
                      <a:pt x="10497" y="5"/>
                    </a:cubicBezTo>
                    <a:cubicBezTo>
                      <a:pt x="10497" y="6"/>
                      <a:pt x="10496" y="7"/>
                      <a:pt x="10495" y="7"/>
                    </a:cubicBezTo>
                    <a:lnTo>
                      <a:pt x="10495" y="7"/>
                    </a:lnTo>
                    <a:cubicBezTo>
                      <a:pt x="10494" y="7"/>
                      <a:pt x="10493" y="6"/>
                      <a:pt x="10493" y="5"/>
                    </a:cubicBezTo>
                    <a:cubicBezTo>
                      <a:pt x="10493" y="4"/>
                      <a:pt x="10494" y="3"/>
                      <a:pt x="10495" y="3"/>
                    </a:cubicBezTo>
                    <a:close/>
                    <a:moveTo>
                      <a:pt x="10503" y="3"/>
                    </a:moveTo>
                    <a:lnTo>
                      <a:pt x="10503" y="3"/>
                    </a:lnTo>
                    <a:cubicBezTo>
                      <a:pt x="10504" y="3"/>
                      <a:pt x="10505" y="4"/>
                      <a:pt x="10505" y="5"/>
                    </a:cubicBezTo>
                    <a:cubicBezTo>
                      <a:pt x="10505" y="6"/>
                      <a:pt x="10504" y="7"/>
                      <a:pt x="10503" y="7"/>
                    </a:cubicBezTo>
                    <a:lnTo>
                      <a:pt x="10503" y="7"/>
                    </a:lnTo>
                    <a:cubicBezTo>
                      <a:pt x="10502" y="7"/>
                      <a:pt x="10501" y="6"/>
                      <a:pt x="10501" y="5"/>
                    </a:cubicBezTo>
                    <a:cubicBezTo>
                      <a:pt x="10501" y="4"/>
                      <a:pt x="10502" y="3"/>
                      <a:pt x="10503" y="3"/>
                    </a:cubicBezTo>
                    <a:close/>
                    <a:moveTo>
                      <a:pt x="10511" y="3"/>
                    </a:moveTo>
                    <a:lnTo>
                      <a:pt x="10511" y="3"/>
                    </a:lnTo>
                    <a:cubicBezTo>
                      <a:pt x="10512" y="3"/>
                      <a:pt x="10513" y="4"/>
                      <a:pt x="10513" y="5"/>
                    </a:cubicBezTo>
                    <a:cubicBezTo>
                      <a:pt x="10513" y="6"/>
                      <a:pt x="10512" y="7"/>
                      <a:pt x="10511" y="7"/>
                    </a:cubicBezTo>
                    <a:lnTo>
                      <a:pt x="10511" y="7"/>
                    </a:lnTo>
                    <a:cubicBezTo>
                      <a:pt x="10510" y="7"/>
                      <a:pt x="10509" y="6"/>
                      <a:pt x="10509" y="5"/>
                    </a:cubicBezTo>
                    <a:cubicBezTo>
                      <a:pt x="10509" y="4"/>
                      <a:pt x="10510" y="3"/>
                      <a:pt x="10511" y="3"/>
                    </a:cubicBezTo>
                    <a:close/>
                    <a:moveTo>
                      <a:pt x="10519" y="3"/>
                    </a:moveTo>
                    <a:lnTo>
                      <a:pt x="10519" y="3"/>
                    </a:lnTo>
                    <a:cubicBezTo>
                      <a:pt x="10520" y="3"/>
                      <a:pt x="10521" y="4"/>
                      <a:pt x="10521" y="5"/>
                    </a:cubicBezTo>
                    <a:cubicBezTo>
                      <a:pt x="10521" y="6"/>
                      <a:pt x="10520" y="7"/>
                      <a:pt x="10519" y="7"/>
                    </a:cubicBezTo>
                    <a:lnTo>
                      <a:pt x="10519" y="7"/>
                    </a:lnTo>
                    <a:cubicBezTo>
                      <a:pt x="10518" y="7"/>
                      <a:pt x="10517" y="6"/>
                      <a:pt x="10517" y="5"/>
                    </a:cubicBezTo>
                    <a:cubicBezTo>
                      <a:pt x="10517" y="4"/>
                      <a:pt x="10518" y="3"/>
                      <a:pt x="10519" y="3"/>
                    </a:cubicBezTo>
                    <a:close/>
                    <a:moveTo>
                      <a:pt x="10527" y="3"/>
                    </a:moveTo>
                    <a:lnTo>
                      <a:pt x="10527" y="3"/>
                    </a:lnTo>
                    <a:cubicBezTo>
                      <a:pt x="10528" y="3"/>
                      <a:pt x="10529" y="4"/>
                      <a:pt x="10529" y="5"/>
                    </a:cubicBezTo>
                    <a:cubicBezTo>
                      <a:pt x="10529" y="6"/>
                      <a:pt x="10528" y="7"/>
                      <a:pt x="10527" y="7"/>
                    </a:cubicBezTo>
                    <a:lnTo>
                      <a:pt x="10527" y="7"/>
                    </a:lnTo>
                    <a:cubicBezTo>
                      <a:pt x="10526" y="7"/>
                      <a:pt x="10525" y="6"/>
                      <a:pt x="10525" y="5"/>
                    </a:cubicBezTo>
                    <a:cubicBezTo>
                      <a:pt x="10525" y="4"/>
                      <a:pt x="10526" y="3"/>
                      <a:pt x="10527" y="3"/>
                    </a:cubicBezTo>
                    <a:close/>
                    <a:moveTo>
                      <a:pt x="10535" y="3"/>
                    </a:moveTo>
                    <a:lnTo>
                      <a:pt x="10535" y="3"/>
                    </a:lnTo>
                    <a:cubicBezTo>
                      <a:pt x="10536" y="3"/>
                      <a:pt x="10537" y="4"/>
                      <a:pt x="10537" y="5"/>
                    </a:cubicBezTo>
                    <a:cubicBezTo>
                      <a:pt x="10537" y="6"/>
                      <a:pt x="10536" y="7"/>
                      <a:pt x="10535" y="7"/>
                    </a:cubicBezTo>
                    <a:lnTo>
                      <a:pt x="10535" y="7"/>
                    </a:lnTo>
                    <a:cubicBezTo>
                      <a:pt x="10534" y="7"/>
                      <a:pt x="10533" y="6"/>
                      <a:pt x="10533" y="5"/>
                    </a:cubicBezTo>
                    <a:cubicBezTo>
                      <a:pt x="10533" y="4"/>
                      <a:pt x="10534" y="3"/>
                      <a:pt x="10535" y="3"/>
                    </a:cubicBezTo>
                    <a:close/>
                    <a:moveTo>
                      <a:pt x="10543" y="3"/>
                    </a:moveTo>
                    <a:lnTo>
                      <a:pt x="10543" y="3"/>
                    </a:lnTo>
                    <a:cubicBezTo>
                      <a:pt x="10544" y="3"/>
                      <a:pt x="10545" y="4"/>
                      <a:pt x="10545" y="5"/>
                    </a:cubicBezTo>
                    <a:cubicBezTo>
                      <a:pt x="10545" y="6"/>
                      <a:pt x="10544" y="7"/>
                      <a:pt x="10543" y="7"/>
                    </a:cubicBezTo>
                    <a:lnTo>
                      <a:pt x="10543" y="7"/>
                    </a:lnTo>
                    <a:cubicBezTo>
                      <a:pt x="10542" y="7"/>
                      <a:pt x="10541" y="6"/>
                      <a:pt x="10541" y="5"/>
                    </a:cubicBezTo>
                    <a:cubicBezTo>
                      <a:pt x="10541" y="4"/>
                      <a:pt x="10542" y="3"/>
                      <a:pt x="10543" y="3"/>
                    </a:cubicBezTo>
                    <a:close/>
                    <a:moveTo>
                      <a:pt x="10551" y="3"/>
                    </a:moveTo>
                    <a:lnTo>
                      <a:pt x="10551" y="3"/>
                    </a:lnTo>
                    <a:cubicBezTo>
                      <a:pt x="10552" y="3"/>
                      <a:pt x="10553" y="4"/>
                      <a:pt x="10553" y="5"/>
                    </a:cubicBezTo>
                    <a:cubicBezTo>
                      <a:pt x="10553" y="6"/>
                      <a:pt x="10552" y="7"/>
                      <a:pt x="10551" y="7"/>
                    </a:cubicBezTo>
                    <a:lnTo>
                      <a:pt x="10551" y="7"/>
                    </a:lnTo>
                    <a:cubicBezTo>
                      <a:pt x="10550" y="7"/>
                      <a:pt x="10549" y="6"/>
                      <a:pt x="10549" y="5"/>
                    </a:cubicBezTo>
                    <a:cubicBezTo>
                      <a:pt x="10549" y="4"/>
                      <a:pt x="10550" y="3"/>
                      <a:pt x="10551" y="3"/>
                    </a:cubicBezTo>
                    <a:close/>
                    <a:moveTo>
                      <a:pt x="10559" y="3"/>
                    </a:moveTo>
                    <a:lnTo>
                      <a:pt x="10559" y="3"/>
                    </a:lnTo>
                    <a:cubicBezTo>
                      <a:pt x="10560" y="3"/>
                      <a:pt x="10561" y="4"/>
                      <a:pt x="10561" y="5"/>
                    </a:cubicBezTo>
                    <a:cubicBezTo>
                      <a:pt x="10561" y="6"/>
                      <a:pt x="10560" y="7"/>
                      <a:pt x="10559" y="7"/>
                    </a:cubicBezTo>
                    <a:lnTo>
                      <a:pt x="10559" y="7"/>
                    </a:lnTo>
                    <a:cubicBezTo>
                      <a:pt x="10558" y="7"/>
                      <a:pt x="10557" y="6"/>
                      <a:pt x="10557" y="5"/>
                    </a:cubicBezTo>
                    <a:cubicBezTo>
                      <a:pt x="10557" y="4"/>
                      <a:pt x="10558" y="3"/>
                      <a:pt x="10559" y="3"/>
                    </a:cubicBezTo>
                    <a:close/>
                    <a:moveTo>
                      <a:pt x="10567" y="3"/>
                    </a:moveTo>
                    <a:lnTo>
                      <a:pt x="10567" y="3"/>
                    </a:lnTo>
                    <a:cubicBezTo>
                      <a:pt x="10568" y="3"/>
                      <a:pt x="10569" y="4"/>
                      <a:pt x="10569" y="5"/>
                    </a:cubicBezTo>
                    <a:cubicBezTo>
                      <a:pt x="10569" y="6"/>
                      <a:pt x="10568" y="7"/>
                      <a:pt x="10567" y="7"/>
                    </a:cubicBezTo>
                    <a:lnTo>
                      <a:pt x="10567" y="7"/>
                    </a:lnTo>
                    <a:cubicBezTo>
                      <a:pt x="10566" y="7"/>
                      <a:pt x="10565" y="6"/>
                      <a:pt x="10565" y="5"/>
                    </a:cubicBezTo>
                    <a:cubicBezTo>
                      <a:pt x="10565" y="4"/>
                      <a:pt x="10566" y="3"/>
                      <a:pt x="10567" y="3"/>
                    </a:cubicBezTo>
                    <a:close/>
                    <a:moveTo>
                      <a:pt x="10575" y="3"/>
                    </a:moveTo>
                    <a:lnTo>
                      <a:pt x="10575" y="3"/>
                    </a:lnTo>
                    <a:cubicBezTo>
                      <a:pt x="10576" y="3"/>
                      <a:pt x="10577" y="4"/>
                      <a:pt x="10577" y="5"/>
                    </a:cubicBezTo>
                    <a:cubicBezTo>
                      <a:pt x="10577" y="6"/>
                      <a:pt x="10576" y="7"/>
                      <a:pt x="10575" y="7"/>
                    </a:cubicBezTo>
                    <a:lnTo>
                      <a:pt x="10575" y="7"/>
                    </a:lnTo>
                    <a:cubicBezTo>
                      <a:pt x="10574" y="7"/>
                      <a:pt x="10573" y="6"/>
                      <a:pt x="10573" y="5"/>
                    </a:cubicBezTo>
                    <a:cubicBezTo>
                      <a:pt x="10573" y="4"/>
                      <a:pt x="10574" y="3"/>
                      <a:pt x="10575" y="3"/>
                    </a:cubicBezTo>
                    <a:close/>
                    <a:moveTo>
                      <a:pt x="10583" y="3"/>
                    </a:moveTo>
                    <a:lnTo>
                      <a:pt x="10583" y="3"/>
                    </a:lnTo>
                    <a:cubicBezTo>
                      <a:pt x="10584" y="3"/>
                      <a:pt x="10585" y="4"/>
                      <a:pt x="10585" y="5"/>
                    </a:cubicBezTo>
                    <a:cubicBezTo>
                      <a:pt x="10585" y="6"/>
                      <a:pt x="10584" y="7"/>
                      <a:pt x="10583" y="7"/>
                    </a:cubicBezTo>
                    <a:lnTo>
                      <a:pt x="10583" y="7"/>
                    </a:lnTo>
                    <a:cubicBezTo>
                      <a:pt x="10582" y="7"/>
                      <a:pt x="10581" y="6"/>
                      <a:pt x="10581" y="5"/>
                    </a:cubicBezTo>
                    <a:cubicBezTo>
                      <a:pt x="10581" y="4"/>
                      <a:pt x="10582" y="3"/>
                      <a:pt x="10583" y="3"/>
                    </a:cubicBezTo>
                    <a:close/>
                    <a:moveTo>
                      <a:pt x="10591" y="3"/>
                    </a:moveTo>
                    <a:lnTo>
                      <a:pt x="10591" y="3"/>
                    </a:lnTo>
                    <a:cubicBezTo>
                      <a:pt x="10592" y="3"/>
                      <a:pt x="10593" y="4"/>
                      <a:pt x="10593" y="5"/>
                    </a:cubicBezTo>
                    <a:cubicBezTo>
                      <a:pt x="10593" y="6"/>
                      <a:pt x="10592" y="7"/>
                      <a:pt x="10591" y="7"/>
                    </a:cubicBezTo>
                    <a:lnTo>
                      <a:pt x="10591" y="7"/>
                    </a:lnTo>
                    <a:cubicBezTo>
                      <a:pt x="10590" y="7"/>
                      <a:pt x="10589" y="6"/>
                      <a:pt x="10589" y="5"/>
                    </a:cubicBezTo>
                    <a:cubicBezTo>
                      <a:pt x="10589" y="4"/>
                      <a:pt x="10590" y="3"/>
                      <a:pt x="10591" y="3"/>
                    </a:cubicBezTo>
                    <a:close/>
                    <a:moveTo>
                      <a:pt x="10599" y="3"/>
                    </a:moveTo>
                    <a:lnTo>
                      <a:pt x="10599" y="3"/>
                    </a:lnTo>
                    <a:cubicBezTo>
                      <a:pt x="10600" y="3"/>
                      <a:pt x="10601" y="4"/>
                      <a:pt x="10601" y="5"/>
                    </a:cubicBezTo>
                    <a:cubicBezTo>
                      <a:pt x="10601" y="6"/>
                      <a:pt x="10600" y="7"/>
                      <a:pt x="10599" y="7"/>
                    </a:cubicBezTo>
                    <a:lnTo>
                      <a:pt x="10599" y="7"/>
                    </a:lnTo>
                    <a:cubicBezTo>
                      <a:pt x="10598" y="7"/>
                      <a:pt x="10597" y="6"/>
                      <a:pt x="10597" y="5"/>
                    </a:cubicBezTo>
                    <a:cubicBezTo>
                      <a:pt x="10597" y="4"/>
                      <a:pt x="10598" y="3"/>
                      <a:pt x="10599" y="3"/>
                    </a:cubicBezTo>
                    <a:close/>
                    <a:moveTo>
                      <a:pt x="10607" y="3"/>
                    </a:moveTo>
                    <a:lnTo>
                      <a:pt x="10607" y="3"/>
                    </a:lnTo>
                    <a:cubicBezTo>
                      <a:pt x="10608" y="3"/>
                      <a:pt x="10609" y="4"/>
                      <a:pt x="10609" y="5"/>
                    </a:cubicBezTo>
                    <a:cubicBezTo>
                      <a:pt x="10609" y="6"/>
                      <a:pt x="10608" y="7"/>
                      <a:pt x="10607" y="7"/>
                    </a:cubicBezTo>
                    <a:lnTo>
                      <a:pt x="10607" y="7"/>
                    </a:lnTo>
                    <a:cubicBezTo>
                      <a:pt x="10606" y="7"/>
                      <a:pt x="10605" y="6"/>
                      <a:pt x="10605" y="5"/>
                    </a:cubicBezTo>
                    <a:cubicBezTo>
                      <a:pt x="10605" y="4"/>
                      <a:pt x="10606" y="3"/>
                      <a:pt x="10607" y="3"/>
                    </a:cubicBezTo>
                    <a:close/>
                    <a:moveTo>
                      <a:pt x="10615" y="3"/>
                    </a:moveTo>
                    <a:lnTo>
                      <a:pt x="10615" y="3"/>
                    </a:lnTo>
                    <a:cubicBezTo>
                      <a:pt x="10616" y="3"/>
                      <a:pt x="10617" y="4"/>
                      <a:pt x="10617" y="5"/>
                    </a:cubicBezTo>
                    <a:cubicBezTo>
                      <a:pt x="10617" y="6"/>
                      <a:pt x="10616" y="7"/>
                      <a:pt x="10615" y="7"/>
                    </a:cubicBezTo>
                    <a:lnTo>
                      <a:pt x="10615" y="7"/>
                    </a:lnTo>
                    <a:cubicBezTo>
                      <a:pt x="10614" y="7"/>
                      <a:pt x="10613" y="6"/>
                      <a:pt x="10613" y="5"/>
                    </a:cubicBezTo>
                    <a:cubicBezTo>
                      <a:pt x="10613" y="4"/>
                      <a:pt x="10614" y="3"/>
                      <a:pt x="10615" y="3"/>
                    </a:cubicBezTo>
                    <a:close/>
                    <a:moveTo>
                      <a:pt x="10623" y="3"/>
                    </a:moveTo>
                    <a:lnTo>
                      <a:pt x="10623" y="3"/>
                    </a:lnTo>
                    <a:cubicBezTo>
                      <a:pt x="10624" y="3"/>
                      <a:pt x="10625" y="4"/>
                      <a:pt x="10625" y="5"/>
                    </a:cubicBezTo>
                    <a:cubicBezTo>
                      <a:pt x="10625" y="6"/>
                      <a:pt x="10624" y="7"/>
                      <a:pt x="10623" y="7"/>
                    </a:cubicBezTo>
                    <a:lnTo>
                      <a:pt x="10623" y="7"/>
                    </a:lnTo>
                    <a:cubicBezTo>
                      <a:pt x="10622" y="7"/>
                      <a:pt x="10621" y="6"/>
                      <a:pt x="10621" y="5"/>
                    </a:cubicBezTo>
                    <a:cubicBezTo>
                      <a:pt x="10621" y="4"/>
                      <a:pt x="10622" y="3"/>
                      <a:pt x="10623" y="3"/>
                    </a:cubicBezTo>
                    <a:close/>
                    <a:moveTo>
                      <a:pt x="10631" y="3"/>
                    </a:moveTo>
                    <a:lnTo>
                      <a:pt x="10631" y="3"/>
                    </a:lnTo>
                    <a:cubicBezTo>
                      <a:pt x="10632" y="3"/>
                      <a:pt x="10633" y="4"/>
                      <a:pt x="10633" y="5"/>
                    </a:cubicBezTo>
                    <a:cubicBezTo>
                      <a:pt x="10633" y="6"/>
                      <a:pt x="10632" y="7"/>
                      <a:pt x="10631" y="7"/>
                    </a:cubicBezTo>
                    <a:lnTo>
                      <a:pt x="10631" y="7"/>
                    </a:lnTo>
                    <a:cubicBezTo>
                      <a:pt x="10630" y="7"/>
                      <a:pt x="10629" y="6"/>
                      <a:pt x="10629" y="5"/>
                    </a:cubicBezTo>
                    <a:cubicBezTo>
                      <a:pt x="10629" y="4"/>
                      <a:pt x="10630" y="3"/>
                      <a:pt x="10631" y="3"/>
                    </a:cubicBezTo>
                    <a:close/>
                    <a:moveTo>
                      <a:pt x="10639" y="3"/>
                    </a:moveTo>
                    <a:lnTo>
                      <a:pt x="10639" y="3"/>
                    </a:lnTo>
                    <a:cubicBezTo>
                      <a:pt x="10640" y="3"/>
                      <a:pt x="10641" y="4"/>
                      <a:pt x="10641" y="5"/>
                    </a:cubicBezTo>
                    <a:cubicBezTo>
                      <a:pt x="10641" y="6"/>
                      <a:pt x="10640" y="7"/>
                      <a:pt x="10639" y="7"/>
                    </a:cubicBezTo>
                    <a:lnTo>
                      <a:pt x="10639" y="7"/>
                    </a:lnTo>
                    <a:cubicBezTo>
                      <a:pt x="10638" y="7"/>
                      <a:pt x="10637" y="6"/>
                      <a:pt x="10637" y="5"/>
                    </a:cubicBezTo>
                    <a:cubicBezTo>
                      <a:pt x="10637" y="4"/>
                      <a:pt x="10638" y="3"/>
                      <a:pt x="10639" y="3"/>
                    </a:cubicBezTo>
                    <a:close/>
                    <a:moveTo>
                      <a:pt x="10647" y="3"/>
                    </a:moveTo>
                    <a:lnTo>
                      <a:pt x="10647" y="3"/>
                    </a:lnTo>
                    <a:cubicBezTo>
                      <a:pt x="10648" y="3"/>
                      <a:pt x="10649" y="4"/>
                      <a:pt x="10649" y="5"/>
                    </a:cubicBezTo>
                    <a:cubicBezTo>
                      <a:pt x="10649" y="6"/>
                      <a:pt x="10648" y="7"/>
                      <a:pt x="10647" y="7"/>
                    </a:cubicBezTo>
                    <a:lnTo>
                      <a:pt x="10647" y="7"/>
                    </a:lnTo>
                    <a:cubicBezTo>
                      <a:pt x="10646" y="7"/>
                      <a:pt x="10645" y="6"/>
                      <a:pt x="10645" y="5"/>
                    </a:cubicBezTo>
                    <a:cubicBezTo>
                      <a:pt x="10645" y="4"/>
                      <a:pt x="10646" y="3"/>
                      <a:pt x="10647" y="3"/>
                    </a:cubicBezTo>
                    <a:close/>
                    <a:moveTo>
                      <a:pt x="10655" y="3"/>
                    </a:moveTo>
                    <a:lnTo>
                      <a:pt x="10655" y="3"/>
                    </a:lnTo>
                    <a:cubicBezTo>
                      <a:pt x="10656" y="3"/>
                      <a:pt x="10657" y="4"/>
                      <a:pt x="10657" y="5"/>
                    </a:cubicBezTo>
                    <a:cubicBezTo>
                      <a:pt x="10657" y="6"/>
                      <a:pt x="10656" y="7"/>
                      <a:pt x="10655" y="7"/>
                    </a:cubicBezTo>
                    <a:lnTo>
                      <a:pt x="10655" y="7"/>
                    </a:lnTo>
                    <a:cubicBezTo>
                      <a:pt x="10654" y="7"/>
                      <a:pt x="10653" y="6"/>
                      <a:pt x="10653" y="5"/>
                    </a:cubicBezTo>
                    <a:cubicBezTo>
                      <a:pt x="10653" y="4"/>
                      <a:pt x="10654" y="3"/>
                      <a:pt x="10655" y="3"/>
                    </a:cubicBezTo>
                    <a:close/>
                    <a:moveTo>
                      <a:pt x="10663" y="3"/>
                    </a:moveTo>
                    <a:lnTo>
                      <a:pt x="10663" y="3"/>
                    </a:lnTo>
                    <a:cubicBezTo>
                      <a:pt x="10664" y="3"/>
                      <a:pt x="10665" y="4"/>
                      <a:pt x="10665" y="5"/>
                    </a:cubicBezTo>
                    <a:cubicBezTo>
                      <a:pt x="10665" y="6"/>
                      <a:pt x="10664" y="7"/>
                      <a:pt x="10663" y="7"/>
                    </a:cubicBezTo>
                    <a:lnTo>
                      <a:pt x="10663" y="7"/>
                    </a:lnTo>
                    <a:cubicBezTo>
                      <a:pt x="10662" y="7"/>
                      <a:pt x="10661" y="6"/>
                      <a:pt x="10661" y="5"/>
                    </a:cubicBezTo>
                    <a:cubicBezTo>
                      <a:pt x="10661" y="4"/>
                      <a:pt x="10662" y="3"/>
                      <a:pt x="10663" y="3"/>
                    </a:cubicBezTo>
                    <a:close/>
                    <a:moveTo>
                      <a:pt x="10671" y="3"/>
                    </a:moveTo>
                    <a:lnTo>
                      <a:pt x="10671" y="3"/>
                    </a:lnTo>
                    <a:cubicBezTo>
                      <a:pt x="10672" y="3"/>
                      <a:pt x="10673" y="4"/>
                      <a:pt x="10673" y="5"/>
                    </a:cubicBezTo>
                    <a:cubicBezTo>
                      <a:pt x="10673" y="6"/>
                      <a:pt x="10672" y="7"/>
                      <a:pt x="10671" y="7"/>
                    </a:cubicBezTo>
                    <a:lnTo>
                      <a:pt x="10671" y="7"/>
                    </a:lnTo>
                    <a:cubicBezTo>
                      <a:pt x="10670" y="7"/>
                      <a:pt x="10669" y="6"/>
                      <a:pt x="10669" y="5"/>
                    </a:cubicBezTo>
                    <a:cubicBezTo>
                      <a:pt x="10669" y="4"/>
                      <a:pt x="10670" y="3"/>
                      <a:pt x="10671" y="3"/>
                    </a:cubicBezTo>
                    <a:close/>
                    <a:moveTo>
                      <a:pt x="10679" y="3"/>
                    </a:moveTo>
                    <a:lnTo>
                      <a:pt x="10679" y="3"/>
                    </a:lnTo>
                    <a:cubicBezTo>
                      <a:pt x="10680" y="3"/>
                      <a:pt x="10681" y="4"/>
                      <a:pt x="10681" y="5"/>
                    </a:cubicBezTo>
                    <a:cubicBezTo>
                      <a:pt x="10681" y="6"/>
                      <a:pt x="10680" y="7"/>
                      <a:pt x="10679" y="7"/>
                    </a:cubicBezTo>
                    <a:lnTo>
                      <a:pt x="10679" y="7"/>
                    </a:lnTo>
                    <a:cubicBezTo>
                      <a:pt x="10678" y="7"/>
                      <a:pt x="10677" y="6"/>
                      <a:pt x="10677" y="5"/>
                    </a:cubicBezTo>
                    <a:cubicBezTo>
                      <a:pt x="10677" y="4"/>
                      <a:pt x="10678" y="3"/>
                      <a:pt x="10679" y="3"/>
                    </a:cubicBezTo>
                    <a:close/>
                    <a:moveTo>
                      <a:pt x="10687" y="3"/>
                    </a:moveTo>
                    <a:lnTo>
                      <a:pt x="10687" y="3"/>
                    </a:lnTo>
                    <a:cubicBezTo>
                      <a:pt x="10688" y="3"/>
                      <a:pt x="10689" y="4"/>
                      <a:pt x="10689" y="5"/>
                    </a:cubicBezTo>
                    <a:cubicBezTo>
                      <a:pt x="10689" y="6"/>
                      <a:pt x="10688" y="7"/>
                      <a:pt x="10687" y="7"/>
                    </a:cubicBezTo>
                    <a:lnTo>
                      <a:pt x="10687" y="7"/>
                    </a:lnTo>
                    <a:cubicBezTo>
                      <a:pt x="10686" y="7"/>
                      <a:pt x="10685" y="6"/>
                      <a:pt x="10685" y="5"/>
                    </a:cubicBezTo>
                    <a:cubicBezTo>
                      <a:pt x="10685" y="4"/>
                      <a:pt x="10686" y="3"/>
                      <a:pt x="10687" y="3"/>
                    </a:cubicBezTo>
                    <a:close/>
                    <a:moveTo>
                      <a:pt x="10695" y="3"/>
                    </a:moveTo>
                    <a:lnTo>
                      <a:pt x="10695" y="3"/>
                    </a:lnTo>
                    <a:cubicBezTo>
                      <a:pt x="10696" y="3"/>
                      <a:pt x="10697" y="4"/>
                      <a:pt x="10697" y="5"/>
                    </a:cubicBezTo>
                    <a:cubicBezTo>
                      <a:pt x="10697" y="6"/>
                      <a:pt x="10696" y="7"/>
                      <a:pt x="10695" y="7"/>
                    </a:cubicBezTo>
                    <a:lnTo>
                      <a:pt x="10695" y="7"/>
                    </a:lnTo>
                    <a:cubicBezTo>
                      <a:pt x="10694" y="7"/>
                      <a:pt x="10693" y="6"/>
                      <a:pt x="10693" y="5"/>
                    </a:cubicBezTo>
                    <a:cubicBezTo>
                      <a:pt x="10693" y="4"/>
                      <a:pt x="10694" y="3"/>
                      <a:pt x="10695" y="3"/>
                    </a:cubicBezTo>
                    <a:close/>
                    <a:moveTo>
                      <a:pt x="10703" y="3"/>
                    </a:moveTo>
                    <a:lnTo>
                      <a:pt x="10703" y="3"/>
                    </a:lnTo>
                    <a:cubicBezTo>
                      <a:pt x="10704" y="3"/>
                      <a:pt x="10705" y="4"/>
                      <a:pt x="10705" y="5"/>
                    </a:cubicBezTo>
                    <a:cubicBezTo>
                      <a:pt x="10705" y="6"/>
                      <a:pt x="10704" y="7"/>
                      <a:pt x="10703" y="7"/>
                    </a:cubicBezTo>
                    <a:lnTo>
                      <a:pt x="10703" y="7"/>
                    </a:lnTo>
                    <a:cubicBezTo>
                      <a:pt x="10702" y="7"/>
                      <a:pt x="10701" y="6"/>
                      <a:pt x="10701" y="5"/>
                    </a:cubicBezTo>
                    <a:cubicBezTo>
                      <a:pt x="10701" y="4"/>
                      <a:pt x="10702" y="3"/>
                      <a:pt x="10703" y="3"/>
                    </a:cubicBezTo>
                    <a:close/>
                    <a:moveTo>
                      <a:pt x="10711" y="3"/>
                    </a:moveTo>
                    <a:lnTo>
                      <a:pt x="10711" y="3"/>
                    </a:lnTo>
                    <a:cubicBezTo>
                      <a:pt x="10712" y="3"/>
                      <a:pt x="10713" y="4"/>
                      <a:pt x="10713" y="5"/>
                    </a:cubicBezTo>
                    <a:cubicBezTo>
                      <a:pt x="10713" y="6"/>
                      <a:pt x="10712" y="7"/>
                      <a:pt x="10711" y="7"/>
                    </a:cubicBezTo>
                    <a:lnTo>
                      <a:pt x="10711" y="7"/>
                    </a:lnTo>
                    <a:cubicBezTo>
                      <a:pt x="10710" y="7"/>
                      <a:pt x="10709" y="6"/>
                      <a:pt x="10709" y="5"/>
                    </a:cubicBezTo>
                    <a:cubicBezTo>
                      <a:pt x="10709" y="4"/>
                      <a:pt x="10710" y="3"/>
                      <a:pt x="10711" y="3"/>
                    </a:cubicBezTo>
                    <a:close/>
                    <a:moveTo>
                      <a:pt x="10719" y="3"/>
                    </a:moveTo>
                    <a:lnTo>
                      <a:pt x="10719" y="3"/>
                    </a:lnTo>
                    <a:cubicBezTo>
                      <a:pt x="10720" y="3"/>
                      <a:pt x="10721" y="4"/>
                      <a:pt x="10721" y="5"/>
                    </a:cubicBezTo>
                    <a:cubicBezTo>
                      <a:pt x="10721" y="6"/>
                      <a:pt x="10720" y="7"/>
                      <a:pt x="10719" y="7"/>
                    </a:cubicBezTo>
                    <a:lnTo>
                      <a:pt x="10719" y="7"/>
                    </a:lnTo>
                    <a:cubicBezTo>
                      <a:pt x="10718" y="7"/>
                      <a:pt x="10717" y="6"/>
                      <a:pt x="10717" y="5"/>
                    </a:cubicBezTo>
                    <a:cubicBezTo>
                      <a:pt x="10717" y="4"/>
                      <a:pt x="10718" y="3"/>
                      <a:pt x="10719" y="3"/>
                    </a:cubicBezTo>
                    <a:close/>
                    <a:moveTo>
                      <a:pt x="10727" y="3"/>
                    </a:moveTo>
                    <a:lnTo>
                      <a:pt x="10727" y="3"/>
                    </a:lnTo>
                    <a:cubicBezTo>
                      <a:pt x="10728" y="3"/>
                      <a:pt x="10729" y="4"/>
                      <a:pt x="10729" y="5"/>
                    </a:cubicBezTo>
                    <a:cubicBezTo>
                      <a:pt x="10729" y="6"/>
                      <a:pt x="10728" y="7"/>
                      <a:pt x="10727" y="7"/>
                    </a:cubicBezTo>
                    <a:lnTo>
                      <a:pt x="10727" y="7"/>
                    </a:lnTo>
                    <a:cubicBezTo>
                      <a:pt x="10726" y="7"/>
                      <a:pt x="10725" y="6"/>
                      <a:pt x="10725" y="5"/>
                    </a:cubicBezTo>
                    <a:cubicBezTo>
                      <a:pt x="10725" y="4"/>
                      <a:pt x="10726" y="3"/>
                      <a:pt x="10727" y="3"/>
                    </a:cubicBezTo>
                    <a:close/>
                    <a:moveTo>
                      <a:pt x="10735" y="3"/>
                    </a:moveTo>
                    <a:lnTo>
                      <a:pt x="10735" y="3"/>
                    </a:lnTo>
                    <a:cubicBezTo>
                      <a:pt x="10736" y="3"/>
                      <a:pt x="10737" y="4"/>
                      <a:pt x="10737" y="5"/>
                    </a:cubicBezTo>
                    <a:cubicBezTo>
                      <a:pt x="10737" y="6"/>
                      <a:pt x="10736" y="7"/>
                      <a:pt x="10735" y="7"/>
                    </a:cubicBezTo>
                    <a:lnTo>
                      <a:pt x="10735" y="7"/>
                    </a:lnTo>
                    <a:cubicBezTo>
                      <a:pt x="10734" y="7"/>
                      <a:pt x="10733" y="6"/>
                      <a:pt x="10733" y="5"/>
                    </a:cubicBezTo>
                    <a:cubicBezTo>
                      <a:pt x="10733" y="4"/>
                      <a:pt x="10734" y="3"/>
                      <a:pt x="10735" y="3"/>
                    </a:cubicBezTo>
                    <a:close/>
                    <a:moveTo>
                      <a:pt x="10743" y="3"/>
                    </a:moveTo>
                    <a:lnTo>
                      <a:pt x="10743" y="3"/>
                    </a:lnTo>
                    <a:cubicBezTo>
                      <a:pt x="10744" y="3"/>
                      <a:pt x="10745" y="4"/>
                      <a:pt x="10745" y="5"/>
                    </a:cubicBezTo>
                    <a:cubicBezTo>
                      <a:pt x="10745" y="6"/>
                      <a:pt x="10744" y="7"/>
                      <a:pt x="10743" y="7"/>
                    </a:cubicBezTo>
                    <a:lnTo>
                      <a:pt x="10743" y="7"/>
                    </a:lnTo>
                    <a:cubicBezTo>
                      <a:pt x="10742" y="7"/>
                      <a:pt x="10741" y="6"/>
                      <a:pt x="10741" y="5"/>
                    </a:cubicBezTo>
                    <a:cubicBezTo>
                      <a:pt x="10741" y="4"/>
                      <a:pt x="10742" y="3"/>
                      <a:pt x="10743" y="3"/>
                    </a:cubicBezTo>
                    <a:close/>
                    <a:moveTo>
                      <a:pt x="10751" y="3"/>
                    </a:moveTo>
                    <a:lnTo>
                      <a:pt x="10751" y="3"/>
                    </a:lnTo>
                    <a:cubicBezTo>
                      <a:pt x="10752" y="3"/>
                      <a:pt x="10753" y="4"/>
                      <a:pt x="10753" y="5"/>
                    </a:cubicBezTo>
                    <a:cubicBezTo>
                      <a:pt x="10753" y="6"/>
                      <a:pt x="10752" y="7"/>
                      <a:pt x="10751" y="7"/>
                    </a:cubicBezTo>
                    <a:lnTo>
                      <a:pt x="10751" y="7"/>
                    </a:lnTo>
                    <a:cubicBezTo>
                      <a:pt x="10750" y="7"/>
                      <a:pt x="10749" y="6"/>
                      <a:pt x="10749" y="5"/>
                    </a:cubicBezTo>
                    <a:cubicBezTo>
                      <a:pt x="10749" y="4"/>
                      <a:pt x="10750" y="3"/>
                      <a:pt x="10751" y="3"/>
                    </a:cubicBezTo>
                    <a:close/>
                    <a:moveTo>
                      <a:pt x="10759" y="3"/>
                    </a:moveTo>
                    <a:lnTo>
                      <a:pt x="10759" y="3"/>
                    </a:lnTo>
                    <a:cubicBezTo>
                      <a:pt x="10760" y="3"/>
                      <a:pt x="10761" y="4"/>
                      <a:pt x="10761" y="5"/>
                    </a:cubicBezTo>
                    <a:cubicBezTo>
                      <a:pt x="10761" y="6"/>
                      <a:pt x="10760" y="7"/>
                      <a:pt x="10759" y="7"/>
                    </a:cubicBezTo>
                    <a:lnTo>
                      <a:pt x="10759" y="7"/>
                    </a:lnTo>
                    <a:cubicBezTo>
                      <a:pt x="10758" y="7"/>
                      <a:pt x="10757" y="6"/>
                      <a:pt x="10757" y="5"/>
                    </a:cubicBezTo>
                    <a:cubicBezTo>
                      <a:pt x="10757" y="4"/>
                      <a:pt x="10758" y="3"/>
                      <a:pt x="10759" y="3"/>
                    </a:cubicBezTo>
                    <a:close/>
                    <a:moveTo>
                      <a:pt x="10767" y="3"/>
                    </a:moveTo>
                    <a:lnTo>
                      <a:pt x="10767" y="3"/>
                    </a:lnTo>
                    <a:cubicBezTo>
                      <a:pt x="10768" y="3"/>
                      <a:pt x="10769" y="4"/>
                      <a:pt x="10769" y="5"/>
                    </a:cubicBezTo>
                    <a:cubicBezTo>
                      <a:pt x="10769" y="6"/>
                      <a:pt x="10768" y="7"/>
                      <a:pt x="10767" y="7"/>
                    </a:cubicBezTo>
                    <a:lnTo>
                      <a:pt x="10767" y="7"/>
                    </a:lnTo>
                    <a:cubicBezTo>
                      <a:pt x="10766" y="7"/>
                      <a:pt x="10765" y="6"/>
                      <a:pt x="10765" y="5"/>
                    </a:cubicBezTo>
                    <a:cubicBezTo>
                      <a:pt x="10765" y="4"/>
                      <a:pt x="10766" y="3"/>
                      <a:pt x="10767" y="3"/>
                    </a:cubicBezTo>
                    <a:close/>
                    <a:moveTo>
                      <a:pt x="10775" y="3"/>
                    </a:moveTo>
                    <a:lnTo>
                      <a:pt x="10775" y="3"/>
                    </a:lnTo>
                    <a:cubicBezTo>
                      <a:pt x="10776" y="3"/>
                      <a:pt x="10777" y="4"/>
                      <a:pt x="10777" y="5"/>
                    </a:cubicBezTo>
                    <a:cubicBezTo>
                      <a:pt x="10777" y="6"/>
                      <a:pt x="10776" y="7"/>
                      <a:pt x="10775" y="7"/>
                    </a:cubicBezTo>
                    <a:lnTo>
                      <a:pt x="10775" y="7"/>
                    </a:lnTo>
                    <a:cubicBezTo>
                      <a:pt x="10774" y="7"/>
                      <a:pt x="10773" y="6"/>
                      <a:pt x="10773" y="5"/>
                    </a:cubicBezTo>
                    <a:cubicBezTo>
                      <a:pt x="10773" y="4"/>
                      <a:pt x="10774" y="3"/>
                      <a:pt x="10775" y="3"/>
                    </a:cubicBezTo>
                    <a:close/>
                    <a:moveTo>
                      <a:pt x="10783" y="3"/>
                    </a:moveTo>
                    <a:lnTo>
                      <a:pt x="10783" y="3"/>
                    </a:lnTo>
                    <a:cubicBezTo>
                      <a:pt x="10784" y="3"/>
                      <a:pt x="10785" y="4"/>
                      <a:pt x="10785" y="5"/>
                    </a:cubicBezTo>
                    <a:cubicBezTo>
                      <a:pt x="10785" y="6"/>
                      <a:pt x="10784" y="7"/>
                      <a:pt x="10783" y="7"/>
                    </a:cubicBezTo>
                    <a:lnTo>
                      <a:pt x="10783" y="7"/>
                    </a:lnTo>
                    <a:cubicBezTo>
                      <a:pt x="10782" y="7"/>
                      <a:pt x="10781" y="6"/>
                      <a:pt x="10781" y="5"/>
                    </a:cubicBezTo>
                    <a:cubicBezTo>
                      <a:pt x="10781" y="4"/>
                      <a:pt x="10782" y="3"/>
                      <a:pt x="10783" y="3"/>
                    </a:cubicBezTo>
                    <a:close/>
                    <a:moveTo>
                      <a:pt x="10791" y="3"/>
                    </a:moveTo>
                    <a:lnTo>
                      <a:pt x="10791" y="3"/>
                    </a:lnTo>
                    <a:cubicBezTo>
                      <a:pt x="10793" y="3"/>
                      <a:pt x="10793" y="4"/>
                      <a:pt x="10793" y="5"/>
                    </a:cubicBezTo>
                    <a:cubicBezTo>
                      <a:pt x="10793" y="6"/>
                      <a:pt x="10793" y="7"/>
                      <a:pt x="10791" y="7"/>
                    </a:cubicBezTo>
                    <a:lnTo>
                      <a:pt x="10791" y="7"/>
                    </a:lnTo>
                    <a:cubicBezTo>
                      <a:pt x="10790" y="7"/>
                      <a:pt x="10789" y="6"/>
                      <a:pt x="10789" y="5"/>
                    </a:cubicBezTo>
                    <a:cubicBezTo>
                      <a:pt x="10789" y="4"/>
                      <a:pt x="10790" y="3"/>
                      <a:pt x="10791" y="3"/>
                    </a:cubicBezTo>
                    <a:close/>
                    <a:moveTo>
                      <a:pt x="10799" y="3"/>
                    </a:moveTo>
                    <a:lnTo>
                      <a:pt x="10799" y="3"/>
                    </a:lnTo>
                    <a:cubicBezTo>
                      <a:pt x="10801" y="3"/>
                      <a:pt x="10801" y="4"/>
                      <a:pt x="10801" y="5"/>
                    </a:cubicBezTo>
                    <a:cubicBezTo>
                      <a:pt x="10801" y="6"/>
                      <a:pt x="10801" y="7"/>
                      <a:pt x="10799" y="7"/>
                    </a:cubicBezTo>
                    <a:lnTo>
                      <a:pt x="10799" y="7"/>
                    </a:lnTo>
                    <a:cubicBezTo>
                      <a:pt x="10798" y="7"/>
                      <a:pt x="10797" y="6"/>
                      <a:pt x="10797" y="5"/>
                    </a:cubicBezTo>
                    <a:cubicBezTo>
                      <a:pt x="10797" y="4"/>
                      <a:pt x="10798" y="3"/>
                      <a:pt x="10799" y="3"/>
                    </a:cubicBezTo>
                    <a:close/>
                    <a:moveTo>
                      <a:pt x="10807" y="3"/>
                    </a:moveTo>
                    <a:lnTo>
                      <a:pt x="10807" y="3"/>
                    </a:lnTo>
                    <a:cubicBezTo>
                      <a:pt x="10809" y="3"/>
                      <a:pt x="10809" y="4"/>
                      <a:pt x="10809" y="5"/>
                    </a:cubicBezTo>
                    <a:cubicBezTo>
                      <a:pt x="10809" y="6"/>
                      <a:pt x="10809" y="7"/>
                      <a:pt x="10807" y="7"/>
                    </a:cubicBezTo>
                    <a:lnTo>
                      <a:pt x="10807" y="7"/>
                    </a:lnTo>
                    <a:cubicBezTo>
                      <a:pt x="10806" y="7"/>
                      <a:pt x="10805" y="6"/>
                      <a:pt x="10805" y="5"/>
                    </a:cubicBezTo>
                    <a:cubicBezTo>
                      <a:pt x="10805" y="4"/>
                      <a:pt x="10806" y="3"/>
                      <a:pt x="10807" y="3"/>
                    </a:cubicBezTo>
                    <a:close/>
                    <a:moveTo>
                      <a:pt x="10815" y="3"/>
                    </a:moveTo>
                    <a:lnTo>
                      <a:pt x="10815" y="3"/>
                    </a:lnTo>
                    <a:cubicBezTo>
                      <a:pt x="10817" y="3"/>
                      <a:pt x="10817" y="4"/>
                      <a:pt x="10817" y="5"/>
                    </a:cubicBezTo>
                    <a:cubicBezTo>
                      <a:pt x="10817" y="6"/>
                      <a:pt x="10817" y="7"/>
                      <a:pt x="10815" y="7"/>
                    </a:cubicBezTo>
                    <a:lnTo>
                      <a:pt x="10815" y="7"/>
                    </a:lnTo>
                    <a:cubicBezTo>
                      <a:pt x="10814" y="7"/>
                      <a:pt x="10813" y="6"/>
                      <a:pt x="10813" y="5"/>
                    </a:cubicBezTo>
                    <a:cubicBezTo>
                      <a:pt x="10813" y="4"/>
                      <a:pt x="10814" y="3"/>
                      <a:pt x="10815" y="3"/>
                    </a:cubicBezTo>
                    <a:close/>
                    <a:moveTo>
                      <a:pt x="10823" y="3"/>
                    </a:moveTo>
                    <a:lnTo>
                      <a:pt x="10823" y="3"/>
                    </a:lnTo>
                    <a:cubicBezTo>
                      <a:pt x="10825" y="3"/>
                      <a:pt x="10825" y="4"/>
                      <a:pt x="10825" y="5"/>
                    </a:cubicBezTo>
                    <a:cubicBezTo>
                      <a:pt x="10825" y="6"/>
                      <a:pt x="10825" y="7"/>
                      <a:pt x="10823" y="7"/>
                    </a:cubicBezTo>
                    <a:lnTo>
                      <a:pt x="10823" y="7"/>
                    </a:lnTo>
                    <a:cubicBezTo>
                      <a:pt x="10822" y="7"/>
                      <a:pt x="10821" y="6"/>
                      <a:pt x="10821" y="5"/>
                    </a:cubicBezTo>
                    <a:cubicBezTo>
                      <a:pt x="10821" y="4"/>
                      <a:pt x="10822" y="3"/>
                      <a:pt x="10823" y="3"/>
                    </a:cubicBezTo>
                    <a:close/>
                    <a:moveTo>
                      <a:pt x="10831" y="3"/>
                    </a:moveTo>
                    <a:lnTo>
                      <a:pt x="10831" y="3"/>
                    </a:lnTo>
                    <a:cubicBezTo>
                      <a:pt x="10833" y="3"/>
                      <a:pt x="10833" y="4"/>
                      <a:pt x="10833" y="5"/>
                    </a:cubicBezTo>
                    <a:cubicBezTo>
                      <a:pt x="10833" y="6"/>
                      <a:pt x="10833" y="7"/>
                      <a:pt x="10831" y="7"/>
                    </a:cubicBezTo>
                    <a:lnTo>
                      <a:pt x="10831" y="7"/>
                    </a:lnTo>
                    <a:cubicBezTo>
                      <a:pt x="10830" y="7"/>
                      <a:pt x="10829" y="6"/>
                      <a:pt x="10829" y="5"/>
                    </a:cubicBezTo>
                    <a:cubicBezTo>
                      <a:pt x="10829" y="4"/>
                      <a:pt x="10830" y="3"/>
                      <a:pt x="10831" y="3"/>
                    </a:cubicBezTo>
                    <a:close/>
                    <a:moveTo>
                      <a:pt x="10839" y="3"/>
                    </a:moveTo>
                    <a:lnTo>
                      <a:pt x="10839" y="3"/>
                    </a:lnTo>
                    <a:cubicBezTo>
                      <a:pt x="10841" y="3"/>
                      <a:pt x="10841" y="4"/>
                      <a:pt x="10841" y="5"/>
                    </a:cubicBezTo>
                    <a:cubicBezTo>
                      <a:pt x="10841" y="6"/>
                      <a:pt x="10841" y="7"/>
                      <a:pt x="10839" y="7"/>
                    </a:cubicBezTo>
                    <a:lnTo>
                      <a:pt x="10839" y="7"/>
                    </a:lnTo>
                    <a:cubicBezTo>
                      <a:pt x="10838" y="7"/>
                      <a:pt x="10837" y="6"/>
                      <a:pt x="10837" y="5"/>
                    </a:cubicBezTo>
                    <a:cubicBezTo>
                      <a:pt x="10837" y="4"/>
                      <a:pt x="10838" y="3"/>
                      <a:pt x="10839" y="3"/>
                    </a:cubicBezTo>
                    <a:close/>
                    <a:moveTo>
                      <a:pt x="10847" y="3"/>
                    </a:moveTo>
                    <a:lnTo>
                      <a:pt x="10847" y="3"/>
                    </a:lnTo>
                    <a:cubicBezTo>
                      <a:pt x="10849" y="3"/>
                      <a:pt x="10849" y="4"/>
                      <a:pt x="10849" y="5"/>
                    </a:cubicBezTo>
                    <a:cubicBezTo>
                      <a:pt x="10849" y="6"/>
                      <a:pt x="10849" y="7"/>
                      <a:pt x="10847" y="7"/>
                    </a:cubicBezTo>
                    <a:lnTo>
                      <a:pt x="10847" y="7"/>
                    </a:lnTo>
                    <a:cubicBezTo>
                      <a:pt x="10846" y="7"/>
                      <a:pt x="10845" y="6"/>
                      <a:pt x="10845" y="5"/>
                    </a:cubicBezTo>
                    <a:cubicBezTo>
                      <a:pt x="10845" y="4"/>
                      <a:pt x="10846" y="3"/>
                      <a:pt x="10847" y="3"/>
                    </a:cubicBezTo>
                    <a:close/>
                    <a:moveTo>
                      <a:pt x="10855" y="3"/>
                    </a:moveTo>
                    <a:lnTo>
                      <a:pt x="10855" y="3"/>
                    </a:lnTo>
                    <a:cubicBezTo>
                      <a:pt x="10857" y="3"/>
                      <a:pt x="10857" y="4"/>
                      <a:pt x="10857" y="5"/>
                    </a:cubicBezTo>
                    <a:cubicBezTo>
                      <a:pt x="10857" y="6"/>
                      <a:pt x="10857" y="7"/>
                      <a:pt x="10855" y="7"/>
                    </a:cubicBezTo>
                    <a:lnTo>
                      <a:pt x="10855" y="7"/>
                    </a:lnTo>
                    <a:cubicBezTo>
                      <a:pt x="10854" y="7"/>
                      <a:pt x="10853" y="6"/>
                      <a:pt x="10853" y="5"/>
                    </a:cubicBezTo>
                    <a:cubicBezTo>
                      <a:pt x="10853" y="4"/>
                      <a:pt x="10854" y="3"/>
                      <a:pt x="10855" y="3"/>
                    </a:cubicBezTo>
                    <a:close/>
                    <a:moveTo>
                      <a:pt x="10863" y="3"/>
                    </a:moveTo>
                    <a:lnTo>
                      <a:pt x="10863" y="3"/>
                    </a:lnTo>
                    <a:cubicBezTo>
                      <a:pt x="10865" y="3"/>
                      <a:pt x="10865" y="4"/>
                      <a:pt x="10865" y="5"/>
                    </a:cubicBezTo>
                    <a:cubicBezTo>
                      <a:pt x="10865" y="6"/>
                      <a:pt x="10865" y="7"/>
                      <a:pt x="10863" y="7"/>
                    </a:cubicBezTo>
                    <a:lnTo>
                      <a:pt x="10863" y="7"/>
                    </a:lnTo>
                    <a:cubicBezTo>
                      <a:pt x="10862" y="7"/>
                      <a:pt x="10861" y="6"/>
                      <a:pt x="10861" y="5"/>
                    </a:cubicBezTo>
                    <a:cubicBezTo>
                      <a:pt x="10861" y="4"/>
                      <a:pt x="10862" y="3"/>
                      <a:pt x="10863" y="3"/>
                    </a:cubicBezTo>
                    <a:close/>
                    <a:moveTo>
                      <a:pt x="10871" y="3"/>
                    </a:moveTo>
                    <a:lnTo>
                      <a:pt x="10871" y="3"/>
                    </a:lnTo>
                    <a:cubicBezTo>
                      <a:pt x="10873" y="3"/>
                      <a:pt x="10873" y="4"/>
                      <a:pt x="10873" y="5"/>
                    </a:cubicBezTo>
                    <a:cubicBezTo>
                      <a:pt x="10873" y="6"/>
                      <a:pt x="10873" y="7"/>
                      <a:pt x="10871" y="7"/>
                    </a:cubicBezTo>
                    <a:lnTo>
                      <a:pt x="10871" y="7"/>
                    </a:lnTo>
                    <a:cubicBezTo>
                      <a:pt x="10870" y="7"/>
                      <a:pt x="10869" y="6"/>
                      <a:pt x="10869" y="5"/>
                    </a:cubicBezTo>
                    <a:cubicBezTo>
                      <a:pt x="10869" y="4"/>
                      <a:pt x="10870" y="3"/>
                      <a:pt x="10871" y="3"/>
                    </a:cubicBezTo>
                    <a:close/>
                    <a:moveTo>
                      <a:pt x="10879" y="3"/>
                    </a:moveTo>
                    <a:lnTo>
                      <a:pt x="10879" y="3"/>
                    </a:lnTo>
                    <a:cubicBezTo>
                      <a:pt x="10881" y="3"/>
                      <a:pt x="10881" y="4"/>
                      <a:pt x="10881" y="5"/>
                    </a:cubicBezTo>
                    <a:cubicBezTo>
                      <a:pt x="10881" y="6"/>
                      <a:pt x="10881" y="7"/>
                      <a:pt x="10879" y="7"/>
                    </a:cubicBezTo>
                    <a:lnTo>
                      <a:pt x="10879" y="7"/>
                    </a:lnTo>
                    <a:cubicBezTo>
                      <a:pt x="10878" y="7"/>
                      <a:pt x="10877" y="6"/>
                      <a:pt x="10877" y="5"/>
                    </a:cubicBezTo>
                    <a:cubicBezTo>
                      <a:pt x="10877" y="4"/>
                      <a:pt x="10878" y="3"/>
                      <a:pt x="10879" y="3"/>
                    </a:cubicBezTo>
                    <a:close/>
                    <a:moveTo>
                      <a:pt x="10887" y="3"/>
                    </a:moveTo>
                    <a:lnTo>
                      <a:pt x="10887" y="3"/>
                    </a:lnTo>
                    <a:cubicBezTo>
                      <a:pt x="10889" y="3"/>
                      <a:pt x="10889" y="4"/>
                      <a:pt x="10889" y="5"/>
                    </a:cubicBezTo>
                    <a:cubicBezTo>
                      <a:pt x="10889" y="6"/>
                      <a:pt x="10889" y="7"/>
                      <a:pt x="10887" y="7"/>
                    </a:cubicBezTo>
                    <a:lnTo>
                      <a:pt x="10887" y="7"/>
                    </a:lnTo>
                    <a:cubicBezTo>
                      <a:pt x="10886" y="7"/>
                      <a:pt x="10885" y="6"/>
                      <a:pt x="10885" y="5"/>
                    </a:cubicBezTo>
                    <a:cubicBezTo>
                      <a:pt x="10885" y="4"/>
                      <a:pt x="10886" y="3"/>
                      <a:pt x="10887" y="3"/>
                    </a:cubicBezTo>
                    <a:close/>
                    <a:moveTo>
                      <a:pt x="10895" y="3"/>
                    </a:moveTo>
                    <a:lnTo>
                      <a:pt x="10895" y="3"/>
                    </a:lnTo>
                    <a:cubicBezTo>
                      <a:pt x="10897" y="3"/>
                      <a:pt x="10897" y="4"/>
                      <a:pt x="10897" y="5"/>
                    </a:cubicBezTo>
                    <a:cubicBezTo>
                      <a:pt x="10897" y="6"/>
                      <a:pt x="10897" y="7"/>
                      <a:pt x="10895" y="7"/>
                    </a:cubicBezTo>
                    <a:lnTo>
                      <a:pt x="10895" y="7"/>
                    </a:lnTo>
                    <a:cubicBezTo>
                      <a:pt x="10894" y="7"/>
                      <a:pt x="10893" y="6"/>
                      <a:pt x="10893" y="5"/>
                    </a:cubicBezTo>
                    <a:cubicBezTo>
                      <a:pt x="10893" y="4"/>
                      <a:pt x="10894" y="3"/>
                      <a:pt x="10895" y="3"/>
                    </a:cubicBezTo>
                    <a:close/>
                    <a:moveTo>
                      <a:pt x="10903" y="3"/>
                    </a:moveTo>
                    <a:lnTo>
                      <a:pt x="10903" y="3"/>
                    </a:lnTo>
                    <a:cubicBezTo>
                      <a:pt x="10905" y="3"/>
                      <a:pt x="10905" y="4"/>
                      <a:pt x="10905" y="5"/>
                    </a:cubicBezTo>
                    <a:cubicBezTo>
                      <a:pt x="10905" y="6"/>
                      <a:pt x="10905" y="7"/>
                      <a:pt x="10903" y="7"/>
                    </a:cubicBezTo>
                    <a:lnTo>
                      <a:pt x="10903" y="7"/>
                    </a:lnTo>
                    <a:cubicBezTo>
                      <a:pt x="10902" y="7"/>
                      <a:pt x="10901" y="6"/>
                      <a:pt x="10901" y="5"/>
                    </a:cubicBezTo>
                    <a:cubicBezTo>
                      <a:pt x="10901" y="4"/>
                      <a:pt x="10902" y="3"/>
                      <a:pt x="10903" y="3"/>
                    </a:cubicBezTo>
                    <a:close/>
                    <a:moveTo>
                      <a:pt x="10911" y="3"/>
                    </a:moveTo>
                    <a:lnTo>
                      <a:pt x="10911" y="3"/>
                    </a:lnTo>
                    <a:cubicBezTo>
                      <a:pt x="10913" y="3"/>
                      <a:pt x="10913" y="4"/>
                      <a:pt x="10913" y="5"/>
                    </a:cubicBezTo>
                    <a:cubicBezTo>
                      <a:pt x="10913" y="6"/>
                      <a:pt x="10913" y="7"/>
                      <a:pt x="10911" y="7"/>
                    </a:cubicBezTo>
                    <a:lnTo>
                      <a:pt x="10911" y="7"/>
                    </a:lnTo>
                    <a:cubicBezTo>
                      <a:pt x="10910" y="7"/>
                      <a:pt x="10909" y="6"/>
                      <a:pt x="10909" y="5"/>
                    </a:cubicBezTo>
                    <a:cubicBezTo>
                      <a:pt x="10909" y="4"/>
                      <a:pt x="10910" y="3"/>
                      <a:pt x="10911" y="3"/>
                    </a:cubicBezTo>
                    <a:close/>
                    <a:moveTo>
                      <a:pt x="10919" y="3"/>
                    </a:moveTo>
                    <a:lnTo>
                      <a:pt x="10919" y="3"/>
                    </a:lnTo>
                    <a:cubicBezTo>
                      <a:pt x="10921" y="3"/>
                      <a:pt x="10921" y="4"/>
                      <a:pt x="10921" y="5"/>
                    </a:cubicBezTo>
                    <a:cubicBezTo>
                      <a:pt x="10921" y="6"/>
                      <a:pt x="10921" y="7"/>
                      <a:pt x="10919" y="7"/>
                    </a:cubicBezTo>
                    <a:lnTo>
                      <a:pt x="10919" y="7"/>
                    </a:lnTo>
                    <a:cubicBezTo>
                      <a:pt x="10918" y="7"/>
                      <a:pt x="10917" y="6"/>
                      <a:pt x="10917" y="5"/>
                    </a:cubicBezTo>
                    <a:cubicBezTo>
                      <a:pt x="10917" y="4"/>
                      <a:pt x="10918" y="3"/>
                      <a:pt x="10919" y="3"/>
                    </a:cubicBezTo>
                    <a:close/>
                    <a:moveTo>
                      <a:pt x="10927" y="3"/>
                    </a:moveTo>
                    <a:lnTo>
                      <a:pt x="10927" y="3"/>
                    </a:lnTo>
                    <a:cubicBezTo>
                      <a:pt x="10929" y="3"/>
                      <a:pt x="10929" y="4"/>
                      <a:pt x="10929" y="5"/>
                    </a:cubicBezTo>
                    <a:cubicBezTo>
                      <a:pt x="10929" y="6"/>
                      <a:pt x="10929" y="7"/>
                      <a:pt x="10927" y="7"/>
                    </a:cubicBezTo>
                    <a:lnTo>
                      <a:pt x="10927" y="7"/>
                    </a:lnTo>
                    <a:cubicBezTo>
                      <a:pt x="10926" y="7"/>
                      <a:pt x="10925" y="6"/>
                      <a:pt x="10925" y="5"/>
                    </a:cubicBezTo>
                    <a:cubicBezTo>
                      <a:pt x="10925" y="4"/>
                      <a:pt x="10926" y="3"/>
                      <a:pt x="10927" y="3"/>
                    </a:cubicBezTo>
                    <a:close/>
                    <a:moveTo>
                      <a:pt x="10935" y="3"/>
                    </a:moveTo>
                    <a:lnTo>
                      <a:pt x="10935" y="3"/>
                    </a:lnTo>
                    <a:cubicBezTo>
                      <a:pt x="10937" y="3"/>
                      <a:pt x="10937" y="4"/>
                      <a:pt x="10937" y="5"/>
                    </a:cubicBezTo>
                    <a:cubicBezTo>
                      <a:pt x="10937" y="6"/>
                      <a:pt x="10937" y="7"/>
                      <a:pt x="10935" y="7"/>
                    </a:cubicBezTo>
                    <a:lnTo>
                      <a:pt x="10935" y="7"/>
                    </a:lnTo>
                    <a:cubicBezTo>
                      <a:pt x="10934" y="7"/>
                      <a:pt x="10933" y="6"/>
                      <a:pt x="10933" y="5"/>
                    </a:cubicBezTo>
                    <a:cubicBezTo>
                      <a:pt x="10933" y="4"/>
                      <a:pt x="10934" y="3"/>
                      <a:pt x="10935" y="3"/>
                    </a:cubicBezTo>
                    <a:close/>
                    <a:moveTo>
                      <a:pt x="10943" y="3"/>
                    </a:moveTo>
                    <a:lnTo>
                      <a:pt x="10943" y="3"/>
                    </a:lnTo>
                    <a:cubicBezTo>
                      <a:pt x="10945" y="3"/>
                      <a:pt x="10945" y="4"/>
                      <a:pt x="10945" y="5"/>
                    </a:cubicBezTo>
                    <a:cubicBezTo>
                      <a:pt x="10945" y="6"/>
                      <a:pt x="10945" y="7"/>
                      <a:pt x="10943" y="7"/>
                    </a:cubicBezTo>
                    <a:lnTo>
                      <a:pt x="10943" y="7"/>
                    </a:lnTo>
                    <a:cubicBezTo>
                      <a:pt x="10942" y="7"/>
                      <a:pt x="10941" y="6"/>
                      <a:pt x="10941" y="5"/>
                    </a:cubicBezTo>
                    <a:cubicBezTo>
                      <a:pt x="10941" y="4"/>
                      <a:pt x="10942" y="3"/>
                      <a:pt x="10943" y="3"/>
                    </a:cubicBezTo>
                    <a:close/>
                    <a:moveTo>
                      <a:pt x="10951" y="3"/>
                    </a:moveTo>
                    <a:lnTo>
                      <a:pt x="10951" y="3"/>
                    </a:lnTo>
                    <a:cubicBezTo>
                      <a:pt x="10953" y="3"/>
                      <a:pt x="10953" y="4"/>
                      <a:pt x="10953" y="5"/>
                    </a:cubicBezTo>
                    <a:cubicBezTo>
                      <a:pt x="10953" y="6"/>
                      <a:pt x="10953" y="7"/>
                      <a:pt x="10951" y="7"/>
                    </a:cubicBezTo>
                    <a:lnTo>
                      <a:pt x="10951" y="7"/>
                    </a:lnTo>
                    <a:cubicBezTo>
                      <a:pt x="10950" y="7"/>
                      <a:pt x="10949" y="6"/>
                      <a:pt x="10949" y="5"/>
                    </a:cubicBezTo>
                    <a:cubicBezTo>
                      <a:pt x="10949" y="4"/>
                      <a:pt x="10950" y="3"/>
                      <a:pt x="10951" y="3"/>
                    </a:cubicBezTo>
                    <a:close/>
                    <a:moveTo>
                      <a:pt x="10959" y="3"/>
                    </a:moveTo>
                    <a:lnTo>
                      <a:pt x="10960" y="3"/>
                    </a:lnTo>
                    <a:cubicBezTo>
                      <a:pt x="10961" y="3"/>
                      <a:pt x="10962" y="4"/>
                      <a:pt x="10962" y="5"/>
                    </a:cubicBezTo>
                    <a:cubicBezTo>
                      <a:pt x="10962" y="6"/>
                      <a:pt x="10961" y="7"/>
                      <a:pt x="10960" y="7"/>
                    </a:cubicBezTo>
                    <a:lnTo>
                      <a:pt x="10959" y="7"/>
                    </a:lnTo>
                    <a:cubicBezTo>
                      <a:pt x="10958" y="7"/>
                      <a:pt x="10957" y="6"/>
                      <a:pt x="10957" y="5"/>
                    </a:cubicBezTo>
                    <a:cubicBezTo>
                      <a:pt x="10957" y="4"/>
                      <a:pt x="10958" y="3"/>
                      <a:pt x="10959" y="3"/>
                    </a:cubicBezTo>
                    <a:close/>
                    <a:moveTo>
                      <a:pt x="10968" y="3"/>
                    </a:moveTo>
                    <a:lnTo>
                      <a:pt x="10968" y="3"/>
                    </a:lnTo>
                    <a:cubicBezTo>
                      <a:pt x="10969" y="3"/>
                      <a:pt x="10970" y="4"/>
                      <a:pt x="10970" y="5"/>
                    </a:cubicBezTo>
                    <a:cubicBezTo>
                      <a:pt x="10970" y="6"/>
                      <a:pt x="10969" y="7"/>
                      <a:pt x="10968" y="7"/>
                    </a:cubicBezTo>
                    <a:lnTo>
                      <a:pt x="10968" y="7"/>
                    </a:lnTo>
                    <a:cubicBezTo>
                      <a:pt x="10966" y="7"/>
                      <a:pt x="10966" y="6"/>
                      <a:pt x="10966" y="5"/>
                    </a:cubicBezTo>
                    <a:cubicBezTo>
                      <a:pt x="10966" y="4"/>
                      <a:pt x="10966" y="3"/>
                      <a:pt x="10968" y="3"/>
                    </a:cubicBezTo>
                    <a:close/>
                    <a:moveTo>
                      <a:pt x="10976" y="3"/>
                    </a:moveTo>
                    <a:lnTo>
                      <a:pt x="10976" y="3"/>
                    </a:lnTo>
                    <a:cubicBezTo>
                      <a:pt x="10977" y="3"/>
                      <a:pt x="10978" y="4"/>
                      <a:pt x="10978" y="5"/>
                    </a:cubicBezTo>
                    <a:cubicBezTo>
                      <a:pt x="10978" y="6"/>
                      <a:pt x="10977" y="7"/>
                      <a:pt x="10976" y="7"/>
                    </a:cubicBezTo>
                    <a:lnTo>
                      <a:pt x="10976" y="7"/>
                    </a:lnTo>
                    <a:cubicBezTo>
                      <a:pt x="10974" y="7"/>
                      <a:pt x="10974" y="6"/>
                      <a:pt x="10974" y="5"/>
                    </a:cubicBezTo>
                    <a:cubicBezTo>
                      <a:pt x="10974" y="4"/>
                      <a:pt x="10974" y="3"/>
                      <a:pt x="10976" y="3"/>
                    </a:cubicBezTo>
                    <a:close/>
                    <a:moveTo>
                      <a:pt x="10984" y="3"/>
                    </a:moveTo>
                    <a:lnTo>
                      <a:pt x="10984" y="3"/>
                    </a:lnTo>
                    <a:cubicBezTo>
                      <a:pt x="10985" y="3"/>
                      <a:pt x="10986" y="4"/>
                      <a:pt x="10986" y="5"/>
                    </a:cubicBezTo>
                    <a:cubicBezTo>
                      <a:pt x="10986" y="6"/>
                      <a:pt x="10985" y="7"/>
                      <a:pt x="10984" y="7"/>
                    </a:cubicBezTo>
                    <a:lnTo>
                      <a:pt x="10984" y="7"/>
                    </a:lnTo>
                    <a:cubicBezTo>
                      <a:pt x="10982" y="7"/>
                      <a:pt x="10982" y="6"/>
                      <a:pt x="10982" y="5"/>
                    </a:cubicBezTo>
                    <a:cubicBezTo>
                      <a:pt x="10982" y="4"/>
                      <a:pt x="10982" y="3"/>
                      <a:pt x="10984" y="3"/>
                    </a:cubicBezTo>
                    <a:close/>
                    <a:moveTo>
                      <a:pt x="10992" y="3"/>
                    </a:moveTo>
                    <a:lnTo>
                      <a:pt x="10992" y="3"/>
                    </a:lnTo>
                    <a:cubicBezTo>
                      <a:pt x="10993" y="3"/>
                      <a:pt x="10994" y="4"/>
                      <a:pt x="10994" y="5"/>
                    </a:cubicBezTo>
                    <a:cubicBezTo>
                      <a:pt x="10994" y="6"/>
                      <a:pt x="10993" y="7"/>
                      <a:pt x="10992" y="7"/>
                    </a:cubicBezTo>
                    <a:lnTo>
                      <a:pt x="10992" y="7"/>
                    </a:lnTo>
                    <a:cubicBezTo>
                      <a:pt x="10990" y="7"/>
                      <a:pt x="10990" y="6"/>
                      <a:pt x="10990" y="5"/>
                    </a:cubicBezTo>
                    <a:cubicBezTo>
                      <a:pt x="10990" y="4"/>
                      <a:pt x="10990" y="3"/>
                      <a:pt x="10992" y="3"/>
                    </a:cubicBezTo>
                    <a:close/>
                    <a:moveTo>
                      <a:pt x="11000" y="3"/>
                    </a:moveTo>
                    <a:lnTo>
                      <a:pt x="11000" y="3"/>
                    </a:lnTo>
                    <a:cubicBezTo>
                      <a:pt x="11001" y="3"/>
                      <a:pt x="11002" y="4"/>
                      <a:pt x="11002" y="5"/>
                    </a:cubicBezTo>
                    <a:cubicBezTo>
                      <a:pt x="11002" y="6"/>
                      <a:pt x="11001" y="7"/>
                      <a:pt x="11000" y="7"/>
                    </a:cubicBezTo>
                    <a:lnTo>
                      <a:pt x="11000" y="7"/>
                    </a:lnTo>
                    <a:cubicBezTo>
                      <a:pt x="10998" y="7"/>
                      <a:pt x="10998" y="6"/>
                      <a:pt x="10998" y="5"/>
                    </a:cubicBezTo>
                    <a:cubicBezTo>
                      <a:pt x="10998" y="4"/>
                      <a:pt x="10998" y="3"/>
                      <a:pt x="11000" y="3"/>
                    </a:cubicBezTo>
                    <a:close/>
                    <a:moveTo>
                      <a:pt x="11008" y="3"/>
                    </a:moveTo>
                    <a:lnTo>
                      <a:pt x="11008" y="3"/>
                    </a:lnTo>
                    <a:cubicBezTo>
                      <a:pt x="11009" y="3"/>
                      <a:pt x="11010" y="4"/>
                      <a:pt x="11010" y="5"/>
                    </a:cubicBezTo>
                    <a:cubicBezTo>
                      <a:pt x="11010" y="6"/>
                      <a:pt x="11009" y="7"/>
                      <a:pt x="11008" y="7"/>
                    </a:cubicBezTo>
                    <a:lnTo>
                      <a:pt x="11008" y="7"/>
                    </a:lnTo>
                    <a:cubicBezTo>
                      <a:pt x="11006" y="7"/>
                      <a:pt x="11006" y="6"/>
                      <a:pt x="11006" y="5"/>
                    </a:cubicBezTo>
                    <a:cubicBezTo>
                      <a:pt x="11006" y="4"/>
                      <a:pt x="11006" y="3"/>
                      <a:pt x="11008" y="3"/>
                    </a:cubicBezTo>
                    <a:close/>
                    <a:moveTo>
                      <a:pt x="11016" y="3"/>
                    </a:moveTo>
                    <a:lnTo>
                      <a:pt x="11016" y="3"/>
                    </a:lnTo>
                    <a:cubicBezTo>
                      <a:pt x="11017" y="3"/>
                      <a:pt x="11018" y="4"/>
                      <a:pt x="11018" y="5"/>
                    </a:cubicBezTo>
                    <a:cubicBezTo>
                      <a:pt x="11018" y="6"/>
                      <a:pt x="11017" y="7"/>
                      <a:pt x="11016" y="7"/>
                    </a:cubicBezTo>
                    <a:lnTo>
                      <a:pt x="11016" y="7"/>
                    </a:lnTo>
                    <a:cubicBezTo>
                      <a:pt x="11014" y="7"/>
                      <a:pt x="11014" y="6"/>
                      <a:pt x="11014" y="5"/>
                    </a:cubicBezTo>
                    <a:cubicBezTo>
                      <a:pt x="11014" y="4"/>
                      <a:pt x="11014" y="3"/>
                      <a:pt x="11016" y="3"/>
                    </a:cubicBezTo>
                    <a:close/>
                    <a:moveTo>
                      <a:pt x="11024" y="3"/>
                    </a:moveTo>
                    <a:lnTo>
                      <a:pt x="11024" y="3"/>
                    </a:lnTo>
                    <a:cubicBezTo>
                      <a:pt x="11025" y="3"/>
                      <a:pt x="11026" y="4"/>
                      <a:pt x="11026" y="5"/>
                    </a:cubicBezTo>
                    <a:cubicBezTo>
                      <a:pt x="11026" y="6"/>
                      <a:pt x="11025" y="7"/>
                      <a:pt x="11024" y="7"/>
                    </a:cubicBezTo>
                    <a:lnTo>
                      <a:pt x="11024" y="7"/>
                    </a:lnTo>
                    <a:cubicBezTo>
                      <a:pt x="11022" y="7"/>
                      <a:pt x="11022" y="6"/>
                      <a:pt x="11022" y="5"/>
                    </a:cubicBezTo>
                    <a:cubicBezTo>
                      <a:pt x="11022" y="4"/>
                      <a:pt x="11022" y="3"/>
                      <a:pt x="11024" y="3"/>
                    </a:cubicBezTo>
                    <a:close/>
                    <a:moveTo>
                      <a:pt x="11032" y="3"/>
                    </a:moveTo>
                    <a:lnTo>
                      <a:pt x="11032" y="3"/>
                    </a:lnTo>
                    <a:cubicBezTo>
                      <a:pt x="11033" y="3"/>
                      <a:pt x="11034" y="4"/>
                      <a:pt x="11034" y="5"/>
                    </a:cubicBezTo>
                    <a:cubicBezTo>
                      <a:pt x="11034" y="6"/>
                      <a:pt x="11033" y="7"/>
                      <a:pt x="11032" y="7"/>
                    </a:cubicBezTo>
                    <a:lnTo>
                      <a:pt x="11032" y="7"/>
                    </a:lnTo>
                    <a:cubicBezTo>
                      <a:pt x="11030" y="7"/>
                      <a:pt x="11030" y="6"/>
                      <a:pt x="11030" y="5"/>
                    </a:cubicBezTo>
                    <a:cubicBezTo>
                      <a:pt x="11030" y="4"/>
                      <a:pt x="11030" y="3"/>
                      <a:pt x="11032" y="3"/>
                    </a:cubicBezTo>
                    <a:close/>
                    <a:moveTo>
                      <a:pt x="11040" y="3"/>
                    </a:moveTo>
                    <a:lnTo>
                      <a:pt x="11040" y="3"/>
                    </a:lnTo>
                    <a:cubicBezTo>
                      <a:pt x="11041" y="3"/>
                      <a:pt x="11042" y="4"/>
                      <a:pt x="11042" y="5"/>
                    </a:cubicBezTo>
                    <a:cubicBezTo>
                      <a:pt x="11042" y="6"/>
                      <a:pt x="11041" y="7"/>
                      <a:pt x="11040" y="7"/>
                    </a:cubicBezTo>
                    <a:lnTo>
                      <a:pt x="11040" y="7"/>
                    </a:lnTo>
                    <a:cubicBezTo>
                      <a:pt x="11038" y="7"/>
                      <a:pt x="11038" y="6"/>
                      <a:pt x="11038" y="5"/>
                    </a:cubicBezTo>
                    <a:cubicBezTo>
                      <a:pt x="11038" y="4"/>
                      <a:pt x="11038" y="3"/>
                      <a:pt x="11040" y="3"/>
                    </a:cubicBezTo>
                    <a:close/>
                    <a:moveTo>
                      <a:pt x="11048" y="3"/>
                    </a:moveTo>
                    <a:lnTo>
                      <a:pt x="11048" y="3"/>
                    </a:lnTo>
                    <a:cubicBezTo>
                      <a:pt x="11049" y="3"/>
                      <a:pt x="11050" y="4"/>
                      <a:pt x="11050" y="5"/>
                    </a:cubicBezTo>
                    <a:cubicBezTo>
                      <a:pt x="11050" y="6"/>
                      <a:pt x="11049" y="7"/>
                      <a:pt x="11048" y="7"/>
                    </a:cubicBezTo>
                    <a:lnTo>
                      <a:pt x="11048" y="7"/>
                    </a:lnTo>
                    <a:cubicBezTo>
                      <a:pt x="11046" y="7"/>
                      <a:pt x="11046" y="6"/>
                      <a:pt x="11046" y="5"/>
                    </a:cubicBezTo>
                    <a:cubicBezTo>
                      <a:pt x="11046" y="4"/>
                      <a:pt x="11046" y="3"/>
                      <a:pt x="11048" y="3"/>
                    </a:cubicBezTo>
                    <a:close/>
                    <a:moveTo>
                      <a:pt x="11056" y="3"/>
                    </a:moveTo>
                    <a:lnTo>
                      <a:pt x="11056" y="3"/>
                    </a:lnTo>
                    <a:cubicBezTo>
                      <a:pt x="11057" y="3"/>
                      <a:pt x="11058" y="4"/>
                      <a:pt x="11058" y="5"/>
                    </a:cubicBezTo>
                    <a:cubicBezTo>
                      <a:pt x="11058" y="6"/>
                      <a:pt x="11057" y="7"/>
                      <a:pt x="11056" y="7"/>
                    </a:cubicBezTo>
                    <a:lnTo>
                      <a:pt x="11056" y="7"/>
                    </a:lnTo>
                    <a:cubicBezTo>
                      <a:pt x="11054" y="7"/>
                      <a:pt x="11054" y="6"/>
                      <a:pt x="11054" y="5"/>
                    </a:cubicBezTo>
                    <a:cubicBezTo>
                      <a:pt x="11054" y="4"/>
                      <a:pt x="11054" y="3"/>
                      <a:pt x="11056" y="3"/>
                    </a:cubicBezTo>
                    <a:close/>
                    <a:moveTo>
                      <a:pt x="11064" y="3"/>
                    </a:moveTo>
                    <a:lnTo>
                      <a:pt x="11064" y="3"/>
                    </a:lnTo>
                    <a:cubicBezTo>
                      <a:pt x="11065" y="3"/>
                      <a:pt x="11066" y="4"/>
                      <a:pt x="11066" y="5"/>
                    </a:cubicBezTo>
                    <a:cubicBezTo>
                      <a:pt x="11066" y="6"/>
                      <a:pt x="11065" y="7"/>
                      <a:pt x="11064" y="7"/>
                    </a:cubicBezTo>
                    <a:lnTo>
                      <a:pt x="11064" y="7"/>
                    </a:lnTo>
                    <a:cubicBezTo>
                      <a:pt x="11062" y="7"/>
                      <a:pt x="11062" y="6"/>
                      <a:pt x="11062" y="5"/>
                    </a:cubicBezTo>
                    <a:cubicBezTo>
                      <a:pt x="11062" y="4"/>
                      <a:pt x="11062" y="3"/>
                      <a:pt x="11064" y="3"/>
                    </a:cubicBezTo>
                    <a:close/>
                    <a:moveTo>
                      <a:pt x="11072" y="3"/>
                    </a:moveTo>
                    <a:lnTo>
                      <a:pt x="11072" y="3"/>
                    </a:lnTo>
                    <a:cubicBezTo>
                      <a:pt x="11073" y="3"/>
                      <a:pt x="11074" y="4"/>
                      <a:pt x="11074" y="5"/>
                    </a:cubicBezTo>
                    <a:cubicBezTo>
                      <a:pt x="11074" y="6"/>
                      <a:pt x="11073" y="7"/>
                      <a:pt x="11072" y="7"/>
                    </a:cubicBezTo>
                    <a:lnTo>
                      <a:pt x="11072" y="7"/>
                    </a:lnTo>
                    <a:cubicBezTo>
                      <a:pt x="11070" y="7"/>
                      <a:pt x="11070" y="6"/>
                      <a:pt x="11070" y="5"/>
                    </a:cubicBezTo>
                    <a:cubicBezTo>
                      <a:pt x="11070" y="4"/>
                      <a:pt x="11070" y="3"/>
                      <a:pt x="11072" y="3"/>
                    </a:cubicBezTo>
                    <a:close/>
                    <a:moveTo>
                      <a:pt x="11080" y="3"/>
                    </a:moveTo>
                    <a:lnTo>
                      <a:pt x="11080" y="3"/>
                    </a:lnTo>
                    <a:cubicBezTo>
                      <a:pt x="11081" y="3"/>
                      <a:pt x="11082" y="4"/>
                      <a:pt x="11082" y="5"/>
                    </a:cubicBezTo>
                    <a:cubicBezTo>
                      <a:pt x="11082" y="6"/>
                      <a:pt x="11081" y="7"/>
                      <a:pt x="11080" y="7"/>
                    </a:cubicBezTo>
                    <a:lnTo>
                      <a:pt x="11080" y="7"/>
                    </a:lnTo>
                    <a:cubicBezTo>
                      <a:pt x="11078" y="7"/>
                      <a:pt x="11078" y="6"/>
                      <a:pt x="11078" y="5"/>
                    </a:cubicBezTo>
                    <a:cubicBezTo>
                      <a:pt x="11078" y="4"/>
                      <a:pt x="11078" y="3"/>
                      <a:pt x="11080" y="3"/>
                    </a:cubicBezTo>
                    <a:close/>
                    <a:moveTo>
                      <a:pt x="11088" y="3"/>
                    </a:moveTo>
                    <a:lnTo>
                      <a:pt x="11088" y="3"/>
                    </a:lnTo>
                    <a:cubicBezTo>
                      <a:pt x="11089" y="3"/>
                      <a:pt x="11090" y="4"/>
                      <a:pt x="11090" y="5"/>
                    </a:cubicBezTo>
                    <a:cubicBezTo>
                      <a:pt x="11090" y="6"/>
                      <a:pt x="11089" y="7"/>
                      <a:pt x="11088" y="7"/>
                    </a:cubicBezTo>
                    <a:lnTo>
                      <a:pt x="11088" y="7"/>
                    </a:lnTo>
                    <a:cubicBezTo>
                      <a:pt x="11086" y="7"/>
                      <a:pt x="11086" y="6"/>
                      <a:pt x="11086" y="5"/>
                    </a:cubicBezTo>
                    <a:cubicBezTo>
                      <a:pt x="11086" y="4"/>
                      <a:pt x="11086" y="3"/>
                      <a:pt x="11088" y="3"/>
                    </a:cubicBezTo>
                    <a:close/>
                    <a:moveTo>
                      <a:pt x="11096" y="3"/>
                    </a:moveTo>
                    <a:lnTo>
                      <a:pt x="11096" y="3"/>
                    </a:lnTo>
                    <a:cubicBezTo>
                      <a:pt x="11097" y="3"/>
                      <a:pt x="11098" y="4"/>
                      <a:pt x="11098" y="5"/>
                    </a:cubicBezTo>
                    <a:cubicBezTo>
                      <a:pt x="11098" y="6"/>
                      <a:pt x="11097" y="7"/>
                      <a:pt x="11096" y="7"/>
                    </a:cubicBezTo>
                    <a:lnTo>
                      <a:pt x="11096" y="7"/>
                    </a:lnTo>
                    <a:cubicBezTo>
                      <a:pt x="11094" y="7"/>
                      <a:pt x="11094" y="6"/>
                      <a:pt x="11094" y="5"/>
                    </a:cubicBezTo>
                    <a:cubicBezTo>
                      <a:pt x="11094" y="4"/>
                      <a:pt x="11094" y="3"/>
                      <a:pt x="11096" y="3"/>
                    </a:cubicBezTo>
                    <a:close/>
                    <a:moveTo>
                      <a:pt x="11104" y="3"/>
                    </a:moveTo>
                    <a:lnTo>
                      <a:pt x="11104" y="3"/>
                    </a:lnTo>
                    <a:cubicBezTo>
                      <a:pt x="11105" y="3"/>
                      <a:pt x="11106" y="4"/>
                      <a:pt x="11106" y="5"/>
                    </a:cubicBezTo>
                    <a:cubicBezTo>
                      <a:pt x="11106" y="6"/>
                      <a:pt x="11105" y="7"/>
                      <a:pt x="11104" y="7"/>
                    </a:cubicBezTo>
                    <a:lnTo>
                      <a:pt x="11104" y="7"/>
                    </a:lnTo>
                    <a:cubicBezTo>
                      <a:pt x="11102" y="7"/>
                      <a:pt x="11102" y="6"/>
                      <a:pt x="11102" y="5"/>
                    </a:cubicBezTo>
                    <a:cubicBezTo>
                      <a:pt x="11102" y="4"/>
                      <a:pt x="11102" y="3"/>
                      <a:pt x="11104" y="3"/>
                    </a:cubicBezTo>
                    <a:close/>
                    <a:moveTo>
                      <a:pt x="11112" y="3"/>
                    </a:moveTo>
                    <a:lnTo>
                      <a:pt x="11112" y="3"/>
                    </a:lnTo>
                    <a:cubicBezTo>
                      <a:pt x="11113" y="3"/>
                      <a:pt x="11114" y="4"/>
                      <a:pt x="11114" y="5"/>
                    </a:cubicBezTo>
                    <a:cubicBezTo>
                      <a:pt x="11114" y="6"/>
                      <a:pt x="11113" y="7"/>
                      <a:pt x="11112" y="7"/>
                    </a:cubicBezTo>
                    <a:lnTo>
                      <a:pt x="11112" y="7"/>
                    </a:lnTo>
                    <a:cubicBezTo>
                      <a:pt x="11110" y="7"/>
                      <a:pt x="11110" y="6"/>
                      <a:pt x="11110" y="5"/>
                    </a:cubicBezTo>
                    <a:cubicBezTo>
                      <a:pt x="11110" y="4"/>
                      <a:pt x="11110" y="3"/>
                      <a:pt x="11112" y="3"/>
                    </a:cubicBezTo>
                    <a:close/>
                    <a:moveTo>
                      <a:pt x="11120" y="3"/>
                    </a:moveTo>
                    <a:lnTo>
                      <a:pt x="11120" y="3"/>
                    </a:lnTo>
                    <a:cubicBezTo>
                      <a:pt x="11121" y="3"/>
                      <a:pt x="11122" y="4"/>
                      <a:pt x="11122" y="5"/>
                    </a:cubicBezTo>
                    <a:cubicBezTo>
                      <a:pt x="11122" y="6"/>
                      <a:pt x="11121" y="7"/>
                      <a:pt x="11120" y="7"/>
                    </a:cubicBezTo>
                    <a:lnTo>
                      <a:pt x="11120" y="7"/>
                    </a:lnTo>
                    <a:cubicBezTo>
                      <a:pt x="11118" y="7"/>
                      <a:pt x="11118" y="6"/>
                      <a:pt x="11118" y="5"/>
                    </a:cubicBezTo>
                    <a:cubicBezTo>
                      <a:pt x="11118" y="4"/>
                      <a:pt x="11118" y="3"/>
                      <a:pt x="11120" y="3"/>
                    </a:cubicBezTo>
                    <a:close/>
                    <a:moveTo>
                      <a:pt x="11128" y="3"/>
                    </a:moveTo>
                    <a:lnTo>
                      <a:pt x="11128" y="3"/>
                    </a:lnTo>
                    <a:cubicBezTo>
                      <a:pt x="11129" y="3"/>
                      <a:pt x="11130" y="4"/>
                      <a:pt x="11130" y="5"/>
                    </a:cubicBezTo>
                    <a:cubicBezTo>
                      <a:pt x="11130" y="6"/>
                      <a:pt x="11129" y="7"/>
                      <a:pt x="11128" y="7"/>
                    </a:cubicBezTo>
                    <a:lnTo>
                      <a:pt x="11128" y="7"/>
                    </a:lnTo>
                    <a:cubicBezTo>
                      <a:pt x="11126" y="7"/>
                      <a:pt x="11126" y="6"/>
                      <a:pt x="11126" y="5"/>
                    </a:cubicBezTo>
                    <a:cubicBezTo>
                      <a:pt x="11126" y="4"/>
                      <a:pt x="11126" y="3"/>
                      <a:pt x="11128" y="3"/>
                    </a:cubicBezTo>
                    <a:close/>
                    <a:moveTo>
                      <a:pt x="11136" y="3"/>
                    </a:moveTo>
                    <a:lnTo>
                      <a:pt x="11136" y="3"/>
                    </a:lnTo>
                    <a:cubicBezTo>
                      <a:pt x="11137" y="3"/>
                      <a:pt x="11138" y="4"/>
                      <a:pt x="11138" y="5"/>
                    </a:cubicBezTo>
                    <a:cubicBezTo>
                      <a:pt x="11138" y="6"/>
                      <a:pt x="11137" y="7"/>
                      <a:pt x="11136" y="7"/>
                    </a:cubicBezTo>
                    <a:lnTo>
                      <a:pt x="11136" y="7"/>
                    </a:lnTo>
                    <a:cubicBezTo>
                      <a:pt x="11134" y="7"/>
                      <a:pt x="11134" y="6"/>
                      <a:pt x="11134" y="5"/>
                    </a:cubicBezTo>
                    <a:cubicBezTo>
                      <a:pt x="11134" y="4"/>
                      <a:pt x="11134" y="3"/>
                      <a:pt x="11136" y="3"/>
                    </a:cubicBezTo>
                    <a:close/>
                    <a:moveTo>
                      <a:pt x="11144" y="3"/>
                    </a:moveTo>
                    <a:lnTo>
                      <a:pt x="11144" y="3"/>
                    </a:lnTo>
                    <a:cubicBezTo>
                      <a:pt x="11145" y="3"/>
                      <a:pt x="11146" y="4"/>
                      <a:pt x="11146" y="5"/>
                    </a:cubicBezTo>
                    <a:cubicBezTo>
                      <a:pt x="11146" y="6"/>
                      <a:pt x="11145" y="7"/>
                      <a:pt x="11144" y="7"/>
                    </a:cubicBezTo>
                    <a:lnTo>
                      <a:pt x="11144" y="7"/>
                    </a:lnTo>
                    <a:cubicBezTo>
                      <a:pt x="11143" y="7"/>
                      <a:pt x="11142" y="6"/>
                      <a:pt x="11142" y="5"/>
                    </a:cubicBezTo>
                    <a:cubicBezTo>
                      <a:pt x="11142" y="4"/>
                      <a:pt x="11143" y="3"/>
                      <a:pt x="11144" y="3"/>
                    </a:cubicBezTo>
                    <a:close/>
                    <a:moveTo>
                      <a:pt x="11152" y="3"/>
                    </a:moveTo>
                    <a:lnTo>
                      <a:pt x="11152" y="3"/>
                    </a:lnTo>
                    <a:cubicBezTo>
                      <a:pt x="11153" y="3"/>
                      <a:pt x="11154" y="4"/>
                      <a:pt x="11154" y="5"/>
                    </a:cubicBezTo>
                    <a:cubicBezTo>
                      <a:pt x="11154" y="6"/>
                      <a:pt x="11153" y="7"/>
                      <a:pt x="11152" y="7"/>
                    </a:cubicBezTo>
                    <a:lnTo>
                      <a:pt x="11152" y="7"/>
                    </a:lnTo>
                    <a:cubicBezTo>
                      <a:pt x="11151" y="7"/>
                      <a:pt x="11150" y="6"/>
                      <a:pt x="11150" y="5"/>
                    </a:cubicBezTo>
                    <a:cubicBezTo>
                      <a:pt x="11150" y="4"/>
                      <a:pt x="11151" y="3"/>
                      <a:pt x="11152" y="3"/>
                    </a:cubicBezTo>
                    <a:close/>
                    <a:moveTo>
                      <a:pt x="11160" y="3"/>
                    </a:moveTo>
                    <a:lnTo>
                      <a:pt x="11160" y="3"/>
                    </a:lnTo>
                    <a:cubicBezTo>
                      <a:pt x="11161" y="3"/>
                      <a:pt x="11162" y="4"/>
                      <a:pt x="11162" y="5"/>
                    </a:cubicBezTo>
                    <a:cubicBezTo>
                      <a:pt x="11162" y="6"/>
                      <a:pt x="11161" y="7"/>
                      <a:pt x="11160" y="7"/>
                    </a:cubicBezTo>
                    <a:lnTo>
                      <a:pt x="11160" y="7"/>
                    </a:lnTo>
                    <a:cubicBezTo>
                      <a:pt x="11159" y="7"/>
                      <a:pt x="11158" y="6"/>
                      <a:pt x="11158" y="5"/>
                    </a:cubicBezTo>
                    <a:cubicBezTo>
                      <a:pt x="11158" y="4"/>
                      <a:pt x="11159" y="3"/>
                      <a:pt x="11160" y="3"/>
                    </a:cubicBezTo>
                    <a:close/>
                    <a:moveTo>
                      <a:pt x="11168" y="3"/>
                    </a:moveTo>
                    <a:lnTo>
                      <a:pt x="11168" y="3"/>
                    </a:lnTo>
                    <a:cubicBezTo>
                      <a:pt x="11169" y="3"/>
                      <a:pt x="11170" y="4"/>
                      <a:pt x="11170" y="5"/>
                    </a:cubicBezTo>
                    <a:cubicBezTo>
                      <a:pt x="11170" y="6"/>
                      <a:pt x="11169" y="7"/>
                      <a:pt x="11168" y="7"/>
                    </a:cubicBezTo>
                    <a:lnTo>
                      <a:pt x="11168" y="7"/>
                    </a:lnTo>
                    <a:cubicBezTo>
                      <a:pt x="11167" y="7"/>
                      <a:pt x="11166" y="6"/>
                      <a:pt x="11166" y="5"/>
                    </a:cubicBezTo>
                    <a:cubicBezTo>
                      <a:pt x="11166" y="4"/>
                      <a:pt x="11167" y="3"/>
                      <a:pt x="11168" y="3"/>
                    </a:cubicBezTo>
                    <a:close/>
                    <a:moveTo>
                      <a:pt x="11176" y="3"/>
                    </a:moveTo>
                    <a:lnTo>
                      <a:pt x="11176" y="3"/>
                    </a:lnTo>
                    <a:cubicBezTo>
                      <a:pt x="11177" y="3"/>
                      <a:pt x="11178" y="4"/>
                      <a:pt x="11178" y="5"/>
                    </a:cubicBezTo>
                    <a:cubicBezTo>
                      <a:pt x="11178" y="6"/>
                      <a:pt x="11177" y="7"/>
                      <a:pt x="11176" y="7"/>
                    </a:cubicBezTo>
                    <a:lnTo>
                      <a:pt x="11176" y="7"/>
                    </a:lnTo>
                    <a:cubicBezTo>
                      <a:pt x="11175" y="7"/>
                      <a:pt x="11174" y="6"/>
                      <a:pt x="11174" y="5"/>
                    </a:cubicBezTo>
                    <a:cubicBezTo>
                      <a:pt x="11174" y="4"/>
                      <a:pt x="11175" y="3"/>
                      <a:pt x="11176" y="3"/>
                    </a:cubicBezTo>
                    <a:close/>
                    <a:moveTo>
                      <a:pt x="11184" y="3"/>
                    </a:moveTo>
                    <a:lnTo>
                      <a:pt x="11184" y="3"/>
                    </a:lnTo>
                    <a:cubicBezTo>
                      <a:pt x="11185" y="3"/>
                      <a:pt x="11186" y="4"/>
                      <a:pt x="11186" y="5"/>
                    </a:cubicBezTo>
                    <a:cubicBezTo>
                      <a:pt x="11186" y="6"/>
                      <a:pt x="11185" y="7"/>
                      <a:pt x="11184" y="7"/>
                    </a:cubicBezTo>
                    <a:lnTo>
                      <a:pt x="11184" y="7"/>
                    </a:lnTo>
                    <a:cubicBezTo>
                      <a:pt x="11183" y="7"/>
                      <a:pt x="11182" y="6"/>
                      <a:pt x="11182" y="5"/>
                    </a:cubicBezTo>
                    <a:cubicBezTo>
                      <a:pt x="11182" y="4"/>
                      <a:pt x="11183" y="3"/>
                      <a:pt x="11184" y="3"/>
                    </a:cubicBezTo>
                    <a:close/>
                    <a:moveTo>
                      <a:pt x="11192" y="3"/>
                    </a:moveTo>
                    <a:lnTo>
                      <a:pt x="11192" y="3"/>
                    </a:lnTo>
                    <a:cubicBezTo>
                      <a:pt x="11193" y="3"/>
                      <a:pt x="11194" y="4"/>
                      <a:pt x="11194" y="5"/>
                    </a:cubicBezTo>
                    <a:cubicBezTo>
                      <a:pt x="11194" y="6"/>
                      <a:pt x="11193" y="7"/>
                      <a:pt x="11192" y="7"/>
                    </a:cubicBezTo>
                    <a:lnTo>
                      <a:pt x="11192" y="7"/>
                    </a:lnTo>
                    <a:cubicBezTo>
                      <a:pt x="11191" y="7"/>
                      <a:pt x="11190" y="6"/>
                      <a:pt x="11190" y="5"/>
                    </a:cubicBezTo>
                    <a:cubicBezTo>
                      <a:pt x="11190" y="4"/>
                      <a:pt x="11191" y="3"/>
                      <a:pt x="11192" y="3"/>
                    </a:cubicBezTo>
                    <a:close/>
                    <a:moveTo>
                      <a:pt x="11200" y="3"/>
                    </a:moveTo>
                    <a:lnTo>
                      <a:pt x="11200" y="3"/>
                    </a:lnTo>
                    <a:cubicBezTo>
                      <a:pt x="11201" y="3"/>
                      <a:pt x="11202" y="4"/>
                      <a:pt x="11202" y="5"/>
                    </a:cubicBezTo>
                    <a:cubicBezTo>
                      <a:pt x="11202" y="6"/>
                      <a:pt x="11201" y="7"/>
                      <a:pt x="11200" y="7"/>
                    </a:cubicBezTo>
                    <a:lnTo>
                      <a:pt x="11200" y="7"/>
                    </a:lnTo>
                    <a:cubicBezTo>
                      <a:pt x="11199" y="7"/>
                      <a:pt x="11198" y="6"/>
                      <a:pt x="11198" y="5"/>
                    </a:cubicBezTo>
                    <a:cubicBezTo>
                      <a:pt x="11198" y="4"/>
                      <a:pt x="11199" y="3"/>
                      <a:pt x="11200" y="3"/>
                    </a:cubicBezTo>
                    <a:close/>
                    <a:moveTo>
                      <a:pt x="11208" y="3"/>
                    </a:moveTo>
                    <a:lnTo>
                      <a:pt x="11208" y="3"/>
                    </a:lnTo>
                    <a:cubicBezTo>
                      <a:pt x="11209" y="3"/>
                      <a:pt x="11210" y="4"/>
                      <a:pt x="11210" y="5"/>
                    </a:cubicBezTo>
                    <a:cubicBezTo>
                      <a:pt x="11210" y="6"/>
                      <a:pt x="11209" y="7"/>
                      <a:pt x="11208" y="7"/>
                    </a:cubicBezTo>
                    <a:lnTo>
                      <a:pt x="11208" y="7"/>
                    </a:lnTo>
                    <a:cubicBezTo>
                      <a:pt x="11207" y="7"/>
                      <a:pt x="11206" y="6"/>
                      <a:pt x="11206" y="5"/>
                    </a:cubicBezTo>
                    <a:cubicBezTo>
                      <a:pt x="11206" y="4"/>
                      <a:pt x="11207" y="3"/>
                      <a:pt x="11208" y="3"/>
                    </a:cubicBezTo>
                    <a:close/>
                    <a:moveTo>
                      <a:pt x="11216" y="3"/>
                    </a:moveTo>
                    <a:lnTo>
                      <a:pt x="11216" y="3"/>
                    </a:lnTo>
                    <a:cubicBezTo>
                      <a:pt x="11217" y="3"/>
                      <a:pt x="11218" y="4"/>
                      <a:pt x="11218" y="5"/>
                    </a:cubicBezTo>
                    <a:cubicBezTo>
                      <a:pt x="11218" y="6"/>
                      <a:pt x="11217" y="7"/>
                      <a:pt x="11216" y="7"/>
                    </a:cubicBezTo>
                    <a:lnTo>
                      <a:pt x="11216" y="7"/>
                    </a:lnTo>
                    <a:cubicBezTo>
                      <a:pt x="11215" y="7"/>
                      <a:pt x="11214" y="6"/>
                      <a:pt x="11214" y="5"/>
                    </a:cubicBezTo>
                    <a:cubicBezTo>
                      <a:pt x="11214" y="4"/>
                      <a:pt x="11215" y="3"/>
                      <a:pt x="11216" y="3"/>
                    </a:cubicBezTo>
                    <a:close/>
                    <a:moveTo>
                      <a:pt x="11224" y="3"/>
                    </a:moveTo>
                    <a:lnTo>
                      <a:pt x="11224" y="3"/>
                    </a:lnTo>
                    <a:cubicBezTo>
                      <a:pt x="11225" y="3"/>
                      <a:pt x="11226" y="4"/>
                      <a:pt x="11226" y="5"/>
                    </a:cubicBezTo>
                    <a:cubicBezTo>
                      <a:pt x="11226" y="6"/>
                      <a:pt x="11225" y="7"/>
                      <a:pt x="11224" y="7"/>
                    </a:cubicBezTo>
                    <a:lnTo>
                      <a:pt x="11224" y="7"/>
                    </a:lnTo>
                    <a:cubicBezTo>
                      <a:pt x="11223" y="7"/>
                      <a:pt x="11222" y="6"/>
                      <a:pt x="11222" y="5"/>
                    </a:cubicBezTo>
                    <a:cubicBezTo>
                      <a:pt x="11222" y="4"/>
                      <a:pt x="11223" y="3"/>
                      <a:pt x="11224" y="3"/>
                    </a:cubicBezTo>
                    <a:close/>
                    <a:moveTo>
                      <a:pt x="11232" y="3"/>
                    </a:moveTo>
                    <a:lnTo>
                      <a:pt x="11232" y="3"/>
                    </a:lnTo>
                    <a:cubicBezTo>
                      <a:pt x="11233" y="3"/>
                      <a:pt x="11234" y="4"/>
                      <a:pt x="11234" y="5"/>
                    </a:cubicBezTo>
                    <a:cubicBezTo>
                      <a:pt x="11234" y="6"/>
                      <a:pt x="11233" y="7"/>
                      <a:pt x="11232" y="7"/>
                    </a:cubicBezTo>
                    <a:lnTo>
                      <a:pt x="11232" y="7"/>
                    </a:lnTo>
                    <a:cubicBezTo>
                      <a:pt x="11231" y="7"/>
                      <a:pt x="11230" y="6"/>
                      <a:pt x="11230" y="5"/>
                    </a:cubicBezTo>
                    <a:cubicBezTo>
                      <a:pt x="11230" y="4"/>
                      <a:pt x="11231" y="3"/>
                      <a:pt x="11232" y="3"/>
                    </a:cubicBezTo>
                    <a:close/>
                    <a:moveTo>
                      <a:pt x="11240" y="3"/>
                    </a:moveTo>
                    <a:lnTo>
                      <a:pt x="11240" y="3"/>
                    </a:lnTo>
                    <a:cubicBezTo>
                      <a:pt x="11241" y="3"/>
                      <a:pt x="11242" y="4"/>
                      <a:pt x="11242" y="5"/>
                    </a:cubicBezTo>
                    <a:cubicBezTo>
                      <a:pt x="11242" y="6"/>
                      <a:pt x="11241" y="7"/>
                      <a:pt x="11240" y="7"/>
                    </a:cubicBezTo>
                    <a:lnTo>
                      <a:pt x="11240" y="7"/>
                    </a:lnTo>
                    <a:cubicBezTo>
                      <a:pt x="11239" y="7"/>
                      <a:pt x="11238" y="6"/>
                      <a:pt x="11238" y="5"/>
                    </a:cubicBezTo>
                    <a:cubicBezTo>
                      <a:pt x="11238" y="4"/>
                      <a:pt x="11239" y="3"/>
                      <a:pt x="11240" y="3"/>
                    </a:cubicBezTo>
                    <a:close/>
                    <a:moveTo>
                      <a:pt x="11248" y="3"/>
                    </a:moveTo>
                    <a:lnTo>
                      <a:pt x="11248" y="3"/>
                    </a:lnTo>
                    <a:cubicBezTo>
                      <a:pt x="11249" y="3"/>
                      <a:pt x="11250" y="4"/>
                      <a:pt x="11250" y="5"/>
                    </a:cubicBezTo>
                    <a:cubicBezTo>
                      <a:pt x="11250" y="6"/>
                      <a:pt x="11249" y="7"/>
                      <a:pt x="11248" y="7"/>
                    </a:cubicBezTo>
                    <a:lnTo>
                      <a:pt x="11248" y="7"/>
                    </a:lnTo>
                    <a:cubicBezTo>
                      <a:pt x="11247" y="7"/>
                      <a:pt x="11246" y="6"/>
                      <a:pt x="11246" y="5"/>
                    </a:cubicBezTo>
                    <a:cubicBezTo>
                      <a:pt x="11246" y="4"/>
                      <a:pt x="11247" y="3"/>
                      <a:pt x="11248" y="3"/>
                    </a:cubicBezTo>
                    <a:close/>
                    <a:moveTo>
                      <a:pt x="11256" y="3"/>
                    </a:moveTo>
                    <a:lnTo>
                      <a:pt x="11256" y="3"/>
                    </a:lnTo>
                    <a:cubicBezTo>
                      <a:pt x="11257" y="3"/>
                      <a:pt x="11258" y="4"/>
                      <a:pt x="11258" y="5"/>
                    </a:cubicBezTo>
                    <a:cubicBezTo>
                      <a:pt x="11258" y="6"/>
                      <a:pt x="11257" y="7"/>
                      <a:pt x="11256" y="7"/>
                    </a:cubicBezTo>
                    <a:lnTo>
                      <a:pt x="11256" y="7"/>
                    </a:lnTo>
                    <a:cubicBezTo>
                      <a:pt x="11255" y="7"/>
                      <a:pt x="11254" y="6"/>
                      <a:pt x="11254" y="5"/>
                    </a:cubicBezTo>
                    <a:cubicBezTo>
                      <a:pt x="11254" y="4"/>
                      <a:pt x="11255" y="3"/>
                      <a:pt x="11256" y="3"/>
                    </a:cubicBezTo>
                    <a:close/>
                    <a:moveTo>
                      <a:pt x="11264" y="3"/>
                    </a:moveTo>
                    <a:lnTo>
                      <a:pt x="11264" y="3"/>
                    </a:lnTo>
                    <a:cubicBezTo>
                      <a:pt x="11265" y="3"/>
                      <a:pt x="11266" y="4"/>
                      <a:pt x="11266" y="5"/>
                    </a:cubicBezTo>
                    <a:cubicBezTo>
                      <a:pt x="11266" y="6"/>
                      <a:pt x="11265" y="7"/>
                      <a:pt x="11264" y="7"/>
                    </a:cubicBezTo>
                    <a:lnTo>
                      <a:pt x="11264" y="7"/>
                    </a:lnTo>
                    <a:cubicBezTo>
                      <a:pt x="11263" y="7"/>
                      <a:pt x="11262" y="6"/>
                      <a:pt x="11262" y="5"/>
                    </a:cubicBezTo>
                    <a:cubicBezTo>
                      <a:pt x="11262" y="4"/>
                      <a:pt x="11263" y="3"/>
                      <a:pt x="11264" y="3"/>
                    </a:cubicBezTo>
                    <a:close/>
                    <a:moveTo>
                      <a:pt x="11272" y="3"/>
                    </a:moveTo>
                    <a:lnTo>
                      <a:pt x="11272" y="3"/>
                    </a:lnTo>
                    <a:cubicBezTo>
                      <a:pt x="11273" y="3"/>
                      <a:pt x="11274" y="4"/>
                      <a:pt x="11274" y="5"/>
                    </a:cubicBezTo>
                    <a:cubicBezTo>
                      <a:pt x="11274" y="6"/>
                      <a:pt x="11273" y="7"/>
                      <a:pt x="11272" y="7"/>
                    </a:cubicBezTo>
                    <a:lnTo>
                      <a:pt x="11272" y="7"/>
                    </a:lnTo>
                    <a:cubicBezTo>
                      <a:pt x="11271" y="7"/>
                      <a:pt x="11270" y="6"/>
                      <a:pt x="11270" y="5"/>
                    </a:cubicBezTo>
                    <a:cubicBezTo>
                      <a:pt x="11270" y="4"/>
                      <a:pt x="11271" y="3"/>
                      <a:pt x="11272" y="3"/>
                    </a:cubicBezTo>
                    <a:close/>
                    <a:moveTo>
                      <a:pt x="11280" y="3"/>
                    </a:moveTo>
                    <a:lnTo>
                      <a:pt x="11280" y="3"/>
                    </a:lnTo>
                    <a:cubicBezTo>
                      <a:pt x="11281" y="3"/>
                      <a:pt x="11282" y="4"/>
                      <a:pt x="11282" y="5"/>
                    </a:cubicBezTo>
                    <a:cubicBezTo>
                      <a:pt x="11282" y="6"/>
                      <a:pt x="11281" y="7"/>
                      <a:pt x="11280" y="7"/>
                    </a:cubicBezTo>
                    <a:lnTo>
                      <a:pt x="11280" y="7"/>
                    </a:lnTo>
                    <a:cubicBezTo>
                      <a:pt x="11279" y="7"/>
                      <a:pt x="11278" y="6"/>
                      <a:pt x="11278" y="5"/>
                    </a:cubicBezTo>
                    <a:cubicBezTo>
                      <a:pt x="11278" y="4"/>
                      <a:pt x="11279" y="3"/>
                      <a:pt x="11280" y="3"/>
                    </a:cubicBezTo>
                    <a:close/>
                    <a:moveTo>
                      <a:pt x="11288" y="3"/>
                    </a:moveTo>
                    <a:lnTo>
                      <a:pt x="11288" y="3"/>
                    </a:lnTo>
                    <a:cubicBezTo>
                      <a:pt x="11289" y="3"/>
                      <a:pt x="11290" y="4"/>
                      <a:pt x="11290" y="5"/>
                    </a:cubicBezTo>
                    <a:cubicBezTo>
                      <a:pt x="11290" y="6"/>
                      <a:pt x="11289" y="7"/>
                      <a:pt x="11288" y="7"/>
                    </a:cubicBezTo>
                    <a:lnTo>
                      <a:pt x="11288" y="7"/>
                    </a:lnTo>
                    <a:cubicBezTo>
                      <a:pt x="11287" y="7"/>
                      <a:pt x="11286" y="6"/>
                      <a:pt x="11286" y="5"/>
                    </a:cubicBezTo>
                    <a:cubicBezTo>
                      <a:pt x="11286" y="4"/>
                      <a:pt x="11287" y="3"/>
                      <a:pt x="11288" y="3"/>
                    </a:cubicBezTo>
                    <a:close/>
                    <a:moveTo>
                      <a:pt x="11296" y="3"/>
                    </a:moveTo>
                    <a:lnTo>
                      <a:pt x="11296" y="3"/>
                    </a:lnTo>
                    <a:cubicBezTo>
                      <a:pt x="11297" y="3"/>
                      <a:pt x="11298" y="4"/>
                      <a:pt x="11298" y="5"/>
                    </a:cubicBezTo>
                    <a:cubicBezTo>
                      <a:pt x="11298" y="6"/>
                      <a:pt x="11297" y="7"/>
                      <a:pt x="11296" y="7"/>
                    </a:cubicBezTo>
                    <a:lnTo>
                      <a:pt x="11296" y="7"/>
                    </a:lnTo>
                    <a:cubicBezTo>
                      <a:pt x="11295" y="7"/>
                      <a:pt x="11294" y="6"/>
                      <a:pt x="11294" y="5"/>
                    </a:cubicBezTo>
                    <a:cubicBezTo>
                      <a:pt x="11294" y="4"/>
                      <a:pt x="11295" y="3"/>
                      <a:pt x="11296" y="3"/>
                    </a:cubicBezTo>
                    <a:close/>
                    <a:moveTo>
                      <a:pt x="11304" y="3"/>
                    </a:moveTo>
                    <a:lnTo>
                      <a:pt x="11304" y="3"/>
                    </a:lnTo>
                    <a:cubicBezTo>
                      <a:pt x="11305" y="3"/>
                      <a:pt x="11306" y="4"/>
                      <a:pt x="11306" y="5"/>
                    </a:cubicBezTo>
                    <a:cubicBezTo>
                      <a:pt x="11306" y="6"/>
                      <a:pt x="11305" y="7"/>
                      <a:pt x="11304" y="7"/>
                    </a:cubicBezTo>
                    <a:lnTo>
                      <a:pt x="11304" y="7"/>
                    </a:lnTo>
                    <a:cubicBezTo>
                      <a:pt x="11303" y="7"/>
                      <a:pt x="11302" y="6"/>
                      <a:pt x="11302" y="5"/>
                    </a:cubicBezTo>
                    <a:cubicBezTo>
                      <a:pt x="11302" y="4"/>
                      <a:pt x="11303" y="3"/>
                      <a:pt x="11304" y="3"/>
                    </a:cubicBezTo>
                    <a:close/>
                    <a:moveTo>
                      <a:pt x="11312" y="3"/>
                    </a:moveTo>
                    <a:lnTo>
                      <a:pt x="11312" y="3"/>
                    </a:lnTo>
                    <a:cubicBezTo>
                      <a:pt x="11313" y="3"/>
                      <a:pt x="11314" y="4"/>
                      <a:pt x="11314" y="5"/>
                    </a:cubicBezTo>
                    <a:cubicBezTo>
                      <a:pt x="11314" y="6"/>
                      <a:pt x="11313" y="7"/>
                      <a:pt x="11312" y="7"/>
                    </a:cubicBezTo>
                    <a:lnTo>
                      <a:pt x="11312" y="7"/>
                    </a:lnTo>
                    <a:cubicBezTo>
                      <a:pt x="11311" y="7"/>
                      <a:pt x="11310" y="6"/>
                      <a:pt x="11310" y="5"/>
                    </a:cubicBezTo>
                    <a:cubicBezTo>
                      <a:pt x="11310" y="4"/>
                      <a:pt x="11311" y="3"/>
                      <a:pt x="11312" y="3"/>
                    </a:cubicBezTo>
                    <a:close/>
                    <a:moveTo>
                      <a:pt x="11320" y="3"/>
                    </a:moveTo>
                    <a:lnTo>
                      <a:pt x="11320" y="3"/>
                    </a:lnTo>
                    <a:cubicBezTo>
                      <a:pt x="11321" y="3"/>
                      <a:pt x="11322" y="4"/>
                      <a:pt x="11322" y="5"/>
                    </a:cubicBezTo>
                    <a:cubicBezTo>
                      <a:pt x="11322" y="6"/>
                      <a:pt x="11321" y="7"/>
                      <a:pt x="11320" y="7"/>
                    </a:cubicBezTo>
                    <a:lnTo>
                      <a:pt x="11320" y="7"/>
                    </a:lnTo>
                    <a:cubicBezTo>
                      <a:pt x="11319" y="7"/>
                      <a:pt x="11318" y="6"/>
                      <a:pt x="11318" y="5"/>
                    </a:cubicBezTo>
                    <a:cubicBezTo>
                      <a:pt x="11318" y="4"/>
                      <a:pt x="11319" y="3"/>
                      <a:pt x="11320" y="3"/>
                    </a:cubicBezTo>
                    <a:close/>
                    <a:moveTo>
                      <a:pt x="11328" y="3"/>
                    </a:moveTo>
                    <a:lnTo>
                      <a:pt x="11328" y="3"/>
                    </a:lnTo>
                    <a:cubicBezTo>
                      <a:pt x="11329" y="3"/>
                      <a:pt x="11330" y="4"/>
                      <a:pt x="11330" y="5"/>
                    </a:cubicBezTo>
                    <a:cubicBezTo>
                      <a:pt x="11330" y="6"/>
                      <a:pt x="11329" y="7"/>
                      <a:pt x="11328" y="7"/>
                    </a:cubicBezTo>
                    <a:lnTo>
                      <a:pt x="11328" y="7"/>
                    </a:lnTo>
                    <a:cubicBezTo>
                      <a:pt x="11327" y="7"/>
                      <a:pt x="11326" y="6"/>
                      <a:pt x="11326" y="5"/>
                    </a:cubicBezTo>
                    <a:cubicBezTo>
                      <a:pt x="11326" y="4"/>
                      <a:pt x="11327" y="3"/>
                      <a:pt x="11328" y="3"/>
                    </a:cubicBezTo>
                    <a:close/>
                    <a:moveTo>
                      <a:pt x="11336" y="3"/>
                    </a:moveTo>
                    <a:lnTo>
                      <a:pt x="11336" y="3"/>
                    </a:lnTo>
                    <a:cubicBezTo>
                      <a:pt x="11337" y="3"/>
                      <a:pt x="11338" y="4"/>
                      <a:pt x="11338" y="5"/>
                    </a:cubicBezTo>
                    <a:cubicBezTo>
                      <a:pt x="11338" y="6"/>
                      <a:pt x="11337" y="7"/>
                      <a:pt x="11336" y="7"/>
                    </a:cubicBezTo>
                    <a:lnTo>
                      <a:pt x="11336" y="7"/>
                    </a:lnTo>
                    <a:cubicBezTo>
                      <a:pt x="11335" y="7"/>
                      <a:pt x="11334" y="6"/>
                      <a:pt x="11334" y="5"/>
                    </a:cubicBezTo>
                    <a:cubicBezTo>
                      <a:pt x="11334" y="4"/>
                      <a:pt x="11335" y="3"/>
                      <a:pt x="11336" y="3"/>
                    </a:cubicBezTo>
                    <a:close/>
                    <a:moveTo>
                      <a:pt x="11344" y="3"/>
                    </a:moveTo>
                    <a:lnTo>
                      <a:pt x="11344" y="3"/>
                    </a:lnTo>
                    <a:cubicBezTo>
                      <a:pt x="11345" y="3"/>
                      <a:pt x="11346" y="4"/>
                      <a:pt x="11346" y="5"/>
                    </a:cubicBezTo>
                    <a:cubicBezTo>
                      <a:pt x="11346" y="6"/>
                      <a:pt x="11345" y="7"/>
                      <a:pt x="11344" y="7"/>
                    </a:cubicBezTo>
                    <a:lnTo>
                      <a:pt x="11344" y="7"/>
                    </a:lnTo>
                    <a:cubicBezTo>
                      <a:pt x="11343" y="7"/>
                      <a:pt x="11342" y="6"/>
                      <a:pt x="11342" y="5"/>
                    </a:cubicBezTo>
                    <a:cubicBezTo>
                      <a:pt x="11342" y="4"/>
                      <a:pt x="11343" y="3"/>
                      <a:pt x="11344" y="3"/>
                    </a:cubicBezTo>
                    <a:close/>
                    <a:moveTo>
                      <a:pt x="11352" y="3"/>
                    </a:moveTo>
                    <a:lnTo>
                      <a:pt x="11352" y="3"/>
                    </a:lnTo>
                    <a:cubicBezTo>
                      <a:pt x="11353" y="3"/>
                      <a:pt x="11354" y="4"/>
                      <a:pt x="11354" y="5"/>
                    </a:cubicBezTo>
                    <a:cubicBezTo>
                      <a:pt x="11354" y="6"/>
                      <a:pt x="11353" y="7"/>
                      <a:pt x="11352" y="7"/>
                    </a:cubicBezTo>
                    <a:lnTo>
                      <a:pt x="11352" y="7"/>
                    </a:lnTo>
                    <a:cubicBezTo>
                      <a:pt x="11351" y="7"/>
                      <a:pt x="11350" y="6"/>
                      <a:pt x="11350" y="5"/>
                    </a:cubicBezTo>
                    <a:cubicBezTo>
                      <a:pt x="11350" y="4"/>
                      <a:pt x="11351" y="3"/>
                      <a:pt x="11352" y="3"/>
                    </a:cubicBezTo>
                    <a:close/>
                    <a:moveTo>
                      <a:pt x="11360" y="3"/>
                    </a:moveTo>
                    <a:lnTo>
                      <a:pt x="11360" y="3"/>
                    </a:lnTo>
                    <a:cubicBezTo>
                      <a:pt x="11361" y="3"/>
                      <a:pt x="11362" y="4"/>
                      <a:pt x="11362" y="5"/>
                    </a:cubicBezTo>
                    <a:cubicBezTo>
                      <a:pt x="11362" y="6"/>
                      <a:pt x="11361" y="7"/>
                      <a:pt x="11360" y="7"/>
                    </a:cubicBezTo>
                    <a:lnTo>
                      <a:pt x="11360" y="7"/>
                    </a:lnTo>
                    <a:cubicBezTo>
                      <a:pt x="11359" y="7"/>
                      <a:pt x="11358" y="6"/>
                      <a:pt x="11358" y="5"/>
                    </a:cubicBezTo>
                    <a:cubicBezTo>
                      <a:pt x="11358" y="4"/>
                      <a:pt x="11359" y="3"/>
                      <a:pt x="11360" y="3"/>
                    </a:cubicBezTo>
                    <a:close/>
                    <a:moveTo>
                      <a:pt x="11368" y="3"/>
                    </a:moveTo>
                    <a:lnTo>
                      <a:pt x="11368" y="3"/>
                    </a:lnTo>
                    <a:cubicBezTo>
                      <a:pt x="11369" y="3"/>
                      <a:pt x="11370" y="4"/>
                      <a:pt x="11370" y="5"/>
                    </a:cubicBezTo>
                    <a:cubicBezTo>
                      <a:pt x="11370" y="6"/>
                      <a:pt x="11369" y="7"/>
                      <a:pt x="11368" y="7"/>
                    </a:cubicBezTo>
                    <a:lnTo>
                      <a:pt x="11368" y="7"/>
                    </a:lnTo>
                    <a:cubicBezTo>
                      <a:pt x="11367" y="7"/>
                      <a:pt x="11366" y="6"/>
                      <a:pt x="11366" y="5"/>
                    </a:cubicBezTo>
                    <a:cubicBezTo>
                      <a:pt x="11366" y="4"/>
                      <a:pt x="11367" y="3"/>
                      <a:pt x="11368" y="3"/>
                    </a:cubicBezTo>
                    <a:close/>
                    <a:moveTo>
                      <a:pt x="11376" y="3"/>
                    </a:moveTo>
                    <a:lnTo>
                      <a:pt x="11376" y="3"/>
                    </a:lnTo>
                    <a:cubicBezTo>
                      <a:pt x="11377" y="3"/>
                      <a:pt x="11378" y="4"/>
                      <a:pt x="11378" y="5"/>
                    </a:cubicBezTo>
                    <a:cubicBezTo>
                      <a:pt x="11378" y="6"/>
                      <a:pt x="11377" y="7"/>
                      <a:pt x="11376" y="7"/>
                    </a:cubicBezTo>
                    <a:lnTo>
                      <a:pt x="11376" y="7"/>
                    </a:lnTo>
                    <a:cubicBezTo>
                      <a:pt x="11375" y="7"/>
                      <a:pt x="11374" y="6"/>
                      <a:pt x="11374" y="5"/>
                    </a:cubicBezTo>
                    <a:cubicBezTo>
                      <a:pt x="11374" y="4"/>
                      <a:pt x="11375" y="3"/>
                      <a:pt x="11376" y="3"/>
                    </a:cubicBezTo>
                    <a:close/>
                    <a:moveTo>
                      <a:pt x="11384" y="3"/>
                    </a:moveTo>
                    <a:lnTo>
                      <a:pt x="11384" y="3"/>
                    </a:lnTo>
                    <a:cubicBezTo>
                      <a:pt x="11385" y="3"/>
                      <a:pt x="11386" y="4"/>
                      <a:pt x="11386" y="5"/>
                    </a:cubicBezTo>
                    <a:cubicBezTo>
                      <a:pt x="11386" y="6"/>
                      <a:pt x="11385" y="7"/>
                      <a:pt x="11384" y="7"/>
                    </a:cubicBezTo>
                    <a:lnTo>
                      <a:pt x="11384" y="7"/>
                    </a:lnTo>
                    <a:cubicBezTo>
                      <a:pt x="11383" y="7"/>
                      <a:pt x="11382" y="6"/>
                      <a:pt x="11382" y="5"/>
                    </a:cubicBezTo>
                    <a:cubicBezTo>
                      <a:pt x="11382" y="4"/>
                      <a:pt x="11383" y="3"/>
                      <a:pt x="11384" y="3"/>
                    </a:cubicBezTo>
                    <a:close/>
                    <a:moveTo>
                      <a:pt x="11392" y="3"/>
                    </a:moveTo>
                    <a:lnTo>
                      <a:pt x="11392" y="3"/>
                    </a:lnTo>
                    <a:cubicBezTo>
                      <a:pt x="11393" y="3"/>
                      <a:pt x="11394" y="4"/>
                      <a:pt x="11394" y="5"/>
                    </a:cubicBezTo>
                    <a:cubicBezTo>
                      <a:pt x="11394" y="6"/>
                      <a:pt x="11393" y="7"/>
                      <a:pt x="11392" y="7"/>
                    </a:cubicBezTo>
                    <a:lnTo>
                      <a:pt x="11392" y="7"/>
                    </a:lnTo>
                    <a:cubicBezTo>
                      <a:pt x="11391" y="7"/>
                      <a:pt x="11390" y="6"/>
                      <a:pt x="11390" y="5"/>
                    </a:cubicBezTo>
                    <a:cubicBezTo>
                      <a:pt x="11390" y="4"/>
                      <a:pt x="11391" y="3"/>
                      <a:pt x="11392" y="3"/>
                    </a:cubicBezTo>
                    <a:close/>
                    <a:moveTo>
                      <a:pt x="11400" y="3"/>
                    </a:moveTo>
                    <a:lnTo>
                      <a:pt x="11400" y="3"/>
                    </a:lnTo>
                    <a:cubicBezTo>
                      <a:pt x="11401" y="3"/>
                      <a:pt x="11402" y="4"/>
                      <a:pt x="11402" y="5"/>
                    </a:cubicBezTo>
                    <a:cubicBezTo>
                      <a:pt x="11402" y="6"/>
                      <a:pt x="11401" y="7"/>
                      <a:pt x="11400" y="7"/>
                    </a:cubicBezTo>
                    <a:lnTo>
                      <a:pt x="11400" y="7"/>
                    </a:lnTo>
                    <a:cubicBezTo>
                      <a:pt x="11399" y="7"/>
                      <a:pt x="11398" y="6"/>
                      <a:pt x="11398" y="5"/>
                    </a:cubicBezTo>
                    <a:cubicBezTo>
                      <a:pt x="11398" y="4"/>
                      <a:pt x="11399" y="3"/>
                      <a:pt x="11400" y="3"/>
                    </a:cubicBezTo>
                    <a:close/>
                    <a:moveTo>
                      <a:pt x="11408" y="3"/>
                    </a:moveTo>
                    <a:lnTo>
                      <a:pt x="11408" y="3"/>
                    </a:lnTo>
                    <a:cubicBezTo>
                      <a:pt x="11409" y="3"/>
                      <a:pt x="11410" y="4"/>
                      <a:pt x="11410" y="5"/>
                    </a:cubicBezTo>
                    <a:cubicBezTo>
                      <a:pt x="11410" y="6"/>
                      <a:pt x="11409" y="7"/>
                      <a:pt x="11408" y="7"/>
                    </a:cubicBezTo>
                    <a:lnTo>
                      <a:pt x="11408" y="7"/>
                    </a:lnTo>
                    <a:cubicBezTo>
                      <a:pt x="11407" y="7"/>
                      <a:pt x="11406" y="6"/>
                      <a:pt x="11406" y="5"/>
                    </a:cubicBezTo>
                    <a:cubicBezTo>
                      <a:pt x="11406" y="4"/>
                      <a:pt x="11407" y="3"/>
                      <a:pt x="11408" y="3"/>
                    </a:cubicBezTo>
                    <a:close/>
                    <a:moveTo>
                      <a:pt x="11416" y="3"/>
                    </a:moveTo>
                    <a:lnTo>
                      <a:pt x="11416" y="3"/>
                    </a:lnTo>
                    <a:cubicBezTo>
                      <a:pt x="11417" y="3"/>
                      <a:pt x="11418" y="4"/>
                      <a:pt x="11418" y="5"/>
                    </a:cubicBezTo>
                    <a:cubicBezTo>
                      <a:pt x="11418" y="6"/>
                      <a:pt x="11417" y="7"/>
                      <a:pt x="11416" y="7"/>
                    </a:cubicBezTo>
                    <a:lnTo>
                      <a:pt x="11416" y="7"/>
                    </a:lnTo>
                    <a:cubicBezTo>
                      <a:pt x="11415" y="7"/>
                      <a:pt x="11414" y="6"/>
                      <a:pt x="11414" y="5"/>
                    </a:cubicBezTo>
                    <a:cubicBezTo>
                      <a:pt x="11414" y="4"/>
                      <a:pt x="11415" y="3"/>
                      <a:pt x="11416" y="3"/>
                    </a:cubicBezTo>
                    <a:close/>
                    <a:moveTo>
                      <a:pt x="11424" y="3"/>
                    </a:moveTo>
                    <a:lnTo>
                      <a:pt x="11424" y="3"/>
                    </a:lnTo>
                    <a:cubicBezTo>
                      <a:pt x="11425" y="3"/>
                      <a:pt x="11426" y="4"/>
                      <a:pt x="11426" y="5"/>
                    </a:cubicBezTo>
                    <a:cubicBezTo>
                      <a:pt x="11426" y="6"/>
                      <a:pt x="11425" y="7"/>
                      <a:pt x="11424" y="7"/>
                    </a:cubicBezTo>
                    <a:lnTo>
                      <a:pt x="11424" y="7"/>
                    </a:lnTo>
                    <a:cubicBezTo>
                      <a:pt x="11423" y="7"/>
                      <a:pt x="11422" y="6"/>
                      <a:pt x="11422" y="5"/>
                    </a:cubicBezTo>
                    <a:cubicBezTo>
                      <a:pt x="11422" y="4"/>
                      <a:pt x="11423" y="3"/>
                      <a:pt x="11424" y="3"/>
                    </a:cubicBezTo>
                    <a:close/>
                    <a:moveTo>
                      <a:pt x="11432" y="3"/>
                    </a:moveTo>
                    <a:lnTo>
                      <a:pt x="11432" y="3"/>
                    </a:lnTo>
                    <a:cubicBezTo>
                      <a:pt x="11433" y="3"/>
                      <a:pt x="11434" y="4"/>
                      <a:pt x="11434" y="5"/>
                    </a:cubicBezTo>
                    <a:cubicBezTo>
                      <a:pt x="11434" y="6"/>
                      <a:pt x="11433" y="7"/>
                      <a:pt x="11432" y="7"/>
                    </a:cubicBezTo>
                    <a:lnTo>
                      <a:pt x="11432" y="7"/>
                    </a:lnTo>
                    <a:cubicBezTo>
                      <a:pt x="11431" y="7"/>
                      <a:pt x="11430" y="6"/>
                      <a:pt x="11430" y="5"/>
                    </a:cubicBezTo>
                    <a:cubicBezTo>
                      <a:pt x="11430" y="4"/>
                      <a:pt x="11431" y="3"/>
                      <a:pt x="11432" y="3"/>
                    </a:cubicBezTo>
                    <a:close/>
                    <a:moveTo>
                      <a:pt x="11440" y="3"/>
                    </a:moveTo>
                    <a:lnTo>
                      <a:pt x="11440" y="3"/>
                    </a:lnTo>
                    <a:cubicBezTo>
                      <a:pt x="11441" y="3"/>
                      <a:pt x="11442" y="4"/>
                      <a:pt x="11442" y="5"/>
                    </a:cubicBezTo>
                    <a:cubicBezTo>
                      <a:pt x="11442" y="6"/>
                      <a:pt x="11441" y="7"/>
                      <a:pt x="11440" y="7"/>
                    </a:cubicBezTo>
                    <a:lnTo>
                      <a:pt x="11440" y="7"/>
                    </a:lnTo>
                    <a:cubicBezTo>
                      <a:pt x="11439" y="7"/>
                      <a:pt x="11438" y="6"/>
                      <a:pt x="11438" y="5"/>
                    </a:cubicBezTo>
                    <a:cubicBezTo>
                      <a:pt x="11438" y="4"/>
                      <a:pt x="11439" y="3"/>
                      <a:pt x="11440" y="3"/>
                    </a:cubicBezTo>
                    <a:close/>
                    <a:moveTo>
                      <a:pt x="11448" y="3"/>
                    </a:moveTo>
                    <a:lnTo>
                      <a:pt x="11448" y="3"/>
                    </a:lnTo>
                    <a:cubicBezTo>
                      <a:pt x="11449" y="3"/>
                      <a:pt x="11450" y="4"/>
                      <a:pt x="11450" y="5"/>
                    </a:cubicBezTo>
                    <a:cubicBezTo>
                      <a:pt x="11450" y="6"/>
                      <a:pt x="11449" y="7"/>
                      <a:pt x="11448" y="7"/>
                    </a:cubicBezTo>
                    <a:lnTo>
                      <a:pt x="11448" y="7"/>
                    </a:lnTo>
                    <a:cubicBezTo>
                      <a:pt x="11447" y="7"/>
                      <a:pt x="11446" y="6"/>
                      <a:pt x="11446" y="5"/>
                    </a:cubicBezTo>
                    <a:cubicBezTo>
                      <a:pt x="11446" y="4"/>
                      <a:pt x="11447" y="3"/>
                      <a:pt x="11448" y="3"/>
                    </a:cubicBezTo>
                    <a:close/>
                    <a:moveTo>
                      <a:pt x="11456" y="3"/>
                    </a:moveTo>
                    <a:lnTo>
                      <a:pt x="11456" y="3"/>
                    </a:lnTo>
                    <a:cubicBezTo>
                      <a:pt x="11457" y="3"/>
                      <a:pt x="11458" y="4"/>
                      <a:pt x="11458" y="5"/>
                    </a:cubicBezTo>
                    <a:cubicBezTo>
                      <a:pt x="11458" y="6"/>
                      <a:pt x="11457" y="7"/>
                      <a:pt x="11456" y="7"/>
                    </a:cubicBezTo>
                    <a:lnTo>
                      <a:pt x="11456" y="7"/>
                    </a:lnTo>
                    <a:cubicBezTo>
                      <a:pt x="11455" y="7"/>
                      <a:pt x="11454" y="6"/>
                      <a:pt x="11454" y="5"/>
                    </a:cubicBezTo>
                    <a:cubicBezTo>
                      <a:pt x="11454" y="4"/>
                      <a:pt x="11455" y="3"/>
                      <a:pt x="11456" y="3"/>
                    </a:cubicBezTo>
                    <a:close/>
                    <a:moveTo>
                      <a:pt x="11464" y="3"/>
                    </a:moveTo>
                    <a:lnTo>
                      <a:pt x="11464" y="3"/>
                    </a:lnTo>
                    <a:cubicBezTo>
                      <a:pt x="11465" y="3"/>
                      <a:pt x="11466" y="4"/>
                      <a:pt x="11466" y="5"/>
                    </a:cubicBezTo>
                    <a:cubicBezTo>
                      <a:pt x="11466" y="6"/>
                      <a:pt x="11465" y="7"/>
                      <a:pt x="11464" y="7"/>
                    </a:cubicBezTo>
                    <a:lnTo>
                      <a:pt x="11464" y="7"/>
                    </a:lnTo>
                    <a:cubicBezTo>
                      <a:pt x="11463" y="7"/>
                      <a:pt x="11462" y="6"/>
                      <a:pt x="11462" y="5"/>
                    </a:cubicBezTo>
                    <a:cubicBezTo>
                      <a:pt x="11462" y="4"/>
                      <a:pt x="11463" y="3"/>
                      <a:pt x="11464" y="3"/>
                    </a:cubicBezTo>
                    <a:close/>
                    <a:moveTo>
                      <a:pt x="11472" y="3"/>
                    </a:moveTo>
                    <a:lnTo>
                      <a:pt x="11472" y="3"/>
                    </a:lnTo>
                    <a:cubicBezTo>
                      <a:pt x="11473" y="3"/>
                      <a:pt x="11474" y="4"/>
                      <a:pt x="11474" y="5"/>
                    </a:cubicBezTo>
                    <a:cubicBezTo>
                      <a:pt x="11474" y="6"/>
                      <a:pt x="11473" y="7"/>
                      <a:pt x="11472" y="7"/>
                    </a:cubicBezTo>
                    <a:lnTo>
                      <a:pt x="11472" y="7"/>
                    </a:lnTo>
                    <a:cubicBezTo>
                      <a:pt x="11471" y="7"/>
                      <a:pt x="11470" y="6"/>
                      <a:pt x="11470" y="5"/>
                    </a:cubicBezTo>
                    <a:cubicBezTo>
                      <a:pt x="11470" y="4"/>
                      <a:pt x="11471" y="3"/>
                      <a:pt x="11472" y="3"/>
                    </a:cubicBezTo>
                    <a:close/>
                    <a:moveTo>
                      <a:pt x="11480" y="3"/>
                    </a:moveTo>
                    <a:lnTo>
                      <a:pt x="11480" y="3"/>
                    </a:lnTo>
                    <a:cubicBezTo>
                      <a:pt x="11481" y="3"/>
                      <a:pt x="11482" y="4"/>
                      <a:pt x="11482" y="5"/>
                    </a:cubicBezTo>
                    <a:cubicBezTo>
                      <a:pt x="11482" y="6"/>
                      <a:pt x="11481" y="7"/>
                      <a:pt x="11480" y="7"/>
                    </a:cubicBezTo>
                    <a:lnTo>
                      <a:pt x="11480" y="7"/>
                    </a:lnTo>
                    <a:cubicBezTo>
                      <a:pt x="11479" y="7"/>
                      <a:pt x="11478" y="6"/>
                      <a:pt x="11478" y="5"/>
                    </a:cubicBezTo>
                    <a:cubicBezTo>
                      <a:pt x="11478" y="4"/>
                      <a:pt x="11479" y="3"/>
                      <a:pt x="11480" y="3"/>
                    </a:cubicBezTo>
                    <a:close/>
                    <a:moveTo>
                      <a:pt x="11488" y="3"/>
                    </a:moveTo>
                    <a:lnTo>
                      <a:pt x="11488" y="3"/>
                    </a:lnTo>
                    <a:cubicBezTo>
                      <a:pt x="11489" y="3"/>
                      <a:pt x="11490" y="4"/>
                      <a:pt x="11490" y="5"/>
                    </a:cubicBezTo>
                    <a:cubicBezTo>
                      <a:pt x="11490" y="6"/>
                      <a:pt x="11489" y="7"/>
                      <a:pt x="11488" y="7"/>
                    </a:cubicBezTo>
                    <a:lnTo>
                      <a:pt x="11488" y="7"/>
                    </a:lnTo>
                    <a:cubicBezTo>
                      <a:pt x="11487" y="7"/>
                      <a:pt x="11486" y="6"/>
                      <a:pt x="11486" y="5"/>
                    </a:cubicBezTo>
                    <a:cubicBezTo>
                      <a:pt x="11486" y="4"/>
                      <a:pt x="11487" y="3"/>
                      <a:pt x="11488" y="3"/>
                    </a:cubicBezTo>
                    <a:close/>
                    <a:moveTo>
                      <a:pt x="11496" y="3"/>
                    </a:moveTo>
                    <a:lnTo>
                      <a:pt x="11496" y="3"/>
                    </a:lnTo>
                    <a:cubicBezTo>
                      <a:pt x="11497" y="3"/>
                      <a:pt x="11498" y="4"/>
                      <a:pt x="11498" y="5"/>
                    </a:cubicBezTo>
                    <a:cubicBezTo>
                      <a:pt x="11498" y="6"/>
                      <a:pt x="11497" y="7"/>
                      <a:pt x="11496" y="7"/>
                    </a:cubicBezTo>
                    <a:lnTo>
                      <a:pt x="11496" y="7"/>
                    </a:lnTo>
                    <a:cubicBezTo>
                      <a:pt x="11495" y="7"/>
                      <a:pt x="11494" y="6"/>
                      <a:pt x="11494" y="5"/>
                    </a:cubicBezTo>
                    <a:cubicBezTo>
                      <a:pt x="11494" y="4"/>
                      <a:pt x="11495" y="3"/>
                      <a:pt x="11496" y="3"/>
                    </a:cubicBezTo>
                    <a:close/>
                    <a:moveTo>
                      <a:pt x="11504" y="3"/>
                    </a:moveTo>
                    <a:lnTo>
                      <a:pt x="11504" y="3"/>
                    </a:lnTo>
                    <a:cubicBezTo>
                      <a:pt x="11505" y="3"/>
                      <a:pt x="11506" y="4"/>
                      <a:pt x="11506" y="5"/>
                    </a:cubicBezTo>
                    <a:cubicBezTo>
                      <a:pt x="11506" y="6"/>
                      <a:pt x="11505" y="7"/>
                      <a:pt x="11504" y="7"/>
                    </a:cubicBezTo>
                    <a:lnTo>
                      <a:pt x="11504" y="7"/>
                    </a:lnTo>
                    <a:cubicBezTo>
                      <a:pt x="11503" y="7"/>
                      <a:pt x="11502" y="6"/>
                      <a:pt x="11502" y="5"/>
                    </a:cubicBezTo>
                    <a:cubicBezTo>
                      <a:pt x="11502" y="4"/>
                      <a:pt x="11503" y="3"/>
                      <a:pt x="11504" y="3"/>
                    </a:cubicBezTo>
                    <a:close/>
                    <a:moveTo>
                      <a:pt x="11512" y="3"/>
                    </a:moveTo>
                    <a:lnTo>
                      <a:pt x="11512" y="3"/>
                    </a:lnTo>
                    <a:cubicBezTo>
                      <a:pt x="11513" y="3"/>
                      <a:pt x="11514" y="4"/>
                      <a:pt x="11514" y="5"/>
                    </a:cubicBezTo>
                    <a:cubicBezTo>
                      <a:pt x="11514" y="6"/>
                      <a:pt x="11513" y="7"/>
                      <a:pt x="11512" y="7"/>
                    </a:cubicBezTo>
                    <a:lnTo>
                      <a:pt x="11512" y="7"/>
                    </a:lnTo>
                    <a:cubicBezTo>
                      <a:pt x="11511" y="7"/>
                      <a:pt x="11510" y="6"/>
                      <a:pt x="11510" y="5"/>
                    </a:cubicBezTo>
                    <a:cubicBezTo>
                      <a:pt x="11510" y="4"/>
                      <a:pt x="11511" y="3"/>
                      <a:pt x="11512" y="3"/>
                    </a:cubicBezTo>
                    <a:close/>
                    <a:moveTo>
                      <a:pt x="11520" y="3"/>
                    </a:moveTo>
                    <a:lnTo>
                      <a:pt x="11520" y="3"/>
                    </a:lnTo>
                    <a:cubicBezTo>
                      <a:pt x="11521" y="3"/>
                      <a:pt x="11522" y="4"/>
                      <a:pt x="11522" y="5"/>
                    </a:cubicBezTo>
                    <a:cubicBezTo>
                      <a:pt x="11522" y="6"/>
                      <a:pt x="11521" y="7"/>
                      <a:pt x="11520" y="7"/>
                    </a:cubicBezTo>
                    <a:lnTo>
                      <a:pt x="11520" y="7"/>
                    </a:lnTo>
                    <a:cubicBezTo>
                      <a:pt x="11519" y="7"/>
                      <a:pt x="11518" y="6"/>
                      <a:pt x="11518" y="5"/>
                    </a:cubicBezTo>
                    <a:cubicBezTo>
                      <a:pt x="11518" y="4"/>
                      <a:pt x="11519" y="3"/>
                      <a:pt x="11520" y="3"/>
                    </a:cubicBezTo>
                    <a:close/>
                    <a:moveTo>
                      <a:pt x="11528" y="3"/>
                    </a:moveTo>
                    <a:lnTo>
                      <a:pt x="11528" y="3"/>
                    </a:lnTo>
                    <a:cubicBezTo>
                      <a:pt x="11529" y="3"/>
                      <a:pt x="11530" y="4"/>
                      <a:pt x="11530" y="5"/>
                    </a:cubicBezTo>
                    <a:cubicBezTo>
                      <a:pt x="11530" y="6"/>
                      <a:pt x="11529" y="7"/>
                      <a:pt x="11528" y="7"/>
                    </a:cubicBezTo>
                    <a:lnTo>
                      <a:pt x="11528" y="7"/>
                    </a:lnTo>
                    <a:cubicBezTo>
                      <a:pt x="11527" y="7"/>
                      <a:pt x="11526" y="6"/>
                      <a:pt x="11526" y="5"/>
                    </a:cubicBezTo>
                    <a:cubicBezTo>
                      <a:pt x="11526" y="4"/>
                      <a:pt x="11527" y="3"/>
                      <a:pt x="11528" y="3"/>
                    </a:cubicBezTo>
                    <a:close/>
                    <a:moveTo>
                      <a:pt x="11536" y="3"/>
                    </a:moveTo>
                    <a:lnTo>
                      <a:pt x="11536" y="3"/>
                    </a:lnTo>
                    <a:cubicBezTo>
                      <a:pt x="11537" y="3"/>
                      <a:pt x="11538" y="4"/>
                      <a:pt x="11538" y="5"/>
                    </a:cubicBezTo>
                    <a:cubicBezTo>
                      <a:pt x="11538" y="6"/>
                      <a:pt x="11537" y="7"/>
                      <a:pt x="11536" y="7"/>
                    </a:cubicBezTo>
                    <a:lnTo>
                      <a:pt x="11536" y="7"/>
                    </a:lnTo>
                    <a:cubicBezTo>
                      <a:pt x="11535" y="7"/>
                      <a:pt x="11534" y="6"/>
                      <a:pt x="11534" y="5"/>
                    </a:cubicBezTo>
                    <a:cubicBezTo>
                      <a:pt x="11534" y="4"/>
                      <a:pt x="11535" y="3"/>
                      <a:pt x="11536" y="3"/>
                    </a:cubicBezTo>
                    <a:close/>
                    <a:moveTo>
                      <a:pt x="11544" y="3"/>
                    </a:moveTo>
                    <a:lnTo>
                      <a:pt x="11544" y="3"/>
                    </a:lnTo>
                    <a:cubicBezTo>
                      <a:pt x="11545" y="3"/>
                      <a:pt x="11546" y="4"/>
                      <a:pt x="11546" y="5"/>
                    </a:cubicBezTo>
                    <a:cubicBezTo>
                      <a:pt x="11546" y="6"/>
                      <a:pt x="11545" y="7"/>
                      <a:pt x="11544" y="7"/>
                    </a:cubicBezTo>
                    <a:lnTo>
                      <a:pt x="11544" y="7"/>
                    </a:lnTo>
                    <a:cubicBezTo>
                      <a:pt x="11543" y="7"/>
                      <a:pt x="11542" y="6"/>
                      <a:pt x="11542" y="5"/>
                    </a:cubicBezTo>
                    <a:cubicBezTo>
                      <a:pt x="11542" y="4"/>
                      <a:pt x="11543" y="3"/>
                      <a:pt x="11544" y="3"/>
                    </a:cubicBezTo>
                    <a:close/>
                    <a:moveTo>
                      <a:pt x="11552" y="3"/>
                    </a:moveTo>
                    <a:lnTo>
                      <a:pt x="11552" y="3"/>
                    </a:lnTo>
                    <a:cubicBezTo>
                      <a:pt x="11553" y="3"/>
                      <a:pt x="11554" y="4"/>
                      <a:pt x="11554" y="5"/>
                    </a:cubicBezTo>
                    <a:cubicBezTo>
                      <a:pt x="11554" y="6"/>
                      <a:pt x="11553" y="7"/>
                      <a:pt x="11552" y="7"/>
                    </a:cubicBezTo>
                    <a:lnTo>
                      <a:pt x="11552" y="7"/>
                    </a:lnTo>
                    <a:cubicBezTo>
                      <a:pt x="11551" y="7"/>
                      <a:pt x="11550" y="6"/>
                      <a:pt x="11550" y="5"/>
                    </a:cubicBezTo>
                    <a:cubicBezTo>
                      <a:pt x="11550" y="4"/>
                      <a:pt x="11551" y="3"/>
                      <a:pt x="11552" y="3"/>
                    </a:cubicBezTo>
                    <a:close/>
                    <a:moveTo>
                      <a:pt x="11560" y="3"/>
                    </a:moveTo>
                    <a:lnTo>
                      <a:pt x="11560" y="3"/>
                    </a:lnTo>
                    <a:cubicBezTo>
                      <a:pt x="11561" y="3"/>
                      <a:pt x="11562" y="4"/>
                      <a:pt x="11562" y="5"/>
                    </a:cubicBezTo>
                    <a:cubicBezTo>
                      <a:pt x="11562" y="6"/>
                      <a:pt x="11561" y="7"/>
                      <a:pt x="11560" y="7"/>
                    </a:cubicBezTo>
                    <a:lnTo>
                      <a:pt x="11560" y="7"/>
                    </a:lnTo>
                    <a:cubicBezTo>
                      <a:pt x="11559" y="7"/>
                      <a:pt x="11558" y="6"/>
                      <a:pt x="11558" y="5"/>
                    </a:cubicBezTo>
                    <a:cubicBezTo>
                      <a:pt x="11558" y="4"/>
                      <a:pt x="11559" y="3"/>
                      <a:pt x="11560" y="3"/>
                    </a:cubicBezTo>
                    <a:close/>
                    <a:moveTo>
                      <a:pt x="11568" y="3"/>
                    </a:moveTo>
                    <a:lnTo>
                      <a:pt x="11568" y="3"/>
                    </a:lnTo>
                    <a:cubicBezTo>
                      <a:pt x="11569" y="3"/>
                      <a:pt x="11570" y="4"/>
                      <a:pt x="11570" y="5"/>
                    </a:cubicBezTo>
                    <a:cubicBezTo>
                      <a:pt x="11570" y="6"/>
                      <a:pt x="11569" y="7"/>
                      <a:pt x="11568" y="7"/>
                    </a:cubicBezTo>
                    <a:lnTo>
                      <a:pt x="11568" y="7"/>
                    </a:lnTo>
                    <a:cubicBezTo>
                      <a:pt x="11567" y="7"/>
                      <a:pt x="11566" y="6"/>
                      <a:pt x="11566" y="5"/>
                    </a:cubicBezTo>
                    <a:cubicBezTo>
                      <a:pt x="11566" y="4"/>
                      <a:pt x="11567" y="3"/>
                      <a:pt x="11568" y="3"/>
                    </a:cubicBezTo>
                    <a:close/>
                    <a:moveTo>
                      <a:pt x="11576" y="3"/>
                    </a:moveTo>
                    <a:lnTo>
                      <a:pt x="11576" y="3"/>
                    </a:lnTo>
                    <a:cubicBezTo>
                      <a:pt x="11577" y="3"/>
                      <a:pt x="11578" y="4"/>
                      <a:pt x="11578" y="5"/>
                    </a:cubicBezTo>
                    <a:cubicBezTo>
                      <a:pt x="11578" y="6"/>
                      <a:pt x="11577" y="7"/>
                      <a:pt x="11576" y="7"/>
                    </a:cubicBezTo>
                    <a:lnTo>
                      <a:pt x="11576" y="7"/>
                    </a:lnTo>
                    <a:cubicBezTo>
                      <a:pt x="11575" y="7"/>
                      <a:pt x="11574" y="6"/>
                      <a:pt x="11574" y="5"/>
                    </a:cubicBezTo>
                    <a:cubicBezTo>
                      <a:pt x="11574" y="4"/>
                      <a:pt x="11575" y="3"/>
                      <a:pt x="11576" y="3"/>
                    </a:cubicBezTo>
                    <a:close/>
                    <a:moveTo>
                      <a:pt x="11584" y="3"/>
                    </a:moveTo>
                    <a:lnTo>
                      <a:pt x="11584" y="3"/>
                    </a:lnTo>
                    <a:cubicBezTo>
                      <a:pt x="11585" y="3"/>
                      <a:pt x="11586" y="4"/>
                      <a:pt x="11586" y="5"/>
                    </a:cubicBezTo>
                    <a:cubicBezTo>
                      <a:pt x="11586" y="6"/>
                      <a:pt x="11585" y="7"/>
                      <a:pt x="11584" y="7"/>
                    </a:cubicBezTo>
                    <a:lnTo>
                      <a:pt x="11584" y="7"/>
                    </a:lnTo>
                    <a:cubicBezTo>
                      <a:pt x="11583" y="7"/>
                      <a:pt x="11582" y="6"/>
                      <a:pt x="11582" y="5"/>
                    </a:cubicBezTo>
                    <a:cubicBezTo>
                      <a:pt x="11582" y="4"/>
                      <a:pt x="11583" y="3"/>
                      <a:pt x="11584" y="3"/>
                    </a:cubicBezTo>
                    <a:close/>
                    <a:moveTo>
                      <a:pt x="11592" y="3"/>
                    </a:moveTo>
                    <a:lnTo>
                      <a:pt x="11592" y="3"/>
                    </a:lnTo>
                    <a:cubicBezTo>
                      <a:pt x="11593" y="3"/>
                      <a:pt x="11594" y="4"/>
                      <a:pt x="11594" y="5"/>
                    </a:cubicBezTo>
                    <a:cubicBezTo>
                      <a:pt x="11594" y="6"/>
                      <a:pt x="11593" y="7"/>
                      <a:pt x="11592" y="7"/>
                    </a:cubicBezTo>
                    <a:lnTo>
                      <a:pt x="11592" y="7"/>
                    </a:lnTo>
                    <a:cubicBezTo>
                      <a:pt x="11591" y="7"/>
                      <a:pt x="11590" y="6"/>
                      <a:pt x="11590" y="5"/>
                    </a:cubicBezTo>
                    <a:cubicBezTo>
                      <a:pt x="11590" y="4"/>
                      <a:pt x="11591" y="3"/>
                      <a:pt x="11592" y="3"/>
                    </a:cubicBezTo>
                    <a:close/>
                    <a:moveTo>
                      <a:pt x="11600" y="3"/>
                    </a:moveTo>
                    <a:lnTo>
                      <a:pt x="11600" y="3"/>
                    </a:lnTo>
                    <a:cubicBezTo>
                      <a:pt x="11601" y="3"/>
                      <a:pt x="11602" y="4"/>
                      <a:pt x="11602" y="5"/>
                    </a:cubicBezTo>
                    <a:cubicBezTo>
                      <a:pt x="11602" y="6"/>
                      <a:pt x="11601" y="7"/>
                      <a:pt x="11600" y="7"/>
                    </a:cubicBezTo>
                    <a:lnTo>
                      <a:pt x="11600" y="7"/>
                    </a:lnTo>
                    <a:cubicBezTo>
                      <a:pt x="11599" y="7"/>
                      <a:pt x="11598" y="6"/>
                      <a:pt x="11598" y="5"/>
                    </a:cubicBezTo>
                    <a:cubicBezTo>
                      <a:pt x="11598" y="4"/>
                      <a:pt x="11599" y="3"/>
                      <a:pt x="11600" y="3"/>
                    </a:cubicBezTo>
                    <a:close/>
                    <a:moveTo>
                      <a:pt x="11608" y="3"/>
                    </a:moveTo>
                    <a:lnTo>
                      <a:pt x="11608" y="3"/>
                    </a:lnTo>
                    <a:cubicBezTo>
                      <a:pt x="11609" y="3"/>
                      <a:pt x="11610" y="4"/>
                      <a:pt x="11610" y="5"/>
                    </a:cubicBezTo>
                    <a:cubicBezTo>
                      <a:pt x="11610" y="6"/>
                      <a:pt x="11609" y="7"/>
                      <a:pt x="11608" y="7"/>
                    </a:cubicBezTo>
                    <a:lnTo>
                      <a:pt x="11608" y="7"/>
                    </a:lnTo>
                    <a:cubicBezTo>
                      <a:pt x="11607" y="7"/>
                      <a:pt x="11606" y="6"/>
                      <a:pt x="11606" y="5"/>
                    </a:cubicBezTo>
                    <a:cubicBezTo>
                      <a:pt x="11606" y="4"/>
                      <a:pt x="11607" y="3"/>
                      <a:pt x="11608" y="3"/>
                    </a:cubicBezTo>
                    <a:close/>
                    <a:moveTo>
                      <a:pt x="11616" y="3"/>
                    </a:moveTo>
                    <a:lnTo>
                      <a:pt x="11616" y="3"/>
                    </a:lnTo>
                    <a:cubicBezTo>
                      <a:pt x="11617" y="3"/>
                      <a:pt x="11618" y="4"/>
                      <a:pt x="11618" y="5"/>
                    </a:cubicBezTo>
                    <a:cubicBezTo>
                      <a:pt x="11618" y="6"/>
                      <a:pt x="11617" y="7"/>
                      <a:pt x="11616" y="7"/>
                    </a:cubicBezTo>
                    <a:lnTo>
                      <a:pt x="11616" y="7"/>
                    </a:lnTo>
                    <a:cubicBezTo>
                      <a:pt x="11615" y="7"/>
                      <a:pt x="11614" y="6"/>
                      <a:pt x="11614" y="5"/>
                    </a:cubicBezTo>
                    <a:cubicBezTo>
                      <a:pt x="11614" y="4"/>
                      <a:pt x="11615" y="3"/>
                      <a:pt x="11616" y="3"/>
                    </a:cubicBezTo>
                    <a:close/>
                    <a:moveTo>
                      <a:pt x="11624" y="3"/>
                    </a:moveTo>
                    <a:lnTo>
                      <a:pt x="11624" y="3"/>
                    </a:lnTo>
                    <a:cubicBezTo>
                      <a:pt x="11625" y="3"/>
                      <a:pt x="11626" y="4"/>
                      <a:pt x="11626" y="5"/>
                    </a:cubicBezTo>
                    <a:cubicBezTo>
                      <a:pt x="11626" y="6"/>
                      <a:pt x="11625" y="7"/>
                      <a:pt x="11624" y="7"/>
                    </a:cubicBezTo>
                    <a:lnTo>
                      <a:pt x="11624" y="7"/>
                    </a:lnTo>
                    <a:cubicBezTo>
                      <a:pt x="11623" y="7"/>
                      <a:pt x="11622" y="6"/>
                      <a:pt x="11622" y="5"/>
                    </a:cubicBezTo>
                    <a:cubicBezTo>
                      <a:pt x="11622" y="4"/>
                      <a:pt x="11623" y="3"/>
                      <a:pt x="11624" y="3"/>
                    </a:cubicBezTo>
                    <a:close/>
                    <a:moveTo>
                      <a:pt x="11632" y="3"/>
                    </a:moveTo>
                    <a:lnTo>
                      <a:pt x="11632" y="3"/>
                    </a:lnTo>
                    <a:cubicBezTo>
                      <a:pt x="11633" y="3"/>
                      <a:pt x="11634" y="4"/>
                      <a:pt x="11634" y="5"/>
                    </a:cubicBezTo>
                    <a:cubicBezTo>
                      <a:pt x="11634" y="6"/>
                      <a:pt x="11633" y="7"/>
                      <a:pt x="11632" y="7"/>
                    </a:cubicBezTo>
                    <a:lnTo>
                      <a:pt x="11632" y="7"/>
                    </a:lnTo>
                    <a:cubicBezTo>
                      <a:pt x="11631" y="7"/>
                      <a:pt x="11630" y="6"/>
                      <a:pt x="11630" y="5"/>
                    </a:cubicBezTo>
                    <a:cubicBezTo>
                      <a:pt x="11630" y="4"/>
                      <a:pt x="11631" y="3"/>
                      <a:pt x="11632" y="3"/>
                    </a:cubicBezTo>
                    <a:close/>
                    <a:moveTo>
                      <a:pt x="11640" y="3"/>
                    </a:moveTo>
                    <a:lnTo>
                      <a:pt x="11640" y="3"/>
                    </a:lnTo>
                    <a:cubicBezTo>
                      <a:pt x="11641" y="3"/>
                      <a:pt x="11642" y="4"/>
                      <a:pt x="11642" y="5"/>
                    </a:cubicBezTo>
                    <a:cubicBezTo>
                      <a:pt x="11642" y="6"/>
                      <a:pt x="11641" y="7"/>
                      <a:pt x="11640" y="7"/>
                    </a:cubicBezTo>
                    <a:lnTo>
                      <a:pt x="11640" y="7"/>
                    </a:lnTo>
                    <a:cubicBezTo>
                      <a:pt x="11639" y="7"/>
                      <a:pt x="11638" y="6"/>
                      <a:pt x="11638" y="5"/>
                    </a:cubicBezTo>
                    <a:cubicBezTo>
                      <a:pt x="11638" y="4"/>
                      <a:pt x="11639" y="3"/>
                      <a:pt x="11640" y="3"/>
                    </a:cubicBezTo>
                    <a:close/>
                    <a:moveTo>
                      <a:pt x="11648" y="3"/>
                    </a:moveTo>
                    <a:lnTo>
                      <a:pt x="11648" y="3"/>
                    </a:lnTo>
                    <a:cubicBezTo>
                      <a:pt x="11649" y="3"/>
                      <a:pt x="11650" y="4"/>
                      <a:pt x="11650" y="5"/>
                    </a:cubicBezTo>
                    <a:cubicBezTo>
                      <a:pt x="11650" y="6"/>
                      <a:pt x="11649" y="7"/>
                      <a:pt x="11648" y="7"/>
                    </a:cubicBezTo>
                    <a:lnTo>
                      <a:pt x="11648" y="7"/>
                    </a:lnTo>
                    <a:cubicBezTo>
                      <a:pt x="11647" y="7"/>
                      <a:pt x="11646" y="6"/>
                      <a:pt x="11646" y="5"/>
                    </a:cubicBezTo>
                    <a:cubicBezTo>
                      <a:pt x="11646" y="4"/>
                      <a:pt x="11647" y="3"/>
                      <a:pt x="11648" y="3"/>
                    </a:cubicBezTo>
                    <a:close/>
                    <a:moveTo>
                      <a:pt x="11656" y="3"/>
                    </a:moveTo>
                    <a:lnTo>
                      <a:pt x="11656" y="3"/>
                    </a:lnTo>
                    <a:cubicBezTo>
                      <a:pt x="11657" y="3"/>
                      <a:pt x="11658" y="4"/>
                      <a:pt x="11658" y="5"/>
                    </a:cubicBezTo>
                    <a:cubicBezTo>
                      <a:pt x="11658" y="6"/>
                      <a:pt x="11657" y="7"/>
                      <a:pt x="11656" y="7"/>
                    </a:cubicBezTo>
                    <a:lnTo>
                      <a:pt x="11656" y="7"/>
                    </a:lnTo>
                    <a:cubicBezTo>
                      <a:pt x="11655" y="7"/>
                      <a:pt x="11654" y="6"/>
                      <a:pt x="11654" y="5"/>
                    </a:cubicBezTo>
                    <a:cubicBezTo>
                      <a:pt x="11654" y="4"/>
                      <a:pt x="11655" y="3"/>
                      <a:pt x="11656" y="3"/>
                    </a:cubicBezTo>
                    <a:close/>
                    <a:moveTo>
                      <a:pt x="11664" y="3"/>
                    </a:moveTo>
                    <a:lnTo>
                      <a:pt x="11664" y="3"/>
                    </a:lnTo>
                    <a:cubicBezTo>
                      <a:pt x="11665" y="3"/>
                      <a:pt x="11666" y="4"/>
                      <a:pt x="11666" y="5"/>
                    </a:cubicBezTo>
                    <a:cubicBezTo>
                      <a:pt x="11666" y="6"/>
                      <a:pt x="11665" y="7"/>
                      <a:pt x="11664" y="7"/>
                    </a:cubicBezTo>
                    <a:lnTo>
                      <a:pt x="11664" y="7"/>
                    </a:lnTo>
                    <a:cubicBezTo>
                      <a:pt x="11663" y="7"/>
                      <a:pt x="11662" y="6"/>
                      <a:pt x="11662" y="5"/>
                    </a:cubicBezTo>
                    <a:cubicBezTo>
                      <a:pt x="11662" y="4"/>
                      <a:pt x="11663" y="3"/>
                      <a:pt x="11664" y="3"/>
                    </a:cubicBezTo>
                    <a:close/>
                    <a:moveTo>
                      <a:pt x="11672" y="3"/>
                    </a:moveTo>
                    <a:lnTo>
                      <a:pt x="11672" y="3"/>
                    </a:lnTo>
                    <a:cubicBezTo>
                      <a:pt x="11673" y="3"/>
                      <a:pt x="11674" y="4"/>
                      <a:pt x="11674" y="5"/>
                    </a:cubicBezTo>
                    <a:cubicBezTo>
                      <a:pt x="11674" y="6"/>
                      <a:pt x="11673" y="7"/>
                      <a:pt x="11672" y="7"/>
                    </a:cubicBezTo>
                    <a:lnTo>
                      <a:pt x="11672" y="7"/>
                    </a:lnTo>
                    <a:cubicBezTo>
                      <a:pt x="11671" y="7"/>
                      <a:pt x="11670" y="6"/>
                      <a:pt x="11670" y="5"/>
                    </a:cubicBezTo>
                    <a:cubicBezTo>
                      <a:pt x="11670" y="4"/>
                      <a:pt x="11671" y="3"/>
                      <a:pt x="11672" y="3"/>
                    </a:cubicBezTo>
                    <a:close/>
                    <a:moveTo>
                      <a:pt x="11680" y="3"/>
                    </a:moveTo>
                    <a:lnTo>
                      <a:pt x="11680" y="3"/>
                    </a:lnTo>
                    <a:cubicBezTo>
                      <a:pt x="11681" y="3"/>
                      <a:pt x="11682" y="4"/>
                      <a:pt x="11682" y="5"/>
                    </a:cubicBezTo>
                    <a:cubicBezTo>
                      <a:pt x="11682" y="6"/>
                      <a:pt x="11681" y="7"/>
                      <a:pt x="11680" y="7"/>
                    </a:cubicBezTo>
                    <a:lnTo>
                      <a:pt x="11680" y="7"/>
                    </a:lnTo>
                    <a:cubicBezTo>
                      <a:pt x="11679" y="7"/>
                      <a:pt x="11678" y="6"/>
                      <a:pt x="11678" y="5"/>
                    </a:cubicBezTo>
                    <a:cubicBezTo>
                      <a:pt x="11678" y="4"/>
                      <a:pt x="11679" y="3"/>
                      <a:pt x="11680" y="3"/>
                    </a:cubicBezTo>
                    <a:close/>
                    <a:moveTo>
                      <a:pt x="11688" y="3"/>
                    </a:moveTo>
                    <a:lnTo>
                      <a:pt x="11688" y="3"/>
                    </a:lnTo>
                    <a:cubicBezTo>
                      <a:pt x="11689" y="3"/>
                      <a:pt x="11690" y="4"/>
                      <a:pt x="11690" y="5"/>
                    </a:cubicBezTo>
                    <a:cubicBezTo>
                      <a:pt x="11690" y="6"/>
                      <a:pt x="11689" y="7"/>
                      <a:pt x="11688" y="7"/>
                    </a:cubicBezTo>
                    <a:lnTo>
                      <a:pt x="11688" y="7"/>
                    </a:lnTo>
                    <a:cubicBezTo>
                      <a:pt x="11687" y="7"/>
                      <a:pt x="11686" y="6"/>
                      <a:pt x="11686" y="5"/>
                    </a:cubicBezTo>
                    <a:cubicBezTo>
                      <a:pt x="11686" y="4"/>
                      <a:pt x="11687" y="3"/>
                      <a:pt x="11688" y="3"/>
                    </a:cubicBezTo>
                    <a:close/>
                    <a:moveTo>
                      <a:pt x="11696" y="3"/>
                    </a:moveTo>
                    <a:lnTo>
                      <a:pt x="11696" y="3"/>
                    </a:lnTo>
                    <a:cubicBezTo>
                      <a:pt x="11697" y="3"/>
                      <a:pt x="11698" y="4"/>
                      <a:pt x="11698" y="5"/>
                    </a:cubicBezTo>
                    <a:cubicBezTo>
                      <a:pt x="11698" y="6"/>
                      <a:pt x="11697" y="7"/>
                      <a:pt x="11696" y="7"/>
                    </a:cubicBezTo>
                    <a:lnTo>
                      <a:pt x="11696" y="7"/>
                    </a:lnTo>
                    <a:cubicBezTo>
                      <a:pt x="11695" y="7"/>
                      <a:pt x="11694" y="6"/>
                      <a:pt x="11694" y="5"/>
                    </a:cubicBezTo>
                    <a:cubicBezTo>
                      <a:pt x="11694" y="4"/>
                      <a:pt x="11695" y="3"/>
                      <a:pt x="11696" y="3"/>
                    </a:cubicBezTo>
                    <a:close/>
                    <a:moveTo>
                      <a:pt x="11704" y="3"/>
                    </a:moveTo>
                    <a:lnTo>
                      <a:pt x="11704" y="3"/>
                    </a:lnTo>
                    <a:cubicBezTo>
                      <a:pt x="11705" y="3"/>
                      <a:pt x="11706" y="4"/>
                      <a:pt x="11706" y="5"/>
                    </a:cubicBezTo>
                    <a:cubicBezTo>
                      <a:pt x="11706" y="6"/>
                      <a:pt x="11705" y="7"/>
                      <a:pt x="11704" y="7"/>
                    </a:cubicBezTo>
                    <a:lnTo>
                      <a:pt x="11704" y="7"/>
                    </a:lnTo>
                    <a:cubicBezTo>
                      <a:pt x="11703" y="7"/>
                      <a:pt x="11702" y="6"/>
                      <a:pt x="11702" y="5"/>
                    </a:cubicBezTo>
                    <a:cubicBezTo>
                      <a:pt x="11702" y="4"/>
                      <a:pt x="11703" y="3"/>
                      <a:pt x="11704" y="3"/>
                    </a:cubicBezTo>
                    <a:close/>
                    <a:moveTo>
                      <a:pt x="11712" y="3"/>
                    </a:moveTo>
                    <a:lnTo>
                      <a:pt x="11712" y="3"/>
                    </a:lnTo>
                    <a:cubicBezTo>
                      <a:pt x="11713" y="3"/>
                      <a:pt x="11714" y="4"/>
                      <a:pt x="11714" y="5"/>
                    </a:cubicBezTo>
                    <a:cubicBezTo>
                      <a:pt x="11714" y="6"/>
                      <a:pt x="11713" y="7"/>
                      <a:pt x="11712" y="7"/>
                    </a:cubicBezTo>
                    <a:lnTo>
                      <a:pt x="11712" y="7"/>
                    </a:lnTo>
                    <a:cubicBezTo>
                      <a:pt x="11711" y="7"/>
                      <a:pt x="11710" y="6"/>
                      <a:pt x="11710" y="5"/>
                    </a:cubicBezTo>
                    <a:cubicBezTo>
                      <a:pt x="11710" y="4"/>
                      <a:pt x="11711" y="3"/>
                      <a:pt x="11712" y="3"/>
                    </a:cubicBezTo>
                    <a:close/>
                    <a:moveTo>
                      <a:pt x="11720" y="3"/>
                    </a:moveTo>
                    <a:lnTo>
                      <a:pt x="11720" y="3"/>
                    </a:lnTo>
                    <a:cubicBezTo>
                      <a:pt x="11721" y="3"/>
                      <a:pt x="11722" y="4"/>
                      <a:pt x="11722" y="5"/>
                    </a:cubicBezTo>
                    <a:cubicBezTo>
                      <a:pt x="11722" y="6"/>
                      <a:pt x="11721" y="7"/>
                      <a:pt x="11720" y="7"/>
                    </a:cubicBezTo>
                    <a:lnTo>
                      <a:pt x="11720" y="7"/>
                    </a:lnTo>
                    <a:cubicBezTo>
                      <a:pt x="11719" y="7"/>
                      <a:pt x="11718" y="6"/>
                      <a:pt x="11718" y="5"/>
                    </a:cubicBezTo>
                    <a:cubicBezTo>
                      <a:pt x="11718" y="4"/>
                      <a:pt x="11719" y="3"/>
                      <a:pt x="11720" y="3"/>
                    </a:cubicBezTo>
                    <a:close/>
                    <a:moveTo>
                      <a:pt x="11728" y="3"/>
                    </a:moveTo>
                    <a:lnTo>
                      <a:pt x="11728" y="3"/>
                    </a:lnTo>
                    <a:cubicBezTo>
                      <a:pt x="11729" y="3"/>
                      <a:pt x="11730" y="4"/>
                      <a:pt x="11730" y="5"/>
                    </a:cubicBezTo>
                    <a:cubicBezTo>
                      <a:pt x="11730" y="6"/>
                      <a:pt x="11729" y="7"/>
                      <a:pt x="11728" y="7"/>
                    </a:cubicBezTo>
                    <a:lnTo>
                      <a:pt x="11728" y="7"/>
                    </a:lnTo>
                    <a:cubicBezTo>
                      <a:pt x="11727" y="7"/>
                      <a:pt x="11726" y="6"/>
                      <a:pt x="11726" y="5"/>
                    </a:cubicBezTo>
                    <a:cubicBezTo>
                      <a:pt x="11726" y="4"/>
                      <a:pt x="11727" y="3"/>
                      <a:pt x="11728" y="3"/>
                    </a:cubicBezTo>
                    <a:close/>
                    <a:moveTo>
                      <a:pt x="11736" y="3"/>
                    </a:moveTo>
                    <a:lnTo>
                      <a:pt x="11736" y="3"/>
                    </a:lnTo>
                    <a:cubicBezTo>
                      <a:pt x="11737" y="3"/>
                      <a:pt x="11738" y="4"/>
                      <a:pt x="11738" y="5"/>
                    </a:cubicBezTo>
                    <a:cubicBezTo>
                      <a:pt x="11738" y="6"/>
                      <a:pt x="11737" y="7"/>
                      <a:pt x="11736" y="7"/>
                    </a:cubicBezTo>
                    <a:lnTo>
                      <a:pt x="11736" y="7"/>
                    </a:lnTo>
                    <a:cubicBezTo>
                      <a:pt x="11735" y="7"/>
                      <a:pt x="11734" y="6"/>
                      <a:pt x="11734" y="5"/>
                    </a:cubicBezTo>
                    <a:cubicBezTo>
                      <a:pt x="11734" y="4"/>
                      <a:pt x="11735" y="3"/>
                      <a:pt x="11736" y="3"/>
                    </a:cubicBezTo>
                    <a:close/>
                    <a:moveTo>
                      <a:pt x="11744" y="3"/>
                    </a:moveTo>
                    <a:lnTo>
                      <a:pt x="11744" y="3"/>
                    </a:lnTo>
                    <a:cubicBezTo>
                      <a:pt x="11745" y="3"/>
                      <a:pt x="11746" y="4"/>
                      <a:pt x="11746" y="5"/>
                    </a:cubicBezTo>
                    <a:cubicBezTo>
                      <a:pt x="11746" y="6"/>
                      <a:pt x="11745" y="7"/>
                      <a:pt x="11744" y="7"/>
                    </a:cubicBezTo>
                    <a:lnTo>
                      <a:pt x="11744" y="7"/>
                    </a:lnTo>
                    <a:cubicBezTo>
                      <a:pt x="11743" y="7"/>
                      <a:pt x="11742" y="6"/>
                      <a:pt x="11742" y="5"/>
                    </a:cubicBezTo>
                    <a:cubicBezTo>
                      <a:pt x="11742" y="4"/>
                      <a:pt x="11743" y="3"/>
                      <a:pt x="11744" y="3"/>
                    </a:cubicBezTo>
                    <a:close/>
                    <a:moveTo>
                      <a:pt x="11752" y="3"/>
                    </a:moveTo>
                    <a:lnTo>
                      <a:pt x="11752" y="3"/>
                    </a:lnTo>
                    <a:cubicBezTo>
                      <a:pt x="11753" y="3"/>
                      <a:pt x="11754" y="4"/>
                      <a:pt x="11754" y="5"/>
                    </a:cubicBezTo>
                    <a:cubicBezTo>
                      <a:pt x="11754" y="6"/>
                      <a:pt x="11753" y="7"/>
                      <a:pt x="11752" y="7"/>
                    </a:cubicBezTo>
                    <a:lnTo>
                      <a:pt x="11752" y="7"/>
                    </a:lnTo>
                    <a:cubicBezTo>
                      <a:pt x="11751" y="7"/>
                      <a:pt x="11750" y="6"/>
                      <a:pt x="11750" y="5"/>
                    </a:cubicBezTo>
                    <a:cubicBezTo>
                      <a:pt x="11750" y="4"/>
                      <a:pt x="11751" y="3"/>
                      <a:pt x="11752" y="3"/>
                    </a:cubicBezTo>
                    <a:close/>
                    <a:moveTo>
                      <a:pt x="11760" y="3"/>
                    </a:moveTo>
                    <a:lnTo>
                      <a:pt x="11760" y="3"/>
                    </a:lnTo>
                    <a:cubicBezTo>
                      <a:pt x="11761" y="3"/>
                      <a:pt x="11762" y="4"/>
                      <a:pt x="11762" y="5"/>
                    </a:cubicBezTo>
                    <a:cubicBezTo>
                      <a:pt x="11762" y="6"/>
                      <a:pt x="11761" y="7"/>
                      <a:pt x="11760" y="7"/>
                    </a:cubicBezTo>
                    <a:lnTo>
                      <a:pt x="11760" y="7"/>
                    </a:lnTo>
                    <a:cubicBezTo>
                      <a:pt x="11759" y="7"/>
                      <a:pt x="11758" y="6"/>
                      <a:pt x="11758" y="5"/>
                    </a:cubicBezTo>
                    <a:cubicBezTo>
                      <a:pt x="11758" y="4"/>
                      <a:pt x="11759" y="3"/>
                      <a:pt x="11760" y="3"/>
                    </a:cubicBezTo>
                    <a:close/>
                    <a:moveTo>
                      <a:pt x="11768" y="3"/>
                    </a:moveTo>
                    <a:lnTo>
                      <a:pt x="11768" y="3"/>
                    </a:lnTo>
                    <a:cubicBezTo>
                      <a:pt x="11769" y="3"/>
                      <a:pt x="11770" y="4"/>
                      <a:pt x="11770" y="5"/>
                    </a:cubicBezTo>
                    <a:cubicBezTo>
                      <a:pt x="11770" y="6"/>
                      <a:pt x="11769" y="7"/>
                      <a:pt x="11768" y="7"/>
                    </a:cubicBezTo>
                    <a:lnTo>
                      <a:pt x="11768" y="7"/>
                    </a:lnTo>
                    <a:cubicBezTo>
                      <a:pt x="11767" y="7"/>
                      <a:pt x="11766" y="6"/>
                      <a:pt x="11766" y="5"/>
                    </a:cubicBezTo>
                    <a:cubicBezTo>
                      <a:pt x="11766" y="4"/>
                      <a:pt x="11767" y="3"/>
                      <a:pt x="11768" y="3"/>
                    </a:cubicBezTo>
                    <a:close/>
                    <a:moveTo>
                      <a:pt x="11776" y="3"/>
                    </a:moveTo>
                    <a:lnTo>
                      <a:pt x="11776" y="3"/>
                    </a:lnTo>
                    <a:cubicBezTo>
                      <a:pt x="11777" y="3"/>
                      <a:pt x="11778" y="4"/>
                      <a:pt x="11778" y="5"/>
                    </a:cubicBezTo>
                    <a:cubicBezTo>
                      <a:pt x="11778" y="6"/>
                      <a:pt x="11777" y="7"/>
                      <a:pt x="11776" y="7"/>
                    </a:cubicBezTo>
                    <a:lnTo>
                      <a:pt x="11776" y="7"/>
                    </a:lnTo>
                    <a:cubicBezTo>
                      <a:pt x="11775" y="7"/>
                      <a:pt x="11774" y="6"/>
                      <a:pt x="11774" y="5"/>
                    </a:cubicBezTo>
                    <a:cubicBezTo>
                      <a:pt x="11774" y="4"/>
                      <a:pt x="11775" y="3"/>
                      <a:pt x="11776" y="3"/>
                    </a:cubicBezTo>
                    <a:close/>
                    <a:moveTo>
                      <a:pt x="11784" y="3"/>
                    </a:moveTo>
                    <a:lnTo>
                      <a:pt x="11784" y="3"/>
                    </a:lnTo>
                    <a:cubicBezTo>
                      <a:pt x="11785" y="3"/>
                      <a:pt x="11786" y="4"/>
                      <a:pt x="11786" y="5"/>
                    </a:cubicBezTo>
                    <a:cubicBezTo>
                      <a:pt x="11786" y="6"/>
                      <a:pt x="11785" y="7"/>
                      <a:pt x="11784" y="7"/>
                    </a:cubicBezTo>
                    <a:lnTo>
                      <a:pt x="11784" y="7"/>
                    </a:lnTo>
                    <a:cubicBezTo>
                      <a:pt x="11783" y="7"/>
                      <a:pt x="11782" y="6"/>
                      <a:pt x="11782" y="5"/>
                    </a:cubicBezTo>
                    <a:cubicBezTo>
                      <a:pt x="11782" y="4"/>
                      <a:pt x="11783" y="3"/>
                      <a:pt x="11784" y="3"/>
                    </a:cubicBezTo>
                    <a:close/>
                    <a:moveTo>
                      <a:pt x="11792" y="3"/>
                    </a:moveTo>
                    <a:lnTo>
                      <a:pt x="11792" y="3"/>
                    </a:lnTo>
                    <a:cubicBezTo>
                      <a:pt x="11793" y="3"/>
                      <a:pt x="11794" y="4"/>
                      <a:pt x="11794" y="5"/>
                    </a:cubicBezTo>
                    <a:cubicBezTo>
                      <a:pt x="11794" y="6"/>
                      <a:pt x="11793" y="7"/>
                      <a:pt x="11792" y="7"/>
                    </a:cubicBezTo>
                    <a:lnTo>
                      <a:pt x="11792" y="7"/>
                    </a:lnTo>
                    <a:cubicBezTo>
                      <a:pt x="11791" y="7"/>
                      <a:pt x="11790" y="6"/>
                      <a:pt x="11790" y="5"/>
                    </a:cubicBezTo>
                    <a:cubicBezTo>
                      <a:pt x="11790" y="4"/>
                      <a:pt x="11791" y="3"/>
                      <a:pt x="11792" y="3"/>
                    </a:cubicBezTo>
                    <a:close/>
                    <a:moveTo>
                      <a:pt x="11800" y="3"/>
                    </a:moveTo>
                    <a:lnTo>
                      <a:pt x="11800" y="3"/>
                    </a:lnTo>
                    <a:cubicBezTo>
                      <a:pt x="11801" y="3"/>
                      <a:pt x="11802" y="4"/>
                      <a:pt x="11802" y="5"/>
                    </a:cubicBezTo>
                    <a:cubicBezTo>
                      <a:pt x="11802" y="6"/>
                      <a:pt x="11801" y="7"/>
                      <a:pt x="11800" y="7"/>
                    </a:cubicBezTo>
                    <a:lnTo>
                      <a:pt x="11800" y="7"/>
                    </a:lnTo>
                    <a:cubicBezTo>
                      <a:pt x="11799" y="7"/>
                      <a:pt x="11798" y="6"/>
                      <a:pt x="11798" y="5"/>
                    </a:cubicBezTo>
                    <a:cubicBezTo>
                      <a:pt x="11798" y="4"/>
                      <a:pt x="11799" y="3"/>
                      <a:pt x="11800" y="3"/>
                    </a:cubicBezTo>
                    <a:close/>
                    <a:moveTo>
                      <a:pt x="11808" y="3"/>
                    </a:moveTo>
                    <a:lnTo>
                      <a:pt x="11808" y="3"/>
                    </a:lnTo>
                    <a:cubicBezTo>
                      <a:pt x="11809" y="3"/>
                      <a:pt x="11810" y="4"/>
                      <a:pt x="11810" y="5"/>
                    </a:cubicBezTo>
                    <a:cubicBezTo>
                      <a:pt x="11810" y="6"/>
                      <a:pt x="11809" y="7"/>
                      <a:pt x="11808" y="7"/>
                    </a:cubicBezTo>
                    <a:lnTo>
                      <a:pt x="11808" y="7"/>
                    </a:lnTo>
                    <a:cubicBezTo>
                      <a:pt x="11807" y="7"/>
                      <a:pt x="11806" y="6"/>
                      <a:pt x="11806" y="5"/>
                    </a:cubicBezTo>
                    <a:cubicBezTo>
                      <a:pt x="11806" y="4"/>
                      <a:pt x="11807" y="3"/>
                      <a:pt x="11808" y="3"/>
                    </a:cubicBezTo>
                    <a:close/>
                    <a:moveTo>
                      <a:pt x="11816" y="3"/>
                    </a:moveTo>
                    <a:lnTo>
                      <a:pt x="11816" y="3"/>
                    </a:lnTo>
                    <a:cubicBezTo>
                      <a:pt x="11817" y="3"/>
                      <a:pt x="11818" y="4"/>
                      <a:pt x="11818" y="5"/>
                    </a:cubicBezTo>
                    <a:cubicBezTo>
                      <a:pt x="11818" y="6"/>
                      <a:pt x="11817" y="7"/>
                      <a:pt x="11816" y="7"/>
                    </a:cubicBezTo>
                    <a:lnTo>
                      <a:pt x="11816" y="7"/>
                    </a:lnTo>
                    <a:cubicBezTo>
                      <a:pt x="11815" y="7"/>
                      <a:pt x="11814" y="6"/>
                      <a:pt x="11814" y="5"/>
                    </a:cubicBezTo>
                    <a:cubicBezTo>
                      <a:pt x="11814" y="4"/>
                      <a:pt x="11815" y="3"/>
                      <a:pt x="11816" y="3"/>
                    </a:cubicBezTo>
                    <a:close/>
                    <a:moveTo>
                      <a:pt x="11824" y="3"/>
                    </a:moveTo>
                    <a:lnTo>
                      <a:pt x="11824" y="3"/>
                    </a:lnTo>
                    <a:cubicBezTo>
                      <a:pt x="11825" y="3"/>
                      <a:pt x="11826" y="4"/>
                      <a:pt x="11826" y="5"/>
                    </a:cubicBezTo>
                    <a:cubicBezTo>
                      <a:pt x="11826" y="6"/>
                      <a:pt x="11825" y="7"/>
                      <a:pt x="11824" y="7"/>
                    </a:cubicBezTo>
                    <a:lnTo>
                      <a:pt x="11824" y="7"/>
                    </a:lnTo>
                    <a:cubicBezTo>
                      <a:pt x="11823" y="7"/>
                      <a:pt x="11822" y="6"/>
                      <a:pt x="11822" y="5"/>
                    </a:cubicBezTo>
                    <a:cubicBezTo>
                      <a:pt x="11822" y="4"/>
                      <a:pt x="11823" y="3"/>
                      <a:pt x="11824" y="3"/>
                    </a:cubicBezTo>
                    <a:close/>
                    <a:moveTo>
                      <a:pt x="11832" y="3"/>
                    </a:moveTo>
                    <a:lnTo>
                      <a:pt x="11832" y="3"/>
                    </a:lnTo>
                    <a:cubicBezTo>
                      <a:pt x="11833" y="3"/>
                      <a:pt x="11834" y="4"/>
                      <a:pt x="11834" y="5"/>
                    </a:cubicBezTo>
                    <a:cubicBezTo>
                      <a:pt x="11834" y="6"/>
                      <a:pt x="11833" y="7"/>
                      <a:pt x="11832" y="7"/>
                    </a:cubicBezTo>
                    <a:lnTo>
                      <a:pt x="11832" y="7"/>
                    </a:lnTo>
                    <a:cubicBezTo>
                      <a:pt x="11831" y="7"/>
                      <a:pt x="11830" y="6"/>
                      <a:pt x="11830" y="5"/>
                    </a:cubicBezTo>
                    <a:cubicBezTo>
                      <a:pt x="11830" y="4"/>
                      <a:pt x="11831" y="3"/>
                      <a:pt x="11832" y="3"/>
                    </a:cubicBezTo>
                    <a:close/>
                    <a:moveTo>
                      <a:pt x="11840" y="3"/>
                    </a:moveTo>
                    <a:lnTo>
                      <a:pt x="11840" y="3"/>
                    </a:lnTo>
                    <a:cubicBezTo>
                      <a:pt x="11841" y="3"/>
                      <a:pt x="11842" y="4"/>
                      <a:pt x="11842" y="5"/>
                    </a:cubicBezTo>
                    <a:cubicBezTo>
                      <a:pt x="11842" y="6"/>
                      <a:pt x="11841" y="7"/>
                      <a:pt x="11840" y="7"/>
                    </a:cubicBezTo>
                    <a:lnTo>
                      <a:pt x="11840" y="7"/>
                    </a:lnTo>
                    <a:cubicBezTo>
                      <a:pt x="11839" y="7"/>
                      <a:pt x="11838" y="6"/>
                      <a:pt x="11838" y="5"/>
                    </a:cubicBezTo>
                    <a:cubicBezTo>
                      <a:pt x="11838" y="4"/>
                      <a:pt x="11839" y="3"/>
                      <a:pt x="11840" y="3"/>
                    </a:cubicBezTo>
                    <a:close/>
                    <a:moveTo>
                      <a:pt x="11848" y="3"/>
                    </a:moveTo>
                    <a:lnTo>
                      <a:pt x="11848" y="3"/>
                    </a:lnTo>
                    <a:cubicBezTo>
                      <a:pt x="11849" y="3"/>
                      <a:pt x="11850" y="4"/>
                      <a:pt x="11850" y="5"/>
                    </a:cubicBezTo>
                    <a:cubicBezTo>
                      <a:pt x="11850" y="6"/>
                      <a:pt x="11849" y="7"/>
                      <a:pt x="11848" y="7"/>
                    </a:cubicBezTo>
                    <a:lnTo>
                      <a:pt x="11848" y="7"/>
                    </a:lnTo>
                    <a:cubicBezTo>
                      <a:pt x="11847" y="7"/>
                      <a:pt x="11846" y="6"/>
                      <a:pt x="11846" y="5"/>
                    </a:cubicBezTo>
                    <a:cubicBezTo>
                      <a:pt x="11846" y="4"/>
                      <a:pt x="11847" y="3"/>
                      <a:pt x="11848" y="3"/>
                    </a:cubicBezTo>
                    <a:close/>
                    <a:moveTo>
                      <a:pt x="11856" y="3"/>
                    </a:moveTo>
                    <a:lnTo>
                      <a:pt x="11856" y="3"/>
                    </a:lnTo>
                    <a:cubicBezTo>
                      <a:pt x="11857" y="3"/>
                      <a:pt x="11858" y="4"/>
                      <a:pt x="11858" y="5"/>
                    </a:cubicBezTo>
                    <a:cubicBezTo>
                      <a:pt x="11858" y="6"/>
                      <a:pt x="11857" y="7"/>
                      <a:pt x="11856" y="7"/>
                    </a:cubicBezTo>
                    <a:lnTo>
                      <a:pt x="11856" y="7"/>
                    </a:lnTo>
                    <a:cubicBezTo>
                      <a:pt x="11855" y="7"/>
                      <a:pt x="11854" y="6"/>
                      <a:pt x="11854" y="5"/>
                    </a:cubicBezTo>
                    <a:cubicBezTo>
                      <a:pt x="11854" y="4"/>
                      <a:pt x="11855" y="3"/>
                      <a:pt x="11856" y="3"/>
                    </a:cubicBezTo>
                    <a:close/>
                    <a:moveTo>
                      <a:pt x="11864" y="3"/>
                    </a:moveTo>
                    <a:lnTo>
                      <a:pt x="11864" y="3"/>
                    </a:lnTo>
                    <a:cubicBezTo>
                      <a:pt x="11865" y="3"/>
                      <a:pt x="11866" y="4"/>
                      <a:pt x="11866" y="5"/>
                    </a:cubicBezTo>
                    <a:cubicBezTo>
                      <a:pt x="11866" y="6"/>
                      <a:pt x="11865" y="7"/>
                      <a:pt x="11864" y="7"/>
                    </a:cubicBezTo>
                    <a:lnTo>
                      <a:pt x="11864" y="7"/>
                    </a:lnTo>
                    <a:cubicBezTo>
                      <a:pt x="11863" y="7"/>
                      <a:pt x="11862" y="6"/>
                      <a:pt x="11862" y="5"/>
                    </a:cubicBezTo>
                    <a:cubicBezTo>
                      <a:pt x="11862" y="4"/>
                      <a:pt x="11863" y="3"/>
                      <a:pt x="11864" y="3"/>
                    </a:cubicBezTo>
                    <a:close/>
                    <a:moveTo>
                      <a:pt x="11872" y="3"/>
                    </a:moveTo>
                    <a:lnTo>
                      <a:pt x="11872" y="3"/>
                    </a:lnTo>
                    <a:cubicBezTo>
                      <a:pt x="11873" y="3"/>
                      <a:pt x="11874" y="4"/>
                      <a:pt x="11874" y="5"/>
                    </a:cubicBezTo>
                    <a:cubicBezTo>
                      <a:pt x="11874" y="6"/>
                      <a:pt x="11873" y="7"/>
                      <a:pt x="11872" y="7"/>
                    </a:cubicBezTo>
                    <a:lnTo>
                      <a:pt x="11872" y="7"/>
                    </a:lnTo>
                    <a:cubicBezTo>
                      <a:pt x="11871" y="7"/>
                      <a:pt x="11870" y="6"/>
                      <a:pt x="11870" y="5"/>
                    </a:cubicBezTo>
                    <a:cubicBezTo>
                      <a:pt x="11870" y="4"/>
                      <a:pt x="11871" y="3"/>
                      <a:pt x="11872" y="3"/>
                    </a:cubicBezTo>
                    <a:close/>
                    <a:moveTo>
                      <a:pt x="11880" y="3"/>
                    </a:moveTo>
                    <a:lnTo>
                      <a:pt x="11880" y="3"/>
                    </a:lnTo>
                    <a:cubicBezTo>
                      <a:pt x="11881" y="3"/>
                      <a:pt x="11882" y="4"/>
                      <a:pt x="11882" y="5"/>
                    </a:cubicBezTo>
                    <a:cubicBezTo>
                      <a:pt x="11882" y="6"/>
                      <a:pt x="11881" y="7"/>
                      <a:pt x="11880" y="7"/>
                    </a:cubicBezTo>
                    <a:lnTo>
                      <a:pt x="11880" y="7"/>
                    </a:lnTo>
                    <a:cubicBezTo>
                      <a:pt x="11879" y="7"/>
                      <a:pt x="11878" y="6"/>
                      <a:pt x="11878" y="5"/>
                    </a:cubicBezTo>
                    <a:cubicBezTo>
                      <a:pt x="11878" y="4"/>
                      <a:pt x="11879" y="3"/>
                      <a:pt x="11880" y="3"/>
                    </a:cubicBezTo>
                    <a:close/>
                    <a:moveTo>
                      <a:pt x="11888" y="3"/>
                    </a:moveTo>
                    <a:lnTo>
                      <a:pt x="11888" y="3"/>
                    </a:lnTo>
                    <a:cubicBezTo>
                      <a:pt x="11889" y="3"/>
                      <a:pt x="11890" y="4"/>
                      <a:pt x="11890" y="5"/>
                    </a:cubicBezTo>
                    <a:cubicBezTo>
                      <a:pt x="11890" y="6"/>
                      <a:pt x="11889" y="7"/>
                      <a:pt x="11888" y="7"/>
                    </a:cubicBezTo>
                    <a:lnTo>
                      <a:pt x="11888" y="7"/>
                    </a:lnTo>
                    <a:cubicBezTo>
                      <a:pt x="11887" y="7"/>
                      <a:pt x="11886" y="6"/>
                      <a:pt x="11886" y="5"/>
                    </a:cubicBezTo>
                    <a:cubicBezTo>
                      <a:pt x="11886" y="4"/>
                      <a:pt x="11887" y="3"/>
                      <a:pt x="11888" y="3"/>
                    </a:cubicBezTo>
                    <a:close/>
                    <a:moveTo>
                      <a:pt x="11896" y="3"/>
                    </a:moveTo>
                    <a:lnTo>
                      <a:pt x="11896" y="3"/>
                    </a:lnTo>
                    <a:cubicBezTo>
                      <a:pt x="11897" y="3"/>
                      <a:pt x="11898" y="4"/>
                      <a:pt x="11898" y="5"/>
                    </a:cubicBezTo>
                    <a:cubicBezTo>
                      <a:pt x="11898" y="6"/>
                      <a:pt x="11897" y="7"/>
                      <a:pt x="11896" y="7"/>
                    </a:cubicBezTo>
                    <a:lnTo>
                      <a:pt x="11896" y="7"/>
                    </a:lnTo>
                    <a:cubicBezTo>
                      <a:pt x="11895" y="7"/>
                      <a:pt x="11894" y="6"/>
                      <a:pt x="11894" y="5"/>
                    </a:cubicBezTo>
                    <a:cubicBezTo>
                      <a:pt x="11894" y="4"/>
                      <a:pt x="11895" y="3"/>
                      <a:pt x="11896" y="3"/>
                    </a:cubicBezTo>
                    <a:close/>
                    <a:moveTo>
                      <a:pt x="11904" y="3"/>
                    </a:moveTo>
                    <a:lnTo>
                      <a:pt x="11904" y="3"/>
                    </a:lnTo>
                    <a:cubicBezTo>
                      <a:pt x="11905" y="3"/>
                      <a:pt x="11906" y="4"/>
                      <a:pt x="11906" y="5"/>
                    </a:cubicBezTo>
                    <a:cubicBezTo>
                      <a:pt x="11906" y="6"/>
                      <a:pt x="11905" y="7"/>
                      <a:pt x="11904" y="7"/>
                    </a:cubicBezTo>
                    <a:lnTo>
                      <a:pt x="11904" y="7"/>
                    </a:lnTo>
                    <a:cubicBezTo>
                      <a:pt x="11903" y="7"/>
                      <a:pt x="11902" y="6"/>
                      <a:pt x="11902" y="5"/>
                    </a:cubicBezTo>
                    <a:cubicBezTo>
                      <a:pt x="11902" y="4"/>
                      <a:pt x="11903" y="3"/>
                      <a:pt x="11904" y="3"/>
                    </a:cubicBezTo>
                    <a:close/>
                    <a:moveTo>
                      <a:pt x="11912" y="3"/>
                    </a:moveTo>
                    <a:lnTo>
                      <a:pt x="11912" y="3"/>
                    </a:lnTo>
                    <a:cubicBezTo>
                      <a:pt x="11913" y="3"/>
                      <a:pt x="11914" y="4"/>
                      <a:pt x="11914" y="5"/>
                    </a:cubicBezTo>
                    <a:cubicBezTo>
                      <a:pt x="11914" y="6"/>
                      <a:pt x="11913" y="7"/>
                      <a:pt x="11912" y="7"/>
                    </a:cubicBezTo>
                    <a:lnTo>
                      <a:pt x="11912" y="7"/>
                    </a:lnTo>
                    <a:cubicBezTo>
                      <a:pt x="11911" y="7"/>
                      <a:pt x="11910" y="6"/>
                      <a:pt x="11910" y="5"/>
                    </a:cubicBezTo>
                    <a:cubicBezTo>
                      <a:pt x="11910" y="4"/>
                      <a:pt x="11911" y="3"/>
                      <a:pt x="11912" y="3"/>
                    </a:cubicBezTo>
                    <a:close/>
                    <a:moveTo>
                      <a:pt x="11920" y="3"/>
                    </a:moveTo>
                    <a:lnTo>
                      <a:pt x="11920" y="3"/>
                    </a:lnTo>
                    <a:cubicBezTo>
                      <a:pt x="11921" y="3"/>
                      <a:pt x="11922" y="4"/>
                      <a:pt x="11922" y="5"/>
                    </a:cubicBezTo>
                    <a:cubicBezTo>
                      <a:pt x="11922" y="6"/>
                      <a:pt x="11921" y="7"/>
                      <a:pt x="11920" y="7"/>
                    </a:cubicBezTo>
                    <a:lnTo>
                      <a:pt x="11920" y="7"/>
                    </a:lnTo>
                    <a:cubicBezTo>
                      <a:pt x="11919" y="7"/>
                      <a:pt x="11918" y="6"/>
                      <a:pt x="11918" y="5"/>
                    </a:cubicBezTo>
                    <a:cubicBezTo>
                      <a:pt x="11918" y="4"/>
                      <a:pt x="11919" y="3"/>
                      <a:pt x="11920" y="3"/>
                    </a:cubicBezTo>
                    <a:close/>
                    <a:moveTo>
                      <a:pt x="11928" y="3"/>
                    </a:moveTo>
                    <a:lnTo>
                      <a:pt x="11928" y="3"/>
                    </a:lnTo>
                    <a:cubicBezTo>
                      <a:pt x="11929" y="3"/>
                      <a:pt x="11930" y="4"/>
                      <a:pt x="11930" y="5"/>
                    </a:cubicBezTo>
                    <a:cubicBezTo>
                      <a:pt x="11930" y="6"/>
                      <a:pt x="11929" y="7"/>
                      <a:pt x="11928" y="7"/>
                    </a:cubicBezTo>
                    <a:lnTo>
                      <a:pt x="11928" y="7"/>
                    </a:lnTo>
                    <a:cubicBezTo>
                      <a:pt x="11927" y="7"/>
                      <a:pt x="11926" y="6"/>
                      <a:pt x="11926" y="5"/>
                    </a:cubicBezTo>
                    <a:cubicBezTo>
                      <a:pt x="11926" y="4"/>
                      <a:pt x="11927" y="3"/>
                      <a:pt x="11928" y="3"/>
                    </a:cubicBezTo>
                    <a:close/>
                    <a:moveTo>
                      <a:pt x="11936" y="3"/>
                    </a:moveTo>
                    <a:lnTo>
                      <a:pt x="11936" y="3"/>
                    </a:lnTo>
                    <a:cubicBezTo>
                      <a:pt x="11937" y="3"/>
                      <a:pt x="11938" y="4"/>
                      <a:pt x="11938" y="5"/>
                    </a:cubicBezTo>
                    <a:cubicBezTo>
                      <a:pt x="11938" y="6"/>
                      <a:pt x="11937" y="7"/>
                      <a:pt x="11936" y="7"/>
                    </a:cubicBezTo>
                    <a:lnTo>
                      <a:pt x="11936" y="7"/>
                    </a:lnTo>
                    <a:cubicBezTo>
                      <a:pt x="11935" y="7"/>
                      <a:pt x="11934" y="6"/>
                      <a:pt x="11934" y="5"/>
                    </a:cubicBezTo>
                    <a:cubicBezTo>
                      <a:pt x="11934" y="4"/>
                      <a:pt x="11935" y="3"/>
                      <a:pt x="11936" y="3"/>
                    </a:cubicBezTo>
                    <a:close/>
                    <a:moveTo>
                      <a:pt x="11944" y="3"/>
                    </a:moveTo>
                    <a:lnTo>
                      <a:pt x="11944" y="3"/>
                    </a:lnTo>
                    <a:cubicBezTo>
                      <a:pt x="11945" y="3"/>
                      <a:pt x="11946" y="4"/>
                      <a:pt x="11946" y="5"/>
                    </a:cubicBezTo>
                    <a:cubicBezTo>
                      <a:pt x="11946" y="6"/>
                      <a:pt x="11945" y="7"/>
                      <a:pt x="11944" y="7"/>
                    </a:cubicBezTo>
                    <a:lnTo>
                      <a:pt x="11944" y="7"/>
                    </a:lnTo>
                    <a:cubicBezTo>
                      <a:pt x="11943" y="7"/>
                      <a:pt x="11942" y="6"/>
                      <a:pt x="11942" y="5"/>
                    </a:cubicBezTo>
                    <a:cubicBezTo>
                      <a:pt x="11942" y="4"/>
                      <a:pt x="11943" y="3"/>
                      <a:pt x="11944" y="3"/>
                    </a:cubicBezTo>
                    <a:close/>
                    <a:moveTo>
                      <a:pt x="11952" y="3"/>
                    </a:moveTo>
                    <a:lnTo>
                      <a:pt x="11952" y="3"/>
                    </a:lnTo>
                    <a:cubicBezTo>
                      <a:pt x="11953" y="3"/>
                      <a:pt x="11954" y="4"/>
                      <a:pt x="11954" y="5"/>
                    </a:cubicBezTo>
                    <a:cubicBezTo>
                      <a:pt x="11954" y="6"/>
                      <a:pt x="11953" y="7"/>
                      <a:pt x="11952" y="7"/>
                    </a:cubicBezTo>
                    <a:lnTo>
                      <a:pt x="11952" y="7"/>
                    </a:lnTo>
                    <a:cubicBezTo>
                      <a:pt x="11951" y="7"/>
                      <a:pt x="11950" y="6"/>
                      <a:pt x="11950" y="5"/>
                    </a:cubicBezTo>
                    <a:cubicBezTo>
                      <a:pt x="11950" y="4"/>
                      <a:pt x="11951" y="3"/>
                      <a:pt x="11952" y="3"/>
                    </a:cubicBezTo>
                    <a:close/>
                    <a:moveTo>
                      <a:pt x="11960" y="3"/>
                    </a:moveTo>
                    <a:lnTo>
                      <a:pt x="11960" y="3"/>
                    </a:lnTo>
                    <a:cubicBezTo>
                      <a:pt x="11961" y="3"/>
                      <a:pt x="11962" y="4"/>
                      <a:pt x="11962" y="5"/>
                    </a:cubicBezTo>
                    <a:cubicBezTo>
                      <a:pt x="11962" y="6"/>
                      <a:pt x="11961" y="7"/>
                      <a:pt x="11960" y="7"/>
                    </a:cubicBezTo>
                    <a:lnTo>
                      <a:pt x="11960" y="7"/>
                    </a:lnTo>
                    <a:cubicBezTo>
                      <a:pt x="11959" y="7"/>
                      <a:pt x="11958" y="6"/>
                      <a:pt x="11958" y="5"/>
                    </a:cubicBezTo>
                    <a:cubicBezTo>
                      <a:pt x="11958" y="4"/>
                      <a:pt x="11959" y="3"/>
                      <a:pt x="11960" y="3"/>
                    </a:cubicBezTo>
                    <a:close/>
                    <a:moveTo>
                      <a:pt x="11968" y="3"/>
                    </a:moveTo>
                    <a:lnTo>
                      <a:pt x="11968" y="3"/>
                    </a:lnTo>
                    <a:cubicBezTo>
                      <a:pt x="11969" y="3"/>
                      <a:pt x="11970" y="4"/>
                      <a:pt x="11970" y="5"/>
                    </a:cubicBezTo>
                    <a:cubicBezTo>
                      <a:pt x="11970" y="6"/>
                      <a:pt x="11969" y="7"/>
                      <a:pt x="11968" y="7"/>
                    </a:cubicBezTo>
                    <a:lnTo>
                      <a:pt x="11968" y="7"/>
                    </a:lnTo>
                    <a:cubicBezTo>
                      <a:pt x="11967" y="7"/>
                      <a:pt x="11966" y="6"/>
                      <a:pt x="11966" y="5"/>
                    </a:cubicBezTo>
                    <a:cubicBezTo>
                      <a:pt x="11966" y="4"/>
                      <a:pt x="11967" y="3"/>
                      <a:pt x="11968" y="3"/>
                    </a:cubicBezTo>
                    <a:close/>
                    <a:moveTo>
                      <a:pt x="11976" y="3"/>
                    </a:moveTo>
                    <a:lnTo>
                      <a:pt x="11976" y="3"/>
                    </a:lnTo>
                    <a:cubicBezTo>
                      <a:pt x="11977" y="3"/>
                      <a:pt x="11978" y="4"/>
                      <a:pt x="11978" y="5"/>
                    </a:cubicBezTo>
                    <a:cubicBezTo>
                      <a:pt x="11978" y="6"/>
                      <a:pt x="11977" y="7"/>
                      <a:pt x="11976" y="7"/>
                    </a:cubicBezTo>
                    <a:lnTo>
                      <a:pt x="11976" y="7"/>
                    </a:lnTo>
                    <a:cubicBezTo>
                      <a:pt x="11975" y="7"/>
                      <a:pt x="11974" y="6"/>
                      <a:pt x="11974" y="5"/>
                    </a:cubicBezTo>
                    <a:cubicBezTo>
                      <a:pt x="11974" y="4"/>
                      <a:pt x="11975" y="3"/>
                      <a:pt x="11976" y="3"/>
                    </a:cubicBezTo>
                    <a:close/>
                    <a:moveTo>
                      <a:pt x="11984" y="3"/>
                    </a:moveTo>
                    <a:lnTo>
                      <a:pt x="11984" y="3"/>
                    </a:lnTo>
                    <a:cubicBezTo>
                      <a:pt x="11985" y="3"/>
                      <a:pt x="11986" y="4"/>
                      <a:pt x="11986" y="5"/>
                    </a:cubicBezTo>
                    <a:cubicBezTo>
                      <a:pt x="11986" y="6"/>
                      <a:pt x="11985" y="7"/>
                      <a:pt x="11984" y="7"/>
                    </a:cubicBezTo>
                    <a:lnTo>
                      <a:pt x="11984" y="7"/>
                    </a:lnTo>
                    <a:cubicBezTo>
                      <a:pt x="11983" y="7"/>
                      <a:pt x="11982" y="6"/>
                      <a:pt x="11982" y="5"/>
                    </a:cubicBezTo>
                    <a:cubicBezTo>
                      <a:pt x="11982" y="4"/>
                      <a:pt x="11983" y="3"/>
                      <a:pt x="11984" y="3"/>
                    </a:cubicBezTo>
                    <a:close/>
                    <a:moveTo>
                      <a:pt x="11992" y="3"/>
                    </a:moveTo>
                    <a:lnTo>
                      <a:pt x="11992" y="3"/>
                    </a:lnTo>
                    <a:cubicBezTo>
                      <a:pt x="11993" y="3"/>
                      <a:pt x="11994" y="4"/>
                      <a:pt x="11994" y="5"/>
                    </a:cubicBezTo>
                    <a:cubicBezTo>
                      <a:pt x="11994" y="6"/>
                      <a:pt x="11993" y="7"/>
                      <a:pt x="11992" y="7"/>
                    </a:cubicBezTo>
                    <a:lnTo>
                      <a:pt x="11992" y="7"/>
                    </a:lnTo>
                    <a:cubicBezTo>
                      <a:pt x="11991" y="7"/>
                      <a:pt x="11990" y="6"/>
                      <a:pt x="11990" y="5"/>
                    </a:cubicBezTo>
                    <a:cubicBezTo>
                      <a:pt x="11990" y="4"/>
                      <a:pt x="11991" y="3"/>
                      <a:pt x="11992" y="3"/>
                    </a:cubicBezTo>
                    <a:close/>
                    <a:moveTo>
                      <a:pt x="12000" y="3"/>
                    </a:moveTo>
                    <a:lnTo>
                      <a:pt x="12000" y="3"/>
                    </a:lnTo>
                    <a:cubicBezTo>
                      <a:pt x="12001" y="3"/>
                      <a:pt x="12002" y="4"/>
                      <a:pt x="12002" y="5"/>
                    </a:cubicBezTo>
                    <a:cubicBezTo>
                      <a:pt x="12002" y="6"/>
                      <a:pt x="12001" y="7"/>
                      <a:pt x="12000" y="7"/>
                    </a:cubicBezTo>
                    <a:lnTo>
                      <a:pt x="12000" y="7"/>
                    </a:lnTo>
                    <a:cubicBezTo>
                      <a:pt x="11999" y="7"/>
                      <a:pt x="11998" y="6"/>
                      <a:pt x="11998" y="5"/>
                    </a:cubicBezTo>
                    <a:cubicBezTo>
                      <a:pt x="11998" y="4"/>
                      <a:pt x="11999" y="3"/>
                      <a:pt x="12000" y="3"/>
                    </a:cubicBezTo>
                    <a:close/>
                    <a:moveTo>
                      <a:pt x="12008" y="3"/>
                    </a:moveTo>
                    <a:lnTo>
                      <a:pt x="12008" y="3"/>
                    </a:lnTo>
                    <a:cubicBezTo>
                      <a:pt x="12009" y="3"/>
                      <a:pt x="12010" y="4"/>
                      <a:pt x="12010" y="5"/>
                    </a:cubicBezTo>
                    <a:cubicBezTo>
                      <a:pt x="12010" y="6"/>
                      <a:pt x="12009" y="7"/>
                      <a:pt x="12008" y="7"/>
                    </a:cubicBezTo>
                    <a:lnTo>
                      <a:pt x="12008" y="7"/>
                    </a:lnTo>
                    <a:cubicBezTo>
                      <a:pt x="12007" y="7"/>
                      <a:pt x="12006" y="6"/>
                      <a:pt x="12006" y="5"/>
                    </a:cubicBezTo>
                    <a:cubicBezTo>
                      <a:pt x="12006" y="4"/>
                      <a:pt x="12007" y="3"/>
                      <a:pt x="12008" y="3"/>
                    </a:cubicBezTo>
                    <a:close/>
                    <a:moveTo>
                      <a:pt x="12016" y="3"/>
                    </a:moveTo>
                    <a:lnTo>
                      <a:pt x="12016" y="3"/>
                    </a:lnTo>
                    <a:cubicBezTo>
                      <a:pt x="12017" y="3"/>
                      <a:pt x="12018" y="4"/>
                      <a:pt x="12018" y="5"/>
                    </a:cubicBezTo>
                    <a:cubicBezTo>
                      <a:pt x="12018" y="6"/>
                      <a:pt x="12017" y="7"/>
                      <a:pt x="12016" y="7"/>
                    </a:cubicBezTo>
                    <a:lnTo>
                      <a:pt x="12016" y="7"/>
                    </a:lnTo>
                    <a:cubicBezTo>
                      <a:pt x="12015" y="7"/>
                      <a:pt x="12014" y="6"/>
                      <a:pt x="12014" y="5"/>
                    </a:cubicBezTo>
                    <a:cubicBezTo>
                      <a:pt x="12014" y="4"/>
                      <a:pt x="12015" y="3"/>
                      <a:pt x="12016" y="3"/>
                    </a:cubicBezTo>
                    <a:close/>
                    <a:moveTo>
                      <a:pt x="12024" y="3"/>
                    </a:moveTo>
                    <a:lnTo>
                      <a:pt x="12024" y="3"/>
                    </a:lnTo>
                    <a:cubicBezTo>
                      <a:pt x="12025" y="3"/>
                      <a:pt x="12026" y="4"/>
                      <a:pt x="12026" y="5"/>
                    </a:cubicBezTo>
                    <a:cubicBezTo>
                      <a:pt x="12026" y="6"/>
                      <a:pt x="12025" y="7"/>
                      <a:pt x="12024" y="7"/>
                    </a:cubicBezTo>
                    <a:lnTo>
                      <a:pt x="12024" y="7"/>
                    </a:lnTo>
                    <a:cubicBezTo>
                      <a:pt x="12023" y="7"/>
                      <a:pt x="12022" y="6"/>
                      <a:pt x="12022" y="5"/>
                    </a:cubicBezTo>
                    <a:cubicBezTo>
                      <a:pt x="12022" y="4"/>
                      <a:pt x="12023" y="3"/>
                      <a:pt x="12024" y="3"/>
                    </a:cubicBezTo>
                    <a:close/>
                    <a:moveTo>
                      <a:pt x="12032" y="3"/>
                    </a:moveTo>
                    <a:lnTo>
                      <a:pt x="12032" y="3"/>
                    </a:lnTo>
                    <a:cubicBezTo>
                      <a:pt x="12033" y="3"/>
                      <a:pt x="12034" y="4"/>
                      <a:pt x="12034" y="5"/>
                    </a:cubicBezTo>
                    <a:cubicBezTo>
                      <a:pt x="12034" y="6"/>
                      <a:pt x="12033" y="7"/>
                      <a:pt x="12032" y="7"/>
                    </a:cubicBezTo>
                    <a:lnTo>
                      <a:pt x="12032" y="7"/>
                    </a:lnTo>
                    <a:cubicBezTo>
                      <a:pt x="12031" y="7"/>
                      <a:pt x="12030" y="6"/>
                      <a:pt x="12030" y="5"/>
                    </a:cubicBezTo>
                    <a:cubicBezTo>
                      <a:pt x="12030" y="4"/>
                      <a:pt x="12031" y="3"/>
                      <a:pt x="12032" y="3"/>
                    </a:cubicBezTo>
                    <a:close/>
                    <a:moveTo>
                      <a:pt x="12040" y="3"/>
                    </a:moveTo>
                    <a:lnTo>
                      <a:pt x="12040" y="3"/>
                    </a:lnTo>
                    <a:cubicBezTo>
                      <a:pt x="12041" y="3"/>
                      <a:pt x="12042" y="4"/>
                      <a:pt x="12042" y="5"/>
                    </a:cubicBezTo>
                    <a:cubicBezTo>
                      <a:pt x="12042" y="6"/>
                      <a:pt x="12041" y="7"/>
                      <a:pt x="12040" y="7"/>
                    </a:cubicBezTo>
                    <a:lnTo>
                      <a:pt x="12040" y="7"/>
                    </a:lnTo>
                    <a:cubicBezTo>
                      <a:pt x="12039" y="7"/>
                      <a:pt x="12038" y="6"/>
                      <a:pt x="12038" y="5"/>
                    </a:cubicBezTo>
                    <a:cubicBezTo>
                      <a:pt x="12038" y="4"/>
                      <a:pt x="12039" y="3"/>
                      <a:pt x="12040" y="3"/>
                    </a:cubicBezTo>
                    <a:close/>
                    <a:moveTo>
                      <a:pt x="12048" y="3"/>
                    </a:moveTo>
                    <a:lnTo>
                      <a:pt x="12048" y="3"/>
                    </a:lnTo>
                    <a:cubicBezTo>
                      <a:pt x="12049" y="3"/>
                      <a:pt x="12050" y="4"/>
                      <a:pt x="12050" y="5"/>
                    </a:cubicBezTo>
                    <a:cubicBezTo>
                      <a:pt x="12050" y="6"/>
                      <a:pt x="12049" y="7"/>
                      <a:pt x="12048" y="7"/>
                    </a:cubicBezTo>
                    <a:lnTo>
                      <a:pt x="12048" y="7"/>
                    </a:lnTo>
                    <a:cubicBezTo>
                      <a:pt x="12047" y="7"/>
                      <a:pt x="12046" y="6"/>
                      <a:pt x="12046" y="5"/>
                    </a:cubicBezTo>
                    <a:cubicBezTo>
                      <a:pt x="12046" y="4"/>
                      <a:pt x="12047" y="3"/>
                      <a:pt x="12048" y="3"/>
                    </a:cubicBezTo>
                    <a:close/>
                    <a:moveTo>
                      <a:pt x="12056" y="3"/>
                    </a:moveTo>
                    <a:lnTo>
                      <a:pt x="12056" y="3"/>
                    </a:lnTo>
                    <a:cubicBezTo>
                      <a:pt x="12057" y="3"/>
                      <a:pt x="12058" y="4"/>
                      <a:pt x="12058" y="5"/>
                    </a:cubicBezTo>
                    <a:cubicBezTo>
                      <a:pt x="12058" y="6"/>
                      <a:pt x="12057" y="7"/>
                      <a:pt x="12056" y="7"/>
                    </a:cubicBezTo>
                    <a:lnTo>
                      <a:pt x="12056" y="7"/>
                    </a:lnTo>
                    <a:cubicBezTo>
                      <a:pt x="12055" y="7"/>
                      <a:pt x="12054" y="6"/>
                      <a:pt x="12054" y="5"/>
                    </a:cubicBezTo>
                    <a:cubicBezTo>
                      <a:pt x="12054" y="4"/>
                      <a:pt x="12055" y="3"/>
                      <a:pt x="12056" y="3"/>
                    </a:cubicBezTo>
                    <a:close/>
                    <a:moveTo>
                      <a:pt x="12064" y="3"/>
                    </a:moveTo>
                    <a:lnTo>
                      <a:pt x="12064" y="3"/>
                    </a:lnTo>
                    <a:cubicBezTo>
                      <a:pt x="12065" y="3"/>
                      <a:pt x="12066" y="4"/>
                      <a:pt x="12066" y="5"/>
                    </a:cubicBezTo>
                    <a:cubicBezTo>
                      <a:pt x="12066" y="6"/>
                      <a:pt x="12065" y="7"/>
                      <a:pt x="12064" y="7"/>
                    </a:cubicBezTo>
                    <a:lnTo>
                      <a:pt x="12064" y="7"/>
                    </a:lnTo>
                    <a:cubicBezTo>
                      <a:pt x="12063" y="7"/>
                      <a:pt x="12062" y="6"/>
                      <a:pt x="12062" y="5"/>
                    </a:cubicBezTo>
                    <a:cubicBezTo>
                      <a:pt x="12062" y="4"/>
                      <a:pt x="12063" y="3"/>
                      <a:pt x="12064" y="3"/>
                    </a:cubicBezTo>
                    <a:close/>
                    <a:moveTo>
                      <a:pt x="12072" y="3"/>
                    </a:moveTo>
                    <a:lnTo>
                      <a:pt x="12072" y="3"/>
                    </a:lnTo>
                    <a:cubicBezTo>
                      <a:pt x="12073" y="3"/>
                      <a:pt x="12074" y="4"/>
                      <a:pt x="12074" y="5"/>
                    </a:cubicBezTo>
                    <a:cubicBezTo>
                      <a:pt x="12074" y="6"/>
                      <a:pt x="12073" y="7"/>
                      <a:pt x="12072" y="7"/>
                    </a:cubicBezTo>
                    <a:lnTo>
                      <a:pt x="12072" y="7"/>
                    </a:lnTo>
                    <a:cubicBezTo>
                      <a:pt x="12071" y="7"/>
                      <a:pt x="12070" y="6"/>
                      <a:pt x="12070" y="5"/>
                    </a:cubicBezTo>
                    <a:cubicBezTo>
                      <a:pt x="12070" y="4"/>
                      <a:pt x="12071" y="3"/>
                      <a:pt x="12072" y="3"/>
                    </a:cubicBezTo>
                    <a:close/>
                    <a:moveTo>
                      <a:pt x="12080" y="3"/>
                    </a:moveTo>
                    <a:lnTo>
                      <a:pt x="12080" y="3"/>
                    </a:lnTo>
                    <a:cubicBezTo>
                      <a:pt x="12081" y="3"/>
                      <a:pt x="12082" y="4"/>
                      <a:pt x="12082" y="5"/>
                    </a:cubicBezTo>
                    <a:cubicBezTo>
                      <a:pt x="12082" y="6"/>
                      <a:pt x="12081" y="7"/>
                      <a:pt x="12080" y="7"/>
                    </a:cubicBezTo>
                    <a:lnTo>
                      <a:pt x="12080" y="7"/>
                    </a:lnTo>
                    <a:cubicBezTo>
                      <a:pt x="12079" y="7"/>
                      <a:pt x="12078" y="6"/>
                      <a:pt x="12078" y="5"/>
                    </a:cubicBezTo>
                    <a:cubicBezTo>
                      <a:pt x="12078" y="4"/>
                      <a:pt x="12079" y="3"/>
                      <a:pt x="12080" y="3"/>
                    </a:cubicBezTo>
                    <a:close/>
                    <a:moveTo>
                      <a:pt x="12088" y="3"/>
                    </a:moveTo>
                    <a:lnTo>
                      <a:pt x="12088" y="3"/>
                    </a:lnTo>
                    <a:cubicBezTo>
                      <a:pt x="12089" y="3"/>
                      <a:pt x="12090" y="4"/>
                      <a:pt x="12090" y="5"/>
                    </a:cubicBezTo>
                    <a:cubicBezTo>
                      <a:pt x="12090" y="6"/>
                      <a:pt x="12089" y="7"/>
                      <a:pt x="12088" y="7"/>
                    </a:cubicBezTo>
                    <a:lnTo>
                      <a:pt x="12088" y="7"/>
                    </a:lnTo>
                    <a:cubicBezTo>
                      <a:pt x="12087" y="7"/>
                      <a:pt x="12086" y="6"/>
                      <a:pt x="12086" y="5"/>
                    </a:cubicBezTo>
                    <a:cubicBezTo>
                      <a:pt x="12086" y="4"/>
                      <a:pt x="12087" y="3"/>
                      <a:pt x="12088" y="3"/>
                    </a:cubicBezTo>
                    <a:close/>
                    <a:moveTo>
                      <a:pt x="12096" y="3"/>
                    </a:moveTo>
                    <a:lnTo>
                      <a:pt x="12096" y="3"/>
                    </a:lnTo>
                    <a:cubicBezTo>
                      <a:pt x="12097" y="3"/>
                      <a:pt x="12098" y="4"/>
                      <a:pt x="12098" y="5"/>
                    </a:cubicBezTo>
                    <a:cubicBezTo>
                      <a:pt x="12098" y="6"/>
                      <a:pt x="12097" y="7"/>
                      <a:pt x="12096" y="7"/>
                    </a:cubicBezTo>
                    <a:lnTo>
                      <a:pt x="12096" y="7"/>
                    </a:lnTo>
                    <a:cubicBezTo>
                      <a:pt x="12095" y="7"/>
                      <a:pt x="12094" y="6"/>
                      <a:pt x="12094" y="5"/>
                    </a:cubicBezTo>
                    <a:cubicBezTo>
                      <a:pt x="12094" y="4"/>
                      <a:pt x="12095" y="3"/>
                      <a:pt x="12096" y="3"/>
                    </a:cubicBezTo>
                    <a:close/>
                    <a:moveTo>
                      <a:pt x="12104" y="3"/>
                    </a:moveTo>
                    <a:lnTo>
                      <a:pt x="12104" y="3"/>
                    </a:lnTo>
                    <a:cubicBezTo>
                      <a:pt x="12105" y="3"/>
                      <a:pt x="12106" y="4"/>
                      <a:pt x="12106" y="5"/>
                    </a:cubicBezTo>
                    <a:cubicBezTo>
                      <a:pt x="12106" y="6"/>
                      <a:pt x="12105" y="7"/>
                      <a:pt x="12104" y="7"/>
                    </a:cubicBezTo>
                    <a:lnTo>
                      <a:pt x="12104" y="7"/>
                    </a:lnTo>
                    <a:cubicBezTo>
                      <a:pt x="12103" y="7"/>
                      <a:pt x="12102" y="6"/>
                      <a:pt x="12102" y="5"/>
                    </a:cubicBezTo>
                    <a:cubicBezTo>
                      <a:pt x="12102" y="4"/>
                      <a:pt x="12103" y="3"/>
                      <a:pt x="12104" y="3"/>
                    </a:cubicBezTo>
                    <a:close/>
                    <a:moveTo>
                      <a:pt x="12112" y="3"/>
                    </a:moveTo>
                    <a:lnTo>
                      <a:pt x="12112" y="3"/>
                    </a:lnTo>
                    <a:cubicBezTo>
                      <a:pt x="12113" y="3"/>
                      <a:pt x="12114" y="4"/>
                      <a:pt x="12114" y="5"/>
                    </a:cubicBezTo>
                    <a:cubicBezTo>
                      <a:pt x="12114" y="6"/>
                      <a:pt x="12113" y="7"/>
                      <a:pt x="12112" y="7"/>
                    </a:cubicBezTo>
                    <a:lnTo>
                      <a:pt x="12112" y="7"/>
                    </a:lnTo>
                    <a:cubicBezTo>
                      <a:pt x="12111" y="7"/>
                      <a:pt x="12110" y="6"/>
                      <a:pt x="12110" y="5"/>
                    </a:cubicBezTo>
                    <a:cubicBezTo>
                      <a:pt x="12110" y="4"/>
                      <a:pt x="12111" y="3"/>
                      <a:pt x="12112" y="3"/>
                    </a:cubicBezTo>
                    <a:close/>
                    <a:moveTo>
                      <a:pt x="12120" y="3"/>
                    </a:moveTo>
                    <a:lnTo>
                      <a:pt x="12120" y="3"/>
                    </a:lnTo>
                    <a:cubicBezTo>
                      <a:pt x="12121" y="3"/>
                      <a:pt x="12122" y="4"/>
                      <a:pt x="12122" y="5"/>
                    </a:cubicBezTo>
                    <a:cubicBezTo>
                      <a:pt x="12122" y="6"/>
                      <a:pt x="12121" y="7"/>
                      <a:pt x="12120" y="7"/>
                    </a:cubicBezTo>
                    <a:lnTo>
                      <a:pt x="12120" y="7"/>
                    </a:lnTo>
                    <a:cubicBezTo>
                      <a:pt x="12119" y="7"/>
                      <a:pt x="12118" y="6"/>
                      <a:pt x="12118" y="5"/>
                    </a:cubicBezTo>
                    <a:cubicBezTo>
                      <a:pt x="12118" y="4"/>
                      <a:pt x="12119" y="3"/>
                      <a:pt x="12120" y="3"/>
                    </a:cubicBezTo>
                    <a:close/>
                    <a:moveTo>
                      <a:pt x="12128" y="3"/>
                    </a:moveTo>
                    <a:lnTo>
                      <a:pt x="12128" y="3"/>
                    </a:lnTo>
                    <a:cubicBezTo>
                      <a:pt x="12129" y="3"/>
                      <a:pt x="12130" y="4"/>
                      <a:pt x="12130" y="5"/>
                    </a:cubicBezTo>
                    <a:cubicBezTo>
                      <a:pt x="12130" y="6"/>
                      <a:pt x="12129" y="7"/>
                      <a:pt x="12128" y="7"/>
                    </a:cubicBezTo>
                    <a:lnTo>
                      <a:pt x="12128" y="7"/>
                    </a:lnTo>
                    <a:cubicBezTo>
                      <a:pt x="12127" y="7"/>
                      <a:pt x="12126" y="6"/>
                      <a:pt x="12126" y="5"/>
                    </a:cubicBezTo>
                    <a:cubicBezTo>
                      <a:pt x="12126" y="4"/>
                      <a:pt x="12127" y="3"/>
                      <a:pt x="12128" y="3"/>
                    </a:cubicBezTo>
                    <a:close/>
                    <a:moveTo>
                      <a:pt x="12136" y="3"/>
                    </a:moveTo>
                    <a:lnTo>
                      <a:pt x="12136" y="3"/>
                    </a:lnTo>
                    <a:cubicBezTo>
                      <a:pt x="12137" y="3"/>
                      <a:pt x="12138" y="4"/>
                      <a:pt x="12138" y="5"/>
                    </a:cubicBezTo>
                    <a:cubicBezTo>
                      <a:pt x="12138" y="6"/>
                      <a:pt x="12137" y="7"/>
                      <a:pt x="12136" y="7"/>
                    </a:cubicBezTo>
                    <a:lnTo>
                      <a:pt x="12136" y="7"/>
                    </a:lnTo>
                    <a:cubicBezTo>
                      <a:pt x="12135" y="7"/>
                      <a:pt x="12134" y="6"/>
                      <a:pt x="12134" y="5"/>
                    </a:cubicBezTo>
                    <a:cubicBezTo>
                      <a:pt x="12134" y="4"/>
                      <a:pt x="12135" y="3"/>
                      <a:pt x="12136" y="3"/>
                    </a:cubicBezTo>
                    <a:close/>
                    <a:moveTo>
                      <a:pt x="12144" y="3"/>
                    </a:moveTo>
                    <a:lnTo>
                      <a:pt x="12144" y="3"/>
                    </a:lnTo>
                    <a:cubicBezTo>
                      <a:pt x="12145" y="3"/>
                      <a:pt x="12146" y="4"/>
                      <a:pt x="12146" y="5"/>
                    </a:cubicBezTo>
                    <a:cubicBezTo>
                      <a:pt x="12146" y="6"/>
                      <a:pt x="12145" y="7"/>
                      <a:pt x="12144" y="7"/>
                    </a:cubicBezTo>
                    <a:lnTo>
                      <a:pt x="12144" y="7"/>
                    </a:lnTo>
                    <a:cubicBezTo>
                      <a:pt x="12143" y="7"/>
                      <a:pt x="12142" y="6"/>
                      <a:pt x="12142" y="5"/>
                    </a:cubicBezTo>
                    <a:cubicBezTo>
                      <a:pt x="12142" y="4"/>
                      <a:pt x="12143" y="3"/>
                      <a:pt x="12144" y="3"/>
                    </a:cubicBezTo>
                    <a:close/>
                    <a:moveTo>
                      <a:pt x="12152" y="3"/>
                    </a:moveTo>
                    <a:lnTo>
                      <a:pt x="12152" y="3"/>
                    </a:lnTo>
                    <a:cubicBezTo>
                      <a:pt x="12153" y="3"/>
                      <a:pt x="12154" y="4"/>
                      <a:pt x="12154" y="5"/>
                    </a:cubicBezTo>
                    <a:cubicBezTo>
                      <a:pt x="12154" y="6"/>
                      <a:pt x="12153" y="7"/>
                      <a:pt x="12152" y="7"/>
                    </a:cubicBezTo>
                    <a:lnTo>
                      <a:pt x="12152" y="7"/>
                    </a:lnTo>
                    <a:cubicBezTo>
                      <a:pt x="12151" y="7"/>
                      <a:pt x="12150" y="6"/>
                      <a:pt x="12150" y="5"/>
                    </a:cubicBezTo>
                    <a:cubicBezTo>
                      <a:pt x="12150" y="4"/>
                      <a:pt x="12151" y="3"/>
                      <a:pt x="12152" y="3"/>
                    </a:cubicBezTo>
                    <a:close/>
                    <a:moveTo>
                      <a:pt x="12160" y="3"/>
                    </a:moveTo>
                    <a:lnTo>
                      <a:pt x="12160" y="3"/>
                    </a:lnTo>
                    <a:cubicBezTo>
                      <a:pt x="12161" y="3"/>
                      <a:pt x="12162" y="4"/>
                      <a:pt x="12162" y="5"/>
                    </a:cubicBezTo>
                    <a:cubicBezTo>
                      <a:pt x="12162" y="6"/>
                      <a:pt x="12161" y="7"/>
                      <a:pt x="12160" y="7"/>
                    </a:cubicBezTo>
                    <a:lnTo>
                      <a:pt x="12160" y="7"/>
                    </a:lnTo>
                    <a:cubicBezTo>
                      <a:pt x="12159" y="7"/>
                      <a:pt x="12158" y="6"/>
                      <a:pt x="12158" y="5"/>
                    </a:cubicBezTo>
                    <a:cubicBezTo>
                      <a:pt x="12158" y="4"/>
                      <a:pt x="12159" y="3"/>
                      <a:pt x="12160" y="3"/>
                    </a:cubicBezTo>
                    <a:close/>
                    <a:moveTo>
                      <a:pt x="12168" y="3"/>
                    </a:moveTo>
                    <a:lnTo>
                      <a:pt x="12168" y="3"/>
                    </a:lnTo>
                    <a:cubicBezTo>
                      <a:pt x="12169" y="3"/>
                      <a:pt x="12170" y="4"/>
                      <a:pt x="12170" y="5"/>
                    </a:cubicBezTo>
                    <a:cubicBezTo>
                      <a:pt x="12170" y="6"/>
                      <a:pt x="12169" y="7"/>
                      <a:pt x="12168" y="7"/>
                    </a:cubicBezTo>
                    <a:lnTo>
                      <a:pt x="12168" y="7"/>
                    </a:lnTo>
                    <a:cubicBezTo>
                      <a:pt x="12167" y="7"/>
                      <a:pt x="12166" y="6"/>
                      <a:pt x="12166" y="5"/>
                    </a:cubicBezTo>
                    <a:cubicBezTo>
                      <a:pt x="12166" y="4"/>
                      <a:pt x="12167" y="3"/>
                      <a:pt x="12168" y="3"/>
                    </a:cubicBezTo>
                    <a:close/>
                    <a:moveTo>
                      <a:pt x="12176" y="3"/>
                    </a:moveTo>
                    <a:lnTo>
                      <a:pt x="12176" y="3"/>
                    </a:lnTo>
                    <a:cubicBezTo>
                      <a:pt x="12177" y="3"/>
                      <a:pt x="12178" y="4"/>
                      <a:pt x="12178" y="5"/>
                    </a:cubicBezTo>
                    <a:cubicBezTo>
                      <a:pt x="12178" y="6"/>
                      <a:pt x="12177" y="7"/>
                      <a:pt x="12176" y="7"/>
                    </a:cubicBezTo>
                    <a:lnTo>
                      <a:pt x="12176" y="7"/>
                    </a:lnTo>
                    <a:cubicBezTo>
                      <a:pt x="12175" y="7"/>
                      <a:pt x="12174" y="6"/>
                      <a:pt x="12174" y="5"/>
                    </a:cubicBezTo>
                    <a:cubicBezTo>
                      <a:pt x="12174" y="4"/>
                      <a:pt x="12175" y="3"/>
                      <a:pt x="12176" y="3"/>
                    </a:cubicBezTo>
                    <a:close/>
                    <a:moveTo>
                      <a:pt x="12184" y="3"/>
                    </a:moveTo>
                    <a:lnTo>
                      <a:pt x="12184" y="3"/>
                    </a:lnTo>
                    <a:cubicBezTo>
                      <a:pt x="12185" y="3"/>
                      <a:pt x="12186" y="4"/>
                      <a:pt x="12186" y="5"/>
                    </a:cubicBezTo>
                    <a:cubicBezTo>
                      <a:pt x="12186" y="6"/>
                      <a:pt x="12185" y="7"/>
                      <a:pt x="12184" y="7"/>
                    </a:cubicBezTo>
                    <a:lnTo>
                      <a:pt x="12184" y="7"/>
                    </a:lnTo>
                    <a:cubicBezTo>
                      <a:pt x="12183" y="7"/>
                      <a:pt x="12182" y="6"/>
                      <a:pt x="12182" y="5"/>
                    </a:cubicBezTo>
                    <a:cubicBezTo>
                      <a:pt x="12182" y="4"/>
                      <a:pt x="12183" y="3"/>
                      <a:pt x="12184" y="3"/>
                    </a:cubicBezTo>
                    <a:close/>
                    <a:moveTo>
                      <a:pt x="12192" y="3"/>
                    </a:moveTo>
                    <a:lnTo>
                      <a:pt x="12192" y="3"/>
                    </a:lnTo>
                    <a:cubicBezTo>
                      <a:pt x="12193" y="3"/>
                      <a:pt x="12194" y="4"/>
                      <a:pt x="12194" y="5"/>
                    </a:cubicBezTo>
                    <a:cubicBezTo>
                      <a:pt x="12194" y="6"/>
                      <a:pt x="12193" y="7"/>
                      <a:pt x="12192" y="7"/>
                    </a:cubicBezTo>
                    <a:lnTo>
                      <a:pt x="12192" y="7"/>
                    </a:lnTo>
                    <a:cubicBezTo>
                      <a:pt x="12191" y="7"/>
                      <a:pt x="12190" y="6"/>
                      <a:pt x="12190" y="5"/>
                    </a:cubicBezTo>
                    <a:cubicBezTo>
                      <a:pt x="12190" y="4"/>
                      <a:pt x="12191" y="3"/>
                      <a:pt x="12192" y="3"/>
                    </a:cubicBezTo>
                    <a:close/>
                    <a:moveTo>
                      <a:pt x="12200" y="3"/>
                    </a:moveTo>
                    <a:lnTo>
                      <a:pt x="12200" y="3"/>
                    </a:lnTo>
                    <a:cubicBezTo>
                      <a:pt x="12201" y="3"/>
                      <a:pt x="12202" y="4"/>
                      <a:pt x="12202" y="5"/>
                    </a:cubicBezTo>
                    <a:cubicBezTo>
                      <a:pt x="12202" y="6"/>
                      <a:pt x="12201" y="7"/>
                      <a:pt x="12200" y="7"/>
                    </a:cubicBezTo>
                    <a:lnTo>
                      <a:pt x="12200" y="7"/>
                    </a:lnTo>
                    <a:cubicBezTo>
                      <a:pt x="12199" y="7"/>
                      <a:pt x="12198" y="6"/>
                      <a:pt x="12198" y="5"/>
                    </a:cubicBezTo>
                    <a:cubicBezTo>
                      <a:pt x="12198" y="4"/>
                      <a:pt x="12199" y="3"/>
                      <a:pt x="12200" y="3"/>
                    </a:cubicBezTo>
                    <a:close/>
                    <a:moveTo>
                      <a:pt x="12208" y="3"/>
                    </a:moveTo>
                    <a:lnTo>
                      <a:pt x="12208" y="3"/>
                    </a:lnTo>
                    <a:cubicBezTo>
                      <a:pt x="12209" y="3"/>
                      <a:pt x="12210" y="4"/>
                      <a:pt x="12210" y="5"/>
                    </a:cubicBezTo>
                    <a:cubicBezTo>
                      <a:pt x="12210" y="6"/>
                      <a:pt x="12209" y="7"/>
                      <a:pt x="12208" y="7"/>
                    </a:cubicBezTo>
                    <a:lnTo>
                      <a:pt x="12208" y="7"/>
                    </a:lnTo>
                    <a:cubicBezTo>
                      <a:pt x="12207" y="7"/>
                      <a:pt x="12206" y="6"/>
                      <a:pt x="12206" y="5"/>
                    </a:cubicBezTo>
                    <a:cubicBezTo>
                      <a:pt x="12206" y="4"/>
                      <a:pt x="12207" y="3"/>
                      <a:pt x="12208" y="3"/>
                    </a:cubicBezTo>
                    <a:close/>
                    <a:moveTo>
                      <a:pt x="12216" y="3"/>
                    </a:moveTo>
                    <a:lnTo>
                      <a:pt x="12216" y="3"/>
                    </a:lnTo>
                    <a:cubicBezTo>
                      <a:pt x="12217" y="3"/>
                      <a:pt x="12218" y="4"/>
                      <a:pt x="12218" y="5"/>
                    </a:cubicBezTo>
                    <a:cubicBezTo>
                      <a:pt x="12218" y="6"/>
                      <a:pt x="12217" y="7"/>
                      <a:pt x="12216" y="7"/>
                    </a:cubicBezTo>
                    <a:lnTo>
                      <a:pt x="12216" y="7"/>
                    </a:lnTo>
                    <a:cubicBezTo>
                      <a:pt x="12215" y="7"/>
                      <a:pt x="12214" y="6"/>
                      <a:pt x="12214" y="5"/>
                    </a:cubicBezTo>
                    <a:cubicBezTo>
                      <a:pt x="12214" y="4"/>
                      <a:pt x="12215" y="3"/>
                      <a:pt x="12216" y="3"/>
                    </a:cubicBezTo>
                    <a:close/>
                    <a:moveTo>
                      <a:pt x="12224" y="3"/>
                    </a:moveTo>
                    <a:lnTo>
                      <a:pt x="12224" y="3"/>
                    </a:lnTo>
                    <a:cubicBezTo>
                      <a:pt x="12225" y="3"/>
                      <a:pt x="12226" y="4"/>
                      <a:pt x="12226" y="5"/>
                    </a:cubicBezTo>
                    <a:cubicBezTo>
                      <a:pt x="12226" y="6"/>
                      <a:pt x="12225" y="7"/>
                      <a:pt x="12224" y="7"/>
                    </a:cubicBezTo>
                    <a:lnTo>
                      <a:pt x="12224" y="7"/>
                    </a:lnTo>
                    <a:cubicBezTo>
                      <a:pt x="12223" y="7"/>
                      <a:pt x="12222" y="6"/>
                      <a:pt x="12222" y="5"/>
                    </a:cubicBezTo>
                    <a:cubicBezTo>
                      <a:pt x="12222" y="4"/>
                      <a:pt x="12223" y="3"/>
                      <a:pt x="12224" y="3"/>
                    </a:cubicBezTo>
                    <a:close/>
                    <a:moveTo>
                      <a:pt x="12232" y="3"/>
                    </a:moveTo>
                    <a:lnTo>
                      <a:pt x="12232" y="3"/>
                    </a:lnTo>
                    <a:cubicBezTo>
                      <a:pt x="12233" y="3"/>
                      <a:pt x="12234" y="4"/>
                      <a:pt x="12234" y="5"/>
                    </a:cubicBezTo>
                    <a:cubicBezTo>
                      <a:pt x="12234" y="6"/>
                      <a:pt x="12233" y="7"/>
                      <a:pt x="12232" y="7"/>
                    </a:cubicBezTo>
                    <a:lnTo>
                      <a:pt x="12232" y="7"/>
                    </a:lnTo>
                    <a:cubicBezTo>
                      <a:pt x="12231" y="7"/>
                      <a:pt x="12230" y="6"/>
                      <a:pt x="12230" y="5"/>
                    </a:cubicBezTo>
                    <a:cubicBezTo>
                      <a:pt x="12230" y="4"/>
                      <a:pt x="12231" y="3"/>
                      <a:pt x="12232" y="3"/>
                    </a:cubicBezTo>
                    <a:close/>
                    <a:moveTo>
                      <a:pt x="12240" y="3"/>
                    </a:moveTo>
                    <a:lnTo>
                      <a:pt x="12240" y="3"/>
                    </a:lnTo>
                    <a:cubicBezTo>
                      <a:pt x="12241" y="3"/>
                      <a:pt x="12242" y="4"/>
                      <a:pt x="12242" y="5"/>
                    </a:cubicBezTo>
                    <a:cubicBezTo>
                      <a:pt x="12242" y="6"/>
                      <a:pt x="12241" y="7"/>
                      <a:pt x="12240" y="7"/>
                    </a:cubicBezTo>
                    <a:lnTo>
                      <a:pt x="12240" y="7"/>
                    </a:lnTo>
                    <a:cubicBezTo>
                      <a:pt x="12239" y="7"/>
                      <a:pt x="12238" y="6"/>
                      <a:pt x="12238" y="5"/>
                    </a:cubicBezTo>
                    <a:cubicBezTo>
                      <a:pt x="12238" y="4"/>
                      <a:pt x="12239" y="3"/>
                      <a:pt x="12240" y="3"/>
                    </a:cubicBezTo>
                    <a:close/>
                    <a:moveTo>
                      <a:pt x="12248" y="3"/>
                    </a:moveTo>
                    <a:lnTo>
                      <a:pt x="12248" y="3"/>
                    </a:lnTo>
                    <a:cubicBezTo>
                      <a:pt x="12249" y="3"/>
                      <a:pt x="12250" y="4"/>
                      <a:pt x="12250" y="5"/>
                    </a:cubicBezTo>
                    <a:cubicBezTo>
                      <a:pt x="12250" y="6"/>
                      <a:pt x="12249" y="7"/>
                      <a:pt x="12248" y="7"/>
                    </a:cubicBezTo>
                    <a:lnTo>
                      <a:pt x="12248" y="7"/>
                    </a:lnTo>
                    <a:cubicBezTo>
                      <a:pt x="12247" y="7"/>
                      <a:pt x="12246" y="6"/>
                      <a:pt x="12246" y="5"/>
                    </a:cubicBezTo>
                    <a:cubicBezTo>
                      <a:pt x="12246" y="4"/>
                      <a:pt x="12247" y="3"/>
                      <a:pt x="12248" y="3"/>
                    </a:cubicBezTo>
                    <a:close/>
                    <a:moveTo>
                      <a:pt x="12256" y="3"/>
                    </a:moveTo>
                    <a:lnTo>
                      <a:pt x="12256" y="3"/>
                    </a:lnTo>
                    <a:cubicBezTo>
                      <a:pt x="12257" y="3"/>
                      <a:pt x="12258" y="4"/>
                      <a:pt x="12258" y="5"/>
                    </a:cubicBezTo>
                    <a:cubicBezTo>
                      <a:pt x="12258" y="6"/>
                      <a:pt x="12257" y="7"/>
                      <a:pt x="12256" y="7"/>
                    </a:cubicBezTo>
                    <a:lnTo>
                      <a:pt x="12256" y="7"/>
                    </a:lnTo>
                    <a:cubicBezTo>
                      <a:pt x="12255" y="7"/>
                      <a:pt x="12254" y="6"/>
                      <a:pt x="12254" y="5"/>
                    </a:cubicBezTo>
                    <a:cubicBezTo>
                      <a:pt x="12254" y="4"/>
                      <a:pt x="12255" y="3"/>
                      <a:pt x="12256" y="3"/>
                    </a:cubicBezTo>
                    <a:close/>
                    <a:moveTo>
                      <a:pt x="12264" y="3"/>
                    </a:moveTo>
                    <a:lnTo>
                      <a:pt x="12264" y="3"/>
                    </a:lnTo>
                    <a:cubicBezTo>
                      <a:pt x="12265" y="3"/>
                      <a:pt x="12266" y="4"/>
                      <a:pt x="12266" y="5"/>
                    </a:cubicBezTo>
                    <a:cubicBezTo>
                      <a:pt x="12266" y="6"/>
                      <a:pt x="12265" y="7"/>
                      <a:pt x="12264" y="7"/>
                    </a:cubicBezTo>
                    <a:lnTo>
                      <a:pt x="12264" y="7"/>
                    </a:lnTo>
                    <a:cubicBezTo>
                      <a:pt x="12263" y="7"/>
                      <a:pt x="12262" y="6"/>
                      <a:pt x="12262" y="5"/>
                    </a:cubicBezTo>
                    <a:cubicBezTo>
                      <a:pt x="12262" y="4"/>
                      <a:pt x="12263" y="3"/>
                      <a:pt x="12264" y="3"/>
                    </a:cubicBezTo>
                    <a:close/>
                    <a:moveTo>
                      <a:pt x="12272" y="3"/>
                    </a:moveTo>
                    <a:lnTo>
                      <a:pt x="12272" y="3"/>
                    </a:lnTo>
                    <a:cubicBezTo>
                      <a:pt x="12273" y="3"/>
                      <a:pt x="12274" y="4"/>
                      <a:pt x="12274" y="5"/>
                    </a:cubicBezTo>
                    <a:cubicBezTo>
                      <a:pt x="12274" y="6"/>
                      <a:pt x="12273" y="7"/>
                      <a:pt x="12272" y="7"/>
                    </a:cubicBezTo>
                    <a:lnTo>
                      <a:pt x="12272" y="7"/>
                    </a:lnTo>
                    <a:cubicBezTo>
                      <a:pt x="12271" y="7"/>
                      <a:pt x="12270" y="6"/>
                      <a:pt x="12270" y="5"/>
                    </a:cubicBezTo>
                    <a:cubicBezTo>
                      <a:pt x="12270" y="4"/>
                      <a:pt x="12271" y="3"/>
                      <a:pt x="12272" y="3"/>
                    </a:cubicBezTo>
                    <a:close/>
                    <a:moveTo>
                      <a:pt x="12280" y="3"/>
                    </a:moveTo>
                    <a:lnTo>
                      <a:pt x="12280" y="3"/>
                    </a:lnTo>
                    <a:cubicBezTo>
                      <a:pt x="12281" y="3"/>
                      <a:pt x="12282" y="4"/>
                      <a:pt x="12282" y="5"/>
                    </a:cubicBezTo>
                    <a:cubicBezTo>
                      <a:pt x="12282" y="6"/>
                      <a:pt x="12281" y="7"/>
                      <a:pt x="12280" y="7"/>
                    </a:cubicBezTo>
                    <a:lnTo>
                      <a:pt x="12280" y="7"/>
                    </a:lnTo>
                    <a:cubicBezTo>
                      <a:pt x="12279" y="7"/>
                      <a:pt x="12278" y="6"/>
                      <a:pt x="12278" y="5"/>
                    </a:cubicBezTo>
                    <a:cubicBezTo>
                      <a:pt x="12278" y="4"/>
                      <a:pt x="12279" y="3"/>
                      <a:pt x="12280" y="3"/>
                    </a:cubicBezTo>
                    <a:close/>
                    <a:moveTo>
                      <a:pt x="12288" y="3"/>
                    </a:moveTo>
                    <a:lnTo>
                      <a:pt x="12288" y="3"/>
                    </a:lnTo>
                    <a:cubicBezTo>
                      <a:pt x="12289" y="3"/>
                      <a:pt x="12290" y="4"/>
                      <a:pt x="12290" y="5"/>
                    </a:cubicBezTo>
                    <a:cubicBezTo>
                      <a:pt x="12290" y="6"/>
                      <a:pt x="12289" y="7"/>
                      <a:pt x="12288" y="7"/>
                    </a:cubicBezTo>
                    <a:lnTo>
                      <a:pt x="12288" y="7"/>
                    </a:lnTo>
                    <a:cubicBezTo>
                      <a:pt x="12287" y="7"/>
                      <a:pt x="12286" y="6"/>
                      <a:pt x="12286" y="5"/>
                    </a:cubicBezTo>
                    <a:cubicBezTo>
                      <a:pt x="12286" y="4"/>
                      <a:pt x="12287" y="3"/>
                      <a:pt x="12288" y="3"/>
                    </a:cubicBezTo>
                    <a:close/>
                    <a:moveTo>
                      <a:pt x="12296" y="3"/>
                    </a:moveTo>
                    <a:lnTo>
                      <a:pt x="12296" y="3"/>
                    </a:lnTo>
                    <a:cubicBezTo>
                      <a:pt x="12297" y="3"/>
                      <a:pt x="12298" y="4"/>
                      <a:pt x="12298" y="5"/>
                    </a:cubicBezTo>
                    <a:cubicBezTo>
                      <a:pt x="12298" y="6"/>
                      <a:pt x="12297" y="7"/>
                      <a:pt x="12296" y="7"/>
                    </a:cubicBezTo>
                    <a:lnTo>
                      <a:pt x="12296" y="7"/>
                    </a:lnTo>
                    <a:cubicBezTo>
                      <a:pt x="12295" y="7"/>
                      <a:pt x="12294" y="6"/>
                      <a:pt x="12294" y="5"/>
                    </a:cubicBezTo>
                    <a:cubicBezTo>
                      <a:pt x="12294" y="4"/>
                      <a:pt x="12295" y="3"/>
                      <a:pt x="12296" y="3"/>
                    </a:cubicBezTo>
                    <a:close/>
                    <a:moveTo>
                      <a:pt x="12304" y="3"/>
                    </a:moveTo>
                    <a:lnTo>
                      <a:pt x="12304" y="3"/>
                    </a:lnTo>
                    <a:cubicBezTo>
                      <a:pt x="12305" y="3"/>
                      <a:pt x="12306" y="4"/>
                      <a:pt x="12306" y="5"/>
                    </a:cubicBezTo>
                    <a:cubicBezTo>
                      <a:pt x="12306" y="6"/>
                      <a:pt x="12305" y="7"/>
                      <a:pt x="12304" y="7"/>
                    </a:cubicBezTo>
                    <a:lnTo>
                      <a:pt x="12304" y="7"/>
                    </a:lnTo>
                    <a:cubicBezTo>
                      <a:pt x="12303" y="7"/>
                      <a:pt x="12302" y="6"/>
                      <a:pt x="12302" y="5"/>
                    </a:cubicBezTo>
                    <a:cubicBezTo>
                      <a:pt x="12302" y="4"/>
                      <a:pt x="12303" y="3"/>
                      <a:pt x="12304" y="3"/>
                    </a:cubicBezTo>
                    <a:close/>
                    <a:moveTo>
                      <a:pt x="12312" y="3"/>
                    </a:moveTo>
                    <a:lnTo>
                      <a:pt x="12312" y="3"/>
                    </a:lnTo>
                    <a:cubicBezTo>
                      <a:pt x="12313" y="3"/>
                      <a:pt x="12314" y="4"/>
                      <a:pt x="12314" y="5"/>
                    </a:cubicBezTo>
                    <a:cubicBezTo>
                      <a:pt x="12314" y="6"/>
                      <a:pt x="12313" y="7"/>
                      <a:pt x="12312" y="7"/>
                    </a:cubicBezTo>
                    <a:lnTo>
                      <a:pt x="12312" y="7"/>
                    </a:lnTo>
                    <a:cubicBezTo>
                      <a:pt x="12311" y="7"/>
                      <a:pt x="12310" y="6"/>
                      <a:pt x="12310" y="5"/>
                    </a:cubicBezTo>
                    <a:cubicBezTo>
                      <a:pt x="12310" y="4"/>
                      <a:pt x="12311" y="3"/>
                      <a:pt x="12312" y="3"/>
                    </a:cubicBezTo>
                    <a:close/>
                    <a:moveTo>
                      <a:pt x="12320" y="3"/>
                    </a:moveTo>
                    <a:lnTo>
                      <a:pt x="12320" y="3"/>
                    </a:lnTo>
                    <a:cubicBezTo>
                      <a:pt x="12321" y="3"/>
                      <a:pt x="12322" y="4"/>
                      <a:pt x="12322" y="5"/>
                    </a:cubicBezTo>
                    <a:cubicBezTo>
                      <a:pt x="12322" y="6"/>
                      <a:pt x="12321" y="7"/>
                      <a:pt x="12320" y="7"/>
                    </a:cubicBezTo>
                    <a:lnTo>
                      <a:pt x="12320" y="7"/>
                    </a:lnTo>
                    <a:cubicBezTo>
                      <a:pt x="12319" y="7"/>
                      <a:pt x="12318" y="6"/>
                      <a:pt x="12318" y="5"/>
                    </a:cubicBezTo>
                    <a:cubicBezTo>
                      <a:pt x="12318" y="4"/>
                      <a:pt x="12319" y="3"/>
                      <a:pt x="12320" y="3"/>
                    </a:cubicBezTo>
                    <a:close/>
                    <a:moveTo>
                      <a:pt x="12328" y="3"/>
                    </a:moveTo>
                    <a:lnTo>
                      <a:pt x="12328" y="3"/>
                    </a:lnTo>
                    <a:cubicBezTo>
                      <a:pt x="12329" y="3"/>
                      <a:pt x="12330" y="4"/>
                      <a:pt x="12330" y="5"/>
                    </a:cubicBezTo>
                    <a:cubicBezTo>
                      <a:pt x="12330" y="6"/>
                      <a:pt x="12329" y="7"/>
                      <a:pt x="12328" y="7"/>
                    </a:cubicBezTo>
                    <a:lnTo>
                      <a:pt x="12328" y="7"/>
                    </a:lnTo>
                    <a:cubicBezTo>
                      <a:pt x="12327" y="7"/>
                      <a:pt x="12326" y="6"/>
                      <a:pt x="12326" y="5"/>
                    </a:cubicBezTo>
                    <a:cubicBezTo>
                      <a:pt x="12326" y="4"/>
                      <a:pt x="12327" y="3"/>
                      <a:pt x="12328" y="3"/>
                    </a:cubicBezTo>
                    <a:close/>
                    <a:moveTo>
                      <a:pt x="12336" y="3"/>
                    </a:moveTo>
                    <a:lnTo>
                      <a:pt x="12336" y="3"/>
                    </a:lnTo>
                    <a:cubicBezTo>
                      <a:pt x="12337" y="3"/>
                      <a:pt x="12338" y="4"/>
                      <a:pt x="12338" y="5"/>
                    </a:cubicBezTo>
                    <a:cubicBezTo>
                      <a:pt x="12338" y="6"/>
                      <a:pt x="12337" y="7"/>
                      <a:pt x="12336" y="7"/>
                    </a:cubicBezTo>
                    <a:lnTo>
                      <a:pt x="12336" y="7"/>
                    </a:lnTo>
                    <a:cubicBezTo>
                      <a:pt x="12335" y="7"/>
                      <a:pt x="12334" y="6"/>
                      <a:pt x="12334" y="5"/>
                    </a:cubicBezTo>
                    <a:cubicBezTo>
                      <a:pt x="12334" y="4"/>
                      <a:pt x="12335" y="3"/>
                      <a:pt x="12336" y="3"/>
                    </a:cubicBezTo>
                    <a:close/>
                    <a:moveTo>
                      <a:pt x="12344" y="3"/>
                    </a:moveTo>
                    <a:lnTo>
                      <a:pt x="12344" y="3"/>
                    </a:lnTo>
                    <a:cubicBezTo>
                      <a:pt x="12345" y="3"/>
                      <a:pt x="12346" y="4"/>
                      <a:pt x="12346" y="5"/>
                    </a:cubicBezTo>
                    <a:cubicBezTo>
                      <a:pt x="12346" y="6"/>
                      <a:pt x="12345" y="7"/>
                      <a:pt x="12344" y="7"/>
                    </a:cubicBezTo>
                    <a:lnTo>
                      <a:pt x="12344" y="7"/>
                    </a:lnTo>
                    <a:cubicBezTo>
                      <a:pt x="12343" y="7"/>
                      <a:pt x="12342" y="6"/>
                      <a:pt x="12342" y="5"/>
                    </a:cubicBezTo>
                    <a:cubicBezTo>
                      <a:pt x="12342" y="4"/>
                      <a:pt x="12343" y="3"/>
                      <a:pt x="12344" y="3"/>
                    </a:cubicBezTo>
                    <a:close/>
                    <a:moveTo>
                      <a:pt x="12352" y="3"/>
                    </a:moveTo>
                    <a:lnTo>
                      <a:pt x="12352" y="3"/>
                    </a:lnTo>
                    <a:cubicBezTo>
                      <a:pt x="12353" y="3"/>
                      <a:pt x="12354" y="4"/>
                      <a:pt x="12354" y="5"/>
                    </a:cubicBezTo>
                    <a:cubicBezTo>
                      <a:pt x="12354" y="6"/>
                      <a:pt x="12353" y="7"/>
                      <a:pt x="12352" y="7"/>
                    </a:cubicBezTo>
                    <a:lnTo>
                      <a:pt x="12352" y="7"/>
                    </a:lnTo>
                    <a:cubicBezTo>
                      <a:pt x="12351" y="7"/>
                      <a:pt x="12350" y="6"/>
                      <a:pt x="12350" y="5"/>
                    </a:cubicBezTo>
                    <a:cubicBezTo>
                      <a:pt x="12350" y="4"/>
                      <a:pt x="12351" y="3"/>
                      <a:pt x="12352" y="3"/>
                    </a:cubicBezTo>
                    <a:close/>
                    <a:moveTo>
                      <a:pt x="12360" y="3"/>
                    </a:moveTo>
                    <a:lnTo>
                      <a:pt x="12360" y="3"/>
                    </a:lnTo>
                    <a:cubicBezTo>
                      <a:pt x="12361" y="3"/>
                      <a:pt x="12362" y="4"/>
                      <a:pt x="12362" y="5"/>
                    </a:cubicBezTo>
                    <a:cubicBezTo>
                      <a:pt x="12362" y="6"/>
                      <a:pt x="12361" y="7"/>
                      <a:pt x="12360" y="7"/>
                    </a:cubicBezTo>
                    <a:lnTo>
                      <a:pt x="12360" y="7"/>
                    </a:lnTo>
                    <a:cubicBezTo>
                      <a:pt x="12359" y="7"/>
                      <a:pt x="12358" y="6"/>
                      <a:pt x="12358" y="5"/>
                    </a:cubicBezTo>
                    <a:cubicBezTo>
                      <a:pt x="12358" y="4"/>
                      <a:pt x="12359" y="3"/>
                      <a:pt x="12360" y="3"/>
                    </a:cubicBezTo>
                    <a:close/>
                    <a:moveTo>
                      <a:pt x="12368" y="3"/>
                    </a:moveTo>
                    <a:lnTo>
                      <a:pt x="12368" y="3"/>
                    </a:lnTo>
                    <a:cubicBezTo>
                      <a:pt x="12369" y="3"/>
                      <a:pt x="12370" y="4"/>
                      <a:pt x="12370" y="5"/>
                    </a:cubicBezTo>
                    <a:cubicBezTo>
                      <a:pt x="12370" y="6"/>
                      <a:pt x="12369" y="7"/>
                      <a:pt x="12368" y="7"/>
                    </a:cubicBezTo>
                    <a:lnTo>
                      <a:pt x="12368" y="7"/>
                    </a:lnTo>
                    <a:cubicBezTo>
                      <a:pt x="12367" y="7"/>
                      <a:pt x="12366" y="6"/>
                      <a:pt x="12366" y="5"/>
                    </a:cubicBezTo>
                    <a:cubicBezTo>
                      <a:pt x="12366" y="4"/>
                      <a:pt x="12367" y="3"/>
                      <a:pt x="12368" y="3"/>
                    </a:cubicBezTo>
                    <a:close/>
                    <a:moveTo>
                      <a:pt x="12376" y="3"/>
                    </a:moveTo>
                    <a:lnTo>
                      <a:pt x="12376" y="3"/>
                    </a:lnTo>
                    <a:cubicBezTo>
                      <a:pt x="12377" y="3"/>
                      <a:pt x="12378" y="4"/>
                      <a:pt x="12378" y="5"/>
                    </a:cubicBezTo>
                    <a:cubicBezTo>
                      <a:pt x="12378" y="6"/>
                      <a:pt x="12377" y="7"/>
                      <a:pt x="12376" y="7"/>
                    </a:cubicBezTo>
                    <a:lnTo>
                      <a:pt x="12376" y="7"/>
                    </a:lnTo>
                    <a:cubicBezTo>
                      <a:pt x="12375" y="7"/>
                      <a:pt x="12374" y="6"/>
                      <a:pt x="12374" y="5"/>
                    </a:cubicBezTo>
                    <a:cubicBezTo>
                      <a:pt x="12374" y="4"/>
                      <a:pt x="12375" y="3"/>
                      <a:pt x="12376" y="3"/>
                    </a:cubicBezTo>
                    <a:close/>
                    <a:moveTo>
                      <a:pt x="12384" y="3"/>
                    </a:moveTo>
                    <a:lnTo>
                      <a:pt x="12384" y="3"/>
                    </a:lnTo>
                    <a:cubicBezTo>
                      <a:pt x="12385" y="3"/>
                      <a:pt x="12386" y="4"/>
                      <a:pt x="12386" y="5"/>
                    </a:cubicBezTo>
                    <a:cubicBezTo>
                      <a:pt x="12386" y="6"/>
                      <a:pt x="12385" y="7"/>
                      <a:pt x="12384" y="7"/>
                    </a:cubicBezTo>
                    <a:lnTo>
                      <a:pt x="12384" y="7"/>
                    </a:lnTo>
                    <a:cubicBezTo>
                      <a:pt x="12383" y="7"/>
                      <a:pt x="12382" y="6"/>
                      <a:pt x="12382" y="5"/>
                    </a:cubicBezTo>
                    <a:cubicBezTo>
                      <a:pt x="12382" y="4"/>
                      <a:pt x="12383" y="3"/>
                      <a:pt x="12384" y="3"/>
                    </a:cubicBezTo>
                    <a:close/>
                    <a:moveTo>
                      <a:pt x="12392" y="3"/>
                    </a:moveTo>
                    <a:lnTo>
                      <a:pt x="12392" y="3"/>
                    </a:lnTo>
                    <a:cubicBezTo>
                      <a:pt x="12393" y="3"/>
                      <a:pt x="12394" y="4"/>
                      <a:pt x="12394" y="5"/>
                    </a:cubicBezTo>
                    <a:cubicBezTo>
                      <a:pt x="12394" y="6"/>
                      <a:pt x="12393" y="7"/>
                      <a:pt x="12392" y="7"/>
                    </a:cubicBezTo>
                    <a:lnTo>
                      <a:pt x="12392" y="7"/>
                    </a:lnTo>
                    <a:cubicBezTo>
                      <a:pt x="12391" y="7"/>
                      <a:pt x="12390" y="6"/>
                      <a:pt x="12390" y="5"/>
                    </a:cubicBezTo>
                    <a:cubicBezTo>
                      <a:pt x="12390" y="4"/>
                      <a:pt x="12391" y="3"/>
                      <a:pt x="12392" y="3"/>
                    </a:cubicBezTo>
                    <a:close/>
                    <a:moveTo>
                      <a:pt x="12400" y="3"/>
                    </a:moveTo>
                    <a:lnTo>
                      <a:pt x="12400" y="3"/>
                    </a:lnTo>
                    <a:cubicBezTo>
                      <a:pt x="12401" y="3"/>
                      <a:pt x="12402" y="4"/>
                      <a:pt x="12402" y="5"/>
                    </a:cubicBezTo>
                    <a:cubicBezTo>
                      <a:pt x="12402" y="6"/>
                      <a:pt x="12401" y="7"/>
                      <a:pt x="12400" y="7"/>
                    </a:cubicBezTo>
                    <a:lnTo>
                      <a:pt x="12400" y="7"/>
                    </a:lnTo>
                    <a:cubicBezTo>
                      <a:pt x="12399" y="7"/>
                      <a:pt x="12398" y="6"/>
                      <a:pt x="12398" y="5"/>
                    </a:cubicBezTo>
                    <a:cubicBezTo>
                      <a:pt x="12398" y="4"/>
                      <a:pt x="12399" y="3"/>
                      <a:pt x="12400" y="3"/>
                    </a:cubicBezTo>
                    <a:close/>
                    <a:moveTo>
                      <a:pt x="12408" y="3"/>
                    </a:moveTo>
                    <a:lnTo>
                      <a:pt x="12408" y="3"/>
                    </a:lnTo>
                    <a:cubicBezTo>
                      <a:pt x="12409" y="3"/>
                      <a:pt x="12410" y="4"/>
                      <a:pt x="12410" y="5"/>
                    </a:cubicBezTo>
                    <a:cubicBezTo>
                      <a:pt x="12410" y="6"/>
                      <a:pt x="12409" y="7"/>
                      <a:pt x="12408" y="7"/>
                    </a:cubicBezTo>
                    <a:lnTo>
                      <a:pt x="12408" y="7"/>
                    </a:lnTo>
                    <a:cubicBezTo>
                      <a:pt x="12407" y="7"/>
                      <a:pt x="12406" y="6"/>
                      <a:pt x="12406" y="5"/>
                    </a:cubicBezTo>
                    <a:cubicBezTo>
                      <a:pt x="12406" y="4"/>
                      <a:pt x="12407" y="3"/>
                      <a:pt x="12408" y="3"/>
                    </a:cubicBezTo>
                    <a:close/>
                    <a:moveTo>
                      <a:pt x="12416" y="3"/>
                    </a:moveTo>
                    <a:lnTo>
                      <a:pt x="12416" y="3"/>
                    </a:lnTo>
                    <a:cubicBezTo>
                      <a:pt x="12417" y="3"/>
                      <a:pt x="12418" y="4"/>
                      <a:pt x="12418" y="5"/>
                    </a:cubicBezTo>
                    <a:cubicBezTo>
                      <a:pt x="12418" y="6"/>
                      <a:pt x="12417" y="7"/>
                      <a:pt x="12416" y="7"/>
                    </a:cubicBezTo>
                    <a:lnTo>
                      <a:pt x="12416" y="7"/>
                    </a:lnTo>
                    <a:cubicBezTo>
                      <a:pt x="12415" y="7"/>
                      <a:pt x="12414" y="6"/>
                      <a:pt x="12414" y="5"/>
                    </a:cubicBezTo>
                    <a:cubicBezTo>
                      <a:pt x="12414" y="4"/>
                      <a:pt x="12415" y="3"/>
                      <a:pt x="12416" y="3"/>
                    </a:cubicBezTo>
                    <a:close/>
                    <a:moveTo>
                      <a:pt x="12424" y="3"/>
                    </a:moveTo>
                    <a:lnTo>
                      <a:pt x="12424" y="3"/>
                    </a:lnTo>
                    <a:cubicBezTo>
                      <a:pt x="12425" y="3"/>
                      <a:pt x="12426" y="4"/>
                      <a:pt x="12426" y="5"/>
                    </a:cubicBezTo>
                    <a:cubicBezTo>
                      <a:pt x="12426" y="6"/>
                      <a:pt x="12425" y="7"/>
                      <a:pt x="12424" y="7"/>
                    </a:cubicBezTo>
                    <a:lnTo>
                      <a:pt x="12424" y="7"/>
                    </a:lnTo>
                    <a:cubicBezTo>
                      <a:pt x="12423" y="7"/>
                      <a:pt x="12422" y="6"/>
                      <a:pt x="12422" y="5"/>
                    </a:cubicBezTo>
                    <a:cubicBezTo>
                      <a:pt x="12422" y="4"/>
                      <a:pt x="12423" y="3"/>
                      <a:pt x="12424" y="3"/>
                    </a:cubicBezTo>
                    <a:close/>
                    <a:moveTo>
                      <a:pt x="12432" y="3"/>
                    </a:moveTo>
                    <a:lnTo>
                      <a:pt x="12432" y="3"/>
                    </a:lnTo>
                    <a:cubicBezTo>
                      <a:pt x="12434" y="3"/>
                      <a:pt x="12434" y="4"/>
                      <a:pt x="12434" y="5"/>
                    </a:cubicBezTo>
                    <a:cubicBezTo>
                      <a:pt x="12434" y="6"/>
                      <a:pt x="12434" y="7"/>
                      <a:pt x="12432" y="7"/>
                    </a:cubicBezTo>
                    <a:lnTo>
                      <a:pt x="12432" y="7"/>
                    </a:lnTo>
                    <a:cubicBezTo>
                      <a:pt x="12431" y="7"/>
                      <a:pt x="12430" y="6"/>
                      <a:pt x="12430" y="5"/>
                    </a:cubicBezTo>
                    <a:cubicBezTo>
                      <a:pt x="12430" y="4"/>
                      <a:pt x="12431" y="3"/>
                      <a:pt x="12432" y="3"/>
                    </a:cubicBezTo>
                    <a:close/>
                    <a:moveTo>
                      <a:pt x="12440" y="3"/>
                    </a:moveTo>
                    <a:lnTo>
                      <a:pt x="12440" y="3"/>
                    </a:lnTo>
                    <a:cubicBezTo>
                      <a:pt x="12442" y="3"/>
                      <a:pt x="12442" y="4"/>
                      <a:pt x="12442" y="5"/>
                    </a:cubicBezTo>
                    <a:cubicBezTo>
                      <a:pt x="12442" y="6"/>
                      <a:pt x="12442" y="7"/>
                      <a:pt x="12440" y="7"/>
                    </a:cubicBezTo>
                    <a:lnTo>
                      <a:pt x="12440" y="7"/>
                    </a:lnTo>
                    <a:cubicBezTo>
                      <a:pt x="12439" y="7"/>
                      <a:pt x="12438" y="6"/>
                      <a:pt x="12438" y="5"/>
                    </a:cubicBezTo>
                    <a:cubicBezTo>
                      <a:pt x="12438" y="4"/>
                      <a:pt x="12439" y="3"/>
                      <a:pt x="12440" y="3"/>
                    </a:cubicBezTo>
                    <a:close/>
                    <a:moveTo>
                      <a:pt x="12448" y="3"/>
                    </a:moveTo>
                    <a:lnTo>
                      <a:pt x="12448" y="3"/>
                    </a:lnTo>
                    <a:cubicBezTo>
                      <a:pt x="12450" y="3"/>
                      <a:pt x="12450" y="4"/>
                      <a:pt x="12450" y="5"/>
                    </a:cubicBezTo>
                    <a:cubicBezTo>
                      <a:pt x="12450" y="6"/>
                      <a:pt x="12450" y="7"/>
                      <a:pt x="12448" y="7"/>
                    </a:cubicBezTo>
                    <a:lnTo>
                      <a:pt x="12448" y="7"/>
                    </a:lnTo>
                    <a:cubicBezTo>
                      <a:pt x="12447" y="7"/>
                      <a:pt x="12446" y="6"/>
                      <a:pt x="12446" y="5"/>
                    </a:cubicBezTo>
                    <a:cubicBezTo>
                      <a:pt x="12446" y="4"/>
                      <a:pt x="12447" y="3"/>
                      <a:pt x="12448" y="3"/>
                    </a:cubicBezTo>
                    <a:close/>
                    <a:moveTo>
                      <a:pt x="12456" y="3"/>
                    </a:moveTo>
                    <a:lnTo>
                      <a:pt x="12456" y="3"/>
                    </a:lnTo>
                    <a:cubicBezTo>
                      <a:pt x="12458" y="3"/>
                      <a:pt x="12458" y="4"/>
                      <a:pt x="12458" y="5"/>
                    </a:cubicBezTo>
                    <a:cubicBezTo>
                      <a:pt x="12458" y="6"/>
                      <a:pt x="12458" y="7"/>
                      <a:pt x="12456" y="7"/>
                    </a:cubicBezTo>
                    <a:lnTo>
                      <a:pt x="12456" y="7"/>
                    </a:lnTo>
                    <a:cubicBezTo>
                      <a:pt x="12455" y="7"/>
                      <a:pt x="12454" y="6"/>
                      <a:pt x="12454" y="5"/>
                    </a:cubicBezTo>
                    <a:cubicBezTo>
                      <a:pt x="12454" y="4"/>
                      <a:pt x="12455" y="3"/>
                      <a:pt x="12456" y="3"/>
                    </a:cubicBezTo>
                    <a:close/>
                    <a:moveTo>
                      <a:pt x="12464" y="3"/>
                    </a:moveTo>
                    <a:lnTo>
                      <a:pt x="12464" y="3"/>
                    </a:lnTo>
                    <a:cubicBezTo>
                      <a:pt x="12466" y="3"/>
                      <a:pt x="12466" y="4"/>
                      <a:pt x="12466" y="5"/>
                    </a:cubicBezTo>
                    <a:cubicBezTo>
                      <a:pt x="12466" y="6"/>
                      <a:pt x="12466" y="7"/>
                      <a:pt x="12464" y="7"/>
                    </a:cubicBezTo>
                    <a:lnTo>
                      <a:pt x="12464" y="7"/>
                    </a:lnTo>
                    <a:cubicBezTo>
                      <a:pt x="12463" y="7"/>
                      <a:pt x="12462" y="6"/>
                      <a:pt x="12462" y="5"/>
                    </a:cubicBezTo>
                    <a:cubicBezTo>
                      <a:pt x="12462" y="4"/>
                      <a:pt x="12463" y="3"/>
                      <a:pt x="12464" y="3"/>
                    </a:cubicBezTo>
                    <a:close/>
                    <a:moveTo>
                      <a:pt x="12472" y="3"/>
                    </a:moveTo>
                    <a:lnTo>
                      <a:pt x="12472" y="3"/>
                    </a:lnTo>
                    <a:cubicBezTo>
                      <a:pt x="12474" y="3"/>
                      <a:pt x="12474" y="4"/>
                      <a:pt x="12474" y="5"/>
                    </a:cubicBezTo>
                    <a:cubicBezTo>
                      <a:pt x="12474" y="6"/>
                      <a:pt x="12474" y="7"/>
                      <a:pt x="12472" y="7"/>
                    </a:cubicBezTo>
                    <a:lnTo>
                      <a:pt x="12472" y="7"/>
                    </a:lnTo>
                    <a:cubicBezTo>
                      <a:pt x="12471" y="7"/>
                      <a:pt x="12470" y="6"/>
                      <a:pt x="12470" y="5"/>
                    </a:cubicBezTo>
                    <a:cubicBezTo>
                      <a:pt x="12470" y="4"/>
                      <a:pt x="12471" y="3"/>
                      <a:pt x="12472" y="3"/>
                    </a:cubicBezTo>
                    <a:close/>
                    <a:moveTo>
                      <a:pt x="12480" y="3"/>
                    </a:moveTo>
                    <a:lnTo>
                      <a:pt x="12480" y="3"/>
                    </a:lnTo>
                    <a:cubicBezTo>
                      <a:pt x="12482" y="3"/>
                      <a:pt x="12482" y="4"/>
                      <a:pt x="12482" y="5"/>
                    </a:cubicBezTo>
                    <a:cubicBezTo>
                      <a:pt x="12482" y="6"/>
                      <a:pt x="12482" y="7"/>
                      <a:pt x="12480" y="7"/>
                    </a:cubicBezTo>
                    <a:lnTo>
                      <a:pt x="12480" y="7"/>
                    </a:lnTo>
                    <a:cubicBezTo>
                      <a:pt x="12479" y="7"/>
                      <a:pt x="12478" y="6"/>
                      <a:pt x="12478" y="5"/>
                    </a:cubicBezTo>
                    <a:cubicBezTo>
                      <a:pt x="12478" y="4"/>
                      <a:pt x="12479" y="3"/>
                      <a:pt x="12480" y="3"/>
                    </a:cubicBezTo>
                    <a:close/>
                    <a:moveTo>
                      <a:pt x="12488" y="3"/>
                    </a:moveTo>
                    <a:lnTo>
                      <a:pt x="12488" y="3"/>
                    </a:lnTo>
                    <a:cubicBezTo>
                      <a:pt x="12490" y="3"/>
                      <a:pt x="12490" y="4"/>
                      <a:pt x="12490" y="5"/>
                    </a:cubicBezTo>
                    <a:cubicBezTo>
                      <a:pt x="12490" y="6"/>
                      <a:pt x="12490" y="7"/>
                      <a:pt x="12488" y="7"/>
                    </a:cubicBezTo>
                    <a:lnTo>
                      <a:pt x="12488" y="7"/>
                    </a:lnTo>
                    <a:cubicBezTo>
                      <a:pt x="12487" y="7"/>
                      <a:pt x="12486" y="6"/>
                      <a:pt x="12486" y="5"/>
                    </a:cubicBezTo>
                    <a:cubicBezTo>
                      <a:pt x="12486" y="4"/>
                      <a:pt x="12487" y="3"/>
                      <a:pt x="12488" y="3"/>
                    </a:cubicBezTo>
                    <a:close/>
                    <a:moveTo>
                      <a:pt x="12496" y="3"/>
                    </a:moveTo>
                    <a:lnTo>
                      <a:pt x="12496" y="3"/>
                    </a:lnTo>
                    <a:cubicBezTo>
                      <a:pt x="12498" y="3"/>
                      <a:pt x="12498" y="4"/>
                      <a:pt x="12498" y="5"/>
                    </a:cubicBezTo>
                    <a:cubicBezTo>
                      <a:pt x="12498" y="6"/>
                      <a:pt x="12498" y="7"/>
                      <a:pt x="12496" y="7"/>
                    </a:cubicBezTo>
                    <a:lnTo>
                      <a:pt x="12496" y="7"/>
                    </a:lnTo>
                    <a:cubicBezTo>
                      <a:pt x="12495" y="7"/>
                      <a:pt x="12494" y="6"/>
                      <a:pt x="12494" y="5"/>
                    </a:cubicBezTo>
                    <a:cubicBezTo>
                      <a:pt x="12494" y="4"/>
                      <a:pt x="12495" y="3"/>
                      <a:pt x="12496" y="3"/>
                    </a:cubicBezTo>
                    <a:close/>
                    <a:moveTo>
                      <a:pt x="12504" y="3"/>
                    </a:moveTo>
                    <a:lnTo>
                      <a:pt x="12504" y="3"/>
                    </a:lnTo>
                    <a:cubicBezTo>
                      <a:pt x="12506" y="3"/>
                      <a:pt x="12506" y="4"/>
                      <a:pt x="12506" y="5"/>
                    </a:cubicBezTo>
                    <a:cubicBezTo>
                      <a:pt x="12506" y="6"/>
                      <a:pt x="12506" y="7"/>
                      <a:pt x="12504" y="7"/>
                    </a:cubicBezTo>
                    <a:lnTo>
                      <a:pt x="12504" y="7"/>
                    </a:lnTo>
                    <a:cubicBezTo>
                      <a:pt x="12503" y="7"/>
                      <a:pt x="12502" y="6"/>
                      <a:pt x="12502" y="5"/>
                    </a:cubicBezTo>
                    <a:cubicBezTo>
                      <a:pt x="12502" y="4"/>
                      <a:pt x="12503" y="3"/>
                      <a:pt x="12504" y="3"/>
                    </a:cubicBezTo>
                    <a:close/>
                    <a:moveTo>
                      <a:pt x="12512" y="3"/>
                    </a:moveTo>
                    <a:lnTo>
                      <a:pt x="12512" y="3"/>
                    </a:lnTo>
                    <a:cubicBezTo>
                      <a:pt x="12514" y="3"/>
                      <a:pt x="12514" y="4"/>
                      <a:pt x="12514" y="5"/>
                    </a:cubicBezTo>
                    <a:cubicBezTo>
                      <a:pt x="12514" y="6"/>
                      <a:pt x="12514" y="7"/>
                      <a:pt x="12512" y="7"/>
                    </a:cubicBezTo>
                    <a:lnTo>
                      <a:pt x="12512" y="7"/>
                    </a:lnTo>
                    <a:cubicBezTo>
                      <a:pt x="12511" y="7"/>
                      <a:pt x="12510" y="6"/>
                      <a:pt x="12510" y="5"/>
                    </a:cubicBezTo>
                    <a:cubicBezTo>
                      <a:pt x="12510" y="4"/>
                      <a:pt x="12511" y="3"/>
                      <a:pt x="12512" y="3"/>
                    </a:cubicBezTo>
                    <a:close/>
                    <a:moveTo>
                      <a:pt x="12520" y="3"/>
                    </a:moveTo>
                    <a:lnTo>
                      <a:pt x="12520" y="3"/>
                    </a:lnTo>
                    <a:cubicBezTo>
                      <a:pt x="12522" y="3"/>
                      <a:pt x="12522" y="4"/>
                      <a:pt x="12522" y="5"/>
                    </a:cubicBezTo>
                    <a:cubicBezTo>
                      <a:pt x="12522" y="6"/>
                      <a:pt x="12522" y="7"/>
                      <a:pt x="12520" y="7"/>
                    </a:cubicBezTo>
                    <a:lnTo>
                      <a:pt x="12520" y="7"/>
                    </a:lnTo>
                    <a:cubicBezTo>
                      <a:pt x="12519" y="7"/>
                      <a:pt x="12518" y="6"/>
                      <a:pt x="12518" y="5"/>
                    </a:cubicBezTo>
                    <a:cubicBezTo>
                      <a:pt x="12518" y="4"/>
                      <a:pt x="12519" y="3"/>
                      <a:pt x="12520" y="3"/>
                    </a:cubicBezTo>
                    <a:close/>
                    <a:moveTo>
                      <a:pt x="12528" y="3"/>
                    </a:moveTo>
                    <a:lnTo>
                      <a:pt x="12528" y="3"/>
                    </a:lnTo>
                    <a:cubicBezTo>
                      <a:pt x="12530" y="3"/>
                      <a:pt x="12530" y="4"/>
                      <a:pt x="12530" y="5"/>
                    </a:cubicBezTo>
                    <a:cubicBezTo>
                      <a:pt x="12530" y="6"/>
                      <a:pt x="12530" y="7"/>
                      <a:pt x="12528" y="7"/>
                    </a:cubicBezTo>
                    <a:lnTo>
                      <a:pt x="12528" y="7"/>
                    </a:lnTo>
                    <a:cubicBezTo>
                      <a:pt x="12527" y="7"/>
                      <a:pt x="12526" y="6"/>
                      <a:pt x="12526" y="5"/>
                    </a:cubicBezTo>
                    <a:cubicBezTo>
                      <a:pt x="12526" y="4"/>
                      <a:pt x="12527" y="3"/>
                      <a:pt x="12528" y="3"/>
                    </a:cubicBezTo>
                    <a:close/>
                    <a:moveTo>
                      <a:pt x="12536" y="3"/>
                    </a:moveTo>
                    <a:lnTo>
                      <a:pt x="12536" y="3"/>
                    </a:lnTo>
                    <a:cubicBezTo>
                      <a:pt x="12538" y="3"/>
                      <a:pt x="12538" y="4"/>
                      <a:pt x="12538" y="5"/>
                    </a:cubicBezTo>
                    <a:cubicBezTo>
                      <a:pt x="12538" y="6"/>
                      <a:pt x="12538" y="7"/>
                      <a:pt x="12536" y="7"/>
                    </a:cubicBezTo>
                    <a:lnTo>
                      <a:pt x="12536" y="7"/>
                    </a:lnTo>
                    <a:cubicBezTo>
                      <a:pt x="12535" y="7"/>
                      <a:pt x="12534" y="6"/>
                      <a:pt x="12534" y="5"/>
                    </a:cubicBezTo>
                    <a:cubicBezTo>
                      <a:pt x="12534" y="4"/>
                      <a:pt x="12535" y="3"/>
                      <a:pt x="12536" y="3"/>
                    </a:cubicBezTo>
                    <a:close/>
                    <a:moveTo>
                      <a:pt x="12544" y="3"/>
                    </a:moveTo>
                    <a:lnTo>
                      <a:pt x="12544" y="3"/>
                    </a:lnTo>
                    <a:cubicBezTo>
                      <a:pt x="12546" y="3"/>
                      <a:pt x="12546" y="4"/>
                      <a:pt x="12546" y="5"/>
                    </a:cubicBezTo>
                    <a:cubicBezTo>
                      <a:pt x="12546" y="6"/>
                      <a:pt x="12546" y="7"/>
                      <a:pt x="12544" y="7"/>
                    </a:cubicBezTo>
                    <a:lnTo>
                      <a:pt x="12544" y="7"/>
                    </a:lnTo>
                    <a:cubicBezTo>
                      <a:pt x="12543" y="7"/>
                      <a:pt x="12542" y="6"/>
                      <a:pt x="12542" y="5"/>
                    </a:cubicBezTo>
                    <a:cubicBezTo>
                      <a:pt x="12542" y="4"/>
                      <a:pt x="12543" y="3"/>
                      <a:pt x="12544" y="3"/>
                    </a:cubicBezTo>
                    <a:close/>
                    <a:moveTo>
                      <a:pt x="12552" y="3"/>
                    </a:moveTo>
                    <a:lnTo>
                      <a:pt x="12552" y="3"/>
                    </a:lnTo>
                    <a:cubicBezTo>
                      <a:pt x="12554" y="3"/>
                      <a:pt x="12554" y="4"/>
                      <a:pt x="12554" y="5"/>
                    </a:cubicBezTo>
                    <a:cubicBezTo>
                      <a:pt x="12554" y="6"/>
                      <a:pt x="12554" y="7"/>
                      <a:pt x="12552" y="7"/>
                    </a:cubicBezTo>
                    <a:lnTo>
                      <a:pt x="12552" y="7"/>
                    </a:lnTo>
                    <a:cubicBezTo>
                      <a:pt x="12551" y="7"/>
                      <a:pt x="12550" y="6"/>
                      <a:pt x="12550" y="5"/>
                    </a:cubicBezTo>
                    <a:cubicBezTo>
                      <a:pt x="12550" y="4"/>
                      <a:pt x="12551" y="3"/>
                      <a:pt x="12552" y="3"/>
                    </a:cubicBezTo>
                    <a:close/>
                    <a:moveTo>
                      <a:pt x="12560" y="3"/>
                    </a:moveTo>
                    <a:lnTo>
                      <a:pt x="12560" y="3"/>
                    </a:lnTo>
                    <a:cubicBezTo>
                      <a:pt x="12562" y="3"/>
                      <a:pt x="12562" y="4"/>
                      <a:pt x="12562" y="5"/>
                    </a:cubicBezTo>
                    <a:cubicBezTo>
                      <a:pt x="12562" y="6"/>
                      <a:pt x="12562" y="7"/>
                      <a:pt x="12560" y="7"/>
                    </a:cubicBezTo>
                    <a:lnTo>
                      <a:pt x="12560" y="7"/>
                    </a:lnTo>
                    <a:cubicBezTo>
                      <a:pt x="12559" y="7"/>
                      <a:pt x="12558" y="6"/>
                      <a:pt x="12558" y="5"/>
                    </a:cubicBezTo>
                    <a:cubicBezTo>
                      <a:pt x="12558" y="4"/>
                      <a:pt x="12559" y="3"/>
                      <a:pt x="12560" y="3"/>
                    </a:cubicBezTo>
                    <a:close/>
                    <a:moveTo>
                      <a:pt x="12568" y="3"/>
                    </a:moveTo>
                    <a:lnTo>
                      <a:pt x="12568" y="3"/>
                    </a:lnTo>
                    <a:cubicBezTo>
                      <a:pt x="12570" y="3"/>
                      <a:pt x="12570" y="4"/>
                      <a:pt x="12570" y="5"/>
                    </a:cubicBezTo>
                    <a:cubicBezTo>
                      <a:pt x="12570" y="6"/>
                      <a:pt x="12570" y="7"/>
                      <a:pt x="12568" y="7"/>
                    </a:cubicBezTo>
                    <a:lnTo>
                      <a:pt x="12568" y="7"/>
                    </a:lnTo>
                    <a:cubicBezTo>
                      <a:pt x="12567" y="7"/>
                      <a:pt x="12566" y="6"/>
                      <a:pt x="12566" y="5"/>
                    </a:cubicBezTo>
                    <a:cubicBezTo>
                      <a:pt x="12566" y="4"/>
                      <a:pt x="12567" y="3"/>
                      <a:pt x="12568" y="3"/>
                    </a:cubicBezTo>
                    <a:close/>
                    <a:moveTo>
                      <a:pt x="12576" y="3"/>
                    </a:moveTo>
                    <a:lnTo>
                      <a:pt x="12576" y="3"/>
                    </a:lnTo>
                    <a:cubicBezTo>
                      <a:pt x="12578" y="3"/>
                      <a:pt x="12578" y="4"/>
                      <a:pt x="12578" y="5"/>
                    </a:cubicBezTo>
                    <a:cubicBezTo>
                      <a:pt x="12578" y="6"/>
                      <a:pt x="12578" y="7"/>
                      <a:pt x="12576" y="7"/>
                    </a:cubicBezTo>
                    <a:lnTo>
                      <a:pt x="12576" y="7"/>
                    </a:lnTo>
                    <a:cubicBezTo>
                      <a:pt x="12575" y="7"/>
                      <a:pt x="12574" y="6"/>
                      <a:pt x="12574" y="5"/>
                    </a:cubicBezTo>
                    <a:cubicBezTo>
                      <a:pt x="12574" y="4"/>
                      <a:pt x="12575" y="3"/>
                      <a:pt x="12576" y="3"/>
                    </a:cubicBezTo>
                    <a:close/>
                    <a:moveTo>
                      <a:pt x="12584" y="3"/>
                    </a:moveTo>
                    <a:lnTo>
                      <a:pt x="12584" y="3"/>
                    </a:lnTo>
                    <a:cubicBezTo>
                      <a:pt x="12586" y="3"/>
                      <a:pt x="12586" y="4"/>
                      <a:pt x="12586" y="5"/>
                    </a:cubicBezTo>
                    <a:cubicBezTo>
                      <a:pt x="12586" y="6"/>
                      <a:pt x="12586" y="7"/>
                      <a:pt x="12584" y="7"/>
                    </a:cubicBezTo>
                    <a:lnTo>
                      <a:pt x="12584" y="7"/>
                    </a:lnTo>
                    <a:cubicBezTo>
                      <a:pt x="12583" y="7"/>
                      <a:pt x="12582" y="6"/>
                      <a:pt x="12582" y="5"/>
                    </a:cubicBezTo>
                    <a:cubicBezTo>
                      <a:pt x="12582" y="4"/>
                      <a:pt x="12583" y="3"/>
                      <a:pt x="12584" y="3"/>
                    </a:cubicBezTo>
                    <a:close/>
                    <a:moveTo>
                      <a:pt x="12592" y="3"/>
                    </a:moveTo>
                    <a:lnTo>
                      <a:pt x="12592" y="3"/>
                    </a:lnTo>
                    <a:cubicBezTo>
                      <a:pt x="12594" y="3"/>
                      <a:pt x="12594" y="4"/>
                      <a:pt x="12594" y="5"/>
                    </a:cubicBezTo>
                    <a:cubicBezTo>
                      <a:pt x="12594" y="6"/>
                      <a:pt x="12594" y="7"/>
                      <a:pt x="12592" y="7"/>
                    </a:cubicBezTo>
                    <a:lnTo>
                      <a:pt x="12592" y="7"/>
                    </a:lnTo>
                    <a:cubicBezTo>
                      <a:pt x="12591" y="7"/>
                      <a:pt x="12590" y="6"/>
                      <a:pt x="12590" y="5"/>
                    </a:cubicBezTo>
                    <a:cubicBezTo>
                      <a:pt x="12590" y="4"/>
                      <a:pt x="12591" y="3"/>
                      <a:pt x="12592" y="3"/>
                    </a:cubicBezTo>
                    <a:close/>
                    <a:moveTo>
                      <a:pt x="12600" y="3"/>
                    </a:moveTo>
                    <a:lnTo>
                      <a:pt x="12601" y="3"/>
                    </a:lnTo>
                    <a:cubicBezTo>
                      <a:pt x="12602" y="3"/>
                      <a:pt x="12603" y="4"/>
                      <a:pt x="12603" y="5"/>
                    </a:cubicBezTo>
                    <a:cubicBezTo>
                      <a:pt x="12603" y="6"/>
                      <a:pt x="12602" y="7"/>
                      <a:pt x="12601" y="7"/>
                    </a:cubicBezTo>
                    <a:lnTo>
                      <a:pt x="12600" y="7"/>
                    </a:lnTo>
                    <a:cubicBezTo>
                      <a:pt x="12599" y="7"/>
                      <a:pt x="12598" y="6"/>
                      <a:pt x="12598" y="5"/>
                    </a:cubicBezTo>
                    <a:cubicBezTo>
                      <a:pt x="12598" y="4"/>
                      <a:pt x="12599" y="3"/>
                      <a:pt x="12600" y="3"/>
                    </a:cubicBezTo>
                    <a:close/>
                    <a:moveTo>
                      <a:pt x="12609" y="3"/>
                    </a:moveTo>
                    <a:lnTo>
                      <a:pt x="12609" y="3"/>
                    </a:lnTo>
                    <a:cubicBezTo>
                      <a:pt x="12610" y="3"/>
                      <a:pt x="12611" y="4"/>
                      <a:pt x="12611" y="5"/>
                    </a:cubicBezTo>
                    <a:cubicBezTo>
                      <a:pt x="12611" y="6"/>
                      <a:pt x="12610" y="7"/>
                      <a:pt x="12609" y="7"/>
                    </a:cubicBezTo>
                    <a:lnTo>
                      <a:pt x="12609" y="7"/>
                    </a:lnTo>
                    <a:cubicBezTo>
                      <a:pt x="12607" y="7"/>
                      <a:pt x="12607" y="6"/>
                      <a:pt x="12607" y="5"/>
                    </a:cubicBezTo>
                    <a:cubicBezTo>
                      <a:pt x="12607" y="4"/>
                      <a:pt x="12607" y="3"/>
                      <a:pt x="12609" y="3"/>
                    </a:cubicBezTo>
                    <a:close/>
                    <a:moveTo>
                      <a:pt x="12617" y="3"/>
                    </a:moveTo>
                    <a:lnTo>
                      <a:pt x="12617" y="3"/>
                    </a:lnTo>
                    <a:cubicBezTo>
                      <a:pt x="12618" y="3"/>
                      <a:pt x="12619" y="4"/>
                      <a:pt x="12619" y="5"/>
                    </a:cubicBezTo>
                    <a:cubicBezTo>
                      <a:pt x="12619" y="6"/>
                      <a:pt x="12618" y="7"/>
                      <a:pt x="12617" y="7"/>
                    </a:cubicBezTo>
                    <a:lnTo>
                      <a:pt x="12617" y="7"/>
                    </a:lnTo>
                    <a:cubicBezTo>
                      <a:pt x="12615" y="7"/>
                      <a:pt x="12615" y="6"/>
                      <a:pt x="12615" y="5"/>
                    </a:cubicBezTo>
                    <a:cubicBezTo>
                      <a:pt x="12615" y="4"/>
                      <a:pt x="12615" y="3"/>
                      <a:pt x="12617" y="3"/>
                    </a:cubicBezTo>
                    <a:close/>
                    <a:moveTo>
                      <a:pt x="12625" y="3"/>
                    </a:moveTo>
                    <a:lnTo>
                      <a:pt x="12625" y="3"/>
                    </a:lnTo>
                    <a:cubicBezTo>
                      <a:pt x="12626" y="3"/>
                      <a:pt x="12627" y="4"/>
                      <a:pt x="12627" y="5"/>
                    </a:cubicBezTo>
                    <a:cubicBezTo>
                      <a:pt x="12627" y="6"/>
                      <a:pt x="12626" y="7"/>
                      <a:pt x="12625" y="7"/>
                    </a:cubicBezTo>
                    <a:lnTo>
                      <a:pt x="12625" y="7"/>
                    </a:lnTo>
                    <a:cubicBezTo>
                      <a:pt x="12623" y="7"/>
                      <a:pt x="12623" y="6"/>
                      <a:pt x="12623" y="5"/>
                    </a:cubicBezTo>
                    <a:cubicBezTo>
                      <a:pt x="12623" y="4"/>
                      <a:pt x="12623" y="3"/>
                      <a:pt x="12625" y="3"/>
                    </a:cubicBezTo>
                    <a:close/>
                    <a:moveTo>
                      <a:pt x="12633" y="3"/>
                    </a:moveTo>
                    <a:lnTo>
                      <a:pt x="12633" y="3"/>
                    </a:lnTo>
                    <a:cubicBezTo>
                      <a:pt x="12634" y="3"/>
                      <a:pt x="12635" y="4"/>
                      <a:pt x="12635" y="5"/>
                    </a:cubicBezTo>
                    <a:cubicBezTo>
                      <a:pt x="12635" y="6"/>
                      <a:pt x="12634" y="7"/>
                      <a:pt x="12633" y="7"/>
                    </a:cubicBezTo>
                    <a:lnTo>
                      <a:pt x="12633" y="7"/>
                    </a:lnTo>
                    <a:cubicBezTo>
                      <a:pt x="12631" y="7"/>
                      <a:pt x="12631" y="6"/>
                      <a:pt x="12631" y="5"/>
                    </a:cubicBezTo>
                    <a:cubicBezTo>
                      <a:pt x="12631" y="4"/>
                      <a:pt x="12631" y="3"/>
                      <a:pt x="12633" y="3"/>
                    </a:cubicBezTo>
                    <a:close/>
                    <a:moveTo>
                      <a:pt x="12641" y="3"/>
                    </a:moveTo>
                    <a:lnTo>
                      <a:pt x="12641" y="3"/>
                    </a:lnTo>
                    <a:cubicBezTo>
                      <a:pt x="12642" y="3"/>
                      <a:pt x="12643" y="4"/>
                      <a:pt x="12643" y="5"/>
                    </a:cubicBezTo>
                    <a:cubicBezTo>
                      <a:pt x="12643" y="6"/>
                      <a:pt x="12642" y="7"/>
                      <a:pt x="12641" y="7"/>
                    </a:cubicBezTo>
                    <a:lnTo>
                      <a:pt x="12641" y="7"/>
                    </a:lnTo>
                    <a:cubicBezTo>
                      <a:pt x="12639" y="7"/>
                      <a:pt x="12639" y="6"/>
                      <a:pt x="12639" y="5"/>
                    </a:cubicBezTo>
                    <a:cubicBezTo>
                      <a:pt x="12639" y="4"/>
                      <a:pt x="12639" y="3"/>
                      <a:pt x="12641" y="3"/>
                    </a:cubicBezTo>
                    <a:close/>
                    <a:moveTo>
                      <a:pt x="12649" y="3"/>
                    </a:moveTo>
                    <a:lnTo>
                      <a:pt x="12649" y="3"/>
                    </a:lnTo>
                    <a:cubicBezTo>
                      <a:pt x="12650" y="3"/>
                      <a:pt x="12651" y="4"/>
                      <a:pt x="12651" y="5"/>
                    </a:cubicBezTo>
                    <a:cubicBezTo>
                      <a:pt x="12651" y="6"/>
                      <a:pt x="12650" y="7"/>
                      <a:pt x="12649" y="7"/>
                    </a:cubicBezTo>
                    <a:lnTo>
                      <a:pt x="12649" y="7"/>
                    </a:lnTo>
                    <a:cubicBezTo>
                      <a:pt x="12647" y="7"/>
                      <a:pt x="12647" y="6"/>
                      <a:pt x="12647" y="5"/>
                    </a:cubicBezTo>
                    <a:cubicBezTo>
                      <a:pt x="12647" y="4"/>
                      <a:pt x="12647" y="3"/>
                      <a:pt x="12649" y="3"/>
                    </a:cubicBezTo>
                    <a:close/>
                    <a:moveTo>
                      <a:pt x="12657" y="3"/>
                    </a:moveTo>
                    <a:lnTo>
                      <a:pt x="12657" y="3"/>
                    </a:lnTo>
                    <a:cubicBezTo>
                      <a:pt x="12658" y="3"/>
                      <a:pt x="12659" y="4"/>
                      <a:pt x="12659" y="5"/>
                    </a:cubicBezTo>
                    <a:cubicBezTo>
                      <a:pt x="12659" y="6"/>
                      <a:pt x="12658" y="7"/>
                      <a:pt x="12657" y="7"/>
                    </a:cubicBezTo>
                    <a:lnTo>
                      <a:pt x="12657" y="7"/>
                    </a:lnTo>
                    <a:cubicBezTo>
                      <a:pt x="12655" y="7"/>
                      <a:pt x="12655" y="6"/>
                      <a:pt x="12655" y="5"/>
                    </a:cubicBezTo>
                    <a:cubicBezTo>
                      <a:pt x="12655" y="4"/>
                      <a:pt x="12655" y="3"/>
                      <a:pt x="12657" y="3"/>
                    </a:cubicBezTo>
                    <a:close/>
                    <a:moveTo>
                      <a:pt x="12665" y="3"/>
                    </a:moveTo>
                    <a:lnTo>
                      <a:pt x="12665" y="3"/>
                    </a:lnTo>
                    <a:cubicBezTo>
                      <a:pt x="12666" y="3"/>
                      <a:pt x="12667" y="4"/>
                      <a:pt x="12667" y="5"/>
                    </a:cubicBezTo>
                    <a:cubicBezTo>
                      <a:pt x="12667" y="6"/>
                      <a:pt x="12666" y="7"/>
                      <a:pt x="12665" y="7"/>
                    </a:cubicBezTo>
                    <a:lnTo>
                      <a:pt x="12665" y="7"/>
                    </a:lnTo>
                    <a:cubicBezTo>
                      <a:pt x="12663" y="7"/>
                      <a:pt x="12663" y="6"/>
                      <a:pt x="12663" y="5"/>
                    </a:cubicBezTo>
                    <a:cubicBezTo>
                      <a:pt x="12663" y="4"/>
                      <a:pt x="12663" y="3"/>
                      <a:pt x="12665" y="3"/>
                    </a:cubicBezTo>
                    <a:close/>
                    <a:moveTo>
                      <a:pt x="12673" y="3"/>
                    </a:moveTo>
                    <a:lnTo>
                      <a:pt x="12673" y="3"/>
                    </a:lnTo>
                    <a:cubicBezTo>
                      <a:pt x="12674" y="3"/>
                      <a:pt x="12675" y="4"/>
                      <a:pt x="12675" y="5"/>
                    </a:cubicBezTo>
                    <a:cubicBezTo>
                      <a:pt x="12675" y="6"/>
                      <a:pt x="12674" y="7"/>
                      <a:pt x="12673" y="7"/>
                    </a:cubicBezTo>
                    <a:lnTo>
                      <a:pt x="12673" y="7"/>
                    </a:lnTo>
                    <a:cubicBezTo>
                      <a:pt x="12671" y="7"/>
                      <a:pt x="12671" y="6"/>
                      <a:pt x="12671" y="5"/>
                    </a:cubicBezTo>
                    <a:cubicBezTo>
                      <a:pt x="12671" y="4"/>
                      <a:pt x="12671" y="3"/>
                      <a:pt x="12673" y="3"/>
                    </a:cubicBezTo>
                    <a:close/>
                    <a:moveTo>
                      <a:pt x="12681" y="3"/>
                    </a:moveTo>
                    <a:lnTo>
                      <a:pt x="12681" y="3"/>
                    </a:lnTo>
                    <a:cubicBezTo>
                      <a:pt x="12682" y="3"/>
                      <a:pt x="12683" y="4"/>
                      <a:pt x="12683" y="5"/>
                    </a:cubicBezTo>
                    <a:cubicBezTo>
                      <a:pt x="12683" y="6"/>
                      <a:pt x="12682" y="7"/>
                      <a:pt x="12681" y="7"/>
                    </a:cubicBezTo>
                    <a:lnTo>
                      <a:pt x="12681" y="7"/>
                    </a:lnTo>
                    <a:cubicBezTo>
                      <a:pt x="12679" y="7"/>
                      <a:pt x="12679" y="6"/>
                      <a:pt x="12679" y="5"/>
                    </a:cubicBezTo>
                    <a:cubicBezTo>
                      <a:pt x="12679" y="4"/>
                      <a:pt x="12679" y="3"/>
                      <a:pt x="12681" y="3"/>
                    </a:cubicBezTo>
                    <a:close/>
                    <a:moveTo>
                      <a:pt x="12689" y="3"/>
                    </a:moveTo>
                    <a:lnTo>
                      <a:pt x="12689" y="3"/>
                    </a:lnTo>
                    <a:cubicBezTo>
                      <a:pt x="12690" y="3"/>
                      <a:pt x="12691" y="4"/>
                      <a:pt x="12691" y="5"/>
                    </a:cubicBezTo>
                    <a:cubicBezTo>
                      <a:pt x="12691" y="6"/>
                      <a:pt x="12690" y="7"/>
                      <a:pt x="12689" y="7"/>
                    </a:cubicBezTo>
                    <a:lnTo>
                      <a:pt x="12689" y="7"/>
                    </a:lnTo>
                    <a:cubicBezTo>
                      <a:pt x="12687" y="7"/>
                      <a:pt x="12687" y="6"/>
                      <a:pt x="12687" y="5"/>
                    </a:cubicBezTo>
                    <a:cubicBezTo>
                      <a:pt x="12687" y="4"/>
                      <a:pt x="12687" y="3"/>
                      <a:pt x="12689" y="3"/>
                    </a:cubicBezTo>
                    <a:close/>
                    <a:moveTo>
                      <a:pt x="12697" y="3"/>
                    </a:moveTo>
                    <a:lnTo>
                      <a:pt x="12697" y="3"/>
                    </a:lnTo>
                    <a:cubicBezTo>
                      <a:pt x="12698" y="3"/>
                      <a:pt x="12699" y="4"/>
                      <a:pt x="12699" y="5"/>
                    </a:cubicBezTo>
                    <a:cubicBezTo>
                      <a:pt x="12699" y="6"/>
                      <a:pt x="12698" y="7"/>
                      <a:pt x="12697" y="7"/>
                    </a:cubicBezTo>
                    <a:lnTo>
                      <a:pt x="12697" y="7"/>
                    </a:lnTo>
                    <a:cubicBezTo>
                      <a:pt x="12695" y="7"/>
                      <a:pt x="12695" y="6"/>
                      <a:pt x="12695" y="5"/>
                    </a:cubicBezTo>
                    <a:cubicBezTo>
                      <a:pt x="12695" y="4"/>
                      <a:pt x="12695" y="3"/>
                      <a:pt x="12697" y="3"/>
                    </a:cubicBezTo>
                    <a:close/>
                    <a:moveTo>
                      <a:pt x="12705" y="3"/>
                    </a:moveTo>
                    <a:lnTo>
                      <a:pt x="12705" y="3"/>
                    </a:lnTo>
                    <a:cubicBezTo>
                      <a:pt x="12706" y="3"/>
                      <a:pt x="12707" y="4"/>
                      <a:pt x="12707" y="5"/>
                    </a:cubicBezTo>
                    <a:cubicBezTo>
                      <a:pt x="12707" y="6"/>
                      <a:pt x="12706" y="7"/>
                      <a:pt x="12705" y="7"/>
                    </a:cubicBezTo>
                    <a:lnTo>
                      <a:pt x="12705" y="7"/>
                    </a:lnTo>
                    <a:cubicBezTo>
                      <a:pt x="12703" y="7"/>
                      <a:pt x="12703" y="6"/>
                      <a:pt x="12703" y="5"/>
                    </a:cubicBezTo>
                    <a:cubicBezTo>
                      <a:pt x="12703" y="4"/>
                      <a:pt x="12703" y="3"/>
                      <a:pt x="12705" y="3"/>
                    </a:cubicBezTo>
                    <a:close/>
                    <a:moveTo>
                      <a:pt x="12713" y="3"/>
                    </a:moveTo>
                    <a:lnTo>
                      <a:pt x="12713" y="3"/>
                    </a:lnTo>
                    <a:cubicBezTo>
                      <a:pt x="12714" y="3"/>
                      <a:pt x="12715" y="4"/>
                      <a:pt x="12715" y="5"/>
                    </a:cubicBezTo>
                    <a:cubicBezTo>
                      <a:pt x="12715" y="6"/>
                      <a:pt x="12714" y="7"/>
                      <a:pt x="12713" y="7"/>
                    </a:cubicBezTo>
                    <a:lnTo>
                      <a:pt x="12713" y="7"/>
                    </a:lnTo>
                    <a:cubicBezTo>
                      <a:pt x="12711" y="7"/>
                      <a:pt x="12711" y="6"/>
                      <a:pt x="12711" y="5"/>
                    </a:cubicBezTo>
                    <a:cubicBezTo>
                      <a:pt x="12711" y="4"/>
                      <a:pt x="12711" y="3"/>
                      <a:pt x="12713" y="3"/>
                    </a:cubicBezTo>
                    <a:close/>
                    <a:moveTo>
                      <a:pt x="12721" y="3"/>
                    </a:moveTo>
                    <a:lnTo>
                      <a:pt x="12721" y="3"/>
                    </a:lnTo>
                    <a:cubicBezTo>
                      <a:pt x="12722" y="3"/>
                      <a:pt x="12723" y="4"/>
                      <a:pt x="12723" y="5"/>
                    </a:cubicBezTo>
                    <a:cubicBezTo>
                      <a:pt x="12723" y="6"/>
                      <a:pt x="12722" y="7"/>
                      <a:pt x="12721" y="7"/>
                    </a:cubicBezTo>
                    <a:lnTo>
                      <a:pt x="12721" y="7"/>
                    </a:lnTo>
                    <a:cubicBezTo>
                      <a:pt x="12719" y="7"/>
                      <a:pt x="12719" y="6"/>
                      <a:pt x="12719" y="5"/>
                    </a:cubicBezTo>
                    <a:cubicBezTo>
                      <a:pt x="12719" y="4"/>
                      <a:pt x="12719" y="3"/>
                      <a:pt x="12721" y="3"/>
                    </a:cubicBezTo>
                    <a:close/>
                    <a:moveTo>
                      <a:pt x="12729" y="3"/>
                    </a:moveTo>
                    <a:lnTo>
                      <a:pt x="12729" y="3"/>
                    </a:lnTo>
                    <a:cubicBezTo>
                      <a:pt x="12730" y="3"/>
                      <a:pt x="12731" y="4"/>
                      <a:pt x="12731" y="5"/>
                    </a:cubicBezTo>
                    <a:cubicBezTo>
                      <a:pt x="12731" y="6"/>
                      <a:pt x="12730" y="7"/>
                      <a:pt x="12729" y="7"/>
                    </a:cubicBezTo>
                    <a:lnTo>
                      <a:pt x="12729" y="7"/>
                    </a:lnTo>
                    <a:cubicBezTo>
                      <a:pt x="12727" y="7"/>
                      <a:pt x="12727" y="6"/>
                      <a:pt x="12727" y="5"/>
                    </a:cubicBezTo>
                    <a:cubicBezTo>
                      <a:pt x="12727" y="4"/>
                      <a:pt x="12727" y="3"/>
                      <a:pt x="12729" y="3"/>
                    </a:cubicBezTo>
                    <a:close/>
                    <a:moveTo>
                      <a:pt x="12737" y="3"/>
                    </a:moveTo>
                    <a:lnTo>
                      <a:pt x="12737" y="3"/>
                    </a:lnTo>
                    <a:cubicBezTo>
                      <a:pt x="12738" y="3"/>
                      <a:pt x="12739" y="4"/>
                      <a:pt x="12739" y="5"/>
                    </a:cubicBezTo>
                    <a:cubicBezTo>
                      <a:pt x="12739" y="6"/>
                      <a:pt x="12738" y="7"/>
                      <a:pt x="12737" y="7"/>
                    </a:cubicBezTo>
                    <a:lnTo>
                      <a:pt x="12737" y="7"/>
                    </a:lnTo>
                    <a:cubicBezTo>
                      <a:pt x="12735" y="7"/>
                      <a:pt x="12735" y="6"/>
                      <a:pt x="12735" y="5"/>
                    </a:cubicBezTo>
                    <a:cubicBezTo>
                      <a:pt x="12735" y="4"/>
                      <a:pt x="12735" y="3"/>
                      <a:pt x="12737" y="3"/>
                    </a:cubicBezTo>
                    <a:close/>
                    <a:moveTo>
                      <a:pt x="12745" y="3"/>
                    </a:moveTo>
                    <a:lnTo>
                      <a:pt x="12745" y="3"/>
                    </a:lnTo>
                    <a:cubicBezTo>
                      <a:pt x="12746" y="3"/>
                      <a:pt x="12747" y="4"/>
                      <a:pt x="12747" y="5"/>
                    </a:cubicBezTo>
                    <a:cubicBezTo>
                      <a:pt x="12747" y="6"/>
                      <a:pt x="12746" y="7"/>
                      <a:pt x="12745" y="7"/>
                    </a:cubicBezTo>
                    <a:lnTo>
                      <a:pt x="12745" y="7"/>
                    </a:lnTo>
                    <a:cubicBezTo>
                      <a:pt x="12743" y="7"/>
                      <a:pt x="12743" y="6"/>
                      <a:pt x="12743" y="5"/>
                    </a:cubicBezTo>
                    <a:cubicBezTo>
                      <a:pt x="12743" y="4"/>
                      <a:pt x="12743" y="3"/>
                      <a:pt x="12745" y="3"/>
                    </a:cubicBezTo>
                    <a:close/>
                    <a:moveTo>
                      <a:pt x="12753" y="3"/>
                    </a:moveTo>
                    <a:lnTo>
                      <a:pt x="12753" y="3"/>
                    </a:lnTo>
                    <a:cubicBezTo>
                      <a:pt x="12754" y="3"/>
                      <a:pt x="12755" y="4"/>
                      <a:pt x="12755" y="5"/>
                    </a:cubicBezTo>
                    <a:cubicBezTo>
                      <a:pt x="12755" y="6"/>
                      <a:pt x="12754" y="7"/>
                      <a:pt x="12753" y="7"/>
                    </a:cubicBezTo>
                    <a:lnTo>
                      <a:pt x="12753" y="7"/>
                    </a:lnTo>
                    <a:cubicBezTo>
                      <a:pt x="12751" y="7"/>
                      <a:pt x="12751" y="6"/>
                      <a:pt x="12751" y="5"/>
                    </a:cubicBezTo>
                    <a:cubicBezTo>
                      <a:pt x="12751" y="4"/>
                      <a:pt x="12751" y="3"/>
                      <a:pt x="12753" y="3"/>
                    </a:cubicBezTo>
                    <a:close/>
                    <a:moveTo>
                      <a:pt x="12761" y="3"/>
                    </a:moveTo>
                    <a:lnTo>
                      <a:pt x="12761" y="3"/>
                    </a:lnTo>
                    <a:cubicBezTo>
                      <a:pt x="12762" y="3"/>
                      <a:pt x="12763" y="4"/>
                      <a:pt x="12763" y="5"/>
                    </a:cubicBezTo>
                    <a:cubicBezTo>
                      <a:pt x="12763" y="6"/>
                      <a:pt x="12762" y="7"/>
                      <a:pt x="12761" y="7"/>
                    </a:cubicBezTo>
                    <a:lnTo>
                      <a:pt x="12761" y="7"/>
                    </a:lnTo>
                    <a:cubicBezTo>
                      <a:pt x="12759" y="7"/>
                      <a:pt x="12759" y="6"/>
                      <a:pt x="12759" y="5"/>
                    </a:cubicBezTo>
                    <a:cubicBezTo>
                      <a:pt x="12759" y="4"/>
                      <a:pt x="12759" y="3"/>
                      <a:pt x="12761" y="3"/>
                    </a:cubicBezTo>
                    <a:close/>
                    <a:moveTo>
                      <a:pt x="12769" y="3"/>
                    </a:moveTo>
                    <a:lnTo>
                      <a:pt x="12769" y="3"/>
                    </a:lnTo>
                    <a:cubicBezTo>
                      <a:pt x="12770" y="3"/>
                      <a:pt x="12771" y="4"/>
                      <a:pt x="12771" y="5"/>
                    </a:cubicBezTo>
                    <a:cubicBezTo>
                      <a:pt x="12771" y="6"/>
                      <a:pt x="12770" y="7"/>
                      <a:pt x="12769" y="7"/>
                    </a:cubicBezTo>
                    <a:lnTo>
                      <a:pt x="12769" y="7"/>
                    </a:lnTo>
                    <a:cubicBezTo>
                      <a:pt x="12767" y="7"/>
                      <a:pt x="12767" y="6"/>
                      <a:pt x="12767" y="5"/>
                    </a:cubicBezTo>
                    <a:cubicBezTo>
                      <a:pt x="12767" y="4"/>
                      <a:pt x="12767" y="3"/>
                      <a:pt x="12769" y="3"/>
                    </a:cubicBezTo>
                    <a:close/>
                    <a:moveTo>
                      <a:pt x="12777" y="3"/>
                    </a:moveTo>
                    <a:lnTo>
                      <a:pt x="12777" y="3"/>
                    </a:lnTo>
                    <a:cubicBezTo>
                      <a:pt x="12778" y="3"/>
                      <a:pt x="12779" y="4"/>
                      <a:pt x="12779" y="5"/>
                    </a:cubicBezTo>
                    <a:cubicBezTo>
                      <a:pt x="12779" y="6"/>
                      <a:pt x="12778" y="7"/>
                      <a:pt x="12777" y="7"/>
                    </a:cubicBezTo>
                    <a:lnTo>
                      <a:pt x="12777" y="7"/>
                    </a:lnTo>
                    <a:cubicBezTo>
                      <a:pt x="12776" y="7"/>
                      <a:pt x="12775" y="6"/>
                      <a:pt x="12775" y="5"/>
                    </a:cubicBezTo>
                    <a:cubicBezTo>
                      <a:pt x="12775" y="4"/>
                      <a:pt x="12776" y="3"/>
                      <a:pt x="12777" y="3"/>
                    </a:cubicBezTo>
                    <a:close/>
                    <a:moveTo>
                      <a:pt x="12785" y="3"/>
                    </a:moveTo>
                    <a:lnTo>
                      <a:pt x="12785" y="3"/>
                    </a:lnTo>
                    <a:cubicBezTo>
                      <a:pt x="12786" y="3"/>
                      <a:pt x="12787" y="4"/>
                      <a:pt x="12787" y="5"/>
                    </a:cubicBezTo>
                    <a:cubicBezTo>
                      <a:pt x="12787" y="6"/>
                      <a:pt x="12786" y="7"/>
                      <a:pt x="12785" y="7"/>
                    </a:cubicBezTo>
                    <a:lnTo>
                      <a:pt x="12785" y="7"/>
                    </a:lnTo>
                    <a:cubicBezTo>
                      <a:pt x="12784" y="7"/>
                      <a:pt x="12783" y="6"/>
                      <a:pt x="12783" y="5"/>
                    </a:cubicBezTo>
                    <a:cubicBezTo>
                      <a:pt x="12783" y="4"/>
                      <a:pt x="12784" y="3"/>
                      <a:pt x="12785" y="3"/>
                    </a:cubicBezTo>
                    <a:close/>
                    <a:moveTo>
                      <a:pt x="12793" y="3"/>
                    </a:moveTo>
                    <a:lnTo>
                      <a:pt x="12793" y="3"/>
                    </a:lnTo>
                    <a:cubicBezTo>
                      <a:pt x="12794" y="3"/>
                      <a:pt x="12795" y="4"/>
                      <a:pt x="12795" y="5"/>
                    </a:cubicBezTo>
                    <a:cubicBezTo>
                      <a:pt x="12795" y="6"/>
                      <a:pt x="12794" y="7"/>
                      <a:pt x="12793" y="7"/>
                    </a:cubicBezTo>
                    <a:lnTo>
                      <a:pt x="12793" y="7"/>
                    </a:lnTo>
                    <a:cubicBezTo>
                      <a:pt x="12792" y="7"/>
                      <a:pt x="12791" y="6"/>
                      <a:pt x="12791" y="5"/>
                    </a:cubicBezTo>
                    <a:cubicBezTo>
                      <a:pt x="12791" y="4"/>
                      <a:pt x="12792" y="3"/>
                      <a:pt x="12793" y="3"/>
                    </a:cubicBezTo>
                    <a:close/>
                    <a:moveTo>
                      <a:pt x="12801" y="3"/>
                    </a:moveTo>
                    <a:lnTo>
                      <a:pt x="12801" y="3"/>
                    </a:lnTo>
                    <a:cubicBezTo>
                      <a:pt x="12802" y="3"/>
                      <a:pt x="12803" y="4"/>
                      <a:pt x="12803" y="5"/>
                    </a:cubicBezTo>
                    <a:cubicBezTo>
                      <a:pt x="12803" y="6"/>
                      <a:pt x="12802" y="7"/>
                      <a:pt x="12801" y="7"/>
                    </a:cubicBezTo>
                    <a:lnTo>
                      <a:pt x="12801" y="7"/>
                    </a:lnTo>
                    <a:cubicBezTo>
                      <a:pt x="12800" y="7"/>
                      <a:pt x="12799" y="6"/>
                      <a:pt x="12799" y="5"/>
                    </a:cubicBezTo>
                    <a:cubicBezTo>
                      <a:pt x="12799" y="4"/>
                      <a:pt x="12800" y="3"/>
                      <a:pt x="12801" y="3"/>
                    </a:cubicBezTo>
                    <a:close/>
                    <a:moveTo>
                      <a:pt x="12809" y="3"/>
                    </a:moveTo>
                    <a:lnTo>
                      <a:pt x="12809" y="3"/>
                    </a:lnTo>
                    <a:cubicBezTo>
                      <a:pt x="12810" y="3"/>
                      <a:pt x="12811" y="4"/>
                      <a:pt x="12811" y="5"/>
                    </a:cubicBezTo>
                    <a:cubicBezTo>
                      <a:pt x="12811" y="6"/>
                      <a:pt x="12810" y="7"/>
                      <a:pt x="12809" y="7"/>
                    </a:cubicBezTo>
                    <a:lnTo>
                      <a:pt x="12809" y="7"/>
                    </a:lnTo>
                    <a:cubicBezTo>
                      <a:pt x="12808" y="7"/>
                      <a:pt x="12807" y="6"/>
                      <a:pt x="12807" y="5"/>
                    </a:cubicBezTo>
                    <a:cubicBezTo>
                      <a:pt x="12807" y="4"/>
                      <a:pt x="12808" y="3"/>
                      <a:pt x="12809" y="3"/>
                    </a:cubicBezTo>
                    <a:close/>
                    <a:moveTo>
                      <a:pt x="12817" y="3"/>
                    </a:moveTo>
                    <a:lnTo>
                      <a:pt x="12817" y="3"/>
                    </a:lnTo>
                    <a:cubicBezTo>
                      <a:pt x="12818" y="3"/>
                      <a:pt x="12819" y="4"/>
                      <a:pt x="12819" y="5"/>
                    </a:cubicBezTo>
                    <a:cubicBezTo>
                      <a:pt x="12819" y="6"/>
                      <a:pt x="12818" y="7"/>
                      <a:pt x="12817" y="7"/>
                    </a:cubicBezTo>
                    <a:lnTo>
                      <a:pt x="12817" y="7"/>
                    </a:lnTo>
                    <a:cubicBezTo>
                      <a:pt x="12816" y="7"/>
                      <a:pt x="12815" y="6"/>
                      <a:pt x="12815" y="5"/>
                    </a:cubicBezTo>
                    <a:cubicBezTo>
                      <a:pt x="12815" y="4"/>
                      <a:pt x="12816" y="3"/>
                      <a:pt x="12817" y="3"/>
                    </a:cubicBezTo>
                    <a:close/>
                    <a:moveTo>
                      <a:pt x="12825" y="3"/>
                    </a:moveTo>
                    <a:lnTo>
                      <a:pt x="12825" y="3"/>
                    </a:lnTo>
                    <a:cubicBezTo>
                      <a:pt x="12826" y="3"/>
                      <a:pt x="12827" y="4"/>
                      <a:pt x="12827" y="5"/>
                    </a:cubicBezTo>
                    <a:cubicBezTo>
                      <a:pt x="12827" y="6"/>
                      <a:pt x="12826" y="7"/>
                      <a:pt x="12825" y="7"/>
                    </a:cubicBezTo>
                    <a:lnTo>
                      <a:pt x="12825" y="7"/>
                    </a:lnTo>
                    <a:cubicBezTo>
                      <a:pt x="12824" y="7"/>
                      <a:pt x="12823" y="6"/>
                      <a:pt x="12823" y="5"/>
                    </a:cubicBezTo>
                    <a:cubicBezTo>
                      <a:pt x="12823" y="4"/>
                      <a:pt x="12824" y="3"/>
                      <a:pt x="12825" y="3"/>
                    </a:cubicBezTo>
                    <a:close/>
                    <a:moveTo>
                      <a:pt x="12833" y="3"/>
                    </a:moveTo>
                    <a:lnTo>
                      <a:pt x="12833" y="3"/>
                    </a:lnTo>
                    <a:cubicBezTo>
                      <a:pt x="12834" y="3"/>
                      <a:pt x="12835" y="4"/>
                      <a:pt x="12835" y="5"/>
                    </a:cubicBezTo>
                    <a:cubicBezTo>
                      <a:pt x="12835" y="6"/>
                      <a:pt x="12834" y="7"/>
                      <a:pt x="12833" y="7"/>
                    </a:cubicBezTo>
                    <a:lnTo>
                      <a:pt x="12833" y="7"/>
                    </a:lnTo>
                    <a:cubicBezTo>
                      <a:pt x="12832" y="7"/>
                      <a:pt x="12831" y="6"/>
                      <a:pt x="12831" y="5"/>
                    </a:cubicBezTo>
                    <a:cubicBezTo>
                      <a:pt x="12831" y="4"/>
                      <a:pt x="12832" y="3"/>
                      <a:pt x="12833" y="3"/>
                    </a:cubicBezTo>
                    <a:close/>
                    <a:moveTo>
                      <a:pt x="12841" y="3"/>
                    </a:moveTo>
                    <a:lnTo>
                      <a:pt x="12841" y="3"/>
                    </a:lnTo>
                    <a:cubicBezTo>
                      <a:pt x="12842" y="3"/>
                      <a:pt x="12843" y="4"/>
                      <a:pt x="12843" y="5"/>
                    </a:cubicBezTo>
                    <a:cubicBezTo>
                      <a:pt x="12843" y="6"/>
                      <a:pt x="12842" y="7"/>
                      <a:pt x="12841" y="7"/>
                    </a:cubicBezTo>
                    <a:lnTo>
                      <a:pt x="12841" y="7"/>
                    </a:lnTo>
                    <a:cubicBezTo>
                      <a:pt x="12840" y="7"/>
                      <a:pt x="12839" y="6"/>
                      <a:pt x="12839" y="5"/>
                    </a:cubicBezTo>
                    <a:cubicBezTo>
                      <a:pt x="12839" y="4"/>
                      <a:pt x="12840" y="3"/>
                      <a:pt x="12841" y="3"/>
                    </a:cubicBezTo>
                    <a:close/>
                    <a:moveTo>
                      <a:pt x="12849" y="3"/>
                    </a:moveTo>
                    <a:lnTo>
                      <a:pt x="12849" y="3"/>
                    </a:lnTo>
                    <a:cubicBezTo>
                      <a:pt x="12850" y="3"/>
                      <a:pt x="12851" y="4"/>
                      <a:pt x="12851" y="5"/>
                    </a:cubicBezTo>
                    <a:cubicBezTo>
                      <a:pt x="12851" y="6"/>
                      <a:pt x="12850" y="7"/>
                      <a:pt x="12849" y="7"/>
                    </a:cubicBezTo>
                    <a:lnTo>
                      <a:pt x="12849" y="7"/>
                    </a:lnTo>
                    <a:cubicBezTo>
                      <a:pt x="12848" y="7"/>
                      <a:pt x="12847" y="6"/>
                      <a:pt x="12847" y="5"/>
                    </a:cubicBezTo>
                    <a:cubicBezTo>
                      <a:pt x="12847" y="4"/>
                      <a:pt x="12848" y="3"/>
                      <a:pt x="12849" y="3"/>
                    </a:cubicBezTo>
                    <a:close/>
                    <a:moveTo>
                      <a:pt x="12857" y="3"/>
                    </a:moveTo>
                    <a:lnTo>
                      <a:pt x="12857" y="3"/>
                    </a:lnTo>
                    <a:cubicBezTo>
                      <a:pt x="12858" y="3"/>
                      <a:pt x="12859" y="4"/>
                      <a:pt x="12859" y="5"/>
                    </a:cubicBezTo>
                    <a:cubicBezTo>
                      <a:pt x="12859" y="6"/>
                      <a:pt x="12858" y="7"/>
                      <a:pt x="12857" y="7"/>
                    </a:cubicBezTo>
                    <a:lnTo>
                      <a:pt x="12857" y="7"/>
                    </a:lnTo>
                    <a:cubicBezTo>
                      <a:pt x="12856" y="7"/>
                      <a:pt x="12855" y="6"/>
                      <a:pt x="12855" y="5"/>
                    </a:cubicBezTo>
                    <a:cubicBezTo>
                      <a:pt x="12855" y="4"/>
                      <a:pt x="12856" y="3"/>
                      <a:pt x="12857" y="3"/>
                    </a:cubicBezTo>
                    <a:close/>
                    <a:moveTo>
                      <a:pt x="12865" y="3"/>
                    </a:moveTo>
                    <a:lnTo>
                      <a:pt x="12865" y="3"/>
                    </a:lnTo>
                    <a:cubicBezTo>
                      <a:pt x="12866" y="3"/>
                      <a:pt x="12867" y="4"/>
                      <a:pt x="12867" y="5"/>
                    </a:cubicBezTo>
                    <a:cubicBezTo>
                      <a:pt x="12867" y="6"/>
                      <a:pt x="12866" y="7"/>
                      <a:pt x="12865" y="7"/>
                    </a:cubicBezTo>
                    <a:lnTo>
                      <a:pt x="12865" y="7"/>
                    </a:lnTo>
                    <a:cubicBezTo>
                      <a:pt x="12864" y="7"/>
                      <a:pt x="12863" y="6"/>
                      <a:pt x="12863" y="5"/>
                    </a:cubicBezTo>
                    <a:cubicBezTo>
                      <a:pt x="12863" y="4"/>
                      <a:pt x="12864" y="3"/>
                      <a:pt x="12865" y="3"/>
                    </a:cubicBezTo>
                    <a:close/>
                    <a:moveTo>
                      <a:pt x="12873" y="3"/>
                    </a:moveTo>
                    <a:lnTo>
                      <a:pt x="12873" y="3"/>
                    </a:lnTo>
                    <a:cubicBezTo>
                      <a:pt x="12874" y="3"/>
                      <a:pt x="12875" y="4"/>
                      <a:pt x="12875" y="5"/>
                    </a:cubicBezTo>
                    <a:cubicBezTo>
                      <a:pt x="12875" y="6"/>
                      <a:pt x="12874" y="7"/>
                      <a:pt x="12873" y="7"/>
                    </a:cubicBezTo>
                    <a:lnTo>
                      <a:pt x="12873" y="7"/>
                    </a:lnTo>
                    <a:cubicBezTo>
                      <a:pt x="12872" y="7"/>
                      <a:pt x="12871" y="6"/>
                      <a:pt x="12871" y="5"/>
                    </a:cubicBezTo>
                    <a:cubicBezTo>
                      <a:pt x="12871" y="4"/>
                      <a:pt x="12872" y="3"/>
                      <a:pt x="12873" y="3"/>
                    </a:cubicBezTo>
                    <a:close/>
                    <a:moveTo>
                      <a:pt x="12881" y="3"/>
                    </a:moveTo>
                    <a:lnTo>
                      <a:pt x="12881" y="3"/>
                    </a:lnTo>
                    <a:cubicBezTo>
                      <a:pt x="12882" y="3"/>
                      <a:pt x="12883" y="4"/>
                      <a:pt x="12883" y="5"/>
                    </a:cubicBezTo>
                    <a:cubicBezTo>
                      <a:pt x="12883" y="6"/>
                      <a:pt x="12882" y="7"/>
                      <a:pt x="12881" y="7"/>
                    </a:cubicBezTo>
                    <a:lnTo>
                      <a:pt x="12881" y="7"/>
                    </a:lnTo>
                    <a:cubicBezTo>
                      <a:pt x="12880" y="7"/>
                      <a:pt x="12879" y="6"/>
                      <a:pt x="12879" y="5"/>
                    </a:cubicBezTo>
                    <a:cubicBezTo>
                      <a:pt x="12879" y="4"/>
                      <a:pt x="12880" y="3"/>
                      <a:pt x="12881" y="3"/>
                    </a:cubicBezTo>
                    <a:close/>
                    <a:moveTo>
                      <a:pt x="12889" y="3"/>
                    </a:moveTo>
                    <a:lnTo>
                      <a:pt x="12889" y="3"/>
                    </a:lnTo>
                    <a:cubicBezTo>
                      <a:pt x="12890" y="3"/>
                      <a:pt x="12891" y="4"/>
                      <a:pt x="12891" y="5"/>
                    </a:cubicBezTo>
                    <a:cubicBezTo>
                      <a:pt x="12891" y="6"/>
                      <a:pt x="12890" y="7"/>
                      <a:pt x="12889" y="7"/>
                    </a:cubicBezTo>
                    <a:lnTo>
                      <a:pt x="12889" y="7"/>
                    </a:lnTo>
                    <a:cubicBezTo>
                      <a:pt x="12888" y="7"/>
                      <a:pt x="12887" y="6"/>
                      <a:pt x="12887" y="5"/>
                    </a:cubicBezTo>
                    <a:cubicBezTo>
                      <a:pt x="12887" y="4"/>
                      <a:pt x="12888" y="3"/>
                      <a:pt x="12889" y="3"/>
                    </a:cubicBezTo>
                    <a:close/>
                    <a:moveTo>
                      <a:pt x="12897" y="3"/>
                    </a:moveTo>
                    <a:lnTo>
                      <a:pt x="12897" y="3"/>
                    </a:lnTo>
                    <a:cubicBezTo>
                      <a:pt x="12898" y="3"/>
                      <a:pt x="12899" y="4"/>
                      <a:pt x="12899" y="5"/>
                    </a:cubicBezTo>
                    <a:cubicBezTo>
                      <a:pt x="12899" y="6"/>
                      <a:pt x="12898" y="7"/>
                      <a:pt x="12897" y="7"/>
                    </a:cubicBezTo>
                    <a:lnTo>
                      <a:pt x="12897" y="7"/>
                    </a:lnTo>
                    <a:cubicBezTo>
                      <a:pt x="12896" y="7"/>
                      <a:pt x="12895" y="6"/>
                      <a:pt x="12895" y="5"/>
                    </a:cubicBezTo>
                    <a:cubicBezTo>
                      <a:pt x="12895" y="4"/>
                      <a:pt x="12896" y="3"/>
                      <a:pt x="12897" y="3"/>
                    </a:cubicBezTo>
                    <a:close/>
                    <a:moveTo>
                      <a:pt x="12905" y="3"/>
                    </a:moveTo>
                    <a:lnTo>
                      <a:pt x="12905" y="3"/>
                    </a:lnTo>
                    <a:cubicBezTo>
                      <a:pt x="12906" y="3"/>
                      <a:pt x="12907" y="4"/>
                      <a:pt x="12907" y="5"/>
                    </a:cubicBezTo>
                    <a:cubicBezTo>
                      <a:pt x="12907" y="6"/>
                      <a:pt x="12906" y="7"/>
                      <a:pt x="12905" y="7"/>
                    </a:cubicBezTo>
                    <a:lnTo>
                      <a:pt x="12905" y="7"/>
                    </a:lnTo>
                    <a:cubicBezTo>
                      <a:pt x="12904" y="7"/>
                      <a:pt x="12903" y="6"/>
                      <a:pt x="12903" y="5"/>
                    </a:cubicBezTo>
                    <a:cubicBezTo>
                      <a:pt x="12903" y="4"/>
                      <a:pt x="12904" y="3"/>
                      <a:pt x="12905" y="3"/>
                    </a:cubicBezTo>
                    <a:close/>
                    <a:moveTo>
                      <a:pt x="12913" y="3"/>
                    </a:moveTo>
                    <a:lnTo>
                      <a:pt x="12913" y="3"/>
                    </a:lnTo>
                    <a:cubicBezTo>
                      <a:pt x="12914" y="3"/>
                      <a:pt x="12915" y="4"/>
                      <a:pt x="12915" y="5"/>
                    </a:cubicBezTo>
                    <a:cubicBezTo>
                      <a:pt x="12915" y="6"/>
                      <a:pt x="12914" y="7"/>
                      <a:pt x="12913" y="7"/>
                    </a:cubicBezTo>
                    <a:lnTo>
                      <a:pt x="12913" y="7"/>
                    </a:lnTo>
                    <a:cubicBezTo>
                      <a:pt x="12912" y="7"/>
                      <a:pt x="12911" y="6"/>
                      <a:pt x="12911" y="5"/>
                    </a:cubicBezTo>
                    <a:cubicBezTo>
                      <a:pt x="12911" y="4"/>
                      <a:pt x="12912" y="3"/>
                      <a:pt x="12913" y="3"/>
                    </a:cubicBezTo>
                    <a:close/>
                    <a:moveTo>
                      <a:pt x="12921" y="3"/>
                    </a:moveTo>
                    <a:lnTo>
                      <a:pt x="12921" y="3"/>
                    </a:lnTo>
                    <a:cubicBezTo>
                      <a:pt x="12922" y="3"/>
                      <a:pt x="12923" y="4"/>
                      <a:pt x="12923" y="5"/>
                    </a:cubicBezTo>
                    <a:cubicBezTo>
                      <a:pt x="12923" y="6"/>
                      <a:pt x="12922" y="7"/>
                      <a:pt x="12921" y="7"/>
                    </a:cubicBezTo>
                    <a:lnTo>
                      <a:pt x="12921" y="7"/>
                    </a:lnTo>
                    <a:cubicBezTo>
                      <a:pt x="12920" y="7"/>
                      <a:pt x="12919" y="6"/>
                      <a:pt x="12919" y="5"/>
                    </a:cubicBezTo>
                    <a:cubicBezTo>
                      <a:pt x="12919" y="4"/>
                      <a:pt x="12920" y="3"/>
                      <a:pt x="12921" y="3"/>
                    </a:cubicBezTo>
                    <a:close/>
                    <a:moveTo>
                      <a:pt x="12929" y="3"/>
                    </a:moveTo>
                    <a:lnTo>
                      <a:pt x="12929" y="3"/>
                    </a:lnTo>
                    <a:cubicBezTo>
                      <a:pt x="12930" y="3"/>
                      <a:pt x="12931" y="4"/>
                      <a:pt x="12931" y="5"/>
                    </a:cubicBezTo>
                    <a:cubicBezTo>
                      <a:pt x="12931" y="6"/>
                      <a:pt x="12930" y="7"/>
                      <a:pt x="12929" y="7"/>
                    </a:cubicBezTo>
                    <a:lnTo>
                      <a:pt x="12929" y="7"/>
                    </a:lnTo>
                    <a:cubicBezTo>
                      <a:pt x="12928" y="7"/>
                      <a:pt x="12927" y="6"/>
                      <a:pt x="12927" y="5"/>
                    </a:cubicBezTo>
                    <a:cubicBezTo>
                      <a:pt x="12927" y="4"/>
                      <a:pt x="12928" y="3"/>
                      <a:pt x="12929" y="3"/>
                    </a:cubicBezTo>
                    <a:close/>
                    <a:moveTo>
                      <a:pt x="12937" y="3"/>
                    </a:moveTo>
                    <a:lnTo>
                      <a:pt x="12937" y="3"/>
                    </a:lnTo>
                    <a:cubicBezTo>
                      <a:pt x="12938" y="3"/>
                      <a:pt x="12939" y="4"/>
                      <a:pt x="12939" y="5"/>
                    </a:cubicBezTo>
                    <a:cubicBezTo>
                      <a:pt x="12939" y="6"/>
                      <a:pt x="12938" y="7"/>
                      <a:pt x="12937" y="7"/>
                    </a:cubicBezTo>
                    <a:lnTo>
                      <a:pt x="12937" y="7"/>
                    </a:lnTo>
                    <a:cubicBezTo>
                      <a:pt x="12936" y="7"/>
                      <a:pt x="12935" y="6"/>
                      <a:pt x="12935" y="5"/>
                    </a:cubicBezTo>
                    <a:cubicBezTo>
                      <a:pt x="12935" y="4"/>
                      <a:pt x="12936" y="3"/>
                      <a:pt x="12937" y="3"/>
                    </a:cubicBezTo>
                    <a:close/>
                    <a:moveTo>
                      <a:pt x="12945" y="3"/>
                    </a:moveTo>
                    <a:lnTo>
                      <a:pt x="12945" y="3"/>
                    </a:lnTo>
                    <a:cubicBezTo>
                      <a:pt x="12946" y="3"/>
                      <a:pt x="12947" y="4"/>
                      <a:pt x="12947" y="5"/>
                    </a:cubicBezTo>
                    <a:cubicBezTo>
                      <a:pt x="12947" y="6"/>
                      <a:pt x="12946" y="7"/>
                      <a:pt x="12945" y="7"/>
                    </a:cubicBezTo>
                    <a:lnTo>
                      <a:pt x="12945" y="7"/>
                    </a:lnTo>
                    <a:cubicBezTo>
                      <a:pt x="12944" y="7"/>
                      <a:pt x="12943" y="6"/>
                      <a:pt x="12943" y="5"/>
                    </a:cubicBezTo>
                    <a:cubicBezTo>
                      <a:pt x="12943" y="4"/>
                      <a:pt x="12944" y="3"/>
                      <a:pt x="12945" y="3"/>
                    </a:cubicBezTo>
                    <a:close/>
                    <a:moveTo>
                      <a:pt x="12953" y="3"/>
                    </a:moveTo>
                    <a:lnTo>
                      <a:pt x="12953" y="3"/>
                    </a:lnTo>
                    <a:cubicBezTo>
                      <a:pt x="12954" y="3"/>
                      <a:pt x="12955" y="4"/>
                      <a:pt x="12955" y="5"/>
                    </a:cubicBezTo>
                    <a:cubicBezTo>
                      <a:pt x="12955" y="6"/>
                      <a:pt x="12954" y="7"/>
                      <a:pt x="12953" y="7"/>
                    </a:cubicBezTo>
                    <a:lnTo>
                      <a:pt x="12953" y="7"/>
                    </a:lnTo>
                    <a:cubicBezTo>
                      <a:pt x="12952" y="7"/>
                      <a:pt x="12951" y="6"/>
                      <a:pt x="12951" y="5"/>
                    </a:cubicBezTo>
                    <a:cubicBezTo>
                      <a:pt x="12951" y="4"/>
                      <a:pt x="12952" y="3"/>
                      <a:pt x="12953" y="3"/>
                    </a:cubicBezTo>
                    <a:close/>
                    <a:moveTo>
                      <a:pt x="12961" y="3"/>
                    </a:moveTo>
                    <a:lnTo>
                      <a:pt x="12961" y="3"/>
                    </a:lnTo>
                    <a:cubicBezTo>
                      <a:pt x="12962" y="3"/>
                      <a:pt x="12963" y="4"/>
                      <a:pt x="12963" y="5"/>
                    </a:cubicBezTo>
                    <a:cubicBezTo>
                      <a:pt x="12963" y="6"/>
                      <a:pt x="12962" y="7"/>
                      <a:pt x="12961" y="7"/>
                    </a:cubicBezTo>
                    <a:lnTo>
                      <a:pt x="12961" y="7"/>
                    </a:lnTo>
                    <a:cubicBezTo>
                      <a:pt x="12960" y="7"/>
                      <a:pt x="12959" y="6"/>
                      <a:pt x="12959" y="5"/>
                    </a:cubicBezTo>
                    <a:cubicBezTo>
                      <a:pt x="12959" y="4"/>
                      <a:pt x="12960" y="3"/>
                      <a:pt x="12961" y="3"/>
                    </a:cubicBezTo>
                    <a:close/>
                    <a:moveTo>
                      <a:pt x="12969" y="3"/>
                    </a:moveTo>
                    <a:lnTo>
                      <a:pt x="12969" y="3"/>
                    </a:lnTo>
                    <a:cubicBezTo>
                      <a:pt x="12970" y="3"/>
                      <a:pt x="12971" y="4"/>
                      <a:pt x="12971" y="5"/>
                    </a:cubicBezTo>
                    <a:cubicBezTo>
                      <a:pt x="12971" y="6"/>
                      <a:pt x="12970" y="7"/>
                      <a:pt x="12969" y="7"/>
                    </a:cubicBezTo>
                    <a:lnTo>
                      <a:pt x="12969" y="7"/>
                    </a:lnTo>
                    <a:cubicBezTo>
                      <a:pt x="12968" y="7"/>
                      <a:pt x="12967" y="6"/>
                      <a:pt x="12967" y="5"/>
                    </a:cubicBezTo>
                    <a:cubicBezTo>
                      <a:pt x="12967" y="4"/>
                      <a:pt x="12968" y="3"/>
                      <a:pt x="12969" y="3"/>
                    </a:cubicBezTo>
                    <a:close/>
                    <a:moveTo>
                      <a:pt x="12977" y="3"/>
                    </a:moveTo>
                    <a:lnTo>
                      <a:pt x="12977" y="3"/>
                    </a:lnTo>
                    <a:cubicBezTo>
                      <a:pt x="12978" y="3"/>
                      <a:pt x="12979" y="4"/>
                      <a:pt x="12979" y="5"/>
                    </a:cubicBezTo>
                    <a:cubicBezTo>
                      <a:pt x="12979" y="6"/>
                      <a:pt x="12978" y="7"/>
                      <a:pt x="12977" y="7"/>
                    </a:cubicBezTo>
                    <a:lnTo>
                      <a:pt x="12977" y="7"/>
                    </a:lnTo>
                    <a:cubicBezTo>
                      <a:pt x="12976" y="7"/>
                      <a:pt x="12975" y="6"/>
                      <a:pt x="12975" y="5"/>
                    </a:cubicBezTo>
                    <a:cubicBezTo>
                      <a:pt x="12975" y="4"/>
                      <a:pt x="12976" y="3"/>
                      <a:pt x="12977" y="3"/>
                    </a:cubicBezTo>
                    <a:close/>
                    <a:moveTo>
                      <a:pt x="12985" y="3"/>
                    </a:moveTo>
                    <a:lnTo>
                      <a:pt x="12985" y="3"/>
                    </a:lnTo>
                    <a:cubicBezTo>
                      <a:pt x="12986" y="3"/>
                      <a:pt x="12987" y="4"/>
                      <a:pt x="12987" y="5"/>
                    </a:cubicBezTo>
                    <a:cubicBezTo>
                      <a:pt x="12987" y="6"/>
                      <a:pt x="12986" y="7"/>
                      <a:pt x="12985" y="7"/>
                    </a:cubicBezTo>
                    <a:lnTo>
                      <a:pt x="12985" y="7"/>
                    </a:lnTo>
                    <a:cubicBezTo>
                      <a:pt x="12984" y="7"/>
                      <a:pt x="12983" y="6"/>
                      <a:pt x="12983" y="5"/>
                    </a:cubicBezTo>
                    <a:cubicBezTo>
                      <a:pt x="12983" y="4"/>
                      <a:pt x="12984" y="3"/>
                      <a:pt x="12985" y="3"/>
                    </a:cubicBezTo>
                    <a:close/>
                    <a:moveTo>
                      <a:pt x="12993" y="3"/>
                    </a:moveTo>
                    <a:lnTo>
                      <a:pt x="12993" y="3"/>
                    </a:lnTo>
                    <a:cubicBezTo>
                      <a:pt x="12994" y="3"/>
                      <a:pt x="12995" y="4"/>
                      <a:pt x="12995" y="5"/>
                    </a:cubicBezTo>
                    <a:cubicBezTo>
                      <a:pt x="12995" y="6"/>
                      <a:pt x="12994" y="7"/>
                      <a:pt x="12993" y="7"/>
                    </a:cubicBezTo>
                    <a:lnTo>
                      <a:pt x="12993" y="7"/>
                    </a:lnTo>
                    <a:cubicBezTo>
                      <a:pt x="12992" y="7"/>
                      <a:pt x="12991" y="6"/>
                      <a:pt x="12991" y="5"/>
                    </a:cubicBezTo>
                    <a:cubicBezTo>
                      <a:pt x="12991" y="4"/>
                      <a:pt x="12992" y="3"/>
                      <a:pt x="12993" y="3"/>
                    </a:cubicBezTo>
                    <a:close/>
                    <a:moveTo>
                      <a:pt x="13001" y="3"/>
                    </a:moveTo>
                    <a:lnTo>
                      <a:pt x="13001" y="3"/>
                    </a:lnTo>
                    <a:cubicBezTo>
                      <a:pt x="13002" y="3"/>
                      <a:pt x="13003" y="4"/>
                      <a:pt x="13003" y="5"/>
                    </a:cubicBezTo>
                    <a:cubicBezTo>
                      <a:pt x="13003" y="6"/>
                      <a:pt x="13002" y="7"/>
                      <a:pt x="13001" y="7"/>
                    </a:cubicBezTo>
                    <a:lnTo>
                      <a:pt x="13001" y="7"/>
                    </a:lnTo>
                    <a:cubicBezTo>
                      <a:pt x="13000" y="7"/>
                      <a:pt x="12999" y="6"/>
                      <a:pt x="12999" y="5"/>
                    </a:cubicBezTo>
                    <a:cubicBezTo>
                      <a:pt x="12999" y="4"/>
                      <a:pt x="13000" y="3"/>
                      <a:pt x="13001" y="3"/>
                    </a:cubicBezTo>
                    <a:close/>
                    <a:moveTo>
                      <a:pt x="13009" y="3"/>
                    </a:moveTo>
                    <a:lnTo>
                      <a:pt x="13009" y="3"/>
                    </a:lnTo>
                    <a:cubicBezTo>
                      <a:pt x="13010" y="3"/>
                      <a:pt x="13011" y="4"/>
                      <a:pt x="13011" y="5"/>
                    </a:cubicBezTo>
                    <a:cubicBezTo>
                      <a:pt x="13011" y="6"/>
                      <a:pt x="13010" y="7"/>
                      <a:pt x="13009" y="7"/>
                    </a:cubicBezTo>
                    <a:lnTo>
                      <a:pt x="13009" y="7"/>
                    </a:lnTo>
                    <a:cubicBezTo>
                      <a:pt x="13008" y="7"/>
                      <a:pt x="13007" y="6"/>
                      <a:pt x="13007" y="5"/>
                    </a:cubicBezTo>
                    <a:cubicBezTo>
                      <a:pt x="13007" y="4"/>
                      <a:pt x="13008" y="3"/>
                      <a:pt x="13009" y="3"/>
                    </a:cubicBezTo>
                    <a:close/>
                    <a:moveTo>
                      <a:pt x="13017" y="3"/>
                    </a:moveTo>
                    <a:lnTo>
                      <a:pt x="13017" y="3"/>
                    </a:lnTo>
                    <a:cubicBezTo>
                      <a:pt x="13018" y="3"/>
                      <a:pt x="13019" y="4"/>
                      <a:pt x="13019" y="5"/>
                    </a:cubicBezTo>
                    <a:cubicBezTo>
                      <a:pt x="13019" y="6"/>
                      <a:pt x="13018" y="7"/>
                      <a:pt x="13017" y="7"/>
                    </a:cubicBezTo>
                    <a:lnTo>
                      <a:pt x="13017" y="7"/>
                    </a:lnTo>
                    <a:cubicBezTo>
                      <a:pt x="13016" y="7"/>
                      <a:pt x="13015" y="6"/>
                      <a:pt x="13015" y="5"/>
                    </a:cubicBezTo>
                    <a:cubicBezTo>
                      <a:pt x="13015" y="4"/>
                      <a:pt x="13016" y="3"/>
                      <a:pt x="13017" y="3"/>
                    </a:cubicBezTo>
                    <a:close/>
                    <a:moveTo>
                      <a:pt x="13025" y="3"/>
                    </a:moveTo>
                    <a:lnTo>
                      <a:pt x="13025" y="3"/>
                    </a:lnTo>
                    <a:cubicBezTo>
                      <a:pt x="13026" y="3"/>
                      <a:pt x="13027" y="4"/>
                      <a:pt x="13027" y="5"/>
                    </a:cubicBezTo>
                    <a:cubicBezTo>
                      <a:pt x="13027" y="6"/>
                      <a:pt x="13026" y="7"/>
                      <a:pt x="13025" y="7"/>
                    </a:cubicBezTo>
                    <a:lnTo>
                      <a:pt x="13025" y="7"/>
                    </a:lnTo>
                    <a:cubicBezTo>
                      <a:pt x="13024" y="7"/>
                      <a:pt x="13023" y="6"/>
                      <a:pt x="13023" y="5"/>
                    </a:cubicBezTo>
                    <a:cubicBezTo>
                      <a:pt x="13023" y="4"/>
                      <a:pt x="13024" y="3"/>
                      <a:pt x="13025" y="3"/>
                    </a:cubicBezTo>
                    <a:close/>
                    <a:moveTo>
                      <a:pt x="13033" y="3"/>
                    </a:moveTo>
                    <a:lnTo>
                      <a:pt x="13033" y="3"/>
                    </a:lnTo>
                    <a:cubicBezTo>
                      <a:pt x="13034" y="3"/>
                      <a:pt x="13035" y="4"/>
                      <a:pt x="13035" y="5"/>
                    </a:cubicBezTo>
                    <a:cubicBezTo>
                      <a:pt x="13035" y="6"/>
                      <a:pt x="13034" y="7"/>
                      <a:pt x="13033" y="7"/>
                    </a:cubicBezTo>
                    <a:lnTo>
                      <a:pt x="13033" y="7"/>
                    </a:lnTo>
                    <a:cubicBezTo>
                      <a:pt x="13032" y="7"/>
                      <a:pt x="13031" y="6"/>
                      <a:pt x="13031" y="5"/>
                    </a:cubicBezTo>
                    <a:cubicBezTo>
                      <a:pt x="13031" y="4"/>
                      <a:pt x="13032" y="3"/>
                      <a:pt x="13033" y="3"/>
                    </a:cubicBezTo>
                    <a:close/>
                    <a:moveTo>
                      <a:pt x="13041" y="3"/>
                    </a:moveTo>
                    <a:lnTo>
                      <a:pt x="13041" y="3"/>
                    </a:lnTo>
                    <a:cubicBezTo>
                      <a:pt x="13042" y="3"/>
                      <a:pt x="13043" y="4"/>
                      <a:pt x="13043" y="5"/>
                    </a:cubicBezTo>
                    <a:cubicBezTo>
                      <a:pt x="13043" y="6"/>
                      <a:pt x="13042" y="7"/>
                      <a:pt x="13041" y="7"/>
                    </a:cubicBezTo>
                    <a:lnTo>
                      <a:pt x="13041" y="7"/>
                    </a:lnTo>
                    <a:cubicBezTo>
                      <a:pt x="13040" y="7"/>
                      <a:pt x="13039" y="6"/>
                      <a:pt x="13039" y="5"/>
                    </a:cubicBezTo>
                    <a:cubicBezTo>
                      <a:pt x="13039" y="4"/>
                      <a:pt x="13040" y="3"/>
                      <a:pt x="13041" y="3"/>
                    </a:cubicBezTo>
                    <a:close/>
                    <a:moveTo>
                      <a:pt x="13049" y="3"/>
                    </a:moveTo>
                    <a:lnTo>
                      <a:pt x="13049" y="3"/>
                    </a:lnTo>
                    <a:cubicBezTo>
                      <a:pt x="13050" y="3"/>
                      <a:pt x="13051" y="4"/>
                      <a:pt x="13051" y="5"/>
                    </a:cubicBezTo>
                    <a:cubicBezTo>
                      <a:pt x="13051" y="6"/>
                      <a:pt x="13050" y="7"/>
                      <a:pt x="13049" y="7"/>
                    </a:cubicBezTo>
                    <a:lnTo>
                      <a:pt x="13049" y="7"/>
                    </a:lnTo>
                    <a:cubicBezTo>
                      <a:pt x="13048" y="7"/>
                      <a:pt x="13047" y="6"/>
                      <a:pt x="13047" y="5"/>
                    </a:cubicBezTo>
                    <a:cubicBezTo>
                      <a:pt x="13047" y="4"/>
                      <a:pt x="13048" y="3"/>
                      <a:pt x="13049" y="3"/>
                    </a:cubicBezTo>
                    <a:close/>
                    <a:moveTo>
                      <a:pt x="13057" y="3"/>
                    </a:moveTo>
                    <a:lnTo>
                      <a:pt x="13057" y="3"/>
                    </a:lnTo>
                    <a:cubicBezTo>
                      <a:pt x="13058" y="3"/>
                      <a:pt x="13059" y="4"/>
                      <a:pt x="13059" y="5"/>
                    </a:cubicBezTo>
                    <a:cubicBezTo>
                      <a:pt x="13059" y="6"/>
                      <a:pt x="13058" y="7"/>
                      <a:pt x="13057" y="7"/>
                    </a:cubicBezTo>
                    <a:lnTo>
                      <a:pt x="13057" y="7"/>
                    </a:lnTo>
                    <a:cubicBezTo>
                      <a:pt x="13056" y="7"/>
                      <a:pt x="13055" y="6"/>
                      <a:pt x="13055" y="5"/>
                    </a:cubicBezTo>
                    <a:cubicBezTo>
                      <a:pt x="13055" y="4"/>
                      <a:pt x="13056" y="3"/>
                      <a:pt x="13057" y="3"/>
                    </a:cubicBezTo>
                    <a:close/>
                    <a:moveTo>
                      <a:pt x="13065" y="3"/>
                    </a:moveTo>
                    <a:lnTo>
                      <a:pt x="13065" y="3"/>
                    </a:lnTo>
                    <a:cubicBezTo>
                      <a:pt x="13066" y="3"/>
                      <a:pt x="13067" y="4"/>
                      <a:pt x="13067" y="5"/>
                    </a:cubicBezTo>
                    <a:cubicBezTo>
                      <a:pt x="13067" y="6"/>
                      <a:pt x="13066" y="7"/>
                      <a:pt x="13065" y="7"/>
                    </a:cubicBezTo>
                    <a:lnTo>
                      <a:pt x="13065" y="7"/>
                    </a:lnTo>
                    <a:cubicBezTo>
                      <a:pt x="13064" y="7"/>
                      <a:pt x="13063" y="6"/>
                      <a:pt x="13063" y="5"/>
                    </a:cubicBezTo>
                    <a:cubicBezTo>
                      <a:pt x="13063" y="4"/>
                      <a:pt x="13064" y="3"/>
                      <a:pt x="13065" y="3"/>
                    </a:cubicBezTo>
                    <a:close/>
                    <a:moveTo>
                      <a:pt x="13073" y="3"/>
                    </a:moveTo>
                    <a:lnTo>
                      <a:pt x="13073" y="3"/>
                    </a:lnTo>
                    <a:cubicBezTo>
                      <a:pt x="13074" y="3"/>
                      <a:pt x="13075" y="4"/>
                      <a:pt x="13075" y="5"/>
                    </a:cubicBezTo>
                    <a:cubicBezTo>
                      <a:pt x="13075" y="6"/>
                      <a:pt x="13074" y="7"/>
                      <a:pt x="13073" y="7"/>
                    </a:cubicBezTo>
                    <a:lnTo>
                      <a:pt x="13073" y="7"/>
                    </a:lnTo>
                    <a:cubicBezTo>
                      <a:pt x="13072" y="7"/>
                      <a:pt x="13071" y="6"/>
                      <a:pt x="13071" y="5"/>
                    </a:cubicBezTo>
                    <a:cubicBezTo>
                      <a:pt x="13071" y="4"/>
                      <a:pt x="13072" y="3"/>
                      <a:pt x="13073" y="3"/>
                    </a:cubicBezTo>
                    <a:close/>
                    <a:moveTo>
                      <a:pt x="13081" y="3"/>
                    </a:moveTo>
                    <a:lnTo>
                      <a:pt x="13081" y="3"/>
                    </a:lnTo>
                    <a:cubicBezTo>
                      <a:pt x="13082" y="3"/>
                      <a:pt x="13083" y="4"/>
                      <a:pt x="13083" y="5"/>
                    </a:cubicBezTo>
                    <a:cubicBezTo>
                      <a:pt x="13083" y="6"/>
                      <a:pt x="13082" y="7"/>
                      <a:pt x="13081" y="7"/>
                    </a:cubicBezTo>
                    <a:lnTo>
                      <a:pt x="13081" y="7"/>
                    </a:lnTo>
                    <a:cubicBezTo>
                      <a:pt x="13080" y="7"/>
                      <a:pt x="13079" y="6"/>
                      <a:pt x="13079" y="5"/>
                    </a:cubicBezTo>
                    <a:cubicBezTo>
                      <a:pt x="13079" y="4"/>
                      <a:pt x="13080" y="3"/>
                      <a:pt x="13081" y="3"/>
                    </a:cubicBezTo>
                    <a:close/>
                    <a:moveTo>
                      <a:pt x="13089" y="3"/>
                    </a:moveTo>
                    <a:lnTo>
                      <a:pt x="13089" y="3"/>
                    </a:lnTo>
                    <a:cubicBezTo>
                      <a:pt x="13090" y="3"/>
                      <a:pt x="13091" y="4"/>
                      <a:pt x="13091" y="5"/>
                    </a:cubicBezTo>
                    <a:cubicBezTo>
                      <a:pt x="13091" y="6"/>
                      <a:pt x="13090" y="7"/>
                      <a:pt x="13089" y="7"/>
                    </a:cubicBezTo>
                    <a:lnTo>
                      <a:pt x="13089" y="7"/>
                    </a:lnTo>
                    <a:cubicBezTo>
                      <a:pt x="13088" y="7"/>
                      <a:pt x="13087" y="6"/>
                      <a:pt x="13087" y="5"/>
                    </a:cubicBezTo>
                    <a:cubicBezTo>
                      <a:pt x="13087" y="4"/>
                      <a:pt x="13088" y="3"/>
                      <a:pt x="13089" y="3"/>
                    </a:cubicBezTo>
                    <a:close/>
                    <a:moveTo>
                      <a:pt x="13097" y="3"/>
                    </a:moveTo>
                    <a:lnTo>
                      <a:pt x="13097" y="3"/>
                    </a:lnTo>
                    <a:cubicBezTo>
                      <a:pt x="13098" y="3"/>
                      <a:pt x="13099" y="4"/>
                      <a:pt x="13099" y="5"/>
                    </a:cubicBezTo>
                    <a:cubicBezTo>
                      <a:pt x="13099" y="6"/>
                      <a:pt x="13098" y="7"/>
                      <a:pt x="13097" y="7"/>
                    </a:cubicBezTo>
                    <a:lnTo>
                      <a:pt x="13097" y="7"/>
                    </a:lnTo>
                    <a:cubicBezTo>
                      <a:pt x="13096" y="7"/>
                      <a:pt x="13095" y="6"/>
                      <a:pt x="13095" y="5"/>
                    </a:cubicBezTo>
                    <a:cubicBezTo>
                      <a:pt x="13095" y="4"/>
                      <a:pt x="13096" y="3"/>
                      <a:pt x="13097" y="3"/>
                    </a:cubicBezTo>
                    <a:close/>
                    <a:moveTo>
                      <a:pt x="13105" y="3"/>
                    </a:moveTo>
                    <a:lnTo>
                      <a:pt x="13105" y="3"/>
                    </a:lnTo>
                    <a:cubicBezTo>
                      <a:pt x="13106" y="3"/>
                      <a:pt x="13107" y="4"/>
                      <a:pt x="13107" y="5"/>
                    </a:cubicBezTo>
                    <a:cubicBezTo>
                      <a:pt x="13107" y="6"/>
                      <a:pt x="13106" y="7"/>
                      <a:pt x="13105" y="7"/>
                    </a:cubicBezTo>
                    <a:lnTo>
                      <a:pt x="13105" y="7"/>
                    </a:lnTo>
                    <a:cubicBezTo>
                      <a:pt x="13104" y="7"/>
                      <a:pt x="13103" y="6"/>
                      <a:pt x="13103" y="5"/>
                    </a:cubicBezTo>
                    <a:cubicBezTo>
                      <a:pt x="13103" y="4"/>
                      <a:pt x="13104" y="3"/>
                      <a:pt x="13105" y="3"/>
                    </a:cubicBezTo>
                    <a:close/>
                    <a:moveTo>
                      <a:pt x="13113" y="3"/>
                    </a:moveTo>
                    <a:lnTo>
                      <a:pt x="13113" y="3"/>
                    </a:lnTo>
                    <a:cubicBezTo>
                      <a:pt x="13114" y="3"/>
                      <a:pt x="13115" y="4"/>
                      <a:pt x="13115" y="5"/>
                    </a:cubicBezTo>
                    <a:cubicBezTo>
                      <a:pt x="13115" y="6"/>
                      <a:pt x="13114" y="7"/>
                      <a:pt x="13113" y="7"/>
                    </a:cubicBezTo>
                    <a:lnTo>
                      <a:pt x="13113" y="7"/>
                    </a:lnTo>
                    <a:cubicBezTo>
                      <a:pt x="13112" y="7"/>
                      <a:pt x="13111" y="6"/>
                      <a:pt x="13111" y="5"/>
                    </a:cubicBezTo>
                    <a:cubicBezTo>
                      <a:pt x="13111" y="4"/>
                      <a:pt x="13112" y="3"/>
                      <a:pt x="13113" y="3"/>
                    </a:cubicBezTo>
                    <a:close/>
                    <a:moveTo>
                      <a:pt x="13121" y="3"/>
                    </a:moveTo>
                    <a:lnTo>
                      <a:pt x="13121" y="3"/>
                    </a:lnTo>
                    <a:cubicBezTo>
                      <a:pt x="13122" y="3"/>
                      <a:pt x="13123" y="4"/>
                      <a:pt x="13123" y="5"/>
                    </a:cubicBezTo>
                    <a:cubicBezTo>
                      <a:pt x="13123" y="6"/>
                      <a:pt x="13122" y="7"/>
                      <a:pt x="13121" y="7"/>
                    </a:cubicBezTo>
                    <a:lnTo>
                      <a:pt x="13121" y="7"/>
                    </a:lnTo>
                    <a:cubicBezTo>
                      <a:pt x="13120" y="7"/>
                      <a:pt x="13119" y="6"/>
                      <a:pt x="13119" y="5"/>
                    </a:cubicBezTo>
                    <a:cubicBezTo>
                      <a:pt x="13119" y="4"/>
                      <a:pt x="13120" y="3"/>
                      <a:pt x="13121" y="3"/>
                    </a:cubicBezTo>
                    <a:close/>
                    <a:moveTo>
                      <a:pt x="13129" y="3"/>
                    </a:moveTo>
                    <a:lnTo>
                      <a:pt x="13129" y="3"/>
                    </a:lnTo>
                    <a:cubicBezTo>
                      <a:pt x="13130" y="3"/>
                      <a:pt x="13131" y="4"/>
                      <a:pt x="13131" y="5"/>
                    </a:cubicBezTo>
                    <a:cubicBezTo>
                      <a:pt x="13131" y="6"/>
                      <a:pt x="13130" y="7"/>
                      <a:pt x="13129" y="7"/>
                    </a:cubicBezTo>
                    <a:lnTo>
                      <a:pt x="13129" y="7"/>
                    </a:lnTo>
                    <a:cubicBezTo>
                      <a:pt x="13128" y="7"/>
                      <a:pt x="13127" y="6"/>
                      <a:pt x="13127" y="5"/>
                    </a:cubicBezTo>
                    <a:cubicBezTo>
                      <a:pt x="13127" y="4"/>
                      <a:pt x="13128" y="3"/>
                      <a:pt x="13129" y="3"/>
                    </a:cubicBezTo>
                    <a:close/>
                    <a:moveTo>
                      <a:pt x="13137" y="3"/>
                    </a:moveTo>
                    <a:lnTo>
                      <a:pt x="13137" y="3"/>
                    </a:lnTo>
                    <a:cubicBezTo>
                      <a:pt x="13138" y="3"/>
                      <a:pt x="13139" y="4"/>
                      <a:pt x="13139" y="5"/>
                    </a:cubicBezTo>
                    <a:cubicBezTo>
                      <a:pt x="13139" y="6"/>
                      <a:pt x="13138" y="7"/>
                      <a:pt x="13137" y="7"/>
                    </a:cubicBezTo>
                    <a:lnTo>
                      <a:pt x="13137" y="7"/>
                    </a:lnTo>
                    <a:cubicBezTo>
                      <a:pt x="13136" y="7"/>
                      <a:pt x="13135" y="6"/>
                      <a:pt x="13135" y="5"/>
                    </a:cubicBezTo>
                    <a:cubicBezTo>
                      <a:pt x="13135" y="4"/>
                      <a:pt x="13136" y="3"/>
                      <a:pt x="13137" y="3"/>
                    </a:cubicBezTo>
                    <a:close/>
                    <a:moveTo>
                      <a:pt x="13145" y="3"/>
                    </a:moveTo>
                    <a:lnTo>
                      <a:pt x="13145" y="3"/>
                    </a:lnTo>
                    <a:cubicBezTo>
                      <a:pt x="13146" y="3"/>
                      <a:pt x="13147" y="4"/>
                      <a:pt x="13147" y="5"/>
                    </a:cubicBezTo>
                    <a:cubicBezTo>
                      <a:pt x="13147" y="6"/>
                      <a:pt x="13146" y="7"/>
                      <a:pt x="13145" y="7"/>
                    </a:cubicBezTo>
                    <a:lnTo>
                      <a:pt x="13145" y="7"/>
                    </a:lnTo>
                    <a:cubicBezTo>
                      <a:pt x="13144" y="7"/>
                      <a:pt x="13143" y="6"/>
                      <a:pt x="13143" y="5"/>
                    </a:cubicBezTo>
                    <a:cubicBezTo>
                      <a:pt x="13143" y="4"/>
                      <a:pt x="13144" y="3"/>
                      <a:pt x="13145" y="3"/>
                    </a:cubicBezTo>
                    <a:close/>
                    <a:moveTo>
                      <a:pt x="13153" y="3"/>
                    </a:moveTo>
                    <a:lnTo>
                      <a:pt x="13153" y="3"/>
                    </a:lnTo>
                    <a:cubicBezTo>
                      <a:pt x="13154" y="3"/>
                      <a:pt x="13155" y="4"/>
                      <a:pt x="13155" y="5"/>
                    </a:cubicBezTo>
                    <a:cubicBezTo>
                      <a:pt x="13155" y="6"/>
                      <a:pt x="13154" y="7"/>
                      <a:pt x="13153" y="7"/>
                    </a:cubicBezTo>
                    <a:lnTo>
                      <a:pt x="13153" y="7"/>
                    </a:lnTo>
                    <a:cubicBezTo>
                      <a:pt x="13152" y="7"/>
                      <a:pt x="13151" y="6"/>
                      <a:pt x="13151" y="5"/>
                    </a:cubicBezTo>
                    <a:cubicBezTo>
                      <a:pt x="13151" y="4"/>
                      <a:pt x="13152" y="3"/>
                      <a:pt x="13153" y="3"/>
                    </a:cubicBezTo>
                    <a:close/>
                    <a:moveTo>
                      <a:pt x="13161" y="3"/>
                    </a:moveTo>
                    <a:lnTo>
                      <a:pt x="13161" y="3"/>
                    </a:lnTo>
                    <a:cubicBezTo>
                      <a:pt x="13162" y="3"/>
                      <a:pt x="13163" y="4"/>
                      <a:pt x="13163" y="5"/>
                    </a:cubicBezTo>
                    <a:cubicBezTo>
                      <a:pt x="13163" y="6"/>
                      <a:pt x="13162" y="7"/>
                      <a:pt x="13161" y="7"/>
                    </a:cubicBezTo>
                    <a:lnTo>
                      <a:pt x="13161" y="7"/>
                    </a:lnTo>
                    <a:cubicBezTo>
                      <a:pt x="13160" y="7"/>
                      <a:pt x="13159" y="6"/>
                      <a:pt x="13159" y="5"/>
                    </a:cubicBezTo>
                    <a:cubicBezTo>
                      <a:pt x="13159" y="4"/>
                      <a:pt x="13160" y="3"/>
                      <a:pt x="13161" y="3"/>
                    </a:cubicBezTo>
                    <a:close/>
                    <a:moveTo>
                      <a:pt x="13169" y="3"/>
                    </a:moveTo>
                    <a:lnTo>
                      <a:pt x="13169" y="3"/>
                    </a:lnTo>
                    <a:cubicBezTo>
                      <a:pt x="13170" y="3"/>
                      <a:pt x="13171" y="4"/>
                      <a:pt x="13171" y="5"/>
                    </a:cubicBezTo>
                    <a:cubicBezTo>
                      <a:pt x="13171" y="6"/>
                      <a:pt x="13170" y="7"/>
                      <a:pt x="13169" y="7"/>
                    </a:cubicBezTo>
                    <a:lnTo>
                      <a:pt x="13169" y="7"/>
                    </a:lnTo>
                    <a:cubicBezTo>
                      <a:pt x="13168" y="7"/>
                      <a:pt x="13167" y="6"/>
                      <a:pt x="13167" y="5"/>
                    </a:cubicBezTo>
                    <a:cubicBezTo>
                      <a:pt x="13167" y="4"/>
                      <a:pt x="13168" y="3"/>
                      <a:pt x="13169" y="3"/>
                    </a:cubicBezTo>
                    <a:close/>
                    <a:moveTo>
                      <a:pt x="13177" y="3"/>
                    </a:moveTo>
                    <a:lnTo>
                      <a:pt x="13177" y="3"/>
                    </a:lnTo>
                    <a:cubicBezTo>
                      <a:pt x="13178" y="3"/>
                      <a:pt x="13179" y="4"/>
                      <a:pt x="13179" y="5"/>
                    </a:cubicBezTo>
                    <a:cubicBezTo>
                      <a:pt x="13179" y="6"/>
                      <a:pt x="13178" y="7"/>
                      <a:pt x="13177" y="7"/>
                    </a:cubicBezTo>
                    <a:lnTo>
                      <a:pt x="13177" y="7"/>
                    </a:lnTo>
                    <a:cubicBezTo>
                      <a:pt x="13176" y="7"/>
                      <a:pt x="13175" y="6"/>
                      <a:pt x="13175" y="5"/>
                    </a:cubicBezTo>
                    <a:cubicBezTo>
                      <a:pt x="13175" y="4"/>
                      <a:pt x="13176" y="3"/>
                      <a:pt x="13177" y="3"/>
                    </a:cubicBezTo>
                    <a:close/>
                    <a:moveTo>
                      <a:pt x="13185" y="3"/>
                    </a:moveTo>
                    <a:lnTo>
                      <a:pt x="13185" y="3"/>
                    </a:lnTo>
                    <a:cubicBezTo>
                      <a:pt x="13186" y="3"/>
                      <a:pt x="13187" y="4"/>
                      <a:pt x="13187" y="5"/>
                    </a:cubicBezTo>
                    <a:cubicBezTo>
                      <a:pt x="13187" y="6"/>
                      <a:pt x="13186" y="7"/>
                      <a:pt x="13185" y="7"/>
                    </a:cubicBezTo>
                    <a:lnTo>
                      <a:pt x="13185" y="7"/>
                    </a:lnTo>
                    <a:cubicBezTo>
                      <a:pt x="13184" y="7"/>
                      <a:pt x="13183" y="6"/>
                      <a:pt x="13183" y="5"/>
                    </a:cubicBezTo>
                    <a:cubicBezTo>
                      <a:pt x="13183" y="4"/>
                      <a:pt x="13184" y="3"/>
                      <a:pt x="13185" y="3"/>
                    </a:cubicBezTo>
                    <a:close/>
                    <a:moveTo>
                      <a:pt x="13193" y="3"/>
                    </a:moveTo>
                    <a:lnTo>
                      <a:pt x="13193" y="3"/>
                    </a:lnTo>
                    <a:cubicBezTo>
                      <a:pt x="13194" y="3"/>
                      <a:pt x="13195" y="4"/>
                      <a:pt x="13195" y="5"/>
                    </a:cubicBezTo>
                    <a:cubicBezTo>
                      <a:pt x="13195" y="6"/>
                      <a:pt x="13194" y="7"/>
                      <a:pt x="13193" y="7"/>
                    </a:cubicBezTo>
                    <a:lnTo>
                      <a:pt x="13193" y="7"/>
                    </a:lnTo>
                    <a:cubicBezTo>
                      <a:pt x="13192" y="7"/>
                      <a:pt x="13191" y="6"/>
                      <a:pt x="13191" y="5"/>
                    </a:cubicBezTo>
                    <a:cubicBezTo>
                      <a:pt x="13191" y="4"/>
                      <a:pt x="13192" y="3"/>
                      <a:pt x="13193" y="3"/>
                    </a:cubicBezTo>
                    <a:close/>
                    <a:moveTo>
                      <a:pt x="13201" y="3"/>
                    </a:moveTo>
                    <a:lnTo>
                      <a:pt x="13201" y="3"/>
                    </a:lnTo>
                    <a:cubicBezTo>
                      <a:pt x="13202" y="3"/>
                      <a:pt x="13203" y="4"/>
                      <a:pt x="13203" y="5"/>
                    </a:cubicBezTo>
                    <a:cubicBezTo>
                      <a:pt x="13203" y="6"/>
                      <a:pt x="13202" y="7"/>
                      <a:pt x="13201" y="7"/>
                    </a:cubicBezTo>
                    <a:lnTo>
                      <a:pt x="13201" y="7"/>
                    </a:lnTo>
                    <a:cubicBezTo>
                      <a:pt x="13200" y="7"/>
                      <a:pt x="13199" y="6"/>
                      <a:pt x="13199" y="5"/>
                    </a:cubicBezTo>
                    <a:cubicBezTo>
                      <a:pt x="13199" y="4"/>
                      <a:pt x="13200" y="3"/>
                      <a:pt x="13201" y="3"/>
                    </a:cubicBezTo>
                    <a:close/>
                    <a:moveTo>
                      <a:pt x="13209" y="3"/>
                    </a:moveTo>
                    <a:lnTo>
                      <a:pt x="13209" y="3"/>
                    </a:lnTo>
                    <a:cubicBezTo>
                      <a:pt x="13210" y="3"/>
                      <a:pt x="13211" y="4"/>
                      <a:pt x="13211" y="5"/>
                    </a:cubicBezTo>
                    <a:cubicBezTo>
                      <a:pt x="13211" y="6"/>
                      <a:pt x="13210" y="7"/>
                      <a:pt x="13209" y="7"/>
                    </a:cubicBezTo>
                    <a:lnTo>
                      <a:pt x="13209" y="7"/>
                    </a:lnTo>
                    <a:cubicBezTo>
                      <a:pt x="13208" y="7"/>
                      <a:pt x="13207" y="6"/>
                      <a:pt x="13207" y="5"/>
                    </a:cubicBezTo>
                    <a:cubicBezTo>
                      <a:pt x="13207" y="4"/>
                      <a:pt x="13208" y="3"/>
                      <a:pt x="13209" y="3"/>
                    </a:cubicBezTo>
                    <a:close/>
                    <a:moveTo>
                      <a:pt x="13217" y="3"/>
                    </a:moveTo>
                    <a:lnTo>
                      <a:pt x="13217" y="3"/>
                    </a:lnTo>
                    <a:cubicBezTo>
                      <a:pt x="13218" y="3"/>
                      <a:pt x="13219" y="4"/>
                      <a:pt x="13219" y="5"/>
                    </a:cubicBezTo>
                    <a:cubicBezTo>
                      <a:pt x="13219" y="6"/>
                      <a:pt x="13218" y="7"/>
                      <a:pt x="13217" y="7"/>
                    </a:cubicBezTo>
                    <a:lnTo>
                      <a:pt x="13217" y="7"/>
                    </a:lnTo>
                    <a:cubicBezTo>
                      <a:pt x="13216" y="7"/>
                      <a:pt x="13215" y="6"/>
                      <a:pt x="13215" y="5"/>
                    </a:cubicBezTo>
                    <a:cubicBezTo>
                      <a:pt x="13215" y="4"/>
                      <a:pt x="13216" y="3"/>
                      <a:pt x="13217" y="3"/>
                    </a:cubicBezTo>
                    <a:close/>
                    <a:moveTo>
                      <a:pt x="13225" y="3"/>
                    </a:moveTo>
                    <a:lnTo>
                      <a:pt x="13225" y="3"/>
                    </a:lnTo>
                    <a:cubicBezTo>
                      <a:pt x="13226" y="3"/>
                      <a:pt x="13227" y="4"/>
                      <a:pt x="13227" y="5"/>
                    </a:cubicBezTo>
                    <a:cubicBezTo>
                      <a:pt x="13227" y="6"/>
                      <a:pt x="13226" y="7"/>
                      <a:pt x="13225" y="7"/>
                    </a:cubicBezTo>
                    <a:lnTo>
                      <a:pt x="13225" y="7"/>
                    </a:lnTo>
                    <a:cubicBezTo>
                      <a:pt x="13224" y="7"/>
                      <a:pt x="13223" y="6"/>
                      <a:pt x="13223" y="5"/>
                    </a:cubicBezTo>
                    <a:cubicBezTo>
                      <a:pt x="13223" y="4"/>
                      <a:pt x="13224" y="3"/>
                      <a:pt x="13225" y="3"/>
                    </a:cubicBezTo>
                    <a:close/>
                    <a:moveTo>
                      <a:pt x="13233" y="3"/>
                    </a:moveTo>
                    <a:lnTo>
                      <a:pt x="13233" y="3"/>
                    </a:lnTo>
                    <a:cubicBezTo>
                      <a:pt x="13234" y="3"/>
                      <a:pt x="13235" y="4"/>
                      <a:pt x="13235" y="5"/>
                    </a:cubicBezTo>
                    <a:cubicBezTo>
                      <a:pt x="13235" y="6"/>
                      <a:pt x="13234" y="7"/>
                      <a:pt x="13233" y="7"/>
                    </a:cubicBezTo>
                    <a:lnTo>
                      <a:pt x="13233" y="7"/>
                    </a:lnTo>
                    <a:cubicBezTo>
                      <a:pt x="13232" y="7"/>
                      <a:pt x="13231" y="6"/>
                      <a:pt x="13231" y="5"/>
                    </a:cubicBezTo>
                    <a:cubicBezTo>
                      <a:pt x="13231" y="4"/>
                      <a:pt x="13232" y="3"/>
                      <a:pt x="13233" y="3"/>
                    </a:cubicBezTo>
                    <a:close/>
                    <a:moveTo>
                      <a:pt x="13241" y="3"/>
                    </a:moveTo>
                    <a:lnTo>
                      <a:pt x="13241" y="3"/>
                    </a:lnTo>
                    <a:cubicBezTo>
                      <a:pt x="13242" y="3"/>
                      <a:pt x="13243" y="4"/>
                      <a:pt x="13243" y="5"/>
                    </a:cubicBezTo>
                    <a:cubicBezTo>
                      <a:pt x="13243" y="6"/>
                      <a:pt x="13242" y="7"/>
                      <a:pt x="13241" y="7"/>
                    </a:cubicBezTo>
                    <a:lnTo>
                      <a:pt x="13241" y="7"/>
                    </a:lnTo>
                    <a:cubicBezTo>
                      <a:pt x="13240" y="7"/>
                      <a:pt x="13239" y="6"/>
                      <a:pt x="13239" y="5"/>
                    </a:cubicBezTo>
                    <a:cubicBezTo>
                      <a:pt x="13239" y="4"/>
                      <a:pt x="13240" y="3"/>
                      <a:pt x="13241" y="3"/>
                    </a:cubicBezTo>
                    <a:close/>
                    <a:moveTo>
                      <a:pt x="13249" y="3"/>
                    </a:moveTo>
                    <a:lnTo>
                      <a:pt x="13249" y="3"/>
                    </a:lnTo>
                    <a:cubicBezTo>
                      <a:pt x="13250" y="3"/>
                      <a:pt x="13251" y="4"/>
                      <a:pt x="13251" y="5"/>
                    </a:cubicBezTo>
                    <a:cubicBezTo>
                      <a:pt x="13251" y="6"/>
                      <a:pt x="13250" y="7"/>
                      <a:pt x="13249" y="7"/>
                    </a:cubicBezTo>
                    <a:lnTo>
                      <a:pt x="13249" y="7"/>
                    </a:lnTo>
                    <a:cubicBezTo>
                      <a:pt x="13248" y="7"/>
                      <a:pt x="13247" y="6"/>
                      <a:pt x="13247" y="5"/>
                    </a:cubicBezTo>
                    <a:cubicBezTo>
                      <a:pt x="13247" y="4"/>
                      <a:pt x="13248" y="3"/>
                      <a:pt x="13249" y="3"/>
                    </a:cubicBezTo>
                    <a:close/>
                    <a:moveTo>
                      <a:pt x="13257" y="3"/>
                    </a:moveTo>
                    <a:lnTo>
                      <a:pt x="13257" y="3"/>
                    </a:lnTo>
                    <a:cubicBezTo>
                      <a:pt x="13258" y="3"/>
                      <a:pt x="13259" y="4"/>
                      <a:pt x="13259" y="5"/>
                    </a:cubicBezTo>
                    <a:cubicBezTo>
                      <a:pt x="13259" y="6"/>
                      <a:pt x="13258" y="7"/>
                      <a:pt x="13257" y="7"/>
                    </a:cubicBezTo>
                    <a:lnTo>
                      <a:pt x="13257" y="7"/>
                    </a:lnTo>
                    <a:cubicBezTo>
                      <a:pt x="13256" y="7"/>
                      <a:pt x="13255" y="6"/>
                      <a:pt x="13255" y="5"/>
                    </a:cubicBezTo>
                    <a:cubicBezTo>
                      <a:pt x="13255" y="4"/>
                      <a:pt x="13256" y="3"/>
                      <a:pt x="13257" y="3"/>
                    </a:cubicBezTo>
                    <a:close/>
                    <a:moveTo>
                      <a:pt x="13265" y="3"/>
                    </a:moveTo>
                    <a:lnTo>
                      <a:pt x="13265" y="3"/>
                    </a:lnTo>
                    <a:cubicBezTo>
                      <a:pt x="13266" y="3"/>
                      <a:pt x="13267" y="4"/>
                      <a:pt x="13267" y="5"/>
                    </a:cubicBezTo>
                    <a:cubicBezTo>
                      <a:pt x="13267" y="6"/>
                      <a:pt x="13266" y="7"/>
                      <a:pt x="13265" y="7"/>
                    </a:cubicBezTo>
                    <a:lnTo>
                      <a:pt x="13265" y="7"/>
                    </a:lnTo>
                    <a:cubicBezTo>
                      <a:pt x="13264" y="7"/>
                      <a:pt x="13263" y="6"/>
                      <a:pt x="13263" y="5"/>
                    </a:cubicBezTo>
                    <a:cubicBezTo>
                      <a:pt x="13263" y="4"/>
                      <a:pt x="13264" y="3"/>
                      <a:pt x="13265" y="3"/>
                    </a:cubicBezTo>
                    <a:close/>
                    <a:moveTo>
                      <a:pt x="13273" y="3"/>
                    </a:moveTo>
                    <a:lnTo>
                      <a:pt x="13273" y="3"/>
                    </a:lnTo>
                    <a:cubicBezTo>
                      <a:pt x="13274" y="3"/>
                      <a:pt x="13275" y="4"/>
                      <a:pt x="13275" y="5"/>
                    </a:cubicBezTo>
                    <a:cubicBezTo>
                      <a:pt x="13275" y="6"/>
                      <a:pt x="13274" y="7"/>
                      <a:pt x="13273" y="7"/>
                    </a:cubicBezTo>
                    <a:lnTo>
                      <a:pt x="13273" y="7"/>
                    </a:lnTo>
                    <a:cubicBezTo>
                      <a:pt x="13272" y="7"/>
                      <a:pt x="13271" y="6"/>
                      <a:pt x="13271" y="5"/>
                    </a:cubicBezTo>
                    <a:cubicBezTo>
                      <a:pt x="13271" y="4"/>
                      <a:pt x="13272" y="3"/>
                      <a:pt x="13273" y="3"/>
                    </a:cubicBezTo>
                    <a:close/>
                    <a:moveTo>
                      <a:pt x="13281" y="3"/>
                    </a:moveTo>
                    <a:lnTo>
                      <a:pt x="13281" y="3"/>
                    </a:lnTo>
                    <a:cubicBezTo>
                      <a:pt x="13282" y="3"/>
                      <a:pt x="13283" y="4"/>
                      <a:pt x="13283" y="5"/>
                    </a:cubicBezTo>
                    <a:cubicBezTo>
                      <a:pt x="13283" y="6"/>
                      <a:pt x="13282" y="7"/>
                      <a:pt x="13281" y="7"/>
                    </a:cubicBezTo>
                    <a:lnTo>
                      <a:pt x="13281" y="7"/>
                    </a:lnTo>
                    <a:cubicBezTo>
                      <a:pt x="13280" y="7"/>
                      <a:pt x="13279" y="6"/>
                      <a:pt x="13279" y="5"/>
                    </a:cubicBezTo>
                    <a:cubicBezTo>
                      <a:pt x="13279" y="4"/>
                      <a:pt x="13280" y="3"/>
                      <a:pt x="13281" y="3"/>
                    </a:cubicBezTo>
                    <a:close/>
                    <a:moveTo>
                      <a:pt x="13289" y="3"/>
                    </a:moveTo>
                    <a:lnTo>
                      <a:pt x="13289" y="3"/>
                    </a:lnTo>
                    <a:cubicBezTo>
                      <a:pt x="13290" y="3"/>
                      <a:pt x="13291" y="4"/>
                      <a:pt x="13291" y="5"/>
                    </a:cubicBezTo>
                    <a:cubicBezTo>
                      <a:pt x="13291" y="6"/>
                      <a:pt x="13290" y="7"/>
                      <a:pt x="13289" y="7"/>
                    </a:cubicBezTo>
                    <a:lnTo>
                      <a:pt x="13289" y="7"/>
                    </a:lnTo>
                    <a:cubicBezTo>
                      <a:pt x="13288" y="7"/>
                      <a:pt x="13287" y="6"/>
                      <a:pt x="13287" y="5"/>
                    </a:cubicBezTo>
                    <a:cubicBezTo>
                      <a:pt x="13287" y="4"/>
                      <a:pt x="13288" y="3"/>
                      <a:pt x="13289" y="3"/>
                    </a:cubicBezTo>
                    <a:close/>
                    <a:moveTo>
                      <a:pt x="13297" y="3"/>
                    </a:moveTo>
                    <a:lnTo>
                      <a:pt x="13297" y="3"/>
                    </a:lnTo>
                    <a:cubicBezTo>
                      <a:pt x="13298" y="3"/>
                      <a:pt x="13299" y="4"/>
                      <a:pt x="13299" y="5"/>
                    </a:cubicBezTo>
                    <a:cubicBezTo>
                      <a:pt x="13299" y="6"/>
                      <a:pt x="13298" y="7"/>
                      <a:pt x="13297" y="7"/>
                    </a:cubicBezTo>
                    <a:lnTo>
                      <a:pt x="13297" y="7"/>
                    </a:lnTo>
                    <a:cubicBezTo>
                      <a:pt x="13296" y="7"/>
                      <a:pt x="13295" y="6"/>
                      <a:pt x="13295" y="5"/>
                    </a:cubicBezTo>
                    <a:cubicBezTo>
                      <a:pt x="13295" y="4"/>
                      <a:pt x="13296" y="3"/>
                      <a:pt x="13297" y="3"/>
                    </a:cubicBezTo>
                    <a:close/>
                    <a:moveTo>
                      <a:pt x="13305" y="3"/>
                    </a:moveTo>
                    <a:lnTo>
                      <a:pt x="13305" y="3"/>
                    </a:lnTo>
                    <a:cubicBezTo>
                      <a:pt x="13306" y="3"/>
                      <a:pt x="13307" y="4"/>
                      <a:pt x="13307" y="5"/>
                    </a:cubicBezTo>
                    <a:cubicBezTo>
                      <a:pt x="13307" y="6"/>
                      <a:pt x="13306" y="7"/>
                      <a:pt x="13305" y="7"/>
                    </a:cubicBezTo>
                    <a:lnTo>
                      <a:pt x="13305" y="7"/>
                    </a:lnTo>
                    <a:cubicBezTo>
                      <a:pt x="13304" y="7"/>
                      <a:pt x="13303" y="6"/>
                      <a:pt x="13303" y="5"/>
                    </a:cubicBezTo>
                    <a:cubicBezTo>
                      <a:pt x="13303" y="4"/>
                      <a:pt x="13304" y="3"/>
                      <a:pt x="13305" y="3"/>
                    </a:cubicBezTo>
                    <a:close/>
                    <a:moveTo>
                      <a:pt x="13313" y="3"/>
                    </a:moveTo>
                    <a:lnTo>
                      <a:pt x="13313" y="3"/>
                    </a:lnTo>
                    <a:cubicBezTo>
                      <a:pt x="13314" y="3"/>
                      <a:pt x="13315" y="4"/>
                      <a:pt x="13315" y="5"/>
                    </a:cubicBezTo>
                    <a:cubicBezTo>
                      <a:pt x="13315" y="6"/>
                      <a:pt x="13314" y="7"/>
                      <a:pt x="13313" y="7"/>
                    </a:cubicBezTo>
                    <a:lnTo>
                      <a:pt x="13313" y="7"/>
                    </a:lnTo>
                    <a:cubicBezTo>
                      <a:pt x="13312" y="7"/>
                      <a:pt x="13311" y="6"/>
                      <a:pt x="13311" y="5"/>
                    </a:cubicBezTo>
                    <a:cubicBezTo>
                      <a:pt x="13311" y="4"/>
                      <a:pt x="13312" y="3"/>
                      <a:pt x="13313" y="3"/>
                    </a:cubicBezTo>
                    <a:close/>
                    <a:moveTo>
                      <a:pt x="13321" y="3"/>
                    </a:moveTo>
                    <a:lnTo>
                      <a:pt x="13321" y="3"/>
                    </a:lnTo>
                    <a:cubicBezTo>
                      <a:pt x="13322" y="3"/>
                      <a:pt x="13323" y="4"/>
                      <a:pt x="13323" y="5"/>
                    </a:cubicBezTo>
                    <a:cubicBezTo>
                      <a:pt x="13323" y="6"/>
                      <a:pt x="13322" y="7"/>
                      <a:pt x="13321" y="7"/>
                    </a:cubicBezTo>
                    <a:lnTo>
                      <a:pt x="13321" y="7"/>
                    </a:lnTo>
                    <a:cubicBezTo>
                      <a:pt x="13320" y="7"/>
                      <a:pt x="13319" y="6"/>
                      <a:pt x="13319" y="5"/>
                    </a:cubicBezTo>
                    <a:cubicBezTo>
                      <a:pt x="13319" y="4"/>
                      <a:pt x="13320" y="3"/>
                      <a:pt x="13321" y="3"/>
                    </a:cubicBezTo>
                    <a:close/>
                    <a:moveTo>
                      <a:pt x="13329" y="3"/>
                    </a:moveTo>
                    <a:lnTo>
                      <a:pt x="13329" y="3"/>
                    </a:lnTo>
                    <a:cubicBezTo>
                      <a:pt x="13330" y="3"/>
                      <a:pt x="13331" y="4"/>
                      <a:pt x="13331" y="5"/>
                    </a:cubicBezTo>
                    <a:cubicBezTo>
                      <a:pt x="13331" y="6"/>
                      <a:pt x="13330" y="7"/>
                      <a:pt x="13329" y="7"/>
                    </a:cubicBezTo>
                    <a:lnTo>
                      <a:pt x="13329" y="7"/>
                    </a:lnTo>
                    <a:cubicBezTo>
                      <a:pt x="13328" y="7"/>
                      <a:pt x="13327" y="6"/>
                      <a:pt x="13327" y="5"/>
                    </a:cubicBezTo>
                    <a:cubicBezTo>
                      <a:pt x="13327" y="4"/>
                      <a:pt x="13328" y="3"/>
                      <a:pt x="13329" y="3"/>
                    </a:cubicBezTo>
                    <a:close/>
                    <a:moveTo>
                      <a:pt x="13337" y="3"/>
                    </a:moveTo>
                    <a:lnTo>
                      <a:pt x="13337" y="3"/>
                    </a:lnTo>
                    <a:cubicBezTo>
                      <a:pt x="13338" y="3"/>
                      <a:pt x="13339" y="4"/>
                      <a:pt x="13339" y="5"/>
                    </a:cubicBezTo>
                    <a:cubicBezTo>
                      <a:pt x="13339" y="6"/>
                      <a:pt x="13338" y="7"/>
                      <a:pt x="13337" y="7"/>
                    </a:cubicBezTo>
                    <a:lnTo>
                      <a:pt x="13337" y="7"/>
                    </a:lnTo>
                    <a:cubicBezTo>
                      <a:pt x="13336" y="7"/>
                      <a:pt x="13335" y="6"/>
                      <a:pt x="13335" y="5"/>
                    </a:cubicBezTo>
                    <a:cubicBezTo>
                      <a:pt x="13335" y="4"/>
                      <a:pt x="13336" y="3"/>
                      <a:pt x="13337" y="3"/>
                    </a:cubicBezTo>
                    <a:close/>
                    <a:moveTo>
                      <a:pt x="13345" y="3"/>
                    </a:moveTo>
                    <a:lnTo>
                      <a:pt x="13345" y="3"/>
                    </a:lnTo>
                    <a:cubicBezTo>
                      <a:pt x="13346" y="3"/>
                      <a:pt x="13347" y="4"/>
                      <a:pt x="13347" y="5"/>
                    </a:cubicBezTo>
                    <a:cubicBezTo>
                      <a:pt x="13347" y="6"/>
                      <a:pt x="13346" y="7"/>
                      <a:pt x="13345" y="7"/>
                    </a:cubicBezTo>
                    <a:lnTo>
                      <a:pt x="13345" y="7"/>
                    </a:lnTo>
                    <a:cubicBezTo>
                      <a:pt x="13344" y="7"/>
                      <a:pt x="13343" y="6"/>
                      <a:pt x="13343" y="5"/>
                    </a:cubicBezTo>
                    <a:cubicBezTo>
                      <a:pt x="13343" y="4"/>
                      <a:pt x="13344" y="3"/>
                      <a:pt x="13345" y="3"/>
                    </a:cubicBezTo>
                    <a:close/>
                    <a:moveTo>
                      <a:pt x="13353" y="3"/>
                    </a:moveTo>
                    <a:lnTo>
                      <a:pt x="13353" y="3"/>
                    </a:lnTo>
                    <a:cubicBezTo>
                      <a:pt x="13354" y="3"/>
                      <a:pt x="13355" y="4"/>
                      <a:pt x="13355" y="5"/>
                    </a:cubicBezTo>
                    <a:cubicBezTo>
                      <a:pt x="13355" y="6"/>
                      <a:pt x="13354" y="7"/>
                      <a:pt x="13353" y="7"/>
                    </a:cubicBezTo>
                    <a:lnTo>
                      <a:pt x="13353" y="7"/>
                    </a:lnTo>
                    <a:cubicBezTo>
                      <a:pt x="13352" y="7"/>
                      <a:pt x="13351" y="6"/>
                      <a:pt x="13351" y="5"/>
                    </a:cubicBezTo>
                    <a:cubicBezTo>
                      <a:pt x="13351" y="4"/>
                      <a:pt x="13352" y="3"/>
                      <a:pt x="13353" y="3"/>
                    </a:cubicBezTo>
                    <a:close/>
                    <a:moveTo>
                      <a:pt x="13361" y="3"/>
                    </a:moveTo>
                    <a:lnTo>
                      <a:pt x="13361" y="3"/>
                    </a:lnTo>
                    <a:cubicBezTo>
                      <a:pt x="13362" y="3"/>
                      <a:pt x="13363" y="4"/>
                      <a:pt x="13363" y="5"/>
                    </a:cubicBezTo>
                    <a:cubicBezTo>
                      <a:pt x="13363" y="6"/>
                      <a:pt x="13362" y="7"/>
                      <a:pt x="13361" y="7"/>
                    </a:cubicBezTo>
                    <a:lnTo>
                      <a:pt x="13361" y="7"/>
                    </a:lnTo>
                    <a:cubicBezTo>
                      <a:pt x="13360" y="7"/>
                      <a:pt x="13359" y="6"/>
                      <a:pt x="13359" y="5"/>
                    </a:cubicBezTo>
                    <a:cubicBezTo>
                      <a:pt x="13359" y="4"/>
                      <a:pt x="13360" y="3"/>
                      <a:pt x="13361" y="3"/>
                    </a:cubicBezTo>
                    <a:close/>
                    <a:moveTo>
                      <a:pt x="13369" y="3"/>
                    </a:moveTo>
                    <a:lnTo>
                      <a:pt x="13369" y="3"/>
                    </a:lnTo>
                    <a:cubicBezTo>
                      <a:pt x="13370" y="3"/>
                      <a:pt x="13371" y="4"/>
                      <a:pt x="13371" y="5"/>
                    </a:cubicBezTo>
                    <a:cubicBezTo>
                      <a:pt x="13371" y="6"/>
                      <a:pt x="13370" y="7"/>
                      <a:pt x="13369" y="7"/>
                    </a:cubicBezTo>
                    <a:lnTo>
                      <a:pt x="13369" y="7"/>
                    </a:lnTo>
                    <a:cubicBezTo>
                      <a:pt x="13368" y="7"/>
                      <a:pt x="13367" y="6"/>
                      <a:pt x="13367" y="5"/>
                    </a:cubicBezTo>
                    <a:cubicBezTo>
                      <a:pt x="13367" y="4"/>
                      <a:pt x="13368" y="3"/>
                      <a:pt x="13369" y="3"/>
                    </a:cubicBezTo>
                    <a:close/>
                    <a:moveTo>
                      <a:pt x="13377" y="3"/>
                    </a:moveTo>
                    <a:lnTo>
                      <a:pt x="13377" y="3"/>
                    </a:lnTo>
                    <a:cubicBezTo>
                      <a:pt x="13378" y="3"/>
                      <a:pt x="13379" y="4"/>
                      <a:pt x="13379" y="5"/>
                    </a:cubicBezTo>
                    <a:cubicBezTo>
                      <a:pt x="13379" y="6"/>
                      <a:pt x="13378" y="7"/>
                      <a:pt x="13377" y="7"/>
                    </a:cubicBezTo>
                    <a:lnTo>
                      <a:pt x="13377" y="7"/>
                    </a:lnTo>
                    <a:cubicBezTo>
                      <a:pt x="13376" y="7"/>
                      <a:pt x="13375" y="6"/>
                      <a:pt x="13375" y="5"/>
                    </a:cubicBezTo>
                    <a:cubicBezTo>
                      <a:pt x="13375" y="4"/>
                      <a:pt x="13376" y="3"/>
                      <a:pt x="13377" y="3"/>
                    </a:cubicBezTo>
                    <a:close/>
                    <a:moveTo>
                      <a:pt x="13385" y="3"/>
                    </a:moveTo>
                    <a:lnTo>
                      <a:pt x="13385" y="3"/>
                    </a:lnTo>
                    <a:cubicBezTo>
                      <a:pt x="13386" y="3"/>
                      <a:pt x="13387" y="4"/>
                      <a:pt x="13387" y="5"/>
                    </a:cubicBezTo>
                    <a:cubicBezTo>
                      <a:pt x="13387" y="6"/>
                      <a:pt x="13386" y="7"/>
                      <a:pt x="13385" y="7"/>
                    </a:cubicBezTo>
                    <a:lnTo>
                      <a:pt x="13385" y="7"/>
                    </a:lnTo>
                    <a:cubicBezTo>
                      <a:pt x="13384" y="7"/>
                      <a:pt x="13383" y="6"/>
                      <a:pt x="13383" y="5"/>
                    </a:cubicBezTo>
                    <a:cubicBezTo>
                      <a:pt x="13383" y="4"/>
                      <a:pt x="13384" y="3"/>
                      <a:pt x="13385" y="3"/>
                    </a:cubicBezTo>
                    <a:close/>
                    <a:moveTo>
                      <a:pt x="13393" y="3"/>
                    </a:moveTo>
                    <a:lnTo>
                      <a:pt x="13393" y="3"/>
                    </a:lnTo>
                    <a:cubicBezTo>
                      <a:pt x="13394" y="3"/>
                      <a:pt x="13395" y="4"/>
                      <a:pt x="13395" y="5"/>
                    </a:cubicBezTo>
                    <a:cubicBezTo>
                      <a:pt x="13395" y="6"/>
                      <a:pt x="13394" y="7"/>
                      <a:pt x="13393" y="7"/>
                    </a:cubicBezTo>
                    <a:lnTo>
                      <a:pt x="13393" y="7"/>
                    </a:lnTo>
                    <a:cubicBezTo>
                      <a:pt x="13392" y="7"/>
                      <a:pt x="13391" y="6"/>
                      <a:pt x="13391" y="5"/>
                    </a:cubicBezTo>
                    <a:cubicBezTo>
                      <a:pt x="13391" y="4"/>
                      <a:pt x="13392" y="3"/>
                      <a:pt x="13393" y="3"/>
                    </a:cubicBezTo>
                    <a:close/>
                    <a:moveTo>
                      <a:pt x="13401" y="3"/>
                    </a:moveTo>
                    <a:lnTo>
                      <a:pt x="13401" y="3"/>
                    </a:lnTo>
                    <a:cubicBezTo>
                      <a:pt x="13402" y="3"/>
                      <a:pt x="13403" y="4"/>
                      <a:pt x="13403" y="5"/>
                    </a:cubicBezTo>
                    <a:cubicBezTo>
                      <a:pt x="13403" y="6"/>
                      <a:pt x="13402" y="7"/>
                      <a:pt x="13401" y="7"/>
                    </a:cubicBezTo>
                    <a:lnTo>
                      <a:pt x="13401" y="7"/>
                    </a:lnTo>
                    <a:cubicBezTo>
                      <a:pt x="13400" y="7"/>
                      <a:pt x="13399" y="6"/>
                      <a:pt x="13399" y="5"/>
                    </a:cubicBezTo>
                    <a:cubicBezTo>
                      <a:pt x="13399" y="4"/>
                      <a:pt x="13400" y="3"/>
                      <a:pt x="13401" y="3"/>
                    </a:cubicBezTo>
                    <a:close/>
                    <a:moveTo>
                      <a:pt x="13409" y="3"/>
                    </a:moveTo>
                    <a:lnTo>
                      <a:pt x="13409" y="3"/>
                    </a:lnTo>
                    <a:cubicBezTo>
                      <a:pt x="13410" y="3"/>
                      <a:pt x="13411" y="4"/>
                      <a:pt x="13411" y="5"/>
                    </a:cubicBezTo>
                    <a:cubicBezTo>
                      <a:pt x="13411" y="6"/>
                      <a:pt x="13410" y="7"/>
                      <a:pt x="13409" y="7"/>
                    </a:cubicBezTo>
                    <a:lnTo>
                      <a:pt x="13409" y="7"/>
                    </a:lnTo>
                    <a:cubicBezTo>
                      <a:pt x="13408" y="7"/>
                      <a:pt x="13407" y="6"/>
                      <a:pt x="13407" y="5"/>
                    </a:cubicBezTo>
                    <a:cubicBezTo>
                      <a:pt x="13407" y="4"/>
                      <a:pt x="13408" y="3"/>
                      <a:pt x="13409" y="3"/>
                    </a:cubicBezTo>
                    <a:close/>
                    <a:moveTo>
                      <a:pt x="13417" y="3"/>
                    </a:moveTo>
                    <a:lnTo>
                      <a:pt x="13417" y="3"/>
                    </a:lnTo>
                    <a:cubicBezTo>
                      <a:pt x="13418" y="3"/>
                      <a:pt x="13419" y="4"/>
                      <a:pt x="13419" y="5"/>
                    </a:cubicBezTo>
                    <a:cubicBezTo>
                      <a:pt x="13419" y="6"/>
                      <a:pt x="13418" y="7"/>
                      <a:pt x="13417" y="7"/>
                    </a:cubicBezTo>
                    <a:lnTo>
                      <a:pt x="13417" y="7"/>
                    </a:lnTo>
                    <a:cubicBezTo>
                      <a:pt x="13416" y="7"/>
                      <a:pt x="13415" y="6"/>
                      <a:pt x="13415" y="5"/>
                    </a:cubicBezTo>
                    <a:cubicBezTo>
                      <a:pt x="13415" y="4"/>
                      <a:pt x="13416" y="3"/>
                      <a:pt x="13417" y="3"/>
                    </a:cubicBezTo>
                    <a:close/>
                    <a:moveTo>
                      <a:pt x="13425" y="3"/>
                    </a:moveTo>
                    <a:lnTo>
                      <a:pt x="13425" y="3"/>
                    </a:lnTo>
                    <a:cubicBezTo>
                      <a:pt x="13426" y="3"/>
                      <a:pt x="13427" y="4"/>
                      <a:pt x="13427" y="5"/>
                    </a:cubicBezTo>
                    <a:cubicBezTo>
                      <a:pt x="13427" y="6"/>
                      <a:pt x="13426" y="7"/>
                      <a:pt x="13425" y="7"/>
                    </a:cubicBezTo>
                    <a:lnTo>
                      <a:pt x="13425" y="7"/>
                    </a:lnTo>
                    <a:cubicBezTo>
                      <a:pt x="13424" y="7"/>
                      <a:pt x="13423" y="6"/>
                      <a:pt x="13423" y="5"/>
                    </a:cubicBezTo>
                    <a:cubicBezTo>
                      <a:pt x="13423" y="4"/>
                      <a:pt x="13424" y="3"/>
                      <a:pt x="13425" y="3"/>
                    </a:cubicBezTo>
                    <a:close/>
                    <a:moveTo>
                      <a:pt x="13433" y="3"/>
                    </a:moveTo>
                    <a:lnTo>
                      <a:pt x="13433" y="3"/>
                    </a:lnTo>
                    <a:cubicBezTo>
                      <a:pt x="13434" y="3"/>
                      <a:pt x="13435" y="4"/>
                      <a:pt x="13435" y="5"/>
                    </a:cubicBezTo>
                    <a:cubicBezTo>
                      <a:pt x="13435" y="6"/>
                      <a:pt x="13434" y="7"/>
                      <a:pt x="13433" y="7"/>
                    </a:cubicBezTo>
                    <a:lnTo>
                      <a:pt x="13433" y="7"/>
                    </a:lnTo>
                    <a:cubicBezTo>
                      <a:pt x="13432" y="7"/>
                      <a:pt x="13431" y="6"/>
                      <a:pt x="13431" y="5"/>
                    </a:cubicBezTo>
                    <a:cubicBezTo>
                      <a:pt x="13431" y="4"/>
                      <a:pt x="13432" y="3"/>
                      <a:pt x="13433" y="3"/>
                    </a:cubicBezTo>
                    <a:close/>
                    <a:moveTo>
                      <a:pt x="13441" y="3"/>
                    </a:moveTo>
                    <a:lnTo>
                      <a:pt x="13441" y="3"/>
                    </a:lnTo>
                    <a:cubicBezTo>
                      <a:pt x="13442" y="3"/>
                      <a:pt x="13443" y="4"/>
                      <a:pt x="13443" y="5"/>
                    </a:cubicBezTo>
                    <a:cubicBezTo>
                      <a:pt x="13443" y="7"/>
                      <a:pt x="13442" y="7"/>
                      <a:pt x="13441" y="7"/>
                    </a:cubicBezTo>
                    <a:lnTo>
                      <a:pt x="13441" y="7"/>
                    </a:lnTo>
                    <a:cubicBezTo>
                      <a:pt x="13440" y="7"/>
                      <a:pt x="13439" y="7"/>
                      <a:pt x="13439" y="5"/>
                    </a:cubicBezTo>
                    <a:cubicBezTo>
                      <a:pt x="13439" y="4"/>
                      <a:pt x="13440" y="3"/>
                      <a:pt x="13441" y="3"/>
                    </a:cubicBezTo>
                    <a:close/>
                    <a:moveTo>
                      <a:pt x="13449" y="3"/>
                    </a:moveTo>
                    <a:lnTo>
                      <a:pt x="13449" y="3"/>
                    </a:lnTo>
                    <a:cubicBezTo>
                      <a:pt x="13450" y="3"/>
                      <a:pt x="13451" y="4"/>
                      <a:pt x="13451" y="5"/>
                    </a:cubicBezTo>
                    <a:cubicBezTo>
                      <a:pt x="13451" y="7"/>
                      <a:pt x="13450" y="7"/>
                      <a:pt x="13449" y="7"/>
                    </a:cubicBezTo>
                    <a:lnTo>
                      <a:pt x="13449" y="7"/>
                    </a:lnTo>
                    <a:cubicBezTo>
                      <a:pt x="13448" y="7"/>
                      <a:pt x="13447" y="7"/>
                      <a:pt x="13447" y="5"/>
                    </a:cubicBezTo>
                    <a:cubicBezTo>
                      <a:pt x="13447" y="4"/>
                      <a:pt x="13448" y="3"/>
                      <a:pt x="13449" y="3"/>
                    </a:cubicBezTo>
                    <a:close/>
                    <a:moveTo>
                      <a:pt x="13457" y="3"/>
                    </a:moveTo>
                    <a:lnTo>
                      <a:pt x="13457" y="3"/>
                    </a:lnTo>
                    <a:cubicBezTo>
                      <a:pt x="13458" y="3"/>
                      <a:pt x="13459" y="4"/>
                      <a:pt x="13459" y="5"/>
                    </a:cubicBezTo>
                    <a:cubicBezTo>
                      <a:pt x="13459" y="7"/>
                      <a:pt x="13458" y="7"/>
                      <a:pt x="13457" y="7"/>
                    </a:cubicBezTo>
                    <a:lnTo>
                      <a:pt x="13457" y="7"/>
                    </a:lnTo>
                    <a:cubicBezTo>
                      <a:pt x="13456" y="7"/>
                      <a:pt x="13455" y="7"/>
                      <a:pt x="13455" y="5"/>
                    </a:cubicBezTo>
                    <a:cubicBezTo>
                      <a:pt x="13455" y="4"/>
                      <a:pt x="13456" y="3"/>
                      <a:pt x="13457" y="3"/>
                    </a:cubicBezTo>
                    <a:close/>
                    <a:moveTo>
                      <a:pt x="13465" y="3"/>
                    </a:moveTo>
                    <a:lnTo>
                      <a:pt x="13465" y="3"/>
                    </a:lnTo>
                    <a:cubicBezTo>
                      <a:pt x="13466" y="3"/>
                      <a:pt x="13467" y="4"/>
                      <a:pt x="13467" y="5"/>
                    </a:cubicBezTo>
                    <a:cubicBezTo>
                      <a:pt x="13467" y="7"/>
                      <a:pt x="13466" y="7"/>
                      <a:pt x="13465" y="7"/>
                    </a:cubicBezTo>
                    <a:lnTo>
                      <a:pt x="13465" y="7"/>
                    </a:lnTo>
                    <a:cubicBezTo>
                      <a:pt x="13464" y="7"/>
                      <a:pt x="13463" y="7"/>
                      <a:pt x="13463" y="5"/>
                    </a:cubicBezTo>
                    <a:cubicBezTo>
                      <a:pt x="13463" y="4"/>
                      <a:pt x="13464" y="3"/>
                      <a:pt x="13465" y="3"/>
                    </a:cubicBezTo>
                    <a:close/>
                    <a:moveTo>
                      <a:pt x="13473" y="3"/>
                    </a:moveTo>
                    <a:lnTo>
                      <a:pt x="13473" y="3"/>
                    </a:lnTo>
                    <a:cubicBezTo>
                      <a:pt x="13474" y="3"/>
                      <a:pt x="13475" y="4"/>
                      <a:pt x="13475" y="5"/>
                    </a:cubicBezTo>
                    <a:cubicBezTo>
                      <a:pt x="13475" y="7"/>
                      <a:pt x="13474" y="7"/>
                      <a:pt x="13473" y="7"/>
                    </a:cubicBezTo>
                    <a:lnTo>
                      <a:pt x="13473" y="7"/>
                    </a:lnTo>
                    <a:cubicBezTo>
                      <a:pt x="13472" y="7"/>
                      <a:pt x="13471" y="7"/>
                      <a:pt x="13471" y="5"/>
                    </a:cubicBezTo>
                    <a:cubicBezTo>
                      <a:pt x="13471" y="4"/>
                      <a:pt x="13472" y="3"/>
                      <a:pt x="13473" y="3"/>
                    </a:cubicBezTo>
                    <a:close/>
                    <a:moveTo>
                      <a:pt x="13481" y="3"/>
                    </a:moveTo>
                    <a:lnTo>
                      <a:pt x="13481" y="3"/>
                    </a:lnTo>
                    <a:cubicBezTo>
                      <a:pt x="13482" y="3"/>
                      <a:pt x="13483" y="4"/>
                      <a:pt x="13483" y="5"/>
                    </a:cubicBezTo>
                    <a:cubicBezTo>
                      <a:pt x="13483" y="7"/>
                      <a:pt x="13482" y="7"/>
                      <a:pt x="13481" y="7"/>
                    </a:cubicBezTo>
                    <a:lnTo>
                      <a:pt x="13481" y="7"/>
                    </a:lnTo>
                    <a:cubicBezTo>
                      <a:pt x="13480" y="7"/>
                      <a:pt x="13479" y="7"/>
                      <a:pt x="13479" y="5"/>
                    </a:cubicBezTo>
                    <a:cubicBezTo>
                      <a:pt x="13479" y="4"/>
                      <a:pt x="13480" y="3"/>
                      <a:pt x="13481" y="3"/>
                    </a:cubicBezTo>
                    <a:close/>
                    <a:moveTo>
                      <a:pt x="13489" y="3"/>
                    </a:moveTo>
                    <a:lnTo>
                      <a:pt x="13489" y="3"/>
                    </a:lnTo>
                    <a:cubicBezTo>
                      <a:pt x="13490" y="3"/>
                      <a:pt x="13491" y="4"/>
                      <a:pt x="13491" y="5"/>
                    </a:cubicBezTo>
                    <a:cubicBezTo>
                      <a:pt x="13491" y="7"/>
                      <a:pt x="13490" y="7"/>
                      <a:pt x="13489" y="7"/>
                    </a:cubicBezTo>
                    <a:lnTo>
                      <a:pt x="13489" y="7"/>
                    </a:lnTo>
                    <a:cubicBezTo>
                      <a:pt x="13488" y="7"/>
                      <a:pt x="13487" y="7"/>
                      <a:pt x="13487" y="5"/>
                    </a:cubicBezTo>
                    <a:cubicBezTo>
                      <a:pt x="13487" y="4"/>
                      <a:pt x="13488" y="3"/>
                      <a:pt x="13489" y="3"/>
                    </a:cubicBezTo>
                    <a:close/>
                    <a:moveTo>
                      <a:pt x="13497" y="3"/>
                    </a:moveTo>
                    <a:lnTo>
                      <a:pt x="13497" y="3"/>
                    </a:lnTo>
                    <a:cubicBezTo>
                      <a:pt x="13498" y="3"/>
                      <a:pt x="13499" y="4"/>
                      <a:pt x="13499" y="5"/>
                    </a:cubicBezTo>
                    <a:cubicBezTo>
                      <a:pt x="13499" y="7"/>
                      <a:pt x="13498" y="7"/>
                      <a:pt x="13497" y="7"/>
                    </a:cubicBezTo>
                    <a:lnTo>
                      <a:pt x="13497" y="7"/>
                    </a:lnTo>
                    <a:cubicBezTo>
                      <a:pt x="13496" y="7"/>
                      <a:pt x="13495" y="7"/>
                      <a:pt x="13495" y="5"/>
                    </a:cubicBezTo>
                    <a:cubicBezTo>
                      <a:pt x="13495" y="4"/>
                      <a:pt x="13496" y="3"/>
                      <a:pt x="13497" y="3"/>
                    </a:cubicBezTo>
                    <a:close/>
                    <a:moveTo>
                      <a:pt x="13505" y="3"/>
                    </a:moveTo>
                    <a:lnTo>
                      <a:pt x="13505" y="3"/>
                    </a:lnTo>
                    <a:cubicBezTo>
                      <a:pt x="13506" y="3"/>
                      <a:pt x="13507" y="4"/>
                      <a:pt x="13507" y="5"/>
                    </a:cubicBezTo>
                    <a:cubicBezTo>
                      <a:pt x="13507" y="7"/>
                      <a:pt x="13506" y="7"/>
                      <a:pt x="13505" y="7"/>
                    </a:cubicBezTo>
                    <a:lnTo>
                      <a:pt x="13505" y="7"/>
                    </a:lnTo>
                    <a:cubicBezTo>
                      <a:pt x="13504" y="7"/>
                      <a:pt x="13503" y="7"/>
                      <a:pt x="13503" y="5"/>
                    </a:cubicBezTo>
                    <a:cubicBezTo>
                      <a:pt x="13503" y="4"/>
                      <a:pt x="13504" y="3"/>
                      <a:pt x="13505" y="3"/>
                    </a:cubicBezTo>
                    <a:close/>
                    <a:moveTo>
                      <a:pt x="13513" y="3"/>
                    </a:moveTo>
                    <a:lnTo>
                      <a:pt x="13513" y="3"/>
                    </a:lnTo>
                    <a:cubicBezTo>
                      <a:pt x="13514" y="3"/>
                      <a:pt x="13515" y="4"/>
                      <a:pt x="13515" y="5"/>
                    </a:cubicBezTo>
                    <a:cubicBezTo>
                      <a:pt x="13515" y="7"/>
                      <a:pt x="13514" y="7"/>
                      <a:pt x="13513" y="7"/>
                    </a:cubicBezTo>
                    <a:lnTo>
                      <a:pt x="13513" y="7"/>
                    </a:lnTo>
                    <a:cubicBezTo>
                      <a:pt x="13512" y="7"/>
                      <a:pt x="13511" y="7"/>
                      <a:pt x="13511" y="5"/>
                    </a:cubicBezTo>
                    <a:cubicBezTo>
                      <a:pt x="13511" y="4"/>
                      <a:pt x="13512" y="3"/>
                      <a:pt x="13513" y="3"/>
                    </a:cubicBezTo>
                    <a:close/>
                    <a:moveTo>
                      <a:pt x="13521" y="3"/>
                    </a:moveTo>
                    <a:lnTo>
                      <a:pt x="13521" y="3"/>
                    </a:lnTo>
                    <a:cubicBezTo>
                      <a:pt x="13522" y="3"/>
                      <a:pt x="13523" y="4"/>
                      <a:pt x="13523" y="5"/>
                    </a:cubicBezTo>
                    <a:cubicBezTo>
                      <a:pt x="13523" y="7"/>
                      <a:pt x="13522" y="7"/>
                      <a:pt x="13521" y="7"/>
                    </a:cubicBezTo>
                    <a:lnTo>
                      <a:pt x="13521" y="7"/>
                    </a:lnTo>
                    <a:cubicBezTo>
                      <a:pt x="13520" y="7"/>
                      <a:pt x="13519" y="7"/>
                      <a:pt x="13519" y="5"/>
                    </a:cubicBezTo>
                    <a:cubicBezTo>
                      <a:pt x="13519" y="4"/>
                      <a:pt x="13520" y="3"/>
                      <a:pt x="13521" y="3"/>
                    </a:cubicBezTo>
                    <a:close/>
                    <a:moveTo>
                      <a:pt x="13529" y="3"/>
                    </a:moveTo>
                    <a:lnTo>
                      <a:pt x="13529" y="3"/>
                    </a:lnTo>
                    <a:cubicBezTo>
                      <a:pt x="13530" y="3"/>
                      <a:pt x="13531" y="4"/>
                      <a:pt x="13531" y="5"/>
                    </a:cubicBezTo>
                    <a:cubicBezTo>
                      <a:pt x="13531" y="7"/>
                      <a:pt x="13530" y="7"/>
                      <a:pt x="13529" y="7"/>
                    </a:cubicBezTo>
                    <a:lnTo>
                      <a:pt x="13529" y="7"/>
                    </a:lnTo>
                    <a:cubicBezTo>
                      <a:pt x="13528" y="7"/>
                      <a:pt x="13527" y="7"/>
                      <a:pt x="13527" y="5"/>
                    </a:cubicBezTo>
                    <a:cubicBezTo>
                      <a:pt x="13527" y="4"/>
                      <a:pt x="13528" y="3"/>
                      <a:pt x="13529" y="3"/>
                    </a:cubicBezTo>
                    <a:close/>
                    <a:moveTo>
                      <a:pt x="13537" y="3"/>
                    </a:moveTo>
                    <a:lnTo>
                      <a:pt x="13537" y="3"/>
                    </a:lnTo>
                    <a:cubicBezTo>
                      <a:pt x="13538" y="3"/>
                      <a:pt x="13539" y="4"/>
                      <a:pt x="13539" y="5"/>
                    </a:cubicBezTo>
                    <a:cubicBezTo>
                      <a:pt x="13539" y="7"/>
                      <a:pt x="13538" y="7"/>
                      <a:pt x="13537" y="7"/>
                    </a:cubicBezTo>
                    <a:lnTo>
                      <a:pt x="13537" y="7"/>
                    </a:lnTo>
                    <a:cubicBezTo>
                      <a:pt x="13536" y="7"/>
                      <a:pt x="13535" y="7"/>
                      <a:pt x="13535" y="5"/>
                    </a:cubicBezTo>
                    <a:cubicBezTo>
                      <a:pt x="13535" y="4"/>
                      <a:pt x="13536" y="3"/>
                      <a:pt x="13537" y="3"/>
                    </a:cubicBezTo>
                    <a:close/>
                    <a:moveTo>
                      <a:pt x="13545" y="3"/>
                    </a:moveTo>
                    <a:lnTo>
                      <a:pt x="13545" y="3"/>
                    </a:lnTo>
                    <a:cubicBezTo>
                      <a:pt x="13546" y="3"/>
                      <a:pt x="13547" y="4"/>
                      <a:pt x="13547" y="5"/>
                    </a:cubicBezTo>
                    <a:cubicBezTo>
                      <a:pt x="13547" y="7"/>
                      <a:pt x="13546" y="7"/>
                      <a:pt x="13545" y="7"/>
                    </a:cubicBezTo>
                    <a:lnTo>
                      <a:pt x="13545" y="7"/>
                    </a:lnTo>
                    <a:cubicBezTo>
                      <a:pt x="13544" y="7"/>
                      <a:pt x="13543" y="7"/>
                      <a:pt x="13543" y="5"/>
                    </a:cubicBezTo>
                    <a:cubicBezTo>
                      <a:pt x="13543" y="4"/>
                      <a:pt x="13544" y="3"/>
                      <a:pt x="13545" y="3"/>
                    </a:cubicBezTo>
                    <a:close/>
                    <a:moveTo>
                      <a:pt x="13553" y="3"/>
                    </a:moveTo>
                    <a:lnTo>
                      <a:pt x="13553" y="3"/>
                    </a:lnTo>
                    <a:cubicBezTo>
                      <a:pt x="13554" y="3"/>
                      <a:pt x="13555" y="4"/>
                      <a:pt x="13555" y="5"/>
                    </a:cubicBezTo>
                    <a:cubicBezTo>
                      <a:pt x="13555" y="7"/>
                      <a:pt x="13554" y="7"/>
                      <a:pt x="13553" y="7"/>
                    </a:cubicBezTo>
                    <a:lnTo>
                      <a:pt x="13553" y="7"/>
                    </a:lnTo>
                    <a:cubicBezTo>
                      <a:pt x="13552" y="7"/>
                      <a:pt x="13551" y="7"/>
                      <a:pt x="13551" y="5"/>
                    </a:cubicBezTo>
                    <a:cubicBezTo>
                      <a:pt x="13551" y="4"/>
                      <a:pt x="13552" y="3"/>
                      <a:pt x="13553" y="3"/>
                    </a:cubicBezTo>
                    <a:close/>
                    <a:moveTo>
                      <a:pt x="13561" y="3"/>
                    </a:moveTo>
                    <a:lnTo>
                      <a:pt x="13561" y="3"/>
                    </a:lnTo>
                    <a:cubicBezTo>
                      <a:pt x="13562" y="3"/>
                      <a:pt x="13563" y="4"/>
                      <a:pt x="13563" y="5"/>
                    </a:cubicBezTo>
                    <a:cubicBezTo>
                      <a:pt x="13563" y="7"/>
                      <a:pt x="13562" y="7"/>
                      <a:pt x="13561" y="7"/>
                    </a:cubicBezTo>
                    <a:lnTo>
                      <a:pt x="13561" y="7"/>
                    </a:lnTo>
                    <a:cubicBezTo>
                      <a:pt x="13560" y="7"/>
                      <a:pt x="13559" y="7"/>
                      <a:pt x="13559" y="5"/>
                    </a:cubicBezTo>
                    <a:cubicBezTo>
                      <a:pt x="13559" y="4"/>
                      <a:pt x="13560" y="3"/>
                      <a:pt x="13561" y="3"/>
                    </a:cubicBezTo>
                    <a:close/>
                    <a:moveTo>
                      <a:pt x="13569" y="3"/>
                    </a:moveTo>
                    <a:lnTo>
                      <a:pt x="13569" y="3"/>
                    </a:lnTo>
                    <a:cubicBezTo>
                      <a:pt x="13570" y="3"/>
                      <a:pt x="13571" y="4"/>
                      <a:pt x="13571" y="5"/>
                    </a:cubicBezTo>
                    <a:cubicBezTo>
                      <a:pt x="13571" y="7"/>
                      <a:pt x="13570" y="7"/>
                      <a:pt x="13569" y="7"/>
                    </a:cubicBezTo>
                    <a:lnTo>
                      <a:pt x="13569" y="7"/>
                    </a:lnTo>
                    <a:cubicBezTo>
                      <a:pt x="13568" y="7"/>
                      <a:pt x="13567" y="7"/>
                      <a:pt x="13567" y="5"/>
                    </a:cubicBezTo>
                    <a:cubicBezTo>
                      <a:pt x="13567" y="4"/>
                      <a:pt x="13568" y="3"/>
                      <a:pt x="13569" y="3"/>
                    </a:cubicBezTo>
                    <a:close/>
                    <a:moveTo>
                      <a:pt x="13577" y="3"/>
                    </a:moveTo>
                    <a:lnTo>
                      <a:pt x="13577" y="3"/>
                    </a:lnTo>
                    <a:cubicBezTo>
                      <a:pt x="13578" y="3"/>
                      <a:pt x="13579" y="4"/>
                      <a:pt x="13579" y="5"/>
                    </a:cubicBezTo>
                    <a:cubicBezTo>
                      <a:pt x="13579" y="7"/>
                      <a:pt x="13578" y="7"/>
                      <a:pt x="13577" y="7"/>
                    </a:cubicBezTo>
                    <a:lnTo>
                      <a:pt x="13577" y="7"/>
                    </a:lnTo>
                    <a:cubicBezTo>
                      <a:pt x="13576" y="7"/>
                      <a:pt x="13575" y="7"/>
                      <a:pt x="13575" y="5"/>
                    </a:cubicBezTo>
                    <a:cubicBezTo>
                      <a:pt x="13575" y="4"/>
                      <a:pt x="13576" y="3"/>
                      <a:pt x="13577" y="3"/>
                    </a:cubicBezTo>
                    <a:close/>
                    <a:moveTo>
                      <a:pt x="13585" y="3"/>
                    </a:moveTo>
                    <a:lnTo>
                      <a:pt x="13585" y="3"/>
                    </a:lnTo>
                    <a:cubicBezTo>
                      <a:pt x="13586" y="3"/>
                      <a:pt x="13587" y="4"/>
                      <a:pt x="13587" y="5"/>
                    </a:cubicBezTo>
                    <a:cubicBezTo>
                      <a:pt x="13587" y="7"/>
                      <a:pt x="13586" y="7"/>
                      <a:pt x="13585" y="7"/>
                    </a:cubicBezTo>
                    <a:lnTo>
                      <a:pt x="13585" y="7"/>
                    </a:lnTo>
                    <a:cubicBezTo>
                      <a:pt x="13584" y="7"/>
                      <a:pt x="13583" y="7"/>
                      <a:pt x="13583" y="5"/>
                    </a:cubicBezTo>
                    <a:cubicBezTo>
                      <a:pt x="13583" y="4"/>
                      <a:pt x="13584" y="3"/>
                      <a:pt x="13585" y="3"/>
                    </a:cubicBezTo>
                    <a:close/>
                    <a:moveTo>
                      <a:pt x="13593" y="3"/>
                    </a:moveTo>
                    <a:lnTo>
                      <a:pt x="13593" y="3"/>
                    </a:lnTo>
                    <a:cubicBezTo>
                      <a:pt x="13594" y="3"/>
                      <a:pt x="13595" y="4"/>
                      <a:pt x="13595" y="5"/>
                    </a:cubicBezTo>
                    <a:cubicBezTo>
                      <a:pt x="13595" y="7"/>
                      <a:pt x="13594" y="7"/>
                      <a:pt x="13593" y="7"/>
                    </a:cubicBezTo>
                    <a:lnTo>
                      <a:pt x="13593" y="7"/>
                    </a:lnTo>
                    <a:cubicBezTo>
                      <a:pt x="13592" y="7"/>
                      <a:pt x="13591" y="7"/>
                      <a:pt x="13591" y="5"/>
                    </a:cubicBezTo>
                    <a:cubicBezTo>
                      <a:pt x="13591" y="4"/>
                      <a:pt x="13592" y="3"/>
                      <a:pt x="13593" y="3"/>
                    </a:cubicBezTo>
                    <a:close/>
                    <a:moveTo>
                      <a:pt x="13601" y="3"/>
                    </a:moveTo>
                    <a:lnTo>
                      <a:pt x="13601" y="3"/>
                    </a:lnTo>
                    <a:cubicBezTo>
                      <a:pt x="13602" y="3"/>
                      <a:pt x="13603" y="4"/>
                      <a:pt x="13603" y="5"/>
                    </a:cubicBezTo>
                    <a:cubicBezTo>
                      <a:pt x="13603" y="7"/>
                      <a:pt x="13602" y="7"/>
                      <a:pt x="13601" y="7"/>
                    </a:cubicBezTo>
                    <a:lnTo>
                      <a:pt x="13601" y="7"/>
                    </a:lnTo>
                    <a:cubicBezTo>
                      <a:pt x="13600" y="7"/>
                      <a:pt x="13599" y="7"/>
                      <a:pt x="13599" y="5"/>
                    </a:cubicBezTo>
                    <a:cubicBezTo>
                      <a:pt x="13599" y="4"/>
                      <a:pt x="13600" y="3"/>
                      <a:pt x="13601" y="3"/>
                    </a:cubicBezTo>
                    <a:close/>
                    <a:moveTo>
                      <a:pt x="13609" y="3"/>
                    </a:moveTo>
                    <a:lnTo>
                      <a:pt x="13609" y="3"/>
                    </a:lnTo>
                    <a:cubicBezTo>
                      <a:pt x="13610" y="3"/>
                      <a:pt x="13611" y="4"/>
                      <a:pt x="13611" y="5"/>
                    </a:cubicBezTo>
                    <a:cubicBezTo>
                      <a:pt x="13611" y="7"/>
                      <a:pt x="13610" y="7"/>
                      <a:pt x="13609" y="7"/>
                    </a:cubicBezTo>
                    <a:lnTo>
                      <a:pt x="13609" y="7"/>
                    </a:lnTo>
                    <a:cubicBezTo>
                      <a:pt x="13608" y="7"/>
                      <a:pt x="13607" y="7"/>
                      <a:pt x="13607" y="5"/>
                    </a:cubicBezTo>
                    <a:cubicBezTo>
                      <a:pt x="13607" y="4"/>
                      <a:pt x="13608" y="3"/>
                      <a:pt x="13609" y="3"/>
                    </a:cubicBezTo>
                    <a:close/>
                    <a:moveTo>
                      <a:pt x="13617" y="3"/>
                    </a:moveTo>
                    <a:lnTo>
                      <a:pt x="13617" y="3"/>
                    </a:lnTo>
                    <a:cubicBezTo>
                      <a:pt x="13618" y="3"/>
                      <a:pt x="13619" y="4"/>
                      <a:pt x="13619" y="5"/>
                    </a:cubicBezTo>
                    <a:cubicBezTo>
                      <a:pt x="13619" y="7"/>
                      <a:pt x="13618" y="7"/>
                      <a:pt x="13617" y="7"/>
                    </a:cubicBezTo>
                    <a:lnTo>
                      <a:pt x="13617" y="7"/>
                    </a:lnTo>
                    <a:cubicBezTo>
                      <a:pt x="13616" y="7"/>
                      <a:pt x="13615" y="7"/>
                      <a:pt x="13615" y="5"/>
                    </a:cubicBezTo>
                    <a:cubicBezTo>
                      <a:pt x="13615" y="4"/>
                      <a:pt x="13616" y="3"/>
                      <a:pt x="13617" y="3"/>
                    </a:cubicBezTo>
                    <a:close/>
                    <a:moveTo>
                      <a:pt x="13625" y="3"/>
                    </a:moveTo>
                    <a:lnTo>
                      <a:pt x="13625" y="3"/>
                    </a:lnTo>
                    <a:cubicBezTo>
                      <a:pt x="13626" y="3"/>
                      <a:pt x="13627" y="4"/>
                      <a:pt x="13627" y="5"/>
                    </a:cubicBezTo>
                    <a:cubicBezTo>
                      <a:pt x="13627" y="7"/>
                      <a:pt x="13626" y="7"/>
                      <a:pt x="13625" y="7"/>
                    </a:cubicBezTo>
                    <a:lnTo>
                      <a:pt x="13625" y="7"/>
                    </a:lnTo>
                    <a:cubicBezTo>
                      <a:pt x="13624" y="7"/>
                      <a:pt x="13623" y="7"/>
                      <a:pt x="13623" y="5"/>
                    </a:cubicBezTo>
                    <a:cubicBezTo>
                      <a:pt x="13623" y="4"/>
                      <a:pt x="13624" y="3"/>
                      <a:pt x="13625" y="3"/>
                    </a:cubicBezTo>
                    <a:close/>
                    <a:moveTo>
                      <a:pt x="13633" y="3"/>
                    </a:moveTo>
                    <a:lnTo>
                      <a:pt x="13633" y="3"/>
                    </a:lnTo>
                    <a:cubicBezTo>
                      <a:pt x="13634" y="3"/>
                      <a:pt x="13635" y="4"/>
                      <a:pt x="13635" y="5"/>
                    </a:cubicBezTo>
                    <a:cubicBezTo>
                      <a:pt x="13635" y="7"/>
                      <a:pt x="13634" y="7"/>
                      <a:pt x="13633" y="7"/>
                    </a:cubicBezTo>
                    <a:lnTo>
                      <a:pt x="13633" y="7"/>
                    </a:lnTo>
                    <a:cubicBezTo>
                      <a:pt x="13632" y="7"/>
                      <a:pt x="13631" y="7"/>
                      <a:pt x="13631" y="5"/>
                    </a:cubicBezTo>
                    <a:cubicBezTo>
                      <a:pt x="13631" y="4"/>
                      <a:pt x="13632" y="3"/>
                      <a:pt x="13633" y="3"/>
                    </a:cubicBezTo>
                    <a:close/>
                    <a:moveTo>
                      <a:pt x="13641" y="3"/>
                    </a:moveTo>
                    <a:lnTo>
                      <a:pt x="13641" y="3"/>
                    </a:lnTo>
                    <a:cubicBezTo>
                      <a:pt x="13642" y="3"/>
                      <a:pt x="13643" y="4"/>
                      <a:pt x="13643" y="5"/>
                    </a:cubicBezTo>
                    <a:cubicBezTo>
                      <a:pt x="13643" y="7"/>
                      <a:pt x="13642" y="7"/>
                      <a:pt x="13641" y="7"/>
                    </a:cubicBezTo>
                    <a:lnTo>
                      <a:pt x="13641" y="7"/>
                    </a:lnTo>
                    <a:cubicBezTo>
                      <a:pt x="13640" y="7"/>
                      <a:pt x="13639" y="7"/>
                      <a:pt x="13639" y="5"/>
                    </a:cubicBezTo>
                    <a:cubicBezTo>
                      <a:pt x="13639" y="4"/>
                      <a:pt x="13640" y="3"/>
                      <a:pt x="13641" y="3"/>
                    </a:cubicBezTo>
                    <a:close/>
                    <a:moveTo>
                      <a:pt x="13649" y="3"/>
                    </a:moveTo>
                    <a:lnTo>
                      <a:pt x="13649" y="3"/>
                    </a:lnTo>
                    <a:cubicBezTo>
                      <a:pt x="13650" y="3"/>
                      <a:pt x="13651" y="4"/>
                      <a:pt x="13651" y="5"/>
                    </a:cubicBezTo>
                    <a:cubicBezTo>
                      <a:pt x="13651" y="7"/>
                      <a:pt x="13650" y="7"/>
                      <a:pt x="13649" y="7"/>
                    </a:cubicBezTo>
                    <a:lnTo>
                      <a:pt x="13649" y="7"/>
                    </a:lnTo>
                    <a:cubicBezTo>
                      <a:pt x="13648" y="7"/>
                      <a:pt x="13647" y="7"/>
                      <a:pt x="13647" y="5"/>
                    </a:cubicBezTo>
                    <a:cubicBezTo>
                      <a:pt x="13647" y="4"/>
                      <a:pt x="13648" y="3"/>
                      <a:pt x="13649" y="3"/>
                    </a:cubicBezTo>
                    <a:close/>
                    <a:moveTo>
                      <a:pt x="13657" y="3"/>
                    </a:moveTo>
                    <a:lnTo>
                      <a:pt x="13657" y="3"/>
                    </a:lnTo>
                    <a:cubicBezTo>
                      <a:pt x="13658" y="3"/>
                      <a:pt x="13659" y="4"/>
                      <a:pt x="13659" y="5"/>
                    </a:cubicBezTo>
                    <a:cubicBezTo>
                      <a:pt x="13659" y="7"/>
                      <a:pt x="13658" y="7"/>
                      <a:pt x="13657" y="7"/>
                    </a:cubicBezTo>
                    <a:lnTo>
                      <a:pt x="13657" y="7"/>
                    </a:lnTo>
                    <a:cubicBezTo>
                      <a:pt x="13656" y="7"/>
                      <a:pt x="13655" y="7"/>
                      <a:pt x="13655" y="5"/>
                    </a:cubicBezTo>
                    <a:cubicBezTo>
                      <a:pt x="13655" y="4"/>
                      <a:pt x="13656" y="3"/>
                      <a:pt x="13657" y="3"/>
                    </a:cubicBezTo>
                    <a:close/>
                    <a:moveTo>
                      <a:pt x="13665" y="3"/>
                    </a:moveTo>
                    <a:lnTo>
                      <a:pt x="13665" y="3"/>
                    </a:lnTo>
                    <a:cubicBezTo>
                      <a:pt x="13666" y="3"/>
                      <a:pt x="13667" y="4"/>
                      <a:pt x="13667" y="5"/>
                    </a:cubicBezTo>
                    <a:cubicBezTo>
                      <a:pt x="13667" y="7"/>
                      <a:pt x="13666" y="7"/>
                      <a:pt x="13665" y="7"/>
                    </a:cubicBezTo>
                    <a:lnTo>
                      <a:pt x="13665" y="7"/>
                    </a:lnTo>
                    <a:cubicBezTo>
                      <a:pt x="13664" y="7"/>
                      <a:pt x="13663" y="7"/>
                      <a:pt x="13663" y="5"/>
                    </a:cubicBezTo>
                    <a:cubicBezTo>
                      <a:pt x="13663" y="4"/>
                      <a:pt x="13664" y="3"/>
                      <a:pt x="13665" y="3"/>
                    </a:cubicBezTo>
                    <a:close/>
                    <a:moveTo>
                      <a:pt x="13673" y="3"/>
                    </a:moveTo>
                    <a:lnTo>
                      <a:pt x="13673" y="3"/>
                    </a:lnTo>
                    <a:cubicBezTo>
                      <a:pt x="13674" y="3"/>
                      <a:pt x="13675" y="4"/>
                      <a:pt x="13675" y="5"/>
                    </a:cubicBezTo>
                    <a:cubicBezTo>
                      <a:pt x="13675" y="7"/>
                      <a:pt x="13674" y="7"/>
                      <a:pt x="13673" y="7"/>
                    </a:cubicBezTo>
                    <a:lnTo>
                      <a:pt x="13673" y="7"/>
                    </a:lnTo>
                    <a:cubicBezTo>
                      <a:pt x="13672" y="7"/>
                      <a:pt x="13671" y="7"/>
                      <a:pt x="13671" y="5"/>
                    </a:cubicBezTo>
                    <a:cubicBezTo>
                      <a:pt x="13671" y="4"/>
                      <a:pt x="13672" y="3"/>
                      <a:pt x="13673" y="3"/>
                    </a:cubicBezTo>
                    <a:close/>
                    <a:moveTo>
                      <a:pt x="13681" y="3"/>
                    </a:moveTo>
                    <a:lnTo>
                      <a:pt x="13681" y="3"/>
                    </a:lnTo>
                    <a:cubicBezTo>
                      <a:pt x="13682" y="3"/>
                      <a:pt x="13683" y="4"/>
                      <a:pt x="13683" y="5"/>
                    </a:cubicBezTo>
                    <a:cubicBezTo>
                      <a:pt x="13683" y="7"/>
                      <a:pt x="13682" y="7"/>
                      <a:pt x="13681" y="7"/>
                    </a:cubicBezTo>
                    <a:lnTo>
                      <a:pt x="13681" y="7"/>
                    </a:lnTo>
                    <a:cubicBezTo>
                      <a:pt x="13680" y="7"/>
                      <a:pt x="13679" y="7"/>
                      <a:pt x="13679" y="5"/>
                    </a:cubicBezTo>
                    <a:cubicBezTo>
                      <a:pt x="13679" y="4"/>
                      <a:pt x="13680" y="3"/>
                      <a:pt x="13681" y="3"/>
                    </a:cubicBezTo>
                    <a:close/>
                    <a:moveTo>
                      <a:pt x="13689" y="3"/>
                    </a:moveTo>
                    <a:lnTo>
                      <a:pt x="13689" y="3"/>
                    </a:lnTo>
                    <a:cubicBezTo>
                      <a:pt x="13690" y="3"/>
                      <a:pt x="13691" y="4"/>
                      <a:pt x="13691" y="5"/>
                    </a:cubicBezTo>
                    <a:cubicBezTo>
                      <a:pt x="13691" y="7"/>
                      <a:pt x="13690" y="7"/>
                      <a:pt x="13689" y="7"/>
                    </a:cubicBezTo>
                    <a:lnTo>
                      <a:pt x="13689" y="7"/>
                    </a:lnTo>
                    <a:cubicBezTo>
                      <a:pt x="13688" y="7"/>
                      <a:pt x="13687" y="7"/>
                      <a:pt x="13687" y="5"/>
                    </a:cubicBezTo>
                    <a:cubicBezTo>
                      <a:pt x="13687" y="4"/>
                      <a:pt x="13688" y="3"/>
                      <a:pt x="13689" y="3"/>
                    </a:cubicBezTo>
                    <a:close/>
                    <a:moveTo>
                      <a:pt x="13697" y="3"/>
                    </a:moveTo>
                    <a:lnTo>
                      <a:pt x="13697" y="3"/>
                    </a:lnTo>
                    <a:cubicBezTo>
                      <a:pt x="13698" y="3"/>
                      <a:pt x="13699" y="4"/>
                      <a:pt x="13699" y="5"/>
                    </a:cubicBezTo>
                    <a:cubicBezTo>
                      <a:pt x="13699" y="7"/>
                      <a:pt x="13698" y="7"/>
                      <a:pt x="13697" y="7"/>
                    </a:cubicBezTo>
                    <a:lnTo>
                      <a:pt x="13697" y="7"/>
                    </a:lnTo>
                    <a:cubicBezTo>
                      <a:pt x="13696" y="7"/>
                      <a:pt x="13695" y="7"/>
                      <a:pt x="13695" y="5"/>
                    </a:cubicBezTo>
                    <a:cubicBezTo>
                      <a:pt x="13695" y="4"/>
                      <a:pt x="13696" y="3"/>
                      <a:pt x="13697" y="3"/>
                    </a:cubicBezTo>
                    <a:close/>
                    <a:moveTo>
                      <a:pt x="13705" y="3"/>
                    </a:moveTo>
                    <a:lnTo>
                      <a:pt x="13705" y="3"/>
                    </a:lnTo>
                    <a:cubicBezTo>
                      <a:pt x="13706" y="3"/>
                      <a:pt x="13707" y="4"/>
                      <a:pt x="13707" y="5"/>
                    </a:cubicBezTo>
                    <a:cubicBezTo>
                      <a:pt x="13707" y="7"/>
                      <a:pt x="13706" y="7"/>
                      <a:pt x="13705" y="7"/>
                    </a:cubicBezTo>
                    <a:lnTo>
                      <a:pt x="13705" y="7"/>
                    </a:lnTo>
                    <a:cubicBezTo>
                      <a:pt x="13704" y="7"/>
                      <a:pt x="13703" y="7"/>
                      <a:pt x="13703" y="5"/>
                    </a:cubicBezTo>
                    <a:cubicBezTo>
                      <a:pt x="13703" y="4"/>
                      <a:pt x="13704" y="3"/>
                      <a:pt x="13705" y="3"/>
                    </a:cubicBezTo>
                    <a:close/>
                    <a:moveTo>
                      <a:pt x="13713" y="3"/>
                    </a:moveTo>
                    <a:lnTo>
                      <a:pt x="13713" y="3"/>
                    </a:lnTo>
                    <a:cubicBezTo>
                      <a:pt x="13714" y="3"/>
                      <a:pt x="13715" y="4"/>
                      <a:pt x="13715" y="5"/>
                    </a:cubicBezTo>
                    <a:cubicBezTo>
                      <a:pt x="13715" y="7"/>
                      <a:pt x="13714" y="7"/>
                      <a:pt x="13713" y="7"/>
                    </a:cubicBezTo>
                    <a:lnTo>
                      <a:pt x="13713" y="7"/>
                    </a:lnTo>
                    <a:cubicBezTo>
                      <a:pt x="13712" y="7"/>
                      <a:pt x="13711" y="7"/>
                      <a:pt x="13711" y="5"/>
                    </a:cubicBezTo>
                    <a:cubicBezTo>
                      <a:pt x="13711" y="4"/>
                      <a:pt x="13712" y="3"/>
                      <a:pt x="13713" y="3"/>
                    </a:cubicBezTo>
                    <a:close/>
                    <a:moveTo>
                      <a:pt x="13721" y="3"/>
                    </a:moveTo>
                    <a:lnTo>
                      <a:pt x="13721" y="3"/>
                    </a:lnTo>
                    <a:cubicBezTo>
                      <a:pt x="13722" y="3"/>
                      <a:pt x="13723" y="4"/>
                      <a:pt x="13723" y="5"/>
                    </a:cubicBezTo>
                    <a:cubicBezTo>
                      <a:pt x="13723" y="7"/>
                      <a:pt x="13722" y="7"/>
                      <a:pt x="13721" y="7"/>
                    </a:cubicBezTo>
                    <a:lnTo>
                      <a:pt x="13721" y="7"/>
                    </a:lnTo>
                    <a:cubicBezTo>
                      <a:pt x="13720" y="7"/>
                      <a:pt x="13719" y="7"/>
                      <a:pt x="13719" y="5"/>
                    </a:cubicBezTo>
                    <a:cubicBezTo>
                      <a:pt x="13719" y="4"/>
                      <a:pt x="13720" y="3"/>
                      <a:pt x="13721" y="3"/>
                    </a:cubicBezTo>
                    <a:close/>
                    <a:moveTo>
                      <a:pt x="13729" y="3"/>
                    </a:moveTo>
                    <a:lnTo>
                      <a:pt x="13729" y="3"/>
                    </a:lnTo>
                    <a:cubicBezTo>
                      <a:pt x="13730" y="3"/>
                      <a:pt x="13731" y="4"/>
                      <a:pt x="13731" y="5"/>
                    </a:cubicBezTo>
                    <a:cubicBezTo>
                      <a:pt x="13731" y="7"/>
                      <a:pt x="13730" y="7"/>
                      <a:pt x="13729" y="7"/>
                    </a:cubicBezTo>
                    <a:lnTo>
                      <a:pt x="13729" y="7"/>
                    </a:lnTo>
                    <a:cubicBezTo>
                      <a:pt x="13728" y="7"/>
                      <a:pt x="13727" y="7"/>
                      <a:pt x="13727" y="5"/>
                    </a:cubicBezTo>
                    <a:cubicBezTo>
                      <a:pt x="13727" y="4"/>
                      <a:pt x="13728" y="3"/>
                      <a:pt x="13729" y="3"/>
                    </a:cubicBezTo>
                    <a:close/>
                    <a:moveTo>
                      <a:pt x="13737" y="3"/>
                    </a:moveTo>
                    <a:lnTo>
                      <a:pt x="13737" y="3"/>
                    </a:lnTo>
                    <a:cubicBezTo>
                      <a:pt x="13738" y="3"/>
                      <a:pt x="13739" y="4"/>
                      <a:pt x="13739" y="5"/>
                    </a:cubicBezTo>
                    <a:cubicBezTo>
                      <a:pt x="13739" y="7"/>
                      <a:pt x="13738" y="7"/>
                      <a:pt x="13737" y="7"/>
                    </a:cubicBezTo>
                    <a:lnTo>
                      <a:pt x="13737" y="7"/>
                    </a:lnTo>
                    <a:cubicBezTo>
                      <a:pt x="13736" y="7"/>
                      <a:pt x="13735" y="7"/>
                      <a:pt x="13735" y="5"/>
                    </a:cubicBezTo>
                    <a:cubicBezTo>
                      <a:pt x="13735" y="4"/>
                      <a:pt x="13736" y="3"/>
                      <a:pt x="13737" y="3"/>
                    </a:cubicBezTo>
                    <a:close/>
                    <a:moveTo>
                      <a:pt x="13745" y="3"/>
                    </a:moveTo>
                    <a:lnTo>
                      <a:pt x="13745" y="3"/>
                    </a:lnTo>
                    <a:cubicBezTo>
                      <a:pt x="13746" y="3"/>
                      <a:pt x="13747" y="4"/>
                      <a:pt x="13747" y="5"/>
                    </a:cubicBezTo>
                    <a:cubicBezTo>
                      <a:pt x="13747" y="7"/>
                      <a:pt x="13746" y="7"/>
                      <a:pt x="13745" y="7"/>
                    </a:cubicBezTo>
                    <a:lnTo>
                      <a:pt x="13745" y="7"/>
                    </a:lnTo>
                    <a:cubicBezTo>
                      <a:pt x="13744" y="7"/>
                      <a:pt x="13743" y="7"/>
                      <a:pt x="13743" y="5"/>
                    </a:cubicBezTo>
                    <a:cubicBezTo>
                      <a:pt x="13743" y="4"/>
                      <a:pt x="13744" y="3"/>
                      <a:pt x="13745" y="3"/>
                    </a:cubicBezTo>
                    <a:close/>
                    <a:moveTo>
                      <a:pt x="13753" y="3"/>
                    </a:moveTo>
                    <a:lnTo>
                      <a:pt x="13753" y="3"/>
                    </a:lnTo>
                    <a:cubicBezTo>
                      <a:pt x="13754" y="3"/>
                      <a:pt x="13755" y="4"/>
                      <a:pt x="13755" y="5"/>
                    </a:cubicBezTo>
                    <a:cubicBezTo>
                      <a:pt x="13755" y="7"/>
                      <a:pt x="13754" y="7"/>
                      <a:pt x="13753" y="7"/>
                    </a:cubicBezTo>
                    <a:lnTo>
                      <a:pt x="13753" y="7"/>
                    </a:lnTo>
                    <a:cubicBezTo>
                      <a:pt x="13752" y="7"/>
                      <a:pt x="13751" y="7"/>
                      <a:pt x="13751" y="5"/>
                    </a:cubicBezTo>
                    <a:cubicBezTo>
                      <a:pt x="13751" y="4"/>
                      <a:pt x="13752" y="3"/>
                      <a:pt x="13753" y="3"/>
                    </a:cubicBezTo>
                    <a:close/>
                    <a:moveTo>
                      <a:pt x="13761" y="3"/>
                    </a:moveTo>
                    <a:lnTo>
                      <a:pt x="13761" y="3"/>
                    </a:lnTo>
                    <a:cubicBezTo>
                      <a:pt x="13762" y="3"/>
                      <a:pt x="13763" y="4"/>
                      <a:pt x="13763" y="5"/>
                    </a:cubicBezTo>
                    <a:cubicBezTo>
                      <a:pt x="13763" y="7"/>
                      <a:pt x="13762" y="7"/>
                      <a:pt x="13761" y="7"/>
                    </a:cubicBezTo>
                    <a:lnTo>
                      <a:pt x="13761" y="7"/>
                    </a:lnTo>
                    <a:cubicBezTo>
                      <a:pt x="13760" y="7"/>
                      <a:pt x="13759" y="7"/>
                      <a:pt x="13759" y="5"/>
                    </a:cubicBezTo>
                    <a:cubicBezTo>
                      <a:pt x="13759" y="4"/>
                      <a:pt x="13760" y="3"/>
                      <a:pt x="13761" y="3"/>
                    </a:cubicBezTo>
                    <a:close/>
                    <a:moveTo>
                      <a:pt x="13769" y="3"/>
                    </a:moveTo>
                    <a:lnTo>
                      <a:pt x="13769" y="3"/>
                    </a:lnTo>
                    <a:cubicBezTo>
                      <a:pt x="13770" y="3"/>
                      <a:pt x="13771" y="4"/>
                      <a:pt x="13771" y="5"/>
                    </a:cubicBezTo>
                    <a:cubicBezTo>
                      <a:pt x="13771" y="7"/>
                      <a:pt x="13770" y="7"/>
                      <a:pt x="13769" y="7"/>
                    </a:cubicBezTo>
                    <a:lnTo>
                      <a:pt x="13769" y="7"/>
                    </a:lnTo>
                    <a:cubicBezTo>
                      <a:pt x="13768" y="7"/>
                      <a:pt x="13767" y="7"/>
                      <a:pt x="13767" y="5"/>
                    </a:cubicBezTo>
                    <a:cubicBezTo>
                      <a:pt x="13767" y="4"/>
                      <a:pt x="13768" y="3"/>
                      <a:pt x="13769" y="3"/>
                    </a:cubicBezTo>
                    <a:close/>
                    <a:moveTo>
                      <a:pt x="13777" y="3"/>
                    </a:moveTo>
                    <a:lnTo>
                      <a:pt x="13777" y="3"/>
                    </a:lnTo>
                    <a:cubicBezTo>
                      <a:pt x="13778" y="3"/>
                      <a:pt x="13779" y="4"/>
                      <a:pt x="13779" y="5"/>
                    </a:cubicBezTo>
                    <a:cubicBezTo>
                      <a:pt x="13779" y="7"/>
                      <a:pt x="13778" y="7"/>
                      <a:pt x="13777" y="7"/>
                    </a:cubicBezTo>
                    <a:lnTo>
                      <a:pt x="13777" y="7"/>
                    </a:lnTo>
                    <a:cubicBezTo>
                      <a:pt x="13776" y="7"/>
                      <a:pt x="13775" y="7"/>
                      <a:pt x="13775" y="5"/>
                    </a:cubicBezTo>
                    <a:cubicBezTo>
                      <a:pt x="13775" y="4"/>
                      <a:pt x="13776" y="3"/>
                      <a:pt x="13777" y="3"/>
                    </a:cubicBezTo>
                    <a:close/>
                    <a:moveTo>
                      <a:pt x="13785" y="3"/>
                    </a:moveTo>
                    <a:lnTo>
                      <a:pt x="13785" y="3"/>
                    </a:lnTo>
                    <a:cubicBezTo>
                      <a:pt x="13786" y="3"/>
                      <a:pt x="13787" y="4"/>
                      <a:pt x="13787" y="5"/>
                    </a:cubicBezTo>
                    <a:cubicBezTo>
                      <a:pt x="13787" y="7"/>
                      <a:pt x="13786" y="7"/>
                      <a:pt x="13785" y="7"/>
                    </a:cubicBezTo>
                    <a:lnTo>
                      <a:pt x="13785" y="7"/>
                    </a:lnTo>
                    <a:cubicBezTo>
                      <a:pt x="13784" y="7"/>
                      <a:pt x="13783" y="7"/>
                      <a:pt x="13783" y="5"/>
                    </a:cubicBezTo>
                    <a:cubicBezTo>
                      <a:pt x="13783" y="4"/>
                      <a:pt x="13784" y="3"/>
                      <a:pt x="13785" y="3"/>
                    </a:cubicBezTo>
                    <a:close/>
                    <a:moveTo>
                      <a:pt x="13793" y="3"/>
                    </a:moveTo>
                    <a:lnTo>
                      <a:pt x="13793" y="3"/>
                    </a:lnTo>
                    <a:cubicBezTo>
                      <a:pt x="13794" y="3"/>
                      <a:pt x="13795" y="4"/>
                      <a:pt x="13795" y="5"/>
                    </a:cubicBezTo>
                    <a:cubicBezTo>
                      <a:pt x="13795" y="7"/>
                      <a:pt x="13794" y="7"/>
                      <a:pt x="13793" y="7"/>
                    </a:cubicBezTo>
                    <a:lnTo>
                      <a:pt x="13793" y="7"/>
                    </a:lnTo>
                    <a:cubicBezTo>
                      <a:pt x="13792" y="7"/>
                      <a:pt x="13791" y="7"/>
                      <a:pt x="13791" y="5"/>
                    </a:cubicBezTo>
                    <a:cubicBezTo>
                      <a:pt x="13791" y="4"/>
                      <a:pt x="13792" y="3"/>
                      <a:pt x="13793" y="3"/>
                    </a:cubicBezTo>
                    <a:close/>
                    <a:moveTo>
                      <a:pt x="13801" y="3"/>
                    </a:moveTo>
                    <a:lnTo>
                      <a:pt x="13801" y="3"/>
                    </a:lnTo>
                    <a:cubicBezTo>
                      <a:pt x="13802" y="3"/>
                      <a:pt x="13803" y="4"/>
                      <a:pt x="13803" y="5"/>
                    </a:cubicBezTo>
                    <a:cubicBezTo>
                      <a:pt x="13803" y="7"/>
                      <a:pt x="13802" y="7"/>
                      <a:pt x="13801" y="7"/>
                    </a:cubicBezTo>
                    <a:lnTo>
                      <a:pt x="13801" y="7"/>
                    </a:lnTo>
                    <a:cubicBezTo>
                      <a:pt x="13800" y="7"/>
                      <a:pt x="13799" y="7"/>
                      <a:pt x="13799" y="5"/>
                    </a:cubicBezTo>
                    <a:cubicBezTo>
                      <a:pt x="13799" y="4"/>
                      <a:pt x="13800" y="3"/>
                      <a:pt x="13801" y="3"/>
                    </a:cubicBezTo>
                    <a:close/>
                    <a:moveTo>
                      <a:pt x="13809" y="3"/>
                    </a:moveTo>
                    <a:lnTo>
                      <a:pt x="13809" y="3"/>
                    </a:lnTo>
                    <a:cubicBezTo>
                      <a:pt x="13810" y="3"/>
                      <a:pt x="13811" y="4"/>
                      <a:pt x="13811" y="5"/>
                    </a:cubicBezTo>
                    <a:cubicBezTo>
                      <a:pt x="13811" y="7"/>
                      <a:pt x="13810" y="7"/>
                      <a:pt x="13809" y="7"/>
                    </a:cubicBezTo>
                    <a:lnTo>
                      <a:pt x="13809" y="7"/>
                    </a:lnTo>
                    <a:cubicBezTo>
                      <a:pt x="13808" y="7"/>
                      <a:pt x="13807" y="7"/>
                      <a:pt x="13807" y="5"/>
                    </a:cubicBezTo>
                    <a:cubicBezTo>
                      <a:pt x="13807" y="4"/>
                      <a:pt x="13808" y="3"/>
                      <a:pt x="13809" y="3"/>
                    </a:cubicBezTo>
                    <a:close/>
                    <a:moveTo>
                      <a:pt x="13817" y="3"/>
                    </a:moveTo>
                    <a:lnTo>
                      <a:pt x="13817" y="3"/>
                    </a:lnTo>
                    <a:cubicBezTo>
                      <a:pt x="13818" y="3"/>
                      <a:pt x="13819" y="4"/>
                      <a:pt x="13819" y="5"/>
                    </a:cubicBezTo>
                    <a:cubicBezTo>
                      <a:pt x="13819" y="7"/>
                      <a:pt x="13818" y="7"/>
                      <a:pt x="13817" y="7"/>
                    </a:cubicBezTo>
                    <a:lnTo>
                      <a:pt x="13817" y="7"/>
                    </a:lnTo>
                    <a:cubicBezTo>
                      <a:pt x="13816" y="7"/>
                      <a:pt x="13815" y="7"/>
                      <a:pt x="13815" y="5"/>
                    </a:cubicBezTo>
                    <a:cubicBezTo>
                      <a:pt x="13815" y="4"/>
                      <a:pt x="13816" y="3"/>
                      <a:pt x="13817" y="3"/>
                    </a:cubicBezTo>
                    <a:close/>
                    <a:moveTo>
                      <a:pt x="13825" y="3"/>
                    </a:moveTo>
                    <a:lnTo>
                      <a:pt x="13825" y="3"/>
                    </a:lnTo>
                    <a:cubicBezTo>
                      <a:pt x="13826" y="3"/>
                      <a:pt x="13827" y="4"/>
                      <a:pt x="13827" y="5"/>
                    </a:cubicBezTo>
                    <a:cubicBezTo>
                      <a:pt x="13827" y="7"/>
                      <a:pt x="13826" y="7"/>
                      <a:pt x="13825" y="7"/>
                    </a:cubicBezTo>
                    <a:lnTo>
                      <a:pt x="13825" y="7"/>
                    </a:lnTo>
                    <a:cubicBezTo>
                      <a:pt x="13824" y="7"/>
                      <a:pt x="13823" y="7"/>
                      <a:pt x="13823" y="5"/>
                    </a:cubicBezTo>
                    <a:cubicBezTo>
                      <a:pt x="13823" y="4"/>
                      <a:pt x="13824" y="3"/>
                      <a:pt x="13825" y="3"/>
                    </a:cubicBezTo>
                    <a:close/>
                    <a:moveTo>
                      <a:pt x="13833" y="3"/>
                    </a:moveTo>
                    <a:lnTo>
                      <a:pt x="13833" y="3"/>
                    </a:lnTo>
                    <a:cubicBezTo>
                      <a:pt x="13834" y="3"/>
                      <a:pt x="13835" y="4"/>
                      <a:pt x="13835" y="5"/>
                    </a:cubicBezTo>
                    <a:cubicBezTo>
                      <a:pt x="13835" y="7"/>
                      <a:pt x="13834" y="7"/>
                      <a:pt x="13833" y="7"/>
                    </a:cubicBezTo>
                    <a:lnTo>
                      <a:pt x="13833" y="7"/>
                    </a:lnTo>
                    <a:cubicBezTo>
                      <a:pt x="13832" y="7"/>
                      <a:pt x="13831" y="7"/>
                      <a:pt x="13831" y="5"/>
                    </a:cubicBezTo>
                    <a:cubicBezTo>
                      <a:pt x="13831" y="4"/>
                      <a:pt x="13832" y="3"/>
                      <a:pt x="13833" y="3"/>
                    </a:cubicBezTo>
                    <a:close/>
                    <a:moveTo>
                      <a:pt x="13841" y="3"/>
                    </a:moveTo>
                    <a:lnTo>
                      <a:pt x="13841" y="3"/>
                    </a:lnTo>
                    <a:cubicBezTo>
                      <a:pt x="13842" y="3"/>
                      <a:pt x="13843" y="4"/>
                      <a:pt x="13843" y="5"/>
                    </a:cubicBezTo>
                    <a:cubicBezTo>
                      <a:pt x="13843" y="7"/>
                      <a:pt x="13842" y="7"/>
                      <a:pt x="13841" y="7"/>
                    </a:cubicBezTo>
                    <a:lnTo>
                      <a:pt x="13841" y="7"/>
                    </a:lnTo>
                    <a:cubicBezTo>
                      <a:pt x="13840" y="7"/>
                      <a:pt x="13839" y="7"/>
                      <a:pt x="13839" y="5"/>
                    </a:cubicBezTo>
                    <a:cubicBezTo>
                      <a:pt x="13839" y="4"/>
                      <a:pt x="13840" y="3"/>
                      <a:pt x="13841" y="3"/>
                    </a:cubicBezTo>
                    <a:close/>
                    <a:moveTo>
                      <a:pt x="13849" y="3"/>
                    </a:moveTo>
                    <a:lnTo>
                      <a:pt x="13849" y="3"/>
                    </a:lnTo>
                    <a:cubicBezTo>
                      <a:pt x="13850" y="3"/>
                      <a:pt x="13851" y="4"/>
                      <a:pt x="13851" y="5"/>
                    </a:cubicBezTo>
                    <a:cubicBezTo>
                      <a:pt x="13851" y="7"/>
                      <a:pt x="13850" y="7"/>
                      <a:pt x="13849" y="7"/>
                    </a:cubicBezTo>
                    <a:lnTo>
                      <a:pt x="13849" y="7"/>
                    </a:lnTo>
                    <a:cubicBezTo>
                      <a:pt x="13848" y="7"/>
                      <a:pt x="13847" y="7"/>
                      <a:pt x="13847" y="5"/>
                    </a:cubicBezTo>
                    <a:cubicBezTo>
                      <a:pt x="13847" y="4"/>
                      <a:pt x="13848" y="3"/>
                      <a:pt x="13849" y="3"/>
                    </a:cubicBezTo>
                    <a:close/>
                    <a:moveTo>
                      <a:pt x="13857" y="3"/>
                    </a:moveTo>
                    <a:lnTo>
                      <a:pt x="13857" y="3"/>
                    </a:lnTo>
                    <a:cubicBezTo>
                      <a:pt x="13858" y="3"/>
                      <a:pt x="13859" y="4"/>
                      <a:pt x="13859" y="5"/>
                    </a:cubicBezTo>
                    <a:cubicBezTo>
                      <a:pt x="13859" y="7"/>
                      <a:pt x="13858" y="7"/>
                      <a:pt x="13857" y="7"/>
                    </a:cubicBezTo>
                    <a:lnTo>
                      <a:pt x="13857" y="7"/>
                    </a:lnTo>
                    <a:cubicBezTo>
                      <a:pt x="13856" y="7"/>
                      <a:pt x="13855" y="7"/>
                      <a:pt x="13855" y="5"/>
                    </a:cubicBezTo>
                    <a:cubicBezTo>
                      <a:pt x="13855" y="4"/>
                      <a:pt x="13856" y="3"/>
                      <a:pt x="13857" y="3"/>
                    </a:cubicBezTo>
                    <a:close/>
                    <a:moveTo>
                      <a:pt x="13865" y="3"/>
                    </a:moveTo>
                    <a:lnTo>
                      <a:pt x="13865" y="3"/>
                    </a:lnTo>
                    <a:cubicBezTo>
                      <a:pt x="13866" y="3"/>
                      <a:pt x="13867" y="4"/>
                      <a:pt x="13867" y="5"/>
                    </a:cubicBezTo>
                    <a:cubicBezTo>
                      <a:pt x="13867" y="7"/>
                      <a:pt x="13866" y="7"/>
                      <a:pt x="13865" y="7"/>
                    </a:cubicBezTo>
                    <a:lnTo>
                      <a:pt x="13865" y="7"/>
                    </a:lnTo>
                    <a:cubicBezTo>
                      <a:pt x="13864" y="7"/>
                      <a:pt x="13863" y="7"/>
                      <a:pt x="13863" y="5"/>
                    </a:cubicBezTo>
                    <a:cubicBezTo>
                      <a:pt x="13863" y="4"/>
                      <a:pt x="13864" y="3"/>
                      <a:pt x="13865" y="3"/>
                    </a:cubicBezTo>
                    <a:close/>
                    <a:moveTo>
                      <a:pt x="13873" y="4"/>
                    </a:moveTo>
                    <a:lnTo>
                      <a:pt x="13873" y="4"/>
                    </a:lnTo>
                    <a:cubicBezTo>
                      <a:pt x="13874" y="4"/>
                      <a:pt x="13875" y="4"/>
                      <a:pt x="13875" y="6"/>
                    </a:cubicBezTo>
                    <a:cubicBezTo>
                      <a:pt x="13875" y="7"/>
                      <a:pt x="13874" y="8"/>
                      <a:pt x="13873" y="8"/>
                    </a:cubicBezTo>
                    <a:lnTo>
                      <a:pt x="13873" y="8"/>
                    </a:lnTo>
                    <a:cubicBezTo>
                      <a:pt x="13872" y="8"/>
                      <a:pt x="13871" y="7"/>
                      <a:pt x="13871" y="6"/>
                    </a:cubicBezTo>
                    <a:cubicBezTo>
                      <a:pt x="13871" y="4"/>
                      <a:pt x="13872" y="4"/>
                      <a:pt x="13873" y="4"/>
                    </a:cubicBezTo>
                    <a:close/>
                    <a:moveTo>
                      <a:pt x="13881" y="4"/>
                    </a:moveTo>
                    <a:lnTo>
                      <a:pt x="13881" y="4"/>
                    </a:lnTo>
                    <a:cubicBezTo>
                      <a:pt x="13882" y="4"/>
                      <a:pt x="13883" y="4"/>
                      <a:pt x="13883" y="6"/>
                    </a:cubicBezTo>
                    <a:cubicBezTo>
                      <a:pt x="13883" y="7"/>
                      <a:pt x="13882" y="8"/>
                      <a:pt x="13881" y="8"/>
                    </a:cubicBezTo>
                    <a:lnTo>
                      <a:pt x="13881" y="8"/>
                    </a:lnTo>
                    <a:cubicBezTo>
                      <a:pt x="13880" y="8"/>
                      <a:pt x="13879" y="7"/>
                      <a:pt x="13879" y="6"/>
                    </a:cubicBezTo>
                    <a:cubicBezTo>
                      <a:pt x="13879" y="4"/>
                      <a:pt x="13880" y="4"/>
                      <a:pt x="13881" y="4"/>
                    </a:cubicBezTo>
                    <a:close/>
                    <a:moveTo>
                      <a:pt x="13889" y="4"/>
                    </a:moveTo>
                    <a:lnTo>
                      <a:pt x="13889" y="4"/>
                    </a:lnTo>
                    <a:cubicBezTo>
                      <a:pt x="13890" y="4"/>
                      <a:pt x="13891" y="4"/>
                      <a:pt x="13891" y="6"/>
                    </a:cubicBezTo>
                    <a:cubicBezTo>
                      <a:pt x="13891" y="7"/>
                      <a:pt x="13890" y="8"/>
                      <a:pt x="13889" y="8"/>
                    </a:cubicBezTo>
                    <a:lnTo>
                      <a:pt x="13889" y="8"/>
                    </a:lnTo>
                    <a:cubicBezTo>
                      <a:pt x="13888" y="8"/>
                      <a:pt x="13887" y="7"/>
                      <a:pt x="13887" y="6"/>
                    </a:cubicBezTo>
                    <a:cubicBezTo>
                      <a:pt x="13887" y="4"/>
                      <a:pt x="13888" y="4"/>
                      <a:pt x="13889" y="4"/>
                    </a:cubicBezTo>
                    <a:close/>
                    <a:moveTo>
                      <a:pt x="13897" y="4"/>
                    </a:moveTo>
                    <a:lnTo>
                      <a:pt x="13897" y="4"/>
                    </a:lnTo>
                    <a:cubicBezTo>
                      <a:pt x="13898" y="4"/>
                      <a:pt x="13899" y="4"/>
                      <a:pt x="13899" y="6"/>
                    </a:cubicBezTo>
                    <a:cubicBezTo>
                      <a:pt x="13899" y="7"/>
                      <a:pt x="13898" y="8"/>
                      <a:pt x="13897" y="8"/>
                    </a:cubicBezTo>
                    <a:lnTo>
                      <a:pt x="13897" y="8"/>
                    </a:lnTo>
                    <a:cubicBezTo>
                      <a:pt x="13896" y="8"/>
                      <a:pt x="13895" y="7"/>
                      <a:pt x="13895" y="6"/>
                    </a:cubicBezTo>
                    <a:cubicBezTo>
                      <a:pt x="13895" y="4"/>
                      <a:pt x="13896" y="4"/>
                      <a:pt x="13897" y="4"/>
                    </a:cubicBezTo>
                    <a:close/>
                    <a:moveTo>
                      <a:pt x="13905" y="4"/>
                    </a:moveTo>
                    <a:lnTo>
                      <a:pt x="13905" y="4"/>
                    </a:lnTo>
                    <a:cubicBezTo>
                      <a:pt x="13906" y="4"/>
                      <a:pt x="13907" y="4"/>
                      <a:pt x="13907" y="6"/>
                    </a:cubicBezTo>
                    <a:cubicBezTo>
                      <a:pt x="13907" y="7"/>
                      <a:pt x="13906" y="8"/>
                      <a:pt x="13905" y="8"/>
                    </a:cubicBezTo>
                    <a:lnTo>
                      <a:pt x="13905" y="8"/>
                    </a:lnTo>
                    <a:cubicBezTo>
                      <a:pt x="13904" y="8"/>
                      <a:pt x="13903" y="7"/>
                      <a:pt x="13903" y="6"/>
                    </a:cubicBezTo>
                    <a:cubicBezTo>
                      <a:pt x="13903" y="4"/>
                      <a:pt x="13904" y="4"/>
                      <a:pt x="13905" y="4"/>
                    </a:cubicBezTo>
                    <a:close/>
                    <a:moveTo>
                      <a:pt x="13913" y="4"/>
                    </a:moveTo>
                    <a:lnTo>
                      <a:pt x="13913" y="4"/>
                    </a:lnTo>
                    <a:cubicBezTo>
                      <a:pt x="13914" y="4"/>
                      <a:pt x="13915" y="4"/>
                      <a:pt x="13915" y="6"/>
                    </a:cubicBezTo>
                    <a:cubicBezTo>
                      <a:pt x="13915" y="7"/>
                      <a:pt x="13914" y="8"/>
                      <a:pt x="13913" y="8"/>
                    </a:cubicBezTo>
                    <a:lnTo>
                      <a:pt x="13913" y="8"/>
                    </a:lnTo>
                    <a:cubicBezTo>
                      <a:pt x="13912" y="8"/>
                      <a:pt x="13911" y="7"/>
                      <a:pt x="13911" y="6"/>
                    </a:cubicBezTo>
                    <a:cubicBezTo>
                      <a:pt x="13911" y="4"/>
                      <a:pt x="13912" y="4"/>
                      <a:pt x="13913" y="4"/>
                    </a:cubicBezTo>
                    <a:close/>
                    <a:moveTo>
                      <a:pt x="13921" y="4"/>
                    </a:moveTo>
                    <a:lnTo>
                      <a:pt x="13921" y="4"/>
                    </a:lnTo>
                    <a:cubicBezTo>
                      <a:pt x="13922" y="4"/>
                      <a:pt x="13923" y="4"/>
                      <a:pt x="13923" y="6"/>
                    </a:cubicBezTo>
                    <a:cubicBezTo>
                      <a:pt x="13923" y="7"/>
                      <a:pt x="13922" y="8"/>
                      <a:pt x="13921" y="8"/>
                    </a:cubicBezTo>
                    <a:lnTo>
                      <a:pt x="13921" y="8"/>
                    </a:lnTo>
                    <a:cubicBezTo>
                      <a:pt x="13920" y="8"/>
                      <a:pt x="13919" y="7"/>
                      <a:pt x="13919" y="6"/>
                    </a:cubicBezTo>
                    <a:cubicBezTo>
                      <a:pt x="13919" y="4"/>
                      <a:pt x="13920" y="4"/>
                      <a:pt x="13921" y="4"/>
                    </a:cubicBezTo>
                    <a:close/>
                    <a:moveTo>
                      <a:pt x="13929" y="4"/>
                    </a:moveTo>
                    <a:lnTo>
                      <a:pt x="13929" y="4"/>
                    </a:lnTo>
                    <a:cubicBezTo>
                      <a:pt x="13930" y="4"/>
                      <a:pt x="13931" y="4"/>
                      <a:pt x="13931" y="6"/>
                    </a:cubicBezTo>
                    <a:cubicBezTo>
                      <a:pt x="13931" y="7"/>
                      <a:pt x="13930" y="8"/>
                      <a:pt x="13929" y="8"/>
                    </a:cubicBezTo>
                    <a:lnTo>
                      <a:pt x="13929" y="8"/>
                    </a:lnTo>
                    <a:cubicBezTo>
                      <a:pt x="13928" y="8"/>
                      <a:pt x="13927" y="7"/>
                      <a:pt x="13927" y="6"/>
                    </a:cubicBezTo>
                    <a:cubicBezTo>
                      <a:pt x="13927" y="4"/>
                      <a:pt x="13928" y="4"/>
                      <a:pt x="13929" y="4"/>
                    </a:cubicBezTo>
                    <a:close/>
                    <a:moveTo>
                      <a:pt x="13937" y="4"/>
                    </a:moveTo>
                    <a:lnTo>
                      <a:pt x="13937" y="4"/>
                    </a:lnTo>
                    <a:cubicBezTo>
                      <a:pt x="13938" y="4"/>
                      <a:pt x="13939" y="4"/>
                      <a:pt x="13939" y="6"/>
                    </a:cubicBezTo>
                    <a:cubicBezTo>
                      <a:pt x="13939" y="7"/>
                      <a:pt x="13938" y="8"/>
                      <a:pt x="13937" y="8"/>
                    </a:cubicBezTo>
                    <a:lnTo>
                      <a:pt x="13937" y="8"/>
                    </a:lnTo>
                    <a:cubicBezTo>
                      <a:pt x="13936" y="8"/>
                      <a:pt x="13935" y="7"/>
                      <a:pt x="13935" y="6"/>
                    </a:cubicBezTo>
                    <a:cubicBezTo>
                      <a:pt x="13935" y="4"/>
                      <a:pt x="13936" y="4"/>
                      <a:pt x="13937" y="4"/>
                    </a:cubicBezTo>
                    <a:close/>
                    <a:moveTo>
                      <a:pt x="13945" y="4"/>
                    </a:moveTo>
                    <a:lnTo>
                      <a:pt x="13945" y="4"/>
                    </a:lnTo>
                    <a:cubicBezTo>
                      <a:pt x="13946" y="4"/>
                      <a:pt x="13947" y="4"/>
                      <a:pt x="13947" y="6"/>
                    </a:cubicBezTo>
                    <a:cubicBezTo>
                      <a:pt x="13947" y="7"/>
                      <a:pt x="13946" y="8"/>
                      <a:pt x="13945" y="8"/>
                    </a:cubicBezTo>
                    <a:lnTo>
                      <a:pt x="13945" y="8"/>
                    </a:lnTo>
                    <a:cubicBezTo>
                      <a:pt x="13944" y="8"/>
                      <a:pt x="13943" y="7"/>
                      <a:pt x="13943" y="6"/>
                    </a:cubicBezTo>
                    <a:cubicBezTo>
                      <a:pt x="13943" y="4"/>
                      <a:pt x="13944" y="4"/>
                      <a:pt x="13945" y="4"/>
                    </a:cubicBezTo>
                    <a:close/>
                    <a:moveTo>
                      <a:pt x="13953" y="4"/>
                    </a:moveTo>
                    <a:lnTo>
                      <a:pt x="13953" y="4"/>
                    </a:lnTo>
                    <a:cubicBezTo>
                      <a:pt x="13954" y="4"/>
                      <a:pt x="13955" y="4"/>
                      <a:pt x="13955" y="6"/>
                    </a:cubicBezTo>
                    <a:cubicBezTo>
                      <a:pt x="13955" y="7"/>
                      <a:pt x="13954" y="8"/>
                      <a:pt x="13953" y="8"/>
                    </a:cubicBezTo>
                    <a:lnTo>
                      <a:pt x="13953" y="8"/>
                    </a:lnTo>
                    <a:cubicBezTo>
                      <a:pt x="13952" y="8"/>
                      <a:pt x="13951" y="7"/>
                      <a:pt x="13951" y="6"/>
                    </a:cubicBezTo>
                    <a:cubicBezTo>
                      <a:pt x="13951" y="4"/>
                      <a:pt x="13952" y="4"/>
                      <a:pt x="13953" y="4"/>
                    </a:cubicBezTo>
                    <a:close/>
                    <a:moveTo>
                      <a:pt x="13961" y="4"/>
                    </a:moveTo>
                    <a:lnTo>
                      <a:pt x="13961" y="4"/>
                    </a:lnTo>
                    <a:cubicBezTo>
                      <a:pt x="13962" y="4"/>
                      <a:pt x="13963" y="4"/>
                      <a:pt x="13963" y="6"/>
                    </a:cubicBezTo>
                    <a:cubicBezTo>
                      <a:pt x="13963" y="7"/>
                      <a:pt x="13962" y="8"/>
                      <a:pt x="13961" y="8"/>
                    </a:cubicBezTo>
                    <a:lnTo>
                      <a:pt x="13961" y="8"/>
                    </a:lnTo>
                    <a:cubicBezTo>
                      <a:pt x="13960" y="8"/>
                      <a:pt x="13959" y="7"/>
                      <a:pt x="13959" y="6"/>
                    </a:cubicBezTo>
                    <a:cubicBezTo>
                      <a:pt x="13959" y="4"/>
                      <a:pt x="13960" y="4"/>
                      <a:pt x="13961" y="4"/>
                    </a:cubicBezTo>
                    <a:close/>
                    <a:moveTo>
                      <a:pt x="13969" y="4"/>
                    </a:moveTo>
                    <a:lnTo>
                      <a:pt x="13969" y="4"/>
                    </a:lnTo>
                    <a:cubicBezTo>
                      <a:pt x="13970" y="4"/>
                      <a:pt x="13971" y="4"/>
                      <a:pt x="13971" y="6"/>
                    </a:cubicBezTo>
                    <a:cubicBezTo>
                      <a:pt x="13971" y="7"/>
                      <a:pt x="13970" y="8"/>
                      <a:pt x="13969" y="8"/>
                    </a:cubicBezTo>
                    <a:lnTo>
                      <a:pt x="13969" y="8"/>
                    </a:lnTo>
                    <a:cubicBezTo>
                      <a:pt x="13968" y="8"/>
                      <a:pt x="13967" y="7"/>
                      <a:pt x="13967" y="6"/>
                    </a:cubicBezTo>
                    <a:cubicBezTo>
                      <a:pt x="13967" y="4"/>
                      <a:pt x="13968" y="4"/>
                      <a:pt x="13969" y="4"/>
                    </a:cubicBezTo>
                    <a:close/>
                    <a:moveTo>
                      <a:pt x="13977" y="4"/>
                    </a:moveTo>
                    <a:lnTo>
                      <a:pt x="13977" y="4"/>
                    </a:lnTo>
                    <a:cubicBezTo>
                      <a:pt x="13978" y="4"/>
                      <a:pt x="13979" y="4"/>
                      <a:pt x="13979" y="6"/>
                    </a:cubicBezTo>
                    <a:cubicBezTo>
                      <a:pt x="13979" y="7"/>
                      <a:pt x="13978" y="8"/>
                      <a:pt x="13977" y="8"/>
                    </a:cubicBezTo>
                    <a:lnTo>
                      <a:pt x="13977" y="8"/>
                    </a:lnTo>
                    <a:cubicBezTo>
                      <a:pt x="13976" y="8"/>
                      <a:pt x="13975" y="7"/>
                      <a:pt x="13975" y="6"/>
                    </a:cubicBezTo>
                    <a:cubicBezTo>
                      <a:pt x="13975" y="4"/>
                      <a:pt x="13976" y="4"/>
                      <a:pt x="13977" y="4"/>
                    </a:cubicBezTo>
                    <a:close/>
                    <a:moveTo>
                      <a:pt x="13985" y="4"/>
                    </a:moveTo>
                    <a:lnTo>
                      <a:pt x="13985" y="4"/>
                    </a:lnTo>
                    <a:cubicBezTo>
                      <a:pt x="13986" y="4"/>
                      <a:pt x="13987" y="4"/>
                      <a:pt x="13987" y="6"/>
                    </a:cubicBezTo>
                    <a:cubicBezTo>
                      <a:pt x="13987" y="7"/>
                      <a:pt x="13986" y="8"/>
                      <a:pt x="13985" y="8"/>
                    </a:cubicBezTo>
                    <a:lnTo>
                      <a:pt x="13985" y="8"/>
                    </a:lnTo>
                    <a:cubicBezTo>
                      <a:pt x="13984" y="8"/>
                      <a:pt x="13983" y="7"/>
                      <a:pt x="13983" y="6"/>
                    </a:cubicBezTo>
                    <a:cubicBezTo>
                      <a:pt x="13983" y="4"/>
                      <a:pt x="13984" y="4"/>
                      <a:pt x="13985" y="4"/>
                    </a:cubicBezTo>
                    <a:close/>
                    <a:moveTo>
                      <a:pt x="13993" y="4"/>
                    </a:moveTo>
                    <a:lnTo>
                      <a:pt x="13993" y="4"/>
                    </a:lnTo>
                    <a:cubicBezTo>
                      <a:pt x="13994" y="4"/>
                      <a:pt x="13995" y="4"/>
                      <a:pt x="13995" y="6"/>
                    </a:cubicBezTo>
                    <a:cubicBezTo>
                      <a:pt x="13995" y="7"/>
                      <a:pt x="13994" y="8"/>
                      <a:pt x="13993" y="8"/>
                    </a:cubicBezTo>
                    <a:lnTo>
                      <a:pt x="13993" y="8"/>
                    </a:lnTo>
                    <a:cubicBezTo>
                      <a:pt x="13992" y="8"/>
                      <a:pt x="13991" y="7"/>
                      <a:pt x="13991" y="6"/>
                    </a:cubicBezTo>
                    <a:cubicBezTo>
                      <a:pt x="13991" y="4"/>
                      <a:pt x="13992" y="4"/>
                      <a:pt x="13993" y="4"/>
                    </a:cubicBezTo>
                    <a:close/>
                    <a:moveTo>
                      <a:pt x="14001" y="4"/>
                    </a:moveTo>
                    <a:lnTo>
                      <a:pt x="14001" y="4"/>
                    </a:lnTo>
                    <a:cubicBezTo>
                      <a:pt x="14002" y="4"/>
                      <a:pt x="14003" y="4"/>
                      <a:pt x="14003" y="6"/>
                    </a:cubicBezTo>
                    <a:cubicBezTo>
                      <a:pt x="14003" y="7"/>
                      <a:pt x="14002" y="8"/>
                      <a:pt x="14001" y="8"/>
                    </a:cubicBezTo>
                    <a:lnTo>
                      <a:pt x="14001" y="8"/>
                    </a:lnTo>
                    <a:cubicBezTo>
                      <a:pt x="14000" y="8"/>
                      <a:pt x="13999" y="7"/>
                      <a:pt x="13999" y="6"/>
                    </a:cubicBezTo>
                    <a:cubicBezTo>
                      <a:pt x="13999" y="4"/>
                      <a:pt x="14000" y="4"/>
                      <a:pt x="14001" y="4"/>
                    </a:cubicBezTo>
                    <a:close/>
                    <a:moveTo>
                      <a:pt x="14009" y="4"/>
                    </a:moveTo>
                    <a:lnTo>
                      <a:pt x="14009" y="4"/>
                    </a:lnTo>
                    <a:cubicBezTo>
                      <a:pt x="14010" y="4"/>
                      <a:pt x="14011" y="4"/>
                      <a:pt x="14011" y="6"/>
                    </a:cubicBezTo>
                    <a:cubicBezTo>
                      <a:pt x="14011" y="7"/>
                      <a:pt x="14010" y="8"/>
                      <a:pt x="14009" y="8"/>
                    </a:cubicBezTo>
                    <a:lnTo>
                      <a:pt x="14009" y="8"/>
                    </a:lnTo>
                    <a:cubicBezTo>
                      <a:pt x="14008" y="8"/>
                      <a:pt x="14007" y="7"/>
                      <a:pt x="14007" y="6"/>
                    </a:cubicBezTo>
                    <a:cubicBezTo>
                      <a:pt x="14007" y="4"/>
                      <a:pt x="14008" y="4"/>
                      <a:pt x="14009" y="4"/>
                    </a:cubicBezTo>
                    <a:close/>
                    <a:moveTo>
                      <a:pt x="14017" y="4"/>
                    </a:moveTo>
                    <a:lnTo>
                      <a:pt x="14017" y="4"/>
                    </a:lnTo>
                    <a:cubicBezTo>
                      <a:pt x="14018" y="4"/>
                      <a:pt x="14019" y="4"/>
                      <a:pt x="14019" y="6"/>
                    </a:cubicBezTo>
                    <a:cubicBezTo>
                      <a:pt x="14019" y="7"/>
                      <a:pt x="14018" y="8"/>
                      <a:pt x="14017" y="8"/>
                    </a:cubicBezTo>
                    <a:lnTo>
                      <a:pt x="14017" y="8"/>
                    </a:lnTo>
                    <a:cubicBezTo>
                      <a:pt x="14016" y="8"/>
                      <a:pt x="14015" y="7"/>
                      <a:pt x="14015" y="6"/>
                    </a:cubicBezTo>
                    <a:cubicBezTo>
                      <a:pt x="14015" y="4"/>
                      <a:pt x="14016" y="4"/>
                      <a:pt x="14017" y="4"/>
                    </a:cubicBezTo>
                    <a:close/>
                    <a:moveTo>
                      <a:pt x="14025" y="4"/>
                    </a:moveTo>
                    <a:lnTo>
                      <a:pt x="14025" y="4"/>
                    </a:lnTo>
                    <a:cubicBezTo>
                      <a:pt x="14026" y="4"/>
                      <a:pt x="14027" y="4"/>
                      <a:pt x="14027" y="6"/>
                    </a:cubicBezTo>
                    <a:cubicBezTo>
                      <a:pt x="14027" y="7"/>
                      <a:pt x="14026" y="8"/>
                      <a:pt x="14025" y="8"/>
                    </a:cubicBezTo>
                    <a:lnTo>
                      <a:pt x="14025" y="8"/>
                    </a:lnTo>
                    <a:cubicBezTo>
                      <a:pt x="14024" y="8"/>
                      <a:pt x="14023" y="7"/>
                      <a:pt x="14023" y="6"/>
                    </a:cubicBezTo>
                    <a:cubicBezTo>
                      <a:pt x="14023" y="4"/>
                      <a:pt x="14024" y="4"/>
                      <a:pt x="14025" y="4"/>
                    </a:cubicBezTo>
                    <a:close/>
                    <a:moveTo>
                      <a:pt x="14033" y="4"/>
                    </a:moveTo>
                    <a:lnTo>
                      <a:pt x="14033" y="4"/>
                    </a:lnTo>
                    <a:cubicBezTo>
                      <a:pt x="14034" y="4"/>
                      <a:pt x="14035" y="4"/>
                      <a:pt x="14035" y="6"/>
                    </a:cubicBezTo>
                    <a:cubicBezTo>
                      <a:pt x="14035" y="7"/>
                      <a:pt x="14034" y="8"/>
                      <a:pt x="14033" y="8"/>
                    </a:cubicBezTo>
                    <a:lnTo>
                      <a:pt x="14033" y="8"/>
                    </a:lnTo>
                    <a:cubicBezTo>
                      <a:pt x="14032" y="8"/>
                      <a:pt x="14031" y="7"/>
                      <a:pt x="14031" y="6"/>
                    </a:cubicBezTo>
                    <a:cubicBezTo>
                      <a:pt x="14031" y="4"/>
                      <a:pt x="14032" y="4"/>
                      <a:pt x="14033" y="4"/>
                    </a:cubicBezTo>
                    <a:close/>
                    <a:moveTo>
                      <a:pt x="14041" y="4"/>
                    </a:moveTo>
                    <a:lnTo>
                      <a:pt x="14041" y="4"/>
                    </a:lnTo>
                    <a:cubicBezTo>
                      <a:pt x="14042" y="4"/>
                      <a:pt x="14043" y="4"/>
                      <a:pt x="14043" y="6"/>
                    </a:cubicBezTo>
                    <a:cubicBezTo>
                      <a:pt x="14043" y="7"/>
                      <a:pt x="14042" y="8"/>
                      <a:pt x="14041" y="8"/>
                    </a:cubicBezTo>
                    <a:lnTo>
                      <a:pt x="14041" y="8"/>
                    </a:lnTo>
                    <a:cubicBezTo>
                      <a:pt x="14040" y="8"/>
                      <a:pt x="14039" y="7"/>
                      <a:pt x="14039" y="6"/>
                    </a:cubicBezTo>
                    <a:cubicBezTo>
                      <a:pt x="14039" y="4"/>
                      <a:pt x="14040" y="4"/>
                      <a:pt x="14041" y="4"/>
                    </a:cubicBezTo>
                    <a:close/>
                    <a:moveTo>
                      <a:pt x="14049" y="4"/>
                    </a:moveTo>
                    <a:lnTo>
                      <a:pt x="14049" y="4"/>
                    </a:lnTo>
                    <a:cubicBezTo>
                      <a:pt x="14050" y="4"/>
                      <a:pt x="14051" y="4"/>
                      <a:pt x="14051" y="6"/>
                    </a:cubicBezTo>
                    <a:cubicBezTo>
                      <a:pt x="14051" y="7"/>
                      <a:pt x="14050" y="8"/>
                      <a:pt x="14049" y="8"/>
                    </a:cubicBezTo>
                    <a:lnTo>
                      <a:pt x="14049" y="8"/>
                    </a:lnTo>
                    <a:cubicBezTo>
                      <a:pt x="14048" y="8"/>
                      <a:pt x="14047" y="7"/>
                      <a:pt x="14047" y="6"/>
                    </a:cubicBezTo>
                    <a:cubicBezTo>
                      <a:pt x="14047" y="4"/>
                      <a:pt x="14048" y="4"/>
                      <a:pt x="14049" y="4"/>
                    </a:cubicBezTo>
                    <a:close/>
                    <a:moveTo>
                      <a:pt x="14057" y="4"/>
                    </a:moveTo>
                    <a:lnTo>
                      <a:pt x="14057" y="4"/>
                    </a:lnTo>
                    <a:cubicBezTo>
                      <a:pt x="14058" y="4"/>
                      <a:pt x="14059" y="4"/>
                      <a:pt x="14059" y="6"/>
                    </a:cubicBezTo>
                    <a:cubicBezTo>
                      <a:pt x="14059" y="7"/>
                      <a:pt x="14058" y="8"/>
                      <a:pt x="14057" y="8"/>
                    </a:cubicBezTo>
                    <a:lnTo>
                      <a:pt x="14057" y="8"/>
                    </a:lnTo>
                    <a:cubicBezTo>
                      <a:pt x="14056" y="8"/>
                      <a:pt x="14055" y="7"/>
                      <a:pt x="14055" y="6"/>
                    </a:cubicBezTo>
                    <a:cubicBezTo>
                      <a:pt x="14055" y="4"/>
                      <a:pt x="14056" y="4"/>
                      <a:pt x="14057" y="4"/>
                    </a:cubicBezTo>
                    <a:close/>
                    <a:moveTo>
                      <a:pt x="14065" y="4"/>
                    </a:moveTo>
                    <a:lnTo>
                      <a:pt x="14065" y="4"/>
                    </a:lnTo>
                    <a:cubicBezTo>
                      <a:pt x="14066" y="4"/>
                      <a:pt x="14067" y="4"/>
                      <a:pt x="14067" y="6"/>
                    </a:cubicBezTo>
                    <a:cubicBezTo>
                      <a:pt x="14067" y="7"/>
                      <a:pt x="14066" y="8"/>
                      <a:pt x="14065" y="8"/>
                    </a:cubicBezTo>
                    <a:lnTo>
                      <a:pt x="14065" y="8"/>
                    </a:lnTo>
                    <a:cubicBezTo>
                      <a:pt x="14064" y="8"/>
                      <a:pt x="14063" y="7"/>
                      <a:pt x="14063" y="6"/>
                    </a:cubicBezTo>
                    <a:cubicBezTo>
                      <a:pt x="14063" y="4"/>
                      <a:pt x="14064" y="4"/>
                      <a:pt x="14065" y="4"/>
                    </a:cubicBezTo>
                    <a:close/>
                    <a:moveTo>
                      <a:pt x="14073" y="4"/>
                    </a:moveTo>
                    <a:lnTo>
                      <a:pt x="14073" y="4"/>
                    </a:lnTo>
                    <a:cubicBezTo>
                      <a:pt x="14074" y="4"/>
                      <a:pt x="14075" y="4"/>
                      <a:pt x="14075" y="6"/>
                    </a:cubicBezTo>
                    <a:cubicBezTo>
                      <a:pt x="14075" y="7"/>
                      <a:pt x="14074" y="8"/>
                      <a:pt x="14073" y="8"/>
                    </a:cubicBezTo>
                    <a:lnTo>
                      <a:pt x="14073" y="8"/>
                    </a:lnTo>
                    <a:cubicBezTo>
                      <a:pt x="14072" y="8"/>
                      <a:pt x="14071" y="7"/>
                      <a:pt x="14071" y="6"/>
                    </a:cubicBezTo>
                    <a:cubicBezTo>
                      <a:pt x="14071" y="4"/>
                      <a:pt x="14072" y="4"/>
                      <a:pt x="14073" y="4"/>
                    </a:cubicBezTo>
                    <a:close/>
                    <a:moveTo>
                      <a:pt x="14081" y="4"/>
                    </a:moveTo>
                    <a:lnTo>
                      <a:pt x="14081" y="4"/>
                    </a:lnTo>
                    <a:cubicBezTo>
                      <a:pt x="14082" y="4"/>
                      <a:pt x="14083" y="4"/>
                      <a:pt x="14083" y="6"/>
                    </a:cubicBezTo>
                    <a:cubicBezTo>
                      <a:pt x="14083" y="7"/>
                      <a:pt x="14082" y="8"/>
                      <a:pt x="14081" y="8"/>
                    </a:cubicBezTo>
                    <a:lnTo>
                      <a:pt x="14081" y="8"/>
                    </a:lnTo>
                    <a:cubicBezTo>
                      <a:pt x="14080" y="8"/>
                      <a:pt x="14079" y="7"/>
                      <a:pt x="14079" y="6"/>
                    </a:cubicBezTo>
                    <a:cubicBezTo>
                      <a:pt x="14079" y="4"/>
                      <a:pt x="14080" y="4"/>
                      <a:pt x="14081" y="4"/>
                    </a:cubicBezTo>
                    <a:close/>
                    <a:moveTo>
                      <a:pt x="14089" y="4"/>
                    </a:moveTo>
                    <a:lnTo>
                      <a:pt x="14089" y="4"/>
                    </a:lnTo>
                    <a:cubicBezTo>
                      <a:pt x="14090" y="4"/>
                      <a:pt x="14091" y="4"/>
                      <a:pt x="14091" y="6"/>
                    </a:cubicBezTo>
                    <a:cubicBezTo>
                      <a:pt x="14091" y="7"/>
                      <a:pt x="14090" y="8"/>
                      <a:pt x="14089" y="8"/>
                    </a:cubicBezTo>
                    <a:lnTo>
                      <a:pt x="14089" y="8"/>
                    </a:lnTo>
                    <a:cubicBezTo>
                      <a:pt x="14088" y="8"/>
                      <a:pt x="14087" y="7"/>
                      <a:pt x="14087" y="6"/>
                    </a:cubicBezTo>
                    <a:cubicBezTo>
                      <a:pt x="14087" y="4"/>
                      <a:pt x="14088" y="4"/>
                      <a:pt x="14089" y="4"/>
                    </a:cubicBezTo>
                    <a:close/>
                    <a:moveTo>
                      <a:pt x="14097" y="4"/>
                    </a:moveTo>
                    <a:lnTo>
                      <a:pt x="14097" y="4"/>
                    </a:lnTo>
                    <a:cubicBezTo>
                      <a:pt x="14098" y="4"/>
                      <a:pt x="14099" y="4"/>
                      <a:pt x="14099" y="6"/>
                    </a:cubicBezTo>
                    <a:cubicBezTo>
                      <a:pt x="14099" y="7"/>
                      <a:pt x="14098" y="8"/>
                      <a:pt x="14097" y="8"/>
                    </a:cubicBezTo>
                    <a:lnTo>
                      <a:pt x="14097" y="8"/>
                    </a:lnTo>
                    <a:cubicBezTo>
                      <a:pt x="14096" y="8"/>
                      <a:pt x="14095" y="7"/>
                      <a:pt x="14095" y="6"/>
                    </a:cubicBezTo>
                    <a:cubicBezTo>
                      <a:pt x="14095" y="4"/>
                      <a:pt x="14096" y="4"/>
                      <a:pt x="14097" y="4"/>
                    </a:cubicBezTo>
                    <a:close/>
                    <a:moveTo>
                      <a:pt x="14105" y="4"/>
                    </a:moveTo>
                    <a:lnTo>
                      <a:pt x="14105" y="4"/>
                    </a:lnTo>
                    <a:cubicBezTo>
                      <a:pt x="14106" y="4"/>
                      <a:pt x="14107" y="4"/>
                      <a:pt x="14107" y="6"/>
                    </a:cubicBezTo>
                    <a:cubicBezTo>
                      <a:pt x="14107" y="7"/>
                      <a:pt x="14106" y="8"/>
                      <a:pt x="14105" y="8"/>
                    </a:cubicBezTo>
                    <a:lnTo>
                      <a:pt x="14105" y="8"/>
                    </a:lnTo>
                    <a:cubicBezTo>
                      <a:pt x="14104" y="8"/>
                      <a:pt x="14103" y="7"/>
                      <a:pt x="14103" y="6"/>
                    </a:cubicBezTo>
                    <a:cubicBezTo>
                      <a:pt x="14103" y="4"/>
                      <a:pt x="14104" y="4"/>
                      <a:pt x="14105" y="4"/>
                    </a:cubicBezTo>
                    <a:close/>
                    <a:moveTo>
                      <a:pt x="14113" y="4"/>
                    </a:moveTo>
                    <a:lnTo>
                      <a:pt x="14113" y="4"/>
                    </a:lnTo>
                    <a:cubicBezTo>
                      <a:pt x="14114" y="4"/>
                      <a:pt x="14115" y="4"/>
                      <a:pt x="14115" y="6"/>
                    </a:cubicBezTo>
                    <a:cubicBezTo>
                      <a:pt x="14115" y="7"/>
                      <a:pt x="14114" y="8"/>
                      <a:pt x="14113" y="8"/>
                    </a:cubicBezTo>
                    <a:lnTo>
                      <a:pt x="14113" y="8"/>
                    </a:lnTo>
                    <a:cubicBezTo>
                      <a:pt x="14112" y="8"/>
                      <a:pt x="14111" y="7"/>
                      <a:pt x="14111" y="6"/>
                    </a:cubicBezTo>
                    <a:cubicBezTo>
                      <a:pt x="14111" y="4"/>
                      <a:pt x="14112" y="4"/>
                      <a:pt x="14113" y="4"/>
                    </a:cubicBezTo>
                    <a:close/>
                    <a:moveTo>
                      <a:pt x="14121" y="4"/>
                    </a:moveTo>
                    <a:lnTo>
                      <a:pt x="14121" y="4"/>
                    </a:lnTo>
                    <a:cubicBezTo>
                      <a:pt x="14122" y="4"/>
                      <a:pt x="14123" y="4"/>
                      <a:pt x="14123" y="6"/>
                    </a:cubicBezTo>
                    <a:cubicBezTo>
                      <a:pt x="14123" y="7"/>
                      <a:pt x="14122" y="8"/>
                      <a:pt x="14121" y="8"/>
                    </a:cubicBezTo>
                    <a:lnTo>
                      <a:pt x="14121" y="8"/>
                    </a:lnTo>
                    <a:cubicBezTo>
                      <a:pt x="14120" y="8"/>
                      <a:pt x="14119" y="7"/>
                      <a:pt x="14119" y="6"/>
                    </a:cubicBezTo>
                    <a:cubicBezTo>
                      <a:pt x="14119" y="4"/>
                      <a:pt x="14120" y="4"/>
                      <a:pt x="14121" y="4"/>
                    </a:cubicBezTo>
                    <a:close/>
                    <a:moveTo>
                      <a:pt x="14129" y="4"/>
                    </a:moveTo>
                    <a:lnTo>
                      <a:pt x="14129" y="4"/>
                    </a:lnTo>
                    <a:cubicBezTo>
                      <a:pt x="14130" y="4"/>
                      <a:pt x="14131" y="4"/>
                      <a:pt x="14131" y="6"/>
                    </a:cubicBezTo>
                    <a:cubicBezTo>
                      <a:pt x="14131" y="7"/>
                      <a:pt x="14130" y="8"/>
                      <a:pt x="14129" y="8"/>
                    </a:cubicBezTo>
                    <a:lnTo>
                      <a:pt x="14129" y="8"/>
                    </a:lnTo>
                    <a:cubicBezTo>
                      <a:pt x="14128" y="8"/>
                      <a:pt x="14127" y="7"/>
                      <a:pt x="14127" y="6"/>
                    </a:cubicBezTo>
                    <a:cubicBezTo>
                      <a:pt x="14127" y="4"/>
                      <a:pt x="14128" y="4"/>
                      <a:pt x="14129" y="4"/>
                    </a:cubicBezTo>
                    <a:close/>
                    <a:moveTo>
                      <a:pt x="14137" y="4"/>
                    </a:moveTo>
                    <a:lnTo>
                      <a:pt x="14137" y="4"/>
                    </a:lnTo>
                    <a:cubicBezTo>
                      <a:pt x="14138" y="4"/>
                      <a:pt x="14139" y="4"/>
                      <a:pt x="14139" y="6"/>
                    </a:cubicBezTo>
                    <a:cubicBezTo>
                      <a:pt x="14139" y="7"/>
                      <a:pt x="14138" y="8"/>
                      <a:pt x="14137" y="8"/>
                    </a:cubicBezTo>
                    <a:lnTo>
                      <a:pt x="14137" y="8"/>
                    </a:lnTo>
                    <a:cubicBezTo>
                      <a:pt x="14136" y="8"/>
                      <a:pt x="14135" y="7"/>
                      <a:pt x="14135" y="6"/>
                    </a:cubicBezTo>
                    <a:cubicBezTo>
                      <a:pt x="14135" y="4"/>
                      <a:pt x="14136" y="4"/>
                      <a:pt x="14137" y="4"/>
                    </a:cubicBezTo>
                    <a:close/>
                    <a:moveTo>
                      <a:pt x="14145" y="4"/>
                    </a:moveTo>
                    <a:lnTo>
                      <a:pt x="14145" y="4"/>
                    </a:lnTo>
                    <a:cubicBezTo>
                      <a:pt x="14146" y="4"/>
                      <a:pt x="14147" y="4"/>
                      <a:pt x="14147" y="6"/>
                    </a:cubicBezTo>
                    <a:cubicBezTo>
                      <a:pt x="14147" y="7"/>
                      <a:pt x="14146" y="8"/>
                      <a:pt x="14145" y="8"/>
                    </a:cubicBezTo>
                    <a:lnTo>
                      <a:pt x="14145" y="8"/>
                    </a:lnTo>
                    <a:cubicBezTo>
                      <a:pt x="14144" y="8"/>
                      <a:pt x="14143" y="7"/>
                      <a:pt x="14143" y="6"/>
                    </a:cubicBezTo>
                    <a:cubicBezTo>
                      <a:pt x="14143" y="4"/>
                      <a:pt x="14144" y="4"/>
                      <a:pt x="14145" y="4"/>
                    </a:cubicBezTo>
                    <a:close/>
                    <a:moveTo>
                      <a:pt x="14153" y="4"/>
                    </a:moveTo>
                    <a:lnTo>
                      <a:pt x="14153" y="4"/>
                    </a:lnTo>
                    <a:cubicBezTo>
                      <a:pt x="14154" y="4"/>
                      <a:pt x="14155" y="4"/>
                      <a:pt x="14155" y="6"/>
                    </a:cubicBezTo>
                    <a:cubicBezTo>
                      <a:pt x="14155" y="7"/>
                      <a:pt x="14154" y="8"/>
                      <a:pt x="14153" y="8"/>
                    </a:cubicBezTo>
                    <a:lnTo>
                      <a:pt x="14153" y="8"/>
                    </a:lnTo>
                    <a:cubicBezTo>
                      <a:pt x="14152" y="8"/>
                      <a:pt x="14151" y="7"/>
                      <a:pt x="14151" y="6"/>
                    </a:cubicBezTo>
                    <a:cubicBezTo>
                      <a:pt x="14151" y="4"/>
                      <a:pt x="14152" y="4"/>
                      <a:pt x="14153" y="4"/>
                    </a:cubicBezTo>
                    <a:close/>
                    <a:moveTo>
                      <a:pt x="14161" y="4"/>
                    </a:moveTo>
                    <a:lnTo>
                      <a:pt x="14161" y="4"/>
                    </a:lnTo>
                    <a:cubicBezTo>
                      <a:pt x="14162" y="4"/>
                      <a:pt x="14163" y="4"/>
                      <a:pt x="14163" y="6"/>
                    </a:cubicBezTo>
                    <a:cubicBezTo>
                      <a:pt x="14163" y="7"/>
                      <a:pt x="14162" y="8"/>
                      <a:pt x="14161" y="8"/>
                    </a:cubicBezTo>
                    <a:lnTo>
                      <a:pt x="14161" y="8"/>
                    </a:lnTo>
                    <a:cubicBezTo>
                      <a:pt x="14160" y="8"/>
                      <a:pt x="14159" y="7"/>
                      <a:pt x="14159" y="6"/>
                    </a:cubicBezTo>
                    <a:cubicBezTo>
                      <a:pt x="14159" y="4"/>
                      <a:pt x="14160" y="4"/>
                      <a:pt x="14161" y="4"/>
                    </a:cubicBezTo>
                    <a:close/>
                    <a:moveTo>
                      <a:pt x="14169" y="4"/>
                    </a:moveTo>
                    <a:lnTo>
                      <a:pt x="14169" y="4"/>
                    </a:lnTo>
                    <a:cubicBezTo>
                      <a:pt x="14171" y="4"/>
                      <a:pt x="14171" y="4"/>
                      <a:pt x="14171" y="6"/>
                    </a:cubicBezTo>
                    <a:cubicBezTo>
                      <a:pt x="14171" y="7"/>
                      <a:pt x="14171" y="8"/>
                      <a:pt x="14169" y="8"/>
                    </a:cubicBezTo>
                    <a:lnTo>
                      <a:pt x="14169" y="8"/>
                    </a:lnTo>
                    <a:cubicBezTo>
                      <a:pt x="14168" y="8"/>
                      <a:pt x="14167" y="7"/>
                      <a:pt x="14167" y="6"/>
                    </a:cubicBezTo>
                    <a:cubicBezTo>
                      <a:pt x="14167" y="4"/>
                      <a:pt x="14168" y="4"/>
                      <a:pt x="14169" y="4"/>
                    </a:cubicBezTo>
                    <a:close/>
                    <a:moveTo>
                      <a:pt x="14177" y="4"/>
                    </a:moveTo>
                    <a:lnTo>
                      <a:pt x="14177" y="4"/>
                    </a:lnTo>
                    <a:cubicBezTo>
                      <a:pt x="14179" y="4"/>
                      <a:pt x="14179" y="4"/>
                      <a:pt x="14179" y="6"/>
                    </a:cubicBezTo>
                    <a:cubicBezTo>
                      <a:pt x="14179" y="7"/>
                      <a:pt x="14179" y="8"/>
                      <a:pt x="14177" y="8"/>
                    </a:cubicBezTo>
                    <a:lnTo>
                      <a:pt x="14177" y="8"/>
                    </a:lnTo>
                    <a:cubicBezTo>
                      <a:pt x="14176" y="8"/>
                      <a:pt x="14175" y="7"/>
                      <a:pt x="14175" y="6"/>
                    </a:cubicBezTo>
                    <a:cubicBezTo>
                      <a:pt x="14175" y="4"/>
                      <a:pt x="14176" y="4"/>
                      <a:pt x="14177" y="4"/>
                    </a:cubicBezTo>
                    <a:close/>
                    <a:moveTo>
                      <a:pt x="14185" y="4"/>
                    </a:moveTo>
                    <a:lnTo>
                      <a:pt x="14185" y="4"/>
                    </a:lnTo>
                    <a:cubicBezTo>
                      <a:pt x="14187" y="4"/>
                      <a:pt x="14187" y="4"/>
                      <a:pt x="14187" y="6"/>
                    </a:cubicBezTo>
                    <a:cubicBezTo>
                      <a:pt x="14187" y="7"/>
                      <a:pt x="14187" y="8"/>
                      <a:pt x="14185" y="8"/>
                    </a:cubicBezTo>
                    <a:lnTo>
                      <a:pt x="14185" y="8"/>
                    </a:lnTo>
                    <a:cubicBezTo>
                      <a:pt x="14184" y="8"/>
                      <a:pt x="14183" y="7"/>
                      <a:pt x="14183" y="6"/>
                    </a:cubicBezTo>
                    <a:cubicBezTo>
                      <a:pt x="14183" y="4"/>
                      <a:pt x="14184" y="4"/>
                      <a:pt x="14185" y="4"/>
                    </a:cubicBezTo>
                    <a:close/>
                    <a:moveTo>
                      <a:pt x="14193" y="4"/>
                    </a:moveTo>
                    <a:lnTo>
                      <a:pt x="14193" y="4"/>
                    </a:lnTo>
                    <a:cubicBezTo>
                      <a:pt x="14195" y="4"/>
                      <a:pt x="14195" y="4"/>
                      <a:pt x="14195" y="6"/>
                    </a:cubicBezTo>
                    <a:cubicBezTo>
                      <a:pt x="14195" y="7"/>
                      <a:pt x="14195" y="8"/>
                      <a:pt x="14193" y="8"/>
                    </a:cubicBezTo>
                    <a:lnTo>
                      <a:pt x="14193" y="8"/>
                    </a:lnTo>
                    <a:cubicBezTo>
                      <a:pt x="14192" y="8"/>
                      <a:pt x="14191" y="7"/>
                      <a:pt x="14191" y="6"/>
                    </a:cubicBezTo>
                    <a:cubicBezTo>
                      <a:pt x="14191" y="4"/>
                      <a:pt x="14192" y="4"/>
                      <a:pt x="14193" y="4"/>
                    </a:cubicBezTo>
                    <a:close/>
                    <a:moveTo>
                      <a:pt x="14201" y="4"/>
                    </a:moveTo>
                    <a:lnTo>
                      <a:pt x="14201" y="4"/>
                    </a:lnTo>
                    <a:cubicBezTo>
                      <a:pt x="14203" y="4"/>
                      <a:pt x="14203" y="4"/>
                      <a:pt x="14203" y="6"/>
                    </a:cubicBezTo>
                    <a:cubicBezTo>
                      <a:pt x="14203" y="7"/>
                      <a:pt x="14203" y="8"/>
                      <a:pt x="14201" y="8"/>
                    </a:cubicBezTo>
                    <a:lnTo>
                      <a:pt x="14201" y="8"/>
                    </a:lnTo>
                    <a:cubicBezTo>
                      <a:pt x="14200" y="8"/>
                      <a:pt x="14199" y="7"/>
                      <a:pt x="14199" y="6"/>
                    </a:cubicBezTo>
                    <a:cubicBezTo>
                      <a:pt x="14199" y="4"/>
                      <a:pt x="14200" y="4"/>
                      <a:pt x="14201" y="4"/>
                    </a:cubicBezTo>
                    <a:close/>
                    <a:moveTo>
                      <a:pt x="14209" y="4"/>
                    </a:moveTo>
                    <a:lnTo>
                      <a:pt x="14209" y="4"/>
                    </a:lnTo>
                    <a:cubicBezTo>
                      <a:pt x="14211" y="4"/>
                      <a:pt x="14211" y="4"/>
                      <a:pt x="14211" y="6"/>
                    </a:cubicBezTo>
                    <a:cubicBezTo>
                      <a:pt x="14211" y="7"/>
                      <a:pt x="14211" y="8"/>
                      <a:pt x="14209" y="8"/>
                    </a:cubicBezTo>
                    <a:lnTo>
                      <a:pt x="14209" y="8"/>
                    </a:lnTo>
                    <a:cubicBezTo>
                      <a:pt x="14208" y="8"/>
                      <a:pt x="14207" y="7"/>
                      <a:pt x="14207" y="6"/>
                    </a:cubicBezTo>
                    <a:cubicBezTo>
                      <a:pt x="14207" y="4"/>
                      <a:pt x="14208" y="4"/>
                      <a:pt x="14209" y="4"/>
                    </a:cubicBezTo>
                    <a:close/>
                    <a:moveTo>
                      <a:pt x="14217" y="4"/>
                    </a:moveTo>
                    <a:lnTo>
                      <a:pt x="14217" y="4"/>
                    </a:lnTo>
                    <a:cubicBezTo>
                      <a:pt x="14219" y="4"/>
                      <a:pt x="14219" y="4"/>
                      <a:pt x="14219" y="6"/>
                    </a:cubicBezTo>
                    <a:cubicBezTo>
                      <a:pt x="14219" y="7"/>
                      <a:pt x="14219" y="8"/>
                      <a:pt x="14217" y="8"/>
                    </a:cubicBezTo>
                    <a:lnTo>
                      <a:pt x="14217" y="8"/>
                    </a:lnTo>
                    <a:cubicBezTo>
                      <a:pt x="14216" y="8"/>
                      <a:pt x="14215" y="7"/>
                      <a:pt x="14215" y="6"/>
                    </a:cubicBezTo>
                    <a:cubicBezTo>
                      <a:pt x="14215" y="4"/>
                      <a:pt x="14216" y="4"/>
                      <a:pt x="14217" y="4"/>
                    </a:cubicBezTo>
                    <a:close/>
                    <a:moveTo>
                      <a:pt x="14225" y="4"/>
                    </a:moveTo>
                    <a:lnTo>
                      <a:pt x="14225" y="4"/>
                    </a:lnTo>
                    <a:cubicBezTo>
                      <a:pt x="14227" y="4"/>
                      <a:pt x="14227" y="4"/>
                      <a:pt x="14227" y="6"/>
                    </a:cubicBezTo>
                    <a:cubicBezTo>
                      <a:pt x="14227" y="7"/>
                      <a:pt x="14227" y="8"/>
                      <a:pt x="14225" y="8"/>
                    </a:cubicBezTo>
                    <a:lnTo>
                      <a:pt x="14225" y="8"/>
                    </a:lnTo>
                    <a:cubicBezTo>
                      <a:pt x="14224" y="8"/>
                      <a:pt x="14223" y="7"/>
                      <a:pt x="14223" y="6"/>
                    </a:cubicBezTo>
                    <a:cubicBezTo>
                      <a:pt x="14223" y="4"/>
                      <a:pt x="14224" y="4"/>
                      <a:pt x="14225" y="4"/>
                    </a:cubicBezTo>
                    <a:close/>
                    <a:moveTo>
                      <a:pt x="14233" y="4"/>
                    </a:moveTo>
                    <a:lnTo>
                      <a:pt x="14233" y="4"/>
                    </a:lnTo>
                    <a:cubicBezTo>
                      <a:pt x="14235" y="4"/>
                      <a:pt x="14235" y="4"/>
                      <a:pt x="14235" y="6"/>
                    </a:cubicBezTo>
                    <a:cubicBezTo>
                      <a:pt x="14235" y="7"/>
                      <a:pt x="14235" y="8"/>
                      <a:pt x="14233" y="8"/>
                    </a:cubicBezTo>
                    <a:lnTo>
                      <a:pt x="14233" y="8"/>
                    </a:lnTo>
                    <a:cubicBezTo>
                      <a:pt x="14232" y="8"/>
                      <a:pt x="14231" y="7"/>
                      <a:pt x="14231" y="6"/>
                    </a:cubicBezTo>
                    <a:cubicBezTo>
                      <a:pt x="14231" y="4"/>
                      <a:pt x="14232" y="4"/>
                      <a:pt x="14233" y="4"/>
                    </a:cubicBezTo>
                    <a:close/>
                    <a:moveTo>
                      <a:pt x="14241" y="4"/>
                    </a:moveTo>
                    <a:lnTo>
                      <a:pt x="14241" y="4"/>
                    </a:lnTo>
                    <a:cubicBezTo>
                      <a:pt x="14243" y="4"/>
                      <a:pt x="14243" y="4"/>
                      <a:pt x="14243" y="6"/>
                    </a:cubicBezTo>
                    <a:cubicBezTo>
                      <a:pt x="14243" y="7"/>
                      <a:pt x="14243" y="8"/>
                      <a:pt x="14241" y="8"/>
                    </a:cubicBezTo>
                    <a:lnTo>
                      <a:pt x="14241" y="8"/>
                    </a:lnTo>
                    <a:cubicBezTo>
                      <a:pt x="14240" y="8"/>
                      <a:pt x="14239" y="7"/>
                      <a:pt x="14239" y="6"/>
                    </a:cubicBezTo>
                    <a:cubicBezTo>
                      <a:pt x="14239" y="4"/>
                      <a:pt x="14240" y="4"/>
                      <a:pt x="14241" y="4"/>
                    </a:cubicBezTo>
                    <a:close/>
                    <a:moveTo>
                      <a:pt x="14249" y="4"/>
                    </a:moveTo>
                    <a:lnTo>
                      <a:pt x="14249" y="4"/>
                    </a:lnTo>
                    <a:cubicBezTo>
                      <a:pt x="14251" y="4"/>
                      <a:pt x="14251" y="4"/>
                      <a:pt x="14251" y="6"/>
                    </a:cubicBezTo>
                    <a:cubicBezTo>
                      <a:pt x="14251" y="7"/>
                      <a:pt x="14251" y="8"/>
                      <a:pt x="14249" y="8"/>
                    </a:cubicBezTo>
                    <a:lnTo>
                      <a:pt x="14249" y="8"/>
                    </a:lnTo>
                    <a:cubicBezTo>
                      <a:pt x="14248" y="8"/>
                      <a:pt x="14247" y="7"/>
                      <a:pt x="14247" y="6"/>
                    </a:cubicBezTo>
                    <a:cubicBezTo>
                      <a:pt x="14247" y="4"/>
                      <a:pt x="14248" y="4"/>
                      <a:pt x="14249" y="4"/>
                    </a:cubicBezTo>
                    <a:close/>
                    <a:moveTo>
                      <a:pt x="14257" y="4"/>
                    </a:moveTo>
                    <a:lnTo>
                      <a:pt x="14257" y="4"/>
                    </a:lnTo>
                    <a:cubicBezTo>
                      <a:pt x="14259" y="4"/>
                      <a:pt x="14259" y="4"/>
                      <a:pt x="14259" y="6"/>
                    </a:cubicBezTo>
                    <a:cubicBezTo>
                      <a:pt x="14259" y="7"/>
                      <a:pt x="14259" y="8"/>
                      <a:pt x="14257" y="8"/>
                    </a:cubicBezTo>
                    <a:lnTo>
                      <a:pt x="14257" y="8"/>
                    </a:lnTo>
                    <a:cubicBezTo>
                      <a:pt x="14256" y="8"/>
                      <a:pt x="14255" y="7"/>
                      <a:pt x="14255" y="6"/>
                    </a:cubicBezTo>
                    <a:cubicBezTo>
                      <a:pt x="14255" y="4"/>
                      <a:pt x="14256" y="4"/>
                      <a:pt x="14257" y="4"/>
                    </a:cubicBezTo>
                    <a:close/>
                    <a:moveTo>
                      <a:pt x="14265" y="4"/>
                    </a:moveTo>
                    <a:lnTo>
                      <a:pt x="14265" y="4"/>
                    </a:lnTo>
                    <a:cubicBezTo>
                      <a:pt x="14267" y="4"/>
                      <a:pt x="14267" y="4"/>
                      <a:pt x="14267" y="6"/>
                    </a:cubicBezTo>
                    <a:cubicBezTo>
                      <a:pt x="14267" y="7"/>
                      <a:pt x="14267" y="8"/>
                      <a:pt x="14265" y="8"/>
                    </a:cubicBezTo>
                    <a:lnTo>
                      <a:pt x="14265" y="8"/>
                    </a:lnTo>
                    <a:cubicBezTo>
                      <a:pt x="14264" y="8"/>
                      <a:pt x="14263" y="7"/>
                      <a:pt x="14263" y="6"/>
                    </a:cubicBezTo>
                    <a:cubicBezTo>
                      <a:pt x="14263" y="4"/>
                      <a:pt x="14264" y="4"/>
                      <a:pt x="14265" y="4"/>
                    </a:cubicBezTo>
                    <a:close/>
                    <a:moveTo>
                      <a:pt x="14273" y="4"/>
                    </a:moveTo>
                    <a:lnTo>
                      <a:pt x="14273" y="4"/>
                    </a:lnTo>
                    <a:cubicBezTo>
                      <a:pt x="14275" y="4"/>
                      <a:pt x="14275" y="4"/>
                      <a:pt x="14275" y="6"/>
                    </a:cubicBezTo>
                    <a:cubicBezTo>
                      <a:pt x="14275" y="7"/>
                      <a:pt x="14275" y="8"/>
                      <a:pt x="14273" y="8"/>
                    </a:cubicBezTo>
                    <a:lnTo>
                      <a:pt x="14273" y="8"/>
                    </a:lnTo>
                    <a:cubicBezTo>
                      <a:pt x="14272" y="8"/>
                      <a:pt x="14271" y="7"/>
                      <a:pt x="14271" y="6"/>
                    </a:cubicBezTo>
                    <a:cubicBezTo>
                      <a:pt x="14271" y="4"/>
                      <a:pt x="14272" y="4"/>
                      <a:pt x="14273" y="4"/>
                    </a:cubicBezTo>
                    <a:close/>
                    <a:moveTo>
                      <a:pt x="14281" y="4"/>
                    </a:moveTo>
                    <a:lnTo>
                      <a:pt x="14281" y="4"/>
                    </a:lnTo>
                    <a:cubicBezTo>
                      <a:pt x="14283" y="4"/>
                      <a:pt x="14283" y="4"/>
                      <a:pt x="14283" y="6"/>
                    </a:cubicBezTo>
                    <a:cubicBezTo>
                      <a:pt x="14283" y="7"/>
                      <a:pt x="14283" y="8"/>
                      <a:pt x="14281" y="8"/>
                    </a:cubicBezTo>
                    <a:lnTo>
                      <a:pt x="14281" y="8"/>
                    </a:lnTo>
                    <a:cubicBezTo>
                      <a:pt x="14280" y="8"/>
                      <a:pt x="14279" y="7"/>
                      <a:pt x="14279" y="6"/>
                    </a:cubicBezTo>
                    <a:cubicBezTo>
                      <a:pt x="14279" y="4"/>
                      <a:pt x="14280" y="4"/>
                      <a:pt x="14281" y="4"/>
                    </a:cubicBezTo>
                    <a:close/>
                    <a:moveTo>
                      <a:pt x="14289" y="4"/>
                    </a:moveTo>
                    <a:lnTo>
                      <a:pt x="14289" y="4"/>
                    </a:lnTo>
                    <a:cubicBezTo>
                      <a:pt x="14291" y="4"/>
                      <a:pt x="14291" y="4"/>
                      <a:pt x="14291" y="6"/>
                    </a:cubicBezTo>
                    <a:cubicBezTo>
                      <a:pt x="14291" y="7"/>
                      <a:pt x="14291" y="8"/>
                      <a:pt x="14289" y="8"/>
                    </a:cubicBezTo>
                    <a:lnTo>
                      <a:pt x="14289" y="8"/>
                    </a:lnTo>
                    <a:cubicBezTo>
                      <a:pt x="14288" y="8"/>
                      <a:pt x="14287" y="7"/>
                      <a:pt x="14287" y="6"/>
                    </a:cubicBezTo>
                    <a:cubicBezTo>
                      <a:pt x="14287" y="4"/>
                      <a:pt x="14288" y="4"/>
                      <a:pt x="14289" y="4"/>
                    </a:cubicBezTo>
                    <a:close/>
                    <a:moveTo>
                      <a:pt x="14297" y="4"/>
                    </a:moveTo>
                    <a:lnTo>
                      <a:pt x="14297" y="4"/>
                    </a:lnTo>
                    <a:cubicBezTo>
                      <a:pt x="14299" y="4"/>
                      <a:pt x="14299" y="4"/>
                      <a:pt x="14299" y="6"/>
                    </a:cubicBezTo>
                    <a:cubicBezTo>
                      <a:pt x="14299" y="7"/>
                      <a:pt x="14299" y="8"/>
                      <a:pt x="14297" y="8"/>
                    </a:cubicBezTo>
                    <a:lnTo>
                      <a:pt x="14297" y="8"/>
                    </a:lnTo>
                    <a:cubicBezTo>
                      <a:pt x="14296" y="8"/>
                      <a:pt x="14295" y="7"/>
                      <a:pt x="14295" y="6"/>
                    </a:cubicBezTo>
                    <a:cubicBezTo>
                      <a:pt x="14295" y="4"/>
                      <a:pt x="14296" y="4"/>
                      <a:pt x="14297" y="4"/>
                    </a:cubicBezTo>
                    <a:close/>
                    <a:moveTo>
                      <a:pt x="14305" y="4"/>
                    </a:moveTo>
                    <a:lnTo>
                      <a:pt x="14306" y="4"/>
                    </a:lnTo>
                    <a:cubicBezTo>
                      <a:pt x="14307" y="4"/>
                      <a:pt x="14308" y="5"/>
                      <a:pt x="14308" y="6"/>
                    </a:cubicBezTo>
                    <a:cubicBezTo>
                      <a:pt x="14308" y="7"/>
                      <a:pt x="14307" y="8"/>
                      <a:pt x="14306" y="8"/>
                    </a:cubicBezTo>
                    <a:lnTo>
                      <a:pt x="14305" y="8"/>
                    </a:lnTo>
                    <a:cubicBezTo>
                      <a:pt x="14304" y="8"/>
                      <a:pt x="14303" y="7"/>
                      <a:pt x="14303" y="6"/>
                    </a:cubicBezTo>
                    <a:cubicBezTo>
                      <a:pt x="14303" y="5"/>
                      <a:pt x="14304" y="4"/>
                      <a:pt x="14305" y="4"/>
                    </a:cubicBezTo>
                    <a:close/>
                    <a:moveTo>
                      <a:pt x="14314" y="4"/>
                    </a:moveTo>
                    <a:lnTo>
                      <a:pt x="14314" y="4"/>
                    </a:lnTo>
                    <a:cubicBezTo>
                      <a:pt x="14315" y="4"/>
                      <a:pt x="14316" y="5"/>
                      <a:pt x="14316" y="6"/>
                    </a:cubicBezTo>
                    <a:cubicBezTo>
                      <a:pt x="14316" y="7"/>
                      <a:pt x="14315" y="8"/>
                      <a:pt x="14314" y="8"/>
                    </a:cubicBezTo>
                    <a:lnTo>
                      <a:pt x="14314" y="8"/>
                    </a:lnTo>
                    <a:cubicBezTo>
                      <a:pt x="14312" y="8"/>
                      <a:pt x="14312" y="7"/>
                      <a:pt x="14312" y="6"/>
                    </a:cubicBezTo>
                    <a:cubicBezTo>
                      <a:pt x="14312" y="5"/>
                      <a:pt x="14312" y="4"/>
                      <a:pt x="14314" y="4"/>
                    </a:cubicBezTo>
                    <a:close/>
                    <a:moveTo>
                      <a:pt x="14322" y="4"/>
                    </a:moveTo>
                    <a:lnTo>
                      <a:pt x="14322" y="4"/>
                    </a:lnTo>
                    <a:cubicBezTo>
                      <a:pt x="14323" y="4"/>
                      <a:pt x="14324" y="5"/>
                      <a:pt x="14324" y="6"/>
                    </a:cubicBezTo>
                    <a:cubicBezTo>
                      <a:pt x="14324" y="7"/>
                      <a:pt x="14323" y="8"/>
                      <a:pt x="14322" y="8"/>
                    </a:cubicBezTo>
                    <a:lnTo>
                      <a:pt x="14322" y="8"/>
                    </a:lnTo>
                    <a:cubicBezTo>
                      <a:pt x="14320" y="8"/>
                      <a:pt x="14320" y="7"/>
                      <a:pt x="14320" y="6"/>
                    </a:cubicBezTo>
                    <a:cubicBezTo>
                      <a:pt x="14320" y="5"/>
                      <a:pt x="14320" y="4"/>
                      <a:pt x="14322" y="4"/>
                    </a:cubicBezTo>
                    <a:close/>
                    <a:moveTo>
                      <a:pt x="14330" y="4"/>
                    </a:moveTo>
                    <a:lnTo>
                      <a:pt x="14330" y="4"/>
                    </a:lnTo>
                    <a:cubicBezTo>
                      <a:pt x="14331" y="4"/>
                      <a:pt x="14332" y="5"/>
                      <a:pt x="14332" y="6"/>
                    </a:cubicBezTo>
                    <a:cubicBezTo>
                      <a:pt x="14332" y="7"/>
                      <a:pt x="14331" y="8"/>
                      <a:pt x="14330" y="8"/>
                    </a:cubicBezTo>
                    <a:lnTo>
                      <a:pt x="14330" y="8"/>
                    </a:lnTo>
                    <a:cubicBezTo>
                      <a:pt x="14328" y="8"/>
                      <a:pt x="14328" y="7"/>
                      <a:pt x="14328" y="6"/>
                    </a:cubicBezTo>
                    <a:cubicBezTo>
                      <a:pt x="14328" y="5"/>
                      <a:pt x="14328" y="4"/>
                      <a:pt x="14330" y="4"/>
                    </a:cubicBezTo>
                    <a:close/>
                    <a:moveTo>
                      <a:pt x="14338" y="4"/>
                    </a:moveTo>
                    <a:lnTo>
                      <a:pt x="14338" y="4"/>
                    </a:lnTo>
                    <a:cubicBezTo>
                      <a:pt x="14339" y="4"/>
                      <a:pt x="14340" y="5"/>
                      <a:pt x="14340" y="6"/>
                    </a:cubicBezTo>
                    <a:cubicBezTo>
                      <a:pt x="14340" y="7"/>
                      <a:pt x="14339" y="8"/>
                      <a:pt x="14338" y="8"/>
                    </a:cubicBezTo>
                    <a:lnTo>
                      <a:pt x="14338" y="8"/>
                    </a:lnTo>
                    <a:cubicBezTo>
                      <a:pt x="14336" y="8"/>
                      <a:pt x="14336" y="7"/>
                      <a:pt x="14336" y="6"/>
                    </a:cubicBezTo>
                    <a:cubicBezTo>
                      <a:pt x="14336" y="5"/>
                      <a:pt x="14336" y="4"/>
                      <a:pt x="14338" y="4"/>
                    </a:cubicBezTo>
                    <a:close/>
                    <a:moveTo>
                      <a:pt x="14346" y="4"/>
                    </a:moveTo>
                    <a:lnTo>
                      <a:pt x="14346" y="4"/>
                    </a:lnTo>
                    <a:cubicBezTo>
                      <a:pt x="14347" y="4"/>
                      <a:pt x="14348" y="5"/>
                      <a:pt x="14348" y="6"/>
                    </a:cubicBezTo>
                    <a:cubicBezTo>
                      <a:pt x="14348" y="7"/>
                      <a:pt x="14347" y="8"/>
                      <a:pt x="14346" y="8"/>
                    </a:cubicBezTo>
                    <a:lnTo>
                      <a:pt x="14346" y="8"/>
                    </a:lnTo>
                    <a:cubicBezTo>
                      <a:pt x="14344" y="8"/>
                      <a:pt x="14344" y="7"/>
                      <a:pt x="14344" y="6"/>
                    </a:cubicBezTo>
                    <a:cubicBezTo>
                      <a:pt x="14344" y="5"/>
                      <a:pt x="14344" y="4"/>
                      <a:pt x="14346" y="4"/>
                    </a:cubicBezTo>
                    <a:close/>
                    <a:moveTo>
                      <a:pt x="14354" y="4"/>
                    </a:moveTo>
                    <a:lnTo>
                      <a:pt x="14354" y="4"/>
                    </a:lnTo>
                    <a:cubicBezTo>
                      <a:pt x="14355" y="4"/>
                      <a:pt x="14356" y="5"/>
                      <a:pt x="14356" y="6"/>
                    </a:cubicBezTo>
                    <a:cubicBezTo>
                      <a:pt x="14356" y="7"/>
                      <a:pt x="14355" y="8"/>
                      <a:pt x="14354" y="8"/>
                    </a:cubicBezTo>
                    <a:lnTo>
                      <a:pt x="14354" y="8"/>
                    </a:lnTo>
                    <a:cubicBezTo>
                      <a:pt x="14352" y="8"/>
                      <a:pt x="14352" y="7"/>
                      <a:pt x="14352" y="6"/>
                    </a:cubicBezTo>
                    <a:cubicBezTo>
                      <a:pt x="14352" y="5"/>
                      <a:pt x="14352" y="4"/>
                      <a:pt x="14354" y="4"/>
                    </a:cubicBezTo>
                    <a:close/>
                    <a:moveTo>
                      <a:pt x="14362" y="4"/>
                    </a:moveTo>
                    <a:lnTo>
                      <a:pt x="14362" y="4"/>
                    </a:lnTo>
                    <a:cubicBezTo>
                      <a:pt x="14363" y="4"/>
                      <a:pt x="14364" y="5"/>
                      <a:pt x="14364" y="6"/>
                    </a:cubicBezTo>
                    <a:cubicBezTo>
                      <a:pt x="14364" y="7"/>
                      <a:pt x="14363" y="8"/>
                      <a:pt x="14362" y="8"/>
                    </a:cubicBezTo>
                    <a:lnTo>
                      <a:pt x="14362" y="8"/>
                    </a:lnTo>
                    <a:cubicBezTo>
                      <a:pt x="14360" y="8"/>
                      <a:pt x="14360" y="7"/>
                      <a:pt x="14360" y="6"/>
                    </a:cubicBezTo>
                    <a:cubicBezTo>
                      <a:pt x="14360" y="5"/>
                      <a:pt x="14360" y="4"/>
                      <a:pt x="14362" y="4"/>
                    </a:cubicBezTo>
                    <a:close/>
                    <a:moveTo>
                      <a:pt x="14370" y="4"/>
                    </a:moveTo>
                    <a:lnTo>
                      <a:pt x="14370" y="4"/>
                    </a:lnTo>
                    <a:cubicBezTo>
                      <a:pt x="14371" y="4"/>
                      <a:pt x="14372" y="5"/>
                      <a:pt x="14372" y="6"/>
                    </a:cubicBezTo>
                    <a:cubicBezTo>
                      <a:pt x="14372" y="7"/>
                      <a:pt x="14371" y="8"/>
                      <a:pt x="14370" y="8"/>
                    </a:cubicBezTo>
                    <a:lnTo>
                      <a:pt x="14370" y="8"/>
                    </a:lnTo>
                    <a:cubicBezTo>
                      <a:pt x="14368" y="8"/>
                      <a:pt x="14368" y="7"/>
                      <a:pt x="14368" y="6"/>
                    </a:cubicBezTo>
                    <a:cubicBezTo>
                      <a:pt x="14368" y="5"/>
                      <a:pt x="14368" y="4"/>
                      <a:pt x="14370" y="4"/>
                    </a:cubicBezTo>
                    <a:close/>
                    <a:moveTo>
                      <a:pt x="14378" y="4"/>
                    </a:moveTo>
                    <a:lnTo>
                      <a:pt x="14378" y="4"/>
                    </a:lnTo>
                    <a:cubicBezTo>
                      <a:pt x="14379" y="4"/>
                      <a:pt x="14380" y="5"/>
                      <a:pt x="14380" y="6"/>
                    </a:cubicBezTo>
                    <a:cubicBezTo>
                      <a:pt x="14380" y="7"/>
                      <a:pt x="14379" y="8"/>
                      <a:pt x="14378" y="8"/>
                    </a:cubicBezTo>
                    <a:lnTo>
                      <a:pt x="14378" y="8"/>
                    </a:lnTo>
                    <a:cubicBezTo>
                      <a:pt x="14376" y="8"/>
                      <a:pt x="14376" y="7"/>
                      <a:pt x="14376" y="6"/>
                    </a:cubicBezTo>
                    <a:cubicBezTo>
                      <a:pt x="14376" y="5"/>
                      <a:pt x="14376" y="4"/>
                      <a:pt x="14378" y="4"/>
                    </a:cubicBezTo>
                    <a:close/>
                    <a:moveTo>
                      <a:pt x="14386" y="4"/>
                    </a:moveTo>
                    <a:lnTo>
                      <a:pt x="14386" y="4"/>
                    </a:lnTo>
                    <a:cubicBezTo>
                      <a:pt x="14387" y="4"/>
                      <a:pt x="14388" y="5"/>
                      <a:pt x="14388" y="6"/>
                    </a:cubicBezTo>
                    <a:cubicBezTo>
                      <a:pt x="14388" y="7"/>
                      <a:pt x="14387" y="8"/>
                      <a:pt x="14386" y="8"/>
                    </a:cubicBezTo>
                    <a:lnTo>
                      <a:pt x="14386" y="8"/>
                    </a:lnTo>
                    <a:cubicBezTo>
                      <a:pt x="14384" y="8"/>
                      <a:pt x="14384" y="7"/>
                      <a:pt x="14384" y="6"/>
                    </a:cubicBezTo>
                    <a:cubicBezTo>
                      <a:pt x="14384" y="5"/>
                      <a:pt x="14384" y="4"/>
                      <a:pt x="14386" y="4"/>
                    </a:cubicBezTo>
                    <a:close/>
                    <a:moveTo>
                      <a:pt x="14394" y="4"/>
                    </a:moveTo>
                    <a:lnTo>
                      <a:pt x="14394" y="4"/>
                    </a:lnTo>
                    <a:cubicBezTo>
                      <a:pt x="14395" y="4"/>
                      <a:pt x="14396" y="5"/>
                      <a:pt x="14396" y="6"/>
                    </a:cubicBezTo>
                    <a:cubicBezTo>
                      <a:pt x="14396" y="7"/>
                      <a:pt x="14395" y="8"/>
                      <a:pt x="14394" y="8"/>
                    </a:cubicBezTo>
                    <a:lnTo>
                      <a:pt x="14394" y="8"/>
                    </a:lnTo>
                    <a:cubicBezTo>
                      <a:pt x="14392" y="8"/>
                      <a:pt x="14392" y="7"/>
                      <a:pt x="14392" y="6"/>
                    </a:cubicBezTo>
                    <a:cubicBezTo>
                      <a:pt x="14392" y="5"/>
                      <a:pt x="14392" y="4"/>
                      <a:pt x="14394" y="4"/>
                    </a:cubicBezTo>
                    <a:close/>
                    <a:moveTo>
                      <a:pt x="14402" y="4"/>
                    </a:moveTo>
                    <a:lnTo>
                      <a:pt x="14402" y="4"/>
                    </a:lnTo>
                    <a:cubicBezTo>
                      <a:pt x="14403" y="4"/>
                      <a:pt x="14404" y="5"/>
                      <a:pt x="14404" y="6"/>
                    </a:cubicBezTo>
                    <a:cubicBezTo>
                      <a:pt x="14404" y="7"/>
                      <a:pt x="14403" y="8"/>
                      <a:pt x="14402" y="8"/>
                    </a:cubicBezTo>
                    <a:lnTo>
                      <a:pt x="14402" y="8"/>
                    </a:lnTo>
                    <a:cubicBezTo>
                      <a:pt x="14400" y="8"/>
                      <a:pt x="14400" y="7"/>
                      <a:pt x="14400" y="6"/>
                    </a:cubicBezTo>
                    <a:cubicBezTo>
                      <a:pt x="14400" y="5"/>
                      <a:pt x="14400" y="4"/>
                      <a:pt x="14402" y="4"/>
                    </a:cubicBezTo>
                    <a:close/>
                    <a:moveTo>
                      <a:pt x="14410" y="4"/>
                    </a:moveTo>
                    <a:lnTo>
                      <a:pt x="14410" y="4"/>
                    </a:lnTo>
                    <a:cubicBezTo>
                      <a:pt x="14411" y="4"/>
                      <a:pt x="14412" y="5"/>
                      <a:pt x="14412" y="6"/>
                    </a:cubicBezTo>
                    <a:cubicBezTo>
                      <a:pt x="14412" y="7"/>
                      <a:pt x="14411" y="8"/>
                      <a:pt x="14410" y="8"/>
                    </a:cubicBezTo>
                    <a:lnTo>
                      <a:pt x="14410" y="8"/>
                    </a:lnTo>
                    <a:cubicBezTo>
                      <a:pt x="14408" y="8"/>
                      <a:pt x="14408" y="7"/>
                      <a:pt x="14408" y="6"/>
                    </a:cubicBezTo>
                    <a:cubicBezTo>
                      <a:pt x="14408" y="5"/>
                      <a:pt x="14408" y="4"/>
                      <a:pt x="14410" y="4"/>
                    </a:cubicBezTo>
                    <a:close/>
                    <a:moveTo>
                      <a:pt x="14418" y="4"/>
                    </a:moveTo>
                    <a:lnTo>
                      <a:pt x="14418" y="4"/>
                    </a:lnTo>
                    <a:cubicBezTo>
                      <a:pt x="14419" y="4"/>
                      <a:pt x="14420" y="5"/>
                      <a:pt x="14420" y="6"/>
                    </a:cubicBezTo>
                    <a:cubicBezTo>
                      <a:pt x="14420" y="7"/>
                      <a:pt x="14419" y="8"/>
                      <a:pt x="14418" y="8"/>
                    </a:cubicBezTo>
                    <a:lnTo>
                      <a:pt x="14418" y="8"/>
                    </a:lnTo>
                    <a:cubicBezTo>
                      <a:pt x="14416" y="8"/>
                      <a:pt x="14416" y="7"/>
                      <a:pt x="14416" y="6"/>
                    </a:cubicBezTo>
                    <a:cubicBezTo>
                      <a:pt x="14416" y="5"/>
                      <a:pt x="14416" y="4"/>
                      <a:pt x="14418" y="4"/>
                    </a:cubicBezTo>
                    <a:close/>
                    <a:moveTo>
                      <a:pt x="14426" y="4"/>
                    </a:moveTo>
                    <a:lnTo>
                      <a:pt x="14426" y="4"/>
                    </a:lnTo>
                    <a:cubicBezTo>
                      <a:pt x="14427" y="4"/>
                      <a:pt x="14428" y="5"/>
                      <a:pt x="14428" y="6"/>
                    </a:cubicBezTo>
                    <a:cubicBezTo>
                      <a:pt x="14428" y="7"/>
                      <a:pt x="14427" y="8"/>
                      <a:pt x="14426" y="8"/>
                    </a:cubicBezTo>
                    <a:lnTo>
                      <a:pt x="14426" y="8"/>
                    </a:lnTo>
                    <a:cubicBezTo>
                      <a:pt x="14424" y="8"/>
                      <a:pt x="14424" y="7"/>
                      <a:pt x="14424" y="6"/>
                    </a:cubicBezTo>
                    <a:cubicBezTo>
                      <a:pt x="14424" y="5"/>
                      <a:pt x="14424" y="4"/>
                      <a:pt x="14426" y="4"/>
                    </a:cubicBezTo>
                    <a:close/>
                    <a:moveTo>
                      <a:pt x="14434" y="4"/>
                    </a:moveTo>
                    <a:lnTo>
                      <a:pt x="14434" y="4"/>
                    </a:lnTo>
                    <a:cubicBezTo>
                      <a:pt x="14435" y="4"/>
                      <a:pt x="14436" y="5"/>
                      <a:pt x="14436" y="6"/>
                    </a:cubicBezTo>
                    <a:cubicBezTo>
                      <a:pt x="14436" y="7"/>
                      <a:pt x="14435" y="8"/>
                      <a:pt x="14434" y="8"/>
                    </a:cubicBezTo>
                    <a:lnTo>
                      <a:pt x="14434" y="8"/>
                    </a:lnTo>
                    <a:cubicBezTo>
                      <a:pt x="14432" y="8"/>
                      <a:pt x="14432" y="7"/>
                      <a:pt x="14432" y="6"/>
                    </a:cubicBezTo>
                    <a:cubicBezTo>
                      <a:pt x="14432" y="5"/>
                      <a:pt x="14432" y="4"/>
                      <a:pt x="14434" y="4"/>
                    </a:cubicBezTo>
                    <a:close/>
                    <a:moveTo>
                      <a:pt x="14442" y="4"/>
                    </a:moveTo>
                    <a:lnTo>
                      <a:pt x="14442" y="4"/>
                    </a:lnTo>
                    <a:cubicBezTo>
                      <a:pt x="14443" y="4"/>
                      <a:pt x="14444" y="5"/>
                      <a:pt x="14444" y="6"/>
                    </a:cubicBezTo>
                    <a:cubicBezTo>
                      <a:pt x="14444" y="7"/>
                      <a:pt x="14443" y="8"/>
                      <a:pt x="14442" y="8"/>
                    </a:cubicBezTo>
                    <a:lnTo>
                      <a:pt x="14442" y="8"/>
                    </a:lnTo>
                    <a:cubicBezTo>
                      <a:pt x="14440" y="8"/>
                      <a:pt x="14440" y="7"/>
                      <a:pt x="14440" y="6"/>
                    </a:cubicBezTo>
                    <a:cubicBezTo>
                      <a:pt x="14440" y="5"/>
                      <a:pt x="14440" y="4"/>
                      <a:pt x="14442" y="4"/>
                    </a:cubicBezTo>
                    <a:close/>
                    <a:moveTo>
                      <a:pt x="14450" y="4"/>
                    </a:moveTo>
                    <a:lnTo>
                      <a:pt x="14450" y="4"/>
                    </a:lnTo>
                    <a:cubicBezTo>
                      <a:pt x="14451" y="4"/>
                      <a:pt x="14452" y="5"/>
                      <a:pt x="14452" y="6"/>
                    </a:cubicBezTo>
                    <a:cubicBezTo>
                      <a:pt x="14452" y="7"/>
                      <a:pt x="14451" y="8"/>
                      <a:pt x="14450" y="8"/>
                    </a:cubicBezTo>
                    <a:lnTo>
                      <a:pt x="14450" y="8"/>
                    </a:lnTo>
                    <a:cubicBezTo>
                      <a:pt x="14448" y="8"/>
                      <a:pt x="14448" y="7"/>
                      <a:pt x="14448" y="6"/>
                    </a:cubicBezTo>
                    <a:cubicBezTo>
                      <a:pt x="14448" y="5"/>
                      <a:pt x="14448" y="4"/>
                      <a:pt x="14450" y="4"/>
                    </a:cubicBezTo>
                    <a:close/>
                    <a:moveTo>
                      <a:pt x="14458" y="4"/>
                    </a:moveTo>
                    <a:lnTo>
                      <a:pt x="14458" y="4"/>
                    </a:lnTo>
                    <a:cubicBezTo>
                      <a:pt x="14459" y="4"/>
                      <a:pt x="14460" y="5"/>
                      <a:pt x="14460" y="6"/>
                    </a:cubicBezTo>
                    <a:cubicBezTo>
                      <a:pt x="14460" y="7"/>
                      <a:pt x="14459" y="8"/>
                      <a:pt x="14458" y="8"/>
                    </a:cubicBezTo>
                    <a:lnTo>
                      <a:pt x="14458" y="8"/>
                    </a:lnTo>
                    <a:cubicBezTo>
                      <a:pt x="14457" y="8"/>
                      <a:pt x="14456" y="7"/>
                      <a:pt x="14456" y="6"/>
                    </a:cubicBezTo>
                    <a:cubicBezTo>
                      <a:pt x="14456" y="5"/>
                      <a:pt x="14457" y="4"/>
                      <a:pt x="14458" y="4"/>
                    </a:cubicBezTo>
                    <a:close/>
                    <a:moveTo>
                      <a:pt x="14466" y="4"/>
                    </a:moveTo>
                    <a:lnTo>
                      <a:pt x="14466" y="4"/>
                    </a:lnTo>
                    <a:cubicBezTo>
                      <a:pt x="14467" y="4"/>
                      <a:pt x="14468" y="5"/>
                      <a:pt x="14468" y="6"/>
                    </a:cubicBezTo>
                    <a:cubicBezTo>
                      <a:pt x="14468" y="7"/>
                      <a:pt x="14467" y="8"/>
                      <a:pt x="14466" y="8"/>
                    </a:cubicBezTo>
                    <a:lnTo>
                      <a:pt x="14466" y="8"/>
                    </a:lnTo>
                    <a:cubicBezTo>
                      <a:pt x="14465" y="8"/>
                      <a:pt x="14464" y="7"/>
                      <a:pt x="14464" y="6"/>
                    </a:cubicBezTo>
                    <a:cubicBezTo>
                      <a:pt x="14464" y="5"/>
                      <a:pt x="14465" y="4"/>
                      <a:pt x="14466" y="4"/>
                    </a:cubicBezTo>
                    <a:close/>
                    <a:moveTo>
                      <a:pt x="14474" y="4"/>
                    </a:moveTo>
                    <a:lnTo>
                      <a:pt x="14474" y="4"/>
                    </a:lnTo>
                    <a:cubicBezTo>
                      <a:pt x="14475" y="4"/>
                      <a:pt x="14476" y="5"/>
                      <a:pt x="14476" y="6"/>
                    </a:cubicBezTo>
                    <a:cubicBezTo>
                      <a:pt x="14476" y="7"/>
                      <a:pt x="14475" y="8"/>
                      <a:pt x="14474" y="8"/>
                    </a:cubicBezTo>
                    <a:lnTo>
                      <a:pt x="14474" y="8"/>
                    </a:lnTo>
                    <a:cubicBezTo>
                      <a:pt x="14473" y="8"/>
                      <a:pt x="14472" y="7"/>
                      <a:pt x="14472" y="6"/>
                    </a:cubicBezTo>
                    <a:cubicBezTo>
                      <a:pt x="14472" y="5"/>
                      <a:pt x="14473" y="4"/>
                      <a:pt x="14474" y="4"/>
                    </a:cubicBezTo>
                    <a:close/>
                    <a:moveTo>
                      <a:pt x="14482" y="4"/>
                    </a:moveTo>
                    <a:lnTo>
                      <a:pt x="14482" y="4"/>
                    </a:lnTo>
                    <a:cubicBezTo>
                      <a:pt x="14483" y="4"/>
                      <a:pt x="14484" y="5"/>
                      <a:pt x="14484" y="6"/>
                    </a:cubicBezTo>
                    <a:cubicBezTo>
                      <a:pt x="14484" y="7"/>
                      <a:pt x="14483" y="8"/>
                      <a:pt x="14482" y="8"/>
                    </a:cubicBezTo>
                    <a:lnTo>
                      <a:pt x="14482" y="8"/>
                    </a:lnTo>
                    <a:cubicBezTo>
                      <a:pt x="14481" y="8"/>
                      <a:pt x="14480" y="7"/>
                      <a:pt x="14480" y="6"/>
                    </a:cubicBezTo>
                    <a:cubicBezTo>
                      <a:pt x="14480" y="5"/>
                      <a:pt x="14481" y="4"/>
                      <a:pt x="14482" y="4"/>
                    </a:cubicBezTo>
                    <a:close/>
                    <a:moveTo>
                      <a:pt x="14490" y="4"/>
                    </a:moveTo>
                    <a:lnTo>
                      <a:pt x="14490" y="4"/>
                    </a:lnTo>
                    <a:cubicBezTo>
                      <a:pt x="14491" y="4"/>
                      <a:pt x="14492" y="5"/>
                      <a:pt x="14492" y="6"/>
                    </a:cubicBezTo>
                    <a:cubicBezTo>
                      <a:pt x="14492" y="7"/>
                      <a:pt x="14491" y="8"/>
                      <a:pt x="14490" y="8"/>
                    </a:cubicBezTo>
                    <a:lnTo>
                      <a:pt x="14490" y="8"/>
                    </a:lnTo>
                    <a:cubicBezTo>
                      <a:pt x="14489" y="8"/>
                      <a:pt x="14488" y="7"/>
                      <a:pt x="14488" y="6"/>
                    </a:cubicBezTo>
                    <a:cubicBezTo>
                      <a:pt x="14488" y="5"/>
                      <a:pt x="14489" y="4"/>
                      <a:pt x="14490" y="4"/>
                    </a:cubicBezTo>
                    <a:close/>
                    <a:moveTo>
                      <a:pt x="14498" y="4"/>
                    </a:moveTo>
                    <a:lnTo>
                      <a:pt x="14498" y="4"/>
                    </a:lnTo>
                    <a:cubicBezTo>
                      <a:pt x="14499" y="4"/>
                      <a:pt x="14500" y="5"/>
                      <a:pt x="14500" y="6"/>
                    </a:cubicBezTo>
                    <a:cubicBezTo>
                      <a:pt x="14500" y="7"/>
                      <a:pt x="14499" y="8"/>
                      <a:pt x="14498" y="8"/>
                    </a:cubicBezTo>
                    <a:lnTo>
                      <a:pt x="14498" y="8"/>
                    </a:lnTo>
                    <a:cubicBezTo>
                      <a:pt x="14497" y="8"/>
                      <a:pt x="14496" y="7"/>
                      <a:pt x="14496" y="6"/>
                    </a:cubicBezTo>
                    <a:cubicBezTo>
                      <a:pt x="14496" y="5"/>
                      <a:pt x="14497" y="4"/>
                      <a:pt x="14498" y="4"/>
                    </a:cubicBezTo>
                    <a:close/>
                    <a:moveTo>
                      <a:pt x="14506" y="4"/>
                    </a:moveTo>
                    <a:lnTo>
                      <a:pt x="14506" y="4"/>
                    </a:lnTo>
                    <a:cubicBezTo>
                      <a:pt x="14507" y="4"/>
                      <a:pt x="14508" y="5"/>
                      <a:pt x="14508" y="6"/>
                    </a:cubicBezTo>
                    <a:cubicBezTo>
                      <a:pt x="14508" y="7"/>
                      <a:pt x="14507" y="8"/>
                      <a:pt x="14506" y="8"/>
                    </a:cubicBezTo>
                    <a:lnTo>
                      <a:pt x="14506" y="8"/>
                    </a:lnTo>
                    <a:cubicBezTo>
                      <a:pt x="14505" y="8"/>
                      <a:pt x="14504" y="7"/>
                      <a:pt x="14504" y="6"/>
                    </a:cubicBezTo>
                    <a:cubicBezTo>
                      <a:pt x="14504" y="5"/>
                      <a:pt x="14505" y="4"/>
                      <a:pt x="14506" y="4"/>
                    </a:cubicBezTo>
                    <a:close/>
                    <a:moveTo>
                      <a:pt x="14514" y="4"/>
                    </a:moveTo>
                    <a:lnTo>
                      <a:pt x="14514" y="4"/>
                    </a:lnTo>
                    <a:cubicBezTo>
                      <a:pt x="14515" y="4"/>
                      <a:pt x="14516" y="5"/>
                      <a:pt x="14516" y="6"/>
                    </a:cubicBezTo>
                    <a:cubicBezTo>
                      <a:pt x="14516" y="7"/>
                      <a:pt x="14515" y="8"/>
                      <a:pt x="14514" y="8"/>
                    </a:cubicBezTo>
                    <a:lnTo>
                      <a:pt x="14514" y="8"/>
                    </a:lnTo>
                    <a:cubicBezTo>
                      <a:pt x="14513" y="8"/>
                      <a:pt x="14512" y="7"/>
                      <a:pt x="14512" y="6"/>
                    </a:cubicBezTo>
                    <a:cubicBezTo>
                      <a:pt x="14512" y="5"/>
                      <a:pt x="14513" y="4"/>
                      <a:pt x="14514" y="4"/>
                    </a:cubicBezTo>
                    <a:close/>
                    <a:moveTo>
                      <a:pt x="14522" y="4"/>
                    </a:moveTo>
                    <a:lnTo>
                      <a:pt x="14522" y="4"/>
                    </a:lnTo>
                    <a:cubicBezTo>
                      <a:pt x="14523" y="4"/>
                      <a:pt x="14524" y="5"/>
                      <a:pt x="14524" y="6"/>
                    </a:cubicBezTo>
                    <a:cubicBezTo>
                      <a:pt x="14524" y="7"/>
                      <a:pt x="14523" y="8"/>
                      <a:pt x="14522" y="8"/>
                    </a:cubicBezTo>
                    <a:lnTo>
                      <a:pt x="14522" y="8"/>
                    </a:lnTo>
                    <a:cubicBezTo>
                      <a:pt x="14521" y="8"/>
                      <a:pt x="14520" y="7"/>
                      <a:pt x="14520" y="6"/>
                    </a:cubicBezTo>
                    <a:cubicBezTo>
                      <a:pt x="14520" y="5"/>
                      <a:pt x="14521" y="4"/>
                      <a:pt x="14522" y="4"/>
                    </a:cubicBezTo>
                    <a:close/>
                    <a:moveTo>
                      <a:pt x="14530" y="4"/>
                    </a:moveTo>
                    <a:lnTo>
                      <a:pt x="14530" y="4"/>
                    </a:lnTo>
                    <a:cubicBezTo>
                      <a:pt x="14531" y="4"/>
                      <a:pt x="14532" y="5"/>
                      <a:pt x="14532" y="6"/>
                    </a:cubicBezTo>
                    <a:cubicBezTo>
                      <a:pt x="14532" y="7"/>
                      <a:pt x="14531" y="8"/>
                      <a:pt x="14530" y="8"/>
                    </a:cubicBezTo>
                    <a:lnTo>
                      <a:pt x="14530" y="8"/>
                    </a:lnTo>
                    <a:cubicBezTo>
                      <a:pt x="14529" y="8"/>
                      <a:pt x="14528" y="7"/>
                      <a:pt x="14528" y="6"/>
                    </a:cubicBezTo>
                    <a:cubicBezTo>
                      <a:pt x="14528" y="5"/>
                      <a:pt x="14529" y="4"/>
                      <a:pt x="14530" y="4"/>
                    </a:cubicBezTo>
                    <a:close/>
                    <a:moveTo>
                      <a:pt x="14538" y="4"/>
                    </a:moveTo>
                    <a:lnTo>
                      <a:pt x="14538" y="4"/>
                    </a:lnTo>
                    <a:cubicBezTo>
                      <a:pt x="14539" y="4"/>
                      <a:pt x="14540" y="5"/>
                      <a:pt x="14540" y="6"/>
                    </a:cubicBezTo>
                    <a:cubicBezTo>
                      <a:pt x="14540" y="7"/>
                      <a:pt x="14539" y="8"/>
                      <a:pt x="14538" y="8"/>
                    </a:cubicBezTo>
                    <a:lnTo>
                      <a:pt x="14538" y="8"/>
                    </a:lnTo>
                    <a:cubicBezTo>
                      <a:pt x="14537" y="8"/>
                      <a:pt x="14536" y="7"/>
                      <a:pt x="14536" y="6"/>
                    </a:cubicBezTo>
                    <a:cubicBezTo>
                      <a:pt x="14536" y="5"/>
                      <a:pt x="14537" y="4"/>
                      <a:pt x="14538" y="4"/>
                    </a:cubicBezTo>
                    <a:close/>
                    <a:moveTo>
                      <a:pt x="14546" y="4"/>
                    </a:moveTo>
                    <a:lnTo>
                      <a:pt x="14546" y="4"/>
                    </a:lnTo>
                    <a:cubicBezTo>
                      <a:pt x="14547" y="4"/>
                      <a:pt x="14548" y="5"/>
                      <a:pt x="14548" y="6"/>
                    </a:cubicBezTo>
                    <a:cubicBezTo>
                      <a:pt x="14548" y="7"/>
                      <a:pt x="14547" y="8"/>
                      <a:pt x="14546" y="8"/>
                    </a:cubicBezTo>
                    <a:lnTo>
                      <a:pt x="14546" y="8"/>
                    </a:lnTo>
                    <a:cubicBezTo>
                      <a:pt x="14545" y="8"/>
                      <a:pt x="14544" y="7"/>
                      <a:pt x="14544" y="6"/>
                    </a:cubicBezTo>
                    <a:cubicBezTo>
                      <a:pt x="14544" y="5"/>
                      <a:pt x="14545" y="4"/>
                      <a:pt x="14546" y="4"/>
                    </a:cubicBezTo>
                    <a:close/>
                    <a:moveTo>
                      <a:pt x="14554" y="4"/>
                    </a:moveTo>
                    <a:lnTo>
                      <a:pt x="14554" y="4"/>
                    </a:lnTo>
                    <a:cubicBezTo>
                      <a:pt x="14555" y="4"/>
                      <a:pt x="14556" y="5"/>
                      <a:pt x="14556" y="6"/>
                    </a:cubicBezTo>
                    <a:cubicBezTo>
                      <a:pt x="14556" y="7"/>
                      <a:pt x="14555" y="8"/>
                      <a:pt x="14554" y="8"/>
                    </a:cubicBezTo>
                    <a:lnTo>
                      <a:pt x="14554" y="8"/>
                    </a:lnTo>
                    <a:cubicBezTo>
                      <a:pt x="14553" y="8"/>
                      <a:pt x="14552" y="7"/>
                      <a:pt x="14552" y="6"/>
                    </a:cubicBezTo>
                    <a:cubicBezTo>
                      <a:pt x="14552" y="5"/>
                      <a:pt x="14553" y="4"/>
                      <a:pt x="14554" y="4"/>
                    </a:cubicBezTo>
                    <a:close/>
                    <a:moveTo>
                      <a:pt x="14562" y="4"/>
                    </a:moveTo>
                    <a:lnTo>
                      <a:pt x="14562" y="4"/>
                    </a:lnTo>
                    <a:cubicBezTo>
                      <a:pt x="14563" y="4"/>
                      <a:pt x="14564" y="5"/>
                      <a:pt x="14564" y="6"/>
                    </a:cubicBezTo>
                    <a:cubicBezTo>
                      <a:pt x="14564" y="7"/>
                      <a:pt x="14563" y="8"/>
                      <a:pt x="14562" y="8"/>
                    </a:cubicBezTo>
                    <a:lnTo>
                      <a:pt x="14562" y="8"/>
                    </a:lnTo>
                    <a:cubicBezTo>
                      <a:pt x="14561" y="8"/>
                      <a:pt x="14560" y="7"/>
                      <a:pt x="14560" y="6"/>
                    </a:cubicBezTo>
                    <a:cubicBezTo>
                      <a:pt x="14560" y="5"/>
                      <a:pt x="14561" y="4"/>
                      <a:pt x="14562" y="4"/>
                    </a:cubicBezTo>
                    <a:close/>
                    <a:moveTo>
                      <a:pt x="14570" y="4"/>
                    </a:moveTo>
                    <a:lnTo>
                      <a:pt x="14570" y="4"/>
                    </a:lnTo>
                    <a:cubicBezTo>
                      <a:pt x="14571" y="4"/>
                      <a:pt x="14572" y="5"/>
                      <a:pt x="14572" y="6"/>
                    </a:cubicBezTo>
                    <a:cubicBezTo>
                      <a:pt x="14572" y="7"/>
                      <a:pt x="14571" y="8"/>
                      <a:pt x="14570" y="8"/>
                    </a:cubicBezTo>
                    <a:lnTo>
                      <a:pt x="14570" y="8"/>
                    </a:lnTo>
                    <a:cubicBezTo>
                      <a:pt x="14569" y="8"/>
                      <a:pt x="14568" y="7"/>
                      <a:pt x="14568" y="6"/>
                    </a:cubicBezTo>
                    <a:cubicBezTo>
                      <a:pt x="14568" y="5"/>
                      <a:pt x="14569" y="4"/>
                      <a:pt x="14570" y="4"/>
                    </a:cubicBezTo>
                    <a:close/>
                    <a:moveTo>
                      <a:pt x="14578" y="4"/>
                    </a:moveTo>
                    <a:lnTo>
                      <a:pt x="14578" y="4"/>
                    </a:lnTo>
                    <a:cubicBezTo>
                      <a:pt x="14579" y="4"/>
                      <a:pt x="14580" y="5"/>
                      <a:pt x="14580" y="6"/>
                    </a:cubicBezTo>
                    <a:cubicBezTo>
                      <a:pt x="14580" y="7"/>
                      <a:pt x="14579" y="8"/>
                      <a:pt x="14578" y="8"/>
                    </a:cubicBezTo>
                    <a:lnTo>
                      <a:pt x="14578" y="8"/>
                    </a:lnTo>
                    <a:cubicBezTo>
                      <a:pt x="14577" y="8"/>
                      <a:pt x="14576" y="7"/>
                      <a:pt x="14576" y="6"/>
                    </a:cubicBezTo>
                    <a:cubicBezTo>
                      <a:pt x="14576" y="5"/>
                      <a:pt x="14577" y="4"/>
                      <a:pt x="14578" y="4"/>
                    </a:cubicBezTo>
                    <a:close/>
                    <a:moveTo>
                      <a:pt x="14586" y="4"/>
                    </a:moveTo>
                    <a:lnTo>
                      <a:pt x="14586" y="4"/>
                    </a:lnTo>
                    <a:cubicBezTo>
                      <a:pt x="14587" y="4"/>
                      <a:pt x="14588" y="5"/>
                      <a:pt x="14588" y="6"/>
                    </a:cubicBezTo>
                    <a:cubicBezTo>
                      <a:pt x="14588" y="7"/>
                      <a:pt x="14587" y="8"/>
                      <a:pt x="14586" y="8"/>
                    </a:cubicBezTo>
                    <a:lnTo>
                      <a:pt x="14586" y="8"/>
                    </a:lnTo>
                    <a:cubicBezTo>
                      <a:pt x="14585" y="8"/>
                      <a:pt x="14584" y="7"/>
                      <a:pt x="14584" y="6"/>
                    </a:cubicBezTo>
                    <a:cubicBezTo>
                      <a:pt x="14584" y="5"/>
                      <a:pt x="14585" y="4"/>
                      <a:pt x="14586" y="4"/>
                    </a:cubicBezTo>
                    <a:close/>
                    <a:moveTo>
                      <a:pt x="14594" y="4"/>
                    </a:moveTo>
                    <a:lnTo>
                      <a:pt x="14594" y="4"/>
                    </a:lnTo>
                    <a:cubicBezTo>
                      <a:pt x="14595" y="4"/>
                      <a:pt x="14596" y="5"/>
                      <a:pt x="14596" y="6"/>
                    </a:cubicBezTo>
                    <a:cubicBezTo>
                      <a:pt x="14596" y="7"/>
                      <a:pt x="14595" y="8"/>
                      <a:pt x="14594" y="8"/>
                    </a:cubicBezTo>
                    <a:lnTo>
                      <a:pt x="14594" y="8"/>
                    </a:lnTo>
                    <a:cubicBezTo>
                      <a:pt x="14593" y="8"/>
                      <a:pt x="14592" y="7"/>
                      <a:pt x="14592" y="6"/>
                    </a:cubicBezTo>
                    <a:cubicBezTo>
                      <a:pt x="14592" y="5"/>
                      <a:pt x="14593" y="4"/>
                      <a:pt x="14594" y="4"/>
                    </a:cubicBezTo>
                    <a:close/>
                    <a:moveTo>
                      <a:pt x="14602" y="4"/>
                    </a:moveTo>
                    <a:lnTo>
                      <a:pt x="14602" y="4"/>
                    </a:lnTo>
                    <a:cubicBezTo>
                      <a:pt x="14603" y="4"/>
                      <a:pt x="14604" y="5"/>
                      <a:pt x="14604" y="6"/>
                    </a:cubicBezTo>
                    <a:cubicBezTo>
                      <a:pt x="14604" y="7"/>
                      <a:pt x="14603" y="8"/>
                      <a:pt x="14602" y="8"/>
                    </a:cubicBezTo>
                    <a:lnTo>
                      <a:pt x="14602" y="8"/>
                    </a:lnTo>
                    <a:cubicBezTo>
                      <a:pt x="14601" y="8"/>
                      <a:pt x="14600" y="7"/>
                      <a:pt x="14600" y="6"/>
                    </a:cubicBezTo>
                    <a:cubicBezTo>
                      <a:pt x="14600" y="5"/>
                      <a:pt x="14601" y="4"/>
                      <a:pt x="14602" y="4"/>
                    </a:cubicBezTo>
                    <a:close/>
                    <a:moveTo>
                      <a:pt x="14610" y="4"/>
                    </a:moveTo>
                    <a:lnTo>
                      <a:pt x="14610" y="4"/>
                    </a:lnTo>
                    <a:cubicBezTo>
                      <a:pt x="14611" y="4"/>
                      <a:pt x="14612" y="5"/>
                      <a:pt x="14612" y="6"/>
                    </a:cubicBezTo>
                    <a:cubicBezTo>
                      <a:pt x="14612" y="7"/>
                      <a:pt x="14611" y="8"/>
                      <a:pt x="14610" y="8"/>
                    </a:cubicBezTo>
                    <a:lnTo>
                      <a:pt x="14610" y="8"/>
                    </a:lnTo>
                    <a:cubicBezTo>
                      <a:pt x="14609" y="8"/>
                      <a:pt x="14608" y="7"/>
                      <a:pt x="14608" y="6"/>
                    </a:cubicBezTo>
                    <a:cubicBezTo>
                      <a:pt x="14608" y="5"/>
                      <a:pt x="14609" y="4"/>
                      <a:pt x="14610" y="4"/>
                    </a:cubicBezTo>
                    <a:close/>
                    <a:moveTo>
                      <a:pt x="14618" y="4"/>
                    </a:moveTo>
                    <a:lnTo>
                      <a:pt x="14618" y="4"/>
                    </a:lnTo>
                    <a:cubicBezTo>
                      <a:pt x="14619" y="4"/>
                      <a:pt x="14620" y="5"/>
                      <a:pt x="14620" y="6"/>
                    </a:cubicBezTo>
                    <a:cubicBezTo>
                      <a:pt x="14620" y="7"/>
                      <a:pt x="14619" y="8"/>
                      <a:pt x="14618" y="8"/>
                    </a:cubicBezTo>
                    <a:lnTo>
                      <a:pt x="14618" y="8"/>
                    </a:lnTo>
                    <a:cubicBezTo>
                      <a:pt x="14617" y="8"/>
                      <a:pt x="14616" y="7"/>
                      <a:pt x="14616" y="6"/>
                    </a:cubicBezTo>
                    <a:cubicBezTo>
                      <a:pt x="14616" y="5"/>
                      <a:pt x="14617" y="4"/>
                      <a:pt x="14618" y="4"/>
                    </a:cubicBezTo>
                    <a:close/>
                    <a:moveTo>
                      <a:pt x="14626" y="4"/>
                    </a:moveTo>
                    <a:lnTo>
                      <a:pt x="14626" y="4"/>
                    </a:lnTo>
                    <a:cubicBezTo>
                      <a:pt x="14627" y="4"/>
                      <a:pt x="14628" y="5"/>
                      <a:pt x="14628" y="6"/>
                    </a:cubicBezTo>
                    <a:cubicBezTo>
                      <a:pt x="14628" y="7"/>
                      <a:pt x="14627" y="8"/>
                      <a:pt x="14626" y="8"/>
                    </a:cubicBezTo>
                    <a:lnTo>
                      <a:pt x="14626" y="8"/>
                    </a:lnTo>
                    <a:cubicBezTo>
                      <a:pt x="14625" y="8"/>
                      <a:pt x="14624" y="7"/>
                      <a:pt x="14624" y="6"/>
                    </a:cubicBezTo>
                    <a:cubicBezTo>
                      <a:pt x="14624" y="5"/>
                      <a:pt x="14625" y="4"/>
                      <a:pt x="14626" y="4"/>
                    </a:cubicBezTo>
                    <a:close/>
                    <a:moveTo>
                      <a:pt x="14634" y="4"/>
                    </a:moveTo>
                    <a:lnTo>
                      <a:pt x="14634" y="4"/>
                    </a:lnTo>
                    <a:cubicBezTo>
                      <a:pt x="14635" y="4"/>
                      <a:pt x="14636" y="5"/>
                      <a:pt x="14636" y="6"/>
                    </a:cubicBezTo>
                    <a:cubicBezTo>
                      <a:pt x="14636" y="7"/>
                      <a:pt x="14635" y="8"/>
                      <a:pt x="14634" y="8"/>
                    </a:cubicBezTo>
                    <a:lnTo>
                      <a:pt x="14634" y="8"/>
                    </a:lnTo>
                    <a:cubicBezTo>
                      <a:pt x="14633" y="8"/>
                      <a:pt x="14632" y="7"/>
                      <a:pt x="14632" y="6"/>
                    </a:cubicBezTo>
                    <a:cubicBezTo>
                      <a:pt x="14632" y="5"/>
                      <a:pt x="14633" y="4"/>
                      <a:pt x="14634" y="4"/>
                    </a:cubicBezTo>
                    <a:close/>
                    <a:moveTo>
                      <a:pt x="14642" y="4"/>
                    </a:moveTo>
                    <a:lnTo>
                      <a:pt x="14642" y="4"/>
                    </a:lnTo>
                    <a:cubicBezTo>
                      <a:pt x="14643" y="4"/>
                      <a:pt x="14644" y="5"/>
                      <a:pt x="14644" y="6"/>
                    </a:cubicBezTo>
                    <a:cubicBezTo>
                      <a:pt x="14644" y="7"/>
                      <a:pt x="14643" y="8"/>
                      <a:pt x="14642" y="8"/>
                    </a:cubicBezTo>
                    <a:lnTo>
                      <a:pt x="14642" y="8"/>
                    </a:lnTo>
                    <a:cubicBezTo>
                      <a:pt x="14641" y="8"/>
                      <a:pt x="14640" y="7"/>
                      <a:pt x="14640" y="6"/>
                    </a:cubicBezTo>
                    <a:cubicBezTo>
                      <a:pt x="14640" y="5"/>
                      <a:pt x="14641" y="4"/>
                      <a:pt x="14642" y="4"/>
                    </a:cubicBezTo>
                    <a:close/>
                    <a:moveTo>
                      <a:pt x="14650" y="4"/>
                    </a:moveTo>
                    <a:lnTo>
                      <a:pt x="14650" y="4"/>
                    </a:lnTo>
                    <a:cubicBezTo>
                      <a:pt x="14651" y="4"/>
                      <a:pt x="14652" y="5"/>
                      <a:pt x="14652" y="6"/>
                    </a:cubicBezTo>
                    <a:cubicBezTo>
                      <a:pt x="14652" y="7"/>
                      <a:pt x="14651" y="8"/>
                      <a:pt x="14650" y="8"/>
                    </a:cubicBezTo>
                    <a:lnTo>
                      <a:pt x="14650" y="8"/>
                    </a:lnTo>
                    <a:cubicBezTo>
                      <a:pt x="14649" y="8"/>
                      <a:pt x="14648" y="7"/>
                      <a:pt x="14648" y="6"/>
                    </a:cubicBezTo>
                    <a:cubicBezTo>
                      <a:pt x="14648" y="5"/>
                      <a:pt x="14649" y="4"/>
                      <a:pt x="14650" y="4"/>
                    </a:cubicBezTo>
                    <a:close/>
                    <a:moveTo>
                      <a:pt x="14658" y="4"/>
                    </a:moveTo>
                    <a:lnTo>
                      <a:pt x="14658" y="4"/>
                    </a:lnTo>
                    <a:cubicBezTo>
                      <a:pt x="14659" y="4"/>
                      <a:pt x="14660" y="5"/>
                      <a:pt x="14660" y="6"/>
                    </a:cubicBezTo>
                    <a:cubicBezTo>
                      <a:pt x="14660" y="7"/>
                      <a:pt x="14659" y="8"/>
                      <a:pt x="14658" y="8"/>
                    </a:cubicBezTo>
                    <a:lnTo>
                      <a:pt x="14658" y="8"/>
                    </a:lnTo>
                    <a:cubicBezTo>
                      <a:pt x="14657" y="8"/>
                      <a:pt x="14656" y="7"/>
                      <a:pt x="14656" y="6"/>
                    </a:cubicBezTo>
                    <a:cubicBezTo>
                      <a:pt x="14656" y="5"/>
                      <a:pt x="14657" y="4"/>
                      <a:pt x="14658" y="4"/>
                    </a:cubicBezTo>
                    <a:close/>
                    <a:moveTo>
                      <a:pt x="14666" y="4"/>
                    </a:moveTo>
                    <a:lnTo>
                      <a:pt x="14666" y="4"/>
                    </a:lnTo>
                    <a:cubicBezTo>
                      <a:pt x="14667" y="4"/>
                      <a:pt x="14668" y="5"/>
                      <a:pt x="14668" y="6"/>
                    </a:cubicBezTo>
                    <a:cubicBezTo>
                      <a:pt x="14668" y="7"/>
                      <a:pt x="14667" y="8"/>
                      <a:pt x="14666" y="8"/>
                    </a:cubicBezTo>
                    <a:lnTo>
                      <a:pt x="14666" y="8"/>
                    </a:lnTo>
                    <a:cubicBezTo>
                      <a:pt x="14665" y="8"/>
                      <a:pt x="14664" y="7"/>
                      <a:pt x="14664" y="6"/>
                    </a:cubicBezTo>
                    <a:cubicBezTo>
                      <a:pt x="14664" y="5"/>
                      <a:pt x="14665" y="4"/>
                      <a:pt x="14666" y="4"/>
                    </a:cubicBezTo>
                    <a:close/>
                    <a:moveTo>
                      <a:pt x="14674" y="4"/>
                    </a:moveTo>
                    <a:lnTo>
                      <a:pt x="14674" y="4"/>
                    </a:lnTo>
                    <a:cubicBezTo>
                      <a:pt x="14675" y="4"/>
                      <a:pt x="14676" y="5"/>
                      <a:pt x="14676" y="6"/>
                    </a:cubicBezTo>
                    <a:cubicBezTo>
                      <a:pt x="14676" y="7"/>
                      <a:pt x="14675" y="8"/>
                      <a:pt x="14674" y="8"/>
                    </a:cubicBezTo>
                    <a:lnTo>
                      <a:pt x="14674" y="8"/>
                    </a:lnTo>
                    <a:cubicBezTo>
                      <a:pt x="14673" y="8"/>
                      <a:pt x="14672" y="7"/>
                      <a:pt x="14672" y="6"/>
                    </a:cubicBezTo>
                    <a:cubicBezTo>
                      <a:pt x="14672" y="5"/>
                      <a:pt x="14673" y="4"/>
                      <a:pt x="14674" y="4"/>
                    </a:cubicBezTo>
                    <a:close/>
                    <a:moveTo>
                      <a:pt x="14682" y="4"/>
                    </a:moveTo>
                    <a:lnTo>
                      <a:pt x="14682" y="4"/>
                    </a:lnTo>
                    <a:cubicBezTo>
                      <a:pt x="14683" y="4"/>
                      <a:pt x="14684" y="5"/>
                      <a:pt x="14684" y="6"/>
                    </a:cubicBezTo>
                    <a:cubicBezTo>
                      <a:pt x="14684" y="7"/>
                      <a:pt x="14683" y="8"/>
                      <a:pt x="14682" y="8"/>
                    </a:cubicBezTo>
                    <a:lnTo>
                      <a:pt x="14682" y="8"/>
                    </a:lnTo>
                    <a:cubicBezTo>
                      <a:pt x="14681" y="8"/>
                      <a:pt x="14680" y="7"/>
                      <a:pt x="14680" y="6"/>
                    </a:cubicBezTo>
                    <a:cubicBezTo>
                      <a:pt x="14680" y="5"/>
                      <a:pt x="14681" y="4"/>
                      <a:pt x="14682" y="4"/>
                    </a:cubicBezTo>
                    <a:close/>
                    <a:moveTo>
                      <a:pt x="14690" y="4"/>
                    </a:moveTo>
                    <a:lnTo>
                      <a:pt x="14690" y="4"/>
                    </a:lnTo>
                    <a:cubicBezTo>
                      <a:pt x="14691" y="4"/>
                      <a:pt x="14692" y="5"/>
                      <a:pt x="14692" y="6"/>
                    </a:cubicBezTo>
                    <a:cubicBezTo>
                      <a:pt x="14692" y="7"/>
                      <a:pt x="14691" y="8"/>
                      <a:pt x="14690" y="8"/>
                    </a:cubicBezTo>
                    <a:lnTo>
                      <a:pt x="14690" y="8"/>
                    </a:lnTo>
                    <a:cubicBezTo>
                      <a:pt x="14689" y="8"/>
                      <a:pt x="14688" y="7"/>
                      <a:pt x="14688" y="6"/>
                    </a:cubicBezTo>
                    <a:cubicBezTo>
                      <a:pt x="14688" y="5"/>
                      <a:pt x="14689" y="4"/>
                      <a:pt x="14690" y="4"/>
                    </a:cubicBezTo>
                    <a:close/>
                    <a:moveTo>
                      <a:pt x="14698" y="4"/>
                    </a:moveTo>
                    <a:lnTo>
                      <a:pt x="14698" y="4"/>
                    </a:lnTo>
                    <a:cubicBezTo>
                      <a:pt x="14699" y="4"/>
                      <a:pt x="14700" y="5"/>
                      <a:pt x="14700" y="6"/>
                    </a:cubicBezTo>
                    <a:cubicBezTo>
                      <a:pt x="14700" y="7"/>
                      <a:pt x="14699" y="8"/>
                      <a:pt x="14698" y="8"/>
                    </a:cubicBezTo>
                    <a:lnTo>
                      <a:pt x="14698" y="8"/>
                    </a:lnTo>
                    <a:cubicBezTo>
                      <a:pt x="14697" y="8"/>
                      <a:pt x="14696" y="7"/>
                      <a:pt x="14696" y="6"/>
                    </a:cubicBezTo>
                    <a:cubicBezTo>
                      <a:pt x="14696" y="5"/>
                      <a:pt x="14697" y="4"/>
                      <a:pt x="14698" y="4"/>
                    </a:cubicBezTo>
                    <a:close/>
                    <a:moveTo>
                      <a:pt x="14706" y="4"/>
                    </a:moveTo>
                    <a:lnTo>
                      <a:pt x="14706" y="4"/>
                    </a:lnTo>
                    <a:cubicBezTo>
                      <a:pt x="14707" y="4"/>
                      <a:pt x="14708" y="5"/>
                      <a:pt x="14708" y="6"/>
                    </a:cubicBezTo>
                    <a:cubicBezTo>
                      <a:pt x="14708" y="7"/>
                      <a:pt x="14707" y="8"/>
                      <a:pt x="14706" y="8"/>
                    </a:cubicBezTo>
                    <a:lnTo>
                      <a:pt x="14706" y="8"/>
                    </a:lnTo>
                    <a:cubicBezTo>
                      <a:pt x="14705" y="8"/>
                      <a:pt x="14704" y="7"/>
                      <a:pt x="14704" y="6"/>
                    </a:cubicBezTo>
                    <a:cubicBezTo>
                      <a:pt x="14704" y="5"/>
                      <a:pt x="14705" y="4"/>
                      <a:pt x="14706" y="4"/>
                    </a:cubicBezTo>
                    <a:close/>
                    <a:moveTo>
                      <a:pt x="14714" y="4"/>
                    </a:moveTo>
                    <a:lnTo>
                      <a:pt x="14714" y="4"/>
                    </a:lnTo>
                    <a:cubicBezTo>
                      <a:pt x="14715" y="4"/>
                      <a:pt x="14716" y="5"/>
                      <a:pt x="14716" y="6"/>
                    </a:cubicBezTo>
                    <a:cubicBezTo>
                      <a:pt x="14716" y="7"/>
                      <a:pt x="14715" y="8"/>
                      <a:pt x="14714" y="8"/>
                    </a:cubicBezTo>
                    <a:lnTo>
                      <a:pt x="14714" y="8"/>
                    </a:lnTo>
                    <a:cubicBezTo>
                      <a:pt x="14713" y="8"/>
                      <a:pt x="14712" y="7"/>
                      <a:pt x="14712" y="6"/>
                    </a:cubicBezTo>
                    <a:cubicBezTo>
                      <a:pt x="14712" y="5"/>
                      <a:pt x="14713" y="4"/>
                      <a:pt x="14714" y="4"/>
                    </a:cubicBezTo>
                    <a:close/>
                    <a:moveTo>
                      <a:pt x="14722" y="4"/>
                    </a:moveTo>
                    <a:lnTo>
                      <a:pt x="14722" y="4"/>
                    </a:lnTo>
                    <a:cubicBezTo>
                      <a:pt x="14723" y="4"/>
                      <a:pt x="14724" y="5"/>
                      <a:pt x="14724" y="6"/>
                    </a:cubicBezTo>
                    <a:cubicBezTo>
                      <a:pt x="14724" y="7"/>
                      <a:pt x="14723" y="8"/>
                      <a:pt x="14722" y="8"/>
                    </a:cubicBezTo>
                    <a:lnTo>
                      <a:pt x="14722" y="8"/>
                    </a:lnTo>
                    <a:cubicBezTo>
                      <a:pt x="14721" y="8"/>
                      <a:pt x="14720" y="7"/>
                      <a:pt x="14720" y="6"/>
                    </a:cubicBezTo>
                    <a:cubicBezTo>
                      <a:pt x="14720" y="5"/>
                      <a:pt x="14721" y="4"/>
                      <a:pt x="14722" y="4"/>
                    </a:cubicBezTo>
                    <a:close/>
                    <a:moveTo>
                      <a:pt x="14730" y="4"/>
                    </a:moveTo>
                    <a:lnTo>
                      <a:pt x="14730" y="4"/>
                    </a:lnTo>
                    <a:cubicBezTo>
                      <a:pt x="14731" y="4"/>
                      <a:pt x="14732" y="5"/>
                      <a:pt x="14732" y="6"/>
                    </a:cubicBezTo>
                    <a:cubicBezTo>
                      <a:pt x="14732" y="7"/>
                      <a:pt x="14731" y="8"/>
                      <a:pt x="14730" y="8"/>
                    </a:cubicBezTo>
                    <a:lnTo>
                      <a:pt x="14730" y="8"/>
                    </a:lnTo>
                    <a:cubicBezTo>
                      <a:pt x="14729" y="8"/>
                      <a:pt x="14728" y="7"/>
                      <a:pt x="14728" y="6"/>
                    </a:cubicBezTo>
                    <a:cubicBezTo>
                      <a:pt x="14728" y="5"/>
                      <a:pt x="14729" y="4"/>
                      <a:pt x="14730" y="4"/>
                    </a:cubicBezTo>
                    <a:close/>
                    <a:moveTo>
                      <a:pt x="14738" y="4"/>
                    </a:moveTo>
                    <a:lnTo>
                      <a:pt x="14738" y="4"/>
                    </a:lnTo>
                    <a:cubicBezTo>
                      <a:pt x="14739" y="4"/>
                      <a:pt x="14740" y="5"/>
                      <a:pt x="14740" y="6"/>
                    </a:cubicBezTo>
                    <a:cubicBezTo>
                      <a:pt x="14740" y="7"/>
                      <a:pt x="14739" y="8"/>
                      <a:pt x="14738" y="8"/>
                    </a:cubicBezTo>
                    <a:lnTo>
                      <a:pt x="14738" y="8"/>
                    </a:lnTo>
                    <a:cubicBezTo>
                      <a:pt x="14737" y="8"/>
                      <a:pt x="14736" y="7"/>
                      <a:pt x="14736" y="6"/>
                    </a:cubicBezTo>
                    <a:cubicBezTo>
                      <a:pt x="14736" y="5"/>
                      <a:pt x="14737" y="4"/>
                      <a:pt x="14738" y="4"/>
                    </a:cubicBezTo>
                    <a:close/>
                    <a:moveTo>
                      <a:pt x="14746" y="4"/>
                    </a:moveTo>
                    <a:lnTo>
                      <a:pt x="14746" y="4"/>
                    </a:lnTo>
                    <a:cubicBezTo>
                      <a:pt x="14747" y="4"/>
                      <a:pt x="14748" y="5"/>
                      <a:pt x="14748" y="6"/>
                    </a:cubicBezTo>
                    <a:cubicBezTo>
                      <a:pt x="14748" y="7"/>
                      <a:pt x="14747" y="8"/>
                      <a:pt x="14746" y="8"/>
                    </a:cubicBezTo>
                    <a:lnTo>
                      <a:pt x="14746" y="8"/>
                    </a:lnTo>
                    <a:cubicBezTo>
                      <a:pt x="14745" y="8"/>
                      <a:pt x="14744" y="7"/>
                      <a:pt x="14744" y="6"/>
                    </a:cubicBezTo>
                    <a:cubicBezTo>
                      <a:pt x="14744" y="5"/>
                      <a:pt x="14745" y="4"/>
                      <a:pt x="14746" y="4"/>
                    </a:cubicBezTo>
                    <a:close/>
                    <a:moveTo>
                      <a:pt x="14754" y="4"/>
                    </a:moveTo>
                    <a:lnTo>
                      <a:pt x="14754" y="4"/>
                    </a:lnTo>
                    <a:cubicBezTo>
                      <a:pt x="14755" y="4"/>
                      <a:pt x="14756" y="5"/>
                      <a:pt x="14756" y="6"/>
                    </a:cubicBezTo>
                    <a:cubicBezTo>
                      <a:pt x="14756" y="7"/>
                      <a:pt x="14755" y="8"/>
                      <a:pt x="14754" y="8"/>
                    </a:cubicBezTo>
                    <a:lnTo>
                      <a:pt x="14754" y="8"/>
                    </a:lnTo>
                    <a:cubicBezTo>
                      <a:pt x="14753" y="8"/>
                      <a:pt x="14752" y="7"/>
                      <a:pt x="14752" y="6"/>
                    </a:cubicBezTo>
                    <a:cubicBezTo>
                      <a:pt x="14752" y="5"/>
                      <a:pt x="14753" y="4"/>
                      <a:pt x="14754" y="4"/>
                    </a:cubicBezTo>
                    <a:close/>
                    <a:moveTo>
                      <a:pt x="14762" y="4"/>
                    </a:moveTo>
                    <a:lnTo>
                      <a:pt x="14762" y="4"/>
                    </a:lnTo>
                    <a:cubicBezTo>
                      <a:pt x="14763" y="4"/>
                      <a:pt x="14764" y="5"/>
                      <a:pt x="14764" y="6"/>
                    </a:cubicBezTo>
                    <a:cubicBezTo>
                      <a:pt x="14764" y="7"/>
                      <a:pt x="14763" y="8"/>
                      <a:pt x="14762" y="8"/>
                    </a:cubicBezTo>
                    <a:lnTo>
                      <a:pt x="14762" y="8"/>
                    </a:lnTo>
                    <a:cubicBezTo>
                      <a:pt x="14761" y="8"/>
                      <a:pt x="14760" y="7"/>
                      <a:pt x="14760" y="6"/>
                    </a:cubicBezTo>
                    <a:cubicBezTo>
                      <a:pt x="14760" y="5"/>
                      <a:pt x="14761" y="4"/>
                      <a:pt x="14762" y="4"/>
                    </a:cubicBezTo>
                    <a:close/>
                    <a:moveTo>
                      <a:pt x="14770" y="4"/>
                    </a:moveTo>
                    <a:lnTo>
                      <a:pt x="14770" y="4"/>
                    </a:lnTo>
                    <a:cubicBezTo>
                      <a:pt x="14771" y="4"/>
                      <a:pt x="14772" y="5"/>
                      <a:pt x="14772" y="6"/>
                    </a:cubicBezTo>
                    <a:cubicBezTo>
                      <a:pt x="14772" y="7"/>
                      <a:pt x="14771" y="8"/>
                      <a:pt x="14770" y="8"/>
                    </a:cubicBezTo>
                    <a:lnTo>
                      <a:pt x="14770" y="8"/>
                    </a:lnTo>
                    <a:cubicBezTo>
                      <a:pt x="14769" y="8"/>
                      <a:pt x="14768" y="7"/>
                      <a:pt x="14768" y="6"/>
                    </a:cubicBezTo>
                    <a:cubicBezTo>
                      <a:pt x="14768" y="5"/>
                      <a:pt x="14769" y="4"/>
                      <a:pt x="14770" y="4"/>
                    </a:cubicBezTo>
                    <a:close/>
                    <a:moveTo>
                      <a:pt x="14778" y="4"/>
                    </a:moveTo>
                    <a:lnTo>
                      <a:pt x="14778" y="4"/>
                    </a:lnTo>
                    <a:cubicBezTo>
                      <a:pt x="14779" y="4"/>
                      <a:pt x="14780" y="5"/>
                      <a:pt x="14780" y="6"/>
                    </a:cubicBezTo>
                    <a:cubicBezTo>
                      <a:pt x="14780" y="7"/>
                      <a:pt x="14779" y="8"/>
                      <a:pt x="14778" y="8"/>
                    </a:cubicBezTo>
                    <a:lnTo>
                      <a:pt x="14778" y="8"/>
                    </a:lnTo>
                    <a:cubicBezTo>
                      <a:pt x="14777" y="8"/>
                      <a:pt x="14776" y="7"/>
                      <a:pt x="14776" y="6"/>
                    </a:cubicBezTo>
                    <a:cubicBezTo>
                      <a:pt x="14776" y="5"/>
                      <a:pt x="14777" y="4"/>
                      <a:pt x="14778" y="4"/>
                    </a:cubicBezTo>
                    <a:close/>
                    <a:moveTo>
                      <a:pt x="14786" y="4"/>
                    </a:moveTo>
                    <a:lnTo>
                      <a:pt x="14786" y="4"/>
                    </a:lnTo>
                    <a:cubicBezTo>
                      <a:pt x="14787" y="4"/>
                      <a:pt x="14788" y="5"/>
                      <a:pt x="14788" y="6"/>
                    </a:cubicBezTo>
                    <a:cubicBezTo>
                      <a:pt x="14788" y="7"/>
                      <a:pt x="14787" y="8"/>
                      <a:pt x="14786" y="8"/>
                    </a:cubicBezTo>
                    <a:lnTo>
                      <a:pt x="14786" y="8"/>
                    </a:lnTo>
                    <a:cubicBezTo>
                      <a:pt x="14785" y="8"/>
                      <a:pt x="14784" y="7"/>
                      <a:pt x="14784" y="6"/>
                    </a:cubicBezTo>
                    <a:cubicBezTo>
                      <a:pt x="14784" y="5"/>
                      <a:pt x="14785" y="4"/>
                      <a:pt x="14786" y="4"/>
                    </a:cubicBezTo>
                    <a:close/>
                    <a:moveTo>
                      <a:pt x="14794" y="4"/>
                    </a:moveTo>
                    <a:lnTo>
                      <a:pt x="14794" y="4"/>
                    </a:lnTo>
                    <a:cubicBezTo>
                      <a:pt x="14795" y="4"/>
                      <a:pt x="14796" y="5"/>
                      <a:pt x="14796" y="6"/>
                    </a:cubicBezTo>
                    <a:cubicBezTo>
                      <a:pt x="14796" y="7"/>
                      <a:pt x="14795" y="8"/>
                      <a:pt x="14794" y="8"/>
                    </a:cubicBezTo>
                    <a:lnTo>
                      <a:pt x="14794" y="8"/>
                    </a:lnTo>
                    <a:cubicBezTo>
                      <a:pt x="14793" y="8"/>
                      <a:pt x="14792" y="7"/>
                      <a:pt x="14792" y="6"/>
                    </a:cubicBezTo>
                    <a:cubicBezTo>
                      <a:pt x="14792" y="5"/>
                      <a:pt x="14793" y="4"/>
                      <a:pt x="14794" y="4"/>
                    </a:cubicBezTo>
                    <a:close/>
                    <a:moveTo>
                      <a:pt x="14802" y="4"/>
                    </a:moveTo>
                    <a:lnTo>
                      <a:pt x="14802" y="4"/>
                    </a:lnTo>
                    <a:cubicBezTo>
                      <a:pt x="14803" y="4"/>
                      <a:pt x="14804" y="5"/>
                      <a:pt x="14804" y="6"/>
                    </a:cubicBezTo>
                    <a:cubicBezTo>
                      <a:pt x="14804" y="7"/>
                      <a:pt x="14803" y="8"/>
                      <a:pt x="14802" y="8"/>
                    </a:cubicBezTo>
                    <a:lnTo>
                      <a:pt x="14802" y="8"/>
                    </a:lnTo>
                    <a:cubicBezTo>
                      <a:pt x="14801" y="8"/>
                      <a:pt x="14800" y="7"/>
                      <a:pt x="14800" y="6"/>
                    </a:cubicBezTo>
                    <a:cubicBezTo>
                      <a:pt x="14800" y="5"/>
                      <a:pt x="14801" y="4"/>
                      <a:pt x="14802" y="4"/>
                    </a:cubicBezTo>
                    <a:close/>
                    <a:moveTo>
                      <a:pt x="14810" y="4"/>
                    </a:moveTo>
                    <a:lnTo>
                      <a:pt x="14810" y="4"/>
                    </a:lnTo>
                    <a:cubicBezTo>
                      <a:pt x="14811" y="4"/>
                      <a:pt x="14812" y="5"/>
                      <a:pt x="14812" y="6"/>
                    </a:cubicBezTo>
                    <a:cubicBezTo>
                      <a:pt x="14812" y="7"/>
                      <a:pt x="14811" y="8"/>
                      <a:pt x="14810" y="8"/>
                    </a:cubicBezTo>
                    <a:lnTo>
                      <a:pt x="14810" y="8"/>
                    </a:lnTo>
                    <a:cubicBezTo>
                      <a:pt x="14809" y="8"/>
                      <a:pt x="14808" y="7"/>
                      <a:pt x="14808" y="6"/>
                    </a:cubicBezTo>
                    <a:cubicBezTo>
                      <a:pt x="14808" y="5"/>
                      <a:pt x="14809" y="4"/>
                      <a:pt x="14810" y="4"/>
                    </a:cubicBezTo>
                    <a:close/>
                    <a:moveTo>
                      <a:pt x="14818" y="4"/>
                    </a:moveTo>
                    <a:lnTo>
                      <a:pt x="14818" y="4"/>
                    </a:lnTo>
                    <a:cubicBezTo>
                      <a:pt x="14819" y="4"/>
                      <a:pt x="14820" y="5"/>
                      <a:pt x="14820" y="6"/>
                    </a:cubicBezTo>
                    <a:cubicBezTo>
                      <a:pt x="14820" y="7"/>
                      <a:pt x="14819" y="8"/>
                      <a:pt x="14818" y="8"/>
                    </a:cubicBezTo>
                    <a:lnTo>
                      <a:pt x="14818" y="8"/>
                    </a:lnTo>
                    <a:cubicBezTo>
                      <a:pt x="14817" y="8"/>
                      <a:pt x="14816" y="7"/>
                      <a:pt x="14816" y="6"/>
                    </a:cubicBezTo>
                    <a:cubicBezTo>
                      <a:pt x="14816" y="5"/>
                      <a:pt x="14817" y="4"/>
                      <a:pt x="14818" y="4"/>
                    </a:cubicBezTo>
                    <a:close/>
                    <a:moveTo>
                      <a:pt x="14826" y="4"/>
                    </a:moveTo>
                    <a:lnTo>
                      <a:pt x="14826" y="4"/>
                    </a:lnTo>
                    <a:cubicBezTo>
                      <a:pt x="14827" y="4"/>
                      <a:pt x="14828" y="5"/>
                      <a:pt x="14828" y="6"/>
                    </a:cubicBezTo>
                    <a:cubicBezTo>
                      <a:pt x="14828" y="7"/>
                      <a:pt x="14827" y="8"/>
                      <a:pt x="14826" y="8"/>
                    </a:cubicBezTo>
                    <a:lnTo>
                      <a:pt x="14826" y="8"/>
                    </a:lnTo>
                    <a:cubicBezTo>
                      <a:pt x="14825" y="8"/>
                      <a:pt x="14824" y="7"/>
                      <a:pt x="14824" y="6"/>
                    </a:cubicBezTo>
                    <a:cubicBezTo>
                      <a:pt x="14824" y="5"/>
                      <a:pt x="14825" y="4"/>
                      <a:pt x="14826" y="4"/>
                    </a:cubicBezTo>
                    <a:close/>
                    <a:moveTo>
                      <a:pt x="14834" y="4"/>
                    </a:moveTo>
                    <a:lnTo>
                      <a:pt x="14834" y="4"/>
                    </a:lnTo>
                    <a:cubicBezTo>
                      <a:pt x="14835" y="4"/>
                      <a:pt x="14836" y="5"/>
                      <a:pt x="14836" y="6"/>
                    </a:cubicBezTo>
                    <a:cubicBezTo>
                      <a:pt x="14836" y="7"/>
                      <a:pt x="14835" y="8"/>
                      <a:pt x="14834" y="8"/>
                    </a:cubicBezTo>
                    <a:lnTo>
                      <a:pt x="14834" y="8"/>
                    </a:lnTo>
                    <a:cubicBezTo>
                      <a:pt x="14833" y="8"/>
                      <a:pt x="14832" y="7"/>
                      <a:pt x="14832" y="6"/>
                    </a:cubicBezTo>
                    <a:cubicBezTo>
                      <a:pt x="14832" y="5"/>
                      <a:pt x="14833" y="4"/>
                      <a:pt x="14834" y="4"/>
                    </a:cubicBezTo>
                    <a:close/>
                    <a:moveTo>
                      <a:pt x="14842" y="4"/>
                    </a:moveTo>
                    <a:lnTo>
                      <a:pt x="14842" y="4"/>
                    </a:lnTo>
                    <a:cubicBezTo>
                      <a:pt x="14843" y="4"/>
                      <a:pt x="14844" y="5"/>
                      <a:pt x="14844" y="6"/>
                    </a:cubicBezTo>
                    <a:cubicBezTo>
                      <a:pt x="14844" y="7"/>
                      <a:pt x="14843" y="8"/>
                      <a:pt x="14842" y="8"/>
                    </a:cubicBezTo>
                    <a:lnTo>
                      <a:pt x="14842" y="8"/>
                    </a:lnTo>
                    <a:cubicBezTo>
                      <a:pt x="14841" y="8"/>
                      <a:pt x="14840" y="7"/>
                      <a:pt x="14840" y="6"/>
                    </a:cubicBezTo>
                    <a:cubicBezTo>
                      <a:pt x="14840" y="5"/>
                      <a:pt x="14841" y="4"/>
                      <a:pt x="14842" y="4"/>
                    </a:cubicBezTo>
                    <a:close/>
                    <a:moveTo>
                      <a:pt x="14850" y="4"/>
                    </a:moveTo>
                    <a:lnTo>
                      <a:pt x="14850" y="4"/>
                    </a:lnTo>
                    <a:cubicBezTo>
                      <a:pt x="14851" y="4"/>
                      <a:pt x="14852" y="5"/>
                      <a:pt x="14852" y="6"/>
                    </a:cubicBezTo>
                    <a:cubicBezTo>
                      <a:pt x="14852" y="7"/>
                      <a:pt x="14851" y="8"/>
                      <a:pt x="14850" y="8"/>
                    </a:cubicBezTo>
                    <a:lnTo>
                      <a:pt x="14850" y="8"/>
                    </a:lnTo>
                    <a:cubicBezTo>
                      <a:pt x="14849" y="8"/>
                      <a:pt x="14848" y="7"/>
                      <a:pt x="14848" y="6"/>
                    </a:cubicBezTo>
                    <a:cubicBezTo>
                      <a:pt x="14848" y="5"/>
                      <a:pt x="14849" y="4"/>
                      <a:pt x="14850" y="4"/>
                    </a:cubicBezTo>
                    <a:close/>
                    <a:moveTo>
                      <a:pt x="14858" y="4"/>
                    </a:moveTo>
                    <a:lnTo>
                      <a:pt x="14858" y="4"/>
                    </a:lnTo>
                    <a:cubicBezTo>
                      <a:pt x="14859" y="4"/>
                      <a:pt x="14860" y="5"/>
                      <a:pt x="14860" y="6"/>
                    </a:cubicBezTo>
                    <a:cubicBezTo>
                      <a:pt x="14860" y="7"/>
                      <a:pt x="14859" y="8"/>
                      <a:pt x="14858" y="8"/>
                    </a:cubicBezTo>
                    <a:lnTo>
                      <a:pt x="14858" y="8"/>
                    </a:lnTo>
                    <a:cubicBezTo>
                      <a:pt x="14857" y="8"/>
                      <a:pt x="14856" y="7"/>
                      <a:pt x="14856" y="6"/>
                    </a:cubicBezTo>
                    <a:cubicBezTo>
                      <a:pt x="14856" y="5"/>
                      <a:pt x="14857" y="4"/>
                      <a:pt x="14858" y="4"/>
                    </a:cubicBezTo>
                    <a:close/>
                    <a:moveTo>
                      <a:pt x="14866" y="4"/>
                    </a:moveTo>
                    <a:lnTo>
                      <a:pt x="14866" y="4"/>
                    </a:lnTo>
                    <a:cubicBezTo>
                      <a:pt x="14867" y="4"/>
                      <a:pt x="14868" y="5"/>
                      <a:pt x="14868" y="6"/>
                    </a:cubicBezTo>
                    <a:cubicBezTo>
                      <a:pt x="14868" y="7"/>
                      <a:pt x="14867" y="8"/>
                      <a:pt x="14866" y="8"/>
                    </a:cubicBezTo>
                    <a:lnTo>
                      <a:pt x="14866" y="8"/>
                    </a:lnTo>
                    <a:cubicBezTo>
                      <a:pt x="14865" y="8"/>
                      <a:pt x="14864" y="7"/>
                      <a:pt x="14864" y="6"/>
                    </a:cubicBezTo>
                    <a:cubicBezTo>
                      <a:pt x="14864" y="5"/>
                      <a:pt x="14865" y="4"/>
                      <a:pt x="14866" y="4"/>
                    </a:cubicBezTo>
                    <a:close/>
                    <a:moveTo>
                      <a:pt x="14874" y="4"/>
                    </a:moveTo>
                    <a:lnTo>
                      <a:pt x="14874" y="4"/>
                    </a:lnTo>
                    <a:cubicBezTo>
                      <a:pt x="14875" y="4"/>
                      <a:pt x="14876" y="5"/>
                      <a:pt x="14876" y="6"/>
                    </a:cubicBezTo>
                    <a:cubicBezTo>
                      <a:pt x="14876" y="7"/>
                      <a:pt x="14875" y="8"/>
                      <a:pt x="14874" y="8"/>
                    </a:cubicBezTo>
                    <a:lnTo>
                      <a:pt x="14874" y="8"/>
                    </a:lnTo>
                    <a:cubicBezTo>
                      <a:pt x="14873" y="8"/>
                      <a:pt x="14872" y="7"/>
                      <a:pt x="14872" y="6"/>
                    </a:cubicBezTo>
                    <a:cubicBezTo>
                      <a:pt x="14872" y="5"/>
                      <a:pt x="14873" y="4"/>
                      <a:pt x="14874" y="4"/>
                    </a:cubicBezTo>
                    <a:close/>
                    <a:moveTo>
                      <a:pt x="14882" y="4"/>
                    </a:moveTo>
                    <a:lnTo>
                      <a:pt x="14882" y="4"/>
                    </a:lnTo>
                    <a:cubicBezTo>
                      <a:pt x="14883" y="4"/>
                      <a:pt x="14884" y="5"/>
                      <a:pt x="14884" y="6"/>
                    </a:cubicBezTo>
                    <a:cubicBezTo>
                      <a:pt x="14884" y="7"/>
                      <a:pt x="14883" y="8"/>
                      <a:pt x="14882" y="8"/>
                    </a:cubicBezTo>
                    <a:lnTo>
                      <a:pt x="14882" y="8"/>
                    </a:lnTo>
                    <a:cubicBezTo>
                      <a:pt x="14881" y="8"/>
                      <a:pt x="14880" y="7"/>
                      <a:pt x="14880" y="6"/>
                    </a:cubicBezTo>
                    <a:cubicBezTo>
                      <a:pt x="14880" y="5"/>
                      <a:pt x="14881" y="4"/>
                      <a:pt x="14882" y="4"/>
                    </a:cubicBezTo>
                    <a:close/>
                    <a:moveTo>
                      <a:pt x="14890" y="4"/>
                    </a:moveTo>
                    <a:lnTo>
                      <a:pt x="14890" y="4"/>
                    </a:lnTo>
                    <a:cubicBezTo>
                      <a:pt x="14891" y="4"/>
                      <a:pt x="14892" y="5"/>
                      <a:pt x="14892" y="6"/>
                    </a:cubicBezTo>
                    <a:cubicBezTo>
                      <a:pt x="14892" y="7"/>
                      <a:pt x="14891" y="8"/>
                      <a:pt x="14890" y="8"/>
                    </a:cubicBezTo>
                    <a:lnTo>
                      <a:pt x="14890" y="8"/>
                    </a:lnTo>
                    <a:cubicBezTo>
                      <a:pt x="14889" y="8"/>
                      <a:pt x="14888" y="7"/>
                      <a:pt x="14888" y="6"/>
                    </a:cubicBezTo>
                    <a:cubicBezTo>
                      <a:pt x="14888" y="5"/>
                      <a:pt x="14889" y="4"/>
                      <a:pt x="14890" y="4"/>
                    </a:cubicBezTo>
                    <a:close/>
                    <a:moveTo>
                      <a:pt x="14898" y="4"/>
                    </a:moveTo>
                    <a:lnTo>
                      <a:pt x="14898" y="4"/>
                    </a:lnTo>
                    <a:cubicBezTo>
                      <a:pt x="14899" y="4"/>
                      <a:pt x="14900" y="5"/>
                      <a:pt x="14900" y="6"/>
                    </a:cubicBezTo>
                    <a:cubicBezTo>
                      <a:pt x="14900" y="7"/>
                      <a:pt x="14899" y="8"/>
                      <a:pt x="14898" y="8"/>
                    </a:cubicBezTo>
                    <a:lnTo>
                      <a:pt x="14898" y="8"/>
                    </a:lnTo>
                    <a:cubicBezTo>
                      <a:pt x="14897" y="8"/>
                      <a:pt x="14896" y="7"/>
                      <a:pt x="14896" y="6"/>
                    </a:cubicBezTo>
                    <a:cubicBezTo>
                      <a:pt x="14896" y="5"/>
                      <a:pt x="14897" y="4"/>
                      <a:pt x="14898" y="4"/>
                    </a:cubicBezTo>
                    <a:close/>
                    <a:moveTo>
                      <a:pt x="14906" y="4"/>
                    </a:moveTo>
                    <a:lnTo>
                      <a:pt x="14906" y="4"/>
                    </a:lnTo>
                    <a:cubicBezTo>
                      <a:pt x="14907" y="4"/>
                      <a:pt x="14908" y="5"/>
                      <a:pt x="14908" y="6"/>
                    </a:cubicBezTo>
                    <a:cubicBezTo>
                      <a:pt x="14908" y="7"/>
                      <a:pt x="14907" y="8"/>
                      <a:pt x="14906" y="8"/>
                    </a:cubicBezTo>
                    <a:lnTo>
                      <a:pt x="14906" y="8"/>
                    </a:lnTo>
                    <a:cubicBezTo>
                      <a:pt x="14905" y="8"/>
                      <a:pt x="14904" y="7"/>
                      <a:pt x="14904" y="6"/>
                    </a:cubicBezTo>
                    <a:cubicBezTo>
                      <a:pt x="14904" y="5"/>
                      <a:pt x="14905" y="4"/>
                      <a:pt x="14906" y="4"/>
                    </a:cubicBezTo>
                    <a:close/>
                    <a:moveTo>
                      <a:pt x="14914" y="4"/>
                    </a:moveTo>
                    <a:lnTo>
                      <a:pt x="14914" y="4"/>
                    </a:lnTo>
                    <a:cubicBezTo>
                      <a:pt x="14915" y="4"/>
                      <a:pt x="14916" y="5"/>
                      <a:pt x="14916" y="6"/>
                    </a:cubicBezTo>
                    <a:cubicBezTo>
                      <a:pt x="14916" y="7"/>
                      <a:pt x="14915" y="8"/>
                      <a:pt x="14914" y="8"/>
                    </a:cubicBezTo>
                    <a:lnTo>
                      <a:pt x="14914" y="8"/>
                    </a:lnTo>
                    <a:cubicBezTo>
                      <a:pt x="14913" y="8"/>
                      <a:pt x="14912" y="7"/>
                      <a:pt x="14912" y="6"/>
                    </a:cubicBezTo>
                    <a:cubicBezTo>
                      <a:pt x="14912" y="5"/>
                      <a:pt x="14913" y="4"/>
                      <a:pt x="14914" y="4"/>
                    </a:cubicBezTo>
                    <a:close/>
                    <a:moveTo>
                      <a:pt x="14922" y="4"/>
                    </a:moveTo>
                    <a:lnTo>
                      <a:pt x="14922" y="4"/>
                    </a:lnTo>
                    <a:cubicBezTo>
                      <a:pt x="14923" y="4"/>
                      <a:pt x="14924" y="5"/>
                      <a:pt x="14924" y="6"/>
                    </a:cubicBezTo>
                    <a:cubicBezTo>
                      <a:pt x="14924" y="7"/>
                      <a:pt x="14923" y="8"/>
                      <a:pt x="14922" y="8"/>
                    </a:cubicBezTo>
                    <a:lnTo>
                      <a:pt x="14922" y="8"/>
                    </a:lnTo>
                    <a:cubicBezTo>
                      <a:pt x="14921" y="8"/>
                      <a:pt x="14920" y="7"/>
                      <a:pt x="14920" y="6"/>
                    </a:cubicBezTo>
                    <a:cubicBezTo>
                      <a:pt x="14920" y="5"/>
                      <a:pt x="14921" y="4"/>
                      <a:pt x="14922" y="4"/>
                    </a:cubicBezTo>
                    <a:close/>
                    <a:moveTo>
                      <a:pt x="14930" y="4"/>
                    </a:moveTo>
                    <a:lnTo>
                      <a:pt x="14930" y="4"/>
                    </a:lnTo>
                    <a:cubicBezTo>
                      <a:pt x="14931" y="4"/>
                      <a:pt x="14932" y="5"/>
                      <a:pt x="14932" y="6"/>
                    </a:cubicBezTo>
                    <a:cubicBezTo>
                      <a:pt x="14932" y="7"/>
                      <a:pt x="14931" y="8"/>
                      <a:pt x="14930" y="8"/>
                    </a:cubicBezTo>
                    <a:lnTo>
                      <a:pt x="14930" y="8"/>
                    </a:lnTo>
                    <a:cubicBezTo>
                      <a:pt x="14929" y="8"/>
                      <a:pt x="14928" y="7"/>
                      <a:pt x="14928" y="6"/>
                    </a:cubicBezTo>
                    <a:cubicBezTo>
                      <a:pt x="14928" y="5"/>
                      <a:pt x="14929" y="4"/>
                      <a:pt x="14930" y="4"/>
                    </a:cubicBezTo>
                    <a:close/>
                    <a:moveTo>
                      <a:pt x="14938" y="4"/>
                    </a:moveTo>
                    <a:lnTo>
                      <a:pt x="14938" y="4"/>
                    </a:lnTo>
                    <a:cubicBezTo>
                      <a:pt x="14939" y="4"/>
                      <a:pt x="14940" y="5"/>
                      <a:pt x="14940" y="6"/>
                    </a:cubicBezTo>
                    <a:cubicBezTo>
                      <a:pt x="14940" y="7"/>
                      <a:pt x="14939" y="8"/>
                      <a:pt x="14938" y="8"/>
                    </a:cubicBezTo>
                    <a:lnTo>
                      <a:pt x="14938" y="8"/>
                    </a:lnTo>
                    <a:cubicBezTo>
                      <a:pt x="14937" y="8"/>
                      <a:pt x="14936" y="7"/>
                      <a:pt x="14936" y="6"/>
                    </a:cubicBezTo>
                    <a:cubicBezTo>
                      <a:pt x="14936" y="5"/>
                      <a:pt x="14937" y="4"/>
                      <a:pt x="14938" y="4"/>
                    </a:cubicBezTo>
                    <a:close/>
                    <a:moveTo>
                      <a:pt x="14946" y="4"/>
                    </a:moveTo>
                    <a:lnTo>
                      <a:pt x="14946" y="4"/>
                    </a:lnTo>
                    <a:cubicBezTo>
                      <a:pt x="14947" y="4"/>
                      <a:pt x="14948" y="5"/>
                      <a:pt x="14948" y="6"/>
                    </a:cubicBezTo>
                    <a:cubicBezTo>
                      <a:pt x="14948" y="7"/>
                      <a:pt x="14947" y="8"/>
                      <a:pt x="14946" y="8"/>
                    </a:cubicBezTo>
                    <a:lnTo>
                      <a:pt x="14946" y="8"/>
                    </a:lnTo>
                    <a:cubicBezTo>
                      <a:pt x="14945" y="8"/>
                      <a:pt x="14944" y="7"/>
                      <a:pt x="14944" y="6"/>
                    </a:cubicBezTo>
                    <a:cubicBezTo>
                      <a:pt x="14944" y="5"/>
                      <a:pt x="14945" y="4"/>
                      <a:pt x="14946" y="4"/>
                    </a:cubicBezTo>
                    <a:close/>
                    <a:moveTo>
                      <a:pt x="14954" y="4"/>
                    </a:moveTo>
                    <a:lnTo>
                      <a:pt x="14954" y="4"/>
                    </a:lnTo>
                    <a:cubicBezTo>
                      <a:pt x="14955" y="4"/>
                      <a:pt x="14956" y="5"/>
                      <a:pt x="14956" y="6"/>
                    </a:cubicBezTo>
                    <a:cubicBezTo>
                      <a:pt x="14956" y="7"/>
                      <a:pt x="14955" y="8"/>
                      <a:pt x="14954" y="8"/>
                    </a:cubicBezTo>
                    <a:lnTo>
                      <a:pt x="14954" y="8"/>
                    </a:lnTo>
                    <a:cubicBezTo>
                      <a:pt x="14953" y="8"/>
                      <a:pt x="14952" y="7"/>
                      <a:pt x="14952" y="6"/>
                    </a:cubicBezTo>
                    <a:cubicBezTo>
                      <a:pt x="14952" y="5"/>
                      <a:pt x="14953" y="4"/>
                      <a:pt x="14954" y="4"/>
                    </a:cubicBezTo>
                    <a:close/>
                    <a:moveTo>
                      <a:pt x="14962" y="4"/>
                    </a:moveTo>
                    <a:lnTo>
                      <a:pt x="14962" y="4"/>
                    </a:lnTo>
                    <a:cubicBezTo>
                      <a:pt x="14963" y="4"/>
                      <a:pt x="14964" y="5"/>
                      <a:pt x="14964" y="6"/>
                    </a:cubicBezTo>
                    <a:cubicBezTo>
                      <a:pt x="14964" y="7"/>
                      <a:pt x="14963" y="8"/>
                      <a:pt x="14962" y="8"/>
                    </a:cubicBezTo>
                    <a:lnTo>
                      <a:pt x="14962" y="8"/>
                    </a:lnTo>
                    <a:cubicBezTo>
                      <a:pt x="14961" y="8"/>
                      <a:pt x="14960" y="7"/>
                      <a:pt x="14960" y="6"/>
                    </a:cubicBezTo>
                    <a:cubicBezTo>
                      <a:pt x="14960" y="5"/>
                      <a:pt x="14961" y="4"/>
                      <a:pt x="14962" y="4"/>
                    </a:cubicBezTo>
                    <a:close/>
                    <a:moveTo>
                      <a:pt x="14970" y="4"/>
                    </a:moveTo>
                    <a:lnTo>
                      <a:pt x="14970" y="4"/>
                    </a:lnTo>
                    <a:cubicBezTo>
                      <a:pt x="14971" y="4"/>
                      <a:pt x="14972" y="5"/>
                      <a:pt x="14972" y="6"/>
                    </a:cubicBezTo>
                    <a:cubicBezTo>
                      <a:pt x="14972" y="7"/>
                      <a:pt x="14971" y="8"/>
                      <a:pt x="14970" y="8"/>
                    </a:cubicBezTo>
                    <a:lnTo>
                      <a:pt x="14970" y="8"/>
                    </a:lnTo>
                    <a:cubicBezTo>
                      <a:pt x="14969" y="8"/>
                      <a:pt x="14968" y="7"/>
                      <a:pt x="14968" y="6"/>
                    </a:cubicBezTo>
                    <a:cubicBezTo>
                      <a:pt x="14968" y="5"/>
                      <a:pt x="14969" y="4"/>
                      <a:pt x="14970" y="4"/>
                    </a:cubicBezTo>
                    <a:close/>
                    <a:moveTo>
                      <a:pt x="14978" y="4"/>
                    </a:moveTo>
                    <a:lnTo>
                      <a:pt x="14978" y="4"/>
                    </a:lnTo>
                    <a:cubicBezTo>
                      <a:pt x="14979" y="4"/>
                      <a:pt x="14980" y="5"/>
                      <a:pt x="14980" y="6"/>
                    </a:cubicBezTo>
                    <a:cubicBezTo>
                      <a:pt x="14980" y="7"/>
                      <a:pt x="14979" y="8"/>
                      <a:pt x="14978" y="8"/>
                    </a:cubicBezTo>
                    <a:lnTo>
                      <a:pt x="14978" y="8"/>
                    </a:lnTo>
                    <a:cubicBezTo>
                      <a:pt x="14977" y="8"/>
                      <a:pt x="14976" y="7"/>
                      <a:pt x="14976" y="6"/>
                    </a:cubicBezTo>
                    <a:cubicBezTo>
                      <a:pt x="14976" y="5"/>
                      <a:pt x="14977" y="4"/>
                      <a:pt x="14978" y="4"/>
                    </a:cubicBezTo>
                    <a:close/>
                    <a:moveTo>
                      <a:pt x="14986" y="4"/>
                    </a:moveTo>
                    <a:lnTo>
                      <a:pt x="14986" y="4"/>
                    </a:lnTo>
                    <a:cubicBezTo>
                      <a:pt x="14987" y="4"/>
                      <a:pt x="14988" y="5"/>
                      <a:pt x="14988" y="6"/>
                    </a:cubicBezTo>
                    <a:cubicBezTo>
                      <a:pt x="14988" y="7"/>
                      <a:pt x="14987" y="8"/>
                      <a:pt x="14986" y="8"/>
                    </a:cubicBezTo>
                    <a:lnTo>
                      <a:pt x="14986" y="8"/>
                    </a:lnTo>
                    <a:cubicBezTo>
                      <a:pt x="14985" y="8"/>
                      <a:pt x="14984" y="7"/>
                      <a:pt x="14984" y="6"/>
                    </a:cubicBezTo>
                    <a:cubicBezTo>
                      <a:pt x="14984" y="5"/>
                      <a:pt x="14985" y="4"/>
                      <a:pt x="14986" y="4"/>
                    </a:cubicBezTo>
                    <a:close/>
                    <a:moveTo>
                      <a:pt x="14994" y="4"/>
                    </a:moveTo>
                    <a:lnTo>
                      <a:pt x="14994" y="4"/>
                    </a:lnTo>
                    <a:cubicBezTo>
                      <a:pt x="14995" y="4"/>
                      <a:pt x="14996" y="5"/>
                      <a:pt x="14996" y="6"/>
                    </a:cubicBezTo>
                    <a:cubicBezTo>
                      <a:pt x="14996" y="7"/>
                      <a:pt x="14995" y="8"/>
                      <a:pt x="14994" y="8"/>
                    </a:cubicBezTo>
                    <a:lnTo>
                      <a:pt x="14994" y="8"/>
                    </a:lnTo>
                    <a:cubicBezTo>
                      <a:pt x="14993" y="8"/>
                      <a:pt x="14992" y="7"/>
                      <a:pt x="14992" y="6"/>
                    </a:cubicBezTo>
                    <a:cubicBezTo>
                      <a:pt x="14992" y="5"/>
                      <a:pt x="14993" y="4"/>
                      <a:pt x="14994" y="4"/>
                    </a:cubicBezTo>
                    <a:close/>
                    <a:moveTo>
                      <a:pt x="15002" y="4"/>
                    </a:moveTo>
                    <a:lnTo>
                      <a:pt x="15002" y="4"/>
                    </a:lnTo>
                    <a:cubicBezTo>
                      <a:pt x="15003" y="4"/>
                      <a:pt x="15004" y="5"/>
                      <a:pt x="15004" y="6"/>
                    </a:cubicBezTo>
                    <a:cubicBezTo>
                      <a:pt x="15004" y="7"/>
                      <a:pt x="15003" y="8"/>
                      <a:pt x="15002" y="8"/>
                    </a:cubicBezTo>
                    <a:lnTo>
                      <a:pt x="15002" y="8"/>
                    </a:lnTo>
                    <a:cubicBezTo>
                      <a:pt x="15001" y="8"/>
                      <a:pt x="15000" y="7"/>
                      <a:pt x="15000" y="6"/>
                    </a:cubicBezTo>
                    <a:cubicBezTo>
                      <a:pt x="15000" y="5"/>
                      <a:pt x="15001" y="4"/>
                      <a:pt x="15002" y="4"/>
                    </a:cubicBezTo>
                    <a:close/>
                    <a:moveTo>
                      <a:pt x="15010" y="4"/>
                    </a:moveTo>
                    <a:lnTo>
                      <a:pt x="15010" y="4"/>
                    </a:lnTo>
                    <a:cubicBezTo>
                      <a:pt x="15011" y="4"/>
                      <a:pt x="15012" y="5"/>
                      <a:pt x="15012" y="6"/>
                    </a:cubicBezTo>
                    <a:cubicBezTo>
                      <a:pt x="15012" y="7"/>
                      <a:pt x="15011" y="8"/>
                      <a:pt x="15010" y="8"/>
                    </a:cubicBezTo>
                    <a:lnTo>
                      <a:pt x="15010" y="8"/>
                    </a:lnTo>
                    <a:cubicBezTo>
                      <a:pt x="15009" y="8"/>
                      <a:pt x="15008" y="7"/>
                      <a:pt x="15008" y="6"/>
                    </a:cubicBezTo>
                    <a:cubicBezTo>
                      <a:pt x="15008" y="5"/>
                      <a:pt x="15009" y="4"/>
                      <a:pt x="15010" y="4"/>
                    </a:cubicBezTo>
                    <a:close/>
                    <a:moveTo>
                      <a:pt x="15018" y="4"/>
                    </a:moveTo>
                    <a:lnTo>
                      <a:pt x="15018" y="4"/>
                    </a:lnTo>
                    <a:cubicBezTo>
                      <a:pt x="15019" y="4"/>
                      <a:pt x="15020" y="5"/>
                      <a:pt x="15020" y="6"/>
                    </a:cubicBezTo>
                    <a:cubicBezTo>
                      <a:pt x="15020" y="7"/>
                      <a:pt x="15019" y="8"/>
                      <a:pt x="15018" y="8"/>
                    </a:cubicBezTo>
                    <a:lnTo>
                      <a:pt x="15018" y="8"/>
                    </a:lnTo>
                    <a:cubicBezTo>
                      <a:pt x="15017" y="8"/>
                      <a:pt x="15016" y="7"/>
                      <a:pt x="15016" y="6"/>
                    </a:cubicBezTo>
                    <a:cubicBezTo>
                      <a:pt x="15016" y="5"/>
                      <a:pt x="15017" y="4"/>
                      <a:pt x="15018" y="4"/>
                    </a:cubicBezTo>
                    <a:close/>
                    <a:moveTo>
                      <a:pt x="15026" y="4"/>
                    </a:moveTo>
                    <a:lnTo>
                      <a:pt x="15026" y="4"/>
                    </a:lnTo>
                    <a:cubicBezTo>
                      <a:pt x="15027" y="4"/>
                      <a:pt x="15028" y="5"/>
                      <a:pt x="15028" y="6"/>
                    </a:cubicBezTo>
                    <a:cubicBezTo>
                      <a:pt x="15028" y="7"/>
                      <a:pt x="15027" y="8"/>
                      <a:pt x="15026" y="8"/>
                    </a:cubicBezTo>
                    <a:lnTo>
                      <a:pt x="15026" y="8"/>
                    </a:lnTo>
                    <a:cubicBezTo>
                      <a:pt x="15025" y="8"/>
                      <a:pt x="15024" y="7"/>
                      <a:pt x="15024" y="6"/>
                    </a:cubicBezTo>
                    <a:cubicBezTo>
                      <a:pt x="15024" y="5"/>
                      <a:pt x="15025" y="4"/>
                      <a:pt x="15026" y="4"/>
                    </a:cubicBezTo>
                    <a:close/>
                    <a:moveTo>
                      <a:pt x="15034" y="4"/>
                    </a:moveTo>
                    <a:lnTo>
                      <a:pt x="15034" y="4"/>
                    </a:lnTo>
                    <a:cubicBezTo>
                      <a:pt x="15035" y="4"/>
                      <a:pt x="15036" y="5"/>
                      <a:pt x="15036" y="6"/>
                    </a:cubicBezTo>
                    <a:cubicBezTo>
                      <a:pt x="15036" y="7"/>
                      <a:pt x="15035" y="8"/>
                      <a:pt x="15034" y="8"/>
                    </a:cubicBezTo>
                    <a:lnTo>
                      <a:pt x="15034" y="8"/>
                    </a:lnTo>
                    <a:cubicBezTo>
                      <a:pt x="15033" y="8"/>
                      <a:pt x="15032" y="7"/>
                      <a:pt x="15032" y="6"/>
                    </a:cubicBezTo>
                    <a:cubicBezTo>
                      <a:pt x="15032" y="5"/>
                      <a:pt x="15033" y="4"/>
                      <a:pt x="15034" y="4"/>
                    </a:cubicBezTo>
                    <a:close/>
                    <a:moveTo>
                      <a:pt x="15042" y="4"/>
                    </a:moveTo>
                    <a:lnTo>
                      <a:pt x="15042" y="4"/>
                    </a:lnTo>
                    <a:cubicBezTo>
                      <a:pt x="15043" y="4"/>
                      <a:pt x="15044" y="5"/>
                      <a:pt x="15044" y="6"/>
                    </a:cubicBezTo>
                    <a:cubicBezTo>
                      <a:pt x="15044" y="7"/>
                      <a:pt x="15043" y="8"/>
                      <a:pt x="15042" y="8"/>
                    </a:cubicBezTo>
                    <a:lnTo>
                      <a:pt x="15042" y="8"/>
                    </a:lnTo>
                    <a:cubicBezTo>
                      <a:pt x="15041" y="8"/>
                      <a:pt x="15040" y="7"/>
                      <a:pt x="15040" y="6"/>
                    </a:cubicBezTo>
                    <a:cubicBezTo>
                      <a:pt x="15040" y="5"/>
                      <a:pt x="15041" y="4"/>
                      <a:pt x="15042" y="4"/>
                    </a:cubicBezTo>
                    <a:close/>
                    <a:moveTo>
                      <a:pt x="15050" y="4"/>
                    </a:moveTo>
                    <a:lnTo>
                      <a:pt x="15050" y="4"/>
                    </a:lnTo>
                    <a:cubicBezTo>
                      <a:pt x="15051" y="4"/>
                      <a:pt x="15052" y="5"/>
                      <a:pt x="15052" y="6"/>
                    </a:cubicBezTo>
                    <a:cubicBezTo>
                      <a:pt x="15052" y="7"/>
                      <a:pt x="15051" y="8"/>
                      <a:pt x="15050" y="8"/>
                    </a:cubicBezTo>
                    <a:lnTo>
                      <a:pt x="15050" y="8"/>
                    </a:lnTo>
                    <a:cubicBezTo>
                      <a:pt x="15049" y="8"/>
                      <a:pt x="15048" y="7"/>
                      <a:pt x="15048" y="6"/>
                    </a:cubicBezTo>
                    <a:cubicBezTo>
                      <a:pt x="15048" y="5"/>
                      <a:pt x="15049" y="4"/>
                      <a:pt x="15050" y="4"/>
                    </a:cubicBezTo>
                    <a:close/>
                    <a:moveTo>
                      <a:pt x="15058" y="4"/>
                    </a:moveTo>
                    <a:lnTo>
                      <a:pt x="15058" y="4"/>
                    </a:lnTo>
                    <a:cubicBezTo>
                      <a:pt x="15059" y="4"/>
                      <a:pt x="15060" y="5"/>
                      <a:pt x="15060" y="6"/>
                    </a:cubicBezTo>
                    <a:cubicBezTo>
                      <a:pt x="15060" y="7"/>
                      <a:pt x="15059" y="8"/>
                      <a:pt x="15058" y="8"/>
                    </a:cubicBezTo>
                    <a:lnTo>
                      <a:pt x="15058" y="8"/>
                    </a:lnTo>
                    <a:cubicBezTo>
                      <a:pt x="15057" y="8"/>
                      <a:pt x="15056" y="7"/>
                      <a:pt x="15056" y="6"/>
                    </a:cubicBezTo>
                    <a:cubicBezTo>
                      <a:pt x="15056" y="5"/>
                      <a:pt x="15057" y="4"/>
                      <a:pt x="15058" y="4"/>
                    </a:cubicBezTo>
                    <a:close/>
                    <a:moveTo>
                      <a:pt x="15066" y="4"/>
                    </a:moveTo>
                    <a:lnTo>
                      <a:pt x="15066" y="4"/>
                    </a:lnTo>
                    <a:cubicBezTo>
                      <a:pt x="15067" y="4"/>
                      <a:pt x="15068" y="5"/>
                      <a:pt x="15068" y="6"/>
                    </a:cubicBezTo>
                    <a:cubicBezTo>
                      <a:pt x="15068" y="7"/>
                      <a:pt x="15067" y="8"/>
                      <a:pt x="15066" y="8"/>
                    </a:cubicBezTo>
                    <a:lnTo>
                      <a:pt x="15066" y="8"/>
                    </a:lnTo>
                    <a:cubicBezTo>
                      <a:pt x="15065" y="8"/>
                      <a:pt x="15064" y="7"/>
                      <a:pt x="15064" y="6"/>
                    </a:cubicBezTo>
                    <a:cubicBezTo>
                      <a:pt x="15064" y="5"/>
                      <a:pt x="15065" y="4"/>
                      <a:pt x="15066" y="4"/>
                    </a:cubicBezTo>
                    <a:close/>
                    <a:moveTo>
                      <a:pt x="15074" y="4"/>
                    </a:moveTo>
                    <a:lnTo>
                      <a:pt x="15074" y="4"/>
                    </a:lnTo>
                    <a:cubicBezTo>
                      <a:pt x="15075" y="4"/>
                      <a:pt x="15076" y="5"/>
                      <a:pt x="15076" y="6"/>
                    </a:cubicBezTo>
                    <a:cubicBezTo>
                      <a:pt x="15076" y="7"/>
                      <a:pt x="15075" y="8"/>
                      <a:pt x="15074" y="8"/>
                    </a:cubicBezTo>
                    <a:lnTo>
                      <a:pt x="15074" y="8"/>
                    </a:lnTo>
                    <a:cubicBezTo>
                      <a:pt x="15073" y="8"/>
                      <a:pt x="15072" y="7"/>
                      <a:pt x="15072" y="6"/>
                    </a:cubicBezTo>
                    <a:cubicBezTo>
                      <a:pt x="15072" y="5"/>
                      <a:pt x="15073" y="4"/>
                      <a:pt x="15074" y="4"/>
                    </a:cubicBezTo>
                    <a:close/>
                    <a:moveTo>
                      <a:pt x="15082" y="4"/>
                    </a:moveTo>
                    <a:lnTo>
                      <a:pt x="15082" y="4"/>
                    </a:lnTo>
                    <a:cubicBezTo>
                      <a:pt x="15083" y="4"/>
                      <a:pt x="15084" y="5"/>
                      <a:pt x="15084" y="6"/>
                    </a:cubicBezTo>
                    <a:cubicBezTo>
                      <a:pt x="15084" y="7"/>
                      <a:pt x="15083" y="8"/>
                      <a:pt x="15082" y="8"/>
                    </a:cubicBezTo>
                    <a:lnTo>
                      <a:pt x="15082" y="8"/>
                    </a:lnTo>
                    <a:cubicBezTo>
                      <a:pt x="15081" y="8"/>
                      <a:pt x="15080" y="7"/>
                      <a:pt x="15080" y="6"/>
                    </a:cubicBezTo>
                    <a:cubicBezTo>
                      <a:pt x="15080" y="5"/>
                      <a:pt x="15081" y="4"/>
                      <a:pt x="15082" y="4"/>
                    </a:cubicBezTo>
                    <a:close/>
                    <a:moveTo>
                      <a:pt x="15090" y="4"/>
                    </a:moveTo>
                    <a:lnTo>
                      <a:pt x="15090" y="4"/>
                    </a:lnTo>
                    <a:cubicBezTo>
                      <a:pt x="15091" y="4"/>
                      <a:pt x="15092" y="5"/>
                      <a:pt x="15092" y="6"/>
                    </a:cubicBezTo>
                    <a:cubicBezTo>
                      <a:pt x="15092" y="7"/>
                      <a:pt x="15091" y="8"/>
                      <a:pt x="15090" y="8"/>
                    </a:cubicBezTo>
                    <a:lnTo>
                      <a:pt x="15090" y="8"/>
                    </a:lnTo>
                    <a:cubicBezTo>
                      <a:pt x="15089" y="8"/>
                      <a:pt x="15088" y="7"/>
                      <a:pt x="15088" y="6"/>
                    </a:cubicBezTo>
                    <a:cubicBezTo>
                      <a:pt x="15088" y="5"/>
                      <a:pt x="15089" y="4"/>
                      <a:pt x="15090" y="4"/>
                    </a:cubicBezTo>
                    <a:close/>
                    <a:moveTo>
                      <a:pt x="15098" y="4"/>
                    </a:moveTo>
                    <a:lnTo>
                      <a:pt x="15098" y="4"/>
                    </a:lnTo>
                    <a:cubicBezTo>
                      <a:pt x="15099" y="4"/>
                      <a:pt x="15100" y="5"/>
                      <a:pt x="15100" y="6"/>
                    </a:cubicBezTo>
                    <a:cubicBezTo>
                      <a:pt x="15100" y="7"/>
                      <a:pt x="15099" y="8"/>
                      <a:pt x="15098" y="8"/>
                    </a:cubicBezTo>
                    <a:lnTo>
                      <a:pt x="15098" y="8"/>
                    </a:lnTo>
                    <a:cubicBezTo>
                      <a:pt x="15097" y="8"/>
                      <a:pt x="15096" y="7"/>
                      <a:pt x="15096" y="6"/>
                    </a:cubicBezTo>
                    <a:cubicBezTo>
                      <a:pt x="15096" y="5"/>
                      <a:pt x="15097" y="4"/>
                      <a:pt x="15098" y="4"/>
                    </a:cubicBezTo>
                    <a:close/>
                    <a:moveTo>
                      <a:pt x="15106" y="4"/>
                    </a:moveTo>
                    <a:lnTo>
                      <a:pt x="15106" y="4"/>
                    </a:lnTo>
                    <a:cubicBezTo>
                      <a:pt x="15107" y="4"/>
                      <a:pt x="15108" y="5"/>
                      <a:pt x="15108" y="6"/>
                    </a:cubicBezTo>
                    <a:cubicBezTo>
                      <a:pt x="15108" y="7"/>
                      <a:pt x="15107" y="8"/>
                      <a:pt x="15106" y="8"/>
                    </a:cubicBezTo>
                    <a:lnTo>
                      <a:pt x="15106" y="8"/>
                    </a:lnTo>
                    <a:cubicBezTo>
                      <a:pt x="15105" y="8"/>
                      <a:pt x="15104" y="7"/>
                      <a:pt x="15104" y="6"/>
                    </a:cubicBezTo>
                    <a:cubicBezTo>
                      <a:pt x="15104" y="5"/>
                      <a:pt x="15105" y="4"/>
                      <a:pt x="15106" y="4"/>
                    </a:cubicBezTo>
                    <a:close/>
                    <a:moveTo>
                      <a:pt x="15114" y="4"/>
                    </a:moveTo>
                    <a:lnTo>
                      <a:pt x="15114" y="4"/>
                    </a:lnTo>
                    <a:cubicBezTo>
                      <a:pt x="15115" y="4"/>
                      <a:pt x="15116" y="5"/>
                      <a:pt x="15116" y="6"/>
                    </a:cubicBezTo>
                    <a:cubicBezTo>
                      <a:pt x="15116" y="7"/>
                      <a:pt x="15115" y="8"/>
                      <a:pt x="15114" y="8"/>
                    </a:cubicBezTo>
                    <a:lnTo>
                      <a:pt x="15114" y="8"/>
                    </a:lnTo>
                    <a:cubicBezTo>
                      <a:pt x="15113" y="8"/>
                      <a:pt x="15112" y="7"/>
                      <a:pt x="15112" y="6"/>
                    </a:cubicBezTo>
                    <a:cubicBezTo>
                      <a:pt x="15112" y="5"/>
                      <a:pt x="15113" y="4"/>
                      <a:pt x="15114" y="4"/>
                    </a:cubicBezTo>
                    <a:close/>
                    <a:moveTo>
                      <a:pt x="15122" y="4"/>
                    </a:moveTo>
                    <a:lnTo>
                      <a:pt x="15122" y="4"/>
                    </a:lnTo>
                    <a:cubicBezTo>
                      <a:pt x="15123" y="4"/>
                      <a:pt x="15124" y="5"/>
                      <a:pt x="15124" y="6"/>
                    </a:cubicBezTo>
                    <a:cubicBezTo>
                      <a:pt x="15124" y="7"/>
                      <a:pt x="15123" y="8"/>
                      <a:pt x="15122" y="8"/>
                    </a:cubicBezTo>
                    <a:lnTo>
                      <a:pt x="15122" y="8"/>
                    </a:lnTo>
                    <a:cubicBezTo>
                      <a:pt x="15121" y="8"/>
                      <a:pt x="15120" y="7"/>
                      <a:pt x="15120" y="6"/>
                    </a:cubicBezTo>
                    <a:cubicBezTo>
                      <a:pt x="15120" y="5"/>
                      <a:pt x="15121" y="4"/>
                      <a:pt x="15122" y="4"/>
                    </a:cubicBezTo>
                    <a:close/>
                    <a:moveTo>
                      <a:pt x="15130" y="4"/>
                    </a:moveTo>
                    <a:lnTo>
                      <a:pt x="15130" y="4"/>
                    </a:lnTo>
                    <a:cubicBezTo>
                      <a:pt x="15131" y="4"/>
                      <a:pt x="15132" y="5"/>
                      <a:pt x="15132" y="6"/>
                    </a:cubicBezTo>
                    <a:cubicBezTo>
                      <a:pt x="15132" y="7"/>
                      <a:pt x="15131" y="8"/>
                      <a:pt x="15130" y="8"/>
                    </a:cubicBezTo>
                    <a:lnTo>
                      <a:pt x="15130" y="8"/>
                    </a:lnTo>
                    <a:cubicBezTo>
                      <a:pt x="15129" y="8"/>
                      <a:pt x="15128" y="7"/>
                      <a:pt x="15128" y="6"/>
                    </a:cubicBezTo>
                    <a:cubicBezTo>
                      <a:pt x="15128" y="5"/>
                      <a:pt x="15129" y="4"/>
                      <a:pt x="15130" y="4"/>
                    </a:cubicBezTo>
                    <a:close/>
                    <a:moveTo>
                      <a:pt x="15138" y="4"/>
                    </a:moveTo>
                    <a:lnTo>
                      <a:pt x="15138" y="4"/>
                    </a:lnTo>
                    <a:cubicBezTo>
                      <a:pt x="15139" y="4"/>
                      <a:pt x="15140" y="5"/>
                      <a:pt x="15140" y="6"/>
                    </a:cubicBezTo>
                    <a:cubicBezTo>
                      <a:pt x="15140" y="7"/>
                      <a:pt x="15139" y="8"/>
                      <a:pt x="15138" y="8"/>
                    </a:cubicBezTo>
                    <a:lnTo>
                      <a:pt x="15138" y="8"/>
                    </a:lnTo>
                    <a:cubicBezTo>
                      <a:pt x="15137" y="8"/>
                      <a:pt x="15136" y="7"/>
                      <a:pt x="15136" y="6"/>
                    </a:cubicBezTo>
                    <a:cubicBezTo>
                      <a:pt x="15136" y="5"/>
                      <a:pt x="15137" y="4"/>
                      <a:pt x="15138" y="4"/>
                    </a:cubicBezTo>
                    <a:close/>
                    <a:moveTo>
                      <a:pt x="15146" y="4"/>
                    </a:moveTo>
                    <a:lnTo>
                      <a:pt x="15146" y="4"/>
                    </a:lnTo>
                    <a:cubicBezTo>
                      <a:pt x="15147" y="4"/>
                      <a:pt x="15148" y="5"/>
                      <a:pt x="15148" y="6"/>
                    </a:cubicBezTo>
                    <a:cubicBezTo>
                      <a:pt x="15148" y="7"/>
                      <a:pt x="15147" y="8"/>
                      <a:pt x="15146" y="8"/>
                    </a:cubicBezTo>
                    <a:lnTo>
                      <a:pt x="15146" y="8"/>
                    </a:lnTo>
                    <a:cubicBezTo>
                      <a:pt x="15145" y="8"/>
                      <a:pt x="15144" y="7"/>
                      <a:pt x="15144" y="6"/>
                    </a:cubicBezTo>
                    <a:cubicBezTo>
                      <a:pt x="15144" y="5"/>
                      <a:pt x="15145" y="4"/>
                      <a:pt x="15146" y="4"/>
                    </a:cubicBezTo>
                    <a:close/>
                    <a:moveTo>
                      <a:pt x="15154" y="4"/>
                    </a:moveTo>
                    <a:lnTo>
                      <a:pt x="15154" y="4"/>
                    </a:lnTo>
                    <a:cubicBezTo>
                      <a:pt x="15155" y="4"/>
                      <a:pt x="15156" y="5"/>
                      <a:pt x="15156" y="6"/>
                    </a:cubicBezTo>
                    <a:cubicBezTo>
                      <a:pt x="15156" y="7"/>
                      <a:pt x="15155" y="8"/>
                      <a:pt x="15154" y="8"/>
                    </a:cubicBezTo>
                    <a:lnTo>
                      <a:pt x="15154" y="8"/>
                    </a:lnTo>
                    <a:cubicBezTo>
                      <a:pt x="15153" y="8"/>
                      <a:pt x="15152" y="7"/>
                      <a:pt x="15152" y="6"/>
                    </a:cubicBezTo>
                    <a:cubicBezTo>
                      <a:pt x="15152" y="5"/>
                      <a:pt x="15153" y="4"/>
                      <a:pt x="15154" y="4"/>
                    </a:cubicBezTo>
                    <a:close/>
                    <a:moveTo>
                      <a:pt x="15162" y="4"/>
                    </a:moveTo>
                    <a:lnTo>
                      <a:pt x="15162" y="4"/>
                    </a:lnTo>
                    <a:cubicBezTo>
                      <a:pt x="15163" y="4"/>
                      <a:pt x="15164" y="5"/>
                      <a:pt x="15164" y="6"/>
                    </a:cubicBezTo>
                    <a:cubicBezTo>
                      <a:pt x="15164" y="7"/>
                      <a:pt x="15163" y="8"/>
                      <a:pt x="15162" y="8"/>
                    </a:cubicBezTo>
                    <a:lnTo>
                      <a:pt x="15162" y="8"/>
                    </a:lnTo>
                    <a:cubicBezTo>
                      <a:pt x="15161" y="8"/>
                      <a:pt x="15160" y="7"/>
                      <a:pt x="15160" y="6"/>
                    </a:cubicBezTo>
                    <a:cubicBezTo>
                      <a:pt x="15160" y="5"/>
                      <a:pt x="15161" y="4"/>
                      <a:pt x="15162" y="4"/>
                    </a:cubicBezTo>
                    <a:close/>
                    <a:moveTo>
                      <a:pt x="15170" y="4"/>
                    </a:moveTo>
                    <a:lnTo>
                      <a:pt x="15170" y="4"/>
                    </a:lnTo>
                    <a:cubicBezTo>
                      <a:pt x="15171" y="4"/>
                      <a:pt x="15172" y="5"/>
                      <a:pt x="15172" y="6"/>
                    </a:cubicBezTo>
                    <a:cubicBezTo>
                      <a:pt x="15172" y="7"/>
                      <a:pt x="15171" y="8"/>
                      <a:pt x="15170" y="8"/>
                    </a:cubicBezTo>
                    <a:lnTo>
                      <a:pt x="15170" y="8"/>
                    </a:lnTo>
                    <a:cubicBezTo>
                      <a:pt x="15169" y="8"/>
                      <a:pt x="15168" y="7"/>
                      <a:pt x="15168" y="6"/>
                    </a:cubicBezTo>
                    <a:cubicBezTo>
                      <a:pt x="15168" y="5"/>
                      <a:pt x="15169" y="4"/>
                      <a:pt x="15170" y="4"/>
                    </a:cubicBezTo>
                    <a:close/>
                    <a:moveTo>
                      <a:pt x="15178" y="4"/>
                    </a:moveTo>
                    <a:lnTo>
                      <a:pt x="15178" y="4"/>
                    </a:lnTo>
                    <a:cubicBezTo>
                      <a:pt x="15179" y="4"/>
                      <a:pt x="15180" y="5"/>
                      <a:pt x="15180" y="6"/>
                    </a:cubicBezTo>
                    <a:cubicBezTo>
                      <a:pt x="15180" y="7"/>
                      <a:pt x="15179" y="8"/>
                      <a:pt x="15178" y="8"/>
                    </a:cubicBezTo>
                    <a:lnTo>
                      <a:pt x="15178" y="8"/>
                    </a:lnTo>
                    <a:cubicBezTo>
                      <a:pt x="15177" y="8"/>
                      <a:pt x="15176" y="7"/>
                      <a:pt x="15176" y="6"/>
                    </a:cubicBezTo>
                    <a:cubicBezTo>
                      <a:pt x="15176" y="5"/>
                      <a:pt x="15177" y="4"/>
                      <a:pt x="15178" y="4"/>
                    </a:cubicBezTo>
                    <a:close/>
                    <a:moveTo>
                      <a:pt x="15186" y="4"/>
                    </a:moveTo>
                    <a:lnTo>
                      <a:pt x="15186" y="4"/>
                    </a:lnTo>
                    <a:cubicBezTo>
                      <a:pt x="15187" y="4"/>
                      <a:pt x="15188" y="5"/>
                      <a:pt x="15188" y="6"/>
                    </a:cubicBezTo>
                    <a:cubicBezTo>
                      <a:pt x="15188" y="7"/>
                      <a:pt x="15187" y="8"/>
                      <a:pt x="15186" y="8"/>
                    </a:cubicBezTo>
                    <a:lnTo>
                      <a:pt x="15186" y="8"/>
                    </a:lnTo>
                    <a:cubicBezTo>
                      <a:pt x="15185" y="8"/>
                      <a:pt x="15184" y="7"/>
                      <a:pt x="15184" y="6"/>
                    </a:cubicBezTo>
                    <a:cubicBezTo>
                      <a:pt x="15184" y="5"/>
                      <a:pt x="15185" y="4"/>
                      <a:pt x="15186" y="4"/>
                    </a:cubicBezTo>
                    <a:close/>
                    <a:moveTo>
                      <a:pt x="15194" y="4"/>
                    </a:moveTo>
                    <a:lnTo>
                      <a:pt x="15194" y="4"/>
                    </a:lnTo>
                    <a:cubicBezTo>
                      <a:pt x="15195" y="4"/>
                      <a:pt x="15196" y="5"/>
                      <a:pt x="15196" y="6"/>
                    </a:cubicBezTo>
                    <a:cubicBezTo>
                      <a:pt x="15196" y="7"/>
                      <a:pt x="15195" y="8"/>
                      <a:pt x="15194" y="8"/>
                    </a:cubicBezTo>
                    <a:lnTo>
                      <a:pt x="15194" y="8"/>
                    </a:lnTo>
                    <a:cubicBezTo>
                      <a:pt x="15193" y="8"/>
                      <a:pt x="15192" y="7"/>
                      <a:pt x="15192" y="6"/>
                    </a:cubicBezTo>
                    <a:cubicBezTo>
                      <a:pt x="15192" y="5"/>
                      <a:pt x="15193" y="4"/>
                      <a:pt x="15194" y="4"/>
                    </a:cubicBezTo>
                    <a:close/>
                    <a:moveTo>
                      <a:pt x="15202" y="4"/>
                    </a:moveTo>
                    <a:lnTo>
                      <a:pt x="15202" y="4"/>
                    </a:lnTo>
                    <a:cubicBezTo>
                      <a:pt x="15203" y="4"/>
                      <a:pt x="15204" y="5"/>
                      <a:pt x="15204" y="6"/>
                    </a:cubicBezTo>
                    <a:cubicBezTo>
                      <a:pt x="15204" y="7"/>
                      <a:pt x="15203" y="8"/>
                      <a:pt x="15202" y="8"/>
                    </a:cubicBezTo>
                    <a:lnTo>
                      <a:pt x="15202" y="8"/>
                    </a:lnTo>
                    <a:cubicBezTo>
                      <a:pt x="15201" y="8"/>
                      <a:pt x="15200" y="7"/>
                      <a:pt x="15200" y="6"/>
                    </a:cubicBezTo>
                    <a:cubicBezTo>
                      <a:pt x="15200" y="5"/>
                      <a:pt x="15201" y="4"/>
                      <a:pt x="15202" y="4"/>
                    </a:cubicBezTo>
                    <a:close/>
                    <a:moveTo>
                      <a:pt x="15210" y="4"/>
                    </a:moveTo>
                    <a:lnTo>
                      <a:pt x="15210" y="4"/>
                    </a:lnTo>
                    <a:cubicBezTo>
                      <a:pt x="15211" y="4"/>
                      <a:pt x="15212" y="5"/>
                      <a:pt x="15212" y="6"/>
                    </a:cubicBezTo>
                    <a:cubicBezTo>
                      <a:pt x="15212" y="7"/>
                      <a:pt x="15211" y="8"/>
                      <a:pt x="15210" y="8"/>
                    </a:cubicBezTo>
                    <a:lnTo>
                      <a:pt x="15210" y="8"/>
                    </a:lnTo>
                    <a:cubicBezTo>
                      <a:pt x="15209" y="8"/>
                      <a:pt x="15208" y="7"/>
                      <a:pt x="15208" y="6"/>
                    </a:cubicBezTo>
                    <a:cubicBezTo>
                      <a:pt x="15208" y="5"/>
                      <a:pt x="15209" y="4"/>
                      <a:pt x="15210" y="4"/>
                    </a:cubicBezTo>
                    <a:close/>
                    <a:moveTo>
                      <a:pt x="15218" y="4"/>
                    </a:moveTo>
                    <a:lnTo>
                      <a:pt x="15218" y="4"/>
                    </a:lnTo>
                    <a:cubicBezTo>
                      <a:pt x="15219" y="4"/>
                      <a:pt x="15220" y="5"/>
                      <a:pt x="15220" y="6"/>
                    </a:cubicBezTo>
                    <a:cubicBezTo>
                      <a:pt x="15220" y="7"/>
                      <a:pt x="15219" y="8"/>
                      <a:pt x="15218" y="8"/>
                    </a:cubicBezTo>
                    <a:lnTo>
                      <a:pt x="15218" y="8"/>
                    </a:lnTo>
                    <a:cubicBezTo>
                      <a:pt x="15217" y="8"/>
                      <a:pt x="15216" y="7"/>
                      <a:pt x="15216" y="6"/>
                    </a:cubicBezTo>
                    <a:cubicBezTo>
                      <a:pt x="15216" y="5"/>
                      <a:pt x="15217" y="4"/>
                      <a:pt x="15218" y="4"/>
                    </a:cubicBezTo>
                    <a:close/>
                    <a:moveTo>
                      <a:pt x="15226" y="4"/>
                    </a:moveTo>
                    <a:lnTo>
                      <a:pt x="15226" y="4"/>
                    </a:lnTo>
                    <a:cubicBezTo>
                      <a:pt x="15227" y="4"/>
                      <a:pt x="15228" y="5"/>
                      <a:pt x="15228" y="6"/>
                    </a:cubicBezTo>
                    <a:cubicBezTo>
                      <a:pt x="15228" y="7"/>
                      <a:pt x="15227" y="8"/>
                      <a:pt x="15226" y="8"/>
                    </a:cubicBezTo>
                    <a:lnTo>
                      <a:pt x="15226" y="8"/>
                    </a:lnTo>
                    <a:cubicBezTo>
                      <a:pt x="15225" y="8"/>
                      <a:pt x="15224" y="7"/>
                      <a:pt x="15224" y="6"/>
                    </a:cubicBezTo>
                    <a:cubicBezTo>
                      <a:pt x="15224" y="5"/>
                      <a:pt x="15225" y="4"/>
                      <a:pt x="15226" y="4"/>
                    </a:cubicBezTo>
                    <a:close/>
                    <a:moveTo>
                      <a:pt x="15234" y="4"/>
                    </a:moveTo>
                    <a:lnTo>
                      <a:pt x="15234" y="4"/>
                    </a:lnTo>
                    <a:cubicBezTo>
                      <a:pt x="15235" y="4"/>
                      <a:pt x="15236" y="5"/>
                      <a:pt x="15236" y="6"/>
                    </a:cubicBezTo>
                    <a:cubicBezTo>
                      <a:pt x="15236" y="7"/>
                      <a:pt x="15235" y="8"/>
                      <a:pt x="15234" y="8"/>
                    </a:cubicBezTo>
                    <a:lnTo>
                      <a:pt x="15234" y="8"/>
                    </a:lnTo>
                    <a:cubicBezTo>
                      <a:pt x="15233" y="8"/>
                      <a:pt x="15232" y="7"/>
                      <a:pt x="15232" y="6"/>
                    </a:cubicBezTo>
                    <a:cubicBezTo>
                      <a:pt x="15232" y="5"/>
                      <a:pt x="15233" y="4"/>
                      <a:pt x="15234" y="4"/>
                    </a:cubicBezTo>
                    <a:close/>
                    <a:moveTo>
                      <a:pt x="15242" y="4"/>
                    </a:moveTo>
                    <a:lnTo>
                      <a:pt x="15242" y="4"/>
                    </a:lnTo>
                    <a:cubicBezTo>
                      <a:pt x="15243" y="4"/>
                      <a:pt x="15244" y="5"/>
                      <a:pt x="15244" y="6"/>
                    </a:cubicBezTo>
                    <a:cubicBezTo>
                      <a:pt x="15244" y="7"/>
                      <a:pt x="15243" y="8"/>
                      <a:pt x="15242" y="8"/>
                    </a:cubicBezTo>
                    <a:lnTo>
                      <a:pt x="15242" y="8"/>
                    </a:lnTo>
                    <a:cubicBezTo>
                      <a:pt x="15241" y="8"/>
                      <a:pt x="15240" y="7"/>
                      <a:pt x="15240" y="6"/>
                    </a:cubicBezTo>
                    <a:cubicBezTo>
                      <a:pt x="15240" y="5"/>
                      <a:pt x="15241" y="4"/>
                      <a:pt x="15242" y="4"/>
                    </a:cubicBezTo>
                    <a:close/>
                    <a:moveTo>
                      <a:pt x="15250" y="4"/>
                    </a:moveTo>
                    <a:lnTo>
                      <a:pt x="15250" y="4"/>
                    </a:lnTo>
                    <a:cubicBezTo>
                      <a:pt x="15251" y="4"/>
                      <a:pt x="15252" y="5"/>
                      <a:pt x="15252" y="6"/>
                    </a:cubicBezTo>
                    <a:cubicBezTo>
                      <a:pt x="15252" y="7"/>
                      <a:pt x="15251" y="8"/>
                      <a:pt x="15250" y="8"/>
                    </a:cubicBezTo>
                    <a:lnTo>
                      <a:pt x="15250" y="8"/>
                    </a:lnTo>
                    <a:cubicBezTo>
                      <a:pt x="15249" y="8"/>
                      <a:pt x="15248" y="7"/>
                      <a:pt x="15248" y="6"/>
                    </a:cubicBezTo>
                    <a:cubicBezTo>
                      <a:pt x="15248" y="5"/>
                      <a:pt x="15249" y="4"/>
                      <a:pt x="15250" y="4"/>
                    </a:cubicBezTo>
                    <a:close/>
                    <a:moveTo>
                      <a:pt x="15258" y="4"/>
                    </a:moveTo>
                    <a:lnTo>
                      <a:pt x="15258" y="4"/>
                    </a:lnTo>
                    <a:cubicBezTo>
                      <a:pt x="15259" y="4"/>
                      <a:pt x="15260" y="5"/>
                      <a:pt x="15260" y="6"/>
                    </a:cubicBezTo>
                    <a:cubicBezTo>
                      <a:pt x="15260" y="7"/>
                      <a:pt x="15259" y="8"/>
                      <a:pt x="15258" y="8"/>
                    </a:cubicBezTo>
                    <a:lnTo>
                      <a:pt x="15258" y="8"/>
                    </a:lnTo>
                    <a:cubicBezTo>
                      <a:pt x="15257" y="8"/>
                      <a:pt x="15256" y="7"/>
                      <a:pt x="15256" y="6"/>
                    </a:cubicBezTo>
                    <a:cubicBezTo>
                      <a:pt x="15256" y="5"/>
                      <a:pt x="15257" y="4"/>
                      <a:pt x="15258" y="4"/>
                    </a:cubicBezTo>
                    <a:close/>
                    <a:moveTo>
                      <a:pt x="15266" y="4"/>
                    </a:moveTo>
                    <a:lnTo>
                      <a:pt x="15266" y="4"/>
                    </a:lnTo>
                    <a:cubicBezTo>
                      <a:pt x="15267" y="4"/>
                      <a:pt x="15268" y="5"/>
                      <a:pt x="15268" y="6"/>
                    </a:cubicBezTo>
                    <a:cubicBezTo>
                      <a:pt x="15268" y="7"/>
                      <a:pt x="15267" y="8"/>
                      <a:pt x="15266" y="8"/>
                    </a:cubicBezTo>
                    <a:lnTo>
                      <a:pt x="15266" y="8"/>
                    </a:lnTo>
                    <a:cubicBezTo>
                      <a:pt x="15265" y="8"/>
                      <a:pt x="15264" y="7"/>
                      <a:pt x="15264" y="6"/>
                    </a:cubicBezTo>
                    <a:cubicBezTo>
                      <a:pt x="15264" y="5"/>
                      <a:pt x="15265" y="4"/>
                      <a:pt x="15266" y="4"/>
                    </a:cubicBezTo>
                    <a:close/>
                    <a:moveTo>
                      <a:pt x="15274" y="4"/>
                    </a:moveTo>
                    <a:lnTo>
                      <a:pt x="15274" y="4"/>
                    </a:lnTo>
                    <a:cubicBezTo>
                      <a:pt x="15275" y="4"/>
                      <a:pt x="15276" y="5"/>
                      <a:pt x="15276" y="6"/>
                    </a:cubicBezTo>
                    <a:cubicBezTo>
                      <a:pt x="15276" y="7"/>
                      <a:pt x="15275" y="8"/>
                      <a:pt x="15274" y="8"/>
                    </a:cubicBezTo>
                    <a:lnTo>
                      <a:pt x="15274" y="8"/>
                    </a:lnTo>
                    <a:cubicBezTo>
                      <a:pt x="15273" y="8"/>
                      <a:pt x="15272" y="7"/>
                      <a:pt x="15272" y="6"/>
                    </a:cubicBezTo>
                    <a:cubicBezTo>
                      <a:pt x="15272" y="5"/>
                      <a:pt x="15273" y="4"/>
                      <a:pt x="15274" y="4"/>
                    </a:cubicBezTo>
                    <a:close/>
                    <a:moveTo>
                      <a:pt x="15282" y="4"/>
                    </a:moveTo>
                    <a:lnTo>
                      <a:pt x="15282" y="4"/>
                    </a:lnTo>
                    <a:cubicBezTo>
                      <a:pt x="15283" y="4"/>
                      <a:pt x="15284" y="5"/>
                      <a:pt x="15284" y="6"/>
                    </a:cubicBezTo>
                    <a:cubicBezTo>
                      <a:pt x="15284" y="7"/>
                      <a:pt x="15283" y="8"/>
                      <a:pt x="15282" y="8"/>
                    </a:cubicBezTo>
                    <a:lnTo>
                      <a:pt x="15282" y="8"/>
                    </a:lnTo>
                    <a:cubicBezTo>
                      <a:pt x="15281" y="8"/>
                      <a:pt x="15280" y="7"/>
                      <a:pt x="15280" y="6"/>
                    </a:cubicBezTo>
                    <a:cubicBezTo>
                      <a:pt x="15280" y="5"/>
                      <a:pt x="15281" y="4"/>
                      <a:pt x="15282" y="4"/>
                    </a:cubicBezTo>
                    <a:close/>
                    <a:moveTo>
                      <a:pt x="15290" y="4"/>
                    </a:moveTo>
                    <a:lnTo>
                      <a:pt x="15290" y="4"/>
                    </a:lnTo>
                    <a:cubicBezTo>
                      <a:pt x="15291" y="4"/>
                      <a:pt x="15292" y="5"/>
                      <a:pt x="15292" y="6"/>
                    </a:cubicBezTo>
                    <a:cubicBezTo>
                      <a:pt x="15292" y="7"/>
                      <a:pt x="15291" y="8"/>
                      <a:pt x="15290" y="8"/>
                    </a:cubicBezTo>
                    <a:lnTo>
                      <a:pt x="15290" y="8"/>
                    </a:lnTo>
                    <a:cubicBezTo>
                      <a:pt x="15289" y="8"/>
                      <a:pt x="15288" y="7"/>
                      <a:pt x="15288" y="6"/>
                    </a:cubicBezTo>
                    <a:cubicBezTo>
                      <a:pt x="15288" y="5"/>
                      <a:pt x="15289" y="4"/>
                      <a:pt x="15290" y="4"/>
                    </a:cubicBezTo>
                    <a:close/>
                    <a:moveTo>
                      <a:pt x="15298" y="4"/>
                    </a:moveTo>
                    <a:lnTo>
                      <a:pt x="15298" y="4"/>
                    </a:lnTo>
                    <a:cubicBezTo>
                      <a:pt x="15299" y="4"/>
                      <a:pt x="15300" y="5"/>
                      <a:pt x="15300" y="6"/>
                    </a:cubicBezTo>
                    <a:cubicBezTo>
                      <a:pt x="15300" y="7"/>
                      <a:pt x="15299" y="8"/>
                      <a:pt x="15298" y="8"/>
                    </a:cubicBezTo>
                    <a:lnTo>
                      <a:pt x="15298" y="8"/>
                    </a:lnTo>
                    <a:cubicBezTo>
                      <a:pt x="15297" y="8"/>
                      <a:pt x="15296" y="7"/>
                      <a:pt x="15296" y="6"/>
                    </a:cubicBezTo>
                    <a:cubicBezTo>
                      <a:pt x="15296" y="5"/>
                      <a:pt x="15297" y="4"/>
                      <a:pt x="15298" y="4"/>
                    </a:cubicBezTo>
                    <a:close/>
                    <a:moveTo>
                      <a:pt x="15306" y="4"/>
                    </a:moveTo>
                    <a:lnTo>
                      <a:pt x="15306" y="4"/>
                    </a:lnTo>
                    <a:cubicBezTo>
                      <a:pt x="15307" y="4"/>
                      <a:pt x="15308" y="5"/>
                      <a:pt x="15308" y="6"/>
                    </a:cubicBezTo>
                    <a:cubicBezTo>
                      <a:pt x="15308" y="7"/>
                      <a:pt x="15307" y="8"/>
                      <a:pt x="15306" y="8"/>
                    </a:cubicBezTo>
                    <a:lnTo>
                      <a:pt x="15306" y="8"/>
                    </a:lnTo>
                    <a:cubicBezTo>
                      <a:pt x="15305" y="8"/>
                      <a:pt x="15304" y="7"/>
                      <a:pt x="15304" y="6"/>
                    </a:cubicBezTo>
                    <a:cubicBezTo>
                      <a:pt x="15304" y="5"/>
                      <a:pt x="15305" y="4"/>
                      <a:pt x="15306" y="4"/>
                    </a:cubicBezTo>
                    <a:close/>
                    <a:moveTo>
                      <a:pt x="15314" y="4"/>
                    </a:moveTo>
                    <a:lnTo>
                      <a:pt x="15314" y="4"/>
                    </a:lnTo>
                    <a:cubicBezTo>
                      <a:pt x="15315" y="4"/>
                      <a:pt x="15316" y="5"/>
                      <a:pt x="15316" y="6"/>
                    </a:cubicBezTo>
                    <a:cubicBezTo>
                      <a:pt x="15316" y="7"/>
                      <a:pt x="15315" y="8"/>
                      <a:pt x="15314" y="8"/>
                    </a:cubicBezTo>
                    <a:lnTo>
                      <a:pt x="15314" y="8"/>
                    </a:lnTo>
                    <a:cubicBezTo>
                      <a:pt x="15313" y="8"/>
                      <a:pt x="15312" y="7"/>
                      <a:pt x="15312" y="6"/>
                    </a:cubicBezTo>
                    <a:cubicBezTo>
                      <a:pt x="15312" y="5"/>
                      <a:pt x="15313" y="4"/>
                      <a:pt x="15314" y="4"/>
                    </a:cubicBezTo>
                    <a:close/>
                    <a:moveTo>
                      <a:pt x="15322" y="4"/>
                    </a:moveTo>
                    <a:lnTo>
                      <a:pt x="15322" y="4"/>
                    </a:lnTo>
                    <a:cubicBezTo>
                      <a:pt x="15323" y="4"/>
                      <a:pt x="15324" y="5"/>
                      <a:pt x="15324" y="6"/>
                    </a:cubicBezTo>
                    <a:cubicBezTo>
                      <a:pt x="15324" y="7"/>
                      <a:pt x="15323" y="8"/>
                      <a:pt x="15322" y="8"/>
                    </a:cubicBezTo>
                    <a:lnTo>
                      <a:pt x="15322" y="8"/>
                    </a:lnTo>
                    <a:cubicBezTo>
                      <a:pt x="15321" y="8"/>
                      <a:pt x="15320" y="7"/>
                      <a:pt x="15320" y="6"/>
                    </a:cubicBezTo>
                    <a:cubicBezTo>
                      <a:pt x="15320" y="5"/>
                      <a:pt x="15321" y="4"/>
                      <a:pt x="15322" y="4"/>
                    </a:cubicBezTo>
                    <a:close/>
                    <a:moveTo>
                      <a:pt x="15330" y="4"/>
                    </a:moveTo>
                    <a:lnTo>
                      <a:pt x="15330" y="4"/>
                    </a:lnTo>
                    <a:cubicBezTo>
                      <a:pt x="15331" y="4"/>
                      <a:pt x="15332" y="5"/>
                      <a:pt x="15332" y="6"/>
                    </a:cubicBezTo>
                    <a:cubicBezTo>
                      <a:pt x="15332" y="7"/>
                      <a:pt x="15331" y="8"/>
                      <a:pt x="15330" y="8"/>
                    </a:cubicBezTo>
                    <a:lnTo>
                      <a:pt x="15330" y="8"/>
                    </a:lnTo>
                    <a:cubicBezTo>
                      <a:pt x="15329" y="8"/>
                      <a:pt x="15328" y="7"/>
                      <a:pt x="15328" y="6"/>
                    </a:cubicBezTo>
                    <a:cubicBezTo>
                      <a:pt x="15328" y="5"/>
                      <a:pt x="15329" y="4"/>
                      <a:pt x="15330" y="4"/>
                    </a:cubicBezTo>
                    <a:close/>
                    <a:moveTo>
                      <a:pt x="15338" y="4"/>
                    </a:moveTo>
                    <a:lnTo>
                      <a:pt x="15338" y="4"/>
                    </a:lnTo>
                    <a:cubicBezTo>
                      <a:pt x="15339" y="4"/>
                      <a:pt x="15340" y="5"/>
                      <a:pt x="15340" y="6"/>
                    </a:cubicBezTo>
                    <a:cubicBezTo>
                      <a:pt x="15340" y="7"/>
                      <a:pt x="15339" y="8"/>
                      <a:pt x="15338" y="8"/>
                    </a:cubicBezTo>
                    <a:lnTo>
                      <a:pt x="15338" y="8"/>
                    </a:lnTo>
                    <a:cubicBezTo>
                      <a:pt x="15337" y="8"/>
                      <a:pt x="15336" y="7"/>
                      <a:pt x="15336" y="6"/>
                    </a:cubicBezTo>
                    <a:cubicBezTo>
                      <a:pt x="15336" y="5"/>
                      <a:pt x="15337" y="4"/>
                      <a:pt x="15338" y="4"/>
                    </a:cubicBezTo>
                    <a:close/>
                    <a:moveTo>
                      <a:pt x="15346" y="4"/>
                    </a:moveTo>
                    <a:lnTo>
                      <a:pt x="15346" y="4"/>
                    </a:lnTo>
                    <a:cubicBezTo>
                      <a:pt x="15347" y="4"/>
                      <a:pt x="15348" y="5"/>
                      <a:pt x="15348" y="6"/>
                    </a:cubicBezTo>
                    <a:cubicBezTo>
                      <a:pt x="15348" y="7"/>
                      <a:pt x="15347" y="8"/>
                      <a:pt x="15346" y="8"/>
                    </a:cubicBezTo>
                    <a:lnTo>
                      <a:pt x="15346" y="8"/>
                    </a:lnTo>
                    <a:cubicBezTo>
                      <a:pt x="15345" y="8"/>
                      <a:pt x="15344" y="7"/>
                      <a:pt x="15344" y="6"/>
                    </a:cubicBezTo>
                    <a:cubicBezTo>
                      <a:pt x="15344" y="5"/>
                      <a:pt x="15345" y="4"/>
                      <a:pt x="15346" y="4"/>
                    </a:cubicBezTo>
                    <a:close/>
                    <a:moveTo>
                      <a:pt x="15354" y="4"/>
                    </a:moveTo>
                    <a:lnTo>
                      <a:pt x="15354" y="4"/>
                    </a:lnTo>
                    <a:cubicBezTo>
                      <a:pt x="15355" y="4"/>
                      <a:pt x="15356" y="5"/>
                      <a:pt x="15356" y="6"/>
                    </a:cubicBezTo>
                    <a:cubicBezTo>
                      <a:pt x="15356" y="7"/>
                      <a:pt x="15355" y="8"/>
                      <a:pt x="15354" y="8"/>
                    </a:cubicBezTo>
                    <a:lnTo>
                      <a:pt x="15354" y="8"/>
                    </a:lnTo>
                    <a:cubicBezTo>
                      <a:pt x="15353" y="8"/>
                      <a:pt x="15352" y="7"/>
                      <a:pt x="15352" y="6"/>
                    </a:cubicBezTo>
                    <a:cubicBezTo>
                      <a:pt x="15352" y="5"/>
                      <a:pt x="15353" y="4"/>
                      <a:pt x="15354" y="4"/>
                    </a:cubicBezTo>
                    <a:close/>
                    <a:moveTo>
                      <a:pt x="15362" y="4"/>
                    </a:moveTo>
                    <a:lnTo>
                      <a:pt x="15362" y="4"/>
                    </a:lnTo>
                    <a:cubicBezTo>
                      <a:pt x="15363" y="4"/>
                      <a:pt x="15364" y="5"/>
                      <a:pt x="15364" y="6"/>
                    </a:cubicBezTo>
                    <a:cubicBezTo>
                      <a:pt x="15364" y="7"/>
                      <a:pt x="15363" y="8"/>
                      <a:pt x="15362" y="8"/>
                    </a:cubicBezTo>
                    <a:lnTo>
                      <a:pt x="15362" y="8"/>
                    </a:lnTo>
                    <a:cubicBezTo>
                      <a:pt x="15361" y="8"/>
                      <a:pt x="15360" y="7"/>
                      <a:pt x="15360" y="6"/>
                    </a:cubicBezTo>
                    <a:cubicBezTo>
                      <a:pt x="15360" y="5"/>
                      <a:pt x="15361" y="4"/>
                      <a:pt x="15362" y="4"/>
                    </a:cubicBezTo>
                    <a:close/>
                    <a:moveTo>
                      <a:pt x="15370" y="4"/>
                    </a:moveTo>
                    <a:lnTo>
                      <a:pt x="15370" y="4"/>
                    </a:lnTo>
                    <a:cubicBezTo>
                      <a:pt x="15371" y="4"/>
                      <a:pt x="15372" y="5"/>
                      <a:pt x="15372" y="6"/>
                    </a:cubicBezTo>
                    <a:cubicBezTo>
                      <a:pt x="15372" y="7"/>
                      <a:pt x="15371" y="8"/>
                      <a:pt x="15370" y="8"/>
                    </a:cubicBezTo>
                    <a:lnTo>
                      <a:pt x="15370" y="8"/>
                    </a:lnTo>
                    <a:cubicBezTo>
                      <a:pt x="15369" y="8"/>
                      <a:pt x="15368" y="7"/>
                      <a:pt x="15368" y="6"/>
                    </a:cubicBezTo>
                    <a:cubicBezTo>
                      <a:pt x="15368" y="5"/>
                      <a:pt x="15369" y="4"/>
                      <a:pt x="15370" y="4"/>
                    </a:cubicBezTo>
                    <a:close/>
                    <a:moveTo>
                      <a:pt x="15378" y="4"/>
                    </a:moveTo>
                    <a:lnTo>
                      <a:pt x="15378" y="4"/>
                    </a:lnTo>
                    <a:cubicBezTo>
                      <a:pt x="15379" y="4"/>
                      <a:pt x="15380" y="5"/>
                      <a:pt x="15380" y="6"/>
                    </a:cubicBezTo>
                    <a:cubicBezTo>
                      <a:pt x="15380" y="7"/>
                      <a:pt x="15379" y="8"/>
                      <a:pt x="15378" y="8"/>
                    </a:cubicBezTo>
                    <a:lnTo>
                      <a:pt x="15378" y="8"/>
                    </a:lnTo>
                    <a:cubicBezTo>
                      <a:pt x="15377" y="8"/>
                      <a:pt x="15376" y="7"/>
                      <a:pt x="15376" y="6"/>
                    </a:cubicBezTo>
                    <a:cubicBezTo>
                      <a:pt x="15376" y="5"/>
                      <a:pt x="15377" y="4"/>
                      <a:pt x="15378" y="4"/>
                    </a:cubicBezTo>
                    <a:close/>
                    <a:moveTo>
                      <a:pt x="15386" y="4"/>
                    </a:moveTo>
                    <a:lnTo>
                      <a:pt x="15386" y="4"/>
                    </a:lnTo>
                    <a:cubicBezTo>
                      <a:pt x="15387" y="4"/>
                      <a:pt x="15388" y="5"/>
                      <a:pt x="15388" y="6"/>
                    </a:cubicBezTo>
                    <a:cubicBezTo>
                      <a:pt x="15388" y="7"/>
                      <a:pt x="15387" y="8"/>
                      <a:pt x="15386" y="8"/>
                    </a:cubicBezTo>
                    <a:lnTo>
                      <a:pt x="15386" y="8"/>
                    </a:lnTo>
                    <a:cubicBezTo>
                      <a:pt x="15385" y="8"/>
                      <a:pt x="15384" y="7"/>
                      <a:pt x="15384" y="6"/>
                    </a:cubicBezTo>
                    <a:cubicBezTo>
                      <a:pt x="15384" y="5"/>
                      <a:pt x="15385" y="4"/>
                      <a:pt x="15386" y="4"/>
                    </a:cubicBezTo>
                    <a:close/>
                    <a:moveTo>
                      <a:pt x="15394" y="4"/>
                    </a:moveTo>
                    <a:lnTo>
                      <a:pt x="15394" y="4"/>
                    </a:lnTo>
                    <a:cubicBezTo>
                      <a:pt x="15395" y="4"/>
                      <a:pt x="15396" y="5"/>
                      <a:pt x="15396" y="6"/>
                    </a:cubicBezTo>
                    <a:cubicBezTo>
                      <a:pt x="15396" y="7"/>
                      <a:pt x="15395" y="8"/>
                      <a:pt x="15394" y="8"/>
                    </a:cubicBezTo>
                    <a:lnTo>
                      <a:pt x="15394" y="8"/>
                    </a:lnTo>
                    <a:cubicBezTo>
                      <a:pt x="15393" y="8"/>
                      <a:pt x="15392" y="7"/>
                      <a:pt x="15392" y="6"/>
                    </a:cubicBezTo>
                    <a:cubicBezTo>
                      <a:pt x="15392" y="5"/>
                      <a:pt x="15393" y="4"/>
                      <a:pt x="15394" y="4"/>
                    </a:cubicBezTo>
                    <a:close/>
                    <a:moveTo>
                      <a:pt x="15402" y="4"/>
                    </a:moveTo>
                    <a:lnTo>
                      <a:pt x="15402" y="4"/>
                    </a:lnTo>
                    <a:cubicBezTo>
                      <a:pt x="15403" y="4"/>
                      <a:pt x="15404" y="5"/>
                      <a:pt x="15404" y="6"/>
                    </a:cubicBezTo>
                    <a:cubicBezTo>
                      <a:pt x="15404" y="7"/>
                      <a:pt x="15403" y="8"/>
                      <a:pt x="15402" y="8"/>
                    </a:cubicBezTo>
                    <a:lnTo>
                      <a:pt x="15402" y="8"/>
                    </a:lnTo>
                    <a:cubicBezTo>
                      <a:pt x="15401" y="8"/>
                      <a:pt x="15400" y="7"/>
                      <a:pt x="15400" y="6"/>
                    </a:cubicBezTo>
                    <a:cubicBezTo>
                      <a:pt x="15400" y="5"/>
                      <a:pt x="15401" y="4"/>
                      <a:pt x="15402" y="4"/>
                    </a:cubicBezTo>
                    <a:close/>
                    <a:moveTo>
                      <a:pt x="15410" y="4"/>
                    </a:moveTo>
                    <a:lnTo>
                      <a:pt x="15410" y="4"/>
                    </a:lnTo>
                    <a:cubicBezTo>
                      <a:pt x="15411" y="4"/>
                      <a:pt x="15412" y="5"/>
                      <a:pt x="15412" y="6"/>
                    </a:cubicBezTo>
                    <a:cubicBezTo>
                      <a:pt x="15412" y="7"/>
                      <a:pt x="15411" y="8"/>
                      <a:pt x="15410" y="8"/>
                    </a:cubicBezTo>
                    <a:lnTo>
                      <a:pt x="15410" y="8"/>
                    </a:lnTo>
                    <a:cubicBezTo>
                      <a:pt x="15409" y="8"/>
                      <a:pt x="15408" y="7"/>
                      <a:pt x="15408" y="6"/>
                    </a:cubicBezTo>
                    <a:cubicBezTo>
                      <a:pt x="15408" y="5"/>
                      <a:pt x="15409" y="4"/>
                      <a:pt x="15410" y="4"/>
                    </a:cubicBezTo>
                    <a:close/>
                    <a:moveTo>
                      <a:pt x="15418" y="4"/>
                    </a:moveTo>
                    <a:lnTo>
                      <a:pt x="15418" y="4"/>
                    </a:lnTo>
                    <a:cubicBezTo>
                      <a:pt x="15419" y="4"/>
                      <a:pt x="15420" y="5"/>
                      <a:pt x="15420" y="6"/>
                    </a:cubicBezTo>
                    <a:cubicBezTo>
                      <a:pt x="15420" y="7"/>
                      <a:pt x="15419" y="8"/>
                      <a:pt x="15418" y="8"/>
                    </a:cubicBezTo>
                    <a:lnTo>
                      <a:pt x="15418" y="8"/>
                    </a:lnTo>
                    <a:cubicBezTo>
                      <a:pt x="15417" y="8"/>
                      <a:pt x="15416" y="7"/>
                      <a:pt x="15416" y="6"/>
                    </a:cubicBezTo>
                    <a:cubicBezTo>
                      <a:pt x="15416" y="5"/>
                      <a:pt x="15417" y="4"/>
                      <a:pt x="15418" y="4"/>
                    </a:cubicBezTo>
                    <a:close/>
                    <a:moveTo>
                      <a:pt x="15426" y="4"/>
                    </a:moveTo>
                    <a:lnTo>
                      <a:pt x="15426" y="4"/>
                    </a:lnTo>
                    <a:cubicBezTo>
                      <a:pt x="15427" y="4"/>
                      <a:pt x="15428" y="5"/>
                      <a:pt x="15428" y="6"/>
                    </a:cubicBezTo>
                    <a:cubicBezTo>
                      <a:pt x="15428" y="7"/>
                      <a:pt x="15427" y="8"/>
                      <a:pt x="15426" y="8"/>
                    </a:cubicBezTo>
                    <a:lnTo>
                      <a:pt x="15426" y="8"/>
                    </a:lnTo>
                    <a:cubicBezTo>
                      <a:pt x="15425" y="8"/>
                      <a:pt x="15424" y="7"/>
                      <a:pt x="15424" y="6"/>
                    </a:cubicBezTo>
                    <a:cubicBezTo>
                      <a:pt x="15424" y="5"/>
                      <a:pt x="15425" y="4"/>
                      <a:pt x="15426" y="4"/>
                    </a:cubicBezTo>
                    <a:close/>
                    <a:moveTo>
                      <a:pt x="15434" y="4"/>
                    </a:moveTo>
                    <a:lnTo>
                      <a:pt x="15434" y="4"/>
                    </a:lnTo>
                    <a:cubicBezTo>
                      <a:pt x="15435" y="4"/>
                      <a:pt x="15436" y="5"/>
                      <a:pt x="15436" y="6"/>
                    </a:cubicBezTo>
                    <a:cubicBezTo>
                      <a:pt x="15436" y="7"/>
                      <a:pt x="15435" y="8"/>
                      <a:pt x="15434" y="8"/>
                    </a:cubicBezTo>
                    <a:lnTo>
                      <a:pt x="15434" y="8"/>
                    </a:lnTo>
                    <a:cubicBezTo>
                      <a:pt x="15433" y="8"/>
                      <a:pt x="15432" y="7"/>
                      <a:pt x="15432" y="6"/>
                    </a:cubicBezTo>
                    <a:cubicBezTo>
                      <a:pt x="15432" y="5"/>
                      <a:pt x="15433" y="4"/>
                      <a:pt x="15434" y="4"/>
                    </a:cubicBezTo>
                    <a:close/>
                    <a:moveTo>
                      <a:pt x="15442" y="4"/>
                    </a:moveTo>
                    <a:lnTo>
                      <a:pt x="15442" y="4"/>
                    </a:lnTo>
                    <a:cubicBezTo>
                      <a:pt x="15443" y="4"/>
                      <a:pt x="15444" y="5"/>
                      <a:pt x="15444" y="6"/>
                    </a:cubicBezTo>
                    <a:cubicBezTo>
                      <a:pt x="15444" y="7"/>
                      <a:pt x="15443" y="8"/>
                      <a:pt x="15442" y="8"/>
                    </a:cubicBezTo>
                    <a:lnTo>
                      <a:pt x="15442" y="8"/>
                    </a:lnTo>
                    <a:cubicBezTo>
                      <a:pt x="15441" y="8"/>
                      <a:pt x="15440" y="7"/>
                      <a:pt x="15440" y="6"/>
                    </a:cubicBezTo>
                    <a:cubicBezTo>
                      <a:pt x="15440" y="5"/>
                      <a:pt x="15441" y="4"/>
                      <a:pt x="15442" y="4"/>
                    </a:cubicBezTo>
                    <a:close/>
                    <a:moveTo>
                      <a:pt x="15450" y="4"/>
                    </a:moveTo>
                    <a:lnTo>
                      <a:pt x="15450" y="4"/>
                    </a:lnTo>
                    <a:cubicBezTo>
                      <a:pt x="15451" y="4"/>
                      <a:pt x="15452" y="5"/>
                      <a:pt x="15452" y="6"/>
                    </a:cubicBezTo>
                    <a:cubicBezTo>
                      <a:pt x="15452" y="7"/>
                      <a:pt x="15451" y="8"/>
                      <a:pt x="15450" y="8"/>
                    </a:cubicBezTo>
                    <a:lnTo>
                      <a:pt x="15450" y="8"/>
                    </a:lnTo>
                    <a:cubicBezTo>
                      <a:pt x="15449" y="8"/>
                      <a:pt x="15448" y="7"/>
                      <a:pt x="15448" y="6"/>
                    </a:cubicBezTo>
                    <a:cubicBezTo>
                      <a:pt x="15448" y="5"/>
                      <a:pt x="15449" y="4"/>
                      <a:pt x="15450" y="4"/>
                    </a:cubicBezTo>
                    <a:close/>
                    <a:moveTo>
                      <a:pt x="15458" y="4"/>
                    </a:moveTo>
                    <a:lnTo>
                      <a:pt x="15458" y="4"/>
                    </a:lnTo>
                    <a:cubicBezTo>
                      <a:pt x="15459" y="4"/>
                      <a:pt x="15460" y="5"/>
                      <a:pt x="15460" y="6"/>
                    </a:cubicBezTo>
                    <a:cubicBezTo>
                      <a:pt x="15460" y="7"/>
                      <a:pt x="15459" y="8"/>
                      <a:pt x="15458" y="8"/>
                    </a:cubicBezTo>
                    <a:lnTo>
                      <a:pt x="15458" y="8"/>
                    </a:lnTo>
                    <a:cubicBezTo>
                      <a:pt x="15457" y="8"/>
                      <a:pt x="15456" y="7"/>
                      <a:pt x="15456" y="6"/>
                    </a:cubicBezTo>
                    <a:cubicBezTo>
                      <a:pt x="15456" y="5"/>
                      <a:pt x="15457" y="4"/>
                      <a:pt x="15458" y="4"/>
                    </a:cubicBezTo>
                    <a:close/>
                    <a:moveTo>
                      <a:pt x="15466" y="4"/>
                    </a:moveTo>
                    <a:lnTo>
                      <a:pt x="15466" y="4"/>
                    </a:lnTo>
                    <a:cubicBezTo>
                      <a:pt x="15467" y="4"/>
                      <a:pt x="15468" y="5"/>
                      <a:pt x="15468" y="6"/>
                    </a:cubicBezTo>
                    <a:cubicBezTo>
                      <a:pt x="15468" y="7"/>
                      <a:pt x="15467" y="8"/>
                      <a:pt x="15466" y="8"/>
                    </a:cubicBezTo>
                    <a:lnTo>
                      <a:pt x="15466" y="8"/>
                    </a:lnTo>
                    <a:cubicBezTo>
                      <a:pt x="15465" y="8"/>
                      <a:pt x="15464" y="7"/>
                      <a:pt x="15464" y="6"/>
                    </a:cubicBezTo>
                    <a:cubicBezTo>
                      <a:pt x="15464" y="5"/>
                      <a:pt x="15465" y="4"/>
                      <a:pt x="15466" y="4"/>
                    </a:cubicBezTo>
                    <a:close/>
                    <a:moveTo>
                      <a:pt x="15474" y="4"/>
                    </a:moveTo>
                    <a:lnTo>
                      <a:pt x="15474" y="4"/>
                    </a:lnTo>
                    <a:cubicBezTo>
                      <a:pt x="15475" y="4"/>
                      <a:pt x="15476" y="5"/>
                      <a:pt x="15476" y="6"/>
                    </a:cubicBezTo>
                    <a:cubicBezTo>
                      <a:pt x="15476" y="7"/>
                      <a:pt x="15475" y="8"/>
                      <a:pt x="15474" y="8"/>
                    </a:cubicBezTo>
                    <a:lnTo>
                      <a:pt x="15474" y="8"/>
                    </a:lnTo>
                    <a:cubicBezTo>
                      <a:pt x="15473" y="8"/>
                      <a:pt x="15472" y="7"/>
                      <a:pt x="15472" y="6"/>
                    </a:cubicBezTo>
                    <a:cubicBezTo>
                      <a:pt x="15472" y="5"/>
                      <a:pt x="15473" y="4"/>
                      <a:pt x="15474" y="4"/>
                    </a:cubicBezTo>
                    <a:close/>
                    <a:moveTo>
                      <a:pt x="15482" y="4"/>
                    </a:moveTo>
                    <a:lnTo>
                      <a:pt x="15482" y="4"/>
                    </a:lnTo>
                    <a:cubicBezTo>
                      <a:pt x="15483" y="4"/>
                      <a:pt x="15484" y="5"/>
                      <a:pt x="15484" y="6"/>
                    </a:cubicBezTo>
                    <a:cubicBezTo>
                      <a:pt x="15484" y="7"/>
                      <a:pt x="15483" y="8"/>
                      <a:pt x="15482" y="8"/>
                    </a:cubicBezTo>
                    <a:lnTo>
                      <a:pt x="15482" y="8"/>
                    </a:lnTo>
                    <a:cubicBezTo>
                      <a:pt x="15481" y="8"/>
                      <a:pt x="15480" y="7"/>
                      <a:pt x="15480" y="6"/>
                    </a:cubicBezTo>
                    <a:cubicBezTo>
                      <a:pt x="15480" y="5"/>
                      <a:pt x="15481" y="4"/>
                      <a:pt x="15482" y="4"/>
                    </a:cubicBezTo>
                    <a:close/>
                    <a:moveTo>
                      <a:pt x="15490" y="4"/>
                    </a:moveTo>
                    <a:lnTo>
                      <a:pt x="15490" y="4"/>
                    </a:lnTo>
                    <a:cubicBezTo>
                      <a:pt x="15491" y="4"/>
                      <a:pt x="15492" y="5"/>
                      <a:pt x="15492" y="6"/>
                    </a:cubicBezTo>
                    <a:cubicBezTo>
                      <a:pt x="15492" y="7"/>
                      <a:pt x="15491" y="8"/>
                      <a:pt x="15490" y="8"/>
                    </a:cubicBezTo>
                    <a:lnTo>
                      <a:pt x="15490" y="8"/>
                    </a:lnTo>
                    <a:cubicBezTo>
                      <a:pt x="15489" y="8"/>
                      <a:pt x="15488" y="7"/>
                      <a:pt x="15488" y="6"/>
                    </a:cubicBezTo>
                    <a:cubicBezTo>
                      <a:pt x="15488" y="5"/>
                      <a:pt x="15489" y="4"/>
                      <a:pt x="15490" y="4"/>
                    </a:cubicBezTo>
                    <a:close/>
                    <a:moveTo>
                      <a:pt x="15498" y="4"/>
                    </a:moveTo>
                    <a:lnTo>
                      <a:pt x="15498" y="4"/>
                    </a:lnTo>
                    <a:cubicBezTo>
                      <a:pt x="15499" y="4"/>
                      <a:pt x="15500" y="5"/>
                      <a:pt x="15500" y="6"/>
                    </a:cubicBezTo>
                    <a:cubicBezTo>
                      <a:pt x="15500" y="7"/>
                      <a:pt x="15499" y="8"/>
                      <a:pt x="15498" y="8"/>
                    </a:cubicBezTo>
                    <a:lnTo>
                      <a:pt x="15498" y="8"/>
                    </a:lnTo>
                    <a:cubicBezTo>
                      <a:pt x="15497" y="8"/>
                      <a:pt x="15496" y="7"/>
                      <a:pt x="15496" y="6"/>
                    </a:cubicBezTo>
                    <a:cubicBezTo>
                      <a:pt x="15496" y="5"/>
                      <a:pt x="15497" y="4"/>
                      <a:pt x="15498" y="4"/>
                    </a:cubicBezTo>
                    <a:close/>
                    <a:moveTo>
                      <a:pt x="15506" y="4"/>
                    </a:moveTo>
                    <a:lnTo>
                      <a:pt x="15506" y="4"/>
                    </a:lnTo>
                    <a:cubicBezTo>
                      <a:pt x="15507" y="4"/>
                      <a:pt x="15508" y="5"/>
                      <a:pt x="15508" y="6"/>
                    </a:cubicBezTo>
                    <a:cubicBezTo>
                      <a:pt x="15508" y="7"/>
                      <a:pt x="15507" y="8"/>
                      <a:pt x="15506" y="8"/>
                    </a:cubicBezTo>
                    <a:lnTo>
                      <a:pt x="15506" y="8"/>
                    </a:lnTo>
                    <a:cubicBezTo>
                      <a:pt x="15505" y="8"/>
                      <a:pt x="15504" y="7"/>
                      <a:pt x="15504" y="6"/>
                    </a:cubicBezTo>
                    <a:cubicBezTo>
                      <a:pt x="15504" y="5"/>
                      <a:pt x="15505" y="4"/>
                      <a:pt x="15506" y="4"/>
                    </a:cubicBezTo>
                    <a:close/>
                    <a:moveTo>
                      <a:pt x="15514" y="4"/>
                    </a:moveTo>
                    <a:lnTo>
                      <a:pt x="15514" y="4"/>
                    </a:lnTo>
                    <a:cubicBezTo>
                      <a:pt x="15515" y="4"/>
                      <a:pt x="15516" y="5"/>
                      <a:pt x="15516" y="6"/>
                    </a:cubicBezTo>
                    <a:cubicBezTo>
                      <a:pt x="15516" y="7"/>
                      <a:pt x="15515" y="8"/>
                      <a:pt x="15514" y="8"/>
                    </a:cubicBezTo>
                    <a:lnTo>
                      <a:pt x="15514" y="8"/>
                    </a:lnTo>
                    <a:cubicBezTo>
                      <a:pt x="15513" y="8"/>
                      <a:pt x="15512" y="7"/>
                      <a:pt x="15512" y="6"/>
                    </a:cubicBezTo>
                    <a:cubicBezTo>
                      <a:pt x="15512" y="5"/>
                      <a:pt x="15513" y="4"/>
                      <a:pt x="15514" y="4"/>
                    </a:cubicBezTo>
                    <a:close/>
                    <a:moveTo>
                      <a:pt x="15522" y="4"/>
                    </a:moveTo>
                    <a:lnTo>
                      <a:pt x="15522" y="4"/>
                    </a:lnTo>
                    <a:cubicBezTo>
                      <a:pt x="15523" y="4"/>
                      <a:pt x="15524" y="5"/>
                      <a:pt x="15524" y="6"/>
                    </a:cubicBezTo>
                    <a:cubicBezTo>
                      <a:pt x="15524" y="7"/>
                      <a:pt x="15523" y="8"/>
                      <a:pt x="15522" y="8"/>
                    </a:cubicBezTo>
                    <a:lnTo>
                      <a:pt x="15522" y="8"/>
                    </a:lnTo>
                    <a:cubicBezTo>
                      <a:pt x="15521" y="8"/>
                      <a:pt x="15520" y="7"/>
                      <a:pt x="15520" y="6"/>
                    </a:cubicBezTo>
                    <a:cubicBezTo>
                      <a:pt x="15520" y="5"/>
                      <a:pt x="15521" y="4"/>
                      <a:pt x="15522" y="4"/>
                    </a:cubicBezTo>
                    <a:close/>
                    <a:moveTo>
                      <a:pt x="15530" y="4"/>
                    </a:moveTo>
                    <a:lnTo>
                      <a:pt x="15530" y="4"/>
                    </a:lnTo>
                    <a:cubicBezTo>
                      <a:pt x="15532" y="4"/>
                      <a:pt x="15532" y="5"/>
                      <a:pt x="15532" y="6"/>
                    </a:cubicBezTo>
                    <a:cubicBezTo>
                      <a:pt x="15532" y="7"/>
                      <a:pt x="15532" y="8"/>
                      <a:pt x="15530" y="8"/>
                    </a:cubicBezTo>
                    <a:lnTo>
                      <a:pt x="15530" y="8"/>
                    </a:lnTo>
                    <a:cubicBezTo>
                      <a:pt x="15529" y="8"/>
                      <a:pt x="15528" y="7"/>
                      <a:pt x="15528" y="6"/>
                    </a:cubicBezTo>
                    <a:cubicBezTo>
                      <a:pt x="15528" y="5"/>
                      <a:pt x="15529" y="4"/>
                      <a:pt x="15530" y="4"/>
                    </a:cubicBezTo>
                    <a:close/>
                    <a:moveTo>
                      <a:pt x="15538" y="4"/>
                    </a:moveTo>
                    <a:lnTo>
                      <a:pt x="15538" y="4"/>
                    </a:lnTo>
                    <a:cubicBezTo>
                      <a:pt x="15540" y="4"/>
                      <a:pt x="15540" y="5"/>
                      <a:pt x="15540" y="6"/>
                    </a:cubicBezTo>
                    <a:cubicBezTo>
                      <a:pt x="15540" y="7"/>
                      <a:pt x="15540" y="8"/>
                      <a:pt x="15538" y="8"/>
                    </a:cubicBezTo>
                    <a:lnTo>
                      <a:pt x="15538" y="8"/>
                    </a:lnTo>
                    <a:cubicBezTo>
                      <a:pt x="15537" y="8"/>
                      <a:pt x="15536" y="7"/>
                      <a:pt x="15536" y="6"/>
                    </a:cubicBezTo>
                    <a:cubicBezTo>
                      <a:pt x="15536" y="5"/>
                      <a:pt x="15537" y="4"/>
                      <a:pt x="15538" y="4"/>
                    </a:cubicBezTo>
                    <a:close/>
                    <a:moveTo>
                      <a:pt x="15546" y="4"/>
                    </a:moveTo>
                    <a:lnTo>
                      <a:pt x="15546" y="4"/>
                    </a:lnTo>
                    <a:cubicBezTo>
                      <a:pt x="15548" y="4"/>
                      <a:pt x="15548" y="5"/>
                      <a:pt x="15548" y="6"/>
                    </a:cubicBezTo>
                    <a:cubicBezTo>
                      <a:pt x="15548" y="7"/>
                      <a:pt x="15548" y="8"/>
                      <a:pt x="15546" y="8"/>
                    </a:cubicBezTo>
                    <a:lnTo>
                      <a:pt x="15546" y="8"/>
                    </a:lnTo>
                    <a:cubicBezTo>
                      <a:pt x="15545" y="8"/>
                      <a:pt x="15544" y="7"/>
                      <a:pt x="15544" y="6"/>
                    </a:cubicBezTo>
                    <a:cubicBezTo>
                      <a:pt x="15544" y="5"/>
                      <a:pt x="15545" y="4"/>
                      <a:pt x="15546" y="4"/>
                    </a:cubicBezTo>
                    <a:close/>
                    <a:moveTo>
                      <a:pt x="15554" y="4"/>
                    </a:moveTo>
                    <a:lnTo>
                      <a:pt x="15554" y="4"/>
                    </a:lnTo>
                    <a:cubicBezTo>
                      <a:pt x="15556" y="4"/>
                      <a:pt x="15556" y="5"/>
                      <a:pt x="15556" y="6"/>
                    </a:cubicBezTo>
                    <a:cubicBezTo>
                      <a:pt x="15556" y="7"/>
                      <a:pt x="15556" y="8"/>
                      <a:pt x="15554" y="8"/>
                    </a:cubicBezTo>
                    <a:lnTo>
                      <a:pt x="15554" y="8"/>
                    </a:lnTo>
                    <a:cubicBezTo>
                      <a:pt x="15553" y="8"/>
                      <a:pt x="15552" y="7"/>
                      <a:pt x="15552" y="6"/>
                    </a:cubicBezTo>
                    <a:cubicBezTo>
                      <a:pt x="15552" y="5"/>
                      <a:pt x="15553" y="4"/>
                      <a:pt x="15554" y="4"/>
                    </a:cubicBezTo>
                    <a:close/>
                    <a:moveTo>
                      <a:pt x="15562" y="4"/>
                    </a:moveTo>
                    <a:lnTo>
                      <a:pt x="15562" y="4"/>
                    </a:lnTo>
                    <a:cubicBezTo>
                      <a:pt x="15564" y="4"/>
                      <a:pt x="15564" y="5"/>
                      <a:pt x="15564" y="6"/>
                    </a:cubicBezTo>
                    <a:cubicBezTo>
                      <a:pt x="15564" y="7"/>
                      <a:pt x="15564" y="8"/>
                      <a:pt x="15562" y="8"/>
                    </a:cubicBezTo>
                    <a:lnTo>
                      <a:pt x="15562" y="8"/>
                    </a:lnTo>
                    <a:cubicBezTo>
                      <a:pt x="15561" y="8"/>
                      <a:pt x="15560" y="7"/>
                      <a:pt x="15560" y="6"/>
                    </a:cubicBezTo>
                    <a:cubicBezTo>
                      <a:pt x="15560" y="5"/>
                      <a:pt x="15561" y="4"/>
                      <a:pt x="15562" y="4"/>
                    </a:cubicBezTo>
                    <a:close/>
                    <a:moveTo>
                      <a:pt x="15570" y="4"/>
                    </a:moveTo>
                    <a:lnTo>
                      <a:pt x="15570" y="4"/>
                    </a:lnTo>
                    <a:cubicBezTo>
                      <a:pt x="15572" y="4"/>
                      <a:pt x="15572" y="5"/>
                      <a:pt x="15572" y="6"/>
                    </a:cubicBezTo>
                    <a:cubicBezTo>
                      <a:pt x="15572" y="7"/>
                      <a:pt x="15572" y="8"/>
                      <a:pt x="15570" y="8"/>
                    </a:cubicBezTo>
                    <a:lnTo>
                      <a:pt x="15570" y="8"/>
                    </a:lnTo>
                    <a:cubicBezTo>
                      <a:pt x="15569" y="8"/>
                      <a:pt x="15568" y="7"/>
                      <a:pt x="15568" y="6"/>
                    </a:cubicBezTo>
                    <a:cubicBezTo>
                      <a:pt x="15568" y="5"/>
                      <a:pt x="15569" y="4"/>
                      <a:pt x="15570" y="4"/>
                    </a:cubicBezTo>
                    <a:close/>
                    <a:moveTo>
                      <a:pt x="15578" y="4"/>
                    </a:moveTo>
                    <a:lnTo>
                      <a:pt x="15578" y="4"/>
                    </a:lnTo>
                    <a:cubicBezTo>
                      <a:pt x="15580" y="4"/>
                      <a:pt x="15580" y="5"/>
                      <a:pt x="15580" y="6"/>
                    </a:cubicBezTo>
                    <a:cubicBezTo>
                      <a:pt x="15580" y="7"/>
                      <a:pt x="15580" y="8"/>
                      <a:pt x="15578" y="8"/>
                    </a:cubicBezTo>
                    <a:lnTo>
                      <a:pt x="15578" y="8"/>
                    </a:lnTo>
                    <a:cubicBezTo>
                      <a:pt x="15577" y="8"/>
                      <a:pt x="15576" y="7"/>
                      <a:pt x="15576" y="6"/>
                    </a:cubicBezTo>
                    <a:cubicBezTo>
                      <a:pt x="15576" y="5"/>
                      <a:pt x="15577" y="4"/>
                      <a:pt x="15578" y="4"/>
                    </a:cubicBezTo>
                    <a:close/>
                    <a:moveTo>
                      <a:pt x="15586" y="4"/>
                    </a:moveTo>
                    <a:lnTo>
                      <a:pt x="15586" y="4"/>
                    </a:lnTo>
                    <a:cubicBezTo>
                      <a:pt x="15588" y="4"/>
                      <a:pt x="15588" y="5"/>
                      <a:pt x="15588" y="6"/>
                    </a:cubicBezTo>
                    <a:cubicBezTo>
                      <a:pt x="15588" y="7"/>
                      <a:pt x="15588" y="8"/>
                      <a:pt x="15586" y="8"/>
                    </a:cubicBezTo>
                    <a:lnTo>
                      <a:pt x="15586" y="8"/>
                    </a:lnTo>
                    <a:cubicBezTo>
                      <a:pt x="15585" y="8"/>
                      <a:pt x="15584" y="7"/>
                      <a:pt x="15584" y="6"/>
                    </a:cubicBezTo>
                    <a:cubicBezTo>
                      <a:pt x="15584" y="5"/>
                      <a:pt x="15585" y="4"/>
                      <a:pt x="15586" y="4"/>
                    </a:cubicBezTo>
                    <a:close/>
                    <a:moveTo>
                      <a:pt x="15594" y="4"/>
                    </a:moveTo>
                    <a:lnTo>
                      <a:pt x="15594" y="4"/>
                    </a:lnTo>
                    <a:cubicBezTo>
                      <a:pt x="15596" y="4"/>
                      <a:pt x="15596" y="5"/>
                      <a:pt x="15596" y="6"/>
                    </a:cubicBezTo>
                    <a:cubicBezTo>
                      <a:pt x="15596" y="7"/>
                      <a:pt x="15596" y="8"/>
                      <a:pt x="15594" y="8"/>
                    </a:cubicBezTo>
                    <a:lnTo>
                      <a:pt x="15594" y="8"/>
                    </a:lnTo>
                    <a:cubicBezTo>
                      <a:pt x="15593" y="8"/>
                      <a:pt x="15592" y="7"/>
                      <a:pt x="15592" y="6"/>
                    </a:cubicBezTo>
                    <a:cubicBezTo>
                      <a:pt x="15592" y="5"/>
                      <a:pt x="15593" y="4"/>
                      <a:pt x="15594" y="4"/>
                    </a:cubicBezTo>
                    <a:close/>
                    <a:moveTo>
                      <a:pt x="15602" y="4"/>
                    </a:moveTo>
                    <a:lnTo>
                      <a:pt x="15602" y="4"/>
                    </a:lnTo>
                    <a:cubicBezTo>
                      <a:pt x="15604" y="4"/>
                      <a:pt x="15604" y="5"/>
                      <a:pt x="15604" y="6"/>
                    </a:cubicBezTo>
                    <a:cubicBezTo>
                      <a:pt x="15604" y="7"/>
                      <a:pt x="15604" y="8"/>
                      <a:pt x="15602" y="8"/>
                    </a:cubicBezTo>
                    <a:lnTo>
                      <a:pt x="15602" y="8"/>
                    </a:lnTo>
                    <a:cubicBezTo>
                      <a:pt x="15601" y="8"/>
                      <a:pt x="15600" y="7"/>
                      <a:pt x="15600" y="6"/>
                    </a:cubicBezTo>
                    <a:cubicBezTo>
                      <a:pt x="15600" y="5"/>
                      <a:pt x="15601" y="4"/>
                      <a:pt x="15602" y="4"/>
                    </a:cubicBezTo>
                    <a:close/>
                    <a:moveTo>
                      <a:pt x="15610" y="4"/>
                    </a:moveTo>
                    <a:lnTo>
                      <a:pt x="15610" y="4"/>
                    </a:lnTo>
                    <a:cubicBezTo>
                      <a:pt x="15612" y="4"/>
                      <a:pt x="15612" y="5"/>
                      <a:pt x="15612" y="6"/>
                    </a:cubicBezTo>
                    <a:cubicBezTo>
                      <a:pt x="15612" y="7"/>
                      <a:pt x="15612" y="8"/>
                      <a:pt x="15610" y="8"/>
                    </a:cubicBezTo>
                    <a:lnTo>
                      <a:pt x="15610" y="8"/>
                    </a:lnTo>
                    <a:cubicBezTo>
                      <a:pt x="15609" y="8"/>
                      <a:pt x="15608" y="7"/>
                      <a:pt x="15608" y="6"/>
                    </a:cubicBezTo>
                    <a:cubicBezTo>
                      <a:pt x="15608" y="5"/>
                      <a:pt x="15609" y="4"/>
                      <a:pt x="15610" y="4"/>
                    </a:cubicBezTo>
                    <a:close/>
                    <a:moveTo>
                      <a:pt x="15618" y="4"/>
                    </a:moveTo>
                    <a:lnTo>
                      <a:pt x="15618" y="4"/>
                    </a:lnTo>
                    <a:cubicBezTo>
                      <a:pt x="15620" y="4"/>
                      <a:pt x="15620" y="5"/>
                      <a:pt x="15620" y="6"/>
                    </a:cubicBezTo>
                    <a:cubicBezTo>
                      <a:pt x="15620" y="7"/>
                      <a:pt x="15620" y="8"/>
                      <a:pt x="15618" y="8"/>
                    </a:cubicBezTo>
                    <a:lnTo>
                      <a:pt x="15618" y="8"/>
                    </a:lnTo>
                    <a:cubicBezTo>
                      <a:pt x="15617" y="8"/>
                      <a:pt x="15616" y="7"/>
                      <a:pt x="15616" y="6"/>
                    </a:cubicBezTo>
                    <a:cubicBezTo>
                      <a:pt x="15616" y="5"/>
                      <a:pt x="15617" y="4"/>
                      <a:pt x="15618" y="4"/>
                    </a:cubicBezTo>
                    <a:close/>
                    <a:moveTo>
                      <a:pt x="15626" y="4"/>
                    </a:moveTo>
                    <a:lnTo>
                      <a:pt x="15626" y="4"/>
                    </a:lnTo>
                    <a:cubicBezTo>
                      <a:pt x="15628" y="4"/>
                      <a:pt x="15628" y="5"/>
                      <a:pt x="15628" y="6"/>
                    </a:cubicBezTo>
                    <a:cubicBezTo>
                      <a:pt x="15628" y="7"/>
                      <a:pt x="15628" y="8"/>
                      <a:pt x="15626" y="8"/>
                    </a:cubicBezTo>
                    <a:lnTo>
                      <a:pt x="15626" y="8"/>
                    </a:lnTo>
                    <a:cubicBezTo>
                      <a:pt x="15625" y="8"/>
                      <a:pt x="15624" y="7"/>
                      <a:pt x="15624" y="6"/>
                    </a:cubicBezTo>
                    <a:cubicBezTo>
                      <a:pt x="15624" y="5"/>
                      <a:pt x="15625" y="4"/>
                      <a:pt x="15626" y="4"/>
                    </a:cubicBezTo>
                    <a:close/>
                    <a:moveTo>
                      <a:pt x="15634" y="4"/>
                    </a:moveTo>
                    <a:lnTo>
                      <a:pt x="15634" y="4"/>
                    </a:lnTo>
                    <a:cubicBezTo>
                      <a:pt x="15636" y="4"/>
                      <a:pt x="15636" y="5"/>
                      <a:pt x="15636" y="6"/>
                    </a:cubicBezTo>
                    <a:cubicBezTo>
                      <a:pt x="15636" y="7"/>
                      <a:pt x="15636" y="8"/>
                      <a:pt x="15634" y="8"/>
                    </a:cubicBezTo>
                    <a:lnTo>
                      <a:pt x="15634" y="8"/>
                    </a:lnTo>
                    <a:cubicBezTo>
                      <a:pt x="15633" y="8"/>
                      <a:pt x="15632" y="7"/>
                      <a:pt x="15632" y="6"/>
                    </a:cubicBezTo>
                    <a:cubicBezTo>
                      <a:pt x="15632" y="5"/>
                      <a:pt x="15633" y="4"/>
                      <a:pt x="15634" y="4"/>
                    </a:cubicBezTo>
                    <a:close/>
                    <a:moveTo>
                      <a:pt x="15642" y="4"/>
                    </a:moveTo>
                    <a:lnTo>
                      <a:pt x="15642" y="4"/>
                    </a:lnTo>
                    <a:cubicBezTo>
                      <a:pt x="15644" y="4"/>
                      <a:pt x="15644" y="5"/>
                      <a:pt x="15644" y="6"/>
                    </a:cubicBezTo>
                    <a:cubicBezTo>
                      <a:pt x="15644" y="7"/>
                      <a:pt x="15644" y="8"/>
                      <a:pt x="15642" y="8"/>
                    </a:cubicBezTo>
                    <a:lnTo>
                      <a:pt x="15642" y="8"/>
                    </a:lnTo>
                    <a:cubicBezTo>
                      <a:pt x="15641" y="8"/>
                      <a:pt x="15640" y="7"/>
                      <a:pt x="15640" y="6"/>
                    </a:cubicBezTo>
                    <a:cubicBezTo>
                      <a:pt x="15640" y="5"/>
                      <a:pt x="15641" y="4"/>
                      <a:pt x="15642" y="4"/>
                    </a:cubicBezTo>
                    <a:close/>
                    <a:moveTo>
                      <a:pt x="15650" y="4"/>
                    </a:moveTo>
                    <a:lnTo>
                      <a:pt x="15650" y="4"/>
                    </a:lnTo>
                    <a:cubicBezTo>
                      <a:pt x="15652" y="4"/>
                      <a:pt x="15652" y="5"/>
                      <a:pt x="15652" y="6"/>
                    </a:cubicBezTo>
                    <a:cubicBezTo>
                      <a:pt x="15652" y="7"/>
                      <a:pt x="15652" y="8"/>
                      <a:pt x="15650" y="8"/>
                    </a:cubicBezTo>
                    <a:lnTo>
                      <a:pt x="15650" y="8"/>
                    </a:lnTo>
                    <a:cubicBezTo>
                      <a:pt x="15649" y="8"/>
                      <a:pt x="15648" y="7"/>
                      <a:pt x="15648" y="6"/>
                    </a:cubicBezTo>
                    <a:cubicBezTo>
                      <a:pt x="15648" y="5"/>
                      <a:pt x="15649" y="4"/>
                      <a:pt x="15650" y="4"/>
                    </a:cubicBezTo>
                    <a:close/>
                    <a:moveTo>
                      <a:pt x="15658" y="4"/>
                    </a:moveTo>
                    <a:lnTo>
                      <a:pt x="15658" y="4"/>
                    </a:lnTo>
                    <a:cubicBezTo>
                      <a:pt x="15660" y="4"/>
                      <a:pt x="15660" y="5"/>
                      <a:pt x="15660" y="6"/>
                    </a:cubicBezTo>
                    <a:cubicBezTo>
                      <a:pt x="15660" y="7"/>
                      <a:pt x="15660" y="8"/>
                      <a:pt x="15658" y="8"/>
                    </a:cubicBezTo>
                    <a:lnTo>
                      <a:pt x="15658" y="8"/>
                    </a:lnTo>
                    <a:cubicBezTo>
                      <a:pt x="15657" y="8"/>
                      <a:pt x="15656" y="7"/>
                      <a:pt x="15656" y="6"/>
                    </a:cubicBezTo>
                    <a:cubicBezTo>
                      <a:pt x="15656" y="5"/>
                      <a:pt x="15657" y="4"/>
                      <a:pt x="15658" y="4"/>
                    </a:cubicBezTo>
                    <a:close/>
                    <a:moveTo>
                      <a:pt x="15666" y="4"/>
                    </a:moveTo>
                    <a:lnTo>
                      <a:pt x="15666" y="4"/>
                    </a:lnTo>
                    <a:cubicBezTo>
                      <a:pt x="15668" y="4"/>
                      <a:pt x="15668" y="5"/>
                      <a:pt x="15668" y="6"/>
                    </a:cubicBezTo>
                    <a:cubicBezTo>
                      <a:pt x="15668" y="7"/>
                      <a:pt x="15668" y="8"/>
                      <a:pt x="15666" y="8"/>
                    </a:cubicBezTo>
                    <a:lnTo>
                      <a:pt x="15666" y="8"/>
                    </a:lnTo>
                    <a:cubicBezTo>
                      <a:pt x="15665" y="8"/>
                      <a:pt x="15664" y="7"/>
                      <a:pt x="15664" y="6"/>
                    </a:cubicBezTo>
                    <a:cubicBezTo>
                      <a:pt x="15664" y="5"/>
                      <a:pt x="15665" y="4"/>
                      <a:pt x="15666" y="4"/>
                    </a:cubicBezTo>
                    <a:close/>
                    <a:moveTo>
                      <a:pt x="15674" y="4"/>
                    </a:moveTo>
                    <a:lnTo>
                      <a:pt x="15675" y="4"/>
                    </a:lnTo>
                    <a:cubicBezTo>
                      <a:pt x="15676" y="4"/>
                      <a:pt x="15677" y="5"/>
                      <a:pt x="15677" y="6"/>
                    </a:cubicBezTo>
                    <a:cubicBezTo>
                      <a:pt x="15677" y="7"/>
                      <a:pt x="15676" y="8"/>
                      <a:pt x="15675" y="8"/>
                    </a:cubicBezTo>
                    <a:lnTo>
                      <a:pt x="15674" y="8"/>
                    </a:lnTo>
                    <a:cubicBezTo>
                      <a:pt x="15673" y="8"/>
                      <a:pt x="15672" y="7"/>
                      <a:pt x="15672" y="6"/>
                    </a:cubicBezTo>
                    <a:cubicBezTo>
                      <a:pt x="15672" y="5"/>
                      <a:pt x="15673" y="4"/>
                      <a:pt x="15674" y="4"/>
                    </a:cubicBezTo>
                    <a:close/>
                    <a:moveTo>
                      <a:pt x="15683" y="4"/>
                    </a:moveTo>
                    <a:lnTo>
                      <a:pt x="15683" y="4"/>
                    </a:lnTo>
                    <a:cubicBezTo>
                      <a:pt x="15684" y="4"/>
                      <a:pt x="15685" y="5"/>
                      <a:pt x="15685" y="6"/>
                    </a:cubicBezTo>
                    <a:cubicBezTo>
                      <a:pt x="15685" y="7"/>
                      <a:pt x="15684" y="8"/>
                      <a:pt x="15683" y="8"/>
                    </a:cubicBezTo>
                    <a:lnTo>
                      <a:pt x="15683" y="8"/>
                    </a:lnTo>
                    <a:cubicBezTo>
                      <a:pt x="15681" y="8"/>
                      <a:pt x="15681" y="7"/>
                      <a:pt x="15681" y="6"/>
                    </a:cubicBezTo>
                    <a:cubicBezTo>
                      <a:pt x="15681" y="5"/>
                      <a:pt x="15681" y="4"/>
                      <a:pt x="15683" y="4"/>
                    </a:cubicBezTo>
                    <a:close/>
                    <a:moveTo>
                      <a:pt x="15691" y="4"/>
                    </a:moveTo>
                    <a:lnTo>
                      <a:pt x="15691" y="4"/>
                    </a:lnTo>
                    <a:cubicBezTo>
                      <a:pt x="15692" y="4"/>
                      <a:pt x="15693" y="5"/>
                      <a:pt x="15693" y="6"/>
                    </a:cubicBezTo>
                    <a:cubicBezTo>
                      <a:pt x="15693" y="7"/>
                      <a:pt x="15692" y="8"/>
                      <a:pt x="15691" y="8"/>
                    </a:cubicBezTo>
                    <a:lnTo>
                      <a:pt x="15691" y="8"/>
                    </a:lnTo>
                    <a:cubicBezTo>
                      <a:pt x="15689" y="8"/>
                      <a:pt x="15689" y="7"/>
                      <a:pt x="15689" y="6"/>
                    </a:cubicBezTo>
                    <a:cubicBezTo>
                      <a:pt x="15689" y="5"/>
                      <a:pt x="15689" y="4"/>
                      <a:pt x="15691" y="4"/>
                    </a:cubicBezTo>
                    <a:close/>
                    <a:moveTo>
                      <a:pt x="15699" y="4"/>
                    </a:moveTo>
                    <a:lnTo>
                      <a:pt x="15699" y="4"/>
                    </a:lnTo>
                    <a:cubicBezTo>
                      <a:pt x="15700" y="4"/>
                      <a:pt x="15701" y="5"/>
                      <a:pt x="15701" y="6"/>
                    </a:cubicBezTo>
                    <a:cubicBezTo>
                      <a:pt x="15701" y="7"/>
                      <a:pt x="15700" y="8"/>
                      <a:pt x="15699" y="8"/>
                    </a:cubicBezTo>
                    <a:lnTo>
                      <a:pt x="15699" y="8"/>
                    </a:lnTo>
                    <a:cubicBezTo>
                      <a:pt x="15697" y="8"/>
                      <a:pt x="15697" y="7"/>
                      <a:pt x="15697" y="6"/>
                    </a:cubicBezTo>
                    <a:cubicBezTo>
                      <a:pt x="15697" y="5"/>
                      <a:pt x="15697" y="4"/>
                      <a:pt x="15699" y="4"/>
                    </a:cubicBezTo>
                    <a:close/>
                    <a:moveTo>
                      <a:pt x="15707" y="4"/>
                    </a:moveTo>
                    <a:lnTo>
                      <a:pt x="15707" y="4"/>
                    </a:lnTo>
                    <a:cubicBezTo>
                      <a:pt x="15708" y="4"/>
                      <a:pt x="15709" y="5"/>
                      <a:pt x="15709" y="6"/>
                    </a:cubicBezTo>
                    <a:cubicBezTo>
                      <a:pt x="15709" y="7"/>
                      <a:pt x="15708" y="8"/>
                      <a:pt x="15707" y="8"/>
                    </a:cubicBezTo>
                    <a:lnTo>
                      <a:pt x="15707" y="8"/>
                    </a:lnTo>
                    <a:cubicBezTo>
                      <a:pt x="15705" y="8"/>
                      <a:pt x="15705" y="7"/>
                      <a:pt x="15705" y="6"/>
                    </a:cubicBezTo>
                    <a:cubicBezTo>
                      <a:pt x="15705" y="5"/>
                      <a:pt x="15705" y="4"/>
                      <a:pt x="15707" y="4"/>
                    </a:cubicBezTo>
                    <a:close/>
                    <a:moveTo>
                      <a:pt x="15715" y="4"/>
                    </a:moveTo>
                    <a:lnTo>
                      <a:pt x="15715" y="4"/>
                    </a:lnTo>
                    <a:cubicBezTo>
                      <a:pt x="15716" y="4"/>
                      <a:pt x="15717" y="5"/>
                      <a:pt x="15717" y="6"/>
                    </a:cubicBezTo>
                    <a:cubicBezTo>
                      <a:pt x="15717" y="7"/>
                      <a:pt x="15716" y="8"/>
                      <a:pt x="15715" y="8"/>
                    </a:cubicBezTo>
                    <a:lnTo>
                      <a:pt x="15715" y="8"/>
                    </a:lnTo>
                    <a:cubicBezTo>
                      <a:pt x="15713" y="8"/>
                      <a:pt x="15713" y="7"/>
                      <a:pt x="15713" y="6"/>
                    </a:cubicBezTo>
                    <a:cubicBezTo>
                      <a:pt x="15713" y="5"/>
                      <a:pt x="15713" y="4"/>
                      <a:pt x="15715" y="4"/>
                    </a:cubicBezTo>
                    <a:close/>
                    <a:moveTo>
                      <a:pt x="15723" y="4"/>
                    </a:moveTo>
                    <a:lnTo>
                      <a:pt x="15723" y="4"/>
                    </a:lnTo>
                    <a:cubicBezTo>
                      <a:pt x="15724" y="4"/>
                      <a:pt x="15725" y="5"/>
                      <a:pt x="15725" y="6"/>
                    </a:cubicBezTo>
                    <a:cubicBezTo>
                      <a:pt x="15725" y="7"/>
                      <a:pt x="15724" y="8"/>
                      <a:pt x="15723" y="8"/>
                    </a:cubicBezTo>
                    <a:lnTo>
                      <a:pt x="15723" y="8"/>
                    </a:lnTo>
                    <a:cubicBezTo>
                      <a:pt x="15721" y="8"/>
                      <a:pt x="15721" y="7"/>
                      <a:pt x="15721" y="6"/>
                    </a:cubicBezTo>
                    <a:cubicBezTo>
                      <a:pt x="15721" y="5"/>
                      <a:pt x="15721" y="4"/>
                      <a:pt x="15723" y="4"/>
                    </a:cubicBezTo>
                    <a:close/>
                    <a:moveTo>
                      <a:pt x="15731" y="4"/>
                    </a:moveTo>
                    <a:lnTo>
                      <a:pt x="15731" y="4"/>
                    </a:lnTo>
                    <a:cubicBezTo>
                      <a:pt x="15732" y="4"/>
                      <a:pt x="15733" y="5"/>
                      <a:pt x="15733" y="6"/>
                    </a:cubicBezTo>
                    <a:cubicBezTo>
                      <a:pt x="15733" y="7"/>
                      <a:pt x="15732" y="8"/>
                      <a:pt x="15731" y="8"/>
                    </a:cubicBezTo>
                    <a:lnTo>
                      <a:pt x="15731" y="8"/>
                    </a:lnTo>
                    <a:cubicBezTo>
                      <a:pt x="15729" y="8"/>
                      <a:pt x="15729" y="7"/>
                      <a:pt x="15729" y="6"/>
                    </a:cubicBezTo>
                    <a:cubicBezTo>
                      <a:pt x="15729" y="5"/>
                      <a:pt x="15729" y="4"/>
                      <a:pt x="15731" y="4"/>
                    </a:cubicBezTo>
                    <a:close/>
                    <a:moveTo>
                      <a:pt x="15739" y="4"/>
                    </a:moveTo>
                    <a:lnTo>
                      <a:pt x="15739" y="4"/>
                    </a:lnTo>
                    <a:cubicBezTo>
                      <a:pt x="15740" y="4"/>
                      <a:pt x="15741" y="5"/>
                      <a:pt x="15741" y="6"/>
                    </a:cubicBezTo>
                    <a:cubicBezTo>
                      <a:pt x="15741" y="7"/>
                      <a:pt x="15740" y="8"/>
                      <a:pt x="15739" y="8"/>
                    </a:cubicBezTo>
                    <a:lnTo>
                      <a:pt x="15739" y="8"/>
                    </a:lnTo>
                    <a:cubicBezTo>
                      <a:pt x="15737" y="8"/>
                      <a:pt x="15737" y="7"/>
                      <a:pt x="15737" y="6"/>
                    </a:cubicBezTo>
                    <a:cubicBezTo>
                      <a:pt x="15737" y="5"/>
                      <a:pt x="15737" y="4"/>
                      <a:pt x="15739" y="4"/>
                    </a:cubicBezTo>
                    <a:close/>
                    <a:moveTo>
                      <a:pt x="15747" y="4"/>
                    </a:moveTo>
                    <a:lnTo>
                      <a:pt x="15747" y="4"/>
                    </a:lnTo>
                    <a:cubicBezTo>
                      <a:pt x="15748" y="4"/>
                      <a:pt x="15749" y="5"/>
                      <a:pt x="15749" y="6"/>
                    </a:cubicBezTo>
                    <a:cubicBezTo>
                      <a:pt x="15749" y="7"/>
                      <a:pt x="15748" y="8"/>
                      <a:pt x="15747" y="8"/>
                    </a:cubicBezTo>
                    <a:lnTo>
                      <a:pt x="15747" y="8"/>
                    </a:lnTo>
                    <a:cubicBezTo>
                      <a:pt x="15745" y="8"/>
                      <a:pt x="15745" y="7"/>
                      <a:pt x="15745" y="6"/>
                    </a:cubicBezTo>
                    <a:cubicBezTo>
                      <a:pt x="15745" y="5"/>
                      <a:pt x="15745" y="4"/>
                      <a:pt x="15747" y="4"/>
                    </a:cubicBezTo>
                    <a:close/>
                    <a:moveTo>
                      <a:pt x="15755" y="4"/>
                    </a:moveTo>
                    <a:lnTo>
                      <a:pt x="15755" y="4"/>
                    </a:lnTo>
                    <a:cubicBezTo>
                      <a:pt x="15756" y="4"/>
                      <a:pt x="15757" y="5"/>
                      <a:pt x="15757" y="6"/>
                    </a:cubicBezTo>
                    <a:cubicBezTo>
                      <a:pt x="15757" y="7"/>
                      <a:pt x="15756" y="8"/>
                      <a:pt x="15755" y="8"/>
                    </a:cubicBezTo>
                    <a:lnTo>
                      <a:pt x="15755" y="8"/>
                    </a:lnTo>
                    <a:cubicBezTo>
                      <a:pt x="15753" y="8"/>
                      <a:pt x="15753" y="7"/>
                      <a:pt x="15753" y="6"/>
                    </a:cubicBezTo>
                    <a:cubicBezTo>
                      <a:pt x="15753" y="5"/>
                      <a:pt x="15753" y="4"/>
                      <a:pt x="15755" y="4"/>
                    </a:cubicBezTo>
                    <a:close/>
                    <a:moveTo>
                      <a:pt x="15763" y="4"/>
                    </a:moveTo>
                    <a:lnTo>
                      <a:pt x="15763" y="4"/>
                    </a:lnTo>
                    <a:cubicBezTo>
                      <a:pt x="15764" y="4"/>
                      <a:pt x="15765" y="5"/>
                      <a:pt x="15765" y="6"/>
                    </a:cubicBezTo>
                    <a:cubicBezTo>
                      <a:pt x="15765" y="7"/>
                      <a:pt x="15764" y="8"/>
                      <a:pt x="15763" y="8"/>
                    </a:cubicBezTo>
                    <a:lnTo>
                      <a:pt x="15763" y="8"/>
                    </a:lnTo>
                    <a:cubicBezTo>
                      <a:pt x="15761" y="8"/>
                      <a:pt x="15761" y="7"/>
                      <a:pt x="15761" y="6"/>
                    </a:cubicBezTo>
                    <a:cubicBezTo>
                      <a:pt x="15761" y="5"/>
                      <a:pt x="15761" y="4"/>
                      <a:pt x="15763" y="4"/>
                    </a:cubicBezTo>
                    <a:close/>
                    <a:moveTo>
                      <a:pt x="15771" y="4"/>
                    </a:moveTo>
                    <a:lnTo>
                      <a:pt x="15771" y="4"/>
                    </a:lnTo>
                    <a:cubicBezTo>
                      <a:pt x="15772" y="4"/>
                      <a:pt x="15773" y="5"/>
                      <a:pt x="15773" y="6"/>
                    </a:cubicBezTo>
                    <a:cubicBezTo>
                      <a:pt x="15773" y="7"/>
                      <a:pt x="15772" y="8"/>
                      <a:pt x="15771" y="8"/>
                    </a:cubicBezTo>
                    <a:lnTo>
                      <a:pt x="15771" y="8"/>
                    </a:lnTo>
                    <a:cubicBezTo>
                      <a:pt x="15769" y="8"/>
                      <a:pt x="15769" y="7"/>
                      <a:pt x="15769" y="6"/>
                    </a:cubicBezTo>
                    <a:cubicBezTo>
                      <a:pt x="15769" y="5"/>
                      <a:pt x="15769" y="4"/>
                      <a:pt x="15771" y="4"/>
                    </a:cubicBezTo>
                    <a:close/>
                    <a:moveTo>
                      <a:pt x="15779" y="4"/>
                    </a:moveTo>
                    <a:lnTo>
                      <a:pt x="15779" y="4"/>
                    </a:lnTo>
                    <a:cubicBezTo>
                      <a:pt x="15780" y="4"/>
                      <a:pt x="15781" y="5"/>
                      <a:pt x="15781" y="6"/>
                    </a:cubicBezTo>
                    <a:cubicBezTo>
                      <a:pt x="15781" y="7"/>
                      <a:pt x="15780" y="8"/>
                      <a:pt x="15779" y="8"/>
                    </a:cubicBezTo>
                    <a:lnTo>
                      <a:pt x="15779" y="8"/>
                    </a:lnTo>
                    <a:cubicBezTo>
                      <a:pt x="15777" y="8"/>
                      <a:pt x="15777" y="7"/>
                      <a:pt x="15777" y="6"/>
                    </a:cubicBezTo>
                    <a:cubicBezTo>
                      <a:pt x="15777" y="5"/>
                      <a:pt x="15777" y="4"/>
                      <a:pt x="15779" y="4"/>
                    </a:cubicBezTo>
                    <a:close/>
                    <a:moveTo>
                      <a:pt x="15787" y="4"/>
                    </a:moveTo>
                    <a:lnTo>
                      <a:pt x="15787" y="4"/>
                    </a:lnTo>
                    <a:cubicBezTo>
                      <a:pt x="15788" y="4"/>
                      <a:pt x="15789" y="5"/>
                      <a:pt x="15789" y="6"/>
                    </a:cubicBezTo>
                    <a:cubicBezTo>
                      <a:pt x="15789" y="7"/>
                      <a:pt x="15788" y="8"/>
                      <a:pt x="15787" y="8"/>
                    </a:cubicBezTo>
                    <a:lnTo>
                      <a:pt x="15787" y="8"/>
                    </a:lnTo>
                    <a:cubicBezTo>
                      <a:pt x="15785" y="8"/>
                      <a:pt x="15785" y="7"/>
                      <a:pt x="15785" y="6"/>
                    </a:cubicBezTo>
                    <a:cubicBezTo>
                      <a:pt x="15785" y="5"/>
                      <a:pt x="15785" y="4"/>
                      <a:pt x="15787" y="4"/>
                    </a:cubicBezTo>
                    <a:close/>
                    <a:moveTo>
                      <a:pt x="15795" y="4"/>
                    </a:moveTo>
                    <a:lnTo>
                      <a:pt x="15795" y="4"/>
                    </a:lnTo>
                    <a:cubicBezTo>
                      <a:pt x="15796" y="4"/>
                      <a:pt x="15797" y="5"/>
                      <a:pt x="15797" y="6"/>
                    </a:cubicBezTo>
                    <a:cubicBezTo>
                      <a:pt x="15797" y="7"/>
                      <a:pt x="15796" y="8"/>
                      <a:pt x="15795" y="8"/>
                    </a:cubicBezTo>
                    <a:lnTo>
                      <a:pt x="15795" y="8"/>
                    </a:lnTo>
                    <a:cubicBezTo>
                      <a:pt x="15793" y="8"/>
                      <a:pt x="15793" y="7"/>
                      <a:pt x="15793" y="6"/>
                    </a:cubicBezTo>
                    <a:cubicBezTo>
                      <a:pt x="15793" y="5"/>
                      <a:pt x="15793" y="4"/>
                      <a:pt x="15795" y="4"/>
                    </a:cubicBezTo>
                    <a:close/>
                    <a:moveTo>
                      <a:pt x="15803" y="4"/>
                    </a:moveTo>
                    <a:lnTo>
                      <a:pt x="15803" y="4"/>
                    </a:lnTo>
                    <a:cubicBezTo>
                      <a:pt x="15804" y="4"/>
                      <a:pt x="15805" y="5"/>
                      <a:pt x="15805" y="6"/>
                    </a:cubicBezTo>
                    <a:cubicBezTo>
                      <a:pt x="15805" y="7"/>
                      <a:pt x="15804" y="8"/>
                      <a:pt x="15803" y="8"/>
                    </a:cubicBezTo>
                    <a:lnTo>
                      <a:pt x="15803" y="8"/>
                    </a:lnTo>
                    <a:cubicBezTo>
                      <a:pt x="15801" y="8"/>
                      <a:pt x="15801" y="7"/>
                      <a:pt x="15801" y="6"/>
                    </a:cubicBezTo>
                    <a:cubicBezTo>
                      <a:pt x="15801" y="5"/>
                      <a:pt x="15801" y="4"/>
                      <a:pt x="15803" y="4"/>
                    </a:cubicBezTo>
                    <a:close/>
                    <a:moveTo>
                      <a:pt x="15811" y="4"/>
                    </a:moveTo>
                    <a:lnTo>
                      <a:pt x="15811" y="4"/>
                    </a:lnTo>
                    <a:cubicBezTo>
                      <a:pt x="15812" y="4"/>
                      <a:pt x="15813" y="5"/>
                      <a:pt x="15813" y="6"/>
                    </a:cubicBezTo>
                    <a:cubicBezTo>
                      <a:pt x="15813" y="7"/>
                      <a:pt x="15812" y="8"/>
                      <a:pt x="15811" y="8"/>
                    </a:cubicBezTo>
                    <a:lnTo>
                      <a:pt x="15811" y="8"/>
                    </a:lnTo>
                    <a:cubicBezTo>
                      <a:pt x="15809" y="8"/>
                      <a:pt x="15809" y="7"/>
                      <a:pt x="15809" y="6"/>
                    </a:cubicBezTo>
                    <a:cubicBezTo>
                      <a:pt x="15809" y="5"/>
                      <a:pt x="15809" y="4"/>
                      <a:pt x="15811" y="4"/>
                    </a:cubicBezTo>
                    <a:close/>
                    <a:moveTo>
                      <a:pt x="15819" y="4"/>
                    </a:moveTo>
                    <a:lnTo>
                      <a:pt x="15819" y="4"/>
                    </a:lnTo>
                    <a:cubicBezTo>
                      <a:pt x="15820" y="4"/>
                      <a:pt x="15821" y="5"/>
                      <a:pt x="15821" y="6"/>
                    </a:cubicBezTo>
                    <a:cubicBezTo>
                      <a:pt x="15821" y="7"/>
                      <a:pt x="15820" y="8"/>
                      <a:pt x="15819" y="8"/>
                    </a:cubicBezTo>
                    <a:lnTo>
                      <a:pt x="15819" y="8"/>
                    </a:lnTo>
                    <a:cubicBezTo>
                      <a:pt x="15817" y="8"/>
                      <a:pt x="15817" y="7"/>
                      <a:pt x="15817" y="6"/>
                    </a:cubicBezTo>
                    <a:cubicBezTo>
                      <a:pt x="15817" y="5"/>
                      <a:pt x="15817" y="4"/>
                      <a:pt x="15819" y="4"/>
                    </a:cubicBezTo>
                    <a:close/>
                    <a:moveTo>
                      <a:pt x="15827" y="4"/>
                    </a:moveTo>
                    <a:lnTo>
                      <a:pt x="15827" y="4"/>
                    </a:lnTo>
                    <a:cubicBezTo>
                      <a:pt x="15828" y="4"/>
                      <a:pt x="15829" y="5"/>
                      <a:pt x="15829" y="6"/>
                    </a:cubicBezTo>
                    <a:cubicBezTo>
                      <a:pt x="15829" y="7"/>
                      <a:pt x="15828" y="8"/>
                      <a:pt x="15827" y="8"/>
                    </a:cubicBezTo>
                    <a:lnTo>
                      <a:pt x="15827" y="8"/>
                    </a:lnTo>
                    <a:cubicBezTo>
                      <a:pt x="15826" y="8"/>
                      <a:pt x="15825" y="7"/>
                      <a:pt x="15825" y="6"/>
                    </a:cubicBezTo>
                    <a:cubicBezTo>
                      <a:pt x="15825" y="5"/>
                      <a:pt x="15826" y="4"/>
                      <a:pt x="15827" y="4"/>
                    </a:cubicBezTo>
                    <a:close/>
                    <a:moveTo>
                      <a:pt x="15835" y="4"/>
                    </a:moveTo>
                    <a:lnTo>
                      <a:pt x="15835" y="4"/>
                    </a:lnTo>
                    <a:cubicBezTo>
                      <a:pt x="15836" y="4"/>
                      <a:pt x="15837" y="5"/>
                      <a:pt x="15837" y="6"/>
                    </a:cubicBezTo>
                    <a:cubicBezTo>
                      <a:pt x="15837" y="7"/>
                      <a:pt x="15836" y="8"/>
                      <a:pt x="15835" y="8"/>
                    </a:cubicBezTo>
                    <a:lnTo>
                      <a:pt x="15835" y="8"/>
                    </a:lnTo>
                    <a:cubicBezTo>
                      <a:pt x="15834" y="8"/>
                      <a:pt x="15833" y="7"/>
                      <a:pt x="15833" y="6"/>
                    </a:cubicBezTo>
                    <a:cubicBezTo>
                      <a:pt x="15833" y="5"/>
                      <a:pt x="15834" y="4"/>
                      <a:pt x="15835" y="4"/>
                    </a:cubicBezTo>
                    <a:close/>
                    <a:moveTo>
                      <a:pt x="15843" y="4"/>
                    </a:moveTo>
                    <a:lnTo>
                      <a:pt x="15843" y="4"/>
                    </a:lnTo>
                    <a:cubicBezTo>
                      <a:pt x="15844" y="4"/>
                      <a:pt x="15845" y="5"/>
                      <a:pt x="15845" y="6"/>
                    </a:cubicBezTo>
                    <a:cubicBezTo>
                      <a:pt x="15845" y="7"/>
                      <a:pt x="15844" y="8"/>
                      <a:pt x="15843" y="8"/>
                    </a:cubicBezTo>
                    <a:lnTo>
                      <a:pt x="15843" y="8"/>
                    </a:lnTo>
                    <a:cubicBezTo>
                      <a:pt x="15842" y="8"/>
                      <a:pt x="15841" y="7"/>
                      <a:pt x="15841" y="6"/>
                    </a:cubicBezTo>
                    <a:cubicBezTo>
                      <a:pt x="15841" y="5"/>
                      <a:pt x="15842" y="4"/>
                      <a:pt x="15843" y="4"/>
                    </a:cubicBezTo>
                    <a:close/>
                    <a:moveTo>
                      <a:pt x="15851" y="4"/>
                    </a:moveTo>
                    <a:lnTo>
                      <a:pt x="15851" y="4"/>
                    </a:lnTo>
                    <a:cubicBezTo>
                      <a:pt x="15852" y="4"/>
                      <a:pt x="15853" y="5"/>
                      <a:pt x="15853" y="6"/>
                    </a:cubicBezTo>
                    <a:cubicBezTo>
                      <a:pt x="15853" y="7"/>
                      <a:pt x="15852" y="8"/>
                      <a:pt x="15851" y="8"/>
                    </a:cubicBezTo>
                    <a:lnTo>
                      <a:pt x="15851" y="8"/>
                    </a:lnTo>
                    <a:cubicBezTo>
                      <a:pt x="15850" y="8"/>
                      <a:pt x="15849" y="7"/>
                      <a:pt x="15849" y="6"/>
                    </a:cubicBezTo>
                    <a:cubicBezTo>
                      <a:pt x="15849" y="5"/>
                      <a:pt x="15850" y="4"/>
                      <a:pt x="15851" y="4"/>
                    </a:cubicBezTo>
                    <a:close/>
                    <a:moveTo>
                      <a:pt x="15859" y="4"/>
                    </a:moveTo>
                    <a:lnTo>
                      <a:pt x="15859" y="4"/>
                    </a:lnTo>
                    <a:cubicBezTo>
                      <a:pt x="15860" y="4"/>
                      <a:pt x="15861" y="5"/>
                      <a:pt x="15861" y="6"/>
                    </a:cubicBezTo>
                    <a:cubicBezTo>
                      <a:pt x="15861" y="7"/>
                      <a:pt x="15860" y="8"/>
                      <a:pt x="15859" y="8"/>
                    </a:cubicBezTo>
                    <a:lnTo>
                      <a:pt x="15859" y="8"/>
                    </a:lnTo>
                    <a:cubicBezTo>
                      <a:pt x="15858" y="8"/>
                      <a:pt x="15857" y="7"/>
                      <a:pt x="15857" y="6"/>
                    </a:cubicBezTo>
                    <a:cubicBezTo>
                      <a:pt x="15857" y="5"/>
                      <a:pt x="15858" y="4"/>
                      <a:pt x="15859" y="4"/>
                    </a:cubicBezTo>
                    <a:close/>
                    <a:moveTo>
                      <a:pt x="15867" y="4"/>
                    </a:moveTo>
                    <a:lnTo>
                      <a:pt x="15867" y="4"/>
                    </a:lnTo>
                    <a:cubicBezTo>
                      <a:pt x="15868" y="4"/>
                      <a:pt x="15869" y="5"/>
                      <a:pt x="15869" y="6"/>
                    </a:cubicBezTo>
                    <a:cubicBezTo>
                      <a:pt x="15869" y="7"/>
                      <a:pt x="15868" y="8"/>
                      <a:pt x="15867" y="8"/>
                    </a:cubicBezTo>
                    <a:lnTo>
                      <a:pt x="15867" y="8"/>
                    </a:lnTo>
                    <a:cubicBezTo>
                      <a:pt x="15866" y="8"/>
                      <a:pt x="15865" y="7"/>
                      <a:pt x="15865" y="6"/>
                    </a:cubicBezTo>
                    <a:cubicBezTo>
                      <a:pt x="15865" y="5"/>
                      <a:pt x="15866" y="4"/>
                      <a:pt x="15867" y="4"/>
                    </a:cubicBezTo>
                    <a:close/>
                    <a:moveTo>
                      <a:pt x="15875" y="4"/>
                    </a:moveTo>
                    <a:lnTo>
                      <a:pt x="15875" y="4"/>
                    </a:lnTo>
                    <a:cubicBezTo>
                      <a:pt x="15876" y="4"/>
                      <a:pt x="15877" y="5"/>
                      <a:pt x="15877" y="6"/>
                    </a:cubicBezTo>
                    <a:cubicBezTo>
                      <a:pt x="15877" y="7"/>
                      <a:pt x="15876" y="8"/>
                      <a:pt x="15875" y="8"/>
                    </a:cubicBezTo>
                    <a:lnTo>
                      <a:pt x="15875" y="8"/>
                    </a:lnTo>
                    <a:cubicBezTo>
                      <a:pt x="15874" y="8"/>
                      <a:pt x="15873" y="7"/>
                      <a:pt x="15873" y="6"/>
                    </a:cubicBezTo>
                    <a:cubicBezTo>
                      <a:pt x="15873" y="5"/>
                      <a:pt x="15874" y="4"/>
                      <a:pt x="15875" y="4"/>
                    </a:cubicBezTo>
                    <a:close/>
                    <a:moveTo>
                      <a:pt x="15883" y="4"/>
                    </a:moveTo>
                    <a:lnTo>
                      <a:pt x="15883" y="4"/>
                    </a:lnTo>
                    <a:cubicBezTo>
                      <a:pt x="15884" y="4"/>
                      <a:pt x="15885" y="5"/>
                      <a:pt x="15885" y="6"/>
                    </a:cubicBezTo>
                    <a:cubicBezTo>
                      <a:pt x="15885" y="7"/>
                      <a:pt x="15884" y="8"/>
                      <a:pt x="15883" y="8"/>
                    </a:cubicBezTo>
                    <a:lnTo>
                      <a:pt x="15883" y="8"/>
                    </a:lnTo>
                    <a:cubicBezTo>
                      <a:pt x="15882" y="8"/>
                      <a:pt x="15881" y="7"/>
                      <a:pt x="15881" y="6"/>
                    </a:cubicBezTo>
                    <a:cubicBezTo>
                      <a:pt x="15881" y="5"/>
                      <a:pt x="15882" y="4"/>
                      <a:pt x="15883" y="4"/>
                    </a:cubicBezTo>
                    <a:close/>
                    <a:moveTo>
                      <a:pt x="15891" y="4"/>
                    </a:moveTo>
                    <a:lnTo>
                      <a:pt x="15891" y="4"/>
                    </a:lnTo>
                    <a:cubicBezTo>
                      <a:pt x="15892" y="4"/>
                      <a:pt x="15893" y="5"/>
                      <a:pt x="15893" y="6"/>
                    </a:cubicBezTo>
                    <a:cubicBezTo>
                      <a:pt x="15893" y="7"/>
                      <a:pt x="15892" y="8"/>
                      <a:pt x="15891" y="8"/>
                    </a:cubicBezTo>
                    <a:lnTo>
                      <a:pt x="15891" y="8"/>
                    </a:lnTo>
                    <a:cubicBezTo>
                      <a:pt x="15890" y="8"/>
                      <a:pt x="15889" y="7"/>
                      <a:pt x="15889" y="6"/>
                    </a:cubicBezTo>
                    <a:cubicBezTo>
                      <a:pt x="15889" y="5"/>
                      <a:pt x="15890" y="4"/>
                      <a:pt x="15891" y="4"/>
                    </a:cubicBezTo>
                    <a:close/>
                    <a:moveTo>
                      <a:pt x="15899" y="4"/>
                    </a:moveTo>
                    <a:lnTo>
                      <a:pt x="15899" y="4"/>
                    </a:lnTo>
                    <a:cubicBezTo>
                      <a:pt x="15900" y="4"/>
                      <a:pt x="15901" y="5"/>
                      <a:pt x="15901" y="6"/>
                    </a:cubicBezTo>
                    <a:cubicBezTo>
                      <a:pt x="15901" y="7"/>
                      <a:pt x="15900" y="8"/>
                      <a:pt x="15899" y="8"/>
                    </a:cubicBezTo>
                    <a:lnTo>
                      <a:pt x="15899" y="8"/>
                    </a:lnTo>
                    <a:cubicBezTo>
                      <a:pt x="15898" y="8"/>
                      <a:pt x="15897" y="7"/>
                      <a:pt x="15897" y="6"/>
                    </a:cubicBezTo>
                    <a:cubicBezTo>
                      <a:pt x="15897" y="5"/>
                      <a:pt x="15898" y="4"/>
                      <a:pt x="15899" y="4"/>
                    </a:cubicBezTo>
                    <a:close/>
                    <a:moveTo>
                      <a:pt x="15907" y="4"/>
                    </a:moveTo>
                    <a:lnTo>
                      <a:pt x="15907" y="4"/>
                    </a:lnTo>
                    <a:cubicBezTo>
                      <a:pt x="15908" y="4"/>
                      <a:pt x="15909" y="5"/>
                      <a:pt x="15909" y="6"/>
                    </a:cubicBezTo>
                    <a:cubicBezTo>
                      <a:pt x="15909" y="7"/>
                      <a:pt x="15908" y="8"/>
                      <a:pt x="15907" y="8"/>
                    </a:cubicBezTo>
                    <a:lnTo>
                      <a:pt x="15907" y="8"/>
                    </a:lnTo>
                    <a:cubicBezTo>
                      <a:pt x="15906" y="8"/>
                      <a:pt x="15905" y="7"/>
                      <a:pt x="15905" y="6"/>
                    </a:cubicBezTo>
                    <a:cubicBezTo>
                      <a:pt x="15905" y="5"/>
                      <a:pt x="15906" y="4"/>
                      <a:pt x="15907" y="4"/>
                    </a:cubicBezTo>
                    <a:close/>
                    <a:moveTo>
                      <a:pt x="15915" y="4"/>
                    </a:moveTo>
                    <a:lnTo>
                      <a:pt x="15915" y="4"/>
                    </a:lnTo>
                    <a:cubicBezTo>
                      <a:pt x="15916" y="4"/>
                      <a:pt x="15917" y="5"/>
                      <a:pt x="15917" y="6"/>
                    </a:cubicBezTo>
                    <a:cubicBezTo>
                      <a:pt x="15917" y="7"/>
                      <a:pt x="15916" y="8"/>
                      <a:pt x="15915" y="8"/>
                    </a:cubicBezTo>
                    <a:lnTo>
                      <a:pt x="15915" y="8"/>
                    </a:lnTo>
                    <a:cubicBezTo>
                      <a:pt x="15914" y="8"/>
                      <a:pt x="15913" y="7"/>
                      <a:pt x="15913" y="6"/>
                    </a:cubicBezTo>
                    <a:cubicBezTo>
                      <a:pt x="15913" y="5"/>
                      <a:pt x="15914" y="4"/>
                      <a:pt x="15915" y="4"/>
                    </a:cubicBezTo>
                    <a:close/>
                    <a:moveTo>
                      <a:pt x="15923" y="4"/>
                    </a:moveTo>
                    <a:lnTo>
                      <a:pt x="15923" y="4"/>
                    </a:lnTo>
                    <a:cubicBezTo>
                      <a:pt x="15924" y="4"/>
                      <a:pt x="15925" y="5"/>
                      <a:pt x="15925" y="6"/>
                    </a:cubicBezTo>
                    <a:cubicBezTo>
                      <a:pt x="15925" y="7"/>
                      <a:pt x="15924" y="8"/>
                      <a:pt x="15923" y="8"/>
                    </a:cubicBezTo>
                    <a:lnTo>
                      <a:pt x="15923" y="8"/>
                    </a:lnTo>
                    <a:cubicBezTo>
                      <a:pt x="15922" y="8"/>
                      <a:pt x="15921" y="7"/>
                      <a:pt x="15921" y="6"/>
                    </a:cubicBezTo>
                    <a:cubicBezTo>
                      <a:pt x="15921" y="5"/>
                      <a:pt x="15922" y="4"/>
                      <a:pt x="15923" y="4"/>
                    </a:cubicBezTo>
                    <a:close/>
                    <a:moveTo>
                      <a:pt x="15931" y="4"/>
                    </a:moveTo>
                    <a:lnTo>
                      <a:pt x="15931" y="4"/>
                    </a:lnTo>
                    <a:cubicBezTo>
                      <a:pt x="15932" y="4"/>
                      <a:pt x="15933" y="5"/>
                      <a:pt x="15933" y="6"/>
                    </a:cubicBezTo>
                    <a:cubicBezTo>
                      <a:pt x="15933" y="7"/>
                      <a:pt x="15932" y="8"/>
                      <a:pt x="15931" y="8"/>
                    </a:cubicBezTo>
                    <a:lnTo>
                      <a:pt x="15931" y="8"/>
                    </a:lnTo>
                    <a:cubicBezTo>
                      <a:pt x="15930" y="8"/>
                      <a:pt x="15929" y="7"/>
                      <a:pt x="15929" y="6"/>
                    </a:cubicBezTo>
                    <a:cubicBezTo>
                      <a:pt x="15929" y="5"/>
                      <a:pt x="15930" y="4"/>
                      <a:pt x="15931" y="4"/>
                    </a:cubicBezTo>
                    <a:close/>
                    <a:moveTo>
                      <a:pt x="15939" y="4"/>
                    </a:moveTo>
                    <a:lnTo>
                      <a:pt x="15939" y="4"/>
                    </a:lnTo>
                    <a:cubicBezTo>
                      <a:pt x="15940" y="4"/>
                      <a:pt x="15941" y="5"/>
                      <a:pt x="15941" y="6"/>
                    </a:cubicBezTo>
                    <a:cubicBezTo>
                      <a:pt x="15941" y="7"/>
                      <a:pt x="15940" y="8"/>
                      <a:pt x="15939" y="8"/>
                    </a:cubicBezTo>
                    <a:lnTo>
                      <a:pt x="15939" y="8"/>
                    </a:lnTo>
                    <a:cubicBezTo>
                      <a:pt x="15938" y="8"/>
                      <a:pt x="15937" y="7"/>
                      <a:pt x="15937" y="6"/>
                    </a:cubicBezTo>
                    <a:cubicBezTo>
                      <a:pt x="15937" y="5"/>
                      <a:pt x="15938" y="4"/>
                      <a:pt x="15939" y="4"/>
                    </a:cubicBezTo>
                    <a:close/>
                    <a:moveTo>
                      <a:pt x="15947" y="4"/>
                    </a:moveTo>
                    <a:lnTo>
                      <a:pt x="15947" y="4"/>
                    </a:lnTo>
                    <a:cubicBezTo>
                      <a:pt x="15948" y="4"/>
                      <a:pt x="15949" y="5"/>
                      <a:pt x="15949" y="6"/>
                    </a:cubicBezTo>
                    <a:cubicBezTo>
                      <a:pt x="15949" y="7"/>
                      <a:pt x="15948" y="8"/>
                      <a:pt x="15947" y="8"/>
                    </a:cubicBezTo>
                    <a:lnTo>
                      <a:pt x="15947" y="8"/>
                    </a:lnTo>
                    <a:cubicBezTo>
                      <a:pt x="15946" y="8"/>
                      <a:pt x="15945" y="7"/>
                      <a:pt x="15945" y="6"/>
                    </a:cubicBezTo>
                    <a:cubicBezTo>
                      <a:pt x="15945" y="5"/>
                      <a:pt x="15946" y="4"/>
                      <a:pt x="15947" y="4"/>
                    </a:cubicBezTo>
                    <a:close/>
                    <a:moveTo>
                      <a:pt x="15955" y="4"/>
                    </a:moveTo>
                    <a:lnTo>
                      <a:pt x="15955" y="4"/>
                    </a:lnTo>
                    <a:cubicBezTo>
                      <a:pt x="15956" y="4"/>
                      <a:pt x="15957" y="5"/>
                      <a:pt x="15957" y="6"/>
                    </a:cubicBezTo>
                    <a:cubicBezTo>
                      <a:pt x="15957" y="7"/>
                      <a:pt x="15956" y="8"/>
                      <a:pt x="15955" y="8"/>
                    </a:cubicBezTo>
                    <a:lnTo>
                      <a:pt x="15955" y="8"/>
                    </a:lnTo>
                    <a:cubicBezTo>
                      <a:pt x="15954" y="8"/>
                      <a:pt x="15953" y="7"/>
                      <a:pt x="15953" y="6"/>
                    </a:cubicBezTo>
                    <a:cubicBezTo>
                      <a:pt x="15953" y="5"/>
                      <a:pt x="15954" y="4"/>
                      <a:pt x="15955" y="4"/>
                    </a:cubicBezTo>
                    <a:close/>
                    <a:moveTo>
                      <a:pt x="15963" y="4"/>
                    </a:moveTo>
                    <a:lnTo>
                      <a:pt x="15963" y="4"/>
                    </a:lnTo>
                    <a:cubicBezTo>
                      <a:pt x="15964" y="4"/>
                      <a:pt x="15965" y="5"/>
                      <a:pt x="15965" y="6"/>
                    </a:cubicBezTo>
                    <a:cubicBezTo>
                      <a:pt x="15965" y="7"/>
                      <a:pt x="15964" y="8"/>
                      <a:pt x="15963" y="8"/>
                    </a:cubicBezTo>
                    <a:lnTo>
                      <a:pt x="15963" y="8"/>
                    </a:lnTo>
                    <a:cubicBezTo>
                      <a:pt x="15962" y="8"/>
                      <a:pt x="15961" y="7"/>
                      <a:pt x="15961" y="6"/>
                    </a:cubicBezTo>
                    <a:cubicBezTo>
                      <a:pt x="15961" y="5"/>
                      <a:pt x="15962" y="4"/>
                      <a:pt x="15963" y="4"/>
                    </a:cubicBezTo>
                    <a:close/>
                    <a:moveTo>
                      <a:pt x="15971" y="4"/>
                    </a:moveTo>
                    <a:lnTo>
                      <a:pt x="15971" y="4"/>
                    </a:lnTo>
                    <a:cubicBezTo>
                      <a:pt x="15972" y="4"/>
                      <a:pt x="15973" y="5"/>
                      <a:pt x="15973" y="6"/>
                    </a:cubicBezTo>
                    <a:cubicBezTo>
                      <a:pt x="15973" y="7"/>
                      <a:pt x="15972" y="8"/>
                      <a:pt x="15971" y="8"/>
                    </a:cubicBezTo>
                    <a:lnTo>
                      <a:pt x="15971" y="8"/>
                    </a:lnTo>
                    <a:cubicBezTo>
                      <a:pt x="15970" y="8"/>
                      <a:pt x="15969" y="7"/>
                      <a:pt x="15969" y="6"/>
                    </a:cubicBezTo>
                    <a:cubicBezTo>
                      <a:pt x="15969" y="5"/>
                      <a:pt x="15970" y="4"/>
                      <a:pt x="15971" y="4"/>
                    </a:cubicBezTo>
                    <a:close/>
                    <a:moveTo>
                      <a:pt x="15979" y="4"/>
                    </a:moveTo>
                    <a:lnTo>
                      <a:pt x="15979" y="4"/>
                    </a:lnTo>
                    <a:cubicBezTo>
                      <a:pt x="15980" y="4"/>
                      <a:pt x="15981" y="5"/>
                      <a:pt x="15981" y="6"/>
                    </a:cubicBezTo>
                    <a:cubicBezTo>
                      <a:pt x="15981" y="7"/>
                      <a:pt x="15980" y="8"/>
                      <a:pt x="15979" y="8"/>
                    </a:cubicBezTo>
                    <a:lnTo>
                      <a:pt x="15979" y="8"/>
                    </a:lnTo>
                    <a:cubicBezTo>
                      <a:pt x="15978" y="8"/>
                      <a:pt x="15977" y="7"/>
                      <a:pt x="15977" y="6"/>
                    </a:cubicBezTo>
                    <a:cubicBezTo>
                      <a:pt x="15977" y="5"/>
                      <a:pt x="15978" y="4"/>
                      <a:pt x="15979" y="4"/>
                    </a:cubicBezTo>
                    <a:close/>
                    <a:moveTo>
                      <a:pt x="15987" y="4"/>
                    </a:moveTo>
                    <a:lnTo>
                      <a:pt x="15987" y="4"/>
                    </a:lnTo>
                    <a:cubicBezTo>
                      <a:pt x="15988" y="4"/>
                      <a:pt x="15989" y="5"/>
                      <a:pt x="15989" y="6"/>
                    </a:cubicBezTo>
                    <a:cubicBezTo>
                      <a:pt x="15989" y="7"/>
                      <a:pt x="15988" y="8"/>
                      <a:pt x="15987" y="8"/>
                    </a:cubicBezTo>
                    <a:lnTo>
                      <a:pt x="15987" y="8"/>
                    </a:lnTo>
                    <a:cubicBezTo>
                      <a:pt x="15986" y="8"/>
                      <a:pt x="15985" y="7"/>
                      <a:pt x="15985" y="6"/>
                    </a:cubicBezTo>
                    <a:cubicBezTo>
                      <a:pt x="15985" y="5"/>
                      <a:pt x="15986" y="4"/>
                      <a:pt x="15987" y="4"/>
                    </a:cubicBezTo>
                    <a:close/>
                    <a:moveTo>
                      <a:pt x="15995" y="4"/>
                    </a:moveTo>
                    <a:lnTo>
                      <a:pt x="15995" y="4"/>
                    </a:lnTo>
                    <a:cubicBezTo>
                      <a:pt x="15996" y="4"/>
                      <a:pt x="15997" y="5"/>
                      <a:pt x="15997" y="6"/>
                    </a:cubicBezTo>
                    <a:cubicBezTo>
                      <a:pt x="15997" y="7"/>
                      <a:pt x="15996" y="8"/>
                      <a:pt x="15995" y="8"/>
                    </a:cubicBezTo>
                    <a:lnTo>
                      <a:pt x="15995" y="8"/>
                    </a:lnTo>
                    <a:cubicBezTo>
                      <a:pt x="15994" y="8"/>
                      <a:pt x="15993" y="7"/>
                      <a:pt x="15993" y="6"/>
                    </a:cubicBezTo>
                    <a:cubicBezTo>
                      <a:pt x="15993" y="5"/>
                      <a:pt x="15994" y="4"/>
                      <a:pt x="15995" y="4"/>
                    </a:cubicBezTo>
                    <a:close/>
                    <a:moveTo>
                      <a:pt x="16003" y="4"/>
                    </a:moveTo>
                    <a:lnTo>
                      <a:pt x="16003" y="4"/>
                    </a:lnTo>
                    <a:cubicBezTo>
                      <a:pt x="16004" y="4"/>
                      <a:pt x="16005" y="5"/>
                      <a:pt x="16005" y="6"/>
                    </a:cubicBezTo>
                    <a:cubicBezTo>
                      <a:pt x="16005" y="7"/>
                      <a:pt x="16004" y="8"/>
                      <a:pt x="16003" y="8"/>
                    </a:cubicBezTo>
                    <a:lnTo>
                      <a:pt x="16003" y="8"/>
                    </a:lnTo>
                    <a:cubicBezTo>
                      <a:pt x="16002" y="8"/>
                      <a:pt x="16001" y="7"/>
                      <a:pt x="16001" y="6"/>
                    </a:cubicBezTo>
                    <a:cubicBezTo>
                      <a:pt x="16001" y="5"/>
                      <a:pt x="16002" y="4"/>
                      <a:pt x="16003" y="4"/>
                    </a:cubicBezTo>
                    <a:close/>
                    <a:moveTo>
                      <a:pt x="16011" y="4"/>
                    </a:moveTo>
                    <a:lnTo>
                      <a:pt x="16011" y="4"/>
                    </a:lnTo>
                    <a:cubicBezTo>
                      <a:pt x="16012" y="4"/>
                      <a:pt x="16013" y="5"/>
                      <a:pt x="16013" y="6"/>
                    </a:cubicBezTo>
                    <a:cubicBezTo>
                      <a:pt x="16013" y="7"/>
                      <a:pt x="16012" y="8"/>
                      <a:pt x="16011" y="8"/>
                    </a:cubicBezTo>
                    <a:lnTo>
                      <a:pt x="16011" y="8"/>
                    </a:lnTo>
                    <a:cubicBezTo>
                      <a:pt x="16010" y="8"/>
                      <a:pt x="16009" y="7"/>
                      <a:pt x="16009" y="6"/>
                    </a:cubicBezTo>
                    <a:cubicBezTo>
                      <a:pt x="16009" y="5"/>
                      <a:pt x="16010" y="4"/>
                      <a:pt x="16011" y="4"/>
                    </a:cubicBezTo>
                    <a:close/>
                    <a:moveTo>
                      <a:pt x="16019" y="4"/>
                    </a:moveTo>
                    <a:lnTo>
                      <a:pt x="16019" y="4"/>
                    </a:lnTo>
                    <a:cubicBezTo>
                      <a:pt x="16020" y="4"/>
                      <a:pt x="16021" y="5"/>
                      <a:pt x="16021" y="6"/>
                    </a:cubicBezTo>
                    <a:cubicBezTo>
                      <a:pt x="16021" y="7"/>
                      <a:pt x="16020" y="8"/>
                      <a:pt x="16019" y="8"/>
                    </a:cubicBezTo>
                    <a:lnTo>
                      <a:pt x="16019" y="8"/>
                    </a:lnTo>
                    <a:cubicBezTo>
                      <a:pt x="16018" y="8"/>
                      <a:pt x="16017" y="7"/>
                      <a:pt x="16017" y="6"/>
                    </a:cubicBezTo>
                    <a:cubicBezTo>
                      <a:pt x="16017" y="5"/>
                      <a:pt x="16018" y="4"/>
                      <a:pt x="16019" y="4"/>
                    </a:cubicBezTo>
                    <a:close/>
                    <a:moveTo>
                      <a:pt x="16027" y="4"/>
                    </a:moveTo>
                    <a:lnTo>
                      <a:pt x="16027" y="4"/>
                    </a:lnTo>
                    <a:cubicBezTo>
                      <a:pt x="16028" y="4"/>
                      <a:pt x="16029" y="5"/>
                      <a:pt x="16029" y="6"/>
                    </a:cubicBezTo>
                    <a:cubicBezTo>
                      <a:pt x="16029" y="7"/>
                      <a:pt x="16028" y="8"/>
                      <a:pt x="16027" y="8"/>
                    </a:cubicBezTo>
                    <a:lnTo>
                      <a:pt x="16027" y="8"/>
                    </a:lnTo>
                    <a:cubicBezTo>
                      <a:pt x="16026" y="8"/>
                      <a:pt x="16025" y="7"/>
                      <a:pt x="16025" y="6"/>
                    </a:cubicBezTo>
                    <a:cubicBezTo>
                      <a:pt x="16025" y="5"/>
                      <a:pt x="16026" y="4"/>
                      <a:pt x="16027" y="4"/>
                    </a:cubicBezTo>
                    <a:close/>
                    <a:moveTo>
                      <a:pt x="16035" y="4"/>
                    </a:moveTo>
                    <a:lnTo>
                      <a:pt x="16035" y="4"/>
                    </a:lnTo>
                    <a:cubicBezTo>
                      <a:pt x="16036" y="4"/>
                      <a:pt x="16037" y="5"/>
                      <a:pt x="16037" y="6"/>
                    </a:cubicBezTo>
                    <a:cubicBezTo>
                      <a:pt x="16037" y="7"/>
                      <a:pt x="16036" y="8"/>
                      <a:pt x="16035" y="8"/>
                    </a:cubicBezTo>
                    <a:lnTo>
                      <a:pt x="16035" y="8"/>
                    </a:lnTo>
                    <a:cubicBezTo>
                      <a:pt x="16034" y="8"/>
                      <a:pt x="16033" y="7"/>
                      <a:pt x="16033" y="6"/>
                    </a:cubicBezTo>
                    <a:cubicBezTo>
                      <a:pt x="16033" y="5"/>
                      <a:pt x="16034" y="4"/>
                      <a:pt x="16035" y="4"/>
                    </a:cubicBezTo>
                    <a:close/>
                    <a:moveTo>
                      <a:pt x="16043" y="4"/>
                    </a:moveTo>
                    <a:lnTo>
                      <a:pt x="16043" y="4"/>
                    </a:lnTo>
                    <a:cubicBezTo>
                      <a:pt x="16044" y="4"/>
                      <a:pt x="16045" y="5"/>
                      <a:pt x="16045" y="6"/>
                    </a:cubicBezTo>
                    <a:cubicBezTo>
                      <a:pt x="16045" y="7"/>
                      <a:pt x="16044" y="8"/>
                      <a:pt x="16043" y="8"/>
                    </a:cubicBezTo>
                    <a:lnTo>
                      <a:pt x="16043" y="8"/>
                    </a:lnTo>
                    <a:cubicBezTo>
                      <a:pt x="16042" y="8"/>
                      <a:pt x="16041" y="7"/>
                      <a:pt x="16041" y="6"/>
                    </a:cubicBezTo>
                    <a:cubicBezTo>
                      <a:pt x="16041" y="5"/>
                      <a:pt x="16042" y="4"/>
                      <a:pt x="16043" y="4"/>
                    </a:cubicBezTo>
                    <a:close/>
                    <a:moveTo>
                      <a:pt x="16051" y="4"/>
                    </a:moveTo>
                    <a:lnTo>
                      <a:pt x="16051" y="4"/>
                    </a:lnTo>
                    <a:cubicBezTo>
                      <a:pt x="16052" y="4"/>
                      <a:pt x="16053" y="5"/>
                      <a:pt x="16053" y="6"/>
                    </a:cubicBezTo>
                    <a:cubicBezTo>
                      <a:pt x="16053" y="7"/>
                      <a:pt x="16052" y="8"/>
                      <a:pt x="16051" y="8"/>
                    </a:cubicBezTo>
                    <a:lnTo>
                      <a:pt x="16051" y="8"/>
                    </a:lnTo>
                    <a:cubicBezTo>
                      <a:pt x="16050" y="8"/>
                      <a:pt x="16049" y="7"/>
                      <a:pt x="16049" y="6"/>
                    </a:cubicBezTo>
                    <a:cubicBezTo>
                      <a:pt x="16049" y="5"/>
                      <a:pt x="16050" y="4"/>
                      <a:pt x="16051" y="4"/>
                    </a:cubicBezTo>
                    <a:close/>
                    <a:moveTo>
                      <a:pt x="16059" y="4"/>
                    </a:moveTo>
                    <a:lnTo>
                      <a:pt x="16059" y="4"/>
                    </a:lnTo>
                    <a:cubicBezTo>
                      <a:pt x="16060" y="4"/>
                      <a:pt x="16061" y="5"/>
                      <a:pt x="16061" y="6"/>
                    </a:cubicBezTo>
                    <a:cubicBezTo>
                      <a:pt x="16061" y="7"/>
                      <a:pt x="16060" y="8"/>
                      <a:pt x="16059" y="8"/>
                    </a:cubicBezTo>
                    <a:lnTo>
                      <a:pt x="16059" y="8"/>
                    </a:lnTo>
                    <a:cubicBezTo>
                      <a:pt x="16058" y="8"/>
                      <a:pt x="16057" y="7"/>
                      <a:pt x="16057" y="6"/>
                    </a:cubicBezTo>
                    <a:cubicBezTo>
                      <a:pt x="16057" y="5"/>
                      <a:pt x="16058" y="4"/>
                      <a:pt x="16059" y="4"/>
                    </a:cubicBezTo>
                    <a:close/>
                    <a:moveTo>
                      <a:pt x="16067" y="4"/>
                    </a:moveTo>
                    <a:lnTo>
                      <a:pt x="16067" y="4"/>
                    </a:lnTo>
                    <a:cubicBezTo>
                      <a:pt x="16068" y="4"/>
                      <a:pt x="16069" y="5"/>
                      <a:pt x="16069" y="6"/>
                    </a:cubicBezTo>
                    <a:cubicBezTo>
                      <a:pt x="16069" y="7"/>
                      <a:pt x="16068" y="8"/>
                      <a:pt x="16067" y="8"/>
                    </a:cubicBezTo>
                    <a:lnTo>
                      <a:pt x="16067" y="8"/>
                    </a:lnTo>
                    <a:cubicBezTo>
                      <a:pt x="16066" y="8"/>
                      <a:pt x="16065" y="7"/>
                      <a:pt x="16065" y="6"/>
                    </a:cubicBezTo>
                    <a:cubicBezTo>
                      <a:pt x="16065" y="5"/>
                      <a:pt x="16066" y="4"/>
                      <a:pt x="16067" y="4"/>
                    </a:cubicBezTo>
                    <a:close/>
                    <a:moveTo>
                      <a:pt x="16075" y="4"/>
                    </a:moveTo>
                    <a:lnTo>
                      <a:pt x="16075" y="4"/>
                    </a:lnTo>
                    <a:cubicBezTo>
                      <a:pt x="16076" y="4"/>
                      <a:pt x="16077" y="5"/>
                      <a:pt x="16077" y="6"/>
                    </a:cubicBezTo>
                    <a:cubicBezTo>
                      <a:pt x="16077" y="7"/>
                      <a:pt x="16076" y="8"/>
                      <a:pt x="16075" y="8"/>
                    </a:cubicBezTo>
                    <a:lnTo>
                      <a:pt x="16075" y="8"/>
                    </a:lnTo>
                    <a:cubicBezTo>
                      <a:pt x="16074" y="8"/>
                      <a:pt x="16073" y="7"/>
                      <a:pt x="16073" y="6"/>
                    </a:cubicBezTo>
                    <a:cubicBezTo>
                      <a:pt x="16073" y="5"/>
                      <a:pt x="16074" y="4"/>
                      <a:pt x="16075" y="4"/>
                    </a:cubicBezTo>
                    <a:close/>
                    <a:moveTo>
                      <a:pt x="16083" y="4"/>
                    </a:moveTo>
                    <a:lnTo>
                      <a:pt x="16083" y="4"/>
                    </a:lnTo>
                    <a:cubicBezTo>
                      <a:pt x="16084" y="4"/>
                      <a:pt x="16085" y="5"/>
                      <a:pt x="16085" y="6"/>
                    </a:cubicBezTo>
                    <a:cubicBezTo>
                      <a:pt x="16085" y="7"/>
                      <a:pt x="16084" y="8"/>
                      <a:pt x="16083" y="8"/>
                    </a:cubicBezTo>
                    <a:lnTo>
                      <a:pt x="16083" y="8"/>
                    </a:lnTo>
                    <a:cubicBezTo>
                      <a:pt x="16082" y="8"/>
                      <a:pt x="16081" y="7"/>
                      <a:pt x="16081" y="6"/>
                    </a:cubicBezTo>
                    <a:cubicBezTo>
                      <a:pt x="16081" y="5"/>
                      <a:pt x="16082" y="4"/>
                      <a:pt x="16083" y="4"/>
                    </a:cubicBezTo>
                    <a:close/>
                    <a:moveTo>
                      <a:pt x="16091" y="4"/>
                    </a:moveTo>
                    <a:lnTo>
                      <a:pt x="16091" y="4"/>
                    </a:lnTo>
                    <a:cubicBezTo>
                      <a:pt x="16092" y="4"/>
                      <a:pt x="16093" y="5"/>
                      <a:pt x="16093" y="6"/>
                    </a:cubicBezTo>
                    <a:cubicBezTo>
                      <a:pt x="16093" y="7"/>
                      <a:pt x="16092" y="8"/>
                      <a:pt x="16091" y="8"/>
                    </a:cubicBezTo>
                    <a:lnTo>
                      <a:pt x="16091" y="8"/>
                    </a:lnTo>
                    <a:cubicBezTo>
                      <a:pt x="16090" y="8"/>
                      <a:pt x="16089" y="7"/>
                      <a:pt x="16089" y="6"/>
                    </a:cubicBezTo>
                    <a:cubicBezTo>
                      <a:pt x="16089" y="5"/>
                      <a:pt x="16090" y="4"/>
                      <a:pt x="16091" y="4"/>
                    </a:cubicBezTo>
                    <a:close/>
                    <a:moveTo>
                      <a:pt x="16099" y="4"/>
                    </a:moveTo>
                    <a:lnTo>
                      <a:pt x="16099" y="4"/>
                    </a:lnTo>
                    <a:cubicBezTo>
                      <a:pt x="16100" y="4"/>
                      <a:pt x="16101" y="5"/>
                      <a:pt x="16101" y="6"/>
                    </a:cubicBezTo>
                    <a:cubicBezTo>
                      <a:pt x="16101" y="7"/>
                      <a:pt x="16100" y="8"/>
                      <a:pt x="16099" y="8"/>
                    </a:cubicBezTo>
                    <a:lnTo>
                      <a:pt x="16099" y="8"/>
                    </a:lnTo>
                    <a:cubicBezTo>
                      <a:pt x="16098" y="8"/>
                      <a:pt x="16097" y="7"/>
                      <a:pt x="16097" y="6"/>
                    </a:cubicBezTo>
                    <a:cubicBezTo>
                      <a:pt x="16097" y="5"/>
                      <a:pt x="16098" y="4"/>
                      <a:pt x="16099" y="4"/>
                    </a:cubicBezTo>
                    <a:close/>
                    <a:moveTo>
                      <a:pt x="16107" y="4"/>
                    </a:moveTo>
                    <a:lnTo>
                      <a:pt x="16107" y="4"/>
                    </a:lnTo>
                    <a:cubicBezTo>
                      <a:pt x="16108" y="4"/>
                      <a:pt x="16109" y="5"/>
                      <a:pt x="16109" y="6"/>
                    </a:cubicBezTo>
                    <a:cubicBezTo>
                      <a:pt x="16109" y="7"/>
                      <a:pt x="16108" y="8"/>
                      <a:pt x="16107" y="8"/>
                    </a:cubicBezTo>
                    <a:lnTo>
                      <a:pt x="16107" y="8"/>
                    </a:lnTo>
                    <a:cubicBezTo>
                      <a:pt x="16106" y="8"/>
                      <a:pt x="16105" y="7"/>
                      <a:pt x="16105" y="6"/>
                    </a:cubicBezTo>
                    <a:cubicBezTo>
                      <a:pt x="16105" y="5"/>
                      <a:pt x="16106" y="4"/>
                      <a:pt x="16107" y="4"/>
                    </a:cubicBezTo>
                    <a:close/>
                    <a:moveTo>
                      <a:pt x="16115" y="4"/>
                    </a:moveTo>
                    <a:lnTo>
                      <a:pt x="16115" y="4"/>
                    </a:lnTo>
                    <a:cubicBezTo>
                      <a:pt x="16116" y="4"/>
                      <a:pt x="16117" y="5"/>
                      <a:pt x="16117" y="6"/>
                    </a:cubicBezTo>
                    <a:cubicBezTo>
                      <a:pt x="16117" y="7"/>
                      <a:pt x="16116" y="8"/>
                      <a:pt x="16115" y="8"/>
                    </a:cubicBezTo>
                    <a:lnTo>
                      <a:pt x="16115" y="8"/>
                    </a:lnTo>
                    <a:cubicBezTo>
                      <a:pt x="16114" y="8"/>
                      <a:pt x="16113" y="7"/>
                      <a:pt x="16113" y="6"/>
                    </a:cubicBezTo>
                    <a:cubicBezTo>
                      <a:pt x="16113" y="5"/>
                      <a:pt x="16114" y="4"/>
                      <a:pt x="16115" y="4"/>
                    </a:cubicBezTo>
                    <a:close/>
                    <a:moveTo>
                      <a:pt x="16123" y="4"/>
                    </a:moveTo>
                    <a:lnTo>
                      <a:pt x="16123" y="4"/>
                    </a:lnTo>
                    <a:cubicBezTo>
                      <a:pt x="16124" y="4"/>
                      <a:pt x="16125" y="5"/>
                      <a:pt x="16125" y="6"/>
                    </a:cubicBezTo>
                    <a:cubicBezTo>
                      <a:pt x="16125" y="7"/>
                      <a:pt x="16124" y="8"/>
                      <a:pt x="16123" y="8"/>
                    </a:cubicBezTo>
                    <a:lnTo>
                      <a:pt x="16123" y="8"/>
                    </a:lnTo>
                    <a:cubicBezTo>
                      <a:pt x="16122" y="8"/>
                      <a:pt x="16121" y="7"/>
                      <a:pt x="16121" y="6"/>
                    </a:cubicBezTo>
                    <a:cubicBezTo>
                      <a:pt x="16121" y="5"/>
                      <a:pt x="16122" y="4"/>
                      <a:pt x="16123" y="4"/>
                    </a:cubicBezTo>
                    <a:close/>
                    <a:moveTo>
                      <a:pt x="16131" y="4"/>
                    </a:moveTo>
                    <a:lnTo>
                      <a:pt x="16131" y="4"/>
                    </a:lnTo>
                    <a:cubicBezTo>
                      <a:pt x="16132" y="4"/>
                      <a:pt x="16133" y="5"/>
                      <a:pt x="16133" y="6"/>
                    </a:cubicBezTo>
                    <a:cubicBezTo>
                      <a:pt x="16133" y="7"/>
                      <a:pt x="16132" y="8"/>
                      <a:pt x="16131" y="8"/>
                    </a:cubicBezTo>
                    <a:lnTo>
                      <a:pt x="16131" y="8"/>
                    </a:lnTo>
                    <a:cubicBezTo>
                      <a:pt x="16130" y="8"/>
                      <a:pt x="16129" y="7"/>
                      <a:pt x="16129" y="6"/>
                    </a:cubicBezTo>
                    <a:cubicBezTo>
                      <a:pt x="16129" y="5"/>
                      <a:pt x="16130" y="4"/>
                      <a:pt x="16131" y="4"/>
                    </a:cubicBezTo>
                    <a:close/>
                    <a:moveTo>
                      <a:pt x="16139" y="4"/>
                    </a:moveTo>
                    <a:lnTo>
                      <a:pt x="16139" y="4"/>
                    </a:lnTo>
                    <a:cubicBezTo>
                      <a:pt x="16140" y="4"/>
                      <a:pt x="16141" y="5"/>
                      <a:pt x="16141" y="6"/>
                    </a:cubicBezTo>
                    <a:cubicBezTo>
                      <a:pt x="16141" y="7"/>
                      <a:pt x="16140" y="8"/>
                      <a:pt x="16139" y="8"/>
                    </a:cubicBezTo>
                    <a:lnTo>
                      <a:pt x="16139" y="8"/>
                    </a:lnTo>
                    <a:cubicBezTo>
                      <a:pt x="16138" y="8"/>
                      <a:pt x="16137" y="7"/>
                      <a:pt x="16137" y="6"/>
                    </a:cubicBezTo>
                    <a:cubicBezTo>
                      <a:pt x="16137" y="5"/>
                      <a:pt x="16138" y="4"/>
                      <a:pt x="16139" y="4"/>
                    </a:cubicBezTo>
                    <a:close/>
                    <a:moveTo>
                      <a:pt x="16147" y="4"/>
                    </a:moveTo>
                    <a:lnTo>
                      <a:pt x="16147" y="4"/>
                    </a:lnTo>
                    <a:cubicBezTo>
                      <a:pt x="16148" y="4"/>
                      <a:pt x="16149" y="5"/>
                      <a:pt x="16149" y="6"/>
                    </a:cubicBezTo>
                    <a:cubicBezTo>
                      <a:pt x="16149" y="7"/>
                      <a:pt x="16148" y="8"/>
                      <a:pt x="16147" y="8"/>
                    </a:cubicBezTo>
                    <a:lnTo>
                      <a:pt x="16147" y="8"/>
                    </a:lnTo>
                    <a:cubicBezTo>
                      <a:pt x="16146" y="8"/>
                      <a:pt x="16145" y="7"/>
                      <a:pt x="16145" y="6"/>
                    </a:cubicBezTo>
                    <a:cubicBezTo>
                      <a:pt x="16145" y="5"/>
                      <a:pt x="16146" y="4"/>
                      <a:pt x="16147" y="4"/>
                    </a:cubicBezTo>
                    <a:close/>
                    <a:moveTo>
                      <a:pt x="16155" y="4"/>
                    </a:moveTo>
                    <a:lnTo>
                      <a:pt x="16155" y="4"/>
                    </a:lnTo>
                    <a:cubicBezTo>
                      <a:pt x="16156" y="4"/>
                      <a:pt x="16157" y="5"/>
                      <a:pt x="16157" y="6"/>
                    </a:cubicBezTo>
                    <a:cubicBezTo>
                      <a:pt x="16157" y="7"/>
                      <a:pt x="16156" y="8"/>
                      <a:pt x="16155" y="8"/>
                    </a:cubicBezTo>
                    <a:lnTo>
                      <a:pt x="16155" y="8"/>
                    </a:lnTo>
                    <a:cubicBezTo>
                      <a:pt x="16154" y="8"/>
                      <a:pt x="16153" y="7"/>
                      <a:pt x="16153" y="6"/>
                    </a:cubicBezTo>
                    <a:cubicBezTo>
                      <a:pt x="16153" y="5"/>
                      <a:pt x="16154" y="4"/>
                      <a:pt x="16155" y="4"/>
                    </a:cubicBezTo>
                    <a:close/>
                    <a:moveTo>
                      <a:pt x="16163" y="4"/>
                    </a:moveTo>
                    <a:lnTo>
                      <a:pt x="16163" y="4"/>
                    </a:lnTo>
                    <a:cubicBezTo>
                      <a:pt x="16164" y="4"/>
                      <a:pt x="16165" y="5"/>
                      <a:pt x="16165" y="6"/>
                    </a:cubicBezTo>
                    <a:cubicBezTo>
                      <a:pt x="16165" y="7"/>
                      <a:pt x="16164" y="8"/>
                      <a:pt x="16163" y="8"/>
                    </a:cubicBezTo>
                    <a:lnTo>
                      <a:pt x="16163" y="8"/>
                    </a:lnTo>
                    <a:cubicBezTo>
                      <a:pt x="16162" y="8"/>
                      <a:pt x="16161" y="7"/>
                      <a:pt x="16161" y="6"/>
                    </a:cubicBezTo>
                    <a:cubicBezTo>
                      <a:pt x="16161" y="5"/>
                      <a:pt x="16162" y="4"/>
                      <a:pt x="16163" y="4"/>
                    </a:cubicBezTo>
                    <a:close/>
                    <a:moveTo>
                      <a:pt x="16171" y="4"/>
                    </a:moveTo>
                    <a:lnTo>
                      <a:pt x="16171" y="4"/>
                    </a:lnTo>
                    <a:cubicBezTo>
                      <a:pt x="16172" y="4"/>
                      <a:pt x="16173" y="5"/>
                      <a:pt x="16173" y="6"/>
                    </a:cubicBezTo>
                    <a:cubicBezTo>
                      <a:pt x="16173" y="7"/>
                      <a:pt x="16172" y="8"/>
                      <a:pt x="16171" y="8"/>
                    </a:cubicBezTo>
                    <a:lnTo>
                      <a:pt x="16171" y="8"/>
                    </a:lnTo>
                    <a:cubicBezTo>
                      <a:pt x="16170" y="8"/>
                      <a:pt x="16169" y="7"/>
                      <a:pt x="16169" y="6"/>
                    </a:cubicBezTo>
                    <a:cubicBezTo>
                      <a:pt x="16169" y="5"/>
                      <a:pt x="16170" y="4"/>
                      <a:pt x="16171" y="4"/>
                    </a:cubicBezTo>
                    <a:close/>
                    <a:moveTo>
                      <a:pt x="16179" y="4"/>
                    </a:moveTo>
                    <a:lnTo>
                      <a:pt x="16179" y="4"/>
                    </a:lnTo>
                    <a:cubicBezTo>
                      <a:pt x="16180" y="4"/>
                      <a:pt x="16181" y="5"/>
                      <a:pt x="16181" y="6"/>
                    </a:cubicBezTo>
                    <a:cubicBezTo>
                      <a:pt x="16181" y="7"/>
                      <a:pt x="16180" y="8"/>
                      <a:pt x="16179" y="8"/>
                    </a:cubicBezTo>
                    <a:lnTo>
                      <a:pt x="16179" y="8"/>
                    </a:lnTo>
                    <a:cubicBezTo>
                      <a:pt x="16178" y="8"/>
                      <a:pt x="16177" y="7"/>
                      <a:pt x="16177" y="6"/>
                    </a:cubicBezTo>
                    <a:cubicBezTo>
                      <a:pt x="16177" y="5"/>
                      <a:pt x="16178" y="4"/>
                      <a:pt x="16179" y="4"/>
                    </a:cubicBezTo>
                    <a:close/>
                    <a:moveTo>
                      <a:pt x="16187" y="4"/>
                    </a:moveTo>
                    <a:lnTo>
                      <a:pt x="16187" y="4"/>
                    </a:lnTo>
                    <a:cubicBezTo>
                      <a:pt x="16188" y="4"/>
                      <a:pt x="16189" y="5"/>
                      <a:pt x="16189" y="6"/>
                    </a:cubicBezTo>
                    <a:cubicBezTo>
                      <a:pt x="16189" y="7"/>
                      <a:pt x="16188" y="8"/>
                      <a:pt x="16187" y="8"/>
                    </a:cubicBezTo>
                    <a:lnTo>
                      <a:pt x="16187" y="8"/>
                    </a:lnTo>
                    <a:cubicBezTo>
                      <a:pt x="16186" y="8"/>
                      <a:pt x="16185" y="7"/>
                      <a:pt x="16185" y="6"/>
                    </a:cubicBezTo>
                    <a:cubicBezTo>
                      <a:pt x="16185" y="5"/>
                      <a:pt x="16186" y="4"/>
                      <a:pt x="16187" y="4"/>
                    </a:cubicBezTo>
                    <a:close/>
                    <a:moveTo>
                      <a:pt x="16195" y="4"/>
                    </a:moveTo>
                    <a:lnTo>
                      <a:pt x="16195" y="4"/>
                    </a:lnTo>
                    <a:cubicBezTo>
                      <a:pt x="16196" y="4"/>
                      <a:pt x="16197" y="5"/>
                      <a:pt x="16197" y="6"/>
                    </a:cubicBezTo>
                    <a:cubicBezTo>
                      <a:pt x="16197" y="7"/>
                      <a:pt x="16196" y="8"/>
                      <a:pt x="16195" y="8"/>
                    </a:cubicBezTo>
                    <a:lnTo>
                      <a:pt x="16195" y="8"/>
                    </a:lnTo>
                    <a:cubicBezTo>
                      <a:pt x="16194" y="8"/>
                      <a:pt x="16193" y="7"/>
                      <a:pt x="16193" y="6"/>
                    </a:cubicBezTo>
                    <a:cubicBezTo>
                      <a:pt x="16193" y="5"/>
                      <a:pt x="16194" y="4"/>
                      <a:pt x="16195" y="4"/>
                    </a:cubicBezTo>
                    <a:close/>
                    <a:moveTo>
                      <a:pt x="16203" y="4"/>
                    </a:moveTo>
                    <a:lnTo>
                      <a:pt x="16203" y="4"/>
                    </a:lnTo>
                    <a:cubicBezTo>
                      <a:pt x="16204" y="4"/>
                      <a:pt x="16205" y="5"/>
                      <a:pt x="16205" y="6"/>
                    </a:cubicBezTo>
                    <a:cubicBezTo>
                      <a:pt x="16205" y="7"/>
                      <a:pt x="16204" y="8"/>
                      <a:pt x="16203" y="8"/>
                    </a:cubicBezTo>
                    <a:lnTo>
                      <a:pt x="16203" y="8"/>
                    </a:lnTo>
                    <a:cubicBezTo>
                      <a:pt x="16202" y="8"/>
                      <a:pt x="16201" y="7"/>
                      <a:pt x="16201" y="6"/>
                    </a:cubicBezTo>
                    <a:cubicBezTo>
                      <a:pt x="16201" y="5"/>
                      <a:pt x="16202" y="4"/>
                      <a:pt x="16203" y="4"/>
                    </a:cubicBezTo>
                    <a:close/>
                    <a:moveTo>
                      <a:pt x="16211" y="4"/>
                    </a:moveTo>
                    <a:lnTo>
                      <a:pt x="16211" y="4"/>
                    </a:lnTo>
                    <a:cubicBezTo>
                      <a:pt x="16212" y="4"/>
                      <a:pt x="16213" y="5"/>
                      <a:pt x="16213" y="6"/>
                    </a:cubicBezTo>
                    <a:cubicBezTo>
                      <a:pt x="16213" y="7"/>
                      <a:pt x="16212" y="8"/>
                      <a:pt x="16211" y="8"/>
                    </a:cubicBezTo>
                    <a:lnTo>
                      <a:pt x="16211" y="8"/>
                    </a:lnTo>
                    <a:cubicBezTo>
                      <a:pt x="16210" y="8"/>
                      <a:pt x="16209" y="7"/>
                      <a:pt x="16209" y="6"/>
                    </a:cubicBezTo>
                    <a:cubicBezTo>
                      <a:pt x="16209" y="5"/>
                      <a:pt x="16210" y="4"/>
                      <a:pt x="16211" y="4"/>
                    </a:cubicBezTo>
                    <a:close/>
                    <a:moveTo>
                      <a:pt x="16219" y="4"/>
                    </a:moveTo>
                    <a:lnTo>
                      <a:pt x="16219" y="4"/>
                    </a:lnTo>
                    <a:cubicBezTo>
                      <a:pt x="16220" y="4"/>
                      <a:pt x="16221" y="5"/>
                      <a:pt x="16221" y="6"/>
                    </a:cubicBezTo>
                    <a:cubicBezTo>
                      <a:pt x="16221" y="7"/>
                      <a:pt x="16220" y="8"/>
                      <a:pt x="16219" y="8"/>
                    </a:cubicBezTo>
                    <a:lnTo>
                      <a:pt x="16219" y="8"/>
                    </a:lnTo>
                    <a:cubicBezTo>
                      <a:pt x="16218" y="8"/>
                      <a:pt x="16217" y="7"/>
                      <a:pt x="16217" y="6"/>
                    </a:cubicBezTo>
                    <a:cubicBezTo>
                      <a:pt x="16217" y="5"/>
                      <a:pt x="16218" y="4"/>
                      <a:pt x="16219" y="4"/>
                    </a:cubicBezTo>
                    <a:close/>
                    <a:moveTo>
                      <a:pt x="16227" y="4"/>
                    </a:moveTo>
                    <a:lnTo>
                      <a:pt x="16227" y="4"/>
                    </a:lnTo>
                    <a:cubicBezTo>
                      <a:pt x="16228" y="4"/>
                      <a:pt x="16229" y="5"/>
                      <a:pt x="16229" y="6"/>
                    </a:cubicBezTo>
                    <a:cubicBezTo>
                      <a:pt x="16229" y="7"/>
                      <a:pt x="16228" y="8"/>
                      <a:pt x="16227" y="8"/>
                    </a:cubicBezTo>
                    <a:lnTo>
                      <a:pt x="16227" y="8"/>
                    </a:lnTo>
                    <a:cubicBezTo>
                      <a:pt x="16226" y="8"/>
                      <a:pt x="16225" y="7"/>
                      <a:pt x="16225" y="6"/>
                    </a:cubicBezTo>
                    <a:cubicBezTo>
                      <a:pt x="16225" y="5"/>
                      <a:pt x="16226" y="4"/>
                      <a:pt x="16227" y="4"/>
                    </a:cubicBezTo>
                    <a:close/>
                    <a:moveTo>
                      <a:pt x="16235" y="4"/>
                    </a:moveTo>
                    <a:lnTo>
                      <a:pt x="16235" y="4"/>
                    </a:lnTo>
                    <a:cubicBezTo>
                      <a:pt x="16236" y="4"/>
                      <a:pt x="16237" y="5"/>
                      <a:pt x="16237" y="6"/>
                    </a:cubicBezTo>
                    <a:cubicBezTo>
                      <a:pt x="16237" y="7"/>
                      <a:pt x="16236" y="8"/>
                      <a:pt x="16235" y="8"/>
                    </a:cubicBezTo>
                    <a:lnTo>
                      <a:pt x="16235" y="8"/>
                    </a:lnTo>
                    <a:cubicBezTo>
                      <a:pt x="16234" y="8"/>
                      <a:pt x="16233" y="7"/>
                      <a:pt x="16233" y="6"/>
                    </a:cubicBezTo>
                    <a:cubicBezTo>
                      <a:pt x="16233" y="5"/>
                      <a:pt x="16234" y="4"/>
                      <a:pt x="16235" y="4"/>
                    </a:cubicBezTo>
                    <a:close/>
                    <a:moveTo>
                      <a:pt x="16243" y="4"/>
                    </a:moveTo>
                    <a:lnTo>
                      <a:pt x="16243" y="4"/>
                    </a:lnTo>
                    <a:cubicBezTo>
                      <a:pt x="16244" y="4"/>
                      <a:pt x="16245" y="5"/>
                      <a:pt x="16245" y="6"/>
                    </a:cubicBezTo>
                    <a:cubicBezTo>
                      <a:pt x="16245" y="7"/>
                      <a:pt x="16244" y="8"/>
                      <a:pt x="16243" y="8"/>
                    </a:cubicBezTo>
                    <a:lnTo>
                      <a:pt x="16243" y="8"/>
                    </a:lnTo>
                    <a:cubicBezTo>
                      <a:pt x="16242" y="8"/>
                      <a:pt x="16241" y="7"/>
                      <a:pt x="16241" y="6"/>
                    </a:cubicBezTo>
                    <a:cubicBezTo>
                      <a:pt x="16241" y="5"/>
                      <a:pt x="16242" y="4"/>
                      <a:pt x="16243" y="4"/>
                    </a:cubicBezTo>
                    <a:close/>
                    <a:moveTo>
                      <a:pt x="16251" y="4"/>
                    </a:moveTo>
                    <a:lnTo>
                      <a:pt x="16251" y="4"/>
                    </a:lnTo>
                    <a:cubicBezTo>
                      <a:pt x="16252" y="4"/>
                      <a:pt x="16253" y="5"/>
                      <a:pt x="16253" y="6"/>
                    </a:cubicBezTo>
                    <a:cubicBezTo>
                      <a:pt x="16253" y="7"/>
                      <a:pt x="16252" y="8"/>
                      <a:pt x="16251" y="8"/>
                    </a:cubicBezTo>
                    <a:lnTo>
                      <a:pt x="16251" y="8"/>
                    </a:lnTo>
                    <a:cubicBezTo>
                      <a:pt x="16250" y="8"/>
                      <a:pt x="16249" y="7"/>
                      <a:pt x="16249" y="6"/>
                    </a:cubicBezTo>
                    <a:cubicBezTo>
                      <a:pt x="16249" y="5"/>
                      <a:pt x="16250" y="4"/>
                      <a:pt x="16251" y="4"/>
                    </a:cubicBezTo>
                    <a:close/>
                    <a:moveTo>
                      <a:pt x="16259" y="4"/>
                    </a:moveTo>
                    <a:lnTo>
                      <a:pt x="16259" y="4"/>
                    </a:lnTo>
                    <a:cubicBezTo>
                      <a:pt x="16260" y="4"/>
                      <a:pt x="16261" y="5"/>
                      <a:pt x="16261" y="6"/>
                    </a:cubicBezTo>
                    <a:cubicBezTo>
                      <a:pt x="16261" y="7"/>
                      <a:pt x="16260" y="8"/>
                      <a:pt x="16259" y="8"/>
                    </a:cubicBezTo>
                    <a:lnTo>
                      <a:pt x="16259" y="8"/>
                    </a:lnTo>
                    <a:cubicBezTo>
                      <a:pt x="16258" y="8"/>
                      <a:pt x="16257" y="7"/>
                      <a:pt x="16257" y="6"/>
                    </a:cubicBezTo>
                    <a:cubicBezTo>
                      <a:pt x="16257" y="5"/>
                      <a:pt x="16258" y="4"/>
                      <a:pt x="16259" y="4"/>
                    </a:cubicBezTo>
                    <a:close/>
                    <a:moveTo>
                      <a:pt x="16267" y="4"/>
                    </a:moveTo>
                    <a:lnTo>
                      <a:pt x="16267" y="4"/>
                    </a:lnTo>
                    <a:cubicBezTo>
                      <a:pt x="16268" y="4"/>
                      <a:pt x="16269" y="5"/>
                      <a:pt x="16269" y="6"/>
                    </a:cubicBezTo>
                    <a:cubicBezTo>
                      <a:pt x="16269" y="7"/>
                      <a:pt x="16268" y="8"/>
                      <a:pt x="16267" y="8"/>
                    </a:cubicBezTo>
                    <a:lnTo>
                      <a:pt x="16267" y="8"/>
                    </a:lnTo>
                    <a:cubicBezTo>
                      <a:pt x="16266" y="8"/>
                      <a:pt x="16265" y="7"/>
                      <a:pt x="16265" y="6"/>
                    </a:cubicBezTo>
                    <a:cubicBezTo>
                      <a:pt x="16265" y="5"/>
                      <a:pt x="16266" y="4"/>
                      <a:pt x="16267" y="4"/>
                    </a:cubicBezTo>
                    <a:close/>
                    <a:moveTo>
                      <a:pt x="16275" y="4"/>
                    </a:moveTo>
                    <a:lnTo>
                      <a:pt x="16275" y="4"/>
                    </a:lnTo>
                    <a:cubicBezTo>
                      <a:pt x="16276" y="4"/>
                      <a:pt x="16277" y="5"/>
                      <a:pt x="16277" y="6"/>
                    </a:cubicBezTo>
                    <a:cubicBezTo>
                      <a:pt x="16277" y="7"/>
                      <a:pt x="16276" y="8"/>
                      <a:pt x="16275" y="8"/>
                    </a:cubicBezTo>
                    <a:lnTo>
                      <a:pt x="16275" y="8"/>
                    </a:lnTo>
                    <a:cubicBezTo>
                      <a:pt x="16274" y="8"/>
                      <a:pt x="16273" y="7"/>
                      <a:pt x="16273" y="6"/>
                    </a:cubicBezTo>
                    <a:cubicBezTo>
                      <a:pt x="16273" y="5"/>
                      <a:pt x="16274" y="4"/>
                      <a:pt x="16275" y="4"/>
                    </a:cubicBezTo>
                    <a:close/>
                    <a:moveTo>
                      <a:pt x="16283" y="4"/>
                    </a:moveTo>
                    <a:lnTo>
                      <a:pt x="16283" y="4"/>
                    </a:lnTo>
                    <a:cubicBezTo>
                      <a:pt x="16284" y="4"/>
                      <a:pt x="16285" y="5"/>
                      <a:pt x="16285" y="6"/>
                    </a:cubicBezTo>
                    <a:cubicBezTo>
                      <a:pt x="16285" y="7"/>
                      <a:pt x="16284" y="8"/>
                      <a:pt x="16283" y="8"/>
                    </a:cubicBezTo>
                    <a:lnTo>
                      <a:pt x="16283" y="8"/>
                    </a:lnTo>
                    <a:cubicBezTo>
                      <a:pt x="16282" y="8"/>
                      <a:pt x="16281" y="7"/>
                      <a:pt x="16281" y="6"/>
                    </a:cubicBezTo>
                    <a:cubicBezTo>
                      <a:pt x="16281" y="5"/>
                      <a:pt x="16282" y="4"/>
                      <a:pt x="16283" y="4"/>
                    </a:cubicBezTo>
                    <a:close/>
                    <a:moveTo>
                      <a:pt x="16291" y="4"/>
                    </a:moveTo>
                    <a:lnTo>
                      <a:pt x="16291" y="4"/>
                    </a:lnTo>
                    <a:cubicBezTo>
                      <a:pt x="16292" y="4"/>
                      <a:pt x="16293" y="5"/>
                      <a:pt x="16293" y="6"/>
                    </a:cubicBezTo>
                    <a:cubicBezTo>
                      <a:pt x="16293" y="7"/>
                      <a:pt x="16292" y="8"/>
                      <a:pt x="16291" y="8"/>
                    </a:cubicBezTo>
                    <a:lnTo>
                      <a:pt x="16291" y="8"/>
                    </a:lnTo>
                    <a:cubicBezTo>
                      <a:pt x="16290" y="8"/>
                      <a:pt x="16289" y="7"/>
                      <a:pt x="16289" y="6"/>
                    </a:cubicBezTo>
                    <a:cubicBezTo>
                      <a:pt x="16289" y="5"/>
                      <a:pt x="16290" y="4"/>
                      <a:pt x="16291" y="4"/>
                    </a:cubicBezTo>
                    <a:close/>
                    <a:moveTo>
                      <a:pt x="16299" y="4"/>
                    </a:moveTo>
                    <a:lnTo>
                      <a:pt x="16299" y="4"/>
                    </a:lnTo>
                    <a:cubicBezTo>
                      <a:pt x="16300" y="4"/>
                      <a:pt x="16301" y="5"/>
                      <a:pt x="16301" y="6"/>
                    </a:cubicBezTo>
                    <a:cubicBezTo>
                      <a:pt x="16301" y="7"/>
                      <a:pt x="16300" y="8"/>
                      <a:pt x="16299" y="8"/>
                    </a:cubicBezTo>
                    <a:lnTo>
                      <a:pt x="16299" y="8"/>
                    </a:lnTo>
                    <a:cubicBezTo>
                      <a:pt x="16298" y="8"/>
                      <a:pt x="16297" y="7"/>
                      <a:pt x="16297" y="6"/>
                    </a:cubicBezTo>
                    <a:cubicBezTo>
                      <a:pt x="16297" y="5"/>
                      <a:pt x="16298" y="4"/>
                      <a:pt x="16299" y="4"/>
                    </a:cubicBezTo>
                    <a:close/>
                    <a:moveTo>
                      <a:pt x="16307" y="4"/>
                    </a:moveTo>
                    <a:lnTo>
                      <a:pt x="16307" y="4"/>
                    </a:lnTo>
                    <a:cubicBezTo>
                      <a:pt x="16308" y="4"/>
                      <a:pt x="16309" y="5"/>
                      <a:pt x="16309" y="6"/>
                    </a:cubicBezTo>
                    <a:cubicBezTo>
                      <a:pt x="16309" y="7"/>
                      <a:pt x="16308" y="8"/>
                      <a:pt x="16307" y="8"/>
                    </a:cubicBezTo>
                    <a:lnTo>
                      <a:pt x="16307" y="8"/>
                    </a:lnTo>
                    <a:cubicBezTo>
                      <a:pt x="16306" y="8"/>
                      <a:pt x="16305" y="7"/>
                      <a:pt x="16305" y="6"/>
                    </a:cubicBezTo>
                    <a:cubicBezTo>
                      <a:pt x="16305" y="5"/>
                      <a:pt x="16306" y="4"/>
                      <a:pt x="16307" y="4"/>
                    </a:cubicBezTo>
                    <a:close/>
                    <a:moveTo>
                      <a:pt x="16315" y="4"/>
                    </a:moveTo>
                    <a:lnTo>
                      <a:pt x="16315" y="4"/>
                    </a:lnTo>
                    <a:cubicBezTo>
                      <a:pt x="16316" y="4"/>
                      <a:pt x="16317" y="5"/>
                      <a:pt x="16317" y="6"/>
                    </a:cubicBezTo>
                    <a:cubicBezTo>
                      <a:pt x="16317" y="7"/>
                      <a:pt x="16316" y="8"/>
                      <a:pt x="16315" y="8"/>
                    </a:cubicBezTo>
                    <a:lnTo>
                      <a:pt x="16315" y="8"/>
                    </a:lnTo>
                    <a:cubicBezTo>
                      <a:pt x="16314" y="8"/>
                      <a:pt x="16313" y="7"/>
                      <a:pt x="16313" y="6"/>
                    </a:cubicBezTo>
                    <a:cubicBezTo>
                      <a:pt x="16313" y="5"/>
                      <a:pt x="16314" y="4"/>
                      <a:pt x="16315" y="4"/>
                    </a:cubicBezTo>
                    <a:close/>
                    <a:moveTo>
                      <a:pt x="16323" y="4"/>
                    </a:moveTo>
                    <a:lnTo>
                      <a:pt x="16323" y="4"/>
                    </a:lnTo>
                    <a:cubicBezTo>
                      <a:pt x="16324" y="4"/>
                      <a:pt x="16325" y="5"/>
                      <a:pt x="16325" y="6"/>
                    </a:cubicBezTo>
                    <a:cubicBezTo>
                      <a:pt x="16325" y="7"/>
                      <a:pt x="16324" y="8"/>
                      <a:pt x="16323" y="8"/>
                    </a:cubicBezTo>
                    <a:lnTo>
                      <a:pt x="16323" y="8"/>
                    </a:lnTo>
                    <a:cubicBezTo>
                      <a:pt x="16322" y="8"/>
                      <a:pt x="16321" y="7"/>
                      <a:pt x="16321" y="6"/>
                    </a:cubicBezTo>
                    <a:cubicBezTo>
                      <a:pt x="16321" y="5"/>
                      <a:pt x="16322" y="4"/>
                      <a:pt x="16323" y="4"/>
                    </a:cubicBezTo>
                    <a:close/>
                    <a:moveTo>
                      <a:pt x="16331" y="4"/>
                    </a:moveTo>
                    <a:lnTo>
                      <a:pt x="16331" y="4"/>
                    </a:lnTo>
                    <a:cubicBezTo>
                      <a:pt x="16332" y="4"/>
                      <a:pt x="16333" y="5"/>
                      <a:pt x="16333" y="6"/>
                    </a:cubicBezTo>
                    <a:cubicBezTo>
                      <a:pt x="16333" y="7"/>
                      <a:pt x="16332" y="8"/>
                      <a:pt x="16331" y="8"/>
                    </a:cubicBezTo>
                    <a:lnTo>
                      <a:pt x="16331" y="8"/>
                    </a:lnTo>
                    <a:cubicBezTo>
                      <a:pt x="16330" y="8"/>
                      <a:pt x="16329" y="7"/>
                      <a:pt x="16329" y="6"/>
                    </a:cubicBezTo>
                    <a:cubicBezTo>
                      <a:pt x="16329" y="5"/>
                      <a:pt x="16330" y="4"/>
                      <a:pt x="16331" y="4"/>
                    </a:cubicBezTo>
                    <a:close/>
                    <a:moveTo>
                      <a:pt x="16339" y="4"/>
                    </a:moveTo>
                    <a:lnTo>
                      <a:pt x="16339" y="4"/>
                    </a:lnTo>
                    <a:cubicBezTo>
                      <a:pt x="16340" y="4"/>
                      <a:pt x="16341" y="5"/>
                      <a:pt x="16341" y="6"/>
                    </a:cubicBezTo>
                    <a:cubicBezTo>
                      <a:pt x="16341" y="7"/>
                      <a:pt x="16340" y="8"/>
                      <a:pt x="16339" y="8"/>
                    </a:cubicBezTo>
                    <a:lnTo>
                      <a:pt x="16339" y="8"/>
                    </a:lnTo>
                    <a:cubicBezTo>
                      <a:pt x="16338" y="8"/>
                      <a:pt x="16337" y="7"/>
                      <a:pt x="16337" y="6"/>
                    </a:cubicBezTo>
                    <a:cubicBezTo>
                      <a:pt x="16337" y="5"/>
                      <a:pt x="16338" y="4"/>
                      <a:pt x="16339" y="4"/>
                    </a:cubicBezTo>
                    <a:close/>
                    <a:moveTo>
                      <a:pt x="16347" y="4"/>
                    </a:moveTo>
                    <a:lnTo>
                      <a:pt x="16347" y="4"/>
                    </a:lnTo>
                    <a:cubicBezTo>
                      <a:pt x="16348" y="4"/>
                      <a:pt x="16349" y="5"/>
                      <a:pt x="16349" y="6"/>
                    </a:cubicBezTo>
                    <a:cubicBezTo>
                      <a:pt x="16349" y="7"/>
                      <a:pt x="16348" y="8"/>
                      <a:pt x="16347" y="8"/>
                    </a:cubicBezTo>
                    <a:lnTo>
                      <a:pt x="16347" y="8"/>
                    </a:lnTo>
                    <a:cubicBezTo>
                      <a:pt x="16346" y="8"/>
                      <a:pt x="16345" y="7"/>
                      <a:pt x="16345" y="6"/>
                    </a:cubicBezTo>
                    <a:cubicBezTo>
                      <a:pt x="16345" y="5"/>
                      <a:pt x="16346" y="4"/>
                      <a:pt x="16347" y="4"/>
                    </a:cubicBezTo>
                    <a:close/>
                    <a:moveTo>
                      <a:pt x="16355" y="4"/>
                    </a:moveTo>
                    <a:lnTo>
                      <a:pt x="16355" y="4"/>
                    </a:lnTo>
                    <a:cubicBezTo>
                      <a:pt x="16356" y="4"/>
                      <a:pt x="16357" y="5"/>
                      <a:pt x="16357" y="6"/>
                    </a:cubicBezTo>
                    <a:cubicBezTo>
                      <a:pt x="16357" y="7"/>
                      <a:pt x="16356" y="8"/>
                      <a:pt x="16355" y="8"/>
                    </a:cubicBezTo>
                    <a:lnTo>
                      <a:pt x="16355" y="8"/>
                    </a:lnTo>
                    <a:cubicBezTo>
                      <a:pt x="16354" y="8"/>
                      <a:pt x="16353" y="7"/>
                      <a:pt x="16353" y="6"/>
                    </a:cubicBezTo>
                    <a:cubicBezTo>
                      <a:pt x="16353" y="5"/>
                      <a:pt x="16354" y="4"/>
                      <a:pt x="16355" y="4"/>
                    </a:cubicBezTo>
                    <a:close/>
                    <a:moveTo>
                      <a:pt x="16363" y="4"/>
                    </a:moveTo>
                    <a:lnTo>
                      <a:pt x="16363" y="4"/>
                    </a:lnTo>
                    <a:cubicBezTo>
                      <a:pt x="16364" y="4"/>
                      <a:pt x="16365" y="5"/>
                      <a:pt x="16365" y="6"/>
                    </a:cubicBezTo>
                    <a:cubicBezTo>
                      <a:pt x="16365" y="7"/>
                      <a:pt x="16364" y="8"/>
                      <a:pt x="16363" y="8"/>
                    </a:cubicBezTo>
                    <a:lnTo>
                      <a:pt x="16363" y="8"/>
                    </a:lnTo>
                    <a:cubicBezTo>
                      <a:pt x="16362" y="8"/>
                      <a:pt x="16361" y="7"/>
                      <a:pt x="16361" y="6"/>
                    </a:cubicBezTo>
                    <a:cubicBezTo>
                      <a:pt x="16361" y="5"/>
                      <a:pt x="16362" y="4"/>
                      <a:pt x="16363" y="4"/>
                    </a:cubicBezTo>
                    <a:close/>
                    <a:moveTo>
                      <a:pt x="16371" y="4"/>
                    </a:moveTo>
                    <a:lnTo>
                      <a:pt x="16371" y="4"/>
                    </a:lnTo>
                    <a:cubicBezTo>
                      <a:pt x="16372" y="4"/>
                      <a:pt x="16373" y="5"/>
                      <a:pt x="16373" y="6"/>
                    </a:cubicBezTo>
                    <a:cubicBezTo>
                      <a:pt x="16373" y="7"/>
                      <a:pt x="16372" y="8"/>
                      <a:pt x="16371" y="8"/>
                    </a:cubicBezTo>
                    <a:lnTo>
                      <a:pt x="16371" y="8"/>
                    </a:lnTo>
                    <a:cubicBezTo>
                      <a:pt x="16370" y="8"/>
                      <a:pt x="16369" y="7"/>
                      <a:pt x="16369" y="6"/>
                    </a:cubicBezTo>
                    <a:cubicBezTo>
                      <a:pt x="16369" y="5"/>
                      <a:pt x="16370" y="4"/>
                      <a:pt x="16371" y="4"/>
                    </a:cubicBezTo>
                    <a:close/>
                    <a:moveTo>
                      <a:pt x="16379" y="4"/>
                    </a:moveTo>
                    <a:lnTo>
                      <a:pt x="16379" y="4"/>
                    </a:lnTo>
                    <a:cubicBezTo>
                      <a:pt x="16380" y="4"/>
                      <a:pt x="16381" y="5"/>
                      <a:pt x="16381" y="6"/>
                    </a:cubicBezTo>
                    <a:cubicBezTo>
                      <a:pt x="16381" y="7"/>
                      <a:pt x="16380" y="8"/>
                      <a:pt x="16379" y="8"/>
                    </a:cubicBezTo>
                    <a:lnTo>
                      <a:pt x="16379" y="8"/>
                    </a:lnTo>
                    <a:cubicBezTo>
                      <a:pt x="16378" y="8"/>
                      <a:pt x="16377" y="7"/>
                      <a:pt x="16377" y="6"/>
                    </a:cubicBezTo>
                    <a:cubicBezTo>
                      <a:pt x="16377" y="5"/>
                      <a:pt x="16378" y="4"/>
                      <a:pt x="16379" y="4"/>
                    </a:cubicBezTo>
                    <a:close/>
                    <a:moveTo>
                      <a:pt x="16387" y="4"/>
                    </a:moveTo>
                    <a:lnTo>
                      <a:pt x="16387" y="4"/>
                    </a:lnTo>
                    <a:cubicBezTo>
                      <a:pt x="16388" y="4"/>
                      <a:pt x="16389" y="5"/>
                      <a:pt x="16389" y="6"/>
                    </a:cubicBezTo>
                    <a:cubicBezTo>
                      <a:pt x="16389" y="7"/>
                      <a:pt x="16388" y="8"/>
                      <a:pt x="16387" y="8"/>
                    </a:cubicBezTo>
                    <a:lnTo>
                      <a:pt x="16387" y="8"/>
                    </a:lnTo>
                    <a:cubicBezTo>
                      <a:pt x="16386" y="8"/>
                      <a:pt x="16385" y="7"/>
                      <a:pt x="16385" y="6"/>
                    </a:cubicBezTo>
                    <a:cubicBezTo>
                      <a:pt x="16385" y="5"/>
                      <a:pt x="16386" y="4"/>
                      <a:pt x="16387" y="4"/>
                    </a:cubicBezTo>
                    <a:close/>
                    <a:moveTo>
                      <a:pt x="16395" y="4"/>
                    </a:moveTo>
                    <a:lnTo>
                      <a:pt x="16395" y="4"/>
                    </a:lnTo>
                    <a:cubicBezTo>
                      <a:pt x="16396" y="4"/>
                      <a:pt x="16397" y="5"/>
                      <a:pt x="16397" y="6"/>
                    </a:cubicBezTo>
                    <a:cubicBezTo>
                      <a:pt x="16397" y="7"/>
                      <a:pt x="16396" y="8"/>
                      <a:pt x="16395" y="8"/>
                    </a:cubicBezTo>
                    <a:lnTo>
                      <a:pt x="16395" y="8"/>
                    </a:lnTo>
                    <a:cubicBezTo>
                      <a:pt x="16394" y="8"/>
                      <a:pt x="16393" y="7"/>
                      <a:pt x="16393" y="6"/>
                    </a:cubicBezTo>
                    <a:cubicBezTo>
                      <a:pt x="16393" y="5"/>
                      <a:pt x="16394" y="4"/>
                      <a:pt x="16395" y="4"/>
                    </a:cubicBezTo>
                    <a:close/>
                    <a:moveTo>
                      <a:pt x="16403" y="4"/>
                    </a:moveTo>
                    <a:lnTo>
                      <a:pt x="16403" y="4"/>
                    </a:lnTo>
                    <a:cubicBezTo>
                      <a:pt x="16404" y="4"/>
                      <a:pt x="16405" y="5"/>
                      <a:pt x="16405" y="6"/>
                    </a:cubicBezTo>
                    <a:cubicBezTo>
                      <a:pt x="16405" y="7"/>
                      <a:pt x="16404" y="8"/>
                      <a:pt x="16403" y="8"/>
                    </a:cubicBezTo>
                    <a:lnTo>
                      <a:pt x="16403" y="8"/>
                    </a:lnTo>
                    <a:cubicBezTo>
                      <a:pt x="16402" y="8"/>
                      <a:pt x="16401" y="7"/>
                      <a:pt x="16401" y="6"/>
                    </a:cubicBezTo>
                    <a:cubicBezTo>
                      <a:pt x="16401" y="5"/>
                      <a:pt x="16402" y="4"/>
                      <a:pt x="16403" y="4"/>
                    </a:cubicBezTo>
                    <a:close/>
                    <a:moveTo>
                      <a:pt x="16411" y="4"/>
                    </a:moveTo>
                    <a:lnTo>
                      <a:pt x="16411" y="4"/>
                    </a:lnTo>
                    <a:cubicBezTo>
                      <a:pt x="16412" y="4"/>
                      <a:pt x="16413" y="5"/>
                      <a:pt x="16413" y="6"/>
                    </a:cubicBezTo>
                    <a:cubicBezTo>
                      <a:pt x="16413" y="7"/>
                      <a:pt x="16412" y="8"/>
                      <a:pt x="16411" y="8"/>
                    </a:cubicBezTo>
                    <a:lnTo>
                      <a:pt x="16411" y="8"/>
                    </a:lnTo>
                    <a:cubicBezTo>
                      <a:pt x="16410" y="8"/>
                      <a:pt x="16409" y="7"/>
                      <a:pt x="16409" y="6"/>
                    </a:cubicBezTo>
                    <a:cubicBezTo>
                      <a:pt x="16409" y="5"/>
                      <a:pt x="16410" y="4"/>
                      <a:pt x="16411" y="4"/>
                    </a:cubicBezTo>
                    <a:close/>
                    <a:moveTo>
                      <a:pt x="16419" y="4"/>
                    </a:moveTo>
                    <a:lnTo>
                      <a:pt x="16419" y="4"/>
                    </a:lnTo>
                    <a:cubicBezTo>
                      <a:pt x="16420" y="4"/>
                      <a:pt x="16421" y="5"/>
                      <a:pt x="16421" y="6"/>
                    </a:cubicBezTo>
                    <a:cubicBezTo>
                      <a:pt x="16421" y="7"/>
                      <a:pt x="16420" y="8"/>
                      <a:pt x="16419" y="8"/>
                    </a:cubicBezTo>
                    <a:lnTo>
                      <a:pt x="16419" y="8"/>
                    </a:lnTo>
                    <a:cubicBezTo>
                      <a:pt x="16418" y="8"/>
                      <a:pt x="16417" y="7"/>
                      <a:pt x="16417" y="6"/>
                    </a:cubicBezTo>
                    <a:cubicBezTo>
                      <a:pt x="16417" y="5"/>
                      <a:pt x="16418" y="4"/>
                      <a:pt x="16419" y="4"/>
                    </a:cubicBezTo>
                    <a:close/>
                    <a:moveTo>
                      <a:pt x="16427" y="4"/>
                    </a:moveTo>
                    <a:lnTo>
                      <a:pt x="16427" y="4"/>
                    </a:lnTo>
                    <a:cubicBezTo>
                      <a:pt x="16428" y="4"/>
                      <a:pt x="16429" y="5"/>
                      <a:pt x="16429" y="6"/>
                    </a:cubicBezTo>
                    <a:cubicBezTo>
                      <a:pt x="16429" y="7"/>
                      <a:pt x="16428" y="8"/>
                      <a:pt x="16427" y="8"/>
                    </a:cubicBezTo>
                    <a:lnTo>
                      <a:pt x="16427" y="8"/>
                    </a:lnTo>
                    <a:cubicBezTo>
                      <a:pt x="16426" y="8"/>
                      <a:pt x="16425" y="7"/>
                      <a:pt x="16425" y="6"/>
                    </a:cubicBezTo>
                    <a:cubicBezTo>
                      <a:pt x="16425" y="5"/>
                      <a:pt x="16426" y="4"/>
                      <a:pt x="16427" y="4"/>
                    </a:cubicBezTo>
                    <a:close/>
                    <a:moveTo>
                      <a:pt x="16435" y="4"/>
                    </a:moveTo>
                    <a:lnTo>
                      <a:pt x="16435" y="4"/>
                    </a:lnTo>
                    <a:cubicBezTo>
                      <a:pt x="16436" y="4"/>
                      <a:pt x="16437" y="5"/>
                      <a:pt x="16437" y="6"/>
                    </a:cubicBezTo>
                    <a:cubicBezTo>
                      <a:pt x="16437" y="7"/>
                      <a:pt x="16436" y="8"/>
                      <a:pt x="16435" y="8"/>
                    </a:cubicBezTo>
                    <a:lnTo>
                      <a:pt x="16435" y="8"/>
                    </a:lnTo>
                    <a:cubicBezTo>
                      <a:pt x="16434" y="8"/>
                      <a:pt x="16433" y="7"/>
                      <a:pt x="16433" y="6"/>
                    </a:cubicBezTo>
                    <a:cubicBezTo>
                      <a:pt x="16433" y="5"/>
                      <a:pt x="16434" y="4"/>
                      <a:pt x="16435" y="4"/>
                    </a:cubicBezTo>
                    <a:close/>
                    <a:moveTo>
                      <a:pt x="16443" y="4"/>
                    </a:moveTo>
                    <a:lnTo>
                      <a:pt x="16443" y="4"/>
                    </a:lnTo>
                    <a:cubicBezTo>
                      <a:pt x="16444" y="4"/>
                      <a:pt x="16445" y="5"/>
                      <a:pt x="16445" y="6"/>
                    </a:cubicBezTo>
                    <a:cubicBezTo>
                      <a:pt x="16445" y="7"/>
                      <a:pt x="16444" y="8"/>
                      <a:pt x="16443" y="8"/>
                    </a:cubicBezTo>
                    <a:lnTo>
                      <a:pt x="16443" y="8"/>
                    </a:lnTo>
                    <a:cubicBezTo>
                      <a:pt x="16442" y="8"/>
                      <a:pt x="16441" y="7"/>
                      <a:pt x="16441" y="6"/>
                    </a:cubicBezTo>
                    <a:cubicBezTo>
                      <a:pt x="16441" y="5"/>
                      <a:pt x="16442" y="4"/>
                      <a:pt x="16443" y="4"/>
                    </a:cubicBezTo>
                    <a:close/>
                    <a:moveTo>
                      <a:pt x="16451" y="4"/>
                    </a:moveTo>
                    <a:lnTo>
                      <a:pt x="16451" y="4"/>
                    </a:lnTo>
                    <a:cubicBezTo>
                      <a:pt x="16452" y="4"/>
                      <a:pt x="16453" y="5"/>
                      <a:pt x="16453" y="6"/>
                    </a:cubicBezTo>
                    <a:cubicBezTo>
                      <a:pt x="16453" y="7"/>
                      <a:pt x="16452" y="8"/>
                      <a:pt x="16451" y="8"/>
                    </a:cubicBezTo>
                    <a:lnTo>
                      <a:pt x="16451" y="8"/>
                    </a:lnTo>
                    <a:cubicBezTo>
                      <a:pt x="16450" y="8"/>
                      <a:pt x="16449" y="7"/>
                      <a:pt x="16449" y="6"/>
                    </a:cubicBezTo>
                    <a:cubicBezTo>
                      <a:pt x="16449" y="5"/>
                      <a:pt x="16450" y="4"/>
                      <a:pt x="16451" y="4"/>
                    </a:cubicBezTo>
                    <a:close/>
                    <a:moveTo>
                      <a:pt x="16459" y="4"/>
                    </a:moveTo>
                    <a:lnTo>
                      <a:pt x="16459" y="4"/>
                    </a:lnTo>
                    <a:cubicBezTo>
                      <a:pt x="16460" y="4"/>
                      <a:pt x="16461" y="5"/>
                      <a:pt x="16461" y="6"/>
                    </a:cubicBezTo>
                    <a:cubicBezTo>
                      <a:pt x="16461" y="7"/>
                      <a:pt x="16460" y="8"/>
                      <a:pt x="16459" y="8"/>
                    </a:cubicBezTo>
                    <a:lnTo>
                      <a:pt x="16459" y="8"/>
                    </a:lnTo>
                    <a:cubicBezTo>
                      <a:pt x="16458" y="8"/>
                      <a:pt x="16457" y="7"/>
                      <a:pt x="16457" y="6"/>
                    </a:cubicBezTo>
                    <a:cubicBezTo>
                      <a:pt x="16457" y="5"/>
                      <a:pt x="16458" y="4"/>
                      <a:pt x="16459" y="4"/>
                    </a:cubicBezTo>
                    <a:close/>
                    <a:moveTo>
                      <a:pt x="16467" y="4"/>
                    </a:moveTo>
                    <a:lnTo>
                      <a:pt x="16467" y="4"/>
                    </a:lnTo>
                    <a:cubicBezTo>
                      <a:pt x="16468" y="4"/>
                      <a:pt x="16469" y="5"/>
                      <a:pt x="16469" y="6"/>
                    </a:cubicBezTo>
                    <a:cubicBezTo>
                      <a:pt x="16469" y="7"/>
                      <a:pt x="16468" y="8"/>
                      <a:pt x="16467" y="8"/>
                    </a:cubicBezTo>
                    <a:lnTo>
                      <a:pt x="16467" y="8"/>
                    </a:lnTo>
                    <a:cubicBezTo>
                      <a:pt x="16466" y="8"/>
                      <a:pt x="16465" y="7"/>
                      <a:pt x="16465" y="6"/>
                    </a:cubicBezTo>
                    <a:cubicBezTo>
                      <a:pt x="16465" y="5"/>
                      <a:pt x="16466" y="4"/>
                      <a:pt x="16467" y="4"/>
                    </a:cubicBezTo>
                    <a:close/>
                    <a:moveTo>
                      <a:pt x="16475" y="4"/>
                    </a:moveTo>
                    <a:lnTo>
                      <a:pt x="16475" y="4"/>
                    </a:lnTo>
                    <a:cubicBezTo>
                      <a:pt x="16476" y="4"/>
                      <a:pt x="16477" y="5"/>
                      <a:pt x="16477" y="6"/>
                    </a:cubicBezTo>
                    <a:cubicBezTo>
                      <a:pt x="16477" y="7"/>
                      <a:pt x="16476" y="8"/>
                      <a:pt x="16475" y="8"/>
                    </a:cubicBezTo>
                    <a:lnTo>
                      <a:pt x="16475" y="8"/>
                    </a:lnTo>
                    <a:cubicBezTo>
                      <a:pt x="16474" y="8"/>
                      <a:pt x="16473" y="7"/>
                      <a:pt x="16473" y="6"/>
                    </a:cubicBezTo>
                    <a:cubicBezTo>
                      <a:pt x="16473" y="5"/>
                      <a:pt x="16474" y="4"/>
                      <a:pt x="16475" y="4"/>
                    </a:cubicBezTo>
                    <a:close/>
                    <a:moveTo>
                      <a:pt x="16483" y="4"/>
                    </a:moveTo>
                    <a:lnTo>
                      <a:pt x="16483" y="4"/>
                    </a:lnTo>
                    <a:cubicBezTo>
                      <a:pt x="16484" y="4"/>
                      <a:pt x="16485" y="5"/>
                      <a:pt x="16485" y="6"/>
                    </a:cubicBezTo>
                    <a:cubicBezTo>
                      <a:pt x="16485" y="7"/>
                      <a:pt x="16484" y="8"/>
                      <a:pt x="16483" y="8"/>
                    </a:cubicBezTo>
                    <a:lnTo>
                      <a:pt x="16483" y="8"/>
                    </a:lnTo>
                    <a:cubicBezTo>
                      <a:pt x="16482" y="8"/>
                      <a:pt x="16481" y="7"/>
                      <a:pt x="16481" y="6"/>
                    </a:cubicBezTo>
                    <a:cubicBezTo>
                      <a:pt x="16481" y="5"/>
                      <a:pt x="16482" y="4"/>
                      <a:pt x="16483" y="4"/>
                    </a:cubicBezTo>
                    <a:close/>
                    <a:moveTo>
                      <a:pt x="16491" y="4"/>
                    </a:moveTo>
                    <a:lnTo>
                      <a:pt x="16491" y="4"/>
                    </a:lnTo>
                    <a:cubicBezTo>
                      <a:pt x="16492" y="4"/>
                      <a:pt x="16493" y="5"/>
                      <a:pt x="16493" y="6"/>
                    </a:cubicBezTo>
                    <a:cubicBezTo>
                      <a:pt x="16493" y="7"/>
                      <a:pt x="16492" y="8"/>
                      <a:pt x="16491" y="8"/>
                    </a:cubicBezTo>
                    <a:lnTo>
                      <a:pt x="16491" y="8"/>
                    </a:lnTo>
                    <a:cubicBezTo>
                      <a:pt x="16490" y="8"/>
                      <a:pt x="16489" y="7"/>
                      <a:pt x="16489" y="6"/>
                    </a:cubicBezTo>
                    <a:cubicBezTo>
                      <a:pt x="16489" y="5"/>
                      <a:pt x="16490" y="4"/>
                      <a:pt x="16491" y="4"/>
                    </a:cubicBezTo>
                    <a:close/>
                    <a:moveTo>
                      <a:pt x="16499" y="4"/>
                    </a:moveTo>
                    <a:lnTo>
                      <a:pt x="16499" y="4"/>
                    </a:lnTo>
                    <a:cubicBezTo>
                      <a:pt x="16500" y="4"/>
                      <a:pt x="16501" y="5"/>
                      <a:pt x="16501" y="6"/>
                    </a:cubicBezTo>
                    <a:cubicBezTo>
                      <a:pt x="16501" y="7"/>
                      <a:pt x="16500" y="8"/>
                      <a:pt x="16499" y="8"/>
                    </a:cubicBezTo>
                    <a:lnTo>
                      <a:pt x="16499" y="8"/>
                    </a:lnTo>
                    <a:cubicBezTo>
                      <a:pt x="16498" y="8"/>
                      <a:pt x="16497" y="7"/>
                      <a:pt x="16497" y="6"/>
                    </a:cubicBezTo>
                    <a:cubicBezTo>
                      <a:pt x="16497" y="5"/>
                      <a:pt x="16498" y="4"/>
                      <a:pt x="16499" y="4"/>
                    </a:cubicBezTo>
                    <a:close/>
                    <a:moveTo>
                      <a:pt x="16507" y="4"/>
                    </a:moveTo>
                    <a:lnTo>
                      <a:pt x="16507" y="4"/>
                    </a:lnTo>
                    <a:cubicBezTo>
                      <a:pt x="16508" y="4"/>
                      <a:pt x="16509" y="5"/>
                      <a:pt x="16509" y="6"/>
                    </a:cubicBezTo>
                    <a:cubicBezTo>
                      <a:pt x="16509" y="7"/>
                      <a:pt x="16508" y="8"/>
                      <a:pt x="16507" y="8"/>
                    </a:cubicBezTo>
                    <a:lnTo>
                      <a:pt x="16507" y="8"/>
                    </a:lnTo>
                    <a:cubicBezTo>
                      <a:pt x="16506" y="8"/>
                      <a:pt x="16505" y="7"/>
                      <a:pt x="16505" y="6"/>
                    </a:cubicBezTo>
                    <a:cubicBezTo>
                      <a:pt x="16505" y="5"/>
                      <a:pt x="16506" y="4"/>
                      <a:pt x="16507" y="4"/>
                    </a:cubicBezTo>
                    <a:close/>
                    <a:moveTo>
                      <a:pt x="16515" y="4"/>
                    </a:moveTo>
                    <a:lnTo>
                      <a:pt x="16515" y="4"/>
                    </a:lnTo>
                    <a:cubicBezTo>
                      <a:pt x="16516" y="4"/>
                      <a:pt x="16517" y="5"/>
                      <a:pt x="16517" y="6"/>
                    </a:cubicBezTo>
                    <a:cubicBezTo>
                      <a:pt x="16517" y="7"/>
                      <a:pt x="16516" y="8"/>
                      <a:pt x="16515" y="8"/>
                    </a:cubicBezTo>
                    <a:lnTo>
                      <a:pt x="16515" y="8"/>
                    </a:lnTo>
                    <a:cubicBezTo>
                      <a:pt x="16514" y="8"/>
                      <a:pt x="16513" y="7"/>
                      <a:pt x="16513" y="6"/>
                    </a:cubicBezTo>
                    <a:cubicBezTo>
                      <a:pt x="16513" y="5"/>
                      <a:pt x="16514" y="4"/>
                      <a:pt x="16515" y="4"/>
                    </a:cubicBezTo>
                    <a:close/>
                    <a:moveTo>
                      <a:pt x="16523" y="4"/>
                    </a:moveTo>
                    <a:lnTo>
                      <a:pt x="16523" y="4"/>
                    </a:lnTo>
                    <a:cubicBezTo>
                      <a:pt x="16524" y="4"/>
                      <a:pt x="16525" y="5"/>
                      <a:pt x="16525" y="6"/>
                    </a:cubicBezTo>
                    <a:cubicBezTo>
                      <a:pt x="16525" y="7"/>
                      <a:pt x="16524" y="8"/>
                      <a:pt x="16523" y="8"/>
                    </a:cubicBezTo>
                    <a:lnTo>
                      <a:pt x="16523" y="8"/>
                    </a:lnTo>
                    <a:cubicBezTo>
                      <a:pt x="16522" y="8"/>
                      <a:pt x="16521" y="7"/>
                      <a:pt x="16521" y="6"/>
                    </a:cubicBezTo>
                    <a:cubicBezTo>
                      <a:pt x="16521" y="5"/>
                      <a:pt x="16522" y="4"/>
                      <a:pt x="16523" y="4"/>
                    </a:cubicBezTo>
                    <a:close/>
                    <a:moveTo>
                      <a:pt x="16531" y="4"/>
                    </a:moveTo>
                    <a:lnTo>
                      <a:pt x="16531" y="4"/>
                    </a:lnTo>
                    <a:cubicBezTo>
                      <a:pt x="16532" y="4"/>
                      <a:pt x="16533" y="5"/>
                      <a:pt x="16533" y="6"/>
                    </a:cubicBezTo>
                    <a:cubicBezTo>
                      <a:pt x="16533" y="7"/>
                      <a:pt x="16532" y="8"/>
                      <a:pt x="16531" y="8"/>
                    </a:cubicBezTo>
                    <a:lnTo>
                      <a:pt x="16531" y="8"/>
                    </a:lnTo>
                    <a:cubicBezTo>
                      <a:pt x="16530" y="8"/>
                      <a:pt x="16529" y="7"/>
                      <a:pt x="16529" y="6"/>
                    </a:cubicBezTo>
                    <a:cubicBezTo>
                      <a:pt x="16529" y="5"/>
                      <a:pt x="16530" y="4"/>
                      <a:pt x="16531" y="4"/>
                    </a:cubicBezTo>
                    <a:close/>
                    <a:moveTo>
                      <a:pt x="16539" y="4"/>
                    </a:moveTo>
                    <a:lnTo>
                      <a:pt x="16539" y="4"/>
                    </a:lnTo>
                    <a:cubicBezTo>
                      <a:pt x="16540" y="4"/>
                      <a:pt x="16541" y="5"/>
                      <a:pt x="16541" y="6"/>
                    </a:cubicBezTo>
                    <a:cubicBezTo>
                      <a:pt x="16541" y="7"/>
                      <a:pt x="16540" y="8"/>
                      <a:pt x="16539" y="8"/>
                    </a:cubicBezTo>
                    <a:lnTo>
                      <a:pt x="16539" y="8"/>
                    </a:lnTo>
                    <a:cubicBezTo>
                      <a:pt x="16538" y="8"/>
                      <a:pt x="16537" y="7"/>
                      <a:pt x="16537" y="6"/>
                    </a:cubicBezTo>
                    <a:cubicBezTo>
                      <a:pt x="16537" y="5"/>
                      <a:pt x="16538" y="4"/>
                      <a:pt x="16539" y="4"/>
                    </a:cubicBezTo>
                    <a:close/>
                    <a:moveTo>
                      <a:pt x="16547" y="4"/>
                    </a:moveTo>
                    <a:lnTo>
                      <a:pt x="16547" y="4"/>
                    </a:lnTo>
                    <a:cubicBezTo>
                      <a:pt x="16548" y="4"/>
                      <a:pt x="16549" y="5"/>
                      <a:pt x="16549" y="6"/>
                    </a:cubicBezTo>
                    <a:cubicBezTo>
                      <a:pt x="16549" y="7"/>
                      <a:pt x="16548" y="8"/>
                      <a:pt x="16547" y="8"/>
                    </a:cubicBezTo>
                    <a:lnTo>
                      <a:pt x="16547" y="8"/>
                    </a:lnTo>
                    <a:cubicBezTo>
                      <a:pt x="16546" y="8"/>
                      <a:pt x="16545" y="7"/>
                      <a:pt x="16545" y="6"/>
                    </a:cubicBezTo>
                    <a:cubicBezTo>
                      <a:pt x="16545" y="5"/>
                      <a:pt x="16546" y="4"/>
                      <a:pt x="16547" y="4"/>
                    </a:cubicBezTo>
                    <a:close/>
                    <a:moveTo>
                      <a:pt x="16555" y="4"/>
                    </a:moveTo>
                    <a:lnTo>
                      <a:pt x="16555" y="4"/>
                    </a:lnTo>
                    <a:cubicBezTo>
                      <a:pt x="16556" y="4"/>
                      <a:pt x="16557" y="5"/>
                      <a:pt x="16557" y="6"/>
                    </a:cubicBezTo>
                    <a:cubicBezTo>
                      <a:pt x="16557" y="7"/>
                      <a:pt x="16556" y="8"/>
                      <a:pt x="16555" y="8"/>
                    </a:cubicBezTo>
                    <a:lnTo>
                      <a:pt x="16555" y="8"/>
                    </a:lnTo>
                    <a:cubicBezTo>
                      <a:pt x="16554" y="8"/>
                      <a:pt x="16553" y="7"/>
                      <a:pt x="16553" y="6"/>
                    </a:cubicBezTo>
                    <a:cubicBezTo>
                      <a:pt x="16553" y="5"/>
                      <a:pt x="16554" y="4"/>
                      <a:pt x="16555" y="4"/>
                    </a:cubicBezTo>
                    <a:close/>
                    <a:moveTo>
                      <a:pt x="16563" y="4"/>
                    </a:moveTo>
                    <a:lnTo>
                      <a:pt x="16563" y="4"/>
                    </a:lnTo>
                    <a:cubicBezTo>
                      <a:pt x="16564" y="4"/>
                      <a:pt x="16565" y="5"/>
                      <a:pt x="16565" y="6"/>
                    </a:cubicBezTo>
                    <a:cubicBezTo>
                      <a:pt x="16565" y="7"/>
                      <a:pt x="16564" y="8"/>
                      <a:pt x="16563" y="8"/>
                    </a:cubicBezTo>
                    <a:lnTo>
                      <a:pt x="16563" y="8"/>
                    </a:lnTo>
                    <a:cubicBezTo>
                      <a:pt x="16562" y="8"/>
                      <a:pt x="16561" y="7"/>
                      <a:pt x="16561" y="6"/>
                    </a:cubicBezTo>
                    <a:cubicBezTo>
                      <a:pt x="16561" y="5"/>
                      <a:pt x="16562" y="4"/>
                      <a:pt x="16563" y="4"/>
                    </a:cubicBezTo>
                    <a:close/>
                    <a:moveTo>
                      <a:pt x="16571" y="4"/>
                    </a:moveTo>
                    <a:lnTo>
                      <a:pt x="16571" y="4"/>
                    </a:lnTo>
                    <a:cubicBezTo>
                      <a:pt x="16572" y="4"/>
                      <a:pt x="16573" y="5"/>
                      <a:pt x="16573" y="6"/>
                    </a:cubicBezTo>
                    <a:cubicBezTo>
                      <a:pt x="16573" y="7"/>
                      <a:pt x="16572" y="8"/>
                      <a:pt x="16571" y="8"/>
                    </a:cubicBezTo>
                    <a:lnTo>
                      <a:pt x="16571" y="8"/>
                    </a:lnTo>
                    <a:cubicBezTo>
                      <a:pt x="16570" y="8"/>
                      <a:pt x="16569" y="7"/>
                      <a:pt x="16569" y="6"/>
                    </a:cubicBezTo>
                    <a:cubicBezTo>
                      <a:pt x="16569" y="5"/>
                      <a:pt x="16570" y="4"/>
                      <a:pt x="16571" y="4"/>
                    </a:cubicBezTo>
                    <a:close/>
                    <a:moveTo>
                      <a:pt x="16579" y="4"/>
                    </a:moveTo>
                    <a:lnTo>
                      <a:pt x="16579" y="4"/>
                    </a:lnTo>
                    <a:cubicBezTo>
                      <a:pt x="16580" y="4"/>
                      <a:pt x="16581" y="5"/>
                      <a:pt x="16581" y="6"/>
                    </a:cubicBezTo>
                    <a:cubicBezTo>
                      <a:pt x="16581" y="7"/>
                      <a:pt x="16580" y="8"/>
                      <a:pt x="16579" y="8"/>
                    </a:cubicBezTo>
                    <a:lnTo>
                      <a:pt x="16579" y="8"/>
                    </a:lnTo>
                    <a:cubicBezTo>
                      <a:pt x="16578" y="8"/>
                      <a:pt x="16577" y="7"/>
                      <a:pt x="16577" y="6"/>
                    </a:cubicBezTo>
                    <a:cubicBezTo>
                      <a:pt x="16577" y="5"/>
                      <a:pt x="16578" y="4"/>
                      <a:pt x="16579" y="4"/>
                    </a:cubicBezTo>
                    <a:close/>
                    <a:moveTo>
                      <a:pt x="16587" y="4"/>
                    </a:moveTo>
                    <a:lnTo>
                      <a:pt x="16587" y="4"/>
                    </a:lnTo>
                    <a:cubicBezTo>
                      <a:pt x="16588" y="4"/>
                      <a:pt x="16589" y="5"/>
                      <a:pt x="16589" y="6"/>
                    </a:cubicBezTo>
                    <a:cubicBezTo>
                      <a:pt x="16589" y="7"/>
                      <a:pt x="16588" y="8"/>
                      <a:pt x="16587" y="8"/>
                    </a:cubicBezTo>
                    <a:lnTo>
                      <a:pt x="16587" y="8"/>
                    </a:lnTo>
                    <a:cubicBezTo>
                      <a:pt x="16586" y="8"/>
                      <a:pt x="16585" y="7"/>
                      <a:pt x="16585" y="6"/>
                    </a:cubicBezTo>
                    <a:cubicBezTo>
                      <a:pt x="16585" y="5"/>
                      <a:pt x="16586" y="4"/>
                      <a:pt x="16587" y="4"/>
                    </a:cubicBezTo>
                    <a:close/>
                    <a:moveTo>
                      <a:pt x="16595" y="4"/>
                    </a:moveTo>
                    <a:lnTo>
                      <a:pt x="16595" y="4"/>
                    </a:lnTo>
                    <a:cubicBezTo>
                      <a:pt x="16596" y="4"/>
                      <a:pt x="16597" y="5"/>
                      <a:pt x="16597" y="6"/>
                    </a:cubicBezTo>
                    <a:cubicBezTo>
                      <a:pt x="16597" y="7"/>
                      <a:pt x="16596" y="8"/>
                      <a:pt x="16595" y="8"/>
                    </a:cubicBezTo>
                    <a:lnTo>
                      <a:pt x="16595" y="8"/>
                    </a:lnTo>
                    <a:cubicBezTo>
                      <a:pt x="16594" y="8"/>
                      <a:pt x="16593" y="7"/>
                      <a:pt x="16593" y="6"/>
                    </a:cubicBezTo>
                    <a:cubicBezTo>
                      <a:pt x="16593" y="5"/>
                      <a:pt x="16594" y="4"/>
                      <a:pt x="16595" y="4"/>
                    </a:cubicBezTo>
                    <a:close/>
                    <a:moveTo>
                      <a:pt x="16603" y="4"/>
                    </a:moveTo>
                    <a:lnTo>
                      <a:pt x="16603" y="4"/>
                    </a:lnTo>
                    <a:cubicBezTo>
                      <a:pt x="16604" y="4"/>
                      <a:pt x="16605" y="5"/>
                      <a:pt x="16605" y="6"/>
                    </a:cubicBezTo>
                    <a:cubicBezTo>
                      <a:pt x="16605" y="7"/>
                      <a:pt x="16604" y="8"/>
                      <a:pt x="16603" y="8"/>
                    </a:cubicBezTo>
                    <a:lnTo>
                      <a:pt x="16603" y="8"/>
                    </a:lnTo>
                    <a:cubicBezTo>
                      <a:pt x="16602" y="8"/>
                      <a:pt x="16601" y="7"/>
                      <a:pt x="16601" y="6"/>
                    </a:cubicBezTo>
                    <a:cubicBezTo>
                      <a:pt x="16601" y="5"/>
                      <a:pt x="16602" y="4"/>
                      <a:pt x="16603" y="4"/>
                    </a:cubicBezTo>
                    <a:close/>
                    <a:moveTo>
                      <a:pt x="16611" y="4"/>
                    </a:moveTo>
                    <a:lnTo>
                      <a:pt x="16611" y="4"/>
                    </a:lnTo>
                    <a:cubicBezTo>
                      <a:pt x="16612" y="4"/>
                      <a:pt x="16613" y="5"/>
                      <a:pt x="16613" y="6"/>
                    </a:cubicBezTo>
                    <a:cubicBezTo>
                      <a:pt x="16613" y="7"/>
                      <a:pt x="16612" y="8"/>
                      <a:pt x="16611" y="8"/>
                    </a:cubicBezTo>
                    <a:lnTo>
                      <a:pt x="16611" y="8"/>
                    </a:lnTo>
                    <a:cubicBezTo>
                      <a:pt x="16610" y="8"/>
                      <a:pt x="16609" y="7"/>
                      <a:pt x="16609" y="6"/>
                    </a:cubicBezTo>
                    <a:cubicBezTo>
                      <a:pt x="16609" y="5"/>
                      <a:pt x="16610" y="4"/>
                      <a:pt x="16611" y="4"/>
                    </a:cubicBezTo>
                    <a:close/>
                    <a:moveTo>
                      <a:pt x="16619" y="4"/>
                    </a:moveTo>
                    <a:lnTo>
                      <a:pt x="16619" y="4"/>
                    </a:lnTo>
                    <a:cubicBezTo>
                      <a:pt x="16620" y="4"/>
                      <a:pt x="16621" y="5"/>
                      <a:pt x="16621" y="6"/>
                    </a:cubicBezTo>
                    <a:cubicBezTo>
                      <a:pt x="16621" y="7"/>
                      <a:pt x="16620" y="8"/>
                      <a:pt x="16619" y="8"/>
                    </a:cubicBezTo>
                    <a:lnTo>
                      <a:pt x="16619" y="8"/>
                    </a:lnTo>
                    <a:cubicBezTo>
                      <a:pt x="16618" y="8"/>
                      <a:pt x="16617" y="7"/>
                      <a:pt x="16617" y="6"/>
                    </a:cubicBezTo>
                    <a:cubicBezTo>
                      <a:pt x="16617" y="5"/>
                      <a:pt x="16618" y="4"/>
                      <a:pt x="16619" y="4"/>
                    </a:cubicBezTo>
                    <a:close/>
                    <a:moveTo>
                      <a:pt x="16627" y="4"/>
                    </a:moveTo>
                    <a:lnTo>
                      <a:pt x="16627" y="4"/>
                    </a:lnTo>
                    <a:cubicBezTo>
                      <a:pt x="16628" y="4"/>
                      <a:pt x="16629" y="5"/>
                      <a:pt x="16629" y="6"/>
                    </a:cubicBezTo>
                    <a:cubicBezTo>
                      <a:pt x="16629" y="7"/>
                      <a:pt x="16628" y="8"/>
                      <a:pt x="16627" y="8"/>
                    </a:cubicBezTo>
                    <a:lnTo>
                      <a:pt x="16627" y="8"/>
                    </a:lnTo>
                    <a:cubicBezTo>
                      <a:pt x="16626" y="8"/>
                      <a:pt x="16625" y="7"/>
                      <a:pt x="16625" y="6"/>
                    </a:cubicBezTo>
                    <a:cubicBezTo>
                      <a:pt x="16625" y="5"/>
                      <a:pt x="16626" y="4"/>
                      <a:pt x="16627" y="4"/>
                    </a:cubicBezTo>
                    <a:close/>
                    <a:moveTo>
                      <a:pt x="16635" y="4"/>
                    </a:moveTo>
                    <a:lnTo>
                      <a:pt x="16635" y="4"/>
                    </a:lnTo>
                    <a:cubicBezTo>
                      <a:pt x="16636" y="4"/>
                      <a:pt x="16637" y="5"/>
                      <a:pt x="16637" y="6"/>
                    </a:cubicBezTo>
                    <a:cubicBezTo>
                      <a:pt x="16637" y="7"/>
                      <a:pt x="16636" y="8"/>
                      <a:pt x="16635" y="8"/>
                    </a:cubicBezTo>
                    <a:lnTo>
                      <a:pt x="16635" y="8"/>
                    </a:lnTo>
                    <a:cubicBezTo>
                      <a:pt x="16634" y="8"/>
                      <a:pt x="16633" y="7"/>
                      <a:pt x="16633" y="6"/>
                    </a:cubicBezTo>
                    <a:cubicBezTo>
                      <a:pt x="16633" y="5"/>
                      <a:pt x="16634" y="4"/>
                      <a:pt x="16635" y="4"/>
                    </a:cubicBezTo>
                    <a:close/>
                    <a:moveTo>
                      <a:pt x="16643" y="4"/>
                    </a:moveTo>
                    <a:lnTo>
                      <a:pt x="16643" y="4"/>
                    </a:lnTo>
                    <a:cubicBezTo>
                      <a:pt x="16644" y="4"/>
                      <a:pt x="16645" y="5"/>
                      <a:pt x="16645" y="6"/>
                    </a:cubicBezTo>
                    <a:cubicBezTo>
                      <a:pt x="16645" y="7"/>
                      <a:pt x="16644" y="8"/>
                      <a:pt x="16643" y="8"/>
                    </a:cubicBezTo>
                    <a:lnTo>
                      <a:pt x="16643" y="8"/>
                    </a:lnTo>
                    <a:cubicBezTo>
                      <a:pt x="16642" y="8"/>
                      <a:pt x="16641" y="7"/>
                      <a:pt x="16641" y="6"/>
                    </a:cubicBezTo>
                    <a:cubicBezTo>
                      <a:pt x="16641" y="5"/>
                      <a:pt x="16642" y="4"/>
                      <a:pt x="16643" y="4"/>
                    </a:cubicBezTo>
                    <a:close/>
                    <a:moveTo>
                      <a:pt x="16651" y="4"/>
                    </a:moveTo>
                    <a:lnTo>
                      <a:pt x="16651" y="4"/>
                    </a:lnTo>
                    <a:cubicBezTo>
                      <a:pt x="16652" y="4"/>
                      <a:pt x="16653" y="5"/>
                      <a:pt x="16653" y="6"/>
                    </a:cubicBezTo>
                    <a:cubicBezTo>
                      <a:pt x="16653" y="7"/>
                      <a:pt x="16652" y="8"/>
                      <a:pt x="16651" y="8"/>
                    </a:cubicBezTo>
                    <a:lnTo>
                      <a:pt x="16651" y="8"/>
                    </a:lnTo>
                    <a:cubicBezTo>
                      <a:pt x="16650" y="8"/>
                      <a:pt x="16649" y="7"/>
                      <a:pt x="16649" y="6"/>
                    </a:cubicBezTo>
                    <a:cubicBezTo>
                      <a:pt x="16649" y="5"/>
                      <a:pt x="16650" y="4"/>
                      <a:pt x="16651" y="4"/>
                    </a:cubicBezTo>
                    <a:close/>
                    <a:moveTo>
                      <a:pt x="16659" y="4"/>
                    </a:moveTo>
                    <a:lnTo>
                      <a:pt x="16659" y="4"/>
                    </a:lnTo>
                    <a:cubicBezTo>
                      <a:pt x="16660" y="4"/>
                      <a:pt x="16661" y="5"/>
                      <a:pt x="16661" y="6"/>
                    </a:cubicBezTo>
                    <a:cubicBezTo>
                      <a:pt x="16661" y="7"/>
                      <a:pt x="16660" y="8"/>
                      <a:pt x="16659" y="8"/>
                    </a:cubicBezTo>
                    <a:lnTo>
                      <a:pt x="16659" y="8"/>
                    </a:lnTo>
                    <a:cubicBezTo>
                      <a:pt x="16658" y="8"/>
                      <a:pt x="16657" y="7"/>
                      <a:pt x="16657" y="6"/>
                    </a:cubicBezTo>
                    <a:cubicBezTo>
                      <a:pt x="16657" y="5"/>
                      <a:pt x="16658" y="4"/>
                      <a:pt x="16659" y="4"/>
                    </a:cubicBezTo>
                    <a:close/>
                    <a:moveTo>
                      <a:pt x="16667" y="4"/>
                    </a:moveTo>
                    <a:lnTo>
                      <a:pt x="16667" y="4"/>
                    </a:lnTo>
                    <a:cubicBezTo>
                      <a:pt x="16668" y="4"/>
                      <a:pt x="16669" y="5"/>
                      <a:pt x="16669" y="6"/>
                    </a:cubicBezTo>
                    <a:cubicBezTo>
                      <a:pt x="16669" y="7"/>
                      <a:pt x="16668" y="8"/>
                      <a:pt x="16667" y="8"/>
                    </a:cubicBezTo>
                    <a:lnTo>
                      <a:pt x="16667" y="8"/>
                    </a:lnTo>
                    <a:cubicBezTo>
                      <a:pt x="16666" y="8"/>
                      <a:pt x="16665" y="7"/>
                      <a:pt x="16665" y="6"/>
                    </a:cubicBezTo>
                    <a:cubicBezTo>
                      <a:pt x="16665" y="5"/>
                      <a:pt x="16666" y="4"/>
                      <a:pt x="16667" y="4"/>
                    </a:cubicBezTo>
                    <a:close/>
                    <a:moveTo>
                      <a:pt x="16675" y="4"/>
                    </a:moveTo>
                    <a:lnTo>
                      <a:pt x="16675" y="4"/>
                    </a:lnTo>
                    <a:cubicBezTo>
                      <a:pt x="16676" y="4"/>
                      <a:pt x="16677" y="5"/>
                      <a:pt x="16677" y="6"/>
                    </a:cubicBezTo>
                    <a:cubicBezTo>
                      <a:pt x="16677" y="7"/>
                      <a:pt x="16676" y="8"/>
                      <a:pt x="16675" y="8"/>
                    </a:cubicBezTo>
                    <a:lnTo>
                      <a:pt x="16675" y="8"/>
                    </a:lnTo>
                    <a:cubicBezTo>
                      <a:pt x="16674" y="8"/>
                      <a:pt x="16673" y="7"/>
                      <a:pt x="16673" y="6"/>
                    </a:cubicBezTo>
                    <a:cubicBezTo>
                      <a:pt x="16673" y="5"/>
                      <a:pt x="16674" y="4"/>
                      <a:pt x="16675" y="4"/>
                    </a:cubicBezTo>
                    <a:close/>
                    <a:moveTo>
                      <a:pt x="16683" y="4"/>
                    </a:moveTo>
                    <a:lnTo>
                      <a:pt x="16683" y="4"/>
                    </a:lnTo>
                    <a:cubicBezTo>
                      <a:pt x="16684" y="4"/>
                      <a:pt x="16685" y="5"/>
                      <a:pt x="16685" y="6"/>
                    </a:cubicBezTo>
                    <a:cubicBezTo>
                      <a:pt x="16685" y="7"/>
                      <a:pt x="16684" y="8"/>
                      <a:pt x="16683" y="8"/>
                    </a:cubicBezTo>
                    <a:lnTo>
                      <a:pt x="16683" y="8"/>
                    </a:lnTo>
                    <a:cubicBezTo>
                      <a:pt x="16682" y="8"/>
                      <a:pt x="16681" y="7"/>
                      <a:pt x="16681" y="6"/>
                    </a:cubicBezTo>
                    <a:cubicBezTo>
                      <a:pt x="16681" y="5"/>
                      <a:pt x="16682" y="4"/>
                      <a:pt x="16683" y="4"/>
                    </a:cubicBezTo>
                    <a:close/>
                    <a:moveTo>
                      <a:pt x="16691" y="4"/>
                    </a:moveTo>
                    <a:lnTo>
                      <a:pt x="16691" y="4"/>
                    </a:lnTo>
                    <a:cubicBezTo>
                      <a:pt x="16692" y="4"/>
                      <a:pt x="16693" y="5"/>
                      <a:pt x="16693" y="6"/>
                    </a:cubicBezTo>
                    <a:cubicBezTo>
                      <a:pt x="16693" y="7"/>
                      <a:pt x="16692" y="8"/>
                      <a:pt x="16691" y="8"/>
                    </a:cubicBezTo>
                    <a:lnTo>
                      <a:pt x="16691" y="8"/>
                    </a:lnTo>
                    <a:cubicBezTo>
                      <a:pt x="16690" y="8"/>
                      <a:pt x="16689" y="7"/>
                      <a:pt x="16689" y="6"/>
                    </a:cubicBezTo>
                    <a:cubicBezTo>
                      <a:pt x="16689" y="5"/>
                      <a:pt x="16690" y="4"/>
                      <a:pt x="16691" y="4"/>
                    </a:cubicBezTo>
                    <a:close/>
                    <a:moveTo>
                      <a:pt x="16699" y="4"/>
                    </a:moveTo>
                    <a:lnTo>
                      <a:pt x="16699" y="4"/>
                    </a:lnTo>
                    <a:cubicBezTo>
                      <a:pt x="16700" y="4"/>
                      <a:pt x="16701" y="5"/>
                      <a:pt x="16701" y="6"/>
                    </a:cubicBezTo>
                    <a:cubicBezTo>
                      <a:pt x="16701" y="7"/>
                      <a:pt x="16700" y="8"/>
                      <a:pt x="16699" y="8"/>
                    </a:cubicBezTo>
                    <a:lnTo>
                      <a:pt x="16699" y="8"/>
                    </a:lnTo>
                    <a:cubicBezTo>
                      <a:pt x="16698" y="8"/>
                      <a:pt x="16697" y="7"/>
                      <a:pt x="16697" y="6"/>
                    </a:cubicBezTo>
                    <a:cubicBezTo>
                      <a:pt x="16697" y="5"/>
                      <a:pt x="16698" y="4"/>
                      <a:pt x="16699" y="4"/>
                    </a:cubicBezTo>
                    <a:close/>
                    <a:moveTo>
                      <a:pt x="16707" y="4"/>
                    </a:moveTo>
                    <a:lnTo>
                      <a:pt x="16707" y="4"/>
                    </a:lnTo>
                    <a:cubicBezTo>
                      <a:pt x="16708" y="4"/>
                      <a:pt x="16709" y="5"/>
                      <a:pt x="16709" y="6"/>
                    </a:cubicBezTo>
                    <a:cubicBezTo>
                      <a:pt x="16709" y="7"/>
                      <a:pt x="16708" y="8"/>
                      <a:pt x="16707" y="8"/>
                    </a:cubicBezTo>
                    <a:lnTo>
                      <a:pt x="16707" y="8"/>
                    </a:lnTo>
                    <a:cubicBezTo>
                      <a:pt x="16706" y="8"/>
                      <a:pt x="16705" y="7"/>
                      <a:pt x="16705" y="6"/>
                    </a:cubicBezTo>
                    <a:cubicBezTo>
                      <a:pt x="16705" y="5"/>
                      <a:pt x="16706" y="4"/>
                      <a:pt x="16707" y="4"/>
                    </a:cubicBezTo>
                    <a:close/>
                    <a:moveTo>
                      <a:pt x="16715" y="4"/>
                    </a:moveTo>
                    <a:lnTo>
                      <a:pt x="16715" y="4"/>
                    </a:lnTo>
                    <a:cubicBezTo>
                      <a:pt x="16716" y="4"/>
                      <a:pt x="16717" y="5"/>
                      <a:pt x="16717" y="6"/>
                    </a:cubicBezTo>
                    <a:cubicBezTo>
                      <a:pt x="16717" y="7"/>
                      <a:pt x="16716" y="8"/>
                      <a:pt x="16715" y="8"/>
                    </a:cubicBezTo>
                    <a:lnTo>
                      <a:pt x="16715" y="8"/>
                    </a:lnTo>
                    <a:cubicBezTo>
                      <a:pt x="16714" y="8"/>
                      <a:pt x="16713" y="7"/>
                      <a:pt x="16713" y="6"/>
                    </a:cubicBezTo>
                    <a:cubicBezTo>
                      <a:pt x="16713" y="5"/>
                      <a:pt x="16714" y="4"/>
                      <a:pt x="16715" y="4"/>
                    </a:cubicBezTo>
                    <a:close/>
                    <a:moveTo>
                      <a:pt x="16723" y="4"/>
                    </a:moveTo>
                    <a:lnTo>
                      <a:pt x="16723" y="4"/>
                    </a:lnTo>
                    <a:cubicBezTo>
                      <a:pt x="16724" y="4"/>
                      <a:pt x="16725" y="5"/>
                      <a:pt x="16725" y="6"/>
                    </a:cubicBezTo>
                    <a:cubicBezTo>
                      <a:pt x="16725" y="7"/>
                      <a:pt x="16724" y="8"/>
                      <a:pt x="16723" y="8"/>
                    </a:cubicBezTo>
                    <a:lnTo>
                      <a:pt x="16723" y="8"/>
                    </a:lnTo>
                    <a:cubicBezTo>
                      <a:pt x="16722" y="8"/>
                      <a:pt x="16721" y="7"/>
                      <a:pt x="16721" y="6"/>
                    </a:cubicBezTo>
                    <a:cubicBezTo>
                      <a:pt x="16721" y="5"/>
                      <a:pt x="16722" y="4"/>
                      <a:pt x="16723" y="4"/>
                    </a:cubicBezTo>
                    <a:close/>
                    <a:moveTo>
                      <a:pt x="16731" y="4"/>
                    </a:moveTo>
                    <a:lnTo>
                      <a:pt x="16731" y="4"/>
                    </a:lnTo>
                    <a:cubicBezTo>
                      <a:pt x="16732" y="4"/>
                      <a:pt x="16733" y="5"/>
                      <a:pt x="16733" y="6"/>
                    </a:cubicBezTo>
                    <a:cubicBezTo>
                      <a:pt x="16733" y="7"/>
                      <a:pt x="16732" y="8"/>
                      <a:pt x="16731" y="8"/>
                    </a:cubicBezTo>
                    <a:lnTo>
                      <a:pt x="16731" y="8"/>
                    </a:lnTo>
                    <a:cubicBezTo>
                      <a:pt x="16730" y="8"/>
                      <a:pt x="16729" y="7"/>
                      <a:pt x="16729" y="6"/>
                    </a:cubicBezTo>
                    <a:cubicBezTo>
                      <a:pt x="16729" y="5"/>
                      <a:pt x="16730" y="4"/>
                      <a:pt x="16731" y="4"/>
                    </a:cubicBezTo>
                    <a:close/>
                    <a:moveTo>
                      <a:pt x="16739" y="4"/>
                    </a:moveTo>
                    <a:lnTo>
                      <a:pt x="16739" y="4"/>
                    </a:lnTo>
                    <a:cubicBezTo>
                      <a:pt x="16740" y="4"/>
                      <a:pt x="16741" y="5"/>
                      <a:pt x="16741" y="6"/>
                    </a:cubicBezTo>
                    <a:cubicBezTo>
                      <a:pt x="16741" y="7"/>
                      <a:pt x="16740" y="8"/>
                      <a:pt x="16739" y="8"/>
                    </a:cubicBezTo>
                    <a:lnTo>
                      <a:pt x="16739" y="8"/>
                    </a:lnTo>
                    <a:cubicBezTo>
                      <a:pt x="16738" y="8"/>
                      <a:pt x="16737" y="7"/>
                      <a:pt x="16737" y="6"/>
                    </a:cubicBezTo>
                    <a:cubicBezTo>
                      <a:pt x="16737" y="5"/>
                      <a:pt x="16738" y="4"/>
                      <a:pt x="16739" y="4"/>
                    </a:cubicBezTo>
                    <a:close/>
                    <a:moveTo>
                      <a:pt x="16747" y="4"/>
                    </a:moveTo>
                    <a:lnTo>
                      <a:pt x="16747" y="4"/>
                    </a:lnTo>
                    <a:cubicBezTo>
                      <a:pt x="16748" y="4"/>
                      <a:pt x="16749" y="5"/>
                      <a:pt x="16749" y="6"/>
                    </a:cubicBezTo>
                    <a:cubicBezTo>
                      <a:pt x="16749" y="7"/>
                      <a:pt x="16748" y="8"/>
                      <a:pt x="16747" y="8"/>
                    </a:cubicBezTo>
                    <a:lnTo>
                      <a:pt x="16747" y="8"/>
                    </a:lnTo>
                    <a:cubicBezTo>
                      <a:pt x="16746" y="8"/>
                      <a:pt x="16745" y="7"/>
                      <a:pt x="16745" y="6"/>
                    </a:cubicBezTo>
                    <a:cubicBezTo>
                      <a:pt x="16745" y="5"/>
                      <a:pt x="16746" y="4"/>
                      <a:pt x="16747" y="4"/>
                    </a:cubicBezTo>
                    <a:close/>
                    <a:moveTo>
                      <a:pt x="16755" y="4"/>
                    </a:moveTo>
                    <a:lnTo>
                      <a:pt x="16755" y="4"/>
                    </a:lnTo>
                    <a:cubicBezTo>
                      <a:pt x="16756" y="4"/>
                      <a:pt x="16757" y="5"/>
                      <a:pt x="16757" y="6"/>
                    </a:cubicBezTo>
                    <a:cubicBezTo>
                      <a:pt x="16757" y="7"/>
                      <a:pt x="16756" y="8"/>
                      <a:pt x="16755" y="8"/>
                    </a:cubicBezTo>
                    <a:lnTo>
                      <a:pt x="16755" y="8"/>
                    </a:lnTo>
                    <a:cubicBezTo>
                      <a:pt x="16754" y="8"/>
                      <a:pt x="16753" y="7"/>
                      <a:pt x="16753" y="6"/>
                    </a:cubicBezTo>
                    <a:cubicBezTo>
                      <a:pt x="16753" y="5"/>
                      <a:pt x="16754" y="4"/>
                      <a:pt x="16755" y="4"/>
                    </a:cubicBezTo>
                    <a:close/>
                    <a:moveTo>
                      <a:pt x="16763" y="4"/>
                    </a:moveTo>
                    <a:lnTo>
                      <a:pt x="16763" y="4"/>
                    </a:lnTo>
                    <a:cubicBezTo>
                      <a:pt x="16764" y="4"/>
                      <a:pt x="16765" y="5"/>
                      <a:pt x="16765" y="6"/>
                    </a:cubicBezTo>
                    <a:cubicBezTo>
                      <a:pt x="16765" y="7"/>
                      <a:pt x="16764" y="8"/>
                      <a:pt x="16763" y="8"/>
                    </a:cubicBezTo>
                    <a:lnTo>
                      <a:pt x="16763" y="8"/>
                    </a:lnTo>
                    <a:cubicBezTo>
                      <a:pt x="16762" y="8"/>
                      <a:pt x="16761" y="7"/>
                      <a:pt x="16761" y="6"/>
                    </a:cubicBezTo>
                    <a:cubicBezTo>
                      <a:pt x="16761" y="5"/>
                      <a:pt x="16762" y="4"/>
                      <a:pt x="16763" y="4"/>
                    </a:cubicBezTo>
                    <a:close/>
                    <a:moveTo>
                      <a:pt x="16771" y="4"/>
                    </a:moveTo>
                    <a:lnTo>
                      <a:pt x="16771" y="4"/>
                    </a:lnTo>
                    <a:cubicBezTo>
                      <a:pt x="16772" y="4"/>
                      <a:pt x="16773" y="5"/>
                      <a:pt x="16773" y="6"/>
                    </a:cubicBezTo>
                    <a:cubicBezTo>
                      <a:pt x="16773" y="7"/>
                      <a:pt x="16772" y="8"/>
                      <a:pt x="16771" y="8"/>
                    </a:cubicBezTo>
                    <a:lnTo>
                      <a:pt x="16771" y="8"/>
                    </a:lnTo>
                    <a:cubicBezTo>
                      <a:pt x="16770" y="8"/>
                      <a:pt x="16769" y="7"/>
                      <a:pt x="16769" y="6"/>
                    </a:cubicBezTo>
                    <a:cubicBezTo>
                      <a:pt x="16769" y="5"/>
                      <a:pt x="16770" y="4"/>
                      <a:pt x="16771" y="4"/>
                    </a:cubicBezTo>
                    <a:close/>
                    <a:moveTo>
                      <a:pt x="16779" y="4"/>
                    </a:moveTo>
                    <a:lnTo>
                      <a:pt x="16779" y="4"/>
                    </a:lnTo>
                    <a:cubicBezTo>
                      <a:pt x="16780" y="4"/>
                      <a:pt x="16781" y="5"/>
                      <a:pt x="16781" y="6"/>
                    </a:cubicBezTo>
                    <a:cubicBezTo>
                      <a:pt x="16781" y="7"/>
                      <a:pt x="16780" y="8"/>
                      <a:pt x="16779" y="8"/>
                    </a:cubicBezTo>
                    <a:lnTo>
                      <a:pt x="16779" y="8"/>
                    </a:lnTo>
                    <a:cubicBezTo>
                      <a:pt x="16778" y="8"/>
                      <a:pt x="16777" y="7"/>
                      <a:pt x="16777" y="6"/>
                    </a:cubicBezTo>
                    <a:cubicBezTo>
                      <a:pt x="16777" y="5"/>
                      <a:pt x="16778" y="4"/>
                      <a:pt x="16779" y="4"/>
                    </a:cubicBezTo>
                    <a:close/>
                    <a:moveTo>
                      <a:pt x="16787" y="4"/>
                    </a:moveTo>
                    <a:lnTo>
                      <a:pt x="16787" y="4"/>
                    </a:lnTo>
                    <a:cubicBezTo>
                      <a:pt x="16788" y="4"/>
                      <a:pt x="16789" y="5"/>
                      <a:pt x="16789" y="6"/>
                    </a:cubicBezTo>
                    <a:cubicBezTo>
                      <a:pt x="16789" y="7"/>
                      <a:pt x="16788" y="8"/>
                      <a:pt x="16787" y="8"/>
                    </a:cubicBezTo>
                    <a:lnTo>
                      <a:pt x="16787" y="8"/>
                    </a:lnTo>
                    <a:cubicBezTo>
                      <a:pt x="16786" y="8"/>
                      <a:pt x="16785" y="7"/>
                      <a:pt x="16785" y="6"/>
                    </a:cubicBezTo>
                    <a:cubicBezTo>
                      <a:pt x="16785" y="5"/>
                      <a:pt x="16786" y="4"/>
                      <a:pt x="16787" y="4"/>
                    </a:cubicBezTo>
                    <a:close/>
                    <a:moveTo>
                      <a:pt x="16795" y="4"/>
                    </a:moveTo>
                    <a:lnTo>
                      <a:pt x="16795" y="4"/>
                    </a:lnTo>
                    <a:cubicBezTo>
                      <a:pt x="16796" y="4"/>
                      <a:pt x="16797" y="5"/>
                      <a:pt x="16797" y="6"/>
                    </a:cubicBezTo>
                    <a:cubicBezTo>
                      <a:pt x="16797" y="7"/>
                      <a:pt x="16796" y="8"/>
                      <a:pt x="16795" y="8"/>
                    </a:cubicBezTo>
                    <a:lnTo>
                      <a:pt x="16795" y="8"/>
                    </a:lnTo>
                    <a:cubicBezTo>
                      <a:pt x="16794" y="8"/>
                      <a:pt x="16793" y="7"/>
                      <a:pt x="16793" y="6"/>
                    </a:cubicBezTo>
                    <a:cubicBezTo>
                      <a:pt x="16793" y="5"/>
                      <a:pt x="16794" y="4"/>
                      <a:pt x="16795" y="4"/>
                    </a:cubicBezTo>
                    <a:close/>
                    <a:moveTo>
                      <a:pt x="16803" y="4"/>
                    </a:moveTo>
                    <a:lnTo>
                      <a:pt x="16803" y="4"/>
                    </a:lnTo>
                    <a:cubicBezTo>
                      <a:pt x="16804" y="4"/>
                      <a:pt x="16805" y="5"/>
                      <a:pt x="16805" y="6"/>
                    </a:cubicBezTo>
                    <a:cubicBezTo>
                      <a:pt x="16805" y="7"/>
                      <a:pt x="16804" y="8"/>
                      <a:pt x="16803" y="8"/>
                    </a:cubicBezTo>
                    <a:lnTo>
                      <a:pt x="16803" y="8"/>
                    </a:lnTo>
                    <a:cubicBezTo>
                      <a:pt x="16802" y="8"/>
                      <a:pt x="16801" y="7"/>
                      <a:pt x="16801" y="6"/>
                    </a:cubicBezTo>
                    <a:cubicBezTo>
                      <a:pt x="16801" y="5"/>
                      <a:pt x="16802" y="4"/>
                      <a:pt x="16803" y="4"/>
                    </a:cubicBezTo>
                    <a:close/>
                    <a:moveTo>
                      <a:pt x="16811" y="4"/>
                    </a:moveTo>
                    <a:lnTo>
                      <a:pt x="16811" y="4"/>
                    </a:lnTo>
                    <a:cubicBezTo>
                      <a:pt x="16812" y="4"/>
                      <a:pt x="16813" y="5"/>
                      <a:pt x="16813" y="6"/>
                    </a:cubicBezTo>
                    <a:cubicBezTo>
                      <a:pt x="16813" y="7"/>
                      <a:pt x="16812" y="8"/>
                      <a:pt x="16811" y="8"/>
                    </a:cubicBezTo>
                    <a:lnTo>
                      <a:pt x="16811" y="8"/>
                    </a:lnTo>
                    <a:cubicBezTo>
                      <a:pt x="16810" y="8"/>
                      <a:pt x="16809" y="7"/>
                      <a:pt x="16809" y="6"/>
                    </a:cubicBezTo>
                    <a:cubicBezTo>
                      <a:pt x="16809" y="5"/>
                      <a:pt x="16810" y="4"/>
                      <a:pt x="16811" y="4"/>
                    </a:cubicBezTo>
                    <a:close/>
                    <a:moveTo>
                      <a:pt x="16819" y="4"/>
                    </a:moveTo>
                    <a:lnTo>
                      <a:pt x="16819" y="4"/>
                    </a:lnTo>
                    <a:cubicBezTo>
                      <a:pt x="16820" y="4"/>
                      <a:pt x="16821" y="5"/>
                      <a:pt x="16821" y="6"/>
                    </a:cubicBezTo>
                    <a:cubicBezTo>
                      <a:pt x="16821" y="7"/>
                      <a:pt x="16820" y="8"/>
                      <a:pt x="16819" y="8"/>
                    </a:cubicBezTo>
                    <a:lnTo>
                      <a:pt x="16819" y="8"/>
                    </a:lnTo>
                    <a:cubicBezTo>
                      <a:pt x="16818" y="8"/>
                      <a:pt x="16817" y="7"/>
                      <a:pt x="16817" y="6"/>
                    </a:cubicBezTo>
                    <a:cubicBezTo>
                      <a:pt x="16817" y="5"/>
                      <a:pt x="16818" y="4"/>
                      <a:pt x="16819" y="4"/>
                    </a:cubicBezTo>
                    <a:close/>
                    <a:moveTo>
                      <a:pt x="16827" y="4"/>
                    </a:moveTo>
                    <a:lnTo>
                      <a:pt x="16827" y="4"/>
                    </a:lnTo>
                    <a:cubicBezTo>
                      <a:pt x="16828" y="4"/>
                      <a:pt x="16829" y="5"/>
                      <a:pt x="16829" y="6"/>
                    </a:cubicBezTo>
                    <a:cubicBezTo>
                      <a:pt x="16829" y="7"/>
                      <a:pt x="16828" y="8"/>
                      <a:pt x="16827" y="8"/>
                    </a:cubicBezTo>
                    <a:lnTo>
                      <a:pt x="16827" y="8"/>
                    </a:lnTo>
                    <a:cubicBezTo>
                      <a:pt x="16826" y="8"/>
                      <a:pt x="16825" y="7"/>
                      <a:pt x="16825" y="6"/>
                    </a:cubicBezTo>
                    <a:cubicBezTo>
                      <a:pt x="16825" y="5"/>
                      <a:pt x="16826" y="4"/>
                      <a:pt x="16827" y="4"/>
                    </a:cubicBezTo>
                    <a:close/>
                    <a:moveTo>
                      <a:pt x="16835" y="4"/>
                    </a:moveTo>
                    <a:lnTo>
                      <a:pt x="16835" y="4"/>
                    </a:lnTo>
                    <a:cubicBezTo>
                      <a:pt x="16836" y="4"/>
                      <a:pt x="16837" y="5"/>
                      <a:pt x="16837" y="6"/>
                    </a:cubicBezTo>
                    <a:cubicBezTo>
                      <a:pt x="16837" y="7"/>
                      <a:pt x="16836" y="8"/>
                      <a:pt x="16835" y="8"/>
                    </a:cubicBezTo>
                    <a:lnTo>
                      <a:pt x="16835" y="8"/>
                    </a:lnTo>
                    <a:cubicBezTo>
                      <a:pt x="16834" y="8"/>
                      <a:pt x="16833" y="7"/>
                      <a:pt x="16833" y="6"/>
                    </a:cubicBezTo>
                    <a:cubicBezTo>
                      <a:pt x="16833" y="5"/>
                      <a:pt x="16834" y="4"/>
                      <a:pt x="16835" y="4"/>
                    </a:cubicBezTo>
                    <a:close/>
                    <a:moveTo>
                      <a:pt x="16843" y="4"/>
                    </a:moveTo>
                    <a:lnTo>
                      <a:pt x="16843" y="4"/>
                    </a:lnTo>
                    <a:cubicBezTo>
                      <a:pt x="16844" y="4"/>
                      <a:pt x="16845" y="5"/>
                      <a:pt x="16845" y="6"/>
                    </a:cubicBezTo>
                    <a:cubicBezTo>
                      <a:pt x="16845" y="7"/>
                      <a:pt x="16844" y="8"/>
                      <a:pt x="16843" y="8"/>
                    </a:cubicBezTo>
                    <a:lnTo>
                      <a:pt x="16843" y="8"/>
                    </a:lnTo>
                    <a:cubicBezTo>
                      <a:pt x="16842" y="8"/>
                      <a:pt x="16841" y="7"/>
                      <a:pt x="16841" y="6"/>
                    </a:cubicBezTo>
                    <a:cubicBezTo>
                      <a:pt x="16841" y="5"/>
                      <a:pt x="16842" y="4"/>
                      <a:pt x="16843" y="4"/>
                    </a:cubicBezTo>
                    <a:close/>
                    <a:moveTo>
                      <a:pt x="16851" y="4"/>
                    </a:moveTo>
                    <a:lnTo>
                      <a:pt x="16851" y="4"/>
                    </a:lnTo>
                    <a:cubicBezTo>
                      <a:pt x="16852" y="4"/>
                      <a:pt x="16853" y="5"/>
                      <a:pt x="16853" y="6"/>
                    </a:cubicBezTo>
                    <a:cubicBezTo>
                      <a:pt x="16853" y="7"/>
                      <a:pt x="16852" y="8"/>
                      <a:pt x="16851" y="8"/>
                    </a:cubicBezTo>
                    <a:lnTo>
                      <a:pt x="16851" y="8"/>
                    </a:lnTo>
                    <a:cubicBezTo>
                      <a:pt x="16850" y="8"/>
                      <a:pt x="16849" y="7"/>
                      <a:pt x="16849" y="6"/>
                    </a:cubicBezTo>
                    <a:cubicBezTo>
                      <a:pt x="16849" y="5"/>
                      <a:pt x="16850" y="4"/>
                      <a:pt x="16851" y="4"/>
                    </a:cubicBezTo>
                    <a:close/>
                    <a:moveTo>
                      <a:pt x="16859" y="4"/>
                    </a:moveTo>
                    <a:lnTo>
                      <a:pt x="16859" y="4"/>
                    </a:lnTo>
                    <a:cubicBezTo>
                      <a:pt x="16860" y="4"/>
                      <a:pt x="16861" y="5"/>
                      <a:pt x="16861" y="6"/>
                    </a:cubicBezTo>
                    <a:cubicBezTo>
                      <a:pt x="16861" y="7"/>
                      <a:pt x="16860" y="8"/>
                      <a:pt x="16859" y="8"/>
                    </a:cubicBezTo>
                    <a:lnTo>
                      <a:pt x="16859" y="8"/>
                    </a:lnTo>
                    <a:cubicBezTo>
                      <a:pt x="16858" y="8"/>
                      <a:pt x="16857" y="7"/>
                      <a:pt x="16857" y="6"/>
                    </a:cubicBezTo>
                    <a:cubicBezTo>
                      <a:pt x="16857" y="5"/>
                      <a:pt x="16858" y="4"/>
                      <a:pt x="16859" y="4"/>
                    </a:cubicBezTo>
                    <a:close/>
                    <a:moveTo>
                      <a:pt x="16867" y="4"/>
                    </a:moveTo>
                    <a:lnTo>
                      <a:pt x="16867" y="4"/>
                    </a:lnTo>
                    <a:cubicBezTo>
                      <a:pt x="16868" y="4"/>
                      <a:pt x="16869" y="5"/>
                      <a:pt x="16869" y="6"/>
                    </a:cubicBezTo>
                    <a:cubicBezTo>
                      <a:pt x="16869" y="7"/>
                      <a:pt x="16868" y="8"/>
                      <a:pt x="16867" y="8"/>
                    </a:cubicBezTo>
                    <a:lnTo>
                      <a:pt x="16867" y="8"/>
                    </a:lnTo>
                    <a:cubicBezTo>
                      <a:pt x="16866" y="8"/>
                      <a:pt x="16865" y="7"/>
                      <a:pt x="16865" y="6"/>
                    </a:cubicBezTo>
                    <a:cubicBezTo>
                      <a:pt x="16865" y="5"/>
                      <a:pt x="16866" y="4"/>
                      <a:pt x="16867" y="4"/>
                    </a:cubicBezTo>
                    <a:close/>
                    <a:moveTo>
                      <a:pt x="16875" y="4"/>
                    </a:moveTo>
                    <a:lnTo>
                      <a:pt x="16875" y="4"/>
                    </a:lnTo>
                    <a:cubicBezTo>
                      <a:pt x="16876" y="4"/>
                      <a:pt x="16877" y="5"/>
                      <a:pt x="16877" y="6"/>
                    </a:cubicBezTo>
                    <a:cubicBezTo>
                      <a:pt x="16877" y="7"/>
                      <a:pt x="16876" y="8"/>
                      <a:pt x="16875" y="8"/>
                    </a:cubicBezTo>
                    <a:lnTo>
                      <a:pt x="16875" y="8"/>
                    </a:lnTo>
                    <a:cubicBezTo>
                      <a:pt x="16874" y="8"/>
                      <a:pt x="16873" y="7"/>
                      <a:pt x="16873" y="6"/>
                    </a:cubicBezTo>
                    <a:cubicBezTo>
                      <a:pt x="16873" y="5"/>
                      <a:pt x="16874" y="4"/>
                      <a:pt x="16875" y="4"/>
                    </a:cubicBezTo>
                    <a:close/>
                    <a:moveTo>
                      <a:pt x="16883" y="4"/>
                    </a:moveTo>
                    <a:lnTo>
                      <a:pt x="16883" y="4"/>
                    </a:lnTo>
                    <a:cubicBezTo>
                      <a:pt x="16884" y="4"/>
                      <a:pt x="16885" y="5"/>
                      <a:pt x="16885" y="6"/>
                    </a:cubicBezTo>
                    <a:cubicBezTo>
                      <a:pt x="16885" y="7"/>
                      <a:pt x="16884" y="8"/>
                      <a:pt x="16883" y="8"/>
                    </a:cubicBezTo>
                    <a:lnTo>
                      <a:pt x="16883" y="8"/>
                    </a:lnTo>
                    <a:cubicBezTo>
                      <a:pt x="16882" y="8"/>
                      <a:pt x="16881" y="7"/>
                      <a:pt x="16881" y="6"/>
                    </a:cubicBezTo>
                    <a:cubicBezTo>
                      <a:pt x="16881" y="5"/>
                      <a:pt x="16882" y="4"/>
                      <a:pt x="16883" y="4"/>
                    </a:cubicBezTo>
                    <a:close/>
                    <a:moveTo>
                      <a:pt x="16891" y="4"/>
                    </a:moveTo>
                    <a:lnTo>
                      <a:pt x="16891" y="4"/>
                    </a:lnTo>
                    <a:cubicBezTo>
                      <a:pt x="16892" y="4"/>
                      <a:pt x="16893" y="5"/>
                      <a:pt x="16893" y="6"/>
                    </a:cubicBezTo>
                    <a:cubicBezTo>
                      <a:pt x="16893" y="7"/>
                      <a:pt x="16892" y="8"/>
                      <a:pt x="16891" y="8"/>
                    </a:cubicBezTo>
                    <a:lnTo>
                      <a:pt x="16891" y="8"/>
                    </a:lnTo>
                    <a:cubicBezTo>
                      <a:pt x="16890" y="8"/>
                      <a:pt x="16889" y="7"/>
                      <a:pt x="16889" y="6"/>
                    </a:cubicBezTo>
                    <a:cubicBezTo>
                      <a:pt x="16889" y="5"/>
                      <a:pt x="16890" y="4"/>
                      <a:pt x="16891" y="4"/>
                    </a:cubicBezTo>
                    <a:close/>
                    <a:moveTo>
                      <a:pt x="16899" y="4"/>
                    </a:moveTo>
                    <a:lnTo>
                      <a:pt x="16899" y="4"/>
                    </a:lnTo>
                    <a:cubicBezTo>
                      <a:pt x="16901" y="4"/>
                      <a:pt x="16901" y="5"/>
                      <a:pt x="16901" y="6"/>
                    </a:cubicBezTo>
                    <a:cubicBezTo>
                      <a:pt x="16901" y="7"/>
                      <a:pt x="16901" y="8"/>
                      <a:pt x="16899" y="8"/>
                    </a:cubicBezTo>
                    <a:lnTo>
                      <a:pt x="16899" y="8"/>
                    </a:lnTo>
                    <a:cubicBezTo>
                      <a:pt x="16898" y="8"/>
                      <a:pt x="16897" y="7"/>
                      <a:pt x="16897" y="6"/>
                    </a:cubicBezTo>
                    <a:cubicBezTo>
                      <a:pt x="16897" y="5"/>
                      <a:pt x="16898" y="4"/>
                      <a:pt x="16899" y="4"/>
                    </a:cubicBezTo>
                    <a:close/>
                    <a:moveTo>
                      <a:pt x="16907" y="4"/>
                    </a:moveTo>
                    <a:lnTo>
                      <a:pt x="16907" y="4"/>
                    </a:lnTo>
                    <a:cubicBezTo>
                      <a:pt x="16909" y="4"/>
                      <a:pt x="16909" y="5"/>
                      <a:pt x="16909" y="6"/>
                    </a:cubicBezTo>
                    <a:cubicBezTo>
                      <a:pt x="16909" y="7"/>
                      <a:pt x="16909" y="8"/>
                      <a:pt x="16907" y="8"/>
                    </a:cubicBezTo>
                    <a:lnTo>
                      <a:pt x="16907" y="8"/>
                    </a:lnTo>
                    <a:cubicBezTo>
                      <a:pt x="16906" y="8"/>
                      <a:pt x="16905" y="7"/>
                      <a:pt x="16905" y="6"/>
                    </a:cubicBezTo>
                    <a:cubicBezTo>
                      <a:pt x="16905" y="5"/>
                      <a:pt x="16906" y="4"/>
                      <a:pt x="16907" y="4"/>
                    </a:cubicBezTo>
                    <a:close/>
                    <a:moveTo>
                      <a:pt x="16915" y="4"/>
                    </a:moveTo>
                    <a:lnTo>
                      <a:pt x="16915" y="4"/>
                    </a:lnTo>
                    <a:cubicBezTo>
                      <a:pt x="16917" y="4"/>
                      <a:pt x="16917" y="5"/>
                      <a:pt x="16917" y="6"/>
                    </a:cubicBezTo>
                    <a:cubicBezTo>
                      <a:pt x="16917" y="7"/>
                      <a:pt x="16917" y="8"/>
                      <a:pt x="16915" y="8"/>
                    </a:cubicBezTo>
                    <a:lnTo>
                      <a:pt x="16915" y="8"/>
                    </a:lnTo>
                    <a:cubicBezTo>
                      <a:pt x="16914" y="8"/>
                      <a:pt x="16913" y="7"/>
                      <a:pt x="16913" y="6"/>
                    </a:cubicBezTo>
                    <a:cubicBezTo>
                      <a:pt x="16913" y="5"/>
                      <a:pt x="16914" y="4"/>
                      <a:pt x="16915" y="4"/>
                    </a:cubicBezTo>
                    <a:close/>
                    <a:moveTo>
                      <a:pt x="16923" y="4"/>
                    </a:moveTo>
                    <a:lnTo>
                      <a:pt x="16923" y="4"/>
                    </a:lnTo>
                    <a:cubicBezTo>
                      <a:pt x="16925" y="4"/>
                      <a:pt x="16925" y="5"/>
                      <a:pt x="16925" y="6"/>
                    </a:cubicBezTo>
                    <a:cubicBezTo>
                      <a:pt x="16925" y="7"/>
                      <a:pt x="16925" y="8"/>
                      <a:pt x="16923" y="8"/>
                    </a:cubicBezTo>
                    <a:lnTo>
                      <a:pt x="16923" y="8"/>
                    </a:lnTo>
                    <a:cubicBezTo>
                      <a:pt x="16922" y="8"/>
                      <a:pt x="16921" y="7"/>
                      <a:pt x="16921" y="6"/>
                    </a:cubicBezTo>
                    <a:cubicBezTo>
                      <a:pt x="16921" y="5"/>
                      <a:pt x="16922" y="4"/>
                      <a:pt x="16923" y="4"/>
                    </a:cubicBezTo>
                    <a:close/>
                    <a:moveTo>
                      <a:pt x="16931" y="4"/>
                    </a:moveTo>
                    <a:lnTo>
                      <a:pt x="16931" y="4"/>
                    </a:lnTo>
                    <a:cubicBezTo>
                      <a:pt x="16933" y="4"/>
                      <a:pt x="16933" y="5"/>
                      <a:pt x="16933" y="6"/>
                    </a:cubicBezTo>
                    <a:cubicBezTo>
                      <a:pt x="16933" y="7"/>
                      <a:pt x="16933" y="8"/>
                      <a:pt x="16931" y="8"/>
                    </a:cubicBezTo>
                    <a:lnTo>
                      <a:pt x="16931" y="8"/>
                    </a:lnTo>
                    <a:cubicBezTo>
                      <a:pt x="16930" y="8"/>
                      <a:pt x="16929" y="7"/>
                      <a:pt x="16929" y="6"/>
                    </a:cubicBezTo>
                    <a:cubicBezTo>
                      <a:pt x="16929" y="5"/>
                      <a:pt x="16930" y="4"/>
                      <a:pt x="16931" y="4"/>
                    </a:cubicBezTo>
                    <a:close/>
                    <a:moveTo>
                      <a:pt x="16939" y="4"/>
                    </a:moveTo>
                    <a:lnTo>
                      <a:pt x="16939" y="4"/>
                    </a:lnTo>
                    <a:cubicBezTo>
                      <a:pt x="16941" y="4"/>
                      <a:pt x="16941" y="5"/>
                      <a:pt x="16941" y="6"/>
                    </a:cubicBezTo>
                    <a:cubicBezTo>
                      <a:pt x="16941" y="7"/>
                      <a:pt x="16941" y="8"/>
                      <a:pt x="16939" y="8"/>
                    </a:cubicBezTo>
                    <a:lnTo>
                      <a:pt x="16939" y="8"/>
                    </a:lnTo>
                    <a:cubicBezTo>
                      <a:pt x="16938" y="8"/>
                      <a:pt x="16937" y="7"/>
                      <a:pt x="16937" y="6"/>
                    </a:cubicBezTo>
                    <a:cubicBezTo>
                      <a:pt x="16937" y="5"/>
                      <a:pt x="16938" y="4"/>
                      <a:pt x="16939" y="4"/>
                    </a:cubicBezTo>
                    <a:close/>
                    <a:moveTo>
                      <a:pt x="16947" y="4"/>
                    </a:moveTo>
                    <a:lnTo>
                      <a:pt x="16947" y="4"/>
                    </a:lnTo>
                    <a:cubicBezTo>
                      <a:pt x="16949" y="4"/>
                      <a:pt x="16949" y="5"/>
                      <a:pt x="16949" y="6"/>
                    </a:cubicBezTo>
                    <a:cubicBezTo>
                      <a:pt x="16949" y="7"/>
                      <a:pt x="16949" y="8"/>
                      <a:pt x="16947" y="8"/>
                    </a:cubicBezTo>
                    <a:lnTo>
                      <a:pt x="16947" y="8"/>
                    </a:lnTo>
                    <a:cubicBezTo>
                      <a:pt x="16946" y="8"/>
                      <a:pt x="16945" y="7"/>
                      <a:pt x="16945" y="6"/>
                    </a:cubicBezTo>
                    <a:cubicBezTo>
                      <a:pt x="16945" y="5"/>
                      <a:pt x="16946" y="4"/>
                      <a:pt x="16947" y="4"/>
                    </a:cubicBezTo>
                    <a:close/>
                    <a:moveTo>
                      <a:pt x="16955" y="4"/>
                    </a:moveTo>
                    <a:lnTo>
                      <a:pt x="16955" y="4"/>
                    </a:lnTo>
                    <a:cubicBezTo>
                      <a:pt x="16957" y="4"/>
                      <a:pt x="16957" y="5"/>
                      <a:pt x="16957" y="6"/>
                    </a:cubicBezTo>
                    <a:cubicBezTo>
                      <a:pt x="16957" y="7"/>
                      <a:pt x="16957" y="8"/>
                      <a:pt x="16955" y="8"/>
                    </a:cubicBezTo>
                    <a:lnTo>
                      <a:pt x="16955" y="8"/>
                    </a:lnTo>
                    <a:cubicBezTo>
                      <a:pt x="16954" y="8"/>
                      <a:pt x="16953" y="7"/>
                      <a:pt x="16953" y="6"/>
                    </a:cubicBezTo>
                    <a:cubicBezTo>
                      <a:pt x="16953" y="5"/>
                      <a:pt x="16954" y="4"/>
                      <a:pt x="16955" y="4"/>
                    </a:cubicBezTo>
                    <a:close/>
                    <a:moveTo>
                      <a:pt x="16963" y="4"/>
                    </a:moveTo>
                    <a:lnTo>
                      <a:pt x="16963" y="4"/>
                    </a:lnTo>
                    <a:cubicBezTo>
                      <a:pt x="16965" y="4"/>
                      <a:pt x="16965" y="5"/>
                      <a:pt x="16965" y="6"/>
                    </a:cubicBezTo>
                    <a:cubicBezTo>
                      <a:pt x="16965" y="7"/>
                      <a:pt x="16965" y="8"/>
                      <a:pt x="16963" y="8"/>
                    </a:cubicBezTo>
                    <a:lnTo>
                      <a:pt x="16963" y="8"/>
                    </a:lnTo>
                    <a:cubicBezTo>
                      <a:pt x="16962" y="8"/>
                      <a:pt x="16961" y="7"/>
                      <a:pt x="16961" y="6"/>
                    </a:cubicBezTo>
                    <a:cubicBezTo>
                      <a:pt x="16961" y="5"/>
                      <a:pt x="16962" y="4"/>
                      <a:pt x="16963" y="4"/>
                    </a:cubicBezTo>
                    <a:close/>
                    <a:moveTo>
                      <a:pt x="16971" y="4"/>
                    </a:moveTo>
                    <a:lnTo>
                      <a:pt x="16971" y="4"/>
                    </a:lnTo>
                    <a:cubicBezTo>
                      <a:pt x="16973" y="4"/>
                      <a:pt x="16973" y="5"/>
                      <a:pt x="16973" y="6"/>
                    </a:cubicBezTo>
                    <a:cubicBezTo>
                      <a:pt x="16973" y="7"/>
                      <a:pt x="16973" y="8"/>
                      <a:pt x="16971" y="8"/>
                    </a:cubicBezTo>
                    <a:lnTo>
                      <a:pt x="16971" y="8"/>
                    </a:lnTo>
                    <a:cubicBezTo>
                      <a:pt x="16970" y="8"/>
                      <a:pt x="16969" y="7"/>
                      <a:pt x="16969" y="6"/>
                    </a:cubicBezTo>
                    <a:cubicBezTo>
                      <a:pt x="16969" y="5"/>
                      <a:pt x="16970" y="4"/>
                      <a:pt x="16971" y="4"/>
                    </a:cubicBezTo>
                    <a:close/>
                    <a:moveTo>
                      <a:pt x="16979" y="4"/>
                    </a:moveTo>
                    <a:lnTo>
                      <a:pt x="16979" y="4"/>
                    </a:lnTo>
                    <a:cubicBezTo>
                      <a:pt x="16981" y="4"/>
                      <a:pt x="16981" y="5"/>
                      <a:pt x="16981" y="6"/>
                    </a:cubicBezTo>
                    <a:cubicBezTo>
                      <a:pt x="16981" y="7"/>
                      <a:pt x="16981" y="8"/>
                      <a:pt x="16979" y="8"/>
                    </a:cubicBezTo>
                    <a:lnTo>
                      <a:pt x="16979" y="8"/>
                    </a:lnTo>
                    <a:cubicBezTo>
                      <a:pt x="16978" y="8"/>
                      <a:pt x="16977" y="7"/>
                      <a:pt x="16977" y="6"/>
                    </a:cubicBezTo>
                    <a:cubicBezTo>
                      <a:pt x="16977" y="5"/>
                      <a:pt x="16978" y="4"/>
                      <a:pt x="16979" y="4"/>
                    </a:cubicBezTo>
                    <a:close/>
                    <a:moveTo>
                      <a:pt x="16987" y="4"/>
                    </a:moveTo>
                    <a:lnTo>
                      <a:pt x="16987" y="4"/>
                    </a:lnTo>
                    <a:cubicBezTo>
                      <a:pt x="16989" y="4"/>
                      <a:pt x="16989" y="5"/>
                      <a:pt x="16989" y="6"/>
                    </a:cubicBezTo>
                    <a:cubicBezTo>
                      <a:pt x="16989" y="7"/>
                      <a:pt x="16989" y="8"/>
                      <a:pt x="16987" y="8"/>
                    </a:cubicBezTo>
                    <a:lnTo>
                      <a:pt x="16987" y="8"/>
                    </a:lnTo>
                    <a:cubicBezTo>
                      <a:pt x="16986" y="8"/>
                      <a:pt x="16985" y="7"/>
                      <a:pt x="16985" y="6"/>
                    </a:cubicBezTo>
                    <a:cubicBezTo>
                      <a:pt x="16985" y="5"/>
                      <a:pt x="16986" y="4"/>
                      <a:pt x="16987" y="4"/>
                    </a:cubicBezTo>
                    <a:close/>
                    <a:moveTo>
                      <a:pt x="16995" y="4"/>
                    </a:moveTo>
                    <a:lnTo>
                      <a:pt x="16995" y="4"/>
                    </a:lnTo>
                    <a:cubicBezTo>
                      <a:pt x="16997" y="4"/>
                      <a:pt x="16997" y="5"/>
                      <a:pt x="16997" y="6"/>
                    </a:cubicBezTo>
                    <a:cubicBezTo>
                      <a:pt x="16997" y="7"/>
                      <a:pt x="16997" y="8"/>
                      <a:pt x="16995" y="8"/>
                    </a:cubicBezTo>
                    <a:lnTo>
                      <a:pt x="16995" y="8"/>
                    </a:lnTo>
                    <a:cubicBezTo>
                      <a:pt x="16994" y="8"/>
                      <a:pt x="16993" y="7"/>
                      <a:pt x="16993" y="6"/>
                    </a:cubicBezTo>
                    <a:cubicBezTo>
                      <a:pt x="16993" y="5"/>
                      <a:pt x="16994" y="4"/>
                      <a:pt x="16995" y="4"/>
                    </a:cubicBezTo>
                    <a:close/>
                    <a:moveTo>
                      <a:pt x="17003" y="4"/>
                    </a:moveTo>
                    <a:lnTo>
                      <a:pt x="17003" y="4"/>
                    </a:lnTo>
                    <a:cubicBezTo>
                      <a:pt x="17005" y="4"/>
                      <a:pt x="17005" y="5"/>
                      <a:pt x="17005" y="6"/>
                    </a:cubicBezTo>
                    <a:cubicBezTo>
                      <a:pt x="17005" y="7"/>
                      <a:pt x="17005" y="8"/>
                      <a:pt x="17003" y="8"/>
                    </a:cubicBezTo>
                    <a:lnTo>
                      <a:pt x="17003" y="8"/>
                    </a:lnTo>
                    <a:cubicBezTo>
                      <a:pt x="17002" y="8"/>
                      <a:pt x="17001" y="7"/>
                      <a:pt x="17001" y="6"/>
                    </a:cubicBezTo>
                    <a:cubicBezTo>
                      <a:pt x="17001" y="5"/>
                      <a:pt x="17002" y="4"/>
                      <a:pt x="17003" y="4"/>
                    </a:cubicBezTo>
                    <a:close/>
                    <a:moveTo>
                      <a:pt x="17011" y="4"/>
                    </a:moveTo>
                    <a:lnTo>
                      <a:pt x="17011" y="4"/>
                    </a:lnTo>
                    <a:cubicBezTo>
                      <a:pt x="17013" y="4"/>
                      <a:pt x="17013" y="5"/>
                      <a:pt x="17013" y="6"/>
                    </a:cubicBezTo>
                    <a:cubicBezTo>
                      <a:pt x="17013" y="7"/>
                      <a:pt x="17013" y="8"/>
                      <a:pt x="17011" y="8"/>
                    </a:cubicBezTo>
                    <a:lnTo>
                      <a:pt x="17011" y="8"/>
                    </a:lnTo>
                    <a:cubicBezTo>
                      <a:pt x="17010" y="8"/>
                      <a:pt x="17009" y="7"/>
                      <a:pt x="17009" y="6"/>
                    </a:cubicBezTo>
                    <a:cubicBezTo>
                      <a:pt x="17009" y="5"/>
                      <a:pt x="17010" y="4"/>
                      <a:pt x="17011" y="4"/>
                    </a:cubicBezTo>
                    <a:close/>
                    <a:moveTo>
                      <a:pt x="17019" y="4"/>
                    </a:moveTo>
                    <a:lnTo>
                      <a:pt x="17019" y="4"/>
                    </a:lnTo>
                    <a:cubicBezTo>
                      <a:pt x="17021" y="4"/>
                      <a:pt x="17021" y="5"/>
                      <a:pt x="17021" y="6"/>
                    </a:cubicBezTo>
                    <a:cubicBezTo>
                      <a:pt x="17021" y="7"/>
                      <a:pt x="17021" y="8"/>
                      <a:pt x="17019" y="8"/>
                    </a:cubicBezTo>
                    <a:lnTo>
                      <a:pt x="17019" y="8"/>
                    </a:lnTo>
                    <a:cubicBezTo>
                      <a:pt x="17018" y="8"/>
                      <a:pt x="17017" y="7"/>
                      <a:pt x="17017" y="6"/>
                    </a:cubicBezTo>
                    <a:cubicBezTo>
                      <a:pt x="17017" y="5"/>
                      <a:pt x="17018" y="4"/>
                      <a:pt x="17019" y="4"/>
                    </a:cubicBezTo>
                    <a:close/>
                    <a:moveTo>
                      <a:pt x="17027" y="4"/>
                    </a:moveTo>
                    <a:lnTo>
                      <a:pt x="17027" y="4"/>
                    </a:lnTo>
                    <a:cubicBezTo>
                      <a:pt x="17029" y="4"/>
                      <a:pt x="17029" y="5"/>
                      <a:pt x="17029" y="6"/>
                    </a:cubicBezTo>
                    <a:cubicBezTo>
                      <a:pt x="17029" y="7"/>
                      <a:pt x="17029" y="8"/>
                      <a:pt x="17027" y="8"/>
                    </a:cubicBezTo>
                    <a:lnTo>
                      <a:pt x="17027" y="8"/>
                    </a:lnTo>
                    <a:cubicBezTo>
                      <a:pt x="17026" y="8"/>
                      <a:pt x="17025" y="7"/>
                      <a:pt x="17025" y="6"/>
                    </a:cubicBezTo>
                    <a:cubicBezTo>
                      <a:pt x="17025" y="5"/>
                      <a:pt x="17026" y="4"/>
                      <a:pt x="17027" y="4"/>
                    </a:cubicBezTo>
                    <a:close/>
                    <a:moveTo>
                      <a:pt x="17035" y="4"/>
                    </a:moveTo>
                    <a:lnTo>
                      <a:pt x="17035" y="4"/>
                    </a:lnTo>
                    <a:cubicBezTo>
                      <a:pt x="17037" y="4"/>
                      <a:pt x="17037" y="5"/>
                      <a:pt x="17037" y="6"/>
                    </a:cubicBezTo>
                    <a:cubicBezTo>
                      <a:pt x="17037" y="7"/>
                      <a:pt x="17037" y="8"/>
                      <a:pt x="17035" y="8"/>
                    </a:cubicBezTo>
                    <a:lnTo>
                      <a:pt x="17035" y="8"/>
                    </a:lnTo>
                    <a:cubicBezTo>
                      <a:pt x="17034" y="8"/>
                      <a:pt x="17033" y="7"/>
                      <a:pt x="17033" y="6"/>
                    </a:cubicBezTo>
                    <a:cubicBezTo>
                      <a:pt x="17033" y="5"/>
                      <a:pt x="17034" y="4"/>
                      <a:pt x="17035" y="4"/>
                    </a:cubicBezTo>
                    <a:close/>
                    <a:moveTo>
                      <a:pt x="17044" y="4"/>
                    </a:moveTo>
                    <a:lnTo>
                      <a:pt x="17044" y="4"/>
                    </a:lnTo>
                    <a:cubicBezTo>
                      <a:pt x="17045" y="4"/>
                      <a:pt x="17046" y="5"/>
                      <a:pt x="17046" y="6"/>
                    </a:cubicBezTo>
                    <a:cubicBezTo>
                      <a:pt x="17046" y="7"/>
                      <a:pt x="17045" y="8"/>
                      <a:pt x="17044" y="8"/>
                    </a:cubicBezTo>
                    <a:lnTo>
                      <a:pt x="17044" y="8"/>
                    </a:lnTo>
                    <a:cubicBezTo>
                      <a:pt x="17042" y="8"/>
                      <a:pt x="17041" y="7"/>
                      <a:pt x="17041" y="6"/>
                    </a:cubicBezTo>
                    <a:cubicBezTo>
                      <a:pt x="17041" y="5"/>
                      <a:pt x="17042" y="4"/>
                      <a:pt x="17044" y="4"/>
                    </a:cubicBezTo>
                    <a:close/>
                    <a:moveTo>
                      <a:pt x="17052" y="4"/>
                    </a:moveTo>
                    <a:lnTo>
                      <a:pt x="17052" y="4"/>
                    </a:lnTo>
                    <a:cubicBezTo>
                      <a:pt x="17053" y="4"/>
                      <a:pt x="17054" y="5"/>
                      <a:pt x="17054" y="6"/>
                    </a:cubicBezTo>
                    <a:cubicBezTo>
                      <a:pt x="17054" y="7"/>
                      <a:pt x="17053" y="8"/>
                      <a:pt x="17052" y="8"/>
                    </a:cubicBezTo>
                    <a:lnTo>
                      <a:pt x="17052" y="8"/>
                    </a:lnTo>
                    <a:cubicBezTo>
                      <a:pt x="17050" y="8"/>
                      <a:pt x="17050" y="7"/>
                      <a:pt x="17050" y="6"/>
                    </a:cubicBezTo>
                    <a:cubicBezTo>
                      <a:pt x="17050" y="5"/>
                      <a:pt x="17050" y="4"/>
                      <a:pt x="17052" y="4"/>
                    </a:cubicBezTo>
                    <a:close/>
                    <a:moveTo>
                      <a:pt x="17060" y="4"/>
                    </a:moveTo>
                    <a:lnTo>
                      <a:pt x="17060" y="4"/>
                    </a:lnTo>
                    <a:cubicBezTo>
                      <a:pt x="17061" y="4"/>
                      <a:pt x="17062" y="5"/>
                      <a:pt x="17062" y="6"/>
                    </a:cubicBezTo>
                    <a:cubicBezTo>
                      <a:pt x="17062" y="7"/>
                      <a:pt x="17061" y="8"/>
                      <a:pt x="17060" y="8"/>
                    </a:cubicBezTo>
                    <a:lnTo>
                      <a:pt x="17060" y="8"/>
                    </a:lnTo>
                    <a:cubicBezTo>
                      <a:pt x="17058" y="8"/>
                      <a:pt x="17058" y="7"/>
                      <a:pt x="17058" y="6"/>
                    </a:cubicBezTo>
                    <a:cubicBezTo>
                      <a:pt x="17058" y="5"/>
                      <a:pt x="17058" y="4"/>
                      <a:pt x="17060" y="4"/>
                    </a:cubicBezTo>
                    <a:close/>
                    <a:moveTo>
                      <a:pt x="17068" y="4"/>
                    </a:moveTo>
                    <a:lnTo>
                      <a:pt x="17068" y="4"/>
                    </a:lnTo>
                    <a:cubicBezTo>
                      <a:pt x="17069" y="4"/>
                      <a:pt x="17070" y="5"/>
                      <a:pt x="17070" y="6"/>
                    </a:cubicBezTo>
                    <a:cubicBezTo>
                      <a:pt x="17070" y="7"/>
                      <a:pt x="17069" y="8"/>
                      <a:pt x="17068" y="8"/>
                    </a:cubicBezTo>
                    <a:lnTo>
                      <a:pt x="17068" y="8"/>
                    </a:lnTo>
                    <a:cubicBezTo>
                      <a:pt x="17066" y="8"/>
                      <a:pt x="17066" y="7"/>
                      <a:pt x="17066" y="6"/>
                    </a:cubicBezTo>
                    <a:cubicBezTo>
                      <a:pt x="17066" y="5"/>
                      <a:pt x="17066" y="4"/>
                      <a:pt x="17068" y="4"/>
                    </a:cubicBezTo>
                    <a:close/>
                    <a:moveTo>
                      <a:pt x="17076" y="4"/>
                    </a:moveTo>
                    <a:lnTo>
                      <a:pt x="17076" y="4"/>
                    </a:lnTo>
                    <a:cubicBezTo>
                      <a:pt x="17077" y="4"/>
                      <a:pt x="17078" y="5"/>
                      <a:pt x="17078" y="6"/>
                    </a:cubicBezTo>
                    <a:cubicBezTo>
                      <a:pt x="17078" y="7"/>
                      <a:pt x="17077" y="8"/>
                      <a:pt x="17076" y="8"/>
                    </a:cubicBezTo>
                    <a:lnTo>
                      <a:pt x="17076" y="8"/>
                    </a:lnTo>
                    <a:cubicBezTo>
                      <a:pt x="17074" y="8"/>
                      <a:pt x="17074" y="7"/>
                      <a:pt x="17074" y="6"/>
                    </a:cubicBezTo>
                    <a:cubicBezTo>
                      <a:pt x="17074" y="5"/>
                      <a:pt x="17074" y="4"/>
                      <a:pt x="17076" y="4"/>
                    </a:cubicBezTo>
                    <a:close/>
                    <a:moveTo>
                      <a:pt x="17084" y="4"/>
                    </a:moveTo>
                    <a:lnTo>
                      <a:pt x="17084" y="4"/>
                    </a:lnTo>
                    <a:cubicBezTo>
                      <a:pt x="17085" y="4"/>
                      <a:pt x="17086" y="5"/>
                      <a:pt x="17086" y="6"/>
                    </a:cubicBezTo>
                    <a:cubicBezTo>
                      <a:pt x="17086" y="7"/>
                      <a:pt x="17085" y="8"/>
                      <a:pt x="17084" y="8"/>
                    </a:cubicBezTo>
                    <a:lnTo>
                      <a:pt x="17084" y="8"/>
                    </a:lnTo>
                    <a:cubicBezTo>
                      <a:pt x="17082" y="8"/>
                      <a:pt x="17082" y="7"/>
                      <a:pt x="17082" y="6"/>
                    </a:cubicBezTo>
                    <a:cubicBezTo>
                      <a:pt x="17082" y="5"/>
                      <a:pt x="17082" y="4"/>
                      <a:pt x="17084" y="4"/>
                    </a:cubicBezTo>
                    <a:close/>
                    <a:moveTo>
                      <a:pt x="17092" y="4"/>
                    </a:moveTo>
                    <a:lnTo>
                      <a:pt x="17092" y="4"/>
                    </a:lnTo>
                    <a:cubicBezTo>
                      <a:pt x="17093" y="4"/>
                      <a:pt x="17094" y="5"/>
                      <a:pt x="17094" y="6"/>
                    </a:cubicBezTo>
                    <a:cubicBezTo>
                      <a:pt x="17094" y="7"/>
                      <a:pt x="17093" y="8"/>
                      <a:pt x="17092" y="8"/>
                    </a:cubicBezTo>
                    <a:lnTo>
                      <a:pt x="17092" y="8"/>
                    </a:lnTo>
                    <a:cubicBezTo>
                      <a:pt x="17090" y="8"/>
                      <a:pt x="17090" y="7"/>
                      <a:pt x="17090" y="6"/>
                    </a:cubicBezTo>
                    <a:cubicBezTo>
                      <a:pt x="17090" y="5"/>
                      <a:pt x="17090" y="4"/>
                      <a:pt x="17092" y="4"/>
                    </a:cubicBezTo>
                    <a:close/>
                    <a:moveTo>
                      <a:pt x="17100" y="4"/>
                    </a:moveTo>
                    <a:lnTo>
                      <a:pt x="17100" y="4"/>
                    </a:lnTo>
                    <a:cubicBezTo>
                      <a:pt x="17101" y="4"/>
                      <a:pt x="17102" y="5"/>
                      <a:pt x="17102" y="6"/>
                    </a:cubicBezTo>
                    <a:cubicBezTo>
                      <a:pt x="17102" y="7"/>
                      <a:pt x="17101" y="8"/>
                      <a:pt x="17100" y="8"/>
                    </a:cubicBezTo>
                    <a:lnTo>
                      <a:pt x="17100" y="8"/>
                    </a:lnTo>
                    <a:cubicBezTo>
                      <a:pt x="17098" y="8"/>
                      <a:pt x="17098" y="7"/>
                      <a:pt x="17098" y="6"/>
                    </a:cubicBezTo>
                    <a:cubicBezTo>
                      <a:pt x="17098" y="5"/>
                      <a:pt x="17098" y="4"/>
                      <a:pt x="17100" y="4"/>
                    </a:cubicBezTo>
                    <a:close/>
                    <a:moveTo>
                      <a:pt x="17108" y="4"/>
                    </a:moveTo>
                    <a:lnTo>
                      <a:pt x="17108" y="4"/>
                    </a:lnTo>
                    <a:cubicBezTo>
                      <a:pt x="17109" y="4"/>
                      <a:pt x="17110" y="5"/>
                      <a:pt x="17110" y="6"/>
                    </a:cubicBezTo>
                    <a:cubicBezTo>
                      <a:pt x="17110" y="7"/>
                      <a:pt x="17109" y="8"/>
                      <a:pt x="17108" y="8"/>
                    </a:cubicBezTo>
                    <a:lnTo>
                      <a:pt x="17108" y="8"/>
                    </a:lnTo>
                    <a:cubicBezTo>
                      <a:pt x="17106" y="8"/>
                      <a:pt x="17106" y="7"/>
                      <a:pt x="17106" y="6"/>
                    </a:cubicBezTo>
                    <a:cubicBezTo>
                      <a:pt x="17106" y="5"/>
                      <a:pt x="17106" y="4"/>
                      <a:pt x="17108" y="4"/>
                    </a:cubicBezTo>
                    <a:close/>
                    <a:moveTo>
                      <a:pt x="17116" y="4"/>
                    </a:moveTo>
                    <a:lnTo>
                      <a:pt x="17116" y="4"/>
                    </a:lnTo>
                    <a:cubicBezTo>
                      <a:pt x="17117" y="4"/>
                      <a:pt x="17118" y="5"/>
                      <a:pt x="17118" y="6"/>
                    </a:cubicBezTo>
                    <a:cubicBezTo>
                      <a:pt x="17118" y="7"/>
                      <a:pt x="17117" y="8"/>
                      <a:pt x="17116" y="8"/>
                    </a:cubicBezTo>
                    <a:lnTo>
                      <a:pt x="17116" y="8"/>
                    </a:lnTo>
                    <a:cubicBezTo>
                      <a:pt x="17114" y="8"/>
                      <a:pt x="17114" y="7"/>
                      <a:pt x="17114" y="6"/>
                    </a:cubicBezTo>
                    <a:cubicBezTo>
                      <a:pt x="17114" y="5"/>
                      <a:pt x="17114" y="4"/>
                      <a:pt x="17116" y="4"/>
                    </a:cubicBezTo>
                    <a:close/>
                    <a:moveTo>
                      <a:pt x="17124" y="4"/>
                    </a:moveTo>
                    <a:lnTo>
                      <a:pt x="17124" y="4"/>
                    </a:lnTo>
                    <a:cubicBezTo>
                      <a:pt x="17125" y="4"/>
                      <a:pt x="17126" y="5"/>
                      <a:pt x="17126" y="6"/>
                    </a:cubicBezTo>
                    <a:cubicBezTo>
                      <a:pt x="17126" y="7"/>
                      <a:pt x="17125" y="8"/>
                      <a:pt x="17124" y="8"/>
                    </a:cubicBezTo>
                    <a:lnTo>
                      <a:pt x="17124" y="8"/>
                    </a:lnTo>
                    <a:cubicBezTo>
                      <a:pt x="17122" y="8"/>
                      <a:pt x="17122" y="7"/>
                      <a:pt x="17122" y="6"/>
                    </a:cubicBezTo>
                    <a:cubicBezTo>
                      <a:pt x="17122" y="5"/>
                      <a:pt x="17122" y="4"/>
                      <a:pt x="17124" y="4"/>
                    </a:cubicBezTo>
                    <a:close/>
                    <a:moveTo>
                      <a:pt x="17132" y="4"/>
                    </a:moveTo>
                    <a:lnTo>
                      <a:pt x="17132" y="4"/>
                    </a:lnTo>
                    <a:cubicBezTo>
                      <a:pt x="17133" y="4"/>
                      <a:pt x="17134" y="5"/>
                      <a:pt x="17134" y="6"/>
                    </a:cubicBezTo>
                    <a:cubicBezTo>
                      <a:pt x="17134" y="7"/>
                      <a:pt x="17133" y="8"/>
                      <a:pt x="17132" y="8"/>
                    </a:cubicBezTo>
                    <a:lnTo>
                      <a:pt x="17132" y="8"/>
                    </a:lnTo>
                    <a:cubicBezTo>
                      <a:pt x="17130" y="8"/>
                      <a:pt x="17130" y="7"/>
                      <a:pt x="17130" y="6"/>
                    </a:cubicBezTo>
                    <a:cubicBezTo>
                      <a:pt x="17130" y="5"/>
                      <a:pt x="17130" y="4"/>
                      <a:pt x="17132" y="4"/>
                    </a:cubicBezTo>
                    <a:close/>
                    <a:moveTo>
                      <a:pt x="17140" y="4"/>
                    </a:moveTo>
                    <a:lnTo>
                      <a:pt x="17140" y="4"/>
                    </a:lnTo>
                    <a:cubicBezTo>
                      <a:pt x="17141" y="4"/>
                      <a:pt x="17142" y="5"/>
                      <a:pt x="17142" y="6"/>
                    </a:cubicBezTo>
                    <a:cubicBezTo>
                      <a:pt x="17142" y="7"/>
                      <a:pt x="17141" y="8"/>
                      <a:pt x="17140" y="8"/>
                    </a:cubicBezTo>
                    <a:lnTo>
                      <a:pt x="17140" y="8"/>
                    </a:lnTo>
                    <a:cubicBezTo>
                      <a:pt x="17138" y="8"/>
                      <a:pt x="17138" y="7"/>
                      <a:pt x="17138" y="6"/>
                    </a:cubicBezTo>
                    <a:cubicBezTo>
                      <a:pt x="17138" y="5"/>
                      <a:pt x="17138" y="4"/>
                      <a:pt x="17140" y="4"/>
                    </a:cubicBezTo>
                    <a:close/>
                    <a:moveTo>
                      <a:pt x="17148" y="4"/>
                    </a:moveTo>
                    <a:lnTo>
                      <a:pt x="17148" y="4"/>
                    </a:lnTo>
                    <a:cubicBezTo>
                      <a:pt x="17149" y="4"/>
                      <a:pt x="17150" y="5"/>
                      <a:pt x="17150" y="6"/>
                    </a:cubicBezTo>
                    <a:cubicBezTo>
                      <a:pt x="17150" y="7"/>
                      <a:pt x="17149" y="8"/>
                      <a:pt x="17148" y="8"/>
                    </a:cubicBezTo>
                    <a:lnTo>
                      <a:pt x="17148" y="8"/>
                    </a:lnTo>
                    <a:cubicBezTo>
                      <a:pt x="17146" y="8"/>
                      <a:pt x="17146" y="7"/>
                      <a:pt x="17146" y="6"/>
                    </a:cubicBezTo>
                    <a:cubicBezTo>
                      <a:pt x="17146" y="5"/>
                      <a:pt x="17146" y="4"/>
                      <a:pt x="17148" y="4"/>
                    </a:cubicBezTo>
                    <a:close/>
                    <a:moveTo>
                      <a:pt x="17156" y="4"/>
                    </a:moveTo>
                    <a:lnTo>
                      <a:pt x="17156" y="4"/>
                    </a:lnTo>
                    <a:cubicBezTo>
                      <a:pt x="17157" y="4"/>
                      <a:pt x="17158" y="5"/>
                      <a:pt x="17158" y="6"/>
                    </a:cubicBezTo>
                    <a:cubicBezTo>
                      <a:pt x="17158" y="7"/>
                      <a:pt x="17157" y="8"/>
                      <a:pt x="17156" y="8"/>
                    </a:cubicBezTo>
                    <a:lnTo>
                      <a:pt x="17156" y="8"/>
                    </a:lnTo>
                    <a:cubicBezTo>
                      <a:pt x="17154" y="8"/>
                      <a:pt x="17154" y="7"/>
                      <a:pt x="17154" y="6"/>
                    </a:cubicBezTo>
                    <a:cubicBezTo>
                      <a:pt x="17154" y="5"/>
                      <a:pt x="17154" y="4"/>
                      <a:pt x="17156" y="4"/>
                    </a:cubicBezTo>
                    <a:close/>
                    <a:moveTo>
                      <a:pt x="17164" y="4"/>
                    </a:moveTo>
                    <a:lnTo>
                      <a:pt x="17164" y="4"/>
                    </a:lnTo>
                    <a:cubicBezTo>
                      <a:pt x="17165" y="4"/>
                      <a:pt x="17166" y="5"/>
                      <a:pt x="17166" y="6"/>
                    </a:cubicBezTo>
                    <a:cubicBezTo>
                      <a:pt x="17166" y="7"/>
                      <a:pt x="17165" y="8"/>
                      <a:pt x="17164" y="8"/>
                    </a:cubicBezTo>
                    <a:lnTo>
                      <a:pt x="17164" y="8"/>
                    </a:lnTo>
                    <a:cubicBezTo>
                      <a:pt x="17162" y="8"/>
                      <a:pt x="17162" y="7"/>
                      <a:pt x="17162" y="6"/>
                    </a:cubicBezTo>
                    <a:cubicBezTo>
                      <a:pt x="17162" y="5"/>
                      <a:pt x="17162" y="4"/>
                      <a:pt x="17164" y="4"/>
                    </a:cubicBezTo>
                    <a:close/>
                    <a:moveTo>
                      <a:pt x="17172" y="4"/>
                    </a:moveTo>
                    <a:lnTo>
                      <a:pt x="17172" y="4"/>
                    </a:lnTo>
                    <a:cubicBezTo>
                      <a:pt x="17173" y="4"/>
                      <a:pt x="17174" y="5"/>
                      <a:pt x="17174" y="6"/>
                    </a:cubicBezTo>
                    <a:cubicBezTo>
                      <a:pt x="17174" y="7"/>
                      <a:pt x="17173" y="8"/>
                      <a:pt x="17172" y="8"/>
                    </a:cubicBezTo>
                    <a:lnTo>
                      <a:pt x="17172" y="8"/>
                    </a:lnTo>
                    <a:cubicBezTo>
                      <a:pt x="17170" y="8"/>
                      <a:pt x="17170" y="7"/>
                      <a:pt x="17170" y="6"/>
                    </a:cubicBezTo>
                    <a:cubicBezTo>
                      <a:pt x="17170" y="5"/>
                      <a:pt x="17170" y="4"/>
                      <a:pt x="17172" y="4"/>
                    </a:cubicBezTo>
                    <a:close/>
                    <a:moveTo>
                      <a:pt x="17180" y="4"/>
                    </a:moveTo>
                    <a:lnTo>
                      <a:pt x="17180" y="4"/>
                    </a:lnTo>
                    <a:cubicBezTo>
                      <a:pt x="17181" y="4"/>
                      <a:pt x="17182" y="5"/>
                      <a:pt x="17182" y="6"/>
                    </a:cubicBezTo>
                    <a:cubicBezTo>
                      <a:pt x="17182" y="7"/>
                      <a:pt x="17181" y="8"/>
                      <a:pt x="17180" y="8"/>
                    </a:cubicBezTo>
                    <a:lnTo>
                      <a:pt x="17180" y="8"/>
                    </a:lnTo>
                    <a:cubicBezTo>
                      <a:pt x="17178" y="8"/>
                      <a:pt x="17178" y="7"/>
                      <a:pt x="17178" y="6"/>
                    </a:cubicBezTo>
                    <a:cubicBezTo>
                      <a:pt x="17178" y="5"/>
                      <a:pt x="17178" y="4"/>
                      <a:pt x="17180" y="4"/>
                    </a:cubicBezTo>
                    <a:close/>
                    <a:moveTo>
                      <a:pt x="17188" y="4"/>
                    </a:moveTo>
                    <a:lnTo>
                      <a:pt x="17188" y="4"/>
                    </a:lnTo>
                    <a:cubicBezTo>
                      <a:pt x="17189" y="4"/>
                      <a:pt x="17190" y="5"/>
                      <a:pt x="17190" y="6"/>
                    </a:cubicBezTo>
                    <a:cubicBezTo>
                      <a:pt x="17190" y="7"/>
                      <a:pt x="17189" y="8"/>
                      <a:pt x="17188" y="8"/>
                    </a:cubicBezTo>
                    <a:lnTo>
                      <a:pt x="17188" y="8"/>
                    </a:lnTo>
                    <a:cubicBezTo>
                      <a:pt x="17187" y="8"/>
                      <a:pt x="17186" y="7"/>
                      <a:pt x="17186" y="6"/>
                    </a:cubicBezTo>
                    <a:cubicBezTo>
                      <a:pt x="17186" y="5"/>
                      <a:pt x="17187" y="4"/>
                      <a:pt x="17188" y="4"/>
                    </a:cubicBezTo>
                    <a:close/>
                    <a:moveTo>
                      <a:pt x="17196" y="4"/>
                    </a:moveTo>
                    <a:lnTo>
                      <a:pt x="17196" y="4"/>
                    </a:lnTo>
                    <a:cubicBezTo>
                      <a:pt x="17197" y="4"/>
                      <a:pt x="17198" y="5"/>
                      <a:pt x="17198" y="6"/>
                    </a:cubicBezTo>
                    <a:cubicBezTo>
                      <a:pt x="17198" y="7"/>
                      <a:pt x="17197" y="8"/>
                      <a:pt x="17196" y="8"/>
                    </a:cubicBezTo>
                    <a:lnTo>
                      <a:pt x="17196" y="8"/>
                    </a:lnTo>
                    <a:cubicBezTo>
                      <a:pt x="17195" y="8"/>
                      <a:pt x="17194" y="7"/>
                      <a:pt x="17194" y="6"/>
                    </a:cubicBezTo>
                    <a:cubicBezTo>
                      <a:pt x="17194" y="5"/>
                      <a:pt x="17195" y="4"/>
                      <a:pt x="17196" y="4"/>
                    </a:cubicBezTo>
                    <a:close/>
                    <a:moveTo>
                      <a:pt x="17204" y="4"/>
                    </a:moveTo>
                    <a:lnTo>
                      <a:pt x="17204" y="4"/>
                    </a:lnTo>
                    <a:cubicBezTo>
                      <a:pt x="17205" y="4"/>
                      <a:pt x="17206" y="5"/>
                      <a:pt x="17206" y="6"/>
                    </a:cubicBezTo>
                    <a:cubicBezTo>
                      <a:pt x="17206" y="7"/>
                      <a:pt x="17205" y="8"/>
                      <a:pt x="17204" y="8"/>
                    </a:cubicBezTo>
                    <a:lnTo>
                      <a:pt x="17204" y="8"/>
                    </a:lnTo>
                    <a:cubicBezTo>
                      <a:pt x="17203" y="8"/>
                      <a:pt x="17202" y="7"/>
                      <a:pt x="17202" y="6"/>
                    </a:cubicBezTo>
                    <a:cubicBezTo>
                      <a:pt x="17202" y="5"/>
                      <a:pt x="17203" y="4"/>
                      <a:pt x="17204" y="4"/>
                    </a:cubicBezTo>
                    <a:close/>
                    <a:moveTo>
                      <a:pt x="17212" y="4"/>
                    </a:moveTo>
                    <a:lnTo>
                      <a:pt x="17212" y="4"/>
                    </a:lnTo>
                    <a:cubicBezTo>
                      <a:pt x="17213" y="4"/>
                      <a:pt x="17214" y="5"/>
                      <a:pt x="17214" y="6"/>
                    </a:cubicBezTo>
                    <a:cubicBezTo>
                      <a:pt x="17214" y="7"/>
                      <a:pt x="17213" y="8"/>
                      <a:pt x="17212" y="8"/>
                    </a:cubicBezTo>
                    <a:lnTo>
                      <a:pt x="17212" y="8"/>
                    </a:lnTo>
                    <a:cubicBezTo>
                      <a:pt x="17211" y="8"/>
                      <a:pt x="17210" y="7"/>
                      <a:pt x="17210" y="6"/>
                    </a:cubicBezTo>
                    <a:cubicBezTo>
                      <a:pt x="17210" y="5"/>
                      <a:pt x="17211" y="4"/>
                      <a:pt x="17212" y="4"/>
                    </a:cubicBezTo>
                    <a:close/>
                    <a:moveTo>
                      <a:pt x="17220" y="4"/>
                    </a:moveTo>
                    <a:lnTo>
                      <a:pt x="17220" y="4"/>
                    </a:lnTo>
                    <a:cubicBezTo>
                      <a:pt x="17221" y="4"/>
                      <a:pt x="17222" y="5"/>
                      <a:pt x="17222" y="6"/>
                    </a:cubicBezTo>
                    <a:cubicBezTo>
                      <a:pt x="17222" y="7"/>
                      <a:pt x="17221" y="8"/>
                      <a:pt x="17220" y="8"/>
                    </a:cubicBezTo>
                    <a:lnTo>
                      <a:pt x="17220" y="8"/>
                    </a:lnTo>
                    <a:cubicBezTo>
                      <a:pt x="17219" y="8"/>
                      <a:pt x="17218" y="7"/>
                      <a:pt x="17218" y="6"/>
                    </a:cubicBezTo>
                    <a:cubicBezTo>
                      <a:pt x="17218" y="5"/>
                      <a:pt x="17219" y="4"/>
                      <a:pt x="17220" y="4"/>
                    </a:cubicBezTo>
                    <a:close/>
                    <a:moveTo>
                      <a:pt x="17228" y="4"/>
                    </a:moveTo>
                    <a:lnTo>
                      <a:pt x="17228" y="4"/>
                    </a:lnTo>
                    <a:cubicBezTo>
                      <a:pt x="17229" y="4"/>
                      <a:pt x="17230" y="5"/>
                      <a:pt x="17230" y="6"/>
                    </a:cubicBezTo>
                    <a:cubicBezTo>
                      <a:pt x="17230" y="7"/>
                      <a:pt x="17229" y="8"/>
                      <a:pt x="17228" y="8"/>
                    </a:cubicBezTo>
                    <a:lnTo>
                      <a:pt x="17228" y="8"/>
                    </a:lnTo>
                    <a:cubicBezTo>
                      <a:pt x="17227" y="8"/>
                      <a:pt x="17226" y="7"/>
                      <a:pt x="17226" y="6"/>
                    </a:cubicBezTo>
                    <a:cubicBezTo>
                      <a:pt x="17226" y="5"/>
                      <a:pt x="17227" y="4"/>
                      <a:pt x="17228" y="4"/>
                    </a:cubicBezTo>
                    <a:close/>
                    <a:moveTo>
                      <a:pt x="17236" y="4"/>
                    </a:moveTo>
                    <a:lnTo>
                      <a:pt x="17236" y="4"/>
                    </a:lnTo>
                    <a:cubicBezTo>
                      <a:pt x="17237" y="4"/>
                      <a:pt x="17238" y="5"/>
                      <a:pt x="17238" y="6"/>
                    </a:cubicBezTo>
                    <a:cubicBezTo>
                      <a:pt x="17238" y="7"/>
                      <a:pt x="17237" y="8"/>
                      <a:pt x="17236" y="8"/>
                    </a:cubicBezTo>
                    <a:lnTo>
                      <a:pt x="17236" y="8"/>
                    </a:lnTo>
                    <a:cubicBezTo>
                      <a:pt x="17235" y="8"/>
                      <a:pt x="17234" y="7"/>
                      <a:pt x="17234" y="6"/>
                    </a:cubicBezTo>
                    <a:cubicBezTo>
                      <a:pt x="17234" y="5"/>
                      <a:pt x="17235" y="4"/>
                      <a:pt x="17236" y="4"/>
                    </a:cubicBezTo>
                    <a:close/>
                    <a:moveTo>
                      <a:pt x="17244" y="4"/>
                    </a:moveTo>
                    <a:lnTo>
                      <a:pt x="17244" y="4"/>
                    </a:lnTo>
                    <a:cubicBezTo>
                      <a:pt x="17245" y="4"/>
                      <a:pt x="17246" y="5"/>
                      <a:pt x="17246" y="6"/>
                    </a:cubicBezTo>
                    <a:cubicBezTo>
                      <a:pt x="17246" y="7"/>
                      <a:pt x="17245" y="8"/>
                      <a:pt x="17244" y="8"/>
                    </a:cubicBezTo>
                    <a:lnTo>
                      <a:pt x="17244" y="8"/>
                    </a:lnTo>
                    <a:cubicBezTo>
                      <a:pt x="17243" y="8"/>
                      <a:pt x="17242" y="7"/>
                      <a:pt x="17242" y="6"/>
                    </a:cubicBezTo>
                    <a:cubicBezTo>
                      <a:pt x="17242" y="5"/>
                      <a:pt x="17243" y="4"/>
                      <a:pt x="17244" y="4"/>
                    </a:cubicBezTo>
                    <a:close/>
                    <a:moveTo>
                      <a:pt x="17252" y="4"/>
                    </a:moveTo>
                    <a:lnTo>
                      <a:pt x="17252" y="4"/>
                    </a:lnTo>
                    <a:cubicBezTo>
                      <a:pt x="17253" y="4"/>
                      <a:pt x="17254" y="5"/>
                      <a:pt x="17254" y="6"/>
                    </a:cubicBezTo>
                    <a:cubicBezTo>
                      <a:pt x="17254" y="7"/>
                      <a:pt x="17253" y="8"/>
                      <a:pt x="17252" y="8"/>
                    </a:cubicBezTo>
                    <a:lnTo>
                      <a:pt x="17252" y="8"/>
                    </a:lnTo>
                    <a:cubicBezTo>
                      <a:pt x="17251" y="8"/>
                      <a:pt x="17250" y="7"/>
                      <a:pt x="17250" y="6"/>
                    </a:cubicBezTo>
                    <a:cubicBezTo>
                      <a:pt x="17250" y="5"/>
                      <a:pt x="17251" y="4"/>
                      <a:pt x="17252" y="4"/>
                    </a:cubicBezTo>
                    <a:close/>
                    <a:moveTo>
                      <a:pt x="17260" y="4"/>
                    </a:moveTo>
                    <a:lnTo>
                      <a:pt x="17260" y="4"/>
                    </a:lnTo>
                    <a:cubicBezTo>
                      <a:pt x="17261" y="4"/>
                      <a:pt x="17262" y="5"/>
                      <a:pt x="17262" y="6"/>
                    </a:cubicBezTo>
                    <a:cubicBezTo>
                      <a:pt x="17262" y="7"/>
                      <a:pt x="17261" y="8"/>
                      <a:pt x="17260" y="8"/>
                    </a:cubicBezTo>
                    <a:lnTo>
                      <a:pt x="17260" y="8"/>
                    </a:lnTo>
                    <a:cubicBezTo>
                      <a:pt x="17259" y="8"/>
                      <a:pt x="17258" y="7"/>
                      <a:pt x="17258" y="6"/>
                    </a:cubicBezTo>
                    <a:cubicBezTo>
                      <a:pt x="17258" y="5"/>
                      <a:pt x="17259" y="4"/>
                      <a:pt x="17260" y="4"/>
                    </a:cubicBezTo>
                    <a:close/>
                    <a:moveTo>
                      <a:pt x="17268" y="4"/>
                    </a:moveTo>
                    <a:lnTo>
                      <a:pt x="17268" y="4"/>
                    </a:lnTo>
                    <a:cubicBezTo>
                      <a:pt x="17269" y="4"/>
                      <a:pt x="17270" y="5"/>
                      <a:pt x="17270" y="6"/>
                    </a:cubicBezTo>
                    <a:cubicBezTo>
                      <a:pt x="17270" y="7"/>
                      <a:pt x="17269" y="8"/>
                      <a:pt x="17268" y="8"/>
                    </a:cubicBezTo>
                    <a:lnTo>
                      <a:pt x="17268" y="8"/>
                    </a:lnTo>
                    <a:cubicBezTo>
                      <a:pt x="17267" y="8"/>
                      <a:pt x="17266" y="7"/>
                      <a:pt x="17266" y="6"/>
                    </a:cubicBezTo>
                    <a:cubicBezTo>
                      <a:pt x="17266" y="5"/>
                      <a:pt x="17267" y="4"/>
                      <a:pt x="17268" y="4"/>
                    </a:cubicBezTo>
                    <a:close/>
                    <a:moveTo>
                      <a:pt x="17276" y="4"/>
                    </a:moveTo>
                    <a:lnTo>
                      <a:pt x="17276" y="4"/>
                    </a:lnTo>
                    <a:cubicBezTo>
                      <a:pt x="17277" y="4"/>
                      <a:pt x="17278" y="5"/>
                      <a:pt x="17278" y="6"/>
                    </a:cubicBezTo>
                    <a:cubicBezTo>
                      <a:pt x="17278" y="7"/>
                      <a:pt x="17277" y="8"/>
                      <a:pt x="17276" y="8"/>
                    </a:cubicBezTo>
                    <a:lnTo>
                      <a:pt x="17276" y="8"/>
                    </a:lnTo>
                    <a:cubicBezTo>
                      <a:pt x="17275" y="8"/>
                      <a:pt x="17274" y="7"/>
                      <a:pt x="17274" y="6"/>
                    </a:cubicBezTo>
                    <a:cubicBezTo>
                      <a:pt x="17274" y="5"/>
                      <a:pt x="17275" y="4"/>
                      <a:pt x="17276" y="4"/>
                    </a:cubicBezTo>
                    <a:close/>
                    <a:moveTo>
                      <a:pt x="17284" y="4"/>
                    </a:moveTo>
                    <a:lnTo>
                      <a:pt x="17284" y="4"/>
                    </a:lnTo>
                    <a:cubicBezTo>
                      <a:pt x="17285" y="4"/>
                      <a:pt x="17286" y="5"/>
                      <a:pt x="17286" y="6"/>
                    </a:cubicBezTo>
                    <a:cubicBezTo>
                      <a:pt x="17286" y="7"/>
                      <a:pt x="17285" y="8"/>
                      <a:pt x="17284" y="8"/>
                    </a:cubicBezTo>
                    <a:lnTo>
                      <a:pt x="17284" y="8"/>
                    </a:lnTo>
                    <a:cubicBezTo>
                      <a:pt x="17283" y="8"/>
                      <a:pt x="17282" y="7"/>
                      <a:pt x="17282" y="6"/>
                    </a:cubicBezTo>
                    <a:cubicBezTo>
                      <a:pt x="17282" y="5"/>
                      <a:pt x="17283" y="4"/>
                      <a:pt x="17284" y="4"/>
                    </a:cubicBezTo>
                    <a:close/>
                    <a:moveTo>
                      <a:pt x="17292" y="4"/>
                    </a:moveTo>
                    <a:lnTo>
                      <a:pt x="17292" y="4"/>
                    </a:lnTo>
                    <a:cubicBezTo>
                      <a:pt x="17293" y="4"/>
                      <a:pt x="17294" y="5"/>
                      <a:pt x="17294" y="6"/>
                    </a:cubicBezTo>
                    <a:cubicBezTo>
                      <a:pt x="17294" y="7"/>
                      <a:pt x="17293" y="8"/>
                      <a:pt x="17292" y="8"/>
                    </a:cubicBezTo>
                    <a:lnTo>
                      <a:pt x="17292" y="8"/>
                    </a:lnTo>
                    <a:cubicBezTo>
                      <a:pt x="17291" y="8"/>
                      <a:pt x="17290" y="7"/>
                      <a:pt x="17290" y="6"/>
                    </a:cubicBezTo>
                    <a:cubicBezTo>
                      <a:pt x="17290" y="5"/>
                      <a:pt x="17291" y="4"/>
                      <a:pt x="17292" y="4"/>
                    </a:cubicBezTo>
                    <a:close/>
                    <a:moveTo>
                      <a:pt x="17300" y="4"/>
                    </a:moveTo>
                    <a:lnTo>
                      <a:pt x="17300" y="4"/>
                    </a:lnTo>
                    <a:cubicBezTo>
                      <a:pt x="17301" y="4"/>
                      <a:pt x="17302" y="5"/>
                      <a:pt x="17302" y="6"/>
                    </a:cubicBezTo>
                    <a:cubicBezTo>
                      <a:pt x="17302" y="7"/>
                      <a:pt x="17301" y="8"/>
                      <a:pt x="17300" y="8"/>
                    </a:cubicBezTo>
                    <a:lnTo>
                      <a:pt x="17300" y="8"/>
                    </a:lnTo>
                    <a:cubicBezTo>
                      <a:pt x="17299" y="8"/>
                      <a:pt x="17298" y="7"/>
                      <a:pt x="17298" y="6"/>
                    </a:cubicBezTo>
                    <a:cubicBezTo>
                      <a:pt x="17298" y="5"/>
                      <a:pt x="17299" y="4"/>
                      <a:pt x="17300" y="4"/>
                    </a:cubicBezTo>
                    <a:close/>
                    <a:moveTo>
                      <a:pt x="17308" y="4"/>
                    </a:moveTo>
                    <a:lnTo>
                      <a:pt x="17308" y="4"/>
                    </a:lnTo>
                    <a:cubicBezTo>
                      <a:pt x="17309" y="4"/>
                      <a:pt x="17310" y="5"/>
                      <a:pt x="17310" y="6"/>
                    </a:cubicBezTo>
                    <a:cubicBezTo>
                      <a:pt x="17310" y="7"/>
                      <a:pt x="17309" y="8"/>
                      <a:pt x="17308" y="8"/>
                    </a:cubicBezTo>
                    <a:lnTo>
                      <a:pt x="17308" y="8"/>
                    </a:lnTo>
                    <a:cubicBezTo>
                      <a:pt x="17307" y="8"/>
                      <a:pt x="17306" y="7"/>
                      <a:pt x="17306" y="6"/>
                    </a:cubicBezTo>
                    <a:cubicBezTo>
                      <a:pt x="17306" y="5"/>
                      <a:pt x="17307" y="4"/>
                      <a:pt x="17308" y="4"/>
                    </a:cubicBezTo>
                    <a:close/>
                    <a:moveTo>
                      <a:pt x="17316" y="4"/>
                    </a:moveTo>
                    <a:lnTo>
                      <a:pt x="17316" y="4"/>
                    </a:lnTo>
                    <a:cubicBezTo>
                      <a:pt x="17317" y="4"/>
                      <a:pt x="17318" y="5"/>
                      <a:pt x="17318" y="6"/>
                    </a:cubicBezTo>
                    <a:cubicBezTo>
                      <a:pt x="17318" y="7"/>
                      <a:pt x="17317" y="8"/>
                      <a:pt x="17316" y="8"/>
                    </a:cubicBezTo>
                    <a:lnTo>
                      <a:pt x="17316" y="8"/>
                    </a:lnTo>
                    <a:cubicBezTo>
                      <a:pt x="17315" y="8"/>
                      <a:pt x="17314" y="7"/>
                      <a:pt x="17314" y="6"/>
                    </a:cubicBezTo>
                    <a:cubicBezTo>
                      <a:pt x="17314" y="5"/>
                      <a:pt x="17315" y="4"/>
                      <a:pt x="17316" y="4"/>
                    </a:cubicBezTo>
                    <a:close/>
                    <a:moveTo>
                      <a:pt x="17324" y="4"/>
                    </a:moveTo>
                    <a:lnTo>
                      <a:pt x="17324" y="4"/>
                    </a:lnTo>
                    <a:cubicBezTo>
                      <a:pt x="17325" y="4"/>
                      <a:pt x="17326" y="5"/>
                      <a:pt x="17326" y="6"/>
                    </a:cubicBezTo>
                    <a:cubicBezTo>
                      <a:pt x="17326" y="7"/>
                      <a:pt x="17325" y="8"/>
                      <a:pt x="17324" y="8"/>
                    </a:cubicBezTo>
                    <a:lnTo>
                      <a:pt x="17324" y="8"/>
                    </a:lnTo>
                    <a:cubicBezTo>
                      <a:pt x="17323" y="8"/>
                      <a:pt x="17322" y="7"/>
                      <a:pt x="17322" y="6"/>
                    </a:cubicBezTo>
                    <a:cubicBezTo>
                      <a:pt x="17322" y="5"/>
                      <a:pt x="17323" y="4"/>
                      <a:pt x="17324" y="4"/>
                    </a:cubicBezTo>
                    <a:close/>
                    <a:moveTo>
                      <a:pt x="17332" y="4"/>
                    </a:moveTo>
                    <a:lnTo>
                      <a:pt x="17332" y="4"/>
                    </a:lnTo>
                    <a:cubicBezTo>
                      <a:pt x="17333" y="4"/>
                      <a:pt x="17334" y="5"/>
                      <a:pt x="17334" y="6"/>
                    </a:cubicBezTo>
                    <a:cubicBezTo>
                      <a:pt x="17334" y="7"/>
                      <a:pt x="17333" y="8"/>
                      <a:pt x="17332" y="8"/>
                    </a:cubicBezTo>
                    <a:lnTo>
                      <a:pt x="17332" y="8"/>
                    </a:lnTo>
                    <a:cubicBezTo>
                      <a:pt x="17331" y="8"/>
                      <a:pt x="17330" y="7"/>
                      <a:pt x="17330" y="6"/>
                    </a:cubicBezTo>
                    <a:cubicBezTo>
                      <a:pt x="17330" y="5"/>
                      <a:pt x="17331" y="4"/>
                      <a:pt x="17332" y="4"/>
                    </a:cubicBezTo>
                    <a:close/>
                    <a:moveTo>
                      <a:pt x="17340" y="4"/>
                    </a:moveTo>
                    <a:lnTo>
                      <a:pt x="17340" y="4"/>
                    </a:lnTo>
                    <a:cubicBezTo>
                      <a:pt x="17341" y="4"/>
                      <a:pt x="17342" y="5"/>
                      <a:pt x="17342" y="6"/>
                    </a:cubicBezTo>
                    <a:cubicBezTo>
                      <a:pt x="17342" y="7"/>
                      <a:pt x="17341" y="8"/>
                      <a:pt x="17340" y="8"/>
                    </a:cubicBezTo>
                    <a:lnTo>
                      <a:pt x="17340" y="8"/>
                    </a:lnTo>
                    <a:cubicBezTo>
                      <a:pt x="17339" y="8"/>
                      <a:pt x="17338" y="7"/>
                      <a:pt x="17338" y="6"/>
                    </a:cubicBezTo>
                    <a:cubicBezTo>
                      <a:pt x="17338" y="5"/>
                      <a:pt x="17339" y="4"/>
                      <a:pt x="17340" y="4"/>
                    </a:cubicBezTo>
                    <a:close/>
                    <a:moveTo>
                      <a:pt x="17348" y="4"/>
                    </a:moveTo>
                    <a:lnTo>
                      <a:pt x="17348" y="4"/>
                    </a:lnTo>
                    <a:cubicBezTo>
                      <a:pt x="17349" y="4"/>
                      <a:pt x="17350" y="5"/>
                      <a:pt x="17350" y="6"/>
                    </a:cubicBezTo>
                    <a:cubicBezTo>
                      <a:pt x="17350" y="7"/>
                      <a:pt x="17349" y="8"/>
                      <a:pt x="17348" y="8"/>
                    </a:cubicBezTo>
                    <a:lnTo>
                      <a:pt x="17348" y="8"/>
                    </a:lnTo>
                    <a:cubicBezTo>
                      <a:pt x="17347" y="8"/>
                      <a:pt x="17346" y="7"/>
                      <a:pt x="17346" y="6"/>
                    </a:cubicBezTo>
                    <a:cubicBezTo>
                      <a:pt x="17346" y="5"/>
                      <a:pt x="17347" y="4"/>
                      <a:pt x="17348" y="4"/>
                    </a:cubicBezTo>
                    <a:close/>
                    <a:moveTo>
                      <a:pt x="17356" y="4"/>
                    </a:moveTo>
                    <a:lnTo>
                      <a:pt x="17356" y="4"/>
                    </a:lnTo>
                    <a:cubicBezTo>
                      <a:pt x="17357" y="4"/>
                      <a:pt x="17358" y="5"/>
                      <a:pt x="17358" y="6"/>
                    </a:cubicBezTo>
                    <a:cubicBezTo>
                      <a:pt x="17358" y="7"/>
                      <a:pt x="17357" y="8"/>
                      <a:pt x="17356" y="8"/>
                    </a:cubicBezTo>
                    <a:lnTo>
                      <a:pt x="17356" y="8"/>
                    </a:lnTo>
                    <a:cubicBezTo>
                      <a:pt x="17355" y="8"/>
                      <a:pt x="17354" y="7"/>
                      <a:pt x="17354" y="6"/>
                    </a:cubicBezTo>
                    <a:cubicBezTo>
                      <a:pt x="17354" y="5"/>
                      <a:pt x="17355" y="4"/>
                      <a:pt x="17356" y="4"/>
                    </a:cubicBezTo>
                    <a:close/>
                    <a:moveTo>
                      <a:pt x="17364" y="4"/>
                    </a:moveTo>
                    <a:lnTo>
                      <a:pt x="17364" y="4"/>
                    </a:lnTo>
                    <a:cubicBezTo>
                      <a:pt x="17365" y="4"/>
                      <a:pt x="17366" y="5"/>
                      <a:pt x="17366" y="6"/>
                    </a:cubicBezTo>
                    <a:cubicBezTo>
                      <a:pt x="17366" y="7"/>
                      <a:pt x="17365" y="8"/>
                      <a:pt x="17364" y="8"/>
                    </a:cubicBezTo>
                    <a:lnTo>
                      <a:pt x="17364" y="8"/>
                    </a:lnTo>
                    <a:cubicBezTo>
                      <a:pt x="17363" y="8"/>
                      <a:pt x="17362" y="7"/>
                      <a:pt x="17362" y="6"/>
                    </a:cubicBezTo>
                    <a:cubicBezTo>
                      <a:pt x="17362" y="5"/>
                      <a:pt x="17363" y="4"/>
                      <a:pt x="17364" y="4"/>
                    </a:cubicBezTo>
                    <a:close/>
                    <a:moveTo>
                      <a:pt x="17372" y="4"/>
                    </a:moveTo>
                    <a:lnTo>
                      <a:pt x="17372" y="4"/>
                    </a:lnTo>
                    <a:cubicBezTo>
                      <a:pt x="17373" y="4"/>
                      <a:pt x="17374" y="5"/>
                      <a:pt x="17374" y="6"/>
                    </a:cubicBezTo>
                    <a:cubicBezTo>
                      <a:pt x="17374" y="7"/>
                      <a:pt x="17373" y="8"/>
                      <a:pt x="17372" y="8"/>
                    </a:cubicBezTo>
                    <a:lnTo>
                      <a:pt x="17372" y="8"/>
                    </a:lnTo>
                    <a:cubicBezTo>
                      <a:pt x="17371" y="8"/>
                      <a:pt x="17370" y="7"/>
                      <a:pt x="17370" y="6"/>
                    </a:cubicBezTo>
                    <a:cubicBezTo>
                      <a:pt x="17370" y="5"/>
                      <a:pt x="17371" y="4"/>
                      <a:pt x="17372" y="4"/>
                    </a:cubicBezTo>
                    <a:close/>
                    <a:moveTo>
                      <a:pt x="17380" y="4"/>
                    </a:moveTo>
                    <a:lnTo>
                      <a:pt x="17380" y="4"/>
                    </a:lnTo>
                    <a:cubicBezTo>
                      <a:pt x="17381" y="4"/>
                      <a:pt x="17382" y="5"/>
                      <a:pt x="17382" y="6"/>
                    </a:cubicBezTo>
                    <a:cubicBezTo>
                      <a:pt x="17382" y="7"/>
                      <a:pt x="17381" y="8"/>
                      <a:pt x="17380" y="8"/>
                    </a:cubicBezTo>
                    <a:lnTo>
                      <a:pt x="17380" y="8"/>
                    </a:lnTo>
                    <a:cubicBezTo>
                      <a:pt x="17379" y="8"/>
                      <a:pt x="17378" y="7"/>
                      <a:pt x="17378" y="6"/>
                    </a:cubicBezTo>
                    <a:cubicBezTo>
                      <a:pt x="17378" y="5"/>
                      <a:pt x="17379" y="4"/>
                      <a:pt x="17380" y="4"/>
                    </a:cubicBezTo>
                    <a:close/>
                    <a:moveTo>
                      <a:pt x="17388" y="4"/>
                    </a:moveTo>
                    <a:lnTo>
                      <a:pt x="17388" y="4"/>
                    </a:lnTo>
                    <a:cubicBezTo>
                      <a:pt x="17389" y="4"/>
                      <a:pt x="17390" y="5"/>
                      <a:pt x="17390" y="6"/>
                    </a:cubicBezTo>
                    <a:cubicBezTo>
                      <a:pt x="17390" y="7"/>
                      <a:pt x="17389" y="8"/>
                      <a:pt x="17388" y="8"/>
                    </a:cubicBezTo>
                    <a:lnTo>
                      <a:pt x="17388" y="8"/>
                    </a:lnTo>
                    <a:cubicBezTo>
                      <a:pt x="17387" y="8"/>
                      <a:pt x="17386" y="7"/>
                      <a:pt x="17386" y="6"/>
                    </a:cubicBezTo>
                    <a:cubicBezTo>
                      <a:pt x="17386" y="5"/>
                      <a:pt x="17387" y="4"/>
                      <a:pt x="17388" y="4"/>
                    </a:cubicBezTo>
                    <a:close/>
                    <a:moveTo>
                      <a:pt x="17396" y="4"/>
                    </a:moveTo>
                    <a:lnTo>
                      <a:pt x="17396" y="4"/>
                    </a:lnTo>
                    <a:cubicBezTo>
                      <a:pt x="17397" y="4"/>
                      <a:pt x="17398" y="5"/>
                      <a:pt x="17398" y="6"/>
                    </a:cubicBezTo>
                    <a:cubicBezTo>
                      <a:pt x="17398" y="7"/>
                      <a:pt x="17397" y="8"/>
                      <a:pt x="17396" y="8"/>
                    </a:cubicBezTo>
                    <a:lnTo>
                      <a:pt x="17396" y="8"/>
                    </a:lnTo>
                    <a:cubicBezTo>
                      <a:pt x="17395" y="8"/>
                      <a:pt x="17394" y="7"/>
                      <a:pt x="17394" y="6"/>
                    </a:cubicBezTo>
                    <a:cubicBezTo>
                      <a:pt x="17394" y="5"/>
                      <a:pt x="17395" y="4"/>
                      <a:pt x="17396" y="4"/>
                    </a:cubicBezTo>
                    <a:close/>
                    <a:moveTo>
                      <a:pt x="17404" y="4"/>
                    </a:moveTo>
                    <a:lnTo>
                      <a:pt x="17404" y="4"/>
                    </a:lnTo>
                    <a:cubicBezTo>
                      <a:pt x="17405" y="4"/>
                      <a:pt x="17406" y="5"/>
                      <a:pt x="17406" y="6"/>
                    </a:cubicBezTo>
                    <a:cubicBezTo>
                      <a:pt x="17406" y="7"/>
                      <a:pt x="17405" y="8"/>
                      <a:pt x="17404" y="8"/>
                    </a:cubicBezTo>
                    <a:lnTo>
                      <a:pt x="17404" y="8"/>
                    </a:lnTo>
                    <a:cubicBezTo>
                      <a:pt x="17403" y="8"/>
                      <a:pt x="17402" y="7"/>
                      <a:pt x="17402" y="6"/>
                    </a:cubicBezTo>
                    <a:cubicBezTo>
                      <a:pt x="17402" y="5"/>
                      <a:pt x="17403" y="4"/>
                      <a:pt x="17404" y="4"/>
                    </a:cubicBezTo>
                    <a:close/>
                    <a:moveTo>
                      <a:pt x="17412" y="4"/>
                    </a:moveTo>
                    <a:lnTo>
                      <a:pt x="17412" y="4"/>
                    </a:lnTo>
                    <a:cubicBezTo>
                      <a:pt x="17413" y="4"/>
                      <a:pt x="17414" y="5"/>
                      <a:pt x="17414" y="6"/>
                    </a:cubicBezTo>
                    <a:cubicBezTo>
                      <a:pt x="17414" y="7"/>
                      <a:pt x="17413" y="8"/>
                      <a:pt x="17412" y="8"/>
                    </a:cubicBezTo>
                    <a:lnTo>
                      <a:pt x="17412" y="8"/>
                    </a:lnTo>
                    <a:cubicBezTo>
                      <a:pt x="17411" y="8"/>
                      <a:pt x="17410" y="7"/>
                      <a:pt x="17410" y="6"/>
                    </a:cubicBezTo>
                    <a:cubicBezTo>
                      <a:pt x="17410" y="5"/>
                      <a:pt x="17411" y="4"/>
                      <a:pt x="17412" y="4"/>
                    </a:cubicBezTo>
                    <a:close/>
                    <a:moveTo>
                      <a:pt x="17420" y="4"/>
                    </a:moveTo>
                    <a:lnTo>
                      <a:pt x="17420" y="4"/>
                    </a:lnTo>
                    <a:cubicBezTo>
                      <a:pt x="17421" y="4"/>
                      <a:pt x="17422" y="5"/>
                      <a:pt x="17422" y="6"/>
                    </a:cubicBezTo>
                    <a:cubicBezTo>
                      <a:pt x="17422" y="7"/>
                      <a:pt x="17421" y="8"/>
                      <a:pt x="17420" y="8"/>
                    </a:cubicBezTo>
                    <a:lnTo>
                      <a:pt x="17420" y="8"/>
                    </a:lnTo>
                    <a:cubicBezTo>
                      <a:pt x="17419" y="8"/>
                      <a:pt x="17418" y="7"/>
                      <a:pt x="17418" y="6"/>
                    </a:cubicBezTo>
                    <a:cubicBezTo>
                      <a:pt x="17418" y="5"/>
                      <a:pt x="17419" y="4"/>
                      <a:pt x="17420" y="4"/>
                    </a:cubicBezTo>
                    <a:close/>
                    <a:moveTo>
                      <a:pt x="17428" y="4"/>
                    </a:moveTo>
                    <a:lnTo>
                      <a:pt x="17428" y="4"/>
                    </a:lnTo>
                    <a:cubicBezTo>
                      <a:pt x="17429" y="4"/>
                      <a:pt x="17430" y="5"/>
                      <a:pt x="17430" y="6"/>
                    </a:cubicBezTo>
                    <a:cubicBezTo>
                      <a:pt x="17430" y="7"/>
                      <a:pt x="17429" y="8"/>
                      <a:pt x="17428" y="8"/>
                    </a:cubicBezTo>
                    <a:lnTo>
                      <a:pt x="17428" y="8"/>
                    </a:lnTo>
                    <a:cubicBezTo>
                      <a:pt x="17427" y="8"/>
                      <a:pt x="17426" y="7"/>
                      <a:pt x="17426" y="6"/>
                    </a:cubicBezTo>
                    <a:cubicBezTo>
                      <a:pt x="17426" y="5"/>
                      <a:pt x="17427" y="4"/>
                      <a:pt x="17428" y="4"/>
                    </a:cubicBezTo>
                    <a:close/>
                    <a:moveTo>
                      <a:pt x="17436" y="4"/>
                    </a:moveTo>
                    <a:lnTo>
                      <a:pt x="17436" y="4"/>
                    </a:lnTo>
                    <a:cubicBezTo>
                      <a:pt x="17437" y="4"/>
                      <a:pt x="17438" y="5"/>
                      <a:pt x="17438" y="6"/>
                    </a:cubicBezTo>
                    <a:cubicBezTo>
                      <a:pt x="17438" y="7"/>
                      <a:pt x="17437" y="8"/>
                      <a:pt x="17436" y="8"/>
                    </a:cubicBezTo>
                    <a:lnTo>
                      <a:pt x="17436" y="8"/>
                    </a:lnTo>
                    <a:cubicBezTo>
                      <a:pt x="17435" y="8"/>
                      <a:pt x="17434" y="7"/>
                      <a:pt x="17434" y="6"/>
                    </a:cubicBezTo>
                    <a:cubicBezTo>
                      <a:pt x="17434" y="5"/>
                      <a:pt x="17435" y="4"/>
                      <a:pt x="17436" y="4"/>
                    </a:cubicBezTo>
                    <a:close/>
                    <a:moveTo>
                      <a:pt x="17444" y="4"/>
                    </a:moveTo>
                    <a:lnTo>
                      <a:pt x="17444" y="4"/>
                    </a:lnTo>
                    <a:cubicBezTo>
                      <a:pt x="17445" y="4"/>
                      <a:pt x="17446" y="5"/>
                      <a:pt x="17446" y="6"/>
                    </a:cubicBezTo>
                    <a:cubicBezTo>
                      <a:pt x="17446" y="7"/>
                      <a:pt x="17445" y="8"/>
                      <a:pt x="17444" y="8"/>
                    </a:cubicBezTo>
                    <a:lnTo>
                      <a:pt x="17444" y="8"/>
                    </a:lnTo>
                    <a:cubicBezTo>
                      <a:pt x="17443" y="8"/>
                      <a:pt x="17442" y="7"/>
                      <a:pt x="17442" y="6"/>
                    </a:cubicBezTo>
                    <a:cubicBezTo>
                      <a:pt x="17442" y="5"/>
                      <a:pt x="17443" y="4"/>
                      <a:pt x="17444" y="4"/>
                    </a:cubicBezTo>
                    <a:close/>
                    <a:moveTo>
                      <a:pt x="17452" y="4"/>
                    </a:moveTo>
                    <a:lnTo>
                      <a:pt x="17452" y="4"/>
                    </a:lnTo>
                    <a:cubicBezTo>
                      <a:pt x="17453" y="4"/>
                      <a:pt x="17454" y="5"/>
                      <a:pt x="17454" y="6"/>
                    </a:cubicBezTo>
                    <a:cubicBezTo>
                      <a:pt x="17454" y="7"/>
                      <a:pt x="17453" y="8"/>
                      <a:pt x="17452" y="8"/>
                    </a:cubicBezTo>
                    <a:lnTo>
                      <a:pt x="17452" y="8"/>
                    </a:lnTo>
                    <a:cubicBezTo>
                      <a:pt x="17451" y="8"/>
                      <a:pt x="17450" y="7"/>
                      <a:pt x="17450" y="6"/>
                    </a:cubicBezTo>
                    <a:cubicBezTo>
                      <a:pt x="17450" y="5"/>
                      <a:pt x="17451" y="4"/>
                      <a:pt x="17452" y="4"/>
                    </a:cubicBezTo>
                    <a:close/>
                    <a:moveTo>
                      <a:pt x="17460" y="4"/>
                    </a:moveTo>
                    <a:lnTo>
                      <a:pt x="17460" y="4"/>
                    </a:lnTo>
                    <a:cubicBezTo>
                      <a:pt x="17461" y="4"/>
                      <a:pt x="17462" y="5"/>
                      <a:pt x="17462" y="6"/>
                    </a:cubicBezTo>
                    <a:cubicBezTo>
                      <a:pt x="17462" y="7"/>
                      <a:pt x="17461" y="8"/>
                      <a:pt x="17460" y="8"/>
                    </a:cubicBezTo>
                    <a:lnTo>
                      <a:pt x="17460" y="8"/>
                    </a:lnTo>
                    <a:cubicBezTo>
                      <a:pt x="17459" y="8"/>
                      <a:pt x="17458" y="7"/>
                      <a:pt x="17458" y="6"/>
                    </a:cubicBezTo>
                    <a:cubicBezTo>
                      <a:pt x="17458" y="5"/>
                      <a:pt x="17459" y="4"/>
                      <a:pt x="17460" y="4"/>
                    </a:cubicBezTo>
                    <a:close/>
                    <a:moveTo>
                      <a:pt x="17468" y="4"/>
                    </a:moveTo>
                    <a:lnTo>
                      <a:pt x="17468" y="4"/>
                    </a:lnTo>
                    <a:cubicBezTo>
                      <a:pt x="17469" y="4"/>
                      <a:pt x="17470" y="5"/>
                      <a:pt x="17470" y="6"/>
                    </a:cubicBezTo>
                    <a:cubicBezTo>
                      <a:pt x="17470" y="7"/>
                      <a:pt x="17469" y="8"/>
                      <a:pt x="17468" y="8"/>
                    </a:cubicBezTo>
                    <a:lnTo>
                      <a:pt x="17468" y="8"/>
                    </a:lnTo>
                    <a:cubicBezTo>
                      <a:pt x="17467" y="8"/>
                      <a:pt x="17466" y="7"/>
                      <a:pt x="17466" y="6"/>
                    </a:cubicBezTo>
                    <a:cubicBezTo>
                      <a:pt x="17466" y="5"/>
                      <a:pt x="17467" y="4"/>
                      <a:pt x="17468" y="4"/>
                    </a:cubicBezTo>
                    <a:close/>
                    <a:moveTo>
                      <a:pt x="17476" y="4"/>
                    </a:moveTo>
                    <a:lnTo>
                      <a:pt x="17476" y="4"/>
                    </a:lnTo>
                    <a:cubicBezTo>
                      <a:pt x="17477" y="4"/>
                      <a:pt x="17478" y="5"/>
                      <a:pt x="17478" y="6"/>
                    </a:cubicBezTo>
                    <a:cubicBezTo>
                      <a:pt x="17478" y="7"/>
                      <a:pt x="17477" y="8"/>
                      <a:pt x="17476" y="8"/>
                    </a:cubicBezTo>
                    <a:lnTo>
                      <a:pt x="17476" y="8"/>
                    </a:lnTo>
                    <a:cubicBezTo>
                      <a:pt x="17475" y="8"/>
                      <a:pt x="17474" y="7"/>
                      <a:pt x="17474" y="6"/>
                    </a:cubicBezTo>
                    <a:cubicBezTo>
                      <a:pt x="17474" y="5"/>
                      <a:pt x="17475" y="4"/>
                      <a:pt x="17476" y="4"/>
                    </a:cubicBezTo>
                    <a:close/>
                    <a:moveTo>
                      <a:pt x="17484" y="4"/>
                    </a:moveTo>
                    <a:lnTo>
                      <a:pt x="17484" y="4"/>
                    </a:lnTo>
                    <a:cubicBezTo>
                      <a:pt x="17485" y="4"/>
                      <a:pt x="17486" y="5"/>
                      <a:pt x="17486" y="6"/>
                    </a:cubicBezTo>
                    <a:cubicBezTo>
                      <a:pt x="17486" y="7"/>
                      <a:pt x="17485" y="8"/>
                      <a:pt x="17484" y="8"/>
                    </a:cubicBezTo>
                    <a:lnTo>
                      <a:pt x="17484" y="8"/>
                    </a:lnTo>
                    <a:cubicBezTo>
                      <a:pt x="17483" y="8"/>
                      <a:pt x="17482" y="7"/>
                      <a:pt x="17482" y="6"/>
                    </a:cubicBezTo>
                    <a:cubicBezTo>
                      <a:pt x="17482" y="5"/>
                      <a:pt x="17483" y="4"/>
                      <a:pt x="17484" y="4"/>
                    </a:cubicBezTo>
                    <a:close/>
                    <a:moveTo>
                      <a:pt x="17492" y="4"/>
                    </a:moveTo>
                    <a:lnTo>
                      <a:pt x="17492" y="4"/>
                    </a:lnTo>
                    <a:cubicBezTo>
                      <a:pt x="17493" y="4"/>
                      <a:pt x="17494" y="5"/>
                      <a:pt x="17494" y="6"/>
                    </a:cubicBezTo>
                    <a:cubicBezTo>
                      <a:pt x="17494" y="7"/>
                      <a:pt x="17493" y="8"/>
                      <a:pt x="17492" y="8"/>
                    </a:cubicBezTo>
                    <a:lnTo>
                      <a:pt x="17492" y="8"/>
                    </a:lnTo>
                    <a:cubicBezTo>
                      <a:pt x="17491" y="8"/>
                      <a:pt x="17490" y="7"/>
                      <a:pt x="17490" y="6"/>
                    </a:cubicBezTo>
                    <a:cubicBezTo>
                      <a:pt x="17490" y="5"/>
                      <a:pt x="17491" y="4"/>
                      <a:pt x="17492" y="4"/>
                    </a:cubicBezTo>
                    <a:close/>
                    <a:moveTo>
                      <a:pt x="17500" y="4"/>
                    </a:moveTo>
                    <a:lnTo>
                      <a:pt x="17500" y="4"/>
                    </a:lnTo>
                    <a:cubicBezTo>
                      <a:pt x="17501" y="4"/>
                      <a:pt x="17502" y="5"/>
                      <a:pt x="17502" y="6"/>
                    </a:cubicBezTo>
                    <a:cubicBezTo>
                      <a:pt x="17502" y="7"/>
                      <a:pt x="17501" y="8"/>
                      <a:pt x="17500" y="8"/>
                    </a:cubicBezTo>
                    <a:lnTo>
                      <a:pt x="17500" y="8"/>
                    </a:lnTo>
                    <a:cubicBezTo>
                      <a:pt x="17499" y="8"/>
                      <a:pt x="17498" y="7"/>
                      <a:pt x="17498" y="6"/>
                    </a:cubicBezTo>
                    <a:cubicBezTo>
                      <a:pt x="17498" y="5"/>
                      <a:pt x="17499" y="4"/>
                      <a:pt x="17500" y="4"/>
                    </a:cubicBezTo>
                    <a:close/>
                    <a:moveTo>
                      <a:pt x="17508" y="4"/>
                    </a:moveTo>
                    <a:lnTo>
                      <a:pt x="17508" y="4"/>
                    </a:lnTo>
                    <a:cubicBezTo>
                      <a:pt x="17509" y="4"/>
                      <a:pt x="17510" y="5"/>
                      <a:pt x="17510" y="6"/>
                    </a:cubicBezTo>
                    <a:cubicBezTo>
                      <a:pt x="17510" y="7"/>
                      <a:pt x="17509" y="8"/>
                      <a:pt x="17508" y="8"/>
                    </a:cubicBezTo>
                    <a:lnTo>
                      <a:pt x="17508" y="8"/>
                    </a:lnTo>
                    <a:cubicBezTo>
                      <a:pt x="17507" y="8"/>
                      <a:pt x="17506" y="7"/>
                      <a:pt x="17506" y="6"/>
                    </a:cubicBezTo>
                    <a:cubicBezTo>
                      <a:pt x="17506" y="5"/>
                      <a:pt x="17507" y="4"/>
                      <a:pt x="17508" y="4"/>
                    </a:cubicBezTo>
                    <a:close/>
                    <a:moveTo>
                      <a:pt x="17516" y="4"/>
                    </a:moveTo>
                    <a:lnTo>
                      <a:pt x="17516" y="4"/>
                    </a:lnTo>
                    <a:cubicBezTo>
                      <a:pt x="17517" y="4"/>
                      <a:pt x="17518" y="5"/>
                      <a:pt x="17518" y="6"/>
                    </a:cubicBezTo>
                    <a:cubicBezTo>
                      <a:pt x="17518" y="7"/>
                      <a:pt x="17517" y="8"/>
                      <a:pt x="17516" y="8"/>
                    </a:cubicBezTo>
                    <a:lnTo>
                      <a:pt x="17516" y="8"/>
                    </a:lnTo>
                    <a:cubicBezTo>
                      <a:pt x="17515" y="8"/>
                      <a:pt x="17514" y="7"/>
                      <a:pt x="17514" y="6"/>
                    </a:cubicBezTo>
                    <a:cubicBezTo>
                      <a:pt x="17514" y="5"/>
                      <a:pt x="17515" y="4"/>
                      <a:pt x="17516" y="4"/>
                    </a:cubicBezTo>
                    <a:close/>
                    <a:moveTo>
                      <a:pt x="17524" y="4"/>
                    </a:moveTo>
                    <a:lnTo>
                      <a:pt x="17524" y="4"/>
                    </a:lnTo>
                    <a:cubicBezTo>
                      <a:pt x="17525" y="4"/>
                      <a:pt x="17526" y="5"/>
                      <a:pt x="17526" y="6"/>
                    </a:cubicBezTo>
                    <a:cubicBezTo>
                      <a:pt x="17526" y="7"/>
                      <a:pt x="17525" y="8"/>
                      <a:pt x="17524" y="8"/>
                    </a:cubicBezTo>
                    <a:lnTo>
                      <a:pt x="17524" y="8"/>
                    </a:lnTo>
                    <a:cubicBezTo>
                      <a:pt x="17523" y="8"/>
                      <a:pt x="17522" y="7"/>
                      <a:pt x="17522" y="6"/>
                    </a:cubicBezTo>
                    <a:cubicBezTo>
                      <a:pt x="17522" y="5"/>
                      <a:pt x="17523" y="4"/>
                      <a:pt x="17524" y="4"/>
                    </a:cubicBezTo>
                    <a:close/>
                    <a:moveTo>
                      <a:pt x="17532" y="4"/>
                    </a:moveTo>
                    <a:lnTo>
                      <a:pt x="17532" y="4"/>
                    </a:lnTo>
                    <a:cubicBezTo>
                      <a:pt x="17533" y="4"/>
                      <a:pt x="17534" y="5"/>
                      <a:pt x="17534" y="6"/>
                    </a:cubicBezTo>
                    <a:cubicBezTo>
                      <a:pt x="17534" y="7"/>
                      <a:pt x="17533" y="8"/>
                      <a:pt x="17532" y="8"/>
                    </a:cubicBezTo>
                    <a:lnTo>
                      <a:pt x="17532" y="8"/>
                    </a:lnTo>
                    <a:cubicBezTo>
                      <a:pt x="17531" y="8"/>
                      <a:pt x="17530" y="7"/>
                      <a:pt x="17530" y="6"/>
                    </a:cubicBezTo>
                    <a:cubicBezTo>
                      <a:pt x="17530" y="5"/>
                      <a:pt x="17531" y="4"/>
                      <a:pt x="17532" y="4"/>
                    </a:cubicBezTo>
                    <a:close/>
                    <a:moveTo>
                      <a:pt x="17540" y="4"/>
                    </a:moveTo>
                    <a:lnTo>
                      <a:pt x="17540" y="4"/>
                    </a:lnTo>
                    <a:cubicBezTo>
                      <a:pt x="17541" y="4"/>
                      <a:pt x="17542" y="5"/>
                      <a:pt x="17542" y="6"/>
                    </a:cubicBezTo>
                    <a:cubicBezTo>
                      <a:pt x="17542" y="8"/>
                      <a:pt x="17541" y="8"/>
                      <a:pt x="17540" y="8"/>
                    </a:cubicBezTo>
                    <a:lnTo>
                      <a:pt x="17540" y="8"/>
                    </a:lnTo>
                    <a:cubicBezTo>
                      <a:pt x="17539" y="8"/>
                      <a:pt x="17538" y="8"/>
                      <a:pt x="17538" y="6"/>
                    </a:cubicBezTo>
                    <a:cubicBezTo>
                      <a:pt x="17538" y="5"/>
                      <a:pt x="17539" y="4"/>
                      <a:pt x="17540" y="4"/>
                    </a:cubicBezTo>
                    <a:close/>
                    <a:moveTo>
                      <a:pt x="17548" y="4"/>
                    </a:moveTo>
                    <a:lnTo>
                      <a:pt x="17548" y="4"/>
                    </a:lnTo>
                    <a:cubicBezTo>
                      <a:pt x="17549" y="4"/>
                      <a:pt x="17550" y="5"/>
                      <a:pt x="17550" y="6"/>
                    </a:cubicBezTo>
                    <a:cubicBezTo>
                      <a:pt x="17550" y="8"/>
                      <a:pt x="17549" y="8"/>
                      <a:pt x="17548" y="8"/>
                    </a:cubicBezTo>
                    <a:lnTo>
                      <a:pt x="17548" y="8"/>
                    </a:lnTo>
                    <a:cubicBezTo>
                      <a:pt x="17547" y="8"/>
                      <a:pt x="17546" y="8"/>
                      <a:pt x="17546" y="6"/>
                    </a:cubicBezTo>
                    <a:cubicBezTo>
                      <a:pt x="17546" y="5"/>
                      <a:pt x="17547" y="4"/>
                      <a:pt x="17548" y="4"/>
                    </a:cubicBezTo>
                    <a:close/>
                    <a:moveTo>
                      <a:pt x="17556" y="4"/>
                    </a:moveTo>
                    <a:lnTo>
                      <a:pt x="17556" y="4"/>
                    </a:lnTo>
                    <a:cubicBezTo>
                      <a:pt x="17557" y="4"/>
                      <a:pt x="17558" y="5"/>
                      <a:pt x="17558" y="6"/>
                    </a:cubicBezTo>
                    <a:cubicBezTo>
                      <a:pt x="17558" y="8"/>
                      <a:pt x="17557" y="8"/>
                      <a:pt x="17556" y="8"/>
                    </a:cubicBezTo>
                    <a:lnTo>
                      <a:pt x="17556" y="8"/>
                    </a:lnTo>
                    <a:cubicBezTo>
                      <a:pt x="17555" y="8"/>
                      <a:pt x="17554" y="8"/>
                      <a:pt x="17554" y="6"/>
                    </a:cubicBezTo>
                    <a:cubicBezTo>
                      <a:pt x="17554" y="5"/>
                      <a:pt x="17555" y="4"/>
                      <a:pt x="17556" y="4"/>
                    </a:cubicBezTo>
                    <a:close/>
                    <a:moveTo>
                      <a:pt x="17564" y="4"/>
                    </a:moveTo>
                    <a:lnTo>
                      <a:pt x="17564" y="4"/>
                    </a:lnTo>
                    <a:cubicBezTo>
                      <a:pt x="17565" y="4"/>
                      <a:pt x="17566" y="5"/>
                      <a:pt x="17566" y="6"/>
                    </a:cubicBezTo>
                    <a:cubicBezTo>
                      <a:pt x="17566" y="8"/>
                      <a:pt x="17565" y="8"/>
                      <a:pt x="17564" y="8"/>
                    </a:cubicBezTo>
                    <a:lnTo>
                      <a:pt x="17564" y="8"/>
                    </a:lnTo>
                    <a:cubicBezTo>
                      <a:pt x="17563" y="8"/>
                      <a:pt x="17562" y="8"/>
                      <a:pt x="17562" y="6"/>
                    </a:cubicBezTo>
                    <a:cubicBezTo>
                      <a:pt x="17562" y="5"/>
                      <a:pt x="17563" y="4"/>
                      <a:pt x="17564" y="4"/>
                    </a:cubicBezTo>
                    <a:close/>
                    <a:moveTo>
                      <a:pt x="17572" y="4"/>
                    </a:moveTo>
                    <a:lnTo>
                      <a:pt x="17572" y="4"/>
                    </a:lnTo>
                    <a:cubicBezTo>
                      <a:pt x="17573" y="4"/>
                      <a:pt x="17574" y="5"/>
                      <a:pt x="17574" y="6"/>
                    </a:cubicBezTo>
                    <a:cubicBezTo>
                      <a:pt x="17574" y="8"/>
                      <a:pt x="17573" y="8"/>
                      <a:pt x="17572" y="8"/>
                    </a:cubicBezTo>
                    <a:lnTo>
                      <a:pt x="17572" y="8"/>
                    </a:lnTo>
                    <a:cubicBezTo>
                      <a:pt x="17571" y="8"/>
                      <a:pt x="17570" y="8"/>
                      <a:pt x="17570" y="6"/>
                    </a:cubicBezTo>
                    <a:cubicBezTo>
                      <a:pt x="17570" y="5"/>
                      <a:pt x="17571" y="4"/>
                      <a:pt x="17572" y="4"/>
                    </a:cubicBezTo>
                    <a:close/>
                    <a:moveTo>
                      <a:pt x="17580" y="4"/>
                    </a:moveTo>
                    <a:lnTo>
                      <a:pt x="17580" y="4"/>
                    </a:lnTo>
                    <a:cubicBezTo>
                      <a:pt x="17581" y="4"/>
                      <a:pt x="17582" y="5"/>
                      <a:pt x="17582" y="6"/>
                    </a:cubicBezTo>
                    <a:cubicBezTo>
                      <a:pt x="17582" y="8"/>
                      <a:pt x="17581" y="8"/>
                      <a:pt x="17580" y="8"/>
                    </a:cubicBezTo>
                    <a:lnTo>
                      <a:pt x="17580" y="8"/>
                    </a:lnTo>
                    <a:cubicBezTo>
                      <a:pt x="17579" y="8"/>
                      <a:pt x="17578" y="8"/>
                      <a:pt x="17578" y="6"/>
                    </a:cubicBezTo>
                    <a:cubicBezTo>
                      <a:pt x="17578" y="5"/>
                      <a:pt x="17579" y="4"/>
                      <a:pt x="17580" y="4"/>
                    </a:cubicBezTo>
                    <a:close/>
                    <a:moveTo>
                      <a:pt x="17588" y="4"/>
                    </a:moveTo>
                    <a:lnTo>
                      <a:pt x="17588" y="4"/>
                    </a:lnTo>
                    <a:cubicBezTo>
                      <a:pt x="17589" y="4"/>
                      <a:pt x="17590" y="5"/>
                      <a:pt x="17590" y="6"/>
                    </a:cubicBezTo>
                    <a:cubicBezTo>
                      <a:pt x="17590" y="8"/>
                      <a:pt x="17589" y="8"/>
                      <a:pt x="17588" y="8"/>
                    </a:cubicBezTo>
                    <a:lnTo>
                      <a:pt x="17588" y="8"/>
                    </a:lnTo>
                    <a:cubicBezTo>
                      <a:pt x="17587" y="8"/>
                      <a:pt x="17586" y="8"/>
                      <a:pt x="17586" y="6"/>
                    </a:cubicBezTo>
                    <a:cubicBezTo>
                      <a:pt x="17586" y="5"/>
                      <a:pt x="17587" y="4"/>
                      <a:pt x="17588" y="4"/>
                    </a:cubicBezTo>
                    <a:close/>
                    <a:moveTo>
                      <a:pt x="17596" y="4"/>
                    </a:moveTo>
                    <a:lnTo>
                      <a:pt x="17596" y="4"/>
                    </a:lnTo>
                    <a:cubicBezTo>
                      <a:pt x="17597" y="4"/>
                      <a:pt x="17598" y="5"/>
                      <a:pt x="17598" y="6"/>
                    </a:cubicBezTo>
                    <a:cubicBezTo>
                      <a:pt x="17598" y="8"/>
                      <a:pt x="17597" y="8"/>
                      <a:pt x="17596" y="8"/>
                    </a:cubicBezTo>
                    <a:lnTo>
                      <a:pt x="17596" y="8"/>
                    </a:lnTo>
                    <a:cubicBezTo>
                      <a:pt x="17595" y="8"/>
                      <a:pt x="17594" y="8"/>
                      <a:pt x="17594" y="6"/>
                    </a:cubicBezTo>
                    <a:cubicBezTo>
                      <a:pt x="17594" y="5"/>
                      <a:pt x="17595" y="4"/>
                      <a:pt x="17596" y="4"/>
                    </a:cubicBezTo>
                    <a:close/>
                    <a:moveTo>
                      <a:pt x="17604" y="4"/>
                    </a:moveTo>
                    <a:lnTo>
                      <a:pt x="17604" y="4"/>
                    </a:lnTo>
                    <a:cubicBezTo>
                      <a:pt x="17605" y="4"/>
                      <a:pt x="17606" y="5"/>
                      <a:pt x="17606" y="6"/>
                    </a:cubicBezTo>
                    <a:cubicBezTo>
                      <a:pt x="17606" y="8"/>
                      <a:pt x="17605" y="8"/>
                      <a:pt x="17604" y="8"/>
                    </a:cubicBezTo>
                    <a:lnTo>
                      <a:pt x="17604" y="8"/>
                    </a:lnTo>
                    <a:cubicBezTo>
                      <a:pt x="17603" y="8"/>
                      <a:pt x="17602" y="8"/>
                      <a:pt x="17602" y="6"/>
                    </a:cubicBezTo>
                    <a:cubicBezTo>
                      <a:pt x="17602" y="5"/>
                      <a:pt x="17603" y="4"/>
                      <a:pt x="17604" y="4"/>
                    </a:cubicBezTo>
                    <a:close/>
                    <a:moveTo>
                      <a:pt x="17612" y="4"/>
                    </a:moveTo>
                    <a:lnTo>
                      <a:pt x="17612" y="4"/>
                    </a:lnTo>
                    <a:cubicBezTo>
                      <a:pt x="17613" y="4"/>
                      <a:pt x="17614" y="5"/>
                      <a:pt x="17614" y="6"/>
                    </a:cubicBezTo>
                    <a:cubicBezTo>
                      <a:pt x="17614" y="8"/>
                      <a:pt x="17613" y="8"/>
                      <a:pt x="17612" y="8"/>
                    </a:cubicBezTo>
                    <a:lnTo>
                      <a:pt x="17612" y="8"/>
                    </a:lnTo>
                    <a:cubicBezTo>
                      <a:pt x="17611" y="8"/>
                      <a:pt x="17610" y="8"/>
                      <a:pt x="17610" y="6"/>
                    </a:cubicBezTo>
                    <a:cubicBezTo>
                      <a:pt x="17610" y="5"/>
                      <a:pt x="17611" y="4"/>
                      <a:pt x="17612" y="4"/>
                    </a:cubicBezTo>
                    <a:close/>
                    <a:moveTo>
                      <a:pt x="17620" y="4"/>
                    </a:moveTo>
                    <a:lnTo>
                      <a:pt x="17620" y="4"/>
                    </a:lnTo>
                    <a:cubicBezTo>
                      <a:pt x="17621" y="4"/>
                      <a:pt x="17622" y="5"/>
                      <a:pt x="17622" y="6"/>
                    </a:cubicBezTo>
                    <a:cubicBezTo>
                      <a:pt x="17622" y="8"/>
                      <a:pt x="17621" y="8"/>
                      <a:pt x="17620" y="8"/>
                    </a:cubicBezTo>
                    <a:lnTo>
                      <a:pt x="17620" y="8"/>
                    </a:lnTo>
                    <a:cubicBezTo>
                      <a:pt x="17619" y="8"/>
                      <a:pt x="17618" y="8"/>
                      <a:pt x="17618" y="6"/>
                    </a:cubicBezTo>
                    <a:cubicBezTo>
                      <a:pt x="17618" y="5"/>
                      <a:pt x="17619" y="4"/>
                      <a:pt x="17620" y="4"/>
                    </a:cubicBezTo>
                    <a:close/>
                    <a:moveTo>
                      <a:pt x="17628" y="4"/>
                    </a:moveTo>
                    <a:lnTo>
                      <a:pt x="17628" y="4"/>
                    </a:lnTo>
                    <a:cubicBezTo>
                      <a:pt x="17629" y="4"/>
                      <a:pt x="17630" y="5"/>
                      <a:pt x="17630" y="6"/>
                    </a:cubicBezTo>
                    <a:cubicBezTo>
                      <a:pt x="17630" y="8"/>
                      <a:pt x="17629" y="8"/>
                      <a:pt x="17628" y="8"/>
                    </a:cubicBezTo>
                    <a:lnTo>
                      <a:pt x="17628" y="8"/>
                    </a:lnTo>
                    <a:cubicBezTo>
                      <a:pt x="17627" y="8"/>
                      <a:pt x="17626" y="8"/>
                      <a:pt x="17626" y="6"/>
                    </a:cubicBezTo>
                    <a:cubicBezTo>
                      <a:pt x="17626" y="5"/>
                      <a:pt x="17627" y="4"/>
                      <a:pt x="17628" y="4"/>
                    </a:cubicBezTo>
                    <a:close/>
                    <a:moveTo>
                      <a:pt x="17636" y="4"/>
                    </a:moveTo>
                    <a:lnTo>
                      <a:pt x="17636" y="4"/>
                    </a:lnTo>
                    <a:cubicBezTo>
                      <a:pt x="17637" y="4"/>
                      <a:pt x="17638" y="5"/>
                      <a:pt x="17638" y="6"/>
                    </a:cubicBezTo>
                    <a:cubicBezTo>
                      <a:pt x="17638" y="8"/>
                      <a:pt x="17637" y="8"/>
                      <a:pt x="17636" y="8"/>
                    </a:cubicBezTo>
                    <a:lnTo>
                      <a:pt x="17636" y="8"/>
                    </a:lnTo>
                    <a:cubicBezTo>
                      <a:pt x="17635" y="8"/>
                      <a:pt x="17634" y="8"/>
                      <a:pt x="17634" y="6"/>
                    </a:cubicBezTo>
                    <a:cubicBezTo>
                      <a:pt x="17634" y="5"/>
                      <a:pt x="17635" y="4"/>
                      <a:pt x="17636" y="4"/>
                    </a:cubicBezTo>
                    <a:close/>
                    <a:moveTo>
                      <a:pt x="17644" y="4"/>
                    </a:moveTo>
                    <a:lnTo>
                      <a:pt x="17644" y="4"/>
                    </a:lnTo>
                    <a:cubicBezTo>
                      <a:pt x="17645" y="4"/>
                      <a:pt x="17646" y="5"/>
                      <a:pt x="17646" y="6"/>
                    </a:cubicBezTo>
                    <a:cubicBezTo>
                      <a:pt x="17646" y="8"/>
                      <a:pt x="17645" y="8"/>
                      <a:pt x="17644" y="8"/>
                    </a:cubicBezTo>
                    <a:lnTo>
                      <a:pt x="17644" y="8"/>
                    </a:lnTo>
                    <a:cubicBezTo>
                      <a:pt x="17643" y="8"/>
                      <a:pt x="17642" y="8"/>
                      <a:pt x="17642" y="6"/>
                    </a:cubicBezTo>
                    <a:cubicBezTo>
                      <a:pt x="17642" y="5"/>
                      <a:pt x="17643" y="4"/>
                      <a:pt x="17644" y="4"/>
                    </a:cubicBezTo>
                    <a:close/>
                    <a:moveTo>
                      <a:pt x="17652" y="4"/>
                    </a:moveTo>
                    <a:lnTo>
                      <a:pt x="17652" y="4"/>
                    </a:lnTo>
                    <a:cubicBezTo>
                      <a:pt x="17653" y="4"/>
                      <a:pt x="17654" y="5"/>
                      <a:pt x="17654" y="6"/>
                    </a:cubicBezTo>
                    <a:cubicBezTo>
                      <a:pt x="17654" y="8"/>
                      <a:pt x="17653" y="8"/>
                      <a:pt x="17652" y="8"/>
                    </a:cubicBezTo>
                    <a:lnTo>
                      <a:pt x="17652" y="8"/>
                    </a:lnTo>
                    <a:cubicBezTo>
                      <a:pt x="17651" y="8"/>
                      <a:pt x="17650" y="8"/>
                      <a:pt x="17650" y="6"/>
                    </a:cubicBezTo>
                    <a:cubicBezTo>
                      <a:pt x="17650" y="5"/>
                      <a:pt x="17651" y="4"/>
                      <a:pt x="17652" y="4"/>
                    </a:cubicBezTo>
                    <a:close/>
                    <a:moveTo>
                      <a:pt x="17660" y="4"/>
                    </a:moveTo>
                    <a:lnTo>
                      <a:pt x="17660" y="4"/>
                    </a:lnTo>
                    <a:cubicBezTo>
                      <a:pt x="17661" y="4"/>
                      <a:pt x="17662" y="5"/>
                      <a:pt x="17662" y="6"/>
                    </a:cubicBezTo>
                    <a:cubicBezTo>
                      <a:pt x="17662" y="8"/>
                      <a:pt x="17661" y="8"/>
                      <a:pt x="17660" y="8"/>
                    </a:cubicBezTo>
                    <a:lnTo>
                      <a:pt x="17660" y="8"/>
                    </a:lnTo>
                    <a:cubicBezTo>
                      <a:pt x="17659" y="8"/>
                      <a:pt x="17658" y="8"/>
                      <a:pt x="17658" y="6"/>
                    </a:cubicBezTo>
                    <a:cubicBezTo>
                      <a:pt x="17658" y="5"/>
                      <a:pt x="17659" y="4"/>
                      <a:pt x="17660" y="4"/>
                    </a:cubicBezTo>
                    <a:close/>
                    <a:moveTo>
                      <a:pt x="17668" y="4"/>
                    </a:moveTo>
                    <a:lnTo>
                      <a:pt x="17668" y="4"/>
                    </a:lnTo>
                    <a:cubicBezTo>
                      <a:pt x="17669" y="4"/>
                      <a:pt x="17670" y="5"/>
                      <a:pt x="17670" y="6"/>
                    </a:cubicBezTo>
                    <a:cubicBezTo>
                      <a:pt x="17670" y="8"/>
                      <a:pt x="17669" y="8"/>
                      <a:pt x="17668" y="8"/>
                    </a:cubicBezTo>
                    <a:lnTo>
                      <a:pt x="17668" y="8"/>
                    </a:lnTo>
                    <a:cubicBezTo>
                      <a:pt x="17667" y="8"/>
                      <a:pt x="17666" y="8"/>
                      <a:pt x="17666" y="6"/>
                    </a:cubicBezTo>
                    <a:cubicBezTo>
                      <a:pt x="17666" y="5"/>
                      <a:pt x="17667" y="4"/>
                      <a:pt x="17668" y="4"/>
                    </a:cubicBezTo>
                    <a:close/>
                    <a:moveTo>
                      <a:pt x="17676" y="4"/>
                    </a:moveTo>
                    <a:lnTo>
                      <a:pt x="17676" y="4"/>
                    </a:lnTo>
                    <a:cubicBezTo>
                      <a:pt x="17677" y="4"/>
                      <a:pt x="17678" y="5"/>
                      <a:pt x="17678" y="6"/>
                    </a:cubicBezTo>
                    <a:cubicBezTo>
                      <a:pt x="17678" y="8"/>
                      <a:pt x="17677" y="8"/>
                      <a:pt x="17676" y="8"/>
                    </a:cubicBezTo>
                    <a:lnTo>
                      <a:pt x="17676" y="8"/>
                    </a:lnTo>
                    <a:cubicBezTo>
                      <a:pt x="17675" y="8"/>
                      <a:pt x="17674" y="8"/>
                      <a:pt x="17674" y="6"/>
                    </a:cubicBezTo>
                    <a:cubicBezTo>
                      <a:pt x="17674" y="5"/>
                      <a:pt x="17675" y="4"/>
                      <a:pt x="17676" y="4"/>
                    </a:cubicBezTo>
                    <a:close/>
                    <a:moveTo>
                      <a:pt x="17684" y="4"/>
                    </a:moveTo>
                    <a:lnTo>
                      <a:pt x="17684" y="4"/>
                    </a:lnTo>
                    <a:cubicBezTo>
                      <a:pt x="17685" y="4"/>
                      <a:pt x="17686" y="5"/>
                      <a:pt x="17686" y="6"/>
                    </a:cubicBezTo>
                    <a:cubicBezTo>
                      <a:pt x="17686" y="8"/>
                      <a:pt x="17685" y="8"/>
                      <a:pt x="17684" y="8"/>
                    </a:cubicBezTo>
                    <a:lnTo>
                      <a:pt x="17684" y="8"/>
                    </a:lnTo>
                    <a:cubicBezTo>
                      <a:pt x="17683" y="8"/>
                      <a:pt x="17682" y="8"/>
                      <a:pt x="17682" y="6"/>
                    </a:cubicBezTo>
                    <a:cubicBezTo>
                      <a:pt x="17682" y="5"/>
                      <a:pt x="17683" y="4"/>
                      <a:pt x="17684" y="4"/>
                    </a:cubicBezTo>
                    <a:close/>
                    <a:moveTo>
                      <a:pt x="17692" y="4"/>
                    </a:moveTo>
                    <a:lnTo>
                      <a:pt x="17692" y="4"/>
                    </a:lnTo>
                    <a:cubicBezTo>
                      <a:pt x="17693" y="4"/>
                      <a:pt x="17694" y="5"/>
                      <a:pt x="17694" y="6"/>
                    </a:cubicBezTo>
                    <a:cubicBezTo>
                      <a:pt x="17694" y="8"/>
                      <a:pt x="17693" y="8"/>
                      <a:pt x="17692" y="8"/>
                    </a:cubicBezTo>
                    <a:lnTo>
                      <a:pt x="17692" y="8"/>
                    </a:lnTo>
                    <a:cubicBezTo>
                      <a:pt x="17691" y="8"/>
                      <a:pt x="17690" y="8"/>
                      <a:pt x="17690" y="6"/>
                    </a:cubicBezTo>
                    <a:cubicBezTo>
                      <a:pt x="17690" y="5"/>
                      <a:pt x="17691" y="4"/>
                      <a:pt x="17692" y="4"/>
                    </a:cubicBezTo>
                    <a:close/>
                    <a:moveTo>
                      <a:pt x="17700" y="4"/>
                    </a:moveTo>
                    <a:lnTo>
                      <a:pt x="17700" y="4"/>
                    </a:lnTo>
                    <a:cubicBezTo>
                      <a:pt x="17701" y="4"/>
                      <a:pt x="17702" y="5"/>
                      <a:pt x="17702" y="6"/>
                    </a:cubicBezTo>
                    <a:cubicBezTo>
                      <a:pt x="17702" y="8"/>
                      <a:pt x="17701" y="8"/>
                      <a:pt x="17700" y="8"/>
                    </a:cubicBezTo>
                    <a:lnTo>
                      <a:pt x="17700" y="8"/>
                    </a:lnTo>
                    <a:cubicBezTo>
                      <a:pt x="17699" y="8"/>
                      <a:pt x="17698" y="8"/>
                      <a:pt x="17698" y="6"/>
                    </a:cubicBezTo>
                    <a:cubicBezTo>
                      <a:pt x="17698" y="5"/>
                      <a:pt x="17699" y="4"/>
                      <a:pt x="17700" y="4"/>
                    </a:cubicBezTo>
                    <a:close/>
                    <a:moveTo>
                      <a:pt x="17708" y="4"/>
                    </a:moveTo>
                    <a:lnTo>
                      <a:pt x="17708" y="4"/>
                    </a:lnTo>
                    <a:cubicBezTo>
                      <a:pt x="17709" y="4"/>
                      <a:pt x="17710" y="5"/>
                      <a:pt x="17710" y="6"/>
                    </a:cubicBezTo>
                    <a:cubicBezTo>
                      <a:pt x="17710" y="8"/>
                      <a:pt x="17709" y="8"/>
                      <a:pt x="17708" y="8"/>
                    </a:cubicBezTo>
                    <a:lnTo>
                      <a:pt x="17708" y="8"/>
                    </a:lnTo>
                    <a:cubicBezTo>
                      <a:pt x="17707" y="8"/>
                      <a:pt x="17706" y="8"/>
                      <a:pt x="17706" y="6"/>
                    </a:cubicBezTo>
                    <a:cubicBezTo>
                      <a:pt x="17706" y="5"/>
                      <a:pt x="17707" y="4"/>
                      <a:pt x="17708" y="4"/>
                    </a:cubicBezTo>
                    <a:close/>
                    <a:moveTo>
                      <a:pt x="17716" y="4"/>
                    </a:moveTo>
                    <a:lnTo>
                      <a:pt x="17716" y="4"/>
                    </a:lnTo>
                    <a:cubicBezTo>
                      <a:pt x="17717" y="4"/>
                      <a:pt x="17718" y="5"/>
                      <a:pt x="17718" y="6"/>
                    </a:cubicBezTo>
                    <a:cubicBezTo>
                      <a:pt x="17718" y="8"/>
                      <a:pt x="17717" y="8"/>
                      <a:pt x="17716" y="8"/>
                    </a:cubicBezTo>
                    <a:lnTo>
                      <a:pt x="17716" y="8"/>
                    </a:lnTo>
                    <a:cubicBezTo>
                      <a:pt x="17715" y="8"/>
                      <a:pt x="17714" y="8"/>
                      <a:pt x="17714" y="6"/>
                    </a:cubicBezTo>
                    <a:cubicBezTo>
                      <a:pt x="17714" y="5"/>
                      <a:pt x="17715" y="4"/>
                      <a:pt x="17716" y="4"/>
                    </a:cubicBezTo>
                    <a:close/>
                    <a:moveTo>
                      <a:pt x="17724" y="4"/>
                    </a:moveTo>
                    <a:lnTo>
                      <a:pt x="17724" y="4"/>
                    </a:lnTo>
                    <a:cubicBezTo>
                      <a:pt x="17725" y="4"/>
                      <a:pt x="17726" y="5"/>
                      <a:pt x="17726" y="6"/>
                    </a:cubicBezTo>
                    <a:cubicBezTo>
                      <a:pt x="17726" y="8"/>
                      <a:pt x="17725" y="8"/>
                      <a:pt x="17724" y="8"/>
                    </a:cubicBezTo>
                    <a:lnTo>
                      <a:pt x="17724" y="8"/>
                    </a:lnTo>
                    <a:cubicBezTo>
                      <a:pt x="17723" y="8"/>
                      <a:pt x="17722" y="8"/>
                      <a:pt x="17722" y="6"/>
                    </a:cubicBezTo>
                    <a:cubicBezTo>
                      <a:pt x="17722" y="5"/>
                      <a:pt x="17723" y="4"/>
                      <a:pt x="17724" y="4"/>
                    </a:cubicBezTo>
                    <a:close/>
                    <a:moveTo>
                      <a:pt x="17732" y="4"/>
                    </a:moveTo>
                    <a:lnTo>
                      <a:pt x="17732" y="4"/>
                    </a:lnTo>
                    <a:cubicBezTo>
                      <a:pt x="17733" y="4"/>
                      <a:pt x="17734" y="5"/>
                      <a:pt x="17734" y="6"/>
                    </a:cubicBezTo>
                    <a:cubicBezTo>
                      <a:pt x="17734" y="8"/>
                      <a:pt x="17733" y="8"/>
                      <a:pt x="17732" y="8"/>
                    </a:cubicBezTo>
                    <a:lnTo>
                      <a:pt x="17732" y="8"/>
                    </a:lnTo>
                    <a:cubicBezTo>
                      <a:pt x="17731" y="8"/>
                      <a:pt x="17730" y="8"/>
                      <a:pt x="17730" y="6"/>
                    </a:cubicBezTo>
                    <a:cubicBezTo>
                      <a:pt x="17730" y="5"/>
                      <a:pt x="17731" y="4"/>
                      <a:pt x="17732" y="4"/>
                    </a:cubicBezTo>
                    <a:close/>
                    <a:moveTo>
                      <a:pt x="17740" y="4"/>
                    </a:moveTo>
                    <a:lnTo>
                      <a:pt x="17740" y="4"/>
                    </a:lnTo>
                    <a:cubicBezTo>
                      <a:pt x="17741" y="4"/>
                      <a:pt x="17742" y="5"/>
                      <a:pt x="17742" y="6"/>
                    </a:cubicBezTo>
                    <a:cubicBezTo>
                      <a:pt x="17742" y="8"/>
                      <a:pt x="17741" y="8"/>
                      <a:pt x="17740" y="8"/>
                    </a:cubicBezTo>
                    <a:lnTo>
                      <a:pt x="17740" y="8"/>
                    </a:lnTo>
                    <a:cubicBezTo>
                      <a:pt x="17739" y="8"/>
                      <a:pt x="17738" y="8"/>
                      <a:pt x="17738" y="6"/>
                    </a:cubicBezTo>
                    <a:cubicBezTo>
                      <a:pt x="17738" y="5"/>
                      <a:pt x="17739" y="4"/>
                      <a:pt x="17740" y="4"/>
                    </a:cubicBezTo>
                    <a:close/>
                    <a:moveTo>
                      <a:pt x="17748" y="4"/>
                    </a:moveTo>
                    <a:lnTo>
                      <a:pt x="17748" y="4"/>
                    </a:lnTo>
                    <a:cubicBezTo>
                      <a:pt x="17749" y="4"/>
                      <a:pt x="17750" y="5"/>
                      <a:pt x="17750" y="6"/>
                    </a:cubicBezTo>
                    <a:cubicBezTo>
                      <a:pt x="17750" y="8"/>
                      <a:pt x="17749" y="8"/>
                      <a:pt x="17748" y="8"/>
                    </a:cubicBezTo>
                    <a:lnTo>
                      <a:pt x="17748" y="8"/>
                    </a:lnTo>
                    <a:cubicBezTo>
                      <a:pt x="17747" y="8"/>
                      <a:pt x="17746" y="8"/>
                      <a:pt x="17746" y="6"/>
                    </a:cubicBezTo>
                    <a:cubicBezTo>
                      <a:pt x="17746" y="5"/>
                      <a:pt x="17747" y="4"/>
                      <a:pt x="17748" y="4"/>
                    </a:cubicBezTo>
                    <a:close/>
                    <a:moveTo>
                      <a:pt x="17756" y="4"/>
                    </a:moveTo>
                    <a:lnTo>
                      <a:pt x="17756" y="4"/>
                    </a:lnTo>
                    <a:cubicBezTo>
                      <a:pt x="17757" y="4"/>
                      <a:pt x="17758" y="5"/>
                      <a:pt x="17758" y="6"/>
                    </a:cubicBezTo>
                    <a:cubicBezTo>
                      <a:pt x="17758" y="8"/>
                      <a:pt x="17757" y="8"/>
                      <a:pt x="17756" y="8"/>
                    </a:cubicBezTo>
                    <a:lnTo>
                      <a:pt x="17756" y="8"/>
                    </a:lnTo>
                    <a:cubicBezTo>
                      <a:pt x="17755" y="8"/>
                      <a:pt x="17754" y="8"/>
                      <a:pt x="17754" y="6"/>
                    </a:cubicBezTo>
                    <a:cubicBezTo>
                      <a:pt x="17754" y="5"/>
                      <a:pt x="17755" y="4"/>
                      <a:pt x="17756" y="4"/>
                    </a:cubicBezTo>
                    <a:close/>
                    <a:moveTo>
                      <a:pt x="17764" y="4"/>
                    </a:moveTo>
                    <a:lnTo>
                      <a:pt x="17764" y="4"/>
                    </a:lnTo>
                    <a:cubicBezTo>
                      <a:pt x="17765" y="4"/>
                      <a:pt x="17766" y="5"/>
                      <a:pt x="17766" y="6"/>
                    </a:cubicBezTo>
                    <a:cubicBezTo>
                      <a:pt x="17766" y="8"/>
                      <a:pt x="17765" y="8"/>
                      <a:pt x="17764" y="8"/>
                    </a:cubicBezTo>
                    <a:lnTo>
                      <a:pt x="17764" y="8"/>
                    </a:lnTo>
                    <a:cubicBezTo>
                      <a:pt x="17763" y="8"/>
                      <a:pt x="17762" y="8"/>
                      <a:pt x="17762" y="6"/>
                    </a:cubicBezTo>
                    <a:cubicBezTo>
                      <a:pt x="17762" y="5"/>
                      <a:pt x="17763" y="4"/>
                      <a:pt x="17764" y="4"/>
                    </a:cubicBezTo>
                    <a:close/>
                    <a:moveTo>
                      <a:pt x="17772" y="4"/>
                    </a:moveTo>
                    <a:lnTo>
                      <a:pt x="17772" y="4"/>
                    </a:lnTo>
                    <a:cubicBezTo>
                      <a:pt x="17773" y="4"/>
                      <a:pt x="17774" y="5"/>
                      <a:pt x="17774" y="6"/>
                    </a:cubicBezTo>
                    <a:cubicBezTo>
                      <a:pt x="17774" y="8"/>
                      <a:pt x="17773" y="8"/>
                      <a:pt x="17772" y="8"/>
                    </a:cubicBezTo>
                    <a:lnTo>
                      <a:pt x="17772" y="8"/>
                    </a:lnTo>
                    <a:cubicBezTo>
                      <a:pt x="17771" y="8"/>
                      <a:pt x="17770" y="8"/>
                      <a:pt x="17770" y="6"/>
                    </a:cubicBezTo>
                    <a:cubicBezTo>
                      <a:pt x="17770" y="5"/>
                      <a:pt x="17771" y="4"/>
                      <a:pt x="17772" y="4"/>
                    </a:cubicBezTo>
                    <a:close/>
                    <a:moveTo>
                      <a:pt x="17780" y="4"/>
                    </a:moveTo>
                    <a:lnTo>
                      <a:pt x="17780" y="4"/>
                    </a:lnTo>
                    <a:cubicBezTo>
                      <a:pt x="17781" y="4"/>
                      <a:pt x="17782" y="5"/>
                      <a:pt x="17782" y="6"/>
                    </a:cubicBezTo>
                    <a:cubicBezTo>
                      <a:pt x="17782" y="8"/>
                      <a:pt x="17781" y="8"/>
                      <a:pt x="17780" y="8"/>
                    </a:cubicBezTo>
                    <a:lnTo>
                      <a:pt x="17780" y="8"/>
                    </a:lnTo>
                    <a:cubicBezTo>
                      <a:pt x="17779" y="8"/>
                      <a:pt x="17778" y="8"/>
                      <a:pt x="17778" y="6"/>
                    </a:cubicBezTo>
                    <a:cubicBezTo>
                      <a:pt x="17778" y="5"/>
                      <a:pt x="17779" y="4"/>
                      <a:pt x="17780" y="4"/>
                    </a:cubicBezTo>
                    <a:close/>
                    <a:moveTo>
                      <a:pt x="17788" y="4"/>
                    </a:moveTo>
                    <a:lnTo>
                      <a:pt x="17788" y="4"/>
                    </a:lnTo>
                    <a:cubicBezTo>
                      <a:pt x="17789" y="4"/>
                      <a:pt x="17790" y="5"/>
                      <a:pt x="17790" y="6"/>
                    </a:cubicBezTo>
                    <a:cubicBezTo>
                      <a:pt x="17790" y="8"/>
                      <a:pt x="17789" y="8"/>
                      <a:pt x="17788" y="8"/>
                    </a:cubicBezTo>
                    <a:lnTo>
                      <a:pt x="17788" y="8"/>
                    </a:lnTo>
                    <a:cubicBezTo>
                      <a:pt x="17787" y="8"/>
                      <a:pt x="17786" y="8"/>
                      <a:pt x="17786" y="6"/>
                    </a:cubicBezTo>
                    <a:cubicBezTo>
                      <a:pt x="17786" y="5"/>
                      <a:pt x="17787" y="4"/>
                      <a:pt x="17788" y="4"/>
                    </a:cubicBezTo>
                    <a:close/>
                    <a:moveTo>
                      <a:pt x="17796" y="4"/>
                    </a:moveTo>
                    <a:lnTo>
                      <a:pt x="17796" y="4"/>
                    </a:lnTo>
                    <a:cubicBezTo>
                      <a:pt x="17797" y="4"/>
                      <a:pt x="17798" y="5"/>
                      <a:pt x="17798" y="6"/>
                    </a:cubicBezTo>
                    <a:cubicBezTo>
                      <a:pt x="17798" y="8"/>
                      <a:pt x="17797" y="8"/>
                      <a:pt x="17796" y="8"/>
                    </a:cubicBezTo>
                    <a:lnTo>
                      <a:pt x="17796" y="8"/>
                    </a:lnTo>
                    <a:cubicBezTo>
                      <a:pt x="17795" y="8"/>
                      <a:pt x="17794" y="8"/>
                      <a:pt x="17794" y="6"/>
                    </a:cubicBezTo>
                    <a:cubicBezTo>
                      <a:pt x="17794" y="5"/>
                      <a:pt x="17795" y="4"/>
                      <a:pt x="17796" y="4"/>
                    </a:cubicBezTo>
                    <a:close/>
                    <a:moveTo>
                      <a:pt x="17804" y="4"/>
                    </a:moveTo>
                    <a:lnTo>
                      <a:pt x="17804" y="4"/>
                    </a:lnTo>
                    <a:cubicBezTo>
                      <a:pt x="17805" y="4"/>
                      <a:pt x="17806" y="5"/>
                      <a:pt x="17806" y="6"/>
                    </a:cubicBezTo>
                    <a:cubicBezTo>
                      <a:pt x="17806" y="8"/>
                      <a:pt x="17805" y="8"/>
                      <a:pt x="17804" y="8"/>
                    </a:cubicBezTo>
                    <a:lnTo>
                      <a:pt x="17804" y="8"/>
                    </a:lnTo>
                    <a:cubicBezTo>
                      <a:pt x="17803" y="8"/>
                      <a:pt x="17802" y="8"/>
                      <a:pt x="17802" y="6"/>
                    </a:cubicBezTo>
                    <a:cubicBezTo>
                      <a:pt x="17802" y="5"/>
                      <a:pt x="17803" y="4"/>
                      <a:pt x="17804" y="4"/>
                    </a:cubicBezTo>
                    <a:close/>
                    <a:moveTo>
                      <a:pt x="17812" y="4"/>
                    </a:moveTo>
                    <a:lnTo>
                      <a:pt x="17812" y="4"/>
                    </a:lnTo>
                    <a:cubicBezTo>
                      <a:pt x="17813" y="4"/>
                      <a:pt x="17814" y="5"/>
                      <a:pt x="17814" y="6"/>
                    </a:cubicBezTo>
                    <a:cubicBezTo>
                      <a:pt x="17814" y="8"/>
                      <a:pt x="17813" y="8"/>
                      <a:pt x="17812" y="8"/>
                    </a:cubicBezTo>
                    <a:lnTo>
                      <a:pt x="17812" y="8"/>
                    </a:lnTo>
                    <a:cubicBezTo>
                      <a:pt x="17811" y="8"/>
                      <a:pt x="17810" y="8"/>
                      <a:pt x="17810" y="6"/>
                    </a:cubicBezTo>
                    <a:cubicBezTo>
                      <a:pt x="17810" y="5"/>
                      <a:pt x="17811" y="4"/>
                      <a:pt x="17812" y="4"/>
                    </a:cubicBezTo>
                    <a:close/>
                    <a:moveTo>
                      <a:pt x="17820" y="4"/>
                    </a:moveTo>
                    <a:lnTo>
                      <a:pt x="17820" y="4"/>
                    </a:lnTo>
                    <a:cubicBezTo>
                      <a:pt x="17821" y="4"/>
                      <a:pt x="17822" y="5"/>
                      <a:pt x="17822" y="6"/>
                    </a:cubicBezTo>
                    <a:cubicBezTo>
                      <a:pt x="17822" y="8"/>
                      <a:pt x="17821" y="8"/>
                      <a:pt x="17820" y="8"/>
                    </a:cubicBezTo>
                    <a:lnTo>
                      <a:pt x="17820" y="8"/>
                    </a:lnTo>
                    <a:cubicBezTo>
                      <a:pt x="17819" y="8"/>
                      <a:pt x="17818" y="8"/>
                      <a:pt x="17818" y="6"/>
                    </a:cubicBezTo>
                    <a:cubicBezTo>
                      <a:pt x="17818" y="5"/>
                      <a:pt x="17819" y="4"/>
                      <a:pt x="17820" y="4"/>
                    </a:cubicBezTo>
                    <a:close/>
                    <a:moveTo>
                      <a:pt x="17828" y="4"/>
                    </a:moveTo>
                    <a:lnTo>
                      <a:pt x="17828" y="4"/>
                    </a:lnTo>
                    <a:cubicBezTo>
                      <a:pt x="17829" y="4"/>
                      <a:pt x="17830" y="5"/>
                      <a:pt x="17830" y="6"/>
                    </a:cubicBezTo>
                    <a:cubicBezTo>
                      <a:pt x="17830" y="8"/>
                      <a:pt x="17829" y="8"/>
                      <a:pt x="17828" y="8"/>
                    </a:cubicBezTo>
                    <a:lnTo>
                      <a:pt x="17828" y="8"/>
                    </a:lnTo>
                    <a:cubicBezTo>
                      <a:pt x="17827" y="8"/>
                      <a:pt x="17826" y="8"/>
                      <a:pt x="17826" y="6"/>
                    </a:cubicBezTo>
                    <a:cubicBezTo>
                      <a:pt x="17826" y="5"/>
                      <a:pt x="17827" y="4"/>
                      <a:pt x="17828" y="4"/>
                    </a:cubicBezTo>
                    <a:close/>
                    <a:moveTo>
                      <a:pt x="17836" y="4"/>
                    </a:moveTo>
                    <a:lnTo>
                      <a:pt x="17836" y="4"/>
                    </a:lnTo>
                    <a:cubicBezTo>
                      <a:pt x="17837" y="4"/>
                      <a:pt x="17838" y="5"/>
                      <a:pt x="17838" y="6"/>
                    </a:cubicBezTo>
                    <a:cubicBezTo>
                      <a:pt x="17838" y="8"/>
                      <a:pt x="17837" y="8"/>
                      <a:pt x="17836" y="8"/>
                    </a:cubicBezTo>
                    <a:lnTo>
                      <a:pt x="17836" y="8"/>
                    </a:lnTo>
                    <a:cubicBezTo>
                      <a:pt x="17835" y="8"/>
                      <a:pt x="17834" y="8"/>
                      <a:pt x="17834" y="6"/>
                    </a:cubicBezTo>
                    <a:cubicBezTo>
                      <a:pt x="17834" y="5"/>
                      <a:pt x="17835" y="4"/>
                      <a:pt x="17836" y="4"/>
                    </a:cubicBezTo>
                    <a:close/>
                    <a:moveTo>
                      <a:pt x="17844" y="4"/>
                    </a:moveTo>
                    <a:lnTo>
                      <a:pt x="17844" y="4"/>
                    </a:lnTo>
                    <a:cubicBezTo>
                      <a:pt x="17845" y="4"/>
                      <a:pt x="17846" y="5"/>
                      <a:pt x="17846" y="6"/>
                    </a:cubicBezTo>
                    <a:cubicBezTo>
                      <a:pt x="17846" y="8"/>
                      <a:pt x="17845" y="8"/>
                      <a:pt x="17844" y="8"/>
                    </a:cubicBezTo>
                    <a:lnTo>
                      <a:pt x="17844" y="8"/>
                    </a:lnTo>
                    <a:cubicBezTo>
                      <a:pt x="17843" y="8"/>
                      <a:pt x="17842" y="8"/>
                      <a:pt x="17842" y="6"/>
                    </a:cubicBezTo>
                    <a:cubicBezTo>
                      <a:pt x="17842" y="5"/>
                      <a:pt x="17843" y="4"/>
                      <a:pt x="17844" y="4"/>
                    </a:cubicBezTo>
                    <a:close/>
                    <a:moveTo>
                      <a:pt x="17852" y="4"/>
                    </a:moveTo>
                    <a:lnTo>
                      <a:pt x="17852" y="4"/>
                    </a:lnTo>
                    <a:cubicBezTo>
                      <a:pt x="17853" y="4"/>
                      <a:pt x="17854" y="5"/>
                      <a:pt x="17854" y="6"/>
                    </a:cubicBezTo>
                    <a:cubicBezTo>
                      <a:pt x="17854" y="8"/>
                      <a:pt x="17853" y="8"/>
                      <a:pt x="17852" y="8"/>
                    </a:cubicBezTo>
                    <a:lnTo>
                      <a:pt x="17852" y="8"/>
                    </a:lnTo>
                    <a:cubicBezTo>
                      <a:pt x="17851" y="8"/>
                      <a:pt x="17850" y="8"/>
                      <a:pt x="17850" y="6"/>
                    </a:cubicBezTo>
                    <a:cubicBezTo>
                      <a:pt x="17850" y="5"/>
                      <a:pt x="17851" y="4"/>
                      <a:pt x="17852" y="4"/>
                    </a:cubicBezTo>
                    <a:close/>
                    <a:moveTo>
                      <a:pt x="17860" y="4"/>
                    </a:moveTo>
                    <a:lnTo>
                      <a:pt x="17860" y="4"/>
                    </a:lnTo>
                    <a:cubicBezTo>
                      <a:pt x="17861" y="4"/>
                      <a:pt x="17862" y="5"/>
                      <a:pt x="17862" y="6"/>
                    </a:cubicBezTo>
                    <a:cubicBezTo>
                      <a:pt x="17862" y="8"/>
                      <a:pt x="17861" y="8"/>
                      <a:pt x="17860" y="8"/>
                    </a:cubicBezTo>
                    <a:lnTo>
                      <a:pt x="17860" y="8"/>
                    </a:lnTo>
                    <a:cubicBezTo>
                      <a:pt x="17859" y="8"/>
                      <a:pt x="17858" y="8"/>
                      <a:pt x="17858" y="6"/>
                    </a:cubicBezTo>
                    <a:cubicBezTo>
                      <a:pt x="17858" y="5"/>
                      <a:pt x="17859" y="4"/>
                      <a:pt x="17860" y="4"/>
                    </a:cubicBezTo>
                    <a:close/>
                    <a:moveTo>
                      <a:pt x="17868" y="4"/>
                    </a:moveTo>
                    <a:lnTo>
                      <a:pt x="17868" y="4"/>
                    </a:lnTo>
                    <a:cubicBezTo>
                      <a:pt x="17869" y="4"/>
                      <a:pt x="17870" y="5"/>
                      <a:pt x="17870" y="6"/>
                    </a:cubicBezTo>
                    <a:cubicBezTo>
                      <a:pt x="17870" y="8"/>
                      <a:pt x="17869" y="8"/>
                      <a:pt x="17868" y="8"/>
                    </a:cubicBezTo>
                    <a:lnTo>
                      <a:pt x="17868" y="8"/>
                    </a:lnTo>
                    <a:cubicBezTo>
                      <a:pt x="17867" y="8"/>
                      <a:pt x="17866" y="8"/>
                      <a:pt x="17866" y="6"/>
                    </a:cubicBezTo>
                    <a:cubicBezTo>
                      <a:pt x="17866" y="5"/>
                      <a:pt x="17867" y="4"/>
                      <a:pt x="17868" y="4"/>
                    </a:cubicBezTo>
                    <a:close/>
                    <a:moveTo>
                      <a:pt x="17876" y="4"/>
                    </a:moveTo>
                    <a:lnTo>
                      <a:pt x="17876" y="4"/>
                    </a:lnTo>
                    <a:cubicBezTo>
                      <a:pt x="17877" y="4"/>
                      <a:pt x="17878" y="5"/>
                      <a:pt x="17878" y="6"/>
                    </a:cubicBezTo>
                    <a:cubicBezTo>
                      <a:pt x="17878" y="8"/>
                      <a:pt x="17877" y="8"/>
                      <a:pt x="17876" y="8"/>
                    </a:cubicBezTo>
                    <a:lnTo>
                      <a:pt x="17876" y="8"/>
                    </a:lnTo>
                    <a:cubicBezTo>
                      <a:pt x="17875" y="8"/>
                      <a:pt x="17874" y="8"/>
                      <a:pt x="17874" y="6"/>
                    </a:cubicBezTo>
                    <a:cubicBezTo>
                      <a:pt x="17874" y="5"/>
                      <a:pt x="17875" y="4"/>
                      <a:pt x="17876" y="4"/>
                    </a:cubicBezTo>
                    <a:close/>
                    <a:moveTo>
                      <a:pt x="17884" y="4"/>
                    </a:moveTo>
                    <a:lnTo>
                      <a:pt x="17884" y="4"/>
                    </a:lnTo>
                    <a:cubicBezTo>
                      <a:pt x="17885" y="4"/>
                      <a:pt x="17886" y="5"/>
                      <a:pt x="17886" y="6"/>
                    </a:cubicBezTo>
                    <a:cubicBezTo>
                      <a:pt x="17886" y="8"/>
                      <a:pt x="17885" y="8"/>
                      <a:pt x="17884" y="8"/>
                    </a:cubicBezTo>
                    <a:lnTo>
                      <a:pt x="17884" y="8"/>
                    </a:lnTo>
                    <a:cubicBezTo>
                      <a:pt x="17883" y="8"/>
                      <a:pt x="17882" y="8"/>
                      <a:pt x="17882" y="6"/>
                    </a:cubicBezTo>
                    <a:cubicBezTo>
                      <a:pt x="17882" y="5"/>
                      <a:pt x="17883" y="4"/>
                      <a:pt x="17884" y="4"/>
                    </a:cubicBezTo>
                    <a:close/>
                    <a:moveTo>
                      <a:pt x="17892" y="4"/>
                    </a:moveTo>
                    <a:lnTo>
                      <a:pt x="17892" y="4"/>
                    </a:lnTo>
                    <a:cubicBezTo>
                      <a:pt x="17893" y="4"/>
                      <a:pt x="17894" y="5"/>
                      <a:pt x="17894" y="6"/>
                    </a:cubicBezTo>
                    <a:cubicBezTo>
                      <a:pt x="17894" y="8"/>
                      <a:pt x="17893" y="8"/>
                      <a:pt x="17892" y="8"/>
                    </a:cubicBezTo>
                    <a:lnTo>
                      <a:pt x="17892" y="8"/>
                    </a:lnTo>
                    <a:cubicBezTo>
                      <a:pt x="17891" y="8"/>
                      <a:pt x="17890" y="8"/>
                      <a:pt x="17890" y="6"/>
                    </a:cubicBezTo>
                    <a:cubicBezTo>
                      <a:pt x="17890" y="5"/>
                      <a:pt x="17891" y="4"/>
                      <a:pt x="17892" y="4"/>
                    </a:cubicBezTo>
                    <a:close/>
                    <a:moveTo>
                      <a:pt x="17900" y="4"/>
                    </a:moveTo>
                    <a:lnTo>
                      <a:pt x="17900" y="4"/>
                    </a:lnTo>
                    <a:cubicBezTo>
                      <a:pt x="17901" y="4"/>
                      <a:pt x="17902" y="5"/>
                      <a:pt x="17902" y="6"/>
                    </a:cubicBezTo>
                    <a:cubicBezTo>
                      <a:pt x="17902" y="8"/>
                      <a:pt x="17901" y="8"/>
                      <a:pt x="17900" y="8"/>
                    </a:cubicBezTo>
                    <a:lnTo>
                      <a:pt x="17900" y="8"/>
                    </a:lnTo>
                    <a:cubicBezTo>
                      <a:pt x="17899" y="8"/>
                      <a:pt x="17898" y="8"/>
                      <a:pt x="17898" y="6"/>
                    </a:cubicBezTo>
                    <a:cubicBezTo>
                      <a:pt x="17898" y="5"/>
                      <a:pt x="17899" y="4"/>
                      <a:pt x="17900" y="4"/>
                    </a:cubicBezTo>
                    <a:close/>
                    <a:moveTo>
                      <a:pt x="17908" y="4"/>
                    </a:moveTo>
                    <a:lnTo>
                      <a:pt x="17908" y="4"/>
                    </a:lnTo>
                    <a:cubicBezTo>
                      <a:pt x="17909" y="4"/>
                      <a:pt x="17910" y="5"/>
                      <a:pt x="17910" y="6"/>
                    </a:cubicBezTo>
                    <a:cubicBezTo>
                      <a:pt x="17910" y="8"/>
                      <a:pt x="17909" y="8"/>
                      <a:pt x="17908" y="8"/>
                    </a:cubicBezTo>
                    <a:lnTo>
                      <a:pt x="17908" y="8"/>
                    </a:lnTo>
                    <a:cubicBezTo>
                      <a:pt x="17907" y="8"/>
                      <a:pt x="17906" y="8"/>
                      <a:pt x="17906" y="6"/>
                    </a:cubicBezTo>
                    <a:cubicBezTo>
                      <a:pt x="17906" y="5"/>
                      <a:pt x="17907" y="4"/>
                      <a:pt x="17908" y="4"/>
                    </a:cubicBezTo>
                    <a:close/>
                    <a:moveTo>
                      <a:pt x="17916" y="4"/>
                    </a:moveTo>
                    <a:lnTo>
                      <a:pt x="17916" y="4"/>
                    </a:lnTo>
                    <a:cubicBezTo>
                      <a:pt x="17917" y="4"/>
                      <a:pt x="17918" y="5"/>
                      <a:pt x="17918" y="6"/>
                    </a:cubicBezTo>
                    <a:cubicBezTo>
                      <a:pt x="17918" y="8"/>
                      <a:pt x="17917" y="8"/>
                      <a:pt x="17916" y="8"/>
                    </a:cubicBezTo>
                    <a:lnTo>
                      <a:pt x="17916" y="8"/>
                    </a:lnTo>
                    <a:cubicBezTo>
                      <a:pt x="17915" y="8"/>
                      <a:pt x="17914" y="8"/>
                      <a:pt x="17914" y="6"/>
                    </a:cubicBezTo>
                    <a:cubicBezTo>
                      <a:pt x="17914" y="5"/>
                      <a:pt x="17915" y="4"/>
                      <a:pt x="17916" y="4"/>
                    </a:cubicBezTo>
                    <a:close/>
                    <a:moveTo>
                      <a:pt x="17924" y="4"/>
                    </a:moveTo>
                    <a:lnTo>
                      <a:pt x="17924" y="4"/>
                    </a:lnTo>
                    <a:cubicBezTo>
                      <a:pt x="17925" y="4"/>
                      <a:pt x="17926" y="5"/>
                      <a:pt x="17926" y="6"/>
                    </a:cubicBezTo>
                    <a:cubicBezTo>
                      <a:pt x="17926" y="8"/>
                      <a:pt x="17925" y="8"/>
                      <a:pt x="17924" y="8"/>
                    </a:cubicBezTo>
                    <a:lnTo>
                      <a:pt x="17924" y="8"/>
                    </a:lnTo>
                    <a:cubicBezTo>
                      <a:pt x="17923" y="8"/>
                      <a:pt x="17922" y="8"/>
                      <a:pt x="17922" y="6"/>
                    </a:cubicBezTo>
                    <a:cubicBezTo>
                      <a:pt x="17922" y="5"/>
                      <a:pt x="17923" y="4"/>
                      <a:pt x="17924" y="4"/>
                    </a:cubicBezTo>
                    <a:close/>
                    <a:moveTo>
                      <a:pt x="17932" y="4"/>
                    </a:moveTo>
                    <a:lnTo>
                      <a:pt x="17932" y="4"/>
                    </a:lnTo>
                    <a:cubicBezTo>
                      <a:pt x="17933" y="4"/>
                      <a:pt x="17934" y="5"/>
                      <a:pt x="17934" y="6"/>
                    </a:cubicBezTo>
                    <a:cubicBezTo>
                      <a:pt x="17934" y="8"/>
                      <a:pt x="17933" y="8"/>
                      <a:pt x="17932" y="8"/>
                    </a:cubicBezTo>
                    <a:lnTo>
                      <a:pt x="17932" y="8"/>
                    </a:lnTo>
                    <a:cubicBezTo>
                      <a:pt x="17931" y="8"/>
                      <a:pt x="17930" y="8"/>
                      <a:pt x="17930" y="6"/>
                    </a:cubicBezTo>
                    <a:cubicBezTo>
                      <a:pt x="17930" y="5"/>
                      <a:pt x="17931" y="4"/>
                      <a:pt x="17932" y="4"/>
                    </a:cubicBezTo>
                    <a:close/>
                    <a:moveTo>
                      <a:pt x="17940" y="4"/>
                    </a:moveTo>
                    <a:lnTo>
                      <a:pt x="17940" y="4"/>
                    </a:lnTo>
                    <a:cubicBezTo>
                      <a:pt x="17941" y="4"/>
                      <a:pt x="17942" y="5"/>
                      <a:pt x="17942" y="6"/>
                    </a:cubicBezTo>
                    <a:cubicBezTo>
                      <a:pt x="17942" y="8"/>
                      <a:pt x="17941" y="8"/>
                      <a:pt x="17940" y="8"/>
                    </a:cubicBezTo>
                    <a:lnTo>
                      <a:pt x="17940" y="8"/>
                    </a:lnTo>
                    <a:cubicBezTo>
                      <a:pt x="17939" y="8"/>
                      <a:pt x="17938" y="8"/>
                      <a:pt x="17938" y="6"/>
                    </a:cubicBezTo>
                    <a:cubicBezTo>
                      <a:pt x="17938" y="5"/>
                      <a:pt x="17939" y="4"/>
                      <a:pt x="17940" y="4"/>
                    </a:cubicBezTo>
                    <a:close/>
                    <a:moveTo>
                      <a:pt x="17948" y="4"/>
                    </a:moveTo>
                    <a:lnTo>
                      <a:pt x="17948" y="4"/>
                    </a:lnTo>
                    <a:cubicBezTo>
                      <a:pt x="17949" y="4"/>
                      <a:pt x="17950" y="5"/>
                      <a:pt x="17950" y="6"/>
                    </a:cubicBezTo>
                    <a:cubicBezTo>
                      <a:pt x="17950" y="8"/>
                      <a:pt x="17949" y="8"/>
                      <a:pt x="17948" y="8"/>
                    </a:cubicBezTo>
                    <a:lnTo>
                      <a:pt x="17948" y="8"/>
                    </a:lnTo>
                    <a:cubicBezTo>
                      <a:pt x="17947" y="8"/>
                      <a:pt x="17946" y="8"/>
                      <a:pt x="17946" y="6"/>
                    </a:cubicBezTo>
                    <a:cubicBezTo>
                      <a:pt x="17946" y="5"/>
                      <a:pt x="17947" y="4"/>
                      <a:pt x="17948" y="4"/>
                    </a:cubicBezTo>
                    <a:close/>
                    <a:moveTo>
                      <a:pt x="17956" y="4"/>
                    </a:moveTo>
                    <a:lnTo>
                      <a:pt x="17956" y="4"/>
                    </a:lnTo>
                    <a:cubicBezTo>
                      <a:pt x="17957" y="4"/>
                      <a:pt x="17958" y="5"/>
                      <a:pt x="17958" y="6"/>
                    </a:cubicBezTo>
                    <a:cubicBezTo>
                      <a:pt x="17958" y="8"/>
                      <a:pt x="17957" y="8"/>
                      <a:pt x="17956" y="8"/>
                    </a:cubicBezTo>
                    <a:lnTo>
                      <a:pt x="17956" y="8"/>
                    </a:lnTo>
                    <a:cubicBezTo>
                      <a:pt x="17955" y="8"/>
                      <a:pt x="17954" y="8"/>
                      <a:pt x="17954" y="6"/>
                    </a:cubicBezTo>
                    <a:cubicBezTo>
                      <a:pt x="17954" y="5"/>
                      <a:pt x="17955" y="4"/>
                      <a:pt x="17956" y="4"/>
                    </a:cubicBezTo>
                    <a:close/>
                    <a:moveTo>
                      <a:pt x="17964" y="4"/>
                    </a:moveTo>
                    <a:lnTo>
                      <a:pt x="17964" y="4"/>
                    </a:lnTo>
                    <a:cubicBezTo>
                      <a:pt x="17965" y="4"/>
                      <a:pt x="17966" y="5"/>
                      <a:pt x="17966" y="6"/>
                    </a:cubicBezTo>
                    <a:cubicBezTo>
                      <a:pt x="17966" y="8"/>
                      <a:pt x="17965" y="8"/>
                      <a:pt x="17964" y="8"/>
                    </a:cubicBezTo>
                    <a:lnTo>
                      <a:pt x="17964" y="8"/>
                    </a:lnTo>
                    <a:cubicBezTo>
                      <a:pt x="17963" y="8"/>
                      <a:pt x="17962" y="8"/>
                      <a:pt x="17962" y="6"/>
                    </a:cubicBezTo>
                    <a:cubicBezTo>
                      <a:pt x="17962" y="5"/>
                      <a:pt x="17963" y="4"/>
                      <a:pt x="17964" y="4"/>
                    </a:cubicBezTo>
                    <a:close/>
                    <a:moveTo>
                      <a:pt x="17972" y="5"/>
                    </a:moveTo>
                    <a:lnTo>
                      <a:pt x="17972" y="5"/>
                    </a:lnTo>
                    <a:cubicBezTo>
                      <a:pt x="17973" y="5"/>
                      <a:pt x="17974" y="5"/>
                      <a:pt x="17974" y="7"/>
                    </a:cubicBezTo>
                    <a:cubicBezTo>
                      <a:pt x="17974" y="8"/>
                      <a:pt x="17973" y="9"/>
                      <a:pt x="17972" y="9"/>
                    </a:cubicBezTo>
                    <a:lnTo>
                      <a:pt x="17972" y="9"/>
                    </a:lnTo>
                    <a:cubicBezTo>
                      <a:pt x="17971" y="9"/>
                      <a:pt x="17970" y="8"/>
                      <a:pt x="17970" y="7"/>
                    </a:cubicBezTo>
                    <a:cubicBezTo>
                      <a:pt x="17970" y="5"/>
                      <a:pt x="17971" y="5"/>
                      <a:pt x="17972" y="5"/>
                    </a:cubicBezTo>
                    <a:close/>
                    <a:moveTo>
                      <a:pt x="17980" y="5"/>
                    </a:moveTo>
                    <a:lnTo>
                      <a:pt x="17980" y="5"/>
                    </a:lnTo>
                    <a:cubicBezTo>
                      <a:pt x="17981" y="5"/>
                      <a:pt x="17982" y="5"/>
                      <a:pt x="17982" y="7"/>
                    </a:cubicBezTo>
                    <a:cubicBezTo>
                      <a:pt x="17982" y="8"/>
                      <a:pt x="17981" y="9"/>
                      <a:pt x="17980" y="9"/>
                    </a:cubicBezTo>
                    <a:lnTo>
                      <a:pt x="17980" y="9"/>
                    </a:lnTo>
                    <a:cubicBezTo>
                      <a:pt x="17979" y="9"/>
                      <a:pt x="17978" y="8"/>
                      <a:pt x="17978" y="7"/>
                    </a:cubicBezTo>
                    <a:cubicBezTo>
                      <a:pt x="17978" y="5"/>
                      <a:pt x="17979" y="5"/>
                      <a:pt x="17980" y="5"/>
                    </a:cubicBezTo>
                    <a:close/>
                    <a:moveTo>
                      <a:pt x="17988" y="5"/>
                    </a:moveTo>
                    <a:lnTo>
                      <a:pt x="17988" y="5"/>
                    </a:lnTo>
                    <a:cubicBezTo>
                      <a:pt x="17989" y="5"/>
                      <a:pt x="17990" y="5"/>
                      <a:pt x="17990" y="7"/>
                    </a:cubicBezTo>
                    <a:cubicBezTo>
                      <a:pt x="17990" y="8"/>
                      <a:pt x="17989" y="9"/>
                      <a:pt x="17988" y="9"/>
                    </a:cubicBezTo>
                    <a:lnTo>
                      <a:pt x="17988" y="9"/>
                    </a:lnTo>
                    <a:cubicBezTo>
                      <a:pt x="17987" y="9"/>
                      <a:pt x="17986" y="8"/>
                      <a:pt x="17986" y="7"/>
                    </a:cubicBezTo>
                    <a:cubicBezTo>
                      <a:pt x="17986" y="5"/>
                      <a:pt x="17987" y="5"/>
                      <a:pt x="17988" y="5"/>
                    </a:cubicBezTo>
                    <a:close/>
                    <a:moveTo>
                      <a:pt x="17996" y="5"/>
                    </a:moveTo>
                    <a:lnTo>
                      <a:pt x="17996" y="5"/>
                    </a:lnTo>
                    <a:cubicBezTo>
                      <a:pt x="17997" y="5"/>
                      <a:pt x="17998" y="5"/>
                      <a:pt x="17998" y="7"/>
                    </a:cubicBezTo>
                    <a:cubicBezTo>
                      <a:pt x="17998" y="8"/>
                      <a:pt x="17997" y="9"/>
                      <a:pt x="17996" y="9"/>
                    </a:cubicBezTo>
                    <a:lnTo>
                      <a:pt x="17996" y="9"/>
                    </a:lnTo>
                    <a:cubicBezTo>
                      <a:pt x="17995" y="9"/>
                      <a:pt x="17994" y="8"/>
                      <a:pt x="17994" y="7"/>
                    </a:cubicBezTo>
                    <a:cubicBezTo>
                      <a:pt x="17994" y="5"/>
                      <a:pt x="17995" y="5"/>
                      <a:pt x="17996" y="5"/>
                    </a:cubicBezTo>
                    <a:close/>
                    <a:moveTo>
                      <a:pt x="18004" y="5"/>
                    </a:moveTo>
                    <a:lnTo>
                      <a:pt x="18004" y="5"/>
                    </a:lnTo>
                    <a:cubicBezTo>
                      <a:pt x="18005" y="5"/>
                      <a:pt x="18006" y="5"/>
                      <a:pt x="18006" y="7"/>
                    </a:cubicBezTo>
                    <a:cubicBezTo>
                      <a:pt x="18006" y="8"/>
                      <a:pt x="18005" y="9"/>
                      <a:pt x="18004" y="9"/>
                    </a:cubicBezTo>
                    <a:lnTo>
                      <a:pt x="18004" y="9"/>
                    </a:lnTo>
                    <a:cubicBezTo>
                      <a:pt x="18003" y="9"/>
                      <a:pt x="18002" y="8"/>
                      <a:pt x="18002" y="7"/>
                    </a:cubicBezTo>
                    <a:cubicBezTo>
                      <a:pt x="18002" y="5"/>
                      <a:pt x="18003" y="5"/>
                      <a:pt x="18004" y="5"/>
                    </a:cubicBezTo>
                    <a:close/>
                    <a:moveTo>
                      <a:pt x="18012" y="5"/>
                    </a:moveTo>
                    <a:lnTo>
                      <a:pt x="18012" y="5"/>
                    </a:lnTo>
                    <a:cubicBezTo>
                      <a:pt x="18013" y="5"/>
                      <a:pt x="18014" y="5"/>
                      <a:pt x="18014" y="7"/>
                    </a:cubicBezTo>
                    <a:cubicBezTo>
                      <a:pt x="18014" y="8"/>
                      <a:pt x="18013" y="9"/>
                      <a:pt x="18012" y="9"/>
                    </a:cubicBezTo>
                    <a:lnTo>
                      <a:pt x="18012" y="9"/>
                    </a:lnTo>
                    <a:cubicBezTo>
                      <a:pt x="18011" y="9"/>
                      <a:pt x="18010" y="8"/>
                      <a:pt x="18010" y="7"/>
                    </a:cubicBezTo>
                    <a:cubicBezTo>
                      <a:pt x="18010" y="5"/>
                      <a:pt x="18011" y="5"/>
                      <a:pt x="18012" y="5"/>
                    </a:cubicBezTo>
                    <a:close/>
                    <a:moveTo>
                      <a:pt x="18020" y="5"/>
                    </a:moveTo>
                    <a:lnTo>
                      <a:pt x="18020" y="5"/>
                    </a:lnTo>
                    <a:cubicBezTo>
                      <a:pt x="18021" y="5"/>
                      <a:pt x="18022" y="5"/>
                      <a:pt x="18022" y="7"/>
                    </a:cubicBezTo>
                    <a:cubicBezTo>
                      <a:pt x="18022" y="8"/>
                      <a:pt x="18021" y="9"/>
                      <a:pt x="18020" y="9"/>
                    </a:cubicBezTo>
                    <a:lnTo>
                      <a:pt x="18020" y="9"/>
                    </a:lnTo>
                    <a:cubicBezTo>
                      <a:pt x="18019" y="9"/>
                      <a:pt x="18018" y="8"/>
                      <a:pt x="18018" y="7"/>
                    </a:cubicBezTo>
                    <a:cubicBezTo>
                      <a:pt x="18018" y="5"/>
                      <a:pt x="18019" y="5"/>
                      <a:pt x="18020" y="5"/>
                    </a:cubicBezTo>
                    <a:close/>
                    <a:moveTo>
                      <a:pt x="18028" y="5"/>
                    </a:moveTo>
                    <a:lnTo>
                      <a:pt x="18028" y="5"/>
                    </a:lnTo>
                    <a:cubicBezTo>
                      <a:pt x="18029" y="5"/>
                      <a:pt x="18030" y="5"/>
                      <a:pt x="18030" y="7"/>
                    </a:cubicBezTo>
                    <a:cubicBezTo>
                      <a:pt x="18030" y="8"/>
                      <a:pt x="18029" y="9"/>
                      <a:pt x="18028" y="9"/>
                    </a:cubicBezTo>
                    <a:lnTo>
                      <a:pt x="18028" y="9"/>
                    </a:lnTo>
                    <a:cubicBezTo>
                      <a:pt x="18027" y="9"/>
                      <a:pt x="18026" y="8"/>
                      <a:pt x="18026" y="7"/>
                    </a:cubicBezTo>
                    <a:cubicBezTo>
                      <a:pt x="18026" y="5"/>
                      <a:pt x="18027" y="5"/>
                      <a:pt x="18028" y="5"/>
                    </a:cubicBezTo>
                    <a:close/>
                    <a:moveTo>
                      <a:pt x="18036" y="5"/>
                    </a:moveTo>
                    <a:lnTo>
                      <a:pt x="18036" y="5"/>
                    </a:lnTo>
                    <a:cubicBezTo>
                      <a:pt x="18037" y="5"/>
                      <a:pt x="18038" y="5"/>
                      <a:pt x="18038" y="7"/>
                    </a:cubicBezTo>
                    <a:cubicBezTo>
                      <a:pt x="18038" y="8"/>
                      <a:pt x="18037" y="9"/>
                      <a:pt x="18036" y="9"/>
                    </a:cubicBezTo>
                    <a:lnTo>
                      <a:pt x="18036" y="9"/>
                    </a:lnTo>
                    <a:cubicBezTo>
                      <a:pt x="18035" y="9"/>
                      <a:pt x="18034" y="8"/>
                      <a:pt x="18034" y="7"/>
                    </a:cubicBezTo>
                    <a:cubicBezTo>
                      <a:pt x="18034" y="5"/>
                      <a:pt x="18035" y="5"/>
                      <a:pt x="18036" y="5"/>
                    </a:cubicBezTo>
                    <a:close/>
                    <a:moveTo>
                      <a:pt x="18044" y="5"/>
                    </a:moveTo>
                    <a:lnTo>
                      <a:pt x="18044" y="5"/>
                    </a:lnTo>
                    <a:cubicBezTo>
                      <a:pt x="18045" y="5"/>
                      <a:pt x="18046" y="5"/>
                      <a:pt x="18046" y="7"/>
                    </a:cubicBezTo>
                    <a:cubicBezTo>
                      <a:pt x="18046" y="8"/>
                      <a:pt x="18045" y="9"/>
                      <a:pt x="18044" y="9"/>
                    </a:cubicBezTo>
                    <a:lnTo>
                      <a:pt x="18044" y="9"/>
                    </a:lnTo>
                    <a:cubicBezTo>
                      <a:pt x="18043" y="9"/>
                      <a:pt x="18042" y="8"/>
                      <a:pt x="18042" y="7"/>
                    </a:cubicBezTo>
                    <a:cubicBezTo>
                      <a:pt x="18042" y="5"/>
                      <a:pt x="18043" y="5"/>
                      <a:pt x="18044" y="5"/>
                    </a:cubicBezTo>
                    <a:close/>
                    <a:moveTo>
                      <a:pt x="18052" y="5"/>
                    </a:moveTo>
                    <a:lnTo>
                      <a:pt x="18052" y="5"/>
                    </a:lnTo>
                    <a:cubicBezTo>
                      <a:pt x="18053" y="5"/>
                      <a:pt x="18054" y="5"/>
                      <a:pt x="18054" y="7"/>
                    </a:cubicBezTo>
                    <a:cubicBezTo>
                      <a:pt x="18054" y="8"/>
                      <a:pt x="18053" y="9"/>
                      <a:pt x="18052" y="9"/>
                    </a:cubicBezTo>
                    <a:lnTo>
                      <a:pt x="18052" y="9"/>
                    </a:lnTo>
                    <a:cubicBezTo>
                      <a:pt x="18051" y="9"/>
                      <a:pt x="18050" y="8"/>
                      <a:pt x="18050" y="7"/>
                    </a:cubicBezTo>
                    <a:cubicBezTo>
                      <a:pt x="18050" y="5"/>
                      <a:pt x="18051" y="5"/>
                      <a:pt x="18052" y="5"/>
                    </a:cubicBezTo>
                    <a:close/>
                    <a:moveTo>
                      <a:pt x="18060" y="5"/>
                    </a:moveTo>
                    <a:lnTo>
                      <a:pt x="18060" y="5"/>
                    </a:lnTo>
                    <a:cubicBezTo>
                      <a:pt x="18061" y="5"/>
                      <a:pt x="18062" y="5"/>
                      <a:pt x="18062" y="7"/>
                    </a:cubicBezTo>
                    <a:cubicBezTo>
                      <a:pt x="18062" y="8"/>
                      <a:pt x="18061" y="9"/>
                      <a:pt x="18060" y="9"/>
                    </a:cubicBezTo>
                    <a:lnTo>
                      <a:pt x="18060" y="9"/>
                    </a:lnTo>
                    <a:cubicBezTo>
                      <a:pt x="18059" y="9"/>
                      <a:pt x="18058" y="8"/>
                      <a:pt x="18058" y="7"/>
                    </a:cubicBezTo>
                    <a:cubicBezTo>
                      <a:pt x="18058" y="5"/>
                      <a:pt x="18059" y="5"/>
                      <a:pt x="18060" y="5"/>
                    </a:cubicBezTo>
                    <a:close/>
                    <a:moveTo>
                      <a:pt x="18068" y="5"/>
                    </a:moveTo>
                    <a:lnTo>
                      <a:pt x="18068" y="5"/>
                    </a:lnTo>
                    <a:cubicBezTo>
                      <a:pt x="18069" y="5"/>
                      <a:pt x="18070" y="5"/>
                      <a:pt x="18070" y="7"/>
                    </a:cubicBezTo>
                    <a:cubicBezTo>
                      <a:pt x="18070" y="8"/>
                      <a:pt x="18069" y="9"/>
                      <a:pt x="18068" y="9"/>
                    </a:cubicBezTo>
                    <a:lnTo>
                      <a:pt x="18068" y="9"/>
                    </a:lnTo>
                    <a:cubicBezTo>
                      <a:pt x="18067" y="9"/>
                      <a:pt x="18066" y="8"/>
                      <a:pt x="18066" y="7"/>
                    </a:cubicBezTo>
                    <a:cubicBezTo>
                      <a:pt x="18066" y="5"/>
                      <a:pt x="18067" y="5"/>
                      <a:pt x="18068" y="5"/>
                    </a:cubicBezTo>
                    <a:close/>
                    <a:moveTo>
                      <a:pt x="18076" y="5"/>
                    </a:moveTo>
                    <a:lnTo>
                      <a:pt x="18076" y="5"/>
                    </a:lnTo>
                    <a:cubicBezTo>
                      <a:pt x="18077" y="5"/>
                      <a:pt x="18078" y="5"/>
                      <a:pt x="18078" y="7"/>
                    </a:cubicBezTo>
                    <a:cubicBezTo>
                      <a:pt x="18078" y="8"/>
                      <a:pt x="18077" y="9"/>
                      <a:pt x="18076" y="9"/>
                    </a:cubicBezTo>
                    <a:lnTo>
                      <a:pt x="18076" y="9"/>
                    </a:lnTo>
                    <a:cubicBezTo>
                      <a:pt x="18075" y="9"/>
                      <a:pt x="18074" y="8"/>
                      <a:pt x="18074" y="7"/>
                    </a:cubicBezTo>
                    <a:cubicBezTo>
                      <a:pt x="18074" y="5"/>
                      <a:pt x="18075" y="5"/>
                      <a:pt x="18076" y="5"/>
                    </a:cubicBezTo>
                    <a:close/>
                    <a:moveTo>
                      <a:pt x="18084" y="5"/>
                    </a:moveTo>
                    <a:lnTo>
                      <a:pt x="18084" y="5"/>
                    </a:lnTo>
                    <a:cubicBezTo>
                      <a:pt x="18085" y="5"/>
                      <a:pt x="18086" y="5"/>
                      <a:pt x="18086" y="7"/>
                    </a:cubicBezTo>
                    <a:cubicBezTo>
                      <a:pt x="18086" y="8"/>
                      <a:pt x="18085" y="9"/>
                      <a:pt x="18084" y="9"/>
                    </a:cubicBezTo>
                    <a:lnTo>
                      <a:pt x="18084" y="9"/>
                    </a:lnTo>
                    <a:cubicBezTo>
                      <a:pt x="18083" y="9"/>
                      <a:pt x="18082" y="8"/>
                      <a:pt x="18082" y="7"/>
                    </a:cubicBezTo>
                    <a:cubicBezTo>
                      <a:pt x="18082" y="5"/>
                      <a:pt x="18083" y="5"/>
                      <a:pt x="18084" y="5"/>
                    </a:cubicBezTo>
                    <a:close/>
                    <a:moveTo>
                      <a:pt x="18092" y="5"/>
                    </a:moveTo>
                    <a:lnTo>
                      <a:pt x="18092" y="5"/>
                    </a:lnTo>
                    <a:cubicBezTo>
                      <a:pt x="18093" y="5"/>
                      <a:pt x="18094" y="5"/>
                      <a:pt x="18094" y="7"/>
                    </a:cubicBezTo>
                    <a:cubicBezTo>
                      <a:pt x="18094" y="8"/>
                      <a:pt x="18093" y="9"/>
                      <a:pt x="18092" y="9"/>
                    </a:cubicBezTo>
                    <a:lnTo>
                      <a:pt x="18092" y="9"/>
                    </a:lnTo>
                    <a:cubicBezTo>
                      <a:pt x="18091" y="9"/>
                      <a:pt x="18090" y="8"/>
                      <a:pt x="18090" y="7"/>
                    </a:cubicBezTo>
                    <a:cubicBezTo>
                      <a:pt x="18090" y="5"/>
                      <a:pt x="18091" y="5"/>
                      <a:pt x="18092" y="5"/>
                    </a:cubicBezTo>
                    <a:close/>
                    <a:moveTo>
                      <a:pt x="18100" y="5"/>
                    </a:moveTo>
                    <a:lnTo>
                      <a:pt x="18100" y="5"/>
                    </a:lnTo>
                    <a:cubicBezTo>
                      <a:pt x="18101" y="5"/>
                      <a:pt x="18102" y="5"/>
                      <a:pt x="18102" y="7"/>
                    </a:cubicBezTo>
                    <a:cubicBezTo>
                      <a:pt x="18102" y="8"/>
                      <a:pt x="18101" y="9"/>
                      <a:pt x="18100" y="9"/>
                    </a:cubicBezTo>
                    <a:lnTo>
                      <a:pt x="18100" y="9"/>
                    </a:lnTo>
                    <a:cubicBezTo>
                      <a:pt x="18099" y="9"/>
                      <a:pt x="18098" y="8"/>
                      <a:pt x="18098" y="7"/>
                    </a:cubicBezTo>
                    <a:cubicBezTo>
                      <a:pt x="18098" y="5"/>
                      <a:pt x="18099" y="5"/>
                      <a:pt x="18100" y="5"/>
                    </a:cubicBezTo>
                    <a:close/>
                    <a:moveTo>
                      <a:pt x="18108" y="5"/>
                    </a:moveTo>
                    <a:lnTo>
                      <a:pt x="18108" y="5"/>
                    </a:lnTo>
                    <a:cubicBezTo>
                      <a:pt x="18109" y="5"/>
                      <a:pt x="18110" y="5"/>
                      <a:pt x="18110" y="7"/>
                    </a:cubicBezTo>
                    <a:cubicBezTo>
                      <a:pt x="18110" y="8"/>
                      <a:pt x="18109" y="9"/>
                      <a:pt x="18108" y="9"/>
                    </a:cubicBezTo>
                    <a:lnTo>
                      <a:pt x="18108" y="9"/>
                    </a:lnTo>
                    <a:cubicBezTo>
                      <a:pt x="18107" y="9"/>
                      <a:pt x="18106" y="8"/>
                      <a:pt x="18106" y="7"/>
                    </a:cubicBezTo>
                    <a:cubicBezTo>
                      <a:pt x="18106" y="5"/>
                      <a:pt x="18107" y="5"/>
                      <a:pt x="18108" y="5"/>
                    </a:cubicBezTo>
                    <a:close/>
                    <a:moveTo>
                      <a:pt x="18116" y="5"/>
                    </a:moveTo>
                    <a:lnTo>
                      <a:pt x="18116" y="5"/>
                    </a:lnTo>
                    <a:cubicBezTo>
                      <a:pt x="18117" y="5"/>
                      <a:pt x="18118" y="5"/>
                      <a:pt x="18118" y="7"/>
                    </a:cubicBezTo>
                    <a:cubicBezTo>
                      <a:pt x="18118" y="8"/>
                      <a:pt x="18117" y="9"/>
                      <a:pt x="18116" y="9"/>
                    </a:cubicBezTo>
                    <a:lnTo>
                      <a:pt x="18116" y="9"/>
                    </a:lnTo>
                    <a:cubicBezTo>
                      <a:pt x="18115" y="9"/>
                      <a:pt x="18114" y="8"/>
                      <a:pt x="18114" y="7"/>
                    </a:cubicBezTo>
                    <a:cubicBezTo>
                      <a:pt x="18114" y="5"/>
                      <a:pt x="18115" y="5"/>
                      <a:pt x="18116" y="5"/>
                    </a:cubicBezTo>
                    <a:close/>
                    <a:moveTo>
                      <a:pt x="18124" y="5"/>
                    </a:moveTo>
                    <a:lnTo>
                      <a:pt x="18124" y="5"/>
                    </a:lnTo>
                    <a:cubicBezTo>
                      <a:pt x="18125" y="5"/>
                      <a:pt x="18126" y="5"/>
                      <a:pt x="18126" y="7"/>
                    </a:cubicBezTo>
                    <a:cubicBezTo>
                      <a:pt x="18126" y="8"/>
                      <a:pt x="18125" y="9"/>
                      <a:pt x="18124" y="9"/>
                    </a:cubicBezTo>
                    <a:lnTo>
                      <a:pt x="18124" y="9"/>
                    </a:lnTo>
                    <a:cubicBezTo>
                      <a:pt x="18123" y="9"/>
                      <a:pt x="18122" y="8"/>
                      <a:pt x="18122" y="7"/>
                    </a:cubicBezTo>
                    <a:cubicBezTo>
                      <a:pt x="18122" y="5"/>
                      <a:pt x="18123" y="5"/>
                      <a:pt x="18124" y="5"/>
                    </a:cubicBezTo>
                    <a:close/>
                    <a:moveTo>
                      <a:pt x="18132" y="5"/>
                    </a:moveTo>
                    <a:lnTo>
                      <a:pt x="18132" y="5"/>
                    </a:lnTo>
                    <a:cubicBezTo>
                      <a:pt x="18133" y="5"/>
                      <a:pt x="18134" y="5"/>
                      <a:pt x="18134" y="7"/>
                    </a:cubicBezTo>
                    <a:cubicBezTo>
                      <a:pt x="18134" y="8"/>
                      <a:pt x="18133" y="9"/>
                      <a:pt x="18132" y="9"/>
                    </a:cubicBezTo>
                    <a:lnTo>
                      <a:pt x="18132" y="9"/>
                    </a:lnTo>
                    <a:cubicBezTo>
                      <a:pt x="18131" y="9"/>
                      <a:pt x="18130" y="8"/>
                      <a:pt x="18130" y="7"/>
                    </a:cubicBezTo>
                    <a:cubicBezTo>
                      <a:pt x="18130" y="5"/>
                      <a:pt x="18131" y="5"/>
                      <a:pt x="18132" y="5"/>
                    </a:cubicBezTo>
                    <a:close/>
                    <a:moveTo>
                      <a:pt x="18140" y="5"/>
                    </a:moveTo>
                    <a:lnTo>
                      <a:pt x="18140" y="5"/>
                    </a:lnTo>
                    <a:cubicBezTo>
                      <a:pt x="18141" y="5"/>
                      <a:pt x="18142" y="5"/>
                      <a:pt x="18142" y="7"/>
                    </a:cubicBezTo>
                    <a:cubicBezTo>
                      <a:pt x="18142" y="8"/>
                      <a:pt x="18141" y="9"/>
                      <a:pt x="18140" y="9"/>
                    </a:cubicBezTo>
                    <a:lnTo>
                      <a:pt x="18140" y="9"/>
                    </a:lnTo>
                    <a:cubicBezTo>
                      <a:pt x="18139" y="9"/>
                      <a:pt x="18138" y="8"/>
                      <a:pt x="18138" y="7"/>
                    </a:cubicBezTo>
                    <a:cubicBezTo>
                      <a:pt x="18138" y="5"/>
                      <a:pt x="18139" y="5"/>
                      <a:pt x="18140" y="5"/>
                    </a:cubicBezTo>
                    <a:close/>
                    <a:moveTo>
                      <a:pt x="18148" y="5"/>
                    </a:moveTo>
                    <a:lnTo>
                      <a:pt x="18148" y="5"/>
                    </a:lnTo>
                    <a:cubicBezTo>
                      <a:pt x="18149" y="5"/>
                      <a:pt x="18150" y="5"/>
                      <a:pt x="18150" y="7"/>
                    </a:cubicBezTo>
                    <a:cubicBezTo>
                      <a:pt x="18150" y="8"/>
                      <a:pt x="18149" y="9"/>
                      <a:pt x="18148" y="9"/>
                    </a:cubicBezTo>
                    <a:lnTo>
                      <a:pt x="18148" y="9"/>
                    </a:lnTo>
                    <a:cubicBezTo>
                      <a:pt x="18147" y="9"/>
                      <a:pt x="18146" y="8"/>
                      <a:pt x="18146" y="7"/>
                    </a:cubicBezTo>
                    <a:cubicBezTo>
                      <a:pt x="18146" y="5"/>
                      <a:pt x="18147" y="5"/>
                      <a:pt x="18148" y="5"/>
                    </a:cubicBezTo>
                    <a:close/>
                    <a:moveTo>
                      <a:pt x="18156" y="5"/>
                    </a:moveTo>
                    <a:lnTo>
                      <a:pt x="18156" y="5"/>
                    </a:lnTo>
                    <a:cubicBezTo>
                      <a:pt x="18157" y="5"/>
                      <a:pt x="18158" y="5"/>
                      <a:pt x="18158" y="7"/>
                    </a:cubicBezTo>
                    <a:cubicBezTo>
                      <a:pt x="18158" y="8"/>
                      <a:pt x="18157" y="9"/>
                      <a:pt x="18156" y="9"/>
                    </a:cubicBezTo>
                    <a:lnTo>
                      <a:pt x="18156" y="9"/>
                    </a:lnTo>
                    <a:cubicBezTo>
                      <a:pt x="18155" y="9"/>
                      <a:pt x="18154" y="8"/>
                      <a:pt x="18154" y="7"/>
                    </a:cubicBezTo>
                    <a:cubicBezTo>
                      <a:pt x="18154" y="5"/>
                      <a:pt x="18155" y="5"/>
                      <a:pt x="18156" y="5"/>
                    </a:cubicBezTo>
                    <a:close/>
                    <a:moveTo>
                      <a:pt x="18164" y="5"/>
                    </a:moveTo>
                    <a:lnTo>
                      <a:pt x="18164" y="5"/>
                    </a:lnTo>
                    <a:cubicBezTo>
                      <a:pt x="18165" y="5"/>
                      <a:pt x="18166" y="5"/>
                      <a:pt x="18166" y="7"/>
                    </a:cubicBezTo>
                    <a:cubicBezTo>
                      <a:pt x="18166" y="8"/>
                      <a:pt x="18165" y="9"/>
                      <a:pt x="18164" y="9"/>
                    </a:cubicBezTo>
                    <a:lnTo>
                      <a:pt x="18164" y="9"/>
                    </a:lnTo>
                    <a:cubicBezTo>
                      <a:pt x="18163" y="9"/>
                      <a:pt x="18162" y="8"/>
                      <a:pt x="18162" y="7"/>
                    </a:cubicBezTo>
                    <a:cubicBezTo>
                      <a:pt x="18162" y="5"/>
                      <a:pt x="18163" y="5"/>
                      <a:pt x="18164" y="5"/>
                    </a:cubicBezTo>
                    <a:close/>
                    <a:moveTo>
                      <a:pt x="18172" y="5"/>
                    </a:moveTo>
                    <a:lnTo>
                      <a:pt x="18172" y="5"/>
                    </a:lnTo>
                    <a:cubicBezTo>
                      <a:pt x="18173" y="5"/>
                      <a:pt x="18174" y="5"/>
                      <a:pt x="18174" y="7"/>
                    </a:cubicBezTo>
                    <a:cubicBezTo>
                      <a:pt x="18174" y="8"/>
                      <a:pt x="18173" y="9"/>
                      <a:pt x="18172" y="9"/>
                    </a:cubicBezTo>
                    <a:lnTo>
                      <a:pt x="18172" y="9"/>
                    </a:lnTo>
                    <a:cubicBezTo>
                      <a:pt x="18171" y="9"/>
                      <a:pt x="18170" y="8"/>
                      <a:pt x="18170" y="7"/>
                    </a:cubicBezTo>
                    <a:cubicBezTo>
                      <a:pt x="18170" y="5"/>
                      <a:pt x="18171" y="5"/>
                      <a:pt x="18172" y="5"/>
                    </a:cubicBezTo>
                    <a:close/>
                    <a:moveTo>
                      <a:pt x="18180" y="5"/>
                    </a:moveTo>
                    <a:lnTo>
                      <a:pt x="18180" y="5"/>
                    </a:lnTo>
                    <a:cubicBezTo>
                      <a:pt x="18181" y="5"/>
                      <a:pt x="18182" y="5"/>
                      <a:pt x="18182" y="7"/>
                    </a:cubicBezTo>
                    <a:cubicBezTo>
                      <a:pt x="18182" y="8"/>
                      <a:pt x="18181" y="9"/>
                      <a:pt x="18180" y="9"/>
                    </a:cubicBezTo>
                    <a:lnTo>
                      <a:pt x="18180" y="9"/>
                    </a:lnTo>
                    <a:cubicBezTo>
                      <a:pt x="18179" y="9"/>
                      <a:pt x="18178" y="8"/>
                      <a:pt x="18178" y="7"/>
                    </a:cubicBezTo>
                    <a:cubicBezTo>
                      <a:pt x="18178" y="5"/>
                      <a:pt x="18179" y="5"/>
                      <a:pt x="18180" y="5"/>
                    </a:cubicBezTo>
                    <a:close/>
                    <a:moveTo>
                      <a:pt x="18188" y="5"/>
                    </a:moveTo>
                    <a:lnTo>
                      <a:pt x="18188" y="5"/>
                    </a:lnTo>
                    <a:cubicBezTo>
                      <a:pt x="18189" y="5"/>
                      <a:pt x="18190" y="5"/>
                      <a:pt x="18190" y="7"/>
                    </a:cubicBezTo>
                    <a:cubicBezTo>
                      <a:pt x="18190" y="8"/>
                      <a:pt x="18189" y="9"/>
                      <a:pt x="18188" y="9"/>
                    </a:cubicBezTo>
                    <a:lnTo>
                      <a:pt x="18188" y="9"/>
                    </a:lnTo>
                    <a:cubicBezTo>
                      <a:pt x="18187" y="9"/>
                      <a:pt x="18186" y="8"/>
                      <a:pt x="18186" y="7"/>
                    </a:cubicBezTo>
                    <a:cubicBezTo>
                      <a:pt x="18186" y="5"/>
                      <a:pt x="18187" y="5"/>
                      <a:pt x="18188" y="5"/>
                    </a:cubicBezTo>
                    <a:close/>
                    <a:moveTo>
                      <a:pt x="18196" y="5"/>
                    </a:moveTo>
                    <a:lnTo>
                      <a:pt x="18196" y="5"/>
                    </a:lnTo>
                    <a:cubicBezTo>
                      <a:pt x="18197" y="5"/>
                      <a:pt x="18198" y="5"/>
                      <a:pt x="18198" y="7"/>
                    </a:cubicBezTo>
                    <a:cubicBezTo>
                      <a:pt x="18198" y="8"/>
                      <a:pt x="18197" y="9"/>
                      <a:pt x="18196" y="9"/>
                    </a:cubicBezTo>
                    <a:lnTo>
                      <a:pt x="18196" y="9"/>
                    </a:lnTo>
                    <a:cubicBezTo>
                      <a:pt x="18195" y="9"/>
                      <a:pt x="18194" y="8"/>
                      <a:pt x="18194" y="7"/>
                    </a:cubicBezTo>
                    <a:cubicBezTo>
                      <a:pt x="18194" y="5"/>
                      <a:pt x="18195" y="5"/>
                      <a:pt x="18196" y="5"/>
                    </a:cubicBezTo>
                    <a:close/>
                    <a:moveTo>
                      <a:pt x="18204" y="5"/>
                    </a:moveTo>
                    <a:lnTo>
                      <a:pt x="18204" y="5"/>
                    </a:lnTo>
                    <a:cubicBezTo>
                      <a:pt x="18205" y="5"/>
                      <a:pt x="18206" y="5"/>
                      <a:pt x="18206" y="7"/>
                    </a:cubicBezTo>
                    <a:cubicBezTo>
                      <a:pt x="18206" y="8"/>
                      <a:pt x="18205" y="9"/>
                      <a:pt x="18204" y="9"/>
                    </a:cubicBezTo>
                    <a:lnTo>
                      <a:pt x="18204" y="9"/>
                    </a:lnTo>
                    <a:cubicBezTo>
                      <a:pt x="18203" y="9"/>
                      <a:pt x="18202" y="8"/>
                      <a:pt x="18202" y="7"/>
                    </a:cubicBezTo>
                    <a:cubicBezTo>
                      <a:pt x="18202" y="5"/>
                      <a:pt x="18203" y="5"/>
                      <a:pt x="18204" y="5"/>
                    </a:cubicBezTo>
                    <a:close/>
                    <a:moveTo>
                      <a:pt x="18212" y="5"/>
                    </a:moveTo>
                    <a:lnTo>
                      <a:pt x="18212" y="5"/>
                    </a:lnTo>
                    <a:cubicBezTo>
                      <a:pt x="18214" y="5"/>
                      <a:pt x="18214" y="5"/>
                      <a:pt x="18214" y="7"/>
                    </a:cubicBezTo>
                    <a:cubicBezTo>
                      <a:pt x="18214" y="8"/>
                      <a:pt x="18214" y="9"/>
                      <a:pt x="18212" y="9"/>
                    </a:cubicBezTo>
                    <a:lnTo>
                      <a:pt x="18212" y="9"/>
                    </a:lnTo>
                    <a:cubicBezTo>
                      <a:pt x="18211" y="9"/>
                      <a:pt x="18210" y="8"/>
                      <a:pt x="18210" y="7"/>
                    </a:cubicBezTo>
                    <a:cubicBezTo>
                      <a:pt x="18210" y="5"/>
                      <a:pt x="18211" y="5"/>
                      <a:pt x="18212" y="5"/>
                    </a:cubicBezTo>
                    <a:close/>
                    <a:moveTo>
                      <a:pt x="18220" y="5"/>
                    </a:moveTo>
                    <a:lnTo>
                      <a:pt x="18220" y="5"/>
                    </a:lnTo>
                    <a:cubicBezTo>
                      <a:pt x="18222" y="5"/>
                      <a:pt x="18222" y="5"/>
                      <a:pt x="18222" y="7"/>
                    </a:cubicBezTo>
                    <a:cubicBezTo>
                      <a:pt x="18222" y="8"/>
                      <a:pt x="18222" y="9"/>
                      <a:pt x="18220" y="9"/>
                    </a:cubicBezTo>
                    <a:lnTo>
                      <a:pt x="18220" y="9"/>
                    </a:lnTo>
                    <a:cubicBezTo>
                      <a:pt x="18219" y="9"/>
                      <a:pt x="18218" y="8"/>
                      <a:pt x="18218" y="7"/>
                    </a:cubicBezTo>
                    <a:cubicBezTo>
                      <a:pt x="18218" y="5"/>
                      <a:pt x="18219" y="5"/>
                      <a:pt x="18220" y="5"/>
                    </a:cubicBezTo>
                    <a:close/>
                    <a:moveTo>
                      <a:pt x="18228" y="5"/>
                    </a:moveTo>
                    <a:lnTo>
                      <a:pt x="18228" y="5"/>
                    </a:lnTo>
                    <a:cubicBezTo>
                      <a:pt x="18230" y="5"/>
                      <a:pt x="18230" y="5"/>
                      <a:pt x="18230" y="7"/>
                    </a:cubicBezTo>
                    <a:cubicBezTo>
                      <a:pt x="18230" y="8"/>
                      <a:pt x="18230" y="9"/>
                      <a:pt x="18228" y="9"/>
                    </a:cubicBezTo>
                    <a:lnTo>
                      <a:pt x="18228" y="9"/>
                    </a:lnTo>
                    <a:cubicBezTo>
                      <a:pt x="18227" y="9"/>
                      <a:pt x="18226" y="8"/>
                      <a:pt x="18226" y="7"/>
                    </a:cubicBezTo>
                    <a:cubicBezTo>
                      <a:pt x="18226" y="5"/>
                      <a:pt x="18227" y="5"/>
                      <a:pt x="18228" y="5"/>
                    </a:cubicBezTo>
                    <a:close/>
                    <a:moveTo>
                      <a:pt x="18236" y="5"/>
                    </a:moveTo>
                    <a:lnTo>
                      <a:pt x="18236" y="5"/>
                    </a:lnTo>
                    <a:cubicBezTo>
                      <a:pt x="18238" y="5"/>
                      <a:pt x="18238" y="5"/>
                      <a:pt x="18238" y="7"/>
                    </a:cubicBezTo>
                    <a:cubicBezTo>
                      <a:pt x="18238" y="8"/>
                      <a:pt x="18238" y="9"/>
                      <a:pt x="18236" y="9"/>
                    </a:cubicBezTo>
                    <a:lnTo>
                      <a:pt x="18236" y="9"/>
                    </a:lnTo>
                    <a:cubicBezTo>
                      <a:pt x="18235" y="9"/>
                      <a:pt x="18234" y="8"/>
                      <a:pt x="18234" y="7"/>
                    </a:cubicBezTo>
                    <a:cubicBezTo>
                      <a:pt x="18234" y="5"/>
                      <a:pt x="18235" y="5"/>
                      <a:pt x="18236" y="5"/>
                    </a:cubicBezTo>
                    <a:close/>
                    <a:moveTo>
                      <a:pt x="18244" y="5"/>
                    </a:moveTo>
                    <a:lnTo>
                      <a:pt x="18244" y="5"/>
                    </a:lnTo>
                    <a:cubicBezTo>
                      <a:pt x="18246" y="5"/>
                      <a:pt x="18246" y="5"/>
                      <a:pt x="18246" y="7"/>
                    </a:cubicBezTo>
                    <a:cubicBezTo>
                      <a:pt x="18246" y="8"/>
                      <a:pt x="18246" y="9"/>
                      <a:pt x="18244" y="9"/>
                    </a:cubicBezTo>
                    <a:lnTo>
                      <a:pt x="18244" y="9"/>
                    </a:lnTo>
                    <a:cubicBezTo>
                      <a:pt x="18243" y="9"/>
                      <a:pt x="18242" y="8"/>
                      <a:pt x="18242" y="7"/>
                    </a:cubicBezTo>
                    <a:cubicBezTo>
                      <a:pt x="18242" y="5"/>
                      <a:pt x="18243" y="5"/>
                      <a:pt x="18244" y="5"/>
                    </a:cubicBezTo>
                    <a:close/>
                    <a:moveTo>
                      <a:pt x="18252" y="5"/>
                    </a:moveTo>
                    <a:lnTo>
                      <a:pt x="18252" y="5"/>
                    </a:lnTo>
                    <a:cubicBezTo>
                      <a:pt x="18254" y="5"/>
                      <a:pt x="18254" y="5"/>
                      <a:pt x="18254" y="7"/>
                    </a:cubicBezTo>
                    <a:cubicBezTo>
                      <a:pt x="18254" y="8"/>
                      <a:pt x="18254" y="9"/>
                      <a:pt x="18252" y="9"/>
                    </a:cubicBezTo>
                    <a:lnTo>
                      <a:pt x="18252" y="9"/>
                    </a:lnTo>
                    <a:cubicBezTo>
                      <a:pt x="18251" y="9"/>
                      <a:pt x="18250" y="8"/>
                      <a:pt x="18250" y="7"/>
                    </a:cubicBezTo>
                    <a:cubicBezTo>
                      <a:pt x="18250" y="5"/>
                      <a:pt x="18251" y="5"/>
                      <a:pt x="18252" y="5"/>
                    </a:cubicBezTo>
                    <a:close/>
                    <a:moveTo>
                      <a:pt x="18260" y="5"/>
                    </a:moveTo>
                    <a:lnTo>
                      <a:pt x="18260" y="5"/>
                    </a:lnTo>
                    <a:cubicBezTo>
                      <a:pt x="18262" y="5"/>
                      <a:pt x="18262" y="5"/>
                      <a:pt x="18262" y="7"/>
                    </a:cubicBezTo>
                    <a:cubicBezTo>
                      <a:pt x="18262" y="8"/>
                      <a:pt x="18262" y="9"/>
                      <a:pt x="18260" y="9"/>
                    </a:cubicBezTo>
                    <a:lnTo>
                      <a:pt x="18260" y="9"/>
                    </a:lnTo>
                    <a:cubicBezTo>
                      <a:pt x="18259" y="9"/>
                      <a:pt x="18258" y="8"/>
                      <a:pt x="18258" y="7"/>
                    </a:cubicBezTo>
                    <a:cubicBezTo>
                      <a:pt x="18258" y="5"/>
                      <a:pt x="18259" y="5"/>
                      <a:pt x="18260" y="5"/>
                    </a:cubicBezTo>
                    <a:close/>
                    <a:moveTo>
                      <a:pt x="18268" y="5"/>
                    </a:moveTo>
                    <a:lnTo>
                      <a:pt x="18268" y="5"/>
                    </a:lnTo>
                    <a:cubicBezTo>
                      <a:pt x="18270" y="5"/>
                      <a:pt x="18270" y="5"/>
                      <a:pt x="18270" y="7"/>
                    </a:cubicBezTo>
                    <a:cubicBezTo>
                      <a:pt x="18270" y="8"/>
                      <a:pt x="18270" y="9"/>
                      <a:pt x="18268" y="9"/>
                    </a:cubicBezTo>
                    <a:lnTo>
                      <a:pt x="18268" y="9"/>
                    </a:lnTo>
                    <a:cubicBezTo>
                      <a:pt x="18267" y="9"/>
                      <a:pt x="18266" y="8"/>
                      <a:pt x="18266" y="7"/>
                    </a:cubicBezTo>
                    <a:cubicBezTo>
                      <a:pt x="18266" y="5"/>
                      <a:pt x="18267" y="5"/>
                      <a:pt x="18268" y="5"/>
                    </a:cubicBezTo>
                    <a:close/>
                    <a:moveTo>
                      <a:pt x="18276" y="5"/>
                    </a:moveTo>
                    <a:lnTo>
                      <a:pt x="18276" y="5"/>
                    </a:lnTo>
                    <a:cubicBezTo>
                      <a:pt x="18278" y="5"/>
                      <a:pt x="18278" y="5"/>
                      <a:pt x="18278" y="7"/>
                    </a:cubicBezTo>
                    <a:cubicBezTo>
                      <a:pt x="18278" y="8"/>
                      <a:pt x="18278" y="9"/>
                      <a:pt x="18276" y="9"/>
                    </a:cubicBezTo>
                    <a:lnTo>
                      <a:pt x="18276" y="9"/>
                    </a:lnTo>
                    <a:cubicBezTo>
                      <a:pt x="18275" y="9"/>
                      <a:pt x="18274" y="8"/>
                      <a:pt x="18274" y="7"/>
                    </a:cubicBezTo>
                    <a:cubicBezTo>
                      <a:pt x="18274" y="5"/>
                      <a:pt x="18275" y="5"/>
                      <a:pt x="18276" y="5"/>
                    </a:cubicBezTo>
                    <a:close/>
                    <a:moveTo>
                      <a:pt x="18284" y="5"/>
                    </a:moveTo>
                    <a:lnTo>
                      <a:pt x="18284" y="5"/>
                    </a:lnTo>
                    <a:cubicBezTo>
                      <a:pt x="18286" y="5"/>
                      <a:pt x="18286" y="5"/>
                      <a:pt x="18286" y="7"/>
                    </a:cubicBezTo>
                    <a:cubicBezTo>
                      <a:pt x="18286" y="8"/>
                      <a:pt x="18286" y="9"/>
                      <a:pt x="18284" y="9"/>
                    </a:cubicBezTo>
                    <a:lnTo>
                      <a:pt x="18284" y="9"/>
                    </a:lnTo>
                    <a:cubicBezTo>
                      <a:pt x="18283" y="9"/>
                      <a:pt x="18282" y="8"/>
                      <a:pt x="18282" y="7"/>
                    </a:cubicBezTo>
                    <a:cubicBezTo>
                      <a:pt x="18282" y="5"/>
                      <a:pt x="18283" y="5"/>
                      <a:pt x="18284" y="5"/>
                    </a:cubicBezTo>
                    <a:close/>
                    <a:moveTo>
                      <a:pt x="18292" y="5"/>
                    </a:moveTo>
                    <a:lnTo>
                      <a:pt x="18292" y="5"/>
                    </a:lnTo>
                    <a:cubicBezTo>
                      <a:pt x="18294" y="5"/>
                      <a:pt x="18294" y="5"/>
                      <a:pt x="18294" y="7"/>
                    </a:cubicBezTo>
                    <a:cubicBezTo>
                      <a:pt x="18294" y="8"/>
                      <a:pt x="18294" y="9"/>
                      <a:pt x="18292" y="9"/>
                    </a:cubicBezTo>
                    <a:lnTo>
                      <a:pt x="18292" y="9"/>
                    </a:lnTo>
                    <a:cubicBezTo>
                      <a:pt x="18291" y="9"/>
                      <a:pt x="18290" y="8"/>
                      <a:pt x="18290" y="7"/>
                    </a:cubicBezTo>
                    <a:cubicBezTo>
                      <a:pt x="18290" y="5"/>
                      <a:pt x="18291" y="5"/>
                      <a:pt x="18292" y="5"/>
                    </a:cubicBezTo>
                    <a:close/>
                    <a:moveTo>
                      <a:pt x="18300" y="5"/>
                    </a:moveTo>
                    <a:lnTo>
                      <a:pt x="18300" y="5"/>
                    </a:lnTo>
                    <a:cubicBezTo>
                      <a:pt x="18302" y="5"/>
                      <a:pt x="18302" y="5"/>
                      <a:pt x="18302" y="7"/>
                    </a:cubicBezTo>
                    <a:cubicBezTo>
                      <a:pt x="18302" y="8"/>
                      <a:pt x="18302" y="9"/>
                      <a:pt x="18300" y="9"/>
                    </a:cubicBezTo>
                    <a:lnTo>
                      <a:pt x="18300" y="9"/>
                    </a:lnTo>
                    <a:cubicBezTo>
                      <a:pt x="18299" y="9"/>
                      <a:pt x="18298" y="8"/>
                      <a:pt x="18298" y="7"/>
                    </a:cubicBezTo>
                    <a:cubicBezTo>
                      <a:pt x="18298" y="5"/>
                      <a:pt x="18299" y="5"/>
                      <a:pt x="18300" y="5"/>
                    </a:cubicBezTo>
                    <a:close/>
                    <a:moveTo>
                      <a:pt x="18308" y="5"/>
                    </a:moveTo>
                    <a:lnTo>
                      <a:pt x="18308" y="5"/>
                    </a:lnTo>
                    <a:cubicBezTo>
                      <a:pt x="18310" y="5"/>
                      <a:pt x="18310" y="5"/>
                      <a:pt x="18310" y="7"/>
                    </a:cubicBezTo>
                    <a:cubicBezTo>
                      <a:pt x="18310" y="8"/>
                      <a:pt x="18310" y="9"/>
                      <a:pt x="18308" y="9"/>
                    </a:cubicBezTo>
                    <a:lnTo>
                      <a:pt x="18308" y="9"/>
                    </a:lnTo>
                    <a:cubicBezTo>
                      <a:pt x="18307" y="9"/>
                      <a:pt x="18306" y="8"/>
                      <a:pt x="18306" y="7"/>
                    </a:cubicBezTo>
                    <a:cubicBezTo>
                      <a:pt x="18306" y="5"/>
                      <a:pt x="18307" y="5"/>
                      <a:pt x="18308" y="5"/>
                    </a:cubicBezTo>
                    <a:close/>
                    <a:moveTo>
                      <a:pt x="18316" y="5"/>
                    </a:moveTo>
                    <a:lnTo>
                      <a:pt x="18317" y="5"/>
                    </a:lnTo>
                    <a:cubicBezTo>
                      <a:pt x="18318" y="5"/>
                      <a:pt x="18319" y="5"/>
                      <a:pt x="18319" y="7"/>
                    </a:cubicBezTo>
                    <a:cubicBezTo>
                      <a:pt x="18319" y="8"/>
                      <a:pt x="18318" y="9"/>
                      <a:pt x="18317" y="9"/>
                    </a:cubicBezTo>
                    <a:lnTo>
                      <a:pt x="18316" y="9"/>
                    </a:lnTo>
                    <a:cubicBezTo>
                      <a:pt x="18315" y="9"/>
                      <a:pt x="18314" y="8"/>
                      <a:pt x="18314" y="7"/>
                    </a:cubicBezTo>
                    <a:cubicBezTo>
                      <a:pt x="18314" y="5"/>
                      <a:pt x="18315" y="5"/>
                      <a:pt x="18316" y="5"/>
                    </a:cubicBezTo>
                    <a:close/>
                    <a:moveTo>
                      <a:pt x="18325" y="5"/>
                    </a:moveTo>
                    <a:lnTo>
                      <a:pt x="18325" y="5"/>
                    </a:lnTo>
                    <a:cubicBezTo>
                      <a:pt x="18326" y="5"/>
                      <a:pt x="18327" y="5"/>
                      <a:pt x="18327" y="7"/>
                    </a:cubicBezTo>
                    <a:cubicBezTo>
                      <a:pt x="18327" y="8"/>
                      <a:pt x="18326" y="9"/>
                      <a:pt x="18325" y="9"/>
                    </a:cubicBezTo>
                    <a:lnTo>
                      <a:pt x="18325" y="9"/>
                    </a:lnTo>
                    <a:cubicBezTo>
                      <a:pt x="18323" y="9"/>
                      <a:pt x="18323" y="8"/>
                      <a:pt x="18323" y="7"/>
                    </a:cubicBezTo>
                    <a:cubicBezTo>
                      <a:pt x="18323" y="5"/>
                      <a:pt x="18323" y="5"/>
                      <a:pt x="18325" y="5"/>
                    </a:cubicBezTo>
                    <a:close/>
                    <a:moveTo>
                      <a:pt x="18333" y="5"/>
                    </a:moveTo>
                    <a:lnTo>
                      <a:pt x="18333" y="5"/>
                    </a:lnTo>
                    <a:cubicBezTo>
                      <a:pt x="18334" y="5"/>
                      <a:pt x="18335" y="5"/>
                      <a:pt x="18335" y="7"/>
                    </a:cubicBezTo>
                    <a:cubicBezTo>
                      <a:pt x="18335" y="8"/>
                      <a:pt x="18334" y="9"/>
                      <a:pt x="18333" y="9"/>
                    </a:cubicBezTo>
                    <a:lnTo>
                      <a:pt x="18333" y="9"/>
                    </a:lnTo>
                    <a:cubicBezTo>
                      <a:pt x="18331" y="9"/>
                      <a:pt x="18331" y="8"/>
                      <a:pt x="18331" y="7"/>
                    </a:cubicBezTo>
                    <a:cubicBezTo>
                      <a:pt x="18331" y="5"/>
                      <a:pt x="18331" y="5"/>
                      <a:pt x="18333" y="5"/>
                    </a:cubicBezTo>
                    <a:close/>
                    <a:moveTo>
                      <a:pt x="18341" y="5"/>
                    </a:moveTo>
                    <a:lnTo>
                      <a:pt x="18341" y="5"/>
                    </a:lnTo>
                    <a:cubicBezTo>
                      <a:pt x="18342" y="5"/>
                      <a:pt x="18343" y="5"/>
                      <a:pt x="18343" y="7"/>
                    </a:cubicBezTo>
                    <a:cubicBezTo>
                      <a:pt x="18343" y="8"/>
                      <a:pt x="18342" y="9"/>
                      <a:pt x="18341" y="9"/>
                    </a:cubicBezTo>
                    <a:lnTo>
                      <a:pt x="18341" y="9"/>
                    </a:lnTo>
                    <a:cubicBezTo>
                      <a:pt x="18339" y="9"/>
                      <a:pt x="18339" y="8"/>
                      <a:pt x="18339" y="7"/>
                    </a:cubicBezTo>
                    <a:cubicBezTo>
                      <a:pt x="18339" y="5"/>
                      <a:pt x="18339" y="5"/>
                      <a:pt x="18341" y="5"/>
                    </a:cubicBezTo>
                    <a:close/>
                    <a:moveTo>
                      <a:pt x="18349" y="5"/>
                    </a:moveTo>
                    <a:lnTo>
                      <a:pt x="18349" y="5"/>
                    </a:lnTo>
                    <a:cubicBezTo>
                      <a:pt x="18350" y="5"/>
                      <a:pt x="18351" y="5"/>
                      <a:pt x="18351" y="7"/>
                    </a:cubicBezTo>
                    <a:cubicBezTo>
                      <a:pt x="18351" y="8"/>
                      <a:pt x="18350" y="9"/>
                      <a:pt x="18349" y="9"/>
                    </a:cubicBezTo>
                    <a:lnTo>
                      <a:pt x="18349" y="9"/>
                    </a:lnTo>
                    <a:cubicBezTo>
                      <a:pt x="18347" y="9"/>
                      <a:pt x="18347" y="8"/>
                      <a:pt x="18347" y="7"/>
                    </a:cubicBezTo>
                    <a:cubicBezTo>
                      <a:pt x="18347" y="5"/>
                      <a:pt x="18347" y="5"/>
                      <a:pt x="18349" y="5"/>
                    </a:cubicBezTo>
                    <a:close/>
                    <a:moveTo>
                      <a:pt x="18357" y="5"/>
                    </a:moveTo>
                    <a:lnTo>
                      <a:pt x="18357" y="5"/>
                    </a:lnTo>
                    <a:cubicBezTo>
                      <a:pt x="18358" y="5"/>
                      <a:pt x="18359" y="5"/>
                      <a:pt x="18359" y="7"/>
                    </a:cubicBezTo>
                    <a:cubicBezTo>
                      <a:pt x="18359" y="8"/>
                      <a:pt x="18358" y="9"/>
                      <a:pt x="18357" y="9"/>
                    </a:cubicBezTo>
                    <a:lnTo>
                      <a:pt x="18357" y="9"/>
                    </a:lnTo>
                    <a:cubicBezTo>
                      <a:pt x="18355" y="9"/>
                      <a:pt x="18355" y="8"/>
                      <a:pt x="18355" y="7"/>
                    </a:cubicBezTo>
                    <a:cubicBezTo>
                      <a:pt x="18355" y="5"/>
                      <a:pt x="18355" y="5"/>
                      <a:pt x="18357" y="5"/>
                    </a:cubicBezTo>
                    <a:close/>
                    <a:moveTo>
                      <a:pt x="18365" y="5"/>
                    </a:moveTo>
                    <a:lnTo>
                      <a:pt x="18365" y="5"/>
                    </a:lnTo>
                    <a:cubicBezTo>
                      <a:pt x="18366" y="5"/>
                      <a:pt x="18367" y="5"/>
                      <a:pt x="18367" y="7"/>
                    </a:cubicBezTo>
                    <a:cubicBezTo>
                      <a:pt x="18367" y="8"/>
                      <a:pt x="18366" y="9"/>
                      <a:pt x="18365" y="9"/>
                    </a:cubicBezTo>
                    <a:lnTo>
                      <a:pt x="18365" y="9"/>
                    </a:lnTo>
                    <a:cubicBezTo>
                      <a:pt x="18363" y="9"/>
                      <a:pt x="18363" y="8"/>
                      <a:pt x="18363" y="7"/>
                    </a:cubicBezTo>
                    <a:cubicBezTo>
                      <a:pt x="18363" y="5"/>
                      <a:pt x="18363" y="5"/>
                      <a:pt x="18365" y="5"/>
                    </a:cubicBezTo>
                    <a:close/>
                    <a:moveTo>
                      <a:pt x="18373" y="5"/>
                    </a:moveTo>
                    <a:lnTo>
                      <a:pt x="18373" y="5"/>
                    </a:lnTo>
                    <a:cubicBezTo>
                      <a:pt x="18374" y="5"/>
                      <a:pt x="18375" y="5"/>
                      <a:pt x="18375" y="7"/>
                    </a:cubicBezTo>
                    <a:cubicBezTo>
                      <a:pt x="18375" y="8"/>
                      <a:pt x="18374" y="9"/>
                      <a:pt x="18373" y="9"/>
                    </a:cubicBezTo>
                    <a:lnTo>
                      <a:pt x="18373" y="9"/>
                    </a:lnTo>
                    <a:cubicBezTo>
                      <a:pt x="18371" y="9"/>
                      <a:pt x="18371" y="8"/>
                      <a:pt x="18371" y="7"/>
                    </a:cubicBezTo>
                    <a:cubicBezTo>
                      <a:pt x="18371" y="5"/>
                      <a:pt x="18371" y="5"/>
                      <a:pt x="18373" y="5"/>
                    </a:cubicBezTo>
                    <a:close/>
                    <a:moveTo>
                      <a:pt x="18381" y="5"/>
                    </a:moveTo>
                    <a:lnTo>
                      <a:pt x="18381" y="5"/>
                    </a:lnTo>
                    <a:cubicBezTo>
                      <a:pt x="18382" y="5"/>
                      <a:pt x="18383" y="5"/>
                      <a:pt x="18383" y="7"/>
                    </a:cubicBezTo>
                    <a:cubicBezTo>
                      <a:pt x="18383" y="8"/>
                      <a:pt x="18382" y="9"/>
                      <a:pt x="18381" y="9"/>
                    </a:cubicBezTo>
                    <a:lnTo>
                      <a:pt x="18381" y="9"/>
                    </a:lnTo>
                    <a:cubicBezTo>
                      <a:pt x="18379" y="9"/>
                      <a:pt x="18379" y="8"/>
                      <a:pt x="18379" y="7"/>
                    </a:cubicBezTo>
                    <a:cubicBezTo>
                      <a:pt x="18379" y="5"/>
                      <a:pt x="18379" y="5"/>
                      <a:pt x="18381" y="5"/>
                    </a:cubicBezTo>
                    <a:close/>
                    <a:moveTo>
                      <a:pt x="18389" y="5"/>
                    </a:moveTo>
                    <a:lnTo>
                      <a:pt x="18389" y="5"/>
                    </a:lnTo>
                    <a:cubicBezTo>
                      <a:pt x="18390" y="5"/>
                      <a:pt x="18391" y="5"/>
                      <a:pt x="18391" y="7"/>
                    </a:cubicBezTo>
                    <a:cubicBezTo>
                      <a:pt x="18391" y="8"/>
                      <a:pt x="18390" y="9"/>
                      <a:pt x="18389" y="9"/>
                    </a:cubicBezTo>
                    <a:lnTo>
                      <a:pt x="18389" y="9"/>
                    </a:lnTo>
                    <a:cubicBezTo>
                      <a:pt x="18387" y="9"/>
                      <a:pt x="18387" y="8"/>
                      <a:pt x="18387" y="7"/>
                    </a:cubicBezTo>
                    <a:cubicBezTo>
                      <a:pt x="18387" y="5"/>
                      <a:pt x="18387" y="5"/>
                      <a:pt x="18389" y="5"/>
                    </a:cubicBezTo>
                    <a:close/>
                    <a:moveTo>
                      <a:pt x="18397" y="5"/>
                    </a:moveTo>
                    <a:lnTo>
                      <a:pt x="18397" y="5"/>
                    </a:lnTo>
                    <a:cubicBezTo>
                      <a:pt x="18398" y="5"/>
                      <a:pt x="18399" y="5"/>
                      <a:pt x="18399" y="7"/>
                    </a:cubicBezTo>
                    <a:cubicBezTo>
                      <a:pt x="18399" y="8"/>
                      <a:pt x="18398" y="9"/>
                      <a:pt x="18397" y="9"/>
                    </a:cubicBezTo>
                    <a:lnTo>
                      <a:pt x="18397" y="9"/>
                    </a:lnTo>
                    <a:cubicBezTo>
                      <a:pt x="18395" y="9"/>
                      <a:pt x="18395" y="8"/>
                      <a:pt x="18395" y="7"/>
                    </a:cubicBezTo>
                    <a:cubicBezTo>
                      <a:pt x="18395" y="5"/>
                      <a:pt x="18395" y="5"/>
                      <a:pt x="18397" y="5"/>
                    </a:cubicBezTo>
                    <a:close/>
                    <a:moveTo>
                      <a:pt x="18405" y="5"/>
                    </a:moveTo>
                    <a:lnTo>
                      <a:pt x="18405" y="5"/>
                    </a:lnTo>
                    <a:cubicBezTo>
                      <a:pt x="18406" y="5"/>
                      <a:pt x="18407" y="6"/>
                      <a:pt x="18407" y="7"/>
                    </a:cubicBezTo>
                    <a:cubicBezTo>
                      <a:pt x="18407" y="8"/>
                      <a:pt x="18406" y="9"/>
                      <a:pt x="18405" y="9"/>
                    </a:cubicBezTo>
                    <a:lnTo>
                      <a:pt x="18405" y="9"/>
                    </a:lnTo>
                    <a:cubicBezTo>
                      <a:pt x="18403" y="9"/>
                      <a:pt x="18403" y="8"/>
                      <a:pt x="18403" y="7"/>
                    </a:cubicBezTo>
                    <a:cubicBezTo>
                      <a:pt x="18403" y="6"/>
                      <a:pt x="18403" y="5"/>
                      <a:pt x="18405" y="5"/>
                    </a:cubicBezTo>
                    <a:close/>
                    <a:moveTo>
                      <a:pt x="18413" y="5"/>
                    </a:moveTo>
                    <a:lnTo>
                      <a:pt x="18413" y="5"/>
                    </a:lnTo>
                    <a:cubicBezTo>
                      <a:pt x="18414" y="5"/>
                      <a:pt x="18415" y="6"/>
                      <a:pt x="18415" y="7"/>
                    </a:cubicBezTo>
                    <a:cubicBezTo>
                      <a:pt x="18415" y="8"/>
                      <a:pt x="18414" y="9"/>
                      <a:pt x="18413" y="9"/>
                    </a:cubicBezTo>
                    <a:lnTo>
                      <a:pt x="18413" y="9"/>
                    </a:lnTo>
                    <a:cubicBezTo>
                      <a:pt x="18411" y="9"/>
                      <a:pt x="18411" y="8"/>
                      <a:pt x="18411" y="7"/>
                    </a:cubicBezTo>
                    <a:cubicBezTo>
                      <a:pt x="18411" y="6"/>
                      <a:pt x="18411" y="5"/>
                      <a:pt x="18413" y="5"/>
                    </a:cubicBezTo>
                    <a:close/>
                    <a:moveTo>
                      <a:pt x="18421" y="5"/>
                    </a:moveTo>
                    <a:lnTo>
                      <a:pt x="18421" y="5"/>
                    </a:lnTo>
                    <a:cubicBezTo>
                      <a:pt x="18422" y="5"/>
                      <a:pt x="18423" y="6"/>
                      <a:pt x="18423" y="7"/>
                    </a:cubicBezTo>
                    <a:cubicBezTo>
                      <a:pt x="18423" y="8"/>
                      <a:pt x="18422" y="9"/>
                      <a:pt x="18421" y="9"/>
                    </a:cubicBezTo>
                    <a:lnTo>
                      <a:pt x="18421" y="9"/>
                    </a:lnTo>
                    <a:cubicBezTo>
                      <a:pt x="18419" y="9"/>
                      <a:pt x="18419" y="8"/>
                      <a:pt x="18419" y="7"/>
                    </a:cubicBezTo>
                    <a:cubicBezTo>
                      <a:pt x="18419" y="6"/>
                      <a:pt x="18419" y="5"/>
                      <a:pt x="18421" y="5"/>
                    </a:cubicBezTo>
                    <a:close/>
                    <a:moveTo>
                      <a:pt x="18429" y="5"/>
                    </a:moveTo>
                    <a:lnTo>
                      <a:pt x="18429" y="5"/>
                    </a:lnTo>
                    <a:cubicBezTo>
                      <a:pt x="18430" y="5"/>
                      <a:pt x="18431" y="6"/>
                      <a:pt x="18431" y="7"/>
                    </a:cubicBezTo>
                    <a:cubicBezTo>
                      <a:pt x="18431" y="8"/>
                      <a:pt x="18430" y="9"/>
                      <a:pt x="18429" y="9"/>
                    </a:cubicBezTo>
                    <a:lnTo>
                      <a:pt x="18429" y="9"/>
                    </a:lnTo>
                    <a:cubicBezTo>
                      <a:pt x="18428" y="9"/>
                      <a:pt x="18427" y="8"/>
                      <a:pt x="18427" y="7"/>
                    </a:cubicBezTo>
                    <a:cubicBezTo>
                      <a:pt x="18427" y="6"/>
                      <a:pt x="18428" y="5"/>
                      <a:pt x="18429" y="5"/>
                    </a:cubicBezTo>
                    <a:close/>
                    <a:moveTo>
                      <a:pt x="18437" y="5"/>
                    </a:moveTo>
                    <a:lnTo>
                      <a:pt x="18437" y="5"/>
                    </a:lnTo>
                    <a:cubicBezTo>
                      <a:pt x="18438" y="5"/>
                      <a:pt x="18439" y="6"/>
                      <a:pt x="18439" y="7"/>
                    </a:cubicBezTo>
                    <a:cubicBezTo>
                      <a:pt x="18439" y="8"/>
                      <a:pt x="18438" y="9"/>
                      <a:pt x="18437" y="9"/>
                    </a:cubicBezTo>
                    <a:lnTo>
                      <a:pt x="18437" y="9"/>
                    </a:lnTo>
                    <a:cubicBezTo>
                      <a:pt x="18436" y="9"/>
                      <a:pt x="18435" y="8"/>
                      <a:pt x="18435" y="7"/>
                    </a:cubicBezTo>
                    <a:cubicBezTo>
                      <a:pt x="18435" y="6"/>
                      <a:pt x="18436" y="5"/>
                      <a:pt x="18437" y="5"/>
                    </a:cubicBezTo>
                    <a:close/>
                    <a:moveTo>
                      <a:pt x="18445" y="5"/>
                    </a:moveTo>
                    <a:lnTo>
                      <a:pt x="18445" y="5"/>
                    </a:lnTo>
                    <a:cubicBezTo>
                      <a:pt x="18446" y="5"/>
                      <a:pt x="18447" y="6"/>
                      <a:pt x="18447" y="7"/>
                    </a:cubicBezTo>
                    <a:cubicBezTo>
                      <a:pt x="18447" y="8"/>
                      <a:pt x="18446" y="9"/>
                      <a:pt x="18445" y="9"/>
                    </a:cubicBezTo>
                    <a:lnTo>
                      <a:pt x="18445" y="9"/>
                    </a:lnTo>
                    <a:cubicBezTo>
                      <a:pt x="18444" y="9"/>
                      <a:pt x="18443" y="8"/>
                      <a:pt x="18443" y="7"/>
                    </a:cubicBezTo>
                    <a:cubicBezTo>
                      <a:pt x="18443" y="6"/>
                      <a:pt x="18444" y="5"/>
                      <a:pt x="18445" y="5"/>
                    </a:cubicBezTo>
                    <a:close/>
                    <a:moveTo>
                      <a:pt x="18453" y="5"/>
                    </a:moveTo>
                    <a:lnTo>
                      <a:pt x="18453" y="5"/>
                    </a:lnTo>
                    <a:cubicBezTo>
                      <a:pt x="18454" y="5"/>
                      <a:pt x="18455" y="6"/>
                      <a:pt x="18455" y="7"/>
                    </a:cubicBezTo>
                    <a:cubicBezTo>
                      <a:pt x="18455" y="8"/>
                      <a:pt x="18454" y="9"/>
                      <a:pt x="18453" y="9"/>
                    </a:cubicBezTo>
                    <a:lnTo>
                      <a:pt x="18453" y="9"/>
                    </a:lnTo>
                    <a:cubicBezTo>
                      <a:pt x="18452" y="9"/>
                      <a:pt x="18451" y="8"/>
                      <a:pt x="18451" y="7"/>
                    </a:cubicBezTo>
                    <a:cubicBezTo>
                      <a:pt x="18451" y="6"/>
                      <a:pt x="18452" y="5"/>
                      <a:pt x="18453" y="5"/>
                    </a:cubicBezTo>
                    <a:close/>
                    <a:moveTo>
                      <a:pt x="18461" y="5"/>
                    </a:moveTo>
                    <a:lnTo>
                      <a:pt x="18461" y="5"/>
                    </a:lnTo>
                    <a:cubicBezTo>
                      <a:pt x="18462" y="5"/>
                      <a:pt x="18463" y="6"/>
                      <a:pt x="18463" y="7"/>
                    </a:cubicBezTo>
                    <a:cubicBezTo>
                      <a:pt x="18463" y="8"/>
                      <a:pt x="18462" y="9"/>
                      <a:pt x="18461" y="9"/>
                    </a:cubicBezTo>
                    <a:lnTo>
                      <a:pt x="18461" y="9"/>
                    </a:lnTo>
                    <a:cubicBezTo>
                      <a:pt x="18460" y="9"/>
                      <a:pt x="18459" y="8"/>
                      <a:pt x="18459" y="7"/>
                    </a:cubicBezTo>
                    <a:cubicBezTo>
                      <a:pt x="18459" y="6"/>
                      <a:pt x="18460" y="5"/>
                      <a:pt x="18461" y="5"/>
                    </a:cubicBezTo>
                    <a:close/>
                    <a:moveTo>
                      <a:pt x="18469" y="5"/>
                    </a:moveTo>
                    <a:lnTo>
                      <a:pt x="18469" y="5"/>
                    </a:lnTo>
                    <a:cubicBezTo>
                      <a:pt x="18470" y="5"/>
                      <a:pt x="18471" y="6"/>
                      <a:pt x="18471" y="7"/>
                    </a:cubicBezTo>
                    <a:cubicBezTo>
                      <a:pt x="18471" y="8"/>
                      <a:pt x="18470" y="9"/>
                      <a:pt x="18469" y="9"/>
                    </a:cubicBezTo>
                    <a:lnTo>
                      <a:pt x="18469" y="9"/>
                    </a:lnTo>
                    <a:cubicBezTo>
                      <a:pt x="18468" y="9"/>
                      <a:pt x="18467" y="8"/>
                      <a:pt x="18467" y="7"/>
                    </a:cubicBezTo>
                    <a:cubicBezTo>
                      <a:pt x="18467" y="6"/>
                      <a:pt x="18468" y="5"/>
                      <a:pt x="18469" y="5"/>
                    </a:cubicBezTo>
                    <a:close/>
                    <a:moveTo>
                      <a:pt x="18477" y="5"/>
                    </a:moveTo>
                    <a:lnTo>
                      <a:pt x="18477" y="5"/>
                    </a:lnTo>
                    <a:cubicBezTo>
                      <a:pt x="18478" y="5"/>
                      <a:pt x="18479" y="6"/>
                      <a:pt x="18479" y="7"/>
                    </a:cubicBezTo>
                    <a:cubicBezTo>
                      <a:pt x="18479" y="8"/>
                      <a:pt x="18478" y="9"/>
                      <a:pt x="18477" y="9"/>
                    </a:cubicBezTo>
                    <a:lnTo>
                      <a:pt x="18477" y="9"/>
                    </a:lnTo>
                    <a:cubicBezTo>
                      <a:pt x="18476" y="9"/>
                      <a:pt x="18475" y="8"/>
                      <a:pt x="18475" y="7"/>
                    </a:cubicBezTo>
                    <a:cubicBezTo>
                      <a:pt x="18475" y="6"/>
                      <a:pt x="18476" y="5"/>
                      <a:pt x="18477" y="5"/>
                    </a:cubicBezTo>
                    <a:close/>
                    <a:moveTo>
                      <a:pt x="18485" y="5"/>
                    </a:moveTo>
                    <a:lnTo>
                      <a:pt x="18485" y="5"/>
                    </a:lnTo>
                    <a:cubicBezTo>
                      <a:pt x="18486" y="5"/>
                      <a:pt x="18487" y="6"/>
                      <a:pt x="18487" y="7"/>
                    </a:cubicBezTo>
                    <a:cubicBezTo>
                      <a:pt x="18487" y="8"/>
                      <a:pt x="18486" y="9"/>
                      <a:pt x="18485" y="9"/>
                    </a:cubicBezTo>
                    <a:lnTo>
                      <a:pt x="18485" y="9"/>
                    </a:lnTo>
                    <a:cubicBezTo>
                      <a:pt x="18484" y="9"/>
                      <a:pt x="18483" y="8"/>
                      <a:pt x="18483" y="7"/>
                    </a:cubicBezTo>
                    <a:cubicBezTo>
                      <a:pt x="18483" y="6"/>
                      <a:pt x="18484" y="5"/>
                      <a:pt x="18485" y="5"/>
                    </a:cubicBezTo>
                    <a:close/>
                    <a:moveTo>
                      <a:pt x="18493" y="5"/>
                    </a:moveTo>
                    <a:lnTo>
                      <a:pt x="18493" y="5"/>
                    </a:lnTo>
                    <a:cubicBezTo>
                      <a:pt x="18494" y="5"/>
                      <a:pt x="18495" y="6"/>
                      <a:pt x="18495" y="7"/>
                    </a:cubicBezTo>
                    <a:cubicBezTo>
                      <a:pt x="18495" y="8"/>
                      <a:pt x="18494" y="9"/>
                      <a:pt x="18493" y="9"/>
                    </a:cubicBezTo>
                    <a:lnTo>
                      <a:pt x="18493" y="9"/>
                    </a:lnTo>
                    <a:cubicBezTo>
                      <a:pt x="18492" y="9"/>
                      <a:pt x="18491" y="8"/>
                      <a:pt x="18491" y="7"/>
                    </a:cubicBezTo>
                    <a:cubicBezTo>
                      <a:pt x="18491" y="6"/>
                      <a:pt x="18492" y="5"/>
                      <a:pt x="18493" y="5"/>
                    </a:cubicBezTo>
                    <a:close/>
                    <a:moveTo>
                      <a:pt x="18501" y="5"/>
                    </a:moveTo>
                    <a:lnTo>
                      <a:pt x="18501" y="5"/>
                    </a:lnTo>
                    <a:cubicBezTo>
                      <a:pt x="18502" y="5"/>
                      <a:pt x="18503" y="6"/>
                      <a:pt x="18503" y="7"/>
                    </a:cubicBezTo>
                    <a:cubicBezTo>
                      <a:pt x="18503" y="8"/>
                      <a:pt x="18502" y="9"/>
                      <a:pt x="18501" y="9"/>
                    </a:cubicBezTo>
                    <a:lnTo>
                      <a:pt x="18501" y="9"/>
                    </a:lnTo>
                    <a:cubicBezTo>
                      <a:pt x="18500" y="9"/>
                      <a:pt x="18499" y="8"/>
                      <a:pt x="18499" y="7"/>
                    </a:cubicBezTo>
                    <a:cubicBezTo>
                      <a:pt x="18499" y="6"/>
                      <a:pt x="18500" y="5"/>
                      <a:pt x="18501" y="5"/>
                    </a:cubicBezTo>
                    <a:close/>
                    <a:moveTo>
                      <a:pt x="18509" y="5"/>
                    </a:moveTo>
                    <a:lnTo>
                      <a:pt x="18509" y="5"/>
                    </a:lnTo>
                    <a:cubicBezTo>
                      <a:pt x="18510" y="5"/>
                      <a:pt x="18511" y="6"/>
                      <a:pt x="18511" y="7"/>
                    </a:cubicBezTo>
                    <a:cubicBezTo>
                      <a:pt x="18511" y="8"/>
                      <a:pt x="18510" y="9"/>
                      <a:pt x="18509" y="9"/>
                    </a:cubicBezTo>
                    <a:lnTo>
                      <a:pt x="18509" y="9"/>
                    </a:lnTo>
                    <a:cubicBezTo>
                      <a:pt x="18508" y="9"/>
                      <a:pt x="18507" y="8"/>
                      <a:pt x="18507" y="7"/>
                    </a:cubicBezTo>
                    <a:cubicBezTo>
                      <a:pt x="18507" y="6"/>
                      <a:pt x="18508" y="5"/>
                      <a:pt x="18509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562040" y="3983040"/>
                <a:ext cx="6075360" cy="3240"/>
              </a:xfrm>
              <a:custGeom>
                <a:avLst/>
                <a:gdLst/>
                <a:ahLst/>
                <a:rect l="l" t="t" r="r" b="b"/>
                <a:pathLst>
                  <a:path w="18511" h="8">
                    <a:moveTo>
                      <a:pt x="2" y="0"/>
                    </a:moveTo>
                    <a:lnTo>
                      <a:pt x="2" y="0"/>
                    </a:lnTo>
                    <a:cubicBezTo>
                      <a:pt x="3" y="0"/>
                      <a:pt x="4" y="1"/>
                      <a:pt x="4" y="2"/>
                    </a:cubicBezTo>
                    <a:cubicBezTo>
                      <a:pt x="4" y="3"/>
                      <a:pt x="3" y="4"/>
                      <a:pt x="2" y="4"/>
                    </a:cubicBezTo>
                    <a:lnTo>
                      <a:pt x="2" y="4"/>
                    </a:lnTo>
                    <a:cubicBezTo>
                      <a:pt x="1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0"/>
                    </a:cubicBezTo>
                    <a:close/>
                    <a:moveTo>
                      <a:pt x="10" y="0"/>
                    </a:moveTo>
                    <a:lnTo>
                      <a:pt x="10" y="0"/>
                    </a:lnTo>
                    <a:cubicBezTo>
                      <a:pt x="11" y="0"/>
                      <a:pt x="12" y="1"/>
                      <a:pt x="12" y="2"/>
                    </a:cubicBezTo>
                    <a:cubicBezTo>
                      <a:pt x="12" y="3"/>
                      <a:pt x="11" y="4"/>
                      <a:pt x="10" y="4"/>
                    </a:cubicBezTo>
                    <a:lnTo>
                      <a:pt x="10" y="4"/>
                    </a:lnTo>
                    <a:cubicBezTo>
                      <a:pt x="9" y="4"/>
                      <a:pt x="8" y="3"/>
                      <a:pt x="8" y="2"/>
                    </a:cubicBezTo>
                    <a:cubicBezTo>
                      <a:pt x="8" y="1"/>
                      <a:pt x="9" y="0"/>
                      <a:pt x="10" y="0"/>
                    </a:cubicBezTo>
                    <a:close/>
                    <a:moveTo>
                      <a:pt x="18" y="0"/>
                    </a:moveTo>
                    <a:lnTo>
                      <a:pt x="18" y="0"/>
                    </a:lnTo>
                    <a:cubicBezTo>
                      <a:pt x="19" y="0"/>
                      <a:pt x="20" y="1"/>
                      <a:pt x="20" y="2"/>
                    </a:cubicBezTo>
                    <a:cubicBezTo>
                      <a:pt x="20" y="3"/>
                      <a:pt x="19" y="4"/>
                      <a:pt x="18" y="4"/>
                    </a:cubicBezTo>
                    <a:lnTo>
                      <a:pt x="18" y="4"/>
                    </a:lnTo>
                    <a:cubicBezTo>
                      <a:pt x="17" y="4"/>
                      <a:pt x="16" y="3"/>
                      <a:pt x="16" y="2"/>
                    </a:cubicBezTo>
                    <a:cubicBezTo>
                      <a:pt x="16" y="1"/>
                      <a:pt x="17" y="0"/>
                      <a:pt x="18" y="0"/>
                    </a:cubicBezTo>
                    <a:close/>
                    <a:moveTo>
                      <a:pt x="26" y="0"/>
                    </a:moveTo>
                    <a:lnTo>
                      <a:pt x="26" y="0"/>
                    </a:lnTo>
                    <a:cubicBezTo>
                      <a:pt x="27" y="0"/>
                      <a:pt x="28" y="1"/>
                      <a:pt x="28" y="2"/>
                    </a:cubicBezTo>
                    <a:cubicBezTo>
                      <a:pt x="28" y="3"/>
                      <a:pt x="27" y="4"/>
                      <a:pt x="26" y="4"/>
                    </a:cubicBezTo>
                    <a:lnTo>
                      <a:pt x="26" y="4"/>
                    </a:lnTo>
                    <a:cubicBezTo>
                      <a:pt x="25" y="4"/>
                      <a:pt x="24" y="3"/>
                      <a:pt x="24" y="2"/>
                    </a:cubicBezTo>
                    <a:cubicBezTo>
                      <a:pt x="24" y="1"/>
                      <a:pt x="25" y="0"/>
                      <a:pt x="26" y="0"/>
                    </a:cubicBezTo>
                    <a:close/>
                    <a:moveTo>
                      <a:pt x="34" y="0"/>
                    </a:moveTo>
                    <a:lnTo>
                      <a:pt x="34" y="0"/>
                    </a:lnTo>
                    <a:cubicBezTo>
                      <a:pt x="35" y="0"/>
                      <a:pt x="36" y="1"/>
                      <a:pt x="36" y="2"/>
                    </a:cubicBezTo>
                    <a:cubicBezTo>
                      <a:pt x="36" y="3"/>
                      <a:pt x="35" y="4"/>
                      <a:pt x="34" y="4"/>
                    </a:cubicBezTo>
                    <a:lnTo>
                      <a:pt x="34" y="4"/>
                    </a:lnTo>
                    <a:cubicBezTo>
                      <a:pt x="33" y="4"/>
                      <a:pt x="32" y="3"/>
                      <a:pt x="32" y="2"/>
                    </a:cubicBezTo>
                    <a:cubicBezTo>
                      <a:pt x="32" y="1"/>
                      <a:pt x="33" y="0"/>
                      <a:pt x="34" y="0"/>
                    </a:cubicBezTo>
                    <a:close/>
                    <a:moveTo>
                      <a:pt x="42" y="0"/>
                    </a:moveTo>
                    <a:lnTo>
                      <a:pt x="42" y="0"/>
                    </a:lnTo>
                    <a:cubicBezTo>
                      <a:pt x="43" y="0"/>
                      <a:pt x="44" y="1"/>
                      <a:pt x="44" y="2"/>
                    </a:cubicBezTo>
                    <a:cubicBezTo>
                      <a:pt x="44" y="3"/>
                      <a:pt x="43" y="4"/>
                      <a:pt x="42" y="4"/>
                    </a:cubicBezTo>
                    <a:lnTo>
                      <a:pt x="42" y="4"/>
                    </a:lnTo>
                    <a:cubicBezTo>
                      <a:pt x="41" y="4"/>
                      <a:pt x="40" y="3"/>
                      <a:pt x="40" y="2"/>
                    </a:cubicBezTo>
                    <a:cubicBezTo>
                      <a:pt x="40" y="1"/>
                      <a:pt x="41" y="0"/>
                      <a:pt x="42" y="0"/>
                    </a:cubicBezTo>
                    <a:close/>
                    <a:moveTo>
                      <a:pt x="50" y="0"/>
                    </a:moveTo>
                    <a:lnTo>
                      <a:pt x="50" y="0"/>
                    </a:lnTo>
                    <a:cubicBezTo>
                      <a:pt x="51" y="0"/>
                      <a:pt x="52" y="1"/>
                      <a:pt x="52" y="2"/>
                    </a:cubicBezTo>
                    <a:cubicBezTo>
                      <a:pt x="52" y="3"/>
                      <a:pt x="51" y="4"/>
                      <a:pt x="50" y="4"/>
                    </a:cubicBezTo>
                    <a:lnTo>
                      <a:pt x="50" y="4"/>
                    </a:lnTo>
                    <a:cubicBezTo>
                      <a:pt x="49" y="4"/>
                      <a:pt x="48" y="3"/>
                      <a:pt x="48" y="2"/>
                    </a:cubicBezTo>
                    <a:cubicBezTo>
                      <a:pt x="48" y="1"/>
                      <a:pt x="49" y="0"/>
                      <a:pt x="50" y="0"/>
                    </a:cubicBezTo>
                    <a:close/>
                    <a:moveTo>
                      <a:pt x="58" y="0"/>
                    </a:moveTo>
                    <a:lnTo>
                      <a:pt x="58" y="0"/>
                    </a:lnTo>
                    <a:cubicBezTo>
                      <a:pt x="59" y="0"/>
                      <a:pt x="60" y="1"/>
                      <a:pt x="60" y="2"/>
                    </a:cubicBezTo>
                    <a:cubicBezTo>
                      <a:pt x="60" y="3"/>
                      <a:pt x="59" y="4"/>
                      <a:pt x="58" y="4"/>
                    </a:cubicBezTo>
                    <a:lnTo>
                      <a:pt x="58" y="4"/>
                    </a:lnTo>
                    <a:cubicBezTo>
                      <a:pt x="57" y="4"/>
                      <a:pt x="56" y="3"/>
                      <a:pt x="56" y="2"/>
                    </a:cubicBezTo>
                    <a:cubicBezTo>
                      <a:pt x="56" y="1"/>
                      <a:pt x="57" y="0"/>
                      <a:pt x="58" y="0"/>
                    </a:cubicBezTo>
                    <a:close/>
                    <a:moveTo>
                      <a:pt x="66" y="0"/>
                    </a:moveTo>
                    <a:lnTo>
                      <a:pt x="66" y="0"/>
                    </a:lnTo>
                    <a:cubicBezTo>
                      <a:pt x="67" y="0"/>
                      <a:pt x="68" y="1"/>
                      <a:pt x="68" y="2"/>
                    </a:cubicBezTo>
                    <a:cubicBezTo>
                      <a:pt x="68" y="3"/>
                      <a:pt x="67" y="4"/>
                      <a:pt x="66" y="4"/>
                    </a:cubicBezTo>
                    <a:lnTo>
                      <a:pt x="66" y="4"/>
                    </a:lnTo>
                    <a:cubicBezTo>
                      <a:pt x="65" y="4"/>
                      <a:pt x="64" y="3"/>
                      <a:pt x="64" y="2"/>
                    </a:cubicBezTo>
                    <a:cubicBezTo>
                      <a:pt x="64" y="1"/>
                      <a:pt x="65" y="0"/>
                      <a:pt x="66" y="0"/>
                    </a:cubicBezTo>
                    <a:close/>
                    <a:moveTo>
                      <a:pt x="74" y="0"/>
                    </a:moveTo>
                    <a:lnTo>
                      <a:pt x="74" y="0"/>
                    </a:lnTo>
                    <a:cubicBezTo>
                      <a:pt x="75" y="0"/>
                      <a:pt x="76" y="1"/>
                      <a:pt x="76" y="2"/>
                    </a:cubicBezTo>
                    <a:cubicBezTo>
                      <a:pt x="76" y="3"/>
                      <a:pt x="75" y="4"/>
                      <a:pt x="74" y="4"/>
                    </a:cubicBezTo>
                    <a:lnTo>
                      <a:pt x="74" y="4"/>
                    </a:lnTo>
                    <a:cubicBezTo>
                      <a:pt x="73" y="4"/>
                      <a:pt x="72" y="3"/>
                      <a:pt x="72" y="2"/>
                    </a:cubicBezTo>
                    <a:cubicBezTo>
                      <a:pt x="72" y="1"/>
                      <a:pt x="73" y="0"/>
                      <a:pt x="74" y="0"/>
                    </a:cubicBezTo>
                    <a:close/>
                    <a:moveTo>
                      <a:pt x="82" y="0"/>
                    </a:moveTo>
                    <a:lnTo>
                      <a:pt x="82" y="0"/>
                    </a:lnTo>
                    <a:cubicBezTo>
                      <a:pt x="83" y="0"/>
                      <a:pt x="84" y="1"/>
                      <a:pt x="84" y="2"/>
                    </a:cubicBezTo>
                    <a:cubicBezTo>
                      <a:pt x="84" y="3"/>
                      <a:pt x="83" y="4"/>
                      <a:pt x="82" y="4"/>
                    </a:cubicBezTo>
                    <a:lnTo>
                      <a:pt x="82" y="4"/>
                    </a:lnTo>
                    <a:cubicBezTo>
                      <a:pt x="81" y="4"/>
                      <a:pt x="80" y="3"/>
                      <a:pt x="80" y="2"/>
                    </a:cubicBezTo>
                    <a:cubicBezTo>
                      <a:pt x="80" y="1"/>
                      <a:pt x="81" y="0"/>
                      <a:pt x="82" y="0"/>
                    </a:cubicBezTo>
                    <a:close/>
                    <a:moveTo>
                      <a:pt x="90" y="0"/>
                    </a:moveTo>
                    <a:lnTo>
                      <a:pt x="90" y="0"/>
                    </a:lnTo>
                    <a:cubicBezTo>
                      <a:pt x="91" y="0"/>
                      <a:pt x="92" y="1"/>
                      <a:pt x="92" y="2"/>
                    </a:cubicBezTo>
                    <a:cubicBezTo>
                      <a:pt x="92" y="3"/>
                      <a:pt x="91" y="4"/>
                      <a:pt x="90" y="4"/>
                    </a:cubicBezTo>
                    <a:lnTo>
                      <a:pt x="90" y="4"/>
                    </a:lnTo>
                    <a:cubicBezTo>
                      <a:pt x="89" y="4"/>
                      <a:pt x="88" y="3"/>
                      <a:pt x="88" y="2"/>
                    </a:cubicBezTo>
                    <a:cubicBezTo>
                      <a:pt x="88" y="1"/>
                      <a:pt x="89" y="0"/>
                      <a:pt x="90" y="0"/>
                    </a:cubicBezTo>
                    <a:close/>
                    <a:moveTo>
                      <a:pt x="98" y="0"/>
                    </a:moveTo>
                    <a:lnTo>
                      <a:pt x="98" y="0"/>
                    </a:lnTo>
                    <a:cubicBezTo>
                      <a:pt x="99" y="0"/>
                      <a:pt x="100" y="1"/>
                      <a:pt x="100" y="2"/>
                    </a:cubicBezTo>
                    <a:cubicBezTo>
                      <a:pt x="100" y="3"/>
                      <a:pt x="99" y="4"/>
                      <a:pt x="98" y="4"/>
                    </a:cubicBezTo>
                    <a:lnTo>
                      <a:pt x="98" y="4"/>
                    </a:lnTo>
                    <a:cubicBezTo>
                      <a:pt x="97" y="4"/>
                      <a:pt x="96" y="3"/>
                      <a:pt x="96" y="2"/>
                    </a:cubicBezTo>
                    <a:cubicBezTo>
                      <a:pt x="96" y="1"/>
                      <a:pt x="97" y="0"/>
                      <a:pt x="98" y="0"/>
                    </a:cubicBezTo>
                    <a:close/>
                    <a:moveTo>
                      <a:pt x="106" y="0"/>
                    </a:moveTo>
                    <a:lnTo>
                      <a:pt x="106" y="0"/>
                    </a:lnTo>
                    <a:cubicBezTo>
                      <a:pt x="107" y="0"/>
                      <a:pt x="108" y="1"/>
                      <a:pt x="108" y="2"/>
                    </a:cubicBezTo>
                    <a:cubicBezTo>
                      <a:pt x="108" y="3"/>
                      <a:pt x="107" y="4"/>
                      <a:pt x="106" y="4"/>
                    </a:cubicBezTo>
                    <a:lnTo>
                      <a:pt x="106" y="4"/>
                    </a:lnTo>
                    <a:cubicBezTo>
                      <a:pt x="105" y="4"/>
                      <a:pt x="104" y="3"/>
                      <a:pt x="104" y="2"/>
                    </a:cubicBezTo>
                    <a:cubicBezTo>
                      <a:pt x="104" y="1"/>
                      <a:pt x="105" y="0"/>
                      <a:pt x="106" y="0"/>
                    </a:cubicBezTo>
                    <a:close/>
                    <a:moveTo>
                      <a:pt x="114" y="0"/>
                    </a:moveTo>
                    <a:lnTo>
                      <a:pt x="114" y="0"/>
                    </a:lnTo>
                    <a:cubicBezTo>
                      <a:pt x="115" y="0"/>
                      <a:pt x="116" y="1"/>
                      <a:pt x="116" y="2"/>
                    </a:cubicBezTo>
                    <a:cubicBezTo>
                      <a:pt x="116" y="3"/>
                      <a:pt x="115" y="4"/>
                      <a:pt x="114" y="4"/>
                    </a:cubicBezTo>
                    <a:lnTo>
                      <a:pt x="114" y="4"/>
                    </a:lnTo>
                    <a:cubicBezTo>
                      <a:pt x="113" y="4"/>
                      <a:pt x="112" y="3"/>
                      <a:pt x="112" y="2"/>
                    </a:cubicBezTo>
                    <a:cubicBezTo>
                      <a:pt x="112" y="1"/>
                      <a:pt x="113" y="0"/>
                      <a:pt x="114" y="0"/>
                    </a:cubicBezTo>
                    <a:close/>
                    <a:moveTo>
                      <a:pt x="122" y="0"/>
                    </a:moveTo>
                    <a:lnTo>
                      <a:pt x="122" y="0"/>
                    </a:lnTo>
                    <a:cubicBezTo>
                      <a:pt x="123" y="0"/>
                      <a:pt x="124" y="1"/>
                      <a:pt x="124" y="2"/>
                    </a:cubicBezTo>
                    <a:cubicBezTo>
                      <a:pt x="124" y="3"/>
                      <a:pt x="123" y="4"/>
                      <a:pt x="122" y="4"/>
                    </a:cubicBezTo>
                    <a:lnTo>
                      <a:pt x="122" y="4"/>
                    </a:lnTo>
                    <a:cubicBezTo>
                      <a:pt x="121" y="4"/>
                      <a:pt x="120" y="3"/>
                      <a:pt x="120" y="2"/>
                    </a:cubicBezTo>
                    <a:cubicBezTo>
                      <a:pt x="120" y="1"/>
                      <a:pt x="121" y="0"/>
                      <a:pt x="122" y="0"/>
                    </a:cubicBezTo>
                    <a:close/>
                    <a:moveTo>
                      <a:pt x="130" y="0"/>
                    </a:moveTo>
                    <a:lnTo>
                      <a:pt x="130" y="0"/>
                    </a:lnTo>
                    <a:cubicBezTo>
                      <a:pt x="131" y="0"/>
                      <a:pt x="132" y="1"/>
                      <a:pt x="132" y="2"/>
                    </a:cubicBezTo>
                    <a:cubicBezTo>
                      <a:pt x="132" y="3"/>
                      <a:pt x="131" y="4"/>
                      <a:pt x="130" y="4"/>
                    </a:cubicBezTo>
                    <a:lnTo>
                      <a:pt x="130" y="4"/>
                    </a:lnTo>
                    <a:cubicBezTo>
                      <a:pt x="129" y="4"/>
                      <a:pt x="128" y="3"/>
                      <a:pt x="128" y="2"/>
                    </a:cubicBezTo>
                    <a:cubicBezTo>
                      <a:pt x="128" y="1"/>
                      <a:pt x="129" y="0"/>
                      <a:pt x="130" y="0"/>
                    </a:cubicBezTo>
                    <a:close/>
                    <a:moveTo>
                      <a:pt x="138" y="0"/>
                    </a:moveTo>
                    <a:lnTo>
                      <a:pt x="138" y="0"/>
                    </a:lnTo>
                    <a:cubicBezTo>
                      <a:pt x="139" y="0"/>
                      <a:pt x="140" y="1"/>
                      <a:pt x="140" y="2"/>
                    </a:cubicBezTo>
                    <a:cubicBezTo>
                      <a:pt x="140" y="3"/>
                      <a:pt x="139" y="4"/>
                      <a:pt x="138" y="4"/>
                    </a:cubicBezTo>
                    <a:lnTo>
                      <a:pt x="138" y="4"/>
                    </a:lnTo>
                    <a:cubicBezTo>
                      <a:pt x="137" y="4"/>
                      <a:pt x="136" y="3"/>
                      <a:pt x="136" y="2"/>
                    </a:cubicBezTo>
                    <a:cubicBezTo>
                      <a:pt x="136" y="1"/>
                      <a:pt x="137" y="0"/>
                      <a:pt x="138" y="0"/>
                    </a:cubicBezTo>
                    <a:close/>
                    <a:moveTo>
                      <a:pt x="146" y="0"/>
                    </a:moveTo>
                    <a:lnTo>
                      <a:pt x="146" y="0"/>
                    </a:lnTo>
                    <a:cubicBezTo>
                      <a:pt x="147" y="0"/>
                      <a:pt x="148" y="1"/>
                      <a:pt x="148" y="2"/>
                    </a:cubicBezTo>
                    <a:cubicBezTo>
                      <a:pt x="148" y="3"/>
                      <a:pt x="147" y="4"/>
                      <a:pt x="146" y="4"/>
                    </a:cubicBezTo>
                    <a:lnTo>
                      <a:pt x="146" y="4"/>
                    </a:lnTo>
                    <a:cubicBezTo>
                      <a:pt x="145" y="4"/>
                      <a:pt x="144" y="3"/>
                      <a:pt x="144" y="2"/>
                    </a:cubicBezTo>
                    <a:cubicBezTo>
                      <a:pt x="144" y="1"/>
                      <a:pt x="145" y="0"/>
                      <a:pt x="146" y="0"/>
                    </a:cubicBezTo>
                    <a:close/>
                    <a:moveTo>
                      <a:pt x="154" y="0"/>
                    </a:moveTo>
                    <a:lnTo>
                      <a:pt x="154" y="0"/>
                    </a:lnTo>
                    <a:cubicBezTo>
                      <a:pt x="155" y="0"/>
                      <a:pt x="156" y="1"/>
                      <a:pt x="156" y="2"/>
                    </a:cubicBezTo>
                    <a:cubicBezTo>
                      <a:pt x="156" y="3"/>
                      <a:pt x="155" y="4"/>
                      <a:pt x="154" y="4"/>
                    </a:cubicBezTo>
                    <a:lnTo>
                      <a:pt x="154" y="4"/>
                    </a:lnTo>
                    <a:cubicBezTo>
                      <a:pt x="153" y="4"/>
                      <a:pt x="152" y="3"/>
                      <a:pt x="152" y="2"/>
                    </a:cubicBezTo>
                    <a:cubicBezTo>
                      <a:pt x="152" y="1"/>
                      <a:pt x="153" y="0"/>
                      <a:pt x="154" y="0"/>
                    </a:cubicBezTo>
                    <a:close/>
                    <a:moveTo>
                      <a:pt x="162" y="0"/>
                    </a:moveTo>
                    <a:lnTo>
                      <a:pt x="162" y="0"/>
                    </a:lnTo>
                    <a:cubicBezTo>
                      <a:pt x="163" y="0"/>
                      <a:pt x="164" y="1"/>
                      <a:pt x="164" y="2"/>
                    </a:cubicBezTo>
                    <a:cubicBezTo>
                      <a:pt x="164" y="3"/>
                      <a:pt x="163" y="4"/>
                      <a:pt x="162" y="4"/>
                    </a:cubicBezTo>
                    <a:lnTo>
                      <a:pt x="162" y="4"/>
                    </a:lnTo>
                    <a:cubicBezTo>
                      <a:pt x="161" y="4"/>
                      <a:pt x="160" y="3"/>
                      <a:pt x="160" y="2"/>
                    </a:cubicBezTo>
                    <a:cubicBezTo>
                      <a:pt x="160" y="1"/>
                      <a:pt x="161" y="0"/>
                      <a:pt x="162" y="0"/>
                    </a:cubicBezTo>
                    <a:close/>
                    <a:moveTo>
                      <a:pt x="170" y="0"/>
                    </a:moveTo>
                    <a:lnTo>
                      <a:pt x="170" y="0"/>
                    </a:lnTo>
                    <a:cubicBezTo>
                      <a:pt x="171" y="0"/>
                      <a:pt x="172" y="1"/>
                      <a:pt x="172" y="2"/>
                    </a:cubicBezTo>
                    <a:cubicBezTo>
                      <a:pt x="172" y="3"/>
                      <a:pt x="171" y="4"/>
                      <a:pt x="170" y="4"/>
                    </a:cubicBezTo>
                    <a:lnTo>
                      <a:pt x="170" y="4"/>
                    </a:lnTo>
                    <a:cubicBezTo>
                      <a:pt x="169" y="4"/>
                      <a:pt x="168" y="3"/>
                      <a:pt x="168" y="2"/>
                    </a:cubicBezTo>
                    <a:cubicBezTo>
                      <a:pt x="168" y="1"/>
                      <a:pt x="169" y="0"/>
                      <a:pt x="170" y="0"/>
                    </a:cubicBezTo>
                    <a:close/>
                    <a:moveTo>
                      <a:pt x="178" y="0"/>
                    </a:moveTo>
                    <a:lnTo>
                      <a:pt x="178" y="0"/>
                    </a:lnTo>
                    <a:cubicBezTo>
                      <a:pt x="179" y="0"/>
                      <a:pt x="180" y="1"/>
                      <a:pt x="180" y="2"/>
                    </a:cubicBezTo>
                    <a:cubicBezTo>
                      <a:pt x="180" y="3"/>
                      <a:pt x="179" y="4"/>
                      <a:pt x="178" y="4"/>
                    </a:cubicBezTo>
                    <a:lnTo>
                      <a:pt x="178" y="4"/>
                    </a:lnTo>
                    <a:cubicBezTo>
                      <a:pt x="177" y="4"/>
                      <a:pt x="176" y="3"/>
                      <a:pt x="176" y="2"/>
                    </a:cubicBezTo>
                    <a:cubicBezTo>
                      <a:pt x="176" y="1"/>
                      <a:pt x="177" y="0"/>
                      <a:pt x="178" y="0"/>
                    </a:cubicBezTo>
                    <a:close/>
                    <a:moveTo>
                      <a:pt x="186" y="0"/>
                    </a:moveTo>
                    <a:lnTo>
                      <a:pt x="186" y="0"/>
                    </a:lnTo>
                    <a:cubicBezTo>
                      <a:pt x="187" y="0"/>
                      <a:pt x="188" y="1"/>
                      <a:pt x="188" y="2"/>
                    </a:cubicBezTo>
                    <a:cubicBezTo>
                      <a:pt x="188" y="3"/>
                      <a:pt x="187" y="4"/>
                      <a:pt x="186" y="4"/>
                    </a:cubicBezTo>
                    <a:lnTo>
                      <a:pt x="186" y="4"/>
                    </a:lnTo>
                    <a:cubicBezTo>
                      <a:pt x="185" y="4"/>
                      <a:pt x="184" y="3"/>
                      <a:pt x="184" y="2"/>
                    </a:cubicBezTo>
                    <a:cubicBezTo>
                      <a:pt x="184" y="1"/>
                      <a:pt x="185" y="0"/>
                      <a:pt x="186" y="0"/>
                    </a:cubicBezTo>
                    <a:close/>
                    <a:moveTo>
                      <a:pt x="194" y="0"/>
                    </a:moveTo>
                    <a:lnTo>
                      <a:pt x="194" y="0"/>
                    </a:lnTo>
                    <a:cubicBezTo>
                      <a:pt x="195" y="0"/>
                      <a:pt x="196" y="1"/>
                      <a:pt x="196" y="2"/>
                    </a:cubicBezTo>
                    <a:cubicBezTo>
                      <a:pt x="196" y="3"/>
                      <a:pt x="195" y="4"/>
                      <a:pt x="194" y="4"/>
                    </a:cubicBezTo>
                    <a:lnTo>
                      <a:pt x="194" y="4"/>
                    </a:lnTo>
                    <a:cubicBezTo>
                      <a:pt x="193" y="4"/>
                      <a:pt x="192" y="3"/>
                      <a:pt x="192" y="2"/>
                    </a:cubicBezTo>
                    <a:cubicBezTo>
                      <a:pt x="192" y="1"/>
                      <a:pt x="193" y="0"/>
                      <a:pt x="194" y="0"/>
                    </a:cubicBezTo>
                    <a:close/>
                    <a:moveTo>
                      <a:pt x="202" y="0"/>
                    </a:moveTo>
                    <a:lnTo>
                      <a:pt x="202" y="0"/>
                    </a:lnTo>
                    <a:cubicBezTo>
                      <a:pt x="203" y="0"/>
                      <a:pt x="204" y="1"/>
                      <a:pt x="204" y="2"/>
                    </a:cubicBezTo>
                    <a:cubicBezTo>
                      <a:pt x="204" y="3"/>
                      <a:pt x="203" y="4"/>
                      <a:pt x="202" y="4"/>
                    </a:cubicBezTo>
                    <a:lnTo>
                      <a:pt x="202" y="4"/>
                    </a:lnTo>
                    <a:cubicBezTo>
                      <a:pt x="201" y="4"/>
                      <a:pt x="200" y="3"/>
                      <a:pt x="200" y="2"/>
                    </a:cubicBezTo>
                    <a:cubicBezTo>
                      <a:pt x="200" y="1"/>
                      <a:pt x="201" y="0"/>
                      <a:pt x="202" y="0"/>
                    </a:cubicBezTo>
                    <a:close/>
                    <a:moveTo>
                      <a:pt x="210" y="0"/>
                    </a:moveTo>
                    <a:lnTo>
                      <a:pt x="210" y="0"/>
                    </a:lnTo>
                    <a:cubicBezTo>
                      <a:pt x="211" y="0"/>
                      <a:pt x="212" y="1"/>
                      <a:pt x="212" y="2"/>
                    </a:cubicBezTo>
                    <a:cubicBezTo>
                      <a:pt x="212" y="3"/>
                      <a:pt x="211" y="4"/>
                      <a:pt x="210" y="4"/>
                    </a:cubicBezTo>
                    <a:lnTo>
                      <a:pt x="210" y="4"/>
                    </a:lnTo>
                    <a:cubicBezTo>
                      <a:pt x="209" y="4"/>
                      <a:pt x="208" y="3"/>
                      <a:pt x="208" y="2"/>
                    </a:cubicBezTo>
                    <a:cubicBezTo>
                      <a:pt x="208" y="1"/>
                      <a:pt x="209" y="0"/>
                      <a:pt x="210" y="0"/>
                    </a:cubicBezTo>
                    <a:close/>
                    <a:moveTo>
                      <a:pt x="218" y="0"/>
                    </a:moveTo>
                    <a:lnTo>
                      <a:pt x="218" y="0"/>
                    </a:lnTo>
                    <a:cubicBezTo>
                      <a:pt x="219" y="0"/>
                      <a:pt x="220" y="1"/>
                      <a:pt x="220" y="2"/>
                    </a:cubicBezTo>
                    <a:cubicBezTo>
                      <a:pt x="220" y="3"/>
                      <a:pt x="219" y="4"/>
                      <a:pt x="218" y="4"/>
                    </a:cubicBezTo>
                    <a:lnTo>
                      <a:pt x="218" y="4"/>
                    </a:lnTo>
                    <a:cubicBezTo>
                      <a:pt x="217" y="4"/>
                      <a:pt x="216" y="3"/>
                      <a:pt x="216" y="2"/>
                    </a:cubicBezTo>
                    <a:cubicBezTo>
                      <a:pt x="216" y="1"/>
                      <a:pt x="217" y="0"/>
                      <a:pt x="218" y="0"/>
                    </a:cubicBezTo>
                    <a:close/>
                    <a:moveTo>
                      <a:pt x="226" y="0"/>
                    </a:moveTo>
                    <a:lnTo>
                      <a:pt x="226" y="0"/>
                    </a:lnTo>
                    <a:cubicBezTo>
                      <a:pt x="227" y="0"/>
                      <a:pt x="228" y="1"/>
                      <a:pt x="228" y="2"/>
                    </a:cubicBezTo>
                    <a:cubicBezTo>
                      <a:pt x="228" y="3"/>
                      <a:pt x="227" y="4"/>
                      <a:pt x="226" y="4"/>
                    </a:cubicBezTo>
                    <a:lnTo>
                      <a:pt x="226" y="4"/>
                    </a:lnTo>
                    <a:cubicBezTo>
                      <a:pt x="225" y="4"/>
                      <a:pt x="224" y="3"/>
                      <a:pt x="224" y="2"/>
                    </a:cubicBezTo>
                    <a:cubicBezTo>
                      <a:pt x="224" y="1"/>
                      <a:pt x="225" y="0"/>
                      <a:pt x="226" y="0"/>
                    </a:cubicBezTo>
                    <a:close/>
                    <a:moveTo>
                      <a:pt x="234" y="0"/>
                    </a:moveTo>
                    <a:lnTo>
                      <a:pt x="234" y="0"/>
                    </a:lnTo>
                    <a:cubicBezTo>
                      <a:pt x="235" y="0"/>
                      <a:pt x="236" y="1"/>
                      <a:pt x="236" y="2"/>
                    </a:cubicBezTo>
                    <a:cubicBezTo>
                      <a:pt x="236" y="3"/>
                      <a:pt x="235" y="4"/>
                      <a:pt x="234" y="4"/>
                    </a:cubicBezTo>
                    <a:lnTo>
                      <a:pt x="234" y="4"/>
                    </a:lnTo>
                    <a:cubicBezTo>
                      <a:pt x="233" y="4"/>
                      <a:pt x="232" y="3"/>
                      <a:pt x="232" y="2"/>
                    </a:cubicBezTo>
                    <a:cubicBezTo>
                      <a:pt x="232" y="1"/>
                      <a:pt x="233" y="0"/>
                      <a:pt x="234" y="0"/>
                    </a:cubicBezTo>
                    <a:close/>
                    <a:moveTo>
                      <a:pt x="242" y="0"/>
                    </a:moveTo>
                    <a:lnTo>
                      <a:pt x="242" y="0"/>
                    </a:lnTo>
                    <a:cubicBezTo>
                      <a:pt x="243" y="0"/>
                      <a:pt x="244" y="1"/>
                      <a:pt x="244" y="2"/>
                    </a:cubicBezTo>
                    <a:cubicBezTo>
                      <a:pt x="244" y="3"/>
                      <a:pt x="243" y="4"/>
                      <a:pt x="242" y="4"/>
                    </a:cubicBezTo>
                    <a:lnTo>
                      <a:pt x="242" y="4"/>
                    </a:lnTo>
                    <a:cubicBezTo>
                      <a:pt x="241" y="4"/>
                      <a:pt x="240" y="3"/>
                      <a:pt x="240" y="2"/>
                    </a:cubicBezTo>
                    <a:cubicBezTo>
                      <a:pt x="240" y="1"/>
                      <a:pt x="241" y="0"/>
                      <a:pt x="242" y="0"/>
                    </a:cubicBezTo>
                    <a:close/>
                    <a:moveTo>
                      <a:pt x="250" y="0"/>
                    </a:moveTo>
                    <a:lnTo>
                      <a:pt x="250" y="0"/>
                    </a:lnTo>
                    <a:cubicBezTo>
                      <a:pt x="251" y="0"/>
                      <a:pt x="252" y="1"/>
                      <a:pt x="252" y="2"/>
                    </a:cubicBezTo>
                    <a:cubicBezTo>
                      <a:pt x="252" y="3"/>
                      <a:pt x="251" y="4"/>
                      <a:pt x="250" y="4"/>
                    </a:cubicBezTo>
                    <a:lnTo>
                      <a:pt x="250" y="4"/>
                    </a:lnTo>
                    <a:cubicBezTo>
                      <a:pt x="249" y="4"/>
                      <a:pt x="248" y="3"/>
                      <a:pt x="248" y="2"/>
                    </a:cubicBezTo>
                    <a:cubicBezTo>
                      <a:pt x="248" y="1"/>
                      <a:pt x="249" y="0"/>
                      <a:pt x="250" y="0"/>
                    </a:cubicBezTo>
                    <a:close/>
                    <a:moveTo>
                      <a:pt x="258" y="0"/>
                    </a:moveTo>
                    <a:lnTo>
                      <a:pt x="258" y="0"/>
                    </a:lnTo>
                    <a:cubicBezTo>
                      <a:pt x="259" y="0"/>
                      <a:pt x="260" y="1"/>
                      <a:pt x="260" y="2"/>
                    </a:cubicBezTo>
                    <a:cubicBezTo>
                      <a:pt x="260" y="3"/>
                      <a:pt x="259" y="4"/>
                      <a:pt x="258" y="4"/>
                    </a:cubicBezTo>
                    <a:lnTo>
                      <a:pt x="258" y="4"/>
                    </a:lnTo>
                    <a:cubicBezTo>
                      <a:pt x="257" y="4"/>
                      <a:pt x="256" y="3"/>
                      <a:pt x="256" y="2"/>
                    </a:cubicBezTo>
                    <a:cubicBezTo>
                      <a:pt x="256" y="1"/>
                      <a:pt x="257" y="0"/>
                      <a:pt x="258" y="0"/>
                    </a:cubicBezTo>
                    <a:close/>
                    <a:moveTo>
                      <a:pt x="266" y="0"/>
                    </a:moveTo>
                    <a:lnTo>
                      <a:pt x="266" y="0"/>
                    </a:lnTo>
                    <a:cubicBezTo>
                      <a:pt x="267" y="0"/>
                      <a:pt x="268" y="1"/>
                      <a:pt x="268" y="2"/>
                    </a:cubicBezTo>
                    <a:cubicBezTo>
                      <a:pt x="268" y="3"/>
                      <a:pt x="267" y="4"/>
                      <a:pt x="266" y="4"/>
                    </a:cubicBezTo>
                    <a:lnTo>
                      <a:pt x="266" y="4"/>
                    </a:lnTo>
                    <a:cubicBezTo>
                      <a:pt x="265" y="4"/>
                      <a:pt x="264" y="3"/>
                      <a:pt x="264" y="2"/>
                    </a:cubicBezTo>
                    <a:cubicBezTo>
                      <a:pt x="264" y="1"/>
                      <a:pt x="265" y="0"/>
                      <a:pt x="266" y="0"/>
                    </a:cubicBezTo>
                    <a:close/>
                    <a:moveTo>
                      <a:pt x="274" y="0"/>
                    </a:moveTo>
                    <a:lnTo>
                      <a:pt x="274" y="0"/>
                    </a:lnTo>
                    <a:cubicBezTo>
                      <a:pt x="275" y="0"/>
                      <a:pt x="276" y="1"/>
                      <a:pt x="276" y="2"/>
                    </a:cubicBezTo>
                    <a:cubicBezTo>
                      <a:pt x="276" y="3"/>
                      <a:pt x="275" y="4"/>
                      <a:pt x="274" y="4"/>
                    </a:cubicBezTo>
                    <a:lnTo>
                      <a:pt x="274" y="4"/>
                    </a:lnTo>
                    <a:cubicBezTo>
                      <a:pt x="273" y="4"/>
                      <a:pt x="272" y="3"/>
                      <a:pt x="272" y="2"/>
                    </a:cubicBezTo>
                    <a:cubicBezTo>
                      <a:pt x="272" y="1"/>
                      <a:pt x="273" y="0"/>
                      <a:pt x="274" y="0"/>
                    </a:cubicBezTo>
                    <a:close/>
                    <a:moveTo>
                      <a:pt x="282" y="0"/>
                    </a:moveTo>
                    <a:lnTo>
                      <a:pt x="282" y="0"/>
                    </a:lnTo>
                    <a:cubicBezTo>
                      <a:pt x="283" y="0"/>
                      <a:pt x="284" y="1"/>
                      <a:pt x="284" y="2"/>
                    </a:cubicBezTo>
                    <a:cubicBezTo>
                      <a:pt x="284" y="3"/>
                      <a:pt x="283" y="4"/>
                      <a:pt x="282" y="4"/>
                    </a:cubicBezTo>
                    <a:lnTo>
                      <a:pt x="282" y="4"/>
                    </a:lnTo>
                    <a:cubicBezTo>
                      <a:pt x="281" y="4"/>
                      <a:pt x="280" y="3"/>
                      <a:pt x="280" y="2"/>
                    </a:cubicBezTo>
                    <a:cubicBezTo>
                      <a:pt x="280" y="1"/>
                      <a:pt x="281" y="0"/>
                      <a:pt x="282" y="0"/>
                    </a:cubicBezTo>
                    <a:close/>
                    <a:moveTo>
                      <a:pt x="290" y="0"/>
                    </a:moveTo>
                    <a:lnTo>
                      <a:pt x="290" y="0"/>
                    </a:lnTo>
                    <a:cubicBezTo>
                      <a:pt x="291" y="0"/>
                      <a:pt x="292" y="1"/>
                      <a:pt x="292" y="2"/>
                    </a:cubicBezTo>
                    <a:cubicBezTo>
                      <a:pt x="292" y="3"/>
                      <a:pt x="291" y="4"/>
                      <a:pt x="290" y="4"/>
                    </a:cubicBezTo>
                    <a:lnTo>
                      <a:pt x="290" y="4"/>
                    </a:lnTo>
                    <a:cubicBezTo>
                      <a:pt x="289" y="4"/>
                      <a:pt x="288" y="3"/>
                      <a:pt x="288" y="2"/>
                    </a:cubicBezTo>
                    <a:cubicBezTo>
                      <a:pt x="288" y="1"/>
                      <a:pt x="289" y="0"/>
                      <a:pt x="290" y="0"/>
                    </a:cubicBezTo>
                    <a:close/>
                    <a:moveTo>
                      <a:pt x="298" y="0"/>
                    </a:moveTo>
                    <a:lnTo>
                      <a:pt x="298" y="0"/>
                    </a:lnTo>
                    <a:cubicBezTo>
                      <a:pt x="299" y="0"/>
                      <a:pt x="300" y="1"/>
                      <a:pt x="300" y="2"/>
                    </a:cubicBezTo>
                    <a:cubicBezTo>
                      <a:pt x="300" y="3"/>
                      <a:pt x="299" y="4"/>
                      <a:pt x="298" y="4"/>
                    </a:cubicBezTo>
                    <a:lnTo>
                      <a:pt x="298" y="4"/>
                    </a:lnTo>
                    <a:cubicBezTo>
                      <a:pt x="297" y="4"/>
                      <a:pt x="296" y="3"/>
                      <a:pt x="296" y="2"/>
                    </a:cubicBezTo>
                    <a:cubicBezTo>
                      <a:pt x="296" y="1"/>
                      <a:pt x="297" y="0"/>
                      <a:pt x="298" y="0"/>
                    </a:cubicBezTo>
                    <a:close/>
                    <a:moveTo>
                      <a:pt x="306" y="0"/>
                    </a:moveTo>
                    <a:lnTo>
                      <a:pt x="306" y="0"/>
                    </a:lnTo>
                    <a:cubicBezTo>
                      <a:pt x="307" y="0"/>
                      <a:pt x="308" y="1"/>
                      <a:pt x="308" y="2"/>
                    </a:cubicBezTo>
                    <a:cubicBezTo>
                      <a:pt x="308" y="3"/>
                      <a:pt x="307" y="4"/>
                      <a:pt x="306" y="4"/>
                    </a:cubicBezTo>
                    <a:lnTo>
                      <a:pt x="306" y="4"/>
                    </a:lnTo>
                    <a:cubicBezTo>
                      <a:pt x="305" y="4"/>
                      <a:pt x="304" y="3"/>
                      <a:pt x="304" y="2"/>
                    </a:cubicBezTo>
                    <a:cubicBezTo>
                      <a:pt x="304" y="1"/>
                      <a:pt x="305" y="0"/>
                      <a:pt x="306" y="0"/>
                    </a:cubicBezTo>
                    <a:close/>
                    <a:moveTo>
                      <a:pt x="314" y="0"/>
                    </a:moveTo>
                    <a:lnTo>
                      <a:pt x="314" y="0"/>
                    </a:lnTo>
                    <a:cubicBezTo>
                      <a:pt x="315" y="0"/>
                      <a:pt x="316" y="1"/>
                      <a:pt x="316" y="2"/>
                    </a:cubicBezTo>
                    <a:cubicBezTo>
                      <a:pt x="316" y="3"/>
                      <a:pt x="315" y="4"/>
                      <a:pt x="314" y="4"/>
                    </a:cubicBezTo>
                    <a:lnTo>
                      <a:pt x="314" y="4"/>
                    </a:lnTo>
                    <a:cubicBezTo>
                      <a:pt x="313" y="4"/>
                      <a:pt x="312" y="3"/>
                      <a:pt x="312" y="2"/>
                    </a:cubicBezTo>
                    <a:cubicBezTo>
                      <a:pt x="312" y="1"/>
                      <a:pt x="313" y="0"/>
                      <a:pt x="314" y="0"/>
                    </a:cubicBezTo>
                    <a:close/>
                    <a:moveTo>
                      <a:pt x="322" y="0"/>
                    </a:moveTo>
                    <a:lnTo>
                      <a:pt x="322" y="0"/>
                    </a:lnTo>
                    <a:cubicBezTo>
                      <a:pt x="323" y="0"/>
                      <a:pt x="324" y="1"/>
                      <a:pt x="324" y="2"/>
                    </a:cubicBezTo>
                    <a:cubicBezTo>
                      <a:pt x="324" y="3"/>
                      <a:pt x="323" y="4"/>
                      <a:pt x="322" y="4"/>
                    </a:cubicBezTo>
                    <a:lnTo>
                      <a:pt x="322" y="4"/>
                    </a:lnTo>
                    <a:cubicBezTo>
                      <a:pt x="321" y="4"/>
                      <a:pt x="320" y="3"/>
                      <a:pt x="320" y="2"/>
                    </a:cubicBezTo>
                    <a:cubicBezTo>
                      <a:pt x="320" y="1"/>
                      <a:pt x="321" y="0"/>
                      <a:pt x="322" y="0"/>
                    </a:cubicBezTo>
                    <a:close/>
                    <a:moveTo>
                      <a:pt x="330" y="0"/>
                    </a:moveTo>
                    <a:lnTo>
                      <a:pt x="330" y="0"/>
                    </a:lnTo>
                    <a:cubicBezTo>
                      <a:pt x="331" y="0"/>
                      <a:pt x="332" y="1"/>
                      <a:pt x="332" y="2"/>
                    </a:cubicBezTo>
                    <a:cubicBezTo>
                      <a:pt x="332" y="3"/>
                      <a:pt x="331" y="4"/>
                      <a:pt x="330" y="4"/>
                    </a:cubicBezTo>
                    <a:lnTo>
                      <a:pt x="330" y="4"/>
                    </a:lnTo>
                    <a:cubicBezTo>
                      <a:pt x="329" y="4"/>
                      <a:pt x="328" y="3"/>
                      <a:pt x="328" y="2"/>
                    </a:cubicBezTo>
                    <a:cubicBezTo>
                      <a:pt x="328" y="1"/>
                      <a:pt x="329" y="0"/>
                      <a:pt x="330" y="0"/>
                    </a:cubicBezTo>
                    <a:close/>
                    <a:moveTo>
                      <a:pt x="338" y="0"/>
                    </a:moveTo>
                    <a:lnTo>
                      <a:pt x="338" y="0"/>
                    </a:lnTo>
                    <a:cubicBezTo>
                      <a:pt x="339" y="0"/>
                      <a:pt x="340" y="1"/>
                      <a:pt x="340" y="2"/>
                    </a:cubicBezTo>
                    <a:cubicBezTo>
                      <a:pt x="340" y="3"/>
                      <a:pt x="339" y="4"/>
                      <a:pt x="338" y="4"/>
                    </a:cubicBezTo>
                    <a:lnTo>
                      <a:pt x="338" y="4"/>
                    </a:lnTo>
                    <a:cubicBezTo>
                      <a:pt x="337" y="4"/>
                      <a:pt x="336" y="3"/>
                      <a:pt x="336" y="2"/>
                    </a:cubicBezTo>
                    <a:cubicBezTo>
                      <a:pt x="336" y="1"/>
                      <a:pt x="337" y="0"/>
                      <a:pt x="338" y="0"/>
                    </a:cubicBezTo>
                    <a:close/>
                    <a:moveTo>
                      <a:pt x="346" y="0"/>
                    </a:moveTo>
                    <a:lnTo>
                      <a:pt x="346" y="0"/>
                    </a:lnTo>
                    <a:cubicBezTo>
                      <a:pt x="347" y="0"/>
                      <a:pt x="348" y="1"/>
                      <a:pt x="348" y="2"/>
                    </a:cubicBezTo>
                    <a:cubicBezTo>
                      <a:pt x="348" y="3"/>
                      <a:pt x="347" y="4"/>
                      <a:pt x="346" y="4"/>
                    </a:cubicBezTo>
                    <a:lnTo>
                      <a:pt x="346" y="4"/>
                    </a:lnTo>
                    <a:cubicBezTo>
                      <a:pt x="345" y="4"/>
                      <a:pt x="344" y="3"/>
                      <a:pt x="344" y="2"/>
                    </a:cubicBezTo>
                    <a:cubicBezTo>
                      <a:pt x="344" y="1"/>
                      <a:pt x="345" y="0"/>
                      <a:pt x="346" y="0"/>
                    </a:cubicBezTo>
                    <a:close/>
                    <a:moveTo>
                      <a:pt x="354" y="0"/>
                    </a:moveTo>
                    <a:lnTo>
                      <a:pt x="354" y="0"/>
                    </a:lnTo>
                    <a:cubicBezTo>
                      <a:pt x="355" y="0"/>
                      <a:pt x="356" y="1"/>
                      <a:pt x="356" y="2"/>
                    </a:cubicBezTo>
                    <a:cubicBezTo>
                      <a:pt x="356" y="3"/>
                      <a:pt x="355" y="4"/>
                      <a:pt x="354" y="4"/>
                    </a:cubicBezTo>
                    <a:lnTo>
                      <a:pt x="354" y="4"/>
                    </a:lnTo>
                    <a:cubicBezTo>
                      <a:pt x="353" y="4"/>
                      <a:pt x="352" y="3"/>
                      <a:pt x="352" y="2"/>
                    </a:cubicBezTo>
                    <a:cubicBezTo>
                      <a:pt x="352" y="1"/>
                      <a:pt x="353" y="0"/>
                      <a:pt x="354" y="0"/>
                    </a:cubicBezTo>
                    <a:close/>
                    <a:moveTo>
                      <a:pt x="362" y="0"/>
                    </a:moveTo>
                    <a:lnTo>
                      <a:pt x="362" y="0"/>
                    </a:lnTo>
                    <a:cubicBezTo>
                      <a:pt x="363" y="0"/>
                      <a:pt x="364" y="1"/>
                      <a:pt x="364" y="2"/>
                    </a:cubicBezTo>
                    <a:cubicBezTo>
                      <a:pt x="364" y="3"/>
                      <a:pt x="363" y="4"/>
                      <a:pt x="362" y="4"/>
                    </a:cubicBezTo>
                    <a:lnTo>
                      <a:pt x="362" y="4"/>
                    </a:lnTo>
                    <a:cubicBezTo>
                      <a:pt x="361" y="4"/>
                      <a:pt x="360" y="3"/>
                      <a:pt x="360" y="2"/>
                    </a:cubicBezTo>
                    <a:cubicBezTo>
                      <a:pt x="360" y="1"/>
                      <a:pt x="361" y="0"/>
                      <a:pt x="362" y="0"/>
                    </a:cubicBezTo>
                    <a:close/>
                    <a:moveTo>
                      <a:pt x="370" y="0"/>
                    </a:moveTo>
                    <a:lnTo>
                      <a:pt x="370" y="0"/>
                    </a:lnTo>
                    <a:cubicBezTo>
                      <a:pt x="371" y="0"/>
                      <a:pt x="372" y="1"/>
                      <a:pt x="372" y="2"/>
                    </a:cubicBezTo>
                    <a:cubicBezTo>
                      <a:pt x="372" y="3"/>
                      <a:pt x="371" y="4"/>
                      <a:pt x="370" y="4"/>
                    </a:cubicBezTo>
                    <a:lnTo>
                      <a:pt x="370" y="4"/>
                    </a:lnTo>
                    <a:cubicBezTo>
                      <a:pt x="369" y="4"/>
                      <a:pt x="368" y="3"/>
                      <a:pt x="368" y="2"/>
                    </a:cubicBezTo>
                    <a:cubicBezTo>
                      <a:pt x="368" y="1"/>
                      <a:pt x="369" y="0"/>
                      <a:pt x="370" y="0"/>
                    </a:cubicBezTo>
                    <a:close/>
                    <a:moveTo>
                      <a:pt x="378" y="0"/>
                    </a:moveTo>
                    <a:lnTo>
                      <a:pt x="378" y="0"/>
                    </a:lnTo>
                    <a:cubicBezTo>
                      <a:pt x="379" y="0"/>
                      <a:pt x="380" y="1"/>
                      <a:pt x="380" y="2"/>
                    </a:cubicBezTo>
                    <a:cubicBezTo>
                      <a:pt x="380" y="3"/>
                      <a:pt x="379" y="4"/>
                      <a:pt x="378" y="4"/>
                    </a:cubicBezTo>
                    <a:lnTo>
                      <a:pt x="378" y="4"/>
                    </a:lnTo>
                    <a:cubicBezTo>
                      <a:pt x="377" y="4"/>
                      <a:pt x="376" y="3"/>
                      <a:pt x="376" y="2"/>
                    </a:cubicBezTo>
                    <a:cubicBezTo>
                      <a:pt x="376" y="1"/>
                      <a:pt x="377" y="0"/>
                      <a:pt x="378" y="0"/>
                    </a:cubicBezTo>
                    <a:close/>
                    <a:moveTo>
                      <a:pt x="386" y="0"/>
                    </a:moveTo>
                    <a:lnTo>
                      <a:pt x="386" y="0"/>
                    </a:lnTo>
                    <a:cubicBezTo>
                      <a:pt x="387" y="0"/>
                      <a:pt x="388" y="1"/>
                      <a:pt x="388" y="2"/>
                    </a:cubicBezTo>
                    <a:cubicBezTo>
                      <a:pt x="388" y="3"/>
                      <a:pt x="387" y="4"/>
                      <a:pt x="386" y="4"/>
                    </a:cubicBezTo>
                    <a:lnTo>
                      <a:pt x="386" y="4"/>
                    </a:lnTo>
                    <a:cubicBezTo>
                      <a:pt x="385" y="4"/>
                      <a:pt x="384" y="3"/>
                      <a:pt x="384" y="2"/>
                    </a:cubicBezTo>
                    <a:cubicBezTo>
                      <a:pt x="384" y="1"/>
                      <a:pt x="385" y="0"/>
                      <a:pt x="386" y="0"/>
                    </a:cubicBezTo>
                    <a:close/>
                    <a:moveTo>
                      <a:pt x="394" y="0"/>
                    </a:moveTo>
                    <a:lnTo>
                      <a:pt x="394" y="0"/>
                    </a:lnTo>
                    <a:cubicBezTo>
                      <a:pt x="395" y="0"/>
                      <a:pt x="396" y="1"/>
                      <a:pt x="396" y="2"/>
                    </a:cubicBezTo>
                    <a:cubicBezTo>
                      <a:pt x="396" y="3"/>
                      <a:pt x="395" y="4"/>
                      <a:pt x="394" y="4"/>
                    </a:cubicBezTo>
                    <a:lnTo>
                      <a:pt x="394" y="4"/>
                    </a:lnTo>
                    <a:cubicBezTo>
                      <a:pt x="393" y="4"/>
                      <a:pt x="392" y="3"/>
                      <a:pt x="392" y="2"/>
                    </a:cubicBezTo>
                    <a:cubicBezTo>
                      <a:pt x="392" y="1"/>
                      <a:pt x="393" y="0"/>
                      <a:pt x="394" y="0"/>
                    </a:cubicBezTo>
                    <a:close/>
                    <a:moveTo>
                      <a:pt x="402" y="0"/>
                    </a:moveTo>
                    <a:lnTo>
                      <a:pt x="402" y="0"/>
                    </a:lnTo>
                    <a:cubicBezTo>
                      <a:pt x="403" y="0"/>
                      <a:pt x="404" y="1"/>
                      <a:pt x="404" y="2"/>
                    </a:cubicBezTo>
                    <a:cubicBezTo>
                      <a:pt x="404" y="3"/>
                      <a:pt x="403" y="4"/>
                      <a:pt x="402" y="4"/>
                    </a:cubicBezTo>
                    <a:lnTo>
                      <a:pt x="402" y="4"/>
                    </a:lnTo>
                    <a:cubicBezTo>
                      <a:pt x="401" y="4"/>
                      <a:pt x="400" y="3"/>
                      <a:pt x="400" y="2"/>
                    </a:cubicBezTo>
                    <a:cubicBezTo>
                      <a:pt x="400" y="1"/>
                      <a:pt x="401" y="0"/>
                      <a:pt x="402" y="0"/>
                    </a:cubicBezTo>
                    <a:close/>
                    <a:moveTo>
                      <a:pt x="410" y="0"/>
                    </a:moveTo>
                    <a:lnTo>
                      <a:pt x="410" y="0"/>
                    </a:lnTo>
                    <a:cubicBezTo>
                      <a:pt x="411" y="0"/>
                      <a:pt x="412" y="1"/>
                      <a:pt x="412" y="2"/>
                    </a:cubicBezTo>
                    <a:cubicBezTo>
                      <a:pt x="412" y="3"/>
                      <a:pt x="411" y="4"/>
                      <a:pt x="410" y="4"/>
                    </a:cubicBezTo>
                    <a:lnTo>
                      <a:pt x="410" y="4"/>
                    </a:lnTo>
                    <a:cubicBezTo>
                      <a:pt x="409" y="4"/>
                      <a:pt x="408" y="3"/>
                      <a:pt x="408" y="2"/>
                    </a:cubicBezTo>
                    <a:cubicBezTo>
                      <a:pt x="408" y="1"/>
                      <a:pt x="409" y="0"/>
                      <a:pt x="410" y="0"/>
                    </a:cubicBezTo>
                    <a:close/>
                    <a:moveTo>
                      <a:pt x="418" y="0"/>
                    </a:moveTo>
                    <a:lnTo>
                      <a:pt x="418" y="0"/>
                    </a:lnTo>
                    <a:cubicBezTo>
                      <a:pt x="419" y="0"/>
                      <a:pt x="420" y="1"/>
                      <a:pt x="420" y="2"/>
                    </a:cubicBezTo>
                    <a:cubicBezTo>
                      <a:pt x="420" y="3"/>
                      <a:pt x="419" y="4"/>
                      <a:pt x="418" y="4"/>
                    </a:cubicBezTo>
                    <a:lnTo>
                      <a:pt x="418" y="4"/>
                    </a:lnTo>
                    <a:cubicBezTo>
                      <a:pt x="417" y="4"/>
                      <a:pt x="416" y="3"/>
                      <a:pt x="416" y="2"/>
                    </a:cubicBezTo>
                    <a:cubicBezTo>
                      <a:pt x="416" y="1"/>
                      <a:pt x="417" y="0"/>
                      <a:pt x="418" y="0"/>
                    </a:cubicBezTo>
                    <a:close/>
                    <a:moveTo>
                      <a:pt x="426" y="0"/>
                    </a:moveTo>
                    <a:lnTo>
                      <a:pt x="426" y="0"/>
                    </a:lnTo>
                    <a:cubicBezTo>
                      <a:pt x="427" y="0"/>
                      <a:pt x="428" y="1"/>
                      <a:pt x="428" y="2"/>
                    </a:cubicBezTo>
                    <a:cubicBezTo>
                      <a:pt x="428" y="3"/>
                      <a:pt x="427" y="4"/>
                      <a:pt x="426" y="4"/>
                    </a:cubicBezTo>
                    <a:lnTo>
                      <a:pt x="426" y="4"/>
                    </a:lnTo>
                    <a:cubicBezTo>
                      <a:pt x="425" y="4"/>
                      <a:pt x="424" y="3"/>
                      <a:pt x="424" y="2"/>
                    </a:cubicBezTo>
                    <a:cubicBezTo>
                      <a:pt x="424" y="1"/>
                      <a:pt x="425" y="0"/>
                      <a:pt x="426" y="0"/>
                    </a:cubicBezTo>
                    <a:close/>
                    <a:moveTo>
                      <a:pt x="434" y="0"/>
                    </a:moveTo>
                    <a:lnTo>
                      <a:pt x="434" y="0"/>
                    </a:lnTo>
                    <a:cubicBezTo>
                      <a:pt x="435" y="0"/>
                      <a:pt x="436" y="1"/>
                      <a:pt x="436" y="2"/>
                    </a:cubicBezTo>
                    <a:cubicBezTo>
                      <a:pt x="436" y="3"/>
                      <a:pt x="435" y="4"/>
                      <a:pt x="434" y="4"/>
                    </a:cubicBezTo>
                    <a:lnTo>
                      <a:pt x="434" y="4"/>
                    </a:lnTo>
                    <a:cubicBezTo>
                      <a:pt x="433" y="4"/>
                      <a:pt x="432" y="3"/>
                      <a:pt x="432" y="2"/>
                    </a:cubicBezTo>
                    <a:cubicBezTo>
                      <a:pt x="432" y="1"/>
                      <a:pt x="433" y="0"/>
                      <a:pt x="434" y="0"/>
                    </a:cubicBezTo>
                    <a:close/>
                    <a:moveTo>
                      <a:pt x="442" y="0"/>
                    </a:moveTo>
                    <a:lnTo>
                      <a:pt x="442" y="0"/>
                    </a:lnTo>
                    <a:cubicBezTo>
                      <a:pt x="443" y="0"/>
                      <a:pt x="444" y="1"/>
                      <a:pt x="444" y="2"/>
                    </a:cubicBezTo>
                    <a:cubicBezTo>
                      <a:pt x="444" y="3"/>
                      <a:pt x="443" y="4"/>
                      <a:pt x="442" y="4"/>
                    </a:cubicBezTo>
                    <a:lnTo>
                      <a:pt x="442" y="4"/>
                    </a:lnTo>
                    <a:cubicBezTo>
                      <a:pt x="441" y="4"/>
                      <a:pt x="440" y="3"/>
                      <a:pt x="440" y="2"/>
                    </a:cubicBezTo>
                    <a:cubicBezTo>
                      <a:pt x="440" y="1"/>
                      <a:pt x="441" y="0"/>
                      <a:pt x="442" y="0"/>
                    </a:cubicBezTo>
                    <a:close/>
                    <a:moveTo>
                      <a:pt x="450" y="0"/>
                    </a:moveTo>
                    <a:lnTo>
                      <a:pt x="450" y="0"/>
                    </a:lnTo>
                    <a:cubicBezTo>
                      <a:pt x="451" y="0"/>
                      <a:pt x="452" y="1"/>
                      <a:pt x="452" y="2"/>
                    </a:cubicBezTo>
                    <a:cubicBezTo>
                      <a:pt x="452" y="3"/>
                      <a:pt x="451" y="4"/>
                      <a:pt x="450" y="4"/>
                    </a:cubicBezTo>
                    <a:lnTo>
                      <a:pt x="450" y="4"/>
                    </a:lnTo>
                    <a:cubicBezTo>
                      <a:pt x="449" y="4"/>
                      <a:pt x="448" y="3"/>
                      <a:pt x="448" y="2"/>
                    </a:cubicBezTo>
                    <a:cubicBezTo>
                      <a:pt x="448" y="1"/>
                      <a:pt x="449" y="0"/>
                      <a:pt x="450" y="0"/>
                    </a:cubicBezTo>
                    <a:close/>
                    <a:moveTo>
                      <a:pt x="458" y="0"/>
                    </a:moveTo>
                    <a:lnTo>
                      <a:pt x="458" y="0"/>
                    </a:lnTo>
                    <a:cubicBezTo>
                      <a:pt x="459" y="0"/>
                      <a:pt x="460" y="1"/>
                      <a:pt x="460" y="2"/>
                    </a:cubicBezTo>
                    <a:cubicBezTo>
                      <a:pt x="460" y="3"/>
                      <a:pt x="459" y="4"/>
                      <a:pt x="458" y="4"/>
                    </a:cubicBezTo>
                    <a:lnTo>
                      <a:pt x="458" y="4"/>
                    </a:lnTo>
                    <a:cubicBezTo>
                      <a:pt x="457" y="4"/>
                      <a:pt x="456" y="3"/>
                      <a:pt x="456" y="2"/>
                    </a:cubicBezTo>
                    <a:cubicBezTo>
                      <a:pt x="456" y="1"/>
                      <a:pt x="457" y="0"/>
                      <a:pt x="458" y="0"/>
                    </a:cubicBezTo>
                    <a:close/>
                    <a:moveTo>
                      <a:pt x="466" y="0"/>
                    </a:moveTo>
                    <a:lnTo>
                      <a:pt x="466" y="0"/>
                    </a:lnTo>
                    <a:cubicBezTo>
                      <a:pt x="467" y="0"/>
                      <a:pt x="468" y="1"/>
                      <a:pt x="468" y="2"/>
                    </a:cubicBezTo>
                    <a:cubicBezTo>
                      <a:pt x="468" y="3"/>
                      <a:pt x="467" y="4"/>
                      <a:pt x="466" y="4"/>
                    </a:cubicBezTo>
                    <a:lnTo>
                      <a:pt x="466" y="4"/>
                    </a:lnTo>
                    <a:cubicBezTo>
                      <a:pt x="465" y="4"/>
                      <a:pt x="464" y="3"/>
                      <a:pt x="464" y="2"/>
                    </a:cubicBezTo>
                    <a:cubicBezTo>
                      <a:pt x="464" y="1"/>
                      <a:pt x="465" y="0"/>
                      <a:pt x="466" y="0"/>
                    </a:cubicBezTo>
                    <a:close/>
                    <a:moveTo>
                      <a:pt x="474" y="0"/>
                    </a:moveTo>
                    <a:lnTo>
                      <a:pt x="474" y="0"/>
                    </a:lnTo>
                    <a:cubicBezTo>
                      <a:pt x="475" y="0"/>
                      <a:pt x="476" y="1"/>
                      <a:pt x="476" y="2"/>
                    </a:cubicBezTo>
                    <a:cubicBezTo>
                      <a:pt x="476" y="3"/>
                      <a:pt x="475" y="4"/>
                      <a:pt x="474" y="4"/>
                    </a:cubicBezTo>
                    <a:lnTo>
                      <a:pt x="474" y="4"/>
                    </a:lnTo>
                    <a:cubicBezTo>
                      <a:pt x="473" y="4"/>
                      <a:pt x="472" y="3"/>
                      <a:pt x="472" y="2"/>
                    </a:cubicBezTo>
                    <a:cubicBezTo>
                      <a:pt x="472" y="1"/>
                      <a:pt x="473" y="0"/>
                      <a:pt x="474" y="0"/>
                    </a:cubicBezTo>
                    <a:close/>
                    <a:moveTo>
                      <a:pt x="482" y="0"/>
                    </a:moveTo>
                    <a:lnTo>
                      <a:pt x="482" y="0"/>
                    </a:lnTo>
                    <a:cubicBezTo>
                      <a:pt x="483" y="0"/>
                      <a:pt x="484" y="1"/>
                      <a:pt x="484" y="2"/>
                    </a:cubicBezTo>
                    <a:cubicBezTo>
                      <a:pt x="484" y="3"/>
                      <a:pt x="483" y="4"/>
                      <a:pt x="482" y="4"/>
                    </a:cubicBezTo>
                    <a:lnTo>
                      <a:pt x="482" y="4"/>
                    </a:lnTo>
                    <a:cubicBezTo>
                      <a:pt x="481" y="4"/>
                      <a:pt x="480" y="3"/>
                      <a:pt x="480" y="2"/>
                    </a:cubicBezTo>
                    <a:cubicBezTo>
                      <a:pt x="480" y="1"/>
                      <a:pt x="481" y="0"/>
                      <a:pt x="482" y="0"/>
                    </a:cubicBezTo>
                    <a:close/>
                    <a:moveTo>
                      <a:pt x="490" y="0"/>
                    </a:moveTo>
                    <a:lnTo>
                      <a:pt x="490" y="0"/>
                    </a:lnTo>
                    <a:cubicBezTo>
                      <a:pt x="491" y="0"/>
                      <a:pt x="492" y="1"/>
                      <a:pt x="492" y="2"/>
                    </a:cubicBezTo>
                    <a:cubicBezTo>
                      <a:pt x="492" y="3"/>
                      <a:pt x="491" y="4"/>
                      <a:pt x="490" y="4"/>
                    </a:cubicBezTo>
                    <a:lnTo>
                      <a:pt x="490" y="4"/>
                    </a:lnTo>
                    <a:cubicBezTo>
                      <a:pt x="489" y="4"/>
                      <a:pt x="488" y="3"/>
                      <a:pt x="488" y="2"/>
                    </a:cubicBezTo>
                    <a:cubicBezTo>
                      <a:pt x="488" y="1"/>
                      <a:pt x="489" y="0"/>
                      <a:pt x="490" y="0"/>
                    </a:cubicBezTo>
                    <a:close/>
                    <a:moveTo>
                      <a:pt x="498" y="0"/>
                    </a:moveTo>
                    <a:lnTo>
                      <a:pt x="498" y="0"/>
                    </a:lnTo>
                    <a:cubicBezTo>
                      <a:pt x="499" y="0"/>
                      <a:pt x="500" y="1"/>
                      <a:pt x="500" y="2"/>
                    </a:cubicBezTo>
                    <a:cubicBezTo>
                      <a:pt x="500" y="3"/>
                      <a:pt x="499" y="4"/>
                      <a:pt x="498" y="4"/>
                    </a:cubicBezTo>
                    <a:lnTo>
                      <a:pt x="498" y="4"/>
                    </a:lnTo>
                    <a:cubicBezTo>
                      <a:pt x="497" y="4"/>
                      <a:pt x="496" y="3"/>
                      <a:pt x="496" y="2"/>
                    </a:cubicBezTo>
                    <a:cubicBezTo>
                      <a:pt x="496" y="1"/>
                      <a:pt x="497" y="0"/>
                      <a:pt x="498" y="0"/>
                    </a:cubicBezTo>
                    <a:close/>
                    <a:moveTo>
                      <a:pt x="506" y="0"/>
                    </a:moveTo>
                    <a:lnTo>
                      <a:pt x="506" y="0"/>
                    </a:lnTo>
                    <a:cubicBezTo>
                      <a:pt x="507" y="0"/>
                      <a:pt x="508" y="1"/>
                      <a:pt x="508" y="2"/>
                    </a:cubicBezTo>
                    <a:cubicBezTo>
                      <a:pt x="508" y="3"/>
                      <a:pt x="507" y="4"/>
                      <a:pt x="506" y="4"/>
                    </a:cubicBezTo>
                    <a:lnTo>
                      <a:pt x="506" y="4"/>
                    </a:lnTo>
                    <a:cubicBezTo>
                      <a:pt x="505" y="4"/>
                      <a:pt x="504" y="3"/>
                      <a:pt x="504" y="2"/>
                    </a:cubicBezTo>
                    <a:cubicBezTo>
                      <a:pt x="504" y="1"/>
                      <a:pt x="505" y="0"/>
                      <a:pt x="506" y="0"/>
                    </a:cubicBezTo>
                    <a:close/>
                    <a:moveTo>
                      <a:pt x="514" y="0"/>
                    </a:moveTo>
                    <a:lnTo>
                      <a:pt x="514" y="0"/>
                    </a:lnTo>
                    <a:cubicBezTo>
                      <a:pt x="515" y="0"/>
                      <a:pt x="516" y="1"/>
                      <a:pt x="516" y="2"/>
                    </a:cubicBezTo>
                    <a:cubicBezTo>
                      <a:pt x="516" y="3"/>
                      <a:pt x="515" y="4"/>
                      <a:pt x="514" y="4"/>
                    </a:cubicBezTo>
                    <a:lnTo>
                      <a:pt x="514" y="4"/>
                    </a:lnTo>
                    <a:cubicBezTo>
                      <a:pt x="513" y="4"/>
                      <a:pt x="512" y="3"/>
                      <a:pt x="512" y="2"/>
                    </a:cubicBezTo>
                    <a:cubicBezTo>
                      <a:pt x="512" y="1"/>
                      <a:pt x="513" y="0"/>
                      <a:pt x="514" y="0"/>
                    </a:cubicBezTo>
                    <a:close/>
                    <a:moveTo>
                      <a:pt x="522" y="0"/>
                    </a:moveTo>
                    <a:lnTo>
                      <a:pt x="522" y="0"/>
                    </a:lnTo>
                    <a:cubicBezTo>
                      <a:pt x="523" y="0"/>
                      <a:pt x="524" y="1"/>
                      <a:pt x="524" y="2"/>
                    </a:cubicBezTo>
                    <a:cubicBezTo>
                      <a:pt x="524" y="3"/>
                      <a:pt x="523" y="4"/>
                      <a:pt x="522" y="4"/>
                    </a:cubicBezTo>
                    <a:lnTo>
                      <a:pt x="522" y="4"/>
                    </a:lnTo>
                    <a:cubicBezTo>
                      <a:pt x="521" y="4"/>
                      <a:pt x="520" y="3"/>
                      <a:pt x="520" y="2"/>
                    </a:cubicBezTo>
                    <a:cubicBezTo>
                      <a:pt x="520" y="1"/>
                      <a:pt x="521" y="0"/>
                      <a:pt x="522" y="0"/>
                    </a:cubicBezTo>
                    <a:close/>
                    <a:moveTo>
                      <a:pt x="530" y="0"/>
                    </a:moveTo>
                    <a:lnTo>
                      <a:pt x="530" y="0"/>
                    </a:lnTo>
                    <a:cubicBezTo>
                      <a:pt x="531" y="0"/>
                      <a:pt x="532" y="1"/>
                      <a:pt x="532" y="2"/>
                    </a:cubicBezTo>
                    <a:cubicBezTo>
                      <a:pt x="532" y="3"/>
                      <a:pt x="531" y="4"/>
                      <a:pt x="530" y="4"/>
                    </a:cubicBezTo>
                    <a:lnTo>
                      <a:pt x="530" y="4"/>
                    </a:lnTo>
                    <a:cubicBezTo>
                      <a:pt x="529" y="4"/>
                      <a:pt x="528" y="3"/>
                      <a:pt x="528" y="2"/>
                    </a:cubicBezTo>
                    <a:cubicBezTo>
                      <a:pt x="528" y="1"/>
                      <a:pt x="529" y="0"/>
                      <a:pt x="530" y="0"/>
                    </a:cubicBezTo>
                    <a:close/>
                    <a:moveTo>
                      <a:pt x="538" y="0"/>
                    </a:moveTo>
                    <a:lnTo>
                      <a:pt x="538" y="0"/>
                    </a:lnTo>
                    <a:cubicBezTo>
                      <a:pt x="539" y="0"/>
                      <a:pt x="540" y="1"/>
                      <a:pt x="540" y="2"/>
                    </a:cubicBezTo>
                    <a:cubicBezTo>
                      <a:pt x="540" y="3"/>
                      <a:pt x="539" y="4"/>
                      <a:pt x="538" y="4"/>
                    </a:cubicBezTo>
                    <a:lnTo>
                      <a:pt x="538" y="4"/>
                    </a:lnTo>
                    <a:cubicBezTo>
                      <a:pt x="537" y="4"/>
                      <a:pt x="536" y="3"/>
                      <a:pt x="536" y="2"/>
                    </a:cubicBezTo>
                    <a:cubicBezTo>
                      <a:pt x="536" y="1"/>
                      <a:pt x="537" y="0"/>
                      <a:pt x="538" y="0"/>
                    </a:cubicBezTo>
                    <a:close/>
                    <a:moveTo>
                      <a:pt x="546" y="0"/>
                    </a:moveTo>
                    <a:lnTo>
                      <a:pt x="546" y="0"/>
                    </a:lnTo>
                    <a:cubicBezTo>
                      <a:pt x="547" y="0"/>
                      <a:pt x="548" y="1"/>
                      <a:pt x="548" y="2"/>
                    </a:cubicBezTo>
                    <a:cubicBezTo>
                      <a:pt x="548" y="3"/>
                      <a:pt x="547" y="4"/>
                      <a:pt x="546" y="4"/>
                    </a:cubicBezTo>
                    <a:lnTo>
                      <a:pt x="546" y="4"/>
                    </a:lnTo>
                    <a:cubicBezTo>
                      <a:pt x="545" y="4"/>
                      <a:pt x="544" y="3"/>
                      <a:pt x="544" y="2"/>
                    </a:cubicBezTo>
                    <a:cubicBezTo>
                      <a:pt x="544" y="1"/>
                      <a:pt x="545" y="0"/>
                      <a:pt x="546" y="0"/>
                    </a:cubicBezTo>
                    <a:close/>
                    <a:moveTo>
                      <a:pt x="554" y="0"/>
                    </a:moveTo>
                    <a:lnTo>
                      <a:pt x="554" y="0"/>
                    </a:lnTo>
                    <a:cubicBezTo>
                      <a:pt x="555" y="0"/>
                      <a:pt x="556" y="1"/>
                      <a:pt x="556" y="2"/>
                    </a:cubicBezTo>
                    <a:cubicBezTo>
                      <a:pt x="556" y="3"/>
                      <a:pt x="555" y="4"/>
                      <a:pt x="554" y="4"/>
                    </a:cubicBezTo>
                    <a:lnTo>
                      <a:pt x="554" y="4"/>
                    </a:lnTo>
                    <a:cubicBezTo>
                      <a:pt x="553" y="4"/>
                      <a:pt x="552" y="3"/>
                      <a:pt x="552" y="2"/>
                    </a:cubicBezTo>
                    <a:cubicBezTo>
                      <a:pt x="552" y="1"/>
                      <a:pt x="553" y="0"/>
                      <a:pt x="554" y="0"/>
                    </a:cubicBezTo>
                    <a:close/>
                    <a:moveTo>
                      <a:pt x="562" y="0"/>
                    </a:moveTo>
                    <a:lnTo>
                      <a:pt x="562" y="0"/>
                    </a:lnTo>
                    <a:cubicBezTo>
                      <a:pt x="563" y="0"/>
                      <a:pt x="564" y="1"/>
                      <a:pt x="564" y="2"/>
                    </a:cubicBezTo>
                    <a:cubicBezTo>
                      <a:pt x="564" y="3"/>
                      <a:pt x="563" y="4"/>
                      <a:pt x="562" y="4"/>
                    </a:cubicBezTo>
                    <a:lnTo>
                      <a:pt x="562" y="4"/>
                    </a:lnTo>
                    <a:cubicBezTo>
                      <a:pt x="561" y="4"/>
                      <a:pt x="560" y="3"/>
                      <a:pt x="560" y="2"/>
                    </a:cubicBezTo>
                    <a:cubicBezTo>
                      <a:pt x="560" y="1"/>
                      <a:pt x="561" y="0"/>
                      <a:pt x="562" y="0"/>
                    </a:cubicBezTo>
                    <a:close/>
                    <a:moveTo>
                      <a:pt x="570" y="0"/>
                    </a:moveTo>
                    <a:lnTo>
                      <a:pt x="570" y="0"/>
                    </a:lnTo>
                    <a:cubicBezTo>
                      <a:pt x="571" y="0"/>
                      <a:pt x="572" y="1"/>
                      <a:pt x="572" y="2"/>
                    </a:cubicBezTo>
                    <a:cubicBezTo>
                      <a:pt x="572" y="3"/>
                      <a:pt x="571" y="4"/>
                      <a:pt x="570" y="4"/>
                    </a:cubicBezTo>
                    <a:lnTo>
                      <a:pt x="570" y="4"/>
                    </a:lnTo>
                    <a:cubicBezTo>
                      <a:pt x="569" y="4"/>
                      <a:pt x="568" y="3"/>
                      <a:pt x="568" y="2"/>
                    </a:cubicBezTo>
                    <a:cubicBezTo>
                      <a:pt x="568" y="1"/>
                      <a:pt x="569" y="0"/>
                      <a:pt x="570" y="0"/>
                    </a:cubicBezTo>
                    <a:close/>
                    <a:moveTo>
                      <a:pt x="578" y="0"/>
                    </a:moveTo>
                    <a:lnTo>
                      <a:pt x="578" y="0"/>
                    </a:lnTo>
                    <a:cubicBezTo>
                      <a:pt x="579" y="0"/>
                      <a:pt x="580" y="1"/>
                      <a:pt x="580" y="2"/>
                    </a:cubicBezTo>
                    <a:cubicBezTo>
                      <a:pt x="580" y="3"/>
                      <a:pt x="579" y="4"/>
                      <a:pt x="578" y="4"/>
                    </a:cubicBezTo>
                    <a:lnTo>
                      <a:pt x="578" y="4"/>
                    </a:lnTo>
                    <a:cubicBezTo>
                      <a:pt x="577" y="4"/>
                      <a:pt x="576" y="3"/>
                      <a:pt x="576" y="2"/>
                    </a:cubicBezTo>
                    <a:cubicBezTo>
                      <a:pt x="576" y="1"/>
                      <a:pt x="577" y="0"/>
                      <a:pt x="578" y="0"/>
                    </a:cubicBezTo>
                    <a:close/>
                    <a:moveTo>
                      <a:pt x="586" y="0"/>
                    </a:moveTo>
                    <a:lnTo>
                      <a:pt x="586" y="0"/>
                    </a:lnTo>
                    <a:cubicBezTo>
                      <a:pt x="587" y="0"/>
                      <a:pt x="588" y="1"/>
                      <a:pt x="588" y="2"/>
                    </a:cubicBezTo>
                    <a:cubicBezTo>
                      <a:pt x="588" y="3"/>
                      <a:pt x="587" y="4"/>
                      <a:pt x="586" y="4"/>
                    </a:cubicBezTo>
                    <a:lnTo>
                      <a:pt x="586" y="4"/>
                    </a:lnTo>
                    <a:cubicBezTo>
                      <a:pt x="585" y="4"/>
                      <a:pt x="584" y="3"/>
                      <a:pt x="584" y="2"/>
                    </a:cubicBezTo>
                    <a:cubicBezTo>
                      <a:pt x="584" y="1"/>
                      <a:pt x="585" y="0"/>
                      <a:pt x="586" y="0"/>
                    </a:cubicBezTo>
                    <a:close/>
                    <a:moveTo>
                      <a:pt x="594" y="0"/>
                    </a:moveTo>
                    <a:lnTo>
                      <a:pt x="594" y="0"/>
                    </a:lnTo>
                    <a:cubicBezTo>
                      <a:pt x="595" y="0"/>
                      <a:pt x="596" y="1"/>
                      <a:pt x="596" y="2"/>
                    </a:cubicBezTo>
                    <a:cubicBezTo>
                      <a:pt x="596" y="3"/>
                      <a:pt x="595" y="4"/>
                      <a:pt x="594" y="4"/>
                    </a:cubicBezTo>
                    <a:lnTo>
                      <a:pt x="594" y="4"/>
                    </a:lnTo>
                    <a:cubicBezTo>
                      <a:pt x="593" y="4"/>
                      <a:pt x="592" y="3"/>
                      <a:pt x="592" y="2"/>
                    </a:cubicBezTo>
                    <a:cubicBezTo>
                      <a:pt x="592" y="1"/>
                      <a:pt x="593" y="0"/>
                      <a:pt x="594" y="0"/>
                    </a:cubicBezTo>
                    <a:close/>
                    <a:moveTo>
                      <a:pt x="602" y="0"/>
                    </a:moveTo>
                    <a:lnTo>
                      <a:pt x="602" y="0"/>
                    </a:lnTo>
                    <a:cubicBezTo>
                      <a:pt x="603" y="0"/>
                      <a:pt x="604" y="1"/>
                      <a:pt x="604" y="2"/>
                    </a:cubicBezTo>
                    <a:cubicBezTo>
                      <a:pt x="604" y="3"/>
                      <a:pt x="603" y="4"/>
                      <a:pt x="602" y="4"/>
                    </a:cubicBezTo>
                    <a:lnTo>
                      <a:pt x="602" y="4"/>
                    </a:lnTo>
                    <a:cubicBezTo>
                      <a:pt x="601" y="4"/>
                      <a:pt x="600" y="3"/>
                      <a:pt x="600" y="2"/>
                    </a:cubicBezTo>
                    <a:cubicBezTo>
                      <a:pt x="600" y="1"/>
                      <a:pt x="601" y="0"/>
                      <a:pt x="602" y="0"/>
                    </a:cubicBezTo>
                    <a:close/>
                    <a:moveTo>
                      <a:pt x="610" y="0"/>
                    </a:moveTo>
                    <a:lnTo>
                      <a:pt x="610" y="0"/>
                    </a:lnTo>
                    <a:cubicBezTo>
                      <a:pt x="611" y="0"/>
                      <a:pt x="612" y="1"/>
                      <a:pt x="612" y="2"/>
                    </a:cubicBezTo>
                    <a:cubicBezTo>
                      <a:pt x="612" y="3"/>
                      <a:pt x="611" y="4"/>
                      <a:pt x="610" y="4"/>
                    </a:cubicBezTo>
                    <a:lnTo>
                      <a:pt x="610" y="4"/>
                    </a:lnTo>
                    <a:cubicBezTo>
                      <a:pt x="609" y="4"/>
                      <a:pt x="608" y="3"/>
                      <a:pt x="608" y="2"/>
                    </a:cubicBezTo>
                    <a:cubicBezTo>
                      <a:pt x="608" y="1"/>
                      <a:pt x="609" y="0"/>
                      <a:pt x="610" y="0"/>
                    </a:cubicBezTo>
                    <a:close/>
                    <a:moveTo>
                      <a:pt x="618" y="0"/>
                    </a:moveTo>
                    <a:lnTo>
                      <a:pt x="618" y="0"/>
                    </a:lnTo>
                    <a:cubicBezTo>
                      <a:pt x="619" y="0"/>
                      <a:pt x="620" y="1"/>
                      <a:pt x="620" y="2"/>
                    </a:cubicBezTo>
                    <a:cubicBezTo>
                      <a:pt x="620" y="3"/>
                      <a:pt x="619" y="4"/>
                      <a:pt x="618" y="4"/>
                    </a:cubicBezTo>
                    <a:lnTo>
                      <a:pt x="618" y="4"/>
                    </a:lnTo>
                    <a:cubicBezTo>
                      <a:pt x="617" y="4"/>
                      <a:pt x="616" y="3"/>
                      <a:pt x="616" y="2"/>
                    </a:cubicBezTo>
                    <a:cubicBezTo>
                      <a:pt x="616" y="1"/>
                      <a:pt x="617" y="0"/>
                      <a:pt x="618" y="0"/>
                    </a:cubicBezTo>
                    <a:close/>
                    <a:moveTo>
                      <a:pt x="626" y="0"/>
                    </a:moveTo>
                    <a:lnTo>
                      <a:pt x="626" y="0"/>
                    </a:lnTo>
                    <a:cubicBezTo>
                      <a:pt x="627" y="0"/>
                      <a:pt x="628" y="1"/>
                      <a:pt x="628" y="2"/>
                    </a:cubicBezTo>
                    <a:cubicBezTo>
                      <a:pt x="628" y="3"/>
                      <a:pt x="627" y="4"/>
                      <a:pt x="626" y="4"/>
                    </a:cubicBezTo>
                    <a:lnTo>
                      <a:pt x="626" y="4"/>
                    </a:lnTo>
                    <a:cubicBezTo>
                      <a:pt x="625" y="4"/>
                      <a:pt x="624" y="3"/>
                      <a:pt x="624" y="2"/>
                    </a:cubicBezTo>
                    <a:cubicBezTo>
                      <a:pt x="624" y="1"/>
                      <a:pt x="625" y="0"/>
                      <a:pt x="626" y="0"/>
                    </a:cubicBezTo>
                    <a:close/>
                    <a:moveTo>
                      <a:pt x="634" y="0"/>
                    </a:moveTo>
                    <a:lnTo>
                      <a:pt x="634" y="0"/>
                    </a:lnTo>
                    <a:cubicBezTo>
                      <a:pt x="635" y="0"/>
                      <a:pt x="636" y="1"/>
                      <a:pt x="636" y="2"/>
                    </a:cubicBezTo>
                    <a:cubicBezTo>
                      <a:pt x="636" y="3"/>
                      <a:pt x="635" y="4"/>
                      <a:pt x="634" y="4"/>
                    </a:cubicBezTo>
                    <a:lnTo>
                      <a:pt x="634" y="4"/>
                    </a:lnTo>
                    <a:cubicBezTo>
                      <a:pt x="633" y="4"/>
                      <a:pt x="632" y="3"/>
                      <a:pt x="632" y="2"/>
                    </a:cubicBezTo>
                    <a:cubicBezTo>
                      <a:pt x="632" y="1"/>
                      <a:pt x="633" y="0"/>
                      <a:pt x="634" y="0"/>
                    </a:cubicBezTo>
                    <a:close/>
                    <a:moveTo>
                      <a:pt x="642" y="0"/>
                    </a:moveTo>
                    <a:lnTo>
                      <a:pt x="642" y="0"/>
                    </a:lnTo>
                    <a:cubicBezTo>
                      <a:pt x="643" y="0"/>
                      <a:pt x="644" y="1"/>
                      <a:pt x="644" y="2"/>
                    </a:cubicBezTo>
                    <a:cubicBezTo>
                      <a:pt x="644" y="3"/>
                      <a:pt x="643" y="4"/>
                      <a:pt x="642" y="4"/>
                    </a:cubicBezTo>
                    <a:lnTo>
                      <a:pt x="642" y="4"/>
                    </a:lnTo>
                    <a:cubicBezTo>
                      <a:pt x="641" y="4"/>
                      <a:pt x="640" y="3"/>
                      <a:pt x="640" y="2"/>
                    </a:cubicBezTo>
                    <a:cubicBezTo>
                      <a:pt x="640" y="1"/>
                      <a:pt x="641" y="0"/>
                      <a:pt x="642" y="0"/>
                    </a:cubicBezTo>
                    <a:close/>
                    <a:moveTo>
                      <a:pt x="650" y="0"/>
                    </a:moveTo>
                    <a:lnTo>
                      <a:pt x="650" y="0"/>
                    </a:lnTo>
                    <a:cubicBezTo>
                      <a:pt x="651" y="0"/>
                      <a:pt x="652" y="1"/>
                      <a:pt x="652" y="2"/>
                    </a:cubicBezTo>
                    <a:cubicBezTo>
                      <a:pt x="652" y="3"/>
                      <a:pt x="651" y="4"/>
                      <a:pt x="650" y="4"/>
                    </a:cubicBezTo>
                    <a:lnTo>
                      <a:pt x="650" y="4"/>
                    </a:lnTo>
                    <a:cubicBezTo>
                      <a:pt x="649" y="4"/>
                      <a:pt x="648" y="3"/>
                      <a:pt x="648" y="2"/>
                    </a:cubicBezTo>
                    <a:cubicBezTo>
                      <a:pt x="648" y="1"/>
                      <a:pt x="649" y="0"/>
                      <a:pt x="650" y="0"/>
                    </a:cubicBezTo>
                    <a:close/>
                    <a:moveTo>
                      <a:pt x="658" y="0"/>
                    </a:moveTo>
                    <a:lnTo>
                      <a:pt x="658" y="0"/>
                    </a:lnTo>
                    <a:cubicBezTo>
                      <a:pt x="659" y="0"/>
                      <a:pt x="660" y="1"/>
                      <a:pt x="660" y="2"/>
                    </a:cubicBezTo>
                    <a:cubicBezTo>
                      <a:pt x="660" y="3"/>
                      <a:pt x="659" y="4"/>
                      <a:pt x="658" y="4"/>
                    </a:cubicBezTo>
                    <a:lnTo>
                      <a:pt x="658" y="4"/>
                    </a:lnTo>
                    <a:cubicBezTo>
                      <a:pt x="657" y="4"/>
                      <a:pt x="656" y="3"/>
                      <a:pt x="656" y="2"/>
                    </a:cubicBezTo>
                    <a:cubicBezTo>
                      <a:pt x="656" y="1"/>
                      <a:pt x="657" y="0"/>
                      <a:pt x="658" y="0"/>
                    </a:cubicBezTo>
                    <a:close/>
                    <a:moveTo>
                      <a:pt x="666" y="0"/>
                    </a:moveTo>
                    <a:lnTo>
                      <a:pt x="666" y="0"/>
                    </a:lnTo>
                    <a:cubicBezTo>
                      <a:pt x="667" y="0"/>
                      <a:pt x="668" y="1"/>
                      <a:pt x="668" y="2"/>
                    </a:cubicBezTo>
                    <a:cubicBezTo>
                      <a:pt x="668" y="3"/>
                      <a:pt x="667" y="4"/>
                      <a:pt x="666" y="4"/>
                    </a:cubicBezTo>
                    <a:lnTo>
                      <a:pt x="666" y="4"/>
                    </a:lnTo>
                    <a:cubicBezTo>
                      <a:pt x="665" y="4"/>
                      <a:pt x="664" y="3"/>
                      <a:pt x="664" y="2"/>
                    </a:cubicBezTo>
                    <a:cubicBezTo>
                      <a:pt x="664" y="1"/>
                      <a:pt x="665" y="0"/>
                      <a:pt x="666" y="0"/>
                    </a:cubicBezTo>
                    <a:close/>
                    <a:moveTo>
                      <a:pt x="674" y="0"/>
                    </a:moveTo>
                    <a:lnTo>
                      <a:pt x="674" y="0"/>
                    </a:lnTo>
                    <a:cubicBezTo>
                      <a:pt x="675" y="0"/>
                      <a:pt x="676" y="1"/>
                      <a:pt x="676" y="2"/>
                    </a:cubicBezTo>
                    <a:cubicBezTo>
                      <a:pt x="676" y="3"/>
                      <a:pt x="675" y="4"/>
                      <a:pt x="674" y="4"/>
                    </a:cubicBezTo>
                    <a:lnTo>
                      <a:pt x="674" y="4"/>
                    </a:lnTo>
                    <a:cubicBezTo>
                      <a:pt x="673" y="4"/>
                      <a:pt x="672" y="3"/>
                      <a:pt x="672" y="2"/>
                    </a:cubicBezTo>
                    <a:cubicBezTo>
                      <a:pt x="672" y="1"/>
                      <a:pt x="673" y="0"/>
                      <a:pt x="674" y="0"/>
                    </a:cubicBezTo>
                    <a:close/>
                    <a:moveTo>
                      <a:pt x="682" y="0"/>
                    </a:moveTo>
                    <a:lnTo>
                      <a:pt x="682" y="0"/>
                    </a:lnTo>
                    <a:cubicBezTo>
                      <a:pt x="683" y="0"/>
                      <a:pt x="684" y="1"/>
                      <a:pt x="684" y="2"/>
                    </a:cubicBezTo>
                    <a:cubicBezTo>
                      <a:pt x="684" y="3"/>
                      <a:pt x="683" y="4"/>
                      <a:pt x="682" y="4"/>
                    </a:cubicBezTo>
                    <a:lnTo>
                      <a:pt x="682" y="4"/>
                    </a:lnTo>
                    <a:cubicBezTo>
                      <a:pt x="681" y="4"/>
                      <a:pt x="680" y="3"/>
                      <a:pt x="680" y="2"/>
                    </a:cubicBezTo>
                    <a:cubicBezTo>
                      <a:pt x="680" y="1"/>
                      <a:pt x="681" y="0"/>
                      <a:pt x="682" y="0"/>
                    </a:cubicBezTo>
                    <a:close/>
                    <a:moveTo>
                      <a:pt x="690" y="0"/>
                    </a:moveTo>
                    <a:lnTo>
                      <a:pt x="690" y="0"/>
                    </a:lnTo>
                    <a:cubicBezTo>
                      <a:pt x="691" y="0"/>
                      <a:pt x="692" y="1"/>
                      <a:pt x="692" y="2"/>
                    </a:cubicBezTo>
                    <a:cubicBezTo>
                      <a:pt x="692" y="3"/>
                      <a:pt x="691" y="4"/>
                      <a:pt x="690" y="4"/>
                    </a:cubicBezTo>
                    <a:lnTo>
                      <a:pt x="690" y="4"/>
                    </a:lnTo>
                    <a:cubicBezTo>
                      <a:pt x="689" y="4"/>
                      <a:pt x="688" y="3"/>
                      <a:pt x="688" y="2"/>
                    </a:cubicBezTo>
                    <a:cubicBezTo>
                      <a:pt x="688" y="1"/>
                      <a:pt x="689" y="0"/>
                      <a:pt x="690" y="0"/>
                    </a:cubicBezTo>
                    <a:close/>
                    <a:moveTo>
                      <a:pt x="698" y="0"/>
                    </a:moveTo>
                    <a:lnTo>
                      <a:pt x="698" y="0"/>
                    </a:lnTo>
                    <a:cubicBezTo>
                      <a:pt x="699" y="0"/>
                      <a:pt x="700" y="1"/>
                      <a:pt x="700" y="2"/>
                    </a:cubicBezTo>
                    <a:cubicBezTo>
                      <a:pt x="700" y="3"/>
                      <a:pt x="699" y="4"/>
                      <a:pt x="698" y="4"/>
                    </a:cubicBezTo>
                    <a:lnTo>
                      <a:pt x="698" y="4"/>
                    </a:lnTo>
                    <a:cubicBezTo>
                      <a:pt x="697" y="4"/>
                      <a:pt x="696" y="3"/>
                      <a:pt x="696" y="2"/>
                    </a:cubicBezTo>
                    <a:cubicBezTo>
                      <a:pt x="696" y="1"/>
                      <a:pt x="697" y="0"/>
                      <a:pt x="698" y="0"/>
                    </a:cubicBezTo>
                    <a:close/>
                    <a:moveTo>
                      <a:pt x="706" y="0"/>
                    </a:moveTo>
                    <a:lnTo>
                      <a:pt x="706" y="0"/>
                    </a:lnTo>
                    <a:cubicBezTo>
                      <a:pt x="707" y="0"/>
                      <a:pt x="708" y="1"/>
                      <a:pt x="708" y="2"/>
                    </a:cubicBezTo>
                    <a:cubicBezTo>
                      <a:pt x="708" y="3"/>
                      <a:pt x="707" y="4"/>
                      <a:pt x="706" y="4"/>
                    </a:cubicBezTo>
                    <a:lnTo>
                      <a:pt x="706" y="4"/>
                    </a:lnTo>
                    <a:cubicBezTo>
                      <a:pt x="705" y="4"/>
                      <a:pt x="704" y="3"/>
                      <a:pt x="704" y="2"/>
                    </a:cubicBezTo>
                    <a:cubicBezTo>
                      <a:pt x="704" y="1"/>
                      <a:pt x="705" y="0"/>
                      <a:pt x="706" y="0"/>
                    </a:cubicBezTo>
                    <a:close/>
                    <a:moveTo>
                      <a:pt x="714" y="0"/>
                    </a:moveTo>
                    <a:lnTo>
                      <a:pt x="714" y="0"/>
                    </a:lnTo>
                    <a:cubicBezTo>
                      <a:pt x="715" y="0"/>
                      <a:pt x="716" y="1"/>
                      <a:pt x="716" y="2"/>
                    </a:cubicBezTo>
                    <a:cubicBezTo>
                      <a:pt x="716" y="3"/>
                      <a:pt x="715" y="4"/>
                      <a:pt x="714" y="4"/>
                    </a:cubicBezTo>
                    <a:lnTo>
                      <a:pt x="714" y="4"/>
                    </a:lnTo>
                    <a:cubicBezTo>
                      <a:pt x="713" y="4"/>
                      <a:pt x="712" y="3"/>
                      <a:pt x="712" y="2"/>
                    </a:cubicBezTo>
                    <a:cubicBezTo>
                      <a:pt x="712" y="1"/>
                      <a:pt x="713" y="0"/>
                      <a:pt x="714" y="0"/>
                    </a:cubicBezTo>
                    <a:close/>
                    <a:moveTo>
                      <a:pt x="722" y="0"/>
                    </a:moveTo>
                    <a:lnTo>
                      <a:pt x="722" y="0"/>
                    </a:lnTo>
                    <a:cubicBezTo>
                      <a:pt x="723" y="0"/>
                      <a:pt x="724" y="1"/>
                      <a:pt x="724" y="2"/>
                    </a:cubicBezTo>
                    <a:cubicBezTo>
                      <a:pt x="724" y="3"/>
                      <a:pt x="723" y="4"/>
                      <a:pt x="722" y="4"/>
                    </a:cubicBezTo>
                    <a:lnTo>
                      <a:pt x="722" y="4"/>
                    </a:lnTo>
                    <a:cubicBezTo>
                      <a:pt x="721" y="4"/>
                      <a:pt x="720" y="3"/>
                      <a:pt x="720" y="2"/>
                    </a:cubicBezTo>
                    <a:cubicBezTo>
                      <a:pt x="720" y="1"/>
                      <a:pt x="721" y="0"/>
                      <a:pt x="722" y="0"/>
                    </a:cubicBezTo>
                    <a:close/>
                    <a:moveTo>
                      <a:pt x="730" y="0"/>
                    </a:moveTo>
                    <a:lnTo>
                      <a:pt x="730" y="0"/>
                    </a:lnTo>
                    <a:cubicBezTo>
                      <a:pt x="731" y="0"/>
                      <a:pt x="732" y="1"/>
                      <a:pt x="732" y="2"/>
                    </a:cubicBezTo>
                    <a:cubicBezTo>
                      <a:pt x="732" y="3"/>
                      <a:pt x="731" y="4"/>
                      <a:pt x="730" y="4"/>
                    </a:cubicBezTo>
                    <a:lnTo>
                      <a:pt x="730" y="4"/>
                    </a:lnTo>
                    <a:cubicBezTo>
                      <a:pt x="729" y="4"/>
                      <a:pt x="728" y="3"/>
                      <a:pt x="728" y="2"/>
                    </a:cubicBezTo>
                    <a:cubicBezTo>
                      <a:pt x="728" y="1"/>
                      <a:pt x="729" y="0"/>
                      <a:pt x="730" y="0"/>
                    </a:cubicBezTo>
                    <a:close/>
                    <a:moveTo>
                      <a:pt x="738" y="0"/>
                    </a:moveTo>
                    <a:lnTo>
                      <a:pt x="738" y="0"/>
                    </a:lnTo>
                    <a:cubicBezTo>
                      <a:pt x="739" y="0"/>
                      <a:pt x="740" y="1"/>
                      <a:pt x="740" y="2"/>
                    </a:cubicBezTo>
                    <a:cubicBezTo>
                      <a:pt x="740" y="3"/>
                      <a:pt x="739" y="4"/>
                      <a:pt x="738" y="4"/>
                    </a:cubicBezTo>
                    <a:lnTo>
                      <a:pt x="738" y="4"/>
                    </a:lnTo>
                    <a:cubicBezTo>
                      <a:pt x="737" y="4"/>
                      <a:pt x="736" y="3"/>
                      <a:pt x="736" y="2"/>
                    </a:cubicBezTo>
                    <a:cubicBezTo>
                      <a:pt x="736" y="1"/>
                      <a:pt x="737" y="0"/>
                      <a:pt x="738" y="0"/>
                    </a:cubicBezTo>
                    <a:close/>
                    <a:moveTo>
                      <a:pt x="746" y="0"/>
                    </a:moveTo>
                    <a:lnTo>
                      <a:pt x="746" y="0"/>
                    </a:lnTo>
                    <a:cubicBezTo>
                      <a:pt x="747" y="0"/>
                      <a:pt x="748" y="1"/>
                      <a:pt x="748" y="2"/>
                    </a:cubicBezTo>
                    <a:cubicBezTo>
                      <a:pt x="748" y="3"/>
                      <a:pt x="747" y="4"/>
                      <a:pt x="746" y="4"/>
                    </a:cubicBezTo>
                    <a:lnTo>
                      <a:pt x="746" y="4"/>
                    </a:lnTo>
                    <a:cubicBezTo>
                      <a:pt x="745" y="4"/>
                      <a:pt x="744" y="3"/>
                      <a:pt x="744" y="2"/>
                    </a:cubicBezTo>
                    <a:cubicBezTo>
                      <a:pt x="744" y="1"/>
                      <a:pt x="745" y="0"/>
                      <a:pt x="746" y="0"/>
                    </a:cubicBezTo>
                    <a:close/>
                    <a:moveTo>
                      <a:pt x="754" y="0"/>
                    </a:moveTo>
                    <a:lnTo>
                      <a:pt x="754" y="0"/>
                    </a:lnTo>
                    <a:cubicBezTo>
                      <a:pt x="755" y="0"/>
                      <a:pt x="756" y="1"/>
                      <a:pt x="756" y="2"/>
                    </a:cubicBezTo>
                    <a:cubicBezTo>
                      <a:pt x="756" y="3"/>
                      <a:pt x="755" y="4"/>
                      <a:pt x="754" y="4"/>
                    </a:cubicBezTo>
                    <a:lnTo>
                      <a:pt x="754" y="4"/>
                    </a:lnTo>
                    <a:cubicBezTo>
                      <a:pt x="753" y="4"/>
                      <a:pt x="752" y="3"/>
                      <a:pt x="752" y="2"/>
                    </a:cubicBezTo>
                    <a:cubicBezTo>
                      <a:pt x="752" y="1"/>
                      <a:pt x="753" y="0"/>
                      <a:pt x="754" y="0"/>
                    </a:cubicBezTo>
                    <a:close/>
                    <a:moveTo>
                      <a:pt x="762" y="0"/>
                    </a:moveTo>
                    <a:lnTo>
                      <a:pt x="762" y="0"/>
                    </a:lnTo>
                    <a:cubicBezTo>
                      <a:pt x="763" y="0"/>
                      <a:pt x="764" y="1"/>
                      <a:pt x="764" y="2"/>
                    </a:cubicBezTo>
                    <a:cubicBezTo>
                      <a:pt x="764" y="3"/>
                      <a:pt x="763" y="4"/>
                      <a:pt x="762" y="4"/>
                    </a:cubicBezTo>
                    <a:lnTo>
                      <a:pt x="762" y="4"/>
                    </a:lnTo>
                    <a:cubicBezTo>
                      <a:pt x="761" y="4"/>
                      <a:pt x="760" y="3"/>
                      <a:pt x="760" y="2"/>
                    </a:cubicBezTo>
                    <a:cubicBezTo>
                      <a:pt x="760" y="1"/>
                      <a:pt x="761" y="0"/>
                      <a:pt x="762" y="0"/>
                    </a:cubicBezTo>
                    <a:close/>
                    <a:moveTo>
                      <a:pt x="770" y="0"/>
                    </a:moveTo>
                    <a:lnTo>
                      <a:pt x="770" y="0"/>
                    </a:lnTo>
                    <a:cubicBezTo>
                      <a:pt x="771" y="0"/>
                      <a:pt x="772" y="1"/>
                      <a:pt x="772" y="2"/>
                    </a:cubicBezTo>
                    <a:cubicBezTo>
                      <a:pt x="772" y="3"/>
                      <a:pt x="771" y="4"/>
                      <a:pt x="770" y="4"/>
                    </a:cubicBezTo>
                    <a:lnTo>
                      <a:pt x="770" y="4"/>
                    </a:lnTo>
                    <a:cubicBezTo>
                      <a:pt x="769" y="4"/>
                      <a:pt x="768" y="3"/>
                      <a:pt x="768" y="2"/>
                    </a:cubicBezTo>
                    <a:cubicBezTo>
                      <a:pt x="768" y="1"/>
                      <a:pt x="769" y="0"/>
                      <a:pt x="770" y="0"/>
                    </a:cubicBezTo>
                    <a:close/>
                    <a:moveTo>
                      <a:pt x="778" y="0"/>
                    </a:moveTo>
                    <a:lnTo>
                      <a:pt x="778" y="0"/>
                    </a:lnTo>
                    <a:cubicBezTo>
                      <a:pt x="779" y="0"/>
                      <a:pt x="780" y="1"/>
                      <a:pt x="780" y="2"/>
                    </a:cubicBezTo>
                    <a:cubicBezTo>
                      <a:pt x="780" y="3"/>
                      <a:pt x="779" y="4"/>
                      <a:pt x="778" y="4"/>
                    </a:cubicBezTo>
                    <a:lnTo>
                      <a:pt x="778" y="4"/>
                    </a:lnTo>
                    <a:cubicBezTo>
                      <a:pt x="777" y="4"/>
                      <a:pt x="776" y="3"/>
                      <a:pt x="776" y="2"/>
                    </a:cubicBezTo>
                    <a:cubicBezTo>
                      <a:pt x="776" y="1"/>
                      <a:pt x="777" y="0"/>
                      <a:pt x="778" y="0"/>
                    </a:cubicBezTo>
                    <a:close/>
                    <a:moveTo>
                      <a:pt x="786" y="0"/>
                    </a:moveTo>
                    <a:lnTo>
                      <a:pt x="786" y="0"/>
                    </a:lnTo>
                    <a:cubicBezTo>
                      <a:pt x="787" y="0"/>
                      <a:pt x="788" y="1"/>
                      <a:pt x="788" y="2"/>
                    </a:cubicBezTo>
                    <a:cubicBezTo>
                      <a:pt x="788" y="3"/>
                      <a:pt x="787" y="4"/>
                      <a:pt x="786" y="4"/>
                    </a:cubicBezTo>
                    <a:lnTo>
                      <a:pt x="786" y="4"/>
                    </a:lnTo>
                    <a:cubicBezTo>
                      <a:pt x="785" y="4"/>
                      <a:pt x="784" y="3"/>
                      <a:pt x="784" y="2"/>
                    </a:cubicBezTo>
                    <a:cubicBezTo>
                      <a:pt x="784" y="1"/>
                      <a:pt x="785" y="0"/>
                      <a:pt x="786" y="0"/>
                    </a:cubicBezTo>
                    <a:close/>
                    <a:moveTo>
                      <a:pt x="794" y="0"/>
                    </a:moveTo>
                    <a:lnTo>
                      <a:pt x="794" y="0"/>
                    </a:lnTo>
                    <a:cubicBezTo>
                      <a:pt x="795" y="0"/>
                      <a:pt x="796" y="1"/>
                      <a:pt x="796" y="2"/>
                    </a:cubicBezTo>
                    <a:cubicBezTo>
                      <a:pt x="796" y="3"/>
                      <a:pt x="795" y="4"/>
                      <a:pt x="794" y="4"/>
                    </a:cubicBezTo>
                    <a:lnTo>
                      <a:pt x="794" y="4"/>
                    </a:lnTo>
                    <a:cubicBezTo>
                      <a:pt x="793" y="4"/>
                      <a:pt x="792" y="3"/>
                      <a:pt x="792" y="2"/>
                    </a:cubicBezTo>
                    <a:cubicBezTo>
                      <a:pt x="792" y="1"/>
                      <a:pt x="793" y="0"/>
                      <a:pt x="794" y="0"/>
                    </a:cubicBezTo>
                    <a:close/>
                    <a:moveTo>
                      <a:pt x="802" y="0"/>
                    </a:moveTo>
                    <a:lnTo>
                      <a:pt x="802" y="0"/>
                    </a:lnTo>
                    <a:cubicBezTo>
                      <a:pt x="803" y="0"/>
                      <a:pt x="804" y="1"/>
                      <a:pt x="804" y="2"/>
                    </a:cubicBezTo>
                    <a:cubicBezTo>
                      <a:pt x="804" y="3"/>
                      <a:pt x="803" y="4"/>
                      <a:pt x="802" y="4"/>
                    </a:cubicBezTo>
                    <a:lnTo>
                      <a:pt x="802" y="4"/>
                    </a:lnTo>
                    <a:cubicBezTo>
                      <a:pt x="801" y="4"/>
                      <a:pt x="800" y="3"/>
                      <a:pt x="800" y="2"/>
                    </a:cubicBezTo>
                    <a:cubicBezTo>
                      <a:pt x="800" y="1"/>
                      <a:pt x="801" y="0"/>
                      <a:pt x="802" y="0"/>
                    </a:cubicBezTo>
                    <a:close/>
                    <a:moveTo>
                      <a:pt x="810" y="0"/>
                    </a:moveTo>
                    <a:lnTo>
                      <a:pt x="810" y="0"/>
                    </a:lnTo>
                    <a:cubicBezTo>
                      <a:pt x="811" y="0"/>
                      <a:pt x="812" y="1"/>
                      <a:pt x="812" y="2"/>
                    </a:cubicBezTo>
                    <a:cubicBezTo>
                      <a:pt x="812" y="3"/>
                      <a:pt x="811" y="4"/>
                      <a:pt x="810" y="4"/>
                    </a:cubicBezTo>
                    <a:lnTo>
                      <a:pt x="810" y="4"/>
                    </a:lnTo>
                    <a:cubicBezTo>
                      <a:pt x="809" y="4"/>
                      <a:pt x="808" y="3"/>
                      <a:pt x="808" y="2"/>
                    </a:cubicBezTo>
                    <a:cubicBezTo>
                      <a:pt x="808" y="1"/>
                      <a:pt x="809" y="0"/>
                      <a:pt x="810" y="0"/>
                    </a:cubicBezTo>
                    <a:close/>
                    <a:moveTo>
                      <a:pt x="818" y="0"/>
                    </a:moveTo>
                    <a:lnTo>
                      <a:pt x="818" y="0"/>
                    </a:lnTo>
                    <a:cubicBezTo>
                      <a:pt x="819" y="0"/>
                      <a:pt x="820" y="1"/>
                      <a:pt x="820" y="2"/>
                    </a:cubicBezTo>
                    <a:cubicBezTo>
                      <a:pt x="820" y="3"/>
                      <a:pt x="819" y="4"/>
                      <a:pt x="818" y="4"/>
                    </a:cubicBezTo>
                    <a:lnTo>
                      <a:pt x="818" y="4"/>
                    </a:lnTo>
                    <a:cubicBezTo>
                      <a:pt x="817" y="4"/>
                      <a:pt x="816" y="3"/>
                      <a:pt x="816" y="2"/>
                    </a:cubicBezTo>
                    <a:cubicBezTo>
                      <a:pt x="816" y="1"/>
                      <a:pt x="817" y="0"/>
                      <a:pt x="818" y="0"/>
                    </a:cubicBezTo>
                    <a:close/>
                    <a:moveTo>
                      <a:pt x="826" y="0"/>
                    </a:moveTo>
                    <a:lnTo>
                      <a:pt x="826" y="0"/>
                    </a:lnTo>
                    <a:cubicBezTo>
                      <a:pt x="827" y="0"/>
                      <a:pt x="828" y="1"/>
                      <a:pt x="828" y="2"/>
                    </a:cubicBezTo>
                    <a:cubicBezTo>
                      <a:pt x="828" y="3"/>
                      <a:pt x="827" y="4"/>
                      <a:pt x="826" y="4"/>
                    </a:cubicBezTo>
                    <a:lnTo>
                      <a:pt x="826" y="4"/>
                    </a:lnTo>
                    <a:cubicBezTo>
                      <a:pt x="825" y="4"/>
                      <a:pt x="824" y="3"/>
                      <a:pt x="824" y="2"/>
                    </a:cubicBezTo>
                    <a:cubicBezTo>
                      <a:pt x="824" y="1"/>
                      <a:pt x="825" y="0"/>
                      <a:pt x="826" y="0"/>
                    </a:cubicBezTo>
                    <a:close/>
                    <a:moveTo>
                      <a:pt x="834" y="0"/>
                    </a:moveTo>
                    <a:lnTo>
                      <a:pt x="834" y="0"/>
                    </a:lnTo>
                    <a:cubicBezTo>
                      <a:pt x="835" y="0"/>
                      <a:pt x="836" y="1"/>
                      <a:pt x="836" y="2"/>
                    </a:cubicBezTo>
                    <a:cubicBezTo>
                      <a:pt x="836" y="3"/>
                      <a:pt x="835" y="4"/>
                      <a:pt x="834" y="4"/>
                    </a:cubicBezTo>
                    <a:lnTo>
                      <a:pt x="834" y="4"/>
                    </a:lnTo>
                    <a:cubicBezTo>
                      <a:pt x="833" y="4"/>
                      <a:pt x="832" y="3"/>
                      <a:pt x="832" y="2"/>
                    </a:cubicBezTo>
                    <a:cubicBezTo>
                      <a:pt x="832" y="1"/>
                      <a:pt x="833" y="0"/>
                      <a:pt x="834" y="0"/>
                    </a:cubicBezTo>
                    <a:close/>
                    <a:moveTo>
                      <a:pt x="842" y="0"/>
                    </a:moveTo>
                    <a:lnTo>
                      <a:pt x="842" y="0"/>
                    </a:lnTo>
                    <a:cubicBezTo>
                      <a:pt x="843" y="0"/>
                      <a:pt x="844" y="1"/>
                      <a:pt x="844" y="2"/>
                    </a:cubicBezTo>
                    <a:cubicBezTo>
                      <a:pt x="844" y="3"/>
                      <a:pt x="843" y="4"/>
                      <a:pt x="842" y="4"/>
                    </a:cubicBezTo>
                    <a:lnTo>
                      <a:pt x="842" y="4"/>
                    </a:lnTo>
                    <a:cubicBezTo>
                      <a:pt x="841" y="4"/>
                      <a:pt x="840" y="3"/>
                      <a:pt x="840" y="2"/>
                    </a:cubicBezTo>
                    <a:cubicBezTo>
                      <a:pt x="840" y="1"/>
                      <a:pt x="841" y="0"/>
                      <a:pt x="842" y="0"/>
                    </a:cubicBezTo>
                    <a:close/>
                    <a:moveTo>
                      <a:pt x="850" y="0"/>
                    </a:moveTo>
                    <a:lnTo>
                      <a:pt x="850" y="0"/>
                    </a:lnTo>
                    <a:cubicBezTo>
                      <a:pt x="851" y="0"/>
                      <a:pt x="852" y="1"/>
                      <a:pt x="852" y="2"/>
                    </a:cubicBezTo>
                    <a:cubicBezTo>
                      <a:pt x="852" y="3"/>
                      <a:pt x="851" y="4"/>
                      <a:pt x="850" y="4"/>
                    </a:cubicBezTo>
                    <a:lnTo>
                      <a:pt x="850" y="4"/>
                    </a:lnTo>
                    <a:cubicBezTo>
                      <a:pt x="849" y="4"/>
                      <a:pt x="848" y="3"/>
                      <a:pt x="848" y="2"/>
                    </a:cubicBezTo>
                    <a:cubicBezTo>
                      <a:pt x="848" y="1"/>
                      <a:pt x="849" y="0"/>
                      <a:pt x="850" y="0"/>
                    </a:cubicBezTo>
                    <a:close/>
                    <a:moveTo>
                      <a:pt x="858" y="0"/>
                    </a:moveTo>
                    <a:lnTo>
                      <a:pt x="858" y="0"/>
                    </a:lnTo>
                    <a:cubicBezTo>
                      <a:pt x="859" y="0"/>
                      <a:pt x="860" y="1"/>
                      <a:pt x="860" y="2"/>
                    </a:cubicBezTo>
                    <a:cubicBezTo>
                      <a:pt x="860" y="3"/>
                      <a:pt x="859" y="4"/>
                      <a:pt x="858" y="4"/>
                    </a:cubicBezTo>
                    <a:lnTo>
                      <a:pt x="858" y="4"/>
                    </a:lnTo>
                    <a:cubicBezTo>
                      <a:pt x="857" y="4"/>
                      <a:pt x="856" y="3"/>
                      <a:pt x="856" y="2"/>
                    </a:cubicBezTo>
                    <a:cubicBezTo>
                      <a:pt x="856" y="1"/>
                      <a:pt x="857" y="0"/>
                      <a:pt x="858" y="0"/>
                    </a:cubicBezTo>
                    <a:close/>
                    <a:moveTo>
                      <a:pt x="866" y="0"/>
                    </a:moveTo>
                    <a:lnTo>
                      <a:pt x="866" y="0"/>
                    </a:lnTo>
                    <a:cubicBezTo>
                      <a:pt x="867" y="0"/>
                      <a:pt x="868" y="1"/>
                      <a:pt x="868" y="2"/>
                    </a:cubicBezTo>
                    <a:cubicBezTo>
                      <a:pt x="868" y="3"/>
                      <a:pt x="867" y="4"/>
                      <a:pt x="866" y="4"/>
                    </a:cubicBezTo>
                    <a:lnTo>
                      <a:pt x="866" y="4"/>
                    </a:lnTo>
                    <a:cubicBezTo>
                      <a:pt x="865" y="4"/>
                      <a:pt x="864" y="3"/>
                      <a:pt x="864" y="2"/>
                    </a:cubicBezTo>
                    <a:cubicBezTo>
                      <a:pt x="864" y="1"/>
                      <a:pt x="865" y="0"/>
                      <a:pt x="866" y="0"/>
                    </a:cubicBezTo>
                    <a:close/>
                    <a:moveTo>
                      <a:pt x="874" y="0"/>
                    </a:moveTo>
                    <a:lnTo>
                      <a:pt x="874" y="0"/>
                    </a:lnTo>
                    <a:cubicBezTo>
                      <a:pt x="875" y="0"/>
                      <a:pt x="876" y="1"/>
                      <a:pt x="876" y="2"/>
                    </a:cubicBezTo>
                    <a:cubicBezTo>
                      <a:pt x="876" y="3"/>
                      <a:pt x="875" y="4"/>
                      <a:pt x="874" y="4"/>
                    </a:cubicBezTo>
                    <a:lnTo>
                      <a:pt x="874" y="4"/>
                    </a:lnTo>
                    <a:cubicBezTo>
                      <a:pt x="873" y="4"/>
                      <a:pt x="872" y="3"/>
                      <a:pt x="872" y="2"/>
                    </a:cubicBezTo>
                    <a:cubicBezTo>
                      <a:pt x="872" y="1"/>
                      <a:pt x="873" y="0"/>
                      <a:pt x="874" y="0"/>
                    </a:cubicBezTo>
                    <a:close/>
                    <a:moveTo>
                      <a:pt x="882" y="0"/>
                    </a:moveTo>
                    <a:lnTo>
                      <a:pt x="882" y="0"/>
                    </a:lnTo>
                    <a:cubicBezTo>
                      <a:pt x="883" y="0"/>
                      <a:pt x="884" y="1"/>
                      <a:pt x="884" y="2"/>
                    </a:cubicBezTo>
                    <a:cubicBezTo>
                      <a:pt x="884" y="3"/>
                      <a:pt x="883" y="4"/>
                      <a:pt x="882" y="4"/>
                    </a:cubicBezTo>
                    <a:lnTo>
                      <a:pt x="882" y="4"/>
                    </a:lnTo>
                    <a:cubicBezTo>
                      <a:pt x="881" y="4"/>
                      <a:pt x="880" y="3"/>
                      <a:pt x="880" y="2"/>
                    </a:cubicBezTo>
                    <a:cubicBezTo>
                      <a:pt x="880" y="1"/>
                      <a:pt x="881" y="0"/>
                      <a:pt x="882" y="0"/>
                    </a:cubicBezTo>
                    <a:close/>
                    <a:moveTo>
                      <a:pt x="890" y="0"/>
                    </a:moveTo>
                    <a:lnTo>
                      <a:pt x="890" y="0"/>
                    </a:lnTo>
                    <a:cubicBezTo>
                      <a:pt x="891" y="0"/>
                      <a:pt x="892" y="1"/>
                      <a:pt x="892" y="2"/>
                    </a:cubicBezTo>
                    <a:cubicBezTo>
                      <a:pt x="892" y="3"/>
                      <a:pt x="891" y="4"/>
                      <a:pt x="890" y="4"/>
                    </a:cubicBezTo>
                    <a:lnTo>
                      <a:pt x="890" y="4"/>
                    </a:lnTo>
                    <a:cubicBezTo>
                      <a:pt x="889" y="4"/>
                      <a:pt x="888" y="3"/>
                      <a:pt x="888" y="2"/>
                    </a:cubicBezTo>
                    <a:cubicBezTo>
                      <a:pt x="888" y="1"/>
                      <a:pt x="889" y="0"/>
                      <a:pt x="890" y="0"/>
                    </a:cubicBezTo>
                    <a:close/>
                    <a:moveTo>
                      <a:pt x="898" y="0"/>
                    </a:moveTo>
                    <a:lnTo>
                      <a:pt x="898" y="0"/>
                    </a:lnTo>
                    <a:cubicBezTo>
                      <a:pt x="899" y="0"/>
                      <a:pt x="900" y="1"/>
                      <a:pt x="900" y="2"/>
                    </a:cubicBezTo>
                    <a:cubicBezTo>
                      <a:pt x="900" y="3"/>
                      <a:pt x="899" y="4"/>
                      <a:pt x="898" y="4"/>
                    </a:cubicBezTo>
                    <a:lnTo>
                      <a:pt x="898" y="4"/>
                    </a:lnTo>
                    <a:cubicBezTo>
                      <a:pt x="897" y="4"/>
                      <a:pt x="896" y="3"/>
                      <a:pt x="896" y="2"/>
                    </a:cubicBezTo>
                    <a:cubicBezTo>
                      <a:pt x="896" y="1"/>
                      <a:pt x="897" y="0"/>
                      <a:pt x="898" y="0"/>
                    </a:cubicBezTo>
                    <a:close/>
                    <a:moveTo>
                      <a:pt x="906" y="0"/>
                    </a:moveTo>
                    <a:lnTo>
                      <a:pt x="906" y="0"/>
                    </a:lnTo>
                    <a:cubicBezTo>
                      <a:pt x="907" y="0"/>
                      <a:pt x="908" y="1"/>
                      <a:pt x="908" y="2"/>
                    </a:cubicBezTo>
                    <a:cubicBezTo>
                      <a:pt x="908" y="3"/>
                      <a:pt x="907" y="4"/>
                      <a:pt x="906" y="4"/>
                    </a:cubicBezTo>
                    <a:lnTo>
                      <a:pt x="906" y="4"/>
                    </a:lnTo>
                    <a:cubicBezTo>
                      <a:pt x="905" y="4"/>
                      <a:pt x="904" y="3"/>
                      <a:pt x="904" y="2"/>
                    </a:cubicBezTo>
                    <a:cubicBezTo>
                      <a:pt x="904" y="1"/>
                      <a:pt x="905" y="0"/>
                      <a:pt x="906" y="0"/>
                    </a:cubicBezTo>
                    <a:close/>
                    <a:moveTo>
                      <a:pt x="914" y="0"/>
                    </a:moveTo>
                    <a:lnTo>
                      <a:pt x="914" y="0"/>
                    </a:lnTo>
                    <a:cubicBezTo>
                      <a:pt x="915" y="0"/>
                      <a:pt x="916" y="1"/>
                      <a:pt x="916" y="2"/>
                    </a:cubicBezTo>
                    <a:cubicBezTo>
                      <a:pt x="916" y="3"/>
                      <a:pt x="915" y="4"/>
                      <a:pt x="914" y="4"/>
                    </a:cubicBezTo>
                    <a:lnTo>
                      <a:pt x="914" y="4"/>
                    </a:lnTo>
                    <a:cubicBezTo>
                      <a:pt x="913" y="4"/>
                      <a:pt x="912" y="3"/>
                      <a:pt x="912" y="2"/>
                    </a:cubicBezTo>
                    <a:cubicBezTo>
                      <a:pt x="912" y="1"/>
                      <a:pt x="913" y="0"/>
                      <a:pt x="914" y="0"/>
                    </a:cubicBezTo>
                    <a:close/>
                    <a:moveTo>
                      <a:pt x="922" y="0"/>
                    </a:moveTo>
                    <a:lnTo>
                      <a:pt x="922" y="0"/>
                    </a:lnTo>
                    <a:cubicBezTo>
                      <a:pt x="923" y="0"/>
                      <a:pt x="924" y="1"/>
                      <a:pt x="924" y="2"/>
                    </a:cubicBezTo>
                    <a:cubicBezTo>
                      <a:pt x="924" y="3"/>
                      <a:pt x="923" y="4"/>
                      <a:pt x="922" y="4"/>
                    </a:cubicBezTo>
                    <a:lnTo>
                      <a:pt x="922" y="4"/>
                    </a:lnTo>
                    <a:cubicBezTo>
                      <a:pt x="921" y="4"/>
                      <a:pt x="920" y="3"/>
                      <a:pt x="920" y="2"/>
                    </a:cubicBezTo>
                    <a:cubicBezTo>
                      <a:pt x="920" y="1"/>
                      <a:pt x="921" y="0"/>
                      <a:pt x="922" y="0"/>
                    </a:cubicBezTo>
                    <a:close/>
                    <a:moveTo>
                      <a:pt x="930" y="0"/>
                    </a:moveTo>
                    <a:lnTo>
                      <a:pt x="930" y="0"/>
                    </a:lnTo>
                    <a:cubicBezTo>
                      <a:pt x="931" y="0"/>
                      <a:pt x="932" y="1"/>
                      <a:pt x="932" y="2"/>
                    </a:cubicBezTo>
                    <a:cubicBezTo>
                      <a:pt x="932" y="3"/>
                      <a:pt x="931" y="4"/>
                      <a:pt x="930" y="4"/>
                    </a:cubicBezTo>
                    <a:lnTo>
                      <a:pt x="930" y="4"/>
                    </a:lnTo>
                    <a:cubicBezTo>
                      <a:pt x="929" y="4"/>
                      <a:pt x="928" y="3"/>
                      <a:pt x="928" y="2"/>
                    </a:cubicBezTo>
                    <a:cubicBezTo>
                      <a:pt x="928" y="1"/>
                      <a:pt x="929" y="0"/>
                      <a:pt x="930" y="0"/>
                    </a:cubicBezTo>
                    <a:close/>
                    <a:moveTo>
                      <a:pt x="938" y="0"/>
                    </a:moveTo>
                    <a:lnTo>
                      <a:pt x="938" y="0"/>
                    </a:lnTo>
                    <a:cubicBezTo>
                      <a:pt x="939" y="0"/>
                      <a:pt x="940" y="1"/>
                      <a:pt x="940" y="2"/>
                    </a:cubicBezTo>
                    <a:cubicBezTo>
                      <a:pt x="940" y="3"/>
                      <a:pt x="939" y="4"/>
                      <a:pt x="938" y="4"/>
                    </a:cubicBezTo>
                    <a:lnTo>
                      <a:pt x="938" y="4"/>
                    </a:lnTo>
                    <a:cubicBezTo>
                      <a:pt x="937" y="4"/>
                      <a:pt x="936" y="3"/>
                      <a:pt x="936" y="2"/>
                    </a:cubicBezTo>
                    <a:cubicBezTo>
                      <a:pt x="936" y="1"/>
                      <a:pt x="937" y="0"/>
                      <a:pt x="938" y="0"/>
                    </a:cubicBezTo>
                    <a:close/>
                    <a:moveTo>
                      <a:pt x="946" y="0"/>
                    </a:moveTo>
                    <a:lnTo>
                      <a:pt x="946" y="0"/>
                    </a:lnTo>
                    <a:cubicBezTo>
                      <a:pt x="947" y="0"/>
                      <a:pt x="948" y="1"/>
                      <a:pt x="948" y="2"/>
                    </a:cubicBezTo>
                    <a:cubicBezTo>
                      <a:pt x="948" y="3"/>
                      <a:pt x="947" y="4"/>
                      <a:pt x="946" y="4"/>
                    </a:cubicBezTo>
                    <a:lnTo>
                      <a:pt x="946" y="4"/>
                    </a:lnTo>
                    <a:cubicBezTo>
                      <a:pt x="945" y="4"/>
                      <a:pt x="944" y="3"/>
                      <a:pt x="944" y="2"/>
                    </a:cubicBezTo>
                    <a:cubicBezTo>
                      <a:pt x="944" y="1"/>
                      <a:pt x="945" y="0"/>
                      <a:pt x="946" y="0"/>
                    </a:cubicBezTo>
                    <a:close/>
                    <a:moveTo>
                      <a:pt x="954" y="0"/>
                    </a:moveTo>
                    <a:lnTo>
                      <a:pt x="954" y="0"/>
                    </a:lnTo>
                    <a:cubicBezTo>
                      <a:pt x="955" y="0"/>
                      <a:pt x="956" y="1"/>
                      <a:pt x="956" y="2"/>
                    </a:cubicBezTo>
                    <a:cubicBezTo>
                      <a:pt x="956" y="3"/>
                      <a:pt x="955" y="4"/>
                      <a:pt x="954" y="4"/>
                    </a:cubicBezTo>
                    <a:lnTo>
                      <a:pt x="954" y="4"/>
                    </a:lnTo>
                    <a:cubicBezTo>
                      <a:pt x="953" y="4"/>
                      <a:pt x="952" y="3"/>
                      <a:pt x="952" y="2"/>
                    </a:cubicBezTo>
                    <a:cubicBezTo>
                      <a:pt x="952" y="1"/>
                      <a:pt x="953" y="0"/>
                      <a:pt x="954" y="0"/>
                    </a:cubicBezTo>
                    <a:close/>
                    <a:moveTo>
                      <a:pt x="962" y="0"/>
                    </a:moveTo>
                    <a:lnTo>
                      <a:pt x="962" y="0"/>
                    </a:lnTo>
                    <a:cubicBezTo>
                      <a:pt x="963" y="0"/>
                      <a:pt x="964" y="1"/>
                      <a:pt x="964" y="2"/>
                    </a:cubicBezTo>
                    <a:cubicBezTo>
                      <a:pt x="964" y="3"/>
                      <a:pt x="963" y="4"/>
                      <a:pt x="962" y="4"/>
                    </a:cubicBezTo>
                    <a:lnTo>
                      <a:pt x="962" y="4"/>
                    </a:lnTo>
                    <a:cubicBezTo>
                      <a:pt x="961" y="4"/>
                      <a:pt x="960" y="3"/>
                      <a:pt x="960" y="2"/>
                    </a:cubicBezTo>
                    <a:cubicBezTo>
                      <a:pt x="960" y="1"/>
                      <a:pt x="961" y="0"/>
                      <a:pt x="962" y="0"/>
                    </a:cubicBezTo>
                    <a:close/>
                    <a:moveTo>
                      <a:pt x="970" y="0"/>
                    </a:moveTo>
                    <a:lnTo>
                      <a:pt x="970" y="0"/>
                    </a:lnTo>
                    <a:cubicBezTo>
                      <a:pt x="971" y="0"/>
                      <a:pt x="972" y="1"/>
                      <a:pt x="972" y="2"/>
                    </a:cubicBezTo>
                    <a:cubicBezTo>
                      <a:pt x="972" y="3"/>
                      <a:pt x="971" y="4"/>
                      <a:pt x="970" y="4"/>
                    </a:cubicBezTo>
                    <a:lnTo>
                      <a:pt x="970" y="4"/>
                    </a:lnTo>
                    <a:cubicBezTo>
                      <a:pt x="969" y="4"/>
                      <a:pt x="968" y="3"/>
                      <a:pt x="968" y="2"/>
                    </a:cubicBezTo>
                    <a:cubicBezTo>
                      <a:pt x="968" y="1"/>
                      <a:pt x="969" y="0"/>
                      <a:pt x="970" y="0"/>
                    </a:cubicBezTo>
                    <a:close/>
                    <a:moveTo>
                      <a:pt x="978" y="0"/>
                    </a:moveTo>
                    <a:lnTo>
                      <a:pt x="978" y="0"/>
                    </a:lnTo>
                    <a:cubicBezTo>
                      <a:pt x="979" y="0"/>
                      <a:pt x="980" y="1"/>
                      <a:pt x="980" y="2"/>
                    </a:cubicBezTo>
                    <a:cubicBezTo>
                      <a:pt x="980" y="3"/>
                      <a:pt x="979" y="4"/>
                      <a:pt x="978" y="4"/>
                    </a:cubicBezTo>
                    <a:lnTo>
                      <a:pt x="978" y="4"/>
                    </a:lnTo>
                    <a:cubicBezTo>
                      <a:pt x="977" y="4"/>
                      <a:pt x="976" y="3"/>
                      <a:pt x="976" y="2"/>
                    </a:cubicBezTo>
                    <a:cubicBezTo>
                      <a:pt x="976" y="1"/>
                      <a:pt x="977" y="0"/>
                      <a:pt x="978" y="0"/>
                    </a:cubicBezTo>
                    <a:close/>
                    <a:moveTo>
                      <a:pt x="986" y="0"/>
                    </a:moveTo>
                    <a:lnTo>
                      <a:pt x="986" y="0"/>
                    </a:lnTo>
                    <a:cubicBezTo>
                      <a:pt x="987" y="0"/>
                      <a:pt x="988" y="1"/>
                      <a:pt x="988" y="2"/>
                    </a:cubicBezTo>
                    <a:cubicBezTo>
                      <a:pt x="988" y="3"/>
                      <a:pt x="987" y="4"/>
                      <a:pt x="986" y="4"/>
                    </a:cubicBezTo>
                    <a:lnTo>
                      <a:pt x="986" y="4"/>
                    </a:lnTo>
                    <a:cubicBezTo>
                      <a:pt x="985" y="4"/>
                      <a:pt x="984" y="3"/>
                      <a:pt x="984" y="2"/>
                    </a:cubicBezTo>
                    <a:cubicBezTo>
                      <a:pt x="984" y="1"/>
                      <a:pt x="985" y="0"/>
                      <a:pt x="986" y="0"/>
                    </a:cubicBezTo>
                    <a:close/>
                    <a:moveTo>
                      <a:pt x="994" y="0"/>
                    </a:moveTo>
                    <a:lnTo>
                      <a:pt x="994" y="0"/>
                    </a:lnTo>
                    <a:cubicBezTo>
                      <a:pt x="995" y="0"/>
                      <a:pt x="996" y="1"/>
                      <a:pt x="996" y="2"/>
                    </a:cubicBezTo>
                    <a:cubicBezTo>
                      <a:pt x="996" y="3"/>
                      <a:pt x="995" y="4"/>
                      <a:pt x="994" y="4"/>
                    </a:cubicBezTo>
                    <a:lnTo>
                      <a:pt x="994" y="4"/>
                    </a:lnTo>
                    <a:cubicBezTo>
                      <a:pt x="993" y="4"/>
                      <a:pt x="992" y="3"/>
                      <a:pt x="992" y="2"/>
                    </a:cubicBezTo>
                    <a:cubicBezTo>
                      <a:pt x="992" y="1"/>
                      <a:pt x="993" y="0"/>
                      <a:pt x="994" y="0"/>
                    </a:cubicBezTo>
                    <a:close/>
                    <a:moveTo>
                      <a:pt x="1002" y="0"/>
                    </a:moveTo>
                    <a:lnTo>
                      <a:pt x="1002" y="0"/>
                    </a:lnTo>
                    <a:cubicBezTo>
                      <a:pt x="1003" y="0"/>
                      <a:pt x="1004" y="1"/>
                      <a:pt x="1004" y="2"/>
                    </a:cubicBezTo>
                    <a:cubicBezTo>
                      <a:pt x="1004" y="3"/>
                      <a:pt x="1003" y="4"/>
                      <a:pt x="1002" y="4"/>
                    </a:cubicBezTo>
                    <a:lnTo>
                      <a:pt x="1002" y="4"/>
                    </a:lnTo>
                    <a:cubicBezTo>
                      <a:pt x="1001" y="4"/>
                      <a:pt x="1000" y="3"/>
                      <a:pt x="1000" y="2"/>
                    </a:cubicBezTo>
                    <a:cubicBezTo>
                      <a:pt x="1000" y="1"/>
                      <a:pt x="1001" y="0"/>
                      <a:pt x="1002" y="0"/>
                    </a:cubicBezTo>
                    <a:close/>
                    <a:moveTo>
                      <a:pt x="1010" y="0"/>
                    </a:moveTo>
                    <a:lnTo>
                      <a:pt x="1010" y="0"/>
                    </a:lnTo>
                    <a:cubicBezTo>
                      <a:pt x="1011" y="0"/>
                      <a:pt x="1012" y="1"/>
                      <a:pt x="1012" y="2"/>
                    </a:cubicBezTo>
                    <a:cubicBezTo>
                      <a:pt x="1012" y="3"/>
                      <a:pt x="1011" y="4"/>
                      <a:pt x="1010" y="4"/>
                    </a:cubicBezTo>
                    <a:lnTo>
                      <a:pt x="1010" y="4"/>
                    </a:lnTo>
                    <a:cubicBezTo>
                      <a:pt x="1009" y="4"/>
                      <a:pt x="1008" y="3"/>
                      <a:pt x="1008" y="2"/>
                    </a:cubicBezTo>
                    <a:cubicBezTo>
                      <a:pt x="1008" y="1"/>
                      <a:pt x="1009" y="0"/>
                      <a:pt x="1010" y="0"/>
                    </a:cubicBezTo>
                    <a:close/>
                    <a:moveTo>
                      <a:pt x="1018" y="0"/>
                    </a:moveTo>
                    <a:lnTo>
                      <a:pt x="1018" y="0"/>
                    </a:lnTo>
                    <a:cubicBezTo>
                      <a:pt x="1019" y="0"/>
                      <a:pt x="1020" y="1"/>
                      <a:pt x="1020" y="2"/>
                    </a:cubicBezTo>
                    <a:cubicBezTo>
                      <a:pt x="1020" y="3"/>
                      <a:pt x="1019" y="4"/>
                      <a:pt x="1018" y="4"/>
                    </a:cubicBezTo>
                    <a:lnTo>
                      <a:pt x="1018" y="4"/>
                    </a:lnTo>
                    <a:cubicBezTo>
                      <a:pt x="1017" y="4"/>
                      <a:pt x="1016" y="3"/>
                      <a:pt x="1016" y="2"/>
                    </a:cubicBezTo>
                    <a:cubicBezTo>
                      <a:pt x="1016" y="1"/>
                      <a:pt x="1017" y="0"/>
                      <a:pt x="1018" y="0"/>
                    </a:cubicBezTo>
                    <a:close/>
                    <a:moveTo>
                      <a:pt x="1026" y="0"/>
                    </a:moveTo>
                    <a:lnTo>
                      <a:pt x="1026" y="0"/>
                    </a:lnTo>
                    <a:cubicBezTo>
                      <a:pt x="1027" y="0"/>
                      <a:pt x="1028" y="1"/>
                      <a:pt x="1028" y="2"/>
                    </a:cubicBezTo>
                    <a:cubicBezTo>
                      <a:pt x="1028" y="3"/>
                      <a:pt x="1027" y="4"/>
                      <a:pt x="1026" y="4"/>
                    </a:cubicBezTo>
                    <a:lnTo>
                      <a:pt x="1026" y="4"/>
                    </a:lnTo>
                    <a:cubicBezTo>
                      <a:pt x="1025" y="4"/>
                      <a:pt x="1024" y="3"/>
                      <a:pt x="1024" y="2"/>
                    </a:cubicBezTo>
                    <a:cubicBezTo>
                      <a:pt x="1024" y="1"/>
                      <a:pt x="1025" y="0"/>
                      <a:pt x="1026" y="0"/>
                    </a:cubicBezTo>
                    <a:close/>
                    <a:moveTo>
                      <a:pt x="1034" y="0"/>
                    </a:moveTo>
                    <a:lnTo>
                      <a:pt x="1034" y="0"/>
                    </a:lnTo>
                    <a:cubicBezTo>
                      <a:pt x="1035" y="0"/>
                      <a:pt x="1036" y="1"/>
                      <a:pt x="1036" y="2"/>
                    </a:cubicBezTo>
                    <a:cubicBezTo>
                      <a:pt x="1036" y="3"/>
                      <a:pt x="1035" y="4"/>
                      <a:pt x="1034" y="4"/>
                    </a:cubicBezTo>
                    <a:lnTo>
                      <a:pt x="1034" y="4"/>
                    </a:lnTo>
                    <a:cubicBezTo>
                      <a:pt x="1033" y="4"/>
                      <a:pt x="1032" y="3"/>
                      <a:pt x="1032" y="2"/>
                    </a:cubicBezTo>
                    <a:cubicBezTo>
                      <a:pt x="1032" y="1"/>
                      <a:pt x="1033" y="0"/>
                      <a:pt x="1034" y="0"/>
                    </a:cubicBezTo>
                    <a:close/>
                    <a:moveTo>
                      <a:pt x="1042" y="0"/>
                    </a:moveTo>
                    <a:lnTo>
                      <a:pt x="1042" y="0"/>
                    </a:lnTo>
                    <a:cubicBezTo>
                      <a:pt x="1043" y="0"/>
                      <a:pt x="1044" y="1"/>
                      <a:pt x="1044" y="2"/>
                    </a:cubicBezTo>
                    <a:cubicBezTo>
                      <a:pt x="1044" y="3"/>
                      <a:pt x="1043" y="4"/>
                      <a:pt x="1042" y="4"/>
                    </a:cubicBezTo>
                    <a:lnTo>
                      <a:pt x="1042" y="4"/>
                    </a:lnTo>
                    <a:cubicBezTo>
                      <a:pt x="1041" y="4"/>
                      <a:pt x="1040" y="3"/>
                      <a:pt x="1040" y="2"/>
                    </a:cubicBezTo>
                    <a:cubicBezTo>
                      <a:pt x="1040" y="1"/>
                      <a:pt x="1041" y="0"/>
                      <a:pt x="1042" y="0"/>
                    </a:cubicBezTo>
                    <a:close/>
                    <a:moveTo>
                      <a:pt x="1050" y="0"/>
                    </a:moveTo>
                    <a:lnTo>
                      <a:pt x="1050" y="0"/>
                    </a:lnTo>
                    <a:cubicBezTo>
                      <a:pt x="1051" y="0"/>
                      <a:pt x="1052" y="1"/>
                      <a:pt x="1052" y="2"/>
                    </a:cubicBezTo>
                    <a:cubicBezTo>
                      <a:pt x="1052" y="3"/>
                      <a:pt x="1051" y="4"/>
                      <a:pt x="1050" y="4"/>
                    </a:cubicBezTo>
                    <a:lnTo>
                      <a:pt x="1050" y="4"/>
                    </a:lnTo>
                    <a:cubicBezTo>
                      <a:pt x="1049" y="4"/>
                      <a:pt x="1048" y="3"/>
                      <a:pt x="1048" y="2"/>
                    </a:cubicBezTo>
                    <a:cubicBezTo>
                      <a:pt x="1048" y="1"/>
                      <a:pt x="1049" y="0"/>
                      <a:pt x="1050" y="0"/>
                    </a:cubicBezTo>
                    <a:close/>
                    <a:moveTo>
                      <a:pt x="1058" y="0"/>
                    </a:moveTo>
                    <a:lnTo>
                      <a:pt x="1058" y="0"/>
                    </a:lnTo>
                    <a:cubicBezTo>
                      <a:pt x="1059" y="0"/>
                      <a:pt x="1060" y="1"/>
                      <a:pt x="1060" y="2"/>
                    </a:cubicBezTo>
                    <a:cubicBezTo>
                      <a:pt x="1060" y="3"/>
                      <a:pt x="1059" y="4"/>
                      <a:pt x="1058" y="4"/>
                    </a:cubicBezTo>
                    <a:lnTo>
                      <a:pt x="1058" y="4"/>
                    </a:lnTo>
                    <a:cubicBezTo>
                      <a:pt x="1057" y="4"/>
                      <a:pt x="1056" y="3"/>
                      <a:pt x="1056" y="2"/>
                    </a:cubicBezTo>
                    <a:cubicBezTo>
                      <a:pt x="1056" y="1"/>
                      <a:pt x="1057" y="0"/>
                      <a:pt x="1058" y="0"/>
                    </a:cubicBezTo>
                    <a:close/>
                    <a:moveTo>
                      <a:pt x="1066" y="0"/>
                    </a:moveTo>
                    <a:lnTo>
                      <a:pt x="1066" y="0"/>
                    </a:lnTo>
                    <a:cubicBezTo>
                      <a:pt x="1067" y="0"/>
                      <a:pt x="1068" y="1"/>
                      <a:pt x="1068" y="2"/>
                    </a:cubicBezTo>
                    <a:cubicBezTo>
                      <a:pt x="1068" y="3"/>
                      <a:pt x="1067" y="4"/>
                      <a:pt x="1066" y="4"/>
                    </a:cubicBezTo>
                    <a:lnTo>
                      <a:pt x="1066" y="4"/>
                    </a:lnTo>
                    <a:cubicBezTo>
                      <a:pt x="1065" y="4"/>
                      <a:pt x="1064" y="3"/>
                      <a:pt x="1064" y="2"/>
                    </a:cubicBezTo>
                    <a:cubicBezTo>
                      <a:pt x="1064" y="1"/>
                      <a:pt x="1065" y="0"/>
                      <a:pt x="1066" y="0"/>
                    </a:cubicBezTo>
                    <a:close/>
                    <a:moveTo>
                      <a:pt x="1074" y="0"/>
                    </a:moveTo>
                    <a:lnTo>
                      <a:pt x="1074" y="0"/>
                    </a:lnTo>
                    <a:cubicBezTo>
                      <a:pt x="1075" y="0"/>
                      <a:pt x="1076" y="1"/>
                      <a:pt x="1076" y="2"/>
                    </a:cubicBezTo>
                    <a:cubicBezTo>
                      <a:pt x="1076" y="3"/>
                      <a:pt x="1075" y="4"/>
                      <a:pt x="1074" y="4"/>
                    </a:cubicBezTo>
                    <a:lnTo>
                      <a:pt x="1074" y="4"/>
                    </a:lnTo>
                    <a:cubicBezTo>
                      <a:pt x="1073" y="4"/>
                      <a:pt x="1072" y="3"/>
                      <a:pt x="1072" y="2"/>
                    </a:cubicBezTo>
                    <a:cubicBezTo>
                      <a:pt x="1072" y="1"/>
                      <a:pt x="1073" y="0"/>
                      <a:pt x="1074" y="0"/>
                    </a:cubicBezTo>
                    <a:close/>
                    <a:moveTo>
                      <a:pt x="1082" y="0"/>
                    </a:moveTo>
                    <a:lnTo>
                      <a:pt x="1082" y="0"/>
                    </a:lnTo>
                    <a:cubicBezTo>
                      <a:pt x="1083" y="0"/>
                      <a:pt x="1084" y="1"/>
                      <a:pt x="1084" y="2"/>
                    </a:cubicBezTo>
                    <a:cubicBezTo>
                      <a:pt x="1084" y="3"/>
                      <a:pt x="1083" y="4"/>
                      <a:pt x="1082" y="4"/>
                    </a:cubicBezTo>
                    <a:lnTo>
                      <a:pt x="1082" y="4"/>
                    </a:lnTo>
                    <a:cubicBezTo>
                      <a:pt x="1081" y="4"/>
                      <a:pt x="1080" y="3"/>
                      <a:pt x="1080" y="2"/>
                    </a:cubicBezTo>
                    <a:cubicBezTo>
                      <a:pt x="1080" y="1"/>
                      <a:pt x="1081" y="0"/>
                      <a:pt x="1082" y="0"/>
                    </a:cubicBezTo>
                    <a:close/>
                    <a:moveTo>
                      <a:pt x="1090" y="0"/>
                    </a:moveTo>
                    <a:lnTo>
                      <a:pt x="1090" y="0"/>
                    </a:lnTo>
                    <a:cubicBezTo>
                      <a:pt x="1091" y="0"/>
                      <a:pt x="1092" y="1"/>
                      <a:pt x="1092" y="2"/>
                    </a:cubicBezTo>
                    <a:cubicBezTo>
                      <a:pt x="1092" y="3"/>
                      <a:pt x="1091" y="4"/>
                      <a:pt x="1090" y="4"/>
                    </a:cubicBezTo>
                    <a:lnTo>
                      <a:pt x="1090" y="4"/>
                    </a:lnTo>
                    <a:cubicBezTo>
                      <a:pt x="1089" y="4"/>
                      <a:pt x="1088" y="3"/>
                      <a:pt x="1088" y="2"/>
                    </a:cubicBezTo>
                    <a:cubicBezTo>
                      <a:pt x="1088" y="1"/>
                      <a:pt x="1089" y="0"/>
                      <a:pt x="1090" y="0"/>
                    </a:cubicBezTo>
                    <a:close/>
                    <a:moveTo>
                      <a:pt x="1098" y="0"/>
                    </a:moveTo>
                    <a:lnTo>
                      <a:pt x="1098" y="0"/>
                    </a:lnTo>
                    <a:cubicBezTo>
                      <a:pt x="1099" y="0"/>
                      <a:pt x="1100" y="1"/>
                      <a:pt x="1100" y="2"/>
                    </a:cubicBezTo>
                    <a:cubicBezTo>
                      <a:pt x="1100" y="3"/>
                      <a:pt x="1099" y="4"/>
                      <a:pt x="1098" y="4"/>
                    </a:cubicBezTo>
                    <a:lnTo>
                      <a:pt x="1098" y="4"/>
                    </a:lnTo>
                    <a:cubicBezTo>
                      <a:pt x="1097" y="4"/>
                      <a:pt x="1096" y="3"/>
                      <a:pt x="1096" y="2"/>
                    </a:cubicBezTo>
                    <a:cubicBezTo>
                      <a:pt x="1096" y="1"/>
                      <a:pt x="1097" y="0"/>
                      <a:pt x="1098" y="0"/>
                    </a:cubicBezTo>
                    <a:close/>
                    <a:moveTo>
                      <a:pt x="1106" y="0"/>
                    </a:moveTo>
                    <a:lnTo>
                      <a:pt x="1106" y="0"/>
                    </a:lnTo>
                    <a:cubicBezTo>
                      <a:pt x="1107" y="0"/>
                      <a:pt x="1108" y="1"/>
                      <a:pt x="1108" y="2"/>
                    </a:cubicBezTo>
                    <a:cubicBezTo>
                      <a:pt x="1108" y="3"/>
                      <a:pt x="1107" y="4"/>
                      <a:pt x="1106" y="4"/>
                    </a:cubicBezTo>
                    <a:lnTo>
                      <a:pt x="1106" y="4"/>
                    </a:lnTo>
                    <a:cubicBezTo>
                      <a:pt x="1105" y="4"/>
                      <a:pt x="1104" y="3"/>
                      <a:pt x="1104" y="2"/>
                    </a:cubicBezTo>
                    <a:cubicBezTo>
                      <a:pt x="1104" y="1"/>
                      <a:pt x="1105" y="0"/>
                      <a:pt x="1106" y="0"/>
                    </a:cubicBezTo>
                    <a:close/>
                    <a:moveTo>
                      <a:pt x="1114" y="0"/>
                    </a:moveTo>
                    <a:lnTo>
                      <a:pt x="1114" y="0"/>
                    </a:lnTo>
                    <a:cubicBezTo>
                      <a:pt x="1115" y="0"/>
                      <a:pt x="1116" y="1"/>
                      <a:pt x="1116" y="2"/>
                    </a:cubicBezTo>
                    <a:cubicBezTo>
                      <a:pt x="1116" y="3"/>
                      <a:pt x="1115" y="4"/>
                      <a:pt x="1114" y="4"/>
                    </a:cubicBezTo>
                    <a:lnTo>
                      <a:pt x="1114" y="4"/>
                    </a:lnTo>
                    <a:cubicBezTo>
                      <a:pt x="1113" y="4"/>
                      <a:pt x="1112" y="3"/>
                      <a:pt x="1112" y="2"/>
                    </a:cubicBezTo>
                    <a:cubicBezTo>
                      <a:pt x="1112" y="1"/>
                      <a:pt x="1113" y="0"/>
                      <a:pt x="1114" y="0"/>
                    </a:cubicBezTo>
                    <a:close/>
                    <a:moveTo>
                      <a:pt x="1122" y="0"/>
                    </a:moveTo>
                    <a:lnTo>
                      <a:pt x="1122" y="0"/>
                    </a:lnTo>
                    <a:cubicBezTo>
                      <a:pt x="1123" y="0"/>
                      <a:pt x="1124" y="1"/>
                      <a:pt x="1124" y="2"/>
                    </a:cubicBezTo>
                    <a:cubicBezTo>
                      <a:pt x="1124" y="3"/>
                      <a:pt x="1123" y="4"/>
                      <a:pt x="1122" y="4"/>
                    </a:cubicBezTo>
                    <a:lnTo>
                      <a:pt x="1122" y="4"/>
                    </a:lnTo>
                    <a:cubicBezTo>
                      <a:pt x="1121" y="4"/>
                      <a:pt x="1120" y="3"/>
                      <a:pt x="1120" y="2"/>
                    </a:cubicBezTo>
                    <a:cubicBezTo>
                      <a:pt x="1120" y="1"/>
                      <a:pt x="1121" y="0"/>
                      <a:pt x="1122" y="0"/>
                    </a:cubicBezTo>
                    <a:close/>
                    <a:moveTo>
                      <a:pt x="1130" y="0"/>
                    </a:moveTo>
                    <a:lnTo>
                      <a:pt x="1130" y="0"/>
                    </a:lnTo>
                    <a:cubicBezTo>
                      <a:pt x="1131" y="0"/>
                      <a:pt x="1132" y="1"/>
                      <a:pt x="1132" y="2"/>
                    </a:cubicBezTo>
                    <a:cubicBezTo>
                      <a:pt x="1132" y="3"/>
                      <a:pt x="1131" y="4"/>
                      <a:pt x="1130" y="4"/>
                    </a:cubicBezTo>
                    <a:lnTo>
                      <a:pt x="1130" y="4"/>
                    </a:lnTo>
                    <a:cubicBezTo>
                      <a:pt x="1129" y="4"/>
                      <a:pt x="1128" y="3"/>
                      <a:pt x="1128" y="2"/>
                    </a:cubicBezTo>
                    <a:cubicBezTo>
                      <a:pt x="1128" y="1"/>
                      <a:pt x="1129" y="0"/>
                      <a:pt x="1130" y="0"/>
                    </a:cubicBezTo>
                    <a:close/>
                    <a:moveTo>
                      <a:pt x="1138" y="0"/>
                    </a:moveTo>
                    <a:lnTo>
                      <a:pt x="1138" y="0"/>
                    </a:lnTo>
                    <a:cubicBezTo>
                      <a:pt x="1139" y="0"/>
                      <a:pt x="1140" y="1"/>
                      <a:pt x="1140" y="2"/>
                    </a:cubicBezTo>
                    <a:cubicBezTo>
                      <a:pt x="1140" y="3"/>
                      <a:pt x="1139" y="4"/>
                      <a:pt x="1138" y="4"/>
                    </a:cubicBezTo>
                    <a:lnTo>
                      <a:pt x="1138" y="4"/>
                    </a:lnTo>
                    <a:cubicBezTo>
                      <a:pt x="1137" y="4"/>
                      <a:pt x="1136" y="3"/>
                      <a:pt x="1136" y="2"/>
                    </a:cubicBezTo>
                    <a:cubicBezTo>
                      <a:pt x="1136" y="1"/>
                      <a:pt x="1137" y="0"/>
                      <a:pt x="1138" y="0"/>
                    </a:cubicBezTo>
                    <a:close/>
                    <a:moveTo>
                      <a:pt x="1146" y="0"/>
                    </a:moveTo>
                    <a:lnTo>
                      <a:pt x="1146" y="0"/>
                    </a:lnTo>
                    <a:cubicBezTo>
                      <a:pt x="1147" y="0"/>
                      <a:pt x="1148" y="1"/>
                      <a:pt x="1148" y="2"/>
                    </a:cubicBezTo>
                    <a:cubicBezTo>
                      <a:pt x="1148" y="3"/>
                      <a:pt x="1147" y="4"/>
                      <a:pt x="1146" y="4"/>
                    </a:cubicBezTo>
                    <a:lnTo>
                      <a:pt x="1146" y="4"/>
                    </a:lnTo>
                    <a:cubicBezTo>
                      <a:pt x="1145" y="4"/>
                      <a:pt x="1144" y="3"/>
                      <a:pt x="1144" y="2"/>
                    </a:cubicBezTo>
                    <a:cubicBezTo>
                      <a:pt x="1144" y="1"/>
                      <a:pt x="1145" y="0"/>
                      <a:pt x="1146" y="0"/>
                    </a:cubicBezTo>
                    <a:close/>
                    <a:moveTo>
                      <a:pt x="1154" y="0"/>
                    </a:moveTo>
                    <a:lnTo>
                      <a:pt x="1154" y="0"/>
                    </a:lnTo>
                    <a:cubicBezTo>
                      <a:pt x="1155" y="0"/>
                      <a:pt x="1156" y="1"/>
                      <a:pt x="1156" y="2"/>
                    </a:cubicBezTo>
                    <a:cubicBezTo>
                      <a:pt x="1156" y="3"/>
                      <a:pt x="1155" y="4"/>
                      <a:pt x="1154" y="4"/>
                    </a:cubicBezTo>
                    <a:lnTo>
                      <a:pt x="1154" y="4"/>
                    </a:lnTo>
                    <a:cubicBezTo>
                      <a:pt x="1153" y="4"/>
                      <a:pt x="1152" y="3"/>
                      <a:pt x="1152" y="2"/>
                    </a:cubicBezTo>
                    <a:cubicBezTo>
                      <a:pt x="1152" y="1"/>
                      <a:pt x="1153" y="0"/>
                      <a:pt x="1154" y="0"/>
                    </a:cubicBezTo>
                    <a:close/>
                    <a:moveTo>
                      <a:pt x="1162" y="0"/>
                    </a:moveTo>
                    <a:lnTo>
                      <a:pt x="1162" y="0"/>
                    </a:lnTo>
                    <a:cubicBezTo>
                      <a:pt x="1163" y="0"/>
                      <a:pt x="1164" y="1"/>
                      <a:pt x="1164" y="2"/>
                    </a:cubicBezTo>
                    <a:cubicBezTo>
                      <a:pt x="1164" y="3"/>
                      <a:pt x="1163" y="4"/>
                      <a:pt x="1162" y="4"/>
                    </a:cubicBezTo>
                    <a:lnTo>
                      <a:pt x="1162" y="4"/>
                    </a:lnTo>
                    <a:cubicBezTo>
                      <a:pt x="1161" y="4"/>
                      <a:pt x="1160" y="3"/>
                      <a:pt x="1160" y="2"/>
                    </a:cubicBezTo>
                    <a:cubicBezTo>
                      <a:pt x="1160" y="1"/>
                      <a:pt x="1161" y="0"/>
                      <a:pt x="1162" y="0"/>
                    </a:cubicBezTo>
                    <a:close/>
                    <a:moveTo>
                      <a:pt x="1170" y="0"/>
                    </a:moveTo>
                    <a:lnTo>
                      <a:pt x="1170" y="0"/>
                    </a:lnTo>
                    <a:cubicBezTo>
                      <a:pt x="1171" y="0"/>
                      <a:pt x="1172" y="1"/>
                      <a:pt x="1172" y="2"/>
                    </a:cubicBezTo>
                    <a:cubicBezTo>
                      <a:pt x="1172" y="3"/>
                      <a:pt x="1171" y="4"/>
                      <a:pt x="1170" y="4"/>
                    </a:cubicBezTo>
                    <a:lnTo>
                      <a:pt x="1170" y="4"/>
                    </a:lnTo>
                    <a:cubicBezTo>
                      <a:pt x="1169" y="4"/>
                      <a:pt x="1168" y="3"/>
                      <a:pt x="1168" y="2"/>
                    </a:cubicBezTo>
                    <a:cubicBezTo>
                      <a:pt x="1168" y="1"/>
                      <a:pt x="1169" y="0"/>
                      <a:pt x="1170" y="0"/>
                    </a:cubicBezTo>
                    <a:close/>
                    <a:moveTo>
                      <a:pt x="1178" y="0"/>
                    </a:moveTo>
                    <a:lnTo>
                      <a:pt x="1178" y="0"/>
                    </a:lnTo>
                    <a:cubicBezTo>
                      <a:pt x="1179" y="0"/>
                      <a:pt x="1180" y="1"/>
                      <a:pt x="1180" y="2"/>
                    </a:cubicBezTo>
                    <a:cubicBezTo>
                      <a:pt x="1180" y="3"/>
                      <a:pt x="1179" y="4"/>
                      <a:pt x="1178" y="4"/>
                    </a:cubicBezTo>
                    <a:lnTo>
                      <a:pt x="1178" y="4"/>
                    </a:lnTo>
                    <a:cubicBezTo>
                      <a:pt x="1177" y="4"/>
                      <a:pt x="1176" y="3"/>
                      <a:pt x="1176" y="2"/>
                    </a:cubicBezTo>
                    <a:cubicBezTo>
                      <a:pt x="1176" y="1"/>
                      <a:pt x="1177" y="0"/>
                      <a:pt x="1178" y="0"/>
                    </a:cubicBezTo>
                    <a:close/>
                    <a:moveTo>
                      <a:pt x="1186" y="0"/>
                    </a:moveTo>
                    <a:lnTo>
                      <a:pt x="1186" y="0"/>
                    </a:lnTo>
                    <a:cubicBezTo>
                      <a:pt x="1187" y="0"/>
                      <a:pt x="1188" y="1"/>
                      <a:pt x="1188" y="2"/>
                    </a:cubicBezTo>
                    <a:cubicBezTo>
                      <a:pt x="1188" y="3"/>
                      <a:pt x="1187" y="4"/>
                      <a:pt x="1186" y="4"/>
                    </a:cubicBezTo>
                    <a:lnTo>
                      <a:pt x="1186" y="4"/>
                    </a:lnTo>
                    <a:cubicBezTo>
                      <a:pt x="1185" y="4"/>
                      <a:pt x="1184" y="3"/>
                      <a:pt x="1184" y="2"/>
                    </a:cubicBezTo>
                    <a:cubicBezTo>
                      <a:pt x="1184" y="1"/>
                      <a:pt x="1185" y="0"/>
                      <a:pt x="1186" y="0"/>
                    </a:cubicBezTo>
                    <a:close/>
                    <a:moveTo>
                      <a:pt x="1194" y="0"/>
                    </a:moveTo>
                    <a:lnTo>
                      <a:pt x="1194" y="0"/>
                    </a:lnTo>
                    <a:cubicBezTo>
                      <a:pt x="1195" y="0"/>
                      <a:pt x="1196" y="1"/>
                      <a:pt x="1196" y="2"/>
                    </a:cubicBezTo>
                    <a:cubicBezTo>
                      <a:pt x="1196" y="3"/>
                      <a:pt x="1195" y="4"/>
                      <a:pt x="1194" y="4"/>
                    </a:cubicBezTo>
                    <a:lnTo>
                      <a:pt x="1194" y="4"/>
                    </a:lnTo>
                    <a:cubicBezTo>
                      <a:pt x="1193" y="4"/>
                      <a:pt x="1192" y="3"/>
                      <a:pt x="1192" y="2"/>
                    </a:cubicBezTo>
                    <a:cubicBezTo>
                      <a:pt x="1192" y="1"/>
                      <a:pt x="1193" y="0"/>
                      <a:pt x="1194" y="0"/>
                    </a:cubicBezTo>
                    <a:close/>
                    <a:moveTo>
                      <a:pt x="1202" y="0"/>
                    </a:moveTo>
                    <a:lnTo>
                      <a:pt x="1202" y="0"/>
                    </a:lnTo>
                    <a:cubicBezTo>
                      <a:pt x="1203" y="0"/>
                      <a:pt x="1204" y="1"/>
                      <a:pt x="1204" y="2"/>
                    </a:cubicBezTo>
                    <a:cubicBezTo>
                      <a:pt x="1204" y="3"/>
                      <a:pt x="1203" y="4"/>
                      <a:pt x="1202" y="4"/>
                    </a:cubicBezTo>
                    <a:lnTo>
                      <a:pt x="1202" y="4"/>
                    </a:lnTo>
                    <a:cubicBezTo>
                      <a:pt x="1201" y="4"/>
                      <a:pt x="1200" y="3"/>
                      <a:pt x="1200" y="2"/>
                    </a:cubicBezTo>
                    <a:cubicBezTo>
                      <a:pt x="1200" y="1"/>
                      <a:pt x="1201" y="0"/>
                      <a:pt x="1202" y="0"/>
                    </a:cubicBezTo>
                    <a:close/>
                    <a:moveTo>
                      <a:pt x="1210" y="0"/>
                    </a:moveTo>
                    <a:lnTo>
                      <a:pt x="1210" y="0"/>
                    </a:lnTo>
                    <a:cubicBezTo>
                      <a:pt x="1212" y="0"/>
                      <a:pt x="1212" y="1"/>
                      <a:pt x="1212" y="2"/>
                    </a:cubicBezTo>
                    <a:cubicBezTo>
                      <a:pt x="1212" y="3"/>
                      <a:pt x="1212" y="4"/>
                      <a:pt x="1210" y="4"/>
                    </a:cubicBezTo>
                    <a:lnTo>
                      <a:pt x="1210" y="4"/>
                    </a:lnTo>
                    <a:cubicBezTo>
                      <a:pt x="1209" y="4"/>
                      <a:pt x="1208" y="3"/>
                      <a:pt x="1208" y="2"/>
                    </a:cubicBezTo>
                    <a:cubicBezTo>
                      <a:pt x="1208" y="1"/>
                      <a:pt x="1209" y="0"/>
                      <a:pt x="1210" y="0"/>
                    </a:cubicBezTo>
                    <a:close/>
                    <a:moveTo>
                      <a:pt x="1218" y="0"/>
                    </a:moveTo>
                    <a:lnTo>
                      <a:pt x="1218" y="0"/>
                    </a:lnTo>
                    <a:cubicBezTo>
                      <a:pt x="1220" y="0"/>
                      <a:pt x="1220" y="1"/>
                      <a:pt x="1220" y="2"/>
                    </a:cubicBezTo>
                    <a:cubicBezTo>
                      <a:pt x="1220" y="3"/>
                      <a:pt x="1220" y="4"/>
                      <a:pt x="1218" y="4"/>
                    </a:cubicBezTo>
                    <a:lnTo>
                      <a:pt x="1218" y="4"/>
                    </a:lnTo>
                    <a:cubicBezTo>
                      <a:pt x="1217" y="4"/>
                      <a:pt x="1216" y="3"/>
                      <a:pt x="1216" y="2"/>
                    </a:cubicBezTo>
                    <a:cubicBezTo>
                      <a:pt x="1216" y="1"/>
                      <a:pt x="1217" y="0"/>
                      <a:pt x="1218" y="0"/>
                    </a:cubicBezTo>
                    <a:close/>
                    <a:moveTo>
                      <a:pt x="1226" y="0"/>
                    </a:moveTo>
                    <a:lnTo>
                      <a:pt x="1226" y="0"/>
                    </a:lnTo>
                    <a:cubicBezTo>
                      <a:pt x="1228" y="0"/>
                      <a:pt x="1228" y="1"/>
                      <a:pt x="1228" y="2"/>
                    </a:cubicBezTo>
                    <a:cubicBezTo>
                      <a:pt x="1228" y="3"/>
                      <a:pt x="1228" y="4"/>
                      <a:pt x="1226" y="4"/>
                    </a:cubicBezTo>
                    <a:lnTo>
                      <a:pt x="1226" y="4"/>
                    </a:lnTo>
                    <a:cubicBezTo>
                      <a:pt x="1225" y="4"/>
                      <a:pt x="1224" y="3"/>
                      <a:pt x="1224" y="2"/>
                    </a:cubicBezTo>
                    <a:cubicBezTo>
                      <a:pt x="1224" y="1"/>
                      <a:pt x="1225" y="0"/>
                      <a:pt x="1226" y="0"/>
                    </a:cubicBezTo>
                    <a:close/>
                    <a:moveTo>
                      <a:pt x="1234" y="0"/>
                    </a:moveTo>
                    <a:lnTo>
                      <a:pt x="1234" y="0"/>
                    </a:lnTo>
                    <a:cubicBezTo>
                      <a:pt x="1236" y="0"/>
                      <a:pt x="1236" y="1"/>
                      <a:pt x="1236" y="2"/>
                    </a:cubicBezTo>
                    <a:cubicBezTo>
                      <a:pt x="1236" y="3"/>
                      <a:pt x="1236" y="4"/>
                      <a:pt x="1234" y="4"/>
                    </a:cubicBezTo>
                    <a:lnTo>
                      <a:pt x="1234" y="4"/>
                    </a:lnTo>
                    <a:cubicBezTo>
                      <a:pt x="1233" y="4"/>
                      <a:pt x="1232" y="3"/>
                      <a:pt x="1232" y="2"/>
                    </a:cubicBezTo>
                    <a:cubicBezTo>
                      <a:pt x="1232" y="1"/>
                      <a:pt x="1233" y="0"/>
                      <a:pt x="1234" y="0"/>
                    </a:cubicBezTo>
                    <a:close/>
                    <a:moveTo>
                      <a:pt x="1242" y="0"/>
                    </a:moveTo>
                    <a:lnTo>
                      <a:pt x="1242" y="0"/>
                    </a:lnTo>
                    <a:cubicBezTo>
                      <a:pt x="1244" y="0"/>
                      <a:pt x="1244" y="1"/>
                      <a:pt x="1244" y="2"/>
                    </a:cubicBezTo>
                    <a:cubicBezTo>
                      <a:pt x="1244" y="3"/>
                      <a:pt x="1244" y="4"/>
                      <a:pt x="1242" y="4"/>
                    </a:cubicBezTo>
                    <a:lnTo>
                      <a:pt x="1242" y="4"/>
                    </a:lnTo>
                    <a:cubicBezTo>
                      <a:pt x="1241" y="4"/>
                      <a:pt x="1240" y="3"/>
                      <a:pt x="1240" y="2"/>
                    </a:cubicBezTo>
                    <a:cubicBezTo>
                      <a:pt x="1240" y="1"/>
                      <a:pt x="1241" y="0"/>
                      <a:pt x="1242" y="0"/>
                    </a:cubicBezTo>
                    <a:close/>
                    <a:moveTo>
                      <a:pt x="1250" y="0"/>
                    </a:moveTo>
                    <a:lnTo>
                      <a:pt x="1250" y="0"/>
                    </a:lnTo>
                    <a:cubicBezTo>
                      <a:pt x="1252" y="0"/>
                      <a:pt x="1252" y="1"/>
                      <a:pt x="1252" y="2"/>
                    </a:cubicBezTo>
                    <a:cubicBezTo>
                      <a:pt x="1252" y="3"/>
                      <a:pt x="1252" y="4"/>
                      <a:pt x="1250" y="4"/>
                    </a:cubicBezTo>
                    <a:lnTo>
                      <a:pt x="1250" y="4"/>
                    </a:lnTo>
                    <a:cubicBezTo>
                      <a:pt x="1249" y="4"/>
                      <a:pt x="1248" y="3"/>
                      <a:pt x="1248" y="2"/>
                    </a:cubicBezTo>
                    <a:cubicBezTo>
                      <a:pt x="1248" y="1"/>
                      <a:pt x="1249" y="0"/>
                      <a:pt x="1250" y="0"/>
                    </a:cubicBezTo>
                    <a:close/>
                    <a:moveTo>
                      <a:pt x="1258" y="0"/>
                    </a:moveTo>
                    <a:lnTo>
                      <a:pt x="1258" y="0"/>
                    </a:lnTo>
                    <a:cubicBezTo>
                      <a:pt x="1260" y="0"/>
                      <a:pt x="1260" y="1"/>
                      <a:pt x="1260" y="2"/>
                    </a:cubicBezTo>
                    <a:cubicBezTo>
                      <a:pt x="1260" y="3"/>
                      <a:pt x="1260" y="4"/>
                      <a:pt x="1258" y="4"/>
                    </a:cubicBezTo>
                    <a:lnTo>
                      <a:pt x="1258" y="4"/>
                    </a:lnTo>
                    <a:cubicBezTo>
                      <a:pt x="1257" y="4"/>
                      <a:pt x="1256" y="3"/>
                      <a:pt x="1256" y="2"/>
                    </a:cubicBezTo>
                    <a:cubicBezTo>
                      <a:pt x="1256" y="1"/>
                      <a:pt x="1257" y="0"/>
                      <a:pt x="1258" y="0"/>
                    </a:cubicBezTo>
                    <a:close/>
                    <a:moveTo>
                      <a:pt x="1266" y="0"/>
                    </a:moveTo>
                    <a:lnTo>
                      <a:pt x="1266" y="0"/>
                    </a:lnTo>
                    <a:cubicBezTo>
                      <a:pt x="1268" y="0"/>
                      <a:pt x="1268" y="1"/>
                      <a:pt x="1268" y="2"/>
                    </a:cubicBezTo>
                    <a:cubicBezTo>
                      <a:pt x="1268" y="3"/>
                      <a:pt x="1268" y="4"/>
                      <a:pt x="1266" y="4"/>
                    </a:cubicBezTo>
                    <a:lnTo>
                      <a:pt x="1266" y="4"/>
                    </a:lnTo>
                    <a:cubicBezTo>
                      <a:pt x="1265" y="4"/>
                      <a:pt x="1264" y="3"/>
                      <a:pt x="1264" y="2"/>
                    </a:cubicBezTo>
                    <a:cubicBezTo>
                      <a:pt x="1264" y="1"/>
                      <a:pt x="1265" y="0"/>
                      <a:pt x="1266" y="0"/>
                    </a:cubicBezTo>
                    <a:close/>
                    <a:moveTo>
                      <a:pt x="1274" y="0"/>
                    </a:moveTo>
                    <a:lnTo>
                      <a:pt x="1274" y="0"/>
                    </a:lnTo>
                    <a:cubicBezTo>
                      <a:pt x="1276" y="0"/>
                      <a:pt x="1276" y="1"/>
                      <a:pt x="1276" y="2"/>
                    </a:cubicBezTo>
                    <a:cubicBezTo>
                      <a:pt x="1276" y="3"/>
                      <a:pt x="1276" y="4"/>
                      <a:pt x="1274" y="4"/>
                    </a:cubicBezTo>
                    <a:lnTo>
                      <a:pt x="1274" y="4"/>
                    </a:lnTo>
                    <a:cubicBezTo>
                      <a:pt x="1273" y="4"/>
                      <a:pt x="1272" y="3"/>
                      <a:pt x="1272" y="2"/>
                    </a:cubicBezTo>
                    <a:cubicBezTo>
                      <a:pt x="1272" y="1"/>
                      <a:pt x="1273" y="0"/>
                      <a:pt x="1274" y="0"/>
                    </a:cubicBezTo>
                    <a:close/>
                    <a:moveTo>
                      <a:pt x="1282" y="0"/>
                    </a:moveTo>
                    <a:lnTo>
                      <a:pt x="1282" y="0"/>
                    </a:lnTo>
                    <a:cubicBezTo>
                      <a:pt x="1284" y="0"/>
                      <a:pt x="1284" y="1"/>
                      <a:pt x="1284" y="2"/>
                    </a:cubicBezTo>
                    <a:cubicBezTo>
                      <a:pt x="1284" y="3"/>
                      <a:pt x="1284" y="4"/>
                      <a:pt x="1282" y="4"/>
                    </a:cubicBezTo>
                    <a:lnTo>
                      <a:pt x="1282" y="4"/>
                    </a:lnTo>
                    <a:cubicBezTo>
                      <a:pt x="1281" y="4"/>
                      <a:pt x="1280" y="3"/>
                      <a:pt x="1280" y="2"/>
                    </a:cubicBezTo>
                    <a:cubicBezTo>
                      <a:pt x="1280" y="1"/>
                      <a:pt x="1281" y="0"/>
                      <a:pt x="1282" y="0"/>
                    </a:cubicBezTo>
                    <a:close/>
                    <a:moveTo>
                      <a:pt x="1290" y="0"/>
                    </a:moveTo>
                    <a:lnTo>
                      <a:pt x="1290" y="0"/>
                    </a:lnTo>
                    <a:cubicBezTo>
                      <a:pt x="1292" y="0"/>
                      <a:pt x="1292" y="1"/>
                      <a:pt x="1292" y="2"/>
                    </a:cubicBezTo>
                    <a:cubicBezTo>
                      <a:pt x="1292" y="3"/>
                      <a:pt x="1292" y="4"/>
                      <a:pt x="1290" y="4"/>
                    </a:cubicBezTo>
                    <a:lnTo>
                      <a:pt x="1290" y="4"/>
                    </a:lnTo>
                    <a:cubicBezTo>
                      <a:pt x="1289" y="4"/>
                      <a:pt x="1288" y="3"/>
                      <a:pt x="1288" y="2"/>
                    </a:cubicBezTo>
                    <a:cubicBezTo>
                      <a:pt x="1288" y="1"/>
                      <a:pt x="1289" y="0"/>
                      <a:pt x="1290" y="0"/>
                    </a:cubicBezTo>
                    <a:close/>
                    <a:moveTo>
                      <a:pt x="1298" y="0"/>
                    </a:moveTo>
                    <a:lnTo>
                      <a:pt x="1298" y="0"/>
                    </a:lnTo>
                    <a:cubicBezTo>
                      <a:pt x="1300" y="0"/>
                      <a:pt x="1300" y="1"/>
                      <a:pt x="1300" y="2"/>
                    </a:cubicBezTo>
                    <a:cubicBezTo>
                      <a:pt x="1300" y="3"/>
                      <a:pt x="1300" y="4"/>
                      <a:pt x="1298" y="4"/>
                    </a:cubicBezTo>
                    <a:lnTo>
                      <a:pt x="1298" y="4"/>
                    </a:lnTo>
                    <a:cubicBezTo>
                      <a:pt x="1297" y="4"/>
                      <a:pt x="1296" y="3"/>
                      <a:pt x="1296" y="2"/>
                    </a:cubicBezTo>
                    <a:cubicBezTo>
                      <a:pt x="1296" y="1"/>
                      <a:pt x="1297" y="0"/>
                      <a:pt x="1298" y="0"/>
                    </a:cubicBezTo>
                    <a:close/>
                    <a:moveTo>
                      <a:pt x="1306" y="0"/>
                    </a:moveTo>
                    <a:lnTo>
                      <a:pt x="1306" y="0"/>
                    </a:lnTo>
                    <a:cubicBezTo>
                      <a:pt x="1308" y="0"/>
                      <a:pt x="1308" y="1"/>
                      <a:pt x="1308" y="2"/>
                    </a:cubicBezTo>
                    <a:cubicBezTo>
                      <a:pt x="1308" y="3"/>
                      <a:pt x="1308" y="4"/>
                      <a:pt x="1306" y="4"/>
                    </a:cubicBezTo>
                    <a:lnTo>
                      <a:pt x="1306" y="4"/>
                    </a:lnTo>
                    <a:cubicBezTo>
                      <a:pt x="1305" y="4"/>
                      <a:pt x="1304" y="3"/>
                      <a:pt x="1304" y="2"/>
                    </a:cubicBezTo>
                    <a:cubicBezTo>
                      <a:pt x="1304" y="1"/>
                      <a:pt x="1305" y="0"/>
                      <a:pt x="1306" y="0"/>
                    </a:cubicBezTo>
                    <a:close/>
                    <a:moveTo>
                      <a:pt x="1314" y="0"/>
                    </a:moveTo>
                    <a:lnTo>
                      <a:pt x="1314" y="0"/>
                    </a:lnTo>
                    <a:cubicBezTo>
                      <a:pt x="1316" y="0"/>
                      <a:pt x="1316" y="1"/>
                      <a:pt x="1316" y="2"/>
                    </a:cubicBezTo>
                    <a:cubicBezTo>
                      <a:pt x="1316" y="3"/>
                      <a:pt x="1316" y="4"/>
                      <a:pt x="1314" y="4"/>
                    </a:cubicBezTo>
                    <a:lnTo>
                      <a:pt x="1314" y="4"/>
                    </a:lnTo>
                    <a:cubicBezTo>
                      <a:pt x="1313" y="4"/>
                      <a:pt x="1312" y="3"/>
                      <a:pt x="1312" y="2"/>
                    </a:cubicBezTo>
                    <a:cubicBezTo>
                      <a:pt x="1312" y="1"/>
                      <a:pt x="1313" y="0"/>
                      <a:pt x="1314" y="0"/>
                    </a:cubicBezTo>
                    <a:close/>
                    <a:moveTo>
                      <a:pt x="1322" y="0"/>
                    </a:moveTo>
                    <a:lnTo>
                      <a:pt x="1322" y="0"/>
                    </a:lnTo>
                    <a:cubicBezTo>
                      <a:pt x="1324" y="0"/>
                      <a:pt x="1324" y="1"/>
                      <a:pt x="1324" y="2"/>
                    </a:cubicBezTo>
                    <a:cubicBezTo>
                      <a:pt x="1324" y="3"/>
                      <a:pt x="1324" y="4"/>
                      <a:pt x="1322" y="4"/>
                    </a:cubicBezTo>
                    <a:lnTo>
                      <a:pt x="1322" y="4"/>
                    </a:lnTo>
                    <a:cubicBezTo>
                      <a:pt x="1321" y="4"/>
                      <a:pt x="1320" y="3"/>
                      <a:pt x="1320" y="2"/>
                    </a:cubicBezTo>
                    <a:cubicBezTo>
                      <a:pt x="1320" y="1"/>
                      <a:pt x="1321" y="0"/>
                      <a:pt x="1322" y="0"/>
                    </a:cubicBezTo>
                    <a:close/>
                    <a:moveTo>
                      <a:pt x="1330" y="0"/>
                    </a:moveTo>
                    <a:lnTo>
                      <a:pt x="1330" y="0"/>
                    </a:lnTo>
                    <a:cubicBezTo>
                      <a:pt x="1332" y="0"/>
                      <a:pt x="1332" y="1"/>
                      <a:pt x="1332" y="2"/>
                    </a:cubicBezTo>
                    <a:cubicBezTo>
                      <a:pt x="1332" y="3"/>
                      <a:pt x="1332" y="4"/>
                      <a:pt x="1330" y="4"/>
                    </a:cubicBezTo>
                    <a:lnTo>
                      <a:pt x="1330" y="4"/>
                    </a:lnTo>
                    <a:cubicBezTo>
                      <a:pt x="1329" y="4"/>
                      <a:pt x="1328" y="3"/>
                      <a:pt x="1328" y="2"/>
                    </a:cubicBezTo>
                    <a:cubicBezTo>
                      <a:pt x="1328" y="1"/>
                      <a:pt x="1329" y="0"/>
                      <a:pt x="1330" y="0"/>
                    </a:cubicBezTo>
                    <a:close/>
                    <a:moveTo>
                      <a:pt x="1338" y="0"/>
                    </a:moveTo>
                    <a:lnTo>
                      <a:pt x="1338" y="0"/>
                    </a:lnTo>
                    <a:cubicBezTo>
                      <a:pt x="1340" y="0"/>
                      <a:pt x="1340" y="1"/>
                      <a:pt x="1340" y="2"/>
                    </a:cubicBezTo>
                    <a:cubicBezTo>
                      <a:pt x="1340" y="3"/>
                      <a:pt x="1340" y="4"/>
                      <a:pt x="1338" y="4"/>
                    </a:cubicBezTo>
                    <a:lnTo>
                      <a:pt x="1338" y="4"/>
                    </a:lnTo>
                    <a:cubicBezTo>
                      <a:pt x="1337" y="4"/>
                      <a:pt x="1336" y="3"/>
                      <a:pt x="1336" y="2"/>
                    </a:cubicBezTo>
                    <a:cubicBezTo>
                      <a:pt x="1336" y="1"/>
                      <a:pt x="1337" y="0"/>
                      <a:pt x="1338" y="0"/>
                    </a:cubicBezTo>
                    <a:close/>
                    <a:moveTo>
                      <a:pt x="1346" y="0"/>
                    </a:moveTo>
                    <a:lnTo>
                      <a:pt x="1346" y="0"/>
                    </a:lnTo>
                    <a:cubicBezTo>
                      <a:pt x="1348" y="0"/>
                      <a:pt x="1348" y="1"/>
                      <a:pt x="1348" y="2"/>
                    </a:cubicBezTo>
                    <a:cubicBezTo>
                      <a:pt x="1348" y="3"/>
                      <a:pt x="1348" y="4"/>
                      <a:pt x="1346" y="4"/>
                    </a:cubicBezTo>
                    <a:lnTo>
                      <a:pt x="1346" y="4"/>
                    </a:lnTo>
                    <a:cubicBezTo>
                      <a:pt x="1345" y="4"/>
                      <a:pt x="1344" y="3"/>
                      <a:pt x="1344" y="2"/>
                    </a:cubicBezTo>
                    <a:cubicBezTo>
                      <a:pt x="1344" y="1"/>
                      <a:pt x="1345" y="0"/>
                      <a:pt x="1346" y="0"/>
                    </a:cubicBezTo>
                    <a:close/>
                    <a:moveTo>
                      <a:pt x="1354" y="0"/>
                    </a:moveTo>
                    <a:lnTo>
                      <a:pt x="1354" y="0"/>
                    </a:lnTo>
                    <a:cubicBezTo>
                      <a:pt x="1356" y="0"/>
                      <a:pt x="1356" y="1"/>
                      <a:pt x="1356" y="2"/>
                    </a:cubicBezTo>
                    <a:cubicBezTo>
                      <a:pt x="1356" y="3"/>
                      <a:pt x="1356" y="4"/>
                      <a:pt x="1354" y="4"/>
                    </a:cubicBezTo>
                    <a:lnTo>
                      <a:pt x="1354" y="4"/>
                    </a:lnTo>
                    <a:cubicBezTo>
                      <a:pt x="1353" y="4"/>
                      <a:pt x="1352" y="3"/>
                      <a:pt x="1352" y="2"/>
                    </a:cubicBezTo>
                    <a:cubicBezTo>
                      <a:pt x="1352" y="1"/>
                      <a:pt x="1353" y="0"/>
                      <a:pt x="1354" y="0"/>
                    </a:cubicBezTo>
                    <a:close/>
                    <a:moveTo>
                      <a:pt x="1362" y="0"/>
                    </a:moveTo>
                    <a:lnTo>
                      <a:pt x="1362" y="0"/>
                    </a:lnTo>
                    <a:cubicBezTo>
                      <a:pt x="1364" y="0"/>
                      <a:pt x="1364" y="1"/>
                      <a:pt x="1364" y="2"/>
                    </a:cubicBezTo>
                    <a:cubicBezTo>
                      <a:pt x="1364" y="3"/>
                      <a:pt x="1364" y="4"/>
                      <a:pt x="1362" y="4"/>
                    </a:cubicBezTo>
                    <a:lnTo>
                      <a:pt x="1362" y="4"/>
                    </a:lnTo>
                    <a:cubicBezTo>
                      <a:pt x="1361" y="4"/>
                      <a:pt x="1360" y="3"/>
                      <a:pt x="1360" y="2"/>
                    </a:cubicBezTo>
                    <a:cubicBezTo>
                      <a:pt x="1360" y="1"/>
                      <a:pt x="1361" y="0"/>
                      <a:pt x="1362" y="0"/>
                    </a:cubicBezTo>
                    <a:close/>
                    <a:moveTo>
                      <a:pt x="1370" y="0"/>
                    </a:moveTo>
                    <a:lnTo>
                      <a:pt x="1370" y="0"/>
                    </a:lnTo>
                    <a:cubicBezTo>
                      <a:pt x="1372" y="0"/>
                      <a:pt x="1372" y="1"/>
                      <a:pt x="1372" y="2"/>
                    </a:cubicBezTo>
                    <a:cubicBezTo>
                      <a:pt x="1372" y="3"/>
                      <a:pt x="1372" y="4"/>
                      <a:pt x="1370" y="4"/>
                    </a:cubicBezTo>
                    <a:lnTo>
                      <a:pt x="1370" y="4"/>
                    </a:lnTo>
                    <a:cubicBezTo>
                      <a:pt x="1369" y="4"/>
                      <a:pt x="1368" y="3"/>
                      <a:pt x="1368" y="2"/>
                    </a:cubicBezTo>
                    <a:cubicBezTo>
                      <a:pt x="1368" y="1"/>
                      <a:pt x="1369" y="0"/>
                      <a:pt x="1370" y="0"/>
                    </a:cubicBezTo>
                    <a:close/>
                    <a:moveTo>
                      <a:pt x="1378" y="0"/>
                    </a:moveTo>
                    <a:lnTo>
                      <a:pt x="1378" y="0"/>
                    </a:lnTo>
                    <a:cubicBezTo>
                      <a:pt x="1380" y="0"/>
                      <a:pt x="1380" y="1"/>
                      <a:pt x="1380" y="2"/>
                    </a:cubicBezTo>
                    <a:cubicBezTo>
                      <a:pt x="1380" y="3"/>
                      <a:pt x="1380" y="4"/>
                      <a:pt x="1378" y="4"/>
                    </a:cubicBezTo>
                    <a:lnTo>
                      <a:pt x="1378" y="4"/>
                    </a:lnTo>
                    <a:cubicBezTo>
                      <a:pt x="1377" y="4"/>
                      <a:pt x="1376" y="3"/>
                      <a:pt x="1376" y="2"/>
                    </a:cubicBezTo>
                    <a:cubicBezTo>
                      <a:pt x="1376" y="1"/>
                      <a:pt x="1377" y="0"/>
                      <a:pt x="1378" y="0"/>
                    </a:cubicBezTo>
                    <a:close/>
                    <a:moveTo>
                      <a:pt x="1386" y="0"/>
                    </a:moveTo>
                    <a:lnTo>
                      <a:pt x="1386" y="0"/>
                    </a:lnTo>
                    <a:cubicBezTo>
                      <a:pt x="1388" y="0"/>
                      <a:pt x="1388" y="1"/>
                      <a:pt x="1388" y="2"/>
                    </a:cubicBezTo>
                    <a:cubicBezTo>
                      <a:pt x="1388" y="3"/>
                      <a:pt x="1388" y="4"/>
                      <a:pt x="1386" y="4"/>
                    </a:cubicBezTo>
                    <a:lnTo>
                      <a:pt x="1386" y="4"/>
                    </a:lnTo>
                    <a:cubicBezTo>
                      <a:pt x="1385" y="4"/>
                      <a:pt x="1384" y="3"/>
                      <a:pt x="1384" y="2"/>
                    </a:cubicBezTo>
                    <a:cubicBezTo>
                      <a:pt x="1384" y="1"/>
                      <a:pt x="1385" y="0"/>
                      <a:pt x="1386" y="0"/>
                    </a:cubicBezTo>
                    <a:close/>
                    <a:moveTo>
                      <a:pt x="1394" y="0"/>
                    </a:moveTo>
                    <a:lnTo>
                      <a:pt x="1394" y="0"/>
                    </a:lnTo>
                    <a:cubicBezTo>
                      <a:pt x="1396" y="0"/>
                      <a:pt x="1396" y="1"/>
                      <a:pt x="1396" y="2"/>
                    </a:cubicBezTo>
                    <a:cubicBezTo>
                      <a:pt x="1396" y="3"/>
                      <a:pt x="1396" y="4"/>
                      <a:pt x="1394" y="4"/>
                    </a:cubicBezTo>
                    <a:lnTo>
                      <a:pt x="1394" y="4"/>
                    </a:lnTo>
                    <a:cubicBezTo>
                      <a:pt x="1393" y="4"/>
                      <a:pt x="1392" y="3"/>
                      <a:pt x="1392" y="2"/>
                    </a:cubicBezTo>
                    <a:cubicBezTo>
                      <a:pt x="1392" y="1"/>
                      <a:pt x="1393" y="0"/>
                      <a:pt x="1394" y="0"/>
                    </a:cubicBezTo>
                    <a:close/>
                    <a:moveTo>
                      <a:pt x="1402" y="0"/>
                    </a:moveTo>
                    <a:lnTo>
                      <a:pt x="1402" y="0"/>
                    </a:lnTo>
                    <a:cubicBezTo>
                      <a:pt x="1404" y="0"/>
                      <a:pt x="1404" y="1"/>
                      <a:pt x="1404" y="2"/>
                    </a:cubicBezTo>
                    <a:cubicBezTo>
                      <a:pt x="1404" y="3"/>
                      <a:pt x="1404" y="4"/>
                      <a:pt x="1402" y="4"/>
                    </a:cubicBezTo>
                    <a:lnTo>
                      <a:pt x="1402" y="4"/>
                    </a:lnTo>
                    <a:cubicBezTo>
                      <a:pt x="1401" y="4"/>
                      <a:pt x="1400" y="3"/>
                      <a:pt x="1400" y="2"/>
                    </a:cubicBezTo>
                    <a:cubicBezTo>
                      <a:pt x="1400" y="1"/>
                      <a:pt x="1401" y="0"/>
                      <a:pt x="1402" y="0"/>
                    </a:cubicBezTo>
                    <a:close/>
                    <a:moveTo>
                      <a:pt x="1410" y="0"/>
                    </a:moveTo>
                    <a:lnTo>
                      <a:pt x="1410" y="0"/>
                    </a:lnTo>
                    <a:cubicBezTo>
                      <a:pt x="1412" y="0"/>
                      <a:pt x="1412" y="1"/>
                      <a:pt x="1412" y="2"/>
                    </a:cubicBezTo>
                    <a:cubicBezTo>
                      <a:pt x="1412" y="3"/>
                      <a:pt x="1412" y="4"/>
                      <a:pt x="1410" y="4"/>
                    </a:cubicBezTo>
                    <a:lnTo>
                      <a:pt x="1410" y="4"/>
                    </a:lnTo>
                    <a:cubicBezTo>
                      <a:pt x="1409" y="4"/>
                      <a:pt x="1408" y="3"/>
                      <a:pt x="1408" y="2"/>
                    </a:cubicBezTo>
                    <a:cubicBezTo>
                      <a:pt x="1408" y="1"/>
                      <a:pt x="1409" y="0"/>
                      <a:pt x="1410" y="0"/>
                    </a:cubicBezTo>
                    <a:close/>
                    <a:moveTo>
                      <a:pt x="1418" y="0"/>
                    </a:moveTo>
                    <a:lnTo>
                      <a:pt x="1418" y="0"/>
                    </a:lnTo>
                    <a:cubicBezTo>
                      <a:pt x="1420" y="0"/>
                      <a:pt x="1420" y="1"/>
                      <a:pt x="1420" y="2"/>
                    </a:cubicBezTo>
                    <a:cubicBezTo>
                      <a:pt x="1420" y="3"/>
                      <a:pt x="1420" y="4"/>
                      <a:pt x="1418" y="4"/>
                    </a:cubicBezTo>
                    <a:lnTo>
                      <a:pt x="1418" y="4"/>
                    </a:lnTo>
                    <a:cubicBezTo>
                      <a:pt x="1417" y="4"/>
                      <a:pt x="1416" y="3"/>
                      <a:pt x="1416" y="2"/>
                    </a:cubicBezTo>
                    <a:cubicBezTo>
                      <a:pt x="1416" y="1"/>
                      <a:pt x="1417" y="0"/>
                      <a:pt x="1418" y="0"/>
                    </a:cubicBezTo>
                    <a:close/>
                    <a:moveTo>
                      <a:pt x="1426" y="0"/>
                    </a:moveTo>
                    <a:lnTo>
                      <a:pt x="1427" y="0"/>
                    </a:lnTo>
                    <a:cubicBezTo>
                      <a:pt x="1428" y="0"/>
                      <a:pt x="1429" y="1"/>
                      <a:pt x="1429" y="2"/>
                    </a:cubicBezTo>
                    <a:cubicBezTo>
                      <a:pt x="1429" y="3"/>
                      <a:pt x="1428" y="4"/>
                      <a:pt x="1427" y="4"/>
                    </a:cubicBezTo>
                    <a:lnTo>
                      <a:pt x="1426" y="4"/>
                    </a:lnTo>
                    <a:cubicBezTo>
                      <a:pt x="1425" y="4"/>
                      <a:pt x="1424" y="3"/>
                      <a:pt x="1424" y="2"/>
                    </a:cubicBezTo>
                    <a:cubicBezTo>
                      <a:pt x="1424" y="1"/>
                      <a:pt x="1425" y="0"/>
                      <a:pt x="1426" y="0"/>
                    </a:cubicBezTo>
                    <a:close/>
                    <a:moveTo>
                      <a:pt x="1435" y="0"/>
                    </a:moveTo>
                    <a:lnTo>
                      <a:pt x="1435" y="0"/>
                    </a:lnTo>
                    <a:cubicBezTo>
                      <a:pt x="1436" y="0"/>
                      <a:pt x="1437" y="1"/>
                      <a:pt x="1437" y="2"/>
                    </a:cubicBezTo>
                    <a:cubicBezTo>
                      <a:pt x="1437" y="3"/>
                      <a:pt x="1436" y="4"/>
                      <a:pt x="1435" y="4"/>
                    </a:cubicBezTo>
                    <a:lnTo>
                      <a:pt x="1435" y="4"/>
                    </a:lnTo>
                    <a:cubicBezTo>
                      <a:pt x="1433" y="4"/>
                      <a:pt x="1433" y="3"/>
                      <a:pt x="1433" y="2"/>
                    </a:cubicBezTo>
                    <a:cubicBezTo>
                      <a:pt x="1433" y="1"/>
                      <a:pt x="1433" y="0"/>
                      <a:pt x="1435" y="0"/>
                    </a:cubicBezTo>
                    <a:close/>
                    <a:moveTo>
                      <a:pt x="1443" y="0"/>
                    </a:moveTo>
                    <a:lnTo>
                      <a:pt x="1443" y="0"/>
                    </a:lnTo>
                    <a:cubicBezTo>
                      <a:pt x="1444" y="0"/>
                      <a:pt x="1445" y="1"/>
                      <a:pt x="1445" y="2"/>
                    </a:cubicBezTo>
                    <a:cubicBezTo>
                      <a:pt x="1445" y="3"/>
                      <a:pt x="1444" y="4"/>
                      <a:pt x="1443" y="4"/>
                    </a:cubicBezTo>
                    <a:lnTo>
                      <a:pt x="1443" y="4"/>
                    </a:lnTo>
                    <a:cubicBezTo>
                      <a:pt x="1441" y="4"/>
                      <a:pt x="1441" y="3"/>
                      <a:pt x="1441" y="2"/>
                    </a:cubicBezTo>
                    <a:cubicBezTo>
                      <a:pt x="1441" y="1"/>
                      <a:pt x="1441" y="0"/>
                      <a:pt x="1443" y="0"/>
                    </a:cubicBezTo>
                    <a:close/>
                    <a:moveTo>
                      <a:pt x="1451" y="0"/>
                    </a:moveTo>
                    <a:lnTo>
                      <a:pt x="1451" y="0"/>
                    </a:lnTo>
                    <a:cubicBezTo>
                      <a:pt x="1452" y="0"/>
                      <a:pt x="1453" y="1"/>
                      <a:pt x="1453" y="2"/>
                    </a:cubicBezTo>
                    <a:cubicBezTo>
                      <a:pt x="1453" y="3"/>
                      <a:pt x="1452" y="4"/>
                      <a:pt x="1451" y="4"/>
                    </a:cubicBezTo>
                    <a:lnTo>
                      <a:pt x="1451" y="4"/>
                    </a:lnTo>
                    <a:cubicBezTo>
                      <a:pt x="1449" y="4"/>
                      <a:pt x="1449" y="3"/>
                      <a:pt x="1449" y="2"/>
                    </a:cubicBezTo>
                    <a:cubicBezTo>
                      <a:pt x="1449" y="1"/>
                      <a:pt x="1449" y="0"/>
                      <a:pt x="1451" y="0"/>
                    </a:cubicBezTo>
                    <a:close/>
                    <a:moveTo>
                      <a:pt x="1459" y="0"/>
                    </a:moveTo>
                    <a:lnTo>
                      <a:pt x="1459" y="0"/>
                    </a:lnTo>
                    <a:cubicBezTo>
                      <a:pt x="1460" y="0"/>
                      <a:pt x="1461" y="1"/>
                      <a:pt x="1461" y="2"/>
                    </a:cubicBezTo>
                    <a:cubicBezTo>
                      <a:pt x="1461" y="3"/>
                      <a:pt x="1460" y="4"/>
                      <a:pt x="1459" y="4"/>
                    </a:cubicBezTo>
                    <a:lnTo>
                      <a:pt x="1459" y="4"/>
                    </a:lnTo>
                    <a:cubicBezTo>
                      <a:pt x="1457" y="4"/>
                      <a:pt x="1457" y="3"/>
                      <a:pt x="1457" y="2"/>
                    </a:cubicBezTo>
                    <a:cubicBezTo>
                      <a:pt x="1457" y="1"/>
                      <a:pt x="1457" y="0"/>
                      <a:pt x="1459" y="0"/>
                    </a:cubicBezTo>
                    <a:close/>
                    <a:moveTo>
                      <a:pt x="1467" y="0"/>
                    </a:moveTo>
                    <a:lnTo>
                      <a:pt x="1467" y="0"/>
                    </a:lnTo>
                    <a:cubicBezTo>
                      <a:pt x="1468" y="0"/>
                      <a:pt x="1469" y="1"/>
                      <a:pt x="1469" y="2"/>
                    </a:cubicBezTo>
                    <a:cubicBezTo>
                      <a:pt x="1469" y="3"/>
                      <a:pt x="1468" y="4"/>
                      <a:pt x="1467" y="4"/>
                    </a:cubicBezTo>
                    <a:lnTo>
                      <a:pt x="1467" y="4"/>
                    </a:lnTo>
                    <a:cubicBezTo>
                      <a:pt x="1465" y="4"/>
                      <a:pt x="1465" y="3"/>
                      <a:pt x="1465" y="2"/>
                    </a:cubicBezTo>
                    <a:cubicBezTo>
                      <a:pt x="1465" y="1"/>
                      <a:pt x="1465" y="0"/>
                      <a:pt x="1467" y="0"/>
                    </a:cubicBezTo>
                    <a:close/>
                    <a:moveTo>
                      <a:pt x="1475" y="0"/>
                    </a:moveTo>
                    <a:lnTo>
                      <a:pt x="1475" y="0"/>
                    </a:lnTo>
                    <a:cubicBezTo>
                      <a:pt x="1476" y="0"/>
                      <a:pt x="1477" y="1"/>
                      <a:pt x="1477" y="2"/>
                    </a:cubicBezTo>
                    <a:cubicBezTo>
                      <a:pt x="1477" y="3"/>
                      <a:pt x="1476" y="4"/>
                      <a:pt x="1475" y="4"/>
                    </a:cubicBezTo>
                    <a:lnTo>
                      <a:pt x="1475" y="4"/>
                    </a:lnTo>
                    <a:cubicBezTo>
                      <a:pt x="1473" y="4"/>
                      <a:pt x="1473" y="3"/>
                      <a:pt x="1473" y="2"/>
                    </a:cubicBezTo>
                    <a:cubicBezTo>
                      <a:pt x="1473" y="1"/>
                      <a:pt x="1473" y="0"/>
                      <a:pt x="1475" y="0"/>
                    </a:cubicBezTo>
                    <a:close/>
                    <a:moveTo>
                      <a:pt x="1483" y="0"/>
                    </a:moveTo>
                    <a:lnTo>
                      <a:pt x="1483" y="0"/>
                    </a:lnTo>
                    <a:cubicBezTo>
                      <a:pt x="1484" y="0"/>
                      <a:pt x="1485" y="1"/>
                      <a:pt x="1485" y="2"/>
                    </a:cubicBezTo>
                    <a:cubicBezTo>
                      <a:pt x="1485" y="3"/>
                      <a:pt x="1484" y="4"/>
                      <a:pt x="1483" y="4"/>
                    </a:cubicBezTo>
                    <a:lnTo>
                      <a:pt x="1483" y="4"/>
                    </a:lnTo>
                    <a:cubicBezTo>
                      <a:pt x="1481" y="4"/>
                      <a:pt x="1481" y="3"/>
                      <a:pt x="1481" y="2"/>
                    </a:cubicBezTo>
                    <a:cubicBezTo>
                      <a:pt x="1481" y="1"/>
                      <a:pt x="1481" y="0"/>
                      <a:pt x="1483" y="0"/>
                    </a:cubicBezTo>
                    <a:close/>
                    <a:moveTo>
                      <a:pt x="1491" y="0"/>
                    </a:moveTo>
                    <a:lnTo>
                      <a:pt x="1491" y="0"/>
                    </a:lnTo>
                    <a:cubicBezTo>
                      <a:pt x="1492" y="0"/>
                      <a:pt x="1493" y="1"/>
                      <a:pt x="1493" y="2"/>
                    </a:cubicBezTo>
                    <a:cubicBezTo>
                      <a:pt x="1493" y="3"/>
                      <a:pt x="1492" y="4"/>
                      <a:pt x="1491" y="4"/>
                    </a:cubicBezTo>
                    <a:lnTo>
                      <a:pt x="1491" y="4"/>
                    </a:lnTo>
                    <a:cubicBezTo>
                      <a:pt x="1489" y="4"/>
                      <a:pt x="1489" y="3"/>
                      <a:pt x="1489" y="2"/>
                    </a:cubicBezTo>
                    <a:cubicBezTo>
                      <a:pt x="1489" y="1"/>
                      <a:pt x="1489" y="0"/>
                      <a:pt x="1491" y="0"/>
                    </a:cubicBezTo>
                    <a:close/>
                    <a:moveTo>
                      <a:pt x="1499" y="0"/>
                    </a:moveTo>
                    <a:lnTo>
                      <a:pt x="1499" y="0"/>
                    </a:lnTo>
                    <a:cubicBezTo>
                      <a:pt x="1500" y="0"/>
                      <a:pt x="1501" y="1"/>
                      <a:pt x="1501" y="2"/>
                    </a:cubicBezTo>
                    <a:cubicBezTo>
                      <a:pt x="1501" y="3"/>
                      <a:pt x="1500" y="4"/>
                      <a:pt x="1499" y="4"/>
                    </a:cubicBezTo>
                    <a:lnTo>
                      <a:pt x="1499" y="4"/>
                    </a:lnTo>
                    <a:cubicBezTo>
                      <a:pt x="1497" y="4"/>
                      <a:pt x="1497" y="3"/>
                      <a:pt x="1497" y="2"/>
                    </a:cubicBezTo>
                    <a:cubicBezTo>
                      <a:pt x="1497" y="1"/>
                      <a:pt x="1497" y="0"/>
                      <a:pt x="1499" y="0"/>
                    </a:cubicBezTo>
                    <a:close/>
                    <a:moveTo>
                      <a:pt x="1507" y="0"/>
                    </a:moveTo>
                    <a:lnTo>
                      <a:pt x="1507" y="0"/>
                    </a:lnTo>
                    <a:cubicBezTo>
                      <a:pt x="1508" y="0"/>
                      <a:pt x="1509" y="1"/>
                      <a:pt x="1509" y="2"/>
                    </a:cubicBezTo>
                    <a:cubicBezTo>
                      <a:pt x="1509" y="3"/>
                      <a:pt x="1508" y="4"/>
                      <a:pt x="1507" y="4"/>
                    </a:cubicBezTo>
                    <a:lnTo>
                      <a:pt x="1507" y="4"/>
                    </a:lnTo>
                    <a:cubicBezTo>
                      <a:pt x="1505" y="4"/>
                      <a:pt x="1505" y="3"/>
                      <a:pt x="1505" y="2"/>
                    </a:cubicBezTo>
                    <a:cubicBezTo>
                      <a:pt x="1505" y="1"/>
                      <a:pt x="1505" y="0"/>
                      <a:pt x="1507" y="0"/>
                    </a:cubicBezTo>
                    <a:close/>
                    <a:moveTo>
                      <a:pt x="1515" y="0"/>
                    </a:moveTo>
                    <a:lnTo>
                      <a:pt x="1515" y="0"/>
                    </a:lnTo>
                    <a:cubicBezTo>
                      <a:pt x="1516" y="0"/>
                      <a:pt x="1517" y="1"/>
                      <a:pt x="1517" y="2"/>
                    </a:cubicBezTo>
                    <a:cubicBezTo>
                      <a:pt x="1517" y="3"/>
                      <a:pt x="1516" y="4"/>
                      <a:pt x="1515" y="4"/>
                    </a:cubicBezTo>
                    <a:lnTo>
                      <a:pt x="1515" y="4"/>
                    </a:lnTo>
                    <a:cubicBezTo>
                      <a:pt x="1513" y="4"/>
                      <a:pt x="1513" y="3"/>
                      <a:pt x="1513" y="2"/>
                    </a:cubicBezTo>
                    <a:cubicBezTo>
                      <a:pt x="1513" y="1"/>
                      <a:pt x="1513" y="0"/>
                      <a:pt x="1515" y="0"/>
                    </a:cubicBezTo>
                    <a:close/>
                    <a:moveTo>
                      <a:pt x="1523" y="0"/>
                    </a:moveTo>
                    <a:lnTo>
                      <a:pt x="1523" y="0"/>
                    </a:lnTo>
                    <a:cubicBezTo>
                      <a:pt x="1524" y="0"/>
                      <a:pt x="1525" y="1"/>
                      <a:pt x="1525" y="2"/>
                    </a:cubicBezTo>
                    <a:cubicBezTo>
                      <a:pt x="1525" y="3"/>
                      <a:pt x="1524" y="4"/>
                      <a:pt x="1523" y="4"/>
                    </a:cubicBezTo>
                    <a:lnTo>
                      <a:pt x="1523" y="4"/>
                    </a:lnTo>
                    <a:cubicBezTo>
                      <a:pt x="1521" y="4"/>
                      <a:pt x="1521" y="3"/>
                      <a:pt x="1521" y="2"/>
                    </a:cubicBezTo>
                    <a:cubicBezTo>
                      <a:pt x="1521" y="1"/>
                      <a:pt x="1521" y="0"/>
                      <a:pt x="1523" y="0"/>
                    </a:cubicBezTo>
                    <a:close/>
                    <a:moveTo>
                      <a:pt x="1531" y="0"/>
                    </a:moveTo>
                    <a:lnTo>
                      <a:pt x="1531" y="0"/>
                    </a:lnTo>
                    <a:cubicBezTo>
                      <a:pt x="1532" y="0"/>
                      <a:pt x="1533" y="1"/>
                      <a:pt x="1533" y="2"/>
                    </a:cubicBezTo>
                    <a:cubicBezTo>
                      <a:pt x="1533" y="3"/>
                      <a:pt x="1532" y="4"/>
                      <a:pt x="1531" y="4"/>
                    </a:cubicBezTo>
                    <a:lnTo>
                      <a:pt x="1531" y="4"/>
                    </a:lnTo>
                    <a:cubicBezTo>
                      <a:pt x="1529" y="4"/>
                      <a:pt x="1529" y="3"/>
                      <a:pt x="1529" y="2"/>
                    </a:cubicBezTo>
                    <a:cubicBezTo>
                      <a:pt x="1529" y="1"/>
                      <a:pt x="1529" y="0"/>
                      <a:pt x="1531" y="0"/>
                    </a:cubicBezTo>
                    <a:close/>
                    <a:moveTo>
                      <a:pt x="1539" y="0"/>
                    </a:moveTo>
                    <a:lnTo>
                      <a:pt x="1539" y="0"/>
                    </a:lnTo>
                    <a:cubicBezTo>
                      <a:pt x="1540" y="0"/>
                      <a:pt x="1541" y="1"/>
                      <a:pt x="1541" y="2"/>
                    </a:cubicBezTo>
                    <a:cubicBezTo>
                      <a:pt x="1541" y="3"/>
                      <a:pt x="1540" y="4"/>
                      <a:pt x="1539" y="4"/>
                    </a:cubicBezTo>
                    <a:lnTo>
                      <a:pt x="1539" y="4"/>
                    </a:lnTo>
                    <a:cubicBezTo>
                      <a:pt x="1537" y="4"/>
                      <a:pt x="1537" y="3"/>
                      <a:pt x="1537" y="2"/>
                    </a:cubicBezTo>
                    <a:cubicBezTo>
                      <a:pt x="1537" y="1"/>
                      <a:pt x="1537" y="0"/>
                      <a:pt x="1539" y="0"/>
                    </a:cubicBezTo>
                    <a:close/>
                    <a:moveTo>
                      <a:pt x="1547" y="0"/>
                    </a:moveTo>
                    <a:lnTo>
                      <a:pt x="1547" y="0"/>
                    </a:lnTo>
                    <a:cubicBezTo>
                      <a:pt x="1548" y="0"/>
                      <a:pt x="1549" y="1"/>
                      <a:pt x="1549" y="2"/>
                    </a:cubicBezTo>
                    <a:cubicBezTo>
                      <a:pt x="1549" y="3"/>
                      <a:pt x="1548" y="4"/>
                      <a:pt x="1547" y="4"/>
                    </a:cubicBezTo>
                    <a:lnTo>
                      <a:pt x="1547" y="4"/>
                    </a:lnTo>
                    <a:cubicBezTo>
                      <a:pt x="1545" y="4"/>
                      <a:pt x="1545" y="3"/>
                      <a:pt x="1545" y="2"/>
                    </a:cubicBezTo>
                    <a:cubicBezTo>
                      <a:pt x="1545" y="1"/>
                      <a:pt x="1545" y="0"/>
                      <a:pt x="1547" y="0"/>
                    </a:cubicBezTo>
                    <a:close/>
                    <a:moveTo>
                      <a:pt x="1555" y="0"/>
                    </a:moveTo>
                    <a:lnTo>
                      <a:pt x="1555" y="0"/>
                    </a:lnTo>
                    <a:cubicBezTo>
                      <a:pt x="1556" y="0"/>
                      <a:pt x="1557" y="1"/>
                      <a:pt x="1557" y="2"/>
                    </a:cubicBezTo>
                    <a:cubicBezTo>
                      <a:pt x="1557" y="3"/>
                      <a:pt x="1556" y="4"/>
                      <a:pt x="1555" y="4"/>
                    </a:cubicBezTo>
                    <a:lnTo>
                      <a:pt x="1555" y="4"/>
                    </a:lnTo>
                    <a:cubicBezTo>
                      <a:pt x="1553" y="4"/>
                      <a:pt x="1553" y="3"/>
                      <a:pt x="1553" y="2"/>
                    </a:cubicBezTo>
                    <a:cubicBezTo>
                      <a:pt x="1553" y="1"/>
                      <a:pt x="1553" y="0"/>
                      <a:pt x="1555" y="0"/>
                    </a:cubicBezTo>
                    <a:close/>
                    <a:moveTo>
                      <a:pt x="1563" y="0"/>
                    </a:moveTo>
                    <a:lnTo>
                      <a:pt x="1563" y="0"/>
                    </a:lnTo>
                    <a:cubicBezTo>
                      <a:pt x="1564" y="0"/>
                      <a:pt x="1565" y="1"/>
                      <a:pt x="1565" y="2"/>
                    </a:cubicBezTo>
                    <a:cubicBezTo>
                      <a:pt x="1565" y="3"/>
                      <a:pt x="1564" y="4"/>
                      <a:pt x="1563" y="4"/>
                    </a:cubicBezTo>
                    <a:lnTo>
                      <a:pt x="1563" y="4"/>
                    </a:lnTo>
                    <a:cubicBezTo>
                      <a:pt x="1561" y="4"/>
                      <a:pt x="1561" y="3"/>
                      <a:pt x="1561" y="2"/>
                    </a:cubicBezTo>
                    <a:cubicBezTo>
                      <a:pt x="1561" y="1"/>
                      <a:pt x="1561" y="0"/>
                      <a:pt x="1563" y="0"/>
                    </a:cubicBezTo>
                    <a:close/>
                    <a:moveTo>
                      <a:pt x="1571" y="0"/>
                    </a:moveTo>
                    <a:lnTo>
                      <a:pt x="1571" y="0"/>
                    </a:lnTo>
                    <a:cubicBezTo>
                      <a:pt x="1572" y="0"/>
                      <a:pt x="1573" y="1"/>
                      <a:pt x="1573" y="2"/>
                    </a:cubicBezTo>
                    <a:cubicBezTo>
                      <a:pt x="1573" y="3"/>
                      <a:pt x="1572" y="4"/>
                      <a:pt x="1571" y="4"/>
                    </a:cubicBezTo>
                    <a:lnTo>
                      <a:pt x="1571" y="4"/>
                    </a:lnTo>
                    <a:cubicBezTo>
                      <a:pt x="1569" y="4"/>
                      <a:pt x="1569" y="3"/>
                      <a:pt x="1569" y="2"/>
                    </a:cubicBezTo>
                    <a:cubicBezTo>
                      <a:pt x="1569" y="1"/>
                      <a:pt x="1569" y="0"/>
                      <a:pt x="1571" y="0"/>
                    </a:cubicBezTo>
                    <a:close/>
                    <a:moveTo>
                      <a:pt x="1579" y="0"/>
                    </a:moveTo>
                    <a:lnTo>
                      <a:pt x="1579" y="0"/>
                    </a:lnTo>
                    <a:cubicBezTo>
                      <a:pt x="1580" y="0"/>
                      <a:pt x="1581" y="1"/>
                      <a:pt x="1581" y="2"/>
                    </a:cubicBezTo>
                    <a:cubicBezTo>
                      <a:pt x="1581" y="3"/>
                      <a:pt x="1580" y="4"/>
                      <a:pt x="1579" y="4"/>
                    </a:cubicBezTo>
                    <a:lnTo>
                      <a:pt x="1579" y="4"/>
                    </a:lnTo>
                    <a:cubicBezTo>
                      <a:pt x="1577" y="4"/>
                      <a:pt x="1577" y="3"/>
                      <a:pt x="1577" y="2"/>
                    </a:cubicBezTo>
                    <a:cubicBezTo>
                      <a:pt x="1577" y="1"/>
                      <a:pt x="1577" y="0"/>
                      <a:pt x="1579" y="0"/>
                    </a:cubicBezTo>
                    <a:close/>
                    <a:moveTo>
                      <a:pt x="1587" y="0"/>
                    </a:moveTo>
                    <a:lnTo>
                      <a:pt x="1587" y="0"/>
                    </a:lnTo>
                    <a:cubicBezTo>
                      <a:pt x="1588" y="0"/>
                      <a:pt x="1589" y="1"/>
                      <a:pt x="1589" y="2"/>
                    </a:cubicBezTo>
                    <a:cubicBezTo>
                      <a:pt x="1589" y="3"/>
                      <a:pt x="1588" y="4"/>
                      <a:pt x="1587" y="4"/>
                    </a:cubicBezTo>
                    <a:lnTo>
                      <a:pt x="1587" y="4"/>
                    </a:lnTo>
                    <a:cubicBezTo>
                      <a:pt x="1585" y="4"/>
                      <a:pt x="1585" y="3"/>
                      <a:pt x="1585" y="2"/>
                    </a:cubicBezTo>
                    <a:cubicBezTo>
                      <a:pt x="1585" y="1"/>
                      <a:pt x="1585" y="0"/>
                      <a:pt x="1587" y="0"/>
                    </a:cubicBezTo>
                    <a:close/>
                    <a:moveTo>
                      <a:pt x="1595" y="0"/>
                    </a:moveTo>
                    <a:lnTo>
                      <a:pt x="1595" y="0"/>
                    </a:lnTo>
                    <a:cubicBezTo>
                      <a:pt x="1596" y="0"/>
                      <a:pt x="1597" y="1"/>
                      <a:pt x="1597" y="2"/>
                    </a:cubicBezTo>
                    <a:cubicBezTo>
                      <a:pt x="1597" y="3"/>
                      <a:pt x="1596" y="4"/>
                      <a:pt x="1595" y="4"/>
                    </a:cubicBezTo>
                    <a:lnTo>
                      <a:pt x="1595" y="4"/>
                    </a:lnTo>
                    <a:cubicBezTo>
                      <a:pt x="1593" y="4"/>
                      <a:pt x="1593" y="3"/>
                      <a:pt x="1593" y="2"/>
                    </a:cubicBezTo>
                    <a:cubicBezTo>
                      <a:pt x="1593" y="1"/>
                      <a:pt x="1593" y="0"/>
                      <a:pt x="1595" y="0"/>
                    </a:cubicBezTo>
                    <a:close/>
                    <a:moveTo>
                      <a:pt x="1603" y="0"/>
                    </a:moveTo>
                    <a:lnTo>
                      <a:pt x="1603" y="0"/>
                    </a:lnTo>
                    <a:cubicBezTo>
                      <a:pt x="1604" y="0"/>
                      <a:pt x="1605" y="1"/>
                      <a:pt x="1605" y="2"/>
                    </a:cubicBezTo>
                    <a:cubicBezTo>
                      <a:pt x="1605" y="3"/>
                      <a:pt x="1604" y="4"/>
                      <a:pt x="1603" y="4"/>
                    </a:cubicBezTo>
                    <a:lnTo>
                      <a:pt x="1603" y="4"/>
                    </a:lnTo>
                    <a:cubicBezTo>
                      <a:pt x="1601" y="4"/>
                      <a:pt x="1601" y="3"/>
                      <a:pt x="1601" y="2"/>
                    </a:cubicBezTo>
                    <a:cubicBezTo>
                      <a:pt x="1601" y="1"/>
                      <a:pt x="1601" y="0"/>
                      <a:pt x="1603" y="0"/>
                    </a:cubicBezTo>
                    <a:close/>
                    <a:moveTo>
                      <a:pt x="1611" y="0"/>
                    </a:moveTo>
                    <a:lnTo>
                      <a:pt x="1611" y="0"/>
                    </a:lnTo>
                    <a:cubicBezTo>
                      <a:pt x="1612" y="0"/>
                      <a:pt x="1613" y="1"/>
                      <a:pt x="1613" y="2"/>
                    </a:cubicBezTo>
                    <a:cubicBezTo>
                      <a:pt x="1613" y="3"/>
                      <a:pt x="1612" y="4"/>
                      <a:pt x="1611" y="4"/>
                    </a:cubicBezTo>
                    <a:lnTo>
                      <a:pt x="1611" y="4"/>
                    </a:lnTo>
                    <a:cubicBezTo>
                      <a:pt x="1609" y="4"/>
                      <a:pt x="1609" y="3"/>
                      <a:pt x="1609" y="2"/>
                    </a:cubicBezTo>
                    <a:cubicBezTo>
                      <a:pt x="1609" y="1"/>
                      <a:pt x="1609" y="0"/>
                      <a:pt x="1611" y="0"/>
                    </a:cubicBezTo>
                    <a:close/>
                    <a:moveTo>
                      <a:pt x="1619" y="0"/>
                    </a:moveTo>
                    <a:lnTo>
                      <a:pt x="1619" y="0"/>
                    </a:lnTo>
                    <a:cubicBezTo>
                      <a:pt x="1620" y="0"/>
                      <a:pt x="1621" y="1"/>
                      <a:pt x="1621" y="2"/>
                    </a:cubicBezTo>
                    <a:cubicBezTo>
                      <a:pt x="1621" y="3"/>
                      <a:pt x="1620" y="4"/>
                      <a:pt x="1619" y="4"/>
                    </a:cubicBezTo>
                    <a:lnTo>
                      <a:pt x="1619" y="4"/>
                    </a:lnTo>
                    <a:cubicBezTo>
                      <a:pt x="1617" y="4"/>
                      <a:pt x="1617" y="3"/>
                      <a:pt x="1617" y="2"/>
                    </a:cubicBezTo>
                    <a:cubicBezTo>
                      <a:pt x="1617" y="1"/>
                      <a:pt x="1617" y="0"/>
                      <a:pt x="1619" y="0"/>
                    </a:cubicBezTo>
                    <a:close/>
                    <a:moveTo>
                      <a:pt x="1627" y="0"/>
                    </a:moveTo>
                    <a:lnTo>
                      <a:pt x="1627" y="0"/>
                    </a:lnTo>
                    <a:cubicBezTo>
                      <a:pt x="1628" y="0"/>
                      <a:pt x="1629" y="1"/>
                      <a:pt x="1629" y="2"/>
                    </a:cubicBezTo>
                    <a:cubicBezTo>
                      <a:pt x="1629" y="3"/>
                      <a:pt x="1628" y="4"/>
                      <a:pt x="1627" y="4"/>
                    </a:cubicBezTo>
                    <a:lnTo>
                      <a:pt x="1627" y="4"/>
                    </a:lnTo>
                    <a:cubicBezTo>
                      <a:pt x="1625" y="4"/>
                      <a:pt x="1625" y="3"/>
                      <a:pt x="1625" y="2"/>
                    </a:cubicBezTo>
                    <a:cubicBezTo>
                      <a:pt x="1625" y="1"/>
                      <a:pt x="1625" y="0"/>
                      <a:pt x="1627" y="0"/>
                    </a:cubicBezTo>
                    <a:close/>
                    <a:moveTo>
                      <a:pt x="1635" y="0"/>
                    </a:moveTo>
                    <a:lnTo>
                      <a:pt x="1635" y="0"/>
                    </a:lnTo>
                    <a:cubicBezTo>
                      <a:pt x="1636" y="0"/>
                      <a:pt x="1637" y="1"/>
                      <a:pt x="1637" y="2"/>
                    </a:cubicBezTo>
                    <a:cubicBezTo>
                      <a:pt x="1637" y="3"/>
                      <a:pt x="1636" y="4"/>
                      <a:pt x="1635" y="4"/>
                    </a:cubicBezTo>
                    <a:lnTo>
                      <a:pt x="1635" y="4"/>
                    </a:lnTo>
                    <a:cubicBezTo>
                      <a:pt x="1633" y="4"/>
                      <a:pt x="1633" y="3"/>
                      <a:pt x="1633" y="2"/>
                    </a:cubicBezTo>
                    <a:cubicBezTo>
                      <a:pt x="1633" y="1"/>
                      <a:pt x="1633" y="0"/>
                      <a:pt x="1635" y="0"/>
                    </a:cubicBezTo>
                    <a:close/>
                    <a:moveTo>
                      <a:pt x="1643" y="0"/>
                    </a:moveTo>
                    <a:lnTo>
                      <a:pt x="1643" y="0"/>
                    </a:lnTo>
                    <a:cubicBezTo>
                      <a:pt x="1644" y="0"/>
                      <a:pt x="1645" y="1"/>
                      <a:pt x="1645" y="2"/>
                    </a:cubicBezTo>
                    <a:cubicBezTo>
                      <a:pt x="1645" y="3"/>
                      <a:pt x="1644" y="4"/>
                      <a:pt x="1643" y="4"/>
                    </a:cubicBezTo>
                    <a:lnTo>
                      <a:pt x="1643" y="4"/>
                    </a:lnTo>
                    <a:cubicBezTo>
                      <a:pt x="1641" y="4"/>
                      <a:pt x="1641" y="3"/>
                      <a:pt x="1641" y="2"/>
                    </a:cubicBezTo>
                    <a:cubicBezTo>
                      <a:pt x="1641" y="1"/>
                      <a:pt x="1641" y="0"/>
                      <a:pt x="1643" y="0"/>
                    </a:cubicBezTo>
                    <a:close/>
                    <a:moveTo>
                      <a:pt x="1651" y="0"/>
                    </a:moveTo>
                    <a:lnTo>
                      <a:pt x="1651" y="0"/>
                    </a:lnTo>
                    <a:cubicBezTo>
                      <a:pt x="1652" y="0"/>
                      <a:pt x="1653" y="1"/>
                      <a:pt x="1653" y="2"/>
                    </a:cubicBezTo>
                    <a:cubicBezTo>
                      <a:pt x="1653" y="3"/>
                      <a:pt x="1652" y="4"/>
                      <a:pt x="1651" y="4"/>
                    </a:cubicBezTo>
                    <a:lnTo>
                      <a:pt x="1651" y="4"/>
                    </a:lnTo>
                    <a:cubicBezTo>
                      <a:pt x="1650" y="4"/>
                      <a:pt x="1649" y="3"/>
                      <a:pt x="1649" y="2"/>
                    </a:cubicBezTo>
                    <a:cubicBezTo>
                      <a:pt x="1649" y="1"/>
                      <a:pt x="1650" y="0"/>
                      <a:pt x="1651" y="0"/>
                    </a:cubicBezTo>
                    <a:close/>
                    <a:moveTo>
                      <a:pt x="1659" y="0"/>
                    </a:moveTo>
                    <a:lnTo>
                      <a:pt x="1659" y="0"/>
                    </a:lnTo>
                    <a:cubicBezTo>
                      <a:pt x="1660" y="0"/>
                      <a:pt x="1661" y="1"/>
                      <a:pt x="1661" y="2"/>
                    </a:cubicBezTo>
                    <a:cubicBezTo>
                      <a:pt x="1661" y="3"/>
                      <a:pt x="1660" y="4"/>
                      <a:pt x="1659" y="4"/>
                    </a:cubicBezTo>
                    <a:lnTo>
                      <a:pt x="1659" y="4"/>
                    </a:lnTo>
                    <a:cubicBezTo>
                      <a:pt x="1658" y="4"/>
                      <a:pt x="1657" y="3"/>
                      <a:pt x="1657" y="2"/>
                    </a:cubicBezTo>
                    <a:cubicBezTo>
                      <a:pt x="1657" y="1"/>
                      <a:pt x="1658" y="0"/>
                      <a:pt x="1659" y="0"/>
                    </a:cubicBezTo>
                    <a:close/>
                    <a:moveTo>
                      <a:pt x="1667" y="0"/>
                    </a:moveTo>
                    <a:lnTo>
                      <a:pt x="1667" y="0"/>
                    </a:lnTo>
                    <a:cubicBezTo>
                      <a:pt x="1668" y="0"/>
                      <a:pt x="1669" y="1"/>
                      <a:pt x="1669" y="2"/>
                    </a:cubicBezTo>
                    <a:cubicBezTo>
                      <a:pt x="1669" y="3"/>
                      <a:pt x="1668" y="4"/>
                      <a:pt x="1667" y="4"/>
                    </a:cubicBezTo>
                    <a:lnTo>
                      <a:pt x="1667" y="4"/>
                    </a:lnTo>
                    <a:cubicBezTo>
                      <a:pt x="1666" y="4"/>
                      <a:pt x="1665" y="3"/>
                      <a:pt x="1665" y="2"/>
                    </a:cubicBezTo>
                    <a:cubicBezTo>
                      <a:pt x="1665" y="1"/>
                      <a:pt x="1666" y="0"/>
                      <a:pt x="1667" y="0"/>
                    </a:cubicBezTo>
                    <a:close/>
                    <a:moveTo>
                      <a:pt x="1675" y="0"/>
                    </a:moveTo>
                    <a:lnTo>
                      <a:pt x="1675" y="0"/>
                    </a:lnTo>
                    <a:cubicBezTo>
                      <a:pt x="1676" y="0"/>
                      <a:pt x="1677" y="1"/>
                      <a:pt x="1677" y="2"/>
                    </a:cubicBezTo>
                    <a:cubicBezTo>
                      <a:pt x="1677" y="3"/>
                      <a:pt x="1676" y="4"/>
                      <a:pt x="1675" y="4"/>
                    </a:cubicBezTo>
                    <a:lnTo>
                      <a:pt x="1675" y="4"/>
                    </a:lnTo>
                    <a:cubicBezTo>
                      <a:pt x="1674" y="4"/>
                      <a:pt x="1673" y="3"/>
                      <a:pt x="1673" y="2"/>
                    </a:cubicBezTo>
                    <a:cubicBezTo>
                      <a:pt x="1673" y="1"/>
                      <a:pt x="1674" y="0"/>
                      <a:pt x="1675" y="0"/>
                    </a:cubicBezTo>
                    <a:close/>
                    <a:moveTo>
                      <a:pt x="1683" y="0"/>
                    </a:moveTo>
                    <a:lnTo>
                      <a:pt x="1683" y="0"/>
                    </a:lnTo>
                    <a:cubicBezTo>
                      <a:pt x="1684" y="0"/>
                      <a:pt x="1685" y="1"/>
                      <a:pt x="1685" y="2"/>
                    </a:cubicBezTo>
                    <a:cubicBezTo>
                      <a:pt x="1685" y="3"/>
                      <a:pt x="1684" y="4"/>
                      <a:pt x="1683" y="4"/>
                    </a:cubicBezTo>
                    <a:lnTo>
                      <a:pt x="1683" y="4"/>
                    </a:lnTo>
                    <a:cubicBezTo>
                      <a:pt x="1682" y="4"/>
                      <a:pt x="1681" y="3"/>
                      <a:pt x="1681" y="2"/>
                    </a:cubicBezTo>
                    <a:cubicBezTo>
                      <a:pt x="1681" y="1"/>
                      <a:pt x="1682" y="0"/>
                      <a:pt x="1683" y="0"/>
                    </a:cubicBezTo>
                    <a:close/>
                    <a:moveTo>
                      <a:pt x="1691" y="0"/>
                    </a:moveTo>
                    <a:lnTo>
                      <a:pt x="1691" y="0"/>
                    </a:lnTo>
                    <a:cubicBezTo>
                      <a:pt x="1692" y="0"/>
                      <a:pt x="1693" y="1"/>
                      <a:pt x="1693" y="2"/>
                    </a:cubicBezTo>
                    <a:cubicBezTo>
                      <a:pt x="1693" y="3"/>
                      <a:pt x="1692" y="4"/>
                      <a:pt x="1691" y="4"/>
                    </a:cubicBezTo>
                    <a:lnTo>
                      <a:pt x="1691" y="4"/>
                    </a:lnTo>
                    <a:cubicBezTo>
                      <a:pt x="1690" y="4"/>
                      <a:pt x="1689" y="3"/>
                      <a:pt x="1689" y="2"/>
                    </a:cubicBezTo>
                    <a:cubicBezTo>
                      <a:pt x="1689" y="1"/>
                      <a:pt x="1690" y="0"/>
                      <a:pt x="1691" y="0"/>
                    </a:cubicBezTo>
                    <a:close/>
                    <a:moveTo>
                      <a:pt x="1699" y="0"/>
                    </a:moveTo>
                    <a:lnTo>
                      <a:pt x="1699" y="0"/>
                    </a:lnTo>
                    <a:cubicBezTo>
                      <a:pt x="1700" y="0"/>
                      <a:pt x="1701" y="1"/>
                      <a:pt x="1701" y="2"/>
                    </a:cubicBezTo>
                    <a:cubicBezTo>
                      <a:pt x="1701" y="3"/>
                      <a:pt x="1700" y="4"/>
                      <a:pt x="1699" y="4"/>
                    </a:cubicBezTo>
                    <a:lnTo>
                      <a:pt x="1699" y="4"/>
                    </a:lnTo>
                    <a:cubicBezTo>
                      <a:pt x="1698" y="4"/>
                      <a:pt x="1697" y="3"/>
                      <a:pt x="1697" y="2"/>
                    </a:cubicBezTo>
                    <a:cubicBezTo>
                      <a:pt x="1697" y="1"/>
                      <a:pt x="1698" y="0"/>
                      <a:pt x="1699" y="0"/>
                    </a:cubicBezTo>
                    <a:close/>
                    <a:moveTo>
                      <a:pt x="1707" y="0"/>
                    </a:moveTo>
                    <a:lnTo>
                      <a:pt x="1707" y="0"/>
                    </a:lnTo>
                    <a:cubicBezTo>
                      <a:pt x="1708" y="0"/>
                      <a:pt x="1709" y="1"/>
                      <a:pt x="1709" y="2"/>
                    </a:cubicBezTo>
                    <a:cubicBezTo>
                      <a:pt x="1709" y="3"/>
                      <a:pt x="1708" y="4"/>
                      <a:pt x="1707" y="4"/>
                    </a:cubicBezTo>
                    <a:lnTo>
                      <a:pt x="1707" y="4"/>
                    </a:lnTo>
                    <a:cubicBezTo>
                      <a:pt x="1706" y="4"/>
                      <a:pt x="1705" y="3"/>
                      <a:pt x="1705" y="2"/>
                    </a:cubicBezTo>
                    <a:cubicBezTo>
                      <a:pt x="1705" y="1"/>
                      <a:pt x="1706" y="0"/>
                      <a:pt x="1707" y="0"/>
                    </a:cubicBezTo>
                    <a:close/>
                    <a:moveTo>
                      <a:pt x="1715" y="0"/>
                    </a:moveTo>
                    <a:lnTo>
                      <a:pt x="1715" y="0"/>
                    </a:lnTo>
                    <a:cubicBezTo>
                      <a:pt x="1716" y="0"/>
                      <a:pt x="1717" y="1"/>
                      <a:pt x="1717" y="2"/>
                    </a:cubicBezTo>
                    <a:cubicBezTo>
                      <a:pt x="1717" y="3"/>
                      <a:pt x="1716" y="4"/>
                      <a:pt x="1715" y="4"/>
                    </a:cubicBezTo>
                    <a:lnTo>
                      <a:pt x="1715" y="4"/>
                    </a:lnTo>
                    <a:cubicBezTo>
                      <a:pt x="1714" y="4"/>
                      <a:pt x="1713" y="3"/>
                      <a:pt x="1713" y="2"/>
                    </a:cubicBezTo>
                    <a:cubicBezTo>
                      <a:pt x="1713" y="1"/>
                      <a:pt x="1714" y="0"/>
                      <a:pt x="1715" y="0"/>
                    </a:cubicBezTo>
                    <a:close/>
                    <a:moveTo>
                      <a:pt x="1723" y="0"/>
                    </a:moveTo>
                    <a:lnTo>
                      <a:pt x="1723" y="0"/>
                    </a:lnTo>
                    <a:cubicBezTo>
                      <a:pt x="1724" y="0"/>
                      <a:pt x="1725" y="1"/>
                      <a:pt x="1725" y="2"/>
                    </a:cubicBezTo>
                    <a:cubicBezTo>
                      <a:pt x="1725" y="3"/>
                      <a:pt x="1724" y="4"/>
                      <a:pt x="1723" y="4"/>
                    </a:cubicBezTo>
                    <a:lnTo>
                      <a:pt x="1723" y="4"/>
                    </a:lnTo>
                    <a:cubicBezTo>
                      <a:pt x="1722" y="4"/>
                      <a:pt x="1721" y="3"/>
                      <a:pt x="1721" y="2"/>
                    </a:cubicBezTo>
                    <a:cubicBezTo>
                      <a:pt x="1721" y="1"/>
                      <a:pt x="1722" y="0"/>
                      <a:pt x="1723" y="0"/>
                    </a:cubicBezTo>
                    <a:close/>
                    <a:moveTo>
                      <a:pt x="1731" y="0"/>
                    </a:moveTo>
                    <a:lnTo>
                      <a:pt x="1731" y="0"/>
                    </a:lnTo>
                    <a:cubicBezTo>
                      <a:pt x="1732" y="0"/>
                      <a:pt x="1733" y="1"/>
                      <a:pt x="1733" y="2"/>
                    </a:cubicBezTo>
                    <a:cubicBezTo>
                      <a:pt x="1733" y="3"/>
                      <a:pt x="1732" y="4"/>
                      <a:pt x="1731" y="4"/>
                    </a:cubicBezTo>
                    <a:lnTo>
                      <a:pt x="1731" y="4"/>
                    </a:lnTo>
                    <a:cubicBezTo>
                      <a:pt x="1730" y="4"/>
                      <a:pt x="1729" y="3"/>
                      <a:pt x="1729" y="2"/>
                    </a:cubicBezTo>
                    <a:cubicBezTo>
                      <a:pt x="1729" y="1"/>
                      <a:pt x="1730" y="0"/>
                      <a:pt x="1731" y="0"/>
                    </a:cubicBezTo>
                    <a:close/>
                    <a:moveTo>
                      <a:pt x="1739" y="0"/>
                    </a:moveTo>
                    <a:lnTo>
                      <a:pt x="1739" y="0"/>
                    </a:lnTo>
                    <a:cubicBezTo>
                      <a:pt x="1740" y="0"/>
                      <a:pt x="1741" y="1"/>
                      <a:pt x="1741" y="2"/>
                    </a:cubicBezTo>
                    <a:cubicBezTo>
                      <a:pt x="1741" y="3"/>
                      <a:pt x="1740" y="4"/>
                      <a:pt x="1739" y="4"/>
                    </a:cubicBezTo>
                    <a:lnTo>
                      <a:pt x="1739" y="4"/>
                    </a:lnTo>
                    <a:cubicBezTo>
                      <a:pt x="1738" y="4"/>
                      <a:pt x="1737" y="3"/>
                      <a:pt x="1737" y="2"/>
                    </a:cubicBezTo>
                    <a:cubicBezTo>
                      <a:pt x="1737" y="1"/>
                      <a:pt x="1738" y="0"/>
                      <a:pt x="1739" y="0"/>
                    </a:cubicBezTo>
                    <a:close/>
                    <a:moveTo>
                      <a:pt x="1747" y="0"/>
                    </a:moveTo>
                    <a:lnTo>
                      <a:pt x="1747" y="0"/>
                    </a:lnTo>
                    <a:cubicBezTo>
                      <a:pt x="1748" y="0"/>
                      <a:pt x="1749" y="1"/>
                      <a:pt x="1749" y="2"/>
                    </a:cubicBezTo>
                    <a:cubicBezTo>
                      <a:pt x="1749" y="3"/>
                      <a:pt x="1748" y="4"/>
                      <a:pt x="1747" y="4"/>
                    </a:cubicBezTo>
                    <a:lnTo>
                      <a:pt x="1747" y="4"/>
                    </a:lnTo>
                    <a:cubicBezTo>
                      <a:pt x="1746" y="4"/>
                      <a:pt x="1745" y="3"/>
                      <a:pt x="1745" y="2"/>
                    </a:cubicBezTo>
                    <a:cubicBezTo>
                      <a:pt x="1745" y="1"/>
                      <a:pt x="1746" y="0"/>
                      <a:pt x="1747" y="0"/>
                    </a:cubicBezTo>
                    <a:close/>
                    <a:moveTo>
                      <a:pt x="1755" y="0"/>
                    </a:moveTo>
                    <a:lnTo>
                      <a:pt x="1755" y="0"/>
                    </a:lnTo>
                    <a:cubicBezTo>
                      <a:pt x="1756" y="0"/>
                      <a:pt x="1757" y="1"/>
                      <a:pt x="1757" y="2"/>
                    </a:cubicBezTo>
                    <a:cubicBezTo>
                      <a:pt x="1757" y="3"/>
                      <a:pt x="1756" y="4"/>
                      <a:pt x="1755" y="4"/>
                    </a:cubicBezTo>
                    <a:lnTo>
                      <a:pt x="1755" y="4"/>
                    </a:lnTo>
                    <a:cubicBezTo>
                      <a:pt x="1754" y="4"/>
                      <a:pt x="1753" y="3"/>
                      <a:pt x="1753" y="2"/>
                    </a:cubicBezTo>
                    <a:cubicBezTo>
                      <a:pt x="1753" y="1"/>
                      <a:pt x="1754" y="0"/>
                      <a:pt x="1755" y="0"/>
                    </a:cubicBezTo>
                    <a:close/>
                    <a:moveTo>
                      <a:pt x="1763" y="0"/>
                    </a:moveTo>
                    <a:lnTo>
                      <a:pt x="1763" y="0"/>
                    </a:lnTo>
                    <a:cubicBezTo>
                      <a:pt x="1764" y="0"/>
                      <a:pt x="1765" y="1"/>
                      <a:pt x="1765" y="2"/>
                    </a:cubicBezTo>
                    <a:cubicBezTo>
                      <a:pt x="1765" y="3"/>
                      <a:pt x="1764" y="4"/>
                      <a:pt x="1763" y="4"/>
                    </a:cubicBezTo>
                    <a:lnTo>
                      <a:pt x="1763" y="4"/>
                    </a:lnTo>
                    <a:cubicBezTo>
                      <a:pt x="1762" y="4"/>
                      <a:pt x="1761" y="3"/>
                      <a:pt x="1761" y="2"/>
                    </a:cubicBezTo>
                    <a:cubicBezTo>
                      <a:pt x="1761" y="1"/>
                      <a:pt x="1762" y="0"/>
                      <a:pt x="1763" y="0"/>
                    </a:cubicBezTo>
                    <a:close/>
                    <a:moveTo>
                      <a:pt x="1771" y="0"/>
                    </a:moveTo>
                    <a:lnTo>
                      <a:pt x="1771" y="0"/>
                    </a:lnTo>
                    <a:cubicBezTo>
                      <a:pt x="1772" y="0"/>
                      <a:pt x="1773" y="1"/>
                      <a:pt x="1773" y="2"/>
                    </a:cubicBezTo>
                    <a:cubicBezTo>
                      <a:pt x="1773" y="3"/>
                      <a:pt x="1772" y="4"/>
                      <a:pt x="1771" y="4"/>
                    </a:cubicBezTo>
                    <a:lnTo>
                      <a:pt x="1771" y="4"/>
                    </a:lnTo>
                    <a:cubicBezTo>
                      <a:pt x="1770" y="4"/>
                      <a:pt x="1769" y="3"/>
                      <a:pt x="1769" y="2"/>
                    </a:cubicBezTo>
                    <a:cubicBezTo>
                      <a:pt x="1769" y="1"/>
                      <a:pt x="1770" y="0"/>
                      <a:pt x="1771" y="0"/>
                    </a:cubicBezTo>
                    <a:close/>
                    <a:moveTo>
                      <a:pt x="1779" y="0"/>
                    </a:moveTo>
                    <a:lnTo>
                      <a:pt x="1779" y="0"/>
                    </a:lnTo>
                    <a:cubicBezTo>
                      <a:pt x="1780" y="0"/>
                      <a:pt x="1781" y="1"/>
                      <a:pt x="1781" y="2"/>
                    </a:cubicBezTo>
                    <a:cubicBezTo>
                      <a:pt x="1781" y="3"/>
                      <a:pt x="1780" y="4"/>
                      <a:pt x="1779" y="4"/>
                    </a:cubicBezTo>
                    <a:lnTo>
                      <a:pt x="1779" y="4"/>
                    </a:lnTo>
                    <a:cubicBezTo>
                      <a:pt x="1778" y="4"/>
                      <a:pt x="1777" y="3"/>
                      <a:pt x="1777" y="2"/>
                    </a:cubicBezTo>
                    <a:cubicBezTo>
                      <a:pt x="1777" y="1"/>
                      <a:pt x="1778" y="0"/>
                      <a:pt x="1779" y="0"/>
                    </a:cubicBezTo>
                    <a:close/>
                    <a:moveTo>
                      <a:pt x="1787" y="0"/>
                    </a:moveTo>
                    <a:lnTo>
                      <a:pt x="1787" y="0"/>
                    </a:lnTo>
                    <a:cubicBezTo>
                      <a:pt x="1788" y="0"/>
                      <a:pt x="1789" y="1"/>
                      <a:pt x="1789" y="2"/>
                    </a:cubicBezTo>
                    <a:cubicBezTo>
                      <a:pt x="1789" y="3"/>
                      <a:pt x="1788" y="4"/>
                      <a:pt x="1787" y="4"/>
                    </a:cubicBezTo>
                    <a:lnTo>
                      <a:pt x="1787" y="4"/>
                    </a:lnTo>
                    <a:cubicBezTo>
                      <a:pt x="1786" y="4"/>
                      <a:pt x="1785" y="3"/>
                      <a:pt x="1785" y="2"/>
                    </a:cubicBezTo>
                    <a:cubicBezTo>
                      <a:pt x="1785" y="1"/>
                      <a:pt x="1786" y="0"/>
                      <a:pt x="1787" y="0"/>
                    </a:cubicBezTo>
                    <a:close/>
                    <a:moveTo>
                      <a:pt x="1795" y="0"/>
                    </a:moveTo>
                    <a:lnTo>
                      <a:pt x="1795" y="0"/>
                    </a:lnTo>
                    <a:cubicBezTo>
                      <a:pt x="1796" y="0"/>
                      <a:pt x="1797" y="1"/>
                      <a:pt x="1797" y="2"/>
                    </a:cubicBezTo>
                    <a:cubicBezTo>
                      <a:pt x="1797" y="3"/>
                      <a:pt x="1796" y="4"/>
                      <a:pt x="1795" y="4"/>
                    </a:cubicBezTo>
                    <a:lnTo>
                      <a:pt x="1795" y="4"/>
                    </a:lnTo>
                    <a:cubicBezTo>
                      <a:pt x="1794" y="4"/>
                      <a:pt x="1793" y="3"/>
                      <a:pt x="1793" y="2"/>
                    </a:cubicBezTo>
                    <a:cubicBezTo>
                      <a:pt x="1793" y="1"/>
                      <a:pt x="1794" y="0"/>
                      <a:pt x="1795" y="0"/>
                    </a:cubicBezTo>
                    <a:close/>
                    <a:moveTo>
                      <a:pt x="1803" y="0"/>
                    </a:moveTo>
                    <a:lnTo>
                      <a:pt x="1803" y="0"/>
                    </a:lnTo>
                    <a:cubicBezTo>
                      <a:pt x="1804" y="0"/>
                      <a:pt x="1805" y="1"/>
                      <a:pt x="1805" y="2"/>
                    </a:cubicBezTo>
                    <a:cubicBezTo>
                      <a:pt x="1805" y="3"/>
                      <a:pt x="1804" y="4"/>
                      <a:pt x="1803" y="4"/>
                    </a:cubicBezTo>
                    <a:lnTo>
                      <a:pt x="1803" y="4"/>
                    </a:lnTo>
                    <a:cubicBezTo>
                      <a:pt x="1802" y="4"/>
                      <a:pt x="1801" y="3"/>
                      <a:pt x="1801" y="2"/>
                    </a:cubicBezTo>
                    <a:cubicBezTo>
                      <a:pt x="1801" y="1"/>
                      <a:pt x="1802" y="0"/>
                      <a:pt x="1803" y="0"/>
                    </a:cubicBezTo>
                    <a:close/>
                    <a:moveTo>
                      <a:pt x="1811" y="0"/>
                    </a:moveTo>
                    <a:lnTo>
                      <a:pt x="1811" y="0"/>
                    </a:lnTo>
                    <a:cubicBezTo>
                      <a:pt x="1812" y="0"/>
                      <a:pt x="1813" y="1"/>
                      <a:pt x="1813" y="2"/>
                    </a:cubicBezTo>
                    <a:cubicBezTo>
                      <a:pt x="1813" y="3"/>
                      <a:pt x="1812" y="4"/>
                      <a:pt x="1811" y="4"/>
                    </a:cubicBezTo>
                    <a:lnTo>
                      <a:pt x="1811" y="4"/>
                    </a:lnTo>
                    <a:cubicBezTo>
                      <a:pt x="1810" y="4"/>
                      <a:pt x="1809" y="3"/>
                      <a:pt x="1809" y="2"/>
                    </a:cubicBezTo>
                    <a:cubicBezTo>
                      <a:pt x="1809" y="1"/>
                      <a:pt x="1810" y="0"/>
                      <a:pt x="1811" y="0"/>
                    </a:cubicBezTo>
                    <a:close/>
                    <a:moveTo>
                      <a:pt x="1819" y="0"/>
                    </a:moveTo>
                    <a:lnTo>
                      <a:pt x="1819" y="0"/>
                    </a:lnTo>
                    <a:cubicBezTo>
                      <a:pt x="1820" y="0"/>
                      <a:pt x="1821" y="1"/>
                      <a:pt x="1821" y="2"/>
                    </a:cubicBezTo>
                    <a:cubicBezTo>
                      <a:pt x="1821" y="3"/>
                      <a:pt x="1820" y="4"/>
                      <a:pt x="1819" y="4"/>
                    </a:cubicBezTo>
                    <a:lnTo>
                      <a:pt x="1819" y="4"/>
                    </a:lnTo>
                    <a:cubicBezTo>
                      <a:pt x="1818" y="4"/>
                      <a:pt x="1817" y="3"/>
                      <a:pt x="1817" y="2"/>
                    </a:cubicBezTo>
                    <a:cubicBezTo>
                      <a:pt x="1817" y="1"/>
                      <a:pt x="1818" y="0"/>
                      <a:pt x="1819" y="0"/>
                    </a:cubicBezTo>
                    <a:close/>
                    <a:moveTo>
                      <a:pt x="1827" y="0"/>
                    </a:moveTo>
                    <a:lnTo>
                      <a:pt x="1827" y="0"/>
                    </a:lnTo>
                    <a:cubicBezTo>
                      <a:pt x="1828" y="0"/>
                      <a:pt x="1829" y="1"/>
                      <a:pt x="1829" y="2"/>
                    </a:cubicBezTo>
                    <a:cubicBezTo>
                      <a:pt x="1829" y="3"/>
                      <a:pt x="1828" y="4"/>
                      <a:pt x="1827" y="4"/>
                    </a:cubicBezTo>
                    <a:lnTo>
                      <a:pt x="1827" y="4"/>
                    </a:lnTo>
                    <a:cubicBezTo>
                      <a:pt x="1826" y="4"/>
                      <a:pt x="1825" y="3"/>
                      <a:pt x="1825" y="2"/>
                    </a:cubicBezTo>
                    <a:cubicBezTo>
                      <a:pt x="1825" y="1"/>
                      <a:pt x="1826" y="0"/>
                      <a:pt x="1827" y="0"/>
                    </a:cubicBezTo>
                    <a:close/>
                    <a:moveTo>
                      <a:pt x="1835" y="0"/>
                    </a:moveTo>
                    <a:lnTo>
                      <a:pt x="1835" y="0"/>
                    </a:lnTo>
                    <a:cubicBezTo>
                      <a:pt x="1836" y="0"/>
                      <a:pt x="1837" y="1"/>
                      <a:pt x="1837" y="2"/>
                    </a:cubicBezTo>
                    <a:cubicBezTo>
                      <a:pt x="1837" y="3"/>
                      <a:pt x="1836" y="4"/>
                      <a:pt x="1835" y="4"/>
                    </a:cubicBezTo>
                    <a:lnTo>
                      <a:pt x="1835" y="4"/>
                    </a:lnTo>
                    <a:cubicBezTo>
                      <a:pt x="1834" y="4"/>
                      <a:pt x="1833" y="3"/>
                      <a:pt x="1833" y="2"/>
                    </a:cubicBezTo>
                    <a:cubicBezTo>
                      <a:pt x="1833" y="1"/>
                      <a:pt x="1834" y="0"/>
                      <a:pt x="1835" y="0"/>
                    </a:cubicBezTo>
                    <a:close/>
                    <a:moveTo>
                      <a:pt x="1843" y="0"/>
                    </a:moveTo>
                    <a:lnTo>
                      <a:pt x="1843" y="0"/>
                    </a:lnTo>
                    <a:cubicBezTo>
                      <a:pt x="1844" y="0"/>
                      <a:pt x="1845" y="1"/>
                      <a:pt x="1845" y="2"/>
                    </a:cubicBezTo>
                    <a:cubicBezTo>
                      <a:pt x="1845" y="3"/>
                      <a:pt x="1844" y="4"/>
                      <a:pt x="1843" y="4"/>
                    </a:cubicBezTo>
                    <a:lnTo>
                      <a:pt x="1843" y="4"/>
                    </a:lnTo>
                    <a:cubicBezTo>
                      <a:pt x="1842" y="4"/>
                      <a:pt x="1841" y="3"/>
                      <a:pt x="1841" y="2"/>
                    </a:cubicBezTo>
                    <a:cubicBezTo>
                      <a:pt x="1841" y="1"/>
                      <a:pt x="1842" y="0"/>
                      <a:pt x="1843" y="0"/>
                    </a:cubicBezTo>
                    <a:close/>
                    <a:moveTo>
                      <a:pt x="1851" y="0"/>
                    </a:moveTo>
                    <a:lnTo>
                      <a:pt x="1851" y="0"/>
                    </a:lnTo>
                    <a:cubicBezTo>
                      <a:pt x="1852" y="0"/>
                      <a:pt x="1853" y="1"/>
                      <a:pt x="1853" y="2"/>
                    </a:cubicBezTo>
                    <a:cubicBezTo>
                      <a:pt x="1853" y="3"/>
                      <a:pt x="1852" y="4"/>
                      <a:pt x="1851" y="4"/>
                    </a:cubicBezTo>
                    <a:lnTo>
                      <a:pt x="1851" y="4"/>
                    </a:lnTo>
                    <a:cubicBezTo>
                      <a:pt x="1850" y="4"/>
                      <a:pt x="1849" y="3"/>
                      <a:pt x="1849" y="2"/>
                    </a:cubicBezTo>
                    <a:cubicBezTo>
                      <a:pt x="1849" y="1"/>
                      <a:pt x="1850" y="0"/>
                      <a:pt x="1851" y="0"/>
                    </a:cubicBezTo>
                    <a:close/>
                    <a:moveTo>
                      <a:pt x="1859" y="0"/>
                    </a:moveTo>
                    <a:lnTo>
                      <a:pt x="1859" y="0"/>
                    </a:lnTo>
                    <a:cubicBezTo>
                      <a:pt x="1860" y="0"/>
                      <a:pt x="1861" y="1"/>
                      <a:pt x="1861" y="2"/>
                    </a:cubicBezTo>
                    <a:cubicBezTo>
                      <a:pt x="1861" y="3"/>
                      <a:pt x="1860" y="4"/>
                      <a:pt x="1859" y="4"/>
                    </a:cubicBezTo>
                    <a:lnTo>
                      <a:pt x="1859" y="4"/>
                    </a:lnTo>
                    <a:cubicBezTo>
                      <a:pt x="1858" y="4"/>
                      <a:pt x="1857" y="3"/>
                      <a:pt x="1857" y="2"/>
                    </a:cubicBezTo>
                    <a:cubicBezTo>
                      <a:pt x="1857" y="1"/>
                      <a:pt x="1858" y="0"/>
                      <a:pt x="1859" y="0"/>
                    </a:cubicBezTo>
                    <a:close/>
                    <a:moveTo>
                      <a:pt x="1867" y="0"/>
                    </a:moveTo>
                    <a:lnTo>
                      <a:pt x="1867" y="0"/>
                    </a:lnTo>
                    <a:cubicBezTo>
                      <a:pt x="1868" y="0"/>
                      <a:pt x="1869" y="1"/>
                      <a:pt x="1869" y="2"/>
                    </a:cubicBezTo>
                    <a:cubicBezTo>
                      <a:pt x="1869" y="3"/>
                      <a:pt x="1868" y="4"/>
                      <a:pt x="1867" y="4"/>
                    </a:cubicBezTo>
                    <a:lnTo>
                      <a:pt x="1867" y="4"/>
                    </a:lnTo>
                    <a:cubicBezTo>
                      <a:pt x="1866" y="4"/>
                      <a:pt x="1865" y="3"/>
                      <a:pt x="1865" y="2"/>
                    </a:cubicBezTo>
                    <a:cubicBezTo>
                      <a:pt x="1865" y="1"/>
                      <a:pt x="1866" y="0"/>
                      <a:pt x="1867" y="0"/>
                    </a:cubicBezTo>
                    <a:close/>
                    <a:moveTo>
                      <a:pt x="1875" y="0"/>
                    </a:moveTo>
                    <a:lnTo>
                      <a:pt x="1875" y="0"/>
                    </a:lnTo>
                    <a:cubicBezTo>
                      <a:pt x="1876" y="0"/>
                      <a:pt x="1877" y="1"/>
                      <a:pt x="1877" y="2"/>
                    </a:cubicBezTo>
                    <a:cubicBezTo>
                      <a:pt x="1877" y="3"/>
                      <a:pt x="1876" y="4"/>
                      <a:pt x="1875" y="4"/>
                    </a:cubicBezTo>
                    <a:lnTo>
                      <a:pt x="1875" y="4"/>
                    </a:lnTo>
                    <a:cubicBezTo>
                      <a:pt x="1874" y="4"/>
                      <a:pt x="1873" y="3"/>
                      <a:pt x="1873" y="2"/>
                    </a:cubicBezTo>
                    <a:cubicBezTo>
                      <a:pt x="1873" y="1"/>
                      <a:pt x="1874" y="0"/>
                      <a:pt x="1875" y="0"/>
                    </a:cubicBezTo>
                    <a:close/>
                    <a:moveTo>
                      <a:pt x="1883" y="0"/>
                    </a:moveTo>
                    <a:lnTo>
                      <a:pt x="1883" y="0"/>
                    </a:lnTo>
                    <a:cubicBezTo>
                      <a:pt x="1884" y="0"/>
                      <a:pt x="1885" y="1"/>
                      <a:pt x="1885" y="2"/>
                    </a:cubicBezTo>
                    <a:cubicBezTo>
                      <a:pt x="1885" y="3"/>
                      <a:pt x="1884" y="4"/>
                      <a:pt x="1883" y="4"/>
                    </a:cubicBezTo>
                    <a:lnTo>
                      <a:pt x="1883" y="4"/>
                    </a:lnTo>
                    <a:cubicBezTo>
                      <a:pt x="1882" y="4"/>
                      <a:pt x="1881" y="3"/>
                      <a:pt x="1881" y="2"/>
                    </a:cubicBezTo>
                    <a:cubicBezTo>
                      <a:pt x="1881" y="1"/>
                      <a:pt x="1882" y="0"/>
                      <a:pt x="1883" y="0"/>
                    </a:cubicBezTo>
                    <a:close/>
                    <a:moveTo>
                      <a:pt x="1891" y="0"/>
                    </a:moveTo>
                    <a:lnTo>
                      <a:pt x="1891" y="0"/>
                    </a:lnTo>
                    <a:cubicBezTo>
                      <a:pt x="1892" y="0"/>
                      <a:pt x="1893" y="1"/>
                      <a:pt x="1893" y="2"/>
                    </a:cubicBezTo>
                    <a:cubicBezTo>
                      <a:pt x="1893" y="3"/>
                      <a:pt x="1892" y="4"/>
                      <a:pt x="1891" y="4"/>
                    </a:cubicBezTo>
                    <a:lnTo>
                      <a:pt x="1891" y="4"/>
                    </a:lnTo>
                    <a:cubicBezTo>
                      <a:pt x="1890" y="4"/>
                      <a:pt x="1889" y="3"/>
                      <a:pt x="1889" y="2"/>
                    </a:cubicBezTo>
                    <a:cubicBezTo>
                      <a:pt x="1889" y="1"/>
                      <a:pt x="1890" y="0"/>
                      <a:pt x="1891" y="0"/>
                    </a:cubicBezTo>
                    <a:close/>
                    <a:moveTo>
                      <a:pt x="1899" y="0"/>
                    </a:moveTo>
                    <a:lnTo>
                      <a:pt x="1899" y="0"/>
                    </a:lnTo>
                    <a:cubicBezTo>
                      <a:pt x="1900" y="0"/>
                      <a:pt x="1901" y="1"/>
                      <a:pt x="1901" y="2"/>
                    </a:cubicBezTo>
                    <a:cubicBezTo>
                      <a:pt x="1901" y="3"/>
                      <a:pt x="1900" y="4"/>
                      <a:pt x="1899" y="4"/>
                    </a:cubicBezTo>
                    <a:lnTo>
                      <a:pt x="1899" y="4"/>
                    </a:lnTo>
                    <a:cubicBezTo>
                      <a:pt x="1898" y="4"/>
                      <a:pt x="1897" y="3"/>
                      <a:pt x="1897" y="2"/>
                    </a:cubicBezTo>
                    <a:cubicBezTo>
                      <a:pt x="1897" y="1"/>
                      <a:pt x="1898" y="0"/>
                      <a:pt x="1899" y="0"/>
                    </a:cubicBezTo>
                    <a:close/>
                    <a:moveTo>
                      <a:pt x="1907" y="0"/>
                    </a:moveTo>
                    <a:lnTo>
                      <a:pt x="1907" y="0"/>
                    </a:lnTo>
                    <a:cubicBezTo>
                      <a:pt x="1908" y="0"/>
                      <a:pt x="1909" y="1"/>
                      <a:pt x="1909" y="2"/>
                    </a:cubicBezTo>
                    <a:cubicBezTo>
                      <a:pt x="1909" y="3"/>
                      <a:pt x="1908" y="4"/>
                      <a:pt x="1907" y="4"/>
                    </a:cubicBezTo>
                    <a:lnTo>
                      <a:pt x="1907" y="4"/>
                    </a:lnTo>
                    <a:cubicBezTo>
                      <a:pt x="1906" y="4"/>
                      <a:pt x="1905" y="3"/>
                      <a:pt x="1905" y="2"/>
                    </a:cubicBezTo>
                    <a:cubicBezTo>
                      <a:pt x="1905" y="1"/>
                      <a:pt x="1906" y="0"/>
                      <a:pt x="1907" y="0"/>
                    </a:cubicBezTo>
                    <a:close/>
                    <a:moveTo>
                      <a:pt x="1915" y="0"/>
                    </a:moveTo>
                    <a:lnTo>
                      <a:pt x="1915" y="0"/>
                    </a:lnTo>
                    <a:cubicBezTo>
                      <a:pt x="1916" y="0"/>
                      <a:pt x="1917" y="1"/>
                      <a:pt x="1917" y="2"/>
                    </a:cubicBezTo>
                    <a:cubicBezTo>
                      <a:pt x="1917" y="3"/>
                      <a:pt x="1916" y="4"/>
                      <a:pt x="1915" y="4"/>
                    </a:cubicBezTo>
                    <a:lnTo>
                      <a:pt x="1915" y="4"/>
                    </a:lnTo>
                    <a:cubicBezTo>
                      <a:pt x="1914" y="4"/>
                      <a:pt x="1913" y="3"/>
                      <a:pt x="1913" y="2"/>
                    </a:cubicBezTo>
                    <a:cubicBezTo>
                      <a:pt x="1913" y="1"/>
                      <a:pt x="1914" y="0"/>
                      <a:pt x="1915" y="0"/>
                    </a:cubicBezTo>
                    <a:close/>
                    <a:moveTo>
                      <a:pt x="1923" y="0"/>
                    </a:moveTo>
                    <a:lnTo>
                      <a:pt x="1923" y="0"/>
                    </a:lnTo>
                    <a:cubicBezTo>
                      <a:pt x="1924" y="0"/>
                      <a:pt x="1925" y="1"/>
                      <a:pt x="1925" y="2"/>
                    </a:cubicBezTo>
                    <a:cubicBezTo>
                      <a:pt x="1925" y="3"/>
                      <a:pt x="1924" y="4"/>
                      <a:pt x="1923" y="4"/>
                    </a:cubicBezTo>
                    <a:lnTo>
                      <a:pt x="1923" y="4"/>
                    </a:lnTo>
                    <a:cubicBezTo>
                      <a:pt x="1922" y="4"/>
                      <a:pt x="1921" y="3"/>
                      <a:pt x="1921" y="2"/>
                    </a:cubicBezTo>
                    <a:cubicBezTo>
                      <a:pt x="1921" y="1"/>
                      <a:pt x="1922" y="0"/>
                      <a:pt x="1923" y="0"/>
                    </a:cubicBezTo>
                    <a:close/>
                    <a:moveTo>
                      <a:pt x="1931" y="0"/>
                    </a:moveTo>
                    <a:lnTo>
                      <a:pt x="1931" y="0"/>
                    </a:lnTo>
                    <a:cubicBezTo>
                      <a:pt x="1932" y="0"/>
                      <a:pt x="1933" y="1"/>
                      <a:pt x="1933" y="2"/>
                    </a:cubicBezTo>
                    <a:cubicBezTo>
                      <a:pt x="1933" y="3"/>
                      <a:pt x="1932" y="4"/>
                      <a:pt x="1931" y="4"/>
                    </a:cubicBezTo>
                    <a:lnTo>
                      <a:pt x="1931" y="4"/>
                    </a:lnTo>
                    <a:cubicBezTo>
                      <a:pt x="1930" y="4"/>
                      <a:pt x="1929" y="3"/>
                      <a:pt x="1929" y="2"/>
                    </a:cubicBezTo>
                    <a:cubicBezTo>
                      <a:pt x="1929" y="1"/>
                      <a:pt x="1930" y="0"/>
                      <a:pt x="1931" y="0"/>
                    </a:cubicBezTo>
                    <a:close/>
                    <a:moveTo>
                      <a:pt x="1939" y="0"/>
                    </a:moveTo>
                    <a:lnTo>
                      <a:pt x="1939" y="0"/>
                    </a:lnTo>
                    <a:cubicBezTo>
                      <a:pt x="1940" y="0"/>
                      <a:pt x="1941" y="1"/>
                      <a:pt x="1941" y="2"/>
                    </a:cubicBezTo>
                    <a:cubicBezTo>
                      <a:pt x="1941" y="3"/>
                      <a:pt x="1940" y="4"/>
                      <a:pt x="1939" y="4"/>
                    </a:cubicBezTo>
                    <a:lnTo>
                      <a:pt x="1939" y="4"/>
                    </a:lnTo>
                    <a:cubicBezTo>
                      <a:pt x="1938" y="4"/>
                      <a:pt x="1937" y="3"/>
                      <a:pt x="1937" y="2"/>
                    </a:cubicBezTo>
                    <a:cubicBezTo>
                      <a:pt x="1937" y="1"/>
                      <a:pt x="1938" y="0"/>
                      <a:pt x="1939" y="0"/>
                    </a:cubicBezTo>
                    <a:close/>
                    <a:moveTo>
                      <a:pt x="1947" y="0"/>
                    </a:moveTo>
                    <a:lnTo>
                      <a:pt x="1947" y="0"/>
                    </a:lnTo>
                    <a:cubicBezTo>
                      <a:pt x="1948" y="0"/>
                      <a:pt x="1949" y="1"/>
                      <a:pt x="1949" y="2"/>
                    </a:cubicBezTo>
                    <a:cubicBezTo>
                      <a:pt x="1949" y="3"/>
                      <a:pt x="1948" y="4"/>
                      <a:pt x="1947" y="4"/>
                    </a:cubicBezTo>
                    <a:lnTo>
                      <a:pt x="1947" y="4"/>
                    </a:lnTo>
                    <a:cubicBezTo>
                      <a:pt x="1946" y="4"/>
                      <a:pt x="1945" y="3"/>
                      <a:pt x="1945" y="2"/>
                    </a:cubicBezTo>
                    <a:cubicBezTo>
                      <a:pt x="1945" y="1"/>
                      <a:pt x="1946" y="0"/>
                      <a:pt x="1947" y="0"/>
                    </a:cubicBezTo>
                    <a:close/>
                    <a:moveTo>
                      <a:pt x="1955" y="0"/>
                    </a:moveTo>
                    <a:lnTo>
                      <a:pt x="1955" y="0"/>
                    </a:lnTo>
                    <a:cubicBezTo>
                      <a:pt x="1956" y="0"/>
                      <a:pt x="1957" y="1"/>
                      <a:pt x="1957" y="2"/>
                    </a:cubicBezTo>
                    <a:cubicBezTo>
                      <a:pt x="1957" y="3"/>
                      <a:pt x="1956" y="4"/>
                      <a:pt x="1955" y="4"/>
                    </a:cubicBezTo>
                    <a:lnTo>
                      <a:pt x="1955" y="4"/>
                    </a:lnTo>
                    <a:cubicBezTo>
                      <a:pt x="1954" y="4"/>
                      <a:pt x="1953" y="3"/>
                      <a:pt x="1953" y="2"/>
                    </a:cubicBezTo>
                    <a:cubicBezTo>
                      <a:pt x="1953" y="1"/>
                      <a:pt x="1954" y="0"/>
                      <a:pt x="1955" y="0"/>
                    </a:cubicBezTo>
                    <a:close/>
                    <a:moveTo>
                      <a:pt x="1963" y="0"/>
                    </a:moveTo>
                    <a:lnTo>
                      <a:pt x="1963" y="0"/>
                    </a:lnTo>
                    <a:cubicBezTo>
                      <a:pt x="1964" y="0"/>
                      <a:pt x="1965" y="1"/>
                      <a:pt x="1965" y="2"/>
                    </a:cubicBezTo>
                    <a:cubicBezTo>
                      <a:pt x="1965" y="3"/>
                      <a:pt x="1964" y="4"/>
                      <a:pt x="1963" y="4"/>
                    </a:cubicBezTo>
                    <a:lnTo>
                      <a:pt x="1963" y="4"/>
                    </a:lnTo>
                    <a:cubicBezTo>
                      <a:pt x="1962" y="4"/>
                      <a:pt x="1961" y="3"/>
                      <a:pt x="1961" y="2"/>
                    </a:cubicBezTo>
                    <a:cubicBezTo>
                      <a:pt x="1961" y="1"/>
                      <a:pt x="1962" y="0"/>
                      <a:pt x="1963" y="0"/>
                    </a:cubicBezTo>
                    <a:close/>
                    <a:moveTo>
                      <a:pt x="1971" y="0"/>
                    </a:moveTo>
                    <a:lnTo>
                      <a:pt x="1971" y="0"/>
                    </a:lnTo>
                    <a:cubicBezTo>
                      <a:pt x="1972" y="0"/>
                      <a:pt x="1973" y="1"/>
                      <a:pt x="1973" y="2"/>
                    </a:cubicBezTo>
                    <a:cubicBezTo>
                      <a:pt x="1973" y="3"/>
                      <a:pt x="1972" y="4"/>
                      <a:pt x="1971" y="4"/>
                    </a:cubicBezTo>
                    <a:lnTo>
                      <a:pt x="1971" y="4"/>
                    </a:lnTo>
                    <a:cubicBezTo>
                      <a:pt x="1970" y="4"/>
                      <a:pt x="1969" y="3"/>
                      <a:pt x="1969" y="2"/>
                    </a:cubicBezTo>
                    <a:cubicBezTo>
                      <a:pt x="1969" y="1"/>
                      <a:pt x="1970" y="0"/>
                      <a:pt x="1971" y="0"/>
                    </a:cubicBezTo>
                    <a:close/>
                    <a:moveTo>
                      <a:pt x="1979" y="0"/>
                    </a:moveTo>
                    <a:lnTo>
                      <a:pt x="1979" y="0"/>
                    </a:lnTo>
                    <a:cubicBezTo>
                      <a:pt x="1980" y="0"/>
                      <a:pt x="1981" y="1"/>
                      <a:pt x="1981" y="2"/>
                    </a:cubicBezTo>
                    <a:cubicBezTo>
                      <a:pt x="1981" y="3"/>
                      <a:pt x="1980" y="4"/>
                      <a:pt x="1979" y="4"/>
                    </a:cubicBezTo>
                    <a:lnTo>
                      <a:pt x="1979" y="4"/>
                    </a:lnTo>
                    <a:cubicBezTo>
                      <a:pt x="1978" y="4"/>
                      <a:pt x="1977" y="3"/>
                      <a:pt x="1977" y="2"/>
                    </a:cubicBezTo>
                    <a:cubicBezTo>
                      <a:pt x="1977" y="1"/>
                      <a:pt x="1978" y="0"/>
                      <a:pt x="1979" y="0"/>
                    </a:cubicBezTo>
                    <a:close/>
                    <a:moveTo>
                      <a:pt x="1987" y="0"/>
                    </a:moveTo>
                    <a:lnTo>
                      <a:pt x="1987" y="0"/>
                    </a:lnTo>
                    <a:cubicBezTo>
                      <a:pt x="1988" y="0"/>
                      <a:pt x="1989" y="1"/>
                      <a:pt x="1989" y="2"/>
                    </a:cubicBezTo>
                    <a:cubicBezTo>
                      <a:pt x="1989" y="3"/>
                      <a:pt x="1988" y="4"/>
                      <a:pt x="1987" y="4"/>
                    </a:cubicBezTo>
                    <a:lnTo>
                      <a:pt x="1987" y="4"/>
                    </a:lnTo>
                    <a:cubicBezTo>
                      <a:pt x="1986" y="4"/>
                      <a:pt x="1985" y="3"/>
                      <a:pt x="1985" y="2"/>
                    </a:cubicBezTo>
                    <a:cubicBezTo>
                      <a:pt x="1985" y="1"/>
                      <a:pt x="1986" y="0"/>
                      <a:pt x="1987" y="0"/>
                    </a:cubicBezTo>
                    <a:close/>
                    <a:moveTo>
                      <a:pt x="1995" y="0"/>
                    </a:moveTo>
                    <a:lnTo>
                      <a:pt x="1995" y="0"/>
                    </a:lnTo>
                    <a:cubicBezTo>
                      <a:pt x="1996" y="0"/>
                      <a:pt x="1997" y="1"/>
                      <a:pt x="1997" y="2"/>
                    </a:cubicBezTo>
                    <a:cubicBezTo>
                      <a:pt x="1997" y="3"/>
                      <a:pt x="1996" y="4"/>
                      <a:pt x="1995" y="4"/>
                    </a:cubicBezTo>
                    <a:lnTo>
                      <a:pt x="1995" y="4"/>
                    </a:lnTo>
                    <a:cubicBezTo>
                      <a:pt x="1994" y="4"/>
                      <a:pt x="1993" y="3"/>
                      <a:pt x="1993" y="2"/>
                    </a:cubicBezTo>
                    <a:cubicBezTo>
                      <a:pt x="1993" y="1"/>
                      <a:pt x="1994" y="0"/>
                      <a:pt x="1995" y="0"/>
                    </a:cubicBezTo>
                    <a:close/>
                    <a:moveTo>
                      <a:pt x="2003" y="0"/>
                    </a:moveTo>
                    <a:lnTo>
                      <a:pt x="2003" y="0"/>
                    </a:lnTo>
                    <a:cubicBezTo>
                      <a:pt x="2004" y="0"/>
                      <a:pt x="2005" y="1"/>
                      <a:pt x="2005" y="2"/>
                    </a:cubicBezTo>
                    <a:cubicBezTo>
                      <a:pt x="2005" y="3"/>
                      <a:pt x="2004" y="4"/>
                      <a:pt x="2003" y="4"/>
                    </a:cubicBezTo>
                    <a:lnTo>
                      <a:pt x="2003" y="4"/>
                    </a:lnTo>
                    <a:cubicBezTo>
                      <a:pt x="2002" y="4"/>
                      <a:pt x="2001" y="3"/>
                      <a:pt x="2001" y="2"/>
                    </a:cubicBezTo>
                    <a:cubicBezTo>
                      <a:pt x="2001" y="1"/>
                      <a:pt x="2002" y="0"/>
                      <a:pt x="2003" y="0"/>
                    </a:cubicBezTo>
                    <a:close/>
                    <a:moveTo>
                      <a:pt x="2011" y="0"/>
                    </a:moveTo>
                    <a:lnTo>
                      <a:pt x="2011" y="0"/>
                    </a:lnTo>
                    <a:cubicBezTo>
                      <a:pt x="2012" y="0"/>
                      <a:pt x="2013" y="1"/>
                      <a:pt x="2013" y="2"/>
                    </a:cubicBezTo>
                    <a:cubicBezTo>
                      <a:pt x="2013" y="3"/>
                      <a:pt x="2012" y="4"/>
                      <a:pt x="2011" y="4"/>
                    </a:cubicBezTo>
                    <a:lnTo>
                      <a:pt x="2011" y="4"/>
                    </a:lnTo>
                    <a:cubicBezTo>
                      <a:pt x="2010" y="4"/>
                      <a:pt x="2009" y="3"/>
                      <a:pt x="2009" y="2"/>
                    </a:cubicBezTo>
                    <a:cubicBezTo>
                      <a:pt x="2009" y="1"/>
                      <a:pt x="2010" y="0"/>
                      <a:pt x="2011" y="0"/>
                    </a:cubicBezTo>
                    <a:close/>
                    <a:moveTo>
                      <a:pt x="2019" y="0"/>
                    </a:moveTo>
                    <a:lnTo>
                      <a:pt x="2019" y="0"/>
                    </a:lnTo>
                    <a:cubicBezTo>
                      <a:pt x="2020" y="0"/>
                      <a:pt x="2021" y="1"/>
                      <a:pt x="2021" y="2"/>
                    </a:cubicBezTo>
                    <a:cubicBezTo>
                      <a:pt x="2021" y="3"/>
                      <a:pt x="2020" y="4"/>
                      <a:pt x="2019" y="4"/>
                    </a:cubicBezTo>
                    <a:lnTo>
                      <a:pt x="2019" y="4"/>
                    </a:lnTo>
                    <a:cubicBezTo>
                      <a:pt x="2018" y="4"/>
                      <a:pt x="2017" y="3"/>
                      <a:pt x="2017" y="2"/>
                    </a:cubicBezTo>
                    <a:cubicBezTo>
                      <a:pt x="2017" y="1"/>
                      <a:pt x="2018" y="0"/>
                      <a:pt x="2019" y="0"/>
                    </a:cubicBezTo>
                    <a:close/>
                    <a:moveTo>
                      <a:pt x="2027" y="0"/>
                    </a:moveTo>
                    <a:lnTo>
                      <a:pt x="2027" y="0"/>
                    </a:lnTo>
                    <a:cubicBezTo>
                      <a:pt x="2028" y="0"/>
                      <a:pt x="2029" y="1"/>
                      <a:pt x="2029" y="2"/>
                    </a:cubicBezTo>
                    <a:cubicBezTo>
                      <a:pt x="2029" y="3"/>
                      <a:pt x="2028" y="4"/>
                      <a:pt x="2027" y="4"/>
                    </a:cubicBezTo>
                    <a:lnTo>
                      <a:pt x="2027" y="4"/>
                    </a:lnTo>
                    <a:cubicBezTo>
                      <a:pt x="2026" y="4"/>
                      <a:pt x="2025" y="3"/>
                      <a:pt x="2025" y="2"/>
                    </a:cubicBezTo>
                    <a:cubicBezTo>
                      <a:pt x="2025" y="1"/>
                      <a:pt x="2026" y="0"/>
                      <a:pt x="2027" y="0"/>
                    </a:cubicBezTo>
                    <a:close/>
                    <a:moveTo>
                      <a:pt x="2035" y="0"/>
                    </a:moveTo>
                    <a:lnTo>
                      <a:pt x="2035" y="0"/>
                    </a:lnTo>
                    <a:cubicBezTo>
                      <a:pt x="2036" y="0"/>
                      <a:pt x="2037" y="1"/>
                      <a:pt x="2037" y="2"/>
                    </a:cubicBezTo>
                    <a:cubicBezTo>
                      <a:pt x="2037" y="3"/>
                      <a:pt x="2036" y="4"/>
                      <a:pt x="2035" y="4"/>
                    </a:cubicBezTo>
                    <a:lnTo>
                      <a:pt x="2035" y="4"/>
                    </a:lnTo>
                    <a:cubicBezTo>
                      <a:pt x="2034" y="4"/>
                      <a:pt x="2033" y="3"/>
                      <a:pt x="2033" y="2"/>
                    </a:cubicBezTo>
                    <a:cubicBezTo>
                      <a:pt x="2033" y="1"/>
                      <a:pt x="2034" y="0"/>
                      <a:pt x="2035" y="0"/>
                    </a:cubicBezTo>
                    <a:close/>
                    <a:moveTo>
                      <a:pt x="2043" y="0"/>
                    </a:moveTo>
                    <a:lnTo>
                      <a:pt x="2043" y="0"/>
                    </a:lnTo>
                    <a:cubicBezTo>
                      <a:pt x="2044" y="0"/>
                      <a:pt x="2045" y="1"/>
                      <a:pt x="2045" y="2"/>
                    </a:cubicBezTo>
                    <a:cubicBezTo>
                      <a:pt x="2045" y="3"/>
                      <a:pt x="2044" y="4"/>
                      <a:pt x="2043" y="4"/>
                    </a:cubicBezTo>
                    <a:lnTo>
                      <a:pt x="2043" y="4"/>
                    </a:lnTo>
                    <a:cubicBezTo>
                      <a:pt x="2042" y="4"/>
                      <a:pt x="2041" y="3"/>
                      <a:pt x="2041" y="2"/>
                    </a:cubicBezTo>
                    <a:cubicBezTo>
                      <a:pt x="2041" y="1"/>
                      <a:pt x="2042" y="0"/>
                      <a:pt x="2043" y="0"/>
                    </a:cubicBezTo>
                    <a:close/>
                    <a:moveTo>
                      <a:pt x="2051" y="0"/>
                    </a:moveTo>
                    <a:lnTo>
                      <a:pt x="2051" y="0"/>
                    </a:lnTo>
                    <a:cubicBezTo>
                      <a:pt x="2052" y="0"/>
                      <a:pt x="2053" y="1"/>
                      <a:pt x="2053" y="2"/>
                    </a:cubicBezTo>
                    <a:cubicBezTo>
                      <a:pt x="2053" y="3"/>
                      <a:pt x="2052" y="4"/>
                      <a:pt x="2051" y="4"/>
                    </a:cubicBezTo>
                    <a:lnTo>
                      <a:pt x="2051" y="4"/>
                    </a:lnTo>
                    <a:cubicBezTo>
                      <a:pt x="2050" y="4"/>
                      <a:pt x="2049" y="3"/>
                      <a:pt x="2049" y="2"/>
                    </a:cubicBezTo>
                    <a:cubicBezTo>
                      <a:pt x="2049" y="1"/>
                      <a:pt x="2050" y="0"/>
                      <a:pt x="2051" y="0"/>
                    </a:cubicBezTo>
                    <a:close/>
                    <a:moveTo>
                      <a:pt x="2059" y="0"/>
                    </a:moveTo>
                    <a:lnTo>
                      <a:pt x="2059" y="0"/>
                    </a:lnTo>
                    <a:cubicBezTo>
                      <a:pt x="2060" y="0"/>
                      <a:pt x="2061" y="1"/>
                      <a:pt x="2061" y="2"/>
                    </a:cubicBezTo>
                    <a:cubicBezTo>
                      <a:pt x="2061" y="3"/>
                      <a:pt x="2060" y="4"/>
                      <a:pt x="2059" y="4"/>
                    </a:cubicBezTo>
                    <a:lnTo>
                      <a:pt x="2059" y="4"/>
                    </a:lnTo>
                    <a:cubicBezTo>
                      <a:pt x="2058" y="4"/>
                      <a:pt x="2057" y="3"/>
                      <a:pt x="2057" y="2"/>
                    </a:cubicBezTo>
                    <a:cubicBezTo>
                      <a:pt x="2057" y="1"/>
                      <a:pt x="2058" y="0"/>
                      <a:pt x="2059" y="0"/>
                    </a:cubicBezTo>
                    <a:close/>
                    <a:moveTo>
                      <a:pt x="2067" y="0"/>
                    </a:moveTo>
                    <a:lnTo>
                      <a:pt x="2067" y="0"/>
                    </a:lnTo>
                    <a:cubicBezTo>
                      <a:pt x="2068" y="0"/>
                      <a:pt x="2069" y="1"/>
                      <a:pt x="2069" y="2"/>
                    </a:cubicBezTo>
                    <a:cubicBezTo>
                      <a:pt x="2069" y="3"/>
                      <a:pt x="2068" y="4"/>
                      <a:pt x="2067" y="4"/>
                    </a:cubicBezTo>
                    <a:lnTo>
                      <a:pt x="2067" y="4"/>
                    </a:lnTo>
                    <a:cubicBezTo>
                      <a:pt x="2066" y="4"/>
                      <a:pt x="2065" y="3"/>
                      <a:pt x="2065" y="2"/>
                    </a:cubicBezTo>
                    <a:cubicBezTo>
                      <a:pt x="2065" y="1"/>
                      <a:pt x="2066" y="0"/>
                      <a:pt x="2067" y="0"/>
                    </a:cubicBezTo>
                    <a:close/>
                    <a:moveTo>
                      <a:pt x="2075" y="0"/>
                    </a:moveTo>
                    <a:lnTo>
                      <a:pt x="2075" y="0"/>
                    </a:lnTo>
                    <a:cubicBezTo>
                      <a:pt x="2076" y="0"/>
                      <a:pt x="2077" y="1"/>
                      <a:pt x="2077" y="2"/>
                    </a:cubicBezTo>
                    <a:cubicBezTo>
                      <a:pt x="2077" y="3"/>
                      <a:pt x="2076" y="4"/>
                      <a:pt x="2075" y="4"/>
                    </a:cubicBezTo>
                    <a:lnTo>
                      <a:pt x="2075" y="4"/>
                    </a:lnTo>
                    <a:cubicBezTo>
                      <a:pt x="2074" y="4"/>
                      <a:pt x="2073" y="3"/>
                      <a:pt x="2073" y="2"/>
                    </a:cubicBezTo>
                    <a:cubicBezTo>
                      <a:pt x="2073" y="1"/>
                      <a:pt x="2074" y="0"/>
                      <a:pt x="2075" y="0"/>
                    </a:cubicBezTo>
                    <a:close/>
                    <a:moveTo>
                      <a:pt x="2083" y="0"/>
                    </a:moveTo>
                    <a:lnTo>
                      <a:pt x="2083" y="0"/>
                    </a:lnTo>
                    <a:cubicBezTo>
                      <a:pt x="2084" y="0"/>
                      <a:pt x="2085" y="1"/>
                      <a:pt x="2085" y="2"/>
                    </a:cubicBezTo>
                    <a:cubicBezTo>
                      <a:pt x="2085" y="3"/>
                      <a:pt x="2084" y="4"/>
                      <a:pt x="2083" y="4"/>
                    </a:cubicBezTo>
                    <a:lnTo>
                      <a:pt x="2083" y="4"/>
                    </a:lnTo>
                    <a:cubicBezTo>
                      <a:pt x="2082" y="4"/>
                      <a:pt x="2081" y="3"/>
                      <a:pt x="2081" y="2"/>
                    </a:cubicBezTo>
                    <a:cubicBezTo>
                      <a:pt x="2081" y="1"/>
                      <a:pt x="2082" y="0"/>
                      <a:pt x="2083" y="0"/>
                    </a:cubicBezTo>
                    <a:close/>
                    <a:moveTo>
                      <a:pt x="2091" y="0"/>
                    </a:moveTo>
                    <a:lnTo>
                      <a:pt x="2091" y="0"/>
                    </a:lnTo>
                    <a:cubicBezTo>
                      <a:pt x="2092" y="0"/>
                      <a:pt x="2093" y="1"/>
                      <a:pt x="2093" y="2"/>
                    </a:cubicBezTo>
                    <a:cubicBezTo>
                      <a:pt x="2093" y="3"/>
                      <a:pt x="2092" y="4"/>
                      <a:pt x="2091" y="4"/>
                    </a:cubicBezTo>
                    <a:lnTo>
                      <a:pt x="2091" y="4"/>
                    </a:lnTo>
                    <a:cubicBezTo>
                      <a:pt x="2090" y="4"/>
                      <a:pt x="2089" y="3"/>
                      <a:pt x="2089" y="2"/>
                    </a:cubicBezTo>
                    <a:cubicBezTo>
                      <a:pt x="2089" y="1"/>
                      <a:pt x="2090" y="0"/>
                      <a:pt x="2091" y="0"/>
                    </a:cubicBezTo>
                    <a:close/>
                    <a:moveTo>
                      <a:pt x="2099" y="0"/>
                    </a:moveTo>
                    <a:lnTo>
                      <a:pt x="2099" y="0"/>
                    </a:lnTo>
                    <a:cubicBezTo>
                      <a:pt x="2100" y="0"/>
                      <a:pt x="2101" y="1"/>
                      <a:pt x="2101" y="2"/>
                    </a:cubicBezTo>
                    <a:cubicBezTo>
                      <a:pt x="2101" y="3"/>
                      <a:pt x="2100" y="4"/>
                      <a:pt x="2099" y="4"/>
                    </a:cubicBezTo>
                    <a:lnTo>
                      <a:pt x="2099" y="4"/>
                    </a:lnTo>
                    <a:cubicBezTo>
                      <a:pt x="2098" y="4"/>
                      <a:pt x="2097" y="3"/>
                      <a:pt x="2097" y="2"/>
                    </a:cubicBezTo>
                    <a:cubicBezTo>
                      <a:pt x="2097" y="1"/>
                      <a:pt x="2098" y="0"/>
                      <a:pt x="2099" y="0"/>
                    </a:cubicBezTo>
                    <a:close/>
                    <a:moveTo>
                      <a:pt x="2107" y="0"/>
                    </a:moveTo>
                    <a:lnTo>
                      <a:pt x="2107" y="0"/>
                    </a:lnTo>
                    <a:cubicBezTo>
                      <a:pt x="2108" y="0"/>
                      <a:pt x="2109" y="1"/>
                      <a:pt x="2109" y="2"/>
                    </a:cubicBezTo>
                    <a:cubicBezTo>
                      <a:pt x="2109" y="3"/>
                      <a:pt x="2108" y="4"/>
                      <a:pt x="2107" y="4"/>
                    </a:cubicBezTo>
                    <a:lnTo>
                      <a:pt x="2107" y="4"/>
                    </a:lnTo>
                    <a:cubicBezTo>
                      <a:pt x="2106" y="4"/>
                      <a:pt x="2105" y="3"/>
                      <a:pt x="2105" y="2"/>
                    </a:cubicBezTo>
                    <a:cubicBezTo>
                      <a:pt x="2105" y="1"/>
                      <a:pt x="2106" y="0"/>
                      <a:pt x="2107" y="0"/>
                    </a:cubicBezTo>
                    <a:close/>
                    <a:moveTo>
                      <a:pt x="2115" y="0"/>
                    </a:moveTo>
                    <a:lnTo>
                      <a:pt x="2115" y="0"/>
                    </a:lnTo>
                    <a:cubicBezTo>
                      <a:pt x="2116" y="0"/>
                      <a:pt x="2117" y="1"/>
                      <a:pt x="2117" y="2"/>
                    </a:cubicBezTo>
                    <a:cubicBezTo>
                      <a:pt x="2117" y="3"/>
                      <a:pt x="2116" y="4"/>
                      <a:pt x="2115" y="4"/>
                    </a:cubicBezTo>
                    <a:lnTo>
                      <a:pt x="2115" y="4"/>
                    </a:lnTo>
                    <a:cubicBezTo>
                      <a:pt x="2114" y="4"/>
                      <a:pt x="2113" y="3"/>
                      <a:pt x="2113" y="2"/>
                    </a:cubicBezTo>
                    <a:cubicBezTo>
                      <a:pt x="2113" y="1"/>
                      <a:pt x="2114" y="0"/>
                      <a:pt x="2115" y="0"/>
                    </a:cubicBezTo>
                    <a:close/>
                    <a:moveTo>
                      <a:pt x="2123" y="0"/>
                    </a:moveTo>
                    <a:lnTo>
                      <a:pt x="2123" y="0"/>
                    </a:lnTo>
                    <a:cubicBezTo>
                      <a:pt x="2124" y="0"/>
                      <a:pt x="2125" y="1"/>
                      <a:pt x="2125" y="2"/>
                    </a:cubicBezTo>
                    <a:cubicBezTo>
                      <a:pt x="2125" y="3"/>
                      <a:pt x="2124" y="4"/>
                      <a:pt x="2123" y="4"/>
                    </a:cubicBezTo>
                    <a:lnTo>
                      <a:pt x="2123" y="4"/>
                    </a:lnTo>
                    <a:cubicBezTo>
                      <a:pt x="2122" y="4"/>
                      <a:pt x="2121" y="3"/>
                      <a:pt x="2121" y="2"/>
                    </a:cubicBezTo>
                    <a:cubicBezTo>
                      <a:pt x="2121" y="1"/>
                      <a:pt x="2122" y="0"/>
                      <a:pt x="2123" y="0"/>
                    </a:cubicBezTo>
                    <a:close/>
                    <a:moveTo>
                      <a:pt x="2131" y="0"/>
                    </a:moveTo>
                    <a:lnTo>
                      <a:pt x="2131" y="0"/>
                    </a:lnTo>
                    <a:cubicBezTo>
                      <a:pt x="2132" y="0"/>
                      <a:pt x="2133" y="1"/>
                      <a:pt x="2133" y="2"/>
                    </a:cubicBezTo>
                    <a:cubicBezTo>
                      <a:pt x="2133" y="4"/>
                      <a:pt x="2132" y="4"/>
                      <a:pt x="2131" y="4"/>
                    </a:cubicBezTo>
                    <a:lnTo>
                      <a:pt x="2131" y="4"/>
                    </a:lnTo>
                    <a:cubicBezTo>
                      <a:pt x="2130" y="4"/>
                      <a:pt x="2129" y="4"/>
                      <a:pt x="2129" y="2"/>
                    </a:cubicBezTo>
                    <a:cubicBezTo>
                      <a:pt x="2129" y="1"/>
                      <a:pt x="2130" y="0"/>
                      <a:pt x="2131" y="0"/>
                    </a:cubicBezTo>
                    <a:close/>
                    <a:moveTo>
                      <a:pt x="2139" y="0"/>
                    </a:moveTo>
                    <a:lnTo>
                      <a:pt x="2139" y="0"/>
                    </a:lnTo>
                    <a:cubicBezTo>
                      <a:pt x="2140" y="0"/>
                      <a:pt x="2141" y="1"/>
                      <a:pt x="2141" y="2"/>
                    </a:cubicBezTo>
                    <a:cubicBezTo>
                      <a:pt x="2141" y="4"/>
                      <a:pt x="2140" y="4"/>
                      <a:pt x="2139" y="4"/>
                    </a:cubicBezTo>
                    <a:lnTo>
                      <a:pt x="2139" y="4"/>
                    </a:lnTo>
                    <a:cubicBezTo>
                      <a:pt x="2138" y="4"/>
                      <a:pt x="2137" y="4"/>
                      <a:pt x="2137" y="2"/>
                    </a:cubicBezTo>
                    <a:cubicBezTo>
                      <a:pt x="2137" y="1"/>
                      <a:pt x="2138" y="0"/>
                      <a:pt x="2139" y="0"/>
                    </a:cubicBezTo>
                    <a:close/>
                    <a:moveTo>
                      <a:pt x="2147" y="0"/>
                    </a:moveTo>
                    <a:lnTo>
                      <a:pt x="2147" y="0"/>
                    </a:lnTo>
                    <a:cubicBezTo>
                      <a:pt x="2148" y="0"/>
                      <a:pt x="2149" y="1"/>
                      <a:pt x="2149" y="2"/>
                    </a:cubicBezTo>
                    <a:cubicBezTo>
                      <a:pt x="2149" y="4"/>
                      <a:pt x="2148" y="4"/>
                      <a:pt x="2147" y="4"/>
                    </a:cubicBezTo>
                    <a:lnTo>
                      <a:pt x="2147" y="4"/>
                    </a:lnTo>
                    <a:cubicBezTo>
                      <a:pt x="2146" y="4"/>
                      <a:pt x="2145" y="4"/>
                      <a:pt x="2145" y="2"/>
                    </a:cubicBezTo>
                    <a:cubicBezTo>
                      <a:pt x="2145" y="1"/>
                      <a:pt x="2146" y="0"/>
                      <a:pt x="2147" y="0"/>
                    </a:cubicBezTo>
                    <a:close/>
                    <a:moveTo>
                      <a:pt x="2155" y="0"/>
                    </a:moveTo>
                    <a:lnTo>
                      <a:pt x="2155" y="0"/>
                    </a:lnTo>
                    <a:cubicBezTo>
                      <a:pt x="2156" y="0"/>
                      <a:pt x="2157" y="1"/>
                      <a:pt x="2157" y="2"/>
                    </a:cubicBezTo>
                    <a:cubicBezTo>
                      <a:pt x="2157" y="4"/>
                      <a:pt x="2156" y="4"/>
                      <a:pt x="2155" y="4"/>
                    </a:cubicBezTo>
                    <a:lnTo>
                      <a:pt x="2155" y="4"/>
                    </a:lnTo>
                    <a:cubicBezTo>
                      <a:pt x="2154" y="4"/>
                      <a:pt x="2153" y="4"/>
                      <a:pt x="2153" y="2"/>
                    </a:cubicBezTo>
                    <a:cubicBezTo>
                      <a:pt x="2153" y="1"/>
                      <a:pt x="2154" y="0"/>
                      <a:pt x="2155" y="0"/>
                    </a:cubicBezTo>
                    <a:close/>
                    <a:moveTo>
                      <a:pt x="2163" y="0"/>
                    </a:moveTo>
                    <a:lnTo>
                      <a:pt x="2163" y="0"/>
                    </a:lnTo>
                    <a:cubicBezTo>
                      <a:pt x="2164" y="0"/>
                      <a:pt x="2165" y="1"/>
                      <a:pt x="2165" y="2"/>
                    </a:cubicBezTo>
                    <a:cubicBezTo>
                      <a:pt x="2165" y="4"/>
                      <a:pt x="2164" y="4"/>
                      <a:pt x="2163" y="4"/>
                    </a:cubicBezTo>
                    <a:lnTo>
                      <a:pt x="2163" y="4"/>
                    </a:lnTo>
                    <a:cubicBezTo>
                      <a:pt x="2162" y="4"/>
                      <a:pt x="2161" y="4"/>
                      <a:pt x="2161" y="2"/>
                    </a:cubicBezTo>
                    <a:cubicBezTo>
                      <a:pt x="2161" y="1"/>
                      <a:pt x="2162" y="0"/>
                      <a:pt x="2163" y="0"/>
                    </a:cubicBezTo>
                    <a:close/>
                    <a:moveTo>
                      <a:pt x="2171" y="0"/>
                    </a:moveTo>
                    <a:lnTo>
                      <a:pt x="2171" y="0"/>
                    </a:lnTo>
                    <a:cubicBezTo>
                      <a:pt x="2172" y="0"/>
                      <a:pt x="2173" y="1"/>
                      <a:pt x="2173" y="2"/>
                    </a:cubicBezTo>
                    <a:cubicBezTo>
                      <a:pt x="2173" y="4"/>
                      <a:pt x="2172" y="4"/>
                      <a:pt x="2171" y="4"/>
                    </a:cubicBezTo>
                    <a:lnTo>
                      <a:pt x="2171" y="4"/>
                    </a:lnTo>
                    <a:cubicBezTo>
                      <a:pt x="2170" y="4"/>
                      <a:pt x="2169" y="4"/>
                      <a:pt x="2169" y="2"/>
                    </a:cubicBezTo>
                    <a:cubicBezTo>
                      <a:pt x="2169" y="1"/>
                      <a:pt x="2170" y="0"/>
                      <a:pt x="2171" y="0"/>
                    </a:cubicBezTo>
                    <a:close/>
                    <a:moveTo>
                      <a:pt x="2179" y="0"/>
                    </a:moveTo>
                    <a:lnTo>
                      <a:pt x="2179" y="0"/>
                    </a:lnTo>
                    <a:cubicBezTo>
                      <a:pt x="2180" y="0"/>
                      <a:pt x="2181" y="1"/>
                      <a:pt x="2181" y="2"/>
                    </a:cubicBezTo>
                    <a:cubicBezTo>
                      <a:pt x="2181" y="4"/>
                      <a:pt x="2180" y="4"/>
                      <a:pt x="2179" y="4"/>
                    </a:cubicBezTo>
                    <a:lnTo>
                      <a:pt x="2179" y="4"/>
                    </a:lnTo>
                    <a:cubicBezTo>
                      <a:pt x="2178" y="4"/>
                      <a:pt x="2177" y="4"/>
                      <a:pt x="2177" y="2"/>
                    </a:cubicBezTo>
                    <a:cubicBezTo>
                      <a:pt x="2177" y="1"/>
                      <a:pt x="2178" y="0"/>
                      <a:pt x="2179" y="0"/>
                    </a:cubicBezTo>
                    <a:close/>
                    <a:moveTo>
                      <a:pt x="2187" y="0"/>
                    </a:moveTo>
                    <a:lnTo>
                      <a:pt x="2187" y="0"/>
                    </a:lnTo>
                    <a:cubicBezTo>
                      <a:pt x="2188" y="0"/>
                      <a:pt x="2189" y="1"/>
                      <a:pt x="2189" y="2"/>
                    </a:cubicBezTo>
                    <a:cubicBezTo>
                      <a:pt x="2189" y="4"/>
                      <a:pt x="2188" y="4"/>
                      <a:pt x="2187" y="4"/>
                    </a:cubicBezTo>
                    <a:lnTo>
                      <a:pt x="2187" y="4"/>
                    </a:lnTo>
                    <a:cubicBezTo>
                      <a:pt x="2186" y="4"/>
                      <a:pt x="2185" y="4"/>
                      <a:pt x="2185" y="2"/>
                    </a:cubicBezTo>
                    <a:cubicBezTo>
                      <a:pt x="2185" y="1"/>
                      <a:pt x="2186" y="0"/>
                      <a:pt x="2187" y="0"/>
                    </a:cubicBezTo>
                    <a:close/>
                    <a:moveTo>
                      <a:pt x="2195" y="0"/>
                    </a:moveTo>
                    <a:lnTo>
                      <a:pt x="2195" y="0"/>
                    </a:lnTo>
                    <a:cubicBezTo>
                      <a:pt x="2196" y="0"/>
                      <a:pt x="2197" y="1"/>
                      <a:pt x="2197" y="2"/>
                    </a:cubicBezTo>
                    <a:cubicBezTo>
                      <a:pt x="2197" y="4"/>
                      <a:pt x="2196" y="4"/>
                      <a:pt x="2195" y="4"/>
                    </a:cubicBezTo>
                    <a:lnTo>
                      <a:pt x="2195" y="4"/>
                    </a:lnTo>
                    <a:cubicBezTo>
                      <a:pt x="2194" y="4"/>
                      <a:pt x="2193" y="4"/>
                      <a:pt x="2193" y="2"/>
                    </a:cubicBezTo>
                    <a:cubicBezTo>
                      <a:pt x="2193" y="1"/>
                      <a:pt x="2194" y="0"/>
                      <a:pt x="2195" y="0"/>
                    </a:cubicBezTo>
                    <a:close/>
                    <a:moveTo>
                      <a:pt x="2203" y="0"/>
                    </a:moveTo>
                    <a:lnTo>
                      <a:pt x="2203" y="0"/>
                    </a:lnTo>
                    <a:cubicBezTo>
                      <a:pt x="2204" y="0"/>
                      <a:pt x="2205" y="1"/>
                      <a:pt x="2205" y="2"/>
                    </a:cubicBezTo>
                    <a:cubicBezTo>
                      <a:pt x="2205" y="4"/>
                      <a:pt x="2204" y="4"/>
                      <a:pt x="2203" y="4"/>
                    </a:cubicBezTo>
                    <a:lnTo>
                      <a:pt x="2203" y="4"/>
                    </a:lnTo>
                    <a:cubicBezTo>
                      <a:pt x="2202" y="4"/>
                      <a:pt x="2201" y="4"/>
                      <a:pt x="2201" y="2"/>
                    </a:cubicBezTo>
                    <a:cubicBezTo>
                      <a:pt x="2201" y="1"/>
                      <a:pt x="2202" y="0"/>
                      <a:pt x="2203" y="0"/>
                    </a:cubicBezTo>
                    <a:close/>
                    <a:moveTo>
                      <a:pt x="2211" y="0"/>
                    </a:moveTo>
                    <a:lnTo>
                      <a:pt x="2211" y="0"/>
                    </a:lnTo>
                    <a:cubicBezTo>
                      <a:pt x="2212" y="0"/>
                      <a:pt x="2213" y="1"/>
                      <a:pt x="2213" y="2"/>
                    </a:cubicBezTo>
                    <a:cubicBezTo>
                      <a:pt x="2213" y="4"/>
                      <a:pt x="2212" y="4"/>
                      <a:pt x="2211" y="4"/>
                    </a:cubicBezTo>
                    <a:lnTo>
                      <a:pt x="2211" y="4"/>
                    </a:lnTo>
                    <a:cubicBezTo>
                      <a:pt x="2210" y="4"/>
                      <a:pt x="2209" y="4"/>
                      <a:pt x="2209" y="2"/>
                    </a:cubicBezTo>
                    <a:cubicBezTo>
                      <a:pt x="2209" y="1"/>
                      <a:pt x="2210" y="0"/>
                      <a:pt x="2211" y="0"/>
                    </a:cubicBezTo>
                    <a:close/>
                    <a:moveTo>
                      <a:pt x="2219" y="0"/>
                    </a:moveTo>
                    <a:lnTo>
                      <a:pt x="2219" y="0"/>
                    </a:lnTo>
                    <a:cubicBezTo>
                      <a:pt x="2220" y="0"/>
                      <a:pt x="2221" y="1"/>
                      <a:pt x="2221" y="2"/>
                    </a:cubicBezTo>
                    <a:cubicBezTo>
                      <a:pt x="2221" y="4"/>
                      <a:pt x="2220" y="4"/>
                      <a:pt x="2219" y="4"/>
                    </a:cubicBezTo>
                    <a:lnTo>
                      <a:pt x="2219" y="4"/>
                    </a:lnTo>
                    <a:cubicBezTo>
                      <a:pt x="2218" y="4"/>
                      <a:pt x="2217" y="4"/>
                      <a:pt x="2217" y="2"/>
                    </a:cubicBezTo>
                    <a:cubicBezTo>
                      <a:pt x="2217" y="1"/>
                      <a:pt x="2218" y="0"/>
                      <a:pt x="2219" y="0"/>
                    </a:cubicBezTo>
                    <a:close/>
                    <a:moveTo>
                      <a:pt x="2227" y="0"/>
                    </a:moveTo>
                    <a:lnTo>
                      <a:pt x="2227" y="0"/>
                    </a:lnTo>
                    <a:cubicBezTo>
                      <a:pt x="2228" y="0"/>
                      <a:pt x="2229" y="1"/>
                      <a:pt x="2229" y="2"/>
                    </a:cubicBezTo>
                    <a:cubicBezTo>
                      <a:pt x="2229" y="4"/>
                      <a:pt x="2228" y="4"/>
                      <a:pt x="2227" y="4"/>
                    </a:cubicBezTo>
                    <a:lnTo>
                      <a:pt x="2227" y="4"/>
                    </a:lnTo>
                    <a:cubicBezTo>
                      <a:pt x="2226" y="4"/>
                      <a:pt x="2225" y="4"/>
                      <a:pt x="2225" y="2"/>
                    </a:cubicBezTo>
                    <a:cubicBezTo>
                      <a:pt x="2225" y="1"/>
                      <a:pt x="2226" y="0"/>
                      <a:pt x="2227" y="0"/>
                    </a:cubicBezTo>
                    <a:close/>
                    <a:moveTo>
                      <a:pt x="2235" y="0"/>
                    </a:moveTo>
                    <a:lnTo>
                      <a:pt x="2235" y="0"/>
                    </a:lnTo>
                    <a:cubicBezTo>
                      <a:pt x="2236" y="0"/>
                      <a:pt x="2237" y="1"/>
                      <a:pt x="2237" y="2"/>
                    </a:cubicBezTo>
                    <a:cubicBezTo>
                      <a:pt x="2237" y="4"/>
                      <a:pt x="2236" y="4"/>
                      <a:pt x="2235" y="4"/>
                    </a:cubicBezTo>
                    <a:lnTo>
                      <a:pt x="2235" y="4"/>
                    </a:lnTo>
                    <a:cubicBezTo>
                      <a:pt x="2234" y="4"/>
                      <a:pt x="2233" y="4"/>
                      <a:pt x="2233" y="2"/>
                    </a:cubicBezTo>
                    <a:cubicBezTo>
                      <a:pt x="2233" y="1"/>
                      <a:pt x="2234" y="0"/>
                      <a:pt x="2235" y="0"/>
                    </a:cubicBezTo>
                    <a:close/>
                    <a:moveTo>
                      <a:pt x="2243" y="0"/>
                    </a:moveTo>
                    <a:lnTo>
                      <a:pt x="2243" y="0"/>
                    </a:lnTo>
                    <a:cubicBezTo>
                      <a:pt x="2244" y="0"/>
                      <a:pt x="2245" y="1"/>
                      <a:pt x="2245" y="2"/>
                    </a:cubicBezTo>
                    <a:cubicBezTo>
                      <a:pt x="2245" y="4"/>
                      <a:pt x="2244" y="4"/>
                      <a:pt x="2243" y="4"/>
                    </a:cubicBezTo>
                    <a:lnTo>
                      <a:pt x="2243" y="4"/>
                    </a:lnTo>
                    <a:cubicBezTo>
                      <a:pt x="2242" y="4"/>
                      <a:pt x="2241" y="4"/>
                      <a:pt x="2241" y="2"/>
                    </a:cubicBezTo>
                    <a:cubicBezTo>
                      <a:pt x="2241" y="1"/>
                      <a:pt x="2242" y="0"/>
                      <a:pt x="2243" y="0"/>
                    </a:cubicBezTo>
                    <a:close/>
                    <a:moveTo>
                      <a:pt x="2251" y="0"/>
                    </a:moveTo>
                    <a:lnTo>
                      <a:pt x="2251" y="0"/>
                    </a:lnTo>
                    <a:cubicBezTo>
                      <a:pt x="2252" y="0"/>
                      <a:pt x="2253" y="1"/>
                      <a:pt x="2253" y="2"/>
                    </a:cubicBezTo>
                    <a:cubicBezTo>
                      <a:pt x="2253" y="4"/>
                      <a:pt x="2252" y="4"/>
                      <a:pt x="2251" y="4"/>
                    </a:cubicBezTo>
                    <a:lnTo>
                      <a:pt x="2251" y="4"/>
                    </a:lnTo>
                    <a:cubicBezTo>
                      <a:pt x="2250" y="4"/>
                      <a:pt x="2249" y="4"/>
                      <a:pt x="2249" y="2"/>
                    </a:cubicBezTo>
                    <a:cubicBezTo>
                      <a:pt x="2249" y="1"/>
                      <a:pt x="2250" y="0"/>
                      <a:pt x="2251" y="0"/>
                    </a:cubicBezTo>
                    <a:close/>
                    <a:moveTo>
                      <a:pt x="2259" y="0"/>
                    </a:moveTo>
                    <a:lnTo>
                      <a:pt x="2259" y="0"/>
                    </a:lnTo>
                    <a:cubicBezTo>
                      <a:pt x="2260" y="0"/>
                      <a:pt x="2261" y="1"/>
                      <a:pt x="2261" y="2"/>
                    </a:cubicBezTo>
                    <a:cubicBezTo>
                      <a:pt x="2261" y="4"/>
                      <a:pt x="2260" y="4"/>
                      <a:pt x="2259" y="4"/>
                    </a:cubicBezTo>
                    <a:lnTo>
                      <a:pt x="2259" y="4"/>
                    </a:lnTo>
                    <a:cubicBezTo>
                      <a:pt x="2258" y="4"/>
                      <a:pt x="2257" y="4"/>
                      <a:pt x="2257" y="2"/>
                    </a:cubicBezTo>
                    <a:cubicBezTo>
                      <a:pt x="2257" y="1"/>
                      <a:pt x="2258" y="0"/>
                      <a:pt x="2259" y="0"/>
                    </a:cubicBezTo>
                    <a:close/>
                    <a:moveTo>
                      <a:pt x="2267" y="0"/>
                    </a:moveTo>
                    <a:lnTo>
                      <a:pt x="2267" y="0"/>
                    </a:lnTo>
                    <a:cubicBezTo>
                      <a:pt x="2268" y="0"/>
                      <a:pt x="2269" y="1"/>
                      <a:pt x="2269" y="2"/>
                    </a:cubicBezTo>
                    <a:cubicBezTo>
                      <a:pt x="2269" y="4"/>
                      <a:pt x="2268" y="4"/>
                      <a:pt x="2267" y="4"/>
                    </a:cubicBezTo>
                    <a:lnTo>
                      <a:pt x="2267" y="4"/>
                    </a:lnTo>
                    <a:cubicBezTo>
                      <a:pt x="2266" y="4"/>
                      <a:pt x="2265" y="4"/>
                      <a:pt x="2265" y="2"/>
                    </a:cubicBezTo>
                    <a:cubicBezTo>
                      <a:pt x="2265" y="1"/>
                      <a:pt x="2266" y="0"/>
                      <a:pt x="2267" y="0"/>
                    </a:cubicBezTo>
                    <a:close/>
                    <a:moveTo>
                      <a:pt x="2275" y="0"/>
                    </a:moveTo>
                    <a:lnTo>
                      <a:pt x="2275" y="0"/>
                    </a:lnTo>
                    <a:cubicBezTo>
                      <a:pt x="2276" y="0"/>
                      <a:pt x="2277" y="1"/>
                      <a:pt x="2277" y="2"/>
                    </a:cubicBezTo>
                    <a:cubicBezTo>
                      <a:pt x="2277" y="4"/>
                      <a:pt x="2276" y="4"/>
                      <a:pt x="2275" y="4"/>
                    </a:cubicBezTo>
                    <a:lnTo>
                      <a:pt x="2275" y="4"/>
                    </a:lnTo>
                    <a:cubicBezTo>
                      <a:pt x="2274" y="4"/>
                      <a:pt x="2273" y="4"/>
                      <a:pt x="2273" y="2"/>
                    </a:cubicBezTo>
                    <a:cubicBezTo>
                      <a:pt x="2273" y="1"/>
                      <a:pt x="2274" y="0"/>
                      <a:pt x="2275" y="0"/>
                    </a:cubicBezTo>
                    <a:close/>
                    <a:moveTo>
                      <a:pt x="2283" y="0"/>
                    </a:moveTo>
                    <a:lnTo>
                      <a:pt x="2283" y="0"/>
                    </a:lnTo>
                    <a:cubicBezTo>
                      <a:pt x="2284" y="0"/>
                      <a:pt x="2285" y="1"/>
                      <a:pt x="2285" y="2"/>
                    </a:cubicBezTo>
                    <a:cubicBezTo>
                      <a:pt x="2285" y="4"/>
                      <a:pt x="2284" y="4"/>
                      <a:pt x="2283" y="4"/>
                    </a:cubicBezTo>
                    <a:lnTo>
                      <a:pt x="2283" y="4"/>
                    </a:lnTo>
                    <a:cubicBezTo>
                      <a:pt x="2282" y="4"/>
                      <a:pt x="2281" y="4"/>
                      <a:pt x="2281" y="2"/>
                    </a:cubicBezTo>
                    <a:cubicBezTo>
                      <a:pt x="2281" y="1"/>
                      <a:pt x="2282" y="0"/>
                      <a:pt x="2283" y="0"/>
                    </a:cubicBezTo>
                    <a:close/>
                    <a:moveTo>
                      <a:pt x="2291" y="0"/>
                    </a:moveTo>
                    <a:lnTo>
                      <a:pt x="2291" y="0"/>
                    </a:lnTo>
                    <a:cubicBezTo>
                      <a:pt x="2292" y="0"/>
                      <a:pt x="2293" y="1"/>
                      <a:pt x="2293" y="2"/>
                    </a:cubicBezTo>
                    <a:cubicBezTo>
                      <a:pt x="2293" y="4"/>
                      <a:pt x="2292" y="4"/>
                      <a:pt x="2291" y="4"/>
                    </a:cubicBezTo>
                    <a:lnTo>
                      <a:pt x="2291" y="4"/>
                    </a:lnTo>
                    <a:cubicBezTo>
                      <a:pt x="2290" y="4"/>
                      <a:pt x="2289" y="4"/>
                      <a:pt x="2289" y="2"/>
                    </a:cubicBezTo>
                    <a:cubicBezTo>
                      <a:pt x="2289" y="1"/>
                      <a:pt x="2290" y="0"/>
                      <a:pt x="2291" y="0"/>
                    </a:cubicBezTo>
                    <a:close/>
                    <a:moveTo>
                      <a:pt x="2299" y="0"/>
                    </a:moveTo>
                    <a:lnTo>
                      <a:pt x="2299" y="0"/>
                    </a:lnTo>
                    <a:cubicBezTo>
                      <a:pt x="2300" y="0"/>
                      <a:pt x="2301" y="1"/>
                      <a:pt x="2301" y="2"/>
                    </a:cubicBezTo>
                    <a:cubicBezTo>
                      <a:pt x="2301" y="4"/>
                      <a:pt x="2300" y="4"/>
                      <a:pt x="2299" y="4"/>
                    </a:cubicBezTo>
                    <a:lnTo>
                      <a:pt x="2299" y="4"/>
                    </a:lnTo>
                    <a:cubicBezTo>
                      <a:pt x="2298" y="4"/>
                      <a:pt x="2297" y="4"/>
                      <a:pt x="2297" y="2"/>
                    </a:cubicBezTo>
                    <a:cubicBezTo>
                      <a:pt x="2297" y="1"/>
                      <a:pt x="2298" y="0"/>
                      <a:pt x="2299" y="0"/>
                    </a:cubicBezTo>
                    <a:close/>
                    <a:moveTo>
                      <a:pt x="2307" y="0"/>
                    </a:moveTo>
                    <a:lnTo>
                      <a:pt x="2307" y="0"/>
                    </a:lnTo>
                    <a:cubicBezTo>
                      <a:pt x="2308" y="0"/>
                      <a:pt x="2309" y="1"/>
                      <a:pt x="2309" y="2"/>
                    </a:cubicBezTo>
                    <a:cubicBezTo>
                      <a:pt x="2309" y="4"/>
                      <a:pt x="2308" y="4"/>
                      <a:pt x="2307" y="4"/>
                    </a:cubicBezTo>
                    <a:lnTo>
                      <a:pt x="2307" y="4"/>
                    </a:lnTo>
                    <a:cubicBezTo>
                      <a:pt x="2306" y="4"/>
                      <a:pt x="2305" y="4"/>
                      <a:pt x="2305" y="2"/>
                    </a:cubicBezTo>
                    <a:cubicBezTo>
                      <a:pt x="2305" y="1"/>
                      <a:pt x="2306" y="0"/>
                      <a:pt x="2307" y="0"/>
                    </a:cubicBezTo>
                    <a:close/>
                    <a:moveTo>
                      <a:pt x="2315" y="0"/>
                    </a:moveTo>
                    <a:lnTo>
                      <a:pt x="2315" y="0"/>
                    </a:lnTo>
                    <a:cubicBezTo>
                      <a:pt x="2316" y="0"/>
                      <a:pt x="2317" y="1"/>
                      <a:pt x="2317" y="2"/>
                    </a:cubicBezTo>
                    <a:cubicBezTo>
                      <a:pt x="2317" y="4"/>
                      <a:pt x="2316" y="4"/>
                      <a:pt x="2315" y="4"/>
                    </a:cubicBezTo>
                    <a:lnTo>
                      <a:pt x="2315" y="4"/>
                    </a:lnTo>
                    <a:cubicBezTo>
                      <a:pt x="2314" y="4"/>
                      <a:pt x="2313" y="4"/>
                      <a:pt x="2313" y="2"/>
                    </a:cubicBezTo>
                    <a:cubicBezTo>
                      <a:pt x="2313" y="1"/>
                      <a:pt x="2314" y="0"/>
                      <a:pt x="2315" y="0"/>
                    </a:cubicBezTo>
                    <a:close/>
                    <a:moveTo>
                      <a:pt x="2323" y="0"/>
                    </a:moveTo>
                    <a:lnTo>
                      <a:pt x="2323" y="0"/>
                    </a:lnTo>
                    <a:cubicBezTo>
                      <a:pt x="2324" y="0"/>
                      <a:pt x="2325" y="1"/>
                      <a:pt x="2325" y="2"/>
                    </a:cubicBezTo>
                    <a:cubicBezTo>
                      <a:pt x="2325" y="4"/>
                      <a:pt x="2324" y="4"/>
                      <a:pt x="2323" y="4"/>
                    </a:cubicBezTo>
                    <a:lnTo>
                      <a:pt x="2323" y="4"/>
                    </a:lnTo>
                    <a:cubicBezTo>
                      <a:pt x="2322" y="4"/>
                      <a:pt x="2321" y="4"/>
                      <a:pt x="2321" y="2"/>
                    </a:cubicBezTo>
                    <a:cubicBezTo>
                      <a:pt x="2321" y="1"/>
                      <a:pt x="2322" y="0"/>
                      <a:pt x="2323" y="0"/>
                    </a:cubicBezTo>
                    <a:close/>
                    <a:moveTo>
                      <a:pt x="2331" y="0"/>
                    </a:moveTo>
                    <a:lnTo>
                      <a:pt x="2331" y="0"/>
                    </a:lnTo>
                    <a:cubicBezTo>
                      <a:pt x="2332" y="0"/>
                      <a:pt x="2333" y="1"/>
                      <a:pt x="2333" y="2"/>
                    </a:cubicBezTo>
                    <a:cubicBezTo>
                      <a:pt x="2333" y="4"/>
                      <a:pt x="2332" y="4"/>
                      <a:pt x="2331" y="4"/>
                    </a:cubicBezTo>
                    <a:lnTo>
                      <a:pt x="2331" y="4"/>
                    </a:lnTo>
                    <a:cubicBezTo>
                      <a:pt x="2330" y="4"/>
                      <a:pt x="2329" y="4"/>
                      <a:pt x="2329" y="2"/>
                    </a:cubicBezTo>
                    <a:cubicBezTo>
                      <a:pt x="2329" y="1"/>
                      <a:pt x="2330" y="0"/>
                      <a:pt x="2331" y="0"/>
                    </a:cubicBezTo>
                    <a:close/>
                    <a:moveTo>
                      <a:pt x="2339" y="0"/>
                    </a:moveTo>
                    <a:lnTo>
                      <a:pt x="2339" y="0"/>
                    </a:lnTo>
                    <a:cubicBezTo>
                      <a:pt x="2340" y="0"/>
                      <a:pt x="2341" y="1"/>
                      <a:pt x="2341" y="2"/>
                    </a:cubicBezTo>
                    <a:cubicBezTo>
                      <a:pt x="2341" y="4"/>
                      <a:pt x="2340" y="4"/>
                      <a:pt x="2339" y="4"/>
                    </a:cubicBezTo>
                    <a:lnTo>
                      <a:pt x="2339" y="4"/>
                    </a:lnTo>
                    <a:cubicBezTo>
                      <a:pt x="2338" y="4"/>
                      <a:pt x="2337" y="4"/>
                      <a:pt x="2337" y="2"/>
                    </a:cubicBezTo>
                    <a:cubicBezTo>
                      <a:pt x="2337" y="1"/>
                      <a:pt x="2338" y="0"/>
                      <a:pt x="2339" y="0"/>
                    </a:cubicBezTo>
                    <a:close/>
                    <a:moveTo>
                      <a:pt x="2347" y="0"/>
                    </a:moveTo>
                    <a:lnTo>
                      <a:pt x="2347" y="0"/>
                    </a:lnTo>
                    <a:cubicBezTo>
                      <a:pt x="2348" y="0"/>
                      <a:pt x="2349" y="1"/>
                      <a:pt x="2349" y="2"/>
                    </a:cubicBezTo>
                    <a:cubicBezTo>
                      <a:pt x="2349" y="4"/>
                      <a:pt x="2348" y="4"/>
                      <a:pt x="2347" y="4"/>
                    </a:cubicBezTo>
                    <a:lnTo>
                      <a:pt x="2347" y="4"/>
                    </a:lnTo>
                    <a:cubicBezTo>
                      <a:pt x="2346" y="4"/>
                      <a:pt x="2345" y="4"/>
                      <a:pt x="2345" y="2"/>
                    </a:cubicBezTo>
                    <a:cubicBezTo>
                      <a:pt x="2345" y="1"/>
                      <a:pt x="2346" y="0"/>
                      <a:pt x="2347" y="0"/>
                    </a:cubicBezTo>
                    <a:close/>
                    <a:moveTo>
                      <a:pt x="2355" y="0"/>
                    </a:moveTo>
                    <a:lnTo>
                      <a:pt x="2355" y="0"/>
                    </a:lnTo>
                    <a:cubicBezTo>
                      <a:pt x="2356" y="0"/>
                      <a:pt x="2357" y="1"/>
                      <a:pt x="2357" y="2"/>
                    </a:cubicBezTo>
                    <a:cubicBezTo>
                      <a:pt x="2357" y="4"/>
                      <a:pt x="2356" y="4"/>
                      <a:pt x="2355" y="4"/>
                    </a:cubicBezTo>
                    <a:lnTo>
                      <a:pt x="2355" y="4"/>
                    </a:lnTo>
                    <a:cubicBezTo>
                      <a:pt x="2354" y="4"/>
                      <a:pt x="2353" y="4"/>
                      <a:pt x="2353" y="2"/>
                    </a:cubicBezTo>
                    <a:cubicBezTo>
                      <a:pt x="2353" y="1"/>
                      <a:pt x="2354" y="0"/>
                      <a:pt x="2355" y="0"/>
                    </a:cubicBezTo>
                    <a:close/>
                    <a:moveTo>
                      <a:pt x="2363" y="0"/>
                    </a:moveTo>
                    <a:lnTo>
                      <a:pt x="2363" y="0"/>
                    </a:lnTo>
                    <a:cubicBezTo>
                      <a:pt x="2364" y="0"/>
                      <a:pt x="2365" y="1"/>
                      <a:pt x="2365" y="2"/>
                    </a:cubicBezTo>
                    <a:cubicBezTo>
                      <a:pt x="2365" y="4"/>
                      <a:pt x="2364" y="4"/>
                      <a:pt x="2363" y="4"/>
                    </a:cubicBezTo>
                    <a:lnTo>
                      <a:pt x="2363" y="4"/>
                    </a:lnTo>
                    <a:cubicBezTo>
                      <a:pt x="2362" y="4"/>
                      <a:pt x="2361" y="4"/>
                      <a:pt x="2361" y="2"/>
                    </a:cubicBezTo>
                    <a:cubicBezTo>
                      <a:pt x="2361" y="1"/>
                      <a:pt x="2362" y="0"/>
                      <a:pt x="2363" y="0"/>
                    </a:cubicBezTo>
                    <a:close/>
                    <a:moveTo>
                      <a:pt x="2371" y="0"/>
                    </a:moveTo>
                    <a:lnTo>
                      <a:pt x="2371" y="0"/>
                    </a:lnTo>
                    <a:cubicBezTo>
                      <a:pt x="2372" y="0"/>
                      <a:pt x="2373" y="1"/>
                      <a:pt x="2373" y="2"/>
                    </a:cubicBezTo>
                    <a:cubicBezTo>
                      <a:pt x="2373" y="4"/>
                      <a:pt x="2372" y="4"/>
                      <a:pt x="2371" y="4"/>
                    </a:cubicBezTo>
                    <a:lnTo>
                      <a:pt x="2371" y="4"/>
                    </a:lnTo>
                    <a:cubicBezTo>
                      <a:pt x="2370" y="4"/>
                      <a:pt x="2369" y="4"/>
                      <a:pt x="2369" y="2"/>
                    </a:cubicBezTo>
                    <a:cubicBezTo>
                      <a:pt x="2369" y="1"/>
                      <a:pt x="2370" y="0"/>
                      <a:pt x="2371" y="0"/>
                    </a:cubicBezTo>
                    <a:close/>
                    <a:moveTo>
                      <a:pt x="2379" y="0"/>
                    </a:moveTo>
                    <a:lnTo>
                      <a:pt x="2379" y="0"/>
                    </a:lnTo>
                    <a:cubicBezTo>
                      <a:pt x="2380" y="0"/>
                      <a:pt x="2381" y="1"/>
                      <a:pt x="2381" y="2"/>
                    </a:cubicBezTo>
                    <a:cubicBezTo>
                      <a:pt x="2381" y="4"/>
                      <a:pt x="2380" y="4"/>
                      <a:pt x="2379" y="4"/>
                    </a:cubicBezTo>
                    <a:lnTo>
                      <a:pt x="2379" y="4"/>
                    </a:lnTo>
                    <a:cubicBezTo>
                      <a:pt x="2378" y="4"/>
                      <a:pt x="2377" y="4"/>
                      <a:pt x="2377" y="2"/>
                    </a:cubicBezTo>
                    <a:cubicBezTo>
                      <a:pt x="2377" y="1"/>
                      <a:pt x="2378" y="0"/>
                      <a:pt x="2379" y="0"/>
                    </a:cubicBezTo>
                    <a:close/>
                    <a:moveTo>
                      <a:pt x="2387" y="0"/>
                    </a:moveTo>
                    <a:lnTo>
                      <a:pt x="2387" y="0"/>
                    </a:lnTo>
                    <a:cubicBezTo>
                      <a:pt x="2388" y="0"/>
                      <a:pt x="2389" y="1"/>
                      <a:pt x="2389" y="2"/>
                    </a:cubicBezTo>
                    <a:cubicBezTo>
                      <a:pt x="2389" y="4"/>
                      <a:pt x="2388" y="4"/>
                      <a:pt x="2387" y="4"/>
                    </a:cubicBezTo>
                    <a:lnTo>
                      <a:pt x="2387" y="4"/>
                    </a:lnTo>
                    <a:cubicBezTo>
                      <a:pt x="2386" y="4"/>
                      <a:pt x="2385" y="4"/>
                      <a:pt x="2385" y="2"/>
                    </a:cubicBezTo>
                    <a:cubicBezTo>
                      <a:pt x="2385" y="1"/>
                      <a:pt x="2386" y="0"/>
                      <a:pt x="2387" y="0"/>
                    </a:cubicBezTo>
                    <a:close/>
                    <a:moveTo>
                      <a:pt x="2395" y="0"/>
                    </a:moveTo>
                    <a:lnTo>
                      <a:pt x="2395" y="0"/>
                    </a:lnTo>
                    <a:cubicBezTo>
                      <a:pt x="2396" y="0"/>
                      <a:pt x="2397" y="1"/>
                      <a:pt x="2397" y="2"/>
                    </a:cubicBezTo>
                    <a:cubicBezTo>
                      <a:pt x="2397" y="4"/>
                      <a:pt x="2396" y="4"/>
                      <a:pt x="2395" y="4"/>
                    </a:cubicBezTo>
                    <a:lnTo>
                      <a:pt x="2395" y="4"/>
                    </a:lnTo>
                    <a:cubicBezTo>
                      <a:pt x="2394" y="4"/>
                      <a:pt x="2393" y="4"/>
                      <a:pt x="2393" y="2"/>
                    </a:cubicBezTo>
                    <a:cubicBezTo>
                      <a:pt x="2393" y="1"/>
                      <a:pt x="2394" y="0"/>
                      <a:pt x="2395" y="0"/>
                    </a:cubicBezTo>
                    <a:close/>
                    <a:moveTo>
                      <a:pt x="2403" y="0"/>
                    </a:moveTo>
                    <a:lnTo>
                      <a:pt x="2403" y="0"/>
                    </a:lnTo>
                    <a:cubicBezTo>
                      <a:pt x="2404" y="0"/>
                      <a:pt x="2405" y="1"/>
                      <a:pt x="2405" y="2"/>
                    </a:cubicBezTo>
                    <a:cubicBezTo>
                      <a:pt x="2405" y="4"/>
                      <a:pt x="2404" y="4"/>
                      <a:pt x="2403" y="4"/>
                    </a:cubicBezTo>
                    <a:lnTo>
                      <a:pt x="2403" y="4"/>
                    </a:lnTo>
                    <a:cubicBezTo>
                      <a:pt x="2402" y="4"/>
                      <a:pt x="2401" y="4"/>
                      <a:pt x="2401" y="2"/>
                    </a:cubicBezTo>
                    <a:cubicBezTo>
                      <a:pt x="2401" y="1"/>
                      <a:pt x="2402" y="0"/>
                      <a:pt x="2403" y="0"/>
                    </a:cubicBezTo>
                    <a:close/>
                    <a:moveTo>
                      <a:pt x="2411" y="0"/>
                    </a:moveTo>
                    <a:lnTo>
                      <a:pt x="2411" y="0"/>
                    </a:lnTo>
                    <a:cubicBezTo>
                      <a:pt x="2412" y="0"/>
                      <a:pt x="2413" y="1"/>
                      <a:pt x="2413" y="2"/>
                    </a:cubicBezTo>
                    <a:cubicBezTo>
                      <a:pt x="2413" y="4"/>
                      <a:pt x="2412" y="4"/>
                      <a:pt x="2411" y="4"/>
                    </a:cubicBezTo>
                    <a:lnTo>
                      <a:pt x="2411" y="4"/>
                    </a:lnTo>
                    <a:cubicBezTo>
                      <a:pt x="2410" y="4"/>
                      <a:pt x="2409" y="4"/>
                      <a:pt x="2409" y="2"/>
                    </a:cubicBezTo>
                    <a:cubicBezTo>
                      <a:pt x="2409" y="1"/>
                      <a:pt x="2410" y="0"/>
                      <a:pt x="2411" y="0"/>
                    </a:cubicBezTo>
                    <a:close/>
                    <a:moveTo>
                      <a:pt x="2419" y="0"/>
                    </a:moveTo>
                    <a:lnTo>
                      <a:pt x="2419" y="0"/>
                    </a:lnTo>
                    <a:cubicBezTo>
                      <a:pt x="2420" y="0"/>
                      <a:pt x="2421" y="1"/>
                      <a:pt x="2421" y="2"/>
                    </a:cubicBezTo>
                    <a:cubicBezTo>
                      <a:pt x="2421" y="4"/>
                      <a:pt x="2420" y="4"/>
                      <a:pt x="2419" y="4"/>
                    </a:cubicBezTo>
                    <a:lnTo>
                      <a:pt x="2419" y="4"/>
                    </a:lnTo>
                    <a:cubicBezTo>
                      <a:pt x="2418" y="4"/>
                      <a:pt x="2417" y="4"/>
                      <a:pt x="2417" y="2"/>
                    </a:cubicBezTo>
                    <a:cubicBezTo>
                      <a:pt x="2417" y="1"/>
                      <a:pt x="2418" y="0"/>
                      <a:pt x="2419" y="0"/>
                    </a:cubicBezTo>
                    <a:close/>
                    <a:moveTo>
                      <a:pt x="2427" y="0"/>
                    </a:moveTo>
                    <a:lnTo>
                      <a:pt x="2427" y="0"/>
                    </a:lnTo>
                    <a:cubicBezTo>
                      <a:pt x="2428" y="0"/>
                      <a:pt x="2429" y="1"/>
                      <a:pt x="2429" y="2"/>
                    </a:cubicBezTo>
                    <a:cubicBezTo>
                      <a:pt x="2429" y="4"/>
                      <a:pt x="2428" y="4"/>
                      <a:pt x="2427" y="4"/>
                    </a:cubicBezTo>
                    <a:lnTo>
                      <a:pt x="2427" y="4"/>
                    </a:lnTo>
                    <a:cubicBezTo>
                      <a:pt x="2426" y="4"/>
                      <a:pt x="2425" y="4"/>
                      <a:pt x="2425" y="2"/>
                    </a:cubicBezTo>
                    <a:cubicBezTo>
                      <a:pt x="2425" y="1"/>
                      <a:pt x="2426" y="0"/>
                      <a:pt x="2427" y="0"/>
                    </a:cubicBezTo>
                    <a:close/>
                    <a:moveTo>
                      <a:pt x="2435" y="0"/>
                    </a:moveTo>
                    <a:lnTo>
                      <a:pt x="2435" y="0"/>
                    </a:lnTo>
                    <a:cubicBezTo>
                      <a:pt x="2436" y="0"/>
                      <a:pt x="2437" y="1"/>
                      <a:pt x="2437" y="2"/>
                    </a:cubicBezTo>
                    <a:cubicBezTo>
                      <a:pt x="2437" y="4"/>
                      <a:pt x="2436" y="4"/>
                      <a:pt x="2435" y="4"/>
                    </a:cubicBezTo>
                    <a:lnTo>
                      <a:pt x="2435" y="4"/>
                    </a:lnTo>
                    <a:cubicBezTo>
                      <a:pt x="2434" y="4"/>
                      <a:pt x="2433" y="4"/>
                      <a:pt x="2433" y="2"/>
                    </a:cubicBezTo>
                    <a:cubicBezTo>
                      <a:pt x="2433" y="1"/>
                      <a:pt x="2434" y="0"/>
                      <a:pt x="2435" y="0"/>
                    </a:cubicBezTo>
                    <a:close/>
                    <a:moveTo>
                      <a:pt x="2443" y="0"/>
                    </a:moveTo>
                    <a:lnTo>
                      <a:pt x="2443" y="0"/>
                    </a:lnTo>
                    <a:cubicBezTo>
                      <a:pt x="2444" y="0"/>
                      <a:pt x="2445" y="1"/>
                      <a:pt x="2445" y="2"/>
                    </a:cubicBezTo>
                    <a:cubicBezTo>
                      <a:pt x="2445" y="4"/>
                      <a:pt x="2444" y="4"/>
                      <a:pt x="2443" y="4"/>
                    </a:cubicBezTo>
                    <a:lnTo>
                      <a:pt x="2443" y="4"/>
                    </a:lnTo>
                    <a:cubicBezTo>
                      <a:pt x="2442" y="4"/>
                      <a:pt x="2441" y="4"/>
                      <a:pt x="2441" y="2"/>
                    </a:cubicBezTo>
                    <a:cubicBezTo>
                      <a:pt x="2441" y="1"/>
                      <a:pt x="2442" y="0"/>
                      <a:pt x="2443" y="0"/>
                    </a:cubicBezTo>
                    <a:close/>
                    <a:moveTo>
                      <a:pt x="2451" y="0"/>
                    </a:moveTo>
                    <a:lnTo>
                      <a:pt x="2451" y="0"/>
                    </a:lnTo>
                    <a:cubicBezTo>
                      <a:pt x="2452" y="0"/>
                      <a:pt x="2453" y="1"/>
                      <a:pt x="2453" y="2"/>
                    </a:cubicBezTo>
                    <a:cubicBezTo>
                      <a:pt x="2453" y="4"/>
                      <a:pt x="2452" y="4"/>
                      <a:pt x="2451" y="4"/>
                    </a:cubicBezTo>
                    <a:lnTo>
                      <a:pt x="2451" y="4"/>
                    </a:lnTo>
                    <a:cubicBezTo>
                      <a:pt x="2450" y="4"/>
                      <a:pt x="2449" y="4"/>
                      <a:pt x="2449" y="2"/>
                    </a:cubicBezTo>
                    <a:cubicBezTo>
                      <a:pt x="2449" y="1"/>
                      <a:pt x="2450" y="0"/>
                      <a:pt x="2451" y="0"/>
                    </a:cubicBezTo>
                    <a:close/>
                    <a:moveTo>
                      <a:pt x="2459" y="0"/>
                    </a:moveTo>
                    <a:lnTo>
                      <a:pt x="2459" y="0"/>
                    </a:lnTo>
                    <a:cubicBezTo>
                      <a:pt x="2460" y="0"/>
                      <a:pt x="2461" y="1"/>
                      <a:pt x="2461" y="2"/>
                    </a:cubicBezTo>
                    <a:cubicBezTo>
                      <a:pt x="2461" y="4"/>
                      <a:pt x="2460" y="4"/>
                      <a:pt x="2459" y="4"/>
                    </a:cubicBezTo>
                    <a:lnTo>
                      <a:pt x="2459" y="4"/>
                    </a:lnTo>
                    <a:cubicBezTo>
                      <a:pt x="2458" y="4"/>
                      <a:pt x="2457" y="4"/>
                      <a:pt x="2457" y="2"/>
                    </a:cubicBezTo>
                    <a:cubicBezTo>
                      <a:pt x="2457" y="1"/>
                      <a:pt x="2458" y="0"/>
                      <a:pt x="2459" y="0"/>
                    </a:cubicBezTo>
                    <a:close/>
                    <a:moveTo>
                      <a:pt x="2467" y="0"/>
                    </a:moveTo>
                    <a:lnTo>
                      <a:pt x="2467" y="0"/>
                    </a:lnTo>
                    <a:cubicBezTo>
                      <a:pt x="2468" y="0"/>
                      <a:pt x="2469" y="1"/>
                      <a:pt x="2469" y="2"/>
                    </a:cubicBezTo>
                    <a:cubicBezTo>
                      <a:pt x="2469" y="4"/>
                      <a:pt x="2468" y="4"/>
                      <a:pt x="2467" y="4"/>
                    </a:cubicBezTo>
                    <a:lnTo>
                      <a:pt x="2467" y="4"/>
                    </a:lnTo>
                    <a:cubicBezTo>
                      <a:pt x="2466" y="4"/>
                      <a:pt x="2465" y="4"/>
                      <a:pt x="2465" y="2"/>
                    </a:cubicBezTo>
                    <a:cubicBezTo>
                      <a:pt x="2465" y="1"/>
                      <a:pt x="2466" y="0"/>
                      <a:pt x="2467" y="0"/>
                    </a:cubicBezTo>
                    <a:close/>
                    <a:moveTo>
                      <a:pt x="2475" y="0"/>
                    </a:moveTo>
                    <a:lnTo>
                      <a:pt x="2475" y="0"/>
                    </a:lnTo>
                    <a:cubicBezTo>
                      <a:pt x="2476" y="0"/>
                      <a:pt x="2477" y="1"/>
                      <a:pt x="2477" y="2"/>
                    </a:cubicBezTo>
                    <a:cubicBezTo>
                      <a:pt x="2477" y="4"/>
                      <a:pt x="2476" y="4"/>
                      <a:pt x="2475" y="4"/>
                    </a:cubicBezTo>
                    <a:lnTo>
                      <a:pt x="2475" y="4"/>
                    </a:lnTo>
                    <a:cubicBezTo>
                      <a:pt x="2474" y="4"/>
                      <a:pt x="2473" y="4"/>
                      <a:pt x="2473" y="2"/>
                    </a:cubicBezTo>
                    <a:cubicBezTo>
                      <a:pt x="2473" y="1"/>
                      <a:pt x="2474" y="0"/>
                      <a:pt x="2475" y="0"/>
                    </a:cubicBezTo>
                    <a:close/>
                    <a:moveTo>
                      <a:pt x="2483" y="0"/>
                    </a:moveTo>
                    <a:lnTo>
                      <a:pt x="2483" y="0"/>
                    </a:lnTo>
                    <a:cubicBezTo>
                      <a:pt x="2484" y="0"/>
                      <a:pt x="2485" y="1"/>
                      <a:pt x="2485" y="2"/>
                    </a:cubicBezTo>
                    <a:cubicBezTo>
                      <a:pt x="2485" y="4"/>
                      <a:pt x="2484" y="4"/>
                      <a:pt x="2483" y="4"/>
                    </a:cubicBezTo>
                    <a:lnTo>
                      <a:pt x="2483" y="4"/>
                    </a:lnTo>
                    <a:cubicBezTo>
                      <a:pt x="2482" y="4"/>
                      <a:pt x="2481" y="4"/>
                      <a:pt x="2481" y="2"/>
                    </a:cubicBezTo>
                    <a:cubicBezTo>
                      <a:pt x="2481" y="1"/>
                      <a:pt x="2482" y="0"/>
                      <a:pt x="2483" y="0"/>
                    </a:cubicBezTo>
                    <a:close/>
                    <a:moveTo>
                      <a:pt x="2491" y="0"/>
                    </a:moveTo>
                    <a:lnTo>
                      <a:pt x="2491" y="0"/>
                    </a:lnTo>
                    <a:cubicBezTo>
                      <a:pt x="2492" y="0"/>
                      <a:pt x="2493" y="1"/>
                      <a:pt x="2493" y="2"/>
                    </a:cubicBezTo>
                    <a:cubicBezTo>
                      <a:pt x="2493" y="4"/>
                      <a:pt x="2492" y="4"/>
                      <a:pt x="2491" y="4"/>
                    </a:cubicBezTo>
                    <a:lnTo>
                      <a:pt x="2491" y="4"/>
                    </a:lnTo>
                    <a:cubicBezTo>
                      <a:pt x="2490" y="4"/>
                      <a:pt x="2489" y="4"/>
                      <a:pt x="2489" y="2"/>
                    </a:cubicBezTo>
                    <a:cubicBezTo>
                      <a:pt x="2489" y="1"/>
                      <a:pt x="2490" y="0"/>
                      <a:pt x="2491" y="0"/>
                    </a:cubicBezTo>
                    <a:close/>
                    <a:moveTo>
                      <a:pt x="2499" y="0"/>
                    </a:moveTo>
                    <a:lnTo>
                      <a:pt x="2499" y="0"/>
                    </a:lnTo>
                    <a:cubicBezTo>
                      <a:pt x="2500" y="0"/>
                      <a:pt x="2501" y="1"/>
                      <a:pt x="2501" y="2"/>
                    </a:cubicBezTo>
                    <a:cubicBezTo>
                      <a:pt x="2501" y="4"/>
                      <a:pt x="2500" y="4"/>
                      <a:pt x="2499" y="4"/>
                    </a:cubicBezTo>
                    <a:lnTo>
                      <a:pt x="2499" y="4"/>
                    </a:lnTo>
                    <a:cubicBezTo>
                      <a:pt x="2498" y="4"/>
                      <a:pt x="2497" y="4"/>
                      <a:pt x="2497" y="2"/>
                    </a:cubicBezTo>
                    <a:cubicBezTo>
                      <a:pt x="2497" y="1"/>
                      <a:pt x="2498" y="0"/>
                      <a:pt x="2499" y="0"/>
                    </a:cubicBezTo>
                    <a:close/>
                    <a:moveTo>
                      <a:pt x="2507" y="0"/>
                    </a:moveTo>
                    <a:lnTo>
                      <a:pt x="2507" y="0"/>
                    </a:lnTo>
                    <a:cubicBezTo>
                      <a:pt x="2508" y="0"/>
                      <a:pt x="2509" y="1"/>
                      <a:pt x="2509" y="2"/>
                    </a:cubicBezTo>
                    <a:cubicBezTo>
                      <a:pt x="2509" y="4"/>
                      <a:pt x="2508" y="4"/>
                      <a:pt x="2507" y="4"/>
                    </a:cubicBezTo>
                    <a:lnTo>
                      <a:pt x="2507" y="4"/>
                    </a:lnTo>
                    <a:cubicBezTo>
                      <a:pt x="2506" y="4"/>
                      <a:pt x="2505" y="4"/>
                      <a:pt x="2505" y="2"/>
                    </a:cubicBezTo>
                    <a:cubicBezTo>
                      <a:pt x="2505" y="1"/>
                      <a:pt x="2506" y="0"/>
                      <a:pt x="2507" y="0"/>
                    </a:cubicBezTo>
                    <a:close/>
                    <a:moveTo>
                      <a:pt x="2515" y="0"/>
                    </a:moveTo>
                    <a:lnTo>
                      <a:pt x="2515" y="0"/>
                    </a:lnTo>
                    <a:cubicBezTo>
                      <a:pt x="2516" y="0"/>
                      <a:pt x="2517" y="1"/>
                      <a:pt x="2517" y="2"/>
                    </a:cubicBezTo>
                    <a:cubicBezTo>
                      <a:pt x="2517" y="4"/>
                      <a:pt x="2516" y="4"/>
                      <a:pt x="2515" y="4"/>
                    </a:cubicBezTo>
                    <a:lnTo>
                      <a:pt x="2515" y="4"/>
                    </a:lnTo>
                    <a:cubicBezTo>
                      <a:pt x="2514" y="4"/>
                      <a:pt x="2513" y="4"/>
                      <a:pt x="2513" y="2"/>
                    </a:cubicBezTo>
                    <a:cubicBezTo>
                      <a:pt x="2513" y="1"/>
                      <a:pt x="2514" y="0"/>
                      <a:pt x="2515" y="0"/>
                    </a:cubicBezTo>
                    <a:close/>
                    <a:moveTo>
                      <a:pt x="2523" y="0"/>
                    </a:moveTo>
                    <a:lnTo>
                      <a:pt x="2523" y="0"/>
                    </a:lnTo>
                    <a:cubicBezTo>
                      <a:pt x="2524" y="0"/>
                      <a:pt x="2525" y="1"/>
                      <a:pt x="2525" y="2"/>
                    </a:cubicBezTo>
                    <a:cubicBezTo>
                      <a:pt x="2525" y="4"/>
                      <a:pt x="2524" y="4"/>
                      <a:pt x="2523" y="4"/>
                    </a:cubicBezTo>
                    <a:lnTo>
                      <a:pt x="2523" y="4"/>
                    </a:lnTo>
                    <a:cubicBezTo>
                      <a:pt x="2522" y="4"/>
                      <a:pt x="2521" y="4"/>
                      <a:pt x="2521" y="2"/>
                    </a:cubicBezTo>
                    <a:cubicBezTo>
                      <a:pt x="2521" y="1"/>
                      <a:pt x="2522" y="0"/>
                      <a:pt x="2523" y="0"/>
                    </a:cubicBezTo>
                    <a:close/>
                    <a:moveTo>
                      <a:pt x="2531" y="0"/>
                    </a:moveTo>
                    <a:lnTo>
                      <a:pt x="2531" y="0"/>
                    </a:lnTo>
                    <a:cubicBezTo>
                      <a:pt x="2532" y="0"/>
                      <a:pt x="2533" y="1"/>
                      <a:pt x="2533" y="2"/>
                    </a:cubicBezTo>
                    <a:cubicBezTo>
                      <a:pt x="2533" y="4"/>
                      <a:pt x="2532" y="4"/>
                      <a:pt x="2531" y="4"/>
                    </a:cubicBezTo>
                    <a:lnTo>
                      <a:pt x="2531" y="4"/>
                    </a:lnTo>
                    <a:cubicBezTo>
                      <a:pt x="2530" y="4"/>
                      <a:pt x="2529" y="4"/>
                      <a:pt x="2529" y="2"/>
                    </a:cubicBezTo>
                    <a:cubicBezTo>
                      <a:pt x="2529" y="1"/>
                      <a:pt x="2530" y="0"/>
                      <a:pt x="2531" y="0"/>
                    </a:cubicBezTo>
                    <a:close/>
                    <a:moveTo>
                      <a:pt x="2539" y="0"/>
                    </a:moveTo>
                    <a:lnTo>
                      <a:pt x="2539" y="0"/>
                    </a:lnTo>
                    <a:cubicBezTo>
                      <a:pt x="2540" y="0"/>
                      <a:pt x="2541" y="1"/>
                      <a:pt x="2541" y="2"/>
                    </a:cubicBezTo>
                    <a:cubicBezTo>
                      <a:pt x="2541" y="4"/>
                      <a:pt x="2540" y="4"/>
                      <a:pt x="2539" y="4"/>
                    </a:cubicBezTo>
                    <a:lnTo>
                      <a:pt x="2539" y="4"/>
                    </a:lnTo>
                    <a:cubicBezTo>
                      <a:pt x="2538" y="4"/>
                      <a:pt x="2537" y="4"/>
                      <a:pt x="2537" y="2"/>
                    </a:cubicBezTo>
                    <a:cubicBezTo>
                      <a:pt x="2537" y="1"/>
                      <a:pt x="2538" y="0"/>
                      <a:pt x="2539" y="0"/>
                    </a:cubicBezTo>
                    <a:close/>
                    <a:moveTo>
                      <a:pt x="2547" y="0"/>
                    </a:moveTo>
                    <a:lnTo>
                      <a:pt x="2547" y="0"/>
                    </a:lnTo>
                    <a:cubicBezTo>
                      <a:pt x="2548" y="0"/>
                      <a:pt x="2549" y="1"/>
                      <a:pt x="2549" y="2"/>
                    </a:cubicBezTo>
                    <a:cubicBezTo>
                      <a:pt x="2549" y="4"/>
                      <a:pt x="2548" y="4"/>
                      <a:pt x="2547" y="4"/>
                    </a:cubicBezTo>
                    <a:lnTo>
                      <a:pt x="2547" y="4"/>
                    </a:lnTo>
                    <a:cubicBezTo>
                      <a:pt x="2546" y="4"/>
                      <a:pt x="2545" y="4"/>
                      <a:pt x="2545" y="2"/>
                    </a:cubicBezTo>
                    <a:cubicBezTo>
                      <a:pt x="2545" y="1"/>
                      <a:pt x="2546" y="0"/>
                      <a:pt x="2547" y="0"/>
                    </a:cubicBezTo>
                    <a:close/>
                    <a:moveTo>
                      <a:pt x="2555" y="0"/>
                    </a:moveTo>
                    <a:lnTo>
                      <a:pt x="2555" y="0"/>
                    </a:lnTo>
                    <a:cubicBezTo>
                      <a:pt x="2556" y="0"/>
                      <a:pt x="2557" y="1"/>
                      <a:pt x="2557" y="2"/>
                    </a:cubicBezTo>
                    <a:cubicBezTo>
                      <a:pt x="2557" y="4"/>
                      <a:pt x="2556" y="4"/>
                      <a:pt x="2555" y="4"/>
                    </a:cubicBezTo>
                    <a:lnTo>
                      <a:pt x="2555" y="4"/>
                    </a:lnTo>
                    <a:cubicBezTo>
                      <a:pt x="2554" y="4"/>
                      <a:pt x="2553" y="4"/>
                      <a:pt x="2553" y="2"/>
                    </a:cubicBezTo>
                    <a:cubicBezTo>
                      <a:pt x="2553" y="1"/>
                      <a:pt x="2554" y="0"/>
                      <a:pt x="2555" y="0"/>
                    </a:cubicBezTo>
                    <a:close/>
                    <a:moveTo>
                      <a:pt x="2563" y="0"/>
                    </a:moveTo>
                    <a:lnTo>
                      <a:pt x="2563" y="0"/>
                    </a:lnTo>
                    <a:cubicBezTo>
                      <a:pt x="2564" y="0"/>
                      <a:pt x="2565" y="1"/>
                      <a:pt x="2565" y="2"/>
                    </a:cubicBezTo>
                    <a:cubicBezTo>
                      <a:pt x="2565" y="4"/>
                      <a:pt x="2564" y="4"/>
                      <a:pt x="2563" y="4"/>
                    </a:cubicBezTo>
                    <a:lnTo>
                      <a:pt x="2563" y="4"/>
                    </a:lnTo>
                    <a:cubicBezTo>
                      <a:pt x="2562" y="4"/>
                      <a:pt x="2561" y="4"/>
                      <a:pt x="2561" y="2"/>
                    </a:cubicBezTo>
                    <a:cubicBezTo>
                      <a:pt x="2561" y="1"/>
                      <a:pt x="2562" y="0"/>
                      <a:pt x="2563" y="0"/>
                    </a:cubicBezTo>
                    <a:close/>
                    <a:moveTo>
                      <a:pt x="2571" y="0"/>
                    </a:moveTo>
                    <a:lnTo>
                      <a:pt x="2571" y="0"/>
                    </a:lnTo>
                    <a:cubicBezTo>
                      <a:pt x="2572" y="0"/>
                      <a:pt x="2573" y="1"/>
                      <a:pt x="2573" y="2"/>
                    </a:cubicBezTo>
                    <a:cubicBezTo>
                      <a:pt x="2573" y="4"/>
                      <a:pt x="2572" y="4"/>
                      <a:pt x="2571" y="4"/>
                    </a:cubicBezTo>
                    <a:lnTo>
                      <a:pt x="2571" y="4"/>
                    </a:lnTo>
                    <a:cubicBezTo>
                      <a:pt x="2570" y="4"/>
                      <a:pt x="2569" y="4"/>
                      <a:pt x="2569" y="2"/>
                    </a:cubicBezTo>
                    <a:cubicBezTo>
                      <a:pt x="2569" y="1"/>
                      <a:pt x="2570" y="0"/>
                      <a:pt x="2571" y="0"/>
                    </a:cubicBezTo>
                    <a:close/>
                    <a:moveTo>
                      <a:pt x="2579" y="0"/>
                    </a:moveTo>
                    <a:lnTo>
                      <a:pt x="2579" y="0"/>
                    </a:lnTo>
                    <a:cubicBezTo>
                      <a:pt x="2580" y="0"/>
                      <a:pt x="2581" y="1"/>
                      <a:pt x="2581" y="2"/>
                    </a:cubicBezTo>
                    <a:cubicBezTo>
                      <a:pt x="2581" y="4"/>
                      <a:pt x="2580" y="4"/>
                      <a:pt x="2579" y="4"/>
                    </a:cubicBezTo>
                    <a:lnTo>
                      <a:pt x="2579" y="4"/>
                    </a:lnTo>
                    <a:cubicBezTo>
                      <a:pt x="2578" y="4"/>
                      <a:pt x="2577" y="4"/>
                      <a:pt x="2577" y="2"/>
                    </a:cubicBezTo>
                    <a:cubicBezTo>
                      <a:pt x="2577" y="1"/>
                      <a:pt x="2578" y="0"/>
                      <a:pt x="2579" y="0"/>
                    </a:cubicBezTo>
                    <a:close/>
                    <a:moveTo>
                      <a:pt x="2587" y="0"/>
                    </a:moveTo>
                    <a:lnTo>
                      <a:pt x="2587" y="0"/>
                    </a:lnTo>
                    <a:cubicBezTo>
                      <a:pt x="2588" y="0"/>
                      <a:pt x="2589" y="1"/>
                      <a:pt x="2589" y="2"/>
                    </a:cubicBezTo>
                    <a:cubicBezTo>
                      <a:pt x="2589" y="4"/>
                      <a:pt x="2588" y="4"/>
                      <a:pt x="2587" y="4"/>
                    </a:cubicBezTo>
                    <a:lnTo>
                      <a:pt x="2587" y="4"/>
                    </a:lnTo>
                    <a:cubicBezTo>
                      <a:pt x="2586" y="4"/>
                      <a:pt x="2585" y="4"/>
                      <a:pt x="2585" y="2"/>
                    </a:cubicBezTo>
                    <a:cubicBezTo>
                      <a:pt x="2585" y="1"/>
                      <a:pt x="2586" y="0"/>
                      <a:pt x="2587" y="0"/>
                    </a:cubicBezTo>
                    <a:close/>
                    <a:moveTo>
                      <a:pt x="2595" y="0"/>
                    </a:moveTo>
                    <a:lnTo>
                      <a:pt x="2595" y="0"/>
                    </a:lnTo>
                    <a:cubicBezTo>
                      <a:pt x="2596" y="0"/>
                      <a:pt x="2597" y="1"/>
                      <a:pt x="2597" y="2"/>
                    </a:cubicBezTo>
                    <a:cubicBezTo>
                      <a:pt x="2597" y="4"/>
                      <a:pt x="2596" y="4"/>
                      <a:pt x="2595" y="4"/>
                    </a:cubicBezTo>
                    <a:lnTo>
                      <a:pt x="2595" y="4"/>
                    </a:lnTo>
                    <a:cubicBezTo>
                      <a:pt x="2594" y="4"/>
                      <a:pt x="2593" y="4"/>
                      <a:pt x="2593" y="2"/>
                    </a:cubicBezTo>
                    <a:cubicBezTo>
                      <a:pt x="2593" y="1"/>
                      <a:pt x="2594" y="0"/>
                      <a:pt x="2595" y="0"/>
                    </a:cubicBezTo>
                    <a:close/>
                    <a:moveTo>
                      <a:pt x="2603" y="0"/>
                    </a:moveTo>
                    <a:lnTo>
                      <a:pt x="2603" y="0"/>
                    </a:lnTo>
                    <a:cubicBezTo>
                      <a:pt x="2604" y="0"/>
                      <a:pt x="2605" y="1"/>
                      <a:pt x="2605" y="2"/>
                    </a:cubicBezTo>
                    <a:cubicBezTo>
                      <a:pt x="2605" y="4"/>
                      <a:pt x="2604" y="4"/>
                      <a:pt x="2603" y="4"/>
                    </a:cubicBezTo>
                    <a:lnTo>
                      <a:pt x="2603" y="4"/>
                    </a:lnTo>
                    <a:cubicBezTo>
                      <a:pt x="2602" y="4"/>
                      <a:pt x="2601" y="4"/>
                      <a:pt x="2601" y="2"/>
                    </a:cubicBezTo>
                    <a:cubicBezTo>
                      <a:pt x="2601" y="1"/>
                      <a:pt x="2602" y="0"/>
                      <a:pt x="2603" y="0"/>
                    </a:cubicBezTo>
                    <a:close/>
                    <a:moveTo>
                      <a:pt x="2611" y="0"/>
                    </a:moveTo>
                    <a:lnTo>
                      <a:pt x="2611" y="0"/>
                    </a:lnTo>
                    <a:cubicBezTo>
                      <a:pt x="2612" y="0"/>
                      <a:pt x="2613" y="1"/>
                      <a:pt x="2613" y="2"/>
                    </a:cubicBezTo>
                    <a:cubicBezTo>
                      <a:pt x="2613" y="4"/>
                      <a:pt x="2612" y="4"/>
                      <a:pt x="2611" y="4"/>
                    </a:cubicBezTo>
                    <a:lnTo>
                      <a:pt x="2611" y="4"/>
                    </a:lnTo>
                    <a:cubicBezTo>
                      <a:pt x="2610" y="4"/>
                      <a:pt x="2609" y="4"/>
                      <a:pt x="2609" y="2"/>
                    </a:cubicBezTo>
                    <a:cubicBezTo>
                      <a:pt x="2609" y="1"/>
                      <a:pt x="2610" y="0"/>
                      <a:pt x="2611" y="0"/>
                    </a:cubicBezTo>
                    <a:close/>
                    <a:moveTo>
                      <a:pt x="2619" y="0"/>
                    </a:moveTo>
                    <a:lnTo>
                      <a:pt x="2619" y="0"/>
                    </a:lnTo>
                    <a:cubicBezTo>
                      <a:pt x="2620" y="0"/>
                      <a:pt x="2621" y="1"/>
                      <a:pt x="2621" y="2"/>
                    </a:cubicBezTo>
                    <a:cubicBezTo>
                      <a:pt x="2621" y="4"/>
                      <a:pt x="2620" y="4"/>
                      <a:pt x="2619" y="4"/>
                    </a:cubicBezTo>
                    <a:lnTo>
                      <a:pt x="2619" y="4"/>
                    </a:lnTo>
                    <a:cubicBezTo>
                      <a:pt x="2618" y="4"/>
                      <a:pt x="2617" y="4"/>
                      <a:pt x="2617" y="2"/>
                    </a:cubicBezTo>
                    <a:cubicBezTo>
                      <a:pt x="2617" y="1"/>
                      <a:pt x="2618" y="0"/>
                      <a:pt x="2619" y="0"/>
                    </a:cubicBezTo>
                    <a:close/>
                    <a:moveTo>
                      <a:pt x="2627" y="0"/>
                    </a:moveTo>
                    <a:lnTo>
                      <a:pt x="2627" y="0"/>
                    </a:lnTo>
                    <a:cubicBezTo>
                      <a:pt x="2628" y="0"/>
                      <a:pt x="2629" y="1"/>
                      <a:pt x="2629" y="2"/>
                    </a:cubicBezTo>
                    <a:cubicBezTo>
                      <a:pt x="2629" y="4"/>
                      <a:pt x="2628" y="4"/>
                      <a:pt x="2627" y="4"/>
                    </a:cubicBezTo>
                    <a:lnTo>
                      <a:pt x="2627" y="4"/>
                    </a:lnTo>
                    <a:cubicBezTo>
                      <a:pt x="2626" y="4"/>
                      <a:pt x="2625" y="4"/>
                      <a:pt x="2625" y="2"/>
                    </a:cubicBezTo>
                    <a:cubicBezTo>
                      <a:pt x="2625" y="1"/>
                      <a:pt x="2626" y="0"/>
                      <a:pt x="2627" y="0"/>
                    </a:cubicBezTo>
                    <a:close/>
                    <a:moveTo>
                      <a:pt x="2635" y="0"/>
                    </a:moveTo>
                    <a:lnTo>
                      <a:pt x="2635" y="0"/>
                    </a:lnTo>
                    <a:cubicBezTo>
                      <a:pt x="2636" y="0"/>
                      <a:pt x="2637" y="1"/>
                      <a:pt x="2637" y="2"/>
                    </a:cubicBezTo>
                    <a:cubicBezTo>
                      <a:pt x="2637" y="4"/>
                      <a:pt x="2636" y="4"/>
                      <a:pt x="2635" y="4"/>
                    </a:cubicBezTo>
                    <a:lnTo>
                      <a:pt x="2635" y="4"/>
                    </a:lnTo>
                    <a:cubicBezTo>
                      <a:pt x="2634" y="4"/>
                      <a:pt x="2633" y="4"/>
                      <a:pt x="2633" y="2"/>
                    </a:cubicBezTo>
                    <a:cubicBezTo>
                      <a:pt x="2633" y="1"/>
                      <a:pt x="2634" y="0"/>
                      <a:pt x="2635" y="0"/>
                    </a:cubicBezTo>
                    <a:close/>
                    <a:moveTo>
                      <a:pt x="2643" y="0"/>
                    </a:moveTo>
                    <a:lnTo>
                      <a:pt x="2643" y="0"/>
                    </a:lnTo>
                    <a:cubicBezTo>
                      <a:pt x="2644" y="0"/>
                      <a:pt x="2645" y="1"/>
                      <a:pt x="2645" y="2"/>
                    </a:cubicBezTo>
                    <a:cubicBezTo>
                      <a:pt x="2645" y="4"/>
                      <a:pt x="2644" y="4"/>
                      <a:pt x="2643" y="4"/>
                    </a:cubicBezTo>
                    <a:lnTo>
                      <a:pt x="2643" y="4"/>
                    </a:lnTo>
                    <a:cubicBezTo>
                      <a:pt x="2642" y="4"/>
                      <a:pt x="2641" y="4"/>
                      <a:pt x="2641" y="2"/>
                    </a:cubicBezTo>
                    <a:cubicBezTo>
                      <a:pt x="2641" y="1"/>
                      <a:pt x="2642" y="0"/>
                      <a:pt x="2643" y="0"/>
                    </a:cubicBezTo>
                    <a:close/>
                    <a:moveTo>
                      <a:pt x="2651" y="0"/>
                    </a:moveTo>
                    <a:lnTo>
                      <a:pt x="2651" y="0"/>
                    </a:lnTo>
                    <a:cubicBezTo>
                      <a:pt x="2652" y="0"/>
                      <a:pt x="2653" y="1"/>
                      <a:pt x="2653" y="2"/>
                    </a:cubicBezTo>
                    <a:cubicBezTo>
                      <a:pt x="2653" y="4"/>
                      <a:pt x="2652" y="4"/>
                      <a:pt x="2651" y="4"/>
                    </a:cubicBezTo>
                    <a:lnTo>
                      <a:pt x="2651" y="4"/>
                    </a:lnTo>
                    <a:cubicBezTo>
                      <a:pt x="2650" y="4"/>
                      <a:pt x="2649" y="4"/>
                      <a:pt x="2649" y="2"/>
                    </a:cubicBezTo>
                    <a:cubicBezTo>
                      <a:pt x="2649" y="1"/>
                      <a:pt x="2650" y="0"/>
                      <a:pt x="2651" y="0"/>
                    </a:cubicBezTo>
                    <a:close/>
                    <a:moveTo>
                      <a:pt x="2659" y="0"/>
                    </a:moveTo>
                    <a:lnTo>
                      <a:pt x="2659" y="0"/>
                    </a:lnTo>
                    <a:cubicBezTo>
                      <a:pt x="2660" y="0"/>
                      <a:pt x="2661" y="1"/>
                      <a:pt x="2661" y="2"/>
                    </a:cubicBezTo>
                    <a:cubicBezTo>
                      <a:pt x="2661" y="4"/>
                      <a:pt x="2660" y="4"/>
                      <a:pt x="2659" y="4"/>
                    </a:cubicBezTo>
                    <a:lnTo>
                      <a:pt x="2659" y="4"/>
                    </a:lnTo>
                    <a:cubicBezTo>
                      <a:pt x="2658" y="4"/>
                      <a:pt x="2657" y="4"/>
                      <a:pt x="2657" y="2"/>
                    </a:cubicBezTo>
                    <a:cubicBezTo>
                      <a:pt x="2657" y="1"/>
                      <a:pt x="2658" y="0"/>
                      <a:pt x="2659" y="0"/>
                    </a:cubicBezTo>
                    <a:close/>
                    <a:moveTo>
                      <a:pt x="2667" y="0"/>
                    </a:moveTo>
                    <a:lnTo>
                      <a:pt x="2667" y="0"/>
                    </a:lnTo>
                    <a:cubicBezTo>
                      <a:pt x="2668" y="0"/>
                      <a:pt x="2669" y="1"/>
                      <a:pt x="2669" y="2"/>
                    </a:cubicBezTo>
                    <a:cubicBezTo>
                      <a:pt x="2669" y="4"/>
                      <a:pt x="2668" y="4"/>
                      <a:pt x="2667" y="4"/>
                    </a:cubicBezTo>
                    <a:lnTo>
                      <a:pt x="2667" y="4"/>
                    </a:lnTo>
                    <a:cubicBezTo>
                      <a:pt x="2666" y="4"/>
                      <a:pt x="2665" y="4"/>
                      <a:pt x="2665" y="2"/>
                    </a:cubicBezTo>
                    <a:cubicBezTo>
                      <a:pt x="2665" y="1"/>
                      <a:pt x="2666" y="0"/>
                      <a:pt x="2667" y="0"/>
                    </a:cubicBezTo>
                    <a:close/>
                    <a:moveTo>
                      <a:pt x="2675" y="0"/>
                    </a:moveTo>
                    <a:lnTo>
                      <a:pt x="2675" y="0"/>
                    </a:lnTo>
                    <a:cubicBezTo>
                      <a:pt x="2676" y="0"/>
                      <a:pt x="2677" y="1"/>
                      <a:pt x="2677" y="2"/>
                    </a:cubicBezTo>
                    <a:cubicBezTo>
                      <a:pt x="2677" y="4"/>
                      <a:pt x="2676" y="4"/>
                      <a:pt x="2675" y="4"/>
                    </a:cubicBezTo>
                    <a:lnTo>
                      <a:pt x="2675" y="4"/>
                    </a:lnTo>
                    <a:cubicBezTo>
                      <a:pt x="2674" y="4"/>
                      <a:pt x="2673" y="4"/>
                      <a:pt x="2673" y="2"/>
                    </a:cubicBezTo>
                    <a:cubicBezTo>
                      <a:pt x="2673" y="1"/>
                      <a:pt x="2674" y="0"/>
                      <a:pt x="2675" y="0"/>
                    </a:cubicBezTo>
                    <a:close/>
                    <a:moveTo>
                      <a:pt x="2683" y="0"/>
                    </a:moveTo>
                    <a:lnTo>
                      <a:pt x="2683" y="0"/>
                    </a:lnTo>
                    <a:cubicBezTo>
                      <a:pt x="2684" y="0"/>
                      <a:pt x="2685" y="1"/>
                      <a:pt x="2685" y="2"/>
                    </a:cubicBezTo>
                    <a:cubicBezTo>
                      <a:pt x="2685" y="4"/>
                      <a:pt x="2684" y="4"/>
                      <a:pt x="2683" y="4"/>
                    </a:cubicBezTo>
                    <a:lnTo>
                      <a:pt x="2683" y="4"/>
                    </a:lnTo>
                    <a:cubicBezTo>
                      <a:pt x="2682" y="4"/>
                      <a:pt x="2681" y="4"/>
                      <a:pt x="2681" y="2"/>
                    </a:cubicBezTo>
                    <a:cubicBezTo>
                      <a:pt x="2681" y="1"/>
                      <a:pt x="2682" y="0"/>
                      <a:pt x="2683" y="0"/>
                    </a:cubicBezTo>
                    <a:close/>
                    <a:moveTo>
                      <a:pt x="2691" y="0"/>
                    </a:moveTo>
                    <a:lnTo>
                      <a:pt x="2691" y="0"/>
                    </a:lnTo>
                    <a:cubicBezTo>
                      <a:pt x="2692" y="0"/>
                      <a:pt x="2693" y="1"/>
                      <a:pt x="2693" y="2"/>
                    </a:cubicBezTo>
                    <a:cubicBezTo>
                      <a:pt x="2693" y="4"/>
                      <a:pt x="2692" y="4"/>
                      <a:pt x="2691" y="4"/>
                    </a:cubicBezTo>
                    <a:lnTo>
                      <a:pt x="2691" y="4"/>
                    </a:lnTo>
                    <a:cubicBezTo>
                      <a:pt x="2690" y="4"/>
                      <a:pt x="2689" y="4"/>
                      <a:pt x="2689" y="2"/>
                    </a:cubicBezTo>
                    <a:cubicBezTo>
                      <a:pt x="2689" y="1"/>
                      <a:pt x="2690" y="0"/>
                      <a:pt x="2691" y="0"/>
                    </a:cubicBezTo>
                    <a:close/>
                    <a:moveTo>
                      <a:pt x="2699" y="0"/>
                    </a:moveTo>
                    <a:lnTo>
                      <a:pt x="2699" y="0"/>
                    </a:lnTo>
                    <a:cubicBezTo>
                      <a:pt x="2700" y="0"/>
                      <a:pt x="2701" y="1"/>
                      <a:pt x="2701" y="2"/>
                    </a:cubicBezTo>
                    <a:cubicBezTo>
                      <a:pt x="2701" y="4"/>
                      <a:pt x="2700" y="4"/>
                      <a:pt x="2699" y="4"/>
                    </a:cubicBezTo>
                    <a:lnTo>
                      <a:pt x="2699" y="4"/>
                    </a:lnTo>
                    <a:cubicBezTo>
                      <a:pt x="2698" y="4"/>
                      <a:pt x="2697" y="4"/>
                      <a:pt x="2697" y="2"/>
                    </a:cubicBezTo>
                    <a:cubicBezTo>
                      <a:pt x="2697" y="1"/>
                      <a:pt x="2698" y="0"/>
                      <a:pt x="2699" y="0"/>
                    </a:cubicBezTo>
                    <a:close/>
                    <a:moveTo>
                      <a:pt x="2707" y="0"/>
                    </a:moveTo>
                    <a:lnTo>
                      <a:pt x="2707" y="0"/>
                    </a:lnTo>
                    <a:cubicBezTo>
                      <a:pt x="2708" y="0"/>
                      <a:pt x="2709" y="1"/>
                      <a:pt x="2709" y="2"/>
                    </a:cubicBezTo>
                    <a:cubicBezTo>
                      <a:pt x="2709" y="4"/>
                      <a:pt x="2708" y="4"/>
                      <a:pt x="2707" y="4"/>
                    </a:cubicBezTo>
                    <a:lnTo>
                      <a:pt x="2707" y="4"/>
                    </a:lnTo>
                    <a:cubicBezTo>
                      <a:pt x="2706" y="4"/>
                      <a:pt x="2705" y="4"/>
                      <a:pt x="2705" y="2"/>
                    </a:cubicBezTo>
                    <a:cubicBezTo>
                      <a:pt x="2705" y="1"/>
                      <a:pt x="2706" y="0"/>
                      <a:pt x="2707" y="0"/>
                    </a:cubicBezTo>
                    <a:close/>
                    <a:moveTo>
                      <a:pt x="2715" y="0"/>
                    </a:moveTo>
                    <a:lnTo>
                      <a:pt x="2715" y="0"/>
                    </a:lnTo>
                    <a:cubicBezTo>
                      <a:pt x="2716" y="0"/>
                      <a:pt x="2717" y="1"/>
                      <a:pt x="2717" y="2"/>
                    </a:cubicBezTo>
                    <a:cubicBezTo>
                      <a:pt x="2717" y="4"/>
                      <a:pt x="2716" y="4"/>
                      <a:pt x="2715" y="4"/>
                    </a:cubicBezTo>
                    <a:lnTo>
                      <a:pt x="2715" y="4"/>
                    </a:lnTo>
                    <a:cubicBezTo>
                      <a:pt x="2714" y="4"/>
                      <a:pt x="2713" y="4"/>
                      <a:pt x="2713" y="2"/>
                    </a:cubicBezTo>
                    <a:cubicBezTo>
                      <a:pt x="2713" y="1"/>
                      <a:pt x="2714" y="0"/>
                      <a:pt x="2715" y="0"/>
                    </a:cubicBezTo>
                    <a:close/>
                    <a:moveTo>
                      <a:pt x="2723" y="0"/>
                    </a:moveTo>
                    <a:lnTo>
                      <a:pt x="2723" y="0"/>
                    </a:lnTo>
                    <a:cubicBezTo>
                      <a:pt x="2724" y="0"/>
                      <a:pt x="2725" y="1"/>
                      <a:pt x="2725" y="2"/>
                    </a:cubicBezTo>
                    <a:cubicBezTo>
                      <a:pt x="2725" y="4"/>
                      <a:pt x="2724" y="4"/>
                      <a:pt x="2723" y="4"/>
                    </a:cubicBezTo>
                    <a:lnTo>
                      <a:pt x="2723" y="4"/>
                    </a:lnTo>
                    <a:cubicBezTo>
                      <a:pt x="2722" y="4"/>
                      <a:pt x="2721" y="4"/>
                      <a:pt x="2721" y="2"/>
                    </a:cubicBezTo>
                    <a:cubicBezTo>
                      <a:pt x="2721" y="1"/>
                      <a:pt x="2722" y="0"/>
                      <a:pt x="2723" y="0"/>
                    </a:cubicBezTo>
                    <a:close/>
                    <a:moveTo>
                      <a:pt x="2731" y="0"/>
                    </a:moveTo>
                    <a:lnTo>
                      <a:pt x="2731" y="0"/>
                    </a:lnTo>
                    <a:cubicBezTo>
                      <a:pt x="2732" y="0"/>
                      <a:pt x="2733" y="1"/>
                      <a:pt x="2733" y="2"/>
                    </a:cubicBezTo>
                    <a:cubicBezTo>
                      <a:pt x="2733" y="4"/>
                      <a:pt x="2732" y="4"/>
                      <a:pt x="2731" y="4"/>
                    </a:cubicBezTo>
                    <a:lnTo>
                      <a:pt x="2731" y="4"/>
                    </a:lnTo>
                    <a:cubicBezTo>
                      <a:pt x="2730" y="4"/>
                      <a:pt x="2729" y="4"/>
                      <a:pt x="2729" y="2"/>
                    </a:cubicBezTo>
                    <a:cubicBezTo>
                      <a:pt x="2729" y="1"/>
                      <a:pt x="2730" y="0"/>
                      <a:pt x="2731" y="0"/>
                    </a:cubicBezTo>
                    <a:close/>
                    <a:moveTo>
                      <a:pt x="2739" y="0"/>
                    </a:moveTo>
                    <a:lnTo>
                      <a:pt x="2739" y="0"/>
                    </a:lnTo>
                    <a:cubicBezTo>
                      <a:pt x="2740" y="0"/>
                      <a:pt x="2741" y="1"/>
                      <a:pt x="2741" y="2"/>
                    </a:cubicBezTo>
                    <a:cubicBezTo>
                      <a:pt x="2741" y="4"/>
                      <a:pt x="2740" y="4"/>
                      <a:pt x="2739" y="4"/>
                    </a:cubicBezTo>
                    <a:lnTo>
                      <a:pt x="2739" y="4"/>
                    </a:lnTo>
                    <a:cubicBezTo>
                      <a:pt x="2738" y="4"/>
                      <a:pt x="2737" y="4"/>
                      <a:pt x="2737" y="2"/>
                    </a:cubicBezTo>
                    <a:cubicBezTo>
                      <a:pt x="2737" y="1"/>
                      <a:pt x="2738" y="0"/>
                      <a:pt x="2739" y="0"/>
                    </a:cubicBezTo>
                    <a:close/>
                    <a:moveTo>
                      <a:pt x="2747" y="0"/>
                    </a:moveTo>
                    <a:lnTo>
                      <a:pt x="2747" y="0"/>
                    </a:lnTo>
                    <a:cubicBezTo>
                      <a:pt x="2748" y="0"/>
                      <a:pt x="2749" y="1"/>
                      <a:pt x="2749" y="2"/>
                    </a:cubicBezTo>
                    <a:cubicBezTo>
                      <a:pt x="2749" y="4"/>
                      <a:pt x="2748" y="4"/>
                      <a:pt x="2747" y="4"/>
                    </a:cubicBezTo>
                    <a:lnTo>
                      <a:pt x="2747" y="4"/>
                    </a:lnTo>
                    <a:cubicBezTo>
                      <a:pt x="2746" y="4"/>
                      <a:pt x="2745" y="4"/>
                      <a:pt x="2745" y="2"/>
                    </a:cubicBezTo>
                    <a:cubicBezTo>
                      <a:pt x="2745" y="1"/>
                      <a:pt x="2746" y="0"/>
                      <a:pt x="2747" y="0"/>
                    </a:cubicBezTo>
                    <a:close/>
                    <a:moveTo>
                      <a:pt x="2755" y="0"/>
                    </a:moveTo>
                    <a:lnTo>
                      <a:pt x="2755" y="0"/>
                    </a:lnTo>
                    <a:cubicBezTo>
                      <a:pt x="2756" y="0"/>
                      <a:pt x="2757" y="1"/>
                      <a:pt x="2757" y="2"/>
                    </a:cubicBezTo>
                    <a:cubicBezTo>
                      <a:pt x="2757" y="4"/>
                      <a:pt x="2756" y="4"/>
                      <a:pt x="2755" y="4"/>
                    </a:cubicBezTo>
                    <a:lnTo>
                      <a:pt x="2755" y="4"/>
                    </a:lnTo>
                    <a:cubicBezTo>
                      <a:pt x="2754" y="4"/>
                      <a:pt x="2753" y="4"/>
                      <a:pt x="2753" y="2"/>
                    </a:cubicBezTo>
                    <a:cubicBezTo>
                      <a:pt x="2753" y="1"/>
                      <a:pt x="2754" y="0"/>
                      <a:pt x="2755" y="0"/>
                    </a:cubicBezTo>
                    <a:close/>
                    <a:moveTo>
                      <a:pt x="2763" y="0"/>
                    </a:moveTo>
                    <a:lnTo>
                      <a:pt x="2763" y="0"/>
                    </a:lnTo>
                    <a:cubicBezTo>
                      <a:pt x="2764" y="0"/>
                      <a:pt x="2765" y="1"/>
                      <a:pt x="2765" y="2"/>
                    </a:cubicBezTo>
                    <a:cubicBezTo>
                      <a:pt x="2765" y="4"/>
                      <a:pt x="2764" y="4"/>
                      <a:pt x="2763" y="4"/>
                    </a:cubicBezTo>
                    <a:lnTo>
                      <a:pt x="2763" y="4"/>
                    </a:lnTo>
                    <a:cubicBezTo>
                      <a:pt x="2762" y="4"/>
                      <a:pt x="2761" y="4"/>
                      <a:pt x="2761" y="2"/>
                    </a:cubicBezTo>
                    <a:cubicBezTo>
                      <a:pt x="2761" y="1"/>
                      <a:pt x="2762" y="0"/>
                      <a:pt x="2763" y="0"/>
                    </a:cubicBezTo>
                    <a:close/>
                    <a:moveTo>
                      <a:pt x="2771" y="0"/>
                    </a:moveTo>
                    <a:lnTo>
                      <a:pt x="2771" y="0"/>
                    </a:lnTo>
                    <a:cubicBezTo>
                      <a:pt x="2772" y="0"/>
                      <a:pt x="2773" y="1"/>
                      <a:pt x="2773" y="2"/>
                    </a:cubicBezTo>
                    <a:cubicBezTo>
                      <a:pt x="2773" y="4"/>
                      <a:pt x="2772" y="4"/>
                      <a:pt x="2771" y="4"/>
                    </a:cubicBezTo>
                    <a:lnTo>
                      <a:pt x="2771" y="4"/>
                    </a:lnTo>
                    <a:cubicBezTo>
                      <a:pt x="2770" y="4"/>
                      <a:pt x="2769" y="4"/>
                      <a:pt x="2769" y="2"/>
                    </a:cubicBezTo>
                    <a:cubicBezTo>
                      <a:pt x="2769" y="1"/>
                      <a:pt x="2770" y="0"/>
                      <a:pt x="2771" y="0"/>
                    </a:cubicBezTo>
                    <a:close/>
                    <a:moveTo>
                      <a:pt x="2779" y="0"/>
                    </a:moveTo>
                    <a:lnTo>
                      <a:pt x="2779" y="0"/>
                    </a:lnTo>
                    <a:cubicBezTo>
                      <a:pt x="2780" y="0"/>
                      <a:pt x="2781" y="1"/>
                      <a:pt x="2781" y="2"/>
                    </a:cubicBezTo>
                    <a:cubicBezTo>
                      <a:pt x="2781" y="4"/>
                      <a:pt x="2780" y="4"/>
                      <a:pt x="2779" y="4"/>
                    </a:cubicBezTo>
                    <a:lnTo>
                      <a:pt x="2779" y="4"/>
                    </a:lnTo>
                    <a:cubicBezTo>
                      <a:pt x="2778" y="4"/>
                      <a:pt x="2777" y="4"/>
                      <a:pt x="2777" y="2"/>
                    </a:cubicBezTo>
                    <a:cubicBezTo>
                      <a:pt x="2777" y="1"/>
                      <a:pt x="2778" y="0"/>
                      <a:pt x="2779" y="0"/>
                    </a:cubicBezTo>
                    <a:close/>
                    <a:moveTo>
                      <a:pt x="2787" y="0"/>
                    </a:moveTo>
                    <a:lnTo>
                      <a:pt x="2787" y="0"/>
                    </a:lnTo>
                    <a:cubicBezTo>
                      <a:pt x="2788" y="0"/>
                      <a:pt x="2789" y="1"/>
                      <a:pt x="2789" y="2"/>
                    </a:cubicBezTo>
                    <a:cubicBezTo>
                      <a:pt x="2789" y="4"/>
                      <a:pt x="2788" y="4"/>
                      <a:pt x="2787" y="4"/>
                    </a:cubicBezTo>
                    <a:lnTo>
                      <a:pt x="2787" y="4"/>
                    </a:lnTo>
                    <a:cubicBezTo>
                      <a:pt x="2786" y="4"/>
                      <a:pt x="2785" y="4"/>
                      <a:pt x="2785" y="2"/>
                    </a:cubicBezTo>
                    <a:cubicBezTo>
                      <a:pt x="2785" y="1"/>
                      <a:pt x="2786" y="0"/>
                      <a:pt x="2787" y="0"/>
                    </a:cubicBezTo>
                    <a:close/>
                    <a:moveTo>
                      <a:pt x="2795" y="0"/>
                    </a:moveTo>
                    <a:lnTo>
                      <a:pt x="2795" y="0"/>
                    </a:lnTo>
                    <a:cubicBezTo>
                      <a:pt x="2796" y="0"/>
                      <a:pt x="2797" y="1"/>
                      <a:pt x="2797" y="2"/>
                    </a:cubicBezTo>
                    <a:cubicBezTo>
                      <a:pt x="2797" y="4"/>
                      <a:pt x="2796" y="4"/>
                      <a:pt x="2795" y="4"/>
                    </a:cubicBezTo>
                    <a:lnTo>
                      <a:pt x="2795" y="4"/>
                    </a:lnTo>
                    <a:cubicBezTo>
                      <a:pt x="2794" y="4"/>
                      <a:pt x="2793" y="4"/>
                      <a:pt x="2793" y="2"/>
                    </a:cubicBezTo>
                    <a:cubicBezTo>
                      <a:pt x="2793" y="1"/>
                      <a:pt x="2794" y="0"/>
                      <a:pt x="2795" y="0"/>
                    </a:cubicBezTo>
                    <a:close/>
                    <a:moveTo>
                      <a:pt x="2803" y="0"/>
                    </a:moveTo>
                    <a:lnTo>
                      <a:pt x="2803" y="0"/>
                    </a:lnTo>
                    <a:cubicBezTo>
                      <a:pt x="2804" y="0"/>
                      <a:pt x="2805" y="1"/>
                      <a:pt x="2805" y="2"/>
                    </a:cubicBezTo>
                    <a:cubicBezTo>
                      <a:pt x="2805" y="4"/>
                      <a:pt x="2804" y="4"/>
                      <a:pt x="2803" y="4"/>
                    </a:cubicBezTo>
                    <a:lnTo>
                      <a:pt x="2803" y="4"/>
                    </a:lnTo>
                    <a:cubicBezTo>
                      <a:pt x="2802" y="4"/>
                      <a:pt x="2801" y="4"/>
                      <a:pt x="2801" y="2"/>
                    </a:cubicBezTo>
                    <a:cubicBezTo>
                      <a:pt x="2801" y="1"/>
                      <a:pt x="2802" y="0"/>
                      <a:pt x="2803" y="0"/>
                    </a:cubicBezTo>
                    <a:close/>
                    <a:moveTo>
                      <a:pt x="2811" y="0"/>
                    </a:moveTo>
                    <a:lnTo>
                      <a:pt x="2811" y="0"/>
                    </a:lnTo>
                    <a:cubicBezTo>
                      <a:pt x="2812" y="0"/>
                      <a:pt x="2813" y="1"/>
                      <a:pt x="2813" y="2"/>
                    </a:cubicBezTo>
                    <a:cubicBezTo>
                      <a:pt x="2813" y="4"/>
                      <a:pt x="2812" y="4"/>
                      <a:pt x="2811" y="4"/>
                    </a:cubicBezTo>
                    <a:lnTo>
                      <a:pt x="2811" y="4"/>
                    </a:lnTo>
                    <a:cubicBezTo>
                      <a:pt x="2810" y="4"/>
                      <a:pt x="2809" y="4"/>
                      <a:pt x="2809" y="2"/>
                    </a:cubicBezTo>
                    <a:cubicBezTo>
                      <a:pt x="2809" y="1"/>
                      <a:pt x="2810" y="0"/>
                      <a:pt x="2811" y="0"/>
                    </a:cubicBezTo>
                    <a:close/>
                    <a:moveTo>
                      <a:pt x="2819" y="0"/>
                    </a:moveTo>
                    <a:lnTo>
                      <a:pt x="2819" y="0"/>
                    </a:lnTo>
                    <a:cubicBezTo>
                      <a:pt x="2820" y="0"/>
                      <a:pt x="2821" y="1"/>
                      <a:pt x="2821" y="2"/>
                    </a:cubicBezTo>
                    <a:cubicBezTo>
                      <a:pt x="2821" y="4"/>
                      <a:pt x="2820" y="4"/>
                      <a:pt x="2819" y="4"/>
                    </a:cubicBezTo>
                    <a:lnTo>
                      <a:pt x="2819" y="4"/>
                    </a:lnTo>
                    <a:cubicBezTo>
                      <a:pt x="2818" y="4"/>
                      <a:pt x="2817" y="4"/>
                      <a:pt x="2817" y="2"/>
                    </a:cubicBezTo>
                    <a:cubicBezTo>
                      <a:pt x="2817" y="1"/>
                      <a:pt x="2818" y="0"/>
                      <a:pt x="2819" y="0"/>
                    </a:cubicBezTo>
                    <a:close/>
                    <a:moveTo>
                      <a:pt x="2827" y="0"/>
                    </a:moveTo>
                    <a:lnTo>
                      <a:pt x="2827" y="0"/>
                    </a:lnTo>
                    <a:cubicBezTo>
                      <a:pt x="2828" y="0"/>
                      <a:pt x="2829" y="1"/>
                      <a:pt x="2829" y="2"/>
                    </a:cubicBezTo>
                    <a:cubicBezTo>
                      <a:pt x="2829" y="4"/>
                      <a:pt x="2828" y="4"/>
                      <a:pt x="2827" y="4"/>
                    </a:cubicBezTo>
                    <a:lnTo>
                      <a:pt x="2827" y="4"/>
                    </a:lnTo>
                    <a:cubicBezTo>
                      <a:pt x="2826" y="4"/>
                      <a:pt x="2825" y="4"/>
                      <a:pt x="2825" y="2"/>
                    </a:cubicBezTo>
                    <a:cubicBezTo>
                      <a:pt x="2825" y="1"/>
                      <a:pt x="2826" y="0"/>
                      <a:pt x="2827" y="0"/>
                    </a:cubicBezTo>
                    <a:close/>
                    <a:moveTo>
                      <a:pt x="2835" y="0"/>
                    </a:moveTo>
                    <a:lnTo>
                      <a:pt x="2835" y="0"/>
                    </a:lnTo>
                    <a:cubicBezTo>
                      <a:pt x="2836" y="0"/>
                      <a:pt x="2837" y="1"/>
                      <a:pt x="2837" y="2"/>
                    </a:cubicBezTo>
                    <a:cubicBezTo>
                      <a:pt x="2837" y="4"/>
                      <a:pt x="2836" y="4"/>
                      <a:pt x="2835" y="4"/>
                    </a:cubicBezTo>
                    <a:lnTo>
                      <a:pt x="2835" y="4"/>
                    </a:lnTo>
                    <a:cubicBezTo>
                      <a:pt x="2834" y="4"/>
                      <a:pt x="2833" y="4"/>
                      <a:pt x="2833" y="2"/>
                    </a:cubicBezTo>
                    <a:cubicBezTo>
                      <a:pt x="2833" y="1"/>
                      <a:pt x="2834" y="0"/>
                      <a:pt x="2835" y="0"/>
                    </a:cubicBezTo>
                    <a:close/>
                    <a:moveTo>
                      <a:pt x="2843" y="0"/>
                    </a:moveTo>
                    <a:lnTo>
                      <a:pt x="2843" y="0"/>
                    </a:lnTo>
                    <a:cubicBezTo>
                      <a:pt x="2844" y="0"/>
                      <a:pt x="2845" y="1"/>
                      <a:pt x="2845" y="2"/>
                    </a:cubicBezTo>
                    <a:cubicBezTo>
                      <a:pt x="2845" y="4"/>
                      <a:pt x="2844" y="4"/>
                      <a:pt x="2843" y="4"/>
                    </a:cubicBezTo>
                    <a:lnTo>
                      <a:pt x="2843" y="4"/>
                    </a:lnTo>
                    <a:cubicBezTo>
                      <a:pt x="2842" y="4"/>
                      <a:pt x="2841" y="4"/>
                      <a:pt x="2841" y="2"/>
                    </a:cubicBezTo>
                    <a:cubicBezTo>
                      <a:pt x="2841" y="1"/>
                      <a:pt x="2842" y="0"/>
                      <a:pt x="2843" y="0"/>
                    </a:cubicBezTo>
                    <a:close/>
                    <a:moveTo>
                      <a:pt x="2851" y="0"/>
                    </a:moveTo>
                    <a:lnTo>
                      <a:pt x="2851" y="0"/>
                    </a:lnTo>
                    <a:cubicBezTo>
                      <a:pt x="2852" y="0"/>
                      <a:pt x="2853" y="1"/>
                      <a:pt x="2853" y="2"/>
                    </a:cubicBezTo>
                    <a:cubicBezTo>
                      <a:pt x="2853" y="4"/>
                      <a:pt x="2852" y="4"/>
                      <a:pt x="2851" y="4"/>
                    </a:cubicBezTo>
                    <a:lnTo>
                      <a:pt x="2851" y="4"/>
                    </a:lnTo>
                    <a:cubicBezTo>
                      <a:pt x="2850" y="4"/>
                      <a:pt x="2849" y="4"/>
                      <a:pt x="2849" y="2"/>
                    </a:cubicBezTo>
                    <a:cubicBezTo>
                      <a:pt x="2849" y="1"/>
                      <a:pt x="2850" y="0"/>
                      <a:pt x="2851" y="0"/>
                    </a:cubicBezTo>
                    <a:close/>
                    <a:moveTo>
                      <a:pt x="2859" y="0"/>
                    </a:moveTo>
                    <a:lnTo>
                      <a:pt x="2859" y="0"/>
                    </a:lnTo>
                    <a:cubicBezTo>
                      <a:pt x="2860" y="0"/>
                      <a:pt x="2861" y="1"/>
                      <a:pt x="2861" y="2"/>
                    </a:cubicBezTo>
                    <a:cubicBezTo>
                      <a:pt x="2861" y="4"/>
                      <a:pt x="2860" y="4"/>
                      <a:pt x="2859" y="4"/>
                    </a:cubicBezTo>
                    <a:lnTo>
                      <a:pt x="2859" y="4"/>
                    </a:lnTo>
                    <a:cubicBezTo>
                      <a:pt x="2858" y="4"/>
                      <a:pt x="2857" y="4"/>
                      <a:pt x="2857" y="2"/>
                    </a:cubicBezTo>
                    <a:cubicBezTo>
                      <a:pt x="2857" y="1"/>
                      <a:pt x="2858" y="0"/>
                      <a:pt x="2859" y="0"/>
                    </a:cubicBezTo>
                    <a:close/>
                    <a:moveTo>
                      <a:pt x="2867" y="0"/>
                    </a:moveTo>
                    <a:lnTo>
                      <a:pt x="2867" y="0"/>
                    </a:lnTo>
                    <a:cubicBezTo>
                      <a:pt x="2868" y="0"/>
                      <a:pt x="2869" y="1"/>
                      <a:pt x="2869" y="2"/>
                    </a:cubicBezTo>
                    <a:cubicBezTo>
                      <a:pt x="2869" y="4"/>
                      <a:pt x="2868" y="4"/>
                      <a:pt x="2867" y="4"/>
                    </a:cubicBezTo>
                    <a:lnTo>
                      <a:pt x="2867" y="4"/>
                    </a:lnTo>
                    <a:cubicBezTo>
                      <a:pt x="2866" y="4"/>
                      <a:pt x="2865" y="4"/>
                      <a:pt x="2865" y="2"/>
                    </a:cubicBezTo>
                    <a:cubicBezTo>
                      <a:pt x="2865" y="1"/>
                      <a:pt x="2866" y="0"/>
                      <a:pt x="2867" y="0"/>
                    </a:cubicBezTo>
                    <a:close/>
                    <a:moveTo>
                      <a:pt x="2875" y="0"/>
                    </a:moveTo>
                    <a:lnTo>
                      <a:pt x="2875" y="0"/>
                    </a:lnTo>
                    <a:cubicBezTo>
                      <a:pt x="2876" y="0"/>
                      <a:pt x="2877" y="1"/>
                      <a:pt x="2877" y="2"/>
                    </a:cubicBezTo>
                    <a:cubicBezTo>
                      <a:pt x="2877" y="4"/>
                      <a:pt x="2876" y="4"/>
                      <a:pt x="2875" y="4"/>
                    </a:cubicBezTo>
                    <a:lnTo>
                      <a:pt x="2875" y="4"/>
                    </a:lnTo>
                    <a:cubicBezTo>
                      <a:pt x="2874" y="4"/>
                      <a:pt x="2873" y="4"/>
                      <a:pt x="2873" y="2"/>
                    </a:cubicBezTo>
                    <a:cubicBezTo>
                      <a:pt x="2873" y="1"/>
                      <a:pt x="2874" y="0"/>
                      <a:pt x="2875" y="0"/>
                    </a:cubicBezTo>
                    <a:close/>
                    <a:moveTo>
                      <a:pt x="2883" y="0"/>
                    </a:moveTo>
                    <a:lnTo>
                      <a:pt x="2883" y="0"/>
                    </a:lnTo>
                    <a:cubicBezTo>
                      <a:pt x="2884" y="0"/>
                      <a:pt x="2885" y="1"/>
                      <a:pt x="2885" y="2"/>
                    </a:cubicBezTo>
                    <a:cubicBezTo>
                      <a:pt x="2885" y="4"/>
                      <a:pt x="2884" y="4"/>
                      <a:pt x="2883" y="4"/>
                    </a:cubicBezTo>
                    <a:lnTo>
                      <a:pt x="2883" y="4"/>
                    </a:lnTo>
                    <a:cubicBezTo>
                      <a:pt x="2882" y="4"/>
                      <a:pt x="2881" y="4"/>
                      <a:pt x="2881" y="2"/>
                    </a:cubicBezTo>
                    <a:cubicBezTo>
                      <a:pt x="2881" y="1"/>
                      <a:pt x="2882" y="0"/>
                      <a:pt x="2883" y="0"/>
                    </a:cubicBezTo>
                    <a:close/>
                    <a:moveTo>
                      <a:pt x="2891" y="0"/>
                    </a:moveTo>
                    <a:lnTo>
                      <a:pt x="2891" y="0"/>
                    </a:lnTo>
                    <a:cubicBezTo>
                      <a:pt x="2892" y="0"/>
                      <a:pt x="2893" y="1"/>
                      <a:pt x="2893" y="2"/>
                    </a:cubicBezTo>
                    <a:cubicBezTo>
                      <a:pt x="2893" y="4"/>
                      <a:pt x="2892" y="4"/>
                      <a:pt x="2891" y="4"/>
                    </a:cubicBezTo>
                    <a:lnTo>
                      <a:pt x="2891" y="4"/>
                    </a:lnTo>
                    <a:cubicBezTo>
                      <a:pt x="2890" y="4"/>
                      <a:pt x="2889" y="4"/>
                      <a:pt x="2889" y="2"/>
                    </a:cubicBezTo>
                    <a:cubicBezTo>
                      <a:pt x="2889" y="1"/>
                      <a:pt x="2890" y="0"/>
                      <a:pt x="2891" y="0"/>
                    </a:cubicBezTo>
                    <a:close/>
                    <a:moveTo>
                      <a:pt x="2899" y="0"/>
                    </a:moveTo>
                    <a:lnTo>
                      <a:pt x="2899" y="0"/>
                    </a:lnTo>
                    <a:cubicBezTo>
                      <a:pt x="2900" y="0"/>
                      <a:pt x="2901" y="1"/>
                      <a:pt x="2901" y="2"/>
                    </a:cubicBezTo>
                    <a:cubicBezTo>
                      <a:pt x="2901" y="4"/>
                      <a:pt x="2900" y="4"/>
                      <a:pt x="2899" y="4"/>
                    </a:cubicBezTo>
                    <a:lnTo>
                      <a:pt x="2899" y="4"/>
                    </a:lnTo>
                    <a:cubicBezTo>
                      <a:pt x="2898" y="4"/>
                      <a:pt x="2897" y="4"/>
                      <a:pt x="2897" y="2"/>
                    </a:cubicBezTo>
                    <a:cubicBezTo>
                      <a:pt x="2897" y="1"/>
                      <a:pt x="2898" y="0"/>
                      <a:pt x="2899" y="0"/>
                    </a:cubicBezTo>
                    <a:close/>
                    <a:moveTo>
                      <a:pt x="2907" y="0"/>
                    </a:moveTo>
                    <a:lnTo>
                      <a:pt x="2907" y="0"/>
                    </a:lnTo>
                    <a:cubicBezTo>
                      <a:pt x="2908" y="0"/>
                      <a:pt x="2909" y="1"/>
                      <a:pt x="2909" y="2"/>
                    </a:cubicBezTo>
                    <a:cubicBezTo>
                      <a:pt x="2909" y="4"/>
                      <a:pt x="2908" y="4"/>
                      <a:pt x="2907" y="4"/>
                    </a:cubicBezTo>
                    <a:lnTo>
                      <a:pt x="2907" y="4"/>
                    </a:lnTo>
                    <a:cubicBezTo>
                      <a:pt x="2906" y="4"/>
                      <a:pt x="2905" y="4"/>
                      <a:pt x="2905" y="2"/>
                    </a:cubicBezTo>
                    <a:cubicBezTo>
                      <a:pt x="2905" y="1"/>
                      <a:pt x="2906" y="0"/>
                      <a:pt x="2907" y="0"/>
                    </a:cubicBezTo>
                    <a:close/>
                    <a:moveTo>
                      <a:pt x="2915" y="0"/>
                    </a:moveTo>
                    <a:lnTo>
                      <a:pt x="2915" y="0"/>
                    </a:lnTo>
                    <a:cubicBezTo>
                      <a:pt x="2916" y="0"/>
                      <a:pt x="2917" y="1"/>
                      <a:pt x="2917" y="2"/>
                    </a:cubicBezTo>
                    <a:cubicBezTo>
                      <a:pt x="2917" y="4"/>
                      <a:pt x="2916" y="4"/>
                      <a:pt x="2915" y="4"/>
                    </a:cubicBezTo>
                    <a:lnTo>
                      <a:pt x="2915" y="4"/>
                    </a:lnTo>
                    <a:cubicBezTo>
                      <a:pt x="2914" y="4"/>
                      <a:pt x="2913" y="4"/>
                      <a:pt x="2913" y="2"/>
                    </a:cubicBezTo>
                    <a:cubicBezTo>
                      <a:pt x="2913" y="1"/>
                      <a:pt x="2914" y="0"/>
                      <a:pt x="2915" y="0"/>
                    </a:cubicBezTo>
                    <a:close/>
                    <a:moveTo>
                      <a:pt x="2923" y="0"/>
                    </a:moveTo>
                    <a:lnTo>
                      <a:pt x="2923" y="0"/>
                    </a:lnTo>
                    <a:cubicBezTo>
                      <a:pt x="2924" y="0"/>
                      <a:pt x="2925" y="1"/>
                      <a:pt x="2925" y="2"/>
                    </a:cubicBezTo>
                    <a:cubicBezTo>
                      <a:pt x="2925" y="4"/>
                      <a:pt x="2924" y="4"/>
                      <a:pt x="2923" y="4"/>
                    </a:cubicBezTo>
                    <a:lnTo>
                      <a:pt x="2923" y="4"/>
                    </a:lnTo>
                    <a:cubicBezTo>
                      <a:pt x="2922" y="4"/>
                      <a:pt x="2921" y="4"/>
                      <a:pt x="2921" y="2"/>
                    </a:cubicBezTo>
                    <a:cubicBezTo>
                      <a:pt x="2921" y="1"/>
                      <a:pt x="2922" y="0"/>
                      <a:pt x="2923" y="0"/>
                    </a:cubicBezTo>
                    <a:close/>
                    <a:moveTo>
                      <a:pt x="2931" y="0"/>
                    </a:moveTo>
                    <a:lnTo>
                      <a:pt x="2931" y="0"/>
                    </a:lnTo>
                    <a:cubicBezTo>
                      <a:pt x="2932" y="0"/>
                      <a:pt x="2933" y="1"/>
                      <a:pt x="2933" y="2"/>
                    </a:cubicBezTo>
                    <a:cubicBezTo>
                      <a:pt x="2933" y="4"/>
                      <a:pt x="2932" y="4"/>
                      <a:pt x="2931" y="4"/>
                    </a:cubicBezTo>
                    <a:lnTo>
                      <a:pt x="2931" y="4"/>
                    </a:lnTo>
                    <a:cubicBezTo>
                      <a:pt x="2930" y="4"/>
                      <a:pt x="2929" y="4"/>
                      <a:pt x="2929" y="2"/>
                    </a:cubicBezTo>
                    <a:cubicBezTo>
                      <a:pt x="2929" y="1"/>
                      <a:pt x="2930" y="0"/>
                      <a:pt x="2931" y="0"/>
                    </a:cubicBezTo>
                    <a:close/>
                    <a:moveTo>
                      <a:pt x="2939" y="0"/>
                    </a:moveTo>
                    <a:lnTo>
                      <a:pt x="2939" y="0"/>
                    </a:lnTo>
                    <a:cubicBezTo>
                      <a:pt x="2940" y="0"/>
                      <a:pt x="2941" y="1"/>
                      <a:pt x="2941" y="3"/>
                    </a:cubicBezTo>
                    <a:cubicBezTo>
                      <a:pt x="2941" y="4"/>
                      <a:pt x="2940" y="5"/>
                      <a:pt x="2939" y="5"/>
                    </a:cubicBezTo>
                    <a:lnTo>
                      <a:pt x="2939" y="5"/>
                    </a:lnTo>
                    <a:cubicBezTo>
                      <a:pt x="2938" y="5"/>
                      <a:pt x="2937" y="4"/>
                      <a:pt x="2937" y="3"/>
                    </a:cubicBezTo>
                    <a:cubicBezTo>
                      <a:pt x="2937" y="1"/>
                      <a:pt x="2938" y="0"/>
                      <a:pt x="2939" y="0"/>
                    </a:cubicBezTo>
                    <a:close/>
                    <a:moveTo>
                      <a:pt x="2947" y="1"/>
                    </a:moveTo>
                    <a:lnTo>
                      <a:pt x="2947" y="1"/>
                    </a:lnTo>
                    <a:cubicBezTo>
                      <a:pt x="2948" y="1"/>
                      <a:pt x="2949" y="1"/>
                      <a:pt x="2949" y="3"/>
                    </a:cubicBezTo>
                    <a:cubicBezTo>
                      <a:pt x="2949" y="4"/>
                      <a:pt x="2948" y="5"/>
                      <a:pt x="2947" y="5"/>
                    </a:cubicBezTo>
                    <a:lnTo>
                      <a:pt x="2947" y="5"/>
                    </a:lnTo>
                    <a:cubicBezTo>
                      <a:pt x="2946" y="5"/>
                      <a:pt x="2945" y="4"/>
                      <a:pt x="2945" y="3"/>
                    </a:cubicBezTo>
                    <a:cubicBezTo>
                      <a:pt x="2945" y="1"/>
                      <a:pt x="2946" y="1"/>
                      <a:pt x="2947" y="1"/>
                    </a:cubicBezTo>
                    <a:close/>
                    <a:moveTo>
                      <a:pt x="2955" y="1"/>
                    </a:moveTo>
                    <a:lnTo>
                      <a:pt x="2955" y="1"/>
                    </a:lnTo>
                    <a:cubicBezTo>
                      <a:pt x="2956" y="1"/>
                      <a:pt x="2957" y="1"/>
                      <a:pt x="2957" y="3"/>
                    </a:cubicBezTo>
                    <a:cubicBezTo>
                      <a:pt x="2957" y="4"/>
                      <a:pt x="2956" y="5"/>
                      <a:pt x="2955" y="5"/>
                    </a:cubicBezTo>
                    <a:lnTo>
                      <a:pt x="2955" y="5"/>
                    </a:lnTo>
                    <a:cubicBezTo>
                      <a:pt x="2954" y="5"/>
                      <a:pt x="2953" y="4"/>
                      <a:pt x="2953" y="3"/>
                    </a:cubicBezTo>
                    <a:cubicBezTo>
                      <a:pt x="2953" y="1"/>
                      <a:pt x="2954" y="1"/>
                      <a:pt x="2955" y="1"/>
                    </a:cubicBezTo>
                    <a:close/>
                    <a:moveTo>
                      <a:pt x="2963" y="1"/>
                    </a:moveTo>
                    <a:lnTo>
                      <a:pt x="2963" y="1"/>
                    </a:lnTo>
                    <a:cubicBezTo>
                      <a:pt x="2964" y="1"/>
                      <a:pt x="2965" y="1"/>
                      <a:pt x="2965" y="3"/>
                    </a:cubicBezTo>
                    <a:cubicBezTo>
                      <a:pt x="2965" y="4"/>
                      <a:pt x="2964" y="5"/>
                      <a:pt x="2963" y="5"/>
                    </a:cubicBezTo>
                    <a:lnTo>
                      <a:pt x="2963" y="5"/>
                    </a:lnTo>
                    <a:cubicBezTo>
                      <a:pt x="2962" y="5"/>
                      <a:pt x="2961" y="4"/>
                      <a:pt x="2961" y="3"/>
                    </a:cubicBezTo>
                    <a:cubicBezTo>
                      <a:pt x="2961" y="1"/>
                      <a:pt x="2962" y="1"/>
                      <a:pt x="2963" y="1"/>
                    </a:cubicBezTo>
                    <a:close/>
                    <a:moveTo>
                      <a:pt x="2971" y="1"/>
                    </a:moveTo>
                    <a:lnTo>
                      <a:pt x="2971" y="1"/>
                    </a:lnTo>
                    <a:cubicBezTo>
                      <a:pt x="2972" y="1"/>
                      <a:pt x="2973" y="1"/>
                      <a:pt x="2973" y="3"/>
                    </a:cubicBezTo>
                    <a:cubicBezTo>
                      <a:pt x="2973" y="4"/>
                      <a:pt x="2972" y="5"/>
                      <a:pt x="2971" y="5"/>
                    </a:cubicBezTo>
                    <a:lnTo>
                      <a:pt x="2971" y="5"/>
                    </a:lnTo>
                    <a:cubicBezTo>
                      <a:pt x="2970" y="5"/>
                      <a:pt x="2969" y="4"/>
                      <a:pt x="2969" y="3"/>
                    </a:cubicBezTo>
                    <a:cubicBezTo>
                      <a:pt x="2969" y="1"/>
                      <a:pt x="2970" y="1"/>
                      <a:pt x="2971" y="1"/>
                    </a:cubicBezTo>
                    <a:close/>
                    <a:moveTo>
                      <a:pt x="2979" y="1"/>
                    </a:moveTo>
                    <a:lnTo>
                      <a:pt x="2979" y="1"/>
                    </a:lnTo>
                    <a:cubicBezTo>
                      <a:pt x="2980" y="1"/>
                      <a:pt x="2981" y="1"/>
                      <a:pt x="2981" y="3"/>
                    </a:cubicBezTo>
                    <a:cubicBezTo>
                      <a:pt x="2981" y="4"/>
                      <a:pt x="2980" y="5"/>
                      <a:pt x="2979" y="5"/>
                    </a:cubicBezTo>
                    <a:lnTo>
                      <a:pt x="2979" y="5"/>
                    </a:lnTo>
                    <a:cubicBezTo>
                      <a:pt x="2978" y="5"/>
                      <a:pt x="2977" y="4"/>
                      <a:pt x="2977" y="3"/>
                    </a:cubicBezTo>
                    <a:cubicBezTo>
                      <a:pt x="2977" y="1"/>
                      <a:pt x="2978" y="1"/>
                      <a:pt x="2979" y="1"/>
                    </a:cubicBezTo>
                    <a:close/>
                    <a:moveTo>
                      <a:pt x="2987" y="1"/>
                    </a:moveTo>
                    <a:lnTo>
                      <a:pt x="2987" y="1"/>
                    </a:lnTo>
                    <a:cubicBezTo>
                      <a:pt x="2988" y="1"/>
                      <a:pt x="2989" y="1"/>
                      <a:pt x="2989" y="3"/>
                    </a:cubicBezTo>
                    <a:cubicBezTo>
                      <a:pt x="2989" y="4"/>
                      <a:pt x="2988" y="5"/>
                      <a:pt x="2987" y="5"/>
                    </a:cubicBezTo>
                    <a:lnTo>
                      <a:pt x="2987" y="5"/>
                    </a:lnTo>
                    <a:cubicBezTo>
                      <a:pt x="2986" y="5"/>
                      <a:pt x="2985" y="4"/>
                      <a:pt x="2985" y="3"/>
                    </a:cubicBezTo>
                    <a:cubicBezTo>
                      <a:pt x="2985" y="1"/>
                      <a:pt x="2986" y="1"/>
                      <a:pt x="2987" y="1"/>
                    </a:cubicBezTo>
                    <a:close/>
                    <a:moveTo>
                      <a:pt x="2995" y="1"/>
                    </a:moveTo>
                    <a:lnTo>
                      <a:pt x="2995" y="1"/>
                    </a:lnTo>
                    <a:cubicBezTo>
                      <a:pt x="2996" y="1"/>
                      <a:pt x="2997" y="1"/>
                      <a:pt x="2997" y="3"/>
                    </a:cubicBezTo>
                    <a:cubicBezTo>
                      <a:pt x="2997" y="4"/>
                      <a:pt x="2996" y="5"/>
                      <a:pt x="2995" y="5"/>
                    </a:cubicBezTo>
                    <a:lnTo>
                      <a:pt x="2995" y="5"/>
                    </a:lnTo>
                    <a:cubicBezTo>
                      <a:pt x="2994" y="5"/>
                      <a:pt x="2993" y="4"/>
                      <a:pt x="2993" y="3"/>
                    </a:cubicBezTo>
                    <a:cubicBezTo>
                      <a:pt x="2993" y="1"/>
                      <a:pt x="2994" y="1"/>
                      <a:pt x="2995" y="1"/>
                    </a:cubicBezTo>
                    <a:close/>
                    <a:moveTo>
                      <a:pt x="3003" y="1"/>
                    </a:moveTo>
                    <a:lnTo>
                      <a:pt x="3003" y="1"/>
                    </a:lnTo>
                    <a:cubicBezTo>
                      <a:pt x="3004" y="1"/>
                      <a:pt x="3005" y="1"/>
                      <a:pt x="3005" y="3"/>
                    </a:cubicBezTo>
                    <a:cubicBezTo>
                      <a:pt x="3005" y="4"/>
                      <a:pt x="3004" y="5"/>
                      <a:pt x="3003" y="5"/>
                    </a:cubicBezTo>
                    <a:lnTo>
                      <a:pt x="3003" y="5"/>
                    </a:lnTo>
                    <a:cubicBezTo>
                      <a:pt x="3002" y="5"/>
                      <a:pt x="3001" y="4"/>
                      <a:pt x="3001" y="3"/>
                    </a:cubicBezTo>
                    <a:cubicBezTo>
                      <a:pt x="3001" y="1"/>
                      <a:pt x="3002" y="1"/>
                      <a:pt x="3003" y="1"/>
                    </a:cubicBezTo>
                    <a:close/>
                    <a:moveTo>
                      <a:pt x="3011" y="1"/>
                    </a:moveTo>
                    <a:lnTo>
                      <a:pt x="3011" y="1"/>
                    </a:lnTo>
                    <a:cubicBezTo>
                      <a:pt x="3012" y="1"/>
                      <a:pt x="3013" y="1"/>
                      <a:pt x="3013" y="3"/>
                    </a:cubicBezTo>
                    <a:cubicBezTo>
                      <a:pt x="3013" y="4"/>
                      <a:pt x="3012" y="5"/>
                      <a:pt x="3011" y="5"/>
                    </a:cubicBezTo>
                    <a:lnTo>
                      <a:pt x="3011" y="5"/>
                    </a:lnTo>
                    <a:cubicBezTo>
                      <a:pt x="3010" y="5"/>
                      <a:pt x="3009" y="4"/>
                      <a:pt x="3009" y="3"/>
                    </a:cubicBezTo>
                    <a:cubicBezTo>
                      <a:pt x="3009" y="1"/>
                      <a:pt x="3010" y="1"/>
                      <a:pt x="3011" y="1"/>
                    </a:cubicBezTo>
                    <a:close/>
                    <a:moveTo>
                      <a:pt x="3019" y="1"/>
                    </a:moveTo>
                    <a:lnTo>
                      <a:pt x="3019" y="1"/>
                    </a:lnTo>
                    <a:cubicBezTo>
                      <a:pt x="3020" y="1"/>
                      <a:pt x="3021" y="1"/>
                      <a:pt x="3021" y="3"/>
                    </a:cubicBezTo>
                    <a:cubicBezTo>
                      <a:pt x="3021" y="4"/>
                      <a:pt x="3020" y="5"/>
                      <a:pt x="3019" y="5"/>
                    </a:cubicBezTo>
                    <a:lnTo>
                      <a:pt x="3019" y="5"/>
                    </a:lnTo>
                    <a:cubicBezTo>
                      <a:pt x="3018" y="5"/>
                      <a:pt x="3017" y="4"/>
                      <a:pt x="3017" y="3"/>
                    </a:cubicBezTo>
                    <a:cubicBezTo>
                      <a:pt x="3017" y="1"/>
                      <a:pt x="3018" y="1"/>
                      <a:pt x="3019" y="1"/>
                    </a:cubicBezTo>
                    <a:close/>
                    <a:moveTo>
                      <a:pt x="3027" y="1"/>
                    </a:moveTo>
                    <a:lnTo>
                      <a:pt x="3027" y="1"/>
                    </a:lnTo>
                    <a:cubicBezTo>
                      <a:pt x="3028" y="1"/>
                      <a:pt x="3029" y="1"/>
                      <a:pt x="3029" y="3"/>
                    </a:cubicBezTo>
                    <a:cubicBezTo>
                      <a:pt x="3029" y="4"/>
                      <a:pt x="3028" y="5"/>
                      <a:pt x="3027" y="5"/>
                    </a:cubicBezTo>
                    <a:lnTo>
                      <a:pt x="3027" y="5"/>
                    </a:lnTo>
                    <a:cubicBezTo>
                      <a:pt x="3026" y="5"/>
                      <a:pt x="3025" y="4"/>
                      <a:pt x="3025" y="3"/>
                    </a:cubicBezTo>
                    <a:cubicBezTo>
                      <a:pt x="3025" y="1"/>
                      <a:pt x="3026" y="1"/>
                      <a:pt x="3027" y="1"/>
                    </a:cubicBezTo>
                    <a:close/>
                    <a:moveTo>
                      <a:pt x="3035" y="1"/>
                    </a:moveTo>
                    <a:lnTo>
                      <a:pt x="3035" y="1"/>
                    </a:lnTo>
                    <a:cubicBezTo>
                      <a:pt x="3036" y="1"/>
                      <a:pt x="3037" y="1"/>
                      <a:pt x="3037" y="3"/>
                    </a:cubicBezTo>
                    <a:cubicBezTo>
                      <a:pt x="3037" y="4"/>
                      <a:pt x="3036" y="5"/>
                      <a:pt x="3035" y="5"/>
                    </a:cubicBezTo>
                    <a:lnTo>
                      <a:pt x="3035" y="5"/>
                    </a:lnTo>
                    <a:cubicBezTo>
                      <a:pt x="3034" y="5"/>
                      <a:pt x="3033" y="4"/>
                      <a:pt x="3033" y="3"/>
                    </a:cubicBezTo>
                    <a:cubicBezTo>
                      <a:pt x="3033" y="1"/>
                      <a:pt x="3034" y="1"/>
                      <a:pt x="3035" y="1"/>
                    </a:cubicBezTo>
                    <a:close/>
                    <a:moveTo>
                      <a:pt x="3043" y="1"/>
                    </a:moveTo>
                    <a:lnTo>
                      <a:pt x="3043" y="1"/>
                    </a:lnTo>
                    <a:cubicBezTo>
                      <a:pt x="3044" y="1"/>
                      <a:pt x="3045" y="1"/>
                      <a:pt x="3045" y="3"/>
                    </a:cubicBezTo>
                    <a:cubicBezTo>
                      <a:pt x="3045" y="4"/>
                      <a:pt x="3044" y="5"/>
                      <a:pt x="3043" y="5"/>
                    </a:cubicBezTo>
                    <a:lnTo>
                      <a:pt x="3043" y="5"/>
                    </a:lnTo>
                    <a:cubicBezTo>
                      <a:pt x="3042" y="5"/>
                      <a:pt x="3041" y="4"/>
                      <a:pt x="3041" y="3"/>
                    </a:cubicBezTo>
                    <a:cubicBezTo>
                      <a:pt x="3041" y="1"/>
                      <a:pt x="3042" y="1"/>
                      <a:pt x="3043" y="1"/>
                    </a:cubicBezTo>
                    <a:close/>
                    <a:moveTo>
                      <a:pt x="3051" y="1"/>
                    </a:moveTo>
                    <a:lnTo>
                      <a:pt x="3051" y="1"/>
                    </a:lnTo>
                    <a:cubicBezTo>
                      <a:pt x="3052" y="1"/>
                      <a:pt x="3053" y="1"/>
                      <a:pt x="3053" y="3"/>
                    </a:cubicBezTo>
                    <a:cubicBezTo>
                      <a:pt x="3053" y="4"/>
                      <a:pt x="3052" y="5"/>
                      <a:pt x="3051" y="5"/>
                    </a:cubicBezTo>
                    <a:lnTo>
                      <a:pt x="3051" y="5"/>
                    </a:lnTo>
                    <a:cubicBezTo>
                      <a:pt x="3050" y="5"/>
                      <a:pt x="3049" y="4"/>
                      <a:pt x="3049" y="3"/>
                    </a:cubicBezTo>
                    <a:cubicBezTo>
                      <a:pt x="3049" y="1"/>
                      <a:pt x="3050" y="1"/>
                      <a:pt x="3051" y="1"/>
                    </a:cubicBezTo>
                    <a:close/>
                    <a:moveTo>
                      <a:pt x="3059" y="1"/>
                    </a:moveTo>
                    <a:lnTo>
                      <a:pt x="3059" y="1"/>
                    </a:lnTo>
                    <a:cubicBezTo>
                      <a:pt x="3060" y="1"/>
                      <a:pt x="3061" y="1"/>
                      <a:pt x="3061" y="3"/>
                    </a:cubicBezTo>
                    <a:cubicBezTo>
                      <a:pt x="3061" y="4"/>
                      <a:pt x="3060" y="5"/>
                      <a:pt x="3059" y="5"/>
                    </a:cubicBezTo>
                    <a:lnTo>
                      <a:pt x="3059" y="5"/>
                    </a:lnTo>
                    <a:cubicBezTo>
                      <a:pt x="3058" y="5"/>
                      <a:pt x="3057" y="4"/>
                      <a:pt x="3057" y="3"/>
                    </a:cubicBezTo>
                    <a:cubicBezTo>
                      <a:pt x="3057" y="1"/>
                      <a:pt x="3058" y="1"/>
                      <a:pt x="3059" y="1"/>
                    </a:cubicBezTo>
                    <a:close/>
                    <a:moveTo>
                      <a:pt x="3067" y="1"/>
                    </a:moveTo>
                    <a:lnTo>
                      <a:pt x="3067" y="1"/>
                    </a:lnTo>
                    <a:cubicBezTo>
                      <a:pt x="3068" y="1"/>
                      <a:pt x="3069" y="1"/>
                      <a:pt x="3069" y="3"/>
                    </a:cubicBezTo>
                    <a:cubicBezTo>
                      <a:pt x="3069" y="4"/>
                      <a:pt x="3068" y="5"/>
                      <a:pt x="3067" y="5"/>
                    </a:cubicBezTo>
                    <a:lnTo>
                      <a:pt x="3067" y="5"/>
                    </a:lnTo>
                    <a:cubicBezTo>
                      <a:pt x="3066" y="5"/>
                      <a:pt x="3065" y="4"/>
                      <a:pt x="3065" y="3"/>
                    </a:cubicBezTo>
                    <a:cubicBezTo>
                      <a:pt x="3065" y="1"/>
                      <a:pt x="3066" y="1"/>
                      <a:pt x="3067" y="1"/>
                    </a:cubicBezTo>
                    <a:close/>
                    <a:moveTo>
                      <a:pt x="3075" y="1"/>
                    </a:moveTo>
                    <a:lnTo>
                      <a:pt x="3075" y="1"/>
                    </a:lnTo>
                    <a:cubicBezTo>
                      <a:pt x="3076" y="1"/>
                      <a:pt x="3077" y="1"/>
                      <a:pt x="3077" y="3"/>
                    </a:cubicBezTo>
                    <a:cubicBezTo>
                      <a:pt x="3077" y="4"/>
                      <a:pt x="3076" y="5"/>
                      <a:pt x="3075" y="5"/>
                    </a:cubicBezTo>
                    <a:lnTo>
                      <a:pt x="3075" y="5"/>
                    </a:lnTo>
                    <a:cubicBezTo>
                      <a:pt x="3074" y="5"/>
                      <a:pt x="3073" y="4"/>
                      <a:pt x="3073" y="3"/>
                    </a:cubicBezTo>
                    <a:cubicBezTo>
                      <a:pt x="3073" y="1"/>
                      <a:pt x="3074" y="1"/>
                      <a:pt x="3075" y="1"/>
                    </a:cubicBezTo>
                    <a:close/>
                    <a:moveTo>
                      <a:pt x="3083" y="1"/>
                    </a:moveTo>
                    <a:lnTo>
                      <a:pt x="3083" y="1"/>
                    </a:lnTo>
                    <a:cubicBezTo>
                      <a:pt x="3084" y="1"/>
                      <a:pt x="3085" y="1"/>
                      <a:pt x="3085" y="3"/>
                    </a:cubicBezTo>
                    <a:cubicBezTo>
                      <a:pt x="3085" y="4"/>
                      <a:pt x="3084" y="5"/>
                      <a:pt x="3083" y="5"/>
                    </a:cubicBezTo>
                    <a:lnTo>
                      <a:pt x="3083" y="5"/>
                    </a:lnTo>
                    <a:cubicBezTo>
                      <a:pt x="3082" y="5"/>
                      <a:pt x="3081" y="4"/>
                      <a:pt x="3081" y="3"/>
                    </a:cubicBezTo>
                    <a:cubicBezTo>
                      <a:pt x="3081" y="1"/>
                      <a:pt x="3082" y="1"/>
                      <a:pt x="3083" y="1"/>
                    </a:cubicBezTo>
                    <a:close/>
                    <a:moveTo>
                      <a:pt x="3091" y="1"/>
                    </a:moveTo>
                    <a:lnTo>
                      <a:pt x="3091" y="1"/>
                    </a:lnTo>
                    <a:cubicBezTo>
                      <a:pt x="3092" y="1"/>
                      <a:pt x="3093" y="1"/>
                      <a:pt x="3093" y="3"/>
                    </a:cubicBezTo>
                    <a:cubicBezTo>
                      <a:pt x="3093" y="4"/>
                      <a:pt x="3092" y="5"/>
                      <a:pt x="3091" y="5"/>
                    </a:cubicBezTo>
                    <a:lnTo>
                      <a:pt x="3091" y="5"/>
                    </a:lnTo>
                    <a:cubicBezTo>
                      <a:pt x="3090" y="5"/>
                      <a:pt x="3089" y="4"/>
                      <a:pt x="3089" y="3"/>
                    </a:cubicBezTo>
                    <a:cubicBezTo>
                      <a:pt x="3089" y="1"/>
                      <a:pt x="3090" y="1"/>
                      <a:pt x="3091" y="1"/>
                    </a:cubicBezTo>
                    <a:close/>
                    <a:moveTo>
                      <a:pt x="3099" y="1"/>
                    </a:moveTo>
                    <a:lnTo>
                      <a:pt x="3099" y="1"/>
                    </a:lnTo>
                    <a:cubicBezTo>
                      <a:pt x="3100" y="1"/>
                      <a:pt x="3101" y="1"/>
                      <a:pt x="3101" y="3"/>
                    </a:cubicBezTo>
                    <a:cubicBezTo>
                      <a:pt x="3101" y="4"/>
                      <a:pt x="3100" y="5"/>
                      <a:pt x="3099" y="5"/>
                    </a:cubicBezTo>
                    <a:lnTo>
                      <a:pt x="3099" y="5"/>
                    </a:lnTo>
                    <a:cubicBezTo>
                      <a:pt x="3098" y="5"/>
                      <a:pt x="3097" y="4"/>
                      <a:pt x="3097" y="3"/>
                    </a:cubicBezTo>
                    <a:cubicBezTo>
                      <a:pt x="3097" y="1"/>
                      <a:pt x="3098" y="1"/>
                      <a:pt x="3099" y="1"/>
                    </a:cubicBezTo>
                    <a:close/>
                    <a:moveTo>
                      <a:pt x="3107" y="1"/>
                    </a:moveTo>
                    <a:lnTo>
                      <a:pt x="3107" y="1"/>
                    </a:lnTo>
                    <a:cubicBezTo>
                      <a:pt x="3108" y="1"/>
                      <a:pt x="3109" y="1"/>
                      <a:pt x="3109" y="3"/>
                    </a:cubicBezTo>
                    <a:cubicBezTo>
                      <a:pt x="3109" y="4"/>
                      <a:pt x="3108" y="5"/>
                      <a:pt x="3107" y="5"/>
                    </a:cubicBezTo>
                    <a:lnTo>
                      <a:pt x="3107" y="5"/>
                    </a:lnTo>
                    <a:cubicBezTo>
                      <a:pt x="3106" y="5"/>
                      <a:pt x="3105" y="4"/>
                      <a:pt x="3105" y="3"/>
                    </a:cubicBezTo>
                    <a:cubicBezTo>
                      <a:pt x="3105" y="1"/>
                      <a:pt x="3106" y="1"/>
                      <a:pt x="3107" y="1"/>
                    </a:cubicBezTo>
                    <a:close/>
                    <a:moveTo>
                      <a:pt x="3115" y="1"/>
                    </a:moveTo>
                    <a:lnTo>
                      <a:pt x="3115" y="1"/>
                    </a:lnTo>
                    <a:cubicBezTo>
                      <a:pt x="3116" y="1"/>
                      <a:pt x="3117" y="1"/>
                      <a:pt x="3117" y="3"/>
                    </a:cubicBezTo>
                    <a:cubicBezTo>
                      <a:pt x="3117" y="4"/>
                      <a:pt x="3116" y="5"/>
                      <a:pt x="3115" y="5"/>
                    </a:cubicBezTo>
                    <a:lnTo>
                      <a:pt x="3115" y="5"/>
                    </a:lnTo>
                    <a:cubicBezTo>
                      <a:pt x="3114" y="5"/>
                      <a:pt x="3113" y="4"/>
                      <a:pt x="3113" y="3"/>
                    </a:cubicBezTo>
                    <a:cubicBezTo>
                      <a:pt x="3113" y="1"/>
                      <a:pt x="3114" y="1"/>
                      <a:pt x="3115" y="1"/>
                    </a:cubicBezTo>
                    <a:close/>
                    <a:moveTo>
                      <a:pt x="3123" y="1"/>
                    </a:moveTo>
                    <a:lnTo>
                      <a:pt x="3123" y="1"/>
                    </a:lnTo>
                    <a:cubicBezTo>
                      <a:pt x="3124" y="1"/>
                      <a:pt x="3125" y="1"/>
                      <a:pt x="3125" y="3"/>
                    </a:cubicBezTo>
                    <a:cubicBezTo>
                      <a:pt x="3125" y="4"/>
                      <a:pt x="3124" y="5"/>
                      <a:pt x="3123" y="5"/>
                    </a:cubicBezTo>
                    <a:lnTo>
                      <a:pt x="3123" y="5"/>
                    </a:lnTo>
                    <a:cubicBezTo>
                      <a:pt x="3122" y="5"/>
                      <a:pt x="3121" y="4"/>
                      <a:pt x="3121" y="3"/>
                    </a:cubicBezTo>
                    <a:cubicBezTo>
                      <a:pt x="3121" y="1"/>
                      <a:pt x="3122" y="1"/>
                      <a:pt x="3123" y="1"/>
                    </a:cubicBezTo>
                    <a:close/>
                    <a:moveTo>
                      <a:pt x="3131" y="1"/>
                    </a:moveTo>
                    <a:lnTo>
                      <a:pt x="3131" y="1"/>
                    </a:lnTo>
                    <a:cubicBezTo>
                      <a:pt x="3132" y="1"/>
                      <a:pt x="3133" y="1"/>
                      <a:pt x="3133" y="3"/>
                    </a:cubicBezTo>
                    <a:cubicBezTo>
                      <a:pt x="3133" y="4"/>
                      <a:pt x="3132" y="5"/>
                      <a:pt x="3131" y="5"/>
                    </a:cubicBezTo>
                    <a:lnTo>
                      <a:pt x="3131" y="5"/>
                    </a:lnTo>
                    <a:cubicBezTo>
                      <a:pt x="3130" y="5"/>
                      <a:pt x="3129" y="4"/>
                      <a:pt x="3129" y="3"/>
                    </a:cubicBezTo>
                    <a:cubicBezTo>
                      <a:pt x="3129" y="1"/>
                      <a:pt x="3130" y="1"/>
                      <a:pt x="3131" y="1"/>
                    </a:cubicBezTo>
                    <a:close/>
                    <a:moveTo>
                      <a:pt x="3139" y="1"/>
                    </a:moveTo>
                    <a:lnTo>
                      <a:pt x="3139" y="1"/>
                    </a:lnTo>
                    <a:cubicBezTo>
                      <a:pt x="3140" y="1"/>
                      <a:pt x="3141" y="1"/>
                      <a:pt x="3141" y="3"/>
                    </a:cubicBezTo>
                    <a:cubicBezTo>
                      <a:pt x="3141" y="4"/>
                      <a:pt x="3140" y="5"/>
                      <a:pt x="3139" y="5"/>
                    </a:cubicBezTo>
                    <a:lnTo>
                      <a:pt x="3139" y="5"/>
                    </a:lnTo>
                    <a:cubicBezTo>
                      <a:pt x="3138" y="5"/>
                      <a:pt x="3137" y="4"/>
                      <a:pt x="3137" y="3"/>
                    </a:cubicBezTo>
                    <a:cubicBezTo>
                      <a:pt x="3137" y="1"/>
                      <a:pt x="3138" y="1"/>
                      <a:pt x="3139" y="1"/>
                    </a:cubicBezTo>
                    <a:close/>
                    <a:moveTo>
                      <a:pt x="3147" y="1"/>
                    </a:moveTo>
                    <a:lnTo>
                      <a:pt x="3147" y="1"/>
                    </a:lnTo>
                    <a:cubicBezTo>
                      <a:pt x="3148" y="1"/>
                      <a:pt x="3149" y="1"/>
                      <a:pt x="3149" y="3"/>
                    </a:cubicBezTo>
                    <a:cubicBezTo>
                      <a:pt x="3149" y="4"/>
                      <a:pt x="3148" y="5"/>
                      <a:pt x="3147" y="5"/>
                    </a:cubicBezTo>
                    <a:lnTo>
                      <a:pt x="3147" y="5"/>
                    </a:lnTo>
                    <a:cubicBezTo>
                      <a:pt x="3146" y="5"/>
                      <a:pt x="3145" y="4"/>
                      <a:pt x="3145" y="3"/>
                    </a:cubicBezTo>
                    <a:cubicBezTo>
                      <a:pt x="3145" y="1"/>
                      <a:pt x="3146" y="1"/>
                      <a:pt x="3147" y="1"/>
                    </a:cubicBezTo>
                    <a:close/>
                    <a:moveTo>
                      <a:pt x="3155" y="1"/>
                    </a:moveTo>
                    <a:lnTo>
                      <a:pt x="3155" y="1"/>
                    </a:lnTo>
                    <a:cubicBezTo>
                      <a:pt x="3156" y="1"/>
                      <a:pt x="3157" y="1"/>
                      <a:pt x="3157" y="3"/>
                    </a:cubicBezTo>
                    <a:cubicBezTo>
                      <a:pt x="3157" y="4"/>
                      <a:pt x="3156" y="5"/>
                      <a:pt x="3155" y="5"/>
                    </a:cubicBezTo>
                    <a:lnTo>
                      <a:pt x="3155" y="5"/>
                    </a:lnTo>
                    <a:cubicBezTo>
                      <a:pt x="3154" y="5"/>
                      <a:pt x="3153" y="4"/>
                      <a:pt x="3153" y="3"/>
                    </a:cubicBezTo>
                    <a:cubicBezTo>
                      <a:pt x="3153" y="1"/>
                      <a:pt x="3154" y="1"/>
                      <a:pt x="3155" y="1"/>
                    </a:cubicBezTo>
                    <a:close/>
                    <a:moveTo>
                      <a:pt x="3163" y="1"/>
                    </a:moveTo>
                    <a:lnTo>
                      <a:pt x="3163" y="1"/>
                    </a:lnTo>
                    <a:cubicBezTo>
                      <a:pt x="3164" y="1"/>
                      <a:pt x="3165" y="1"/>
                      <a:pt x="3165" y="3"/>
                    </a:cubicBezTo>
                    <a:cubicBezTo>
                      <a:pt x="3165" y="4"/>
                      <a:pt x="3164" y="5"/>
                      <a:pt x="3163" y="5"/>
                    </a:cubicBezTo>
                    <a:lnTo>
                      <a:pt x="3163" y="5"/>
                    </a:lnTo>
                    <a:cubicBezTo>
                      <a:pt x="3162" y="5"/>
                      <a:pt x="3161" y="4"/>
                      <a:pt x="3161" y="3"/>
                    </a:cubicBezTo>
                    <a:cubicBezTo>
                      <a:pt x="3161" y="1"/>
                      <a:pt x="3162" y="1"/>
                      <a:pt x="3163" y="1"/>
                    </a:cubicBezTo>
                    <a:close/>
                    <a:moveTo>
                      <a:pt x="3171" y="1"/>
                    </a:moveTo>
                    <a:lnTo>
                      <a:pt x="3171" y="1"/>
                    </a:lnTo>
                    <a:cubicBezTo>
                      <a:pt x="3172" y="1"/>
                      <a:pt x="3173" y="1"/>
                      <a:pt x="3173" y="3"/>
                    </a:cubicBezTo>
                    <a:cubicBezTo>
                      <a:pt x="3173" y="4"/>
                      <a:pt x="3172" y="5"/>
                      <a:pt x="3171" y="5"/>
                    </a:cubicBezTo>
                    <a:lnTo>
                      <a:pt x="3171" y="5"/>
                    </a:lnTo>
                    <a:cubicBezTo>
                      <a:pt x="3170" y="5"/>
                      <a:pt x="3169" y="4"/>
                      <a:pt x="3169" y="3"/>
                    </a:cubicBezTo>
                    <a:cubicBezTo>
                      <a:pt x="3169" y="1"/>
                      <a:pt x="3170" y="1"/>
                      <a:pt x="3171" y="1"/>
                    </a:cubicBezTo>
                    <a:close/>
                    <a:moveTo>
                      <a:pt x="3179" y="1"/>
                    </a:moveTo>
                    <a:lnTo>
                      <a:pt x="3179" y="1"/>
                    </a:lnTo>
                    <a:cubicBezTo>
                      <a:pt x="3180" y="1"/>
                      <a:pt x="3181" y="1"/>
                      <a:pt x="3181" y="3"/>
                    </a:cubicBezTo>
                    <a:cubicBezTo>
                      <a:pt x="3181" y="4"/>
                      <a:pt x="3180" y="5"/>
                      <a:pt x="3179" y="5"/>
                    </a:cubicBezTo>
                    <a:lnTo>
                      <a:pt x="3179" y="5"/>
                    </a:lnTo>
                    <a:cubicBezTo>
                      <a:pt x="3178" y="5"/>
                      <a:pt x="3177" y="4"/>
                      <a:pt x="3177" y="3"/>
                    </a:cubicBezTo>
                    <a:cubicBezTo>
                      <a:pt x="3177" y="1"/>
                      <a:pt x="3178" y="1"/>
                      <a:pt x="3179" y="1"/>
                    </a:cubicBezTo>
                    <a:close/>
                    <a:moveTo>
                      <a:pt x="3187" y="1"/>
                    </a:moveTo>
                    <a:lnTo>
                      <a:pt x="3187" y="1"/>
                    </a:lnTo>
                    <a:cubicBezTo>
                      <a:pt x="3188" y="1"/>
                      <a:pt x="3189" y="1"/>
                      <a:pt x="3189" y="3"/>
                    </a:cubicBezTo>
                    <a:cubicBezTo>
                      <a:pt x="3189" y="4"/>
                      <a:pt x="3188" y="5"/>
                      <a:pt x="3187" y="5"/>
                    </a:cubicBezTo>
                    <a:lnTo>
                      <a:pt x="3187" y="5"/>
                    </a:lnTo>
                    <a:cubicBezTo>
                      <a:pt x="3186" y="5"/>
                      <a:pt x="3185" y="4"/>
                      <a:pt x="3185" y="3"/>
                    </a:cubicBezTo>
                    <a:cubicBezTo>
                      <a:pt x="3185" y="1"/>
                      <a:pt x="3186" y="1"/>
                      <a:pt x="3187" y="1"/>
                    </a:cubicBezTo>
                    <a:close/>
                    <a:moveTo>
                      <a:pt x="3195" y="1"/>
                    </a:moveTo>
                    <a:lnTo>
                      <a:pt x="3195" y="1"/>
                    </a:lnTo>
                    <a:cubicBezTo>
                      <a:pt x="3196" y="1"/>
                      <a:pt x="3197" y="1"/>
                      <a:pt x="3197" y="3"/>
                    </a:cubicBezTo>
                    <a:cubicBezTo>
                      <a:pt x="3197" y="4"/>
                      <a:pt x="3196" y="5"/>
                      <a:pt x="3195" y="5"/>
                    </a:cubicBezTo>
                    <a:lnTo>
                      <a:pt x="3195" y="5"/>
                    </a:lnTo>
                    <a:cubicBezTo>
                      <a:pt x="3194" y="5"/>
                      <a:pt x="3193" y="4"/>
                      <a:pt x="3193" y="3"/>
                    </a:cubicBezTo>
                    <a:cubicBezTo>
                      <a:pt x="3193" y="1"/>
                      <a:pt x="3194" y="1"/>
                      <a:pt x="3195" y="1"/>
                    </a:cubicBezTo>
                    <a:close/>
                    <a:moveTo>
                      <a:pt x="3203" y="1"/>
                    </a:moveTo>
                    <a:lnTo>
                      <a:pt x="3203" y="1"/>
                    </a:lnTo>
                    <a:cubicBezTo>
                      <a:pt x="3204" y="1"/>
                      <a:pt x="3205" y="1"/>
                      <a:pt x="3205" y="3"/>
                    </a:cubicBezTo>
                    <a:cubicBezTo>
                      <a:pt x="3205" y="4"/>
                      <a:pt x="3204" y="5"/>
                      <a:pt x="3203" y="5"/>
                    </a:cubicBezTo>
                    <a:lnTo>
                      <a:pt x="3203" y="5"/>
                    </a:lnTo>
                    <a:cubicBezTo>
                      <a:pt x="3202" y="5"/>
                      <a:pt x="3201" y="4"/>
                      <a:pt x="3201" y="3"/>
                    </a:cubicBezTo>
                    <a:cubicBezTo>
                      <a:pt x="3201" y="1"/>
                      <a:pt x="3202" y="1"/>
                      <a:pt x="3203" y="1"/>
                    </a:cubicBezTo>
                    <a:close/>
                    <a:moveTo>
                      <a:pt x="3211" y="1"/>
                    </a:moveTo>
                    <a:lnTo>
                      <a:pt x="3211" y="1"/>
                    </a:lnTo>
                    <a:cubicBezTo>
                      <a:pt x="3212" y="1"/>
                      <a:pt x="3213" y="1"/>
                      <a:pt x="3213" y="3"/>
                    </a:cubicBezTo>
                    <a:cubicBezTo>
                      <a:pt x="3213" y="4"/>
                      <a:pt x="3212" y="5"/>
                      <a:pt x="3211" y="5"/>
                    </a:cubicBezTo>
                    <a:lnTo>
                      <a:pt x="3211" y="5"/>
                    </a:lnTo>
                    <a:cubicBezTo>
                      <a:pt x="3210" y="5"/>
                      <a:pt x="3209" y="4"/>
                      <a:pt x="3209" y="3"/>
                    </a:cubicBezTo>
                    <a:cubicBezTo>
                      <a:pt x="3209" y="1"/>
                      <a:pt x="3210" y="1"/>
                      <a:pt x="3211" y="1"/>
                    </a:cubicBezTo>
                    <a:close/>
                    <a:moveTo>
                      <a:pt x="3219" y="1"/>
                    </a:moveTo>
                    <a:lnTo>
                      <a:pt x="3219" y="1"/>
                    </a:lnTo>
                    <a:cubicBezTo>
                      <a:pt x="3220" y="1"/>
                      <a:pt x="3221" y="1"/>
                      <a:pt x="3221" y="3"/>
                    </a:cubicBezTo>
                    <a:cubicBezTo>
                      <a:pt x="3221" y="4"/>
                      <a:pt x="3220" y="5"/>
                      <a:pt x="3219" y="5"/>
                    </a:cubicBezTo>
                    <a:lnTo>
                      <a:pt x="3219" y="5"/>
                    </a:lnTo>
                    <a:cubicBezTo>
                      <a:pt x="3218" y="5"/>
                      <a:pt x="3217" y="4"/>
                      <a:pt x="3217" y="3"/>
                    </a:cubicBezTo>
                    <a:cubicBezTo>
                      <a:pt x="3217" y="1"/>
                      <a:pt x="3218" y="1"/>
                      <a:pt x="3219" y="1"/>
                    </a:cubicBezTo>
                    <a:close/>
                    <a:moveTo>
                      <a:pt x="3227" y="1"/>
                    </a:moveTo>
                    <a:lnTo>
                      <a:pt x="3227" y="1"/>
                    </a:lnTo>
                    <a:cubicBezTo>
                      <a:pt x="3228" y="1"/>
                      <a:pt x="3229" y="1"/>
                      <a:pt x="3229" y="3"/>
                    </a:cubicBezTo>
                    <a:cubicBezTo>
                      <a:pt x="3229" y="4"/>
                      <a:pt x="3228" y="5"/>
                      <a:pt x="3227" y="5"/>
                    </a:cubicBezTo>
                    <a:lnTo>
                      <a:pt x="3227" y="5"/>
                    </a:lnTo>
                    <a:cubicBezTo>
                      <a:pt x="3226" y="5"/>
                      <a:pt x="3225" y="4"/>
                      <a:pt x="3225" y="3"/>
                    </a:cubicBezTo>
                    <a:cubicBezTo>
                      <a:pt x="3225" y="1"/>
                      <a:pt x="3226" y="1"/>
                      <a:pt x="3227" y="1"/>
                    </a:cubicBezTo>
                    <a:close/>
                    <a:moveTo>
                      <a:pt x="3235" y="1"/>
                    </a:moveTo>
                    <a:lnTo>
                      <a:pt x="3235" y="1"/>
                    </a:lnTo>
                    <a:cubicBezTo>
                      <a:pt x="3236" y="1"/>
                      <a:pt x="3237" y="1"/>
                      <a:pt x="3237" y="3"/>
                    </a:cubicBezTo>
                    <a:cubicBezTo>
                      <a:pt x="3237" y="4"/>
                      <a:pt x="3236" y="5"/>
                      <a:pt x="3235" y="5"/>
                    </a:cubicBezTo>
                    <a:lnTo>
                      <a:pt x="3235" y="5"/>
                    </a:lnTo>
                    <a:cubicBezTo>
                      <a:pt x="3234" y="5"/>
                      <a:pt x="3233" y="4"/>
                      <a:pt x="3233" y="3"/>
                    </a:cubicBezTo>
                    <a:cubicBezTo>
                      <a:pt x="3233" y="1"/>
                      <a:pt x="3234" y="1"/>
                      <a:pt x="3235" y="1"/>
                    </a:cubicBezTo>
                    <a:close/>
                    <a:moveTo>
                      <a:pt x="3243" y="1"/>
                    </a:moveTo>
                    <a:lnTo>
                      <a:pt x="3243" y="1"/>
                    </a:lnTo>
                    <a:cubicBezTo>
                      <a:pt x="3244" y="1"/>
                      <a:pt x="3245" y="1"/>
                      <a:pt x="3245" y="3"/>
                    </a:cubicBezTo>
                    <a:cubicBezTo>
                      <a:pt x="3245" y="4"/>
                      <a:pt x="3244" y="5"/>
                      <a:pt x="3243" y="5"/>
                    </a:cubicBezTo>
                    <a:lnTo>
                      <a:pt x="3243" y="5"/>
                    </a:lnTo>
                    <a:cubicBezTo>
                      <a:pt x="3242" y="5"/>
                      <a:pt x="3241" y="4"/>
                      <a:pt x="3241" y="3"/>
                    </a:cubicBezTo>
                    <a:cubicBezTo>
                      <a:pt x="3241" y="1"/>
                      <a:pt x="3242" y="1"/>
                      <a:pt x="3243" y="1"/>
                    </a:cubicBezTo>
                    <a:close/>
                    <a:moveTo>
                      <a:pt x="3251" y="1"/>
                    </a:moveTo>
                    <a:lnTo>
                      <a:pt x="3251" y="1"/>
                    </a:lnTo>
                    <a:cubicBezTo>
                      <a:pt x="3252" y="1"/>
                      <a:pt x="3253" y="1"/>
                      <a:pt x="3253" y="3"/>
                    </a:cubicBezTo>
                    <a:cubicBezTo>
                      <a:pt x="3253" y="4"/>
                      <a:pt x="3252" y="5"/>
                      <a:pt x="3251" y="5"/>
                    </a:cubicBezTo>
                    <a:lnTo>
                      <a:pt x="3251" y="5"/>
                    </a:lnTo>
                    <a:cubicBezTo>
                      <a:pt x="3250" y="5"/>
                      <a:pt x="3249" y="4"/>
                      <a:pt x="3249" y="3"/>
                    </a:cubicBezTo>
                    <a:cubicBezTo>
                      <a:pt x="3249" y="1"/>
                      <a:pt x="3250" y="1"/>
                      <a:pt x="3251" y="1"/>
                    </a:cubicBezTo>
                    <a:close/>
                    <a:moveTo>
                      <a:pt x="3259" y="1"/>
                    </a:moveTo>
                    <a:lnTo>
                      <a:pt x="3259" y="1"/>
                    </a:lnTo>
                    <a:cubicBezTo>
                      <a:pt x="3261" y="1"/>
                      <a:pt x="3261" y="1"/>
                      <a:pt x="3261" y="3"/>
                    </a:cubicBezTo>
                    <a:cubicBezTo>
                      <a:pt x="3261" y="4"/>
                      <a:pt x="3261" y="5"/>
                      <a:pt x="3259" y="5"/>
                    </a:cubicBezTo>
                    <a:lnTo>
                      <a:pt x="3259" y="5"/>
                    </a:lnTo>
                    <a:cubicBezTo>
                      <a:pt x="3258" y="5"/>
                      <a:pt x="3257" y="4"/>
                      <a:pt x="3257" y="3"/>
                    </a:cubicBezTo>
                    <a:cubicBezTo>
                      <a:pt x="3257" y="1"/>
                      <a:pt x="3258" y="1"/>
                      <a:pt x="3259" y="1"/>
                    </a:cubicBezTo>
                    <a:close/>
                    <a:moveTo>
                      <a:pt x="3267" y="1"/>
                    </a:moveTo>
                    <a:lnTo>
                      <a:pt x="3267" y="1"/>
                    </a:lnTo>
                    <a:cubicBezTo>
                      <a:pt x="3269" y="1"/>
                      <a:pt x="3269" y="1"/>
                      <a:pt x="3269" y="3"/>
                    </a:cubicBezTo>
                    <a:cubicBezTo>
                      <a:pt x="3269" y="4"/>
                      <a:pt x="3269" y="5"/>
                      <a:pt x="3267" y="5"/>
                    </a:cubicBezTo>
                    <a:lnTo>
                      <a:pt x="3267" y="5"/>
                    </a:lnTo>
                    <a:cubicBezTo>
                      <a:pt x="3266" y="5"/>
                      <a:pt x="3265" y="4"/>
                      <a:pt x="3265" y="3"/>
                    </a:cubicBezTo>
                    <a:cubicBezTo>
                      <a:pt x="3265" y="1"/>
                      <a:pt x="3266" y="1"/>
                      <a:pt x="3267" y="1"/>
                    </a:cubicBezTo>
                    <a:close/>
                    <a:moveTo>
                      <a:pt x="3275" y="1"/>
                    </a:moveTo>
                    <a:lnTo>
                      <a:pt x="3275" y="1"/>
                    </a:lnTo>
                    <a:cubicBezTo>
                      <a:pt x="3277" y="1"/>
                      <a:pt x="3277" y="1"/>
                      <a:pt x="3277" y="3"/>
                    </a:cubicBezTo>
                    <a:cubicBezTo>
                      <a:pt x="3277" y="4"/>
                      <a:pt x="3277" y="5"/>
                      <a:pt x="3275" y="5"/>
                    </a:cubicBezTo>
                    <a:lnTo>
                      <a:pt x="3275" y="5"/>
                    </a:lnTo>
                    <a:cubicBezTo>
                      <a:pt x="3274" y="5"/>
                      <a:pt x="3273" y="4"/>
                      <a:pt x="3273" y="3"/>
                    </a:cubicBezTo>
                    <a:cubicBezTo>
                      <a:pt x="3273" y="1"/>
                      <a:pt x="3274" y="1"/>
                      <a:pt x="3275" y="1"/>
                    </a:cubicBezTo>
                    <a:close/>
                    <a:moveTo>
                      <a:pt x="3283" y="1"/>
                    </a:moveTo>
                    <a:lnTo>
                      <a:pt x="3283" y="1"/>
                    </a:lnTo>
                    <a:cubicBezTo>
                      <a:pt x="3285" y="1"/>
                      <a:pt x="3285" y="1"/>
                      <a:pt x="3285" y="3"/>
                    </a:cubicBezTo>
                    <a:cubicBezTo>
                      <a:pt x="3285" y="4"/>
                      <a:pt x="3285" y="5"/>
                      <a:pt x="3283" y="5"/>
                    </a:cubicBezTo>
                    <a:lnTo>
                      <a:pt x="3283" y="5"/>
                    </a:lnTo>
                    <a:cubicBezTo>
                      <a:pt x="3282" y="5"/>
                      <a:pt x="3281" y="4"/>
                      <a:pt x="3281" y="3"/>
                    </a:cubicBezTo>
                    <a:cubicBezTo>
                      <a:pt x="3281" y="1"/>
                      <a:pt x="3282" y="1"/>
                      <a:pt x="3283" y="1"/>
                    </a:cubicBezTo>
                    <a:close/>
                    <a:moveTo>
                      <a:pt x="3291" y="1"/>
                    </a:moveTo>
                    <a:lnTo>
                      <a:pt x="3291" y="1"/>
                    </a:lnTo>
                    <a:cubicBezTo>
                      <a:pt x="3293" y="1"/>
                      <a:pt x="3293" y="1"/>
                      <a:pt x="3293" y="3"/>
                    </a:cubicBezTo>
                    <a:cubicBezTo>
                      <a:pt x="3293" y="4"/>
                      <a:pt x="3293" y="5"/>
                      <a:pt x="3291" y="5"/>
                    </a:cubicBezTo>
                    <a:lnTo>
                      <a:pt x="3291" y="5"/>
                    </a:lnTo>
                    <a:cubicBezTo>
                      <a:pt x="3290" y="5"/>
                      <a:pt x="3289" y="4"/>
                      <a:pt x="3289" y="3"/>
                    </a:cubicBezTo>
                    <a:cubicBezTo>
                      <a:pt x="3289" y="1"/>
                      <a:pt x="3290" y="1"/>
                      <a:pt x="3291" y="1"/>
                    </a:cubicBezTo>
                    <a:close/>
                    <a:moveTo>
                      <a:pt x="3299" y="1"/>
                    </a:moveTo>
                    <a:lnTo>
                      <a:pt x="3299" y="1"/>
                    </a:lnTo>
                    <a:cubicBezTo>
                      <a:pt x="3301" y="1"/>
                      <a:pt x="3301" y="1"/>
                      <a:pt x="3301" y="3"/>
                    </a:cubicBezTo>
                    <a:cubicBezTo>
                      <a:pt x="3301" y="4"/>
                      <a:pt x="3301" y="5"/>
                      <a:pt x="3299" y="5"/>
                    </a:cubicBezTo>
                    <a:lnTo>
                      <a:pt x="3299" y="5"/>
                    </a:lnTo>
                    <a:cubicBezTo>
                      <a:pt x="3298" y="5"/>
                      <a:pt x="3297" y="4"/>
                      <a:pt x="3297" y="3"/>
                    </a:cubicBezTo>
                    <a:cubicBezTo>
                      <a:pt x="3297" y="1"/>
                      <a:pt x="3298" y="1"/>
                      <a:pt x="3299" y="1"/>
                    </a:cubicBezTo>
                    <a:close/>
                    <a:moveTo>
                      <a:pt x="3307" y="1"/>
                    </a:moveTo>
                    <a:lnTo>
                      <a:pt x="3307" y="1"/>
                    </a:lnTo>
                    <a:cubicBezTo>
                      <a:pt x="3309" y="1"/>
                      <a:pt x="3309" y="1"/>
                      <a:pt x="3309" y="3"/>
                    </a:cubicBezTo>
                    <a:cubicBezTo>
                      <a:pt x="3309" y="4"/>
                      <a:pt x="3309" y="5"/>
                      <a:pt x="3307" y="5"/>
                    </a:cubicBezTo>
                    <a:lnTo>
                      <a:pt x="3307" y="5"/>
                    </a:lnTo>
                    <a:cubicBezTo>
                      <a:pt x="3306" y="5"/>
                      <a:pt x="3305" y="4"/>
                      <a:pt x="3305" y="3"/>
                    </a:cubicBezTo>
                    <a:cubicBezTo>
                      <a:pt x="3305" y="1"/>
                      <a:pt x="3306" y="1"/>
                      <a:pt x="3307" y="1"/>
                    </a:cubicBezTo>
                    <a:close/>
                    <a:moveTo>
                      <a:pt x="3315" y="1"/>
                    </a:moveTo>
                    <a:lnTo>
                      <a:pt x="3315" y="1"/>
                    </a:lnTo>
                    <a:cubicBezTo>
                      <a:pt x="3317" y="1"/>
                      <a:pt x="3317" y="1"/>
                      <a:pt x="3317" y="3"/>
                    </a:cubicBezTo>
                    <a:cubicBezTo>
                      <a:pt x="3317" y="4"/>
                      <a:pt x="3317" y="5"/>
                      <a:pt x="3315" y="5"/>
                    </a:cubicBezTo>
                    <a:lnTo>
                      <a:pt x="3315" y="5"/>
                    </a:lnTo>
                    <a:cubicBezTo>
                      <a:pt x="3314" y="5"/>
                      <a:pt x="3313" y="4"/>
                      <a:pt x="3313" y="3"/>
                    </a:cubicBezTo>
                    <a:cubicBezTo>
                      <a:pt x="3313" y="1"/>
                      <a:pt x="3314" y="1"/>
                      <a:pt x="3315" y="1"/>
                    </a:cubicBezTo>
                    <a:close/>
                    <a:moveTo>
                      <a:pt x="3323" y="1"/>
                    </a:moveTo>
                    <a:lnTo>
                      <a:pt x="3323" y="1"/>
                    </a:lnTo>
                    <a:cubicBezTo>
                      <a:pt x="3325" y="1"/>
                      <a:pt x="3325" y="1"/>
                      <a:pt x="3325" y="3"/>
                    </a:cubicBezTo>
                    <a:cubicBezTo>
                      <a:pt x="3325" y="4"/>
                      <a:pt x="3325" y="5"/>
                      <a:pt x="3323" y="5"/>
                    </a:cubicBezTo>
                    <a:lnTo>
                      <a:pt x="3323" y="5"/>
                    </a:lnTo>
                    <a:cubicBezTo>
                      <a:pt x="3322" y="5"/>
                      <a:pt x="3321" y="4"/>
                      <a:pt x="3321" y="3"/>
                    </a:cubicBezTo>
                    <a:cubicBezTo>
                      <a:pt x="3321" y="1"/>
                      <a:pt x="3322" y="1"/>
                      <a:pt x="3323" y="1"/>
                    </a:cubicBezTo>
                    <a:close/>
                    <a:moveTo>
                      <a:pt x="3331" y="1"/>
                    </a:moveTo>
                    <a:lnTo>
                      <a:pt x="3331" y="1"/>
                    </a:lnTo>
                    <a:cubicBezTo>
                      <a:pt x="3333" y="1"/>
                      <a:pt x="3333" y="1"/>
                      <a:pt x="3333" y="3"/>
                    </a:cubicBezTo>
                    <a:cubicBezTo>
                      <a:pt x="3333" y="4"/>
                      <a:pt x="3333" y="5"/>
                      <a:pt x="3331" y="5"/>
                    </a:cubicBezTo>
                    <a:lnTo>
                      <a:pt x="3331" y="5"/>
                    </a:lnTo>
                    <a:cubicBezTo>
                      <a:pt x="3330" y="5"/>
                      <a:pt x="3329" y="4"/>
                      <a:pt x="3329" y="3"/>
                    </a:cubicBezTo>
                    <a:cubicBezTo>
                      <a:pt x="3329" y="1"/>
                      <a:pt x="3330" y="1"/>
                      <a:pt x="3331" y="1"/>
                    </a:cubicBezTo>
                    <a:close/>
                    <a:moveTo>
                      <a:pt x="3339" y="1"/>
                    </a:moveTo>
                    <a:lnTo>
                      <a:pt x="3339" y="1"/>
                    </a:lnTo>
                    <a:cubicBezTo>
                      <a:pt x="3341" y="1"/>
                      <a:pt x="3341" y="1"/>
                      <a:pt x="3341" y="3"/>
                    </a:cubicBezTo>
                    <a:cubicBezTo>
                      <a:pt x="3341" y="4"/>
                      <a:pt x="3341" y="5"/>
                      <a:pt x="3339" y="5"/>
                    </a:cubicBezTo>
                    <a:lnTo>
                      <a:pt x="3339" y="5"/>
                    </a:lnTo>
                    <a:cubicBezTo>
                      <a:pt x="3338" y="5"/>
                      <a:pt x="3337" y="4"/>
                      <a:pt x="3337" y="3"/>
                    </a:cubicBezTo>
                    <a:cubicBezTo>
                      <a:pt x="3337" y="1"/>
                      <a:pt x="3338" y="1"/>
                      <a:pt x="3339" y="1"/>
                    </a:cubicBezTo>
                    <a:close/>
                    <a:moveTo>
                      <a:pt x="3347" y="1"/>
                    </a:moveTo>
                    <a:lnTo>
                      <a:pt x="3347" y="1"/>
                    </a:lnTo>
                    <a:cubicBezTo>
                      <a:pt x="3349" y="1"/>
                      <a:pt x="3349" y="1"/>
                      <a:pt x="3349" y="3"/>
                    </a:cubicBezTo>
                    <a:cubicBezTo>
                      <a:pt x="3349" y="4"/>
                      <a:pt x="3349" y="5"/>
                      <a:pt x="3347" y="5"/>
                    </a:cubicBezTo>
                    <a:lnTo>
                      <a:pt x="3347" y="5"/>
                    </a:lnTo>
                    <a:cubicBezTo>
                      <a:pt x="3346" y="5"/>
                      <a:pt x="3345" y="4"/>
                      <a:pt x="3345" y="3"/>
                    </a:cubicBezTo>
                    <a:cubicBezTo>
                      <a:pt x="3345" y="1"/>
                      <a:pt x="3346" y="1"/>
                      <a:pt x="3347" y="1"/>
                    </a:cubicBezTo>
                    <a:close/>
                    <a:moveTo>
                      <a:pt x="3355" y="1"/>
                    </a:moveTo>
                    <a:lnTo>
                      <a:pt x="3355" y="1"/>
                    </a:lnTo>
                    <a:cubicBezTo>
                      <a:pt x="3357" y="1"/>
                      <a:pt x="3357" y="1"/>
                      <a:pt x="3357" y="3"/>
                    </a:cubicBezTo>
                    <a:cubicBezTo>
                      <a:pt x="3357" y="4"/>
                      <a:pt x="3357" y="5"/>
                      <a:pt x="3355" y="5"/>
                    </a:cubicBezTo>
                    <a:lnTo>
                      <a:pt x="3355" y="5"/>
                    </a:lnTo>
                    <a:cubicBezTo>
                      <a:pt x="3354" y="5"/>
                      <a:pt x="3353" y="4"/>
                      <a:pt x="3353" y="3"/>
                    </a:cubicBezTo>
                    <a:cubicBezTo>
                      <a:pt x="3353" y="1"/>
                      <a:pt x="3354" y="1"/>
                      <a:pt x="3355" y="1"/>
                    </a:cubicBezTo>
                    <a:close/>
                    <a:moveTo>
                      <a:pt x="3363" y="1"/>
                    </a:moveTo>
                    <a:lnTo>
                      <a:pt x="3363" y="1"/>
                    </a:lnTo>
                    <a:cubicBezTo>
                      <a:pt x="3365" y="1"/>
                      <a:pt x="3365" y="1"/>
                      <a:pt x="3365" y="3"/>
                    </a:cubicBezTo>
                    <a:cubicBezTo>
                      <a:pt x="3365" y="4"/>
                      <a:pt x="3365" y="5"/>
                      <a:pt x="3363" y="5"/>
                    </a:cubicBezTo>
                    <a:lnTo>
                      <a:pt x="3363" y="5"/>
                    </a:lnTo>
                    <a:cubicBezTo>
                      <a:pt x="3362" y="5"/>
                      <a:pt x="3361" y="4"/>
                      <a:pt x="3361" y="3"/>
                    </a:cubicBezTo>
                    <a:cubicBezTo>
                      <a:pt x="3361" y="1"/>
                      <a:pt x="3362" y="1"/>
                      <a:pt x="3363" y="1"/>
                    </a:cubicBezTo>
                    <a:close/>
                    <a:moveTo>
                      <a:pt x="3371" y="1"/>
                    </a:moveTo>
                    <a:lnTo>
                      <a:pt x="3371" y="1"/>
                    </a:lnTo>
                    <a:cubicBezTo>
                      <a:pt x="3373" y="1"/>
                      <a:pt x="3373" y="2"/>
                      <a:pt x="3373" y="3"/>
                    </a:cubicBezTo>
                    <a:cubicBezTo>
                      <a:pt x="3373" y="4"/>
                      <a:pt x="3373" y="5"/>
                      <a:pt x="3371" y="5"/>
                    </a:cubicBezTo>
                    <a:lnTo>
                      <a:pt x="3371" y="5"/>
                    </a:lnTo>
                    <a:cubicBezTo>
                      <a:pt x="3370" y="5"/>
                      <a:pt x="3369" y="4"/>
                      <a:pt x="3369" y="3"/>
                    </a:cubicBezTo>
                    <a:cubicBezTo>
                      <a:pt x="3369" y="2"/>
                      <a:pt x="3370" y="1"/>
                      <a:pt x="3371" y="1"/>
                    </a:cubicBezTo>
                    <a:close/>
                    <a:moveTo>
                      <a:pt x="3379" y="1"/>
                    </a:moveTo>
                    <a:lnTo>
                      <a:pt x="3379" y="1"/>
                    </a:lnTo>
                    <a:cubicBezTo>
                      <a:pt x="3381" y="1"/>
                      <a:pt x="3381" y="2"/>
                      <a:pt x="3381" y="3"/>
                    </a:cubicBezTo>
                    <a:cubicBezTo>
                      <a:pt x="3381" y="4"/>
                      <a:pt x="3381" y="5"/>
                      <a:pt x="3379" y="5"/>
                    </a:cubicBezTo>
                    <a:lnTo>
                      <a:pt x="3379" y="5"/>
                    </a:lnTo>
                    <a:cubicBezTo>
                      <a:pt x="3378" y="5"/>
                      <a:pt x="3377" y="4"/>
                      <a:pt x="3377" y="3"/>
                    </a:cubicBezTo>
                    <a:cubicBezTo>
                      <a:pt x="3377" y="2"/>
                      <a:pt x="3378" y="1"/>
                      <a:pt x="3379" y="1"/>
                    </a:cubicBezTo>
                    <a:close/>
                    <a:moveTo>
                      <a:pt x="3387" y="1"/>
                    </a:moveTo>
                    <a:lnTo>
                      <a:pt x="3387" y="1"/>
                    </a:lnTo>
                    <a:cubicBezTo>
                      <a:pt x="3389" y="1"/>
                      <a:pt x="3389" y="2"/>
                      <a:pt x="3389" y="3"/>
                    </a:cubicBezTo>
                    <a:cubicBezTo>
                      <a:pt x="3389" y="4"/>
                      <a:pt x="3389" y="5"/>
                      <a:pt x="3387" y="5"/>
                    </a:cubicBezTo>
                    <a:lnTo>
                      <a:pt x="3387" y="5"/>
                    </a:lnTo>
                    <a:cubicBezTo>
                      <a:pt x="3386" y="5"/>
                      <a:pt x="3385" y="4"/>
                      <a:pt x="3385" y="3"/>
                    </a:cubicBezTo>
                    <a:cubicBezTo>
                      <a:pt x="3385" y="2"/>
                      <a:pt x="3386" y="1"/>
                      <a:pt x="3387" y="1"/>
                    </a:cubicBezTo>
                    <a:close/>
                    <a:moveTo>
                      <a:pt x="3395" y="1"/>
                    </a:moveTo>
                    <a:lnTo>
                      <a:pt x="3395" y="1"/>
                    </a:lnTo>
                    <a:cubicBezTo>
                      <a:pt x="3397" y="1"/>
                      <a:pt x="3397" y="2"/>
                      <a:pt x="3397" y="3"/>
                    </a:cubicBezTo>
                    <a:cubicBezTo>
                      <a:pt x="3397" y="4"/>
                      <a:pt x="3397" y="5"/>
                      <a:pt x="3395" y="5"/>
                    </a:cubicBezTo>
                    <a:lnTo>
                      <a:pt x="3395" y="5"/>
                    </a:lnTo>
                    <a:cubicBezTo>
                      <a:pt x="3394" y="5"/>
                      <a:pt x="3393" y="4"/>
                      <a:pt x="3393" y="3"/>
                    </a:cubicBezTo>
                    <a:cubicBezTo>
                      <a:pt x="3393" y="2"/>
                      <a:pt x="3394" y="1"/>
                      <a:pt x="3395" y="1"/>
                    </a:cubicBezTo>
                    <a:close/>
                    <a:moveTo>
                      <a:pt x="3403" y="1"/>
                    </a:moveTo>
                    <a:lnTo>
                      <a:pt x="3403" y="1"/>
                    </a:lnTo>
                    <a:cubicBezTo>
                      <a:pt x="3405" y="1"/>
                      <a:pt x="3405" y="2"/>
                      <a:pt x="3405" y="3"/>
                    </a:cubicBezTo>
                    <a:cubicBezTo>
                      <a:pt x="3405" y="4"/>
                      <a:pt x="3405" y="5"/>
                      <a:pt x="3403" y="5"/>
                    </a:cubicBezTo>
                    <a:lnTo>
                      <a:pt x="3403" y="5"/>
                    </a:lnTo>
                    <a:cubicBezTo>
                      <a:pt x="3402" y="5"/>
                      <a:pt x="3401" y="4"/>
                      <a:pt x="3401" y="3"/>
                    </a:cubicBezTo>
                    <a:cubicBezTo>
                      <a:pt x="3401" y="2"/>
                      <a:pt x="3402" y="1"/>
                      <a:pt x="3403" y="1"/>
                    </a:cubicBezTo>
                    <a:close/>
                    <a:moveTo>
                      <a:pt x="3411" y="1"/>
                    </a:moveTo>
                    <a:lnTo>
                      <a:pt x="3411" y="1"/>
                    </a:lnTo>
                    <a:cubicBezTo>
                      <a:pt x="3413" y="1"/>
                      <a:pt x="3413" y="2"/>
                      <a:pt x="3413" y="3"/>
                    </a:cubicBezTo>
                    <a:cubicBezTo>
                      <a:pt x="3413" y="4"/>
                      <a:pt x="3413" y="5"/>
                      <a:pt x="3411" y="5"/>
                    </a:cubicBezTo>
                    <a:lnTo>
                      <a:pt x="3411" y="5"/>
                    </a:lnTo>
                    <a:cubicBezTo>
                      <a:pt x="3410" y="5"/>
                      <a:pt x="3409" y="4"/>
                      <a:pt x="3409" y="3"/>
                    </a:cubicBezTo>
                    <a:cubicBezTo>
                      <a:pt x="3409" y="2"/>
                      <a:pt x="3410" y="1"/>
                      <a:pt x="3411" y="1"/>
                    </a:cubicBezTo>
                    <a:close/>
                    <a:moveTo>
                      <a:pt x="3419" y="1"/>
                    </a:moveTo>
                    <a:lnTo>
                      <a:pt x="3419" y="1"/>
                    </a:lnTo>
                    <a:cubicBezTo>
                      <a:pt x="3421" y="1"/>
                      <a:pt x="3421" y="2"/>
                      <a:pt x="3421" y="3"/>
                    </a:cubicBezTo>
                    <a:cubicBezTo>
                      <a:pt x="3421" y="4"/>
                      <a:pt x="3421" y="5"/>
                      <a:pt x="3419" y="5"/>
                    </a:cubicBezTo>
                    <a:lnTo>
                      <a:pt x="3419" y="5"/>
                    </a:lnTo>
                    <a:cubicBezTo>
                      <a:pt x="3418" y="5"/>
                      <a:pt x="3417" y="4"/>
                      <a:pt x="3417" y="3"/>
                    </a:cubicBezTo>
                    <a:cubicBezTo>
                      <a:pt x="3417" y="2"/>
                      <a:pt x="3418" y="1"/>
                      <a:pt x="3419" y="1"/>
                    </a:cubicBezTo>
                    <a:close/>
                    <a:moveTo>
                      <a:pt x="3427" y="1"/>
                    </a:moveTo>
                    <a:lnTo>
                      <a:pt x="3427" y="1"/>
                    </a:lnTo>
                    <a:cubicBezTo>
                      <a:pt x="3429" y="1"/>
                      <a:pt x="3429" y="2"/>
                      <a:pt x="3429" y="3"/>
                    </a:cubicBezTo>
                    <a:cubicBezTo>
                      <a:pt x="3429" y="4"/>
                      <a:pt x="3429" y="5"/>
                      <a:pt x="3427" y="5"/>
                    </a:cubicBezTo>
                    <a:lnTo>
                      <a:pt x="3427" y="5"/>
                    </a:lnTo>
                    <a:cubicBezTo>
                      <a:pt x="3426" y="5"/>
                      <a:pt x="3425" y="4"/>
                      <a:pt x="3425" y="3"/>
                    </a:cubicBezTo>
                    <a:cubicBezTo>
                      <a:pt x="3425" y="2"/>
                      <a:pt x="3426" y="1"/>
                      <a:pt x="3427" y="1"/>
                    </a:cubicBezTo>
                    <a:close/>
                    <a:moveTo>
                      <a:pt x="3435" y="1"/>
                    </a:moveTo>
                    <a:lnTo>
                      <a:pt x="3435" y="1"/>
                    </a:lnTo>
                    <a:cubicBezTo>
                      <a:pt x="3437" y="1"/>
                      <a:pt x="3437" y="2"/>
                      <a:pt x="3437" y="3"/>
                    </a:cubicBezTo>
                    <a:cubicBezTo>
                      <a:pt x="3437" y="4"/>
                      <a:pt x="3437" y="5"/>
                      <a:pt x="3435" y="5"/>
                    </a:cubicBezTo>
                    <a:lnTo>
                      <a:pt x="3435" y="5"/>
                    </a:lnTo>
                    <a:cubicBezTo>
                      <a:pt x="3434" y="5"/>
                      <a:pt x="3433" y="4"/>
                      <a:pt x="3433" y="3"/>
                    </a:cubicBezTo>
                    <a:cubicBezTo>
                      <a:pt x="3433" y="2"/>
                      <a:pt x="3434" y="1"/>
                      <a:pt x="3435" y="1"/>
                    </a:cubicBezTo>
                    <a:close/>
                    <a:moveTo>
                      <a:pt x="3443" y="1"/>
                    </a:moveTo>
                    <a:lnTo>
                      <a:pt x="3443" y="1"/>
                    </a:lnTo>
                    <a:cubicBezTo>
                      <a:pt x="3445" y="1"/>
                      <a:pt x="3445" y="2"/>
                      <a:pt x="3445" y="3"/>
                    </a:cubicBezTo>
                    <a:cubicBezTo>
                      <a:pt x="3445" y="4"/>
                      <a:pt x="3445" y="5"/>
                      <a:pt x="3443" y="5"/>
                    </a:cubicBezTo>
                    <a:lnTo>
                      <a:pt x="3443" y="5"/>
                    </a:lnTo>
                    <a:cubicBezTo>
                      <a:pt x="3442" y="5"/>
                      <a:pt x="3441" y="4"/>
                      <a:pt x="3441" y="3"/>
                    </a:cubicBezTo>
                    <a:cubicBezTo>
                      <a:pt x="3441" y="2"/>
                      <a:pt x="3442" y="1"/>
                      <a:pt x="3443" y="1"/>
                    </a:cubicBezTo>
                    <a:close/>
                    <a:moveTo>
                      <a:pt x="3451" y="1"/>
                    </a:moveTo>
                    <a:lnTo>
                      <a:pt x="3451" y="1"/>
                    </a:lnTo>
                    <a:cubicBezTo>
                      <a:pt x="3453" y="1"/>
                      <a:pt x="3453" y="2"/>
                      <a:pt x="3453" y="3"/>
                    </a:cubicBezTo>
                    <a:cubicBezTo>
                      <a:pt x="3453" y="4"/>
                      <a:pt x="3453" y="5"/>
                      <a:pt x="3451" y="5"/>
                    </a:cubicBezTo>
                    <a:lnTo>
                      <a:pt x="3451" y="5"/>
                    </a:lnTo>
                    <a:cubicBezTo>
                      <a:pt x="3450" y="5"/>
                      <a:pt x="3449" y="4"/>
                      <a:pt x="3449" y="3"/>
                    </a:cubicBezTo>
                    <a:cubicBezTo>
                      <a:pt x="3449" y="2"/>
                      <a:pt x="3450" y="1"/>
                      <a:pt x="3451" y="1"/>
                    </a:cubicBezTo>
                    <a:close/>
                    <a:moveTo>
                      <a:pt x="3459" y="1"/>
                    </a:moveTo>
                    <a:lnTo>
                      <a:pt x="3459" y="1"/>
                    </a:lnTo>
                    <a:cubicBezTo>
                      <a:pt x="3461" y="1"/>
                      <a:pt x="3461" y="2"/>
                      <a:pt x="3461" y="3"/>
                    </a:cubicBezTo>
                    <a:cubicBezTo>
                      <a:pt x="3461" y="4"/>
                      <a:pt x="3461" y="5"/>
                      <a:pt x="3459" y="5"/>
                    </a:cubicBezTo>
                    <a:lnTo>
                      <a:pt x="3459" y="5"/>
                    </a:lnTo>
                    <a:cubicBezTo>
                      <a:pt x="3458" y="5"/>
                      <a:pt x="3457" y="4"/>
                      <a:pt x="3457" y="3"/>
                    </a:cubicBezTo>
                    <a:cubicBezTo>
                      <a:pt x="3457" y="2"/>
                      <a:pt x="3458" y="1"/>
                      <a:pt x="3459" y="1"/>
                    </a:cubicBezTo>
                    <a:close/>
                    <a:moveTo>
                      <a:pt x="3467" y="1"/>
                    </a:moveTo>
                    <a:lnTo>
                      <a:pt x="3467" y="1"/>
                    </a:lnTo>
                    <a:cubicBezTo>
                      <a:pt x="3469" y="1"/>
                      <a:pt x="3469" y="2"/>
                      <a:pt x="3469" y="3"/>
                    </a:cubicBezTo>
                    <a:cubicBezTo>
                      <a:pt x="3469" y="4"/>
                      <a:pt x="3469" y="5"/>
                      <a:pt x="3467" y="5"/>
                    </a:cubicBezTo>
                    <a:lnTo>
                      <a:pt x="3467" y="5"/>
                    </a:lnTo>
                    <a:cubicBezTo>
                      <a:pt x="3466" y="5"/>
                      <a:pt x="3465" y="4"/>
                      <a:pt x="3465" y="3"/>
                    </a:cubicBezTo>
                    <a:cubicBezTo>
                      <a:pt x="3465" y="2"/>
                      <a:pt x="3466" y="1"/>
                      <a:pt x="3467" y="1"/>
                    </a:cubicBezTo>
                    <a:close/>
                    <a:moveTo>
                      <a:pt x="3475" y="1"/>
                    </a:moveTo>
                    <a:lnTo>
                      <a:pt x="3476" y="1"/>
                    </a:lnTo>
                    <a:cubicBezTo>
                      <a:pt x="3477" y="1"/>
                      <a:pt x="3478" y="2"/>
                      <a:pt x="3478" y="3"/>
                    </a:cubicBezTo>
                    <a:cubicBezTo>
                      <a:pt x="3478" y="4"/>
                      <a:pt x="3477" y="5"/>
                      <a:pt x="3476" y="5"/>
                    </a:cubicBezTo>
                    <a:lnTo>
                      <a:pt x="3475" y="5"/>
                    </a:lnTo>
                    <a:cubicBezTo>
                      <a:pt x="3474" y="5"/>
                      <a:pt x="3473" y="4"/>
                      <a:pt x="3473" y="3"/>
                    </a:cubicBezTo>
                    <a:cubicBezTo>
                      <a:pt x="3473" y="2"/>
                      <a:pt x="3474" y="1"/>
                      <a:pt x="3475" y="1"/>
                    </a:cubicBezTo>
                    <a:close/>
                    <a:moveTo>
                      <a:pt x="3484" y="1"/>
                    </a:moveTo>
                    <a:lnTo>
                      <a:pt x="3484" y="1"/>
                    </a:lnTo>
                    <a:cubicBezTo>
                      <a:pt x="3485" y="1"/>
                      <a:pt x="3486" y="2"/>
                      <a:pt x="3486" y="3"/>
                    </a:cubicBezTo>
                    <a:cubicBezTo>
                      <a:pt x="3486" y="4"/>
                      <a:pt x="3485" y="5"/>
                      <a:pt x="3484" y="5"/>
                    </a:cubicBezTo>
                    <a:lnTo>
                      <a:pt x="3484" y="5"/>
                    </a:lnTo>
                    <a:cubicBezTo>
                      <a:pt x="3482" y="5"/>
                      <a:pt x="3482" y="4"/>
                      <a:pt x="3482" y="3"/>
                    </a:cubicBezTo>
                    <a:cubicBezTo>
                      <a:pt x="3482" y="2"/>
                      <a:pt x="3482" y="1"/>
                      <a:pt x="3484" y="1"/>
                    </a:cubicBezTo>
                    <a:close/>
                    <a:moveTo>
                      <a:pt x="3492" y="1"/>
                    </a:moveTo>
                    <a:lnTo>
                      <a:pt x="3492" y="1"/>
                    </a:lnTo>
                    <a:cubicBezTo>
                      <a:pt x="3493" y="1"/>
                      <a:pt x="3494" y="2"/>
                      <a:pt x="3494" y="3"/>
                    </a:cubicBezTo>
                    <a:cubicBezTo>
                      <a:pt x="3494" y="4"/>
                      <a:pt x="3493" y="5"/>
                      <a:pt x="3492" y="5"/>
                    </a:cubicBezTo>
                    <a:lnTo>
                      <a:pt x="3492" y="5"/>
                    </a:lnTo>
                    <a:cubicBezTo>
                      <a:pt x="3490" y="5"/>
                      <a:pt x="3490" y="4"/>
                      <a:pt x="3490" y="3"/>
                    </a:cubicBezTo>
                    <a:cubicBezTo>
                      <a:pt x="3490" y="2"/>
                      <a:pt x="3490" y="1"/>
                      <a:pt x="3492" y="1"/>
                    </a:cubicBezTo>
                    <a:close/>
                    <a:moveTo>
                      <a:pt x="3500" y="1"/>
                    </a:moveTo>
                    <a:lnTo>
                      <a:pt x="3500" y="1"/>
                    </a:lnTo>
                    <a:cubicBezTo>
                      <a:pt x="3501" y="1"/>
                      <a:pt x="3502" y="2"/>
                      <a:pt x="3502" y="3"/>
                    </a:cubicBezTo>
                    <a:cubicBezTo>
                      <a:pt x="3502" y="4"/>
                      <a:pt x="3501" y="5"/>
                      <a:pt x="3500" y="5"/>
                    </a:cubicBezTo>
                    <a:lnTo>
                      <a:pt x="3500" y="5"/>
                    </a:lnTo>
                    <a:cubicBezTo>
                      <a:pt x="3498" y="5"/>
                      <a:pt x="3498" y="4"/>
                      <a:pt x="3498" y="3"/>
                    </a:cubicBezTo>
                    <a:cubicBezTo>
                      <a:pt x="3498" y="2"/>
                      <a:pt x="3498" y="1"/>
                      <a:pt x="3500" y="1"/>
                    </a:cubicBezTo>
                    <a:close/>
                    <a:moveTo>
                      <a:pt x="3508" y="1"/>
                    </a:moveTo>
                    <a:lnTo>
                      <a:pt x="3508" y="1"/>
                    </a:lnTo>
                    <a:cubicBezTo>
                      <a:pt x="3509" y="1"/>
                      <a:pt x="3510" y="2"/>
                      <a:pt x="3510" y="3"/>
                    </a:cubicBezTo>
                    <a:cubicBezTo>
                      <a:pt x="3510" y="4"/>
                      <a:pt x="3509" y="5"/>
                      <a:pt x="3508" y="5"/>
                    </a:cubicBezTo>
                    <a:lnTo>
                      <a:pt x="3508" y="5"/>
                    </a:lnTo>
                    <a:cubicBezTo>
                      <a:pt x="3506" y="5"/>
                      <a:pt x="3506" y="4"/>
                      <a:pt x="3506" y="3"/>
                    </a:cubicBezTo>
                    <a:cubicBezTo>
                      <a:pt x="3506" y="2"/>
                      <a:pt x="3506" y="1"/>
                      <a:pt x="3508" y="1"/>
                    </a:cubicBezTo>
                    <a:close/>
                    <a:moveTo>
                      <a:pt x="3516" y="1"/>
                    </a:moveTo>
                    <a:lnTo>
                      <a:pt x="3516" y="1"/>
                    </a:lnTo>
                    <a:cubicBezTo>
                      <a:pt x="3517" y="1"/>
                      <a:pt x="3518" y="2"/>
                      <a:pt x="3518" y="3"/>
                    </a:cubicBezTo>
                    <a:cubicBezTo>
                      <a:pt x="3518" y="4"/>
                      <a:pt x="3517" y="5"/>
                      <a:pt x="3516" y="5"/>
                    </a:cubicBezTo>
                    <a:lnTo>
                      <a:pt x="3516" y="5"/>
                    </a:lnTo>
                    <a:cubicBezTo>
                      <a:pt x="3514" y="5"/>
                      <a:pt x="3514" y="4"/>
                      <a:pt x="3514" y="3"/>
                    </a:cubicBezTo>
                    <a:cubicBezTo>
                      <a:pt x="3514" y="2"/>
                      <a:pt x="3514" y="1"/>
                      <a:pt x="3516" y="1"/>
                    </a:cubicBezTo>
                    <a:close/>
                    <a:moveTo>
                      <a:pt x="3524" y="1"/>
                    </a:moveTo>
                    <a:lnTo>
                      <a:pt x="3524" y="1"/>
                    </a:lnTo>
                    <a:cubicBezTo>
                      <a:pt x="3525" y="1"/>
                      <a:pt x="3526" y="2"/>
                      <a:pt x="3526" y="3"/>
                    </a:cubicBezTo>
                    <a:cubicBezTo>
                      <a:pt x="3526" y="4"/>
                      <a:pt x="3525" y="5"/>
                      <a:pt x="3524" y="5"/>
                    </a:cubicBezTo>
                    <a:lnTo>
                      <a:pt x="3524" y="5"/>
                    </a:lnTo>
                    <a:cubicBezTo>
                      <a:pt x="3522" y="5"/>
                      <a:pt x="3522" y="4"/>
                      <a:pt x="3522" y="3"/>
                    </a:cubicBezTo>
                    <a:cubicBezTo>
                      <a:pt x="3522" y="2"/>
                      <a:pt x="3522" y="1"/>
                      <a:pt x="3524" y="1"/>
                    </a:cubicBezTo>
                    <a:close/>
                    <a:moveTo>
                      <a:pt x="3532" y="1"/>
                    </a:moveTo>
                    <a:lnTo>
                      <a:pt x="3532" y="1"/>
                    </a:lnTo>
                    <a:cubicBezTo>
                      <a:pt x="3533" y="1"/>
                      <a:pt x="3534" y="2"/>
                      <a:pt x="3534" y="3"/>
                    </a:cubicBezTo>
                    <a:cubicBezTo>
                      <a:pt x="3534" y="4"/>
                      <a:pt x="3533" y="5"/>
                      <a:pt x="3532" y="5"/>
                    </a:cubicBezTo>
                    <a:lnTo>
                      <a:pt x="3532" y="5"/>
                    </a:lnTo>
                    <a:cubicBezTo>
                      <a:pt x="3530" y="5"/>
                      <a:pt x="3530" y="4"/>
                      <a:pt x="3530" y="3"/>
                    </a:cubicBezTo>
                    <a:cubicBezTo>
                      <a:pt x="3530" y="2"/>
                      <a:pt x="3530" y="1"/>
                      <a:pt x="3532" y="1"/>
                    </a:cubicBezTo>
                    <a:close/>
                    <a:moveTo>
                      <a:pt x="3540" y="1"/>
                    </a:moveTo>
                    <a:lnTo>
                      <a:pt x="3540" y="1"/>
                    </a:lnTo>
                    <a:cubicBezTo>
                      <a:pt x="3541" y="1"/>
                      <a:pt x="3542" y="2"/>
                      <a:pt x="3542" y="3"/>
                    </a:cubicBezTo>
                    <a:cubicBezTo>
                      <a:pt x="3542" y="4"/>
                      <a:pt x="3541" y="5"/>
                      <a:pt x="3540" y="5"/>
                    </a:cubicBezTo>
                    <a:lnTo>
                      <a:pt x="3540" y="5"/>
                    </a:lnTo>
                    <a:cubicBezTo>
                      <a:pt x="3538" y="5"/>
                      <a:pt x="3538" y="4"/>
                      <a:pt x="3538" y="3"/>
                    </a:cubicBezTo>
                    <a:cubicBezTo>
                      <a:pt x="3538" y="2"/>
                      <a:pt x="3538" y="1"/>
                      <a:pt x="3540" y="1"/>
                    </a:cubicBezTo>
                    <a:close/>
                    <a:moveTo>
                      <a:pt x="3548" y="1"/>
                    </a:moveTo>
                    <a:lnTo>
                      <a:pt x="3548" y="1"/>
                    </a:lnTo>
                    <a:cubicBezTo>
                      <a:pt x="3549" y="1"/>
                      <a:pt x="3550" y="2"/>
                      <a:pt x="3550" y="3"/>
                    </a:cubicBezTo>
                    <a:cubicBezTo>
                      <a:pt x="3550" y="4"/>
                      <a:pt x="3549" y="5"/>
                      <a:pt x="3548" y="5"/>
                    </a:cubicBezTo>
                    <a:lnTo>
                      <a:pt x="3548" y="5"/>
                    </a:lnTo>
                    <a:cubicBezTo>
                      <a:pt x="3546" y="5"/>
                      <a:pt x="3546" y="4"/>
                      <a:pt x="3546" y="3"/>
                    </a:cubicBezTo>
                    <a:cubicBezTo>
                      <a:pt x="3546" y="2"/>
                      <a:pt x="3546" y="1"/>
                      <a:pt x="3548" y="1"/>
                    </a:cubicBezTo>
                    <a:close/>
                    <a:moveTo>
                      <a:pt x="3556" y="1"/>
                    </a:moveTo>
                    <a:lnTo>
                      <a:pt x="3556" y="1"/>
                    </a:lnTo>
                    <a:cubicBezTo>
                      <a:pt x="3557" y="1"/>
                      <a:pt x="3558" y="2"/>
                      <a:pt x="3558" y="3"/>
                    </a:cubicBezTo>
                    <a:cubicBezTo>
                      <a:pt x="3558" y="4"/>
                      <a:pt x="3557" y="5"/>
                      <a:pt x="3556" y="5"/>
                    </a:cubicBezTo>
                    <a:lnTo>
                      <a:pt x="3556" y="5"/>
                    </a:lnTo>
                    <a:cubicBezTo>
                      <a:pt x="3554" y="5"/>
                      <a:pt x="3554" y="4"/>
                      <a:pt x="3554" y="3"/>
                    </a:cubicBezTo>
                    <a:cubicBezTo>
                      <a:pt x="3554" y="2"/>
                      <a:pt x="3554" y="1"/>
                      <a:pt x="3556" y="1"/>
                    </a:cubicBezTo>
                    <a:close/>
                    <a:moveTo>
                      <a:pt x="3564" y="1"/>
                    </a:moveTo>
                    <a:lnTo>
                      <a:pt x="3564" y="1"/>
                    </a:lnTo>
                    <a:cubicBezTo>
                      <a:pt x="3565" y="1"/>
                      <a:pt x="3566" y="2"/>
                      <a:pt x="3566" y="3"/>
                    </a:cubicBezTo>
                    <a:cubicBezTo>
                      <a:pt x="3566" y="4"/>
                      <a:pt x="3565" y="5"/>
                      <a:pt x="3564" y="5"/>
                    </a:cubicBezTo>
                    <a:lnTo>
                      <a:pt x="3564" y="5"/>
                    </a:lnTo>
                    <a:cubicBezTo>
                      <a:pt x="3562" y="5"/>
                      <a:pt x="3562" y="4"/>
                      <a:pt x="3562" y="3"/>
                    </a:cubicBezTo>
                    <a:cubicBezTo>
                      <a:pt x="3562" y="2"/>
                      <a:pt x="3562" y="1"/>
                      <a:pt x="3564" y="1"/>
                    </a:cubicBezTo>
                    <a:close/>
                    <a:moveTo>
                      <a:pt x="3572" y="1"/>
                    </a:moveTo>
                    <a:lnTo>
                      <a:pt x="3572" y="1"/>
                    </a:lnTo>
                    <a:cubicBezTo>
                      <a:pt x="3573" y="1"/>
                      <a:pt x="3574" y="2"/>
                      <a:pt x="3574" y="3"/>
                    </a:cubicBezTo>
                    <a:cubicBezTo>
                      <a:pt x="3574" y="4"/>
                      <a:pt x="3573" y="5"/>
                      <a:pt x="3572" y="5"/>
                    </a:cubicBezTo>
                    <a:lnTo>
                      <a:pt x="3572" y="5"/>
                    </a:lnTo>
                    <a:cubicBezTo>
                      <a:pt x="3570" y="5"/>
                      <a:pt x="3570" y="4"/>
                      <a:pt x="3570" y="3"/>
                    </a:cubicBezTo>
                    <a:cubicBezTo>
                      <a:pt x="3570" y="2"/>
                      <a:pt x="3570" y="1"/>
                      <a:pt x="3572" y="1"/>
                    </a:cubicBezTo>
                    <a:close/>
                    <a:moveTo>
                      <a:pt x="3580" y="1"/>
                    </a:moveTo>
                    <a:lnTo>
                      <a:pt x="3580" y="1"/>
                    </a:lnTo>
                    <a:cubicBezTo>
                      <a:pt x="3581" y="1"/>
                      <a:pt x="3582" y="2"/>
                      <a:pt x="3582" y="3"/>
                    </a:cubicBezTo>
                    <a:cubicBezTo>
                      <a:pt x="3582" y="4"/>
                      <a:pt x="3581" y="5"/>
                      <a:pt x="3580" y="5"/>
                    </a:cubicBezTo>
                    <a:lnTo>
                      <a:pt x="3580" y="5"/>
                    </a:lnTo>
                    <a:cubicBezTo>
                      <a:pt x="3578" y="5"/>
                      <a:pt x="3578" y="4"/>
                      <a:pt x="3578" y="3"/>
                    </a:cubicBezTo>
                    <a:cubicBezTo>
                      <a:pt x="3578" y="2"/>
                      <a:pt x="3578" y="1"/>
                      <a:pt x="3580" y="1"/>
                    </a:cubicBezTo>
                    <a:close/>
                    <a:moveTo>
                      <a:pt x="3588" y="1"/>
                    </a:moveTo>
                    <a:lnTo>
                      <a:pt x="3588" y="1"/>
                    </a:lnTo>
                    <a:cubicBezTo>
                      <a:pt x="3589" y="1"/>
                      <a:pt x="3590" y="2"/>
                      <a:pt x="3590" y="3"/>
                    </a:cubicBezTo>
                    <a:cubicBezTo>
                      <a:pt x="3590" y="4"/>
                      <a:pt x="3589" y="5"/>
                      <a:pt x="3588" y="5"/>
                    </a:cubicBezTo>
                    <a:lnTo>
                      <a:pt x="3588" y="5"/>
                    </a:lnTo>
                    <a:cubicBezTo>
                      <a:pt x="3586" y="5"/>
                      <a:pt x="3586" y="4"/>
                      <a:pt x="3586" y="3"/>
                    </a:cubicBezTo>
                    <a:cubicBezTo>
                      <a:pt x="3586" y="2"/>
                      <a:pt x="3586" y="1"/>
                      <a:pt x="3588" y="1"/>
                    </a:cubicBezTo>
                    <a:close/>
                    <a:moveTo>
                      <a:pt x="3596" y="1"/>
                    </a:moveTo>
                    <a:lnTo>
                      <a:pt x="3596" y="1"/>
                    </a:lnTo>
                    <a:cubicBezTo>
                      <a:pt x="3597" y="1"/>
                      <a:pt x="3598" y="2"/>
                      <a:pt x="3598" y="3"/>
                    </a:cubicBezTo>
                    <a:cubicBezTo>
                      <a:pt x="3598" y="4"/>
                      <a:pt x="3597" y="5"/>
                      <a:pt x="3596" y="5"/>
                    </a:cubicBezTo>
                    <a:lnTo>
                      <a:pt x="3596" y="5"/>
                    </a:lnTo>
                    <a:cubicBezTo>
                      <a:pt x="3594" y="5"/>
                      <a:pt x="3594" y="4"/>
                      <a:pt x="3594" y="3"/>
                    </a:cubicBezTo>
                    <a:cubicBezTo>
                      <a:pt x="3594" y="2"/>
                      <a:pt x="3594" y="1"/>
                      <a:pt x="3596" y="1"/>
                    </a:cubicBezTo>
                    <a:close/>
                    <a:moveTo>
                      <a:pt x="3604" y="1"/>
                    </a:moveTo>
                    <a:lnTo>
                      <a:pt x="3604" y="1"/>
                    </a:lnTo>
                    <a:cubicBezTo>
                      <a:pt x="3605" y="1"/>
                      <a:pt x="3606" y="2"/>
                      <a:pt x="3606" y="3"/>
                    </a:cubicBezTo>
                    <a:cubicBezTo>
                      <a:pt x="3606" y="4"/>
                      <a:pt x="3605" y="5"/>
                      <a:pt x="3604" y="5"/>
                    </a:cubicBezTo>
                    <a:lnTo>
                      <a:pt x="3604" y="5"/>
                    </a:lnTo>
                    <a:cubicBezTo>
                      <a:pt x="3602" y="5"/>
                      <a:pt x="3602" y="4"/>
                      <a:pt x="3602" y="3"/>
                    </a:cubicBezTo>
                    <a:cubicBezTo>
                      <a:pt x="3602" y="2"/>
                      <a:pt x="3602" y="1"/>
                      <a:pt x="3604" y="1"/>
                    </a:cubicBezTo>
                    <a:close/>
                    <a:moveTo>
                      <a:pt x="3612" y="1"/>
                    </a:moveTo>
                    <a:lnTo>
                      <a:pt x="3612" y="1"/>
                    </a:lnTo>
                    <a:cubicBezTo>
                      <a:pt x="3613" y="1"/>
                      <a:pt x="3614" y="2"/>
                      <a:pt x="3614" y="3"/>
                    </a:cubicBezTo>
                    <a:cubicBezTo>
                      <a:pt x="3614" y="4"/>
                      <a:pt x="3613" y="5"/>
                      <a:pt x="3612" y="5"/>
                    </a:cubicBezTo>
                    <a:lnTo>
                      <a:pt x="3612" y="5"/>
                    </a:lnTo>
                    <a:cubicBezTo>
                      <a:pt x="3610" y="5"/>
                      <a:pt x="3610" y="4"/>
                      <a:pt x="3610" y="3"/>
                    </a:cubicBezTo>
                    <a:cubicBezTo>
                      <a:pt x="3610" y="2"/>
                      <a:pt x="3610" y="1"/>
                      <a:pt x="3612" y="1"/>
                    </a:cubicBezTo>
                    <a:close/>
                    <a:moveTo>
                      <a:pt x="3620" y="1"/>
                    </a:moveTo>
                    <a:lnTo>
                      <a:pt x="3620" y="1"/>
                    </a:lnTo>
                    <a:cubicBezTo>
                      <a:pt x="3621" y="1"/>
                      <a:pt x="3622" y="2"/>
                      <a:pt x="3622" y="3"/>
                    </a:cubicBezTo>
                    <a:cubicBezTo>
                      <a:pt x="3622" y="4"/>
                      <a:pt x="3621" y="5"/>
                      <a:pt x="3620" y="5"/>
                    </a:cubicBezTo>
                    <a:lnTo>
                      <a:pt x="3620" y="5"/>
                    </a:lnTo>
                    <a:cubicBezTo>
                      <a:pt x="3618" y="5"/>
                      <a:pt x="3618" y="4"/>
                      <a:pt x="3618" y="3"/>
                    </a:cubicBezTo>
                    <a:cubicBezTo>
                      <a:pt x="3618" y="2"/>
                      <a:pt x="3618" y="1"/>
                      <a:pt x="3620" y="1"/>
                    </a:cubicBezTo>
                    <a:close/>
                    <a:moveTo>
                      <a:pt x="3628" y="1"/>
                    </a:moveTo>
                    <a:lnTo>
                      <a:pt x="3628" y="1"/>
                    </a:lnTo>
                    <a:cubicBezTo>
                      <a:pt x="3629" y="1"/>
                      <a:pt x="3630" y="2"/>
                      <a:pt x="3630" y="3"/>
                    </a:cubicBezTo>
                    <a:cubicBezTo>
                      <a:pt x="3630" y="4"/>
                      <a:pt x="3629" y="5"/>
                      <a:pt x="3628" y="5"/>
                    </a:cubicBezTo>
                    <a:lnTo>
                      <a:pt x="3628" y="5"/>
                    </a:lnTo>
                    <a:cubicBezTo>
                      <a:pt x="3626" y="5"/>
                      <a:pt x="3626" y="4"/>
                      <a:pt x="3626" y="3"/>
                    </a:cubicBezTo>
                    <a:cubicBezTo>
                      <a:pt x="3626" y="2"/>
                      <a:pt x="3626" y="1"/>
                      <a:pt x="3628" y="1"/>
                    </a:cubicBezTo>
                    <a:close/>
                    <a:moveTo>
                      <a:pt x="3636" y="1"/>
                    </a:moveTo>
                    <a:lnTo>
                      <a:pt x="3636" y="1"/>
                    </a:lnTo>
                    <a:cubicBezTo>
                      <a:pt x="3637" y="1"/>
                      <a:pt x="3638" y="2"/>
                      <a:pt x="3638" y="3"/>
                    </a:cubicBezTo>
                    <a:cubicBezTo>
                      <a:pt x="3638" y="4"/>
                      <a:pt x="3637" y="5"/>
                      <a:pt x="3636" y="5"/>
                    </a:cubicBezTo>
                    <a:lnTo>
                      <a:pt x="3636" y="5"/>
                    </a:lnTo>
                    <a:cubicBezTo>
                      <a:pt x="3634" y="5"/>
                      <a:pt x="3634" y="4"/>
                      <a:pt x="3634" y="3"/>
                    </a:cubicBezTo>
                    <a:cubicBezTo>
                      <a:pt x="3634" y="2"/>
                      <a:pt x="3634" y="1"/>
                      <a:pt x="3636" y="1"/>
                    </a:cubicBezTo>
                    <a:close/>
                    <a:moveTo>
                      <a:pt x="3644" y="1"/>
                    </a:moveTo>
                    <a:lnTo>
                      <a:pt x="3644" y="1"/>
                    </a:lnTo>
                    <a:cubicBezTo>
                      <a:pt x="3645" y="1"/>
                      <a:pt x="3646" y="2"/>
                      <a:pt x="3646" y="3"/>
                    </a:cubicBezTo>
                    <a:cubicBezTo>
                      <a:pt x="3646" y="4"/>
                      <a:pt x="3645" y="5"/>
                      <a:pt x="3644" y="5"/>
                    </a:cubicBezTo>
                    <a:lnTo>
                      <a:pt x="3644" y="5"/>
                    </a:lnTo>
                    <a:cubicBezTo>
                      <a:pt x="3642" y="5"/>
                      <a:pt x="3642" y="4"/>
                      <a:pt x="3642" y="3"/>
                    </a:cubicBezTo>
                    <a:cubicBezTo>
                      <a:pt x="3642" y="2"/>
                      <a:pt x="3642" y="1"/>
                      <a:pt x="3644" y="1"/>
                    </a:cubicBezTo>
                    <a:close/>
                    <a:moveTo>
                      <a:pt x="3652" y="1"/>
                    </a:moveTo>
                    <a:lnTo>
                      <a:pt x="3652" y="1"/>
                    </a:lnTo>
                    <a:cubicBezTo>
                      <a:pt x="3653" y="1"/>
                      <a:pt x="3654" y="2"/>
                      <a:pt x="3654" y="3"/>
                    </a:cubicBezTo>
                    <a:cubicBezTo>
                      <a:pt x="3654" y="4"/>
                      <a:pt x="3653" y="5"/>
                      <a:pt x="3652" y="5"/>
                    </a:cubicBezTo>
                    <a:lnTo>
                      <a:pt x="3652" y="5"/>
                    </a:lnTo>
                    <a:cubicBezTo>
                      <a:pt x="3650" y="5"/>
                      <a:pt x="3650" y="4"/>
                      <a:pt x="3650" y="3"/>
                    </a:cubicBezTo>
                    <a:cubicBezTo>
                      <a:pt x="3650" y="2"/>
                      <a:pt x="3650" y="1"/>
                      <a:pt x="3652" y="1"/>
                    </a:cubicBezTo>
                    <a:close/>
                    <a:moveTo>
                      <a:pt x="3660" y="1"/>
                    </a:moveTo>
                    <a:lnTo>
                      <a:pt x="3660" y="1"/>
                    </a:lnTo>
                    <a:cubicBezTo>
                      <a:pt x="3661" y="1"/>
                      <a:pt x="3662" y="2"/>
                      <a:pt x="3662" y="3"/>
                    </a:cubicBezTo>
                    <a:cubicBezTo>
                      <a:pt x="3662" y="4"/>
                      <a:pt x="3661" y="5"/>
                      <a:pt x="3660" y="5"/>
                    </a:cubicBezTo>
                    <a:lnTo>
                      <a:pt x="3660" y="5"/>
                    </a:lnTo>
                    <a:cubicBezTo>
                      <a:pt x="3658" y="5"/>
                      <a:pt x="3658" y="4"/>
                      <a:pt x="3658" y="3"/>
                    </a:cubicBezTo>
                    <a:cubicBezTo>
                      <a:pt x="3658" y="2"/>
                      <a:pt x="3658" y="1"/>
                      <a:pt x="3660" y="1"/>
                    </a:cubicBezTo>
                    <a:close/>
                    <a:moveTo>
                      <a:pt x="3668" y="1"/>
                    </a:moveTo>
                    <a:lnTo>
                      <a:pt x="3668" y="1"/>
                    </a:lnTo>
                    <a:cubicBezTo>
                      <a:pt x="3669" y="1"/>
                      <a:pt x="3670" y="2"/>
                      <a:pt x="3670" y="3"/>
                    </a:cubicBezTo>
                    <a:cubicBezTo>
                      <a:pt x="3670" y="4"/>
                      <a:pt x="3669" y="5"/>
                      <a:pt x="3668" y="5"/>
                    </a:cubicBezTo>
                    <a:lnTo>
                      <a:pt x="3668" y="5"/>
                    </a:lnTo>
                    <a:cubicBezTo>
                      <a:pt x="3666" y="5"/>
                      <a:pt x="3666" y="4"/>
                      <a:pt x="3666" y="3"/>
                    </a:cubicBezTo>
                    <a:cubicBezTo>
                      <a:pt x="3666" y="2"/>
                      <a:pt x="3666" y="1"/>
                      <a:pt x="3668" y="1"/>
                    </a:cubicBezTo>
                    <a:close/>
                    <a:moveTo>
                      <a:pt x="3676" y="1"/>
                    </a:moveTo>
                    <a:lnTo>
                      <a:pt x="3676" y="1"/>
                    </a:lnTo>
                    <a:cubicBezTo>
                      <a:pt x="3677" y="1"/>
                      <a:pt x="3678" y="2"/>
                      <a:pt x="3678" y="3"/>
                    </a:cubicBezTo>
                    <a:cubicBezTo>
                      <a:pt x="3678" y="4"/>
                      <a:pt x="3677" y="5"/>
                      <a:pt x="3676" y="5"/>
                    </a:cubicBezTo>
                    <a:lnTo>
                      <a:pt x="3676" y="5"/>
                    </a:lnTo>
                    <a:cubicBezTo>
                      <a:pt x="3674" y="5"/>
                      <a:pt x="3674" y="4"/>
                      <a:pt x="3674" y="3"/>
                    </a:cubicBezTo>
                    <a:cubicBezTo>
                      <a:pt x="3674" y="2"/>
                      <a:pt x="3674" y="1"/>
                      <a:pt x="3676" y="1"/>
                    </a:cubicBezTo>
                    <a:close/>
                    <a:moveTo>
                      <a:pt x="3684" y="1"/>
                    </a:moveTo>
                    <a:lnTo>
                      <a:pt x="3684" y="1"/>
                    </a:lnTo>
                    <a:cubicBezTo>
                      <a:pt x="3685" y="1"/>
                      <a:pt x="3686" y="2"/>
                      <a:pt x="3686" y="3"/>
                    </a:cubicBezTo>
                    <a:cubicBezTo>
                      <a:pt x="3686" y="4"/>
                      <a:pt x="3685" y="5"/>
                      <a:pt x="3684" y="5"/>
                    </a:cubicBezTo>
                    <a:lnTo>
                      <a:pt x="3684" y="5"/>
                    </a:lnTo>
                    <a:cubicBezTo>
                      <a:pt x="3682" y="5"/>
                      <a:pt x="3682" y="4"/>
                      <a:pt x="3682" y="3"/>
                    </a:cubicBezTo>
                    <a:cubicBezTo>
                      <a:pt x="3682" y="2"/>
                      <a:pt x="3682" y="1"/>
                      <a:pt x="3684" y="1"/>
                    </a:cubicBezTo>
                    <a:close/>
                    <a:moveTo>
                      <a:pt x="3692" y="1"/>
                    </a:moveTo>
                    <a:lnTo>
                      <a:pt x="3692" y="1"/>
                    </a:lnTo>
                    <a:cubicBezTo>
                      <a:pt x="3693" y="1"/>
                      <a:pt x="3694" y="2"/>
                      <a:pt x="3694" y="3"/>
                    </a:cubicBezTo>
                    <a:cubicBezTo>
                      <a:pt x="3694" y="4"/>
                      <a:pt x="3693" y="5"/>
                      <a:pt x="3692" y="5"/>
                    </a:cubicBezTo>
                    <a:lnTo>
                      <a:pt x="3692" y="5"/>
                    </a:lnTo>
                    <a:cubicBezTo>
                      <a:pt x="3690" y="5"/>
                      <a:pt x="3690" y="4"/>
                      <a:pt x="3690" y="3"/>
                    </a:cubicBezTo>
                    <a:cubicBezTo>
                      <a:pt x="3690" y="2"/>
                      <a:pt x="3690" y="1"/>
                      <a:pt x="3692" y="1"/>
                    </a:cubicBezTo>
                    <a:close/>
                    <a:moveTo>
                      <a:pt x="3700" y="1"/>
                    </a:moveTo>
                    <a:lnTo>
                      <a:pt x="3700" y="1"/>
                    </a:lnTo>
                    <a:cubicBezTo>
                      <a:pt x="3701" y="1"/>
                      <a:pt x="3702" y="2"/>
                      <a:pt x="3702" y="3"/>
                    </a:cubicBezTo>
                    <a:cubicBezTo>
                      <a:pt x="3702" y="4"/>
                      <a:pt x="3701" y="5"/>
                      <a:pt x="3700" y="5"/>
                    </a:cubicBezTo>
                    <a:lnTo>
                      <a:pt x="3700" y="5"/>
                    </a:lnTo>
                    <a:cubicBezTo>
                      <a:pt x="3699" y="5"/>
                      <a:pt x="3698" y="4"/>
                      <a:pt x="3698" y="3"/>
                    </a:cubicBezTo>
                    <a:cubicBezTo>
                      <a:pt x="3698" y="2"/>
                      <a:pt x="3699" y="1"/>
                      <a:pt x="3700" y="1"/>
                    </a:cubicBezTo>
                    <a:close/>
                    <a:moveTo>
                      <a:pt x="3708" y="1"/>
                    </a:moveTo>
                    <a:lnTo>
                      <a:pt x="3708" y="1"/>
                    </a:lnTo>
                    <a:cubicBezTo>
                      <a:pt x="3709" y="1"/>
                      <a:pt x="3710" y="2"/>
                      <a:pt x="3710" y="3"/>
                    </a:cubicBezTo>
                    <a:cubicBezTo>
                      <a:pt x="3710" y="4"/>
                      <a:pt x="3709" y="5"/>
                      <a:pt x="3708" y="5"/>
                    </a:cubicBezTo>
                    <a:lnTo>
                      <a:pt x="3708" y="5"/>
                    </a:lnTo>
                    <a:cubicBezTo>
                      <a:pt x="3707" y="5"/>
                      <a:pt x="3706" y="4"/>
                      <a:pt x="3706" y="3"/>
                    </a:cubicBezTo>
                    <a:cubicBezTo>
                      <a:pt x="3706" y="2"/>
                      <a:pt x="3707" y="1"/>
                      <a:pt x="3708" y="1"/>
                    </a:cubicBezTo>
                    <a:close/>
                    <a:moveTo>
                      <a:pt x="3716" y="1"/>
                    </a:moveTo>
                    <a:lnTo>
                      <a:pt x="3716" y="1"/>
                    </a:lnTo>
                    <a:cubicBezTo>
                      <a:pt x="3717" y="1"/>
                      <a:pt x="3718" y="2"/>
                      <a:pt x="3718" y="3"/>
                    </a:cubicBezTo>
                    <a:cubicBezTo>
                      <a:pt x="3718" y="4"/>
                      <a:pt x="3717" y="5"/>
                      <a:pt x="3716" y="5"/>
                    </a:cubicBezTo>
                    <a:lnTo>
                      <a:pt x="3716" y="5"/>
                    </a:lnTo>
                    <a:cubicBezTo>
                      <a:pt x="3715" y="5"/>
                      <a:pt x="3714" y="4"/>
                      <a:pt x="3714" y="3"/>
                    </a:cubicBezTo>
                    <a:cubicBezTo>
                      <a:pt x="3714" y="2"/>
                      <a:pt x="3715" y="1"/>
                      <a:pt x="3716" y="1"/>
                    </a:cubicBezTo>
                    <a:close/>
                    <a:moveTo>
                      <a:pt x="3724" y="1"/>
                    </a:moveTo>
                    <a:lnTo>
                      <a:pt x="3724" y="1"/>
                    </a:lnTo>
                    <a:cubicBezTo>
                      <a:pt x="3725" y="1"/>
                      <a:pt x="3726" y="2"/>
                      <a:pt x="3726" y="3"/>
                    </a:cubicBezTo>
                    <a:cubicBezTo>
                      <a:pt x="3726" y="4"/>
                      <a:pt x="3725" y="5"/>
                      <a:pt x="3724" y="5"/>
                    </a:cubicBezTo>
                    <a:lnTo>
                      <a:pt x="3724" y="5"/>
                    </a:lnTo>
                    <a:cubicBezTo>
                      <a:pt x="3723" y="5"/>
                      <a:pt x="3722" y="4"/>
                      <a:pt x="3722" y="3"/>
                    </a:cubicBezTo>
                    <a:cubicBezTo>
                      <a:pt x="3722" y="2"/>
                      <a:pt x="3723" y="1"/>
                      <a:pt x="3724" y="1"/>
                    </a:cubicBezTo>
                    <a:close/>
                    <a:moveTo>
                      <a:pt x="3732" y="1"/>
                    </a:moveTo>
                    <a:lnTo>
                      <a:pt x="3732" y="1"/>
                    </a:lnTo>
                    <a:cubicBezTo>
                      <a:pt x="3733" y="1"/>
                      <a:pt x="3734" y="2"/>
                      <a:pt x="3734" y="3"/>
                    </a:cubicBezTo>
                    <a:cubicBezTo>
                      <a:pt x="3734" y="4"/>
                      <a:pt x="3733" y="5"/>
                      <a:pt x="3732" y="5"/>
                    </a:cubicBezTo>
                    <a:lnTo>
                      <a:pt x="3732" y="5"/>
                    </a:lnTo>
                    <a:cubicBezTo>
                      <a:pt x="3731" y="5"/>
                      <a:pt x="3730" y="4"/>
                      <a:pt x="3730" y="3"/>
                    </a:cubicBezTo>
                    <a:cubicBezTo>
                      <a:pt x="3730" y="2"/>
                      <a:pt x="3731" y="1"/>
                      <a:pt x="3732" y="1"/>
                    </a:cubicBezTo>
                    <a:close/>
                    <a:moveTo>
                      <a:pt x="3740" y="1"/>
                    </a:moveTo>
                    <a:lnTo>
                      <a:pt x="3740" y="1"/>
                    </a:lnTo>
                    <a:cubicBezTo>
                      <a:pt x="3741" y="1"/>
                      <a:pt x="3742" y="2"/>
                      <a:pt x="3742" y="3"/>
                    </a:cubicBezTo>
                    <a:cubicBezTo>
                      <a:pt x="3742" y="4"/>
                      <a:pt x="3741" y="5"/>
                      <a:pt x="3740" y="5"/>
                    </a:cubicBezTo>
                    <a:lnTo>
                      <a:pt x="3740" y="5"/>
                    </a:lnTo>
                    <a:cubicBezTo>
                      <a:pt x="3739" y="5"/>
                      <a:pt x="3738" y="4"/>
                      <a:pt x="3738" y="3"/>
                    </a:cubicBezTo>
                    <a:cubicBezTo>
                      <a:pt x="3738" y="2"/>
                      <a:pt x="3739" y="1"/>
                      <a:pt x="3740" y="1"/>
                    </a:cubicBezTo>
                    <a:close/>
                    <a:moveTo>
                      <a:pt x="3748" y="1"/>
                    </a:moveTo>
                    <a:lnTo>
                      <a:pt x="3748" y="1"/>
                    </a:lnTo>
                    <a:cubicBezTo>
                      <a:pt x="3749" y="1"/>
                      <a:pt x="3750" y="2"/>
                      <a:pt x="3750" y="3"/>
                    </a:cubicBezTo>
                    <a:cubicBezTo>
                      <a:pt x="3750" y="4"/>
                      <a:pt x="3749" y="5"/>
                      <a:pt x="3748" y="5"/>
                    </a:cubicBezTo>
                    <a:lnTo>
                      <a:pt x="3748" y="5"/>
                    </a:lnTo>
                    <a:cubicBezTo>
                      <a:pt x="3747" y="5"/>
                      <a:pt x="3746" y="4"/>
                      <a:pt x="3746" y="3"/>
                    </a:cubicBezTo>
                    <a:cubicBezTo>
                      <a:pt x="3746" y="2"/>
                      <a:pt x="3747" y="1"/>
                      <a:pt x="3748" y="1"/>
                    </a:cubicBezTo>
                    <a:close/>
                    <a:moveTo>
                      <a:pt x="3756" y="1"/>
                    </a:moveTo>
                    <a:lnTo>
                      <a:pt x="3756" y="1"/>
                    </a:lnTo>
                    <a:cubicBezTo>
                      <a:pt x="3757" y="1"/>
                      <a:pt x="3758" y="2"/>
                      <a:pt x="3758" y="3"/>
                    </a:cubicBezTo>
                    <a:cubicBezTo>
                      <a:pt x="3758" y="4"/>
                      <a:pt x="3757" y="5"/>
                      <a:pt x="3756" y="5"/>
                    </a:cubicBezTo>
                    <a:lnTo>
                      <a:pt x="3756" y="5"/>
                    </a:lnTo>
                    <a:cubicBezTo>
                      <a:pt x="3755" y="5"/>
                      <a:pt x="3754" y="4"/>
                      <a:pt x="3754" y="3"/>
                    </a:cubicBezTo>
                    <a:cubicBezTo>
                      <a:pt x="3754" y="2"/>
                      <a:pt x="3755" y="1"/>
                      <a:pt x="3756" y="1"/>
                    </a:cubicBezTo>
                    <a:close/>
                    <a:moveTo>
                      <a:pt x="3764" y="1"/>
                    </a:moveTo>
                    <a:lnTo>
                      <a:pt x="3764" y="1"/>
                    </a:lnTo>
                    <a:cubicBezTo>
                      <a:pt x="3765" y="1"/>
                      <a:pt x="3766" y="2"/>
                      <a:pt x="3766" y="3"/>
                    </a:cubicBezTo>
                    <a:cubicBezTo>
                      <a:pt x="3766" y="4"/>
                      <a:pt x="3765" y="5"/>
                      <a:pt x="3764" y="5"/>
                    </a:cubicBezTo>
                    <a:lnTo>
                      <a:pt x="3764" y="5"/>
                    </a:lnTo>
                    <a:cubicBezTo>
                      <a:pt x="3763" y="5"/>
                      <a:pt x="3762" y="4"/>
                      <a:pt x="3762" y="3"/>
                    </a:cubicBezTo>
                    <a:cubicBezTo>
                      <a:pt x="3762" y="2"/>
                      <a:pt x="3763" y="1"/>
                      <a:pt x="3764" y="1"/>
                    </a:cubicBezTo>
                    <a:close/>
                    <a:moveTo>
                      <a:pt x="3772" y="1"/>
                    </a:moveTo>
                    <a:lnTo>
                      <a:pt x="3772" y="1"/>
                    </a:lnTo>
                    <a:cubicBezTo>
                      <a:pt x="3773" y="1"/>
                      <a:pt x="3774" y="2"/>
                      <a:pt x="3774" y="3"/>
                    </a:cubicBezTo>
                    <a:cubicBezTo>
                      <a:pt x="3774" y="4"/>
                      <a:pt x="3773" y="5"/>
                      <a:pt x="3772" y="5"/>
                    </a:cubicBezTo>
                    <a:lnTo>
                      <a:pt x="3772" y="5"/>
                    </a:lnTo>
                    <a:cubicBezTo>
                      <a:pt x="3771" y="5"/>
                      <a:pt x="3770" y="4"/>
                      <a:pt x="3770" y="3"/>
                    </a:cubicBezTo>
                    <a:cubicBezTo>
                      <a:pt x="3770" y="2"/>
                      <a:pt x="3771" y="1"/>
                      <a:pt x="3772" y="1"/>
                    </a:cubicBezTo>
                    <a:close/>
                    <a:moveTo>
                      <a:pt x="3780" y="1"/>
                    </a:moveTo>
                    <a:lnTo>
                      <a:pt x="3780" y="1"/>
                    </a:lnTo>
                    <a:cubicBezTo>
                      <a:pt x="3781" y="1"/>
                      <a:pt x="3782" y="2"/>
                      <a:pt x="3782" y="3"/>
                    </a:cubicBezTo>
                    <a:cubicBezTo>
                      <a:pt x="3782" y="4"/>
                      <a:pt x="3781" y="5"/>
                      <a:pt x="3780" y="5"/>
                    </a:cubicBezTo>
                    <a:lnTo>
                      <a:pt x="3780" y="5"/>
                    </a:lnTo>
                    <a:cubicBezTo>
                      <a:pt x="3779" y="5"/>
                      <a:pt x="3778" y="4"/>
                      <a:pt x="3778" y="3"/>
                    </a:cubicBezTo>
                    <a:cubicBezTo>
                      <a:pt x="3778" y="2"/>
                      <a:pt x="3779" y="1"/>
                      <a:pt x="3780" y="1"/>
                    </a:cubicBezTo>
                    <a:close/>
                    <a:moveTo>
                      <a:pt x="3788" y="1"/>
                    </a:moveTo>
                    <a:lnTo>
                      <a:pt x="3788" y="1"/>
                    </a:lnTo>
                    <a:cubicBezTo>
                      <a:pt x="3789" y="1"/>
                      <a:pt x="3790" y="2"/>
                      <a:pt x="3790" y="3"/>
                    </a:cubicBezTo>
                    <a:cubicBezTo>
                      <a:pt x="3790" y="4"/>
                      <a:pt x="3789" y="5"/>
                      <a:pt x="3788" y="5"/>
                    </a:cubicBezTo>
                    <a:lnTo>
                      <a:pt x="3788" y="5"/>
                    </a:lnTo>
                    <a:cubicBezTo>
                      <a:pt x="3787" y="5"/>
                      <a:pt x="3786" y="4"/>
                      <a:pt x="3786" y="3"/>
                    </a:cubicBezTo>
                    <a:cubicBezTo>
                      <a:pt x="3786" y="2"/>
                      <a:pt x="3787" y="1"/>
                      <a:pt x="3788" y="1"/>
                    </a:cubicBezTo>
                    <a:close/>
                    <a:moveTo>
                      <a:pt x="3796" y="1"/>
                    </a:moveTo>
                    <a:lnTo>
                      <a:pt x="3796" y="1"/>
                    </a:lnTo>
                    <a:cubicBezTo>
                      <a:pt x="3797" y="1"/>
                      <a:pt x="3798" y="2"/>
                      <a:pt x="3798" y="3"/>
                    </a:cubicBezTo>
                    <a:cubicBezTo>
                      <a:pt x="3798" y="4"/>
                      <a:pt x="3797" y="5"/>
                      <a:pt x="3796" y="5"/>
                    </a:cubicBezTo>
                    <a:lnTo>
                      <a:pt x="3796" y="5"/>
                    </a:lnTo>
                    <a:cubicBezTo>
                      <a:pt x="3795" y="5"/>
                      <a:pt x="3794" y="4"/>
                      <a:pt x="3794" y="3"/>
                    </a:cubicBezTo>
                    <a:cubicBezTo>
                      <a:pt x="3794" y="2"/>
                      <a:pt x="3795" y="1"/>
                      <a:pt x="3796" y="1"/>
                    </a:cubicBezTo>
                    <a:close/>
                    <a:moveTo>
                      <a:pt x="3804" y="1"/>
                    </a:moveTo>
                    <a:lnTo>
                      <a:pt x="3804" y="1"/>
                    </a:lnTo>
                    <a:cubicBezTo>
                      <a:pt x="3805" y="1"/>
                      <a:pt x="3806" y="2"/>
                      <a:pt x="3806" y="3"/>
                    </a:cubicBezTo>
                    <a:cubicBezTo>
                      <a:pt x="3806" y="4"/>
                      <a:pt x="3805" y="5"/>
                      <a:pt x="3804" y="5"/>
                    </a:cubicBezTo>
                    <a:lnTo>
                      <a:pt x="3804" y="5"/>
                    </a:lnTo>
                    <a:cubicBezTo>
                      <a:pt x="3803" y="5"/>
                      <a:pt x="3802" y="4"/>
                      <a:pt x="3802" y="3"/>
                    </a:cubicBezTo>
                    <a:cubicBezTo>
                      <a:pt x="3802" y="2"/>
                      <a:pt x="3803" y="1"/>
                      <a:pt x="3804" y="1"/>
                    </a:cubicBezTo>
                    <a:close/>
                    <a:moveTo>
                      <a:pt x="3812" y="1"/>
                    </a:moveTo>
                    <a:lnTo>
                      <a:pt x="3812" y="1"/>
                    </a:lnTo>
                    <a:cubicBezTo>
                      <a:pt x="3813" y="1"/>
                      <a:pt x="3814" y="2"/>
                      <a:pt x="3814" y="3"/>
                    </a:cubicBezTo>
                    <a:cubicBezTo>
                      <a:pt x="3814" y="4"/>
                      <a:pt x="3813" y="5"/>
                      <a:pt x="3812" y="5"/>
                    </a:cubicBezTo>
                    <a:lnTo>
                      <a:pt x="3812" y="5"/>
                    </a:lnTo>
                    <a:cubicBezTo>
                      <a:pt x="3811" y="5"/>
                      <a:pt x="3810" y="4"/>
                      <a:pt x="3810" y="3"/>
                    </a:cubicBezTo>
                    <a:cubicBezTo>
                      <a:pt x="3810" y="2"/>
                      <a:pt x="3811" y="1"/>
                      <a:pt x="3812" y="1"/>
                    </a:cubicBezTo>
                    <a:close/>
                    <a:moveTo>
                      <a:pt x="3820" y="1"/>
                    </a:moveTo>
                    <a:lnTo>
                      <a:pt x="3820" y="1"/>
                    </a:lnTo>
                    <a:cubicBezTo>
                      <a:pt x="3821" y="1"/>
                      <a:pt x="3822" y="2"/>
                      <a:pt x="3822" y="3"/>
                    </a:cubicBezTo>
                    <a:cubicBezTo>
                      <a:pt x="3822" y="4"/>
                      <a:pt x="3821" y="5"/>
                      <a:pt x="3820" y="5"/>
                    </a:cubicBezTo>
                    <a:lnTo>
                      <a:pt x="3820" y="5"/>
                    </a:lnTo>
                    <a:cubicBezTo>
                      <a:pt x="3819" y="5"/>
                      <a:pt x="3818" y="4"/>
                      <a:pt x="3818" y="3"/>
                    </a:cubicBezTo>
                    <a:cubicBezTo>
                      <a:pt x="3818" y="2"/>
                      <a:pt x="3819" y="1"/>
                      <a:pt x="3820" y="1"/>
                    </a:cubicBezTo>
                    <a:close/>
                    <a:moveTo>
                      <a:pt x="3828" y="1"/>
                    </a:moveTo>
                    <a:lnTo>
                      <a:pt x="3828" y="1"/>
                    </a:lnTo>
                    <a:cubicBezTo>
                      <a:pt x="3829" y="1"/>
                      <a:pt x="3830" y="2"/>
                      <a:pt x="3830" y="3"/>
                    </a:cubicBezTo>
                    <a:cubicBezTo>
                      <a:pt x="3830" y="4"/>
                      <a:pt x="3829" y="5"/>
                      <a:pt x="3828" y="5"/>
                    </a:cubicBezTo>
                    <a:lnTo>
                      <a:pt x="3828" y="5"/>
                    </a:lnTo>
                    <a:cubicBezTo>
                      <a:pt x="3827" y="5"/>
                      <a:pt x="3826" y="4"/>
                      <a:pt x="3826" y="3"/>
                    </a:cubicBezTo>
                    <a:cubicBezTo>
                      <a:pt x="3826" y="2"/>
                      <a:pt x="3827" y="1"/>
                      <a:pt x="3828" y="1"/>
                    </a:cubicBezTo>
                    <a:close/>
                    <a:moveTo>
                      <a:pt x="3836" y="1"/>
                    </a:moveTo>
                    <a:lnTo>
                      <a:pt x="3836" y="1"/>
                    </a:lnTo>
                    <a:cubicBezTo>
                      <a:pt x="3837" y="1"/>
                      <a:pt x="3838" y="2"/>
                      <a:pt x="3838" y="3"/>
                    </a:cubicBezTo>
                    <a:cubicBezTo>
                      <a:pt x="3838" y="4"/>
                      <a:pt x="3837" y="5"/>
                      <a:pt x="3836" y="5"/>
                    </a:cubicBezTo>
                    <a:lnTo>
                      <a:pt x="3836" y="5"/>
                    </a:lnTo>
                    <a:cubicBezTo>
                      <a:pt x="3835" y="5"/>
                      <a:pt x="3834" y="4"/>
                      <a:pt x="3834" y="3"/>
                    </a:cubicBezTo>
                    <a:cubicBezTo>
                      <a:pt x="3834" y="2"/>
                      <a:pt x="3835" y="1"/>
                      <a:pt x="3836" y="1"/>
                    </a:cubicBezTo>
                    <a:close/>
                    <a:moveTo>
                      <a:pt x="3844" y="1"/>
                    </a:moveTo>
                    <a:lnTo>
                      <a:pt x="3844" y="1"/>
                    </a:lnTo>
                    <a:cubicBezTo>
                      <a:pt x="3845" y="1"/>
                      <a:pt x="3846" y="2"/>
                      <a:pt x="3846" y="3"/>
                    </a:cubicBezTo>
                    <a:cubicBezTo>
                      <a:pt x="3846" y="4"/>
                      <a:pt x="3845" y="5"/>
                      <a:pt x="3844" y="5"/>
                    </a:cubicBezTo>
                    <a:lnTo>
                      <a:pt x="3844" y="5"/>
                    </a:lnTo>
                    <a:cubicBezTo>
                      <a:pt x="3843" y="5"/>
                      <a:pt x="3842" y="4"/>
                      <a:pt x="3842" y="3"/>
                    </a:cubicBezTo>
                    <a:cubicBezTo>
                      <a:pt x="3842" y="2"/>
                      <a:pt x="3843" y="1"/>
                      <a:pt x="3844" y="1"/>
                    </a:cubicBezTo>
                    <a:close/>
                    <a:moveTo>
                      <a:pt x="3852" y="1"/>
                    </a:moveTo>
                    <a:lnTo>
                      <a:pt x="3852" y="1"/>
                    </a:lnTo>
                    <a:cubicBezTo>
                      <a:pt x="3853" y="1"/>
                      <a:pt x="3854" y="2"/>
                      <a:pt x="3854" y="3"/>
                    </a:cubicBezTo>
                    <a:cubicBezTo>
                      <a:pt x="3854" y="4"/>
                      <a:pt x="3853" y="5"/>
                      <a:pt x="3852" y="5"/>
                    </a:cubicBezTo>
                    <a:lnTo>
                      <a:pt x="3852" y="5"/>
                    </a:lnTo>
                    <a:cubicBezTo>
                      <a:pt x="3851" y="5"/>
                      <a:pt x="3850" y="4"/>
                      <a:pt x="3850" y="3"/>
                    </a:cubicBezTo>
                    <a:cubicBezTo>
                      <a:pt x="3850" y="2"/>
                      <a:pt x="3851" y="1"/>
                      <a:pt x="3852" y="1"/>
                    </a:cubicBezTo>
                    <a:close/>
                    <a:moveTo>
                      <a:pt x="3860" y="1"/>
                    </a:moveTo>
                    <a:lnTo>
                      <a:pt x="3860" y="1"/>
                    </a:lnTo>
                    <a:cubicBezTo>
                      <a:pt x="3861" y="1"/>
                      <a:pt x="3862" y="2"/>
                      <a:pt x="3862" y="3"/>
                    </a:cubicBezTo>
                    <a:cubicBezTo>
                      <a:pt x="3862" y="4"/>
                      <a:pt x="3861" y="5"/>
                      <a:pt x="3860" y="5"/>
                    </a:cubicBezTo>
                    <a:lnTo>
                      <a:pt x="3860" y="5"/>
                    </a:lnTo>
                    <a:cubicBezTo>
                      <a:pt x="3859" y="5"/>
                      <a:pt x="3858" y="4"/>
                      <a:pt x="3858" y="3"/>
                    </a:cubicBezTo>
                    <a:cubicBezTo>
                      <a:pt x="3858" y="2"/>
                      <a:pt x="3859" y="1"/>
                      <a:pt x="3860" y="1"/>
                    </a:cubicBezTo>
                    <a:close/>
                    <a:moveTo>
                      <a:pt x="3868" y="1"/>
                    </a:moveTo>
                    <a:lnTo>
                      <a:pt x="3868" y="1"/>
                    </a:lnTo>
                    <a:cubicBezTo>
                      <a:pt x="3869" y="1"/>
                      <a:pt x="3870" y="2"/>
                      <a:pt x="3870" y="3"/>
                    </a:cubicBezTo>
                    <a:cubicBezTo>
                      <a:pt x="3870" y="4"/>
                      <a:pt x="3869" y="5"/>
                      <a:pt x="3868" y="5"/>
                    </a:cubicBezTo>
                    <a:lnTo>
                      <a:pt x="3868" y="5"/>
                    </a:lnTo>
                    <a:cubicBezTo>
                      <a:pt x="3867" y="5"/>
                      <a:pt x="3866" y="4"/>
                      <a:pt x="3866" y="3"/>
                    </a:cubicBezTo>
                    <a:cubicBezTo>
                      <a:pt x="3866" y="2"/>
                      <a:pt x="3867" y="1"/>
                      <a:pt x="3868" y="1"/>
                    </a:cubicBezTo>
                    <a:close/>
                    <a:moveTo>
                      <a:pt x="3876" y="1"/>
                    </a:moveTo>
                    <a:lnTo>
                      <a:pt x="3876" y="1"/>
                    </a:lnTo>
                    <a:cubicBezTo>
                      <a:pt x="3877" y="1"/>
                      <a:pt x="3878" y="2"/>
                      <a:pt x="3878" y="3"/>
                    </a:cubicBezTo>
                    <a:cubicBezTo>
                      <a:pt x="3878" y="4"/>
                      <a:pt x="3877" y="5"/>
                      <a:pt x="3876" y="5"/>
                    </a:cubicBezTo>
                    <a:lnTo>
                      <a:pt x="3876" y="5"/>
                    </a:lnTo>
                    <a:cubicBezTo>
                      <a:pt x="3875" y="5"/>
                      <a:pt x="3874" y="4"/>
                      <a:pt x="3874" y="3"/>
                    </a:cubicBezTo>
                    <a:cubicBezTo>
                      <a:pt x="3874" y="2"/>
                      <a:pt x="3875" y="1"/>
                      <a:pt x="3876" y="1"/>
                    </a:cubicBezTo>
                    <a:close/>
                    <a:moveTo>
                      <a:pt x="3884" y="1"/>
                    </a:moveTo>
                    <a:lnTo>
                      <a:pt x="3884" y="1"/>
                    </a:lnTo>
                    <a:cubicBezTo>
                      <a:pt x="3885" y="1"/>
                      <a:pt x="3886" y="2"/>
                      <a:pt x="3886" y="3"/>
                    </a:cubicBezTo>
                    <a:cubicBezTo>
                      <a:pt x="3886" y="4"/>
                      <a:pt x="3885" y="5"/>
                      <a:pt x="3884" y="5"/>
                    </a:cubicBezTo>
                    <a:lnTo>
                      <a:pt x="3884" y="5"/>
                    </a:lnTo>
                    <a:cubicBezTo>
                      <a:pt x="3883" y="5"/>
                      <a:pt x="3882" y="4"/>
                      <a:pt x="3882" y="3"/>
                    </a:cubicBezTo>
                    <a:cubicBezTo>
                      <a:pt x="3882" y="2"/>
                      <a:pt x="3883" y="1"/>
                      <a:pt x="3884" y="1"/>
                    </a:cubicBezTo>
                    <a:close/>
                    <a:moveTo>
                      <a:pt x="3892" y="1"/>
                    </a:moveTo>
                    <a:lnTo>
                      <a:pt x="3892" y="1"/>
                    </a:lnTo>
                    <a:cubicBezTo>
                      <a:pt x="3893" y="1"/>
                      <a:pt x="3894" y="2"/>
                      <a:pt x="3894" y="3"/>
                    </a:cubicBezTo>
                    <a:cubicBezTo>
                      <a:pt x="3894" y="4"/>
                      <a:pt x="3893" y="5"/>
                      <a:pt x="3892" y="5"/>
                    </a:cubicBezTo>
                    <a:lnTo>
                      <a:pt x="3892" y="5"/>
                    </a:lnTo>
                    <a:cubicBezTo>
                      <a:pt x="3891" y="5"/>
                      <a:pt x="3890" y="4"/>
                      <a:pt x="3890" y="3"/>
                    </a:cubicBezTo>
                    <a:cubicBezTo>
                      <a:pt x="3890" y="2"/>
                      <a:pt x="3891" y="1"/>
                      <a:pt x="3892" y="1"/>
                    </a:cubicBezTo>
                    <a:close/>
                    <a:moveTo>
                      <a:pt x="3900" y="1"/>
                    </a:moveTo>
                    <a:lnTo>
                      <a:pt x="3900" y="1"/>
                    </a:lnTo>
                    <a:cubicBezTo>
                      <a:pt x="3901" y="1"/>
                      <a:pt x="3902" y="2"/>
                      <a:pt x="3902" y="3"/>
                    </a:cubicBezTo>
                    <a:cubicBezTo>
                      <a:pt x="3902" y="4"/>
                      <a:pt x="3901" y="5"/>
                      <a:pt x="3900" y="5"/>
                    </a:cubicBezTo>
                    <a:lnTo>
                      <a:pt x="3900" y="5"/>
                    </a:lnTo>
                    <a:cubicBezTo>
                      <a:pt x="3899" y="5"/>
                      <a:pt x="3898" y="4"/>
                      <a:pt x="3898" y="3"/>
                    </a:cubicBezTo>
                    <a:cubicBezTo>
                      <a:pt x="3898" y="2"/>
                      <a:pt x="3899" y="1"/>
                      <a:pt x="3900" y="1"/>
                    </a:cubicBezTo>
                    <a:close/>
                    <a:moveTo>
                      <a:pt x="3908" y="1"/>
                    </a:moveTo>
                    <a:lnTo>
                      <a:pt x="3908" y="1"/>
                    </a:lnTo>
                    <a:cubicBezTo>
                      <a:pt x="3909" y="1"/>
                      <a:pt x="3910" y="2"/>
                      <a:pt x="3910" y="3"/>
                    </a:cubicBezTo>
                    <a:cubicBezTo>
                      <a:pt x="3910" y="4"/>
                      <a:pt x="3909" y="5"/>
                      <a:pt x="3908" y="5"/>
                    </a:cubicBezTo>
                    <a:lnTo>
                      <a:pt x="3908" y="5"/>
                    </a:lnTo>
                    <a:cubicBezTo>
                      <a:pt x="3907" y="5"/>
                      <a:pt x="3906" y="4"/>
                      <a:pt x="3906" y="3"/>
                    </a:cubicBezTo>
                    <a:cubicBezTo>
                      <a:pt x="3906" y="2"/>
                      <a:pt x="3907" y="1"/>
                      <a:pt x="3908" y="1"/>
                    </a:cubicBezTo>
                    <a:close/>
                    <a:moveTo>
                      <a:pt x="3916" y="1"/>
                    </a:moveTo>
                    <a:lnTo>
                      <a:pt x="3916" y="1"/>
                    </a:lnTo>
                    <a:cubicBezTo>
                      <a:pt x="3917" y="1"/>
                      <a:pt x="3918" y="2"/>
                      <a:pt x="3918" y="3"/>
                    </a:cubicBezTo>
                    <a:cubicBezTo>
                      <a:pt x="3918" y="4"/>
                      <a:pt x="3917" y="5"/>
                      <a:pt x="3916" y="5"/>
                    </a:cubicBezTo>
                    <a:lnTo>
                      <a:pt x="3916" y="5"/>
                    </a:lnTo>
                    <a:cubicBezTo>
                      <a:pt x="3915" y="5"/>
                      <a:pt x="3914" y="4"/>
                      <a:pt x="3914" y="3"/>
                    </a:cubicBezTo>
                    <a:cubicBezTo>
                      <a:pt x="3914" y="2"/>
                      <a:pt x="3915" y="1"/>
                      <a:pt x="3916" y="1"/>
                    </a:cubicBezTo>
                    <a:close/>
                    <a:moveTo>
                      <a:pt x="3924" y="1"/>
                    </a:moveTo>
                    <a:lnTo>
                      <a:pt x="3924" y="1"/>
                    </a:lnTo>
                    <a:cubicBezTo>
                      <a:pt x="3925" y="1"/>
                      <a:pt x="3926" y="2"/>
                      <a:pt x="3926" y="3"/>
                    </a:cubicBezTo>
                    <a:cubicBezTo>
                      <a:pt x="3926" y="4"/>
                      <a:pt x="3925" y="5"/>
                      <a:pt x="3924" y="5"/>
                    </a:cubicBezTo>
                    <a:lnTo>
                      <a:pt x="3924" y="5"/>
                    </a:lnTo>
                    <a:cubicBezTo>
                      <a:pt x="3923" y="5"/>
                      <a:pt x="3922" y="4"/>
                      <a:pt x="3922" y="3"/>
                    </a:cubicBezTo>
                    <a:cubicBezTo>
                      <a:pt x="3922" y="2"/>
                      <a:pt x="3923" y="1"/>
                      <a:pt x="3924" y="1"/>
                    </a:cubicBezTo>
                    <a:close/>
                    <a:moveTo>
                      <a:pt x="3932" y="1"/>
                    </a:moveTo>
                    <a:lnTo>
                      <a:pt x="3932" y="1"/>
                    </a:lnTo>
                    <a:cubicBezTo>
                      <a:pt x="3933" y="1"/>
                      <a:pt x="3934" y="2"/>
                      <a:pt x="3934" y="3"/>
                    </a:cubicBezTo>
                    <a:cubicBezTo>
                      <a:pt x="3934" y="4"/>
                      <a:pt x="3933" y="5"/>
                      <a:pt x="3932" y="5"/>
                    </a:cubicBezTo>
                    <a:lnTo>
                      <a:pt x="3932" y="5"/>
                    </a:lnTo>
                    <a:cubicBezTo>
                      <a:pt x="3931" y="5"/>
                      <a:pt x="3930" y="4"/>
                      <a:pt x="3930" y="3"/>
                    </a:cubicBezTo>
                    <a:cubicBezTo>
                      <a:pt x="3930" y="2"/>
                      <a:pt x="3931" y="1"/>
                      <a:pt x="3932" y="1"/>
                    </a:cubicBezTo>
                    <a:close/>
                    <a:moveTo>
                      <a:pt x="3940" y="1"/>
                    </a:moveTo>
                    <a:lnTo>
                      <a:pt x="3940" y="1"/>
                    </a:lnTo>
                    <a:cubicBezTo>
                      <a:pt x="3941" y="1"/>
                      <a:pt x="3942" y="2"/>
                      <a:pt x="3942" y="3"/>
                    </a:cubicBezTo>
                    <a:cubicBezTo>
                      <a:pt x="3942" y="4"/>
                      <a:pt x="3941" y="5"/>
                      <a:pt x="3940" y="5"/>
                    </a:cubicBezTo>
                    <a:lnTo>
                      <a:pt x="3940" y="5"/>
                    </a:lnTo>
                    <a:cubicBezTo>
                      <a:pt x="3939" y="5"/>
                      <a:pt x="3938" y="4"/>
                      <a:pt x="3938" y="3"/>
                    </a:cubicBezTo>
                    <a:cubicBezTo>
                      <a:pt x="3938" y="2"/>
                      <a:pt x="3939" y="1"/>
                      <a:pt x="3940" y="1"/>
                    </a:cubicBezTo>
                    <a:close/>
                    <a:moveTo>
                      <a:pt x="3948" y="1"/>
                    </a:moveTo>
                    <a:lnTo>
                      <a:pt x="3948" y="1"/>
                    </a:lnTo>
                    <a:cubicBezTo>
                      <a:pt x="3949" y="1"/>
                      <a:pt x="3950" y="2"/>
                      <a:pt x="3950" y="3"/>
                    </a:cubicBezTo>
                    <a:cubicBezTo>
                      <a:pt x="3950" y="4"/>
                      <a:pt x="3949" y="5"/>
                      <a:pt x="3948" y="5"/>
                    </a:cubicBezTo>
                    <a:lnTo>
                      <a:pt x="3948" y="5"/>
                    </a:lnTo>
                    <a:cubicBezTo>
                      <a:pt x="3947" y="5"/>
                      <a:pt x="3946" y="4"/>
                      <a:pt x="3946" y="3"/>
                    </a:cubicBezTo>
                    <a:cubicBezTo>
                      <a:pt x="3946" y="2"/>
                      <a:pt x="3947" y="1"/>
                      <a:pt x="3948" y="1"/>
                    </a:cubicBezTo>
                    <a:close/>
                    <a:moveTo>
                      <a:pt x="3956" y="1"/>
                    </a:moveTo>
                    <a:lnTo>
                      <a:pt x="3956" y="1"/>
                    </a:lnTo>
                    <a:cubicBezTo>
                      <a:pt x="3957" y="1"/>
                      <a:pt x="3958" y="2"/>
                      <a:pt x="3958" y="3"/>
                    </a:cubicBezTo>
                    <a:cubicBezTo>
                      <a:pt x="3958" y="4"/>
                      <a:pt x="3957" y="5"/>
                      <a:pt x="3956" y="5"/>
                    </a:cubicBezTo>
                    <a:lnTo>
                      <a:pt x="3956" y="5"/>
                    </a:lnTo>
                    <a:cubicBezTo>
                      <a:pt x="3955" y="5"/>
                      <a:pt x="3954" y="4"/>
                      <a:pt x="3954" y="3"/>
                    </a:cubicBezTo>
                    <a:cubicBezTo>
                      <a:pt x="3954" y="2"/>
                      <a:pt x="3955" y="1"/>
                      <a:pt x="3956" y="1"/>
                    </a:cubicBezTo>
                    <a:close/>
                    <a:moveTo>
                      <a:pt x="3964" y="1"/>
                    </a:moveTo>
                    <a:lnTo>
                      <a:pt x="3964" y="1"/>
                    </a:lnTo>
                    <a:cubicBezTo>
                      <a:pt x="3965" y="1"/>
                      <a:pt x="3966" y="2"/>
                      <a:pt x="3966" y="3"/>
                    </a:cubicBezTo>
                    <a:cubicBezTo>
                      <a:pt x="3966" y="4"/>
                      <a:pt x="3965" y="5"/>
                      <a:pt x="3964" y="5"/>
                    </a:cubicBezTo>
                    <a:lnTo>
                      <a:pt x="3964" y="5"/>
                    </a:lnTo>
                    <a:cubicBezTo>
                      <a:pt x="3963" y="5"/>
                      <a:pt x="3962" y="4"/>
                      <a:pt x="3962" y="3"/>
                    </a:cubicBezTo>
                    <a:cubicBezTo>
                      <a:pt x="3962" y="2"/>
                      <a:pt x="3963" y="1"/>
                      <a:pt x="3964" y="1"/>
                    </a:cubicBezTo>
                    <a:close/>
                    <a:moveTo>
                      <a:pt x="3972" y="1"/>
                    </a:moveTo>
                    <a:lnTo>
                      <a:pt x="3972" y="1"/>
                    </a:lnTo>
                    <a:cubicBezTo>
                      <a:pt x="3973" y="1"/>
                      <a:pt x="3974" y="2"/>
                      <a:pt x="3974" y="3"/>
                    </a:cubicBezTo>
                    <a:cubicBezTo>
                      <a:pt x="3974" y="4"/>
                      <a:pt x="3973" y="5"/>
                      <a:pt x="3972" y="5"/>
                    </a:cubicBezTo>
                    <a:lnTo>
                      <a:pt x="3972" y="5"/>
                    </a:lnTo>
                    <a:cubicBezTo>
                      <a:pt x="3971" y="5"/>
                      <a:pt x="3970" y="4"/>
                      <a:pt x="3970" y="3"/>
                    </a:cubicBezTo>
                    <a:cubicBezTo>
                      <a:pt x="3970" y="2"/>
                      <a:pt x="3971" y="1"/>
                      <a:pt x="3972" y="1"/>
                    </a:cubicBezTo>
                    <a:close/>
                    <a:moveTo>
                      <a:pt x="3980" y="1"/>
                    </a:moveTo>
                    <a:lnTo>
                      <a:pt x="3980" y="1"/>
                    </a:lnTo>
                    <a:cubicBezTo>
                      <a:pt x="3981" y="1"/>
                      <a:pt x="3982" y="2"/>
                      <a:pt x="3982" y="3"/>
                    </a:cubicBezTo>
                    <a:cubicBezTo>
                      <a:pt x="3982" y="4"/>
                      <a:pt x="3981" y="5"/>
                      <a:pt x="3980" y="5"/>
                    </a:cubicBezTo>
                    <a:lnTo>
                      <a:pt x="3980" y="5"/>
                    </a:lnTo>
                    <a:cubicBezTo>
                      <a:pt x="3979" y="5"/>
                      <a:pt x="3978" y="4"/>
                      <a:pt x="3978" y="3"/>
                    </a:cubicBezTo>
                    <a:cubicBezTo>
                      <a:pt x="3978" y="2"/>
                      <a:pt x="3979" y="1"/>
                      <a:pt x="3980" y="1"/>
                    </a:cubicBezTo>
                    <a:close/>
                    <a:moveTo>
                      <a:pt x="3988" y="1"/>
                    </a:moveTo>
                    <a:lnTo>
                      <a:pt x="3988" y="1"/>
                    </a:lnTo>
                    <a:cubicBezTo>
                      <a:pt x="3989" y="1"/>
                      <a:pt x="3990" y="2"/>
                      <a:pt x="3990" y="3"/>
                    </a:cubicBezTo>
                    <a:cubicBezTo>
                      <a:pt x="3990" y="4"/>
                      <a:pt x="3989" y="5"/>
                      <a:pt x="3988" y="5"/>
                    </a:cubicBezTo>
                    <a:lnTo>
                      <a:pt x="3988" y="5"/>
                    </a:lnTo>
                    <a:cubicBezTo>
                      <a:pt x="3987" y="5"/>
                      <a:pt x="3986" y="4"/>
                      <a:pt x="3986" y="3"/>
                    </a:cubicBezTo>
                    <a:cubicBezTo>
                      <a:pt x="3986" y="2"/>
                      <a:pt x="3987" y="1"/>
                      <a:pt x="3988" y="1"/>
                    </a:cubicBezTo>
                    <a:close/>
                    <a:moveTo>
                      <a:pt x="3996" y="1"/>
                    </a:moveTo>
                    <a:lnTo>
                      <a:pt x="3996" y="1"/>
                    </a:lnTo>
                    <a:cubicBezTo>
                      <a:pt x="3997" y="1"/>
                      <a:pt x="3998" y="2"/>
                      <a:pt x="3998" y="3"/>
                    </a:cubicBezTo>
                    <a:cubicBezTo>
                      <a:pt x="3998" y="4"/>
                      <a:pt x="3997" y="5"/>
                      <a:pt x="3996" y="5"/>
                    </a:cubicBezTo>
                    <a:lnTo>
                      <a:pt x="3996" y="5"/>
                    </a:lnTo>
                    <a:cubicBezTo>
                      <a:pt x="3995" y="5"/>
                      <a:pt x="3994" y="4"/>
                      <a:pt x="3994" y="3"/>
                    </a:cubicBezTo>
                    <a:cubicBezTo>
                      <a:pt x="3994" y="2"/>
                      <a:pt x="3995" y="1"/>
                      <a:pt x="3996" y="1"/>
                    </a:cubicBezTo>
                    <a:close/>
                    <a:moveTo>
                      <a:pt x="4004" y="1"/>
                    </a:moveTo>
                    <a:lnTo>
                      <a:pt x="4004" y="1"/>
                    </a:lnTo>
                    <a:cubicBezTo>
                      <a:pt x="4005" y="1"/>
                      <a:pt x="4006" y="2"/>
                      <a:pt x="4006" y="3"/>
                    </a:cubicBezTo>
                    <a:cubicBezTo>
                      <a:pt x="4006" y="4"/>
                      <a:pt x="4005" y="5"/>
                      <a:pt x="4004" y="5"/>
                    </a:cubicBezTo>
                    <a:lnTo>
                      <a:pt x="4004" y="5"/>
                    </a:lnTo>
                    <a:cubicBezTo>
                      <a:pt x="4003" y="5"/>
                      <a:pt x="4002" y="4"/>
                      <a:pt x="4002" y="3"/>
                    </a:cubicBezTo>
                    <a:cubicBezTo>
                      <a:pt x="4002" y="2"/>
                      <a:pt x="4003" y="1"/>
                      <a:pt x="4004" y="1"/>
                    </a:cubicBezTo>
                    <a:close/>
                    <a:moveTo>
                      <a:pt x="4012" y="1"/>
                    </a:moveTo>
                    <a:lnTo>
                      <a:pt x="4012" y="1"/>
                    </a:lnTo>
                    <a:cubicBezTo>
                      <a:pt x="4013" y="1"/>
                      <a:pt x="4014" y="2"/>
                      <a:pt x="4014" y="3"/>
                    </a:cubicBezTo>
                    <a:cubicBezTo>
                      <a:pt x="4014" y="4"/>
                      <a:pt x="4013" y="5"/>
                      <a:pt x="4012" y="5"/>
                    </a:cubicBezTo>
                    <a:lnTo>
                      <a:pt x="4012" y="5"/>
                    </a:lnTo>
                    <a:cubicBezTo>
                      <a:pt x="4011" y="5"/>
                      <a:pt x="4010" y="4"/>
                      <a:pt x="4010" y="3"/>
                    </a:cubicBezTo>
                    <a:cubicBezTo>
                      <a:pt x="4010" y="2"/>
                      <a:pt x="4011" y="1"/>
                      <a:pt x="4012" y="1"/>
                    </a:cubicBezTo>
                    <a:close/>
                    <a:moveTo>
                      <a:pt x="4020" y="1"/>
                    </a:moveTo>
                    <a:lnTo>
                      <a:pt x="4020" y="1"/>
                    </a:lnTo>
                    <a:cubicBezTo>
                      <a:pt x="4021" y="1"/>
                      <a:pt x="4022" y="2"/>
                      <a:pt x="4022" y="3"/>
                    </a:cubicBezTo>
                    <a:cubicBezTo>
                      <a:pt x="4022" y="4"/>
                      <a:pt x="4021" y="5"/>
                      <a:pt x="4020" y="5"/>
                    </a:cubicBezTo>
                    <a:lnTo>
                      <a:pt x="4020" y="5"/>
                    </a:lnTo>
                    <a:cubicBezTo>
                      <a:pt x="4019" y="5"/>
                      <a:pt x="4018" y="4"/>
                      <a:pt x="4018" y="3"/>
                    </a:cubicBezTo>
                    <a:cubicBezTo>
                      <a:pt x="4018" y="2"/>
                      <a:pt x="4019" y="1"/>
                      <a:pt x="4020" y="1"/>
                    </a:cubicBezTo>
                    <a:close/>
                    <a:moveTo>
                      <a:pt x="4028" y="1"/>
                    </a:moveTo>
                    <a:lnTo>
                      <a:pt x="4028" y="1"/>
                    </a:lnTo>
                    <a:cubicBezTo>
                      <a:pt x="4029" y="1"/>
                      <a:pt x="4030" y="2"/>
                      <a:pt x="4030" y="3"/>
                    </a:cubicBezTo>
                    <a:cubicBezTo>
                      <a:pt x="4030" y="4"/>
                      <a:pt x="4029" y="5"/>
                      <a:pt x="4028" y="5"/>
                    </a:cubicBezTo>
                    <a:lnTo>
                      <a:pt x="4028" y="5"/>
                    </a:lnTo>
                    <a:cubicBezTo>
                      <a:pt x="4027" y="5"/>
                      <a:pt x="4026" y="4"/>
                      <a:pt x="4026" y="3"/>
                    </a:cubicBezTo>
                    <a:cubicBezTo>
                      <a:pt x="4026" y="2"/>
                      <a:pt x="4027" y="1"/>
                      <a:pt x="4028" y="1"/>
                    </a:cubicBezTo>
                    <a:close/>
                    <a:moveTo>
                      <a:pt x="4036" y="1"/>
                    </a:moveTo>
                    <a:lnTo>
                      <a:pt x="4036" y="1"/>
                    </a:lnTo>
                    <a:cubicBezTo>
                      <a:pt x="4037" y="1"/>
                      <a:pt x="4038" y="2"/>
                      <a:pt x="4038" y="3"/>
                    </a:cubicBezTo>
                    <a:cubicBezTo>
                      <a:pt x="4038" y="4"/>
                      <a:pt x="4037" y="5"/>
                      <a:pt x="4036" y="5"/>
                    </a:cubicBezTo>
                    <a:lnTo>
                      <a:pt x="4036" y="5"/>
                    </a:lnTo>
                    <a:cubicBezTo>
                      <a:pt x="4035" y="5"/>
                      <a:pt x="4034" y="4"/>
                      <a:pt x="4034" y="3"/>
                    </a:cubicBezTo>
                    <a:cubicBezTo>
                      <a:pt x="4034" y="2"/>
                      <a:pt x="4035" y="1"/>
                      <a:pt x="4036" y="1"/>
                    </a:cubicBezTo>
                    <a:close/>
                    <a:moveTo>
                      <a:pt x="4044" y="1"/>
                    </a:moveTo>
                    <a:lnTo>
                      <a:pt x="4044" y="1"/>
                    </a:lnTo>
                    <a:cubicBezTo>
                      <a:pt x="4045" y="1"/>
                      <a:pt x="4046" y="2"/>
                      <a:pt x="4046" y="3"/>
                    </a:cubicBezTo>
                    <a:cubicBezTo>
                      <a:pt x="4046" y="4"/>
                      <a:pt x="4045" y="5"/>
                      <a:pt x="4044" y="5"/>
                    </a:cubicBezTo>
                    <a:lnTo>
                      <a:pt x="4044" y="5"/>
                    </a:lnTo>
                    <a:cubicBezTo>
                      <a:pt x="4043" y="5"/>
                      <a:pt x="4042" y="4"/>
                      <a:pt x="4042" y="3"/>
                    </a:cubicBezTo>
                    <a:cubicBezTo>
                      <a:pt x="4042" y="2"/>
                      <a:pt x="4043" y="1"/>
                      <a:pt x="4044" y="1"/>
                    </a:cubicBezTo>
                    <a:close/>
                    <a:moveTo>
                      <a:pt x="4052" y="1"/>
                    </a:moveTo>
                    <a:lnTo>
                      <a:pt x="4052" y="1"/>
                    </a:lnTo>
                    <a:cubicBezTo>
                      <a:pt x="4053" y="1"/>
                      <a:pt x="4054" y="2"/>
                      <a:pt x="4054" y="3"/>
                    </a:cubicBezTo>
                    <a:cubicBezTo>
                      <a:pt x="4054" y="4"/>
                      <a:pt x="4053" y="5"/>
                      <a:pt x="4052" y="5"/>
                    </a:cubicBezTo>
                    <a:lnTo>
                      <a:pt x="4052" y="5"/>
                    </a:lnTo>
                    <a:cubicBezTo>
                      <a:pt x="4051" y="5"/>
                      <a:pt x="4050" y="4"/>
                      <a:pt x="4050" y="3"/>
                    </a:cubicBezTo>
                    <a:cubicBezTo>
                      <a:pt x="4050" y="2"/>
                      <a:pt x="4051" y="1"/>
                      <a:pt x="4052" y="1"/>
                    </a:cubicBezTo>
                    <a:close/>
                    <a:moveTo>
                      <a:pt x="4060" y="1"/>
                    </a:moveTo>
                    <a:lnTo>
                      <a:pt x="4060" y="1"/>
                    </a:lnTo>
                    <a:cubicBezTo>
                      <a:pt x="4061" y="1"/>
                      <a:pt x="4062" y="2"/>
                      <a:pt x="4062" y="3"/>
                    </a:cubicBezTo>
                    <a:cubicBezTo>
                      <a:pt x="4062" y="4"/>
                      <a:pt x="4061" y="5"/>
                      <a:pt x="4060" y="5"/>
                    </a:cubicBezTo>
                    <a:lnTo>
                      <a:pt x="4060" y="5"/>
                    </a:lnTo>
                    <a:cubicBezTo>
                      <a:pt x="4059" y="5"/>
                      <a:pt x="4058" y="4"/>
                      <a:pt x="4058" y="3"/>
                    </a:cubicBezTo>
                    <a:cubicBezTo>
                      <a:pt x="4058" y="2"/>
                      <a:pt x="4059" y="1"/>
                      <a:pt x="4060" y="1"/>
                    </a:cubicBezTo>
                    <a:close/>
                    <a:moveTo>
                      <a:pt x="4068" y="1"/>
                    </a:moveTo>
                    <a:lnTo>
                      <a:pt x="4068" y="1"/>
                    </a:lnTo>
                    <a:cubicBezTo>
                      <a:pt x="4069" y="1"/>
                      <a:pt x="4070" y="2"/>
                      <a:pt x="4070" y="3"/>
                    </a:cubicBezTo>
                    <a:cubicBezTo>
                      <a:pt x="4070" y="4"/>
                      <a:pt x="4069" y="5"/>
                      <a:pt x="4068" y="5"/>
                    </a:cubicBezTo>
                    <a:lnTo>
                      <a:pt x="4068" y="5"/>
                    </a:lnTo>
                    <a:cubicBezTo>
                      <a:pt x="4067" y="5"/>
                      <a:pt x="4066" y="4"/>
                      <a:pt x="4066" y="3"/>
                    </a:cubicBezTo>
                    <a:cubicBezTo>
                      <a:pt x="4066" y="2"/>
                      <a:pt x="4067" y="1"/>
                      <a:pt x="4068" y="1"/>
                    </a:cubicBezTo>
                    <a:close/>
                    <a:moveTo>
                      <a:pt x="4076" y="1"/>
                    </a:moveTo>
                    <a:lnTo>
                      <a:pt x="4076" y="1"/>
                    </a:lnTo>
                    <a:cubicBezTo>
                      <a:pt x="4077" y="1"/>
                      <a:pt x="4078" y="2"/>
                      <a:pt x="4078" y="3"/>
                    </a:cubicBezTo>
                    <a:cubicBezTo>
                      <a:pt x="4078" y="4"/>
                      <a:pt x="4077" y="5"/>
                      <a:pt x="4076" y="5"/>
                    </a:cubicBezTo>
                    <a:lnTo>
                      <a:pt x="4076" y="5"/>
                    </a:lnTo>
                    <a:cubicBezTo>
                      <a:pt x="4075" y="5"/>
                      <a:pt x="4074" y="4"/>
                      <a:pt x="4074" y="3"/>
                    </a:cubicBezTo>
                    <a:cubicBezTo>
                      <a:pt x="4074" y="2"/>
                      <a:pt x="4075" y="1"/>
                      <a:pt x="4076" y="1"/>
                    </a:cubicBezTo>
                    <a:close/>
                    <a:moveTo>
                      <a:pt x="4084" y="1"/>
                    </a:moveTo>
                    <a:lnTo>
                      <a:pt x="4084" y="1"/>
                    </a:lnTo>
                    <a:cubicBezTo>
                      <a:pt x="4085" y="1"/>
                      <a:pt x="4086" y="2"/>
                      <a:pt x="4086" y="3"/>
                    </a:cubicBezTo>
                    <a:cubicBezTo>
                      <a:pt x="4086" y="4"/>
                      <a:pt x="4085" y="5"/>
                      <a:pt x="4084" y="5"/>
                    </a:cubicBezTo>
                    <a:lnTo>
                      <a:pt x="4084" y="5"/>
                    </a:lnTo>
                    <a:cubicBezTo>
                      <a:pt x="4083" y="5"/>
                      <a:pt x="4082" y="4"/>
                      <a:pt x="4082" y="3"/>
                    </a:cubicBezTo>
                    <a:cubicBezTo>
                      <a:pt x="4082" y="2"/>
                      <a:pt x="4083" y="1"/>
                      <a:pt x="4084" y="1"/>
                    </a:cubicBezTo>
                    <a:close/>
                    <a:moveTo>
                      <a:pt x="4092" y="1"/>
                    </a:moveTo>
                    <a:lnTo>
                      <a:pt x="4092" y="1"/>
                    </a:lnTo>
                    <a:cubicBezTo>
                      <a:pt x="4093" y="1"/>
                      <a:pt x="4094" y="2"/>
                      <a:pt x="4094" y="3"/>
                    </a:cubicBezTo>
                    <a:cubicBezTo>
                      <a:pt x="4094" y="4"/>
                      <a:pt x="4093" y="5"/>
                      <a:pt x="4092" y="5"/>
                    </a:cubicBezTo>
                    <a:lnTo>
                      <a:pt x="4092" y="5"/>
                    </a:lnTo>
                    <a:cubicBezTo>
                      <a:pt x="4091" y="5"/>
                      <a:pt x="4090" y="4"/>
                      <a:pt x="4090" y="3"/>
                    </a:cubicBezTo>
                    <a:cubicBezTo>
                      <a:pt x="4090" y="2"/>
                      <a:pt x="4091" y="1"/>
                      <a:pt x="4092" y="1"/>
                    </a:cubicBezTo>
                    <a:close/>
                    <a:moveTo>
                      <a:pt x="4100" y="1"/>
                    </a:moveTo>
                    <a:lnTo>
                      <a:pt x="4100" y="1"/>
                    </a:lnTo>
                    <a:cubicBezTo>
                      <a:pt x="4101" y="1"/>
                      <a:pt x="4102" y="2"/>
                      <a:pt x="4102" y="3"/>
                    </a:cubicBezTo>
                    <a:cubicBezTo>
                      <a:pt x="4102" y="4"/>
                      <a:pt x="4101" y="5"/>
                      <a:pt x="4100" y="5"/>
                    </a:cubicBezTo>
                    <a:lnTo>
                      <a:pt x="4100" y="5"/>
                    </a:lnTo>
                    <a:cubicBezTo>
                      <a:pt x="4099" y="5"/>
                      <a:pt x="4098" y="4"/>
                      <a:pt x="4098" y="3"/>
                    </a:cubicBezTo>
                    <a:cubicBezTo>
                      <a:pt x="4098" y="2"/>
                      <a:pt x="4099" y="1"/>
                      <a:pt x="4100" y="1"/>
                    </a:cubicBezTo>
                    <a:close/>
                    <a:moveTo>
                      <a:pt x="4108" y="1"/>
                    </a:moveTo>
                    <a:lnTo>
                      <a:pt x="4108" y="1"/>
                    </a:lnTo>
                    <a:cubicBezTo>
                      <a:pt x="4109" y="1"/>
                      <a:pt x="4110" y="2"/>
                      <a:pt x="4110" y="3"/>
                    </a:cubicBezTo>
                    <a:cubicBezTo>
                      <a:pt x="4110" y="4"/>
                      <a:pt x="4109" y="5"/>
                      <a:pt x="4108" y="5"/>
                    </a:cubicBezTo>
                    <a:lnTo>
                      <a:pt x="4108" y="5"/>
                    </a:lnTo>
                    <a:cubicBezTo>
                      <a:pt x="4107" y="5"/>
                      <a:pt x="4106" y="4"/>
                      <a:pt x="4106" y="3"/>
                    </a:cubicBezTo>
                    <a:cubicBezTo>
                      <a:pt x="4106" y="2"/>
                      <a:pt x="4107" y="1"/>
                      <a:pt x="4108" y="1"/>
                    </a:cubicBezTo>
                    <a:close/>
                    <a:moveTo>
                      <a:pt x="4116" y="1"/>
                    </a:moveTo>
                    <a:lnTo>
                      <a:pt x="4116" y="1"/>
                    </a:lnTo>
                    <a:cubicBezTo>
                      <a:pt x="4117" y="1"/>
                      <a:pt x="4118" y="2"/>
                      <a:pt x="4118" y="3"/>
                    </a:cubicBezTo>
                    <a:cubicBezTo>
                      <a:pt x="4118" y="4"/>
                      <a:pt x="4117" y="5"/>
                      <a:pt x="4116" y="5"/>
                    </a:cubicBezTo>
                    <a:lnTo>
                      <a:pt x="4116" y="5"/>
                    </a:lnTo>
                    <a:cubicBezTo>
                      <a:pt x="4115" y="5"/>
                      <a:pt x="4114" y="4"/>
                      <a:pt x="4114" y="3"/>
                    </a:cubicBezTo>
                    <a:cubicBezTo>
                      <a:pt x="4114" y="2"/>
                      <a:pt x="4115" y="1"/>
                      <a:pt x="4116" y="1"/>
                    </a:cubicBezTo>
                    <a:close/>
                    <a:moveTo>
                      <a:pt x="4124" y="1"/>
                    </a:moveTo>
                    <a:lnTo>
                      <a:pt x="4124" y="1"/>
                    </a:lnTo>
                    <a:cubicBezTo>
                      <a:pt x="4125" y="1"/>
                      <a:pt x="4126" y="2"/>
                      <a:pt x="4126" y="3"/>
                    </a:cubicBezTo>
                    <a:cubicBezTo>
                      <a:pt x="4126" y="4"/>
                      <a:pt x="4125" y="5"/>
                      <a:pt x="4124" y="5"/>
                    </a:cubicBezTo>
                    <a:lnTo>
                      <a:pt x="4124" y="5"/>
                    </a:lnTo>
                    <a:cubicBezTo>
                      <a:pt x="4123" y="5"/>
                      <a:pt x="4122" y="4"/>
                      <a:pt x="4122" y="3"/>
                    </a:cubicBezTo>
                    <a:cubicBezTo>
                      <a:pt x="4122" y="2"/>
                      <a:pt x="4123" y="1"/>
                      <a:pt x="4124" y="1"/>
                    </a:cubicBezTo>
                    <a:close/>
                    <a:moveTo>
                      <a:pt x="4132" y="1"/>
                    </a:moveTo>
                    <a:lnTo>
                      <a:pt x="4132" y="1"/>
                    </a:lnTo>
                    <a:cubicBezTo>
                      <a:pt x="4133" y="1"/>
                      <a:pt x="4134" y="2"/>
                      <a:pt x="4134" y="3"/>
                    </a:cubicBezTo>
                    <a:cubicBezTo>
                      <a:pt x="4134" y="4"/>
                      <a:pt x="4133" y="5"/>
                      <a:pt x="4132" y="5"/>
                    </a:cubicBezTo>
                    <a:lnTo>
                      <a:pt x="4132" y="5"/>
                    </a:lnTo>
                    <a:cubicBezTo>
                      <a:pt x="4131" y="5"/>
                      <a:pt x="4130" y="4"/>
                      <a:pt x="4130" y="3"/>
                    </a:cubicBezTo>
                    <a:cubicBezTo>
                      <a:pt x="4130" y="2"/>
                      <a:pt x="4131" y="1"/>
                      <a:pt x="4132" y="1"/>
                    </a:cubicBezTo>
                    <a:close/>
                    <a:moveTo>
                      <a:pt x="4140" y="1"/>
                    </a:moveTo>
                    <a:lnTo>
                      <a:pt x="4140" y="1"/>
                    </a:lnTo>
                    <a:cubicBezTo>
                      <a:pt x="4141" y="1"/>
                      <a:pt x="4142" y="2"/>
                      <a:pt x="4142" y="3"/>
                    </a:cubicBezTo>
                    <a:cubicBezTo>
                      <a:pt x="4142" y="4"/>
                      <a:pt x="4141" y="5"/>
                      <a:pt x="4140" y="5"/>
                    </a:cubicBezTo>
                    <a:lnTo>
                      <a:pt x="4140" y="5"/>
                    </a:lnTo>
                    <a:cubicBezTo>
                      <a:pt x="4139" y="5"/>
                      <a:pt x="4138" y="4"/>
                      <a:pt x="4138" y="3"/>
                    </a:cubicBezTo>
                    <a:cubicBezTo>
                      <a:pt x="4138" y="2"/>
                      <a:pt x="4139" y="1"/>
                      <a:pt x="4140" y="1"/>
                    </a:cubicBezTo>
                    <a:close/>
                    <a:moveTo>
                      <a:pt x="4148" y="1"/>
                    </a:moveTo>
                    <a:lnTo>
                      <a:pt x="4148" y="1"/>
                    </a:lnTo>
                    <a:cubicBezTo>
                      <a:pt x="4149" y="1"/>
                      <a:pt x="4150" y="2"/>
                      <a:pt x="4150" y="3"/>
                    </a:cubicBezTo>
                    <a:cubicBezTo>
                      <a:pt x="4150" y="4"/>
                      <a:pt x="4149" y="5"/>
                      <a:pt x="4148" y="5"/>
                    </a:cubicBezTo>
                    <a:lnTo>
                      <a:pt x="4148" y="5"/>
                    </a:lnTo>
                    <a:cubicBezTo>
                      <a:pt x="4147" y="5"/>
                      <a:pt x="4146" y="4"/>
                      <a:pt x="4146" y="3"/>
                    </a:cubicBezTo>
                    <a:cubicBezTo>
                      <a:pt x="4146" y="2"/>
                      <a:pt x="4147" y="1"/>
                      <a:pt x="4148" y="1"/>
                    </a:cubicBezTo>
                    <a:close/>
                    <a:moveTo>
                      <a:pt x="4156" y="1"/>
                    </a:moveTo>
                    <a:lnTo>
                      <a:pt x="4156" y="1"/>
                    </a:lnTo>
                    <a:cubicBezTo>
                      <a:pt x="4157" y="1"/>
                      <a:pt x="4158" y="2"/>
                      <a:pt x="4158" y="3"/>
                    </a:cubicBezTo>
                    <a:cubicBezTo>
                      <a:pt x="4158" y="4"/>
                      <a:pt x="4157" y="5"/>
                      <a:pt x="4156" y="5"/>
                    </a:cubicBezTo>
                    <a:lnTo>
                      <a:pt x="4156" y="5"/>
                    </a:lnTo>
                    <a:cubicBezTo>
                      <a:pt x="4155" y="5"/>
                      <a:pt x="4154" y="4"/>
                      <a:pt x="4154" y="3"/>
                    </a:cubicBezTo>
                    <a:cubicBezTo>
                      <a:pt x="4154" y="2"/>
                      <a:pt x="4155" y="1"/>
                      <a:pt x="4156" y="1"/>
                    </a:cubicBezTo>
                    <a:close/>
                    <a:moveTo>
                      <a:pt x="4164" y="1"/>
                    </a:moveTo>
                    <a:lnTo>
                      <a:pt x="4164" y="1"/>
                    </a:lnTo>
                    <a:cubicBezTo>
                      <a:pt x="4165" y="1"/>
                      <a:pt x="4166" y="2"/>
                      <a:pt x="4166" y="3"/>
                    </a:cubicBezTo>
                    <a:cubicBezTo>
                      <a:pt x="4166" y="4"/>
                      <a:pt x="4165" y="5"/>
                      <a:pt x="4164" y="5"/>
                    </a:cubicBezTo>
                    <a:lnTo>
                      <a:pt x="4164" y="5"/>
                    </a:lnTo>
                    <a:cubicBezTo>
                      <a:pt x="4163" y="5"/>
                      <a:pt x="4162" y="4"/>
                      <a:pt x="4162" y="3"/>
                    </a:cubicBezTo>
                    <a:cubicBezTo>
                      <a:pt x="4162" y="2"/>
                      <a:pt x="4163" y="1"/>
                      <a:pt x="4164" y="1"/>
                    </a:cubicBezTo>
                    <a:close/>
                    <a:moveTo>
                      <a:pt x="4172" y="1"/>
                    </a:moveTo>
                    <a:lnTo>
                      <a:pt x="4172" y="1"/>
                    </a:lnTo>
                    <a:cubicBezTo>
                      <a:pt x="4173" y="1"/>
                      <a:pt x="4174" y="2"/>
                      <a:pt x="4174" y="3"/>
                    </a:cubicBezTo>
                    <a:cubicBezTo>
                      <a:pt x="4174" y="4"/>
                      <a:pt x="4173" y="5"/>
                      <a:pt x="4172" y="5"/>
                    </a:cubicBezTo>
                    <a:lnTo>
                      <a:pt x="4172" y="5"/>
                    </a:lnTo>
                    <a:cubicBezTo>
                      <a:pt x="4171" y="5"/>
                      <a:pt x="4170" y="4"/>
                      <a:pt x="4170" y="3"/>
                    </a:cubicBezTo>
                    <a:cubicBezTo>
                      <a:pt x="4170" y="2"/>
                      <a:pt x="4171" y="1"/>
                      <a:pt x="4172" y="1"/>
                    </a:cubicBezTo>
                    <a:close/>
                    <a:moveTo>
                      <a:pt x="4180" y="1"/>
                    </a:moveTo>
                    <a:lnTo>
                      <a:pt x="4180" y="1"/>
                    </a:lnTo>
                    <a:cubicBezTo>
                      <a:pt x="4181" y="1"/>
                      <a:pt x="4182" y="2"/>
                      <a:pt x="4182" y="3"/>
                    </a:cubicBezTo>
                    <a:cubicBezTo>
                      <a:pt x="4182" y="4"/>
                      <a:pt x="4181" y="5"/>
                      <a:pt x="4180" y="5"/>
                    </a:cubicBezTo>
                    <a:lnTo>
                      <a:pt x="4180" y="5"/>
                    </a:lnTo>
                    <a:cubicBezTo>
                      <a:pt x="4179" y="5"/>
                      <a:pt x="4178" y="4"/>
                      <a:pt x="4178" y="3"/>
                    </a:cubicBezTo>
                    <a:cubicBezTo>
                      <a:pt x="4178" y="2"/>
                      <a:pt x="4179" y="1"/>
                      <a:pt x="4180" y="1"/>
                    </a:cubicBezTo>
                    <a:close/>
                    <a:moveTo>
                      <a:pt x="4188" y="1"/>
                    </a:moveTo>
                    <a:lnTo>
                      <a:pt x="4188" y="1"/>
                    </a:lnTo>
                    <a:cubicBezTo>
                      <a:pt x="4189" y="1"/>
                      <a:pt x="4190" y="2"/>
                      <a:pt x="4190" y="3"/>
                    </a:cubicBezTo>
                    <a:cubicBezTo>
                      <a:pt x="4190" y="4"/>
                      <a:pt x="4189" y="5"/>
                      <a:pt x="4188" y="5"/>
                    </a:cubicBezTo>
                    <a:lnTo>
                      <a:pt x="4188" y="5"/>
                    </a:lnTo>
                    <a:cubicBezTo>
                      <a:pt x="4187" y="5"/>
                      <a:pt x="4186" y="4"/>
                      <a:pt x="4186" y="3"/>
                    </a:cubicBezTo>
                    <a:cubicBezTo>
                      <a:pt x="4186" y="2"/>
                      <a:pt x="4187" y="1"/>
                      <a:pt x="4188" y="1"/>
                    </a:cubicBezTo>
                    <a:close/>
                    <a:moveTo>
                      <a:pt x="4196" y="1"/>
                    </a:moveTo>
                    <a:lnTo>
                      <a:pt x="4196" y="1"/>
                    </a:lnTo>
                    <a:cubicBezTo>
                      <a:pt x="4197" y="1"/>
                      <a:pt x="4198" y="2"/>
                      <a:pt x="4198" y="3"/>
                    </a:cubicBezTo>
                    <a:cubicBezTo>
                      <a:pt x="4198" y="4"/>
                      <a:pt x="4197" y="5"/>
                      <a:pt x="4196" y="5"/>
                    </a:cubicBezTo>
                    <a:lnTo>
                      <a:pt x="4196" y="5"/>
                    </a:lnTo>
                    <a:cubicBezTo>
                      <a:pt x="4195" y="5"/>
                      <a:pt x="4194" y="4"/>
                      <a:pt x="4194" y="3"/>
                    </a:cubicBezTo>
                    <a:cubicBezTo>
                      <a:pt x="4194" y="2"/>
                      <a:pt x="4195" y="1"/>
                      <a:pt x="4196" y="1"/>
                    </a:cubicBezTo>
                    <a:close/>
                    <a:moveTo>
                      <a:pt x="4204" y="1"/>
                    </a:moveTo>
                    <a:lnTo>
                      <a:pt x="4204" y="1"/>
                    </a:lnTo>
                    <a:cubicBezTo>
                      <a:pt x="4205" y="1"/>
                      <a:pt x="4206" y="2"/>
                      <a:pt x="4206" y="3"/>
                    </a:cubicBezTo>
                    <a:cubicBezTo>
                      <a:pt x="4206" y="4"/>
                      <a:pt x="4205" y="5"/>
                      <a:pt x="4204" y="5"/>
                    </a:cubicBezTo>
                    <a:lnTo>
                      <a:pt x="4204" y="5"/>
                    </a:lnTo>
                    <a:cubicBezTo>
                      <a:pt x="4203" y="5"/>
                      <a:pt x="4202" y="4"/>
                      <a:pt x="4202" y="3"/>
                    </a:cubicBezTo>
                    <a:cubicBezTo>
                      <a:pt x="4202" y="2"/>
                      <a:pt x="4203" y="1"/>
                      <a:pt x="4204" y="1"/>
                    </a:cubicBezTo>
                    <a:close/>
                    <a:moveTo>
                      <a:pt x="4212" y="1"/>
                    </a:moveTo>
                    <a:lnTo>
                      <a:pt x="4212" y="1"/>
                    </a:lnTo>
                    <a:cubicBezTo>
                      <a:pt x="4213" y="1"/>
                      <a:pt x="4214" y="2"/>
                      <a:pt x="4214" y="3"/>
                    </a:cubicBezTo>
                    <a:cubicBezTo>
                      <a:pt x="4214" y="4"/>
                      <a:pt x="4213" y="5"/>
                      <a:pt x="4212" y="5"/>
                    </a:cubicBezTo>
                    <a:lnTo>
                      <a:pt x="4212" y="5"/>
                    </a:lnTo>
                    <a:cubicBezTo>
                      <a:pt x="4211" y="5"/>
                      <a:pt x="4210" y="4"/>
                      <a:pt x="4210" y="3"/>
                    </a:cubicBezTo>
                    <a:cubicBezTo>
                      <a:pt x="4210" y="2"/>
                      <a:pt x="4211" y="1"/>
                      <a:pt x="4212" y="1"/>
                    </a:cubicBezTo>
                    <a:close/>
                    <a:moveTo>
                      <a:pt x="4220" y="1"/>
                    </a:moveTo>
                    <a:lnTo>
                      <a:pt x="4220" y="1"/>
                    </a:lnTo>
                    <a:cubicBezTo>
                      <a:pt x="4221" y="1"/>
                      <a:pt x="4222" y="2"/>
                      <a:pt x="4222" y="3"/>
                    </a:cubicBezTo>
                    <a:cubicBezTo>
                      <a:pt x="4222" y="4"/>
                      <a:pt x="4221" y="5"/>
                      <a:pt x="4220" y="5"/>
                    </a:cubicBezTo>
                    <a:lnTo>
                      <a:pt x="4220" y="5"/>
                    </a:lnTo>
                    <a:cubicBezTo>
                      <a:pt x="4219" y="5"/>
                      <a:pt x="4218" y="4"/>
                      <a:pt x="4218" y="3"/>
                    </a:cubicBezTo>
                    <a:cubicBezTo>
                      <a:pt x="4218" y="2"/>
                      <a:pt x="4219" y="1"/>
                      <a:pt x="4220" y="1"/>
                    </a:cubicBezTo>
                    <a:close/>
                    <a:moveTo>
                      <a:pt x="4228" y="1"/>
                    </a:moveTo>
                    <a:lnTo>
                      <a:pt x="4228" y="1"/>
                    </a:lnTo>
                    <a:cubicBezTo>
                      <a:pt x="4229" y="1"/>
                      <a:pt x="4230" y="2"/>
                      <a:pt x="4230" y="3"/>
                    </a:cubicBezTo>
                    <a:cubicBezTo>
                      <a:pt x="4230" y="4"/>
                      <a:pt x="4229" y="5"/>
                      <a:pt x="4228" y="5"/>
                    </a:cubicBezTo>
                    <a:lnTo>
                      <a:pt x="4228" y="5"/>
                    </a:lnTo>
                    <a:cubicBezTo>
                      <a:pt x="4227" y="5"/>
                      <a:pt x="4226" y="4"/>
                      <a:pt x="4226" y="3"/>
                    </a:cubicBezTo>
                    <a:cubicBezTo>
                      <a:pt x="4226" y="2"/>
                      <a:pt x="4227" y="1"/>
                      <a:pt x="4228" y="1"/>
                    </a:cubicBezTo>
                    <a:close/>
                    <a:moveTo>
                      <a:pt x="4236" y="1"/>
                    </a:moveTo>
                    <a:lnTo>
                      <a:pt x="4236" y="1"/>
                    </a:lnTo>
                    <a:cubicBezTo>
                      <a:pt x="4237" y="1"/>
                      <a:pt x="4238" y="2"/>
                      <a:pt x="4238" y="3"/>
                    </a:cubicBezTo>
                    <a:cubicBezTo>
                      <a:pt x="4238" y="4"/>
                      <a:pt x="4237" y="5"/>
                      <a:pt x="4236" y="5"/>
                    </a:cubicBezTo>
                    <a:lnTo>
                      <a:pt x="4236" y="5"/>
                    </a:lnTo>
                    <a:cubicBezTo>
                      <a:pt x="4235" y="5"/>
                      <a:pt x="4234" y="4"/>
                      <a:pt x="4234" y="3"/>
                    </a:cubicBezTo>
                    <a:cubicBezTo>
                      <a:pt x="4234" y="2"/>
                      <a:pt x="4235" y="1"/>
                      <a:pt x="4236" y="1"/>
                    </a:cubicBezTo>
                    <a:close/>
                    <a:moveTo>
                      <a:pt x="4244" y="1"/>
                    </a:moveTo>
                    <a:lnTo>
                      <a:pt x="4244" y="1"/>
                    </a:lnTo>
                    <a:cubicBezTo>
                      <a:pt x="4245" y="1"/>
                      <a:pt x="4246" y="2"/>
                      <a:pt x="4246" y="3"/>
                    </a:cubicBezTo>
                    <a:cubicBezTo>
                      <a:pt x="4246" y="4"/>
                      <a:pt x="4245" y="5"/>
                      <a:pt x="4244" y="5"/>
                    </a:cubicBezTo>
                    <a:lnTo>
                      <a:pt x="4244" y="5"/>
                    </a:lnTo>
                    <a:cubicBezTo>
                      <a:pt x="4243" y="5"/>
                      <a:pt x="4242" y="4"/>
                      <a:pt x="4242" y="3"/>
                    </a:cubicBezTo>
                    <a:cubicBezTo>
                      <a:pt x="4242" y="2"/>
                      <a:pt x="4243" y="1"/>
                      <a:pt x="4244" y="1"/>
                    </a:cubicBezTo>
                    <a:close/>
                    <a:moveTo>
                      <a:pt x="4252" y="1"/>
                    </a:moveTo>
                    <a:lnTo>
                      <a:pt x="4252" y="1"/>
                    </a:lnTo>
                    <a:cubicBezTo>
                      <a:pt x="4253" y="1"/>
                      <a:pt x="4254" y="2"/>
                      <a:pt x="4254" y="3"/>
                    </a:cubicBezTo>
                    <a:cubicBezTo>
                      <a:pt x="4254" y="4"/>
                      <a:pt x="4253" y="5"/>
                      <a:pt x="4252" y="5"/>
                    </a:cubicBezTo>
                    <a:lnTo>
                      <a:pt x="4252" y="5"/>
                    </a:lnTo>
                    <a:cubicBezTo>
                      <a:pt x="4251" y="5"/>
                      <a:pt x="4250" y="4"/>
                      <a:pt x="4250" y="3"/>
                    </a:cubicBezTo>
                    <a:cubicBezTo>
                      <a:pt x="4250" y="2"/>
                      <a:pt x="4251" y="1"/>
                      <a:pt x="4252" y="1"/>
                    </a:cubicBezTo>
                    <a:close/>
                    <a:moveTo>
                      <a:pt x="4260" y="1"/>
                    </a:moveTo>
                    <a:lnTo>
                      <a:pt x="4260" y="1"/>
                    </a:lnTo>
                    <a:cubicBezTo>
                      <a:pt x="4261" y="1"/>
                      <a:pt x="4262" y="2"/>
                      <a:pt x="4262" y="3"/>
                    </a:cubicBezTo>
                    <a:cubicBezTo>
                      <a:pt x="4262" y="4"/>
                      <a:pt x="4261" y="5"/>
                      <a:pt x="4260" y="5"/>
                    </a:cubicBezTo>
                    <a:lnTo>
                      <a:pt x="4260" y="5"/>
                    </a:lnTo>
                    <a:cubicBezTo>
                      <a:pt x="4259" y="5"/>
                      <a:pt x="4258" y="4"/>
                      <a:pt x="4258" y="3"/>
                    </a:cubicBezTo>
                    <a:cubicBezTo>
                      <a:pt x="4258" y="2"/>
                      <a:pt x="4259" y="1"/>
                      <a:pt x="4260" y="1"/>
                    </a:cubicBezTo>
                    <a:close/>
                    <a:moveTo>
                      <a:pt x="4268" y="1"/>
                    </a:moveTo>
                    <a:lnTo>
                      <a:pt x="4268" y="1"/>
                    </a:lnTo>
                    <a:cubicBezTo>
                      <a:pt x="4269" y="1"/>
                      <a:pt x="4270" y="2"/>
                      <a:pt x="4270" y="3"/>
                    </a:cubicBezTo>
                    <a:cubicBezTo>
                      <a:pt x="4270" y="4"/>
                      <a:pt x="4269" y="5"/>
                      <a:pt x="4268" y="5"/>
                    </a:cubicBezTo>
                    <a:lnTo>
                      <a:pt x="4268" y="5"/>
                    </a:lnTo>
                    <a:cubicBezTo>
                      <a:pt x="4267" y="5"/>
                      <a:pt x="4266" y="4"/>
                      <a:pt x="4266" y="3"/>
                    </a:cubicBezTo>
                    <a:cubicBezTo>
                      <a:pt x="4266" y="2"/>
                      <a:pt x="4267" y="1"/>
                      <a:pt x="4268" y="1"/>
                    </a:cubicBezTo>
                    <a:close/>
                    <a:moveTo>
                      <a:pt x="4276" y="1"/>
                    </a:moveTo>
                    <a:lnTo>
                      <a:pt x="4276" y="1"/>
                    </a:lnTo>
                    <a:cubicBezTo>
                      <a:pt x="4277" y="1"/>
                      <a:pt x="4278" y="2"/>
                      <a:pt x="4278" y="3"/>
                    </a:cubicBezTo>
                    <a:cubicBezTo>
                      <a:pt x="4278" y="4"/>
                      <a:pt x="4277" y="5"/>
                      <a:pt x="4276" y="5"/>
                    </a:cubicBezTo>
                    <a:lnTo>
                      <a:pt x="4276" y="5"/>
                    </a:lnTo>
                    <a:cubicBezTo>
                      <a:pt x="4275" y="5"/>
                      <a:pt x="4274" y="4"/>
                      <a:pt x="4274" y="3"/>
                    </a:cubicBezTo>
                    <a:cubicBezTo>
                      <a:pt x="4274" y="2"/>
                      <a:pt x="4275" y="1"/>
                      <a:pt x="4276" y="1"/>
                    </a:cubicBezTo>
                    <a:close/>
                    <a:moveTo>
                      <a:pt x="4284" y="1"/>
                    </a:moveTo>
                    <a:lnTo>
                      <a:pt x="4284" y="1"/>
                    </a:lnTo>
                    <a:cubicBezTo>
                      <a:pt x="4285" y="1"/>
                      <a:pt x="4286" y="2"/>
                      <a:pt x="4286" y="3"/>
                    </a:cubicBezTo>
                    <a:cubicBezTo>
                      <a:pt x="4286" y="4"/>
                      <a:pt x="4285" y="5"/>
                      <a:pt x="4284" y="5"/>
                    </a:cubicBezTo>
                    <a:lnTo>
                      <a:pt x="4284" y="5"/>
                    </a:lnTo>
                    <a:cubicBezTo>
                      <a:pt x="4283" y="5"/>
                      <a:pt x="4282" y="4"/>
                      <a:pt x="4282" y="3"/>
                    </a:cubicBezTo>
                    <a:cubicBezTo>
                      <a:pt x="4282" y="2"/>
                      <a:pt x="4283" y="1"/>
                      <a:pt x="4284" y="1"/>
                    </a:cubicBezTo>
                    <a:close/>
                    <a:moveTo>
                      <a:pt x="4292" y="1"/>
                    </a:moveTo>
                    <a:lnTo>
                      <a:pt x="4292" y="1"/>
                    </a:lnTo>
                    <a:cubicBezTo>
                      <a:pt x="4293" y="1"/>
                      <a:pt x="4294" y="2"/>
                      <a:pt x="4294" y="3"/>
                    </a:cubicBezTo>
                    <a:cubicBezTo>
                      <a:pt x="4294" y="4"/>
                      <a:pt x="4293" y="5"/>
                      <a:pt x="4292" y="5"/>
                    </a:cubicBezTo>
                    <a:lnTo>
                      <a:pt x="4292" y="5"/>
                    </a:lnTo>
                    <a:cubicBezTo>
                      <a:pt x="4291" y="5"/>
                      <a:pt x="4290" y="4"/>
                      <a:pt x="4290" y="3"/>
                    </a:cubicBezTo>
                    <a:cubicBezTo>
                      <a:pt x="4290" y="2"/>
                      <a:pt x="4291" y="1"/>
                      <a:pt x="4292" y="1"/>
                    </a:cubicBezTo>
                    <a:close/>
                    <a:moveTo>
                      <a:pt x="4300" y="1"/>
                    </a:moveTo>
                    <a:lnTo>
                      <a:pt x="4300" y="1"/>
                    </a:lnTo>
                    <a:cubicBezTo>
                      <a:pt x="4301" y="1"/>
                      <a:pt x="4302" y="2"/>
                      <a:pt x="4302" y="3"/>
                    </a:cubicBezTo>
                    <a:cubicBezTo>
                      <a:pt x="4302" y="4"/>
                      <a:pt x="4301" y="5"/>
                      <a:pt x="4300" y="5"/>
                    </a:cubicBezTo>
                    <a:lnTo>
                      <a:pt x="4300" y="5"/>
                    </a:lnTo>
                    <a:cubicBezTo>
                      <a:pt x="4299" y="5"/>
                      <a:pt x="4298" y="4"/>
                      <a:pt x="4298" y="3"/>
                    </a:cubicBezTo>
                    <a:cubicBezTo>
                      <a:pt x="4298" y="2"/>
                      <a:pt x="4299" y="1"/>
                      <a:pt x="4300" y="1"/>
                    </a:cubicBezTo>
                    <a:close/>
                    <a:moveTo>
                      <a:pt x="4308" y="1"/>
                    </a:moveTo>
                    <a:lnTo>
                      <a:pt x="4308" y="1"/>
                    </a:lnTo>
                    <a:cubicBezTo>
                      <a:pt x="4309" y="1"/>
                      <a:pt x="4310" y="2"/>
                      <a:pt x="4310" y="3"/>
                    </a:cubicBezTo>
                    <a:cubicBezTo>
                      <a:pt x="4310" y="4"/>
                      <a:pt x="4309" y="5"/>
                      <a:pt x="4308" y="5"/>
                    </a:cubicBezTo>
                    <a:lnTo>
                      <a:pt x="4308" y="5"/>
                    </a:lnTo>
                    <a:cubicBezTo>
                      <a:pt x="4307" y="5"/>
                      <a:pt x="4306" y="4"/>
                      <a:pt x="4306" y="3"/>
                    </a:cubicBezTo>
                    <a:cubicBezTo>
                      <a:pt x="4306" y="2"/>
                      <a:pt x="4307" y="1"/>
                      <a:pt x="4308" y="1"/>
                    </a:cubicBezTo>
                    <a:close/>
                    <a:moveTo>
                      <a:pt x="4316" y="1"/>
                    </a:moveTo>
                    <a:lnTo>
                      <a:pt x="4316" y="1"/>
                    </a:lnTo>
                    <a:cubicBezTo>
                      <a:pt x="4317" y="1"/>
                      <a:pt x="4318" y="2"/>
                      <a:pt x="4318" y="3"/>
                    </a:cubicBezTo>
                    <a:cubicBezTo>
                      <a:pt x="4318" y="4"/>
                      <a:pt x="4317" y="5"/>
                      <a:pt x="4316" y="5"/>
                    </a:cubicBezTo>
                    <a:lnTo>
                      <a:pt x="4316" y="5"/>
                    </a:lnTo>
                    <a:cubicBezTo>
                      <a:pt x="4315" y="5"/>
                      <a:pt x="4314" y="4"/>
                      <a:pt x="4314" y="3"/>
                    </a:cubicBezTo>
                    <a:cubicBezTo>
                      <a:pt x="4314" y="2"/>
                      <a:pt x="4315" y="1"/>
                      <a:pt x="4316" y="1"/>
                    </a:cubicBezTo>
                    <a:close/>
                    <a:moveTo>
                      <a:pt x="4324" y="1"/>
                    </a:moveTo>
                    <a:lnTo>
                      <a:pt x="4324" y="1"/>
                    </a:lnTo>
                    <a:cubicBezTo>
                      <a:pt x="4325" y="1"/>
                      <a:pt x="4326" y="2"/>
                      <a:pt x="4326" y="3"/>
                    </a:cubicBezTo>
                    <a:cubicBezTo>
                      <a:pt x="4326" y="4"/>
                      <a:pt x="4325" y="5"/>
                      <a:pt x="4324" y="5"/>
                    </a:cubicBezTo>
                    <a:lnTo>
                      <a:pt x="4324" y="5"/>
                    </a:lnTo>
                    <a:cubicBezTo>
                      <a:pt x="4323" y="5"/>
                      <a:pt x="4322" y="4"/>
                      <a:pt x="4322" y="3"/>
                    </a:cubicBezTo>
                    <a:cubicBezTo>
                      <a:pt x="4322" y="2"/>
                      <a:pt x="4323" y="1"/>
                      <a:pt x="4324" y="1"/>
                    </a:cubicBezTo>
                    <a:close/>
                    <a:moveTo>
                      <a:pt x="4332" y="1"/>
                    </a:moveTo>
                    <a:lnTo>
                      <a:pt x="4332" y="1"/>
                    </a:lnTo>
                    <a:cubicBezTo>
                      <a:pt x="4333" y="1"/>
                      <a:pt x="4334" y="2"/>
                      <a:pt x="4334" y="3"/>
                    </a:cubicBezTo>
                    <a:cubicBezTo>
                      <a:pt x="4334" y="4"/>
                      <a:pt x="4333" y="5"/>
                      <a:pt x="4332" y="5"/>
                    </a:cubicBezTo>
                    <a:lnTo>
                      <a:pt x="4332" y="5"/>
                    </a:lnTo>
                    <a:cubicBezTo>
                      <a:pt x="4331" y="5"/>
                      <a:pt x="4330" y="4"/>
                      <a:pt x="4330" y="3"/>
                    </a:cubicBezTo>
                    <a:cubicBezTo>
                      <a:pt x="4330" y="2"/>
                      <a:pt x="4331" y="1"/>
                      <a:pt x="4332" y="1"/>
                    </a:cubicBezTo>
                    <a:close/>
                    <a:moveTo>
                      <a:pt x="4340" y="1"/>
                    </a:moveTo>
                    <a:lnTo>
                      <a:pt x="4340" y="1"/>
                    </a:lnTo>
                    <a:cubicBezTo>
                      <a:pt x="4341" y="1"/>
                      <a:pt x="4342" y="2"/>
                      <a:pt x="4342" y="3"/>
                    </a:cubicBezTo>
                    <a:cubicBezTo>
                      <a:pt x="4342" y="4"/>
                      <a:pt x="4341" y="5"/>
                      <a:pt x="4340" y="5"/>
                    </a:cubicBezTo>
                    <a:lnTo>
                      <a:pt x="4340" y="5"/>
                    </a:lnTo>
                    <a:cubicBezTo>
                      <a:pt x="4339" y="5"/>
                      <a:pt x="4338" y="4"/>
                      <a:pt x="4338" y="3"/>
                    </a:cubicBezTo>
                    <a:cubicBezTo>
                      <a:pt x="4338" y="2"/>
                      <a:pt x="4339" y="1"/>
                      <a:pt x="4340" y="1"/>
                    </a:cubicBezTo>
                    <a:close/>
                    <a:moveTo>
                      <a:pt x="4348" y="1"/>
                    </a:moveTo>
                    <a:lnTo>
                      <a:pt x="4348" y="1"/>
                    </a:lnTo>
                    <a:cubicBezTo>
                      <a:pt x="4349" y="1"/>
                      <a:pt x="4350" y="2"/>
                      <a:pt x="4350" y="3"/>
                    </a:cubicBezTo>
                    <a:cubicBezTo>
                      <a:pt x="4350" y="4"/>
                      <a:pt x="4349" y="5"/>
                      <a:pt x="4348" y="5"/>
                    </a:cubicBezTo>
                    <a:lnTo>
                      <a:pt x="4348" y="5"/>
                    </a:lnTo>
                    <a:cubicBezTo>
                      <a:pt x="4347" y="5"/>
                      <a:pt x="4346" y="4"/>
                      <a:pt x="4346" y="3"/>
                    </a:cubicBezTo>
                    <a:cubicBezTo>
                      <a:pt x="4346" y="2"/>
                      <a:pt x="4347" y="1"/>
                      <a:pt x="4348" y="1"/>
                    </a:cubicBezTo>
                    <a:close/>
                    <a:moveTo>
                      <a:pt x="4356" y="1"/>
                    </a:moveTo>
                    <a:lnTo>
                      <a:pt x="4356" y="1"/>
                    </a:lnTo>
                    <a:cubicBezTo>
                      <a:pt x="4357" y="1"/>
                      <a:pt x="4358" y="2"/>
                      <a:pt x="4358" y="3"/>
                    </a:cubicBezTo>
                    <a:cubicBezTo>
                      <a:pt x="4358" y="4"/>
                      <a:pt x="4357" y="5"/>
                      <a:pt x="4356" y="5"/>
                    </a:cubicBezTo>
                    <a:lnTo>
                      <a:pt x="4356" y="5"/>
                    </a:lnTo>
                    <a:cubicBezTo>
                      <a:pt x="4355" y="5"/>
                      <a:pt x="4354" y="4"/>
                      <a:pt x="4354" y="3"/>
                    </a:cubicBezTo>
                    <a:cubicBezTo>
                      <a:pt x="4354" y="2"/>
                      <a:pt x="4355" y="1"/>
                      <a:pt x="4356" y="1"/>
                    </a:cubicBezTo>
                    <a:close/>
                    <a:moveTo>
                      <a:pt x="4364" y="1"/>
                    </a:moveTo>
                    <a:lnTo>
                      <a:pt x="4364" y="1"/>
                    </a:lnTo>
                    <a:cubicBezTo>
                      <a:pt x="4365" y="1"/>
                      <a:pt x="4366" y="2"/>
                      <a:pt x="4366" y="3"/>
                    </a:cubicBezTo>
                    <a:cubicBezTo>
                      <a:pt x="4366" y="4"/>
                      <a:pt x="4365" y="5"/>
                      <a:pt x="4364" y="5"/>
                    </a:cubicBezTo>
                    <a:lnTo>
                      <a:pt x="4364" y="5"/>
                    </a:lnTo>
                    <a:cubicBezTo>
                      <a:pt x="4363" y="5"/>
                      <a:pt x="4362" y="4"/>
                      <a:pt x="4362" y="3"/>
                    </a:cubicBezTo>
                    <a:cubicBezTo>
                      <a:pt x="4362" y="2"/>
                      <a:pt x="4363" y="1"/>
                      <a:pt x="4364" y="1"/>
                    </a:cubicBezTo>
                    <a:close/>
                    <a:moveTo>
                      <a:pt x="4372" y="1"/>
                    </a:moveTo>
                    <a:lnTo>
                      <a:pt x="4372" y="1"/>
                    </a:lnTo>
                    <a:cubicBezTo>
                      <a:pt x="4373" y="1"/>
                      <a:pt x="4374" y="2"/>
                      <a:pt x="4374" y="3"/>
                    </a:cubicBezTo>
                    <a:cubicBezTo>
                      <a:pt x="4374" y="4"/>
                      <a:pt x="4373" y="5"/>
                      <a:pt x="4372" y="5"/>
                    </a:cubicBezTo>
                    <a:lnTo>
                      <a:pt x="4372" y="5"/>
                    </a:lnTo>
                    <a:cubicBezTo>
                      <a:pt x="4371" y="5"/>
                      <a:pt x="4370" y="4"/>
                      <a:pt x="4370" y="3"/>
                    </a:cubicBezTo>
                    <a:cubicBezTo>
                      <a:pt x="4370" y="2"/>
                      <a:pt x="4371" y="1"/>
                      <a:pt x="4372" y="1"/>
                    </a:cubicBezTo>
                    <a:close/>
                    <a:moveTo>
                      <a:pt x="4380" y="1"/>
                    </a:moveTo>
                    <a:lnTo>
                      <a:pt x="4380" y="1"/>
                    </a:lnTo>
                    <a:cubicBezTo>
                      <a:pt x="4381" y="1"/>
                      <a:pt x="4382" y="2"/>
                      <a:pt x="4382" y="3"/>
                    </a:cubicBezTo>
                    <a:cubicBezTo>
                      <a:pt x="4382" y="4"/>
                      <a:pt x="4381" y="5"/>
                      <a:pt x="4380" y="5"/>
                    </a:cubicBezTo>
                    <a:lnTo>
                      <a:pt x="4380" y="5"/>
                    </a:lnTo>
                    <a:cubicBezTo>
                      <a:pt x="4379" y="5"/>
                      <a:pt x="4378" y="4"/>
                      <a:pt x="4378" y="3"/>
                    </a:cubicBezTo>
                    <a:cubicBezTo>
                      <a:pt x="4378" y="2"/>
                      <a:pt x="4379" y="1"/>
                      <a:pt x="4380" y="1"/>
                    </a:cubicBezTo>
                    <a:close/>
                    <a:moveTo>
                      <a:pt x="4388" y="1"/>
                    </a:moveTo>
                    <a:lnTo>
                      <a:pt x="4388" y="1"/>
                    </a:lnTo>
                    <a:cubicBezTo>
                      <a:pt x="4389" y="1"/>
                      <a:pt x="4390" y="2"/>
                      <a:pt x="4390" y="3"/>
                    </a:cubicBezTo>
                    <a:cubicBezTo>
                      <a:pt x="4390" y="4"/>
                      <a:pt x="4389" y="5"/>
                      <a:pt x="4388" y="5"/>
                    </a:cubicBezTo>
                    <a:lnTo>
                      <a:pt x="4388" y="5"/>
                    </a:lnTo>
                    <a:cubicBezTo>
                      <a:pt x="4387" y="5"/>
                      <a:pt x="4386" y="4"/>
                      <a:pt x="4386" y="3"/>
                    </a:cubicBezTo>
                    <a:cubicBezTo>
                      <a:pt x="4386" y="2"/>
                      <a:pt x="4387" y="1"/>
                      <a:pt x="4388" y="1"/>
                    </a:cubicBezTo>
                    <a:close/>
                    <a:moveTo>
                      <a:pt x="4396" y="1"/>
                    </a:moveTo>
                    <a:lnTo>
                      <a:pt x="4396" y="1"/>
                    </a:lnTo>
                    <a:cubicBezTo>
                      <a:pt x="4397" y="1"/>
                      <a:pt x="4398" y="2"/>
                      <a:pt x="4398" y="3"/>
                    </a:cubicBezTo>
                    <a:cubicBezTo>
                      <a:pt x="4398" y="4"/>
                      <a:pt x="4397" y="5"/>
                      <a:pt x="4396" y="5"/>
                    </a:cubicBezTo>
                    <a:lnTo>
                      <a:pt x="4396" y="5"/>
                    </a:lnTo>
                    <a:cubicBezTo>
                      <a:pt x="4395" y="5"/>
                      <a:pt x="4394" y="4"/>
                      <a:pt x="4394" y="3"/>
                    </a:cubicBezTo>
                    <a:cubicBezTo>
                      <a:pt x="4394" y="2"/>
                      <a:pt x="4395" y="1"/>
                      <a:pt x="4396" y="1"/>
                    </a:cubicBezTo>
                    <a:close/>
                    <a:moveTo>
                      <a:pt x="4404" y="1"/>
                    </a:moveTo>
                    <a:lnTo>
                      <a:pt x="4404" y="1"/>
                    </a:lnTo>
                    <a:cubicBezTo>
                      <a:pt x="4405" y="1"/>
                      <a:pt x="4406" y="2"/>
                      <a:pt x="4406" y="3"/>
                    </a:cubicBezTo>
                    <a:cubicBezTo>
                      <a:pt x="4406" y="4"/>
                      <a:pt x="4405" y="5"/>
                      <a:pt x="4404" y="5"/>
                    </a:cubicBezTo>
                    <a:lnTo>
                      <a:pt x="4404" y="5"/>
                    </a:lnTo>
                    <a:cubicBezTo>
                      <a:pt x="4403" y="5"/>
                      <a:pt x="4402" y="4"/>
                      <a:pt x="4402" y="3"/>
                    </a:cubicBezTo>
                    <a:cubicBezTo>
                      <a:pt x="4402" y="2"/>
                      <a:pt x="4403" y="1"/>
                      <a:pt x="4404" y="1"/>
                    </a:cubicBezTo>
                    <a:close/>
                    <a:moveTo>
                      <a:pt x="4412" y="1"/>
                    </a:moveTo>
                    <a:lnTo>
                      <a:pt x="4412" y="1"/>
                    </a:lnTo>
                    <a:cubicBezTo>
                      <a:pt x="4413" y="1"/>
                      <a:pt x="4414" y="2"/>
                      <a:pt x="4414" y="3"/>
                    </a:cubicBezTo>
                    <a:cubicBezTo>
                      <a:pt x="4414" y="4"/>
                      <a:pt x="4413" y="5"/>
                      <a:pt x="4412" y="5"/>
                    </a:cubicBezTo>
                    <a:lnTo>
                      <a:pt x="4412" y="5"/>
                    </a:lnTo>
                    <a:cubicBezTo>
                      <a:pt x="4411" y="5"/>
                      <a:pt x="4410" y="4"/>
                      <a:pt x="4410" y="3"/>
                    </a:cubicBezTo>
                    <a:cubicBezTo>
                      <a:pt x="4410" y="2"/>
                      <a:pt x="4411" y="1"/>
                      <a:pt x="4412" y="1"/>
                    </a:cubicBezTo>
                    <a:close/>
                    <a:moveTo>
                      <a:pt x="4420" y="1"/>
                    </a:moveTo>
                    <a:lnTo>
                      <a:pt x="4420" y="1"/>
                    </a:lnTo>
                    <a:cubicBezTo>
                      <a:pt x="4421" y="1"/>
                      <a:pt x="4422" y="2"/>
                      <a:pt x="4422" y="3"/>
                    </a:cubicBezTo>
                    <a:cubicBezTo>
                      <a:pt x="4422" y="4"/>
                      <a:pt x="4421" y="5"/>
                      <a:pt x="4420" y="5"/>
                    </a:cubicBezTo>
                    <a:lnTo>
                      <a:pt x="4420" y="5"/>
                    </a:lnTo>
                    <a:cubicBezTo>
                      <a:pt x="4419" y="5"/>
                      <a:pt x="4418" y="4"/>
                      <a:pt x="4418" y="3"/>
                    </a:cubicBezTo>
                    <a:cubicBezTo>
                      <a:pt x="4418" y="2"/>
                      <a:pt x="4419" y="1"/>
                      <a:pt x="4420" y="1"/>
                    </a:cubicBezTo>
                    <a:close/>
                    <a:moveTo>
                      <a:pt x="4428" y="1"/>
                    </a:moveTo>
                    <a:lnTo>
                      <a:pt x="4428" y="1"/>
                    </a:lnTo>
                    <a:cubicBezTo>
                      <a:pt x="4429" y="1"/>
                      <a:pt x="4430" y="2"/>
                      <a:pt x="4430" y="3"/>
                    </a:cubicBezTo>
                    <a:cubicBezTo>
                      <a:pt x="4430" y="4"/>
                      <a:pt x="4429" y="5"/>
                      <a:pt x="4428" y="5"/>
                    </a:cubicBezTo>
                    <a:lnTo>
                      <a:pt x="4428" y="5"/>
                    </a:lnTo>
                    <a:cubicBezTo>
                      <a:pt x="4427" y="5"/>
                      <a:pt x="4426" y="4"/>
                      <a:pt x="4426" y="3"/>
                    </a:cubicBezTo>
                    <a:cubicBezTo>
                      <a:pt x="4426" y="2"/>
                      <a:pt x="4427" y="1"/>
                      <a:pt x="4428" y="1"/>
                    </a:cubicBezTo>
                    <a:close/>
                    <a:moveTo>
                      <a:pt x="4436" y="1"/>
                    </a:moveTo>
                    <a:lnTo>
                      <a:pt x="4436" y="1"/>
                    </a:lnTo>
                    <a:cubicBezTo>
                      <a:pt x="4437" y="1"/>
                      <a:pt x="4438" y="2"/>
                      <a:pt x="4438" y="3"/>
                    </a:cubicBezTo>
                    <a:cubicBezTo>
                      <a:pt x="4438" y="4"/>
                      <a:pt x="4437" y="5"/>
                      <a:pt x="4436" y="5"/>
                    </a:cubicBezTo>
                    <a:lnTo>
                      <a:pt x="4436" y="5"/>
                    </a:lnTo>
                    <a:cubicBezTo>
                      <a:pt x="4435" y="5"/>
                      <a:pt x="4434" y="4"/>
                      <a:pt x="4434" y="3"/>
                    </a:cubicBezTo>
                    <a:cubicBezTo>
                      <a:pt x="4434" y="2"/>
                      <a:pt x="4435" y="1"/>
                      <a:pt x="4436" y="1"/>
                    </a:cubicBezTo>
                    <a:close/>
                    <a:moveTo>
                      <a:pt x="4444" y="1"/>
                    </a:moveTo>
                    <a:lnTo>
                      <a:pt x="4444" y="1"/>
                    </a:lnTo>
                    <a:cubicBezTo>
                      <a:pt x="4445" y="1"/>
                      <a:pt x="4446" y="2"/>
                      <a:pt x="4446" y="3"/>
                    </a:cubicBezTo>
                    <a:cubicBezTo>
                      <a:pt x="4446" y="4"/>
                      <a:pt x="4445" y="5"/>
                      <a:pt x="4444" y="5"/>
                    </a:cubicBezTo>
                    <a:lnTo>
                      <a:pt x="4444" y="5"/>
                    </a:lnTo>
                    <a:cubicBezTo>
                      <a:pt x="4443" y="5"/>
                      <a:pt x="4442" y="4"/>
                      <a:pt x="4442" y="3"/>
                    </a:cubicBezTo>
                    <a:cubicBezTo>
                      <a:pt x="4442" y="2"/>
                      <a:pt x="4443" y="1"/>
                      <a:pt x="4444" y="1"/>
                    </a:cubicBezTo>
                    <a:close/>
                    <a:moveTo>
                      <a:pt x="4452" y="1"/>
                    </a:moveTo>
                    <a:lnTo>
                      <a:pt x="4452" y="1"/>
                    </a:lnTo>
                    <a:cubicBezTo>
                      <a:pt x="4453" y="1"/>
                      <a:pt x="4454" y="2"/>
                      <a:pt x="4454" y="3"/>
                    </a:cubicBezTo>
                    <a:cubicBezTo>
                      <a:pt x="4454" y="4"/>
                      <a:pt x="4453" y="5"/>
                      <a:pt x="4452" y="5"/>
                    </a:cubicBezTo>
                    <a:lnTo>
                      <a:pt x="4452" y="5"/>
                    </a:lnTo>
                    <a:cubicBezTo>
                      <a:pt x="4451" y="5"/>
                      <a:pt x="4450" y="4"/>
                      <a:pt x="4450" y="3"/>
                    </a:cubicBezTo>
                    <a:cubicBezTo>
                      <a:pt x="4450" y="2"/>
                      <a:pt x="4451" y="1"/>
                      <a:pt x="4452" y="1"/>
                    </a:cubicBezTo>
                    <a:close/>
                    <a:moveTo>
                      <a:pt x="4460" y="1"/>
                    </a:moveTo>
                    <a:lnTo>
                      <a:pt x="4460" y="1"/>
                    </a:lnTo>
                    <a:cubicBezTo>
                      <a:pt x="4461" y="1"/>
                      <a:pt x="4462" y="2"/>
                      <a:pt x="4462" y="3"/>
                    </a:cubicBezTo>
                    <a:cubicBezTo>
                      <a:pt x="4462" y="4"/>
                      <a:pt x="4461" y="5"/>
                      <a:pt x="4460" y="5"/>
                    </a:cubicBezTo>
                    <a:lnTo>
                      <a:pt x="4460" y="5"/>
                    </a:lnTo>
                    <a:cubicBezTo>
                      <a:pt x="4459" y="5"/>
                      <a:pt x="4458" y="4"/>
                      <a:pt x="4458" y="3"/>
                    </a:cubicBezTo>
                    <a:cubicBezTo>
                      <a:pt x="4458" y="2"/>
                      <a:pt x="4459" y="1"/>
                      <a:pt x="4460" y="1"/>
                    </a:cubicBezTo>
                    <a:close/>
                    <a:moveTo>
                      <a:pt x="4468" y="1"/>
                    </a:moveTo>
                    <a:lnTo>
                      <a:pt x="4468" y="1"/>
                    </a:lnTo>
                    <a:cubicBezTo>
                      <a:pt x="4469" y="1"/>
                      <a:pt x="4470" y="2"/>
                      <a:pt x="4470" y="3"/>
                    </a:cubicBezTo>
                    <a:cubicBezTo>
                      <a:pt x="4470" y="4"/>
                      <a:pt x="4469" y="5"/>
                      <a:pt x="4468" y="5"/>
                    </a:cubicBezTo>
                    <a:lnTo>
                      <a:pt x="4468" y="5"/>
                    </a:lnTo>
                    <a:cubicBezTo>
                      <a:pt x="4467" y="5"/>
                      <a:pt x="4466" y="4"/>
                      <a:pt x="4466" y="3"/>
                    </a:cubicBezTo>
                    <a:cubicBezTo>
                      <a:pt x="4466" y="2"/>
                      <a:pt x="4467" y="1"/>
                      <a:pt x="4468" y="1"/>
                    </a:cubicBezTo>
                    <a:close/>
                    <a:moveTo>
                      <a:pt x="4476" y="1"/>
                    </a:moveTo>
                    <a:lnTo>
                      <a:pt x="4476" y="1"/>
                    </a:lnTo>
                    <a:cubicBezTo>
                      <a:pt x="4477" y="1"/>
                      <a:pt x="4478" y="2"/>
                      <a:pt x="4478" y="3"/>
                    </a:cubicBezTo>
                    <a:cubicBezTo>
                      <a:pt x="4478" y="4"/>
                      <a:pt x="4477" y="5"/>
                      <a:pt x="4476" y="5"/>
                    </a:cubicBezTo>
                    <a:lnTo>
                      <a:pt x="4476" y="5"/>
                    </a:lnTo>
                    <a:cubicBezTo>
                      <a:pt x="4475" y="5"/>
                      <a:pt x="4474" y="4"/>
                      <a:pt x="4474" y="3"/>
                    </a:cubicBezTo>
                    <a:cubicBezTo>
                      <a:pt x="4474" y="2"/>
                      <a:pt x="4475" y="1"/>
                      <a:pt x="4476" y="1"/>
                    </a:cubicBezTo>
                    <a:close/>
                    <a:moveTo>
                      <a:pt x="4484" y="1"/>
                    </a:moveTo>
                    <a:lnTo>
                      <a:pt x="4484" y="1"/>
                    </a:lnTo>
                    <a:cubicBezTo>
                      <a:pt x="4485" y="1"/>
                      <a:pt x="4486" y="2"/>
                      <a:pt x="4486" y="3"/>
                    </a:cubicBezTo>
                    <a:cubicBezTo>
                      <a:pt x="4486" y="4"/>
                      <a:pt x="4485" y="5"/>
                      <a:pt x="4484" y="5"/>
                    </a:cubicBezTo>
                    <a:lnTo>
                      <a:pt x="4484" y="5"/>
                    </a:lnTo>
                    <a:cubicBezTo>
                      <a:pt x="4483" y="5"/>
                      <a:pt x="4482" y="4"/>
                      <a:pt x="4482" y="3"/>
                    </a:cubicBezTo>
                    <a:cubicBezTo>
                      <a:pt x="4482" y="2"/>
                      <a:pt x="4483" y="1"/>
                      <a:pt x="4484" y="1"/>
                    </a:cubicBezTo>
                    <a:close/>
                    <a:moveTo>
                      <a:pt x="4492" y="1"/>
                    </a:moveTo>
                    <a:lnTo>
                      <a:pt x="4492" y="1"/>
                    </a:lnTo>
                    <a:cubicBezTo>
                      <a:pt x="4493" y="1"/>
                      <a:pt x="4494" y="2"/>
                      <a:pt x="4494" y="3"/>
                    </a:cubicBezTo>
                    <a:cubicBezTo>
                      <a:pt x="4494" y="4"/>
                      <a:pt x="4493" y="5"/>
                      <a:pt x="4492" y="5"/>
                    </a:cubicBezTo>
                    <a:lnTo>
                      <a:pt x="4492" y="5"/>
                    </a:lnTo>
                    <a:cubicBezTo>
                      <a:pt x="4491" y="5"/>
                      <a:pt x="4490" y="4"/>
                      <a:pt x="4490" y="3"/>
                    </a:cubicBezTo>
                    <a:cubicBezTo>
                      <a:pt x="4490" y="2"/>
                      <a:pt x="4491" y="1"/>
                      <a:pt x="4492" y="1"/>
                    </a:cubicBezTo>
                    <a:close/>
                    <a:moveTo>
                      <a:pt x="4500" y="1"/>
                    </a:moveTo>
                    <a:lnTo>
                      <a:pt x="4500" y="1"/>
                    </a:lnTo>
                    <a:cubicBezTo>
                      <a:pt x="4501" y="1"/>
                      <a:pt x="4502" y="2"/>
                      <a:pt x="4502" y="3"/>
                    </a:cubicBezTo>
                    <a:cubicBezTo>
                      <a:pt x="4502" y="4"/>
                      <a:pt x="4501" y="5"/>
                      <a:pt x="4500" y="5"/>
                    </a:cubicBezTo>
                    <a:lnTo>
                      <a:pt x="4500" y="5"/>
                    </a:lnTo>
                    <a:cubicBezTo>
                      <a:pt x="4499" y="5"/>
                      <a:pt x="4498" y="4"/>
                      <a:pt x="4498" y="3"/>
                    </a:cubicBezTo>
                    <a:cubicBezTo>
                      <a:pt x="4498" y="2"/>
                      <a:pt x="4499" y="1"/>
                      <a:pt x="4500" y="1"/>
                    </a:cubicBezTo>
                    <a:close/>
                    <a:moveTo>
                      <a:pt x="4508" y="1"/>
                    </a:moveTo>
                    <a:lnTo>
                      <a:pt x="4508" y="1"/>
                    </a:lnTo>
                    <a:cubicBezTo>
                      <a:pt x="4509" y="1"/>
                      <a:pt x="4510" y="2"/>
                      <a:pt x="4510" y="3"/>
                    </a:cubicBezTo>
                    <a:cubicBezTo>
                      <a:pt x="4510" y="4"/>
                      <a:pt x="4509" y="5"/>
                      <a:pt x="4508" y="5"/>
                    </a:cubicBezTo>
                    <a:lnTo>
                      <a:pt x="4508" y="5"/>
                    </a:lnTo>
                    <a:cubicBezTo>
                      <a:pt x="4507" y="5"/>
                      <a:pt x="4506" y="4"/>
                      <a:pt x="4506" y="3"/>
                    </a:cubicBezTo>
                    <a:cubicBezTo>
                      <a:pt x="4506" y="2"/>
                      <a:pt x="4507" y="1"/>
                      <a:pt x="4508" y="1"/>
                    </a:cubicBezTo>
                    <a:close/>
                    <a:moveTo>
                      <a:pt x="4516" y="1"/>
                    </a:moveTo>
                    <a:lnTo>
                      <a:pt x="4516" y="1"/>
                    </a:lnTo>
                    <a:cubicBezTo>
                      <a:pt x="4517" y="1"/>
                      <a:pt x="4518" y="2"/>
                      <a:pt x="4518" y="3"/>
                    </a:cubicBezTo>
                    <a:cubicBezTo>
                      <a:pt x="4518" y="4"/>
                      <a:pt x="4517" y="5"/>
                      <a:pt x="4516" y="5"/>
                    </a:cubicBezTo>
                    <a:lnTo>
                      <a:pt x="4516" y="5"/>
                    </a:lnTo>
                    <a:cubicBezTo>
                      <a:pt x="4515" y="5"/>
                      <a:pt x="4514" y="4"/>
                      <a:pt x="4514" y="3"/>
                    </a:cubicBezTo>
                    <a:cubicBezTo>
                      <a:pt x="4514" y="2"/>
                      <a:pt x="4515" y="1"/>
                      <a:pt x="4516" y="1"/>
                    </a:cubicBezTo>
                    <a:close/>
                    <a:moveTo>
                      <a:pt x="4524" y="1"/>
                    </a:moveTo>
                    <a:lnTo>
                      <a:pt x="4524" y="1"/>
                    </a:lnTo>
                    <a:cubicBezTo>
                      <a:pt x="4525" y="1"/>
                      <a:pt x="4526" y="2"/>
                      <a:pt x="4526" y="3"/>
                    </a:cubicBezTo>
                    <a:cubicBezTo>
                      <a:pt x="4526" y="4"/>
                      <a:pt x="4525" y="5"/>
                      <a:pt x="4524" y="5"/>
                    </a:cubicBezTo>
                    <a:lnTo>
                      <a:pt x="4524" y="5"/>
                    </a:lnTo>
                    <a:cubicBezTo>
                      <a:pt x="4523" y="5"/>
                      <a:pt x="4522" y="4"/>
                      <a:pt x="4522" y="3"/>
                    </a:cubicBezTo>
                    <a:cubicBezTo>
                      <a:pt x="4522" y="2"/>
                      <a:pt x="4523" y="1"/>
                      <a:pt x="4524" y="1"/>
                    </a:cubicBezTo>
                    <a:close/>
                    <a:moveTo>
                      <a:pt x="4532" y="1"/>
                    </a:moveTo>
                    <a:lnTo>
                      <a:pt x="4532" y="1"/>
                    </a:lnTo>
                    <a:cubicBezTo>
                      <a:pt x="4533" y="1"/>
                      <a:pt x="4534" y="2"/>
                      <a:pt x="4534" y="3"/>
                    </a:cubicBezTo>
                    <a:cubicBezTo>
                      <a:pt x="4534" y="4"/>
                      <a:pt x="4533" y="5"/>
                      <a:pt x="4532" y="5"/>
                    </a:cubicBezTo>
                    <a:lnTo>
                      <a:pt x="4532" y="5"/>
                    </a:lnTo>
                    <a:cubicBezTo>
                      <a:pt x="4531" y="5"/>
                      <a:pt x="4530" y="4"/>
                      <a:pt x="4530" y="3"/>
                    </a:cubicBezTo>
                    <a:cubicBezTo>
                      <a:pt x="4530" y="2"/>
                      <a:pt x="4531" y="1"/>
                      <a:pt x="4532" y="1"/>
                    </a:cubicBezTo>
                    <a:close/>
                    <a:moveTo>
                      <a:pt x="4540" y="1"/>
                    </a:moveTo>
                    <a:lnTo>
                      <a:pt x="4540" y="1"/>
                    </a:lnTo>
                    <a:cubicBezTo>
                      <a:pt x="4541" y="1"/>
                      <a:pt x="4542" y="2"/>
                      <a:pt x="4542" y="3"/>
                    </a:cubicBezTo>
                    <a:cubicBezTo>
                      <a:pt x="4542" y="4"/>
                      <a:pt x="4541" y="5"/>
                      <a:pt x="4540" y="5"/>
                    </a:cubicBezTo>
                    <a:lnTo>
                      <a:pt x="4540" y="5"/>
                    </a:lnTo>
                    <a:cubicBezTo>
                      <a:pt x="4539" y="5"/>
                      <a:pt x="4538" y="4"/>
                      <a:pt x="4538" y="3"/>
                    </a:cubicBezTo>
                    <a:cubicBezTo>
                      <a:pt x="4538" y="2"/>
                      <a:pt x="4539" y="1"/>
                      <a:pt x="4540" y="1"/>
                    </a:cubicBezTo>
                    <a:close/>
                    <a:moveTo>
                      <a:pt x="4548" y="1"/>
                    </a:moveTo>
                    <a:lnTo>
                      <a:pt x="4548" y="1"/>
                    </a:lnTo>
                    <a:cubicBezTo>
                      <a:pt x="4549" y="1"/>
                      <a:pt x="4550" y="2"/>
                      <a:pt x="4550" y="3"/>
                    </a:cubicBezTo>
                    <a:cubicBezTo>
                      <a:pt x="4550" y="4"/>
                      <a:pt x="4549" y="5"/>
                      <a:pt x="4548" y="5"/>
                    </a:cubicBezTo>
                    <a:lnTo>
                      <a:pt x="4548" y="5"/>
                    </a:lnTo>
                    <a:cubicBezTo>
                      <a:pt x="4547" y="5"/>
                      <a:pt x="4546" y="4"/>
                      <a:pt x="4546" y="3"/>
                    </a:cubicBezTo>
                    <a:cubicBezTo>
                      <a:pt x="4546" y="2"/>
                      <a:pt x="4547" y="1"/>
                      <a:pt x="4548" y="1"/>
                    </a:cubicBezTo>
                    <a:close/>
                    <a:moveTo>
                      <a:pt x="4556" y="1"/>
                    </a:moveTo>
                    <a:lnTo>
                      <a:pt x="4556" y="1"/>
                    </a:lnTo>
                    <a:cubicBezTo>
                      <a:pt x="4557" y="1"/>
                      <a:pt x="4558" y="2"/>
                      <a:pt x="4558" y="3"/>
                    </a:cubicBezTo>
                    <a:cubicBezTo>
                      <a:pt x="4558" y="4"/>
                      <a:pt x="4557" y="5"/>
                      <a:pt x="4556" y="5"/>
                    </a:cubicBezTo>
                    <a:lnTo>
                      <a:pt x="4556" y="5"/>
                    </a:lnTo>
                    <a:cubicBezTo>
                      <a:pt x="4555" y="5"/>
                      <a:pt x="4554" y="4"/>
                      <a:pt x="4554" y="3"/>
                    </a:cubicBezTo>
                    <a:cubicBezTo>
                      <a:pt x="4554" y="2"/>
                      <a:pt x="4555" y="1"/>
                      <a:pt x="4556" y="1"/>
                    </a:cubicBezTo>
                    <a:close/>
                    <a:moveTo>
                      <a:pt x="4564" y="1"/>
                    </a:moveTo>
                    <a:lnTo>
                      <a:pt x="4564" y="1"/>
                    </a:lnTo>
                    <a:cubicBezTo>
                      <a:pt x="4565" y="1"/>
                      <a:pt x="4566" y="2"/>
                      <a:pt x="4566" y="3"/>
                    </a:cubicBezTo>
                    <a:cubicBezTo>
                      <a:pt x="4566" y="4"/>
                      <a:pt x="4565" y="5"/>
                      <a:pt x="4564" y="5"/>
                    </a:cubicBezTo>
                    <a:lnTo>
                      <a:pt x="4564" y="5"/>
                    </a:lnTo>
                    <a:cubicBezTo>
                      <a:pt x="4563" y="5"/>
                      <a:pt x="4562" y="4"/>
                      <a:pt x="4562" y="3"/>
                    </a:cubicBezTo>
                    <a:cubicBezTo>
                      <a:pt x="4562" y="2"/>
                      <a:pt x="4563" y="1"/>
                      <a:pt x="4564" y="1"/>
                    </a:cubicBezTo>
                    <a:close/>
                    <a:moveTo>
                      <a:pt x="4572" y="1"/>
                    </a:moveTo>
                    <a:lnTo>
                      <a:pt x="4572" y="1"/>
                    </a:lnTo>
                    <a:cubicBezTo>
                      <a:pt x="4573" y="1"/>
                      <a:pt x="4574" y="2"/>
                      <a:pt x="4574" y="3"/>
                    </a:cubicBezTo>
                    <a:cubicBezTo>
                      <a:pt x="4574" y="4"/>
                      <a:pt x="4573" y="5"/>
                      <a:pt x="4572" y="5"/>
                    </a:cubicBezTo>
                    <a:lnTo>
                      <a:pt x="4572" y="5"/>
                    </a:lnTo>
                    <a:cubicBezTo>
                      <a:pt x="4571" y="5"/>
                      <a:pt x="4570" y="4"/>
                      <a:pt x="4570" y="3"/>
                    </a:cubicBezTo>
                    <a:cubicBezTo>
                      <a:pt x="4570" y="2"/>
                      <a:pt x="4571" y="1"/>
                      <a:pt x="4572" y="1"/>
                    </a:cubicBezTo>
                    <a:close/>
                    <a:moveTo>
                      <a:pt x="4580" y="1"/>
                    </a:moveTo>
                    <a:lnTo>
                      <a:pt x="4580" y="1"/>
                    </a:lnTo>
                    <a:cubicBezTo>
                      <a:pt x="4581" y="1"/>
                      <a:pt x="4582" y="2"/>
                      <a:pt x="4582" y="3"/>
                    </a:cubicBezTo>
                    <a:cubicBezTo>
                      <a:pt x="4582" y="4"/>
                      <a:pt x="4581" y="5"/>
                      <a:pt x="4580" y="5"/>
                    </a:cubicBezTo>
                    <a:lnTo>
                      <a:pt x="4580" y="5"/>
                    </a:lnTo>
                    <a:cubicBezTo>
                      <a:pt x="4579" y="5"/>
                      <a:pt x="4578" y="4"/>
                      <a:pt x="4578" y="3"/>
                    </a:cubicBezTo>
                    <a:cubicBezTo>
                      <a:pt x="4578" y="2"/>
                      <a:pt x="4579" y="1"/>
                      <a:pt x="4580" y="1"/>
                    </a:cubicBezTo>
                    <a:close/>
                    <a:moveTo>
                      <a:pt x="4588" y="1"/>
                    </a:moveTo>
                    <a:lnTo>
                      <a:pt x="4588" y="1"/>
                    </a:lnTo>
                    <a:cubicBezTo>
                      <a:pt x="4589" y="1"/>
                      <a:pt x="4590" y="2"/>
                      <a:pt x="4590" y="3"/>
                    </a:cubicBezTo>
                    <a:cubicBezTo>
                      <a:pt x="4590" y="4"/>
                      <a:pt x="4589" y="5"/>
                      <a:pt x="4588" y="5"/>
                    </a:cubicBezTo>
                    <a:lnTo>
                      <a:pt x="4588" y="5"/>
                    </a:lnTo>
                    <a:cubicBezTo>
                      <a:pt x="4587" y="5"/>
                      <a:pt x="4586" y="4"/>
                      <a:pt x="4586" y="3"/>
                    </a:cubicBezTo>
                    <a:cubicBezTo>
                      <a:pt x="4586" y="2"/>
                      <a:pt x="4587" y="1"/>
                      <a:pt x="4588" y="1"/>
                    </a:cubicBezTo>
                    <a:close/>
                    <a:moveTo>
                      <a:pt x="4596" y="1"/>
                    </a:moveTo>
                    <a:lnTo>
                      <a:pt x="4596" y="1"/>
                    </a:lnTo>
                    <a:cubicBezTo>
                      <a:pt x="4597" y="1"/>
                      <a:pt x="4598" y="2"/>
                      <a:pt x="4598" y="3"/>
                    </a:cubicBezTo>
                    <a:cubicBezTo>
                      <a:pt x="4598" y="4"/>
                      <a:pt x="4597" y="5"/>
                      <a:pt x="4596" y="5"/>
                    </a:cubicBezTo>
                    <a:lnTo>
                      <a:pt x="4596" y="5"/>
                    </a:lnTo>
                    <a:cubicBezTo>
                      <a:pt x="4595" y="5"/>
                      <a:pt x="4594" y="4"/>
                      <a:pt x="4594" y="3"/>
                    </a:cubicBezTo>
                    <a:cubicBezTo>
                      <a:pt x="4594" y="2"/>
                      <a:pt x="4595" y="1"/>
                      <a:pt x="4596" y="1"/>
                    </a:cubicBezTo>
                    <a:close/>
                    <a:moveTo>
                      <a:pt x="4604" y="1"/>
                    </a:moveTo>
                    <a:lnTo>
                      <a:pt x="4604" y="1"/>
                    </a:lnTo>
                    <a:cubicBezTo>
                      <a:pt x="4605" y="1"/>
                      <a:pt x="4606" y="2"/>
                      <a:pt x="4606" y="3"/>
                    </a:cubicBezTo>
                    <a:cubicBezTo>
                      <a:pt x="4606" y="4"/>
                      <a:pt x="4605" y="5"/>
                      <a:pt x="4604" y="5"/>
                    </a:cubicBezTo>
                    <a:lnTo>
                      <a:pt x="4604" y="5"/>
                    </a:lnTo>
                    <a:cubicBezTo>
                      <a:pt x="4603" y="5"/>
                      <a:pt x="4602" y="4"/>
                      <a:pt x="4602" y="3"/>
                    </a:cubicBezTo>
                    <a:cubicBezTo>
                      <a:pt x="4602" y="2"/>
                      <a:pt x="4603" y="1"/>
                      <a:pt x="4604" y="1"/>
                    </a:cubicBezTo>
                    <a:close/>
                    <a:moveTo>
                      <a:pt x="4612" y="1"/>
                    </a:moveTo>
                    <a:lnTo>
                      <a:pt x="4612" y="1"/>
                    </a:lnTo>
                    <a:cubicBezTo>
                      <a:pt x="4613" y="1"/>
                      <a:pt x="4614" y="2"/>
                      <a:pt x="4614" y="3"/>
                    </a:cubicBezTo>
                    <a:cubicBezTo>
                      <a:pt x="4614" y="4"/>
                      <a:pt x="4613" y="5"/>
                      <a:pt x="4612" y="5"/>
                    </a:cubicBezTo>
                    <a:lnTo>
                      <a:pt x="4612" y="5"/>
                    </a:lnTo>
                    <a:cubicBezTo>
                      <a:pt x="4611" y="5"/>
                      <a:pt x="4610" y="4"/>
                      <a:pt x="4610" y="3"/>
                    </a:cubicBezTo>
                    <a:cubicBezTo>
                      <a:pt x="4610" y="2"/>
                      <a:pt x="4611" y="1"/>
                      <a:pt x="4612" y="1"/>
                    </a:cubicBezTo>
                    <a:close/>
                    <a:moveTo>
                      <a:pt x="4620" y="1"/>
                    </a:moveTo>
                    <a:lnTo>
                      <a:pt x="4620" y="1"/>
                    </a:lnTo>
                    <a:cubicBezTo>
                      <a:pt x="4621" y="1"/>
                      <a:pt x="4622" y="2"/>
                      <a:pt x="4622" y="3"/>
                    </a:cubicBezTo>
                    <a:cubicBezTo>
                      <a:pt x="4622" y="4"/>
                      <a:pt x="4621" y="5"/>
                      <a:pt x="4620" y="5"/>
                    </a:cubicBezTo>
                    <a:lnTo>
                      <a:pt x="4620" y="5"/>
                    </a:lnTo>
                    <a:cubicBezTo>
                      <a:pt x="4619" y="5"/>
                      <a:pt x="4618" y="4"/>
                      <a:pt x="4618" y="3"/>
                    </a:cubicBezTo>
                    <a:cubicBezTo>
                      <a:pt x="4618" y="2"/>
                      <a:pt x="4619" y="1"/>
                      <a:pt x="4620" y="1"/>
                    </a:cubicBezTo>
                    <a:close/>
                    <a:moveTo>
                      <a:pt x="4628" y="1"/>
                    </a:moveTo>
                    <a:lnTo>
                      <a:pt x="4628" y="1"/>
                    </a:lnTo>
                    <a:cubicBezTo>
                      <a:pt x="4629" y="1"/>
                      <a:pt x="4630" y="2"/>
                      <a:pt x="4630" y="3"/>
                    </a:cubicBezTo>
                    <a:cubicBezTo>
                      <a:pt x="4630" y="4"/>
                      <a:pt x="4629" y="5"/>
                      <a:pt x="4628" y="5"/>
                    </a:cubicBezTo>
                    <a:lnTo>
                      <a:pt x="4628" y="5"/>
                    </a:lnTo>
                    <a:cubicBezTo>
                      <a:pt x="4627" y="5"/>
                      <a:pt x="4626" y="4"/>
                      <a:pt x="4626" y="3"/>
                    </a:cubicBezTo>
                    <a:cubicBezTo>
                      <a:pt x="4626" y="2"/>
                      <a:pt x="4627" y="1"/>
                      <a:pt x="4628" y="1"/>
                    </a:cubicBezTo>
                    <a:close/>
                    <a:moveTo>
                      <a:pt x="4636" y="1"/>
                    </a:moveTo>
                    <a:lnTo>
                      <a:pt x="4636" y="1"/>
                    </a:lnTo>
                    <a:cubicBezTo>
                      <a:pt x="4637" y="1"/>
                      <a:pt x="4638" y="2"/>
                      <a:pt x="4638" y="3"/>
                    </a:cubicBezTo>
                    <a:cubicBezTo>
                      <a:pt x="4638" y="4"/>
                      <a:pt x="4637" y="5"/>
                      <a:pt x="4636" y="5"/>
                    </a:cubicBezTo>
                    <a:lnTo>
                      <a:pt x="4636" y="5"/>
                    </a:lnTo>
                    <a:cubicBezTo>
                      <a:pt x="4635" y="5"/>
                      <a:pt x="4634" y="4"/>
                      <a:pt x="4634" y="3"/>
                    </a:cubicBezTo>
                    <a:cubicBezTo>
                      <a:pt x="4634" y="2"/>
                      <a:pt x="4635" y="1"/>
                      <a:pt x="4636" y="1"/>
                    </a:cubicBezTo>
                    <a:close/>
                    <a:moveTo>
                      <a:pt x="4644" y="1"/>
                    </a:moveTo>
                    <a:lnTo>
                      <a:pt x="4644" y="1"/>
                    </a:lnTo>
                    <a:cubicBezTo>
                      <a:pt x="4645" y="1"/>
                      <a:pt x="4646" y="2"/>
                      <a:pt x="4646" y="3"/>
                    </a:cubicBezTo>
                    <a:cubicBezTo>
                      <a:pt x="4646" y="4"/>
                      <a:pt x="4645" y="5"/>
                      <a:pt x="4644" y="5"/>
                    </a:cubicBezTo>
                    <a:lnTo>
                      <a:pt x="4644" y="5"/>
                    </a:lnTo>
                    <a:cubicBezTo>
                      <a:pt x="4643" y="5"/>
                      <a:pt x="4642" y="4"/>
                      <a:pt x="4642" y="3"/>
                    </a:cubicBezTo>
                    <a:cubicBezTo>
                      <a:pt x="4642" y="2"/>
                      <a:pt x="4643" y="1"/>
                      <a:pt x="4644" y="1"/>
                    </a:cubicBezTo>
                    <a:close/>
                    <a:moveTo>
                      <a:pt x="4652" y="1"/>
                    </a:moveTo>
                    <a:lnTo>
                      <a:pt x="4652" y="1"/>
                    </a:lnTo>
                    <a:cubicBezTo>
                      <a:pt x="4653" y="1"/>
                      <a:pt x="4654" y="2"/>
                      <a:pt x="4654" y="3"/>
                    </a:cubicBezTo>
                    <a:cubicBezTo>
                      <a:pt x="4654" y="4"/>
                      <a:pt x="4653" y="5"/>
                      <a:pt x="4652" y="5"/>
                    </a:cubicBezTo>
                    <a:lnTo>
                      <a:pt x="4652" y="5"/>
                    </a:lnTo>
                    <a:cubicBezTo>
                      <a:pt x="4651" y="5"/>
                      <a:pt x="4650" y="4"/>
                      <a:pt x="4650" y="3"/>
                    </a:cubicBezTo>
                    <a:cubicBezTo>
                      <a:pt x="4650" y="2"/>
                      <a:pt x="4651" y="1"/>
                      <a:pt x="4652" y="1"/>
                    </a:cubicBezTo>
                    <a:close/>
                    <a:moveTo>
                      <a:pt x="4660" y="1"/>
                    </a:moveTo>
                    <a:lnTo>
                      <a:pt x="4660" y="1"/>
                    </a:lnTo>
                    <a:cubicBezTo>
                      <a:pt x="4661" y="1"/>
                      <a:pt x="4662" y="2"/>
                      <a:pt x="4662" y="3"/>
                    </a:cubicBezTo>
                    <a:cubicBezTo>
                      <a:pt x="4662" y="4"/>
                      <a:pt x="4661" y="5"/>
                      <a:pt x="4660" y="5"/>
                    </a:cubicBezTo>
                    <a:lnTo>
                      <a:pt x="4660" y="5"/>
                    </a:lnTo>
                    <a:cubicBezTo>
                      <a:pt x="4659" y="5"/>
                      <a:pt x="4658" y="4"/>
                      <a:pt x="4658" y="3"/>
                    </a:cubicBezTo>
                    <a:cubicBezTo>
                      <a:pt x="4658" y="2"/>
                      <a:pt x="4659" y="1"/>
                      <a:pt x="4660" y="1"/>
                    </a:cubicBezTo>
                    <a:close/>
                    <a:moveTo>
                      <a:pt x="4668" y="1"/>
                    </a:moveTo>
                    <a:lnTo>
                      <a:pt x="4668" y="1"/>
                    </a:lnTo>
                    <a:cubicBezTo>
                      <a:pt x="4669" y="1"/>
                      <a:pt x="4670" y="2"/>
                      <a:pt x="4670" y="3"/>
                    </a:cubicBezTo>
                    <a:cubicBezTo>
                      <a:pt x="4670" y="4"/>
                      <a:pt x="4669" y="5"/>
                      <a:pt x="4668" y="5"/>
                    </a:cubicBezTo>
                    <a:lnTo>
                      <a:pt x="4668" y="5"/>
                    </a:lnTo>
                    <a:cubicBezTo>
                      <a:pt x="4667" y="5"/>
                      <a:pt x="4666" y="4"/>
                      <a:pt x="4666" y="3"/>
                    </a:cubicBezTo>
                    <a:cubicBezTo>
                      <a:pt x="4666" y="2"/>
                      <a:pt x="4667" y="1"/>
                      <a:pt x="4668" y="1"/>
                    </a:cubicBezTo>
                    <a:close/>
                    <a:moveTo>
                      <a:pt x="4676" y="1"/>
                    </a:moveTo>
                    <a:lnTo>
                      <a:pt x="4676" y="1"/>
                    </a:lnTo>
                    <a:cubicBezTo>
                      <a:pt x="4677" y="1"/>
                      <a:pt x="4678" y="2"/>
                      <a:pt x="4678" y="3"/>
                    </a:cubicBezTo>
                    <a:cubicBezTo>
                      <a:pt x="4678" y="4"/>
                      <a:pt x="4677" y="5"/>
                      <a:pt x="4676" y="5"/>
                    </a:cubicBezTo>
                    <a:lnTo>
                      <a:pt x="4676" y="5"/>
                    </a:lnTo>
                    <a:cubicBezTo>
                      <a:pt x="4675" y="5"/>
                      <a:pt x="4674" y="4"/>
                      <a:pt x="4674" y="3"/>
                    </a:cubicBezTo>
                    <a:cubicBezTo>
                      <a:pt x="4674" y="2"/>
                      <a:pt x="4675" y="1"/>
                      <a:pt x="4676" y="1"/>
                    </a:cubicBezTo>
                    <a:close/>
                    <a:moveTo>
                      <a:pt x="4684" y="1"/>
                    </a:moveTo>
                    <a:lnTo>
                      <a:pt x="4684" y="1"/>
                    </a:lnTo>
                    <a:cubicBezTo>
                      <a:pt x="4685" y="1"/>
                      <a:pt x="4686" y="2"/>
                      <a:pt x="4686" y="3"/>
                    </a:cubicBezTo>
                    <a:cubicBezTo>
                      <a:pt x="4686" y="4"/>
                      <a:pt x="4685" y="5"/>
                      <a:pt x="4684" y="5"/>
                    </a:cubicBezTo>
                    <a:lnTo>
                      <a:pt x="4684" y="5"/>
                    </a:lnTo>
                    <a:cubicBezTo>
                      <a:pt x="4683" y="5"/>
                      <a:pt x="4682" y="4"/>
                      <a:pt x="4682" y="3"/>
                    </a:cubicBezTo>
                    <a:cubicBezTo>
                      <a:pt x="4682" y="2"/>
                      <a:pt x="4683" y="1"/>
                      <a:pt x="4684" y="1"/>
                    </a:cubicBezTo>
                    <a:close/>
                    <a:moveTo>
                      <a:pt x="4692" y="1"/>
                    </a:moveTo>
                    <a:lnTo>
                      <a:pt x="4692" y="1"/>
                    </a:lnTo>
                    <a:cubicBezTo>
                      <a:pt x="4693" y="1"/>
                      <a:pt x="4694" y="2"/>
                      <a:pt x="4694" y="3"/>
                    </a:cubicBezTo>
                    <a:cubicBezTo>
                      <a:pt x="4694" y="4"/>
                      <a:pt x="4693" y="5"/>
                      <a:pt x="4692" y="5"/>
                    </a:cubicBezTo>
                    <a:lnTo>
                      <a:pt x="4692" y="5"/>
                    </a:lnTo>
                    <a:cubicBezTo>
                      <a:pt x="4691" y="5"/>
                      <a:pt x="4690" y="4"/>
                      <a:pt x="4690" y="3"/>
                    </a:cubicBezTo>
                    <a:cubicBezTo>
                      <a:pt x="4690" y="2"/>
                      <a:pt x="4691" y="1"/>
                      <a:pt x="4692" y="1"/>
                    </a:cubicBezTo>
                    <a:close/>
                    <a:moveTo>
                      <a:pt x="4700" y="1"/>
                    </a:moveTo>
                    <a:lnTo>
                      <a:pt x="4700" y="1"/>
                    </a:lnTo>
                    <a:cubicBezTo>
                      <a:pt x="4701" y="1"/>
                      <a:pt x="4702" y="2"/>
                      <a:pt x="4702" y="3"/>
                    </a:cubicBezTo>
                    <a:cubicBezTo>
                      <a:pt x="4702" y="4"/>
                      <a:pt x="4701" y="5"/>
                      <a:pt x="4700" y="5"/>
                    </a:cubicBezTo>
                    <a:lnTo>
                      <a:pt x="4700" y="5"/>
                    </a:lnTo>
                    <a:cubicBezTo>
                      <a:pt x="4699" y="5"/>
                      <a:pt x="4698" y="4"/>
                      <a:pt x="4698" y="3"/>
                    </a:cubicBezTo>
                    <a:cubicBezTo>
                      <a:pt x="4698" y="2"/>
                      <a:pt x="4699" y="1"/>
                      <a:pt x="4700" y="1"/>
                    </a:cubicBezTo>
                    <a:close/>
                    <a:moveTo>
                      <a:pt x="4708" y="1"/>
                    </a:moveTo>
                    <a:lnTo>
                      <a:pt x="4708" y="1"/>
                    </a:lnTo>
                    <a:cubicBezTo>
                      <a:pt x="4709" y="1"/>
                      <a:pt x="4710" y="2"/>
                      <a:pt x="4710" y="3"/>
                    </a:cubicBezTo>
                    <a:cubicBezTo>
                      <a:pt x="4710" y="4"/>
                      <a:pt x="4709" y="5"/>
                      <a:pt x="4708" y="5"/>
                    </a:cubicBezTo>
                    <a:lnTo>
                      <a:pt x="4708" y="5"/>
                    </a:lnTo>
                    <a:cubicBezTo>
                      <a:pt x="4707" y="5"/>
                      <a:pt x="4706" y="4"/>
                      <a:pt x="4706" y="3"/>
                    </a:cubicBezTo>
                    <a:cubicBezTo>
                      <a:pt x="4706" y="2"/>
                      <a:pt x="4707" y="1"/>
                      <a:pt x="4708" y="1"/>
                    </a:cubicBezTo>
                    <a:close/>
                    <a:moveTo>
                      <a:pt x="4716" y="1"/>
                    </a:moveTo>
                    <a:lnTo>
                      <a:pt x="4716" y="1"/>
                    </a:lnTo>
                    <a:cubicBezTo>
                      <a:pt x="4717" y="1"/>
                      <a:pt x="4718" y="2"/>
                      <a:pt x="4718" y="3"/>
                    </a:cubicBezTo>
                    <a:cubicBezTo>
                      <a:pt x="4718" y="4"/>
                      <a:pt x="4717" y="5"/>
                      <a:pt x="4716" y="5"/>
                    </a:cubicBezTo>
                    <a:lnTo>
                      <a:pt x="4716" y="5"/>
                    </a:lnTo>
                    <a:cubicBezTo>
                      <a:pt x="4715" y="5"/>
                      <a:pt x="4714" y="4"/>
                      <a:pt x="4714" y="3"/>
                    </a:cubicBezTo>
                    <a:cubicBezTo>
                      <a:pt x="4714" y="2"/>
                      <a:pt x="4715" y="1"/>
                      <a:pt x="4716" y="1"/>
                    </a:cubicBezTo>
                    <a:close/>
                    <a:moveTo>
                      <a:pt x="4724" y="1"/>
                    </a:moveTo>
                    <a:lnTo>
                      <a:pt x="4724" y="1"/>
                    </a:lnTo>
                    <a:cubicBezTo>
                      <a:pt x="4725" y="1"/>
                      <a:pt x="4726" y="2"/>
                      <a:pt x="4726" y="3"/>
                    </a:cubicBezTo>
                    <a:cubicBezTo>
                      <a:pt x="4726" y="4"/>
                      <a:pt x="4725" y="5"/>
                      <a:pt x="4724" y="5"/>
                    </a:cubicBezTo>
                    <a:lnTo>
                      <a:pt x="4724" y="5"/>
                    </a:lnTo>
                    <a:cubicBezTo>
                      <a:pt x="4723" y="5"/>
                      <a:pt x="4722" y="4"/>
                      <a:pt x="4722" y="3"/>
                    </a:cubicBezTo>
                    <a:cubicBezTo>
                      <a:pt x="4722" y="2"/>
                      <a:pt x="4723" y="1"/>
                      <a:pt x="4724" y="1"/>
                    </a:cubicBezTo>
                    <a:close/>
                    <a:moveTo>
                      <a:pt x="4732" y="1"/>
                    </a:moveTo>
                    <a:lnTo>
                      <a:pt x="4732" y="1"/>
                    </a:lnTo>
                    <a:cubicBezTo>
                      <a:pt x="4733" y="1"/>
                      <a:pt x="4734" y="2"/>
                      <a:pt x="4734" y="3"/>
                    </a:cubicBezTo>
                    <a:cubicBezTo>
                      <a:pt x="4734" y="4"/>
                      <a:pt x="4733" y="5"/>
                      <a:pt x="4732" y="5"/>
                    </a:cubicBezTo>
                    <a:lnTo>
                      <a:pt x="4732" y="5"/>
                    </a:lnTo>
                    <a:cubicBezTo>
                      <a:pt x="4731" y="5"/>
                      <a:pt x="4730" y="4"/>
                      <a:pt x="4730" y="3"/>
                    </a:cubicBezTo>
                    <a:cubicBezTo>
                      <a:pt x="4730" y="2"/>
                      <a:pt x="4731" y="1"/>
                      <a:pt x="4732" y="1"/>
                    </a:cubicBezTo>
                    <a:close/>
                    <a:moveTo>
                      <a:pt x="4740" y="1"/>
                    </a:moveTo>
                    <a:lnTo>
                      <a:pt x="4740" y="1"/>
                    </a:lnTo>
                    <a:cubicBezTo>
                      <a:pt x="4741" y="1"/>
                      <a:pt x="4742" y="2"/>
                      <a:pt x="4742" y="3"/>
                    </a:cubicBezTo>
                    <a:cubicBezTo>
                      <a:pt x="4742" y="4"/>
                      <a:pt x="4741" y="5"/>
                      <a:pt x="4740" y="5"/>
                    </a:cubicBezTo>
                    <a:lnTo>
                      <a:pt x="4740" y="5"/>
                    </a:lnTo>
                    <a:cubicBezTo>
                      <a:pt x="4739" y="5"/>
                      <a:pt x="4738" y="4"/>
                      <a:pt x="4738" y="3"/>
                    </a:cubicBezTo>
                    <a:cubicBezTo>
                      <a:pt x="4738" y="2"/>
                      <a:pt x="4739" y="1"/>
                      <a:pt x="4740" y="1"/>
                    </a:cubicBezTo>
                    <a:close/>
                    <a:moveTo>
                      <a:pt x="4748" y="1"/>
                    </a:moveTo>
                    <a:lnTo>
                      <a:pt x="4748" y="1"/>
                    </a:lnTo>
                    <a:cubicBezTo>
                      <a:pt x="4749" y="1"/>
                      <a:pt x="4750" y="2"/>
                      <a:pt x="4750" y="3"/>
                    </a:cubicBezTo>
                    <a:cubicBezTo>
                      <a:pt x="4750" y="4"/>
                      <a:pt x="4749" y="5"/>
                      <a:pt x="4748" y="5"/>
                    </a:cubicBezTo>
                    <a:lnTo>
                      <a:pt x="4748" y="5"/>
                    </a:lnTo>
                    <a:cubicBezTo>
                      <a:pt x="4747" y="5"/>
                      <a:pt x="4746" y="4"/>
                      <a:pt x="4746" y="3"/>
                    </a:cubicBezTo>
                    <a:cubicBezTo>
                      <a:pt x="4746" y="2"/>
                      <a:pt x="4747" y="1"/>
                      <a:pt x="4748" y="1"/>
                    </a:cubicBezTo>
                    <a:close/>
                    <a:moveTo>
                      <a:pt x="4756" y="1"/>
                    </a:moveTo>
                    <a:lnTo>
                      <a:pt x="4756" y="1"/>
                    </a:lnTo>
                    <a:cubicBezTo>
                      <a:pt x="4757" y="1"/>
                      <a:pt x="4758" y="2"/>
                      <a:pt x="4758" y="3"/>
                    </a:cubicBezTo>
                    <a:cubicBezTo>
                      <a:pt x="4758" y="4"/>
                      <a:pt x="4757" y="5"/>
                      <a:pt x="4756" y="5"/>
                    </a:cubicBezTo>
                    <a:lnTo>
                      <a:pt x="4756" y="5"/>
                    </a:lnTo>
                    <a:cubicBezTo>
                      <a:pt x="4755" y="5"/>
                      <a:pt x="4754" y="4"/>
                      <a:pt x="4754" y="3"/>
                    </a:cubicBezTo>
                    <a:cubicBezTo>
                      <a:pt x="4754" y="2"/>
                      <a:pt x="4755" y="1"/>
                      <a:pt x="4756" y="1"/>
                    </a:cubicBezTo>
                    <a:close/>
                    <a:moveTo>
                      <a:pt x="4764" y="1"/>
                    </a:moveTo>
                    <a:lnTo>
                      <a:pt x="4764" y="1"/>
                    </a:lnTo>
                    <a:cubicBezTo>
                      <a:pt x="4765" y="1"/>
                      <a:pt x="4766" y="2"/>
                      <a:pt x="4766" y="3"/>
                    </a:cubicBezTo>
                    <a:cubicBezTo>
                      <a:pt x="4766" y="4"/>
                      <a:pt x="4765" y="5"/>
                      <a:pt x="4764" y="5"/>
                    </a:cubicBezTo>
                    <a:lnTo>
                      <a:pt x="4764" y="5"/>
                    </a:lnTo>
                    <a:cubicBezTo>
                      <a:pt x="4763" y="5"/>
                      <a:pt x="4762" y="4"/>
                      <a:pt x="4762" y="3"/>
                    </a:cubicBezTo>
                    <a:cubicBezTo>
                      <a:pt x="4762" y="2"/>
                      <a:pt x="4763" y="1"/>
                      <a:pt x="4764" y="1"/>
                    </a:cubicBezTo>
                    <a:close/>
                    <a:moveTo>
                      <a:pt x="4772" y="1"/>
                    </a:moveTo>
                    <a:lnTo>
                      <a:pt x="4772" y="1"/>
                    </a:lnTo>
                    <a:cubicBezTo>
                      <a:pt x="4773" y="1"/>
                      <a:pt x="4774" y="2"/>
                      <a:pt x="4774" y="3"/>
                    </a:cubicBezTo>
                    <a:cubicBezTo>
                      <a:pt x="4774" y="4"/>
                      <a:pt x="4773" y="5"/>
                      <a:pt x="4772" y="5"/>
                    </a:cubicBezTo>
                    <a:lnTo>
                      <a:pt x="4772" y="5"/>
                    </a:lnTo>
                    <a:cubicBezTo>
                      <a:pt x="4771" y="5"/>
                      <a:pt x="4770" y="4"/>
                      <a:pt x="4770" y="3"/>
                    </a:cubicBezTo>
                    <a:cubicBezTo>
                      <a:pt x="4770" y="2"/>
                      <a:pt x="4771" y="1"/>
                      <a:pt x="4772" y="1"/>
                    </a:cubicBezTo>
                    <a:close/>
                    <a:moveTo>
                      <a:pt x="4780" y="1"/>
                    </a:moveTo>
                    <a:lnTo>
                      <a:pt x="4780" y="1"/>
                    </a:lnTo>
                    <a:cubicBezTo>
                      <a:pt x="4781" y="1"/>
                      <a:pt x="4782" y="2"/>
                      <a:pt x="4782" y="3"/>
                    </a:cubicBezTo>
                    <a:cubicBezTo>
                      <a:pt x="4782" y="4"/>
                      <a:pt x="4781" y="5"/>
                      <a:pt x="4780" y="5"/>
                    </a:cubicBezTo>
                    <a:lnTo>
                      <a:pt x="4780" y="5"/>
                    </a:lnTo>
                    <a:cubicBezTo>
                      <a:pt x="4779" y="5"/>
                      <a:pt x="4778" y="4"/>
                      <a:pt x="4778" y="3"/>
                    </a:cubicBezTo>
                    <a:cubicBezTo>
                      <a:pt x="4778" y="2"/>
                      <a:pt x="4779" y="1"/>
                      <a:pt x="4780" y="1"/>
                    </a:cubicBezTo>
                    <a:close/>
                    <a:moveTo>
                      <a:pt x="4788" y="1"/>
                    </a:moveTo>
                    <a:lnTo>
                      <a:pt x="4788" y="1"/>
                    </a:lnTo>
                    <a:cubicBezTo>
                      <a:pt x="4789" y="1"/>
                      <a:pt x="4790" y="2"/>
                      <a:pt x="4790" y="3"/>
                    </a:cubicBezTo>
                    <a:cubicBezTo>
                      <a:pt x="4790" y="4"/>
                      <a:pt x="4789" y="5"/>
                      <a:pt x="4788" y="5"/>
                    </a:cubicBezTo>
                    <a:lnTo>
                      <a:pt x="4788" y="5"/>
                    </a:lnTo>
                    <a:cubicBezTo>
                      <a:pt x="4787" y="5"/>
                      <a:pt x="4786" y="4"/>
                      <a:pt x="4786" y="3"/>
                    </a:cubicBezTo>
                    <a:cubicBezTo>
                      <a:pt x="4786" y="2"/>
                      <a:pt x="4787" y="1"/>
                      <a:pt x="4788" y="1"/>
                    </a:cubicBezTo>
                    <a:close/>
                    <a:moveTo>
                      <a:pt x="4796" y="1"/>
                    </a:moveTo>
                    <a:lnTo>
                      <a:pt x="4796" y="1"/>
                    </a:lnTo>
                    <a:cubicBezTo>
                      <a:pt x="4797" y="1"/>
                      <a:pt x="4798" y="2"/>
                      <a:pt x="4798" y="3"/>
                    </a:cubicBezTo>
                    <a:cubicBezTo>
                      <a:pt x="4798" y="4"/>
                      <a:pt x="4797" y="5"/>
                      <a:pt x="4796" y="5"/>
                    </a:cubicBezTo>
                    <a:lnTo>
                      <a:pt x="4796" y="5"/>
                    </a:lnTo>
                    <a:cubicBezTo>
                      <a:pt x="4795" y="5"/>
                      <a:pt x="4794" y="4"/>
                      <a:pt x="4794" y="3"/>
                    </a:cubicBezTo>
                    <a:cubicBezTo>
                      <a:pt x="4794" y="2"/>
                      <a:pt x="4795" y="1"/>
                      <a:pt x="4796" y="1"/>
                    </a:cubicBezTo>
                    <a:close/>
                    <a:moveTo>
                      <a:pt x="4804" y="1"/>
                    </a:moveTo>
                    <a:lnTo>
                      <a:pt x="4804" y="1"/>
                    </a:lnTo>
                    <a:cubicBezTo>
                      <a:pt x="4805" y="1"/>
                      <a:pt x="4806" y="2"/>
                      <a:pt x="4806" y="3"/>
                    </a:cubicBezTo>
                    <a:cubicBezTo>
                      <a:pt x="4806" y="4"/>
                      <a:pt x="4805" y="5"/>
                      <a:pt x="4804" y="5"/>
                    </a:cubicBezTo>
                    <a:lnTo>
                      <a:pt x="4804" y="5"/>
                    </a:lnTo>
                    <a:cubicBezTo>
                      <a:pt x="4803" y="5"/>
                      <a:pt x="4802" y="4"/>
                      <a:pt x="4802" y="3"/>
                    </a:cubicBezTo>
                    <a:cubicBezTo>
                      <a:pt x="4802" y="2"/>
                      <a:pt x="4803" y="1"/>
                      <a:pt x="4804" y="1"/>
                    </a:cubicBezTo>
                    <a:close/>
                    <a:moveTo>
                      <a:pt x="4812" y="1"/>
                    </a:moveTo>
                    <a:lnTo>
                      <a:pt x="4812" y="1"/>
                    </a:lnTo>
                    <a:cubicBezTo>
                      <a:pt x="4813" y="1"/>
                      <a:pt x="4814" y="2"/>
                      <a:pt x="4814" y="3"/>
                    </a:cubicBezTo>
                    <a:cubicBezTo>
                      <a:pt x="4814" y="4"/>
                      <a:pt x="4813" y="5"/>
                      <a:pt x="4812" y="5"/>
                    </a:cubicBezTo>
                    <a:lnTo>
                      <a:pt x="4812" y="5"/>
                    </a:lnTo>
                    <a:cubicBezTo>
                      <a:pt x="4811" y="5"/>
                      <a:pt x="4810" y="4"/>
                      <a:pt x="4810" y="3"/>
                    </a:cubicBezTo>
                    <a:cubicBezTo>
                      <a:pt x="4810" y="2"/>
                      <a:pt x="4811" y="1"/>
                      <a:pt x="4812" y="1"/>
                    </a:cubicBezTo>
                    <a:close/>
                    <a:moveTo>
                      <a:pt x="4820" y="1"/>
                    </a:moveTo>
                    <a:lnTo>
                      <a:pt x="4820" y="1"/>
                    </a:lnTo>
                    <a:cubicBezTo>
                      <a:pt x="4821" y="1"/>
                      <a:pt x="4822" y="2"/>
                      <a:pt x="4822" y="3"/>
                    </a:cubicBezTo>
                    <a:cubicBezTo>
                      <a:pt x="4822" y="4"/>
                      <a:pt x="4821" y="5"/>
                      <a:pt x="4820" y="5"/>
                    </a:cubicBezTo>
                    <a:lnTo>
                      <a:pt x="4820" y="5"/>
                    </a:lnTo>
                    <a:cubicBezTo>
                      <a:pt x="4819" y="5"/>
                      <a:pt x="4818" y="4"/>
                      <a:pt x="4818" y="3"/>
                    </a:cubicBezTo>
                    <a:cubicBezTo>
                      <a:pt x="4818" y="2"/>
                      <a:pt x="4819" y="1"/>
                      <a:pt x="4820" y="1"/>
                    </a:cubicBezTo>
                    <a:close/>
                    <a:moveTo>
                      <a:pt x="4828" y="1"/>
                    </a:moveTo>
                    <a:lnTo>
                      <a:pt x="4828" y="1"/>
                    </a:lnTo>
                    <a:cubicBezTo>
                      <a:pt x="4829" y="1"/>
                      <a:pt x="4830" y="2"/>
                      <a:pt x="4830" y="3"/>
                    </a:cubicBezTo>
                    <a:cubicBezTo>
                      <a:pt x="4830" y="4"/>
                      <a:pt x="4829" y="5"/>
                      <a:pt x="4828" y="5"/>
                    </a:cubicBezTo>
                    <a:lnTo>
                      <a:pt x="4828" y="5"/>
                    </a:lnTo>
                    <a:cubicBezTo>
                      <a:pt x="4827" y="5"/>
                      <a:pt x="4826" y="4"/>
                      <a:pt x="4826" y="3"/>
                    </a:cubicBezTo>
                    <a:cubicBezTo>
                      <a:pt x="4826" y="2"/>
                      <a:pt x="4827" y="1"/>
                      <a:pt x="4828" y="1"/>
                    </a:cubicBezTo>
                    <a:close/>
                    <a:moveTo>
                      <a:pt x="4836" y="1"/>
                    </a:moveTo>
                    <a:lnTo>
                      <a:pt x="4836" y="1"/>
                    </a:lnTo>
                    <a:cubicBezTo>
                      <a:pt x="4837" y="1"/>
                      <a:pt x="4838" y="2"/>
                      <a:pt x="4838" y="3"/>
                    </a:cubicBezTo>
                    <a:cubicBezTo>
                      <a:pt x="4838" y="4"/>
                      <a:pt x="4837" y="5"/>
                      <a:pt x="4836" y="5"/>
                    </a:cubicBezTo>
                    <a:lnTo>
                      <a:pt x="4836" y="5"/>
                    </a:lnTo>
                    <a:cubicBezTo>
                      <a:pt x="4835" y="5"/>
                      <a:pt x="4834" y="4"/>
                      <a:pt x="4834" y="3"/>
                    </a:cubicBezTo>
                    <a:cubicBezTo>
                      <a:pt x="4834" y="2"/>
                      <a:pt x="4835" y="1"/>
                      <a:pt x="4836" y="1"/>
                    </a:cubicBezTo>
                    <a:close/>
                    <a:moveTo>
                      <a:pt x="4844" y="1"/>
                    </a:moveTo>
                    <a:lnTo>
                      <a:pt x="4844" y="1"/>
                    </a:lnTo>
                    <a:cubicBezTo>
                      <a:pt x="4845" y="1"/>
                      <a:pt x="4846" y="2"/>
                      <a:pt x="4846" y="3"/>
                    </a:cubicBezTo>
                    <a:cubicBezTo>
                      <a:pt x="4846" y="4"/>
                      <a:pt x="4845" y="5"/>
                      <a:pt x="4844" y="5"/>
                    </a:cubicBezTo>
                    <a:lnTo>
                      <a:pt x="4844" y="5"/>
                    </a:lnTo>
                    <a:cubicBezTo>
                      <a:pt x="4843" y="5"/>
                      <a:pt x="4842" y="4"/>
                      <a:pt x="4842" y="3"/>
                    </a:cubicBezTo>
                    <a:cubicBezTo>
                      <a:pt x="4842" y="2"/>
                      <a:pt x="4843" y="1"/>
                      <a:pt x="4844" y="1"/>
                    </a:cubicBezTo>
                    <a:close/>
                    <a:moveTo>
                      <a:pt x="4852" y="1"/>
                    </a:moveTo>
                    <a:lnTo>
                      <a:pt x="4852" y="1"/>
                    </a:lnTo>
                    <a:cubicBezTo>
                      <a:pt x="4853" y="1"/>
                      <a:pt x="4854" y="2"/>
                      <a:pt x="4854" y="3"/>
                    </a:cubicBezTo>
                    <a:cubicBezTo>
                      <a:pt x="4854" y="4"/>
                      <a:pt x="4853" y="5"/>
                      <a:pt x="4852" y="5"/>
                    </a:cubicBezTo>
                    <a:lnTo>
                      <a:pt x="4852" y="5"/>
                    </a:lnTo>
                    <a:cubicBezTo>
                      <a:pt x="4851" y="5"/>
                      <a:pt x="4850" y="4"/>
                      <a:pt x="4850" y="3"/>
                    </a:cubicBezTo>
                    <a:cubicBezTo>
                      <a:pt x="4850" y="2"/>
                      <a:pt x="4851" y="1"/>
                      <a:pt x="4852" y="1"/>
                    </a:cubicBezTo>
                    <a:close/>
                    <a:moveTo>
                      <a:pt x="4860" y="1"/>
                    </a:moveTo>
                    <a:lnTo>
                      <a:pt x="4860" y="1"/>
                    </a:lnTo>
                    <a:cubicBezTo>
                      <a:pt x="4861" y="1"/>
                      <a:pt x="4862" y="2"/>
                      <a:pt x="4862" y="3"/>
                    </a:cubicBezTo>
                    <a:cubicBezTo>
                      <a:pt x="4862" y="4"/>
                      <a:pt x="4861" y="5"/>
                      <a:pt x="4860" y="5"/>
                    </a:cubicBezTo>
                    <a:lnTo>
                      <a:pt x="4860" y="5"/>
                    </a:lnTo>
                    <a:cubicBezTo>
                      <a:pt x="4859" y="5"/>
                      <a:pt x="4858" y="4"/>
                      <a:pt x="4858" y="3"/>
                    </a:cubicBezTo>
                    <a:cubicBezTo>
                      <a:pt x="4858" y="2"/>
                      <a:pt x="4859" y="1"/>
                      <a:pt x="4860" y="1"/>
                    </a:cubicBezTo>
                    <a:close/>
                    <a:moveTo>
                      <a:pt x="4868" y="1"/>
                    </a:moveTo>
                    <a:lnTo>
                      <a:pt x="4868" y="1"/>
                    </a:lnTo>
                    <a:cubicBezTo>
                      <a:pt x="4869" y="1"/>
                      <a:pt x="4870" y="2"/>
                      <a:pt x="4870" y="3"/>
                    </a:cubicBezTo>
                    <a:cubicBezTo>
                      <a:pt x="4870" y="4"/>
                      <a:pt x="4869" y="5"/>
                      <a:pt x="4868" y="5"/>
                    </a:cubicBezTo>
                    <a:lnTo>
                      <a:pt x="4868" y="5"/>
                    </a:lnTo>
                    <a:cubicBezTo>
                      <a:pt x="4867" y="5"/>
                      <a:pt x="4866" y="4"/>
                      <a:pt x="4866" y="3"/>
                    </a:cubicBezTo>
                    <a:cubicBezTo>
                      <a:pt x="4866" y="2"/>
                      <a:pt x="4867" y="1"/>
                      <a:pt x="4868" y="1"/>
                    </a:cubicBezTo>
                    <a:close/>
                    <a:moveTo>
                      <a:pt x="4876" y="1"/>
                    </a:moveTo>
                    <a:lnTo>
                      <a:pt x="4876" y="1"/>
                    </a:lnTo>
                    <a:cubicBezTo>
                      <a:pt x="4877" y="1"/>
                      <a:pt x="4878" y="2"/>
                      <a:pt x="4878" y="3"/>
                    </a:cubicBezTo>
                    <a:cubicBezTo>
                      <a:pt x="4878" y="4"/>
                      <a:pt x="4877" y="5"/>
                      <a:pt x="4876" y="5"/>
                    </a:cubicBezTo>
                    <a:lnTo>
                      <a:pt x="4876" y="5"/>
                    </a:lnTo>
                    <a:cubicBezTo>
                      <a:pt x="4875" y="5"/>
                      <a:pt x="4874" y="4"/>
                      <a:pt x="4874" y="3"/>
                    </a:cubicBezTo>
                    <a:cubicBezTo>
                      <a:pt x="4874" y="2"/>
                      <a:pt x="4875" y="1"/>
                      <a:pt x="4876" y="1"/>
                    </a:cubicBezTo>
                    <a:close/>
                    <a:moveTo>
                      <a:pt x="4884" y="1"/>
                    </a:moveTo>
                    <a:lnTo>
                      <a:pt x="4884" y="1"/>
                    </a:lnTo>
                    <a:cubicBezTo>
                      <a:pt x="4885" y="1"/>
                      <a:pt x="4886" y="2"/>
                      <a:pt x="4886" y="3"/>
                    </a:cubicBezTo>
                    <a:cubicBezTo>
                      <a:pt x="4886" y="4"/>
                      <a:pt x="4885" y="5"/>
                      <a:pt x="4884" y="5"/>
                    </a:cubicBezTo>
                    <a:lnTo>
                      <a:pt x="4884" y="5"/>
                    </a:lnTo>
                    <a:cubicBezTo>
                      <a:pt x="4883" y="5"/>
                      <a:pt x="4882" y="4"/>
                      <a:pt x="4882" y="3"/>
                    </a:cubicBezTo>
                    <a:cubicBezTo>
                      <a:pt x="4882" y="2"/>
                      <a:pt x="4883" y="1"/>
                      <a:pt x="4884" y="1"/>
                    </a:cubicBezTo>
                    <a:close/>
                    <a:moveTo>
                      <a:pt x="4892" y="1"/>
                    </a:moveTo>
                    <a:lnTo>
                      <a:pt x="4892" y="1"/>
                    </a:lnTo>
                    <a:cubicBezTo>
                      <a:pt x="4893" y="1"/>
                      <a:pt x="4894" y="2"/>
                      <a:pt x="4894" y="3"/>
                    </a:cubicBezTo>
                    <a:cubicBezTo>
                      <a:pt x="4894" y="4"/>
                      <a:pt x="4893" y="5"/>
                      <a:pt x="4892" y="5"/>
                    </a:cubicBezTo>
                    <a:lnTo>
                      <a:pt x="4892" y="5"/>
                    </a:lnTo>
                    <a:cubicBezTo>
                      <a:pt x="4891" y="5"/>
                      <a:pt x="4890" y="4"/>
                      <a:pt x="4890" y="3"/>
                    </a:cubicBezTo>
                    <a:cubicBezTo>
                      <a:pt x="4890" y="2"/>
                      <a:pt x="4891" y="1"/>
                      <a:pt x="4892" y="1"/>
                    </a:cubicBezTo>
                    <a:close/>
                    <a:moveTo>
                      <a:pt x="4900" y="1"/>
                    </a:moveTo>
                    <a:lnTo>
                      <a:pt x="4900" y="1"/>
                    </a:lnTo>
                    <a:cubicBezTo>
                      <a:pt x="4901" y="1"/>
                      <a:pt x="4902" y="2"/>
                      <a:pt x="4902" y="3"/>
                    </a:cubicBezTo>
                    <a:cubicBezTo>
                      <a:pt x="4902" y="4"/>
                      <a:pt x="4901" y="5"/>
                      <a:pt x="4900" y="5"/>
                    </a:cubicBezTo>
                    <a:lnTo>
                      <a:pt x="4900" y="5"/>
                    </a:lnTo>
                    <a:cubicBezTo>
                      <a:pt x="4899" y="5"/>
                      <a:pt x="4898" y="4"/>
                      <a:pt x="4898" y="3"/>
                    </a:cubicBezTo>
                    <a:cubicBezTo>
                      <a:pt x="4898" y="2"/>
                      <a:pt x="4899" y="1"/>
                      <a:pt x="4900" y="1"/>
                    </a:cubicBezTo>
                    <a:close/>
                    <a:moveTo>
                      <a:pt x="4908" y="1"/>
                    </a:moveTo>
                    <a:lnTo>
                      <a:pt x="4908" y="1"/>
                    </a:lnTo>
                    <a:cubicBezTo>
                      <a:pt x="4909" y="1"/>
                      <a:pt x="4910" y="2"/>
                      <a:pt x="4910" y="3"/>
                    </a:cubicBezTo>
                    <a:cubicBezTo>
                      <a:pt x="4910" y="4"/>
                      <a:pt x="4909" y="5"/>
                      <a:pt x="4908" y="5"/>
                    </a:cubicBezTo>
                    <a:lnTo>
                      <a:pt x="4908" y="5"/>
                    </a:lnTo>
                    <a:cubicBezTo>
                      <a:pt x="4907" y="5"/>
                      <a:pt x="4906" y="4"/>
                      <a:pt x="4906" y="3"/>
                    </a:cubicBezTo>
                    <a:cubicBezTo>
                      <a:pt x="4906" y="2"/>
                      <a:pt x="4907" y="1"/>
                      <a:pt x="4908" y="1"/>
                    </a:cubicBezTo>
                    <a:close/>
                    <a:moveTo>
                      <a:pt x="4916" y="1"/>
                    </a:moveTo>
                    <a:lnTo>
                      <a:pt x="4916" y="1"/>
                    </a:lnTo>
                    <a:cubicBezTo>
                      <a:pt x="4917" y="1"/>
                      <a:pt x="4918" y="2"/>
                      <a:pt x="4918" y="3"/>
                    </a:cubicBezTo>
                    <a:cubicBezTo>
                      <a:pt x="4918" y="4"/>
                      <a:pt x="4917" y="5"/>
                      <a:pt x="4916" y="5"/>
                    </a:cubicBezTo>
                    <a:lnTo>
                      <a:pt x="4916" y="5"/>
                    </a:lnTo>
                    <a:cubicBezTo>
                      <a:pt x="4915" y="5"/>
                      <a:pt x="4914" y="4"/>
                      <a:pt x="4914" y="3"/>
                    </a:cubicBezTo>
                    <a:cubicBezTo>
                      <a:pt x="4914" y="2"/>
                      <a:pt x="4915" y="1"/>
                      <a:pt x="4916" y="1"/>
                    </a:cubicBezTo>
                    <a:close/>
                    <a:moveTo>
                      <a:pt x="4924" y="1"/>
                    </a:moveTo>
                    <a:lnTo>
                      <a:pt x="4924" y="1"/>
                    </a:lnTo>
                    <a:cubicBezTo>
                      <a:pt x="4925" y="1"/>
                      <a:pt x="4926" y="2"/>
                      <a:pt x="4926" y="3"/>
                    </a:cubicBezTo>
                    <a:cubicBezTo>
                      <a:pt x="4926" y="4"/>
                      <a:pt x="4925" y="5"/>
                      <a:pt x="4924" y="5"/>
                    </a:cubicBezTo>
                    <a:lnTo>
                      <a:pt x="4924" y="5"/>
                    </a:lnTo>
                    <a:cubicBezTo>
                      <a:pt x="4923" y="5"/>
                      <a:pt x="4922" y="4"/>
                      <a:pt x="4922" y="3"/>
                    </a:cubicBezTo>
                    <a:cubicBezTo>
                      <a:pt x="4922" y="2"/>
                      <a:pt x="4923" y="1"/>
                      <a:pt x="4924" y="1"/>
                    </a:cubicBezTo>
                    <a:close/>
                    <a:moveTo>
                      <a:pt x="4932" y="1"/>
                    </a:moveTo>
                    <a:lnTo>
                      <a:pt x="4932" y="1"/>
                    </a:lnTo>
                    <a:cubicBezTo>
                      <a:pt x="4933" y="1"/>
                      <a:pt x="4934" y="2"/>
                      <a:pt x="4934" y="3"/>
                    </a:cubicBezTo>
                    <a:cubicBezTo>
                      <a:pt x="4934" y="4"/>
                      <a:pt x="4933" y="5"/>
                      <a:pt x="4932" y="5"/>
                    </a:cubicBezTo>
                    <a:lnTo>
                      <a:pt x="4932" y="5"/>
                    </a:lnTo>
                    <a:cubicBezTo>
                      <a:pt x="4931" y="5"/>
                      <a:pt x="4930" y="4"/>
                      <a:pt x="4930" y="3"/>
                    </a:cubicBezTo>
                    <a:cubicBezTo>
                      <a:pt x="4930" y="2"/>
                      <a:pt x="4931" y="1"/>
                      <a:pt x="4932" y="1"/>
                    </a:cubicBezTo>
                    <a:close/>
                    <a:moveTo>
                      <a:pt x="4940" y="1"/>
                    </a:moveTo>
                    <a:lnTo>
                      <a:pt x="4940" y="1"/>
                    </a:lnTo>
                    <a:cubicBezTo>
                      <a:pt x="4941" y="1"/>
                      <a:pt x="4942" y="2"/>
                      <a:pt x="4942" y="3"/>
                    </a:cubicBezTo>
                    <a:cubicBezTo>
                      <a:pt x="4942" y="4"/>
                      <a:pt x="4941" y="5"/>
                      <a:pt x="4940" y="5"/>
                    </a:cubicBezTo>
                    <a:lnTo>
                      <a:pt x="4940" y="5"/>
                    </a:lnTo>
                    <a:cubicBezTo>
                      <a:pt x="4939" y="5"/>
                      <a:pt x="4938" y="4"/>
                      <a:pt x="4938" y="3"/>
                    </a:cubicBezTo>
                    <a:cubicBezTo>
                      <a:pt x="4938" y="2"/>
                      <a:pt x="4939" y="1"/>
                      <a:pt x="4940" y="1"/>
                    </a:cubicBezTo>
                    <a:close/>
                    <a:moveTo>
                      <a:pt x="4948" y="1"/>
                    </a:moveTo>
                    <a:lnTo>
                      <a:pt x="4948" y="1"/>
                    </a:lnTo>
                    <a:cubicBezTo>
                      <a:pt x="4949" y="1"/>
                      <a:pt x="4950" y="2"/>
                      <a:pt x="4950" y="3"/>
                    </a:cubicBezTo>
                    <a:cubicBezTo>
                      <a:pt x="4950" y="4"/>
                      <a:pt x="4949" y="5"/>
                      <a:pt x="4948" y="5"/>
                    </a:cubicBezTo>
                    <a:lnTo>
                      <a:pt x="4948" y="5"/>
                    </a:lnTo>
                    <a:cubicBezTo>
                      <a:pt x="4947" y="5"/>
                      <a:pt x="4946" y="4"/>
                      <a:pt x="4946" y="3"/>
                    </a:cubicBezTo>
                    <a:cubicBezTo>
                      <a:pt x="4946" y="2"/>
                      <a:pt x="4947" y="1"/>
                      <a:pt x="4948" y="1"/>
                    </a:cubicBezTo>
                    <a:close/>
                    <a:moveTo>
                      <a:pt x="4956" y="1"/>
                    </a:moveTo>
                    <a:lnTo>
                      <a:pt x="4956" y="1"/>
                    </a:lnTo>
                    <a:cubicBezTo>
                      <a:pt x="4957" y="1"/>
                      <a:pt x="4958" y="2"/>
                      <a:pt x="4958" y="3"/>
                    </a:cubicBezTo>
                    <a:cubicBezTo>
                      <a:pt x="4958" y="4"/>
                      <a:pt x="4957" y="5"/>
                      <a:pt x="4956" y="5"/>
                    </a:cubicBezTo>
                    <a:lnTo>
                      <a:pt x="4956" y="5"/>
                    </a:lnTo>
                    <a:cubicBezTo>
                      <a:pt x="4955" y="5"/>
                      <a:pt x="4954" y="4"/>
                      <a:pt x="4954" y="3"/>
                    </a:cubicBezTo>
                    <a:cubicBezTo>
                      <a:pt x="4954" y="2"/>
                      <a:pt x="4955" y="1"/>
                      <a:pt x="4956" y="1"/>
                    </a:cubicBezTo>
                    <a:close/>
                    <a:moveTo>
                      <a:pt x="4964" y="1"/>
                    </a:moveTo>
                    <a:lnTo>
                      <a:pt x="4964" y="1"/>
                    </a:lnTo>
                    <a:cubicBezTo>
                      <a:pt x="4965" y="1"/>
                      <a:pt x="4966" y="2"/>
                      <a:pt x="4966" y="3"/>
                    </a:cubicBezTo>
                    <a:cubicBezTo>
                      <a:pt x="4966" y="4"/>
                      <a:pt x="4965" y="5"/>
                      <a:pt x="4964" y="5"/>
                    </a:cubicBezTo>
                    <a:lnTo>
                      <a:pt x="4964" y="5"/>
                    </a:lnTo>
                    <a:cubicBezTo>
                      <a:pt x="4963" y="5"/>
                      <a:pt x="4962" y="4"/>
                      <a:pt x="4962" y="3"/>
                    </a:cubicBezTo>
                    <a:cubicBezTo>
                      <a:pt x="4962" y="2"/>
                      <a:pt x="4963" y="1"/>
                      <a:pt x="4964" y="1"/>
                    </a:cubicBezTo>
                    <a:close/>
                    <a:moveTo>
                      <a:pt x="4972" y="1"/>
                    </a:moveTo>
                    <a:lnTo>
                      <a:pt x="4972" y="1"/>
                    </a:lnTo>
                    <a:cubicBezTo>
                      <a:pt x="4973" y="1"/>
                      <a:pt x="4974" y="2"/>
                      <a:pt x="4974" y="3"/>
                    </a:cubicBezTo>
                    <a:cubicBezTo>
                      <a:pt x="4974" y="4"/>
                      <a:pt x="4973" y="5"/>
                      <a:pt x="4972" y="5"/>
                    </a:cubicBezTo>
                    <a:lnTo>
                      <a:pt x="4972" y="5"/>
                    </a:lnTo>
                    <a:cubicBezTo>
                      <a:pt x="4971" y="5"/>
                      <a:pt x="4970" y="4"/>
                      <a:pt x="4970" y="3"/>
                    </a:cubicBezTo>
                    <a:cubicBezTo>
                      <a:pt x="4970" y="2"/>
                      <a:pt x="4971" y="1"/>
                      <a:pt x="4972" y="1"/>
                    </a:cubicBezTo>
                    <a:close/>
                    <a:moveTo>
                      <a:pt x="4980" y="1"/>
                    </a:moveTo>
                    <a:lnTo>
                      <a:pt x="4980" y="1"/>
                    </a:lnTo>
                    <a:cubicBezTo>
                      <a:pt x="4981" y="1"/>
                      <a:pt x="4982" y="2"/>
                      <a:pt x="4982" y="3"/>
                    </a:cubicBezTo>
                    <a:cubicBezTo>
                      <a:pt x="4982" y="4"/>
                      <a:pt x="4981" y="5"/>
                      <a:pt x="4980" y="5"/>
                    </a:cubicBezTo>
                    <a:lnTo>
                      <a:pt x="4980" y="5"/>
                    </a:lnTo>
                    <a:cubicBezTo>
                      <a:pt x="4979" y="5"/>
                      <a:pt x="4978" y="4"/>
                      <a:pt x="4978" y="3"/>
                    </a:cubicBezTo>
                    <a:cubicBezTo>
                      <a:pt x="4978" y="2"/>
                      <a:pt x="4979" y="1"/>
                      <a:pt x="4980" y="1"/>
                    </a:cubicBezTo>
                    <a:close/>
                    <a:moveTo>
                      <a:pt x="4988" y="1"/>
                    </a:moveTo>
                    <a:lnTo>
                      <a:pt x="4988" y="1"/>
                    </a:lnTo>
                    <a:cubicBezTo>
                      <a:pt x="4989" y="1"/>
                      <a:pt x="4990" y="2"/>
                      <a:pt x="4990" y="3"/>
                    </a:cubicBezTo>
                    <a:cubicBezTo>
                      <a:pt x="4990" y="4"/>
                      <a:pt x="4989" y="5"/>
                      <a:pt x="4988" y="5"/>
                    </a:cubicBezTo>
                    <a:lnTo>
                      <a:pt x="4988" y="5"/>
                    </a:lnTo>
                    <a:cubicBezTo>
                      <a:pt x="4987" y="5"/>
                      <a:pt x="4986" y="4"/>
                      <a:pt x="4986" y="3"/>
                    </a:cubicBezTo>
                    <a:cubicBezTo>
                      <a:pt x="4986" y="2"/>
                      <a:pt x="4987" y="1"/>
                      <a:pt x="4988" y="1"/>
                    </a:cubicBezTo>
                    <a:close/>
                    <a:moveTo>
                      <a:pt x="4996" y="1"/>
                    </a:moveTo>
                    <a:lnTo>
                      <a:pt x="4996" y="1"/>
                    </a:lnTo>
                    <a:cubicBezTo>
                      <a:pt x="4997" y="1"/>
                      <a:pt x="4998" y="2"/>
                      <a:pt x="4998" y="3"/>
                    </a:cubicBezTo>
                    <a:cubicBezTo>
                      <a:pt x="4998" y="4"/>
                      <a:pt x="4997" y="5"/>
                      <a:pt x="4996" y="5"/>
                    </a:cubicBezTo>
                    <a:lnTo>
                      <a:pt x="4996" y="5"/>
                    </a:lnTo>
                    <a:cubicBezTo>
                      <a:pt x="4995" y="5"/>
                      <a:pt x="4994" y="4"/>
                      <a:pt x="4994" y="3"/>
                    </a:cubicBezTo>
                    <a:cubicBezTo>
                      <a:pt x="4994" y="2"/>
                      <a:pt x="4995" y="1"/>
                      <a:pt x="4996" y="1"/>
                    </a:cubicBezTo>
                    <a:close/>
                    <a:moveTo>
                      <a:pt x="5004" y="1"/>
                    </a:moveTo>
                    <a:lnTo>
                      <a:pt x="5004" y="1"/>
                    </a:lnTo>
                    <a:cubicBezTo>
                      <a:pt x="5005" y="1"/>
                      <a:pt x="5006" y="2"/>
                      <a:pt x="5006" y="3"/>
                    </a:cubicBezTo>
                    <a:cubicBezTo>
                      <a:pt x="5006" y="4"/>
                      <a:pt x="5005" y="5"/>
                      <a:pt x="5004" y="5"/>
                    </a:cubicBezTo>
                    <a:lnTo>
                      <a:pt x="5004" y="5"/>
                    </a:lnTo>
                    <a:cubicBezTo>
                      <a:pt x="5003" y="5"/>
                      <a:pt x="5002" y="4"/>
                      <a:pt x="5002" y="3"/>
                    </a:cubicBezTo>
                    <a:cubicBezTo>
                      <a:pt x="5002" y="2"/>
                      <a:pt x="5003" y="1"/>
                      <a:pt x="5004" y="1"/>
                    </a:cubicBezTo>
                    <a:close/>
                    <a:moveTo>
                      <a:pt x="5012" y="1"/>
                    </a:moveTo>
                    <a:lnTo>
                      <a:pt x="5012" y="1"/>
                    </a:lnTo>
                    <a:cubicBezTo>
                      <a:pt x="5013" y="1"/>
                      <a:pt x="5014" y="2"/>
                      <a:pt x="5014" y="3"/>
                    </a:cubicBezTo>
                    <a:cubicBezTo>
                      <a:pt x="5014" y="4"/>
                      <a:pt x="5013" y="5"/>
                      <a:pt x="5012" y="5"/>
                    </a:cubicBezTo>
                    <a:lnTo>
                      <a:pt x="5012" y="5"/>
                    </a:lnTo>
                    <a:cubicBezTo>
                      <a:pt x="5011" y="5"/>
                      <a:pt x="5010" y="4"/>
                      <a:pt x="5010" y="3"/>
                    </a:cubicBezTo>
                    <a:cubicBezTo>
                      <a:pt x="5010" y="2"/>
                      <a:pt x="5011" y="1"/>
                      <a:pt x="5012" y="1"/>
                    </a:cubicBezTo>
                    <a:close/>
                    <a:moveTo>
                      <a:pt x="5020" y="1"/>
                    </a:moveTo>
                    <a:lnTo>
                      <a:pt x="5020" y="1"/>
                    </a:lnTo>
                    <a:cubicBezTo>
                      <a:pt x="5021" y="1"/>
                      <a:pt x="5022" y="2"/>
                      <a:pt x="5022" y="3"/>
                    </a:cubicBezTo>
                    <a:cubicBezTo>
                      <a:pt x="5022" y="4"/>
                      <a:pt x="5021" y="5"/>
                      <a:pt x="5020" y="5"/>
                    </a:cubicBezTo>
                    <a:lnTo>
                      <a:pt x="5020" y="5"/>
                    </a:lnTo>
                    <a:cubicBezTo>
                      <a:pt x="5019" y="5"/>
                      <a:pt x="5018" y="4"/>
                      <a:pt x="5018" y="3"/>
                    </a:cubicBezTo>
                    <a:cubicBezTo>
                      <a:pt x="5018" y="2"/>
                      <a:pt x="5019" y="1"/>
                      <a:pt x="5020" y="1"/>
                    </a:cubicBezTo>
                    <a:close/>
                    <a:moveTo>
                      <a:pt x="5028" y="1"/>
                    </a:moveTo>
                    <a:lnTo>
                      <a:pt x="5028" y="1"/>
                    </a:lnTo>
                    <a:cubicBezTo>
                      <a:pt x="5029" y="1"/>
                      <a:pt x="5030" y="2"/>
                      <a:pt x="5030" y="3"/>
                    </a:cubicBezTo>
                    <a:cubicBezTo>
                      <a:pt x="5030" y="4"/>
                      <a:pt x="5029" y="5"/>
                      <a:pt x="5028" y="5"/>
                    </a:cubicBezTo>
                    <a:lnTo>
                      <a:pt x="5028" y="5"/>
                    </a:lnTo>
                    <a:cubicBezTo>
                      <a:pt x="5027" y="5"/>
                      <a:pt x="5026" y="4"/>
                      <a:pt x="5026" y="3"/>
                    </a:cubicBezTo>
                    <a:cubicBezTo>
                      <a:pt x="5026" y="2"/>
                      <a:pt x="5027" y="1"/>
                      <a:pt x="5028" y="1"/>
                    </a:cubicBezTo>
                    <a:close/>
                    <a:moveTo>
                      <a:pt x="5036" y="1"/>
                    </a:moveTo>
                    <a:lnTo>
                      <a:pt x="5036" y="1"/>
                    </a:lnTo>
                    <a:cubicBezTo>
                      <a:pt x="5037" y="1"/>
                      <a:pt x="5038" y="2"/>
                      <a:pt x="5038" y="3"/>
                    </a:cubicBezTo>
                    <a:cubicBezTo>
                      <a:pt x="5038" y="4"/>
                      <a:pt x="5037" y="5"/>
                      <a:pt x="5036" y="5"/>
                    </a:cubicBezTo>
                    <a:lnTo>
                      <a:pt x="5036" y="5"/>
                    </a:lnTo>
                    <a:cubicBezTo>
                      <a:pt x="5035" y="5"/>
                      <a:pt x="5034" y="4"/>
                      <a:pt x="5034" y="3"/>
                    </a:cubicBezTo>
                    <a:cubicBezTo>
                      <a:pt x="5034" y="2"/>
                      <a:pt x="5035" y="1"/>
                      <a:pt x="5036" y="1"/>
                    </a:cubicBezTo>
                    <a:close/>
                    <a:moveTo>
                      <a:pt x="5044" y="1"/>
                    </a:moveTo>
                    <a:lnTo>
                      <a:pt x="5044" y="1"/>
                    </a:lnTo>
                    <a:cubicBezTo>
                      <a:pt x="5045" y="1"/>
                      <a:pt x="5046" y="2"/>
                      <a:pt x="5046" y="3"/>
                    </a:cubicBezTo>
                    <a:cubicBezTo>
                      <a:pt x="5046" y="4"/>
                      <a:pt x="5045" y="5"/>
                      <a:pt x="5044" y="5"/>
                    </a:cubicBezTo>
                    <a:lnTo>
                      <a:pt x="5044" y="5"/>
                    </a:lnTo>
                    <a:cubicBezTo>
                      <a:pt x="5043" y="5"/>
                      <a:pt x="5042" y="4"/>
                      <a:pt x="5042" y="3"/>
                    </a:cubicBezTo>
                    <a:cubicBezTo>
                      <a:pt x="5042" y="2"/>
                      <a:pt x="5043" y="1"/>
                      <a:pt x="5044" y="1"/>
                    </a:cubicBezTo>
                    <a:close/>
                    <a:moveTo>
                      <a:pt x="5052" y="1"/>
                    </a:moveTo>
                    <a:lnTo>
                      <a:pt x="5052" y="1"/>
                    </a:lnTo>
                    <a:cubicBezTo>
                      <a:pt x="5053" y="1"/>
                      <a:pt x="5054" y="2"/>
                      <a:pt x="5054" y="3"/>
                    </a:cubicBezTo>
                    <a:cubicBezTo>
                      <a:pt x="5054" y="4"/>
                      <a:pt x="5053" y="5"/>
                      <a:pt x="5052" y="5"/>
                    </a:cubicBezTo>
                    <a:lnTo>
                      <a:pt x="5052" y="5"/>
                    </a:lnTo>
                    <a:cubicBezTo>
                      <a:pt x="5051" y="5"/>
                      <a:pt x="5050" y="4"/>
                      <a:pt x="5050" y="3"/>
                    </a:cubicBezTo>
                    <a:cubicBezTo>
                      <a:pt x="5050" y="2"/>
                      <a:pt x="5051" y="1"/>
                      <a:pt x="5052" y="1"/>
                    </a:cubicBezTo>
                    <a:close/>
                    <a:moveTo>
                      <a:pt x="5060" y="1"/>
                    </a:moveTo>
                    <a:lnTo>
                      <a:pt x="5060" y="1"/>
                    </a:lnTo>
                    <a:cubicBezTo>
                      <a:pt x="5061" y="1"/>
                      <a:pt x="5062" y="2"/>
                      <a:pt x="5062" y="3"/>
                    </a:cubicBezTo>
                    <a:cubicBezTo>
                      <a:pt x="5062" y="4"/>
                      <a:pt x="5061" y="5"/>
                      <a:pt x="5060" y="5"/>
                    </a:cubicBezTo>
                    <a:lnTo>
                      <a:pt x="5060" y="5"/>
                    </a:lnTo>
                    <a:cubicBezTo>
                      <a:pt x="5059" y="5"/>
                      <a:pt x="5058" y="4"/>
                      <a:pt x="5058" y="3"/>
                    </a:cubicBezTo>
                    <a:cubicBezTo>
                      <a:pt x="5058" y="2"/>
                      <a:pt x="5059" y="1"/>
                      <a:pt x="5060" y="1"/>
                    </a:cubicBezTo>
                    <a:close/>
                    <a:moveTo>
                      <a:pt x="5068" y="1"/>
                    </a:moveTo>
                    <a:lnTo>
                      <a:pt x="5068" y="1"/>
                    </a:lnTo>
                    <a:cubicBezTo>
                      <a:pt x="5069" y="1"/>
                      <a:pt x="5070" y="2"/>
                      <a:pt x="5070" y="3"/>
                    </a:cubicBezTo>
                    <a:cubicBezTo>
                      <a:pt x="5070" y="4"/>
                      <a:pt x="5069" y="5"/>
                      <a:pt x="5068" y="5"/>
                    </a:cubicBezTo>
                    <a:lnTo>
                      <a:pt x="5068" y="5"/>
                    </a:lnTo>
                    <a:cubicBezTo>
                      <a:pt x="5067" y="5"/>
                      <a:pt x="5066" y="4"/>
                      <a:pt x="5066" y="3"/>
                    </a:cubicBezTo>
                    <a:cubicBezTo>
                      <a:pt x="5066" y="2"/>
                      <a:pt x="5067" y="1"/>
                      <a:pt x="5068" y="1"/>
                    </a:cubicBezTo>
                    <a:close/>
                    <a:moveTo>
                      <a:pt x="5076" y="1"/>
                    </a:moveTo>
                    <a:lnTo>
                      <a:pt x="5076" y="1"/>
                    </a:lnTo>
                    <a:cubicBezTo>
                      <a:pt x="5077" y="1"/>
                      <a:pt x="5078" y="2"/>
                      <a:pt x="5078" y="3"/>
                    </a:cubicBezTo>
                    <a:cubicBezTo>
                      <a:pt x="5078" y="4"/>
                      <a:pt x="5077" y="5"/>
                      <a:pt x="5076" y="5"/>
                    </a:cubicBezTo>
                    <a:lnTo>
                      <a:pt x="5076" y="5"/>
                    </a:lnTo>
                    <a:cubicBezTo>
                      <a:pt x="5075" y="5"/>
                      <a:pt x="5074" y="4"/>
                      <a:pt x="5074" y="3"/>
                    </a:cubicBezTo>
                    <a:cubicBezTo>
                      <a:pt x="5074" y="2"/>
                      <a:pt x="5075" y="1"/>
                      <a:pt x="5076" y="1"/>
                    </a:cubicBezTo>
                    <a:close/>
                    <a:moveTo>
                      <a:pt x="5084" y="1"/>
                    </a:moveTo>
                    <a:lnTo>
                      <a:pt x="5084" y="1"/>
                    </a:lnTo>
                    <a:cubicBezTo>
                      <a:pt x="5085" y="1"/>
                      <a:pt x="5086" y="2"/>
                      <a:pt x="5086" y="3"/>
                    </a:cubicBezTo>
                    <a:cubicBezTo>
                      <a:pt x="5086" y="4"/>
                      <a:pt x="5085" y="5"/>
                      <a:pt x="5084" y="5"/>
                    </a:cubicBezTo>
                    <a:lnTo>
                      <a:pt x="5084" y="5"/>
                    </a:lnTo>
                    <a:cubicBezTo>
                      <a:pt x="5083" y="5"/>
                      <a:pt x="5082" y="4"/>
                      <a:pt x="5082" y="3"/>
                    </a:cubicBezTo>
                    <a:cubicBezTo>
                      <a:pt x="5082" y="2"/>
                      <a:pt x="5083" y="1"/>
                      <a:pt x="5084" y="1"/>
                    </a:cubicBezTo>
                    <a:close/>
                    <a:moveTo>
                      <a:pt x="5092" y="1"/>
                    </a:moveTo>
                    <a:lnTo>
                      <a:pt x="5092" y="1"/>
                    </a:lnTo>
                    <a:cubicBezTo>
                      <a:pt x="5093" y="1"/>
                      <a:pt x="5094" y="2"/>
                      <a:pt x="5094" y="3"/>
                    </a:cubicBezTo>
                    <a:cubicBezTo>
                      <a:pt x="5094" y="4"/>
                      <a:pt x="5093" y="5"/>
                      <a:pt x="5092" y="5"/>
                    </a:cubicBezTo>
                    <a:lnTo>
                      <a:pt x="5092" y="5"/>
                    </a:lnTo>
                    <a:cubicBezTo>
                      <a:pt x="5091" y="5"/>
                      <a:pt x="5090" y="4"/>
                      <a:pt x="5090" y="3"/>
                    </a:cubicBezTo>
                    <a:cubicBezTo>
                      <a:pt x="5090" y="2"/>
                      <a:pt x="5091" y="1"/>
                      <a:pt x="5092" y="1"/>
                    </a:cubicBezTo>
                    <a:close/>
                    <a:moveTo>
                      <a:pt x="5100" y="1"/>
                    </a:moveTo>
                    <a:lnTo>
                      <a:pt x="5100" y="1"/>
                    </a:lnTo>
                    <a:cubicBezTo>
                      <a:pt x="5101" y="1"/>
                      <a:pt x="5102" y="2"/>
                      <a:pt x="5102" y="3"/>
                    </a:cubicBezTo>
                    <a:cubicBezTo>
                      <a:pt x="5102" y="4"/>
                      <a:pt x="5101" y="5"/>
                      <a:pt x="5100" y="5"/>
                    </a:cubicBezTo>
                    <a:lnTo>
                      <a:pt x="5100" y="5"/>
                    </a:lnTo>
                    <a:cubicBezTo>
                      <a:pt x="5099" y="5"/>
                      <a:pt x="5098" y="4"/>
                      <a:pt x="5098" y="3"/>
                    </a:cubicBezTo>
                    <a:cubicBezTo>
                      <a:pt x="5098" y="2"/>
                      <a:pt x="5099" y="1"/>
                      <a:pt x="5100" y="1"/>
                    </a:cubicBezTo>
                    <a:close/>
                    <a:moveTo>
                      <a:pt x="5108" y="1"/>
                    </a:moveTo>
                    <a:lnTo>
                      <a:pt x="5108" y="1"/>
                    </a:lnTo>
                    <a:cubicBezTo>
                      <a:pt x="5109" y="1"/>
                      <a:pt x="5110" y="2"/>
                      <a:pt x="5110" y="3"/>
                    </a:cubicBezTo>
                    <a:cubicBezTo>
                      <a:pt x="5110" y="4"/>
                      <a:pt x="5109" y="5"/>
                      <a:pt x="5108" y="5"/>
                    </a:cubicBezTo>
                    <a:lnTo>
                      <a:pt x="5108" y="5"/>
                    </a:lnTo>
                    <a:cubicBezTo>
                      <a:pt x="5107" y="5"/>
                      <a:pt x="5106" y="4"/>
                      <a:pt x="5106" y="3"/>
                    </a:cubicBezTo>
                    <a:cubicBezTo>
                      <a:pt x="5106" y="2"/>
                      <a:pt x="5107" y="1"/>
                      <a:pt x="5108" y="1"/>
                    </a:cubicBezTo>
                    <a:close/>
                    <a:moveTo>
                      <a:pt x="5116" y="1"/>
                    </a:moveTo>
                    <a:lnTo>
                      <a:pt x="5116" y="1"/>
                    </a:lnTo>
                    <a:cubicBezTo>
                      <a:pt x="5117" y="1"/>
                      <a:pt x="5118" y="2"/>
                      <a:pt x="5118" y="3"/>
                    </a:cubicBezTo>
                    <a:cubicBezTo>
                      <a:pt x="5118" y="4"/>
                      <a:pt x="5117" y="5"/>
                      <a:pt x="5116" y="5"/>
                    </a:cubicBezTo>
                    <a:lnTo>
                      <a:pt x="5116" y="5"/>
                    </a:lnTo>
                    <a:cubicBezTo>
                      <a:pt x="5115" y="5"/>
                      <a:pt x="5114" y="4"/>
                      <a:pt x="5114" y="3"/>
                    </a:cubicBezTo>
                    <a:cubicBezTo>
                      <a:pt x="5114" y="2"/>
                      <a:pt x="5115" y="1"/>
                      <a:pt x="5116" y="1"/>
                    </a:cubicBezTo>
                    <a:close/>
                    <a:moveTo>
                      <a:pt x="5124" y="1"/>
                    </a:moveTo>
                    <a:lnTo>
                      <a:pt x="5124" y="1"/>
                    </a:lnTo>
                    <a:cubicBezTo>
                      <a:pt x="5125" y="1"/>
                      <a:pt x="5126" y="2"/>
                      <a:pt x="5126" y="3"/>
                    </a:cubicBezTo>
                    <a:cubicBezTo>
                      <a:pt x="5126" y="4"/>
                      <a:pt x="5125" y="5"/>
                      <a:pt x="5124" y="5"/>
                    </a:cubicBezTo>
                    <a:lnTo>
                      <a:pt x="5124" y="5"/>
                    </a:lnTo>
                    <a:cubicBezTo>
                      <a:pt x="5123" y="5"/>
                      <a:pt x="5122" y="4"/>
                      <a:pt x="5122" y="3"/>
                    </a:cubicBezTo>
                    <a:cubicBezTo>
                      <a:pt x="5122" y="2"/>
                      <a:pt x="5123" y="1"/>
                      <a:pt x="5124" y="1"/>
                    </a:cubicBezTo>
                    <a:close/>
                    <a:moveTo>
                      <a:pt x="5132" y="1"/>
                    </a:moveTo>
                    <a:lnTo>
                      <a:pt x="5132" y="1"/>
                    </a:lnTo>
                    <a:cubicBezTo>
                      <a:pt x="5133" y="1"/>
                      <a:pt x="5134" y="2"/>
                      <a:pt x="5134" y="3"/>
                    </a:cubicBezTo>
                    <a:cubicBezTo>
                      <a:pt x="5134" y="4"/>
                      <a:pt x="5133" y="5"/>
                      <a:pt x="5132" y="5"/>
                    </a:cubicBezTo>
                    <a:lnTo>
                      <a:pt x="5132" y="5"/>
                    </a:lnTo>
                    <a:cubicBezTo>
                      <a:pt x="5131" y="5"/>
                      <a:pt x="5130" y="4"/>
                      <a:pt x="5130" y="3"/>
                    </a:cubicBezTo>
                    <a:cubicBezTo>
                      <a:pt x="5130" y="2"/>
                      <a:pt x="5131" y="1"/>
                      <a:pt x="5132" y="1"/>
                    </a:cubicBezTo>
                    <a:close/>
                    <a:moveTo>
                      <a:pt x="5140" y="1"/>
                    </a:moveTo>
                    <a:lnTo>
                      <a:pt x="5140" y="1"/>
                    </a:lnTo>
                    <a:cubicBezTo>
                      <a:pt x="5141" y="1"/>
                      <a:pt x="5142" y="2"/>
                      <a:pt x="5142" y="3"/>
                    </a:cubicBezTo>
                    <a:cubicBezTo>
                      <a:pt x="5142" y="4"/>
                      <a:pt x="5141" y="5"/>
                      <a:pt x="5140" y="5"/>
                    </a:cubicBezTo>
                    <a:lnTo>
                      <a:pt x="5140" y="5"/>
                    </a:lnTo>
                    <a:cubicBezTo>
                      <a:pt x="5139" y="5"/>
                      <a:pt x="5138" y="4"/>
                      <a:pt x="5138" y="3"/>
                    </a:cubicBezTo>
                    <a:cubicBezTo>
                      <a:pt x="5138" y="2"/>
                      <a:pt x="5139" y="1"/>
                      <a:pt x="5140" y="1"/>
                    </a:cubicBezTo>
                    <a:close/>
                    <a:moveTo>
                      <a:pt x="5148" y="1"/>
                    </a:moveTo>
                    <a:lnTo>
                      <a:pt x="5148" y="1"/>
                    </a:lnTo>
                    <a:cubicBezTo>
                      <a:pt x="5149" y="1"/>
                      <a:pt x="5150" y="2"/>
                      <a:pt x="5150" y="3"/>
                    </a:cubicBezTo>
                    <a:cubicBezTo>
                      <a:pt x="5150" y="4"/>
                      <a:pt x="5149" y="5"/>
                      <a:pt x="5148" y="5"/>
                    </a:cubicBezTo>
                    <a:lnTo>
                      <a:pt x="5148" y="5"/>
                    </a:lnTo>
                    <a:cubicBezTo>
                      <a:pt x="5147" y="5"/>
                      <a:pt x="5146" y="4"/>
                      <a:pt x="5146" y="3"/>
                    </a:cubicBezTo>
                    <a:cubicBezTo>
                      <a:pt x="5146" y="2"/>
                      <a:pt x="5147" y="1"/>
                      <a:pt x="5148" y="1"/>
                    </a:cubicBezTo>
                    <a:close/>
                    <a:moveTo>
                      <a:pt x="5156" y="1"/>
                    </a:moveTo>
                    <a:lnTo>
                      <a:pt x="5156" y="1"/>
                    </a:lnTo>
                    <a:cubicBezTo>
                      <a:pt x="5157" y="1"/>
                      <a:pt x="5158" y="2"/>
                      <a:pt x="5158" y="3"/>
                    </a:cubicBezTo>
                    <a:cubicBezTo>
                      <a:pt x="5158" y="4"/>
                      <a:pt x="5157" y="5"/>
                      <a:pt x="5156" y="5"/>
                    </a:cubicBezTo>
                    <a:lnTo>
                      <a:pt x="5156" y="5"/>
                    </a:lnTo>
                    <a:cubicBezTo>
                      <a:pt x="5155" y="5"/>
                      <a:pt x="5154" y="4"/>
                      <a:pt x="5154" y="3"/>
                    </a:cubicBezTo>
                    <a:cubicBezTo>
                      <a:pt x="5154" y="2"/>
                      <a:pt x="5155" y="1"/>
                      <a:pt x="5156" y="1"/>
                    </a:cubicBezTo>
                    <a:close/>
                    <a:moveTo>
                      <a:pt x="5164" y="1"/>
                    </a:moveTo>
                    <a:lnTo>
                      <a:pt x="5164" y="1"/>
                    </a:lnTo>
                    <a:cubicBezTo>
                      <a:pt x="5165" y="1"/>
                      <a:pt x="5166" y="2"/>
                      <a:pt x="5166" y="3"/>
                    </a:cubicBezTo>
                    <a:cubicBezTo>
                      <a:pt x="5166" y="4"/>
                      <a:pt x="5165" y="5"/>
                      <a:pt x="5164" y="5"/>
                    </a:cubicBezTo>
                    <a:lnTo>
                      <a:pt x="5164" y="5"/>
                    </a:lnTo>
                    <a:cubicBezTo>
                      <a:pt x="5163" y="5"/>
                      <a:pt x="5162" y="4"/>
                      <a:pt x="5162" y="3"/>
                    </a:cubicBezTo>
                    <a:cubicBezTo>
                      <a:pt x="5162" y="2"/>
                      <a:pt x="5163" y="1"/>
                      <a:pt x="5164" y="1"/>
                    </a:cubicBezTo>
                    <a:close/>
                    <a:moveTo>
                      <a:pt x="5172" y="1"/>
                    </a:moveTo>
                    <a:lnTo>
                      <a:pt x="5172" y="1"/>
                    </a:lnTo>
                    <a:cubicBezTo>
                      <a:pt x="5173" y="1"/>
                      <a:pt x="5174" y="2"/>
                      <a:pt x="5174" y="3"/>
                    </a:cubicBezTo>
                    <a:cubicBezTo>
                      <a:pt x="5174" y="4"/>
                      <a:pt x="5173" y="5"/>
                      <a:pt x="5172" y="5"/>
                    </a:cubicBezTo>
                    <a:lnTo>
                      <a:pt x="5172" y="5"/>
                    </a:lnTo>
                    <a:cubicBezTo>
                      <a:pt x="5171" y="5"/>
                      <a:pt x="5170" y="4"/>
                      <a:pt x="5170" y="3"/>
                    </a:cubicBezTo>
                    <a:cubicBezTo>
                      <a:pt x="5170" y="2"/>
                      <a:pt x="5171" y="1"/>
                      <a:pt x="5172" y="1"/>
                    </a:cubicBezTo>
                    <a:close/>
                    <a:moveTo>
                      <a:pt x="5180" y="1"/>
                    </a:moveTo>
                    <a:lnTo>
                      <a:pt x="5180" y="1"/>
                    </a:lnTo>
                    <a:cubicBezTo>
                      <a:pt x="5181" y="1"/>
                      <a:pt x="5182" y="2"/>
                      <a:pt x="5182" y="3"/>
                    </a:cubicBezTo>
                    <a:cubicBezTo>
                      <a:pt x="5182" y="4"/>
                      <a:pt x="5181" y="5"/>
                      <a:pt x="5180" y="5"/>
                    </a:cubicBezTo>
                    <a:lnTo>
                      <a:pt x="5180" y="5"/>
                    </a:lnTo>
                    <a:cubicBezTo>
                      <a:pt x="5179" y="5"/>
                      <a:pt x="5178" y="4"/>
                      <a:pt x="5178" y="3"/>
                    </a:cubicBezTo>
                    <a:cubicBezTo>
                      <a:pt x="5178" y="2"/>
                      <a:pt x="5179" y="1"/>
                      <a:pt x="5180" y="1"/>
                    </a:cubicBezTo>
                    <a:close/>
                    <a:moveTo>
                      <a:pt x="5188" y="1"/>
                    </a:moveTo>
                    <a:lnTo>
                      <a:pt x="5188" y="1"/>
                    </a:lnTo>
                    <a:cubicBezTo>
                      <a:pt x="5189" y="1"/>
                      <a:pt x="5190" y="2"/>
                      <a:pt x="5190" y="3"/>
                    </a:cubicBezTo>
                    <a:cubicBezTo>
                      <a:pt x="5190" y="4"/>
                      <a:pt x="5189" y="5"/>
                      <a:pt x="5188" y="5"/>
                    </a:cubicBezTo>
                    <a:lnTo>
                      <a:pt x="5188" y="5"/>
                    </a:lnTo>
                    <a:cubicBezTo>
                      <a:pt x="5187" y="5"/>
                      <a:pt x="5186" y="4"/>
                      <a:pt x="5186" y="3"/>
                    </a:cubicBezTo>
                    <a:cubicBezTo>
                      <a:pt x="5186" y="2"/>
                      <a:pt x="5187" y="1"/>
                      <a:pt x="5188" y="1"/>
                    </a:cubicBezTo>
                    <a:close/>
                    <a:moveTo>
                      <a:pt x="5196" y="1"/>
                    </a:moveTo>
                    <a:lnTo>
                      <a:pt x="5196" y="1"/>
                    </a:lnTo>
                    <a:cubicBezTo>
                      <a:pt x="5197" y="1"/>
                      <a:pt x="5198" y="2"/>
                      <a:pt x="5198" y="3"/>
                    </a:cubicBezTo>
                    <a:cubicBezTo>
                      <a:pt x="5198" y="4"/>
                      <a:pt x="5197" y="5"/>
                      <a:pt x="5196" y="5"/>
                    </a:cubicBezTo>
                    <a:lnTo>
                      <a:pt x="5196" y="5"/>
                    </a:lnTo>
                    <a:cubicBezTo>
                      <a:pt x="5195" y="5"/>
                      <a:pt x="5194" y="4"/>
                      <a:pt x="5194" y="3"/>
                    </a:cubicBezTo>
                    <a:cubicBezTo>
                      <a:pt x="5194" y="2"/>
                      <a:pt x="5195" y="1"/>
                      <a:pt x="5196" y="1"/>
                    </a:cubicBezTo>
                    <a:close/>
                    <a:moveTo>
                      <a:pt x="5204" y="1"/>
                    </a:moveTo>
                    <a:lnTo>
                      <a:pt x="5204" y="1"/>
                    </a:lnTo>
                    <a:cubicBezTo>
                      <a:pt x="5205" y="1"/>
                      <a:pt x="5206" y="2"/>
                      <a:pt x="5206" y="3"/>
                    </a:cubicBezTo>
                    <a:cubicBezTo>
                      <a:pt x="5206" y="4"/>
                      <a:pt x="5205" y="5"/>
                      <a:pt x="5204" y="5"/>
                    </a:cubicBezTo>
                    <a:lnTo>
                      <a:pt x="5204" y="5"/>
                    </a:lnTo>
                    <a:cubicBezTo>
                      <a:pt x="5203" y="5"/>
                      <a:pt x="5202" y="4"/>
                      <a:pt x="5202" y="3"/>
                    </a:cubicBezTo>
                    <a:cubicBezTo>
                      <a:pt x="5202" y="2"/>
                      <a:pt x="5203" y="1"/>
                      <a:pt x="5204" y="1"/>
                    </a:cubicBezTo>
                    <a:close/>
                    <a:moveTo>
                      <a:pt x="5212" y="1"/>
                    </a:moveTo>
                    <a:lnTo>
                      <a:pt x="5212" y="1"/>
                    </a:lnTo>
                    <a:cubicBezTo>
                      <a:pt x="5213" y="1"/>
                      <a:pt x="5214" y="2"/>
                      <a:pt x="5214" y="3"/>
                    </a:cubicBezTo>
                    <a:cubicBezTo>
                      <a:pt x="5214" y="4"/>
                      <a:pt x="5213" y="5"/>
                      <a:pt x="5212" y="5"/>
                    </a:cubicBezTo>
                    <a:lnTo>
                      <a:pt x="5212" y="5"/>
                    </a:lnTo>
                    <a:cubicBezTo>
                      <a:pt x="5211" y="5"/>
                      <a:pt x="5210" y="4"/>
                      <a:pt x="5210" y="3"/>
                    </a:cubicBezTo>
                    <a:cubicBezTo>
                      <a:pt x="5210" y="2"/>
                      <a:pt x="5211" y="1"/>
                      <a:pt x="5212" y="1"/>
                    </a:cubicBezTo>
                    <a:close/>
                    <a:moveTo>
                      <a:pt x="5220" y="1"/>
                    </a:moveTo>
                    <a:lnTo>
                      <a:pt x="5220" y="1"/>
                    </a:lnTo>
                    <a:cubicBezTo>
                      <a:pt x="5221" y="1"/>
                      <a:pt x="5222" y="2"/>
                      <a:pt x="5222" y="3"/>
                    </a:cubicBezTo>
                    <a:cubicBezTo>
                      <a:pt x="5222" y="4"/>
                      <a:pt x="5221" y="5"/>
                      <a:pt x="5220" y="5"/>
                    </a:cubicBezTo>
                    <a:lnTo>
                      <a:pt x="5220" y="5"/>
                    </a:lnTo>
                    <a:cubicBezTo>
                      <a:pt x="5219" y="5"/>
                      <a:pt x="5218" y="4"/>
                      <a:pt x="5218" y="3"/>
                    </a:cubicBezTo>
                    <a:cubicBezTo>
                      <a:pt x="5218" y="2"/>
                      <a:pt x="5219" y="1"/>
                      <a:pt x="5220" y="1"/>
                    </a:cubicBezTo>
                    <a:close/>
                    <a:moveTo>
                      <a:pt x="5228" y="1"/>
                    </a:moveTo>
                    <a:lnTo>
                      <a:pt x="5228" y="1"/>
                    </a:lnTo>
                    <a:cubicBezTo>
                      <a:pt x="5229" y="1"/>
                      <a:pt x="5230" y="2"/>
                      <a:pt x="5230" y="3"/>
                    </a:cubicBezTo>
                    <a:cubicBezTo>
                      <a:pt x="5230" y="4"/>
                      <a:pt x="5229" y="5"/>
                      <a:pt x="5228" y="5"/>
                    </a:cubicBezTo>
                    <a:lnTo>
                      <a:pt x="5228" y="5"/>
                    </a:lnTo>
                    <a:cubicBezTo>
                      <a:pt x="5227" y="5"/>
                      <a:pt x="5226" y="4"/>
                      <a:pt x="5226" y="3"/>
                    </a:cubicBezTo>
                    <a:cubicBezTo>
                      <a:pt x="5226" y="2"/>
                      <a:pt x="5227" y="1"/>
                      <a:pt x="5228" y="1"/>
                    </a:cubicBezTo>
                    <a:close/>
                    <a:moveTo>
                      <a:pt x="5236" y="1"/>
                    </a:moveTo>
                    <a:lnTo>
                      <a:pt x="5236" y="1"/>
                    </a:lnTo>
                    <a:cubicBezTo>
                      <a:pt x="5237" y="1"/>
                      <a:pt x="5238" y="2"/>
                      <a:pt x="5238" y="3"/>
                    </a:cubicBezTo>
                    <a:cubicBezTo>
                      <a:pt x="5238" y="4"/>
                      <a:pt x="5237" y="5"/>
                      <a:pt x="5236" y="5"/>
                    </a:cubicBezTo>
                    <a:lnTo>
                      <a:pt x="5236" y="5"/>
                    </a:lnTo>
                    <a:cubicBezTo>
                      <a:pt x="5235" y="5"/>
                      <a:pt x="5234" y="4"/>
                      <a:pt x="5234" y="3"/>
                    </a:cubicBezTo>
                    <a:cubicBezTo>
                      <a:pt x="5234" y="2"/>
                      <a:pt x="5235" y="1"/>
                      <a:pt x="5236" y="1"/>
                    </a:cubicBezTo>
                    <a:close/>
                    <a:moveTo>
                      <a:pt x="5244" y="1"/>
                    </a:moveTo>
                    <a:lnTo>
                      <a:pt x="5244" y="1"/>
                    </a:lnTo>
                    <a:cubicBezTo>
                      <a:pt x="5245" y="1"/>
                      <a:pt x="5246" y="2"/>
                      <a:pt x="5246" y="3"/>
                    </a:cubicBezTo>
                    <a:cubicBezTo>
                      <a:pt x="5246" y="4"/>
                      <a:pt x="5245" y="5"/>
                      <a:pt x="5244" y="5"/>
                    </a:cubicBezTo>
                    <a:lnTo>
                      <a:pt x="5244" y="5"/>
                    </a:lnTo>
                    <a:cubicBezTo>
                      <a:pt x="5243" y="5"/>
                      <a:pt x="5242" y="4"/>
                      <a:pt x="5242" y="3"/>
                    </a:cubicBezTo>
                    <a:cubicBezTo>
                      <a:pt x="5242" y="2"/>
                      <a:pt x="5243" y="1"/>
                      <a:pt x="5244" y="1"/>
                    </a:cubicBezTo>
                    <a:close/>
                    <a:moveTo>
                      <a:pt x="5252" y="1"/>
                    </a:moveTo>
                    <a:lnTo>
                      <a:pt x="5252" y="1"/>
                    </a:lnTo>
                    <a:cubicBezTo>
                      <a:pt x="5253" y="1"/>
                      <a:pt x="5254" y="2"/>
                      <a:pt x="5254" y="3"/>
                    </a:cubicBezTo>
                    <a:cubicBezTo>
                      <a:pt x="5254" y="4"/>
                      <a:pt x="5253" y="5"/>
                      <a:pt x="5252" y="5"/>
                    </a:cubicBezTo>
                    <a:lnTo>
                      <a:pt x="5252" y="5"/>
                    </a:lnTo>
                    <a:cubicBezTo>
                      <a:pt x="5251" y="5"/>
                      <a:pt x="5250" y="4"/>
                      <a:pt x="5250" y="3"/>
                    </a:cubicBezTo>
                    <a:cubicBezTo>
                      <a:pt x="5250" y="2"/>
                      <a:pt x="5251" y="1"/>
                      <a:pt x="5252" y="1"/>
                    </a:cubicBezTo>
                    <a:close/>
                    <a:moveTo>
                      <a:pt x="5260" y="1"/>
                    </a:moveTo>
                    <a:lnTo>
                      <a:pt x="5260" y="1"/>
                    </a:lnTo>
                    <a:cubicBezTo>
                      <a:pt x="5261" y="1"/>
                      <a:pt x="5262" y="2"/>
                      <a:pt x="5262" y="3"/>
                    </a:cubicBezTo>
                    <a:cubicBezTo>
                      <a:pt x="5262" y="4"/>
                      <a:pt x="5261" y="5"/>
                      <a:pt x="5260" y="5"/>
                    </a:cubicBezTo>
                    <a:lnTo>
                      <a:pt x="5260" y="5"/>
                    </a:lnTo>
                    <a:cubicBezTo>
                      <a:pt x="5259" y="5"/>
                      <a:pt x="5258" y="4"/>
                      <a:pt x="5258" y="3"/>
                    </a:cubicBezTo>
                    <a:cubicBezTo>
                      <a:pt x="5258" y="2"/>
                      <a:pt x="5259" y="1"/>
                      <a:pt x="5260" y="1"/>
                    </a:cubicBezTo>
                    <a:close/>
                    <a:moveTo>
                      <a:pt x="5268" y="1"/>
                    </a:moveTo>
                    <a:lnTo>
                      <a:pt x="5268" y="1"/>
                    </a:lnTo>
                    <a:cubicBezTo>
                      <a:pt x="5270" y="1"/>
                      <a:pt x="5270" y="2"/>
                      <a:pt x="5270" y="3"/>
                    </a:cubicBezTo>
                    <a:cubicBezTo>
                      <a:pt x="5270" y="4"/>
                      <a:pt x="5270" y="5"/>
                      <a:pt x="5268" y="5"/>
                    </a:cubicBezTo>
                    <a:lnTo>
                      <a:pt x="5268" y="5"/>
                    </a:lnTo>
                    <a:cubicBezTo>
                      <a:pt x="5267" y="5"/>
                      <a:pt x="5266" y="4"/>
                      <a:pt x="5266" y="3"/>
                    </a:cubicBezTo>
                    <a:cubicBezTo>
                      <a:pt x="5266" y="2"/>
                      <a:pt x="5267" y="1"/>
                      <a:pt x="5268" y="1"/>
                    </a:cubicBezTo>
                    <a:close/>
                    <a:moveTo>
                      <a:pt x="5276" y="1"/>
                    </a:moveTo>
                    <a:lnTo>
                      <a:pt x="5276" y="1"/>
                    </a:lnTo>
                    <a:cubicBezTo>
                      <a:pt x="5278" y="1"/>
                      <a:pt x="5278" y="2"/>
                      <a:pt x="5278" y="3"/>
                    </a:cubicBezTo>
                    <a:cubicBezTo>
                      <a:pt x="5278" y="4"/>
                      <a:pt x="5278" y="5"/>
                      <a:pt x="5276" y="5"/>
                    </a:cubicBezTo>
                    <a:lnTo>
                      <a:pt x="5276" y="5"/>
                    </a:lnTo>
                    <a:cubicBezTo>
                      <a:pt x="5275" y="5"/>
                      <a:pt x="5274" y="4"/>
                      <a:pt x="5274" y="3"/>
                    </a:cubicBezTo>
                    <a:cubicBezTo>
                      <a:pt x="5274" y="2"/>
                      <a:pt x="5275" y="1"/>
                      <a:pt x="5276" y="1"/>
                    </a:cubicBezTo>
                    <a:close/>
                    <a:moveTo>
                      <a:pt x="5284" y="1"/>
                    </a:moveTo>
                    <a:lnTo>
                      <a:pt x="5284" y="1"/>
                    </a:lnTo>
                    <a:cubicBezTo>
                      <a:pt x="5286" y="1"/>
                      <a:pt x="5286" y="2"/>
                      <a:pt x="5286" y="3"/>
                    </a:cubicBezTo>
                    <a:cubicBezTo>
                      <a:pt x="5286" y="4"/>
                      <a:pt x="5286" y="5"/>
                      <a:pt x="5284" y="5"/>
                    </a:cubicBezTo>
                    <a:lnTo>
                      <a:pt x="5284" y="5"/>
                    </a:lnTo>
                    <a:cubicBezTo>
                      <a:pt x="5283" y="5"/>
                      <a:pt x="5282" y="4"/>
                      <a:pt x="5282" y="3"/>
                    </a:cubicBezTo>
                    <a:cubicBezTo>
                      <a:pt x="5282" y="2"/>
                      <a:pt x="5283" y="1"/>
                      <a:pt x="5284" y="1"/>
                    </a:cubicBezTo>
                    <a:close/>
                    <a:moveTo>
                      <a:pt x="5292" y="1"/>
                    </a:moveTo>
                    <a:lnTo>
                      <a:pt x="5292" y="1"/>
                    </a:lnTo>
                    <a:cubicBezTo>
                      <a:pt x="5294" y="1"/>
                      <a:pt x="5294" y="2"/>
                      <a:pt x="5294" y="3"/>
                    </a:cubicBezTo>
                    <a:cubicBezTo>
                      <a:pt x="5294" y="4"/>
                      <a:pt x="5294" y="5"/>
                      <a:pt x="5292" y="5"/>
                    </a:cubicBezTo>
                    <a:lnTo>
                      <a:pt x="5292" y="5"/>
                    </a:lnTo>
                    <a:cubicBezTo>
                      <a:pt x="5291" y="5"/>
                      <a:pt x="5290" y="4"/>
                      <a:pt x="5290" y="3"/>
                    </a:cubicBezTo>
                    <a:cubicBezTo>
                      <a:pt x="5290" y="2"/>
                      <a:pt x="5291" y="1"/>
                      <a:pt x="5292" y="1"/>
                    </a:cubicBezTo>
                    <a:close/>
                    <a:moveTo>
                      <a:pt x="5300" y="1"/>
                    </a:moveTo>
                    <a:lnTo>
                      <a:pt x="5300" y="1"/>
                    </a:lnTo>
                    <a:cubicBezTo>
                      <a:pt x="5302" y="1"/>
                      <a:pt x="5302" y="2"/>
                      <a:pt x="5302" y="3"/>
                    </a:cubicBezTo>
                    <a:cubicBezTo>
                      <a:pt x="5302" y="4"/>
                      <a:pt x="5302" y="5"/>
                      <a:pt x="5300" y="5"/>
                    </a:cubicBezTo>
                    <a:lnTo>
                      <a:pt x="5300" y="5"/>
                    </a:lnTo>
                    <a:cubicBezTo>
                      <a:pt x="5299" y="5"/>
                      <a:pt x="5298" y="4"/>
                      <a:pt x="5298" y="3"/>
                    </a:cubicBezTo>
                    <a:cubicBezTo>
                      <a:pt x="5298" y="2"/>
                      <a:pt x="5299" y="1"/>
                      <a:pt x="5300" y="1"/>
                    </a:cubicBezTo>
                    <a:close/>
                    <a:moveTo>
                      <a:pt x="5308" y="1"/>
                    </a:moveTo>
                    <a:lnTo>
                      <a:pt x="5308" y="1"/>
                    </a:lnTo>
                    <a:cubicBezTo>
                      <a:pt x="5310" y="1"/>
                      <a:pt x="5310" y="2"/>
                      <a:pt x="5310" y="3"/>
                    </a:cubicBezTo>
                    <a:cubicBezTo>
                      <a:pt x="5310" y="4"/>
                      <a:pt x="5310" y="5"/>
                      <a:pt x="5308" y="5"/>
                    </a:cubicBezTo>
                    <a:lnTo>
                      <a:pt x="5308" y="5"/>
                    </a:lnTo>
                    <a:cubicBezTo>
                      <a:pt x="5307" y="5"/>
                      <a:pt x="5306" y="4"/>
                      <a:pt x="5306" y="3"/>
                    </a:cubicBezTo>
                    <a:cubicBezTo>
                      <a:pt x="5306" y="2"/>
                      <a:pt x="5307" y="1"/>
                      <a:pt x="5308" y="1"/>
                    </a:cubicBezTo>
                    <a:close/>
                    <a:moveTo>
                      <a:pt x="5316" y="1"/>
                    </a:moveTo>
                    <a:lnTo>
                      <a:pt x="5316" y="1"/>
                    </a:lnTo>
                    <a:cubicBezTo>
                      <a:pt x="5318" y="1"/>
                      <a:pt x="5318" y="2"/>
                      <a:pt x="5318" y="3"/>
                    </a:cubicBezTo>
                    <a:cubicBezTo>
                      <a:pt x="5318" y="4"/>
                      <a:pt x="5318" y="5"/>
                      <a:pt x="5316" y="5"/>
                    </a:cubicBezTo>
                    <a:lnTo>
                      <a:pt x="5316" y="5"/>
                    </a:lnTo>
                    <a:cubicBezTo>
                      <a:pt x="5315" y="5"/>
                      <a:pt x="5314" y="4"/>
                      <a:pt x="5314" y="3"/>
                    </a:cubicBezTo>
                    <a:cubicBezTo>
                      <a:pt x="5314" y="2"/>
                      <a:pt x="5315" y="1"/>
                      <a:pt x="5316" y="1"/>
                    </a:cubicBezTo>
                    <a:close/>
                    <a:moveTo>
                      <a:pt x="5324" y="1"/>
                    </a:moveTo>
                    <a:lnTo>
                      <a:pt x="5324" y="1"/>
                    </a:lnTo>
                    <a:cubicBezTo>
                      <a:pt x="5326" y="1"/>
                      <a:pt x="5326" y="2"/>
                      <a:pt x="5326" y="3"/>
                    </a:cubicBezTo>
                    <a:cubicBezTo>
                      <a:pt x="5326" y="4"/>
                      <a:pt x="5326" y="5"/>
                      <a:pt x="5324" y="5"/>
                    </a:cubicBezTo>
                    <a:lnTo>
                      <a:pt x="5324" y="5"/>
                    </a:lnTo>
                    <a:cubicBezTo>
                      <a:pt x="5323" y="5"/>
                      <a:pt x="5322" y="4"/>
                      <a:pt x="5322" y="3"/>
                    </a:cubicBezTo>
                    <a:cubicBezTo>
                      <a:pt x="5322" y="2"/>
                      <a:pt x="5323" y="1"/>
                      <a:pt x="5324" y="1"/>
                    </a:cubicBezTo>
                    <a:close/>
                    <a:moveTo>
                      <a:pt x="5332" y="1"/>
                    </a:moveTo>
                    <a:lnTo>
                      <a:pt x="5332" y="1"/>
                    </a:lnTo>
                    <a:cubicBezTo>
                      <a:pt x="5334" y="1"/>
                      <a:pt x="5334" y="2"/>
                      <a:pt x="5334" y="3"/>
                    </a:cubicBezTo>
                    <a:cubicBezTo>
                      <a:pt x="5334" y="4"/>
                      <a:pt x="5334" y="5"/>
                      <a:pt x="5332" y="5"/>
                    </a:cubicBezTo>
                    <a:lnTo>
                      <a:pt x="5332" y="5"/>
                    </a:lnTo>
                    <a:cubicBezTo>
                      <a:pt x="5331" y="5"/>
                      <a:pt x="5330" y="4"/>
                      <a:pt x="5330" y="3"/>
                    </a:cubicBezTo>
                    <a:cubicBezTo>
                      <a:pt x="5330" y="2"/>
                      <a:pt x="5331" y="1"/>
                      <a:pt x="5332" y="1"/>
                    </a:cubicBezTo>
                    <a:close/>
                    <a:moveTo>
                      <a:pt x="5340" y="1"/>
                    </a:moveTo>
                    <a:lnTo>
                      <a:pt x="5340" y="1"/>
                    </a:lnTo>
                    <a:cubicBezTo>
                      <a:pt x="5342" y="1"/>
                      <a:pt x="5342" y="2"/>
                      <a:pt x="5342" y="3"/>
                    </a:cubicBezTo>
                    <a:cubicBezTo>
                      <a:pt x="5342" y="4"/>
                      <a:pt x="5342" y="5"/>
                      <a:pt x="5340" y="5"/>
                    </a:cubicBezTo>
                    <a:lnTo>
                      <a:pt x="5340" y="5"/>
                    </a:lnTo>
                    <a:cubicBezTo>
                      <a:pt x="5339" y="5"/>
                      <a:pt x="5338" y="4"/>
                      <a:pt x="5338" y="3"/>
                    </a:cubicBezTo>
                    <a:cubicBezTo>
                      <a:pt x="5338" y="2"/>
                      <a:pt x="5339" y="1"/>
                      <a:pt x="5340" y="1"/>
                    </a:cubicBezTo>
                    <a:close/>
                    <a:moveTo>
                      <a:pt x="5348" y="1"/>
                    </a:moveTo>
                    <a:lnTo>
                      <a:pt x="5348" y="1"/>
                    </a:lnTo>
                    <a:cubicBezTo>
                      <a:pt x="5350" y="1"/>
                      <a:pt x="5350" y="2"/>
                      <a:pt x="5350" y="3"/>
                    </a:cubicBezTo>
                    <a:cubicBezTo>
                      <a:pt x="5350" y="4"/>
                      <a:pt x="5350" y="5"/>
                      <a:pt x="5348" y="5"/>
                    </a:cubicBezTo>
                    <a:lnTo>
                      <a:pt x="5348" y="5"/>
                    </a:lnTo>
                    <a:cubicBezTo>
                      <a:pt x="5347" y="5"/>
                      <a:pt x="5346" y="4"/>
                      <a:pt x="5346" y="3"/>
                    </a:cubicBezTo>
                    <a:cubicBezTo>
                      <a:pt x="5346" y="2"/>
                      <a:pt x="5347" y="1"/>
                      <a:pt x="5348" y="1"/>
                    </a:cubicBezTo>
                    <a:close/>
                    <a:moveTo>
                      <a:pt x="5356" y="1"/>
                    </a:moveTo>
                    <a:lnTo>
                      <a:pt x="5356" y="1"/>
                    </a:lnTo>
                    <a:cubicBezTo>
                      <a:pt x="5358" y="1"/>
                      <a:pt x="5358" y="2"/>
                      <a:pt x="5358" y="3"/>
                    </a:cubicBezTo>
                    <a:cubicBezTo>
                      <a:pt x="5358" y="4"/>
                      <a:pt x="5358" y="5"/>
                      <a:pt x="5356" y="5"/>
                    </a:cubicBezTo>
                    <a:lnTo>
                      <a:pt x="5356" y="5"/>
                    </a:lnTo>
                    <a:cubicBezTo>
                      <a:pt x="5355" y="5"/>
                      <a:pt x="5354" y="4"/>
                      <a:pt x="5354" y="3"/>
                    </a:cubicBezTo>
                    <a:cubicBezTo>
                      <a:pt x="5354" y="2"/>
                      <a:pt x="5355" y="1"/>
                      <a:pt x="5356" y="1"/>
                    </a:cubicBezTo>
                    <a:close/>
                    <a:moveTo>
                      <a:pt x="5364" y="1"/>
                    </a:moveTo>
                    <a:lnTo>
                      <a:pt x="5364" y="1"/>
                    </a:lnTo>
                    <a:cubicBezTo>
                      <a:pt x="5366" y="1"/>
                      <a:pt x="5366" y="2"/>
                      <a:pt x="5366" y="3"/>
                    </a:cubicBezTo>
                    <a:cubicBezTo>
                      <a:pt x="5366" y="4"/>
                      <a:pt x="5366" y="5"/>
                      <a:pt x="5364" y="5"/>
                    </a:cubicBezTo>
                    <a:lnTo>
                      <a:pt x="5364" y="5"/>
                    </a:lnTo>
                    <a:cubicBezTo>
                      <a:pt x="5363" y="5"/>
                      <a:pt x="5362" y="4"/>
                      <a:pt x="5362" y="3"/>
                    </a:cubicBezTo>
                    <a:cubicBezTo>
                      <a:pt x="5362" y="2"/>
                      <a:pt x="5363" y="1"/>
                      <a:pt x="5364" y="1"/>
                    </a:cubicBezTo>
                    <a:close/>
                    <a:moveTo>
                      <a:pt x="5372" y="1"/>
                    </a:moveTo>
                    <a:lnTo>
                      <a:pt x="5372" y="1"/>
                    </a:lnTo>
                    <a:cubicBezTo>
                      <a:pt x="5374" y="1"/>
                      <a:pt x="5374" y="2"/>
                      <a:pt x="5374" y="3"/>
                    </a:cubicBezTo>
                    <a:cubicBezTo>
                      <a:pt x="5374" y="4"/>
                      <a:pt x="5374" y="5"/>
                      <a:pt x="5372" y="5"/>
                    </a:cubicBezTo>
                    <a:lnTo>
                      <a:pt x="5372" y="5"/>
                    </a:lnTo>
                    <a:cubicBezTo>
                      <a:pt x="5371" y="5"/>
                      <a:pt x="5370" y="4"/>
                      <a:pt x="5370" y="3"/>
                    </a:cubicBezTo>
                    <a:cubicBezTo>
                      <a:pt x="5370" y="2"/>
                      <a:pt x="5371" y="1"/>
                      <a:pt x="5372" y="1"/>
                    </a:cubicBezTo>
                    <a:close/>
                    <a:moveTo>
                      <a:pt x="5380" y="1"/>
                    </a:moveTo>
                    <a:lnTo>
                      <a:pt x="5380" y="1"/>
                    </a:lnTo>
                    <a:cubicBezTo>
                      <a:pt x="5382" y="1"/>
                      <a:pt x="5382" y="2"/>
                      <a:pt x="5382" y="3"/>
                    </a:cubicBezTo>
                    <a:cubicBezTo>
                      <a:pt x="5382" y="4"/>
                      <a:pt x="5382" y="5"/>
                      <a:pt x="5380" y="5"/>
                    </a:cubicBezTo>
                    <a:lnTo>
                      <a:pt x="5380" y="5"/>
                    </a:lnTo>
                    <a:cubicBezTo>
                      <a:pt x="5379" y="5"/>
                      <a:pt x="5378" y="4"/>
                      <a:pt x="5378" y="3"/>
                    </a:cubicBezTo>
                    <a:cubicBezTo>
                      <a:pt x="5378" y="2"/>
                      <a:pt x="5379" y="1"/>
                      <a:pt x="5380" y="1"/>
                    </a:cubicBezTo>
                    <a:close/>
                    <a:moveTo>
                      <a:pt x="5388" y="1"/>
                    </a:moveTo>
                    <a:lnTo>
                      <a:pt x="5388" y="1"/>
                    </a:lnTo>
                    <a:cubicBezTo>
                      <a:pt x="5390" y="1"/>
                      <a:pt x="5390" y="2"/>
                      <a:pt x="5390" y="3"/>
                    </a:cubicBezTo>
                    <a:cubicBezTo>
                      <a:pt x="5390" y="4"/>
                      <a:pt x="5390" y="5"/>
                      <a:pt x="5388" y="5"/>
                    </a:cubicBezTo>
                    <a:lnTo>
                      <a:pt x="5388" y="5"/>
                    </a:lnTo>
                    <a:cubicBezTo>
                      <a:pt x="5387" y="5"/>
                      <a:pt x="5386" y="4"/>
                      <a:pt x="5386" y="3"/>
                    </a:cubicBezTo>
                    <a:cubicBezTo>
                      <a:pt x="5386" y="2"/>
                      <a:pt x="5387" y="1"/>
                      <a:pt x="5388" y="1"/>
                    </a:cubicBezTo>
                    <a:close/>
                    <a:moveTo>
                      <a:pt x="5396" y="1"/>
                    </a:moveTo>
                    <a:lnTo>
                      <a:pt x="5396" y="1"/>
                    </a:lnTo>
                    <a:cubicBezTo>
                      <a:pt x="5398" y="1"/>
                      <a:pt x="5398" y="2"/>
                      <a:pt x="5398" y="3"/>
                    </a:cubicBezTo>
                    <a:cubicBezTo>
                      <a:pt x="5398" y="4"/>
                      <a:pt x="5398" y="5"/>
                      <a:pt x="5396" y="5"/>
                    </a:cubicBezTo>
                    <a:lnTo>
                      <a:pt x="5396" y="5"/>
                    </a:lnTo>
                    <a:cubicBezTo>
                      <a:pt x="5395" y="5"/>
                      <a:pt x="5394" y="4"/>
                      <a:pt x="5394" y="3"/>
                    </a:cubicBezTo>
                    <a:cubicBezTo>
                      <a:pt x="5394" y="2"/>
                      <a:pt x="5395" y="1"/>
                      <a:pt x="5396" y="1"/>
                    </a:cubicBezTo>
                    <a:close/>
                    <a:moveTo>
                      <a:pt x="5404" y="1"/>
                    </a:moveTo>
                    <a:lnTo>
                      <a:pt x="5404" y="1"/>
                    </a:lnTo>
                    <a:cubicBezTo>
                      <a:pt x="5406" y="1"/>
                      <a:pt x="5406" y="2"/>
                      <a:pt x="5406" y="3"/>
                    </a:cubicBezTo>
                    <a:cubicBezTo>
                      <a:pt x="5406" y="4"/>
                      <a:pt x="5406" y="5"/>
                      <a:pt x="5404" y="5"/>
                    </a:cubicBezTo>
                    <a:lnTo>
                      <a:pt x="5404" y="5"/>
                    </a:lnTo>
                    <a:cubicBezTo>
                      <a:pt x="5403" y="5"/>
                      <a:pt x="5402" y="4"/>
                      <a:pt x="5402" y="3"/>
                    </a:cubicBezTo>
                    <a:cubicBezTo>
                      <a:pt x="5402" y="2"/>
                      <a:pt x="5403" y="1"/>
                      <a:pt x="5404" y="1"/>
                    </a:cubicBezTo>
                    <a:close/>
                    <a:moveTo>
                      <a:pt x="5412" y="1"/>
                    </a:moveTo>
                    <a:lnTo>
                      <a:pt x="5412" y="1"/>
                    </a:lnTo>
                    <a:cubicBezTo>
                      <a:pt x="5414" y="1"/>
                      <a:pt x="5414" y="2"/>
                      <a:pt x="5414" y="3"/>
                    </a:cubicBezTo>
                    <a:cubicBezTo>
                      <a:pt x="5414" y="4"/>
                      <a:pt x="5414" y="5"/>
                      <a:pt x="5412" y="5"/>
                    </a:cubicBezTo>
                    <a:lnTo>
                      <a:pt x="5412" y="5"/>
                    </a:lnTo>
                    <a:cubicBezTo>
                      <a:pt x="5411" y="5"/>
                      <a:pt x="5410" y="4"/>
                      <a:pt x="5410" y="3"/>
                    </a:cubicBezTo>
                    <a:cubicBezTo>
                      <a:pt x="5410" y="2"/>
                      <a:pt x="5411" y="1"/>
                      <a:pt x="5412" y="1"/>
                    </a:cubicBezTo>
                    <a:close/>
                    <a:moveTo>
                      <a:pt x="5420" y="1"/>
                    </a:moveTo>
                    <a:lnTo>
                      <a:pt x="5420" y="1"/>
                    </a:lnTo>
                    <a:cubicBezTo>
                      <a:pt x="5422" y="1"/>
                      <a:pt x="5422" y="2"/>
                      <a:pt x="5422" y="3"/>
                    </a:cubicBezTo>
                    <a:cubicBezTo>
                      <a:pt x="5422" y="4"/>
                      <a:pt x="5422" y="5"/>
                      <a:pt x="5420" y="5"/>
                    </a:cubicBezTo>
                    <a:lnTo>
                      <a:pt x="5420" y="5"/>
                    </a:lnTo>
                    <a:cubicBezTo>
                      <a:pt x="5419" y="5"/>
                      <a:pt x="5418" y="4"/>
                      <a:pt x="5418" y="3"/>
                    </a:cubicBezTo>
                    <a:cubicBezTo>
                      <a:pt x="5418" y="2"/>
                      <a:pt x="5419" y="1"/>
                      <a:pt x="5420" y="1"/>
                    </a:cubicBezTo>
                    <a:close/>
                    <a:moveTo>
                      <a:pt x="5428" y="1"/>
                    </a:moveTo>
                    <a:lnTo>
                      <a:pt x="5428" y="1"/>
                    </a:lnTo>
                    <a:cubicBezTo>
                      <a:pt x="5430" y="1"/>
                      <a:pt x="5430" y="2"/>
                      <a:pt x="5430" y="3"/>
                    </a:cubicBezTo>
                    <a:cubicBezTo>
                      <a:pt x="5430" y="4"/>
                      <a:pt x="5430" y="5"/>
                      <a:pt x="5428" y="5"/>
                    </a:cubicBezTo>
                    <a:lnTo>
                      <a:pt x="5428" y="5"/>
                    </a:lnTo>
                    <a:cubicBezTo>
                      <a:pt x="5427" y="5"/>
                      <a:pt x="5426" y="4"/>
                      <a:pt x="5426" y="3"/>
                    </a:cubicBezTo>
                    <a:cubicBezTo>
                      <a:pt x="5426" y="2"/>
                      <a:pt x="5427" y="1"/>
                      <a:pt x="5428" y="1"/>
                    </a:cubicBezTo>
                    <a:close/>
                    <a:moveTo>
                      <a:pt x="5436" y="1"/>
                    </a:moveTo>
                    <a:lnTo>
                      <a:pt x="5436" y="1"/>
                    </a:lnTo>
                    <a:cubicBezTo>
                      <a:pt x="5438" y="1"/>
                      <a:pt x="5438" y="2"/>
                      <a:pt x="5438" y="3"/>
                    </a:cubicBezTo>
                    <a:cubicBezTo>
                      <a:pt x="5438" y="4"/>
                      <a:pt x="5438" y="5"/>
                      <a:pt x="5436" y="5"/>
                    </a:cubicBezTo>
                    <a:lnTo>
                      <a:pt x="5436" y="5"/>
                    </a:lnTo>
                    <a:cubicBezTo>
                      <a:pt x="5435" y="5"/>
                      <a:pt x="5434" y="4"/>
                      <a:pt x="5434" y="3"/>
                    </a:cubicBezTo>
                    <a:cubicBezTo>
                      <a:pt x="5434" y="2"/>
                      <a:pt x="5435" y="1"/>
                      <a:pt x="5436" y="1"/>
                    </a:cubicBezTo>
                    <a:close/>
                    <a:moveTo>
                      <a:pt x="5444" y="1"/>
                    </a:moveTo>
                    <a:lnTo>
                      <a:pt x="5444" y="1"/>
                    </a:lnTo>
                    <a:cubicBezTo>
                      <a:pt x="5446" y="1"/>
                      <a:pt x="5446" y="2"/>
                      <a:pt x="5446" y="3"/>
                    </a:cubicBezTo>
                    <a:cubicBezTo>
                      <a:pt x="5446" y="4"/>
                      <a:pt x="5446" y="5"/>
                      <a:pt x="5444" y="5"/>
                    </a:cubicBezTo>
                    <a:lnTo>
                      <a:pt x="5444" y="5"/>
                    </a:lnTo>
                    <a:cubicBezTo>
                      <a:pt x="5443" y="5"/>
                      <a:pt x="5442" y="4"/>
                      <a:pt x="5442" y="3"/>
                    </a:cubicBezTo>
                    <a:cubicBezTo>
                      <a:pt x="5442" y="2"/>
                      <a:pt x="5443" y="1"/>
                      <a:pt x="5444" y="1"/>
                    </a:cubicBezTo>
                    <a:close/>
                    <a:moveTo>
                      <a:pt x="5452" y="1"/>
                    </a:moveTo>
                    <a:lnTo>
                      <a:pt x="5452" y="1"/>
                    </a:lnTo>
                    <a:cubicBezTo>
                      <a:pt x="5454" y="1"/>
                      <a:pt x="5454" y="2"/>
                      <a:pt x="5454" y="3"/>
                    </a:cubicBezTo>
                    <a:cubicBezTo>
                      <a:pt x="5454" y="4"/>
                      <a:pt x="5454" y="5"/>
                      <a:pt x="5452" y="5"/>
                    </a:cubicBezTo>
                    <a:lnTo>
                      <a:pt x="5452" y="5"/>
                    </a:lnTo>
                    <a:cubicBezTo>
                      <a:pt x="5451" y="5"/>
                      <a:pt x="5450" y="4"/>
                      <a:pt x="5450" y="3"/>
                    </a:cubicBezTo>
                    <a:cubicBezTo>
                      <a:pt x="5450" y="2"/>
                      <a:pt x="5451" y="1"/>
                      <a:pt x="5452" y="1"/>
                    </a:cubicBezTo>
                    <a:close/>
                    <a:moveTo>
                      <a:pt x="5460" y="1"/>
                    </a:moveTo>
                    <a:lnTo>
                      <a:pt x="5460" y="1"/>
                    </a:lnTo>
                    <a:cubicBezTo>
                      <a:pt x="5462" y="1"/>
                      <a:pt x="5462" y="2"/>
                      <a:pt x="5462" y="3"/>
                    </a:cubicBezTo>
                    <a:cubicBezTo>
                      <a:pt x="5462" y="4"/>
                      <a:pt x="5462" y="5"/>
                      <a:pt x="5460" y="5"/>
                    </a:cubicBezTo>
                    <a:lnTo>
                      <a:pt x="5460" y="5"/>
                    </a:lnTo>
                    <a:cubicBezTo>
                      <a:pt x="5459" y="5"/>
                      <a:pt x="5458" y="4"/>
                      <a:pt x="5458" y="3"/>
                    </a:cubicBezTo>
                    <a:cubicBezTo>
                      <a:pt x="5458" y="2"/>
                      <a:pt x="5459" y="1"/>
                      <a:pt x="5460" y="1"/>
                    </a:cubicBezTo>
                    <a:close/>
                    <a:moveTo>
                      <a:pt x="5468" y="1"/>
                    </a:moveTo>
                    <a:lnTo>
                      <a:pt x="5468" y="1"/>
                    </a:lnTo>
                    <a:cubicBezTo>
                      <a:pt x="5470" y="1"/>
                      <a:pt x="5470" y="2"/>
                      <a:pt x="5470" y="3"/>
                    </a:cubicBezTo>
                    <a:cubicBezTo>
                      <a:pt x="5470" y="4"/>
                      <a:pt x="5470" y="5"/>
                      <a:pt x="5468" y="5"/>
                    </a:cubicBezTo>
                    <a:lnTo>
                      <a:pt x="5468" y="5"/>
                    </a:lnTo>
                    <a:cubicBezTo>
                      <a:pt x="5467" y="5"/>
                      <a:pt x="5466" y="4"/>
                      <a:pt x="5466" y="3"/>
                    </a:cubicBezTo>
                    <a:cubicBezTo>
                      <a:pt x="5466" y="2"/>
                      <a:pt x="5467" y="1"/>
                      <a:pt x="5468" y="1"/>
                    </a:cubicBezTo>
                    <a:close/>
                    <a:moveTo>
                      <a:pt x="5476" y="1"/>
                    </a:moveTo>
                    <a:lnTo>
                      <a:pt x="5476" y="1"/>
                    </a:lnTo>
                    <a:cubicBezTo>
                      <a:pt x="5478" y="1"/>
                      <a:pt x="5478" y="2"/>
                      <a:pt x="5478" y="3"/>
                    </a:cubicBezTo>
                    <a:cubicBezTo>
                      <a:pt x="5478" y="4"/>
                      <a:pt x="5478" y="5"/>
                      <a:pt x="5476" y="5"/>
                    </a:cubicBezTo>
                    <a:lnTo>
                      <a:pt x="5476" y="5"/>
                    </a:lnTo>
                    <a:cubicBezTo>
                      <a:pt x="5475" y="5"/>
                      <a:pt x="5474" y="4"/>
                      <a:pt x="5474" y="3"/>
                    </a:cubicBezTo>
                    <a:cubicBezTo>
                      <a:pt x="5474" y="2"/>
                      <a:pt x="5475" y="1"/>
                      <a:pt x="5476" y="1"/>
                    </a:cubicBezTo>
                    <a:close/>
                    <a:moveTo>
                      <a:pt x="5484" y="1"/>
                    </a:moveTo>
                    <a:lnTo>
                      <a:pt x="5485" y="1"/>
                    </a:lnTo>
                    <a:cubicBezTo>
                      <a:pt x="5486" y="1"/>
                      <a:pt x="5487" y="2"/>
                      <a:pt x="5487" y="3"/>
                    </a:cubicBezTo>
                    <a:cubicBezTo>
                      <a:pt x="5487" y="4"/>
                      <a:pt x="5486" y="5"/>
                      <a:pt x="5485" y="5"/>
                    </a:cubicBezTo>
                    <a:lnTo>
                      <a:pt x="5484" y="5"/>
                    </a:lnTo>
                    <a:cubicBezTo>
                      <a:pt x="5483" y="5"/>
                      <a:pt x="5482" y="4"/>
                      <a:pt x="5482" y="3"/>
                    </a:cubicBezTo>
                    <a:cubicBezTo>
                      <a:pt x="5482" y="2"/>
                      <a:pt x="5483" y="1"/>
                      <a:pt x="5484" y="1"/>
                    </a:cubicBezTo>
                    <a:close/>
                    <a:moveTo>
                      <a:pt x="5493" y="1"/>
                    </a:moveTo>
                    <a:lnTo>
                      <a:pt x="5493" y="1"/>
                    </a:lnTo>
                    <a:cubicBezTo>
                      <a:pt x="5494" y="1"/>
                      <a:pt x="5495" y="2"/>
                      <a:pt x="5495" y="3"/>
                    </a:cubicBezTo>
                    <a:cubicBezTo>
                      <a:pt x="5495" y="4"/>
                      <a:pt x="5494" y="5"/>
                      <a:pt x="5493" y="5"/>
                    </a:cubicBezTo>
                    <a:lnTo>
                      <a:pt x="5493" y="5"/>
                    </a:lnTo>
                    <a:cubicBezTo>
                      <a:pt x="5491" y="5"/>
                      <a:pt x="5491" y="4"/>
                      <a:pt x="5491" y="3"/>
                    </a:cubicBezTo>
                    <a:cubicBezTo>
                      <a:pt x="5491" y="2"/>
                      <a:pt x="5491" y="1"/>
                      <a:pt x="5493" y="1"/>
                    </a:cubicBezTo>
                    <a:close/>
                    <a:moveTo>
                      <a:pt x="5501" y="1"/>
                    </a:moveTo>
                    <a:lnTo>
                      <a:pt x="5501" y="1"/>
                    </a:lnTo>
                    <a:cubicBezTo>
                      <a:pt x="5502" y="1"/>
                      <a:pt x="5503" y="2"/>
                      <a:pt x="5503" y="3"/>
                    </a:cubicBezTo>
                    <a:cubicBezTo>
                      <a:pt x="5503" y="4"/>
                      <a:pt x="5502" y="5"/>
                      <a:pt x="5501" y="5"/>
                    </a:cubicBezTo>
                    <a:lnTo>
                      <a:pt x="5501" y="5"/>
                    </a:lnTo>
                    <a:cubicBezTo>
                      <a:pt x="5499" y="5"/>
                      <a:pt x="5499" y="4"/>
                      <a:pt x="5499" y="3"/>
                    </a:cubicBezTo>
                    <a:cubicBezTo>
                      <a:pt x="5499" y="2"/>
                      <a:pt x="5499" y="1"/>
                      <a:pt x="5501" y="1"/>
                    </a:cubicBezTo>
                    <a:close/>
                    <a:moveTo>
                      <a:pt x="5509" y="1"/>
                    </a:moveTo>
                    <a:lnTo>
                      <a:pt x="5509" y="1"/>
                    </a:lnTo>
                    <a:cubicBezTo>
                      <a:pt x="5510" y="1"/>
                      <a:pt x="5511" y="2"/>
                      <a:pt x="5511" y="3"/>
                    </a:cubicBezTo>
                    <a:cubicBezTo>
                      <a:pt x="5511" y="4"/>
                      <a:pt x="5510" y="5"/>
                      <a:pt x="5509" y="5"/>
                    </a:cubicBezTo>
                    <a:lnTo>
                      <a:pt x="5509" y="5"/>
                    </a:lnTo>
                    <a:cubicBezTo>
                      <a:pt x="5507" y="5"/>
                      <a:pt x="5507" y="4"/>
                      <a:pt x="5507" y="3"/>
                    </a:cubicBezTo>
                    <a:cubicBezTo>
                      <a:pt x="5507" y="2"/>
                      <a:pt x="5507" y="1"/>
                      <a:pt x="5509" y="1"/>
                    </a:cubicBezTo>
                    <a:close/>
                    <a:moveTo>
                      <a:pt x="5517" y="1"/>
                    </a:moveTo>
                    <a:lnTo>
                      <a:pt x="5517" y="1"/>
                    </a:lnTo>
                    <a:cubicBezTo>
                      <a:pt x="5518" y="1"/>
                      <a:pt x="5519" y="2"/>
                      <a:pt x="5519" y="3"/>
                    </a:cubicBezTo>
                    <a:cubicBezTo>
                      <a:pt x="5519" y="4"/>
                      <a:pt x="5518" y="5"/>
                      <a:pt x="5517" y="5"/>
                    </a:cubicBezTo>
                    <a:lnTo>
                      <a:pt x="5517" y="5"/>
                    </a:lnTo>
                    <a:cubicBezTo>
                      <a:pt x="5515" y="5"/>
                      <a:pt x="5515" y="4"/>
                      <a:pt x="5515" y="3"/>
                    </a:cubicBezTo>
                    <a:cubicBezTo>
                      <a:pt x="5515" y="2"/>
                      <a:pt x="5515" y="1"/>
                      <a:pt x="5517" y="1"/>
                    </a:cubicBezTo>
                    <a:close/>
                    <a:moveTo>
                      <a:pt x="5525" y="1"/>
                    </a:moveTo>
                    <a:lnTo>
                      <a:pt x="5525" y="1"/>
                    </a:lnTo>
                    <a:cubicBezTo>
                      <a:pt x="5526" y="1"/>
                      <a:pt x="5527" y="2"/>
                      <a:pt x="5527" y="3"/>
                    </a:cubicBezTo>
                    <a:cubicBezTo>
                      <a:pt x="5527" y="4"/>
                      <a:pt x="5526" y="5"/>
                      <a:pt x="5525" y="5"/>
                    </a:cubicBezTo>
                    <a:lnTo>
                      <a:pt x="5525" y="5"/>
                    </a:lnTo>
                    <a:cubicBezTo>
                      <a:pt x="5523" y="5"/>
                      <a:pt x="5523" y="4"/>
                      <a:pt x="5523" y="3"/>
                    </a:cubicBezTo>
                    <a:cubicBezTo>
                      <a:pt x="5523" y="2"/>
                      <a:pt x="5523" y="1"/>
                      <a:pt x="5525" y="1"/>
                    </a:cubicBezTo>
                    <a:close/>
                    <a:moveTo>
                      <a:pt x="5533" y="1"/>
                    </a:moveTo>
                    <a:lnTo>
                      <a:pt x="5533" y="1"/>
                    </a:lnTo>
                    <a:cubicBezTo>
                      <a:pt x="5534" y="1"/>
                      <a:pt x="5535" y="2"/>
                      <a:pt x="5535" y="3"/>
                    </a:cubicBezTo>
                    <a:cubicBezTo>
                      <a:pt x="5535" y="4"/>
                      <a:pt x="5534" y="5"/>
                      <a:pt x="5533" y="5"/>
                    </a:cubicBezTo>
                    <a:lnTo>
                      <a:pt x="5533" y="5"/>
                    </a:lnTo>
                    <a:cubicBezTo>
                      <a:pt x="5531" y="5"/>
                      <a:pt x="5531" y="4"/>
                      <a:pt x="5531" y="3"/>
                    </a:cubicBezTo>
                    <a:cubicBezTo>
                      <a:pt x="5531" y="2"/>
                      <a:pt x="5531" y="1"/>
                      <a:pt x="5533" y="1"/>
                    </a:cubicBezTo>
                    <a:close/>
                    <a:moveTo>
                      <a:pt x="5541" y="1"/>
                    </a:moveTo>
                    <a:lnTo>
                      <a:pt x="5541" y="1"/>
                    </a:lnTo>
                    <a:cubicBezTo>
                      <a:pt x="5542" y="1"/>
                      <a:pt x="5543" y="2"/>
                      <a:pt x="5543" y="3"/>
                    </a:cubicBezTo>
                    <a:cubicBezTo>
                      <a:pt x="5543" y="4"/>
                      <a:pt x="5542" y="5"/>
                      <a:pt x="5541" y="5"/>
                    </a:cubicBezTo>
                    <a:lnTo>
                      <a:pt x="5541" y="5"/>
                    </a:lnTo>
                    <a:cubicBezTo>
                      <a:pt x="5539" y="5"/>
                      <a:pt x="5539" y="4"/>
                      <a:pt x="5539" y="3"/>
                    </a:cubicBezTo>
                    <a:cubicBezTo>
                      <a:pt x="5539" y="2"/>
                      <a:pt x="5539" y="1"/>
                      <a:pt x="5541" y="1"/>
                    </a:cubicBezTo>
                    <a:close/>
                    <a:moveTo>
                      <a:pt x="5549" y="1"/>
                    </a:moveTo>
                    <a:lnTo>
                      <a:pt x="5549" y="1"/>
                    </a:lnTo>
                    <a:cubicBezTo>
                      <a:pt x="5550" y="1"/>
                      <a:pt x="5551" y="2"/>
                      <a:pt x="5551" y="3"/>
                    </a:cubicBezTo>
                    <a:cubicBezTo>
                      <a:pt x="5551" y="4"/>
                      <a:pt x="5550" y="5"/>
                      <a:pt x="5549" y="5"/>
                    </a:cubicBezTo>
                    <a:lnTo>
                      <a:pt x="5549" y="5"/>
                    </a:lnTo>
                    <a:cubicBezTo>
                      <a:pt x="5547" y="5"/>
                      <a:pt x="5547" y="4"/>
                      <a:pt x="5547" y="3"/>
                    </a:cubicBezTo>
                    <a:cubicBezTo>
                      <a:pt x="5547" y="2"/>
                      <a:pt x="5547" y="1"/>
                      <a:pt x="5549" y="1"/>
                    </a:cubicBezTo>
                    <a:close/>
                    <a:moveTo>
                      <a:pt x="5557" y="1"/>
                    </a:moveTo>
                    <a:lnTo>
                      <a:pt x="5557" y="1"/>
                    </a:lnTo>
                    <a:cubicBezTo>
                      <a:pt x="5558" y="1"/>
                      <a:pt x="5559" y="2"/>
                      <a:pt x="5559" y="3"/>
                    </a:cubicBezTo>
                    <a:cubicBezTo>
                      <a:pt x="5559" y="4"/>
                      <a:pt x="5558" y="5"/>
                      <a:pt x="5557" y="5"/>
                    </a:cubicBezTo>
                    <a:lnTo>
                      <a:pt x="5557" y="5"/>
                    </a:lnTo>
                    <a:cubicBezTo>
                      <a:pt x="5555" y="5"/>
                      <a:pt x="5555" y="4"/>
                      <a:pt x="5555" y="3"/>
                    </a:cubicBezTo>
                    <a:cubicBezTo>
                      <a:pt x="5555" y="2"/>
                      <a:pt x="5555" y="1"/>
                      <a:pt x="5557" y="1"/>
                    </a:cubicBezTo>
                    <a:close/>
                    <a:moveTo>
                      <a:pt x="5565" y="1"/>
                    </a:moveTo>
                    <a:lnTo>
                      <a:pt x="5565" y="1"/>
                    </a:lnTo>
                    <a:cubicBezTo>
                      <a:pt x="5566" y="1"/>
                      <a:pt x="5567" y="2"/>
                      <a:pt x="5567" y="3"/>
                    </a:cubicBezTo>
                    <a:cubicBezTo>
                      <a:pt x="5567" y="4"/>
                      <a:pt x="5566" y="5"/>
                      <a:pt x="5565" y="5"/>
                    </a:cubicBezTo>
                    <a:lnTo>
                      <a:pt x="5565" y="5"/>
                    </a:lnTo>
                    <a:cubicBezTo>
                      <a:pt x="5563" y="5"/>
                      <a:pt x="5563" y="4"/>
                      <a:pt x="5563" y="3"/>
                    </a:cubicBezTo>
                    <a:cubicBezTo>
                      <a:pt x="5563" y="2"/>
                      <a:pt x="5563" y="1"/>
                      <a:pt x="5565" y="1"/>
                    </a:cubicBezTo>
                    <a:close/>
                    <a:moveTo>
                      <a:pt x="5573" y="1"/>
                    </a:moveTo>
                    <a:lnTo>
                      <a:pt x="5573" y="1"/>
                    </a:lnTo>
                    <a:cubicBezTo>
                      <a:pt x="5574" y="1"/>
                      <a:pt x="5575" y="2"/>
                      <a:pt x="5575" y="3"/>
                    </a:cubicBezTo>
                    <a:cubicBezTo>
                      <a:pt x="5575" y="4"/>
                      <a:pt x="5574" y="5"/>
                      <a:pt x="5573" y="5"/>
                    </a:cubicBezTo>
                    <a:lnTo>
                      <a:pt x="5573" y="5"/>
                    </a:lnTo>
                    <a:cubicBezTo>
                      <a:pt x="5571" y="5"/>
                      <a:pt x="5571" y="4"/>
                      <a:pt x="5571" y="3"/>
                    </a:cubicBezTo>
                    <a:cubicBezTo>
                      <a:pt x="5571" y="2"/>
                      <a:pt x="5571" y="1"/>
                      <a:pt x="5573" y="1"/>
                    </a:cubicBezTo>
                    <a:close/>
                    <a:moveTo>
                      <a:pt x="5581" y="1"/>
                    </a:moveTo>
                    <a:lnTo>
                      <a:pt x="5581" y="1"/>
                    </a:lnTo>
                    <a:cubicBezTo>
                      <a:pt x="5582" y="1"/>
                      <a:pt x="5583" y="2"/>
                      <a:pt x="5583" y="3"/>
                    </a:cubicBezTo>
                    <a:cubicBezTo>
                      <a:pt x="5583" y="4"/>
                      <a:pt x="5582" y="5"/>
                      <a:pt x="5581" y="5"/>
                    </a:cubicBezTo>
                    <a:lnTo>
                      <a:pt x="5581" y="5"/>
                    </a:lnTo>
                    <a:cubicBezTo>
                      <a:pt x="5579" y="5"/>
                      <a:pt x="5579" y="4"/>
                      <a:pt x="5579" y="3"/>
                    </a:cubicBezTo>
                    <a:cubicBezTo>
                      <a:pt x="5579" y="2"/>
                      <a:pt x="5579" y="1"/>
                      <a:pt x="5581" y="1"/>
                    </a:cubicBezTo>
                    <a:close/>
                    <a:moveTo>
                      <a:pt x="5589" y="1"/>
                    </a:moveTo>
                    <a:lnTo>
                      <a:pt x="5589" y="1"/>
                    </a:lnTo>
                    <a:cubicBezTo>
                      <a:pt x="5590" y="1"/>
                      <a:pt x="5591" y="2"/>
                      <a:pt x="5591" y="3"/>
                    </a:cubicBezTo>
                    <a:cubicBezTo>
                      <a:pt x="5591" y="4"/>
                      <a:pt x="5590" y="5"/>
                      <a:pt x="5589" y="5"/>
                    </a:cubicBezTo>
                    <a:lnTo>
                      <a:pt x="5589" y="5"/>
                    </a:lnTo>
                    <a:cubicBezTo>
                      <a:pt x="5587" y="5"/>
                      <a:pt x="5587" y="4"/>
                      <a:pt x="5587" y="3"/>
                    </a:cubicBezTo>
                    <a:cubicBezTo>
                      <a:pt x="5587" y="2"/>
                      <a:pt x="5587" y="1"/>
                      <a:pt x="5589" y="1"/>
                    </a:cubicBezTo>
                    <a:close/>
                    <a:moveTo>
                      <a:pt x="5597" y="1"/>
                    </a:moveTo>
                    <a:lnTo>
                      <a:pt x="5597" y="1"/>
                    </a:lnTo>
                    <a:cubicBezTo>
                      <a:pt x="5598" y="1"/>
                      <a:pt x="5599" y="2"/>
                      <a:pt x="5599" y="3"/>
                    </a:cubicBezTo>
                    <a:cubicBezTo>
                      <a:pt x="5599" y="4"/>
                      <a:pt x="5598" y="5"/>
                      <a:pt x="5597" y="5"/>
                    </a:cubicBezTo>
                    <a:lnTo>
                      <a:pt x="5597" y="5"/>
                    </a:lnTo>
                    <a:cubicBezTo>
                      <a:pt x="5595" y="5"/>
                      <a:pt x="5595" y="4"/>
                      <a:pt x="5595" y="3"/>
                    </a:cubicBezTo>
                    <a:cubicBezTo>
                      <a:pt x="5595" y="2"/>
                      <a:pt x="5595" y="1"/>
                      <a:pt x="5597" y="1"/>
                    </a:cubicBezTo>
                    <a:close/>
                    <a:moveTo>
                      <a:pt x="5605" y="1"/>
                    </a:moveTo>
                    <a:lnTo>
                      <a:pt x="5605" y="1"/>
                    </a:lnTo>
                    <a:cubicBezTo>
                      <a:pt x="5606" y="1"/>
                      <a:pt x="5607" y="2"/>
                      <a:pt x="5607" y="3"/>
                    </a:cubicBezTo>
                    <a:cubicBezTo>
                      <a:pt x="5607" y="4"/>
                      <a:pt x="5606" y="5"/>
                      <a:pt x="5605" y="5"/>
                    </a:cubicBezTo>
                    <a:lnTo>
                      <a:pt x="5605" y="5"/>
                    </a:lnTo>
                    <a:cubicBezTo>
                      <a:pt x="5603" y="5"/>
                      <a:pt x="5603" y="4"/>
                      <a:pt x="5603" y="3"/>
                    </a:cubicBezTo>
                    <a:cubicBezTo>
                      <a:pt x="5603" y="2"/>
                      <a:pt x="5603" y="1"/>
                      <a:pt x="5605" y="1"/>
                    </a:cubicBezTo>
                    <a:close/>
                    <a:moveTo>
                      <a:pt x="5613" y="1"/>
                    </a:moveTo>
                    <a:lnTo>
                      <a:pt x="5613" y="1"/>
                    </a:lnTo>
                    <a:cubicBezTo>
                      <a:pt x="5614" y="1"/>
                      <a:pt x="5615" y="2"/>
                      <a:pt x="5615" y="3"/>
                    </a:cubicBezTo>
                    <a:cubicBezTo>
                      <a:pt x="5615" y="4"/>
                      <a:pt x="5614" y="5"/>
                      <a:pt x="5613" y="5"/>
                    </a:cubicBezTo>
                    <a:lnTo>
                      <a:pt x="5613" y="5"/>
                    </a:lnTo>
                    <a:cubicBezTo>
                      <a:pt x="5611" y="5"/>
                      <a:pt x="5611" y="4"/>
                      <a:pt x="5611" y="3"/>
                    </a:cubicBezTo>
                    <a:cubicBezTo>
                      <a:pt x="5611" y="2"/>
                      <a:pt x="5611" y="1"/>
                      <a:pt x="5613" y="1"/>
                    </a:cubicBezTo>
                    <a:close/>
                    <a:moveTo>
                      <a:pt x="5621" y="1"/>
                    </a:moveTo>
                    <a:lnTo>
                      <a:pt x="5621" y="1"/>
                    </a:lnTo>
                    <a:cubicBezTo>
                      <a:pt x="5622" y="1"/>
                      <a:pt x="5623" y="2"/>
                      <a:pt x="5623" y="3"/>
                    </a:cubicBezTo>
                    <a:cubicBezTo>
                      <a:pt x="5623" y="4"/>
                      <a:pt x="5622" y="5"/>
                      <a:pt x="5621" y="5"/>
                    </a:cubicBezTo>
                    <a:lnTo>
                      <a:pt x="5621" y="5"/>
                    </a:lnTo>
                    <a:cubicBezTo>
                      <a:pt x="5619" y="5"/>
                      <a:pt x="5619" y="4"/>
                      <a:pt x="5619" y="3"/>
                    </a:cubicBezTo>
                    <a:cubicBezTo>
                      <a:pt x="5619" y="2"/>
                      <a:pt x="5619" y="1"/>
                      <a:pt x="5621" y="1"/>
                    </a:cubicBezTo>
                    <a:close/>
                    <a:moveTo>
                      <a:pt x="5629" y="1"/>
                    </a:moveTo>
                    <a:lnTo>
                      <a:pt x="5629" y="1"/>
                    </a:lnTo>
                    <a:cubicBezTo>
                      <a:pt x="5630" y="1"/>
                      <a:pt x="5631" y="2"/>
                      <a:pt x="5631" y="3"/>
                    </a:cubicBezTo>
                    <a:cubicBezTo>
                      <a:pt x="5631" y="4"/>
                      <a:pt x="5630" y="5"/>
                      <a:pt x="5629" y="5"/>
                    </a:cubicBezTo>
                    <a:lnTo>
                      <a:pt x="5629" y="5"/>
                    </a:lnTo>
                    <a:cubicBezTo>
                      <a:pt x="5627" y="5"/>
                      <a:pt x="5627" y="4"/>
                      <a:pt x="5627" y="3"/>
                    </a:cubicBezTo>
                    <a:cubicBezTo>
                      <a:pt x="5627" y="2"/>
                      <a:pt x="5627" y="1"/>
                      <a:pt x="5629" y="1"/>
                    </a:cubicBezTo>
                    <a:close/>
                    <a:moveTo>
                      <a:pt x="5637" y="1"/>
                    </a:moveTo>
                    <a:lnTo>
                      <a:pt x="5637" y="1"/>
                    </a:lnTo>
                    <a:cubicBezTo>
                      <a:pt x="5638" y="1"/>
                      <a:pt x="5639" y="2"/>
                      <a:pt x="5639" y="3"/>
                    </a:cubicBezTo>
                    <a:cubicBezTo>
                      <a:pt x="5639" y="4"/>
                      <a:pt x="5638" y="5"/>
                      <a:pt x="5637" y="5"/>
                    </a:cubicBezTo>
                    <a:lnTo>
                      <a:pt x="5637" y="5"/>
                    </a:lnTo>
                    <a:cubicBezTo>
                      <a:pt x="5635" y="5"/>
                      <a:pt x="5635" y="4"/>
                      <a:pt x="5635" y="3"/>
                    </a:cubicBezTo>
                    <a:cubicBezTo>
                      <a:pt x="5635" y="2"/>
                      <a:pt x="5635" y="1"/>
                      <a:pt x="5637" y="1"/>
                    </a:cubicBezTo>
                    <a:close/>
                    <a:moveTo>
                      <a:pt x="5645" y="1"/>
                    </a:moveTo>
                    <a:lnTo>
                      <a:pt x="5645" y="1"/>
                    </a:lnTo>
                    <a:cubicBezTo>
                      <a:pt x="5646" y="1"/>
                      <a:pt x="5647" y="2"/>
                      <a:pt x="5647" y="3"/>
                    </a:cubicBezTo>
                    <a:cubicBezTo>
                      <a:pt x="5647" y="4"/>
                      <a:pt x="5646" y="5"/>
                      <a:pt x="5645" y="5"/>
                    </a:cubicBezTo>
                    <a:lnTo>
                      <a:pt x="5645" y="5"/>
                    </a:lnTo>
                    <a:cubicBezTo>
                      <a:pt x="5643" y="5"/>
                      <a:pt x="5643" y="4"/>
                      <a:pt x="5643" y="3"/>
                    </a:cubicBezTo>
                    <a:cubicBezTo>
                      <a:pt x="5643" y="2"/>
                      <a:pt x="5643" y="1"/>
                      <a:pt x="5645" y="1"/>
                    </a:cubicBezTo>
                    <a:close/>
                    <a:moveTo>
                      <a:pt x="5653" y="1"/>
                    </a:moveTo>
                    <a:lnTo>
                      <a:pt x="5653" y="1"/>
                    </a:lnTo>
                    <a:cubicBezTo>
                      <a:pt x="5654" y="1"/>
                      <a:pt x="5655" y="2"/>
                      <a:pt x="5655" y="3"/>
                    </a:cubicBezTo>
                    <a:cubicBezTo>
                      <a:pt x="5655" y="4"/>
                      <a:pt x="5654" y="5"/>
                      <a:pt x="5653" y="5"/>
                    </a:cubicBezTo>
                    <a:lnTo>
                      <a:pt x="5653" y="5"/>
                    </a:lnTo>
                    <a:cubicBezTo>
                      <a:pt x="5651" y="5"/>
                      <a:pt x="5651" y="4"/>
                      <a:pt x="5651" y="3"/>
                    </a:cubicBezTo>
                    <a:cubicBezTo>
                      <a:pt x="5651" y="2"/>
                      <a:pt x="5651" y="1"/>
                      <a:pt x="5653" y="1"/>
                    </a:cubicBezTo>
                    <a:close/>
                    <a:moveTo>
                      <a:pt x="5661" y="1"/>
                    </a:moveTo>
                    <a:lnTo>
                      <a:pt x="5661" y="1"/>
                    </a:lnTo>
                    <a:cubicBezTo>
                      <a:pt x="5662" y="1"/>
                      <a:pt x="5663" y="2"/>
                      <a:pt x="5663" y="3"/>
                    </a:cubicBezTo>
                    <a:cubicBezTo>
                      <a:pt x="5663" y="4"/>
                      <a:pt x="5662" y="5"/>
                      <a:pt x="5661" y="5"/>
                    </a:cubicBezTo>
                    <a:lnTo>
                      <a:pt x="5661" y="5"/>
                    </a:lnTo>
                    <a:cubicBezTo>
                      <a:pt x="5659" y="5"/>
                      <a:pt x="5659" y="4"/>
                      <a:pt x="5659" y="3"/>
                    </a:cubicBezTo>
                    <a:cubicBezTo>
                      <a:pt x="5659" y="2"/>
                      <a:pt x="5659" y="1"/>
                      <a:pt x="5661" y="1"/>
                    </a:cubicBezTo>
                    <a:close/>
                    <a:moveTo>
                      <a:pt x="5669" y="1"/>
                    </a:moveTo>
                    <a:lnTo>
                      <a:pt x="5669" y="1"/>
                    </a:lnTo>
                    <a:cubicBezTo>
                      <a:pt x="5670" y="1"/>
                      <a:pt x="5671" y="2"/>
                      <a:pt x="5671" y="3"/>
                    </a:cubicBezTo>
                    <a:cubicBezTo>
                      <a:pt x="5671" y="4"/>
                      <a:pt x="5670" y="5"/>
                      <a:pt x="5669" y="5"/>
                    </a:cubicBezTo>
                    <a:lnTo>
                      <a:pt x="5669" y="5"/>
                    </a:lnTo>
                    <a:cubicBezTo>
                      <a:pt x="5667" y="5"/>
                      <a:pt x="5667" y="4"/>
                      <a:pt x="5667" y="3"/>
                    </a:cubicBezTo>
                    <a:cubicBezTo>
                      <a:pt x="5667" y="2"/>
                      <a:pt x="5667" y="1"/>
                      <a:pt x="5669" y="1"/>
                    </a:cubicBezTo>
                    <a:close/>
                    <a:moveTo>
                      <a:pt x="5677" y="1"/>
                    </a:moveTo>
                    <a:lnTo>
                      <a:pt x="5677" y="1"/>
                    </a:lnTo>
                    <a:cubicBezTo>
                      <a:pt x="5678" y="1"/>
                      <a:pt x="5679" y="2"/>
                      <a:pt x="5679" y="3"/>
                    </a:cubicBezTo>
                    <a:cubicBezTo>
                      <a:pt x="5679" y="4"/>
                      <a:pt x="5678" y="5"/>
                      <a:pt x="5677" y="5"/>
                    </a:cubicBezTo>
                    <a:lnTo>
                      <a:pt x="5677" y="5"/>
                    </a:lnTo>
                    <a:cubicBezTo>
                      <a:pt x="5675" y="5"/>
                      <a:pt x="5675" y="4"/>
                      <a:pt x="5675" y="3"/>
                    </a:cubicBezTo>
                    <a:cubicBezTo>
                      <a:pt x="5675" y="2"/>
                      <a:pt x="5675" y="1"/>
                      <a:pt x="5677" y="1"/>
                    </a:cubicBezTo>
                    <a:close/>
                    <a:moveTo>
                      <a:pt x="5685" y="1"/>
                    </a:moveTo>
                    <a:lnTo>
                      <a:pt x="5685" y="1"/>
                    </a:lnTo>
                    <a:cubicBezTo>
                      <a:pt x="5686" y="1"/>
                      <a:pt x="5687" y="2"/>
                      <a:pt x="5687" y="3"/>
                    </a:cubicBezTo>
                    <a:cubicBezTo>
                      <a:pt x="5687" y="4"/>
                      <a:pt x="5686" y="5"/>
                      <a:pt x="5685" y="5"/>
                    </a:cubicBezTo>
                    <a:lnTo>
                      <a:pt x="5685" y="5"/>
                    </a:lnTo>
                    <a:cubicBezTo>
                      <a:pt x="5683" y="5"/>
                      <a:pt x="5683" y="4"/>
                      <a:pt x="5683" y="3"/>
                    </a:cubicBezTo>
                    <a:cubicBezTo>
                      <a:pt x="5683" y="2"/>
                      <a:pt x="5683" y="1"/>
                      <a:pt x="5685" y="1"/>
                    </a:cubicBezTo>
                    <a:close/>
                    <a:moveTo>
                      <a:pt x="5693" y="1"/>
                    </a:moveTo>
                    <a:lnTo>
                      <a:pt x="5693" y="1"/>
                    </a:lnTo>
                    <a:cubicBezTo>
                      <a:pt x="5694" y="1"/>
                      <a:pt x="5695" y="2"/>
                      <a:pt x="5695" y="3"/>
                    </a:cubicBezTo>
                    <a:cubicBezTo>
                      <a:pt x="5695" y="4"/>
                      <a:pt x="5694" y="5"/>
                      <a:pt x="5693" y="5"/>
                    </a:cubicBezTo>
                    <a:lnTo>
                      <a:pt x="5693" y="5"/>
                    </a:lnTo>
                    <a:cubicBezTo>
                      <a:pt x="5691" y="5"/>
                      <a:pt x="5691" y="4"/>
                      <a:pt x="5691" y="3"/>
                    </a:cubicBezTo>
                    <a:cubicBezTo>
                      <a:pt x="5691" y="2"/>
                      <a:pt x="5691" y="1"/>
                      <a:pt x="5693" y="1"/>
                    </a:cubicBezTo>
                    <a:close/>
                    <a:moveTo>
                      <a:pt x="5701" y="1"/>
                    </a:moveTo>
                    <a:lnTo>
                      <a:pt x="5701" y="1"/>
                    </a:lnTo>
                    <a:cubicBezTo>
                      <a:pt x="5702" y="1"/>
                      <a:pt x="5703" y="2"/>
                      <a:pt x="5703" y="3"/>
                    </a:cubicBezTo>
                    <a:cubicBezTo>
                      <a:pt x="5703" y="4"/>
                      <a:pt x="5702" y="5"/>
                      <a:pt x="5701" y="5"/>
                    </a:cubicBezTo>
                    <a:lnTo>
                      <a:pt x="5701" y="5"/>
                    </a:lnTo>
                    <a:cubicBezTo>
                      <a:pt x="5699" y="5"/>
                      <a:pt x="5699" y="4"/>
                      <a:pt x="5699" y="3"/>
                    </a:cubicBezTo>
                    <a:cubicBezTo>
                      <a:pt x="5699" y="2"/>
                      <a:pt x="5699" y="1"/>
                      <a:pt x="5701" y="1"/>
                    </a:cubicBezTo>
                    <a:close/>
                    <a:moveTo>
                      <a:pt x="5709" y="1"/>
                    </a:moveTo>
                    <a:lnTo>
                      <a:pt x="5709" y="1"/>
                    </a:lnTo>
                    <a:cubicBezTo>
                      <a:pt x="5710" y="1"/>
                      <a:pt x="5711" y="2"/>
                      <a:pt x="5711" y="3"/>
                    </a:cubicBezTo>
                    <a:cubicBezTo>
                      <a:pt x="5711" y="4"/>
                      <a:pt x="5710" y="5"/>
                      <a:pt x="5709" y="5"/>
                    </a:cubicBezTo>
                    <a:lnTo>
                      <a:pt x="5709" y="5"/>
                    </a:lnTo>
                    <a:cubicBezTo>
                      <a:pt x="5708" y="5"/>
                      <a:pt x="5707" y="4"/>
                      <a:pt x="5707" y="3"/>
                    </a:cubicBezTo>
                    <a:cubicBezTo>
                      <a:pt x="5707" y="2"/>
                      <a:pt x="5708" y="1"/>
                      <a:pt x="5709" y="1"/>
                    </a:cubicBezTo>
                    <a:close/>
                    <a:moveTo>
                      <a:pt x="5717" y="1"/>
                    </a:moveTo>
                    <a:lnTo>
                      <a:pt x="5717" y="1"/>
                    </a:lnTo>
                    <a:cubicBezTo>
                      <a:pt x="5718" y="1"/>
                      <a:pt x="5719" y="2"/>
                      <a:pt x="5719" y="3"/>
                    </a:cubicBezTo>
                    <a:cubicBezTo>
                      <a:pt x="5719" y="4"/>
                      <a:pt x="5718" y="5"/>
                      <a:pt x="5717" y="5"/>
                    </a:cubicBezTo>
                    <a:lnTo>
                      <a:pt x="5717" y="5"/>
                    </a:lnTo>
                    <a:cubicBezTo>
                      <a:pt x="5716" y="5"/>
                      <a:pt x="5715" y="4"/>
                      <a:pt x="5715" y="3"/>
                    </a:cubicBezTo>
                    <a:cubicBezTo>
                      <a:pt x="5715" y="2"/>
                      <a:pt x="5716" y="1"/>
                      <a:pt x="5717" y="1"/>
                    </a:cubicBezTo>
                    <a:close/>
                    <a:moveTo>
                      <a:pt x="5725" y="1"/>
                    </a:moveTo>
                    <a:lnTo>
                      <a:pt x="5725" y="1"/>
                    </a:lnTo>
                    <a:cubicBezTo>
                      <a:pt x="5726" y="1"/>
                      <a:pt x="5727" y="2"/>
                      <a:pt x="5727" y="3"/>
                    </a:cubicBezTo>
                    <a:cubicBezTo>
                      <a:pt x="5727" y="4"/>
                      <a:pt x="5726" y="5"/>
                      <a:pt x="5725" y="5"/>
                    </a:cubicBezTo>
                    <a:lnTo>
                      <a:pt x="5725" y="5"/>
                    </a:lnTo>
                    <a:cubicBezTo>
                      <a:pt x="5724" y="5"/>
                      <a:pt x="5723" y="4"/>
                      <a:pt x="5723" y="3"/>
                    </a:cubicBezTo>
                    <a:cubicBezTo>
                      <a:pt x="5723" y="2"/>
                      <a:pt x="5724" y="1"/>
                      <a:pt x="5725" y="1"/>
                    </a:cubicBezTo>
                    <a:close/>
                    <a:moveTo>
                      <a:pt x="5733" y="1"/>
                    </a:moveTo>
                    <a:lnTo>
                      <a:pt x="5733" y="1"/>
                    </a:lnTo>
                    <a:cubicBezTo>
                      <a:pt x="5734" y="1"/>
                      <a:pt x="5735" y="2"/>
                      <a:pt x="5735" y="3"/>
                    </a:cubicBezTo>
                    <a:cubicBezTo>
                      <a:pt x="5735" y="4"/>
                      <a:pt x="5734" y="5"/>
                      <a:pt x="5733" y="5"/>
                    </a:cubicBezTo>
                    <a:lnTo>
                      <a:pt x="5733" y="5"/>
                    </a:lnTo>
                    <a:cubicBezTo>
                      <a:pt x="5732" y="5"/>
                      <a:pt x="5731" y="4"/>
                      <a:pt x="5731" y="3"/>
                    </a:cubicBezTo>
                    <a:cubicBezTo>
                      <a:pt x="5731" y="2"/>
                      <a:pt x="5732" y="1"/>
                      <a:pt x="5733" y="1"/>
                    </a:cubicBezTo>
                    <a:close/>
                    <a:moveTo>
                      <a:pt x="5741" y="1"/>
                    </a:moveTo>
                    <a:lnTo>
                      <a:pt x="5741" y="1"/>
                    </a:lnTo>
                    <a:cubicBezTo>
                      <a:pt x="5742" y="1"/>
                      <a:pt x="5743" y="2"/>
                      <a:pt x="5743" y="3"/>
                    </a:cubicBezTo>
                    <a:cubicBezTo>
                      <a:pt x="5743" y="4"/>
                      <a:pt x="5742" y="5"/>
                      <a:pt x="5741" y="5"/>
                    </a:cubicBezTo>
                    <a:lnTo>
                      <a:pt x="5741" y="5"/>
                    </a:lnTo>
                    <a:cubicBezTo>
                      <a:pt x="5740" y="5"/>
                      <a:pt x="5739" y="4"/>
                      <a:pt x="5739" y="3"/>
                    </a:cubicBezTo>
                    <a:cubicBezTo>
                      <a:pt x="5739" y="2"/>
                      <a:pt x="5740" y="1"/>
                      <a:pt x="5741" y="1"/>
                    </a:cubicBezTo>
                    <a:close/>
                    <a:moveTo>
                      <a:pt x="5749" y="1"/>
                    </a:moveTo>
                    <a:lnTo>
                      <a:pt x="5749" y="1"/>
                    </a:lnTo>
                    <a:cubicBezTo>
                      <a:pt x="5750" y="1"/>
                      <a:pt x="5751" y="2"/>
                      <a:pt x="5751" y="3"/>
                    </a:cubicBezTo>
                    <a:cubicBezTo>
                      <a:pt x="5751" y="4"/>
                      <a:pt x="5750" y="5"/>
                      <a:pt x="5749" y="5"/>
                    </a:cubicBezTo>
                    <a:lnTo>
                      <a:pt x="5749" y="5"/>
                    </a:lnTo>
                    <a:cubicBezTo>
                      <a:pt x="5748" y="5"/>
                      <a:pt x="5747" y="4"/>
                      <a:pt x="5747" y="3"/>
                    </a:cubicBezTo>
                    <a:cubicBezTo>
                      <a:pt x="5747" y="2"/>
                      <a:pt x="5748" y="1"/>
                      <a:pt x="5749" y="1"/>
                    </a:cubicBezTo>
                    <a:close/>
                    <a:moveTo>
                      <a:pt x="5757" y="1"/>
                    </a:moveTo>
                    <a:lnTo>
                      <a:pt x="5757" y="1"/>
                    </a:lnTo>
                    <a:cubicBezTo>
                      <a:pt x="5758" y="1"/>
                      <a:pt x="5759" y="2"/>
                      <a:pt x="5759" y="3"/>
                    </a:cubicBezTo>
                    <a:cubicBezTo>
                      <a:pt x="5759" y="4"/>
                      <a:pt x="5758" y="5"/>
                      <a:pt x="5757" y="5"/>
                    </a:cubicBezTo>
                    <a:lnTo>
                      <a:pt x="5757" y="5"/>
                    </a:lnTo>
                    <a:cubicBezTo>
                      <a:pt x="5756" y="5"/>
                      <a:pt x="5755" y="4"/>
                      <a:pt x="5755" y="3"/>
                    </a:cubicBezTo>
                    <a:cubicBezTo>
                      <a:pt x="5755" y="2"/>
                      <a:pt x="5756" y="1"/>
                      <a:pt x="5757" y="1"/>
                    </a:cubicBezTo>
                    <a:close/>
                    <a:moveTo>
                      <a:pt x="5765" y="1"/>
                    </a:moveTo>
                    <a:lnTo>
                      <a:pt x="5765" y="1"/>
                    </a:lnTo>
                    <a:cubicBezTo>
                      <a:pt x="5766" y="1"/>
                      <a:pt x="5767" y="2"/>
                      <a:pt x="5767" y="3"/>
                    </a:cubicBezTo>
                    <a:cubicBezTo>
                      <a:pt x="5767" y="4"/>
                      <a:pt x="5766" y="5"/>
                      <a:pt x="5765" y="5"/>
                    </a:cubicBezTo>
                    <a:lnTo>
                      <a:pt x="5765" y="5"/>
                    </a:lnTo>
                    <a:cubicBezTo>
                      <a:pt x="5764" y="5"/>
                      <a:pt x="5763" y="4"/>
                      <a:pt x="5763" y="3"/>
                    </a:cubicBezTo>
                    <a:cubicBezTo>
                      <a:pt x="5763" y="2"/>
                      <a:pt x="5764" y="1"/>
                      <a:pt x="5765" y="1"/>
                    </a:cubicBezTo>
                    <a:close/>
                    <a:moveTo>
                      <a:pt x="5773" y="1"/>
                    </a:moveTo>
                    <a:lnTo>
                      <a:pt x="5773" y="1"/>
                    </a:lnTo>
                    <a:cubicBezTo>
                      <a:pt x="5774" y="1"/>
                      <a:pt x="5775" y="2"/>
                      <a:pt x="5775" y="3"/>
                    </a:cubicBezTo>
                    <a:cubicBezTo>
                      <a:pt x="5775" y="4"/>
                      <a:pt x="5774" y="5"/>
                      <a:pt x="5773" y="5"/>
                    </a:cubicBezTo>
                    <a:lnTo>
                      <a:pt x="5773" y="5"/>
                    </a:lnTo>
                    <a:cubicBezTo>
                      <a:pt x="5772" y="5"/>
                      <a:pt x="5771" y="4"/>
                      <a:pt x="5771" y="3"/>
                    </a:cubicBezTo>
                    <a:cubicBezTo>
                      <a:pt x="5771" y="2"/>
                      <a:pt x="5772" y="1"/>
                      <a:pt x="5773" y="1"/>
                    </a:cubicBezTo>
                    <a:close/>
                    <a:moveTo>
                      <a:pt x="5781" y="1"/>
                    </a:moveTo>
                    <a:lnTo>
                      <a:pt x="5781" y="1"/>
                    </a:lnTo>
                    <a:cubicBezTo>
                      <a:pt x="5782" y="1"/>
                      <a:pt x="5783" y="2"/>
                      <a:pt x="5783" y="3"/>
                    </a:cubicBezTo>
                    <a:cubicBezTo>
                      <a:pt x="5783" y="4"/>
                      <a:pt x="5782" y="5"/>
                      <a:pt x="5781" y="5"/>
                    </a:cubicBezTo>
                    <a:lnTo>
                      <a:pt x="5781" y="5"/>
                    </a:lnTo>
                    <a:cubicBezTo>
                      <a:pt x="5780" y="5"/>
                      <a:pt x="5779" y="4"/>
                      <a:pt x="5779" y="3"/>
                    </a:cubicBezTo>
                    <a:cubicBezTo>
                      <a:pt x="5779" y="2"/>
                      <a:pt x="5780" y="1"/>
                      <a:pt x="5781" y="1"/>
                    </a:cubicBezTo>
                    <a:close/>
                    <a:moveTo>
                      <a:pt x="5789" y="1"/>
                    </a:moveTo>
                    <a:lnTo>
                      <a:pt x="5789" y="1"/>
                    </a:lnTo>
                    <a:cubicBezTo>
                      <a:pt x="5790" y="1"/>
                      <a:pt x="5791" y="2"/>
                      <a:pt x="5791" y="3"/>
                    </a:cubicBezTo>
                    <a:cubicBezTo>
                      <a:pt x="5791" y="4"/>
                      <a:pt x="5790" y="5"/>
                      <a:pt x="5789" y="5"/>
                    </a:cubicBezTo>
                    <a:lnTo>
                      <a:pt x="5789" y="5"/>
                    </a:lnTo>
                    <a:cubicBezTo>
                      <a:pt x="5788" y="5"/>
                      <a:pt x="5787" y="4"/>
                      <a:pt x="5787" y="3"/>
                    </a:cubicBezTo>
                    <a:cubicBezTo>
                      <a:pt x="5787" y="2"/>
                      <a:pt x="5788" y="1"/>
                      <a:pt x="5789" y="1"/>
                    </a:cubicBezTo>
                    <a:close/>
                    <a:moveTo>
                      <a:pt x="5797" y="1"/>
                    </a:moveTo>
                    <a:lnTo>
                      <a:pt x="5797" y="1"/>
                    </a:lnTo>
                    <a:cubicBezTo>
                      <a:pt x="5798" y="1"/>
                      <a:pt x="5799" y="2"/>
                      <a:pt x="5799" y="3"/>
                    </a:cubicBezTo>
                    <a:cubicBezTo>
                      <a:pt x="5799" y="4"/>
                      <a:pt x="5798" y="5"/>
                      <a:pt x="5797" y="5"/>
                    </a:cubicBezTo>
                    <a:lnTo>
                      <a:pt x="5797" y="5"/>
                    </a:lnTo>
                    <a:cubicBezTo>
                      <a:pt x="5796" y="5"/>
                      <a:pt x="5795" y="4"/>
                      <a:pt x="5795" y="3"/>
                    </a:cubicBezTo>
                    <a:cubicBezTo>
                      <a:pt x="5795" y="2"/>
                      <a:pt x="5796" y="1"/>
                      <a:pt x="5797" y="1"/>
                    </a:cubicBezTo>
                    <a:close/>
                    <a:moveTo>
                      <a:pt x="5805" y="1"/>
                    </a:moveTo>
                    <a:lnTo>
                      <a:pt x="5805" y="1"/>
                    </a:lnTo>
                    <a:cubicBezTo>
                      <a:pt x="5806" y="1"/>
                      <a:pt x="5807" y="2"/>
                      <a:pt x="5807" y="3"/>
                    </a:cubicBezTo>
                    <a:cubicBezTo>
                      <a:pt x="5807" y="4"/>
                      <a:pt x="5806" y="5"/>
                      <a:pt x="5805" y="5"/>
                    </a:cubicBezTo>
                    <a:lnTo>
                      <a:pt x="5805" y="5"/>
                    </a:lnTo>
                    <a:cubicBezTo>
                      <a:pt x="5804" y="5"/>
                      <a:pt x="5803" y="4"/>
                      <a:pt x="5803" y="3"/>
                    </a:cubicBezTo>
                    <a:cubicBezTo>
                      <a:pt x="5803" y="2"/>
                      <a:pt x="5804" y="1"/>
                      <a:pt x="5805" y="1"/>
                    </a:cubicBezTo>
                    <a:close/>
                    <a:moveTo>
                      <a:pt x="5813" y="1"/>
                    </a:moveTo>
                    <a:lnTo>
                      <a:pt x="5813" y="1"/>
                    </a:lnTo>
                    <a:cubicBezTo>
                      <a:pt x="5814" y="1"/>
                      <a:pt x="5815" y="2"/>
                      <a:pt x="5815" y="3"/>
                    </a:cubicBezTo>
                    <a:cubicBezTo>
                      <a:pt x="5815" y="4"/>
                      <a:pt x="5814" y="5"/>
                      <a:pt x="5813" y="5"/>
                    </a:cubicBezTo>
                    <a:lnTo>
                      <a:pt x="5813" y="5"/>
                    </a:lnTo>
                    <a:cubicBezTo>
                      <a:pt x="5812" y="5"/>
                      <a:pt x="5811" y="4"/>
                      <a:pt x="5811" y="3"/>
                    </a:cubicBezTo>
                    <a:cubicBezTo>
                      <a:pt x="5811" y="2"/>
                      <a:pt x="5812" y="1"/>
                      <a:pt x="5813" y="1"/>
                    </a:cubicBezTo>
                    <a:close/>
                    <a:moveTo>
                      <a:pt x="5821" y="1"/>
                    </a:moveTo>
                    <a:lnTo>
                      <a:pt x="5821" y="1"/>
                    </a:lnTo>
                    <a:cubicBezTo>
                      <a:pt x="5822" y="1"/>
                      <a:pt x="5823" y="2"/>
                      <a:pt x="5823" y="3"/>
                    </a:cubicBezTo>
                    <a:cubicBezTo>
                      <a:pt x="5823" y="4"/>
                      <a:pt x="5822" y="5"/>
                      <a:pt x="5821" y="5"/>
                    </a:cubicBezTo>
                    <a:lnTo>
                      <a:pt x="5821" y="5"/>
                    </a:lnTo>
                    <a:cubicBezTo>
                      <a:pt x="5820" y="5"/>
                      <a:pt x="5819" y="4"/>
                      <a:pt x="5819" y="3"/>
                    </a:cubicBezTo>
                    <a:cubicBezTo>
                      <a:pt x="5819" y="2"/>
                      <a:pt x="5820" y="1"/>
                      <a:pt x="5821" y="1"/>
                    </a:cubicBezTo>
                    <a:close/>
                    <a:moveTo>
                      <a:pt x="5829" y="1"/>
                    </a:moveTo>
                    <a:lnTo>
                      <a:pt x="5829" y="1"/>
                    </a:lnTo>
                    <a:cubicBezTo>
                      <a:pt x="5830" y="1"/>
                      <a:pt x="5831" y="2"/>
                      <a:pt x="5831" y="3"/>
                    </a:cubicBezTo>
                    <a:cubicBezTo>
                      <a:pt x="5831" y="4"/>
                      <a:pt x="5830" y="5"/>
                      <a:pt x="5829" y="5"/>
                    </a:cubicBezTo>
                    <a:lnTo>
                      <a:pt x="5829" y="5"/>
                    </a:lnTo>
                    <a:cubicBezTo>
                      <a:pt x="5828" y="5"/>
                      <a:pt x="5827" y="4"/>
                      <a:pt x="5827" y="3"/>
                    </a:cubicBezTo>
                    <a:cubicBezTo>
                      <a:pt x="5827" y="2"/>
                      <a:pt x="5828" y="1"/>
                      <a:pt x="5829" y="1"/>
                    </a:cubicBezTo>
                    <a:close/>
                    <a:moveTo>
                      <a:pt x="5837" y="1"/>
                    </a:moveTo>
                    <a:lnTo>
                      <a:pt x="5837" y="1"/>
                    </a:lnTo>
                    <a:cubicBezTo>
                      <a:pt x="5838" y="1"/>
                      <a:pt x="5839" y="2"/>
                      <a:pt x="5839" y="3"/>
                    </a:cubicBezTo>
                    <a:cubicBezTo>
                      <a:pt x="5839" y="4"/>
                      <a:pt x="5838" y="5"/>
                      <a:pt x="5837" y="5"/>
                    </a:cubicBezTo>
                    <a:lnTo>
                      <a:pt x="5837" y="5"/>
                    </a:lnTo>
                    <a:cubicBezTo>
                      <a:pt x="5836" y="5"/>
                      <a:pt x="5835" y="4"/>
                      <a:pt x="5835" y="3"/>
                    </a:cubicBezTo>
                    <a:cubicBezTo>
                      <a:pt x="5835" y="2"/>
                      <a:pt x="5836" y="1"/>
                      <a:pt x="5837" y="1"/>
                    </a:cubicBezTo>
                    <a:close/>
                    <a:moveTo>
                      <a:pt x="5845" y="1"/>
                    </a:moveTo>
                    <a:lnTo>
                      <a:pt x="5845" y="1"/>
                    </a:lnTo>
                    <a:cubicBezTo>
                      <a:pt x="5846" y="1"/>
                      <a:pt x="5847" y="2"/>
                      <a:pt x="5847" y="3"/>
                    </a:cubicBezTo>
                    <a:cubicBezTo>
                      <a:pt x="5847" y="4"/>
                      <a:pt x="5846" y="5"/>
                      <a:pt x="5845" y="5"/>
                    </a:cubicBezTo>
                    <a:lnTo>
                      <a:pt x="5845" y="5"/>
                    </a:lnTo>
                    <a:cubicBezTo>
                      <a:pt x="5844" y="5"/>
                      <a:pt x="5843" y="4"/>
                      <a:pt x="5843" y="3"/>
                    </a:cubicBezTo>
                    <a:cubicBezTo>
                      <a:pt x="5843" y="2"/>
                      <a:pt x="5844" y="1"/>
                      <a:pt x="5845" y="1"/>
                    </a:cubicBezTo>
                    <a:close/>
                    <a:moveTo>
                      <a:pt x="5853" y="1"/>
                    </a:moveTo>
                    <a:lnTo>
                      <a:pt x="5853" y="1"/>
                    </a:lnTo>
                    <a:cubicBezTo>
                      <a:pt x="5854" y="1"/>
                      <a:pt x="5855" y="2"/>
                      <a:pt x="5855" y="3"/>
                    </a:cubicBezTo>
                    <a:cubicBezTo>
                      <a:pt x="5855" y="4"/>
                      <a:pt x="5854" y="5"/>
                      <a:pt x="5853" y="5"/>
                    </a:cubicBezTo>
                    <a:lnTo>
                      <a:pt x="5853" y="5"/>
                    </a:lnTo>
                    <a:cubicBezTo>
                      <a:pt x="5852" y="5"/>
                      <a:pt x="5851" y="4"/>
                      <a:pt x="5851" y="3"/>
                    </a:cubicBezTo>
                    <a:cubicBezTo>
                      <a:pt x="5851" y="2"/>
                      <a:pt x="5852" y="1"/>
                      <a:pt x="5853" y="1"/>
                    </a:cubicBezTo>
                    <a:close/>
                    <a:moveTo>
                      <a:pt x="5861" y="1"/>
                    </a:moveTo>
                    <a:lnTo>
                      <a:pt x="5861" y="1"/>
                    </a:lnTo>
                    <a:cubicBezTo>
                      <a:pt x="5862" y="1"/>
                      <a:pt x="5863" y="2"/>
                      <a:pt x="5863" y="3"/>
                    </a:cubicBezTo>
                    <a:cubicBezTo>
                      <a:pt x="5863" y="4"/>
                      <a:pt x="5862" y="5"/>
                      <a:pt x="5861" y="5"/>
                    </a:cubicBezTo>
                    <a:lnTo>
                      <a:pt x="5861" y="5"/>
                    </a:lnTo>
                    <a:cubicBezTo>
                      <a:pt x="5860" y="5"/>
                      <a:pt x="5859" y="4"/>
                      <a:pt x="5859" y="3"/>
                    </a:cubicBezTo>
                    <a:cubicBezTo>
                      <a:pt x="5859" y="2"/>
                      <a:pt x="5860" y="1"/>
                      <a:pt x="5861" y="1"/>
                    </a:cubicBezTo>
                    <a:close/>
                    <a:moveTo>
                      <a:pt x="5869" y="1"/>
                    </a:moveTo>
                    <a:lnTo>
                      <a:pt x="5869" y="1"/>
                    </a:lnTo>
                    <a:cubicBezTo>
                      <a:pt x="5870" y="1"/>
                      <a:pt x="5871" y="2"/>
                      <a:pt x="5871" y="3"/>
                    </a:cubicBezTo>
                    <a:cubicBezTo>
                      <a:pt x="5871" y="4"/>
                      <a:pt x="5870" y="5"/>
                      <a:pt x="5869" y="5"/>
                    </a:cubicBezTo>
                    <a:lnTo>
                      <a:pt x="5869" y="5"/>
                    </a:lnTo>
                    <a:cubicBezTo>
                      <a:pt x="5868" y="5"/>
                      <a:pt x="5867" y="4"/>
                      <a:pt x="5867" y="3"/>
                    </a:cubicBezTo>
                    <a:cubicBezTo>
                      <a:pt x="5867" y="2"/>
                      <a:pt x="5868" y="1"/>
                      <a:pt x="5869" y="1"/>
                    </a:cubicBezTo>
                    <a:close/>
                    <a:moveTo>
                      <a:pt x="5877" y="1"/>
                    </a:moveTo>
                    <a:lnTo>
                      <a:pt x="5877" y="1"/>
                    </a:lnTo>
                    <a:cubicBezTo>
                      <a:pt x="5878" y="1"/>
                      <a:pt x="5879" y="2"/>
                      <a:pt x="5879" y="3"/>
                    </a:cubicBezTo>
                    <a:cubicBezTo>
                      <a:pt x="5879" y="4"/>
                      <a:pt x="5878" y="5"/>
                      <a:pt x="5877" y="5"/>
                    </a:cubicBezTo>
                    <a:lnTo>
                      <a:pt x="5877" y="5"/>
                    </a:lnTo>
                    <a:cubicBezTo>
                      <a:pt x="5876" y="5"/>
                      <a:pt x="5875" y="4"/>
                      <a:pt x="5875" y="3"/>
                    </a:cubicBezTo>
                    <a:cubicBezTo>
                      <a:pt x="5875" y="2"/>
                      <a:pt x="5876" y="1"/>
                      <a:pt x="5877" y="1"/>
                    </a:cubicBezTo>
                    <a:close/>
                    <a:moveTo>
                      <a:pt x="5885" y="1"/>
                    </a:moveTo>
                    <a:lnTo>
                      <a:pt x="5885" y="1"/>
                    </a:lnTo>
                    <a:cubicBezTo>
                      <a:pt x="5886" y="1"/>
                      <a:pt x="5887" y="2"/>
                      <a:pt x="5887" y="3"/>
                    </a:cubicBezTo>
                    <a:cubicBezTo>
                      <a:pt x="5887" y="4"/>
                      <a:pt x="5886" y="5"/>
                      <a:pt x="5885" y="5"/>
                    </a:cubicBezTo>
                    <a:lnTo>
                      <a:pt x="5885" y="5"/>
                    </a:lnTo>
                    <a:cubicBezTo>
                      <a:pt x="5884" y="5"/>
                      <a:pt x="5883" y="4"/>
                      <a:pt x="5883" y="3"/>
                    </a:cubicBezTo>
                    <a:cubicBezTo>
                      <a:pt x="5883" y="2"/>
                      <a:pt x="5884" y="1"/>
                      <a:pt x="5885" y="1"/>
                    </a:cubicBezTo>
                    <a:close/>
                    <a:moveTo>
                      <a:pt x="5893" y="1"/>
                    </a:moveTo>
                    <a:lnTo>
                      <a:pt x="5893" y="1"/>
                    </a:lnTo>
                    <a:cubicBezTo>
                      <a:pt x="5894" y="1"/>
                      <a:pt x="5895" y="2"/>
                      <a:pt x="5895" y="3"/>
                    </a:cubicBezTo>
                    <a:cubicBezTo>
                      <a:pt x="5895" y="4"/>
                      <a:pt x="5894" y="5"/>
                      <a:pt x="5893" y="5"/>
                    </a:cubicBezTo>
                    <a:lnTo>
                      <a:pt x="5893" y="5"/>
                    </a:lnTo>
                    <a:cubicBezTo>
                      <a:pt x="5892" y="5"/>
                      <a:pt x="5891" y="4"/>
                      <a:pt x="5891" y="3"/>
                    </a:cubicBezTo>
                    <a:cubicBezTo>
                      <a:pt x="5891" y="2"/>
                      <a:pt x="5892" y="1"/>
                      <a:pt x="5893" y="1"/>
                    </a:cubicBezTo>
                    <a:close/>
                    <a:moveTo>
                      <a:pt x="5901" y="1"/>
                    </a:moveTo>
                    <a:lnTo>
                      <a:pt x="5901" y="1"/>
                    </a:lnTo>
                    <a:cubicBezTo>
                      <a:pt x="5902" y="1"/>
                      <a:pt x="5903" y="2"/>
                      <a:pt x="5903" y="3"/>
                    </a:cubicBezTo>
                    <a:cubicBezTo>
                      <a:pt x="5903" y="4"/>
                      <a:pt x="5902" y="5"/>
                      <a:pt x="5901" y="5"/>
                    </a:cubicBezTo>
                    <a:lnTo>
                      <a:pt x="5901" y="5"/>
                    </a:lnTo>
                    <a:cubicBezTo>
                      <a:pt x="5900" y="5"/>
                      <a:pt x="5899" y="4"/>
                      <a:pt x="5899" y="3"/>
                    </a:cubicBezTo>
                    <a:cubicBezTo>
                      <a:pt x="5899" y="2"/>
                      <a:pt x="5900" y="1"/>
                      <a:pt x="5901" y="1"/>
                    </a:cubicBezTo>
                    <a:close/>
                    <a:moveTo>
                      <a:pt x="5909" y="1"/>
                    </a:moveTo>
                    <a:lnTo>
                      <a:pt x="5909" y="1"/>
                    </a:lnTo>
                    <a:cubicBezTo>
                      <a:pt x="5910" y="1"/>
                      <a:pt x="5911" y="2"/>
                      <a:pt x="5911" y="3"/>
                    </a:cubicBezTo>
                    <a:cubicBezTo>
                      <a:pt x="5911" y="4"/>
                      <a:pt x="5910" y="5"/>
                      <a:pt x="5909" y="5"/>
                    </a:cubicBezTo>
                    <a:lnTo>
                      <a:pt x="5909" y="5"/>
                    </a:lnTo>
                    <a:cubicBezTo>
                      <a:pt x="5908" y="5"/>
                      <a:pt x="5907" y="4"/>
                      <a:pt x="5907" y="3"/>
                    </a:cubicBezTo>
                    <a:cubicBezTo>
                      <a:pt x="5907" y="2"/>
                      <a:pt x="5908" y="1"/>
                      <a:pt x="5909" y="1"/>
                    </a:cubicBezTo>
                    <a:close/>
                    <a:moveTo>
                      <a:pt x="5917" y="1"/>
                    </a:moveTo>
                    <a:lnTo>
                      <a:pt x="5917" y="1"/>
                    </a:lnTo>
                    <a:cubicBezTo>
                      <a:pt x="5918" y="1"/>
                      <a:pt x="5919" y="2"/>
                      <a:pt x="5919" y="3"/>
                    </a:cubicBezTo>
                    <a:cubicBezTo>
                      <a:pt x="5919" y="4"/>
                      <a:pt x="5918" y="5"/>
                      <a:pt x="5917" y="5"/>
                    </a:cubicBezTo>
                    <a:lnTo>
                      <a:pt x="5917" y="5"/>
                    </a:lnTo>
                    <a:cubicBezTo>
                      <a:pt x="5916" y="5"/>
                      <a:pt x="5915" y="4"/>
                      <a:pt x="5915" y="3"/>
                    </a:cubicBezTo>
                    <a:cubicBezTo>
                      <a:pt x="5915" y="2"/>
                      <a:pt x="5916" y="1"/>
                      <a:pt x="5917" y="1"/>
                    </a:cubicBezTo>
                    <a:close/>
                    <a:moveTo>
                      <a:pt x="5925" y="1"/>
                    </a:moveTo>
                    <a:lnTo>
                      <a:pt x="5925" y="1"/>
                    </a:lnTo>
                    <a:cubicBezTo>
                      <a:pt x="5926" y="1"/>
                      <a:pt x="5927" y="2"/>
                      <a:pt x="5927" y="3"/>
                    </a:cubicBezTo>
                    <a:cubicBezTo>
                      <a:pt x="5927" y="4"/>
                      <a:pt x="5926" y="5"/>
                      <a:pt x="5925" y="5"/>
                    </a:cubicBezTo>
                    <a:lnTo>
                      <a:pt x="5925" y="5"/>
                    </a:lnTo>
                    <a:cubicBezTo>
                      <a:pt x="5924" y="5"/>
                      <a:pt x="5923" y="4"/>
                      <a:pt x="5923" y="3"/>
                    </a:cubicBezTo>
                    <a:cubicBezTo>
                      <a:pt x="5923" y="2"/>
                      <a:pt x="5924" y="1"/>
                      <a:pt x="5925" y="1"/>
                    </a:cubicBezTo>
                    <a:close/>
                    <a:moveTo>
                      <a:pt x="5933" y="1"/>
                    </a:moveTo>
                    <a:lnTo>
                      <a:pt x="5933" y="1"/>
                    </a:lnTo>
                    <a:cubicBezTo>
                      <a:pt x="5934" y="1"/>
                      <a:pt x="5935" y="2"/>
                      <a:pt x="5935" y="3"/>
                    </a:cubicBezTo>
                    <a:cubicBezTo>
                      <a:pt x="5935" y="4"/>
                      <a:pt x="5934" y="5"/>
                      <a:pt x="5933" y="5"/>
                    </a:cubicBezTo>
                    <a:lnTo>
                      <a:pt x="5933" y="5"/>
                    </a:lnTo>
                    <a:cubicBezTo>
                      <a:pt x="5932" y="5"/>
                      <a:pt x="5931" y="4"/>
                      <a:pt x="5931" y="3"/>
                    </a:cubicBezTo>
                    <a:cubicBezTo>
                      <a:pt x="5931" y="2"/>
                      <a:pt x="5932" y="1"/>
                      <a:pt x="5933" y="1"/>
                    </a:cubicBezTo>
                    <a:close/>
                    <a:moveTo>
                      <a:pt x="5941" y="1"/>
                    </a:moveTo>
                    <a:lnTo>
                      <a:pt x="5941" y="1"/>
                    </a:lnTo>
                    <a:cubicBezTo>
                      <a:pt x="5942" y="1"/>
                      <a:pt x="5943" y="2"/>
                      <a:pt x="5943" y="3"/>
                    </a:cubicBezTo>
                    <a:cubicBezTo>
                      <a:pt x="5943" y="4"/>
                      <a:pt x="5942" y="5"/>
                      <a:pt x="5941" y="5"/>
                    </a:cubicBezTo>
                    <a:lnTo>
                      <a:pt x="5941" y="5"/>
                    </a:lnTo>
                    <a:cubicBezTo>
                      <a:pt x="5940" y="5"/>
                      <a:pt x="5939" y="4"/>
                      <a:pt x="5939" y="3"/>
                    </a:cubicBezTo>
                    <a:cubicBezTo>
                      <a:pt x="5939" y="2"/>
                      <a:pt x="5940" y="1"/>
                      <a:pt x="5941" y="1"/>
                    </a:cubicBezTo>
                    <a:close/>
                    <a:moveTo>
                      <a:pt x="5949" y="1"/>
                    </a:moveTo>
                    <a:lnTo>
                      <a:pt x="5949" y="1"/>
                    </a:lnTo>
                    <a:cubicBezTo>
                      <a:pt x="5950" y="1"/>
                      <a:pt x="5951" y="2"/>
                      <a:pt x="5951" y="3"/>
                    </a:cubicBezTo>
                    <a:cubicBezTo>
                      <a:pt x="5951" y="4"/>
                      <a:pt x="5950" y="5"/>
                      <a:pt x="5949" y="5"/>
                    </a:cubicBezTo>
                    <a:lnTo>
                      <a:pt x="5949" y="5"/>
                    </a:lnTo>
                    <a:cubicBezTo>
                      <a:pt x="5948" y="5"/>
                      <a:pt x="5947" y="4"/>
                      <a:pt x="5947" y="3"/>
                    </a:cubicBezTo>
                    <a:cubicBezTo>
                      <a:pt x="5947" y="2"/>
                      <a:pt x="5948" y="1"/>
                      <a:pt x="5949" y="1"/>
                    </a:cubicBezTo>
                    <a:close/>
                    <a:moveTo>
                      <a:pt x="5957" y="1"/>
                    </a:moveTo>
                    <a:lnTo>
                      <a:pt x="5957" y="1"/>
                    </a:lnTo>
                    <a:cubicBezTo>
                      <a:pt x="5958" y="1"/>
                      <a:pt x="5959" y="2"/>
                      <a:pt x="5959" y="3"/>
                    </a:cubicBezTo>
                    <a:cubicBezTo>
                      <a:pt x="5959" y="4"/>
                      <a:pt x="5958" y="5"/>
                      <a:pt x="5957" y="5"/>
                    </a:cubicBezTo>
                    <a:lnTo>
                      <a:pt x="5957" y="5"/>
                    </a:lnTo>
                    <a:cubicBezTo>
                      <a:pt x="5956" y="5"/>
                      <a:pt x="5955" y="4"/>
                      <a:pt x="5955" y="3"/>
                    </a:cubicBezTo>
                    <a:cubicBezTo>
                      <a:pt x="5955" y="2"/>
                      <a:pt x="5956" y="1"/>
                      <a:pt x="5957" y="1"/>
                    </a:cubicBezTo>
                    <a:close/>
                    <a:moveTo>
                      <a:pt x="5965" y="1"/>
                    </a:moveTo>
                    <a:lnTo>
                      <a:pt x="5965" y="1"/>
                    </a:lnTo>
                    <a:cubicBezTo>
                      <a:pt x="5966" y="1"/>
                      <a:pt x="5967" y="2"/>
                      <a:pt x="5967" y="3"/>
                    </a:cubicBezTo>
                    <a:cubicBezTo>
                      <a:pt x="5967" y="4"/>
                      <a:pt x="5966" y="5"/>
                      <a:pt x="5965" y="5"/>
                    </a:cubicBezTo>
                    <a:lnTo>
                      <a:pt x="5965" y="5"/>
                    </a:lnTo>
                    <a:cubicBezTo>
                      <a:pt x="5964" y="5"/>
                      <a:pt x="5963" y="4"/>
                      <a:pt x="5963" y="3"/>
                    </a:cubicBezTo>
                    <a:cubicBezTo>
                      <a:pt x="5963" y="2"/>
                      <a:pt x="5964" y="1"/>
                      <a:pt x="5965" y="1"/>
                    </a:cubicBezTo>
                    <a:close/>
                    <a:moveTo>
                      <a:pt x="5973" y="1"/>
                    </a:moveTo>
                    <a:lnTo>
                      <a:pt x="5973" y="1"/>
                    </a:lnTo>
                    <a:cubicBezTo>
                      <a:pt x="5974" y="1"/>
                      <a:pt x="5975" y="2"/>
                      <a:pt x="5975" y="3"/>
                    </a:cubicBezTo>
                    <a:cubicBezTo>
                      <a:pt x="5975" y="4"/>
                      <a:pt x="5974" y="5"/>
                      <a:pt x="5973" y="5"/>
                    </a:cubicBezTo>
                    <a:lnTo>
                      <a:pt x="5973" y="5"/>
                    </a:lnTo>
                    <a:cubicBezTo>
                      <a:pt x="5972" y="5"/>
                      <a:pt x="5971" y="4"/>
                      <a:pt x="5971" y="3"/>
                    </a:cubicBezTo>
                    <a:cubicBezTo>
                      <a:pt x="5971" y="2"/>
                      <a:pt x="5972" y="1"/>
                      <a:pt x="5973" y="1"/>
                    </a:cubicBezTo>
                    <a:close/>
                    <a:moveTo>
                      <a:pt x="5981" y="1"/>
                    </a:moveTo>
                    <a:lnTo>
                      <a:pt x="5981" y="1"/>
                    </a:lnTo>
                    <a:cubicBezTo>
                      <a:pt x="5982" y="1"/>
                      <a:pt x="5983" y="2"/>
                      <a:pt x="5983" y="3"/>
                    </a:cubicBezTo>
                    <a:cubicBezTo>
                      <a:pt x="5983" y="4"/>
                      <a:pt x="5982" y="5"/>
                      <a:pt x="5981" y="5"/>
                    </a:cubicBezTo>
                    <a:lnTo>
                      <a:pt x="5981" y="5"/>
                    </a:lnTo>
                    <a:cubicBezTo>
                      <a:pt x="5980" y="5"/>
                      <a:pt x="5979" y="4"/>
                      <a:pt x="5979" y="3"/>
                    </a:cubicBezTo>
                    <a:cubicBezTo>
                      <a:pt x="5979" y="2"/>
                      <a:pt x="5980" y="1"/>
                      <a:pt x="5981" y="1"/>
                    </a:cubicBezTo>
                    <a:close/>
                    <a:moveTo>
                      <a:pt x="5989" y="1"/>
                    </a:moveTo>
                    <a:lnTo>
                      <a:pt x="5989" y="1"/>
                    </a:lnTo>
                    <a:cubicBezTo>
                      <a:pt x="5990" y="1"/>
                      <a:pt x="5991" y="2"/>
                      <a:pt x="5991" y="3"/>
                    </a:cubicBezTo>
                    <a:cubicBezTo>
                      <a:pt x="5991" y="4"/>
                      <a:pt x="5990" y="5"/>
                      <a:pt x="5989" y="5"/>
                    </a:cubicBezTo>
                    <a:lnTo>
                      <a:pt x="5989" y="5"/>
                    </a:lnTo>
                    <a:cubicBezTo>
                      <a:pt x="5988" y="5"/>
                      <a:pt x="5987" y="4"/>
                      <a:pt x="5987" y="3"/>
                    </a:cubicBezTo>
                    <a:cubicBezTo>
                      <a:pt x="5987" y="2"/>
                      <a:pt x="5988" y="1"/>
                      <a:pt x="5989" y="1"/>
                    </a:cubicBezTo>
                    <a:close/>
                    <a:moveTo>
                      <a:pt x="5997" y="1"/>
                    </a:moveTo>
                    <a:lnTo>
                      <a:pt x="5997" y="1"/>
                    </a:lnTo>
                    <a:cubicBezTo>
                      <a:pt x="5998" y="1"/>
                      <a:pt x="5999" y="2"/>
                      <a:pt x="5999" y="3"/>
                    </a:cubicBezTo>
                    <a:cubicBezTo>
                      <a:pt x="5999" y="4"/>
                      <a:pt x="5998" y="5"/>
                      <a:pt x="5997" y="5"/>
                    </a:cubicBezTo>
                    <a:lnTo>
                      <a:pt x="5997" y="5"/>
                    </a:lnTo>
                    <a:cubicBezTo>
                      <a:pt x="5996" y="5"/>
                      <a:pt x="5995" y="4"/>
                      <a:pt x="5995" y="3"/>
                    </a:cubicBezTo>
                    <a:cubicBezTo>
                      <a:pt x="5995" y="2"/>
                      <a:pt x="5996" y="1"/>
                      <a:pt x="5997" y="1"/>
                    </a:cubicBezTo>
                    <a:close/>
                    <a:moveTo>
                      <a:pt x="6005" y="1"/>
                    </a:moveTo>
                    <a:lnTo>
                      <a:pt x="6005" y="1"/>
                    </a:lnTo>
                    <a:cubicBezTo>
                      <a:pt x="6006" y="1"/>
                      <a:pt x="6007" y="2"/>
                      <a:pt x="6007" y="3"/>
                    </a:cubicBezTo>
                    <a:cubicBezTo>
                      <a:pt x="6007" y="4"/>
                      <a:pt x="6006" y="5"/>
                      <a:pt x="6005" y="5"/>
                    </a:cubicBezTo>
                    <a:lnTo>
                      <a:pt x="6005" y="5"/>
                    </a:lnTo>
                    <a:cubicBezTo>
                      <a:pt x="6004" y="5"/>
                      <a:pt x="6003" y="4"/>
                      <a:pt x="6003" y="3"/>
                    </a:cubicBezTo>
                    <a:cubicBezTo>
                      <a:pt x="6003" y="2"/>
                      <a:pt x="6004" y="1"/>
                      <a:pt x="6005" y="1"/>
                    </a:cubicBezTo>
                    <a:close/>
                    <a:moveTo>
                      <a:pt x="6013" y="1"/>
                    </a:moveTo>
                    <a:lnTo>
                      <a:pt x="6013" y="1"/>
                    </a:lnTo>
                    <a:cubicBezTo>
                      <a:pt x="6014" y="1"/>
                      <a:pt x="6015" y="2"/>
                      <a:pt x="6015" y="3"/>
                    </a:cubicBezTo>
                    <a:cubicBezTo>
                      <a:pt x="6015" y="4"/>
                      <a:pt x="6014" y="5"/>
                      <a:pt x="6013" y="5"/>
                    </a:cubicBezTo>
                    <a:lnTo>
                      <a:pt x="6013" y="5"/>
                    </a:lnTo>
                    <a:cubicBezTo>
                      <a:pt x="6012" y="5"/>
                      <a:pt x="6011" y="4"/>
                      <a:pt x="6011" y="3"/>
                    </a:cubicBezTo>
                    <a:cubicBezTo>
                      <a:pt x="6011" y="2"/>
                      <a:pt x="6012" y="1"/>
                      <a:pt x="6013" y="1"/>
                    </a:cubicBezTo>
                    <a:close/>
                    <a:moveTo>
                      <a:pt x="6021" y="1"/>
                    </a:moveTo>
                    <a:lnTo>
                      <a:pt x="6021" y="1"/>
                    </a:lnTo>
                    <a:cubicBezTo>
                      <a:pt x="6022" y="1"/>
                      <a:pt x="6023" y="2"/>
                      <a:pt x="6023" y="3"/>
                    </a:cubicBezTo>
                    <a:cubicBezTo>
                      <a:pt x="6023" y="4"/>
                      <a:pt x="6022" y="5"/>
                      <a:pt x="6021" y="5"/>
                    </a:cubicBezTo>
                    <a:lnTo>
                      <a:pt x="6021" y="5"/>
                    </a:lnTo>
                    <a:cubicBezTo>
                      <a:pt x="6020" y="5"/>
                      <a:pt x="6019" y="4"/>
                      <a:pt x="6019" y="3"/>
                    </a:cubicBezTo>
                    <a:cubicBezTo>
                      <a:pt x="6019" y="2"/>
                      <a:pt x="6020" y="1"/>
                      <a:pt x="6021" y="1"/>
                    </a:cubicBezTo>
                    <a:close/>
                    <a:moveTo>
                      <a:pt x="6029" y="1"/>
                    </a:moveTo>
                    <a:lnTo>
                      <a:pt x="6029" y="1"/>
                    </a:lnTo>
                    <a:cubicBezTo>
                      <a:pt x="6030" y="1"/>
                      <a:pt x="6031" y="2"/>
                      <a:pt x="6031" y="3"/>
                    </a:cubicBezTo>
                    <a:cubicBezTo>
                      <a:pt x="6031" y="4"/>
                      <a:pt x="6030" y="5"/>
                      <a:pt x="6029" y="5"/>
                    </a:cubicBezTo>
                    <a:lnTo>
                      <a:pt x="6029" y="5"/>
                    </a:lnTo>
                    <a:cubicBezTo>
                      <a:pt x="6028" y="5"/>
                      <a:pt x="6027" y="4"/>
                      <a:pt x="6027" y="3"/>
                    </a:cubicBezTo>
                    <a:cubicBezTo>
                      <a:pt x="6027" y="2"/>
                      <a:pt x="6028" y="1"/>
                      <a:pt x="6029" y="1"/>
                    </a:cubicBezTo>
                    <a:close/>
                    <a:moveTo>
                      <a:pt x="6037" y="1"/>
                    </a:moveTo>
                    <a:lnTo>
                      <a:pt x="6037" y="1"/>
                    </a:lnTo>
                    <a:cubicBezTo>
                      <a:pt x="6038" y="1"/>
                      <a:pt x="6039" y="2"/>
                      <a:pt x="6039" y="3"/>
                    </a:cubicBezTo>
                    <a:cubicBezTo>
                      <a:pt x="6039" y="4"/>
                      <a:pt x="6038" y="5"/>
                      <a:pt x="6037" y="5"/>
                    </a:cubicBezTo>
                    <a:lnTo>
                      <a:pt x="6037" y="5"/>
                    </a:lnTo>
                    <a:cubicBezTo>
                      <a:pt x="6036" y="5"/>
                      <a:pt x="6035" y="4"/>
                      <a:pt x="6035" y="3"/>
                    </a:cubicBezTo>
                    <a:cubicBezTo>
                      <a:pt x="6035" y="2"/>
                      <a:pt x="6036" y="1"/>
                      <a:pt x="6037" y="1"/>
                    </a:cubicBezTo>
                    <a:close/>
                    <a:moveTo>
                      <a:pt x="6045" y="1"/>
                    </a:moveTo>
                    <a:lnTo>
                      <a:pt x="6045" y="1"/>
                    </a:lnTo>
                    <a:cubicBezTo>
                      <a:pt x="6046" y="1"/>
                      <a:pt x="6047" y="2"/>
                      <a:pt x="6047" y="3"/>
                    </a:cubicBezTo>
                    <a:cubicBezTo>
                      <a:pt x="6047" y="4"/>
                      <a:pt x="6046" y="5"/>
                      <a:pt x="6045" y="5"/>
                    </a:cubicBezTo>
                    <a:lnTo>
                      <a:pt x="6045" y="5"/>
                    </a:lnTo>
                    <a:cubicBezTo>
                      <a:pt x="6044" y="5"/>
                      <a:pt x="6043" y="4"/>
                      <a:pt x="6043" y="3"/>
                    </a:cubicBezTo>
                    <a:cubicBezTo>
                      <a:pt x="6043" y="2"/>
                      <a:pt x="6044" y="1"/>
                      <a:pt x="6045" y="1"/>
                    </a:cubicBezTo>
                    <a:close/>
                    <a:moveTo>
                      <a:pt x="6053" y="1"/>
                    </a:moveTo>
                    <a:lnTo>
                      <a:pt x="6053" y="1"/>
                    </a:lnTo>
                    <a:cubicBezTo>
                      <a:pt x="6054" y="1"/>
                      <a:pt x="6055" y="2"/>
                      <a:pt x="6055" y="3"/>
                    </a:cubicBezTo>
                    <a:cubicBezTo>
                      <a:pt x="6055" y="4"/>
                      <a:pt x="6054" y="5"/>
                      <a:pt x="6053" y="5"/>
                    </a:cubicBezTo>
                    <a:lnTo>
                      <a:pt x="6053" y="5"/>
                    </a:lnTo>
                    <a:cubicBezTo>
                      <a:pt x="6052" y="5"/>
                      <a:pt x="6051" y="4"/>
                      <a:pt x="6051" y="3"/>
                    </a:cubicBezTo>
                    <a:cubicBezTo>
                      <a:pt x="6051" y="2"/>
                      <a:pt x="6052" y="1"/>
                      <a:pt x="6053" y="1"/>
                    </a:cubicBezTo>
                    <a:close/>
                    <a:moveTo>
                      <a:pt x="6061" y="1"/>
                    </a:moveTo>
                    <a:lnTo>
                      <a:pt x="6061" y="1"/>
                    </a:lnTo>
                    <a:cubicBezTo>
                      <a:pt x="6062" y="1"/>
                      <a:pt x="6063" y="2"/>
                      <a:pt x="6063" y="3"/>
                    </a:cubicBezTo>
                    <a:cubicBezTo>
                      <a:pt x="6063" y="4"/>
                      <a:pt x="6062" y="5"/>
                      <a:pt x="6061" y="5"/>
                    </a:cubicBezTo>
                    <a:lnTo>
                      <a:pt x="6061" y="5"/>
                    </a:lnTo>
                    <a:cubicBezTo>
                      <a:pt x="6060" y="5"/>
                      <a:pt x="6059" y="4"/>
                      <a:pt x="6059" y="3"/>
                    </a:cubicBezTo>
                    <a:cubicBezTo>
                      <a:pt x="6059" y="2"/>
                      <a:pt x="6060" y="1"/>
                      <a:pt x="6061" y="1"/>
                    </a:cubicBezTo>
                    <a:close/>
                    <a:moveTo>
                      <a:pt x="6069" y="1"/>
                    </a:moveTo>
                    <a:lnTo>
                      <a:pt x="6069" y="1"/>
                    </a:lnTo>
                    <a:cubicBezTo>
                      <a:pt x="6070" y="1"/>
                      <a:pt x="6071" y="2"/>
                      <a:pt x="6071" y="3"/>
                    </a:cubicBezTo>
                    <a:cubicBezTo>
                      <a:pt x="6071" y="4"/>
                      <a:pt x="6070" y="5"/>
                      <a:pt x="6069" y="5"/>
                    </a:cubicBezTo>
                    <a:lnTo>
                      <a:pt x="6069" y="5"/>
                    </a:lnTo>
                    <a:cubicBezTo>
                      <a:pt x="6068" y="5"/>
                      <a:pt x="6067" y="4"/>
                      <a:pt x="6067" y="3"/>
                    </a:cubicBezTo>
                    <a:cubicBezTo>
                      <a:pt x="6067" y="2"/>
                      <a:pt x="6068" y="1"/>
                      <a:pt x="6069" y="1"/>
                    </a:cubicBezTo>
                    <a:close/>
                    <a:moveTo>
                      <a:pt x="6077" y="1"/>
                    </a:moveTo>
                    <a:lnTo>
                      <a:pt x="6077" y="1"/>
                    </a:lnTo>
                    <a:cubicBezTo>
                      <a:pt x="6078" y="1"/>
                      <a:pt x="6079" y="2"/>
                      <a:pt x="6079" y="3"/>
                    </a:cubicBezTo>
                    <a:cubicBezTo>
                      <a:pt x="6079" y="4"/>
                      <a:pt x="6078" y="5"/>
                      <a:pt x="6077" y="5"/>
                    </a:cubicBezTo>
                    <a:lnTo>
                      <a:pt x="6077" y="5"/>
                    </a:lnTo>
                    <a:cubicBezTo>
                      <a:pt x="6076" y="5"/>
                      <a:pt x="6075" y="4"/>
                      <a:pt x="6075" y="3"/>
                    </a:cubicBezTo>
                    <a:cubicBezTo>
                      <a:pt x="6075" y="2"/>
                      <a:pt x="6076" y="1"/>
                      <a:pt x="6077" y="1"/>
                    </a:cubicBezTo>
                    <a:close/>
                    <a:moveTo>
                      <a:pt x="6085" y="1"/>
                    </a:moveTo>
                    <a:lnTo>
                      <a:pt x="6085" y="1"/>
                    </a:lnTo>
                    <a:cubicBezTo>
                      <a:pt x="6086" y="1"/>
                      <a:pt x="6087" y="2"/>
                      <a:pt x="6087" y="3"/>
                    </a:cubicBezTo>
                    <a:cubicBezTo>
                      <a:pt x="6087" y="4"/>
                      <a:pt x="6086" y="5"/>
                      <a:pt x="6085" y="5"/>
                    </a:cubicBezTo>
                    <a:lnTo>
                      <a:pt x="6085" y="5"/>
                    </a:lnTo>
                    <a:cubicBezTo>
                      <a:pt x="6084" y="5"/>
                      <a:pt x="6083" y="4"/>
                      <a:pt x="6083" y="3"/>
                    </a:cubicBezTo>
                    <a:cubicBezTo>
                      <a:pt x="6083" y="2"/>
                      <a:pt x="6084" y="1"/>
                      <a:pt x="6085" y="1"/>
                    </a:cubicBezTo>
                    <a:close/>
                    <a:moveTo>
                      <a:pt x="6093" y="1"/>
                    </a:moveTo>
                    <a:lnTo>
                      <a:pt x="6093" y="1"/>
                    </a:lnTo>
                    <a:cubicBezTo>
                      <a:pt x="6094" y="1"/>
                      <a:pt x="6095" y="2"/>
                      <a:pt x="6095" y="3"/>
                    </a:cubicBezTo>
                    <a:cubicBezTo>
                      <a:pt x="6095" y="4"/>
                      <a:pt x="6094" y="5"/>
                      <a:pt x="6093" y="5"/>
                    </a:cubicBezTo>
                    <a:lnTo>
                      <a:pt x="6093" y="5"/>
                    </a:lnTo>
                    <a:cubicBezTo>
                      <a:pt x="6092" y="5"/>
                      <a:pt x="6091" y="4"/>
                      <a:pt x="6091" y="3"/>
                    </a:cubicBezTo>
                    <a:cubicBezTo>
                      <a:pt x="6091" y="2"/>
                      <a:pt x="6092" y="1"/>
                      <a:pt x="6093" y="1"/>
                    </a:cubicBezTo>
                    <a:close/>
                    <a:moveTo>
                      <a:pt x="6101" y="1"/>
                    </a:moveTo>
                    <a:lnTo>
                      <a:pt x="6101" y="1"/>
                    </a:lnTo>
                    <a:cubicBezTo>
                      <a:pt x="6102" y="1"/>
                      <a:pt x="6103" y="2"/>
                      <a:pt x="6103" y="3"/>
                    </a:cubicBezTo>
                    <a:cubicBezTo>
                      <a:pt x="6103" y="4"/>
                      <a:pt x="6102" y="5"/>
                      <a:pt x="6101" y="5"/>
                    </a:cubicBezTo>
                    <a:lnTo>
                      <a:pt x="6101" y="5"/>
                    </a:lnTo>
                    <a:cubicBezTo>
                      <a:pt x="6100" y="5"/>
                      <a:pt x="6099" y="4"/>
                      <a:pt x="6099" y="3"/>
                    </a:cubicBezTo>
                    <a:cubicBezTo>
                      <a:pt x="6099" y="2"/>
                      <a:pt x="6100" y="1"/>
                      <a:pt x="6101" y="1"/>
                    </a:cubicBezTo>
                    <a:close/>
                    <a:moveTo>
                      <a:pt x="6109" y="1"/>
                    </a:moveTo>
                    <a:lnTo>
                      <a:pt x="6109" y="1"/>
                    </a:lnTo>
                    <a:cubicBezTo>
                      <a:pt x="6110" y="1"/>
                      <a:pt x="6111" y="2"/>
                      <a:pt x="6111" y="3"/>
                    </a:cubicBezTo>
                    <a:cubicBezTo>
                      <a:pt x="6111" y="4"/>
                      <a:pt x="6110" y="5"/>
                      <a:pt x="6109" y="5"/>
                    </a:cubicBezTo>
                    <a:lnTo>
                      <a:pt x="6109" y="5"/>
                    </a:lnTo>
                    <a:cubicBezTo>
                      <a:pt x="6108" y="5"/>
                      <a:pt x="6107" y="4"/>
                      <a:pt x="6107" y="3"/>
                    </a:cubicBezTo>
                    <a:cubicBezTo>
                      <a:pt x="6107" y="2"/>
                      <a:pt x="6108" y="1"/>
                      <a:pt x="6109" y="1"/>
                    </a:cubicBezTo>
                    <a:close/>
                    <a:moveTo>
                      <a:pt x="6117" y="1"/>
                    </a:moveTo>
                    <a:lnTo>
                      <a:pt x="6117" y="1"/>
                    </a:lnTo>
                    <a:cubicBezTo>
                      <a:pt x="6118" y="1"/>
                      <a:pt x="6119" y="2"/>
                      <a:pt x="6119" y="3"/>
                    </a:cubicBezTo>
                    <a:cubicBezTo>
                      <a:pt x="6119" y="4"/>
                      <a:pt x="6118" y="5"/>
                      <a:pt x="6117" y="5"/>
                    </a:cubicBezTo>
                    <a:lnTo>
                      <a:pt x="6117" y="5"/>
                    </a:lnTo>
                    <a:cubicBezTo>
                      <a:pt x="6116" y="5"/>
                      <a:pt x="6115" y="4"/>
                      <a:pt x="6115" y="3"/>
                    </a:cubicBezTo>
                    <a:cubicBezTo>
                      <a:pt x="6115" y="2"/>
                      <a:pt x="6116" y="1"/>
                      <a:pt x="6117" y="1"/>
                    </a:cubicBezTo>
                    <a:close/>
                    <a:moveTo>
                      <a:pt x="6125" y="1"/>
                    </a:moveTo>
                    <a:lnTo>
                      <a:pt x="6125" y="1"/>
                    </a:lnTo>
                    <a:cubicBezTo>
                      <a:pt x="6126" y="1"/>
                      <a:pt x="6127" y="2"/>
                      <a:pt x="6127" y="3"/>
                    </a:cubicBezTo>
                    <a:cubicBezTo>
                      <a:pt x="6127" y="4"/>
                      <a:pt x="6126" y="5"/>
                      <a:pt x="6125" y="5"/>
                    </a:cubicBezTo>
                    <a:lnTo>
                      <a:pt x="6125" y="5"/>
                    </a:lnTo>
                    <a:cubicBezTo>
                      <a:pt x="6124" y="5"/>
                      <a:pt x="6123" y="4"/>
                      <a:pt x="6123" y="3"/>
                    </a:cubicBezTo>
                    <a:cubicBezTo>
                      <a:pt x="6123" y="2"/>
                      <a:pt x="6124" y="1"/>
                      <a:pt x="6125" y="1"/>
                    </a:cubicBezTo>
                    <a:close/>
                    <a:moveTo>
                      <a:pt x="6133" y="1"/>
                    </a:moveTo>
                    <a:lnTo>
                      <a:pt x="6133" y="1"/>
                    </a:lnTo>
                    <a:cubicBezTo>
                      <a:pt x="6134" y="1"/>
                      <a:pt x="6135" y="2"/>
                      <a:pt x="6135" y="3"/>
                    </a:cubicBezTo>
                    <a:cubicBezTo>
                      <a:pt x="6135" y="4"/>
                      <a:pt x="6134" y="5"/>
                      <a:pt x="6133" y="5"/>
                    </a:cubicBezTo>
                    <a:lnTo>
                      <a:pt x="6133" y="5"/>
                    </a:lnTo>
                    <a:cubicBezTo>
                      <a:pt x="6132" y="5"/>
                      <a:pt x="6131" y="4"/>
                      <a:pt x="6131" y="3"/>
                    </a:cubicBezTo>
                    <a:cubicBezTo>
                      <a:pt x="6131" y="2"/>
                      <a:pt x="6132" y="1"/>
                      <a:pt x="6133" y="1"/>
                    </a:cubicBezTo>
                    <a:close/>
                    <a:moveTo>
                      <a:pt x="6141" y="1"/>
                    </a:moveTo>
                    <a:lnTo>
                      <a:pt x="6141" y="1"/>
                    </a:lnTo>
                    <a:cubicBezTo>
                      <a:pt x="6142" y="1"/>
                      <a:pt x="6143" y="2"/>
                      <a:pt x="6143" y="3"/>
                    </a:cubicBezTo>
                    <a:cubicBezTo>
                      <a:pt x="6143" y="4"/>
                      <a:pt x="6142" y="5"/>
                      <a:pt x="6141" y="5"/>
                    </a:cubicBezTo>
                    <a:lnTo>
                      <a:pt x="6141" y="5"/>
                    </a:lnTo>
                    <a:cubicBezTo>
                      <a:pt x="6140" y="5"/>
                      <a:pt x="6139" y="4"/>
                      <a:pt x="6139" y="3"/>
                    </a:cubicBezTo>
                    <a:cubicBezTo>
                      <a:pt x="6139" y="2"/>
                      <a:pt x="6140" y="1"/>
                      <a:pt x="6141" y="1"/>
                    </a:cubicBezTo>
                    <a:close/>
                    <a:moveTo>
                      <a:pt x="6149" y="1"/>
                    </a:moveTo>
                    <a:lnTo>
                      <a:pt x="6149" y="1"/>
                    </a:lnTo>
                    <a:cubicBezTo>
                      <a:pt x="6150" y="1"/>
                      <a:pt x="6151" y="2"/>
                      <a:pt x="6151" y="3"/>
                    </a:cubicBezTo>
                    <a:cubicBezTo>
                      <a:pt x="6151" y="4"/>
                      <a:pt x="6150" y="5"/>
                      <a:pt x="6149" y="5"/>
                    </a:cubicBezTo>
                    <a:lnTo>
                      <a:pt x="6149" y="5"/>
                    </a:lnTo>
                    <a:cubicBezTo>
                      <a:pt x="6148" y="5"/>
                      <a:pt x="6147" y="4"/>
                      <a:pt x="6147" y="3"/>
                    </a:cubicBezTo>
                    <a:cubicBezTo>
                      <a:pt x="6147" y="2"/>
                      <a:pt x="6148" y="1"/>
                      <a:pt x="6149" y="1"/>
                    </a:cubicBezTo>
                    <a:close/>
                    <a:moveTo>
                      <a:pt x="6157" y="1"/>
                    </a:moveTo>
                    <a:lnTo>
                      <a:pt x="6157" y="1"/>
                    </a:lnTo>
                    <a:cubicBezTo>
                      <a:pt x="6158" y="1"/>
                      <a:pt x="6159" y="2"/>
                      <a:pt x="6159" y="3"/>
                    </a:cubicBezTo>
                    <a:cubicBezTo>
                      <a:pt x="6159" y="4"/>
                      <a:pt x="6158" y="5"/>
                      <a:pt x="6157" y="5"/>
                    </a:cubicBezTo>
                    <a:lnTo>
                      <a:pt x="6157" y="5"/>
                    </a:lnTo>
                    <a:cubicBezTo>
                      <a:pt x="6156" y="5"/>
                      <a:pt x="6155" y="4"/>
                      <a:pt x="6155" y="3"/>
                    </a:cubicBezTo>
                    <a:cubicBezTo>
                      <a:pt x="6155" y="2"/>
                      <a:pt x="6156" y="1"/>
                      <a:pt x="6157" y="1"/>
                    </a:cubicBezTo>
                    <a:close/>
                    <a:moveTo>
                      <a:pt x="6165" y="1"/>
                    </a:moveTo>
                    <a:lnTo>
                      <a:pt x="6165" y="1"/>
                    </a:lnTo>
                    <a:cubicBezTo>
                      <a:pt x="6166" y="1"/>
                      <a:pt x="6167" y="2"/>
                      <a:pt x="6167" y="3"/>
                    </a:cubicBezTo>
                    <a:cubicBezTo>
                      <a:pt x="6167" y="4"/>
                      <a:pt x="6166" y="5"/>
                      <a:pt x="6165" y="5"/>
                    </a:cubicBezTo>
                    <a:lnTo>
                      <a:pt x="6165" y="5"/>
                    </a:lnTo>
                    <a:cubicBezTo>
                      <a:pt x="6164" y="5"/>
                      <a:pt x="6163" y="4"/>
                      <a:pt x="6163" y="3"/>
                    </a:cubicBezTo>
                    <a:cubicBezTo>
                      <a:pt x="6163" y="2"/>
                      <a:pt x="6164" y="1"/>
                      <a:pt x="6165" y="1"/>
                    </a:cubicBezTo>
                    <a:close/>
                    <a:moveTo>
                      <a:pt x="6173" y="1"/>
                    </a:moveTo>
                    <a:lnTo>
                      <a:pt x="6173" y="1"/>
                    </a:lnTo>
                    <a:cubicBezTo>
                      <a:pt x="6174" y="1"/>
                      <a:pt x="6175" y="2"/>
                      <a:pt x="6175" y="3"/>
                    </a:cubicBezTo>
                    <a:cubicBezTo>
                      <a:pt x="6175" y="4"/>
                      <a:pt x="6174" y="5"/>
                      <a:pt x="6173" y="5"/>
                    </a:cubicBezTo>
                    <a:lnTo>
                      <a:pt x="6173" y="5"/>
                    </a:lnTo>
                    <a:cubicBezTo>
                      <a:pt x="6172" y="5"/>
                      <a:pt x="6171" y="4"/>
                      <a:pt x="6171" y="3"/>
                    </a:cubicBezTo>
                    <a:cubicBezTo>
                      <a:pt x="6171" y="2"/>
                      <a:pt x="6172" y="1"/>
                      <a:pt x="6173" y="1"/>
                    </a:cubicBezTo>
                    <a:close/>
                    <a:moveTo>
                      <a:pt x="6181" y="1"/>
                    </a:moveTo>
                    <a:lnTo>
                      <a:pt x="6181" y="1"/>
                    </a:lnTo>
                    <a:cubicBezTo>
                      <a:pt x="6182" y="1"/>
                      <a:pt x="6183" y="2"/>
                      <a:pt x="6183" y="3"/>
                    </a:cubicBezTo>
                    <a:cubicBezTo>
                      <a:pt x="6183" y="4"/>
                      <a:pt x="6182" y="5"/>
                      <a:pt x="6181" y="5"/>
                    </a:cubicBezTo>
                    <a:lnTo>
                      <a:pt x="6181" y="5"/>
                    </a:lnTo>
                    <a:cubicBezTo>
                      <a:pt x="6180" y="5"/>
                      <a:pt x="6179" y="4"/>
                      <a:pt x="6179" y="3"/>
                    </a:cubicBezTo>
                    <a:cubicBezTo>
                      <a:pt x="6179" y="2"/>
                      <a:pt x="6180" y="1"/>
                      <a:pt x="6181" y="1"/>
                    </a:cubicBezTo>
                    <a:close/>
                    <a:moveTo>
                      <a:pt x="6189" y="1"/>
                    </a:moveTo>
                    <a:lnTo>
                      <a:pt x="6189" y="1"/>
                    </a:lnTo>
                    <a:cubicBezTo>
                      <a:pt x="6190" y="1"/>
                      <a:pt x="6191" y="2"/>
                      <a:pt x="6191" y="3"/>
                    </a:cubicBezTo>
                    <a:cubicBezTo>
                      <a:pt x="6191" y="4"/>
                      <a:pt x="6190" y="5"/>
                      <a:pt x="6189" y="5"/>
                    </a:cubicBezTo>
                    <a:lnTo>
                      <a:pt x="6189" y="5"/>
                    </a:lnTo>
                    <a:cubicBezTo>
                      <a:pt x="6188" y="5"/>
                      <a:pt x="6187" y="4"/>
                      <a:pt x="6187" y="3"/>
                    </a:cubicBezTo>
                    <a:cubicBezTo>
                      <a:pt x="6187" y="2"/>
                      <a:pt x="6188" y="1"/>
                      <a:pt x="6189" y="1"/>
                    </a:cubicBezTo>
                    <a:close/>
                    <a:moveTo>
                      <a:pt x="6197" y="1"/>
                    </a:moveTo>
                    <a:lnTo>
                      <a:pt x="6197" y="1"/>
                    </a:lnTo>
                    <a:cubicBezTo>
                      <a:pt x="6198" y="1"/>
                      <a:pt x="6199" y="2"/>
                      <a:pt x="6199" y="3"/>
                    </a:cubicBezTo>
                    <a:cubicBezTo>
                      <a:pt x="6199" y="4"/>
                      <a:pt x="6198" y="5"/>
                      <a:pt x="6197" y="5"/>
                    </a:cubicBezTo>
                    <a:lnTo>
                      <a:pt x="6197" y="5"/>
                    </a:lnTo>
                    <a:cubicBezTo>
                      <a:pt x="6196" y="5"/>
                      <a:pt x="6195" y="4"/>
                      <a:pt x="6195" y="3"/>
                    </a:cubicBezTo>
                    <a:cubicBezTo>
                      <a:pt x="6195" y="2"/>
                      <a:pt x="6196" y="1"/>
                      <a:pt x="6197" y="1"/>
                    </a:cubicBezTo>
                    <a:close/>
                    <a:moveTo>
                      <a:pt x="6205" y="1"/>
                    </a:moveTo>
                    <a:lnTo>
                      <a:pt x="6205" y="1"/>
                    </a:lnTo>
                    <a:cubicBezTo>
                      <a:pt x="6206" y="1"/>
                      <a:pt x="6207" y="2"/>
                      <a:pt x="6207" y="3"/>
                    </a:cubicBezTo>
                    <a:cubicBezTo>
                      <a:pt x="6207" y="4"/>
                      <a:pt x="6206" y="5"/>
                      <a:pt x="6205" y="5"/>
                    </a:cubicBezTo>
                    <a:lnTo>
                      <a:pt x="6205" y="5"/>
                    </a:lnTo>
                    <a:cubicBezTo>
                      <a:pt x="6204" y="5"/>
                      <a:pt x="6203" y="4"/>
                      <a:pt x="6203" y="3"/>
                    </a:cubicBezTo>
                    <a:cubicBezTo>
                      <a:pt x="6203" y="2"/>
                      <a:pt x="6204" y="1"/>
                      <a:pt x="6205" y="1"/>
                    </a:cubicBezTo>
                    <a:close/>
                    <a:moveTo>
                      <a:pt x="6213" y="1"/>
                    </a:moveTo>
                    <a:lnTo>
                      <a:pt x="6213" y="1"/>
                    </a:lnTo>
                    <a:cubicBezTo>
                      <a:pt x="6214" y="1"/>
                      <a:pt x="6215" y="2"/>
                      <a:pt x="6215" y="3"/>
                    </a:cubicBezTo>
                    <a:cubicBezTo>
                      <a:pt x="6215" y="4"/>
                      <a:pt x="6214" y="5"/>
                      <a:pt x="6213" y="5"/>
                    </a:cubicBezTo>
                    <a:lnTo>
                      <a:pt x="6213" y="5"/>
                    </a:lnTo>
                    <a:cubicBezTo>
                      <a:pt x="6212" y="5"/>
                      <a:pt x="6211" y="4"/>
                      <a:pt x="6211" y="3"/>
                    </a:cubicBezTo>
                    <a:cubicBezTo>
                      <a:pt x="6211" y="2"/>
                      <a:pt x="6212" y="1"/>
                      <a:pt x="6213" y="1"/>
                    </a:cubicBezTo>
                    <a:close/>
                    <a:moveTo>
                      <a:pt x="6221" y="1"/>
                    </a:moveTo>
                    <a:lnTo>
                      <a:pt x="6221" y="1"/>
                    </a:lnTo>
                    <a:cubicBezTo>
                      <a:pt x="6222" y="1"/>
                      <a:pt x="6223" y="2"/>
                      <a:pt x="6223" y="3"/>
                    </a:cubicBezTo>
                    <a:cubicBezTo>
                      <a:pt x="6223" y="4"/>
                      <a:pt x="6222" y="5"/>
                      <a:pt x="6221" y="5"/>
                    </a:cubicBezTo>
                    <a:lnTo>
                      <a:pt x="6221" y="5"/>
                    </a:lnTo>
                    <a:cubicBezTo>
                      <a:pt x="6220" y="5"/>
                      <a:pt x="6219" y="4"/>
                      <a:pt x="6219" y="3"/>
                    </a:cubicBezTo>
                    <a:cubicBezTo>
                      <a:pt x="6219" y="2"/>
                      <a:pt x="6220" y="1"/>
                      <a:pt x="6221" y="1"/>
                    </a:cubicBezTo>
                    <a:close/>
                    <a:moveTo>
                      <a:pt x="6229" y="1"/>
                    </a:moveTo>
                    <a:lnTo>
                      <a:pt x="6229" y="1"/>
                    </a:lnTo>
                    <a:cubicBezTo>
                      <a:pt x="6230" y="1"/>
                      <a:pt x="6231" y="2"/>
                      <a:pt x="6231" y="3"/>
                    </a:cubicBezTo>
                    <a:cubicBezTo>
                      <a:pt x="6231" y="4"/>
                      <a:pt x="6230" y="5"/>
                      <a:pt x="6229" y="5"/>
                    </a:cubicBezTo>
                    <a:lnTo>
                      <a:pt x="6229" y="5"/>
                    </a:lnTo>
                    <a:cubicBezTo>
                      <a:pt x="6228" y="5"/>
                      <a:pt x="6227" y="4"/>
                      <a:pt x="6227" y="3"/>
                    </a:cubicBezTo>
                    <a:cubicBezTo>
                      <a:pt x="6227" y="2"/>
                      <a:pt x="6228" y="1"/>
                      <a:pt x="6229" y="1"/>
                    </a:cubicBezTo>
                    <a:close/>
                    <a:moveTo>
                      <a:pt x="6237" y="1"/>
                    </a:moveTo>
                    <a:lnTo>
                      <a:pt x="6237" y="1"/>
                    </a:lnTo>
                    <a:cubicBezTo>
                      <a:pt x="6238" y="1"/>
                      <a:pt x="6239" y="2"/>
                      <a:pt x="6239" y="3"/>
                    </a:cubicBezTo>
                    <a:cubicBezTo>
                      <a:pt x="6239" y="4"/>
                      <a:pt x="6238" y="5"/>
                      <a:pt x="6237" y="5"/>
                    </a:cubicBezTo>
                    <a:lnTo>
                      <a:pt x="6237" y="5"/>
                    </a:lnTo>
                    <a:cubicBezTo>
                      <a:pt x="6236" y="5"/>
                      <a:pt x="6235" y="4"/>
                      <a:pt x="6235" y="3"/>
                    </a:cubicBezTo>
                    <a:cubicBezTo>
                      <a:pt x="6235" y="2"/>
                      <a:pt x="6236" y="1"/>
                      <a:pt x="6237" y="1"/>
                    </a:cubicBezTo>
                    <a:close/>
                    <a:moveTo>
                      <a:pt x="6245" y="1"/>
                    </a:moveTo>
                    <a:lnTo>
                      <a:pt x="6245" y="1"/>
                    </a:lnTo>
                    <a:cubicBezTo>
                      <a:pt x="6246" y="1"/>
                      <a:pt x="6247" y="2"/>
                      <a:pt x="6247" y="3"/>
                    </a:cubicBezTo>
                    <a:cubicBezTo>
                      <a:pt x="6247" y="4"/>
                      <a:pt x="6246" y="5"/>
                      <a:pt x="6245" y="5"/>
                    </a:cubicBezTo>
                    <a:lnTo>
                      <a:pt x="6245" y="5"/>
                    </a:lnTo>
                    <a:cubicBezTo>
                      <a:pt x="6244" y="5"/>
                      <a:pt x="6243" y="4"/>
                      <a:pt x="6243" y="3"/>
                    </a:cubicBezTo>
                    <a:cubicBezTo>
                      <a:pt x="6243" y="2"/>
                      <a:pt x="6244" y="1"/>
                      <a:pt x="6245" y="1"/>
                    </a:cubicBezTo>
                    <a:close/>
                    <a:moveTo>
                      <a:pt x="6253" y="1"/>
                    </a:moveTo>
                    <a:lnTo>
                      <a:pt x="6253" y="1"/>
                    </a:lnTo>
                    <a:cubicBezTo>
                      <a:pt x="6254" y="1"/>
                      <a:pt x="6255" y="2"/>
                      <a:pt x="6255" y="3"/>
                    </a:cubicBezTo>
                    <a:cubicBezTo>
                      <a:pt x="6255" y="4"/>
                      <a:pt x="6254" y="5"/>
                      <a:pt x="6253" y="5"/>
                    </a:cubicBezTo>
                    <a:lnTo>
                      <a:pt x="6253" y="5"/>
                    </a:lnTo>
                    <a:cubicBezTo>
                      <a:pt x="6252" y="5"/>
                      <a:pt x="6251" y="4"/>
                      <a:pt x="6251" y="3"/>
                    </a:cubicBezTo>
                    <a:cubicBezTo>
                      <a:pt x="6251" y="2"/>
                      <a:pt x="6252" y="1"/>
                      <a:pt x="6253" y="1"/>
                    </a:cubicBezTo>
                    <a:close/>
                    <a:moveTo>
                      <a:pt x="6261" y="1"/>
                    </a:moveTo>
                    <a:lnTo>
                      <a:pt x="6261" y="1"/>
                    </a:lnTo>
                    <a:cubicBezTo>
                      <a:pt x="6262" y="1"/>
                      <a:pt x="6263" y="2"/>
                      <a:pt x="6263" y="3"/>
                    </a:cubicBezTo>
                    <a:cubicBezTo>
                      <a:pt x="6263" y="4"/>
                      <a:pt x="6262" y="5"/>
                      <a:pt x="6261" y="5"/>
                    </a:cubicBezTo>
                    <a:lnTo>
                      <a:pt x="6261" y="5"/>
                    </a:lnTo>
                    <a:cubicBezTo>
                      <a:pt x="6260" y="5"/>
                      <a:pt x="6259" y="4"/>
                      <a:pt x="6259" y="3"/>
                    </a:cubicBezTo>
                    <a:cubicBezTo>
                      <a:pt x="6259" y="2"/>
                      <a:pt x="6260" y="1"/>
                      <a:pt x="6261" y="1"/>
                    </a:cubicBezTo>
                    <a:close/>
                    <a:moveTo>
                      <a:pt x="6269" y="1"/>
                    </a:moveTo>
                    <a:lnTo>
                      <a:pt x="6269" y="1"/>
                    </a:lnTo>
                    <a:cubicBezTo>
                      <a:pt x="6270" y="1"/>
                      <a:pt x="6271" y="2"/>
                      <a:pt x="6271" y="3"/>
                    </a:cubicBezTo>
                    <a:cubicBezTo>
                      <a:pt x="6271" y="4"/>
                      <a:pt x="6270" y="5"/>
                      <a:pt x="6269" y="5"/>
                    </a:cubicBezTo>
                    <a:lnTo>
                      <a:pt x="6269" y="5"/>
                    </a:lnTo>
                    <a:cubicBezTo>
                      <a:pt x="6268" y="5"/>
                      <a:pt x="6267" y="4"/>
                      <a:pt x="6267" y="3"/>
                    </a:cubicBezTo>
                    <a:cubicBezTo>
                      <a:pt x="6267" y="2"/>
                      <a:pt x="6268" y="1"/>
                      <a:pt x="6269" y="1"/>
                    </a:cubicBezTo>
                    <a:close/>
                    <a:moveTo>
                      <a:pt x="6277" y="1"/>
                    </a:moveTo>
                    <a:lnTo>
                      <a:pt x="6277" y="1"/>
                    </a:lnTo>
                    <a:cubicBezTo>
                      <a:pt x="6278" y="1"/>
                      <a:pt x="6279" y="2"/>
                      <a:pt x="6279" y="3"/>
                    </a:cubicBezTo>
                    <a:cubicBezTo>
                      <a:pt x="6279" y="4"/>
                      <a:pt x="6278" y="5"/>
                      <a:pt x="6277" y="5"/>
                    </a:cubicBezTo>
                    <a:lnTo>
                      <a:pt x="6277" y="5"/>
                    </a:lnTo>
                    <a:cubicBezTo>
                      <a:pt x="6276" y="5"/>
                      <a:pt x="6275" y="4"/>
                      <a:pt x="6275" y="3"/>
                    </a:cubicBezTo>
                    <a:cubicBezTo>
                      <a:pt x="6275" y="2"/>
                      <a:pt x="6276" y="1"/>
                      <a:pt x="6277" y="1"/>
                    </a:cubicBezTo>
                    <a:close/>
                    <a:moveTo>
                      <a:pt x="6285" y="1"/>
                    </a:moveTo>
                    <a:lnTo>
                      <a:pt x="6285" y="1"/>
                    </a:lnTo>
                    <a:cubicBezTo>
                      <a:pt x="6286" y="1"/>
                      <a:pt x="6287" y="2"/>
                      <a:pt x="6287" y="3"/>
                    </a:cubicBezTo>
                    <a:cubicBezTo>
                      <a:pt x="6287" y="4"/>
                      <a:pt x="6286" y="5"/>
                      <a:pt x="6285" y="5"/>
                    </a:cubicBezTo>
                    <a:lnTo>
                      <a:pt x="6285" y="5"/>
                    </a:lnTo>
                    <a:cubicBezTo>
                      <a:pt x="6284" y="5"/>
                      <a:pt x="6283" y="4"/>
                      <a:pt x="6283" y="3"/>
                    </a:cubicBezTo>
                    <a:cubicBezTo>
                      <a:pt x="6283" y="2"/>
                      <a:pt x="6284" y="1"/>
                      <a:pt x="6285" y="1"/>
                    </a:cubicBezTo>
                    <a:close/>
                    <a:moveTo>
                      <a:pt x="6293" y="1"/>
                    </a:moveTo>
                    <a:lnTo>
                      <a:pt x="6293" y="1"/>
                    </a:lnTo>
                    <a:cubicBezTo>
                      <a:pt x="6294" y="1"/>
                      <a:pt x="6295" y="2"/>
                      <a:pt x="6295" y="3"/>
                    </a:cubicBezTo>
                    <a:cubicBezTo>
                      <a:pt x="6295" y="4"/>
                      <a:pt x="6294" y="5"/>
                      <a:pt x="6293" y="5"/>
                    </a:cubicBezTo>
                    <a:lnTo>
                      <a:pt x="6293" y="5"/>
                    </a:lnTo>
                    <a:cubicBezTo>
                      <a:pt x="6292" y="5"/>
                      <a:pt x="6291" y="4"/>
                      <a:pt x="6291" y="3"/>
                    </a:cubicBezTo>
                    <a:cubicBezTo>
                      <a:pt x="6291" y="2"/>
                      <a:pt x="6292" y="1"/>
                      <a:pt x="6293" y="1"/>
                    </a:cubicBezTo>
                    <a:close/>
                    <a:moveTo>
                      <a:pt x="6301" y="1"/>
                    </a:moveTo>
                    <a:lnTo>
                      <a:pt x="6301" y="1"/>
                    </a:lnTo>
                    <a:cubicBezTo>
                      <a:pt x="6302" y="1"/>
                      <a:pt x="6303" y="2"/>
                      <a:pt x="6303" y="3"/>
                    </a:cubicBezTo>
                    <a:cubicBezTo>
                      <a:pt x="6303" y="4"/>
                      <a:pt x="6302" y="5"/>
                      <a:pt x="6301" y="5"/>
                    </a:cubicBezTo>
                    <a:lnTo>
                      <a:pt x="6301" y="5"/>
                    </a:lnTo>
                    <a:cubicBezTo>
                      <a:pt x="6300" y="5"/>
                      <a:pt x="6299" y="4"/>
                      <a:pt x="6299" y="3"/>
                    </a:cubicBezTo>
                    <a:cubicBezTo>
                      <a:pt x="6299" y="2"/>
                      <a:pt x="6300" y="1"/>
                      <a:pt x="6301" y="1"/>
                    </a:cubicBezTo>
                    <a:close/>
                    <a:moveTo>
                      <a:pt x="6309" y="1"/>
                    </a:moveTo>
                    <a:lnTo>
                      <a:pt x="6309" y="1"/>
                    </a:lnTo>
                    <a:cubicBezTo>
                      <a:pt x="6310" y="1"/>
                      <a:pt x="6311" y="2"/>
                      <a:pt x="6311" y="3"/>
                    </a:cubicBezTo>
                    <a:cubicBezTo>
                      <a:pt x="6311" y="4"/>
                      <a:pt x="6310" y="5"/>
                      <a:pt x="6309" y="5"/>
                    </a:cubicBezTo>
                    <a:lnTo>
                      <a:pt x="6309" y="5"/>
                    </a:lnTo>
                    <a:cubicBezTo>
                      <a:pt x="6308" y="5"/>
                      <a:pt x="6307" y="4"/>
                      <a:pt x="6307" y="3"/>
                    </a:cubicBezTo>
                    <a:cubicBezTo>
                      <a:pt x="6307" y="2"/>
                      <a:pt x="6308" y="1"/>
                      <a:pt x="6309" y="1"/>
                    </a:cubicBezTo>
                    <a:close/>
                    <a:moveTo>
                      <a:pt x="6317" y="1"/>
                    </a:moveTo>
                    <a:lnTo>
                      <a:pt x="6317" y="1"/>
                    </a:lnTo>
                    <a:cubicBezTo>
                      <a:pt x="6318" y="1"/>
                      <a:pt x="6319" y="2"/>
                      <a:pt x="6319" y="3"/>
                    </a:cubicBezTo>
                    <a:cubicBezTo>
                      <a:pt x="6319" y="4"/>
                      <a:pt x="6318" y="5"/>
                      <a:pt x="6317" y="5"/>
                    </a:cubicBezTo>
                    <a:lnTo>
                      <a:pt x="6317" y="5"/>
                    </a:lnTo>
                    <a:cubicBezTo>
                      <a:pt x="6316" y="5"/>
                      <a:pt x="6315" y="4"/>
                      <a:pt x="6315" y="3"/>
                    </a:cubicBezTo>
                    <a:cubicBezTo>
                      <a:pt x="6315" y="2"/>
                      <a:pt x="6316" y="1"/>
                      <a:pt x="6317" y="1"/>
                    </a:cubicBezTo>
                    <a:close/>
                    <a:moveTo>
                      <a:pt x="6325" y="1"/>
                    </a:moveTo>
                    <a:lnTo>
                      <a:pt x="6325" y="1"/>
                    </a:lnTo>
                    <a:cubicBezTo>
                      <a:pt x="6326" y="1"/>
                      <a:pt x="6327" y="2"/>
                      <a:pt x="6327" y="3"/>
                    </a:cubicBezTo>
                    <a:cubicBezTo>
                      <a:pt x="6327" y="4"/>
                      <a:pt x="6326" y="5"/>
                      <a:pt x="6325" y="5"/>
                    </a:cubicBezTo>
                    <a:lnTo>
                      <a:pt x="6325" y="5"/>
                    </a:lnTo>
                    <a:cubicBezTo>
                      <a:pt x="6324" y="5"/>
                      <a:pt x="6323" y="4"/>
                      <a:pt x="6323" y="3"/>
                    </a:cubicBezTo>
                    <a:cubicBezTo>
                      <a:pt x="6323" y="2"/>
                      <a:pt x="6324" y="1"/>
                      <a:pt x="6325" y="1"/>
                    </a:cubicBezTo>
                    <a:close/>
                    <a:moveTo>
                      <a:pt x="6333" y="1"/>
                    </a:moveTo>
                    <a:lnTo>
                      <a:pt x="6333" y="1"/>
                    </a:lnTo>
                    <a:cubicBezTo>
                      <a:pt x="6334" y="1"/>
                      <a:pt x="6335" y="2"/>
                      <a:pt x="6335" y="3"/>
                    </a:cubicBezTo>
                    <a:cubicBezTo>
                      <a:pt x="6335" y="4"/>
                      <a:pt x="6334" y="5"/>
                      <a:pt x="6333" y="5"/>
                    </a:cubicBezTo>
                    <a:lnTo>
                      <a:pt x="6333" y="5"/>
                    </a:lnTo>
                    <a:cubicBezTo>
                      <a:pt x="6332" y="5"/>
                      <a:pt x="6331" y="4"/>
                      <a:pt x="6331" y="3"/>
                    </a:cubicBezTo>
                    <a:cubicBezTo>
                      <a:pt x="6331" y="2"/>
                      <a:pt x="6332" y="1"/>
                      <a:pt x="6333" y="1"/>
                    </a:cubicBezTo>
                    <a:close/>
                    <a:moveTo>
                      <a:pt x="6341" y="1"/>
                    </a:moveTo>
                    <a:lnTo>
                      <a:pt x="6341" y="1"/>
                    </a:lnTo>
                    <a:cubicBezTo>
                      <a:pt x="6342" y="1"/>
                      <a:pt x="6343" y="2"/>
                      <a:pt x="6343" y="3"/>
                    </a:cubicBezTo>
                    <a:cubicBezTo>
                      <a:pt x="6343" y="4"/>
                      <a:pt x="6342" y="5"/>
                      <a:pt x="6341" y="5"/>
                    </a:cubicBezTo>
                    <a:lnTo>
                      <a:pt x="6341" y="5"/>
                    </a:lnTo>
                    <a:cubicBezTo>
                      <a:pt x="6340" y="5"/>
                      <a:pt x="6339" y="4"/>
                      <a:pt x="6339" y="3"/>
                    </a:cubicBezTo>
                    <a:cubicBezTo>
                      <a:pt x="6339" y="2"/>
                      <a:pt x="6340" y="1"/>
                      <a:pt x="6341" y="1"/>
                    </a:cubicBezTo>
                    <a:close/>
                    <a:moveTo>
                      <a:pt x="6349" y="1"/>
                    </a:moveTo>
                    <a:lnTo>
                      <a:pt x="6349" y="1"/>
                    </a:lnTo>
                    <a:cubicBezTo>
                      <a:pt x="6350" y="1"/>
                      <a:pt x="6351" y="2"/>
                      <a:pt x="6351" y="3"/>
                    </a:cubicBezTo>
                    <a:cubicBezTo>
                      <a:pt x="6351" y="4"/>
                      <a:pt x="6350" y="5"/>
                      <a:pt x="6349" y="5"/>
                    </a:cubicBezTo>
                    <a:lnTo>
                      <a:pt x="6349" y="5"/>
                    </a:lnTo>
                    <a:cubicBezTo>
                      <a:pt x="6348" y="5"/>
                      <a:pt x="6347" y="4"/>
                      <a:pt x="6347" y="3"/>
                    </a:cubicBezTo>
                    <a:cubicBezTo>
                      <a:pt x="6347" y="2"/>
                      <a:pt x="6348" y="1"/>
                      <a:pt x="6349" y="1"/>
                    </a:cubicBezTo>
                    <a:close/>
                    <a:moveTo>
                      <a:pt x="6357" y="1"/>
                    </a:moveTo>
                    <a:lnTo>
                      <a:pt x="6357" y="1"/>
                    </a:lnTo>
                    <a:cubicBezTo>
                      <a:pt x="6358" y="1"/>
                      <a:pt x="6359" y="2"/>
                      <a:pt x="6359" y="3"/>
                    </a:cubicBezTo>
                    <a:cubicBezTo>
                      <a:pt x="6359" y="4"/>
                      <a:pt x="6358" y="5"/>
                      <a:pt x="6357" y="5"/>
                    </a:cubicBezTo>
                    <a:lnTo>
                      <a:pt x="6357" y="5"/>
                    </a:lnTo>
                    <a:cubicBezTo>
                      <a:pt x="6356" y="5"/>
                      <a:pt x="6355" y="4"/>
                      <a:pt x="6355" y="3"/>
                    </a:cubicBezTo>
                    <a:cubicBezTo>
                      <a:pt x="6355" y="2"/>
                      <a:pt x="6356" y="1"/>
                      <a:pt x="6357" y="1"/>
                    </a:cubicBezTo>
                    <a:close/>
                    <a:moveTo>
                      <a:pt x="6365" y="1"/>
                    </a:moveTo>
                    <a:lnTo>
                      <a:pt x="6365" y="1"/>
                    </a:lnTo>
                    <a:cubicBezTo>
                      <a:pt x="6366" y="1"/>
                      <a:pt x="6367" y="2"/>
                      <a:pt x="6367" y="3"/>
                    </a:cubicBezTo>
                    <a:cubicBezTo>
                      <a:pt x="6367" y="4"/>
                      <a:pt x="6366" y="5"/>
                      <a:pt x="6365" y="5"/>
                    </a:cubicBezTo>
                    <a:lnTo>
                      <a:pt x="6365" y="5"/>
                    </a:lnTo>
                    <a:cubicBezTo>
                      <a:pt x="6364" y="5"/>
                      <a:pt x="6363" y="4"/>
                      <a:pt x="6363" y="3"/>
                    </a:cubicBezTo>
                    <a:cubicBezTo>
                      <a:pt x="6363" y="2"/>
                      <a:pt x="6364" y="1"/>
                      <a:pt x="6365" y="1"/>
                    </a:cubicBezTo>
                    <a:close/>
                    <a:moveTo>
                      <a:pt x="6373" y="1"/>
                    </a:moveTo>
                    <a:lnTo>
                      <a:pt x="6373" y="1"/>
                    </a:lnTo>
                    <a:cubicBezTo>
                      <a:pt x="6374" y="1"/>
                      <a:pt x="6375" y="2"/>
                      <a:pt x="6375" y="3"/>
                    </a:cubicBezTo>
                    <a:cubicBezTo>
                      <a:pt x="6375" y="4"/>
                      <a:pt x="6374" y="5"/>
                      <a:pt x="6373" y="5"/>
                    </a:cubicBezTo>
                    <a:lnTo>
                      <a:pt x="6373" y="5"/>
                    </a:lnTo>
                    <a:cubicBezTo>
                      <a:pt x="6372" y="5"/>
                      <a:pt x="6371" y="4"/>
                      <a:pt x="6371" y="3"/>
                    </a:cubicBezTo>
                    <a:cubicBezTo>
                      <a:pt x="6371" y="2"/>
                      <a:pt x="6372" y="1"/>
                      <a:pt x="6373" y="1"/>
                    </a:cubicBezTo>
                    <a:close/>
                    <a:moveTo>
                      <a:pt x="6381" y="1"/>
                    </a:moveTo>
                    <a:lnTo>
                      <a:pt x="6381" y="1"/>
                    </a:lnTo>
                    <a:cubicBezTo>
                      <a:pt x="6382" y="1"/>
                      <a:pt x="6383" y="2"/>
                      <a:pt x="6383" y="3"/>
                    </a:cubicBezTo>
                    <a:cubicBezTo>
                      <a:pt x="6383" y="4"/>
                      <a:pt x="6382" y="5"/>
                      <a:pt x="6381" y="5"/>
                    </a:cubicBezTo>
                    <a:lnTo>
                      <a:pt x="6381" y="5"/>
                    </a:lnTo>
                    <a:cubicBezTo>
                      <a:pt x="6380" y="5"/>
                      <a:pt x="6379" y="4"/>
                      <a:pt x="6379" y="3"/>
                    </a:cubicBezTo>
                    <a:cubicBezTo>
                      <a:pt x="6379" y="2"/>
                      <a:pt x="6380" y="1"/>
                      <a:pt x="6381" y="1"/>
                    </a:cubicBezTo>
                    <a:close/>
                    <a:moveTo>
                      <a:pt x="6389" y="1"/>
                    </a:moveTo>
                    <a:lnTo>
                      <a:pt x="6389" y="1"/>
                    </a:lnTo>
                    <a:cubicBezTo>
                      <a:pt x="6390" y="1"/>
                      <a:pt x="6391" y="2"/>
                      <a:pt x="6391" y="3"/>
                    </a:cubicBezTo>
                    <a:cubicBezTo>
                      <a:pt x="6391" y="4"/>
                      <a:pt x="6390" y="5"/>
                      <a:pt x="6389" y="5"/>
                    </a:cubicBezTo>
                    <a:lnTo>
                      <a:pt x="6389" y="5"/>
                    </a:lnTo>
                    <a:cubicBezTo>
                      <a:pt x="6388" y="5"/>
                      <a:pt x="6387" y="4"/>
                      <a:pt x="6387" y="3"/>
                    </a:cubicBezTo>
                    <a:cubicBezTo>
                      <a:pt x="6387" y="2"/>
                      <a:pt x="6388" y="1"/>
                      <a:pt x="6389" y="1"/>
                    </a:cubicBezTo>
                    <a:close/>
                    <a:moveTo>
                      <a:pt x="6397" y="1"/>
                    </a:moveTo>
                    <a:lnTo>
                      <a:pt x="6397" y="1"/>
                    </a:lnTo>
                    <a:cubicBezTo>
                      <a:pt x="6398" y="1"/>
                      <a:pt x="6399" y="2"/>
                      <a:pt x="6399" y="3"/>
                    </a:cubicBezTo>
                    <a:cubicBezTo>
                      <a:pt x="6399" y="4"/>
                      <a:pt x="6398" y="5"/>
                      <a:pt x="6397" y="5"/>
                    </a:cubicBezTo>
                    <a:lnTo>
                      <a:pt x="6397" y="5"/>
                    </a:lnTo>
                    <a:cubicBezTo>
                      <a:pt x="6396" y="5"/>
                      <a:pt x="6395" y="4"/>
                      <a:pt x="6395" y="3"/>
                    </a:cubicBezTo>
                    <a:cubicBezTo>
                      <a:pt x="6395" y="2"/>
                      <a:pt x="6396" y="1"/>
                      <a:pt x="6397" y="1"/>
                    </a:cubicBezTo>
                    <a:close/>
                    <a:moveTo>
                      <a:pt x="6405" y="1"/>
                    </a:moveTo>
                    <a:lnTo>
                      <a:pt x="6405" y="1"/>
                    </a:lnTo>
                    <a:cubicBezTo>
                      <a:pt x="6406" y="1"/>
                      <a:pt x="6407" y="2"/>
                      <a:pt x="6407" y="3"/>
                    </a:cubicBezTo>
                    <a:cubicBezTo>
                      <a:pt x="6407" y="4"/>
                      <a:pt x="6406" y="5"/>
                      <a:pt x="6405" y="5"/>
                    </a:cubicBezTo>
                    <a:lnTo>
                      <a:pt x="6405" y="5"/>
                    </a:lnTo>
                    <a:cubicBezTo>
                      <a:pt x="6404" y="5"/>
                      <a:pt x="6403" y="4"/>
                      <a:pt x="6403" y="3"/>
                    </a:cubicBezTo>
                    <a:cubicBezTo>
                      <a:pt x="6403" y="2"/>
                      <a:pt x="6404" y="1"/>
                      <a:pt x="6405" y="1"/>
                    </a:cubicBezTo>
                    <a:close/>
                    <a:moveTo>
                      <a:pt x="6413" y="1"/>
                    </a:moveTo>
                    <a:lnTo>
                      <a:pt x="6413" y="1"/>
                    </a:lnTo>
                    <a:cubicBezTo>
                      <a:pt x="6414" y="1"/>
                      <a:pt x="6415" y="2"/>
                      <a:pt x="6415" y="3"/>
                    </a:cubicBezTo>
                    <a:cubicBezTo>
                      <a:pt x="6415" y="4"/>
                      <a:pt x="6414" y="5"/>
                      <a:pt x="6413" y="5"/>
                    </a:cubicBezTo>
                    <a:lnTo>
                      <a:pt x="6413" y="5"/>
                    </a:lnTo>
                    <a:cubicBezTo>
                      <a:pt x="6412" y="5"/>
                      <a:pt x="6411" y="4"/>
                      <a:pt x="6411" y="3"/>
                    </a:cubicBezTo>
                    <a:cubicBezTo>
                      <a:pt x="6411" y="2"/>
                      <a:pt x="6412" y="1"/>
                      <a:pt x="6413" y="1"/>
                    </a:cubicBezTo>
                    <a:close/>
                    <a:moveTo>
                      <a:pt x="6421" y="1"/>
                    </a:moveTo>
                    <a:lnTo>
                      <a:pt x="6421" y="1"/>
                    </a:lnTo>
                    <a:cubicBezTo>
                      <a:pt x="6422" y="1"/>
                      <a:pt x="6423" y="2"/>
                      <a:pt x="6423" y="3"/>
                    </a:cubicBezTo>
                    <a:cubicBezTo>
                      <a:pt x="6423" y="4"/>
                      <a:pt x="6422" y="5"/>
                      <a:pt x="6421" y="5"/>
                    </a:cubicBezTo>
                    <a:lnTo>
                      <a:pt x="6421" y="5"/>
                    </a:lnTo>
                    <a:cubicBezTo>
                      <a:pt x="6420" y="5"/>
                      <a:pt x="6419" y="4"/>
                      <a:pt x="6419" y="3"/>
                    </a:cubicBezTo>
                    <a:cubicBezTo>
                      <a:pt x="6419" y="2"/>
                      <a:pt x="6420" y="1"/>
                      <a:pt x="6421" y="1"/>
                    </a:cubicBezTo>
                    <a:close/>
                    <a:moveTo>
                      <a:pt x="6429" y="1"/>
                    </a:moveTo>
                    <a:lnTo>
                      <a:pt x="6429" y="1"/>
                    </a:lnTo>
                    <a:cubicBezTo>
                      <a:pt x="6430" y="1"/>
                      <a:pt x="6431" y="2"/>
                      <a:pt x="6431" y="3"/>
                    </a:cubicBezTo>
                    <a:cubicBezTo>
                      <a:pt x="6431" y="4"/>
                      <a:pt x="6430" y="5"/>
                      <a:pt x="6429" y="5"/>
                    </a:cubicBezTo>
                    <a:lnTo>
                      <a:pt x="6429" y="5"/>
                    </a:lnTo>
                    <a:cubicBezTo>
                      <a:pt x="6428" y="5"/>
                      <a:pt x="6427" y="4"/>
                      <a:pt x="6427" y="3"/>
                    </a:cubicBezTo>
                    <a:cubicBezTo>
                      <a:pt x="6427" y="2"/>
                      <a:pt x="6428" y="1"/>
                      <a:pt x="6429" y="1"/>
                    </a:cubicBezTo>
                    <a:close/>
                    <a:moveTo>
                      <a:pt x="6437" y="1"/>
                    </a:moveTo>
                    <a:lnTo>
                      <a:pt x="6437" y="1"/>
                    </a:lnTo>
                    <a:cubicBezTo>
                      <a:pt x="6438" y="1"/>
                      <a:pt x="6439" y="2"/>
                      <a:pt x="6439" y="3"/>
                    </a:cubicBezTo>
                    <a:cubicBezTo>
                      <a:pt x="6439" y="4"/>
                      <a:pt x="6438" y="5"/>
                      <a:pt x="6437" y="5"/>
                    </a:cubicBezTo>
                    <a:lnTo>
                      <a:pt x="6437" y="5"/>
                    </a:lnTo>
                    <a:cubicBezTo>
                      <a:pt x="6436" y="5"/>
                      <a:pt x="6435" y="4"/>
                      <a:pt x="6435" y="3"/>
                    </a:cubicBezTo>
                    <a:cubicBezTo>
                      <a:pt x="6435" y="2"/>
                      <a:pt x="6436" y="1"/>
                      <a:pt x="6437" y="1"/>
                    </a:cubicBezTo>
                    <a:close/>
                    <a:moveTo>
                      <a:pt x="6445" y="1"/>
                    </a:moveTo>
                    <a:lnTo>
                      <a:pt x="6445" y="1"/>
                    </a:lnTo>
                    <a:cubicBezTo>
                      <a:pt x="6446" y="1"/>
                      <a:pt x="6447" y="2"/>
                      <a:pt x="6447" y="3"/>
                    </a:cubicBezTo>
                    <a:cubicBezTo>
                      <a:pt x="6447" y="4"/>
                      <a:pt x="6446" y="5"/>
                      <a:pt x="6445" y="5"/>
                    </a:cubicBezTo>
                    <a:lnTo>
                      <a:pt x="6445" y="5"/>
                    </a:lnTo>
                    <a:cubicBezTo>
                      <a:pt x="6444" y="5"/>
                      <a:pt x="6443" y="4"/>
                      <a:pt x="6443" y="3"/>
                    </a:cubicBezTo>
                    <a:cubicBezTo>
                      <a:pt x="6443" y="2"/>
                      <a:pt x="6444" y="1"/>
                      <a:pt x="6445" y="1"/>
                    </a:cubicBezTo>
                    <a:close/>
                    <a:moveTo>
                      <a:pt x="6453" y="1"/>
                    </a:moveTo>
                    <a:lnTo>
                      <a:pt x="6453" y="1"/>
                    </a:lnTo>
                    <a:cubicBezTo>
                      <a:pt x="6454" y="1"/>
                      <a:pt x="6455" y="2"/>
                      <a:pt x="6455" y="3"/>
                    </a:cubicBezTo>
                    <a:cubicBezTo>
                      <a:pt x="6455" y="4"/>
                      <a:pt x="6454" y="5"/>
                      <a:pt x="6453" y="5"/>
                    </a:cubicBezTo>
                    <a:lnTo>
                      <a:pt x="6453" y="5"/>
                    </a:lnTo>
                    <a:cubicBezTo>
                      <a:pt x="6452" y="5"/>
                      <a:pt x="6451" y="4"/>
                      <a:pt x="6451" y="3"/>
                    </a:cubicBezTo>
                    <a:cubicBezTo>
                      <a:pt x="6451" y="2"/>
                      <a:pt x="6452" y="1"/>
                      <a:pt x="6453" y="1"/>
                    </a:cubicBezTo>
                    <a:close/>
                    <a:moveTo>
                      <a:pt x="6461" y="1"/>
                    </a:moveTo>
                    <a:lnTo>
                      <a:pt x="6461" y="1"/>
                    </a:lnTo>
                    <a:cubicBezTo>
                      <a:pt x="6462" y="1"/>
                      <a:pt x="6463" y="2"/>
                      <a:pt x="6463" y="3"/>
                    </a:cubicBezTo>
                    <a:cubicBezTo>
                      <a:pt x="6463" y="4"/>
                      <a:pt x="6462" y="5"/>
                      <a:pt x="6461" y="5"/>
                    </a:cubicBezTo>
                    <a:lnTo>
                      <a:pt x="6461" y="5"/>
                    </a:lnTo>
                    <a:cubicBezTo>
                      <a:pt x="6460" y="5"/>
                      <a:pt x="6459" y="4"/>
                      <a:pt x="6459" y="3"/>
                    </a:cubicBezTo>
                    <a:cubicBezTo>
                      <a:pt x="6459" y="2"/>
                      <a:pt x="6460" y="1"/>
                      <a:pt x="6461" y="1"/>
                    </a:cubicBezTo>
                    <a:close/>
                    <a:moveTo>
                      <a:pt x="6469" y="1"/>
                    </a:moveTo>
                    <a:lnTo>
                      <a:pt x="6469" y="1"/>
                    </a:lnTo>
                    <a:cubicBezTo>
                      <a:pt x="6470" y="1"/>
                      <a:pt x="6471" y="2"/>
                      <a:pt x="6471" y="3"/>
                    </a:cubicBezTo>
                    <a:cubicBezTo>
                      <a:pt x="6471" y="4"/>
                      <a:pt x="6470" y="5"/>
                      <a:pt x="6469" y="5"/>
                    </a:cubicBezTo>
                    <a:lnTo>
                      <a:pt x="6469" y="5"/>
                    </a:lnTo>
                    <a:cubicBezTo>
                      <a:pt x="6468" y="5"/>
                      <a:pt x="6467" y="4"/>
                      <a:pt x="6467" y="3"/>
                    </a:cubicBezTo>
                    <a:cubicBezTo>
                      <a:pt x="6467" y="2"/>
                      <a:pt x="6468" y="1"/>
                      <a:pt x="6469" y="1"/>
                    </a:cubicBezTo>
                    <a:close/>
                    <a:moveTo>
                      <a:pt x="6477" y="1"/>
                    </a:moveTo>
                    <a:lnTo>
                      <a:pt x="6477" y="1"/>
                    </a:lnTo>
                    <a:cubicBezTo>
                      <a:pt x="6478" y="1"/>
                      <a:pt x="6479" y="2"/>
                      <a:pt x="6479" y="3"/>
                    </a:cubicBezTo>
                    <a:cubicBezTo>
                      <a:pt x="6479" y="4"/>
                      <a:pt x="6478" y="5"/>
                      <a:pt x="6477" y="5"/>
                    </a:cubicBezTo>
                    <a:lnTo>
                      <a:pt x="6477" y="5"/>
                    </a:lnTo>
                    <a:cubicBezTo>
                      <a:pt x="6476" y="5"/>
                      <a:pt x="6475" y="4"/>
                      <a:pt x="6475" y="3"/>
                    </a:cubicBezTo>
                    <a:cubicBezTo>
                      <a:pt x="6475" y="2"/>
                      <a:pt x="6476" y="1"/>
                      <a:pt x="6477" y="1"/>
                    </a:cubicBezTo>
                    <a:close/>
                    <a:moveTo>
                      <a:pt x="6485" y="1"/>
                    </a:moveTo>
                    <a:lnTo>
                      <a:pt x="6485" y="1"/>
                    </a:lnTo>
                    <a:cubicBezTo>
                      <a:pt x="6486" y="1"/>
                      <a:pt x="6487" y="2"/>
                      <a:pt x="6487" y="3"/>
                    </a:cubicBezTo>
                    <a:cubicBezTo>
                      <a:pt x="6487" y="4"/>
                      <a:pt x="6486" y="5"/>
                      <a:pt x="6485" y="5"/>
                    </a:cubicBezTo>
                    <a:lnTo>
                      <a:pt x="6485" y="5"/>
                    </a:lnTo>
                    <a:cubicBezTo>
                      <a:pt x="6484" y="5"/>
                      <a:pt x="6483" y="4"/>
                      <a:pt x="6483" y="3"/>
                    </a:cubicBezTo>
                    <a:cubicBezTo>
                      <a:pt x="6483" y="2"/>
                      <a:pt x="6484" y="1"/>
                      <a:pt x="6485" y="1"/>
                    </a:cubicBezTo>
                    <a:close/>
                    <a:moveTo>
                      <a:pt x="6493" y="1"/>
                    </a:moveTo>
                    <a:lnTo>
                      <a:pt x="6493" y="1"/>
                    </a:lnTo>
                    <a:cubicBezTo>
                      <a:pt x="6494" y="1"/>
                      <a:pt x="6495" y="2"/>
                      <a:pt x="6495" y="3"/>
                    </a:cubicBezTo>
                    <a:cubicBezTo>
                      <a:pt x="6495" y="4"/>
                      <a:pt x="6494" y="5"/>
                      <a:pt x="6493" y="5"/>
                    </a:cubicBezTo>
                    <a:lnTo>
                      <a:pt x="6493" y="5"/>
                    </a:lnTo>
                    <a:cubicBezTo>
                      <a:pt x="6492" y="5"/>
                      <a:pt x="6491" y="4"/>
                      <a:pt x="6491" y="3"/>
                    </a:cubicBezTo>
                    <a:cubicBezTo>
                      <a:pt x="6491" y="2"/>
                      <a:pt x="6492" y="1"/>
                      <a:pt x="6493" y="1"/>
                    </a:cubicBezTo>
                    <a:close/>
                    <a:moveTo>
                      <a:pt x="6501" y="1"/>
                    </a:moveTo>
                    <a:lnTo>
                      <a:pt x="6501" y="1"/>
                    </a:lnTo>
                    <a:cubicBezTo>
                      <a:pt x="6502" y="1"/>
                      <a:pt x="6503" y="2"/>
                      <a:pt x="6503" y="3"/>
                    </a:cubicBezTo>
                    <a:cubicBezTo>
                      <a:pt x="6503" y="4"/>
                      <a:pt x="6502" y="5"/>
                      <a:pt x="6501" y="5"/>
                    </a:cubicBezTo>
                    <a:lnTo>
                      <a:pt x="6501" y="5"/>
                    </a:lnTo>
                    <a:cubicBezTo>
                      <a:pt x="6500" y="5"/>
                      <a:pt x="6499" y="4"/>
                      <a:pt x="6499" y="3"/>
                    </a:cubicBezTo>
                    <a:cubicBezTo>
                      <a:pt x="6499" y="2"/>
                      <a:pt x="6500" y="1"/>
                      <a:pt x="6501" y="1"/>
                    </a:cubicBezTo>
                    <a:close/>
                    <a:moveTo>
                      <a:pt x="6509" y="1"/>
                    </a:moveTo>
                    <a:lnTo>
                      <a:pt x="6509" y="1"/>
                    </a:lnTo>
                    <a:cubicBezTo>
                      <a:pt x="6510" y="1"/>
                      <a:pt x="6511" y="2"/>
                      <a:pt x="6511" y="3"/>
                    </a:cubicBezTo>
                    <a:cubicBezTo>
                      <a:pt x="6511" y="4"/>
                      <a:pt x="6510" y="5"/>
                      <a:pt x="6509" y="5"/>
                    </a:cubicBezTo>
                    <a:lnTo>
                      <a:pt x="6509" y="5"/>
                    </a:lnTo>
                    <a:cubicBezTo>
                      <a:pt x="6508" y="5"/>
                      <a:pt x="6507" y="4"/>
                      <a:pt x="6507" y="3"/>
                    </a:cubicBezTo>
                    <a:cubicBezTo>
                      <a:pt x="6507" y="2"/>
                      <a:pt x="6508" y="1"/>
                      <a:pt x="6509" y="1"/>
                    </a:cubicBezTo>
                    <a:close/>
                    <a:moveTo>
                      <a:pt x="6517" y="1"/>
                    </a:moveTo>
                    <a:lnTo>
                      <a:pt x="6517" y="1"/>
                    </a:lnTo>
                    <a:cubicBezTo>
                      <a:pt x="6518" y="1"/>
                      <a:pt x="6519" y="2"/>
                      <a:pt x="6519" y="3"/>
                    </a:cubicBezTo>
                    <a:cubicBezTo>
                      <a:pt x="6519" y="4"/>
                      <a:pt x="6518" y="5"/>
                      <a:pt x="6517" y="5"/>
                    </a:cubicBezTo>
                    <a:lnTo>
                      <a:pt x="6517" y="5"/>
                    </a:lnTo>
                    <a:cubicBezTo>
                      <a:pt x="6516" y="5"/>
                      <a:pt x="6515" y="4"/>
                      <a:pt x="6515" y="3"/>
                    </a:cubicBezTo>
                    <a:cubicBezTo>
                      <a:pt x="6515" y="2"/>
                      <a:pt x="6516" y="1"/>
                      <a:pt x="6517" y="1"/>
                    </a:cubicBezTo>
                    <a:close/>
                    <a:moveTo>
                      <a:pt x="6525" y="1"/>
                    </a:moveTo>
                    <a:lnTo>
                      <a:pt x="6525" y="1"/>
                    </a:lnTo>
                    <a:cubicBezTo>
                      <a:pt x="6526" y="1"/>
                      <a:pt x="6527" y="2"/>
                      <a:pt x="6527" y="3"/>
                    </a:cubicBezTo>
                    <a:cubicBezTo>
                      <a:pt x="6527" y="4"/>
                      <a:pt x="6526" y="5"/>
                      <a:pt x="6525" y="5"/>
                    </a:cubicBezTo>
                    <a:lnTo>
                      <a:pt x="6525" y="5"/>
                    </a:lnTo>
                    <a:cubicBezTo>
                      <a:pt x="6524" y="5"/>
                      <a:pt x="6523" y="4"/>
                      <a:pt x="6523" y="3"/>
                    </a:cubicBezTo>
                    <a:cubicBezTo>
                      <a:pt x="6523" y="2"/>
                      <a:pt x="6524" y="1"/>
                      <a:pt x="6525" y="1"/>
                    </a:cubicBezTo>
                    <a:close/>
                    <a:moveTo>
                      <a:pt x="6533" y="1"/>
                    </a:moveTo>
                    <a:lnTo>
                      <a:pt x="6533" y="1"/>
                    </a:lnTo>
                    <a:cubicBezTo>
                      <a:pt x="6534" y="1"/>
                      <a:pt x="6535" y="2"/>
                      <a:pt x="6535" y="3"/>
                    </a:cubicBezTo>
                    <a:cubicBezTo>
                      <a:pt x="6535" y="4"/>
                      <a:pt x="6534" y="5"/>
                      <a:pt x="6533" y="5"/>
                    </a:cubicBezTo>
                    <a:lnTo>
                      <a:pt x="6533" y="5"/>
                    </a:lnTo>
                    <a:cubicBezTo>
                      <a:pt x="6532" y="5"/>
                      <a:pt x="6531" y="4"/>
                      <a:pt x="6531" y="3"/>
                    </a:cubicBezTo>
                    <a:cubicBezTo>
                      <a:pt x="6531" y="2"/>
                      <a:pt x="6532" y="1"/>
                      <a:pt x="6533" y="1"/>
                    </a:cubicBezTo>
                    <a:close/>
                    <a:moveTo>
                      <a:pt x="6541" y="1"/>
                    </a:moveTo>
                    <a:lnTo>
                      <a:pt x="6541" y="1"/>
                    </a:lnTo>
                    <a:cubicBezTo>
                      <a:pt x="6542" y="1"/>
                      <a:pt x="6543" y="2"/>
                      <a:pt x="6543" y="3"/>
                    </a:cubicBezTo>
                    <a:cubicBezTo>
                      <a:pt x="6543" y="4"/>
                      <a:pt x="6542" y="5"/>
                      <a:pt x="6541" y="5"/>
                    </a:cubicBezTo>
                    <a:lnTo>
                      <a:pt x="6541" y="5"/>
                    </a:lnTo>
                    <a:cubicBezTo>
                      <a:pt x="6540" y="5"/>
                      <a:pt x="6539" y="4"/>
                      <a:pt x="6539" y="3"/>
                    </a:cubicBezTo>
                    <a:cubicBezTo>
                      <a:pt x="6539" y="2"/>
                      <a:pt x="6540" y="1"/>
                      <a:pt x="6541" y="1"/>
                    </a:cubicBezTo>
                    <a:close/>
                    <a:moveTo>
                      <a:pt x="6549" y="1"/>
                    </a:moveTo>
                    <a:lnTo>
                      <a:pt x="6549" y="1"/>
                    </a:lnTo>
                    <a:cubicBezTo>
                      <a:pt x="6550" y="1"/>
                      <a:pt x="6551" y="2"/>
                      <a:pt x="6551" y="3"/>
                    </a:cubicBezTo>
                    <a:cubicBezTo>
                      <a:pt x="6551" y="4"/>
                      <a:pt x="6550" y="5"/>
                      <a:pt x="6549" y="5"/>
                    </a:cubicBezTo>
                    <a:lnTo>
                      <a:pt x="6549" y="5"/>
                    </a:lnTo>
                    <a:cubicBezTo>
                      <a:pt x="6548" y="5"/>
                      <a:pt x="6547" y="4"/>
                      <a:pt x="6547" y="3"/>
                    </a:cubicBezTo>
                    <a:cubicBezTo>
                      <a:pt x="6547" y="2"/>
                      <a:pt x="6548" y="1"/>
                      <a:pt x="6549" y="1"/>
                    </a:cubicBezTo>
                    <a:close/>
                    <a:moveTo>
                      <a:pt x="6557" y="1"/>
                    </a:moveTo>
                    <a:lnTo>
                      <a:pt x="6557" y="1"/>
                    </a:lnTo>
                    <a:cubicBezTo>
                      <a:pt x="6558" y="1"/>
                      <a:pt x="6559" y="2"/>
                      <a:pt x="6559" y="3"/>
                    </a:cubicBezTo>
                    <a:cubicBezTo>
                      <a:pt x="6559" y="4"/>
                      <a:pt x="6558" y="5"/>
                      <a:pt x="6557" y="5"/>
                    </a:cubicBezTo>
                    <a:lnTo>
                      <a:pt x="6557" y="5"/>
                    </a:lnTo>
                    <a:cubicBezTo>
                      <a:pt x="6556" y="5"/>
                      <a:pt x="6555" y="4"/>
                      <a:pt x="6555" y="3"/>
                    </a:cubicBezTo>
                    <a:cubicBezTo>
                      <a:pt x="6555" y="2"/>
                      <a:pt x="6556" y="1"/>
                      <a:pt x="6557" y="1"/>
                    </a:cubicBezTo>
                    <a:close/>
                    <a:moveTo>
                      <a:pt x="6565" y="1"/>
                    </a:moveTo>
                    <a:lnTo>
                      <a:pt x="6565" y="1"/>
                    </a:lnTo>
                    <a:cubicBezTo>
                      <a:pt x="6566" y="1"/>
                      <a:pt x="6567" y="2"/>
                      <a:pt x="6567" y="3"/>
                    </a:cubicBezTo>
                    <a:cubicBezTo>
                      <a:pt x="6567" y="4"/>
                      <a:pt x="6566" y="5"/>
                      <a:pt x="6565" y="5"/>
                    </a:cubicBezTo>
                    <a:lnTo>
                      <a:pt x="6565" y="5"/>
                    </a:lnTo>
                    <a:cubicBezTo>
                      <a:pt x="6564" y="5"/>
                      <a:pt x="6563" y="4"/>
                      <a:pt x="6563" y="3"/>
                    </a:cubicBezTo>
                    <a:cubicBezTo>
                      <a:pt x="6563" y="2"/>
                      <a:pt x="6564" y="1"/>
                      <a:pt x="6565" y="1"/>
                    </a:cubicBezTo>
                    <a:close/>
                    <a:moveTo>
                      <a:pt x="6573" y="1"/>
                    </a:moveTo>
                    <a:lnTo>
                      <a:pt x="6573" y="1"/>
                    </a:lnTo>
                    <a:cubicBezTo>
                      <a:pt x="6574" y="1"/>
                      <a:pt x="6575" y="2"/>
                      <a:pt x="6575" y="3"/>
                    </a:cubicBezTo>
                    <a:cubicBezTo>
                      <a:pt x="6575" y="4"/>
                      <a:pt x="6574" y="5"/>
                      <a:pt x="6573" y="5"/>
                    </a:cubicBezTo>
                    <a:lnTo>
                      <a:pt x="6573" y="5"/>
                    </a:lnTo>
                    <a:cubicBezTo>
                      <a:pt x="6572" y="5"/>
                      <a:pt x="6571" y="4"/>
                      <a:pt x="6571" y="3"/>
                    </a:cubicBezTo>
                    <a:cubicBezTo>
                      <a:pt x="6571" y="2"/>
                      <a:pt x="6572" y="1"/>
                      <a:pt x="6573" y="1"/>
                    </a:cubicBezTo>
                    <a:close/>
                    <a:moveTo>
                      <a:pt x="6581" y="1"/>
                    </a:moveTo>
                    <a:lnTo>
                      <a:pt x="6581" y="1"/>
                    </a:lnTo>
                    <a:cubicBezTo>
                      <a:pt x="6582" y="1"/>
                      <a:pt x="6583" y="2"/>
                      <a:pt x="6583" y="3"/>
                    </a:cubicBezTo>
                    <a:cubicBezTo>
                      <a:pt x="6583" y="4"/>
                      <a:pt x="6582" y="5"/>
                      <a:pt x="6581" y="5"/>
                    </a:cubicBezTo>
                    <a:lnTo>
                      <a:pt x="6581" y="5"/>
                    </a:lnTo>
                    <a:cubicBezTo>
                      <a:pt x="6580" y="5"/>
                      <a:pt x="6579" y="4"/>
                      <a:pt x="6579" y="3"/>
                    </a:cubicBezTo>
                    <a:cubicBezTo>
                      <a:pt x="6579" y="2"/>
                      <a:pt x="6580" y="1"/>
                      <a:pt x="6581" y="1"/>
                    </a:cubicBezTo>
                    <a:close/>
                    <a:moveTo>
                      <a:pt x="6589" y="1"/>
                    </a:moveTo>
                    <a:lnTo>
                      <a:pt x="6589" y="1"/>
                    </a:lnTo>
                    <a:cubicBezTo>
                      <a:pt x="6590" y="1"/>
                      <a:pt x="6591" y="2"/>
                      <a:pt x="6591" y="3"/>
                    </a:cubicBezTo>
                    <a:cubicBezTo>
                      <a:pt x="6591" y="4"/>
                      <a:pt x="6590" y="5"/>
                      <a:pt x="6589" y="5"/>
                    </a:cubicBezTo>
                    <a:lnTo>
                      <a:pt x="6589" y="5"/>
                    </a:lnTo>
                    <a:cubicBezTo>
                      <a:pt x="6588" y="5"/>
                      <a:pt x="6587" y="4"/>
                      <a:pt x="6587" y="3"/>
                    </a:cubicBezTo>
                    <a:cubicBezTo>
                      <a:pt x="6587" y="2"/>
                      <a:pt x="6588" y="1"/>
                      <a:pt x="6589" y="1"/>
                    </a:cubicBezTo>
                    <a:close/>
                    <a:moveTo>
                      <a:pt x="6597" y="1"/>
                    </a:moveTo>
                    <a:lnTo>
                      <a:pt x="6597" y="1"/>
                    </a:lnTo>
                    <a:cubicBezTo>
                      <a:pt x="6598" y="1"/>
                      <a:pt x="6599" y="2"/>
                      <a:pt x="6599" y="3"/>
                    </a:cubicBezTo>
                    <a:cubicBezTo>
                      <a:pt x="6599" y="4"/>
                      <a:pt x="6598" y="5"/>
                      <a:pt x="6597" y="5"/>
                    </a:cubicBezTo>
                    <a:lnTo>
                      <a:pt x="6597" y="5"/>
                    </a:lnTo>
                    <a:cubicBezTo>
                      <a:pt x="6596" y="5"/>
                      <a:pt x="6595" y="4"/>
                      <a:pt x="6595" y="3"/>
                    </a:cubicBezTo>
                    <a:cubicBezTo>
                      <a:pt x="6595" y="2"/>
                      <a:pt x="6596" y="1"/>
                      <a:pt x="6597" y="1"/>
                    </a:cubicBezTo>
                    <a:close/>
                    <a:moveTo>
                      <a:pt x="6605" y="1"/>
                    </a:moveTo>
                    <a:lnTo>
                      <a:pt x="6605" y="1"/>
                    </a:lnTo>
                    <a:cubicBezTo>
                      <a:pt x="6606" y="1"/>
                      <a:pt x="6607" y="2"/>
                      <a:pt x="6607" y="3"/>
                    </a:cubicBezTo>
                    <a:cubicBezTo>
                      <a:pt x="6607" y="4"/>
                      <a:pt x="6606" y="5"/>
                      <a:pt x="6605" y="5"/>
                    </a:cubicBezTo>
                    <a:lnTo>
                      <a:pt x="6605" y="5"/>
                    </a:lnTo>
                    <a:cubicBezTo>
                      <a:pt x="6604" y="5"/>
                      <a:pt x="6603" y="4"/>
                      <a:pt x="6603" y="3"/>
                    </a:cubicBezTo>
                    <a:cubicBezTo>
                      <a:pt x="6603" y="2"/>
                      <a:pt x="6604" y="1"/>
                      <a:pt x="6605" y="1"/>
                    </a:cubicBezTo>
                    <a:close/>
                    <a:moveTo>
                      <a:pt x="6613" y="1"/>
                    </a:moveTo>
                    <a:lnTo>
                      <a:pt x="6613" y="1"/>
                    </a:lnTo>
                    <a:cubicBezTo>
                      <a:pt x="6614" y="1"/>
                      <a:pt x="6615" y="2"/>
                      <a:pt x="6615" y="3"/>
                    </a:cubicBezTo>
                    <a:cubicBezTo>
                      <a:pt x="6615" y="5"/>
                      <a:pt x="6614" y="5"/>
                      <a:pt x="6613" y="5"/>
                    </a:cubicBezTo>
                    <a:lnTo>
                      <a:pt x="6613" y="5"/>
                    </a:lnTo>
                    <a:cubicBezTo>
                      <a:pt x="6612" y="5"/>
                      <a:pt x="6611" y="5"/>
                      <a:pt x="6611" y="3"/>
                    </a:cubicBezTo>
                    <a:cubicBezTo>
                      <a:pt x="6611" y="2"/>
                      <a:pt x="6612" y="1"/>
                      <a:pt x="6613" y="1"/>
                    </a:cubicBezTo>
                    <a:close/>
                    <a:moveTo>
                      <a:pt x="6621" y="1"/>
                    </a:moveTo>
                    <a:lnTo>
                      <a:pt x="6621" y="1"/>
                    </a:lnTo>
                    <a:cubicBezTo>
                      <a:pt x="6622" y="1"/>
                      <a:pt x="6623" y="2"/>
                      <a:pt x="6623" y="3"/>
                    </a:cubicBezTo>
                    <a:cubicBezTo>
                      <a:pt x="6623" y="5"/>
                      <a:pt x="6622" y="5"/>
                      <a:pt x="6621" y="5"/>
                    </a:cubicBezTo>
                    <a:lnTo>
                      <a:pt x="6621" y="5"/>
                    </a:lnTo>
                    <a:cubicBezTo>
                      <a:pt x="6620" y="5"/>
                      <a:pt x="6619" y="5"/>
                      <a:pt x="6619" y="3"/>
                    </a:cubicBezTo>
                    <a:cubicBezTo>
                      <a:pt x="6619" y="2"/>
                      <a:pt x="6620" y="1"/>
                      <a:pt x="6621" y="1"/>
                    </a:cubicBezTo>
                    <a:close/>
                    <a:moveTo>
                      <a:pt x="6629" y="1"/>
                    </a:moveTo>
                    <a:lnTo>
                      <a:pt x="6629" y="1"/>
                    </a:lnTo>
                    <a:cubicBezTo>
                      <a:pt x="6630" y="1"/>
                      <a:pt x="6631" y="2"/>
                      <a:pt x="6631" y="3"/>
                    </a:cubicBezTo>
                    <a:cubicBezTo>
                      <a:pt x="6631" y="5"/>
                      <a:pt x="6630" y="5"/>
                      <a:pt x="6629" y="5"/>
                    </a:cubicBezTo>
                    <a:lnTo>
                      <a:pt x="6629" y="5"/>
                    </a:lnTo>
                    <a:cubicBezTo>
                      <a:pt x="6628" y="5"/>
                      <a:pt x="6627" y="5"/>
                      <a:pt x="6627" y="3"/>
                    </a:cubicBezTo>
                    <a:cubicBezTo>
                      <a:pt x="6627" y="2"/>
                      <a:pt x="6628" y="1"/>
                      <a:pt x="6629" y="1"/>
                    </a:cubicBezTo>
                    <a:close/>
                    <a:moveTo>
                      <a:pt x="6637" y="1"/>
                    </a:moveTo>
                    <a:lnTo>
                      <a:pt x="6637" y="1"/>
                    </a:lnTo>
                    <a:cubicBezTo>
                      <a:pt x="6638" y="1"/>
                      <a:pt x="6639" y="2"/>
                      <a:pt x="6639" y="3"/>
                    </a:cubicBezTo>
                    <a:cubicBezTo>
                      <a:pt x="6639" y="5"/>
                      <a:pt x="6638" y="5"/>
                      <a:pt x="6637" y="5"/>
                    </a:cubicBezTo>
                    <a:lnTo>
                      <a:pt x="6637" y="5"/>
                    </a:lnTo>
                    <a:cubicBezTo>
                      <a:pt x="6636" y="5"/>
                      <a:pt x="6635" y="5"/>
                      <a:pt x="6635" y="3"/>
                    </a:cubicBezTo>
                    <a:cubicBezTo>
                      <a:pt x="6635" y="2"/>
                      <a:pt x="6636" y="1"/>
                      <a:pt x="6637" y="1"/>
                    </a:cubicBezTo>
                    <a:close/>
                    <a:moveTo>
                      <a:pt x="6645" y="1"/>
                    </a:moveTo>
                    <a:lnTo>
                      <a:pt x="6645" y="1"/>
                    </a:lnTo>
                    <a:cubicBezTo>
                      <a:pt x="6646" y="1"/>
                      <a:pt x="6647" y="2"/>
                      <a:pt x="6647" y="3"/>
                    </a:cubicBezTo>
                    <a:cubicBezTo>
                      <a:pt x="6647" y="5"/>
                      <a:pt x="6646" y="5"/>
                      <a:pt x="6645" y="5"/>
                    </a:cubicBezTo>
                    <a:lnTo>
                      <a:pt x="6645" y="5"/>
                    </a:lnTo>
                    <a:cubicBezTo>
                      <a:pt x="6644" y="5"/>
                      <a:pt x="6643" y="5"/>
                      <a:pt x="6643" y="3"/>
                    </a:cubicBezTo>
                    <a:cubicBezTo>
                      <a:pt x="6643" y="2"/>
                      <a:pt x="6644" y="1"/>
                      <a:pt x="6645" y="1"/>
                    </a:cubicBezTo>
                    <a:close/>
                    <a:moveTo>
                      <a:pt x="6653" y="1"/>
                    </a:moveTo>
                    <a:lnTo>
                      <a:pt x="6653" y="1"/>
                    </a:lnTo>
                    <a:cubicBezTo>
                      <a:pt x="6654" y="1"/>
                      <a:pt x="6655" y="2"/>
                      <a:pt x="6655" y="3"/>
                    </a:cubicBezTo>
                    <a:cubicBezTo>
                      <a:pt x="6655" y="5"/>
                      <a:pt x="6654" y="5"/>
                      <a:pt x="6653" y="5"/>
                    </a:cubicBezTo>
                    <a:lnTo>
                      <a:pt x="6653" y="5"/>
                    </a:lnTo>
                    <a:cubicBezTo>
                      <a:pt x="6652" y="5"/>
                      <a:pt x="6651" y="5"/>
                      <a:pt x="6651" y="3"/>
                    </a:cubicBezTo>
                    <a:cubicBezTo>
                      <a:pt x="6651" y="2"/>
                      <a:pt x="6652" y="1"/>
                      <a:pt x="6653" y="1"/>
                    </a:cubicBezTo>
                    <a:close/>
                    <a:moveTo>
                      <a:pt x="6661" y="1"/>
                    </a:moveTo>
                    <a:lnTo>
                      <a:pt x="6661" y="1"/>
                    </a:lnTo>
                    <a:cubicBezTo>
                      <a:pt x="6662" y="1"/>
                      <a:pt x="6663" y="2"/>
                      <a:pt x="6663" y="3"/>
                    </a:cubicBezTo>
                    <a:cubicBezTo>
                      <a:pt x="6663" y="5"/>
                      <a:pt x="6662" y="5"/>
                      <a:pt x="6661" y="5"/>
                    </a:cubicBezTo>
                    <a:lnTo>
                      <a:pt x="6661" y="5"/>
                    </a:lnTo>
                    <a:cubicBezTo>
                      <a:pt x="6660" y="5"/>
                      <a:pt x="6659" y="5"/>
                      <a:pt x="6659" y="3"/>
                    </a:cubicBezTo>
                    <a:cubicBezTo>
                      <a:pt x="6659" y="2"/>
                      <a:pt x="6660" y="1"/>
                      <a:pt x="6661" y="1"/>
                    </a:cubicBezTo>
                    <a:close/>
                    <a:moveTo>
                      <a:pt x="6669" y="1"/>
                    </a:moveTo>
                    <a:lnTo>
                      <a:pt x="6669" y="1"/>
                    </a:lnTo>
                    <a:cubicBezTo>
                      <a:pt x="6670" y="1"/>
                      <a:pt x="6671" y="2"/>
                      <a:pt x="6671" y="3"/>
                    </a:cubicBezTo>
                    <a:cubicBezTo>
                      <a:pt x="6671" y="5"/>
                      <a:pt x="6670" y="5"/>
                      <a:pt x="6669" y="5"/>
                    </a:cubicBezTo>
                    <a:lnTo>
                      <a:pt x="6669" y="5"/>
                    </a:lnTo>
                    <a:cubicBezTo>
                      <a:pt x="6668" y="5"/>
                      <a:pt x="6667" y="5"/>
                      <a:pt x="6667" y="3"/>
                    </a:cubicBezTo>
                    <a:cubicBezTo>
                      <a:pt x="6667" y="2"/>
                      <a:pt x="6668" y="1"/>
                      <a:pt x="6669" y="1"/>
                    </a:cubicBezTo>
                    <a:close/>
                    <a:moveTo>
                      <a:pt x="6677" y="1"/>
                    </a:moveTo>
                    <a:lnTo>
                      <a:pt x="6677" y="1"/>
                    </a:lnTo>
                    <a:cubicBezTo>
                      <a:pt x="6678" y="1"/>
                      <a:pt x="6679" y="2"/>
                      <a:pt x="6679" y="3"/>
                    </a:cubicBezTo>
                    <a:cubicBezTo>
                      <a:pt x="6679" y="5"/>
                      <a:pt x="6678" y="5"/>
                      <a:pt x="6677" y="5"/>
                    </a:cubicBezTo>
                    <a:lnTo>
                      <a:pt x="6677" y="5"/>
                    </a:lnTo>
                    <a:cubicBezTo>
                      <a:pt x="6676" y="5"/>
                      <a:pt x="6675" y="5"/>
                      <a:pt x="6675" y="3"/>
                    </a:cubicBezTo>
                    <a:cubicBezTo>
                      <a:pt x="6675" y="2"/>
                      <a:pt x="6676" y="1"/>
                      <a:pt x="6677" y="1"/>
                    </a:cubicBezTo>
                    <a:close/>
                    <a:moveTo>
                      <a:pt x="6685" y="1"/>
                    </a:moveTo>
                    <a:lnTo>
                      <a:pt x="6685" y="1"/>
                    </a:lnTo>
                    <a:cubicBezTo>
                      <a:pt x="6686" y="1"/>
                      <a:pt x="6687" y="2"/>
                      <a:pt x="6687" y="3"/>
                    </a:cubicBezTo>
                    <a:cubicBezTo>
                      <a:pt x="6687" y="5"/>
                      <a:pt x="6686" y="5"/>
                      <a:pt x="6685" y="5"/>
                    </a:cubicBezTo>
                    <a:lnTo>
                      <a:pt x="6685" y="5"/>
                    </a:lnTo>
                    <a:cubicBezTo>
                      <a:pt x="6684" y="5"/>
                      <a:pt x="6683" y="5"/>
                      <a:pt x="6683" y="3"/>
                    </a:cubicBezTo>
                    <a:cubicBezTo>
                      <a:pt x="6683" y="2"/>
                      <a:pt x="6684" y="1"/>
                      <a:pt x="6685" y="1"/>
                    </a:cubicBezTo>
                    <a:close/>
                    <a:moveTo>
                      <a:pt x="6693" y="1"/>
                    </a:moveTo>
                    <a:lnTo>
                      <a:pt x="6693" y="1"/>
                    </a:lnTo>
                    <a:cubicBezTo>
                      <a:pt x="6694" y="1"/>
                      <a:pt x="6695" y="2"/>
                      <a:pt x="6695" y="3"/>
                    </a:cubicBezTo>
                    <a:cubicBezTo>
                      <a:pt x="6695" y="5"/>
                      <a:pt x="6694" y="5"/>
                      <a:pt x="6693" y="5"/>
                    </a:cubicBezTo>
                    <a:lnTo>
                      <a:pt x="6693" y="5"/>
                    </a:lnTo>
                    <a:cubicBezTo>
                      <a:pt x="6692" y="5"/>
                      <a:pt x="6691" y="5"/>
                      <a:pt x="6691" y="3"/>
                    </a:cubicBezTo>
                    <a:cubicBezTo>
                      <a:pt x="6691" y="2"/>
                      <a:pt x="6692" y="1"/>
                      <a:pt x="6693" y="1"/>
                    </a:cubicBezTo>
                    <a:close/>
                    <a:moveTo>
                      <a:pt x="6701" y="1"/>
                    </a:moveTo>
                    <a:lnTo>
                      <a:pt x="6701" y="1"/>
                    </a:lnTo>
                    <a:cubicBezTo>
                      <a:pt x="6702" y="1"/>
                      <a:pt x="6703" y="2"/>
                      <a:pt x="6703" y="3"/>
                    </a:cubicBezTo>
                    <a:cubicBezTo>
                      <a:pt x="6703" y="5"/>
                      <a:pt x="6702" y="5"/>
                      <a:pt x="6701" y="5"/>
                    </a:cubicBezTo>
                    <a:lnTo>
                      <a:pt x="6701" y="5"/>
                    </a:lnTo>
                    <a:cubicBezTo>
                      <a:pt x="6700" y="5"/>
                      <a:pt x="6699" y="5"/>
                      <a:pt x="6699" y="3"/>
                    </a:cubicBezTo>
                    <a:cubicBezTo>
                      <a:pt x="6699" y="2"/>
                      <a:pt x="6700" y="1"/>
                      <a:pt x="6701" y="1"/>
                    </a:cubicBezTo>
                    <a:close/>
                    <a:moveTo>
                      <a:pt x="6709" y="1"/>
                    </a:moveTo>
                    <a:lnTo>
                      <a:pt x="6709" y="1"/>
                    </a:lnTo>
                    <a:cubicBezTo>
                      <a:pt x="6710" y="1"/>
                      <a:pt x="6711" y="2"/>
                      <a:pt x="6711" y="3"/>
                    </a:cubicBezTo>
                    <a:cubicBezTo>
                      <a:pt x="6711" y="5"/>
                      <a:pt x="6710" y="5"/>
                      <a:pt x="6709" y="5"/>
                    </a:cubicBezTo>
                    <a:lnTo>
                      <a:pt x="6709" y="5"/>
                    </a:lnTo>
                    <a:cubicBezTo>
                      <a:pt x="6708" y="5"/>
                      <a:pt x="6707" y="5"/>
                      <a:pt x="6707" y="3"/>
                    </a:cubicBezTo>
                    <a:cubicBezTo>
                      <a:pt x="6707" y="2"/>
                      <a:pt x="6708" y="1"/>
                      <a:pt x="6709" y="1"/>
                    </a:cubicBezTo>
                    <a:close/>
                    <a:moveTo>
                      <a:pt x="6717" y="1"/>
                    </a:moveTo>
                    <a:lnTo>
                      <a:pt x="6717" y="1"/>
                    </a:lnTo>
                    <a:cubicBezTo>
                      <a:pt x="6718" y="1"/>
                      <a:pt x="6719" y="2"/>
                      <a:pt x="6719" y="3"/>
                    </a:cubicBezTo>
                    <a:cubicBezTo>
                      <a:pt x="6719" y="5"/>
                      <a:pt x="6718" y="5"/>
                      <a:pt x="6717" y="5"/>
                    </a:cubicBezTo>
                    <a:lnTo>
                      <a:pt x="6717" y="5"/>
                    </a:lnTo>
                    <a:cubicBezTo>
                      <a:pt x="6716" y="5"/>
                      <a:pt x="6715" y="5"/>
                      <a:pt x="6715" y="3"/>
                    </a:cubicBezTo>
                    <a:cubicBezTo>
                      <a:pt x="6715" y="2"/>
                      <a:pt x="6716" y="1"/>
                      <a:pt x="6717" y="1"/>
                    </a:cubicBezTo>
                    <a:close/>
                    <a:moveTo>
                      <a:pt x="6725" y="1"/>
                    </a:moveTo>
                    <a:lnTo>
                      <a:pt x="6725" y="1"/>
                    </a:lnTo>
                    <a:cubicBezTo>
                      <a:pt x="6726" y="1"/>
                      <a:pt x="6727" y="2"/>
                      <a:pt x="6727" y="3"/>
                    </a:cubicBezTo>
                    <a:cubicBezTo>
                      <a:pt x="6727" y="5"/>
                      <a:pt x="6726" y="5"/>
                      <a:pt x="6725" y="5"/>
                    </a:cubicBezTo>
                    <a:lnTo>
                      <a:pt x="6725" y="5"/>
                    </a:lnTo>
                    <a:cubicBezTo>
                      <a:pt x="6724" y="5"/>
                      <a:pt x="6723" y="5"/>
                      <a:pt x="6723" y="3"/>
                    </a:cubicBezTo>
                    <a:cubicBezTo>
                      <a:pt x="6723" y="2"/>
                      <a:pt x="6724" y="1"/>
                      <a:pt x="6725" y="1"/>
                    </a:cubicBezTo>
                    <a:close/>
                    <a:moveTo>
                      <a:pt x="6733" y="1"/>
                    </a:moveTo>
                    <a:lnTo>
                      <a:pt x="6733" y="1"/>
                    </a:lnTo>
                    <a:cubicBezTo>
                      <a:pt x="6734" y="1"/>
                      <a:pt x="6735" y="2"/>
                      <a:pt x="6735" y="3"/>
                    </a:cubicBezTo>
                    <a:cubicBezTo>
                      <a:pt x="6735" y="5"/>
                      <a:pt x="6734" y="5"/>
                      <a:pt x="6733" y="5"/>
                    </a:cubicBezTo>
                    <a:lnTo>
                      <a:pt x="6733" y="5"/>
                    </a:lnTo>
                    <a:cubicBezTo>
                      <a:pt x="6732" y="5"/>
                      <a:pt x="6731" y="5"/>
                      <a:pt x="6731" y="3"/>
                    </a:cubicBezTo>
                    <a:cubicBezTo>
                      <a:pt x="6731" y="2"/>
                      <a:pt x="6732" y="1"/>
                      <a:pt x="6733" y="1"/>
                    </a:cubicBezTo>
                    <a:close/>
                    <a:moveTo>
                      <a:pt x="6741" y="1"/>
                    </a:moveTo>
                    <a:lnTo>
                      <a:pt x="6741" y="1"/>
                    </a:lnTo>
                    <a:cubicBezTo>
                      <a:pt x="6742" y="1"/>
                      <a:pt x="6743" y="2"/>
                      <a:pt x="6743" y="3"/>
                    </a:cubicBezTo>
                    <a:cubicBezTo>
                      <a:pt x="6743" y="5"/>
                      <a:pt x="6742" y="5"/>
                      <a:pt x="6741" y="5"/>
                    </a:cubicBezTo>
                    <a:lnTo>
                      <a:pt x="6741" y="5"/>
                    </a:lnTo>
                    <a:cubicBezTo>
                      <a:pt x="6740" y="5"/>
                      <a:pt x="6739" y="5"/>
                      <a:pt x="6739" y="3"/>
                    </a:cubicBezTo>
                    <a:cubicBezTo>
                      <a:pt x="6739" y="2"/>
                      <a:pt x="6740" y="1"/>
                      <a:pt x="6741" y="1"/>
                    </a:cubicBezTo>
                    <a:close/>
                    <a:moveTo>
                      <a:pt x="6749" y="1"/>
                    </a:moveTo>
                    <a:lnTo>
                      <a:pt x="6749" y="1"/>
                    </a:lnTo>
                    <a:cubicBezTo>
                      <a:pt x="6750" y="1"/>
                      <a:pt x="6751" y="2"/>
                      <a:pt x="6751" y="3"/>
                    </a:cubicBezTo>
                    <a:cubicBezTo>
                      <a:pt x="6751" y="5"/>
                      <a:pt x="6750" y="5"/>
                      <a:pt x="6749" y="5"/>
                    </a:cubicBezTo>
                    <a:lnTo>
                      <a:pt x="6749" y="5"/>
                    </a:lnTo>
                    <a:cubicBezTo>
                      <a:pt x="6748" y="5"/>
                      <a:pt x="6747" y="5"/>
                      <a:pt x="6747" y="3"/>
                    </a:cubicBezTo>
                    <a:cubicBezTo>
                      <a:pt x="6747" y="2"/>
                      <a:pt x="6748" y="1"/>
                      <a:pt x="6749" y="1"/>
                    </a:cubicBezTo>
                    <a:close/>
                    <a:moveTo>
                      <a:pt x="6757" y="1"/>
                    </a:moveTo>
                    <a:lnTo>
                      <a:pt x="6757" y="1"/>
                    </a:lnTo>
                    <a:cubicBezTo>
                      <a:pt x="6758" y="1"/>
                      <a:pt x="6759" y="2"/>
                      <a:pt x="6759" y="3"/>
                    </a:cubicBezTo>
                    <a:cubicBezTo>
                      <a:pt x="6759" y="5"/>
                      <a:pt x="6758" y="5"/>
                      <a:pt x="6757" y="5"/>
                    </a:cubicBezTo>
                    <a:lnTo>
                      <a:pt x="6757" y="5"/>
                    </a:lnTo>
                    <a:cubicBezTo>
                      <a:pt x="6756" y="5"/>
                      <a:pt x="6755" y="5"/>
                      <a:pt x="6755" y="3"/>
                    </a:cubicBezTo>
                    <a:cubicBezTo>
                      <a:pt x="6755" y="2"/>
                      <a:pt x="6756" y="1"/>
                      <a:pt x="6757" y="1"/>
                    </a:cubicBezTo>
                    <a:close/>
                    <a:moveTo>
                      <a:pt x="6765" y="1"/>
                    </a:moveTo>
                    <a:lnTo>
                      <a:pt x="6765" y="1"/>
                    </a:lnTo>
                    <a:cubicBezTo>
                      <a:pt x="6766" y="1"/>
                      <a:pt x="6767" y="2"/>
                      <a:pt x="6767" y="3"/>
                    </a:cubicBezTo>
                    <a:cubicBezTo>
                      <a:pt x="6767" y="5"/>
                      <a:pt x="6766" y="5"/>
                      <a:pt x="6765" y="5"/>
                    </a:cubicBezTo>
                    <a:lnTo>
                      <a:pt x="6765" y="5"/>
                    </a:lnTo>
                    <a:cubicBezTo>
                      <a:pt x="6764" y="5"/>
                      <a:pt x="6763" y="5"/>
                      <a:pt x="6763" y="3"/>
                    </a:cubicBezTo>
                    <a:cubicBezTo>
                      <a:pt x="6763" y="2"/>
                      <a:pt x="6764" y="1"/>
                      <a:pt x="6765" y="1"/>
                    </a:cubicBezTo>
                    <a:close/>
                    <a:moveTo>
                      <a:pt x="6773" y="1"/>
                    </a:moveTo>
                    <a:lnTo>
                      <a:pt x="6773" y="1"/>
                    </a:lnTo>
                    <a:cubicBezTo>
                      <a:pt x="6774" y="1"/>
                      <a:pt x="6775" y="2"/>
                      <a:pt x="6775" y="3"/>
                    </a:cubicBezTo>
                    <a:cubicBezTo>
                      <a:pt x="6775" y="5"/>
                      <a:pt x="6774" y="5"/>
                      <a:pt x="6773" y="5"/>
                    </a:cubicBezTo>
                    <a:lnTo>
                      <a:pt x="6773" y="5"/>
                    </a:lnTo>
                    <a:cubicBezTo>
                      <a:pt x="6772" y="5"/>
                      <a:pt x="6771" y="5"/>
                      <a:pt x="6771" y="3"/>
                    </a:cubicBezTo>
                    <a:cubicBezTo>
                      <a:pt x="6771" y="2"/>
                      <a:pt x="6772" y="1"/>
                      <a:pt x="6773" y="1"/>
                    </a:cubicBezTo>
                    <a:close/>
                    <a:moveTo>
                      <a:pt x="6781" y="1"/>
                    </a:moveTo>
                    <a:lnTo>
                      <a:pt x="6781" y="1"/>
                    </a:lnTo>
                    <a:cubicBezTo>
                      <a:pt x="6782" y="1"/>
                      <a:pt x="6783" y="2"/>
                      <a:pt x="6783" y="3"/>
                    </a:cubicBezTo>
                    <a:cubicBezTo>
                      <a:pt x="6783" y="5"/>
                      <a:pt x="6782" y="5"/>
                      <a:pt x="6781" y="5"/>
                    </a:cubicBezTo>
                    <a:lnTo>
                      <a:pt x="6781" y="5"/>
                    </a:lnTo>
                    <a:cubicBezTo>
                      <a:pt x="6780" y="5"/>
                      <a:pt x="6779" y="5"/>
                      <a:pt x="6779" y="3"/>
                    </a:cubicBezTo>
                    <a:cubicBezTo>
                      <a:pt x="6779" y="2"/>
                      <a:pt x="6780" y="1"/>
                      <a:pt x="6781" y="1"/>
                    </a:cubicBezTo>
                    <a:close/>
                    <a:moveTo>
                      <a:pt x="6789" y="1"/>
                    </a:moveTo>
                    <a:lnTo>
                      <a:pt x="6789" y="1"/>
                    </a:lnTo>
                    <a:cubicBezTo>
                      <a:pt x="6790" y="1"/>
                      <a:pt x="6791" y="2"/>
                      <a:pt x="6791" y="3"/>
                    </a:cubicBezTo>
                    <a:cubicBezTo>
                      <a:pt x="6791" y="5"/>
                      <a:pt x="6790" y="5"/>
                      <a:pt x="6789" y="5"/>
                    </a:cubicBezTo>
                    <a:lnTo>
                      <a:pt x="6789" y="5"/>
                    </a:lnTo>
                    <a:cubicBezTo>
                      <a:pt x="6788" y="5"/>
                      <a:pt x="6787" y="5"/>
                      <a:pt x="6787" y="3"/>
                    </a:cubicBezTo>
                    <a:cubicBezTo>
                      <a:pt x="6787" y="2"/>
                      <a:pt x="6788" y="1"/>
                      <a:pt x="6789" y="1"/>
                    </a:cubicBezTo>
                    <a:close/>
                    <a:moveTo>
                      <a:pt x="6797" y="1"/>
                    </a:moveTo>
                    <a:lnTo>
                      <a:pt x="6797" y="1"/>
                    </a:lnTo>
                    <a:cubicBezTo>
                      <a:pt x="6798" y="1"/>
                      <a:pt x="6799" y="2"/>
                      <a:pt x="6799" y="3"/>
                    </a:cubicBezTo>
                    <a:cubicBezTo>
                      <a:pt x="6799" y="5"/>
                      <a:pt x="6798" y="5"/>
                      <a:pt x="6797" y="5"/>
                    </a:cubicBezTo>
                    <a:lnTo>
                      <a:pt x="6797" y="5"/>
                    </a:lnTo>
                    <a:cubicBezTo>
                      <a:pt x="6796" y="5"/>
                      <a:pt x="6795" y="5"/>
                      <a:pt x="6795" y="3"/>
                    </a:cubicBezTo>
                    <a:cubicBezTo>
                      <a:pt x="6795" y="2"/>
                      <a:pt x="6796" y="1"/>
                      <a:pt x="6797" y="1"/>
                    </a:cubicBezTo>
                    <a:close/>
                    <a:moveTo>
                      <a:pt x="6805" y="1"/>
                    </a:moveTo>
                    <a:lnTo>
                      <a:pt x="6805" y="1"/>
                    </a:lnTo>
                    <a:cubicBezTo>
                      <a:pt x="6806" y="1"/>
                      <a:pt x="6807" y="2"/>
                      <a:pt x="6807" y="3"/>
                    </a:cubicBezTo>
                    <a:cubicBezTo>
                      <a:pt x="6807" y="5"/>
                      <a:pt x="6806" y="5"/>
                      <a:pt x="6805" y="5"/>
                    </a:cubicBezTo>
                    <a:lnTo>
                      <a:pt x="6805" y="5"/>
                    </a:lnTo>
                    <a:cubicBezTo>
                      <a:pt x="6804" y="5"/>
                      <a:pt x="6803" y="5"/>
                      <a:pt x="6803" y="3"/>
                    </a:cubicBezTo>
                    <a:cubicBezTo>
                      <a:pt x="6803" y="2"/>
                      <a:pt x="6804" y="1"/>
                      <a:pt x="6805" y="1"/>
                    </a:cubicBezTo>
                    <a:close/>
                    <a:moveTo>
                      <a:pt x="6813" y="1"/>
                    </a:moveTo>
                    <a:lnTo>
                      <a:pt x="6813" y="1"/>
                    </a:lnTo>
                    <a:cubicBezTo>
                      <a:pt x="6814" y="1"/>
                      <a:pt x="6815" y="2"/>
                      <a:pt x="6815" y="3"/>
                    </a:cubicBezTo>
                    <a:cubicBezTo>
                      <a:pt x="6815" y="5"/>
                      <a:pt x="6814" y="5"/>
                      <a:pt x="6813" y="5"/>
                    </a:cubicBezTo>
                    <a:lnTo>
                      <a:pt x="6813" y="5"/>
                    </a:lnTo>
                    <a:cubicBezTo>
                      <a:pt x="6812" y="5"/>
                      <a:pt x="6811" y="5"/>
                      <a:pt x="6811" y="3"/>
                    </a:cubicBezTo>
                    <a:cubicBezTo>
                      <a:pt x="6811" y="2"/>
                      <a:pt x="6812" y="1"/>
                      <a:pt x="6813" y="1"/>
                    </a:cubicBezTo>
                    <a:close/>
                    <a:moveTo>
                      <a:pt x="6821" y="1"/>
                    </a:moveTo>
                    <a:lnTo>
                      <a:pt x="6821" y="1"/>
                    </a:lnTo>
                    <a:cubicBezTo>
                      <a:pt x="6822" y="1"/>
                      <a:pt x="6823" y="2"/>
                      <a:pt x="6823" y="3"/>
                    </a:cubicBezTo>
                    <a:cubicBezTo>
                      <a:pt x="6823" y="5"/>
                      <a:pt x="6822" y="5"/>
                      <a:pt x="6821" y="5"/>
                    </a:cubicBezTo>
                    <a:lnTo>
                      <a:pt x="6821" y="5"/>
                    </a:lnTo>
                    <a:cubicBezTo>
                      <a:pt x="6820" y="5"/>
                      <a:pt x="6819" y="5"/>
                      <a:pt x="6819" y="3"/>
                    </a:cubicBezTo>
                    <a:cubicBezTo>
                      <a:pt x="6819" y="2"/>
                      <a:pt x="6820" y="1"/>
                      <a:pt x="6821" y="1"/>
                    </a:cubicBezTo>
                    <a:close/>
                    <a:moveTo>
                      <a:pt x="6829" y="1"/>
                    </a:moveTo>
                    <a:lnTo>
                      <a:pt x="6829" y="1"/>
                    </a:lnTo>
                    <a:cubicBezTo>
                      <a:pt x="6830" y="1"/>
                      <a:pt x="6831" y="2"/>
                      <a:pt x="6831" y="3"/>
                    </a:cubicBezTo>
                    <a:cubicBezTo>
                      <a:pt x="6831" y="5"/>
                      <a:pt x="6830" y="5"/>
                      <a:pt x="6829" y="5"/>
                    </a:cubicBezTo>
                    <a:lnTo>
                      <a:pt x="6829" y="5"/>
                    </a:lnTo>
                    <a:cubicBezTo>
                      <a:pt x="6828" y="5"/>
                      <a:pt x="6827" y="5"/>
                      <a:pt x="6827" y="3"/>
                    </a:cubicBezTo>
                    <a:cubicBezTo>
                      <a:pt x="6827" y="2"/>
                      <a:pt x="6828" y="1"/>
                      <a:pt x="6829" y="1"/>
                    </a:cubicBezTo>
                    <a:close/>
                    <a:moveTo>
                      <a:pt x="6837" y="1"/>
                    </a:moveTo>
                    <a:lnTo>
                      <a:pt x="6837" y="1"/>
                    </a:lnTo>
                    <a:cubicBezTo>
                      <a:pt x="6838" y="1"/>
                      <a:pt x="6839" y="2"/>
                      <a:pt x="6839" y="3"/>
                    </a:cubicBezTo>
                    <a:cubicBezTo>
                      <a:pt x="6839" y="5"/>
                      <a:pt x="6838" y="5"/>
                      <a:pt x="6837" y="5"/>
                    </a:cubicBezTo>
                    <a:lnTo>
                      <a:pt x="6837" y="5"/>
                    </a:lnTo>
                    <a:cubicBezTo>
                      <a:pt x="6836" y="5"/>
                      <a:pt x="6835" y="5"/>
                      <a:pt x="6835" y="3"/>
                    </a:cubicBezTo>
                    <a:cubicBezTo>
                      <a:pt x="6835" y="2"/>
                      <a:pt x="6836" y="1"/>
                      <a:pt x="6837" y="1"/>
                    </a:cubicBezTo>
                    <a:close/>
                    <a:moveTo>
                      <a:pt x="6845" y="1"/>
                    </a:moveTo>
                    <a:lnTo>
                      <a:pt x="6845" y="1"/>
                    </a:lnTo>
                    <a:cubicBezTo>
                      <a:pt x="6846" y="1"/>
                      <a:pt x="6847" y="2"/>
                      <a:pt x="6847" y="3"/>
                    </a:cubicBezTo>
                    <a:cubicBezTo>
                      <a:pt x="6847" y="5"/>
                      <a:pt x="6846" y="5"/>
                      <a:pt x="6845" y="5"/>
                    </a:cubicBezTo>
                    <a:lnTo>
                      <a:pt x="6845" y="5"/>
                    </a:lnTo>
                    <a:cubicBezTo>
                      <a:pt x="6844" y="5"/>
                      <a:pt x="6843" y="5"/>
                      <a:pt x="6843" y="3"/>
                    </a:cubicBezTo>
                    <a:cubicBezTo>
                      <a:pt x="6843" y="2"/>
                      <a:pt x="6844" y="1"/>
                      <a:pt x="6845" y="1"/>
                    </a:cubicBezTo>
                    <a:close/>
                    <a:moveTo>
                      <a:pt x="6853" y="1"/>
                    </a:moveTo>
                    <a:lnTo>
                      <a:pt x="6853" y="1"/>
                    </a:lnTo>
                    <a:cubicBezTo>
                      <a:pt x="6854" y="1"/>
                      <a:pt x="6855" y="2"/>
                      <a:pt x="6855" y="3"/>
                    </a:cubicBezTo>
                    <a:cubicBezTo>
                      <a:pt x="6855" y="5"/>
                      <a:pt x="6854" y="5"/>
                      <a:pt x="6853" y="5"/>
                    </a:cubicBezTo>
                    <a:lnTo>
                      <a:pt x="6853" y="5"/>
                    </a:lnTo>
                    <a:cubicBezTo>
                      <a:pt x="6852" y="5"/>
                      <a:pt x="6851" y="5"/>
                      <a:pt x="6851" y="3"/>
                    </a:cubicBezTo>
                    <a:cubicBezTo>
                      <a:pt x="6851" y="2"/>
                      <a:pt x="6852" y="1"/>
                      <a:pt x="6853" y="1"/>
                    </a:cubicBezTo>
                    <a:close/>
                    <a:moveTo>
                      <a:pt x="6861" y="1"/>
                    </a:moveTo>
                    <a:lnTo>
                      <a:pt x="6861" y="1"/>
                    </a:lnTo>
                    <a:cubicBezTo>
                      <a:pt x="6862" y="1"/>
                      <a:pt x="6863" y="2"/>
                      <a:pt x="6863" y="3"/>
                    </a:cubicBezTo>
                    <a:cubicBezTo>
                      <a:pt x="6863" y="5"/>
                      <a:pt x="6862" y="5"/>
                      <a:pt x="6861" y="5"/>
                    </a:cubicBezTo>
                    <a:lnTo>
                      <a:pt x="6861" y="5"/>
                    </a:lnTo>
                    <a:cubicBezTo>
                      <a:pt x="6860" y="5"/>
                      <a:pt x="6859" y="5"/>
                      <a:pt x="6859" y="3"/>
                    </a:cubicBezTo>
                    <a:cubicBezTo>
                      <a:pt x="6859" y="2"/>
                      <a:pt x="6860" y="1"/>
                      <a:pt x="6861" y="1"/>
                    </a:cubicBezTo>
                    <a:close/>
                    <a:moveTo>
                      <a:pt x="6869" y="1"/>
                    </a:moveTo>
                    <a:lnTo>
                      <a:pt x="6869" y="1"/>
                    </a:lnTo>
                    <a:cubicBezTo>
                      <a:pt x="6870" y="1"/>
                      <a:pt x="6871" y="2"/>
                      <a:pt x="6871" y="3"/>
                    </a:cubicBezTo>
                    <a:cubicBezTo>
                      <a:pt x="6871" y="5"/>
                      <a:pt x="6870" y="5"/>
                      <a:pt x="6869" y="5"/>
                    </a:cubicBezTo>
                    <a:lnTo>
                      <a:pt x="6869" y="5"/>
                    </a:lnTo>
                    <a:cubicBezTo>
                      <a:pt x="6868" y="5"/>
                      <a:pt x="6867" y="5"/>
                      <a:pt x="6867" y="3"/>
                    </a:cubicBezTo>
                    <a:cubicBezTo>
                      <a:pt x="6867" y="2"/>
                      <a:pt x="6868" y="1"/>
                      <a:pt x="6869" y="1"/>
                    </a:cubicBezTo>
                    <a:close/>
                    <a:moveTo>
                      <a:pt x="6877" y="1"/>
                    </a:moveTo>
                    <a:lnTo>
                      <a:pt x="6877" y="1"/>
                    </a:lnTo>
                    <a:cubicBezTo>
                      <a:pt x="6878" y="1"/>
                      <a:pt x="6879" y="2"/>
                      <a:pt x="6879" y="3"/>
                    </a:cubicBezTo>
                    <a:cubicBezTo>
                      <a:pt x="6879" y="5"/>
                      <a:pt x="6878" y="5"/>
                      <a:pt x="6877" y="5"/>
                    </a:cubicBezTo>
                    <a:lnTo>
                      <a:pt x="6877" y="5"/>
                    </a:lnTo>
                    <a:cubicBezTo>
                      <a:pt x="6876" y="5"/>
                      <a:pt x="6875" y="5"/>
                      <a:pt x="6875" y="3"/>
                    </a:cubicBezTo>
                    <a:cubicBezTo>
                      <a:pt x="6875" y="2"/>
                      <a:pt x="6876" y="1"/>
                      <a:pt x="6877" y="1"/>
                    </a:cubicBezTo>
                    <a:close/>
                    <a:moveTo>
                      <a:pt x="6885" y="1"/>
                    </a:moveTo>
                    <a:lnTo>
                      <a:pt x="6885" y="1"/>
                    </a:lnTo>
                    <a:cubicBezTo>
                      <a:pt x="6886" y="1"/>
                      <a:pt x="6887" y="2"/>
                      <a:pt x="6887" y="3"/>
                    </a:cubicBezTo>
                    <a:cubicBezTo>
                      <a:pt x="6887" y="5"/>
                      <a:pt x="6886" y="5"/>
                      <a:pt x="6885" y="5"/>
                    </a:cubicBezTo>
                    <a:lnTo>
                      <a:pt x="6885" y="5"/>
                    </a:lnTo>
                    <a:cubicBezTo>
                      <a:pt x="6884" y="5"/>
                      <a:pt x="6883" y="5"/>
                      <a:pt x="6883" y="3"/>
                    </a:cubicBezTo>
                    <a:cubicBezTo>
                      <a:pt x="6883" y="2"/>
                      <a:pt x="6884" y="1"/>
                      <a:pt x="6885" y="1"/>
                    </a:cubicBezTo>
                    <a:close/>
                    <a:moveTo>
                      <a:pt x="6893" y="1"/>
                    </a:moveTo>
                    <a:lnTo>
                      <a:pt x="6893" y="1"/>
                    </a:lnTo>
                    <a:cubicBezTo>
                      <a:pt x="6894" y="1"/>
                      <a:pt x="6895" y="2"/>
                      <a:pt x="6895" y="3"/>
                    </a:cubicBezTo>
                    <a:cubicBezTo>
                      <a:pt x="6895" y="5"/>
                      <a:pt x="6894" y="5"/>
                      <a:pt x="6893" y="5"/>
                    </a:cubicBezTo>
                    <a:lnTo>
                      <a:pt x="6893" y="5"/>
                    </a:lnTo>
                    <a:cubicBezTo>
                      <a:pt x="6892" y="5"/>
                      <a:pt x="6891" y="5"/>
                      <a:pt x="6891" y="3"/>
                    </a:cubicBezTo>
                    <a:cubicBezTo>
                      <a:pt x="6891" y="2"/>
                      <a:pt x="6892" y="1"/>
                      <a:pt x="6893" y="1"/>
                    </a:cubicBezTo>
                    <a:close/>
                    <a:moveTo>
                      <a:pt x="6901" y="1"/>
                    </a:moveTo>
                    <a:lnTo>
                      <a:pt x="6901" y="1"/>
                    </a:lnTo>
                    <a:cubicBezTo>
                      <a:pt x="6902" y="1"/>
                      <a:pt x="6903" y="2"/>
                      <a:pt x="6903" y="3"/>
                    </a:cubicBezTo>
                    <a:cubicBezTo>
                      <a:pt x="6903" y="5"/>
                      <a:pt x="6902" y="5"/>
                      <a:pt x="6901" y="5"/>
                    </a:cubicBezTo>
                    <a:lnTo>
                      <a:pt x="6901" y="5"/>
                    </a:lnTo>
                    <a:cubicBezTo>
                      <a:pt x="6900" y="5"/>
                      <a:pt x="6899" y="5"/>
                      <a:pt x="6899" y="3"/>
                    </a:cubicBezTo>
                    <a:cubicBezTo>
                      <a:pt x="6899" y="2"/>
                      <a:pt x="6900" y="1"/>
                      <a:pt x="6901" y="1"/>
                    </a:cubicBezTo>
                    <a:close/>
                    <a:moveTo>
                      <a:pt x="6909" y="1"/>
                    </a:moveTo>
                    <a:lnTo>
                      <a:pt x="6909" y="1"/>
                    </a:lnTo>
                    <a:cubicBezTo>
                      <a:pt x="6910" y="1"/>
                      <a:pt x="6911" y="2"/>
                      <a:pt x="6911" y="3"/>
                    </a:cubicBezTo>
                    <a:cubicBezTo>
                      <a:pt x="6911" y="5"/>
                      <a:pt x="6910" y="5"/>
                      <a:pt x="6909" y="5"/>
                    </a:cubicBezTo>
                    <a:lnTo>
                      <a:pt x="6909" y="5"/>
                    </a:lnTo>
                    <a:cubicBezTo>
                      <a:pt x="6908" y="5"/>
                      <a:pt x="6907" y="5"/>
                      <a:pt x="6907" y="3"/>
                    </a:cubicBezTo>
                    <a:cubicBezTo>
                      <a:pt x="6907" y="2"/>
                      <a:pt x="6908" y="1"/>
                      <a:pt x="6909" y="1"/>
                    </a:cubicBezTo>
                    <a:close/>
                    <a:moveTo>
                      <a:pt x="6917" y="1"/>
                    </a:moveTo>
                    <a:lnTo>
                      <a:pt x="6917" y="1"/>
                    </a:lnTo>
                    <a:cubicBezTo>
                      <a:pt x="6918" y="1"/>
                      <a:pt x="6919" y="2"/>
                      <a:pt x="6919" y="3"/>
                    </a:cubicBezTo>
                    <a:cubicBezTo>
                      <a:pt x="6919" y="5"/>
                      <a:pt x="6918" y="5"/>
                      <a:pt x="6917" y="5"/>
                    </a:cubicBezTo>
                    <a:lnTo>
                      <a:pt x="6917" y="5"/>
                    </a:lnTo>
                    <a:cubicBezTo>
                      <a:pt x="6916" y="5"/>
                      <a:pt x="6915" y="5"/>
                      <a:pt x="6915" y="3"/>
                    </a:cubicBezTo>
                    <a:cubicBezTo>
                      <a:pt x="6915" y="2"/>
                      <a:pt x="6916" y="1"/>
                      <a:pt x="6917" y="1"/>
                    </a:cubicBezTo>
                    <a:close/>
                    <a:moveTo>
                      <a:pt x="6925" y="1"/>
                    </a:moveTo>
                    <a:lnTo>
                      <a:pt x="6925" y="1"/>
                    </a:lnTo>
                    <a:cubicBezTo>
                      <a:pt x="6926" y="1"/>
                      <a:pt x="6927" y="2"/>
                      <a:pt x="6927" y="3"/>
                    </a:cubicBezTo>
                    <a:cubicBezTo>
                      <a:pt x="6927" y="5"/>
                      <a:pt x="6926" y="5"/>
                      <a:pt x="6925" y="5"/>
                    </a:cubicBezTo>
                    <a:lnTo>
                      <a:pt x="6925" y="5"/>
                    </a:lnTo>
                    <a:cubicBezTo>
                      <a:pt x="6924" y="5"/>
                      <a:pt x="6923" y="5"/>
                      <a:pt x="6923" y="3"/>
                    </a:cubicBezTo>
                    <a:cubicBezTo>
                      <a:pt x="6923" y="2"/>
                      <a:pt x="6924" y="1"/>
                      <a:pt x="6925" y="1"/>
                    </a:cubicBezTo>
                    <a:close/>
                    <a:moveTo>
                      <a:pt x="6933" y="1"/>
                    </a:moveTo>
                    <a:lnTo>
                      <a:pt x="6933" y="1"/>
                    </a:lnTo>
                    <a:cubicBezTo>
                      <a:pt x="6934" y="1"/>
                      <a:pt x="6935" y="2"/>
                      <a:pt x="6935" y="3"/>
                    </a:cubicBezTo>
                    <a:cubicBezTo>
                      <a:pt x="6935" y="5"/>
                      <a:pt x="6934" y="5"/>
                      <a:pt x="6933" y="5"/>
                    </a:cubicBezTo>
                    <a:lnTo>
                      <a:pt x="6933" y="5"/>
                    </a:lnTo>
                    <a:cubicBezTo>
                      <a:pt x="6932" y="5"/>
                      <a:pt x="6931" y="5"/>
                      <a:pt x="6931" y="3"/>
                    </a:cubicBezTo>
                    <a:cubicBezTo>
                      <a:pt x="6931" y="2"/>
                      <a:pt x="6932" y="1"/>
                      <a:pt x="6933" y="1"/>
                    </a:cubicBezTo>
                    <a:close/>
                    <a:moveTo>
                      <a:pt x="6941" y="1"/>
                    </a:moveTo>
                    <a:lnTo>
                      <a:pt x="6941" y="1"/>
                    </a:lnTo>
                    <a:cubicBezTo>
                      <a:pt x="6942" y="1"/>
                      <a:pt x="6943" y="2"/>
                      <a:pt x="6943" y="3"/>
                    </a:cubicBezTo>
                    <a:cubicBezTo>
                      <a:pt x="6943" y="5"/>
                      <a:pt x="6942" y="5"/>
                      <a:pt x="6941" y="5"/>
                    </a:cubicBezTo>
                    <a:lnTo>
                      <a:pt x="6941" y="5"/>
                    </a:lnTo>
                    <a:cubicBezTo>
                      <a:pt x="6940" y="5"/>
                      <a:pt x="6939" y="5"/>
                      <a:pt x="6939" y="3"/>
                    </a:cubicBezTo>
                    <a:cubicBezTo>
                      <a:pt x="6939" y="2"/>
                      <a:pt x="6940" y="1"/>
                      <a:pt x="6941" y="1"/>
                    </a:cubicBezTo>
                    <a:close/>
                    <a:moveTo>
                      <a:pt x="6949" y="1"/>
                    </a:moveTo>
                    <a:lnTo>
                      <a:pt x="6949" y="1"/>
                    </a:lnTo>
                    <a:cubicBezTo>
                      <a:pt x="6950" y="1"/>
                      <a:pt x="6951" y="2"/>
                      <a:pt x="6951" y="3"/>
                    </a:cubicBezTo>
                    <a:cubicBezTo>
                      <a:pt x="6951" y="5"/>
                      <a:pt x="6950" y="5"/>
                      <a:pt x="6949" y="5"/>
                    </a:cubicBezTo>
                    <a:lnTo>
                      <a:pt x="6949" y="5"/>
                    </a:lnTo>
                    <a:cubicBezTo>
                      <a:pt x="6948" y="5"/>
                      <a:pt x="6947" y="5"/>
                      <a:pt x="6947" y="3"/>
                    </a:cubicBezTo>
                    <a:cubicBezTo>
                      <a:pt x="6947" y="2"/>
                      <a:pt x="6948" y="1"/>
                      <a:pt x="6949" y="1"/>
                    </a:cubicBezTo>
                    <a:close/>
                    <a:moveTo>
                      <a:pt x="6957" y="1"/>
                    </a:moveTo>
                    <a:lnTo>
                      <a:pt x="6957" y="1"/>
                    </a:lnTo>
                    <a:cubicBezTo>
                      <a:pt x="6958" y="1"/>
                      <a:pt x="6959" y="2"/>
                      <a:pt x="6959" y="3"/>
                    </a:cubicBezTo>
                    <a:cubicBezTo>
                      <a:pt x="6959" y="5"/>
                      <a:pt x="6958" y="5"/>
                      <a:pt x="6957" y="5"/>
                    </a:cubicBezTo>
                    <a:lnTo>
                      <a:pt x="6957" y="5"/>
                    </a:lnTo>
                    <a:cubicBezTo>
                      <a:pt x="6956" y="5"/>
                      <a:pt x="6955" y="5"/>
                      <a:pt x="6955" y="3"/>
                    </a:cubicBezTo>
                    <a:cubicBezTo>
                      <a:pt x="6955" y="2"/>
                      <a:pt x="6956" y="1"/>
                      <a:pt x="6957" y="1"/>
                    </a:cubicBezTo>
                    <a:close/>
                    <a:moveTo>
                      <a:pt x="6965" y="1"/>
                    </a:moveTo>
                    <a:lnTo>
                      <a:pt x="6965" y="1"/>
                    </a:lnTo>
                    <a:cubicBezTo>
                      <a:pt x="6966" y="1"/>
                      <a:pt x="6967" y="2"/>
                      <a:pt x="6967" y="3"/>
                    </a:cubicBezTo>
                    <a:cubicBezTo>
                      <a:pt x="6967" y="5"/>
                      <a:pt x="6966" y="5"/>
                      <a:pt x="6965" y="5"/>
                    </a:cubicBezTo>
                    <a:lnTo>
                      <a:pt x="6965" y="5"/>
                    </a:lnTo>
                    <a:cubicBezTo>
                      <a:pt x="6964" y="5"/>
                      <a:pt x="6963" y="5"/>
                      <a:pt x="6963" y="3"/>
                    </a:cubicBezTo>
                    <a:cubicBezTo>
                      <a:pt x="6963" y="2"/>
                      <a:pt x="6964" y="1"/>
                      <a:pt x="6965" y="1"/>
                    </a:cubicBezTo>
                    <a:close/>
                    <a:moveTo>
                      <a:pt x="6973" y="1"/>
                    </a:moveTo>
                    <a:lnTo>
                      <a:pt x="6973" y="1"/>
                    </a:lnTo>
                    <a:cubicBezTo>
                      <a:pt x="6974" y="1"/>
                      <a:pt x="6975" y="2"/>
                      <a:pt x="6975" y="3"/>
                    </a:cubicBezTo>
                    <a:cubicBezTo>
                      <a:pt x="6975" y="5"/>
                      <a:pt x="6974" y="5"/>
                      <a:pt x="6973" y="5"/>
                    </a:cubicBezTo>
                    <a:lnTo>
                      <a:pt x="6973" y="5"/>
                    </a:lnTo>
                    <a:cubicBezTo>
                      <a:pt x="6972" y="5"/>
                      <a:pt x="6971" y="5"/>
                      <a:pt x="6971" y="3"/>
                    </a:cubicBezTo>
                    <a:cubicBezTo>
                      <a:pt x="6971" y="2"/>
                      <a:pt x="6972" y="1"/>
                      <a:pt x="6973" y="1"/>
                    </a:cubicBezTo>
                    <a:close/>
                    <a:moveTo>
                      <a:pt x="6981" y="1"/>
                    </a:moveTo>
                    <a:lnTo>
                      <a:pt x="6981" y="1"/>
                    </a:lnTo>
                    <a:cubicBezTo>
                      <a:pt x="6982" y="1"/>
                      <a:pt x="6983" y="2"/>
                      <a:pt x="6983" y="3"/>
                    </a:cubicBezTo>
                    <a:cubicBezTo>
                      <a:pt x="6983" y="5"/>
                      <a:pt x="6982" y="5"/>
                      <a:pt x="6981" y="5"/>
                    </a:cubicBezTo>
                    <a:lnTo>
                      <a:pt x="6981" y="5"/>
                    </a:lnTo>
                    <a:cubicBezTo>
                      <a:pt x="6980" y="5"/>
                      <a:pt x="6979" y="5"/>
                      <a:pt x="6979" y="3"/>
                    </a:cubicBezTo>
                    <a:cubicBezTo>
                      <a:pt x="6979" y="2"/>
                      <a:pt x="6980" y="1"/>
                      <a:pt x="6981" y="1"/>
                    </a:cubicBezTo>
                    <a:close/>
                    <a:moveTo>
                      <a:pt x="6989" y="1"/>
                    </a:moveTo>
                    <a:lnTo>
                      <a:pt x="6989" y="1"/>
                    </a:lnTo>
                    <a:cubicBezTo>
                      <a:pt x="6990" y="1"/>
                      <a:pt x="6991" y="2"/>
                      <a:pt x="6991" y="3"/>
                    </a:cubicBezTo>
                    <a:cubicBezTo>
                      <a:pt x="6991" y="5"/>
                      <a:pt x="6990" y="5"/>
                      <a:pt x="6989" y="5"/>
                    </a:cubicBezTo>
                    <a:lnTo>
                      <a:pt x="6989" y="5"/>
                    </a:lnTo>
                    <a:cubicBezTo>
                      <a:pt x="6988" y="5"/>
                      <a:pt x="6987" y="5"/>
                      <a:pt x="6987" y="3"/>
                    </a:cubicBezTo>
                    <a:cubicBezTo>
                      <a:pt x="6987" y="2"/>
                      <a:pt x="6988" y="1"/>
                      <a:pt x="6989" y="1"/>
                    </a:cubicBezTo>
                    <a:close/>
                    <a:moveTo>
                      <a:pt x="6997" y="1"/>
                    </a:moveTo>
                    <a:lnTo>
                      <a:pt x="6997" y="1"/>
                    </a:lnTo>
                    <a:cubicBezTo>
                      <a:pt x="6998" y="1"/>
                      <a:pt x="6999" y="2"/>
                      <a:pt x="6999" y="3"/>
                    </a:cubicBezTo>
                    <a:cubicBezTo>
                      <a:pt x="6999" y="5"/>
                      <a:pt x="6998" y="5"/>
                      <a:pt x="6997" y="5"/>
                    </a:cubicBezTo>
                    <a:lnTo>
                      <a:pt x="6997" y="5"/>
                    </a:lnTo>
                    <a:cubicBezTo>
                      <a:pt x="6996" y="5"/>
                      <a:pt x="6995" y="5"/>
                      <a:pt x="6995" y="3"/>
                    </a:cubicBezTo>
                    <a:cubicBezTo>
                      <a:pt x="6995" y="2"/>
                      <a:pt x="6996" y="1"/>
                      <a:pt x="6997" y="1"/>
                    </a:cubicBezTo>
                    <a:close/>
                    <a:moveTo>
                      <a:pt x="7005" y="1"/>
                    </a:moveTo>
                    <a:lnTo>
                      <a:pt x="7005" y="1"/>
                    </a:lnTo>
                    <a:cubicBezTo>
                      <a:pt x="7006" y="1"/>
                      <a:pt x="7007" y="2"/>
                      <a:pt x="7007" y="3"/>
                    </a:cubicBezTo>
                    <a:cubicBezTo>
                      <a:pt x="7007" y="5"/>
                      <a:pt x="7006" y="5"/>
                      <a:pt x="7005" y="5"/>
                    </a:cubicBezTo>
                    <a:lnTo>
                      <a:pt x="7005" y="5"/>
                    </a:lnTo>
                    <a:cubicBezTo>
                      <a:pt x="7004" y="5"/>
                      <a:pt x="7003" y="5"/>
                      <a:pt x="7003" y="3"/>
                    </a:cubicBezTo>
                    <a:cubicBezTo>
                      <a:pt x="7003" y="2"/>
                      <a:pt x="7004" y="1"/>
                      <a:pt x="7005" y="1"/>
                    </a:cubicBezTo>
                    <a:close/>
                    <a:moveTo>
                      <a:pt x="7013" y="1"/>
                    </a:moveTo>
                    <a:lnTo>
                      <a:pt x="7013" y="1"/>
                    </a:lnTo>
                    <a:cubicBezTo>
                      <a:pt x="7014" y="1"/>
                      <a:pt x="7015" y="2"/>
                      <a:pt x="7015" y="3"/>
                    </a:cubicBezTo>
                    <a:cubicBezTo>
                      <a:pt x="7015" y="5"/>
                      <a:pt x="7014" y="5"/>
                      <a:pt x="7013" y="5"/>
                    </a:cubicBezTo>
                    <a:lnTo>
                      <a:pt x="7013" y="5"/>
                    </a:lnTo>
                    <a:cubicBezTo>
                      <a:pt x="7012" y="5"/>
                      <a:pt x="7011" y="5"/>
                      <a:pt x="7011" y="3"/>
                    </a:cubicBezTo>
                    <a:cubicBezTo>
                      <a:pt x="7011" y="2"/>
                      <a:pt x="7012" y="1"/>
                      <a:pt x="7013" y="1"/>
                    </a:cubicBezTo>
                    <a:close/>
                    <a:moveTo>
                      <a:pt x="7021" y="1"/>
                    </a:moveTo>
                    <a:lnTo>
                      <a:pt x="7021" y="1"/>
                    </a:lnTo>
                    <a:cubicBezTo>
                      <a:pt x="7022" y="1"/>
                      <a:pt x="7023" y="2"/>
                      <a:pt x="7023" y="3"/>
                    </a:cubicBezTo>
                    <a:cubicBezTo>
                      <a:pt x="7023" y="5"/>
                      <a:pt x="7022" y="5"/>
                      <a:pt x="7021" y="5"/>
                    </a:cubicBezTo>
                    <a:lnTo>
                      <a:pt x="7021" y="5"/>
                    </a:lnTo>
                    <a:cubicBezTo>
                      <a:pt x="7020" y="5"/>
                      <a:pt x="7019" y="5"/>
                      <a:pt x="7019" y="3"/>
                    </a:cubicBezTo>
                    <a:cubicBezTo>
                      <a:pt x="7019" y="2"/>
                      <a:pt x="7020" y="1"/>
                      <a:pt x="7021" y="1"/>
                    </a:cubicBezTo>
                    <a:close/>
                    <a:moveTo>
                      <a:pt x="7029" y="1"/>
                    </a:moveTo>
                    <a:lnTo>
                      <a:pt x="7029" y="1"/>
                    </a:lnTo>
                    <a:cubicBezTo>
                      <a:pt x="7030" y="1"/>
                      <a:pt x="7031" y="2"/>
                      <a:pt x="7031" y="3"/>
                    </a:cubicBezTo>
                    <a:cubicBezTo>
                      <a:pt x="7031" y="5"/>
                      <a:pt x="7030" y="5"/>
                      <a:pt x="7029" y="5"/>
                    </a:cubicBezTo>
                    <a:lnTo>
                      <a:pt x="7029" y="5"/>
                    </a:lnTo>
                    <a:cubicBezTo>
                      <a:pt x="7028" y="5"/>
                      <a:pt x="7027" y="5"/>
                      <a:pt x="7027" y="3"/>
                    </a:cubicBezTo>
                    <a:cubicBezTo>
                      <a:pt x="7027" y="2"/>
                      <a:pt x="7028" y="1"/>
                      <a:pt x="7029" y="1"/>
                    </a:cubicBezTo>
                    <a:close/>
                    <a:moveTo>
                      <a:pt x="7037" y="1"/>
                    </a:moveTo>
                    <a:lnTo>
                      <a:pt x="7037" y="1"/>
                    </a:lnTo>
                    <a:cubicBezTo>
                      <a:pt x="7038" y="1"/>
                      <a:pt x="7039" y="2"/>
                      <a:pt x="7039" y="4"/>
                    </a:cubicBezTo>
                    <a:cubicBezTo>
                      <a:pt x="7039" y="5"/>
                      <a:pt x="7038" y="6"/>
                      <a:pt x="7037" y="6"/>
                    </a:cubicBezTo>
                    <a:lnTo>
                      <a:pt x="7037" y="6"/>
                    </a:lnTo>
                    <a:cubicBezTo>
                      <a:pt x="7036" y="6"/>
                      <a:pt x="7035" y="5"/>
                      <a:pt x="7035" y="4"/>
                    </a:cubicBezTo>
                    <a:cubicBezTo>
                      <a:pt x="7035" y="2"/>
                      <a:pt x="7036" y="1"/>
                      <a:pt x="7037" y="1"/>
                    </a:cubicBezTo>
                    <a:close/>
                    <a:moveTo>
                      <a:pt x="7045" y="2"/>
                    </a:moveTo>
                    <a:lnTo>
                      <a:pt x="7045" y="2"/>
                    </a:lnTo>
                    <a:cubicBezTo>
                      <a:pt x="7046" y="2"/>
                      <a:pt x="7047" y="2"/>
                      <a:pt x="7047" y="4"/>
                    </a:cubicBezTo>
                    <a:cubicBezTo>
                      <a:pt x="7047" y="5"/>
                      <a:pt x="7046" y="6"/>
                      <a:pt x="7045" y="6"/>
                    </a:cubicBezTo>
                    <a:lnTo>
                      <a:pt x="7045" y="6"/>
                    </a:lnTo>
                    <a:cubicBezTo>
                      <a:pt x="7044" y="6"/>
                      <a:pt x="7043" y="5"/>
                      <a:pt x="7043" y="4"/>
                    </a:cubicBezTo>
                    <a:cubicBezTo>
                      <a:pt x="7043" y="2"/>
                      <a:pt x="7044" y="2"/>
                      <a:pt x="7045" y="2"/>
                    </a:cubicBezTo>
                    <a:close/>
                    <a:moveTo>
                      <a:pt x="7053" y="2"/>
                    </a:moveTo>
                    <a:lnTo>
                      <a:pt x="7053" y="2"/>
                    </a:lnTo>
                    <a:cubicBezTo>
                      <a:pt x="7054" y="2"/>
                      <a:pt x="7055" y="2"/>
                      <a:pt x="7055" y="4"/>
                    </a:cubicBezTo>
                    <a:cubicBezTo>
                      <a:pt x="7055" y="5"/>
                      <a:pt x="7054" y="6"/>
                      <a:pt x="7053" y="6"/>
                    </a:cubicBezTo>
                    <a:lnTo>
                      <a:pt x="7053" y="6"/>
                    </a:lnTo>
                    <a:cubicBezTo>
                      <a:pt x="7052" y="6"/>
                      <a:pt x="7051" y="5"/>
                      <a:pt x="7051" y="4"/>
                    </a:cubicBezTo>
                    <a:cubicBezTo>
                      <a:pt x="7051" y="2"/>
                      <a:pt x="7052" y="2"/>
                      <a:pt x="7053" y="2"/>
                    </a:cubicBezTo>
                    <a:close/>
                    <a:moveTo>
                      <a:pt x="7061" y="2"/>
                    </a:moveTo>
                    <a:lnTo>
                      <a:pt x="7061" y="2"/>
                    </a:lnTo>
                    <a:cubicBezTo>
                      <a:pt x="7062" y="2"/>
                      <a:pt x="7063" y="2"/>
                      <a:pt x="7063" y="4"/>
                    </a:cubicBezTo>
                    <a:cubicBezTo>
                      <a:pt x="7063" y="5"/>
                      <a:pt x="7062" y="6"/>
                      <a:pt x="7061" y="6"/>
                    </a:cubicBezTo>
                    <a:lnTo>
                      <a:pt x="7061" y="6"/>
                    </a:lnTo>
                    <a:cubicBezTo>
                      <a:pt x="7060" y="6"/>
                      <a:pt x="7059" y="5"/>
                      <a:pt x="7059" y="4"/>
                    </a:cubicBezTo>
                    <a:cubicBezTo>
                      <a:pt x="7059" y="2"/>
                      <a:pt x="7060" y="2"/>
                      <a:pt x="7061" y="2"/>
                    </a:cubicBezTo>
                    <a:close/>
                    <a:moveTo>
                      <a:pt x="7069" y="2"/>
                    </a:moveTo>
                    <a:lnTo>
                      <a:pt x="7069" y="2"/>
                    </a:lnTo>
                    <a:cubicBezTo>
                      <a:pt x="7070" y="2"/>
                      <a:pt x="7071" y="2"/>
                      <a:pt x="7071" y="4"/>
                    </a:cubicBezTo>
                    <a:cubicBezTo>
                      <a:pt x="7071" y="5"/>
                      <a:pt x="7070" y="6"/>
                      <a:pt x="7069" y="6"/>
                    </a:cubicBezTo>
                    <a:lnTo>
                      <a:pt x="7069" y="6"/>
                    </a:lnTo>
                    <a:cubicBezTo>
                      <a:pt x="7068" y="6"/>
                      <a:pt x="7067" y="5"/>
                      <a:pt x="7067" y="4"/>
                    </a:cubicBezTo>
                    <a:cubicBezTo>
                      <a:pt x="7067" y="2"/>
                      <a:pt x="7068" y="2"/>
                      <a:pt x="7069" y="2"/>
                    </a:cubicBezTo>
                    <a:close/>
                    <a:moveTo>
                      <a:pt x="7077" y="2"/>
                    </a:moveTo>
                    <a:lnTo>
                      <a:pt x="7077" y="2"/>
                    </a:lnTo>
                    <a:cubicBezTo>
                      <a:pt x="7078" y="2"/>
                      <a:pt x="7079" y="2"/>
                      <a:pt x="7079" y="4"/>
                    </a:cubicBezTo>
                    <a:cubicBezTo>
                      <a:pt x="7079" y="5"/>
                      <a:pt x="7078" y="6"/>
                      <a:pt x="7077" y="6"/>
                    </a:cubicBezTo>
                    <a:lnTo>
                      <a:pt x="7077" y="6"/>
                    </a:lnTo>
                    <a:cubicBezTo>
                      <a:pt x="7076" y="6"/>
                      <a:pt x="7075" y="5"/>
                      <a:pt x="7075" y="4"/>
                    </a:cubicBezTo>
                    <a:cubicBezTo>
                      <a:pt x="7075" y="2"/>
                      <a:pt x="7076" y="2"/>
                      <a:pt x="7077" y="2"/>
                    </a:cubicBezTo>
                    <a:close/>
                    <a:moveTo>
                      <a:pt x="7085" y="2"/>
                    </a:moveTo>
                    <a:lnTo>
                      <a:pt x="7085" y="2"/>
                    </a:lnTo>
                    <a:cubicBezTo>
                      <a:pt x="7086" y="2"/>
                      <a:pt x="7087" y="2"/>
                      <a:pt x="7087" y="4"/>
                    </a:cubicBezTo>
                    <a:cubicBezTo>
                      <a:pt x="7087" y="5"/>
                      <a:pt x="7086" y="6"/>
                      <a:pt x="7085" y="6"/>
                    </a:cubicBezTo>
                    <a:lnTo>
                      <a:pt x="7085" y="6"/>
                    </a:lnTo>
                    <a:cubicBezTo>
                      <a:pt x="7084" y="6"/>
                      <a:pt x="7083" y="5"/>
                      <a:pt x="7083" y="4"/>
                    </a:cubicBezTo>
                    <a:cubicBezTo>
                      <a:pt x="7083" y="2"/>
                      <a:pt x="7084" y="2"/>
                      <a:pt x="7085" y="2"/>
                    </a:cubicBezTo>
                    <a:close/>
                    <a:moveTo>
                      <a:pt x="7093" y="2"/>
                    </a:moveTo>
                    <a:lnTo>
                      <a:pt x="7093" y="2"/>
                    </a:lnTo>
                    <a:cubicBezTo>
                      <a:pt x="7094" y="2"/>
                      <a:pt x="7095" y="2"/>
                      <a:pt x="7095" y="4"/>
                    </a:cubicBezTo>
                    <a:cubicBezTo>
                      <a:pt x="7095" y="5"/>
                      <a:pt x="7094" y="6"/>
                      <a:pt x="7093" y="6"/>
                    </a:cubicBezTo>
                    <a:lnTo>
                      <a:pt x="7093" y="6"/>
                    </a:lnTo>
                    <a:cubicBezTo>
                      <a:pt x="7092" y="6"/>
                      <a:pt x="7091" y="5"/>
                      <a:pt x="7091" y="4"/>
                    </a:cubicBezTo>
                    <a:cubicBezTo>
                      <a:pt x="7091" y="2"/>
                      <a:pt x="7092" y="2"/>
                      <a:pt x="7093" y="2"/>
                    </a:cubicBezTo>
                    <a:close/>
                    <a:moveTo>
                      <a:pt x="7101" y="2"/>
                    </a:moveTo>
                    <a:lnTo>
                      <a:pt x="7101" y="2"/>
                    </a:lnTo>
                    <a:cubicBezTo>
                      <a:pt x="7102" y="2"/>
                      <a:pt x="7103" y="2"/>
                      <a:pt x="7103" y="4"/>
                    </a:cubicBezTo>
                    <a:cubicBezTo>
                      <a:pt x="7103" y="5"/>
                      <a:pt x="7102" y="6"/>
                      <a:pt x="7101" y="6"/>
                    </a:cubicBezTo>
                    <a:lnTo>
                      <a:pt x="7101" y="6"/>
                    </a:lnTo>
                    <a:cubicBezTo>
                      <a:pt x="7100" y="6"/>
                      <a:pt x="7099" y="5"/>
                      <a:pt x="7099" y="4"/>
                    </a:cubicBezTo>
                    <a:cubicBezTo>
                      <a:pt x="7099" y="2"/>
                      <a:pt x="7100" y="2"/>
                      <a:pt x="7101" y="2"/>
                    </a:cubicBezTo>
                    <a:close/>
                    <a:moveTo>
                      <a:pt x="7109" y="2"/>
                    </a:moveTo>
                    <a:lnTo>
                      <a:pt x="7109" y="2"/>
                    </a:lnTo>
                    <a:cubicBezTo>
                      <a:pt x="7110" y="2"/>
                      <a:pt x="7111" y="2"/>
                      <a:pt x="7111" y="4"/>
                    </a:cubicBezTo>
                    <a:cubicBezTo>
                      <a:pt x="7111" y="5"/>
                      <a:pt x="7110" y="6"/>
                      <a:pt x="7109" y="6"/>
                    </a:cubicBezTo>
                    <a:lnTo>
                      <a:pt x="7109" y="6"/>
                    </a:lnTo>
                    <a:cubicBezTo>
                      <a:pt x="7108" y="6"/>
                      <a:pt x="7107" y="5"/>
                      <a:pt x="7107" y="4"/>
                    </a:cubicBezTo>
                    <a:cubicBezTo>
                      <a:pt x="7107" y="2"/>
                      <a:pt x="7108" y="2"/>
                      <a:pt x="7109" y="2"/>
                    </a:cubicBezTo>
                    <a:close/>
                    <a:moveTo>
                      <a:pt x="7117" y="2"/>
                    </a:moveTo>
                    <a:lnTo>
                      <a:pt x="7117" y="2"/>
                    </a:lnTo>
                    <a:cubicBezTo>
                      <a:pt x="7118" y="2"/>
                      <a:pt x="7119" y="2"/>
                      <a:pt x="7119" y="4"/>
                    </a:cubicBezTo>
                    <a:cubicBezTo>
                      <a:pt x="7119" y="5"/>
                      <a:pt x="7118" y="6"/>
                      <a:pt x="7117" y="6"/>
                    </a:cubicBezTo>
                    <a:lnTo>
                      <a:pt x="7117" y="6"/>
                    </a:lnTo>
                    <a:cubicBezTo>
                      <a:pt x="7116" y="6"/>
                      <a:pt x="7115" y="5"/>
                      <a:pt x="7115" y="4"/>
                    </a:cubicBezTo>
                    <a:cubicBezTo>
                      <a:pt x="7115" y="2"/>
                      <a:pt x="7116" y="2"/>
                      <a:pt x="7117" y="2"/>
                    </a:cubicBezTo>
                    <a:close/>
                    <a:moveTo>
                      <a:pt x="7125" y="2"/>
                    </a:moveTo>
                    <a:lnTo>
                      <a:pt x="7125" y="2"/>
                    </a:lnTo>
                    <a:cubicBezTo>
                      <a:pt x="7126" y="2"/>
                      <a:pt x="7127" y="2"/>
                      <a:pt x="7127" y="4"/>
                    </a:cubicBezTo>
                    <a:cubicBezTo>
                      <a:pt x="7127" y="5"/>
                      <a:pt x="7126" y="6"/>
                      <a:pt x="7125" y="6"/>
                    </a:cubicBezTo>
                    <a:lnTo>
                      <a:pt x="7125" y="6"/>
                    </a:lnTo>
                    <a:cubicBezTo>
                      <a:pt x="7124" y="6"/>
                      <a:pt x="7123" y="5"/>
                      <a:pt x="7123" y="4"/>
                    </a:cubicBezTo>
                    <a:cubicBezTo>
                      <a:pt x="7123" y="2"/>
                      <a:pt x="7124" y="2"/>
                      <a:pt x="7125" y="2"/>
                    </a:cubicBezTo>
                    <a:close/>
                    <a:moveTo>
                      <a:pt x="7133" y="2"/>
                    </a:moveTo>
                    <a:lnTo>
                      <a:pt x="7133" y="2"/>
                    </a:lnTo>
                    <a:cubicBezTo>
                      <a:pt x="7134" y="2"/>
                      <a:pt x="7135" y="2"/>
                      <a:pt x="7135" y="4"/>
                    </a:cubicBezTo>
                    <a:cubicBezTo>
                      <a:pt x="7135" y="5"/>
                      <a:pt x="7134" y="6"/>
                      <a:pt x="7133" y="6"/>
                    </a:cubicBezTo>
                    <a:lnTo>
                      <a:pt x="7133" y="6"/>
                    </a:lnTo>
                    <a:cubicBezTo>
                      <a:pt x="7132" y="6"/>
                      <a:pt x="7131" y="5"/>
                      <a:pt x="7131" y="4"/>
                    </a:cubicBezTo>
                    <a:cubicBezTo>
                      <a:pt x="7131" y="2"/>
                      <a:pt x="7132" y="2"/>
                      <a:pt x="7133" y="2"/>
                    </a:cubicBezTo>
                    <a:close/>
                    <a:moveTo>
                      <a:pt x="7141" y="2"/>
                    </a:moveTo>
                    <a:lnTo>
                      <a:pt x="7141" y="2"/>
                    </a:lnTo>
                    <a:cubicBezTo>
                      <a:pt x="7142" y="2"/>
                      <a:pt x="7143" y="2"/>
                      <a:pt x="7143" y="4"/>
                    </a:cubicBezTo>
                    <a:cubicBezTo>
                      <a:pt x="7143" y="5"/>
                      <a:pt x="7142" y="6"/>
                      <a:pt x="7141" y="6"/>
                    </a:cubicBezTo>
                    <a:lnTo>
                      <a:pt x="7141" y="6"/>
                    </a:lnTo>
                    <a:cubicBezTo>
                      <a:pt x="7140" y="6"/>
                      <a:pt x="7139" y="5"/>
                      <a:pt x="7139" y="4"/>
                    </a:cubicBezTo>
                    <a:cubicBezTo>
                      <a:pt x="7139" y="2"/>
                      <a:pt x="7140" y="2"/>
                      <a:pt x="7141" y="2"/>
                    </a:cubicBezTo>
                    <a:close/>
                    <a:moveTo>
                      <a:pt x="7149" y="2"/>
                    </a:moveTo>
                    <a:lnTo>
                      <a:pt x="7149" y="2"/>
                    </a:lnTo>
                    <a:cubicBezTo>
                      <a:pt x="7150" y="2"/>
                      <a:pt x="7151" y="2"/>
                      <a:pt x="7151" y="4"/>
                    </a:cubicBezTo>
                    <a:cubicBezTo>
                      <a:pt x="7151" y="5"/>
                      <a:pt x="7150" y="6"/>
                      <a:pt x="7149" y="6"/>
                    </a:cubicBezTo>
                    <a:lnTo>
                      <a:pt x="7149" y="6"/>
                    </a:lnTo>
                    <a:cubicBezTo>
                      <a:pt x="7148" y="6"/>
                      <a:pt x="7147" y="5"/>
                      <a:pt x="7147" y="4"/>
                    </a:cubicBezTo>
                    <a:cubicBezTo>
                      <a:pt x="7147" y="2"/>
                      <a:pt x="7148" y="2"/>
                      <a:pt x="7149" y="2"/>
                    </a:cubicBezTo>
                    <a:close/>
                    <a:moveTo>
                      <a:pt x="7157" y="2"/>
                    </a:moveTo>
                    <a:lnTo>
                      <a:pt x="7157" y="2"/>
                    </a:lnTo>
                    <a:cubicBezTo>
                      <a:pt x="7158" y="2"/>
                      <a:pt x="7159" y="2"/>
                      <a:pt x="7159" y="4"/>
                    </a:cubicBezTo>
                    <a:cubicBezTo>
                      <a:pt x="7159" y="5"/>
                      <a:pt x="7158" y="6"/>
                      <a:pt x="7157" y="6"/>
                    </a:cubicBezTo>
                    <a:lnTo>
                      <a:pt x="7157" y="6"/>
                    </a:lnTo>
                    <a:cubicBezTo>
                      <a:pt x="7156" y="6"/>
                      <a:pt x="7155" y="5"/>
                      <a:pt x="7155" y="4"/>
                    </a:cubicBezTo>
                    <a:cubicBezTo>
                      <a:pt x="7155" y="2"/>
                      <a:pt x="7156" y="2"/>
                      <a:pt x="7157" y="2"/>
                    </a:cubicBezTo>
                    <a:close/>
                    <a:moveTo>
                      <a:pt x="7165" y="2"/>
                    </a:moveTo>
                    <a:lnTo>
                      <a:pt x="7165" y="2"/>
                    </a:lnTo>
                    <a:cubicBezTo>
                      <a:pt x="7166" y="2"/>
                      <a:pt x="7167" y="2"/>
                      <a:pt x="7167" y="4"/>
                    </a:cubicBezTo>
                    <a:cubicBezTo>
                      <a:pt x="7167" y="5"/>
                      <a:pt x="7166" y="6"/>
                      <a:pt x="7165" y="6"/>
                    </a:cubicBezTo>
                    <a:lnTo>
                      <a:pt x="7165" y="6"/>
                    </a:lnTo>
                    <a:cubicBezTo>
                      <a:pt x="7164" y="6"/>
                      <a:pt x="7163" y="5"/>
                      <a:pt x="7163" y="4"/>
                    </a:cubicBezTo>
                    <a:cubicBezTo>
                      <a:pt x="7163" y="2"/>
                      <a:pt x="7164" y="2"/>
                      <a:pt x="7165" y="2"/>
                    </a:cubicBezTo>
                    <a:close/>
                    <a:moveTo>
                      <a:pt x="7173" y="2"/>
                    </a:moveTo>
                    <a:lnTo>
                      <a:pt x="7173" y="2"/>
                    </a:lnTo>
                    <a:cubicBezTo>
                      <a:pt x="7174" y="2"/>
                      <a:pt x="7175" y="2"/>
                      <a:pt x="7175" y="4"/>
                    </a:cubicBezTo>
                    <a:cubicBezTo>
                      <a:pt x="7175" y="5"/>
                      <a:pt x="7174" y="6"/>
                      <a:pt x="7173" y="6"/>
                    </a:cubicBezTo>
                    <a:lnTo>
                      <a:pt x="7173" y="6"/>
                    </a:lnTo>
                    <a:cubicBezTo>
                      <a:pt x="7172" y="6"/>
                      <a:pt x="7171" y="5"/>
                      <a:pt x="7171" y="4"/>
                    </a:cubicBezTo>
                    <a:cubicBezTo>
                      <a:pt x="7171" y="2"/>
                      <a:pt x="7172" y="2"/>
                      <a:pt x="7173" y="2"/>
                    </a:cubicBezTo>
                    <a:close/>
                    <a:moveTo>
                      <a:pt x="7181" y="2"/>
                    </a:moveTo>
                    <a:lnTo>
                      <a:pt x="7181" y="2"/>
                    </a:lnTo>
                    <a:cubicBezTo>
                      <a:pt x="7182" y="2"/>
                      <a:pt x="7183" y="2"/>
                      <a:pt x="7183" y="4"/>
                    </a:cubicBezTo>
                    <a:cubicBezTo>
                      <a:pt x="7183" y="5"/>
                      <a:pt x="7182" y="6"/>
                      <a:pt x="7181" y="6"/>
                    </a:cubicBezTo>
                    <a:lnTo>
                      <a:pt x="7181" y="6"/>
                    </a:lnTo>
                    <a:cubicBezTo>
                      <a:pt x="7180" y="6"/>
                      <a:pt x="7179" y="5"/>
                      <a:pt x="7179" y="4"/>
                    </a:cubicBezTo>
                    <a:cubicBezTo>
                      <a:pt x="7179" y="2"/>
                      <a:pt x="7180" y="2"/>
                      <a:pt x="7181" y="2"/>
                    </a:cubicBezTo>
                    <a:close/>
                    <a:moveTo>
                      <a:pt x="7189" y="2"/>
                    </a:moveTo>
                    <a:lnTo>
                      <a:pt x="7189" y="2"/>
                    </a:lnTo>
                    <a:cubicBezTo>
                      <a:pt x="7190" y="2"/>
                      <a:pt x="7191" y="2"/>
                      <a:pt x="7191" y="4"/>
                    </a:cubicBezTo>
                    <a:cubicBezTo>
                      <a:pt x="7191" y="5"/>
                      <a:pt x="7190" y="6"/>
                      <a:pt x="7189" y="6"/>
                    </a:cubicBezTo>
                    <a:lnTo>
                      <a:pt x="7189" y="6"/>
                    </a:lnTo>
                    <a:cubicBezTo>
                      <a:pt x="7188" y="6"/>
                      <a:pt x="7187" y="5"/>
                      <a:pt x="7187" y="4"/>
                    </a:cubicBezTo>
                    <a:cubicBezTo>
                      <a:pt x="7187" y="2"/>
                      <a:pt x="7188" y="2"/>
                      <a:pt x="7189" y="2"/>
                    </a:cubicBezTo>
                    <a:close/>
                    <a:moveTo>
                      <a:pt x="7197" y="2"/>
                    </a:moveTo>
                    <a:lnTo>
                      <a:pt x="7197" y="2"/>
                    </a:lnTo>
                    <a:cubicBezTo>
                      <a:pt x="7198" y="2"/>
                      <a:pt x="7199" y="2"/>
                      <a:pt x="7199" y="4"/>
                    </a:cubicBezTo>
                    <a:cubicBezTo>
                      <a:pt x="7199" y="5"/>
                      <a:pt x="7198" y="6"/>
                      <a:pt x="7197" y="6"/>
                    </a:cubicBezTo>
                    <a:lnTo>
                      <a:pt x="7197" y="6"/>
                    </a:lnTo>
                    <a:cubicBezTo>
                      <a:pt x="7196" y="6"/>
                      <a:pt x="7195" y="5"/>
                      <a:pt x="7195" y="4"/>
                    </a:cubicBezTo>
                    <a:cubicBezTo>
                      <a:pt x="7195" y="2"/>
                      <a:pt x="7196" y="2"/>
                      <a:pt x="7197" y="2"/>
                    </a:cubicBezTo>
                    <a:close/>
                    <a:moveTo>
                      <a:pt x="7205" y="2"/>
                    </a:moveTo>
                    <a:lnTo>
                      <a:pt x="7205" y="2"/>
                    </a:lnTo>
                    <a:cubicBezTo>
                      <a:pt x="7206" y="2"/>
                      <a:pt x="7207" y="2"/>
                      <a:pt x="7207" y="4"/>
                    </a:cubicBezTo>
                    <a:cubicBezTo>
                      <a:pt x="7207" y="5"/>
                      <a:pt x="7206" y="6"/>
                      <a:pt x="7205" y="6"/>
                    </a:cubicBezTo>
                    <a:lnTo>
                      <a:pt x="7205" y="6"/>
                    </a:lnTo>
                    <a:cubicBezTo>
                      <a:pt x="7204" y="6"/>
                      <a:pt x="7203" y="5"/>
                      <a:pt x="7203" y="4"/>
                    </a:cubicBezTo>
                    <a:cubicBezTo>
                      <a:pt x="7203" y="2"/>
                      <a:pt x="7204" y="2"/>
                      <a:pt x="7205" y="2"/>
                    </a:cubicBezTo>
                    <a:close/>
                    <a:moveTo>
                      <a:pt x="7213" y="2"/>
                    </a:moveTo>
                    <a:lnTo>
                      <a:pt x="7213" y="2"/>
                    </a:lnTo>
                    <a:cubicBezTo>
                      <a:pt x="7214" y="2"/>
                      <a:pt x="7215" y="2"/>
                      <a:pt x="7215" y="4"/>
                    </a:cubicBezTo>
                    <a:cubicBezTo>
                      <a:pt x="7215" y="5"/>
                      <a:pt x="7214" y="6"/>
                      <a:pt x="7213" y="6"/>
                    </a:cubicBezTo>
                    <a:lnTo>
                      <a:pt x="7213" y="6"/>
                    </a:lnTo>
                    <a:cubicBezTo>
                      <a:pt x="7212" y="6"/>
                      <a:pt x="7211" y="5"/>
                      <a:pt x="7211" y="4"/>
                    </a:cubicBezTo>
                    <a:cubicBezTo>
                      <a:pt x="7211" y="2"/>
                      <a:pt x="7212" y="2"/>
                      <a:pt x="7213" y="2"/>
                    </a:cubicBezTo>
                    <a:close/>
                    <a:moveTo>
                      <a:pt x="7221" y="2"/>
                    </a:moveTo>
                    <a:lnTo>
                      <a:pt x="7221" y="2"/>
                    </a:lnTo>
                    <a:cubicBezTo>
                      <a:pt x="7222" y="2"/>
                      <a:pt x="7223" y="2"/>
                      <a:pt x="7223" y="4"/>
                    </a:cubicBezTo>
                    <a:cubicBezTo>
                      <a:pt x="7223" y="5"/>
                      <a:pt x="7222" y="6"/>
                      <a:pt x="7221" y="6"/>
                    </a:cubicBezTo>
                    <a:lnTo>
                      <a:pt x="7221" y="6"/>
                    </a:lnTo>
                    <a:cubicBezTo>
                      <a:pt x="7220" y="6"/>
                      <a:pt x="7219" y="5"/>
                      <a:pt x="7219" y="4"/>
                    </a:cubicBezTo>
                    <a:cubicBezTo>
                      <a:pt x="7219" y="2"/>
                      <a:pt x="7220" y="2"/>
                      <a:pt x="7221" y="2"/>
                    </a:cubicBezTo>
                    <a:close/>
                    <a:moveTo>
                      <a:pt x="7229" y="2"/>
                    </a:moveTo>
                    <a:lnTo>
                      <a:pt x="7229" y="2"/>
                    </a:lnTo>
                    <a:cubicBezTo>
                      <a:pt x="7230" y="2"/>
                      <a:pt x="7231" y="2"/>
                      <a:pt x="7231" y="4"/>
                    </a:cubicBezTo>
                    <a:cubicBezTo>
                      <a:pt x="7231" y="5"/>
                      <a:pt x="7230" y="6"/>
                      <a:pt x="7229" y="6"/>
                    </a:cubicBezTo>
                    <a:lnTo>
                      <a:pt x="7229" y="6"/>
                    </a:lnTo>
                    <a:cubicBezTo>
                      <a:pt x="7228" y="6"/>
                      <a:pt x="7227" y="5"/>
                      <a:pt x="7227" y="4"/>
                    </a:cubicBezTo>
                    <a:cubicBezTo>
                      <a:pt x="7227" y="2"/>
                      <a:pt x="7228" y="2"/>
                      <a:pt x="7229" y="2"/>
                    </a:cubicBezTo>
                    <a:close/>
                    <a:moveTo>
                      <a:pt x="7237" y="2"/>
                    </a:moveTo>
                    <a:lnTo>
                      <a:pt x="7237" y="2"/>
                    </a:lnTo>
                    <a:cubicBezTo>
                      <a:pt x="7238" y="2"/>
                      <a:pt x="7239" y="2"/>
                      <a:pt x="7239" y="4"/>
                    </a:cubicBezTo>
                    <a:cubicBezTo>
                      <a:pt x="7239" y="5"/>
                      <a:pt x="7238" y="6"/>
                      <a:pt x="7237" y="6"/>
                    </a:cubicBezTo>
                    <a:lnTo>
                      <a:pt x="7237" y="6"/>
                    </a:lnTo>
                    <a:cubicBezTo>
                      <a:pt x="7236" y="6"/>
                      <a:pt x="7235" y="5"/>
                      <a:pt x="7235" y="4"/>
                    </a:cubicBezTo>
                    <a:cubicBezTo>
                      <a:pt x="7235" y="2"/>
                      <a:pt x="7236" y="2"/>
                      <a:pt x="7237" y="2"/>
                    </a:cubicBezTo>
                    <a:close/>
                    <a:moveTo>
                      <a:pt x="7245" y="2"/>
                    </a:moveTo>
                    <a:lnTo>
                      <a:pt x="7245" y="2"/>
                    </a:lnTo>
                    <a:cubicBezTo>
                      <a:pt x="7246" y="2"/>
                      <a:pt x="7247" y="2"/>
                      <a:pt x="7247" y="4"/>
                    </a:cubicBezTo>
                    <a:cubicBezTo>
                      <a:pt x="7247" y="5"/>
                      <a:pt x="7246" y="6"/>
                      <a:pt x="7245" y="6"/>
                    </a:cubicBezTo>
                    <a:lnTo>
                      <a:pt x="7245" y="6"/>
                    </a:lnTo>
                    <a:cubicBezTo>
                      <a:pt x="7244" y="6"/>
                      <a:pt x="7243" y="5"/>
                      <a:pt x="7243" y="4"/>
                    </a:cubicBezTo>
                    <a:cubicBezTo>
                      <a:pt x="7243" y="2"/>
                      <a:pt x="7244" y="2"/>
                      <a:pt x="7245" y="2"/>
                    </a:cubicBezTo>
                    <a:close/>
                    <a:moveTo>
                      <a:pt x="7253" y="2"/>
                    </a:moveTo>
                    <a:lnTo>
                      <a:pt x="7253" y="2"/>
                    </a:lnTo>
                    <a:cubicBezTo>
                      <a:pt x="7254" y="2"/>
                      <a:pt x="7255" y="2"/>
                      <a:pt x="7255" y="4"/>
                    </a:cubicBezTo>
                    <a:cubicBezTo>
                      <a:pt x="7255" y="5"/>
                      <a:pt x="7254" y="6"/>
                      <a:pt x="7253" y="6"/>
                    </a:cubicBezTo>
                    <a:lnTo>
                      <a:pt x="7253" y="6"/>
                    </a:lnTo>
                    <a:cubicBezTo>
                      <a:pt x="7252" y="6"/>
                      <a:pt x="7251" y="5"/>
                      <a:pt x="7251" y="4"/>
                    </a:cubicBezTo>
                    <a:cubicBezTo>
                      <a:pt x="7251" y="2"/>
                      <a:pt x="7252" y="2"/>
                      <a:pt x="7253" y="2"/>
                    </a:cubicBezTo>
                    <a:close/>
                    <a:moveTo>
                      <a:pt x="7261" y="2"/>
                    </a:moveTo>
                    <a:lnTo>
                      <a:pt x="7261" y="2"/>
                    </a:lnTo>
                    <a:cubicBezTo>
                      <a:pt x="7262" y="2"/>
                      <a:pt x="7263" y="2"/>
                      <a:pt x="7263" y="4"/>
                    </a:cubicBezTo>
                    <a:cubicBezTo>
                      <a:pt x="7263" y="5"/>
                      <a:pt x="7262" y="6"/>
                      <a:pt x="7261" y="6"/>
                    </a:cubicBezTo>
                    <a:lnTo>
                      <a:pt x="7261" y="6"/>
                    </a:lnTo>
                    <a:cubicBezTo>
                      <a:pt x="7260" y="6"/>
                      <a:pt x="7259" y="5"/>
                      <a:pt x="7259" y="4"/>
                    </a:cubicBezTo>
                    <a:cubicBezTo>
                      <a:pt x="7259" y="2"/>
                      <a:pt x="7260" y="2"/>
                      <a:pt x="7261" y="2"/>
                    </a:cubicBezTo>
                    <a:close/>
                    <a:moveTo>
                      <a:pt x="7269" y="2"/>
                    </a:moveTo>
                    <a:lnTo>
                      <a:pt x="7269" y="2"/>
                    </a:lnTo>
                    <a:cubicBezTo>
                      <a:pt x="7270" y="2"/>
                      <a:pt x="7271" y="2"/>
                      <a:pt x="7271" y="4"/>
                    </a:cubicBezTo>
                    <a:cubicBezTo>
                      <a:pt x="7271" y="5"/>
                      <a:pt x="7270" y="6"/>
                      <a:pt x="7269" y="6"/>
                    </a:cubicBezTo>
                    <a:lnTo>
                      <a:pt x="7269" y="6"/>
                    </a:lnTo>
                    <a:cubicBezTo>
                      <a:pt x="7268" y="6"/>
                      <a:pt x="7267" y="5"/>
                      <a:pt x="7267" y="4"/>
                    </a:cubicBezTo>
                    <a:cubicBezTo>
                      <a:pt x="7267" y="2"/>
                      <a:pt x="7268" y="2"/>
                      <a:pt x="7269" y="2"/>
                    </a:cubicBezTo>
                    <a:close/>
                    <a:moveTo>
                      <a:pt x="7277" y="2"/>
                    </a:moveTo>
                    <a:lnTo>
                      <a:pt x="7277" y="2"/>
                    </a:lnTo>
                    <a:cubicBezTo>
                      <a:pt x="7278" y="2"/>
                      <a:pt x="7279" y="2"/>
                      <a:pt x="7279" y="4"/>
                    </a:cubicBezTo>
                    <a:cubicBezTo>
                      <a:pt x="7279" y="5"/>
                      <a:pt x="7278" y="6"/>
                      <a:pt x="7277" y="6"/>
                    </a:cubicBezTo>
                    <a:lnTo>
                      <a:pt x="7277" y="6"/>
                    </a:lnTo>
                    <a:cubicBezTo>
                      <a:pt x="7276" y="6"/>
                      <a:pt x="7275" y="5"/>
                      <a:pt x="7275" y="4"/>
                    </a:cubicBezTo>
                    <a:cubicBezTo>
                      <a:pt x="7275" y="2"/>
                      <a:pt x="7276" y="2"/>
                      <a:pt x="7277" y="2"/>
                    </a:cubicBezTo>
                    <a:close/>
                    <a:moveTo>
                      <a:pt x="7285" y="2"/>
                    </a:moveTo>
                    <a:lnTo>
                      <a:pt x="7285" y="2"/>
                    </a:lnTo>
                    <a:cubicBezTo>
                      <a:pt x="7286" y="2"/>
                      <a:pt x="7287" y="2"/>
                      <a:pt x="7287" y="4"/>
                    </a:cubicBezTo>
                    <a:cubicBezTo>
                      <a:pt x="7287" y="5"/>
                      <a:pt x="7286" y="6"/>
                      <a:pt x="7285" y="6"/>
                    </a:cubicBezTo>
                    <a:lnTo>
                      <a:pt x="7285" y="6"/>
                    </a:lnTo>
                    <a:cubicBezTo>
                      <a:pt x="7284" y="6"/>
                      <a:pt x="7283" y="5"/>
                      <a:pt x="7283" y="4"/>
                    </a:cubicBezTo>
                    <a:cubicBezTo>
                      <a:pt x="7283" y="2"/>
                      <a:pt x="7284" y="2"/>
                      <a:pt x="7285" y="2"/>
                    </a:cubicBezTo>
                    <a:close/>
                    <a:moveTo>
                      <a:pt x="7293" y="2"/>
                    </a:moveTo>
                    <a:lnTo>
                      <a:pt x="7293" y="2"/>
                    </a:lnTo>
                    <a:cubicBezTo>
                      <a:pt x="7294" y="2"/>
                      <a:pt x="7295" y="2"/>
                      <a:pt x="7295" y="4"/>
                    </a:cubicBezTo>
                    <a:cubicBezTo>
                      <a:pt x="7295" y="5"/>
                      <a:pt x="7294" y="6"/>
                      <a:pt x="7293" y="6"/>
                    </a:cubicBezTo>
                    <a:lnTo>
                      <a:pt x="7293" y="6"/>
                    </a:lnTo>
                    <a:cubicBezTo>
                      <a:pt x="7292" y="6"/>
                      <a:pt x="7291" y="5"/>
                      <a:pt x="7291" y="4"/>
                    </a:cubicBezTo>
                    <a:cubicBezTo>
                      <a:pt x="7291" y="2"/>
                      <a:pt x="7292" y="2"/>
                      <a:pt x="7293" y="2"/>
                    </a:cubicBezTo>
                    <a:close/>
                    <a:moveTo>
                      <a:pt x="7301" y="2"/>
                    </a:moveTo>
                    <a:lnTo>
                      <a:pt x="7301" y="2"/>
                    </a:lnTo>
                    <a:cubicBezTo>
                      <a:pt x="7302" y="2"/>
                      <a:pt x="7303" y="2"/>
                      <a:pt x="7303" y="4"/>
                    </a:cubicBezTo>
                    <a:cubicBezTo>
                      <a:pt x="7303" y="5"/>
                      <a:pt x="7302" y="6"/>
                      <a:pt x="7301" y="6"/>
                    </a:cubicBezTo>
                    <a:lnTo>
                      <a:pt x="7301" y="6"/>
                    </a:lnTo>
                    <a:cubicBezTo>
                      <a:pt x="7300" y="6"/>
                      <a:pt x="7299" y="5"/>
                      <a:pt x="7299" y="4"/>
                    </a:cubicBezTo>
                    <a:cubicBezTo>
                      <a:pt x="7299" y="2"/>
                      <a:pt x="7300" y="2"/>
                      <a:pt x="7301" y="2"/>
                    </a:cubicBezTo>
                    <a:close/>
                    <a:moveTo>
                      <a:pt x="7309" y="2"/>
                    </a:moveTo>
                    <a:lnTo>
                      <a:pt x="7309" y="2"/>
                    </a:lnTo>
                    <a:cubicBezTo>
                      <a:pt x="7310" y="2"/>
                      <a:pt x="7311" y="2"/>
                      <a:pt x="7311" y="4"/>
                    </a:cubicBezTo>
                    <a:cubicBezTo>
                      <a:pt x="7311" y="5"/>
                      <a:pt x="7310" y="6"/>
                      <a:pt x="7309" y="6"/>
                    </a:cubicBezTo>
                    <a:lnTo>
                      <a:pt x="7309" y="6"/>
                    </a:lnTo>
                    <a:cubicBezTo>
                      <a:pt x="7308" y="6"/>
                      <a:pt x="7307" y="5"/>
                      <a:pt x="7307" y="4"/>
                    </a:cubicBezTo>
                    <a:cubicBezTo>
                      <a:pt x="7307" y="2"/>
                      <a:pt x="7308" y="2"/>
                      <a:pt x="7309" y="2"/>
                    </a:cubicBezTo>
                    <a:close/>
                    <a:moveTo>
                      <a:pt x="7317" y="2"/>
                    </a:moveTo>
                    <a:lnTo>
                      <a:pt x="7317" y="2"/>
                    </a:lnTo>
                    <a:cubicBezTo>
                      <a:pt x="7319" y="2"/>
                      <a:pt x="7319" y="2"/>
                      <a:pt x="7319" y="4"/>
                    </a:cubicBezTo>
                    <a:cubicBezTo>
                      <a:pt x="7319" y="5"/>
                      <a:pt x="7319" y="6"/>
                      <a:pt x="7317" y="6"/>
                    </a:cubicBezTo>
                    <a:lnTo>
                      <a:pt x="7317" y="6"/>
                    </a:lnTo>
                    <a:cubicBezTo>
                      <a:pt x="7316" y="6"/>
                      <a:pt x="7315" y="5"/>
                      <a:pt x="7315" y="4"/>
                    </a:cubicBezTo>
                    <a:cubicBezTo>
                      <a:pt x="7315" y="2"/>
                      <a:pt x="7316" y="2"/>
                      <a:pt x="7317" y="2"/>
                    </a:cubicBezTo>
                    <a:close/>
                    <a:moveTo>
                      <a:pt x="7325" y="2"/>
                    </a:moveTo>
                    <a:lnTo>
                      <a:pt x="7325" y="2"/>
                    </a:lnTo>
                    <a:cubicBezTo>
                      <a:pt x="7327" y="2"/>
                      <a:pt x="7327" y="2"/>
                      <a:pt x="7327" y="4"/>
                    </a:cubicBezTo>
                    <a:cubicBezTo>
                      <a:pt x="7327" y="5"/>
                      <a:pt x="7327" y="6"/>
                      <a:pt x="7325" y="6"/>
                    </a:cubicBezTo>
                    <a:lnTo>
                      <a:pt x="7325" y="6"/>
                    </a:lnTo>
                    <a:cubicBezTo>
                      <a:pt x="7324" y="6"/>
                      <a:pt x="7323" y="5"/>
                      <a:pt x="7323" y="4"/>
                    </a:cubicBezTo>
                    <a:cubicBezTo>
                      <a:pt x="7323" y="2"/>
                      <a:pt x="7324" y="2"/>
                      <a:pt x="7325" y="2"/>
                    </a:cubicBezTo>
                    <a:close/>
                    <a:moveTo>
                      <a:pt x="7333" y="2"/>
                    </a:moveTo>
                    <a:lnTo>
                      <a:pt x="7333" y="2"/>
                    </a:lnTo>
                    <a:cubicBezTo>
                      <a:pt x="7335" y="2"/>
                      <a:pt x="7335" y="2"/>
                      <a:pt x="7335" y="4"/>
                    </a:cubicBezTo>
                    <a:cubicBezTo>
                      <a:pt x="7335" y="5"/>
                      <a:pt x="7335" y="6"/>
                      <a:pt x="7333" y="6"/>
                    </a:cubicBezTo>
                    <a:lnTo>
                      <a:pt x="7333" y="6"/>
                    </a:lnTo>
                    <a:cubicBezTo>
                      <a:pt x="7332" y="6"/>
                      <a:pt x="7331" y="5"/>
                      <a:pt x="7331" y="4"/>
                    </a:cubicBezTo>
                    <a:cubicBezTo>
                      <a:pt x="7331" y="2"/>
                      <a:pt x="7332" y="2"/>
                      <a:pt x="7333" y="2"/>
                    </a:cubicBezTo>
                    <a:close/>
                    <a:moveTo>
                      <a:pt x="7341" y="2"/>
                    </a:moveTo>
                    <a:lnTo>
                      <a:pt x="7341" y="2"/>
                    </a:lnTo>
                    <a:cubicBezTo>
                      <a:pt x="7343" y="2"/>
                      <a:pt x="7343" y="2"/>
                      <a:pt x="7343" y="4"/>
                    </a:cubicBezTo>
                    <a:cubicBezTo>
                      <a:pt x="7343" y="5"/>
                      <a:pt x="7343" y="6"/>
                      <a:pt x="7341" y="6"/>
                    </a:cubicBezTo>
                    <a:lnTo>
                      <a:pt x="7341" y="6"/>
                    </a:lnTo>
                    <a:cubicBezTo>
                      <a:pt x="7340" y="6"/>
                      <a:pt x="7339" y="5"/>
                      <a:pt x="7339" y="4"/>
                    </a:cubicBezTo>
                    <a:cubicBezTo>
                      <a:pt x="7339" y="2"/>
                      <a:pt x="7340" y="2"/>
                      <a:pt x="7341" y="2"/>
                    </a:cubicBezTo>
                    <a:close/>
                    <a:moveTo>
                      <a:pt x="7349" y="2"/>
                    </a:moveTo>
                    <a:lnTo>
                      <a:pt x="7349" y="2"/>
                    </a:lnTo>
                    <a:cubicBezTo>
                      <a:pt x="7351" y="2"/>
                      <a:pt x="7351" y="2"/>
                      <a:pt x="7351" y="4"/>
                    </a:cubicBezTo>
                    <a:cubicBezTo>
                      <a:pt x="7351" y="5"/>
                      <a:pt x="7351" y="6"/>
                      <a:pt x="7349" y="6"/>
                    </a:cubicBezTo>
                    <a:lnTo>
                      <a:pt x="7349" y="6"/>
                    </a:lnTo>
                    <a:cubicBezTo>
                      <a:pt x="7348" y="6"/>
                      <a:pt x="7347" y="5"/>
                      <a:pt x="7347" y="4"/>
                    </a:cubicBezTo>
                    <a:cubicBezTo>
                      <a:pt x="7347" y="2"/>
                      <a:pt x="7348" y="2"/>
                      <a:pt x="7349" y="2"/>
                    </a:cubicBezTo>
                    <a:close/>
                    <a:moveTo>
                      <a:pt x="7357" y="2"/>
                    </a:moveTo>
                    <a:lnTo>
                      <a:pt x="7357" y="2"/>
                    </a:lnTo>
                    <a:cubicBezTo>
                      <a:pt x="7359" y="2"/>
                      <a:pt x="7359" y="2"/>
                      <a:pt x="7359" y="4"/>
                    </a:cubicBezTo>
                    <a:cubicBezTo>
                      <a:pt x="7359" y="5"/>
                      <a:pt x="7359" y="6"/>
                      <a:pt x="7357" y="6"/>
                    </a:cubicBezTo>
                    <a:lnTo>
                      <a:pt x="7357" y="6"/>
                    </a:lnTo>
                    <a:cubicBezTo>
                      <a:pt x="7356" y="6"/>
                      <a:pt x="7355" y="5"/>
                      <a:pt x="7355" y="4"/>
                    </a:cubicBezTo>
                    <a:cubicBezTo>
                      <a:pt x="7355" y="2"/>
                      <a:pt x="7356" y="2"/>
                      <a:pt x="7357" y="2"/>
                    </a:cubicBezTo>
                    <a:close/>
                    <a:moveTo>
                      <a:pt x="7365" y="2"/>
                    </a:moveTo>
                    <a:lnTo>
                      <a:pt x="7365" y="2"/>
                    </a:lnTo>
                    <a:cubicBezTo>
                      <a:pt x="7367" y="2"/>
                      <a:pt x="7367" y="2"/>
                      <a:pt x="7367" y="4"/>
                    </a:cubicBezTo>
                    <a:cubicBezTo>
                      <a:pt x="7367" y="5"/>
                      <a:pt x="7367" y="6"/>
                      <a:pt x="7365" y="6"/>
                    </a:cubicBezTo>
                    <a:lnTo>
                      <a:pt x="7365" y="6"/>
                    </a:lnTo>
                    <a:cubicBezTo>
                      <a:pt x="7364" y="6"/>
                      <a:pt x="7363" y="5"/>
                      <a:pt x="7363" y="4"/>
                    </a:cubicBezTo>
                    <a:cubicBezTo>
                      <a:pt x="7363" y="2"/>
                      <a:pt x="7364" y="2"/>
                      <a:pt x="7365" y="2"/>
                    </a:cubicBezTo>
                    <a:close/>
                    <a:moveTo>
                      <a:pt x="7373" y="2"/>
                    </a:moveTo>
                    <a:lnTo>
                      <a:pt x="7373" y="2"/>
                    </a:lnTo>
                    <a:cubicBezTo>
                      <a:pt x="7375" y="2"/>
                      <a:pt x="7375" y="2"/>
                      <a:pt x="7375" y="4"/>
                    </a:cubicBezTo>
                    <a:cubicBezTo>
                      <a:pt x="7375" y="5"/>
                      <a:pt x="7375" y="6"/>
                      <a:pt x="7373" y="6"/>
                    </a:cubicBezTo>
                    <a:lnTo>
                      <a:pt x="7373" y="6"/>
                    </a:lnTo>
                    <a:cubicBezTo>
                      <a:pt x="7372" y="6"/>
                      <a:pt x="7371" y="5"/>
                      <a:pt x="7371" y="4"/>
                    </a:cubicBezTo>
                    <a:cubicBezTo>
                      <a:pt x="7371" y="2"/>
                      <a:pt x="7372" y="2"/>
                      <a:pt x="7373" y="2"/>
                    </a:cubicBezTo>
                    <a:close/>
                    <a:moveTo>
                      <a:pt x="7381" y="2"/>
                    </a:moveTo>
                    <a:lnTo>
                      <a:pt x="7381" y="2"/>
                    </a:lnTo>
                    <a:cubicBezTo>
                      <a:pt x="7383" y="2"/>
                      <a:pt x="7383" y="2"/>
                      <a:pt x="7383" y="4"/>
                    </a:cubicBezTo>
                    <a:cubicBezTo>
                      <a:pt x="7383" y="5"/>
                      <a:pt x="7383" y="6"/>
                      <a:pt x="7381" y="6"/>
                    </a:cubicBezTo>
                    <a:lnTo>
                      <a:pt x="7381" y="6"/>
                    </a:lnTo>
                    <a:cubicBezTo>
                      <a:pt x="7380" y="6"/>
                      <a:pt x="7379" y="5"/>
                      <a:pt x="7379" y="4"/>
                    </a:cubicBezTo>
                    <a:cubicBezTo>
                      <a:pt x="7379" y="2"/>
                      <a:pt x="7380" y="2"/>
                      <a:pt x="7381" y="2"/>
                    </a:cubicBezTo>
                    <a:close/>
                    <a:moveTo>
                      <a:pt x="7389" y="2"/>
                    </a:moveTo>
                    <a:lnTo>
                      <a:pt x="7389" y="2"/>
                    </a:lnTo>
                    <a:cubicBezTo>
                      <a:pt x="7391" y="2"/>
                      <a:pt x="7391" y="2"/>
                      <a:pt x="7391" y="4"/>
                    </a:cubicBezTo>
                    <a:cubicBezTo>
                      <a:pt x="7391" y="5"/>
                      <a:pt x="7391" y="6"/>
                      <a:pt x="7389" y="6"/>
                    </a:cubicBezTo>
                    <a:lnTo>
                      <a:pt x="7389" y="6"/>
                    </a:lnTo>
                    <a:cubicBezTo>
                      <a:pt x="7388" y="6"/>
                      <a:pt x="7387" y="5"/>
                      <a:pt x="7387" y="4"/>
                    </a:cubicBezTo>
                    <a:cubicBezTo>
                      <a:pt x="7387" y="2"/>
                      <a:pt x="7388" y="2"/>
                      <a:pt x="7389" y="2"/>
                    </a:cubicBezTo>
                    <a:close/>
                    <a:moveTo>
                      <a:pt x="7397" y="2"/>
                    </a:moveTo>
                    <a:lnTo>
                      <a:pt x="7397" y="2"/>
                    </a:lnTo>
                    <a:cubicBezTo>
                      <a:pt x="7399" y="2"/>
                      <a:pt x="7399" y="2"/>
                      <a:pt x="7399" y="4"/>
                    </a:cubicBezTo>
                    <a:cubicBezTo>
                      <a:pt x="7399" y="5"/>
                      <a:pt x="7399" y="6"/>
                      <a:pt x="7397" y="6"/>
                    </a:cubicBezTo>
                    <a:lnTo>
                      <a:pt x="7397" y="6"/>
                    </a:lnTo>
                    <a:cubicBezTo>
                      <a:pt x="7396" y="6"/>
                      <a:pt x="7395" y="5"/>
                      <a:pt x="7395" y="4"/>
                    </a:cubicBezTo>
                    <a:cubicBezTo>
                      <a:pt x="7395" y="2"/>
                      <a:pt x="7396" y="2"/>
                      <a:pt x="7397" y="2"/>
                    </a:cubicBezTo>
                    <a:close/>
                    <a:moveTo>
                      <a:pt x="7405" y="2"/>
                    </a:moveTo>
                    <a:lnTo>
                      <a:pt x="7405" y="2"/>
                    </a:lnTo>
                    <a:cubicBezTo>
                      <a:pt x="7407" y="2"/>
                      <a:pt x="7407" y="2"/>
                      <a:pt x="7407" y="4"/>
                    </a:cubicBezTo>
                    <a:cubicBezTo>
                      <a:pt x="7407" y="5"/>
                      <a:pt x="7407" y="6"/>
                      <a:pt x="7405" y="6"/>
                    </a:cubicBezTo>
                    <a:lnTo>
                      <a:pt x="7405" y="6"/>
                    </a:lnTo>
                    <a:cubicBezTo>
                      <a:pt x="7404" y="6"/>
                      <a:pt x="7403" y="5"/>
                      <a:pt x="7403" y="4"/>
                    </a:cubicBezTo>
                    <a:cubicBezTo>
                      <a:pt x="7403" y="2"/>
                      <a:pt x="7404" y="2"/>
                      <a:pt x="7405" y="2"/>
                    </a:cubicBezTo>
                    <a:close/>
                    <a:moveTo>
                      <a:pt x="7413" y="2"/>
                    </a:moveTo>
                    <a:lnTo>
                      <a:pt x="7413" y="2"/>
                    </a:lnTo>
                    <a:cubicBezTo>
                      <a:pt x="7415" y="2"/>
                      <a:pt x="7415" y="2"/>
                      <a:pt x="7415" y="4"/>
                    </a:cubicBezTo>
                    <a:cubicBezTo>
                      <a:pt x="7415" y="5"/>
                      <a:pt x="7415" y="6"/>
                      <a:pt x="7413" y="6"/>
                    </a:cubicBezTo>
                    <a:lnTo>
                      <a:pt x="7413" y="6"/>
                    </a:lnTo>
                    <a:cubicBezTo>
                      <a:pt x="7412" y="6"/>
                      <a:pt x="7411" y="5"/>
                      <a:pt x="7411" y="4"/>
                    </a:cubicBezTo>
                    <a:cubicBezTo>
                      <a:pt x="7411" y="2"/>
                      <a:pt x="7412" y="2"/>
                      <a:pt x="7413" y="2"/>
                    </a:cubicBezTo>
                    <a:close/>
                    <a:moveTo>
                      <a:pt x="7421" y="2"/>
                    </a:moveTo>
                    <a:lnTo>
                      <a:pt x="7421" y="2"/>
                    </a:lnTo>
                    <a:cubicBezTo>
                      <a:pt x="7423" y="2"/>
                      <a:pt x="7423" y="2"/>
                      <a:pt x="7423" y="4"/>
                    </a:cubicBezTo>
                    <a:cubicBezTo>
                      <a:pt x="7423" y="5"/>
                      <a:pt x="7423" y="6"/>
                      <a:pt x="7421" y="6"/>
                    </a:cubicBezTo>
                    <a:lnTo>
                      <a:pt x="7421" y="6"/>
                    </a:lnTo>
                    <a:cubicBezTo>
                      <a:pt x="7420" y="6"/>
                      <a:pt x="7419" y="5"/>
                      <a:pt x="7419" y="4"/>
                    </a:cubicBezTo>
                    <a:cubicBezTo>
                      <a:pt x="7419" y="2"/>
                      <a:pt x="7420" y="2"/>
                      <a:pt x="7421" y="2"/>
                    </a:cubicBezTo>
                    <a:close/>
                    <a:moveTo>
                      <a:pt x="7429" y="2"/>
                    </a:moveTo>
                    <a:lnTo>
                      <a:pt x="7429" y="2"/>
                    </a:lnTo>
                    <a:cubicBezTo>
                      <a:pt x="7431" y="2"/>
                      <a:pt x="7431" y="2"/>
                      <a:pt x="7431" y="4"/>
                    </a:cubicBezTo>
                    <a:cubicBezTo>
                      <a:pt x="7431" y="5"/>
                      <a:pt x="7431" y="6"/>
                      <a:pt x="7429" y="6"/>
                    </a:cubicBezTo>
                    <a:lnTo>
                      <a:pt x="7429" y="6"/>
                    </a:lnTo>
                    <a:cubicBezTo>
                      <a:pt x="7428" y="6"/>
                      <a:pt x="7427" y="5"/>
                      <a:pt x="7427" y="4"/>
                    </a:cubicBezTo>
                    <a:cubicBezTo>
                      <a:pt x="7427" y="2"/>
                      <a:pt x="7428" y="2"/>
                      <a:pt x="7429" y="2"/>
                    </a:cubicBezTo>
                    <a:close/>
                    <a:moveTo>
                      <a:pt x="7437" y="2"/>
                    </a:moveTo>
                    <a:lnTo>
                      <a:pt x="7437" y="2"/>
                    </a:lnTo>
                    <a:cubicBezTo>
                      <a:pt x="7439" y="2"/>
                      <a:pt x="7439" y="2"/>
                      <a:pt x="7439" y="4"/>
                    </a:cubicBezTo>
                    <a:cubicBezTo>
                      <a:pt x="7439" y="5"/>
                      <a:pt x="7439" y="6"/>
                      <a:pt x="7437" y="6"/>
                    </a:cubicBezTo>
                    <a:lnTo>
                      <a:pt x="7437" y="6"/>
                    </a:lnTo>
                    <a:cubicBezTo>
                      <a:pt x="7436" y="6"/>
                      <a:pt x="7435" y="5"/>
                      <a:pt x="7435" y="4"/>
                    </a:cubicBezTo>
                    <a:cubicBezTo>
                      <a:pt x="7435" y="2"/>
                      <a:pt x="7436" y="2"/>
                      <a:pt x="7437" y="2"/>
                    </a:cubicBezTo>
                    <a:close/>
                    <a:moveTo>
                      <a:pt x="7445" y="2"/>
                    </a:moveTo>
                    <a:lnTo>
                      <a:pt x="7445" y="2"/>
                    </a:lnTo>
                    <a:cubicBezTo>
                      <a:pt x="7447" y="2"/>
                      <a:pt x="7447" y="2"/>
                      <a:pt x="7447" y="4"/>
                    </a:cubicBezTo>
                    <a:cubicBezTo>
                      <a:pt x="7447" y="5"/>
                      <a:pt x="7447" y="6"/>
                      <a:pt x="7445" y="6"/>
                    </a:cubicBezTo>
                    <a:lnTo>
                      <a:pt x="7445" y="6"/>
                    </a:lnTo>
                    <a:cubicBezTo>
                      <a:pt x="7444" y="6"/>
                      <a:pt x="7443" y="5"/>
                      <a:pt x="7443" y="4"/>
                    </a:cubicBezTo>
                    <a:cubicBezTo>
                      <a:pt x="7443" y="2"/>
                      <a:pt x="7444" y="2"/>
                      <a:pt x="7445" y="2"/>
                    </a:cubicBezTo>
                    <a:close/>
                    <a:moveTo>
                      <a:pt x="7453" y="2"/>
                    </a:moveTo>
                    <a:lnTo>
                      <a:pt x="7453" y="2"/>
                    </a:lnTo>
                    <a:cubicBezTo>
                      <a:pt x="7455" y="2"/>
                      <a:pt x="7455" y="2"/>
                      <a:pt x="7455" y="4"/>
                    </a:cubicBezTo>
                    <a:cubicBezTo>
                      <a:pt x="7455" y="5"/>
                      <a:pt x="7455" y="6"/>
                      <a:pt x="7453" y="6"/>
                    </a:cubicBezTo>
                    <a:lnTo>
                      <a:pt x="7453" y="6"/>
                    </a:lnTo>
                    <a:cubicBezTo>
                      <a:pt x="7452" y="6"/>
                      <a:pt x="7451" y="5"/>
                      <a:pt x="7451" y="4"/>
                    </a:cubicBezTo>
                    <a:cubicBezTo>
                      <a:pt x="7451" y="2"/>
                      <a:pt x="7452" y="2"/>
                      <a:pt x="7453" y="2"/>
                    </a:cubicBezTo>
                    <a:close/>
                    <a:moveTo>
                      <a:pt x="7461" y="2"/>
                    </a:moveTo>
                    <a:lnTo>
                      <a:pt x="7461" y="2"/>
                    </a:lnTo>
                    <a:cubicBezTo>
                      <a:pt x="7463" y="2"/>
                      <a:pt x="7463" y="2"/>
                      <a:pt x="7463" y="4"/>
                    </a:cubicBezTo>
                    <a:cubicBezTo>
                      <a:pt x="7463" y="5"/>
                      <a:pt x="7463" y="6"/>
                      <a:pt x="7461" y="6"/>
                    </a:cubicBezTo>
                    <a:lnTo>
                      <a:pt x="7461" y="6"/>
                    </a:lnTo>
                    <a:cubicBezTo>
                      <a:pt x="7460" y="6"/>
                      <a:pt x="7459" y="5"/>
                      <a:pt x="7459" y="4"/>
                    </a:cubicBezTo>
                    <a:cubicBezTo>
                      <a:pt x="7459" y="2"/>
                      <a:pt x="7460" y="2"/>
                      <a:pt x="7461" y="2"/>
                    </a:cubicBezTo>
                    <a:close/>
                    <a:moveTo>
                      <a:pt x="7469" y="2"/>
                    </a:moveTo>
                    <a:lnTo>
                      <a:pt x="7469" y="2"/>
                    </a:lnTo>
                    <a:cubicBezTo>
                      <a:pt x="7471" y="2"/>
                      <a:pt x="7471" y="3"/>
                      <a:pt x="7471" y="4"/>
                    </a:cubicBezTo>
                    <a:cubicBezTo>
                      <a:pt x="7471" y="5"/>
                      <a:pt x="7471" y="6"/>
                      <a:pt x="7469" y="6"/>
                    </a:cubicBezTo>
                    <a:lnTo>
                      <a:pt x="7469" y="6"/>
                    </a:lnTo>
                    <a:cubicBezTo>
                      <a:pt x="7468" y="6"/>
                      <a:pt x="7467" y="5"/>
                      <a:pt x="7467" y="4"/>
                    </a:cubicBezTo>
                    <a:cubicBezTo>
                      <a:pt x="7467" y="3"/>
                      <a:pt x="7468" y="2"/>
                      <a:pt x="7469" y="2"/>
                    </a:cubicBezTo>
                    <a:close/>
                    <a:moveTo>
                      <a:pt x="7477" y="2"/>
                    </a:moveTo>
                    <a:lnTo>
                      <a:pt x="7477" y="2"/>
                    </a:lnTo>
                    <a:cubicBezTo>
                      <a:pt x="7479" y="2"/>
                      <a:pt x="7479" y="3"/>
                      <a:pt x="7479" y="4"/>
                    </a:cubicBezTo>
                    <a:cubicBezTo>
                      <a:pt x="7479" y="5"/>
                      <a:pt x="7479" y="6"/>
                      <a:pt x="7477" y="6"/>
                    </a:cubicBezTo>
                    <a:lnTo>
                      <a:pt x="7477" y="6"/>
                    </a:lnTo>
                    <a:cubicBezTo>
                      <a:pt x="7476" y="6"/>
                      <a:pt x="7475" y="5"/>
                      <a:pt x="7475" y="4"/>
                    </a:cubicBezTo>
                    <a:cubicBezTo>
                      <a:pt x="7475" y="3"/>
                      <a:pt x="7476" y="2"/>
                      <a:pt x="7477" y="2"/>
                    </a:cubicBezTo>
                    <a:close/>
                    <a:moveTo>
                      <a:pt x="7485" y="2"/>
                    </a:moveTo>
                    <a:lnTo>
                      <a:pt x="7485" y="2"/>
                    </a:lnTo>
                    <a:cubicBezTo>
                      <a:pt x="7487" y="2"/>
                      <a:pt x="7487" y="3"/>
                      <a:pt x="7487" y="4"/>
                    </a:cubicBezTo>
                    <a:cubicBezTo>
                      <a:pt x="7487" y="5"/>
                      <a:pt x="7487" y="6"/>
                      <a:pt x="7485" y="6"/>
                    </a:cubicBezTo>
                    <a:lnTo>
                      <a:pt x="7485" y="6"/>
                    </a:lnTo>
                    <a:cubicBezTo>
                      <a:pt x="7484" y="6"/>
                      <a:pt x="7483" y="5"/>
                      <a:pt x="7483" y="4"/>
                    </a:cubicBezTo>
                    <a:cubicBezTo>
                      <a:pt x="7483" y="3"/>
                      <a:pt x="7484" y="2"/>
                      <a:pt x="7485" y="2"/>
                    </a:cubicBezTo>
                    <a:close/>
                    <a:moveTo>
                      <a:pt x="7493" y="2"/>
                    </a:moveTo>
                    <a:lnTo>
                      <a:pt x="7493" y="2"/>
                    </a:lnTo>
                    <a:cubicBezTo>
                      <a:pt x="7495" y="2"/>
                      <a:pt x="7495" y="3"/>
                      <a:pt x="7495" y="4"/>
                    </a:cubicBezTo>
                    <a:cubicBezTo>
                      <a:pt x="7495" y="5"/>
                      <a:pt x="7495" y="6"/>
                      <a:pt x="7493" y="6"/>
                    </a:cubicBezTo>
                    <a:lnTo>
                      <a:pt x="7493" y="6"/>
                    </a:lnTo>
                    <a:cubicBezTo>
                      <a:pt x="7492" y="6"/>
                      <a:pt x="7491" y="5"/>
                      <a:pt x="7491" y="4"/>
                    </a:cubicBezTo>
                    <a:cubicBezTo>
                      <a:pt x="7491" y="3"/>
                      <a:pt x="7492" y="2"/>
                      <a:pt x="7493" y="2"/>
                    </a:cubicBezTo>
                    <a:close/>
                    <a:moveTo>
                      <a:pt x="7501" y="2"/>
                    </a:moveTo>
                    <a:lnTo>
                      <a:pt x="7501" y="2"/>
                    </a:lnTo>
                    <a:cubicBezTo>
                      <a:pt x="7503" y="2"/>
                      <a:pt x="7503" y="3"/>
                      <a:pt x="7503" y="4"/>
                    </a:cubicBezTo>
                    <a:cubicBezTo>
                      <a:pt x="7503" y="5"/>
                      <a:pt x="7503" y="6"/>
                      <a:pt x="7501" y="6"/>
                    </a:cubicBezTo>
                    <a:lnTo>
                      <a:pt x="7501" y="6"/>
                    </a:lnTo>
                    <a:cubicBezTo>
                      <a:pt x="7500" y="6"/>
                      <a:pt x="7499" y="5"/>
                      <a:pt x="7499" y="4"/>
                    </a:cubicBezTo>
                    <a:cubicBezTo>
                      <a:pt x="7499" y="3"/>
                      <a:pt x="7500" y="2"/>
                      <a:pt x="7501" y="2"/>
                    </a:cubicBezTo>
                    <a:close/>
                    <a:moveTo>
                      <a:pt x="7509" y="2"/>
                    </a:moveTo>
                    <a:lnTo>
                      <a:pt x="7509" y="2"/>
                    </a:lnTo>
                    <a:cubicBezTo>
                      <a:pt x="7511" y="2"/>
                      <a:pt x="7511" y="3"/>
                      <a:pt x="7511" y="4"/>
                    </a:cubicBezTo>
                    <a:cubicBezTo>
                      <a:pt x="7511" y="5"/>
                      <a:pt x="7511" y="6"/>
                      <a:pt x="7509" y="6"/>
                    </a:cubicBezTo>
                    <a:lnTo>
                      <a:pt x="7509" y="6"/>
                    </a:lnTo>
                    <a:cubicBezTo>
                      <a:pt x="7508" y="6"/>
                      <a:pt x="7507" y="5"/>
                      <a:pt x="7507" y="4"/>
                    </a:cubicBezTo>
                    <a:cubicBezTo>
                      <a:pt x="7507" y="3"/>
                      <a:pt x="7508" y="2"/>
                      <a:pt x="7509" y="2"/>
                    </a:cubicBezTo>
                    <a:close/>
                    <a:moveTo>
                      <a:pt x="7517" y="2"/>
                    </a:moveTo>
                    <a:lnTo>
                      <a:pt x="7517" y="2"/>
                    </a:lnTo>
                    <a:cubicBezTo>
                      <a:pt x="7519" y="2"/>
                      <a:pt x="7519" y="3"/>
                      <a:pt x="7519" y="4"/>
                    </a:cubicBezTo>
                    <a:cubicBezTo>
                      <a:pt x="7519" y="5"/>
                      <a:pt x="7519" y="6"/>
                      <a:pt x="7517" y="6"/>
                    </a:cubicBezTo>
                    <a:lnTo>
                      <a:pt x="7517" y="6"/>
                    </a:lnTo>
                    <a:cubicBezTo>
                      <a:pt x="7516" y="6"/>
                      <a:pt x="7515" y="5"/>
                      <a:pt x="7515" y="4"/>
                    </a:cubicBezTo>
                    <a:cubicBezTo>
                      <a:pt x="7515" y="3"/>
                      <a:pt x="7516" y="2"/>
                      <a:pt x="7517" y="2"/>
                    </a:cubicBezTo>
                    <a:close/>
                    <a:moveTo>
                      <a:pt x="7525" y="2"/>
                    </a:moveTo>
                    <a:lnTo>
                      <a:pt x="7525" y="2"/>
                    </a:lnTo>
                    <a:cubicBezTo>
                      <a:pt x="7527" y="2"/>
                      <a:pt x="7527" y="3"/>
                      <a:pt x="7527" y="4"/>
                    </a:cubicBezTo>
                    <a:cubicBezTo>
                      <a:pt x="7527" y="5"/>
                      <a:pt x="7527" y="6"/>
                      <a:pt x="7525" y="6"/>
                    </a:cubicBezTo>
                    <a:lnTo>
                      <a:pt x="7525" y="6"/>
                    </a:lnTo>
                    <a:cubicBezTo>
                      <a:pt x="7524" y="6"/>
                      <a:pt x="7523" y="5"/>
                      <a:pt x="7523" y="4"/>
                    </a:cubicBezTo>
                    <a:cubicBezTo>
                      <a:pt x="7523" y="3"/>
                      <a:pt x="7524" y="2"/>
                      <a:pt x="7525" y="2"/>
                    </a:cubicBezTo>
                    <a:close/>
                    <a:moveTo>
                      <a:pt x="7533" y="2"/>
                    </a:moveTo>
                    <a:lnTo>
                      <a:pt x="7534" y="2"/>
                    </a:lnTo>
                    <a:cubicBezTo>
                      <a:pt x="7535" y="2"/>
                      <a:pt x="7536" y="3"/>
                      <a:pt x="7536" y="4"/>
                    </a:cubicBezTo>
                    <a:cubicBezTo>
                      <a:pt x="7536" y="5"/>
                      <a:pt x="7535" y="6"/>
                      <a:pt x="7534" y="6"/>
                    </a:cubicBezTo>
                    <a:lnTo>
                      <a:pt x="7533" y="6"/>
                    </a:lnTo>
                    <a:cubicBezTo>
                      <a:pt x="7532" y="6"/>
                      <a:pt x="7531" y="5"/>
                      <a:pt x="7531" y="4"/>
                    </a:cubicBezTo>
                    <a:cubicBezTo>
                      <a:pt x="7531" y="3"/>
                      <a:pt x="7532" y="2"/>
                      <a:pt x="7533" y="2"/>
                    </a:cubicBezTo>
                    <a:close/>
                    <a:moveTo>
                      <a:pt x="7542" y="2"/>
                    </a:moveTo>
                    <a:lnTo>
                      <a:pt x="7542" y="2"/>
                    </a:lnTo>
                    <a:cubicBezTo>
                      <a:pt x="7543" y="2"/>
                      <a:pt x="7544" y="3"/>
                      <a:pt x="7544" y="4"/>
                    </a:cubicBezTo>
                    <a:cubicBezTo>
                      <a:pt x="7544" y="5"/>
                      <a:pt x="7543" y="6"/>
                      <a:pt x="7542" y="6"/>
                    </a:cubicBezTo>
                    <a:lnTo>
                      <a:pt x="7542" y="6"/>
                    </a:lnTo>
                    <a:cubicBezTo>
                      <a:pt x="7540" y="6"/>
                      <a:pt x="7540" y="5"/>
                      <a:pt x="7540" y="4"/>
                    </a:cubicBezTo>
                    <a:cubicBezTo>
                      <a:pt x="7540" y="3"/>
                      <a:pt x="7540" y="2"/>
                      <a:pt x="7542" y="2"/>
                    </a:cubicBezTo>
                    <a:close/>
                    <a:moveTo>
                      <a:pt x="7550" y="2"/>
                    </a:moveTo>
                    <a:lnTo>
                      <a:pt x="7550" y="2"/>
                    </a:lnTo>
                    <a:cubicBezTo>
                      <a:pt x="7551" y="2"/>
                      <a:pt x="7552" y="3"/>
                      <a:pt x="7552" y="4"/>
                    </a:cubicBezTo>
                    <a:cubicBezTo>
                      <a:pt x="7552" y="5"/>
                      <a:pt x="7551" y="6"/>
                      <a:pt x="7550" y="6"/>
                    </a:cubicBezTo>
                    <a:lnTo>
                      <a:pt x="7550" y="6"/>
                    </a:lnTo>
                    <a:cubicBezTo>
                      <a:pt x="7548" y="6"/>
                      <a:pt x="7548" y="5"/>
                      <a:pt x="7548" y="4"/>
                    </a:cubicBezTo>
                    <a:cubicBezTo>
                      <a:pt x="7548" y="3"/>
                      <a:pt x="7548" y="2"/>
                      <a:pt x="7550" y="2"/>
                    </a:cubicBezTo>
                    <a:close/>
                    <a:moveTo>
                      <a:pt x="7558" y="2"/>
                    </a:moveTo>
                    <a:lnTo>
                      <a:pt x="7558" y="2"/>
                    </a:lnTo>
                    <a:cubicBezTo>
                      <a:pt x="7559" y="2"/>
                      <a:pt x="7560" y="3"/>
                      <a:pt x="7560" y="4"/>
                    </a:cubicBezTo>
                    <a:cubicBezTo>
                      <a:pt x="7560" y="5"/>
                      <a:pt x="7559" y="6"/>
                      <a:pt x="7558" y="6"/>
                    </a:cubicBezTo>
                    <a:lnTo>
                      <a:pt x="7558" y="6"/>
                    </a:lnTo>
                    <a:cubicBezTo>
                      <a:pt x="7556" y="6"/>
                      <a:pt x="7556" y="5"/>
                      <a:pt x="7556" y="4"/>
                    </a:cubicBezTo>
                    <a:cubicBezTo>
                      <a:pt x="7556" y="3"/>
                      <a:pt x="7556" y="2"/>
                      <a:pt x="7558" y="2"/>
                    </a:cubicBezTo>
                    <a:close/>
                    <a:moveTo>
                      <a:pt x="7566" y="2"/>
                    </a:moveTo>
                    <a:lnTo>
                      <a:pt x="7566" y="2"/>
                    </a:lnTo>
                    <a:cubicBezTo>
                      <a:pt x="7567" y="2"/>
                      <a:pt x="7568" y="3"/>
                      <a:pt x="7568" y="4"/>
                    </a:cubicBezTo>
                    <a:cubicBezTo>
                      <a:pt x="7568" y="5"/>
                      <a:pt x="7567" y="6"/>
                      <a:pt x="7566" y="6"/>
                    </a:cubicBezTo>
                    <a:lnTo>
                      <a:pt x="7566" y="6"/>
                    </a:lnTo>
                    <a:cubicBezTo>
                      <a:pt x="7564" y="6"/>
                      <a:pt x="7564" y="5"/>
                      <a:pt x="7564" y="4"/>
                    </a:cubicBezTo>
                    <a:cubicBezTo>
                      <a:pt x="7564" y="3"/>
                      <a:pt x="7564" y="2"/>
                      <a:pt x="7566" y="2"/>
                    </a:cubicBezTo>
                    <a:close/>
                    <a:moveTo>
                      <a:pt x="7574" y="2"/>
                    </a:moveTo>
                    <a:lnTo>
                      <a:pt x="7574" y="2"/>
                    </a:lnTo>
                    <a:cubicBezTo>
                      <a:pt x="7575" y="2"/>
                      <a:pt x="7576" y="3"/>
                      <a:pt x="7576" y="4"/>
                    </a:cubicBezTo>
                    <a:cubicBezTo>
                      <a:pt x="7576" y="5"/>
                      <a:pt x="7575" y="6"/>
                      <a:pt x="7574" y="6"/>
                    </a:cubicBezTo>
                    <a:lnTo>
                      <a:pt x="7574" y="6"/>
                    </a:lnTo>
                    <a:cubicBezTo>
                      <a:pt x="7572" y="6"/>
                      <a:pt x="7572" y="5"/>
                      <a:pt x="7572" y="4"/>
                    </a:cubicBezTo>
                    <a:cubicBezTo>
                      <a:pt x="7572" y="3"/>
                      <a:pt x="7572" y="2"/>
                      <a:pt x="7574" y="2"/>
                    </a:cubicBezTo>
                    <a:close/>
                    <a:moveTo>
                      <a:pt x="7582" y="2"/>
                    </a:moveTo>
                    <a:lnTo>
                      <a:pt x="7582" y="2"/>
                    </a:lnTo>
                    <a:cubicBezTo>
                      <a:pt x="7583" y="2"/>
                      <a:pt x="7584" y="3"/>
                      <a:pt x="7584" y="4"/>
                    </a:cubicBezTo>
                    <a:cubicBezTo>
                      <a:pt x="7584" y="5"/>
                      <a:pt x="7583" y="6"/>
                      <a:pt x="7582" y="6"/>
                    </a:cubicBezTo>
                    <a:lnTo>
                      <a:pt x="7582" y="6"/>
                    </a:lnTo>
                    <a:cubicBezTo>
                      <a:pt x="7580" y="6"/>
                      <a:pt x="7580" y="5"/>
                      <a:pt x="7580" y="4"/>
                    </a:cubicBezTo>
                    <a:cubicBezTo>
                      <a:pt x="7580" y="3"/>
                      <a:pt x="7580" y="2"/>
                      <a:pt x="7582" y="2"/>
                    </a:cubicBezTo>
                    <a:close/>
                    <a:moveTo>
                      <a:pt x="7590" y="2"/>
                    </a:moveTo>
                    <a:lnTo>
                      <a:pt x="7590" y="2"/>
                    </a:lnTo>
                    <a:cubicBezTo>
                      <a:pt x="7591" y="2"/>
                      <a:pt x="7592" y="3"/>
                      <a:pt x="7592" y="4"/>
                    </a:cubicBezTo>
                    <a:cubicBezTo>
                      <a:pt x="7592" y="5"/>
                      <a:pt x="7591" y="6"/>
                      <a:pt x="7590" y="6"/>
                    </a:cubicBezTo>
                    <a:lnTo>
                      <a:pt x="7590" y="6"/>
                    </a:lnTo>
                    <a:cubicBezTo>
                      <a:pt x="7588" y="6"/>
                      <a:pt x="7588" y="5"/>
                      <a:pt x="7588" y="4"/>
                    </a:cubicBezTo>
                    <a:cubicBezTo>
                      <a:pt x="7588" y="3"/>
                      <a:pt x="7588" y="2"/>
                      <a:pt x="7590" y="2"/>
                    </a:cubicBezTo>
                    <a:close/>
                    <a:moveTo>
                      <a:pt x="7598" y="2"/>
                    </a:moveTo>
                    <a:lnTo>
                      <a:pt x="7598" y="2"/>
                    </a:lnTo>
                    <a:cubicBezTo>
                      <a:pt x="7599" y="2"/>
                      <a:pt x="7600" y="3"/>
                      <a:pt x="7600" y="4"/>
                    </a:cubicBezTo>
                    <a:cubicBezTo>
                      <a:pt x="7600" y="5"/>
                      <a:pt x="7599" y="6"/>
                      <a:pt x="7598" y="6"/>
                    </a:cubicBezTo>
                    <a:lnTo>
                      <a:pt x="7598" y="6"/>
                    </a:lnTo>
                    <a:cubicBezTo>
                      <a:pt x="7596" y="6"/>
                      <a:pt x="7596" y="5"/>
                      <a:pt x="7596" y="4"/>
                    </a:cubicBezTo>
                    <a:cubicBezTo>
                      <a:pt x="7596" y="3"/>
                      <a:pt x="7596" y="2"/>
                      <a:pt x="7598" y="2"/>
                    </a:cubicBezTo>
                    <a:close/>
                    <a:moveTo>
                      <a:pt x="7606" y="2"/>
                    </a:moveTo>
                    <a:lnTo>
                      <a:pt x="7606" y="2"/>
                    </a:lnTo>
                    <a:cubicBezTo>
                      <a:pt x="7607" y="2"/>
                      <a:pt x="7608" y="3"/>
                      <a:pt x="7608" y="4"/>
                    </a:cubicBezTo>
                    <a:cubicBezTo>
                      <a:pt x="7608" y="5"/>
                      <a:pt x="7607" y="6"/>
                      <a:pt x="7606" y="6"/>
                    </a:cubicBezTo>
                    <a:lnTo>
                      <a:pt x="7606" y="6"/>
                    </a:lnTo>
                    <a:cubicBezTo>
                      <a:pt x="7604" y="6"/>
                      <a:pt x="7604" y="5"/>
                      <a:pt x="7604" y="4"/>
                    </a:cubicBezTo>
                    <a:cubicBezTo>
                      <a:pt x="7604" y="3"/>
                      <a:pt x="7604" y="2"/>
                      <a:pt x="7606" y="2"/>
                    </a:cubicBezTo>
                    <a:close/>
                    <a:moveTo>
                      <a:pt x="7614" y="2"/>
                    </a:moveTo>
                    <a:lnTo>
                      <a:pt x="7614" y="2"/>
                    </a:lnTo>
                    <a:cubicBezTo>
                      <a:pt x="7615" y="2"/>
                      <a:pt x="7616" y="3"/>
                      <a:pt x="7616" y="4"/>
                    </a:cubicBezTo>
                    <a:cubicBezTo>
                      <a:pt x="7616" y="5"/>
                      <a:pt x="7615" y="6"/>
                      <a:pt x="7614" y="6"/>
                    </a:cubicBezTo>
                    <a:lnTo>
                      <a:pt x="7614" y="6"/>
                    </a:lnTo>
                    <a:cubicBezTo>
                      <a:pt x="7612" y="6"/>
                      <a:pt x="7612" y="5"/>
                      <a:pt x="7612" y="4"/>
                    </a:cubicBezTo>
                    <a:cubicBezTo>
                      <a:pt x="7612" y="3"/>
                      <a:pt x="7612" y="2"/>
                      <a:pt x="7614" y="2"/>
                    </a:cubicBezTo>
                    <a:close/>
                    <a:moveTo>
                      <a:pt x="7622" y="2"/>
                    </a:moveTo>
                    <a:lnTo>
                      <a:pt x="7622" y="2"/>
                    </a:lnTo>
                    <a:cubicBezTo>
                      <a:pt x="7623" y="2"/>
                      <a:pt x="7624" y="3"/>
                      <a:pt x="7624" y="4"/>
                    </a:cubicBezTo>
                    <a:cubicBezTo>
                      <a:pt x="7624" y="5"/>
                      <a:pt x="7623" y="6"/>
                      <a:pt x="7622" y="6"/>
                    </a:cubicBezTo>
                    <a:lnTo>
                      <a:pt x="7622" y="6"/>
                    </a:lnTo>
                    <a:cubicBezTo>
                      <a:pt x="7620" y="6"/>
                      <a:pt x="7620" y="5"/>
                      <a:pt x="7620" y="4"/>
                    </a:cubicBezTo>
                    <a:cubicBezTo>
                      <a:pt x="7620" y="3"/>
                      <a:pt x="7620" y="2"/>
                      <a:pt x="7622" y="2"/>
                    </a:cubicBezTo>
                    <a:close/>
                    <a:moveTo>
                      <a:pt x="7630" y="2"/>
                    </a:moveTo>
                    <a:lnTo>
                      <a:pt x="7630" y="2"/>
                    </a:lnTo>
                    <a:cubicBezTo>
                      <a:pt x="7631" y="2"/>
                      <a:pt x="7632" y="3"/>
                      <a:pt x="7632" y="4"/>
                    </a:cubicBezTo>
                    <a:cubicBezTo>
                      <a:pt x="7632" y="5"/>
                      <a:pt x="7631" y="6"/>
                      <a:pt x="7630" y="6"/>
                    </a:cubicBezTo>
                    <a:lnTo>
                      <a:pt x="7630" y="6"/>
                    </a:lnTo>
                    <a:cubicBezTo>
                      <a:pt x="7628" y="6"/>
                      <a:pt x="7628" y="5"/>
                      <a:pt x="7628" y="4"/>
                    </a:cubicBezTo>
                    <a:cubicBezTo>
                      <a:pt x="7628" y="3"/>
                      <a:pt x="7628" y="2"/>
                      <a:pt x="7630" y="2"/>
                    </a:cubicBezTo>
                    <a:close/>
                    <a:moveTo>
                      <a:pt x="7638" y="2"/>
                    </a:moveTo>
                    <a:lnTo>
                      <a:pt x="7638" y="2"/>
                    </a:lnTo>
                    <a:cubicBezTo>
                      <a:pt x="7639" y="2"/>
                      <a:pt x="7640" y="3"/>
                      <a:pt x="7640" y="4"/>
                    </a:cubicBezTo>
                    <a:cubicBezTo>
                      <a:pt x="7640" y="5"/>
                      <a:pt x="7639" y="6"/>
                      <a:pt x="7638" y="6"/>
                    </a:cubicBezTo>
                    <a:lnTo>
                      <a:pt x="7638" y="6"/>
                    </a:lnTo>
                    <a:cubicBezTo>
                      <a:pt x="7636" y="6"/>
                      <a:pt x="7636" y="5"/>
                      <a:pt x="7636" y="4"/>
                    </a:cubicBezTo>
                    <a:cubicBezTo>
                      <a:pt x="7636" y="3"/>
                      <a:pt x="7636" y="2"/>
                      <a:pt x="7638" y="2"/>
                    </a:cubicBezTo>
                    <a:close/>
                    <a:moveTo>
                      <a:pt x="7646" y="2"/>
                    </a:moveTo>
                    <a:lnTo>
                      <a:pt x="7646" y="2"/>
                    </a:lnTo>
                    <a:cubicBezTo>
                      <a:pt x="7647" y="2"/>
                      <a:pt x="7648" y="3"/>
                      <a:pt x="7648" y="4"/>
                    </a:cubicBezTo>
                    <a:cubicBezTo>
                      <a:pt x="7648" y="5"/>
                      <a:pt x="7647" y="6"/>
                      <a:pt x="7646" y="6"/>
                    </a:cubicBezTo>
                    <a:lnTo>
                      <a:pt x="7646" y="6"/>
                    </a:lnTo>
                    <a:cubicBezTo>
                      <a:pt x="7644" y="6"/>
                      <a:pt x="7644" y="5"/>
                      <a:pt x="7644" y="4"/>
                    </a:cubicBezTo>
                    <a:cubicBezTo>
                      <a:pt x="7644" y="3"/>
                      <a:pt x="7644" y="2"/>
                      <a:pt x="7646" y="2"/>
                    </a:cubicBezTo>
                    <a:close/>
                    <a:moveTo>
                      <a:pt x="7654" y="2"/>
                    </a:moveTo>
                    <a:lnTo>
                      <a:pt x="7654" y="2"/>
                    </a:lnTo>
                    <a:cubicBezTo>
                      <a:pt x="7655" y="2"/>
                      <a:pt x="7656" y="3"/>
                      <a:pt x="7656" y="4"/>
                    </a:cubicBezTo>
                    <a:cubicBezTo>
                      <a:pt x="7656" y="5"/>
                      <a:pt x="7655" y="6"/>
                      <a:pt x="7654" y="6"/>
                    </a:cubicBezTo>
                    <a:lnTo>
                      <a:pt x="7654" y="6"/>
                    </a:lnTo>
                    <a:cubicBezTo>
                      <a:pt x="7652" y="6"/>
                      <a:pt x="7652" y="5"/>
                      <a:pt x="7652" y="4"/>
                    </a:cubicBezTo>
                    <a:cubicBezTo>
                      <a:pt x="7652" y="3"/>
                      <a:pt x="7652" y="2"/>
                      <a:pt x="7654" y="2"/>
                    </a:cubicBezTo>
                    <a:close/>
                    <a:moveTo>
                      <a:pt x="7662" y="2"/>
                    </a:moveTo>
                    <a:lnTo>
                      <a:pt x="7662" y="2"/>
                    </a:lnTo>
                    <a:cubicBezTo>
                      <a:pt x="7663" y="2"/>
                      <a:pt x="7664" y="3"/>
                      <a:pt x="7664" y="4"/>
                    </a:cubicBezTo>
                    <a:cubicBezTo>
                      <a:pt x="7664" y="5"/>
                      <a:pt x="7663" y="6"/>
                      <a:pt x="7662" y="6"/>
                    </a:cubicBezTo>
                    <a:lnTo>
                      <a:pt x="7662" y="6"/>
                    </a:lnTo>
                    <a:cubicBezTo>
                      <a:pt x="7660" y="6"/>
                      <a:pt x="7660" y="5"/>
                      <a:pt x="7660" y="4"/>
                    </a:cubicBezTo>
                    <a:cubicBezTo>
                      <a:pt x="7660" y="3"/>
                      <a:pt x="7660" y="2"/>
                      <a:pt x="7662" y="2"/>
                    </a:cubicBezTo>
                    <a:close/>
                    <a:moveTo>
                      <a:pt x="7670" y="2"/>
                    </a:moveTo>
                    <a:lnTo>
                      <a:pt x="7670" y="2"/>
                    </a:lnTo>
                    <a:cubicBezTo>
                      <a:pt x="7671" y="2"/>
                      <a:pt x="7672" y="3"/>
                      <a:pt x="7672" y="4"/>
                    </a:cubicBezTo>
                    <a:cubicBezTo>
                      <a:pt x="7672" y="5"/>
                      <a:pt x="7671" y="6"/>
                      <a:pt x="7670" y="6"/>
                    </a:cubicBezTo>
                    <a:lnTo>
                      <a:pt x="7670" y="6"/>
                    </a:lnTo>
                    <a:cubicBezTo>
                      <a:pt x="7668" y="6"/>
                      <a:pt x="7668" y="5"/>
                      <a:pt x="7668" y="4"/>
                    </a:cubicBezTo>
                    <a:cubicBezTo>
                      <a:pt x="7668" y="3"/>
                      <a:pt x="7668" y="2"/>
                      <a:pt x="7670" y="2"/>
                    </a:cubicBezTo>
                    <a:close/>
                    <a:moveTo>
                      <a:pt x="7678" y="2"/>
                    </a:moveTo>
                    <a:lnTo>
                      <a:pt x="7678" y="2"/>
                    </a:lnTo>
                    <a:cubicBezTo>
                      <a:pt x="7679" y="2"/>
                      <a:pt x="7680" y="3"/>
                      <a:pt x="7680" y="4"/>
                    </a:cubicBezTo>
                    <a:cubicBezTo>
                      <a:pt x="7680" y="5"/>
                      <a:pt x="7679" y="6"/>
                      <a:pt x="7678" y="6"/>
                    </a:cubicBezTo>
                    <a:lnTo>
                      <a:pt x="7678" y="6"/>
                    </a:lnTo>
                    <a:cubicBezTo>
                      <a:pt x="7676" y="6"/>
                      <a:pt x="7676" y="5"/>
                      <a:pt x="7676" y="4"/>
                    </a:cubicBezTo>
                    <a:cubicBezTo>
                      <a:pt x="7676" y="3"/>
                      <a:pt x="7676" y="2"/>
                      <a:pt x="7678" y="2"/>
                    </a:cubicBezTo>
                    <a:close/>
                    <a:moveTo>
                      <a:pt x="7686" y="2"/>
                    </a:moveTo>
                    <a:lnTo>
                      <a:pt x="7686" y="2"/>
                    </a:lnTo>
                    <a:cubicBezTo>
                      <a:pt x="7687" y="2"/>
                      <a:pt x="7688" y="3"/>
                      <a:pt x="7688" y="4"/>
                    </a:cubicBezTo>
                    <a:cubicBezTo>
                      <a:pt x="7688" y="5"/>
                      <a:pt x="7687" y="6"/>
                      <a:pt x="7686" y="6"/>
                    </a:cubicBezTo>
                    <a:lnTo>
                      <a:pt x="7686" y="6"/>
                    </a:lnTo>
                    <a:cubicBezTo>
                      <a:pt x="7684" y="6"/>
                      <a:pt x="7684" y="5"/>
                      <a:pt x="7684" y="4"/>
                    </a:cubicBezTo>
                    <a:cubicBezTo>
                      <a:pt x="7684" y="3"/>
                      <a:pt x="7684" y="2"/>
                      <a:pt x="7686" y="2"/>
                    </a:cubicBezTo>
                    <a:close/>
                    <a:moveTo>
                      <a:pt x="7694" y="2"/>
                    </a:moveTo>
                    <a:lnTo>
                      <a:pt x="7694" y="2"/>
                    </a:lnTo>
                    <a:cubicBezTo>
                      <a:pt x="7695" y="2"/>
                      <a:pt x="7696" y="3"/>
                      <a:pt x="7696" y="4"/>
                    </a:cubicBezTo>
                    <a:cubicBezTo>
                      <a:pt x="7696" y="5"/>
                      <a:pt x="7695" y="6"/>
                      <a:pt x="7694" y="6"/>
                    </a:cubicBezTo>
                    <a:lnTo>
                      <a:pt x="7694" y="6"/>
                    </a:lnTo>
                    <a:cubicBezTo>
                      <a:pt x="7692" y="6"/>
                      <a:pt x="7692" y="5"/>
                      <a:pt x="7692" y="4"/>
                    </a:cubicBezTo>
                    <a:cubicBezTo>
                      <a:pt x="7692" y="3"/>
                      <a:pt x="7692" y="2"/>
                      <a:pt x="7694" y="2"/>
                    </a:cubicBezTo>
                    <a:close/>
                    <a:moveTo>
                      <a:pt x="7702" y="2"/>
                    </a:moveTo>
                    <a:lnTo>
                      <a:pt x="7702" y="2"/>
                    </a:lnTo>
                    <a:cubicBezTo>
                      <a:pt x="7703" y="2"/>
                      <a:pt x="7704" y="3"/>
                      <a:pt x="7704" y="4"/>
                    </a:cubicBezTo>
                    <a:cubicBezTo>
                      <a:pt x="7704" y="5"/>
                      <a:pt x="7703" y="6"/>
                      <a:pt x="7702" y="6"/>
                    </a:cubicBezTo>
                    <a:lnTo>
                      <a:pt x="7702" y="6"/>
                    </a:lnTo>
                    <a:cubicBezTo>
                      <a:pt x="7700" y="6"/>
                      <a:pt x="7700" y="5"/>
                      <a:pt x="7700" y="4"/>
                    </a:cubicBezTo>
                    <a:cubicBezTo>
                      <a:pt x="7700" y="3"/>
                      <a:pt x="7700" y="2"/>
                      <a:pt x="7702" y="2"/>
                    </a:cubicBezTo>
                    <a:close/>
                    <a:moveTo>
                      <a:pt x="7710" y="2"/>
                    </a:moveTo>
                    <a:lnTo>
                      <a:pt x="7710" y="2"/>
                    </a:lnTo>
                    <a:cubicBezTo>
                      <a:pt x="7711" y="2"/>
                      <a:pt x="7712" y="3"/>
                      <a:pt x="7712" y="4"/>
                    </a:cubicBezTo>
                    <a:cubicBezTo>
                      <a:pt x="7712" y="5"/>
                      <a:pt x="7711" y="6"/>
                      <a:pt x="7710" y="6"/>
                    </a:cubicBezTo>
                    <a:lnTo>
                      <a:pt x="7710" y="6"/>
                    </a:lnTo>
                    <a:cubicBezTo>
                      <a:pt x="7708" y="6"/>
                      <a:pt x="7708" y="5"/>
                      <a:pt x="7708" y="4"/>
                    </a:cubicBezTo>
                    <a:cubicBezTo>
                      <a:pt x="7708" y="3"/>
                      <a:pt x="7708" y="2"/>
                      <a:pt x="7710" y="2"/>
                    </a:cubicBezTo>
                    <a:close/>
                    <a:moveTo>
                      <a:pt x="7718" y="2"/>
                    </a:moveTo>
                    <a:lnTo>
                      <a:pt x="7718" y="2"/>
                    </a:lnTo>
                    <a:cubicBezTo>
                      <a:pt x="7719" y="2"/>
                      <a:pt x="7720" y="3"/>
                      <a:pt x="7720" y="4"/>
                    </a:cubicBezTo>
                    <a:cubicBezTo>
                      <a:pt x="7720" y="5"/>
                      <a:pt x="7719" y="6"/>
                      <a:pt x="7718" y="6"/>
                    </a:cubicBezTo>
                    <a:lnTo>
                      <a:pt x="7718" y="6"/>
                    </a:lnTo>
                    <a:cubicBezTo>
                      <a:pt x="7716" y="6"/>
                      <a:pt x="7716" y="5"/>
                      <a:pt x="7716" y="4"/>
                    </a:cubicBezTo>
                    <a:cubicBezTo>
                      <a:pt x="7716" y="3"/>
                      <a:pt x="7716" y="2"/>
                      <a:pt x="7718" y="2"/>
                    </a:cubicBezTo>
                    <a:close/>
                    <a:moveTo>
                      <a:pt x="7726" y="2"/>
                    </a:moveTo>
                    <a:lnTo>
                      <a:pt x="7726" y="2"/>
                    </a:lnTo>
                    <a:cubicBezTo>
                      <a:pt x="7727" y="2"/>
                      <a:pt x="7728" y="3"/>
                      <a:pt x="7728" y="4"/>
                    </a:cubicBezTo>
                    <a:cubicBezTo>
                      <a:pt x="7728" y="5"/>
                      <a:pt x="7727" y="6"/>
                      <a:pt x="7726" y="6"/>
                    </a:cubicBezTo>
                    <a:lnTo>
                      <a:pt x="7726" y="6"/>
                    </a:lnTo>
                    <a:cubicBezTo>
                      <a:pt x="7724" y="6"/>
                      <a:pt x="7724" y="5"/>
                      <a:pt x="7724" y="4"/>
                    </a:cubicBezTo>
                    <a:cubicBezTo>
                      <a:pt x="7724" y="3"/>
                      <a:pt x="7724" y="2"/>
                      <a:pt x="7726" y="2"/>
                    </a:cubicBezTo>
                    <a:close/>
                    <a:moveTo>
                      <a:pt x="7734" y="2"/>
                    </a:moveTo>
                    <a:lnTo>
                      <a:pt x="7734" y="2"/>
                    </a:lnTo>
                    <a:cubicBezTo>
                      <a:pt x="7735" y="2"/>
                      <a:pt x="7736" y="3"/>
                      <a:pt x="7736" y="4"/>
                    </a:cubicBezTo>
                    <a:cubicBezTo>
                      <a:pt x="7736" y="5"/>
                      <a:pt x="7735" y="6"/>
                      <a:pt x="7734" y="6"/>
                    </a:cubicBezTo>
                    <a:lnTo>
                      <a:pt x="7734" y="6"/>
                    </a:lnTo>
                    <a:cubicBezTo>
                      <a:pt x="7732" y="6"/>
                      <a:pt x="7732" y="5"/>
                      <a:pt x="7732" y="4"/>
                    </a:cubicBezTo>
                    <a:cubicBezTo>
                      <a:pt x="7732" y="3"/>
                      <a:pt x="7732" y="2"/>
                      <a:pt x="7734" y="2"/>
                    </a:cubicBezTo>
                    <a:close/>
                    <a:moveTo>
                      <a:pt x="7742" y="2"/>
                    </a:moveTo>
                    <a:lnTo>
                      <a:pt x="7742" y="2"/>
                    </a:lnTo>
                    <a:cubicBezTo>
                      <a:pt x="7743" y="2"/>
                      <a:pt x="7744" y="3"/>
                      <a:pt x="7744" y="4"/>
                    </a:cubicBezTo>
                    <a:cubicBezTo>
                      <a:pt x="7744" y="5"/>
                      <a:pt x="7743" y="6"/>
                      <a:pt x="7742" y="6"/>
                    </a:cubicBezTo>
                    <a:lnTo>
                      <a:pt x="7742" y="6"/>
                    </a:lnTo>
                    <a:cubicBezTo>
                      <a:pt x="7740" y="6"/>
                      <a:pt x="7740" y="5"/>
                      <a:pt x="7740" y="4"/>
                    </a:cubicBezTo>
                    <a:cubicBezTo>
                      <a:pt x="7740" y="3"/>
                      <a:pt x="7740" y="2"/>
                      <a:pt x="7742" y="2"/>
                    </a:cubicBezTo>
                    <a:close/>
                    <a:moveTo>
                      <a:pt x="7750" y="2"/>
                    </a:moveTo>
                    <a:lnTo>
                      <a:pt x="7750" y="2"/>
                    </a:lnTo>
                    <a:cubicBezTo>
                      <a:pt x="7751" y="2"/>
                      <a:pt x="7752" y="3"/>
                      <a:pt x="7752" y="4"/>
                    </a:cubicBezTo>
                    <a:cubicBezTo>
                      <a:pt x="7752" y="5"/>
                      <a:pt x="7751" y="6"/>
                      <a:pt x="7750" y="6"/>
                    </a:cubicBezTo>
                    <a:lnTo>
                      <a:pt x="7750" y="6"/>
                    </a:lnTo>
                    <a:cubicBezTo>
                      <a:pt x="7748" y="6"/>
                      <a:pt x="7748" y="5"/>
                      <a:pt x="7748" y="4"/>
                    </a:cubicBezTo>
                    <a:cubicBezTo>
                      <a:pt x="7748" y="3"/>
                      <a:pt x="7748" y="2"/>
                      <a:pt x="7750" y="2"/>
                    </a:cubicBezTo>
                    <a:close/>
                    <a:moveTo>
                      <a:pt x="7758" y="2"/>
                    </a:moveTo>
                    <a:lnTo>
                      <a:pt x="7758" y="2"/>
                    </a:lnTo>
                    <a:cubicBezTo>
                      <a:pt x="7759" y="2"/>
                      <a:pt x="7760" y="3"/>
                      <a:pt x="7760" y="4"/>
                    </a:cubicBezTo>
                    <a:cubicBezTo>
                      <a:pt x="7760" y="5"/>
                      <a:pt x="7759" y="6"/>
                      <a:pt x="7758" y="6"/>
                    </a:cubicBezTo>
                    <a:lnTo>
                      <a:pt x="7758" y="6"/>
                    </a:lnTo>
                    <a:cubicBezTo>
                      <a:pt x="7757" y="6"/>
                      <a:pt x="7756" y="5"/>
                      <a:pt x="7756" y="4"/>
                    </a:cubicBezTo>
                    <a:cubicBezTo>
                      <a:pt x="7756" y="3"/>
                      <a:pt x="7757" y="2"/>
                      <a:pt x="7758" y="2"/>
                    </a:cubicBezTo>
                    <a:close/>
                    <a:moveTo>
                      <a:pt x="7766" y="2"/>
                    </a:moveTo>
                    <a:lnTo>
                      <a:pt x="7766" y="2"/>
                    </a:lnTo>
                    <a:cubicBezTo>
                      <a:pt x="7767" y="2"/>
                      <a:pt x="7768" y="3"/>
                      <a:pt x="7768" y="4"/>
                    </a:cubicBezTo>
                    <a:cubicBezTo>
                      <a:pt x="7768" y="5"/>
                      <a:pt x="7767" y="6"/>
                      <a:pt x="7766" y="6"/>
                    </a:cubicBezTo>
                    <a:lnTo>
                      <a:pt x="7766" y="6"/>
                    </a:lnTo>
                    <a:cubicBezTo>
                      <a:pt x="7765" y="6"/>
                      <a:pt x="7764" y="5"/>
                      <a:pt x="7764" y="4"/>
                    </a:cubicBezTo>
                    <a:cubicBezTo>
                      <a:pt x="7764" y="3"/>
                      <a:pt x="7765" y="2"/>
                      <a:pt x="7766" y="2"/>
                    </a:cubicBezTo>
                    <a:close/>
                    <a:moveTo>
                      <a:pt x="7774" y="2"/>
                    </a:moveTo>
                    <a:lnTo>
                      <a:pt x="7774" y="2"/>
                    </a:lnTo>
                    <a:cubicBezTo>
                      <a:pt x="7775" y="2"/>
                      <a:pt x="7776" y="3"/>
                      <a:pt x="7776" y="4"/>
                    </a:cubicBezTo>
                    <a:cubicBezTo>
                      <a:pt x="7776" y="5"/>
                      <a:pt x="7775" y="6"/>
                      <a:pt x="7774" y="6"/>
                    </a:cubicBezTo>
                    <a:lnTo>
                      <a:pt x="7774" y="6"/>
                    </a:lnTo>
                    <a:cubicBezTo>
                      <a:pt x="7773" y="6"/>
                      <a:pt x="7772" y="5"/>
                      <a:pt x="7772" y="4"/>
                    </a:cubicBezTo>
                    <a:cubicBezTo>
                      <a:pt x="7772" y="3"/>
                      <a:pt x="7773" y="2"/>
                      <a:pt x="7774" y="2"/>
                    </a:cubicBezTo>
                    <a:close/>
                    <a:moveTo>
                      <a:pt x="7782" y="2"/>
                    </a:moveTo>
                    <a:lnTo>
                      <a:pt x="7782" y="2"/>
                    </a:lnTo>
                    <a:cubicBezTo>
                      <a:pt x="7783" y="2"/>
                      <a:pt x="7784" y="3"/>
                      <a:pt x="7784" y="4"/>
                    </a:cubicBezTo>
                    <a:cubicBezTo>
                      <a:pt x="7784" y="5"/>
                      <a:pt x="7783" y="6"/>
                      <a:pt x="7782" y="6"/>
                    </a:cubicBezTo>
                    <a:lnTo>
                      <a:pt x="7782" y="6"/>
                    </a:lnTo>
                    <a:cubicBezTo>
                      <a:pt x="7781" y="6"/>
                      <a:pt x="7780" y="5"/>
                      <a:pt x="7780" y="4"/>
                    </a:cubicBezTo>
                    <a:cubicBezTo>
                      <a:pt x="7780" y="3"/>
                      <a:pt x="7781" y="2"/>
                      <a:pt x="7782" y="2"/>
                    </a:cubicBezTo>
                    <a:close/>
                    <a:moveTo>
                      <a:pt x="7790" y="2"/>
                    </a:moveTo>
                    <a:lnTo>
                      <a:pt x="7790" y="2"/>
                    </a:lnTo>
                    <a:cubicBezTo>
                      <a:pt x="7791" y="2"/>
                      <a:pt x="7792" y="3"/>
                      <a:pt x="7792" y="4"/>
                    </a:cubicBezTo>
                    <a:cubicBezTo>
                      <a:pt x="7792" y="5"/>
                      <a:pt x="7791" y="6"/>
                      <a:pt x="7790" y="6"/>
                    </a:cubicBezTo>
                    <a:lnTo>
                      <a:pt x="7790" y="6"/>
                    </a:lnTo>
                    <a:cubicBezTo>
                      <a:pt x="7789" y="6"/>
                      <a:pt x="7788" y="5"/>
                      <a:pt x="7788" y="4"/>
                    </a:cubicBezTo>
                    <a:cubicBezTo>
                      <a:pt x="7788" y="3"/>
                      <a:pt x="7789" y="2"/>
                      <a:pt x="7790" y="2"/>
                    </a:cubicBezTo>
                    <a:close/>
                    <a:moveTo>
                      <a:pt x="7798" y="2"/>
                    </a:moveTo>
                    <a:lnTo>
                      <a:pt x="7798" y="2"/>
                    </a:lnTo>
                    <a:cubicBezTo>
                      <a:pt x="7799" y="2"/>
                      <a:pt x="7800" y="3"/>
                      <a:pt x="7800" y="4"/>
                    </a:cubicBezTo>
                    <a:cubicBezTo>
                      <a:pt x="7800" y="5"/>
                      <a:pt x="7799" y="6"/>
                      <a:pt x="7798" y="6"/>
                    </a:cubicBezTo>
                    <a:lnTo>
                      <a:pt x="7798" y="6"/>
                    </a:lnTo>
                    <a:cubicBezTo>
                      <a:pt x="7797" y="6"/>
                      <a:pt x="7796" y="5"/>
                      <a:pt x="7796" y="4"/>
                    </a:cubicBezTo>
                    <a:cubicBezTo>
                      <a:pt x="7796" y="3"/>
                      <a:pt x="7797" y="2"/>
                      <a:pt x="7798" y="2"/>
                    </a:cubicBezTo>
                    <a:close/>
                    <a:moveTo>
                      <a:pt x="7806" y="2"/>
                    </a:moveTo>
                    <a:lnTo>
                      <a:pt x="7806" y="2"/>
                    </a:lnTo>
                    <a:cubicBezTo>
                      <a:pt x="7807" y="2"/>
                      <a:pt x="7808" y="3"/>
                      <a:pt x="7808" y="4"/>
                    </a:cubicBezTo>
                    <a:cubicBezTo>
                      <a:pt x="7808" y="5"/>
                      <a:pt x="7807" y="6"/>
                      <a:pt x="7806" y="6"/>
                    </a:cubicBezTo>
                    <a:lnTo>
                      <a:pt x="7806" y="6"/>
                    </a:lnTo>
                    <a:cubicBezTo>
                      <a:pt x="7805" y="6"/>
                      <a:pt x="7804" y="5"/>
                      <a:pt x="7804" y="4"/>
                    </a:cubicBezTo>
                    <a:cubicBezTo>
                      <a:pt x="7804" y="3"/>
                      <a:pt x="7805" y="2"/>
                      <a:pt x="7806" y="2"/>
                    </a:cubicBezTo>
                    <a:close/>
                    <a:moveTo>
                      <a:pt x="7814" y="2"/>
                    </a:moveTo>
                    <a:lnTo>
                      <a:pt x="7814" y="2"/>
                    </a:lnTo>
                    <a:cubicBezTo>
                      <a:pt x="7815" y="2"/>
                      <a:pt x="7816" y="3"/>
                      <a:pt x="7816" y="4"/>
                    </a:cubicBezTo>
                    <a:cubicBezTo>
                      <a:pt x="7816" y="5"/>
                      <a:pt x="7815" y="6"/>
                      <a:pt x="7814" y="6"/>
                    </a:cubicBezTo>
                    <a:lnTo>
                      <a:pt x="7814" y="6"/>
                    </a:lnTo>
                    <a:cubicBezTo>
                      <a:pt x="7813" y="6"/>
                      <a:pt x="7812" y="5"/>
                      <a:pt x="7812" y="4"/>
                    </a:cubicBezTo>
                    <a:cubicBezTo>
                      <a:pt x="7812" y="3"/>
                      <a:pt x="7813" y="2"/>
                      <a:pt x="7814" y="2"/>
                    </a:cubicBezTo>
                    <a:close/>
                    <a:moveTo>
                      <a:pt x="7822" y="2"/>
                    </a:moveTo>
                    <a:lnTo>
                      <a:pt x="7822" y="2"/>
                    </a:lnTo>
                    <a:cubicBezTo>
                      <a:pt x="7823" y="2"/>
                      <a:pt x="7824" y="3"/>
                      <a:pt x="7824" y="4"/>
                    </a:cubicBezTo>
                    <a:cubicBezTo>
                      <a:pt x="7824" y="5"/>
                      <a:pt x="7823" y="6"/>
                      <a:pt x="7822" y="6"/>
                    </a:cubicBezTo>
                    <a:lnTo>
                      <a:pt x="7822" y="6"/>
                    </a:lnTo>
                    <a:cubicBezTo>
                      <a:pt x="7821" y="6"/>
                      <a:pt x="7820" y="5"/>
                      <a:pt x="7820" y="4"/>
                    </a:cubicBezTo>
                    <a:cubicBezTo>
                      <a:pt x="7820" y="3"/>
                      <a:pt x="7821" y="2"/>
                      <a:pt x="7822" y="2"/>
                    </a:cubicBezTo>
                    <a:close/>
                    <a:moveTo>
                      <a:pt x="7830" y="2"/>
                    </a:moveTo>
                    <a:lnTo>
                      <a:pt x="7830" y="2"/>
                    </a:lnTo>
                    <a:cubicBezTo>
                      <a:pt x="7831" y="2"/>
                      <a:pt x="7832" y="3"/>
                      <a:pt x="7832" y="4"/>
                    </a:cubicBezTo>
                    <a:cubicBezTo>
                      <a:pt x="7832" y="5"/>
                      <a:pt x="7831" y="6"/>
                      <a:pt x="7830" y="6"/>
                    </a:cubicBezTo>
                    <a:lnTo>
                      <a:pt x="7830" y="6"/>
                    </a:lnTo>
                    <a:cubicBezTo>
                      <a:pt x="7829" y="6"/>
                      <a:pt x="7828" y="5"/>
                      <a:pt x="7828" y="4"/>
                    </a:cubicBezTo>
                    <a:cubicBezTo>
                      <a:pt x="7828" y="3"/>
                      <a:pt x="7829" y="2"/>
                      <a:pt x="7830" y="2"/>
                    </a:cubicBezTo>
                    <a:close/>
                    <a:moveTo>
                      <a:pt x="7838" y="2"/>
                    </a:moveTo>
                    <a:lnTo>
                      <a:pt x="7838" y="2"/>
                    </a:lnTo>
                    <a:cubicBezTo>
                      <a:pt x="7839" y="2"/>
                      <a:pt x="7840" y="3"/>
                      <a:pt x="7840" y="4"/>
                    </a:cubicBezTo>
                    <a:cubicBezTo>
                      <a:pt x="7840" y="5"/>
                      <a:pt x="7839" y="6"/>
                      <a:pt x="7838" y="6"/>
                    </a:cubicBezTo>
                    <a:lnTo>
                      <a:pt x="7838" y="6"/>
                    </a:lnTo>
                    <a:cubicBezTo>
                      <a:pt x="7837" y="6"/>
                      <a:pt x="7836" y="5"/>
                      <a:pt x="7836" y="4"/>
                    </a:cubicBezTo>
                    <a:cubicBezTo>
                      <a:pt x="7836" y="3"/>
                      <a:pt x="7837" y="2"/>
                      <a:pt x="7838" y="2"/>
                    </a:cubicBezTo>
                    <a:close/>
                    <a:moveTo>
                      <a:pt x="7846" y="2"/>
                    </a:moveTo>
                    <a:lnTo>
                      <a:pt x="7846" y="2"/>
                    </a:lnTo>
                    <a:cubicBezTo>
                      <a:pt x="7847" y="2"/>
                      <a:pt x="7848" y="3"/>
                      <a:pt x="7848" y="4"/>
                    </a:cubicBezTo>
                    <a:cubicBezTo>
                      <a:pt x="7848" y="5"/>
                      <a:pt x="7847" y="6"/>
                      <a:pt x="7846" y="6"/>
                    </a:cubicBezTo>
                    <a:lnTo>
                      <a:pt x="7846" y="6"/>
                    </a:lnTo>
                    <a:cubicBezTo>
                      <a:pt x="7845" y="6"/>
                      <a:pt x="7844" y="5"/>
                      <a:pt x="7844" y="4"/>
                    </a:cubicBezTo>
                    <a:cubicBezTo>
                      <a:pt x="7844" y="3"/>
                      <a:pt x="7845" y="2"/>
                      <a:pt x="7846" y="2"/>
                    </a:cubicBezTo>
                    <a:close/>
                    <a:moveTo>
                      <a:pt x="7854" y="2"/>
                    </a:moveTo>
                    <a:lnTo>
                      <a:pt x="7854" y="2"/>
                    </a:lnTo>
                    <a:cubicBezTo>
                      <a:pt x="7855" y="2"/>
                      <a:pt x="7856" y="3"/>
                      <a:pt x="7856" y="4"/>
                    </a:cubicBezTo>
                    <a:cubicBezTo>
                      <a:pt x="7856" y="5"/>
                      <a:pt x="7855" y="6"/>
                      <a:pt x="7854" y="6"/>
                    </a:cubicBezTo>
                    <a:lnTo>
                      <a:pt x="7854" y="6"/>
                    </a:lnTo>
                    <a:cubicBezTo>
                      <a:pt x="7853" y="6"/>
                      <a:pt x="7852" y="5"/>
                      <a:pt x="7852" y="4"/>
                    </a:cubicBezTo>
                    <a:cubicBezTo>
                      <a:pt x="7852" y="3"/>
                      <a:pt x="7853" y="2"/>
                      <a:pt x="7854" y="2"/>
                    </a:cubicBezTo>
                    <a:close/>
                    <a:moveTo>
                      <a:pt x="7862" y="2"/>
                    </a:moveTo>
                    <a:lnTo>
                      <a:pt x="7862" y="2"/>
                    </a:lnTo>
                    <a:cubicBezTo>
                      <a:pt x="7863" y="2"/>
                      <a:pt x="7864" y="3"/>
                      <a:pt x="7864" y="4"/>
                    </a:cubicBezTo>
                    <a:cubicBezTo>
                      <a:pt x="7864" y="5"/>
                      <a:pt x="7863" y="6"/>
                      <a:pt x="7862" y="6"/>
                    </a:cubicBezTo>
                    <a:lnTo>
                      <a:pt x="7862" y="6"/>
                    </a:lnTo>
                    <a:cubicBezTo>
                      <a:pt x="7861" y="6"/>
                      <a:pt x="7860" y="5"/>
                      <a:pt x="7860" y="4"/>
                    </a:cubicBezTo>
                    <a:cubicBezTo>
                      <a:pt x="7860" y="3"/>
                      <a:pt x="7861" y="2"/>
                      <a:pt x="7862" y="2"/>
                    </a:cubicBezTo>
                    <a:close/>
                    <a:moveTo>
                      <a:pt x="7870" y="2"/>
                    </a:moveTo>
                    <a:lnTo>
                      <a:pt x="7870" y="2"/>
                    </a:lnTo>
                    <a:cubicBezTo>
                      <a:pt x="7871" y="2"/>
                      <a:pt x="7872" y="3"/>
                      <a:pt x="7872" y="4"/>
                    </a:cubicBezTo>
                    <a:cubicBezTo>
                      <a:pt x="7872" y="5"/>
                      <a:pt x="7871" y="6"/>
                      <a:pt x="7870" y="6"/>
                    </a:cubicBezTo>
                    <a:lnTo>
                      <a:pt x="7870" y="6"/>
                    </a:lnTo>
                    <a:cubicBezTo>
                      <a:pt x="7869" y="6"/>
                      <a:pt x="7868" y="5"/>
                      <a:pt x="7868" y="4"/>
                    </a:cubicBezTo>
                    <a:cubicBezTo>
                      <a:pt x="7868" y="3"/>
                      <a:pt x="7869" y="2"/>
                      <a:pt x="7870" y="2"/>
                    </a:cubicBezTo>
                    <a:close/>
                    <a:moveTo>
                      <a:pt x="7878" y="2"/>
                    </a:moveTo>
                    <a:lnTo>
                      <a:pt x="7878" y="2"/>
                    </a:lnTo>
                    <a:cubicBezTo>
                      <a:pt x="7879" y="2"/>
                      <a:pt x="7880" y="3"/>
                      <a:pt x="7880" y="4"/>
                    </a:cubicBezTo>
                    <a:cubicBezTo>
                      <a:pt x="7880" y="5"/>
                      <a:pt x="7879" y="6"/>
                      <a:pt x="7878" y="6"/>
                    </a:cubicBezTo>
                    <a:lnTo>
                      <a:pt x="7878" y="6"/>
                    </a:lnTo>
                    <a:cubicBezTo>
                      <a:pt x="7877" y="6"/>
                      <a:pt x="7876" y="5"/>
                      <a:pt x="7876" y="4"/>
                    </a:cubicBezTo>
                    <a:cubicBezTo>
                      <a:pt x="7876" y="3"/>
                      <a:pt x="7877" y="2"/>
                      <a:pt x="7878" y="2"/>
                    </a:cubicBezTo>
                    <a:close/>
                    <a:moveTo>
                      <a:pt x="7886" y="2"/>
                    </a:moveTo>
                    <a:lnTo>
                      <a:pt x="7886" y="2"/>
                    </a:lnTo>
                    <a:cubicBezTo>
                      <a:pt x="7887" y="2"/>
                      <a:pt x="7888" y="3"/>
                      <a:pt x="7888" y="4"/>
                    </a:cubicBezTo>
                    <a:cubicBezTo>
                      <a:pt x="7888" y="5"/>
                      <a:pt x="7887" y="6"/>
                      <a:pt x="7886" y="6"/>
                    </a:cubicBezTo>
                    <a:lnTo>
                      <a:pt x="7886" y="6"/>
                    </a:lnTo>
                    <a:cubicBezTo>
                      <a:pt x="7885" y="6"/>
                      <a:pt x="7884" y="5"/>
                      <a:pt x="7884" y="4"/>
                    </a:cubicBezTo>
                    <a:cubicBezTo>
                      <a:pt x="7884" y="3"/>
                      <a:pt x="7885" y="2"/>
                      <a:pt x="7886" y="2"/>
                    </a:cubicBezTo>
                    <a:close/>
                    <a:moveTo>
                      <a:pt x="7894" y="2"/>
                    </a:moveTo>
                    <a:lnTo>
                      <a:pt x="7894" y="2"/>
                    </a:lnTo>
                    <a:cubicBezTo>
                      <a:pt x="7895" y="2"/>
                      <a:pt x="7896" y="3"/>
                      <a:pt x="7896" y="4"/>
                    </a:cubicBezTo>
                    <a:cubicBezTo>
                      <a:pt x="7896" y="5"/>
                      <a:pt x="7895" y="6"/>
                      <a:pt x="7894" y="6"/>
                    </a:cubicBezTo>
                    <a:lnTo>
                      <a:pt x="7894" y="6"/>
                    </a:lnTo>
                    <a:cubicBezTo>
                      <a:pt x="7893" y="6"/>
                      <a:pt x="7892" y="5"/>
                      <a:pt x="7892" y="4"/>
                    </a:cubicBezTo>
                    <a:cubicBezTo>
                      <a:pt x="7892" y="3"/>
                      <a:pt x="7893" y="2"/>
                      <a:pt x="7894" y="2"/>
                    </a:cubicBezTo>
                    <a:close/>
                    <a:moveTo>
                      <a:pt x="7902" y="2"/>
                    </a:moveTo>
                    <a:lnTo>
                      <a:pt x="7902" y="2"/>
                    </a:lnTo>
                    <a:cubicBezTo>
                      <a:pt x="7903" y="2"/>
                      <a:pt x="7904" y="3"/>
                      <a:pt x="7904" y="4"/>
                    </a:cubicBezTo>
                    <a:cubicBezTo>
                      <a:pt x="7904" y="5"/>
                      <a:pt x="7903" y="6"/>
                      <a:pt x="7902" y="6"/>
                    </a:cubicBezTo>
                    <a:lnTo>
                      <a:pt x="7902" y="6"/>
                    </a:lnTo>
                    <a:cubicBezTo>
                      <a:pt x="7901" y="6"/>
                      <a:pt x="7900" y="5"/>
                      <a:pt x="7900" y="4"/>
                    </a:cubicBezTo>
                    <a:cubicBezTo>
                      <a:pt x="7900" y="3"/>
                      <a:pt x="7901" y="2"/>
                      <a:pt x="7902" y="2"/>
                    </a:cubicBezTo>
                    <a:close/>
                    <a:moveTo>
                      <a:pt x="7910" y="2"/>
                    </a:moveTo>
                    <a:lnTo>
                      <a:pt x="7910" y="2"/>
                    </a:lnTo>
                    <a:cubicBezTo>
                      <a:pt x="7911" y="2"/>
                      <a:pt x="7912" y="3"/>
                      <a:pt x="7912" y="4"/>
                    </a:cubicBezTo>
                    <a:cubicBezTo>
                      <a:pt x="7912" y="5"/>
                      <a:pt x="7911" y="6"/>
                      <a:pt x="7910" y="6"/>
                    </a:cubicBezTo>
                    <a:lnTo>
                      <a:pt x="7910" y="6"/>
                    </a:lnTo>
                    <a:cubicBezTo>
                      <a:pt x="7909" y="6"/>
                      <a:pt x="7908" y="5"/>
                      <a:pt x="7908" y="4"/>
                    </a:cubicBezTo>
                    <a:cubicBezTo>
                      <a:pt x="7908" y="3"/>
                      <a:pt x="7909" y="2"/>
                      <a:pt x="7910" y="2"/>
                    </a:cubicBezTo>
                    <a:close/>
                    <a:moveTo>
                      <a:pt x="7918" y="2"/>
                    </a:moveTo>
                    <a:lnTo>
                      <a:pt x="7918" y="2"/>
                    </a:lnTo>
                    <a:cubicBezTo>
                      <a:pt x="7919" y="2"/>
                      <a:pt x="7920" y="3"/>
                      <a:pt x="7920" y="4"/>
                    </a:cubicBezTo>
                    <a:cubicBezTo>
                      <a:pt x="7920" y="5"/>
                      <a:pt x="7919" y="6"/>
                      <a:pt x="7918" y="6"/>
                    </a:cubicBezTo>
                    <a:lnTo>
                      <a:pt x="7918" y="6"/>
                    </a:lnTo>
                    <a:cubicBezTo>
                      <a:pt x="7917" y="6"/>
                      <a:pt x="7916" y="5"/>
                      <a:pt x="7916" y="4"/>
                    </a:cubicBezTo>
                    <a:cubicBezTo>
                      <a:pt x="7916" y="3"/>
                      <a:pt x="7917" y="2"/>
                      <a:pt x="7918" y="2"/>
                    </a:cubicBezTo>
                    <a:close/>
                    <a:moveTo>
                      <a:pt x="7926" y="2"/>
                    </a:moveTo>
                    <a:lnTo>
                      <a:pt x="7926" y="2"/>
                    </a:lnTo>
                    <a:cubicBezTo>
                      <a:pt x="7927" y="2"/>
                      <a:pt x="7928" y="3"/>
                      <a:pt x="7928" y="4"/>
                    </a:cubicBezTo>
                    <a:cubicBezTo>
                      <a:pt x="7928" y="5"/>
                      <a:pt x="7927" y="6"/>
                      <a:pt x="7926" y="6"/>
                    </a:cubicBezTo>
                    <a:lnTo>
                      <a:pt x="7926" y="6"/>
                    </a:lnTo>
                    <a:cubicBezTo>
                      <a:pt x="7925" y="6"/>
                      <a:pt x="7924" y="5"/>
                      <a:pt x="7924" y="4"/>
                    </a:cubicBezTo>
                    <a:cubicBezTo>
                      <a:pt x="7924" y="3"/>
                      <a:pt x="7925" y="2"/>
                      <a:pt x="7926" y="2"/>
                    </a:cubicBezTo>
                    <a:close/>
                    <a:moveTo>
                      <a:pt x="7934" y="2"/>
                    </a:moveTo>
                    <a:lnTo>
                      <a:pt x="7934" y="2"/>
                    </a:lnTo>
                    <a:cubicBezTo>
                      <a:pt x="7935" y="2"/>
                      <a:pt x="7936" y="3"/>
                      <a:pt x="7936" y="4"/>
                    </a:cubicBezTo>
                    <a:cubicBezTo>
                      <a:pt x="7936" y="5"/>
                      <a:pt x="7935" y="6"/>
                      <a:pt x="7934" y="6"/>
                    </a:cubicBezTo>
                    <a:lnTo>
                      <a:pt x="7934" y="6"/>
                    </a:lnTo>
                    <a:cubicBezTo>
                      <a:pt x="7933" y="6"/>
                      <a:pt x="7932" y="5"/>
                      <a:pt x="7932" y="4"/>
                    </a:cubicBezTo>
                    <a:cubicBezTo>
                      <a:pt x="7932" y="3"/>
                      <a:pt x="7933" y="2"/>
                      <a:pt x="7934" y="2"/>
                    </a:cubicBezTo>
                    <a:close/>
                    <a:moveTo>
                      <a:pt x="7942" y="2"/>
                    </a:moveTo>
                    <a:lnTo>
                      <a:pt x="7942" y="2"/>
                    </a:lnTo>
                    <a:cubicBezTo>
                      <a:pt x="7943" y="2"/>
                      <a:pt x="7944" y="3"/>
                      <a:pt x="7944" y="4"/>
                    </a:cubicBezTo>
                    <a:cubicBezTo>
                      <a:pt x="7944" y="5"/>
                      <a:pt x="7943" y="6"/>
                      <a:pt x="7942" y="6"/>
                    </a:cubicBezTo>
                    <a:lnTo>
                      <a:pt x="7942" y="6"/>
                    </a:lnTo>
                    <a:cubicBezTo>
                      <a:pt x="7941" y="6"/>
                      <a:pt x="7940" y="5"/>
                      <a:pt x="7940" y="4"/>
                    </a:cubicBezTo>
                    <a:cubicBezTo>
                      <a:pt x="7940" y="3"/>
                      <a:pt x="7941" y="2"/>
                      <a:pt x="7942" y="2"/>
                    </a:cubicBezTo>
                    <a:close/>
                    <a:moveTo>
                      <a:pt x="7950" y="2"/>
                    </a:moveTo>
                    <a:lnTo>
                      <a:pt x="7950" y="2"/>
                    </a:lnTo>
                    <a:cubicBezTo>
                      <a:pt x="7951" y="2"/>
                      <a:pt x="7952" y="3"/>
                      <a:pt x="7952" y="4"/>
                    </a:cubicBezTo>
                    <a:cubicBezTo>
                      <a:pt x="7952" y="5"/>
                      <a:pt x="7951" y="6"/>
                      <a:pt x="7950" y="6"/>
                    </a:cubicBezTo>
                    <a:lnTo>
                      <a:pt x="7950" y="6"/>
                    </a:lnTo>
                    <a:cubicBezTo>
                      <a:pt x="7949" y="6"/>
                      <a:pt x="7948" y="5"/>
                      <a:pt x="7948" y="4"/>
                    </a:cubicBezTo>
                    <a:cubicBezTo>
                      <a:pt x="7948" y="3"/>
                      <a:pt x="7949" y="2"/>
                      <a:pt x="7950" y="2"/>
                    </a:cubicBezTo>
                    <a:close/>
                    <a:moveTo>
                      <a:pt x="7958" y="2"/>
                    </a:moveTo>
                    <a:lnTo>
                      <a:pt x="7958" y="2"/>
                    </a:lnTo>
                    <a:cubicBezTo>
                      <a:pt x="7959" y="2"/>
                      <a:pt x="7960" y="3"/>
                      <a:pt x="7960" y="4"/>
                    </a:cubicBezTo>
                    <a:cubicBezTo>
                      <a:pt x="7960" y="5"/>
                      <a:pt x="7959" y="6"/>
                      <a:pt x="7958" y="6"/>
                    </a:cubicBezTo>
                    <a:lnTo>
                      <a:pt x="7958" y="6"/>
                    </a:lnTo>
                    <a:cubicBezTo>
                      <a:pt x="7957" y="6"/>
                      <a:pt x="7956" y="5"/>
                      <a:pt x="7956" y="4"/>
                    </a:cubicBezTo>
                    <a:cubicBezTo>
                      <a:pt x="7956" y="3"/>
                      <a:pt x="7957" y="2"/>
                      <a:pt x="7958" y="2"/>
                    </a:cubicBezTo>
                    <a:close/>
                    <a:moveTo>
                      <a:pt x="7966" y="2"/>
                    </a:moveTo>
                    <a:lnTo>
                      <a:pt x="7966" y="2"/>
                    </a:lnTo>
                    <a:cubicBezTo>
                      <a:pt x="7967" y="2"/>
                      <a:pt x="7968" y="3"/>
                      <a:pt x="7968" y="4"/>
                    </a:cubicBezTo>
                    <a:cubicBezTo>
                      <a:pt x="7968" y="5"/>
                      <a:pt x="7967" y="6"/>
                      <a:pt x="7966" y="6"/>
                    </a:cubicBezTo>
                    <a:lnTo>
                      <a:pt x="7966" y="6"/>
                    </a:lnTo>
                    <a:cubicBezTo>
                      <a:pt x="7965" y="6"/>
                      <a:pt x="7964" y="5"/>
                      <a:pt x="7964" y="4"/>
                    </a:cubicBezTo>
                    <a:cubicBezTo>
                      <a:pt x="7964" y="3"/>
                      <a:pt x="7965" y="2"/>
                      <a:pt x="7966" y="2"/>
                    </a:cubicBezTo>
                    <a:close/>
                    <a:moveTo>
                      <a:pt x="7974" y="2"/>
                    </a:moveTo>
                    <a:lnTo>
                      <a:pt x="7974" y="2"/>
                    </a:lnTo>
                    <a:cubicBezTo>
                      <a:pt x="7975" y="2"/>
                      <a:pt x="7976" y="3"/>
                      <a:pt x="7976" y="4"/>
                    </a:cubicBezTo>
                    <a:cubicBezTo>
                      <a:pt x="7976" y="5"/>
                      <a:pt x="7975" y="6"/>
                      <a:pt x="7974" y="6"/>
                    </a:cubicBezTo>
                    <a:lnTo>
                      <a:pt x="7974" y="6"/>
                    </a:lnTo>
                    <a:cubicBezTo>
                      <a:pt x="7973" y="6"/>
                      <a:pt x="7972" y="5"/>
                      <a:pt x="7972" y="4"/>
                    </a:cubicBezTo>
                    <a:cubicBezTo>
                      <a:pt x="7972" y="3"/>
                      <a:pt x="7973" y="2"/>
                      <a:pt x="7974" y="2"/>
                    </a:cubicBezTo>
                    <a:close/>
                    <a:moveTo>
                      <a:pt x="7982" y="2"/>
                    </a:moveTo>
                    <a:lnTo>
                      <a:pt x="7982" y="2"/>
                    </a:lnTo>
                    <a:cubicBezTo>
                      <a:pt x="7983" y="2"/>
                      <a:pt x="7984" y="3"/>
                      <a:pt x="7984" y="4"/>
                    </a:cubicBezTo>
                    <a:cubicBezTo>
                      <a:pt x="7984" y="5"/>
                      <a:pt x="7983" y="6"/>
                      <a:pt x="7982" y="6"/>
                    </a:cubicBezTo>
                    <a:lnTo>
                      <a:pt x="7982" y="6"/>
                    </a:lnTo>
                    <a:cubicBezTo>
                      <a:pt x="7981" y="6"/>
                      <a:pt x="7980" y="5"/>
                      <a:pt x="7980" y="4"/>
                    </a:cubicBezTo>
                    <a:cubicBezTo>
                      <a:pt x="7980" y="3"/>
                      <a:pt x="7981" y="2"/>
                      <a:pt x="7982" y="2"/>
                    </a:cubicBezTo>
                    <a:close/>
                    <a:moveTo>
                      <a:pt x="7990" y="2"/>
                    </a:moveTo>
                    <a:lnTo>
                      <a:pt x="7990" y="2"/>
                    </a:lnTo>
                    <a:cubicBezTo>
                      <a:pt x="7991" y="2"/>
                      <a:pt x="7992" y="3"/>
                      <a:pt x="7992" y="4"/>
                    </a:cubicBezTo>
                    <a:cubicBezTo>
                      <a:pt x="7992" y="5"/>
                      <a:pt x="7991" y="6"/>
                      <a:pt x="7990" y="6"/>
                    </a:cubicBezTo>
                    <a:lnTo>
                      <a:pt x="7990" y="6"/>
                    </a:lnTo>
                    <a:cubicBezTo>
                      <a:pt x="7989" y="6"/>
                      <a:pt x="7988" y="5"/>
                      <a:pt x="7988" y="4"/>
                    </a:cubicBezTo>
                    <a:cubicBezTo>
                      <a:pt x="7988" y="3"/>
                      <a:pt x="7989" y="2"/>
                      <a:pt x="7990" y="2"/>
                    </a:cubicBezTo>
                    <a:close/>
                    <a:moveTo>
                      <a:pt x="7998" y="2"/>
                    </a:moveTo>
                    <a:lnTo>
                      <a:pt x="7998" y="2"/>
                    </a:lnTo>
                    <a:cubicBezTo>
                      <a:pt x="7999" y="2"/>
                      <a:pt x="8000" y="3"/>
                      <a:pt x="8000" y="4"/>
                    </a:cubicBezTo>
                    <a:cubicBezTo>
                      <a:pt x="8000" y="5"/>
                      <a:pt x="7999" y="6"/>
                      <a:pt x="7998" y="6"/>
                    </a:cubicBezTo>
                    <a:lnTo>
                      <a:pt x="7998" y="6"/>
                    </a:lnTo>
                    <a:cubicBezTo>
                      <a:pt x="7997" y="6"/>
                      <a:pt x="7996" y="5"/>
                      <a:pt x="7996" y="4"/>
                    </a:cubicBezTo>
                    <a:cubicBezTo>
                      <a:pt x="7996" y="3"/>
                      <a:pt x="7997" y="2"/>
                      <a:pt x="7998" y="2"/>
                    </a:cubicBezTo>
                    <a:close/>
                    <a:moveTo>
                      <a:pt x="8006" y="2"/>
                    </a:moveTo>
                    <a:lnTo>
                      <a:pt x="8006" y="2"/>
                    </a:lnTo>
                    <a:cubicBezTo>
                      <a:pt x="8007" y="2"/>
                      <a:pt x="8008" y="3"/>
                      <a:pt x="8008" y="4"/>
                    </a:cubicBezTo>
                    <a:cubicBezTo>
                      <a:pt x="8008" y="5"/>
                      <a:pt x="8007" y="6"/>
                      <a:pt x="8006" y="6"/>
                    </a:cubicBezTo>
                    <a:lnTo>
                      <a:pt x="8006" y="6"/>
                    </a:lnTo>
                    <a:cubicBezTo>
                      <a:pt x="8005" y="6"/>
                      <a:pt x="8004" y="5"/>
                      <a:pt x="8004" y="4"/>
                    </a:cubicBezTo>
                    <a:cubicBezTo>
                      <a:pt x="8004" y="3"/>
                      <a:pt x="8005" y="2"/>
                      <a:pt x="8006" y="2"/>
                    </a:cubicBezTo>
                    <a:close/>
                    <a:moveTo>
                      <a:pt x="8014" y="2"/>
                    </a:moveTo>
                    <a:lnTo>
                      <a:pt x="8014" y="2"/>
                    </a:lnTo>
                    <a:cubicBezTo>
                      <a:pt x="8015" y="2"/>
                      <a:pt x="8016" y="3"/>
                      <a:pt x="8016" y="4"/>
                    </a:cubicBezTo>
                    <a:cubicBezTo>
                      <a:pt x="8016" y="5"/>
                      <a:pt x="8015" y="6"/>
                      <a:pt x="8014" y="6"/>
                    </a:cubicBezTo>
                    <a:lnTo>
                      <a:pt x="8014" y="6"/>
                    </a:lnTo>
                    <a:cubicBezTo>
                      <a:pt x="8013" y="6"/>
                      <a:pt x="8012" y="5"/>
                      <a:pt x="8012" y="4"/>
                    </a:cubicBezTo>
                    <a:cubicBezTo>
                      <a:pt x="8012" y="3"/>
                      <a:pt x="8013" y="2"/>
                      <a:pt x="8014" y="2"/>
                    </a:cubicBezTo>
                    <a:close/>
                    <a:moveTo>
                      <a:pt x="8022" y="2"/>
                    </a:moveTo>
                    <a:lnTo>
                      <a:pt x="8022" y="2"/>
                    </a:lnTo>
                    <a:cubicBezTo>
                      <a:pt x="8023" y="2"/>
                      <a:pt x="8024" y="3"/>
                      <a:pt x="8024" y="4"/>
                    </a:cubicBezTo>
                    <a:cubicBezTo>
                      <a:pt x="8024" y="5"/>
                      <a:pt x="8023" y="6"/>
                      <a:pt x="8022" y="6"/>
                    </a:cubicBezTo>
                    <a:lnTo>
                      <a:pt x="8022" y="6"/>
                    </a:lnTo>
                    <a:cubicBezTo>
                      <a:pt x="8021" y="6"/>
                      <a:pt x="8020" y="5"/>
                      <a:pt x="8020" y="4"/>
                    </a:cubicBezTo>
                    <a:cubicBezTo>
                      <a:pt x="8020" y="3"/>
                      <a:pt x="8021" y="2"/>
                      <a:pt x="8022" y="2"/>
                    </a:cubicBezTo>
                    <a:close/>
                    <a:moveTo>
                      <a:pt x="8030" y="2"/>
                    </a:moveTo>
                    <a:lnTo>
                      <a:pt x="8030" y="2"/>
                    </a:lnTo>
                    <a:cubicBezTo>
                      <a:pt x="8031" y="2"/>
                      <a:pt x="8032" y="3"/>
                      <a:pt x="8032" y="4"/>
                    </a:cubicBezTo>
                    <a:cubicBezTo>
                      <a:pt x="8032" y="5"/>
                      <a:pt x="8031" y="6"/>
                      <a:pt x="8030" y="6"/>
                    </a:cubicBezTo>
                    <a:lnTo>
                      <a:pt x="8030" y="6"/>
                    </a:lnTo>
                    <a:cubicBezTo>
                      <a:pt x="8029" y="6"/>
                      <a:pt x="8028" y="5"/>
                      <a:pt x="8028" y="4"/>
                    </a:cubicBezTo>
                    <a:cubicBezTo>
                      <a:pt x="8028" y="3"/>
                      <a:pt x="8029" y="2"/>
                      <a:pt x="8030" y="2"/>
                    </a:cubicBezTo>
                    <a:close/>
                    <a:moveTo>
                      <a:pt x="8038" y="2"/>
                    </a:moveTo>
                    <a:lnTo>
                      <a:pt x="8038" y="2"/>
                    </a:lnTo>
                    <a:cubicBezTo>
                      <a:pt x="8039" y="2"/>
                      <a:pt x="8040" y="3"/>
                      <a:pt x="8040" y="4"/>
                    </a:cubicBezTo>
                    <a:cubicBezTo>
                      <a:pt x="8040" y="5"/>
                      <a:pt x="8039" y="6"/>
                      <a:pt x="8038" y="6"/>
                    </a:cubicBezTo>
                    <a:lnTo>
                      <a:pt x="8038" y="6"/>
                    </a:lnTo>
                    <a:cubicBezTo>
                      <a:pt x="8037" y="6"/>
                      <a:pt x="8036" y="5"/>
                      <a:pt x="8036" y="4"/>
                    </a:cubicBezTo>
                    <a:cubicBezTo>
                      <a:pt x="8036" y="3"/>
                      <a:pt x="8037" y="2"/>
                      <a:pt x="8038" y="2"/>
                    </a:cubicBezTo>
                    <a:close/>
                    <a:moveTo>
                      <a:pt x="8046" y="2"/>
                    </a:moveTo>
                    <a:lnTo>
                      <a:pt x="8046" y="2"/>
                    </a:lnTo>
                    <a:cubicBezTo>
                      <a:pt x="8047" y="2"/>
                      <a:pt x="8048" y="3"/>
                      <a:pt x="8048" y="4"/>
                    </a:cubicBezTo>
                    <a:cubicBezTo>
                      <a:pt x="8048" y="5"/>
                      <a:pt x="8047" y="6"/>
                      <a:pt x="8046" y="6"/>
                    </a:cubicBezTo>
                    <a:lnTo>
                      <a:pt x="8046" y="6"/>
                    </a:lnTo>
                    <a:cubicBezTo>
                      <a:pt x="8045" y="6"/>
                      <a:pt x="8044" y="5"/>
                      <a:pt x="8044" y="4"/>
                    </a:cubicBezTo>
                    <a:cubicBezTo>
                      <a:pt x="8044" y="3"/>
                      <a:pt x="8045" y="2"/>
                      <a:pt x="8046" y="2"/>
                    </a:cubicBezTo>
                    <a:close/>
                    <a:moveTo>
                      <a:pt x="8054" y="2"/>
                    </a:moveTo>
                    <a:lnTo>
                      <a:pt x="8054" y="2"/>
                    </a:lnTo>
                    <a:cubicBezTo>
                      <a:pt x="8055" y="2"/>
                      <a:pt x="8056" y="3"/>
                      <a:pt x="8056" y="4"/>
                    </a:cubicBezTo>
                    <a:cubicBezTo>
                      <a:pt x="8056" y="5"/>
                      <a:pt x="8055" y="6"/>
                      <a:pt x="8054" y="6"/>
                    </a:cubicBezTo>
                    <a:lnTo>
                      <a:pt x="8054" y="6"/>
                    </a:lnTo>
                    <a:cubicBezTo>
                      <a:pt x="8053" y="6"/>
                      <a:pt x="8052" y="5"/>
                      <a:pt x="8052" y="4"/>
                    </a:cubicBezTo>
                    <a:cubicBezTo>
                      <a:pt x="8052" y="3"/>
                      <a:pt x="8053" y="2"/>
                      <a:pt x="8054" y="2"/>
                    </a:cubicBezTo>
                    <a:close/>
                    <a:moveTo>
                      <a:pt x="8062" y="2"/>
                    </a:moveTo>
                    <a:lnTo>
                      <a:pt x="8062" y="2"/>
                    </a:lnTo>
                    <a:cubicBezTo>
                      <a:pt x="8063" y="2"/>
                      <a:pt x="8064" y="3"/>
                      <a:pt x="8064" y="4"/>
                    </a:cubicBezTo>
                    <a:cubicBezTo>
                      <a:pt x="8064" y="5"/>
                      <a:pt x="8063" y="6"/>
                      <a:pt x="8062" y="6"/>
                    </a:cubicBezTo>
                    <a:lnTo>
                      <a:pt x="8062" y="6"/>
                    </a:lnTo>
                    <a:cubicBezTo>
                      <a:pt x="8061" y="6"/>
                      <a:pt x="8060" y="5"/>
                      <a:pt x="8060" y="4"/>
                    </a:cubicBezTo>
                    <a:cubicBezTo>
                      <a:pt x="8060" y="3"/>
                      <a:pt x="8061" y="2"/>
                      <a:pt x="8062" y="2"/>
                    </a:cubicBezTo>
                    <a:close/>
                    <a:moveTo>
                      <a:pt x="8070" y="2"/>
                    </a:moveTo>
                    <a:lnTo>
                      <a:pt x="8070" y="2"/>
                    </a:lnTo>
                    <a:cubicBezTo>
                      <a:pt x="8071" y="2"/>
                      <a:pt x="8072" y="3"/>
                      <a:pt x="8072" y="4"/>
                    </a:cubicBezTo>
                    <a:cubicBezTo>
                      <a:pt x="8072" y="5"/>
                      <a:pt x="8071" y="6"/>
                      <a:pt x="8070" y="6"/>
                    </a:cubicBezTo>
                    <a:lnTo>
                      <a:pt x="8070" y="6"/>
                    </a:lnTo>
                    <a:cubicBezTo>
                      <a:pt x="8069" y="6"/>
                      <a:pt x="8068" y="5"/>
                      <a:pt x="8068" y="4"/>
                    </a:cubicBezTo>
                    <a:cubicBezTo>
                      <a:pt x="8068" y="3"/>
                      <a:pt x="8069" y="2"/>
                      <a:pt x="8070" y="2"/>
                    </a:cubicBezTo>
                    <a:close/>
                    <a:moveTo>
                      <a:pt x="8078" y="2"/>
                    </a:moveTo>
                    <a:lnTo>
                      <a:pt x="8078" y="2"/>
                    </a:lnTo>
                    <a:cubicBezTo>
                      <a:pt x="8079" y="2"/>
                      <a:pt x="8080" y="3"/>
                      <a:pt x="8080" y="4"/>
                    </a:cubicBezTo>
                    <a:cubicBezTo>
                      <a:pt x="8080" y="5"/>
                      <a:pt x="8079" y="6"/>
                      <a:pt x="8078" y="6"/>
                    </a:cubicBezTo>
                    <a:lnTo>
                      <a:pt x="8078" y="6"/>
                    </a:lnTo>
                    <a:cubicBezTo>
                      <a:pt x="8077" y="6"/>
                      <a:pt x="8076" y="5"/>
                      <a:pt x="8076" y="4"/>
                    </a:cubicBezTo>
                    <a:cubicBezTo>
                      <a:pt x="8076" y="3"/>
                      <a:pt x="8077" y="2"/>
                      <a:pt x="8078" y="2"/>
                    </a:cubicBezTo>
                    <a:close/>
                    <a:moveTo>
                      <a:pt x="8086" y="2"/>
                    </a:moveTo>
                    <a:lnTo>
                      <a:pt x="8086" y="2"/>
                    </a:lnTo>
                    <a:cubicBezTo>
                      <a:pt x="8087" y="2"/>
                      <a:pt x="8088" y="3"/>
                      <a:pt x="8088" y="4"/>
                    </a:cubicBezTo>
                    <a:cubicBezTo>
                      <a:pt x="8088" y="5"/>
                      <a:pt x="8087" y="6"/>
                      <a:pt x="8086" y="6"/>
                    </a:cubicBezTo>
                    <a:lnTo>
                      <a:pt x="8086" y="6"/>
                    </a:lnTo>
                    <a:cubicBezTo>
                      <a:pt x="8085" y="6"/>
                      <a:pt x="8084" y="5"/>
                      <a:pt x="8084" y="4"/>
                    </a:cubicBezTo>
                    <a:cubicBezTo>
                      <a:pt x="8084" y="3"/>
                      <a:pt x="8085" y="2"/>
                      <a:pt x="8086" y="2"/>
                    </a:cubicBezTo>
                    <a:close/>
                    <a:moveTo>
                      <a:pt x="8094" y="2"/>
                    </a:moveTo>
                    <a:lnTo>
                      <a:pt x="8094" y="2"/>
                    </a:lnTo>
                    <a:cubicBezTo>
                      <a:pt x="8095" y="2"/>
                      <a:pt x="8096" y="3"/>
                      <a:pt x="8096" y="4"/>
                    </a:cubicBezTo>
                    <a:cubicBezTo>
                      <a:pt x="8096" y="5"/>
                      <a:pt x="8095" y="6"/>
                      <a:pt x="8094" y="6"/>
                    </a:cubicBezTo>
                    <a:lnTo>
                      <a:pt x="8094" y="6"/>
                    </a:lnTo>
                    <a:cubicBezTo>
                      <a:pt x="8093" y="6"/>
                      <a:pt x="8092" y="5"/>
                      <a:pt x="8092" y="4"/>
                    </a:cubicBezTo>
                    <a:cubicBezTo>
                      <a:pt x="8092" y="3"/>
                      <a:pt x="8093" y="2"/>
                      <a:pt x="8094" y="2"/>
                    </a:cubicBezTo>
                    <a:close/>
                    <a:moveTo>
                      <a:pt x="8102" y="2"/>
                    </a:moveTo>
                    <a:lnTo>
                      <a:pt x="8102" y="2"/>
                    </a:lnTo>
                    <a:cubicBezTo>
                      <a:pt x="8103" y="2"/>
                      <a:pt x="8104" y="3"/>
                      <a:pt x="8104" y="4"/>
                    </a:cubicBezTo>
                    <a:cubicBezTo>
                      <a:pt x="8104" y="5"/>
                      <a:pt x="8103" y="6"/>
                      <a:pt x="8102" y="6"/>
                    </a:cubicBezTo>
                    <a:lnTo>
                      <a:pt x="8102" y="6"/>
                    </a:lnTo>
                    <a:cubicBezTo>
                      <a:pt x="8101" y="6"/>
                      <a:pt x="8100" y="5"/>
                      <a:pt x="8100" y="4"/>
                    </a:cubicBezTo>
                    <a:cubicBezTo>
                      <a:pt x="8100" y="3"/>
                      <a:pt x="8101" y="2"/>
                      <a:pt x="8102" y="2"/>
                    </a:cubicBezTo>
                    <a:close/>
                    <a:moveTo>
                      <a:pt x="8110" y="2"/>
                    </a:moveTo>
                    <a:lnTo>
                      <a:pt x="8110" y="2"/>
                    </a:lnTo>
                    <a:cubicBezTo>
                      <a:pt x="8111" y="2"/>
                      <a:pt x="8112" y="3"/>
                      <a:pt x="8112" y="4"/>
                    </a:cubicBezTo>
                    <a:cubicBezTo>
                      <a:pt x="8112" y="5"/>
                      <a:pt x="8111" y="6"/>
                      <a:pt x="8110" y="6"/>
                    </a:cubicBezTo>
                    <a:lnTo>
                      <a:pt x="8110" y="6"/>
                    </a:lnTo>
                    <a:cubicBezTo>
                      <a:pt x="8109" y="6"/>
                      <a:pt x="8108" y="5"/>
                      <a:pt x="8108" y="4"/>
                    </a:cubicBezTo>
                    <a:cubicBezTo>
                      <a:pt x="8108" y="3"/>
                      <a:pt x="8109" y="2"/>
                      <a:pt x="8110" y="2"/>
                    </a:cubicBezTo>
                    <a:close/>
                    <a:moveTo>
                      <a:pt x="8118" y="2"/>
                    </a:moveTo>
                    <a:lnTo>
                      <a:pt x="8118" y="2"/>
                    </a:lnTo>
                    <a:cubicBezTo>
                      <a:pt x="8119" y="2"/>
                      <a:pt x="8120" y="3"/>
                      <a:pt x="8120" y="4"/>
                    </a:cubicBezTo>
                    <a:cubicBezTo>
                      <a:pt x="8120" y="5"/>
                      <a:pt x="8119" y="6"/>
                      <a:pt x="8118" y="6"/>
                    </a:cubicBezTo>
                    <a:lnTo>
                      <a:pt x="8118" y="6"/>
                    </a:lnTo>
                    <a:cubicBezTo>
                      <a:pt x="8117" y="6"/>
                      <a:pt x="8116" y="5"/>
                      <a:pt x="8116" y="4"/>
                    </a:cubicBezTo>
                    <a:cubicBezTo>
                      <a:pt x="8116" y="3"/>
                      <a:pt x="8117" y="2"/>
                      <a:pt x="8118" y="2"/>
                    </a:cubicBezTo>
                    <a:close/>
                    <a:moveTo>
                      <a:pt x="8126" y="2"/>
                    </a:moveTo>
                    <a:lnTo>
                      <a:pt x="8126" y="2"/>
                    </a:lnTo>
                    <a:cubicBezTo>
                      <a:pt x="8127" y="2"/>
                      <a:pt x="8128" y="3"/>
                      <a:pt x="8128" y="4"/>
                    </a:cubicBezTo>
                    <a:cubicBezTo>
                      <a:pt x="8128" y="5"/>
                      <a:pt x="8127" y="6"/>
                      <a:pt x="8126" y="6"/>
                    </a:cubicBezTo>
                    <a:lnTo>
                      <a:pt x="8126" y="6"/>
                    </a:lnTo>
                    <a:cubicBezTo>
                      <a:pt x="8125" y="6"/>
                      <a:pt x="8124" y="5"/>
                      <a:pt x="8124" y="4"/>
                    </a:cubicBezTo>
                    <a:cubicBezTo>
                      <a:pt x="8124" y="3"/>
                      <a:pt x="8125" y="2"/>
                      <a:pt x="8126" y="2"/>
                    </a:cubicBezTo>
                    <a:close/>
                    <a:moveTo>
                      <a:pt x="8134" y="2"/>
                    </a:moveTo>
                    <a:lnTo>
                      <a:pt x="8134" y="2"/>
                    </a:lnTo>
                    <a:cubicBezTo>
                      <a:pt x="8135" y="2"/>
                      <a:pt x="8136" y="3"/>
                      <a:pt x="8136" y="4"/>
                    </a:cubicBezTo>
                    <a:cubicBezTo>
                      <a:pt x="8136" y="5"/>
                      <a:pt x="8135" y="6"/>
                      <a:pt x="8134" y="6"/>
                    </a:cubicBezTo>
                    <a:lnTo>
                      <a:pt x="8134" y="6"/>
                    </a:lnTo>
                    <a:cubicBezTo>
                      <a:pt x="8133" y="6"/>
                      <a:pt x="8132" y="5"/>
                      <a:pt x="8132" y="4"/>
                    </a:cubicBezTo>
                    <a:cubicBezTo>
                      <a:pt x="8132" y="3"/>
                      <a:pt x="8133" y="2"/>
                      <a:pt x="8134" y="2"/>
                    </a:cubicBezTo>
                    <a:close/>
                    <a:moveTo>
                      <a:pt x="8142" y="2"/>
                    </a:moveTo>
                    <a:lnTo>
                      <a:pt x="8142" y="2"/>
                    </a:lnTo>
                    <a:cubicBezTo>
                      <a:pt x="8143" y="2"/>
                      <a:pt x="8144" y="3"/>
                      <a:pt x="8144" y="4"/>
                    </a:cubicBezTo>
                    <a:cubicBezTo>
                      <a:pt x="8144" y="5"/>
                      <a:pt x="8143" y="6"/>
                      <a:pt x="8142" y="6"/>
                    </a:cubicBezTo>
                    <a:lnTo>
                      <a:pt x="8142" y="6"/>
                    </a:lnTo>
                    <a:cubicBezTo>
                      <a:pt x="8141" y="6"/>
                      <a:pt x="8140" y="5"/>
                      <a:pt x="8140" y="4"/>
                    </a:cubicBezTo>
                    <a:cubicBezTo>
                      <a:pt x="8140" y="3"/>
                      <a:pt x="8141" y="2"/>
                      <a:pt x="8142" y="2"/>
                    </a:cubicBezTo>
                    <a:close/>
                    <a:moveTo>
                      <a:pt x="8150" y="2"/>
                    </a:moveTo>
                    <a:lnTo>
                      <a:pt x="8150" y="2"/>
                    </a:lnTo>
                    <a:cubicBezTo>
                      <a:pt x="8151" y="2"/>
                      <a:pt x="8152" y="3"/>
                      <a:pt x="8152" y="4"/>
                    </a:cubicBezTo>
                    <a:cubicBezTo>
                      <a:pt x="8152" y="5"/>
                      <a:pt x="8151" y="6"/>
                      <a:pt x="8150" y="6"/>
                    </a:cubicBezTo>
                    <a:lnTo>
                      <a:pt x="8150" y="6"/>
                    </a:lnTo>
                    <a:cubicBezTo>
                      <a:pt x="8149" y="6"/>
                      <a:pt x="8148" y="5"/>
                      <a:pt x="8148" y="4"/>
                    </a:cubicBezTo>
                    <a:cubicBezTo>
                      <a:pt x="8148" y="3"/>
                      <a:pt x="8149" y="2"/>
                      <a:pt x="8150" y="2"/>
                    </a:cubicBezTo>
                    <a:close/>
                    <a:moveTo>
                      <a:pt x="8158" y="2"/>
                    </a:moveTo>
                    <a:lnTo>
                      <a:pt x="8158" y="2"/>
                    </a:lnTo>
                    <a:cubicBezTo>
                      <a:pt x="8159" y="2"/>
                      <a:pt x="8160" y="3"/>
                      <a:pt x="8160" y="4"/>
                    </a:cubicBezTo>
                    <a:cubicBezTo>
                      <a:pt x="8160" y="5"/>
                      <a:pt x="8159" y="6"/>
                      <a:pt x="8158" y="6"/>
                    </a:cubicBezTo>
                    <a:lnTo>
                      <a:pt x="8158" y="6"/>
                    </a:lnTo>
                    <a:cubicBezTo>
                      <a:pt x="8157" y="6"/>
                      <a:pt x="8156" y="5"/>
                      <a:pt x="8156" y="4"/>
                    </a:cubicBezTo>
                    <a:cubicBezTo>
                      <a:pt x="8156" y="3"/>
                      <a:pt x="8157" y="2"/>
                      <a:pt x="8158" y="2"/>
                    </a:cubicBezTo>
                    <a:close/>
                    <a:moveTo>
                      <a:pt x="8166" y="2"/>
                    </a:moveTo>
                    <a:lnTo>
                      <a:pt x="8166" y="2"/>
                    </a:lnTo>
                    <a:cubicBezTo>
                      <a:pt x="8167" y="2"/>
                      <a:pt x="8168" y="3"/>
                      <a:pt x="8168" y="4"/>
                    </a:cubicBezTo>
                    <a:cubicBezTo>
                      <a:pt x="8168" y="5"/>
                      <a:pt x="8167" y="6"/>
                      <a:pt x="8166" y="6"/>
                    </a:cubicBezTo>
                    <a:lnTo>
                      <a:pt x="8166" y="6"/>
                    </a:lnTo>
                    <a:cubicBezTo>
                      <a:pt x="8165" y="6"/>
                      <a:pt x="8164" y="5"/>
                      <a:pt x="8164" y="4"/>
                    </a:cubicBezTo>
                    <a:cubicBezTo>
                      <a:pt x="8164" y="3"/>
                      <a:pt x="8165" y="2"/>
                      <a:pt x="8166" y="2"/>
                    </a:cubicBezTo>
                    <a:close/>
                    <a:moveTo>
                      <a:pt x="8174" y="2"/>
                    </a:moveTo>
                    <a:lnTo>
                      <a:pt x="8174" y="2"/>
                    </a:lnTo>
                    <a:cubicBezTo>
                      <a:pt x="8175" y="2"/>
                      <a:pt x="8176" y="3"/>
                      <a:pt x="8176" y="4"/>
                    </a:cubicBezTo>
                    <a:cubicBezTo>
                      <a:pt x="8176" y="5"/>
                      <a:pt x="8175" y="6"/>
                      <a:pt x="8174" y="6"/>
                    </a:cubicBezTo>
                    <a:lnTo>
                      <a:pt x="8174" y="6"/>
                    </a:lnTo>
                    <a:cubicBezTo>
                      <a:pt x="8173" y="6"/>
                      <a:pt x="8172" y="5"/>
                      <a:pt x="8172" y="4"/>
                    </a:cubicBezTo>
                    <a:cubicBezTo>
                      <a:pt x="8172" y="3"/>
                      <a:pt x="8173" y="2"/>
                      <a:pt x="8174" y="2"/>
                    </a:cubicBezTo>
                    <a:close/>
                    <a:moveTo>
                      <a:pt x="8182" y="2"/>
                    </a:moveTo>
                    <a:lnTo>
                      <a:pt x="8182" y="2"/>
                    </a:lnTo>
                    <a:cubicBezTo>
                      <a:pt x="8183" y="2"/>
                      <a:pt x="8184" y="3"/>
                      <a:pt x="8184" y="4"/>
                    </a:cubicBezTo>
                    <a:cubicBezTo>
                      <a:pt x="8184" y="5"/>
                      <a:pt x="8183" y="6"/>
                      <a:pt x="8182" y="6"/>
                    </a:cubicBezTo>
                    <a:lnTo>
                      <a:pt x="8182" y="6"/>
                    </a:lnTo>
                    <a:cubicBezTo>
                      <a:pt x="8181" y="6"/>
                      <a:pt x="8180" y="5"/>
                      <a:pt x="8180" y="4"/>
                    </a:cubicBezTo>
                    <a:cubicBezTo>
                      <a:pt x="8180" y="3"/>
                      <a:pt x="8181" y="2"/>
                      <a:pt x="8182" y="2"/>
                    </a:cubicBezTo>
                    <a:close/>
                    <a:moveTo>
                      <a:pt x="8190" y="2"/>
                    </a:moveTo>
                    <a:lnTo>
                      <a:pt x="8190" y="2"/>
                    </a:lnTo>
                    <a:cubicBezTo>
                      <a:pt x="8191" y="2"/>
                      <a:pt x="8192" y="3"/>
                      <a:pt x="8192" y="4"/>
                    </a:cubicBezTo>
                    <a:cubicBezTo>
                      <a:pt x="8192" y="5"/>
                      <a:pt x="8191" y="6"/>
                      <a:pt x="8190" y="6"/>
                    </a:cubicBezTo>
                    <a:lnTo>
                      <a:pt x="8190" y="6"/>
                    </a:lnTo>
                    <a:cubicBezTo>
                      <a:pt x="8189" y="6"/>
                      <a:pt x="8188" y="5"/>
                      <a:pt x="8188" y="4"/>
                    </a:cubicBezTo>
                    <a:cubicBezTo>
                      <a:pt x="8188" y="3"/>
                      <a:pt x="8189" y="2"/>
                      <a:pt x="8190" y="2"/>
                    </a:cubicBezTo>
                    <a:close/>
                    <a:moveTo>
                      <a:pt x="8198" y="2"/>
                    </a:moveTo>
                    <a:lnTo>
                      <a:pt x="8198" y="2"/>
                    </a:lnTo>
                    <a:cubicBezTo>
                      <a:pt x="8199" y="2"/>
                      <a:pt x="8200" y="3"/>
                      <a:pt x="8200" y="4"/>
                    </a:cubicBezTo>
                    <a:cubicBezTo>
                      <a:pt x="8200" y="5"/>
                      <a:pt x="8199" y="6"/>
                      <a:pt x="8198" y="6"/>
                    </a:cubicBezTo>
                    <a:lnTo>
                      <a:pt x="8198" y="6"/>
                    </a:lnTo>
                    <a:cubicBezTo>
                      <a:pt x="8197" y="6"/>
                      <a:pt x="8196" y="5"/>
                      <a:pt x="8196" y="4"/>
                    </a:cubicBezTo>
                    <a:cubicBezTo>
                      <a:pt x="8196" y="3"/>
                      <a:pt x="8197" y="2"/>
                      <a:pt x="8198" y="2"/>
                    </a:cubicBezTo>
                    <a:close/>
                    <a:moveTo>
                      <a:pt x="8206" y="2"/>
                    </a:moveTo>
                    <a:lnTo>
                      <a:pt x="8206" y="2"/>
                    </a:lnTo>
                    <a:cubicBezTo>
                      <a:pt x="8207" y="2"/>
                      <a:pt x="8208" y="3"/>
                      <a:pt x="8208" y="4"/>
                    </a:cubicBezTo>
                    <a:cubicBezTo>
                      <a:pt x="8208" y="5"/>
                      <a:pt x="8207" y="6"/>
                      <a:pt x="8206" y="6"/>
                    </a:cubicBezTo>
                    <a:lnTo>
                      <a:pt x="8206" y="6"/>
                    </a:lnTo>
                    <a:cubicBezTo>
                      <a:pt x="8205" y="6"/>
                      <a:pt x="8204" y="5"/>
                      <a:pt x="8204" y="4"/>
                    </a:cubicBezTo>
                    <a:cubicBezTo>
                      <a:pt x="8204" y="3"/>
                      <a:pt x="8205" y="2"/>
                      <a:pt x="8206" y="2"/>
                    </a:cubicBezTo>
                    <a:close/>
                    <a:moveTo>
                      <a:pt x="8214" y="2"/>
                    </a:moveTo>
                    <a:lnTo>
                      <a:pt x="8214" y="2"/>
                    </a:lnTo>
                    <a:cubicBezTo>
                      <a:pt x="8215" y="2"/>
                      <a:pt x="8216" y="3"/>
                      <a:pt x="8216" y="4"/>
                    </a:cubicBezTo>
                    <a:cubicBezTo>
                      <a:pt x="8216" y="5"/>
                      <a:pt x="8215" y="6"/>
                      <a:pt x="8214" y="6"/>
                    </a:cubicBezTo>
                    <a:lnTo>
                      <a:pt x="8214" y="6"/>
                    </a:lnTo>
                    <a:cubicBezTo>
                      <a:pt x="8213" y="6"/>
                      <a:pt x="8212" y="5"/>
                      <a:pt x="8212" y="4"/>
                    </a:cubicBezTo>
                    <a:cubicBezTo>
                      <a:pt x="8212" y="3"/>
                      <a:pt x="8213" y="2"/>
                      <a:pt x="8214" y="2"/>
                    </a:cubicBezTo>
                    <a:close/>
                    <a:moveTo>
                      <a:pt x="8222" y="2"/>
                    </a:moveTo>
                    <a:lnTo>
                      <a:pt x="8222" y="2"/>
                    </a:lnTo>
                    <a:cubicBezTo>
                      <a:pt x="8223" y="2"/>
                      <a:pt x="8224" y="3"/>
                      <a:pt x="8224" y="4"/>
                    </a:cubicBezTo>
                    <a:cubicBezTo>
                      <a:pt x="8224" y="5"/>
                      <a:pt x="8223" y="6"/>
                      <a:pt x="8222" y="6"/>
                    </a:cubicBezTo>
                    <a:lnTo>
                      <a:pt x="8222" y="6"/>
                    </a:lnTo>
                    <a:cubicBezTo>
                      <a:pt x="8221" y="6"/>
                      <a:pt x="8220" y="5"/>
                      <a:pt x="8220" y="4"/>
                    </a:cubicBezTo>
                    <a:cubicBezTo>
                      <a:pt x="8220" y="3"/>
                      <a:pt x="8221" y="2"/>
                      <a:pt x="8222" y="2"/>
                    </a:cubicBezTo>
                    <a:close/>
                    <a:moveTo>
                      <a:pt x="8230" y="2"/>
                    </a:moveTo>
                    <a:lnTo>
                      <a:pt x="8230" y="2"/>
                    </a:lnTo>
                    <a:cubicBezTo>
                      <a:pt x="8231" y="2"/>
                      <a:pt x="8232" y="3"/>
                      <a:pt x="8232" y="4"/>
                    </a:cubicBezTo>
                    <a:cubicBezTo>
                      <a:pt x="8232" y="5"/>
                      <a:pt x="8231" y="6"/>
                      <a:pt x="8230" y="6"/>
                    </a:cubicBezTo>
                    <a:lnTo>
                      <a:pt x="8230" y="6"/>
                    </a:lnTo>
                    <a:cubicBezTo>
                      <a:pt x="8229" y="6"/>
                      <a:pt x="8228" y="5"/>
                      <a:pt x="8228" y="4"/>
                    </a:cubicBezTo>
                    <a:cubicBezTo>
                      <a:pt x="8228" y="3"/>
                      <a:pt x="8229" y="2"/>
                      <a:pt x="8230" y="2"/>
                    </a:cubicBezTo>
                    <a:close/>
                    <a:moveTo>
                      <a:pt x="8238" y="2"/>
                    </a:moveTo>
                    <a:lnTo>
                      <a:pt x="8238" y="2"/>
                    </a:lnTo>
                    <a:cubicBezTo>
                      <a:pt x="8239" y="2"/>
                      <a:pt x="8240" y="3"/>
                      <a:pt x="8240" y="4"/>
                    </a:cubicBezTo>
                    <a:cubicBezTo>
                      <a:pt x="8240" y="5"/>
                      <a:pt x="8239" y="6"/>
                      <a:pt x="8238" y="6"/>
                    </a:cubicBezTo>
                    <a:lnTo>
                      <a:pt x="8238" y="6"/>
                    </a:lnTo>
                    <a:cubicBezTo>
                      <a:pt x="8237" y="6"/>
                      <a:pt x="8236" y="5"/>
                      <a:pt x="8236" y="4"/>
                    </a:cubicBezTo>
                    <a:cubicBezTo>
                      <a:pt x="8236" y="3"/>
                      <a:pt x="8237" y="2"/>
                      <a:pt x="8238" y="2"/>
                    </a:cubicBezTo>
                    <a:close/>
                    <a:moveTo>
                      <a:pt x="8246" y="2"/>
                    </a:moveTo>
                    <a:lnTo>
                      <a:pt x="8246" y="2"/>
                    </a:lnTo>
                    <a:cubicBezTo>
                      <a:pt x="8247" y="2"/>
                      <a:pt x="8248" y="3"/>
                      <a:pt x="8248" y="4"/>
                    </a:cubicBezTo>
                    <a:cubicBezTo>
                      <a:pt x="8248" y="5"/>
                      <a:pt x="8247" y="6"/>
                      <a:pt x="8246" y="6"/>
                    </a:cubicBezTo>
                    <a:lnTo>
                      <a:pt x="8246" y="6"/>
                    </a:lnTo>
                    <a:cubicBezTo>
                      <a:pt x="8245" y="6"/>
                      <a:pt x="8244" y="5"/>
                      <a:pt x="8244" y="4"/>
                    </a:cubicBezTo>
                    <a:cubicBezTo>
                      <a:pt x="8244" y="3"/>
                      <a:pt x="8245" y="2"/>
                      <a:pt x="8246" y="2"/>
                    </a:cubicBezTo>
                    <a:close/>
                    <a:moveTo>
                      <a:pt x="8254" y="2"/>
                    </a:moveTo>
                    <a:lnTo>
                      <a:pt x="8254" y="2"/>
                    </a:lnTo>
                    <a:cubicBezTo>
                      <a:pt x="8255" y="2"/>
                      <a:pt x="8256" y="3"/>
                      <a:pt x="8256" y="4"/>
                    </a:cubicBezTo>
                    <a:cubicBezTo>
                      <a:pt x="8256" y="5"/>
                      <a:pt x="8255" y="6"/>
                      <a:pt x="8254" y="6"/>
                    </a:cubicBezTo>
                    <a:lnTo>
                      <a:pt x="8254" y="6"/>
                    </a:lnTo>
                    <a:cubicBezTo>
                      <a:pt x="8253" y="6"/>
                      <a:pt x="8252" y="5"/>
                      <a:pt x="8252" y="4"/>
                    </a:cubicBezTo>
                    <a:cubicBezTo>
                      <a:pt x="8252" y="3"/>
                      <a:pt x="8253" y="2"/>
                      <a:pt x="8254" y="2"/>
                    </a:cubicBezTo>
                    <a:close/>
                    <a:moveTo>
                      <a:pt x="8262" y="2"/>
                    </a:moveTo>
                    <a:lnTo>
                      <a:pt x="8262" y="2"/>
                    </a:lnTo>
                    <a:cubicBezTo>
                      <a:pt x="8263" y="2"/>
                      <a:pt x="8264" y="3"/>
                      <a:pt x="8264" y="4"/>
                    </a:cubicBezTo>
                    <a:cubicBezTo>
                      <a:pt x="8264" y="5"/>
                      <a:pt x="8263" y="6"/>
                      <a:pt x="8262" y="6"/>
                    </a:cubicBezTo>
                    <a:lnTo>
                      <a:pt x="8262" y="6"/>
                    </a:lnTo>
                    <a:cubicBezTo>
                      <a:pt x="8261" y="6"/>
                      <a:pt x="8260" y="5"/>
                      <a:pt x="8260" y="4"/>
                    </a:cubicBezTo>
                    <a:cubicBezTo>
                      <a:pt x="8260" y="3"/>
                      <a:pt x="8261" y="2"/>
                      <a:pt x="8262" y="2"/>
                    </a:cubicBezTo>
                    <a:close/>
                    <a:moveTo>
                      <a:pt x="8270" y="2"/>
                    </a:moveTo>
                    <a:lnTo>
                      <a:pt x="8270" y="2"/>
                    </a:lnTo>
                    <a:cubicBezTo>
                      <a:pt x="8271" y="2"/>
                      <a:pt x="8272" y="3"/>
                      <a:pt x="8272" y="4"/>
                    </a:cubicBezTo>
                    <a:cubicBezTo>
                      <a:pt x="8272" y="5"/>
                      <a:pt x="8271" y="6"/>
                      <a:pt x="8270" y="6"/>
                    </a:cubicBezTo>
                    <a:lnTo>
                      <a:pt x="8270" y="6"/>
                    </a:lnTo>
                    <a:cubicBezTo>
                      <a:pt x="8269" y="6"/>
                      <a:pt x="8268" y="5"/>
                      <a:pt x="8268" y="4"/>
                    </a:cubicBezTo>
                    <a:cubicBezTo>
                      <a:pt x="8268" y="3"/>
                      <a:pt x="8269" y="2"/>
                      <a:pt x="8270" y="2"/>
                    </a:cubicBezTo>
                    <a:close/>
                    <a:moveTo>
                      <a:pt x="8278" y="2"/>
                    </a:moveTo>
                    <a:lnTo>
                      <a:pt x="8278" y="2"/>
                    </a:lnTo>
                    <a:cubicBezTo>
                      <a:pt x="8279" y="2"/>
                      <a:pt x="8280" y="3"/>
                      <a:pt x="8280" y="4"/>
                    </a:cubicBezTo>
                    <a:cubicBezTo>
                      <a:pt x="8280" y="5"/>
                      <a:pt x="8279" y="6"/>
                      <a:pt x="8278" y="6"/>
                    </a:cubicBezTo>
                    <a:lnTo>
                      <a:pt x="8278" y="6"/>
                    </a:lnTo>
                    <a:cubicBezTo>
                      <a:pt x="8277" y="6"/>
                      <a:pt x="8276" y="5"/>
                      <a:pt x="8276" y="4"/>
                    </a:cubicBezTo>
                    <a:cubicBezTo>
                      <a:pt x="8276" y="3"/>
                      <a:pt x="8277" y="2"/>
                      <a:pt x="8278" y="2"/>
                    </a:cubicBezTo>
                    <a:close/>
                    <a:moveTo>
                      <a:pt x="8286" y="2"/>
                    </a:moveTo>
                    <a:lnTo>
                      <a:pt x="8286" y="2"/>
                    </a:lnTo>
                    <a:cubicBezTo>
                      <a:pt x="8287" y="2"/>
                      <a:pt x="8288" y="3"/>
                      <a:pt x="8288" y="4"/>
                    </a:cubicBezTo>
                    <a:cubicBezTo>
                      <a:pt x="8288" y="5"/>
                      <a:pt x="8287" y="6"/>
                      <a:pt x="8286" y="6"/>
                    </a:cubicBezTo>
                    <a:lnTo>
                      <a:pt x="8286" y="6"/>
                    </a:lnTo>
                    <a:cubicBezTo>
                      <a:pt x="8285" y="6"/>
                      <a:pt x="8284" y="5"/>
                      <a:pt x="8284" y="4"/>
                    </a:cubicBezTo>
                    <a:cubicBezTo>
                      <a:pt x="8284" y="3"/>
                      <a:pt x="8285" y="2"/>
                      <a:pt x="8286" y="2"/>
                    </a:cubicBezTo>
                    <a:close/>
                    <a:moveTo>
                      <a:pt x="8294" y="2"/>
                    </a:moveTo>
                    <a:lnTo>
                      <a:pt x="8294" y="2"/>
                    </a:lnTo>
                    <a:cubicBezTo>
                      <a:pt x="8295" y="2"/>
                      <a:pt x="8296" y="3"/>
                      <a:pt x="8296" y="4"/>
                    </a:cubicBezTo>
                    <a:cubicBezTo>
                      <a:pt x="8296" y="5"/>
                      <a:pt x="8295" y="6"/>
                      <a:pt x="8294" y="6"/>
                    </a:cubicBezTo>
                    <a:lnTo>
                      <a:pt x="8294" y="6"/>
                    </a:lnTo>
                    <a:cubicBezTo>
                      <a:pt x="8293" y="6"/>
                      <a:pt x="8292" y="5"/>
                      <a:pt x="8292" y="4"/>
                    </a:cubicBezTo>
                    <a:cubicBezTo>
                      <a:pt x="8292" y="3"/>
                      <a:pt x="8293" y="2"/>
                      <a:pt x="8294" y="2"/>
                    </a:cubicBezTo>
                    <a:close/>
                    <a:moveTo>
                      <a:pt x="8302" y="2"/>
                    </a:moveTo>
                    <a:lnTo>
                      <a:pt x="8302" y="2"/>
                    </a:lnTo>
                    <a:cubicBezTo>
                      <a:pt x="8303" y="2"/>
                      <a:pt x="8304" y="3"/>
                      <a:pt x="8304" y="4"/>
                    </a:cubicBezTo>
                    <a:cubicBezTo>
                      <a:pt x="8304" y="5"/>
                      <a:pt x="8303" y="6"/>
                      <a:pt x="8302" y="6"/>
                    </a:cubicBezTo>
                    <a:lnTo>
                      <a:pt x="8302" y="6"/>
                    </a:lnTo>
                    <a:cubicBezTo>
                      <a:pt x="8301" y="6"/>
                      <a:pt x="8300" y="5"/>
                      <a:pt x="8300" y="4"/>
                    </a:cubicBezTo>
                    <a:cubicBezTo>
                      <a:pt x="8300" y="3"/>
                      <a:pt x="8301" y="2"/>
                      <a:pt x="8302" y="2"/>
                    </a:cubicBezTo>
                    <a:close/>
                    <a:moveTo>
                      <a:pt x="8310" y="2"/>
                    </a:moveTo>
                    <a:lnTo>
                      <a:pt x="8310" y="2"/>
                    </a:lnTo>
                    <a:cubicBezTo>
                      <a:pt x="8311" y="2"/>
                      <a:pt x="8312" y="3"/>
                      <a:pt x="8312" y="4"/>
                    </a:cubicBezTo>
                    <a:cubicBezTo>
                      <a:pt x="8312" y="5"/>
                      <a:pt x="8311" y="6"/>
                      <a:pt x="8310" y="6"/>
                    </a:cubicBezTo>
                    <a:lnTo>
                      <a:pt x="8310" y="6"/>
                    </a:lnTo>
                    <a:cubicBezTo>
                      <a:pt x="8309" y="6"/>
                      <a:pt x="8308" y="5"/>
                      <a:pt x="8308" y="4"/>
                    </a:cubicBezTo>
                    <a:cubicBezTo>
                      <a:pt x="8308" y="3"/>
                      <a:pt x="8309" y="2"/>
                      <a:pt x="8310" y="2"/>
                    </a:cubicBezTo>
                    <a:close/>
                    <a:moveTo>
                      <a:pt x="8318" y="2"/>
                    </a:moveTo>
                    <a:lnTo>
                      <a:pt x="8318" y="2"/>
                    </a:lnTo>
                    <a:cubicBezTo>
                      <a:pt x="8319" y="2"/>
                      <a:pt x="8320" y="3"/>
                      <a:pt x="8320" y="4"/>
                    </a:cubicBezTo>
                    <a:cubicBezTo>
                      <a:pt x="8320" y="5"/>
                      <a:pt x="8319" y="6"/>
                      <a:pt x="8318" y="6"/>
                    </a:cubicBezTo>
                    <a:lnTo>
                      <a:pt x="8318" y="6"/>
                    </a:lnTo>
                    <a:cubicBezTo>
                      <a:pt x="8317" y="6"/>
                      <a:pt x="8316" y="5"/>
                      <a:pt x="8316" y="4"/>
                    </a:cubicBezTo>
                    <a:cubicBezTo>
                      <a:pt x="8316" y="3"/>
                      <a:pt x="8317" y="2"/>
                      <a:pt x="8318" y="2"/>
                    </a:cubicBezTo>
                    <a:close/>
                    <a:moveTo>
                      <a:pt x="8326" y="2"/>
                    </a:moveTo>
                    <a:lnTo>
                      <a:pt x="8326" y="2"/>
                    </a:lnTo>
                    <a:cubicBezTo>
                      <a:pt x="8327" y="2"/>
                      <a:pt x="8328" y="3"/>
                      <a:pt x="8328" y="4"/>
                    </a:cubicBezTo>
                    <a:cubicBezTo>
                      <a:pt x="8328" y="5"/>
                      <a:pt x="8327" y="6"/>
                      <a:pt x="8326" y="6"/>
                    </a:cubicBezTo>
                    <a:lnTo>
                      <a:pt x="8326" y="6"/>
                    </a:lnTo>
                    <a:cubicBezTo>
                      <a:pt x="8325" y="6"/>
                      <a:pt x="8324" y="5"/>
                      <a:pt x="8324" y="4"/>
                    </a:cubicBezTo>
                    <a:cubicBezTo>
                      <a:pt x="8324" y="3"/>
                      <a:pt x="8325" y="2"/>
                      <a:pt x="8326" y="2"/>
                    </a:cubicBezTo>
                    <a:close/>
                    <a:moveTo>
                      <a:pt x="8334" y="2"/>
                    </a:moveTo>
                    <a:lnTo>
                      <a:pt x="8334" y="2"/>
                    </a:lnTo>
                    <a:cubicBezTo>
                      <a:pt x="8335" y="2"/>
                      <a:pt x="8336" y="3"/>
                      <a:pt x="8336" y="4"/>
                    </a:cubicBezTo>
                    <a:cubicBezTo>
                      <a:pt x="8336" y="5"/>
                      <a:pt x="8335" y="6"/>
                      <a:pt x="8334" y="6"/>
                    </a:cubicBezTo>
                    <a:lnTo>
                      <a:pt x="8334" y="6"/>
                    </a:lnTo>
                    <a:cubicBezTo>
                      <a:pt x="8333" y="6"/>
                      <a:pt x="8332" y="5"/>
                      <a:pt x="8332" y="4"/>
                    </a:cubicBezTo>
                    <a:cubicBezTo>
                      <a:pt x="8332" y="3"/>
                      <a:pt x="8333" y="2"/>
                      <a:pt x="8334" y="2"/>
                    </a:cubicBezTo>
                    <a:close/>
                    <a:moveTo>
                      <a:pt x="8342" y="2"/>
                    </a:moveTo>
                    <a:lnTo>
                      <a:pt x="8342" y="2"/>
                    </a:lnTo>
                    <a:cubicBezTo>
                      <a:pt x="8343" y="2"/>
                      <a:pt x="8344" y="3"/>
                      <a:pt x="8344" y="4"/>
                    </a:cubicBezTo>
                    <a:cubicBezTo>
                      <a:pt x="8344" y="5"/>
                      <a:pt x="8343" y="6"/>
                      <a:pt x="8342" y="6"/>
                    </a:cubicBezTo>
                    <a:lnTo>
                      <a:pt x="8342" y="6"/>
                    </a:lnTo>
                    <a:cubicBezTo>
                      <a:pt x="8341" y="6"/>
                      <a:pt x="8340" y="5"/>
                      <a:pt x="8340" y="4"/>
                    </a:cubicBezTo>
                    <a:cubicBezTo>
                      <a:pt x="8340" y="3"/>
                      <a:pt x="8341" y="2"/>
                      <a:pt x="8342" y="2"/>
                    </a:cubicBezTo>
                    <a:close/>
                    <a:moveTo>
                      <a:pt x="8350" y="2"/>
                    </a:moveTo>
                    <a:lnTo>
                      <a:pt x="8350" y="2"/>
                    </a:lnTo>
                    <a:cubicBezTo>
                      <a:pt x="8351" y="2"/>
                      <a:pt x="8352" y="3"/>
                      <a:pt x="8352" y="4"/>
                    </a:cubicBezTo>
                    <a:cubicBezTo>
                      <a:pt x="8352" y="5"/>
                      <a:pt x="8351" y="6"/>
                      <a:pt x="8350" y="6"/>
                    </a:cubicBezTo>
                    <a:lnTo>
                      <a:pt x="8350" y="6"/>
                    </a:lnTo>
                    <a:cubicBezTo>
                      <a:pt x="8349" y="6"/>
                      <a:pt x="8348" y="5"/>
                      <a:pt x="8348" y="4"/>
                    </a:cubicBezTo>
                    <a:cubicBezTo>
                      <a:pt x="8348" y="3"/>
                      <a:pt x="8349" y="2"/>
                      <a:pt x="8350" y="2"/>
                    </a:cubicBezTo>
                    <a:close/>
                    <a:moveTo>
                      <a:pt x="8358" y="2"/>
                    </a:moveTo>
                    <a:lnTo>
                      <a:pt x="8358" y="2"/>
                    </a:lnTo>
                    <a:cubicBezTo>
                      <a:pt x="8359" y="2"/>
                      <a:pt x="8360" y="3"/>
                      <a:pt x="8360" y="4"/>
                    </a:cubicBezTo>
                    <a:cubicBezTo>
                      <a:pt x="8360" y="5"/>
                      <a:pt x="8359" y="6"/>
                      <a:pt x="8358" y="6"/>
                    </a:cubicBezTo>
                    <a:lnTo>
                      <a:pt x="8358" y="6"/>
                    </a:lnTo>
                    <a:cubicBezTo>
                      <a:pt x="8357" y="6"/>
                      <a:pt x="8356" y="5"/>
                      <a:pt x="8356" y="4"/>
                    </a:cubicBezTo>
                    <a:cubicBezTo>
                      <a:pt x="8356" y="3"/>
                      <a:pt x="8357" y="2"/>
                      <a:pt x="8358" y="2"/>
                    </a:cubicBezTo>
                    <a:close/>
                    <a:moveTo>
                      <a:pt x="8366" y="2"/>
                    </a:moveTo>
                    <a:lnTo>
                      <a:pt x="8366" y="2"/>
                    </a:lnTo>
                    <a:cubicBezTo>
                      <a:pt x="8367" y="2"/>
                      <a:pt x="8368" y="3"/>
                      <a:pt x="8368" y="4"/>
                    </a:cubicBezTo>
                    <a:cubicBezTo>
                      <a:pt x="8368" y="5"/>
                      <a:pt x="8367" y="6"/>
                      <a:pt x="8366" y="6"/>
                    </a:cubicBezTo>
                    <a:lnTo>
                      <a:pt x="8366" y="6"/>
                    </a:lnTo>
                    <a:cubicBezTo>
                      <a:pt x="8365" y="6"/>
                      <a:pt x="8364" y="5"/>
                      <a:pt x="8364" y="4"/>
                    </a:cubicBezTo>
                    <a:cubicBezTo>
                      <a:pt x="8364" y="3"/>
                      <a:pt x="8365" y="2"/>
                      <a:pt x="8366" y="2"/>
                    </a:cubicBezTo>
                    <a:close/>
                    <a:moveTo>
                      <a:pt x="8374" y="2"/>
                    </a:moveTo>
                    <a:lnTo>
                      <a:pt x="8374" y="2"/>
                    </a:lnTo>
                    <a:cubicBezTo>
                      <a:pt x="8375" y="2"/>
                      <a:pt x="8376" y="3"/>
                      <a:pt x="8376" y="4"/>
                    </a:cubicBezTo>
                    <a:cubicBezTo>
                      <a:pt x="8376" y="5"/>
                      <a:pt x="8375" y="6"/>
                      <a:pt x="8374" y="6"/>
                    </a:cubicBezTo>
                    <a:lnTo>
                      <a:pt x="8374" y="6"/>
                    </a:lnTo>
                    <a:cubicBezTo>
                      <a:pt x="8373" y="6"/>
                      <a:pt x="8372" y="5"/>
                      <a:pt x="8372" y="4"/>
                    </a:cubicBezTo>
                    <a:cubicBezTo>
                      <a:pt x="8372" y="3"/>
                      <a:pt x="8373" y="2"/>
                      <a:pt x="8374" y="2"/>
                    </a:cubicBezTo>
                    <a:close/>
                    <a:moveTo>
                      <a:pt x="8382" y="2"/>
                    </a:moveTo>
                    <a:lnTo>
                      <a:pt x="8382" y="2"/>
                    </a:lnTo>
                    <a:cubicBezTo>
                      <a:pt x="8383" y="2"/>
                      <a:pt x="8384" y="3"/>
                      <a:pt x="8384" y="4"/>
                    </a:cubicBezTo>
                    <a:cubicBezTo>
                      <a:pt x="8384" y="5"/>
                      <a:pt x="8383" y="6"/>
                      <a:pt x="8382" y="6"/>
                    </a:cubicBezTo>
                    <a:lnTo>
                      <a:pt x="8382" y="6"/>
                    </a:lnTo>
                    <a:cubicBezTo>
                      <a:pt x="8381" y="6"/>
                      <a:pt x="8380" y="5"/>
                      <a:pt x="8380" y="4"/>
                    </a:cubicBezTo>
                    <a:cubicBezTo>
                      <a:pt x="8380" y="3"/>
                      <a:pt x="8381" y="2"/>
                      <a:pt x="8382" y="2"/>
                    </a:cubicBezTo>
                    <a:close/>
                    <a:moveTo>
                      <a:pt x="8390" y="2"/>
                    </a:moveTo>
                    <a:lnTo>
                      <a:pt x="8390" y="2"/>
                    </a:lnTo>
                    <a:cubicBezTo>
                      <a:pt x="8391" y="2"/>
                      <a:pt x="8392" y="3"/>
                      <a:pt x="8392" y="4"/>
                    </a:cubicBezTo>
                    <a:cubicBezTo>
                      <a:pt x="8392" y="5"/>
                      <a:pt x="8391" y="6"/>
                      <a:pt x="8390" y="6"/>
                    </a:cubicBezTo>
                    <a:lnTo>
                      <a:pt x="8390" y="6"/>
                    </a:lnTo>
                    <a:cubicBezTo>
                      <a:pt x="8389" y="6"/>
                      <a:pt x="8388" y="5"/>
                      <a:pt x="8388" y="4"/>
                    </a:cubicBezTo>
                    <a:cubicBezTo>
                      <a:pt x="8388" y="3"/>
                      <a:pt x="8389" y="2"/>
                      <a:pt x="8390" y="2"/>
                    </a:cubicBezTo>
                    <a:close/>
                    <a:moveTo>
                      <a:pt x="8398" y="2"/>
                    </a:moveTo>
                    <a:lnTo>
                      <a:pt x="8398" y="2"/>
                    </a:lnTo>
                    <a:cubicBezTo>
                      <a:pt x="8399" y="2"/>
                      <a:pt x="8400" y="3"/>
                      <a:pt x="8400" y="4"/>
                    </a:cubicBezTo>
                    <a:cubicBezTo>
                      <a:pt x="8400" y="5"/>
                      <a:pt x="8399" y="6"/>
                      <a:pt x="8398" y="6"/>
                    </a:cubicBezTo>
                    <a:lnTo>
                      <a:pt x="8398" y="6"/>
                    </a:lnTo>
                    <a:cubicBezTo>
                      <a:pt x="8397" y="6"/>
                      <a:pt x="8396" y="5"/>
                      <a:pt x="8396" y="4"/>
                    </a:cubicBezTo>
                    <a:cubicBezTo>
                      <a:pt x="8396" y="3"/>
                      <a:pt x="8397" y="2"/>
                      <a:pt x="8398" y="2"/>
                    </a:cubicBezTo>
                    <a:close/>
                    <a:moveTo>
                      <a:pt x="8406" y="2"/>
                    </a:moveTo>
                    <a:lnTo>
                      <a:pt x="8406" y="2"/>
                    </a:lnTo>
                    <a:cubicBezTo>
                      <a:pt x="8407" y="2"/>
                      <a:pt x="8408" y="3"/>
                      <a:pt x="8408" y="4"/>
                    </a:cubicBezTo>
                    <a:cubicBezTo>
                      <a:pt x="8408" y="5"/>
                      <a:pt x="8407" y="6"/>
                      <a:pt x="8406" y="6"/>
                    </a:cubicBezTo>
                    <a:lnTo>
                      <a:pt x="8406" y="6"/>
                    </a:lnTo>
                    <a:cubicBezTo>
                      <a:pt x="8405" y="6"/>
                      <a:pt x="8404" y="5"/>
                      <a:pt x="8404" y="4"/>
                    </a:cubicBezTo>
                    <a:cubicBezTo>
                      <a:pt x="8404" y="3"/>
                      <a:pt x="8405" y="2"/>
                      <a:pt x="8406" y="2"/>
                    </a:cubicBezTo>
                    <a:close/>
                    <a:moveTo>
                      <a:pt x="8414" y="2"/>
                    </a:moveTo>
                    <a:lnTo>
                      <a:pt x="8414" y="2"/>
                    </a:lnTo>
                    <a:cubicBezTo>
                      <a:pt x="8415" y="2"/>
                      <a:pt x="8416" y="3"/>
                      <a:pt x="8416" y="4"/>
                    </a:cubicBezTo>
                    <a:cubicBezTo>
                      <a:pt x="8416" y="5"/>
                      <a:pt x="8415" y="6"/>
                      <a:pt x="8414" y="6"/>
                    </a:cubicBezTo>
                    <a:lnTo>
                      <a:pt x="8414" y="6"/>
                    </a:lnTo>
                    <a:cubicBezTo>
                      <a:pt x="8413" y="6"/>
                      <a:pt x="8412" y="5"/>
                      <a:pt x="8412" y="4"/>
                    </a:cubicBezTo>
                    <a:cubicBezTo>
                      <a:pt x="8412" y="3"/>
                      <a:pt x="8413" y="2"/>
                      <a:pt x="8414" y="2"/>
                    </a:cubicBezTo>
                    <a:close/>
                    <a:moveTo>
                      <a:pt x="8422" y="2"/>
                    </a:moveTo>
                    <a:lnTo>
                      <a:pt x="8422" y="2"/>
                    </a:lnTo>
                    <a:cubicBezTo>
                      <a:pt x="8423" y="2"/>
                      <a:pt x="8424" y="3"/>
                      <a:pt x="8424" y="4"/>
                    </a:cubicBezTo>
                    <a:cubicBezTo>
                      <a:pt x="8424" y="5"/>
                      <a:pt x="8423" y="6"/>
                      <a:pt x="8422" y="6"/>
                    </a:cubicBezTo>
                    <a:lnTo>
                      <a:pt x="8422" y="6"/>
                    </a:lnTo>
                    <a:cubicBezTo>
                      <a:pt x="8421" y="6"/>
                      <a:pt x="8420" y="5"/>
                      <a:pt x="8420" y="4"/>
                    </a:cubicBezTo>
                    <a:cubicBezTo>
                      <a:pt x="8420" y="3"/>
                      <a:pt x="8421" y="2"/>
                      <a:pt x="8422" y="2"/>
                    </a:cubicBezTo>
                    <a:close/>
                    <a:moveTo>
                      <a:pt x="8430" y="2"/>
                    </a:moveTo>
                    <a:lnTo>
                      <a:pt x="8430" y="2"/>
                    </a:lnTo>
                    <a:cubicBezTo>
                      <a:pt x="8431" y="2"/>
                      <a:pt x="8432" y="3"/>
                      <a:pt x="8432" y="4"/>
                    </a:cubicBezTo>
                    <a:cubicBezTo>
                      <a:pt x="8432" y="5"/>
                      <a:pt x="8431" y="6"/>
                      <a:pt x="8430" y="6"/>
                    </a:cubicBezTo>
                    <a:lnTo>
                      <a:pt x="8430" y="6"/>
                    </a:lnTo>
                    <a:cubicBezTo>
                      <a:pt x="8429" y="6"/>
                      <a:pt x="8428" y="5"/>
                      <a:pt x="8428" y="4"/>
                    </a:cubicBezTo>
                    <a:cubicBezTo>
                      <a:pt x="8428" y="3"/>
                      <a:pt x="8429" y="2"/>
                      <a:pt x="8430" y="2"/>
                    </a:cubicBezTo>
                    <a:close/>
                    <a:moveTo>
                      <a:pt x="8438" y="2"/>
                    </a:moveTo>
                    <a:lnTo>
                      <a:pt x="8438" y="2"/>
                    </a:lnTo>
                    <a:cubicBezTo>
                      <a:pt x="8439" y="2"/>
                      <a:pt x="8440" y="3"/>
                      <a:pt x="8440" y="4"/>
                    </a:cubicBezTo>
                    <a:cubicBezTo>
                      <a:pt x="8440" y="5"/>
                      <a:pt x="8439" y="6"/>
                      <a:pt x="8438" y="6"/>
                    </a:cubicBezTo>
                    <a:lnTo>
                      <a:pt x="8438" y="6"/>
                    </a:lnTo>
                    <a:cubicBezTo>
                      <a:pt x="8437" y="6"/>
                      <a:pt x="8436" y="5"/>
                      <a:pt x="8436" y="4"/>
                    </a:cubicBezTo>
                    <a:cubicBezTo>
                      <a:pt x="8436" y="3"/>
                      <a:pt x="8437" y="2"/>
                      <a:pt x="8438" y="2"/>
                    </a:cubicBezTo>
                    <a:close/>
                    <a:moveTo>
                      <a:pt x="8446" y="2"/>
                    </a:moveTo>
                    <a:lnTo>
                      <a:pt x="8446" y="2"/>
                    </a:lnTo>
                    <a:cubicBezTo>
                      <a:pt x="8447" y="2"/>
                      <a:pt x="8448" y="3"/>
                      <a:pt x="8448" y="4"/>
                    </a:cubicBezTo>
                    <a:cubicBezTo>
                      <a:pt x="8448" y="5"/>
                      <a:pt x="8447" y="6"/>
                      <a:pt x="8446" y="6"/>
                    </a:cubicBezTo>
                    <a:lnTo>
                      <a:pt x="8446" y="6"/>
                    </a:lnTo>
                    <a:cubicBezTo>
                      <a:pt x="8445" y="6"/>
                      <a:pt x="8444" y="5"/>
                      <a:pt x="8444" y="4"/>
                    </a:cubicBezTo>
                    <a:cubicBezTo>
                      <a:pt x="8444" y="3"/>
                      <a:pt x="8445" y="2"/>
                      <a:pt x="8446" y="2"/>
                    </a:cubicBezTo>
                    <a:close/>
                    <a:moveTo>
                      <a:pt x="8454" y="2"/>
                    </a:moveTo>
                    <a:lnTo>
                      <a:pt x="8454" y="2"/>
                    </a:lnTo>
                    <a:cubicBezTo>
                      <a:pt x="8455" y="2"/>
                      <a:pt x="8456" y="3"/>
                      <a:pt x="8456" y="4"/>
                    </a:cubicBezTo>
                    <a:cubicBezTo>
                      <a:pt x="8456" y="5"/>
                      <a:pt x="8455" y="6"/>
                      <a:pt x="8454" y="6"/>
                    </a:cubicBezTo>
                    <a:lnTo>
                      <a:pt x="8454" y="6"/>
                    </a:lnTo>
                    <a:cubicBezTo>
                      <a:pt x="8453" y="6"/>
                      <a:pt x="8452" y="5"/>
                      <a:pt x="8452" y="4"/>
                    </a:cubicBezTo>
                    <a:cubicBezTo>
                      <a:pt x="8452" y="3"/>
                      <a:pt x="8453" y="2"/>
                      <a:pt x="8454" y="2"/>
                    </a:cubicBezTo>
                    <a:close/>
                    <a:moveTo>
                      <a:pt x="8462" y="2"/>
                    </a:moveTo>
                    <a:lnTo>
                      <a:pt x="8462" y="2"/>
                    </a:lnTo>
                    <a:cubicBezTo>
                      <a:pt x="8463" y="2"/>
                      <a:pt x="8464" y="3"/>
                      <a:pt x="8464" y="4"/>
                    </a:cubicBezTo>
                    <a:cubicBezTo>
                      <a:pt x="8464" y="5"/>
                      <a:pt x="8463" y="6"/>
                      <a:pt x="8462" y="6"/>
                    </a:cubicBezTo>
                    <a:lnTo>
                      <a:pt x="8462" y="6"/>
                    </a:lnTo>
                    <a:cubicBezTo>
                      <a:pt x="8461" y="6"/>
                      <a:pt x="8460" y="5"/>
                      <a:pt x="8460" y="4"/>
                    </a:cubicBezTo>
                    <a:cubicBezTo>
                      <a:pt x="8460" y="3"/>
                      <a:pt x="8461" y="2"/>
                      <a:pt x="8462" y="2"/>
                    </a:cubicBezTo>
                    <a:close/>
                    <a:moveTo>
                      <a:pt x="8470" y="2"/>
                    </a:moveTo>
                    <a:lnTo>
                      <a:pt x="8470" y="2"/>
                    </a:lnTo>
                    <a:cubicBezTo>
                      <a:pt x="8471" y="2"/>
                      <a:pt x="8472" y="3"/>
                      <a:pt x="8472" y="4"/>
                    </a:cubicBezTo>
                    <a:cubicBezTo>
                      <a:pt x="8472" y="5"/>
                      <a:pt x="8471" y="6"/>
                      <a:pt x="8470" y="6"/>
                    </a:cubicBezTo>
                    <a:lnTo>
                      <a:pt x="8470" y="6"/>
                    </a:lnTo>
                    <a:cubicBezTo>
                      <a:pt x="8469" y="6"/>
                      <a:pt x="8468" y="5"/>
                      <a:pt x="8468" y="4"/>
                    </a:cubicBezTo>
                    <a:cubicBezTo>
                      <a:pt x="8468" y="3"/>
                      <a:pt x="8469" y="2"/>
                      <a:pt x="8470" y="2"/>
                    </a:cubicBezTo>
                    <a:close/>
                    <a:moveTo>
                      <a:pt x="8478" y="2"/>
                    </a:moveTo>
                    <a:lnTo>
                      <a:pt x="8478" y="2"/>
                    </a:lnTo>
                    <a:cubicBezTo>
                      <a:pt x="8479" y="2"/>
                      <a:pt x="8480" y="3"/>
                      <a:pt x="8480" y="4"/>
                    </a:cubicBezTo>
                    <a:cubicBezTo>
                      <a:pt x="8480" y="5"/>
                      <a:pt x="8479" y="6"/>
                      <a:pt x="8478" y="6"/>
                    </a:cubicBezTo>
                    <a:lnTo>
                      <a:pt x="8478" y="6"/>
                    </a:lnTo>
                    <a:cubicBezTo>
                      <a:pt x="8477" y="6"/>
                      <a:pt x="8476" y="5"/>
                      <a:pt x="8476" y="4"/>
                    </a:cubicBezTo>
                    <a:cubicBezTo>
                      <a:pt x="8476" y="3"/>
                      <a:pt x="8477" y="2"/>
                      <a:pt x="8478" y="2"/>
                    </a:cubicBezTo>
                    <a:close/>
                    <a:moveTo>
                      <a:pt x="8486" y="2"/>
                    </a:moveTo>
                    <a:lnTo>
                      <a:pt x="8486" y="2"/>
                    </a:lnTo>
                    <a:cubicBezTo>
                      <a:pt x="8487" y="2"/>
                      <a:pt x="8488" y="3"/>
                      <a:pt x="8488" y="4"/>
                    </a:cubicBezTo>
                    <a:cubicBezTo>
                      <a:pt x="8488" y="5"/>
                      <a:pt x="8487" y="6"/>
                      <a:pt x="8486" y="6"/>
                    </a:cubicBezTo>
                    <a:lnTo>
                      <a:pt x="8486" y="6"/>
                    </a:lnTo>
                    <a:cubicBezTo>
                      <a:pt x="8485" y="6"/>
                      <a:pt x="8484" y="5"/>
                      <a:pt x="8484" y="4"/>
                    </a:cubicBezTo>
                    <a:cubicBezTo>
                      <a:pt x="8484" y="3"/>
                      <a:pt x="8485" y="2"/>
                      <a:pt x="8486" y="2"/>
                    </a:cubicBezTo>
                    <a:close/>
                    <a:moveTo>
                      <a:pt x="8494" y="2"/>
                    </a:moveTo>
                    <a:lnTo>
                      <a:pt x="8494" y="2"/>
                    </a:lnTo>
                    <a:cubicBezTo>
                      <a:pt x="8495" y="2"/>
                      <a:pt x="8496" y="3"/>
                      <a:pt x="8496" y="4"/>
                    </a:cubicBezTo>
                    <a:cubicBezTo>
                      <a:pt x="8496" y="5"/>
                      <a:pt x="8495" y="6"/>
                      <a:pt x="8494" y="6"/>
                    </a:cubicBezTo>
                    <a:lnTo>
                      <a:pt x="8494" y="6"/>
                    </a:lnTo>
                    <a:cubicBezTo>
                      <a:pt x="8493" y="6"/>
                      <a:pt x="8492" y="5"/>
                      <a:pt x="8492" y="4"/>
                    </a:cubicBezTo>
                    <a:cubicBezTo>
                      <a:pt x="8492" y="3"/>
                      <a:pt x="8493" y="2"/>
                      <a:pt x="8494" y="2"/>
                    </a:cubicBezTo>
                    <a:close/>
                    <a:moveTo>
                      <a:pt x="8502" y="2"/>
                    </a:moveTo>
                    <a:lnTo>
                      <a:pt x="8502" y="2"/>
                    </a:lnTo>
                    <a:cubicBezTo>
                      <a:pt x="8503" y="2"/>
                      <a:pt x="8504" y="3"/>
                      <a:pt x="8504" y="4"/>
                    </a:cubicBezTo>
                    <a:cubicBezTo>
                      <a:pt x="8504" y="5"/>
                      <a:pt x="8503" y="6"/>
                      <a:pt x="8502" y="6"/>
                    </a:cubicBezTo>
                    <a:lnTo>
                      <a:pt x="8502" y="6"/>
                    </a:lnTo>
                    <a:cubicBezTo>
                      <a:pt x="8501" y="6"/>
                      <a:pt x="8500" y="5"/>
                      <a:pt x="8500" y="4"/>
                    </a:cubicBezTo>
                    <a:cubicBezTo>
                      <a:pt x="8500" y="3"/>
                      <a:pt x="8501" y="2"/>
                      <a:pt x="8502" y="2"/>
                    </a:cubicBezTo>
                    <a:close/>
                    <a:moveTo>
                      <a:pt x="8510" y="2"/>
                    </a:moveTo>
                    <a:lnTo>
                      <a:pt x="8510" y="2"/>
                    </a:lnTo>
                    <a:cubicBezTo>
                      <a:pt x="8511" y="2"/>
                      <a:pt x="8512" y="3"/>
                      <a:pt x="8512" y="4"/>
                    </a:cubicBezTo>
                    <a:cubicBezTo>
                      <a:pt x="8512" y="5"/>
                      <a:pt x="8511" y="6"/>
                      <a:pt x="8510" y="6"/>
                    </a:cubicBezTo>
                    <a:lnTo>
                      <a:pt x="8510" y="6"/>
                    </a:lnTo>
                    <a:cubicBezTo>
                      <a:pt x="8509" y="6"/>
                      <a:pt x="8508" y="5"/>
                      <a:pt x="8508" y="4"/>
                    </a:cubicBezTo>
                    <a:cubicBezTo>
                      <a:pt x="8508" y="3"/>
                      <a:pt x="8509" y="2"/>
                      <a:pt x="8510" y="2"/>
                    </a:cubicBezTo>
                    <a:close/>
                    <a:moveTo>
                      <a:pt x="8518" y="2"/>
                    </a:moveTo>
                    <a:lnTo>
                      <a:pt x="8518" y="2"/>
                    </a:lnTo>
                    <a:cubicBezTo>
                      <a:pt x="8519" y="2"/>
                      <a:pt x="8520" y="3"/>
                      <a:pt x="8520" y="4"/>
                    </a:cubicBezTo>
                    <a:cubicBezTo>
                      <a:pt x="8520" y="5"/>
                      <a:pt x="8519" y="6"/>
                      <a:pt x="8518" y="6"/>
                    </a:cubicBezTo>
                    <a:lnTo>
                      <a:pt x="8518" y="6"/>
                    </a:lnTo>
                    <a:cubicBezTo>
                      <a:pt x="8517" y="6"/>
                      <a:pt x="8516" y="5"/>
                      <a:pt x="8516" y="4"/>
                    </a:cubicBezTo>
                    <a:cubicBezTo>
                      <a:pt x="8516" y="3"/>
                      <a:pt x="8517" y="2"/>
                      <a:pt x="8518" y="2"/>
                    </a:cubicBezTo>
                    <a:close/>
                    <a:moveTo>
                      <a:pt x="8526" y="2"/>
                    </a:moveTo>
                    <a:lnTo>
                      <a:pt x="8526" y="2"/>
                    </a:lnTo>
                    <a:cubicBezTo>
                      <a:pt x="8527" y="2"/>
                      <a:pt x="8528" y="3"/>
                      <a:pt x="8528" y="4"/>
                    </a:cubicBezTo>
                    <a:cubicBezTo>
                      <a:pt x="8528" y="5"/>
                      <a:pt x="8527" y="6"/>
                      <a:pt x="8526" y="6"/>
                    </a:cubicBezTo>
                    <a:lnTo>
                      <a:pt x="8526" y="6"/>
                    </a:lnTo>
                    <a:cubicBezTo>
                      <a:pt x="8525" y="6"/>
                      <a:pt x="8524" y="5"/>
                      <a:pt x="8524" y="4"/>
                    </a:cubicBezTo>
                    <a:cubicBezTo>
                      <a:pt x="8524" y="3"/>
                      <a:pt x="8525" y="2"/>
                      <a:pt x="8526" y="2"/>
                    </a:cubicBezTo>
                    <a:close/>
                    <a:moveTo>
                      <a:pt x="8534" y="2"/>
                    </a:moveTo>
                    <a:lnTo>
                      <a:pt x="8534" y="2"/>
                    </a:lnTo>
                    <a:cubicBezTo>
                      <a:pt x="8535" y="2"/>
                      <a:pt x="8536" y="3"/>
                      <a:pt x="8536" y="4"/>
                    </a:cubicBezTo>
                    <a:cubicBezTo>
                      <a:pt x="8536" y="5"/>
                      <a:pt x="8535" y="6"/>
                      <a:pt x="8534" y="6"/>
                    </a:cubicBezTo>
                    <a:lnTo>
                      <a:pt x="8534" y="6"/>
                    </a:lnTo>
                    <a:cubicBezTo>
                      <a:pt x="8533" y="6"/>
                      <a:pt x="8532" y="5"/>
                      <a:pt x="8532" y="4"/>
                    </a:cubicBezTo>
                    <a:cubicBezTo>
                      <a:pt x="8532" y="3"/>
                      <a:pt x="8533" y="2"/>
                      <a:pt x="8534" y="2"/>
                    </a:cubicBezTo>
                    <a:close/>
                    <a:moveTo>
                      <a:pt x="8542" y="2"/>
                    </a:moveTo>
                    <a:lnTo>
                      <a:pt x="8542" y="2"/>
                    </a:lnTo>
                    <a:cubicBezTo>
                      <a:pt x="8543" y="2"/>
                      <a:pt x="8544" y="3"/>
                      <a:pt x="8544" y="4"/>
                    </a:cubicBezTo>
                    <a:cubicBezTo>
                      <a:pt x="8544" y="5"/>
                      <a:pt x="8543" y="6"/>
                      <a:pt x="8542" y="6"/>
                    </a:cubicBezTo>
                    <a:lnTo>
                      <a:pt x="8542" y="6"/>
                    </a:lnTo>
                    <a:cubicBezTo>
                      <a:pt x="8541" y="6"/>
                      <a:pt x="8540" y="5"/>
                      <a:pt x="8540" y="4"/>
                    </a:cubicBezTo>
                    <a:cubicBezTo>
                      <a:pt x="8540" y="3"/>
                      <a:pt x="8541" y="2"/>
                      <a:pt x="8542" y="2"/>
                    </a:cubicBezTo>
                    <a:close/>
                    <a:moveTo>
                      <a:pt x="8550" y="2"/>
                    </a:moveTo>
                    <a:lnTo>
                      <a:pt x="8550" y="2"/>
                    </a:lnTo>
                    <a:cubicBezTo>
                      <a:pt x="8551" y="2"/>
                      <a:pt x="8552" y="3"/>
                      <a:pt x="8552" y="4"/>
                    </a:cubicBezTo>
                    <a:cubicBezTo>
                      <a:pt x="8552" y="5"/>
                      <a:pt x="8551" y="6"/>
                      <a:pt x="8550" y="6"/>
                    </a:cubicBezTo>
                    <a:lnTo>
                      <a:pt x="8550" y="6"/>
                    </a:lnTo>
                    <a:cubicBezTo>
                      <a:pt x="8549" y="6"/>
                      <a:pt x="8548" y="5"/>
                      <a:pt x="8548" y="4"/>
                    </a:cubicBezTo>
                    <a:cubicBezTo>
                      <a:pt x="8548" y="3"/>
                      <a:pt x="8549" y="2"/>
                      <a:pt x="8550" y="2"/>
                    </a:cubicBezTo>
                    <a:close/>
                    <a:moveTo>
                      <a:pt x="8558" y="2"/>
                    </a:moveTo>
                    <a:lnTo>
                      <a:pt x="8558" y="2"/>
                    </a:lnTo>
                    <a:cubicBezTo>
                      <a:pt x="8559" y="2"/>
                      <a:pt x="8560" y="3"/>
                      <a:pt x="8560" y="4"/>
                    </a:cubicBezTo>
                    <a:cubicBezTo>
                      <a:pt x="8560" y="5"/>
                      <a:pt x="8559" y="6"/>
                      <a:pt x="8558" y="6"/>
                    </a:cubicBezTo>
                    <a:lnTo>
                      <a:pt x="8558" y="6"/>
                    </a:lnTo>
                    <a:cubicBezTo>
                      <a:pt x="8557" y="6"/>
                      <a:pt x="8556" y="5"/>
                      <a:pt x="8556" y="4"/>
                    </a:cubicBezTo>
                    <a:cubicBezTo>
                      <a:pt x="8556" y="3"/>
                      <a:pt x="8557" y="2"/>
                      <a:pt x="8558" y="2"/>
                    </a:cubicBezTo>
                    <a:close/>
                    <a:moveTo>
                      <a:pt x="8566" y="2"/>
                    </a:moveTo>
                    <a:lnTo>
                      <a:pt x="8566" y="2"/>
                    </a:lnTo>
                    <a:cubicBezTo>
                      <a:pt x="8567" y="2"/>
                      <a:pt x="8568" y="3"/>
                      <a:pt x="8568" y="4"/>
                    </a:cubicBezTo>
                    <a:cubicBezTo>
                      <a:pt x="8568" y="5"/>
                      <a:pt x="8567" y="6"/>
                      <a:pt x="8566" y="6"/>
                    </a:cubicBezTo>
                    <a:lnTo>
                      <a:pt x="8566" y="6"/>
                    </a:lnTo>
                    <a:cubicBezTo>
                      <a:pt x="8565" y="6"/>
                      <a:pt x="8564" y="5"/>
                      <a:pt x="8564" y="4"/>
                    </a:cubicBezTo>
                    <a:cubicBezTo>
                      <a:pt x="8564" y="3"/>
                      <a:pt x="8565" y="2"/>
                      <a:pt x="8566" y="2"/>
                    </a:cubicBezTo>
                    <a:close/>
                    <a:moveTo>
                      <a:pt x="8574" y="2"/>
                    </a:moveTo>
                    <a:lnTo>
                      <a:pt x="8574" y="2"/>
                    </a:lnTo>
                    <a:cubicBezTo>
                      <a:pt x="8575" y="2"/>
                      <a:pt x="8576" y="3"/>
                      <a:pt x="8576" y="4"/>
                    </a:cubicBezTo>
                    <a:cubicBezTo>
                      <a:pt x="8576" y="5"/>
                      <a:pt x="8575" y="6"/>
                      <a:pt x="8574" y="6"/>
                    </a:cubicBezTo>
                    <a:lnTo>
                      <a:pt x="8574" y="6"/>
                    </a:lnTo>
                    <a:cubicBezTo>
                      <a:pt x="8573" y="6"/>
                      <a:pt x="8572" y="5"/>
                      <a:pt x="8572" y="4"/>
                    </a:cubicBezTo>
                    <a:cubicBezTo>
                      <a:pt x="8572" y="3"/>
                      <a:pt x="8573" y="2"/>
                      <a:pt x="8574" y="2"/>
                    </a:cubicBezTo>
                    <a:close/>
                    <a:moveTo>
                      <a:pt x="8582" y="2"/>
                    </a:moveTo>
                    <a:lnTo>
                      <a:pt x="8582" y="2"/>
                    </a:lnTo>
                    <a:cubicBezTo>
                      <a:pt x="8583" y="2"/>
                      <a:pt x="8584" y="3"/>
                      <a:pt x="8584" y="4"/>
                    </a:cubicBezTo>
                    <a:cubicBezTo>
                      <a:pt x="8584" y="5"/>
                      <a:pt x="8583" y="6"/>
                      <a:pt x="8582" y="6"/>
                    </a:cubicBezTo>
                    <a:lnTo>
                      <a:pt x="8582" y="6"/>
                    </a:lnTo>
                    <a:cubicBezTo>
                      <a:pt x="8581" y="6"/>
                      <a:pt x="8580" y="5"/>
                      <a:pt x="8580" y="4"/>
                    </a:cubicBezTo>
                    <a:cubicBezTo>
                      <a:pt x="8580" y="3"/>
                      <a:pt x="8581" y="2"/>
                      <a:pt x="8582" y="2"/>
                    </a:cubicBezTo>
                    <a:close/>
                    <a:moveTo>
                      <a:pt x="8590" y="2"/>
                    </a:moveTo>
                    <a:lnTo>
                      <a:pt x="8590" y="2"/>
                    </a:lnTo>
                    <a:cubicBezTo>
                      <a:pt x="8591" y="2"/>
                      <a:pt x="8592" y="3"/>
                      <a:pt x="8592" y="4"/>
                    </a:cubicBezTo>
                    <a:cubicBezTo>
                      <a:pt x="8592" y="5"/>
                      <a:pt x="8591" y="6"/>
                      <a:pt x="8590" y="6"/>
                    </a:cubicBezTo>
                    <a:lnTo>
                      <a:pt x="8590" y="6"/>
                    </a:lnTo>
                    <a:cubicBezTo>
                      <a:pt x="8589" y="6"/>
                      <a:pt x="8588" y="5"/>
                      <a:pt x="8588" y="4"/>
                    </a:cubicBezTo>
                    <a:cubicBezTo>
                      <a:pt x="8588" y="3"/>
                      <a:pt x="8589" y="2"/>
                      <a:pt x="8590" y="2"/>
                    </a:cubicBezTo>
                    <a:close/>
                    <a:moveTo>
                      <a:pt x="8598" y="2"/>
                    </a:moveTo>
                    <a:lnTo>
                      <a:pt x="8598" y="2"/>
                    </a:lnTo>
                    <a:cubicBezTo>
                      <a:pt x="8599" y="2"/>
                      <a:pt x="8600" y="3"/>
                      <a:pt x="8600" y="4"/>
                    </a:cubicBezTo>
                    <a:cubicBezTo>
                      <a:pt x="8600" y="5"/>
                      <a:pt x="8599" y="6"/>
                      <a:pt x="8598" y="6"/>
                    </a:cubicBezTo>
                    <a:lnTo>
                      <a:pt x="8598" y="6"/>
                    </a:lnTo>
                    <a:cubicBezTo>
                      <a:pt x="8597" y="6"/>
                      <a:pt x="8596" y="5"/>
                      <a:pt x="8596" y="4"/>
                    </a:cubicBezTo>
                    <a:cubicBezTo>
                      <a:pt x="8596" y="3"/>
                      <a:pt x="8597" y="2"/>
                      <a:pt x="8598" y="2"/>
                    </a:cubicBezTo>
                    <a:close/>
                    <a:moveTo>
                      <a:pt x="8606" y="2"/>
                    </a:moveTo>
                    <a:lnTo>
                      <a:pt x="8606" y="2"/>
                    </a:lnTo>
                    <a:cubicBezTo>
                      <a:pt x="8607" y="2"/>
                      <a:pt x="8608" y="3"/>
                      <a:pt x="8608" y="4"/>
                    </a:cubicBezTo>
                    <a:cubicBezTo>
                      <a:pt x="8608" y="5"/>
                      <a:pt x="8607" y="6"/>
                      <a:pt x="8606" y="6"/>
                    </a:cubicBezTo>
                    <a:lnTo>
                      <a:pt x="8606" y="6"/>
                    </a:lnTo>
                    <a:cubicBezTo>
                      <a:pt x="8605" y="6"/>
                      <a:pt x="8604" y="5"/>
                      <a:pt x="8604" y="4"/>
                    </a:cubicBezTo>
                    <a:cubicBezTo>
                      <a:pt x="8604" y="3"/>
                      <a:pt x="8605" y="2"/>
                      <a:pt x="8606" y="2"/>
                    </a:cubicBezTo>
                    <a:close/>
                    <a:moveTo>
                      <a:pt x="8614" y="2"/>
                    </a:moveTo>
                    <a:lnTo>
                      <a:pt x="8614" y="2"/>
                    </a:lnTo>
                    <a:cubicBezTo>
                      <a:pt x="8615" y="2"/>
                      <a:pt x="8616" y="3"/>
                      <a:pt x="8616" y="4"/>
                    </a:cubicBezTo>
                    <a:cubicBezTo>
                      <a:pt x="8616" y="5"/>
                      <a:pt x="8615" y="6"/>
                      <a:pt x="8614" y="6"/>
                    </a:cubicBezTo>
                    <a:lnTo>
                      <a:pt x="8614" y="6"/>
                    </a:lnTo>
                    <a:cubicBezTo>
                      <a:pt x="8613" y="6"/>
                      <a:pt x="8612" y="5"/>
                      <a:pt x="8612" y="4"/>
                    </a:cubicBezTo>
                    <a:cubicBezTo>
                      <a:pt x="8612" y="3"/>
                      <a:pt x="8613" y="2"/>
                      <a:pt x="8614" y="2"/>
                    </a:cubicBezTo>
                    <a:close/>
                    <a:moveTo>
                      <a:pt x="8622" y="2"/>
                    </a:moveTo>
                    <a:lnTo>
                      <a:pt x="8622" y="2"/>
                    </a:lnTo>
                    <a:cubicBezTo>
                      <a:pt x="8623" y="2"/>
                      <a:pt x="8624" y="3"/>
                      <a:pt x="8624" y="4"/>
                    </a:cubicBezTo>
                    <a:cubicBezTo>
                      <a:pt x="8624" y="5"/>
                      <a:pt x="8623" y="6"/>
                      <a:pt x="8622" y="6"/>
                    </a:cubicBezTo>
                    <a:lnTo>
                      <a:pt x="8622" y="6"/>
                    </a:lnTo>
                    <a:cubicBezTo>
                      <a:pt x="8621" y="6"/>
                      <a:pt x="8620" y="5"/>
                      <a:pt x="8620" y="4"/>
                    </a:cubicBezTo>
                    <a:cubicBezTo>
                      <a:pt x="8620" y="3"/>
                      <a:pt x="8621" y="2"/>
                      <a:pt x="8622" y="2"/>
                    </a:cubicBezTo>
                    <a:close/>
                    <a:moveTo>
                      <a:pt x="8630" y="2"/>
                    </a:moveTo>
                    <a:lnTo>
                      <a:pt x="8630" y="2"/>
                    </a:lnTo>
                    <a:cubicBezTo>
                      <a:pt x="8631" y="2"/>
                      <a:pt x="8632" y="3"/>
                      <a:pt x="8632" y="4"/>
                    </a:cubicBezTo>
                    <a:cubicBezTo>
                      <a:pt x="8632" y="5"/>
                      <a:pt x="8631" y="6"/>
                      <a:pt x="8630" y="6"/>
                    </a:cubicBezTo>
                    <a:lnTo>
                      <a:pt x="8630" y="6"/>
                    </a:lnTo>
                    <a:cubicBezTo>
                      <a:pt x="8629" y="6"/>
                      <a:pt x="8628" y="5"/>
                      <a:pt x="8628" y="4"/>
                    </a:cubicBezTo>
                    <a:cubicBezTo>
                      <a:pt x="8628" y="3"/>
                      <a:pt x="8629" y="2"/>
                      <a:pt x="8630" y="2"/>
                    </a:cubicBezTo>
                    <a:close/>
                    <a:moveTo>
                      <a:pt x="8638" y="2"/>
                    </a:moveTo>
                    <a:lnTo>
                      <a:pt x="8638" y="2"/>
                    </a:lnTo>
                    <a:cubicBezTo>
                      <a:pt x="8639" y="2"/>
                      <a:pt x="8640" y="3"/>
                      <a:pt x="8640" y="4"/>
                    </a:cubicBezTo>
                    <a:cubicBezTo>
                      <a:pt x="8640" y="5"/>
                      <a:pt x="8639" y="6"/>
                      <a:pt x="8638" y="6"/>
                    </a:cubicBezTo>
                    <a:lnTo>
                      <a:pt x="8638" y="6"/>
                    </a:lnTo>
                    <a:cubicBezTo>
                      <a:pt x="8637" y="6"/>
                      <a:pt x="8636" y="5"/>
                      <a:pt x="8636" y="4"/>
                    </a:cubicBezTo>
                    <a:cubicBezTo>
                      <a:pt x="8636" y="3"/>
                      <a:pt x="8637" y="2"/>
                      <a:pt x="8638" y="2"/>
                    </a:cubicBezTo>
                    <a:close/>
                    <a:moveTo>
                      <a:pt x="8646" y="2"/>
                    </a:moveTo>
                    <a:lnTo>
                      <a:pt x="8646" y="2"/>
                    </a:lnTo>
                    <a:cubicBezTo>
                      <a:pt x="8647" y="2"/>
                      <a:pt x="8648" y="3"/>
                      <a:pt x="8648" y="4"/>
                    </a:cubicBezTo>
                    <a:cubicBezTo>
                      <a:pt x="8648" y="5"/>
                      <a:pt x="8647" y="6"/>
                      <a:pt x="8646" y="6"/>
                    </a:cubicBezTo>
                    <a:lnTo>
                      <a:pt x="8646" y="6"/>
                    </a:lnTo>
                    <a:cubicBezTo>
                      <a:pt x="8645" y="6"/>
                      <a:pt x="8644" y="5"/>
                      <a:pt x="8644" y="4"/>
                    </a:cubicBezTo>
                    <a:cubicBezTo>
                      <a:pt x="8644" y="3"/>
                      <a:pt x="8645" y="2"/>
                      <a:pt x="8646" y="2"/>
                    </a:cubicBezTo>
                    <a:close/>
                    <a:moveTo>
                      <a:pt x="8654" y="2"/>
                    </a:moveTo>
                    <a:lnTo>
                      <a:pt x="8654" y="2"/>
                    </a:lnTo>
                    <a:cubicBezTo>
                      <a:pt x="8655" y="2"/>
                      <a:pt x="8656" y="3"/>
                      <a:pt x="8656" y="4"/>
                    </a:cubicBezTo>
                    <a:cubicBezTo>
                      <a:pt x="8656" y="5"/>
                      <a:pt x="8655" y="6"/>
                      <a:pt x="8654" y="6"/>
                    </a:cubicBezTo>
                    <a:lnTo>
                      <a:pt x="8654" y="6"/>
                    </a:lnTo>
                    <a:cubicBezTo>
                      <a:pt x="8653" y="6"/>
                      <a:pt x="8652" y="5"/>
                      <a:pt x="8652" y="4"/>
                    </a:cubicBezTo>
                    <a:cubicBezTo>
                      <a:pt x="8652" y="3"/>
                      <a:pt x="8653" y="2"/>
                      <a:pt x="8654" y="2"/>
                    </a:cubicBezTo>
                    <a:close/>
                    <a:moveTo>
                      <a:pt x="8662" y="2"/>
                    </a:moveTo>
                    <a:lnTo>
                      <a:pt x="8662" y="2"/>
                    </a:lnTo>
                    <a:cubicBezTo>
                      <a:pt x="8663" y="2"/>
                      <a:pt x="8664" y="3"/>
                      <a:pt x="8664" y="4"/>
                    </a:cubicBezTo>
                    <a:cubicBezTo>
                      <a:pt x="8664" y="5"/>
                      <a:pt x="8663" y="6"/>
                      <a:pt x="8662" y="6"/>
                    </a:cubicBezTo>
                    <a:lnTo>
                      <a:pt x="8662" y="6"/>
                    </a:lnTo>
                    <a:cubicBezTo>
                      <a:pt x="8661" y="6"/>
                      <a:pt x="8660" y="5"/>
                      <a:pt x="8660" y="4"/>
                    </a:cubicBezTo>
                    <a:cubicBezTo>
                      <a:pt x="8660" y="3"/>
                      <a:pt x="8661" y="2"/>
                      <a:pt x="8662" y="2"/>
                    </a:cubicBezTo>
                    <a:close/>
                    <a:moveTo>
                      <a:pt x="8670" y="2"/>
                    </a:moveTo>
                    <a:lnTo>
                      <a:pt x="8670" y="2"/>
                    </a:lnTo>
                    <a:cubicBezTo>
                      <a:pt x="8671" y="2"/>
                      <a:pt x="8672" y="3"/>
                      <a:pt x="8672" y="4"/>
                    </a:cubicBezTo>
                    <a:cubicBezTo>
                      <a:pt x="8672" y="5"/>
                      <a:pt x="8671" y="6"/>
                      <a:pt x="8670" y="6"/>
                    </a:cubicBezTo>
                    <a:lnTo>
                      <a:pt x="8670" y="6"/>
                    </a:lnTo>
                    <a:cubicBezTo>
                      <a:pt x="8669" y="6"/>
                      <a:pt x="8668" y="5"/>
                      <a:pt x="8668" y="4"/>
                    </a:cubicBezTo>
                    <a:cubicBezTo>
                      <a:pt x="8668" y="3"/>
                      <a:pt x="8669" y="2"/>
                      <a:pt x="8670" y="2"/>
                    </a:cubicBezTo>
                    <a:close/>
                    <a:moveTo>
                      <a:pt x="8678" y="2"/>
                    </a:moveTo>
                    <a:lnTo>
                      <a:pt x="8678" y="2"/>
                    </a:lnTo>
                    <a:cubicBezTo>
                      <a:pt x="8679" y="2"/>
                      <a:pt x="8680" y="3"/>
                      <a:pt x="8680" y="4"/>
                    </a:cubicBezTo>
                    <a:cubicBezTo>
                      <a:pt x="8680" y="5"/>
                      <a:pt x="8679" y="6"/>
                      <a:pt x="8678" y="6"/>
                    </a:cubicBezTo>
                    <a:lnTo>
                      <a:pt x="8678" y="6"/>
                    </a:lnTo>
                    <a:cubicBezTo>
                      <a:pt x="8677" y="6"/>
                      <a:pt x="8676" y="5"/>
                      <a:pt x="8676" y="4"/>
                    </a:cubicBezTo>
                    <a:cubicBezTo>
                      <a:pt x="8676" y="3"/>
                      <a:pt x="8677" y="2"/>
                      <a:pt x="8678" y="2"/>
                    </a:cubicBezTo>
                    <a:close/>
                    <a:moveTo>
                      <a:pt x="8686" y="2"/>
                    </a:moveTo>
                    <a:lnTo>
                      <a:pt x="8686" y="2"/>
                    </a:lnTo>
                    <a:cubicBezTo>
                      <a:pt x="8687" y="2"/>
                      <a:pt x="8688" y="3"/>
                      <a:pt x="8688" y="4"/>
                    </a:cubicBezTo>
                    <a:cubicBezTo>
                      <a:pt x="8688" y="5"/>
                      <a:pt x="8687" y="6"/>
                      <a:pt x="8686" y="6"/>
                    </a:cubicBezTo>
                    <a:lnTo>
                      <a:pt x="8686" y="6"/>
                    </a:lnTo>
                    <a:cubicBezTo>
                      <a:pt x="8685" y="6"/>
                      <a:pt x="8684" y="5"/>
                      <a:pt x="8684" y="4"/>
                    </a:cubicBezTo>
                    <a:cubicBezTo>
                      <a:pt x="8684" y="3"/>
                      <a:pt x="8685" y="2"/>
                      <a:pt x="8686" y="2"/>
                    </a:cubicBezTo>
                    <a:close/>
                    <a:moveTo>
                      <a:pt x="8694" y="2"/>
                    </a:moveTo>
                    <a:lnTo>
                      <a:pt x="8694" y="2"/>
                    </a:lnTo>
                    <a:cubicBezTo>
                      <a:pt x="8695" y="2"/>
                      <a:pt x="8696" y="3"/>
                      <a:pt x="8696" y="4"/>
                    </a:cubicBezTo>
                    <a:cubicBezTo>
                      <a:pt x="8696" y="5"/>
                      <a:pt x="8695" y="6"/>
                      <a:pt x="8694" y="6"/>
                    </a:cubicBezTo>
                    <a:lnTo>
                      <a:pt x="8694" y="6"/>
                    </a:lnTo>
                    <a:cubicBezTo>
                      <a:pt x="8693" y="6"/>
                      <a:pt x="8692" y="5"/>
                      <a:pt x="8692" y="4"/>
                    </a:cubicBezTo>
                    <a:cubicBezTo>
                      <a:pt x="8692" y="3"/>
                      <a:pt x="8693" y="2"/>
                      <a:pt x="8694" y="2"/>
                    </a:cubicBezTo>
                    <a:close/>
                    <a:moveTo>
                      <a:pt x="8702" y="2"/>
                    </a:moveTo>
                    <a:lnTo>
                      <a:pt x="8702" y="2"/>
                    </a:lnTo>
                    <a:cubicBezTo>
                      <a:pt x="8703" y="2"/>
                      <a:pt x="8704" y="3"/>
                      <a:pt x="8704" y="4"/>
                    </a:cubicBezTo>
                    <a:cubicBezTo>
                      <a:pt x="8704" y="5"/>
                      <a:pt x="8703" y="6"/>
                      <a:pt x="8702" y="6"/>
                    </a:cubicBezTo>
                    <a:lnTo>
                      <a:pt x="8702" y="6"/>
                    </a:lnTo>
                    <a:cubicBezTo>
                      <a:pt x="8701" y="6"/>
                      <a:pt x="8700" y="5"/>
                      <a:pt x="8700" y="4"/>
                    </a:cubicBezTo>
                    <a:cubicBezTo>
                      <a:pt x="8700" y="3"/>
                      <a:pt x="8701" y="2"/>
                      <a:pt x="8702" y="2"/>
                    </a:cubicBezTo>
                    <a:close/>
                    <a:moveTo>
                      <a:pt x="8710" y="2"/>
                    </a:moveTo>
                    <a:lnTo>
                      <a:pt x="8710" y="2"/>
                    </a:lnTo>
                    <a:cubicBezTo>
                      <a:pt x="8711" y="2"/>
                      <a:pt x="8712" y="3"/>
                      <a:pt x="8712" y="4"/>
                    </a:cubicBezTo>
                    <a:cubicBezTo>
                      <a:pt x="8712" y="5"/>
                      <a:pt x="8711" y="6"/>
                      <a:pt x="8710" y="6"/>
                    </a:cubicBezTo>
                    <a:lnTo>
                      <a:pt x="8710" y="6"/>
                    </a:lnTo>
                    <a:cubicBezTo>
                      <a:pt x="8709" y="6"/>
                      <a:pt x="8708" y="5"/>
                      <a:pt x="8708" y="4"/>
                    </a:cubicBezTo>
                    <a:cubicBezTo>
                      <a:pt x="8708" y="3"/>
                      <a:pt x="8709" y="2"/>
                      <a:pt x="8710" y="2"/>
                    </a:cubicBezTo>
                    <a:close/>
                    <a:moveTo>
                      <a:pt x="8718" y="2"/>
                    </a:moveTo>
                    <a:lnTo>
                      <a:pt x="8718" y="2"/>
                    </a:lnTo>
                    <a:cubicBezTo>
                      <a:pt x="8719" y="2"/>
                      <a:pt x="8720" y="3"/>
                      <a:pt x="8720" y="4"/>
                    </a:cubicBezTo>
                    <a:cubicBezTo>
                      <a:pt x="8720" y="5"/>
                      <a:pt x="8719" y="6"/>
                      <a:pt x="8718" y="6"/>
                    </a:cubicBezTo>
                    <a:lnTo>
                      <a:pt x="8718" y="6"/>
                    </a:lnTo>
                    <a:cubicBezTo>
                      <a:pt x="8717" y="6"/>
                      <a:pt x="8716" y="5"/>
                      <a:pt x="8716" y="4"/>
                    </a:cubicBezTo>
                    <a:cubicBezTo>
                      <a:pt x="8716" y="3"/>
                      <a:pt x="8717" y="2"/>
                      <a:pt x="8718" y="2"/>
                    </a:cubicBezTo>
                    <a:close/>
                    <a:moveTo>
                      <a:pt x="8726" y="2"/>
                    </a:moveTo>
                    <a:lnTo>
                      <a:pt x="8726" y="2"/>
                    </a:lnTo>
                    <a:cubicBezTo>
                      <a:pt x="8727" y="2"/>
                      <a:pt x="8728" y="3"/>
                      <a:pt x="8728" y="4"/>
                    </a:cubicBezTo>
                    <a:cubicBezTo>
                      <a:pt x="8728" y="5"/>
                      <a:pt x="8727" y="6"/>
                      <a:pt x="8726" y="6"/>
                    </a:cubicBezTo>
                    <a:lnTo>
                      <a:pt x="8726" y="6"/>
                    </a:lnTo>
                    <a:cubicBezTo>
                      <a:pt x="8725" y="6"/>
                      <a:pt x="8724" y="5"/>
                      <a:pt x="8724" y="4"/>
                    </a:cubicBezTo>
                    <a:cubicBezTo>
                      <a:pt x="8724" y="3"/>
                      <a:pt x="8725" y="2"/>
                      <a:pt x="8726" y="2"/>
                    </a:cubicBezTo>
                    <a:close/>
                    <a:moveTo>
                      <a:pt x="8734" y="2"/>
                    </a:moveTo>
                    <a:lnTo>
                      <a:pt x="8734" y="2"/>
                    </a:lnTo>
                    <a:cubicBezTo>
                      <a:pt x="8735" y="2"/>
                      <a:pt x="8736" y="3"/>
                      <a:pt x="8736" y="4"/>
                    </a:cubicBezTo>
                    <a:cubicBezTo>
                      <a:pt x="8736" y="5"/>
                      <a:pt x="8735" y="6"/>
                      <a:pt x="8734" y="6"/>
                    </a:cubicBezTo>
                    <a:lnTo>
                      <a:pt x="8734" y="6"/>
                    </a:lnTo>
                    <a:cubicBezTo>
                      <a:pt x="8733" y="6"/>
                      <a:pt x="8732" y="5"/>
                      <a:pt x="8732" y="4"/>
                    </a:cubicBezTo>
                    <a:cubicBezTo>
                      <a:pt x="8732" y="3"/>
                      <a:pt x="8733" y="2"/>
                      <a:pt x="8734" y="2"/>
                    </a:cubicBezTo>
                    <a:close/>
                    <a:moveTo>
                      <a:pt x="8742" y="2"/>
                    </a:moveTo>
                    <a:lnTo>
                      <a:pt x="8742" y="2"/>
                    </a:lnTo>
                    <a:cubicBezTo>
                      <a:pt x="8743" y="2"/>
                      <a:pt x="8744" y="3"/>
                      <a:pt x="8744" y="4"/>
                    </a:cubicBezTo>
                    <a:cubicBezTo>
                      <a:pt x="8744" y="5"/>
                      <a:pt x="8743" y="6"/>
                      <a:pt x="8742" y="6"/>
                    </a:cubicBezTo>
                    <a:lnTo>
                      <a:pt x="8742" y="6"/>
                    </a:lnTo>
                    <a:cubicBezTo>
                      <a:pt x="8741" y="6"/>
                      <a:pt x="8740" y="5"/>
                      <a:pt x="8740" y="4"/>
                    </a:cubicBezTo>
                    <a:cubicBezTo>
                      <a:pt x="8740" y="3"/>
                      <a:pt x="8741" y="2"/>
                      <a:pt x="8742" y="2"/>
                    </a:cubicBezTo>
                    <a:close/>
                    <a:moveTo>
                      <a:pt x="8750" y="2"/>
                    </a:moveTo>
                    <a:lnTo>
                      <a:pt x="8750" y="2"/>
                    </a:lnTo>
                    <a:cubicBezTo>
                      <a:pt x="8751" y="2"/>
                      <a:pt x="8752" y="3"/>
                      <a:pt x="8752" y="4"/>
                    </a:cubicBezTo>
                    <a:cubicBezTo>
                      <a:pt x="8752" y="5"/>
                      <a:pt x="8751" y="6"/>
                      <a:pt x="8750" y="6"/>
                    </a:cubicBezTo>
                    <a:lnTo>
                      <a:pt x="8750" y="6"/>
                    </a:lnTo>
                    <a:cubicBezTo>
                      <a:pt x="8749" y="6"/>
                      <a:pt x="8748" y="5"/>
                      <a:pt x="8748" y="4"/>
                    </a:cubicBezTo>
                    <a:cubicBezTo>
                      <a:pt x="8748" y="3"/>
                      <a:pt x="8749" y="2"/>
                      <a:pt x="8750" y="2"/>
                    </a:cubicBezTo>
                    <a:close/>
                    <a:moveTo>
                      <a:pt x="8758" y="2"/>
                    </a:moveTo>
                    <a:lnTo>
                      <a:pt x="8758" y="2"/>
                    </a:lnTo>
                    <a:cubicBezTo>
                      <a:pt x="8759" y="2"/>
                      <a:pt x="8760" y="3"/>
                      <a:pt x="8760" y="4"/>
                    </a:cubicBezTo>
                    <a:cubicBezTo>
                      <a:pt x="8760" y="5"/>
                      <a:pt x="8759" y="6"/>
                      <a:pt x="8758" y="6"/>
                    </a:cubicBezTo>
                    <a:lnTo>
                      <a:pt x="8758" y="6"/>
                    </a:lnTo>
                    <a:cubicBezTo>
                      <a:pt x="8757" y="6"/>
                      <a:pt x="8756" y="5"/>
                      <a:pt x="8756" y="4"/>
                    </a:cubicBezTo>
                    <a:cubicBezTo>
                      <a:pt x="8756" y="3"/>
                      <a:pt x="8757" y="2"/>
                      <a:pt x="8758" y="2"/>
                    </a:cubicBezTo>
                    <a:close/>
                    <a:moveTo>
                      <a:pt x="8766" y="2"/>
                    </a:moveTo>
                    <a:lnTo>
                      <a:pt x="8766" y="2"/>
                    </a:lnTo>
                    <a:cubicBezTo>
                      <a:pt x="8767" y="2"/>
                      <a:pt x="8768" y="3"/>
                      <a:pt x="8768" y="4"/>
                    </a:cubicBezTo>
                    <a:cubicBezTo>
                      <a:pt x="8768" y="5"/>
                      <a:pt x="8767" y="6"/>
                      <a:pt x="8766" y="6"/>
                    </a:cubicBezTo>
                    <a:lnTo>
                      <a:pt x="8766" y="6"/>
                    </a:lnTo>
                    <a:cubicBezTo>
                      <a:pt x="8765" y="6"/>
                      <a:pt x="8764" y="5"/>
                      <a:pt x="8764" y="4"/>
                    </a:cubicBezTo>
                    <a:cubicBezTo>
                      <a:pt x="8764" y="3"/>
                      <a:pt x="8765" y="2"/>
                      <a:pt x="8766" y="2"/>
                    </a:cubicBezTo>
                    <a:close/>
                    <a:moveTo>
                      <a:pt x="8774" y="2"/>
                    </a:moveTo>
                    <a:lnTo>
                      <a:pt x="8774" y="2"/>
                    </a:lnTo>
                    <a:cubicBezTo>
                      <a:pt x="8775" y="2"/>
                      <a:pt x="8776" y="3"/>
                      <a:pt x="8776" y="4"/>
                    </a:cubicBezTo>
                    <a:cubicBezTo>
                      <a:pt x="8776" y="5"/>
                      <a:pt x="8775" y="6"/>
                      <a:pt x="8774" y="6"/>
                    </a:cubicBezTo>
                    <a:lnTo>
                      <a:pt x="8774" y="6"/>
                    </a:lnTo>
                    <a:cubicBezTo>
                      <a:pt x="8773" y="6"/>
                      <a:pt x="8772" y="5"/>
                      <a:pt x="8772" y="4"/>
                    </a:cubicBezTo>
                    <a:cubicBezTo>
                      <a:pt x="8772" y="3"/>
                      <a:pt x="8773" y="2"/>
                      <a:pt x="8774" y="2"/>
                    </a:cubicBezTo>
                    <a:close/>
                    <a:moveTo>
                      <a:pt x="8782" y="2"/>
                    </a:moveTo>
                    <a:lnTo>
                      <a:pt x="8782" y="2"/>
                    </a:lnTo>
                    <a:cubicBezTo>
                      <a:pt x="8783" y="2"/>
                      <a:pt x="8784" y="3"/>
                      <a:pt x="8784" y="4"/>
                    </a:cubicBezTo>
                    <a:cubicBezTo>
                      <a:pt x="8784" y="5"/>
                      <a:pt x="8783" y="6"/>
                      <a:pt x="8782" y="6"/>
                    </a:cubicBezTo>
                    <a:lnTo>
                      <a:pt x="8782" y="6"/>
                    </a:lnTo>
                    <a:cubicBezTo>
                      <a:pt x="8781" y="6"/>
                      <a:pt x="8780" y="5"/>
                      <a:pt x="8780" y="4"/>
                    </a:cubicBezTo>
                    <a:cubicBezTo>
                      <a:pt x="8780" y="3"/>
                      <a:pt x="8781" y="2"/>
                      <a:pt x="8782" y="2"/>
                    </a:cubicBezTo>
                    <a:close/>
                    <a:moveTo>
                      <a:pt x="8790" y="2"/>
                    </a:moveTo>
                    <a:lnTo>
                      <a:pt x="8790" y="2"/>
                    </a:lnTo>
                    <a:cubicBezTo>
                      <a:pt x="8791" y="2"/>
                      <a:pt x="8792" y="3"/>
                      <a:pt x="8792" y="4"/>
                    </a:cubicBezTo>
                    <a:cubicBezTo>
                      <a:pt x="8792" y="5"/>
                      <a:pt x="8791" y="6"/>
                      <a:pt x="8790" y="6"/>
                    </a:cubicBezTo>
                    <a:lnTo>
                      <a:pt x="8790" y="6"/>
                    </a:lnTo>
                    <a:cubicBezTo>
                      <a:pt x="8789" y="6"/>
                      <a:pt x="8788" y="5"/>
                      <a:pt x="8788" y="4"/>
                    </a:cubicBezTo>
                    <a:cubicBezTo>
                      <a:pt x="8788" y="3"/>
                      <a:pt x="8789" y="2"/>
                      <a:pt x="8790" y="2"/>
                    </a:cubicBezTo>
                    <a:close/>
                    <a:moveTo>
                      <a:pt x="8798" y="2"/>
                    </a:moveTo>
                    <a:lnTo>
                      <a:pt x="8798" y="2"/>
                    </a:lnTo>
                    <a:cubicBezTo>
                      <a:pt x="8799" y="2"/>
                      <a:pt x="8800" y="3"/>
                      <a:pt x="8800" y="4"/>
                    </a:cubicBezTo>
                    <a:cubicBezTo>
                      <a:pt x="8800" y="5"/>
                      <a:pt x="8799" y="6"/>
                      <a:pt x="8798" y="6"/>
                    </a:cubicBezTo>
                    <a:lnTo>
                      <a:pt x="8798" y="6"/>
                    </a:lnTo>
                    <a:cubicBezTo>
                      <a:pt x="8797" y="6"/>
                      <a:pt x="8796" y="5"/>
                      <a:pt x="8796" y="4"/>
                    </a:cubicBezTo>
                    <a:cubicBezTo>
                      <a:pt x="8796" y="3"/>
                      <a:pt x="8797" y="2"/>
                      <a:pt x="8798" y="2"/>
                    </a:cubicBezTo>
                    <a:close/>
                    <a:moveTo>
                      <a:pt x="8806" y="2"/>
                    </a:moveTo>
                    <a:lnTo>
                      <a:pt x="8806" y="2"/>
                    </a:lnTo>
                    <a:cubicBezTo>
                      <a:pt x="8807" y="2"/>
                      <a:pt x="8808" y="3"/>
                      <a:pt x="8808" y="4"/>
                    </a:cubicBezTo>
                    <a:cubicBezTo>
                      <a:pt x="8808" y="5"/>
                      <a:pt x="8807" y="6"/>
                      <a:pt x="8806" y="6"/>
                    </a:cubicBezTo>
                    <a:lnTo>
                      <a:pt x="8806" y="6"/>
                    </a:lnTo>
                    <a:cubicBezTo>
                      <a:pt x="8805" y="6"/>
                      <a:pt x="8804" y="5"/>
                      <a:pt x="8804" y="4"/>
                    </a:cubicBezTo>
                    <a:cubicBezTo>
                      <a:pt x="8804" y="3"/>
                      <a:pt x="8805" y="2"/>
                      <a:pt x="8806" y="2"/>
                    </a:cubicBezTo>
                    <a:close/>
                    <a:moveTo>
                      <a:pt x="8814" y="2"/>
                    </a:moveTo>
                    <a:lnTo>
                      <a:pt x="8814" y="2"/>
                    </a:lnTo>
                    <a:cubicBezTo>
                      <a:pt x="8815" y="2"/>
                      <a:pt x="8816" y="3"/>
                      <a:pt x="8816" y="4"/>
                    </a:cubicBezTo>
                    <a:cubicBezTo>
                      <a:pt x="8816" y="5"/>
                      <a:pt x="8815" y="6"/>
                      <a:pt x="8814" y="6"/>
                    </a:cubicBezTo>
                    <a:lnTo>
                      <a:pt x="8814" y="6"/>
                    </a:lnTo>
                    <a:cubicBezTo>
                      <a:pt x="8813" y="6"/>
                      <a:pt x="8812" y="5"/>
                      <a:pt x="8812" y="4"/>
                    </a:cubicBezTo>
                    <a:cubicBezTo>
                      <a:pt x="8812" y="3"/>
                      <a:pt x="8813" y="2"/>
                      <a:pt x="8814" y="2"/>
                    </a:cubicBezTo>
                    <a:close/>
                    <a:moveTo>
                      <a:pt x="8822" y="2"/>
                    </a:moveTo>
                    <a:lnTo>
                      <a:pt x="8822" y="2"/>
                    </a:lnTo>
                    <a:cubicBezTo>
                      <a:pt x="8823" y="2"/>
                      <a:pt x="8824" y="3"/>
                      <a:pt x="8824" y="4"/>
                    </a:cubicBezTo>
                    <a:cubicBezTo>
                      <a:pt x="8824" y="5"/>
                      <a:pt x="8823" y="6"/>
                      <a:pt x="8822" y="6"/>
                    </a:cubicBezTo>
                    <a:lnTo>
                      <a:pt x="8822" y="6"/>
                    </a:lnTo>
                    <a:cubicBezTo>
                      <a:pt x="8821" y="6"/>
                      <a:pt x="8820" y="5"/>
                      <a:pt x="8820" y="4"/>
                    </a:cubicBezTo>
                    <a:cubicBezTo>
                      <a:pt x="8820" y="3"/>
                      <a:pt x="8821" y="2"/>
                      <a:pt x="8822" y="2"/>
                    </a:cubicBezTo>
                    <a:close/>
                    <a:moveTo>
                      <a:pt x="8830" y="2"/>
                    </a:moveTo>
                    <a:lnTo>
                      <a:pt x="8830" y="2"/>
                    </a:lnTo>
                    <a:cubicBezTo>
                      <a:pt x="8831" y="2"/>
                      <a:pt x="8832" y="3"/>
                      <a:pt x="8832" y="4"/>
                    </a:cubicBezTo>
                    <a:cubicBezTo>
                      <a:pt x="8832" y="5"/>
                      <a:pt x="8831" y="6"/>
                      <a:pt x="8830" y="6"/>
                    </a:cubicBezTo>
                    <a:lnTo>
                      <a:pt x="8830" y="6"/>
                    </a:lnTo>
                    <a:cubicBezTo>
                      <a:pt x="8829" y="6"/>
                      <a:pt x="8828" y="5"/>
                      <a:pt x="8828" y="4"/>
                    </a:cubicBezTo>
                    <a:cubicBezTo>
                      <a:pt x="8828" y="3"/>
                      <a:pt x="8829" y="2"/>
                      <a:pt x="8830" y="2"/>
                    </a:cubicBezTo>
                    <a:close/>
                    <a:moveTo>
                      <a:pt x="8838" y="2"/>
                    </a:moveTo>
                    <a:lnTo>
                      <a:pt x="8838" y="2"/>
                    </a:lnTo>
                    <a:cubicBezTo>
                      <a:pt x="8839" y="2"/>
                      <a:pt x="8840" y="3"/>
                      <a:pt x="8840" y="4"/>
                    </a:cubicBezTo>
                    <a:cubicBezTo>
                      <a:pt x="8840" y="5"/>
                      <a:pt x="8839" y="6"/>
                      <a:pt x="8838" y="6"/>
                    </a:cubicBezTo>
                    <a:lnTo>
                      <a:pt x="8838" y="6"/>
                    </a:lnTo>
                    <a:cubicBezTo>
                      <a:pt x="8837" y="6"/>
                      <a:pt x="8836" y="5"/>
                      <a:pt x="8836" y="4"/>
                    </a:cubicBezTo>
                    <a:cubicBezTo>
                      <a:pt x="8836" y="3"/>
                      <a:pt x="8837" y="2"/>
                      <a:pt x="8838" y="2"/>
                    </a:cubicBezTo>
                    <a:close/>
                    <a:moveTo>
                      <a:pt x="8846" y="2"/>
                    </a:moveTo>
                    <a:lnTo>
                      <a:pt x="8846" y="2"/>
                    </a:lnTo>
                    <a:cubicBezTo>
                      <a:pt x="8847" y="2"/>
                      <a:pt x="8848" y="3"/>
                      <a:pt x="8848" y="4"/>
                    </a:cubicBezTo>
                    <a:cubicBezTo>
                      <a:pt x="8848" y="5"/>
                      <a:pt x="8847" y="6"/>
                      <a:pt x="8846" y="6"/>
                    </a:cubicBezTo>
                    <a:lnTo>
                      <a:pt x="8846" y="6"/>
                    </a:lnTo>
                    <a:cubicBezTo>
                      <a:pt x="8845" y="6"/>
                      <a:pt x="8844" y="5"/>
                      <a:pt x="8844" y="4"/>
                    </a:cubicBezTo>
                    <a:cubicBezTo>
                      <a:pt x="8844" y="3"/>
                      <a:pt x="8845" y="2"/>
                      <a:pt x="8846" y="2"/>
                    </a:cubicBezTo>
                    <a:close/>
                    <a:moveTo>
                      <a:pt x="8854" y="2"/>
                    </a:moveTo>
                    <a:lnTo>
                      <a:pt x="8854" y="2"/>
                    </a:lnTo>
                    <a:cubicBezTo>
                      <a:pt x="8855" y="2"/>
                      <a:pt x="8856" y="3"/>
                      <a:pt x="8856" y="4"/>
                    </a:cubicBezTo>
                    <a:cubicBezTo>
                      <a:pt x="8856" y="5"/>
                      <a:pt x="8855" y="6"/>
                      <a:pt x="8854" y="6"/>
                    </a:cubicBezTo>
                    <a:lnTo>
                      <a:pt x="8854" y="6"/>
                    </a:lnTo>
                    <a:cubicBezTo>
                      <a:pt x="8853" y="6"/>
                      <a:pt x="8852" y="5"/>
                      <a:pt x="8852" y="4"/>
                    </a:cubicBezTo>
                    <a:cubicBezTo>
                      <a:pt x="8852" y="3"/>
                      <a:pt x="8853" y="2"/>
                      <a:pt x="8854" y="2"/>
                    </a:cubicBezTo>
                    <a:close/>
                    <a:moveTo>
                      <a:pt x="8862" y="2"/>
                    </a:moveTo>
                    <a:lnTo>
                      <a:pt x="8862" y="2"/>
                    </a:lnTo>
                    <a:cubicBezTo>
                      <a:pt x="8863" y="2"/>
                      <a:pt x="8864" y="3"/>
                      <a:pt x="8864" y="4"/>
                    </a:cubicBezTo>
                    <a:cubicBezTo>
                      <a:pt x="8864" y="5"/>
                      <a:pt x="8863" y="6"/>
                      <a:pt x="8862" y="6"/>
                    </a:cubicBezTo>
                    <a:lnTo>
                      <a:pt x="8862" y="6"/>
                    </a:lnTo>
                    <a:cubicBezTo>
                      <a:pt x="8861" y="6"/>
                      <a:pt x="8860" y="5"/>
                      <a:pt x="8860" y="4"/>
                    </a:cubicBezTo>
                    <a:cubicBezTo>
                      <a:pt x="8860" y="3"/>
                      <a:pt x="8861" y="2"/>
                      <a:pt x="8862" y="2"/>
                    </a:cubicBezTo>
                    <a:close/>
                    <a:moveTo>
                      <a:pt x="8870" y="2"/>
                    </a:moveTo>
                    <a:lnTo>
                      <a:pt x="8870" y="2"/>
                    </a:lnTo>
                    <a:cubicBezTo>
                      <a:pt x="8871" y="2"/>
                      <a:pt x="8872" y="3"/>
                      <a:pt x="8872" y="4"/>
                    </a:cubicBezTo>
                    <a:cubicBezTo>
                      <a:pt x="8872" y="5"/>
                      <a:pt x="8871" y="6"/>
                      <a:pt x="8870" y="6"/>
                    </a:cubicBezTo>
                    <a:lnTo>
                      <a:pt x="8870" y="6"/>
                    </a:lnTo>
                    <a:cubicBezTo>
                      <a:pt x="8869" y="6"/>
                      <a:pt x="8868" y="5"/>
                      <a:pt x="8868" y="4"/>
                    </a:cubicBezTo>
                    <a:cubicBezTo>
                      <a:pt x="8868" y="3"/>
                      <a:pt x="8869" y="2"/>
                      <a:pt x="8870" y="2"/>
                    </a:cubicBezTo>
                    <a:close/>
                    <a:moveTo>
                      <a:pt x="8878" y="2"/>
                    </a:moveTo>
                    <a:lnTo>
                      <a:pt x="8878" y="2"/>
                    </a:lnTo>
                    <a:cubicBezTo>
                      <a:pt x="8879" y="2"/>
                      <a:pt x="8880" y="3"/>
                      <a:pt x="8880" y="4"/>
                    </a:cubicBezTo>
                    <a:cubicBezTo>
                      <a:pt x="8880" y="5"/>
                      <a:pt x="8879" y="6"/>
                      <a:pt x="8878" y="6"/>
                    </a:cubicBezTo>
                    <a:lnTo>
                      <a:pt x="8878" y="6"/>
                    </a:lnTo>
                    <a:cubicBezTo>
                      <a:pt x="8877" y="6"/>
                      <a:pt x="8876" y="5"/>
                      <a:pt x="8876" y="4"/>
                    </a:cubicBezTo>
                    <a:cubicBezTo>
                      <a:pt x="8876" y="3"/>
                      <a:pt x="8877" y="2"/>
                      <a:pt x="8878" y="2"/>
                    </a:cubicBezTo>
                    <a:close/>
                    <a:moveTo>
                      <a:pt x="8886" y="2"/>
                    </a:moveTo>
                    <a:lnTo>
                      <a:pt x="8886" y="2"/>
                    </a:lnTo>
                    <a:cubicBezTo>
                      <a:pt x="8887" y="2"/>
                      <a:pt x="8888" y="3"/>
                      <a:pt x="8888" y="4"/>
                    </a:cubicBezTo>
                    <a:cubicBezTo>
                      <a:pt x="8888" y="5"/>
                      <a:pt x="8887" y="6"/>
                      <a:pt x="8886" y="6"/>
                    </a:cubicBezTo>
                    <a:lnTo>
                      <a:pt x="8886" y="6"/>
                    </a:lnTo>
                    <a:cubicBezTo>
                      <a:pt x="8885" y="6"/>
                      <a:pt x="8884" y="5"/>
                      <a:pt x="8884" y="4"/>
                    </a:cubicBezTo>
                    <a:cubicBezTo>
                      <a:pt x="8884" y="3"/>
                      <a:pt x="8885" y="2"/>
                      <a:pt x="8886" y="2"/>
                    </a:cubicBezTo>
                    <a:close/>
                    <a:moveTo>
                      <a:pt x="8894" y="2"/>
                    </a:moveTo>
                    <a:lnTo>
                      <a:pt x="8894" y="2"/>
                    </a:lnTo>
                    <a:cubicBezTo>
                      <a:pt x="8895" y="2"/>
                      <a:pt x="8896" y="3"/>
                      <a:pt x="8896" y="4"/>
                    </a:cubicBezTo>
                    <a:cubicBezTo>
                      <a:pt x="8896" y="5"/>
                      <a:pt x="8895" y="6"/>
                      <a:pt x="8894" y="6"/>
                    </a:cubicBezTo>
                    <a:lnTo>
                      <a:pt x="8894" y="6"/>
                    </a:lnTo>
                    <a:cubicBezTo>
                      <a:pt x="8893" y="6"/>
                      <a:pt x="8892" y="5"/>
                      <a:pt x="8892" y="4"/>
                    </a:cubicBezTo>
                    <a:cubicBezTo>
                      <a:pt x="8892" y="3"/>
                      <a:pt x="8893" y="2"/>
                      <a:pt x="8894" y="2"/>
                    </a:cubicBezTo>
                    <a:close/>
                    <a:moveTo>
                      <a:pt x="8902" y="2"/>
                    </a:moveTo>
                    <a:lnTo>
                      <a:pt x="8902" y="2"/>
                    </a:lnTo>
                    <a:cubicBezTo>
                      <a:pt x="8903" y="2"/>
                      <a:pt x="8904" y="3"/>
                      <a:pt x="8904" y="4"/>
                    </a:cubicBezTo>
                    <a:cubicBezTo>
                      <a:pt x="8904" y="5"/>
                      <a:pt x="8903" y="6"/>
                      <a:pt x="8902" y="6"/>
                    </a:cubicBezTo>
                    <a:lnTo>
                      <a:pt x="8902" y="6"/>
                    </a:lnTo>
                    <a:cubicBezTo>
                      <a:pt x="8901" y="6"/>
                      <a:pt x="8900" y="5"/>
                      <a:pt x="8900" y="4"/>
                    </a:cubicBezTo>
                    <a:cubicBezTo>
                      <a:pt x="8900" y="3"/>
                      <a:pt x="8901" y="2"/>
                      <a:pt x="8902" y="2"/>
                    </a:cubicBezTo>
                    <a:close/>
                    <a:moveTo>
                      <a:pt x="8910" y="2"/>
                    </a:moveTo>
                    <a:lnTo>
                      <a:pt x="8910" y="2"/>
                    </a:lnTo>
                    <a:cubicBezTo>
                      <a:pt x="8911" y="2"/>
                      <a:pt x="8912" y="3"/>
                      <a:pt x="8912" y="4"/>
                    </a:cubicBezTo>
                    <a:cubicBezTo>
                      <a:pt x="8912" y="5"/>
                      <a:pt x="8911" y="6"/>
                      <a:pt x="8910" y="6"/>
                    </a:cubicBezTo>
                    <a:lnTo>
                      <a:pt x="8910" y="6"/>
                    </a:lnTo>
                    <a:cubicBezTo>
                      <a:pt x="8909" y="6"/>
                      <a:pt x="8908" y="5"/>
                      <a:pt x="8908" y="4"/>
                    </a:cubicBezTo>
                    <a:cubicBezTo>
                      <a:pt x="8908" y="3"/>
                      <a:pt x="8909" y="2"/>
                      <a:pt x="8910" y="2"/>
                    </a:cubicBezTo>
                    <a:close/>
                    <a:moveTo>
                      <a:pt x="8918" y="2"/>
                    </a:moveTo>
                    <a:lnTo>
                      <a:pt x="8918" y="2"/>
                    </a:lnTo>
                    <a:cubicBezTo>
                      <a:pt x="8919" y="2"/>
                      <a:pt x="8920" y="3"/>
                      <a:pt x="8920" y="4"/>
                    </a:cubicBezTo>
                    <a:cubicBezTo>
                      <a:pt x="8920" y="5"/>
                      <a:pt x="8919" y="6"/>
                      <a:pt x="8918" y="6"/>
                    </a:cubicBezTo>
                    <a:lnTo>
                      <a:pt x="8918" y="6"/>
                    </a:lnTo>
                    <a:cubicBezTo>
                      <a:pt x="8917" y="6"/>
                      <a:pt x="8916" y="5"/>
                      <a:pt x="8916" y="4"/>
                    </a:cubicBezTo>
                    <a:cubicBezTo>
                      <a:pt x="8916" y="3"/>
                      <a:pt x="8917" y="2"/>
                      <a:pt x="8918" y="2"/>
                    </a:cubicBezTo>
                    <a:close/>
                    <a:moveTo>
                      <a:pt x="8926" y="2"/>
                    </a:moveTo>
                    <a:lnTo>
                      <a:pt x="8926" y="2"/>
                    </a:lnTo>
                    <a:cubicBezTo>
                      <a:pt x="8927" y="2"/>
                      <a:pt x="8928" y="3"/>
                      <a:pt x="8928" y="4"/>
                    </a:cubicBezTo>
                    <a:cubicBezTo>
                      <a:pt x="8928" y="5"/>
                      <a:pt x="8927" y="6"/>
                      <a:pt x="8926" y="6"/>
                    </a:cubicBezTo>
                    <a:lnTo>
                      <a:pt x="8926" y="6"/>
                    </a:lnTo>
                    <a:cubicBezTo>
                      <a:pt x="8925" y="6"/>
                      <a:pt x="8924" y="5"/>
                      <a:pt x="8924" y="4"/>
                    </a:cubicBezTo>
                    <a:cubicBezTo>
                      <a:pt x="8924" y="3"/>
                      <a:pt x="8925" y="2"/>
                      <a:pt x="8926" y="2"/>
                    </a:cubicBezTo>
                    <a:close/>
                    <a:moveTo>
                      <a:pt x="8934" y="2"/>
                    </a:moveTo>
                    <a:lnTo>
                      <a:pt x="8934" y="2"/>
                    </a:lnTo>
                    <a:cubicBezTo>
                      <a:pt x="8935" y="2"/>
                      <a:pt x="8936" y="3"/>
                      <a:pt x="8936" y="4"/>
                    </a:cubicBezTo>
                    <a:cubicBezTo>
                      <a:pt x="8936" y="5"/>
                      <a:pt x="8935" y="6"/>
                      <a:pt x="8934" y="6"/>
                    </a:cubicBezTo>
                    <a:lnTo>
                      <a:pt x="8934" y="6"/>
                    </a:lnTo>
                    <a:cubicBezTo>
                      <a:pt x="8933" y="6"/>
                      <a:pt x="8932" y="5"/>
                      <a:pt x="8932" y="4"/>
                    </a:cubicBezTo>
                    <a:cubicBezTo>
                      <a:pt x="8932" y="3"/>
                      <a:pt x="8933" y="2"/>
                      <a:pt x="8934" y="2"/>
                    </a:cubicBezTo>
                    <a:close/>
                    <a:moveTo>
                      <a:pt x="8942" y="2"/>
                    </a:moveTo>
                    <a:lnTo>
                      <a:pt x="8942" y="2"/>
                    </a:lnTo>
                    <a:cubicBezTo>
                      <a:pt x="8943" y="2"/>
                      <a:pt x="8944" y="3"/>
                      <a:pt x="8944" y="4"/>
                    </a:cubicBezTo>
                    <a:cubicBezTo>
                      <a:pt x="8944" y="5"/>
                      <a:pt x="8943" y="6"/>
                      <a:pt x="8942" y="6"/>
                    </a:cubicBezTo>
                    <a:lnTo>
                      <a:pt x="8942" y="6"/>
                    </a:lnTo>
                    <a:cubicBezTo>
                      <a:pt x="8941" y="6"/>
                      <a:pt x="8940" y="5"/>
                      <a:pt x="8940" y="4"/>
                    </a:cubicBezTo>
                    <a:cubicBezTo>
                      <a:pt x="8940" y="3"/>
                      <a:pt x="8941" y="2"/>
                      <a:pt x="8942" y="2"/>
                    </a:cubicBezTo>
                    <a:close/>
                    <a:moveTo>
                      <a:pt x="8950" y="2"/>
                    </a:moveTo>
                    <a:lnTo>
                      <a:pt x="8950" y="2"/>
                    </a:lnTo>
                    <a:cubicBezTo>
                      <a:pt x="8951" y="2"/>
                      <a:pt x="8952" y="3"/>
                      <a:pt x="8952" y="4"/>
                    </a:cubicBezTo>
                    <a:cubicBezTo>
                      <a:pt x="8952" y="5"/>
                      <a:pt x="8951" y="6"/>
                      <a:pt x="8950" y="6"/>
                    </a:cubicBezTo>
                    <a:lnTo>
                      <a:pt x="8950" y="6"/>
                    </a:lnTo>
                    <a:cubicBezTo>
                      <a:pt x="8949" y="6"/>
                      <a:pt x="8948" y="5"/>
                      <a:pt x="8948" y="4"/>
                    </a:cubicBezTo>
                    <a:cubicBezTo>
                      <a:pt x="8948" y="3"/>
                      <a:pt x="8949" y="2"/>
                      <a:pt x="8950" y="2"/>
                    </a:cubicBezTo>
                    <a:close/>
                    <a:moveTo>
                      <a:pt x="8958" y="2"/>
                    </a:moveTo>
                    <a:lnTo>
                      <a:pt x="8958" y="2"/>
                    </a:lnTo>
                    <a:cubicBezTo>
                      <a:pt x="8959" y="2"/>
                      <a:pt x="8960" y="3"/>
                      <a:pt x="8960" y="4"/>
                    </a:cubicBezTo>
                    <a:cubicBezTo>
                      <a:pt x="8960" y="5"/>
                      <a:pt x="8959" y="6"/>
                      <a:pt x="8958" y="6"/>
                    </a:cubicBezTo>
                    <a:lnTo>
                      <a:pt x="8958" y="6"/>
                    </a:lnTo>
                    <a:cubicBezTo>
                      <a:pt x="8957" y="6"/>
                      <a:pt x="8956" y="5"/>
                      <a:pt x="8956" y="4"/>
                    </a:cubicBezTo>
                    <a:cubicBezTo>
                      <a:pt x="8956" y="3"/>
                      <a:pt x="8957" y="2"/>
                      <a:pt x="8958" y="2"/>
                    </a:cubicBezTo>
                    <a:close/>
                    <a:moveTo>
                      <a:pt x="8966" y="2"/>
                    </a:moveTo>
                    <a:lnTo>
                      <a:pt x="8966" y="2"/>
                    </a:lnTo>
                    <a:cubicBezTo>
                      <a:pt x="8967" y="2"/>
                      <a:pt x="8968" y="3"/>
                      <a:pt x="8968" y="4"/>
                    </a:cubicBezTo>
                    <a:cubicBezTo>
                      <a:pt x="8968" y="5"/>
                      <a:pt x="8967" y="6"/>
                      <a:pt x="8966" y="6"/>
                    </a:cubicBezTo>
                    <a:lnTo>
                      <a:pt x="8966" y="6"/>
                    </a:lnTo>
                    <a:cubicBezTo>
                      <a:pt x="8965" y="6"/>
                      <a:pt x="8964" y="5"/>
                      <a:pt x="8964" y="4"/>
                    </a:cubicBezTo>
                    <a:cubicBezTo>
                      <a:pt x="8964" y="3"/>
                      <a:pt x="8965" y="2"/>
                      <a:pt x="8966" y="2"/>
                    </a:cubicBezTo>
                    <a:close/>
                    <a:moveTo>
                      <a:pt x="8974" y="2"/>
                    </a:moveTo>
                    <a:lnTo>
                      <a:pt x="8974" y="2"/>
                    </a:lnTo>
                    <a:cubicBezTo>
                      <a:pt x="8975" y="2"/>
                      <a:pt x="8976" y="3"/>
                      <a:pt x="8976" y="4"/>
                    </a:cubicBezTo>
                    <a:cubicBezTo>
                      <a:pt x="8976" y="5"/>
                      <a:pt x="8975" y="6"/>
                      <a:pt x="8974" y="6"/>
                    </a:cubicBezTo>
                    <a:lnTo>
                      <a:pt x="8974" y="6"/>
                    </a:lnTo>
                    <a:cubicBezTo>
                      <a:pt x="8973" y="6"/>
                      <a:pt x="8972" y="5"/>
                      <a:pt x="8972" y="4"/>
                    </a:cubicBezTo>
                    <a:cubicBezTo>
                      <a:pt x="8972" y="3"/>
                      <a:pt x="8973" y="2"/>
                      <a:pt x="8974" y="2"/>
                    </a:cubicBezTo>
                    <a:close/>
                    <a:moveTo>
                      <a:pt x="8982" y="2"/>
                    </a:moveTo>
                    <a:lnTo>
                      <a:pt x="8982" y="2"/>
                    </a:lnTo>
                    <a:cubicBezTo>
                      <a:pt x="8983" y="2"/>
                      <a:pt x="8984" y="3"/>
                      <a:pt x="8984" y="4"/>
                    </a:cubicBezTo>
                    <a:cubicBezTo>
                      <a:pt x="8984" y="5"/>
                      <a:pt x="8983" y="6"/>
                      <a:pt x="8982" y="6"/>
                    </a:cubicBezTo>
                    <a:lnTo>
                      <a:pt x="8982" y="6"/>
                    </a:lnTo>
                    <a:cubicBezTo>
                      <a:pt x="8981" y="6"/>
                      <a:pt x="8980" y="5"/>
                      <a:pt x="8980" y="4"/>
                    </a:cubicBezTo>
                    <a:cubicBezTo>
                      <a:pt x="8980" y="3"/>
                      <a:pt x="8981" y="2"/>
                      <a:pt x="8982" y="2"/>
                    </a:cubicBezTo>
                    <a:close/>
                    <a:moveTo>
                      <a:pt x="8990" y="2"/>
                    </a:moveTo>
                    <a:lnTo>
                      <a:pt x="8990" y="2"/>
                    </a:lnTo>
                    <a:cubicBezTo>
                      <a:pt x="8991" y="2"/>
                      <a:pt x="8992" y="3"/>
                      <a:pt x="8992" y="4"/>
                    </a:cubicBezTo>
                    <a:cubicBezTo>
                      <a:pt x="8992" y="5"/>
                      <a:pt x="8991" y="6"/>
                      <a:pt x="8990" y="6"/>
                    </a:cubicBezTo>
                    <a:lnTo>
                      <a:pt x="8990" y="6"/>
                    </a:lnTo>
                    <a:cubicBezTo>
                      <a:pt x="8989" y="6"/>
                      <a:pt x="8988" y="5"/>
                      <a:pt x="8988" y="4"/>
                    </a:cubicBezTo>
                    <a:cubicBezTo>
                      <a:pt x="8988" y="3"/>
                      <a:pt x="8989" y="2"/>
                      <a:pt x="8990" y="2"/>
                    </a:cubicBezTo>
                    <a:close/>
                    <a:moveTo>
                      <a:pt x="8998" y="2"/>
                    </a:moveTo>
                    <a:lnTo>
                      <a:pt x="8998" y="2"/>
                    </a:lnTo>
                    <a:cubicBezTo>
                      <a:pt x="8999" y="2"/>
                      <a:pt x="9000" y="3"/>
                      <a:pt x="9000" y="4"/>
                    </a:cubicBezTo>
                    <a:cubicBezTo>
                      <a:pt x="9000" y="5"/>
                      <a:pt x="8999" y="6"/>
                      <a:pt x="8998" y="6"/>
                    </a:cubicBezTo>
                    <a:lnTo>
                      <a:pt x="8998" y="6"/>
                    </a:lnTo>
                    <a:cubicBezTo>
                      <a:pt x="8997" y="6"/>
                      <a:pt x="8996" y="5"/>
                      <a:pt x="8996" y="4"/>
                    </a:cubicBezTo>
                    <a:cubicBezTo>
                      <a:pt x="8996" y="3"/>
                      <a:pt x="8997" y="2"/>
                      <a:pt x="8998" y="2"/>
                    </a:cubicBezTo>
                    <a:close/>
                    <a:moveTo>
                      <a:pt x="9006" y="2"/>
                    </a:moveTo>
                    <a:lnTo>
                      <a:pt x="9006" y="2"/>
                    </a:lnTo>
                    <a:cubicBezTo>
                      <a:pt x="9007" y="2"/>
                      <a:pt x="9008" y="3"/>
                      <a:pt x="9008" y="4"/>
                    </a:cubicBezTo>
                    <a:cubicBezTo>
                      <a:pt x="9008" y="5"/>
                      <a:pt x="9007" y="6"/>
                      <a:pt x="9006" y="6"/>
                    </a:cubicBezTo>
                    <a:lnTo>
                      <a:pt x="9006" y="6"/>
                    </a:lnTo>
                    <a:cubicBezTo>
                      <a:pt x="9005" y="6"/>
                      <a:pt x="9004" y="5"/>
                      <a:pt x="9004" y="4"/>
                    </a:cubicBezTo>
                    <a:cubicBezTo>
                      <a:pt x="9004" y="3"/>
                      <a:pt x="9005" y="2"/>
                      <a:pt x="9006" y="2"/>
                    </a:cubicBezTo>
                    <a:close/>
                    <a:moveTo>
                      <a:pt x="9014" y="2"/>
                    </a:moveTo>
                    <a:lnTo>
                      <a:pt x="9014" y="2"/>
                    </a:lnTo>
                    <a:cubicBezTo>
                      <a:pt x="9015" y="2"/>
                      <a:pt x="9016" y="3"/>
                      <a:pt x="9016" y="4"/>
                    </a:cubicBezTo>
                    <a:cubicBezTo>
                      <a:pt x="9016" y="5"/>
                      <a:pt x="9015" y="6"/>
                      <a:pt x="9014" y="6"/>
                    </a:cubicBezTo>
                    <a:lnTo>
                      <a:pt x="9014" y="6"/>
                    </a:lnTo>
                    <a:cubicBezTo>
                      <a:pt x="9013" y="6"/>
                      <a:pt x="9012" y="5"/>
                      <a:pt x="9012" y="4"/>
                    </a:cubicBezTo>
                    <a:cubicBezTo>
                      <a:pt x="9012" y="3"/>
                      <a:pt x="9013" y="2"/>
                      <a:pt x="9014" y="2"/>
                    </a:cubicBezTo>
                    <a:close/>
                    <a:moveTo>
                      <a:pt x="9022" y="2"/>
                    </a:moveTo>
                    <a:lnTo>
                      <a:pt x="9022" y="2"/>
                    </a:lnTo>
                    <a:cubicBezTo>
                      <a:pt x="9023" y="2"/>
                      <a:pt x="9024" y="3"/>
                      <a:pt x="9024" y="4"/>
                    </a:cubicBezTo>
                    <a:cubicBezTo>
                      <a:pt x="9024" y="5"/>
                      <a:pt x="9023" y="6"/>
                      <a:pt x="9022" y="6"/>
                    </a:cubicBezTo>
                    <a:lnTo>
                      <a:pt x="9022" y="6"/>
                    </a:lnTo>
                    <a:cubicBezTo>
                      <a:pt x="9021" y="6"/>
                      <a:pt x="9020" y="5"/>
                      <a:pt x="9020" y="4"/>
                    </a:cubicBezTo>
                    <a:cubicBezTo>
                      <a:pt x="9020" y="3"/>
                      <a:pt x="9021" y="2"/>
                      <a:pt x="9022" y="2"/>
                    </a:cubicBezTo>
                    <a:close/>
                    <a:moveTo>
                      <a:pt x="9030" y="2"/>
                    </a:moveTo>
                    <a:lnTo>
                      <a:pt x="9030" y="2"/>
                    </a:lnTo>
                    <a:cubicBezTo>
                      <a:pt x="9031" y="2"/>
                      <a:pt x="9032" y="3"/>
                      <a:pt x="9032" y="4"/>
                    </a:cubicBezTo>
                    <a:cubicBezTo>
                      <a:pt x="9032" y="5"/>
                      <a:pt x="9031" y="6"/>
                      <a:pt x="9030" y="6"/>
                    </a:cubicBezTo>
                    <a:lnTo>
                      <a:pt x="9030" y="6"/>
                    </a:lnTo>
                    <a:cubicBezTo>
                      <a:pt x="9029" y="6"/>
                      <a:pt x="9028" y="5"/>
                      <a:pt x="9028" y="4"/>
                    </a:cubicBezTo>
                    <a:cubicBezTo>
                      <a:pt x="9028" y="3"/>
                      <a:pt x="9029" y="2"/>
                      <a:pt x="9030" y="2"/>
                    </a:cubicBezTo>
                    <a:close/>
                    <a:moveTo>
                      <a:pt x="9038" y="2"/>
                    </a:moveTo>
                    <a:lnTo>
                      <a:pt x="9038" y="2"/>
                    </a:lnTo>
                    <a:cubicBezTo>
                      <a:pt x="9039" y="2"/>
                      <a:pt x="9040" y="3"/>
                      <a:pt x="9040" y="4"/>
                    </a:cubicBezTo>
                    <a:cubicBezTo>
                      <a:pt x="9040" y="5"/>
                      <a:pt x="9039" y="6"/>
                      <a:pt x="9038" y="6"/>
                    </a:cubicBezTo>
                    <a:lnTo>
                      <a:pt x="9038" y="6"/>
                    </a:lnTo>
                    <a:cubicBezTo>
                      <a:pt x="9037" y="6"/>
                      <a:pt x="9036" y="5"/>
                      <a:pt x="9036" y="4"/>
                    </a:cubicBezTo>
                    <a:cubicBezTo>
                      <a:pt x="9036" y="3"/>
                      <a:pt x="9037" y="2"/>
                      <a:pt x="9038" y="2"/>
                    </a:cubicBezTo>
                    <a:close/>
                    <a:moveTo>
                      <a:pt x="9046" y="2"/>
                    </a:moveTo>
                    <a:lnTo>
                      <a:pt x="9046" y="2"/>
                    </a:lnTo>
                    <a:cubicBezTo>
                      <a:pt x="9047" y="2"/>
                      <a:pt x="9048" y="3"/>
                      <a:pt x="9048" y="4"/>
                    </a:cubicBezTo>
                    <a:cubicBezTo>
                      <a:pt x="9048" y="5"/>
                      <a:pt x="9047" y="6"/>
                      <a:pt x="9046" y="6"/>
                    </a:cubicBezTo>
                    <a:lnTo>
                      <a:pt x="9046" y="6"/>
                    </a:lnTo>
                    <a:cubicBezTo>
                      <a:pt x="9045" y="6"/>
                      <a:pt x="9044" y="5"/>
                      <a:pt x="9044" y="4"/>
                    </a:cubicBezTo>
                    <a:cubicBezTo>
                      <a:pt x="9044" y="3"/>
                      <a:pt x="9045" y="2"/>
                      <a:pt x="9046" y="2"/>
                    </a:cubicBezTo>
                    <a:close/>
                    <a:moveTo>
                      <a:pt x="9054" y="2"/>
                    </a:moveTo>
                    <a:lnTo>
                      <a:pt x="9054" y="2"/>
                    </a:lnTo>
                    <a:cubicBezTo>
                      <a:pt x="9055" y="2"/>
                      <a:pt x="9056" y="3"/>
                      <a:pt x="9056" y="4"/>
                    </a:cubicBezTo>
                    <a:cubicBezTo>
                      <a:pt x="9056" y="5"/>
                      <a:pt x="9055" y="6"/>
                      <a:pt x="9054" y="6"/>
                    </a:cubicBezTo>
                    <a:lnTo>
                      <a:pt x="9054" y="6"/>
                    </a:lnTo>
                    <a:cubicBezTo>
                      <a:pt x="9053" y="6"/>
                      <a:pt x="9052" y="5"/>
                      <a:pt x="9052" y="4"/>
                    </a:cubicBezTo>
                    <a:cubicBezTo>
                      <a:pt x="9052" y="3"/>
                      <a:pt x="9053" y="2"/>
                      <a:pt x="9054" y="2"/>
                    </a:cubicBezTo>
                    <a:close/>
                    <a:moveTo>
                      <a:pt x="9062" y="2"/>
                    </a:moveTo>
                    <a:lnTo>
                      <a:pt x="9062" y="2"/>
                    </a:lnTo>
                    <a:cubicBezTo>
                      <a:pt x="9063" y="2"/>
                      <a:pt x="9064" y="3"/>
                      <a:pt x="9064" y="4"/>
                    </a:cubicBezTo>
                    <a:cubicBezTo>
                      <a:pt x="9064" y="5"/>
                      <a:pt x="9063" y="6"/>
                      <a:pt x="9062" y="6"/>
                    </a:cubicBezTo>
                    <a:lnTo>
                      <a:pt x="9062" y="6"/>
                    </a:lnTo>
                    <a:cubicBezTo>
                      <a:pt x="9061" y="6"/>
                      <a:pt x="9060" y="5"/>
                      <a:pt x="9060" y="4"/>
                    </a:cubicBezTo>
                    <a:cubicBezTo>
                      <a:pt x="9060" y="3"/>
                      <a:pt x="9061" y="2"/>
                      <a:pt x="9062" y="2"/>
                    </a:cubicBezTo>
                    <a:close/>
                    <a:moveTo>
                      <a:pt x="9070" y="2"/>
                    </a:moveTo>
                    <a:lnTo>
                      <a:pt x="9070" y="2"/>
                    </a:lnTo>
                    <a:cubicBezTo>
                      <a:pt x="9071" y="2"/>
                      <a:pt x="9072" y="3"/>
                      <a:pt x="9072" y="4"/>
                    </a:cubicBezTo>
                    <a:cubicBezTo>
                      <a:pt x="9072" y="5"/>
                      <a:pt x="9071" y="6"/>
                      <a:pt x="9070" y="6"/>
                    </a:cubicBezTo>
                    <a:lnTo>
                      <a:pt x="9070" y="6"/>
                    </a:lnTo>
                    <a:cubicBezTo>
                      <a:pt x="9069" y="6"/>
                      <a:pt x="9068" y="5"/>
                      <a:pt x="9068" y="4"/>
                    </a:cubicBezTo>
                    <a:cubicBezTo>
                      <a:pt x="9068" y="3"/>
                      <a:pt x="9069" y="2"/>
                      <a:pt x="9070" y="2"/>
                    </a:cubicBezTo>
                    <a:close/>
                    <a:moveTo>
                      <a:pt x="9078" y="2"/>
                    </a:moveTo>
                    <a:lnTo>
                      <a:pt x="9078" y="2"/>
                    </a:lnTo>
                    <a:cubicBezTo>
                      <a:pt x="9079" y="2"/>
                      <a:pt x="9080" y="3"/>
                      <a:pt x="9080" y="4"/>
                    </a:cubicBezTo>
                    <a:cubicBezTo>
                      <a:pt x="9080" y="5"/>
                      <a:pt x="9079" y="6"/>
                      <a:pt x="9078" y="6"/>
                    </a:cubicBezTo>
                    <a:lnTo>
                      <a:pt x="9078" y="6"/>
                    </a:lnTo>
                    <a:cubicBezTo>
                      <a:pt x="9077" y="6"/>
                      <a:pt x="9076" y="5"/>
                      <a:pt x="9076" y="4"/>
                    </a:cubicBezTo>
                    <a:cubicBezTo>
                      <a:pt x="9076" y="3"/>
                      <a:pt x="9077" y="2"/>
                      <a:pt x="9078" y="2"/>
                    </a:cubicBezTo>
                    <a:close/>
                    <a:moveTo>
                      <a:pt x="9086" y="2"/>
                    </a:moveTo>
                    <a:lnTo>
                      <a:pt x="9086" y="2"/>
                    </a:lnTo>
                    <a:cubicBezTo>
                      <a:pt x="9087" y="2"/>
                      <a:pt x="9088" y="3"/>
                      <a:pt x="9088" y="4"/>
                    </a:cubicBezTo>
                    <a:cubicBezTo>
                      <a:pt x="9088" y="5"/>
                      <a:pt x="9087" y="6"/>
                      <a:pt x="9086" y="6"/>
                    </a:cubicBezTo>
                    <a:lnTo>
                      <a:pt x="9086" y="6"/>
                    </a:lnTo>
                    <a:cubicBezTo>
                      <a:pt x="9085" y="6"/>
                      <a:pt x="9084" y="5"/>
                      <a:pt x="9084" y="4"/>
                    </a:cubicBezTo>
                    <a:cubicBezTo>
                      <a:pt x="9084" y="3"/>
                      <a:pt x="9085" y="2"/>
                      <a:pt x="9086" y="2"/>
                    </a:cubicBezTo>
                    <a:close/>
                    <a:moveTo>
                      <a:pt x="9094" y="2"/>
                    </a:moveTo>
                    <a:lnTo>
                      <a:pt x="9094" y="2"/>
                    </a:lnTo>
                    <a:cubicBezTo>
                      <a:pt x="9095" y="2"/>
                      <a:pt x="9096" y="3"/>
                      <a:pt x="9096" y="4"/>
                    </a:cubicBezTo>
                    <a:cubicBezTo>
                      <a:pt x="9096" y="5"/>
                      <a:pt x="9095" y="6"/>
                      <a:pt x="9094" y="6"/>
                    </a:cubicBezTo>
                    <a:lnTo>
                      <a:pt x="9094" y="6"/>
                    </a:lnTo>
                    <a:cubicBezTo>
                      <a:pt x="9093" y="6"/>
                      <a:pt x="9092" y="5"/>
                      <a:pt x="9092" y="4"/>
                    </a:cubicBezTo>
                    <a:cubicBezTo>
                      <a:pt x="9092" y="3"/>
                      <a:pt x="9093" y="2"/>
                      <a:pt x="9094" y="2"/>
                    </a:cubicBezTo>
                    <a:close/>
                    <a:moveTo>
                      <a:pt x="9102" y="2"/>
                    </a:moveTo>
                    <a:lnTo>
                      <a:pt x="9102" y="2"/>
                    </a:lnTo>
                    <a:cubicBezTo>
                      <a:pt x="9103" y="2"/>
                      <a:pt x="9104" y="3"/>
                      <a:pt x="9104" y="4"/>
                    </a:cubicBezTo>
                    <a:cubicBezTo>
                      <a:pt x="9104" y="5"/>
                      <a:pt x="9103" y="6"/>
                      <a:pt x="9102" y="6"/>
                    </a:cubicBezTo>
                    <a:lnTo>
                      <a:pt x="9102" y="6"/>
                    </a:lnTo>
                    <a:cubicBezTo>
                      <a:pt x="9101" y="6"/>
                      <a:pt x="9100" y="5"/>
                      <a:pt x="9100" y="4"/>
                    </a:cubicBezTo>
                    <a:cubicBezTo>
                      <a:pt x="9100" y="3"/>
                      <a:pt x="9101" y="2"/>
                      <a:pt x="9102" y="2"/>
                    </a:cubicBezTo>
                    <a:close/>
                    <a:moveTo>
                      <a:pt x="9110" y="2"/>
                    </a:moveTo>
                    <a:lnTo>
                      <a:pt x="9110" y="2"/>
                    </a:lnTo>
                    <a:cubicBezTo>
                      <a:pt x="9111" y="2"/>
                      <a:pt x="9112" y="3"/>
                      <a:pt x="9112" y="4"/>
                    </a:cubicBezTo>
                    <a:cubicBezTo>
                      <a:pt x="9112" y="5"/>
                      <a:pt x="9111" y="6"/>
                      <a:pt x="9110" y="6"/>
                    </a:cubicBezTo>
                    <a:lnTo>
                      <a:pt x="9110" y="6"/>
                    </a:lnTo>
                    <a:cubicBezTo>
                      <a:pt x="9109" y="6"/>
                      <a:pt x="9108" y="5"/>
                      <a:pt x="9108" y="4"/>
                    </a:cubicBezTo>
                    <a:cubicBezTo>
                      <a:pt x="9108" y="3"/>
                      <a:pt x="9109" y="2"/>
                      <a:pt x="9110" y="2"/>
                    </a:cubicBezTo>
                    <a:close/>
                    <a:moveTo>
                      <a:pt x="9118" y="2"/>
                    </a:moveTo>
                    <a:lnTo>
                      <a:pt x="9118" y="2"/>
                    </a:lnTo>
                    <a:cubicBezTo>
                      <a:pt x="9119" y="2"/>
                      <a:pt x="9120" y="3"/>
                      <a:pt x="9120" y="4"/>
                    </a:cubicBezTo>
                    <a:cubicBezTo>
                      <a:pt x="9120" y="5"/>
                      <a:pt x="9119" y="6"/>
                      <a:pt x="9118" y="6"/>
                    </a:cubicBezTo>
                    <a:lnTo>
                      <a:pt x="9118" y="6"/>
                    </a:lnTo>
                    <a:cubicBezTo>
                      <a:pt x="9117" y="6"/>
                      <a:pt x="9116" y="5"/>
                      <a:pt x="9116" y="4"/>
                    </a:cubicBezTo>
                    <a:cubicBezTo>
                      <a:pt x="9116" y="3"/>
                      <a:pt x="9117" y="2"/>
                      <a:pt x="9118" y="2"/>
                    </a:cubicBezTo>
                    <a:close/>
                    <a:moveTo>
                      <a:pt x="9126" y="2"/>
                    </a:moveTo>
                    <a:lnTo>
                      <a:pt x="9126" y="2"/>
                    </a:lnTo>
                    <a:cubicBezTo>
                      <a:pt x="9127" y="2"/>
                      <a:pt x="9128" y="3"/>
                      <a:pt x="9128" y="4"/>
                    </a:cubicBezTo>
                    <a:cubicBezTo>
                      <a:pt x="9128" y="5"/>
                      <a:pt x="9127" y="6"/>
                      <a:pt x="9126" y="6"/>
                    </a:cubicBezTo>
                    <a:lnTo>
                      <a:pt x="9126" y="6"/>
                    </a:lnTo>
                    <a:cubicBezTo>
                      <a:pt x="9125" y="6"/>
                      <a:pt x="9124" y="5"/>
                      <a:pt x="9124" y="4"/>
                    </a:cubicBezTo>
                    <a:cubicBezTo>
                      <a:pt x="9124" y="3"/>
                      <a:pt x="9125" y="2"/>
                      <a:pt x="9126" y="2"/>
                    </a:cubicBezTo>
                    <a:close/>
                    <a:moveTo>
                      <a:pt x="9134" y="2"/>
                    </a:moveTo>
                    <a:lnTo>
                      <a:pt x="9134" y="2"/>
                    </a:lnTo>
                    <a:cubicBezTo>
                      <a:pt x="9135" y="2"/>
                      <a:pt x="9136" y="3"/>
                      <a:pt x="9136" y="4"/>
                    </a:cubicBezTo>
                    <a:cubicBezTo>
                      <a:pt x="9136" y="5"/>
                      <a:pt x="9135" y="6"/>
                      <a:pt x="9134" y="6"/>
                    </a:cubicBezTo>
                    <a:lnTo>
                      <a:pt x="9134" y="6"/>
                    </a:lnTo>
                    <a:cubicBezTo>
                      <a:pt x="9133" y="6"/>
                      <a:pt x="9132" y="5"/>
                      <a:pt x="9132" y="4"/>
                    </a:cubicBezTo>
                    <a:cubicBezTo>
                      <a:pt x="9132" y="3"/>
                      <a:pt x="9133" y="2"/>
                      <a:pt x="9134" y="2"/>
                    </a:cubicBezTo>
                    <a:close/>
                    <a:moveTo>
                      <a:pt x="9142" y="2"/>
                    </a:moveTo>
                    <a:lnTo>
                      <a:pt x="9142" y="2"/>
                    </a:lnTo>
                    <a:cubicBezTo>
                      <a:pt x="9143" y="2"/>
                      <a:pt x="9144" y="3"/>
                      <a:pt x="9144" y="4"/>
                    </a:cubicBezTo>
                    <a:cubicBezTo>
                      <a:pt x="9144" y="5"/>
                      <a:pt x="9143" y="6"/>
                      <a:pt x="9142" y="6"/>
                    </a:cubicBezTo>
                    <a:lnTo>
                      <a:pt x="9142" y="6"/>
                    </a:lnTo>
                    <a:cubicBezTo>
                      <a:pt x="9141" y="6"/>
                      <a:pt x="9140" y="5"/>
                      <a:pt x="9140" y="4"/>
                    </a:cubicBezTo>
                    <a:cubicBezTo>
                      <a:pt x="9140" y="3"/>
                      <a:pt x="9141" y="2"/>
                      <a:pt x="9142" y="2"/>
                    </a:cubicBezTo>
                    <a:close/>
                    <a:moveTo>
                      <a:pt x="9150" y="2"/>
                    </a:moveTo>
                    <a:lnTo>
                      <a:pt x="9150" y="2"/>
                    </a:lnTo>
                    <a:cubicBezTo>
                      <a:pt x="9152" y="2"/>
                      <a:pt x="9152" y="3"/>
                      <a:pt x="9152" y="4"/>
                    </a:cubicBezTo>
                    <a:cubicBezTo>
                      <a:pt x="9152" y="5"/>
                      <a:pt x="9152" y="6"/>
                      <a:pt x="9150" y="6"/>
                    </a:cubicBezTo>
                    <a:lnTo>
                      <a:pt x="9150" y="6"/>
                    </a:lnTo>
                    <a:cubicBezTo>
                      <a:pt x="9149" y="6"/>
                      <a:pt x="9148" y="5"/>
                      <a:pt x="9148" y="4"/>
                    </a:cubicBezTo>
                    <a:cubicBezTo>
                      <a:pt x="9148" y="3"/>
                      <a:pt x="9149" y="2"/>
                      <a:pt x="9150" y="2"/>
                    </a:cubicBezTo>
                    <a:close/>
                    <a:moveTo>
                      <a:pt x="9158" y="2"/>
                    </a:moveTo>
                    <a:lnTo>
                      <a:pt x="9158" y="2"/>
                    </a:lnTo>
                    <a:cubicBezTo>
                      <a:pt x="9160" y="2"/>
                      <a:pt x="9160" y="3"/>
                      <a:pt x="9160" y="4"/>
                    </a:cubicBezTo>
                    <a:cubicBezTo>
                      <a:pt x="9160" y="5"/>
                      <a:pt x="9160" y="6"/>
                      <a:pt x="9158" y="6"/>
                    </a:cubicBezTo>
                    <a:lnTo>
                      <a:pt x="9158" y="6"/>
                    </a:lnTo>
                    <a:cubicBezTo>
                      <a:pt x="9157" y="6"/>
                      <a:pt x="9156" y="5"/>
                      <a:pt x="9156" y="4"/>
                    </a:cubicBezTo>
                    <a:cubicBezTo>
                      <a:pt x="9156" y="3"/>
                      <a:pt x="9157" y="2"/>
                      <a:pt x="9158" y="2"/>
                    </a:cubicBezTo>
                    <a:close/>
                    <a:moveTo>
                      <a:pt x="9166" y="2"/>
                    </a:moveTo>
                    <a:lnTo>
                      <a:pt x="9166" y="2"/>
                    </a:lnTo>
                    <a:cubicBezTo>
                      <a:pt x="9168" y="2"/>
                      <a:pt x="9168" y="3"/>
                      <a:pt x="9168" y="4"/>
                    </a:cubicBezTo>
                    <a:cubicBezTo>
                      <a:pt x="9168" y="5"/>
                      <a:pt x="9168" y="6"/>
                      <a:pt x="9166" y="6"/>
                    </a:cubicBezTo>
                    <a:lnTo>
                      <a:pt x="9166" y="6"/>
                    </a:lnTo>
                    <a:cubicBezTo>
                      <a:pt x="9165" y="6"/>
                      <a:pt x="9164" y="5"/>
                      <a:pt x="9164" y="4"/>
                    </a:cubicBezTo>
                    <a:cubicBezTo>
                      <a:pt x="9164" y="3"/>
                      <a:pt x="9165" y="2"/>
                      <a:pt x="9166" y="2"/>
                    </a:cubicBezTo>
                    <a:close/>
                    <a:moveTo>
                      <a:pt x="9174" y="2"/>
                    </a:moveTo>
                    <a:lnTo>
                      <a:pt x="9174" y="2"/>
                    </a:lnTo>
                    <a:cubicBezTo>
                      <a:pt x="9176" y="2"/>
                      <a:pt x="9176" y="3"/>
                      <a:pt x="9176" y="4"/>
                    </a:cubicBezTo>
                    <a:cubicBezTo>
                      <a:pt x="9176" y="5"/>
                      <a:pt x="9176" y="6"/>
                      <a:pt x="9174" y="6"/>
                    </a:cubicBezTo>
                    <a:lnTo>
                      <a:pt x="9174" y="6"/>
                    </a:lnTo>
                    <a:cubicBezTo>
                      <a:pt x="9173" y="6"/>
                      <a:pt x="9172" y="5"/>
                      <a:pt x="9172" y="4"/>
                    </a:cubicBezTo>
                    <a:cubicBezTo>
                      <a:pt x="9172" y="3"/>
                      <a:pt x="9173" y="2"/>
                      <a:pt x="9174" y="2"/>
                    </a:cubicBezTo>
                    <a:close/>
                    <a:moveTo>
                      <a:pt x="9182" y="2"/>
                    </a:moveTo>
                    <a:lnTo>
                      <a:pt x="9182" y="2"/>
                    </a:lnTo>
                    <a:cubicBezTo>
                      <a:pt x="9184" y="2"/>
                      <a:pt x="9184" y="3"/>
                      <a:pt x="9184" y="4"/>
                    </a:cubicBezTo>
                    <a:cubicBezTo>
                      <a:pt x="9184" y="5"/>
                      <a:pt x="9184" y="6"/>
                      <a:pt x="9182" y="6"/>
                    </a:cubicBezTo>
                    <a:lnTo>
                      <a:pt x="9182" y="6"/>
                    </a:lnTo>
                    <a:cubicBezTo>
                      <a:pt x="9181" y="6"/>
                      <a:pt x="9180" y="5"/>
                      <a:pt x="9180" y="4"/>
                    </a:cubicBezTo>
                    <a:cubicBezTo>
                      <a:pt x="9180" y="3"/>
                      <a:pt x="9181" y="2"/>
                      <a:pt x="9182" y="2"/>
                    </a:cubicBezTo>
                    <a:close/>
                    <a:moveTo>
                      <a:pt x="9190" y="2"/>
                    </a:moveTo>
                    <a:lnTo>
                      <a:pt x="9190" y="2"/>
                    </a:lnTo>
                    <a:cubicBezTo>
                      <a:pt x="9192" y="2"/>
                      <a:pt x="9192" y="3"/>
                      <a:pt x="9192" y="4"/>
                    </a:cubicBezTo>
                    <a:cubicBezTo>
                      <a:pt x="9192" y="5"/>
                      <a:pt x="9192" y="6"/>
                      <a:pt x="9190" y="6"/>
                    </a:cubicBezTo>
                    <a:lnTo>
                      <a:pt x="9190" y="6"/>
                    </a:lnTo>
                    <a:cubicBezTo>
                      <a:pt x="9189" y="6"/>
                      <a:pt x="9188" y="5"/>
                      <a:pt x="9188" y="4"/>
                    </a:cubicBezTo>
                    <a:cubicBezTo>
                      <a:pt x="9188" y="3"/>
                      <a:pt x="9189" y="2"/>
                      <a:pt x="9190" y="2"/>
                    </a:cubicBezTo>
                    <a:close/>
                    <a:moveTo>
                      <a:pt x="9198" y="2"/>
                    </a:moveTo>
                    <a:lnTo>
                      <a:pt x="9198" y="2"/>
                    </a:lnTo>
                    <a:cubicBezTo>
                      <a:pt x="9200" y="2"/>
                      <a:pt x="9200" y="3"/>
                      <a:pt x="9200" y="4"/>
                    </a:cubicBezTo>
                    <a:cubicBezTo>
                      <a:pt x="9200" y="5"/>
                      <a:pt x="9200" y="6"/>
                      <a:pt x="9198" y="6"/>
                    </a:cubicBezTo>
                    <a:lnTo>
                      <a:pt x="9198" y="6"/>
                    </a:lnTo>
                    <a:cubicBezTo>
                      <a:pt x="9197" y="6"/>
                      <a:pt x="9196" y="5"/>
                      <a:pt x="9196" y="4"/>
                    </a:cubicBezTo>
                    <a:cubicBezTo>
                      <a:pt x="9196" y="3"/>
                      <a:pt x="9197" y="2"/>
                      <a:pt x="9198" y="2"/>
                    </a:cubicBezTo>
                    <a:close/>
                    <a:moveTo>
                      <a:pt x="9206" y="2"/>
                    </a:moveTo>
                    <a:lnTo>
                      <a:pt x="9206" y="2"/>
                    </a:lnTo>
                    <a:cubicBezTo>
                      <a:pt x="9208" y="2"/>
                      <a:pt x="9208" y="3"/>
                      <a:pt x="9208" y="4"/>
                    </a:cubicBezTo>
                    <a:cubicBezTo>
                      <a:pt x="9208" y="5"/>
                      <a:pt x="9208" y="6"/>
                      <a:pt x="9206" y="6"/>
                    </a:cubicBezTo>
                    <a:lnTo>
                      <a:pt x="9206" y="6"/>
                    </a:lnTo>
                    <a:cubicBezTo>
                      <a:pt x="9205" y="6"/>
                      <a:pt x="9204" y="5"/>
                      <a:pt x="9204" y="4"/>
                    </a:cubicBezTo>
                    <a:cubicBezTo>
                      <a:pt x="9204" y="3"/>
                      <a:pt x="9205" y="2"/>
                      <a:pt x="9206" y="2"/>
                    </a:cubicBezTo>
                    <a:close/>
                    <a:moveTo>
                      <a:pt x="9214" y="2"/>
                    </a:moveTo>
                    <a:lnTo>
                      <a:pt x="9214" y="2"/>
                    </a:lnTo>
                    <a:cubicBezTo>
                      <a:pt x="9216" y="2"/>
                      <a:pt x="9216" y="3"/>
                      <a:pt x="9216" y="4"/>
                    </a:cubicBezTo>
                    <a:cubicBezTo>
                      <a:pt x="9216" y="5"/>
                      <a:pt x="9216" y="6"/>
                      <a:pt x="9214" y="6"/>
                    </a:cubicBezTo>
                    <a:lnTo>
                      <a:pt x="9214" y="6"/>
                    </a:lnTo>
                    <a:cubicBezTo>
                      <a:pt x="9213" y="6"/>
                      <a:pt x="9212" y="5"/>
                      <a:pt x="9212" y="4"/>
                    </a:cubicBezTo>
                    <a:cubicBezTo>
                      <a:pt x="9212" y="3"/>
                      <a:pt x="9213" y="2"/>
                      <a:pt x="9214" y="2"/>
                    </a:cubicBezTo>
                    <a:close/>
                    <a:moveTo>
                      <a:pt x="9222" y="2"/>
                    </a:moveTo>
                    <a:lnTo>
                      <a:pt x="9222" y="2"/>
                    </a:lnTo>
                    <a:cubicBezTo>
                      <a:pt x="9224" y="2"/>
                      <a:pt x="9224" y="3"/>
                      <a:pt x="9224" y="4"/>
                    </a:cubicBezTo>
                    <a:cubicBezTo>
                      <a:pt x="9224" y="5"/>
                      <a:pt x="9224" y="6"/>
                      <a:pt x="9222" y="6"/>
                    </a:cubicBezTo>
                    <a:lnTo>
                      <a:pt x="9222" y="6"/>
                    </a:lnTo>
                    <a:cubicBezTo>
                      <a:pt x="9221" y="6"/>
                      <a:pt x="9220" y="5"/>
                      <a:pt x="9220" y="4"/>
                    </a:cubicBezTo>
                    <a:cubicBezTo>
                      <a:pt x="9220" y="3"/>
                      <a:pt x="9221" y="2"/>
                      <a:pt x="9222" y="2"/>
                    </a:cubicBezTo>
                    <a:close/>
                    <a:moveTo>
                      <a:pt x="9230" y="2"/>
                    </a:moveTo>
                    <a:lnTo>
                      <a:pt x="9230" y="2"/>
                    </a:lnTo>
                    <a:cubicBezTo>
                      <a:pt x="9232" y="2"/>
                      <a:pt x="9232" y="3"/>
                      <a:pt x="9232" y="4"/>
                    </a:cubicBezTo>
                    <a:cubicBezTo>
                      <a:pt x="9232" y="5"/>
                      <a:pt x="9232" y="6"/>
                      <a:pt x="9230" y="6"/>
                    </a:cubicBezTo>
                    <a:lnTo>
                      <a:pt x="9230" y="6"/>
                    </a:lnTo>
                    <a:cubicBezTo>
                      <a:pt x="9229" y="6"/>
                      <a:pt x="9228" y="5"/>
                      <a:pt x="9228" y="4"/>
                    </a:cubicBezTo>
                    <a:cubicBezTo>
                      <a:pt x="9228" y="3"/>
                      <a:pt x="9229" y="2"/>
                      <a:pt x="9230" y="2"/>
                    </a:cubicBezTo>
                    <a:close/>
                    <a:moveTo>
                      <a:pt x="9238" y="2"/>
                    </a:moveTo>
                    <a:lnTo>
                      <a:pt x="9238" y="2"/>
                    </a:lnTo>
                    <a:cubicBezTo>
                      <a:pt x="9240" y="2"/>
                      <a:pt x="9240" y="3"/>
                      <a:pt x="9240" y="4"/>
                    </a:cubicBezTo>
                    <a:cubicBezTo>
                      <a:pt x="9240" y="5"/>
                      <a:pt x="9240" y="6"/>
                      <a:pt x="9238" y="6"/>
                    </a:cubicBezTo>
                    <a:lnTo>
                      <a:pt x="9238" y="6"/>
                    </a:lnTo>
                    <a:cubicBezTo>
                      <a:pt x="9237" y="6"/>
                      <a:pt x="9236" y="5"/>
                      <a:pt x="9236" y="4"/>
                    </a:cubicBezTo>
                    <a:cubicBezTo>
                      <a:pt x="9236" y="3"/>
                      <a:pt x="9237" y="2"/>
                      <a:pt x="9238" y="2"/>
                    </a:cubicBezTo>
                    <a:close/>
                    <a:moveTo>
                      <a:pt x="9246" y="2"/>
                    </a:moveTo>
                    <a:lnTo>
                      <a:pt x="9246" y="2"/>
                    </a:lnTo>
                    <a:cubicBezTo>
                      <a:pt x="9248" y="2"/>
                      <a:pt x="9248" y="3"/>
                      <a:pt x="9248" y="4"/>
                    </a:cubicBezTo>
                    <a:cubicBezTo>
                      <a:pt x="9248" y="5"/>
                      <a:pt x="9248" y="6"/>
                      <a:pt x="9246" y="6"/>
                    </a:cubicBezTo>
                    <a:lnTo>
                      <a:pt x="9246" y="6"/>
                    </a:lnTo>
                    <a:cubicBezTo>
                      <a:pt x="9245" y="6"/>
                      <a:pt x="9244" y="5"/>
                      <a:pt x="9244" y="4"/>
                    </a:cubicBezTo>
                    <a:cubicBezTo>
                      <a:pt x="9244" y="3"/>
                      <a:pt x="9245" y="2"/>
                      <a:pt x="9246" y="2"/>
                    </a:cubicBezTo>
                    <a:close/>
                    <a:moveTo>
                      <a:pt x="9254" y="2"/>
                    </a:moveTo>
                    <a:lnTo>
                      <a:pt x="9254" y="2"/>
                    </a:lnTo>
                    <a:cubicBezTo>
                      <a:pt x="9256" y="2"/>
                      <a:pt x="9256" y="3"/>
                      <a:pt x="9256" y="4"/>
                    </a:cubicBezTo>
                    <a:cubicBezTo>
                      <a:pt x="9256" y="5"/>
                      <a:pt x="9256" y="6"/>
                      <a:pt x="9254" y="6"/>
                    </a:cubicBezTo>
                    <a:lnTo>
                      <a:pt x="9254" y="6"/>
                    </a:lnTo>
                    <a:cubicBezTo>
                      <a:pt x="9253" y="6"/>
                      <a:pt x="9252" y="5"/>
                      <a:pt x="9252" y="4"/>
                    </a:cubicBezTo>
                    <a:cubicBezTo>
                      <a:pt x="9252" y="3"/>
                      <a:pt x="9253" y="2"/>
                      <a:pt x="9254" y="2"/>
                    </a:cubicBezTo>
                    <a:close/>
                    <a:moveTo>
                      <a:pt x="9262" y="2"/>
                    </a:moveTo>
                    <a:lnTo>
                      <a:pt x="9262" y="2"/>
                    </a:lnTo>
                    <a:cubicBezTo>
                      <a:pt x="9264" y="2"/>
                      <a:pt x="9264" y="3"/>
                      <a:pt x="9264" y="4"/>
                    </a:cubicBezTo>
                    <a:cubicBezTo>
                      <a:pt x="9264" y="5"/>
                      <a:pt x="9264" y="6"/>
                      <a:pt x="9262" y="6"/>
                    </a:cubicBezTo>
                    <a:lnTo>
                      <a:pt x="9262" y="6"/>
                    </a:lnTo>
                    <a:cubicBezTo>
                      <a:pt x="9261" y="6"/>
                      <a:pt x="9260" y="5"/>
                      <a:pt x="9260" y="4"/>
                    </a:cubicBezTo>
                    <a:cubicBezTo>
                      <a:pt x="9260" y="3"/>
                      <a:pt x="9261" y="2"/>
                      <a:pt x="9262" y="2"/>
                    </a:cubicBezTo>
                    <a:close/>
                    <a:moveTo>
                      <a:pt x="9270" y="2"/>
                    </a:moveTo>
                    <a:lnTo>
                      <a:pt x="9270" y="2"/>
                    </a:lnTo>
                    <a:cubicBezTo>
                      <a:pt x="9272" y="2"/>
                      <a:pt x="9272" y="3"/>
                      <a:pt x="9272" y="4"/>
                    </a:cubicBezTo>
                    <a:cubicBezTo>
                      <a:pt x="9272" y="5"/>
                      <a:pt x="9272" y="6"/>
                      <a:pt x="9270" y="6"/>
                    </a:cubicBezTo>
                    <a:lnTo>
                      <a:pt x="9270" y="6"/>
                    </a:lnTo>
                    <a:cubicBezTo>
                      <a:pt x="9269" y="6"/>
                      <a:pt x="9268" y="5"/>
                      <a:pt x="9268" y="4"/>
                    </a:cubicBezTo>
                    <a:cubicBezTo>
                      <a:pt x="9268" y="3"/>
                      <a:pt x="9269" y="2"/>
                      <a:pt x="9270" y="2"/>
                    </a:cubicBezTo>
                    <a:close/>
                    <a:moveTo>
                      <a:pt x="9278" y="2"/>
                    </a:moveTo>
                    <a:lnTo>
                      <a:pt x="9278" y="2"/>
                    </a:lnTo>
                    <a:cubicBezTo>
                      <a:pt x="9280" y="2"/>
                      <a:pt x="9280" y="3"/>
                      <a:pt x="9280" y="4"/>
                    </a:cubicBezTo>
                    <a:cubicBezTo>
                      <a:pt x="9280" y="5"/>
                      <a:pt x="9280" y="6"/>
                      <a:pt x="9278" y="6"/>
                    </a:cubicBezTo>
                    <a:lnTo>
                      <a:pt x="9278" y="6"/>
                    </a:lnTo>
                    <a:cubicBezTo>
                      <a:pt x="9277" y="6"/>
                      <a:pt x="9276" y="5"/>
                      <a:pt x="9276" y="4"/>
                    </a:cubicBezTo>
                    <a:cubicBezTo>
                      <a:pt x="9276" y="3"/>
                      <a:pt x="9277" y="2"/>
                      <a:pt x="9278" y="2"/>
                    </a:cubicBezTo>
                    <a:close/>
                    <a:moveTo>
                      <a:pt x="9286" y="2"/>
                    </a:moveTo>
                    <a:lnTo>
                      <a:pt x="9286" y="2"/>
                    </a:lnTo>
                    <a:cubicBezTo>
                      <a:pt x="9288" y="2"/>
                      <a:pt x="9288" y="3"/>
                      <a:pt x="9288" y="4"/>
                    </a:cubicBezTo>
                    <a:cubicBezTo>
                      <a:pt x="9288" y="5"/>
                      <a:pt x="9288" y="6"/>
                      <a:pt x="9286" y="6"/>
                    </a:cubicBezTo>
                    <a:lnTo>
                      <a:pt x="9286" y="6"/>
                    </a:lnTo>
                    <a:cubicBezTo>
                      <a:pt x="9285" y="6"/>
                      <a:pt x="9284" y="5"/>
                      <a:pt x="9284" y="4"/>
                    </a:cubicBezTo>
                    <a:cubicBezTo>
                      <a:pt x="9284" y="3"/>
                      <a:pt x="9285" y="2"/>
                      <a:pt x="9286" y="2"/>
                    </a:cubicBezTo>
                    <a:close/>
                    <a:moveTo>
                      <a:pt x="9294" y="2"/>
                    </a:moveTo>
                    <a:lnTo>
                      <a:pt x="9294" y="2"/>
                    </a:lnTo>
                    <a:cubicBezTo>
                      <a:pt x="9296" y="2"/>
                      <a:pt x="9296" y="3"/>
                      <a:pt x="9296" y="4"/>
                    </a:cubicBezTo>
                    <a:cubicBezTo>
                      <a:pt x="9296" y="5"/>
                      <a:pt x="9296" y="6"/>
                      <a:pt x="9294" y="6"/>
                    </a:cubicBezTo>
                    <a:lnTo>
                      <a:pt x="9294" y="6"/>
                    </a:lnTo>
                    <a:cubicBezTo>
                      <a:pt x="9293" y="6"/>
                      <a:pt x="9292" y="5"/>
                      <a:pt x="9292" y="4"/>
                    </a:cubicBezTo>
                    <a:cubicBezTo>
                      <a:pt x="9292" y="3"/>
                      <a:pt x="9293" y="2"/>
                      <a:pt x="9294" y="2"/>
                    </a:cubicBezTo>
                    <a:close/>
                    <a:moveTo>
                      <a:pt x="9302" y="2"/>
                    </a:moveTo>
                    <a:lnTo>
                      <a:pt x="9302" y="2"/>
                    </a:lnTo>
                    <a:cubicBezTo>
                      <a:pt x="9304" y="2"/>
                      <a:pt x="9304" y="3"/>
                      <a:pt x="9304" y="4"/>
                    </a:cubicBezTo>
                    <a:cubicBezTo>
                      <a:pt x="9304" y="5"/>
                      <a:pt x="9304" y="6"/>
                      <a:pt x="9302" y="6"/>
                    </a:cubicBezTo>
                    <a:lnTo>
                      <a:pt x="9302" y="6"/>
                    </a:lnTo>
                    <a:cubicBezTo>
                      <a:pt x="9301" y="6"/>
                      <a:pt x="9300" y="5"/>
                      <a:pt x="9300" y="4"/>
                    </a:cubicBezTo>
                    <a:cubicBezTo>
                      <a:pt x="9300" y="3"/>
                      <a:pt x="9301" y="2"/>
                      <a:pt x="9302" y="2"/>
                    </a:cubicBezTo>
                    <a:close/>
                    <a:moveTo>
                      <a:pt x="9310" y="2"/>
                    </a:moveTo>
                    <a:lnTo>
                      <a:pt x="9310" y="2"/>
                    </a:lnTo>
                    <a:cubicBezTo>
                      <a:pt x="9312" y="2"/>
                      <a:pt x="9312" y="3"/>
                      <a:pt x="9312" y="4"/>
                    </a:cubicBezTo>
                    <a:cubicBezTo>
                      <a:pt x="9312" y="5"/>
                      <a:pt x="9312" y="6"/>
                      <a:pt x="9310" y="6"/>
                    </a:cubicBezTo>
                    <a:lnTo>
                      <a:pt x="9310" y="6"/>
                    </a:lnTo>
                    <a:cubicBezTo>
                      <a:pt x="9309" y="6"/>
                      <a:pt x="9308" y="5"/>
                      <a:pt x="9308" y="4"/>
                    </a:cubicBezTo>
                    <a:cubicBezTo>
                      <a:pt x="9308" y="3"/>
                      <a:pt x="9309" y="2"/>
                      <a:pt x="9310" y="2"/>
                    </a:cubicBezTo>
                    <a:close/>
                    <a:moveTo>
                      <a:pt x="9318" y="2"/>
                    </a:moveTo>
                    <a:lnTo>
                      <a:pt x="9319" y="2"/>
                    </a:lnTo>
                    <a:cubicBezTo>
                      <a:pt x="9320" y="2"/>
                      <a:pt x="9321" y="3"/>
                      <a:pt x="9321" y="4"/>
                    </a:cubicBezTo>
                    <a:cubicBezTo>
                      <a:pt x="9321" y="5"/>
                      <a:pt x="9320" y="6"/>
                      <a:pt x="9319" y="6"/>
                    </a:cubicBezTo>
                    <a:lnTo>
                      <a:pt x="9318" y="6"/>
                    </a:lnTo>
                    <a:cubicBezTo>
                      <a:pt x="9317" y="6"/>
                      <a:pt x="9316" y="5"/>
                      <a:pt x="9316" y="4"/>
                    </a:cubicBezTo>
                    <a:cubicBezTo>
                      <a:pt x="9316" y="3"/>
                      <a:pt x="9317" y="2"/>
                      <a:pt x="9318" y="2"/>
                    </a:cubicBezTo>
                    <a:close/>
                    <a:moveTo>
                      <a:pt x="9327" y="2"/>
                    </a:moveTo>
                    <a:lnTo>
                      <a:pt x="9327" y="2"/>
                    </a:lnTo>
                    <a:cubicBezTo>
                      <a:pt x="9328" y="2"/>
                      <a:pt x="9329" y="3"/>
                      <a:pt x="9329" y="4"/>
                    </a:cubicBezTo>
                    <a:cubicBezTo>
                      <a:pt x="9329" y="5"/>
                      <a:pt x="9328" y="6"/>
                      <a:pt x="9327" y="6"/>
                    </a:cubicBezTo>
                    <a:lnTo>
                      <a:pt x="9327" y="6"/>
                    </a:lnTo>
                    <a:cubicBezTo>
                      <a:pt x="9325" y="6"/>
                      <a:pt x="9325" y="5"/>
                      <a:pt x="9325" y="4"/>
                    </a:cubicBezTo>
                    <a:cubicBezTo>
                      <a:pt x="9325" y="3"/>
                      <a:pt x="9325" y="2"/>
                      <a:pt x="9327" y="2"/>
                    </a:cubicBezTo>
                    <a:close/>
                    <a:moveTo>
                      <a:pt x="9335" y="2"/>
                    </a:moveTo>
                    <a:lnTo>
                      <a:pt x="9335" y="2"/>
                    </a:lnTo>
                    <a:cubicBezTo>
                      <a:pt x="9336" y="2"/>
                      <a:pt x="9337" y="3"/>
                      <a:pt x="9337" y="4"/>
                    </a:cubicBezTo>
                    <a:cubicBezTo>
                      <a:pt x="9337" y="5"/>
                      <a:pt x="9336" y="6"/>
                      <a:pt x="9335" y="6"/>
                    </a:cubicBezTo>
                    <a:lnTo>
                      <a:pt x="9335" y="6"/>
                    </a:lnTo>
                    <a:cubicBezTo>
                      <a:pt x="9333" y="6"/>
                      <a:pt x="9333" y="5"/>
                      <a:pt x="9333" y="4"/>
                    </a:cubicBezTo>
                    <a:cubicBezTo>
                      <a:pt x="9333" y="3"/>
                      <a:pt x="9333" y="2"/>
                      <a:pt x="9335" y="2"/>
                    </a:cubicBezTo>
                    <a:close/>
                    <a:moveTo>
                      <a:pt x="9343" y="2"/>
                    </a:moveTo>
                    <a:lnTo>
                      <a:pt x="9343" y="2"/>
                    </a:lnTo>
                    <a:cubicBezTo>
                      <a:pt x="9344" y="2"/>
                      <a:pt x="9345" y="3"/>
                      <a:pt x="9345" y="4"/>
                    </a:cubicBezTo>
                    <a:cubicBezTo>
                      <a:pt x="9345" y="5"/>
                      <a:pt x="9344" y="6"/>
                      <a:pt x="9343" y="6"/>
                    </a:cubicBezTo>
                    <a:lnTo>
                      <a:pt x="9343" y="6"/>
                    </a:lnTo>
                    <a:cubicBezTo>
                      <a:pt x="9341" y="6"/>
                      <a:pt x="9341" y="5"/>
                      <a:pt x="9341" y="4"/>
                    </a:cubicBezTo>
                    <a:cubicBezTo>
                      <a:pt x="9341" y="3"/>
                      <a:pt x="9341" y="2"/>
                      <a:pt x="9343" y="2"/>
                    </a:cubicBezTo>
                    <a:close/>
                    <a:moveTo>
                      <a:pt x="9351" y="2"/>
                    </a:moveTo>
                    <a:lnTo>
                      <a:pt x="9351" y="2"/>
                    </a:lnTo>
                    <a:cubicBezTo>
                      <a:pt x="9352" y="2"/>
                      <a:pt x="9353" y="3"/>
                      <a:pt x="9353" y="4"/>
                    </a:cubicBezTo>
                    <a:cubicBezTo>
                      <a:pt x="9353" y="5"/>
                      <a:pt x="9352" y="6"/>
                      <a:pt x="9351" y="6"/>
                    </a:cubicBezTo>
                    <a:lnTo>
                      <a:pt x="9351" y="6"/>
                    </a:lnTo>
                    <a:cubicBezTo>
                      <a:pt x="9349" y="6"/>
                      <a:pt x="9349" y="5"/>
                      <a:pt x="9349" y="4"/>
                    </a:cubicBezTo>
                    <a:cubicBezTo>
                      <a:pt x="9349" y="3"/>
                      <a:pt x="9349" y="2"/>
                      <a:pt x="9351" y="2"/>
                    </a:cubicBezTo>
                    <a:close/>
                    <a:moveTo>
                      <a:pt x="9359" y="2"/>
                    </a:moveTo>
                    <a:lnTo>
                      <a:pt x="9359" y="2"/>
                    </a:lnTo>
                    <a:cubicBezTo>
                      <a:pt x="9360" y="2"/>
                      <a:pt x="9361" y="3"/>
                      <a:pt x="9361" y="4"/>
                    </a:cubicBezTo>
                    <a:cubicBezTo>
                      <a:pt x="9361" y="5"/>
                      <a:pt x="9360" y="6"/>
                      <a:pt x="9359" y="6"/>
                    </a:cubicBezTo>
                    <a:lnTo>
                      <a:pt x="9359" y="6"/>
                    </a:lnTo>
                    <a:cubicBezTo>
                      <a:pt x="9357" y="6"/>
                      <a:pt x="9357" y="5"/>
                      <a:pt x="9357" y="4"/>
                    </a:cubicBezTo>
                    <a:cubicBezTo>
                      <a:pt x="9357" y="3"/>
                      <a:pt x="9357" y="2"/>
                      <a:pt x="9359" y="2"/>
                    </a:cubicBezTo>
                    <a:close/>
                    <a:moveTo>
                      <a:pt x="9367" y="2"/>
                    </a:moveTo>
                    <a:lnTo>
                      <a:pt x="9367" y="2"/>
                    </a:lnTo>
                    <a:cubicBezTo>
                      <a:pt x="9368" y="2"/>
                      <a:pt x="9369" y="3"/>
                      <a:pt x="9369" y="4"/>
                    </a:cubicBezTo>
                    <a:cubicBezTo>
                      <a:pt x="9369" y="5"/>
                      <a:pt x="9368" y="6"/>
                      <a:pt x="9367" y="6"/>
                    </a:cubicBezTo>
                    <a:lnTo>
                      <a:pt x="9367" y="6"/>
                    </a:lnTo>
                    <a:cubicBezTo>
                      <a:pt x="9365" y="6"/>
                      <a:pt x="9365" y="5"/>
                      <a:pt x="9365" y="4"/>
                    </a:cubicBezTo>
                    <a:cubicBezTo>
                      <a:pt x="9365" y="3"/>
                      <a:pt x="9365" y="2"/>
                      <a:pt x="9367" y="2"/>
                    </a:cubicBezTo>
                    <a:close/>
                    <a:moveTo>
                      <a:pt x="9375" y="2"/>
                    </a:moveTo>
                    <a:lnTo>
                      <a:pt x="9375" y="2"/>
                    </a:lnTo>
                    <a:cubicBezTo>
                      <a:pt x="9376" y="2"/>
                      <a:pt x="9377" y="3"/>
                      <a:pt x="9377" y="4"/>
                    </a:cubicBezTo>
                    <a:cubicBezTo>
                      <a:pt x="9377" y="5"/>
                      <a:pt x="9376" y="6"/>
                      <a:pt x="9375" y="6"/>
                    </a:cubicBezTo>
                    <a:lnTo>
                      <a:pt x="9375" y="6"/>
                    </a:lnTo>
                    <a:cubicBezTo>
                      <a:pt x="9373" y="6"/>
                      <a:pt x="9373" y="5"/>
                      <a:pt x="9373" y="4"/>
                    </a:cubicBezTo>
                    <a:cubicBezTo>
                      <a:pt x="9373" y="3"/>
                      <a:pt x="9373" y="2"/>
                      <a:pt x="9375" y="2"/>
                    </a:cubicBezTo>
                    <a:close/>
                    <a:moveTo>
                      <a:pt x="9383" y="2"/>
                    </a:moveTo>
                    <a:lnTo>
                      <a:pt x="9383" y="2"/>
                    </a:lnTo>
                    <a:cubicBezTo>
                      <a:pt x="9384" y="2"/>
                      <a:pt x="9385" y="3"/>
                      <a:pt x="9385" y="4"/>
                    </a:cubicBezTo>
                    <a:cubicBezTo>
                      <a:pt x="9385" y="5"/>
                      <a:pt x="9384" y="6"/>
                      <a:pt x="9383" y="6"/>
                    </a:cubicBezTo>
                    <a:lnTo>
                      <a:pt x="9383" y="6"/>
                    </a:lnTo>
                    <a:cubicBezTo>
                      <a:pt x="9381" y="6"/>
                      <a:pt x="9381" y="5"/>
                      <a:pt x="9381" y="4"/>
                    </a:cubicBezTo>
                    <a:cubicBezTo>
                      <a:pt x="9381" y="3"/>
                      <a:pt x="9381" y="2"/>
                      <a:pt x="9383" y="2"/>
                    </a:cubicBezTo>
                    <a:close/>
                    <a:moveTo>
                      <a:pt x="9391" y="2"/>
                    </a:moveTo>
                    <a:lnTo>
                      <a:pt x="9391" y="2"/>
                    </a:lnTo>
                    <a:cubicBezTo>
                      <a:pt x="9392" y="2"/>
                      <a:pt x="9393" y="3"/>
                      <a:pt x="9393" y="4"/>
                    </a:cubicBezTo>
                    <a:cubicBezTo>
                      <a:pt x="9393" y="5"/>
                      <a:pt x="9392" y="6"/>
                      <a:pt x="9391" y="6"/>
                    </a:cubicBezTo>
                    <a:lnTo>
                      <a:pt x="9391" y="6"/>
                    </a:lnTo>
                    <a:cubicBezTo>
                      <a:pt x="9389" y="6"/>
                      <a:pt x="9389" y="5"/>
                      <a:pt x="9389" y="4"/>
                    </a:cubicBezTo>
                    <a:cubicBezTo>
                      <a:pt x="9389" y="3"/>
                      <a:pt x="9389" y="2"/>
                      <a:pt x="9391" y="2"/>
                    </a:cubicBezTo>
                    <a:close/>
                    <a:moveTo>
                      <a:pt x="9399" y="2"/>
                    </a:moveTo>
                    <a:lnTo>
                      <a:pt x="9399" y="2"/>
                    </a:lnTo>
                    <a:cubicBezTo>
                      <a:pt x="9400" y="2"/>
                      <a:pt x="9401" y="3"/>
                      <a:pt x="9401" y="4"/>
                    </a:cubicBezTo>
                    <a:cubicBezTo>
                      <a:pt x="9401" y="5"/>
                      <a:pt x="9400" y="6"/>
                      <a:pt x="9399" y="6"/>
                    </a:cubicBezTo>
                    <a:lnTo>
                      <a:pt x="9399" y="6"/>
                    </a:lnTo>
                    <a:cubicBezTo>
                      <a:pt x="9397" y="6"/>
                      <a:pt x="9397" y="5"/>
                      <a:pt x="9397" y="4"/>
                    </a:cubicBezTo>
                    <a:cubicBezTo>
                      <a:pt x="9397" y="3"/>
                      <a:pt x="9397" y="2"/>
                      <a:pt x="9399" y="2"/>
                    </a:cubicBezTo>
                    <a:close/>
                    <a:moveTo>
                      <a:pt x="9407" y="2"/>
                    </a:moveTo>
                    <a:lnTo>
                      <a:pt x="9407" y="2"/>
                    </a:lnTo>
                    <a:cubicBezTo>
                      <a:pt x="9408" y="2"/>
                      <a:pt x="9409" y="3"/>
                      <a:pt x="9409" y="4"/>
                    </a:cubicBezTo>
                    <a:cubicBezTo>
                      <a:pt x="9409" y="5"/>
                      <a:pt x="9408" y="6"/>
                      <a:pt x="9407" y="6"/>
                    </a:cubicBezTo>
                    <a:lnTo>
                      <a:pt x="9407" y="6"/>
                    </a:lnTo>
                    <a:cubicBezTo>
                      <a:pt x="9405" y="6"/>
                      <a:pt x="9405" y="5"/>
                      <a:pt x="9405" y="4"/>
                    </a:cubicBezTo>
                    <a:cubicBezTo>
                      <a:pt x="9405" y="3"/>
                      <a:pt x="9405" y="2"/>
                      <a:pt x="9407" y="2"/>
                    </a:cubicBezTo>
                    <a:close/>
                    <a:moveTo>
                      <a:pt x="9415" y="2"/>
                    </a:moveTo>
                    <a:lnTo>
                      <a:pt x="9415" y="2"/>
                    </a:lnTo>
                    <a:cubicBezTo>
                      <a:pt x="9416" y="2"/>
                      <a:pt x="9417" y="3"/>
                      <a:pt x="9417" y="4"/>
                    </a:cubicBezTo>
                    <a:cubicBezTo>
                      <a:pt x="9417" y="5"/>
                      <a:pt x="9416" y="6"/>
                      <a:pt x="9415" y="6"/>
                    </a:cubicBezTo>
                    <a:lnTo>
                      <a:pt x="9415" y="6"/>
                    </a:lnTo>
                    <a:cubicBezTo>
                      <a:pt x="9413" y="6"/>
                      <a:pt x="9413" y="5"/>
                      <a:pt x="9413" y="4"/>
                    </a:cubicBezTo>
                    <a:cubicBezTo>
                      <a:pt x="9413" y="3"/>
                      <a:pt x="9413" y="2"/>
                      <a:pt x="9415" y="2"/>
                    </a:cubicBezTo>
                    <a:close/>
                    <a:moveTo>
                      <a:pt x="9423" y="2"/>
                    </a:moveTo>
                    <a:lnTo>
                      <a:pt x="9423" y="2"/>
                    </a:lnTo>
                    <a:cubicBezTo>
                      <a:pt x="9424" y="2"/>
                      <a:pt x="9425" y="3"/>
                      <a:pt x="9425" y="4"/>
                    </a:cubicBezTo>
                    <a:cubicBezTo>
                      <a:pt x="9425" y="5"/>
                      <a:pt x="9424" y="6"/>
                      <a:pt x="9423" y="6"/>
                    </a:cubicBezTo>
                    <a:lnTo>
                      <a:pt x="9423" y="6"/>
                    </a:lnTo>
                    <a:cubicBezTo>
                      <a:pt x="9421" y="6"/>
                      <a:pt x="9421" y="5"/>
                      <a:pt x="9421" y="4"/>
                    </a:cubicBezTo>
                    <a:cubicBezTo>
                      <a:pt x="9421" y="3"/>
                      <a:pt x="9421" y="2"/>
                      <a:pt x="9423" y="2"/>
                    </a:cubicBezTo>
                    <a:close/>
                    <a:moveTo>
                      <a:pt x="9431" y="2"/>
                    </a:moveTo>
                    <a:lnTo>
                      <a:pt x="9431" y="2"/>
                    </a:lnTo>
                    <a:cubicBezTo>
                      <a:pt x="9432" y="2"/>
                      <a:pt x="9433" y="3"/>
                      <a:pt x="9433" y="4"/>
                    </a:cubicBezTo>
                    <a:cubicBezTo>
                      <a:pt x="9433" y="5"/>
                      <a:pt x="9432" y="6"/>
                      <a:pt x="9431" y="6"/>
                    </a:cubicBezTo>
                    <a:lnTo>
                      <a:pt x="9431" y="6"/>
                    </a:lnTo>
                    <a:cubicBezTo>
                      <a:pt x="9429" y="6"/>
                      <a:pt x="9429" y="5"/>
                      <a:pt x="9429" y="4"/>
                    </a:cubicBezTo>
                    <a:cubicBezTo>
                      <a:pt x="9429" y="3"/>
                      <a:pt x="9429" y="2"/>
                      <a:pt x="9431" y="2"/>
                    </a:cubicBezTo>
                    <a:close/>
                    <a:moveTo>
                      <a:pt x="9439" y="2"/>
                    </a:moveTo>
                    <a:lnTo>
                      <a:pt x="9439" y="2"/>
                    </a:lnTo>
                    <a:cubicBezTo>
                      <a:pt x="9440" y="2"/>
                      <a:pt x="9441" y="3"/>
                      <a:pt x="9441" y="4"/>
                    </a:cubicBezTo>
                    <a:cubicBezTo>
                      <a:pt x="9441" y="5"/>
                      <a:pt x="9440" y="6"/>
                      <a:pt x="9439" y="6"/>
                    </a:cubicBezTo>
                    <a:lnTo>
                      <a:pt x="9439" y="6"/>
                    </a:lnTo>
                    <a:cubicBezTo>
                      <a:pt x="9437" y="6"/>
                      <a:pt x="9437" y="5"/>
                      <a:pt x="9437" y="4"/>
                    </a:cubicBezTo>
                    <a:cubicBezTo>
                      <a:pt x="9437" y="3"/>
                      <a:pt x="9437" y="2"/>
                      <a:pt x="9439" y="2"/>
                    </a:cubicBezTo>
                    <a:close/>
                    <a:moveTo>
                      <a:pt x="9447" y="2"/>
                    </a:moveTo>
                    <a:lnTo>
                      <a:pt x="9447" y="2"/>
                    </a:lnTo>
                    <a:cubicBezTo>
                      <a:pt x="9448" y="2"/>
                      <a:pt x="9449" y="3"/>
                      <a:pt x="9449" y="4"/>
                    </a:cubicBezTo>
                    <a:cubicBezTo>
                      <a:pt x="9449" y="5"/>
                      <a:pt x="9448" y="6"/>
                      <a:pt x="9447" y="6"/>
                    </a:cubicBezTo>
                    <a:lnTo>
                      <a:pt x="9447" y="6"/>
                    </a:lnTo>
                    <a:cubicBezTo>
                      <a:pt x="9445" y="6"/>
                      <a:pt x="9445" y="5"/>
                      <a:pt x="9445" y="4"/>
                    </a:cubicBezTo>
                    <a:cubicBezTo>
                      <a:pt x="9445" y="3"/>
                      <a:pt x="9445" y="2"/>
                      <a:pt x="9447" y="2"/>
                    </a:cubicBezTo>
                    <a:close/>
                    <a:moveTo>
                      <a:pt x="9455" y="2"/>
                    </a:moveTo>
                    <a:lnTo>
                      <a:pt x="9455" y="2"/>
                    </a:lnTo>
                    <a:cubicBezTo>
                      <a:pt x="9456" y="2"/>
                      <a:pt x="9457" y="3"/>
                      <a:pt x="9457" y="4"/>
                    </a:cubicBezTo>
                    <a:cubicBezTo>
                      <a:pt x="9457" y="5"/>
                      <a:pt x="9456" y="6"/>
                      <a:pt x="9455" y="6"/>
                    </a:cubicBezTo>
                    <a:lnTo>
                      <a:pt x="9455" y="6"/>
                    </a:lnTo>
                    <a:cubicBezTo>
                      <a:pt x="9453" y="6"/>
                      <a:pt x="9453" y="5"/>
                      <a:pt x="9453" y="4"/>
                    </a:cubicBezTo>
                    <a:cubicBezTo>
                      <a:pt x="9453" y="3"/>
                      <a:pt x="9453" y="2"/>
                      <a:pt x="9455" y="2"/>
                    </a:cubicBezTo>
                    <a:close/>
                    <a:moveTo>
                      <a:pt x="9463" y="2"/>
                    </a:moveTo>
                    <a:lnTo>
                      <a:pt x="9463" y="2"/>
                    </a:lnTo>
                    <a:cubicBezTo>
                      <a:pt x="9464" y="2"/>
                      <a:pt x="9465" y="3"/>
                      <a:pt x="9465" y="4"/>
                    </a:cubicBezTo>
                    <a:cubicBezTo>
                      <a:pt x="9465" y="5"/>
                      <a:pt x="9464" y="6"/>
                      <a:pt x="9463" y="6"/>
                    </a:cubicBezTo>
                    <a:lnTo>
                      <a:pt x="9463" y="6"/>
                    </a:lnTo>
                    <a:cubicBezTo>
                      <a:pt x="9461" y="6"/>
                      <a:pt x="9461" y="5"/>
                      <a:pt x="9461" y="4"/>
                    </a:cubicBezTo>
                    <a:cubicBezTo>
                      <a:pt x="9461" y="3"/>
                      <a:pt x="9461" y="2"/>
                      <a:pt x="9463" y="2"/>
                    </a:cubicBezTo>
                    <a:close/>
                    <a:moveTo>
                      <a:pt x="9471" y="2"/>
                    </a:moveTo>
                    <a:lnTo>
                      <a:pt x="9471" y="2"/>
                    </a:lnTo>
                    <a:cubicBezTo>
                      <a:pt x="9472" y="2"/>
                      <a:pt x="9473" y="3"/>
                      <a:pt x="9473" y="4"/>
                    </a:cubicBezTo>
                    <a:cubicBezTo>
                      <a:pt x="9473" y="5"/>
                      <a:pt x="9472" y="6"/>
                      <a:pt x="9471" y="6"/>
                    </a:cubicBezTo>
                    <a:lnTo>
                      <a:pt x="9471" y="6"/>
                    </a:lnTo>
                    <a:cubicBezTo>
                      <a:pt x="9469" y="6"/>
                      <a:pt x="9469" y="5"/>
                      <a:pt x="9469" y="4"/>
                    </a:cubicBezTo>
                    <a:cubicBezTo>
                      <a:pt x="9469" y="3"/>
                      <a:pt x="9469" y="2"/>
                      <a:pt x="9471" y="2"/>
                    </a:cubicBezTo>
                    <a:close/>
                    <a:moveTo>
                      <a:pt x="9479" y="2"/>
                    </a:moveTo>
                    <a:lnTo>
                      <a:pt x="9479" y="2"/>
                    </a:lnTo>
                    <a:cubicBezTo>
                      <a:pt x="9480" y="2"/>
                      <a:pt x="9481" y="3"/>
                      <a:pt x="9481" y="4"/>
                    </a:cubicBezTo>
                    <a:cubicBezTo>
                      <a:pt x="9481" y="5"/>
                      <a:pt x="9480" y="6"/>
                      <a:pt x="9479" y="6"/>
                    </a:cubicBezTo>
                    <a:lnTo>
                      <a:pt x="9479" y="6"/>
                    </a:lnTo>
                    <a:cubicBezTo>
                      <a:pt x="9477" y="6"/>
                      <a:pt x="9477" y="5"/>
                      <a:pt x="9477" y="4"/>
                    </a:cubicBezTo>
                    <a:cubicBezTo>
                      <a:pt x="9477" y="3"/>
                      <a:pt x="9477" y="2"/>
                      <a:pt x="9479" y="2"/>
                    </a:cubicBezTo>
                    <a:close/>
                    <a:moveTo>
                      <a:pt x="9487" y="2"/>
                    </a:moveTo>
                    <a:lnTo>
                      <a:pt x="9487" y="2"/>
                    </a:lnTo>
                    <a:cubicBezTo>
                      <a:pt x="9488" y="2"/>
                      <a:pt x="9489" y="3"/>
                      <a:pt x="9489" y="4"/>
                    </a:cubicBezTo>
                    <a:cubicBezTo>
                      <a:pt x="9489" y="5"/>
                      <a:pt x="9488" y="6"/>
                      <a:pt x="9487" y="6"/>
                    </a:cubicBezTo>
                    <a:lnTo>
                      <a:pt x="9487" y="6"/>
                    </a:lnTo>
                    <a:cubicBezTo>
                      <a:pt x="9485" y="6"/>
                      <a:pt x="9485" y="5"/>
                      <a:pt x="9485" y="4"/>
                    </a:cubicBezTo>
                    <a:cubicBezTo>
                      <a:pt x="9485" y="3"/>
                      <a:pt x="9485" y="2"/>
                      <a:pt x="9487" y="2"/>
                    </a:cubicBezTo>
                    <a:close/>
                    <a:moveTo>
                      <a:pt x="9495" y="2"/>
                    </a:moveTo>
                    <a:lnTo>
                      <a:pt x="9495" y="2"/>
                    </a:lnTo>
                    <a:cubicBezTo>
                      <a:pt x="9496" y="2"/>
                      <a:pt x="9497" y="3"/>
                      <a:pt x="9497" y="4"/>
                    </a:cubicBezTo>
                    <a:cubicBezTo>
                      <a:pt x="9497" y="5"/>
                      <a:pt x="9496" y="6"/>
                      <a:pt x="9495" y="6"/>
                    </a:cubicBezTo>
                    <a:lnTo>
                      <a:pt x="9495" y="6"/>
                    </a:lnTo>
                    <a:cubicBezTo>
                      <a:pt x="9493" y="6"/>
                      <a:pt x="9493" y="5"/>
                      <a:pt x="9493" y="4"/>
                    </a:cubicBezTo>
                    <a:cubicBezTo>
                      <a:pt x="9493" y="3"/>
                      <a:pt x="9493" y="2"/>
                      <a:pt x="9495" y="2"/>
                    </a:cubicBezTo>
                    <a:close/>
                    <a:moveTo>
                      <a:pt x="9503" y="2"/>
                    </a:moveTo>
                    <a:lnTo>
                      <a:pt x="9503" y="2"/>
                    </a:lnTo>
                    <a:cubicBezTo>
                      <a:pt x="9504" y="2"/>
                      <a:pt x="9505" y="3"/>
                      <a:pt x="9505" y="4"/>
                    </a:cubicBezTo>
                    <a:cubicBezTo>
                      <a:pt x="9505" y="5"/>
                      <a:pt x="9504" y="6"/>
                      <a:pt x="9503" y="6"/>
                    </a:cubicBezTo>
                    <a:lnTo>
                      <a:pt x="9503" y="6"/>
                    </a:lnTo>
                    <a:cubicBezTo>
                      <a:pt x="9502" y="6"/>
                      <a:pt x="9501" y="5"/>
                      <a:pt x="9501" y="4"/>
                    </a:cubicBezTo>
                    <a:cubicBezTo>
                      <a:pt x="9501" y="3"/>
                      <a:pt x="9502" y="2"/>
                      <a:pt x="9503" y="2"/>
                    </a:cubicBezTo>
                    <a:close/>
                    <a:moveTo>
                      <a:pt x="9511" y="2"/>
                    </a:moveTo>
                    <a:lnTo>
                      <a:pt x="9511" y="2"/>
                    </a:lnTo>
                    <a:cubicBezTo>
                      <a:pt x="9512" y="2"/>
                      <a:pt x="9513" y="3"/>
                      <a:pt x="9513" y="4"/>
                    </a:cubicBezTo>
                    <a:cubicBezTo>
                      <a:pt x="9513" y="5"/>
                      <a:pt x="9512" y="6"/>
                      <a:pt x="9511" y="6"/>
                    </a:cubicBezTo>
                    <a:lnTo>
                      <a:pt x="9511" y="6"/>
                    </a:lnTo>
                    <a:cubicBezTo>
                      <a:pt x="9510" y="6"/>
                      <a:pt x="9509" y="5"/>
                      <a:pt x="9509" y="4"/>
                    </a:cubicBezTo>
                    <a:cubicBezTo>
                      <a:pt x="9509" y="3"/>
                      <a:pt x="9510" y="2"/>
                      <a:pt x="9511" y="2"/>
                    </a:cubicBezTo>
                    <a:close/>
                    <a:moveTo>
                      <a:pt x="9519" y="2"/>
                    </a:moveTo>
                    <a:lnTo>
                      <a:pt x="9519" y="2"/>
                    </a:lnTo>
                    <a:cubicBezTo>
                      <a:pt x="9520" y="2"/>
                      <a:pt x="9521" y="3"/>
                      <a:pt x="9521" y="4"/>
                    </a:cubicBezTo>
                    <a:cubicBezTo>
                      <a:pt x="9521" y="5"/>
                      <a:pt x="9520" y="6"/>
                      <a:pt x="9519" y="6"/>
                    </a:cubicBezTo>
                    <a:lnTo>
                      <a:pt x="9519" y="6"/>
                    </a:lnTo>
                    <a:cubicBezTo>
                      <a:pt x="9518" y="6"/>
                      <a:pt x="9517" y="5"/>
                      <a:pt x="9517" y="4"/>
                    </a:cubicBezTo>
                    <a:cubicBezTo>
                      <a:pt x="9517" y="3"/>
                      <a:pt x="9518" y="2"/>
                      <a:pt x="9519" y="2"/>
                    </a:cubicBezTo>
                    <a:close/>
                    <a:moveTo>
                      <a:pt x="9527" y="2"/>
                    </a:moveTo>
                    <a:lnTo>
                      <a:pt x="9527" y="2"/>
                    </a:lnTo>
                    <a:cubicBezTo>
                      <a:pt x="9528" y="2"/>
                      <a:pt x="9529" y="3"/>
                      <a:pt x="9529" y="4"/>
                    </a:cubicBezTo>
                    <a:cubicBezTo>
                      <a:pt x="9529" y="5"/>
                      <a:pt x="9528" y="6"/>
                      <a:pt x="9527" y="6"/>
                    </a:cubicBezTo>
                    <a:lnTo>
                      <a:pt x="9527" y="6"/>
                    </a:lnTo>
                    <a:cubicBezTo>
                      <a:pt x="9526" y="6"/>
                      <a:pt x="9525" y="5"/>
                      <a:pt x="9525" y="4"/>
                    </a:cubicBezTo>
                    <a:cubicBezTo>
                      <a:pt x="9525" y="3"/>
                      <a:pt x="9526" y="2"/>
                      <a:pt x="9527" y="2"/>
                    </a:cubicBezTo>
                    <a:close/>
                    <a:moveTo>
                      <a:pt x="9535" y="2"/>
                    </a:moveTo>
                    <a:lnTo>
                      <a:pt x="9535" y="2"/>
                    </a:lnTo>
                    <a:cubicBezTo>
                      <a:pt x="9536" y="2"/>
                      <a:pt x="9537" y="3"/>
                      <a:pt x="9537" y="4"/>
                    </a:cubicBezTo>
                    <a:cubicBezTo>
                      <a:pt x="9537" y="5"/>
                      <a:pt x="9536" y="6"/>
                      <a:pt x="9535" y="6"/>
                    </a:cubicBezTo>
                    <a:lnTo>
                      <a:pt x="9535" y="6"/>
                    </a:lnTo>
                    <a:cubicBezTo>
                      <a:pt x="9534" y="6"/>
                      <a:pt x="9533" y="5"/>
                      <a:pt x="9533" y="4"/>
                    </a:cubicBezTo>
                    <a:cubicBezTo>
                      <a:pt x="9533" y="3"/>
                      <a:pt x="9534" y="2"/>
                      <a:pt x="9535" y="2"/>
                    </a:cubicBezTo>
                    <a:close/>
                    <a:moveTo>
                      <a:pt x="9543" y="2"/>
                    </a:moveTo>
                    <a:lnTo>
                      <a:pt x="9543" y="2"/>
                    </a:lnTo>
                    <a:cubicBezTo>
                      <a:pt x="9544" y="2"/>
                      <a:pt x="9545" y="3"/>
                      <a:pt x="9545" y="4"/>
                    </a:cubicBezTo>
                    <a:cubicBezTo>
                      <a:pt x="9545" y="5"/>
                      <a:pt x="9544" y="6"/>
                      <a:pt x="9543" y="6"/>
                    </a:cubicBezTo>
                    <a:lnTo>
                      <a:pt x="9543" y="6"/>
                    </a:lnTo>
                    <a:cubicBezTo>
                      <a:pt x="9542" y="6"/>
                      <a:pt x="9541" y="5"/>
                      <a:pt x="9541" y="4"/>
                    </a:cubicBezTo>
                    <a:cubicBezTo>
                      <a:pt x="9541" y="3"/>
                      <a:pt x="9542" y="2"/>
                      <a:pt x="9543" y="2"/>
                    </a:cubicBezTo>
                    <a:close/>
                    <a:moveTo>
                      <a:pt x="9551" y="2"/>
                    </a:moveTo>
                    <a:lnTo>
                      <a:pt x="9551" y="2"/>
                    </a:lnTo>
                    <a:cubicBezTo>
                      <a:pt x="9552" y="2"/>
                      <a:pt x="9553" y="3"/>
                      <a:pt x="9553" y="4"/>
                    </a:cubicBezTo>
                    <a:cubicBezTo>
                      <a:pt x="9553" y="5"/>
                      <a:pt x="9552" y="6"/>
                      <a:pt x="9551" y="6"/>
                    </a:cubicBezTo>
                    <a:lnTo>
                      <a:pt x="9551" y="6"/>
                    </a:lnTo>
                    <a:cubicBezTo>
                      <a:pt x="9550" y="6"/>
                      <a:pt x="9549" y="5"/>
                      <a:pt x="9549" y="4"/>
                    </a:cubicBezTo>
                    <a:cubicBezTo>
                      <a:pt x="9549" y="3"/>
                      <a:pt x="9550" y="2"/>
                      <a:pt x="9551" y="2"/>
                    </a:cubicBezTo>
                    <a:close/>
                    <a:moveTo>
                      <a:pt x="9559" y="2"/>
                    </a:moveTo>
                    <a:lnTo>
                      <a:pt x="9559" y="2"/>
                    </a:lnTo>
                    <a:cubicBezTo>
                      <a:pt x="9560" y="2"/>
                      <a:pt x="9561" y="3"/>
                      <a:pt x="9561" y="4"/>
                    </a:cubicBezTo>
                    <a:cubicBezTo>
                      <a:pt x="9561" y="5"/>
                      <a:pt x="9560" y="6"/>
                      <a:pt x="9559" y="6"/>
                    </a:cubicBezTo>
                    <a:lnTo>
                      <a:pt x="9559" y="6"/>
                    </a:lnTo>
                    <a:cubicBezTo>
                      <a:pt x="9558" y="6"/>
                      <a:pt x="9557" y="5"/>
                      <a:pt x="9557" y="4"/>
                    </a:cubicBezTo>
                    <a:cubicBezTo>
                      <a:pt x="9557" y="3"/>
                      <a:pt x="9558" y="2"/>
                      <a:pt x="9559" y="2"/>
                    </a:cubicBezTo>
                    <a:close/>
                    <a:moveTo>
                      <a:pt x="9567" y="2"/>
                    </a:moveTo>
                    <a:lnTo>
                      <a:pt x="9567" y="2"/>
                    </a:lnTo>
                    <a:cubicBezTo>
                      <a:pt x="9568" y="2"/>
                      <a:pt x="9569" y="3"/>
                      <a:pt x="9569" y="4"/>
                    </a:cubicBezTo>
                    <a:cubicBezTo>
                      <a:pt x="9569" y="5"/>
                      <a:pt x="9568" y="6"/>
                      <a:pt x="9567" y="6"/>
                    </a:cubicBezTo>
                    <a:lnTo>
                      <a:pt x="9567" y="6"/>
                    </a:lnTo>
                    <a:cubicBezTo>
                      <a:pt x="9566" y="6"/>
                      <a:pt x="9565" y="5"/>
                      <a:pt x="9565" y="4"/>
                    </a:cubicBezTo>
                    <a:cubicBezTo>
                      <a:pt x="9565" y="3"/>
                      <a:pt x="9566" y="2"/>
                      <a:pt x="9567" y="2"/>
                    </a:cubicBezTo>
                    <a:close/>
                    <a:moveTo>
                      <a:pt x="9575" y="2"/>
                    </a:moveTo>
                    <a:lnTo>
                      <a:pt x="9575" y="2"/>
                    </a:lnTo>
                    <a:cubicBezTo>
                      <a:pt x="9576" y="2"/>
                      <a:pt x="9577" y="3"/>
                      <a:pt x="9577" y="4"/>
                    </a:cubicBezTo>
                    <a:cubicBezTo>
                      <a:pt x="9577" y="5"/>
                      <a:pt x="9576" y="6"/>
                      <a:pt x="9575" y="6"/>
                    </a:cubicBezTo>
                    <a:lnTo>
                      <a:pt x="9575" y="6"/>
                    </a:lnTo>
                    <a:cubicBezTo>
                      <a:pt x="9574" y="6"/>
                      <a:pt x="9573" y="5"/>
                      <a:pt x="9573" y="4"/>
                    </a:cubicBezTo>
                    <a:cubicBezTo>
                      <a:pt x="9573" y="3"/>
                      <a:pt x="9574" y="2"/>
                      <a:pt x="9575" y="2"/>
                    </a:cubicBezTo>
                    <a:close/>
                    <a:moveTo>
                      <a:pt x="9583" y="2"/>
                    </a:moveTo>
                    <a:lnTo>
                      <a:pt x="9583" y="2"/>
                    </a:lnTo>
                    <a:cubicBezTo>
                      <a:pt x="9584" y="2"/>
                      <a:pt x="9585" y="3"/>
                      <a:pt x="9585" y="4"/>
                    </a:cubicBezTo>
                    <a:cubicBezTo>
                      <a:pt x="9585" y="5"/>
                      <a:pt x="9584" y="6"/>
                      <a:pt x="9583" y="6"/>
                    </a:cubicBezTo>
                    <a:lnTo>
                      <a:pt x="9583" y="6"/>
                    </a:lnTo>
                    <a:cubicBezTo>
                      <a:pt x="9582" y="6"/>
                      <a:pt x="9581" y="5"/>
                      <a:pt x="9581" y="4"/>
                    </a:cubicBezTo>
                    <a:cubicBezTo>
                      <a:pt x="9581" y="3"/>
                      <a:pt x="9582" y="2"/>
                      <a:pt x="9583" y="2"/>
                    </a:cubicBezTo>
                    <a:close/>
                    <a:moveTo>
                      <a:pt x="9591" y="2"/>
                    </a:moveTo>
                    <a:lnTo>
                      <a:pt x="9591" y="2"/>
                    </a:lnTo>
                    <a:cubicBezTo>
                      <a:pt x="9592" y="2"/>
                      <a:pt x="9593" y="3"/>
                      <a:pt x="9593" y="4"/>
                    </a:cubicBezTo>
                    <a:cubicBezTo>
                      <a:pt x="9593" y="5"/>
                      <a:pt x="9592" y="6"/>
                      <a:pt x="9591" y="6"/>
                    </a:cubicBezTo>
                    <a:lnTo>
                      <a:pt x="9591" y="6"/>
                    </a:lnTo>
                    <a:cubicBezTo>
                      <a:pt x="9590" y="6"/>
                      <a:pt x="9589" y="5"/>
                      <a:pt x="9589" y="4"/>
                    </a:cubicBezTo>
                    <a:cubicBezTo>
                      <a:pt x="9589" y="3"/>
                      <a:pt x="9590" y="2"/>
                      <a:pt x="9591" y="2"/>
                    </a:cubicBezTo>
                    <a:close/>
                    <a:moveTo>
                      <a:pt x="9599" y="2"/>
                    </a:moveTo>
                    <a:lnTo>
                      <a:pt x="9599" y="2"/>
                    </a:lnTo>
                    <a:cubicBezTo>
                      <a:pt x="9600" y="2"/>
                      <a:pt x="9601" y="3"/>
                      <a:pt x="9601" y="4"/>
                    </a:cubicBezTo>
                    <a:cubicBezTo>
                      <a:pt x="9601" y="5"/>
                      <a:pt x="9600" y="6"/>
                      <a:pt x="9599" y="6"/>
                    </a:cubicBezTo>
                    <a:lnTo>
                      <a:pt x="9599" y="6"/>
                    </a:lnTo>
                    <a:cubicBezTo>
                      <a:pt x="9598" y="6"/>
                      <a:pt x="9597" y="5"/>
                      <a:pt x="9597" y="4"/>
                    </a:cubicBezTo>
                    <a:cubicBezTo>
                      <a:pt x="9597" y="3"/>
                      <a:pt x="9598" y="2"/>
                      <a:pt x="9599" y="2"/>
                    </a:cubicBezTo>
                    <a:close/>
                    <a:moveTo>
                      <a:pt x="9607" y="2"/>
                    </a:moveTo>
                    <a:lnTo>
                      <a:pt x="9607" y="2"/>
                    </a:lnTo>
                    <a:cubicBezTo>
                      <a:pt x="9608" y="2"/>
                      <a:pt x="9609" y="3"/>
                      <a:pt x="9609" y="4"/>
                    </a:cubicBezTo>
                    <a:cubicBezTo>
                      <a:pt x="9609" y="5"/>
                      <a:pt x="9608" y="6"/>
                      <a:pt x="9607" y="6"/>
                    </a:cubicBezTo>
                    <a:lnTo>
                      <a:pt x="9607" y="6"/>
                    </a:lnTo>
                    <a:cubicBezTo>
                      <a:pt x="9606" y="6"/>
                      <a:pt x="9605" y="5"/>
                      <a:pt x="9605" y="4"/>
                    </a:cubicBezTo>
                    <a:cubicBezTo>
                      <a:pt x="9605" y="3"/>
                      <a:pt x="9606" y="2"/>
                      <a:pt x="9607" y="2"/>
                    </a:cubicBezTo>
                    <a:close/>
                    <a:moveTo>
                      <a:pt x="9615" y="2"/>
                    </a:moveTo>
                    <a:lnTo>
                      <a:pt x="9615" y="2"/>
                    </a:lnTo>
                    <a:cubicBezTo>
                      <a:pt x="9616" y="2"/>
                      <a:pt x="9617" y="3"/>
                      <a:pt x="9617" y="4"/>
                    </a:cubicBezTo>
                    <a:cubicBezTo>
                      <a:pt x="9617" y="5"/>
                      <a:pt x="9616" y="6"/>
                      <a:pt x="9615" y="6"/>
                    </a:cubicBezTo>
                    <a:lnTo>
                      <a:pt x="9615" y="6"/>
                    </a:lnTo>
                    <a:cubicBezTo>
                      <a:pt x="9614" y="6"/>
                      <a:pt x="9613" y="5"/>
                      <a:pt x="9613" y="4"/>
                    </a:cubicBezTo>
                    <a:cubicBezTo>
                      <a:pt x="9613" y="3"/>
                      <a:pt x="9614" y="2"/>
                      <a:pt x="9615" y="2"/>
                    </a:cubicBezTo>
                    <a:close/>
                    <a:moveTo>
                      <a:pt x="9623" y="2"/>
                    </a:moveTo>
                    <a:lnTo>
                      <a:pt x="9623" y="2"/>
                    </a:lnTo>
                    <a:cubicBezTo>
                      <a:pt x="9624" y="2"/>
                      <a:pt x="9625" y="3"/>
                      <a:pt x="9625" y="4"/>
                    </a:cubicBezTo>
                    <a:cubicBezTo>
                      <a:pt x="9625" y="5"/>
                      <a:pt x="9624" y="6"/>
                      <a:pt x="9623" y="6"/>
                    </a:cubicBezTo>
                    <a:lnTo>
                      <a:pt x="9623" y="6"/>
                    </a:lnTo>
                    <a:cubicBezTo>
                      <a:pt x="9622" y="6"/>
                      <a:pt x="9621" y="5"/>
                      <a:pt x="9621" y="4"/>
                    </a:cubicBezTo>
                    <a:cubicBezTo>
                      <a:pt x="9621" y="3"/>
                      <a:pt x="9622" y="2"/>
                      <a:pt x="9623" y="2"/>
                    </a:cubicBezTo>
                    <a:close/>
                    <a:moveTo>
                      <a:pt x="9631" y="2"/>
                    </a:moveTo>
                    <a:lnTo>
                      <a:pt x="9631" y="2"/>
                    </a:lnTo>
                    <a:cubicBezTo>
                      <a:pt x="9632" y="2"/>
                      <a:pt x="9633" y="3"/>
                      <a:pt x="9633" y="4"/>
                    </a:cubicBezTo>
                    <a:cubicBezTo>
                      <a:pt x="9633" y="5"/>
                      <a:pt x="9632" y="6"/>
                      <a:pt x="9631" y="6"/>
                    </a:cubicBezTo>
                    <a:lnTo>
                      <a:pt x="9631" y="6"/>
                    </a:lnTo>
                    <a:cubicBezTo>
                      <a:pt x="9630" y="6"/>
                      <a:pt x="9629" y="5"/>
                      <a:pt x="9629" y="4"/>
                    </a:cubicBezTo>
                    <a:cubicBezTo>
                      <a:pt x="9629" y="3"/>
                      <a:pt x="9630" y="2"/>
                      <a:pt x="9631" y="2"/>
                    </a:cubicBezTo>
                    <a:close/>
                    <a:moveTo>
                      <a:pt x="9639" y="2"/>
                    </a:moveTo>
                    <a:lnTo>
                      <a:pt x="9639" y="2"/>
                    </a:lnTo>
                    <a:cubicBezTo>
                      <a:pt x="9640" y="2"/>
                      <a:pt x="9641" y="3"/>
                      <a:pt x="9641" y="4"/>
                    </a:cubicBezTo>
                    <a:cubicBezTo>
                      <a:pt x="9641" y="5"/>
                      <a:pt x="9640" y="6"/>
                      <a:pt x="9639" y="6"/>
                    </a:cubicBezTo>
                    <a:lnTo>
                      <a:pt x="9639" y="6"/>
                    </a:lnTo>
                    <a:cubicBezTo>
                      <a:pt x="9638" y="6"/>
                      <a:pt x="9637" y="5"/>
                      <a:pt x="9637" y="4"/>
                    </a:cubicBezTo>
                    <a:cubicBezTo>
                      <a:pt x="9637" y="3"/>
                      <a:pt x="9638" y="2"/>
                      <a:pt x="9639" y="2"/>
                    </a:cubicBezTo>
                    <a:close/>
                    <a:moveTo>
                      <a:pt x="9647" y="2"/>
                    </a:moveTo>
                    <a:lnTo>
                      <a:pt x="9647" y="2"/>
                    </a:lnTo>
                    <a:cubicBezTo>
                      <a:pt x="9648" y="2"/>
                      <a:pt x="9649" y="3"/>
                      <a:pt x="9649" y="4"/>
                    </a:cubicBezTo>
                    <a:cubicBezTo>
                      <a:pt x="9649" y="5"/>
                      <a:pt x="9648" y="6"/>
                      <a:pt x="9647" y="6"/>
                    </a:cubicBezTo>
                    <a:lnTo>
                      <a:pt x="9647" y="6"/>
                    </a:lnTo>
                    <a:cubicBezTo>
                      <a:pt x="9646" y="6"/>
                      <a:pt x="9645" y="5"/>
                      <a:pt x="9645" y="4"/>
                    </a:cubicBezTo>
                    <a:cubicBezTo>
                      <a:pt x="9645" y="3"/>
                      <a:pt x="9646" y="2"/>
                      <a:pt x="9647" y="2"/>
                    </a:cubicBezTo>
                    <a:close/>
                    <a:moveTo>
                      <a:pt x="9655" y="2"/>
                    </a:moveTo>
                    <a:lnTo>
                      <a:pt x="9655" y="2"/>
                    </a:lnTo>
                    <a:cubicBezTo>
                      <a:pt x="9656" y="2"/>
                      <a:pt x="9657" y="3"/>
                      <a:pt x="9657" y="4"/>
                    </a:cubicBezTo>
                    <a:cubicBezTo>
                      <a:pt x="9657" y="5"/>
                      <a:pt x="9656" y="6"/>
                      <a:pt x="9655" y="6"/>
                    </a:cubicBezTo>
                    <a:lnTo>
                      <a:pt x="9655" y="6"/>
                    </a:lnTo>
                    <a:cubicBezTo>
                      <a:pt x="9654" y="6"/>
                      <a:pt x="9653" y="5"/>
                      <a:pt x="9653" y="4"/>
                    </a:cubicBezTo>
                    <a:cubicBezTo>
                      <a:pt x="9653" y="3"/>
                      <a:pt x="9654" y="2"/>
                      <a:pt x="9655" y="2"/>
                    </a:cubicBezTo>
                    <a:close/>
                    <a:moveTo>
                      <a:pt x="9663" y="2"/>
                    </a:moveTo>
                    <a:lnTo>
                      <a:pt x="9663" y="2"/>
                    </a:lnTo>
                    <a:cubicBezTo>
                      <a:pt x="9664" y="2"/>
                      <a:pt x="9665" y="3"/>
                      <a:pt x="9665" y="4"/>
                    </a:cubicBezTo>
                    <a:cubicBezTo>
                      <a:pt x="9665" y="5"/>
                      <a:pt x="9664" y="6"/>
                      <a:pt x="9663" y="6"/>
                    </a:cubicBezTo>
                    <a:lnTo>
                      <a:pt x="9663" y="6"/>
                    </a:lnTo>
                    <a:cubicBezTo>
                      <a:pt x="9662" y="6"/>
                      <a:pt x="9661" y="5"/>
                      <a:pt x="9661" y="4"/>
                    </a:cubicBezTo>
                    <a:cubicBezTo>
                      <a:pt x="9661" y="3"/>
                      <a:pt x="9662" y="2"/>
                      <a:pt x="9663" y="2"/>
                    </a:cubicBezTo>
                    <a:close/>
                    <a:moveTo>
                      <a:pt x="9671" y="2"/>
                    </a:moveTo>
                    <a:lnTo>
                      <a:pt x="9671" y="2"/>
                    </a:lnTo>
                    <a:cubicBezTo>
                      <a:pt x="9672" y="2"/>
                      <a:pt x="9673" y="3"/>
                      <a:pt x="9673" y="4"/>
                    </a:cubicBezTo>
                    <a:cubicBezTo>
                      <a:pt x="9673" y="5"/>
                      <a:pt x="9672" y="6"/>
                      <a:pt x="9671" y="6"/>
                    </a:cubicBezTo>
                    <a:lnTo>
                      <a:pt x="9671" y="6"/>
                    </a:lnTo>
                    <a:cubicBezTo>
                      <a:pt x="9670" y="6"/>
                      <a:pt x="9669" y="5"/>
                      <a:pt x="9669" y="4"/>
                    </a:cubicBezTo>
                    <a:cubicBezTo>
                      <a:pt x="9669" y="3"/>
                      <a:pt x="9670" y="2"/>
                      <a:pt x="9671" y="2"/>
                    </a:cubicBezTo>
                    <a:close/>
                    <a:moveTo>
                      <a:pt x="9679" y="2"/>
                    </a:moveTo>
                    <a:lnTo>
                      <a:pt x="9679" y="2"/>
                    </a:lnTo>
                    <a:cubicBezTo>
                      <a:pt x="9680" y="2"/>
                      <a:pt x="9681" y="3"/>
                      <a:pt x="9681" y="4"/>
                    </a:cubicBezTo>
                    <a:cubicBezTo>
                      <a:pt x="9681" y="5"/>
                      <a:pt x="9680" y="6"/>
                      <a:pt x="9679" y="6"/>
                    </a:cubicBezTo>
                    <a:lnTo>
                      <a:pt x="9679" y="6"/>
                    </a:lnTo>
                    <a:cubicBezTo>
                      <a:pt x="9678" y="6"/>
                      <a:pt x="9677" y="5"/>
                      <a:pt x="9677" y="4"/>
                    </a:cubicBezTo>
                    <a:cubicBezTo>
                      <a:pt x="9677" y="3"/>
                      <a:pt x="9678" y="2"/>
                      <a:pt x="9679" y="2"/>
                    </a:cubicBezTo>
                    <a:close/>
                    <a:moveTo>
                      <a:pt x="9687" y="2"/>
                    </a:moveTo>
                    <a:lnTo>
                      <a:pt x="9687" y="2"/>
                    </a:lnTo>
                    <a:cubicBezTo>
                      <a:pt x="9688" y="2"/>
                      <a:pt x="9689" y="3"/>
                      <a:pt x="9689" y="4"/>
                    </a:cubicBezTo>
                    <a:cubicBezTo>
                      <a:pt x="9689" y="5"/>
                      <a:pt x="9688" y="6"/>
                      <a:pt x="9687" y="6"/>
                    </a:cubicBezTo>
                    <a:lnTo>
                      <a:pt x="9687" y="6"/>
                    </a:lnTo>
                    <a:cubicBezTo>
                      <a:pt x="9686" y="6"/>
                      <a:pt x="9685" y="5"/>
                      <a:pt x="9685" y="4"/>
                    </a:cubicBezTo>
                    <a:cubicBezTo>
                      <a:pt x="9685" y="3"/>
                      <a:pt x="9686" y="2"/>
                      <a:pt x="9687" y="2"/>
                    </a:cubicBezTo>
                    <a:close/>
                    <a:moveTo>
                      <a:pt x="9695" y="2"/>
                    </a:moveTo>
                    <a:lnTo>
                      <a:pt x="9695" y="2"/>
                    </a:lnTo>
                    <a:cubicBezTo>
                      <a:pt x="9696" y="2"/>
                      <a:pt x="9697" y="3"/>
                      <a:pt x="9697" y="4"/>
                    </a:cubicBezTo>
                    <a:cubicBezTo>
                      <a:pt x="9697" y="5"/>
                      <a:pt x="9696" y="6"/>
                      <a:pt x="9695" y="6"/>
                    </a:cubicBezTo>
                    <a:lnTo>
                      <a:pt x="9695" y="6"/>
                    </a:lnTo>
                    <a:cubicBezTo>
                      <a:pt x="9694" y="6"/>
                      <a:pt x="9693" y="5"/>
                      <a:pt x="9693" y="4"/>
                    </a:cubicBezTo>
                    <a:cubicBezTo>
                      <a:pt x="9693" y="3"/>
                      <a:pt x="9694" y="2"/>
                      <a:pt x="9695" y="2"/>
                    </a:cubicBezTo>
                    <a:close/>
                    <a:moveTo>
                      <a:pt x="9703" y="2"/>
                    </a:moveTo>
                    <a:lnTo>
                      <a:pt x="9703" y="2"/>
                    </a:lnTo>
                    <a:cubicBezTo>
                      <a:pt x="9704" y="2"/>
                      <a:pt x="9705" y="3"/>
                      <a:pt x="9705" y="4"/>
                    </a:cubicBezTo>
                    <a:cubicBezTo>
                      <a:pt x="9705" y="5"/>
                      <a:pt x="9704" y="6"/>
                      <a:pt x="9703" y="6"/>
                    </a:cubicBezTo>
                    <a:lnTo>
                      <a:pt x="9703" y="6"/>
                    </a:lnTo>
                    <a:cubicBezTo>
                      <a:pt x="9702" y="6"/>
                      <a:pt x="9701" y="5"/>
                      <a:pt x="9701" y="4"/>
                    </a:cubicBezTo>
                    <a:cubicBezTo>
                      <a:pt x="9701" y="3"/>
                      <a:pt x="9702" y="2"/>
                      <a:pt x="9703" y="2"/>
                    </a:cubicBezTo>
                    <a:close/>
                    <a:moveTo>
                      <a:pt x="9711" y="2"/>
                    </a:moveTo>
                    <a:lnTo>
                      <a:pt x="9711" y="2"/>
                    </a:lnTo>
                    <a:cubicBezTo>
                      <a:pt x="9712" y="2"/>
                      <a:pt x="9713" y="3"/>
                      <a:pt x="9713" y="4"/>
                    </a:cubicBezTo>
                    <a:cubicBezTo>
                      <a:pt x="9713" y="5"/>
                      <a:pt x="9712" y="6"/>
                      <a:pt x="9711" y="6"/>
                    </a:cubicBezTo>
                    <a:lnTo>
                      <a:pt x="9711" y="6"/>
                    </a:lnTo>
                    <a:cubicBezTo>
                      <a:pt x="9710" y="6"/>
                      <a:pt x="9709" y="5"/>
                      <a:pt x="9709" y="4"/>
                    </a:cubicBezTo>
                    <a:cubicBezTo>
                      <a:pt x="9709" y="3"/>
                      <a:pt x="9710" y="2"/>
                      <a:pt x="9711" y="2"/>
                    </a:cubicBezTo>
                    <a:close/>
                    <a:moveTo>
                      <a:pt x="9719" y="2"/>
                    </a:moveTo>
                    <a:lnTo>
                      <a:pt x="9719" y="2"/>
                    </a:lnTo>
                    <a:cubicBezTo>
                      <a:pt x="9720" y="2"/>
                      <a:pt x="9721" y="3"/>
                      <a:pt x="9721" y="4"/>
                    </a:cubicBezTo>
                    <a:cubicBezTo>
                      <a:pt x="9721" y="5"/>
                      <a:pt x="9720" y="6"/>
                      <a:pt x="9719" y="6"/>
                    </a:cubicBezTo>
                    <a:lnTo>
                      <a:pt x="9719" y="6"/>
                    </a:lnTo>
                    <a:cubicBezTo>
                      <a:pt x="9718" y="6"/>
                      <a:pt x="9717" y="5"/>
                      <a:pt x="9717" y="4"/>
                    </a:cubicBezTo>
                    <a:cubicBezTo>
                      <a:pt x="9717" y="3"/>
                      <a:pt x="9718" y="2"/>
                      <a:pt x="9719" y="2"/>
                    </a:cubicBezTo>
                    <a:close/>
                    <a:moveTo>
                      <a:pt x="9727" y="2"/>
                    </a:moveTo>
                    <a:lnTo>
                      <a:pt x="9727" y="2"/>
                    </a:lnTo>
                    <a:cubicBezTo>
                      <a:pt x="9728" y="2"/>
                      <a:pt x="9729" y="3"/>
                      <a:pt x="9729" y="4"/>
                    </a:cubicBezTo>
                    <a:cubicBezTo>
                      <a:pt x="9729" y="5"/>
                      <a:pt x="9728" y="6"/>
                      <a:pt x="9727" y="6"/>
                    </a:cubicBezTo>
                    <a:lnTo>
                      <a:pt x="9727" y="6"/>
                    </a:lnTo>
                    <a:cubicBezTo>
                      <a:pt x="9726" y="6"/>
                      <a:pt x="9725" y="5"/>
                      <a:pt x="9725" y="4"/>
                    </a:cubicBezTo>
                    <a:cubicBezTo>
                      <a:pt x="9725" y="3"/>
                      <a:pt x="9726" y="2"/>
                      <a:pt x="9727" y="2"/>
                    </a:cubicBezTo>
                    <a:close/>
                    <a:moveTo>
                      <a:pt x="9735" y="2"/>
                    </a:moveTo>
                    <a:lnTo>
                      <a:pt x="9735" y="2"/>
                    </a:lnTo>
                    <a:cubicBezTo>
                      <a:pt x="9736" y="2"/>
                      <a:pt x="9737" y="3"/>
                      <a:pt x="9737" y="4"/>
                    </a:cubicBezTo>
                    <a:cubicBezTo>
                      <a:pt x="9737" y="5"/>
                      <a:pt x="9736" y="6"/>
                      <a:pt x="9735" y="6"/>
                    </a:cubicBezTo>
                    <a:lnTo>
                      <a:pt x="9735" y="6"/>
                    </a:lnTo>
                    <a:cubicBezTo>
                      <a:pt x="9734" y="6"/>
                      <a:pt x="9733" y="5"/>
                      <a:pt x="9733" y="4"/>
                    </a:cubicBezTo>
                    <a:cubicBezTo>
                      <a:pt x="9733" y="3"/>
                      <a:pt x="9734" y="2"/>
                      <a:pt x="9735" y="2"/>
                    </a:cubicBezTo>
                    <a:close/>
                    <a:moveTo>
                      <a:pt x="9743" y="2"/>
                    </a:moveTo>
                    <a:lnTo>
                      <a:pt x="9743" y="2"/>
                    </a:lnTo>
                    <a:cubicBezTo>
                      <a:pt x="9744" y="2"/>
                      <a:pt x="9745" y="3"/>
                      <a:pt x="9745" y="4"/>
                    </a:cubicBezTo>
                    <a:cubicBezTo>
                      <a:pt x="9745" y="5"/>
                      <a:pt x="9744" y="6"/>
                      <a:pt x="9743" y="6"/>
                    </a:cubicBezTo>
                    <a:lnTo>
                      <a:pt x="9743" y="6"/>
                    </a:lnTo>
                    <a:cubicBezTo>
                      <a:pt x="9742" y="6"/>
                      <a:pt x="9741" y="5"/>
                      <a:pt x="9741" y="4"/>
                    </a:cubicBezTo>
                    <a:cubicBezTo>
                      <a:pt x="9741" y="3"/>
                      <a:pt x="9742" y="2"/>
                      <a:pt x="9743" y="2"/>
                    </a:cubicBezTo>
                    <a:close/>
                    <a:moveTo>
                      <a:pt x="9751" y="2"/>
                    </a:moveTo>
                    <a:lnTo>
                      <a:pt x="9751" y="2"/>
                    </a:lnTo>
                    <a:cubicBezTo>
                      <a:pt x="9752" y="2"/>
                      <a:pt x="9753" y="3"/>
                      <a:pt x="9753" y="4"/>
                    </a:cubicBezTo>
                    <a:cubicBezTo>
                      <a:pt x="9753" y="5"/>
                      <a:pt x="9752" y="6"/>
                      <a:pt x="9751" y="6"/>
                    </a:cubicBezTo>
                    <a:lnTo>
                      <a:pt x="9751" y="6"/>
                    </a:lnTo>
                    <a:cubicBezTo>
                      <a:pt x="9750" y="6"/>
                      <a:pt x="9749" y="5"/>
                      <a:pt x="9749" y="4"/>
                    </a:cubicBezTo>
                    <a:cubicBezTo>
                      <a:pt x="9749" y="3"/>
                      <a:pt x="9750" y="2"/>
                      <a:pt x="9751" y="2"/>
                    </a:cubicBezTo>
                    <a:close/>
                    <a:moveTo>
                      <a:pt x="9759" y="2"/>
                    </a:moveTo>
                    <a:lnTo>
                      <a:pt x="9759" y="2"/>
                    </a:lnTo>
                    <a:cubicBezTo>
                      <a:pt x="9760" y="2"/>
                      <a:pt x="9761" y="3"/>
                      <a:pt x="9761" y="4"/>
                    </a:cubicBezTo>
                    <a:cubicBezTo>
                      <a:pt x="9761" y="5"/>
                      <a:pt x="9760" y="6"/>
                      <a:pt x="9759" y="6"/>
                    </a:cubicBezTo>
                    <a:lnTo>
                      <a:pt x="9759" y="6"/>
                    </a:lnTo>
                    <a:cubicBezTo>
                      <a:pt x="9758" y="6"/>
                      <a:pt x="9757" y="5"/>
                      <a:pt x="9757" y="4"/>
                    </a:cubicBezTo>
                    <a:cubicBezTo>
                      <a:pt x="9757" y="3"/>
                      <a:pt x="9758" y="2"/>
                      <a:pt x="9759" y="2"/>
                    </a:cubicBezTo>
                    <a:close/>
                    <a:moveTo>
                      <a:pt x="9767" y="2"/>
                    </a:moveTo>
                    <a:lnTo>
                      <a:pt x="9767" y="2"/>
                    </a:lnTo>
                    <a:cubicBezTo>
                      <a:pt x="9768" y="2"/>
                      <a:pt x="9769" y="3"/>
                      <a:pt x="9769" y="4"/>
                    </a:cubicBezTo>
                    <a:cubicBezTo>
                      <a:pt x="9769" y="5"/>
                      <a:pt x="9768" y="6"/>
                      <a:pt x="9767" y="6"/>
                    </a:cubicBezTo>
                    <a:lnTo>
                      <a:pt x="9767" y="6"/>
                    </a:lnTo>
                    <a:cubicBezTo>
                      <a:pt x="9766" y="6"/>
                      <a:pt x="9765" y="5"/>
                      <a:pt x="9765" y="4"/>
                    </a:cubicBezTo>
                    <a:cubicBezTo>
                      <a:pt x="9765" y="3"/>
                      <a:pt x="9766" y="2"/>
                      <a:pt x="9767" y="2"/>
                    </a:cubicBezTo>
                    <a:close/>
                    <a:moveTo>
                      <a:pt x="9775" y="2"/>
                    </a:moveTo>
                    <a:lnTo>
                      <a:pt x="9775" y="2"/>
                    </a:lnTo>
                    <a:cubicBezTo>
                      <a:pt x="9776" y="2"/>
                      <a:pt x="9777" y="3"/>
                      <a:pt x="9777" y="4"/>
                    </a:cubicBezTo>
                    <a:cubicBezTo>
                      <a:pt x="9777" y="5"/>
                      <a:pt x="9776" y="6"/>
                      <a:pt x="9775" y="6"/>
                    </a:cubicBezTo>
                    <a:lnTo>
                      <a:pt x="9775" y="6"/>
                    </a:lnTo>
                    <a:cubicBezTo>
                      <a:pt x="9774" y="6"/>
                      <a:pt x="9773" y="5"/>
                      <a:pt x="9773" y="4"/>
                    </a:cubicBezTo>
                    <a:cubicBezTo>
                      <a:pt x="9773" y="3"/>
                      <a:pt x="9774" y="2"/>
                      <a:pt x="9775" y="2"/>
                    </a:cubicBezTo>
                    <a:close/>
                    <a:moveTo>
                      <a:pt x="9783" y="2"/>
                    </a:moveTo>
                    <a:lnTo>
                      <a:pt x="9783" y="2"/>
                    </a:lnTo>
                    <a:cubicBezTo>
                      <a:pt x="9784" y="2"/>
                      <a:pt x="9785" y="3"/>
                      <a:pt x="9785" y="4"/>
                    </a:cubicBezTo>
                    <a:cubicBezTo>
                      <a:pt x="9785" y="5"/>
                      <a:pt x="9784" y="6"/>
                      <a:pt x="9783" y="6"/>
                    </a:cubicBezTo>
                    <a:lnTo>
                      <a:pt x="9783" y="6"/>
                    </a:lnTo>
                    <a:cubicBezTo>
                      <a:pt x="9782" y="6"/>
                      <a:pt x="9781" y="5"/>
                      <a:pt x="9781" y="4"/>
                    </a:cubicBezTo>
                    <a:cubicBezTo>
                      <a:pt x="9781" y="3"/>
                      <a:pt x="9782" y="2"/>
                      <a:pt x="9783" y="2"/>
                    </a:cubicBezTo>
                    <a:close/>
                    <a:moveTo>
                      <a:pt x="9791" y="2"/>
                    </a:moveTo>
                    <a:lnTo>
                      <a:pt x="9791" y="2"/>
                    </a:lnTo>
                    <a:cubicBezTo>
                      <a:pt x="9792" y="2"/>
                      <a:pt x="9793" y="3"/>
                      <a:pt x="9793" y="4"/>
                    </a:cubicBezTo>
                    <a:cubicBezTo>
                      <a:pt x="9793" y="5"/>
                      <a:pt x="9792" y="6"/>
                      <a:pt x="9791" y="6"/>
                    </a:cubicBezTo>
                    <a:lnTo>
                      <a:pt x="9791" y="6"/>
                    </a:lnTo>
                    <a:cubicBezTo>
                      <a:pt x="9790" y="6"/>
                      <a:pt x="9789" y="5"/>
                      <a:pt x="9789" y="4"/>
                    </a:cubicBezTo>
                    <a:cubicBezTo>
                      <a:pt x="9789" y="3"/>
                      <a:pt x="9790" y="2"/>
                      <a:pt x="9791" y="2"/>
                    </a:cubicBezTo>
                    <a:close/>
                    <a:moveTo>
                      <a:pt x="9799" y="2"/>
                    </a:moveTo>
                    <a:lnTo>
                      <a:pt x="9799" y="2"/>
                    </a:lnTo>
                    <a:cubicBezTo>
                      <a:pt x="9800" y="2"/>
                      <a:pt x="9801" y="3"/>
                      <a:pt x="9801" y="4"/>
                    </a:cubicBezTo>
                    <a:cubicBezTo>
                      <a:pt x="9801" y="5"/>
                      <a:pt x="9800" y="6"/>
                      <a:pt x="9799" y="6"/>
                    </a:cubicBezTo>
                    <a:lnTo>
                      <a:pt x="9799" y="6"/>
                    </a:lnTo>
                    <a:cubicBezTo>
                      <a:pt x="9798" y="6"/>
                      <a:pt x="9797" y="5"/>
                      <a:pt x="9797" y="4"/>
                    </a:cubicBezTo>
                    <a:cubicBezTo>
                      <a:pt x="9797" y="3"/>
                      <a:pt x="9798" y="2"/>
                      <a:pt x="9799" y="2"/>
                    </a:cubicBezTo>
                    <a:close/>
                    <a:moveTo>
                      <a:pt x="9807" y="2"/>
                    </a:moveTo>
                    <a:lnTo>
                      <a:pt x="9807" y="2"/>
                    </a:lnTo>
                    <a:cubicBezTo>
                      <a:pt x="9808" y="2"/>
                      <a:pt x="9809" y="3"/>
                      <a:pt x="9809" y="4"/>
                    </a:cubicBezTo>
                    <a:cubicBezTo>
                      <a:pt x="9809" y="5"/>
                      <a:pt x="9808" y="6"/>
                      <a:pt x="9807" y="6"/>
                    </a:cubicBezTo>
                    <a:lnTo>
                      <a:pt x="9807" y="6"/>
                    </a:lnTo>
                    <a:cubicBezTo>
                      <a:pt x="9806" y="6"/>
                      <a:pt x="9805" y="5"/>
                      <a:pt x="9805" y="4"/>
                    </a:cubicBezTo>
                    <a:cubicBezTo>
                      <a:pt x="9805" y="3"/>
                      <a:pt x="9806" y="2"/>
                      <a:pt x="9807" y="2"/>
                    </a:cubicBezTo>
                    <a:close/>
                    <a:moveTo>
                      <a:pt x="9815" y="2"/>
                    </a:moveTo>
                    <a:lnTo>
                      <a:pt x="9815" y="2"/>
                    </a:lnTo>
                    <a:cubicBezTo>
                      <a:pt x="9816" y="2"/>
                      <a:pt x="9817" y="3"/>
                      <a:pt x="9817" y="4"/>
                    </a:cubicBezTo>
                    <a:cubicBezTo>
                      <a:pt x="9817" y="5"/>
                      <a:pt x="9816" y="6"/>
                      <a:pt x="9815" y="6"/>
                    </a:cubicBezTo>
                    <a:lnTo>
                      <a:pt x="9815" y="6"/>
                    </a:lnTo>
                    <a:cubicBezTo>
                      <a:pt x="9814" y="6"/>
                      <a:pt x="9813" y="5"/>
                      <a:pt x="9813" y="4"/>
                    </a:cubicBezTo>
                    <a:cubicBezTo>
                      <a:pt x="9813" y="3"/>
                      <a:pt x="9814" y="2"/>
                      <a:pt x="9815" y="2"/>
                    </a:cubicBezTo>
                    <a:close/>
                    <a:moveTo>
                      <a:pt x="9823" y="2"/>
                    </a:moveTo>
                    <a:lnTo>
                      <a:pt x="9823" y="2"/>
                    </a:lnTo>
                    <a:cubicBezTo>
                      <a:pt x="9824" y="2"/>
                      <a:pt x="9825" y="3"/>
                      <a:pt x="9825" y="4"/>
                    </a:cubicBezTo>
                    <a:cubicBezTo>
                      <a:pt x="9825" y="5"/>
                      <a:pt x="9824" y="6"/>
                      <a:pt x="9823" y="6"/>
                    </a:cubicBezTo>
                    <a:lnTo>
                      <a:pt x="9823" y="6"/>
                    </a:lnTo>
                    <a:cubicBezTo>
                      <a:pt x="9822" y="6"/>
                      <a:pt x="9821" y="5"/>
                      <a:pt x="9821" y="4"/>
                    </a:cubicBezTo>
                    <a:cubicBezTo>
                      <a:pt x="9821" y="3"/>
                      <a:pt x="9822" y="2"/>
                      <a:pt x="9823" y="2"/>
                    </a:cubicBezTo>
                    <a:close/>
                    <a:moveTo>
                      <a:pt x="9831" y="2"/>
                    </a:moveTo>
                    <a:lnTo>
                      <a:pt x="9831" y="2"/>
                    </a:lnTo>
                    <a:cubicBezTo>
                      <a:pt x="9832" y="2"/>
                      <a:pt x="9833" y="3"/>
                      <a:pt x="9833" y="4"/>
                    </a:cubicBezTo>
                    <a:cubicBezTo>
                      <a:pt x="9833" y="5"/>
                      <a:pt x="9832" y="6"/>
                      <a:pt x="9831" y="6"/>
                    </a:cubicBezTo>
                    <a:lnTo>
                      <a:pt x="9831" y="6"/>
                    </a:lnTo>
                    <a:cubicBezTo>
                      <a:pt x="9830" y="6"/>
                      <a:pt x="9829" y="5"/>
                      <a:pt x="9829" y="4"/>
                    </a:cubicBezTo>
                    <a:cubicBezTo>
                      <a:pt x="9829" y="3"/>
                      <a:pt x="9830" y="2"/>
                      <a:pt x="9831" y="2"/>
                    </a:cubicBezTo>
                    <a:close/>
                    <a:moveTo>
                      <a:pt x="9839" y="2"/>
                    </a:moveTo>
                    <a:lnTo>
                      <a:pt x="9839" y="2"/>
                    </a:lnTo>
                    <a:cubicBezTo>
                      <a:pt x="9840" y="2"/>
                      <a:pt x="9841" y="3"/>
                      <a:pt x="9841" y="4"/>
                    </a:cubicBezTo>
                    <a:cubicBezTo>
                      <a:pt x="9841" y="5"/>
                      <a:pt x="9840" y="6"/>
                      <a:pt x="9839" y="6"/>
                    </a:cubicBezTo>
                    <a:lnTo>
                      <a:pt x="9839" y="6"/>
                    </a:lnTo>
                    <a:cubicBezTo>
                      <a:pt x="9838" y="6"/>
                      <a:pt x="9837" y="5"/>
                      <a:pt x="9837" y="4"/>
                    </a:cubicBezTo>
                    <a:cubicBezTo>
                      <a:pt x="9837" y="3"/>
                      <a:pt x="9838" y="2"/>
                      <a:pt x="9839" y="2"/>
                    </a:cubicBezTo>
                    <a:close/>
                    <a:moveTo>
                      <a:pt x="9847" y="2"/>
                    </a:moveTo>
                    <a:lnTo>
                      <a:pt x="9847" y="2"/>
                    </a:lnTo>
                    <a:cubicBezTo>
                      <a:pt x="9848" y="2"/>
                      <a:pt x="9849" y="3"/>
                      <a:pt x="9849" y="4"/>
                    </a:cubicBezTo>
                    <a:cubicBezTo>
                      <a:pt x="9849" y="5"/>
                      <a:pt x="9848" y="6"/>
                      <a:pt x="9847" y="6"/>
                    </a:cubicBezTo>
                    <a:lnTo>
                      <a:pt x="9847" y="6"/>
                    </a:lnTo>
                    <a:cubicBezTo>
                      <a:pt x="9846" y="6"/>
                      <a:pt x="9845" y="5"/>
                      <a:pt x="9845" y="4"/>
                    </a:cubicBezTo>
                    <a:cubicBezTo>
                      <a:pt x="9845" y="3"/>
                      <a:pt x="9846" y="2"/>
                      <a:pt x="9847" y="2"/>
                    </a:cubicBezTo>
                    <a:close/>
                    <a:moveTo>
                      <a:pt x="9855" y="2"/>
                    </a:moveTo>
                    <a:lnTo>
                      <a:pt x="9855" y="2"/>
                    </a:lnTo>
                    <a:cubicBezTo>
                      <a:pt x="9856" y="2"/>
                      <a:pt x="9857" y="3"/>
                      <a:pt x="9857" y="4"/>
                    </a:cubicBezTo>
                    <a:cubicBezTo>
                      <a:pt x="9857" y="5"/>
                      <a:pt x="9856" y="6"/>
                      <a:pt x="9855" y="6"/>
                    </a:cubicBezTo>
                    <a:lnTo>
                      <a:pt x="9855" y="6"/>
                    </a:lnTo>
                    <a:cubicBezTo>
                      <a:pt x="9854" y="6"/>
                      <a:pt x="9853" y="5"/>
                      <a:pt x="9853" y="4"/>
                    </a:cubicBezTo>
                    <a:cubicBezTo>
                      <a:pt x="9853" y="3"/>
                      <a:pt x="9854" y="2"/>
                      <a:pt x="9855" y="2"/>
                    </a:cubicBezTo>
                    <a:close/>
                    <a:moveTo>
                      <a:pt x="9863" y="2"/>
                    </a:moveTo>
                    <a:lnTo>
                      <a:pt x="9863" y="2"/>
                    </a:lnTo>
                    <a:cubicBezTo>
                      <a:pt x="9864" y="2"/>
                      <a:pt x="9865" y="3"/>
                      <a:pt x="9865" y="4"/>
                    </a:cubicBezTo>
                    <a:cubicBezTo>
                      <a:pt x="9865" y="5"/>
                      <a:pt x="9864" y="6"/>
                      <a:pt x="9863" y="6"/>
                    </a:cubicBezTo>
                    <a:lnTo>
                      <a:pt x="9863" y="6"/>
                    </a:lnTo>
                    <a:cubicBezTo>
                      <a:pt x="9862" y="6"/>
                      <a:pt x="9861" y="5"/>
                      <a:pt x="9861" y="4"/>
                    </a:cubicBezTo>
                    <a:cubicBezTo>
                      <a:pt x="9861" y="3"/>
                      <a:pt x="9862" y="2"/>
                      <a:pt x="9863" y="2"/>
                    </a:cubicBezTo>
                    <a:close/>
                    <a:moveTo>
                      <a:pt x="9871" y="2"/>
                    </a:moveTo>
                    <a:lnTo>
                      <a:pt x="9871" y="2"/>
                    </a:lnTo>
                    <a:cubicBezTo>
                      <a:pt x="9872" y="2"/>
                      <a:pt x="9873" y="3"/>
                      <a:pt x="9873" y="4"/>
                    </a:cubicBezTo>
                    <a:cubicBezTo>
                      <a:pt x="9873" y="5"/>
                      <a:pt x="9872" y="6"/>
                      <a:pt x="9871" y="6"/>
                    </a:cubicBezTo>
                    <a:lnTo>
                      <a:pt x="9871" y="6"/>
                    </a:lnTo>
                    <a:cubicBezTo>
                      <a:pt x="9870" y="6"/>
                      <a:pt x="9869" y="5"/>
                      <a:pt x="9869" y="4"/>
                    </a:cubicBezTo>
                    <a:cubicBezTo>
                      <a:pt x="9869" y="3"/>
                      <a:pt x="9870" y="2"/>
                      <a:pt x="9871" y="2"/>
                    </a:cubicBezTo>
                    <a:close/>
                    <a:moveTo>
                      <a:pt x="9879" y="2"/>
                    </a:moveTo>
                    <a:lnTo>
                      <a:pt x="9879" y="2"/>
                    </a:lnTo>
                    <a:cubicBezTo>
                      <a:pt x="9880" y="2"/>
                      <a:pt x="9881" y="3"/>
                      <a:pt x="9881" y="4"/>
                    </a:cubicBezTo>
                    <a:cubicBezTo>
                      <a:pt x="9881" y="5"/>
                      <a:pt x="9880" y="6"/>
                      <a:pt x="9879" y="6"/>
                    </a:cubicBezTo>
                    <a:lnTo>
                      <a:pt x="9879" y="6"/>
                    </a:lnTo>
                    <a:cubicBezTo>
                      <a:pt x="9878" y="6"/>
                      <a:pt x="9877" y="5"/>
                      <a:pt x="9877" y="4"/>
                    </a:cubicBezTo>
                    <a:cubicBezTo>
                      <a:pt x="9877" y="3"/>
                      <a:pt x="9878" y="2"/>
                      <a:pt x="9879" y="2"/>
                    </a:cubicBezTo>
                    <a:close/>
                    <a:moveTo>
                      <a:pt x="9887" y="2"/>
                    </a:moveTo>
                    <a:lnTo>
                      <a:pt x="9887" y="2"/>
                    </a:lnTo>
                    <a:cubicBezTo>
                      <a:pt x="9888" y="2"/>
                      <a:pt x="9889" y="3"/>
                      <a:pt x="9889" y="4"/>
                    </a:cubicBezTo>
                    <a:cubicBezTo>
                      <a:pt x="9889" y="5"/>
                      <a:pt x="9888" y="6"/>
                      <a:pt x="9887" y="6"/>
                    </a:cubicBezTo>
                    <a:lnTo>
                      <a:pt x="9887" y="6"/>
                    </a:lnTo>
                    <a:cubicBezTo>
                      <a:pt x="9886" y="6"/>
                      <a:pt x="9885" y="5"/>
                      <a:pt x="9885" y="4"/>
                    </a:cubicBezTo>
                    <a:cubicBezTo>
                      <a:pt x="9885" y="3"/>
                      <a:pt x="9886" y="2"/>
                      <a:pt x="9887" y="2"/>
                    </a:cubicBezTo>
                    <a:close/>
                    <a:moveTo>
                      <a:pt x="9895" y="2"/>
                    </a:moveTo>
                    <a:lnTo>
                      <a:pt x="9895" y="2"/>
                    </a:lnTo>
                    <a:cubicBezTo>
                      <a:pt x="9896" y="2"/>
                      <a:pt x="9897" y="3"/>
                      <a:pt x="9897" y="4"/>
                    </a:cubicBezTo>
                    <a:cubicBezTo>
                      <a:pt x="9897" y="5"/>
                      <a:pt x="9896" y="6"/>
                      <a:pt x="9895" y="6"/>
                    </a:cubicBezTo>
                    <a:lnTo>
                      <a:pt x="9895" y="6"/>
                    </a:lnTo>
                    <a:cubicBezTo>
                      <a:pt x="9894" y="6"/>
                      <a:pt x="9893" y="5"/>
                      <a:pt x="9893" y="4"/>
                    </a:cubicBezTo>
                    <a:cubicBezTo>
                      <a:pt x="9893" y="3"/>
                      <a:pt x="9894" y="2"/>
                      <a:pt x="9895" y="2"/>
                    </a:cubicBezTo>
                    <a:close/>
                    <a:moveTo>
                      <a:pt x="9903" y="2"/>
                    </a:moveTo>
                    <a:lnTo>
                      <a:pt x="9903" y="2"/>
                    </a:lnTo>
                    <a:cubicBezTo>
                      <a:pt x="9904" y="2"/>
                      <a:pt x="9905" y="3"/>
                      <a:pt x="9905" y="4"/>
                    </a:cubicBezTo>
                    <a:cubicBezTo>
                      <a:pt x="9905" y="5"/>
                      <a:pt x="9904" y="6"/>
                      <a:pt x="9903" y="6"/>
                    </a:cubicBezTo>
                    <a:lnTo>
                      <a:pt x="9903" y="6"/>
                    </a:lnTo>
                    <a:cubicBezTo>
                      <a:pt x="9902" y="6"/>
                      <a:pt x="9901" y="5"/>
                      <a:pt x="9901" y="4"/>
                    </a:cubicBezTo>
                    <a:cubicBezTo>
                      <a:pt x="9901" y="3"/>
                      <a:pt x="9902" y="2"/>
                      <a:pt x="9903" y="2"/>
                    </a:cubicBezTo>
                    <a:close/>
                    <a:moveTo>
                      <a:pt x="9911" y="2"/>
                    </a:moveTo>
                    <a:lnTo>
                      <a:pt x="9911" y="2"/>
                    </a:lnTo>
                    <a:cubicBezTo>
                      <a:pt x="9912" y="2"/>
                      <a:pt x="9913" y="3"/>
                      <a:pt x="9913" y="4"/>
                    </a:cubicBezTo>
                    <a:cubicBezTo>
                      <a:pt x="9913" y="5"/>
                      <a:pt x="9912" y="6"/>
                      <a:pt x="9911" y="6"/>
                    </a:cubicBezTo>
                    <a:lnTo>
                      <a:pt x="9911" y="6"/>
                    </a:lnTo>
                    <a:cubicBezTo>
                      <a:pt x="9910" y="6"/>
                      <a:pt x="9909" y="5"/>
                      <a:pt x="9909" y="4"/>
                    </a:cubicBezTo>
                    <a:cubicBezTo>
                      <a:pt x="9909" y="3"/>
                      <a:pt x="9910" y="2"/>
                      <a:pt x="9911" y="2"/>
                    </a:cubicBezTo>
                    <a:close/>
                    <a:moveTo>
                      <a:pt x="9919" y="2"/>
                    </a:moveTo>
                    <a:lnTo>
                      <a:pt x="9919" y="2"/>
                    </a:lnTo>
                    <a:cubicBezTo>
                      <a:pt x="9920" y="2"/>
                      <a:pt x="9921" y="3"/>
                      <a:pt x="9921" y="4"/>
                    </a:cubicBezTo>
                    <a:cubicBezTo>
                      <a:pt x="9921" y="5"/>
                      <a:pt x="9920" y="6"/>
                      <a:pt x="9919" y="6"/>
                    </a:cubicBezTo>
                    <a:lnTo>
                      <a:pt x="9919" y="6"/>
                    </a:lnTo>
                    <a:cubicBezTo>
                      <a:pt x="9918" y="6"/>
                      <a:pt x="9917" y="5"/>
                      <a:pt x="9917" y="4"/>
                    </a:cubicBezTo>
                    <a:cubicBezTo>
                      <a:pt x="9917" y="3"/>
                      <a:pt x="9918" y="2"/>
                      <a:pt x="9919" y="2"/>
                    </a:cubicBezTo>
                    <a:close/>
                    <a:moveTo>
                      <a:pt x="9927" y="2"/>
                    </a:moveTo>
                    <a:lnTo>
                      <a:pt x="9927" y="2"/>
                    </a:lnTo>
                    <a:cubicBezTo>
                      <a:pt x="9928" y="2"/>
                      <a:pt x="9929" y="3"/>
                      <a:pt x="9929" y="4"/>
                    </a:cubicBezTo>
                    <a:cubicBezTo>
                      <a:pt x="9929" y="5"/>
                      <a:pt x="9928" y="6"/>
                      <a:pt x="9927" y="6"/>
                    </a:cubicBezTo>
                    <a:lnTo>
                      <a:pt x="9927" y="6"/>
                    </a:lnTo>
                    <a:cubicBezTo>
                      <a:pt x="9926" y="6"/>
                      <a:pt x="9925" y="5"/>
                      <a:pt x="9925" y="4"/>
                    </a:cubicBezTo>
                    <a:cubicBezTo>
                      <a:pt x="9925" y="3"/>
                      <a:pt x="9926" y="2"/>
                      <a:pt x="9927" y="2"/>
                    </a:cubicBezTo>
                    <a:close/>
                    <a:moveTo>
                      <a:pt x="9935" y="2"/>
                    </a:moveTo>
                    <a:lnTo>
                      <a:pt x="9935" y="2"/>
                    </a:lnTo>
                    <a:cubicBezTo>
                      <a:pt x="9936" y="2"/>
                      <a:pt x="9937" y="3"/>
                      <a:pt x="9937" y="4"/>
                    </a:cubicBezTo>
                    <a:cubicBezTo>
                      <a:pt x="9937" y="5"/>
                      <a:pt x="9936" y="6"/>
                      <a:pt x="9935" y="6"/>
                    </a:cubicBezTo>
                    <a:lnTo>
                      <a:pt x="9935" y="6"/>
                    </a:lnTo>
                    <a:cubicBezTo>
                      <a:pt x="9934" y="6"/>
                      <a:pt x="9933" y="5"/>
                      <a:pt x="9933" y="4"/>
                    </a:cubicBezTo>
                    <a:cubicBezTo>
                      <a:pt x="9933" y="3"/>
                      <a:pt x="9934" y="2"/>
                      <a:pt x="9935" y="2"/>
                    </a:cubicBezTo>
                    <a:close/>
                    <a:moveTo>
                      <a:pt x="9943" y="2"/>
                    </a:moveTo>
                    <a:lnTo>
                      <a:pt x="9943" y="2"/>
                    </a:lnTo>
                    <a:cubicBezTo>
                      <a:pt x="9944" y="2"/>
                      <a:pt x="9945" y="3"/>
                      <a:pt x="9945" y="4"/>
                    </a:cubicBezTo>
                    <a:cubicBezTo>
                      <a:pt x="9945" y="5"/>
                      <a:pt x="9944" y="6"/>
                      <a:pt x="9943" y="6"/>
                    </a:cubicBezTo>
                    <a:lnTo>
                      <a:pt x="9943" y="6"/>
                    </a:lnTo>
                    <a:cubicBezTo>
                      <a:pt x="9942" y="6"/>
                      <a:pt x="9941" y="5"/>
                      <a:pt x="9941" y="4"/>
                    </a:cubicBezTo>
                    <a:cubicBezTo>
                      <a:pt x="9941" y="3"/>
                      <a:pt x="9942" y="2"/>
                      <a:pt x="9943" y="2"/>
                    </a:cubicBezTo>
                    <a:close/>
                    <a:moveTo>
                      <a:pt x="9951" y="2"/>
                    </a:moveTo>
                    <a:lnTo>
                      <a:pt x="9951" y="2"/>
                    </a:lnTo>
                    <a:cubicBezTo>
                      <a:pt x="9952" y="2"/>
                      <a:pt x="9953" y="3"/>
                      <a:pt x="9953" y="4"/>
                    </a:cubicBezTo>
                    <a:cubicBezTo>
                      <a:pt x="9953" y="5"/>
                      <a:pt x="9952" y="6"/>
                      <a:pt x="9951" y="6"/>
                    </a:cubicBezTo>
                    <a:lnTo>
                      <a:pt x="9951" y="6"/>
                    </a:lnTo>
                    <a:cubicBezTo>
                      <a:pt x="9950" y="6"/>
                      <a:pt x="9949" y="5"/>
                      <a:pt x="9949" y="4"/>
                    </a:cubicBezTo>
                    <a:cubicBezTo>
                      <a:pt x="9949" y="3"/>
                      <a:pt x="9950" y="2"/>
                      <a:pt x="9951" y="2"/>
                    </a:cubicBezTo>
                    <a:close/>
                    <a:moveTo>
                      <a:pt x="9959" y="2"/>
                    </a:moveTo>
                    <a:lnTo>
                      <a:pt x="9959" y="2"/>
                    </a:lnTo>
                    <a:cubicBezTo>
                      <a:pt x="9960" y="2"/>
                      <a:pt x="9961" y="3"/>
                      <a:pt x="9961" y="4"/>
                    </a:cubicBezTo>
                    <a:cubicBezTo>
                      <a:pt x="9961" y="5"/>
                      <a:pt x="9960" y="6"/>
                      <a:pt x="9959" y="6"/>
                    </a:cubicBezTo>
                    <a:lnTo>
                      <a:pt x="9959" y="6"/>
                    </a:lnTo>
                    <a:cubicBezTo>
                      <a:pt x="9958" y="6"/>
                      <a:pt x="9957" y="5"/>
                      <a:pt x="9957" y="4"/>
                    </a:cubicBezTo>
                    <a:cubicBezTo>
                      <a:pt x="9957" y="3"/>
                      <a:pt x="9958" y="2"/>
                      <a:pt x="9959" y="2"/>
                    </a:cubicBezTo>
                    <a:close/>
                    <a:moveTo>
                      <a:pt x="9967" y="2"/>
                    </a:moveTo>
                    <a:lnTo>
                      <a:pt x="9967" y="2"/>
                    </a:lnTo>
                    <a:cubicBezTo>
                      <a:pt x="9968" y="2"/>
                      <a:pt x="9969" y="3"/>
                      <a:pt x="9969" y="4"/>
                    </a:cubicBezTo>
                    <a:cubicBezTo>
                      <a:pt x="9969" y="5"/>
                      <a:pt x="9968" y="6"/>
                      <a:pt x="9967" y="6"/>
                    </a:cubicBezTo>
                    <a:lnTo>
                      <a:pt x="9967" y="6"/>
                    </a:lnTo>
                    <a:cubicBezTo>
                      <a:pt x="9966" y="6"/>
                      <a:pt x="9965" y="5"/>
                      <a:pt x="9965" y="4"/>
                    </a:cubicBezTo>
                    <a:cubicBezTo>
                      <a:pt x="9965" y="3"/>
                      <a:pt x="9966" y="2"/>
                      <a:pt x="9967" y="2"/>
                    </a:cubicBezTo>
                    <a:close/>
                    <a:moveTo>
                      <a:pt x="9975" y="2"/>
                    </a:moveTo>
                    <a:lnTo>
                      <a:pt x="9975" y="2"/>
                    </a:lnTo>
                    <a:cubicBezTo>
                      <a:pt x="9976" y="2"/>
                      <a:pt x="9977" y="3"/>
                      <a:pt x="9977" y="4"/>
                    </a:cubicBezTo>
                    <a:cubicBezTo>
                      <a:pt x="9977" y="5"/>
                      <a:pt x="9976" y="6"/>
                      <a:pt x="9975" y="6"/>
                    </a:cubicBezTo>
                    <a:lnTo>
                      <a:pt x="9975" y="6"/>
                    </a:lnTo>
                    <a:cubicBezTo>
                      <a:pt x="9974" y="6"/>
                      <a:pt x="9973" y="5"/>
                      <a:pt x="9973" y="4"/>
                    </a:cubicBezTo>
                    <a:cubicBezTo>
                      <a:pt x="9973" y="3"/>
                      <a:pt x="9974" y="2"/>
                      <a:pt x="9975" y="2"/>
                    </a:cubicBezTo>
                    <a:close/>
                    <a:moveTo>
                      <a:pt x="9983" y="2"/>
                    </a:moveTo>
                    <a:lnTo>
                      <a:pt x="9983" y="2"/>
                    </a:lnTo>
                    <a:cubicBezTo>
                      <a:pt x="9984" y="2"/>
                      <a:pt x="9985" y="3"/>
                      <a:pt x="9985" y="4"/>
                    </a:cubicBezTo>
                    <a:cubicBezTo>
                      <a:pt x="9985" y="5"/>
                      <a:pt x="9984" y="6"/>
                      <a:pt x="9983" y="6"/>
                    </a:cubicBezTo>
                    <a:lnTo>
                      <a:pt x="9983" y="6"/>
                    </a:lnTo>
                    <a:cubicBezTo>
                      <a:pt x="9982" y="6"/>
                      <a:pt x="9981" y="5"/>
                      <a:pt x="9981" y="4"/>
                    </a:cubicBezTo>
                    <a:cubicBezTo>
                      <a:pt x="9981" y="3"/>
                      <a:pt x="9982" y="2"/>
                      <a:pt x="9983" y="2"/>
                    </a:cubicBezTo>
                    <a:close/>
                    <a:moveTo>
                      <a:pt x="9991" y="2"/>
                    </a:moveTo>
                    <a:lnTo>
                      <a:pt x="9991" y="2"/>
                    </a:lnTo>
                    <a:cubicBezTo>
                      <a:pt x="9992" y="2"/>
                      <a:pt x="9993" y="3"/>
                      <a:pt x="9993" y="4"/>
                    </a:cubicBezTo>
                    <a:cubicBezTo>
                      <a:pt x="9993" y="5"/>
                      <a:pt x="9992" y="6"/>
                      <a:pt x="9991" y="6"/>
                    </a:cubicBezTo>
                    <a:lnTo>
                      <a:pt x="9991" y="6"/>
                    </a:lnTo>
                    <a:cubicBezTo>
                      <a:pt x="9990" y="6"/>
                      <a:pt x="9989" y="5"/>
                      <a:pt x="9989" y="4"/>
                    </a:cubicBezTo>
                    <a:cubicBezTo>
                      <a:pt x="9989" y="3"/>
                      <a:pt x="9990" y="2"/>
                      <a:pt x="9991" y="2"/>
                    </a:cubicBezTo>
                    <a:close/>
                    <a:moveTo>
                      <a:pt x="9999" y="2"/>
                    </a:moveTo>
                    <a:lnTo>
                      <a:pt x="9999" y="2"/>
                    </a:lnTo>
                    <a:cubicBezTo>
                      <a:pt x="10000" y="2"/>
                      <a:pt x="10001" y="3"/>
                      <a:pt x="10001" y="4"/>
                    </a:cubicBezTo>
                    <a:cubicBezTo>
                      <a:pt x="10001" y="5"/>
                      <a:pt x="10000" y="6"/>
                      <a:pt x="9999" y="6"/>
                    </a:cubicBezTo>
                    <a:lnTo>
                      <a:pt x="9999" y="6"/>
                    </a:lnTo>
                    <a:cubicBezTo>
                      <a:pt x="9998" y="6"/>
                      <a:pt x="9997" y="5"/>
                      <a:pt x="9997" y="4"/>
                    </a:cubicBezTo>
                    <a:cubicBezTo>
                      <a:pt x="9997" y="3"/>
                      <a:pt x="9998" y="2"/>
                      <a:pt x="9999" y="2"/>
                    </a:cubicBezTo>
                    <a:close/>
                    <a:moveTo>
                      <a:pt x="10007" y="2"/>
                    </a:moveTo>
                    <a:lnTo>
                      <a:pt x="10007" y="2"/>
                    </a:lnTo>
                    <a:cubicBezTo>
                      <a:pt x="10008" y="2"/>
                      <a:pt x="10009" y="3"/>
                      <a:pt x="10009" y="4"/>
                    </a:cubicBezTo>
                    <a:cubicBezTo>
                      <a:pt x="10009" y="5"/>
                      <a:pt x="10008" y="6"/>
                      <a:pt x="10007" y="6"/>
                    </a:cubicBezTo>
                    <a:lnTo>
                      <a:pt x="10007" y="6"/>
                    </a:lnTo>
                    <a:cubicBezTo>
                      <a:pt x="10006" y="6"/>
                      <a:pt x="10005" y="5"/>
                      <a:pt x="10005" y="4"/>
                    </a:cubicBezTo>
                    <a:cubicBezTo>
                      <a:pt x="10005" y="3"/>
                      <a:pt x="10006" y="2"/>
                      <a:pt x="10007" y="2"/>
                    </a:cubicBezTo>
                    <a:close/>
                    <a:moveTo>
                      <a:pt x="10015" y="2"/>
                    </a:moveTo>
                    <a:lnTo>
                      <a:pt x="10015" y="2"/>
                    </a:lnTo>
                    <a:cubicBezTo>
                      <a:pt x="10016" y="2"/>
                      <a:pt x="10017" y="3"/>
                      <a:pt x="10017" y="4"/>
                    </a:cubicBezTo>
                    <a:cubicBezTo>
                      <a:pt x="10017" y="5"/>
                      <a:pt x="10016" y="6"/>
                      <a:pt x="10015" y="6"/>
                    </a:cubicBezTo>
                    <a:lnTo>
                      <a:pt x="10015" y="6"/>
                    </a:lnTo>
                    <a:cubicBezTo>
                      <a:pt x="10014" y="6"/>
                      <a:pt x="10013" y="5"/>
                      <a:pt x="10013" y="4"/>
                    </a:cubicBezTo>
                    <a:cubicBezTo>
                      <a:pt x="10013" y="3"/>
                      <a:pt x="10014" y="2"/>
                      <a:pt x="10015" y="2"/>
                    </a:cubicBezTo>
                    <a:close/>
                    <a:moveTo>
                      <a:pt x="10023" y="2"/>
                    </a:moveTo>
                    <a:lnTo>
                      <a:pt x="10023" y="2"/>
                    </a:lnTo>
                    <a:cubicBezTo>
                      <a:pt x="10024" y="2"/>
                      <a:pt x="10025" y="3"/>
                      <a:pt x="10025" y="4"/>
                    </a:cubicBezTo>
                    <a:cubicBezTo>
                      <a:pt x="10025" y="5"/>
                      <a:pt x="10024" y="6"/>
                      <a:pt x="10023" y="6"/>
                    </a:cubicBezTo>
                    <a:lnTo>
                      <a:pt x="10023" y="6"/>
                    </a:lnTo>
                    <a:cubicBezTo>
                      <a:pt x="10022" y="6"/>
                      <a:pt x="10021" y="5"/>
                      <a:pt x="10021" y="4"/>
                    </a:cubicBezTo>
                    <a:cubicBezTo>
                      <a:pt x="10021" y="3"/>
                      <a:pt x="10022" y="2"/>
                      <a:pt x="10023" y="2"/>
                    </a:cubicBezTo>
                    <a:close/>
                    <a:moveTo>
                      <a:pt x="10031" y="2"/>
                    </a:moveTo>
                    <a:lnTo>
                      <a:pt x="10031" y="2"/>
                    </a:lnTo>
                    <a:cubicBezTo>
                      <a:pt x="10032" y="2"/>
                      <a:pt x="10033" y="3"/>
                      <a:pt x="10033" y="4"/>
                    </a:cubicBezTo>
                    <a:cubicBezTo>
                      <a:pt x="10033" y="5"/>
                      <a:pt x="10032" y="6"/>
                      <a:pt x="10031" y="6"/>
                    </a:cubicBezTo>
                    <a:lnTo>
                      <a:pt x="10031" y="6"/>
                    </a:lnTo>
                    <a:cubicBezTo>
                      <a:pt x="10030" y="6"/>
                      <a:pt x="10029" y="5"/>
                      <a:pt x="10029" y="4"/>
                    </a:cubicBezTo>
                    <a:cubicBezTo>
                      <a:pt x="10029" y="3"/>
                      <a:pt x="10030" y="2"/>
                      <a:pt x="10031" y="2"/>
                    </a:cubicBezTo>
                    <a:close/>
                    <a:moveTo>
                      <a:pt x="10039" y="2"/>
                    </a:moveTo>
                    <a:lnTo>
                      <a:pt x="10039" y="2"/>
                    </a:lnTo>
                    <a:cubicBezTo>
                      <a:pt x="10040" y="2"/>
                      <a:pt x="10041" y="3"/>
                      <a:pt x="10041" y="4"/>
                    </a:cubicBezTo>
                    <a:cubicBezTo>
                      <a:pt x="10041" y="5"/>
                      <a:pt x="10040" y="6"/>
                      <a:pt x="10039" y="6"/>
                    </a:cubicBezTo>
                    <a:lnTo>
                      <a:pt x="10039" y="6"/>
                    </a:lnTo>
                    <a:cubicBezTo>
                      <a:pt x="10038" y="6"/>
                      <a:pt x="10037" y="5"/>
                      <a:pt x="10037" y="4"/>
                    </a:cubicBezTo>
                    <a:cubicBezTo>
                      <a:pt x="10037" y="3"/>
                      <a:pt x="10038" y="2"/>
                      <a:pt x="10039" y="2"/>
                    </a:cubicBezTo>
                    <a:close/>
                    <a:moveTo>
                      <a:pt x="10047" y="2"/>
                    </a:moveTo>
                    <a:lnTo>
                      <a:pt x="10047" y="2"/>
                    </a:lnTo>
                    <a:cubicBezTo>
                      <a:pt x="10048" y="2"/>
                      <a:pt x="10049" y="3"/>
                      <a:pt x="10049" y="4"/>
                    </a:cubicBezTo>
                    <a:cubicBezTo>
                      <a:pt x="10049" y="5"/>
                      <a:pt x="10048" y="6"/>
                      <a:pt x="10047" y="6"/>
                    </a:cubicBezTo>
                    <a:lnTo>
                      <a:pt x="10047" y="6"/>
                    </a:lnTo>
                    <a:cubicBezTo>
                      <a:pt x="10046" y="6"/>
                      <a:pt x="10045" y="5"/>
                      <a:pt x="10045" y="4"/>
                    </a:cubicBezTo>
                    <a:cubicBezTo>
                      <a:pt x="10045" y="3"/>
                      <a:pt x="10046" y="2"/>
                      <a:pt x="10047" y="2"/>
                    </a:cubicBezTo>
                    <a:close/>
                    <a:moveTo>
                      <a:pt x="10055" y="2"/>
                    </a:moveTo>
                    <a:lnTo>
                      <a:pt x="10055" y="2"/>
                    </a:lnTo>
                    <a:cubicBezTo>
                      <a:pt x="10056" y="2"/>
                      <a:pt x="10057" y="3"/>
                      <a:pt x="10057" y="4"/>
                    </a:cubicBezTo>
                    <a:cubicBezTo>
                      <a:pt x="10057" y="5"/>
                      <a:pt x="10056" y="6"/>
                      <a:pt x="10055" y="6"/>
                    </a:cubicBezTo>
                    <a:lnTo>
                      <a:pt x="10055" y="6"/>
                    </a:lnTo>
                    <a:cubicBezTo>
                      <a:pt x="10054" y="6"/>
                      <a:pt x="10053" y="5"/>
                      <a:pt x="10053" y="4"/>
                    </a:cubicBezTo>
                    <a:cubicBezTo>
                      <a:pt x="10053" y="3"/>
                      <a:pt x="10054" y="2"/>
                      <a:pt x="10055" y="2"/>
                    </a:cubicBezTo>
                    <a:close/>
                    <a:moveTo>
                      <a:pt x="10063" y="2"/>
                    </a:moveTo>
                    <a:lnTo>
                      <a:pt x="10063" y="2"/>
                    </a:lnTo>
                    <a:cubicBezTo>
                      <a:pt x="10064" y="2"/>
                      <a:pt x="10065" y="3"/>
                      <a:pt x="10065" y="4"/>
                    </a:cubicBezTo>
                    <a:cubicBezTo>
                      <a:pt x="10065" y="5"/>
                      <a:pt x="10064" y="6"/>
                      <a:pt x="10063" y="6"/>
                    </a:cubicBezTo>
                    <a:lnTo>
                      <a:pt x="10063" y="6"/>
                    </a:lnTo>
                    <a:cubicBezTo>
                      <a:pt x="10062" y="6"/>
                      <a:pt x="10061" y="5"/>
                      <a:pt x="10061" y="4"/>
                    </a:cubicBezTo>
                    <a:cubicBezTo>
                      <a:pt x="10061" y="3"/>
                      <a:pt x="10062" y="2"/>
                      <a:pt x="10063" y="2"/>
                    </a:cubicBezTo>
                    <a:close/>
                    <a:moveTo>
                      <a:pt x="10071" y="2"/>
                    </a:moveTo>
                    <a:lnTo>
                      <a:pt x="10071" y="2"/>
                    </a:lnTo>
                    <a:cubicBezTo>
                      <a:pt x="10072" y="2"/>
                      <a:pt x="10073" y="3"/>
                      <a:pt x="10073" y="4"/>
                    </a:cubicBezTo>
                    <a:cubicBezTo>
                      <a:pt x="10073" y="5"/>
                      <a:pt x="10072" y="6"/>
                      <a:pt x="10071" y="6"/>
                    </a:cubicBezTo>
                    <a:lnTo>
                      <a:pt x="10071" y="6"/>
                    </a:lnTo>
                    <a:cubicBezTo>
                      <a:pt x="10070" y="6"/>
                      <a:pt x="10069" y="5"/>
                      <a:pt x="10069" y="4"/>
                    </a:cubicBezTo>
                    <a:cubicBezTo>
                      <a:pt x="10069" y="3"/>
                      <a:pt x="10070" y="2"/>
                      <a:pt x="10071" y="2"/>
                    </a:cubicBezTo>
                    <a:close/>
                    <a:moveTo>
                      <a:pt x="10079" y="2"/>
                    </a:moveTo>
                    <a:lnTo>
                      <a:pt x="10079" y="2"/>
                    </a:lnTo>
                    <a:cubicBezTo>
                      <a:pt x="10080" y="2"/>
                      <a:pt x="10081" y="3"/>
                      <a:pt x="10081" y="4"/>
                    </a:cubicBezTo>
                    <a:cubicBezTo>
                      <a:pt x="10081" y="5"/>
                      <a:pt x="10080" y="6"/>
                      <a:pt x="10079" y="6"/>
                    </a:cubicBezTo>
                    <a:lnTo>
                      <a:pt x="10079" y="6"/>
                    </a:lnTo>
                    <a:cubicBezTo>
                      <a:pt x="10078" y="6"/>
                      <a:pt x="10077" y="5"/>
                      <a:pt x="10077" y="4"/>
                    </a:cubicBezTo>
                    <a:cubicBezTo>
                      <a:pt x="10077" y="3"/>
                      <a:pt x="10078" y="2"/>
                      <a:pt x="10079" y="2"/>
                    </a:cubicBezTo>
                    <a:close/>
                    <a:moveTo>
                      <a:pt x="10087" y="2"/>
                    </a:moveTo>
                    <a:lnTo>
                      <a:pt x="10087" y="2"/>
                    </a:lnTo>
                    <a:cubicBezTo>
                      <a:pt x="10088" y="2"/>
                      <a:pt x="10089" y="3"/>
                      <a:pt x="10089" y="4"/>
                    </a:cubicBezTo>
                    <a:cubicBezTo>
                      <a:pt x="10089" y="5"/>
                      <a:pt x="10088" y="6"/>
                      <a:pt x="10087" y="6"/>
                    </a:cubicBezTo>
                    <a:lnTo>
                      <a:pt x="10087" y="6"/>
                    </a:lnTo>
                    <a:cubicBezTo>
                      <a:pt x="10086" y="6"/>
                      <a:pt x="10085" y="5"/>
                      <a:pt x="10085" y="4"/>
                    </a:cubicBezTo>
                    <a:cubicBezTo>
                      <a:pt x="10085" y="3"/>
                      <a:pt x="10086" y="2"/>
                      <a:pt x="10087" y="2"/>
                    </a:cubicBezTo>
                    <a:close/>
                    <a:moveTo>
                      <a:pt x="10095" y="2"/>
                    </a:moveTo>
                    <a:lnTo>
                      <a:pt x="10095" y="2"/>
                    </a:lnTo>
                    <a:cubicBezTo>
                      <a:pt x="10096" y="2"/>
                      <a:pt x="10097" y="3"/>
                      <a:pt x="10097" y="4"/>
                    </a:cubicBezTo>
                    <a:cubicBezTo>
                      <a:pt x="10097" y="5"/>
                      <a:pt x="10096" y="6"/>
                      <a:pt x="10095" y="6"/>
                    </a:cubicBezTo>
                    <a:lnTo>
                      <a:pt x="10095" y="6"/>
                    </a:lnTo>
                    <a:cubicBezTo>
                      <a:pt x="10094" y="6"/>
                      <a:pt x="10093" y="5"/>
                      <a:pt x="10093" y="4"/>
                    </a:cubicBezTo>
                    <a:cubicBezTo>
                      <a:pt x="10093" y="3"/>
                      <a:pt x="10094" y="2"/>
                      <a:pt x="10095" y="2"/>
                    </a:cubicBezTo>
                    <a:close/>
                    <a:moveTo>
                      <a:pt x="10103" y="2"/>
                    </a:moveTo>
                    <a:lnTo>
                      <a:pt x="10103" y="2"/>
                    </a:lnTo>
                    <a:cubicBezTo>
                      <a:pt x="10104" y="2"/>
                      <a:pt x="10105" y="3"/>
                      <a:pt x="10105" y="4"/>
                    </a:cubicBezTo>
                    <a:cubicBezTo>
                      <a:pt x="10105" y="5"/>
                      <a:pt x="10104" y="6"/>
                      <a:pt x="10103" y="6"/>
                    </a:cubicBezTo>
                    <a:lnTo>
                      <a:pt x="10103" y="6"/>
                    </a:lnTo>
                    <a:cubicBezTo>
                      <a:pt x="10102" y="6"/>
                      <a:pt x="10101" y="5"/>
                      <a:pt x="10101" y="4"/>
                    </a:cubicBezTo>
                    <a:cubicBezTo>
                      <a:pt x="10101" y="3"/>
                      <a:pt x="10102" y="2"/>
                      <a:pt x="10103" y="2"/>
                    </a:cubicBezTo>
                    <a:close/>
                    <a:moveTo>
                      <a:pt x="10111" y="2"/>
                    </a:moveTo>
                    <a:lnTo>
                      <a:pt x="10111" y="2"/>
                    </a:lnTo>
                    <a:cubicBezTo>
                      <a:pt x="10112" y="2"/>
                      <a:pt x="10113" y="3"/>
                      <a:pt x="10113" y="4"/>
                    </a:cubicBezTo>
                    <a:cubicBezTo>
                      <a:pt x="10113" y="5"/>
                      <a:pt x="10112" y="6"/>
                      <a:pt x="10111" y="6"/>
                    </a:cubicBezTo>
                    <a:lnTo>
                      <a:pt x="10111" y="6"/>
                    </a:lnTo>
                    <a:cubicBezTo>
                      <a:pt x="10110" y="6"/>
                      <a:pt x="10109" y="5"/>
                      <a:pt x="10109" y="4"/>
                    </a:cubicBezTo>
                    <a:cubicBezTo>
                      <a:pt x="10109" y="3"/>
                      <a:pt x="10110" y="2"/>
                      <a:pt x="10111" y="2"/>
                    </a:cubicBezTo>
                    <a:close/>
                    <a:moveTo>
                      <a:pt x="10119" y="2"/>
                    </a:moveTo>
                    <a:lnTo>
                      <a:pt x="10119" y="2"/>
                    </a:lnTo>
                    <a:cubicBezTo>
                      <a:pt x="10120" y="2"/>
                      <a:pt x="10121" y="3"/>
                      <a:pt x="10121" y="4"/>
                    </a:cubicBezTo>
                    <a:cubicBezTo>
                      <a:pt x="10121" y="5"/>
                      <a:pt x="10120" y="6"/>
                      <a:pt x="10119" y="6"/>
                    </a:cubicBezTo>
                    <a:lnTo>
                      <a:pt x="10119" y="6"/>
                    </a:lnTo>
                    <a:cubicBezTo>
                      <a:pt x="10118" y="6"/>
                      <a:pt x="10117" y="5"/>
                      <a:pt x="10117" y="4"/>
                    </a:cubicBezTo>
                    <a:cubicBezTo>
                      <a:pt x="10117" y="3"/>
                      <a:pt x="10118" y="2"/>
                      <a:pt x="10119" y="2"/>
                    </a:cubicBezTo>
                    <a:close/>
                    <a:moveTo>
                      <a:pt x="10127" y="2"/>
                    </a:moveTo>
                    <a:lnTo>
                      <a:pt x="10127" y="2"/>
                    </a:lnTo>
                    <a:cubicBezTo>
                      <a:pt x="10128" y="2"/>
                      <a:pt x="10129" y="3"/>
                      <a:pt x="10129" y="4"/>
                    </a:cubicBezTo>
                    <a:cubicBezTo>
                      <a:pt x="10129" y="5"/>
                      <a:pt x="10128" y="6"/>
                      <a:pt x="10127" y="6"/>
                    </a:cubicBezTo>
                    <a:lnTo>
                      <a:pt x="10127" y="6"/>
                    </a:lnTo>
                    <a:cubicBezTo>
                      <a:pt x="10126" y="6"/>
                      <a:pt x="10125" y="5"/>
                      <a:pt x="10125" y="4"/>
                    </a:cubicBezTo>
                    <a:cubicBezTo>
                      <a:pt x="10125" y="3"/>
                      <a:pt x="10126" y="2"/>
                      <a:pt x="10127" y="2"/>
                    </a:cubicBezTo>
                    <a:close/>
                    <a:moveTo>
                      <a:pt x="10135" y="2"/>
                    </a:moveTo>
                    <a:lnTo>
                      <a:pt x="10135" y="2"/>
                    </a:lnTo>
                    <a:cubicBezTo>
                      <a:pt x="10136" y="2"/>
                      <a:pt x="10137" y="3"/>
                      <a:pt x="10137" y="4"/>
                    </a:cubicBezTo>
                    <a:cubicBezTo>
                      <a:pt x="10137" y="5"/>
                      <a:pt x="10136" y="6"/>
                      <a:pt x="10135" y="6"/>
                    </a:cubicBezTo>
                    <a:lnTo>
                      <a:pt x="10135" y="6"/>
                    </a:lnTo>
                    <a:cubicBezTo>
                      <a:pt x="10134" y="6"/>
                      <a:pt x="10133" y="5"/>
                      <a:pt x="10133" y="4"/>
                    </a:cubicBezTo>
                    <a:cubicBezTo>
                      <a:pt x="10133" y="3"/>
                      <a:pt x="10134" y="2"/>
                      <a:pt x="10135" y="2"/>
                    </a:cubicBezTo>
                    <a:close/>
                    <a:moveTo>
                      <a:pt x="10143" y="2"/>
                    </a:moveTo>
                    <a:lnTo>
                      <a:pt x="10143" y="2"/>
                    </a:lnTo>
                    <a:cubicBezTo>
                      <a:pt x="10144" y="2"/>
                      <a:pt x="10145" y="3"/>
                      <a:pt x="10145" y="4"/>
                    </a:cubicBezTo>
                    <a:cubicBezTo>
                      <a:pt x="10145" y="5"/>
                      <a:pt x="10144" y="6"/>
                      <a:pt x="10143" y="6"/>
                    </a:cubicBezTo>
                    <a:lnTo>
                      <a:pt x="10143" y="6"/>
                    </a:lnTo>
                    <a:cubicBezTo>
                      <a:pt x="10142" y="6"/>
                      <a:pt x="10141" y="5"/>
                      <a:pt x="10141" y="4"/>
                    </a:cubicBezTo>
                    <a:cubicBezTo>
                      <a:pt x="10141" y="3"/>
                      <a:pt x="10142" y="2"/>
                      <a:pt x="10143" y="2"/>
                    </a:cubicBezTo>
                    <a:close/>
                    <a:moveTo>
                      <a:pt x="10151" y="2"/>
                    </a:moveTo>
                    <a:lnTo>
                      <a:pt x="10151" y="2"/>
                    </a:lnTo>
                    <a:cubicBezTo>
                      <a:pt x="10152" y="2"/>
                      <a:pt x="10153" y="3"/>
                      <a:pt x="10153" y="4"/>
                    </a:cubicBezTo>
                    <a:cubicBezTo>
                      <a:pt x="10153" y="5"/>
                      <a:pt x="10152" y="6"/>
                      <a:pt x="10151" y="6"/>
                    </a:cubicBezTo>
                    <a:lnTo>
                      <a:pt x="10151" y="6"/>
                    </a:lnTo>
                    <a:cubicBezTo>
                      <a:pt x="10150" y="6"/>
                      <a:pt x="10149" y="5"/>
                      <a:pt x="10149" y="4"/>
                    </a:cubicBezTo>
                    <a:cubicBezTo>
                      <a:pt x="10149" y="3"/>
                      <a:pt x="10150" y="2"/>
                      <a:pt x="10151" y="2"/>
                    </a:cubicBezTo>
                    <a:close/>
                    <a:moveTo>
                      <a:pt x="10159" y="2"/>
                    </a:moveTo>
                    <a:lnTo>
                      <a:pt x="10159" y="2"/>
                    </a:lnTo>
                    <a:cubicBezTo>
                      <a:pt x="10160" y="2"/>
                      <a:pt x="10161" y="3"/>
                      <a:pt x="10161" y="4"/>
                    </a:cubicBezTo>
                    <a:cubicBezTo>
                      <a:pt x="10161" y="5"/>
                      <a:pt x="10160" y="6"/>
                      <a:pt x="10159" y="6"/>
                    </a:cubicBezTo>
                    <a:lnTo>
                      <a:pt x="10159" y="6"/>
                    </a:lnTo>
                    <a:cubicBezTo>
                      <a:pt x="10158" y="6"/>
                      <a:pt x="10157" y="5"/>
                      <a:pt x="10157" y="4"/>
                    </a:cubicBezTo>
                    <a:cubicBezTo>
                      <a:pt x="10157" y="3"/>
                      <a:pt x="10158" y="2"/>
                      <a:pt x="10159" y="2"/>
                    </a:cubicBezTo>
                    <a:close/>
                    <a:moveTo>
                      <a:pt x="10167" y="2"/>
                    </a:moveTo>
                    <a:lnTo>
                      <a:pt x="10167" y="2"/>
                    </a:lnTo>
                    <a:cubicBezTo>
                      <a:pt x="10168" y="2"/>
                      <a:pt x="10169" y="3"/>
                      <a:pt x="10169" y="4"/>
                    </a:cubicBezTo>
                    <a:cubicBezTo>
                      <a:pt x="10169" y="5"/>
                      <a:pt x="10168" y="6"/>
                      <a:pt x="10167" y="6"/>
                    </a:cubicBezTo>
                    <a:lnTo>
                      <a:pt x="10167" y="6"/>
                    </a:lnTo>
                    <a:cubicBezTo>
                      <a:pt x="10166" y="6"/>
                      <a:pt x="10165" y="5"/>
                      <a:pt x="10165" y="4"/>
                    </a:cubicBezTo>
                    <a:cubicBezTo>
                      <a:pt x="10165" y="3"/>
                      <a:pt x="10166" y="2"/>
                      <a:pt x="10167" y="2"/>
                    </a:cubicBezTo>
                    <a:close/>
                    <a:moveTo>
                      <a:pt x="10175" y="2"/>
                    </a:moveTo>
                    <a:lnTo>
                      <a:pt x="10175" y="2"/>
                    </a:lnTo>
                    <a:cubicBezTo>
                      <a:pt x="10176" y="2"/>
                      <a:pt x="10177" y="3"/>
                      <a:pt x="10177" y="4"/>
                    </a:cubicBezTo>
                    <a:cubicBezTo>
                      <a:pt x="10177" y="5"/>
                      <a:pt x="10176" y="6"/>
                      <a:pt x="10175" y="6"/>
                    </a:cubicBezTo>
                    <a:lnTo>
                      <a:pt x="10175" y="6"/>
                    </a:lnTo>
                    <a:cubicBezTo>
                      <a:pt x="10174" y="6"/>
                      <a:pt x="10173" y="5"/>
                      <a:pt x="10173" y="4"/>
                    </a:cubicBezTo>
                    <a:cubicBezTo>
                      <a:pt x="10173" y="3"/>
                      <a:pt x="10174" y="2"/>
                      <a:pt x="10175" y="2"/>
                    </a:cubicBezTo>
                    <a:close/>
                    <a:moveTo>
                      <a:pt x="10183" y="2"/>
                    </a:moveTo>
                    <a:lnTo>
                      <a:pt x="10183" y="2"/>
                    </a:lnTo>
                    <a:cubicBezTo>
                      <a:pt x="10184" y="2"/>
                      <a:pt x="10185" y="3"/>
                      <a:pt x="10185" y="4"/>
                    </a:cubicBezTo>
                    <a:cubicBezTo>
                      <a:pt x="10185" y="5"/>
                      <a:pt x="10184" y="6"/>
                      <a:pt x="10183" y="6"/>
                    </a:cubicBezTo>
                    <a:lnTo>
                      <a:pt x="10183" y="6"/>
                    </a:lnTo>
                    <a:cubicBezTo>
                      <a:pt x="10182" y="6"/>
                      <a:pt x="10181" y="5"/>
                      <a:pt x="10181" y="4"/>
                    </a:cubicBezTo>
                    <a:cubicBezTo>
                      <a:pt x="10181" y="3"/>
                      <a:pt x="10182" y="2"/>
                      <a:pt x="10183" y="2"/>
                    </a:cubicBezTo>
                    <a:close/>
                    <a:moveTo>
                      <a:pt x="10191" y="2"/>
                    </a:moveTo>
                    <a:lnTo>
                      <a:pt x="10191" y="2"/>
                    </a:lnTo>
                    <a:cubicBezTo>
                      <a:pt x="10192" y="2"/>
                      <a:pt x="10193" y="3"/>
                      <a:pt x="10193" y="4"/>
                    </a:cubicBezTo>
                    <a:cubicBezTo>
                      <a:pt x="10193" y="5"/>
                      <a:pt x="10192" y="6"/>
                      <a:pt x="10191" y="6"/>
                    </a:cubicBezTo>
                    <a:lnTo>
                      <a:pt x="10191" y="6"/>
                    </a:lnTo>
                    <a:cubicBezTo>
                      <a:pt x="10190" y="6"/>
                      <a:pt x="10189" y="5"/>
                      <a:pt x="10189" y="4"/>
                    </a:cubicBezTo>
                    <a:cubicBezTo>
                      <a:pt x="10189" y="3"/>
                      <a:pt x="10190" y="2"/>
                      <a:pt x="10191" y="2"/>
                    </a:cubicBezTo>
                    <a:close/>
                    <a:moveTo>
                      <a:pt x="10199" y="2"/>
                    </a:moveTo>
                    <a:lnTo>
                      <a:pt x="10199" y="2"/>
                    </a:lnTo>
                    <a:cubicBezTo>
                      <a:pt x="10200" y="2"/>
                      <a:pt x="10201" y="3"/>
                      <a:pt x="10201" y="4"/>
                    </a:cubicBezTo>
                    <a:cubicBezTo>
                      <a:pt x="10201" y="5"/>
                      <a:pt x="10200" y="6"/>
                      <a:pt x="10199" y="6"/>
                    </a:cubicBezTo>
                    <a:lnTo>
                      <a:pt x="10199" y="6"/>
                    </a:lnTo>
                    <a:cubicBezTo>
                      <a:pt x="10198" y="6"/>
                      <a:pt x="10197" y="5"/>
                      <a:pt x="10197" y="4"/>
                    </a:cubicBezTo>
                    <a:cubicBezTo>
                      <a:pt x="10197" y="3"/>
                      <a:pt x="10198" y="2"/>
                      <a:pt x="10199" y="2"/>
                    </a:cubicBezTo>
                    <a:close/>
                    <a:moveTo>
                      <a:pt x="10207" y="2"/>
                    </a:moveTo>
                    <a:lnTo>
                      <a:pt x="10207" y="2"/>
                    </a:lnTo>
                    <a:cubicBezTo>
                      <a:pt x="10208" y="2"/>
                      <a:pt x="10209" y="3"/>
                      <a:pt x="10209" y="4"/>
                    </a:cubicBezTo>
                    <a:cubicBezTo>
                      <a:pt x="10209" y="5"/>
                      <a:pt x="10208" y="6"/>
                      <a:pt x="10207" y="6"/>
                    </a:cubicBezTo>
                    <a:lnTo>
                      <a:pt x="10207" y="6"/>
                    </a:lnTo>
                    <a:cubicBezTo>
                      <a:pt x="10206" y="6"/>
                      <a:pt x="10205" y="5"/>
                      <a:pt x="10205" y="4"/>
                    </a:cubicBezTo>
                    <a:cubicBezTo>
                      <a:pt x="10205" y="3"/>
                      <a:pt x="10206" y="2"/>
                      <a:pt x="10207" y="2"/>
                    </a:cubicBezTo>
                    <a:close/>
                    <a:moveTo>
                      <a:pt x="10215" y="2"/>
                    </a:moveTo>
                    <a:lnTo>
                      <a:pt x="10215" y="2"/>
                    </a:lnTo>
                    <a:cubicBezTo>
                      <a:pt x="10216" y="2"/>
                      <a:pt x="10217" y="3"/>
                      <a:pt x="10217" y="4"/>
                    </a:cubicBezTo>
                    <a:cubicBezTo>
                      <a:pt x="10217" y="5"/>
                      <a:pt x="10216" y="6"/>
                      <a:pt x="10215" y="6"/>
                    </a:cubicBezTo>
                    <a:lnTo>
                      <a:pt x="10215" y="6"/>
                    </a:lnTo>
                    <a:cubicBezTo>
                      <a:pt x="10214" y="6"/>
                      <a:pt x="10213" y="5"/>
                      <a:pt x="10213" y="4"/>
                    </a:cubicBezTo>
                    <a:cubicBezTo>
                      <a:pt x="10213" y="3"/>
                      <a:pt x="10214" y="2"/>
                      <a:pt x="10215" y="2"/>
                    </a:cubicBezTo>
                    <a:close/>
                    <a:moveTo>
                      <a:pt x="10223" y="2"/>
                    </a:moveTo>
                    <a:lnTo>
                      <a:pt x="10223" y="2"/>
                    </a:lnTo>
                    <a:cubicBezTo>
                      <a:pt x="10224" y="2"/>
                      <a:pt x="10225" y="3"/>
                      <a:pt x="10225" y="4"/>
                    </a:cubicBezTo>
                    <a:cubicBezTo>
                      <a:pt x="10225" y="5"/>
                      <a:pt x="10224" y="6"/>
                      <a:pt x="10223" y="6"/>
                    </a:cubicBezTo>
                    <a:lnTo>
                      <a:pt x="10223" y="6"/>
                    </a:lnTo>
                    <a:cubicBezTo>
                      <a:pt x="10222" y="6"/>
                      <a:pt x="10221" y="5"/>
                      <a:pt x="10221" y="4"/>
                    </a:cubicBezTo>
                    <a:cubicBezTo>
                      <a:pt x="10221" y="3"/>
                      <a:pt x="10222" y="2"/>
                      <a:pt x="10223" y="2"/>
                    </a:cubicBezTo>
                    <a:close/>
                    <a:moveTo>
                      <a:pt x="10231" y="2"/>
                    </a:moveTo>
                    <a:lnTo>
                      <a:pt x="10231" y="2"/>
                    </a:lnTo>
                    <a:cubicBezTo>
                      <a:pt x="10232" y="2"/>
                      <a:pt x="10233" y="3"/>
                      <a:pt x="10233" y="4"/>
                    </a:cubicBezTo>
                    <a:cubicBezTo>
                      <a:pt x="10233" y="5"/>
                      <a:pt x="10232" y="6"/>
                      <a:pt x="10231" y="6"/>
                    </a:cubicBezTo>
                    <a:lnTo>
                      <a:pt x="10231" y="6"/>
                    </a:lnTo>
                    <a:cubicBezTo>
                      <a:pt x="10230" y="6"/>
                      <a:pt x="10229" y="5"/>
                      <a:pt x="10229" y="4"/>
                    </a:cubicBezTo>
                    <a:cubicBezTo>
                      <a:pt x="10229" y="3"/>
                      <a:pt x="10230" y="2"/>
                      <a:pt x="10231" y="2"/>
                    </a:cubicBezTo>
                    <a:close/>
                    <a:moveTo>
                      <a:pt x="10239" y="2"/>
                    </a:moveTo>
                    <a:lnTo>
                      <a:pt x="10239" y="2"/>
                    </a:lnTo>
                    <a:cubicBezTo>
                      <a:pt x="10240" y="2"/>
                      <a:pt x="10241" y="3"/>
                      <a:pt x="10241" y="4"/>
                    </a:cubicBezTo>
                    <a:cubicBezTo>
                      <a:pt x="10241" y="5"/>
                      <a:pt x="10240" y="6"/>
                      <a:pt x="10239" y="6"/>
                    </a:cubicBezTo>
                    <a:lnTo>
                      <a:pt x="10239" y="6"/>
                    </a:lnTo>
                    <a:cubicBezTo>
                      <a:pt x="10238" y="6"/>
                      <a:pt x="10237" y="5"/>
                      <a:pt x="10237" y="4"/>
                    </a:cubicBezTo>
                    <a:cubicBezTo>
                      <a:pt x="10237" y="3"/>
                      <a:pt x="10238" y="2"/>
                      <a:pt x="10239" y="2"/>
                    </a:cubicBezTo>
                    <a:close/>
                    <a:moveTo>
                      <a:pt x="10247" y="2"/>
                    </a:moveTo>
                    <a:lnTo>
                      <a:pt x="10247" y="2"/>
                    </a:lnTo>
                    <a:cubicBezTo>
                      <a:pt x="10248" y="2"/>
                      <a:pt x="10249" y="3"/>
                      <a:pt x="10249" y="4"/>
                    </a:cubicBezTo>
                    <a:cubicBezTo>
                      <a:pt x="10249" y="5"/>
                      <a:pt x="10248" y="6"/>
                      <a:pt x="10247" y="6"/>
                    </a:cubicBezTo>
                    <a:lnTo>
                      <a:pt x="10247" y="6"/>
                    </a:lnTo>
                    <a:cubicBezTo>
                      <a:pt x="10246" y="6"/>
                      <a:pt x="10245" y="5"/>
                      <a:pt x="10245" y="4"/>
                    </a:cubicBezTo>
                    <a:cubicBezTo>
                      <a:pt x="10245" y="3"/>
                      <a:pt x="10246" y="2"/>
                      <a:pt x="10247" y="2"/>
                    </a:cubicBezTo>
                    <a:close/>
                    <a:moveTo>
                      <a:pt x="10255" y="2"/>
                    </a:moveTo>
                    <a:lnTo>
                      <a:pt x="10255" y="2"/>
                    </a:lnTo>
                    <a:cubicBezTo>
                      <a:pt x="10256" y="2"/>
                      <a:pt x="10257" y="3"/>
                      <a:pt x="10257" y="4"/>
                    </a:cubicBezTo>
                    <a:cubicBezTo>
                      <a:pt x="10257" y="5"/>
                      <a:pt x="10256" y="6"/>
                      <a:pt x="10255" y="6"/>
                    </a:cubicBezTo>
                    <a:lnTo>
                      <a:pt x="10255" y="6"/>
                    </a:lnTo>
                    <a:cubicBezTo>
                      <a:pt x="10254" y="6"/>
                      <a:pt x="10253" y="5"/>
                      <a:pt x="10253" y="4"/>
                    </a:cubicBezTo>
                    <a:cubicBezTo>
                      <a:pt x="10253" y="3"/>
                      <a:pt x="10254" y="2"/>
                      <a:pt x="10255" y="2"/>
                    </a:cubicBezTo>
                    <a:close/>
                    <a:moveTo>
                      <a:pt x="10263" y="2"/>
                    </a:moveTo>
                    <a:lnTo>
                      <a:pt x="10263" y="2"/>
                    </a:lnTo>
                    <a:cubicBezTo>
                      <a:pt x="10264" y="2"/>
                      <a:pt x="10265" y="3"/>
                      <a:pt x="10265" y="4"/>
                    </a:cubicBezTo>
                    <a:cubicBezTo>
                      <a:pt x="10265" y="5"/>
                      <a:pt x="10264" y="6"/>
                      <a:pt x="10263" y="6"/>
                    </a:cubicBezTo>
                    <a:lnTo>
                      <a:pt x="10263" y="6"/>
                    </a:lnTo>
                    <a:cubicBezTo>
                      <a:pt x="10262" y="6"/>
                      <a:pt x="10261" y="5"/>
                      <a:pt x="10261" y="4"/>
                    </a:cubicBezTo>
                    <a:cubicBezTo>
                      <a:pt x="10261" y="3"/>
                      <a:pt x="10262" y="2"/>
                      <a:pt x="10263" y="2"/>
                    </a:cubicBezTo>
                    <a:close/>
                    <a:moveTo>
                      <a:pt x="10271" y="2"/>
                    </a:moveTo>
                    <a:lnTo>
                      <a:pt x="10271" y="2"/>
                    </a:lnTo>
                    <a:cubicBezTo>
                      <a:pt x="10272" y="2"/>
                      <a:pt x="10273" y="3"/>
                      <a:pt x="10273" y="4"/>
                    </a:cubicBezTo>
                    <a:cubicBezTo>
                      <a:pt x="10273" y="5"/>
                      <a:pt x="10272" y="6"/>
                      <a:pt x="10271" y="6"/>
                    </a:cubicBezTo>
                    <a:lnTo>
                      <a:pt x="10271" y="6"/>
                    </a:lnTo>
                    <a:cubicBezTo>
                      <a:pt x="10270" y="6"/>
                      <a:pt x="10269" y="5"/>
                      <a:pt x="10269" y="4"/>
                    </a:cubicBezTo>
                    <a:cubicBezTo>
                      <a:pt x="10269" y="3"/>
                      <a:pt x="10270" y="2"/>
                      <a:pt x="10271" y="2"/>
                    </a:cubicBezTo>
                    <a:close/>
                    <a:moveTo>
                      <a:pt x="10279" y="2"/>
                    </a:moveTo>
                    <a:lnTo>
                      <a:pt x="10279" y="2"/>
                    </a:lnTo>
                    <a:cubicBezTo>
                      <a:pt x="10280" y="2"/>
                      <a:pt x="10281" y="3"/>
                      <a:pt x="10281" y="4"/>
                    </a:cubicBezTo>
                    <a:cubicBezTo>
                      <a:pt x="10281" y="5"/>
                      <a:pt x="10280" y="6"/>
                      <a:pt x="10279" y="6"/>
                    </a:cubicBezTo>
                    <a:lnTo>
                      <a:pt x="10279" y="6"/>
                    </a:lnTo>
                    <a:cubicBezTo>
                      <a:pt x="10278" y="6"/>
                      <a:pt x="10277" y="5"/>
                      <a:pt x="10277" y="4"/>
                    </a:cubicBezTo>
                    <a:cubicBezTo>
                      <a:pt x="10277" y="3"/>
                      <a:pt x="10278" y="2"/>
                      <a:pt x="10279" y="2"/>
                    </a:cubicBezTo>
                    <a:close/>
                    <a:moveTo>
                      <a:pt x="10287" y="2"/>
                    </a:moveTo>
                    <a:lnTo>
                      <a:pt x="10287" y="2"/>
                    </a:lnTo>
                    <a:cubicBezTo>
                      <a:pt x="10288" y="2"/>
                      <a:pt x="10289" y="3"/>
                      <a:pt x="10289" y="4"/>
                    </a:cubicBezTo>
                    <a:cubicBezTo>
                      <a:pt x="10289" y="5"/>
                      <a:pt x="10288" y="6"/>
                      <a:pt x="10287" y="6"/>
                    </a:cubicBezTo>
                    <a:lnTo>
                      <a:pt x="10287" y="6"/>
                    </a:lnTo>
                    <a:cubicBezTo>
                      <a:pt x="10286" y="6"/>
                      <a:pt x="10285" y="5"/>
                      <a:pt x="10285" y="4"/>
                    </a:cubicBezTo>
                    <a:cubicBezTo>
                      <a:pt x="10285" y="3"/>
                      <a:pt x="10286" y="2"/>
                      <a:pt x="10287" y="2"/>
                    </a:cubicBezTo>
                    <a:close/>
                    <a:moveTo>
                      <a:pt x="10295" y="2"/>
                    </a:moveTo>
                    <a:lnTo>
                      <a:pt x="10295" y="2"/>
                    </a:lnTo>
                    <a:cubicBezTo>
                      <a:pt x="10296" y="2"/>
                      <a:pt x="10297" y="3"/>
                      <a:pt x="10297" y="4"/>
                    </a:cubicBezTo>
                    <a:cubicBezTo>
                      <a:pt x="10297" y="5"/>
                      <a:pt x="10296" y="6"/>
                      <a:pt x="10295" y="6"/>
                    </a:cubicBezTo>
                    <a:lnTo>
                      <a:pt x="10295" y="6"/>
                    </a:lnTo>
                    <a:cubicBezTo>
                      <a:pt x="10294" y="6"/>
                      <a:pt x="10293" y="5"/>
                      <a:pt x="10293" y="4"/>
                    </a:cubicBezTo>
                    <a:cubicBezTo>
                      <a:pt x="10293" y="3"/>
                      <a:pt x="10294" y="2"/>
                      <a:pt x="10295" y="2"/>
                    </a:cubicBezTo>
                    <a:close/>
                    <a:moveTo>
                      <a:pt x="10303" y="2"/>
                    </a:moveTo>
                    <a:lnTo>
                      <a:pt x="10303" y="2"/>
                    </a:lnTo>
                    <a:cubicBezTo>
                      <a:pt x="10304" y="2"/>
                      <a:pt x="10305" y="3"/>
                      <a:pt x="10305" y="4"/>
                    </a:cubicBezTo>
                    <a:cubicBezTo>
                      <a:pt x="10305" y="5"/>
                      <a:pt x="10304" y="6"/>
                      <a:pt x="10303" y="6"/>
                    </a:cubicBezTo>
                    <a:lnTo>
                      <a:pt x="10303" y="6"/>
                    </a:lnTo>
                    <a:cubicBezTo>
                      <a:pt x="10302" y="6"/>
                      <a:pt x="10301" y="5"/>
                      <a:pt x="10301" y="4"/>
                    </a:cubicBezTo>
                    <a:cubicBezTo>
                      <a:pt x="10301" y="3"/>
                      <a:pt x="10302" y="2"/>
                      <a:pt x="10303" y="2"/>
                    </a:cubicBezTo>
                    <a:close/>
                    <a:moveTo>
                      <a:pt x="10311" y="2"/>
                    </a:moveTo>
                    <a:lnTo>
                      <a:pt x="10311" y="2"/>
                    </a:lnTo>
                    <a:cubicBezTo>
                      <a:pt x="10312" y="2"/>
                      <a:pt x="10313" y="3"/>
                      <a:pt x="10313" y="4"/>
                    </a:cubicBezTo>
                    <a:cubicBezTo>
                      <a:pt x="10313" y="5"/>
                      <a:pt x="10312" y="6"/>
                      <a:pt x="10311" y="6"/>
                    </a:cubicBezTo>
                    <a:lnTo>
                      <a:pt x="10311" y="6"/>
                    </a:lnTo>
                    <a:cubicBezTo>
                      <a:pt x="10310" y="6"/>
                      <a:pt x="10309" y="5"/>
                      <a:pt x="10309" y="4"/>
                    </a:cubicBezTo>
                    <a:cubicBezTo>
                      <a:pt x="10309" y="3"/>
                      <a:pt x="10310" y="2"/>
                      <a:pt x="10311" y="2"/>
                    </a:cubicBezTo>
                    <a:close/>
                    <a:moveTo>
                      <a:pt x="10319" y="2"/>
                    </a:moveTo>
                    <a:lnTo>
                      <a:pt x="10319" y="2"/>
                    </a:lnTo>
                    <a:cubicBezTo>
                      <a:pt x="10320" y="2"/>
                      <a:pt x="10321" y="3"/>
                      <a:pt x="10321" y="4"/>
                    </a:cubicBezTo>
                    <a:cubicBezTo>
                      <a:pt x="10321" y="5"/>
                      <a:pt x="10320" y="6"/>
                      <a:pt x="10319" y="6"/>
                    </a:cubicBezTo>
                    <a:lnTo>
                      <a:pt x="10319" y="6"/>
                    </a:lnTo>
                    <a:cubicBezTo>
                      <a:pt x="10318" y="6"/>
                      <a:pt x="10317" y="5"/>
                      <a:pt x="10317" y="4"/>
                    </a:cubicBezTo>
                    <a:cubicBezTo>
                      <a:pt x="10317" y="3"/>
                      <a:pt x="10318" y="2"/>
                      <a:pt x="10319" y="2"/>
                    </a:cubicBezTo>
                    <a:close/>
                    <a:moveTo>
                      <a:pt x="10327" y="2"/>
                    </a:moveTo>
                    <a:lnTo>
                      <a:pt x="10327" y="2"/>
                    </a:lnTo>
                    <a:cubicBezTo>
                      <a:pt x="10328" y="2"/>
                      <a:pt x="10329" y="3"/>
                      <a:pt x="10329" y="4"/>
                    </a:cubicBezTo>
                    <a:cubicBezTo>
                      <a:pt x="10329" y="5"/>
                      <a:pt x="10328" y="6"/>
                      <a:pt x="10327" y="6"/>
                    </a:cubicBezTo>
                    <a:lnTo>
                      <a:pt x="10327" y="6"/>
                    </a:lnTo>
                    <a:cubicBezTo>
                      <a:pt x="10326" y="6"/>
                      <a:pt x="10325" y="5"/>
                      <a:pt x="10325" y="4"/>
                    </a:cubicBezTo>
                    <a:cubicBezTo>
                      <a:pt x="10325" y="3"/>
                      <a:pt x="10326" y="2"/>
                      <a:pt x="10327" y="2"/>
                    </a:cubicBezTo>
                    <a:close/>
                    <a:moveTo>
                      <a:pt x="10335" y="2"/>
                    </a:moveTo>
                    <a:lnTo>
                      <a:pt x="10335" y="2"/>
                    </a:lnTo>
                    <a:cubicBezTo>
                      <a:pt x="10336" y="2"/>
                      <a:pt x="10337" y="3"/>
                      <a:pt x="10337" y="4"/>
                    </a:cubicBezTo>
                    <a:cubicBezTo>
                      <a:pt x="10337" y="5"/>
                      <a:pt x="10336" y="6"/>
                      <a:pt x="10335" y="6"/>
                    </a:cubicBezTo>
                    <a:lnTo>
                      <a:pt x="10335" y="6"/>
                    </a:lnTo>
                    <a:cubicBezTo>
                      <a:pt x="10334" y="6"/>
                      <a:pt x="10333" y="5"/>
                      <a:pt x="10333" y="4"/>
                    </a:cubicBezTo>
                    <a:cubicBezTo>
                      <a:pt x="10333" y="3"/>
                      <a:pt x="10334" y="2"/>
                      <a:pt x="10335" y="2"/>
                    </a:cubicBezTo>
                    <a:close/>
                    <a:moveTo>
                      <a:pt x="10343" y="2"/>
                    </a:moveTo>
                    <a:lnTo>
                      <a:pt x="10343" y="2"/>
                    </a:lnTo>
                    <a:cubicBezTo>
                      <a:pt x="10344" y="2"/>
                      <a:pt x="10345" y="3"/>
                      <a:pt x="10345" y="4"/>
                    </a:cubicBezTo>
                    <a:cubicBezTo>
                      <a:pt x="10345" y="5"/>
                      <a:pt x="10344" y="6"/>
                      <a:pt x="10343" y="6"/>
                    </a:cubicBezTo>
                    <a:lnTo>
                      <a:pt x="10343" y="6"/>
                    </a:lnTo>
                    <a:cubicBezTo>
                      <a:pt x="10342" y="6"/>
                      <a:pt x="10341" y="5"/>
                      <a:pt x="10341" y="4"/>
                    </a:cubicBezTo>
                    <a:cubicBezTo>
                      <a:pt x="10341" y="3"/>
                      <a:pt x="10342" y="2"/>
                      <a:pt x="10343" y="2"/>
                    </a:cubicBezTo>
                    <a:close/>
                    <a:moveTo>
                      <a:pt x="10351" y="2"/>
                    </a:moveTo>
                    <a:lnTo>
                      <a:pt x="10351" y="2"/>
                    </a:lnTo>
                    <a:cubicBezTo>
                      <a:pt x="10352" y="2"/>
                      <a:pt x="10353" y="3"/>
                      <a:pt x="10353" y="4"/>
                    </a:cubicBezTo>
                    <a:cubicBezTo>
                      <a:pt x="10353" y="5"/>
                      <a:pt x="10352" y="6"/>
                      <a:pt x="10351" y="6"/>
                    </a:cubicBezTo>
                    <a:lnTo>
                      <a:pt x="10351" y="6"/>
                    </a:lnTo>
                    <a:cubicBezTo>
                      <a:pt x="10350" y="6"/>
                      <a:pt x="10349" y="5"/>
                      <a:pt x="10349" y="4"/>
                    </a:cubicBezTo>
                    <a:cubicBezTo>
                      <a:pt x="10349" y="3"/>
                      <a:pt x="10350" y="2"/>
                      <a:pt x="10351" y="2"/>
                    </a:cubicBezTo>
                    <a:close/>
                    <a:moveTo>
                      <a:pt x="10359" y="2"/>
                    </a:moveTo>
                    <a:lnTo>
                      <a:pt x="10359" y="2"/>
                    </a:lnTo>
                    <a:cubicBezTo>
                      <a:pt x="10360" y="2"/>
                      <a:pt x="10361" y="3"/>
                      <a:pt x="10361" y="4"/>
                    </a:cubicBezTo>
                    <a:cubicBezTo>
                      <a:pt x="10361" y="5"/>
                      <a:pt x="10360" y="6"/>
                      <a:pt x="10359" y="6"/>
                    </a:cubicBezTo>
                    <a:lnTo>
                      <a:pt x="10359" y="6"/>
                    </a:lnTo>
                    <a:cubicBezTo>
                      <a:pt x="10358" y="6"/>
                      <a:pt x="10357" y="5"/>
                      <a:pt x="10357" y="4"/>
                    </a:cubicBezTo>
                    <a:cubicBezTo>
                      <a:pt x="10357" y="3"/>
                      <a:pt x="10358" y="2"/>
                      <a:pt x="10359" y="2"/>
                    </a:cubicBezTo>
                    <a:close/>
                    <a:moveTo>
                      <a:pt x="10367" y="2"/>
                    </a:moveTo>
                    <a:lnTo>
                      <a:pt x="10367" y="2"/>
                    </a:lnTo>
                    <a:cubicBezTo>
                      <a:pt x="10368" y="2"/>
                      <a:pt x="10369" y="3"/>
                      <a:pt x="10369" y="4"/>
                    </a:cubicBezTo>
                    <a:cubicBezTo>
                      <a:pt x="10369" y="5"/>
                      <a:pt x="10368" y="6"/>
                      <a:pt x="10367" y="6"/>
                    </a:cubicBezTo>
                    <a:lnTo>
                      <a:pt x="10367" y="6"/>
                    </a:lnTo>
                    <a:cubicBezTo>
                      <a:pt x="10366" y="6"/>
                      <a:pt x="10365" y="5"/>
                      <a:pt x="10365" y="4"/>
                    </a:cubicBezTo>
                    <a:cubicBezTo>
                      <a:pt x="10365" y="3"/>
                      <a:pt x="10366" y="2"/>
                      <a:pt x="10367" y="2"/>
                    </a:cubicBezTo>
                    <a:close/>
                    <a:moveTo>
                      <a:pt x="10375" y="2"/>
                    </a:moveTo>
                    <a:lnTo>
                      <a:pt x="10375" y="2"/>
                    </a:lnTo>
                    <a:cubicBezTo>
                      <a:pt x="10376" y="2"/>
                      <a:pt x="10377" y="3"/>
                      <a:pt x="10377" y="4"/>
                    </a:cubicBezTo>
                    <a:cubicBezTo>
                      <a:pt x="10377" y="5"/>
                      <a:pt x="10376" y="6"/>
                      <a:pt x="10375" y="6"/>
                    </a:cubicBezTo>
                    <a:lnTo>
                      <a:pt x="10375" y="6"/>
                    </a:lnTo>
                    <a:cubicBezTo>
                      <a:pt x="10374" y="6"/>
                      <a:pt x="10373" y="5"/>
                      <a:pt x="10373" y="4"/>
                    </a:cubicBezTo>
                    <a:cubicBezTo>
                      <a:pt x="10373" y="3"/>
                      <a:pt x="10374" y="2"/>
                      <a:pt x="10375" y="2"/>
                    </a:cubicBezTo>
                    <a:close/>
                    <a:moveTo>
                      <a:pt x="10383" y="2"/>
                    </a:moveTo>
                    <a:lnTo>
                      <a:pt x="10383" y="2"/>
                    </a:lnTo>
                    <a:cubicBezTo>
                      <a:pt x="10384" y="2"/>
                      <a:pt x="10385" y="3"/>
                      <a:pt x="10385" y="4"/>
                    </a:cubicBezTo>
                    <a:cubicBezTo>
                      <a:pt x="10385" y="5"/>
                      <a:pt x="10384" y="6"/>
                      <a:pt x="10383" y="6"/>
                    </a:cubicBezTo>
                    <a:lnTo>
                      <a:pt x="10383" y="6"/>
                    </a:lnTo>
                    <a:cubicBezTo>
                      <a:pt x="10382" y="6"/>
                      <a:pt x="10381" y="5"/>
                      <a:pt x="10381" y="4"/>
                    </a:cubicBezTo>
                    <a:cubicBezTo>
                      <a:pt x="10381" y="3"/>
                      <a:pt x="10382" y="2"/>
                      <a:pt x="10383" y="2"/>
                    </a:cubicBezTo>
                    <a:close/>
                    <a:moveTo>
                      <a:pt x="10391" y="2"/>
                    </a:moveTo>
                    <a:lnTo>
                      <a:pt x="10391" y="2"/>
                    </a:lnTo>
                    <a:cubicBezTo>
                      <a:pt x="10392" y="2"/>
                      <a:pt x="10393" y="3"/>
                      <a:pt x="10393" y="4"/>
                    </a:cubicBezTo>
                    <a:cubicBezTo>
                      <a:pt x="10393" y="5"/>
                      <a:pt x="10392" y="6"/>
                      <a:pt x="10391" y="6"/>
                    </a:cubicBezTo>
                    <a:lnTo>
                      <a:pt x="10391" y="6"/>
                    </a:lnTo>
                    <a:cubicBezTo>
                      <a:pt x="10390" y="6"/>
                      <a:pt x="10389" y="5"/>
                      <a:pt x="10389" y="4"/>
                    </a:cubicBezTo>
                    <a:cubicBezTo>
                      <a:pt x="10389" y="3"/>
                      <a:pt x="10390" y="2"/>
                      <a:pt x="10391" y="2"/>
                    </a:cubicBezTo>
                    <a:close/>
                    <a:moveTo>
                      <a:pt x="10399" y="2"/>
                    </a:moveTo>
                    <a:lnTo>
                      <a:pt x="10399" y="2"/>
                    </a:lnTo>
                    <a:cubicBezTo>
                      <a:pt x="10400" y="2"/>
                      <a:pt x="10401" y="3"/>
                      <a:pt x="10401" y="4"/>
                    </a:cubicBezTo>
                    <a:cubicBezTo>
                      <a:pt x="10401" y="5"/>
                      <a:pt x="10400" y="6"/>
                      <a:pt x="10399" y="6"/>
                    </a:cubicBezTo>
                    <a:lnTo>
                      <a:pt x="10399" y="6"/>
                    </a:lnTo>
                    <a:cubicBezTo>
                      <a:pt x="10398" y="6"/>
                      <a:pt x="10397" y="5"/>
                      <a:pt x="10397" y="4"/>
                    </a:cubicBezTo>
                    <a:cubicBezTo>
                      <a:pt x="10397" y="3"/>
                      <a:pt x="10398" y="2"/>
                      <a:pt x="10399" y="2"/>
                    </a:cubicBezTo>
                    <a:close/>
                    <a:moveTo>
                      <a:pt x="10407" y="2"/>
                    </a:moveTo>
                    <a:lnTo>
                      <a:pt x="10407" y="2"/>
                    </a:lnTo>
                    <a:cubicBezTo>
                      <a:pt x="10408" y="2"/>
                      <a:pt x="10409" y="3"/>
                      <a:pt x="10409" y="4"/>
                    </a:cubicBezTo>
                    <a:cubicBezTo>
                      <a:pt x="10409" y="5"/>
                      <a:pt x="10408" y="6"/>
                      <a:pt x="10407" y="6"/>
                    </a:cubicBezTo>
                    <a:lnTo>
                      <a:pt x="10407" y="6"/>
                    </a:lnTo>
                    <a:cubicBezTo>
                      <a:pt x="10406" y="6"/>
                      <a:pt x="10405" y="5"/>
                      <a:pt x="10405" y="4"/>
                    </a:cubicBezTo>
                    <a:cubicBezTo>
                      <a:pt x="10405" y="3"/>
                      <a:pt x="10406" y="2"/>
                      <a:pt x="10407" y="2"/>
                    </a:cubicBezTo>
                    <a:close/>
                    <a:moveTo>
                      <a:pt x="10415" y="2"/>
                    </a:moveTo>
                    <a:lnTo>
                      <a:pt x="10415" y="2"/>
                    </a:lnTo>
                    <a:cubicBezTo>
                      <a:pt x="10416" y="2"/>
                      <a:pt x="10417" y="3"/>
                      <a:pt x="10417" y="4"/>
                    </a:cubicBezTo>
                    <a:cubicBezTo>
                      <a:pt x="10417" y="5"/>
                      <a:pt x="10416" y="6"/>
                      <a:pt x="10415" y="6"/>
                    </a:cubicBezTo>
                    <a:lnTo>
                      <a:pt x="10415" y="6"/>
                    </a:lnTo>
                    <a:cubicBezTo>
                      <a:pt x="10414" y="6"/>
                      <a:pt x="10413" y="5"/>
                      <a:pt x="10413" y="4"/>
                    </a:cubicBezTo>
                    <a:cubicBezTo>
                      <a:pt x="10413" y="3"/>
                      <a:pt x="10414" y="2"/>
                      <a:pt x="10415" y="2"/>
                    </a:cubicBezTo>
                    <a:close/>
                    <a:moveTo>
                      <a:pt x="10423" y="2"/>
                    </a:moveTo>
                    <a:lnTo>
                      <a:pt x="10423" y="2"/>
                    </a:lnTo>
                    <a:cubicBezTo>
                      <a:pt x="10424" y="2"/>
                      <a:pt x="10425" y="3"/>
                      <a:pt x="10425" y="4"/>
                    </a:cubicBezTo>
                    <a:cubicBezTo>
                      <a:pt x="10425" y="5"/>
                      <a:pt x="10424" y="6"/>
                      <a:pt x="10423" y="6"/>
                    </a:cubicBezTo>
                    <a:lnTo>
                      <a:pt x="10423" y="6"/>
                    </a:lnTo>
                    <a:cubicBezTo>
                      <a:pt x="10422" y="6"/>
                      <a:pt x="10421" y="5"/>
                      <a:pt x="10421" y="4"/>
                    </a:cubicBezTo>
                    <a:cubicBezTo>
                      <a:pt x="10421" y="3"/>
                      <a:pt x="10422" y="2"/>
                      <a:pt x="10423" y="2"/>
                    </a:cubicBezTo>
                    <a:close/>
                    <a:moveTo>
                      <a:pt x="10431" y="2"/>
                    </a:moveTo>
                    <a:lnTo>
                      <a:pt x="10431" y="2"/>
                    </a:lnTo>
                    <a:cubicBezTo>
                      <a:pt x="10432" y="2"/>
                      <a:pt x="10433" y="3"/>
                      <a:pt x="10433" y="4"/>
                    </a:cubicBezTo>
                    <a:cubicBezTo>
                      <a:pt x="10433" y="5"/>
                      <a:pt x="10432" y="6"/>
                      <a:pt x="10431" y="6"/>
                    </a:cubicBezTo>
                    <a:lnTo>
                      <a:pt x="10431" y="6"/>
                    </a:lnTo>
                    <a:cubicBezTo>
                      <a:pt x="10430" y="6"/>
                      <a:pt x="10429" y="5"/>
                      <a:pt x="10429" y="4"/>
                    </a:cubicBezTo>
                    <a:cubicBezTo>
                      <a:pt x="10429" y="3"/>
                      <a:pt x="10430" y="2"/>
                      <a:pt x="10431" y="2"/>
                    </a:cubicBezTo>
                    <a:close/>
                    <a:moveTo>
                      <a:pt x="10439" y="2"/>
                    </a:moveTo>
                    <a:lnTo>
                      <a:pt x="10439" y="2"/>
                    </a:lnTo>
                    <a:cubicBezTo>
                      <a:pt x="10440" y="2"/>
                      <a:pt x="10441" y="3"/>
                      <a:pt x="10441" y="4"/>
                    </a:cubicBezTo>
                    <a:cubicBezTo>
                      <a:pt x="10441" y="5"/>
                      <a:pt x="10440" y="6"/>
                      <a:pt x="10439" y="6"/>
                    </a:cubicBezTo>
                    <a:lnTo>
                      <a:pt x="10439" y="6"/>
                    </a:lnTo>
                    <a:cubicBezTo>
                      <a:pt x="10438" y="6"/>
                      <a:pt x="10437" y="5"/>
                      <a:pt x="10437" y="4"/>
                    </a:cubicBezTo>
                    <a:cubicBezTo>
                      <a:pt x="10437" y="3"/>
                      <a:pt x="10438" y="2"/>
                      <a:pt x="10439" y="2"/>
                    </a:cubicBezTo>
                    <a:close/>
                    <a:moveTo>
                      <a:pt x="10447" y="2"/>
                    </a:moveTo>
                    <a:lnTo>
                      <a:pt x="10447" y="2"/>
                    </a:lnTo>
                    <a:cubicBezTo>
                      <a:pt x="10448" y="2"/>
                      <a:pt x="10449" y="3"/>
                      <a:pt x="10449" y="4"/>
                    </a:cubicBezTo>
                    <a:cubicBezTo>
                      <a:pt x="10449" y="5"/>
                      <a:pt x="10448" y="6"/>
                      <a:pt x="10447" y="6"/>
                    </a:cubicBezTo>
                    <a:lnTo>
                      <a:pt x="10447" y="6"/>
                    </a:lnTo>
                    <a:cubicBezTo>
                      <a:pt x="10446" y="6"/>
                      <a:pt x="10445" y="5"/>
                      <a:pt x="10445" y="4"/>
                    </a:cubicBezTo>
                    <a:cubicBezTo>
                      <a:pt x="10445" y="3"/>
                      <a:pt x="10446" y="2"/>
                      <a:pt x="10447" y="2"/>
                    </a:cubicBezTo>
                    <a:close/>
                    <a:moveTo>
                      <a:pt x="10455" y="2"/>
                    </a:moveTo>
                    <a:lnTo>
                      <a:pt x="10455" y="2"/>
                    </a:lnTo>
                    <a:cubicBezTo>
                      <a:pt x="10456" y="2"/>
                      <a:pt x="10457" y="3"/>
                      <a:pt x="10457" y="4"/>
                    </a:cubicBezTo>
                    <a:cubicBezTo>
                      <a:pt x="10457" y="5"/>
                      <a:pt x="10456" y="6"/>
                      <a:pt x="10455" y="6"/>
                    </a:cubicBezTo>
                    <a:lnTo>
                      <a:pt x="10455" y="6"/>
                    </a:lnTo>
                    <a:cubicBezTo>
                      <a:pt x="10454" y="6"/>
                      <a:pt x="10453" y="5"/>
                      <a:pt x="10453" y="4"/>
                    </a:cubicBezTo>
                    <a:cubicBezTo>
                      <a:pt x="10453" y="3"/>
                      <a:pt x="10454" y="2"/>
                      <a:pt x="10455" y="2"/>
                    </a:cubicBezTo>
                    <a:close/>
                    <a:moveTo>
                      <a:pt x="10463" y="2"/>
                    </a:moveTo>
                    <a:lnTo>
                      <a:pt x="10463" y="2"/>
                    </a:lnTo>
                    <a:cubicBezTo>
                      <a:pt x="10464" y="2"/>
                      <a:pt x="10465" y="3"/>
                      <a:pt x="10465" y="4"/>
                    </a:cubicBezTo>
                    <a:cubicBezTo>
                      <a:pt x="10465" y="5"/>
                      <a:pt x="10464" y="6"/>
                      <a:pt x="10463" y="6"/>
                    </a:cubicBezTo>
                    <a:lnTo>
                      <a:pt x="10463" y="6"/>
                    </a:lnTo>
                    <a:cubicBezTo>
                      <a:pt x="10462" y="6"/>
                      <a:pt x="10461" y="5"/>
                      <a:pt x="10461" y="4"/>
                    </a:cubicBezTo>
                    <a:cubicBezTo>
                      <a:pt x="10461" y="3"/>
                      <a:pt x="10462" y="2"/>
                      <a:pt x="10463" y="2"/>
                    </a:cubicBezTo>
                    <a:close/>
                    <a:moveTo>
                      <a:pt x="10471" y="2"/>
                    </a:moveTo>
                    <a:lnTo>
                      <a:pt x="10471" y="2"/>
                    </a:lnTo>
                    <a:cubicBezTo>
                      <a:pt x="10472" y="2"/>
                      <a:pt x="10473" y="3"/>
                      <a:pt x="10473" y="4"/>
                    </a:cubicBezTo>
                    <a:cubicBezTo>
                      <a:pt x="10473" y="5"/>
                      <a:pt x="10472" y="6"/>
                      <a:pt x="10471" y="6"/>
                    </a:cubicBezTo>
                    <a:lnTo>
                      <a:pt x="10471" y="6"/>
                    </a:lnTo>
                    <a:cubicBezTo>
                      <a:pt x="10470" y="6"/>
                      <a:pt x="10469" y="5"/>
                      <a:pt x="10469" y="4"/>
                    </a:cubicBezTo>
                    <a:cubicBezTo>
                      <a:pt x="10469" y="3"/>
                      <a:pt x="10470" y="2"/>
                      <a:pt x="10471" y="2"/>
                    </a:cubicBezTo>
                    <a:close/>
                    <a:moveTo>
                      <a:pt x="10479" y="2"/>
                    </a:moveTo>
                    <a:lnTo>
                      <a:pt x="10479" y="2"/>
                    </a:lnTo>
                    <a:cubicBezTo>
                      <a:pt x="10480" y="2"/>
                      <a:pt x="10481" y="3"/>
                      <a:pt x="10481" y="4"/>
                    </a:cubicBezTo>
                    <a:cubicBezTo>
                      <a:pt x="10481" y="5"/>
                      <a:pt x="10480" y="6"/>
                      <a:pt x="10479" y="6"/>
                    </a:cubicBezTo>
                    <a:lnTo>
                      <a:pt x="10479" y="6"/>
                    </a:lnTo>
                    <a:cubicBezTo>
                      <a:pt x="10478" y="6"/>
                      <a:pt x="10477" y="5"/>
                      <a:pt x="10477" y="4"/>
                    </a:cubicBezTo>
                    <a:cubicBezTo>
                      <a:pt x="10477" y="3"/>
                      <a:pt x="10478" y="2"/>
                      <a:pt x="10479" y="2"/>
                    </a:cubicBezTo>
                    <a:close/>
                    <a:moveTo>
                      <a:pt x="10487" y="2"/>
                    </a:moveTo>
                    <a:lnTo>
                      <a:pt x="10487" y="2"/>
                    </a:lnTo>
                    <a:cubicBezTo>
                      <a:pt x="10488" y="2"/>
                      <a:pt x="10489" y="3"/>
                      <a:pt x="10489" y="4"/>
                    </a:cubicBezTo>
                    <a:cubicBezTo>
                      <a:pt x="10489" y="5"/>
                      <a:pt x="10488" y="6"/>
                      <a:pt x="10487" y="6"/>
                    </a:cubicBezTo>
                    <a:lnTo>
                      <a:pt x="10487" y="6"/>
                    </a:lnTo>
                    <a:cubicBezTo>
                      <a:pt x="10486" y="6"/>
                      <a:pt x="10485" y="5"/>
                      <a:pt x="10485" y="4"/>
                    </a:cubicBezTo>
                    <a:cubicBezTo>
                      <a:pt x="10485" y="3"/>
                      <a:pt x="10486" y="2"/>
                      <a:pt x="10487" y="2"/>
                    </a:cubicBezTo>
                    <a:close/>
                    <a:moveTo>
                      <a:pt x="10495" y="2"/>
                    </a:moveTo>
                    <a:lnTo>
                      <a:pt x="10495" y="2"/>
                    </a:lnTo>
                    <a:cubicBezTo>
                      <a:pt x="10496" y="2"/>
                      <a:pt x="10497" y="3"/>
                      <a:pt x="10497" y="4"/>
                    </a:cubicBezTo>
                    <a:cubicBezTo>
                      <a:pt x="10497" y="5"/>
                      <a:pt x="10496" y="6"/>
                      <a:pt x="10495" y="6"/>
                    </a:cubicBezTo>
                    <a:lnTo>
                      <a:pt x="10495" y="6"/>
                    </a:lnTo>
                    <a:cubicBezTo>
                      <a:pt x="10494" y="6"/>
                      <a:pt x="10493" y="5"/>
                      <a:pt x="10493" y="4"/>
                    </a:cubicBezTo>
                    <a:cubicBezTo>
                      <a:pt x="10493" y="3"/>
                      <a:pt x="10494" y="2"/>
                      <a:pt x="10495" y="2"/>
                    </a:cubicBezTo>
                    <a:close/>
                    <a:moveTo>
                      <a:pt x="10503" y="2"/>
                    </a:moveTo>
                    <a:lnTo>
                      <a:pt x="10503" y="2"/>
                    </a:lnTo>
                    <a:cubicBezTo>
                      <a:pt x="10504" y="2"/>
                      <a:pt x="10505" y="3"/>
                      <a:pt x="10505" y="4"/>
                    </a:cubicBezTo>
                    <a:cubicBezTo>
                      <a:pt x="10505" y="5"/>
                      <a:pt x="10504" y="6"/>
                      <a:pt x="10503" y="6"/>
                    </a:cubicBezTo>
                    <a:lnTo>
                      <a:pt x="10503" y="6"/>
                    </a:lnTo>
                    <a:cubicBezTo>
                      <a:pt x="10502" y="6"/>
                      <a:pt x="10501" y="5"/>
                      <a:pt x="10501" y="4"/>
                    </a:cubicBezTo>
                    <a:cubicBezTo>
                      <a:pt x="10501" y="3"/>
                      <a:pt x="10502" y="2"/>
                      <a:pt x="10503" y="2"/>
                    </a:cubicBezTo>
                    <a:close/>
                    <a:moveTo>
                      <a:pt x="10511" y="2"/>
                    </a:moveTo>
                    <a:lnTo>
                      <a:pt x="10511" y="2"/>
                    </a:lnTo>
                    <a:cubicBezTo>
                      <a:pt x="10512" y="2"/>
                      <a:pt x="10513" y="3"/>
                      <a:pt x="10513" y="4"/>
                    </a:cubicBezTo>
                    <a:cubicBezTo>
                      <a:pt x="10513" y="5"/>
                      <a:pt x="10512" y="6"/>
                      <a:pt x="10511" y="6"/>
                    </a:cubicBezTo>
                    <a:lnTo>
                      <a:pt x="10511" y="6"/>
                    </a:lnTo>
                    <a:cubicBezTo>
                      <a:pt x="10510" y="6"/>
                      <a:pt x="10509" y="5"/>
                      <a:pt x="10509" y="4"/>
                    </a:cubicBezTo>
                    <a:cubicBezTo>
                      <a:pt x="10509" y="3"/>
                      <a:pt x="10510" y="2"/>
                      <a:pt x="10511" y="2"/>
                    </a:cubicBezTo>
                    <a:close/>
                    <a:moveTo>
                      <a:pt x="10519" y="2"/>
                    </a:moveTo>
                    <a:lnTo>
                      <a:pt x="10519" y="2"/>
                    </a:lnTo>
                    <a:cubicBezTo>
                      <a:pt x="10520" y="2"/>
                      <a:pt x="10521" y="3"/>
                      <a:pt x="10521" y="4"/>
                    </a:cubicBezTo>
                    <a:cubicBezTo>
                      <a:pt x="10521" y="5"/>
                      <a:pt x="10520" y="6"/>
                      <a:pt x="10519" y="6"/>
                    </a:cubicBezTo>
                    <a:lnTo>
                      <a:pt x="10519" y="6"/>
                    </a:lnTo>
                    <a:cubicBezTo>
                      <a:pt x="10518" y="6"/>
                      <a:pt x="10517" y="5"/>
                      <a:pt x="10517" y="4"/>
                    </a:cubicBezTo>
                    <a:cubicBezTo>
                      <a:pt x="10517" y="3"/>
                      <a:pt x="10518" y="2"/>
                      <a:pt x="10519" y="2"/>
                    </a:cubicBezTo>
                    <a:close/>
                    <a:moveTo>
                      <a:pt x="10527" y="2"/>
                    </a:moveTo>
                    <a:lnTo>
                      <a:pt x="10527" y="2"/>
                    </a:lnTo>
                    <a:cubicBezTo>
                      <a:pt x="10528" y="2"/>
                      <a:pt x="10529" y="3"/>
                      <a:pt x="10529" y="4"/>
                    </a:cubicBezTo>
                    <a:cubicBezTo>
                      <a:pt x="10529" y="5"/>
                      <a:pt x="10528" y="6"/>
                      <a:pt x="10527" y="6"/>
                    </a:cubicBezTo>
                    <a:lnTo>
                      <a:pt x="10527" y="6"/>
                    </a:lnTo>
                    <a:cubicBezTo>
                      <a:pt x="10526" y="6"/>
                      <a:pt x="10525" y="5"/>
                      <a:pt x="10525" y="4"/>
                    </a:cubicBezTo>
                    <a:cubicBezTo>
                      <a:pt x="10525" y="3"/>
                      <a:pt x="10526" y="2"/>
                      <a:pt x="10527" y="2"/>
                    </a:cubicBezTo>
                    <a:close/>
                    <a:moveTo>
                      <a:pt x="10535" y="2"/>
                    </a:moveTo>
                    <a:lnTo>
                      <a:pt x="10535" y="2"/>
                    </a:lnTo>
                    <a:cubicBezTo>
                      <a:pt x="10536" y="2"/>
                      <a:pt x="10537" y="3"/>
                      <a:pt x="10537" y="4"/>
                    </a:cubicBezTo>
                    <a:cubicBezTo>
                      <a:pt x="10537" y="5"/>
                      <a:pt x="10536" y="6"/>
                      <a:pt x="10535" y="6"/>
                    </a:cubicBezTo>
                    <a:lnTo>
                      <a:pt x="10535" y="6"/>
                    </a:lnTo>
                    <a:cubicBezTo>
                      <a:pt x="10534" y="6"/>
                      <a:pt x="10533" y="5"/>
                      <a:pt x="10533" y="4"/>
                    </a:cubicBezTo>
                    <a:cubicBezTo>
                      <a:pt x="10533" y="3"/>
                      <a:pt x="10534" y="2"/>
                      <a:pt x="10535" y="2"/>
                    </a:cubicBezTo>
                    <a:close/>
                    <a:moveTo>
                      <a:pt x="10543" y="2"/>
                    </a:moveTo>
                    <a:lnTo>
                      <a:pt x="10543" y="2"/>
                    </a:lnTo>
                    <a:cubicBezTo>
                      <a:pt x="10544" y="2"/>
                      <a:pt x="10545" y="3"/>
                      <a:pt x="10545" y="4"/>
                    </a:cubicBezTo>
                    <a:cubicBezTo>
                      <a:pt x="10545" y="5"/>
                      <a:pt x="10544" y="6"/>
                      <a:pt x="10543" y="6"/>
                    </a:cubicBezTo>
                    <a:lnTo>
                      <a:pt x="10543" y="6"/>
                    </a:lnTo>
                    <a:cubicBezTo>
                      <a:pt x="10542" y="6"/>
                      <a:pt x="10541" y="5"/>
                      <a:pt x="10541" y="4"/>
                    </a:cubicBezTo>
                    <a:cubicBezTo>
                      <a:pt x="10541" y="3"/>
                      <a:pt x="10542" y="2"/>
                      <a:pt x="10543" y="2"/>
                    </a:cubicBezTo>
                    <a:close/>
                    <a:moveTo>
                      <a:pt x="10551" y="2"/>
                    </a:moveTo>
                    <a:lnTo>
                      <a:pt x="10551" y="2"/>
                    </a:lnTo>
                    <a:cubicBezTo>
                      <a:pt x="10552" y="2"/>
                      <a:pt x="10553" y="3"/>
                      <a:pt x="10553" y="4"/>
                    </a:cubicBezTo>
                    <a:cubicBezTo>
                      <a:pt x="10553" y="5"/>
                      <a:pt x="10552" y="6"/>
                      <a:pt x="10551" y="6"/>
                    </a:cubicBezTo>
                    <a:lnTo>
                      <a:pt x="10551" y="6"/>
                    </a:lnTo>
                    <a:cubicBezTo>
                      <a:pt x="10550" y="6"/>
                      <a:pt x="10549" y="5"/>
                      <a:pt x="10549" y="4"/>
                    </a:cubicBezTo>
                    <a:cubicBezTo>
                      <a:pt x="10549" y="3"/>
                      <a:pt x="10550" y="2"/>
                      <a:pt x="10551" y="2"/>
                    </a:cubicBezTo>
                    <a:close/>
                    <a:moveTo>
                      <a:pt x="10559" y="2"/>
                    </a:moveTo>
                    <a:lnTo>
                      <a:pt x="10559" y="2"/>
                    </a:lnTo>
                    <a:cubicBezTo>
                      <a:pt x="10560" y="2"/>
                      <a:pt x="10561" y="3"/>
                      <a:pt x="10561" y="4"/>
                    </a:cubicBezTo>
                    <a:cubicBezTo>
                      <a:pt x="10561" y="5"/>
                      <a:pt x="10560" y="6"/>
                      <a:pt x="10559" y="6"/>
                    </a:cubicBezTo>
                    <a:lnTo>
                      <a:pt x="10559" y="6"/>
                    </a:lnTo>
                    <a:cubicBezTo>
                      <a:pt x="10558" y="6"/>
                      <a:pt x="10557" y="5"/>
                      <a:pt x="10557" y="4"/>
                    </a:cubicBezTo>
                    <a:cubicBezTo>
                      <a:pt x="10557" y="3"/>
                      <a:pt x="10558" y="2"/>
                      <a:pt x="10559" y="2"/>
                    </a:cubicBezTo>
                    <a:close/>
                    <a:moveTo>
                      <a:pt x="10567" y="2"/>
                    </a:moveTo>
                    <a:lnTo>
                      <a:pt x="10567" y="2"/>
                    </a:lnTo>
                    <a:cubicBezTo>
                      <a:pt x="10568" y="2"/>
                      <a:pt x="10569" y="3"/>
                      <a:pt x="10569" y="4"/>
                    </a:cubicBezTo>
                    <a:cubicBezTo>
                      <a:pt x="10569" y="5"/>
                      <a:pt x="10568" y="6"/>
                      <a:pt x="10567" y="6"/>
                    </a:cubicBezTo>
                    <a:lnTo>
                      <a:pt x="10567" y="6"/>
                    </a:lnTo>
                    <a:cubicBezTo>
                      <a:pt x="10566" y="6"/>
                      <a:pt x="10565" y="5"/>
                      <a:pt x="10565" y="4"/>
                    </a:cubicBezTo>
                    <a:cubicBezTo>
                      <a:pt x="10565" y="3"/>
                      <a:pt x="10566" y="2"/>
                      <a:pt x="10567" y="2"/>
                    </a:cubicBezTo>
                    <a:close/>
                    <a:moveTo>
                      <a:pt x="10575" y="2"/>
                    </a:moveTo>
                    <a:lnTo>
                      <a:pt x="10575" y="2"/>
                    </a:lnTo>
                    <a:cubicBezTo>
                      <a:pt x="10576" y="2"/>
                      <a:pt x="10577" y="3"/>
                      <a:pt x="10577" y="4"/>
                    </a:cubicBezTo>
                    <a:cubicBezTo>
                      <a:pt x="10577" y="5"/>
                      <a:pt x="10576" y="6"/>
                      <a:pt x="10575" y="6"/>
                    </a:cubicBezTo>
                    <a:lnTo>
                      <a:pt x="10575" y="6"/>
                    </a:lnTo>
                    <a:cubicBezTo>
                      <a:pt x="10574" y="6"/>
                      <a:pt x="10573" y="5"/>
                      <a:pt x="10573" y="4"/>
                    </a:cubicBezTo>
                    <a:cubicBezTo>
                      <a:pt x="10573" y="3"/>
                      <a:pt x="10574" y="2"/>
                      <a:pt x="10575" y="2"/>
                    </a:cubicBezTo>
                    <a:close/>
                    <a:moveTo>
                      <a:pt x="10583" y="2"/>
                    </a:moveTo>
                    <a:lnTo>
                      <a:pt x="10583" y="2"/>
                    </a:lnTo>
                    <a:cubicBezTo>
                      <a:pt x="10584" y="2"/>
                      <a:pt x="10585" y="3"/>
                      <a:pt x="10585" y="4"/>
                    </a:cubicBezTo>
                    <a:cubicBezTo>
                      <a:pt x="10585" y="5"/>
                      <a:pt x="10584" y="6"/>
                      <a:pt x="10583" y="6"/>
                    </a:cubicBezTo>
                    <a:lnTo>
                      <a:pt x="10583" y="6"/>
                    </a:lnTo>
                    <a:cubicBezTo>
                      <a:pt x="10582" y="6"/>
                      <a:pt x="10581" y="5"/>
                      <a:pt x="10581" y="4"/>
                    </a:cubicBezTo>
                    <a:cubicBezTo>
                      <a:pt x="10581" y="3"/>
                      <a:pt x="10582" y="2"/>
                      <a:pt x="10583" y="2"/>
                    </a:cubicBezTo>
                    <a:close/>
                    <a:moveTo>
                      <a:pt x="10591" y="2"/>
                    </a:moveTo>
                    <a:lnTo>
                      <a:pt x="10591" y="2"/>
                    </a:lnTo>
                    <a:cubicBezTo>
                      <a:pt x="10592" y="2"/>
                      <a:pt x="10593" y="3"/>
                      <a:pt x="10593" y="4"/>
                    </a:cubicBezTo>
                    <a:cubicBezTo>
                      <a:pt x="10593" y="5"/>
                      <a:pt x="10592" y="6"/>
                      <a:pt x="10591" y="6"/>
                    </a:cubicBezTo>
                    <a:lnTo>
                      <a:pt x="10591" y="6"/>
                    </a:lnTo>
                    <a:cubicBezTo>
                      <a:pt x="10590" y="6"/>
                      <a:pt x="10589" y="5"/>
                      <a:pt x="10589" y="4"/>
                    </a:cubicBezTo>
                    <a:cubicBezTo>
                      <a:pt x="10589" y="3"/>
                      <a:pt x="10590" y="2"/>
                      <a:pt x="10591" y="2"/>
                    </a:cubicBezTo>
                    <a:close/>
                    <a:moveTo>
                      <a:pt x="10599" y="2"/>
                    </a:moveTo>
                    <a:lnTo>
                      <a:pt x="10599" y="2"/>
                    </a:lnTo>
                    <a:cubicBezTo>
                      <a:pt x="10600" y="2"/>
                      <a:pt x="10601" y="3"/>
                      <a:pt x="10601" y="4"/>
                    </a:cubicBezTo>
                    <a:cubicBezTo>
                      <a:pt x="10601" y="5"/>
                      <a:pt x="10600" y="6"/>
                      <a:pt x="10599" y="6"/>
                    </a:cubicBezTo>
                    <a:lnTo>
                      <a:pt x="10599" y="6"/>
                    </a:lnTo>
                    <a:cubicBezTo>
                      <a:pt x="10598" y="6"/>
                      <a:pt x="10597" y="5"/>
                      <a:pt x="10597" y="4"/>
                    </a:cubicBezTo>
                    <a:cubicBezTo>
                      <a:pt x="10597" y="3"/>
                      <a:pt x="10598" y="2"/>
                      <a:pt x="10599" y="2"/>
                    </a:cubicBezTo>
                    <a:close/>
                    <a:moveTo>
                      <a:pt x="10607" y="2"/>
                    </a:moveTo>
                    <a:lnTo>
                      <a:pt x="10607" y="2"/>
                    </a:lnTo>
                    <a:cubicBezTo>
                      <a:pt x="10608" y="2"/>
                      <a:pt x="10609" y="3"/>
                      <a:pt x="10609" y="4"/>
                    </a:cubicBezTo>
                    <a:cubicBezTo>
                      <a:pt x="10609" y="5"/>
                      <a:pt x="10608" y="6"/>
                      <a:pt x="10607" y="6"/>
                    </a:cubicBezTo>
                    <a:lnTo>
                      <a:pt x="10607" y="6"/>
                    </a:lnTo>
                    <a:cubicBezTo>
                      <a:pt x="10606" y="6"/>
                      <a:pt x="10605" y="5"/>
                      <a:pt x="10605" y="4"/>
                    </a:cubicBezTo>
                    <a:cubicBezTo>
                      <a:pt x="10605" y="3"/>
                      <a:pt x="10606" y="2"/>
                      <a:pt x="10607" y="2"/>
                    </a:cubicBezTo>
                    <a:close/>
                    <a:moveTo>
                      <a:pt x="10615" y="2"/>
                    </a:moveTo>
                    <a:lnTo>
                      <a:pt x="10615" y="2"/>
                    </a:lnTo>
                    <a:cubicBezTo>
                      <a:pt x="10616" y="2"/>
                      <a:pt x="10617" y="3"/>
                      <a:pt x="10617" y="4"/>
                    </a:cubicBezTo>
                    <a:cubicBezTo>
                      <a:pt x="10617" y="5"/>
                      <a:pt x="10616" y="6"/>
                      <a:pt x="10615" y="6"/>
                    </a:cubicBezTo>
                    <a:lnTo>
                      <a:pt x="10615" y="6"/>
                    </a:lnTo>
                    <a:cubicBezTo>
                      <a:pt x="10614" y="6"/>
                      <a:pt x="10613" y="5"/>
                      <a:pt x="10613" y="4"/>
                    </a:cubicBezTo>
                    <a:cubicBezTo>
                      <a:pt x="10613" y="3"/>
                      <a:pt x="10614" y="2"/>
                      <a:pt x="10615" y="2"/>
                    </a:cubicBezTo>
                    <a:close/>
                    <a:moveTo>
                      <a:pt x="10623" y="2"/>
                    </a:moveTo>
                    <a:lnTo>
                      <a:pt x="10623" y="2"/>
                    </a:lnTo>
                    <a:cubicBezTo>
                      <a:pt x="10624" y="2"/>
                      <a:pt x="10625" y="3"/>
                      <a:pt x="10625" y="4"/>
                    </a:cubicBezTo>
                    <a:cubicBezTo>
                      <a:pt x="10625" y="5"/>
                      <a:pt x="10624" y="6"/>
                      <a:pt x="10623" y="6"/>
                    </a:cubicBezTo>
                    <a:lnTo>
                      <a:pt x="10623" y="6"/>
                    </a:lnTo>
                    <a:cubicBezTo>
                      <a:pt x="10622" y="6"/>
                      <a:pt x="10621" y="5"/>
                      <a:pt x="10621" y="4"/>
                    </a:cubicBezTo>
                    <a:cubicBezTo>
                      <a:pt x="10621" y="3"/>
                      <a:pt x="10622" y="2"/>
                      <a:pt x="10623" y="2"/>
                    </a:cubicBezTo>
                    <a:close/>
                    <a:moveTo>
                      <a:pt x="10631" y="2"/>
                    </a:moveTo>
                    <a:lnTo>
                      <a:pt x="10631" y="2"/>
                    </a:lnTo>
                    <a:cubicBezTo>
                      <a:pt x="10632" y="2"/>
                      <a:pt x="10633" y="3"/>
                      <a:pt x="10633" y="4"/>
                    </a:cubicBezTo>
                    <a:cubicBezTo>
                      <a:pt x="10633" y="5"/>
                      <a:pt x="10632" y="6"/>
                      <a:pt x="10631" y="6"/>
                    </a:cubicBezTo>
                    <a:lnTo>
                      <a:pt x="10631" y="6"/>
                    </a:lnTo>
                    <a:cubicBezTo>
                      <a:pt x="10630" y="6"/>
                      <a:pt x="10629" y="5"/>
                      <a:pt x="10629" y="4"/>
                    </a:cubicBezTo>
                    <a:cubicBezTo>
                      <a:pt x="10629" y="3"/>
                      <a:pt x="10630" y="2"/>
                      <a:pt x="10631" y="2"/>
                    </a:cubicBezTo>
                    <a:close/>
                    <a:moveTo>
                      <a:pt x="10639" y="2"/>
                    </a:moveTo>
                    <a:lnTo>
                      <a:pt x="10639" y="2"/>
                    </a:lnTo>
                    <a:cubicBezTo>
                      <a:pt x="10640" y="2"/>
                      <a:pt x="10641" y="3"/>
                      <a:pt x="10641" y="4"/>
                    </a:cubicBezTo>
                    <a:cubicBezTo>
                      <a:pt x="10641" y="5"/>
                      <a:pt x="10640" y="6"/>
                      <a:pt x="10639" y="6"/>
                    </a:cubicBezTo>
                    <a:lnTo>
                      <a:pt x="10639" y="6"/>
                    </a:lnTo>
                    <a:cubicBezTo>
                      <a:pt x="10638" y="6"/>
                      <a:pt x="10637" y="5"/>
                      <a:pt x="10637" y="4"/>
                    </a:cubicBezTo>
                    <a:cubicBezTo>
                      <a:pt x="10637" y="3"/>
                      <a:pt x="10638" y="2"/>
                      <a:pt x="10639" y="2"/>
                    </a:cubicBezTo>
                    <a:close/>
                    <a:moveTo>
                      <a:pt x="10647" y="2"/>
                    </a:moveTo>
                    <a:lnTo>
                      <a:pt x="10647" y="2"/>
                    </a:lnTo>
                    <a:cubicBezTo>
                      <a:pt x="10648" y="2"/>
                      <a:pt x="10649" y="3"/>
                      <a:pt x="10649" y="4"/>
                    </a:cubicBezTo>
                    <a:cubicBezTo>
                      <a:pt x="10649" y="5"/>
                      <a:pt x="10648" y="6"/>
                      <a:pt x="10647" y="6"/>
                    </a:cubicBezTo>
                    <a:lnTo>
                      <a:pt x="10647" y="6"/>
                    </a:lnTo>
                    <a:cubicBezTo>
                      <a:pt x="10646" y="6"/>
                      <a:pt x="10645" y="5"/>
                      <a:pt x="10645" y="4"/>
                    </a:cubicBezTo>
                    <a:cubicBezTo>
                      <a:pt x="10645" y="3"/>
                      <a:pt x="10646" y="2"/>
                      <a:pt x="10647" y="2"/>
                    </a:cubicBezTo>
                    <a:close/>
                    <a:moveTo>
                      <a:pt x="10655" y="2"/>
                    </a:moveTo>
                    <a:lnTo>
                      <a:pt x="10655" y="2"/>
                    </a:lnTo>
                    <a:cubicBezTo>
                      <a:pt x="10656" y="2"/>
                      <a:pt x="10657" y="3"/>
                      <a:pt x="10657" y="4"/>
                    </a:cubicBezTo>
                    <a:cubicBezTo>
                      <a:pt x="10657" y="5"/>
                      <a:pt x="10656" y="6"/>
                      <a:pt x="10655" y="6"/>
                    </a:cubicBezTo>
                    <a:lnTo>
                      <a:pt x="10655" y="6"/>
                    </a:lnTo>
                    <a:cubicBezTo>
                      <a:pt x="10654" y="6"/>
                      <a:pt x="10653" y="5"/>
                      <a:pt x="10653" y="4"/>
                    </a:cubicBezTo>
                    <a:cubicBezTo>
                      <a:pt x="10653" y="3"/>
                      <a:pt x="10654" y="2"/>
                      <a:pt x="10655" y="2"/>
                    </a:cubicBezTo>
                    <a:close/>
                    <a:moveTo>
                      <a:pt x="10663" y="2"/>
                    </a:moveTo>
                    <a:lnTo>
                      <a:pt x="10663" y="2"/>
                    </a:lnTo>
                    <a:cubicBezTo>
                      <a:pt x="10664" y="2"/>
                      <a:pt x="10665" y="3"/>
                      <a:pt x="10665" y="4"/>
                    </a:cubicBezTo>
                    <a:cubicBezTo>
                      <a:pt x="10665" y="5"/>
                      <a:pt x="10664" y="6"/>
                      <a:pt x="10663" y="6"/>
                    </a:cubicBezTo>
                    <a:lnTo>
                      <a:pt x="10663" y="6"/>
                    </a:lnTo>
                    <a:cubicBezTo>
                      <a:pt x="10662" y="6"/>
                      <a:pt x="10661" y="5"/>
                      <a:pt x="10661" y="4"/>
                    </a:cubicBezTo>
                    <a:cubicBezTo>
                      <a:pt x="10661" y="3"/>
                      <a:pt x="10662" y="2"/>
                      <a:pt x="10663" y="2"/>
                    </a:cubicBezTo>
                    <a:close/>
                    <a:moveTo>
                      <a:pt x="10671" y="2"/>
                    </a:moveTo>
                    <a:lnTo>
                      <a:pt x="10671" y="2"/>
                    </a:lnTo>
                    <a:cubicBezTo>
                      <a:pt x="10672" y="2"/>
                      <a:pt x="10673" y="3"/>
                      <a:pt x="10673" y="4"/>
                    </a:cubicBezTo>
                    <a:cubicBezTo>
                      <a:pt x="10673" y="5"/>
                      <a:pt x="10672" y="6"/>
                      <a:pt x="10671" y="6"/>
                    </a:cubicBezTo>
                    <a:lnTo>
                      <a:pt x="10671" y="6"/>
                    </a:lnTo>
                    <a:cubicBezTo>
                      <a:pt x="10670" y="6"/>
                      <a:pt x="10669" y="5"/>
                      <a:pt x="10669" y="4"/>
                    </a:cubicBezTo>
                    <a:cubicBezTo>
                      <a:pt x="10669" y="3"/>
                      <a:pt x="10670" y="2"/>
                      <a:pt x="10671" y="2"/>
                    </a:cubicBezTo>
                    <a:close/>
                    <a:moveTo>
                      <a:pt x="10679" y="2"/>
                    </a:moveTo>
                    <a:lnTo>
                      <a:pt x="10679" y="2"/>
                    </a:lnTo>
                    <a:cubicBezTo>
                      <a:pt x="10680" y="2"/>
                      <a:pt x="10681" y="3"/>
                      <a:pt x="10681" y="4"/>
                    </a:cubicBezTo>
                    <a:cubicBezTo>
                      <a:pt x="10681" y="5"/>
                      <a:pt x="10680" y="6"/>
                      <a:pt x="10679" y="6"/>
                    </a:cubicBezTo>
                    <a:lnTo>
                      <a:pt x="10679" y="6"/>
                    </a:lnTo>
                    <a:cubicBezTo>
                      <a:pt x="10678" y="6"/>
                      <a:pt x="10677" y="5"/>
                      <a:pt x="10677" y="4"/>
                    </a:cubicBezTo>
                    <a:cubicBezTo>
                      <a:pt x="10677" y="3"/>
                      <a:pt x="10678" y="2"/>
                      <a:pt x="10679" y="2"/>
                    </a:cubicBezTo>
                    <a:close/>
                    <a:moveTo>
                      <a:pt x="10687" y="2"/>
                    </a:moveTo>
                    <a:lnTo>
                      <a:pt x="10687" y="2"/>
                    </a:lnTo>
                    <a:cubicBezTo>
                      <a:pt x="10688" y="2"/>
                      <a:pt x="10689" y="3"/>
                      <a:pt x="10689" y="4"/>
                    </a:cubicBezTo>
                    <a:cubicBezTo>
                      <a:pt x="10689" y="5"/>
                      <a:pt x="10688" y="6"/>
                      <a:pt x="10687" y="6"/>
                    </a:cubicBezTo>
                    <a:lnTo>
                      <a:pt x="10687" y="6"/>
                    </a:lnTo>
                    <a:cubicBezTo>
                      <a:pt x="10686" y="6"/>
                      <a:pt x="10685" y="5"/>
                      <a:pt x="10685" y="4"/>
                    </a:cubicBezTo>
                    <a:cubicBezTo>
                      <a:pt x="10685" y="3"/>
                      <a:pt x="10686" y="2"/>
                      <a:pt x="10687" y="2"/>
                    </a:cubicBezTo>
                    <a:close/>
                    <a:moveTo>
                      <a:pt x="10695" y="2"/>
                    </a:moveTo>
                    <a:lnTo>
                      <a:pt x="10695" y="2"/>
                    </a:lnTo>
                    <a:cubicBezTo>
                      <a:pt x="10696" y="2"/>
                      <a:pt x="10697" y="3"/>
                      <a:pt x="10697" y="4"/>
                    </a:cubicBezTo>
                    <a:cubicBezTo>
                      <a:pt x="10697" y="5"/>
                      <a:pt x="10696" y="6"/>
                      <a:pt x="10695" y="6"/>
                    </a:cubicBezTo>
                    <a:lnTo>
                      <a:pt x="10695" y="6"/>
                    </a:lnTo>
                    <a:cubicBezTo>
                      <a:pt x="10694" y="6"/>
                      <a:pt x="10693" y="5"/>
                      <a:pt x="10693" y="4"/>
                    </a:cubicBezTo>
                    <a:cubicBezTo>
                      <a:pt x="10693" y="3"/>
                      <a:pt x="10694" y="2"/>
                      <a:pt x="10695" y="2"/>
                    </a:cubicBezTo>
                    <a:close/>
                    <a:moveTo>
                      <a:pt x="10703" y="2"/>
                    </a:moveTo>
                    <a:lnTo>
                      <a:pt x="10703" y="2"/>
                    </a:lnTo>
                    <a:cubicBezTo>
                      <a:pt x="10704" y="2"/>
                      <a:pt x="10705" y="3"/>
                      <a:pt x="10705" y="4"/>
                    </a:cubicBezTo>
                    <a:cubicBezTo>
                      <a:pt x="10705" y="5"/>
                      <a:pt x="10704" y="6"/>
                      <a:pt x="10703" y="6"/>
                    </a:cubicBezTo>
                    <a:lnTo>
                      <a:pt x="10703" y="6"/>
                    </a:lnTo>
                    <a:cubicBezTo>
                      <a:pt x="10702" y="6"/>
                      <a:pt x="10701" y="5"/>
                      <a:pt x="10701" y="4"/>
                    </a:cubicBezTo>
                    <a:cubicBezTo>
                      <a:pt x="10701" y="3"/>
                      <a:pt x="10702" y="2"/>
                      <a:pt x="10703" y="2"/>
                    </a:cubicBezTo>
                    <a:close/>
                    <a:moveTo>
                      <a:pt x="10711" y="2"/>
                    </a:moveTo>
                    <a:lnTo>
                      <a:pt x="10711" y="2"/>
                    </a:lnTo>
                    <a:cubicBezTo>
                      <a:pt x="10712" y="2"/>
                      <a:pt x="10713" y="3"/>
                      <a:pt x="10713" y="4"/>
                    </a:cubicBezTo>
                    <a:cubicBezTo>
                      <a:pt x="10713" y="6"/>
                      <a:pt x="10712" y="6"/>
                      <a:pt x="10711" y="6"/>
                    </a:cubicBezTo>
                    <a:lnTo>
                      <a:pt x="10711" y="6"/>
                    </a:lnTo>
                    <a:cubicBezTo>
                      <a:pt x="10710" y="6"/>
                      <a:pt x="10709" y="6"/>
                      <a:pt x="10709" y="4"/>
                    </a:cubicBezTo>
                    <a:cubicBezTo>
                      <a:pt x="10709" y="3"/>
                      <a:pt x="10710" y="2"/>
                      <a:pt x="10711" y="2"/>
                    </a:cubicBezTo>
                    <a:close/>
                    <a:moveTo>
                      <a:pt x="10719" y="2"/>
                    </a:moveTo>
                    <a:lnTo>
                      <a:pt x="10719" y="2"/>
                    </a:lnTo>
                    <a:cubicBezTo>
                      <a:pt x="10720" y="2"/>
                      <a:pt x="10721" y="3"/>
                      <a:pt x="10721" y="4"/>
                    </a:cubicBezTo>
                    <a:cubicBezTo>
                      <a:pt x="10721" y="6"/>
                      <a:pt x="10720" y="6"/>
                      <a:pt x="10719" y="6"/>
                    </a:cubicBezTo>
                    <a:lnTo>
                      <a:pt x="10719" y="6"/>
                    </a:lnTo>
                    <a:cubicBezTo>
                      <a:pt x="10718" y="6"/>
                      <a:pt x="10717" y="6"/>
                      <a:pt x="10717" y="4"/>
                    </a:cubicBezTo>
                    <a:cubicBezTo>
                      <a:pt x="10717" y="3"/>
                      <a:pt x="10718" y="2"/>
                      <a:pt x="10719" y="2"/>
                    </a:cubicBezTo>
                    <a:close/>
                    <a:moveTo>
                      <a:pt x="10727" y="2"/>
                    </a:moveTo>
                    <a:lnTo>
                      <a:pt x="10727" y="2"/>
                    </a:lnTo>
                    <a:cubicBezTo>
                      <a:pt x="10728" y="2"/>
                      <a:pt x="10729" y="3"/>
                      <a:pt x="10729" y="4"/>
                    </a:cubicBezTo>
                    <a:cubicBezTo>
                      <a:pt x="10729" y="6"/>
                      <a:pt x="10728" y="6"/>
                      <a:pt x="10727" y="6"/>
                    </a:cubicBezTo>
                    <a:lnTo>
                      <a:pt x="10727" y="6"/>
                    </a:lnTo>
                    <a:cubicBezTo>
                      <a:pt x="10726" y="6"/>
                      <a:pt x="10725" y="6"/>
                      <a:pt x="10725" y="4"/>
                    </a:cubicBezTo>
                    <a:cubicBezTo>
                      <a:pt x="10725" y="3"/>
                      <a:pt x="10726" y="2"/>
                      <a:pt x="10727" y="2"/>
                    </a:cubicBezTo>
                    <a:close/>
                    <a:moveTo>
                      <a:pt x="10735" y="2"/>
                    </a:moveTo>
                    <a:lnTo>
                      <a:pt x="10735" y="2"/>
                    </a:lnTo>
                    <a:cubicBezTo>
                      <a:pt x="10736" y="2"/>
                      <a:pt x="10737" y="3"/>
                      <a:pt x="10737" y="4"/>
                    </a:cubicBezTo>
                    <a:cubicBezTo>
                      <a:pt x="10737" y="6"/>
                      <a:pt x="10736" y="6"/>
                      <a:pt x="10735" y="6"/>
                    </a:cubicBezTo>
                    <a:lnTo>
                      <a:pt x="10735" y="6"/>
                    </a:lnTo>
                    <a:cubicBezTo>
                      <a:pt x="10734" y="6"/>
                      <a:pt x="10733" y="6"/>
                      <a:pt x="10733" y="4"/>
                    </a:cubicBezTo>
                    <a:cubicBezTo>
                      <a:pt x="10733" y="3"/>
                      <a:pt x="10734" y="2"/>
                      <a:pt x="10735" y="2"/>
                    </a:cubicBezTo>
                    <a:close/>
                    <a:moveTo>
                      <a:pt x="10743" y="2"/>
                    </a:moveTo>
                    <a:lnTo>
                      <a:pt x="10743" y="2"/>
                    </a:lnTo>
                    <a:cubicBezTo>
                      <a:pt x="10744" y="2"/>
                      <a:pt x="10745" y="3"/>
                      <a:pt x="10745" y="4"/>
                    </a:cubicBezTo>
                    <a:cubicBezTo>
                      <a:pt x="10745" y="6"/>
                      <a:pt x="10744" y="6"/>
                      <a:pt x="10743" y="6"/>
                    </a:cubicBezTo>
                    <a:lnTo>
                      <a:pt x="10743" y="6"/>
                    </a:lnTo>
                    <a:cubicBezTo>
                      <a:pt x="10742" y="6"/>
                      <a:pt x="10741" y="6"/>
                      <a:pt x="10741" y="4"/>
                    </a:cubicBezTo>
                    <a:cubicBezTo>
                      <a:pt x="10741" y="3"/>
                      <a:pt x="10742" y="2"/>
                      <a:pt x="10743" y="2"/>
                    </a:cubicBezTo>
                    <a:close/>
                    <a:moveTo>
                      <a:pt x="10751" y="2"/>
                    </a:moveTo>
                    <a:lnTo>
                      <a:pt x="10751" y="2"/>
                    </a:lnTo>
                    <a:cubicBezTo>
                      <a:pt x="10752" y="2"/>
                      <a:pt x="10753" y="3"/>
                      <a:pt x="10753" y="4"/>
                    </a:cubicBezTo>
                    <a:cubicBezTo>
                      <a:pt x="10753" y="6"/>
                      <a:pt x="10752" y="6"/>
                      <a:pt x="10751" y="6"/>
                    </a:cubicBezTo>
                    <a:lnTo>
                      <a:pt x="10751" y="6"/>
                    </a:lnTo>
                    <a:cubicBezTo>
                      <a:pt x="10750" y="6"/>
                      <a:pt x="10749" y="6"/>
                      <a:pt x="10749" y="4"/>
                    </a:cubicBezTo>
                    <a:cubicBezTo>
                      <a:pt x="10749" y="3"/>
                      <a:pt x="10750" y="2"/>
                      <a:pt x="10751" y="2"/>
                    </a:cubicBezTo>
                    <a:close/>
                    <a:moveTo>
                      <a:pt x="10759" y="2"/>
                    </a:moveTo>
                    <a:lnTo>
                      <a:pt x="10759" y="2"/>
                    </a:lnTo>
                    <a:cubicBezTo>
                      <a:pt x="10760" y="2"/>
                      <a:pt x="10761" y="3"/>
                      <a:pt x="10761" y="4"/>
                    </a:cubicBezTo>
                    <a:cubicBezTo>
                      <a:pt x="10761" y="6"/>
                      <a:pt x="10760" y="6"/>
                      <a:pt x="10759" y="6"/>
                    </a:cubicBezTo>
                    <a:lnTo>
                      <a:pt x="10759" y="6"/>
                    </a:lnTo>
                    <a:cubicBezTo>
                      <a:pt x="10758" y="6"/>
                      <a:pt x="10757" y="6"/>
                      <a:pt x="10757" y="4"/>
                    </a:cubicBezTo>
                    <a:cubicBezTo>
                      <a:pt x="10757" y="3"/>
                      <a:pt x="10758" y="2"/>
                      <a:pt x="10759" y="2"/>
                    </a:cubicBezTo>
                    <a:close/>
                    <a:moveTo>
                      <a:pt x="10767" y="2"/>
                    </a:moveTo>
                    <a:lnTo>
                      <a:pt x="10767" y="2"/>
                    </a:lnTo>
                    <a:cubicBezTo>
                      <a:pt x="10768" y="2"/>
                      <a:pt x="10769" y="3"/>
                      <a:pt x="10769" y="4"/>
                    </a:cubicBezTo>
                    <a:cubicBezTo>
                      <a:pt x="10769" y="6"/>
                      <a:pt x="10768" y="6"/>
                      <a:pt x="10767" y="6"/>
                    </a:cubicBezTo>
                    <a:lnTo>
                      <a:pt x="10767" y="6"/>
                    </a:lnTo>
                    <a:cubicBezTo>
                      <a:pt x="10766" y="6"/>
                      <a:pt x="10765" y="6"/>
                      <a:pt x="10765" y="4"/>
                    </a:cubicBezTo>
                    <a:cubicBezTo>
                      <a:pt x="10765" y="3"/>
                      <a:pt x="10766" y="2"/>
                      <a:pt x="10767" y="2"/>
                    </a:cubicBezTo>
                    <a:close/>
                    <a:moveTo>
                      <a:pt x="10775" y="2"/>
                    </a:moveTo>
                    <a:lnTo>
                      <a:pt x="10775" y="2"/>
                    </a:lnTo>
                    <a:cubicBezTo>
                      <a:pt x="10776" y="2"/>
                      <a:pt x="10777" y="3"/>
                      <a:pt x="10777" y="4"/>
                    </a:cubicBezTo>
                    <a:cubicBezTo>
                      <a:pt x="10777" y="6"/>
                      <a:pt x="10776" y="6"/>
                      <a:pt x="10775" y="6"/>
                    </a:cubicBezTo>
                    <a:lnTo>
                      <a:pt x="10775" y="6"/>
                    </a:lnTo>
                    <a:cubicBezTo>
                      <a:pt x="10774" y="6"/>
                      <a:pt x="10773" y="6"/>
                      <a:pt x="10773" y="4"/>
                    </a:cubicBezTo>
                    <a:cubicBezTo>
                      <a:pt x="10773" y="3"/>
                      <a:pt x="10774" y="2"/>
                      <a:pt x="10775" y="2"/>
                    </a:cubicBezTo>
                    <a:close/>
                    <a:moveTo>
                      <a:pt x="10783" y="2"/>
                    </a:moveTo>
                    <a:lnTo>
                      <a:pt x="10783" y="2"/>
                    </a:lnTo>
                    <a:cubicBezTo>
                      <a:pt x="10784" y="2"/>
                      <a:pt x="10785" y="3"/>
                      <a:pt x="10785" y="4"/>
                    </a:cubicBezTo>
                    <a:cubicBezTo>
                      <a:pt x="10785" y="6"/>
                      <a:pt x="10784" y="6"/>
                      <a:pt x="10783" y="6"/>
                    </a:cubicBezTo>
                    <a:lnTo>
                      <a:pt x="10783" y="6"/>
                    </a:lnTo>
                    <a:cubicBezTo>
                      <a:pt x="10782" y="6"/>
                      <a:pt x="10781" y="6"/>
                      <a:pt x="10781" y="4"/>
                    </a:cubicBezTo>
                    <a:cubicBezTo>
                      <a:pt x="10781" y="3"/>
                      <a:pt x="10782" y="2"/>
                      <a:pt x="10783" y="2"/>
                    </a:cubicBezTo>
                    <a:close/>
                    <a:moveTo>
                      <a:pt x="10791" y="2"/>
                    </a:moveTo>
                    <a:lnTo>
                      <a:pt x="10791" y="2"/>
                    </a:lnTo>
                    <a:cubicBezTo>
                      <a:pt x="10793" y="2"/>
                      <a:pt x="10793" y="3"/>
                      <a:pt x="10793" y="4"/>
                    </a:cubicBezTo>
                    <a:cubicBezTo>
                      <a:pt x="10793" y="6"/>
                      <a:pt x="10793" y="6"/>
                      <a:pt x="10791" y="6"/>
                    </a:cubicBezTo>
                    <a:lnTo>
                      <a:pt x="10791" y="6"/>
                    </a:lnTo>
                    <a:cubicBezTo>
                      <a:pt x="10790" y="6"/>
                      <a:pt x="10789" y="6"/>
                      <a:pt x="10789" y="4"/>
                    </a:cubicBezTo>
                    <a:cubicBezTo>
                      <a:pt x="10789" y="3"/>
                      <a:pt x="10790" y="2"/>
                      <a:pt x="10791" y="2"/>
                    </a:cubicBezTo>
                    <a:close/>
                    <a:moveTo>
                      <a:pt x="10799" y="2"/>
                    </a:moveTo>
                    <a:lnTo>
                      <a:pt x="10799" y="2"/>
                    </a:lnTo>
                    <a:cubicBezTo>
                      <a:pt x="10801" y="2"/>
                      <a:pt x="10801" y="3"/>
                      <a:pt x="10801" y="4"/>
                    </a:cubicBezTo>
                    <a:cubicBezTo>
                      <a:pt x="10801" y="6"/>
                      <a:pt x="10801" y="6"/>
                      <a:pt x="10799" y="6"/>
                    </a:cubicBezTo>
                    <a:lnTo>
                      <a:pt x="10799" y="6"/>
                    </a:lnTo>
                    <a:cubicBezTo>
                      <a:pt x="10798" y="6"/>
                      <a:pt x="10797" y="6"/>
                      <a:pt x="10797" y="4"/>
                    </a:cubicBezTo>
                    <a:cubicBezTo>
                      <a:pt x="10797" y="3"/>
                      <a:pt x="10798" y="2"/>
                      <a:pt x="10799" y="2"/>
                    </a:cubicBezTo>
                    <a:close/>
                    <a:moveTo>
                      <a:pt x="10807" y="2"/>
                    </a:moveTo>
                    <a:lnTo>
                      <a:pt x="10807" y="2"/>
                    </a:lnTo>
                    <a:cubicBezTo>
                      <a:pt x="10809" y="2"/>
                      <a:pt x="10809" y="3"/>
                      <a:pt x="10809" y="4"/>
                    </a:cubicBezTo>
                    <a:cubicBezTo>
                      <a:pt x="10809" y="6"/>
                      <a:pt x="10809" y="6"/>
                      <a:pt x="10807" y="6"/>
                    </a:cubicBezTo>
                    <a:lnTo>
                      <a:pt x="10807" y="6"/>
                    </a:lnTo>
                    <a:cubicBezTo>
                      <a:pt x="10806" y="6"/>
                      <a:pt x="10805" y="6"/>
                      <a:pt x="10805" y="4"/>
                    </a:cubicBezTo>
                    <a:cubicBezTo>
                      <a:pt x="10805" y="3"/>
                      <a:pt x="10806" y="2"/>
                      <a:pt x="10807" y="2"/>
                    </a:cubicBezTo>
                    <a:close/>
                    <a:moveTo>
                      <a:pt x="10815" y="2"/>
                    </a:moveTo>
                    <a:lnTo>
                      <a:pt x="10815" y="2"/>
                    </a:lnTo>
                    <a:cubicBezTo>
                      <a:pt x="10817" y="2"/>
                      <a:pt x="10817" y="3"/>
                      <a:pt x="10817" y="4"/>
                    </a:cubicBezTo>
                    <a:cubicBezTo>
                      <a:pt x="10817" y="6"/>
                      <a:pt x="10817" y="6"/>
                      <a:pt x="10815" y="6"/>
                    </a:cubicBezTo>
                    <a:lnTo>
                      <a:pt x="10815" y="6"/>
                    </a:lnTo>
                    <a:cubicBezTo>
                      <a:pt x="10814" y="6"/>
                      <a:pt x="10813" y="6"/>
                      <a:pt x="10813" y="4"/>
                    </a:cubicBezTo>
                    <a:cubicBezTo>
                      <a:pt x="10813" y="3"/>
                      <a:pt x="10814" y="2"/>
                      <a:pt x="10815" y="2"/>
                    </a:cubicBezTo>
                    <a:close/>
                    <a:moveTo>
                      <a:pt x="10823" y="2"/>
                    </a:moveTo>
                    <a:lnTo>
                      <a:pt x="10823" y="2"/>
                    </a:lnTo>
                    <a:cubicBezTo>
                      <a:pt x="10825" y="2"/>
                      <a:pt x="10825" y="3"/>
                      <a:pt x="10825" y="4"/>
                    </a:cubicBezTo>
                    <a:cubicBezTo>
                      <a:pt x="10825" y="6"/>
                      <a:pt x="10825" y="6"/>
                      <a:pt x="10823" y="6"/>
                    </a:cubicBezTo>
                    <a:lnTo>
                      <a:pt x="10823" y="6"/>
                    </a:lnTo>
                    <a:cubicBezTo>
                      <a:pt x="10822" y="6"/>
                      <a:pt x="10821" y="6"/>
                      <a:pt x="10821" y="4"/>
                    </a:cubicBezTo>
                    <a:cubicBezTo>
                      <a:pt x="10821" y="3"/>
                      <a:pt x="10822" y="2"/>
                      <a:pt x="10823" y="2"/>
                    </a:cubicBezTo>
                    <a:close/>
                    <a:moveTo>
                      <a:pt x="10831" y="2"/>
                    </a:moveTo>
                    <a:lnTo>
                      <a:pt x="10831" y="2"/>
                    </a:lnTo>
                    <a:cubicBezTo>
                      <a:pt x="10833" y="2"/>
                      <a:pt x="10833" y="3"/>
                      <a:pt x="10833" y="4"/>
                    </a:cubicBezTo>
                    <a:cubicBezTo>
                      <a:pt x="10833" y="6"/>
                      <a:pt x="10833" y="6"/>
                      <a:pt x="10831" y="6"/>
                    </a:cubicBezTo>
                    <a:lnTo>
                      <a:pt x="10831" y="6"/>
                    </a:lnTo>
                    <a:cubicBezTo>
                      <a:pt x="10830" y="6"/>
                      <a:pt x="10829" y="6"/>
                      <a:pt x="10829" y="4"/>
                    </a:cubicBezTo>
                    <a:cubicBezTo>
                      <a:pt x="10829" y="3"/>
                      <a:pt x="10830" y="2"/>
                      <a:pt x="10831" y="2"/>
                    </a:cubicBezTo>
                    <a:close/>
                    <a:moveTo>
                      <a:pt x="10839" y="2"/>
                    </a:moveTo>
                    <a:lnTo>
                      <a:pt x="10839" y="2"/>
                    </a:lnTo>
                    <a:cubicBezTo>
                      <a:pt x="10841" y="2"/>
                      <a:pt x="10841" y="3"/>
                      <a:pt x="10841" y="4"/>
                    </a:cubicBezTo>
                    <a:cubicBezTo>
                      <a:pt x="10841" y="6"/>
                      <a:pt x="10841" y="6"/>
                      <a:pt x="10839" y="6"/>
                    </a:cubicBezTo>
                    <a:lnTo>
                      <a:pt x="10839" y="6"/>
                    </a:lnTo>
                    <a:cubicBezTo>
                      <a:pt x="10838" y="6"/>
                      <a:pt x="10837" y="6"/>
                      <a:pt x="10837" y="4"/>
                    </a:cubicBezTo>
                    <a:cubicBezTo>
                      <a:pt x="10837" y="3"/>
                      <a:pt x="10838" y="2"/>
                      <a:pt x="10839" y="2"/>
                    </a:cubicBezTo>
                    <a:close/>
                    <a:moveTo>
                      <a:pt x="10847" y="2"/>
                    </a:moveTo>
                    <a:lnTo>
                      <a:pt x="10847" y="2"/>
                    </a:lnTo>
                    <a:cubicBezTo>
                      <a:pt x="10849" y="2"/>
                      <a:pt x="10849" y="3"/>
                      <a:pt x="10849" y="4"/>
                    </a:cubicBezTo>
                    <a:cubicBezTo>
                      <a:pt x="10849" y="6"/>
                      <a:pt x="10849" y="6"/>
                      <a:pt x="10847" y="6"/>
                    </a:cubicBezTo>
                    <a:lnTo>
                      <a:pt x="10847" y="6"/>
                    </a:lnTo>
                    <a:cubicBezTo>
                      <a:pt x="10846" y="6"/>
                      <a:pt x="10845" y="6"/>
                      <a:pt x="10845" y="4"/>
                    </a:cubicBezTo>
                    <a:cubicBezTo>
                      <a:pt x="10845" y="3"/>
                      <a:pt x="10846" y="2"/>
                      <a:pt x="10847" y="2"/>
                    </a:cubicBezTo>
                    <a:close/>
                    <a:moveTo>
                      <a:pt x="10855" y="2"/>
                    </a:moveTo>
                    <a:lnTo>
                      <a:pt x="10855" y="2"/>
                    </a:lnTo>
                    <a:cubicBezTo>
                      <a:pt x="10857" y="2"/>
                      <a:pt x="10857" y="3"/>
                      <a:pt x="10857" y="4"/>
                    </a:cubicBezTo>
                    <a:cubicBezTo>
                      <a:pt x="10857" y="6"/>
                      <a:pt x="10857" y="6"/>
                      <a:pt x="10855" y="6"/>
                    </a:cubicBezTo>
                    <a:lnTo>
                      <a:pt x="10855" y="6"/>
                    </a:lnTo>
                    <a:cubicBezTo>
                      <a:pt x="10854" y="6"/>
                      <a:pt x="10853" y="6"/>
                      <a:pt x="10853" y="4"/>
                    </a:cubicBezTo>
                    <a:cubicBezTo>
                      <a:pt x="10853" y="3"/>
                      <a:pt x="10854" y="2"/>
                      <a:pt x="10855" y="2"/>
                    </a:cubicBezTo>
                    <a:close/>
                    <a:moveTo>
                      <a:pt x="10863" y="2"/>
                    </a:moveTo>
                    <a:lnTo>
                      <a:pt x="10863" y="2"/>
                    </a:lnTo>
                    <a:cubicBezTo>
                      <a:pt x="10865" y="2"/>
                      <a:pt x="10865" y="3"/>
                      <a:pt x="10865" y="4"/>
                    </a:cubicBezTo>
                    <a:cubicBezTo>
                      <a:pt x="10865" y="6"/>
                      <a:pt x="10865" y="6"/>
                      <a:pt x="10863" y="6"/>
                    </a:cubicBezTo>
                    <a:lnTo>
                      <a:pt x="10863" y="6"/>
                    </a:lnTo>
                    <a:cubicBezTo>
                      <a:pt x="10862" y="6"/>
                      <a:pt x="10861" y="6"/>
                      <a:pt x="10861" y="4"/>
                    </a:cubicBezTo>
                    <a:cubicBezTo>
                      <a:pt x="10861" y="3"/>
                      <a:pt x="10862" y="2"/>
                      <a:pt x="10863" y="2"/>
                    </a:cubicBezTo>
                    <a:close/>
                    <a:moveTo>
                      <a:pt x="10871" y="2"/>
                    </a:moveTo>
                    <a:lnTo>
                      <a:pt x="10871" y="2"/>
                    </a:lnTo>
                    <a:cubicBezTo>
                      <a:pt x="10873" y="2"/>
                      <a:pt x="10873" y="3"/>
                      <a:pt x="10873" y="4"/>
                    </a:cubicBezTo>
                    <a:cubicBezTo>
                      <a:pt x="10873" y="6"/>
                      <a:pt x="10873" y="6"/>
                      <a:pt x="10871" y="6"/>
                    </a:cubicBezTo>
                    <a:lnTo>
                      <a:pt x="10871" y="6"/>
                    </a:lnTo>
                    <a:cubicBezTo>
                      <a:pt x="10870" y="6"/>
                      <a:pt x="10869" y="6"/>
                      <a:pt x="10869" y="4"/>
                    </a:cubicBezTo>
                    <a:cubicBezTo>
                      <a:pt x="10869" y="3"/>
                      <a:pt x="10870" y="2"/>
                      <a:pt x="10871" y="2"/>
                    </a:cubicBezTo>
                    <a:close/>
                    <a:moveTo>
                      <a:pt x="10879" y="2"/>
                    </a:moveTo>
                    <a:lnTo>
                      <a:pt x="10879" y="2"/>
                    </a:lnTo>
                    <a:cubicBezTo>
                      <a:pt x="10881" y="2"/>
                      <a:pt x="10881" y="3"/>
                      <a:pt x="10881" y="4"/>
                    </a:cubicBezTo>
                    <a:cubicBezTo>
                      <a:pt x="10881" y="6"/>
                      <a:pt x="10881" y="6"/>
                      <a:pt x="10879" y="6"/>
                    </a:cubicBezTo>
                    <a:lnTo>
                      <a:pt x="10879" y="6"/>
                    </a:lnTo>
                    <a:cubicBezTo>
                      <a:pt x="10878" y="6"/>
                      <a:pt x="10877" y="6"/>
                      <a:pt x="10877" y="4"/>
                    </a:cubicBezTo>
                    <a:cubicBezTo>
                      <a:pt x="10877" y="3"/>
                      <a:pt x="10878" y="2"/>
                      <a:pt x="10879" y="2"/>
                    </a:cubicBezTo>
                    <a:close/>
                    <a:moveTo>
                      <a:pt x="10887" y="2"/>
                    </a:moveTo>
                    <a:lnTo>
                      <a:pt x="10887" y="2"/>
                    </a:lnTo>
                    <a:cubicBezTo>
                      <a:pt x="10889" y="2"/>
                      <a:pt x="10889" y="3"/>
                      <a:pt x="10889" y="4"/>
                    </a:cubicBezTo>
                    <a:cubicBezTo>
                      <a:pt x="10889" y="6"/>
                      <a:pt x="10889" y="6"/>
                      <a:pt x="10887" y="6"/>
                    </a:cubicBezTo>
                    <a:lnTo>
                      <a:pt x="10887" y="6"/>
                    </a:lnTo>
                    <a:cubicBezTo>
                      <a:pt x="10886" y="6"/>
                      <a:pt x="10885" y="6"/>
                      <a:pt x="10885" y="4"/>
                    </a:cubicBezTo>
                    <a:cubicBezTo>
                      <a:pt x="10885" y="3"/>
                      <a:pt x="10886" y="2"/>
                      <a:pt x="10887" y="2"/>
                    </a:cubicBezTo>
                    <a:close/>
                    <a:moveTo>
                      <a:pt x="10895" y="2"/>
                    </a:moveTo>
                    <a:lnTo>
                      <a:pt x="10895" y="2"/>
                    </a:lnTo>
                    <a:cubicBezTo>
                      <a:pt x="10897" y="2"/>
                      <a:pt x="10897" y="3"/>
                      <a:pt x="10897" y="4"/>
                    </a:cubicBezTo>
                    <a:cubicBezTo>
                      <a:pt x="10897" y="6"/>
                      <a:pt x="10897" y="6"/>
                      <a:pt x="10895" y="6"/>
                    </a:cubicBezTo>
                    <a:lnTo>
                      <a:pt x="10895" y="6"/>
                    </a:lnTo>
                    <a:cubicBezTo>
                      <a:pt x="10894" y="6"/>
                      <a:pt x="10893" y="6"/>
                      <a:pt x="10893" y="4"/>
                    </a:cubicBezTo>
                    <a:cubicBezTo>
                      <a:pt x="10893" y="3"/>
                      <a:pt x="10894" y="2"/>
                      <a:pt x="10895" y="2"/>
                    </a:cubicBezTo>
                    <a:close/>
                    <a:moveTo>
                      <a:pt x="10903" y="2"/>
                    </a:moveTo>
                    <a:lnTo>
                      <a:pt x="10903" y="2"/>
                    </a:lnTo>
                    <a:cubicBezTo>
                      <a:pt x="10905" y="2"/>
                      <a:pt x="10905" y="3"/>
                      <a:pt x="10905" y="4"/>
                    </a:cubicBezTo>
                    <a:cubicBezTo>
                      <a:pt x="10905" y="6"/>
                      <a:pt x="10905" y="6"/>
                      <a:pt x="10903" y="6"/>
                    </a:cubicBezTo>
                    <a:lnTo>
                      <a:pt x="10903" y="6"/>
                    </a:lnTo>
                    <a:cubicBezTo>
                      <a:pt x="10902" y="6"/>
                      <a:pt x="10901" y="6"/>
                      <a:pt x="10901" y="4"/>
                    </a:cubicBezTo>
                    <a:cubicBezTo>
                      <a:pt x="10901" y="3"/>
                      <a:pt x="10902" y="2"/>
                      <a:pt x="10903" y="2"/>
                    </a:cubicBezTo>
                    <a:close/>
                    <a:moveTo>
                      <a:pt x="10911" y="2"/>
                    </a:moveTo>
                    <a:lnTo>
                      <a:pt x="10911" y="2"/>
                    </a:lnTo>
                    <a:cubicBezTo>
                      <a:pt x="10913" y="2"/>
                      <a:pt x="10913" y="3"/>
                      <a:pt x="10913" y="4"/>
                    </a:cubicBezTo>
                    <a:cubicBezTo>
                      <a:pt x="10913" y="6"/>
                      <a:pt x="10913" y="6"/>
                      <a:pt x="10911" y="6"/>
                    </a:cubicBezTo>
                    <a:lnTo>
                      <a:pt x="10911" y="6"/>
                    </a:lnTo>
                    <a:cubicBezTo>
                      <a:pt x="10910" y="6"/>
                      <a:pt x="10909" y="6"/>
                      <a:pt x="10909" y="4"/>
                    </a:cubicBezTo>
                    <a:cubicBezTo>
                      <a:pt x="10909" y="3"/>
                      <a:pt x="10910" y="2"/>
                      <a:pt x="10911" y="2"/>
                    </a:cubicBezTo>
                    <a:close/>
                    <a:moveTo>
                      <a:pt x="10919" y="2"/>
                    </a:moveTo>
                    <a:lnTo>
                      <a:pt x="10919" y="2"/>
                    </a:lnTo>
                    <a:cubicBezTo>
                      <a:pt x="10921" y="2"/>
                      <a:pt x="10921" y="3"/>
                      <a:pt x="10921" y="4"/>
                    </a:cubicBezTo>
                    <a:cubicBezTo>
                      <a:pt x="10921" y="6"/>
                      <a:pt x="10921" y="6"/>
                      <a:pt x="10919" y="6"/>
                    </a:cubicBezTo>
                    <a:lnTo>
                      <a:pt x="10919" y="6"/>
                    </a:lnTo>
                    <a:cubicBezTo>
                      <a:pt x="10918" y="6"/>
                      <a:pt x="10917" y="6"/>
                      <a:pt x="10917" y="4"/>
                    </a:cubicBezTo>
                    <a:cubicBezTo>
                      <a:pt x="10917" y="3"/>
                      <a:pt x="10918" y="2"/>
                      <a:pt x="10919" y="2"/>
                    </a:cubicBezTo>
                    <a:close/>
                    <a:moveTo>
                      <a:pt x="10927" y="2"/>
                    </a:moveTo>
                    <a:lnTo>
                      <a:pt x="10927" y="2"/>
                    </a:lnTo>
                    <a:cubicBezTo>
                      <a:pt x="10929" y="2"/>
                      <a:pt x="10929" y="3"/>
                      <a:pt x="10929" y="4"/>
                    </a:cubicBezTo>
                    <a:cubicBezTo>
                      <a:pt x="10929" y="6"/>
                      <a:pt x="10929" y="6"/>
                      <a:pt x="10927" y="6"/>
                    </a:cubicBezTo>
                    <a:lnTo>
                      <a:pt x="10927" y="6"/>
                    </a:lnTo>
                    <a:cubicBezTo>
                      <a:pt x="10926" y="6"/>
                      <a:pt x="10925" y="6"/>
                      <a:pt x="10925" y="4"/>
                    </a:cubicBezTo>
                    <a:cubicBezTo>
                      <a:pt x="10925" y="3"/>
                      <a:pt x="10926" y="2"/>
                      <a:pt x="10927" y="2"/>
                    </a:cubicBezTo>
                    <a:close/>
                    <a:moveTo>
                      <a:pt x="10935" y="2"/>
                    </a:moveTo>
                    <a:lnTo>
                      <a:pt x="10935" y="2"/>
                    </a:lnTo>
                    <a:cubicBezTo>
                      <a:pt x="10937" y="2"/>
                      <a:pt x="10937" y="3"/>
                      <a:pt x="10937" y="4"/>
                    </a:cubicBezTo>
                    <a:cubicBezTo>
                      <a:pt x="10937" y="6"/>
                      <a:pt x="10937" y="6"/>
                      <a:pt x="10935" y="6"/>
                    </a:cubicBezTo>
                    <a:lnTo>
                      <a:pt x="10935" y="6"/>
                    </a:lnTo>
                    <a:cubicBezTo>
                      <a:pt x="10934" y="6"/>
                      <a:pt x="10933" y="6"/>
                      <a:pt x="10933" y="4"/>
                    </a:cubicBezTo>
                    <a:cubicBezTo>
                      <a:pt x="10933" y="3"/>
                      <a:pt x="10934" y="2"/>
                      <a:pt x="10935" y="2"/>
                    </a:cubicBezTo>
                    <a:close/>
                    <a:moveTo>
                      <a:pt x="10943" y="2"/>
                    </a:moveTo>
                    <a:lnTo>
                      <a:pt x="10943" y="2"/>
                    </a:lnTo>
                    <a:cubicBezTo>
                      <a:pt x="10945" y="2"/>
                      <a:pt x="10945" y="3"/>
                      <a:pt x="10945" y="4"/>
                    </a:cubicBezTo>
                    <a:cubicBezTo>
                      <a:pt x="10945" y="6"/>
                      <a:pt x="10945" y="6"/>
                      <a:pt x="10943" y="6"/>
                    </a:cubicBezTo>
                    <a:lnTo>
                      <a:pt x="10943" y="6"/>
                    </a:lnTo>
                    <a:cubicBezTo>
                      <a:pt x="10942" y="6"/>
                      <a:pt x="10941" y="6"/>
                      <a:pt x="10941" y="4"/>
                    </a:cubicBezTo>
                    <a:cubicBezTo>
                      <a:pt x="10941" y="3"/>
                      <a:pt x="10942" y="2"/>
                      <a:pt x="10943" y="2"/>
                    </a:cubicBezTo>
                    <a:close/>
                    <a:moveTo>
                      <a:pt x="10951" y="2"/>
                    </a:moveTo>
                    <a:lnTo>
                      <a:pt x="10951" y="2"/>
                    </a:lnTo>
                    <a:cubicBezTo>
                      <a:pt x="10953" y="2"/>
                      <a:pt x="10953" y="3"/>
                      <a:pt x="10953" y="4"/>
                    </a:cubicBezTo>
                    <a:cubicBezTo>
                      <a:pt x="10953" y="6"/>
                      <a:pt x="10953" y="6"/>
                      <a:pt x="10951" y="6"/>
                    </a:cubicBezTo>
                    <a:lnTo>
                      <a:pt x="10951" y="6"/>
                    </a:lnTo>
                    <a:cubicBezTo>
                      <a:pt x="10950" y="6"/>
                      <a:pt x="10949" y="6"/>
                      <a:pt x="10949" y="4"/>
                    </a:cubicBezTo>
                    <a:cubicBezTo>
                      <a:pt x="10949" y="3"/>
                      <a:pt x="10950" y="2"/>
                      <a:pt x="10951" y="2"/>
                    </a:cubicBezTo>
                    <a:close/>
                    <a:moveTo>
                      <a:pt x="10959" y="2"/>
                    </a:moveTo>
                    <a:lnTo>
                      <a:pt x="10960" y="2"/>
                    </a:lnTo>
                    <a:cubicBezTo>
                      <a:pt x="10961" y="2"/>
                      <a:pt x="10962" y="3"/>
                      <a:pt x="10962" y="4"/>
                    </a:cubicBezTo>
                    <a:cubicBezTo>
                      <a:pt x="10962" y="6"/>
                      <a:pt x="10961" y="6"/>
                      <a:pt x="10960" y="6"/>
                    </a:cubicBezTo>
                    <a:lnTo>
                      <a:pt x="10959" y="6"/>
                    </a:lnTo>
                    <a:cubicBezTo>
                      <a:pt x="10958" y="6"/>
                      <a:pt x="10957" y="6"/>
                      <a:pt x="10957" y="4"/>
                    </a:cubicBezTo>
                    <a:cubicBezTo>
                      <a:pt x="10957" y="3"/>
                      <a:pt x="10958" y="2"/>
                      <a:pt x="10959" y="2"/>
                    </a:cubicBezTo>
                    <a:close/>
                    <a:moveTo>
                      <a:pt x="10968" y="2"/>
                    </a:moveTo>
                    <a:lnTo>
                      <a:pt x="10968" y="2"/>
                    </a:lnTo>
                    <a:cubicBezTo>
                      <a:pt x="10969" y="2"/>
                      <a:pt x="10970" y="3"/>
                      <a:pt x="10970" y="4"/>
                    </a:cubicBezTo>
                    <a:cubicBezTo>
                      <a:pt x="10970" y="6"/>
                      <a:pt x="10969" y="6"/>
                      <a:pt x="10968" y="6"/>
                    </a:cubicBezTo>
                    <a:lnTo>
                      <a:pt x="10968" y="6"/>
                    </a:lnTo>
                    <a:cubicBezTo>
                      <a:pt x="10966" y="6"/>
                      <a:pt x="10966" y="6"/>
                      <a:pt x="10966" y="4"/>
                    </a:cubicBezTo>
                    <a:cubicBezTo>
                      <a:pt x="10966" y="3"/>
                      <a:pt x="10966" y="2"/>
                      <a:pt x="10968" y="2"/>
                    </a:cubicBezTo>
                    <a:close/>
                    <a:moveTo>
                      <a:pt x="10976" y="2"/>
                    </a:moveTo>
                    <a:lnTo>
                      <a:pt x="10976" y="2"/>
                    </a:lnTo>
                    <a:cubicBezTo>
                      <a:pt x="10977" y="2"/>
                      <a:pt x="10978" y="3"/>
                      <a:pt x="10978" y="4"/>
                    </a:cubicBezTo>
                    <a:cubicBezTo>
                      <a:pt x="10978" y="6"/>
                      <a:pt x="10977" y="6"/>
                      <a:pt x="10976" y="6"/>
                    </a:cubicBezTo>
                    <a:lnTo>
                      <a:pt x="10976" y="6"/>
                    </a:lnTo>
                    <a:cubicBezTo>
                      <a:pt x="10974" y="6"/>
                      <a:pt x="10974" y="6"/>
                      <a:pt x="10974" y="4"/>
                    </a:cubicBezTo>
                    <a:cubicBezTo>
                      <a:pt x="10974" y="3"/>
                      <a:pt x="10974" y="2"/>
                      <a:pt x="10976" y="2"/>
                    </a:cubicBezTo>
                    <a:close/>
                    <a:moveTo>
                      <a:pt x="10984" y="2"/>
                    </a:moveTo>
                    <a:lnTo>
                      <a:pt x="10984" y="2"/>
                    </a:lnTo>
                    <a:cubicBezTo>
                      <a:pt x="10985" y="2"/>
                      <a:pt x="10986" y="3"/>
                      <a:pt x="10986" y="4"/>
                    </a:cubicBezTo>
                    <a:cubicBezTo>
                      <a:pt x="10986" y="6"/>
                      <a:pt x="10985" y="6"/>
                      <a:pt x="10984" y="6"/>
                    </a:cubicBezTo>
                    <a:lnTo>
                      <a:pt x="10984" y="6"/>
                    </a:lnTo>
                    <a:cubicBezTo>
                      <a:pt x="10982" y="6"/>
                      <a:pt x="10982" y="6"/>
                      <a:pt x="10982" y="4"/>
                    </a:cubicBezTo>
                    <a:cubicBezTo>
                      <a:pt x="10982" y="3"/>
                      <a:pt x="10982" y="2"/>
                      <a:pt x="10984" y="2"/>
                    </a:cubicBezTo>
                    <a:close/>
                    <a:moveTo>
                      <a:pt x="10992" y="2"/>
                    </a:moveTo>
                    <a:lnTo>
                      <a:pt x="10992" y="2"/>
                    </a:lnTo>
                    <a:cubicBezTo>
                      <a:pt x="10993" y="2"/>
                      <a:pt x="10994" y="3"/>
                      <a:pt x="10994" y="4"/>
                    </a:cubicBezTo>
                    <a:cubicBezTo>
                      <a:pt x="10994" y="6"/>
                      <a:pt x="10993" y="6"/>
                      <a:pt x="10992" y="6"/>
                    </a:cubicBezTo>
                    <a:lnTo>
                      <a:pt x="10992" y="6"/>
                    </a:lnTo>
                    <a:cubicBezTo>
                      <a:pt x="10990" y="6"/>
                      <a:pt x="10990" y="6"/>
                      <a:pt x="10990" y="4"/>
                    </a:cubicBezTo>
                    <a:cubicBezTo>
                      <a:pt x="10990" y="3"/>
                      <a:pt x="10990" y="2"/>
                      <a:pt x="10992" y="2"/>
                    </a:cubicBezTo>
                    <a:close/>
                    <a:moveTo>
                      <a:pt x="11000" y="2"/>
                    </a:moveTo>
                    <a:lnTo>
                      <a:pt x="11000" y="2"/>
                    </a:lnTo>
                    <a:cubicBezTo>
                      <a:pt x="11001" y="2"/>
                      <a:pt x="11002" y="3"/>
                      <a:pt x="11002" y="4"/>
                    </a:cubicBezTo>
                    <a:cubicBezTo>
                      <a:pt x="11002" y="6"/>
                      <a:pt x="11001" y="6"/>
                      <a:pt x="11000" y="6"/>
                    </a:cubicBezTo>
                    <a:lnTo>
                      <a:pt x="11000" y="6"/>
                    </a:lnTo>
                    <a:cubicBezTo>
                      <a:pt x="10998" y="6"/>
                      <a:pt x="10998" y="6"/>
                      <a:pt x="10998" y="4"/>
                    </a:cubicBezTo>
                    <a:cubicBezTo>
                      <a:pt x="10998" y="3"/>
                      <a:pt x="10998" y="2"/>
                      <a:pt x="11000" y="2"/>
                    </a:cubicBezTo>
                    <a:close/>
                    <a:moveTo>
                      <a:pt x="11008" y="2"/>
                    </a:moveTo>
                    <a:lnTo>
                      <a:pt x="11008" y="2"/>
                    </a:lnTo>
                    <a:cubicBezTo>
                      <a:pt x="11009" y="2"/>
                      <a:pt x="11010" y="3"/>
                      <a:pt x="11010" y="4"/>
                    </a:cubicBezTo>
                    <a:cubicBezTo>
                      <a:pt x="11010" y="6"/>
                      <a:pt x="11009" y="6"/>
                      <a:pt x="11008" y="6"/>
                    </a:cubicBezTo>
                    <a:lnTo>
                      <a:pt x="11008" y="6"/>
                    </a:lnTo>
                    <a:cubicBezTo>
                      <a:pt x="11006" y="6"/>
                      <a:pt x="11006" y="6"/>
                      <a:pt x="11006" y="4"/>
                    </a:cubicBezTo>
                    <a:cubicBezTo>
                      <a:pt x="11006" y="3"/>
                      <a:pt x="11006" y="2"/>
                      <a:pt x="11008" y="2"/>
                    </a:cubicBezTo>
                    <a:close/>
                    <a:moveTo>
                      <a:pt x="11016" y="2"/>
                    </a:moveTo>
                    <a:lnTo>
                      <a:pt x="11016" y="2"/>
                    </a:lnTo>
                    <a:cubicBezTo>
                      <a:pt x="11017" y="2"/>
                      <a:pt x="11018" y="3"/>
                      <a:pt x="11018" y="4"/>
                    </a:cubicBezTo>
                    <a:cubicBezTo>
                      <a:pt x="11018" y="6"/>
                      <a:pt x="11017" y="6"/>
                      <a:pt x="11016" y="6"/>
                    </a:cubicBezTo>
                    <a:lnTo>
                      <a:pt x="11016" y="6"/>
                    </a:lnTo>
                    <a:cubicBezTo>
                      <a:pt x="11014" y="6"/>
                      <a:pt x="11014" y="6"/>
                      <a:pt x="11014" y="4"/>
                    </a:cubicBezTo>
                    <a:cubicBezTo>
                      <a:pt x="11014" y="3"/>
                      <a:pt x="11014" y="2"/>
                      <a:pt x="11016" y="2"/>
                    </a:cubicBezTo>
                    <a:close/>
                    <a:moveTo>
                      <a:pt x="11024" y="2"/>
                    </a:moveTo>
                    <a:lnTo>
                      <a:pt x="11024" y="2"/>
                    </a:lnTo>
                    <a:cubicBezTo>
                      <a:pt x="11025" y="2"/>
                      <a:pt x="11026" y="3"/>
                      <a:pt x="11026" y="4"/>
                    </a:cubicBezTo>
                    <a:cubicBezTo>
                      <a:pt x="11026" y="6"/>
                      <a:pt x="11025" y="6"/>
                      <a:pt x="11024" y="6"/>
                    </a:cubicBezTo>
                    <a:lnTo>
                      <a:pt x="11024" y="6"/>
                    </a:lnTo>
                    <a:cubicBezTo>
                      <a:pt x="11022" y="6"/>
                      <a:pt x="11022" y="6"/>
                      <a:pt x="11022" y="4"/>
                    </a:cubicBezTo>
                    <a:cubicBezTo>
                      <a:pt x="11022" y="3"/>
                      <a:pt x="11022" y="2"/>
                      <a:pt x="11024" y="2"/>
                    </a:cubicBezTo>
                    <a:close/>
                    <a:moveTo>
                      <a:pt x="11032" y="2"/>
                    </a:moveTo>
                    <a:lnTo>
                      <a:pt x="11032" y="2"/>
                    </a:lnTo>
                    <a:cubicBezTo>
                      <a:pt x="11033" y="2"/>
                      <a:pt x="11034" y="3"/>
                      <a:pt x="11034" y="4"/>
                    </a:cubicBezTo>
                    <a:cubicBezTo>
                      <a:pt x="11034" y="6"/>
                      <a:pt x="11033" y="6"/>
                      <a:pt x="11032" y="6"/>
                    </a:cubicBezTo>
                    <a:lnTo>
                      <a:pt x="11032" y="6"/>
                    </a:lnTo>
                    <a:cubicBezTo>
                      <a:pt x="11030" y="6"/>
                      <a:pt x="11030" y="6"/>
                      <a:pt x="11030" y="4"/>
                    </a:cubicBezTo>
                    <a:cubicBezTo>
                      <a:pt x="11030" y="3"/>
                      <a:pt x="11030" y="2"/>
                      <a:pt x="11032" y="2"/>
                    </a:cubicBezTo>
                    <a:close/>
                    <a:moveTo>
                      <a:pt x="11040" y="2"/>
                    </a:moveTo>
                    <a:lnTo>
                      <a:pt x="11040" y="2"/>
                    </a:lnTo>
                    <a:cubicBezTo>
                      <a:pt x="11041" y="2"/>
                      <a:pt x="11042" y="3"/>
                      <a:pt x="11042" y="4"/>
                    </a:cubicBezTo>
                    <a:cubicBezTo>
                      <a:pt x="11042" y="6"/>
                      <a:pt x="11041" y="6"/>
                      <a:pt x="11040" y="6"/>
                    </a:cubicBezTo>
                    <a:lnTo>
                      <a:pt x="11040" y="6"/>
                    </a:lnTo>
                    <a:cubicBezTo>
                      <a:pt x="11038" y="6"/>
                      <a:pt x="11038" y="6"/>
                      <a:pt x="11038" y="4"/>
                    </a:cubicBezTo>
                    <a:cubicBezTo>
                      <a:pt x="11038" y="3"/>
                      <a:pt x="11038" y="2"/>
                      <a:pt x="11040" y="2"/>
                    </a:cubicBezTo>
                    <a:close/>
                    <a:moveTo>
                      <a:pt x="11048" y="2"/>
                    </a:moveTo>
                    <a:lnTo>
                      <a:pt x="11048" y="2"/>
                    </a:lnTo>
                    <a:cubicBezTo>
                      <a:pt x="11049" y="2"/>
                      <a:pt x="11050" y="3"/>
                      <a:pt x="11050" y="4"/>
                    </a:cubicBezTo>
                    <a:cubicBezTo>
                      <a:pt x="11050" y="6"/>
                      <a:pt x="11049" y="6"/>
                      <a:pt x="11048" y="6"/>
                    </a:cubicBezTo>
                    <a:lnTo>
                      <a:pt x="11048" y="6"/>
                    </a:lnTo>
                    <a:cubicBezTo>
                      <a:pt x="11046" y="6"/>
                      <a:pt x="11046" y="6"/>
                      <a:pt x="11046" y="4"/>
                    </a:cubicBezTo>
                    <a:cubicBezTo>
                      <a:pt x="11046" y="3"/>
                      <a:pt x="11046" y="2"/>
                      <a:pt x="11048" y="2"/>
                    </a:cubicBezTo>
                    <a:close/>
                    <a:moveTo>
                      <a:pt x="11056" y="2"/>
                    </a:moveTo>
                    <a:lnTo>
                      <a:pt x="11056" y="2"/>
                    </a:lnTo>
                    <a:cubicBezTo>
                      <a:pt x="11057" y="2"/>
                      <a:pt x="11058" y="3"/>
                      <a:pt x="11058" y="4"/>
                    </a:cubicBezTo>
                    <a:cubicBezTo>
                      <a:pt x="11058" y="6"/>
                      <a:pt x="11057" y="6"/>
                      <a:pt x="11056" y="6"/>
                    </a:cubicBezTo>
                    <a:lnTo>
                      <a:pt x="11056" y="6"/>
                    </a:lnTo>
                    <a:cubicBezTo>
                      <a:pt x="11054" y="6"/>
                      <a:pt x="11054" y="6"/>
                      <a:pt x="11054" y="4"/>
                    </a:cubicBezTo>
                    <a:cubicBezTo>
                      <a:pt x="11054" y="3"/>
                      <a:pt x="11054" y="2"/>
                      <a:pt x="11056" y="2"/>
                    </a:cubicBezTo>
                    <a:close/>
                    <a:moveTo>
                      <a:pt x="11064" y="2"/>
                    </a:moveTo>
                    <a:lnTo>
                      <a:pt x="11064" y="2"/>
                    </a:lnTo>
                    <a:cubicBezTo>
                      <a:pt x="11065" y="2"/>
                      <a:pt x="11066" y="3"/>
                      <a:pt x="11066" y="4"/>
                    </a:cubicBezTo>
                    <a:cubicBezTo>
                      <a:pt x="11066" y="6"/>
                      <a:pt x="11065" y="6"/>
                      <a:pt x="11064" y="6"/>
                    </a:cubicBezTo>
                    <a:lnTo>
                      <a:pt x="11064" y="6"/>
                    </a:lnTo>
                    <a:cubicBezTo>
                      <a:pt x="11062" y="6"/>
                      <a:pt x="11062" y="6"/>
                      <a:pt x="11062" y="4"/>
                    </a:cubicBezTo>
                    <a:cubicBezTo>
                      <a:pt x="11062" y="3"/>
                      <a:pt x="11062" y="2"/>
                      <a:pt x="11064" y="2"/>
                    </a:cubicBezTo>
                    <a:close/>
                    <a:moveTo>
                      <a:pt x="11072" y="2"/>
                    </a:moveTo>
                    <a:lnTo>
                      <a:pt x="11072" y="2"/>
                    </a:lnTo>
                    <a:cubicBezTo>
                      <a:pt x="11073" y="2"/>
                      <a:pt x="11074" y="3"/>
                      <a:pt x="11074" y="4"/>
                    </a:cubicBezTo>
                    <a:cubicBezTo>
                      <a:pt x="11074" y="6"/>
                      <a:pt x="11073" y="6"/>
                      <a:pt x="11072" y="6"/>
                    </a:cubicBezTo>
                    <a:lnTo>
                      <a:pt x="11072" y="6"/>
                    </a:lnTo>
                    <a:cubicBezTo>
                      <a:pt x="11070" y="6"/>
                      <a:pt x="11070" y="6"/>
                      <a:pt x="11070" y="4"/>
                    </a:cubicBezTo>
                    <a:cubicBezTo>
                      <a:pt x="11070" y="3"/>
                      <a:pt x="11070" y="2"/>
                      <a:pt x="11072" y="2"/>
                    </a:cubicBezTo>
                    <a:close/>
                    <a:moveTo>
                      <a:pt x="11080" y="2"/>
                    </a:moveTo>
                    <a:lnTo>
                      <a:pt x="11080" y="2"/>
                    </a:lnTo>
                    <a:cubicBezTo>
                      <a:pt x="11081" y="2"/>
                      <a:pt x="11082" y="3"/>
                      <a:pt x="11082" y="4"/>
                    </a:cubicBezTo>
                    <a:cubicBezTo>
                      <a:pt x="11082" y="6"/>
                      <a:pt x="11081" y="6"/>
                      <a:pt x="11080" y="6"/>
                    </a:cubicBezTo>
                    <a:lnTo>
                      <a:pt x="11080" y="6"/>
                    </a:lnTo>
                    <a:cubicBezTo>
                      <a:pt x="11078" y="6"/>
                      <a:pt x="11078" y="6"/>
                      <a:pt x="11078" y="4"/>
                    </a:cubicBezTo>
                    <a:cubicBezTo>
                      <a:pt x="11078" y="3"/>
                      <a:pt x="11078" y="2"/>
                      <a:pt x="11080" y="2"/>
                    </a:cubicBezTo>
                    <a:close/>
                    <a:moveTo>
                      <a:pt x="11088" y="2"/>
                    </a:moveTo>
                    <a:lnTo>
                      <a:pt x="11088" y="2"/>
                    </a:lnTo>
                    <a:cubicBezTo>
                      <a:pt x="11089" y="2"/>
                      <a:pt x="11090" y="3"/>
                      <a:pt x="11090" y="4"/>
                    </a:cubicBezTo>
                    <a:cubicBezTo>
                      <a:pt x="11090" y="6"/>
                      <a:pt x="11089" y="6"/>
                      <a:pt x="11088" y="6"/>
                    </a:cubicBezTo>
                    <a:lnTo>
                      <a:pt x="11088" y="6"/>
                    </a:lnTo>
                    <a:cubicBezTo>
                      <a:pt x="11086" y="6"/>
                      <a:pt x="11086" y="6"/>
                      <a:pt x="11086" y="4"/>
                    </a:cubicBezTo>
                    <a:cubicBezTo>
                      <a:pt x="11086" y="3"/>
                      <a:pt x="11086" y="2"/>
                      <a:pt x="11088" y="2"/>
                    </a:cubicBezTo>
                    <a:close/>
                    <a:moveTo>
                      <a:pt x="11096" y="2"/>
                    </a:moveTo>
                    <a:lnTo>
                      <a:pt x="11096" y="2"/>
                    </a:lnTo>
                    <a:cubicBezTo>
                      <a:pt x="11097" y="2"/>
                      <a:pt x="11098" y="3"/>
                      <a:pt x="11098" y="4"/>
                    </a:cubicBezTo>
                    <a:cubicBezTo>
                      <a:pt x="11098" y="6"/>
                      <a:pt x="11097" y="6"/>
                      <a:pt x="11096" y="6"/>
                    </a:cubicBezTo>
                    <a:lnTo>
                      <a:pt x="11096" y="6"/>
                    </a:lnTo>
                    <a:cubicBezTo>
                      <a:pt x="11094" y="6"/>
                      <a:pt x="11094" y="6"/>
                      <a:pt x="11094" y="4"/>
                    </a:cubicBezTo>
                    <a:cubicBezTo>
                      <a:pt x="11094" y="3"/>
                      <a:pt x="11094" y="2"/>
                      <a:pt x="11096" y="2"/>
                    </a:cubicBezTo>
                    <a:close/>
                    <a:moveTo>
                      <a:pt x="11104" y="2"/>
                    </a:moveTo>
                    <a:lnTo>
                      <a:pt x="11104" y="2"/>
                    </a:lnTo>
                    <a:cubicBezTo>
                      <a:pt x="11105" y="2"/>
                      <a:pt x="11106" y="3"/>
                      <a:pt x="11106" y="4"/>
                    </a:cubicBezTo>
                    <a:cubicBezTo>
                      <a:pt x="11106" y="6"/>
                      <a:pt x="11105" y="6"/>
                      <a:pt x="11104" y="6"/>
                    </a:cubicBezTo>
                    <a:lnTo>
                      <a:pt x="11104" y="6"/>
                    </a:lnTo>
                    <a:cubicBezTo>
                      <a:pt x="11102" y="6"/>
                      <a:pt x="11102" y="6"/>
                      <a:pt x="11102" y="4"/>
                    </a:cubicBezTo>
                    <a:cubicBezTo>
                      <a:pt x="11102" y="3"/>
                      <a:pt x="11102" y="2"/>
                      <a:pt x="11104" y="2"/>
                    </a:cubicBezTo>
                    <a:close/>
                    <a:moveTo>
                      <a:pt x="11112" y="2"/>
                    </a:moveTo>
                    <a:lnTo>
                      <a:pt x="11112" y="2"/>
                    </a:lnTo>
                    <a:cubicBezTo>
                      <a:pt x="11113" y="2"/>
                      <a:pt x="11114" y="3"/>
                      <a:pt x="11114" y="4"/>
                    </a:cubicBezTo>
                    <a:cubicBezTo>
                      <a:pt x="11114" y="6"/>
                      <a:pt x="11113" y="6"/>
                      <a:pt x="11112" y="6"/>
                    </a:cubicBezTo>
                    <a:lnTo>
                      <a:pt x="11112" y="6"/>
                    </a:lnTo>
                    <a:cubicBezTo>
                      <a:pt x="11110" y="6"/>
                      <a:pt x="11110" y="6"/>
                      <a:pt x="11110" y="4"/>
                    </a:cubicBezTo>
                    <a:cubicBezTo>
                      <a:pt x="11110" y="3"/>
                      <a:pt x="11110" y="2"/>
                      <a:pt x="11112" y="2"/>
                    </a:cubicBezTo>
                    <a:close/>
                    <a:moveTo>
                      <a:pt x="11120" y="2"/>
                    </a:moveTo>
                    <a:lnTo>
                      <a:pt x="11120" y="2"/>
                    </a:lnTo>
                    <a:cubicBezTo>
                      <a:pt x="11121" y="2"/>
                      <a:pt x="11122" y="3"/>
                      <a:pt x="11122" y="4"/>
                    </a:cubicBezTo>
                    <a:cubicBezTo>
                      <a:pt x="11122" y="6"/>
                      <a:pt x="11121" y="6"/>
                      <a:pt x="11120" y="6"/>
                    </a:cubicBezTo>
                    <a:lnTo>
                      <a:pt x="11120" y="6"/>
                    </a:lnTo>
                    <a:cubicBezTo>
                      <a:pt x="11118" y="6"/>
                      <a:pt x="11118" y="6"/>
                      <a:pt x="11118" y="4"/>
                    </a:cubicBezTo>
                    <a:cubicBezTo>
                      <a:pt x="11118" y="3"/>
                      <a:pt x="11118" y="2"/>
                      <a:pt x="11120" y="2"/>
                    </a:cubicBezTo>
                    <a:close/>
                    <a:moveTo>
                      <a:pt x="11128" y="2"/>
                    </a:moveTo>
                    <a:lnTo>
                      <a:pt x="11128" y="2"/>
                    </a:lnTo>
                    <a:cubicBezTo>
                      <a:pt x="11129" y="2"/>
                      <a:pt x="11130" y="3"/>
                      <a:pt x="11130" y="4"/>
                    </a:cubicBezTo>
                    <a:cubicBezTo>
                      <a:pt x="11130" y="6"/>
                      <a:pt x="11129" y="6"/>
                      <a:pt x="11128" y="6"/>
                    </a:cubicBezTo>
                    <a:lnTo>
                      <a:pt x="11128" y="6"/>
                    </a:lnTo>
                    <a:cubicBezTo>
                      <a:pt x="11126" y="6"/>
                      <a:pt x="11126" y="6"/>
                      <a:pt x="11126" y="4"/>
                    </a:cubicBezTo>
                    <a:cubicBezTo>
                      <a:pt x="11126" y="3"/>
                      <a:pt x="11126" y="2"/>
                      <a:pt x="11128" y="2"/>
                    </a:cubicBezTo>
                    <a:close/>
                    <a:moveTo>
                      <a:pt x="11136" y="2"/>
                    </a:moveTo>
                    <a:lnTo>
                      <a:pt x="11136" y="2"/>
                    </a:lnTo>
                    <a:cubicBezTo>
                      <a:pt x="11137" y="2"/>
                      <a:pt x="11138" y="3"/>
                      <a:pt x="11138" y="5"/>
                    </a:cubicBezTo>
                    <a:cubicBezTo>
                      <a:pt x="11138" y="6"/>
                      <a:pt x="11137" y="7"/>
                      <a:pt x="11136" y="7"/>
                    </a:cubicBezTo>
                    <a:lnTo>
                      <a:pt x="11136" y="7"/>
                    </a:lnTo>
                    <a:cubicBezTo>
                      <a:pt x="11134" y="7"/>
                      <a:pt x="11134" y="6"/>
                      <a:pt x="11134" y="5"/>
                    </a:cubicBezTo>
                    <a:cubicBezTo>
                      <a:pt x="11134" y="3"/>
                      <a:pt x="11134" y="2"/>
                      <a:pt x="11136" y="2"/>
                    </a:cubicBezTo>
                    <a:close/>
                    <a:moveTo>
                      <a:pt x="11144" y="3"/>
                    </a:moveTo>
                    <a:lnTo>
                      <a:pt x="11144" y="3"/>
                    </a:lnTo>
                    <a:cubicBezTo>
                      <a:pt x="11145" y="3"/>
                      <a:pt x="11146" y="3"/>
                      <a:pt x="11146" y="5"/>
                    </a:cubicBezTo>
                    <a:cubicBezTo>
                      <a:pt x="11146" y="6"/>
                      <a:pt x="11145" y="7"/>
                      <a:pt x="11144" y="7"/>
                    </a:cubicBezTo>
                    <a:lnTo>
                      <a:pt x="11144" y="7"/>
                    </a:lnTo>
                    <a:cubicBezTo>
                      <a:pt x="11143" y="7"/>
                      <a:pt x="11142" y="6"/>
                      <a:pt x="11142" y="5"/>
                    </a:cubicBezTo>
                    <a:cubicBezTo>
                      <a:pt x="11142" y="3"/>
                      <a:pt x="11143" y="3"/>
                      <a:pt x="11144" y="3"/>
                    </a:cubicBezTo>
                    <a:close/>
                    <a:moveTo>
                      <a:pt x="11152" y="3"/>
                    </a:moveTo>
                    <a:lnTo>
                      <a:pt x="11152" y="3"/>
                    </a:lnTo>
                    <a:cubicBezTo>
                      <a:pt x="11153" y="3"/>
                      <a:pt x="11154" y="3"/>
                      <a:pt x="11154" y="5"/>
                    </a:cubicBezTo>
                    <a:cubicBezTo>
                      <a:pt x="11154" y="6"/>
                      <a:pt x="11153" y="7"/>
                      <a:pt x="11152" y="7"/>
                    </a:cubicBezTo>
                    <a:lnTo>
                      <a:pt x="11152" y="7"/>
                    </a:lnTo>
                    <a:cubicBezTo>
                      <a:pt x="11151" y="7"/>
                      <a:pt x="11150" y="6"/>
                      <a:pt x="11150" y="5"/>
                    </a:cubicBezTo>
                    <a:cubicBezTo>
                      <a:pt x="11150" y="3"/>
                      <a:pt x="11151" y="3"/>
                      <a:pt x="11152" y="3"/>
                    </a:cubicBezTo>
                    <a:close/>
                    <a:moveTo>
                      <a:pt x="11160" y="3"/>
                    </a:moveTo>
                    <a:lnTo>
                      <a:pt x="11160" y="3"/>
                    </a:lnTo>
                    <a:cubicBezTo>
                      <a:pt x="11161" y="3"/>
                      <a:pt x="11162" y="3"/>
                      <a:pt x="11162" y="5"/>
                    </a:cubicBezTo>
                    <a:cubicBezTo>
                      <a:pt x="11162" y="6"/>
                      <a:pt x="11161" y="7"/>
                      <a:pt x="11160" y="7"/>
                    </a:cubicBezTo>
                    <a:lnTo>
                      <a:pt x="11160" y="7"/>
                    </a:lnTo>
                    <a:cubicBezTo>
                      <a:pt x="11159" y="7"/>
                      <a:pt x="11158" y="6"/>
                      <a:pt x="11158" y="5"/>
                    </a:cubicBezTo>
                    <a:cubicBezTo>
                      <a:pt x="11158" y="3"/>
                      <a:pt x="11159" y="3"/>
                      <a:pt x="11160" y="3"/>
                    </a:cubicBezTo>
                    <a:close/>
                    <a:moveTo>
                      <a:pt x="11168" y="3"/>
                    </a:moveTo>
                    <a:lnTo>
                      <a:pt x="11168" y="3"/>
                    </a:lnTo>
                    <a:cubicBezTo>
                      <a:pt x="11169" y="3"/>
                      <a:pt x="11170" y="3"/>
                      <a:pt x="11170" y="5"/>
                    </a:cubicBezTo>
                    <a:cubicBezTo>
                      <a:pt x="11170" y="6"/>
                      <a:pt x="11169" y="7"/>
                      <a:pt x="11168" y="7"/>
                    </a:cubicBezTo>
                    <a:lnTo>
                      <a:pt x="11168" y="7"/>
                    </a:lnTo>
                    <a:cubicBezTo>
                      <a:pt x="11167" y="7"/>
                      <a:pt x="11166" y="6"/>
                      <a:pt x="11166" y="5"/>
                    </a:cubicBezTo>
                    <a:cubicBezTo>
                      <a:pt x="11166" y="3"/>
                      <a:pt x="11167" y="3"/>
                      <a:pt x="11168" y="3"/>
                    </a:cubicBezTo>
                    <a:close/>
                    <a:moveTo>
                      <a:pt x="11176" y="3"/>
                    </a:moveTo>
                    <a:lnTo>
                      <a:pt x="11176" y="3"/>
                    </a:lnTo>
                    <a:cubicBezTo>
                      <a:pt x="11177" y="3"/>
                      <a:pt x="11178" y="3"/>
                      <a:pt x="11178" y="5"/>
                    </a:cubicBezTo>
                    <a:cubicBezTo>
                      <a:pt x="11178" y="6"/>
                      <a:pt x="11177" y="7"/>
                      <a:pt x="11176" y="7"/>
                    </a:cubicBezTo>
                    <a:lnTo>
                      <a:pt x="11176" y="7"/>
                    </a:lnTo>
                    <a:cubicBezTo>
                      <a:pt x="11175" y="7"/>
                      <a:pt x="11174" y="6"/>
                      <a:pt x="11174" y="5"/>
                    </a:cubicBezTo>
                    <a:cubicBezTo>
                      <a:pt x="11174" y="3"/>
                      <a:pt x="11175" y="3"/>
                      <a:pt x="11176" y="3"/>
                    </a:cubicBezTo>
                    <a:close/>
                    <a:moveTo>
                      <a:pt x="11184" y="3"/>
                    </a:moveTo>
                    <a:lnTo>
                      <a:pt x="11184" y="3"/>
                    </a:lnTo>
                    <a:cubicBezTo>
                      <a:pt x="11185" y="3"/>
                      <a:pt x="11186" y="3"/>
                      <a:pt x="11186" y="5"/>
                    </a:cubicBezTo>
                    <a:cubicBezTo>
                      <a:pt x="11186" y="6"/>
                      <a:pt x="11185" y="7"/>
                      <a:pt x="11184" y="7"/>
                    </a:cubicBezTo>
                    <a:lnTo>
                      <a:pt x="11184" y="7"/>
                    </a:lnTo>
                    <a:cubicBezTo>
                      <a:pt x="11183" y="7"/>
                      <a:pt x="11182" y="6"/>
                      <a:pt x="11182" y="5"/>
                    </a:cubicBezTo>
                    <a:cubicBezTo>
                      <a:pt x="11182" y="3"/>
                      <a:pt x="11183" y="3"/>
                      <a:pt x="11184" y="3"/>
                    </a:cubicBezTo>
                    <a:close/>
                    <a:moveTo>
                      <a:pt x="11192" y="3"/>
                    </a:moveTo>
                    <a:lnTo>
                      <a:pt x="11192" y="3"/>
                    </a:lnTo>
                    <a:cubicBezTo>
                      <a:pt x="11193" y="3"/>
                      <a:pt x="11194" y="3"/>
                      <a:pt x="11194" y="5"/>
                    </a:cubicBezTo>
                    <a:cubicBezTo>
                      <a:pt x="11194" y="6"/>
                      <a:pt x="11193" y="7"/>
                      <a:pt x="11192" y="7"/>
                    </a:cubicBezTo>
                    <a:lnTo>
                      <a:pt x="11192" y="7"/>
                    </a:lnTo>
                    <a:cubicBezTo>
                      <a:pt x="11191" y="7"/>
                      <a:pt x="11190" y="6"/>
                      <a:pt x="11190" y="5"/>
                    </a:cubicBezTo>
                    <a:cubicBezTo>
                      <a:pt x="11190" y="3"/>
                      <a:pt x="11191" y="3"/>
                      <a:pt x="11192" y="3"/>
                    </a:cubicBezTo>
                    <a:close/>
                    <a:moveTo>
                      <a:pt x="11200" y="3"/>
                    </a:moveTo>
                    <a:lnTo>
                      <a:pt x="11200" y="3"/>
                    </a:lnTo>
                    <a:cubicBezTo>
                      <a:pt x="11201" y="3"/>
                      <a:pt x="11202" y="3"/>
                      <a:pt x="11202" y="5"/>
                    </a:cubicBezTo>
                    <a:cubicBezTo>
                      <a:pt x="11202" y="6"/>
                      <a:pt x="11201" y="7"/>
                      <a:pt x="11200" y="7"/>
                    </a:cubicBezTo>
                    <a:lnTo>
                      <a:pt x="11200" y="7"/>
                    </a:lnTo>
                    <a:cubicBezTo>
                      <a:pt x="11199" y="7"/>
                      <a:pt x="11198" y="6"/>
                      <a:pt x="11198" y="5"/>
                    </a:cubicBezTo>
                    <a:cubicBezTo>
                      <a:pt x="11198" y="3"/>
                      <a:pt x="11199" y="3"/>
                      <a:pt x="11200" y="3"/>
                    </a:cubicBezTo>
                    <a:close/>
                    <a:moveTo>
                      <a:pt x="11208" y="3"/>
                    </a:moveTo>
                    <a:lnTo>
                      <a:pt x="11208" y="3"/>
                    </a:lnTo>
                    <a:cubicBezTo>
                      <a:pt x="11209" y="3"/>
                      <a:pt x="11210" y="3"/>
                      <a:pt x="11210" y="5"/>
                    </a:cubicBezTo>
                    <a:cubicBezTo>
                      <a:pt x="11210" y="6"/>
                      <a:pt x="11209" y="7"/>
                      <a:pt x="11208" y="7"/>
                    </a:cubicBezTo>
                    <a:lnTo>
                      <a:pt x="11208" y="7"/>
                    </a:lnTo>
                    <a:cubicBezTo>
                      <a:pt x="11207" y="7"/>
                      <a:pt x="11206" y="6"/>
                      <a:pt x="11206" y="5"/>
                    </a:cubicBezTo>
                    <a:cubicBezTo>
                      <a:pt x="11206" y="3"/>
                      <a:pt x="11207" y="3"/>
                      <a:pt x="11208" y="3"/>
                    </a:cubicBezTo>
                    <a:close/>
                    <a:moveTo>
                      <a:pt x="11216" y="3"/>
                    </a:moveTo>
                    <a:lnTo>
                      <a:pt x="11216" y="3"/>
                    </a:lnTo>
                    <a:cubicBezTo>
                      <a:pt x="11217" y="3"/>
                      <a:pt x="11218" y="3"/>
                      <a:pt x="11218" y="5"/>
                    </a:cubicBezTo>
                    <a:cubicBezTo>
                      <a:pt x="11218" y="6"/>
                      <a:pt x="11217" y="7"/>
                      <a:pt x="11216" y="7"/>
                    </a:cubicBezTo>
                    <a:lnTo>
                      <a:pt x="11216" y="7"/>
                    </a:lnTo>
                    <a:cubicBezTo>
                      <a:pt x="11215" y="7"/>
                      <a:pt x="11214" y="6"/>
                      <a:pt x="11214" y="5"/>
                    </a:cubicBezTo>
                    <a:cubicBezTo>
                      <a:pt x="11214" y="3"/>
                      <a:pt x="11215" y="3"/>
                      <a:pt x="11216" y="3"/>
                    </a:cubicBezTo>
                    <a:close/>
                    <a:moveTo>
                      <a:pt x="11224" y="3"/>
                    </a:moveTo>
                    <a:lnTo>
                      <a:pt x="11224" y="3"/>
                    </a:lnTo>
                    <a:cubicBezTo>
                      <a:pt x="11225" y="3"/>
                      <a:pt x="11226" y="3"/>
                      <a:pt x="11226" y="5"/>
                    </a:cubicBezTo>
                    <a:cubicBezTo>
                      <a:pt x="11226" y="6"/>
                      <a:pt x="11225" y="7"/>
                      <a:pt x="11224" y="7"/>
                    </a:cubicBezTo>
                    <a:lnTo>
                      <a:pt x="11224" y="7"/>
                    </a:lnTo>
                    <a:cubicBezTo>
                      <a:pt x="11223" y="7"/>
                      <a:pt x="11222" y="6"/>
                      <a:pt x="11222" y="5"/>
                    </a:cubicBezTo>
                    <a:cubicBezTo>
                      <a:pt x="11222" y="3"/>
                      <a:pt x="11223" y="3"/>
                      <a:pt x="11224" y="3"/>
                    </a:cubicBezTo>
                    <a:close/>
                    <a:moveTo>
                      <a:pt x="11232" y="3"/>
                    </a:moveTo>
                    <a:lnTo>
                      <a:pt x="11232" y="3"/>
                    </a:lnTo>
                    <a:cubicBezTo>
                      <a:pt x="11233" y="3"/>
                      <a:pt x="11234" y="3"/>
                      <a:pt x="11234" y="5"/>
                    </a:cubicBezTo>
                    <a:cubicBezTo>
                      <a:pt x="11234" y="6"/>
                      <a:pt x="11233" y="7"/>
                      <a:pt x="11232" y="7"/>
                    </a:cubicBezTo>
                    <a:lnTo>
                      <a:pt x="11232" y="7"/>
                    </a:lnTo>
                    <a:cubicBezTo>
                      <a:pt x="11231" y="7"/>
                      <a:pt x="11230" y="6"/>
                      <a:pt x="11230" y="5"/>
                    </a:cubicBezTo>
                    <a:cubicBezTo>
                      <a:pt x="11230" y="3"/>
                      <a:pt x="11231" y="3"/>
                      <a:pt x="11232" y="3"/>
                    </a:cubicBezTo>
                    <a:close/>
                    <a:moveTo>
                      <a:pt x="11240" y="3"/>
                    </a:moveTo>
                    <a:lnTo>
                      <a:pt x="11240" y="3"/>
                    </a:lnTo>
                    <a:cubicBezTo>
                      <a:pt x="11241" y="3"/>
                      <a:pt x="11242" y="3"/>
                      <a:pt x="11242" y="5"/>
                    </a:cubicBezTo>
                    <a:cubicBezTo>
                      <a:pt x="11242" y="6"/>
                      <a:pt x="11241" y="7"/>
                      <a:pt x="11240" y="7"/>
                    </a:cubicBezTo>
                    <a:lnTo>
                      <a:pt x="11240" y="7"/>
                    </a:lnTo>
                    <a:cubicBezTo>
                      <a:pt x="11239" y="7"/>
                      <a:pt x="11238" y="6"/>
                      <a:pt x="11238" y="5"/>
                    </a:cubicBezTo>
                    <a:cubicBezTo>
                      <a:pt x="11238" y="3"/>
                      <a:pt x="11239" y="3"/>
                      <a:pt x="11240" y="3"/>
                    </a:cubicBezTo>
                    <a:close/>
                    <a:moveTo>
                      <a:pt x="11248" y="3"/>
                    </a:moveTo>
                    <a:lnTo>
                      <a:pt x="11248" y="3"/>
                    </a:lnTo>
                    <a:cubicBezTo>
                      <a:pt x="11249" y="3"/>
                      <a:pt x="11250" y="3"/>
                      <a:pt x="11250" y="5"/>
                    </a:cubicBezTo>
                    <a:cubicBezTo>
                      <a:pt x="11250" y="6"/>
                      <a:pt x="11249" y="7"/>
                      <a:pt x="11248" y="7"/>
                    </a:cubicBezTo>
                    <a:lnTo>
                      <a:pt x="11248" y="7"/>
                    </a:lnTo>
                    <a:cubicBezTo>
                      <a:pt x="11247" y="7"/>
                      <a:pt x="11246" y="6"/>
                      <a:pt x="11246" y="5"/>
                    </a:cubicBezTo>
                    <a:cubicBezTo>
                      <a:pt x="11246" y="3"/>
                      <a:pt x="11247" y="3"/>
                      <a:pt x="11248" y="3"/>
                    </a:cubicBezTo>
                    <a:close/>
                    <a:moveTo>
                      <a:pt x="11256" y="3"/>
                    </a:moveTo>
                    <a:lnTo>
                      <a:pt x="11256" y="3"/>
                    </a:lnTo>
                    <a:cubicBezTo>
                      <a:pt x="11257" y="3"/>
                      <a:pt x="11258" y="3"/>
                      <a:pt x="11258" y="5"/>
                    </a:cubicBezTo>
                    <a:cubicBezTo>
                      <a:pt x="11258" y="6"/>
                      <a:pt x="11257" y="7"/>
                      <a:pt x="11256" y="7"/>
                    </a:cubicBezTo>
                    <a:lnTo>
                      <a:pt x="11256" y="7"/>
                    </a:lnTo>
                    <a:cubicBezTo>
                      <a:pt x="11255" y="7"/>
                      <a:pt x="11254" y="6"/>
                      <a:pt x="11254" y="5"/>
                    </a:cubicBezTo>
                    <a:cubicBezTo>
                      <a:pt x="11254" y="3"/>
                      <a:pt x="11255" y="3"/>
                      <a:pt x="11256" y="3"/>
                    </a:cubicBezTo>
                    <a:close/>
                    <a:moveTo>
                      <a:pt x="11264" y="3"/>
                    </a:moveTo>
                    <a:lnTo>
                      <a:pt x="11264" y="3"/>
                    </a:lnTo>
                    <a:cubicBezTo>
                      <a:pt x="11265" y="3"/>
                      <a:pt x="11266" y="3"/>
                      <a:pt x="11266" y="5"/>
                    </a:cubicBezTo>
                    <a:cubicBezTo>
                      <a:pt x="11266" y="6"/>
                      <a:pt x="11265" y="7"/>
                      <a:pt x="11264" y="7"/>
                    </a:cubicBezTo>
                    <a:lnTo>
                      <a:pt x="11264" y="7"/>
                    </a:lnTo>
                    <a:cubicBezTo>
                      <a:pt x="11263" y="7"/>
                      <a:pt x="11262" y="6"/>
                      <a:pt x="11262" y="5"/>
                    </a:cubicBezTo>
                    <a:cubicBezTo>
                      <a:pt x="11262" y="3"/>
                      <a:pt x="11263" y="3"/>
                      <a:pt x="11264" y="3"/>
                    </a:cubicBezTo>
                    <a:close/>
                    <a:moveTo>
                      <a:pt x="11272" y="3"/>
                    </a:moveTo>
                    <a:lnTo>
                      <a:pt x="11272" y="3"/>
                    </a:lnTo>
                    <a:cubicBezTo>
                      <a:pt x="11273" y="3"/>
                      <a:pt x="11274" y="3"/>
                      <a:pt x="11274" y="5"/>
                    </a:cubicBezTo>
                    <a:cubicBezTo>
                      <a:pt x="11274" y="6"/>
                      <a:pt x="11273" y="7"/>
                      <a:pt x="11272" y="7"/>
                    </a:cubicBezTo>
                    <a:lnTo>
                      <a:pt x="11272" y="7"/>
                    </a:lnTo>
                    <a:cubicBezTo>
                      <a:pt x="11271" y="7"/>
                      <a:pt x="11270" y="6"/>
                      <a:pt x="11270" y="5"/>
                    </a:cubicBezTo>
                    <a:cubicBezTo>
                      <a:pt x="11270" y="3"/>
                      <a:pt x="11271" y="3"/>
                      <a:pt x="11272" y="3"/>
                    </a:cubicBezTo>
                    <a:close/>
                    <a:moveTo>
                      <a:pt x="11280" y="3"/>
                    </a:moveTo>
                    <a:lnTo>
                      <a:pt x="11280" y="3"/>
                    </a:lnTo>
                    <a:cubicBezTo>
                      <a:pt x="11281" y="3"/>
                      <a:pt x="11282" y="3"/>
                      <a:pt x="11282" y="5"/>
                    </a:cubicBezTo>
                    <a:cubicBezTo>
                      <a:pt x="11282" y="6"/>
                      <a:pt x="11281" y="7"/>
                      <a:pt x="11280" y="7"/>
                    </a:cubicBezTo>
                    <a:lnTo>
                      <a:pt x="11280" y="7"/>
                    </a:lnTo>
                    <a:cubicBezTo>
                      <a:pt x="11279" y="7"/>
                      <a:pt x="11278" y="6"/>
                      <a:pt x="11278" y="5"/>
                    </a:cubicBezTo>
                    <a:cubicBezTo>
                      <a:pt x="11278" y="3"/>
                      <a:pt x="11279" y="3"/>
                      <a:pt x="11280" y="3"/>
                    </a:cubicBezTo>
                    <a:close/>
                    <a:moveTo>
                      <a:pt x="11288" y="3"/>
                    </a:moveTo>
                    <a:lnTo>
                      <a:pt x="11288" y="3"/>
                    </a:lnTo>
                    <a:cubicBezTo>
                      <a:pt x="11289" y="3"/>
                      <a:pt x="11290" y="3"/>
                      <a:pt x="11290" y="5"/>
                    </a:cubicBezTo>
                    <a:cubicBezTo>
                      <a:pt x="11290" y="6"/>
                      <a:pt x="11289" y="7"/>
                      <a:pt x="11288" y="7"/>
                    </a:cubicBezTo>
                    <a:lnTo>
                      <a:pt x="11288" y="7"/>
                    </a:lnTo>
                    <a:cubicBezTo>
                      <a:pt x="11287" y="7"/>
                      <a:pt x="11286" y="6"/>
                      <a:pt x="11286" y="5"/>
                    </a:cubicBezTo>
                    <a:cubicBezTo>
                      <a:pt x="11286" y="3"/>
                      <a:pt x="11287" y="3"/>
                      <a:pt x="11288" y="3"/>
                    </a:cubicBezTo>
                    <a:close/>
                    <a:moveTo>
                      <a:pt x="11296" y="3"/>
                    </a:moveTo>
                    <a:lnTo>
                      <a:pt x="11296" y="3"/>
                    </a:lnTo>
                    <a:cubicBezTo>
                      <a:pt x="11297" y="3"/>
                      <a:pt x="11298" y="3"/>
                      <a:pt x="11298" y="5"/>
                    </a:cubicBezTo>
                    <a:cubicBezTo>
                      <a:pt x="11298" y="6"/>
                      <a:pt x="11297" y="7"/>
                      <a:pt x="11296" y="7"/>
                    </a:cubicBezTo>
                    <a:lnTo>
                      <a:pt x="11296" y="7"/>
                    </a:lnTo>
                    <a:cubicBezTo>
                      <a:pt x="11295" y="7"/>
                      <a:pt x="11294" y="6"/>
                      <a:pt x="11294" y="5"/>
                    </a:cubicBezTo>
                    <a:cubicBezTo>
                      <a:pt x="11294" y="3"/>
                      <a:pt x="11295" y="3"/>
                      <a:pt x="11296" y="3"/>
                    </a:cubicBezTo>
                    <a:close/>
                    <a:moveTo>
                      <a:pt x="11304" y="3"/>
                    </a:moveTo>
                    <a:lnTo>
                      <a:pt x="11304" y="3"/>
                    </a:lnTo>
                    <a:cubicBezTo>
                      <a:pt x="11305" y="3"/>
                      <a:pt x="11306" y="3"/>
                      <a:pt x="11306" y="5"/>
                    </a:cubicBezTo>
                    <a:cubicBezTo>
                      <a:pt x="11306" y="6"/>
                      <a:pt x="11305" y="7"/>
                      <a:pt x="11304" y="7"/>
                    </a:cubicBezTo>
                    <a:lnTo>
                      <a:pt x="11304" y="7"/>
                    </a:lnTo>
                    <a:cubicBezTo>
                      <a:pt x="11303" y="7"/>
                      <a:pt x="11302" y="6"/>
                      <a:pt x="11302" y="5"/>
                    </a:cubicBezTo>
                    <a:cubicBezTo>
                      <a:pt x="11302" y="3"/>
                      <a:pt x="11303" y="3"/>
                      <a:pt x="11304" y="3"/>
                    </a:cubicBezTo>
                    <a:close/>
                    <a:moveTo>
                      <a:pt x="11312" y="3"/>
                    </a:moveTo>
                    <a:lnTo>
                      <a:pt x="11312" y="3"/>
                    </a:lnTo>
                    <a:cubicBezTo>
                      <a:pt x="11313" y="3"/>
                      <a:pt x="11314" y="3"/>
                      <a:pt x="11314" y="5"/>
                    </a:cubicBezTo>
                    <a:cubicBezTo>
                      <a:pt x="11314" y="6"/>
                      <a:pt x="11313" y="7"/>
                      <a:pt x="11312" y="7"/>
                    </a:cubicBezTo>
                    <a:lnTo>
                      <a:pt x="11312" y="7"/>
                    </a:lnTo>
                    <a:cubicBezTo>
                      <a:pt x="11311" y="7"/>
                      <a:pt x="11310" y="6"/>
                      <a:pt x="11310" y="5"/>
                    </a:cubicBezTo>
                    <a:cubicBezTo>
                      <a:pt x="11310" y="3"/>
                      <a:pt x="11311" y="3"/>
                      <a:pt x="11312" y="3"/>
                    </a:cubicBezTo>
                    <a:close/>
                    <a:moveTo>
                      <a:pt x="11320" y="3"/>
                    </a:moveTo>
                    <a:lnTo>
                      <a:pt x="11320" y="3"/>
                    </a:lnTo>
                    <a:cubicBezTo>
                      <a:pt x="11321" y="3"/>
                      <a:pt x="11322" y="3"/>
                      <a:pt x="11322" y="5"/>
                    </a:cubicBezTo>
                    <a:cubicBezTo>
                      <a:pt x="11322" y="6"/>
                      <a:pt x="11321" y="7"/>
                      <a:pt x="11320" y="7"/>
                    </a:cubicBezTo>
                    <a:lnTo>
                      <a:pt x="11320" y="7"/>
                    </a:lnTo>
                    <a:cubicBezTo>
                      <a:pt x="11319" y="7"/>
                      <a:pt x="11318" y="6"/>
                      <a:pt x="11318" y="5"/>
                    </a:cubicBezTo>
                    <a:cubicBezTo>
                      <a:pt x="11318" y="3"/>
                      <a:pt x="11319" y="3"/>
                      <a:pt x="11320" y="3"/>
                    </a:cubicBezTo>
                    <a:close/>
                    <a:moveTo>
                      <a:pt x="11328" y="3"/>
                    </a:moveTo>
                    <a:lnTo>
                      <a:pt x="11328" y="3"/>
                    </a:lnTo>
                    <a:cubicBezTo>
                      <a:pt x="11329" y="3"/>
                      <a:pt x="11330" y="3"/>
                      <a:pt x="11330" y="5"/>
                    </a:cubicBezTo>
                    <a:cubicBezTo>
                      <a:pt x="11330" y="6"/>
                      <a:pt x="11329" y="7"/>
                      <a:pt x="11328" y="7"/>
                    </a:cubicBezTo>
                    <a:lnTo>
                      <a:pt x="11328" y="7"/>
                    </a:lnTo>
                    <a:cubicBezTo>
                      <a:pt x="11327" y="7"/>
                      <a:pt x="11326" y="6"/>
                      <a:pt x="11326" y="5"/>
                    </a:cubicBezTo>
                    <a:cubicBezTo>
                      <a:pt x="11326" y="3"/>
                      <a:pt x="11327" y="3"/>
                      <a:pt x="11328" y="3"/>
                    </a:cubicBezTo>
                    <a:close/>
                    <a:moveTo>
                      <a:pt x="11336" y="3"/>
                    </a:moveTo>
                    <a:lnTo>
                      <a:pt x="11336" y="3"/>
                    </a:lnTo>
                    <a:cubicBezTo>
                      <a:pt x="11337" y="3"/>
                      <a:pt x="11338" y="3"/>
                      <a:pt x="11338" y="5"/>
                    </a:cubicBezTo>
                    <a:cubicBezTo>
                      <a:pt x="11338" y="6"/>
                      <a:pt x="11337" y="7"/>
                      <a:pt x="11336" y="7"/>
                    </a:cubicBezTo>
                    <a:lnTo>
                      <a:pt x="11336" y="7"/>
                    </a:lnTo>
                    <a:cubicBezTo>
                      <a:pt x="11335" y="7"/>
                      <a:pt x="11334" y="6"/>
                      <a:pt x="11334" y="5"/>
                    </a:cubicBezTo>
                    <a:cubicBezTo>
                      <a:pt x="11334" y="3"/>
                      <a:pt x="11335" y="3"/>
                      <a:pt x="11336" y="3"/>
                    </a:cubicBezTo>
                    <a:close/>
                    <a:moveTo>
                      <a:pt x="11344" y="3"/>
                    </a:moveTo>
                    <a:lnTo>
                      <a:pt x="11344" y="3"/>
                    </a:lnTo>
                    <a:cubicBezTo>
                      <a:pt x="11345" y="3"/>
                      <a:pt x="11346" y="3"/>
                      <a:pt x="11346" y="5"/>
                    </a:cubicBezTo>
                    <a:cubicBezTo>
                      <a:pt x="11346" y="6"/>
                      <a:pt x="11345" y="7"/>
                      <a:pt x="11344" y="7"/>
                    </a:cubicBezTo>
                    <a:lnTo>
                      <a:pt x="11344" y="7"/>
                    </a:lnTo>
                    <a:cubicBezTo>
                      <a:pt x="11343" y="7"/>
                      <a:pt x="11342" y="6"/>
                      <a:pt x="11342" y="5"/>
                    </a:cubicBezTo>
                    <a:cubicBezTo>
                      <a:pt x="11342" y="3"/>
                      <a:pt x="11343" y="3"/>
                      <a:pt x="11344" y="3"/>
                    </a:cubicBezTo>
                    <a:close/>
                    <a:moveTo>
                      <a:pt x="11352" y="3"/>
                    </a:moveTo>
                    <a:lnTo>
                      <a:pt x="11352" y="3"/>
                    </a:lnTo>
                    <a:cubicBezTo>
                      <a:pt x="11353" y="3"/>
                      <a:pt x="11354" y="3"/>
                      <a:pt x="11354" y="5"/>
                    </a:cubicBezTo>
                    <a:cubicBezTo>
                      <a:pt x="11354" y="6"/>
                      <a:pt x="11353" y="7"/>
                      <a:pt x="11352" y="7"/>
                    </a:cubicBezTo>
                    <a:lnTo>
                      <a:pt x="11352" y="7"/>
                    </a:lnTo>
                    <a:cubicBezTo>
                      <a:pt x="11351" y="7"/>
                      <a:pt x="11350" y="6"/>
                      <a:pt x="11350" y="5"/>
                    </a:cubicBezTo>
                    <a:cubicBezTo>
                      <a:pt x="11350" y="3"/>
                      <a:pt x="11351" y="3"/>
                      <a:pt x="11352" y="3"/>
                    </a:cubicBezTo>
                    <a:close/>
                    <a:moveTo>
                      <a:pt x="11360" y="3"/>
                    </a:moveTo>
                    <a:lnTo>
                      <a:pt x="11360" y="3"/>
                    </a:lnTo>
                    <a:cubicBezTo>
                      <a:pt x="11361" y="3"/>
                      <a:pt x="11362" y="3"/>
                      <a:pt x="11362" y="5"/>
                    </a:cubicBezTo>
                    <a:cubicBezTo>
                      <a:pt x="11362" y="6"/>
                      <a:pt x="11361" y="7"/>
                      <a:pt x="11360" y="7"/>
                    </a:cubicBezTo>
                    <a:lnTo>
                      <a:pt x="11360" y="7"/>
                    </a:lnTo>
                    <a:cubicBezTo>
                      <a:pt x="11359" y="7"/>
                      <a:pt x="11358" y="6"/>
                      <a:pt x="11358" y="5"/>
                    </a:cubicBezTo>
                    <a:cubicBezTo>
                      <a:pt x="11358" y="3"/>
                      <a:pt x="11359" y="3"/>
                      <a:pt x="11360" y="3"/>
                    </a:cubicBezTo>
                    <a:close/>
                    <a:moveTo>
                      <a:pt x="11368" y="3"/>
                    </a:moveTo>
                    <a:lnTo>
                      <a:pt x="11368" y="3"/>
                    </a:lnTo>
                    <a:cubicBezTo>
                      <a:pt x="11369" y="3"/>
                      <a:pt x="11370" y="3"/>
                      <a:pt x="11370" y="5"/>
                    </a:cubicBezTo>
                    <a:cubicBezTo>
                      <a:pt x="11370" y="6"/>
                      <a:pt x="11369" y="7"/>
                      <a:pt x="11368" y="7"/>
                    </a:cubicBezTo>
                    <a:lnTo>
                      <a:pt x="11368" y="7"/>
                    </a:lnTo>
                    <a:cubicBezTo>
                      <a:pt x="11367" y="7"/>
                      <a:pt x="11366" y="6"/>
                      <a:pt x="11366" y="5"/>
                    </a:cubicBezTo>
                    <a:cubicBezTo>
                      <a:pt x="11366" y="3"/>
                      <a:pt x="11367" y="3"/>
                      <a:pt x="11368" y="3"/>
                    </a:cubicBezTo>
                    <a:close/>
                    <a:moveTo>
                      <a:pt x="11376" y="3"/>
                    </a:moveTo>
                    <a:lnTo>
                      <a:pt x="11376" y="3"/>
                    </a:lnTo>
                    <a:cubicBezTo>
                      <a:pt x="11377" y="3"/>
                      <a:pt x="11378" y="3"/>
                      <a:pt x="11378" y="5"/>
                    </a:cubicBezTo>
                    <a:cubicBezTo>
                      <a:pt x="11378" y="6"/>
                      <a:pt x="11377" y="7"/>
                      <a:pt x="11376" y="7"/>
                    </a:cubicBezTo>
                    <a:lnTo>
                      <a:pt x="11376" y="7"/>
                    </a:lnTo>
                    <a:cubicBezTo>
                      <a:pt x="11375" y="7"/>
                      <a:pt x="11374" y="6"/>
                      <a:pt x="11374" y="5"/>
                    </a:cubicBezTo>
                    <a:cubicBezTo>
                      <a:pt x="11374" y="3"/>
                      <a:pt x="11375" y="3"/>
                      <a:pt x="11376" y="3"/>
                    </a:cubicBezTo>
                    <a:close/>
                    <a:moveTo>
                      <a:pt x="11384" y="3"/>
                    </a:moveTo>
                    <a:lnTo>
                      <a:pt x="11384" y="3"/>
                    </a:lnTo>
                    <a:cubicBezTo>
                      <a:pt x="11385" y="3"/>
                      <a:pt x="11386" y="3"/>
                      <a:pt x="11386" y="5"/>
                    </a:cubicBezTo>
                    <a:cubicBezTo>
                      <a:pt x="11386" y="6"/>
                      <a:pt x="11385" y="7"/>
                      <a:pt x="11384" y="7"/>
                    </a:cubicBezTo>
                    <a:lnTo>
                      <a:pt x="11384" y="7"/>
                    </a:lnTo>
                    <a:cubicBezTo>
                      <a:pt x="11383" y="7"/>
                      <a:pt x="11382" y="6"/>
                      <a:pt x="11382" y="5"/>
                    </a:cubicBezTo>
                    <a:cubicBezTo>
                      <a:pt x="11382" y="3"/>
                      <a:pt x="11383" y="3"/>
                      <a:pt x="11384" y="3"/>
                    </a:cubicBezTo>
                    <a:close/>
                    <a:moveTo>
                      <a:pt x="11392" y="3"/>
                    </a:moveTo>
                    <a:lnTo>
                      <a:pt x="11392" y="3"/>
                    </a:lnTo>
                    <a:cubicBezTo>
                      <a:pt x="11393" y="3"/>
                      <a:pt x="11394" y="3"/>
                      <a:pt x="11394" y="5"/>
                    </a:cubicBezTo>
                    <a:cubicBezTo>
                      <a:pt x="11394" y="6"/>
                      <a:pt x="11393" y="7"/>
                      <a:pt x="11392" y="7"/>
                    </a:cubicBezTo>
                    <a:lnTo>
                      <a:pt x="11392" y="7"/>
                    </a:lnTo>
                    <a:cubicBezTo>
                      <a:pt x="11391" y="7"/>
                      <a:pt x="11390" y="6"/>
                      <a:pt x="11390" y="5"/>
                    </a:cubicBezTo>
                    <a:cubicBezTo>
                      <a:pt x="11390" y="3"/>
                      <a:pt x="11391" y="3"/>
                      <a:pt x="11392" y="3"/>
                    </a:cubicBezTo>
                    <a:close/>
                    <a:moveTo>
                      <a:pt x="11400" y="3"/>
                    </a:moveTo>
                    <a:lnTo>
                      <a:pt x="11400" y="3"/>
                    </a:lnTo>
                    <a:cubicBezTo>
                      <a:pt x="11401" y="3"/>
                      <a:pt x="11402" y="3"/>
                      <a:pt x="11402" y="5"/>
                    </a:cubicBezTo>
                    <a:cubicBezTo>
                      <a:pt x="11402" y="6"/>
                      <a:pt x="11401" y="7"/>
                      <a:pt x="11400" y="7"/>
                    </a:cubicBezTo>
                    <a:lnTo>
                      <a:pt x="11400" y="7"/>
                    </a:lnTo>
                    <a:cubicBezTo>
                      <a:pt x="11399" y="7"/>
                      <a:pt x="11398" y="6"/>
                      <a:pt x="11398" y="5"/>
                    </a:cubicBezTo>
                    <a:cubicBezTo>
                      <a:pt x="11398" y="3"/>
                      <a:pt x="11399" y="3"/>
                      <a:pt x="11400" y="3"/>
                    </a:cubicBezTo>
                    <a:close/>
                    <a:moveTo>
                      <a:pt x="11408" y="3"/>
                    </a:moveTo>
                    <a:lnTo>
                      <a:pt x="11408" y="3"/>
                    </a:lnTo>
                    <a:cubicBezTo>
                      <a:pt x="11409" y="3"/>
                      <a:pt x="11410" y="3"/>
                      <a:pt x="11410" y="5"/>
                    </a:cubicBezTo>
                    <a:cubicBezTo>
                      <a:pt x="11410" y="6"/>
                      <a:pt x="11409" y="7"/>
                      <a:pt x="11408" y="7"/>
                    </a:cubicBezTo>
                    <a:lnTo>
                      <a:pt x="11408" y="7"/>
                    </a:lnTo>
                    <a:cubicBezTo>
                      <a:pt x="11407" y="7"/>
                      <a:pt x="11406" y="6"/>
                      <a:pt x="11406" y="5"/>
                    </a:cubicBezTo>
                    <a:cubicBezTo>
                      <a:pt x="11406" y="3"/>
                      <a:pt x="11407" y="3"/>
                      <a:pt x="11408" y="3"/>
                    </a:cubicBezTo>
                    <a:close/>
                    <a:moveTo>
                      <a:pt x="11416" y="3"/>
                    </a:moveTo>
                    <a:lnTo>
                      <a:pt x="11416" y="3"/>
                    </a:lnTo>
                    <a:cubicBezTo>
                      <a:pt x="11417" y="3"/>
                      <a:pt x="11418" y="3"/>
                      <a:pt x="11418" y="5"/>
                    </a:cubicBezTo>
                    <a:cubicBezTo>
                      <a:pt x="11418" y="6"/>
                      <a:pt x="11417" y="7"/>
                      <a:pt x="11416" y="7"/>
                    </a:cubicBezTo>
                    <a:lnTo>
                      <a:pt x="11416" y="7"/>
                    </a:lnTo>
                    <a:cubicBezTo>
                      <a:pt x="11415" y="7"/>
                      <a:pt x="11414" y="6"/>
                      <a:pt x="11414" y="5"/>
                    </a:cubicBezTo>
                    <a:cubicBezTo>
                      <a:pt x="11414" y="3"/>
                      <a:pt x="11415" y="3"/>
                      <a:pt x="11416" y="3"/>
                    </a:cubicBezTo>
                    <a:close/>
                    <a:moveTo>
                      <a:pt x="11424" y="3"/>
                    </a:moveTo>
                    <a:lnTo>
                      <a:pt x="11424" y="3"/>
                    </a:lnTo>
                    <a:cubicBezTo>
                      <a:pt x="11425" y="3"/>
                      <a:pt x="11426" y="3"/>
                      <a:pt x="11426" y="5"/>
                    </a:cubicBezTo>
                    <a:cubicBezTo>
                      <a:pt x="11426" y="6"/>
                      <a:pt x="11425" y="7"/>
                      <a:pt x="11424" y="7"/>
                    </a:cubicBezTo>
                    <a:lnTo>
                      <a:pt x="11424" y="7"/>
                    </a:lnTo>
                    <a:cubicBezTo>
                      <a:pt x="11423" y="7"/>
                      <a:pt x="11422" y="6"/>
                      <a:pt x="11422" y="5"/>
                    </a:cubicBezTo>
                    <a:cubicBezTo>
                      <a:pt x="11422" y="3"/>
                      <a:pt x="11423" y="3"/>
                      <a:pt x="11424" y="3"/>
                    </a:cubicBezTo>
                    <a:close/>
                    <a:moveTo>
                      <a:pt x="11432" y="3"/>
                    </a:moveTo>
                    <a:lnTo>
                      <a:pt x="11432" y="3"/>
                    </a:lnTo>
                    <a:cubicBezTo>
                      <a:pt x="11433" y="3"/>
                      <a:pt x="11434" y="3"/>
                      <a:pt x="11434" y="5"/>
                    </a:cubicBezTo>
                    <a:cubicBezTo>
                      <a:pt x="11434" y="6"/>
                      <a:pt x="11433" y="7"/>
                      <a:pt x="11432" y="7"/>
                    </a:cubicBezTo>
                    <a:lnTo>
                      <a:pt x="11432" y="7"/>
                    </a:lnTo>
                    <a:cubicBezTo>
                      <a:pt x="11431" y="7"/>
                      <a:pt x="11430" y="6"/>
                      <a:pt x="11430" y="5"/>
                    </a:cubicBezTo>
                    <a:cubicBezTo>
                      <a:pt x="11430" y="3"/>
                      <a:pt x="11431" y="3"/>
                      <a:pt x="11432" y="3"/>
                    </a:cubicBezTo>
                    <a:close/>
                    <a:moveTo>
                      <a:pt x="11440" y="3"/>
                    </a:moveTo>
                    <a:lnTo>
                      <a:pt x="11440" y="3"/>
                    </a:lnTo>
                    <a:cubicBezTo>
                      <a:pt x="11441" y="3"/>
                      <a:pt x="11442" y="3"/>
                      <a:pt x="11442" y="5"/>
                    </a:cubicBezTo>
                    <a:cubicBezTo>
                      <a:pt x="11442" y="6"/>
                      <a:pt x="11441" y="7"/>
                      <a:pt x="11440" y="7"/>
                    </a:cubicBezTo>
                    <a:lnTo>
                      <a:pt x="11440" y="7"/>
                    </a:lnTo>
                    <a:cubicBezTo>
                      <a:pt x="11439" y="7"/>
                      <a:pt x="11438" y="6"/>
                      <a:pt x="11438" y="5"/>
                    </a:cubicBezTo>
                    <a:cubicBezTo>
                      <a:pt x="11438" y="3"/>
                      <a:pt x="11439" y="3"/>
                      <a:pt x="11440" y="3"/>
                    </a:cubicBezTo>
                    <a:close/>
                    <a:moveTo>
                      <a:pt x="11448" y="3"/>
                    </a:moveTo>
                    <a:lnTo>
                      <a:pt x="11448" y="3"/>
                    </a:lnTo>
                    <a:cubicBezTo>
                      <a:pt x="11449" y="3"/>
                      <a:pt x="11450" y="3"/>
                      <a:pt x="11450" y="5"/>
                    </a:cubicBezTo>
                    <a:cubicBezTo>
                      <a:pt x="11450" y="6"/>
                      <a:pt x="11449" y="7"/>
                      <a:pt x="11448" y="7"/>
                    </a:cubicBezTo>
                    <a:lnTo>
                      <a:pt x="11448" y="7"/>
                    </a:lnTo>
                    <a:cubicBezTo>
                      <a:pt x="11447" y="7"/>
                      <a:pt x="11446" y="6"/>
                      <a:pt x="11446" y="5"/>
                    </a:cubicBezTo>
                    <a:cubicBezTo>
                      <a:pt x="11446" y="3"/>
                      <a:pt x="11447" y="3"/>
                      <a:pt x="11448" y="3"/>
                    </a:cubicBezTo>
                    <a:close/>
                    <a:moveTo>
                      <a:pt x="11456" y="3"/>
                    </a:moveTo>
                    <a:lnTo>
                      <a:pt x="11456" y="3"/>
                    </a:lnTo>
                    <a:cubicBezTo>
                      <a:pt x="11457" y="3"/>
                      <a:pt x="11458" y="3"/>
                      <a:pt x="11458" y="5"/>
                    </a:cubicBezTo>
                    <a:cubicBezTo>
                      <a:pt x="11458" y="6"/>
                      <a:pt x="11457" y="7"/>
                      <a:pt x="11456" y="7"/>
                    </a:cubicBezTo>
                    <a:lnTo>
                      <a:pt x="11456" y="7"/>
                    </a:lnTo>
                    <a:cubicBezTo>
                      <a:pt x="11455" y="7"/>
                      <a:pt x="11454" y="6"/>
                      <a:pt x="11454" y="5"/>
                    </a:cubicBezTo>
                    <a:cubicBezTo>
                      <a:pt x="11454" y="3"/>
                      <a:pt x="11455" y="3"/>
                      <a:pt x="11456" y="3"/>
                    </a:cubicBezTo>
                    <a:close/>
                    <a:moveTo>
                      <a:pt x="11464" y="3"/>
                    </a:moveTo>
                    <a:lnTo>
                      <a:pt x="11464" y="3"/>
                    </a:lnTo>
                    <a:cubicBezTo>
                      <a:pt x="11465" y="3"/>
                      <a:pt x="11466" y="3"/>
                      <a:pt x="11466" y="5"/>
                    </a:cubicBezTo>
                    <a:cubicBezTo>
                      <a:pt x="11466" y="6"/>
                      <a:pt x="11465" y="7"/>
                      <a:pt x="11464" y="7"/>
                    </a:cubicBezTo>
                    <a:lnTo>
                      <a:pt x="11464" y="7"/>
                    </a:lnTo>
                    <a:cubicBezTo>
                      <a:pt x="11463" y="7"/>
                      <a:pt x="11462" y="6"/>
                      <a:pt x="11462" y="5"/>
                    </a:cubicBezTo>
                    <a:cubicBezTo>
                      <a:pt x="11462" y="3"/>
                      <a:pt x="11463" y="3"/>
                      <a:pt x="11464" y="3"/>
                    </a:cubicBezTo>
                    <a:close/>
                    <a:moveTo>
                      <a:pt x="11472" y="3"/>
                    </a:moveTo>
                    <a:lnTo>
                      <a:pt x="11472" y="3"/>
                    </a:lnTo>
                    <a:cubicBezTo>
                      <a:pt x="11473" y="3"/>
                      <a:pt x="11474" y="3"/>
                      <a:pt x="11474" y="5"/>
                    </a:cubicBezTo>
                    <a:cubicBezTo>
                      <a:pt x="11474" y="6"/>
                      <a:pt x="11473" y="7"/>
                      <a:pt x="11472" y="7"/>
                    </a:cubicBezTo>
                    <a:lnTo>
                      <a:pt x="11472" y="7"/>
                    </a:lnTo>
                    <a:cubicBezTo>
                      <a:pt x="11471" y="7"/>
                      <a:pt x="11470" y="6"/>
                      <a:pt x="11470" y="5"/>
                    </a:cubicBezTo>
                    <a:cubicBezTo>
                      <a:pt x="11470" y="3"/>
                      <a:pt x="11471" y="3"/>
                      <a:pt x="11472" y="3"/>
                    </a:cubicBezTo>
                    <a:close/>
                    <a:moveTo>
                      <a:pt x="11480" y="3"/>
                    </a:moveTo>
                    <a:lnTo>
                      <a:pt x="11480" y="3"/>
                    </a:lnTo>
                    <a:cubicBezTo>
                      <a:pt x="11481" y="3"/>
                      <a:pt x="11482" y="3"/>
                      <a:pt x="11482" y="5"/>
                    </a:cubicBezTo>
                    <a:cubicBezTo>
                      <a:pt x="11482" y="6"/>
                      <a:pt x="11481" y="7"/>
                      <a:pt x="11480" y="7"/>
                    </a:cubicBezTo>
                    <a:lnTo>
                      <a:pt x="11480" y="7"/>
                    </a:lnTo>
                    <a:cubicBezTo>
                      <a:pt x="11479" y="7"/>
                      <a:pt x="11478" y="6"/>
                      <a:pt x="11478" y="5"/>
                    </a:cubicBezTo>
                    <a:cubicBezTo>
                      <a:pt x="11478" y="3"/>
                      <a:pt x="11479" y="3"/>
                      <a:pt x="11480" y="3"/>
                    </a:cubicBezTo>
                    <a:close/>
                    <a:moveTo>
                      <a:pt x="11488" y="3"/>
                    </a:moveTo>
                    <a:lnTo>
                      <a:pt x="11488" y="3"/>
                    </a:lnTo>
                    <a:cubicBezTo>
                      <a:pt x="11489" y="3"/>
                      <a:pt x="11490" y="3"/>
                      <a:pt x="11490" y="5"/>
                    </a:cubicBezTo>
                    <a:cubicBezTo>
                      <a:pt x="11490" y="6"/>
                      <a:pt x="11489" y="7"/>
                      <a:pt x="11488" y="7"/>
                    </a:cubicBezTo>
                    <a:lnTo>
                      <a:pt x="11488" y="7"/>
                    </a:lnTo>
                    <a:cubicBezTo>
                      <a:pt x="11487" y="7"/>
                      <a:pt x="11486" y="6"/>
                      <a:pt x="11486" y="5"/>
                    </a:cubicBezTo>
                    <a:cubicBezTo>
                      <a:pt x="11486" y="3"/>
                      <a:pt x="11487" y="3"/>
                      <a:pt x="11488" y="3"/>
                    </a:cubicBezTo>
                    <a:close/>
                    <a:moveTo>
                      <a:pt x="11496" y="3"/>
                    </a:moveTo>
                    <a:lnTo>
                      <a:pt x="11496" y="3"/>
                    </a:lnTo>
                    <a:cubicBezTo>
                      <a:pt x="11497" y="3"/>
                      <a:pt x="11498" y="3"/>
                      <a:pt x="11498" y="5"/>
                    </a:cubicBezTo>
                    <a:cubicBezTo>
                      <a:pt x="11498" y="6"/>
                      <a:pt x="11497" y="7"/>
                      <a:pt x="11496" y="7"/>
                    </a:cubicBezTo>
                    <a:lnTo>
                      <a:pt x="11496" y="7"/>
                    </a:lnTo>
                    <a:cubicBezTo>
                      <a:pt x="11495" y="7"/>
                      <a:pt x="11494" y="6"/>
                      <a:pt x="11494" y="5"/>
                    </a:cubicBezTo>
                    <a:cubicBezTo>
                      <a:pt x="11494" y="3"/>
                      <a:pt x="11495" y="3"/>
                      <a:pt x="11496" y="3"/>
                    </a:cubicBezTo>
                    <a:close/>
                    <a:moveTo>
                      <a:pt x="11504" y="3"/>
                    </a:moveTo>
                    <a:lnTo>
                      <a:pt x="11504" y="3"/>
                    </a:lnTo>
                    <a:cubicBezTo>
                      <a:pt x="11505" y="3"/>
                      <a:pt x="11506" y="3"/>
                      <a:pt x="11506" y="5"/>
                    </a:cubicBezTo>
                    <a:cubicBezTo>
                      <a:pt x="11506" y="6"/>
                      <a:pt x="11505" y="7"/>
                      <a:pt x="11504" y="7"/>
                    </a:cubicBezTo>
                    <a:lnTo>
                      <a:pt x="11504" y="7"/>
                    </a:lnTo>
                    <a:cubicBezTo>
                      <a:pt x="11503" y="7"/>
                      <a:pt x="11502" y="6"/>
                      <a:pt x="11502" y="5"/>
                    </a:cubicBezTo>
                    <a:cubicBezTo>
                      <a:pt x="11502" y="3"/>
                      <a:pt x="11503" y="3"/>
                      <a:pt x="11504" y="3"/>
                    </a:cubicBezTo>
                    <a:close/>
                    <a:moveTo>
                      <a:pt x="11512" y="3"/>
                    </a:moveTo>
                    <a:lnTo>
                      <a:pt x="11512" y="3"/>
                    </a:lnTo>
                    <a:cubicBezTo>
                      <a:pt x="11513" y="3"/>
                      <a:pt x="11514" y="3"/>
                      <a:pt x="11514" y="5"/>
                    </a:cubicBezTo>
                    <a:cubicBezTo>
                      <a:pt x="11514" y="6"/>
                      <a:pt x="11513" y="7"/>
                      <a:pt x="11512" y="7"/>
                    </a:cubicBezTo>
                    <a:lnTo>
                      <a:pt x="11512" y="7"/>
                    </a:lnTo>
                    <a:cubicBezTo>
                      <a:pt x="11511" y="7"/>
                      <a:pt x="11510" y="6"/>
                      <a:pt x="11510" y="5"/>
                    </a:cubicBezTo>
                    <a:cubicBezTo>
                      <a:pt x="11510" y="3"/>
                      <a:pt x="11511" y="3"/>
                      <a:pt x="11512" y="3"/>
                    </a:cubicBezTo>
                    <a:close/>
                    <a:moveTo>
                      <a:pt x="11520" y="3"/>
                    </a:moveTo>
                    <a:lnTo>
                      <a:pt x="11520" y="3"/>
                    </a:lnTo>
                    <a:cubicBezTo>
                      <a:pt x="11521" y="3"/>
                      <a:pt x="11522" y="3"/>
                      <a:pt x="11522" y="5"/>
                    </a:cubicBezTo>
                    <a:cubicBezTo>
                      <a:pt x="11522" y="6"/>
                      <a:pt x="11521" y="7"/>
                      <a:pt x="11520" y="7"/>
                    </a:cubicBezTo>
                    <a:lnTo>
                      <a:pt x="11520" y="7"/>
                    </a:lnTo>
                    <a:cubicBezTo>
                      <a:pt x="11519" y="7"/>
                      <a:pt x="11518" y="6"/>
                      <a:pt x="11518" y="5"/>
                    </a:cubicBezTo>
                    <a:cubicBezTo>
                      <a:pt x="11518" y="3"/>
                      <a:pt x="11519" y="3"/>
                      <a:pt x="11520" y="3"/>
                    </a:cubicBezTo>
                    <a:close/>
                    <a:moveTo>
                      <a:pt x="11528" y="3"/>
                    </a:moveTo>
                    <a:lnTo>
                      <a:pt x="11528" y="3"/>
                    </a:lnTo>
                    <a:cubicBezTo>
                      <a:pt x="11529" y="3"/>
                      <a:pt x="11530" y="3"/>
                      <a:pt x="11530" y="5"/>
                    </a:cubicBezTo>
                    <a:cubicBezTo>
                      <a:pt x="11530" y="6"/>
                      <a:pt x="11529" y="7"/>
                      <a:pt x="11528" y="7"/>
                    </a:cubicBezTo>
                    <a:lnTo>
                      <a:pt x="11528" y="7"/>
                    </a:lnTo>
                    <a:cubicBezTo>
                      <a:pt x="11527" y="7"/>
                      <a:pt x="11526" y="6"/>
                      <a:pt x="11526" y="5"/>
                    </a:cubicBezTo>
                    <a:cubicBezTo>
                      <a:pt x="11526" y="3"/>
                      <a:pt x="11527" y="3"/>
                      <a:pt x="11528" y="3"/>
                    </a:cubicBezTo>
                    <a:close/>
                    <a:moveTo>
                      <a:pt x="11536" y="3"/>
                    </a:moveTo>
                    <a:lnTo>
                      <a:pt x="11536" y="3"/>
                    </a:lnTo>
                    <a:cubicBezTo>
                      <a:pt x="11537" y="3"/>
                      <a:pt x="11538" y="3"/>
                      <a:pt x="11538" y="5"/>
                    </a:cubicBezTo>
                    <a:cubicBezTo>
                      <a:pt x="11538" y="6"/>
                      <a:pt x="11537" y="7"/>
                      <a:pt x="11536" y="7"/>
                    </a:cubicBezTo>
                    <a:lnTo>
                      <a:pt x="11536" y="7"/>
                    </a:lnTo>
                    <a:cubicBezTo>
                      <a:pt x="11535" y="7"/>
                      <a:pt x="11534" y="6"/>
                      <a:pt x="11534" y="5"/>
                    </a:cubicBezTo>
                    <a:cubicBezTo>
                      <a:pt x="11534" y="3"/>
                      <a:pt x="11535" y="3"/>
                      <a:pt x="11536" y="3"/>
                    </a:cubicBezTo>
                    <a:close/>
                    <a:moveTo>
                      <a:pt x="11544" y="3"/>
                    </a:moveTo>
                    <a:lnTo>
                      <a:pt x="11544" y="3"/>
                    </a:lnTo>
                    <a:cubicBezTo>
                      <a:pt x="11545" y="3"/>
                      <a:pt x="11546" y="3"/>
                      <a:pt x="11546" y="5"/>
                    </a:cubicBezTo>
                    <a:cubicBezTo>
                      <a:pt x="11546" y="6"/>
                      <a:pt x="11545" y="7"/>
                      <a:pt x="11544" y="7"/>
                    </a:cubicBezTo>
                    <a:lnTo>
                      <a:pt x="11544" y="7"/>
                    </a:lnTo>
                    <a:cubicBezTo>
                      <a:pt x="11543" y="7"/>
                      <a:pt x="11542" y="6"/>
                      <a:pt x="11542" y="5"/>
                    </a:cubicBezTo>
                    <a:cubicBezTo>
                      <a:pt x="11542" y="3"/>
                      <a:pt x="11543" y="3"/>
                      <a:pt x="11544" y="3"/>
                    </a:cubicBezTo>
                    <a:close/>
                    <a:moveTo>
                      <a:pt x="11552" y="3"/>
                    </a:moveTo>
                    <a:lnTo>
                      <a:pt x="11552" y="3"/>
                    </a:lnTo>
                    <a:cubicBezTo>
                      <a:pt x="11553" y="3"/>
                      <a:pt x="11554" y="3"/>
                      <a:pt x="11554" y="5"/>
                    </a:cubicBezTo>
                    <a:cubicBezTo>
                      <a:pt x="11554" y="6"/>
                      <a:pt x="11553" y="7"/>
                      <a:pt x="11552" y="7"/>
                    </a:cubicBezTo>
                    <a:lnTo>
                      <a:pt x="11552" y="7"/>
                    </a:lnTo>
                    <a:cubicBezTo>
                      <a:pt x="11551" y="7"/>
                      <a:pt x="11550" y="6"/>
                      <a:pt x="11550" y="5"/>
                    </a:cubicBezTo>
                    <a:cubicBezTo>
                      <a:pt x="11550" y="3"/>
                      <a:pt x="11551" y="3"/>
                      <a:pt x="11552" y="3"/>
                    </a:cubicBezTo>
                    <a:close/>
                    <a:moveTo>
                      <a:pt x="11560" y="3"/>
                    </a:moveTo>
                    <a:lnTo>
                      <a:pt x="11560" y="3"/>
                    </a:lnTo>
                    <a:cubicBezTo>
                      <a:pt x="11561" y="3"/>
                      <a:pt x="11562" y="3"/>
                      <a:pt x="11562" y="5"/>
                    </a:cubicBezTo>
                    <a:cubicBezTo>
                      <a:pt x="11562" y="6"/>
                      <a:pt x="11561" y="7"/>
                      <a:pt x="11560" y="7"/>
                    </a:cubicBezTo>
                    <a:lnTo>
                      <a:pt x="11560" y="7"/>
                    </a:lnTo>
                    <a:cubicBezTo>
                      <a:pt x="11559" y="7"/>
                      <a:pt x="11558" y="6"/>
                      <a:pt x="11558" y="5"/>
                    </a:cubicBezTo>
                    <a:cubicBezTo>
                      <a:pt x="11558" y="3"/>
                      <a:pt x="11559" y="3"/>
                      <a:pt x="11560" y="3"/>
                    </a:cubicBezTo>
                    <a:close/>
                    <a:moveTo>
                      <a:pt x="11568" y="3"/>
                    </a:moveTo>
                    <a:lnTo>
                      <a:pt x="11568" y="3"/>
                    </a:lnTo>
                    <a:cubicBezTo>
                      <a:pt x="11569" y="3"/>
                      <a:pt x="11570" y="4"/>
                      <a:pt x="11570" y="5"/>
                    </a:cubicBezTo>
                    <a:cubicBezTo>
                      <a:pt x="11570" y="6"/>
                      <a:pt x="11569" y="7"/>
                      <a:pt x="11568" y="7"/>
                    </a:cubicBezTo>
                    <a:lnTo>
                      <a:pt x="11568" y="7"/>
                    </a:lnTo>
                    <a:cubicBezTo>
                      <a:pt x="11567" y="7"/>
                      <a:pt x="11566" y="6"/>
                      <a:pt x="11566" y="5"/>
                    </a:cubicBezTo>
                    <a:cubicBezTo>
                      <a:pt x="11566" y="4"/>
                      <a:pt x="11567" y="3"/>
                      <a:pt x="11568" y="3"/>
                    </a:cubicBezTo>
                    <a:close/>
                    <a:moveTo>
                      <a:pt x="11576" y="3"/>
                    </a:moveTo>
                    <a:lnTo>
                      <a:pt x="11576" y="3"/>
                    </a:lnTo>
                    <a:cubicBezTo>
                      <a:pt x="11577" y="3"/>
                      <a:pt x="11578" y="4"/>
                      <a:pt x="11578" y="5"/>
                    </a:cubicBezTo>
                    <a:cubicBezTo>
                      <a:pt x="11578" y="6"/>
                      <a:pt x="11577" y="7"/>
                      <a:pt x="11576" y="7"/>
                    </a:cubicBezTo>
                    <a:lnTo>
                      <a:pt x="11576" y="7"/>
                    </a:lnTo>
                    <a:cubicBezTo>
                      <a:pt x="11575" y="7"/>
                      <a:pt x="11574" y="6"/>
                      <a:pt x="11574" y="5"/>
                    </a:cubicBezTo>
                    <a:cubicBezTo>
                      <a:pt x="11574" y="4"/>
                      <a:pt x="11575" y="3"/>
                      <a:pt x="11576" y="3"/>
                    </a:cubicBezTo>
                    <a:close/>
                    <a:moveTo>
                      <a:pt x="11584" y="3"/>
                    </a:moveTo>
                    <a:lnTo>
                      <a:pt x="11584" y="3"/>
                    </a:lnTo>
                    <a:cubicBezTo>
                      <a:pt x="11585" y="3"/>
                      <a:pt x="11586" y="4"/>
                      <a:pt x="11586" y="5"/>
                    </a:cubicBezTo>
                    <a:cubicBezTo>
                      <a:pt x="11586" y="6"/>
                      <a:pt x="11585" y="7"/>
                      <a:pt x="11584" y="7"/>
                    </a:cubicBezTo>
                    <a:lnTo>
                      <a:pt x="11584" y="7"/>
                    </a:lnTo>
                    <a:cubicBezTo>
                      <a:pt x="11583" y="7"/>
                      <a:pt x="11582" y="6"/>
                      <a:pt x="11582" y="5"/>
                    </a:cubicBezTo>
                    <a:cubicBezTo>
                      <a:pt x="11582" y="4"/>
                      <a:pt x="11583" y="3"/>
                      <a:pt x="11584" y="3"/>
                    </a:cubicBezTo>
                    <a:close/>
                    <a:moveTo>
                      <a:pt x="11592" y="3"/>
                    </a:moveTo>
                    <a:lnTo>
                      <a:pt x="11592" y="3"/>
                    </a:lnTo>
                    <a:cubicBezTo>
                      <a:pt x="11593" y="3"/>
                      <a:pt x="11594" y="4"/>
                      <a:pt x="11594" y="5"/>
                    </a:cubicBezTo>
                    <a:cubicBezTo>
                      <a:pt x="11594" y="6"/>
                      <a:pt x="11593" y="7"/>
                      <a:pt x="11592" y="7"/>
                    </a:cubicBezTo>
                    <a:lnTo>
                      <a:pt x="11592" y="7"/>
                    </a:lnTo>
                    <a:cubicBezTo>
                      <a:pt x="11591" y="7"/>
                      <a:pt x="11590" y="6"/>
                      <a:pt x="11590" y="5"/>
                    </a:cubicBezTo>
                    <a:cubicBezTo>
                      <a:pt x="11590" y="4"/>
                      <a:pt x="11591" y="3"/>
                      <a:pt x="11592" y="3"/>
                    </a:cubicBezTo>
                    <a:close/>
                    <a:moveTo>
                      <a:pt x="11600" y="3"/>
                    </a:moveTo>
                    <a:lnTo>
                      <a:pt x="11600" y="3"/>
                    </a:lnTo>
                    <a:cubicBezTo>
                      <a:pt x="11601" y="3"/>
                      <a:pt x="11602" y="4"/>
                      <a:pt x="11602" y="5"/>
                    </a:cubicBezTo>
                    <a:cubicBezTo>
                      <a:pt x="11602" y="6"/>
                      <a:pt x="11601" y="7"/>
                      <a:pt x="11600" y="7"/>
                    </a:cubicBezTo>
                    <a:lnTo>
                      <a:pt x="11600" y="7"/>
                    </a:lnTo>
                    <a:cubicBezTo>
                      <a:pt x="11599" y="7"/>
                      <a:pt x="11598" y="6"/>
                      <a:pt x="11598" y="5"/>
                    </a:cubicBezTo>
                    <a:cubicBezTo>
                      <a:pt x="11598" y="4"/>
                      <a:pt x="11599" y="3"/>
                      <a:pt x="11600" y="3"/>
                    </a:cubicBezTo>
                    <a:close/>
                    <a:moveTo>
                      <a:pt x="11608" y="3"/>
                    </a:moveTo>
                    <a:lnTo>
                      <a:pt x="11608" y="3"/>
                    </a:lnTo>
                    <a:cubicBezTo>
                      <a:pt x="11609" y="3"/>
                      <a:pt x="11610" y="4"/>
                      <a:pt x="11610" y="5"/>
                    </a:cubicBezTo>
                    <a:cubicBezTo>
                      <a:pt x="11610" y="6"/>
                      <a:pt x="11609" y="7"/>
                      <a:pt x="11608" y="7"/>
                    </a:cubicBezTo>
                    <a:lnTo>
                      <a:pt x="11608" y="7"/>
                    </a:lnTo>
                    <a:cubicBezTo>
                      <a:pt x="11607" y="7"/>
                      <a:pt x="11606" y="6"/>
                      <a:pt x="11606" y="5"/>
                    </a:cubicBezTo>
                    <a:cubicBezTo>
                      <a:pt x="11606" y="4"/>
                      <a:pt x="11607" y="3"/>
                      <a:pt x="11608" y="3"/>
                    </a:cubicBezTo>
                    <a:close/>
                    <a:moveTo>
                      <a:pt x="11616" y="3"/>
                    </a:moveTo>
                    <a:lnTo>
                      <a:pt x="11616" y="3"/>
                    </a:lnTo>
                    <a:cubicBezTo>
                      <a:pt x="11617" y="3"/>
                      <a:pt x="11618" y="4"/>
                      <a:pt x="11618" y="5"/>
                    </a:cubicBezTo>
                    <a:cubicBezTo>
                      <a:pt x="11618" y="6"/>
                      <a:pt x="11617" y="7"/>
                      <a:pt x="11616" y="7"/>
                    </a:cubicBezTo>
                    <a:lnTo>
                      <a:pt x="11616" y="7"/>
                    </a:lnTo>
                    <a:cubicBezTo>
                      <a:pt x="11615" y="7"/>
                      <a:pt x="11614" y="6"/>
                      <a:pt x="11614" y="5"/>
                    </a:cubicBezTo>
                    <a:cubicBezTo>
                      <a:pt x="11614" y="4"/>
                      <a:pt x="11615" y="3"/>
                      <a:pt x="11616" y="3"/>
                    </a:cubicBezTo>
                    <a:close/>
                    <a:moveTo>
                      <a:pt x="11624" y="3"/>
                    </a:moveTo>
                    <a:lnTo>
                      <a:pt x="11624" y="3"/>
                    </a:lnTo>
                    <a:cubicBezTo>
                      <a:pt x="11625" y="3"/>
                      <a:pt x="11626" y="4"/>
                      <a:pt x="11626" y="5"/>
                    </a:cubicBezTo>
                    <a:cubicBezTo>
                      <a:pt x="11626" y="6"/>
                      <a:pt x="11625" y="7"/>
                      <a:pt x="11624" y="7"/>
                    </a:cubicBezTo>
                    <a:lnTo>
                      <a:pt x="11624" y="7"/>
                    </a:lnTo>
                    <a:cubicBezTo>
                      <a:pt x="11623" y="7"/>
                      <a:pt x="11622" y="6"/>
                      <a:pt x="11622" y="5"/>
                    </a:cubicBezTo>
                    <a:cubicBezTo>
                      <a:pt x="11622" y="4"/>
                      <a:pt x="11623" y="3"/>
                      <a:pt x="11624" y="3"/>
                    </a:cubicBezTo>
                    <a:close/>
                    <a:moveTo>
                      <a:pt x="11632" y="3"/>
                    </a:moveTo>
                    <a:lnTo>
                      <a:pt x="11632" y="3"/>
                    </a:lnTo>
                    <a:cubicBezTo>
                      <a:pt x="11633" y="3"/>
                      <a:pt x="11634" y="4"/>
                      <a:pt x="11634" y="5"/>
                    </a:cubicBezTo>
                    <a:cubicBezTo>
                      <a:pt x="11634" y="6"/>
                      <a:pt x="11633" y="7"/>
                      <a:pt x="11632" y="7"/>
                    </a:cubicBezTo>
                    <a:lnTo>
                      <a:pt x="11632" y="7"/>
                    </a:lnTo>
                    <a:cubicBezTo>
                      <a:pt x="11631" y="7"/>
                      <a:pt x="11630" y="6"/>
                      <a:pt x="11630" y="5"/>
                    </a:cubicBezTo>
                    <a:cubicBezTo>
                      <a:pt x="11630" y="4"/>
                      <a:pt x="11631" y="3"/>
                      <a:pt x="11632" y="3"/>
                    </a:cubicBezTo>
                    <a:close/>
                    <a:moveTo>
                      <a:pt x="11640" y="3"/>
                    </a:moveTo>
                    <a:lnTo>
                      <a:pt x="11640" y="3"/>
                    </a:lnTo>
                    <a:cubicBezTo>
                      <a:pt x="11641" y="3"/>
                      <a:pt x="11642" y="4"/>
                      <a:pt x="11642" y="5"/>
                    </a:cubicBezTo>
                    <a:cubicBezTo>
                      <a:pt x="11642" y="6"/>
                      <a:pt x="11641" y="7"/>
                      <a:pt x="11640" y="7"/>
                    </a:cubicBezTo>
                    <a:lnTo>
                      <a:pt x="11640" y="7"/>
                    </a:lnTo>
                    <a:cubicBezTo>
                      <a:pt x="11639" y="7"/>
                      <a:pt x="11638" y="6"/>
                      <a:pt x="11638" y="5"/>
                    </a:cubicBezTo>
                    <a:cubicBezTo>
                      <a:pt x="11638" y="4"/>
                      <a:pt x="11639" y="3"/>
                      <a:pt x="11640" y="3"/>
                    </a:cubicBezTo>
                    <a:close/>
                    <a:moveTo>
                      <a:pt x="11648" y="3"/>
                    </a:moveTo>
                    <a:lnTo>
                      <a:pt x="11648" y="3"/>
                    </a:lnTo>
                    <a:cubicBezTo>
                      <a:pt x="11649" y="3"/>
                      <a:pt x="11650" y="4"/>
                      <a:pt x="11650" y="5"/>
                    </a:cubicBezTo>
                    <a:cubicBezTo>
                      <a:pt x="11650" y="6"/>
                      <a:pt x="11649" y="7"/>
                      <a:pt x="11648" y="7"/>
                    </a:cubicBezTo>
                    <a:lnTo>
                      <a:pt x="11648" y="7"/>
                    </a:lnTo>
                    <a:cubicBezTo>
                      <a:pt x="11647" y="7"/>
                      <a:pt x="11646" y="6"/>
                      <a:pt x="11646" y="5"/>
                    </a:cubicBezTo>
                    <a:cubicBezTo>
                      <a:pt x="11646" y="4"/>
                      <a:pt x="11647" y="3"/>
                      <a:pt x="11648" y="3"/>
                    </a:cubicBezTo>
                    <a:close/>
                    <a:moveTo>
                      <a:pt x="11656" y="3"/>
                    </a:moveTo>
                    <a:lnTo>
                      <a:pt x="11656" y="3"/>
                    </a:lnTo>
                    <a:cubicBezTo>
                      <a:pt x="11657" y="3"/>
                      <a:pt x="11658" y="4"/>
                      <a:pt x="11658" y="5"/>
                    </a:cubicBezTo>
                    <a:cubicBezTo>
                      <a:pt x="11658" y="6"/>
                      <a:pt x="11657" y="7"/>
                      <a:pt x="11656" y="7"/>
                    </a:cubicBezTo>
                    <a:lnTo>
                      <a:pt x="11656" y="7"/>
                    </a:lnTo>
                    <a:cubicBezTo>
                      <a:pt x="11655" y="7"/>
                      <a:pt x="11654" y="6"/>
                      <a:pt x="11654" y="5"/>
                    </a:cubicBezTo>
                    <a:cubicBezTo>
                      <a:pt x="11654" y="4"/>
                      <a:pt x="11655" y="3"/>
                      <a:pt x="11656" y="3"/>
                    </a:cubicBezTo>
                    <a:close/>
                    <a:moveTo>
                      <a:pt x="11664" y="3"/>
                    </a:moveTo>
                    <a:lnTo>
                      <a:pt x="11664" y="3"/>
                    </a:lnTo>
                    <a:cubicBezTo>
                      <a:pt x="11665" y="3"/>
                      <a:pt x="11666" y="4"/>
                      <a:pt x="11666" y="5"/>
                    </a:cubicBezTo>
                    <a:cubicBezTo>
                      <a:pt x="11666" y="6"/>
                      <a:pt x="11665" y="7"/>
                      <a:pt x="11664" y="7"/>
                    </a:cubicBezTo>
                    <a:lnTo>
                      <a:pt x="11664" y="7"/>
                    </a:lnTo>
                    <a:cubicBezTo>
                      <a:pt x="11663" y="7"/>
                      <a:pt x="11662" y="6"/>
                      <a:pt x="11662" y="5"/>
                    </a:cubicBezTo>
                    <a:cubicBezTo>
                      <a:pt x="11662" y="4"/>
                      <a:pt x="11663" y="3"/>
                      <a:pt x="11664" y="3"/>
                    </a:cubicBezTo>
                    <a:close/>
                    <a:moveTo>
                      <a:pt x="11672" y="3"/>
                    </a:moveTo>
                    <a:lnTo>
                      <a:pt x="11672" y="3"/>
                    </a:lnTo>
                    <a:cubicBezTo>
                      <a:pt x="11673" y="3"/>
                      <a:pt x="11674" y="4"/>
                      <a:pt x="11674" y="5"/>
                    </a:cubicBezTo>
                    <a:cubicBezTo>
                      <a:pt x="11674" y="6"/>
                      <a:pt x="11673" y="7"/>
                      <a:pt x="11672" y="7"/>
                    </a:cubicBezTo>
                    <a:lnTo>
                      <a:pt x="11672" y="7"/>
                    </a:lnTo>
                    <a:cubicBezTo>
                      <a:pt x="11671" y="7"/>
                      <a:pt x="11670" y="6"/>
                      <a:pt x="11670" y="5"/>
                    </a:cubicBezTo>
                    <a:cubicBezTo>
                      <a:pt x="11670" y="4"/>
                      <a:pt x="11671" y="3"/>
                      <a:pt x="11672" y="3"/>
                    </a:cubicBezTo>
                    <a:close/>
                    <a:moveTo>
                      <a:pt x="11680" y="3"/>
                    </a:moveTo>
                    <a:lnTo>
                      <a:pt x="11680" y="3"/>
                    </a:lnTo>
                    <a:cubicBezTo>
                      <a:pt x="11681" y="3"/>
                      <a:pt x="11682" y="4"/>
                      <a:pt x="11682" y="5"/>
                    </a:cubicBezTo>
                    <a:cubicBezTo>
                      <a:pt x="11682" y="6"/>
                      <a:pt x="11681" y="7"/>
                      <a:pt x="11680" y="7"/>
                    </a:cubicBezTo>
                    <a:lnTo>
                      <a:pt x="11680" y="7"/>
                    </a:lnTo>
                    <a:cubicBezTo>
                      <a:pt x="11679" y="7"/>
                      <a:pt x="11678" y="6"/>
                      <a:pt x="11678" y="5"/>
                    </a:cubicBezTo>
                    <a:cubicBezTo>
                      <a:pt x="11678" y="4"/>
                      <a:pt x="11679" y="3"/>
                      <a:pt x="11680" y="3"/>
                    </a:cubicBezTo>
                    <a:close/>
                    <a:moveTo>
                      <a:pt x="11688" y="3"/>
                    </a:moveTo>
                    <a:lnTo>
                      <a:pt x="11688" y="3"/>
                    </a:lnTo>
                    <a:cubicBezTo>
                      <a:pt x="11689" y="3"/>
                      <a:pt x="11690" y="4"/>
                      <a:pt x="11690" y="5"/>
                    </a:cubicBezTo>
                    <a:cubicBezTo>
                      <a:pt x="11690" y="6"/>
                      <a:pt x="11689" y="7"/>
                      <a:pt x="11688" y="7"/>
                    </a:cubicBezTo>
                    <a:lnTo>
                      <a:pt x="11688" y="7"/>
                    </a:lnTo>
                    <a:cubicBezTo>
                      <a:pt x="11687" y="7"/>
                      <a:pt x="11686" y="6"/>
                      <a:pt x="11686" y="5"/>
                    </a:cubicBezTo>
                    <a:cubicBezTo>
                      <a:pt x="11686" y="4"/>
                      <a:pt x="11687" y="3"/>
                      <a:pt x="11688" y="3"/>
                    </a:cubicBezTo>
                    <a:close/>
                    <a:moveTo>
                      <a:pt x="11696" y="3"/>
                    </a:moveTo>
                    <a:lnTo>
                      <a:pt x="11696" y="3"/>
                    </a:lnTo>
                    <a:cubicBezTo>
                      <a:pt x="11697" y="3"/>
                      <a:pt x="11698" y="4"/>
                      <a:pt x="11698" y="5"/>
                    </a:cubicBezTo>
                    <a:cubicBezTo>
                      <a:pt x="11698" y="6"/>
                      <a:pt x="11697" y="7"/>
                      <a:pt x="11696" y="7"/>
                    </a:cubicBezTo>
                    <a:lnTo>
                      <a:pt x="11696" y="7"/>
                    </a:lnTo>
                    <a:cubicBezTo>
                      <a:pt x="11695" y="7"/>
                      <a:pt x="11694" y="6"/>
                      <a:pt x="11694" y="5"/>
                    </a:cubicBezTo>
                    <a:cubicBezTo>
                      <a:pt x="11694" y="4"/>
                      <a:pt x="11695" y="3"/>
                      <a:pt x="11696" y="3"/>
                    </a:cubicBezTo>
                    <a:close/>
                    <a:moveTo>
                      <a:pt x="11704" y="3"/>
                    </a:moveTo>
                    <a:lnTo>
                      <a:pt x="11704" y="3"/>
                    </a:lnTo>
                    <a:cubicBezTo>
                      <a:pt x="11705" y="3"/>
                      <a:pt x="11706" y="4"/>
                      <a:pt x="11706" y="5"/>
                    </a:cubicBezTo>
                    <a:cubicBezTo>
                      <a:pt x="11706" y="6"/>
                      <a:pt x="11705" y="7"/>
                      <a:pt x="11704" y="7"/>
                    </a:cubicBezTo>
                    <a:lnTo>
                      <a:pt x="11704" y="7"/>
                    </a:lnTo>
                    <a:cubicBezTo>
                      <a:pt x="11703" y="7"/>
                      <a:pt x="11702" y="6"/>
                      <a:pt x="11702" y="5"/>
                    </a:cubicBezTo>
                    <a:cubicBezTo>
                      <a:pt x="11702" y="4"/>
                      <a:pt x="11703" y="3"/>
                      <a:pt x="11704" y="3"/>
                    </a:cubicBezTo>
                    <a:close/>
                    <a:moveTo>
                      <a:pt x="11712" y="3"/>
                    </a:moveTo>
                    <a:lnTo>
                      <a:pt x="11712" y="3"/>
                    </a:lnTo>
                    <a:cubicBezTo>
                      <a:pt x="11713" y="3"/>
                      <a:pt x="11714" y="4"/>
                      <a:pt x="11714" y="5"/>
                    </a:cubicBezTo>
                    <a:cubicBezTo>
                      <a:pt x="11714" y="6"/>
                      <a:pt x="11713" y="7"/>
                      <a:pt x="11712" y="7"/>
                    </a:cubicBezTo>
                    <a:lnTo>
                      <a:pt x="11712" y="7"/>
                    </a:lnTo>
                    <a:cubicBezTo>
                      <a:pt x="11711" y="7"/>
                      <a:pt x="11710" y="6"/>
                      <a:pt x="11710" y="5"/>
                    </a:cubicBezTo>
                    <a:cubicBezTo>
                      <a:pt x="11710" y="4"/>
                      <a:pt x="11711" y="3"/>
                      <a:pt x="11712" y="3"/>
                    </a:cubicBezTo>
                    <a:close/>
                    <a:moveTo>
                      <a:pt x="11720" y="3"/>
                    </a:moveTo>
                    <a:lnTo>
                      <a:pt x="11720" y="3"/>
                    </a:lnTo>
                    <a:cubicBezTo>
                      <a:pt x="11721" y="3"/>
                      <a:pt x="11722" y="4"/>
                      <a:pt x="11722" y="5"/>
                    </a:cubicBezTo>
                    <a:cubicBezTo>
                      <a:pt x="11722" y="6"/>
                      <a:pt x="11721" y="7"/>
                      <a:pt x="11720" y="7"/>
                    </a:cubicBezTo>
                    <a:lnTo>
                      <a:pt x="11720" y="7"/>
                    </a:lnTo>
                    <a:cubicBezTo>
                      <a:pt x="11719" y="7"/>
                      <a:pt x="11718" y="6"/>
                      <a:pt x="11718" y="5"/>
                    </a:cubicBezTo>
                    <a:cubicBezTo>
                      <a:pt x="11718" y="4"/>
                      <a:pt x="11719" y="3"/>
                      <a:pt x="11720" y="3"/>
                    </a:cubicBezTo>
                    <a:close/>
                    <a:moveTo>
                      <a:pt x="11728" y="3"/>
                    </a:moveTo>
                    <a:lnTo>
                      <a:pt x="11728" y="3"/>
                    </a:lnTo>
                    <a:cubicBezTo>
                      <a:pt x="11729" y="3"/>
                      <a:pt x="11730" y="4"/>
                      <a:pt x="11730" y="5"/>
                    </a:cubicBezTo>
                    <a:cubicBezTo>
                      <a:pt x="11730" y="6"/>
                      <a:pt x="11729" y="7"/>
                      <a:pt x="11728" y="7"/>
                    </a:cubicBezTo>
                    <a:lnTo>
                      <a:pt x="11728" y="7"/>
                    </a:lnTo>
                    <a:cubicBezTo>
                      <a:pt x="11727" y="7"/>
                      <a:pt x="11726" y="6"/>
                      <a:pt x="11726" y="5"/>
                    </a:cubicBezTo>
                    <a:cubicBezTo>
                      <a:pt x="11726" y="4"/>
                      <a:pt x="11727" y="3"/>
                      <a:pt x="11728" y="3"/>
                    </a:cubicBezTo>
                    <a:close/>
                    <a:moveTo>
                      <a:pt x="11736" y="3"/>
                    </a:moveTo>
                    <a:lnTo>
                      <a:pt x="11736" y="3"/>
                    </a:lnTo>
                    <a:cubicBezTo>
                      <a:pt x="11737" y="3"/>
                      <a:pt x="11738" y="4"/>
                      <a:pt x="11738" y="5"/>
                    </a:cubicBezTo>
                    <a:cubicBezTo>
                      <a:pt x="11738" y="6"/>
                      <a:pt x="11737" y="7"/>
                      <a:pt x="11736" y="7"/>
                    </a:cubicBezTo>
                    <a:lnTo>
                      <a:pt x="11736" y="7"/>
                    </a:lnTo>
                    <a:cubicBezTo>
                      <a:pt x="11735" y="7"/>
                      <a:pt x="11734" y="6"/>
                      <a:pt x="11734" y="5"/>
                    </a:cubicBezTo>
                    <a:cubicBezTo>
                      <a:pt x="11734" y="4"/>
                      <a:pt x="11735" y="3"/>
                      <a:pt x="11736" y="3"/>
                    </a:cubicBezTo>
                    <a:close/>
                    <a:moveTo>
                      <a:pt x="11744" y="3"/>
                    </a:moveTo>
                    <a:lnTo>
                      <a:pt x="11744" y="3"/>
                    </a:lnTo>
                    <a:cubicBezTo>
                      <a:pt x="11745" y="3"/>
                      <a:pt x="11746" y="4"/>
                      <a:pt x="11746" y="5"/>
                    </a:cubicBezTo>
                    <a:cubicBezTo>
                      <a:pt x="11746" y="6"/>
                      <a:pt x="11745" y="7"/>
                      <a:pt x="11744" y="7"/>
                    </a:cubicBezTo>
                    <a:lnTo>
                      <a:pt x="11744" y="7"/>
                    </a:lnTo>
                    <a:cubicBezTo>
                      <a:pt x="11743" y="7"/>
                      <a:pt x="11742" y="6"/>
                      <a:pt x="11742" y="5"/>
                    </a:cubicBezTo>
                    <a:cubicBezTo>
                      <a:pt x="11742" y="4"/>
                      <a:pt x="11743" y="3"/>
                      <a:pt x="11744" y="3"/>
                    </a:cubicBezTo>
                    <a:close/>
                    <a:moveTo>
                      <a:pt x="11752" y="3"/>
                    </a:moveTo>
                    <a:lnTo>
                      <a:pt x="11752" y="3"/>
                    </a:lnTo>
                    <a:cubicBezTo>
                      <a:pt x="11753" y="3"/>
                      <a:pt x="11754" y="4"/>
                      <a:pt x="11754" y="5"/>
                    </a:cubicBezTo>
                    <a:cubicBezTo>
                      <a:pt x="11754" y="6"/>
                      <a:pt x="11753" y="7"/>
                      <a:pt x="11752" y="7"/>
                    </a:cubicBezTo>
                    <a:lnTo>
                      <a:pt x="11752" y="7"/>
                    </a:lnTo>
                    <a:cubicBezTo>
                      <a:pt x="11751" y="7"/>
                      <a:pt x="11750" y="6"/>
                      <a:pt x="11750" y="5"/>
                    </a:cubicBezTo>
                    <a:cubicBezTo>
                      <a:pt x="11750" y="4"/>
                      <a:pt x="11751" y="3"/>
                      <a:pt x="11752" y="3"/>
                    </a:cubicBezTo>
                    <a:close/>
                    <a:moveTo>
                      <a:pt x="11760" y="3"/>
                    </a:moveTo>
                    <a:lnTo>
                      <a:pt x="11760" y="3"/>
                    </a:lnTo>
                    <a:cubicBezTo>
                      <a:pt x="11761" y="3"/>
                      <a:pt x="11762" y="4"/>
                      <a:pt x="11762" y="5"/>
                    </a:cubicBezTo>
                    <a:cubicBezTo>
                      <a:pt x="11762" y="6"/>
                      <a:pt x="11761" y="7"/>
                      <a:pt x="11760" y="7"/>
                    </a:cubicBezTo>
                    <a:lnTo>
                      <a:pt x="11760" y="7"/>
                    </a:lnTo>
                    <a:cubicBezTo>
                      <a:pt x="11759" y="7"/>
                      <a:pt x="11758" y="6"/>
                      <a:pt x="11758" y="5"/>
                    </a:cubicBezTo>
                    <a:cubicBezTo>
                      <a:pt x="11758" y="4"/>
                      <a:pt x="11759" y="3"/>
                      <a:pt x="11760" y="3"/>
                    </a:cubicBezTo>
                    <a:close/>
                    <a:moveTo>
                      <a:pt x="11768" y="3"/>
                    </a:moveTo>
                    <a:lnTo>
                      <a:pt x="11768" y="3"/>
                    </a:lnTo>
                    <a:cubicBezTo>
                      <a:pt x="11769" y="3"/>
                      <a:pt x="11770" y="4"/>
                      <a:pt x="11770" y="5"/>
                    </a:cubicBezTo>
                    <a:cubicBezTo>
                      <a:pt x="11770" y="6"/>
                      <a:pt x="11769" y="7"/>
                      <a:pt x="11768" y="7"/>
                    </a:cubicBezTo>
                    <a:lnTo>
                      <a:pt x="11768" y="7"/>
                    </a:lnTo>
                    <a:cubicBezTo>
                      <a:pt x="11767" y="7"/>
                      <a:pt x="11766" y="6"/>
                      <a:pt x="11766" y="5"/>
                    </a:cubicBezTo>
                    <a:cubicBezTo>
                      <a:pt x="11766" y="4"/>
                      <a:pt x="11767" y="3"/>
                      <a:pt x="11768" y="3"/>
                    </a:cubicBezTo>
                    <a:close/>
                    <a:moveTo>
                      <a:pt x="11776" y="3"/>
                    </a:moveTo>
                    <a:lnTo>
                      <a:pt x="11776" y="3"/>
                    </a:lnTo>
                    <a:cubicBezTo>
                      <a:pt x="11777" y="3"/>
                      <a:pt x="11778" y="4"/>
                      <a:pt x="11778" y="5"/>
                    </a:cubicBezTo>
                    <a:cubicBezTo>
                      <a:pt x="11778" y="6"/>
                      <a:pt x="11777" y="7"/>
                      <a:pt x="11776" y="7"/>
                    </a:cubicBezTo>
                    <a:lnTo>
                      <a:pt x="11776" y="7"/>
                    </a:lnTo>
                    <a:cubicBezTo>
                      <a:pt x="11775" y="7"/>
                      <a:pt x="11774" y="6"/>
                      <a:pt x="11774" y="5"/>
                    </a:cubicBezTo>
                    <a:cubicBezTo>
                      <a:pt x="11774" y="4"/>
                      <a:pt x="11775" y="3"/>
                      <a:pt x="11776" y="3"/>
                    </a:cubicBezTo>
                    <a:close/>
                    <a:moveTo>
                      <a:pt x="11784" y="3"/>
                    </a:moveTo>
                    <a:lnTo>
                      <a:pt x="11784" y="3"/>
                    </a:lnTo>
                    <a:cubicBezTo>
                      <a:pt x="11785" y="3"/>
                      <a:pt x="11786" y="4"/>
                      <a:pt x="11786" y="5"/>
                    </a:cubicBezTo>
                    <a:cubicBezTo>
                      <a:pt x="11786" y="6"/>
                      <a:pt x="11785" y="7"/>
                      <a:pt x="11784" y="7"/>
                    </a:cubicBezTo>
                    <a:lnTo>
                      <a:pt x="11784" y="7"/>
                    </a:lnTo>
                    <a:cubicBezTo>
                      <a:pt x="11783" y="7"/>
                      <a:pt x="11782" y="6"/>
                      <a:pt x="11782" y="5"/>
                    </a:cubicBezTo>
                    <a:cubicBezTo>
                      <a:pt x="11782" y="4"/>
                      <a:pt x="11783" y="3"/>
                      <a:pt x="11784" y="3"/>
                    </a:cubicBezTo>
                    <a:close/>
                    <a:moveTo>
                      <a:pt x="11792" y="3"/>
                    </a:moveTo>
                    <a:lnTo>
                      <a:pt x="11792" y="3"/>
                    </a:lnTo>
                    <a:cubicBezTo>
                      <a:pt x="11793" y="3"/>
                      <a:pt x="11794" y="4"/>
                      <a:pt x="11794" y="5"/>
                    </a:cubicBezTo>
                    <a:cubicBezTo>
                      <a:pt x="11794" y="6"/>
                      <a:pt x="11793" y="7"/>
                      <a:pt x="11792" y="7"/>
                    </a:cubicBezTo>
                    <a:lnTo>
                      <a:pt x="11792" y="7"/>
                    </a:lnTo>
                    <a:cubicBezTo>
                      <a:pt x="11791" y="7"/>
                      <a:pt x="11790" y="6"/>
                      <a:pt x="11790" y="5"/>
                    </a:cubicBezTo>
                    <a:cubicBezTo>
                      <a:pt x="11790" y="4"/>
                      <a:pt x="11791" y="3"/>
                      <a:pt x="11792" y="3"/>
                    </a:cubicBezTo>
                    <a:close/>
                    <a:moveTo>
                      <a:pt x="11800" y="3"/>
                    </a:moveTo>
                    <a:lnTo>
                      <a:pt x="11800" y="3"/>
                    </a:lnTo>
                    <a:cubicBezTo>
                      <a:pt x="11801" y="3"/>
                      <a:pt x="11802" y="4"/>
                      <a:pt x="11802" y="5"/>
                    </a:cubicBezTo>
                    <a:cubicBezTo>
                      <a:pt x="11802" y="6"/>
                      <a:pt x="11801" y="7"/>
                      <a:pt x="11800" y="7"/>
                    </a:cubicBezTo>
                    <a:lnTo>
                      <a:pt x="11800" y="7"/>
                    </a:lnTo>
                    <a:cubicBezTo>
                      <a:pt x="11799" y="7"/>
                      <a:pt x="11798" y="6"/>
                      <a:pt x="11798" y="5"/>
                    </a:cubicBezTo>
                    <a:cubicBezTo>
                      <a:pt x="11798" y="4"/>
                      <a:pt x="11799" y="3"/>
                      <a:pt x="11800" y="3"/>
                    </a:cubicBezTo>
                    <a:close/>
                    <a:moveTo>
                      <a:pt x="11808" y="3"/>
                    </a:moveTo>
                    <a:lnTo>
                      <a:pt x="11808" y="3"/>
                    </a:lnTo>
                    <a:cubicBezTo>
                      <a:pt x="11809" y="3"/>
                      <a:pt x="11810" y="4"/>
                      <a:pt x="11810" y="5"/>
                    </a:cubicBezTo>
                    <a:cubicBezTo>
                      <a:pt x="11810" y="6"/>
                      <a:pt x="11809" y="7"/>
                      <a:pt x="11808" y="7"/>
                    </a:cubicBezTo>
                    <a:lnTo>
                      <a:pt x="11808" y="7"/>
                    </a:lnTo>
                    <a:cubicBezTo>
                      <a:pt x="11807" y="7"/>
                      <a:pt x="11806" y="6"/>
                      <a:pt x="11806" y="5"/>
                    </a:cubicBezTo>
                    <a:cubicBezTo>
                      <a:pt x="11806" y="4"/>
                      <a:pt x="11807" y="3"/>
                      <a:pt x="11808" y="3"/>
                    </a:cubicBezTo>
                    <a:close/>
                    <a:moveTo>
                      <a:pt x="11816" y="3"/>
                    </a:moveTo>
                    <a:lnTo>
                      <a:pt x="11816" y="3"/>
                    </a:lnTo>
                    <a:cubicBezTo>
                      <a:pt x="11817" y="3"/>
                      <a:pt x="11818" y="4"/>
                      <a:pt x="11818" y="5"/>
                    </a:cubicBezTo>
                    <a:cubicBezTo>
                      <a:pt x="11818" y="6"/>
                      <a:pt x="11817" y="7"/>
                      <a:pt x="11816" y="7"/>
                    </a:cubicBezTo>
                    <a:lnTo>
                      <a:pt x="11816" y="7"/>
                    </a:lnTo>
                    <a:cubicBezTo>
                      <a:pt x="11815" y="7"/>
                      <a:pt x="11814" y="6"/>
                      <a:pt x="11814" y="5"/>
                    </a:cubicBezTo>
                    <a:cubicBezTo>
                      <a:pt x="11814" y="4"/>
                      <a:pt x="11815" y="3"/>
                      <a:pt x="11816" y="3"/>
                    </a:cubicBezTo>
                    <a:close/>
                    <a:moveTo>
                      <a:pt x="11824" y="3"/>
                    </a:moveTo>
                    <a:lnTo>
                      <a:pt x="11824" y="3"/>
                    </a:lnTo>
                    <a:cubicBezTo>
                      <a:pt x="11825" y="3"/>
                      <a:pt x="11826" y="4"/>
                      <a:pt x="11826" y="5"/>
                    </a:cubicBezTo>
                    <a:cubicBezTo>
                      <a:pt x="11826" y="6"/>
                      <a:pt x="11825" y="7"/>
                      <a:pt x="11824" y="7"/>
                    </a:cubicBezTo>
                    <a:lnTo>
                      <a:pt x="11824" y="7"/>
                    </a:lnTo>
                    <a:cubicBezTo>
                      <a:pt x="11823" y="7"/>
                      <a:pt x="11822" y="6"/>
                      <a:pt x="11822" y="5"/>
                    </a:cubicBezTo>
                    <a:cubicBezTo>
                      <a:pt x="11822" y="4"/>
                      <a:pt x="11823" y="3"/>
                      <a:pt x="11824" y="3"/>
                    </a:cubicBezTo>
                    <a:close/>
                    <a:moveTo>
                      <a:pt x="11832" y="3"/>
                    </a:moveTo>
                    <a:lnTo>
                      <a:pt x="11832" y="3"/>
                    </a:lnTo>
                    <a:cubicBezTo>
                      <a:pt x="11833" y="3"/>
                      <a:pt x="11834" y="4"/>
                      <a:pt x="11834" y="5"/>
                    </a:cubicBezTo>
                    <a:cubicBezTo>
                      <a:pt x="11834" y="6"/>
                      <a:pt x="11833" y="7"/>
                      <a:pt x="11832" y="7"/>
                    </a:cubicBezTo>
                    <a:lnTo>
                      <a:pt x="11832" y="7"/>
                    </a:lnTo>
                    <a:cubicBezTo>
                      <a:pt x="11831" y="7"/>
                      <a:pt x="11830" y="6"/>
                      <a:pt x="11830" y="5"/>
                    </a:cubicBezTo>
                    <a:cubicBezTo>
                      <a:pt x="11830" y="4"/>
                      <a:pt x="11831" y="3"/>
                      <a:pt x="11832" y="3"/>
                    </a:cubicBezTo>
                    <a:close/>
                    <a:moveTo>
                      <a:pt x="11840" y="3"/>
                    </a:moveTo>
                    <a:lnTo>
                      <a:pt x="11840" y="3"/>
                    </a:lnTo>
                    <a:cubicBezTo>
                      <a:pt x="11841" y="3"/>
                      <a:pt x="11842" y="4"/>
                      <a:pt x="11842" y="5"/>
                    </a:cubicBezTo>
                    <a:cubicBezTo>
                      <a:pt x="11842" y="6"/>
                      <a:pt x="11841" y="7"/>
                      <a:pt x="11840" y="7"/>
                    </a:cubicBezTo>
                    <a:lnTo>
                      <a:pt x="11840" y="7"/>
                    </a:lnTo>
                    <a:cubicBezTo>
                      <a:pt x="11839" y="7"/>
                      <a:pt x="11838" y="6"/>
                      <a:pt x="11838" y="5"/>
                    </a:cubicBezTo>
                    <a:cubicBezTo>
                      <a:pt x="11838" y="4"/>
                      <a:pt x="11839" y="3"/>
                      <a:pt x="11840" y="3"/>
                    </a:cubicBezTo>
                    <a:close/>
                    <a:moveTo>
                      <a:pt x="11848" y="3"/>
                    </a:moveTo>
                    <a:lnTo>
                      <a:pt x="11848" y="3"/>
                    </a:lnTo>
                    <a:cubicBezTo>
                      <a:pt x="11849" y="3"/>
                      <a:pt x="11850" y="4"/>
                      <a:pt x="11850" y="5"/>
                    </a:cubicBezTo>
                    <a:cubicBezTo>
                      <a:pt x="11850" y="6"/>
                      <a:pt x="11849" y="7"/>
                      <a:pt x="11848" y="7"/>
                    </a:cubicBezTo>
                    <a:lnTo>
                      <a:pt x="11848" y="7"/>
                    </a:lnTo>
                    <a:cubicBezTo>
                      <a:pt x="11847" y="7"/>
                      <a:pt x="11846" y="6"/>
                      <a:pt x="11846" y="5"/>
                    </a:cubicBezTo>
                    <a:cubicBezTo>
                      <a:pt x="11846" y="4"/>
                      <a:pt x="11847" y="3"/>
                      <a:pt x="11848" y="3"/>
                    </a:cubicBezTo>
                    <a:close/>
                    <a:moveTo>
                      <a:pt x="11856" y="3"/>
                    </a:moveTo>
                    <a:lnTo>
                      <a:pt x="11856" y="3"/>
                    </a:lnTo>
                    <a:cubicBezTo>
                      <a:pt x="11857" y="3"/>
                      <a:pt x="11858" y="4"/>
                      <a:pt x="11858" y="5"/>
                    </a:cubicBezTo>
                    <a:cubicBezTo>
                      <a:pt x="11858" y="6"/>
                      <a:pt x="11857" y="7"/>
                      <a:pt x="11856" y="7"/>
                    </a:cubicBezTo>
                    <a:lnTo>
                      <a:pt x="11856" y="7"/>
                    </a:lnTo>
                    <a:cubicBezTo>
                      <a:pt x="11855" y="7"/>
                      <a:pt x="11854" y="6"/>
                      <a:pt x="11854" y="5"/>
                    </a:cubicBezTo>
                    <a:cubicBezTo>
                      <a:pt x="11854" y="4"/>
                      <a:pt x="11855" y="3"/>
                      <a:pt x="11856" y="3"/>
                    </a:cubicBezTo>
                    <a:close/>
                    <a:moveTo>
                      <a:pt x="11864" y="3"/>
                    </a:moveTo>
                    <a:lnTo>
                      <a:pt x="11864" y="3"/>
                    </a:lnTo>
                    <a:cubicBezTo>
                      <a:pt x="11865" y="3"/>
                      <a:pt x="11866" y="4"/>
                      <a:pt x="11866" y="5"/>
                    </a:cubicBezTo>
                    <a:cubicBezTo>
                      <a:pt x="11866" y="6"/>
                      <a:pt x="11865" y="7"/>
                      <a:pt x="11864" y="7"/>
                    </a:cubicBezTo>
                    <a:lnTo>
                      <a:pt x="11864" y="7"/>
                    </a:lnTo>
                    <a:cubicBezTo>
                      <a:pt x="11863" y="7"/>
                      <a:pt x="11862" y="6"/>
                      <a:pt x="11862" y="5"/>
                    </a:cubicBezTo>
                    <a:cubicBezTo>
                      <a:pt x="11862" y="4"/>
                      <a:pt x="11863" y="3"/>
                      <a:pt x="11864" y="3"/>
                    </a:cubicBezTo>
                    <a:close/>
                    <a:moveTo>
                      <a:pt x="11872" y="3"/>
                    </a:moveTo>
                    <a:lnTo>
                      <a:pt x="11872" y="3"/>
                    </a:lnTo>
                    <a:cubicBezTo>
                      <a:pt x="11873" y="3"/>
                      <a:pt x="11874" y="4"/>
                      <a:pt x="11874" y="5"/>
                    </a:cubicBezTo>
                    <a:cubicBezTo>
                      <a:pt x="11874" y="6"/>
                      <a:pt x="11873" y="7"/>
                      <a:pt x="11872" y="7"/>
                    </a:cubicBezTo>
                    <a:lnTo>
                      <a:pt x="11872" y="7"/>
                    </a:lnTo>
                    <a:cubicBezTo>
                      <a:pt x="11871" y="7"/>
                      <a:pt x="11870" y="6"/>
                      <a:pt x="11870" y="5"/>
                    </a:cubicBezTo>
                    <a:cubicBezTo>
                      <a:pt x="11870" y="4"/>
                      <a:pt x="11871" y="3"/>
                      <a:pt x="11872" y="3"/>
                    </a:cubicBezTo>
                    <a:close/>
                    <a:moveTo>
                      <a:pt x="11880" y="3"/>
                    </a:moveTo>
                    <a:lnTo>
                      <a:pt x="11880" y="3"/>
                    </a:lnTo>
                    <a:cubicBezTo>
                      <a:pt x="11881" y="3"/>
                      <a:pt x="11882" y="4"/>
                      <a:pt x="11882" y="5"/>
                    </a:cubicBezTo>
                    <a:cubicBezTo>
                      <a:pt x="11882" y="6"/>
                      <a:pt x="11881" y="7"/>
                      <a:pt x="11880" y="7"/>
                    </a:cubicBezTo>
                    <a:lnTo>
                      <a:pt x="11880" y="7"/>
                    </a:lnTo>
                    <a:cubicBezTo>
                      <a:pt x="11879" y="7"/>
                      <a:pt x="11878" y="6"/>
                      <a:pt x="11878" y="5"/>
                    </a:cubicBezTo>
                    <a:cubicBezTo>
                      <a:pt x="11878" y="4"/>
                      <a:pt x="11879" y="3"/>
                      <a:pt x="11880" y="3"/>
                    </a:cubicBezTo>
                    <a:close/>
                    <a:moveTo>
                      <a:pt x="11888" y="3"/>
                    </a:moveTo>
                    <a:lnTo>
                      <a:pt x="11888" y="3"/>
                    </a:lnTo>
                    <a:cubicBezTo>
                      <a:pt x="11889" y="3"/>
                      <a:pt x="11890" y="4"/>
                      <a:pt x="11890" y="5"/>
                    </a:cubicBezTo>
                    <a:cubicBezTo>
                      <a:pt x="11890" y="6"/>
                      <a:pt x="11889" y="7"/>
                      <a:pt x="11888" y="7"/>
                    </a:cubicBezTo>
                    <a:lnTo>
                      <a:pt x="11888" y="7"/>
                    </a:lnTo>
                    <a:cubicBezTo>
                      <a:pt x="11887" y="7"/>
                      <a:pt x="11886" y="6"/>
                      <a:pt x="11886" y="5"/>
                    </a:cubicBezTo>
                    <a:cubicBezTo>
                      <a:pt x="11886" y="4"/>
                      <a:pt x="11887" y="3"/>
                      <a:pt x="11888" y="3"/>
                    </a:cubicBezTo>
                    <a:close/>
                    <a:moveTo>
                      <a:pt x="11896" y="3"/>
                    </a:moveTo>
                    <a:lnTo>
                      <a:pt x="11896" y="3"/>
                    </a:lnTo>
                    <a:cubicBezTo>
                      <a:pt x="11897" y="3"/>
                      <a:pt x="11898" y="4"/>
                      <a:pt x="11898" y="5"/>
                    </a:cubicBezTo>
                    <a:cubicBezTo>
                      <a:pt x="11898" y="6"/>
                      <a:pt x="11897" y="7"/>
                      <a:pt x="11896" y="7"/>
                    </a:cubicBezTo>
                    <a:lnTo>
                      <a:pt x="11896" y="7"/>
                    </a:lnTo>
                    <a:cubicBezTo>
                      <a:pt x="11895" y="7"/>
                      <a:pt x="11894" y="6"/>
                      <a:pt x="11894" y="5"/>
                    </a:cubicBezTo>
                    <a:cubicBezTo>
                      <a:pt x="11894" y="4"/>
                      <a:pt x="11895" y="3"/>
                      <a:pt x="11896" y="3"/>
                    </a:cubicBezTo>
                    <a:close/>
                    <a:moveTo>
                      <a:pt x="11904" y="3"/>
                    </a:moveTo>
                    <a:lnTo>
                      <a:pt x="11904" y="3"/>
                    </a:lnTo>
                    <a:cubicBezTo>
                      <a:pt x="11905" y="3"/>
                      <a:pt x="11906" y="4"/>
                      <a:pt x="11906" y="5"/>
                    </a:cubicBezTo>
                    <a:cubicBezTo>
                      <a:pt x="11906" y="6"/>
                      <a:pt x="11905" y="7"/>
                      <a:pt x="11904" y="7"/>
                    </a:cubicBezTo>
                    <a:lnTo>
                      <a:pt x="11904" y="7"/>
                    </a:lnTo>
                    <a:cubicBezTo>
                      <a:pt x="11903" y="7"/>
                      <a:pt x="11902" y="6"/>
                      <a:pt x="11902" y="5"/>
                    </a:cubicBezTo>
                    <a:cubicBezTo>
                      <a:pt x="11902" y="4"/>
                      <a:pt x="11903" y="3"/>
                      <a:pt x="11904" y="3"/>
                    </a:cubicBezTo>
                    <a:close/>
                    <a:moveTo>
                      <a:pt x="11912" y="3"/>
                    </a:moveTo>
                    <a:lnTo>
                      <a:pt x="11912" y="3"/>
                    </a:lnTo>
                    <a:cubicBezTo>
                      <a:pt x="11913" y="3"/>
                      <a:pt x="11914" y="4"/>
                      <a:pt x="11914" y="5"/>
                    </a:cubicBezTo>
                    <a:cubicBezTo>
                      <a:pt x="11914" y="6"/>
                      <a:pt x="11913" y="7"/>
                      <a:pt x="11912" y="7"/>
                    </a:cubicBezTo>
                    <a:lnTo>
                      <a:pt x="11912" y="7"/>
                    </a:lnTo>
                    <a:cubicBezTo>
                      <a:pt x="11911" y="7"/>
                      <a:pt x="11910" y="6"/>
                      <a:pt x="11910" y="5"/>
                    </a:cubicBezTo>
                    <a:cubicBezTo>
                      <a:pt x="11910" y="4"/>
                      <a:pt x="11911" y="3"/>
                      <a:pt x="11912" y="3"/>
                    </a:cubicBezTo>
                    <a:close/>
                    <a:moveTo>
                      <a:pt x="11920" y="3"/>
                    </a:moveTo>
                    <a:lnTo>
                      <a:pt x="11920" y="3"/>
                    </a:lnTo>
                    <a:cubicBezTo>
                      <a:pt x="11921" y="3"/>
                      <a:pt x="11922" y="4"/>
                      <a:pt x="11922" y="5"/>
                    </a:cubicBezTo>
                    <a:cubicBezTo>
                      <a:pt x="11922" y="6"/>
                      <a:pt x="11921" y="7"/>
                      <a:pt x="11920" y="7"/>
                    </a:cubicBezTo>
                    <a:lnTo>
                      <a:pt x="11920" y="7"/>
                    </a:lnTo>
                    <a:cubicBezTo>
                      <a:pt x="11919" y="7"/>
                      <a:pt x="11918" y="6"/>
                      <a:pt x="11918" y="5"/>
                    </a:cubicBezTo>
                    <a:cubicBezTo>
                      <a:pt x="11918" y="4"/>
                      <a:pt x="11919" y="3"/>
                      <a:pt x="11920" y="3"/>
                    </a:cubicBezTo>
                    <a:close/>
                    <a:moveTo>
                      <a:pt x="11928" y="3"/>
                    </a:moveTo>
                    <a:lnTo>
                      <a:pt x="11928" y="3"/>
                    </a:lnTo>
                    <a:cubicBezTo>
                      <a:pt x="11929" y="3"/>
                      <a:pt x="11930" y="4"/>
                      <a:pt x="11930" y="5"/>
                    </a:cubicBezTo>
                    <a:cubicBezTo>
                      <a:pt x="11930" y="6"/>
                      <a:pt x="11929" y="7"/>
                      <a:pt x="11928" y="7"/>
                    </a:cubicBezTo>
                    <a:lnTo>
                      <a:pt x="11928" y="7"/>
                    </a:lnTo>
                    <a:cubicBezTo>
                      <a:pt x="11927" y="7"/>
                      <a:pt x="11926" y="6"/>
                      <a:pt x="11926" y="5"/>
                    </a:cubicBezTo>
                    <a:cubicBezTo>
                      <a:pt x="11926" y="4"/>
                      <a:pt x="11927" y="3"/>
                      <a:pt x="11928" y="3"/>
                    </a:cubicBezTo>
                    <a:close/>
                    <a:moveTo>
                      <a:pt x="11936" y="3"/>
                    </a:moveTo>
                    <a:lnTo>
                      <a:pt x="11936" y="3"/>
                    </a:lnTo>
                    <a:cubicBezTo>
                      <a:pt x="11937" y="3"/>
                      <a:pt x="11938" y="4"/>
                      <a:pt x="11938" y="5"/>
                    </a:cubicBezTo>
                    <a:cubicBezTo>
                      <a:pt x="11938" y="6"/>
                      <a:pt x="11937" y="7"/>
                      <a:pt x="11936" y="7"/>
                    </a:cubicBezTo>
                    <a:lnTo>
                      <a:pt x="11936" y="7"/>
                    </a:lnTo>
                    <a:cubicBezTo>
                      <a:pt x="11935" y="7"/>
                      <a:pt x="11934" y="6"/>
                      <a:pt x="11934" y="5"/>
                    </a:cubicBezTo>
                    <a:cubicBezTo>
                      <a:pt x="11934" y="4"/>
                      <a:pt x="11935" y="3"/>
                      <a:pt x="11936" y="3"/>
                    </a:cubicBezTo>
                    <a:close/>
                    <a:moveTo>
                      <a:pt x="11944" y="3"/>
                    </a:moveTo>
                    <a:lnTo>
                      <a:pt x="11944" y="3"/>
                    </a:lnTo>
                    <a:cubicBezTo>
                      <a:pt x="11945" y="3"/>
                      <a:pt x="11946" y="4"/>
                      <a:pt x="11946" y="5"/>
                    </a:cubicBezTo>
                    <a:cubicBezTo>
                      <a:pt x="11946" y="6"/>
                      <a:pt x="11945" y="7"/>
                      <a:pt x="11944" y="7"/>
                    </a:cubicBezTo>
                    <a:lnTo>
                      <a:pt x="11944" y="7"/>
                    </a:lnTo>
                    <a:cubicBezTo>
                      <a:pt x="11943" y="7"/>
                      <a:pt x="11942" y="6"/>
                      <a:pt x="11942" y="5"/>
                    </a:cubicBezTo>
                    <a:cubicBezTo>
                      <a:pt x="11942" y="4"/>
                      <a:pt x="11943" y="3"/>
                      <a:pt x="11944" y="3"/>
                    </a:cubicBezTo>
                    <a:close/>
                    <a:moveTo>
                      <a:pt x="11952" y="3"/>
                    </a:moveTo>
                    <a:lnTo>
                      <a:pt x="11952" y="3"/>
                    </a:lnTo>
                    <a:cubicBezTo>
                      <a:pt x="11953" y="3"/>
                      <a:pt x="11954" y="4"/>
                      <a:pt x="11954" y="5"/>
                    </a:cubicBezTo>
                    <a:cubicBezTo>
                      <a:pt x="11954" y="6"/>
                      <a:pt x="11953" y="7"/>
                      <a:pt x="11952" y="7"/>
                    </a:cubicBezTo>
                    <a:lnTo>
                      <a:pt x="11952" y="7"/>
                    </a:lnTo>
                    <a:cubicBezTo>
                      <a:pt x="11951" y="7"/>
                      <a:pt x="11950" y="6"/>
                      <a:pt x="11950" y="5"/>
                    </a:cubicBezTo>
                    <a:cubicBezTo>
                      <a:pt x="11950" y="4"/>
                      <a:pt x="11951" y="3"/>
                      <a:pt x="11952" y="3"/>
                    </a:cubicBezTo>
                    <a:close/>
                    <a:moveTo>
                      <a:pt x="11960" y="3"/>
                    </a:moveTo>
                    <a:lnTo>
                      <a:pt x="11960" y="3"/>
                    </a:lnTo>
                    <a:cubicBezTo>
                      <a:pt x="11961" y="3"/>
                      <a:pt x="11962" y="4"/>
                      <a:pt x="11962" y="5"/>
                    </a:cubicBezTo>
                    <a:cubicBezTo>
                      <a:pt x="11962" y="6"/>
                      <a:pt x="11961" y="7"/>
                      <a:pt x="11960" y="7"/>
                    </a:cubicBezTo>
                    <a:lnTo>
                      <a:pt x="11960" y="7"/>
                    </a:lnTo>
                    <a:cubicBezTo>
                      <a:pt x="11959" y="7"/>
                      <a:pt x="11958" y="6"/>
                      <a:pt x="11958" y="5"/>
                    </a:cubicBezTo>
                    <a:cubicBezTo>
                      <a:pt x="11958" y="4"/>
                      <a:pt x="11959" y="3"/>
                      <a:pt x="11960" y="3"/>
                    </a:cubicBezTo>
                    <a:close/>
                    <a:moveTo>
                      <a:pt x="11968" y="3"/>
                    </a:moveTo>
                    <a:lnTo>
                      <a:pt x="11968" y="3"/>
                    </a:lnTo>
                    <a:cubicBezTo>
                      <a:pt x="11969" y="3"/>
                      <a:pt x="11970" y="4"/>
                      <a:pt x="11970" y="5"/>
                    </a:cubicBezTo>
                    <a:cubicBezTo>
                      <a:pt x="11970" y="6"/>
                      <a:pt x="11969" y="7"/>
                      <a:pt x="11968" y="7"/>
                    </a:cubicBezTo>
                    <a:lnTo>
                      <a:pt x="11968" y="7"/>
                    </a:lnTo>
                    <a:cubicBezTo>
                      <a:pt x="11967" y="7"/>
                      <a:pt x="11966" y="6"/>
                      <a:pt x="11966" y="5"/>
                    </a:cubicBezTo>
                    <a:cubicBezTo>
                      <a:pt x="11966" y="4"/>
                      <a:pt x="11967" y="3"/>
                      <a:pt x="11968" y="3"/>
                    </a:cubicBezTo>
                    <a:close/>
                    <a:moveTo>
                      <a:pt x="11976" y="3"/>
                    </a:moveTo>
                    <a:lnTo>
                      <a:pt x="11976" y="3"/>
                    </a:lnTo>
                    <a:cubicBezTo>
                      <a:pt x="11977" y="3"/>
                      <a:pt x="11978" y="4"/>
                      <a:pt x="11978" y="5"/>
                    </a:cubicBezTo>
                    <a:cubicBezTo>
                      <a:pt x="11978" y="6"/>
                      <a:pt x="11977" y="7"/>
                      <a:pt x="11976" y="7"/>
                    </a:cubicBezTo>
                    <a:lnTo>
                      <a:pt x="11976" y="7"/>
                    </a:lnTo>
                    <a:cubicBezTo>
                      <a:pt x="11975" y="7"/>
                      <a:pt x="11974" y="6"/>
                      <a:pt x="11974" y="5"/>
                    </a:cubicBezTo>
                    <a:cubicBezTo>
                      <a:pt x="11974" y="4"/>
                      <a:pt x="11975" y="3"/>
                      <a:pt x="11976" y="3"/>
                    </a:cubicBezTo>
                    <a:close/>
                    <a:moveTo>
                      <a:pt x="11984" y="3"/>
                    </a:moveTo>
                    <a:lnTo>
                      <a:pt x="11984" y="3"/>
                    </a:lnTo>
                    <a:cubicBezTo>
                      <a:pt x="11985" y="3"/>
                      <a:pt x="11986" y="4"/>
                      <a:pt x="11986" y="5"/>
                    </a:cubicBezTo>
                    <a:cubicBezTo>
                      <a:pt x="11986" y="6"/>
                      <a:pt x="11985" y="7"/>
                      <a:pt x="11984" y="7"/>
                    </a:cubicBezTo>
                    <a:lnTo>
                      <a:pt x="11984" y="7"/>
                    </a:lnTo>
                    <a:cubicBezTo>
                      <a:pt x="11983" y="7"/>
                      <a:pt x="11982" y="6"/>
                      <a:pt x="11982" y="5"/>
                    </a:cubicBezTo>
                    <a:cubicBezTo>
                      <a:pt x="11982" y="4"/>
                      <a:pt x="11983" y="3"/>
                      <a:pt x="11984" y="3"/>
                    </a:cubicBezTo>
                    <a:close/>
                    <a:moveTo>
                      <a:pt x="11992" y="3"/>
                    </a:moveTo>
                    <a:lnTo>
                      <a:pt x="11992" y="3"/>
                    </a:lnTo>
                    <a:cubicBezTo>
                      <a:pt x="11993" y="3"/>
                      <a:pt x="11994" y="4"/>
                      <a:pt x="11994" y="5"/>
                    </a:cubicBezTo>
                    <a:cubicBezTo>
                      <a:pt x="11994" y="6"/>
                      <a:pt x="11993" y="7"/>
                      <a:pt x="11992" y="7"/>
                    </a:cubicBezTo>
                    <a:lnTo>
                      <a:pt x="11992" y="7"/>
                    </a:lnTo>
                    <a:cubicBezTo>
                      <a:pt x="11991" y="7"/>
                      <a:pt x="11990" y="6"/>
                      <a:pt x="11990" y="5"/>
                    </a:cubicBezTo>
                    <a:cubicBezTo>
                      <a:pt x="11990" y="4"/>
                      <a:pt x="11991" y="3"/>
                      <a:pt x="11992" y="3"/>
                    </a:cubicBezTo>
                    <a:close/>
                    <a:moveTo>
                      <a:pt x="12000" y="3"/>
                    </a:moveTo>
                    <a:lnTo>
                      <a:pt x="12000" y="3"/>
                    </a:lnTo>
                    <a:cubicBezTo>
                      <a:pt x="12001" y="3"/>
                      <a:pt x="12002" y="4"/>
                      <a:pt x="12002" y="5"/>
                    </a:cubicBezTo>
                    <a:cubicBezTo>
                      <a:pt x="12002" y="6"/>
                      <a:pt x="12001" y="7"/>
                      <a:pt x="12000" y="7"/>
                    </a:cubicBezTo>
                    <a:lnTo>
                      <a:pt x="12000" y="7"/>
                    </a:lnTo>
                    <a:cubicBezTo>
                      <a:pt x="11999" y="7"/>
                      <a:pt x="11998" y="6"/>
                      <a:pt x="11998" y="5"/>
                    </a:cubicBezTo>
                    <a:cubicBezTo>
                      <a:pt x="11998" y="4"/>
                      <a:pt x="11999" y="3"/>
                      <a:pt x="12000" y="3"/>
                    </a:cubicBezTo>
                    <a:close/>
                    <a:moveTo>
                      <a:pt x="12008" y="3"/>
                    </a:moveTo>
                    <a:lnTo>
                      <a:pt x="12008" y="3"/>
                    </a:lnTo>
                    <a:cubicBezTo>
                      <a:pt x="12009" y="3"/>
                      <a:pt x="12010" y="4"/>
                      <a:pt x="12010" y="5"/>
                    </a:cubicBezTo>
                    <a:cubicBezTo>
                      <a:pt x="12010" y="6"/>
                      <a:pt x="12009" y="7"/>
                      <a:pt x="12008" y="7"/>
                    </a:cubicBezTo>
                    <a:lnTo>
                      <a:pt x="12008" y="7"/>
                    </a:lnTo>
                    <a:cubicBezTo>
                      <a:pt x="12007" y="7"/>
                      <a:pt x="12006" y="6"/>
                      <a:pt x="12006" y="5"/>
                    </a:cubicBezTo>
                    <a:cubicBezTo>
                      <a:pt x="12006" y="4"/>
                      <a:pt x="12007" y="3"/>
                      <a:pt x="12008" y="3"/>
                    </a:cubicBezTo>
                    <a:close/>
                    <a:moveTo>
                      <a:pt x="12016" y="3"/>
                    </a:moveTo>
                    <a:lnTo>
                      <a:pt x="12016" y="3"/>
                    </a:lnTo>
                    <a:cubicBezTo>
                      <a:pt x="12017" y="3"/>
                      <a:pt x="12018" y="4"/>
                      <a:pt x="12018" y="5"/>
                    </a:cubicBezTo>
                    <a:cubicBezTo>
                      <a:pt x="12018" y="6"/>
                      <a:pt x="12017" y="7"/>
                      <a:pt x="12016" y="7"/>
                    </a:cubicBezTo>
                    <a:lnTo>
                      <a:pt x="12016" y="7"/>
                    </a:lnTo>
                    <a:cubicBezTo>
                      <a:pt x="12015" y="7"/>
                      <a:pt x="12014" y="6"/>
                      <a:pt x="12014" y="5"/>
                    </a:cubicBezTo>
                    <a:cubicBezTo>
                      <a:pt x="12014" y="4"/>
                      <a:pt x="12015" y="3"/>
                      <a:pt x="12016" y="3"/>
                    </a:cubicBezTo>
                    <a:close/>
                    <a:moveTo>
                      <a:pt x="12024" y="3"/>
                    </a:moveTo>
                    <a:lnTo>
                      <a:pt x="12024" y="3"/>
                    </a:lnTo>
                    <a:cubicBezTo>
                      <a:pt x="12025" y="3"/>
                      <a:pt x="12026" y="4"/>
                      <a:pt x="12026" y="5"/>
                    </a:cubicBezTo>
                    <a:cubicBezTo>
                      <a:pt x="12026" y="6"/>
                      <a:pt x="12025" y="7"/>
                      <a:pt x="12024" y="7"/>
                    </a:cubicBezTo>
                    <a:lnTo>
                      <a:pt x="12024" y="7"/>
                    </a:lnTo>
                    <a:cubicBezTo>
                      <a:pt x="12023" y="7"/>
                      <a:pt x="12022" y="6"/>
                      <a:pt x="12022" y="5"/>
                    </a:cubicBezTo>
                    <a:cubicBezTo>
                      <a:pt x="12022" y="4"/>
                      <a:pt x="12023" y="3"/>
                      <a:pt x="12024" y="3"/>
                    </a:cubicBezTo>
                    <a:close/>
                    <a:moveTo>
                      <a:pt x="12032" y="3"/>
                    </a:moveTo>
                    <a:lnTo>
                      <a:pt x="12032" y="3"/>
                    </a:lnTo>
                    <a:cubicBezTo>
                      <a:pt x="12033" y="3"/>
                      <a:pt x="12034" y="4"/>
                      <a:pt x="12034" y="5"/>
                    </a:cubicBezTo>
                    <a:cubicBezTo>
                      <a:pt x="12034" y="6"/>
                      <a:pt x="12033" y="7"/>
                      <a:pt x="12032" y="7"/>
                    </a:cubicBezTo>
                    <a:lnTo>
                      <a:pt x="12032" y="7"/>
                    </a:lnTo>
                    <a:cubicBezTo>
                      <a:pt x="12031" y="7"/>
                      <a:pt x="12030" y="6"/>
                      <a:pt x="12030" y="5"/>
                    </a:cubicBezTo>
                    <a:cubicBezTo>
                      <a:pt x="12030" y="4"/>
                      <a:pt x="12031" y="3"/>
                      <a:pt x="12032" y="3"/>
                    </a:cubicBezTo>
                    <a:close/>
                    <a:moveTo>
                      <a:pt x="12040" y="3"/>
                    </a:moveTo>
                    <a:lnTo>
                      <a:pt x="12040" y="3"/>
                    </a:lnTo>
                    <a:cubicBezTo>
                      <a:pt x="12041" y="3"/>
                      <a:pt x="12042" y="4"/>
                      <a:pt x="12042" y="5"/>
                    </a:cubicBezTo>
                    <a:cubicBezTo>
                      <a:pt x="12042" y="6"/>
                      <a:pt x="12041" y="7"/>
                      <a:pt x="12040" y="7"/>
                    </a:cubicBezTo>
                    <a:lnTo>
                      <a:pt x="12040" y="7"/>
                    </a:lnTo>
                    <a:cubicBezTo>
                      <a:pt x="12039" y="7"/>
                      <a:pt x="12038" y="6"/>
                      <a:pt x="12038" y="5"/>
                    </a:cubicBezTo>
                    <a:cubicBezTo>
                      <a:pt x="12038" y="4"/>
                      <a:pt x="12039" y="3"/>
                      <a:pt x="12040" y="3"/>
                    </a:cubicBezTo>
                    <a:close/>
                    <a:moveTo>
                      <a:pt x="12048" y="3"/>
                    </a:moveTo>
                    <a:lnTo>
                      <a:pt x="12048" y="3"/>
                    </a:lnTo>
                    <a:cubicBezTo>
                      <a:pt x="12049" y="3"/>
                      <a:pt x="12050" y="4"/>
                      <a:pt x="12050" y="5"/>
                    </a:cubicBezTo>
                    <a:cubicBezTo>
                      <a:pt x="12050" y="6"/>
                      <a:pt x="12049" y="7"/>
                      <a:pt x="12048" y="7"/>
                    </a:cubicBezTo>
                    <a:lnTo>
                      <a:pt x="12048" y="7"/>
                    </a:lnTo>
                    <a:cubicBezTo>
                      <a:pt x="12047" y="7"/>
                      <a:pt x="12046" y="6"/>
                      <a:pt x="12046" y="5"/>
                    </a:cubicBezTo>
                    <a:cubicBezTo>
                      <a:pt x="12046" y="4"/>
                      <a:pt x="12047" y="3"/>
                      <a:pt x="12048" y="3"/>
                    </a:cubicBezTo>
                    <a:close/>
                    <a:moveTo>
                      <a:pt x="12056" y="3"/>
                    </a:moveTo>
                    <a:lnTo>
                      <a:pt x="12056" y="3"/>
                    </a:lnTo>
                    <a:cubicBezTo>
                      <a:pt x="12057" y="3"/>
                      <a:pt x="12058" y="4"/>
                      <a:pt x="12058" y="5"/>
                    </a:cubicBezTo>
                    <a:cubicBezTo>
                      <a:pt x="12058" y="6"/>
                      <a:pt x="12057" y="7"/>
                      <a:pt x="12056" y="7"/>
                    </a:cubicBezTo>
                    <a:lnTo>
                      <a:pt x="12056" y="7"/>
                    </a:lnTo>
                    <a:cubicBezTo>
                      <a:pt x="12055" y="7"/>
                      <a:pt x="12054" y="6"/>
                      <a:pt x="12054" y="5"/>
                    </a:cubicBezTo>
                    <a:cubicBezTo>
                      <a:pt x="12054" y="4"/>
                      <a:pt x="12055" y="3"/>
                      <a:pt x="12056" y="3"/>
                    </a:cubicBezTo>
                    <a:close/>
                    <a:moveTo>
                      <a:pt x="12064" y="3"/>
                    </a:moveTo>
                    <a:lnTo>
                      <a:pt x="12064" y="3"/>
                    </a:lnTo>
                    <a:cubicBezTo>
                      <a:pt x="12065" y="3"/>
                      <a:pt x="12066" y="4"/>
                      <a:pt x="12066" y="5"/>
                    </a:cubicBezTo>
                    <a:cubicBezTo>
                      <a:pt x="12066" y="6"/>
                      <a:pt x="12065" y="7"/>
                      <a:pt x="12064" y="7"/>
                    </a:cubicBezTo>
                    <a:lnTo>
                      <a:pt x="12064" y="7"/>
                    </a:lnTo>
                    <a:cubicBezTo>
                      <a:pt x="12063" y="7"/>
                      <a:pt x="12062" y="6"/>
                      <a:pt x="12062" y="5"/>
                    </a:cubicBezTo>
                    <a:cubicBezTo>
                      <a:pt x="12062" y="4"/>
                      <a:pt x="12063" y="3"/>
                      <a:pt x="12064" y="3"/>
                    </a:cubicBezTo>
                    <a:close/>
                    <a:moveTo>
                      <a:pt x="12072" y="3"/>
                    </a:moveTo>
                    <a:lnTo>
                      <a:pt x="12072" y="3"/>
                    </a:lnTo>
                    <a:cubicBezTo>
                      <a:pt x="12073" y="3"/>
                      <a:pt x="12074" y="4"/>
                      <a:pt x="12074" y="5"/>
                    </a:cubicBezTo>
                    <a:cubicBezTo>
                      <a:pt x="12074" y="6"/>
                      <a:pt x="12073" y="7"/>
                      <a:pt x="12072" y="7"/>
                    </a:cubicBezTo>
                    <a:lnTo>
                      <a:pt x="12072" y="7"/>
                    </a:lnTo>
                    <a:cubicBezTo>
                      <a:pt x="12071" y="7"/>
                      <a:pt x="12070" y="6"/>
                      <a:pt x="12070" y="5"/>
                    </a:cubicBezTo>
                    <a:cubicBezTo>
                      <a:pt x="12070" y="4"/>
                      <a:pt x="12071" y="3"/>
                      <a:pt x="12072" y="3"/>
                    </a:cubicBezTo>
                    <a:close/>
                    <a:moveTo>
                      <a:pt x="12080" y="3"/>
                    </a:moveTo>
                    <a:lnTo>
                      <a:pt x="12080" y="3"/>
                    </a:lnTo>
                    <a:cubicBezTo>
                      <a:pt x="12081" y="3"/>
                      <a:pt x="12082" y="4"/>
                      <a:pt x="12082" y="5"/>
                    </a:cubicBezTo>
                    <a:cubicBezTo>
                      <a:pt x="12082" y="6"/>
                      <a:pt x="12081" y="7"/>
                      <a:pt x="12080" y="7"/>
                    </a:cubicBezTo>
                    <a:lnTo>
                      <a:pt x="12080" y="7"/>
                    </a:lnTo>
                    <a:cubicBezTo>
                      <a:pt x="12079" y="7"/>
                      <a:pt x="12078" y="6"/>
                      <a:pt x="12078" y="5"/>
                    </a:cubicBezTo>
                    <a:cubicBezTo>
                      <a:pt x="12078" y="4"/>
                      <a:pt x="12079" y="3"/>
                      <a:pt x="12080" y="3"/>
                    </a:cubicBezTo>
                    <a:close/>
                    <a:moveTo>
                      <a:pt x="12088" y="3"/>
                    </a:moveTo>
                    <a:lnTo>
                      <a:pt x="12088" y="3"/>
                    </a:lnTo>
                    <a:cubicBezTo>
                      <a:pt x="12089" y="3"/>
                      <a:pt x="12090" y="4"/>
                      <a:pt x="12090" y="5"/>
                    </a:cubicBezTo>
                    <a:cubicBezTo>
                      <a:pt x="12090" y="6"/>
                      <a:pt x="12089" y="7"/>
                      <a:pt x="12088" y="7"/>
                    </a:cubicBezTo>
                    <a:lnTo>
                      <a:pt x="12088" y="7"/>
                    </a:lnTo>
                    <a:cubicBezTo>
                      <a:pt x="12087" y="7"/>
                      <a:pt x="12086" y="6"/>
                      <a:pt x="12086" y="5"/>
                    </a:cubicBezTo>
                    <a:cubicBezTo>
                      <a:pt x="12086" y="4"/>
                      <a:pt x="12087" y="3"/>
                      <a:pt x="12088" y="3"/>
                    </a:cubicBezTo>
                    <a:close/>
                    <a:moveTo>
                      <a:pt x="12096" y="3"/>
                    </a:moveTo>
                    <a:lnTo>
                      <a:pt x="12096" y="3"/>
                    </a:lnTo>
                    <a:cubicBezTo>
                      <a:pt x="12097" y="3"/>
                      <a:pt x="12098" y="4"/>
                      <a:pt x="12098" y="5"/>
                    </a:cubicBezTo>
                    <a:cubicBezTo>
                      <a:pt x="12098" y="6"/>
                      <a:pt x="12097" y="7"/>
                      <a:pt x="12096" y="7"/>
                    </a:cubicBezTo>
                    <a:lnTo>
                      <a:pt x="12096" y="7"/>
                    </a:lnTo>
                    <a:cubicBezTo>
                      <a:pt x="12095" y="7"/>
                      <a:pt x="12094" y="6"/>
                      <a:pt x="12094" y="5"/>
                    </a:cubicBezTo>
                    <a:cubicBezTo>
                      <a:pt x="12094" y="4"/>
                      <a:pt x="12095" y="3"/>
                      <a:pt x="12096" y="3"/>
                    </a:cubicBezTo>
                    <a:close/>
                    <a:moveTo>
                      <a:pt x="12104" y="3"/>
                    </a:moveTo>
                    <a:lnTo>
                      <a:pt x="12104" y="3"/>
                    </a:lnTo>
                    <a:cubicBezTo>
                      <a:pt x="12105" y="3"/>
                      <a:pt x="12106" y="4"/>
                      <a:pt x="12106" y="5"/>
                    </a:cubicBezTo>
                    <a:cubicBezTo>
                      <a:pt x="12106" y="6"/>
                      <a:pt x="12105" y="7"/>
                      <a:pt x="12104" y="7"/>
                    </a:cubicBezTo>
                    <a:lnTo>
                      <a:pt x="12104" y="7"/>
                    </a:lnTo>
                    <a:cubicBezTo>
                      <a:pt x="12103" y="7"/>
                      <a:pt x="12102" y="6"/>
                      <a:pt x="12102" y="5"/>
                    </a:cubicBezTo>
                    <a:cubicBezTo>
                      <a:pt x="12102" y="4"/>
                      <a:pt x="12103" y="3"/>
                      <a:pt x="12104" y="3"/>
                    </a:cubicBezTo>
                    <a:close/>
                    <a:moveTo>
                      <a:pt x="12112" y="3"/>
                    </a:moveTo>
                    <a:lnTo>
                      <a:pt x="12112" y="3"/>
                    </a:lnTo>
                    <a:cubicBezTo>
                      <a:pt x="12113" y="3"/>
                      <a:pt x="12114" y="4"/>
                      <a:pt x="12114" y="5"/>
                    </a:cubicBezTo>
                    <a:cubicBezTo>
                      <a:pt x="12114" y="6"/>
                      <a:pt x="12113" y="7"/>
                      <a:pt x="12112" y="7"/>
                    </a:cubicBezTo>
                    <a:lnTo>
                      <a:pt x="12112" y="7"/>
                    </a:lnTo>
                    <a:cubicBezTo>
                      <a:pt x="12111" y="7"/>
                      <a:pt x="12110" y="6"/>
                      <a:pt x="12110" y="5"/>
                    </a:cubicBezTo>
                    <a:cubicBezTo>
                      <a:pt x="12110" y="4"/>
                      <a:pt x="12111" y="3"/>
                      <a:pt x="12112" y="3"/>
                    </a:cubicBezTo>
                    <a:close/>
                    <a:moveTo>
                      <a:pt x="12120" y="3"/>
                    </a:moveTo>
                    <a:lnTo>
                      <a:pt x="12120" y="3"/>
                    </a:lnTo>
                    <a:cubicBezTo>
                      <a:pt x="12121" y="3"/>
                      <a:pt x="12122" y="4"/>
                      <a:pt x="12122" y="5"/>
                    </a:cubicBezTo>
                    <a:cubicBezTo>
                      <a:pt x="12122" y="6"/>
                      <a:pt x="12121" y="7"/>
                      <a:pt x="12120" y="7"/>
                    </a:cubicBezTo>
                    <a:lnTo>
                      <a:pt x="12120" y="7"/>
                    </a:lnTo>
                    <a:cubicBezTo>
                      <a:pt x="12119" y="7"/>
                      <a:pt x="12118" y="6"/>
                      <a:pt x="12118" y="5"/>
                    </a:cubicBezTo>
                    <a:cubicBezTo>
                      <a:pt x="12118" y="4"/>
                      <a:pt x="12119" y="3"/>
                      <a:pt x="12120" y="3"/>
                    </a:cubicBezTo>
                    <a:close/>
                    <a:moveTo>
                      <a:pt x="12128" y="3"/>
                    </a:moveTo>
                    <a:lnTo>
                      <a:pt x="12128" y="3"/>
                    </a:lnTo>
                    <a:cubicBezTo>
                      <a:pt x="12129" y="3"/>
                      <a:pt x="12130" y="4"/>
                      <a:pt x="12130" y="5"/>
                    </a:cubicBezTo>
                    <a:cubicBezTo>
                      <a:pt x="12130" y="6"/>
                      <a:pt x="12129" y="7"/>
                      <a:pt x="12128" y="7"/>
                    </a:cubicBezTo>
                    <a:lnTo>
                      <a:pt x="12128" y="7"/>
                    </a:lnTo>
                    <a:cubicBezTo>
                      <a:pt x="12127" y="7"/>
                      <a:pt x="12126" y="6"/>
                      <a:pt x="12126" y="5"/>
                    </a:cubicBezTo>
                    <a:cubicBezTo>
                      <a:pt x="12126" y="4"/>
                      <a:pt x="12127" y="3"/>
                      <a:pt x="12128" y="3"/>
                    </a:cubicBezTo>
                    <a:close/>
                    <a:moveTo>
                      <a:pt x="12136" y="3"/>
                    </a:moveTo>
                    <a:lnTo>
                      <a:pt x="12136" y="3"/>
                    </a:lnTo>
                    <a:cubicBezTo>
                      <a:pt x="12137" y="3"/>
                      <a:pt x="12138" y="4"/>
                      <a:pt x="12138" y="5"/>
                    </a:cubicBezTo>
                    <a:cubicBezTo>
                      <a:pt x="12138" y="6"/>
                      <a:pt x="12137" y="7"/>
                      <a:pt x="12136" y="7"/>
                    </a:cubicBezTo>
                    <a:lnTo>
                      <a:pt x="12136" y="7"/>
                    </a:lnTo>
                    <a:cubicBezTo>
                      <a:pt x="12135" y="7"/>
                      <a:pt x="12134" y="6"/>
                      <a:pt x="12134" y="5"/>
                    </a:cubicBezTo>
                    <a:cubicBezTo>
                      <a:pt x="12134" y="4"/>
                      <a:pt x="12135" y="3"/>
                      <a:pt x="12136" y="3"/>
                    </a:cubicBezTo>
                    <a:close/>
                    <a:moveTo>
                      <a:pt x="12144" y="3"/>
                    </a:moveTo>
                    <a:lnTo>
                      <a:pt x="12144" y="3"/>
                    </a:lnTo>
                    <a:cubicBezTo>
                      <a:pt x="12145" y="3"/>
                      <a:pt x="12146" y="4"/>
                      <a:pt x="12146" y="5"/>
                    </a:cubicBezTo>
                    <a:cubicBezTo>
                      <a:pt x="12146" y="6"/>
                      <a:pt x="12145" y="7"/>
                      <a:pt x="12144" y="7"/>
                    </a:cubicBezTo>
                    <a:lnTo>
                      <a:pt x="12144" y="7"/>
                    </a:lnTo>
                    <a:cubicBezTo>
                      <a:pt x="12143" y="7"/>
                      <a:pt x="12142" y="6"/>
                      <a:pt x="12142" y="5"/>
                    </a:cubicBezTo>
                    <a:cubicBezTo>
                      <a:pt x="12142" y="4"/>
                      <a:pt x="12143" y="3"/>
                      <a:pt x="12144" y="3"/>
                    </a:cubicBezTo>
                    <a:close/>
                    <a:moveTo>
                      <a:pt x="12152" y="3"/>
                    </a:moveTo>
                    <a:lnTo>
                      <a:pt x="12152" y="3"/>
                    </a:lnTo>
                    <a:cubicBezTo>
                      <a:pt x="12153" y="3"/>
                      <a:pt x="12154" y="4"/>
                      <a:pt x="12154" y="5"/>
                    </a:cubicBezTo>
                    <a:cubicBezTo>
                      <a:pt x="12154" y="6"/>
                      <a:pt x="12153" y="7"/>
                      <a:pt x="12152" y="7"/>
                    </a:cubicBezTo>
                    <a:lnTo>
                      <a:pt x="12152" y="7"/>
                    </a:lnTo>
                    <a:cubicBezTo>
                      <a:pt x="12151" y="7"/>
                      <a:pt x="12150" y="6"/>
                      <a:pt x="12150" y="5"/>
                    </a:cubicBezTo>
                    <a:cubicBezTo>
                      <a:pt x="12150" y="4"/>
                      <a:pt x="12151" y="3"/>
                      <a:pt x="12152" y="3"/>
                    </a:cubicBezTo>
                    <a:close/>
                    <a:moveTo>
                      <a:pt x="12160" y="3"/>
                    </a:moveTo>
                    <a:lnTo>
                      <a:pt x="12160" y="3"/>
                    </a:lnTo>
                    <a:cubicBezTo>
                      <a:pt x="12161" y="3"/>
                      <a:pt x="12162" y="4"/>
                      <a:pt x="12162" y="5"/>
                    </a:cubicBezTo>
                    <a:cubicBezTo>
                      <a:pt x="12162" y="6"/>
                      <a:pt x="12161" y="7"/>
                      <a:pt x="12160" y="7"/>
                    </a:cubicBezTo>
                    <a:lnTo>
                      <a:pt x="12160" y="7"/>
                    </a:lnTo>
                    <a:cubicBezTo>
                      <a:pt x="12159" y="7"/>
                      <a:pt x="12158" y="6"/>
                      <a:pt x="12158" y="5"/>
                    </a:cubicBezTo>
                    <a:cubicBezTo>
                      <a:pt x="12158" y="4"/>
                      <a:pt x="12159" y="3"/>
                      <a:pt x="12160" y="3"/>
                    </a:cubicBezTo>
                    <a:close/>
                    <a:moveTo>
                      <a:pt x="12168" y="3"/>
                    </a:moveTo>
                    <a:lnTo>
                      <a:pt x="12168" y="3"/>
                    </a:lnTo>
                    <a:cubicBezTo>
                      <a:pt x="12169" y="3"/>
                      <a:pt x="12170" y="4"/>
                      <a:pt x="12170" y="5"/>
                    </a:cubicBezTo>
                    <a:cubicBezTo>
                      <a:pt x="12170" y="6"/>
                      <a:pt x="12169" y="7"/>
                      <a:pt x="12168" y="7"/>
                    </a:cubicBezTo>
                    <a:lnTo>
                      <a:pt x="12168" y="7"/>
                    </a:lnTo>
                    <a:cubicBezTo>
                      <a:pt x="12167" y="7"/>
                      <a:pt x="12166" y="6"/>
                      <a:pt x="12166" y="5"/>
                    </a:cubicBezTo>
                    <a:cubicBezTo>
                      <a:pt x="12166" y="4"/>
                      <a:pt x="12167" y="3"/>
                      <a:pt x="12168" y="3"/>
                    </a:cubicBezTo>
                    <a:close/>
                    <a:moveTo>
                      <a:pt x="12176" y="3"/>
                    </a:moveTo>
                    <a:lnTo>
                      <a:pt x="12176" y="3"/>
                    </a:lnTo>
                    <a:cubicBezTo>
                      <a:pt x="12177" y="3"/>
                      <a:pt x="12178" y="4"/>
                      <a:pt x="12178" y="5"/>
                    </a:cubicBezTo>
                    <a:cubicBezTo>
                      <a:pt x="12178" y="6"/>
                      <a:pt x="12177" y="7"/>
                      <a:pt x="12176" y="7"/>
                    </a:cubicBezTo>
                    <a:lnTo>
                      <a:pt x="12176" y="7"/>
                    </a:lnTo>
                    <a:cubicBezTo>
                      <a:pt x="12175" y="7"/>
                      <a:pt x="12174" y="6"/>
                      <a:pt x="12174" y="5"/>
                    </a:cubicBezTo>
                    <a:cubicBezTo>
                      <a:pt x="12174" y="4"/>
                      <a:pt x="12175" y="3"/>
                      <a:pt x="12176" y="3"/>
                    </a:cubicBezTo>
                    <a:close/>
                    <a:moveTo>
                      <a:pt x="12184" y="3"/>
                    </a:moveTo>
                    <a:lnTo>
                      <a:pt x="12184" y="3"/>
                    </a:lnTo>
                    <a:cubicBezTo>
                      <a:pt x="12185" y="3"/>
                      <a:pt x="12186" y="4"/>
                      <a:pt x="12186" y="5"/>
                    </a:cubicBezTo>
                    <a:cubicBezTo>
                      <a:pt x="12186" y="6"/>
                      <a:pt x="12185" y="7"/>
                      <a:pt x="12184" y="7"/>
                    </a:cubicBezTo>
                    <a:lnTo>
                      <a:pt x="12184" y="7"/>
                    </a:lnTo>
                    <a:cubicBezTo>
                      <a:pt x="12183" y="7"/>
                      <a:pt x="12182" y="6"/>
                      <a:pt x="12182" y="5"/>
                    </a:cubicBezTo>
                    <a:cubicBezTo>
                      <a:pt x="12182" y="4"/>
                      <a:pt x="12183" y="3"/>
                      <a:pt x="12184" y="3"/>
                    </a:cubicBezTo>
                    <a:close/>
                    <a:moveTo>
                      <a:pt x="12192" y="3"/>
                    </a:moveTo>
                    <a:lnTo>
                      <a:pt x="12192" y="3"/>
                    </a:lnTo>
                    <a:cubicBezTo>
                      <a:pt x="12193" y="3"/>
                      <a:pt x="12194" y="4"/>
                      <a:pt x="12194" y="5"/>
                    </a:cubicBezTo>
                    <a:cubicBezTo>
                      <a:pt x="12194" y="6"/>
                      <a:pt x="12193" y="7"/>
                      <a:pt x="12192" y="7"/>
                    </a:cubicBezTo>
                    <a:lnTo>
                      <a:pt x="12192" y="7"/>
                    </a:lnTo>
                    <a:cubicBezTo>
                      <a:pt x="12191" y="7"/>
                      <a:pt x="12190" y="6"/>
                      <a:pt x="12190" y="5"/>
                    </a:cubicBezTo>
                    <a:cubicBezTo>
                      <a:pt x="12190" y="4"/>
                      <a:pt x="12191" y="3"/>
                      <a:pt x="12192" y="3"/>
                    </a:cubicBezTo>
                    <a:close/>
                    <a:moveTo>
                      <a:pt x="12200" y="3"/>
                    </a:moveTo>
                    <a:lnTo>
                      <a:pt x="12200" y="3"/>
                    </a:lnTo>
                    <a:cubicBezTo>
                      <a:pt x="12201" y="3"/>
                      <a:pt x="12202" y="4"/>
                      <a:pt x="12202" y="5"/>
                    </a:cubicBezTo>
                    <a:cubicBezTo>
                      <a:pt x="12202" y="6"/>
                      <a:pt x="12201" y="7"/>
                      <a:pt x="12200" y="7"/>
                    </a:cubicBezTo>
                    <a:lnTo>
                      <a:pt x="12200" y="7"/>
                    </a:lnTo>
                    <a:cubicBezTo>
                      <a:pt x="12199" y="7"/>
                      <a:pt x="12198" y="6"/>
                      <a:pt x="12198" y="5"/>
                    </a:cubicBezTo>
                    <a:cubicBezTo>
                      <a:pt x="12198" y="4"/>
                      <a:pt x="12199" y="3"/>
                      <a:pt x="12200" y="3"/>
                    </a:cubicBezTo>
                    <a:close/>
                    <a:moveTo>
                      <a:pt x="12208" y="3"/>
                    </a:moveTo>
                    <a:lnTo>
                      <a:pt x="12208" y="3"/>
                    </a:lnTo>
                    <a:cubicBezTo>
                      <a:pt x="12209" y="3"/>
                      <a:pt x="12210" y="4"/>
                      <a:pt x="12210" y="5"/>
                    </a:cubicBezTo>
                    <a:cubicBezTo>
                      <a:pt x="12210" y="6"/>
                      <a:pt x="12209" y="7"/>
                      <a:pt x="12208" y="7"/>
                    </a:cubicBezTo>
                    <a:lnTo>
                      <a:pt x="12208" y="7"/>
                    </a:lnTo>
                    <a:cubicBezTo>
                      <a:pt x="12207" y="7"/>
                      <a:pt x="12206" y="6"/>
                      <a:pt x="12206" y="5"/>
                    </a:cubicBezTo>
                    <a:cubicBezTo>
                      <a:pt x="12206" y="4"/>
                      <a:pt x="12207" y="3"/>
                      <a:pt x="12208" y="3"/>
                    </a:cubicBezTo>
                    <a:close/>
                    <a:moveTo>
                      <a:pt x="12216" y="3"/>
                    </a:moveTo>
                    <a:lnTo>
                      <a:pt x="12216" y="3"/>
                    </a:lnTo>
                    <a:cubicBezTo>
                      <a:pt x="12217" y="3"/>
                      <a:pt x="12218" y="4"/>
                      <a:pt x="12218" y="5"/>
                    </a:cubicBezTo>
                    <a:cubicBezTo>
                      <a:pt x="12218" y="6"/>
                      <a:pt x="12217" y="7"/>
                      <a:pt x="12216" y="7"/>
                    </a:cubicBezTo>
                    <a:lnTo>
                      <a:pt x="12216" y="7"/>
                    </a:lnTo>
                    <a:cubicBezTo>
                      <a:pt x="12215" y="7"/>
                      <a:pt x="12214" y="6"/>
                      <a:pt x="12214" y="5"/>
                    </a:cubicBezTo>
                    <a:cubicBezTo>
                      <a:pt x="12214" y="4"/>
                      <a:pt x="12215" y="3"/>
                      <a:pt x="12216" y="3"/>
                    </a:cubicBezTo>
                    <a:close/>
                    <a:moveTo>
                      <a:pt x="12224" y="3"/>
                    </a:moveTo>
                    <a:lnTo>
                      <a:pt x="12224" y="3"/>
                    </a:lnTo>
                    <a:cubicBezTo>
                      <a:pt x="12225" y="3"/>
                      <a:pt x="12226" y="4"/>
                      <a:pt x="12226" y="5"/>
                    </a:cubicBezTo>
                    <a:cubicBezTo>
                      <a:pt x="12226" y="6"/>
                      <a:pt x="12225" y="7"/>
                      <a:pt x="12224" y="7"/>
                    </a:cubicBezTo>
                    <a:lnTo>
                      <a:pt x="12224" y="7"/>
                    </a:lnTo>
                    <a:cubicBezTo>
                      <a:pt x="12223" y="7"/>
                      <a:pt x="12222" y="6"/>
                      <a:pt x="12222" y="5"/>
                    </a:cubicBezTo>
                    <a:cubicBezTo>
                      <a:pt x="12222" y="4"/>
                      <a:pt x="12223" y="3"/>
                      <a:pt x="12224" y="3"/>
                    </a:cubicBezTo>
                    <a:close/>
                    <a:moveTo>
                      <a:pt x="12232" y="3"/>
                    </a:moveTo>
                    <a:lnTo>
                      <a:pt x="12232" y="3"/>
                    </a:lnTo>
                    <a:cubicBezTo>
                      <a:pt x="12233" y="3"/>
                      <a:pt x="12234" y="4"/>
                      <a:pt x="12234" y="5"/>
                    </a:cubicBezTo>
                    <a:cubicBezTo>
                      <a:pt x="12234" y="6"/>
                      <a:pt x="12233" y="7"/>
                      <a:pt x="12232" y="7"/>
                    </a:cubicBezTo>
                    <a:lnTo>
                      <a:pt x="12232" y="7"/>
                    </a:lnTo>
                    <a:cubicBezTo>
                      <a:pt x="12231" y="7"/>
                      <a:pt x="12230" y="6"/>
                      <a:pt x="12230" y="5"/>
                    </a:cubicBezTo>
                    <a:cubicBezTo>
                      <a:pt x="12230" y="4"/>
                      <a:pt x="12231" y="3"/>
                      <a:pt x="12232" y="3"/>
                    </a:cubicBezTo>
                    <a:close/>
                    <a:moveTo>
                      <a:pt x="12240" y="3"/>
                    </a:moveTo>
                    <a:lnTo>
                      <a:pt x="12240" y="3"/>
                    </a:lnTo>
                    <a:cubicBezTo>
                      <a:pt x="12241" y="3"/>
                      <a:pt x="12242" y="4"/>
                      <a:pt x="12242" y="5"/>
                    </a:cubicBezTo>
                    <a:cubicBezTo>
                      <a:pt x="12242" y="6"/>
                      <a:pt x="12241" y="7"/>
                      <a:pt x="12240" y="7"/>
                    </a:cubicBezTo>
                    <a:lnTo>
                      <a:pt x="12240" y="7"/>
                    </a:lnTo>
                    <a:cubicBezTo>
                      <a:pt x="12239" y="7"/>
                      <a:pt x="12238" y="6"/>
                      <a:pt x="12238" y="5"/>
                    </a:cubicBezTo>
                    <a:cubicBezTo>
                      <a:pt x="12238" y="4"/>
                      <a:pt x="12239" y="3"/>
                      <a:pt x="12240" y="3"/>
                    </a:cubicBezTo>
                    <a:close/>
                    <a:moveTo>
                      <a:pt x="12248" y="3"/>
                    </a:moveTo>
                    <a:lnTo>
                      <a:pt x="12248" y="3"/>
                    </a:lnTo>
                    <a:cubicBezTo>
                      <a:pt x="12249" y="3"/>
                      <a:pt x="12250" y="4"/>
                      <a:pt x="12250" y="5"/>
                    </a:cubicBezTo>
                    <a:cubicBezTo>
                      <a:pt x="12250" y="6"/>
                      <a:pt x="12249" y="7"/>
                      <a:pt x="12248" y="7"/>
                    </a:cubicBezTo>
                    <a:lnTo>
                      <a:pt x="12248" y="7"/>
                    </a:lnTo>
                    <a:cubicBezTo>
                      <a:pt x="12247" y="7"/>
                      <a:pt x="12246" y="6"/>
                      <a:pt x="12246" y="5"/>
                    </a:cubicBezTo>
                    <a:cubicBezTo>
                      <a:pt x="12246" y="4"/>
                      <a:pt x="12247" y="3"/>
                      <a:pt x="12248" y="3"/>
                    </a:cubicBezTo>
                    <a:close/>
                    <a:moveTo>
                      <a:pt x="12256" y="3"/>
                    </a:moveTo>
                    <a:lnTo>
                      <a:pt x="12256" y="3"/>
                    </a:lnTo>
                    <a:cubicBezTo>
                      <a:pt x="12257" y="3"/>
                      <a:pt x="12258" y="4"/>
                      <a:pt x="12258" y="5"/>
                    </a:cubicBezTo>
                    <a:cubicBezTo>
                      <a:pt x="12258" y="6"/>
                      <a:pt x="12257" y="7"/>
                      <a:pt x="12256" y="7"/>
                    </a:cubicBezTo>
                    <a:lnTo>
                      <a:pt x="12256" y="7"/>
                    </a:lnTo>
                    <a:cubicBezTo>
                      <a:pt x="12255" y="7"/>
                      <a:pt x="12254" y="6"/>
                      <a:pt x="12254" y="5"/>
                    </a:cubicBezTo>
                    <a:cubicBezTo>
                      <a:pt x="12254" y="4"/>
                      <a:pt x="12255" y="3"/>
                      <a:pt x="12256" y="3"/>
                    </a:cubicBezTo>
                    <a:close/>
                    <a:moveTo>
                      <a:pt x="12264" y="3"/>
                    </a:moveTo>
                    <a:lnTo>
                      <a:pt x="12264" y="3"/>
                    </a:lnTo>
                    <a:cubicBezTo>
                      <a:pt x="12265" y="3"/>
                      <a:pt x="12266" y="4"/>
                      <a:pt x="12266" y="5"/>
                    </a:cubicBezTo>
                    <a:cubicBezTo>
                      <a:pt x="12266" y="6"/>
                      <a:pt x="12265" y="7"/>
                      <a:pt x="12264" y="7"/>
                    </a:cubicBezTo>
                    <a:lnTo>
                      <a:pt x="12264" y="7"/>
                    </a:lnTo>
                    <a:cubicBezTo>
                      <a:pt x="12263" y="7"/>
                      <a:pt x="12262" y="6"/>
                      <a:pt x="12262" y="5"/>
                    </a:cubicBezTo>
                    <a:cubicBezTo>
                      <a:pt x="12262" y="4"/>
                      <a:pt x="12263" y="3"/>
                      <a:pt x="12264" y="3"/>
                    </a:cubicBezTo>
                    <a:close/>
                    <a:moveTo>
                      <a:pt x="12272" y="3"/>
                    </a:moveTo>
                    <a:lnTo>
                      <a:pt x="12272" y="3"/>
                    </a:lnTo>
                    <a:cubicBezTo>
                      <a:pt x="12273" y="3"/>
                      <a:pt x="12274" y="4"/>
                      <a:pt x="12274" y="5"/>
                    </a:cubicBezTo>
                    <a:cubicBezTo>
                      <a:pt x="12274" y="6"/>
                      <a:pt x="12273" y="7"/>
                      <a:pt x="12272" y="7"/>
                    </a:cubicBezTo>
                    <a:lnTo>
                      <a:pt x="12272" y="7"/>
                    </a:lnTo>
                    <a:cubicBezTo>
                      <a:pt x="12271" y="7"/>
                      <a:pt x="12270" y="6"/>
                      <a:pt x="12270" y="5"/>
                    </a:cubicBezTo>
                    <a:cubicBezTo>
                      <a:pt x="12270" y="4"/>
                      <a:pt x="12271" y="3"/>
                      <a:pt x="12272" y="3"/>
                    </a:cubicBezTo>
                    <a:close/>
                    <a:moveTo>
                      <a:pt x="12280" y="3"/>
                    </a:moveTo>
                    <a:lnTo>
                      <a:pt x="12280" y="3"/>
                    </a:lnTo>
                    <a:cubicBezTo>
                      <a:pt x="12281" y="3"/>
                      <a:pt x="12282" y="4"/>
                      <a:pt x="12282" y="5"/>
                    </a:cubicBezTo>
                    <a:cubicBezTo>
                      <a:pt x="12282" y="6"/>
                      <a:pt x="12281" y="7"/>
                      <a:pt x="12280" y="7"/>
                    </a:cubicBezTo>
                    <a:lnTo>
                      <a:pt x="12280" y="7"/>
                    </a:lnTo>
                    <a:cubicBezTo>
                      <a:pt x="12279" y="7"/>
                      <a:pt x="12278" y="6"/>
                      <a:pt x="12278" y="5"/>
                    </a:cubicBezTo>
                    <a:cubicBezTo>
                      <a:pt x="12278" y="4"/>
                      <a:pt x="12279" y="3"/>
                      <a:pt x="12280" y="3"/>
                    </a:cubicBezTo>
                    <a:close/>
                    <a:moveTo>
                      <a:pt x="12288" y="3"/>
                    </a:moveTo>
                    <a:lnTo>
                      <a:pt x="12288" y="3"/>
                    </a:lnTo>
                    <a:cubicBezTo>
                      <a:pt x="12289" y="3"/>
                      <a:pt x="12290" y="4"/>
                      <a:pt x="12290" y="5"/>
                    </a:cubicBezTo>
                    <a:cubicBezTo>
                      <a:pt x="12290" y="6"/>
                      <a:pt x="12289" y="7"/>
                      <a:pt x="12288" y="7"/>
                    </a:cubicBezTo>
                    <a:lnTo>
                      <a:pt x="12288" y="7"/>
                    </a:lnTo>
                    <a:cubicBezTo>
                      <a:pt x="12287" y="7"/>
                      <a:pt x="12286" y="6"/>
                      <a:pt x="12286" y="5"/>
                    </a:cubicBezTo>
                    <a:cubicBezTo>
                      <a:pt x="12286" y="4"/>
                      <a:pt x="12287" y="3"/>
                      <a:pt x="12288" y="3"/>
                    </a:cubicBezTo>
                    <a:close/>
                    <a:moveTo>
                      <a:pt x="12296" y="3"/>
                    </a:moveTo>
                    <a:lnTo>
                      <a:pt x="12296" y="3"/>
                    </a:lnTo>
                    <a:cubicBezTo>
                      <a:pt x="12297" y="3"/>
                      <a:pt x="12298" y="4"/>
                      <a:pt x="12298" y="5"/>
                    </a:cubicBezTo>
                    <a:cubicBezTo>
                      <a:pt x="12298" y="6"/>
                      <a:pt x="12297" y="7"/>
                      <a:pt x="12296" y="7"/>
                    </a:cubicBezTo>
                    <a:lnTo>
                      <a:pt x="12296" y="7"/>
                    </a:lnTo>
                    <a:cubicBezTo>
                      <a:pt x="12295" y="7"/>
                      <a:pt x="12294" y="6"/>
                      <a:pt x="12294" y="5"/>
                    </a:cubicBezTo>
                    <a:cubicBezTo>
                      <a:pt x="12294" y="4"/>
                      <a:pt x="12295" y="3"/>
                      <a:pt x="12296" y="3"/>
                    </a:cubicBezTo>
                    <a:close/>
                    <a:moveTo>
                      <a:pt x="12304" y="3"/>
                    </a:moveTo>
                    <a:lnTo>
                      <a:pt x="12304" y="3"/>
                    </a:lnTo>
                    <a:cubicBezTo>
                      <a:pt x="12305" y="3"/>
                      <a:pt x="12306" y="4"/>
                      <a:pt x="12306" y="5"/>
                    </a:cubicBezTo>
                    <a:cubicBezTo>
                      <a:pt x="12306" y="6"/>
                      <a:pt x="12305" y="7"/>
                      <a:pt x="12304" y="7"/>
                    </a:cubicBezTo>
                    <a:lnTo>
                      <a:pt x="12304" y="7"/>
                    </a:lnTo>
                    <a:cubicBezTo>
                      <a:pt x="12303" y="7"/>
                      <a:pt x="12302" y="6"/>
                      <a:pt x="12302" y="5"/>
                    </a:cubicBezTo>
                    <a:cubicBezTo>
                      <a:pt x="12302" y="4"/>
                      <a:pt x="12303" y="3"/>
                      <a:pt x="12304" y="3"/>
                    </a:cubicBezTo>
                    <a:close/>
                    <a:moveTo>
                      <a:pt x="12312" y="3"/>
                    </a:moveTo>
                    <a:lnTo>
                      <a:pt x="12312" y="3"/>
                    </a:lnTo>
                    <a:cubicBezTo>
                      <a:pt x="12313" y="3"/>
                      <a:pt x="12314" y="4"/>
                      <a:pt x="12314" y="5"/>
                    </a:cubicBezTo>
                    <a:cubicBezTo>
                      <a:pt x="12314" y="6"/>
                      <a:pt x="12313" y="7"/>
                      <a:pt x="12312" y="7"/>
                    </a:cubicBezTo>
                    <a:lnTo>
                      <a:pt x="12312" y="7"/>
                    </a:lnTo>
                    <a:cubicBezTo>
                      <a:pt x="12311" y="7"/>
                      <a:pt x="12310" y="6"/>
                      <a:pt x="12310" y="5"/>
                    </a:cubicBezTo>
                    <a:cubicBezTo>
                      <a:pt x="12310" y="4"/>
                      <a:pt x="12311" y="3"/>
                      <a:pt x="12312" y="3"/>
                    </a:cubicBezTo>
                    <a:close/>
                    <a:moveTo>
                      <a:pt x="12320" y="3"/>
                    </a:moveTo>
                    <a:lnTo>
                      <a:pt x="12320" y="3"/>
                    </a:lnTo>
                    <a:cubicBezTo>
                      <a:pt x="12321" y="3"/>
                      <a:pt x="12322" y="4"/>
                      <a:pt x="12322" y="5"/>
                    </a:cubicBezTo>
                    <a:cubicBezTo>
                      <a:pt x="12322" y="6"/>
                      <a:pt x="12321" y="7"/>
                      <a:pt x="12320" y="7"/>
                    </a:cubicBezTo>
                    <a:lnTo>
                      <a:pt x="12320" y="7"/>
                    </a:lnTo>
                    <a:cubicBezTo>
                      <a:pt x="12319" y="7"/>
                      <a:pt x="12318" y="6"/>
                      <a:pt x="12318" y="5"/>
                    </a:cubicBezTo>
                    <a:cubicBezTo>
                      <a:pt x="12318" y="4"/>
                      <a:pt x="12319" y="3"/>
                      <a:pt x="12320" y="3"/>
                    </a:cubicBezTo>
                    <a:close/>
                    <a:moveTo>
                      <a:pt x="12328" y="3"/>
                    </a:moveTo>
                    <a:lnTo>
                      <a:pt x="12328" y="3"/>
                    </a:lnTo>
                    <a:cubicBezTo>
                      <a:pt x="12329" y="3"/>
                      <a:pt x="12330" y="4"/>
                      <a:pt x="12330" y="5"/>
                    </a:cubicBezTo>
                    <a:cubicBezTo>
                      <a:pt x="12330" y="6"/>
                      <a:pt x="12329" y="7"/>
                      <a:pt x="12328" y="7"/>
                    </a:cubicBezTo>
                    <a:lnTo>
                      <a:pt x="12328" y="7"/>
                    </a:lnTo>
                    <a:cubicBezTo>
                      <a:pt x="12327" y="7"/>
                      <a:pt x="12326" y="6"/>
                      <a:pt x="12326" y="5"/>
                    </a:cubicBezTo>
                    <a:cubicBezTo>
                      <a:pt x="12326" y="4"/>
                      <a:pt x="12327" y="3"/>
                      <a:pt x="12328" y="3"/>
                    </a:cubicBezTo>
                    <a:close/>
                    <a:moveTo>
                      <a:pt x="12336" y="3"/>
                    </a:moveTo>
                    <a:lnTo>
                      <a:pt x="12336" y="3"/>
                    </a:lnTo>
                    <a:cubicBezTo>
                      <a:pt x="12337" y="3"/>
                      <a:pt x="12338" y="4"/>
                      <a:pt x="12338" y="5"/>
                    </a:cubicBezTo>
                    <a:cubicBezTo>
                      <a:pt x="12338" y="6"/>
                      <a:pt x="12337" y="7"/>
                      <a:pt x="12336" y="7"/>
                    </a:cubicBezTo>
                    <a:lnTo>
                      <a:pt x="12336" y="7"/>
                    </a:lnTo>
                    <a:cubicBezTo>
                      <a:pt x="12335" y="7"/>
                      <a:pt x="12334" y="6"/>
                      <a:pt x="12334" y="5"/>
                    </a:cubicBezTo>
                    <a:cubicBezTo>
                      <a:pt x="12334" y="4"/>
                      <a:pt x="12335" y="3"/>
                      <a:pt x="12336" y="3"/>
                    </a:cubicBezTo>
                    <a:close/>
                    <a:moveTo>
                      <a:pt x="12344" y="3"/>
                    </a:moveTo>
                    <a:lnTo>
                      <a:pt x="12344" y="3"/>
                    </a:lnTo>
                    <a:cubicBezTo>
                      <a:pt x="12345" y="3"/>
                      <a:pt x="12346" y="4"/>
                      <a:pt x="12346" y="5"/>
                    </a:cubicBezTo>
                    <a:cubicBezTo>
                      <a:pt x="12346" y="6"/>
                      <a:pt x="12345" y="7"/>
                      <a:pt x="12344" y="7"/>
                    </a:cubicBezTo>
                    <a:lnTo>
                      <a:pt x="12344" y="7"/>
                    </a:lnTo>
                    <a:cubicBezTo>
                      <a:pt x="12343" y="7"/>
                      <a:pt x="12342" y="6"/>
                      <a:pt x="12342" y="5"/>
                    </a:cubicBezTo>
                    <a:cubicBezTo>
                      <a:pt x="12342" y="4"/>
                      <a:pt x="12343" y="3"/>
                      <a:pt x="12344" y="3"/>
                    </a:cubicBezTo>
                    <a:close/>
                    <a:moveTo>
                      <a:pt x="12352" y="3"/>
                    </a:moveTo>
                    <a:lnTo>
                      <a:pt x="12352" y="3"/>
                    </a:lnTo>
                    <a:cubicBezTo>
                      <a:pt x="12353" y="3"/>
                      <a:pt x="12354" y="4"/>
                      <a:pt x="12354" y="5"/>
                    </a:cubicBezTo>
                    <a:cubicBezTo>
                      <a:pt x="12354" y="6"/>
                      <a:pt x="12353" y="7"/>
                      <a:pt x="12352" y="7"/>
                    </a:cubicBezTo>
                    <a:lnTo>
                      <a:pt x="12352" y="7"/>
                    </a:lnTo>
                    <a:cubicBezTo>
                      <a:pt x="12351" y="7"/>
                      <a:pt x="12350" y="6"/>
                      <a:pt x="12350" y="5"/>
                    </a:cubicBezTo>
                    <a:cubicBezTo>
                      <a:pt x="12350" y="4"/>
                      <a:pt x="12351" y="3"/>
                      <a:pt x="12352" y="3"/>
                    </a:cubicBezTo>
                    <a:close/>
                    <a:moveTo>
                      <a:pt x="12360" y="3"/>
                    </a:moveTo>
                    <a:lnTo>
                      <a:pt x="12360" y="3"/>
                    </a:lnTo>
                    <a:cubicBezTo>
                      <a:pt x="12361" y="3"/>
                      <a:pt x="12362" y="4"/>
                      <a:pt x="12362" y="5"/>
                    </a:cubicBezTo>
                    <a:cubicBezTo>
                      <a:pt x="12362" y="6"/>
                      <a:pt x="12361" y="7"/>
                      <a:pt x="12360" y="7"/>
                    </a:cubicBezTo>
                    <a:lnTo>
                      <a:pt x="12360" y="7"/>
                    </a:lnTo>
                    <a:cubicBezTo>
                      <a:pt x="12359" y="7"/>
                      <a:pt x="12358" y="6"/>
                      <a:pt x="12358" y="5"/>
                    </a:cubicBezTo>
                    <a:cubicBezTo>
                      <a:pt x="12358" y="4"/>
                      <a:pt x="12359" y="3"/>
                      <a:pt x="12360" y="3"/>
                    </a:cubicBezTo>
                    <a:close/>
                    <a:moveTo>
                      <a:pt x="12368" y="3"/>
                    </a:moveTo>
                    <a:lnTo>
                      <a:pt x="12368" y="3"/>
                    </a:lnTo>
                    <a:cubicBezTo>
                      <a:pt x="12369" y="3"/>
                      <a:pt x="12370" y="4"/>
                      <a:pt x="12370" y="5"/>
                    </a:cubicBezTo>
                    <a:cubicBezTo>
                      <a:pt x="12370" y="6"/>
                      <a:pt x="12369" y="7"/>
                      <a:pt x="12368" y="7"/>
                    </a:cubicBezTo>
                    <a:lnTo>
                      <a:pt x="12368" y="7"/>
                    </a:lnTo>
                    <a:cubicBezTo>
                      <a:pt x="12367" y="7"/>
                      <a:pt x="12366" y="6"/>
                      <a:pt x="12366" y="5"/>
                    </a:cubicBezTo>
                    <a:cubicBezTo>
                      <a:pt x="12366" y="4"/>
                      <a:pt x="12367" y="3"/>
                      <a:pt x="12368" y="3"/>
                    </a:cubicBezTo>
                    <a:close/>
                    <a:moveTo>
                      <a:pt x="12376" y="3"/>
                    </a:moveTo>
                    <a:lnTo>
                      <a:pt x="12376" y="3"/>
                    </a:lnTo>
                    <a:cubicBezTo>
                      <a:pt x="12377" y="3"/>
                      <a:pt x="12378" y="4"/>
                      <a:pt x="12378" y="5"/>
                    </a:cubicBezTo>
                    <a:cubicBezTo>
                      <a:pt x="12378" y="6"/>
                      <a:pt x="12377" y="7"/>
                      <a:pt x="12376" y="7"/>
                    </a:cubicBezTo>
                    <a:lnTo>
                      <a:pt x="12376" y="7"/>
                    </a:lnTo>
                    <a:cubicBezTo>
                      <a:pt x="12375" y="7"/>
                      <a:pt x="12374" y="6"/>
                      <a:pt x="12374" y="5"/>
                    </a:cubicBezTo>
                    <a:cubicBezTo>
                      <a:pt x="12374" y="4"/>
                      <a:pt x="12375" y="3"/>
                      <a:pt x="12376" y="3"/>
                    </a:cubicBezTo>
                    <a:close/>
                    <a:moveTo>
                      <a:pt x="12384" y="3"/>
                    </a:moveTo>
                    <a:lnTo>
                      <a:pt x="12384" y="3"/>
                    </a:lnTo>
                    <a:cubicBezTo>
                      <a:pt x="12385" y="3"/>
                      <a:pt x="12386" y="4"/>
                      <a:pt x="12386" y="5"/>
                    </a:cubicBezTo>
                    <a:cubicBezTo>
                      <a:pt x="12386" y="6"/>
                      <a:pt x="12385" y="7"/>
                      <a:pt x="12384" y="7"/>
                    </a:cubicBezTo>
                    <a:lnTo>
                      <a:pt x="12384" y="7"/>
                    </a:lnTo>
                    <a:cubicBezTo>
                      <a:pt x="12383" y="7"/>
                      <a:pt x="12382" y="6"/>
                      <a:pt x="12382" y="5"/>
                    </a:cubicBezTo>
                    <a:cubicBezTo>
                      <a:pt x="12382" y="4"/>
                      <a:pt x="12383" y="3"/>
                      <a:pt x="12384" y="3"/>
                    </a:cubicBezTo>
                    <a:close/>
                    <a:moveTo>
                      <a:pt x="12392" y="3"/>
                    </a:moveTo>
                    <a:lnTo>
                      <a:pt x="12392" y="3"/>
                    </a:lnTo>
                    <a:cubicBezTo>
                      <a:pt x="12393" y="3"/>
                      <a:pt x="12394" y="4"/>
                      <a:pt x="12394" y="5"/>
                    </a:cubicBezTo>
                    <a:cubicBezTo>
                      <a:pt x="12394" y="6"/>
                      <a:pt x="12393" y="7"/>
                      <a:pt x="12392" y="7"/>
                    </a:cubicBezTo>
                    <a:lnTo>
                      <a:pt x="12392" y="7"/>
                    </a:lnTo>
                    <a:cubicBezTo>
                      <a:pt x="12391" y="7"/>
                      <a:pt x="12390" y="6"/>
                      <a:pt x="12390" y="5"/>
                    </a:cubicBezTo>
                    <a:cubicBezTo>
                      <a:pt x="12390" y="4"/>
                      <a:pt x="12391" y="3"/>
                      <a:pt x="12392" y="3"/>
                    </a:cubicBezTo>
                    <a:close/>
                    <a:moveTo>
                      <a:pt x="12400" y="3"/>
                    </a:moveTo>
                    <a:lnTo>
                      <a:pt x="12400" y="3"/>
                    </a:lnTo>
                    <a:cubicBezTo>
                      <a:pt x="12401" y="3"/>
                      <a:pt x="12402" y="4"/>
                      <a:pt x="12402" y="5"/>
                    </a:cubicBezTo>
                    <a:cubicBezTo>
                      <a:pt x="12402" y="6"/>
                      <a:pt x="12401" y="7"/>
                      <a:pt x="12400" y="7"/>
                    </a:cubicBezTo>
                    <a:lnTo>
                      <a:pt x="12400" y="7"/>
                    </a:lnTo>
                    <a:cubicBezTo>
                      <a:pt x="12399" y="7"/>
                      <a:pt x="12398" y="6"/>
                      <a:pt x="12398" y="5"/>
                    </a:cubicBezTo>
                    <a:cubicBezTo>
                      <a:pt x="12398" y="4"/>
                      <a:pt x="12399" y="3"/>
                      <a:pt x="12400" y="3"/>
                    </a:cubicBezTo>
                    <a:close/>
                    <a:moveTo>
                      <a:pt x="12408" y="3"/>
                    </a:moveTo>
                    <a:lnTo>
                      <a:pt x="12408" y="3"/>
                    </a:lnTo>
                    <a:cubicBezTo>
                      <a:pt x="12409" y="3"/>
                      <a:pt x="12410" y="4"/>
                      <a:pt x="12410" y="5"/>
                    </a:cubicBezTo>
                    <a:cubicBezTo>
                      <a:pt x="12410" y="6"/>
                      <a:pt x="12409" y="7"/>
                      <a:pt x="12408" y="7"/>
                    </a:cubicBezTo>
                    <a:lnTo>
                      <a:pt x="12408" y="7"/>
                    </a:lnTo>
                    <a:cubicBezTo>
                      <a:pt x="12407" y="7"/>
                      <a:pt x="12406" y="6"/>
                      <a:pt x="12406" y="5"/>
                    </a:cubicBezTo>
                    <a:cubicBezTo>
                      <a:pt x="12406" y="4"/>
                      <a:pt x="12407" y="3"/>
                      <a:pt x="12408" y="3"/>
                    </a:cubicBezTo>
                    <a:close/>
                    <a:moveTo>
                      <a:pt x="12416" y="3"/>
                    </a:moveTo>
                    <a:lnTo>
                      <a:pt x="12416" y="3"/>
                    </a:lnTo>
                    <a:cubicBezTo>
                      <a:pt x="12417" y="3"/>
                      <a:pt x="12418" y="4"/>
                      <a:pt x="12418" y="5"/>
                    </a:cubicBezTo>
                    <a:cubicBezTo>
                      <a:pt x="12418" y="6"/>
                      <a:pt x="12417" y="7"/>
                      <a:pt x="12416" y="7"/>
                    </a:cubicBezTo>
                    <a:lnTo>
                      <a:pt x="12416" y="7"/>
                    </a:lnTo>
                    <a:cubicBezTo>
                      <a:pt x="12415" y="7"/>
                      <a:pt x="12414" y="6"/>
                      <a:pt x="12414" y="5"/>
                    </a:cubicBezTo>
                    <a:cubicBezTo>
                      <a:pt x="12414" y="4"/>
                      <a:pt x="12415" y="3"/>
                      <a:pt x="12416" y="3"/>
                    </a:cubicBezTo>
                    <a:close/>
                    <a:moveTo>
                      <a:pt x="12424" y="3"/>
                    </a:moveTo>
                    <a:lnTo>
                      <a:pt x="12424" y="3"/>
                    </a:lnTo>
                    <a:cubicBezTo>
                      <a:pt x="12425" y="3"/>
                      <a:pt x="12426" y="4"/>
                      <a:pt x="12426" y="5"/>
                    </a:cubicBezTo>
                    <a:cubicBezTo>
                      <a:pt x="12426" y="6"/>
                      <a:pt x="12425" y="7"/>
                      <a:pt x="12424" y="7"/>
                    </a:cubicBezTo>
                    <a:lnTo>
                      <a:pt x="12424" y="7"/>
                    </a:lnTo>
                    <a:cubicBezTo>
                      <a:pt x="12423" y="7"/>
                      <a:pt x="12422" y="6"/>
                      <a:pt x="12422" y="5"/>
                    </a:cubicBezTo>
                    <a:cubicBezTo>
                      <a:pt x="12422" y="4"/>
                      <a:pt x="12423" y="3"/>
                      <a:pt x="12424" y="3"/>
                    </a:cubicBezTo>
                    <a:close/>
                    <a:moveTo>
                      <a:pt x="12432" y="3"/>
                    </a:moveTo>
                    <a:lnTo>
                      <a:pt x="12432" y="3"/>
                    </a:lnTo>
                    <a:cubicBezTo>
                      <a:pt x="12434" y="3"/>
                      <a:pt x="12434" y="4"/>
                      <a:pt x="12434" y="5"/>
                    </a:cubicBezTo>
                    <a:cubicBezTo>
                      <a:pt x="12434" y="6"/>
                      <a:pt x="12434" y="7"/>
                      <a:pt x="12432" y="7"/>
                    </a:cubicBezTo>
                    <a:lnTo>
                      <a:pt x="12432" y="7"/>
                    </a:lnTo>
                    <a:cubicBezTo>
                      <a:pt x="12431" y="7"/>
                      <a:pt x="12430" y="6"/>
                      <a:pt x="12430" y="5"/>
                    </a:cubicBezTo>
                    <a:cubicBezTo>
                      <a:pt x="12430" y="4"/>
                      <a:pt x="12431" y="3"/>
                      <a:pt x="12432" y="3"/>
                    </a:cubicBezTo>
                    <a:close/>
                    <a:moveTo>
                      <a:pt x="12440" y="3"/>
                    </a:moveTo>
                    <a:lnTo>
                      <a:pt x="12440" y="3"/>
                    </a:lnTo>
                    <a:cubicBezTo>
                      <a:pt x="12442" y="3"/>
                      <a:pt x="12442" y="4"/>
                      <a:pt x="12442" y="5"/>
                    </a:cubicBezTo>
                    <a:cubicBezTo>
                      <a:pt x="12442" y="6"/>
                      <a:pt x="12442" y="7"/>
                      <a:pt x="12440" y="7"/>
                    </a:cubicBezTo>
                    <a:lnTo>
                      <a:pt x="12440" y="7"/>
                    </a:lnTo>
                    <a:cubicBezTo>
                      <a:pt x="12439" y="7"/>
                      <a:pt x="12438" y="6"/>
                      <a:pt x="12438" y="5"/>
                    </a:cubicBezTo>
                    <a:cubicBezTo>
                      <a:pt x="12438" y="4"/>
                      <a:pt x="12439" y="3"/>
                      <a:pt x="12440" y="3"/>
                    </a:cubicBezTo>
                    <a:close/>
                    <a:moveTo>
                      <a:pt x="12448" y="3"/>
                    </a:moveTo>
                    <a:lnTo>
                      <a:pt x="12448" y="3"/>
                    </a:lnTo>
                    <a:cubicBezTo>
                      <a:pt x="12450" y="3"/>
                      <a:pt x="12450" y="4"/>
                      <a:pt x="12450" y="5"/>
                    </a:cubicBezTo>
                    <a:cubicBezTo>
                      <a:pt x="12450" y="6"/>
                      <a:pt x="12450" y="7"/>
                      <a:pt x="12448" y="7"/>
                    </a:cubicBezTo>
                    <a:lnTo>
                      <a:pt x="12448" y="7"/>
                    </a:lnTo>
                    <a:cubicBezTo>
                      <a:pt x="12447" y="7"/>
                      <a:pt x="12446" y="6"/>
                      <a:pt x="12446" y="5"/>
                    </a:cubicBezTo>
                    <a:cubicBezTo>
                      <a:pt x="12446" y="4"/>
                      <a:pt x="12447" y="3"/>
                      <a:pt x="12448" y="3"/>
                    </a:cubicBezTo>
                    <a:close/>
                    <a:moveTo>
                      <a:pt x="12456" y="3"/>
                    </a:moveTo>
                    <a:lnTo>
                      <a:pt x="12456" y="3"/>
                    </a:lnTo>
                    <a:cubicBezTo>
                      <a:pt x="12458" y="3"/>
                      <a:pt x="12458" y="4"/>
                      <a:pt x="12458" y="5"/>
                    </a:cubicBezTo>
                    <a:cubicBezTo>
                      <a:pt x="12458" y="6"/>
                      <a:pt x="12458" y="7"/>
                      <a:pt x="12456" y="7"/>
                    </a:cubicBezTo>
                    <a:lnTo>
                      <a:pt x="12456" y="7"/>
                    </a:lnTo>
                    <a:cubicBezTo>
                      <a:pt x="12455" y="7"/>
                      <a:pt x="12454" y="6"/>
                      <a:pt x="12454" y="5"/>
                    </a:cubicBezTo>
                    <a:cubicBezTo>
                      <a:pt x="12454" y="4"/>
                      <a:pt x="12455" y="3"/>
                      <a:pt x="12456" y="3"/>
                    </a:cubicBezTo>
                    <a:close/>
                    <a:moveTo>
                      <a:pt x="12464" y="3"/>
                    </a:moveTo>
                    <a:lnTo>
                      <a:pt x="12464" y="3"/>
                    </a:lnTo>
                    <a:cubicBezTo>
                      <a:pt x="12466" y="3"/>
                      <a:pt x="12466" y="4"/>
                      <a:pt x="12466" y="5"/>
                    </a:cubicBezTo>
                    <a:cubicBezTo>
                      <a:pt x="12466" y="6"/>
                      <a:pt x="12466" y="7"/>
                      <a:pt x="12464" y="7"/>
                    </a:cubicBezTo>
                    <a:lnTo>
                      <a:pt x="12464" y="7"/>
                    </a:lnTo>
                    <a:cubicBezTo>
                      <a:pt x="12463" y="7"/>
                      <a:pt x="12462" y="6"/>
                      <a:pt x="12462" y="5"/>
                    </a:cubicBezTo>
                    <a:cubicBezTo>
                      <a:pt x="12462" y="4"/>
                      <a:pt x="12463" y="3"/>
                      <a:pt x="12464" y="3"/>
                    </a:cubicBezTo>
                    <a:close/>
                    <a:moveTo>
                      <a:pt x="12472" y="3"/>
                    </a:moveTo>
                    <a:lnTo>
                      <a:pt x="12472" y="3"/>
                    </a:lnTo>
                    <a:cubicBezTo>
                      <a:pt x="12474" y="3"/>
                      <a:pt x="12474" y="4"/>
                      <a:pt x="12474" y="5"/>
                    </a:cubicBezTo>
                    <a:cubicBezTo>
                      <a:pt x="12474" y="6"/>
                      <a:pt x="12474" y="7"/>
                      <a:pt x="12472" y="7"/>
                    </a:cubicBezTo>
                    <a:lnTo>
                      <a:pt x="12472" y="7"/>
                    </a:lnTo>
                    <a:cubicBezTo>
                      <a:pt x="12471" y="7"/>
                      <a:pt x="12470" y="6"/>
                      <a:pt x="12470" y="5"/>
                    </a:cubicBezTo>
                    <a:cubicBezTo>
                      <a:pt x="12470" y="4"/>
                      <a:pt x="12471" y="3"/>
                      <a:pt x="12472" y="3"/>
                    </a:cubicBezTo>
                    <a:close/>
                    <a:moveTo>
                      <a:pt x="12480" y="3"/>
                    </a:moveTo>
                    <a:lnTo>
                      <a:pt x="12480" y="3"/>
                    </a:lnTo>
                    <a:cubicBezTo>
                      <a:pt x="12482" y="3"/>
                      <a:pt x="12482" y="4"/>
                      <a:pt x="12482" y="5"/>
                    </a:cubicBezTo>
                    <a:cubicBezTo>
                      <a:pt x="12482" y="6"/>
                      <a:pt x="12482" y="7"/>
                      <a:pt x="12480" y="7"/>
                    </a:cubicBezTo>
                    <a:lnTo>
                      <a:pt x="12480" y="7"/>
                    </a:lnTo>
                    <a:cubicBezTo>
                      <a:pt x="12479" y="7"/>
                      <a:pt x="12478" y="6"/>
                      <a:pt x="12478" y="5"/>
                    </a:cubicBezTo>
                    <a:cubicBezTo>
                      <a:pt x="12478" y="4"/>
                      <a:pt x="12479" y="3"/>
                      <a:pt x="12480" y="3"/>
                    </a:cubicBezTo>
                    <a:close/>
                    <a:moveTo>
                      <a:pt x="12488" y="3"/>
                    </a:moveTo>
                    <a:lnTo>
                      <a:pt x="12488" y="3"/>
                    </a:lnTo>
                    <a:cubicBezTo>
                      <a:pt x="12490" y="3"/>
                      <a:pt x="12490" y="4"/>
                      <a:pt x="12490" y="5"/>
                    </a:cubicBezTo>
                    <a:cubicBezTo>
                      <a:pt x="12490" y="6"/>
                      <a:pt x="12490" y="7"/>
                      <a:pt x="12488" y="7"/>
                    </a:cubicBezTo>
                    <a:lnTo>
                      <a:pt x="12488" y="7"/>
                    </a:lnTo>
                    <a:cubicBezTo>
                      <a:pt x="12487" y="7"/>
                      <a:pt x="12486" y="6"/>
                      <a:pt x="12486" y="5"/>
                    </a:cubicBezTo>
                    <a:cubicBezTo>
                      <a:pt x="12486" y="4"/>
                      <a:pt x="12487" y="3"/>
                      <a:pt x="12488" y="3"/>
                    </a:cubicBezTo>
                    <a:close/>
                    <a:moveTo>
                      <a:pt x="12496" y="3"/>
                    </a:moveTo>
                    <a:lnTo>
                      <a:pt x="12496" y="3"/>
                    </a:lnTo>
                    <a:cubicBezTo>
                      <a:pt x="12498" y="3"/>
                      <a:pt x="12498" y="4"/>
                      <a:pt x="12498" y="5"/>
                    </a:cubicBezTo>
                    <a:cubicBezTo>
                      <a:pt x="12498" y="6"/>
                      <a:pt x="12498" y="7"/>
                      <a:pt x="12496" y="7"/>
                    </a:cubicBezTo>
                    <a:lnTo>
                      <a:pt x="12496" y="7"/>
                    </a:lnTo>
                    <a:cubicBezTo>
                      <a:pt x="12495" y="7"/>
                      <a:pt x="12494" y="6"/>
                      <a:pt x="12494" y="5"/>
                    </a:cubicBezTo>
                    <a:cubicBezTo>
                      <a:pt x="12494" y="4"/>
                      <a:pt x="12495" y="3"/>
                      <a:pt x="12496" y="3"/>
                    </a:cubicBezTo>
                    <a:close/>
                    <a:moveTo>
                      <a:pt x="12504" y="3"/>
                    </a:moveTo>
                    <a:lnTo>
                      <a:pt x="12504" y="3"/>
                    </a:lnTo>
                    <a:cubicBezTo>
                      <a:pt x="12506" y="3"/>
                      <a:pt x="12506" y="4"/>
                      <a:pt x="12506" y="5"/>
                    </a:cubicBezTo>
                    <a:cubicBezTo>
                      <a:pt x="12506" y="6"/>
                      <a:pt x="12506" y="7"/>
                      <a:pt x="12504" y="7"/>
                    </a:cubicBezTo>
                    <a:lnTo>
                      <a:pt x="12504" y="7"/>
                    </a:lnTo>
                    <a:cubicBezTo>
                      <a:pt x="12503" y="7"/>
                      <a:pt x="12502" y="6"/>
                      <a:pt x="12502" y="5"/>
                    </a:cubicBezTo>
                    <a:cubicBezTo>
                      <a:pt x="12502" y="4"/>
                      <a:pt x="12503" y="3"/>
                      <a:pt x="12504" y="3"/>
                    </a:cubicBezTo>
                    <a:close/>
                    <a:moveTo>
                      <a:pt x="12512" y="3"/>
                    </a:moveTo>
                    <a:lnTo>
                      <a:pt x="12512" y="3"/>
                    </a:lnTo>
                    <a:cubicBezTo>
                      <a:pt x="12514" y="3"/>
                      <a:pt x="12514" y="4"/>
                      <a:pt x="12514" y="5"/>
                    </a:cubicBezTo>
                    <a:cubicBezTo>
                      <a:pt x="12514" y="6"/>
                      <a:pt x="12514" y="7"/>
                      <a:pt x="12512" y="7"/>
                    </a:cubicBezTo>
                    <a:lnTo>
                      <a:pt x="12512" y="7"/>
                    </a:lnTo>
                    <a:cubicBezTo>
                      <a:pt x="12511" y="7"/>
                      <a:pt x="12510" y="6"/>
                      <a:pt x="12510" y="5"/>
                    </a:cubicBezTo>
                    <a:cubicBezTo>
                      <a:pt x="12510" y="4"/>
                      <a:pt x="12511" y="3"/>
                      <a:pt x="12512" y="3"/>
                    </a:cubicBezTo>
                    <a:close/>
                    <a:moveTo>
                      <a:pt x="12520" y="3"/>
                    </a:moveTo>
                    <a:lnTo>
                      <a:pt x="12520" y="3"/>
                    </a:lnTo>
                    <a:cubicBezTo>
                      <a:pt x="12522" y="3"/>
                      <a:pt x="12522" y="4"/>
                      <a:pt x="12522" y="5"/>
                    </a:cubicBezTo>
                    <a:cubicBezTo>
                      <a:pt x="12522" y="6"/>
                      <a:pt x="12522" y="7"/>
                      <a:pt x="12520" y="7"/>
                    </a:cubicBezTo>
                    <a:lnTo>
                      <a:pt x="12520" y="7"/>
                    </a:lnTo>
                    <a:cubicBezTo>
                      <a:pt x="12519" y="7"/>
                      <a:pt x="12518" y="6"/>
                      <a:pt x="12518" y="5"/>
                    </a:cubicBezTo>
                    <a:cubicBezTo>
                      <a:pt x="12518" y="4"/>
                      <a:pt x="12519" y="3"/>
                      <a:pt x="12520" y="3"/>
                    </a:cubicBezTo>
                    <a:close/>
                    <a:moveTo>
                      <a:pt x="12528" y="3"/>
                    </a:moveTo>
                    <a:lnTo>
                      <a:pt x="12528" y="3"/>
                    </a:lnTo>
                    <a:cubicBezTo>
                      <a:pt x="12530" y="3"/>
                      <a:pt x="12530" y="4"/>
                      <a:pt x="12530" y="5"/>
                    </a:cubicBezTo>
                    <a:cubicBezTo>
                      <a:pt x="12530" y="6"/>
                      <a:pt x="12530" y="7"/>
                      <a:pt x="12528" y="7"/>
                    </a:cubicBezTo>
                    <a:lnTo>
                      <a:pt x="12528" y="7"/>
                    </a:lnTo>
                    <a:cubicBezTo>
                      <a:pt x="12527" y="7"/>
                      <a:pt x="12526" y="6"/>
                      <a:pt x="12526" y="5"/>
                    </a:cubicBezTo>
                    <a:cubicBezTo>
                      <a:pt x="12526" y="4"/>
                      <a:pt x="12527" y="3"/>
                      <a:pt x="12528" y="3"/>
                    </a:cubicBezTo>
                    <a:close/>
                    <a:moveTo>
                      <a:pt x="12536" y="3"/>
                    </a:moveTo>
                    <a:lnTo>
                      <a:pt x="12536" y="3"/>
                    </a:lnTo>
                    <a:cubicBezTo>
                      <a:pt x="12538" y="3"/>
                      <a:pt x="12538" y="4"/>
                      <a:pt x="12538" y="5"/>
                    </a:cubicBezTo>
                    <a:cubicBezTo>
                      <a:pt x="12538" y="6"/>
                      <a:pt x="12538" y="7"/>
                      <a:pt x="12536" y="7"/>
                    </a:cubicBezTo>
                    <a:lnTo>
                      <a:pt x="12536" y="7"/>
                    </a:lnTo>
                    <a:cubicBezTo>
                      <a:pt x="12535" y="7"/>
                      <a:pt x="12534" y="6"/>
                      <a:pt x="12534" y="5"/>
                    </a:cubicBezTo>
                    <a:cubicBezTo>
                      <a:pt x="12534" y="4"/>
                      <a:pt x="12535" y="3"/>
                      <a:pt x="12536" y="3"/>
                    </a:cubicBezTo>
                    <a:close/>
                    <a:moveTo>
                      <a:pt x="12544" y="3"/>
                    </a:moveTo>
                    <a:lnTo>
                      <a:pt x="12544" y="3"/>
                    </a:lnTo>
                    <a:cubicBezTo>
                      <a:pt x="12546" y="3"/>
                      <a:pt x="12546" y="4"/>
                      <a:pt x="12546" y="5"/>
                    </a:cubicBezTo>
                    <a:cubicBezTo>
                      <a:pt x="12546" y="6"/>
                      <a:pt x="12546" y="7"/>
                      <a:pt x="12544" y="7"/>
                    </a:cubicBezTo>
                    <a:lnTo>
                      <a:pt x="12544" y="7"/>
                    </a:lnTo>
                    <a:cubicBezTo>
                      <a:pt x="12543" y="7"/>
                      <a:pt x="12542" y="6"/>
                      <a:pt x="12542" y="5"/>
                    </a:cubicBezTo>
                    <a:cubicBezTo>
                      <a:pt x="12542" y="4"/>
                      <a:pt x="12543" y="3"/>
                      <a:pt x="12544" y="3"/>
                    </a:cubicBezTo>
                    <a:close/>
                    <a:moveTo>
                      <a:pt x="12552" y="3"/>
                    </a:moveTo>
                    <a:lnTo>
                      <a:pt x="12552" y="3"/>
                    </a:lnTo>
                    <a:cubicBezTo>
                      <a:pt x="12554" y="3"/>
                      <a:pt x="12554" y="4"/>
                      <a:pt x="12554" y="5"/>
                    </a:cubicBezTo>
                    <a:cubicBezTo>
                      <a:pt x="12554" y="6"/>
                      <a:pt x="12554" y="7"/>
                      <a:pt x="12552" y="7"/>
                    </a:cubicBezTo>
                    <a:lnTo>
                      <a:pt x="12552" y="7"/>
                    </a:lnTo>
                    <a:cubicBezTo>
                      <a:pt x="12551" y="7"/>
                      <a:pt x="12550" y="6"/>
                      <a:pt x="12550" y="5"/>
                    </a:cubicBezTo>
                    <a:cubicBezTo>
                      <a:pt x="12550" y="4"/>
                      <a:pt x="12551" y="3"/>
                      <a:pt x="12552" y="3"/>
                    </a:cubicBezTo>
                    <a:close/>
                    <a:moveTo>
                      <a:pt x="12560" y="3"/>
                    </a:moveTo>
                    <a:lnTo>
                      <a:pt x="12560" y="3"/>
                    </a:lnTo>
                    <a:cubicBezTo>
                      <a:pt x="12562" y="3"/>
                      <a:pt x="12562" y="4"/>
                      <a:pt x="12562" y="5"/>
                    </a:cubicBezTo>
                    <a:cubicBezTo>
                      <a:pt x="12562" y="6"/>
                      <a:pt x="12562" y="7"/>
                      <a:pt x="12560" y="7"/>
                    </a:cubicBezTo>
                    <a:lnTo>
                      <a:pt x="12560" y="7"/>
                    </a:lnTo>
                    <a:cubicBezTo>
                      <a:pt x="12559" y="7"/>
                      <a:pt x="12558" y="6"/>
                      <a:pt x="12558" y="5"/>
                    </a:cubicBezTo>
                    <a:cubicBezTo>
                      <a:pt x="12558" y="4"/>
                      <a:pt x="12559" y="3"/>
                      <a:pt x="12560" y="3"/>
                    </a:cubicBezTo>
                    <a:close/>
                    <a:moveTo>
                      <a:pt x="12568" y="3"/>
                    </a:moveTo>
                    <a:lnTo>
                      <a:pt x="12568" y="3"/>
                    </a:lnTo>
                    <a:cubicBezTo>
                      <a:pt x="12570" y="3"/>
                      <a:pt x="12570" y="4"/>
                      <a:pt x="12570" y="5"/>
                    </a:cubicBezTo>
                    <a:cubicBezTo>
                      <a:pt x="12570" y="6"/>
                      <a:pt x="12570" y="7"/>
                      <a:pt x="12568" y="7"/>
                    </a:cubicBezTo>
                    <a:lnTo>
                      <a:pt x="12568" y="7"/>
                    </a:lnTo>
                    <a:cubicBezTo>
                      <a:pt x="12567" y="7"/>
                      <a:pt x="12566" y="6"/>
                      <a:pt x="12566" y="5"/>
                    </a:cubicBezTo>
                    <a:cubicBezTo>
                      <a:pt x="12566" y="4"/>
                      <a:pt x="12567" y="3"/>
                      <a:pt x="12568" y="3"/>
                    </a:cubicBezTo>
                    <a:close/>
                    <a:moveTo>
                      <a:pt x="12576" y="3"/>
                    </a:moveTo>
                    <a:lnTo>
                      <a:pt x="12576" y="3"/>
                    </a:lnTo>
                    <a:cubicBezTo>
                      <a:pt x="12578" y="3"/>
                      <a:pt x="12578" y="4"/>
                      <a:pt x="12578" y="5"/>
                    </a:cubicBezTo>
                    <a:cubicBezTo>
                      <a:pt x="12578" y="6"/>
                      <a:pt x="12578" y="7"/>
                      <a:pt x="12576" y="7"/>
                    </a:cubicBezTo>
                    <a:lnTo>
                      <a:pt x="12576" y="7"/>
                    </a:lnTo>
                    <a:cubicBezTo>
                      <a:pt x="12575" y="7"/>
                      <a:pt x="12574" y="6"/>
                      <a:pt x="12574" y="5"/>
                    </a:cubicBezTo>
                    <a:cubicBezTo>
                      <a:pt x="12574" y="4"/>
                      <a:pt x="12575" y="3"/>
                      <a:pt x="12576" y="3"/>
                    </a:cubicBezTo>
                    <a:close/>
                    <a:moveTo>
                      <a:pt x="12584" y="3"/>
                    </a:moveTo>
                    <a:lnTo>
                      <a:pt x="12584" y="3"/>
                    </a:lnTo>
                    <a:cubicBezTo>
                      <a:pt x="12586" y="3"/>
                      <a:pt x="12586" y="4"/>
                      <a:pt x="12586" y="5"/>
                    </a:cubicBezTo>
                    <a:cubicBezTo>
                      <a:pt x="12586" y="6"/>
                      <a:pt x="12586" y="7"/>
                      <a:pt x="12584" y="7"/>
                    </a:cubicBezTo>
                    <a:lnTo>
                      <a:pt x="12584" y="7"/>
                    </a:lnTo>
                    <a:cubicBezTo>
                      <a:pt x="12583" y="7"/>
                      <a:pt x="12582" y="6"/>
                      <a:pt x="12582" y="5"/>
                    </a:cubicBezTo>
                    <a:cubicBezTo>
                      <a:pt x="12582" y="4"/>
                      <a:pt x="12583" y="3"/>
                      <a:pt x="12584" y="3"/>
                    </a:cubicBezTo>
                    <a:close/>
                    <a:moveTo>
                      <a:pt x="12592" y="3"/>
                    </a:moveTo>
                    <a:lnTo>
                      <a:pt x="12592" y="3"/>
                    </a:lnTo>
                    <a:cubicBezTo>
                      <a:pt x="12594" y="3"/>
                      <a:pt x="12594" y="4"/>
                      <a:pt x="12594" y="5"/>
                    </a:cubicBezTo>
                    <a:cubicBezTo>
                      <a:pt x="12594" y="6"/>
                      <a:pt x="12594" y="7"/>
                      <a:pt x="12592" y="7"/>
                    </a:cubicBezTo>
                    <a:lnTo>
                      <a:pt x="12592" y="7"/>
                    </a:lnTo>
                    <a:cubicBezTo>
                      <a:pt x="12591" y="7"/>
                      <a:pt x="12590" y="6"/>
                      <a:pt x="12590" y="5"/>
                    </a:cubicBezTo>
                    <a:cubicBezTo>
                      <a:pt x="12590" y="4"/>
                      <a:pt x="12591" y="3"/>
                      <a:pt x="12592" y="3"/>
                    </a:cubicBezTo>
                    <a:close/>
                    <a:moveTo>
                      <a:pt x="12600" y="3"/>
                    </a:moveTo>
                    <a:lnTo>
                      <a:pt x="12601" y="3"/>
                    </a:lnTo>
                    <a:cubicBezTo>
                      <a:pt x="12602" y="3"/>
                      <a:pt x="12603" y="4"/>
                      <a:pt x="12603" y="5"/>
                    </a:cubicBezTo>
                    <a:cubicBezTo>
                      <a:pt x="12603" y="6"/>
                      <a:pt x="12602" y="7"/>
                      <a:pt x="12601" y="7"/>
                    </a:cubicBezTo>
                    <a:lnTo>
                      <a:pt x="12600" y="7"/>
                    </a:lnTo>
                    <a:cubicBezTo>
                      <a:pt x="12599" y="7"/>
                      <a:pt x="12598" y="6"/>
                      <a:pt x="12598" y="5"/>
                    </a:cubicBezTo>
                    <a:cubicBezTo>
                      <a:pt x="12598" y="4"/>
                      <a:pt x="12599" y="3"/>
                      <a:pt x="12600" y="3"/>
                    </a:cubicBezTo>
                    <a:close/>
                    <a:moveTo>
                      <a:pt x="12609" y="3"/>
                    </a:moveTo>
                    <a:lnTo>
                      <a:pt x="12609" y="3"/>
                    </a:lnTo>
                    <a:cubicBezTo>
                      <a:pt x="12610" y="3"/>
                      <a:pt x="12611" y="4"/>
                      <a:pt x="12611" y="5"/>
                    </a:cubicBezTo>
                    <a:cubicBezTo>
                      <a:pt x="12611" y="6"/>
                      <a:pt x="12610" y="7"/>
                      <a:pt x="12609" y="7"/>
                    </a:cubicBezTo>
                    <a:lnTo>
                      <a:pt x="12609" y="7"/>
                    </a:lnTo>
                    <a:cubicBezTo>
                      <a:pt x="12607" y="7"/>
                      <a:pt x="12607" y="6"/>
                      <a:pt x="12607" y="5"/>
                    </a:cubicBezTo>
                    <a:cubicBezTo>
                      <a:pt x="12607" y="4"/>
                      <a:pt x="12607" y="3"/>
                      <a:pt x="12609" y="3"/>
                    </a:cubicBezTo>
                    <a:close/>
                    <a:moveTo>
                      <a:pt x="12617" y="3"/>
                    </a:moveTo>
                    <a:lnTo>
                      <a:pt x="12617" y="3"/>
                    </a:lnTo>
                    <a:cubicBezTo>
                      <a:pt x="12618" y="3"/>
                      <a:pt x="12619" y="4"/>
                      <a:pt x="12619" y="5"/>
                    </a:cubicBezTo>
                    <a:cubicBezTo>
                      <a:pt x="12619" y="6"/>
                      <a:pt x="12618" y="7"/>
                      <a:pt x="12617" y="7"/>
                    </a:cubicBezTo>
                    <a:lnTo>
                      <a:pt x="12617" y="7"/>
                    </a:lnTo>
                    <a:cubicBezTo>
                      <a:pt x="12615" y="7"/>
                      <a:pt x="12615" y="6"/>
                      <a:pt x="12615" y="5"/>
                    </a:cubicBezTo>
                    <a:cubicBezTo>
                      <a:pt x="12615" y="4"/>
                      <a:pt x="12615" y="3"/>
                      <a:pt x="12617" y="3"/>
                    </a:cubicBezTo>
                    <a:close/>
                    <a:moveTo>
                      <a:pt x="12625" y="3"/>
                    </a:moveTo>
                    <a:lnTo>
                      <a:pt x="12625" y="3"/>
                    </a:lnTo>
                    <a:cubicBezTo>
                      <a:pt x="12626" y="3"/>
                      <a:pt x="12627" y="4"/>
                      <a:pt x="12627" y="5"/>
                    </a:cubicBezTo>
                    <a:cubicBezTo>
                      <a:pt x="12627" y="6"/>
                      <a:pt x="12626" y="7"/>
                      <a:pt x="12625" y="7"/>
                    </a:cubicBezTo>
                    <a:lnTo>
                      <a:pt x="12625" y="7"/>
                    </a:lnTo>
                    <a:cubicBezTo>
                      <a:pt x="12623" y="7"/>
                      <a:pt x="12623" y="6"/>
                      <a:pt x="12623" y="5"/>
                    </a:cubicBezTo>
                    <a:cubicBezTo>
                      <a:pt x="12623" y="4"/>
                      <a:pt x="12623" y="3"/>
                      <a:pt x="12625" y="3"/>
                    </a:cubicBezTo>
                    <a:close/>
                    <a:moveTo>
                      <a:pt x="12633" y="3"/>
                    </a:moveTo>
                    <a:lnTo>
                      <a:pt x="12633" y="3"/>
                    </a:lnTo>
                    <a:cubicBezTo>
                      <a:pt x="12634" y="3"/>
                      <a:pt x="12635" y="4"/>
                      <a:pt x="12635" y="5"/>
                    </a:cubicBezTo>
                    <a:cubicBezTo>
                      <a:pt x="12635" y="6"/>
                      <a:pt x="12634" y="7"/>
                      <a:pt x="12633" y="7"/>
                    </a:cubicBezTo>
                    <a:lnTo>
                      <a:pt x="12633" y="7"/>
                    </a:lnTo>
                    <a:cubicBezTo>
                      <a:pt x="12631" y="7"/>
                      <a:pt x="12631" y="6"/>
                      <a:pt x="12631" y="5"/>
                    </a:cubicBezTo>
                    <a:cubicBezTo>
                      <a:pt x="12631" y="4"/>
                      <a:pt x="12631" y="3"/>
                      <a:pt x="12633" y="3"/>
                    </a:cubicBezTo>
                    <a:close/>
                    <a:moveTo>
                      <a:pt x="12641" y="3"/>
                    </a:moveTo>
                    <a:lnTo>
                      <a:pt x="12641" y="3"/>
                    </a:lnTo>
                    <a:cubicBezTo>
                      <a:pt x="12642" y="3"/>
                      <a:pt x="12643" y="4"/>
                      <a:pt x="12643" y="5"/>
                    </a:cubicBezTo>
                    <a:cubicBezTo>
                      <a:pt x="12643" y="6"/>
                      <a:pt x="12642" y="7"/>
                      <a:pt x="12641" y="7"/>
                    </a:cubicBezTo>
                    <a:lnTo>
                      <a:pt x="12641" y="7"/>
                    </a:lnTo>
                    <a:cubicBezTo>
                      <a:pt x="12639" y="7"/>
                      <a:pt x="12639" y="6"/>
                      <a:pt x="12639" y="5"/>
                    </a:cubicBezTo>
                    <a:cubicBezTo>
                      <a:pt x="12639" y="4"/>
                      <a:pt x="12639" y="3"/>
                      <a:pt x="12641" y="3"/>
                    </a:cubicBezTo>
                    <a:close/>
                    <a:moveTo>
                      <a:pt x="12649" y="3"/>
                    </a:moveTo>
                    <a:lnTo>
                      <a:pt x="12649" y="3"/>
                    </a:lnTo>
                    <a:cubicBezTo>
                      <a:pt x="12650" y="3"/>
                      <a:pt x="12651" y="4"/>
                      <a:pt x="12651" y="5"/>
                    </a:cubicBezTo>
                    <a:cubicBezTo>
                      <a:pt x="12651" y="6"/>
                      <a:pt x="12650" y="7"/>
                      <a:pt x="12649" y="7"/>
                    </a:cubicBezTo>
                    <a:lnTo>
                      <a:pt x="12649" y="7"/>
                    </a:lnTo>
                    <a:cubicBezTo>
                      <a:pt x="12647" y="7"/>
                      <a:pt x="12647" y="6"/>
                      <a:pt x="12647" y="5"/>
                    </a:cubicBezTo>
                    <a:cubicBezTo>
                      <a:pt x="12647" y="4"/>
                      <a:pt x="12647" y="3"/>
                      <a:pt x="12649" y="3"/>
                    </a:cubicBezTo>
                    <a:close/>
                    <a:moveTo>
                      <a:pt x="12657" y="3"/>
                    </a:moveTo>
                    <a:lnTo>
                      <a:pt x="12657" y="3"/>
                    </a:lnTo>
                    <a:cubicBezTo>
                      <a:pt x="12658" y="3"/>
                      <a:pt x="12659" y="4"/>
                      <a:pt x="12659" y="5"/>
                    </a:cubicBezTo>
                    <a:cubicBezTo>
                      <a:pt x="12659" y="6"/>
                      <a:pt x="12658" y="7"/>
                      <a:pt x="12657" y="7"/>
                    </a:cubicBezTo>
                    <a:lnTo>
                      <a:pt x="12657" y="7"/>
                    </a:lnTo>
                    <a:cubicBezTo>
                      <a:pt x="12655" y="7"/>
                      <a:pt x="12655" y="6"/>
                      <a:pt x="12655" y="5"/>
                    </a:cubicBezTo>
                    <a:cubicBezTo>
                      <a:pt x="12655" y="4"/>
                      <a:pt x="12655" y="3"/>
                      <a:pt x="12657" y="3"/>
                    </a:cubicBezTo>
                    <a:close/>
                    <a:moveTo>
                      <a:pt x="12665" y="3"/>
                    </a:moveTo>
                    <a:lnTo>
                      <a:pt x="12665" y="3"/>
                    </a:lnTo>
                    <a:cubicBezTo>
                      <a:pt x="12666" y="3"/>
                      <a:pt x="12667" y="4"/>
                      <a:pt x="12667" y="5"/>
                    </a:cubicBezTo>
                    <a:cubicBezTo>
                      <a:pt x="12667" y="6"/>
                      <a:pt x="12666" y="7"/>
                      <a:pt x="12665" y="7"/>
                    </a:cubicBezTo>
                    <a:lnTo>
                      <a:pt x="12665" y="7"/>
                    </a:lnTo>
                    <a:cubicBezTo>
                      <a:pt x="12663" y="7"/>
                      <a:pt x="12663" y="6"/>
                      <a:pt x="12663" y="5"/>
                    </a:cubicBezTo>
                    <a:cubicBezTo>
                      <a:pt x="12663" y="4"/>
                      <a:pt x="12663" y="3"/>
                      <a:pt x="12665" y="3"/>
                    </a:cubicBezTo>
                    <a:close/>
                    <a:moveTo>
                      <a:pt x="12673" y="3"/>
                    </a:moveTo>
                    <a:lnTo>
                      <a:pt x="12673" y="3"/>
                    </a:lnTo>
                    <a:cubicBezTo>
                      <a:pt x="12674" y="3"/>
                      <a:pt x="12675" y="4"/>
                      <a:pt x="12675" y="5"/>
                    </a:cubicBezTo>
                    <a:cubicBezTo>
                      <a:pt x="12675" y="6"/>
                      <a:pt x="12674" y="7"/>
                      <a:pt x="12673" y="7"/>
                    </a:cubicBezTo>
                    <a:lnTo>
                      <a:pt x="12673" y="7"/>
                    </a:lnTo>
                    <a:cubicBezTo>
                      <a:pt x="12671" y="7"/>
                      <a:pt x="12671" y="6"/>
                      <a:pt x="12671" y="5"/>
                    </a:cubicBezTo>
                    <a:cubicBezTo>
                      <a:pt x="12671" y="4"/>
                      <a:pt x="12671" y="3"/>
                      <a:pt x="12673" y="3"/>
                    </a:cubicBezTo>
                    <a:close/>
                    <a:moveTo>
                      <a:pt x="12681" y="3"/>
                    </a:moveTo>
                    <a:lnTo>
                      <a:pt x="12681" y="3"/>
                    </a:lnTo>
                    <a:cubicBezTo>
                      <a:pt x="12682" y="3"/>
                      <a:pt x="12683" y="4"/>
                      <a:pt x="12683" y="5"/>
                    </a:cubicBezTo>
                    <a:cubicBezTo>
                      <a:pt x="12683" y="6"/>
                      <a:pt x="12682" y="7"/>
                      <a:pt x="12681" y="7"/>
                    </a:cubicBezTo>
                    <a:lnTo>
                      <a:pt x="12681" y="7"/>
                    </a:lnTo>
                    <a:cubicBezTo>
                      <a:pt x="12679" y="7"/>
                      <a:pt x="12679" y="6"/>
                      <a:pt x="12679" y="5"/>
                    </a:cubicBezTo>
                    <a:cubicBezTo>
                      <a:pt x="12679" y="4"/>
                      <a:pt x="12679" y="3"/>
                      <a:pt x="12681" y="3"/>
                    </a:cubicBezTo>
                    <a:close/>
                    <a:moveTo>
                      <a:pt x="12689" y="3"/>
                    </a:moveTo>
                    <a:lnTo>
                      <a:pt x="12689" y="3"/>
                    </a:lnTo>
                    <a:cubicBezTo>
                      <a:pt x="12690" y="3"/>
                      <a:pt x="12691" y="4"/>
                      <a:pt x="12691" y="5"/>
                    </a:cubicBezTo>
                    <a:cubicBezTo>
                      <a:pt x="12691" y="6"/>
                      <a:pt x="12690" y="7"/>
                      <a:pt x="12689" y="7"/>
                    </a:cubicBezTo>
                    <a:lnTo>
                      <a:pt x="12689" y="7"/>
                    </a:lnTo>
                    <a:cubicBezTo>
                      <a:pt x="12687" y="7"/>
                      <a:pt x="12687" y="6"/>
                      <a:pt x="12687" y="5"/>
                    </a:cubicBezTo>
                    <a:cubicBezTo>
                      <a:pt x="12687" y="4"/>
                      <a:pt x="12687" y="3"/>
                      <a:pt x="12689" y="3"/>
                    </a:cubicBezTo>
                    <a:close/>
                    <a:moveTo>
                      <a:pt x="12697" y="3"/>
                    </a:moveTo>
                    <a:lnTo>
                      <a:pt x="12697" y="3"/>
                    </a:lnTo>
                    <a:cubicBezTo>
                      <a:pt x="12698" y="3"/>
                      <a:pt x="12699" y="4"/>
                      <a:pt x="12699" y="5"/>
                    </a:cubicBezTo>
                    <a:cubicBezTo>
                      <a:pt x="12699" y="6"/>
                      <a:pt x="12698" y="7"/>
                      <a:pt x="12697" y="7"/>
                    </a:cubicBezTo>
                    <a:lnTo>
                      <a:pt x="12697" y="7"/>
                    </a:lnTo>
                    <a:cubicBezTo>
                      <a:pt x="12695" y="7"/>
                      <a:pt x="12695" y="6"/>
                      <a:pt x="12695" y="5"/>
                    </a:cubicBezTo>
                    <a:cubicBezTo>
                      <a:pt x="12695" y="4"/>
                      <a:pt x="12695" y="3"/>
                      <a:pt x="12697" y="3"/>
                    </a:cubicBezTo>
                    <a:close/>
                    <a:moveTo>
                      <a:pt x="12705" y="3"/>
                    </a:moveTo>
                    <a:lnTo>
                      <a:pt x="12705" y="3"/>
                    </a:lnTo>
                    <a:cubicBezTo>
                      <a:pt x="12706" y="3"/>
                      <a:pt x="12707" y="4"/>
                      <a:pt x="12707" y="5"/>
                    </a:cubicBezTo>
                    <a:cubicBezTo>
                      <a:pt x="12707" y="6"/>
                      <a:pt x="12706" y="7"/>
                      <a:pt x="12705" y="7"/>
                    </a:cubicBezTo>
                    <a:lnTo>
                      <a:pt x="12705" y="7"/>
                    </a:lnTo>
                    <a:cubicBezTo>
                      <a:pt x="12703" y="7"/>
                      <a:pt x="12703" y="6"/>
                      <a:pt x="12703" y="5"/>
                    </a:cubicBezTo>
                    <a:cubicBezTo>
                      <a:pt x="12703" y="4"/>
                      <a:pt x="12703" y="3"/>
                      <a:pt x="12705" y="3"/>
                    </a:cubicBezTo>
                    <a:close/>
                    <a:moveTo>
                      <a:pt x="12713" y="3"/>
                    </a:moveTo>
                    <a:lnTo>
                      <a:pt x="12713" y="3"/>
                    </a:lnTo>
                    <a:cubicBezTo>
                      <a:pt x="12714" y="3"/>
                      <a:pt x="12715" y="4"/>
                      <a:pt x="12715" y="5"/>
                    </a:cubicBezTo>
                    <a:cubicBezTo>
                      <a:pt x="12715" y="6"/>
                      <a:pt x="12714" y="7"/>
                      <a:pt x="12713" y="7"/>
                    </a:cubicBezTo>
                    <a:lnTo>
                      <a:pt x="12713" y="7"/>
                    </a:lnTo>
                    <a:cubicBezTo>
                      <a:pt x="12711" y="7"/>
                      <a:pt x="12711" y="6"/>
                      <a:pt x="12711" y="5"/>
                    </a:cubicBezTo>
                    <a:cubicBezTo>
                      <a:pt x="12711" y="4"/>
                      <a:pt x="12711" y="3"/>
                      <a:pt x="12713" y="3"/>
                    </a:cubicBezTo>
                    <a:close/>
                    <a:moveTo>
                      <a:pt x="12721" y="3"/>
                    </a:moveTo>
                    <a:lnTo>
                      <a:pt x="12721" y="3"/>
                    </a:lnTo>
                    <a:cubicBezTo>
                      <a:pt x="12722" y="3"/>
                      <a:pt x="12723" y="4"/>
                      <a:pt x="12723" y="5"/>
                    </a:cubicBezTo>
                    <a:cubicBezTo>
                      <a:pt x="12723" y="6"/>
                      <a:pt x="12722" y="7"/>
                      <a:pt x="12721" y="7"/>
                    </a:cubicBezTo>
                    <a:lnTo>
                      <a:pt x="12721" y="7"/>
                    </a:lnTo>
                    <a:cubicBezTo>
                      <a:pt x="12719" y="7"/>
                      <a:pt x="12719" y="6"/>
                      <a:pt x="12719" y="5"/>
                    </a:cubicBezTo>
                    <a:cubicBezTo>
                      <a:pt x="12719" y="4"/>
                      <a:pt x="12719" y="3"/>
                      <a:pt x="12721" y="3"/>
                    </a:cubicBezTo>
                    <a:close/>
                    <a:moveTo>
                      <a:pt x="12729" y="3"/>
                    </a:moveTo>
                    <a:lnTo>
                      <a:pt x="12729" y="3"/>
                    </a:lnTo>
                    <a:cubicBezTo>
                      <a:pt x="12730" y="3"/>
                      <a:pt x="12731" y="4"/>
                      <a:pt x="12731" y="5"/>
                    </a:cubicBezTo>
                    <a:cubicBezTo>
                      <a:pt x="12731" y="6"/>
                      <a:pt x="12730" y="7"/>
                      <a:pt x="12729" y="7"/>
                    </a:cubicBezTo>
                    <a:lnTo>
                      <a:pt x="12729" y="7"/>
                    </a:lnTo>
                    <a:cubicBezTo>
                      <a:pt x="12727" y="7"/>
                      <a:pt x="12727" y="6"/>
                      <a:pt x="12727" y="5"/>
                    </a:cubicBezTo>
                    <a:cubicBezTo>
                      <a:pt x="12727" y="4"/>
                      <a:pt x="12727" y="3"/>
                      <a:pt x="12729" y="3"/>
                    </a:cubicBezTo>
                    <a:close/>
                    <a:moveTo>
                      <a:pt x="12737" y="3"/>
                    </a:moveTo>
                    <a:lnTo>
                      <a:pt x="12737" y="3"/>
                    </a:lnTo>
                    <a:cubicBezTo>
                      <a:pt x="12738" y="3"/>
                      <a:pt x="12739" y="4"/>
                      <a:pt x="12739" y="5"/>
                    </a:cubicBezTo>
                    <a:cubicBezTo>
                      <a:pt x="12739" y="6"/>
                      <a:pt x="12738" y="7"/>
                      <a:pt x="12737" y="7"/>
                    </a:cubicBezTo>
                    <a:lnTo>
                      <a:pt x="12737" y="7"/>
                    </a:lnTo>
                    <a:cubicBezTo>
                      <a:pt x="12735" y="7"/>
                      <a:pt x="12735" y="6"/>
                      <a:pt x="12735" y="5"/>
                    </a:cubicBezTo>
                    <a:cubicBezTo>
                      <a:pt x="12735" y="4"/>
                      <a:pt x="12735" y="3"/>
                      <a:pt x="12737" y="3"/>
                    </a:cubicBezTo>
                    <a:close/>
                    <a:moveTo>
                      <a:pt x="12745" y="3"/>
                    </a:moveTo>
                    <a:lnTo>
                      <a:pt x="12745" y="3"/>
                    </a:lnTo>
                    <a:cubicBezTo>
                      <a:pt x="12746" y="3"/>
                      <a:pt x="12747" y="4"/>
                      <a:pt x="12747" y="5"/>
                    </a:cubicBezTo>
                    <a:cubicBezTo>
                      <a:pt x="12747" y="6"/>
                      <a:pt x="12746" y="7"/>
                      <a:pt x="12745" y="7"/>
                    </a:cubicBezTo>
                    <a:lnTo>
                      <a:pt x="12745" y="7"/>
                    </a:lnTo>
                    <a:cubicBezTo>
                      <a:pt x="12743" y="7"/>
                      <a:pt x="12743" y="6"/>
                      <a:pt x="12743" y="5"/>
                    </a:cubicBezTo>
                    <a:cubicBezTo>
                      <a:pt x="12743" y="4"/>
                      <a:pt x="12743" y="3"/>
                      <a:pt x="12745" y="3"/>
                    </a:cubicBezTo>
                    <a:close/>
                    <a:moveTo>
                      <a:pt x="12753" y="3"/>
                    </a:moveTo>
                    <a:lnTo>
                      <a:pt x="12753" y="3"/>
                    </a:lnTo>
                    <a:cubicBezTo>
                      <a:pt x="12754" y="3"/>
                      <a:pt x="12755" y="4"/>
                      <a:pt x="12755" y="5"/>
                    </a:cubicBezTo>
                    <a:cubicBezTo>
                      <a:pt x="12755" y="6"/>
                      <a:pt x="12754" y="7"/>
                      <a:pt x="12753" y="7"/>
                    </a:cubicBezTo>
                    <a:lnTo>
                      <a:pt x="12753" y="7"/>
                    </a:lnTo>
                    <a:cubicBezTo>
                      <a:pt x="12751" y="7"/>
                      <a:pt x="12751" y="6"/>
                      <a:pt x="12751" y="5"/>
                    </a:cubicBezTo>
                    <a:cubicBezTo>
                      <a:pt x="12751" y="4"/>
                      <a:pt x="12751" y="3"/>
                      <a:pt x="12753" y="3"/>
                    </a:cubicBezTo>
                    <a:close/>
                    <a:moveTo>
                      <a:pt x="12761" y="3"/>
                    </a:moveTo>
                    <a:lnTo>
                      <a:pt x="12761" y="3"/>
                    </a:lnTo>
                    <a:cubicBezTo>
                      <a:pt x="12762" y="3"/>
                      <a:pt x="12763" y="4"/>
                      <a:pt x="12763" y="5"/>
                    </a:cubicBezTo>
                    <a:cubicBezTo>
                      <a:pt x="12763" y="6"/>
                      <a:pt x="12762" y="7"/>
                      <a:pt x="12761" y="7"/>
                    </a:cubicBezTo>
                    <a:lnTo>
                      <a:pt x="12761" y="7"/>
                    </a:lnTo>
                    <a:cubicBezTo>
                      <a:pt x="12759" y="7"/>
                      <a:pt x="12759" y="6"/>
                      <a:pt x="12759" y="5"/>
                    </a:cubicBezTo>
                    <a:cubicBezTo>
                      <a:pt x="12759" y="4"/>
                      <a:pt x="12759" y="3"/>
                      <a:pt x="12761" y="3"/>
                    </a:cubicBezTo>
                    <a:close/>
                    <a:moveTo>
                      <a:pt x="12769" y="3"/>
                    </a:moveTo>
                    <a:lnTo>
                      <a:pt x="12769" y="3"/>
                    </a:lnTo>
                    <a:cubicBezTo>
                      <a:pt x="12770" y="3"/>
                      <a:pt x="12771" y="4"/>
                      <a:pt x="12771" y="5"/>
                    </a:cubicBezTo>
                    <a:cubicBezTo>
                      <a:pt x="12771" y="6"/>
                      <a:pt x="12770" y="7"/>
                      <a:pt x="12769" y="7"/>
                    </a:cubicBezTo>
                    <a:lnTo>
                      <a:pt x="12769" y="7"/>
                    </a:lnTo>
                    <a:cubicBezTo>
                      <a:pt x="12767" y="7"/>
                      <a:pt x="12767" y="6"/>
                      <a:pt x="12767" y="5"/>
                    </a:cubicBezTo>
                    <a:cubicBezTo>
                      <a:pt x="12767" y="4"/>
                      <a:pt x="12767" y="3"/>
                      <a:pt x="12769" y="3"/>
                    </a:cubicBezTo>
                    <a:close/>
                    <a:moveTo>
                      <a:pt x="12777" y="3"/>
                    </a:moveTo>
                    <a:lnTo>
                      <a:pt x="12777" y="3"/>
                    </a:lnTo>
                    <a:cubicBezTo>
                      <a:pt x="12778" y="3"/>
                      <a:pt x="12779" y="4"/>
                      <a:pt x="12779" y="5"/>
                    </a:cubicBezTo>
                    <a:cubicBezTo>
                      <a:pt x="12779" y="6"/>
                      <a:pt x="12778" y="7"/>
                      <a:pt x="12777" y="7"/>
                    </a:cubicBezTo>
                    <a:lnTo>
                      <a:pt x="12777" y="7"/>
                    </a:lnTo>
                    <a:cubicBezTo>
                      <a:pt x="12776" y="7"/>
                      <a:pt x="12775" y="6"/>
                      <a:pt x="12775" y="5"/>
                    </a:cubicBezTo>
                    <a:cubicBezTo>
                      <a:pt x="12775" y="4"/>
                      <a:pt x="12776" y="3"/>
                      <a:pt x="12777" y="3"/>
                    </a:cubicBezTo>
                    <a:close/>
                    <a:moveTo>
                      <a:pt x="12785" y="3"/>
                    </a:moveTo>
                    <a:lnTo>
                      <a:pt x="12785" y="3"/>
                    </a:lnTo>
                    <a:cubicBezTo>
                      <a:pt x="12786" y="3"/>
                      <a:pt x="12787" y="4"/>
                      <a:pt x="12787" y="5"/>
                    </a:cubicBezTo>
                    <a:cubicBezTo>
                      <a:pt x="12787" y="6"/>
                      <a:pt x="12786" y="7"/>
                      <a:pt x="12785" y="7"/>
                    </a:cubicBezTo>
                    <a:lnTo>
                      <a:pt x="12785" y="7"/>
                    </a:lnTo>
                    <a:cubicBezTo>
                      <a:pt x="12784" y="7"/>
                      <a:pt x="12783" y="6"/>
                      <a:pt x="12783" y="5"/>
                    </a:cubicBezTo>
                    <a:cubicBezTo>
                      <a:pt x="12783" y="4"/>
                      <a:pt x="12784" y="3"/>
                      <a:pt x="12785" y="3"/>
                    </a:cubicBezTo>
                    <a:close/>
                    <a:moveTo>
                      <a:pt x="12793" y="3"/>
                    </a:moveTo>
                    <a:lnTo>
                      <a:pt x="12793" y="3"/>
                    </a:lnTo>
                    <a:cubicBezTo>
                      <a:pt x="12794" y="3"/>
                      <a:pt x="12795" y="4"/>
                      <a:pt x="12795" y="5"/>
                    </a:cubicBezTo>
                    <a:cubicBezTo>
                      <a:pt x="12795" y="6"/>
                      <a:pt x="12794" y="7"/>
                      <a:pt x="12793" y="7"/>
                    </a:cubicBezTo>
                    <a:lnTo>
                      <a:pt x="12793" y="7"/>
                    </a:lnTo>
                    <a:cubicBezTo>
                      <a:pt x="12792" y="7"/>
                      <a:pt x="12791" y="6"/>
                      <a:pt x="12791" y="5"/>
                    </a:cubicBezTo>
                    <a:cubicBezTo>
                      <a:pt x="12791" y="4"/>
                      <a:pt x="12792" y="3"/>
                      <a:pt x="12793" y="3"/>
                    </a:cubicBezTo>
                    <a:close/>
                    <a:moveTo>
                      <a:pt x="12801" y="3"/>
                    </a:moveTo>
                    <a:lnTo>
                      <a:pt x="12801" y="3"/>
                    </a:lnTo>
                    <a:cubicBezTo>
                      <a:pt x="12802" y="3"/>
                      <a:pt x="12803" y="4"/>
                      <a:pt x="12803" y="5"/>
                    </a:cubicBezTo>
                    <a:cubicBezTo>
                      <a:pt x="12803" y="6"/>
                      <a:pt x="12802" y="7"/>
                      <a:pt x="12801" y="7"/>
                    </a:cubicBezTo>
                    <a:lnTo>
                      <a:pt x="12801" y="7"/>
                    </a:lnTo>
                    <a:cubicBezTo>
                      <a:pt x="12800" y="7"/>
                      <a:pt x="12799" y="6"/>
                      <a:pt x="12799" y="5"/>
                    </a:cubicBezTo>
                    <a:cubicBezTo>
                      <a:pt x="12799" y="4"/>
                      <a:pt x="12800" y="3"/>
                      <a:pt x="12801" y="3"/>
                    </a:cubicBezTo>
                    <a:close/>
                    <a:moveTo>
                      <a:pt x="12809" y="3"/>
                    </a:moveTo>
                    <a:lnTo>
                      <a:pt x="12809" y="3"/>
                    </a:lnTo>
                    <a:cubicBezTo>
                      <a:pt x="12810" y="3"/>
                      <a:pt x="12811" y="4"/>
                      <a:pt x="12811" y="5"/>
                    </a:cubicBezTo>
                    <a:cubicBezTo>
                      <a:pt x="12811" y="6"/>
                      <a:pt x="12810" y="7"/>
                      <a:pt x="12809" y="7"/>
                    </a:cubicBezTo>
                    <a:lnTo>
                      <a:pt x="12809" y="7"/>
                    </a:lnTo>
                    <a:cubicBezTo>
                      <a:pt x="12808" y="7"/>
                      <a:pt x="12807" y="6"/>
                      <a:pt x="12807" y="5"/>
                    </a:cubicBezTo>
                    <a:cubicBezTo>
                      <a:pt x="12807" y="4"/>
                      <a:pt x="12808" y="3"/>
                      <a:pt x="12809" y="3"/>
                    </a:cubicBezTo>
                    <a:close/>
                    <a:moveTo>
                      <a:pt x="12817" y="3"/>
                    </a:moveTo>
                    <a:lnTo>
                      <a:pt x="12817" y="3"/>
                    </a:lnTo>
                    <a:cubicBezTo>
                      <a:pt x="12818" y="3"/>
                      <a:pt x="12819" y="4"/>
                      <a:pt x="12819" y="5"/>
                    </a:cubicBezTo>
                    <a:cubicBezTo>
                      <a:pt x="12819" y="6"/>
                      <a:pt x="12818" y="7"/>
                      <a:pt x="12817" y="7"/>
                    </a:cubicBezTo>
                    <a:lnTo>
                      <a:pt x="12817" y="7"/>
                    </a:lnTo>
                    <a:cubicBezTo>
                      <a:pt x="12816" y="7"/>
                      <a:pt x="12815" y="6"/>
                      <a:pt x="12815" y="5"/>
                    </a:cubicBezTo>
                    <a:cubicBezTo>
                      <a:pt x="12815" y="4"/>
                      <a:pt x="12816" y="3"/>
                      <a:pt x="12817" y="3"/>
                    </a:cubicBezTo>
                    <a:close/>
                    <a:moveTo>
                      <a:pt x="12825" y="3"/>
                    </a:moveTo>
                    <a:lnTo>
                      <a:pt x="12825" y="3"/>
                    </a:lnTo>
                    <a:cubicBezTo>
                      <a:pt x="12826" y="3"/>
                      <a:pt x="12827" y="4"/>
                      <a:pt x="12827" y="5"/>
                    </a:cubicBezTo>
                    <a:cubicBezTo>
                      <a:pt x="12827" y="6"/>
                      <a:pt x="12826" y="7"/>
                      <a:pt x="12825" y="7"/>
                    </a:cubicBezTo>
                    <a:lnTo>
                      <a:pt x="12825" y="7"/>
                    </a:lnTo>
                    <a:cubicBezTo>
                      <a:pt x="12824" y="7"/>
                      <a:pt x="12823" y="6"/>
                      <a:pt x="12823" y="5"/>
                    </a:cubicBezTo>
                    <a:cubicBezTo>
                      <a:pt x="12823" y="4"/>
                      <a:pt x="12824" y="3"/>
                      <a:pt x="12825" y="3"/>
                    </a:cubicBezTo>
                    <a:close/>
                    <a:moveTo>
                      <a:pt x="12833" y="3"/>
                    </a:moveTo>
                    <a:lnTo>
                      <a:pt x="12833" y="3"/>
                    </a:lnTo>
                    <a:cubicBezTo>
                      <a:pt x="12834" y="3"/>
                      <a:pt x="12835" y="4"/>
                      <a:pt x="12835" y="5"/>
                    </a:cubicBezTo>
                    <a:cubicBezTo>
                      <a:pt x="12835" y="6"/>
                      <a:pt x="12834" y="7"/>
                      <a:pt x="12833" y="7"/>
                    </a:cubicBezTo>
                    <a:lnTo>
                      <a:pt x="12833" y="7"/>
                    </a:lnTo>
                    <a:cubicBezTo>
                      <a:pt x="12832" y="7"/>
                      <a:pt x="12831" y="6"/>
                      <a:pt x="12831" y="5"/>
                    </a:cubicBezTo>
                    <a:cubicBezTo>
                      <a:pt x="12831" y="4"/>
                      <a:pt x="12832" y="3"/>
                      <a:pt x="12833" y="3"/>
                    </a:cubicBezTo>
                    <a:close/>
                    <a:moveTo>
                      <a:pt x="12841" y="3"/>
                    </a:moveTo>
                    <a:lnTo>
                      <a:pt x="12841" y="3"/>
                    </a:lnTo>
                    <a:cubicBezTo>
                      <a:pt x="12842" y="3"/>
                      <a:pt x="12843" y="4"/>
                      <a:pt x="12843" y="5"/>
                    </a:cubicBezTo>
                    <a:cubicBezTo>
                      <a:pt x="12843" y="6"/>
                      <a:pt x="12842" y="7"/>
                      <a:pt x="12841" y="7"/>
                    </a:cubicBezTo>
                    <a:lnTo>
                      <a:pt x="12841" y="7"/>
                    </a:lnTo>
                    <a:cubicBezTo>
                      <a:pt x="12840" y="7"/>
                      <a:pt x="12839" y="6"/>
                      <a:pt x="12839" y="5"/>
                    </a:cubicBezTo>
                    <a:cubicBezTo>
                      <a:pt x="12839" y="4"/>
                      <a:pt x="12840" y="3"/>
                      <a:pt x="12841" y="3"/>
                    </a:cubicBezTo>
                    <a:close/>
                    <a:moveTo>
                      <a:pt x="12849" y="3"/>
                    </a:moveTo>
                    <a:lnTo>
                      <a:pt x="12849" y="3"/>
                    </a:lnTo>
                    <a:cubicBezTo>
                      <a:pt x="12850" y="3"/>
                      <a:pt x="12851" y="4"/>
                      <a:pt x="12851" y="5"/>
                    </a:cubicBezTo>
                    <a:cubicBezTo>
                      <a:pt x="12851" y="6"/>
                      <a:pt x="12850" y="7"/>
                      <a:pt x="12849" y="7"/>
                    </a:cubicBezTo>
                    <a:lnTo>
                      <a:pt x="12849" y="7"/>
                    </a:lnTo>
                    <a:cubicBezTo>
                      <a:pt x="12848" y="7"/>
                      <a:pt x="12847" y="6"/>
                      <a:pt x="12847" y="5"/>
                    </a:cubicBezTo>
                    <a:cubicBezTo>
                      <a:pt x="12847" y="4"/>
                      <a:pt x="12848" y="3"/>
                      <a:pt x="12849" y="3"/>
                    </a:cubicBezTo>
                    <a:close/>
                    <a:moveTo>
                      <a:pt x="12857" y="3"/>
                    </a:moveTo>
                    <a:lnTo>
                      <a:pt x="12857" y="3"/>
                    </a:lnTo>
                    <a:cubicBezTo>
                      <a:pt x="12858" y="3"/>
                      <a:pt x="12859" y="4"/>
                      <a:pt x="12859" y="5"/>
                    </a:cubicBezTo>
                    <a:cubicBezTo>
                      <a:pt x="12859" y="6"/>
                      <a:pt x="12858" y="7"/>
                      <a:pt x="12857" y="7"/>
                    </a:cubicBezTo>
                    <a:lnTo>
                      <a:pt x="12857" y="7"/>
                    </a:lnTo>
                    <a:cubicBezTo>
                      <a:pt x="12856" y="7"/>
                      <a:pt x="12855" y="6"/>
                      <a:pt x="12855" y="5"/>
                    </a:cubicBezTo>
                    <a:cubicBezTo>
                      <a:pt x="12855" y="4"/>
                      <a:pt x="12856" y="3"/>
                      <a:pt x="12857" y="3"/>
                    </a:cubicBezTo>
                    <a:close/>
                    <a:moveTo>
                      <a:pt x="12865" y="3"/>
                    </a:moveTo>
                    <a:lnTo>
                      <a:pt x="12865" y="3"/>
                    </a:lnTo>
                    <a:cubicBezTo>
                      <a:pt x="12866" y="3"/>
                      <a:pt x="12867" y="4"/>
                      <a:pt x="12867" y="5"/>
                    </a:cubicBezTo>
                    <a:cubicBezTo>
                      <a:pt x="12867" y="6"/>
                      <a:pt x="12866" y="7"/>
                      <a:pt x="12865" y="7"/>
                    </a:cubicBezTo>
                    <a:lnTo>
                      <a:pt x="12865" y="7"/>
                    </a:lnTo>
                    <a:cubicBezTo>
                      <a:pt x="12864" y="7"/>
                      <a:pt x="12863" y="6"/>
                      <a:pt x="12863" y="5"/>
                    </a:cubicBezTo>
                    <a:cubicBezTo>
                      <a:pt x="12863" y="4"/>
                      <a:pt x="12864" y="3"/>
                      <a:pt x="12865" y="3"/>
                    </a:cubicBezTo>
                    <a:close/>
                    <a:moveTo>
                      <a:pt x="12873" y="3"/>
                    </a:moveTo>
                    <a:lnTo>
                      <a:pt x="12873" y="3"/>
                    </a:lnTo>
                    <a:cubicBezTo>
                      <a:pt x="12874" y="3"/>
                      <a:pt x="12875" y="4"/>
                      <a:pt x="12875" y="5"/>
                    </a:cubicBezTo>
                    <a:cubicBezTo>
                      <a:pt x="12875" y="6"/>
                      <a:pt x="12874" y="7"/>
                      <a:pt x="12873" y="7"/>
                    </a:cubicBezTo>
                    <a:lnTo>
                      <a:pt x="12873" y="7"/>
                    </a:lnTo>
                    <a:cubicBezTo>
                      <a:pt x="12872" y="7"/>
                      <a:pt x="12871" y="6"/>
                      <a:pt x="12871" y="5"/>
                    </a:cubicBezTo>
                    <a:cubicBezTo>
                      <a:pt x="12871" y="4"/>
                      <a:pt x="12872" y="3"/>
                      <a:pt x="12873" y="3"/>
                    </a:cubicBezTo>
                    <a:close/>
                    <a:moveTo>
                      <a:pt x="12881" y="3"/>
                    </a:moveTo>
                    <a:lnTo>
                      <a:pt x="12881" y="3"/>
                    </a:lnTo>
                    <a:cubicBezTo>
                      <a:pt x="12882" y="3"/>
                      <a:pt x="12883" y="4"/>
                      <a:pt x="12883" y="5"/>
                    </a:cubicBezTo>
                    <a:cubicBezTo>
                      <a:pt x="12883" y="6"/>
                      <a:pt x="12882" y="7"/>
                      <a:pt x="12881" y="7"/>
                    </a:cubicBezTo>
                    <a:lnTo>
                      <a:pt x="12881" y="7"/>
                    </a:lnTo>
                    <a:cubicBezTo>
                      <a:pt x="12880" y="7"/>
                      <a:pt x="12879" y="6"/>
                      <a:pt x="12879" y="5"/>
                    </a:cubicBezTo>
                    <a:cubicBezTo>
                      <a:pt x="12879" y="4"/>
                      <a:pt x="12880" y="3"/>
                      <a:pt x="12881" y="3"/>
                    </a:cubicBezTo>
                    <a:close/>
                    <a:moveTo>
                      <a:pt x="12889" y="3"/>
                    </a:moveTo>
                    <a:lnTo>
                      <a:pt x="12889" y="3"/>
                    </a:lnTo>
                    <a:cubicBezTo>
                      <a:pt x="12890" y="3"/>
                      <a:pt x="12891" y="4"/>
                      <a:pt x="12891" y="5"/>
                    </a:cubicBezTo>
                    <a:cubicBezTo>
                      <a:pt x="12891" y="6"/>
                      <a:pt x="12890" y="7"/>
                      <a:pt x="12889" y="7"/>
                    </a:cubicBezTo>
                    <a:lnTo>
                      <a:pt x="12889" y="7"/>
                    </a:lnTo>
                    <a:cubicBezTo>
                      <a:pt x="12888" y="7"/>
                      <a:pt x="12887" y="6"/>
                      <a:pt x="12887" y="5"/>
                    </a:cubicBezTo>
                    <a:cubicBezTo>
                      <a:pt x="12887" y="4"/>
                      <a:pt x="12888" y="3"/>
                      <a:pt x="12889" y="3"/>
                    </a:cubicBezTo>
                    <a:close/>
                    <a:moveTo>
                      <a:pt x="12897" y="3"/>
                    </a:moveTo>
                    <a:lnTo>
                      <a:pt x="12897" y="3"/>
                    </a:lnTo>
                    <a:cubicBezTo>
                      <a:pt x="12898" y="3"/>
                      <a:pt x="12899" y="4"/>
                      <a:pt x="12899" y="5"/>
                    </a:cubicBezTo>
                    <a:cubicBezTo>
                      <a:pt x="12899" y="6"/>
                      <a:pt x="12898" y="7"/>
                      <a:pt x="12897" y="7"/>
                    </a:cubicBezTo>
                    <a:lnTo>
                      <a:pt x="12897" y="7"/>
                    </a:lnTo>
                    <a:cubicBezTo>
                      <a:pt x="12896" y="7"/>
                      <a:pt x="12895" y="6"/>
                      <a:pt x="12895" y="5"/>
                    </a:cubicBezTo>
                    <a:cubicBezTo>
                      <a:pt x="12895" y="4"/>
                      <a:pt x="12896" y="3"/>
                      <a:pt x="12897" y="3"/>
                    </a:cubicBezTo>
                    <a:close/>
                    <a:moveTo>
                      <a:pt x="12905" y="3"/>
                    </a:moveTo>
                    <a:lnTo>
                      <a:pt x="12905" y="3"/>
                    </a:lnTo>
                    <a:cubicBezTo>
                      <a:pt x="12906" y="3"/>
                      <a:pt x="12907" y="4"/>
                      <a:pt x="12907" y="5"/>
                    </a:cubicBezTo>
                    <a:cubicBezTo>
                      <a:pt x="12907" y="6"/>
                      <a:pt x="12906" y="7"/>
                      <a:pt x="12905" y="7"/>
                    </a:cubicBezTo>
                    <a:lnTo>
                      <a:pt x="12905" y="7"/>
                    </a:lnTo>
                    <a:cubicBezTo>
                      <a:pt x="12904" y="7"/>
                      <a:pt x="12903" y="6"/>
                      <a:pt x="12903" y="5"/>
                    </a:cubicBezTo>
                    <a:cubicBezTo>
                      <a:pt x="12903" y="4"/>
                      <a:pt x="12904" y="3"/>
                      <a:pt x="12905" y="3"/>
                    </a:cubicBezTo>
                    <a:close/>
                    <a:moveTo>
                      <a:pt x="12913" y="3"/>
                    </a:moveTo>
                    <a:lnTo>
                      <a:pt x="12913" y="3"/>
                    </a:lnTo>
                    <a:cubicBezTo>
                      <a:pt x="12914" y="3"/>
                      <a:pt x="12915" y="4"/>
                      <a:pt x="12915" y="5"/>
                    </a:cubicBezTo>
                    <a:cubicBezTo>
                      <a:pt x="12915" y="6"/>
                      <a:pt x="12914" y="7"/>
                      <a:pt x="12913" y="7"/>
                    </a:cubicBezTo>
                    <a:lnTo>
                      <a:pt x="12913" y="7"/>
                    </a:lnTo>
                    <a:cubicBezTo>
                      <a:pt x="12912" y="7"/>
                      <a:pt x="12911" y="6"/>
                      <a:pt x="12911" y="5"/>
                    </a:cubicBezTo>
                    <a:cubicBezTo>
                      <a:pt x="12911" y="4"/>
                      <a:pt x="12912" y="3"/>
                      <a:pt x="12913" y="3"/>
                    </a:cubicBezTo>
                    <a:close/>
                    <a:moveTo>
                      <a:pt x="12921" y="3"/>
                    </a:moveTo>
                    <a:lnTo>
                      <a:pt x="12921" y="3"/>
                    </a:lnTo>
                    <a:cubicBezTo>
                      <a:pt x="12922" y="3"/>
                      <a:pt x="12923" y="4"/>
                      <a:pt x="12923" y="5"/>
                    </a:cubicBezTo>
                    <a:cubicBezTo>
                      <a:pt x="12923" y="6"/>
                      <a:pt x="12922" y="7"/>
                      <a:pt x="12921" y="7"/>
                    </a:cubicBezTo>
                    <a:lnTo>
                      <a:pt x="12921" y="7"/>
                    </a:lnTo>
                    <a:cubicBezTo>
                      <a:pt x="12920" y="7"/>
                      <a:pt x="12919" y="6"/>
                      <a:pt x="12919" y="5"/>
                    </a:cubicBezTo>
                    <a:cubicBezTo>
                      <a:pt x="12919" y="4"/>
                      <a:pt x="12920" y="3"/>
                      <a:pt x="12921" y="3"/>
                    </a:cubicBezTo>
                    <a:close/>
                    <a:moveTo>
                      <a:pt x="12929" y="3"/>
                    </a:moveTo>
                    <a:lnTo>
                      <a:pt x="12929" y="3"/>
                    </a:lnTo>
                    <a:cubicBezTo>
                      <a:pt x="12930" y="3"/>
                      <a:pt x="12931" y="4"/>
                      <a:pt x="12931" y="5"/>
                    </a:cubicBezTo>
                    <a:cubicBezTo>
                      <a:pt x="12931" y="6"/>
                      <a:pt x="12930" y="7"/>
                      <a:pt x="12929" y="7"/>
                    </a:cubicBezTo>
                    <a:lnTo>
                      <a:pt x="12929" y="7"/>
                    </a:lnTo>
                    <a:cubicBezTo>
                      <a:pt x="12928" y="7"/>
                      <a:pt x="12927" y="6"/>
                      <a:pt x="12927" y="5"/>
                    </a:cubicBezTo>
                    <a:cubicBezTo>
                      <a:pt x="12927" y="4"/>
                      <a:pt x="12928" y="3"/>
                      <a:pt x="12929" y="3"/>
                    </a:cubicBezTo>
                    <a:close/>
                    <a:moveTo>
                      <a:pt x="12937" y="3"/>
                    </a:moveTo>
                    <a:lnTo>
                      <a:pt x="12937" y="3"/>
                    </a:lnTo>
                    <a:cubicBezTo>
                      <a:pt x="12938" y="3"/>
                      <a:pt x="12939" y="4"/>
                      <a:pt x="12939" y="5"/>
                    </a:cubicBezTo>
                    <a:cubicBezTo>
                      <a:pt x="12939" y="6"/>
                      <a:pt x="12938" y="7"/>
                      <a:pt x="12937" y="7"/>
                    </a:cubicBezTo>
                    <a:lnTo>
                      <a:pt x="12937" y="7"/>
                    </a:lnTo>
                    <a:cubicBezTo>
                      <a:pt x="12936" y="7"/>
                      <a:pt x="12935" y="6"/>
                      <a:pt x="12935" y="5"/>
                    </a:cubicBezTo>
                    <a:cubicBezTo>
                      <a:pt x="12935" y="4"/>
                      <a:pt x="12936" y="3"/>
                      <a:pt x="12937" y="3"/>
                    </a:cubicBezTo>
                    <a:close/>
                    <a:moveTo>
                      <a:pt x="12945" y="3"/>
                    </a:moveTo>
                    <a:lnTo>
                      <a:pt x="12945" y="3"/>
                    </a:lnTo>
                    <a:cubicBezTo>
                      <a:pt x="12946" y="3"/>
                      <a:pt x="12947" y="4"/>
                      <a:pt x="12947" y="5"/>
                    </a:cubicBezTo>
                    <a:cubicBezTo>
                      <a:pt x="12947" y="6"/>
                      <a:pt x="12946" y="7"/>
                      <a:pt x="12945" y="7"/>
                    </a:cubicBezTo>
                    <a:lnTo>
                      <a:pt x="12945" y="7"/>
                    </a:lnTo>
                    <a:cubicBezTo>
                      <a:pt x="12944" y="7"/>
                      <a:pt x="12943" y="6"/>
                      <a:pt x="12943" y="5"/>
                    </a:cubicBezTo>
                    <a:cubicBezTo>
                      <a:pt x="12943" y="4"/>
                      <a:pt x="12944" y="3"/>
                      <a:pt x="12945" y="3"/>
                    </a:cubicBezTo>
                    <a:close/>
                    <a:moveTo>
                      <a:pt x="12953" y="3"/>
                    </a:moveTo>
                    <a:lnTo>
                      <a:pt x="12953" y="3"/>
                    </a:lnTo>
                    <a:cubicBezTo>
                      <a:pt x="12954" y="3"/>
                      <a:pt x="12955" y="4"/>
                      <a:pt x="12955" y="5"/>
                    </a:cubicBezTo>
                    <a:cubicBezTo>
                      <a:pt x="12955" y="6"/>
                      <a:pt x="12954" y="7"/>
                      <a:pt x="12953" y="7"/>
                    </a:cubicBezTo>
                    <a:lnTo>
                      <a:pt x="12953" y="7"/>
                    </a:lnTo>
                    <a:cubicBezTo>
                      <a:pt x="12952" y="7"/>
                      <a:pt x="12951" y="6"/>
                      <a:pt x="12951" y="5"/>
                    </a:cubicBezTo>
                    <a:cubicBezTo>
                      <a:pt x="12951" y="4"/>
                      <a:pt x="12952" y="3"/>
                      <a:pt x="12953" y="3"/>
                    </a:cubicBezTo>
                    <a:close/>
                    <a:moveTo>
                      <a:pt x="12961" y="3"/>
                    </a:moveTo>
                    <a:lnTo>
                      <a:pt x="12961" y="3"/>
                    </a:lnTo>
                    <a:cubicBezTo>
                      <a:pt x="12962" y="3"/>
                      <a:pt x="12963" y="4"/>
                      <a:pt x="12963" y="5"/>
                    </a:cubicBezTo>
                    <a:cubicBezTo>
                      <a:pt x="12963" y="6"/>
                      <a:pt x="12962" y="7"/>
                      <a:pt x="12961" y="7"/>
                    </a:cubicBezTo>
                    <a:lnTo>
                      <a:pt x="12961" y="7"/>
                    </a:lnTo>
                    <a:cubicBezTo>
                      <a:pt x="12960" y="7"/>
                      <a:pt x="12959" y="6"/>
                      <a:pt x="12959" y="5"/>
                    </a:cubicBezTo>
                    <a:cubicBezTo>
                      <a:pt x="12959" y="4"/>
                      <a:pt x="12960" y="3"/>
                      <a:pt x="12961" y="3"/>
                    </a:cubicBezTo>
                    <a:close/>
                    <a:moveTo>
                      <a:pt x="12969" y="3"/>
                    </a:moveTo>
                    <a:lnTo>
                      <a:pt x="12969" y="3"/>
                    </a:lnTo>
                    <a:cubicBezTo>
                      <a:pt x="12970" y="3"/>
                      <a:pt x="12971" y="4"/>
                      <a:pt x="12971" y="5"/>
                    </a:cubicBezTo>
                    <a:cubicBezTo>
                      <a:pt x="12971" y="6"/>
                      <a:pt x="12970" y="7"/>
                      <a:pt x="12969" y="7"/>
                    </a:cubicBezTo>
                    <a:lnTo>
                      <a:pt x="12969" y="7"/>
                    </a:lnTo>
                    <a:cubicBezTo>
                      <a:pt x="12968" y="7"/>
                      <a:pt x="12967" y="6"/>
                      <a:pt x="12967" y="5"/>
                    </a:cubicBezTo>
                    <a:cubicBezTo>
                      <a:pt x="12967" y="4"/>
                      <a:pt x="12968" y="3"/>
                      <a:pt x="12969" y="3"/>
                    </a:cubicBezTo>
                    <a:close/>
                    <a:moveTo>
                      <a:pt x="12977" y="3"/>
                    </a:moveTo>
                    <a:lnTo>
                      <a:pt x="12977" y="3"/>
                    </a:lnTo>
                    <a:cubicBezTo>
                      <a:pt x="12978" y="3"/>
                      <a:pt x="12979" y="4"/>
                      <a:pt x="12979" y="5"/>
                    </a:cubicBezTo>
                    <a:cubicBezTo>
                      <a:pt x="12979" y="6"/>
                      <a:pt x="12978" y="7"/>
                      <a:pt x="12977" y="7"/>
                    </a:cubicBezTo>
                    <a:lnTo>
                      <a:pt x="12977" y="7"/>
                    </a:lnTo>
                    <a:cubicBezTo>
                      <a:pt x="12976" y="7"/>
                      <a:pt x="12975" y="6"/>
                      <a:pt x="12975" y="5"/>
                    </a:cubicBezTo>
                    <a:cubicBezTo>
                      <a:pt x="12975" y="4"/>
                      <a:pt x="12976" y="3"/>
                      <a:pt x="12977" y="3"/>
                    </a:cubicBezTo>
                    <a:close/>
                    <a:moveTo>
                      <a:pt x="12985" y="3"/>
                    </a:moveTo>
                    <a:lnTo>
                      <a:pt x="12985" y="3"/>
                    </a:lnTo>
                    <a:cubicBezTo>
                      <a:pt x="12986" y="3"/>
                      <a:pt x="12987" y="4"/>
                      <a:pt x="12987" y="5"/>
                    </a:cubicBezTo>
                    <a:cubicBezTo>
                      <a:pt x="12987" y="6"/>
                      <a:pt x="12986" y="7"/>
                      <a:pt x="12985" y="7"/>
                    </a:cubicBezTo>
                    <a:lnTo>
                      <a:pt x="12985" y="7"/>
                    </a:lnTo>
                    <a:cubicBezTo>
                      <a:pt x="12984" y="7"/>
                      <a:pt x="12983" y="6"/>
                      <a:pt x="12983" y="5"/>
                    </a:cubicBezTo>
                    <a:cubicBezTo>
                      <a:pt x="12983" y="4"/>
                      <a:pt x="12984" y="3"/>
                      <a:pt x="12985" y="3"/>
                    </a:cubicBezTo>
                    <a:close/>
                    <a:moveTo>
                      <a:pt x="12993" y="3"/>
                    </a:moveTo>
                    <a:lnTo>
                      <a:pt x="12993" y="3"/>
                    </a:lnTo>
                    <a:cubicBezTo>
                      <a:pt x="12994" y="3"/>
                      <a:pt x="12995" y="4"/>
                      <a:pt x="12995" y="5"/>
                    </a:cubicBezTo>
                    <a:cubicBezTo>
                      <a:pt x="12995" y="6"/>
                      <a:pt x="12994" y="7"/>
                      <a:pt x="12993" y="7"/>
                    </a:cubicBezTo>
                    <a:lnTo>
                      <a:pt x="12993" y="7"/>
                    </a:lnTo>
                    <a:cubicBezTo>
                      <a:pt x="12992" y="7"/>
                      <a:pt x="12991" y="6"/>
                      <a:pt x="12991" y="5"/>
                    </a:cubicBezTo>
                    <a:cubicBezTo>
                      <a:pt x="12991" y="4"/>
                      <a:pt x="12992" y="3"/>
                      <a:pt x="12993" y="3"/>
                    </a:cubicBezTo>
                    <a:close/>
                    <a:moveTo>
                      <a:pt x="13001" y="3"/>
                    </a:moveTo>
                    <a:lnTo>
                      <a:pt x="13001" y="3"/>
                    </a:lnTo>
                    <a:cubicBezTo>
                      <a:pt x="13002" y="3"/>
                      <a:pt x="13003" y="4"/>
                      <a:pt x="13003" y="5"/>
                    </a:cubicBezTo>
                    <a:cubicBezTo>
                      <a:pt x="13003" y="6"/>
                      <a:pt x="13002" y="7"/>
                      <a:pt x="13001" y="7"/>
                    </a:cubicBezTo>
                    <a:lnTo>
                      <a:pt x="13001" y="7"/>
                    </a:lnTo>
                    <a:cubicBezTo>
                      <a:pt x="13000" y="7"/>
                      <a:pt x="12999" y="6"/>
                      <a:pt x="12999" y="5"/>
                    </a:cubicBezTo>
                    <a:cubicBezTo>
                      <a:pt x="12999" y="4"/>
                      <a:pt x="13000" y="3"/>
                      <a:pt x="13001" y="3"/>
                    </a:cubicBezTo>
                    <a:close/>
                    <a:moveTo>
                      <a:pt x="13009" y="3"/>
                    </a:moveTo>
                    <a:lnTo>
                      <a:pt x="13009" y="3"/>
                    </a:lnTo>
                    <a:cubicBezTo>
                      <a:pt x="13010" y="3"/>
                      <a:pt x="13011" y="4"/>
                      <a:pt x="13011" y="5"/>
                    </a:cubicBezTo>
                    <a:cubicBezTo>
                      <a:pt x="13011" y="6"/>
                      <a:pt x="13010" y="7"/>
                      <a:pt x="13009" y="7"/>
                    </a:cubicBezTo>
                    <a:lnTo>
                      <a:pt x="13009" y="7"/>
                    </a:lnTo>
                    <a:cubicBezTo>
                      <a:pt x="13008" y="7"/>
                      <a:pt x="13007" y="6"/>
                      <a:pt x="13007" y="5"/>
                    </a:cubicBezTo>
                    <a:cubicBezTo>
                      <a:pt x="13007" y="4"/>
                      <a:pt x="13008" y="3"/>
                      <a:pt x="13009" y="3"/>
                    </a:cubicBezTo>
                    <a:close/>
                    <a:moveTo>
                      <a:pt x="13017" y="3"/>
                    </a:moveTo>
                    <a:lnTo>
                      <a:pt x="13017" y="3"/>
                    </a:lnTo>
                    <a:cubicBezTo>
                      <a:pt x="13018" y="3"/>
                      <a:pt x="13019" y="4"/>
                      <a:pt x="13019" y="5"/>
                    </a:cubicBezTo>
                    <a:cubicBezTo>
                      <a:pt x="13019" y="6"/>
                      <a:pt x="13018" y="7"/>
                      <a:pt x="13017" y="7"/>
                    </a:cubicBezTo>
                    <a:lnTo>
                      <a:pt x="13017" y="7"/>
                    </a:lnTo>
                    <a:cubicBezTo>
                      <a:pt x="13016" y="7"/>
                      <a:pt x="13015" y="6"/>
                      <a:pt x="13015" y="5"/>
                    </a:cubicBezTo>
                    <a:cubicBezTo>
                      <a:pt x="13015" y="4"/>
                      <a:pt x="13016" y="3"/>
                      <a:pt x="13017" y="3"/>
                    </a:cubicBezTo>
                    <a:close/>
                    <a:moveTo>
                      <a:pt x="13025" y="3"/>
                    </a:moveTo>
                    <a:lnTo>
                      <a:pt x="13025" y="3"/>
                    </a:lnTo>
                    <a:cubicBezTo>
                      <a:pt x="13026" y="3"/>
                      <a:pt x="13027" y="4"/>
                      <a:pt x="13027" y="5"/>
                    </a:cubicBezTo>
                    <a:cubicBezTo>
                      <a:pt x="13027" y="6"/>
                      <a:pt x="13026" y="7"/>
                      <a:pt x="13025" y="7"/>
                    </a:cubicBezTo>
                    <a:lnTo>
                      <a:pt x="13025" y="7"/>
                    </a:lnTo>
                    <a:cubicBezTo>
                      <a:pt x="13024" y="7"/>
                      <a:pt x="13023" y="6"/>
                      <a:pt x="13023" y="5"/>
                    </a:cubicBezTo>
                    <a:cubicBezTo>
                      <a:pt x="13023" y="4"/>
                      <a:pt x="13024" y="3"/>
                      <a:pt x="13025" y="3"/>
                    </a:cubicBezTo>
                    <a:close/>
                    <a:moveTo>
                      <a:pt x="13033" y="3"/>
                    </a:moveTo>
                    <a:lnTo>
                      <a:pt x="13033" y="3"/>
                    </a:lnTo>
                    <a:cubicBezTo>
                      <a:pt x="13034" y="3"/>
                      <a:pt x="13035" y="4"/>
                      <a:pt x="13035" y="5"/>
                    </a:cubicBezTo>
                    <a:cubicBezTo>
                      <a:pt x="13035" y="6"/>
                      <a:pt x="13034" y="7"/>
                      <a:pt x="13033" y="7"/>
                    </a:cubicBezTo>
                    <a:lnTo>
                      <a:pt x="13033" y="7"/>
                    </a:lnTo>
                    <a:cubicBezTo>
                      <a:pt x="13032" y="7"/>
                      <a:pt x="13031" y="6"/>
                      <a:pt x="13031" y="5"/>
                    </a:cubicBezTo>
                    <a:cubicBezTo>
                      <a:pt x="13031" y="4"/>
                      <a:pt x="13032" y="3"/>
                      <a:pt x="13033" y="3"/>
                    </a:cubicBezTo>
                    <a:close/>
                    <a:moveTo>
                      <a:pt x="13041" y="3"/>
                    </a:moveTo>
                    <a:lnTo>
                      <a:pt x="13041" y="3"/>
                    </a:lnTo>
                    <a:cubicBezTo>
                      <a:pt x="13042" y="3"/>
                      <a:pt x="13043" y="4"/>
                      <a:pt x="13043" y="5"/>
                    </a:cubicBezTo>
                    <a:cubicBezTo>
                      <a:pt x="13043" y="6"/>
                      <a:pt x="13042" y="7"/>
                      <a:pt x="13041" y="7"/>
                    </a:cubicBezTo>
                    <a:lnTo>
                      <a:pt x="13041" y="7"/>
                    </a:lnTo>
                    <a:cubicBezTo>
                      <a:pt x="13040" y="7"/>
                      <a:pt x="13039" y="6"/>
                      <a:pt x="13039" y="5"/>
                    </a:cubicBezTo>
                    <a:cubicBezTo>
                      <a:pt x="13039" y="4"/>
                      <a:pt x="13040" y="3"/>
                      <a:pt x="13041" y="3"/>
                    </a:cubicBezTo>
                    <a:close/>
                    <a:moveTo>
                      <a:pt x="13049" y="3"/>
                    </a:moveTo>
                    <a:lnTo>
                      <a:pt x="13049" y="3"/>
                    </a:lnTo>
                    <a:cubicBezTo>
                      <a:pt x="13050" y="3"/>
                      <a:pt x="13051" y="4"/>
                      <a:pt x="13051" y="5"/>
                    </a:cubicBezTo>
                    <a:cubicBezTo>
                      <a:pt x="13051" y="6"/>
                      <a:pt x="13050" y="7"/>
                      <a:pt x="13049" y="7"/>
                    </a:cubicBezTo>
                    <a:lnTo>
                      <a:pt x="13049" y="7"/>
                    </a:lnTo>
                    <a:cubicBezTo>
                      <a:pt x="13048" y="7"/>
                      <a:pt x="13047" y="6"/>
                      <a:pt x="13047" y="5"/>
                    </a:cubicBezTo>
                    <a:cubicBezTo>
                      <a:pt x="13047" y="4"/>
                      <a:pt x="13048" y="3"/>
                      <a:pt x="13049" y="3"/>
                    </a:cubicBezTo>
                    <a:close/>
                    <a:moveTo>
                      <a:pt x="13057" y="3"/>
                    </a:moveTo>
                    <a:lnTo>
                      <a:pt x="13057" y="3"/>
                    </a:lnTo>
                    <a:cubicBezTo>
                      <a:pt x="13058" y="3"/>
                      <a:pt x="13059" y="4"/>
                      <a:pt x="13059" y="5"/>
                    </a:cubicBezTo>
                    <a:cubicBezTo>
                      <a:pt x="13059" y="6"/>
                      <a:pt x="13058" y="7"/>
                      <a:pt x="13057" y="7"/>
                    </a:cubicBezTo>
                    <a:lnTo>
                      <a:pt x="13057" y="7"/>
                    </a:lnTo>
                    <a:cubicBezTo>
                      <a:pt x="13056" y="7"/>
                      <a:pt x="13055" y="6"/>
                      <a:pt x="13055" y="5"/>
                    </a:cubicBezTo>
                    <a:cubicBezTo>
                      <a:pt x="13055" y="4"/>
                      <a:pt x="13056" y="3"/>
                      <a:pt x="13057" y="3"/>
                    </a:cubicBezTo>
                    <a:close/>
                    <a:moveTo>
                      <a:pt x="13065" y="3"/>
                    </a:moveTo>
                    <a:lnTo>
                      <a:pt x="13065" y="3"/>
                    </a:lnTo>
                    <a:cubicBezTo>
                      <a:pt x="13066" y="3"/>
                      <a:pt x="13067" y="4"/>
                      <a:pt x="13067" y="5"/>
                    </a:cubicBezTo>
                    <a:cubicBezTo>
                      <a:pt x="13067" y="6"/>
                      <a:pt x="13066" y="7"/>
                      <a:pt x="13065" y="7"/>
                    </a:cubicBezTo>
                    <a:lnTo>
                      <a:pt x="13065" y="7"/>
                    </a:lnTo>
                    <a:cubicBezTo>
                      <a:pt x="13064" y="7"/>
                      <a:pt x="13063" y="6"/>
                      <a:pt x="13063" y="5"/>
                    </a:cubicBezTo>
                    <a:cubicBezTo>
                      <a:pt x="13063" y="4"/>
                      <a:pt x="13064" y="3"/>
                      <a:pt x="13065" y="3"/>
                    </a:cubicBezTo>
                    <a:close/>
                    <a:moveTo>
                      <a:pt x="13073" y="3"/>
                    </a:moveTo>
                    <a:lnTo>
                      <a:pt x="13073" y="3"/>
                    </a:lnTo>
                    <a:cubicBezTo>
                      <a:pt x="13074" y="3"/>
                      <a:pt x="13075" y="4"/>
                      <a:pt x="13075" y="5"/>
                    </a:cubicBezTo>
                    <a:cubicBezTo>
                      <a:pt x="13075" y="6"/>
                      <a:pt x="13074" y="7"/>
                      <a:pt x="13073" y="7"/>
                    </a:cubicBezTo>
                    <a:lnTo>
                      <a:pt x="13073" y="7"/>
                    </a:lnTo>
                    <a:cubicBezTo>
                      <a:pt x="13072" y="7"/>
                      <a:pt x="13071" y="6"/>
                      <a:pt x="13071" y="5"/>
                    </a:cubicBezTo>
                    <a:cubicBezTo>
                      <a:pt x="13071" y="4"/>
                      <a:pt x="13072" y="3"/>
                      <a:pt x="13073" y="3"/>
                    </a:cubicBezTo>
                    <a:close/>
                    <a:moveTo>
                      <a:pt x="13081" y="3"/>
                    </a:moveTo>
                    <a:lnTo>
                      <a:pt x="13081" y="3"/>
                    </a:lnTo>
                    <a:cubicBezTo>
                      <a:pt x="13082" y="3"/>
                      <a:pt x="13083" y="4"/>
                      <a:pt x="13083" y="5"/>
                    </a:cubicBezTo>
                    <a:cubicBezTo>
                      <a:pt x="13083" y="6"/>
                      <a:pt x="13082" y="7"/>
                      <a:pt x="13081" y="7"/>
                    </a:cubicBezTo>
                    <a:lnTo>
                      <a:pt x="13081" y="7"/>
                    </a:lnTo>
                    <a:cubicBezTo>
                      <a:pt x="13080" y="7"/>
                      <a:pt x="13079" y="6"/>
                      <a:pt x="13079" y="5"/>
                    </a:cubicBezTo>
                    <a:cubicBezTo>
                      <a:pt x="13079" y="4"/>
                      <a:pt x="13080" y="3"/>
                      <a:pt x="13081" y="3"/>
                    </a:cubicBezTo>
                    <a:close/>
                    <a:moveTo>
                      <a:pt x="13089" y="3"/>
                    </a:moveTo>
                    <a:lnTo>
                      <a:pt x="13089" y="3"/>
                    </a:lnTo>
                    <a:cubicBezTo>
                      <a:pt x="13090" y="3"/>
                      <a:pt x="13091" y="4"/>
                      <a:pt x="13091" y="5"/>
                    </a:cubicBezTo>
                    <a:cubicBezTo>
                      <a:pt x="13091" y="6"/>
                      <a:pt x="13090" y="7"/>
                      <a:pt x="13089" y="7"/>
                    </a:cubicBezTo>
                    <a:lnTo>
                      <a:pt x="13089" y="7"/>
                    </a:lnTo>
                    <a:cubicBezTo>
                      <a:pt x="13088" y="7"/>
                      <a:pt x="13087" y="6"/>
                      <a:pt x="13087" y="5"/>
                    </a:cubicBezTo>
                    <a:cubicBezTo>
                      <a:pt x="13087" y="4"/>
                      <a:pt x="13088" y="3"/>
                      <a:pt x="13089" y="3"/>
                    </a:cubicBezTo>
                    <a:close/>
                    <a:moveTo>
                      <a:pt x="13097" y="3"/>
                    </a:moveTo>
                    <a:lnTo>
                      <a:pt x="13097" y="3"/>
                    </a:lnTo>
                    <a:cubicBezTo>
                      <a:pt x="13098" y="3"/>
                      <a:pt x="13099" y="4"/>
                      <a:pt x="13099" y="5"/>
                    </a:cubicBezTo>
                    <a:cubicBezTo>
                      <a:pt x="13099" y="6"/>
                      <a:pt x="13098" y="7"/>
                      <a:pt x="13097" y="7"/>
                    </a:cubicBezTo>
                    <a:lnTo>
                      <a:pt x="13097" y="7"/>
                    </a:lnTo>
                    <a:cubicBezTo>
                      <a:pt x="13096" y="7"/>
                      <a:pt x="13095" y="6"/>
                      <a:pt x="13095" y="5"/>
                    </a:cubicBezTo>
                    <a:cubicBezTo>
                      <a:pt x="13095" y="4"/>
                      <a:pt x="13096" y="3"/>
                      <a:pt x="13097" y="3"/>
                    </a:cubicBezTo>
                    <a:close/>
                    <a:moveTo>
                      <a:pt x="13105" y="3"/>
                    </a:moveTo>
                    <a:lnTo>
                      <a:pt x="13105" y="3"/>
                    </a:lnTo>
                    <a:cubicBezTo>
                      <a:pt x="13106" y="3"/>
                      <a:pt x="13107" y="4"/>
                      <a:pt x="13107" y="5"/>
                    </a:cubicBezTo>
                    <a:cubicBezTo>
                      <a:pt x="13107" y="6"/>
                      <a:pt x="13106" y="7"/>
                      <a:pt x="13105" y="7"/>
                    </a:cubicBezTo>
                    <a:lnTo>
                      <a:pt x="13105" y="7"/>
                    </a:lnTo>
                    <a:cubicBezTo>
                      <a:pt x="13104" y="7"/>
                      <a:pt x="13103" y="6"/>
                      <a:pt x="13103" y="5"/>
                    </a:cubicBezTo>
                    <a:cubicBezTo>
                      <a:pt x="13103" y="4"/>
                      <a:pt x="13104" y="3"/>
                      <a:pt x="13105" y="3"/>
                    </a:cubicBezTo>
                    <a:close/>
                    <a:moveTo>
                      <a:pt x="13113" y="3"/>
                    </a:moveTo>
                    <a:lnTo>
                      <a:pt x="13113" y="3"/>
                    </a:lnTo>
                    <a:cubicBezTo>
                      <a:pt x="13114" y="3"/>
                      <a:pt x="13115" y="4"/>
                      <a:pt x="13115" y="5"/>
                    </a:cubicBezTo>
                    <a:cubicBezTo>
                      <a:pt x="13115" y="6"/>
                      <a:pt x="13114" y="7"/>
                      <a:pt x="13113" y="7"/>
                    </a:cubicBezTo>
                    <a:lnTo>
                      <a:pt x="13113" y="7"/>
                    </a:lnTo>
                    <a:cubicBezTo>
                      <a:pt x="13112" y="7"/>
                      <a:pt x="13111" y="6"/>
                      <a:pt x="13111" y="5"/>
                    </a:cubicBezTo>
                    <a:cubicBezTo>
                      <a:pt x="13111" y="4"/>
                      <a:pt x="13112" y="3"/>
                      <a:pt x="13113" y="3"/>
                    </a:cubicBezTo>
                    <a:close/>
                    <a:moveTo>
                      <a:pt x="13121" y="3"/>
                    </a:moveTo>
                    <a:lnTo>
                      <a:pt x="13121" y="3"/>
                    </a:lnTo>
                    <a:cubicBezTo>
                      <a:pt x="13122" y="3"/>
                      <a:pt x="13123" y="4"/>
                      <a:pt x="13123" y="5"/>
                    </a:cubicBezTo>
                    <a:cubicBezTo>
                      <a:pt x="13123" y="6"/>
                      <a:pt x="13122" y="7"/>
                      <a:pt x="13121" y="7"/>
                    </a:cubicBezTo>
                    <a:lnTo>
                      <a:pt x="13121" y="7"/>
                    </a:lnTo>
                    <a:cubicBezTo>
                      <a:pt x="13120" y="7"/>
                      <a:pt x="13119" y="6"/>
                      <a:pt x="13119" y="5"/>
                    </a:cubicBezTo>
                    <a:cubicBezTo>
                      <a:pt x="13119" y="4"/>
                      <a:pt x="13120" y="3"/>
                      <a:pt x="13121" y="3"/>
                    </a:cubicBezTo>
                    <a:close/>
                    <a:moveTo>
                      <a:pt x="13129" y="3"/>
                    </a:moveTo>
                    <a:lnTo>
                      <a:pt x="13129" y="3"/>
                    </a:lnTo>
                    <a:cubicBezTo>
                      <a:pt x="13130" y="3"/>
                      <a:pt x="13131" y="4"/>
                      <a:pt x="13131" y="5"/>
                    </a:cubicBezTo>
                    <a:cubicBezTo>
                      <a:pt x="13131" y="6"/>
                      <a:pt x="13130" y="7"/>
                      <a:pt x="13129" y="7"/>
                    </a:cubicBezTo>
                    <a:lnTo>
                      <a:pt x="13129" y="7"/>
                    </a:lnTo>
                    <a:cubicBezTo>
                      <a:pt x="13128" y="7"/>
                      <a:pt x="13127" y="6"/>
                      <a:pt x="13127" y="5"/>
                    </a:cubicBezTo>
                    <a:cubicBezTo>
                      <a:pt x="13127" y="4"/>
                      <a:pt x="13128" y="3"/>
                      <a:pt x="13129" y="3"/>
                    </a:cubicBezTo>
                    <a:close/>
                    <a:moveTo>
                      <a:pt x="13137" y="3"/>
                    </a:moveTo>
                    <a:lnTo>
                      <a:pt x="13137" y="3"/>
                    </a:lnTo>
                    <a:cubicBezTo>
                      <a:pt x="13138" y="3"/>
                      <a:pt x="13139" y="4"/>
                      <a:pt x="13139" y="5"/>
                    </a:cubicBezTo>
                    <a:cubicBezTo>
                      <a:pt x="13139" y="6"/>
                      <a:pt x="13138" y="7"/>
                      <a:pt x="13137" y="7"/>
                    </a:cubicBezTo>
                    <a:lnTo>
                      <a:pt x="13137" y="7"/>
                    </a:lnTo>
                    <a:cubicBezTo>
                      <a:pt x="13136" y="7"/>
                      <a:pt x="13135" y="6"/>
                      <a:pt x="13135" y="5"/>
                    </a:cubicBezTo>
                    <a:cubicBezTo>
                      <a:pt x="13135" y="4"/>
                      <a:pt x="13136" y="3"/>
                      <a:pt x="13137" y="3"/>
                    </a:cubicBezTo>
                    <a:close/>
                    <a:moveTo>
                      <a:pt x="13145" y="3"/>
                    </a:moveTo>
                    <a:lnTo>
                      <a:pt x="13145" y="3"/>
                    </a:lnTo>
                    <a:cubicBezTo>
                      <a:pt x="13146" y="3"/>
                      <a:pt x="13147" y="4"/>
                      <a:pt x="13147" y="5"/>
                    </a:cubicBezTo>
                    <a:cubicBezTo>
                      <a:pt x="13147" y="6"/>
                      <a:pt x="13146" y="7"/>
                      <a:pt x="13145" y="7"/>
                    </a:cubicBezTo>
                    <a:lnTo>
                      <a:pt x="13145" y="7"/>
                    </a:lnTo>
                    <a:cubicBezTo>
                      <a:pt x="13144" y="7"/>
                      <a:pt x="13143" y="6"/>
                      <a:pt x="13143" y="5"/>
                    </a:cubicBezTo>
                    <a:cubicBezTo>
                      <a:pt x="13143" y="4"/>
                      <a:pt x="13144" y="3"/>
                      <a:pt x="13145" y="3"/>
                    </a:cubicBezTo>
                    <a:close/>
                    <a:moveTo>
                      <a:pt x="13153" y="3"/>
                    </a:moveTo>
                    <a:lnTo>
                      <a:pt x="13153" y="3"/>
                    </a:lnTo>
                    <a:cubicBezTo>
                      <a:pt x="13154" y="3"/>
                      <a:pt x="13155" y="4"/>
                      <a:pt x="13155" y="5"/>
                    </a:cubicBezTo>
                    <a:cubicBezTo>
                      <a:pt x="13155" y="6"/>
                      <a:pt x="13154" y="7"/>
                      <a:pt x="13153" y="7"/>
                    </a:cubicBezTo>
                    <a:lnTo>
                      <a:pt x="13153" y="7"/>
                    </a:lnTo>
                    <a:cubicBezTo>
                      <a:pt x="13152" y="7"/>
                      <a:pt x="13151" y="6"/>
                      <a:pt x="13151" y="5"/>
                    </a:cubicBezTo>
                    <a:cubicBezTo>
                      <a:pt x="13151" y="4"/>
                      <a:pt x="13152" y="3"/>
                      <a:pt x="13153" y="3"/>
                    </a:cubicBezTo>
                    <a:close/>
                    <a:moveTo>
                      <a:pt x="13161" y="3"/>
                    </a:moveTo>
                    <a:lnTo>
                      <a:pt x="13161" y="3"/>
                    </a:lnTo>
                    <a:cubicBezTo>
                      <a:pt x="13162" y="3"/>
                      <a:pt x="13163" y="4"/>
                      <a:pt x="13163" y="5"/>
                    </a:cubicBezTo>
                    <a:cubicBezTo>
                      <a:pt x="13163" y="6"/>
                      <a:pt x="13162" y="7"/>
                      <a:pt x="13161" y="7"/>
                    </a:cubicBezTo>
                    <a:lnTo>
                      <a:pt x="13161" y="7"/>
                    </a:lnTo>
                    <a:cubicBezTo>
                      <a:pt x="13160" y="7"/>
                      <a:pt x="13159" y="6"/>
                      <a:pt x="13159" y="5"/>
                    </a:cubicBezTo>
                    <a:cubicBezTo>
                      <a:pt x="13159" y="4"/>
                      <a:pt x="13160" y="3"/>
                      <a:pt x="13161" y="3"/>
                    </a:cubicBezTo>
                    <a:close/>
                    <a:moveTo>
                      <a:pt x="13169" y="3"/>
                    </a:moveTo>
                    <a:lnTo>
                      <a:pt x="13169" y="3"/>
                    </a:lnTo>
                    <a:cubicBezTo>
                      <a:pt x="13170" y="3"/>
                      <a:pt x="13171" y="4"/>
                      <a:pt x="13171" y="5"/>
                    </a:cubicBezTo>
                    <a:cubicBezTo>
                      <a:pt x="13171" y="6"/>
                      <a:pt x="13170" y="7"/>
                      <a:pt x="13169" y="7"/>
                    </a:cubicBezTo>
                    <a:lnTo>
                      <a:pt x="13169" y="7"/>
                    </a:lnTo>
                    <a:cubicBezTo>
                      <a:pt x="13168" y="7"/>
                      <a:pt x="13167" y="6"/>
                      <a:pt x="13167" y="5"/>
                    </a:cubicBezTo>
                    <a:cubicBezTo>
                      <a:pt x="13167" y="4"/>
                      <a:pt x="13168" y="3"/>
                      <a:pt x="13169" y="3"/>
                    </a:cubicBezTo>
                    <a:close/>
                    <a:moveTo>
                      <a:pt x="13177" y="3"/>
                    </a:moveTo>
                    <a:lnTo>
                      <a:pt x="13177" y="3"/>
                    </a:lnTo>
                    <a:cubicBezTo>
                      <a:pt x="13178" y="3"/>
                      <a:pt x="13179" y="4"/>
                      <a:pt x="13179" y="5"/>
                    </a:cubicBezTo>
                    <a:cubicBezTo>
                      <a:pt x="13179" y="6"/>
                      <a:pt x="13178" y="7"/>
                      <a:pt x="13177" y="7"/>
                    </a:cubicBezTo>
                    <a:lnTo>
                      <a:pt x="13177" y="7"/>
                    </a:lnTo>
                    <a:cubicBezTo>
                      <a:pt x="13176" y="7"/>
                      <a:pt x="13175" y="6"/>
                      <a:pt x="13175" y="5"/>
                    </a:cubicBezTo>
                    <a:cubicBezTo>
                      <a:pt x="13175" y="4"/>
                      <a:pt x="13176" y="3"/>
                      <a:pt x="13177" y="3"/>
                    </a:cubicBezTo>
                    <a:close/>
                    <a:moveTo>
                      <a:pt x="13185" y="3"/>
                    </a:moveTo>
                    <a:lnTo>
                      <a:pt x="13185" y="3"/>
                    </a:lnTo>
                    <a:cubicBezTo>
                      <a:pt x="13186" y="3"/>
                      <a:pt x="13187" y="4"/>
                      <a:pt x="13187" y="5"/>
                    </a:cubicBezTo>
                    <a:cubicBezTo>
                      <a:pt x="13187" y="6"/>
                      <a:pt x="13186" y="7"/>
                      <a:pt x="13185" y="7"/>
                    </a:cubicBezTo>
                    <a:lnTo>
                      <a:pt x="13185" y="7"/>
                    </a:lnTo>
                    <a:cubicBezTo>
                      <a:pt x="13184" y="7"/>
                      <a:pt x="13183" y="6"/>
                      <a:pt x="13183" y="5"/>
                    </a:cubicBezTo>
                    <a:cubicBezTo>
                      <a:pt x="13183" y="4"/>
                      <a:pt x="13184" y="3"/>
                      <a:pt x="13185" y="3"/>
                    </a:cubicBezTo>
                    <a:close/>
                    <a:moveTo>
                      <a:pt x="13193" y="3"/>
                    </a:moveTo>
                    <a:lnTo>
                      <a:pt x="13193" y="3"/>
                    </a:lnTo>
                    <a:cubicBezTo>
                      <a:pt x="13194" y="3"/>
                      <a:pt x="13195" y="4"/>
                      <a:pt x="13195" y="5"/>
                    </a:cubicBezTo>
                    <a:cubicBezTo>
                      <a:pt x="13195" y="6"/>
                      <a:pt x="13194" y="7"/>
                      <a:pt x="13193" y="7"/>
                    </a:cubicBezTo>
                    <a:lnTo>
                      <a:pt x="13193" y="7"/>
                    </a:lnTo>
                    <a:cubicBezTo>
                      <a:pt x="13192" y="7"/>
                      <a:pt x="13191" y="6"/>
                      <a:pt x="13191" y="5"/>
                    </a:cubicBezTo>
                    <a:cubicBezTo>
                      <a:pt x="13191" y="4"/>
                      <a:pt x="13192" y="3"/>
                      <a:pt x="13193" y="3"/>
                    </a:cubicBezTo>
                    <a:close/>
                    <a:moveTo>
                      <a:pt x="13201" y="3"/>
                    </a:moveTo>
                    <a:lnTo>
                      <a:pt x="13201" y="3"/>
                    </a:lnTo>
                    <a:cubicBezTo>
                      <a:pt x="13202" y="3"/>
                      <a:pt x="13203" y="4"/>
                      <a:pt x="13203" y="5"/>
                    </a:cubicBezTo>
                    <a:cubicBezTo>
                      <a:pt x="13203" y="6"/>
                      <a:pt x="13202" y="7"/>
                      <a:pt x="13201" y="7"/>
                    </a:cubicBezTo>
                    <a:lnTo>
                      <a:pt x="13201" y="7"/>
                    </a:lnTo>
                    <a:cubicBezTo>
                      <a:pt x="13200" y="7"/>
                      <a:pt x="13199" y="6"/>
                      <a:pt x="13199" y="5"/>
                    </a:cubicBezTo>
                    <a:cubicBezTo>
                      <a:pt x="13199" y="4"/>
                      <a:pt x="13200" y="3"/>
                      <a:pt x="13201" y="3"/>
                    </a:cubicBezTo>
                    <a:close/>
                    <a:moveTo>
                      <a:pt x="13209" y="3"/>
                    </a:moveTo>
                    <a:lnTo>
                      <a:pt x="13209" y="3"/>
                    </a:lnTo>
                    <a:cubicBezTo>
                      <a:pt x="13210" y="3"/>
                      <a:pt x="13211" y="4"/>
                      <a:pt x="13211" y="5"/>
                    </a:cubicBezTo>
                    <a:cubicBezTo>
                      <a:pt x="13211" y="6"/>
                      <a:pt x="13210" y="7"/>
                      <a:pt x="13209" y="7"/>
                    </a:cubicBezTo>
                    <a:lnTo>
                      <a:pt x="13209" y="7"/>
                    </a:lnTo>
                    <a:cubicBezTo>
                      <a:pt x="13208" y="7"/>
                      <a:pt x="13207" y="6"/>
                      <a:pt x="13207" y="5"/>
                    </a:cubicBezTo>
                    <a:cubicBezTo>
                      <a:pt x="13207" y="4"/>
                      <a:pt x="13208" y="3"/>
                      <a:pt x="13209" y="3"/>
                    </a:cubicBezTo>
                    <a:close/>
                    <a:moveTo>
                      <a:pt x="13217" y="3"/>
                    </a:moveTo>
                    <a:lnTo>
                      <a:pt x="13217" y="3"/>
                    </a:lnTo>
                    <a:cubicBezTo>
                      <a:pt x="13218" y="3"/>
                      <a:pt x="13219" y="4"/>
                      <a:pt x="13219" y="5"/>
                    </a:cubicBezTo>
                    <a:cubicBezTo>
                      <a:pt x="13219" y="6"/>
                      <a:pt x="13218" y="7"/>
                      <a:pt x="13217" y="7"/>
                    </a:cubicBezTo>
                    <a:lnTo>
                      <a:pt x="13217" y="7"/>
                    </a:lnTo>
                    <a:cubicBezTo>
                      <a:pt x="13216" y="7"/>
                      <a:pt x="13215" y="6"/>
                      <a:pt x="13215" y="5"/>
                    </a:cubicBezTo>
                    <a:cubicBezTo>
                      <a:pt x="13215" y="4"/>
                      <a:pt x="13216" y="3"/>
                      <a:pt x="13217" y="3"/>
                    </a:cubicBezTo>
                    <a:close/>
                    <a:moveTo>
                      <a:pt x="13225" y="3"/>
                    </a:moveTo>
                    <a:lnTo>
                      <a:pt x="13225" y="3"/>
                    </a:lnTo>
                    <a:cubicBezTo>
                      <a:pt x="13226" y="3"/>
                      <a:pt x="13227" y="4"/>
                      <a:pt x="13227" y="5"/>
                    </a:cubicBezTo>
                    <a:cubicBezTo>
                      <a:pt x="13227" y="6"/>
                      <a:pt x="13226" y="7"/>
                      <a:pt x="13225" y="7"/>
                    </a:cubicBezTo>
                    <a:lnTo>
                      <a:pt x="13225" y="7"/>
                    </a:lnTo>
                    <a:cubicBezTo>
                      <a:pt x="13224" y="7"/>
                      <a:pt x="13223" y="6"/>
                      <a:pt x="13223" y="5"/>
                    </a:cubicBezTo>
                    <a:cubicBezTo>
                      <a:pt x="13223" y="4"/>
                      <a:pt x="13224" y="3"/>
                      <a:pt x="13225" y="3"/>
                    </a:cubicBezTo>
                    <a:close/>
                    <a:moveTo>
                      <a:pt x="13233" y="3"/>
                    </a:moveTo>
                    <a:lnTo>
                      <a:pt x="13233" y="3"/>
                    </a:lnTo>
                    <a:cubicBezTo>
                      <a:pt x="13234" y="3"/>
                      <a:pt x="13235" y="4"/>
                      <a:pt x="13235" y="5"/>
                    </a:cubicBezTo>
                    <a:cubicBezTo>
                      <a:pt x="13235" y="6"/>
                      <a:pt x="13234" y="7"/>
                      <a:pt x="13233" y="7"/>
                    </a:cubicBezTo>
                    <a:lnTo>
                      <a:pt x="13233" y="7"/>
                    </a:lnTo>
                    <a:cubicBezTo>
                      <a:pt x="13232" y="7"/>
                      <a:pt x="13231" y="6"/>
                      <a:pt x="13231" y="5"/>
                    </a:cubicBezTo>
                    <a:cubicBezTo>
                      <a:pt x="13231" y="4"/>
                      <a:pt x="13232" y="3"/>
                      <a:pt x="13233" y="3"/>
                    </a:cubicBezTo>
                    <a:close/>
                    <a:moveTo>
                      <a:pt x="13241" y="3"/>
                    </a:moveTo>
                    <a:lnTo>
                      <a:pt x="13241" y="3"/>
                    </a:lnTo>
                    <a:cubicBezTo>
                      <a:pt x="13242" y="3"/>
                      <a:pt x="13243" y="4"/>
                      <a:pt x="13243" y="5"/>
                    </a:cubicBezTo>
                    <a:cubicBezTo>
                      <a:pt x="13243" y="6"/>
                      <a:pt x="13242" y="7"/>
                      <a:pt x="13241" y="7"/>
                    </a:cubicBezTo>
                    <a:lnTo>
                      <a:pt x="13241" y="7"/>
                    </a:lnTo>
                    <a:cubicBezTo>
                      <a:pt x="13240" y="7"/>
                      <a:pt x="13239" y="6"/>
                      <a:pt x="13239" y="5"/>
                    </a:cubicBezTo>
                    <a:cubicBezTo>
                      <a:pt x="13239" y="4"/>
                      <a:pt x="13240" y="3"/>
                      <a:pt x="13241" y="3"/>
                    </a:cubicBezTo>
                    <a:close/>
                    <a:moveTo>
                      <a:pt x="13249" y="3"/>
                    </a:moveTo>
                    <a:lnTo>
                      <a:pt x="13249" y="3"/>
                    </a:lnTo>
                    <a:cubicBezTo>
                      <a:pt x="13250" y="3"/>
                      <a:pt x="13251" y="4"/>
                      <a:pt x="13251" y="5"/>
                    </a:cubicBezTo>
                    <a:cubicBezTo>
                      <a:pt x="13251" y="6"/>
                      <a:pt x="13250" y="7"/>
                      <a:pt x="13249" y="7"/>
                    </a:cubicBezTo>
                    <a:lnTo>
                      <a:pt x="13249" y="7"/>
                    </a:lnTo>
                    <a:cubicBezTo>
                      <a:pt x="13248" y="7"/>
                      <a:pt x="13247" y="6"/>
                      <a:pt x="13247" y="5"/>
                    </a:cubicBezTo>
                    <a:cubicBezTo>
                      <a:pt x="13247" y="4"/>
                      <a:pt x="13248" y="3"/>
                      <a:pt x="13249" y="3"/>
                    </a:cubicBezTo>
                    <a:close/>
                    <a:moveTo>
                      <a:pt x="13257" y="3"/>
                    </a:moveTo>
                    <a:lnTo>
                      <a:pt x="13257" y="3"/>
                    </a:lnTo>
                    <a:cubicBezTo>
                      <a:pt x="13258" y="3"/>
                      <a:pt x="13259" y="4"/>
                      <a:pt x="13259" y="5"/>
                    </a:cubicBezTo>
                    <a:cubicBezTo>
                      <a:pt x="13259" y="6"/>
                      <a:pt x="13258" y="7"/>
                      <a:pt x="13257" y="7"/>
                    </a:cubicBezTo>
                    <a:lnTo>
                      <a:pt x="13257" y="7"/>
                    </a:lnTo>
                    <a:cubicBezTo>
                      <a:pt x="13256" y="7"/>
                      <a:pt x="13255" y="6"/>
                      <a:pt x="13255" y="5"/>
                    </a:cubicBezTo>
                    <a:cubicBezTo>
                      <a:pt x="13255" y="4"/>
                      <a:pt x="13256" y="3"/>
                      <a:pt x="13257" y="3"/>
                    </a:cubicBezTo>
                    <a:close/>
                    <a:moveTo>
                      <a:pt x="13265" y="3"/>
                    </a:moveTo>
                    <a:lnTo>
                      <a:pt x="13265" y="3"/>
                    </a:lnTo>
                    <a:cubicBezTo>
                      <a:pt x="13266" y="3"/>
                      <a:pt x="13267" y="4"/>
                      <a:pt x="13267" y="5"/>
                    </a:cubicBezTo>
                    <a:cubicBezTo>
                      <a:pt x="13267" y="6"/>
                      <a:pt x="13266" y="7"/>
                      <a:pt x="13265" y="7"/>
                    </a:cubicBezTo>
                    <a:lnTo>
                      <a:pt x="13265" y="7"/>
                    </a:lnTo>
                    <a:cubicBezTo>
                      <a:pt x="13264" y="7"/>
                      <a:pt x="13263" y="6"/>
                      <a:pt x="13263" y="5"/>
                    </a:cubicBezTo>
                    <a:cubicBezTo>
                      <a:pt x="13263" y="4"/>
                      <a:pt x="13264" y="3"/>
                      <a:pt x="13265" y="3"/>
                    </a:cubicBezTo>
                    <a:close/>
                    <a:moveTo>
                      <a:pt x="13273" y="3"/>
                    </a:moveTo>
                    <a:lnTo>
                      <a:pt x="13273" y="3"/>
                    </a:lnTo>
                    <a:cubicBezTo>
                      <a:pt x="13274" y="3"/>
                      <a:pt x="13275" y="4"/>
                      <a:pt x="13275" y="5"/>
                    </a:cubicBezTo>
                    <a:cubicBezTo>
                      <a:pt x="13275" y="6"/>
                      <a:pt x="13274" y="7"/>
                      <a:pt x="13273" y="7"/>
                    </a:cubicBezTo>
                    <a:lnTo>
                      <a:pt x="13273" y="7"/>
                    </a:lnTo>
                    <a:cubicBezTo>
                      <a:pt x="13272" y="7"/>
                      <a:pt x="13271" y="6"/>
                      <a:pt x="13271" y="5"/>
                    </a:cubicBezTo>
                    <a:cubicBezTo>
                      <a:pt x="13271" y="4"/>
                      <a:pt x="13272" y="3"/>
                      <a:pt x="13273" y="3"/>
                    </a:cubicBezTo>
                    <a:close/>
                    <a:moveTo>
                      <a:pt x="13281" y="3"/>
                    </a:moveTo>
                    <a:lnTo>
                      <a:pt x="13281" y="3"/>
                    </a:lnTo>
                    <a:cubicBezTo>
                      <a:pt x="13282" y="3"/>
                      <a:pt x="13283" y="4"/>
                      <a:pt x="13283" y="5"/>
                    </a:cubicBezTo>
                    <a:cubicBezTo>
                      <a:pt x="13283" y="6"/>
                      <a:pt x="13282" y="7"/>
                      <a:pt x="13281" y="7"/>
                    </a:cubicBezTo>
                    <a:lnTo>
                      <a:pt x="13281" y="7"/>
                    </a:lnTo>
                    <a:cubicBezTo>
                      <a:pt x="13280" y="7"/>
                      <a:pt x="13279" y="6"/>
                      <a:pt x="13279" y="5"/>
                    </a:cubicBezTo>
                    <a:cubicBezTo>
                      <a:pt x="13279" y="4"/>
                      <a:pt x="13280" y="3"/>
                      <a:pt x="13281" y="3"/>
                    </a:cubicBezTo>
                    <a:close/>
                    <a:moveTo>
                      <a:pt x="13289" y="3"/>
                    </a:moveTo>
                    <a:lnTo>
                      <a:pt x="13289" y="3"/>
                    </a:lnTo>
                    <a:cubicBezTo>
                      <a:pt x="13290" y="3"/>
                      <a:pt x="13291" y="4"/>
                      <a:pt x="13291" y="5"/>
                    </a:cubicBezTo>
                    <a:cubicBezTo>
                      <a:pt x="13291" y="6"/>
                      <a:pt x="13290" y="7"/>
                      <a:pt x="13289" y="7"/>
                    </a:cubicBezTo>
                    <a:lnTo>
                      <a:pt x="13289" y="7"/>
                    </a:lnTo>
                    <a:cubicBezTo>
                      <a:pt x="13288" y="7"/>
                      <a:pt x="13287" y="6"/>
                      <a:pt x="13287" y="5"/>
                    </a:cubicBezTo>
                    <a:cubicBezTo>
                      <a:pt x="13287" y="4"/>
                      <a:pt x="13288" y="3"/>
                      <a:pt x="13289" y="3"/>
                    </a:cubicBezTo>
                    <a:close/>
                    <a:moveTo>
                      <a:pt x="13297" y="3"/>
                    </a:moveTo>
                    <a:lnTo>
                      <a:pt x="13297" y="3"/>
                    </a:lnTo>
                    <a:cubicBezTo>
                      <a:pt x="13298" y="3"/>
                      <a:pt x="13299" y="4"/>
                      <a:pt x="13299" y="5"/>
                    </a:cubicBezTo>
                    <a:cubicBezTo>
                      <a:pt x="13299" y="6"/>
                      <a:pt x="13298" y="7"/>
                      <a:pt x="13297" y="7"/>
                    </a:cubicBezTo>
                    <a:lnTo>
                      <a:pt x="13297" y="7"/>
                    </a:lnTo>
                    <a:cubicBezTo>
                      <a:pt x="13296" y="7"/>
                      <a:pt x="13295" y="6"/>
                      <a:pt x="13295" y="5"/>
                    </a:cubicBezTo>
                    <a:cubicBezTo>
                      <a:pt x="13295" y="4"/>
                      <a:pt x="13296" y="3"/>
                      <a:pt x="13297" y="3"/>
                    </a:cubicBezTo>
                    <a:close/>
                    <a:moveTo>
                      <a:pt x="13305" y="3"/>
                    </a:moveTo>
                    <a:lnTo>
                      <a:pt x="13305" y="3"/>
                    </a:lnTo>
                    <a:cubicBezTo>
                      <a:pt x="13306" y="3"/>
                      <a:pt x="13307" y="4"/>
                      <a:pt x="13307" y="5"/>
                    </a:cubicBezTo>
                    <a:cubicBezTo>
                      <a:pt x="13307" y="6"/>
                      <a:pt x="13306" y="7"/>
                      <a:pt x="13305" y="7"/>
                    </a:cubicBezTo>
                    <a:lnTo>
                      <a:pt x="13305" y="7"/>
                    </a:lnTo>
                    <a:cubicBezTo>
                      <a:pt x="13304" y="7"/>
                      <a:pt x="13303" y="6"/>
                      <a:pt x="13303" y="5"/>
                    </a:cubicBezTo>
                    <a:cubicBezTo>
                      <a:pt x="13303" y="4"/>
                      <a:pt x="13304" y="3"/>
                      <a:pt x="13305" y="3"/>
                    </a:cubicBezTo>
                    <a:close/>
                    <a:moveTo>
                      <a:pt x="13313" y="3"/>
                    </a:moveTo>
                    <a:lnTo>
                      <a:pt x="13313" y="3"/>
                    </a:lnTo>
                    <a:cubicBezTo>
                      <a:pt x="13314" y="3"/>
                      <a:pt x="13315" y="4"/>
                      <a:pt x="13315" y="5"/>
                    </a:cubicBezTo>
                    <a:cubicBezTo>
                      <a:pt x="13315" y="6"/>
                      <a:pt x="13314" y="7"/>
                      <a:pt x="13313" y="7"/>
                    </a:cubicBezTo>
                    <a:lnTo>
                      <a:pt x="13313" y="7"/>
                    </a:lnTo>
                    <a:cubicBezTo>
                      <a:pt x="13312" y="7"/>
                      <a:pt x="13311" y="6"/>
                      <a:pt x="13311" y="5"/>
                    </a:cubicBezTo>
                    <a:cubicBezTo>
                      <a:pt x="13311" y="4"/>
                      <a:pt x="13312" y="3"/>
                      <a:pt x="13313" y="3"/>
                    </a:cubicBezTo>
                    <a:close/>
                    <a:moveTo>
                      <a:pt x="13321" y="3"/>
                    </a:moveTo>
                    <a:lnTo>
                      <a:pt x="13321" y="3"/>
                    </a:lnTo>
                    <a:cubicBezTo>
                      <a:pt x="13322" y="3"/>
                      <a:pt x="13323" y="4"/>
                      <a:pt x="13323" y="5"/>
                    </a:cubicBezTo>
                    <a:cubicBezTo>
                      <a:pt x="13323" y="6"/>
                      <a:pt x="13322" y="7"/>
                      <a:pt x="13321" y="7"/>
                    </a:cubicBezTo>
                    <a:lnTo>
                      <a:pt x="13321" y="7"/>
                    </a:lnTo>
                    <a:cubicBezTo>
                      <a:pt x="13320" y="7"/>
                      <a:pt x="13319" y="6"/>
                      <a:pt x="13319" y="5"/>
                    </a:cubicBezTo>
                    <a:cubicBezTo>
                      <a:pt x="13319" y="4"/>
                      <a:pt x="13320" y="3"/>
                      <a:pt x="13321" y="3"/>
                    </a:cubicBezTo>
                    <a:close/>
                    <a:moveTo>
                      <a:pt x="13329" y="3"/>
                    </a:moveTo>
                    <a:lnTo>
                      <a:pt x="13329" y="3"/>
                    </a:lnTo>
                    <a:cubicBezTo>
                      <a:pt x="13330" y="3"/>
                      <a:pt x="13331" y="4"/>
                      <a:pt x="13331" y="5"/>
                    </a:cubicBezTo>
                    <a:cubicBezTo>
                      <a:pt x="13331" y="6"/>
                      <a:pt x="13330" y="7"/>
                      <a:pt x="13329" y="7"/>
                    </a:cubicBezTo>
                    <a:lnTo>
                      <a:pt x="13329" y="7"/>
                    </a:lnTo>
                    <a:cubicBezTo>
                      <a:pt x="13328" y="7"/>
                      <a:pt x="13327" y="6"/>
                      <a:pt x="13327" y="5"/>
                    </a:cubicBezTo>
                    <a:cubicBezTo>
                      <a:pt x="13327" y="4"/>
                      <a:pt x="13328" y="3"/>
                      <a:pt x="13329" y="3"/>
                    </a:cubicBezTo>
                    <a:close/>
                    <a:moveTo>
                      <a:pt x="13337" y="3"/>
                    </a:moveTo>
                    <a:lnTo>
                      <a:pt x="13337" y="3"/>
                    </a:lnTo>
                    <a:cubicBezTo>
                      <a:pt x="13338" y="3"/>
                      <a:pt x="13339" y="4"/>
                      <a:pt x="13339" y="5"/>
                    </a:cubicBezTo>
                    <a:cubicBezTo>
                      <a:pt x="13339" y="6"/>
                      <a:pt x="13338" y="7"/>
                      <a:pt x="13337" y="7"/>
                    </a:cubicBezTo>
                    <a:lnTo>
                      <a:pt x="13337" y="7"/>
                    </a:lnTo>
                    <a:cubicBezTo>
                      <a:pt x="13336" y="7"/>
                      <a:pt x="13335" y="6"/>
                      <a:pt x="13335" y="5"/>
                    </a:cubicBezTo>
                    <a:cubicBezTo>
                      <a:pt x="13335" y="4"/>
                      <a:pt x="13336" y="3"/>
                      <a:pt x="13337" y="3"/>
                    </a:cubicBezTo>
                    <a:close/>
                    <a:moveTo>
                      <a:pt x="13345" y="3"/>
                    </a:moveTo>
                    <a:lnTo>
                      <a:pt x="13345" y="3"/>
                    </a:lnTo>
                    <a:cubicBezTo>
                      <a:pt x="13346" y="3"/>
                      <a:pt x="13347" y="4"/>
                      <a:pt x="13347" y="5"/>
                    </a:cubicBezTo>
                    <a:cubicBezTo>
                      <a:pt x="13347" y="6"/>
                      <a:pt x="13346" y="7"/>
                      <a:pt x="13345" y="7"/>
                    </a:cubicBezTo>
                    <a:lnTo>
                      <a:pt x="13345" y="7"/>
                    </a:lnTo>
                    <a:cubicBezTo>
                      <a:pt x="13344" y="7"/>
                      <a:pt x="13343" y="6"/>
                      <a:pt x="13343" y="5"/>
                    </a:cubicBezTo>
                    <a:cubicBezTo>
                      <a:pt x="13343" y="4"/>
                      <a:pt x="13344" y="3"/>
                      <a:pt x="13345" y="3"/>
                    </a:cubicBezTo>
                    <a:close/>
                    <a:moveTo>
                      <a:pt x="13353" y="3"/>
                    </a:moveTo>
                    <a:lnTo>
                      <a:pt x="13353" y="3"/>
                    </a:lnTo>
                    <a:cubicBezTo>
                      <a:pt x="13354" y="3"/>
                      <a:pt x="13355" y="4"/>
                      <a:pt x="13355" y="5"/>
                    </a:cubicBezTo>
                    <a:cubicBezTo>
                      <a:pt x="13355" y="6"/>
                      <a:pt x="13354" y="7"/>
                      <a:pt x="13353" y="7"/>
                    </a:cubicBezTo>
                    <a:lnTo>
                      <a:pt x="13353" y="7"/>
                    </a:lnTo>
                    <a:cubicBezTo>
                      <a:pt x="13352" y="7"/>
                      <a:pt x="13351" y="6"/>
                      <a:pt x="13351" y="5"/>
                    </a:cubicBezTo>
                    <a:cubicBezTo>
                      <a:pt x="13351" y="4"/>
                      <a:pt x="13352" y="3"/>
                      <a:pt x="13353" y="3"/>
                    </a:cubicBezTo>
                    <a:close/>
                    <a:moveTo>
                      <a:pt x="13361" y="3"/>
                    </a:moveTo>
                    <a:lnTo>
                      <a:pt x="13361" y="3"/>
                    </a:lnTo>
                    <a:cubicBezTo>
                      <a:pt x="13362" y="3"/>
                      <a:pt x="13363" y="4"/>
                      <a:pt x="13363" y="5"/>
                    </a:cubicBezTo>
                    <a:cubicBezTo>
                      <a:pt x="13363" y="6"/>
                      <a:pt x="13362" y="7"/>
                      <a:pt x="13361" y="7"/>
                    </a:cubicBezTo>
                    <a:lnTo>
                      <a:pt x="13361" y="7"/>
                    </a:lnTo>
                    <a:cubicBezTo>
                      <a:pt x="13360" y="7"/>
                      <a:pt x="13359" y="6"/>
                      <a:pt x="13359" y="5"/>
                    </a:cubicBezTo>
                    <a:cubicBezTo>
                      <a:pt x="13359" y="4"/>
                      <a:pt x="13360" y="3"/>
                      <a:pt x="13361" y="3"/>
                    </a:cubicBezTo>
                    <a:close/>
                    <a:moveTo>
                      <a:pt x="13369" y="3"/>
                    </a:moveTo>
                    <a:lnTo>
                      <a:pt x="13369" y="3"/>
                    </a:lnTo>
                    <a:cubicBezTo>
                      <a:pt x="13370" y="3"/>
                      <a:pt x="13371" y="4"/>
                      <a:pt x="13371" y="5"/>
                    </a:cubicBezTo>
                    <a:cubicBezTo>
                      <a:pt x="13371" y="6"/>
                      <a:pt x="13370" y="7"/>
                      <a:pt x="13369" y="7"/>
                    </a:cubicBezTo>
                    <a:lnTo>
                      <a:pt x="13369" y="7"/>
                    </a:lnTo>
                    <a:cubicBezTo>
                      <a:pt x="13368" y="7"/>
                      <a:pt x="13367" y="6"/>
                      <a:pt x="13367" y="5"/>
                    </a:cubicBezTo>
                    <a:cubicBezTo>
                      <a:pt x="13367" y="4"/>
                      <a:pt x="13368" y="3"/>
                      <a:pt x="13369" y="3"/>
                    </a:cubicBezTo>
                    <a:close/>
                    <a:moveTo>
                      <a:pt x="13377" y="3"/>
                    </a:moveTo>
                    <a:lnTo>
                      <a:pt x="13377" y="3"/>
                    </a:lnTo>
                    <a:cubicBezTo>
                      <a:pt x="13378" y="3"/>
                      <a:pt x="13379" y="4"/>
                      <a:pt x="13379" y="5"/>
                    </a:cubicBezTo>
                    <a:cubicBezTo>
                      <a:pt x="13379" y="6"/>
                      <a:pt x="13378" y="7"/>
                      <a:pt x="13377" y="7"/>
                    </a:cubicBezTo>
                    <a:lnTo>
                      <a:pt x="13377" y="7"/>
                    </a:lnTo>
                    <a:cubicBezTo>
                      <a:pt x="13376" y="7"/>
                      <a:pt x="13375" y="6"/>
                      <a:pt x="13375" y="5"/>
                    </a:cubicBezTo>
                    <a:cubicBezTo>
                      <a:pt x="13375" y="4"/>
                      <a:pt x="13376" y="3"/>
                      <a:pt x="13377" y="3"/>
                    </a:cubicBezTo>
                    <a:close/>
                    <a:moveTo>
                      <a:pt x="13385" y="3"/>
                    </a:moveTo>
                    <a:lnTo>
                      <a:pt x="13385" y="3"/>
                    </a:lnTo>
                    <a:cubicBezTo>
                      <a:pt x="13386" y="3"/>
                      <a:pt x="13387" y="4"/>
                      <a:pt x="13387" y="5"/>
                    </a:cubicBezTo>
                    <a:cubicBezTo>
                      <a:pt x="13387" y="6"/>
                      <a:pt x="13386" y="7"/>
                      <a:pt x="13385" y="7"/>
                    </a:cubicBezTo>
                    <a:lnTo>
                      <a:pt x="13385" y="7"/>
                    </a:lnTo>
                    <a:cubicBezTo>
                      <a:pt x="13384" y="7"/>
                      <a:pt x="13383" y="6"/>
                      <a:pt x="13383" y="5"/>
                    </a:cubicBezTo>
                    <a:cubicBezTo>
                      <a:pt x="13383" y="4"/>
                      <a:pt x="13384" y="3"/>
                      <a:pt x="13385" y="3"/>
                    </a:cubicBezTo>
                    <a:close/>
                    <a:moveTo>
                      <a:pt x="13393" y="3"/>
                    </a:moveTo>
                    <a:lnTo>
                      <a:pt x="13393" y="3"/>
                    </a:lnTo>
                    <a:cubicBezTo>
                      <a:pt x="13394" y="3"/>
                      <a:pt x="13395" y="4"/>
                      <a:pt x="13395" y="5"/>
                    </a:cubicBezTo>
                    <a:cubicBezTo>
                      <a:pt x="13395" y="6"/>
                      <a:pt x="13394" y="7"/>
                      <a:pt x="13393" y="7"/>
                    </a:cubicBezTo>
                    <a:lnTo>
                      <a:pt x="13393" y="7"/>
                    </a:lnTo>
                    <a:cubicBezTo>
                      <a:pt x="13392" y="7"/>
                      <a:pt x="13391" y="6"/>
                      <a:pt x="13391" y="5"/>
                    </a:cubicBezTo>
                    <a:cubicBezTo>
                      <a:pt x="13391" y="4"/>
                      <a:pt x="13392" y="3"/>
                      <a:pt x="13393" y="3"/>
                    </a:cubicBezTo>
                    <a:close/>
                    <a:moveTo>
                      <a:pt x="13401" y="3"/>
                    </a:moveTo>
                    <a:lnTo>
                      <a:pt x="13401" y="3"/>
                    </a:lnTo>
                    <a:cubicBezTo>
                      <a:pt x="13402" y="3"/>
                      <a:pt x="13403" y="4"/>
                      <a:pt x="13403" y="5"/>
                    </a:cubicBezTo>
                    <a:cubicBezTo>
                      <a:pt x="13403" y="6"/>
                      <a:pt x="13402" y="7"/>
                      <a:pt x="13401" y="7"/>
                    </a:cubicBezTo>
                    <a:lnTo>
                      <a:pt x="13401" y="7"/>
                    </a:lnTo>
                    <a:cubicBezTo>
                      <a:pt x="13400" y="7"/>
                      <a:pt x="13399" y="6"/>
                      <a:pt x="13399" y="5"/>
                    </a:cubicBezTo>
                    <a:cubicBezTo>
                      <a:pt x="13399" y="4"/>
                      <a:pt x="13400" y="3"/>
                      <a:pt x="13401" y="3"/>
                    </a:cubicBezTo>
                    <a:close/>
                    <a:moveTo>
                      <a:pt x="13409" y="3"/>
                    </a:moveTo>
                    <a:lnTo>
                      <a:pt x="13409" y="3"/>
                    </a:lnTo>
                    <a:cubicBezTo>
                      <a:pt x="13410" y="3"/>
                      <a:pt x="13411" y="4"/>
                      <a:pt x="13411" y="5"/>
                    </a:cubicBezTo>
                    <a:cubicBezTo>
                      <a:pt x="13411" y="6"/>
                      <a:pt x="13410" y="7"/>
                      <a:pt x="13409" y="7"/>
                    </a:cubicBezTo>
                    <a:lnTo>
                      <a:pt x="13409" y="7"/>
                    </a:lnTo>
                    <a:cubicBezTo>
                      <a:pt x="13408" y="7"/>
                      <a:pt x="13407" y="6"/>
                      <a:pt x="13407" y="5"/>
                    </a:cubicBezTo>
                    <a:cubicBezTo>
                      <a:pt x="13407" y="4"/>
                      <a:pt x="13408" y="3"/>
                      <a:pt x="13409" y="3"/>
                    </a:cubicBezTo>
                    <a:close/>
                    <a:moveTo>
                      <a:pt x="13417" y="3"/>
                    </a:moveTo>
                    <a:lnTo>
                      <a:pt x="13417" y="3"/>
                    </a:lnTo>
                    <a:cubicBezTo>
                      <a:pt x="13418" y="3"/>
                      <a:pt x="13419" y="4"/>
                      <a:pt x="13419" y="5"/>
                    </a:cubicBezTo>
                    <a:cubicBezTo>
                      <a:pt x="13419" y="6"/>
                      <a:pt x="13418" y="7"/>
                      <a:pt x="13417" y="7"/>
                    </a:cubicBezTo>
                    <a:lnTo>
                      <a:pt x="13417" y="7"/>
                    </a:lnTo>
                    <a:cubicBezTo>
                      <a:pt x="13416" y="7"/>
                      <a:pt x="13415" y="6"/>
                      <a:pt x="13415" y="5"/>
                    </a:cubicBezTo>
                    <a:cubicBezTo>
                      <a:pt x="13415" y="4"/>
                      <a:pt x="13416" y="3"/>
                      <a:pt x="13417" y="3"/>
                    </a:cubicBezTo>
                    <a:close/>
                    <a:moveTo>
                      <a:pt x="13425" y="3"/>
                    </a:moveTo>
                    <a:lnTo>
                      <a:pt x="13425" y="3"/>
                    </a:lnTo>
                    <a:cubicBezTo>
                      <a:pt x="13426" y="3"/>
                      <a:pt x="13427" y="4"/>
                      <a:pt x="13427" y="5"/>
                    </a:cubicBezTo>
                    <a:cubicBezTo>
                      <a:pt x="13427" y="6"/>
                      <a:pt x="13426" y="7"/>
                      <a:pt x="13425" y="7"/>
                    </a:cubicBezTo>
                    <a:lnTo>
                      <a:pt x="13425" y="7"/>
                    </a:lnTo>
                    <a:cubicBezTo>
                      <a:pt x="13424" y="7"/>
                      <a:pt x="13423" y="6"/>
                      <a:pt x="13423" y="5"/>
                    </a:cubicBezTo>
                    <a:cubicBezTo>
                      <a:pt x="13423" y="4"/>
                      <a:pt x="13424" y="3"/>
                      <a:pt x="13425" y="3"/>
                    </a:cubicBezTo>
                    <a:close/>
                    <a:moveTo>
                      <a:pt x="13433" y="3"/>
                    </a:moveTo>
                    <a:lnTo>
                      <a:pt x="13433" y="3"/>
                    </a:lnTo>
                    <a:cubicBezTo>
                      <a:pt x="13434" y="3"/>
                      <a:pt x="13435" y="4"/>
                      <a:pt x="13435" y="5"/>
                    </a:cubicBezTo>
                    <a:cubicBezTo>
                      <a:pt x="13435" y="6"/>
                      <a:pt x="13434" y="7"/>
                      <a:pt x="13433" y="7"/>
                    </a:cubicBezTo>
                    <a:lnTo>
                      <a:pt x="13433" y="7"/>
                    </a:lnTo>
                    <a:cubicBezTo>
                      <a:pt x="13432" y="7"/>
                      <a:pt x="13431" y="6"/>
                      <a:pt x="13431" y="5"/>
                    </a:cubicBezTo>
                    <a:cubicBezTo>
                      <a:pt x="13431" y="4"/>
                      <a:pt x="13432" y="3"/>
                      <a:pt x="13433" y="3"/>
                    </a:cubicBezTo>
                    <a:close/>
                    <a:moveTo>
                      <a:pt x="13441" y="3"/>
                    </a:moveTo>
                    <a:lnTo>
                      <a:pt x="13441" y="3"/>
                    </a:lnTo>
                    <a:cubicBezTo>
                      <a:pt x="13442" y="3"/>
                      <a:pt x="13443" y="4"/>
                      <a:pt x="13443" y="5"/>
                    </a:cubicBezTo>
                    <a:cubicBezTo>
                      <a:pt x="13443" y="6"/>
                      <a:pt x="13442" y="7"/>
                      <a:pt x="13441" y="7"/>
                    </a:cubicBezTo>
                    <a:lnTo>
                      <a:pt x="13441" y="7"/>
                    </a:lnTo>
                    <a:cubicBezTo>
                      <a:pt x="13440" y="7"/>
                      <a:pt x="13439" y="6"/>
                      <a:pt x="13439" y="5"/>
                    </a:cubicBezTo>
                    <a:cubicBezTo>
                      <a:pt x="13439" y="4"/>
                      <a:pt x="13440" y="3"/>
                      <a:pt x="13441" y="3"/>
                    </a:cubicBezTo>
                    <a:close/>
                    <a:moveTo>
                      <a:pt x="13449" y="3"/>
                    </a:moveTo>
                    <a:lnTo>
                      <a:pt x="13449" y="3"/>
                    </a:lnTo>
                    <a:cubicBezTo>
                      <a:pt x="13450" y="3"/>
                      <a:pt x="13451" y="4"/>
                      <a:pt x="13451" y="5"/>
                    </a:cubicBezTo>
                    <a:cubicBezTo>
                      <a:pt x="13451" y="6"/>
                      <a:pt x="13450" y="7"/>
                      <a:pt x="13449" y="7"/>
                    </a:cubicBezTo>
                    <a:lnTo>
                      <a:pt x="13449" y="7"/>
                    </a:lnTo>
                    <a:cubicBezTo>
                      <a:pt x="13448" y="7"/>
                      <a:pt x="13447" y="6"/>
                      <a:pt x="13447" y="5"/>
                    </a:cubicBezTo>
                    <a:cubicBezTo>
                      <a:pt x="13447" y="4"/>
                      <a:pt x="13448" y="3"/>
                      <a:pt x="13449" y="3"/>
                    </a:cubicBezTo>
                    <a:close/>
                    <a:moveTo>
                      <a:pt x="13457" y="3"/>
                    </a:moveTo>
                    <a:lnTo>
                      <a:pt x="13457" y="3"/>
                    </a:lnTo>
                    <a:cubicBezTo>
                      <a:pt x="13458" y="3"/>
                      <a:pt x="13459" y="4"/>
                      <a:pt x="13459" y="5"/>
                    </a:cubicBezTo>
                    <a:cubicBezTo>
                      <a:pt x="13459" y="6"/>
                      <a:pt x="13458" y="7"/>
                      <a:pt x="13457" y="7"/>
                    </a:cubicBezTo>
                    <a:lnTo>
                      <a:pt x="13457" y="7"/>
                    </a:lnTo>
                    <a:cubicBezTo>
                      <a:pt x="13456" y="7"/>
                      <a:pt x="13455" y="6"/>
                      <a:pt x="13455" y="5"/>
                    </a:cubicBezTo>
                    <a:cubicBezTo>
                      <a:pt x="13455" y="4"/>
                      <a:pt x="13456" y="3"/>
                      <a:pt x="13457" y="3"/>
                    </a:cubicBezTo>
                    <a:close/>
                    <a:moveTo>
                      <a:pt x="13465" y="3"/>
                    </a:moveTo>
                    <a:lnTo>
                      <a:pt x="13465" y="3"/>
                    </a:lnTo>
                    <a:cubicBezTo>
                      <a:pt x="13466" y="3"/>
                      <a:pt x="13467" y="4"/>
                      <a:pt x="13467" y="5"/>
                    </a:cubicBezTo>
                    <a:cubicBezTo>
                      <a:pt x="13467" y="6"/>
                      <a:pt x="13466" y="7"/>
                      <a:pt x="13465" y="7"/>
                    </a:cubicBezTo>
                    <a:lnTo>
                      <a:pt x="13465" y="7"/>
                    </a:lnTo>
                    <a:cubicBezTo>
                      <a:pt x="13464" y="7"/>
                      <a:pt x="13463" y="6"/>
                      <a:pt x="13463" y="5"/>
                    </a:cubicBezTo>
                    <a:cubicBezTo>
                      <a:pt x="13463" y="4"/>
                      <a:pt x="13464" y="3"/>
                      <a:pt x="13465" y="3"/>
                    </a:cubicBezTo>
                    <a:close/>
                    <a:moveTo>
                      <a:pt x="13473" y="3"/>
                    </a:moveTo>
                    <a:lnTo>
                      <a:pt x="13473" y="3"/>
                    </a:lnTo>
                    <a:cubicBezTo>
                      <a:pt x="13474" y="3"/>
                      <a:pt x="13475" y="4"/>
                      <a:pt x="13475" y="5"/>
                    </a:cubicBezTo>
                    <a:cubicBezTo>
                      <a:pt x="13475" y="6"/>
                      <a:pt x="13474" y="7"/>
                      <a:pt x="13473" y="7"/>
                    </a:cubicBezTo>
                    <a:lnTo>
                      <a:pt x="13473" y="7"/>
                    </a:lnTo>
                    <a:cubicBezTo>
                      <a:pt x="13472" y="7"/>
                      <a:pt x="13471" y="6"/>
                      <a:pt x="13471" y="5"/>
                    </a:cubicBezTo>
                    <a:cubicBezTo>
                      <a:pt x="13471" y="4"/>
                      <a:pt x="13472" y="3"/>
                      <a:pt x="13473" y="3"/>
                    </a:cubicBezTo>
                    <a:close/>
                    <a:moveTo>
                      <a:pt x="13481" y="3"/>
                    </a:moveTo>
                    <a:lnTo>
                      <a:pt x="13481" y="3"/>
                    </a:lnTo>
                    <a:cubicBezTo>
                      <a:pt x="13482" y="3"/>
                      <a:pt x="13483" y="4"/>
                      <a:pt x="13483" y="5"/>
                    </a:cubicBezTo>
                    <a:cubicBezTo>
                      <a:pt x="13483" y="6"/>
                      <a:pt x="13482" y="7"/>
                      <a:pt x="13481" y="7"/>
                    </a:cubicBezTo>
                    <a:lnTo>
                      <a:pt x="13481" y="7"/>
                    </a:lnTo>
                    <a:cubicBezTo>
                      <a:pt x="13480" y="7"/>
                      <a:pt x="13479" y="6"/>
                      <a:pt x="13479" y="5"/>
                    </a:cubicBezTo>
                    <a:cubicBezTo>
                      <a:pt x="13479" y="4"/>
                      <a:pt x="13480" y="3"/>
                      <a:pt x="13481" y="3"/>
                    </a:cubicBezTo>
                    <a:close/>
                    <a:moveTo>
                      <a:pt x="13489" y="3"/>
                    </a:moveTo>
                    <a:lnTo>
                      <a:pt x="13489" y="3"/>
                    </a:lnTo>
                    <a:cubicBezTo>
                      <a:pt x="13490" y="3"/>
                      <a:pt x="13491" y="4"/>
                      <a:pt x="13491" y="5"/>
                    </a:cubicBezTo>
                    <a:cubicBezTo>
                      <a:pt x="13491" y="6"/>
                      <a:pt x="13490" y="7"/>
                      <a:pt x="13489" y="7"/>
                    </a:cubicBezTo>
                    <a:lnTo>
                      <a:pt x="13489" y="7"/>
                    </a:lnTo>
                    <a:cubicBezTo>
                      <a:pt x="13488" y="7"/>
                      <a:pt x="13487" y="6"/>
                      <a:pt x="13487" y="5"/>
                    </a:cubicBezTo>
                    <a:cubicBezTo>
                      <a:pt x="13487" y="4"/>
                      <a:pt x="13488" y="3"/>
                      <a:pt x="13489" y="3"/>
                    </a:cubicBezTo>
                    <a:close/>
                    <a:moveTo>
                      <a:pt x="13497" y="3"/>
                    </a:moveTo>
                    <a:lnTo>
                      <a:pt x="13497" y="3"/>
                    </a:lnTo>
                    <a:cubicBezTo>
                      <a:pt x="13498" y="3"/>
                      <a:pt x="13499" y="4"/>
                      <a:pt x="13499" y="5"/>
                    </a:cubicBezTo>
                    <a:cubicBezTo>
                      <a:pt x="13499" y="6"/>
                      <a:pt x="13498" y="7"/>
                      <a:pt x="13497" y="7"/>
                    </a:cubicBezTo>
                    <a:lnTo>
                      <a:pt x="13497" y="7"/>
                    </a:lnTo>
                    <a:cubicBezTo>
                      <a:pt x="13496" y="7"/>
                      <a:pt x="13495" y="6"/>
                      <a:pt x="13495" y="5"/>
                    </a:cubicBezTo>
                    <a:cubicBezTo>
                      <a:pt x="13495" y="4"/>
                      <a:pt x="13496" y="3"/>
                      <a:pt x="13497" y="3"/>
                    </a:cubicBezTo>
                    <a:close/>
                    <a:moveTo>
                      <a:pt x="13505" y="3"/>
                    </a:moveTo>
                    <a:lnTo>
                      <a:pt x="13505" y="3"/>
                    </a:lnTo>
                    <a:cubicBezTo>
                      <a:pt x="13506" y="3"/>
                      <a:pt x="13507" y="4"/>
                      <a:pt x="13507" y="5"/>
                    </a:cubicBezTo>
                    <a:cubicBezTo>
                      <a:pt x="13507" y="6"/>
                      <a:pt x="13506" y="7"/>
                      <a:pt x="13505" y="7"/>
                    </a:cubicBezTo>
                    <a:lnTo>
                      <a:pt x="13505" y="7"/>
                    </a:lnTo>
                    <a:cubicBezTo>
                      <a:pt x="13504" y="7"/>
                      <a:pt x="13503" y="6"/>
                      <a:pt x="13503" y="5"/>
                    </a:cubicBezTo>
                    <a:cubicBezTo>
                      <a:pt x="13503" y="4"/>
                      <a:pt x="13504" y="3"/>
                      <a:pt x="13505" y="3"/>
                    </a:cubicBezTo>
                    <a:close/>
                    <a:moveTo>
                      <a:pt x="13513" y="3"/>
                    </a:moveTo>
                    <a:lnTo>
                      <a:pt x="13513" y="3"/>
                    </a:lnTo>
                    <a:cubicBezTo>
                      <a:pt x="13514" y="3"/>
                      <a:pt x="13515" y="4"/>
                      <a:pt x="13515" y="5"/>
                    </a:cubicBezTo>
                    <a:cubicBezTo>
                      <a:pt x="13515" y="6"/>
                      <a:pt x="13514" y="7"/>
                      <a:pt x="13513" y="7"/>
                    </a:cubicBezTo>
                    <a:lnTo>
                      <a:pt x="13513" y="7"/>
                    </a:lnTo>
                    <a:cubicBezTo>
                      <a:pt x="13512" y="7"/>
                      <a:pt x="13511" y="6"/>
                      <a:pt x="13511" y="5"/>
                    </a:cubicBezTo>
                    <a:cubicBezTo>
                      <a:pt x="13511" y="4"/>
                      <a:pt x="13512" y="3"/>
                      <a:pt x="13513" y="3"/>
                    </a:cubicBezTo>
                    <a:close/>
                    <a:moveTo>
                      <a:pt x="13521" y="3"/>
                    </a:moveTo>
                    <a:lnTo>
                      <a:pt x="13521" y="3"/>
                    </a:lnTo>
                    <a:cubicBezTo>
                      <a:pt x="13522" y="3"/>
                      <a:pt x="13523" y="4"/>
                      <a:pt x="13523" y="5"/>
                    </a:cubicBezTo>
                    <a:cubicBezTo>
                      <a:pt x="13523" y="6"/>
                      <a:pt x="13522" y="7"/>
                      <a:pt x="13521" y="7"/>
                    </a:cubicBezTo>
                    <a:lnTo>
                      <a:pt x="13521" y="7"/>
                    </a:lnTo>
                    <a:cubicBezTo>
                      <a:pt x="13520" y="7"/>
                      <a:pt x="13519" y="6"/>
                      <a:pt x="13519" y="5"/>
                    </a:cubicBezTo>
                    <a:cubicBezTo>
                      <a:pt x="13519" y="4"/>
                      <a:pt x="13520" y="3"/>
                      <a:pt x="13521" y="3"/>
                    </a:cubicBezTo>
                    <a:close/>
                    <a:moveTo>
                      <a:pt x="13529" y="3"/>
                    </a:moveTo>
                    <a:lnTo>
                      <a:pt x="13529" y="3"/>
                    </a:lnTo>
                    <a:cubicBezTo>
                      <a:pt x="13530" y="3"/>
                      <a:pt x="13531" y="4"/>
                      <a:pt x="13531" y="5"/>
                    </a:cubicBezTo>
                    <a:cubicBezTo>
                      <a:pt x="13531" y="6"/>
                      <a:pt x="13530" y="7"/>
                      <a:pt x="13529" y="7"/>
                    </a:cubicBezTo>
                    <a:lnTo>
                      <a:pt x="13529" y="7"/>
                    </a:lnTo>
                    <a:cubicBezTo>
                      <a:pt x="13528" y="7"/>
                      <a:pt x="13527" y="6"/>
                      <a:pt x="13527" y="5"/>
                    </a:cubicBezTo>
                    <a:cubicBezTo>
                      <a:pt x="13527" y="4"/>
                      <a:pt x="13528" y="3"/>
                      <a:pt x="13529" y="3"/>
                    </a:cubicBezTo>
                    <a:close/>
                    <a:moveTo>
                      <a:pt x="13537" y="3"/>
                    </a:moveTo>
                    <a:lnTo>
                      <a:pt x="13537" y="3"/>
                    </a:lnTo>
                    <a:cubicBezTo>
                      <a:pt x="13538" y="3"/>
                      <a:pt x="13539" y="4"/>
                      <a:pt x="13539" y="5"/>
                    </a:cubicBezTo>
                    <a:cubicBezTo>
                      <a:pt x="13539" y="6"/>
                      <a:pt x="13538" y="7"/>
                      <a:pt x="13537" y="7"/>
                    </a:cubicBezTo>
                    <a:lnTo>
                      <a:pt x="13537" y="7"/>
                    </a:lnTo>
                    <a:cubicBezTo>
                      <a:pt x="13536" y="7"/>
                      <a:pt x="13535" y="6"/>
                      <a:pt x="13535" y="5"/>
                    </a:cubicBezTo>
                    <a:cubicBezTo>
                      <a:pt x="13535" y="4"/>
                      <a:pt x="13536" y="3"/>
                      <a:pt x="13537" y="3"/>
                    </a:cubicBezTo>
                    <a:close/>
                    <a:moveTo>
                      <a:pt x="13545" y="3"/>
                    </a:moveTo>
                    <a:lnTo>
                      <a:pt x="13545" y="3"/>
                    </a:lnTo>
                    <a:cubicBezTo>
                      <a:pt x="13546" y="3"/>
                      <a:pt x="13547" y="4"/>
                      <a:pt x="13547" y="5"/>
                    </a:cubicBezTo>
                    <a:cubicBezTo>
                      <a:pt x="13547" y="6"/>
                      <a:pt x="13546" y="7"/>
                      <a:pt x="13545" y="7"/>
                    </a:cubicBezTo>
                    <a:lnTo>
                      <a:pt x="13545" y="7"/>
                    </a:lnTo>
                    <a:cubicBezTo>
                      <a:pt x="13544" y="7"/>
                      <a:pt x="13543" y="6"/>
                      <a:pt x="13543" y="5"/>
                    </a:cubicBezTo>
                    <a:cubicBezTo>
                      <a:pt x="13543" y="4"/>
                      <a:pt x="13544" y="3"/>
                      <a:pt x="13545" y="3"/>
                    </a:cubicBezTo>
                    <a:close/>
                    <a:moveTo>
                      <a:pt x="13553" y="3"/>
                    </a:moveTo>
                    <a:lnTo>
                      <a:pt x="13553" y="3"/>
                    </a:lnTo>
                    <a:cubicBezTo>
                      <a:pt x="13554" y="3"/>
                      <a:pt x="13555" y="4"/>
                      <a:pt x="13555" y="5"/>
                    </a:cubicBezTo>
                    <a:cubicBezTo>
                      <a:pt x="13555" y="6"/>
                      <a:pt x="13554" y="7"/>
                      <a:pt x="13553" y="7"/>
                    </a:cubicBezTo>
                    <a:lnTo>
                      <a:pt x="13553" y="7"/>
                    </a:lnTo>
                    <a:cubicBezTo>
                      <a:pt x="13552" y="7"/>
                      <a:pt x="13551" y="6"/>
                      <a:pt x="13551" y="5"/>
                    </a:cubicBezTo>
                    <a:cubicBezTo>
                      <a:pt x="13551" y="4"/>
                      <a:pt x="13552" y="3"/>
                      <a:pt x="13553" y="3"/>
                    </a:cubicBezTo>
                    <a:close/>
                    <a:moveTo>
                      <a:pt x="13561" y="3"/>
                    </a:moveTo>
                    <a:lnTo>
                      <a:pt x="13561" y="3"/>
                    </a:lnTo>
                    <a:cubicBezTo>
                      <a:pt x="13562" y="3"/>
                      <a:pt x="13563" y="4"/>
                      <a:pt x="13563" y="5"/>
                    </a:cubicBezTo>
                    <a:cubicBezTo>
                      <a:pt x="13563" y="6"/>
                      <a:pt x="13562" y="7"/>
                      <a:pt x="13561" y="7"/>
                    </a:cubicBezTo>
                    <a:lnTo>
                      <a:pt x="13561" y="7"/>
                    </a:lnTo>
                    <a:cubicBezTo>
                      <a:pt x="13560" y="7"/>
                      <a:pt x="13559" y="6"/>
                      <a:pt x="13559" y="5"/>
                    </a:cubicBezTo>
                    <a:cubicBezTo>
                      <a:pt x="13559" y="4"/>
                      <a:pt x="13560" y="3"/>
                      <a:pt x="13561" y="3"/>
                    </a:cubicBezTo>
                    <a:close/>
                    <a:moveTo>
                      <a:pt x="13569" y="3"/>
                    </a:moveTo>
                    <a:lnTo>
                      <a:pt x="13569" y="3"/>
                    </a:lnTo>
                    <a:cubicBezTo>
                      <a:pt x="13570" y="3"/>
                      <a:pt x="13571" y="4"/>
                      <a:pt x="13571" y="5"/>
                    </a:cubicBezTo>
                    <a:cubicBezTo>
                      <a:pt x="13571" y="6"/>
                      <a:pt x="13570" y="7"/>
                      <a:pt x="13569" y="7"/>
                    </a:cubicBezTo>
                    <a:lnTo>
                      <a:pt x="13569" y="7"/>
                    </a:lnTo>
                    <a:cubicBezTo>
                      <a:pt x="13568" y="7"/>
                      <a:pt x="13567" y="6"/>
                      <a:pt x="13567" y="5"/>
                    </a:cubicBezTo>
                    <a:cubicBezTo>
                      <a:pt x="13567" y="4"/>
                      <a:pt x="13568" y="3"/>
                      <a:pt x="13569" y="3"/>
                    </a:cubicBezTo>
                    <a:close/>
                    <a:moveTo>
                      <a:pt x="13577" y="3"/>
                    </a:moveTo>
                    <a:lnTo>
                      <a:pt x="13577" y="3"/>
                    </a:lnTo>
                    <a:cubicBezTo>
                      <a:pt x="13578" y="3"/>
                      <a:pt x="13579" y="4"/>
                      <a:pt x="13579" y="5"/>
                    </a:cubicBezTo>
                    <a:cubicBezTo>
                      <a:pt x="13579" y="6"/>
                      <a:pt x="13578" y="7"/>
                      <a:pt x="13577" y="7"/>
                    </a:cubicBezTo>
                    <a:lnTo>
                      <a:pt x="13577" y="7"/>
                    </a:lnTo>
                    <a:cubicBezTo>
                      <a:pt x="13576" y="7"/>
                      <a:pt x="13575" y="6"/>
                      <a:pt x="13575" y="5"/>
                    </a:cubicBezTo>
                    <a:cubicBezTo>
                      <a:pt x="13575" y="4"/>
                      <a:pt x="13576" y="3"/>
                      <a:pt x="13577" y="3"/>
                    </a:cubicBezTo>
                    <a:close/>
                    <a:moveTo>
                      <a:pt x="13585" y="3"/>
                    </a:moveTo>
                    <a:lnTo>
                      <a:pt x="13585" y="3"/>
                    </a:lnTo>
                    <a:cubicBezTo>
                      <a:pt x="13586" y="3"/>
                      <a:pt x="13587" y="4"/>
                      <a:pt x="13587" y="5"/>
                    </a:cubicBezTo>
                    <a:cubicBezTo>
                      <a:pt x="13587" y="6"/>
                      <a:pt x="13586" y="7"/>
                      <a:pt x="13585" y="7"/>
                    </a:cubicBezTo>
                    <a:lnTo>
                      <a:pt x="13585" y="7"/>
                    </a:lnTo>
                    <a:cubicBezTo>
                      <a:pt x="13584" y="7"/>
                      <a:pt x="13583" y="6"/>
                      <a:pt x="13583" y="5"/>
                    </a:cubicBezTo>
                    <a:cubicBezTo>
                      <a:pt x="13583" y="4"/>
                      <a:pt x="13584" y="3"/>
                      <a:pt x="13585" y="3"/>
                    </a:cubicBezTo>
                    <a:close/>
                    <a:moveTo>
                      <a:pt x="13593" y="3"/>
                    </a:moveTo>
                    <a:lnTo>
                      <a:pt x="13593" y="3"/>
                    </a:lnTo>
                    <a:cubicBezTo>
                      <a:pt x="13594" y="3"/>
                      <a:pt x="13595" y="4"/>
                      <a:pt x="13595" y="5"/>
                    </a:cubicBezTo>
                    <a:cubicBezTo>
                      <a:pt x="13595" y="6"/>
                      <a:pt x="13594" y="7"/>
                      <a:pt x="13593" y="7"/>
                    </a:cubicBezTo>
                    <a:lnTo>
                      <a:pt x="13593" y="7"/>
                    </a:lnTo>
                    <a:cubicBezTo>
                      <a:pt x="13592" y="7"/>
                      <a:pt x="13591" y="6"/>
                      <a:pt x="13591" y="5"/>
                    </a:cubicBezTo>
                    <a:cubicBezTo>
                      <a:pt x="13591" y="4"/>
                      <a:pt x="13592" y="3"/>
                      <a:pt x="13593" y="3"/>
                    </a:cubicBezTo>
                    <a:close/>
                    <a:moveTo>
                      <a:pt x="13601" y="3"/>
                    </a:moveTo>
                    <a:lnTo>
                      <a:pt x="13601" y="3"/>
                    </a:lnTo>
                    <a:cubicBezTo>
                      <a:pt x="13602" y="3"/>
                      <a:pt x="13603" y="4"/>
                      <a:pt x="13603" y="5"/>
                    </a:cubicBezTo>
                    <a:cubicBezTo>
                      <a:pt x="13603" y="6"/>
                      <a:pt x="13602" y="7"/>
                      <a:pt x="13601" y="7"/>
                    </a:cubicBezTo>
                    <a:lnTo>
                      <a:pt x="13601" y="7"/>
                    </a:lnTo>
                    <a:cubicBezTo>
                      <a:pt x="13600" y="7"/>
                      <a:pt x="13599" y="6"/>
                      <a:pt x="13599" y="5"/>
                    </a:cubicBezTo>
                    <a:cubicBezTo>
                      <a:pt x="13599" y="4"/>
                      <a:pt x="13600" y="3"/>
                      <a:pt x="13601" y="3"/>
                    </a:cubicBezTo>
                    <a:close/>
                    <a:moveTo>
                      <a:pt x="13609" y="3"/>
                    </a:moveTo>
                    <a:lnTo>
                      <a:pt x="13609" y="3"/>
                    </a:lnTo>
                    <a:cubicBezTo>
                      <a:pt x="13610" y="3"/>
                      <a:pt x="13611" y="4"/>
                      <a:pt x="13611" y="5"/>
                    </a:cubicBezTo>
                    <a:cubicBezTo>
                      <a:pt x="13611" y="6"/>
                      <a:pt x="13610" y="7"/>
                      <a:pt x="13609" y="7"/>
                    </a:cubicBezTo>
                    <a:lnTo>
                      <a:pt x="13609" y="7"/>
                    </a:lnTo>
                    <a:cubicBezTo>
                      <a:pt x="13608" y="7"/>
                      <a:pt x="13607" y="6"/>
                      <a:pt x="13607" y="5"/>
                    </a:cubicBezTo>
                    <a:cubicBezTo>
                      <a:pt x="13607" y="4"/>
                      <a:pt x="13608" y="3"/>
                      <a:pt x="13609" y="3"/>
                    </a:cubicBezTo>
                    <a:close/>
                    <a:moveTo>
                      <a:pt x="13617" y="3"/>
                    </a:moveTo>
                    <a:lnTo>
                      <a:pt x="13617" y="3"/>
                    </a:lnTo>
                    <a:cubicBezTo>
                      <a:pt x="13618" y="3"/>
                      <a:pt x="13619" y="4"/>
                      <a:pt x="13619" y="5"/>
                    </a:cubicBezTo>
                    <a:cubicBezTo>
                      <a:pt x="13619" y="6"/>
                      <a:pt x="13618" y="7"/>
                      <a:pt x="13617" y="7"/>
                    </a:cubicBezTo>
                    <a:lnTo>
                      <a:pt x="13617" y="7"/>
                    </a:lnTo>
                    <a:cubicBezTo>
                      <a:pt x="13616" y="7"/>
                      <a:pt x="13615" y="6"/>
                      <a:pt x="13615" y="5"/>
                    </a:cubicBezTo>
                    <a:cubicBezTo>
                      <a:pt x="13615" y="4"/>
                      <a:pt x="13616" y="3"/>
                      <a:pt x="13617" y="3"/>
                    </a:cubicBezTo>
                    <a:close/>
                    <a:moveTo>
                      <a:pt x="13625" y="3"/>
                    </a:moveTo>
                    <a:lnTo>
                      <a:pt x="13625" y="3"/>
                    </a:lnTo>
                    <a:cubicBezTo>
                      <a:pt x="13626" y="3"/>
                      <a:pt x="13627" y="4"/>
                      <a:pt x="13627" y="5"/>
                    </a:cubicBezTo>
                    <a:cubicBezTo>
                      <a:pt x="13627" y="6"/>
                      <a:pt x="13626" y="7"/>
                      <a:pt x="13625" y="7"/>
                    </a:cubicBezTo>
                    <a:lnTo>
                      <a:pt x="13625" y="7"/>
                    </a:lnTo>
                    <a:cubicBezTo>
                      <a:pt x="13624" y="7"/>
                      <a:pt x="13623" y="6"/>
                      <a:pt x="13623" y="5"/>
                    </a:cubicBezTo>
                    <a:cubicBezTo>
                      <a:pt x="13623" y="4"/>
                      <a:pt x="13624" y="3"/>
                      <a:pt x="13625" y="3"/>
                    </a:cubicBezTo>
                    <a:close/>
                    <a:moveTo>
                      <a:pt x="13633" y="3"/>
                    </a:moveTo>
                    <a:lnTo>
                      <a:pt x="13633" y="3"/>
                    </a:lnTo>
                    <a:cubicBezTo>
                      <a:pt x="13634" y="3"/>
                      <a:pt x="13635" y="4"/>
                      <a:pt x="13635" y="5"/>
                    </a:cubicBezTo>
                    <a:cubicBezTo>
                      <a:pt x="13635" y="6"/>
                      <a:pt x="13634" y="7"/>
                      <a:pt x="13633" y="7"/>
                    </a:cubicBezTo>
                    <a:lnTo>
                      <a:pt x="13633" y="7"/>
                    </a:lnTo>
                    <a:cubicBezTo>
                      <a:pt x="13632" y="7"/>
                      <a:pt x="13631" y="6"/>
                      <a:pt x="13631" y="5"/>
                    </a:cubicBezTo>
                    <a:cubicBezTo>
                      <a:pt x="13631" y="4"/>
                      <a:pt x="13632" y="3"/>
                      <a:pt x="13633" y="3"/>
                    </a:cubicBezTo>
                    <a:close/>
                    <a:moveTo>
                      <a:pt x="13641" y="3"/>
                    </a:moveTo>
                    <a:lnTo>
                      <a:pt x="13641" y="3"/>
                    </a:lnTo>
                    <a:cubicBezTo>
                      <a:pt x="13642" y="3"/>
                      <a:pt x="13643" y="4"/>
                      <a:pt x="13643" y="5"/>
                    </a:cubicBezTo>
                    <a:cubicBezTo>
                      <a:pt x="13643" y="6"/>
                      <a:pt x="13642" y="7"/>
                      <a:pt x="13641" y="7"/>
                    </a:cubicBezTo>
                    <a:lnTo>
                      <a:pt x="13641" y="7"/>
                    </a:lnTo>
                    <a:cubicBezTo>
                      <a:pt x="13640" y="7"/>
                      <a:pt x="13639" y="6"/>
                      <a:pt x="13639" y="5"/>
                    </a:cubicBezTo>
                    <a:cubicBezTo>
                      <a:pt x="13639" y="4"/>
                      <a:pt x="13640" y="3"/>
                      <a:pt x="13641" y="3"/>
                    </a:cubicBezTo>
                    <a:close/>
                    <a:moveTo>
                      <a:pt x="13649" y="3"/>
                    </a:moveTo>
                    <a:lnTo>
                      <a:pt x="13649" y="3"/>
                    </a:lnTo>
                    <a:cubicBezTo>
                      <a:pt x="13650" y="3"/>
                      <a:pt x="13651" y="4"/>
                      <a:pt x="13651" y="5"/>
                    </a:cubicBezTo>
                    <a:cubicBezTo>
                      <a:pt x="13651" y="6"/>
                      <a:pt x="13650" y="7"/>
                      <a:pt x="13649" y="7"/>
                    </a:cubicBezTo>
                    <a:lnTo>
                      <a:pt x="13649" y="7"/>
                    </a:lnTo>
                    <a:cubicBezTo>
                      <a:pt x="13648" y="7"/>
                      <a:pt x="13647" y="6"/>
                      <a:pt x="13647" y="5"/>
                    </a:cubicBezTo>
                    <a:cubicBezTo>
                      <a:pt x="13647" y="4"/>
                      <a:pt x="13648" y="3"/>
                      <a:pt x="13649" y="3"/>
                    </a:cubicBezTo>
                    <a:close/>
                    <a:moveTo>
                      <a:pt x="13657" y="3"/>
                    </a:moveTo>
                    <a:lnTo>
                      <a:pt x="13657" y="3"/>
                    </a:lnTo>
                    <a:cubicBezTo>
                      <a:pt x="13658" y="3"/>
                      <a:pt x="13659" y="4"/>
                      <a:pt x="13659" y="5"/>
                    </a:cubicBezTo>
                    <a:cubicBezTo>
                      <a:pt x="13659" y="6"/>
                      <a:pt x="13658" y="7"/>
                      <a:pt x="13657" y="7"/>
                    </a:cubicBezTo>
                    <a:lnTo>
                      <a:pt x="13657" y="7"/>
                    </a:lnTo>
                    <a:cubicBezTo>
                      <a:pt x="13656" y="7"/>
                      <a:pt x="13655" y="6"/>
                      <a:pt x="13655" y="5"/>
                    </a:cubicBezTo>
                    <a:cubicBezTo>
                      <a:pt x="13655" y="4"/>
                      <a:pt x="13656" y="3"/>
                      <a:pt x="13657" y="3"/>
                    </a:cubicBezTo>
                    <a:close/>
                    <a:moveTo>
                      <a:pt x="13665" y="3"/>
                    </a:moveTo>
                    <a:lnTo>
                      <a:pt x="13665" y="3"/>
                    </a:lnTo>
                    <a:cubicBezTo>
                      <a:pt x="13666" y="3"/>
                      <a:pt x="13667" y="4"/>
                      <a:pt x="13667" y="5"/>
                    </a:cubicBezTo>
                    <a:cubicBezTo>
                      <a:pt x="13667" y="6"/>
                      <a:pt x="13666" y="7"/>
                      <a:pt x="13665" y="7"/>
                    </a:cubicBezTo>
                    <a:lnTo>
                      <a:pt x="13665" y="7"/>
                    </a:lnTo>
                    <a:cubicBezTo>
                      <a:pt x="13664" y="7"/>
                      <a:pt x="13663" y="6"/>
                      <a:pt x="13663" y="5"/>
                    </a:cubicBezTo>
                    <a:cubicBezTo>
                      <a:pt x="13663" y="4"/>
                      <a:pt x="13664" y="3"/>
                      <a:pt x="13665" y="3"/>
                    </a:cubicBezTo>
                    <a:close/>
                    <a:moveTo>
                      <a:pt x="13673" y="3"/>
                    </a:moveTo>
                    <a:lnTo>
                      <a:pt x="13673" y="3"/>
                    </a:lnTo>
                    <a:cubicBezTo>
                      <a:pt x="13674" y="3"/>
                      <a:pt x="13675" y="4"/>
                      <a:pt x="13675" y="5"/>
                    </a:cubicBezTo>
                    <a:cubicBezTo>
                      <a:pt x="13675" y="6"/>
                      <a:pt x="13674" y="7"/>
                      <a:pt x="13673" y="7"/>
                    </a:cubicBezTo>
                    <a:lnTo>
                      <a:pt x="13673" y="7"/>
                    </a:lnTo>
                    <a:cubicBezTo>
                      <a:pt x="13672" y="7"/>
                      <a:pt x="13671" y="6"/>
                      <a:pt x="13671" y="5"/>
                    </a:cubicBezTo>
                    <a:cubicBezTo>
                      <a:pt x="13671" y="4"/>
                      <a:pt x="13672" y="3"/>
                      <a:pt x="13673" y="3"/>
                    </a:cubicBezTo>
                    <a:close/>
                    <a:moveTo>
                      <a:pt x="13681" y="3"/>
                    </a:moveTo>
                    <a:lnTo>
                      <a:pt x="13681" y="3"/>
                    </a:lnTo>
                    <a:cubicBezTo>
                      <a:pt x="13682" y="3"/>
                      <a:pt x="13683" y="4"/>
                      <a:pt x="13683" y="5"/>
                    </a:cubicBezTo>
                    <a:cubicBezTo>
                      <a:pt x="13683" y="6"/>
                      <a:pt x="13682" y="7"/>
                      <a:pt x="13681" y="7"/>
                    </a:cubicBezTo>
                    <a:lnTo>
                      <a:pt x="13681" y="7"/>
                    </a:lnTo>
                    <a:cubicBezTo>
                      <a:pt x="13680" y="7"/>
                      <a:pt x="13679" y="6"/>
                      <a:pt x="13679" y="5"/>
                    </a:cubicBezTo>
                    <a:cubicBezTo>
                      <a:pt x="13679" y="4"/>
                      <a:pt x="13680" y="3"/>
                      <a:pt x="13681" y="3"/>
                    </a:cubicBezTo>
                    <a:close/>
                    <a:moveTo>
                      <a:pt x="13689" y="3"/>
                    </a:moveTo>
                    <a:lnTo>
                      <a:pt x="13689" y="3"/>
                    </a:lnTo>
                    <a:cubicBezTo>
                      <a:pt x="13690" y="3"/>
                      <a:pt x="13691" y="4"/>
                      <a:pt x="13691" y="5"/>
                    </a:cubicBezTo>
                    <a:cubicBezTo>
                      <a:pt x="13691" y="6"/>
                      <a:pt x="13690" y="7"/>
                      <a:pt x="13689" y="7"/>
                    </a:cubicBezTo>
                    <a:lnTo>
                      <a:pt x="13689" y="7"/>
                    </a:lnTo>
                    <a:cubicBezTo>
                      <a:pt x="13688" y="7"/>
                      <a:pt x="13687" y="6"/>
                      <a:pt x="13687" y="5"/>
                    </a:cubicBezTo>
                    <a:cubicBezTo>
                      <a:pt x="13687" y="4"/>
                      <a:pt x="13688" y="3"/>
                      <a:pt x="13689" y="3"/>
                    </a:cubicBezTo>
                    <a:close/>
                    <a:moveTo>
                      <a:pt x="13697" y="3"/>
                    </a:moveTo>
                    <a:lnTo>
                      <a:pt x="13697" y="3"/>
                    </a:lnTo>
                    <a:cubicBezTo>
                      <a:pt x="13698" y="3"/>
                      <a:pt x="13699" y="4"/>
                      <a:pt x="13699" y="5"/>
                    </a:cubicBezTo>
                    <a:cubicBezTo>
                      <a:pt x="13699" y="6"/>
                      <a:pt x="13698" y="7"/>
                      <a:pt x="13697" y="7"/>
                    </a:cubicBezTo>
                    <a:lnTo>
                      <a:pt x="13697" y="7"/>
                    </a:lnTo>
                    <a:cubicBezTo>
                      <a:pt x="13696" y="7"/>
                      <a:pt x="13695" y="6"/>
                      <a:pt x="13695" y="5"/>
                    </a:cubicBezTo>
                    <a:cubicBezTo>
                      <a:pt x="13695" y="4"/>
                      <a:pt x="13696" y="3"/>
                      <a:pt x="13697" y="3"/>
                    </a:cubicBezTo>
                    <a:close/>
                    <a:moveTo>
                      <a:pt x="13705" y="3"/>
                    </a:moveTo>
                    <a:lnTo>
                      <a:pt x="13705" y="3"/>
                    </a:lnTo>
                    <a:cubicBezTo>
                      <a:pt x="13706" y="3"/>
                      <a:pt x="13707" y="4"/>
                      <a:pt x="13707" y="5"/>
                    </a:cubicBezTo>
                    <a:cubicBezTo>
                      <a:pt x="13707" y="6"/>
                      <a:pt x="13706" y="7"/>
                      <a:pt x="13705" y="7"/>
                    </a:cubicBezTo>
                    <a:lnTo>
                      <a:pt x="13705" y="7"/>
                    </a:lnTo>
                    <a:cubicBezTo>
                      <a:pt x="13704" y="7"/>
                      <a:pt x="13703" y="6"/>
                      <a:pt x="13703" y="5"/>
                    </a:cubicBezTo>
                    <a:cubicBezTo>
                      <a:pt x="13703" y="4"/>
                      <a:pt x="13704" y="3"/>
                      <a:pt x="13705" y="3"/>
                    </a:cubicBezTo>
                    <a:close/>
                    <a:moveTo>
                      <a:pt x="13713" y="3"/>
                    </a:moveTo>
                    <a:lnTo>
                      <a:pt x="13713" y="3"/>
                    </a:lnTo>
                    <a:cubicBezTo>
                      <a:pt x="13714" y="3"/>
                      <a:pt x="13715" y="4"/>
                      <a:pt x="13715" y="5"/>
                    </a:cubicBezTo>
                    <a:cubicBezTo>
                      <a:pt x="13715" y="6"/>
                      <a:pt x="13714" y="7"/>
                      <a:pt x="13713" y="7"/>
                    </a:cubicBezTo>
                    <a:lnTo>
                      <a:pt x="13713" y="7"/>
                    </a:lnTo>
                    <a:cubicBezTo>
                      <a:pt x="13712" y="7"/>
                      <a:pt x="13711" y="6"/>
                      <a:pt x="13711" y="5"/>
                    </a:cubicBezTo>
                    <a:cubicBezTo>
                      <a:pt x="13711" y="4"/>
                      <a:pt x="13712" y="3"/>
                      <a:pt x="13713" y="3"/>
                    </a:cubicBezTo>
                    <a:close/>
                    <a:moveTo>
                      <a:pt x="13721" y="3"/>
                    </a:moveTo>
                    <a:lnTo>
                      <a:pt x="13721" y="3"/>
                    </a:lnTo>
                    <a:cubicBezTo>
                      <a:pt x="13722" y="3"/>
                      <a:pt x="13723" y="4"/>
                      <a:pt x="13723" y="5"/>
                    </a:cubicBezTo>
                    <a:cubicBezTo>
                      <a:pt x="13723" y="6"/>
                      <a:pt x="13722" y="7"/>
                      <a:pt x="13721" y="7"/>
                    </a:cubicBezTo>
                    <a:lnTo>
                      <a:pt x="13721" y="7"/>
                    </a:lnTo>
                    <a:cubicBezTo>
                      <a:pt x="13720" y="7"/>
                      <a:pt x="13719" y="6"/>
                      <a:pt x="13719" y="5"/>
                    </a:cubicBezTo>
                    <a:cubicBezTo>
                      <a:pt x="13719" y="4"/>
                      <a:pt x="13720" y="3"/>
                      <a:pt x="13721" y="3"/>
                    </a:cubicBezTo>
                    <a:close/>
                    <a:moveTo>
                      <a:pt x="13729" y="3"/>
                    </a:moveTo>
                    <a:lnTo>
                      <a:pt x="13729" y="3"/>
                    </a:lnTo>
                    <a:cubicBezTo>
                      <a:pt x="13730" y="3"/>
                      <a:pt x="13731" y="4"/>
                      <a:pt x="13731" y="5"/>
                    </a:cubicBezTo>
                    <a:cubicBezTo>
                      <a:pt x="13731" y="6"/>
                      <a:pt x="13730" y="7"/>
                      <a:pt x="13729" y="7"/>
                    </a:cubicBezTo>
                    <a:lnTo>
                      <a:pt x="13729" y="7"/>
                    </a:lnTo>
                    <a:cubicBezTo>
                      <a:pt x="13728" y="7"/>
                      <a:pt x="13727" y="6"/>
                      <a:pt x="13727" y="5"/>
                    </a:cubicBezTo>
                    <a:cubicBezTo>
                      <a:pt x="13727" y="4"/>
                      <a:pt x="13728" y="3"/>
                      <a:pt x="13729" y="3"/>
                    </a:cubicBezTo>
                    <a:close/>
                    <a:moveTo>
                      <a:pt x="13737" y="3"/>
                    </a:moveTo>
                    <a:lnTo>
                      <a:pt x="13737" y="3"/>
                    </a:lnTo>
                    <a:cubicBezTo>
                      <a:pt x="13738" y="3"/>
                      <a:pt x="13739" y="4"/>
                      <a:pt x="13739" y="5"/>
                    </a:cubicBezTo>
                    <a:cubicBezTo>
                      <a:pt x="13739" y="6"/>
                      <a:pt x="13738" y="7"/>
                      <a:pt x="13737" y="7"/>
                    </a:cubicBezTo>
                    <a:lnTo>
                      <a:pt x="13737" y="7"/>
                    </a:lnTo>
                    <a:cubicBezTo>
                      <a:pt x="13736" y="7"/>
                      <a:pt x="13735" y="6"/>
                      <a:pt x="13735" y="5"/>
                    </a:cubicBezTo>
                    <a:cubicBezTo>
                      <a:pt x="13735" y="4"/>
                      <a:pt x="13736" y="3"/>
                      <a:pt x="13737" y="3"/>
                    </a:cubicBezTo>
                    <a:close/>
                    <a:moveTo>
                      <a:pt x="13745" y="3"/>
                    </a:moveTo>
                    <a:lnTo>
                      <a:pt x="13745" y="3"/>
                    </a:lnTo>
                    <a:cubicBezTo>
                      <a:pt x="13746" y="3"/>
                      <a:pt x="13747" y="4"/>
                      <a:pt x="13747" y="5"/>
                    </a:cubicBezTo>
                    <a:cubicBezTo>
                      <a:pt x="13747" y="6"/>
                      <a:pt x="13746" y="7"/>
                      <a:pt x="13745" y="7"/>
                    </a:cubicBezTo>
                    <a:lnTo>
                      <a:pt x="13745" y="7"/>
                    </a:lnTo>
                    <a:cubicBezTo>
                      <a:pt x="13744" y="7"/>
                      <a:pt x="13743" y="6"/>
                      <a:pt x="13743" y="5"/>
                    </a:cubicBezTo>
                    <a:cubicBezTo>
                      <a:pt x="13743" y="4"/>
                      <a:pt x="13744" y="3"/>
                      <a:pt x="13745" y="3"/>
                    </a:cubicBezTo>
                    <a:close/>
                    <a:moveTo>
                      <a:pt x="13753" y="3"/>
                    </a:moveTo>
                    <a:lnTo>
                      <a:pt x="13753" y="3"/>
                    </a:lnTo>
                    <a:cubicBezTo>
                      <a:pt x="13754" y="3"/>
                      <a:pt x="13755" y="4"/>
                      <a:pt x="13755" y="5"/>
                    </a:cubicBezTo>
                    <a:cubicBezTo>
                      <a:pt x="13755" y="6"/>
                      <a:pt x="13754" y="7"/>
                      <a:pt x="13753" y="7"/>
                    </a:cubicBezTo>
                    <a:lnTo>
                      <a:pt x="13753" y="7"/>
                    </a:lnTo>
                    <a:cubicBezTo>
                      <a:pt x="13752" y="7"/>
                      <a:pt x="13751" y="6"/>
                      <a:pt x="13751" y="5"/>
                    </a:cubicBezTo>
                    <a:cubicBezTo>
                      <a:pt x="13751" y="4"/>
                      <a:pt x="13752" y="3"/>
                      <a:pt x="13753" y="3"/>
                    </a:cubicBezTo>
                    <a:close/>
                    <a:moveTo>
                      <a:pt x="13761" y="3"/>
                    </a:moveTo>
                    <a:lnTo>
                      <a:pt x="13761" y="3"/>
                    </a:lnTo>
                    <a:cubicBezTo>
                      <a:pt x="13762" y="3"/>
                      <a:pt x="13763" y="4"/>
                      <a:pt x="13763" y="5"/>
                    </a:cubicBezTo>
                    <a:cubicBezTo>
                      <a:pt x="13763" y="6"/>
                      <a:pt x="13762" y="7"/>
                      <a:pt x="13761" y="7"/>
                    </a:cubicBezTo>
                    <a:lnTo>
                      <a:pt x="13761" y="7"/>
                    </a:lnTo>
                    <a:cubicBezTo>
                      <a:pt x="13760" y="7"/>
                      <a:pt x="13759" y="6"/>
                      <a:pt x="13759" y="5"/>
                    </a:cubicBezTo>
                    <a:cubicBezTo>
                      <a:pt x="13759" y="4"/>
                      <a:pt x="13760" y="3"/>
                      <a:pt x="13761" y="3"/>
                    </a:cubicBezTo>
                    <a:close/>
                    <a:moveTo>
                      <a:pt x="13769" y="3"/>
                    </a:moveTo>
                    <a:lnTo>
                      <a:pt x="13769" y="3"/>
                    </a:lnTo>
                    <a:cubicBezTo>
                      <a:pt x="13770" y="3"/>
                      <a:pt x="13771" y="4"/>
                      <a:pt x="13771" y="5"/>
                    </a:cubicBezTo>
                    <a:cubicBezTo>
                      <a:pt x="13771" y="6"/>
                      <a:pt x="13770" y="7"/>
                      <a:pt x="13769" y="7"/>
                    </a:cubicBezTo>
                    <a:lnTo>
                      <a:pt x="13769" y="7"/>
                    </a:lnTo>
                    <a:cubicBezTo>
                      <a:pt x="13768" y="7"/>
                      <a:pt x="13767" y="6"/>
                      <a:pt x="13767" y="5"/>
                    </a:cubicBezTo>
                    <a:cubicBezTo>
                      <a:pt x="13767" y="4"/>
                      <a:pt x="13768" y="3"/>
                      <a:pt x="13769" y="3"/>
                    </a:cubicBezTo>
                    <a:close/>
                    <a:moveTo>
                      <a:pt x="13777" y="3"/>
                    </a:moveTo>
                    <a:lnTo>
                      <a:pt x="13777" y="3"/>
                    </a:lnTo>
                    <a:cubicBezTo>
                      <a:pt x="13778" y="3"/>
                      <a:pt x="13779" y="4"/>
                      <a:pt x="13779" y="5"/>
                    </a:cubicBezTo>
                    <a:cubicBezTo>
                      <a:pt x="13779" y="6"/>
                      <a:pt x="13778" y="7"/>
                      <a:pt x="13777" y="7"/>
                    </a:cubicBezTo>
                    <a:lnTo>
                      <a:pt x="13777" y="7"/>
                    </a:lnTo>
                    <a:cubicBezTo>
                      <a:pt x="13776" y="7"/>
                      <a:pt x="13775" y="6"/>
                      <a:pt x="13775" y="5"/>
                    </a:cubicBezTo>
                    <a:cubicBezTo>
                      <a:pt x="13775" y="4"/>
                      <a:pt x="13776" y="3"/>
                      <a:pt x="13777" y="3"/>
                    </a:cubicBezTo>
                    <a:close/>
                    <a:moveTo>
                      <a:pt x="13785" y="3"/>
                    </a:moveTo>
                    <a:lnTo>
                      <a:pt x="13785" y="3"/>
                    </a:lnTo>
                    <a:cubicBezTo>
                      <a:pt x="13786" y="3"/>
                      <a:pt x="13787" y="4"/>
                      <a:pt x="13787" y="5"/>
                    </a:cubicBezTo>
                    <a:cubicBezTo>
                      <a:pt x="13787" y="6"/>
                      <a:pt x="13786" y="7"/>
                      <a:pt x="13785" y="7"/>
                    </a:cubicBezTo>
                    <a:lnTo>
                      <a:pt x="13785" y="7"/>
                    </a:lnTo>
                    <a:cubicBezTo>
                      <a:pt x="13784" y="7"/>
                      <a:pt x="13783" y="6"/>
                      <a:pt x="13783" y="5"/>
                    </a:cubicBezTo>
                    <a:cubicBezTo>
                      <a:pt x="13783" y="4"/>
                      <a:pt x="13784" y="3"/>
                      <a:pt x="13785" y="3"/>
                    </a:cubicBezTo>
                    <a:close/>
                    <a:moveTo>
                      <a:pt x="13793" y="3"/>
                    </a:moveTo>
                    <a:lnTo>
                      <a:pt x="13793" y="3"/>
                    </a:lnTo>
                    <a:cubicBezTo>
                      <a:pt x="13794" y="3"/>
                      <a:pt x="13795" y="4"/>
                      <a:pt x="13795" y="5"/>
                    </a:cubicBezTo>
                    <a:cubicBezTo>
                      <a:pt x="13795" y="6"/>
                      <a:pt x="13794" y="7"/>
                      <a:pt x="13793" y="7"/>
                    </a:cubicBezTo>
                    <a:lnTo>
                      <a:pt x="13793" y="7"/>
                    </a:lnTo>
                    <a:cubicBezTo>
                      <a:pt x="13792" y="7"/>
                      <a:pt x="13791" y="6"/>
                      <a:pt x="13791" y="5"/>
                    </a:cubicBezTo>
                    <a:cubicBezTo>
                      <a:pt x="13791" y="4"/>
                      <a:pt x="13792" y="3"/>
                      <a:pt x="13793" y="3"/>
                    </a:cubicBezTo>
                    <a:close/>
                    <a:moveTo>
                      <a:pt x="13801" y="3"/>
                    </a:moveTo>
                    <a:lnTo>
                      <a:pt x="13801" y="3"/>
                    </a:lnTo>
                    <a:cubicBezTo>
                      <a:pt x="13802" y="3"/>
                      <a:pt x="13803" y="4"/>
                      <a:pt x="13803" y="5"/>
                    </a:cubicBezTo>
                    <a:cubicBezTo>
                      <a:pt x="13803" y="6"/>
                      <a:pt x="13802" y="7"/>
                      <a:pt x="13801" y="7"/>
                    </a:cubicBezTo>
                    <a:lnTo>
                      <a:pt x="13801" y="7"/>
                    </a:lnTo>
                    <a:cubicBezTo>
                      <a:pt x="13800" y="7"/>
                      <a:pt x="13799" y="6"/>
                      <a:pt x="13799" y="5"/>
                    </a:cubicBezTo>
                    <a:cubicBezTo>
                      <a:pt x="13799" y="4"/>
                      <a:pt x="13800" y="3"/>
                      <a:pt x="13801" y="3"/>
                    </a:cubicBezTo>
                    <a:close/>
                    <a:moveTo>
                      <a:pt x="13809" y="3"/>
                    </a:moveTo>
                    <a:lnTo>
                      <a:pt x="13809" y="3"/>
                    </a:lnTo>
                    <a:cubicBezTo>
                      <a:pt x="13810" y="3"/>
                      <a:pt x="13811" y="4"/>
                      <a:pt x="13811" y="5"/>
                    </a:cubicBezTo>
                    <a:cubicBezTo>
                      <a:pt x="13811" y="6"/>
                      <a:pt x="13810" y="7"/>
                      <a:pt x="13809" y="7"/>
                    </a:cubicBezTo>
                    <a:lnTo>
                      <a:pt x="13809" y="7"/>
                    </a:lnTo>
                    <a:cubicBezTo>
                      <a:pt x="13808" y="7"/>
                      <a:pt x="13807" y="6"/>
                      <a:pt x="13807" y="5"/>
                    </a:cubicBezTo>
                    <a:cubicBezTo>
                      <a:pt x="13807" y="4"/>
                      <a:pt x="13808" y="3"/>
                      <a:pt x="13809" y="3"/>
                    </a:cubicBezTo>
                    <a:close/>
                    <a:moveTo>
                      <a:pt x="13817" y="3"/>
                    </a:moveTo>
                    <a:lnTo>
                      <a:pt x="13817" y="3"/>
                    </a:lnTo>
                    <a:cubicBezTo>
                      <a:pt x="13818" y="3"/>
                      <a:pt x="13819" y="4"/>
                      <a:pt x="13819" y="5"/>
                    </a:cubicBezTo>
                    <a:cubicBezTo>
                      <a:pt x="13819" y="6"/>
                      <a:pt x="13818" y="7"/>
                      <a:pt x="13817" y="7"/>
                    </a:cubicBezTo>
                    <a:lnTo>
                      <a:pt x="13817" y="7"/>
                    </a:lnTo>
                    <a:cubicBezTo>
                      <a:pt x="13816" y="7"/>
                      <a:pt x="13815" y="6"/>
                      <a:pt x="13815" y="5"/>
                    </a:cubicBezTo>
                    <a:cubicBezTo>
                      <a:pt x="13815" y="4"/>
                      <a:pt x="13816" y="3"/>
                      <a:pt x="13817" y="3"/>
                    </a:cubicBezTo>
                    <a:close/>
                    <a:moveTo>
                      <a:pt x="13825" y="3"/>
                    </a:moveTo>
                    <a:lnTo>
                      <a:pt x="13825" y="3"/>
                    </a:lnTo>
                    <a:cubicBezTo>
                      <a:pt x="13826" y="3"/>
                      <a:pt x="13827" y="4"/>
                      <a:pt x="13827" y="5"/>
                    </a:cubicBezTo>
                    <a:cubicBezTo>
                      <a:pt x="13827" y="6"/>
                      <a:pt x="13826" y="7"/>
                      <a:pt x="13825" y="7"/>
                    </a:cubicBezTo>
                    <a:lnTo>
                      <a:pt x="13825" y="7"/>
                    </a:lnTo>
                    <a:cubicBezTo>
                      <a:pt x="13824" y="7"/>
                      <a:pt x="13823" y="6"/>
                      <a:pt x="13823" y="5"/>
                    </a:cubicBezTo>
                    <a:cubicBezTo>
                      <a:pt x="13823" y="4"/>
                      <a:pt x="13824" y="3"/>
                      <a:pt x="13825" y="3"/>
                    </a:cubicBezTo>
                    <a:close/>
                    <a:moveTo>
                      <a:pt x="13833" y="3"/>
                    </a:moveTo>
                    <a:lnTo>
                      <a:pt x="13833" y="3"/>
                    </a:lnTo>
                    <a:cubicBezTo>
                      <a:pt x="13834" y="3"/>
                      <a:pt x="13835" y="4"/>
                      <a:pt x="13835" y="5"/>
                    </a:cubicBezTo>
                    <a:cubicBezTo>
                      <a:pt x="13835" y="6"/>
                      <a:pt x="13834" y="7"/>
                      <a:pt x="13833" y="7"/>
                    </a:cubicBezTo>
                    <a:lnTo>
                      <a:pt x="13833" y="7"/>
                    </a:lnTo>
                    <a:cubicBezTo>
                      <a:pt x="13832" y="7"/>
                      <a:pt x="13831" y="6"/>
                      <a:pt x="13831" y="5"/>
                    </a:cubicBezTo>
                    <a:cubicBezTo>
                      <a:pt x="13831" y="4"/>
                      <a:pt x="13832" y="3"/>
                      <a:pt x="13833" y="3"/>
                    </a:cubicBezTo>
                    <a:close/>
                    <a:moveTo>
                      <a:pt x="13841" y="3"/>
                    </a:moveTo>
                    <a:lnTo>
                      <a:pt x="13841" y="3"/>
                    </a:lnTo>
                    <a:cubicBezTo>
                      <a:pt x="13842" y="3"/>
                      <a:pt x="13843" y="4"/>
                      <a:pt x="13843" y="5"/>
                    </a:cubicBezTo>
                    <a:cubicBezTo>
                      <a:pt x="13843" y="6"/>
                      <a:pt x="13842" y="7"/>
                      <a:pt x="13841" y="7"/>
                    </a:cubicBezTo>
                    <a:lnTo>
                      <a:pt x="13841" y="7"/>
                    </a:lnTo>
                    <a:cubicBezTo>
                      <a:pt x="13840" y="7"/>
                      <a:pt x="13839" y="6"/>
                      <a:pt x="13839" y="5"/>
                    </a:cubicBezTo>
                    <a:cubicBezTo>
                      <a:pt x="13839" y="4"/>
                      <a:pt x="13840" y="3"/>
                      <a:pt x="13841" y="3"/>
                    </a:cubicBezTo>
                    <a:close/>
                    <a:moveTo>
                      <a:pt x="13849" y="3"/>
                    </a:moveTo>
                    <a:lnTo>
                      <a:pt x="13849" y="3"/>
                    </a:lnTo>
                    <a:cubicBezTo>
                      <a:pt x="13850" y="3"/>
                      <a:pt x="13851" y="4"/>
                      <a:pt x="13851" y="5"/>
                    </a:cubicBezTo>
                    <a:cubicBezTo>
                      <a:pt x="13851" y="6"/>
                      <a:pt x="13850" y="7"/>
                      <a:pt x="13849" y="7"/>
                    </a:cubicBezTo>
                    <a:lnTo>
                      <a:pt x="13849" y="7"/>
                    </a:lnTo>
                    <a:cubicBezTo>
                      <a:pt x="13848" y="7"/>
                      <a:pt x="13847" y="6"/>
                      <a:pt x="13847" y="5"/>
                    </a:cubicBezTo>
                    <a:cubicBezTo>
                      <a:pt x="13847" y="4"/>
                      <a:pt x="13848" y="3"/>
                      <a:pt x="13849" y="3"/>
                    </a:cubicBezTo>
                    <a:close/>
                    <a:moveTo>
                      <a:pt x="13857" y="3"/>
                    </a:moveTo>
                    <a:lnTo>
                      <a:pt x="13857" y="3"/>
                    </a:lnTo>
                    <a:cubicBezTo>
                      <a:pt x="13858" y="3"/>
                      <a:pt x="13859" y="4"/>
                      <a:pt x="13859" y="5"/>
                    </a:cubicBezTo>
                    <a:cubicBezTo>
                      <a:pt x="13859" y="6"/>
                      <a:pt x="13858" y="7"/>
                      <a:pt x="13857" y="7"/>
                    </a:cubicBezTo>
                    <a:lnTo>
                      <a:pt x="13857" y="7"/>
                    </a:lnTo>
                    <a:cubicBezTo>
                      <a:pt x="13856" y="7"/>
                      <a:pt x="13855" y="6"/>
                      <a:pt x="13855" y="5"/>
                    </a:cubicBezTo>
                    <a:cubicBezTo>
                      <a:pt x="13855" y="4"/>
                      <a:pt x="13856" y="3"/>
                      <a:pt x="13857" y="3"/>
                    </a:cubicBezTo>
                    <a:close/>
                    <a:moveTo>
                      <a:pt x="13865" y="3"/>
                    </a:moveTo>
                    <a:lnTo>
                      <a:pt x="13865" y="3"/>
                    </a:lnTo>
                    <a:cubicBezTo>
                      <a:pt x="13866" y="3"/>
                      <a:pt x="13867" y="4"/>
                      <a:pt x="13867" y="5"/>
                    </a:cubicBezTo>
                    <a:cubicBezTo>
                      <a:pt x="13867" y="6"/>
                      <a:pt x="13866" y="7"/>
                      <a:pt x="13865" y="7"/>
                    </a:cubicBezTo>
                    <a:lnTo>
                      <a:pt x="13865" y="7"/>
                    </a:lnTo>
                    <a:cubicBezTo>
                      <a:pt x="13864" y="7"/>
                      <a:pt x="13863" y="6"/>
                      <a:pt x="13863" y="5"/>
                    </a:cubicBezTo>
                    <a:cubicBezTo>
                      <a:pt x="13863" y="4"/>
                      <a:pt x="13864" y="3"/>
                      <a:pt x="13865" y="3"/>
                    </a:cubicBezTo>
                    <a:close/>
                    <a:moveTo>
                      <a:pt x="13873" y="3"/>
                    </a:moveTo>
                    <a:lnTo>
                      <a:pt x="13873" y="3"/>
                    </a:lnTo>
                    <a:cubicBezTo>
                      <a:pt x="13874" y="3"/>
                      <a:pt x="13875" y="4"/>
                      <a:pt x="13875" y="5"/>
                    </a:cubicBezTo>
                    <a:cubicBezTo>
                      <a:pt x="13875" y="6"/>
                      <a:pt x="13874" y="7"/>
                      <a:pt x="13873" y="7"/>
                    </a:cubicBezTo>
                    <a:lnTo>
                      <a:pt x="13873" y="7"/>
                    </a:lnTo>
                    <a:cubicBezTo>
                      <a:pt x="13872" y="7"/>
                      <a:pt x="13871" y="6"/>
                      <a:pt x="13871" y="5"/>
                    </a:cubicBezTo>
                    <a:cubicBezTo>
                      <a:pt x="13871" y="4"/>
                      <a:pt x="13872" y="3"/>
                      <a:pt x="13873" y="3"/>
                    </a:cubicBezTo>
                    <a:close/>
                    <a:moveTo>
                      <a:pt x="13881" y="3"/>
                    </a:moveTo>
                    <a:lnTo>
                      <a:pt x="13881" y="3"/>
                    </a:lnTo>
                    <a:cubicBezTo>
                      <a:pt x="13882" y="3"/>
                      <a:pt x="13883" y="4"/>
                      <a:pt x="13883" y="5"/>
                    </a:cubicBezTo>
                    <a:cubicBezTo>
                      <a:pt x="13883" y="6"/>
                      <a:pt x="13882" y="7"/>
                      <a:pt x="13881" y="7"/>
                    </a:cubicBezTo>
                    <a:lnTo>
                      <a:pt x="13881" y="7"/>
                    </a:lnTo>
                    <a:cubicBezTo>
                      <a:pt x="13880" y="7"/>
                      <a:pt x="13879" y="6"/>
                      <a:pt x="13879" y="5"/>
                    </a:cubicBezTo>
                    <a:cubicBezTo>
                      <a:pt x="13879" y="4"/>
                      <a:pt x="13880" y="3"/>
                      <a:pt x="13881" y="3"/>
                    </a:cubicBezTo>
                    <a:close/>
                    <a:moveTo>
                      <a:pt x="13889" y="3"/>
                    </a:moveTo>
                    <a:lnTo>
                      <a:pt x="13889" y="3"/>
                    </a:lnTo>
                    <a:cubicBezTo>
                      <a:pt x="13890" y="3"/>
                      <a:pt x="13891" y="4"/>
                      <a:pt x="13891" y="5"/>
                    </a:cubicBezTo>
                    <a:cubicBezTo>
                      <a:pt x="13891" y="6"/>
                      <a:pt x="13890" y="7"/>
                      <a:pt x="13889" y="7"/>
                    </a:cubicBezTo>
                    <a:lnTo>
                      <a:pt x="13889" y="7"/>
                    </a:lnTo>
                    <a:cubicBezTo>
                      <a:pt x="13888" y="7"/>
                      <a:pt x="13887" y="6"/>
                      <a:pt x="13887" y="5"/>
                    </a:cubicBezTo>
                    <a:cubicBezTo>
                      <a:pt x="13887" y="4"/>
                      <a:pt x="13888" y="3"/>
                      <a:pt x="13889" y="3"/>
                    </a:cubicBezTo>
                    <a:close/>
                    <a:moveTo>
                      <a:pt x="13897" y="3"/>
                    </a:moveTo>
                    <a:lnTo>
                      <a:pt x="13897" y="3"/>
                    </a:lnTo>
                    <a:cubicBezTo>
                      <a:pt x="13898" y="3"/>
                      <a:pt x="13899" y="4"/>
                      <a:pt x="13899" y="5"/>
                    </a:cubicBezTo>
                    <a:cubicBezTo>
                      <a:pt x="13899" y="6"/>
                      <a:pt x="13898" y="7"/>
                      <a:pt x="13897" y="7"/>
                    </a:cubicBezTo>
                    <a:lnTo>
                      <a:pt x="13897" y="7"/>
                    </a:lnTo>
                    <a:cubicBezTo>
                      <a:pt x="13896" y="7"/>
                      <a:pt x="13895" y="6"/>
                      <a:pt x="13895" y="5"/>
                    </a:cubicBezTo>
                    <a:cubicBezTo>
                      <a:pt x="13895" y="4"/>
                      <a:pt x="13896" y="3"/>
                      <a:pt x="13897" y="3"/>
                    </a:cubicBezTo>
                    <a:close/>
                    <a:moveTo>
                      <a:pt x="13905" y="3"/>
                    </a:moveTo>
                    <a:lnTo>
                      <a:pt x="13905" y="3"/>
                    </a:lnTo>
                    <a:cubicBezTo>
                      <a:pt x="13906" y="3"/>
                      <a:pt x="13907" y="4"/>
                      <a:pt x="13907" y="5"/>
                    </a:cubicBezTo>
                    <a:cubicBezTo>
                      <a:pt x="13907" y="6"/>
                      <a:pt x="13906" y="7"/>
                      <a:pt x="13905" y="7"/>
                    </a:cubicBezTo>
                    <a:lnTo>
                      <a:pt x="13905" y="7"/>
                    </a:lnTo>
                    <a:cubicBezTo>
                      <a:pt x="13904" y="7"/>
                      <a:pt x="13903" y="6"/>
                      <a:pt x="13903" y="5"/>
                    </a:cubicBezTo>
                    <a:cubicBezTo>
                      <a:pt x="13903" y="4"/>
                      <a:pt x="13904" y="3"/>
                      <a:pt x="13905" y="3"/>
                    </a:cubicBezTo>
                    <a:close/>
                    <a:moveTo>
                      <a:pt x="13913" y="3"/>
                    </a:moveTo>
                    <a:lnTo>
                      <a:pt x="13913" y="3"/>
                    </a:lnTo>
                    <a:cubicBezTo>
                      <a:pt x="13914" y="3"/>
                      <a:pt x="13915" y="4"/>
                      <a:pt x="13915" y="5"/>
                    </a:cubicBezTo>
                    <a:cubicBezTo>
                      <a:pt x="13915" y="6"/>
                      <a:pt x="13914" y="7"/>
                      <a:pt x="13913" y="7"/>
                    </a:cubicBezTo>
                    <a:lnTo>
                      <a:pt x="13913" y="7"/>
                    </a:lnTo>
                    <a:cubicBezTo>
                      <a:pt x="13912" y="7"/>
                      <a:pt x="13911" y="6"/>
                      <a:pt x="13911" y="5"/>
                    </a:cubicBezTo>
                    <a:cubicBezTo>
                      <a:pt x="13911" y="4"/>
                      <a:pt x="13912" y="3"/>
                      <a:pt x="13913" y="3"/>
                    </a:cubicBezTo>
                    <a:close/>
                    <a:moveTo>
                      <a:pt x="13921" y="3"/>
                    </a:moveTo>
                    <a:lnTo>
                      <a:pt x="13921" y="3"/>
                    </a:lnTo>
                    <a:cubicBezTo>
                      <a:pt x="13922" y="3"/>
                      <a:pt x="13923" y="4"/>
                      <a:pt x="13923" y="5"/>
                    </a:cubicBezTo>
                    <a:cubicBezTo>
                      <a:pt x="13923" y="6"/>
                      <a:pt x="13922" y="7"/>
                      <a:pt x="13921" y="7"/>
                    </a:cubicBezTo>
                    <a:lnTo>
                      <a:pt x="13921" y="7"/>
                    </a:lnTo>
                    <a:cubicBezTo>
                      <a:pt x="13920" y="7"/>
                      <a:pt x="13919" y="6"/>
                      <a:pt x="13919" y="5"/>
                    </a:cubicBezTo>
                    <a:cubicBezTo>
                      <a:pt x="13919" y="4"/>
                      <a:pt x="13920" y="3"/>
                      <a:pt x="13921" y="3"/>
                    </a:cubicBezTo>
                    <a:close/>
                    <a:moveTo>
                      <a:pt x="13929" y="3"/>
                    </a:moveTo>
                    <a:lnTo>
                      <a:pt x="13929" y="3"/>
                    </a:lnTo>
                    <a:cubicBezTo>
                      <a:pt x="13930" y="3"/>
                      <a:pt x="13931" y="4"/>
                      <a:pt x="13931" y="5"/>
                    </a:cubicBezTo>
                    <a:cubicBezTo>
                      <a:pt x="13931" y="6"/>
                      <a:pt x="13930" y="7"/>
                      <a:pt x="13929" y="7"/>
                    </a:cubicBezTo>
                    <a:lnTo>
                      <a:pt x="13929" y="7"/>
                    </a:lnTo>
                    <a:cubicBezTo>
                      <a:pt x="13928" y="7"/>
                      <a:pt x="13927" y="6"/>
                      <a:pt x="13927" y="5"/>
                    </a:cubicBezTo>
                    <a:cubicBezTo>
                      <a:pt x="13927" y="4"/>
                      <a:pt x="13928" y="3"/>
                      <a:pt x="13929" y="3"/>
                    </a:cubicBezTo>
                    <a:close/>
                    <a:moveTo>
                      <a:pt x="13937" y="3"/>
                    </a:moveTo>
                    <a:lnTo>
                      <a:pt x="13937" y="3"/>
                    </a:lnTo>
                    <a:cubicBezTo>
                      <a:pt x="13938" y="3"/>
                      <a:pt x="13939" y="4"/>
                      <a:pt x="13939" y="5"/>
                    </a:cubicBezTo>
                    <a:cubicBezTo>
                      <a:pt x="13939" y="6"/>
                      <a:pt x="13938" y="7"/>
                      <a:pt x="13937" y="7"/>
                    </a:cubicBezTo>
                    <a:lnTo>
                      <a:pt x="13937" y="7"/>
                    </a:lnTo>
                    <a:cubicBezTo>
                      <a:pt x="13936" y="7"/>
                      <a:pt x="13935" y="6"/>
                      <a:pt x="13935" y="5"/>
                    </a:cubicBezTo>
                    <a:cubicBezTo>
                      <a:pt x="13935" y="4"/>
                      <a:pt x="13936" y="3"/>
                      <a:pt x="13937" y="3"/>
                    </a:cubicBezTo>
                    <a:close/>
                    <a:moveTo>
                      <a:pt x="13945" y="3"/>
                    </a:moveTo>
                    <a:lnTo>
                      <a:pt x="13945" y="3"/>
                    </a:lnTo>
                    <a:cubicBezTo>
                      <a:pt x="13946" y="3"/>
                      <a:pt x="13947" y="4"/>
                      <a:pt x="13947" y="5"/>
                    </a:cubicBezTo>
                    <a:cubicBezTo>
                      <a:pt x="13947" y="6"/>
                      <a:pt x="13946" y="7"/>
                      <a:pt x="13945" y="7"/>
                    </a:cubicBezTo>
                    <a:lnTo>
                      <a:pt x="13945" y="7"/>
                    </a:lnTo>
                    <a:cubicBezTo>
                      <a:pt x="13944" y="7"/>
                      <a:pt x="13943" y="6"/>
                      <a:pt x="13943" y="5"/>
                    </a:cubicBezTo>
                    <a:cubicBezTo>
                      <a:pt x="13943" y="4"/>
                      <a:pt x="13944" y="3"/>
                      <a:pt x="13945" y="3"/>
                    </a:cubicBezTo>
                    <a:close/>
                    <a:moveTo>
                      <a:pt x="13953" y="3"/>
                    </a:moveTo>
                    <a:lnTo>
                      <a:pt x="13953" y="3"/>
                    </a:lnTo>
                    <a:cubicBezTo>
                      <a:pt x="13954" y="3"/>
                      <a:pt x="13955" y="4"/>
                      <a:pt x="13955" y="5"/>
                    </a:cubicBezTo>
                    <a:cubicBezTo>
                      <a:pt x="13955" y="6"/>
                      <a:pt x="13954" y="7"/>
                      <a:pt x="13953" y="7"/>
                    </a:cubicBezTo>
                    <a:lnTo>
                      <a:pt x="13953" y="7"/>
                    </a:lnTo>
                    <a:cubicBezTo>
                      <a:pt x="13952" y="7"/>
                      <a:pt x="13951" y="6"/>
                      <a:pt x="13951" y="5"/>
                    </a:cubicBezTo>
                    <a:cubicBezTo>
                      <a:pt x="13951" y="4"/>
                      <a:pt x="13952" y="3"/>
                      <a:pt x="13953" y="3"/>
                    </a:cubicBezTo>
                    <a:close/>
                    <a:moveTo>
                      <a:pt x="13961" y="3"/>
                    </a:moveTo>
                    <a:lnTo>
                      <a:pt x="13961" y="3"/>
                    </a:lnTo>
                    <a:cubicBezTo>
                      <a:pt x="13962" y="3"/>
                      <a:pt x="13963" y="4"/>
                      <a:pt x="13963" y="5"/>
                    </a:cubicBezTo>
                    <a:cubicBezTo>
                      <a:pt x="13963" y="6"/>
                      <a:pt x="13962" y="7"/>
                      <a:pt x="13961" y="7"/>
                    </a:cubicBezTo>
                    <a:lnTo>
                      <a:pt x="13961" y="7"/>
                    </a:lnTo>
                    <a:cubicBezTo>
                      <a:pt x="13960" y="7"/>
                      <a:pt x="13959" y="6"/>
                      <a:pt x="13959" y="5"/>
                    </a:cubicBezTo>
                    <a:cubicBezTo>
                      <a:pt x="13959" y="4"/>
                      <a:pt x="13960" y="3"/>
                      <a:pt x="13961" y="3"/>
                    </a:cubicBezTo>
                    <a:close/>
                    <a:moveTo>
                      <a:pt x="13969" y="3"/>
                    </a:moveTo>
                    <a:lnTo>
                      <a:pt x="13969" y="3"/>
                    </a:lnTo>
                    <a:cubicBezTo>
                      <a:pt x="13970" y="3"/>
                      <a:pt x="13971" y="4"/>
                      <a:pt x="13971" y="5"/>
                    </a:cubicBezTo>
                    <a:cubicBezTo>
                      <a:pt x="13971" y="6"/>
                      <a:pt x="13970" y="7"/>
                      <a:pt x="13969" y="7"/>
                    </a:cubicBezTo>
                    <a:lnTo>
                      <a:pt x="13969" y="7"/>
                    </a:lnTo>
                    <a:cubicBezTo>
                      <a:pt x="13968" y="7"/>
                      <a:pt x="13967" y="6"/>
                      <a:pt x="13967" y="5"/>
                    </a:cubicBezTo>
                    <a:cubicBezTo>
                      <a:pt x="13967" y="4"/>
                      <a:pt x="13968" y="3"/>
                      <a:pt x="13969" y="3"/>
                    </a:cubicBezTo>
                    <a:close/>
                    <a:moveTo>
                      <a:pt x="13977" y="3"/>
                    </a:moveTo>
                    <a:lnTo>
                      <a:pt x="13977" y="3"/>
                    </a:lnTo>
                    <a:cubicBezTo>
                      <a:pt x="13978" y="3"/>
                      <a:pt x="13979" y="4"/>
                      <a:pt x="13979" y="5"/>
                    </a:cubicBezTo>
                    <a:cubicBezTo>
                      <a:pt x="13979" y="6"/>
                      <a:pt x="13978" y="7"/>
                      <a:pt x="13977" y="7"/>
                    </a:cubicBezTo>
                    <a:lnTo>
                      <a:pt x="13977" y="7"/>
                    </a:lnTo>
                    <a:cubicBezTo>
                      <a:pt x="13976" y="7"/>
                      <a:pt x="13975" y="6"/>
                      <a:pt x="13975" y="5"/>
                    </a:cubicBezTo>
                    <a:cubicBezTo>
                      <a:pt x="13975" y="4"/>
                      <a:pt x="13976" y="3"/>
                      <a:pt x="13977" y="3"/>
                    </a:cubicBezTo>
                    <a:close/>
                    <a:moveTo>
                      <a:pt x="13985" y="3"/>
                    </a:moveTo>
                    <a:lnTo>
                      <a:pt x="13985" y="3"/>
                    </a:lnTo>
                    <a:cubicBezTo>
                      <a:pt x="13986" y="3"/>
                      <a:pt x="13987" y="4"/>
                      <a:pt x="13987" y="5"/>
                    </a:cubicBezTo>
                    <a:cubicBezTo>
                      <a:pt x="13987" y="6"/>
                      <a:pt x="13986" y="7"/>
                      <a:pt x="13985" y="7"/>
                    </a:cubicBezTo>
                    <a:lnTo>
                      <a:pt x="13985" y="7"/>
                    </a:lnTo>
                    <a:cubicBezTo>
                      <a:pt x="13984" y="7"/>
                      <a:pt x="13983" y="6"/>
                      <a:pt x="13983" y="5"/>
                    </a:cubicBezTo>
                    <a:cubicBezTo>
                      <a:pt x="13983" y="4"/>
                      <a:pt x="13984" y="3"/>
                      <a:pt x="13985" y="3"/>
                    </a:cubicBezTo>
                    <a:close/>
                    <a:moveTo>
                      <a:pt x="13993" y="3"/>
                    </a:moveTo>
                    <a:lnTo>
                      <a:pt x="13993" y="3"/>
                    </a:lnTo>
                    <a:cubicBezTo>
                      <a:pt x="13994" y="3"/>
                      <a:pt x="13995" y="4"/>
                      <a:pt x="13995" y="5"/>
                    </a:cubicBezTo>
                    <a:cubicBezTo>
                      <a:pt x="13995" y="6"/>
                      <a:pt x="13994" y="7"/>
                      <a:pt x="13993" y="7"/>
                    </a:cubicBezTo>
                    <a:lnTo>
                      <a:pt x="13993" y="7"/>
                    </a:lnTo>
                    <a:cubicBezTo>
                      <a:pt x="13992" y="7"/>
                      <a:pt x="13991" y="6"/>
                      <a:pt x="13991" y="5"/>
                    </a:cubicBezTo>
                    <a:cubicBezTo>
                      <a:pt x="13991" y="4"/>
                      <a:pt x="13992" y="3"/>
                      <a:pt x="13993" y="3"/>
                    </a:cubicBezTo>
                    <a:close/>
                    <a:moveTo>
                      <a:pt x="14001" y="3"/>
                    </a:moveTo>
                    <a:lnTo>
                      <a:pt x="14001" y="3"/>
                    </a:lnTo>
                    <a:cubicBezTo>
                      <a:pt x="14002" y="3"/>
                      <a:pt x="14003" y="4"/>
                      <a:pt x="14003" y="5"/>
                    </a:cubicBezTo>
                    <a:cubicBezTo>
                      <a:pt x="14003" y="6"/>
                      <a:pt x="14002" y="7"/>
                      <a:pt x="14001" y="7"/>
                    </a:cubicBezTo>
                    <a:lnTo>
                      <a:pt x="14001" y="7"/>
                    </a:lnTo>
                    <a:cubicBezTo>
                      <a:pt x="14000" y="7"/>
                      <a:pt x="13999" y="6"/>
                      <a:pt x="13999" y="5"/>
                    </a:cubicBezTo>
                    <a:cubicBezTo>
                      <a:pt x="13999" y="4"/>
                      <a:pt x="14000" y="3"/>
                      <a:pt x="14001" y="3"/>
                    </a:cubicBezTo>
                    <a:close/>
                    <a:moveTo>
                      <a:pt x="14009" y="3"/>
                    </a:moveTo>
                    <a:lnTo>
                      <a:pt x="14009" y="3"/>
                    </a:lnTo>
                    <a:cubicBezTo>
                      <a:pt x="14010" y="3"/>
                      <a:pt x="14011" y="4"/>
                      <a:pt x="14011" y="5"/>
                    </a:cubicBezTo>
                    <a:cubicBezTo>
                      <a:pt x="14011" y="6"/>
                      <a:pt x="14010" y="7"/>
                      <a:pt x="14009" y="7"/>
                    </a:cubicBezTo>
                    <a:lnTo>
                      <a:pt x="14009" y="7"/>
                    </a:lnTo>
                    <a:cubicBezTo>
                      <a:pt x="14008" y="7"/>
                      <a:pt x="14007" y="6"/>
                      <a:pt x="14007" y="5"/>
                    </a:cubicBezTo>
                    <a:cubicBezTo>
                      <a:pt x="14007" y="4"/>
                      <a:pt x="14008" y="3"/>
                      <a:pt x="14009" y="3"/>
                    </a:cubicBezTo>
                    <a:close/>
                    <a:moveTo>
                      <a:pt x="14017" y="3"/>
                    </a:moveTo>
                    <a:lnTo>
                      <a:pt x="14017" y="3"/>
                    </a:lnTo>
                    <a:cubicBezTo>
                      <a:pt x="14018" y="3"/>
                      <a:pt x="14019" y="4"/>
                      <a:pt x="14019" y="5"/>
                    </a:cubicBezTo>
                    <a:cubicBezTo>
                      <a:pt x="14019" y="6"/>
                      <a:pt x="14018" y="7"/>
                      <a:pt x="14017" y="7"/>
                    </a:cubicBezTo>
                    <a:lnTo>
                      <a:pt x="14017" y="7"/>
                    </a:lnTo>
                    <a:cubicBezTo>
                      <a:pt x="14016" y="7"/>
                      <a:pt x="14015" y="6"/>
                      <a:pt x="14015" y="5"/>
                    </a:cubicBezTo>
                    <a:cubicBezTo>
                      <a:pt x="14015" y="4"/>
                      <a:pt x="14016" y="3"/>
                      <a:pt x="14017" y="3"/>
                    </a:cubicBezTo>
                    <a:close/>
                    <a:moveTo>
                      <a:pt x="14025" y="3"/>
                    </a:moveTo>
                    <a:lnTo>
                      <a:pt x="14025" y="3"/>
                    </a:lnTo>
                    <a:cubicBezTo>
                      <a:pt x="14026" y="3"/>
                      <a:pt x="14027" y="4"/>
                      <a:pt x="14027" y="5"/>
                    </a:cubicBezTo>
                    <a:cubicBezTo>
                      <a:pt x="14027" y="6"/>
                      <a:pt x="14026" y="7"/>
                      <a:pt x="14025" y="7"/>
                    </a:cubicBezTo>
                    <a:lnTo>
                      <a:pt x="14025" y="7"/>
                    </a:lnTo>
                    <a:cubicBezTo>
                      <a:pt x="14024" y="7"/>
                      <a:pt x="14023" y="6"/>
                      <a:pt x="14023" y="5"/>
                    </a:cubicBezTo>
                    <a:cubicBezTo>
                      <a:pt x="14023" y="4"/>
                      <a:pt x="14024" y="3"/>
                      <a:pt x="14025" y="3"/>
                    </a:cubicBezTo>
                    <a:close/>
                    <a:moveTo>
                      <a:pt x="14033" y="3"/>
                    </a:moveTo>
                    <a:lnTo>
                      <a:pt x="14033" y="3"/>
                    </a:lnTo>
                    <a:cubicBezTo>
                      <a:pt x="14034" y="3"/>
                      <a:pt x="14035" y="4"/>
                      <a:pt x="14035" y="5"/>
                    </a:cubicBezTo>
                    <a:cubicBezTo>
                      <a:pt x="14035" y="6"/>
                      <a:pt x="14034" y="7"/>
                      <a:pt x="14033" y="7"/>
                    </a:cubicBezTo>
                    <a:lnTo>
                      <a:pt x="14033" y="7"/>
                    </a:lnTo>
                    <a:cubicBezTo>
                      <a:pt x="14032" y="7"/>
                      <a:pt x="14031" y="6"/>
                      <a:pt x="14031" y="5"/>
                    </a:cubicBezTo>
                    <a:cubicBezTo>
                      <a:pt x="14031" y="4"/>
                      <a:pt x="14032" y="3"/>
                      <a:pt x="14033" y="3"/>
                    </a:cubicBezTo>
                    <a:close/>
                    <a:moveTo>
                      <a:pt x="14041" y="3"/>
                    </a:moveTo>
                    <a:lnTo>
                      <a:pt x="14041" y="3"/>
                    </a:lnTo>
                    <a:cubicBezTo>
                      <a:pt x="14042" y="3"/>
                      <a:pt x="14043" y="4"/>
                      <a:pt x="14043" y="5"/>
                    </a:cubicBezTo>
                    <a:cubicBezTo>
                      <a:pt x="14043" y="6"/>
                      <a:pt x="14042" y="7"/>
                      <a:pt x="14041" y="7"/>
                    </a:cubicBezTo>
                    <a:lnTo>
                      <a:pt x="14041" y="7"/>
                    </a:lnTo>
                    <a:cubicBezTo>
                      <a:pt x="14040" y="7"/>
                      <a:pt x="14039" y="6"/>
                      <a:pt x="14039" y="5"/>
                    </a:cubicBezTo>
                    <a:cubicBezTo>
                      <a:pt x="14039" y="4"/>
                      <a:pt x="14040" y="3"/>
                      <a:pt x="14041" y="3"/>
                    </a:cubicBezTo>
                    <a:close/>
                    <a:moveTo>
                      <a:pt x="14049" y="3"/>
                    </a:moveTo>
                    <a:lnTo>
                      <a:pt x="14049" y="3"/>
                    </a:lnTo>
                    <a:cubicBezTo>
                      <a:pt x="14050" y="3"/>
                      <a:pt x="14051" y="4"/>
                      <a:pt x="14051" y="5"/>
                    </a:cubicBezTo>
                    <a:cubicBezTo>
                      <a:pt x="14051" y="6"/>
                      <a:pt x="14050" y="7"/>
                      <a:pt x="14049" y="7"/>
                    </a:cubicBezTo>
                    <a:lnTo>
                      <a:pt x="14049" y="7"/>
                    </a:lnTo>
                    <a:cubicBezTo>
                      <a:pt x="14048" y="7"/>
                      <a:pt x="14047" y="6"/>
                      <a:pt x="14047" y="5"/>
                    </a:cubicBezTo>
                    <a:cubicBezTo>
                      <a:pt x="14047" y="4"/>
                      <a:pt x="14048" y="3"/>
                      <a:pt x="14049" y="3"/>
                    </a:cubicBezTo>
                    <a:close/>
                    <a:moveTo>
                      <a:pt x="14057" y="3"/>
                    </a:moveTo>
                    <a:lnTo>
                      <a:pt x="14057" y="3"/>
                    </a:lnTo>
                    <a:cubicBezTo>
                      <a:pt x="14058" y="3"/>
                      <a:pt x="14059" y="4"/>
                      <a:pt x="14059" y="5"/>
                    </a:cubicBezTo>
                    <a:cubicBezTo>
                      <a:pt x="14059" y="6"/>
                      <a:pt x="14058" y="7"/>
                      <a:pt x="14057" y="7"/>
                    </a:cubicBezTo>
                    <a:lnTo>
                      <a:pt x="14057" y="7"/>
                    </a:lnTo>
                    <a:cubicBezTo>
                      <a:pt x="14056" y="7"/>
                      <a:pt x="14055" y="6"/>
                      <a:pt x="14055" y="5"/>
                    </a:cubicBezTo>
                    <a:cubicBezTo>
                      <a:pt x="14055" y="4"/>
                      <a:pt x="14056" y="3"/>
                      <a:pt x="14057" y="3"/>
                    </a:cubicBezTo>
                    <a:close/>
                    <a:moveTo>
                      <a:pt x="14065" y="3"/>
                    </a:moveTo>
                    <a:lnTo>
                      <a:pt x="14065" y="3"/>
                    </a:lnTo>
                    <a:cubicBezTo>
                      <a:pt x="14066" y="3"/>
                      <a:pt x="14067" y="4"/>
                      <a:pt x="14067" y="5"/>
                    </a:cubicBezTo>
                    <a:cubicBezTo>
                      <a:pt x="14067" y="6"/>
                      <a:pt x="14066" y="7"/>
                      <a:pt x="14065" y="7"/>
                    </a:cubicBezTo>
                    <a:lnTo>
                      <a:pt x="14065" y="7"/>
                    </a:lnTo>
                    <a:cubicBezTo>
                      <a:pt x="14064" y="7"/>
                      <a:pt x="14063" y="6"/>
                      <a:pt x="14063" y="5"/>
                    </a:cubicBezTo>
                    <a:cubicBezTo>
                      <a:pt x="14063" y="4"/>
                      <a:pt x="14064" y="3"/>
                      <a:pt x="14065" y="3"/>
                    </a:cubicBezTo>
                    <a:close/>
                    <a:moveTo>
                      <a:pt x="14073" y="3"/>
                    </a:moveTo>
                    <a:lnTo>
                      <a:pt x="14073" y="3"/>
                    </a:lnTo>
                    <a:cubicBezTo>
                      <a:pt x="14074" y="3"/>
                      <a:pt x="14075" y="4"/>
                      <a:pt x="14075" y="5"/>
                    </a:cubicBezTo>
                    <a:cubicBezTo>
                      <a:pt x="14075" y="6"/>
                      <a:pt x="14074" y="7"/>
                      <a:pt x="14073" y="7"/>
                    </a:cubicBezTo>
                    <a:lnTo>
                      <a:pt x="14073" y="7"/>
                    </a:lnTo>
                    <a:cubicBezTo>
                      <a:pt x="14072" y="7"/>
                      <a:pt x="14071" y="6"/>
                      <a:pt x="14071" y="5"/>
                    </a:cubicBezTo>
                    <a:cubicBezTo>
                      <a:pt x="14071" y="4"/>
                      <a:pt x="14072" y="3"/>
                      <a:pt x="14073" y="3"/>
                    </a:cubicBezTo>
                    <a:close/>
                    <a:moveTo>
                      <a:pt x="14081" y="3"/>
                    </a:moveTo>
                    <a:lnTo>
                      <a:pt x="14081" y="3"/>
                    </a:lnTo>
                    <a:cubicBezTo>
                      <a:pt x="14082" y="3"/>
                      <a:pt x="14083" y="4"/>
                      <a:pt x="14083" y="5"/>
                    </a:cubicBezTo>
                    <a:cubicBezTo>
                      <a:pt x="14083" y="6"/>
                      <a:pt x="14082" y="7"/>
                      <a:pt x="14081" y="7"/>
                    </a:cubicBezTo>
                    <a:lnTo>
                      <a:pt x="14081" y="7"/>
                    </a:lnTo>
                    <a:cubicBezTo>
                      <a:pt x="14080" y="7"/>
                      <a:pt x="14079" y="6"/>
                      <a:pt x="14079" y="5"/>
                    </a:cubicBezTo>
                    <a:cubicBezTo>
                      <a:pt x="14079" y="4"/>
                      <a:pt x="14080" y="3"/>
                      <a:pt x="14081" y="3"/>
                    </a:cubicBezTo>
                    <a:close/>
                    <a:moveTo>
                      <a:pt x="14089" y="3"/>
                    </a:moveTo>
                    <a:lnTo>
                      <a:pt x="14089" y="3"/>
                    </a:lnTo>
                    <a:cubicBezTo>
                      <a:pt x="14090" y="3"/>
                      <a:pt x="14091" y="4"/>
                      <a:pt x="14091" y="5"/>
                    </a:cubicBezTo>
                    <a:cubicBezTo>
                      <a:pt x="14091" y="6"/>
                      <a:pt x="14090" y="7"/>
                      <a:pt x="14089" y="7"/>
                    </a:cubicBezTo>
                    <a:lnTo>
                      <a:pt x="14089" y="7"/>
                    </a:lnTo>
                    <a:cubicBezTo>
                      <a:pt x="14088" y="7"/>
                      <a:pt x="14087" y="6"/>
                      <a:pt x="14087" y="5"/>
                    </a:cubicBezTo>
                    <a:cubicBezTo>
                      <a:pt x="14087" y="4"/>
                      <a:pt x="14088" y="3"/>
                      <a:pt x="14089" y="3"/>
                    </a:cubicBezTo>
                    <a:close/>
                    <a:moveTo>
                      <a:pt x="14097" y="3"/>
                    </a:moveTo>
                    <a:lnTo>
                      <a:pt x="14097" y="3"/>
                    </a:lnTo>
                    <a:cubicBezTo>
                      <a:pt x="14098" y="3"/>
                      <a:pt x="14099" y="4"/>
                      <a:pt x="14099" y="5"/>
                    </a:cubicBezTo>
                    <a:cubicBezTo>
                      <a:pt x="14099" y="6"/>
                      <a:pt x="14098" y="7"/>
                      <a:pt x="14097" y="7"/>
                    </a:cubicBezTo>
                    <a:lnTo>
                      <a:pt x="14097" y="7"/>
                    </a:lnTo>
                    <a:cubicBezTo>
                      <a:pt x="14096" y="7"/>
                      <a:pt x="14095" y="6"/>
                      <a:pt x="14095" y="5"/>
                    </a:cubicBezTo>
                    <a:cubicBezTo>
                      <a:pt x="14095" y="4"/>
                      <a:pt x="14096" y="3"/>
                      <a:pt x="14097" y="3"/>
                    </a:cubicBezTo>
                    <a:close/>
                    <a:moveTo>
                      <a:pt x="14105" y="3"/>
                    </a:moveTo>
                    <a:lnTo>
                      <a:pt x="14105" y="3"/>
                    </a:lnTo>
                    <a:cubicBezTo>
                      <a:pt x="14106" y="3"/>
                      <a:pt x="14107" y="4"/>
                      <a:pt x="14107" y="5"/>
                    </a:cubicBezTo>
                    <a:cubicBezTo>
                      <a:pt x="14107" y="6"/>
                      <a:pt x="14106" y="7"/>
                      <a:pt x="14105" y="7"/>
                    </a:cubicBezTo>
                    <a:lnTo>
                      <a:pt x="14105" y="7"/>
                    </a:lnTo>
                    <a:cubicBezTo>
                      <a:pt x="14104" y="7"/>
                      <a:pt x="14103" y="6"/>
                      <a:pt x="14103" y="5"/>
                    </a:cubicBezTo>
                    <a:cubicBezTo>
                      <a:pt x="14103" y="4"/>
                      <a:pt x="14104" y="3"/>
                      <a:pt x="14105" y="3"/>
                    </a:cubicBezTo>
                    <a:close/>
                    <a:moveTo>
                      <a:pt x="14113" y="3"/>
                    </a:moveTo>
                    <a:lnTo>
                      <a:pt x="14113" y="3"/>
                    </a:lnTo>
                    <a:cubicBezTo>
                      <a:pt x="14114" y="3"/>
                      <a:pt x="14115" y="4"/>
                      <a:pt x="14115" y="5"/>
                    </a:cubicBezTo>
                    <a:cubicBezTo>
                      <a:pt x="14115" y="6"/>
                      <a:pt x="14114" y="7"/>
                      <a:pt x="14113" y="7"/>
                    </a:cubicBezTo>
                    <a:lnTo>
                      <a:pt x="14113" y="7"/>
                    </a:lnTo>
                    <a:cubicBezTo>
                      <a:pt x="14112" y="7"/>
                      <a:pt x="14111" y="6"/>
                      <a:pt x="14111" y="5"/>
                    </a:cubicBezTo>
                    <a:cubicBezTo>
                      <a:pt x="14111" y="4"/>
                      <a:pt x="14112" y="3"/>
                      <a:pt x="14113" y="3"/>
                    </a:cubicBezTo>
                    <a:close/>
                    <a:moveTo>
                      <a:pt x="14121" y="3"/>
                    </a:moveTo>
                    <a:lnTo>
                      <a:pt x="14121" y="3"/>
                    </a:lnTo>
                    <a:cubicBezTo>
                      <a:pt x="14122" y="3"/>
                      <a:pt x="14123" y="4"/>
                      <a:pt x="14123" y="5"/>
                    </a:cubicBezTo>
                    <a:cubicBezTo>
                      <a:pt x="14123" y="6"/>
                      <a:pt x="14122" y="7"/>
                      <a:pt x="14121" y="7"/>
                    </a:cubicBezTo>
                    <a:lnTo>
                      <a:pt x="14121" y="7"/>
                    </a:lnTo>
                    <a:cubicBezTo>
                      <a:pt x="14120" y="7"/>
                      <a:pt x="14119" y="6"/>
                      <a:pt x="14119" y="5"/>
                    </a:cubicBezTo>
                    <a:cubicBezTo>
                      <a:pt x="14119" y="4"/>
                      <a:pt x="14120" y="3"/>
                      <a:pt x="14121" y="3"/>
                    </a:cubicBezTo>
                    <a:close/>
                    <a:moveTo>
                      <a:pt x="14129" y="3"/>
                    </a:moveTo>
                    <a:lnTo>
                      <a:pt x="14129" y="3"/>
                    </a:lnTo>
                    <a:cubicBezTo>
                      <a:pt x="14130" y="3"/>
                      <a:pt x="14131" y="4"/>
                      <a:pt x="14131" y="5"/>
                    </a:cubicBezTo>
                    <a:cubicBezTo>
                      <a:pt x="14131" y="6"/>
                      <a:pt x="14130" y="7"/>
                      <a:pt x="14129" y="7"/>
                    </a:cubicBezTo>
                    <a:lnTo>
                      <a:pt x="14129" y="7"/>
                    </a:lnTo>
                    <a:cubicBezTo>
                      <a:pt x="14128" y="7"/>
                      <a:pt x="14127" y="6"/>
                      <a:pt x="14127" y="5"/>
                    </a:cubicBezTo>
                    <a:cubicBezTo>
                      <a:pt x="14127" y="4"/>
                      <a:pt x="14128" y="3"/>
                      <a:pt x="14129" y="3"/>
                    </a:cubicBezTo>
                    <a:close/>
                    <a:moveTo>
                      <a:pt x="14137" y="3"/>
                    </a:moveTo>
                    <a:lnTo>
                      <a:pt x="14137" y="3"/>
                    </a:lnTo>
                    <a:cubicBezTo>
                      <a:pt x="14138" y="3"/>
                      <a:pt x="14139" y="4"/>
                      <a:pt x="14139" y="5"/>
                    </a:cubicBezTo>
                    <a:cubicBezTo>
                      <a:pt x="14139" y="6"/>
                      <a:pt x="14138" y="7"/>
                      <a:pt x="14137" y="7"/>
                    </a:cubicBezTo>
                    <a:lnTo>
                      <a:pt x="14137" y="7"/>
                    </a:lnTo>
                    <a:cubicBezTo>
                      <a:pt x="14136" y="7"/>
                      <a:pt x="14135" y="6"/>
                      <a:pt x="14135" y="5"/>
                    </a:cubicBezTo>
                    <a:cubicBezTo>
                      <a:pt x="14135" y="4"/>
                      <a:pt x="14136" y="3"/>
                      <a:pt x="14137" y="3"/>
                    </a:cubicBezTo>
                    <a:close/>
                    <a:moveTo>
                      <a:pt x="14145" y="3"/>
                    </a:moveTo>
                    <a:lnTo>
                      <a:pt x="14145" y="3"/>
                    </a:lnTo>
                    <a:cubicBezTo>
                      <a:pt x="14146" y="3"/>
                      <a:pt x="14147" y="4"/>
                      <a:pt x="14147" y="5"/>
                    </a:cubicBezTo>
                    <a:cubicBezTo>
                      <a:pt x="14147" y="6"/>
                      <a:pt x="14146" y="7"/>
                      <a:pt x="14145" y="7"/>
                    </a:cubicBezTo>
                    <a:lnTo>
                      <a:pt x="14145" y="7"/>
                    </a:lnTo>
                    <a:cubicBezTo>
                      <a:pt x="14144" y="7"/>
                      <a:pt x="14143" y="6"/>
                      <a:pt x="14143" y="5"/>
                    </a:cubicBezTo>
                    <a:cubicBezTo>
                      <a:pt x="14143" y="4"/>
                      <a:pt x="14144" y="3"/>
                      <a:pt x="14145" y="3"/>
                    </a:cubicBezTo>
                    <a:close/>
                    <a:moveTo>
                      <a:pt x="14153" y="3"/>
                    </a:moveTo>
                    <a:lnTo>
                      <a:pt x="14153" y="3"/>
                    </a:lnTo>
                    <a:cubicBezTo>
                      <a:pt x="14154" y="3"/>
                      <a:pt x="14155" y="4"/>
                      <a:pt x="14155" y="5"/>
                    </a:cubicBezTo>
                    <a:cubicBezTo>
                      <a:pt x="14155" y="6"/>
                      <a:pt x="14154" y="7"/>
                      <a:pt x="14153" y="7"/>
                    </a:cubicBezTo>
                    <a:lnTo>
                      <a:pt x="14153" y="7"/>
                    </a:lnTo>
                    <a:cubicBezTo>
                      <a:pt x="14152" y="7"/>
                      <a:pt x="14151" y="6"/>
                      <a:pt x="14151" y="5"/>
                    </a:cubicBezTo>
                    <a:cubicBezTo>
                      <a:pt x="14151" y="4"/>
                      <a:pt x="14152" y="3"/>
                      <a:pt x="14153" y="3"/>
                    </a:cubicBezTo>
                    <a:close/>
                    <a:moveTo>
                      <a:pt x="14161" y="3"/>
                    </a:moveTo>
                    <a:lnTo>
                      <a:pt x="14161" y="3"/>
                    </a:lnTo>
                    <a:cubicBezTo>
                      <a:pt x="14162" y="3"/>
                      <a:pt x="14163" y="4"/>
                      <a:pt x="14163" y="5"/>
                    </a:cubicBezTo>
                    <a:cubicBezTo>
                      <a:pt x="14163" y="6"/>
                      <a:pt x="14162" y="7"/>
                      <a:pt x="14161" y="7"/>
                    </a:cubicBezTo>
                    <a:lnTo>
                      <a:pt x="14161" y="7"/>
                    </a:lnTo>
                    <a:cubicBezTo>
                      <a:pt x="14160" y="7"/>
                      <a:pt x="14159" y="6"/>
                      <a:pt x="14159" y="5"/>
                    </a:cubicBezTo>
                    <a:cubicBezTo>
                      <a:pt x="14159" y="4"/>
                      <a:pt x="14160" y="3"/>
                      <a:pt x="14161" y="3"/>
                    </a:cubicBezTo>
                    <a:close/>
                    <a:moveTo>
                      <a:pt x="14169" y="3"/>
                    </a:moveTo>
                    <a:lnTo>
                      <a:pt x="14169" y="3"/>
                    </a:lnTo>
                    <a:cubicBezTo>
                      <a:pt x="14171" y="3"/>
                      <a:pt x="14171" y="4"/>
                      <a:pt x="14171" y="5"/>
                    </a:cubicBezTo>
                    <a:cubicBezTo>
                      <a:pt x="14171" y="6"/>
                      <a:pt x="14171" y="7"/>
                      <a:pt x="14169" y="7"/>
                    </a:cubicBezTo>
                    <a:lnTo>
                      <a:pt x="14169" y="7"/>
                    </a:lnTo>
                    <a:cubicBezTo>
                      <a:pt x="14168" y="7"/>
                      <a:pt x="14167" y="6"/>
                      <a:pt x="14167" y="5"/>
                    </a:cubicBezTo>
                    <a:cubicBezTo>
                      <a:pt x="14167" y="4"/>
                      <a:pt x="14168" y="3"/>
                      <a:pt x="14169" y="3"/>
                    </a:cubicBezTo>
                    <a:close/>
                    <a:moveTo>
                      <a:pt x="14177" y="3"/>
                    </a:moveTo>
                    <a:lnTo>
                      <a:pt x="14177" y="3"/>
                    </a:lnTo>
                    <a:cubicBezTo>
                      <a:pt x="14179" y="3"/>
                      <a:pt x="14179" y="4"/>
                      <a:pt x="14179" y="5"/>
                    </a:cubicBezTo>
                    <a:cubicBezTo>
                      <a:pt x="14179" y="6"/>
                      <a:pt x="14179" y="7"/>
                      <a:pt x="14177" y="7"/>
                    </a:cubicBezTo>
                    <a:lnTo>
                      <a:pt x="14177" y="7"/>
                    </a:lnTo>
                    <a:cubicBezTo>
                      <a:pt x="14176" y="7"/>
                      <a:pt x="14175" y="6"/>
                      <a:pt x="14175" y="5"/>
                    </a:cubicBezTo>
                    <a:cubicBezTo>
                      <a:pt x="14175" y="4"/>
                      <a:pt x="14176" y="3"/>
                      <a:pt x="14177" y="3"/>
                    </a:cubicBezTo>
                    <a:close/>
                    <a:moveTo>
                      <a:pt x="14185" y="3"/>
                    </a:moveTo>
                    <a:lnTo>
                      <a:pt x="14185" y="3"/>
                    </a:lnTo>
                    <a:cubicBezTo>
                      <a:pt x="14187" y="3"/>
                      <a:pt x="14187" y="4"/>
                      <a:pt x="14187" y="5"/>
                    </a:cubicBezTo>
                    <a:cubicBezTo>
                      <a:pt x="14187" y="6"/>
                      <a:pt x="14187" y="7"/>
                      <a:pt x="14185" y="7"/>
                    </a:cubicBezTo>
                    <a:lnTo>
                      <a:pt x="14185" y="7"/>
                    </a:lnTo>
                    <a:cubicBezTo>
                      <a:pt x="14184" y="7"/>
                      <a:pt x="14183" y="6"/>
                      <a:pt x="14183" y="5"/>
                    </a:cubicBezTo>
                    <a:cubicBezTo>
                      <a:pt x="14183" y="4"/>
                      <a:pt x="14184" y="3"/>
                      <a:pt x="14185" y="3"/>
                    </a:cubicBezTo>
                    <a:close/>
                    <a:moveTo>
                      <a:pt x="14193" y="3"/>
                    </a:moveTo>
                    <a:lnTo>
                      <a:pt x="14193" y="3"/>
                    </a:lnTo>
                    <a:cubicBezTo>
                      <a:pt x="14195" y="3"/>
                      <a:pt x="14195" y="4"/>
                      <a:pt x="14195" y="5"/>
                    </a:cubicBezTo>
                    <a:cubicBezTo>
                      <a:pt x="14195" y="6"/>
                      <a:pt x="14195" y="7"/>
                      <a:pt x="14193" y="7"/>
                    </a:cubicBezTo>
                    <a:lnTo>
                      <a:pt x="14193" y="7"/>
                    </a:lnTo>
                    <a:cubicBezTo>
                      <a:pt x="14192" y="7"/>
                      <a:pt x="14191" y="6"/>
                      <a:pt x="14191" y="5"/>
                    </a:cubicBezTo>
                    <a:cubicBezTo>
                      <a:pt x="14191" y="4"/>
                      <a:pt x="14192" y="3"/>
                      <a:pt x="14193" y="3"/>
                    </a:cubicBezTo>
                    <a:close/>
                    <a:moveTo>
                      <a:pt x="14201" y="3"/>
                    </a:moveTo>
                    <a:lnTo>
                      <a:pt x="14201" y="3"/>
                    </a:lnTo>
                    <a:cubicBezTo>
                      <a:pt x="14203" y="3"/>
                      <a:pt x="14203" y="4"/>
                      <a:pt x="14203" y="5"/>
                    </a:cubicBezTo>
                    <a:cubicBezTo>
                      <a:pt x="14203" y="6"/>
                      <a:pt x="14203" y="7"/>
                      <a:pt x="14201" y="7"/>
                    </a:cubicBezTo>
                    <a:lnTo>
                      <a:pt x="14201" y="7"/>
                    </a:lnTo>
                    <a:cubicBezTo>
                      <a:pt x="14200" y="7"/>
                      <a:pt x="14199" y="6"/>
                      <a:pt x="14199" y="5"/>
                    </a:cubicBezTo>
                    <a:cubicBezTo>
                      <a:pt x="14199" y="4"/>
                      <a:pt x="14200" y="3"/>
                      <a:pt x="14201" y="3"/>
                    </a:cubicBezTo>
                    <a:close/>
                    <a:moveTo>
                      <a:pt x="14209" y="3"/>
                    </a:moveTo>
                    <a:lnTo>
                      <a:pt x="14209" y="3"/>
                    </a:lnTo>
                    <a:cubicBezTo>
                      <a:pt x="14211" y="3"/>
                      <a:pt x="14211" y="4"/>
                      <a:pt x="14211" y="5"/>
                    </a:cubicBezTo>
                    <a:cubicBezTo>
                      <a:pt x="14211" y="6"/>
                      <a:pt x="14211" y="7"/>
                      <a:pt x="14209" y="7"/>
                    </a:cubicBezTo>
                    <a:lnTo>
                      <a:pt x="14209" y="7"/>
                    </a:lnTo>
                    <a:cubicBezTo>
                      <a:pt x="14208" y="7"/>
                      <a:pt x="14207" y="6"/>
                      <a:pt x="14207" y="5"/>
                    </a:cubicBezTo>
                    <a:cubicBezTo>
                      <a:pt x="14207" y="4"/>
                      <a:pt x="14208" y="3"/>
                      <a:pt x="14209" y="3"/>
                    </a:cubicBezTo>
                    <a:close/>
                    <a:moveTo>
                      <a:pt x="14217" y="3"/>
                    </a:moveTo>
                    <a:lnTo>
                      <a:pt x="14217" y="3"/>
                    </a:lnTo>
                    <a:cubicBezTo>
                      <a:pt x="14219" y="3"/>
                      <a:pt x="14219" y="4"/>
                      <a:pt x="14219" y="5"/>
                    </a:cubicBezTo>
                    <a:cubicBezTo>
                      <a:pt x="14219" y="6"/>
                      <a:pt x="14219" y="7"/>
                      <a:pt x="14217" y="7"/>
                    </a:cubicBezTo>
                    <a:lnTo>
                      <a:pt x="14217" y="7"/>
                    </a:lnTo>
                    <a:cubicBezTo>
                      <a:pt x="14216" y="7"/>
                      <a:pt x="14215" y="6"/>
                      <a:pt x="14215" y="5"/>
                    </a:cubicBezTo>
                    <a:cubicBezTo>
                      <a:pt x="14215" y="4"/>
                      <a:pt x="14216" y="3"/>
                      <a:pt x="14217" y="3"/>
                    </a:cubicBezTo>
                    <a:close/>
                    <a:moveTo>
                      <a:pt x="14225" y="3"/>
                    </a:moveTo>
                    <a:lnTo>
                      <a:pt x="14225" y="3"/>
                    </a:lnTo>
                    <a:cubicBezTo>
                      <a:pt x="14227" y="3"/>
                      <a:pt x="14227" y="4"/>
                      <a:pt x="14227" y="5"/>
                    </a:cubicBezTo>
                    <a:cubicBezTo>
                      <a:pt x="14227" y="6"/>
                      <a:pt x="14227" y="7"/>
                      <a:pt x="14225" y="7"/>
                    </a:cubicBezTo>
                    <a:lnTo>
                      <a:pt x="14225" y="7"/>
                    </a:lnTo>
                    <a:cubicBezTo>
                      <a:pt x="14224" y="7"/>
                      <a:pt x="14223" y="6"/>
                      <a:pt x="14223" y="5"/>
                    </a:cubicBezTo>
                    <a:cubicBezTo>
                      <a:pt x="14223" y="4"/>
                      <a:pt x="14224" y="3"/>
                      <a:pt x="14225" y="3"/>
                    </a:cubicBezTo>
                    <a:close/>
                    <a:moveTo>
                      <a:pt x="14233" y="3"/>
                    </a:moveTo>
                    <a:lnTo>
                      <a:pt x="14233" y="3"/>
                    </a:lnTo>
                    <a:cubicBezTo>
                      <a:pt x="14235" y="3"/>
                      <a:pt x="14235" y="4"/>
                      <a:pt x="14235" y="5"/>
                    </a:cubicBezTo>
                    <a:cubicBezTo>
                      <a:pt x="14235" y="6"/>
                      <a:pt x="14235" y="7"/>
                      <a:pt x="14233" y="7"/>
                    </a:cubicBezTo>
                    <a:lnTo>
                      <a:pt x="14233" y="7"/>
                    </a:lnTo>
                    <a:cubicBezTo>
                      <a:pt x="14232" y="7"/>
                      <a:pt x="14231" y="6"/>
                      <a:pt x="14231" y="5"/>
                    </a:cubicBezTo>
                    <a:cubicBezTo>
                      <a:pt x="14231" y="4"/>
                      <a:pt x="14232" y="3"/>
                      <a:pt x="14233" y="3"/>
                    </a:cubicBezTo>
                    <a:close/>
                    <a:moveTo>
                      <a:pt x="14241" y="3"/>
                    </a:moveTo>
                    <a:lnTo>
                      <a:pt x="14241" y="3"/>
                    </a:lnTo>
                    <a:cubicBezTo>
                      <a:pt x="14243" y="3"/>
                      <a:pt x="14243" y="4"/>
                      <a:pt x="14243" y="5"/>
                    </a:cubicBezTo>
                    <a:cubicBezTo>
                      <a:pt x="14243" y="6"/>
                      <a:pt x="14243" y="7"/>
                      <a:pt x="14241" y="7"/>
                    </a:cubicBezTo>
                    <a:lnTo>
                      <a:pt x="14241" y="7"/>
                    </a:lnTo>
                    <a:cubicBezTo>
                      <a:pt x="14240" y="7"/>
                      <a:pt x="14239" y="6"/>
                      <a:pt x="14239" y="5"/>
                    </a:cubicBezTo>
                    <a:cubicBezTo>
                      <a:pt x="14239" y="4"/>
                      <a:pt x="14240" y="3"/>
                      <a:pt x="14241" y="3"/>
                    </a:cubicBezTo>
                    <a:close/>
                    <a:moveTo>
                      <a:pt x="14249" y="3"/>
                    </a:moveTo>
                    <a:lnTo>
                      <a:pt x="14249" y="3"/>
                    </a:lnTo>
                    <a:cubicBezTo>
                      <a:pt x="14251" y="3"/>
                      <a:pt x="14251" y="4"/>
                      <a:pt x="14251" y="5"/>
                    </a:cubicBezTo>
                    <a:cubicBezTo>
                      <a:pt x="14251" y="6"/>
                      <a:pt x="14251" y="7"/>
                      <a:pt x="14249" y="7"/>
                    </a:cubicBezTo>
                    <a:lnTo>
                      <a:pt x="14249" y="7"/>
                    </a:lnTo>
                    <a:cubicBezTo>
                      <a:pt x="14248" y="7"/>
                      <a:pt x="14247" y="6"/>
                      <a:pt x="14247" y="5"/>
                    </a:cubicBezTo>
                    <a:cubicBezTo>
                      <a:pt x="14247" y="4"/>
                      <a:pt x="14248" y="3"/>
                      <a:pt x="14249" y="3"/>
                    </a:cubicBezTo>
                    <a:close/>
                    <a:moveTo>
                      <a:pt x="14257" y="3"/>
                    </a:moveTo>
                    <a:lnTo>
                      <a:pt x="14257" y="3"/>
                    </a:lnTo>
                    <a:cubicBezTo>
                      <a:pt x="14259" y="3"/>
                      <a:pt x="14259" y="4"/>
                      <a:pt x="14259" y="5"/>
                    </a:cubicBezTo>
                    <a:cubicBezTo>
                      <a:pt x="14259" y="6"/>
                      <a:pt x="14259" y="7"/>
                      <a:pt x="14257" y="7"/>
                    </a:cubicBezTo>
                    <a:lnTo>
                      <a:pt x="14257" y="7"/>
                    </a:lnTo>
                    <a:cubicBezTo>
                      <a:pt x="14256" y="7"/>
                      <a:pt x="14255" y="6"/>
                      <a:pt x="14255" y="5"/>
                    </a:cubicBezTo>
                    <a:cubicBezTo>
                      <a:pt x="14255" y="4"/>
                      <a:pt x="14256" y="3"/>
                      <a:pt x="14257" y="3"/>
                    </a:cubicBezTo>
                    <a:close/>
                    <a:moveTo>
                      <a:pt x="14265" y="3"/>
                    </a:moveTo>
                    <a:lnTo>
                      <a:pt x="14265" y="3"/>
                    </a:lnTo>
                    <a:cubicBezTo>
                      <a:pt x="14267" y="3"/>
                      <a:pt x="14267" y="4"/>
                      <a:pt x="14267" y="5"/>
                    </a:cubicBezTo>
                    <a:cubicBezTo>
                      <a:pt x="14267" y="6"/>
                      <a:pt x="14267" y="7"/>
                      <a:pt x="14265" y="7"/>
                    </a:cubicBezTo>
                    <a:lnTo>
                      <a:pt x="14265" y="7"/>
                    </a:lnTo>
                    <a:cubicBezTo>
                      <a:pt x="14264" y="7"/>
                      <a:pt x="14263" y="6"/>
                      <a:pt x="14263" y="5"/>
                    </a:cubicBezTo>
                    <a:cubicBezTo>
                      <a:pt x="14263" y="4"/>
                      <a:pt x="14264" y="3"/>
                      <a:pt x="14265" y="3"/>
                    </a:cubicBezTo>
                    <a:close/>
                    <a:moveTo>
                      <a:pt x="14273" y="3"/>
                    </a:moveTo>
                    <a:lnTo>
                      <a:pt x="14273" y="3"/>
                    </a:lnTo>
                    <a:cubicBezTo>
                      <a:pt x="14275" y="3"/>
                      <a:pt x="14275" y="4"/>
                      <a:pt x="14275" y="5"/>
                    </a:cubicBezTo>
                    <a:cubicBezTo>
                      <a:pt x="14275" y="6"/>
                      <a:pt x="14275" y="7"/>
                      <a:pt x="14273" y="7"/>
                    </a:cubicBezTo>
                    <a:lnTo>
                      <a:pt x="14273" y="7"/>
                    </a:lnTo>
                    <a:cubicBezTo>
                      <a:pt x="14272" y="7"/>
                      <a:pt x="14271" y="6"/>
                      <a:pt x="14271" y="5"/>
                    </a:cubicBezTo>
                    <a:cubicBezTo>
                      <a:pt x="14271" y="4"/>
                      <a:pt x="14272" y="3"/>
                      <a:pt x="14273" y="3"/>
                    </a:cubicBezTo>
                    <a:close/>
                    <a:moveTo>
                      <a:pt x="14281" y="3"/>
                    </a:moveTo>
                    <a:lnTo>
                      <a:pt x="14281" y="3"/>
                    </a:lnTo>
                    <a:cubicBezTo>
                      <a:pt x="14283" y="3"/>
                      <a:pt x="14283" y="4"/>
                      <a:pt x="14283" y="5"/>
                    </a:cubicBezTo>
                    <a:cubicBezTo>
                      <a:pt x="14283" y="6"/>
                      <a:pt x="14283" y="7"/>
                      <a:pt x="14281" y="7"/>
                    </a:cubicBezTo>
                    <a:lnTo>
                      <a:pt x="14281" y="7"/>
                    </a:lnTo>
                    <a:cubicBezTo>
                      <a:pt x="14280" y="7"/>
                      <a:pt x="14279" y="6"/>
                      <a:pt x="14279" y="5"/>
                    </a:cubicBezTo>
                    <a:cubicBezTo>
                      <a:pt x="14279" y="4"/>
                      <a:pt x="14280" y="3"/>
                      <a:pt x="14281" y="3"/>
                    </a:cubicBezTo>
                    <a:close/>
                    <a:moveTo>
                      <a:pt x="14289" y="3"/>
                    </a:moveTo>
                    <a:lnTo>
                      <a:pt x="14289" y="3"/>
                    </a:lnTo>
                    <a:cubicBezTo>
                      <a:pt x="14291" y="3"/>
                      <a:pt x="14291" y="4"/>
                      <a:pt x="14291" y="5"/>
                    </a:cubicBezTo>
                    <a:cubicBezTo>
                      <a:pt x="14291" y="6"/>
                      <a:pt x="14291" y="7"/>
                      <a:pt x="14289" y="7"/>
                    </a:cubicBezTo>
                    <a:lnTo>
                      <a:pt x="14289" y="7"/>
                    </a:lnTo>
                    <a:cubicBezTo>
                      <a:pt x="14288" y="7"/>
                      <a:pt x="14287" y="6"/>
                      <a:pt x="14287" y="5"/>
                    </a:cubicBezTo>
                    <a:cubicBezTo>
                      <a:pt x="14287" y="4"/>
                      <a:pt x="14288" y="3"/>
                      <a:pt x="14289" y="3"/>
                    </a:cubicBezTo>
                    <a:close/>
                    <a:moveTo>
                      <a:pt x="14297" y="3"/>
                    </a:moveTo>
                    <a:lnTo>
                      <a:pt x="14297" y="3"/>
                    </a:lnTo>
                    <a:cubicBezTo>
                      <a:pt x="14299" y="3"/>
                      <a:pt x="14299" y="4"/>
                      <a:pt x="14299" y="5"/>
                    </a:cubicBezTo>
                    <a:cubicBezTo>
                      <a:pt x="14299" y="6"/>
                      <a:pt x="14299" y="7"/>
                      <a:pt x="14297" y="7"/>
                    </a:cubicBezTo>
                    <a:lnTo>
                      <a:pt x="14297" y="7"/>
                    </a:lnTo>
                    <a:cubicBezTo>
                      <a:pt x="14296" y="7"/>
                      <a:pt x="14295" y="6"/>
                      <a:pt x="14295" y="5"/>
                    </a:cubicBezTo>
                    <a:cubicBezTo>
                      <a:pt x="14295" y="4"/>
                      <a:pt x="14296" y="3"/>
                      <a:pt x="14297" y="3"/>
                    </a:cubicBezTo>
                    <a:close/>
                    <a:moveTo>
                      <a:pt x="14305" y="3"/>
                    </a:moveTo>
                    <a:lnTo>
                      <a:pt x="14306" y="3"/>
                    </a:lnTo>
                    <a:cubicBezTo>
                      <a:pt x="14307" y="3"/>
                      <a:pt x="14308" y="4"/>
                      <a:pt x="14308" y="5"/>
                    </a:cubicBezTo>
                    <a:cubicBezTo>
                      <a:pt x="14308" y="6"/>
                      <a:pt x="14307" y="7"/>
                      <a:pt x="14306" y="7"/>
                    </a:cubicBezTo>
                    <a:lnTo>
                      <a:pt x="14305" y="7"/>
                    </a:lnTo>
                    <a:cubicBezTo>
                      <a:pt x="14304" y="7"/>
                      <a:pt x="14303" y="6"/>
                      <a:pt x="14303" y="5"/>
                    </a:cubicBezTo>
                    <a:cubicBezTo>
                      <a:pt x="14303" y="4"/>
                      <a:pt x="14304" y="3"/>
                      <a:pt x="14305" y="3"/>
                    </a:cubicBezTo>
                    <a:close/>
                    <a:moveTo>
                      <a:pt x="14314" y="3"/>
                    </a:moveTo>
                    <a:lnTo>
                      <a:pt x="14314" y="3"/>
                    </a:lnTo>
                    <a:cubicBezTo>
                      <a:pt x="14315" y="3"/>
                      <a:pt x="14316" y="4"/>
                      <a:pt x="14316" y="5"/>
                    </a:cubicBezTo>
                    <a:cubicBezTo>
                      <a:pt x="14316" y="6"/>
                      <a:pt x="14315" y="7"/>
                      <a:pt x="14314" y="7"/>
                    </a:cubicBezTo>
                    <a:lnTo>
                      <a:pt x="14314" y="7"/>
                    </a:lnTo>
                    <a:cubicBezTo>
                      <a:pt x="14312" y="7"/>
                      <a:pt x="14312" y="6"/>
                      <a:pt x="14312" y="5"/>
                    </a:cubicBezTo>
                    <a:cubicBezTo>
                      <a:pt x="14312" y="4"/>
                      <a:pt x="14312" y="3"/>
                      <a:pt x="14314" y="3"/>
                    </a:cubicBezTo>
                    <a:close/>
                    <a:moveTo>
                      <a:pt x="14322" y="3"/>
                    </a:moveTo>
                    <a:lnTo>
                      <a:pt x="14322" y="3"/>
                    </a:lnTo>
                    <a:cubicBezTo>
                      <a:pt x="14323" y="3"/>
                      <a:pt x="14324" y="4"/>
                      <a:pt x="14324" y="5"/>
                    </a:cubicBezTo>
                    <a:cubicBezTo>
                      <a:pt x="14324" y="6"/>
                      <a:pt x="14323" y="7"/>
                      <a:pt x="14322" y="7"/>
                    </a:cubicBezTo>
                    <a:lnTo>
                      <a:pt x="14322" y="7"/>
                    </a:lnTo>
                    <a:cubicBezTo>
                      <a:pt x="14320" y="7"/>
                      <a:pt x="14320" y="6"/>
                      <a:pt x="14320" y="5"/>
                    </a:cubicBezTo>
                    <a:cubicBezTo>
                      <a:pt x="14320" y="4"/>
                      <a:pt x="14320" y="3"/>
                      <a:pt x="14322" y="3"/>
                    </a:cubicBezTo>
                    <a:close/>
                    <a:moveTo>
                      <a:pt x="14330" y="3"/>
                    </a:moveTo>
                    <a:lnTo>
                      <a:pt x="14330" y="3"/>
                    </a:lnTo>
                    <a:cubicBezTo>
                      <a:pt x="14331" y="3"/>
                      <a:pt x="14332" y="4"/>
                      <a:pt x="14332" y="5"/>
                    </a:cubicBezTo>
                    <a:cubicBezTo>
                      <a:pt x="14332" y="6"/>
                      <a:pt x="14331" y="7"/>
                      <a:pt x="14330" y="7"/>
                    </a:cubicBezTo>
                    <a:lnTo>
                      <a:pt x="14330" y="7"/>
                    </a:lnTo>
                    <a:cubicBezTo>
                      <a:pt x="14328" y="7"/>
                      <a:pt x="14328" y="6"/>
                      <a:pt x="14328" y="5"/>
                    </a:cubicBezTo>
                    <a:cubicBezTo>
                      <a:pt x="14328" y="4"/>
                      <a:pt x="14328" y="3"/>
                      <a:pt x="14330" y="3"/>
                    </a:cubicBezTo>
                    <a:close/>
                    <a:moveTo>
                      <a:pt x="14338" y="3"/>
                    </a:moveTo>
                    <a:lnTo>
                      <a:pt x="14338" y="3"/>
                    </a:lnTo>
                    <a:cubicBezTo>
                      <a:pt x="14339" y="3"/>
                      <a:pt x="14340" y="4"/>
                      <a:pt x="14340" y="5"/>
                    </a:cubicBezTo>
                    <a:cubicBezTo>
                      <a:pt x="14340" y="6"/>
                      <a:pt x="14339" y="7"/>
                      <a:pt x="14338" y="7"/>
                    </a:cubicBezTo>
                    <a:lnTo>
                      <a:pt x="14338" y="7"/>
                    </a:lnTo>
                    <a:cubicBezTo>
                      <a:pt x="14336" y="7"/>
                      <a:pt x="14336" y="6"/>
                      <a:pt x="14336" y="5"/>
                    </a:cubicBezTo>
                    <a:cubicBezTo>
                      <a:pt x="14336" y="4"/>
                      <a:pt x="14336" y="3"/>
                      <a:pt x="14338" y="3"/>
                    </a:cubicBezTo>
                    <a:close/>
                    <a:moveTo>
                      <a:pt x="14346" y="3"/>
                    </a:moveTo>
                    <a:lnTo>
                      <a:pt x="14346" y="3"/>
                    </a:lnTo>
                    <a:cubicBezTo>
                      <a:pt x="14347" y="3"/>
                      <a:pt x="14348" y="4"/>
                      <a:pt x="14348" y="5"/>
                    </a:cubicBezTo>
                    <a:cubicBezTo>
                      <a:pt x="14348" y="6"/>
                      <a:pt x="14347" y="7"/>
                      <a:pt x="14346" y="7"/>
                    </a:cubicBezTo>
                    <a:lnTo>
                      <a:pt x="14346" y="7"/>
                    </a:lnTo>
                    <a:cubicBezTo>
                      <a:pt x="14344" y="7"/>
                      <a:pt x="14344" y="6"/>
                      <a:pt x="14344" y="5"/>
                    </a:cubicBezTo>
                    <a:cubicBezTo>
                      <a:pt x="14344" y="4"/>
                      <a:pt x="14344" y="3"/>
                      <a:pt x="14346" y="3"/>
                    </a:cubicBezTo>
                    <a:close/>
                    <a:moveTo>
                      <a:pt x="14354" y="3"/>
                    </a:moveTo>
                    <a:lnTo>
                      <a:pt x="14354" y="3"/>
                    </a:lnTo>
                    <a:cubicBezTo>
                      <a:pt x="14355" y="3"/>
                      <a:pt x="14356" y="4"/>
                      <a:pt x="14356" y="5"/>
                    </a:cubicBezTo>
                    <a:cubicBezTo>
                      <a:pt x="14356" y="6"/>
                      <a:pt x="14355" y="7"/>
                      <a:pt x="14354" y="7"/>
                    </a:cubicBezTo>
                    <a:lnTo>
                      <a:pt x="14354" y="7"/>
                    </a:lnTo>
                    <a:cubicBezTo>
                      <a:pt x="14352" y="7"/>
                      <a:pt x="14352" y="6"/>
                      <a:pt x="14352" y="5"/>
                    </a:cubicBezTo>
                    <a:cubicBezTo>
                      <a:pt x="14352" y="4"/>
                      <a:pt x="14352" y="3"/>
                      <a:pt x="14354" y="3"/>
                    </a:cubicBezTo>
                    <a:close/>
                    <a:moveTo>
                      <a:pt x="14362" y="3"/>
                    </a:moveTo>
                    <a:lnTo>
                      <a:pt x="14362" y="3"/>
                    </a:lnTo>
                    <a:cubicBezTo>
                      <a:pt x="14363" y="3"/>
                      <a:pt x="14364" y="4"/>
                      <a:pt x="14364" y="5"/>
                    </a:cubicBezTo>
                    <a:cubicBezTo>
                      <a:pt x="14364" y="6"/>
                      <a:pt x="14363" y="7"/>
                      <a:pt x="14362" y="7"/>
                    </a:cubicBezTo>
                    <a:lnTo>
                      <a:pt x="14362" y="7"/>
                    </a:lnTo>
                    <a:cubicBezTo>
                      <a:pt x="14360" y="7"/>
                      <a:pt x="14360" y="6"/>
                      <a:pt x="14360" y="5"/>
                    </a:cubicBezTo>
                    <a:cubicBezTo>
                      <a:pt x="14360" y="4"/>
                      <a:pt x="14360" y="3"/>
                      <a:pt x="14362" y="3"/>
                    </a:cubicBezTo>
                    <a:close/>
                    <a:moveTo>
                      <a:pt x="14370" y="3"/>
                    </a:moveTo>
                    <a:lnTo>
                      <a:pt x="14370" y="3"/>
                    </a:lnTo>
                    <a:cubicBezTo>
                      <a:pt x="14371" y="3"/>
                      <a:pt x="14372" y="4"/>
                      <a:pt x="14372" y="5"/>
                    </a:cubicBezTo>
                    <a:cubicBezTo>
                      <a:pt x="14372" y="6"/>
                      <a:pt x="14371" y="7"/>
                      <a:pt x="14370" y="7"/>
                    </a:cubicBezTo>
                    <a:lnTo>
                      <a:pt x="14370" y="7"/>
                    </a:lnTo>
                    <a:cubicBezTo>
                      <a:pt x="14368" y="7"/>
                      <a:pt x="14368" y="6"/>
                      <a:pt x="14368" y="5"/>
                    </a:cubicBezTo>
                    <a:cubicBezTo>
                      <a:pt x="14368" y="4"/>
                      <a:pt x="14368" y="3"/>
                      <a:pt x="14370" y="3"/>
                    </a:cubicBezTo>
                    <a:close/>
                    <a:moveTo>
                      <a:pt x="14378" y="3"/>
                    </a:moveTo>
                    <a:lnTo>
                      <a:pt x="14378" y="3"/>
                    </a:lnTo>
                    <a:cubicBezTo>
                      <a:pt x="14379" y="3"/>
                      <a:pt x="14380" y="4"/>
                      <a:pt x="14380" y="5"/>
                    </a:cubicBezTo>
                    <a:cubicBezTo>
                      <a:pt x="14380" y="6"/>
                      <a:pt x="14379" y="7"/>
                      <a:pt x="14378" y="7"/>
                    </a:cubicBezTo>
                    <a:lnTo>
                      <a:pt x="14378" y="7"/>
                    </a:lnTo>
                    <a:cubicBezTo>
                      <a:pt x="14376" y="7"/>
                      <a:pt x="14376" y="6"/>
                      <a:pt x="14376" y="5"/>
                    </a:cubicBezTo>
                    <a:cubicBezTo>
                      <a:pt x="14376" y="4"/>
                      <a:pt x="14376" y="3"/>
                      <a:pt x="14378" y="3"/>
                    </a:cubicBezTo>
                    <a:close/>
                    <a:moveTo>
                      <a:pt x="14386" y="3"/>
                    </a:moveTo>
                    <a:lnTo>
                      <a:pt x="14386" y="3"/>
                    </a:lnTo>
                    <a:cubicBezTo>
                      <a:pt x="14387" y="3"/>
                      <a:pt x="14388" y="4"/>
                      <a:pt x="14388" y="5"/>
                    </a:cubicBezTo>
                    <a:cubicBezTo>
                      <a:pt x="14388" y="6"/>
                      <a:pt x="14387" y="7"/>
                      <a:pt x="14386" y="7"/>
                    </a:cubicBezTo>
                    <a:lnTo>
                      <a:pt x="14386" y="7"/>
                    </a:lnTo>
                    <a:cubicBezTo>
                      <a:pt x="14384" y="7"/>
                      <a:pt x="14384" y="6"/>
                      <a:pt x="14384" y="5"/>
                    </a:cubicBezTo>
                    <a:cubicBezTo>
                      <a:pt x="14384" y="4"/>
                      <a:pt x="14384" y="3"/>
                      <a:pt x="14386" y="3"/>
                    </a:cubicBezTo>
                    <a:close/>
                    <a:moveTo>
                      <a:pt x="14394" y="3"/>
                    </a:moveTo>
                    <a:lnTo>
                      <a:pt x="14394" y="3"/>
                    </a:lnTo>
                    <a:cubicBezTo>
                      <a:pt x="14395" y="3"/>
                      <a:pt x="14396" y="4"/>
                      <a:pt x="14396" y="5"/>
                    </a:cubicBezTo>
                    <a:cubicBezTo>
                      <a:pt x="14396" y="6"/>
                      <a:pt x="14395" y="7"/>
                      <a:pt x="14394" y="7"/>
                    </a:cubicBezTo>
                    <a:lnTo>
                      <a:pt x="14394" y="7"/>
                    </a:lnTo>
                    <a:cubicBezTo>
                      <a:pt x="14392" y="7"/>
                      <a:pt x="14392" y="6"/>
                      <a:pt x="14392" y="5"/>
                    </a:cubicBezTo>
                    <a:cubicBezTo>
                      <a:pt x="14392" y="4"/>
                      <a:pt x="14392" y="3"/>
                      <a:pt x="14394" y="3"/>
                    </a:cubicBezTo>
                    <a:close/>
                    <a:moveTo>
                      <a:pt x="14402" y="3"/>
                    </a:moveTo>
                    <a:lnTo>
                      <a:pt x="14402" y="3"/>
                    </a:lnTo>
                    <a:cubicBezTo>
                      <a:pt x="14403" y="3"/>
                      <a:pt x="14404" y="4"/>
                      <a:pt x="14404" y="5"/>
                    </a:cubicBezTo>
                    <a:cubicBezTo>
                      <a:pt x="14404" y="6"/>
                      <a:pt x="14403" y="7"/>
                      <a:pt x="14402" y="7"/>
                    </a:cubicBezTo>
                    <a:lnTo>
                      <a:pt x="14402" y="7"/>
                    </a:lnTo>
                    <a:cubicBezTo>
                      <a:pt x="14400" y="7"/>
                      <a:pt x="14400" y="6"/>
                      <a:pt x="14400" y="5"/>
                    </a:cubicBezTo>
                    <a:cubicBezTo>
                      <a:pt x="14400" y="4"/>
                      <a:pt x="14400" y="3"/>
                      <a:pt x="14402" y="3"/>
                    </a:cubicBezTo>
                    <a:close/>
                    <a:moveTo>
                      <a:pt x="14410" y="3"/>
                    </a:moveTo>
                    <a:lnTo>
                      <a:pt x="14410" y="3"/>
                    </a:lnTo>
                    <a:cubicBezTo>
                      <a:pt x="14411" y="3"/>
                      <a:pt x="14412" y="4"/>
                      <a:pt x="14412" y="5"/>
                    </a:cubicBezTo>
                    <a:cubicBezTo>
                      <a:pt x="14412" y="6"/>
                      <a:pt x="14411" y="7"/>
                      <a:pt x="14410" y="7"/>
                    </a:cubicBezTo>
                    <a:lnTo>
                      <a:pt x="14410" y="7"/>
                    </a:lnTo>
                    <a:cubicBezTo>
                      <a:pt x="14408" y="7"/>
                      <a:pt x="14408" y="6"/>
                      <a:pt x="14408" y="5"/>
                    </a:cubicBezTo>
                    <a:cubicBezTo>
                      <a:pt x="14408" y="4"/>
                      <a:pt x="14408" y="3"/>
                      <a:pt x="14410" y="3"/>
                    </a:cubicBezTo>
                    <a:close/>
                    <a:moveTo>
                      <a:pt x="14418" y="3"/>
                    </a:moveTo>
                    <a:lnTo>
                      <a:pt x="14418" y="3"/>
                    </a:lnTo>
                    <a:cubicBezTo>
                      <a:pt x="14419" y="3"/>
                      <a:pt x="14420" y="4"/>
                      <a:pt x="14420" y="5"/>
                    </a:cubicBezTo>
                    <a:cubicBezTo>
                      <a:pt x="14420" y="6"/>
                      <a:pt x="14419" y="7"/>
                      <a:pt x="14418" y="7"/>
                    </a:cubicBezTo>
                    <a:lnTo>
                      <a:pt x="14418" y="7"/>
                    </a:lnTo>
                    <a:cubicBezTo>
                      <a:pt x="14416" y="7"/>
                      <a:pt x="14416" y="6"/>
                      <a:pt x="14416" y="5"/>
                    </a:cubicBezTo>
                    <a:cubicBezTo>
                      <a:pt x="14416" y="4"/>
                      <a:pt x="14416" y="3"/>
                      <a:pt x="14418" y="3"/>
                    </a:cubicBezTo>
                    <a:close/>
                    <a:moveTo>
                      <a:pt x="14426" y="3"/>
                    </a:moveTo>
                    <a:lnTo>
                      <a:pt x="14426" y="3"/>
                    </a:lnTo>
                    <a:cubicBezTo>
                      <a:pt x="14427" y="3"/>
                      <a:pt x="14428" y="4"/>
                      <a:pt x="14428" y="5"/>
                    </a:cubicBezTo>
                    <a:cubicBezTo>
                      <a:pt x="14428" y="6"/>
                      <a:pt x="14427" y="7"/>
                      <a:pt x="14426" y="7"/>
                    </a:cubicBezTo>
                    <a:lnTo>
                      <a:pt x="14426" y="7"/>
                    </a:lnTo>
                    <a:cubicBezTo>
                      <a:pt x="14424" y="7"/>
                      <a:pt x="14424" y="6"/>
                      <a:pt x="14424" y="5"/>
                    </a:cubicBezTo>
                    <a:cubicBezTo>
                      <a:pt x="14424" y="4"/>
                      <a:pt x="14424" y="3"/>
                      <a:pt x="14426" y="3"/>
                    </a:cubicBezTo>
                    <a:close/>
                    <a:moveTo>
                      <a:pt x="14434" y="3"/>
                    </a:moveTo>
                    <a:lnTo>
                      <a:pt x="14434" y="3"/>
                    </a:lnTo>
                    <a:cubicBezTo>
                      <a:pt x="14435" y="3"/>
                      <a:pt x="14436" y="4"/>
                      <a:pt x="14436" y="5"/>
                    </a:cubicBezTo>
                    <a:cubicBezTo>
                      <a:pt x="14436" y="6"/>
                      <a:pt x="14435" y="7"/>
                      <a:pt x="14434" y="7"/>
                    </a:cubicBezTo>
                    <a:lnTo>
                      <a:pt x="14434" y="7"/>
                    </a:lnTo>
                    <a:cubicBezTo>
                      <a:pt x="14432" y="7"/>
                      <a:pt x="14432" y="6"/>
                      <a:pt x="14432" y="5"/>
                    </a:cubicBezTo>
                    <a:cubicBezTo>
                      <a:pt x="14432" y="4"/>
                      <a:pt x="14432" y="3"/>
                      <a:pt x="14434" y="3"/>
                    </a:cubicBezTo>
                    <a:close/>
                    <a:moveTo>
                      <a:pt x="14442" y="3"/>
                    </a:moveTo>
                    <a:lnTo>
                      <a:pt x="14442" y="3"/>
                    </a:lnTo>
                    <a:cubicBezTo>
                      <a:pt x="14443" y="3"/>
                      <a:pt x="14444" y="4"/>
                      <a:pt x="14444" y="5"/>
                    </a:cubicBezTo>
                    <a:cubicBezTo>
                      <a:pt x="14444" y="6"/>
                      <a:pt x="14443" y="7"/>
                      <a:pt x="14442" y="7"/>
                    </a:cubicBezTo>
                    <a:lnTo>
                      <a:pt x="14442" y="7"/>
                    </a:lnTo>
                    <a:cubicBezTo>
                      <a:pt x="14440" y="7"/>
                      <a:pt x="14440" y="6"/>
                      <a:pt x="14440" y="5"/>
                    </a:cubicBezTo>
                    <a:cubicBezTo>
                      <a:pt x="14440" y="4"/>
                      <a:pt x="14440" y="3"/>
                      <a:pt x="14442" y="3"/>
                    </a:cubicBezTo>
                    <a:close/>
                    <a:moveTo>
                      <a:pt x="14450" y="3"/>
                    </a:moveTo>
                    <a:lnTo>
                      <a:pt x="14450" y="3"/>
                    </a:lnTo>
                    <a:cubicBezTo>
                      <a:pt x="14451" y="3"/>
                      <a:pt x="14452" y="4"/>
                      <a:pt x="14452" y="5"/>
                    </a:cubicBezTo>
                    <a:cubicBezTo>
                      <a:pt x="14452" y="6"/>
                      <a:pt x="14451" y="7"/>
                      <a:pt x="14450" y="7"/>
                    </a:cubicBezTo>
                    <a:lnTo>
                      <a:pt x="14450" y="7"/>
                    </a:lnTo>
                    <a:cubicBezTo>
                      <a:pt x="14448" y="7"/>
                      <a:pt x="14448" y="6"/>
                      <a:pt x="14448" y="5"/>
                    </a:cubicBezTo>
                    <a:cubicBezTo>
                      <a:pt x="14448" y="4"/>
                      <a:pt x="14448" y="3"/>
                      <a:pt x="14450" y="3"/>
                    </a:cubicBezTo>
                    <a:close/>
                    <a:moveTo>
                      <a:pt x="14458" y="3"/>
                    </a:moveTo>
                    <a:lnTo>
                      <a:pt x="14458" y="3"/>
                    </a:lnTo>
                    <a:cubicBezTo>
                      <a:pt x="14459" y="3"/>
                      <a:pt x="14460" y="4"/>
                      <a:pt x="14460" y="5"/>
                    </a:cubicBezTo>
                    <a:cubicBezTo>
                      <a:pt x="14460" y="6"/>
                      <a:pt x="14459" y="7"/>
                      <a:pt x="14458" y="7"/>
                    </a:cubicBezTo>
                    <a:lnTo>
                      <a:pt x="14458" y="7"/>
                    </a:lnTo>
                    <a:cubicBezTo>
                      <a:pt x="14457" y="7"/>
                      <a:pt x="14456" y="6"/>
                      <a:pt x="14456" y="5"/>
                    </a:cubicBezTo>
                    <a:cubicBezTo>
                      <a:pt x="14456" y="4"/>
                      <a:pt x="14457" y="3"/>
                      <a:pt x="14458" y="3"/>
                    </a:cubicBezTo>
                    <a:close/>
                    <a:moveTo>
                      <a:pt x="14466" y="3"/>
                    </a:moveTo>
                    <a:lnTo>
                      <a:pt x="14466" y="3"/>
                    </a:lnTo>
                    <a:cubicBezTo>
                      <a:pt x="14467" y="3"/>
                      <a:pt x="14468" y="4"/>
                      <a:pt x="14468" y="5"/>
                    </a:cubicBezTo>
                    <a:cubicBezTo>
                      <a:pt x="14468" y="6"/>
                      <a:pt x="14467" y="7"/>
                      <a:pt x="14466" y="7"/>
                    </a:cubicBezTo>
                    <a:lnTo>
                      <a:pt x="14466" y="7"/>
                    </a:lnTo>
                    <a:cubicBezTo>
                      <a:pt x="14465" y="7"/>
                      <a:pt x="14464" y="6"/>
                      <a:pt x="14464" y="5"/>
                    </a:cubicBezTo>
                    <a:cubicBezTo>
                      <a:pt x="14464" y="4"/>
                      <a:pt x="14465" y="3"/>
                      <a:pt x="14466" y="3"/>
                    </a:cubicBezTo>
                    <a:close/>
                    <a:moveTo>
                      <a:pt x="14474" y="3"/>
                    </a:moveTo>
                    <a:lnTo>
                      <a:pt x="14474" y="3"/>
                    </a:lnTo>
                    <a:cubicBezTo>
                      <a:pt x="14475" y="3"/>
                      <a:pt x="14476" y="4"/>
                      <a:pt x="14476" y="5"/>
                    </a:cubicBezTo>
                    <a:cubicBezTo>
                      <a:pt x="14476" y="6"/>
                      <a:pt x="14475" y="7"/>
                      <a:pt x="14474" y="7"/>
                    </a:cubicBezTo>
                    <a:lnTo>
                      <a:pt x="14474" y="7"/>
                    </a:lnTo>
                    <a:cubicBezTo>
                      <a:pt x="14473" y="7"/>
                      <a:pt x="14472" y="6"/>
                      <a:pt x="14472" y="5"/>
                    </a:cubicBezTo>
                    <a:cubicBezTo>
                      <a:pt x="14472" y="4"/>
                      <a:pt x="14473" y="3"/>
                      <a:pt x="14474" y="3"/>
                    </a:cubicBezTo>
                    <a:close/>
                    <a:moveTo>
                      <a:pt x="14482" y="3"/>
                    </a:moveTo>
                    <a:lnTo>
                      <a:pt x="14482" y="3"/>
                    </a:lnTo>
                    <a:cubicBezTo>
                      <a:pt x="14483" y="3"/>
                      <a:pt x="14484" y="4"/>
                      <a:pt x="14484" y="5"/>
                    </a:cubicBezTo>
                    <a:cubicBezTo>
                      <a:pt x="14484" y="6"/>
                      <a:pt x="14483" y="7"/>
                      <a:pt x="14482" y="7"/>
                    </a:cubicBezTo>
                    <a:lnTo>
                      <a:pt x="14482" y="7"/>
                    </a:lnTo>
                    <a:cubicBezTo>
                      <a:pt x="14481" y="7"/>
                      <a:pt x="14480" y="6"/>
                      <a:pt x="14480" y="5"/>
                    </a:cubicBezTo>
                    <a:cubicBezTo>
                      <a:pt x="14480" y="4"/>
                      <a:pt x="14481" y="3"/>
                      <a:pt x="14482" y="3"/>
                    </a:cubicBezTo>
                    <a:close/>
                    <a:moveTo>
                      <a:pt x="14490" y="3"/>
                    </a:moveTo>
                    <a:lnTo>
                      <a:pt x="14490" y="3"/>
                    </a:lnTo>
                    <a:cubicBezTo>
                      <a:pt x="14491" y="3"/>
                      <a:pt x="14492" y="4"/>
                      <a:pt x="14492" y="5"/>
                    </a:cubicBezTo>
                    <a:cubicBezTo>
                      <a:pt x="14492" y="6"/>
                      <a:pt x="14491" y="7"/>
                      <a:pt x="14490" y="7"/>
                    </a:cubicBezTo>
                    <a:lnTo>
                      <a:pt x="14490" y="7"/>
                    </a:lnTo>
                    <a:cubicBezTo>
                      <a:pt x="14489" y="7"/>
                      <a:pt x="14488" y="6"/>
                      <a:pt x="14488" y="5"/>
                    </a:cubicBezTo>
                    <a:cubicBezTo>
                      <a:pt x="14488" y="4"/>
                      <a:pt x="14489" y="3"/>
                      <a:pt x="14490" y="3"/>
                    </a:cubicBezTo>
                    <a:close/>
                    <a:moveTo>
                      <a:pt x="14498" y="3"/>
                    </a:moveTo>
                    <a:lnTo>
                      <a:pt x="14498" y="3"/>
                    </a:lnTo>
                    <a:cubicBezTo>
                      <a:pt x="14499" y="3"/>
                      <a:pt x="14500" y="4"/>
                      <a:pt x="14500" y="5"/>
                    </a:cubicBezTo>
                    <a:cubicBezTo>
                      <a:pt x="14500" y="6"/>
                      <a:pt x="14499" y="7"/>
                      <a:pt x="14498" y="7"/>
                    </a:cubicBezTo>
                    <a:lnTo>
                      <a:pt x="14498" y="7"/>
                    </a:lnTo>
                    <a:cubicBezTo>
                      <a:pt x="14497" y="7"/>
                      <a:pt x="14496" y="6"/>
                      <a:pt x="14496" y="5"/>
                    </a:cubicBezTo>
                    <a:cubicBezTo>
                      <a:pt x="14496" y="4"/>
                      <a:pt x="14497" y="3"/>
                      <a:pt x="14498" y="3"/>
                    </a:cubicBezTo>
                    <a:close/>
                    <a:moveTo>
                      <a:pt x="14506" y="3"/>
                    </a:moveTo>
                    <a:lnTo>
                      <a:pt x="14506" y="3"/>
                    </a:lnTo>
                    <a:cubicBezTo>
                      <a:pt x="14507" y="3"/>
                      <a:pt x="14508" y="4"/>
                      <a:pt x="14508" y="5"/>
                    </a:cubicBezTo>
                    <a:cubicBezTo>
                      <a:pt x="14508" y="6"/>
                      <a:pt x="14507" y="7"/>
                      <a:pt x="14506" y="7"/>
                    </a:cubicBezTo>
                    <a:lnTo>
                      <a:pt x="14506" y="7"/>
                    </a:lnTo>
                    <a:cubicBezTo>
                      <a:pt x="14505" y="7"/>
                      <a:pt x="14504" y="6"/>
                      <a:pt x="14504" y="5"/>
                    </a:cubicBezTo>
                    <a:cubicBezTo>
                      <a:pt x="14504" y="4"/>
                      <a:pt x="14505" y="3"/>
                      <a:pt x="14506" y="3"/>
                    </a:cubicBezTo>
                    <a:close/>
                    <a:moveTo>
                      <a:pt x="14514" y="3"/>
                    </a:moveTo>
                    <a:lnTo>
                      <a:pt x="14514" y="3"/>
                    </a:lnTo>
                    <a:cubicBezTo>
                      <a:pt x="14515" y="3"/>
                      <a:pt x="14516" y="4"/>
                      <a:pt x="14516" y="5"/>
                    </a:cubicBezTo>
                    <a:cubicBezTo>
                      <a:pt x="14516" y="6"/>
                      <a:pt x="14515" y="7"/>
                      <a:pt x="14514" y="7"/>
                    </a:cubicBezTo>
                    <a:lnTo>
                      <a:pt x="14514" y="7"/>
                    </a:lnTo>
                    <a:cubicBezTo>
                      <a:pt x="14513" y="7"/>
                      <a:pt x="14512" y="6"/>
                      <a:pt x="14512" y="5"/>
                    </a:cubicBezTo>
                    <a:cubicBezTo>
                      <a:pt x="14512" y="4"/>
                      <a:pt x="14513" y="3"/>
                      <a:pt x="14514" y="3"/>
                    </a:cubicBezTo>
                    <a:close/>
                    <a:moveTo>
                      <a:pt x="14522" y="3"/>
                    </a:moveTo>
                    <a:lnTo>
                      <a:pt x="14522" y="3"/>
                    </a:lnTo>
                    <a:cubicBezTo>
                      <a:pt x="14523" y="3"/>
                      <a:pt x="14524" y="4"/>
                      <a:pt x="14524" y="5"/>
                    </a:cubicBezTo>
                    <a:cubicBezTo>
                      <a:pt x="14524" y="6"/>
                      <a:pt x="14523" y="7"/>
                      <a:pt x="14522" y="7"/>
                    </a:cubicBezTo>
                    <a:lnTo>
                      <a:pt x="14522" y="7"/>
                    </a:lnTo>
                    <a:cubicBezTo>
                      <a:pt x="14521" y="7"/>
                      <a:pt x="14520" y="6"/>
                      <a:pt x="14520" y="5"/>
                    </a:cubicBezTo>
                    <a:cubicBezTo>
                      <a:pt x="14520" y="4"/>
                      <a:pt x="14521" y="3"/>
                      <a:pt x="14522" y="3"/>
                    </a:cubicBezTo>
                    <a:close/>
                    <a:moveTo>
                      <a:pt x="14530" y="3"/>
                    </a:moveTo>
                    <a:lnTo>
                      <a:pt x="14530" y="3"/>
                    </a:lnTo>
                    <a:cubicBezTo>
                      <a:pt x="14531" y="3"/>
                      <a:pt x="14532" y="4"/>
                      <a:pt x="14532" y="5"/>
                    </a:cubicBezTo>
                    <a:cubicBezTo>
                      <a:pt x="14532" y="6"/>
                      <a:pt x="14531" y="7"/>
                      <a:pt x="14530" y="7"/>
                    </a:cubicBezTo>
                    <a:lnTo>
                      <a:pt x="14530" y="7"/>
                    </a:lnTo>
                    <a:cubicBezTo>
                      <a:pt x="14529" y="7"/>
                      <a:pt x="14528" y="6"/>
                      <a:pt x="14528" y="5"/>
                    </a:cubicBezTo>
                    <a:cubicBezTo>
                      <a:pt x="14528" y="4"/>
                      <a:pt x="14529" y="3"/>
                      <a:pt x="14530" y="3"/>
                    </a:cubicBezTo>
                    <a:close/>
                    <a:moveTo>
                      <a:pt x="14538" y="3"/>
                    </a:moveTo>
                    <a:lnTo>
                      <a:pt x="14538" y="3"/>
                    </a:lnTo>
                    <a:cubicBezTo>
                      <a:pt x="14539" y="3"/>
                      <a:pt x="14540" y="4"/>
                      <a:pt x="14540" y="5"/>
                    </a:cubicBezTo>
                    <a:cubicBezTo>
                      <a:pt x="14540" y="6"/>
                      <a:pt x="14539" y="7"/>
                      <a:pt x="14538" y="7"/>
                    </a:cubicBezTo>
                    <a:lnTo>
                      <a:pt x="14538" y="7"/>
                    </a:lnTo>
                    <a:cubicBezTo>
                      <a:pt x="14537" y="7"/>
                      <a:pt x="14536" y="6"/>
                      <a:pt x="14536" y="5"/>
                    </a:cubicBezTo>
                    <a:cubicBezTo>
                      <a:pt x="14536" y="4"/>
                      <a:pt x="14537" y="3"/>
                      <a:pt x="14538" y="3"/>
                    </a:cubicBezTo>
                    <a:close/>
                    <a:moveTo>
                      <a:pt x="14546" y="3"/>
                    </a:moveTo>
                    <a:lnTo>
                      <a:pt x="14546" y="3"/>
                    </a:lnTo>
                    <a:cubicBezTo>
                      <a:pt x="14547" y="3"/>
                      <a:pt x="14548" y="4"/>
                      <a:pt x="14548" y="5"/>
                    </a:cubicBezTo>
                    <a:cubicBezTo>
                      <a:pt x="14548" y="6"/>
                      <a:pt x="14547" y="7"/>
                      <a:pt x="14546" y="7"/>
                    </a:cubicBezTo>
                    <a:lnTo>
                      <a:pt x="14546" y="7"/>
                    </a:lnTo>
                    <a:cubicBezTo>
                      <a:pt x="14545" y="7"/>
                      <a:pt x="14544" y="6"/>
                      <a:pt x="14544" y="5"/>
                    </a:cubicBezTo>
                    <a:cubicBezTo>
                      <a:pt x="14544" y="4"/>
                      <a:pt x="14545" y="3"/>
                      <a:pt x="14546" y="3"/>
                    </a:cubicBezTo>
                    <a:close/>
                    <a:moveTo>
                      <a:pt x="14554" y="3"/>
                    </a:moveTo>
                    <a:lnTo>
                      <a:pt x="14554" y="3"/>
                    </a:lnTo>
                    <a:cubicBezTo>
                      <a:pt x="14555" y="3"/>
                      <a:pt x="14556" y="4"/>
                      <a:pt x="14556" y="5"/>
                    </a:cubicBezTo>
                    <a:cubicBezTo>
                      <a:pt x="14556" y="6"/>
                      <a:pt x="14555" y="7"/>
                      <a:pt x="14554" y="7"/>
                    </a:cubicBezTo>
                    <a:lnTo>
                      <a:pt x="14554" y="7"/>
                    </a:lnTo>
                    <a:cubicBezTo>
                      <a:pt x="14553" y="7"/>
                      <a:pt x="14552" y="6"/>
                      <a:pt x="14552" y="5"/>
                    </a:cubicBezTo>
                    <a:cubicBezTo>
                      <a:pt x="14552" y="4"/>
                      <a:pt x="14553" y="3"/>
                      <a:pt x="14554" y="3"/>
                    </a:cubicBezTo>
                    <a:close/>
                    <a:moveTo>
                      <a:pt x="14562" y="3"/>
                    </a:moveTo>
                    <a:lnTo>
                      <a:pt x="14562" y="3"/>
                    </a:lnTo>
                    <a:cubicBezTo>
                      <a:pt x="14563" y="3"/>
                      <a:pt x="14564" y="4"/>
                      <a:pt x="14564" y="5"/>
                    </a:cubicBezTo>
                    <a:cubicBezTo>
                      <a:pt x="14564" y="6"/>
                      <a:pt x="14563" y="7"/>
                      <a:pt x="14562" y="7"/>
                    </a:cubicBezTo>
                    <a:lnTo>
                      <a:pt x="14562" y="7"/>
                    </a:lnTo>
                    <a:cubicBezTo>
                      <a:pt x="14561" y="7"/>
                      <a:pt x="14560" y="6"/>
                      <a:pt x="14560" y="5"/>
                    </a:cubicBezTo>
                    <a:cubicBezTo>
                      <a:pt x="14560" y="4"/>
                      <a:pt x="14561" y="3"/>
                      <a:pt x="14562" y="3"/>
                    </a:cubicBezTo>
                    <a:close/>
                    <a:moveTo>
                      <a:pt x="14570" y="3"/>
                    </a:moveTo>
                    <a:lnTo>
                      <a:pt x="14570" y="3"/>
                    </a:lnTo>
                    <a:cubicBezTo>
                      <a:pt x="14571" y="3"/>
                      <a:pt x="14572" y="4"/>
                      <a:pt x="14572" y="5"/>
                    </a:cubicBezTo>
                    <a:cubicBezTo>
                      <a:pt x="14572" y="6"/>
                      <a:pt x="14571" y="7"/>
                      <a:pt x="14570" y="7"/>
                    </a:cubicBezTo>
                    <a:lnTo>
                      <a:pt x="14570" y="7"/>
                    </a:lnTo>
                    <a:cubicBezTo>
                      <a:pt x="14569" y="7"/>
                      <a:pt x="14568" y="6"/>
                      <a:pt x="14568" y="5"/>
                    </a:cubicBezTo>
                    <a:cubicBezTo>
                      <a:pt x="14568" y="4"/>
                      <a:pt x="14569" y="3"/>
                      <a:pt x="14570" y="3"/>
                    </a:cubicBezTo>
                    <a:close/>
                    <a:moveTo>
                      <a:pt x="14578" y="3"/>
                    </a:moveTo>
                    <a:lnTo>
                      <a:pt x="14578" y="3"/>
                    </a:lnTo>
                    <a:cubicBezTo>
                      <a:pt x="14579" y="3"/>
                      <a:pt x="14580" y="4"/>
                      <a:pt x="14580" y="5"/>
                    </a:cubicBezTo>
                    <a:cubicBezTo>
                      <a:pt x="14580" y="6"/>
                      <a:pt x="14579" y="7"/>
                      <a:pt x="14578" y="7"/>
                    </a:cubicBezTo>
                    <a:lnTo>
                      <a:pt x="14578" y="7"/>
                    </a:lnTo>
                    <a:cubicBezTo>
                      <a:pt x="14577" y="7"/>
                      <a:pt x="14576" y="6"/>
                      <a:pt x="14576" y="5"/>
                    </a:cubicBezTo>
                    <a:cubicBezTo>
                      <a:pt x="14576" y="4"/>
                      <a:pt x="14577" y="3"/>
                      <a:pt x="14578" y="3"/>
                    </a:cubicBezTo>
                    <a:close/>
                    <a:moveTo>
                      <a:pt x="14586" y="3"/>
                    </a:moveTo>
                    <a:lnTo>
                      <a:pt x="14586" y="3"/>
                    </a:lnTo>
                    <a:cubicBezTo>
                      <a:pt x="14587" y="3"/>
                      <a:pt x="14588" y="4"/>
                      <a:pt x="14588" y="5"/>
                    </a:cubicBezTo>
                    <a:cubicBezTo>
                      <a:pt x="14588" y="6"/>
                      <a:pt x="14587" y="7"/>
                      <a:pt x="14586" y="7"/>
                    </a:cubicBezTo>
                    <a:lnTo>
                      <a:pt x="14586" y="7"/>
                    </a:lnTo>
                    <a:cubicBezTo>
                      <a:pt x="14585" y="7"/>
                      <a:pt x="14584" y="6"/>
                      <a:pt x="14584" y="5"/>
                    </a:cubicBezTo>
                    <a:cubicBezTo>
                      <a:pt x="14584" y="4"/>
                      <a:pt x="14585" y="3"/>
                      <a:pt x="14586" y="3"/>
                    </a:cubicBezTo>
                    <a:close/>
                    <a:moveTo>
                      <a:pt x="14594" y="3"/>
                    </a:moveTo>
                    <a:lnTo>
                      <a:pt x="14594" y="3"/>
                    </a:lnTo>
                    <a:cubicBezTo>
                      <a:pt x="14595" y="3"/>
                      <a:pt x="14596" y="4"/>
                      <a:pt x="14596" y="5"/>
                    </a:cubicBezTo>
                    <a:cubicBezTo>
                      <a:pt x="14596" y="6"/>
                      <a:pt x="14595" y="7"/>
                      <a:pt x="14594" y="7"/>
                    </a:cubicBezTo>
                    <a:lnTo>
                      <a:pt x="14594" y="7"/>
                    </a:lnTo>
                    <a:cubicBezTo>
                      <a:pt x="14593" y="7"/>
                      <a:pt x="14592" y="6"/>
                      <a:pt x="14592" y="5"/>
                    </a:cubicBezTo>
                    <a:cubicBezTo>
                      <a:pt x="14592" y="4"/>
                      <a:pt x="14593" y="3"/>
                      <a:pt x="14594" y="3"/>
                    </a:cubicBezTo>
                    <a:close/>
                    <a:moveTo>
                      <a:pt x="14602" y="3"/>
                    </a:moveTo>
                    <a:lnTo>
                      <a:pt x="14602" y="3"/>
                    </a:lnTo>
                    <a:cubicBezTo>
                      <a:pt x="14603" y="3"/>
                      <a:pt x="14604" y="4"/>
                      <a:pt x="14604" y="5"/>
                    </a:cubicBezTo>
                    <a:cubicBezTo>
                      <a:pt x="14604" y="6"/>
                      <a:pt x="14603" y="7"/>
                      <a:pt x="14602" y="7"/>
                    </a:cubicBezTo>
                    <a:lnTo>
                      <a:pt x="14602" y="7"/>
                    </a:lnTo>
                    <a:cubicBezTo>
                      <a:pt x="14601" y="7"/>
                      <a:pt x="14600" y="6"/>
                      <a:pt x="14600" y="5"/>
                    </a:cubicBezTo>
                    <a:cubicBezTo>
                      <a:pt x="14600" y="4"/>
                      <a:pt x="14601" y="3"/>
                      <a:pt x="14602" y="3"/>
                    </a:cubicBezTo>
                    <a:close/>
                    <a:moveTo>
                      <a:pt x="14610" y="3"/>
                    </a:moveTo>
                    <a:lnTo>
                      <a:pt x="14610" y="3"/>
                    </a:lnTo>
                    <a:cubicBezTo>
                      <a:pt x="14611" y="3"/>
                      <a:pt x="14612" y="4"/>
                      <a:pt x="14612" y="5"/>
                    </a:cubicBezTo>
                    <a:cubicBezTo>
                      <a:pt x="14612" y="6"/>
                      <a:pt x="14611" y="7"/>
                      <a:pt x="14610" y="7"/>
                    </a:cubicBezTo>
                    <a:lnTo>
                      <a:pt x="14610" y="7"/>
                    </a:lnTo>
                    <a:cubicBezTo>
                      <a:pt x="14609" y="7"/>
                      <a:pt x="14608" y="6"/>
                      <a:pt x="14608" y="5"/>
                    </a:cubicBezTo>
                    <a:cubicBezTo>
                      <a:pt x="14608" y="4"/>
                      <a:pt x="14609" y="3"/>
                      <a:pt x="14610" y="3"/>
                    </a:cubicBezTo>
                    <a:close/>
                    <a:moveTo>
                      <a:pt x="14618" y="3"/>
                    </a:moveTo>
                    <a:lnTo>
                      <a:pt x="14618" y="3"/>
                    </a:lnTo>
                    <a:cubicBezTo>
                      <a:pt x="14619" y="3"/>
                      <a:pt x="14620" y="4"/>
                      <a:pt x="14620" y="5"/>
                    </a:cubicBezTo>
                    <a:cubicBezTo>
                      <a:pt x="14620" y="6"/>
                      <a:pt x="14619" y="7"/>
                      <a:pt x="14618" y="7"/>
                    </a:cubicBezTo>
                    <a:lnTo>
                      <a:pt x="14618" y="7"/>
                    </a:lnTo>
                    <a:cubicBezTo>
                      <a:pt x="14617" y="7"/>
                      <a:pt x="14616" y="6"/>
                      <a:pt x="14616" y="5"/>
                    </a:cubicBezTo>
                    <a:cubicBezTo>
                      <a:pt x="14616" y="4"/>
                      <a:pt x="14617" y="3"/>
                      <a:pt x="14618" y="3"/>
                    </a:cubicBezTo>
                    <a:close/>
                    <a:moveTo>
                      <a:pt x="14626" y="3"/>
                    </a:moveTo>
                    <a:lnTo>
                      <a:pt x="14626" y="3"/>
                    </a:lnTo>
                    <a:cubicBezTo>
                      <a:pt x="14627" y="3"/>
                      <a:pt x="14628" y="4"/>
                      <a:pt x="14628" y="5"/>
                    </a:cubicBezTo>
                    <a:cubicBezTo>
                      <a:pt x="14628" y="6"/>
                      <a:pt x="14627" y="7"/>
                      <a:pt x="14626" y="7"/>
                    </a:cubicBezTo>
                    <a:lnTo>
                      <a:pt x="14626" y="7"/>
                    </a:lnTo>
                    <a:cubicBezTo>
                      <a:pt x="14625" y="7"/>
                      <a:pt x="14624" y="6"/>
                      <a:pt x="14624" y="5"/>
                    </a:cubicBezTo>
                    <a:cubicBezTo>
                      <a:pt x="14624" y="4"/>
                      <a:pt x="14625" y="3"/>
                      <a:pt x="14626" y="3"/>
                    </a:cubicBezTo>
                    <a:close/>
                    <a:moveTo>
                      <a:pt x="14634" y="3"/>
                    </a:moveTo>
                    <a:lnTo>
                      <a:pt x="14634" y="3"/>
                    </a:lnTo>
                    <a:cubicBezTo>
                      <a:pt x="14635" y="3"/>
                      <a:pt x="14636" y="4"/>
                      <a:pt x="14636" y="5"/>
                    </a:cubicBezTo>
                    <a:cubicBezTo>
                      <a:pt x="14636" y="6"/>
                      <a:pt x="14635" y="7"/>
                      <a:pt x="14634" y="7"/>
                    </a:cubicBezTo>
                    <a:lnTo>
                      <a:pt x="14634" y="7"/>
                    </a:lnTo>
                    <a:cubicBezTo>
                      <a:pt x="14633" y="7"/>
                      <a:pt x="14632" y="6"/>
                      <a:pt x="14632" y="5"/>
                    </a:cubicBezTo>
                    <a:cubicBezTo>
                      <a:pt x="14632" y="4"/>
                      <a:pt x="14633" y="3"/>
                      <a:pt x="14634" y="3"/>
                    </a:cubicBezTo>
                    <a:close/>
                    <a:moveTo>
                      <a:pt x="14642" y="3"/>
                    </a:moveTo>
                    <a:lnTo>
                      <a:pt x="14642" y="3"/>
                    </a:lnTo>
                    <a:cubicBezTo>
                      <a:pt x="14643" y="3"/>
                      <a:pt x="14644" y="4"/>
                      <a:pt x="14644" y="5"/>
                    </a:cubicBezTo>
                    <a:cubicBezTo>
                      <a:pt x="14644" y="6"/>
                      <a:pt x="14643" y="7"/>
                      <a:pt x="14642" y="7"/>
                    </a:cubicBezTo>
                    <a:lnTo>
                      <a:pt x="14642" y="7"/>
                    </a:lnTo>
                    <a:cubicBezTo>
                      <a:pt x="14641" y="7"/>
                      <a:pt x="14640" y="6"/>
                      <a:pt x="14640" y="5"/>
                    </a:cubicBezTo>
                    <a:cubicBezTo>
                      <a:pt x="14640" y="4"/>
                      <a:pt x="14641" y="3"/>
                      <a:pt x="14642" y="3"/>
                    </a:cubicBezTo>
                    <a:close/>
                    <a:moveTo>
                      <a:pt x="14650" y="3"/>
                    </a:moveTo>
                    <a:lnTo>
                      <a:pt x="14650" y="3"/>
                    </a:lnTo>
                    <a:cubicBezTo>
                      <a:pt x="14651" y="3"/>
                      <a:pt x="14652" y="4"/>
                      <a:pt x="14652" y="5"/>
                    </a:cubicBezTo>
                    <a:cubicBezTo>
                      <a:pt x="14652" y="6"/>
                      <a:pt x="14651" y="7"/>
                      <a:pt x="14650" y="7"/>
                    </a:cubicBezTo>
                    <a:lnTo>
                      <a:pt x="14650" y="7"/>
                    </a:lnTo>
                    <a:cubicBezTo>
                      <a:pt x="14649" y="7"/>
                      <a:pt x="14648" y="6"/>
                      <a:pt x="14648" y="5"/>
                    </a:cubicBezTo>
                    <a:cubicBezTo>
                      <a:pt x="14648" y="4"/>
                      <a:pt x="14649" y="3"/>
                      <a:pt x="14650" y="3"/>
                    </a:cubicBezTo>
                    <a:close/>
                    <a:moveTo>
                      <a:pt x="14658" y="3"/>
                    </a:moveTo>
                    <a:lnTo>
                      <a:pt x="14658" y="3"/>
                    </a:lnTo>
                    <a:cubicBezTo>
                      <a:pt x="14659" y="3"/>
                      <a:pt x="14660" y="4"/>
                      <a:pt x="14660" y="5"/>
                    </a:cubicBezTo>
                    <a:cubicBezTo>
                      <a:pt x="14660" y="6"/>
                      <a:pt x="14659" y="7"/>
                      <a:pt x="14658" y="7"/>
                    </a:cubicBezTo>
                    <a:lnTo>
                      <a:pt x="14658" y="7"/>
                    </a:lnTo>
                    <a:cubicBezTo>
                      <a:pt x="14657" y="7"/>
                      <a:pt x="14656" y="6"/>
                      <a:pt x="14656" y="5"/>
                    </a:cubicBezTo>
                    <a:cubicBezTo>
                      <a:pt x="14656" y="4"/>
                      <a:pt x="14657" y="3"/>
                      <a:pt x="14658" y="3"/>
                    </a:cubicBezTo>
                    <a:close/>
                    <a:moveTo>
                      <a:pt x="14666" y="3"/>
                    </a:moveTo>
                    <a:lnTo>
                      <a:pt x="14666" y="3"/>
                    </a:lnTo>
                    <a:cubicBezTo>
                      <a:pt x="14667" y="3"/>
                      <a:pt x="14668" y="4"/>
                      <a:pt x="14668" y="5"/>
                    </a:cubicBezTo>
                    <a:cubicBezTo>
                      <a:pt x="14668" y="6"/>
                      <a:pt x="14667" y="7"/>
                      <a:pt x="14666" y="7"/>
                    </a:cubicBezTo>
                    <a:lnTo>
                      <a:pt x="14666" y="7"/>
                    </a:lnTo>
                    <a:cubicBezTo>
                      <a:pt x="14665" y="7"/>
                      <a:pt x="14664" y="6"/>
                      <a:pt x="14664" y="5"/>
                    </a:cubicBezTo>
                    <a:cubicBezTo>
                      <a:pt x="14664" y="4"/>
                      <a:pt x="14665" y="3"/>
                      <a:pt x="14666" y="3"/>
                    </a:cubicBezTo>
                    <a:close/>
                    <a:moveTo>
                      <a:pt x="14674" y="3"/>
                    </a:moveTo>
                    <a:lnTo>
                      <a:pt x="14674" y="3"/>
                    </a:lnTo>
                    <a:cubicBezTo>
                      <a:pt x="14675" y="3"/>
                      <a:pt x="14676" y="4"/>
                      <a:pt x="14676" y="5"/>
                    </a:cubicBezTo>
                    <a:cubicBezTo>
                      <a:pt x="14676" y="6"/>
                      <a:pt x="14675" y="7"/>
                      <a:pt x="14674" y="7"/>
                    </a:cubicBezTo>
                    <a:lnTo>
                      <a:pt x="14674" y="7"/>
                    </a:lnTo>
                    <a:cubicBezTo>
                      <a:pt x="14673" y="7"/>
                      <a:pt x="14672" y="6"/>
                      <a:pt x="14672" y="5"/>
                    </a:cubicBezTo>
                    <a:cubicBezTo>
                      <a:pt x="14672" y="4"/>
                      <a:pt x="14673" y="3"/>
                      <a:pt x="14674" y="3"/>
                    </a:cubicBezTo>
                    <a:close/>
                    <a:moveTo>
                      <a:pt x="14682" y="3"/>
                    </a:moveTo>
                    <a:lnTo>
                      <a:pt x="14682" y="3"/>
                    </a:lnTo>
                    <a:cubicBezTo>
                      <a:pt x="14683" y="3"/>
                      <a:pt x="14684" y="4"/>
                      <a:pt x="14684" y="5"/>
                    </a:cubicBezTo>
                    <a:cubicBezTo>
                      <a:pt x="14684" y="6"/>
                      <a:pt x="14683" y="7"/>
                      <a:pt x="14682" y="7"/>
                    </a:cubicBezTo>
                    <a:lnTo>
                      <a:pt x="14682" y="7"/>
                    </a:lnTo>
                    <a:cubicBezTo>
                      <a:pt x="14681" y="7"/>
                      <a:pt x="14680" y="6"/>
                      <a:pt x="14680" y="5"/>
                    </a:cubicBezTo>
                    <a:cubicBezTo>
                      <a:pt x="14680" y="4"/>
                      <a:pt x="14681" y="3"/>
                      <a:pt x="14682" y="3"/>
                    </a:cubicBezTo>
                    <a:close/>
                    <a:moveTo>
                      <a:pt x="14690" y="3"/>
                    </a:moveTo>
                    <a:lnTo>
                      <a:pt x="14690" y="3"/>
                    </a:lnTo>
                    <a:cubicBezTo>
                      <a:pt x="14691" y="3"/>
                      <a:pt x="14692" y="4"/>
                      <a:pt x="14692" y="5"/>
                    </a:cubicBezTo>
                    <a:cubicBezTo>
                      <a:pt x="14692" y="6"/>
                      <a:pt x="14691" y="7"/>
                      <a:pt x="14690" y="7"/>
                    </a:cubicBezTo>
                    <a:lnTo>
                      <a:pt x="14690" y="7"/>
                    </a:lnTo>
                    <a:cubicBezTo>
                      <a:pt x="14689" y="7"/>
                      <a:pt x="14688" y="6"/>
                      <a:pt x="14688" y="5"/>
                    </a:cubicBezTo>
                    <a:cubicBezTo>
                      <a:pt x="14688" y="4"/>
                      <a:pt x="14689" y="3"/>
                      <a:pt x="14690" y="3"/>
                    </a:cubicBezTo>
                    <a:close/>
                    <a:moveTo>
                      <a:pt x="14698" y="3"/>
                    </a:moveTo>
                    <a:lnTo>
                      <a:pt x="14698" y="3"/>
                    </a:lnTo>
                    <a:cubicBezTo>
                      <a:pt x="14699" y="3"/>
                      <a:pt x="14700" y="4"/>
                      <a:pt x="14700" y="5"/>
                    </a:cubicBezTo>
                    <a:cubicBezTo>
                      <a:pt x="14700" y="6"/>
                      <a:pt x="14699" y="7"/>
                      <a:pt x="14698" y="7"/>
                    </a:cubicBezTo>
                    <a:lnTo>
                      <a:pt x="14698" y="7"/>
                    </a:lnTo>
                    <a:cubicBezTo>
                      <a:pt x="14697" y="7"/>
                      <a:pt x="14696" y="6"/>
                      <a:pt x="14696" y="5"/>
                    </a:cubicBezTo>
                    <a:cubicBezTo>
                      <a:pt x="14696" y="4"/>
                      <a:pt x="14697" y="3"/>
                      <a:pt x="14698" y="3"/>
                    </a:cubicBezTo>
                    <a:close/>
                    <a:moveTo>
                      <a:pt x="14706" y="3"/>
                    </a:moveTo>
                    <a:lnTo>
                      <a:pt x="14706" y="3"/>
                    </a:lnTo>
                    <a:cubicBezTo>
                      <a:pt x="14707" y="3"/>
                      <a:pt x="14708" y="4"/>
                      <a:pt x="14708" y="5"/>
                    </a:cubicBezTo>
                    <a:cubicBezTo>
                      <a:pt x="14708" y="6"/>
                      <a:pt x="14707" y="7"/>
                      <a:pt x="14706" y="7"/>
                    </a:cubicBezTo>
                    <a:lnTo>
                      <a:pt x="14706" y="7"/>
                    </a:lnTo>
                    <a:cubicBezTo>
                      <a:pt x="14705" y="7"/>
                      <a:pt x="14704" y="6"/>
                      <a:pt x="14704" y="5"/>
                    </a:cubicBezTo>
                    <a:cubicBezTo>
                      <a:pt x="14704" y="4"/>
                      <a:pt x="14705" y="3"/>
                      <a:pt x="14706" y="3"/>
                    </a:cubicBezTo>
                    <a:close/>
                    <a:moveTo>
                      <a:pt x="14714" y="3"/>
                    </a:moveTo>
                    <a:lnTo>
                      <a:pt x="14714" y="3"/>
                    </a:lnTo>
                    <a:cubicBezTo>
                      <a:pt x="14715" y="3"/>
                      <a:pt x="14716" y="4"/>
                      <a:pt x="14716" y="5"/>
                    </a:cubicBezTo>
                    <a:cubicBezTo>
                      <a:pt x="14716" y="6"/>
                      <a:pt x="14715" y="7"/>
                      <a:pt x="14714" y="7"/>
                    </a:cubicBezTo>
                    <a:lnTo>
                      <a:pt x="14714" y="7"/>
                    </a:lnTo>
                    <a:cubicBezTo>
                      <a:pt x="14713" y="7"/>
                      <a:pt x="14712" y="6"/>
                      <a:pt x="14712" y="5"/>
                    </a:cubicBezTo>
                    <a:cubicBezTo>
                      <a:pt x="14712" y="4"/>
                      <a:pt x="14713" y="3"/>
                      <a:pt x="14714" y="3"/>
                    </a:cubicBezTo>
                    <a:close/>
                    <a:moveTo>
                      <a:pt x="14722" y="3"/>
                    </a:moveTo>
                    <a:lnTo>
                      <a:pt x="14722" y="3"/>
                    </a:lnTo>
                    <a:cubicBezTo>
                      <a:pt x="14723" y="3"/>
                      <a:pt x="14724" y="4"/>
                      <a:pt x="14724" y="5"/>
                    </a:cubicBezTo>
                    <a:cubicBezTo>
                      <a:pt x="14724" y="6"/>
                      <a:pt x="14723" y="7"/>
                      <a:pt x="14722" y="7"/>
                    </a:cubicBezTo>
                    <a:lnTo>
                      <a:pt x="14722" y="7"/>
                    </a:lnTo>
                    <a:cubicBezTo>
                      <a:pt x="14721" y="7"/>
                      <a:pt x="14720" y="6"/>
                      <a:pt x="14720" y="5"/>
                    </a:cubicBezTo>
                    <a:cubicBezTo>
                      <a:pt x="14720" y="4"/>
                      <a:pt x="14721" y="3"/>
                      <a:pt x="14722" y="3"/>
                    </a:cubicBezTo>
                    <a:close/>
                    <a:moveTo>
                      <a:pt x="14730" y="3"/>
                    </a:moveTo>
                    <a:lnTo>
                      <a:pt x="14730" y="3"/>
                    </a:lnTo>
                    <a:cubicBezTo>
                      <a:pt x="14731" y="3"/>
                      <a:pt x="14732" y="4"/>
                      <a:pt x="14732" y="5"/>
                    </a:cubicBezTo>
                    <a:cubicBezTo>
                      <a:pt x="14732" y="6"/>
                      <a:pt x="14731" y="7"/>
                      <a:pt x="14730" y="7"/>
                    </a:cubicBezTo>
                    <a:lnTo>
                      <a:pt x="14730" y="7"/>
                    </a:lnTo>
                    <a:cubicBezTo>
                      <a:pt x="14729" y="7"/>
                      <a:pt x="14728" y="6"/>
                      <a:pt x="14728" y="5"/>
                    </a:cubicBezTo>
                    <a:cubicBezTo>
                      <a:pt x="14728" y="4"/>
                      <a:pt x="14729" y="3"/>
                      <a:pt x="14730" y="3"/>
                    </a:cubicBezTo>
                    <a:close/>
                    <a:moveTo>
                      <a:pt x="14738" y="3"/>
                    </a:moveTo>
                    <a:lnTo>
                      <a:pt x="14738" y="3"/>
                    </a:lnTo>
                    <a:cubicBezTo>
                      <a:pt x="14739" y="3"/>
                      <a:pt x="14740" y="4"/>
                      <a:pt x="14740" y="5"/>
                    </a:cubicBezTo>
                    <a:cubicBezTo>
                      <a:pt x="14740" y="6"/>
                      <a:pt x="14739" y="7"/>
                      <a:pt x="14738" y="7"/>
                    </a:cubicBezTo>
                    <a:lnTo>
                      <a:pt x="14738" y="7"/>
                    </a:lnTo>
                    <a:cubicBezTo>
                      <a:pt x="14737" y="7"/>
                      <a:pt x="14736" y="6"/>
                      <a:pt x="14736" y="5"/>
                    </a:cubicBezTo>
                    <a:cubicBezTo>
                      <a:pt x="14736" y="4"/>
                      <a:pt x="14737" y="3"/>
                      <a:pt x="14738" y="3"/>
                    </a:cubicBezTo>
                    <a:close/>
                    <a:moveTo>
                      <a:pt x="14746" y="3"/>
                    </a:moveTo>
                    <a:lnTo>
                      <a:pt x="14746" y="3"/>
                    </a:lnTo>
                    <a:cubicBezTo>
                      <a:pt x="14747" y="3"/>
                      <a:pt x="14748" y="4"/>
                      <a:pt x="14748" y="5"/>
                    </a:cubicBezTo>
                    <a:cubicBezTo>
                      <a:pt x="14748" y="6"/>
                      <a:pt x="14747" y="7"/>
                      <a:pt x="14746" y="7"/>
                    </a:cubicBezTo>
                    <a:lnTo>
                      <a:pt x="14746" y="7"/>
                    </a:lnTo>
                    <a:cubicBezTo>
                      <a:pt x="14745" y="7"/>
                      <a:pt x="14744" y="6"/>
                      <a:pt x="14744" y="5"/>
                    </a:cubicBezTo>
                    <a:cubicBezTo>
                      <a:pt x="14744" y="4"/>
                      <a:pt x="14745" y="3"/>
                      <a:pt x="14746" y="3"/>
                    </a:cubicBezTo>
                    <a:close/>
                    <a:moveTo>
                      <a:pt x="14754" y="3"/>
                    </a:moveTo>
                    <a:lnTo>
                      <a:pt x="14754" y="3"/>
                    </a:lnTo>
                    <a:cubicBezTo>
                      <a:pt x="14755" y="3"/>
                      <a:pt x="14756" y="4"/>
                      <a:pt x="14756" y="5"/>
                    </a:cubicBezTo>
                    <a:cubicBezTo>
                      <a:pt x="14756" y="6"/>
                      <a:pt x="14755" y="7"/>
                      <a:pt x="14754" y="7"/>
                    </a:cubicBezTo>
                    <a:lnTo>
                      <a:pt x="14754" y="7"/>
                    </a:lnTo>
                    <a:cubicBezTo>
                      <a:pt x="14753" y="7"/>
                      <a:pt x="14752" y="6"/>
                      <a:pt x="14752" y="5"/>
                    </a:cubicBezTo>
                    <a:cubicBezTo>
                      <a:pt x="14752" y="4"/>
                      <a:pt x="14753" y="3"/>
                      <a:pt x="14754" y="3"/>
                    </a:cubicBezTo>
                    <a:close/>
                    <a:moveTo>
                      <a:pt x="14762" y="3"/>
                    </a:moveTo>
                    <a:lnTo>
                      <a:pt x="14762" y="3"/>
                    </a:lnTo>
                    <a:cubicBezTo>
                      <a:pt x="14763" y="3"/>
                      <a:pt x="14764" y="4"/>
                      <a:pt x="14764" y="5"/>
                    </a:cubicBezTo>
                    <a:cubicBezTo>
                      <a:pt x="14764" y="6"/>
                      <a:pt x="14763" y="7"/>
                      <a:pt x="14762" y="7"/>
                    </a:cubicBezTo>
                    <a:lnTo>
                      <a:pt x="14762" y="7"/>
                    </a:lnTo>
                    <a:cubicBezTo>
                      <a:pt x="14761" y="7"/>
                      <a:pt x="14760" y="6"/>
                      <a:pt x="14760" y="5"/>
                    </a:cubicBezTo>
                    <a:cubicBezTo>
                      <a:pt x="14760" y="4"/>
                      <a:pt x="14761" y="3"/>
                      <a:pt x="14762" y="3"/>
                    </a:cubicBezTo>
                    <a:close/>
                    <a:moveTo>
                      <a:pt x="14770" y="3"/>
                    </a:moveTo>
                    <a:lnTo>
                      <a:pt x="14770" y="3"/>
                    </a:lnTo>
                    <a:cubicBezTo>
                      <a:pt x="14771" y="3"/>
                      <a:pt x="14772" y="4"/>
                      <a:pt x="14772" y="5"/>
                    </a:cubicBezTo>
                    <a:cubicBezTo>
                      <a:pt x="14772" y="6"/>
                      <a:pt x="14771" y="7"/>
                      <a:pt x="14770" y="7"/>
                    </a:cubicBezTo>
                    <a:lnTo>
                      <a:pt x="14770" y="7"/>
                    </a:lnTo>
                    <a:cubicBezTo>
                      <a:pt x="14769" y="7"/>
                      <a:pt x="14768" y="6"/>
                      <a:pt x="14768" y="5"/>
                    </a:cubicBezTo>
                    <a:cubicBezTo>
                      <a:pt x="14768" y="4"/>
                      <a:pt x="14769" y="3"/>
                      <a:pt x="14770" y="3"/>
                    </a:cubicBezTo>
                    <a:close/>
                    <a:moveTo>
                      <a:pt x="14778" y="3"/>
                    </a:moveTo>
                    <a:lnTo>
                      <a:pt x="14778" y="3"/>
                    </a:lnTo>
                    <a:cubicBezTo>
                      <a:pt x="14779" y="3"/>
                      <a:pt x="14780" y="4"/>
                      <a:pt x="14780" y="5"/>
                    </a:cubicBezTo>
                    <a:cubicBezTo>
                      <a:pt x="14780" y="6"/>
                      <a:pt x="14779" y="7"/>
                      <a:pt x="14778" y="7"/>
                    </a:cubicBezTo>
                    <a:lnTo>
                      <a:pt x="14778" y="7"/>
                    </a:lnTo>
                    <a:cubicBezTo>
                      <a:pt x="14777" y="7"/>
                      <a:pt x="14776" y="6"/>
                      <a:pt x="14776" y="5"/>
                    </a:cubicBezTo>
                    <a:cubicBezTo>
                      <a:pt x="14776" y="4"/>
                      <a:pt x="14777" y="3"/>
                      <a:pt x="14778" y="3"/>
                    </a:cubicBezTo>
                    <a:close/>
                    <a:moveTo>
                      <a:pt x="14786" y="3"/>
                    </a:moveTo>
                    <a:lnTo>
                      <a:pt x="14786" y="3"/>
                    </a:lnTo>
                    <a:cubicBezTo>
                      <a:pt x="14787" y="3"/>
                      <a:pt x="14788" y="4"/>
                      <a:pt x="14788" y="5"/>
                    </a:cubicBezTo>
                    <a:cubicBezTo>
                      <a:pt x="14788" y="6"/>
                      <a:pt x="14787" y="7"/>
                      <a:pt x="14786" y="7"/>
                    </a:cubicBezTo>
                    <a:lnTo>
                      <a:pt x="14786" y="7"/>
                    </a:lnTo>
                    <a:cubicBezTo>
                      <a:pt x="14785" y="7"/>
                      <a:pt x="14784" y="6"/>
                      <a:pt x="14784" y="5"/>
                    </a:cubicBezTo>
                    <a:cubicBezTo>
                      <a:pt x="14784" y="4"/>
                      <a:pt x="14785" y="3"/>
                      <a:pt x="14786" y="3"/>
                    </a:cubicBezTo>
                    <a:close/>
                    <a:moveTo>
                      <a:pt x="14794" y="3"/>
                    </a:moveTo>
                    <a:lnTo>
                      <a:pt x="14794" y="3"/>
                    </a:lnTo>
                    <a:cubicBezTo>
                      <a:pt x="14795" y="3"/>
                      <a:pt x="14796" y="4"/>
                      <a:pt x="14796" y="5"/>
                    </a:cubicBezTo>
                    <a:cubicBezTo>
                      <a:pt x="14796" y="6"/>
                      <a:pt x="14795" y="7"/>
                      <a:pt x="14794" y="7"/>
                    </a:cubicBezTo>
                    <a:lnTo>
                      <a:pt x="14794" y="7"/>
                    </a:lnTo>
                    <a:cubicBezTo>
                      <a:pt x="14793" y="7"/>
                      <a:pt x="14792" y="6"/>
                      <a:pt x="14792" y="5"/>
                    </a:cubicBezTo>
                    <a:cubicBezTo>
                      <a:pt x="14792" y="4"/>
                      <a:pt x="14793" y="3"/>
                      <a:pt x="14794" y="3"/>
                    </a:cubicBezTo>
                    <a:close/>
                    <a:moveTo>
                      <a:pt x="14802" y="3"/>
                    </a:moveTo>
                    <a:lnTo>
                      <a:pt x="14802" y="3"/>
                    </a:lnTo>
                    <a:cubicBezTo>
                      <a:pt x="14803" y="3"/>
                      <a:pt x="14804" y="4"/>
                      <a:pt x="14804" y="5"/>
                    </a:cubicBezTo>
                    <a:cubicBezTo>
                      <a:pt x="14804" y="6"/>
                      <a:pt x="14803" y="7"/>
                      <a:pt x="14802" y="7"/>
                    </a:cubicBezTo>
                    <a:lnTo>
                      <a:pt x="14802" y="7"/>
                    </a:lnTo>
                    <a:cubicBezTo>
                      <a:pt x="14801" y="7"/>
                      <a:pt x="14800" y="6"/>
                      <a:pt x="14800" y="5"/>
                    </a:cubicBezTo>
                    <a:cubicBezTo>
                      <a:pt x="14800" y="4"/>
                      <a:pt x="14801" y="3"/>
                      <a:pt x="14802" y="3"/>
                    </a:cubicBezTo>
                    <a:close/>
                    <a:moveTo>
                      <a:pt x="14810" y="3"/>
                    </a:moveTo>
                    <a:lnTo>
                      <a:pt x="14810" y="3"/>
                    </a:lnTo>
                    <a:cubicBezTo>
                      <a:pt x="14811" y="3"/>
                      <a:pt x="14812" y="4"/>
                      <a:pt x="14812" y="5"/>
                    </a:cubicBezTo>
                    <a:cubicBezTo>
                      <a:pt x="14812" y="7"/>
                      <a:pt x="14811" y="7"/>
                      <a:pt x="14810" y="7"/>
                    </a:cubicBezTo>
                    <a:lnTo>
                      <a:pt x="14810" y="7"/>
                    </a:lnTo>
                    <a:cubicBezTo>
                      <a:pt x="14809" y="7"/>
                      <a:pt x="14808" y="7"/>
                      <a:pt x="14808" y="5"/>
                    </a:cubicBezTo>
                    <a:cubicBezTo>
                      <a:pt x="14808" y="4"/>
                      <a:pt x="14809" y="3"/>
                      <a:pt x="14810" y="3"/>
                    </a:cubicBezTo>
                    <a:close/>
                    <a:moveTo>
                      <a:pt x="14818" y="3"/>
                    </a:moveTo>
                    <a:lnTo>
                      <a:pt x="14818" y="3"/>
                    </a:lnTo>
                    <a:cubicBezTo>
                      <a:pt x="14819" y="3"/>
                      <a:pt x="14820" y="4"/>
                      <a:pt x="14820" y="5"/>
                    </a:cubicBezTo>
                    <a:cubicBezTo>
                      <a:pt x="14820" y="7"/>
                      <a:pt x="14819" y="7"/>
                      <a:pt x="14818" y="7"/>
                    </a:cubicBezTo>
                    <a:lnTo>
                      <a:pt x="14818" y="7"/>
                    </a:lnTo>
                    <a:cubicBezTo>
                      <a:pt x="14817" y="7"/>
                      <a:pt x="14816" y="7"/>
                      <a:pt x="14816" y="5"/>
                    </a:cubicBezTo>
                    <a:cubicBezTo>
                      <a:pt x="14816" y="4"/>
                      <a:pt x="14817" y="3"/>
                      <a:pt x="14818" y="3"/>
                    </a:cubicBezTo>
                    <a:close/>
                    <a:moveTo>
                      <a:pt x="14826" y="3"/>
                    </a:moveTo>
                    <a:lnTo>
                      <a:pt x="14826" y="3"/>
                    </a:lnTo>
                    <a:cubicBezTo>
                      <a:pt x="14827" y="3"/>
                      <a:pt x="14828" y="4"/>
                      <a:pt x="14828" y="5"/>
                    </a:cubicBezTo>
                    <a:cubicBezTo>
                      <a:pt x="14828" y="7"/>
                      <a:pt x="14827" y="7"/>
                      <a:pt x="14826" y="7"/>
                    </a:cubicBezTo>
                    <a:lnTo>
                      <a:pt x="14826" y="7"/>
                    </a:lnTo>
                    <a:cubicBezTo>
                      <a:pt x="14825" y="7"/>
                      <a:pt x="14824" y="7"/>
                      <a:pt x="14824" y="5"/>
                    </a:cubicBezTo>
                    <a:cubicBezTo>
                      <a:pt x="14824" y="4"/>
                      <a:pt x="14825" y="3"/>
                      <a:pt x="14826" y="3"/>
                    </a:cubicBezTo>
                    <a:close/>
                    <a:moveTo>
                      <a:pt x="14834" y="3"/>
                    </a:moveTo>
                    <a:lnTo>
                      <a:pt x="14834" y="3"/>
                    </a:lnTo>
                    <a:cubicBezTo>
                      <a:pt x="14835" y="3"/>
                      <a:pt x="14836" y="4"/>
                      <a:pt x="14836" y="5"/>
                    </a:cubicBezTo>
                    <a:cubicBezTo>
                      <a:pt x="14836" y="7"/>
                      <a:pt x="14835" y="7"/>
                      <a:pt x="14834" y="7"/>
                    </a:cubicBezTo>
                    <a:lnTo>
                      <a:pt x="14834" y="7"/>
                    </a:lnTo>
                    <a:cubicBezTo>
                      <a:pt x="14833" y="7"/>
                      <a:pt x="14832" y="7"/>
                      <a:pt x="14832" y="5"/>
                    </a:cubicBezTo>
                    <a:cubicBezTo>
                      <a:pt x="14832" y="4"/>
                      <a:pt x="14833" y="3"/>
                      <a:pt x="14834" y="3"/>
                    </a:cubicBezTo>
                    <a:close/>
                    <a:moveTo>
                      <a:pt x="14842" y="3"/>
                    </a:moveTo>
                    <a:lnTo>
                      <a:pt x="14842" y="3"/>
                    </a:lnTo>
                    <a:cubicBezTo>
                      <a:pt x="14843" y="3"/>
                      <a:pt x="14844" y="4"/>
                      <a:pt x="14844" y="5"/>
                    </a:cubicBezTo>
                    <a:cubicBezTo>
                      <a:pt x="14844" y="7"/>
                      <a:pt x="14843" y="7"/>
                      <a:pt x="14842" y="7"/>
                    </a:cubicBezTo>
                    <a:lnTo>
                      <a:pt x="14842" y="7"/>
                    </a:lnTo>
                    <a:cubicBezTo>
                      <a:pt x="14841" y="7"/>
                      <a:pt x="14840" y="7"/>
                      <a:pt x="14840" y="5"/>
                    </a:cubicBezTo>
                    <a:cubicBezTo>
                      <a:pt x="14840" y="4"/>
                      <a:pt x="14841" y="3"/>
                      <a:pt x="14842" y="3"/>
                    </a:cubicBezTo>
                    <a:close/>
                    <a:moveTo>
                      <a:pt x="14850" y="3"/>
                    </a:moveTo>
                    <a:lnTo>
                      <a:pt x="14850" y="3"/>
                    </a:lnTo>
                    <a:cubicBezTo>
                      <a:pt x="14851" y="3"/>
                      <a:pt x="14852" y="4"/>
                      <a:pt x="14852" y="5"/>
                    </a:cubicBezTo>
                    <a:cubicBezTo>
                      <a:pt x="14852" y="7"/>
                      <a:pt x="14851" y="7"/>
                      <a:pt x="14850" y="7"/>
                    </a:cubicBezTo>
                    <a:lnTo>
                      <a:pt x="14850" y="7"/>
                    </a:lnTo>
                    <a:cubicBezTo>
                      <a:pt x="14849" y="7"/>
                      <a:pt x="14848" y="7"/>
                      <a:pt x="14848" y="5"/>
                    </a:cubicBezTo>
                    <a:cubicBezTo>
                      <a:pt x="14848" y="4"/>
                      <a:pt x="14849" y="3"/>
                      <a:pt x="14850" y="3"/>
                    </a:cubicBezTo>
                    <a:close/>
                    <a:moveTo>
                      <a:pt x="14858" y="3"/>
                    </a:moveTo>
                    <a:lnTo>
                      <a:pt x="14858" y="3"/>
                    </a:lnTo>
                    <a:cubicBezTo>
                      <a:pt x="14859" y="3"/>
                      <a:pt x="14860" y="4"/>
                      <a:pt x="14860" y="5"/>
                    </a:cubicBezTo>
                    <a:cubicBezTo>
                      <a:pt x="14860" y="7"/>
                      <a:pt x="14859" y="7"/>
                      <a:pt x="14858" y="7"/>
                    </a:cubicBezTo>
                    <a:lnTo>
                      <a:pt x="14858" y="7"/>
                    </a:lnTo>
                    <a:cubicBezTo>
                      <a:pt x="14857" y="7"/>
                      <a:pt x="14856" y="7"/>
                      <a:pt x="14856" y="5"/>
                    </a:cubicBezTo>
                    <a:cubicBezTo>
                      <a:pt x="14856" y="4"/>
                      <a:pt x="14857" y="3"/>
                      <a:pt x="14858" y="3"/>
                    </a:cubicBezTo>
                    <a:close/>
                    <a:moveTo>
                      <a:pt x="14866" y="3"/>
                    </a:moveTo>
                    <a:lnTo>
                      <a:pt x="14866" y="3"/>
                    </a:lnTo>
                    <a:cubicBezTo>
                      <a:pt x="14867" y="3"/>
                      <a:pt x="14868" y="4"/>
                      <a:pt x="14868" y="5"/>
                    </a:cubicBezTo>
                    <a:cubicBezTo>
                      <a:pt x="14868" y="7"/>
                      <a:pt x="14867" y="7"/>
                      <a:pt x="14866" y="7"/>
                    </a:cubicBezTo>
                    <a:lnTo>
                      <a:pt x="14866" y="7"/>
                    </a:lnTo>
                    <a:cubicBezTo>
                      <a:pt x="14865" y="7"/>
                      <a:pt x="14864" y="7"/>
                      <a:pt x="14864" y="5"/>
                    </a:cubicBezTo>
                    <a:cubicBezTo>
                      <a:pt x="14864" y="4"/>
                      <a:pt x="14865" y="3"/>
                      <a:pt x="14866" y="3"/>
                    </a:cubicBezTo>
                    <a:close/>
                    <a:moveTo>
                      <a:pt x="14874" y="3"/>
                    </a:moveTo>
                    <a:lnTo>
                      <a:pt x="14874" y="3"/>
                    </a:lnTo>
                    <a:cubicBezTo>
                      <a:pt x="14875" y="3"/>
                      <a:pt x="14876" y="4"/>
                      <a:pt x="14876" y="5"/>
                    </a:cubicBezTo>
                    <a:cubicBezTo>
                      <a:pt x="14876" y="7"/>
                      <a:pt x="14875" y="7"/>
                      <a:pt x="14874" y="7"/>
                    </a:cubicBezTo>
                    <a:lnTo>
                      <a:pt x="14874" y="7"/>
                    </a:lnTo>
                    <a:cubicBezTo>
                      <a:pt x="14873" y="7"/>
                      <a:pt x="14872" y="7"/>
                      <a:pt x="14872" y="5"/>
                    </a:cubicBezTo>
                    <a:cubicBezTo>
                      <a:pt x="14872" y="4"/>
                      <a:pt x="14873" y="3"/>
                      <a:pt x="14874" y="3"/>
                    </a:cubicBezTo>
                    <a:close/>
                    <a:moveTo>
                      <a:pt x="14882" y="3"/>
                    </a:moveTo>
                    <a:lnTo>
                      <a:pt x="14882" y="3"/>
                    </a:lnTo>
                    <a:cubicBezTo>
                      <a:pt x="14883" y="3"/>
                      <a:pt x="14884" y="4"/>
                      <a:pt x="14884" y="5"/>
                    </a:cubicBezTo>
                    <a:cubicBezTo>
                      <a:pt x="14884" y="7"/>
                      <a:pt x="14883" y="7"/>
                      <a:pt x="14882" y="7"/>
                    </a:cubicBezTo>
                    <a:lnTo>
                      <a:pt x="14882" y="7"/>
                    </a:lnTo>
                    <a:cubicBezTo>
                      <a:pt x="14881" y="7"/>
                      <a:pt x="14880" y="7"/>
                      <a:pt x="14880" y="5"/>
                    </a:cubicBezTo>
                    <a:cubicBezTo>
                      <a:pt x="14880" y="4"/>
                      <a:pt x="14881" y="3"/>
                      <a:pt x="14882" y="3"/>
                    </a:cubicBezTo>
                    <a:close/>
                    <a:moveTo>
                      <a:pt x="14890" y="3"/>
                    </a:moveTo>
                    <a:lnTo>
                      <a:pt x="14890" y="3"/>
                    </a:lnTo>
                    <a:cubicBezTo>
                      <a:pt x="14891" y="3"/>
                      <a:pt x="14892" y="4"/>
                      <a:pt x="14892" y="5"/>
                    </a:cubicBezTo>
                    <a:cubicBezTo>
                      <a:pt x="14892" y="7"/>
                      <a:pt x="14891" y="7"/>
                      <a:pt x="14890" y="7"/>
                    </a:cubicBezTo>
                    <a:lnTo>
                      <a:pt x="14890" y="7"/>
                    </a:lnTo>
                    <a:cubicBezTo>
                      <a:pt x="14889" y="7"/>
                      <a:pt x="14888" y="7"/>
                      <a:pt x="14888" y="5"/>
                    </a:cubicBezTo>
                    <a:cubicBezTo>
                      <a:pt x="14888" y="4"/>
                      <a:pt x="14889" y="3"/>
                      <a:pt x="14890" y="3"/>
                    </a:cubicBezTo>
                    <a:close/>
                    <a:moveTo>
                      <a:pt x="14898" y="3"/>
                    </a:moveTo>
                    <a:lnTo>
                      <a:pt x="14898" y="3"/>
                    </a:lnTo>
                    <a:cubicBezTo>
                      <a:pt x="14899" y="3"/>
                      <a:pt x="14900" y="4"/>
                      <a:pt x="14900" y="5"/>
                    </a:cubicBezTo>
                    <a:cubicBezTo>
                      <a:pt x="14900" y="7"/>
                      <a:pt x="14899" y="7"/>
                      <a:pt x="14898" y="7"/>
                    </a:cubicBezTo>
                    <a:lnTo>
                      <a:pt x="14898" y="7"/>
                    </a:lnTo>
                    <a:cubicBezTo>
                      <a:pt x="14897" y="7"/>
                      <a:pt x="14896" y="7"/>
                      <a:pt x="14896" y="5"/>
                    </a:cubicBezTo>
                    <a:cubicBezTo>
                      <a:pt x="14896" y="4"/>
                      <a:pt x="14897" y="3"/>
                      <a:pt x="14898" y="3"/>
                    </a:cubicBezTo>
                    <a:close/>
                    <a:moveTo>
                      <a:pt x="14906" y="3"/>
                    </a:moveTo>
                    <a:lnTo>
                      <a:pt x="14906" y="3"/>
                    </a:lnTo>
                    <a:cubicBezTo>
                      <a:pt x="14907" y="3"/>
                      <a:pt x="14908" y="4"/>
                      <a:pt x="14908" y="5"/>
                    </a:cubicBezTo>
                    <a:cubicBezTo>
                      <a:pt x="14908" y="7"/>
                      <a:pt x="14907" y="7"/>
                      <a:pt x="14906" y="7"/>
                    </a:cubicBezTo>
                    <a:lnTo>
                      <a:pt x="14906" y="7"/>
                    </a:lnTo>
                    <a:cubicBezTo>
                      <a:pt x="14905" y="7"/>
                      <a:pt x="14904" y="7"/>
                      <a:pt x="14904" y="5"/>
                    </a:cubicBezTo>
                    <a:cubicBezTo>
                      <a:pt x="14904" y="4"/>
                      <a:pt x="14905" y="3"/>
                      <a:pt x="14906" y="3"/>
                    </a:cubicBezTo>
                    <a:close/>
                    <a:moveTo>
                      <a:pt x="14914" y="3"/>
                    </a:moveTo>
                    <a:lnTo>
                      <a:pt x="14914" y="3"/>
                    </a:lnTo>
                    <a:cubicBezTo>
                      <a:pt x="14915" y="3"/>
                      <a:pt x="14916" y="4"/>
                      <a:pt x="14916" y="5"/>
                    </a:cubicBezTo>
                    <a:cubicBezTo>
                      <a:pt x="14916" y="7"/>
                      <a:pt x="14915" y="7"/>
                      <a:pt x="14914" y="7"/>
                    </a:cubicBezTo>
                    <a:lnTo>
                      <a:pt x="14914" y="7"/>
                    </a:lnTo>
                    <a:cubicBezTo>
                      <a:pt x="14913" y="7"/>
                      <a:pt x="14912" y="7"/>
                      <a:pt x="14912" y="5"/>
                    </a:cubicBezTo>
                    <a:cubicBezTo>
                      <a:pt x="14912" y="4"/>
                      <a:pt x="14913" y="3"/>
                      <a:pt x="14914" y="3"/>
                    </a:cubicBezTo>
                    <a:close/>
                    <a:moveTo>
                      <a:pt x="14922" y="3"/>
                    </a:moveTo>
                    <a:lnTo>
                      <a:pt x="14922" y="3"/>
                    </a:lnTo>
                    <a:cubicBezTo>
                      <a:pt x="14923" y="3"/>
                      <a:pt x="14924" y="4"/>
                      <a:pt x="14924" y="5"/>
                    </a:cubicBezTo>
                    <a:cubicBezTo>
                      <a:pt x="14924" y="7"/>
                      <a:pt x="14923" y="7"/>
                      <a:pt x="14922" y="7"/>
                    </a:cubicBezTo>
                    <a:lnTo>
                      <a:pt x="14922" y="7"/>
                    </a:lnTo>
                    <a:cubicBezTo>
                      <a:pt x="14921" y="7"/>
                      <a:pt x="14920" y="7"/>
                      <a:pt x="14920" y="5"/>
                    </a:cubicBezTo>
                    <a:cubicBezTo>
                      <a:pt x="14920" y="4"/>
                      <a:pt x="14921" y="3"/>
                      <a:pt x="14922" y="3"/>
                    </a:cubicBezTo>
                    <a:close/>
                    <a:moveTo>
                      <a:pt x="14930" y="3"/>
                    </a:moveTo>
                    <a:lnTo>
                      <a:pt x="14930" y="3"/>
                    </a:lnTo>
                    <a:cubicBezTo>
                      <a:pt x="14931" y="3"/>
                      <a:pt x="14932" y="4"/>
                      <a:pt x="14932" y="5"/>
                    </a:cubicBezTo>
                    <a:cubicBezTo>
                      <a:pt x="14932" y="7"/>
                      <a:pt x="14931" y="7"/>
                      <a:pt x="14930" y="7"/>
                    </a:cubicBezTo>
                    <a:lnTo>
                      <a:pt x="14930" y="7"/>
                    </a:lnTo>
                    <a:cubicBezTo>
                      <a:pt x="14929" y="7"/>
                      <a:pt x="14928" y="7"/>
                      <a:pt x="14928" y="5"/>
                    </a:cubicBezTo>
                    <a:cubicBezTo>
                      <a:pt x="14928" y="4"/>
                      <a:pt x="14929" y="3"/>
                      <a:pt x="14930" y="3"/>
                    </a:cubicBezTo>
                    <a:close/>
                    <a:moveTo>
                      <a:pt x="14938" y="3"/>
                    </a:moveTo>
                    <a:lnTo>
                      <a:pt x="14938" y="3"/>
                    </a:lnTo>
                    <a:cubicBezTo>
                      <a:pt x="14939" y="3"/>
                      <a:pt x="14940" y="4"/>
                      <a:pt x="14940" y="5"/>
                    </a:cubicBezTo>
                    <a:cubicBezTo>
                      <a:pt x="14940" y="7"/>
                      <a:pt x="14939" y="7"/>
                      <a:pt x="14938" y="7"/>
                    </a:cubicBezTo>
                    <a:lnTo>
                      <a:pt x="14938" y="7"/>
                    </a:lnTo>
                    <a:cubicBezTo>
                      <a:pt x="14937" y="7"/>
                      <a:pt x="14936" y="7"/>
                      <a:pt x="14936" y="5"/>
                    </a:cubicBezTo>
                    <a:cubicBezTo>
                      <a:pt x="14936" y="4"/>
                      <a:pt x="14937" y="3"/>
                      <a:pt x="14938" y="3"/>
                    </a:cubicBezTo>
                    <a:close/>
                    <a:moveTo>
                      <a:pt x="14946" y="3"/>
                    </a:moveTo>
                    <a:lnTo>
                      <a:pt x="14946" y="3"/>
                    </a:lnTo>
                    <a:cubicBezTo>
                      <a:pt x="14947" y="3"/>
                      <a:pt x="14948" y="4"/>
                      <a:pt x="14948" y="5"/>
                    </a:cubicBezTo>
                    <a:cubicBezTo>
                      <a:pt x="14948" y="7"/>
                      <a:pt x="14947" y="7"/>
                      <a:pt x="14946" y="7"/>
                    </a:cubicBezTo>
                    <a:lnTo>
                      <a:pt x="14946" y="7"/>
                    </a:lnTo>
                    <a:cubicBezTo>
                      <a:pt x="14945" y="7"/>
                      <a:pt x="14944" y="7"/>
                      <a:pt x="14944" y="5"/>
                    </a:cubicBezTo>
                    <a:cubicBezTo>
                      <a:pt x="14944" y="4"/>
                      <a:pt x="14945" y="3"/>
                      <a:pt x="14946" y="3"/>
                    </a:cubicBezTo>
                    <a:close/>
                    <a:moveTo>
                      <a:pt x="14954" y="3"/>
                    </a:moveTo>
                    <a:lnTo>
                      <a:pt x="14954" y="3"/>
                    </a:lnTo>
                    <a:cubicBezTo>
                      <a:pt x="14955" y="3"/>
                      <a:pt x="14956" y="4"/>
                      <a:pt x="14956" y="5"/>
                    </a:cubicBezTo>
                    <a:cubicBezTo>
                      <a:pt x="14956" y="7"/>
                      <a:pt x="14955" y="7"/>
                      <a:pt x="14954" y="7"/>
                    </a:cubicBezTo>
                    <a:lnTo>
                      <a:pt x="14954" y="7"/>
                    </a:lnTo>
                    <a:cubicBezTo>
                      <a:pt x="14953" y="7"/>
                      <a:pt x="14952" y="7"/>
                      <a:pt x="14952" y="5"/>
                    </a:cubicBezTo>
                    <a:cubicBezTo>
                      <a:pt x="14952" y="4"/>
                      <a:pt x="14953" y="3"/>
                      <a:pt x="14954" y="3"/>
                    </a:cubicBezTo>
                    <a:close/>
                    <a:moveTo>
                      <a:pt x="14962" y="3"/>
                    </a:moveTo>
                    <a:lnTo>
                      <a:pt x="14962" y="3"/>
                    </a:lnTo>
                    <a:cubicBezTo>
                      <a:pt x="14963" y="3"/>
                      <a:pt x="14964" y="4"/>
                      <a:pt x="14964" y="5"/>
                    </a:cubicBezTo>
                    <a:cubicBezTo>
                      <a:pt x="14964" y="7"/>
                      <a:pt x="14963" y="7"/>
                      <a:pt x="14962" y="7"/>
                    </a:cubicBezTo>
                    <a:lnTo>
                      <a:pt x="14962" y="7"/>
                    </a:lnTo>
                    <a:cubicBezTo>
                      <a:pt x="14961" y="7"/>
                      <a:pt x="14960" y="7"/>
                      <a:pt x="14960" y="5"/>
                    </a:cubicBezTo>
                    <a:cubicBezTo>
                      <a:pt x="14960" y="4"/>
                      <a:pt x="14961" y="3"/>
                      <a:pt x="14962" y="3"/>
                    </a:cubicBezTo>
                    <a:close/>
                    <a:moveTo>
                      <a:pt x="14970" y="3"/>
                    </a:moveTo>
                    <a:lnTo>
                      <a:pt x="14970" y="3"/>
                    </a:lnTo>
                    <a:cubicBezTo>
                      <a:pt x="14971" y="3"/>
                      <a:pt x="14972" y="4"/>
                      <a:pt x="14972" y="5"/>
                    </a:cubicBezTo>
                    <a:cubicBezTo>
                      <a:pt x="14972" y="7"/>
                      <a:pt x="14971" y="7"/>
                      <a:pt x="14970" y="7"/>
                    </a:cubicBezTo>
                    <a:lnTo>
                      <a:pt x="14970" y="7"/>
                    </a:lnTo>
                    <a:cubicBezTo>
                      <a:pt x="14969" y="7"/>
                      <a:pt x="14968" y="7"/>
                      <a:pt x="14968" y="5"/>
                    </a:cubicBezTo>
                    <a:cubicBezTo>
                      <a:pt x="14968" y="4"/>
                      <a:pt x="14969" y="3"/>
                      <a:pt x="14970" y="3"/>
                    </a:cubicBezTo>
                    <a:close/>
                    <a:moveTo>
                      <a:pt x="14978" y="3"/>
                    </a:moveTo>
                    <a:lnTo>
                      <a:pt x="14978" y="3"/>
                    </a:lnTo>
                    <a:cubicBezTo>
                      <a:pt x="14979" y="3"/>
                      <a:pt x="14980" y="4"/>
                      <a:pt x="14980" y="5"/>
                    </a:cubicBezTo>
                    <a:cubicBezTo>
                      <a:pt x="14980" y="7"/>
                      <a:pt x="14979" y="7"/>
                      <a:pt x="14978" y="7"/>
                    </a:cubicBezTo>
                    <a:lnTo>
                      <a:pt x="14978" y="7"/>
                    </a:lnTo>
                    <a:cubicBezTo>
                      <a:pt x="14977" y="7"/>
                      <a:pt x="14976" y="7"/>
                      <a:pt x="14976" y="5"/>
                    </a:cubicBezTo>
                    <a:cubicBezTo>
                      <a:pt x="14976" y="4"/>
                      <a:pt x="14977" y="3"/>
                      <a:pt x="14978" y="3"/>
                    </a:cubicBezTo>
                    <a:close/>
                    <a:moveTo>
                      <a:pt x="14986" y="3"/>
                    </a:moveTo>
                    <a:lnTo>
                      <a:pt x="14986" y="3"/>
                    </a:lnTo>
                    <a:cubicBezTo>
                      <a:pt x="14987" y="3"/>
                      <a:pt x="14988" y="4"/>
                      <a:pt x="14988" y="5"/>
                    </a:cubicBezTo>
                    <a:cubicBezTo>
                      <a:pt x="14988" y="7"/>
                      <a:pt x="14987" y="7"/>
                      <a:pt x="14986" y="7"/>
                    </a:cubicBezTo>
                    <a:lnTo>
                      <a:pt x="14986" y="7"/>
                    </a:lnTo>
                    <a:cubicBezTo>
                      <a:pt x="14985" y="7"/>
                      <a:pt x="14984" y="7"/>
                      <a:pt x="14984" y="5"/>
                    </a:cubicBezTo>
                    <a:cubicBezTo>
                      <a:pt x="14984" y="4"/>
                      <a:pt x="14985" y="3"/>
                      <a:pt x="14986" y="3"/>
                    </a:cubicBezTo>
                    <a:close/>
                    <a:moveTo>
                      <a:pt x="14994" y="3"/>
                    </a:moveTo>
                    <a:lnTo>
                      <a:pt x="14994" y="3"/>
                    </a:lnTo>
                    <a:cubicBezTo>
                      <a:pt x="14995" y="3"/>
                      <a:pt x="14996" y="4"/>
                      <a:pt x="14996" y="5"/>
                    </a:cubicBezTo>
                    <a:cubicBezTo>
                      <a:pt x="14996" y="7"/>
                      <a:pt x="14995" y="7"/>
                      <a:pt x="14994" y="7"/>
                    </a:cubicBezTo>
                    <a:lnTo>
                      <a:pt x="14994" y="7"/>
                    </a:lnTo>
                    <a:cubicBezTo>
                      <a:pt x="14993" y="7"/>
                      <a:pt x="14992" y="7"/>
                      <a:pt x="14992" y="5"/>
                    </a:cubicBezTo>
                    <a:cubicBezTo>
                      <a:pt x="14992" y="4"/>
                      <a:pt x="14993" y="3"/>
                      <a:pt x="14994" y="3"/>
                    </a:cubicBezTo>
                    <a:close/>
                    <a:moveTo>
                      <a:pt x="15002" y="3"/>
                    </a:moveTo>
                    <a:lnTo>
                      <a:pt x="15002" y="3"/>
                    </a:lnTo>
                    <a:cubicBezTo>
                      <a:pt x="15003" y="3"/>
                      <a:pt x="15004" y="4"/>
                      <a:pt x="15004" y="5"/>
                    </a:cubicBezTo>
                    <a:cubicBezTo>
                      <a:pt x="15004" y="7"/>
                      <a:pt x="15003" y="7"/>
                      <a:pt x="15002" y="7"/>
                    </a:cubicBezTo>
                    <a:lnTo>
                      <a:pt x="15002" y="7"/>
                    </a:lnTo>
                    <a:cubicBezTo>
                      <a:pt x="15001" y="7"/>
                      <a:pt x="15000" y="7"/>
                      <a:pt x="15000" y="5"/>
                    </a:cubicBezTo>
                    <a:cubicBezTo>
                      <a:pt x="15000" y="4"/>
                      <a:pt x="15001" y="3"/>
                      <a:pt x="15002" y="3"/>
                    </a:cubicBezTo>
                    <a:close/>
                    <a:moveTo>
                      <a:pt x="15010" y="3"/>
                    </a:moveTo>
                    <a:lnTo>
                      <a:pt x="15010" y="3"/>
                    </a:lnTo>
                    <a:cubicBezTo>
                      <a:pt x="15011" y="3"/>
                      <a:pt x="15012" y="4"/>
                      <a:pt x="15012" y="5"/>
                    </a:cubicBezTo>
                    <a:cubicBezTo>
                      <a:pt x="15012" y="7"/>
                      <a:pt x="15011" y="7"/>
                      <a:pt x="15010" y="7"/>
                    </a:cubicBezTo>
                    <a:lnTo>
                      <a:pt x="15010" y="7"/>
                    </a:lnTo>
                    <a:cubicBezTo>
                      <a:pt x="15009" y="7"/>
                      <a:pt x="15008" y="7"/>
                      <a:pt x="15008" y="5"/>
                    </a:cubicBezTo>
                    <a:cubicBezTo>
                      <a:pt x="15008" y="4"/>
                      <a:pt x="15009" y="3"/>
                      <a:pt x="15010" y="3"/>
                    </a:cubicBezTo>
                    <a:close/>
                    <a:moveTo>
                      <a:pt x="15018" y="3"/>
                    </a:moveTo>
                    <a:lnTo>
                      <a:pt x="15018" y="3"/>
                    </a:lnTo>
                    <a:cubicBezTo>
                      <a:pt x="15019" y="3"/>
                      <a:pt x="15020" y="4"/>
                      <a:pt x="15020" y="5"/>
                    </a:cubicBezTo>
                    <a:cubicBezTo>
                      <a:pt x="15020" y="7"/>
                      <a:pt x="15019" y="7"/>
                      <a:pt x="15018" y="7"/>
                    </a:cubicBezTo>
                    <a:lnTo>
                      <a:pt x="15018" y="7"/>
                    </a:lnTo>
                    <a:cubicBezTo>
                      <a:pt x="15017" y="7"/>
                      <a:pt x="15016" y="7"/>
                      <a:pt x="15016" y="5"/>
                    </a:cubicBezTo>
                    <a:cubicBezTo>
                      <a:pt x="15016" y="4"/>
                      <a:pt x="15017" y="3"/>
                      <a:pt x="15018" y="3"/>
                    </a:cubicBezTo>
                    <a:close/>
                    <a:moveTo>
                      <a:pt x="15026" y="3"/>
                    </a:moveTo>
                    <a:lnTo>
                      <a:pt x="15026" y="3"/>
                    </a:lnTo>
                    <a:cubicBezTo>
                      <a:pt x="15027" y="3"/>
                      <a:pt x="15028" y="4"/>
                      <a:pt x="15028" y="5"/>
                    </a:cubicBezTo>
                    <a:cubicBezTo>
                      <a:pt x="15028" y="7"/>
                      <a:pt x="15027" y="7"/>
                      <a:pt x="15026" y="7"/>
                    </a:cubicBezTo>
                    <a:lnTo>
                      <a:pt x="15026" y="7"/>
                    </a:lnTo>
                    <a:cubicBezTo>
                      <a:pt x="15025" y="7"/>
                      <a:pt x="15024" y="7"/>
                      <a:pt x="15024" y="5"/>
                    </a:cubicBezTo>
                    <a:cubicBezTo>
                      <a:pt x="15024" y="4"/>
                      <a:pt x="15025" y="3"/>
                      <a:pt x="15026" y="3"/>
                    </a:cubicBezTo>
                    <a:close/>
                    <a:moveTo>
                      <a:pt x="15034" y="3"/>
                    </a:moveTo>
                    <a:lnTo>
                      <a:pt x="15034" y="3"/>
                    </a:lnTo>
                    <a:cubicBezTo>
                      <a:pt x="15035" y="3"/>
                      <a:pt x="15036" y="4"/>
                      <a:pt x="15036" y="5"/>
                    </a:cubicBezTo>
                    <a:cubicBezTo>
                      <a:pt x="15036" y="7"/>
                      <a:pt x="15035" y="7"/>
                      <a:pt x="15034" y="7"/>
                    </a:cubicBezTo>
                    <a:lnTo>
                      <a:pt x="15034" y="7"/>
                    </a:lnTo>
                    <a:cubicBezTo>
                      <a:pt x="15033" y="7"/>
                      <a:pt x="15032" y="7"/>
                      <a:pt x="15032" y="5"/>
                    </a:cubicBezTo>
                    <a:cubicBezTo>
                      <a:pt x="15032" y="4"/>
                      <a:pt x="15033" y="3"/>
                      <a:pt x="15034" y="3"/>
                    </a:cubicBezTo>
                    <a:close/>
                    <a:moveTo>
                      <a:pt x="15042" y="3"/>
                    </a:moveTo>
                    <a:lnTo>
                      <a:pt x="15042" y="3"/>
                    </a:lnTo>
                    <a:cubicBezTo>
                      <a:pt x="15043" y="3"/>
                      <a:pt x="15044" y="4"/>
                      <a:pt x="15044" y="5"/>
                    </a:cubicBezTo>
                    <a:cubicBezTo>
                      <a:pt x="15044" y="7"/>
                      <a:pt x="15043" y="7"/>
                      <a:pt x="15042" y="7"/>
                    </a:cubicBezTo>
                    <a:lnTo>
                      <a:pt x="15042" y="7"/>
                    </a:lnTo>
                    <a:cubicBezTo>
                      <a:pt x="15041" y="7"/>
                      <a:pt x="15040" y="7"/>
                      <a:pt x="15040" y="5"/>
                    </a:cubicBezTo>
                    <a:cubicBezTo>
                      <a:pt x="15040" y="4"/>
                      <a:pt x="15041" y="3"/>
                      <a:pt x="15042" y="3"/>
                    </a:cubicBezTo>
                    <a:close/>
                    <a:moveTo>
                      <a:pt x="15050" y="3"/>
                    </a:moveTo>
                    <a:lnTo>
                      <a:pt x="15050" y="3"/>
                    </a:lnTo>
                    <a:cubicBezTo>
                      <a:pt x="15051" y="3"/>
                      <a:pt x="15052" y="4"/>
                      <a:pt x="15052" y="5"/>
                    </a:cubicBezTo>
                    <a:cubicBezTo>
                      <a:pt x="15052" y="7"/>
                      <a:pt x="15051" y="7"/>
                      <a:pt x="15050" y="7"/>
                    </a:cubicBezTo>
                    <a:lnTo>
                      <a:pt x="15050" y="7"/>
                    </a:lnTo>
                    <a:cubicBezTo>
                      <a:pt x="15049" y="7"/>
                      <a:pt x="15048" y="7"/>
                      <a:pt x="15048" y="5"/>
                    </a:cubicBezTo>
                    <a:cubicBezTo>
                      <a:pt x="15048" y="4"/>
                      <a:pt x="15049" y="3"/>
                      <a:pt x="15050" y="3"/>
                    </a:cubicBezTo>
                    <a:close/>
                    <a:moveTo>
                      <a:pt x="15058" y="3"/>
                    </a:moveTo>
                    <a:lnTo>
                      <a:pt x="15058" y="3"/>
                    </a:lnTo>
                    <a:cubicBezTo>
                      <a:pt x="15059" y="3"/>
                      <a:pt x="15060" y="4"/>
                      <a:pt x="15060" y="5"/>
                    </a:cubicBezTo>
                    <a:cubicBezTo>
                      <a:pt x="15060" y="7"/>
                      <a:pt x="15059" y="7"/>
                      <a:pt x="15058" y="7"/>
                    </a:cubicBezTo>
                    <a:lnTo>
                      <a:pt x="15058" y="7"/>
                    </a:lnTo>
                    <a:cubicBezTo>
                      <a:pt x="15057" y="7"/>
                      <a:pt x="15056" y="7"/>
                      <a:pt x="15056" y="5"/>
                    </a:cubicBezTo>
                    <a:cubicBezTo>
                      <a:pt x="15056" y="4"/>
                      <a:pt x="15057" y="3"/>
                      <a:pt x="15058" y="3"/>
                    </a:cubicBezTo>
                    <a:close/>
                    <a:moveTo>
                      <a:pt x="15066" y="3"/>
                    </a:moveTo>
                    <a:lnTo>
                      <a:pt x="15066" y="3"/>
                    </a:lnTo>
                    <a:cubicBezTo>
                      <a:pt x="15067" y="3"/>
                      <a:pt x="15068" y="4"/>
                      <a:pt x="15068" y="5"/>
                    </a:cubicBezTo>
                    <a:cubicBezTo>
                      <a:pt x="15068" y="7"/>
                      <a:pt x="15067" y="7"/>
                      <a:pt x="15066" y="7"/>
                    </a:cubicBezTo>
                    <a:lnTo>
                      <a:pt x="15066" y="7"/>
                    </a:lnTo>
                    <a:cubicBezTo>
                      <a:pt x="15065" y="7"/>
                      <a:pt x="15064" y="7"/>
                      <a:pt x="15064" y="5"/>
                    </a:cubicBezTo>
                    <a:cubicBezTo>
                      <a:pt x="15064" y="4"/>
                      <a:pt x="15065" y="3"/>
                      <a:pt x="15066" y="3"/>
                    </a:cubicBezTo>
                    <a:close/>
                    <a:moveTo>
                      <a:pt x="15074" y="3"/>
                    </a:moveTo>
                    <a:lnTo>
                      <a:pt x="15074" y="3"/>
                    </a:lnTo>
                    <a:cubicBezTo>
                      <a:pt x="15075" y="3"/>
                      <a:pt x="15076" y="4"/>
                      <a:pt x="15076" y="5"/>
                    </a:cubicBezTo>
                    <a:cubicBezTo>
                      <a:pt x="15076" y="7"/>
                      <a:pt x="15075" y="7"/>
                      <a:pt x="15074" y="7"/>
                    </a:cubicBezTo>
                    <a:lnTo>
                      <a:pt x="15074" y="7"/>
                    </a:lnTo>
                    <a:cubicBezTo>
                      <a:pt x="15073" y="7"/>
                      <a:pt x="15072" y="7"/>
                      <a:pt x="15072" y="5"/>
                    </a:cubicBezTo>
                    <a:cubicBezTo>
                      <a:pt x="15072" y="4"/>
                      <a:pt x="15073" y="3"/>
                      <a:pt x="15074" y="3"/>
                    </a:cubicBezTo>
                    <a:close/>
                    <a:moveTo>
                      <a:pt x="15082" y="3"/>
                    </a:moveTo>
                    <a:lnTo>
                      <a:pt x="15082" y="3"/>
                    </a:lnTo>
                    <a:cubicBezTo>
                      <a:pt x="15083" y="3"/>
                      <a:pt x="15084" y="4"/>
                      <a:pt x="15084" y="5"/>
                    </a:cubicBezTo>
                    <a:cubicBezTo>
                      <a:pt x="15084" y="7"/>
                      <a:pt x="15083" y="7"/>
                      <a:pt x="15082" y="7"/>
                    </a:cubicBezTo>
                    <a:lnTo>
                      <a:pt x="15082" y="7"/>
                    </a:lnTo>
                    <a:cubicBezTo>
                      <a:pt x="15081" y="7"/>
                      <a:pt x="15080" y="7"/>
                      <a:pt x="15080" y="5"/>
                    </a:cubicBezTo>
                    <a:cubicBezTo>
                      <a:pt x="15080" y="4"/>
                      <a:pt x="15081" y="3"/>
                      <a:pt x="15082" y="3"/>
                    </a:cubicBezTo>
                    <a:close/>
                    <a:moveTo>
                      <a:pt x="15090" y="3"/>
                    </a:moveTo>
                    <a:lnTo>
                      <a:pt x="15090" y="3"/>
                    </a:lnTo>
                    <a:cubicBezTo>
                      <a:pt x="15091" y="3"/>
                      <a:pt x="15092" y="4"/>
                      <a:pt x="15092" y="5"/>
                    </a:cubicBezTo>
                    <a:cubicBezTo>
                      <a:pt x="15092" y="7"/>
                      <a:pt x="15091" y="7"/>
                      <a:pt x="15090" y="7"/>
                    </a:cubicBezTo>
                    <a:lnTo>
                      <a:pt x="15090" y="7"/>
                    </a:lnTo>
                    <a:cubicBezTo>
                      <a:pt x="15089" y="7"/>
                      <a:pt x="15088" y="7"/>
                      <a:pt x="15088" y="5"/>
                    </a:cubicBezTo>
                    <a:cubicBezTo>
                      <a:pt x="15088" y="4"/>
                      <a:pt x="15089" y="3"/>
                      <a:pt x="15090" y="3"/>
                    </a:cubicBezTo>
                    <a:close/>
                    <a:moveTo>
                      <a:pt x="15098" y="3"/>
                    </a:moveTo>
                    <a:lnTo>
                      <a:pt x="15098" y="3"/>
                    </a:lnTo>
                    <a:cubicBezTo>
                      <a:pt x="15099" y="3"/>
                      <a:pt x="15100" y="4"/>
                      <a:pt x="15100" y="5"/>
                    </a:cubicBezTo>
                    <a:cubicBezTo>
                      <a:pt x="15100" y="7"/>
                      <a:pt x="15099" y="7"/>
                      <a:pt x="15098" y="7"/>
                    </a:cubicBezTo>
                    <a:lnTo>
                      <a:pt x="15098" y="7"/>
                    </a:lnTo>
                    <a:cubicBezTo>
                      <a:pt x="15097" y="7"/>
                      <a:pt x="15096" y="7"/>
                      <a:pt x="15096" y="5"/>
                    </a:cubicBezTo>
                    <a:cubicBezTo>
                      <a:pt x="15096" y="4"/>
                      <a:pt x="15097" y="3"/>
                      <a:pt x="15098" y="3"/>
                    </a:cubicBezTo>
                    <a:close/>
                    <a:moveTo>
                      <a:pt x="15106" y="3"/>
                    </a:moveTo>
                    <a:lnTo>
                      <a:pt x="15106" y="3"/>
                    </a:lnTo>
                    <a:cubicBezTo>
                      <a:pt x="15107" y="3"/>
                      <a:pt x="15108" y="4"/>
                      <a:pt x="15108" y="5"/>
                    </a:cubicBezTo>
                    <a:cubicBezTo>
                      <a:pt x="15108" y="7"/>
                      <a:pt x="15107" y="7"/>
                      <a:pt x="15106" y="7"/>
                    </a:cubicBezTo>
                    <a:lnTo>
                      <a:pt x="15106" y="7"/>
                    </a:lnTo>
                    <a:cubicBezTo>
                      <a:pt x="15105" y="7"/>
                      <a:pt x="15104" y="7"/>
                      <a:pt x="15104" y="5"/>
                    </a:cubicBezTo>
                    <a:cubicBezTo>
                      <a:pt x="15104" y="4"/>
                      <a:pt x="15105" y="3"/>
                      <a:pt x="15106" y="3"/>
                    </a:cubicBezTo>
                    <a:close/>
                    <a:moveTo>
                      <a:pt x="15114" y="3"/>
                    </a:moveTo>
                    <a:lnTo>
                      <a:pt x="15114" y="3"/>
                    </a:lnTo>
                    <a:cubicBezTo>
                      <a:pt x="15115" y="3"/>
                      <a:pt x="15116" y="4"/>
                      <a:pt x="15116" y="5"/>
                    </a:cubicBezTo>
                    <a:cubicBezTo>
                      <a:pt x="15116" y="7"/>
                      <a:pt x="15115" y="7"/>
                      <a:pt x="15114" y="7"/>
                    </a:cubicBezTo>
                    <a:lnTo>
                      <a:pt x="15114" y="7"/>
                    </a:lnTo>
                    <a:cubicBezTo>
                      <a:pt x="15113" y="7"/>
                      <a:pt x="15112" y="7"/>
                      <a:pt x="15112" y="5"/>
                    </a:cubicBezTo>
                    <a:cubicBezTo>
                      <a:pt x="15112" y="4"/>
                      <a:pt x="15113" y="3"/>
                      <a:pt x="15114" y="3"/>
                    </a:cubicBezTo>
                    <a:close/>
                    <a:moveTo>
                      <a:pt x="15122" y="3"/>
                    </a:moveTo>
                    <a:lnTo>
                      <a:pt x="15122" y="3"/>
                    </a:lnTo>
                    <a:cubicBezTo>
                      <a:pt x="15123" y="3"/>
                      <a:pt x="15124" y="4"/>
                      <a:pt x="15124" y="5"/>
                    </a:cubicBezTo>
                    <a:cubicBezTo>
                      <a:pt x="15124" y="7"/>
                      <a:pt x="15123" y="7"/>
                      <a:pt x="15122" y="7"/>
                    </a:cubicBezTo>
                    <a:lnTo>
                      <a:pt x="15122" y="7"/>
                    </a:lnTo>
                    <a:cubicBezTo>
                      <a:pt x="15121" y="7"/>
                      <a:pt x="15120" y="7"/>
                      <a:pt x="15120" y="5"/>
                    </a:cubicBezTo>
                    <a:cubicBezTo>
                      <a:pt x="15120" y="4"/>
                      <a:pt x="15121" y="3"/>
                      <a:pt x="15122" y="3"/>
                    </a:cubicBezTo>
                    <a:close/>
                    <a:moveTo>
                      <a:pt x="15130" y="3"/>
                    </a:moveTo>
                    <a:lnTo>
                      <a:pt x="15130" y="3"/>
                    </a:lnTo>
                    <a:cubicBezTo>
                      <a:pt x="15131" y="3"/>
                      <a:pt x="15132" y="4"/>
                      <a:pt x="15132" y="5"/>
                    </a:cubicBezTo>
                    <a:cubicBezTo>
                      <a:pt x="15132" y="7"/>
                      <a:pt x="15131" y="7"/>
                      <a:pt x="15130" y="7"/>
                    </a:cubicBezTo>
                    <a:lnTo>
                      <a:pt x="15130" y="7"/>
                    </a:lnTo>
                    <a:cubicBezTo>
                      <a:pt x="15129" y="7"/>
                      <a:pt x="15128" y="7"/>
                      <a:pt x="15128" y="5"/>
                    </a:cubicBezTo>
                    <a:cubicBezTo>
                      <a:pt x="15128" y="4"/>
                      <a:pt x="15129" y="3"/>
                      <a:pt x="15130" y="3"/>
                    </a:cubicBezTo>
                    <a:close/>
                    <a:moveTo>
                      <a:pt x="15138" y="3"/>
                    </a:moveTo>
                    <a:lnTo>
                      <a:pt x="15138" y="3"/>
                    </a:lnTo>
                    <a:cubicBezTo>
                      <a:pt x="15139" y="3"/>
                      <a:pt x="15140" y="4"/>
                      <a:pt x="15140" y="5"/>
                    </a:cubicBezTo>
                    <a:cubicBezTo>
                      <a:pt x="15140" y="7"/>
                      <a:pt x="15139" y="7"/>
                      <a:pt x="15138" y="7"/>
                    </a:cubicBezTo>
                    <a:lnTo>
                      <a:pt x="15138" y="7"/>
                    </a:lnTo>
                    <a:cubicBezTo>
                      <a:pt x="15137" y="7"/>
                      <a:pt x="15136" y="7"/>
                      <a:pt x="15136" y="5"/>
                    </a:cubicBezTo>
                    <a:cubicBezTo>
                      <a:pt x="15136" y="4"/>
                      <a:pt x="15137" y="3"/>
                      <a:pt x="15138" y="3"/>
                    </a:cubicBezTo>
                    <a:close/>
                    <a:moveTo>
                      <a:pt x="15146" y="3"/>
                    </a:moveTo>
                    <a:lnTo>
                      <a:pt x="15146" y="3"/>
                    </a:lnTo>
                    <a:cubicBezTo>
                      <a:pt x="15147" y="3"/>
                      <a:pt x="15148" y="4"/>
                      <a:pt x="15148" y="5"/>
                    </a:cubicBezTo>
                    <a:cubicBezTo>
                      <a:pt x="15148" y="7"/>
                      <a:pt x="15147" y="7"/>
                      <a:pt x="15146" y="7"/>
                    </a:cubicBezTo>
                    <a:lnTo>
                      <a:pt x="15146" y="7"/>
                    </a:lnTo>
                    <a:cubicBezTo>
                      <a:pt x="15145" y="7"/>
                      <a:pt x="15144" y="7"/>
                      <a:pt x="15144" y="5"/>
                    </a:cubicBezTo>
                    <a:cubicBezTo>
                      <a:pt x="15144" y="4"/>
                      <a:pt x="15145" y="3"/>
                      <a:pt x="15146" y="3"/>
                    </a:cubicBezTo>
                    <a:close/>
                    <a:moveTo>
                      <a:pt x="15154" y="3"/>
                    </a:moveTo>
                    <a:lnTo>
                      <a:pt x="15154" y="3"/>
                    </a:lnTo>
                    <a:cubicBezTo>
                      <a:pt x="15155" y="3"/>
                      <a:pt x="15156" y="4"/>
                      <a:pt x="15156" y="5"/>
                    </a:cubicBezTo>
                    <a:cubicBezTo>
                      <a:pt x="15156" y="7"/>
                      <a:pt x="15155" y="7"/>
                      <a:pt x="15154" y="7"/>
                    </a:cubicBezTo>
                    <a:lnTo>
                      <a:pt x="15154" y="7"/>
                    </a:lnTo>
                    <a:cubicBezTo>
                      <a:pt x="15153" y="7"/>
                      <a:pt x="15152" y="7"/>
                      <a:pt x="15152" y="5"/>
                    </a:cubicBezTo>
                    <a:cubicBezTo>
                      <a:pt x="15152" y="4"/>
                      <a:pt x="15153" y="3"/>
                      <a:pt x="15154" y="3"/>
                    </a:cubicBezTo>
                    <a:close/>
                    <a:moveTo>
                      <a:pt x="15162" y="3"/>
                    </a:moveTo>
                    <a:lnTo>
                      <a:pt x="15162" y="3"/>
                    </a:lnTo>
                    <a:cubicBezTo>
                      <a:pt x="15163" y="3"/>
                      <a:pt x="15164" y="4"/>
                      <a:pt x="15164" y="5"/>
                    </a:cubicBezTo>
                    <a:cubicBezTo>
                      <a:pt x="15164" y="7"/>
                      <a:pt x="15163" y="7"/>
                      <a:pt x="15162" y="7"/>
                    </a:cubicBezTo>
                    <a:lnTo>
                      <a:pt x="15162" y="7"/>
                    </a:lnTo>
                    <a:cubicBezTo>
                      <a:pt x="15161" y="7"/>
                      <a:pt x="15160" y="7"/>
                      <a:pt x="15160" y="5"/>
                    </a:cubicBezTo>
                    <a:cubicBezTo>
                      <a:pt x="15160" y="4"/>
                      <a:pt x="15161" y="3"/>
                      <a:pt x="15162" y="3"/>
                    </a:cubicBezTo>
                    <a:close/>
                    <a:moveTo>
                      <a:pt x="15170" y="3"/>
                    </a:moveTo>
                    <a:lnTo>
                      <a:pt x="15170" y="3"/>
                    </a:lnTo>
                    <a:cubicBezTo>
                      <a:pt x="15171" y="3"/>
                      <a:pt x="15172" y="4"/>
                      <a:pt x="15172" y="5"/>
                    </a:cubicBezTo>
                    <a:cubicBezTo>
                      <a:pt x="15172" y="7"/>
                      <a:pt x="15171" y="7"/>
                      <a:pt x="15170" y="7"/>
                    </a:cubicBezTo>
                    <a:lnTo>
                      <a:pt x="15170" y="7"/>
                    </a:lnTo>
                    <a:cubicBezTo>
                      <a:pt x="15169" y="7"/>
                      <a:pt x="15168" y="7"/>
                      <a:pt x="15168" y="5"/>
                    </a:cubicBezTo>
                    <a:cubicBezTo>
                      <a:pt x="15168" y="4"/>
                      <a:pt x="15169" y="3"/>
                      <a:pt x="15170" y="3"/>
                    </a:cubicBezTo>
                    <a:close/>
                    <a:moveTo>
                      <a:pt x="15178" y="3"/>
                    </a:moveTo>
                    <a:lnTo>
                      <a:pt x="15178" y="3"/>
                    </a:lnTo>
                    <a:cubicBezTo>
                      <a:pt x="15179" y="3"/>
                      <a:pt x="15180" y="4"/>
                      <a:pt x="15180" y="5"/>
                    </a:cubicBezTo>
                    <a:cubicBezTo>
                      <a:pt x="15180" y="7"/>
                      <a:pt x="15179" y="7"/>
                      <a:pt x="15178" y="7"/>
                    </a:cubicBezTo>
                    <a:lnTo>
                      <a:pt x="15178" y="7"/>
                    </a:lnTo>
                    <a:cubicBezTo>
                      <a:pt x="15177" y="7"/>
                      <a:pt x="15176" y="7"/>
                      <a:pt x="15176" y="5"/>
                    </a:cubicBezTo>
                    <a:cubicBezTo>
                      <a:pt x="15176" y="4"/>
                      <a:pt x="15177" y="3"/>
                      <a:pt x="15178" y="3"/>
                    </a:cubicBezTo>
                    <a:close/>
                    <a:moveTo>
                      <a:pt x="15186" y="3"/>
                    </a:moveTo>
                    <a:lnTo>
                      <a:pt x="15186" y="3"/>
                    </a:lnTo>
                    <a:cubicBezTo>
                      <a:pt x="15187" y="3"/>
                      <a:pt x="15188" y="4"/>
                      <a:pt x="15188" y="5"/>
                    </a:cubicBezTo>
                    <a:cubicBezTo>
                      <a:pt x="15188" y="7"/>
                      <a:pt x="15187" y="7"/>
                      <a:pt x="15186" y="7"/>
                    </a:cubicBezTo>
                    <a:lnTo>
                      <a:pt x="15186" y="7"/>
                    </a:lnTo>
                    <a:cubicBezTo>
                      <a:pt x="15185" y="7"/>
                      <a:pt x="15184" y="7"/>
                      <a:pt x="15184" y="5"/>
                    </a:cubicBezTo>
                    <a:cubicBezTo>
                      <a:pt x="15184" y="4"/>
                      <a:pt x="15185" y="3"/>
                      <a:pt x="15186" y="3"/>
                    </a:cubicBezTo>
                    <a:close/>
                    <a:moveTo>
                      <a:pt x="15194" y="3"/>
                    </a:moveTo>
                    <a:lnTo>
                      <a:pt x="15194" y="3"/>
                    </a:lnTo>
                    <a:cubicBezTo>
                      <a:pt x="15195" y="3"/>
                      <a:pt x="15196" y="4"/>
                      <a:pt x="15196" y="5"/>
                    </a:cubicBezTo>
                    <a:cubicBezTo>
                      <a:pt x="15196" y="7"/>
                      <a:pt x="15195" y="7"/>
                      <a:pt x="15194" y="7"/>
                    </a:cubicBezTo>
                    <a:lnTo>
                      <a:pt x="15194" y="7"/>
                    </a:lnTo>
                    <a:cubicBezTo>
                      <a:pt x="15193" y="7"/>
                      <a:pt x="15192" y="7"/>
                      <a:pt x="15192" y="5"/>
                    </a:cubicBezTo>
                    <a:cubicBezTo>
                      <a:pt x="15192" y="4"/>
                      <a:pt x="15193" y="3"/>
                      <a:pt x="15194" y="3"/>
                    </a:cubicBezTo>
                    <a:close/>
                    <a:moveTo>
                      <a:pt x="15202" y="3"/>
                    </a:moveTo>
                    <a:lnTo>
                      <a:pt x="15202" y="3"/>
                    </a:lnTo>
                    <a:cubicBezTo>
                      <a:pt x="15203" y="3"/>
                      <a:pt x="15204" y="4"/>
                      <a:pt x="15204" y="5"/>
                    </a:cubicBezTo>
                    <a:cubicBezTo>
                      <a:pt x="15204" y="7"/>
                      <a:pt x="15203" y="7"/>
                      <a:pt x="15202" y="7"/>
                    </a:cubicBezTo>
                    <a:lnTo>
                      <a:pt x="15202" y="7"/>
                    </a:lnTo>
                    <a:cubicBezTo>
                      <a:pt x="15201" y="7"/>
                      <a:pt x="15200" y="7"/>
                      <a:pt x="15200" y="5"/>
                    </a:cubicBezTo>
                    <a:cubicBezTo>
                      <a:pt x="15200" y="4"/>
                      <a:pt x="15201" y="3"/>
                      <a:pt x="15202" y="3"/>
                    </a:cubicBezTo>
                    <a:close/>
                    <a:moveTo>
                      <a:pt x="15210" y="3"/>
                    </a:moveTo>
                    <a:lnTo>
                      <a:pt x="15210" y="3"/>
                    </a:lnTo>
                    <a:cubicBezTo>
                      <a:pt x="15211" y="3"/>
                      <a:pt x="15212" y="4"/>
                      <a:pt x="15212" y="5"/>
                    </a:cubicBezTo>
                    <a:cubicBezTo>
                      <a:pt x="15212" y="7"/>
                      <a:pt x="15211" y="7"/>
                      <a:pt x="15210" y="7"/>
                    </a:cubicBezTo>
                    <a:lnTo>
                      <a:pt x="15210" y="7"/>
                    </a:lnTo>
                    <a:cubicBezTo>
                      <a:pt x="15209" y="7"/>
                      <a:pt x="15208" y="7"/>
                      <a:pt x="15208" y="5"/>
                    </a:cubicBezTo>
                    <a:cubicBezTo>
                      <a:pt x="15208" y="4"/>
                      <a:pt x="15209" y="3"/>
                      <a:pt x="15210" y="3"/>
                    </a:cubicBezTo>
                    <a:close/>
                    <a:moveTo>
                      <a:pt x="15218" y="3"/>
                    </a:moveTo>
                    <a:lnTo>
                      <a:pt x="15218" y="3"/>
                    </a:lnTo>
                    <a:cubicBezTo>
                      <a:pt x="15219" y="3"/>
                      <a:pt x="15220" y="4"/>
                      <a:pt x="15220" y="5"/>
                    </a:cubicBezTo>
                    <a:cubicBezTo>
                      <a:pt x="15220" y="7"/>
                      <a:pt x="15219" y="7"/>
                      <a:pt x="15218" y="7"/>
                    </a:cubicBezTo>
                    <a:lnTo>
                      <a:pt x="15218" y="7"/>
                    </a:lnTo>
                    <a:cubicBezTo>
                      <a:pt x="15217" y="7"/>
                      <a:pt x="15216" y="7"/>
                      <a:pt x="15216" y="5"/>
                    </a:cubicBezTo>
                    <a:cubicBezTo>
                      <a:pt x="15216" y="4"/>
                      <a:pt x="15217" y="3"/>
                      <a:pt x="15218" y="3"/>
                    </a:cubicBezTo>
                    <a:close/>
                    <a:moveTo>
                      <a:pt x="15226" y="3"/>
                    </a:moveTo>
                    <a:lnTo>
                      <a:pt x="15226" y="3"/>
                    </a:lnTo>
                    <a:cubicBezTo>
                      <a:pt x="15227" y="3"/>
                      <a:pt x="15228" y="4"/>
                      <a:pt x="15228" y="5"/>
                    </a:cubicBezTo>
                    <a:cubicBezTo>
                      <a:pt x="15228" y="7"/>
                      <a:pt x="15227" y="7"/>
                      <a:pt x="15226" y="7"/>
                    </a:cubicBezTo>
                    <a:lnTo>
                      <a:pt x="15226" y="7"/>
                    </a:lnTo>
                    <a:cubicBezTo>
                      <a:pt x="15225" y="7"/>
                      <a:pt x="15224" y="7"/>
                      <a:pt x="15224" y="5"/>
                    </a:cubicBezTo>
                    <a:cubicBezTo>
                      <a:pt x="15224" y="4"/>
                      <a:pt x="15225" y="3"/>
                      <a:pt x="15226" y="3"/>
                    </a:cubicBezTo>
                    <a:close/>
                    <a:moveTo>
                      <a:pt x="15234" y="3"/>
                    </a:moveTo>
                    <a:lnTo>
                      <a:pt x="15234" y="3"/>
                    </a:lnTo>
                    <a:cubicBezTo>
                      <a:pt x="15235" y="3"/>
                      <a:pt x="15236" y="4"/>
                      <a:pt x="15236" y="6"/>
                    </a:cubicBezTo>
                    <a:cubicBezTo>
                      <a:pt x="15236" y="7"/>
                      <a:pt x="15235" y="8"/>
                      <a:pt x="15234" y="8"/>
                    </a:cubicBezTo>
                    <a:lnTo>
                      <a:pt x="15234" y="8"/>
                    </a:lnTo>
                    <a:cubicBezTo>
                      <a:pt x="15233" y="8"/>
                      <a:pt x="15232" y="7"/>
                      <a:pt x="15232" y="6"/>
                    </a:cubicBezTo>
                    <a:cubicBezTo>
                      <a:pt x="15232" y="4"/>
                      <a:pt x="15233" y="3"/>
                      <a:pt x="15234" y="3"/>
                    </a:cubicBezTo>
                    <a:close/>
                    <a:moveTo>
                      <a:pt x="15242" y="4"/>
                    </a:moveTo>
                    <a:lnTo>
                      <a:pt x="15242" y="4"/>
                    </a:lnTo>
                    <a:cubicBezTo>
                      <a:pt x="15243" y="4"/>
                      <a:pt x="15244" y="4"/>
                      <a:pt x="15244" y="6"/>
                    </a:cubicBezTo>
                    <a:cubicBezTo>
                      <a:pt x="15244" y="7"/>
                      <a:pt x="15243" y="8"/>
                      <a:pt x="15242" y="8"/>
                    </a:cubicBezTo>
                    <a:lnTo>
                      <a:pt x="15242" y="8"/>
                    </a:lnTo>
                    <a:cubicBezTo>
                      <a:pt x="15241" y="8"/>
                      <a:pt x="15240" y="7"/>
                      <a:pt x="15240" y="6"/>
                    </a:cubicBezTo>
                    <a:cubicBezTo>
                      <a:pt x="15240" y="4"/>
                      <a:pt x="15241" y="4"/>
                      <a:pt x="15242" y="4"/>
                    </a:cubicBezTo>
                    <a:close/>
                    <a:moveTo>
                      <a:pt x="15250" y="4"/>
                    </a:moveTo>
                    <a:lnTo>
                      <a:pt x="15250" y="4"/>
                    </a:lnTo>
                    <a:cubicBezTo>
                      <a:pt x="15251" y="4"/>
                      <a:pt x="15252" y="4"/>
                      <a:pt x="15252" y="6"/>
                    </a:cubicBezTo>
                    <a:cubicBezTo>
                      <a:pt x="15252" y="7"/>
                      <a:pt x="15251" y="8"/>
                      <a:pt x="15250" y="8"/>
                    </a:cubicBezTo>
                    <a:lnTo>
                      <a:pt x="15250" y="8"/>
                    </a:lnTo>
                    <a:cubicBezTo>
                      <a:pt x="15249" y="8"/>
                      <a:pt x="15248" y="7"/>
                      <a:pt x="15248" y="6"/>
                    </a:cubicBezTo>
                    <a:cubicBezTo>
                      <a:pt x="15248" y="4"/>
                      <a:pt x="15249" y="4"/>
                      <a:pt x="15250" y="4"/>
                    </a:cubicBezTo>
                    <a:close/>
                    <a:moveTo>
                      <a:pt x="15258" y="4"/>
                    </a:moveTo>
                    <a:lnTo>
                      <a:pt x="15258" y="4"/>
                    </a:lnTo>
                    <a:cubicBezTo>
                      <a:pt x="15259" y="4"/>
                      <a:pt x="15260" y="4"/>
                      <a:pt x="15260" y="6"/>
                    </a:cubicBezTo>
                    <a:cubicBezTo>
                      <a:pt x="15260" y="7"/>
                      <a:pt x="15259" y="8"/>
                      <a:pt x="15258" y="8"/>
                    </a:cubicBezTo>
                    <a:lnTo>
                      <a:pt x="15258" y="8"/>
                    </a:lnTo>
                    <a:cubicBezTo>
                      <a:pt x="15257" y="8"/>
                      <a:pt x="15256" y="7"/>
                      <a:pt x="15256" y="6"/>
                    </a:cubicBezTo>
                    <a:cubicBezTo>
                      <a:pt x="15256" y="4"/>
                      <a:pt x="15257" y="4"/>
                      <a:pt x="15258" y="4"/>
                    </a:cubicBezTo>
                    <a:close/>
                    <a:moveTo>
                      <a:pt x="15266" y="4"/>
                    </a:moveTo>
                    <a:lnTo>
                      <a:pt x="15266" y="4"/>
                    </a:lnTo>
                    <a:cubicBezTo>
                      <a:pt x="15267" y="4"/>
                      <a:pt x="15268" y="4"/>
                      <a:pt x="15268" y="6"/>
                    </a:cubicBezTo>
                    <a:cubicBezTo>
                      <a:pt x="15268" y="7"/>
                      <a:pt x="15267" y="8"/>
                      <a:pt x="15266" y="8"/>
                    </a:cubicBezTo>
                    <a:lnTo>
                      <a:pt x="15266" y="8"/>
                    </a:lnTo>
                    <a:cubicBezTo>
                      <a:pt x="15265" y="8"/>
                      <a:pt x="15264" y="7"/>
                      <a:pt x="15264" y="6"/>
                    </a:cubicBezTo>
                    <a:cubicBezTo>
                      <a:pt x="15264" y="4"/>
                      <a:pt x="15265" y="4"/>
                      <a:pt x="15266" y="4"/>
                    </a:cubicBezTo>
                    <a:close/>
                    <a:moveTo>
                      <a:pt x="15274" y="4"/>
                    </a:moveTo>
                    <a:lnTo>
                      <a:pt x="15274" y="4"/>
                    </a:lnTo>
                    <a:cubicBezTo>
                      <a:pt x="15275" y="4"/>
                      <a:pt x="15276" y="4"/>
                      <a:pt x="15276" y="6"/>
                    </a:cubicBezTo>
                    <a:cubicBezTo>
                      <a:pt x="15276" y="7"/>
                      <a:pt x="15275" y="8"/>
                      <a:pt x="15274" y="8"/>
                    </a:cubicBezTo>
                    <a:lnTo>
                      <a:pt x="15274" y="8"/>
                    </a:lnTo>
                    <a:cubicBezTo>
                      <a:pt x="15273" y="8"/>
                      <a:pt x="15272" y="7"/>
                      <a:pt x="15272" y="6"/>
                    </a:cubicBezTo>
                    <a:cubicBezTo>
                      <a:pt x="15272" y="4"/>
                      <a:pt x="15273" y="4"/>
                      <a:pt x="15274" y="4"/>
                    </a:cubicBezTo>
                    <a:close/>
                    <a:moveTo>
                      <a:pt x="15282" y="4"/>
                    </a:moveTo>
                    <a:lnTo>
                      <a:pt x="15282" y="4"/>
                    </a:lnTo>
                    <a:cubicBezTo>
                      <a:pt x="15283" y="4"/>
                      <a:pt x="15284" y="4"/>
                      <a:pt x="15284" y="6"/>
                    </a:cubicBezTo>
                    <a:cubicBezTo>
                      <a:pt x="15284" y="7"/>
                      <a:pt x="15283" y="8"/>
                      <a:pt x="15282" y="8"/>
                    </a:cubicBezTo>
                    <a:lnTo>
                      <a:pt x="15282" y="8"/>
                    </a:lnTo>
                    <a:cubicBezTo>
                      <a:pt x="15281" y="8"/>
                      <a:pt x="15280" y="7"/>
                      <a:pt x="15280" y="6"/>
                    </a:cubicBezTo>
                    <a:cubicBezTo>
                      <a:pt x="15280" y="4"/>
                      <a:pt x="15281" y="4"/>
                      <a:pt x="15282" y="4"/>
                    </a:cubicBezTo>
                    <a:close/>
                    <a:moveTo>
                      <a:pt x="15290" y="4"/>
                    </a:moveTo>
                    <a:lnTo>
                      <a:pt x="15290" y="4"/>
                    </a:lnTo>
                    <a:cubicBezTo>
                      <a:pt x="15291" y="4"/>
                      <a:pt x="15292" y="4"/>
                      <a:pt x="15292" y="6"/>
                    </a:cubicBezTo>
                    <a:cubicBezTo>
                      <a:pt x="15292" y="7"/>
                      <a:pt x="15291" y="8"/>
                      <a:pt x="15290" y="8"/>
                    </a:cubicBezTo>
                    <a:lnTo>
                      <a:pt x="15290" y="8"/>
                    </a:lnTo>
                    <a:cubicBezTo>
                      <a:pt x="15289" y="8"/>
                      <a:pt x="15288" y="7"/>
                      <a:pt x="15288" y="6"/>
                    </a:cubicBezTo>
                    <a:cubicBezTo>
                      <a:pt x="15288" y="4"/>
                      <a:pt x="15289" y="4"/>
                      <a:pt x="15290" y="4"/>
                    </a:cubicBezTo>
                    <a:close/>
                    <a:moveTo>
                      <a:pt x="15298" y="4"/>
                    </a:moveTo>
                    <a:lnTo>
                      <a:pt x="15298" y="4"/>
                    </a:lnTo>
                    <a:cubicBezTo>
                      <a:pt x="15299" y="4"/>
                      <a:pt x="15300" y="4"/>
                      <a:pt x="15300" y="6"/>
                    </a:cubicBezTo>
                    <a:cubicBezTo>
                      <a:pt x="15300" y="7"/>
                      <a:pt x="15299" y="8"/>
                      <a:pt x="15298" y="8"/>
                    </a:cubicBezTo>
                    <a:lnTo>
                      <a:pt x="15298" y="8"/>
                    </a:lnTo>
                    <a:cubicBezTo>
                      <a:pt x="15297" y="8"/>
                      <a:pt x="15296" y="7"/>
                      <a:pt x="15296" y="6"/>
                    </a:cubicBezTo>
                    <a:cubicBezTo>
                      <a:pt x="15296" y="4"/>
                      <a:pt x="15297" y="4"/>
                      <a:pt x="15298" y="4"/>
                    </a:cubicBezTo>
                    <a:close/>
                    <a:moveTo>
                      <a:pt x="15306" y="4"/>
                    </a:moveTo>
                    <a:lnTo>
                      <a:pt x="15306" y="4"/>
                    </a:lnTo>
                    <a:cubicBezTo>
                      <a:pt x="15307" y="4"/>
                      <a:pt x="15308" y="4"/>
                      <a:pt x="15308" y="6"/>
                    </a:cubicBezTo>
                    <a:cubicBezTo>
                      <a:pt x="15308" y="7"/>
                      <a:pt x="15307" y="8"/>
                      <a:pt x="15306" y="8"/>
                    </a:cubicBezTo>
                    <a:lnTo>
                      <a:pt x="15306" y="8"/>
                    </a:lnTo>
                    <a:cubicBezTo>
                      <a:pt x="15305" y="8"/>
                      <a:pt x="15304" y="7"/>
                      <a:pt x="15304" y="6"/>
                    </a:cubicBezTo>
                    <a:cubicBezTo>
                      <a:pt x="15304" y="4"/>
                      <a:pt x="15305" y="4"/>
                      <a:pt x="15306" y="4"/>
                    </a:cubicBezTo>
                    <a:close/>
                    <a:moveTo>
                      <a:pt x="15314" y="4"/>
                    </a:moveTo>
                    <a:lnTo>
                      <a:pt x="15314" y="4"/>
                    </a:lnTo>
                    <a:cubicBezTo>
                      <a:pt x="15315" y="4"/>
                      <a:pt x="15316" y="4"/>
                      <a:pt x="15316" y="6"/>
                    </a:cubicBezTo>
                    <a:cubicBezTo>
                      <a:pt x="15316" y="7"/>
                      <a:pt x="15315" y="8"/>
                      <a:pt x="15314" y="8"/>
                    </a:cubicBezTo>
                    <a:lnTo>
                      <a:pt x="15314" y="8"/>
                    </a:lnTo>
                    <a:cubicBezTo>
                      <a:pt x="15313" y="8"/>
                      <a:pt x="15312" y="7"/>
                      <a:pt x="15312" y="6"/>
                    </a:cubicBezTo>
                    <a:cubicBezTo>
                      <a:pt x="15312" y="4"/>
                      <a:pt x="15313" y="4"/>
                      <a:pt x="15314" y="4"/>
                    </a:cubicBezTo>
                    <a:close/>
                    <a:moveTo>
                      <a:pt x="15322" y="4"/>
                    </a:moveTo>
                    <a:lnTo>
                      <a:pt x="15322" y="4"/>
                    </a:lnTo>
                    <a:cubicBezTo>
                      <a:pt x="15323" y="4"/>
                      <a:pt x="15324" y="4"/>
                      <a:pt x="15324" y="6"/>
                    </a:cubicBezTo>
                    <a:cubicBezTo>
                      <a:pt x="15324" y="7"/>
                      <a:pt x="15323" y="8"/>
                      <a:pt x="15322" y="8"/>
                    </a:cubicBezTo>
                    <a:lnTo>
                      <a:pt x="15322" y="8"/>
                    </a:lnTo>
                    <a:cubicBezTo>
                      <a:pt x="15321" y="8"/>
                      <a:pt x="15320" y="7"/>
                      <a:pt x="15320" y="6"/>
                    </a:cubicBezTo>
                    <a:cubicBezTo>
                      <a:pt x="15320" y="4"/>
                      <a:pt x="15321" y="4"/>
                      <a:pt x="15322" y="4"/>
                    </a:cubicBezTo>
                    <a:close/>
                    <a:moveTo>
                      <a:pt x="15330" y="4"/>
                    </a:moveTo>
                    <a:lnTo>
                      <a:pt x="15330" y="4"/>
                    </a:lnTo>
                    <a:cubicBezTo>
                      <a:pt x="15331" y="4"/>
                      <a:pt x="15332" y="4"/>
                      <a:pt x="15332" y="6"/>
                    </a:cubicBezTo>
                    <a:cubicBezTo>
                      <a:pt x="15332" y="7"/>
                      <a:pt x="15331" y="8"/>
                      <a:pt x="15330" y="8"/>
                    </a:cubicBezTo>
                    <a:lnTo>
                      <a:pt x="15330" y="8"/>
                    </a:lnTo>
                    <a:cubicBezTo>
                      <a:pt x="15329" y="8"/>
                      <a:pt x="15328" y="7"/>
                      <a:pt x="15328" y="6"/>
                    </a:cubicBezTo>
                    <a:cubicBezTo>
                      <a:pt x="15328" y="4"/>
                      <a:pt x="15329" y="4"/>
                      <a:pt x="15330" y="4"/>
                    </a:cubicBezTo>
                    <a:close/>
                    <a:moveTo>
                      <a:pt x="15338" y="4"/>
                    </a:moveTo>
                    <a:lnTo>
                      <a:pt x="15338" y="4"/>
                    </a:lnTo>
                    <a:cubicBezTo>
                      <a:pt x="15339" y="4"/>
                      <a:pt x="15340" y="4"/>
                      <a:pt x="15340" y="6"/>
                    </a:cubicBezTo>
                    <a:cubicBezTo>
                      <a:pt x="15340" y="7"/>
                      <a:pt x="15339" y="8"/>
                      <a:pt x="15338" y="8"/>
                    </a:cubicBezTo>
                    <a:lnTo>
                      <a:pt x="15338" y="8"/>
                    </a:lnTo>
                    <a:cubicBezTo>
                      <a:pt x="15337" y="8"/>
                      <a:pt x="15336" y="7"/>
                      <a:pt x="15336" y="6"/>
                    </a:cubicBezTo>
                    <a:cubicBezTo>
                      <a:pt x="15336" y="4"/>
                      <a:pt x="15337" y="4"/>
                      <a:pt x="15338" y="4"/>
                    </a:cubicBezTo>
                    <a:close/>
                    <a:moveTo>
                      <a:pt x="15346" y="4"/>
                    </a:moveTo>
                    <a:lnTo>
                      <a:pt x="15346" y="4"/>
                    </a:lnTo>
                    <a:cubicBezTo>
                      <a:pt x="15347" y="4"/>
                      <a:pt x="15348" y="4"/>
                      <a:pt x="15348" y="6"/>
                    </a:cubicBezTo>
                    <a:cubicBezTo>
                      <a:pt x="15348" y="7"/>
                      <a:pt x="15347" y="8"/>
                      <a:pt x="15346" y="8"/>
                    </a:cubicBezTo>
                    <a:lnTo>
                      <a:pt x="15346" y="8"/>
                    </a:lnTo>
                    <a:cubicBezTo>
                      <a:pt x="15345" y="8"/>
                      <a:pt x="15344" y="7"/>
                      <a:pt x="15344" y="6"/>
                    </a:cubicBezTo>
                    <a:cubicBezTo>
                      <a:pt x="15344" y="4"/>
                      <a:pt x="15345" y="4"/>
                      <a:pt x="15346" y="4"/>
                    </a:cubicBezTo>
                    <a:close/>
                    <a:moveTo>
                      <a:pt x="15354" y="4"/>
                    </a:moveTo>
                    <a:lnTo>
                      <a:pt x="15354" y="4"/>
                    </a:lnTo>
                    <a:cubicBezTo>
                      <a:pt x="15355" y="4"/>
                      <a:pt x="15356" y="4"/>
                      <a:pt x="15356" y="6"/>
                    </a:cubicBezTo>
                    <a:cubicBezTo>
                      <a:pt x="15356" y="7"/>
                      <a:pt x="15355" y="8"/>
                      <a:pt x="15354" y="8"/>
                    </a:cubicBezTo>
                    <a:lnTo>
                      <a:pt x="15354" y="8"/>
                    </a:lnTo>
                    <a:cubicBezTo>
                      <a:pt x="15353" y="8"/>
                      <a:pt x="15352" y="7"/>
                      <a:pt x="15352" y="6"/>
                    </a:cubicBezTo>
                    <a:cubicBezTo>
                      <a:pt x="15352" y="4"/>
                      <a:pt x="15353" y="4"/>
                      <a:pt x="15354" y="4"/>
                    </a:cubicBezTo>
                    <a:close/>
                    <a:moveTo>
                      <a:pt x="15362" y="4"/>
                    </a:moveTo>
                    <a:lnTo>
                      <a:pt x="15362" y="4"/>
                    </a:lnTo>
                    <a:cubicBezTo>
                      <a:pt x="15363" y="4"/>
                      <a:pt x="15364" y="4"/>
                      <a:pt x="15364" y="6"/>
                    </a:cubicBezTo>
                    <a:cubicBezTo>
                      <a:pt x="15364" y="7"/>
                      <a:pt x="15363" y="8"/>
                      <a:pt x="15362" y="8"/>
                    </a:cubicBezTo>
                    <a:lnTo>
                      <a:pt x="15362" y="8"/>
                    </a:lnTo>
                    <a:cubicBezTo>
                      <a:pt x="15361" y="8"/>
                      <a:pt x="15360" y="7"/>
                      <a:pt x="15360" y="6"/>
                    </a:cubicBezTo>
                    <a:cubicBezTo>
                      <a:pt x="15360" y="4"/>
                      <a:pt x="15361" y="4"/>
                      <a:pt x="15362" y="4"/>
                    </a:cubicBezTo>
                    <a:close/>
                    <a:moveTo>
                      <a:pt x="15370" y="4"/>
                    </a:moveTo>
                    <a:lnTo>
                      <a:pt x="15370" y="4"/>
                    </a:lnTo>
                    <a:cubicBezTo>
                      <a:pt x="15371" y="4"/>
                      <a:pt x="15372" y="4"/>
                      <a:pt x="15372" y="6"/>
                    </a:cubicBezTo>
                    <a:cubicBezTo>
                      <a:pt x="15372" y="7"/>
                      <a:pt x="15371" y="8"/>
                      <a:pt x="15370" y="8"/>
                    </a:cubicBezTo>
                    <a:lnTo>
                      <a:pt x="15370" y="8"/>
                    </a:lnTo>
                    <a:cubicBezTo>
                      <a:pt x="15369" y="8"/>
                      <a:pt x="15368" y="7"/>
                      <a:pt x="15368" y="6"/>
                    </a:cubicBezTo>
                    <a:cubicBezTo>
                      <a:pt x="15368" y="4"/>
                      <a:pt x="15369" y="4"/>
                      <a:pt x="15370" y="4"/>
                    </a:cubicBezTo>
                    <a:close/>
                    <a:moveTo>
                      <a:pt x="15378" y="4"/>
                    </a:moveTo>
                    <a:lnTo>
                      <a:pt x="15378" y="4"/>
                    </a:lnTo>
                    <a:cubicBezTo>
                      <a:pt x="15379" y="4"/>
                      <a:pt x="15380" y="4"/>
                      <a:pt x="15380" y="6"/>
                    </a:cubicBezTo>
                    <a:cubicBezTo>
                      <a:pt x="15380" y="7"/>
                      <a:pt x="15379" y="8"/>
                      <a:pt x="15378" y="8"/>
                    </a:cubicBezTo>
                    <a:lnTo>
                      <a:pt x="15378" y="8"/>
                    </a:lnTo>
                    <a:cubicBezTo>
                      <a:pt x="15377" y="8"/>
                      <a:pt x="15376" y="7"/>
                      <a:pt x="15376" y="6"/>
                    </a:cubicBezTo>
                    <a:cubicBezTo>
                      <a:pt x="15376" y="4"/>
                      <a:pt x="15377" y="4"/>
                      <a:pt x="15378" y="4"/>
                    </a:cubicBezTo>
                    <a:close/>
                    <a:moveTo>
                      <a:pt x="15386" y="4"/>
                    </a:moveTo>
                    <a:lnTo>
                      <a:pt x="15386" y="4"/>
                    </a:lnTo>
                    <a:cubicBezTo>
                      <a:pt x="15387" y="4"/>
                      <a:pt x="15388" y="4"/>
                      <a:pt x="15388" y="6"/>
                    </a:cubicBezTo>
                    <a:cubicBezTo>
                      <a:pt x="15388" y="7"/>
                      <a:pt x="15387" y="8"/>
                      <a:pt x="15386" y="8"/>
                    </a:cubicBezTo>
                    <a:lnTo>
                      <a:pt x="15386" y="8"/>
                    </a:lnTo>
                    <a:cubicBezTo>
                      <a:pt x="15385" y="8"/>
                      <a:pt x="15384" y="7"/>
                      <a:pt x="15384" y="6"/>
                    </a:cubicBezTo>
                    <a:cubicBezTo>
                      <a:pt x="15384" y="4"/>
                      <a:pt x="15385" y="4"/>
                      <a:pt x="15386" y="4"/>
                    </a:cubicBezTo>
                    <a:close/>
                    <a:moveTo>
                      <a:pt x="15394" y="4"/>
                    </a:moveTo>
                    <a:lnTo>
                      <a:pt x="15394" y="4"/>
                    </a:lnTo>
                    <a:cubicBezTo>
                      <a:pt x="15395" y="4"/>
                      <a:pt x="15396" y="4"/>
                      <a:pt x="15396" y="6"/>
                    </a:cubicBezTo>
                    <a:cubicBezTo>
                      <a:pt x="15396" y="7"/>
                      <a:pt x="15395" y="8"/>
                      <a:pt x="15394" y="8"/>
                    </a:cubicBezTo>
                    <a:lnTo>
                      <a:pt x="15394" y="8"/>
                    </a:lnTo>
                    <a:cubicBezTo>
                      <a:pt x="15393" y="8"/>
                      <a:pt x="15392" y="7"/>
                      <a:pt x="15392" y="6"/>
                    </a:cubicBezTo>
                    <a:cubicBezTo>
                      <a:pt x="15392" y="4"/>
                      <a:pt x="15393" y="4"/>
                      <a:pt x="15394" y="4"/>
                    </a:cubicBezTo>
                    <a:close/>
                    <a:moveTo>
                      <a:pt x="15402" y="4"/>
                    </a:moveTo>
                    <a:lnTo>
                      <a:pt x="15402" y="4"/>
                    </a:lnTo>
                    <a:cubicBezTo>
                      <a:pt x="15403" y="4"/>
                      <a:pt x="15404" y="4"/>
                      <a:pt x="15404" y="6"/>
                    </a:cubicBezTo>
                    <a:cubicBezTo>
                      <a:pt x="15404" y="7"/>
                      <a:pt x="15403" y="8"/>
                      <a:pt x="15402" y="8"/>
                    </a:cubicBezTo>
                    <a:lnTo>
                      <a:pt x="15402" y="8"/>
                    </a:lnTo>
                    <a:cubicBezTo>
                      <a:pt x="15401" y="8"/>
                      <a:pt x="15400" y="7"/>
                      <a:pt x="15400" y="6"/>
                    </a:cubicBezTo>
                    <a:cubicBezTo>
                      <a:pt x="15400" y="4"/>
                      <a:pt x="15401" y="4"/>
                      <a:pt x="15402" y="4"/>
                    </a:cubicBezTo>
                    <a:close/>
                    <a:moveTo>
                      <a:pt x="15410" y="4"/>
                    </a:moveTo>
                    <a:lnTo>
                      <a:pt x="15410" y="4"/>
                    </a:lnTo>
                    <a:cubicBezTo>
                      <a:pt x="15411" y="4"/>
                      <a:pt x="15412" y="4"/>
                      <a:pt x="15412" y="6"/>
                    </a:cubicBezTo>
                    <a:cubicBezTo>
                      <a:pt x="15412" y="7"/>
                      <a:pt x="15411" y="8"/>
                      <a:pt x="15410" y="8"/>
                    </a:cubicBezTo>
                    <a:lnTo>
                      <a:pt x="15410" y="8"/>
                    </a:lnTo>
                    <a:cubicBezTo>
                      <a:pt x="15409" y="8"/>
                      <a:pt x="15408" y="7"/>
                      <a:pt x="15408" y="6"/>
                    </a:cubicBezTo>
                    <a:cubicBezTo>
                      <a:pt x="15408" y="4"/>
                      <a:pt x="15409" y="4"/>
                      <a:pt x="15410" y="4"/>
                    </a:cubicBezTo>
                    <a:close/>
                    <a:moveTo>
                      <a:pt x="15418" y="4"/>
                    </a:moveTo>
                    <a:lnTo>
                      <a:pt x="15418" y="4"/>
                    </a:lnTo>
                    <a:cubicBezTo>
                      <a:pt x="15419" y="4"/>
                      <a:pt x="15420" y="4"/>
                      <a:pt x="15420" y="6"/>
                    </a:cubicBezTo>
                    <a:cubicBezTo>
                      <a:pt x="15420" y="7"/>
                      <a:pt x="15419" y="8"/>
                      <a:pt x="15418" y="8"/>
                    </a:cubicBezTo>
                    <a:lnTo>
                      <a:pt x="15418" y="8"/>
                    </a:lnTo>
                    <a:cubicBezTo>
                      <a:pt x="15417" y="8"/>
                      <a:pt x="15416" y="7"/>
                      <a:pt x="15416" y="6"/>
                    </a:cubicBezTo>
                    <a:cubicBezTo>
                      <a:pt x="15416" y="4"/>
                      <a:pt x="15417" y="4"/>
                      <a:pt x="15418" y="4"/>
                    </a:cubicBezTo>
                    <a:close/>
                    <a:moveTo>
                      <a:pt x="15426" y="4"/>
                    </a:moveTo>
                    <a:lnTo>
                      <a:pt x="15426" y="4"/>
                    </a:lnTo>
                    <a:cubicBezTo>
                      <a:pt x="15427" y="4"/>
                      <a:pt x="15428" y="4"/>
                      <a:pt x="15428" y="6"/>
                    </a:cubicBezTo>
                    <a:cubicBezTo>
                      <a:pt x="15428" y="7"/>
                      <a:pt x="15427" y="8"/>
                      <a:pt x="15426" y="8"/>
                    </a:cubicBezTo>
                    <a:lnTo>
                      <a:pt x="15426" y="8"/>
                    </a:lnTo>
                    <a:cubicBezTo>
                      <a:pt x="15425" y="8"/>
                      <a:pt x="15424" y="7"/>
                      <a:pt x="15424" y="6"/>
                    </a:cubicBezTo>
                    <a:cubicBezTo>
                      <a:pt x="15424" y="4"/>
                      <a:pt x="15425" y="4"/>
                      <a:pt x="15426" y="4"/>
                    </a:cubicBezTo>
                    <a:close/>
                    <a:moveTo>
                      <a:pt x="15434" y="4"/>
                    </a:moveTo>
                    <a:lnTo>
                      <a:pt x="15434" y="4"/>
                    </a:lnTo>
                    <a:cubicBezTo>
                      <a:pt x="15435" y="4"/>
                      <a:pt x="15436" y="4"/>
                      <a:pt x="15436" y="6"/>
                    </a:cubicBezTo>
                    <a:cubicBezTo>
                      <a:pt x="15436" y="7"/>
                      <a:pt x="15435" y="8"/>
                      <a:pt x="15434" y="8"/>
                    </a:cubicBezTo>
                    <a:lnTo>
                      <a:pt x="15434" y="8"/>
                    </a:lnTo>
                    <a:cubicBezTo>
                      <a:pt x="15433" y="8"/>
                      <a:pt x="15432" y="7"/>
                      <a:pt x="15432" y="6"/>
                    </a:cubicBezTo>
                    <a:cubicBezTo>
                      <a:pt x="15432" y="4"/>
                      <a:pt x="15433" y="4"/>
                      <a:pt x="15434" y="4"/>
                    </a:cubicBezTo>
                    <a:close/>
                    <a:moveTo>
                      <a:pt x="15442" y="4"/>
                    </a:moveTo>
                    <a:lnTo>
                      <a:pt x="15442" y="4"/>
                    </a:lnTo>
                    <a:cubicBezTo>
                      <a:pt x="15443" y="4"/>
                      <a:pt x="15444" y="4"/>
                      <a:pt x="15444" y="6"/>
                    </a:cubicBezTo>
                    <a:cubicBezTo>
                      <a:pt x="15444" y="7"/>
                      <a:pt x="15443" y="8"/>
                      <a:pt x="15442" y="8"/>
                    </a:cubicBezTo>
                    <a:lnTo>
                      <a:pt x="15442" y="8"/>
                    </a:lnTo>
                    <a:cubicBezTo>
                      <a:pt x="15441" y="8"/>
                      <a:pt x="15440" y="7"/>
                      <a:pt x="15440" y="6"/>
                    </a:cubicBezTo>
                    <a:cubicBezTo>
                      <a:pt x="15440" y="4"/>
                      <a:pt x="15441" y="4"/>
                      <a:pt x="15442" y="4"/>
                    </a:cubicBezTo>
                    <a:close/>
                    <a:moveTo>
                      <a:pt x="15450" y="4"/>
                    </a:moveTo>
                    <a:lnTo>
                      <a:pt x="15450" y="4"/>
                    </a:lnTo>
                    <a:cubicBezTo>
                      <a:pt x="15451" y="4"/>
                      <a:pt x="15452" y="4"/>
                      <a:pt x="15452" y="6"/>
                    </a:cubicBezTo>
                    <a:cubicBezTo>
                      <a:pt x="15452" y="7"/>
                      <a:pt x="15451" y="8"/>
                      <a:pt x="15450" y="8"/>
                    </a:cubicBezTo>
                    <a:lnTo>
                      <a:pt x="15450" y="8"/>
                    </a:lnTo>
                    <a:cubicBezTo>
                      <a:pt x="15449" y="8"/>
                      <a:pt x="15448" y="7"/>
                      <a:pt x="15448" y="6"/>
                    </a:cubicBezTo>
                    <a:cubicBezTo>
                      <a:pt x="15448" y="4"/>
                      <a:pt x="15449" y="4"/>
                      <a:pt x="15450" y="4"/>
                    </a:cubicBezTo>
                    <a:close/>
                    <a:moveTo>
                      <a:pt x="15458" y="4"/>
                    </a:moveTo>
                    <a:lnTo>
                      <a:pt x="15458" y="4"/>
                    </a:lnTo>
                    <a:cubicBezTo>
                      <a:pt x="15459" y="4"/>
                      <a:pt x="15460" y="4"/>
                      <a:pt x="15460" y="6"/>
                    </a:cubicBezTo>
                    <a:cubicBezTo>
                      <a:pt x="15460" y="7"/>
                      <a:pt x="15459" y="8"/>
                      <a:pt x="15458" y="8"/>
                    </a:cubicBezTo>
                    <a:lnTo>
                      <a:pt x="15458" y="8"/>
                    </a:lnTo>
                    <a:cubicBezTo>
                      <a:pt x="15457" y="8"/>
                      <a:pt x="15456" y="7"/>
                      <a:pt x="15456" y="6"/>
                    </a:cubicBezTo>
                    <a:cubicBezTo>
                      <a:pt x="15456" y="4"/>
                      <a:pt x="15457" y="4"/>
                      <a:pt x="15458" y="4"/>
                    </a:cubicBezTo>
                    <a:close/>
                    <a:moveTo>
                      <a:pt x="15466" y="4"/>
                    </a:moveTo>
                    <a:lnTo>
                      <a:pt x="15466" y="4"/>
                    </a:lnTo>
                    <a:cubicBezTo>
                      <a:pt x="15467" y="4"/>
                      <a:pt x="15468" y="4"/>
                      <a:pt x="15468" y="6"/>
                    </a:cubicBezTo>
                    <a:cubicBezTo>
                      <a:pt x="15468" y="7"/>
                      <a:pt x="15467" y="8"/>
                      <a:pt x="15466" y="8"/>
                    </a:cubicBezTo>
                    <a:lnTo>
                      <a:pt x="15466" y="8"/>
                    </a:lnTo>
                    <a:cubicBezTo>
                      <a:pt x="15465" y="8"/>
                      <a:pt x="15464" y="7"/>
                      <a:pt x="15464" y="6"/>
                    </a:cubicBezTo>
                    <a:cubicBezTo>
                      <a:pt x="15464" y="4"/>
                      <a:pt x="15465" y="4"/>
                      <a:pt x="15466" y="4"/>
                    </a:cubicBezTo>
                    <a:close/>
                    <a:moveTo>
                      <a:pt x="15474" y="4"/>
                    </a:moveTo>
                    <a:lnTo>
                      <a:pt x="15474" y="4"/>
                    </a:lnTo>
                    <a:cubicBezTo>
                      <a:pt x="15475" y="4"/>
                      <a:pt x="15476" y="4"/>
                      <a:pt x="15476" y="6"/>
                    </a:cubicBezTo>
                    <a:cubicBezTo>
                      <a:pt x="15476" y="7"/>
                      <a:pt x="15475" y="8"/>
                      <a:pt x="15474" y="8"/>
                    </a:cubicBezTo>
                    <a:lnTo>
                      <a:pt x="15474" y="8"/>
                    </a:lnTo>
                    <a:cubicBezTo>
                      <a:pt x="15473" y="8"/>
                      <a:pt x="15472" y="7"/>
                      <a:pt x="15472" y="6"/>
                    </a:cubicBezTo>
                    <a:cubicBezTo>
                      <a:pt x="15472" y="4"/>
                      <a:pt x="15473" y="4"/>
                      <a:pt x="15474" y="4"/>
                    </a:cubicBezTo>
                    <a:close/>
                    <a:moveTo>
                      <a:pt x="15482" y="4"/>
                    </a:moveTo>
                    <a:lnTo>
                      <a:pt x="15482" y="4"/>
                    </a:lnTo>
                    <a:cubicBezTo>
                      <a:pt x="15483" y="4"/>
                      <a:pt x="15484" y="4"/>
                      <a:pt x="15484" y="6"/>
                    </a:cubicBezTo>
                    <a:cubicBezTo>
                      <a:pt x="15484" y="7"/>
                      <a:pt x="15483" y="8"/>
                      <a:pt x="15482" y="8"/>
                    </a:cubicBezTo>
                    <a:lnTo>
                      <a:pt x="15482" y="8"/>
                    </a:lnTo>
                    <a:cubicBezTo>
                      <a:pt x="15481" y="8"/>
                      <a:pt x="15480" y="7"/>
                      <a:pt x="15480" y="6"/>
                    </a:cubicBezTo>
                    <a:cubicBezTo>
                      <a:pt x="15480" y="4"/>
                      <a:pt x="15481" y="4"/>
                      <a:pt x="15482" y="4"/>
                    </a:cubicBezTo>
                    <a:close/>
                    <a:moveTo>
                      <a:pt x="15490" y="4"/>
                    </a:moveTo>
                    <a:lnTo>
                      <a:pt x="15490" y="4"/>
                    </a:lnTo>
                    <a:cubicBezTo>
                      <a:pt x="15491" y="4"/>
                      <a:pt x="15492" y="4"/>
                      <a:pt x="15492" y="6"/>
                    </a:cubicBezTo>
                    <a:cubicBezTo>
                      <a:pt x="15492" y="7"/>
                      <a:pt x="15491" y="8"/>
                      <a:pt x="15490" y="8"/>
                    </a:cubicBezTo>
                    <a:lnTo>
                      <a:pt x="15490" y="8"/>
                    </a:lnTo>
                    <a:cubicBezTo>
                      <a:pt x="15489" y="8"/>
                      <a:pt x="15488" y="7"/>
                      <a:pt x="15488" y="6"/>
                    </a:cubicBezTo>
                    <a:cubicBezTo>
                      <a:pt x="15488" y="4"/>
                      <a:pt x="15489" y="4"/>
                      <a:pt x="15490" y="4"/>
                    </a:cubicBezTo>
                    <a:close/>
                    <a:moveTo>
                      <a:pt x="15498" y="4"/>
                    </a:moveTo>
                    <a:lnTo>
                      <a:pt x="15498" y="4"/>
                    </a:lnTo>
                    <a:cubicBezTo>
                      <a:pt x="15499" y="4"/>
                      <a:pt x="15500" y="4"/>
                      <a:pt x="15500" y="6"/>
                    </a:cubicBezTo>
                    <a:cubicBezTo>
                      <a:pt x="15500" y="7"/>
                      <a:pt x="15499" y="8"/>
                      <a:pt x="15498" y="8"/>
                    </a:cubicBezTo>
                    <a:lnTo>
                      <a:pt x="15498" y="8"/>
                    </a:lnTo>
                    <a:cubicBezTo>
                      <a:pt x="15497" y="8"/>
                      <a:pt x="15496" y="7"/>
                      <a:pt x="15496" y="6"/>
                    </a:cubicBezTo>
                    <a:cubicBezTo>
                      <a:pt x="15496" y="4"/>
                      <a:pt x="15497" y="4"/>
                      <a:pt x="15498" y="4"/>
                    </a:cubicBezTo>
                    <a:close/>
                    <a:moveTo>
                      <a:pt x="15506" y="4"/>
                    </a:moveTo>
                    <a:lnTo>
                      <a:pt x="15506" y="4"/>
                    </a:lnTo>
                    <a:cubicBezTo>
                      <a:pt x="15507" y="4"/>
                      <a:pt x="15508" y="4"/>
                      <a:pt x="15508" y="6"/>
                    </a:cubicBezTo>
                    <a:cubicBezTo>
                      <a:pt x="15508" y="7"/>
                      <a:pt x="15507" y="8"/>
                      <a:pt x="15506" y="8"/>
                    </a:cubicBezTo>
                    <a:lnTo>
                      <a:pt x="15506" y="8"/>
                    </a:lnTo>
                    <a:cubicBezTo>
                      <a:pt x="15505" y="8"/>
                      <a:pt x="15504" y="7"/>
                      <a:pt x="15504" y="6"/>
                    </a:cubicBezTo>
                    <a:cubicBezTo>
                      <a:pt x="15504" y="4"/>
                      <a:pt x="15505" y="4"/>
                      <a:pt x="15506" y="4"/>
                    </a:cubicBezTo>
                    <a:close/>
                    <a:moveTo>
                      <a:pt x="15514" y="4"/>
                    </a:moveTo>
                    <a:lnTo>
                      <a:pt x="15514" y="4"/>
                    </a:lnTo>
                    <a:cubicBezTo>
                      <a:pt x="15515" y="4"/>
                      <a:pt x="15516" y="4"/>
                      <a:pt x="15516" y="6"/>
                    </a:cubicBezTo>
                    <a:cubicBezTo>
                      <a:pt x="15516" y="7"/>
                      <a:pt x="15515" y="8"/>
                      <a:pt x="15514" y="8"/>
                    </a:cubicBezTo>
                    <a:lnTo>
                      <a:pt x="15514" y="8"/>
                    </a:lnTo>
                    <a:cubicBezTo>
                      <a:pt x="15513" y="8"/>
                      <a:pt x="15512" y="7"/>
                      <a:pt x="15512" y="6"/>
                    </a:cubicBezTo>
                    <a:cubicBezTo>
                      <a:pt x="15512" y="4"/>
                      <a:pt x="15513" y="4"/>
                      <a:pt x="15514" y="4"/>
                    </a:cubicBezTo>
                    <a:close/>
                    <a:moveTo>
                      <a:pt x="15522" y="4"/>
                    </a:moveTo>
                    <a:lnTo>
                      <a:pt x="15522" y="4"/>
                    </a:lnTo>
                    <a:cubicBezTo>
                      <a:pt x="15523" y="4"/>
                      <a:pt x="15524" y="4"/>
                      <a:pt x="15524" y="6"/>
                    </a:cubicBezTo>
                    <a:cubicBezTo>
                      <a:pt x="15524" y="7"/>
                      <a:pt x="15523" y="8"/>
                      <a:pt x="15522" y="8"/>
                    </a:cubicBezTo>
                    <a:lnTo>
                      <a:pt x="15522" y="8"/>
                    </a:lnTo>
                    <a:cubicBezTo>
                      <a:pt x="15521" y="8"/>
                      <a:pt x="15520" y="7"/>
                      <a:pt x="15520" y="6"/>
                    </a:cubicBezTo>
                    <a:cubicBezTo>
                      <a:pt x="15520" y="4"/>
                      <a:pt x="15521" y="4"/>
                      <a:pt x="15522" y="4"/>
                    </a:cubicBezTo>
                    <a:close/>
                    <a:moveTo>
                      <a:pt x="15530" y="4"/>
                    </a:moveTo>
                    <a:lnTo>
                      <a:pt x="15530" y="4"/>
                    </a:lnTo>
                    <a:cubicBezTo>
                      <a:pt x="15532" y="4"/>
                      <a:pt x="15532" y="4"/>
                      <a:pt x="15532" y="6"/>
                    </a:cubicBezTo>
                    <a:cubicBezTo>
                      <a:pt x="15532" y="7"/>
                      <a:pt x="15532" y="8"/>
                      <a:pt x="15530" y="8"/>
                    </a:cubicBezTo>
                    <a:lnTo>
                      <a:pt x="15530" y="8"/>
                    </a:lnTo>
                    <a:cubicBezTo>
                      <a:pt x="15529" y="8"/>
                      <a:pt x="15528" y="7"/>
                      <a:pt x="15528" y="6"/>
                    </a:cubicBezTo>
                    <a:cubicBezTo>
                      <a:pt x="15528" y="4"/>
                      <a:pt x="15529" y="4"/>
                      <a:pt x="15530" y="4"/>
                    </a:cubicBezTo>
                    <a:close/>
                    <a:moveTo>
                      <a:pt x="15538" y="4"/>
                    </a:moveTo>
                    <a:lnTo>
                      <a:pt x="15538" y="4"/>
                    </a:lnTo>
                    <a:cubicBezTo>
                      <a:pt x="15540" y="4"/>
                      <a:pt x="15540" y="4"/>
                      <a:pt x="15540" y="6"/>
                    </a:cubicBezTo>
                    <a:cubicBezTo>
                      <a:pt x="15540" y="7"/>
                      <a:pt x="15540" y="8"/>
                      <a:pt x="15538" y="8"/>
                    </a:cubicBezTo>
                    <a:lnTo>
                      <a:pt x="15538" y="8"/>
                    </a:lnTo>
                    <a:cubicBezTo>
                      <a:pt x="15537" y="8"/>
                      <a:pt x="15536" y="7"/>
                      <a:pt x="15536" y="6"/>
                    </a:cubicBezTo>
                    <a:cubicBezTo>
                      <a:pt x="15536" y="4"/>
                      <a:pt x="15537" y="4"/>
                      <a:pt x="15538" y="4"/>
                    </a:cubicBezTo>
                    <a:close/>
                    <a:moveTo>
                      <a:pt x="15546" y="4"/>
                    </a:moveTo>
                    <a:lnTo>
                      <a:pt x="15546" y="4"/>
                    </a:lnTo>
                    <a:cubicBezTo>
                      <a:pt x="15548" y="4"/>
                      <a:pt x="15548" y="4"/>
                      <a:pt x="15548" y="6"/>
                    </a:cubicBezTo>
                    <a:cubicBezTo>
                      <a:pt x="15548" y="7"/>
                      <a:pt x="15548" y="8"/>
                      <a:pt x="15546" y="8"/>
                    </a:cubicBezTo>
                    <a:lnTo>
                      <a:pt x="15546" y="8"/>
                    </a:lnTo>
                    <a:cubicBezTo>
                      <a:pt x="15545" y="8"/>
                      <a:pt x="15544" y="7"/>
                      <a:pt x="15544" y="6"/>
                    </a:cubicBezTo>
                    <a:cubicBezTo>
                      <a:pt x="15544" y="4"/>
                      <a:pt x="15545" y="4"/>
                      <a:pt x="15546" y="4"/>
                    </a:cubicBezTo>
                    <a:close/>
                    <a:moveTo>
                      <a:pt x="15554" y="4"/>
                    </a:moveTo>
                    <a:lnTo>
                      <a:pt x="15554" y="4"/>
                    </a:lnTo>
                    <a:cubicBezTo>
                      <a:pt x="15556" y="4"/>
                      <a:pt x="15556" y="4"/>
                      <a:pt x="15556" y="6"/>
                    </a:cubicBezTo>
                    <a:cubicBezTo>
                      <a:pt x="15556" y="7"/>
                      <a:pt x="15556" y="8"/>
                      <a:pt x="15554" y="8"/>
                    </a:cubicBezTo>
                    <a:lnTo>
                      <a:pt x="15554" y="8"/>
                    </a:lnTo>
                    <a:cubicBezTo>
                      <a:pt x="15553" y="8"/>
                      <a:pt x="15552" y="7"/>
                      <a:pt x="15552" y="6"/>
                    </a:cubicBezTo>
                    <a:cubicBezTo>
                      <a:pt x="15552" y="4"/>
                      <a:pt x="15553" y="4"/>
                      <a:pt x="15554" y="4"/>
                    </a:cubicBezTo>
                    <a:close/>
                    <a:moveTo>
                      <a:pt x="15562" y="4"/>
                    </a:moveTo>
                    <a:lnTo>
                      <a:pt x="15562" y="4"/>
                    </a:lnTo>
                    <a:cubicBezTo>
                      <a:pt x="15564" y="4"/>
                      <a:pt x="15564" y="4"/>
                      <a:pt x="15564" y="6"/>
                    </a:cubicBezTo>
                    <a:cubicBezTo>
                      <a:pt x="15564" y="7"/>
                      <a:pt x="15564" y="8"/>
                      <a:pt x="15562" y="8"/>
                    </a:cubicBezTo>
                    <a:lnTo>
                      <a:pt x="15562" y="8"/>
                    </a:lnTo>
                    <a:cubicBezTo>
                      <a:pt x="15561" y="8"/>
                      <a:pt x="15560" y="7"/>
                      <a:pt x="15560" y="6"/>
                    </a:cubicBezTo>
                    <a:cubicBezTo>
                      <a:pt x="15560" y="4"/>
                      <a:pt x="15561" y="4"/>
                      <a:pt x="15562" y="4"/>
                    </a:cubicBezTo>
                    <a:close/>
                    <a:moveTo>
                      <a:pt x="15570" y="4"/>
                    </a:moveTo>
                    <a:lnTo>
                      <a:pt x="15570" y="4"/>
                    </a:lnTo>
                    <a:cubicBezTo>
                      <a:pt x="15572" y="4"/>
                      <a:pt x="15572" y="4"/>
                      <a:pt x="15572" y="6"/>
                    </a:cubicBezTo>
                    <a:cubicBezTo>
                      <a:pt x="15572" y="7"/>
                      <a:pt x="15572" y="8"/>
                      <a:pt x="15570" y="8"/>
                    </a:cubicBezTo>
                    <a:lnTo>
                      <a:pt x="15570" y="8"/>
                    </a:lnTo>
                    <a:cubicBezTo>
                      <a:pt x="15569" y="8"/>
                      <a:pt x="15568" y="7"/>
                      <a:pt x="15568" y="6"/>
                    </a:cubicBezTo>
                    <a:cubicBezTo>
                      <a:pt x="15568" y="4"/>
                      <a:pt x="15569" y="4"/>
                      <a:pt x="15570" y="4"/>
                    </a:cubicBezTo>
                    <a:close/>
                    <a:moveTo>
                      <a:pt x="15578" y="4"/>
                    </a:moveTo>
                    <a:lnTo>
                      <a:pt x="15578" y="4"/>
                    </a:lnTo>
                    <a:cubicBezTo>
                      <a:pt x="15580" y="4"/>
                      <a:pt x="15580" y="4"/>
                      <a:pt x="15580" y="6"/>
                    </a:cubicBezTo>
                    <a:cubicBezTo>
                      <a:pt x="15580" y="7"/>
                      <a:pt x="15580" y="8"/>
                      <a:pt x="15578" y="8"/>
                    </a:cubicBezTo>
                    <a:lnTo>
                      <a:pt x="15578" y="8"/>
                    </a:lnTo>
                    <a:cubicBezTo>
                      <a:pt x="15577" y="8"/>
                      <a:pt x="15576" y="7"/>
                      <a:pt x="15576" y="6"/>
                    </a:cubicBezTo>
                    <a:cubicBezTo>
                      <a:pt x="15576" y="4"/>
                      <a:pt x="15577" y="4"/>
                      <a:pt x="15578" y="4"/>
                    </a:cubicBezTo>
                    <a:close/>
                    <a:moveTo>
                      <a:pt x="15586" y="4"/>
                    </a:moveTo>
                    <a:lnTo>
                      <a:pt x="15586" y="4"/>
                    </a:lnTo>
                    <a:cubicBezTo>
                      <a:pt x="15588" y="4"/>
                      <a:pt x="15588" y="4"/>
                      <a:pt x="15588" y="6"/>
                    </a:cubicBezTo>
                    <a:cubicBezTo>
                      <a:pt x="15588" y="7"/>
                      <a:pt x="15588" y="8"/>
                      <a:pt x="15586" y="8"/>
                    </a:cubicBezTo>
                    <a:lnTo>
                      <a:pt x="15586" y="8"/>
                    </a:lnTo>
                    <a:cubicBezTo>
                      <a:pt x="15585" y="8"/>
                      <a:pt x="15584" y="7"/>
                      <a:pt x="15584" y="6"/>
                    </a:cubicBezTo>
                    <a:cubicBezTo>
                      <a:pt x="15584" y="4"/>
                      <a:pt x="15585" y="4"/>
                      <a:pt x="15586" y="4"/>
                    </a:cubicBezTo>
                    <a:close/>
                    <a:moveTo>
                      <a:pt x="15594" y="4"/>
                    </a:moveTo>
                    <a:lnTo>
                      <a:pt x="15594" y="4"/>
                    </a:lnTo>
                    <a:cubicBezTo>
                      <a:pt x="15596" y="4"/>
                      <a:pt x="15596" y="4"/>
                      <a:pt x="15596" y="6"/>
                    </a:cubicBezTo>
                    <a:cubicBezTo>
                      <a:pt x="15596" y="7"/>
                      <a:pt x="15596" y="8"/>
                      <a:pt x="15594" y="8"/>
                    </a:cubicBezTo>
                    <a:lnTo>
                      <a:pt x="15594" y="8"/>
                    </a:lnTo>
                    <a:cubicBezTo>
                      <a:pt x="15593" y="8"/>
                      <a:pt x="15592" y="7"/>
                      <a:pt x="15592" y="6"/>
                    </a:cubicBezTo>
                    <a:cubicBezTo>
                      <a:pt x="15592" y="4"/>
                      <a:pt x="15593" y="4"/>
                      <a:pt x="15594" y="4"/>
                    </a:cubicBezTo>
                    <a:close/>
                    <a:moveTo>
                      <a:pt x="15602" y="4"/>
                    </a:moveTo>
                    <a:lnTo>
                      <a:pt x="15602" y="4"/>
                    </a:lnTo>
                    <a:cubicBezTo>
                      <a:pt x="15604" y="4"/>
                      <a:pt x="15604" y="4"/>
                      <a:pt x="15604" y="6"/>
                    </a:cubicBezTo>
                    <a:cubicBezTo>
                      <a:pt x="15604" y="7"/>
                      <a:pt x="15604" y="8"/>
                      <a:pt x="15602" y="8"/>
                    </a:cubicBezTo>
                    <a:lnTo>
                      <a:pt x="15602" y="8"/>
                    </a:lnTo>
                    <a:cubicBezTo>
                      <a:pt x="15601" y="8"/>
                      <a:pt x="15600" y="7"/>
                      <a:pt x="15600" y="6"/>
                    </a:cubicBezTo>
                    <a:cubicBezTo>
                      <a:pt x="15600" y="4"/>
                      <a:pt x="15601" y="4"/>
                      <a:pt x="15602" y="4"/>
                    </a:cubicBezTo>
                    <a:close/>
                    <a:moveTo>
                      <a:pt x="15610" y="4"/>
                    </a:moveTo>
                    <a:lnTo>
                      <a:pt x="15610" y="4"/>
                    </a:lnTo>
                    <a:cubicBezTo>
                      <a:pt x="15612" y="4"/>
                      <a:pt x="15612" y="4"/>
                      <a:pt x="15612" y="6"/>
                    </a:cubicBezTo>
                    <a:cubicBezTo>
                      <a:pt x="15612" y="7"/>
                      <a:pt x="15612" y="8"/>
                      <a:pt x="15610" y="8"/>
                    </a:cubicBezTo>
                    <a:lnTo>
                      <a:pt x="15610" y="8"/>
                    </a:lnTo>
                    <a:cubicBezTo>
                      <a:pt x="15609" y="8"/>
                      <a:pt x="15608" y="7"/>
                      <a:pt x="15608" y="6"/>
                    </a:cubicBezTo>
                    <a:cubicBezTo>
                      <a:pt x="15608" y="4"/>
                      <a:pt x="15609" y="4"/>
                      <a:pt x="15610" y="4"/>
                    </a:cubicBezTo>
                    <a:close/>
                    <a:moveTo>
                      <a:pt x="15618" y="4"/>
                    </a:moveTo>
                    <a:lnTo>
                      <a:pt x="15618" y="4"/>
                    </a:lnTo>
                    <a:cubicBezTo>
                      <a:pt x="15620" y="4"/>
                      <a:pt x="15620" y="4"/>
                      <a:pt x="15620" y="6"/>
                    </a:cubicBezTo>
                    <a:cubicBezTo>
                      <a:pt x="15620" y="7"/>
                      <a:pt x="15620" y="8"/>
                      <a:pt x="15618" y="8"/>
                    </a:cubicBezTo>
                    <a:lnTo>
                      <a:pt x="15618" y="8"/>
                    </a:lnTo>
                    <a:cubicBezTo>
                      <a:pt x="15617" y="8"/>
                      <a:pt x="15616" y="7"/>
                      <a:pt x="15616" y="6"/>
                    </a:cubicBezTo>
                    <a:cubicBezTo>
                      <a:pt x="15616" y="4"/>
                      <a:pt x="15617" y="4"/>
                      <a:pt x="15618" y="4"/>
                    </a:cubicBezTo>
                    <a:close/>
                    <a:moveTo>
                      <a:pt x="15626" y="4"/>
                    </a:moveTo>
                    <a:lnTo>
                      <a:pt x="15626" y="4"/>
                    </a:lnTo>
                    <a:cubicBezTo>
                      <a:pt x="15628" y="4"/>
                      <a:pt x="15628" y="4"/>
                      <a:pt x="15628" y="6"/>
                    </a:cubicBezTo>
                    <a:cubicBezTo>
                      <a:pt x="15628" y="7"/>
                      <a:pt x="15628" y="8"/>
                      <a:pt x="15626" y="8"/>
                    </a:cubicBezTo>
                    <a:lnTo>
                      <a:pt x="15626" y="8"/>
                    </a:lnTo>
                    <a:cubicBezTo>
                      <a:pt x="15625" y="8"/>
                      <a:pt x="15624" y="7"/>
                      <a:pt x="15624" y="6"/>
                    </a:cubicBezTo>
                    <a:cubicBezTo>
                      <a:pt x="15624" y="4"/>
                      <a:pt x="15625" y="4"/>
                      <a:pt x="15626" y="4"/>
                    </a:cubicBezTo>
                    <a:close/>
                    <a:moveTo>
                      <a:pt x="15634" y="4"/>
                    </a:moveTo>
                    <a:lnTo>
                      <a:pt x="15634" y="4"/>
                    </a:lnTo>
                    <a:cubicBezTo>
                      <a:pt x="15636" y="4"/>
                      <a:pt x="15636" y="4"/>
                      <a:pt x="15636" y="6"/>
                    </a:cubicBezTo>
                    <a:cubicBezTo>
                      <a:pt x="15636" y="7"/>
                      <a:pt x="15636" y="8"/>
                      <a:pt x="15634" y="8"/>
                    </a:cubicBezTo>
                    <a:lnTo>
                      <a:pt x="15634" y="8"/>
                    </a:lnTo>
                    <a:cubicBezTo>
                      <a:pt x="15633" y="8"/>
                      <a:pt x="15632" y="7"/>
                      <a:pt x="15632" y="6"/>
                    </a:cubicBezTo>
                    <a:cubicBezTo>
                      <a:pt x="15632" y="4"/>
                      <a:pt x="15633" y="4"/>
                      <a:pt x="15634" y="4"/>
                    </a:cubicBezTo>
                    <a:close/>
                    <a:moveTo>
                      <a:pt x="15642" y="4"/>
                    </a:moveTo>
                    <a:lnTo>
                      <a:pt x="15642" y="4"/>
                    </a:lnTo>
                    <a:cubicBezTo>
                      <a:pt x="15644" y="4"/>
                      <a:pt x="15644" y="4"/>
                      <a:pt x="15644" y="6"/>
                    </a:cubicBezTo>
                    <a:cubicBezTo>
                      <a:pt x="15644" y="7"/>
                      <a:pt x="15644" y="8"/>
                      <a:pt x="15642" y="8"/>
                    </a:cubicBezTo>
                    <a:lnTo>
                      <a:pt x="15642" y="8"/>
                    </a:lnTo>
                    <a:cubicBezTo>
                      <a:pt x="15641" y="8"/>
                      <a:pt x="15640" y="7"/>
                      <a:pt x="15640" y="6"/>
                    </a:cubicBezTo>
                    <a:cubicBezTo>
                      <a:pt x="15640" y="4"/>
                      <a:pt x="15641" y="4"/>
                      <a:pt x="15642" y="4"/>
                    </a:cubicBezTo>
                    <a:close/>
                    <a:moveTo>
                      <a:pt x="15650" y="4"/>
                    </a:moveTo>
                    <a:lnTo>
                      <a:pt x="15650" y="4"/>
                    </a:lnTo>
                    <a:cubicBezTo>
                      <a:pt x="15652" y="4"/>
                      <a:pt x="15652" y="4"/>
                      <a:pt x="15652" y="6"/>
                    </a:cubicBezTo>
                    <a:cubicBezTo>
                      <a:pt x="15652" y="7"/>
                      <a:pt x="15652" y="8"/>
                      <a:pt x="15650" y="8"/>
                    </a:cubicBezTo>
                    <a:lnTo>
                      <a:pt x="15650" y="8"/>
                    </a:lnTo>
                    <a:cubicBezTo>
                      <a:pt x="15649" y="8"/>
                      <a:pt x="15648" y="7"/>
                      <a:pt x="15648" y="6"/>
                    </a:cubicBezTo>
                    <a:cubicBezTo>
                      <a:pt x="15648" y="4"/>
                      <a:pt x="15649" y="4"/>
                      <a:pt x="15650" y="4"/>
                    </a:cubicBezTo>
                    <a:close/>
                    <a:moveTo>
                      <a:pt x="15658" y="4"/>
                    </a:moveTo>
                    <a:lnTo>
                      <a:pt x="15658" y="4"/>
                    </a:lnTo>
                    <a:cubicBezTo>
                      <a:pt x="15660" y="4"/>
                      <a:pt x="15660" y="4"/>
                      <a:pt x="15660" y="6"/>
                    </a:cubicBezTo>
                    <a:cubicBezTo>
                      <a:pt x="15660" y="7"/>
                      <a:pt x="15660" y="8"/>
                      <a:pt x="15658" y="8"/>
                    </a:cubicBezTo>
                    <a:lnTo>
                      <a:pt x="15658" y="8"/>
                    </a:lnTo>
                    <a:cubicBezTo>
                      <a:pt x="15657" y="8"/>
                      <a:pt x="15656" y="7"/>
                      <a:pt x="15656" y="6"/>
                    </a:cubicBezTo>
                    <a:cubicBezTo>
                      <a:pt x="15656" y="4"/>
                      <a:pt x="15657" y="4"/>
                      <a:pt x="15658" y="4"/>
                    </a:cubicBezTo>
                    <a:close/>
                    <a:moveTo>
                      <a:pt x="15666" y="4"/>
                    </a:moveTo>
                    <a:lnTo>
                      <a:pt x="15666" y="4"/>
                    </a:lnTo>
                    <a:cubicBezTo>
                      <a:pt x="15668" y="4"/>
                      <a:pt x="15668" y="5"/>
                      <a:pt x="15668" y="6"/>
                    </a:cubicBezTo>
                    <a:cubicBezTo>
                      <a:pt x="15668" y="7"/>
                      <a:pt x="15668" y="8"/>
                      <a:pt x="15666" y="8"/>
                    </a:cubicBezTo>
                    <a:lnTo>
                      <a:pt x="15666" y="8"/>
                    </a:lnTo>
                    <a:cubicBezTo>
                      <a:pt x="15665" y="8"/>
                      <a:pt x="15664" y="7"/>
                      <a:pt x="15664" y="6"/>
                    </a:cubicBezTo>
                    <a:cubicBezTo>
                      <a:pt x="15664" y="5"/>
                      <a:pt x="15665" y="4"/>
                      <a:pt x="15666" y="4"/>
                    </a:cubicBezTo>
                    <a:close/>
                    <a:moveTo>
                      <a:pt x="15674" y="4"/>
                    </a:moveTo>
                    <a:lnTo>
                      <a:pt x="15675" y="4"/>
                    </a:lnTo>
                    <a:cubicBezTo>
                      <a:pt x="15676" y="4"/>
                      <a:pt x="15677" y="5"/>
                      <a:pt x="15677" y="6"/>
                    </a:cubicBezTo>
                    <a:cubicBezTo>
                      <a:pt x="15677" y="7"/>
                      <a:pt x="15676" y="8"/>
                      <a:pt x="15675" y="8"/>
                    </a:cubicBezTo>
                    <a:lnTo>
                      <a:pt x="15674" y="8"/>
                    </a:lnTo>
                    <a:cubicBezTo>
                      <a:pt x="15673" y="8"/>
                      <a:pt x="15672" y="7"/>
                      <a:pt x="15672" y="6"/>
                    </a:cubicBezTo>
                    <a:cubicBezTo>
                      <a:pt x="15672" y="5"/>
                      <a:pt x="15673" y="4"/>
                      <a:pt x="15674" y="4"/>
                    </a:cubicBezTo>
                    <a:close/>
                    <a:moveTo>
                      <a:pt x="15683" y="4"/>
                    </a:moveTo>
                    <a:lnTo>
                      <a:pt x="15683" y="4"/>
                    </a:lnTo>
                    <a:cubicBezTo>
                      <a:pt x="15684" y="4"/>
                      <a:pt x="15685" y="5"/>
                      <a:pt x="15685" y="6"/>
                    </a:cubicBezTo>
                    <a:cubicBezTo>
                      <a:pt x="15685" y="7"/>
                      <a:pt x="15684" y="8"/>
                      <a:pt x="15683" y="8"/>
                    </a:cubicBezTo>
                    <a:lnTo>
                      <a:pt x="15683" y="8"/>
                    </a:lnTo>
                    <a:cubicBezTo>
                      <a:pt x="15681" y="8"/>
                      <a:pt x="15681" y="7"/>
                      <a:pt x="15681" y="6"/>
                    </a:cubicBezTo>
                    <a:cubicBezTo>
                      <a:pt x="15681" y="5"/>
                      <a:pt x="15681" y="4"/>
                      <a:pt x="15683" y="4"/>
                    </a:cubicBezTo>
                    <a:close/>
                    <a:moveTo>
                      <a:pt x="15691" y="4"/>
                    </a:moveTo>
                    <a:lnTo>
                      <a:pt x="15691" y="4"/>
                    </a:lnTo>
                    <a:cubicBezTo>
                      <a:pt x="15692" y="4"/>
                      <a:pt x="15693" y="5"/>
                      <a:pt x="15693" y="6"/>
                    </a:cubicBezTo>
                    <a:cubicBezTo>
                      <a:pt x="15693" y="7"/>
                      <a:pt x="15692" y="8"/>
                      <a:pt x="15691" y="8"/>
                    </a:cubicBezTo>
                    <a:lnTo>
                      <a:pt x="15691" y="8"/>
                    </a:lnTo>
                    <a:cubicBezTo>
                      <a:pt x="15689" y="8"/>
                      <a:pt x="15689" y="7"/>
                      <a:pt x="15689" y="6"/>
                    </a:cubicBezTo>
                    <a:cubicBezTo>
                      <a:pt x="15689" y="5"/>
                      <a:pt x="15689" y="4"/>
                      <a:pt x="15691" y="4"/>
                    </a:cubicBezTo>
                    <a:close/>
                    <a:moveTo>
                      <a:pt x="15699" y="4"/>
                    </a:moveTo>
                    <a:lnTo>
                      <a:pt x="15699" y="4"/>
                    </a:lnTo>
                    <a:cubicBezTo>
                      <a:pt x="15700" y="4"/>
                      <a:pt x="15701" y="5"/>
                      <a:pt x="15701" y="6"/>
                    </a:cubicBezTo>
                    <a:cubicBezTo>
                      <a:pt x="15701" y="7"/>
                      <a:pt x="15700" y="8"/>
                      <a:pt x="15699" y="8"/>
                    </a:cubicBezTo>
                    <a:lnTo>
                      <a:pt x="15699" y="8"/>
                    </a:lnTo>
                    <a:cubicBezTo>
                      <a:pt x="15697" y="8"/>
                      <a:pt x="15697" y="7"/>
                      <a:pt x="15697" y="6"/>
                    </a:cubicBezTo>
                    <a:cubicBezTo>
                      <a:pt x="15697" y="5"/>
                      <a:pt x="15697" y="4"/>
                      <a:pt x="15699" y="4"/>
                    </a:cubicBezTo>
                    <a:close/>
                    <a:moveTo>
                      <a:pt x="15707" y="4"/>
                    </a:moveTo>
                    <a:lnTo>
                      <a:pt x="15707" y="4"/>
                    </a:lnTo>
                    <a:cubicBezTo>
                      <a:pt x="15708" y="4"/>
                      <a:pt x="15709" y="5"/>
                      <a:pt x="15709" y="6"/>
                    </a:cubicBezTo>
                    <a:cubicBezTo>
                      <a:pt x="15709" y="7"/>
                      <a:pt x="15708" y="8"/>
                      <a:pt x="15707" y="8"/>
                    </a:cubicBezTo>
                    <a:lnTo>
                      <a:pt x="15707" y="8"/>
                    </a:lnTo>
                    <a:cubicBezTo>
                      <a:pt x="15705" y="8"/>
                      <a:pt x="15705" y="7"/>
                      <a:pt x="15705" y="6"/>
                    </a:cubicBezTo>
                    <a:cubicBezTo>
                      <a:pt x="15705" y="5"/>
                      <a:pt x="15705" y="4"/>
                      <a:pt x="15707" y="4"/>
                    </a:cubicBezTo>
                    <a:close/>
                    <a:moveTo>
                      <a:pt x="15715" y="4"/>
                    </a:moveTo>
                    <a:lnTo>
                      <a:pt x="15715" y="4"/>
                    </a:lnTo>
                    <a:cubicBezTo>
                      <a:pt x="15716" y="4"/>
                      <a:pt x="15717" y="5"/>
                      <a:pt x="15717" y="6"/>
                    </a:cubicBezTo>
                    <a:cubicBezTo>
                      <a:pt x="15717" y="7"/>
                      <a:pt x="15716" y="8"/>
                      <a:pt x="15715" y="8"/>
                    </a:cubicBezTo>
                    <a:lnTo>
                      <a:pt x="15715" y="8"/>
                    </a:lnTo>
                    <a:cubicBezTo>
                      <a:pt x="15713" y="8"/>
                      <a:pt x="15713" y="7"/>
                      <a:pt x="15713" y="6"/>
                    </a:cubicBezTo>
                    <a:cubicBezTo>
                      <a:pt x="15713" y="5"/>
                      <a:pt x="15713" y="4"/>
                      <a:pt x="15715" y="4"/>
                    </a:cubicBezTo>
                    <a:close/>
                    <a:moveTo>
                      <a:pt x="15723" y="4"/>
                    </a:moveTo>
                    <a:lnTo>
                      <a:pt x="15723" y="4"/>
                    </a:lnTo>
                    <a:cubicBezTo>
                      <a:pt x="15724" y="4"/>
                      <a:pt x="15725" y="5"/>
                      <a:pt x="15725" y="6"/>
                    </a:cubicBezTo>
                    <a:cubicBezTo>
                      <a:pt x="15725" y="7"/>
                      <a:pt x="15724" y="8"/>
                      <a:pt x="15723" y="8"/>
                    </a:cubicBezTo>
                    <a:lnTo>
                      <a:pt x="15723" y="8"/>
                    </a:lnTo>
                    <a:cubicBezTo>
                      <a:pt x="15721" y="8"/>
                      <a:pt x="15721" y="7"/>
                      <a:pt x="15721" y="6"/>
                    </a:cubicBezTo>
                    <a:cubicBezTo>
                      <a:pt x="15721" y="5"/>
                      <a:pt x="15721" y="4"/>
                      <a:pt x="15723" y="4"/>
                    </a:cubicBezTo>
                    <a:close/>
                    <a:moveTo>
                      <a:pt x="15731" y="4"/>
                    </a:moveTo>
                    <a:lnTo>
                      <a:pt x="15731" y="4"/>
                    </a:lnTo>
                    <a:cubicBezTo>
                      <a:pt x="15732" y="4"/>
                      <a:pt x="15733" y="5"/>
                      <a:pt x="15733" y="6"/>
                    </a:cubicBezTo>
                    <a:cubicBezTo>
                      <a:pt x="15733" y="7"/>
                      <a:pt x="15732" y="8"/>
                      <a:pt x="15731" y="8"/>
                    </a:cubicBezTo>
                    <a:lnTo>
                      <a:pt x="15731" y="8"/>
                    </a:lnTo>
                    <a:cubicBezTo>
                      <a:pt x="15729" y="8"/>
                      <a:pt x="15729" y="7"/>
                      <a:pt x="15729" y="6"/>
                    </a:cubicBezTo>
                    <a:cubicBezTo>
                      <a:pt x="15729" y="5"/>
                      <a:pt x="15729" y="4"/>
                      <a:pt x="15731" y="4"/>
                    </a:cubicBezTo>
                    <a:close/>
                    <a:moveTo>
                      <a:pt x="15739" y="4"/>
                    </a:moveTo>
                    <a:lnTo>
                      <a:pt x="15739" y="4"/>
                    </a:lnTo>
                    <a:cubicBezTo>
                      <a:pt x="15740" y="4"/>
                      <a:pt x="15741" y="5"/>
                      <a:pt x="15741" y="6"/>
                    </a:cubicBezTo>
                    <a:cubicBezTo>
                      <a:pt x="15741" y="7"/>
                      <a:pt x="15740" y="8"/>
                      <a:pt x="15739" y="8"/>
                    </a:cubicBezTo>
                    <a:lnTo>
                      <a:pt x="15739" y="8"/>
                    </a:lnTo>
                    <a:cubicBezTo>
                      <a:pt x="15737" y="8"/>
                      <a:pt x="15737" y="7"/>
                      <a:pt x="15737" y="6"/>
                    </a:cubicBezTo>
                    <a:cubicBezTo>
                      <a:pt x="15737" y="5"/>
                      <a:pt x="15737" y="4"/>
                      <a:pt x="15739" y="4"/>
                    </a:cubicBezTo>
                    <a:close/>
                    <a:moveTo>
                      <a:pt x="15747" y="4"/>
                    </a:moveTo>
                    <a:lnTo>
                      <a:pt x="15747" y="4"/>
                    </a:lnTo>
                    <a:cubicBezTo>
                      <a:pt x="15748" y="4"/>
                      <a:pt x="15749" y="5"/>
                      <a:pt x="15749" y="6"/>
                    </a:cubicBezTo>
                    <a:cubicBezTo>
                      <a:pt x="15749" y="7"/>
                      <a:pt x="15748" y="8"/>
                      <a:pt x="15747" y="8"/>
                    </a:cubicBezTo>
                    <a:lnTo>
                      <a:pt x="15747" y="8"/>
                    </a:lnTo>
                    <a:cubicBezTo>
                      <a:pt x="15745" y="8"/>
                      <a:pt x="15745" y="7"/>
                      <a:pt x="15745" y="6"/>
                    </a:cubicBezTo>
                    <a:cubicBezTo>
                      <a:pt x="15745" y="5"/>
                      <a:pt x="15745" y="4"/>
                      <a:pt x="15747" y="4"/>
                    </a:cubicBezTo>
                    <a:close/>
                    <a:moveTo>
                      <a:pt x="15755" y="4"/>
                    </a:moveTo>
                    <a:lnTo>
                      <a:pt x="15755" y="4"/>
                    </a:lnTo>
                    <a:cubicBezTo>
                      <a:pt x="15756" y="4"/>
                      <a:pt x="15757" y="5"/>
                      <a:pt x="15757" y="6"/>
                    </a:cubicBezTo>
                    <a:cubicBezTo>
                      <a:pt x="15757" y="7"/>
                      <a:pt x="15756" y="8"/>
                      <a:pt x="15755" y="8"/>
                    </a:cubicBezTo>
                    <a:lnTo>
                      <a:pt x="15755" y="8"/>
                    </a:lnTo>
                    <a:cubicBezTo>
                      <a:pt x="15753" y="8"/>
                      <a:pt x="15753" y="7"/>
                      <a:pt x="15753" y="6"/>
                    </a:cubicBezTo>
                    <a:cubicBezTo>
                      <a:pt x="15753" y="5"/>
                      <a:pt x="15753" y="4"/>
                      <a:pt x="15755" y="4"/>
                    </a:cubicBezTo>
                    <a:close/>
                    <a:moveTo>
                      <a:pt x="15763" y="4"/>
                    </a:moveTo>
                    <a:lnTo>
                      <a:pt x="15763" y="4"/>
                    </a:lnTo>
                    <a:cubicBezTo>
                      <a:pt x="15764" y="4"/>
                      <a:pt x="15765" y="5"/>
                      <a:pt x="15765" y="6"/>
                    </a:cubicBezTo>
                    <a:cubicBezTo>
                      <a:pt x="15765" y="7"/>
                      <a:pt x="15764" y="8"/>
                      <a:pt x="15763" y="8"/>
                    </a:cubicBezTo>
                    <a:lnTo>
                      <a:pt x="15763" y="8"/>
                    </a:lnTo>
                    <a:cubicBezTo>
                      <a:pt x="15761" y="8"/>
                      <a:pt x="15761" y="7"/>
                      <a:pt x="15761" y="6"/>
                    </a:cubicBezTo>
                    <a:cubicBezTo>
                      <a:pt x="15761" y="5"/>
                      <a:pt x="15761" y="4"/>
                      <a:pt x="15763" y="4"/>
                    </a:cubicBezTo>
                    <a:close/>
                    <a:moveTo>
                      <a:pt x="15771" y="4"/>
                    </a:moveTo>
                    <a:lnTo>
                      <a:pt x="15771" y="4"/>
                    </a:lnTo>
                    <a:cubicBezTo>
                      <a:pt x="15772" y="4"/>
                      <a:pt x="15773" y="5"/>
                      <a:pt x="15773" y="6"/>
                    </a:cubicBezTo>
                    <a:cubicBezTo>
                      <a:pt x="15773" y="7"/>
                      <a:pt x="15772" y="8"/>
                      <a:pt x="15771" y="8"/>
                    </a:cubicBezTo>
                    <a:lnTo>
                      <a:pt x="15771" y="8"/>
                    </a:lnTo>
                    <a:cubicBezTo>
                      <a:pt x="15769" y="8"/>
                      <a:pt x="15769" y="7"/>
                      <a:pt x="15769" y="6"/>
                    </a:cubicBezTo>
                    <a:cubicBezTo>
                      <a:pt x="15769" y="5"/>
                      <a:pt x="15769" y="4"/>
                      <a:pt x="15771" y="4"/>
                    </a:cubicBezTo>
                    <a:close/>
                    <a:moveTo>
                      <a:pt x="15779" y="4"/>
                    </a:moveTo>
                    <a:lnTo>
                      <a:pt x="15779" y="4"/>
                    </a:lnTo>
                    <a:cubicBezTo>
                      <a:pt x="15780" y="4"/>
                      <a:pt x="15781" y="5"/>
                      <a:pt x="15781" y="6"/>
                    </a:cubicBezTo>
                    <a:cubicBezTo>
                      <a:pt x="15781" y="7"/>
                      <a:pt x="15780" y="8"/>
                      <a:pt x="15779" y="8"/>
                    </a:cubicBezTo>
                    <a:lnTo>
                      <a:pt x="15779" y="8"/>
                    </a:lnTo>
                    <a:cubicBezTo>
                      <a:pt x="15777" y="8"/>
                      <a:pt x="15777" y="7"/>
                      <a:pt x="15777" y="6"/>
                    </a:cubicBezTo>
                    <a:cubicBezTo>
                      <a:pt x="15777" y="5"/>
                      <a:pt x="15777" y="4"/>
                      <a:pt x="15779" y="4"/>
                    </a:cubicBezTo>
                    <a:close/>
                    <a:moveTo>
                      <a:pt x="15787" y="4"/>
                    </a:moveTo>
                    <a:lnTo>
                      <a:pt x="15787" y="4"/>
                    </a:lnTo>
                    <a:cubicBezTo>
                      <a:pt x="15788" y="4"/>
                      <a:pt x="15789" y="5"/>
                      <a:pt x="15789" y="6"/>
                    </a:cubicBezTo>
                    <a:cubicBezTo>
                      <a:pt x="15789" y="7"/>
                      <a:pt x="15788" y="8"/>
                      <a:pt x="15787" y="8"/>
                    </a:cubicBezTo>
                    <a:lnTo>
                      <a:pt x="15787" y="8"/>
                    </a:lnTo>
                    <a:cubicBezTo>
                      <a:pt x="15785" y="8"/>
                      <a:pt x="15785" y="7"/>
                      <a:pt x="15785" y="6"/>
                    </a:cubicBezTo>
                    <a:cubicBezTo>
                      <a:pt x="15785" y="5"/>
                      <a:pt x="15785" y="4"/>
                      <a:pt x="15787" y="4"/>
                    </a:cubicBezTo>
                    <a:close/>
                    <a:moveTo>
                      <a:pt x="15795" y="4"/>
                    </a:moveTo>
                    <a:lnTo>
                      <a:pt x="15795" y="4"/>
                    </a:lnTo>
                    <a:cubicBezTo>
                      <a:pt x="15796" y="4"/>
                      <a:pt x="15797" y="5"/>
                      <a:pt x="15797" y="6"/>
                    </a:cubicBezTo>
                    <a:cubicBezTo>
                      <a:pt x="15797" y="7"/>
                      <a:pt x="15796" y="8"/>
                      <a:pt x="15795" y="8"/>
                    </a:cubicBezTo>
                    <a:lnTo>
                      <a:pt x="15795" y="8"/>
                    </a:lnTo>
                    <a:cubicBezTo>
                      <a:pt x="15793" y="8"/>
                      <a:pt x="15793" y="7"/>
                      <a:pt x="15793" y="6"/>
                    </a:cubicBezTo>
                    <a:cubicBezTo>
                      <a:pt x="15793" y="5"/>
                      <a:pt x="15793" y="4"/>
                      <a:pt x="15795" y="4"/>
                    </a:cubicBezTo>
                    <a:close/>
                    <a:moveTo>
                      <a:pt x="15803" y="4"/>
                    </a:moveTo>
                    <a:lnTo>
                      <a:pt x="15803" y="4"/>
                    </a:lnTo>
                    <a:cubicBezTo>
                      <a:pt x="15804" y="4"/>
                      <a:pt x="15805" y="5"/>
                      <a:pt x="15805" y="6"/>
                    </a:cubicBezTo>
                    <a:cubicBezTo>
                      <a:pt x="15805" y="7"/>
                      <a:pt x="15804" y="8"/>
                      <a:pt x="15803" y="8"/>
                    </a:cubicBezTo>
                    <a:lnTo>
                      <a:pt x="15803" y="8"/>
                    </a:lnTo>
                    <a:cubicBezTo>
                      <a:pt x="15801" y="8"/>
                      <a:pt x="15801" y="7"/>
                      <a:pt x="15801" y="6"/>
                    </a:cubicBezTo>
                    <a:cubicBezTo>
                      <a:pt x="15801" y="5"/>
                      <a:pt x="15801" y="4"/>
                      <a:pt x="15803" y="4"/>
                    </a:cubicBezTo>
                    <a:close/>
                    <a:moveTo>
                      <a:pt x="15811" y="4"/>
                    </a:moveTo>
                    <a:lnTo>
                      <a:pt x="15811" y="4"/>
                    </a:lnTo>
                    <a:cubicBezTo>
                      <a:pt x="15812" y="4"/>
                      <a:pt x="15813" y="5"/>
                      <a:pt x="15813" y="6"/>
                    </a:cubicBezTo>
                    <a:cubicBezTo>
                      <a:pt x="15813" y="7"/>
                      <a:pt x="15812" y="8"/>
                      <a:pt x="15811" y="8"/>
                    </a:cubicBezTo>
                    <a:lnTo>
                      <a:pt x="15811" y="8"/>
                    </a:lnTo>
                    <a:cubicBezTo>
                      <a:pt x="15809" y="8"/>
                      <a:pt x="15809" y="7"/>
                      <a:pt x="15809" y="6"/>
                    </a:cubicBezTo>
                    <a:cubicBezTo>
                      <a:pt x="15809" y="5"/>
                      <a:pt x="15809" y="4"/>
                      <a:pt x="15811" y="4"/>
                    </a:cubicBezTo>
                    <a:close/>
                    <a:moveTo>
                      <a:pt x="15819" y="4"/>
                    </a:moveTo>
                    <a:lnTo>
                      <a:pt x="15819" y="4"/>
                    </a:lnTo>
                    <a:cubicBezTo>
                      <a:pt x="15820" y="4"/>
                      <a:pt x="15821" y="5"/>
                      <a:pt x="15821" y="6"/>
                    </a:cubicBezTo>
                    <a:cubicBezTo>
                      <a:pt x="15821" y="7"/>
                      <a:pt x="15820" y="8"/>
                      <a:pt x="15819" y="8"/>
                    </a:cubicBezTo>
                    <a:lnTo>
                      <a:pt x="15819" y="8"/>
                    </a:lnTo>
                    <a:cubicBezTo>
                      <a:pt x="15817" y="8"/>
                      <a:pt x="15817" y="7"/>
                      <a:pt x="15817" y="6"/>
                    </a:cubicBezTo>
                    <a:cubicBezTo>
                      <a:pt x="15817" y="5"/>
                      <a:pt x="15817" y="4"/>
                      <a:pt x="15819" y="4"/>
                    </a:cubicBezTo>
                    <a:close/>
                    <a:moveTo>
                      <a:pt x="15827" y="4"/>
                    </a:moveTo>
                    <a:lnTo>
                      <a:pt x="15827" y="4"/>
                    </a:lnTo>
                    <a:cubicBezTo>
                      <a:pt x="15828" y="4"/>
                      <a:pt x="15829" y="5"/>
                      <a:pt x="15829" y="6"/>
                    </a:cubicBezTo>
                    <a:cubicBezTo>
                      <a:pt x="15829" y="7"/>
                      <a:pt x="15828" y="8"/>
                      <a:pt x="15827" y="8"/>
                    </a:cubicBezTo>
                    <a:lnTo>
                      <a:pt x="15827" y="8"/>
                    </a:lnTo>
                    <a:cubicBezTo>
                      <a:pt x="15826" y="8"/>
                      <a:pt x="15825" y="7"/>
                      <a:pt x="15825" y="6"/>
                    </a:cubicBezTo>
                    <a:cubicBezTo>
                      <a:pt x="15825" y="5"/>
                      <a:pt x="15826" y="4"/>
                      <a:pt x="15827" y="4"/>
                    </a:cubicBezTo>
                    <a:close/>
                    <a:moveTo>
                      <a:pt x="15835" y="4"/>
                    </a:moveTo>
                    <a:lnTo>
                      <a:pt x="15835" y="4"/>
                    </a:lnTo>
                    <a:cubicBezTo>
                      <a:pt x="15836" y="4"/>
                      <a:pt x="15837" y="5"/>
                      <a:pt x="15837" y="6"/>
                    </a:cubicBezTo>
                    <a:cubicBezTo>
                      <a:pt x="15837" y="7"/>
                      <a:pt x="15836" y="8"/>
                      <a:pt x="15835" y="8"/>
                    </a:cubicBezTo>
                    <a:lnTo>
                      <a:pt x="15835" y="8"/>
                    </a:lnTo>
                    <a:cubicBezTo>
                      <a:pt x="15834" y="8"/>
                      <a:pt x="15833" y="7"/>
                      <a:pt x="15833" y="6"/>
                    </a:cubicBezTo>
                    <a:cubicBezTo>
                      <a:pt x="15833" y="5"/>
                      <a:pt x="15834" y="4"/>
                      <a:pt x="15835" y="4"/>
                    </a:cubicBezTo>
                    <a:close/>
                    <a:moveTo>
                      <a:pt x="15843" y="4"/>
                    </a:moveTo>
                    <a:lnTo>
                      <a:pt x="15843" y="4"/>
                    </a:lnTo>
                    <a:cubicBezTo>
                      <a:pt x="15844" y="4"/>
                      <a:pt x="15845" y="5"/>
                      <a:pt x="15845" y="6"/>
                    </a:cubicBezTo>
                    <a:cubicBezTo>
                      <a:pt x="15845" y="7"/>
                      <a:pt x="15844" y="8"/>
                      <a:pt x="15843" y="8"/>
                    </a:cubicBezTo>
                    <a:lnTo>
                      <a:pt x="15843" y="8"/>
                    </a:lnTo>
                    <a:cubicBezTo>
                      <a:pt x="15842" y="8"/>
                      <a:pt x="15841" y="7"/>
                      <a:pt x="15841" y="6"/>
                    </a:cubicBezTo>
                    <a:cubicBezTo>
                      <a:pt x="15841" y="5"/>
                      <a:pt x="15842" y="4"/>
                      <a:pt x="15843" y="4"/>
                    </a:cubicBezTo>
                    <a:close/>
                    <a:moveTo>
                      <a:pt x="15851" y="4"/>
                    </a:moveTo>
                    <a:lnTo>
                      <a:pt x="15851" y="4"/>
                    </a:lnTo>
                    <a:cubicBezTo>
                      <a:pt x="15852" y="4"/>
                      <a:pt x="15853" y="5"/>
                      <a:pt x="15853" y="6"/>
                    </a:cubicBezTo>
                    <a:cubicBezTo>
                      <a:pt x="15853" y="7"/>
                      <a:pt x="15852" y="8"/>
                      <a:pt x="15851" y="8"/>
                    </a:cubicBezTo>
                    <a:lnTo>
                      <a:pt x="15851" y="8"/>
                    </a:lnTo>
                    <a:cubicBezTo>
                      <a:pt x="15850" y="8"/>
                      <a:pt x="15849" y="7"/>
                      <a:pt x="15849" y="6"/>
                    </a:cubicBezTo>
                    <a:cubicBezTo>
                      <a:pt x="15849" y="5"/>
                      <a:pt x="15850" y="4"/>
                      <a:pt x="15851" y="4"/>
                    </a:cubicBezTo>
                    <a:close/>
                    <a:moveTo>
                      <a:pt x="15859" y="4"/>
                    </a:moveTo>
                    <a:lnTo>
                      <a:pt x="15859" y="4"/>
                    </a:lnTo>
                    <a:cubicBezTo>
                      <a:pt x="15860" y="4"/>
                      <a:pt x="15861" y="5"/>
                      <a:pt x="15861" y="6"/>
                    </a:cubicBezTo>
                    <a:cubicBezTo>
                      <a:pt x="15861" y="7"/>
                      <a:pt x="15860" y="8"/>
                      <a:pt x="15859" y="8"/>
                    </a:cubicBezTo>
                    <a:lnTo>
                      <a:pt x="15859" y="8"/>
                    </a:lnTo>
                    <a:cubicBezTo>
                      <a:pt x="15858" y="8"/>
                      <a:pt x="15857" y="7"/>
                      <a:pt x="15857" y="6"/>
                    </a:cubicBezTo>
                    <a:cubicBezTo>
                      <a:pt x="15857" y="5"/>
                      <a:pt x="15858" y="4"/>
                      <a:pt x="15859" y="4"/>
                    </a:cubicBezTo>
                    <a:close/>
                    <a:moveTo>
                      <a:pt x="15867" y="4"/>
                    </a:moveTo>
                    <a:lnTo>
                      <a:pt x="15867" y="4"/>
                    </a:lnTo>
                    <a:cubicBezTo>
                      <a:pt x="15868" y="4"/>
                      <a:pt x="15869" y="5"/>
                      <a:pt x="15869" y="6"/>
                    </a:cubicBezTo>
                    <a:cubicBezTo>
                      <a:pt x="15869" y="7"/>
                      <a:pt x="15868" y="8"/>
                      <a:pt x="15867" y="8"/>
                    </a:cubicBezTo>
                    <a:lnTo>
                      <a:pt x="15867" y="8"/>
                    </a:lnTo>
                    <a:cubicBezTo>
                      <a:pt x="15866" y="8"/>
                      <a:pt x="15865" y="7"/>
                      <a:pt x="15865" y="6"/>
                    </a:cubicBezTo>
                    <a:cubicBezTo>
                      <a:pt x="15865" y="5"/>
                      <a:pt x="15866" y="4"/>
                      <a:pt x="15867" y="4"/>
                    </a:cubicBezTo>
                    <a:close/>
                    <a:moveTo>
                      <a:pt x="15875" y="4"/>
                    </a:moveTo>
                    <a:lnTo>
                      <a:pt x="15875" y="4"/>
                    </a:lnTo>
                    <a:cubicBezTo>
                      <a:pt x="15876" y="4"/>
                      <a:pt x="15877" y="5"/>
                      <a:pt x="15877" y="6"/>
                    </a:cubicBezTo>
                    <a:cubicBezTo>
                      <a:pt x="15877" y="7"/>
                      <a:pt x="15876" y="8"/>
                      <a:pt x="15875" y="8"/>
                    </a:cubicBezTo>
                    <a:lnTo>
                      <a:pt x="15875" y="8"/>
                    </a:lnTo>
                    <a:cubicBezTo>
                      <a:pt x="15874" y="8"/>
                      <a:pt x="15873" y="7"/>
                      <a:pt x="15873" y="6"/>
                    </a:cubicBezTo>
                    <a:cubicBezTo>
                      <a:pt x="15873" y="5"/>
                      <a:pt x="15874" y="4"/>
                      <a:pt x="15875" y="4"/>
                    </a:cubicBezTo>
                    <a:close/>
                    <a:moveTo>
                      <a:pt x="15883" y="4"/>
                    </a:moveTo>
                    <a:lnTo>
                      <a:pt x="15883" y="4"/>
                    </a:lnTo>
                    <a:cubicBezTo>
                      <a:pt x="15884" y="4"/>
                      <a:pt x="15885" y="5"/>
                      <a:pt x="15885" y="6"/>
                    </a:cubicBezTo>
                    <a:cubicBezTo>
                      <a:pt x="15885" y="7"/>
                      <a:pt x="15884" y="8"/>
                      <a:pt x="15883" y="8"/>
                    </a:cubicBezTo>
                    <a:lnTo>
                      <a:pt x="15883" y="8"/>
                    </a:lnTo>
                    <a:cubicBezTo>
                      <a:pt x="15882" y="8"/>
                      <a:pt x="15881" y="7"/>
                      <a:pt x="15881" y="6"/>
                    </a:cubicBezTo>
                    <a:cubicBezTo>
                      <a:pt x="15881" y="5"/>
                      <a:pt x="15882" y="4"/>
                      <a:pt x="15883" y="4"/>
                    </a:cubicBezTo>
                    <a:close/>
                    <a:moveTo>
                      <a:pt x="15891" y="4"/>
                    </a:moveTo>
                    <a:lnTo>
                      <a:pt x="15891" y="4"/>
                    </a:lnTo>
                    <a:cubicBezTo>
                      <a:pt x="15892" y="4"/>
                      <a:pt x="15893" y="5"/>
                      <a:pt x="15893" y="6"/>
                    </a:cubicBezTo>
                    <a:cubicBezTo>
                      <a:pt x="15893" y="7"/>
                      <a:pt x="15892" y="8"/>
                      <a:pt x="15891" y="8"/>
                    </a:cubicBezTo>
                    <a:lnTo>
                      <a:pt x="15891" y="8"/>
                    </a:lnTo>
                    <a:cubicBezTo>
                      <a:pt x="15890" y="8"/>
                      <a:pt x="15889" y="7"/>
                      <a:pt x="15889" y="6"/>
                    </a:cubicBezTo>
                    <a:cubicBezTo>
                      <a:pt x="15889" y="5"/>
                      <a:pt x="15890" y="4"/>
                      <a:pt x="15891" y="4"/>
                    </a:cubicBezTo>
                    <a:close/>
                    <a:moveTo>
                      <a:pt x="15899" y="4"/>
                    </a:moveTo>
                    <a:lnTo>
                      <a:pt x="15899" y="4"/>
                    </a:lnTo>
                    <a:cubicBezTo>
                      <a:pt x="15900" y="4"/>
                      <a:pt x="15901" y="5"/>
                      <a:pt x="15901" y="6"/>
                    </a:cubicBezTo>
                    <a:cubicBezTo>
                      <a:pt x="15901" y="7"/>
                      <a:pt x="15900" y="8"/>
                      <a:pt x="15899" y="8"/>
                    </a:cubicBezTo>
                    <a:lnTo>
                      <a:pt x="15899" y="8"/>
                    </a:lnTo>
                    <a:cubicBezTo>
                      <a:pt x="15898" y="8"/>
                      <a:pt x="15897" y="7"/>
                      <a:pt x="15897" y="6"/>
                    </a:cubicBezTo>
                    <a:cubicBezTo>
                      <a:pt x="15897" y="5"/>
                      <a:pt x="15898" y="4"/>
                      <a:pt x="15899" y="4"/>
                    </a:cubicBezTo>
                    <a:close/>
                    <a:moveTo>
                      <a:pt x="15907" y="4"/>
                    </a:moveTo>
                    <a:lnTo>
                      <a:pt x="15907" y="4"/>
                    </a:lnTo>
                    <a:cubicBezTo>
                      <a:pt x="15908" y="4"/>
                      <a:pt x="15909" y="5"/>
                      <a:pt x="15909" y="6"/>
                    </a:cubicBezTo>
                    <a:cubicBezTo>
                      <a:pt x="15909" y="7"/>
                      <a:pt x="15908" y="8"/>
                      <a:pt x="15907" y="8"/>
                    </a:cubicBezTo>
                    <a:lnTo>
                      <a:pt x="15907" y="8"/>
                    </a:lnTo>
                    <a:cubicBezTo>
                      <a:pt x="15906" y="8"/>
                      <a:pt x="15905" y="7"/>
                      <a:pt x="15905" y="6"/>
                    </a:cubicBezTo>
                    <a:cubicBezTo>
                      <a:pt x="15905" y="5"/>
                      <a:pt x="15906" y="4"/>
                      <a:pt x="15907" y="4"/>
                    </a:cubicBezTo>
                    <a:close/>
                    <a:moveTo>
                      <a:pt x="15915" y="4"/>
                    </a:moveTo>
                    <a:lnTo>
                      <a:pt x="15915" y="4"/>
                    </a:lnTo>
                    <a:cubicBezTo>
                      <a:pt x="15916" y="4"/>
                      <a:pt x="15917" y="5"/>
                      <a:pt x="15917" y="6"/>
                    </a:cubicBezTo>
                    <a:cubicBezTo>
                      <a:pt x="15917" y="7"/>
                      <a:pt x="15916" y="8"/>
                      <a:pt x="15915" y="8"/>
                    </a:cubicBezTo>
                    <a:lnTo>
                      <a:pt x="15915" y="8"/>
                    </a:lnTo>
                    <a:cubicBezTo>
                      <a:pt x="15914" y="8"/>
                      <a:pt x="15913" y="7"/>
                      <a:pt x="15913" y="6"/>
                    </a:cubicBezTo>
                    <a:cubicBezTo>
                      <a:pt x="15913" y="5"/>
                      <a:pt x="15914" y="4"/>
                      <a:pt x="15915" y="4"/>
                    </a:cubicBezTo>
                    <a:close/>
                    <a:moveTo>
                      <a:pt x="15923" y="4"/>
                    </a:moveTo>
                    <a:lnTo>
                      <a:pt x="15923" y="4"/>
                    </a:lnTo>
                    <a:cubicBezTo>
                      <a:pt x="15924" y="4"/>
                      <a:pt x="15925" y="5"/>
                      <a:pt x="15925" y="6"/>
                    </a:cubicBezTo>
                    <a:cubicBezTo>
                      <a:pt x="15925" y="7"/>
                      <a:pt x="15924" y="8"/>
                      <a:pt x="15923" y="8"/>
                    </a:cubicBezTo>
                    <a:lnTo>
                      <a:pt x="15923" y="8"/>
                    </a:lnTo>
                    <a:cubicBezTo>
                      <a:pt x="15922" y="8"/>
                      <a:pt x="15921" y="7"/>
                      <a:pt x="15921" y="6"/>
                    </a:cubicBezTo>
                    <a:cubicBezTo>
                      <a:pt x="15921" y="5"/>
                      <a:pt x="15922" y="4"/>
                      <a:pt x="15923" y="4"/>
                    </a:cubicBezTo>
                    <a:close/>
                    <a:moveTo>
                      <a:pt x="15931" y="4"/>
                    </a:moveTo>
                    <a:lnTo>
                      <a:pt x="15931" y="4"/>
                    </a:lnTo>
                    <a:cubicBezTo>
                      <a:pt x="15932" y="4"/>
                      <a:pt x="15933" y="5"/>
                      <a:pt x="15933" y="6"/>
                    </a:cubicBezTo>
                    <a:cubicBezTo>
                      <a:pt x="15933" y="7"/>
                      <a:pt x="15932" y="8"/>
                      <a:pt x="15931" y="8"/>
                    </a:cubicBezTo>
                    <a:lnTo>
                      <a:pt x="15931" y="8"/>
                    </a:lnTo>
                    <a:cubicBezTo>
                      <a:pt x="15930" y="8"/>
                      <a:pt x="15929" y="7"/>
                      <a:pt x="15929" y="6"/>
                    </a:cubicBezTo>
                    <a:cubicBezTo>
                      <a:pt x="15929" y="5"/>
                      <a:pt x="15930" y="4"/>
                      <a:pt x="15931" y="4"/>
                    </a:cubicBezTo>
                    <a:close/>
                    <a:moveTo>
                      <a:pt x="15939" y="4"/>
                    </a:moveTo>
                    <a:lnTo>
                      <a:pt x="15939" y="4"/>
                    </a:lnTo>
                    <a:cubicBezTo>
                      <a:pt x="15940" y="4"/>
                      <a:pt x="15941" y="5"/>
                      <a:pt x="15941" y="6"/>
                    </a:cubicBezTo>
                    <a:cubicBezTo>
                      <a:pt x="15941" y="7"/>
                      <a:pt x="15940" y="8"/>
                      <a:pt x="15939" y="8"/>
                    </a:cubicBezTo>
                    <a:lnTo>
                      <a:pt x="15939" y="8"/>
                    </a:lnTo>
                    <a:cubicBezTo>
                      <a:pt x="15938" y="8"/>
                      <a:pt x="15937" y="7"/>
                      <a:pt x="15937" y="6"/>
                    </a:cubicBezTo>
                    <a:cubicBezTo>
                      <a:pt x="15937" y="5"/>
                      <a:pt x="15938" y="4"/>
                      <a:pt x="15939" y="4"/>
                    </a:cubicBezTo>
                    <a:close/>
                    <a:moveTo>
                      <a:pt x="15947" y="4"/>
                    </a:moveTo>
                    <a:lnTo>
                      <a:pt x="15947" y="4"/>
                    </a:lnTo>
                    <a:cubicBezTo>
                      <a:pt x="15948" y="4"/>
                      <a:pt x="15949" y="5"/>
                      <a:pt x="15949" y="6"/>
                    </a:cubicBezTo>
                    <a:cubicBezTo>
                      <a:pt x="15949" y="7"/>
                      <a:pt x="15948" y="8"/>
                      <a:pt x="15947" y="8"/>
                    </a:cubicBezTo>
                    <a:lnTo>
                      <a:pt x="15947" y="8"/>
                    </a:lnTo>
                    <a:cubicBezTo>
                      <a:pt x="15946" y="8"/>
                      <a:pt x="15945" y="7"/>
                      <a:pt x="15945" y="6"/>
                    </a:cubicBezTo>
                    <a:cubicBezTo>
                      <a:pt x="15945" y="5"/>
                      <a:pt x="15946" y="4"/>
                      <a:pt x="15947" y="4"/>
                    </a:cubicBezTo>
                    <a:close/>
                    <a:moveTo>
                      <a:pt x="15955" y="4"/>
                    </a:moveTo>
                    <a:lnTo>
                      <a:pt x="15955" y="4"/>
                    </a:lnTo>
                    <a:cubicBezTo>
                      <a:pt x="15956" y="4"/>
                      <a:pt x="15957" y="5"/>
                      <a:pt x="15957" y="6"/>
                    </a:cubicBezTo>
                    <a:cubicBezTo>
                      <a:pt x="15957" y="7"/>
                      <a:pt x="15956" y="8"/>
                      <a:pt x="15955" y="8"/>
                    </a:cubicBezTo>
                    <a:lnTo>
                      <a:pt x="15955" y="8"/>
                    </a:lnTo>
                    <a:cubicBezTo>
                      <a:pt x="15954" y="8"/>
                      <a:pt x="15953" y="7"/>
                      <a:pt x="15953" y="6"/>
                    </a:cubicBezTo>
                    <a:cubicBezTo>
                      <a:pt x="15953" y="5"/>
                      <a:pt x="15954" y="4"/>
                      <a:pt x="15955" y="4"/>
                    </a:cubicBezTo>
                    <a:close/>
                    <a:moveTo>
                      <a:pt x="15963" y="4"/>
                    </a:moveTo>
                    <a:lnTo>
                      <a:pt x="15963" y="4"/>
                    </a:lnTo>
                    <a:cubicBezTo>
                      <a:pt x="15964" y="4"/>
                      <a:pt x="15965" y="5"/>
                      <a:pt x="15965" y="6"/>
                    </a:cubicBezTo>
                    <a:cubicBezTo>
                      <a:pt x="15965" y="7"/>
                      <a:pt x="15964" y="8"/>
                      <a:pt x="15963" y="8"/>
                    </a:cubicBezTo>
                    <a:lnTo>
                      <a:pt x="15963" y="8"/>
                    </a:lnTo>
                    <a:cubicBezTo>
                      <a:pt x="15962" y="8"/>
                      <a:pt x="15961" y="7"/>
                      <a:pt x="15961" y="6"/>
                    </a:cubicBezTo>
                    <a:cubicBezTo>
                      <a:pt x="15961" y="5"/>
                      <a:pt x="15962" y="4"/>
                      <a:pt x="15963" y="4"/>
                    </a:cubicBezTo>
                    <a:close/>
                    <a:moveTo>
                      <a:pt x="15971" y="4"/>
                    </a:moveTo>
                    <a:lnTo>
                      <a:pt x="15971" y="4"/>
                    </a:lnTo>
                    <a:cubicBezTo>
                      <a:pt x="15972" y="4"/>
                      <a:pt x="15973" y="5"/>
                      <a:pt x="15973" y="6"/>
                    </a:cubicBezTo>
                    <a:cubicBezTo>
                      <a:pt x="15973" y="7"/>
                      <a:pt x="15972" y="8"/>
                      <a:pt x="15971" y="8"/>
                    </a:cubicBezTo>
                    <a:lnTo>
                      <a:pt x="15971" y="8"/>
                    </a:lnTo>
                    <a:cubicBezTo>
                      <a:pt x="15970" y="8"/>
                      <a:pt x="15969" y="7"/>
                      <a:pt x="15969" y="6"/>
                    </a:cubicBezTo>
                    <a:cubicBezTo>
                      <a:pt x="15969" y="5"/>
                      <a:pt x="15970" y="4"/>
                      <a:pt x="15971" y="4"/>
                    </a:cubicBezTo>
                    <a:close/>
                    <a:moveTo>
                      <a:pt x="15979" y="4"/>
                    </a:moveTo>
                    <a:lnTo>
                      <a:pt x="15979" y="4"/>
                    </a:lnTo>
                    <a:cubicBezTo>
                      <a:pt x="15980" y="4"/>
                      <a:pt x="15981" y="5"/>
                      <a:pt x="15981" y="6"/>
                    </a:cubicBezTo>
                    <a:cubicBezTo>
                      <a:pt x="15981" y="7"/>
                      <a:pt x="15980" y="8"/>
                      <a:pt x="15979" y="8"/>
                    </a:cubicBezTo>
                    <a:lnTo>
                      <a:pt x="15979" y="8"/>
                    </a:lnTo>
                    <a:cubicBezTo>
                      <a:pt x="15978" y="8"/>
                      <a:pt x="15977" y="7"/>
                      <a:pt x="15977" y="6"/>
                    </a:cubicBezTo>
                    <a:cubicBezTo>
                      <a:pt x="15977" y="5"/>
                      <a:pt x="15978" y="4"/>
                      <a:pt x="15979" y="4"/>
                    </a:cubicBezTo>
                    <a:close/>
                    <a:moveTo>
                      <a:pt x="15987" y="4"/>
                    </a:moveTo>
                    <a:lnTo>
                      <a:pt x="15987" y="4"/>
                    </a:lnTo>
                    <a:cubicBezTo>
                      <a:pt x="15988" y="4"/>
                      <a:pt x="15989" y="5"/>
                      <a:pt x="15989" y="6"/>
                    </a:cubicBezTo>
                    <a:cubicBezTo>
                      <a:pt x="15989" y="7"/>
                      <a:pt x="15988" y="8"/>
                      <a:pt x="15987" y="8"/>
                    </a:cubicBezTo>
                    <a:lnTo>
                      <a:pt x="15987" y="8"/>
                    </a:lnTo>
                    <a:cubicBezTo>
                      <a:pt x="15986" y="8"/>
                      <a:pt x="15985" y="7"/>
                      <a:pt x="15985" y="6"/>
                    </a:cubicBezTo>
                    <a:cubicBezTo>
                      <a:pt x="15985" y="5"/>
                      <a:pt x="15986" y="4"/>
                      <a:pt x="15987" y="4"/>
                    </a:cubicBezTo>
                    <a:close/>
                    <a:moveTo>
                      <a:pt x="15995" y="4"/>
                    </a:moveTo>
                    <a:lnTo>
                      <a:pt x="15995" y="4"/>
                    </a:lnTo>
                    <a:cubicBezTo>
                      <a:pt x="15996" y="4"/>
                      <a:pt x="15997" y="5"/>
                      <a:pt x="15997" y="6"/>
                    </a:cubicBezTo>
                    <a:cubicBezTo>
                      <a:pt x="15997" y="7"/>
                      <a:pt x="15996" y="8"/>
                      <a:pt x="15995" y="8"/>
                    </a:cubicBezTo>
                    <a:lnTo>
                      <a:pt x="15995" y="8"/>
                    </a:lnTo>
                    <a:cubicBezTo>
                      <a:pt x="15994" y="8"/>
                      <a:pt x="15993" y="7"/>
                      <a:pt x="15993" y="6"/>
                    </a:cubicBezTo>
                    <a:cubicBezTo>
                      <a:pt x="15993" y="5"/>
                      <a:pt x="15994" y="4"/>
                      <a:pt x="15995" y="4"/>
                    </a:cubicBezTo>
                    <a:close/>
                    <a:moveTo>
                      <a:pt x="16003" y="4"/>
                    </a:moveTo>
                    <a:lnTo>
                      <a:pt x="16003" y="4"/>
                    </a:lnTo>
                    <a:cubicBezTo>
                      <a:pt x="16004" y="4"/>
                      <a:pt x="16005" y="5"/>
                      <a:pt x="16005" y="6"/>
                    </a:cubicBezTo>
                    <a:cubicBezTo>
                      <a:pt x="16005" y="7"/>
                      <a:pt x="16004" y="8"/>
                      <a:pt x="16003" y="8"/>
                    </a:cubicBezTo>
                    <a:lnTo>
                      <a:pt x="16003" y="8"/>
                    </a:lnTo>
                    <a:cubicBezTo>
                      <a:pt x="16002" y="8"/>
                      <a:pt x="16001" y="7"/>
                      <a:pt x="16001" y="6"/>
                    </a:cubicBezTo>
                    <a:cubicBezTo>
                      <a:pt x="16001" y="5"/>
                      <a:pt x="16002" y="4"/>
                      <a:pt x="16003" y="4"/>
                    </a:cubicBezTo>
                    <a:close/>
                    <a:moveTo>
                      <a:pt x="16011" y="4"/>
                    </a:moveTo>
                    <a:lnTo>
                      <a:pt x="16011" y="4"/>
                    </a:lnTo>
                    <a:cubicBezTo>
                      <a:pt x="16012" y="4"/>
                      <a:pt x="16013" y="5"/>
                      <a:pt x="16013" y="6"/>
                    </a:cubicBezTo>
                    <a:cubicBezTo>
                      <a:pt x="16013" y="7"/>
                      <a:pt x="16012" y="8"/>
                      <a:pt x="16011" y="8"/>
                    </a:cubicBezTo>
                    <a:lnTo>
                      <a:pt x="16011" y="8"/>
                    </a:lnTo>
                    <a:cubicBezTo>
                      <a:pt x="16010" y="8"/>
                      <a:pt x="16009" y="7"/>
                      <a:pt x="16009" y="6"/>
                    </a:cubicBezTo>
                    <a:cubicBezTo>
                      <a:pt x="16009" y="5"/>
                      <a:pt x="16010" y="4"/>
                      <a:pt x="16011" y="4"/>
                    </a:cubicBezTo>
                    <a:close/>
                    <a:moveTo>
                      <a:pt x="16019" y="4"/>
                    </a:moveTo>
                    <a:lnTo>
                      <a:pt x="16019" y="4"/>
                    </a:lnTo>
                    <a:cubicBezTo>
                      <a:pt x="16020" y="4"/>
                      <a:pt x="16021" y="5"/>
                      <a:pt x="16021" y="6"/>
                    </a:cubicBezTo>
                    <a:cubicBezTo>
                      <a:pt x="16021" y="7"/>
                      <a:pt x="16020" y="8"/>
                      <a:pt x="16019" y="8"/>
                    </a:cubicBezTo>
                    <a:lnTo>
                      <a:pt x="16019" y="8"/>
                    </a:lnTo>
                    <a:cubicBezTo>
                      <a:pt x="16018" y="8"/>
                      <a:pt x="16017" y="7"/>
                      <a:pt x="16017" y="6"/>
                    </a:cubicBezTo>
                    <a:cubicBezTo>
                      <a:pt x="16017" y="5"/>
                      <a:pt x="16018" y="4"/>
                      <a:pt x="16019" y="4"/>
                    </a:cubicBezTo>
                    <a:close/>
                    <a:moveTo>
                      <a:pt x="16027" y="4"/>
                    </a:moveTo>
                    <a:lnTo>
                      <a:pt x="16027" y="4"/>
                    </a:lnTo>
                    <a:cubicBezTo>
                      <a:pt x="16028" y="4"/>
                      <a:pt x="16029" y="5"/>
                      <a:pt x="16029" y="6"/>
                    </a:cubicBezTo>
                    <a:cubicBezTo>
                      <a:pt x="16029" y="7"/>
                      <a:pt x="16028" y="8"/>
                      <a:pt x="16027" y="8"/>
                    </a:cubicBezTo>
                    <a:lnTo>
                      <a:pt x="16027" y="8"/>
                    </a:lnTo>
                    <a:cubicBezTo>
                      <a:pt x="16026" y="8"/>
                      <a:pt x="16025" y="7"/>
                      <a:pt x="16025" y="6"/>
                    </a:cubicBezTo>
                    <a:cubicBezTo>
                      <a:pt x="16025" y="5"/>
                      <a:pt x="16026" y="4"/>
                      <a:pt x="16027" y="4"/>
                    </a:cubicBezTo>
                    <a:close/>
                    <a:moveTo>
                      <a:pt x="16035" y="4"/>
                    </a:moveTo>
                    <a:lnTo>
                      <a:pt x="16035" y="4"/>
                    </a:lnTo>
                    <a:cubicBezTo>
                      <a:pt x="16036" y="4"/>
                      <a:pt x="16037" y="5"/>
                      <a:pt x="16037" y="6"/>
                    </a:cubicBezTo>
                    <a:cubicBezTo>
                      <a:pt x="16037" y="7"/>
                      <a:pt x="16036" y="8"/>
                      <a:pt x="16035" y="8"/>
                    </a:cubicBezTo>
                    <a:lnTo>
                      <a:pt x="16035" y="8"/>
                    </a:lnTo>
                    <a:cubicBezTo>
                      <a:pt x="16034" y="8"/>
                      <a:pt x="16033" y="7"/>
                      <a:pt x="16033" y="6"/>
                    </a:cubicBezTo>
                    <a:cubicBezTo>
                      <a:pt x="16033" y="5"/>
                      <a:pt x="16034" y="4"/>
                      <a:pt x="16035" y="4"/>
                    </a:cubicBezTo>
                    <a:close/>
                    <a:moveTo>
                      <a:pt x="16043" y="4"/>
                    </a:moveTo>
                    <a:lnTo>
                      <a:pt x="16043" y="4"/>
                    </a:lnTo>
                    <a:cubicBezTo>
                      <a:pt x="16044" y="4"/>
                      <a:pt x="16045" y="5"/>
                      <a:pt x="16045" y="6"/>
                    </a:cubicBezTo>
                    <a:cubicBezTo>
                      <a:pt x="16045" y="7"/>
                      <a:pt x="16044" y="8"/>
                      <a:pt x="16043" y="8"/>
                    </a:cubicBezTo>
                    <a:lnTo>
                      <a:pt x="16043" y="8"/>
                    </a:lnTo>
                    <a:cubicBezTo>
                      <a:pt x="16042" y="8"/>
                      <a:pt x="16041" y="7"/>
                      <a:pt x="16041" y="6"/>
                    </a:cubicBezTo>
                    <a:cubicBezTo>
                      <a:pt x="16041" y="5"/>
                      <a:pt x="16042" y="4"/>
                      <a:pt x="16043" y="4"/>
                    </a:cubicBezTo>
                    <a:close/>
                    <a:moveTo>
                      <a:pt x="16051" y="4"/>
                    </a:moveTo>
                    <a:lnTo>
                      <a:pt x="16051" y="4"/>
                    </a:lnTo>
                    <a:cubicBezTo>
                      <a:pt x="16052" y="4"/>
                      <a:pt x="16053" y="5"/>
                      <a:pt x="16053" y="6"/>
                    </a:cubicBezTo>
                    <a:cubicBezTo>
                      <a:pt x="16053" y="7"/>
                      <a:pt x="16052" y="8"/>
                      <a:pt x="16051" y="8"/>
                    </a:cubicBezTo>
                    <a:lnTo>
                      <a:pt x="16051" y="8"/>
                    </a:lnTo>
                    <a:cubicBezTo>
                      <a:pt x="16050" y="8"/>
                      <a:pt x="16049" y="7"/>
                      <a:pt x="16049" y="6"/>
                    </a:cubicBezTo>
                    <a:cubicBezTo>
                      <a:pt x="16049" y="5"/>
                      <a:pt x="16050" y="4"/>
                      <a:pt x="16051" y="4"/>
                    </a:cubicBezTo>
                    <a:close/>
                    <a:moveTo>
                      <a:pt x="16059" y="4"/>
                    </a:moveTo>
                    <a:lnTo>
                      <a:pt x="16059" y="4"/>
                    </a:lnTo>
                    <a:cubicBezTo>
                      <a:pt x="16060" y="4"/>
                      <a:pt x="16061" y="5"/>
                      <a:pt x="16061" y="6"/>
                    </a:cubicBezTo>
                    <a:cubicBezTo>
                      <a:pt x="16061" y="7"/>
                      <a:pt x="16060" y="8"/>
                      <a:pt x="16059" y="8"/>
                    </a:cubicBezTo>
                    <a:lnTo>
                      <a:pt x="16059" y="8"/>
                    </a:lnTo>
                    <a:cubicBezTo>
                      <a:pt x="16058" y="8"/>
                      <a:pt x="16057" y="7"/>
                      <a:pt x="16057" y="6"/>
                    </a:cubicBezTo>
                    <a:cubicBezTo>
                      <a:pt x="16057" y="5"/>
                      <a:pt x="16058" y="4"/>
                      <a:pt x="16059" y="4"/>
                    </a:cubicBezTo>
                    <a:close/>
                    <a:moveTo>
                      <a:pt x="16067" y="4"/>
                    </a:moveTo>
                    <a:lnTo>
                      <a:pt x="16067" y="4"/>
                    </a:lnTo>
                    <a:cubicBezTo>
                      <a:pt x="16068" y="4"/>
                      <a:pt x="16069" y="5"/>
                      <a:pt x="16069" y="6"/>
                    </a:cubicBezTo>
                    <a:cubicBezTo>
                      <a:pt x="16069" y="7"/>
                      <a:pt x="16068" y="8"/>
                      <a:pt x="16067" y="8"/>
                    </a:cubicBezTo>
                    <a:lnTo>
                      <a:pt x="16067" y="8"/>
                    </a:lnTo>
                    <a:cubicBezTo>
                      <a:pt x="16066" y="8"/>
                      <a:pt x="16065" y="7"/>
                      <a:pt x="16065" y="6"/>
                    </a:cubicBezTo>
                    <a:cubicBezTo>
                      <a:pt x="16065" y="5"/>
                      <a:pt x="16066" y="4"/>
                      <a:pt x="16067" y="4"/>
                    </a:cubicBezTo>
                    <a:close/>
                    <a:moveTo>
                      <a:pt x="16075" y="4"/>
                    </a:moveTo>
                    <a:lnTo>
                      <a:pt x="16075" y="4"/>
                    </a:lnTo>
                    <a:cubicBezTo>
                      <a:pt x="16076" y="4"/>
                      <a:pt x="16077" y="5"/>
                      <a:pt x="16077" y="6"/>
                    </a:cubicBezTo>
                    <a:cubicBezTo>
                      <a:pt x="16077" y="7"/>
                      <a:pt x="16076" y="8"/>
                      <a:pt x="16075" y="8"/>
                    </a:cubicBezTo>
                    <a:lnTo>
                      <a:pt x="16075" y="8"/>
                    </a:lnTo>
                    <a:cubicBezTo>
                      <a:pt x="16074" y="8"/>
                      <a:pt x="16073" y="7"/>
                      <a:pt x="16073" y="6"/>
                    </a:cubicBezTo>
                    <a:cubicBezTo>
                      <a:pt x="16073" y="5"/>
                      <a:pt x="16074" y="4"/>
                      <a:pt x="16075" y="4"/>
                    </a:cubicBezTo>
                    <a:close/>
                    <a:moveTo>
                      <a:pt x="16083" y="4"/>
                    </a:moveTo>
                    <a:lnTo>
                      <a:pt x="16083" y="4"/>
                    </a:lnTo>
                    <a:cubicBezTo>
                      <a:pt x="16084" y="4"/>
                      <a:pt x="16085" y="5"/>
                      <a:pt x="16085" y="6"/>
                    </a:cubicBezTo>
                    <a:cubicBezTo>
                      <a:pt x="16085" y="7"/>
                      <a:pt x="16084" y="8"/>
                      <a:pt x="16083" y="8"/>
                    </a:cubicBezTo>
                    <a:lnTo>
                      <a:pt x="16083" y="8"/>
                    </a:lnTo>
                    <a:cubicBezTo>
                      <a:pt x="16082" y="8"/>
                      <a:pt x="16081" y="7"/>
                      <a:pt x="16081" y="6"/>
                    </a:cubicBezTo>
                    <a:cubicBezTo>
                      <a:pt x="16081" y="5"/>
                      <a:pt x="16082" y="4"/>
                      <a:pt x="16083" y="4"/>
                    </a:cubicBezTo>
                    <a:close/>
                    <a:moveTo>
                      <a:pt x="16091" y="4"/>
                    </a:moveTo>
                    <a:lnTo>
                      <a:pt x="16091" y="4"/>
                    </a:lnTo>
                    <a:cubicBezTo>
                      <a:pt x="16092" y="4"/>
                      <a:pt x="16093" y="5"/>
                      <a:pt x="16093" y="6"/>
                    </a:cubicBezTo>
                    <a:cubicBezTo>
                      <a:pt x="16093" y="7"/>
                      <a:pt x="16092" y="8"/>
                      <a:pt x="16091" y="8"/>
                    </a:cubicBezTo>
                    <a:lnTo>
                      <a:pt x="16091" y="8"/>
                    </a:lnTo>
                    <a:cubicBezTo>
                      <a:pt x="16090" y="8"/>
                      <a:pt x="16089" y="7"/>
                      <a:pt x="16089" y="6"/>
                    </a:cubicBezTo>
                    <a:cubicBezTo>
                      <a:pt x="16089" y="5"/>
                      <a:pt x="16090" y="4"/>
                      <a:pt x="16091" y="4"/>
                    </a:cubicBezTo>
                    <a:close/>
                    <a:moveTo>
                      <a:pt x="16099" y="4"/>
                    </a:moveTo>
                    <a:lnTo>
                      <a:pt x="16099" y="4"/>
                    </a:lnTo>
                    <a:cubicBezTo>
                      <a:pt x="16100" y="4"/>
                      <a:pt x="16101" y="5"/>
                      <a:pt x="16101" y="6"/>
                    </a:cubicBezTo>
                    <a:cubicBezTo>
                      <a:pt x="16101" y="7"/>
                      <a:pt x="16100" y="8"/>
                      <a:pt x="16099" y="8"/>
                    </a:cubicBezTo>
                    <a:lnTo>
                      <a:pt x="16099" y="8"/>
                    </a:lnTo>
                    <a:cubicBezTo>
                      <a:pt x="16098" y="8"/>
                      <a:pt x="16097" y="7"/>
                      <a:pt x="16097" y="6"/>
                    </a:cubicBezTo>
                    <a:cubicBezTo>
                      <a:pt x="16097" y="5"/>
                      <a:pt x="16098" y="4"/>
                      <a:pt x="16099" y="4"/>
                    </a:cubicBezTo>
                    <a:close/>
                    <a:moveTo>
                      <a:pt x="16107" y="4"/>
                    </a:moveTo>
                    <a:lnTo>
                      <a:pt x="16107" y="4"/>
                    </a:lnTo>
                    <a:cubicBezTo>
                      <a:pt x="16108" y="4"/>
                      <a:pt x="16109" y="5"/>
                      <a:pt x="16109" y="6"/>
                    </a:cubicBezTo>
                    <a:cubicBezTo>
                      <a:pt x="16109" y="7"/>
                      <a:pt x="16108" y="8"/>
                      <a:pt x="16107" y="8"/>
                    </a:cubicBezTo>
                    <a:lnTo>
                      <a:pt x="16107" y="8"/>
                    </a:lnTo>
                    <a:cubicBezTo>
                      <a:pt x="16106" y="8"/>
                      <a:pt x="16105" y="7"/>
                      <a:pt x="16105" y="6"/>
                    </a:cubicBezTo>
                    <a:cubicBezTo>
                      <a:pt x="16105" y="5"/>
                      <a:pt x="16106" y="4"/>
                      <a:pt x="16107" y="4"/>
                    </a:cubicBezTo>
                    <a:close/>
                    <a:moveTo>
                      <a:pt x="16115" y="4"/>
                    </a:moveTo>
                    <a:lnTo>
                      <a:pt x="16115" y="4"/>
                    </a:lnTo>
                    <a:cubicBezTo>
                      <a:pt x="16116" y="4"/>
                      <a:pt x="16117" y="5"/>
                      <a:pt x="16117" y="6"/>
                    </a:cubicBezTo>
                    <a:cubicBezTo>
                      <a:pt x="16117" y="7"/>
                      <a:pt x="16116" y="8"/>
                      <a:pt x="16115" y="8"/>
                    </a:cubicBezTo>
                    <a:lnTo>
                      <a:pt x="16115" y="8"/>
                    </a:lnTo>
                    <a:cubicBezTo>
                      <a:pt x="16114" y="8"/>
                      <a:pt x="16113" y="7"/>
                      <a:pt x="16113" y="6"/>
                    </a:cubicBezTo>
                    <a:cubicBezTo>
                      <a:pt x="16113" y="5"/>
                      <a:pt x="16114" y="4"/>
                      <a:pt x="16115" y="4"/>
                    </a:cubicBezTo>
                    <a:close/>
                    <a:moveTo>
                      <a:pt x="16123" y="4"/>
                    </a:moveTo>
                    <a:lnTo>
                      <a:pt x="16123" y="4"/>
                    </a:lnTo>
                    <a:cubicBezTo>
                      <a:pt x="16124" y="4"/>
                      <a:pt x="16125" y="5"/>
                      <a:pt x="16125" y="6"/>
                    </a:cubicBezTo>
                    <a:cubicBezTo>
                      <a:pt x="16125" y="7"/>
                      <a:pt x="16124" y="8"/>
                      <a:pt x="16123" y="8"/>
                    </a:cubicBezTo>
                    <a:lnTo>
                      <a:pt x="16123" y="8"/>
                    </a:lnTo>
                    <a:cubicBezTo>
                      <a:pt x="16122" y="8"/>
                      <a:pt x="16121" y="7"/>
                      <a:pt x="16121" y="6"/>
                    </a:cubicBezTo>
                    <a:cubicBezTo>
                      <a:pt x="16121" y="5"/>
                      <a:pt x="16122" y="4"/>
                      <a:pt x="16123" y="4"/>
                    </a:cubicBezTo>
                    <a:close/>
                    <a:moveTo>
                      <a:pt x="16131" y="4"/>
                    </a:moveTo>
                    <a:lnTo>
                      <a:pt x="16131" y="4"/>
                    </a:lnTo>
                    <a:cubicBezTo>
                      <a:pt x="16132" y="4"/>
                      <a:pt x="16133" y="5"/>
                      <a:pt x="16133" y="6"/>
                    </a:cubicBezTo>
                    <a:cubicBezTo>
                      <a:pt x="16133" y="7"/>
                      <a:pt x="16132" y="8"/>
                      <a:pt x="16131" y="8"/>
                    </a:cubicBezTo>
                    <a:lnTo>
                      <a:pt x="16131" y="8"/>
                    </a:lnTo>
                    <a:cubicBezTo>
                      <a:pt x="16130" y="8"/>
                      <a:pt x="16129" y="7"/>
                      <a:pt x="16129" y="6"/>
                    </a:cubicBezTo>
                    <a:cubicBezTo>
                      <a:pt x="16129" y="5"/>
                      <a:pt x="16130" y="4"/>
                      <a:pt x="16131" y="4"/>
                    </a:cubicBezTo>
                    <a:close/>
                    <a:moveTo>
                      <a:pt x="16139" y="4"/>
                    </a:moveTo>
                    <a:lnTo>
                      <a:pt x="16139" y="4"/>
                    </a:lnTo>
                    <a:cubicBezTo>
                      <a:pt x="16140" y="4"/>
                      <a:pt x="16141" y="5"/>
                      <a:pt x="16141" y="6"/>
                    </a:cubicBezTo>
                    <a:cubicBezTo>
                      <a:pt x="16141" y="7"/>
                      <a:pt x="16140" y="8"/>
                      <a:pt x="16139" y="8"/>
                    </a:cubicBezTo>
                    <a:lnTo>
                      <a:pt x="16139" y="8"/>
                    </a:lnTo>
                    <a:cubicBezTo>
                      <a:pt x="16138" y="8"/>
                      <a:pt x="16137" y="7"/>
                      <a:pt x="16137" y="6"/>
                    </a:cubicBezTo>
                    <a:cubicBezTo>
                      <a:pt x="16137" y="5"/>
                      <a:pt x="16138" y="4"/>
                      <a:pt x="16139" y="4"/>
                    </a:cubicBezTo>
                    <a:close/>
                    <a:moveTo>
                      <a:pt x="16147" y="4"/>
                    </a:moveTo>
                    <a:lnTo>
                      <a:pt x="16147" y="4"/>
                    </a:lnTo>
                    <a:cubicBezTo>
                      <a:pt x="16148" y="4"/>
                      <a:pt x="16149" y="5"/>
                      <a:pt x="16149" y="6"/>
                    </a:cubicBezTo>
                    <a:cubicBezTo>
                      <a:pt x="16149" y="7"/>
                      <a:pt x="16148" y="8"/>
                      <a:pt x="16147" y="8"/>
                    </a:cubicBezTo>
                    <a:lnTo>
                      <a:pt x="16147" y="8"/>
                    </a:lnTo>
                    <a:cubicBezTo>
                      <a:pt x="16146" y="8"/>
                      <a:pt x="16145" y="7"/>
                      <a:pt x="16145" y="6"/>
                    </a:cubicBezTo>
                    <a:cubicBezTo>
                      <a:pt x="16145" y="5"/>
                      <a:pt x="16146" y="4"/>
                      <a:pt x="16147" y="4"/>
                    </a:cubicBezTo>
                    <a:close/>
                    <a:moveTo>
                      <a:pt x="16155" y="4"/>
                    </a:moveTo>
                    <a:lnTo>
                      <a:pt x="16155" y="4"/>
                    </a:lnTo>
                    <a:cubicBezTo>
                      <a:pt x="16156" y="4"/>
                      <a:pt x="16157" y="5"/>
                      <a:pt x="16157" y="6"/>
                    </a:cubicBezTo>
                    <a:cubicBezTo>
                      <a:pt x="16157" y="7"/>
                      <a:pt x="16156" y="8"/>
                      <a:pt x="16155" y="8"/>
                    </a:cubicBezTo>
                    <a:lnTo>
                      <a:pt x="16155" y="8"/>
                    </a:lnTo>
                    <a:cubicBezTo>
                      <a:pt x="16154" y="8"/>
                      <a:pt x="16153" y="7"/>
                      <a:pt x="16153" y="6"/>
                    </a:cubicBezTo>
                    <a:cubicBezTo>
                      <a:pt x="16153" y="5"/>
                      <a:pt x="16154" y="4"/>
                      <a:pt x="16155" y="4"/>
                    </a:cubicBezTo>
                    <a:close/>
                    <a:moveTo>
                      <a:pt x="16163" y="4"/>
                    </a:moveTo>
                    <a:lnTo>
                      <a:pt x="16163" y="4"/>
                    </a:lnTo>
                    <a:cubicBezTo>
                      <a:pt x="16164" y="4"/>
                      <a:pt x="16165" y="5"/>
                      <a:pt x="16165" y="6"/>
                    </a:cubicBezTo>
                    <a:cubicBezTo>
                      <a:pt x="16165" y="7"/>
                      <a:pt x="16164" y="8"/>
                      <a:pt x="16163" y="8"/>
                    </a:cubicBezTo>
                    <a:lnTo>
                      <a:pt x="16163" y="8"/>
                    </a:lnTo>
                    <a:cubicBezTo>
                      <a:pt x="16162" y="8"/>
                      <a:pt x="16161" y="7"/>
                      <a:pt x="16161" y="6"/>
                    </a:cubicBezTo>
                    <a:cubicBezTo>
                      <a:pt x="16161" y="5"/>
                      <a:pt x="16162" y="4"/>
                      <a:pt x="16163" y="4"/>
                    </a:cubicBezTo>
                    <a:close/>
                    <a:moveTo>
                      <a:pt x="16171" y="4"/>
                    </a:moveTo>
                    <a:lnTo>
                      <a:pt x="16171" y="4"/>
                    </a:lnTo>
                    <a:cubicBezTo>
                      <a:pt x="16172" y="4"/>
                      <a:pt x="16173" y="5"/>
                      <a:pt x="16173" y="6"/>
                    </a:cubicBezTo>
                    <a:cubicBezTo>
                      <a:pt x="16173" y="7"/>
                      <a:pt x="16172" y="8"/>
                      <a:pt x="16171" y="8"/>
                    </a:cubicBezTo>
                    <a:lnTo>
                      <a:pt x="16171" y="8"/>
                    </a:lnTo>
                    <a:cubicBezTo>
                      <a:pt x="16170" y="8"/>
                      <a:pt x="16169" y="7"/>
                      <a:pt x="16169" y="6"/>
                    </a:cubicBezTo>
                    <a:cubicBezTo>
                      <a:pt x="16169" y="5"/>
                      <a:pt x="16170" y="4"/>
                      <a:pt x="16171" y="4"/>
                    </a:cubicBezTo>
                    <a:close/>
                    <a:moveTo>
                      <a:pt x="16179" y="4"/>
                    </a:moveTo>
                    <a:lnTo>
                      <a:pt x="16179" y="4"/>
                    </a:lnTo>
                    <a:cubicBezTo>
                      <a:pt x="16180" y="4"/>
                      <a:pt x="16181" y="5"/>
                      <a:pt x="16181" y="6"/>
                    </a:cubicBezTo>
                    <a:cubicBezTo>
                      <a:pt x="16181" y="7"/>
                      <a:pt x="16180" y="8"/>
                      <a:pt x="16179" y="8"/>
                    </a:cubicBezTo>
                    <a:lnTo>
                      <a:pt x="16179" y="8"/>
                    </a:lnTo>
                    <a:cubicBezTo>
                      <a:pt x="16178" y="8"/>
                      <a:pt x="16177" y="7"/>
                      <a:pt x="16177" y="6"/>
                    </a:cubicBezTo>
                    <a:cubicBezTo>
                      <a:pt x="16177" y="5"/>
                      <a:pt x="16178" y="4"/>
                      <a:pt x="16179" y="4"/>
                    </a:cubicBezTo>
                    <a:close/>
                    <a:moveTo>
                      <a:pt x="16187" y="4"/>
                    </a:moveTo>
                    <a:lnTo>
                      <a:pt x="16187" y="4"/>
                    </a:lnTo>
                    <a:cubicBezTo>
                      <a:pt x="16188" y="4"/>
                      <a:pt x="16189" y="5"/>
                      <a:pt x="16189" y="6"/>
                    </a:cubicBezTo>
                    <a:cubicBezTo>
                      <a:pt x="16189" y="7"/>
                      <a:pt x="16188" y="8"/>
                      <a:pt x="16187" y="8"/>
                    </a:cubicBezTo>
                    <a:lnTo>
                      <a:pt x="16187" y="8"/>
                    </a:lnTo>
                    <a:cubicBezTo>
                      <a:pt x="16186" y="8"/>
                      <a:pt x="16185" y="7"/>
                      <a:pt x="16185" y="6"/>
                    </a:cubicBezTo>
                    <a:cubicBezTo>
                      <a:pt x="16185" y="5"/>
                      <a:pt x="16186" y="4"/>
                      <a:pt x="16187" y="4"/>
                    </a:cubicBezTo>
                    <a:close/>
                    <a:moveTo>
                      <a:pt x="16195" y="4"/>
                    </a:moveTo>
                    <a:lnTo>
                      <a:pt x="16195" y="4"/>
                    </a:lnTo>
                    <a:cubicBezTo>
                      <a:pt x="16196" y="4"/>
                      <a:pt x="16197" y="5"/>
                      <a:pt x="16197" y="6"/>
                    </a:cubicBezTo>
                    <a:cubicBezTo>
                      <a:pt x="16197" y="7"/>
                      <a:pt x="16196" y="8"/>
                      <a:pt x="16195" y="8"/>
                    </a:cubicBezTo>
                    <a:lnTo>
                      <a:pt x="16195" y="8"/>
                    </a:lnTo>
                    <a:cubicBezTo>
                      <a:pt x="16194" y="8"/>
                      <a:pt x="16193" y="7"/>
                      <a:pt x="16193" y="6"/>
                    </a:cubicBezTo>
                    <a:cubicBezTo>
                      <a:pt x="16193" y="5"/>
                      <a:pt x="16194" y="4"/>
                      <a:pt x="16195" y="4"/>
                    </a:cubicBezTo>
                    <a:close/>
                    <a:moveTo>
                      <a:pt x="16203" y="4"/>
                    </a:moveTo>
                    <a:lnTo>
                      <a:pt x="16203" y="4"/>
                    </a:lnTo>
                    <a:cubicBezTo>
                      <a:pt x="16204" y="4"/>
                      <a:pt x="16205" y="5"/>
                      <a:pt x="16205" y="6"/>
                    </a:cubicBezTo>
                    <a:cubicBezTo>
                      <a:pt x="16205" y="7"/>
                      <a:pt x="16204" y="8"/>
                      <a:pt x="16203" y="8"/>
                    </a:cubicBezTo>
                    <a:lnTo>
                      <a:pt x="16203" y="8"/>
                    </a:lnTo>
                    <a:cubicBezTo>
                      <a:pt x="16202" y="8"/>
                      <a:pt x="16201" y="7"/>
                      <a:pt x="16201" y="6"/>
                    </a:cubicBezTo>
                    <a:cubicBezTo>
                      <a:pt x="16201" y="5"/>
                      <a:pt x="16202" y="4"/>
                      <a:pt x="16203" y="4"/>
                    </a:cubicBezTo>
                    <a:close/>
                    <a:moveTo>
                      <a:pt x="16211" y="4"/>
                    </a:moveTo>
                    <a:lnTo>
                      <a:pt x="16211" y="4"/>
                    </a:lnTo>
                    <a:cubicBezTo>
                      <a:pt x="16212" y="4"/>
                      <a:pt x="16213" y="5"/>
                      <a:pt x="16213" y="6"/>
                    </a:cubicBezTo>
                    <a:cubicBezTo>
                      <a:pt x="16213" y="7"/>
                      <a:pt x="16212" y="8"/>
                      <a:pt x="16211" y="8"/>
                    </a:cubicBezTo>
                    <a:lnTo>
                      <a:pt x="16211" y="8"/>
                    </a:lnTo>
                    <a:cubicBezTo>
                      <a:pt x="16210" y="8"/>
                      <a:pt x="16209" y="7"/>
                      <a:pt x="16209" y="6"/>
                    </a:cubicBezTo>
                    <a:cubicBezTo>
                      <a:pt x="16209" y="5"/>
                      <a:pt x="16210" y="4"/>
                      <a:pt x="16211" y="4"/>
                    </a:cubicBezTo>
                    <a:close/>
                    <a:moveTo>
                      <a:pt x="16219" y="4"/>
                    </a:moveTo>
                    <a:lnTo>
                      <a:pt x="16219" y="4"/>
                    </a:lnTo>
                    <a:cubicBezTo>
                      <a:pt x="16220" y="4"/>
                      <a:pt x="16221" y="5"/>
                      <a:pt x="16221" y="6"/>
                    </a:cubicBezTo>
                    <a:cubicBezTo>
                      <a:pt x="16221" y="7"/>
                      <a:pt x="16220" y="8"/>
                      <a:pt x="16219" y="8"/>
                    </a:cubicBezTo>
                    <a:lnTo>
                      <a:pt x="16219" y="8"/>
                    </a:lnTo>
                    <a:cubicBezTo>
                      <a:pt x="16218" y="8"/>
                      <a:pt x="16217" y="7"/>
                      <a:pt x="16217" y="6"/>
                    </a:cubicBezTo>
                    <a:cubicBezTo>
                      <a:pt x="16217" y="5"/>
                      <a:pt x="16218" y="4"/>
                      <a:pt x="16219" y="4"/>
                    </a:cubicBezTo>
                    <a:close/>
                    <a:moveTo>
                      <a:pt x="16227" y="4"/>
                    </a:moveTo>
                    <a:lnTo>
                      <a:pt x="16227" y="4"/>
                    </a:lnTo>
                    <a:cubicBezTo>
                      <a:pt x="16228" y="4"/>
                      <a:pt x="16229" y="5"/>
                      <a:pt x="16229" y="6"/>
                    </a:cubicBezTo>
                    <a:cubicBezTo>
                      <a:pt x="16229" y="7"/>
                      <a:pt x="16228" y="8"/>
                      <a:pt x="16227" y="8"/>
                    </a:cubicBezTo>
                    <a:lnTo>
                      <a:pt x="16227" y="8"/>
                    </a:lnTo>
                    <a:cubicBezTo>
                      <a:pt x="16226" y="8"/>
                      <a:pt x="16225" y="7"/>
                      <a:pt x="16225" y="6"/>
                    </a:cubicBezTo>
                    <a:cubicBezTo>
                      <a:pt x="16225" y="5"/>
                      <a:pt x="16226" y="4"/>
                      <a:pt x="16227" y="4"/>
                    </a:cubicBezTo>
                    <a:close/>
                    <a:moveTo>
                      <a:pt x="16235" y="4"/>
                    </a:moveTo>
                    <a:lnTo>
                      <a:pt x="16235" y="4"/>
                    </a:lnTo>
                    <a:cubicBezTo>
                      <a:pt x="16236" y="4"/>
                      <a:pt x="16237" y="5"/>
                      <a:pt x="16237" y="6"/>
                    </a:cubicBezTo>
                    <a:cubicBezTo>
                      <a:pt x="16237" y="7"/>
                      <a:pt x="16236" y="8"/>
                      <a:pt x="16235" y="8"/>
                    </a:cubicBezTo>
                    <a:lnTo>
                      <a:pt x="16235" y="8"/>
                    </a:lnTo>
                    <a:cubicBezTo>
                      <a:pt x="16234" y="8"/>
                      <a:pt x="16233" y="7"/>
                      <a:pt x="16233" y="6"/>
                    </a:cubicBezTo>
                    <a:cubicBezTo>
                      <a:pt x="16233" y="5"/>
                      <a:pt x="16234" y="4"/>
                      <a:pt x="16235" y="4"/>
                    </a:cubicBezTo>
                    <a:close/>
                    <a:moveTo>
                      <a:pt x="16243" y="4"/>
                    </a:moveTo>
                    <a:lnTo>
                      <a:pt x="16243" y="4"/>
                    </a:lnTo>
                    <a:cubicBezTo>
                      <a:pt x="16244" y="4"/>
                      <a:pt x="16245" y="5"/>
                      <a:pt x="16245" y="6"/>
                    </a:cubicBezTo>
                    <a:cubicBezTo>
                      <a:pt x="16245" y="7"/>
                      <a:pt x="16244" y="8"/>
                      <a:pt x="16243" y="8"/>
                    </a:cubicBezTo>
                    <a:lnTo>
                      <a:pt x="16243" y="8"/>
                    </a:lnTo>
                    <a:cubicBezTo>
                      <a:pt x="16242" y="8"/>
                      <a:pt x="16241" y="7"/>
                      <a:pt x="16241" y="6"/>
                    </a:cubicBezTo>
                    <a:cubicBezTo>
                      <a:pt x="16241" y="5"/>
                      <a:pt x="16242" y="4"/>
                      <a:pt x="16243" y="4"/>
                    </a:cubicBezTo>
                    <a:close/>
                    <a:moveTo>
                      <a:pt x="16251" y="4"/>
                    </a:moveTo>
                    <a:lnTo>
                      <a:pt x="16251" y="4"/>
                    </a:lnTo>
                    <a:cubicBezTo>
                      <a:pt x="16252" y="4"/>
                      <a:pt x="16253" y="5"/>
                      <a:pt x="16253" y="6"/>
                    </a:cubicBezTo>
                    <a:cubicBezTo>
                      <a:pt x="16253" y="7"/>
                      <a:pt x="16252" y="8"/>
                      <a:pt x="16251" y="8"/>
                    </a:cubicBezTo>
                    <a:lnTo>
                      <a:pt x="16251" y="8"/>
                    </a:lnTo>
                    <a:cubicBezTo>
                      <a:pt x="16250" y="8"/>
                      <a:pt x="16249" y="7"/>
                      <a:pt x="16249" y="6"/>
                    </a:cubicBezTo>
                    <a:cubicBezTo>
                      <a:pt x="16249" y="5"/>
                      <a:pt x="16250" y="4"/>
                      <a:pt x="16251" y="4"/>
                    </a:cubicBezTo>
                    <a:close/>
                    <a:moveTo>
                      <a:pt x="16259" y="4"/>
                    </a:moveTo>
                    <a:lnTo>
                      <a:pt x="16259" y="4"/>
                    </a:lnTo>
                    <a:cubicBezTo>
                      <a:pt x="16260" y="4"/>
                      <a:pt x="16261" y="5"/>
                      <a:pt x="16261" y="6"/>
                    </a:cubicBezTo>
                    <a:cubicBezTo>
                      <a:pt x="16261" y="7"/>
                      <a:pt x="16260" y="8"/>
                      <a:pt x="16259" y="8"/>
                    </a:cubicBezTo>
                    <a:lnTo>
                      <a:pt x="16259" y="8"/>
                    </a:lnTo>
                    <a:cubicBezTo>
                      <a:pt x="16258" y="8"/>
                      <a:pt x="16257" y="7"/>
                      <a:pt x="16257" y="6"/>
                    </a:cubicBezTo>
                    <a:cubicBezTo>
                      <a:pt x="16257" y="5"/>
                      <a:pt x="16258" y="4"/>
                      <a:pt x="16259" y="4"/>
                    </a:cubicBezTo>
                    <a:close/>
                    <a:moveTo>
                      <a:pt x="16267" y="4"/>
                    </a:moveTo>
                    <a:lnTo>
                      <a:pt x="16267" y="4"/>
                    </a:lnTo>
                    <a:cubicBezTo>
                      <a:pt x="16268" y="4"/>
                      <a:pt x="16269" y="5"/>
                      <a:pt x="16269" y="6"/>
                    </a:cubicBezTo>
                    <a:cubicBezTo>
                      <a:pt x="16269" y="7"/>
                      <a:pt x="16268" y="8"/>
                      <a:pt x="16267" y="8"/>
                    </a:cubicBezTo>
                    <a:lnTo>
                      <a:pt x="16267" y="8"/>
                    </a:lnTo>
                    <a:cubicBezTo>
                      <a:pt x="16266" y="8"/>
                      <a:pt x="16265" y="7"/>
                      <a:pt x="16265" y="6"/>
                    </a:cubicBezTo>
                    <a:cubicBezTo>
                      <a:pt x="16265" y="5"/>
                      <a:pt x="16266" y="4"/>
                      <a:pt x="16267" y="4"/>
                    </a:cubicBezTo>
                    <a:close/>
                    <a:moveTo>
                      <a:pt x="16275" y="4"/>
                    </a:moveTo>
                    <a:lnTo>
                      <a:pt x="16275" y="4"/>
                    </a:lnTo>
                    <a:cubicBezTo>
                      <a:pt x="16276" y="4"/>
                      <a:pt x="16277" y="5"/>
                      <a:pt x="16277" y="6"/>
                    </a:cubicBezTo>
                    <a:cubicBezTo>
                      <a:pt x="16277" y="7"/>
                      <a:pt x="16276" y="8"/>
                      <a:pt x="16275" y="8"/>
                    </a:cubicBezTo>
                    <a:lnTo>
                      <a:pt x="16275" y="8"/>
                    </a:lnTo>
                    <a:cubicBezTo>
                      <a:pt x="16274" y="8"/>
                      <a:pt x="16273" y="7"/>
                      <a:pt x="16273" y="6"/>
                    </a:cubicBezTo>
                    <a:cubicBezTo>
                      <a:pt x="16273" y="5"/>
                      <a:pt x="16274" y="4"/>
                      <a:pt x="16275" y="4"/>
                    </a:cubicBezTo>
                    <a:close/>
                    <a:moveTo>
                      <a:pt x="16283" y="4"/>
                    </a:moveTo>
                    <a:lnTo>
                      <a:pt x="16283" y="4"/>
                    </a:lnTo>
                    <a:cubicBezTo>
                      <a:pt x="16284" y="4"/>
                      <a:pt x="16285" y="5"/>
                      <a:pt x="16285" y="6"/>
                    </a:cubicBezTo>
                    <a:cubicBezTo>
                      <a:pt x="16285" y="7"/>
                      <a:pt x="16284" y="8"/>
                      <a:pt x="16283" y="8"/>
                    </a:cubicBezTo>
                    <a:lnTo>
                      <a:pt x="16283" y="8"/>
                    </a:lnTo>
                    <a:cubicBezTo>
                      <a:pt x="16282" y="8"/>
                      <a:pt x="16281" y="7"/>
                      <a:pt x="16281" y="6"/>
                    </a:cubicBezTo>
                    <a:cubicBezTo>
                      <a:pt x="16281" y="5"/>
                      <a:pt x="16282" y="4"/>
                      <a:pt x="16283" y="4"/>
                    </a:cubicBezTo>
                    <a:close/>
                    <a:moveTo>
                      <a:pt x="16291" y="4"/>
                    </a:moveTo>
                    <a:lnTo>
                      <a:pt x="16291" y="4"/>
                    </a:lnTo>
                    <a:cubicBezTo>
                      <a:pt x="16292" y="4"/>
                      <a:pt x="16293" y="5"/>
                      <a:pt x="16293" y="6"/>
                    </a:cubicBezTo>
                    <a:cubicBezTo>
                      <a:pt x="16293" y="7"/>
                      <a:pt x="16292" y="8"/>
                      <a:pt x="16291" y="8"/>
                    </a:cubicBezTo>
                    <a:lnTo>
                      <a:pt x="16291" y="8"/>
                    </a:lnTo>
                    <a:cubicBezTo>
                      <a:pt x="16290" y="8"/>
                      <a:pt x="16289" y="7"/>
                      <a:pt x="16289" y="6"/>
                    </a:cubicBezTo>
                    <a:cubicBezTo>
                      <a:pt x="16289" y="5"/>
                      <a:pt x="16290" y="4"/>
                      <a:pt x="16291" y="4"/>
                    </a:cubicBezTo>
                    <a:close/>
                    <a:moveTo>
                      <a:pt x="16299" y="4"/>
                    </a:moveTo>
                    <a:lnTo>
                      <a:pt x="16299" y="4"/>
                    </a:lnTo>
                    <a:cubicBezTo>
                      <a:pt x="16300" y="4"/>
                      <a:pt x="16301" y="5"/>
                      <a:pt x="16301" y="6"/>
                    </a:cubicBezTo>
                    <a:cubicBezTo>
                      <a:pt x="16301" y="7"/>
                      <a:pt x="16300" y="8"/>
                      <a:pt x="16299" y="8"/>
                    </a:cubicBezTo>
                    <a:lnTo>
                      <a:pt x="16299" y="8"/>
                    </a:lnTo>
                    <a:cubicBezTo>
                      <a:pt x="16298" y="8"/>
                      <a:pt x="16297" y="7"/>
                      <a:pt x="16297" y="6"/>
                    </a:cubicBezTo>
                    <a:cubicBezTo>
                      <a:pt x="16297" y="5"/>
                      <a:pt x="16298" y="4"/>
                      <a:pt x="16299" y="4"/>
                    </a:cubicBezTo>
                    <a:close/>
                    <a:moveTo>
                      <a:pt x="16307" y="4"/>
                    </a:moveTo>
                    <a:lnTo>
                      <a:pt x="16307" y="4"/>
                    </a:lnTo>
                    <a:cubicBezTo>
                      <a:pt x="16308" y="4"/>
                      <a:pt x="16309" y="5"/>
                      <a:pt x="16309" y="6"/>
                    </a:cubicBezTo>
                    <a:cubicBezTo>
                      <a:pt x="16309" y="7"/>
                      <a:pt x="16308" y="8"/>
                      <a:pt x="16307" y="8"/>
                    </a:cubicBezTo>
                    <a:lnTo>
                      <a:pt x="16307" y="8"/>
                    </a:lnTo>
                    <a:cubicBezTo>
                      <a:pt x="16306" y="8"/>
                      <a:pt x="16305" y="7"/>
                      <a:pt x="16305" y="6"/>
                    </a:cubicBezTo>
                    <a:cubicBezTo>
                      <a:pt x="16305" y="5"/>
                      <a:pt x="16306" y="4"/>
                      <a:pt x="16307" y="4"/>
                    </a:cubicBezTo>
                    <a:close/>
                    <a:moveTo>
                      <a:pt x="16315" y="4"/>
                    </a:moveTo>
                    <a:lnTo>
                      <a:pt x="16315" y="4"/>
                    </a:lnTo>
                    <a:cubicBezTo>
                      <a:pt x="16316" y="4"/>
                      <a:pt x="16317" y="5"/>
                      <a:pt x="16317" y="6"/>
                    </a:cubicBezTo>
                    <a:cubicBezTo>
                      <a:pt x="16317" y="7"/>
                      <a:pt x="16316" y="8"/>
                      <a:pt x="16315" y="8"/>
                    </a:cubicBezTo>
                    <a:lnTo>
                      <a:pt x="16315" y="8"/>
                    </a:lnTo>
                    <a:cubicBezTo>
                      <a:pt x="16314" y="8"/>
                      <a:pt x="16313" y="7"/>
                      <a:pt x="16313" y="6"/>
                    </a:cubicBezTo>
                    <a:cubicBezTo>
                      <a:pt x="16313" y="5"/>
                      <a:pt x="16314" y="4"/>
                      <a:pt x="16315" y="4"/>
                    </a:cubicBezTo>
                    <a:close/>
                    <a:moveTo>
                      <a:pt x="16323" y="4"/>
                    </a:moveTo>
                    <a:lnTo>
                      <a:pt x="16323" y="4"/>
                    </a:lnTo>
                    <a:cubicBezTo>
                      <a:pt x="16324" y="4"/>
                      <a:pt x="16325" y="5"/>
                      <a:pt x="16325" y="6"/>
                    </a:cubicBezTo>
                    <a:cubicBezTo>
                      <a:pt x="16325" y="7"/>
                      <a:pt x="16324" y="8"/>
                      <a:pt x="16323" y="8"/>
                    </a:cubicBezTo>
                    <a:lnTo>
                      <a:pt x="16323" y="8"/>
                    </a:lnTo>
                    <a:cubicBezTo>
                      <a:pt x="16322" y="8"/>
                      <a:pt x="16321" y="7"/>
                      <a:pt x="16321" y="6"/>
                    </a:cubicBezTo>
                    <a:cubicBezTo>
                      <a:pt x="16321" y="5"/>
                      <a:pt x="16322" y="4"/>
                      <a:pt x="16323" y="4"/>
                    </a:cubicBezTo>
                    <a:close/>
                    <a:moveTo>
                      <a:pt x="16331" y="4"/>
                    </a:moveTo>
                    <a:lnTo>
                      <a:pt x="16331" y="4"/>
                    </a:lnTo>
                    <a:cubicBezTo>
                      <a:pt x="16332" y="4"/>
                      <a:pt x="16333" y="5"/>
                      <a:pt x="16333" y="6"/>
                    </a:cubicBezTo>
                    <a:cubicBezTo>
                      <a:pt x="16333" y="7"/>
                      <a:pt x="16332" y="8"/>
                      <a:pt x="16331" y="8"/>
                    </a:cubicBezTo>
                    <a:lnTo>
                      <a:pt x="16331" y="8"/>
                    </a:lnTo>
                    <a:cubicBezTo>
                      <a:pt x="16330" y="8"/>
                      <a:pt x="16329" y="7"/>
                      <a:pt x="16329" y="6"/>
                    </a:cubicBezTo>
                    <a:cubicBezTo>
                      <a:pt x="16329" y="5"/>
                      <a:pt x="16330" y="4"/>
                      <a:pt x="16331" y="4"/>
                    </a:cubicBezTo>
                    <a:close/>
                    <a:moveTo>
                      <a:pt x="16339" y="4"/>
                    </a:moveTo>
                    <a:lnTo>
                      <a:pt x="16339" y="4"/>
                    </a:lnTo>
                    <a:cubicBezTo>
                      <a:pt x="16340" y="4"/>
                      <a:pt x="16341" y="5"/>
                      <a:pt x="16341" y="6"/>
                    </a:cubicBezTo>
                    <a:cubicBezTo>
                      <a:pt x="16341" y="7"/>
                      <a:pt x="16340" y="8"/>
                      <a:pt x="16339" y="8"/>
                    </a:cubicBezTo>
                    <a:lnTo>
                      <a:pt x="16339" y="8"/>
                    </a:lnTo>
                    <a:cubicBezTo>
                      <a:pt x="16338" y="8"/>
                      <a:pt x="16337" y="7"/>
                      <a:pt x="16337" y="6"/>
                    </a:cubicBezTo>
                    <a:cubicBezTo>
                      <a:pt x="16337" y="5"/>
                      <a:pt x="16338" y="4"/>
                      <a:pt x="16339" y="4"/>
                    </a:cubicBezTo>
                    <a:close/>
                    <a:moveTo>
                      <a:pt x="16347" y="4"/>
                    </a:moveTo>
                    <a:lnTo>
                      <a:pt x="16347" y="4"/>
                    </a:lnTo>
                    <a:cubicBezTo>
                      <a:pt x="16348" y="4"/>
                      <a:pt x="16349" y="5"/>
                      <a:pt x="16349" y="6"/>
                    </a:cubicBezTo>
                    <a:cubicBezTo>
                      <a:pt x="16349" y="7"/>
                      <a:pt x="16348" y="8"/>
                      <a:pt x="16347" y="8"/>
                    </a:cubicBezTo>
                    <a:lnTo>
                      <a:pt x="16347" y="8"/>
                    </a:lnTo>
                    <a:cubicBezTo>
                      <a:pt x="16346" y="8"/>
                      <a:pt x="16345" y="7"/>
                      <a:pt x="16345" y="6"/>
                    </a:cubicBezTo>
                    <a:cubicBezTo>
                      <a:pt x="16345" y="5"/>
                      <a:pt x="16346" y="4"/>
                      <a:pt x="16347" y="4"/>
                    </a:cubicBezTo>
                    <a:close/>
                    <a:moveTo>
                      <a:pt x="16355" y="4"/>
                    </a:moveTo>
                    <a:lnTo>
                      <a:pt x="16355" y="4"/>
                    </a:lnTo>
                    <a:cubicBezTo>
                      <a:pt x="16356" y="4"/>
                      <a:pt x="16357" y="5"/>
                      <a:pt x="16357" y="6"/>
                    </a:cubicBezTo>
                    <a:cubicBezTo>
                      <a:pt x="16357" y="7"/>
                      <a:pt x="16356" y="8"/>
                      <a:pt x="16355" y="8"/>
                    </a:cubicBezTo>
                    <a:lnTo>
                      <a:pt x="16355" y="8"/>
                    </a:lnTo>
                    <a:cubicBezTo>
                      <a:pt x="16354" y="8"/>
                      <a:pt x="16353" y="7"/>
                      <a:pt x="16353" y="6"/>
                    </a:cubicBezTo>
                    <a:cubicBezTo>
                      <a:pt x="16353" y="5"/>
                      <a:pt x="16354" y="4"/>
                      <a:pt x="16355" y="4"/>
                    </a:cubicBezTo>
                    <a:close/>
                    <a:moveTo>
                      <a:pt x="16363" y="4"/>
                    </a:moveTo>
                    <a:lnTo>
                      <a:pt x="16363" y="4"/>
                    </a:lnTo>
                    <a:cubicBezTo>
                      <a:pt x="16364" y="4"/>
                      <a:pt x="16365" y="5"/>
                      <a:pt x="16365" y="6"/>
                    </a:cubicBezTo>
                    <a:cubicBezTo>
                      <a:pt x="16365" y="7"/>
                      <a:pt x="16364" y="8"/>
                      <a:pt x="16363" y="8"/>
                    </a:cubicBezTo>
                    <a:lnTo>
                      <a:pt x="16363" y="8"/>
                    </a:lnTo>
                    <a:cubicBezTo>
                      <a:pt x="16362" y="8"/>
                      <a:pt x="16361" y="7"/>
                      <a:pt x="16361" y="6"/>
                    </a:cubicBezTo>
                    <a:cubicBezTo>
                      <a:pt x="16361" y="5"/>
                      <a:pt x="16362" y="4"/>
                      <a:pt x="16363" y="4"/>
                    </a:cubicBezTo>
                    <a:close/>
                    <a:moveTo>
                      <a:pt x="16371" y="4"/>
                    </a:moveTo>
                    <a:lnTo>
                      <a:pt x="16371" y="4"/>
                    </a:lnTo>
                    <a:cubicBezTo>
                      <a:pt x="16372" y="4"/>
                      <a:pt x="16373" y="5"/>
                      <a:pt x="16373" y="6"/>
                    </a:cubicBezTo>
                    <a:cubicBezTo>
                      <a:pt x="16373" y="7"/>
                      <a:pt x="16372" y="8"/>
                      <a:pt x="16371" y="8"/>
                    </a:cubicBezTo>
                    <a:lnTo>
                      <a:pt x="16371" y="8"/>
                    </a:lnTo>
                    <a:cubicBezTo>
                      <a:pt x="16370" y="8"/>
                      <a:pt x="16369" y="7"/>
                      <a:pt x="16369" y="6"/>
                    </a:cubicBezTo>
                    <a:cubicBezTo>
                      <a:pt x="16369" y="5"/>
                      <a:pt x="16370" y="4"/>
                      <a:pt x="16371" y="4"/>
                    </a:cubicBezTo>
                    <a:close/>
                    <a:moveTo>
                      <a:pt x="16379" y="4"/>
                    </a:moveTo>
                    <a:lnTo>
                      <a:pt x="16379" y="4"/>
                    </a:lnTo>
                    <a:cubicBezTo>
                      <a:pt x="16380" y="4"/>
                      <a:pt x="16381" y="5"/>
                      <a:pt x="16381" y="6"/>
                    </a:cubicBezTo>
                    <a:cubicBezTo>
                      <a:pt x="16381" y="7"/>
                      <a:pt x="16380" y="8"/>
                      <a:pt x="16379" y="8"/>
                    </a:cubicBezTo>
                    <a:lnTo>
                      <a:pt x="16379" y="8"/>
                    </a:lnTo>
                    <a:cubicBezTo>
                      <a:pt x="16378" y="8"/>
                      <a:pt x="16377" y="7"/>
                      <a:pt x="16377" y="6"/>
                    </a:cubicBezTo>
                    <a:cubicBezTo>
                      <a:pt x="16377" y="5"/>
                      <a:pt x="16378" y="4"/>
                      <a:pt x="16379" y="4"/>
                    </a:cubicBezTo>
                    <a:close/>
                    <a:moveTo>
                      <a:pt x="16387" y="4"/>
                    </a:moveTo>
                    <a:lnTo>
                      <a:pt x="16387" y="4"/>
                    </a:lnTo>
                    <a:cubicBezTo>
                      <a:pt x="16388" y="4"/>
                      <a:pt x="16389" y="5"/>
                      <a:pt x="16389" y="6"/>
                    </a:cubicBezTo>
                    <a:cubicBezTo>
                      <a:pt x="16389" y="7"/>
                      <a:pt x="16388" y="8"/>
                      <a:pt x="16387" y="8"/>
                    </a:cubicBezTo>
                    <a:lnTo>
                      <a:pt x="16387" y="8"/>
                    </a:lnTo>
                    <a:cubicBezTo>
                      <a:pt x="16386" y="8"/>
                      <a:pt x="16385" y="7"/>
                      <a:pt x="16385" y="6"/>
                    </a:cubicBezTo>
                    <a:cubicBezTo>
                      <a:pt x="16385" y="5"/>
                      <a:pt x="16386" y="4"/>
                      <a:pt x="16387" y="4"/>
                    </a:cubicBezTo>
                    <a:close/>
                    <a:moveTo>
                      <a:pt x="16395" y="4"/>
                    </a:moveTo>
                    <a:lnTo>
                      <a:pt x="16395" y="4"/>
                    </a:lnTo>
                    <a:cubicBezTo>
                      <a:pt x="16396" y="4"/>
                      <a:pt x="16397" y="5"/>
                      <a:pt x="16397" y="6"/>
                    </a:cubicBezTo>
                    <a:cubicBezTo>
                      <a:pt x="16397" y="7"/>
                      <a:pt x="16396" y="8"/>
                      <a:pt x="16395" y="8"/>
                    </a:cubicBezTo>
                    <a:lnTo>
                      <a:pt x="16395" y="8"/>
                    </a:lnTo>
                    <a:cubicBezTo>
                      <a:pt x="16394" y="8"/>
                      <a:pt x="16393" y="7"/>
                      <a:pt x="16393" y="6"/>
                    </a:cubicBezTo>
                    <a:cubicBezTo>
                      <a:pt x="16393" y="5"/>
                      <a:pt x="16394" y="4"/>
                      <a:pt x="16395" y="4"/>
                    </a:cubicBezTo>
                    <a:close/>
                    <a:moveTo>
                      <a:pt x="16403" y="4"/>
                    </a:moveTo>
                    <a:lnTo>
                      <a:pt x="16403" y="4"/>
                    </a:lnTo>
                    <a:cubicBezTo>
                      <a:pt x="16404" y="4"/>
                      <a:pt x="16405" y="5"/>
                      <a:pt x="16405" y="6"/>
                    </a:cubicBezTo>
                    <a:cubicBezTo>
                      <a:pt x="16405" y="7"/>
                      <a:pt x="16404" y="8"/>
                      <a:pt x="16403" y="8"/>
                    </a:cubicBezTo>
                    <a:lnTo>
                      <a:pt x="16403" y="8"/>
                    </a:lnTo>
                    <a:cubicBezTo>
                      <a:pt x="16402" y="8"/>
                      <a:pt x="16401" y="7"/>
                      <a:pt x="16401" y="6"/>
                    </a:cubicBezTo>
                    <a:cubicBezTo>
                      <a:pt x="16401" y="5"/>
                      <a:pt x="16402" y="4"/>
                      <a:pt x="16403" y="4"/>
                    </a:cubicBezTo>
                    <a:close/>
                    <a:moveTo>
                      <a:pt x="16411" y="4"/>
                    </a:moveTo>
                    <a:lnTo>
                      <a:pt x="16411" y="4"/>
                    </a:lnTo>
                    <a:cubicBezTo>
                      <a:pt x="16412" y="4"/>
                      <a:pt x="16413" y="5"/>
                      <a:pt x="16413" y="6"/>
                    </a:cubicBezTo>
                    <a:cubicBezTo>
                      <a:pt x="16413" y="7"/>
                      <a:pt x="16412" y="8"/>
                      <a:pt x="16411" y="8"/>
                    </a:cubicBezTo>
                    <a:lnTo>
                      <a:pt x="16411" y="8"/>
                    </a:lnTo>
                    <a:cubicBezTo>
                      <a:pt x="16410" y="8"/>
                      <a:pt x="16409" y="7"/>
                      <a:pt x="16409" y="6"/>
                    </a:cubicBezTo>
                    <a:cubicBezTo>
                      <a:pt x="16409" y="5"/>
                      <a:pt x="16410" y="4"/>
                      <a:pt x="16411" y="4"/>
                    </a:cubicBezTo>
                    <a:close/>
                    <a:moveTo>
                      <a:pt x="16419" y="4"/>
                    </a:moveTo>
                    <a:lnTo>
                      <a:pt x="16419" y="4"/>
                    </a:lnTo>
                    <a:cubicBezTo>
                      <a:pt x="16420" y="4"/>
                      <a:pt x="16421" y="5"/>
                      <a:pt x="16421" y="6"/>
                    </a:cubicBezTo>
                    <a:cubicBezTo>
                      <a:pt x="16421" y="7"/>
                      <a:pt x="16420" y="8"/>
                      <a:pt x="16419" y="8"/>
                    </a:cubicBezTo>
                    <a:lnTo>
                      <a:pt x="16419" y="8"/>
                    </a:lnTo>
                    <a:cubicBezTo>
                      <a:pt x="16418" y="8"/>
                      <a:pt x="16417" y="7"/>
                      <a:pt x="16417" y="6"/>
                    </a:cubicBezTo>
                    <a:cubicBezTo>
                      <a:pt x="16417" y="5"/>
                      <a:pt x="16418" y="4"/>
                      <a:pt x="16419" y="4"/>
                    </a:cubicBezTo>
                    <a:close/>
                    <a:moveTo>
                      <a:pt x="16427" y="4"/>
                    </a:moveTo>
                    <a:lnTo>
                      <a:pt x="16427" y="4"/>
                    </a:lnTo>
                    <a:cubicBezTo>
                      <a:pt x="16428" y="4"/>
                      <a:pt x="16429" y="5"/>
                      <a:pt x="16429" y="6"/>
                    </a:cubicBezTo>
                    <a:cubicBezTo>
                      <a:pt x="16429" y="7"/>
                      <a:pt x="16428" y="8"/>
                      <a:pt x="16427" y="8"/>
                    </a:cubicBezTo>
                    <a:lnTo>
                      <a:pt x="16427" y="8"/>
                    </a:lnTo>
                    <a:cubicBezTo>
                      <a:pt x="16426" y="8"/>
                      <a:pt x="16425" y="7"/>
                      <a:pt x="16425" y="6"/>
                    </a:cubicBezTo>
                    <a:cubicBezTo>
                      <a:pt x="16425" y="5"/>
                      <a:pt x="16426" y="4"/>
                      <a:pt x="16427" y="4"/>
                    </a:cubicBezTo>
                    <a:close/>
                    <a:moveTo>
                      <a:pt x="16435" y="4"/>
                    </a:moveTo>
                    <a:lnTo>
                      <a:pt x="16435" y="4"/>
                    </a:lnTo>
                    <a:cubicBezTo>
                      <a:pt x="16436" y="4"/>
                      <a:pt x="16437" y="5"/>
                      <a:pt x="16437" y="6"/>
                    </a:cubicBezTo>
                    <a:cubicBezTo>
                      <a:pt x="16437" y="7"/>
                      <a:pt x="16436" y="8"/>
                      <a:pt x="16435" y="8"/>
                    </a:cubicBezTo>
                    <a:lnTo>
                      <a:pt x="16435" y="8"/>
                    </a:lnTo>
                    <a:cubicBezTo>
                      <a:pt x="16434" y="8"/>
                      <a:pt x="16433" y="7"/>
                      <a:pt x="16433" y="6"/>
                    </a:cubicBezTo>
                    <a:cubicBezTo>
                      <a:pt x="16433" y="5"/>
                      <a:pt x="16434" y="4"/>
                      <a:pt x="16435" y="4"/>
                    </a:cubicBezTo>
                    <a:close/>
                    <a:moveTo>
                      <a:pt x="16443" y="4"/>
                    </a:moveTo>
                    <a:lnTo>
                      <a:pt x="16443" y="4"/>
                    </a:lnTo>
                    <a:cubicBezTo>
                      <a:pt x="16444" y="4"/>
                      <a:pt x="16445" y="5"/>
                      <a:pt x="16445" y="6"/>
                    </a:cubicBezTo>
                    <a:cubicBezTo>
                      <a:pt x="16445" y="7"/>
                      <a:pt x="16444" y="8"/>
                      <a:pt x="16443" y="8"/>
                    </a:cubicBezTo>
                    <a:lnTo>
                      <a:pt x="16443" y="8"/>
                    </a:lnTo>
                    <a:cubicBezTo>
                      <a:pt x="16442" y="8"/>
                      <a:pt x="16441" y="7"/>
                      <a:pt x="16441" y="6"/>
                    </a:cubicBezTo>
                    <a:cubicBezTo>
                      <a:pt x="16441" y="5"/>
                      <a:pt x="16442" y="4"/>
                      <a:pt x="16443" y="4"/>
                    </a:cubicBezTo>
                    <a:close/>
                    <a:moveTo>
                      <a:pt x="16451" y="4"/>
                    </a:moveTo>
                    <a:lnTo>
                      <a:pt x="16451" y="4"/>
                    </a:lnTo>
                    <a:cubicBezTo>
                      <a:pt x="16452" y="4"/>
                      <a:pt x="16453" y="5"/>
                      <a:pt x="16453" y="6"/>
                    </a:cubicBezTo>
                    <a:cubicBezTo>
                      <a:pt x="16453" y="7"/>
                      <a:pt x="16452" y="8"/>
                      <a:pt x="16451" y="8"/>
                    </a:cubicBezTo>
                    <a:lnTo>
                      <a:pt x="16451" y="8"/>
                    </a:lnTo>
                    <a:cubicBezTo>
                      <a:pt x="16450" y="8"/>
                      <a:pt x="16449" y="7"/>
                      <a:pt x="16449" y="6"/>
                    </a:cubicBezTo>
                    <a:cubicBezTo>
                      <a:pt x="16449" y="5"/>
                      <a:pt x="16450" y="4"/>
                      <a:pt x="16451" y="4"/>
                    </a:cubicBezTo>
                    <a:close/>
                    <a:moveTo>
                      <a:pt x="16459" y="4"/>
                    </a:moveTo>
                    <a:lnTo>
                      <a:pt x="16459" y="4"/>
                    </a:lnTo>
                    <a:cubicBezTo>
                      <a:pt x="16460" y="4"/>
                      <a:pt x="16461" y="5"/>
                      <a:pt x="16461" y="6"/>
                    </a:cubicBezTo>
                    <a:cubicBezTo>
                      <a:pt x="16461" y="7"/>
                      <a:pt x="16460" y="8"/>
                      <a:pt x="16459" y="8"/>
                    </a:cubicBezTo>
                    <a:lnTo>
                      <a:pt x="16459" y="8"/>
                    </a:lnTo>
                    <a:cubicBezTo>
                      <a:pt x="16458" y="8"/>
                      <a:pt x="16457" y="7"/>
                      <a:pt x="16457" y="6"/>
                    </a:cubicBezTo>
                    <a:cubicBezTo>
                      <a:pt x="16457" y="5"/>
                      <a:pt x="16458" y="4"/>
                      <a:pt x="16459" y="4"/>
                    </a:cubicBezTo>
                    <a:close/>
                    <a:moveTo>
                      <a:pt x="16467" y="4"/>
                    </a:moveTo>
                    <a:lnTo>
                      <a:pt x="16467" y="4"/>
                    </a:lnTo>
                    <a:cubicBezTo>
                      <a:pt x="16468" y="4"/>
                      <a:pt x="16469" y="5"/>
                      <a:pt x="16469" y="6"/>
                    </a:cubicBezTo>
                    <a:cubicBezTo>
                      <a:pt x="16469" y="7"/>
                      <a:pt x="16468" y="8"/>
                      <a:pt x="16467" y="8"/>
                    </a:cubicBezTo>
                    <a:lnTo>
                      <a:pt x="16467" y="8"/>
                    </a:lnTo>
                    <a:cubicBezTo>
                      <a:pt x="16466" y="8"/>
                      <a:pt x="16465" y="7"/>
                      <a:pt x="16465" y="6"/>
                    </a:cubicBezTo>
                    <a:cubicBezTo>
                      <a:pt x="16465" y="5"/>
                      <a:pt x="16466" y="4"/>
                      <a:pt x="16467" y="4"/>
                    </a:cubicBezTo>
                    <a:close/>
                    <a:moveTo>
                      <a:pt x="16475" y="4"/>
                    </a:moveTo>
                    <a:lnTo>
                      <a:pt x="16475" y="4"/>
                    </a:lnTo>
                    <a:cubicBezTo>
                      <a:pt x="16476" y="4"/>
                      <a:pt x="16477" y="5"/>
                      <a:pt x="16477" y="6"/>
                    </a:cubicBezTo>
                    <a:cubicBezTo>
                      <a:pt x="16477" y="7"/>
                      <a:pt x="16476" y="8"/>
                      <a:pt x="16475" y="8"/>
                    </a:cubicBezTo>
                    <a:lnTo>
                      <a:pt x="16475" y="8"/>
                    </a:lnTo>
                    <a:cubicBezTo>
                      <a:pt x="16474" y="8"/>
                      <a:pt x="16473" y="7"/>
                      <a:pt x="16473" y="6"/>
                    </a:cubicBezTo>
                    <a:cubicBezTo>
                      <a:pt x="16473" y="5"/>
                      <a:pt x="16474" y="4"/>
                      <a:pt x="16475" y="4"/>
                    </a:cubicBezTo>
                    <a:close/>
                    <a:moveTo>
                      <a:pt x="16483" y="4"/>
                    </a:moveTo>
                    <a:lnTo>
                      <a:pt x="16483" y="4"/>
                    </a:lnTo>
                    <a:cubicBezTo>
                      <a:pt x="16484" y="4"/>
                      <a:pt x="16485" y="5"/>
                      <a:pt x="16485" y="6"/>
                    </a:cubicBezTo>
                    <a:cubicBezTo>
                      <a:pt x="16485" y="7"/>
                      <a:pt x="16484" y="8"/>
                      <a:pt x="16483" y="8"/>
                    </a:cubicBezTo>
                    <a:lnTo>
                      <a:pt x="16483" y="8"/>
                    </a:lnTo>
                    <a:cubicBezTo>
                      <a:pt x="16482" y="8"/>
                      <a:pt x="16481" y="7"/>
                      <a:pt x="16481" y="6"/>
                    </a:cubicBezTo>
                    <a:cubicBezTo>
                      <a:pt x="16481" y="5"/>
                      <a:pt x="16482" y="4"/>
                      <a:pt x="16483" y="4"/>
                    </a:cubicBezTo>
                    <a:close/>
                    <a:moveTo>
                      <a:pt x="16491" y="4"/>
                    </a:moveTo>
                    <a:lnTo>
                      <a:pt x="16491" y="4"/>
                    </a:lnTo>
                    <a:cubicBezTo>
                      <a:pt x="16492" y="4"/>
                      <a:pt x="16493" y="5"/>
                      <a:pt x="16493" y="6"/>
                    </a:cubicBezTo>
                    <a:cubicBezTo>
                      <a:pt x="16493" y="7"/>
                      <a:pt x="16492" y="8"/>
                      <a:pt x="16491" y="8"/>
                    </a:cubicBezTo>
                    <a:lnTo>
                      <a:pt x="16491" y="8"/>
                    </a:lnTo>
                    <a:cubicBezTo>
                      <a:pt x="16490" y="8"/>
                      <a:pt x="16489" y="7"/>
                      <a:pt x="16489" y="6"/>
                    </a:cubicBezTo>
                    <a:cubicBezTo>
                      <a:pt x="16489" y="5"/>
                      <a:pt x="16490" y="4"/>
                      <a:pt x="16491" y="4"/>
                    </a:cubicBezTo>
                    <a:close/>
                    <a:moveTo>
                      <a:pt x="16499" y="4"/>
                    </a:moveTo>
                    <a:lnTo>
                      <a:pt x="16499" y="4"/>
                    </a:lnTo>
                    <a:cubicBezTo>
                      <a:pt x="16500" y="4"/>
                      <a:pt x="16501" y="5"/>
                      <a:pt x="16501" y="6"/>
                    </a:cubicBezTo>
                    <a:cubicBezTo>
                      <a:pt x="16501" y="7"/>
                      <a:pt x="16500" y="8"/>
                      <a:pt x="16499" y="8"/>
                    </a:cubicBezTo>
                    <a:lnTo>
                      <a:pt x="16499" y="8"/>
                    </a:lnTo>
                    <a:cubicBezTo>
                      <a:pt x="16498" y="8"/>
                      <a:pt x="16497" y="7"/>
                      <a:pt x="16497" y="6"/>
                    </a:cubicBezTo>
                    <a:cubicBezTo>
                      <a:pt x="16497" y="5"/>
                      <a:pt x="16498" y="4"/>
                      <a:pt x="16499" y="4"/>
                    </a:cubicBezTo>
                    <a:close/>
                    <a:moveTo>
                      <a:pt x="16507" y="4"/>
                    </a:moveTo>
                    <a:lnTo>
                      <a:pt x="16507" y="4"/>
                    </a:lnTo>
                    <a:cubicBezTo>
                      <a:pt x="16508" y="4"/>
                      <a:pt x="16509" y="5"/>
                      <a:pt x="16509" y="6"/>
                    </a:cubicBezTo>
                    <a:cubicBezTo>
                      <a:pt x="16509" y="7"/>
                      <a:pt x="16508" y="8"/>
                      <a:pt x="16507" y="8"/>
                    </a:cubicBezTo>
                    <a:lnTo>
                      <a:pt x="16507" y="8"/>
                    </a:lnTo>
                    <a:cubicBezTo>
                      <a:pt x="16506" y="8"/>
                      <a:pt x="16505" y="7"/>
                      <a:pt x="16505" y="6"/>
                    </a:cubicBezTo>
                    <a:cubicBezTo>
                      <a:pt x="16505" y="5"/>
                      <a:pt x="16506" y="4"/>
                      <a:pt x="16507" y="4"/>
                    </a:cubicBezTo>
                    <a:close/>
                    <a:moveTo>
                      <a:pt x="16515" y="4"/>
                    </a:moveTo>
                    <a:lnTo>
                      <a:pt x="16515" y="4"/>
                    </a:lnTo>
                    <a:cubicBezTo>
                      <a:pt x="16516" y="4"/>
                      <a:pt x="16517" y="5"/>
                      <a:pt x="16517" y="6"/>
                    </a:cubicBezTo>
                    <a:cubicBezTo>
                      <a:pt x="16517" y="7"/>
                      <a:pt x="16516" y="8"/>
                      <a:pt x="16515" y="8"/>
                    </a:cubicBezTo>
                    <a:lnTo>
                      <a:pt x="16515" y="8"/>
                    </a:lnTo>
                    <a:cubicBezTo>
                      <a:pt x="16514" y="8"/>
                      <a:pt x="16513" y="7"/>
                      <a:pt x="16513" y="6"/>
                    </a:cubicBezTo>
                    <a:cubicBezTo>
                      <a:pt x="16513" y="5"/>
                      <a:pt x="16514" y="4"/>
                      <a:pt x="16515" y="4"/>
                    </a:cubicBezTo>
                    <a:close/>
                    <a:moveTo>
                      <a:pt x="16523" y="4"/>
                    </a:moveTo>
                    <a:lnTo>
                      <a:pt x="16523" y="4"/>
                    </a:lnTo>
                    <a:cubicBezTo>
                      <a:pt x="16524" y="4"/>
                      <a:pt x="16525" y="5"/>
                      <a:pt x="16525" y="6"/>
                    </a:cubicBezTo>
                    <a:cubicBezTo>
                      <a:pt x="16525" y="7"/>
                      <a:pt x="16524" y="8"/>
                      <a:pt x="16523" y="8"/>
                    </a:cubicBezTo>
                    <a:lnTo>
                      <a:pt x="16523" y="8"/>
                    </a:lnTo>
                    <a:cubicBezTo>
                      <a:pt x="16522" y="8"/>
                      <a:pt x="16521" y="7"/>
                      <a:pt x="16521" y="6"/>
                    </a:cubicBezTo>
                    <a:cubicBezTo>
                      <a:pt x="16521" y="5"/>
                      <a:pt x="16522" y="4"/>
                      <a:pt x="16523" y="4"/>
                    </a:cubicBezTo>
                    <a:close/>
                    <a:moveTo>
                      <a:pt x="16531" y="4"/>
                    </a:moveTo>
                    <a:lnTo>
                      <a:pt x="16531" y="4"/>
                    </a:lnTo>
                    <a:cubicBezTo>
                      <a:pt x="16532" y="4"/>
                      <a:pt x="16533" y="5"/>
                      <a:pt x="16533" y="6"/>
                    </a:cubicBezTo>
                    <a:cubicBezTo>
                      <a:pt x="16533" y="7"/>
                      <a:pt x="16532" y="8"/>
                      <a:pt x="16531" y="8"/>
                    </a:cubicBezTo>
                    <a:lnTo>
                      <a:pt x="16531" y="8"/>
                    </a:lnTo>
                    <a:cubicBezTo>
                      <a:pt x="16530" y="8"/>
                      <a:pt x="16529" y="7"/>
                      <a:pt x="16529" y="6"/>
                    </a:cubicBezTo>
                    <a:cubicBezTo>
                      <a:pt x="16529" y="5"/>
                      <a:pt x="16530" y="4"/>
                      <a:pt x="16531" y="4"/>
                    </a:cubicBezTo>
                    <a:close/>
                    <a:moveTo>
                      <a:pt x="16539" y="4"/>
                    </a:moveTo>
                    <a:lnTo>
                      <a:pt x="16539" y="4"/>
                    </a:lnTo>
                    <a:cubicBezTo>
                      <a:pt x="16540" y="4"/>
                      <a:pt x="16541" y="5"/>
                      <a:pt x="16541" y="6"/>
                    </a:cubicBezTo>
                    <a:cubicBezTo>
                      <a:pt x="16541" y="7"/>
                      <a:pt x="16540" y="8"/>
                      <a:pt x="16539" y="8"/>
                    </a:cubicBezTo>
                    <a:lnTo>
                      <a:pt x="16539" y="8"/>
                    </a:lnTo>
                    <a:cubicBezTo>
                      <a:pt x="16538" y="8"/>
                      <a:pt x="16537" y="7"/>
                      <a:pt x="16537" y="6"/>
                    </a:cubicBezTo>
                    <a:cubicBezTo>
                      <a:pt x="16537" y="5"/>
                      <a:pt x="16538" y="4"/>
                      <a:pt x="16539" y="4"/>
                    </a:cubicBezTo>
                    <a:close/>
                    <a:moveTo>
                      <a:pt x="16547" y="4"/>
                    </a:moveTo>
                    <a:lnTo>
                      <a:pt x="16547" y="4"/>
                    </a:lnTo>
                    <a:cubicBezTo>
                      <a:pt x="16548" y="4"/>
                      <a:pt x="16549" y="5"/>
                      <a:pt x="16549" y="6"/>
                    </a:cubicBezTo>
                    <a:cubicBezTo>
                      <a:pt x="16549" y="7"/>
                      <a:pt x="16548" y="8"/>
                      <a:pt x="16547" y="8"/>
                    </a:cubicBezTo>
                    <a:lnTo>
                      <a:pt x="16547" y="8"/>
                    </a:lnTo>
                    <a:cubicBezTo>
                      <a:pt x="16546" y="8"/>
                      <a:pt x="16545" y="7"/>
                      <a:pt x="16545" y="6"/>
                    </a:cubicBezTo>
                    <a:cubicBezTo>
                      <a:pt x="16545" y="5"/>
                      <a:pt x="16546" y="4"/>
                      <a:pt x="16547" y="4"/>
                    </a:cubicBezTo>
                    <a:close/>
                    <a:moveTo>
                      <a:pt x="16555" y="4"/>
                    </a:moveTo>
                    <a:lnTo>
                      <a:pt x="16555" y="4"/>
                    </a:lnTo>
                    <a:cubicBezTo>
                      <a:pt x="16556" y="4"/>
                      <a:pt x="16557" y="5"/>
                      <a:pt x="16557" y="6"/>
                    </a:cubicBezTo>
                    <a:cubicBezTo>
                      <a:pt x="16557" y="7"/>
                      <a:pt x="16556" y="8"/>
                      <a:pt x="16555" y="8"/>
                    </a:cubicBezTo>
                    <a:lnTo>
                      <a:pt x="16555" y="8"/>
                    </a:lnTo>
                    <a:cubicBezTo>
                      <a:pt x="16554" y="8"/>
                      <a:pt x="16553" y="7"/>
                      <a:pt x="16553" y="6"/>
                    </a:cubicBezTo>
                    <a:cubicBezTo>
                      <a:pt x="16553" y="5"/>
                      <a:pt x="16554" y="4"/>
                      <a:pt x="16555" y="4"/>
                    </a:cubicBezTo>
                    <a:close/>
                    <a:moveTo>
                      <a:pt x="16563" y="4"/>
                    </a:moveTo>
                    <a:lnTo>
                      <a:pt x="16563" y="4"/>
                    </a:lnTo>
                    <a:cubicBezTo>
                      <a:pt x="16564" y="4"/>
                      <a:pt x="16565" y="5"/>
                      <a:pt x="16565" y="6"/>
                    </a:cubicBezTo>
                    <a:cubicBezTo>
                      <a:pt x="16565" y="7"/>
                      <a:pt x="16564" y="8"/>
                      <a:pt x="16563" y="8"/>
                    </a:cubicBezTo>
                    <a:lnTo>
                      <a:pt x="16563" y="8"/>
                    </a:lnTo>
                    <a:cubicBezTo>
                      <a:pt x="16562" y="8"/>
                      <a:pt x="16561" y="7"/>
                      <a:pt x="16561" y="6"/>
                    </a:cubicBezTo>
                    <a:cubicBezTo>
                      <a:pt x="16561" y="5"/>
                      <a:pt x="16562" y="4"/>
                      <a:pt x="16563" y="4"/>
                    </a:cubicBezTo>
                    <a:close/>
                    <a:moveTo>
                      <a:pt x="16571" y="4"/>
                    </a:moveTo>
                    <a:lnTo>
                      <a:pt x="16571" y="4"/>
                    </a:lnTo>
                    <a:cubicBezTo>
                      <a:pt x="16572" y="4"/>
                      <a:pt x="16573" y="5"/>
                      <a:pt x="16573" y="6"/>
                    </a:cubicBezTo>
                    <a:cubicBezTo>
                      <a:pt x="16573" y="7"/>
                      <a:pt x="16572" y="8"/>
                      <a:pt x="16571" y="8"/>
                    </a:cubicBezTo>
                    <a:lnTo>
                      <a:pt x="16571" y="8"/>
                    </a:lnTo>
                    <a:cubicBezTo>
                      <a:pt x="16570" y="8"/>
                      <a:pt x="16569" y="7"/>
                      <a:pt x="16569" y="6"/>
                    </a:cubicBezTo>
                    <a:cubicBezTo>
                      <a:pt x="16569" y="5"/>
                      <a:pt x="16570" y="4"/>
                      <a:pt x="16571" y="4"/>
                    </a:cubicBezTo>
                    <a:close/>
                    <a:moveTo>
                      <a:pt x="16579" y="4"/>
                    </a:moveTo>
                    <a:lnTo>
                      <a:pt x="16579" y="4"/>
                    </a:lnTo>
                    <a:cubicBezTo>
                      <a:pt x="16580" y="4"/>
                      <a:pt x="16581" y="5"/>
                      <a:pt x="16581" y="6"/>
                    </a:cubicBezTo>
                    <a:cubicBezTo>
                      <a:pt x="16581" y="7"/>
                      <a:pt x="16580" y="8"/>
                      <a:pt x="16579" y="8"/>
                    </a:cubicBezTo>
                    <a:lnTo>
                      <a:pt x="16579" y="8"/>
                    </a:lnTo>
                    <a:cubicBezTo>
                      <a:pt x="16578" y="8"/>
                      <a:pt x="16577" y="7"/>
                      <a:pt x="16577" y="6"/>
                    </a:cubicBezTo>
                    <a:cubicBezTo>
                      <a:pt x="16577" y="5"/>
                      <a:pt x="16578" y="4"/>
                      <a:pt x="16579" y="4"/>
                    </a:cubicBezTo>
                    <a:close/>
                    <a:moveTo>
                      <a:pt x="16587" y="4"/>
                    </a:moveTo>
                    <a:lnTo>
                      <a:pt x="16587" y="4"/>
                    </a:lnTo>
                    <a:cubicBezTo>
                      <a:pt x="16588" y="4"/>
                      <a:pt x="16589" y="5"/>
                      <a:pt x="16589" y="6"/>
                    </a:cubicBezTo>
                    <a:cubicBezTo>
                      <a:pt x="16589" y="7"/>
                      <a:pt x="16588" y="8"/>
                      <a:pt x="16587" y="8"/>
                    </a:cubicBezTo>
                    <a:lnTo>
                      <a:pt x="16587" y="8"/>
                    </a:lnTo>
                    <a:cubicBezTo>
                      <a:pt x="16586" y="8"/>
                      <a:pt x="16585" y="7"/>
                      <a:pt x="16585" y="6"/>
                    </a:cubicBezTo>
                    <a:cubicBezTo>
                      <a:pt x="16585" y="5"/>
                      <a:pt x="16586" y="4"/>
                      <a:pt x="16587" y="4"/>
                    </a:cubicBezTo>
                    <a:close/>
                    <a:moveTo>
                      <a:pt x="16595" y="4"/>
                    </a:moveTo>
                    <a:lnTo>
                      <a:pt x="16595" y="4"/>
                    </a:lnTo>
                    <a:cubicBezTo>
                      <a:pt x="16596" y="4"/>
                      <a:pt x="16597" y="5"/>
                      <a:pt x="16597" y="6"/>
                    </a:cubicBezTo>
                    <a:cubicBezTo>
                      <a:pt x="16597" y="7"/>
                      <a:pt x="16596" y="8"/>
                      <a:pt x="16595" y="8"/>
                    </a:cubicBezTo>
                    <a:lnTo>
                      <a:pt x="16595" y="8"/>
                    </a:lnTo>
                    <a:cubicBezTo>
                      <a:pt x="16594" y="8"/>
                      <a:pt x="16593" y="7"/>
                      <a:pt x="16593" y="6"/>
                    </a:cubicBezTo>
                    <a:cubicBezTo>
                      <a:pt x="16593" y="5"/>
                      <a:pt x="16594" y="4"/>
                      <a:pt x="16595" y="4"/>
                    </a:cubicBezTo>
                    <a:close/>
                    <a:moveTo>
                      <a:pt x="16603" y="4"/>
                    </a:moveTo>
                    <a:lnTo>
                      <a:pt x="16603" y="4"/>
                    </a:lnTo>
                    <a:cubicBezTo>
                      <a:pt x="16604" y="4"/>
                      <a:pt x="16605" y="5"/>
                      <a:pt x="16605" y="6"/>
                    </a:cubicBezTo>
                    <a:cubicBezTo>
                      <a:pt x="16605" y="7"/>
                      <a:pt x="16604" y="8"/>
                      <a:pt x="16603" y="8"/>
                    </a:cubicBezTo>
                    <a:lnTo>
                      <a:pt x="16603" y="8"/>
                    </a:lnTo>
                    <a:cubicBezTo>
                      <a:pt x="16602" y="8"/>
                      <a:pt x="16601" y="7"/>
                      <a:pt x="16601" y="6"/>
                    </a:cubicBezTo>
                    <a:cubicBezTo>
                      <a:pt x="16601" y="5"/>
                      <a:pt x="16602" y="4"/>
                      <a:pt x="16603" y="4"/>
                    </a:cubicBezTo>
                    <a:close/>
                    <a:moveTo>
                      <a:pt x="16611" y="4"/>
                    </a:moveTo>
                    <a:lnTo>
                      <a:pt x="16611" y="4"/>
                    </a:lnTo>
                    <a:cubicBezTo>
                      <a:pt x="16612" y="4"/>
                      <a:pt x="16613" y="5"/>
                      <a:pt x="16613" y="6"/>
                    </a:cubicBezTo>
                    <a:cubicBezTo>
                      <a:pt x="16613" y="7"/>
                      <a:pt x="16612" y="8"/>
                      <a:pt x="16611" y="8"/>
                    </a:cubicBezTo>
                    <a:lnTo>
                      <a:pt x="16611" y="8"/>
                    </a:lnTo>
                    <a:cubicBezTo>
                      <a:pt x="16610" y="8"/>
                      <a:pt x="16609" y="7"/>
                      <a:pt x="16609" y="6"/>
                    </a:cubicBezTo>
                    <a:cubicBezTo>
                      <a:pt x="16609" y="5"/>
                      <a:pt x="16610" y="4"/>
                      <a:pt x="16611" y="4"/>
                    </a:cubicBezTo>
                    <a:close/>
                    <a:moveTo>
                      <a:pt x="16619" y="4"/>
                    </a:moveTo>
                    <a:lnTo>
                      <a:pt x="16619" y="4"/>
                    </a:lnTo>
                    <a:cubicBezTo>
                      <a:pt x="16620" y="4"/>
                      <a:pt x="16621" y="5"/>
                      <a:pt x="16621" y="6"/>
                    </a:cubicBezTo>
                    <a:cubicBezTo>
                      <a:pt x="16621" y="7"/>
                      <a:pt x="16620" y="8"/>
                      <a:pt x="16619" y="8"/>
                    </a:cubicBezTo>
                    <a:lnTo>
                      <a:pt x="16619" y="8"/>
                    </a:lnTo>
                    <a:cubicBezTo>
                      <a:pt x="16618" y="8"/>
                      <a:pt x="16617" y="7"/>
                      <a:pt x="16617" y="6"/>
                    </a:cubicBezTo>
                    <a:cubicBezTo>
                      <a:pt x="16617" y="5"/>
                      <a:pt x="16618" y="4"/>
                      <a:pt x="16619" y="4"/>
                    </a:cubicBezTo>
                    <a:close/>
                    <a:moveTo>
                      <a:pt x="16627" y="4"/>
                    </a:moveTo>
                    <a:lnTo>
                      <a:pt x="16627" y="4"/>
                    </a:lnTo>
                    <a:cubicBezTo>
                      <a:pt x="16628" y="4"/>
                      <a:pt x="16629" y="5"/>
                      <a:pt x="16629" y="6"/>
                    </a:cubicBezTo>
                    <a:cubicBezTo>
                      <a:pt x="16629" y="7"/>
                      <a:pt x="16628" y="8"/>
                      <a:pt x="16627" y="8"/>
                    </a:cubicBezTo>
                    <a:lnTo>
                      <a:pt x="16627" y="8"/>
                    </a:lnTo>
                    <a:cubicBezTo>
                      <a:pt x="16626" y="8"/>
                      <a:pt x="16625" y="7"/>
                      <a:pt x="16625" y="6"/>
                    </a:cubicBezTo>
                    <a:cubicBezTo>
                      <a:pt x="16625" y="5"/>
                      <a:pt x="16626" y="4"/>
                      <a:pt x="16627" y="4"/>
                    </a:cubicBezTo>
                    <a:close/>
                    <a:moveTo>
                      <a:pt x="16635" y="4"/>
                    </a:moveTo>
                    <a:lnTo>
                      <a:pt x="16635" y="4"/>
                    </a:lnTo>
                    <a:cubicBezTo>
                      <a:pt x="16636" y="4"/>
                      <a:pt x="16637" y="5"/>
                      <a:pt x="16637" y="6"/>
                    </a:cubicBezTo>
                    <a:cubicBezTo>
                      <a:pt x="16637" y="7"/>
                      <a:pt x="16636" y="8"/>
                      <a:pt x="16635" y="8"/>
                    </a:cubicBezTo>
                    <a:lnTo>
                      <a:pt x="16635" y="8"/>
                    </a:lnTo>
                    <a:cubicBezTo>
                      <a:pt x="16634" y="8"/>
                      <a:pt x="16633" y="7"/>
                      <a:pt x="16633" y="6"/>
                    </a:cubicBezTo>
                    <a:cubicBezTo>
                      <a:pt x="16633" y="5"/>
                      <a:pt x="16634" y="4"/>
                      <a:pt x="16635" y="4"/>
                    </a:cubicBezTo>
                    <a:close/>
                    <a:moveTo>
                      <a:pt x="16643" y="4"/>
                    </a:moveTo>
                    <a:lnTo>
                      <a:pt x="16643" y="4"/>
                    </a:lnTo>
                    <a:cubicBezTo>
                      <a:pt x="16644" y="4"/>
                      <a:pt x="16645" y="5"/>
                      <a:pt x="16645" y="6"/>
                    </a:cubicBezTo>
                    <a:cubicBezTo>
                      <a:pt x="16645" y="7"/>
                      <a:pt x="16644" y="8"/>
                      <a:pt x="16643" y="8"/>
                    </a:cubicBezTo>
                    <a:lnTo>
                      <a:pt x="16643" y="8"/>
                    </a:lnTo>
                    <a:cubicBezTo>
                      <a:pt x="16642" y="8"/>
                      <a:pt x="16641" y="7"/>
                      <a:pt x="16641" y="6"/>
                    </a:cubicBezTo>
                    <a:cubicBezTo>
                      <a:pt x="16641" y="5"/>
                      <a:pt x="16642" y="4"/>
                      <a:pt x="16643" y="4"/>
                    </a:cubicBezTo>
                    <a:close/>
                    <a:moveTo>
                      <a:pt x="16651" y="4"/>
                    </a:moveTo>
                    <a:lnTo>
                      <a:pt x="16651" y="4"/>
                    </a:lnTo>
                    <a:cubicBezTo>
                      <a:pt x="16652" y="4"/>
                      <a:pt x="16653" y="5"/>
                      <a:pt x="16653" y="6"/>
                    </a:cubicBezTo>
                    <a:cubicBezTo>
                      <a:pt x="16653" y="7"/>
                      <a:pt x="16652" y="8"/>
                      <a:pt x="16651" y="8"/>
                    </a:cubicBezTo>
                    <a:lnTo>
                      <a:pt x="16651" y="8"/>
                    </a:lnTo>
                    <a:cubicBezTo>
                      <a:pt x="16650" y="8"/>
                      <a:pt x="16649" y="7"/>
                      <a:pt x="16649" y="6"/>
                    </a:cubicBezTo>
                    <a:cubicBezTo>
                      <a:pt x="16649" y="5"/>
                      <a:pt x="16650" y="4"/>
                      <a:pt x="16651" y="4"/>
                    </a:cubicBezTo>
                    <a:close/>
                    <a:moveTo>
                      <a:pt x="16659" y="4"/>
                    </a:moveTo>
                    <a:lnTo>
                      <a:pt x="16659" y="4"/>
                    </a:lnTo>
                    <a:cubicBezTo>
                      <a:pt x="16660" y="4"/>
                      <a:pt x="16661" y="5"/>
                      <a:pt x="16661" y="6"/>
                    </a:cubicBezTo>
                    <a:cubicBezTo>
                      <a:pt x="16661" y="7"/>
                      <a:pt x="16660" y="8"/>
                      <a:pt x="16659" y="8"/>
                    </a:cubicBezTo>
                    <a:lnTo>
                      <a:pt x="16659" y="8"/>
                    </a:lnTo>
                    <a:cubicBezTo>
                      <a:pt x="16658" y="8"/>
                      <a:pt x="16657" y="7"/>
                      <a:pt x="16657" y="6"/>
                    </a:cubicBezTo>
                    <a:cubicBezTo>
                      <a:pt x="16657" y="5"/>
                      <a:pt x="16658" y="4"/>
                      <a:pt x="16659" y="4"/>
                    </a:cubicBezTo>
                    <a:close/>
                    <a:moveTo>
                      <a:pt x="16667" y="4"/>
                    </a:moveTo>
                    <a:lnTo>
                      <a:pt x="16667" y="4"/>
                    </a:lnTo>
                    <a:cubicBezTo>
                      <a:pt x="16668" y="4"/>
                      <a:pt x="16669" y="5"/>
                      <a:pt x="16669" y="6"/>
                    </a:cubicBezTo>
                    <a:cubicBezTo>
                      <a:pt x="16669" y="7"/>
                      <a:pt x="16668" y="8"/>
                      <a:pt x="16667" y="8"/>
                    </a:cubicBezTo>
                    <a:lnTo>
                      <a:pt x="16667" y="8"/>
                    </a:lnTo>
                    <a:cubicBezTo>
                      <a:pt x="16666" y="8"/>
                      <a:pt x="16665" y="7"/>
                      <a:pt x="16665" y="6"/>
                    </a:cubicBezTo>
                    <a:cubicBezTo>
                      <a:pt x="16665" y="5"/>
                      <a:pt x="16666" y="4"/>
                      <a:pt x="16667" y="4"/>
                    </a:cubicBezTo>
                    <a:close/>
                    <a:moveTo>
                      <a:pt x="16675" y="4"/>
                    </a:moveTo>
                    <a:lnTo>
                      <a:pt x="16675" y="4"/>
                    </a:lnTo>
                    <a:cubicBezTo>
                      <a:pt x="16676" y="4"/>
                      <a:pt x="16677" y="5"/>
                      <a:pt x="16677" y="6"/>
                    </a:cubicBezTo>
                    <a:cubicBezTo>
                      <a:pt x="16677" y="7"/>
                      <a:pt x="16676" y="8"/>
                      <a:pt x="16675" y="8"/>
                    </a:cubicBezTo>
                    <a:lnTo>
                      <a:pt x="16675" y="8"/>
                    </a:lnTo>
                    <a:cubicBezTo>
                      <a:pt x="16674" y="8"/>
                      <a:pt x="16673" y="7"/>
                      <a:pt x="16673" y="6"/>
                    </a:cubicBezTo>
                    <a:cubicBezTo>
                      <a:pt x="16673" y="5"/>
                      <a:pt x="16674" y="4"/>
                      <a:pt x="16675" y="4"/>
                    </a:cubicBezTo>
                    <a:close/>
                    <a:moveTo>
                      <a:pt x="16683" y="4"/>
                    </a:moveTo>
                    <a:lnTo>
                      <a:pt x="16683" y="4"/>
                    </a:lnTo>
                    <a:cubicBezTo>
                      <a:pt x="16684" y="4"/>
                      <a:pt x="16685" y="5"/>
                      <a:pt x="16685" y="6"/>
                    </a:cubicBezTo>
                    <a:cubicBezTo>
                      <a:pt x="16685" y="7"/>
                      <a:pt x="16684" y="8"/>
                      <a:pt x="16683" y="8"/>
                    </a:cubicBezTo>
                    <a:lnTo>
                      <a:pt x="16683" y="8"/>
                    </a:lnTo>
                    <a:cubicBezTo>
                      <a:pt x="16682" y="8"/>
                      <a:pt x="16681" y="7"/>
                      <a:pt x="16681" y="6"/>
                    </a:cubicBezTo>
                    <a:cubicBezTo>
                      <a:pt x="16681" y="5"/>
                      <a:pt x="16682" y="4"/>
                      <a:pt x="16683" y="4"/>
                    </a:cubicBezTo>
                    <a:close/>
                    <a:moveTo>
                      <a:pt x="16691" y="4"/>
                    </a:moveTo>
                    <a:lnTo>
                      <a:pt x="16691" y="4"/>
                    </a:lnTo>
                    <a:cubicBezTo>
                      <a:pt x="16692" y="4"/>
                      <a:pt x="16693" y="5"/>
                      <a:pt x="16693" y="6"/>
                    </a:cubicBezTo>
                    <a:cubicBezTo>
                      <a:pt x="16693" y="7"/>
                      <a:pt x="16692" y="8"/>
                      <a:pt x="16691" y="8"/>
                    </a:cubicBezTo>
                    <a:lnTo>
                      <a:pt x="16691" y="8"/>
                    </a:lnTo>
                    <a:cubicBezTo>
                      <a:pt x="16690" y="8"/>
                      <a:pt x="16689" y="7"/>
                      <a:pt x="16689" y="6"/>
                    </a:cubicBezTo>
                    <a:cubicBezTo>
                      <a:pt x="16689" y="5"/>
                      <a:pt x="16690" y="4"/>
                      <a:pt x="16691" y="4"/>
                    </a:cubicBezTo>
                    <a:close/>
                    <a:moveTo>
                      <a:pt x="16699" y="4"/>
                    </a:moveTo>
                    <a:lnTo>
                      <a:pt x="16699" y="4"/>
                    </a:lnTo>
                    <a:cubicBezTo>
                      <a:pt x="16700" y="4"/>
                      <a:pt x="16701" y="5"/>
                      <a:pt x="16701" y="6"/>
                    </a:cubicBezTo>
                    <a:cubicBezTo>
                      <a:pt x="16701" y="7"/>
                      <a:pt x="16700" y="8"/>
                      <a:pt x="16699" y="8"/>
                    </a:cubicBezTo>
                    <a:lnTo>
                      <a:pt x="16699" y="8"/>
                    </a:lnTo>
                    <a:cubicBezTo>
                      <a:pt x="16698" y="8"/>
                      <a:pt x="16697" y="7"/>
                      <a:pt x="16697" y="6"/>
                    </a:cubicBezTo>
                    <a:cubicBezTo>
                      <a:pt x="16697" y="5"/>
                      <a:pt x="16698" y="4"/>
                      <a:pt x="16699" y="4"/>
                    </a:cubicBezTo>
                    <a:close/>
                    <a:moveTo>
                      <a:pt x="16707" y="4"/>
                    </a:moveTo>
                    <a:lnTo>
                      <a:pt x="16707" y="4"/>
                    </a:lnTo>
                    <a:cubicBezTo>
                      <a:pt x="16708" y="4"/>
                      <a:pt x="16709" y="5"/>
                      <a:pt x="16709" y="6"/>
                    </a:cubicBezTo>
                    <a:cubicBezTo>
                      <a:pt x="16709" y="7"/>
                      <a:pt x="16708" y="8"/>
                      <a:pt x="16707" y="8"/>
                    </a:cubicBezTo>
                    <a:lnTo>
                      <a:pt x="16707" y="8"/>
                    </a:lnTo>
                    <a:cubicBezTo>
                      <a:pt x="16706" y="8"/>
                      <a:pt x="16705" y="7"/>
                      <a:pt x="16705" y="6"/>
                    </a:cubicBezTo>
                    <a:cubicBezTo>
                      <a:pt x="16705" y="5"/>
                      <a:pt x="16706" y="4"/>
                      <a:pt x="16707" y="4"/>
                    </a:cubicBezTo>
                    <a:close/>
                    <a:moveTo>
                      <a:pt x="16715" y="4"/>
                    </a:moveTo>
                    <a:lnTo>
                      <a:pt x="16715" y="4"/>
                    </a:lnTo>
                    <a:cubicBezTo>
                      <a:pt x="16716" y="4"/>
                      <a:pt x="16717" y="5"/>
                      <a:pt x="16717" y="6"/>
                    </a:cubicBezTo>
                    <a:cubicBezTo>
                      <a:pt x="16717" y="7"/>
                      <a:pt x="16716" y="8"/>
                      <a:pt x="16715" y="8"/>
                    </a:cubicBezTo>
                    <a:lnTo>
                      <a:pt x="16715" y="8"/>
                    </a:lnTo>
                    <a:cubicBezTo>
                      <a:pt x="16714" y="8"/>
                      <a:pt x="16713" y="7"/>
                      <a:pt x="16713" y="6"/>
                    </a:cubicBezTo>
                    <a:cubicBezTo>
                      <a:pt x="16713" y="5"/>
                      <a:pt x="16714" y="4"/>
                      <a:pt x="16715" y="4"/>
                    </a:cubicBezTo>
                    <a:close/>
                    <a:moveTo>
                      <a:pt x="16723" y="4"/>
                    </a:moveTo>
                    <a:lnTo>
                      <a:pt x="16723" y="4"/>
                    </a:lnTo>
                    <a:cubicBezTo>
                      <a:pt x="16724" y="4"/>
                      <a:pt x="16725" y="5"/>
                      <a:pt x="16725" y="6"/>
                    </a:cubicBezTo>
                    <a:cubicBezTo>
                      <a:pt x="16725" y="7"/>
                      <a:pt x="16724" y="8"/>
                      <a:pt x="16723" y="8"/>
                    </a:cubicBezTo>
                    <a:lnTo>
                      <a:pt x="16723" y="8"/>
                    </a:lnTo>
                    <a:cubicBezTo>
                      <a:pt x="16722" y="8"/>
                      <a:pt x="16721" y="7"/>
                      <a:pt x="16721" y="6"/>
                    </a:cubicBezTo>
                    <a:cubicBezTo>
                      <a:pt x="16721" y="5"/>
                      <a:pt x="16722" y="4"/>
                      <a:pt x="16723" y="4"/>
                    </a:cubicBezTo>
                    <a:close/>
                    <a:moveTo>
                      <a:pt x="16731" y="4"/>
                    </a:moveTo>
                    <a:lnTo>
                      <a:pt x="16731" y="4"/>
                    </a:lnTo>
                    <a:cubicBezTo>
                      <a:pt x="16732" y="4"/>
                      <a:pt x="16733" y="5"/>
                      <a:pt x="16733" y="6"/>
                    </a:cubicBezTo>
                    <a:cubicBezTo>
                      <a:pt x="16733" y="7"/>
                      <a:pt x="16732" y="8"/>
                      <a:pt x="16731" y="8"/>
                    </a:cubicBezTo>
                    <a:lnTo>
                      <a:pt x="16731" y="8"/>
                    </a:lnTo>
                    <a:cubicBezTo>
                      <a:pt x="16730" y="8"/>
                      <a:pt x="16729" y="7"/>
                      <a:pt x="16729" y="6"/>
                    </a:cubicBezTo>
                    <a:cubicBezTo>
                      <a:pt x="16729" y="5"/>
                      <a:pt x="16730" y="4"/>
                      <a:pt x="16731" y="4"/>
                    </a:cubicBezTo>
                    <a:close/>
                    <a:moveTo>
                      <a:pt x="16739" y="4"/>
                    </a:moveTo>
                    <a:lnTo>
                      <a:pt x="16739" y="4"/>
                    </a:lnTo>
                    <a:cubicBezTo>
                      <a:pt x="16740" y="4"/>
                      <a:pt x="16741" y="5"/>
                      <a:pt x="16741" y="6"/>
                    </a:cubicBezTo>
                    <a:cubicBezTo>
                      <a:pt x="16741" y="7"/>
                      <a:pt x="16740" y="8"/>
                      <a:pt x="16739" y="8"/>
                    </a:cubicBezTo>
                    <a:lnTo>
                      <a:pt x="16739" y="8"/>
                    </a:lnTo>
                    <a:cubicBezTo>
                      <a:pt x="16738" y="8"/>
                      <a:pt x="16737" y="7"/>
                      <a:pt x="16737" y="6"/>
                    </a:cubicBezTo>
                    <a:cubicBezTo>
                      <a:pt x="16737" y="5"/>
                      <a:pt x="16738" y="4"/>
                      <a:pt x="16739" y="4"/>
                    </a:cubicBezTo>
                    <a:close/>
                    <a:moveTo>
                      <a:pt x="16747" y="4"/>
                    </a:moveTo>
                    <a:lnTo>
                      <a:pt x="16747" y="4"/>
                    </a:lnTo>
                    <a:cubicBezTo>
                      <a:pt x="16748" y="4"/>
                      <a:pt x="16749" y="5"/>
                      <a:pt x="16749" y="6"/>
                    </a:cubicBezTo>
                    <a:cubicBezTo>
                      <a:pt x="16749" y="7"/>
                      <a:pt x="16748" y="8"/>
                      <a:pt x="16747" y="8"/>
                    </a:cubicBezTo>
                    <a:lnTo>
                      <a:pt x="16747" y="8"/>
                    </a:lnTo>
                    <a:cubicBezTo>
                      <a:pt x="16746" y="8"/>
                      <a:pt x="16745" y="7"/>
                      <a:pt x="16745" y="6"/>
                    </a:cubicBezTo>
                    <a:cubicBezTo>
                      <a:pt x="16745" y="5"/>
                      <a:pt x="16746" y="4"/>
                      <a:pt x="16747" y="4"/>
                    </a:cubicBezTo>
                    <a:close/>
                    <a:moveTo>
                      <a:pt x="16755" y="4"/>
                    </a:moveTo>
                    <a:lnTo>
                      <a:pt x="16755" y="4"/>
                    </a:lnTo>
                    <a:cubicBezTo>
                      <a:pt x="16756" y="4"/>
                      <a:pt x="16757" y="5"/>
                      <a:pt x="16757" y="6"/>
                    </a:cubicBezTo>
                    <a:cubicBezTo>
                      <a:pt x="16757" y="7"/>
                      <a:pt x="16756" y="8"/>
                      <a:pt x="16755" y="8"/>
                    </a:cubicBezTo>
                    <a:lnTo>
                      <a:pt x="16755" y="8"/>
                    </a:lnTo>
                    <a:cubicBezTo>
                      <a:pt x="16754" y="8"/>
                      <a:pt x="16753" y="7"/>
                      <a:pt x="16753" y="6"/>
                    </a:cubicBezTo>
                    <a:cubicBezTo>
                      <a:pt x="16753" y="5"/>
                      <a:pt x="16754" y="4"/>
                      <a:pt x="16755" y="4"/>
                    </a:cubicBezTo>
                    <a:close/>
                    <a:moveTo>
                      <a:pt x="16763" y="4"/>
                    </a:moveTo>
                    <a:lnTo>
                      <a:pt x="16763" y="4"/>
                    </a:lnTo>
                    <a:cubicBezTo>
                      <a:pt x="16764" y="4"/>
                      <a:pt x="16765" y="5"/>
                      <a:pt x="16765" y="6"/>
                    </a:cubicBezTo>
                    <a:cubicBezTo>
                      <a:pt x="16765" y="7"/>
                      <a:pt x="16764" y="8"/>
                      <a:pt x="16763" y="8"/>
                    </a:cubicBezTo>
                    <a:lnTo>
                      <a:pt x="16763" y="8"/>
                    </a:lnTo>
                    <a:cubicBezTo>
                      <a:pt x="16762" y="8"/>
                      <a:pt x="16761" y="7"/>
                      <a:pt x="16761" y="6"/>
                    </a:cubicBezTo>
                    <a:cubicBezTo>
                      <a:pt x="16761" y="5"/>
                      <a:pt x="16762" y="4"/>
                      <a:pt x="16763" y="4"/>
                    </a:cubicBezTo>
                    <a:close/>
                    <a:moveTo>
                      <a:pt x="16771" y="4"/>
                    </a:moveTo>
                    <a:lnTo>
                      <a:pt x="16771" y="4"/>
                    </a:lnTo>
                    <a:cubicBezTo>
                      <a:pt x="16772" y="4"/>
                      <a:pt x="16773" y="5"/>
                      <a:pt x="16773" y="6"/>
                    </a:cubicBezTo>
                    <a:cubicBezTo>
                      <a:pt x="16773" y="7"/>
                      <a:pt x="16772" y="8"/>
                      <a:pt x="16771" y="8"/>
                    </a:cubicBezTo>
                    <a:lnTo>
                      <a:pt x="16771" y="8"/>
                    </a:lnTo>
                    <a:cubicBezTo>
                      <a:pt x="16770" y="8"/>
                      <a:pt x="16769" y="7"/>
                      <a:pt x="16769" y="6"/>
                    </a:cubicBezTo>
                    <a:cubicBezTo>
                      <a:pt x="16769" y="5"/>
                      <a:pt x="16770" y="4"/>
                      <a:pt x="16771" y="4"/>
                    </a:cubicBezTo>
                    <a:close/>
                    <a:moveTo>
                      <a:pt x="16779" y="4"/>
                    </a:moveTo>
                    <a:lnTo>
                      <a:pt x="16779" y="4"/>
                    </a:lnTo>
                    <a:cubicBezTo>
                      <a:pt x="16780" y="4"/>
                      <a:pt x="16781" y="5"/>
                      <a:pt x="16781" y="6"/>
                    </a:cubicBezTo>
                    <a:cubicBezTo>
                      <a:pt x="16781" y="7"/>
                      <a:pt x="16780" y="8"/>
                      <a:pt x="16779" y="8"/>
                    </a:cubicBezTo>
                    <a:lnTo>
                      <a:pt x="16779" y="8"/>
                    </a:lnTo>
                    <a:cubicBezTo>
                      <a:pt x="16778" y="8"/>
                      <a:pt x="16777" y="7"/>
                      <a:pt x="16777" y="6"/>
                    </a:cubicBezTo>
                    <a:cubicBezTo>
                      <a:pt x="16777" y="5"/>
                      <a:pt x="16778" y="4"/>
                      <a:pt x="16779" y="4"/>
                    </a:cubicBezTo>
                    <a:close/>
                    <a:moveTo>
                      <a:pt x="16787" y="4"/>
                    </a:moveTo>
                    <a:lnTo>
                      <a:pt x="16787" y="4"/>
                    </a:lnTo>
                    <a:cubicBezTo>
                      <a:pt x="16788" y="4"/>
                      <a:pt x="16789" y="5"/>
                      <a:pt x="16789" y="6"/>
                    </a:cubicBezTo>
                    <a:cubicBezTo>
                      <a:pt x="16789" y="7"/>
                      <a:pt x="16788" y="8"/>
                      <a:pt x="16787" y="8"/>
                    </a:cubicBezTo>
                    <a:lnTo>
                      <a:pt x="16787" y="8"/>
                    </a:lnTo>
                    <a:cubicBezTo>
                      <a:pt x="16786" y="8"/>
                      <a:pt x="16785" y="7"/>
                      <a:pt x="16785" y="6"/>
                    </a:cubicBezTo>
                    <a:cubicBezTo>
                      <a:pt x="16785" y="5"/>
                      <a:pt x="16786" y="4"/>
                      <a:pt x="16787" y="4"/>
                    </a:cubicBezTo>
                    <a:close/>
                    <a:moveTo>
                      <a:pt x="16795" y="4"/>
                    </a:moveTo>
                    <a:lnTo>
                      <a:pt x="16795" y="4"/>
                    </a:lnTo>
                    <a:cubicBezTo>
                      <a:pt x="16796" y="4"/>
                      <a:pt x="16797" y="5"/>
                      <a:pt x="16797" y="6"/>
                    </a:cubicBezTo>
                    <a:cubicBezTo>
                      <a:pt x="16797" y="7"/>
                      <a:pt x="16796" y="8"/>
                      <a:pt x="16795" y="8"/>
                    </a:cubicBezTo>
                    <a:lnTo>
                      <a:pt x="16795" y="8"/>
                    </a:lnTo>
                    <a:cubicBezTo>
                      <a:pt x="16794" y="8"/>
                      <a:pt x="16793" y="7"/>
                      <a:pt x="16793" y="6"/>
                    </a:cubicBezTo>
                    <a:cubicBezTo>
                      <a:pt x="16793" y="5"/>
                      <a:pt x="16794" y="4"/>
                      <a:pt x="16795" y="4"/>
                    </a:cubicBezTo>
                    <a:close/>
                    <a:moveTo>
                      <a:pt x="16803" y="4"/>
                    </a:moveTo>
                    <a:lnTo>
                      <a:pt x="16803" y="4"/>
                    </a:lnTo>
                    <a:cubicBezTo>
                      <a:pt x="16804" y="4"/>
                      <a:pt x="16805" y="5"/>
                      <a:pt x="16805" y="6"/>
                    </a:cubicBezTo>
                    <a:cubicBezTo>
                      <a:pt x="16805" y="7"/>
                      <a:pt x="16804" y="8"/>
                      <a:pt x="16803" y="8"/>
                    </a:cubicBezTo>
                    <a:lnTo>
                      <a:pt x="16803" y="8"/>
                    </a:lnTo>
                    <a:cubicBezTo>
                      <a:pt x="16802" y="8"/>
                      <a:pt x="16801" y="7"/>
                      <a:pt x="16801" y="6"/>
                    </a:cubicBezTo>
                    <a:cubicBezTo>
                      <a:pt x="16801" y="5"/>
                      <a:pt x="16802" y="4"/>
                      <a:pt x="16803" y="4"/>
                    </a:cubicBezTo>
                    <a:close/>
                    <a:moveTo>
                      <a:pt x="16811" y="4"/>
                    </a:moveTo>
                    <a:lnTo>
                      <a:pt x="16811" y="4"/>
                    </a:lnTo>
                    <a:cubicBezTo>
                      <a:pt x="16812" y="4"/>
                      <a:pt x="16813" y="5"/>
                      <a:pt x="16813" y="6"/>
                    </a:cubicBezTo>
                    <a:cubicBezTo>
                      <a:pt x="16813" y="7"/>
                      <a:pt x="16812" y="8"/>
                      <a:pt x="16811" y="8"/>
                    </a:cubicBezTo>
                    <a:lnTo>
                      <a:pt x="16811" y="8"/>
                    </a:lnTo>
                    <a:cubicBezTo>
                      <a:pt x="16810" y="8"/>
                      <a:pt x="16809" y="7"/>
                      <a:pt x="16809" y="6"/>
                    </a:cubicBezTo>
                    <a:cubicBezTo>
                      <a:pt x="16809" y="5"/>
                      <a:pt x="16810" y="4"/>
                      <a:pt x="16811" y="4"/>
                    </a:cubicBezTo>
                    <a:close/>
                    <a:moveTo>
                      <a:pt x="16819" y="4"/>
                    </a:moveTo>
                    <a:lnTo>
                      <a:pt x="16819" y="4"/>
                    </a:lnTo>
                    <a:cubicBezTo>
                      <a:pt x="16820" y="4"/>
                      <a:pt x="16821" y="5"/>
                      <a:pt x="16821" y="6"/>
                    </a:cubicBezTo>
                    <a:cubicBezTo>
                      <a:pt x="16821" y="7"/>
                      <a:pt x="16820" y="8"/>
                      <a:pt x="16819" y="8"/>
                    </a:cubicBezTo>
                    <a:lnTo>
                      <a:pt x="16819" y="8"/>
                    </a:lnTo>
                    <a:cubicBezTo>
                      <a:pt x="16818" y="8"/>
                      <a:pt x="16817" y="7"/>
                      <a:pt x="16817" y="6"/>
                    </a:cubicBezTo>
                    <a:cubicBezTo>
                      <a:pt x="16817" y="5"/>
                      <a:pt x="16818" y="4"/>
                      <a:pt x="16819" y="4"/>
                    </a:cubicBezTo>
                    <a:close/>
                    <a:moveTo>
                      <a:pt x="16827" y="4"/>
                    </a:moveTo>
                    <a:lnTo>
                      <a:pt x="16827" y="4"/>
                    </a:lnTo>
                    <a:cubicBezTo>
                      <a:pt x="16828" y="4"/>
                      <a:pt x="16829" y="5"/>
                      <a:pt x="16829" y="6"/>
                    </a:cubicBezTo>
                    <a:cubicBezTo>
                      <a:pt x="16829" y="7"/>
                      <a:pt x="16828" y="8"/>
                      <a:pt x="16827" y="8"/>
                    </a:cubicBezTo>
                    <a:lnTo>
                      <a:pt x="16827" y="8"/>
                    </a:lnTo>
                    <a:cubicBezTo>
                      <a:pt x="16826" y="8"/>
                      <a:pt x="16825" y="7"/>
                      <a:pt x="16825" y="6"/>
                    </a:cubicBezTo>
                    <a:cubicBezTo>
                      <a:pt x="16825" y="5"/>
                      <a:pt x="16826" y="4"/>
                      <a:pt x="16827" y="4"/>
                    </a:cubicBezTo>
                    <a:close/>
                    <a:moveTo>
                      <a:pt x="16835" y="4"/>
                    </a:moveTo>
                    <a:lnTo>
                      <a:pt x="16835" y="4"/>
                    </a:lnTo>
                    <a:cubicBezTo>
                      <a:pt x="16836" y="4"/>
                      <a:pt x="16837" y="5"/>
                      <a:pt x="16837" y="6"/>
                    </a:cubicBezTo>
                    <a:cubicBezTo>
                      <a:pt x="16837" y="7"/>
                      <a:pt x="16836" y="8"/>
                      <a:pt x="16835" y="8"/>
                    </a:cubicBezTo>
                    <a:lnTo>
                      <a:pt x="16835" y="8"/>
                    </a:lnTo>
                    <a:cubicBezTo>
                      <a:pt x="16834" y="8"/>
                      <a:pt x="16833" y="7"/>
                      <a:pt x="16833" y="6"/>
                    </a:cubicBezTo>
                    <a:cubicBezTo>
                      <a:pt x="16833" y="5"/>
                      <a:pt x="16834" y="4"/>
                      <a:pt x="16835" y="4"/>
                    </a:cubicBezTo>
                    <a:close/>
                    <a:moveTo>
                      <a:pt x="16843" y="4"/>
                    </a:moveTo>
                    <a:lnTo>
                      <a:pt x="16843" y="4"/>
                    </a:lnTo>
                    <a:cubicBezTo>
                      <a:pt x="16844" y="4"/>
                      <a:pt x="16845" y="5"/>
                      <a:pt x="16845" y="6"/>
                    </a:cubicBezTo>
                    <a:cubicBezTo>
                      <a:pt x="16845" y="7"/>
                      <a:pt x="16844" y="8"/>
                      <a:pt x="16843" y="8"/>
                    </a:cubicBezTo>
                    <a:lnTo>
                      <a:pt x="16843" y="8"/>
                    </a:lnTo>
                    <a:cubicBezTo>
                      <a:pt x="16842" y="8"/>
                      <a:pt x="16841" y="7"/>
                      <a:pt x="16841" y="6"/>
                    </a:cubicBezTo>
                    <a:cubicBezTo>
                      <a:pt x="16841" y="5"/>
                      <a:pt x="16842" y="4"/>
                      <a:pt x="16843" y="4"/>
                    </a:cubicBezTo>
                    <a:close/>
                    <a:moveTo>
                      <a:pt x="16851" y="4"/>
                    </a:moveTo>
                    <a:lnTo>
                      <a:pt x="16851" y="4"/>
                    </a:lnTo>
                    <a:cubicBezTo>
                      <a:pt x="16852" y="4"/>
                      <a:pt x="16853" y="5"/>
                      <a:pt x="16853" y="6"/>
                    </a:cubicBezTo>
                    <a:cubicBezTo>
                      <a:pt x="16853" y="7"/>
                      <a:pt x="16852" y="8"/>
                      <a:pt x="16851" y="8"/>
                    </a:cubicBezTo>
                    <a:lnTo>
                      <a:pt x="16851" y="8"/>
                    </a:lnTo>
                    <a:cubicBezTo>
                      <a:pt x="16850" y="8"/>
                      <a:pt x="16849" y="7"/>
                      <a:pt x="16849" y="6"/>
                    </a:cubicBezTo>
                    <a:cubicBezTo>
                      <a:pt x="16849" y="5"/>
                      <a:pt x="16850" y="4"/>
                      <a:pt x="16851" y="4"/>
                    </a:cubicBezTo>
                    <a:close/>
                    <a:moveTo>
                      <a:pt x="16859" y="4"/>
                    </a:moveTo>
                    <a:lnTo>
                      <a:pt x="16859" y="4"/>
                    </a:lnTo>
                    <a:cubicBezTo>
                      <a:pt x="16860" y="4"/>
                      <a:pt x="16861" y="5"/>
                      <a:pt x="16861" y="6"/>
                    </a:cubicBezTo>
                    <a:cubicBezTo>
                      <a:pt x="16861" y="7"/>
                      <a:pt x="16860" y="8"/>
                      <a:pt x="16859" y="8"/>
                    </a:cubicBezTo>
                    <a:lnTo>
                      <a:pt x="16859" y="8"/>
                    </a:lnTo>
                    <a:cubicBezTo>
                      <a:pt x="16858" y="8"/>
                      <a:pt x="16857" y="7"/>
                      <a:pt x="16857" y="6"/>
                    </a:cubicBezTo>
                    <a:cubicBezTo>
                      <a:pt x="16857" y="5"/>
                      <a:pt x="16858" y="4"/>
                      <a:pt x="16859" y="4"/>
                    </a:cubicBezTo>
                    <a:close/>
                    <a:moveTo>
                      <a:pt x="16867" y="4"/>
                    </a:moveTo>
                    <a:lnTo>
                      <a:pt x="16867" y="4"/>
                    </a:lnTo>
                    <a:cubicBezTo>
                      <a:pt x="16868" y="4"/>
                      <a:pt x="16869" y="5"/>
                      <a:pt x="16869" y="6"/>
                    </a:cubicBezTo>
                    <a:cubicBezTo>
                      <a:pt x="16869" y="7"/>
                      <a:pt x="16868" y="8"/>
                      <a:pt x="16867" y="8"/>
                    </a:cubicBezTo>
                    <a:lnTo>
                      <a:pt x="16867" y="8"/>
                    </a:lnTo>
                    <a:cubicBezTo>
                      <a:pt x="16866" y="8"/>
                      <a:pt x="16865" y="7"/>
                      <a:pt x="16865" y="6"/>
                    </a:cubicBezTo>
                    <a:cubicBezTo>
                      <a:pt x="16865" y="5"/>
                      <a:pt x="16866" y="4"/>
                      <a:pt x="16867" y="4"/>
                    </a:cubicBezTo>
                    <a:close/>
                    <a:moveTo>
                      <a:pt x="16875" y="4"/>
                    </a:moveTo>
                    <a:lnTo>
                      <a:pt x="16875" y="4"/>
                    </a:lnTo>
                    <a:cubicBezTo>
                      <a:pt x="16876" y="4"/>
                      <a:pt x="16877" y="5"/>
                      <a:pt x="16877" y="6"/>
                    </a:cubicBezTo>
                    <a:cubicBezTo>
                      <a:pt x="16877" y="7"/>
                      <a:pt x="16876" y="8"/>
                      <a:pt x="16875" y="8"/>
                    </a:cubicBezTo>
                    <a:lnTo>
                      <a:pt x="16875" y="8"/>
                    </a:lnTo>
                    <a:cubicBezTo>
                      <a:pt x="16874" y="8"/>
                      <a:pt x="16873" y="7"/>
                      <a:pt x="16873" y="6"/>
                    </a:cubicBezTo>
                    <a:cubicBezTo>
                      <a:pt x="16873" y="5"/>
                      <a:pt x="16874" y="4"/>
                      <a:pt x="16875" y="4"/>
                    </a:cubicBezTo>
                    <a:close/>
                    <a:moveTo>
                      <a:pt x="16883" y="4"/>
                    </a:moveTo>
                    <a:lnTo>
                      <a:pt x="16883" y="4"/>
                    </a:lnTo>
                    <a:cubicBezTo>
                      <a:pt x="16884" y="4"/>
                      <a:pt x="16885" y="5"/>
                      <a:pt x="16885" y="6"/>
                    </a:cubicBezTo>
                    <a:cubicBezTo>
                      <a:pt x="16885" y="7"/>
                      <a:pt x="16884" y="8"/>
                      <a:pt x="16883" y="8"/>
                    </a:cubicBezTo>
                    <a:lnTo>
                      <a:pt x="16883" y="8"/>
                    </a:lnTo>
                    <a:cubicBezTo>
                      <a:pt x="16882" y="8"/>
                      <a:pt x="16881" y="7"/>
                      <a:pt x="16881" y="6"/>
                    </a:cubicBezTo>
                    <a:cubicBezTo>
                      <a:pt x="16881" y="5"/>
                      <a:pt x="16882" y="4"/>
                      <a:pt x="16883" y="4"/>
                    </a:cubicBezTo>
                    <a:close/>
                    <a:moveTo>
                      <a:pt x="16891" y="4"/>
                    </a:moveTo>
                    <a:lnTo>
                      <a:pt x="16891" y="4"/>
                    </a:lnTo>
                    <a:cubicBezTo>
                      <a:pt x="16892" y="4"/>
                      <a:pt x="16893" y="5"/>
                      <a:pt x="16893" y="6"/>
                    </a:cubicBezTo>
                    <a:cubicBezTo>
                      <a:pt x="16893" y="7"/>
                      <a:pt x="16892" y="8"/>
                      <a:pt x="16891" y="8"/>
                    </a:cubicBezTo>
                    <a:lnTo>
                      <a:pt x="16891" y="8"/>
                    </a:lnTo>
                    <a:cubicBezTo>
                      <a:pt x="16890" y="8"/>
                      <a:pt x="16889" y="7"/>
                      <a:pt x="16889" y="6"/>
                    </a:cubicBezTo>
                    <a:cubicBezTo>
                      <a:pt x="16889" y="5"/>
                      <a:pt x="16890" y="4"/>
                      <a:pt x="16891" y="4"/>
                    </a:cubicBezTo>
                    <a:close/>
                    <a:moveTo>
                      <a:pt x="16899" y="4"/>
                    </a:moveTo>
                    <a:lnTo>
                      <a:pt x="16899" y="4"/>
                    </a:lnTo>
                    <a:cubicBezTo>
                      <a:pt x="16901" y="4"/>
                      <a:pt x="16901" y="5"/>
                      <a:pt x="16901" y="6"/>
                    </a:cubicBezTo>
                    <a:cubicBezTo>
                      <a:pt x="16901" y="7"/>
                      <a:pt x="16901" y="8"/>
                      <a:pt x="16899" y="8"/>
                    </a:cubicBezTo>
                    <a:lnTo>
                      <a:pt x="16899" y="8"/>
                    </a:lnTo>
                    <a:cubicBezTo>
                      <a:pt x="16898" y="8"/>
                      <a:pt x="16897" y="7"/>
                      <a:pt x="16897" y="6"/>
                    </a:cubicBezTo>
                    <a:cubicBezTo>
                      <a:pt x="16897" y="5"/>
                      <a:pt x="16898" y="4"/>
                      <a:pt x="16899" y="4"/>
                    </a:cubicBezTo>
                    <a:close/>
                    <a:moveTo>
                      <a:pt x="16907" y="4"/>
                    </a:moveTo>
                    <a:lnTo>
                      <a:pt x="16907" y="4"/>
                    </a:lnTo>
                    <a:cubicBezTo>
                      <a:pt x="16909" y="4"/>
                      <a:pt x="16909" y="5"/>
                      <a:pt x="16909" y="6"/>
                    </a:cubicBezTo>
                    <a:cubicBezTo>
                      <a:pt x="16909" y="7"/>
                      <a:pt x="16909" y="8"/>
                      <a:pt x="16907" y="8"/>
                    </a:cubicBezTo>
                    <a:lnTo>
                      <a:pt x="16907" y="8"/>
                    </a:lnTo>
                    <a:cubicBezTo>
                      <a:pt x="16906" y="8"/>
                      <a:pt x="16905" y="7"/>
                      <a:pt x="16905" y="6"/>
                    </a:cubicBezTo>
                    <a:cubicBezTo>
                      <a:pt x="16905" y="5"/>
                      <a:pt x="16906" y="4"/>
                      <a:pt x="16907" y="4"/>
                    </a:cubicBezTo>
                    <a:close/>
                    <a:moveTo>
                      <a:pt x="16915" y="4"/>
                    </a:moveTo>
                    <a:lnTo>
                      <a:pt x="16915" y="4"/>
                    </a:lnTo>
                    <a:cubicBezTo>
                      <a:pt x="16917" y="4"/>
                      <a:pt x="16917" y="5"/>
                      <a:pt x="16917" y="6"/>
                    </a:cubicBezTo>
                    <a:cubicBezTo>
                      <a:pt x="16917" y="7"/>
                      <a:pt x="16917" y="8"/>
                      <a:pt x="16915" y="8"/>
                    </a:cubicBezTo>
                    <a:lnTo>
                      <a:pt x="16915" y="8"/>
                    </a:lnTo>
                    <a:cubicBezTo>
                      <a:pt x="16914" y="8"/>
                      <a:pt x="16913" y="7"/>
                      <a:pt x="16913" y="6"/>
                    </a:cubicBezTo>
                    <a:cubicBezTo>
                      <a:pt x="16913" y="5"/>
                      <a:pt x="16914" y="4"/>
                      <a:pt x="16915" y="4"/>
                    </a:cubicBezTo>
                    <a:close/>
                    <a:moveTo>
                      <a:pt x="16923" y="4"/>
                    </a:moveTo>
                    <a:lnTo>
                      <a:pt x="16923" y="4"/>
                    </a:lnTo>
                    <a:cubicBezTo>
                      <a:pt x="16925" y="4"/>
                      <a:pt x="16925" y="5"/>
                      <a:pt x="16925" y="6"/>
                    </a:cubicBezTo>
                    <a:cubicBezTo>
                      <a:pt x="16925" y="7"/>
                      <a:pt x="16925" y="8"/>
                      <a:pt x="16923" y="8"/>
                    </a:cubicBezTo>
                    <a:lnTo>
                      <a:pt x="16923" y="8"/>
                    </a:lnTo>
                    <a:cubicBezTo>
                      <a:pt x="16922" y="8"/>
                      <a:pt x="16921" y="7"/>
                      <a:pt x="16921" y="6"/>
                    </a:cubicBezTo>
                    <a:cubicBezTo>
                      <a:pt x="16921" y="5"/>
                      <a:pt x="16922" y="4"/>
                      <a:pt x="16923" y="4"/>
                    </a:cubicBezTo>
                    <a:close/>
                    <a:moveTo>
                      <a:pt x="16931" y="4"/>
                    </a:moveTo>
                    <a:lnTo>
                      <a:pt x="16931" y="4"/>
                    </a:lnTo>
                    <a:cubicBezTo>
                      <a:pt x="16933" y="4"/>
                      <a:pt x="16933" y="5"/>
                      <a:pt x="16933" y="6"/>
                    </a:cubicBezTo>
                    <a:cubicBezTo>
                      <a:pt x="16933" y="7"/>
                      <a:pt x="16933" y="8"/>
                      <a:pt x="16931" y="8"/>
                    </a:cubicBezTo>
                    <a:lnTo>
                      <a:pt x="16931" y="8"/>
                    </a:lnTo>
                    <a:cubicBezTo>
                      <a:pt x="16930" y="8"/>
                      <a:pt x="16929" y="7"/>
                      <a:pt x="16929" y="6"/>
                    </a:cubicBezTo>
                    <a:cubicBezTo>
                      <a:pt x="16929" y="5"/>
                      <a:pt x="16930" y="4"/>
                      <a:pt x="16931" y="4"/>
                    </a:cubicBezTo>
                    <a:close/>
                    <a:moveTo>
                      <a:pt x="16939" y="4"/>
                    </a:moveTo>
                    <a:lnTo>
                      <a:pt x="16939" y="4"/>
                    </a:lnTo>
                    <a:cubicBezTo>
                      <a:pt x="16941" y="4"/>
                      <a:pt x="16941" y="5"/>
                      <a:pt x="16941" y="6"/>
                    </a:cubicBezTo>
                    <a:cubicBezTo>
                      <a:pt x="16941" y="7"/>
                      <a:pt x="16941" y="8"/>
                      <a:pt x="16939" y="8"/>
                    </a:cubicBezTo>
                    <a:lnTo>
                      <a:pt x="16939" y="8"/>
                    </a:lnTo>
                    <a:cubicBezTo>
                      <a:pt x="16938" y="8"/>
                      <a:pt x="16937" y="7"/>
                      <a:pt x="16937" y="6"/>
                    </a:cubicBezTo>
                    <a:cubicBezTo>
                      <a:pt x="16937" y="5"/>
                      <a:pt x="16938" y="4"/>
                      <a:pt x="16939" y="4"/>
                    </a:cubicBezTo>
                    <a:close/>
                    <a:moveTo>
                      <a:pt x="16947" y="4"/>
                    </a:moveTo>
                    <a:lnTo>
                      <a:pt x="16947" y="4"/>
                    </a:lnTo>
                    <a:cubicBezTo>
                      <a:pt x="16949" y="4"/>
                      <a:pt x="16949" y="5"/>
                      <a:pt x="16949" y="6"/>
                    </a:cubicBezTo>
                    <a:cubicBezTo>
                      <a:pt x="16949" y="7"/>
                      <a:pt x="16949" y="8"/>
                      <a:pt x="16947" y="8"/>
                    </a:cubicBezTo>
                    <a:lnTo>
                      <a:pt x="16947" y="8"/>
                    </a:lnTo>
                    <a:cubicBezTo>
                      <a:pt x="16946" y="8"/>
                      <a:pt x="16945" y="7"/>
                      <a:pt x="16945" y="6"/>
                    </a:cubicBezTo>
                    <a:cubicBezTo>
                      <a:pt x="16945" y="5"/>
                      <a:pt x="16946" y="4"/>
                      <a:pt x="16947" y="4"/>
                    </a:cubicBezTo>
                    <a:close/>
                    <a:moveTo>
                      <a:pt x="16955" y="4"/>
                    </a:moveTo>
                    <a:lnTo>
                      <a:pt x="16955" y="4"/>
                    </a:lnTo>
                    <a:cubicBezTo>
                      <a:pt x="16957" y="4"/>
                      <a:pt x="16957" y="5"/>
                      <a:pt x="16957" y="6"/>
                    </a:cubicBezTo>
                    <a:cubicBezTo>
                      <a:pt x="16957" y="7"/>
                      <a:pt x="16957" y="8"/>
                      <a:pt x="16955" y="8"/>
                    </a:cubicBezTo>
                    <a:lnTo>
                      <a:pt x="16955" y="8"/>
                    </a:lnTo>
                    <a:cubicBezTo>
                      <a:pt x="16954" y="8"/>
                      <a:pt x="16953" y="7"/>
                      <a:pt x="16953" y="6"/>
                    </a:cubicBezTo>
                    <a:cubicBezTo>
                      <a:pt x="16953" y="5"/>
                      <a:pt x="16954" y="4"/>
                      <a:pt x="16955" y="4"/>
                    </a:cubicBezTo>
                    <a:close/>
                    <a:moveTo>
                      <a:pt x="16963" y="4"/>
                    </a:moveTo>
                    <a:lnTo>
                      <a:pt x="16963" y="4"/>
                    </a:lnTo>
                    <a:cubicBezTo>
                      <a:pt x="16965" y="4"/>
                      <a:pt x="16965" y="5"/>
                      <a:pt x="16965" y="6"/>
                    </a:cubicBezTo>
                    <a:cubicBezTo>
                      <a:pt x="16965" y="7"/>
                      <a:pt x="16965" y="8"/>
                      <a:pt x="16963" y="8"/>
                    </a:cubicBezTo>
                    <a:lnTo>
                      <a:pt x="16963" y="8"/>
                    </a:lnTo>
                    <a:cubicBezTo>
                      <a:pt x="16962" y="8"/>
                      <a:pt x="16961" y="7"/>
                      <a:pt x="16961" y="6"/>
                    </a:cubicBezTo>
                    <a:cubicBezTo>
                      <a:pt x="16961" y="5"/>
                      <a:pt x="16962" y="4"/>
                      <a:pt x="16963" y="4"/>
                    </a:cubicBezTo>
                    <a:close/>
                    <a:moveTo>
                      <a:pt x="16971" y="4"/>
                    </a:moveTo>
                    <a:lnTo>
                      <a:pt x="16971" y="4"/>
                    </a:lnTo>
                    <a:cubicBezTo>
                      <a:pt x="16973" y="4"/>
                      <a:pt x="16973" y="5"/>
                      <a:pt x="16973" y="6"/>
                    </a:cubicBezTo>
                    <a:cubicBezTo>
                      <a:pt x="16973" y="7"/>
                      <a:pt x="16973" y="8"/>
                      <a:pt x="16971" y="8"/>
                    </a:cubicBezTo>
                    <a:lnTo>
                      <a:pt x="16971" y="8"/>
                    </a:lnTo>
                    <a:cubicBezTo>
                      <a:pt x="16970" y="8"/>
                      <a:pt x="16969" y="7"/>
                      <a:pt x="16969" y="6"/>
                    </a:cubicBezTo>
                    <a:cubicBezTo>
                      <a:pt x="16969" y="5"/>
                      <a:pt x="16970" y="4"/>
                      <a:pt x="16971" y="4"/>
                    </a:cubicBezTo>
                    <a:close/>
                    <a:moveTo>
                      <a:pt x="16979" y="4"/>
                    </a:moveTo>
                    <a:lnTo>
                      <a:pt x="16979" y="4"/>
                    </a:lnTo>
                    <a:cubicBezTo>
                      <a:pt x="16981" y="4"/>
                      <a:pt x="16981" y="5"/>
                      <a:pt x="16981" y="6"/>
                    </a:cubicBezTo>
                    <a:cubicBezTo>
                      <a:pt x="16981" y="7"/>
                      <a:pt x="16981" y="8"/>
                      <a:pt x="16979" y="8"/>
                    </a:cubicBezTo>
                    <a:lnTo>
                      <a:pt x="16979" y="8"/>
                    </a:lnTo>
                    <a:cubicBezTo>
                      <a:pt x="16978" y="8"/>
                      <a:pt x="16977" y="7"/>
                      <a:pt x="16977" y="6"/>
                    </a:cubicBezTo>
                    <a:cubicBezTo>
                      <a:pt x="16977" y="5"/>
                      <a:pt x="16978" y="4"/>
                      <a:pt x="16979" y="4"/>
                    </a:cubicBezTo>
                    <a:close/>
                    <a:moveTo>
                      <a:pt x="16987" y="4"/>
                    </a:moveTo>
                    <a:lnTo>
                      <a:pt x="16987" y="4"/>
                    </a:lnTo>
                    <a:cubicBezTo>
                      <a:pt x="16989" y="4"/>
                      <a:pt x="16989" y="5"/>
                      <a:pt x="16989" y="6"/>
                    </a:cubicBezTo>
                    <a:cubicBezTo>
                      <a:pt x="16989" y="7"/>
                      <a:pt x="16989" y="8"/>
                      <a:pt x="16987" y="8"/>
                    </a:cubicBezTo>
                    <a:lnTo>
                      <a:pt x="16987" y="8"/>
                    </a:lnTo>
                    <a:cubicBezTo>
                      <a:pt x="16986" y="8"/>
                      <a:pt x="16985" y="7"/>
                      <a:pt x="16985" y="6"/>
                    </a:cubicBezTo>
                    <a:cubicBezTo>
                      <a:pt x="16985" y="5"/>
                      <a:pt x="16986" y="4"/>
                      <a:pt x="16987" y="4"/>
                    </a:cubicBezTo>
                    <a:close/>
                    <a:moveTo>
                      <a:pt x="16995" y="4"/>
                    </a:moveTo>
                    <a:lnTo>
                      <a:pt x="16995" y="4"/>
                    </a:lnTo>
                    <a:cubicBezTo>
                      <a:pt x="16997" y="4"/>
                      <a:pt x="16997" y="5"/>
                      <a:pt x="16997" y="6"/>
                    </a:cubicBezTo>
                    <a:cubicBezTo>
                      <a:pt x="16997" y="7"/>
                      <a:pt x="16997" y="8"/>
                      <a:pt x="16995" y="8"/>
                    </a:cubicBezTo>
                    <a:lnTo>
                      <a:pt x="16995" y="8"/>
                    </a:lnTo>
                    <a:cubicBezTo>
                      <a:pt x="16994" y="8"/>
                      <a:pt x="16993" y="7"/>
                      <a:pt x="16993" y="6"/>
                    </a:cubicBezTo>
                    <a:cubicBezTo>
                      <a:pt x="16993" y="5"/>
                      <a:pt x="16994" y="4"/>
                      <a:pt x="16995" y="4"/>
                    </a:cubicBezTo>
                    <a:close/>
                    <a:moveTo>
                      <a:pt x="17003" y="4"/>
                    </a:moveTo>
                    <a:lnTo>
                      <a:pt x="17003" y="4"/>
                    </a:lnTo>
                    <a:cubicBezTo>
                      <a:pt x="17005" y="4"/>
                      <a:pt x="17005" y="5"/>
                      <a:pt x="17005" y="6"/>
                    </a:cubicBezTo>
                    <a:cubicBezTo>
                      <a:pt x="17005" y="7"/>
                      <a:pt x="17005" y="8"/>
                      <a:pt x="17003" y="8"/>
                    </a:cubicBezTo>
                    <a:lnTo>
                      <a:pt x="17003" y="8"/>
                    </a:lnTo>
                    <a:cubicBezTo>
                      <a:pt x="17002" y="8"/>
                      <a:pt x="17001" y="7"/>
                      <a:pt x="17001" y="6"/>
                    </a:cubicBezTo>
                    <a:cubicBezTo>
                      <a:pt x="17001" y="5"/>
                      <a:pt x="17002" y="4"/>
                      <a:pt x="17003" y="4"/>
                    </a:cubicBezTo>
                    <a:close/>
                    <a:moveTo>
                      <a:pt x="17011" y="4"/>
                    </a:moveTo>
                    <a:lnTo>
                      <a:pt x="17011" y="4"/>
                    </a:lnTo>
                    <a:cubicBezTo>
                      <a:pt x="17013" y="4"/>
                      <a:pt x="17013" y="5"/>
                      <a:pt x="17013" y="6"/>
                    </a:cubicBezTo>
                    <a:cubicBezTo>
                      <a:pt x="17013" y="7"/>
                      <a:pt x="17013" y="8"/>
                      <a:pt x="17011" y="8"/>
                    </a:cubicBezTo>
                    <a:lnTo>
                      <a:pt x="17011" y="8"/>
                    </a:lnTo>
                    <a:cubicBezTo>
                      <a:pt x="17010" y="8"/>
                      <a:pt x="17009" y="7"/>
                      <a:pt x="17009" y="6"/>
                    </a:cubicBezTo>
                    <a:cubicBezTo>
                      <a:pt x="17009" y="5"/>
                      <a:pt x="17010" y="4"/>
                      <a:pt x="17011" y="4"/>
                    </a:cubicBezTo>
                    <a:close/>
                    <a:moveTo>
                      <a:pt x="17019" y="4"/>
                    </a:moveTo>
                    <a:lnTo>
                      <a:pt x="17019" y="4"/>
                    </a:lnTo>
                    <a:cubicBezTo>
                      <a:pt x="17021" y="4"/>
                      <a:pt x="17021" y="5"/>
                      <a:pt x="17021" y="6"/>
                    </a:cubicBezTo>
                    <a:cubicBezTo>
                      <a:pt x="17021" y="7"/>
                      <a:pt x="17021" y="8"/>
                      <a:pt x="17019" y="8"/>
                    </a:cubicBezTo>
                    <a:lnTo>
                      <a:pt x="17019" y="8"/>
                    </a:lnTo>
                    <a:cubicBezTo>
                      <a:pt x="17018" y="8"/>
                      <a:pt x="17017" y="7"/>
                      <a:pt x="17017" y="6"/>
                    </a:cubicBezTo>
                    <a:cubicBezTo>
                      <a:pt x="17017" y="5"/>
                      <a:pt x="17018" y="4"/>
                      <a:pt x="17019" y="4"/>
                    </a:cubicBezTo>
                    <a:close/>
                    <a:moveTo>
                      <a:pt x="17027" y="4"/>
                    </a:moveTo>
                    <a:lnTo>
                      <a:pt x="17027" y="4"/>
                    </a:lnTo>
                    <a:cubicBezTo>
                      <a:pt x="17029" y="4"/>
                      <a:pt x="17029" y="5"/>
                      <a:pt x="17029" y="6"/>
                    </a:cubicBezTo>
                    <a:cubicBezTo>
                      <a:pt x="17029" y="7"/>
                      <a:pt x="17029" y="8"/>
                      <a:pt x="17027" y="8"/>
                    </a:cubicBezTo>
                    <a:lnTo>
                      <a:pt x="17027" y="8"/>
                    </a:lnTo>
                    <a:cubicBezTo>
                      <a:pt x="17026" y="8"/>
                      <a:pt x="17025" y="7"/>
                      <a:pt x="17025" y="6"/>
                    </a:cubicBezTo>
                    <a:cubicBezTo>
                      <a:pt x="17025" y="5"/>
                      <a:pt x="17026" y="4"/>
                      <a:pt x="17027" y="4"/>
                    </a:cubicBezTo>
                    <a:close/>
                    <a:moveTo>
                      <a:pt x="17035" y="4"/>
                    </a:moveTo>
                    <a:lnTo>
                      <a:pt x="17035" y="4"/>
                    </a:lnTo>
                    <a:cubicBezTo>
                      <a:pt x="17037" y="4"/>
                      <a:pt x="17037" y="5"/>
                      <a:pt x="17037" y="6"/>
                    </a:cubicBezTo>
                    <a:cubicBezTo>
                      <a:pt x="17037" y="7"/>
                      <a:pt x="17037" y="8"/>
                      <a:pt x="17035" y="8"/>
                    </a:cubicBezTo>
                    <a:lnTo>
                      <a:pt x="17035" y="8"/>
                    </a:lnTo>
                    <a:cubicBezTo>
                      <a:pt x="17034" y="8"/>
                      <a:pt x="17033" y="7"/>
                      <a:pt x="17033" y="6"/>
                    </a:cubicBezTo>
                    <a:cubicBezTo>
                      <a:pt x="17033" y="5"/>
                      <a:pt x="17034" y="4"/>
                      <a:pt x="17035" y="4"/>
                    </a:cubicBezTo>
                    <a:close/>
                    <a:moveTo>
                      <a:pt x="17044" y="4"/>
                    </a:moveTo>
                    <a:lnTo>
                      <a:pt x="17044" y="4"/>
                    </a:lnTo>
                    <a:cubicBezTo>
                      <a:pt x="17045" y="4"/>
                      <a:pt x="17046" y="5"/>
                      <a:pt x="17046" y="6"/>
                    </a:cubicBezTo>
                    <a:cubicBezTo>
                      <a:pt x="17046" y="7"/>
                      <a:pt x="17045" y="8"/>
                      <a:pt x="17044" y="8"/>
                    </a:cubicBezTo>
                    <a:lnTo>
                      <a:pt x="17044" y="8"/>
                    </a:lnTo>
                    <a:cubicBezTo>
                      <a:pt x="17042" y="8"/>
                      <a:pt x="17041" y="7"/>
                      <a:pt x="17041" y="6"/>
                    </a:cubicBezTo>
                    <a:cubicBezTo>
                      <a:pt x="17041" y="5"/>
                      <a:pt x="17042" y="4"/>
                      <a:pt x="17044" y="4"/>
                    </a:cubicBezTo>
                    <a:close/>
                    <a:moveTo>
                      <a:pt x="17052" y="4"/>
                    </a:moveTo>
                    <a:lnTo>
                      <a:pt x="17052" y="4"/>
                    </a:lnTo>
                    <a:cubicBezTo>
                      <a:pt x="17053" y="4"/>
                      <a:pt x="17054" y="5"/>
                      <a:pt x="17054" y="6"/>
                    </a:cubicBezTo>
                    <a:cubicBezTo>
                      <a:pt x="17054" y="7"/>
                      <a:pt x="17053" y="8"/>
                      <a:pt x="17052" y="8"/>
                    </a:cubicBezTo>
                    <a:lnTo>
                      <a:pt x="17052" y="8"/>
                    </a:lnTo>
                    <a:cubicBezTo>
                      <a:pt x="17050" y="8"/>
                      <a:pt x="17050" y="7"/>
                      <a:pt x="17050" y="6"/>
                    </a:cubicBezTo>
                    <a:cubicBezTo>
                      <a:pt x="17050" y="5"/>
                      <a:pt x="17050" y="4"/>
                      <a:pt x="17052" y="4"/>
                    </a:cubicBezTo>
                    <a:close/>
                    <a:moveTo>
                      <a:pt x="17060" y="4"/>
                    </a:moveTo>
                    <a:lnTo>
                      <a:pt x="17060" y="4"/>
                    </a:lnTo>
                    <a:cubicBezTo>
                      <a:pt x="17061" y="4"/>
                      <a:pt x="17062" y="5"/>
                      <a:pt x="17062" y="6"/>
                    </a:cubicBezTo>
                    <a:cubicBezTo>
                      <a:pt x="17062" y="7"/>
                      <a:pt x="17061" y="8"/>
                      <a:pt x="17060" y="8"/>
                    </a:cubicBezTo>
                    <a:lnTo>
                      <a:pt x="17060" y="8"/>
                    </a:lnTo>
                    <a:cubicBezTo>
                      <a:pt x="17058" y="8"/>
                      <a:pt x="17058" y="7"/>
                      <a:pt x="17058" y="6"/>
                    </a:cubicBezTo>
                    <a:cubicBezTo>
                      <a:pt x="17058" y="5"/>
                      <a:pt x="17058" y="4"/>
                      <a:pt x="17060" y="4"/>
                    </a:cubicBezTo>
                    <a:close/>
                    <a:moveTo>
                      <a:pt x="17068" y="4"/>
                    </a:moveTo>
                    <a:lnTo>
                      <a:pt x="17068" y="4"/>
                    </a:lnTo>
                    <a:cubicBezTo>
                      <a:pt x="17069" y="4"/>
                      <a:pt x="17070" y="5"/>
                      <a:pt x="17070" y="6"/>
                    </a:cubicBezTo>
                    <a:cubicBezTo>
                      <a:pt x="17070" y="7"/>
                      <a:pt x="17069" y="8"/>
                      <a:pt x="17068" y="8"/>
                    </a:cubicBezTo>
                    <a:lnTo>
                      <a:pt x="17068" y="8"/>
                    </a:lnTo>
                    <a:cubicBezTo>
                      <a:pt x="17066" y="8"/>
                      <a:pt x="17066" y="7"/>
                      <a:pt x="17066" y="6"/>
                    </a:cubicBezTo>
                    <a:cubicBezTo>
                      <a:pt x="17066" y="5"/>
                      <a:pt x="17066" y="4"/>
                      <a:pt x="17068" y="4"/>
                    </a:cubicBezTo>
                    <a:close/>
                    <a:moveTo>
                      <a:pt x="17076" y="4"/>
                    </a:moveTo>
                    <a:lnTo>
                      <a:pt x="17076" y="4"/>
                    </a:lnTo>
                    <a:cubicBezTo>
                      <a:pt x="17077" y="4"/>
                      <a:pt x="17078" y="5"/>
                      <a:pt x="17078" y="6"/>
                    </a:cubicBezTo>
                    <a:cubicBezTo>
                      <a:pt x="17078" y="7"/>
                      <a:pt x="17077" y="8"/>
                      <a:pt x="17076" y="8"/>
                    </a:cubicBezTo>
                    <a:lnTo>
                      <a:pt x="17076" y="8"/>
                    </a:lnTo>
                    <a:cubicBezTo>
                      <a:pt x="17074" y="8"/>
                      <a:pt x="17074" y="7"/>
                      <a:pt x="17074" y="6"/>
                    </a:cubicBezTo>
                    <a:cubicBezTo>
                      <a:pt x="17074" y="5"/>
                      <a:pt x="17074" y="4"/>
                      <a:pt x="17076" y="4"/>
                    </a:cubicBezTo>
                    <a:close/>
                    <a:moveTo>
                      <a:pt x="17084" y="4"/>
                    </a:moveTo>
                    <a:lnTo>
                      <a:pt x="17084" y="4"/>
                    </a:lnTo>
                    <a:cubicBezTo>
                      <a:pt x="17085" y="4"/>
                      <a:pt x="17086" y="5"/>
                      <a:pt x="17086" y="6"/>
                    </a:cubicBezTo>
                    <a:cubicBezTo>
                      <a:pt x="17086" y="7"/>
                      <a:pt x="17085" y="8"/>
                      <a:pt x="17084" y="8"/>
                    </a:cubicBezTo>
                    <a:lnTo>
                      <a:pt x="17084" y="8"/>
                    </a:lnTo>
                    <a:cubicBezTo>
                      <a:pt x="17082" y="8"/>
                      <a:pt x="17082" y="7"/>
                      <a:pt x="17082" y="6"/>
                    </a:cubicBezTo>
                    <a:cubicBezTo>
                      <a:pt x="17082" y="5"/>
                      <a:pt x="17082" y="4"/>
                      <a:pt x="17084" y="4"/>
                    </a:cubicBezTo>
                    <a:close/>
                    <a:moveTo>
                      <a:pt x="17092" y="4"/>
                    </a:moveTo>
                    <a:lnTo>
                      <a:pt x="17092" y="4"/>
                    </a:lnTo>
                    <a:cubicBezTo>
                      <a:pt x="17093" y="4"/>
                      <a:pt x="17094" y="5"/>
                      <a:pt x="17094" y="6"/>
                    </a:cubicBezTo>
                    <a:cubicBezTo>
                      <a:pt x="17094" y="7"/>
                      <a:pt x="17093" y="8"/>
                      <a:pt x="17092" y="8"/>
                    </a:cubicBezTo>
                    <a:lnTo>
                      <a:pt x="17092" y="8"/>
                    </a:lnTo>
                    <a:cubicBezTo>
                      <a:pt x="17090" y="8"/>
                      <a:pt x="17090" y="7"/>
                      <a:pt x="17090" y="6"/>
                    </a:cubicBezTo>
                    <a:cubicBezTo>
                      <a:pt x="17090" y="5"/>
                      <a:pt x="17090" y="4"/>
                      <a:pt x="17092" y="4"/>
                    </a:cubicBezTo>
                    <a:close/>
                    <a:moveTo>
                      <a:pt x="17100" y="4"/>
                    </a:moveTo>
                    <a:lnTo>
                      <a:pt x="17100" y="4"/>
                    </a:lnTo>
                    <a:cubicBezTo>
                      <a:pt x="17101" y="4"/>
                      <a:pt x="17102" y="5"/>
                      <a:pt x="17102" y="6"/>
                    </a:cubicBezTo>
                    <a:cubicBezTo>
                      <a:pt x="17102" y="7"/>
                      <a:pt x="17101" y="8"/>
                      <a:pt x="17100" y="8"/>
                    </a:cubicBezTo>
                    <a:lnTo>
                      <a:pt x="17100" y="8"/>
                    </a:lnTo>
                    <a:cubicBezTo>
                      <a:pt x="17098" y="8"/>
                      <a:pt x="17098" y="7"/>
                      <a:pt x="17098" y="6"/>
                    </a:cubicBezTo>
                    <a:cubicBezTo>
                      <a:pt x="17098" y="5"/>
                      <a:pt x="17098" y="4"/>
                      <a:pt x="17100" y="4"/>
                    </a:cubicBezTo>
                    <a:close/>
                    <a:moveTo>
                      <a:pt x="17108" y="4"/>
                    </a:moveTo>
                    <a:lnTo>
                      <a:pt x="17108" y="4"/>
                    </a:lnTo>
                    <a:cubicBezTo>
                      <a:pt x="17109" y="4"/>
                      <a:pt x="17110" y="5"/>
                      <a:pt x="17110" y="6"/>
                    </a:cubicBezTo>
                    <a:cubicBezTo>
                      <a:pt x="17110" y="7"/>
                      <a:pt x="17109" y="8"/>
                      <a:pt x="17108" y="8"/>
                    </a:cubicBezTo>
                    <a:lnTo>
                      <a:pt x="17108" y="8"/>
                    </a:lnTo>
                    <a:cubicBezTo>
                      <a:pt x="17106" y="8"/>
                      <a:pt x="17106" y="7"/>
                      <a:pt x="17106" y="6"/>
                    </a:cubicBezTo>
                    <a:cubicBezTo>
                      <a:pt x="17106" y="5"/>
                      <a:pt x="17106" y="4"/>
                      <a:pt x="17108" y="4"/>
                    </a:cubicBezTo>
                    <a:close/>
                    <a:moveTo>
                      <a:pt x="17116" y="4"/>
                    </a:moveTo>
                    <a:lnTo>
                      <a:pt x="17116" y="4"/>
                    </a:lnTo>
                    <a:cubicBezTo>
                      <a:pt x="17117" y="4"/>
                      <a:pt x="17118" y="5"/>
                      <a:pt x="17118" y="6"/>
                    </a:cubicBezTo>
                    <a:cubicBezTo>
                      <a:pt x="17118" y="7"/>
                      <a:pt x="17117" y="8"/>
                      <a:pt x="17116" y="8"/>
                    </a:cubicBezTo>
                    <a:lnTo>
                      <a:pt x="17116" y="8"/>
                    </a:lnTo>
                    <a:cubicBezTo>
                      <a:pt x="17114" y="8"/>
                      <a:pt x="17114" y="7"/>
                      <a:pt x="17114" y="6"/>
                    </a:cubicBezTo>
                    <a:cubicBezTo>
                      <a:pt x="17114" y="5"/>
                      <a:pt x="17114" y="4"/>
                      <a:pt x="17116" y="4"/>
                    </a:cubicBezTo>
                    <a:close/>
                    <a:moveTo>
                      <a:pt x="17124" y="4"/>
                    </a:moveTo>
                    <a:lnTo>
                      <a:pt x="17124" y="4"/>
                    </a:lnTo>
                    <a:cubicBezTo>
                      <a:pt x="17125" y="4"/>
                      <a:pt x="17126" y="5"/>
                      <a:pt x="17126" y="6"/>
                    </a:cubicBezTo>
                    <a:cubicBezTo>
                      <a:pt x="17126" y="7"/>
                      <a:pt x="17125" y="8"/>
                      <a:pt x="17124" y="8"/>
                    </a:cubicBezTo>
                    <a:lnTo>
                      <a:pt x="17124" y="8"/>
                    </a:lnTo>
                    <a:cubicBezTo>
                      <a:pt x="17122" y="8"/>
                      <a:pt x="17122" y="7"/>
                      <a:pt x="17122" y="6"/>
                    </a:cubicBezTo>
                    <a:cubicBezTo>
                      <a:pt x="17122" y="5"/>
                      <a:pt x="17122" y="4"/>
                      <a:pt x="17124" y="4"/>
                    </a:cubicBezTo>
                    <a:close/>
                    <a:moveTo>
                      <a:pt x="17132" y="4"/>
                    </a:moveTo>
                    <a:lnTo>
                      <a:pt x="17132" y="4"/>
                    </a:lnTo>
                    <a:cubicBezTo>
                      <a:pt x="17133" y="4"/>
                      <a:pt x="17134" y="5"/>
                      <a:pt x="17134" y="6"/>
                    </a:cubicBezTo>
                    <a:cubicBezTo>
                      <a:pt x="17134" y="7"/>
                      <a:pt x="17133" y="8"/>
                      <a:pt x="17132" y="8"/>
                    </a:cubicBezTo>
                    <a:lnTo>
                      <a:pt x="17132" y="8"/>
                    </a:lnTo>
                    <a:cubicBezTo>
                      <a:pt x="17130" y="8"/>
                      <a:pt x="17130" y="7"/>
                      <a:pt x="17130" y="6"/>
                    </a:cubicBezTo>
                    <a:cubicBezTo>
                      <a:pt x="17130" y="5"/>
                      <a:pt x="17130" y="4"/>
                      <a:pt x="17132" y="4"/>
                    </a:cubicBezTo>
                    <a:close/>
                    <a:moveTo>
                      <a:pt x="17140" y="4"/>
                    </a:moveTo>
                    <a:lnTo>
                      <a:pt x="17140" y="4"/>
                    </a:lnTo>
                    <a:cubicBezTo>
                      <a:pt x="17141" y="4"/>
                      <a:pt x="17142" y="5"/>
                      <a:pt x="17142" y="6"/>
                    </a:cubicBezTo>
                    <a:cubicBezTo>
                      <a:pt x="17142" y="7"/>
                      <a:pt x="17141" y="8"/>
                      <a:pt x="17140" y="8"/>
                    </a:cubicBezTo>
                    <a:lnTo>
                      <a:pt x="17140" y="8"/>
                    </a:lnTo>
                    <a:cubicBezTo>
                      <a:pt x="17138" y="8"/>
                      <a:pt x="17138" y="7"/>
                      <a:pt x="17138" y="6"/>
                    </a:cubicBezTo>
                    <a:cubicBezTo>
                      <a:pt x="17138" y="5"/>
                      <a:pt x="17138" y="4"/>
                      <a:pt x="17140" y="4"/>
                    </a:cubicBezTo>
                    <a:close/>
                    <a:moveTo>
                      <a:pt x="17148" y="4"/>
                    </a:moveTo>
                    <a:lnTo>
                      <a:pt x="17148" y="4"/>
                    </a:lnTo>
                    <a:cubicBezTo>
                      <a:pt x="17149" y="4"/>
                      <a:pt x="17150" y="5"/>
                      <a:pt x="17150" y="6"/>
                    </a:cubicBezTo>
                    <a:cubicBezTo>
                      <a:pt x="17150" y="7"/>
                      <a:pt x="17149" y="8"/>
                      <a:pt x="17148" y="8"/>
                    </a:cubicBezTo>
                    <a:lnTo>
                      <a:pt x="17148" y="8"/>
                    </a:lnTo>
                    <a:cubicBezTo>
                      <a:pt x="17146" y="8"/>
                      <a:pt x="17146" y="7"/>
                      <a:pt x="17146" y="6"/>
                    </a:cubicBezTo>
                    <a:cubicBezTo>
                      <a:pt x="17146" y="5"/>
                      <a:pt x="17146" y="4"/>
                      <a:pt x="17148" y="4"/>
                    </a:cubicBezTo>
                    <a:close/>
                    <a:moveTo>
                      <a:pt x="17156" y="4"/>
                    </a:moveTo>
                    <a:lnTo>
                      <a:pt x="17156" y="4"/>
                    </a:lnTo>
                    <a:cubicBezTo>
                      <a:pt x="17157" y="4"/>
                      <a:pt x="17158" y="5"/>
                      <a:pt x="17158" y="6"/>
                    </a:cubicBezTo>
                    <a:cubicBezTo>
                      <a:pt x="17158" y="7"/>
                      <a:pt x="17157" y="8"/>
                      <a:pt x="17156" y="8"/>
                    </a:cubicBezTo>
                    <a:lnTo>
                      <a:pt x="17156" y="8"/>
                    </a:lnTo>
                    <a:cubicBezTo>
                      <a:pt x="17154" y="8"/>
                      <a:pt x="17154" y="7"/>
                      <a:pt x="17154" y="6"/>
                    </a:cubicBezTo>
                    <a:cubicBezTo>
                      <a:pt x="17154" y="5"/>
                      <a:pt x="17154" y="4"/>
                      <a:pt x="17156" y="4"/>
                    </a:cubicBezTo>
                    <a:close/>
                    <a:moveTo>
                      <a:pt x="17164" y="4"/>
                    </a:moveTo>
                    <a:lnTo>
                      <a:pt x="17164" y="4"/>
                    </a:lnTo>
                    <a:cubicBezTo>
                      <a:pt x="17165" y="4"/>
                      <a:pt x="17166" y="5"/>
                      <a:pt x="17166" y="6"/>
                    </a:cubicBezTo>
                    <a:cubicBezTo>
                      <a:pt x="17166" y="7"/>
                      <a:pt x="17165" y="8"/>
                      <a:pt x="17164" y="8"/>
                    </a:cubicBezTo>
                    <a:lnTo>
                      <a:pt x="17164" y="8"/>
                    </a:lnTo>
                    <a:cubicBezTo>
                      <a:pt x="17162" y="8"/>
                      <a:pt x="17162" y="7"/>
                      <a:pt x="17162" y="6"/>
                    </a:cubicBezTo>
                    <a:cubicBezTo>
                      <a:pt x="17162" y="5"/>
                      <a:pt x="17162" y="4"/>
                      <a:pt x="17164" y="4"/>
                    </a:cubicBezTo>
                    <a:close/>
                    <a:moveTo>
                      <a:pt x="17172" y="4"/>
                    </a:moveTo>
                    <a:lnTo>
                      <a:pt x="17172" y="4"/>
                    </a:lnTo>
                    <a:cubicBezTo>
                      <a:pt x="17173" y="4"/>
                      <a:pt x="17174" y="5"/>
                      <a:pt x="17174" y="6"/>
                    </a:cubicBezTo>
                    <a:cubicBezTo>
                      <a:pt x="17174" y="7"/>
                      <a:pt x="17173" y="8"/>
                      <a:pt x="17172" y="8"/>
                    </a:cubicBezTo>
                    <a:lnTo>
                      <a:pt x="17172" y="8"/>
                    </a:lnTo>
                    <a:cubicBezTo>
                      <a:pt x="17170" y="8"/>
                      <a:pt x="17170" y="7"/>
                      <a:pt x="17170" y="6"/>
                    </a:cubicBezTo>
                    <a:cubicBezTo>
                      <a:pt x="17170" y="5"/>
                      <a:pt x="17170" y="4"/>
                      <a:pt x="17172" y="4"/>
                    </a:cubicBezTo>
                    <a:close/>
                    <a:moveTo>
                      <a:pt x="17180" y="4"/>
                    </a:moveTo>
                    <a:lnTo>
                      <a:pt x="17180" y="4"/>
                    </a:lnTo>
                    <a:cubicBezTo>
                      <a:pt x="17181" y="4"/>
                      <a:pt x="17182" y="5"/>
                      <a:pt x="17182" y="6"/>
                    </a:cubicBezTo>
                    <a:cubicBezTo>
                      <a:pt x="17182" y="7"/>
                      <a:pt x="17181" y="8"/>
                      <a:pt x="17180" y="8"/>
                    </a:cubicBezTo>
                    <a:lnTo>
                      <a:pt x="17180" y="8"/>
                    </a:lnTo>
                    <a:cubicBezTo>
                      <a:pt x="17178" y="8"/>
                      <a:pt x="17178" y="7"/>
                      <a:pt x="17178" y="6"/>
                    </a:cubicBezTo>
                    <a:cubicBezTo>
                      <a:pt x="17178" y="5"/>
                      <a:pt x="17178" y="4"/>
                      <a:pt x="17180" y="4"/>
                    </a:cubicBezTo>
                    <a:close/>
                    <a:moveTo>
                      <a:pt x="17188" y="4"/>
                    </a:moveTo>
                    <a:lnTo>
                      <a:pt x="17188" y="4"/>
                    </a:lnTo>
                    <a:cubicBezTo>
                      <a:pt x="17189" y="4"/>
                      <a:pt x="17190" y="5"/>
                      <a:pt x="17190" y="6"/>
                    </a:cubicBezTo>
                    <a:cubicBezTo>
                      <a:pt x="17190" y="7"/>
                      <a:pt x="17189" y="8"/>
                      <a:pt x="17188" y="8"/>
                    </a:cubicBezTo>
                    <a:lnTo>
                      <a:pt x="17188" y="8"/>
                    </a:lnTo>
                    <a:cubicBezTo>
                      <a:pt x="17187" y="8"/>
                      <a:pt x="17186" y="7"/>
                      <a:pt x="17186" y="6"/>
                    </a:cubicBezTo>
                    <a:cubicBezTo>
                      <a:pt x="17186" y="5"/>
                      <a:pt x="17187" y="4"/>
                      <a:pt x="17188" y="4"/>
                    </a:cubicBezTo>
                    <a:close/>
                    <a:moveTo>
                      <a:pt x="17196" y="4"/>
                    </a:moveTo>
                    <a:lnTo>
                      <a:pt x="17196" y="4"/>
                    </a:lnTo>
                    <a:cubicBezTo>
                      <a:pt x="17197" y="4"/>
                      <a:pt x="17198" y="5"/>
                      <a:pt x="17198" y="6"/>
                    </a:cubicBezTo>
                    <a:cubicBezTo>
                      <a:pt x="17198" y="7"/>
                      <a:pt x="17197" y="8"/>
                      <a:pt x="17196" y="8"/>
                    </a:cubicBezTo>
                    <a:lnTo>
                      <a:pt x="17196" y="8"/>
                    </a:lnTo>
                    <a:cubicBezTo>
                      <a:pt x="17195" y="8"/>
                      <a:pt x="17194" y="7"/>
                      <a:pt x="17194" y="6"/>
                    </a:cubicBezTo>
                    <a:cubicBezTo>
                      <a:pt x="17194" y="5"/>
                      <a:pt x="17195" y="4"/>
                      <a:pt x="17196" y="4"/>
                    </a:cubicBezTo>
                    <a:close/>
                    <a:moveTo>
                      <a:pt x="17204" y="4"/>
                    </a:moveTo>
                    <a:lnTo>
                      <a:pt x="17204" y="4"/>
                    </a:lnTo>
                    <a:cubicBezTo>
                      <a:pt x="17205" y="4"/>
                      <a:pt x="17206" y="5"/>
                      <a:pt x="17206" y="6"/>
                    </a:cubicBezTo>
                    <a:cubicBezTo>
                      <a:pt x="17206" y="7"/>
                      <a:pt x="17205" y="8"/>
                      <a:pt x="17204" y="8"/>
                    </a:cubicBezTo>
                    <a:lnTo>
                      <a:pt x="17204" y="8"/>
                    </a:lnTo>
                    <a:cubicBezTo>
                      <a:pt x="17203" y="8"/>
                      <a:pt x="17202" y="7"/>
                      <a:pt x="17202" y="6"/>
                    </a:cubicBezTo>
                    <a:cubicBezTo>
                      <a:pt x="17202" y="5"/>
                      <a:pt x="17203" y="4"/>
                      <a:pt x="17204" y="4"/>
                    </a:cubicBezTo>
                    <a:close/>
                    <a:moveTo>
                      <a:pt x="17212" y="4"/>
                    </a:moveTo>
                    <a:lnTo>
                      <a:pt x="17212" y="4"/>
                    </a:lnTo>
                    <a:cubicBezTo>
                      <a:pt x="17213" y="4"/>
                      <a:pt x="17214" y="5"/>
                      <a:pt x="17214" y="6"/>
                    </a:cubicBezTo>
                    <a:cubicBezTo>
                      <a:pt x="17214" y="7"/>
                      <a:pt x="17213" y="8"/>
                      <a:pt x="17212" y="8"/>
                    </a:cubicBezTo>
                    <a:lnTo>
                      <a:pt x="17212" y="8"/>
                    </a:lnTo>
                    <a:cubicBezTo>
                      <a:pt x="17211" y="8"/>
                      <a:pt x="17210" y="7"/>
                      <a:pt x="17210" y="6"/>
                    </a:cubicBezTo>
                    <a:cubicBezTo>
                      <a:pt x="17210" y="5"/>
                      <a:pt x="17211" y="4"/>
                      <a:pt x="17212" y="4"/>
                    </a:cubicBezTo>
                    <a:close/>
                    <a:moveTo>
                      <a:pt x="17220" y="4"/>
                    </a:moveTo>
                    <a:lnTo>
                      <a:pt x="17220" y="4"/>
                    </a:lnTo>
                    <a:cubicBezTo>
                      <a:pt x="17221" y="4"/>
                      <a:pt x="17222" y="5"/>
                      <a:pt x="17222" y="6"/>
                    </a:cubicBezTo>
                    <a:cubicBezTo>
                      <a:pt x="17222" y="7"/>
                      <a:pt x="17221" y="8"/>
                      <a:pt x="17220" y="8"/>
                    </a:cubicBezTo>
                    <a:lnTo>
                      <a:pt x="17220" y="8"/>
                    </a:lnTo>
                    <a:cubicBezTo>
                      <a:pt x="17219" y="8"/>
                      <a:pt x="17218" y="7"/>
                      <a:pt x="17218" y="6"/>
                    </a:cubicBezTo>
                    <a:cubicBezTo>
                      <a:pt x="17218" y="5"/>
                      <a:pt x="17219" y="4"/>
                      <a:pt x="17220" y="4"/>
                    </a:cubicBezTo>
                    <a:close/>
                    <a:moveTo>
                      <a:pt x="17228" y="4"/>
                    </a:moveTo>
                    <a:lnTo>
                      <a:pt x="17228" y="4"/>
                    </a:lnTo>
                    <a:cubicBezTo>
                      <a:pt x="17229" y="4"/>
                      <a:pt x="17230" y="5"/>
                      <a:pt x="17230" y="6"/>
                    </a:cubicBezTo>
                    <a:cubicBezTo>
                      <a:pt x="17230" y="7"/>
                      <a:pt x="17229" y="8"/>
                      <a:pt x="17228" y="8"/>
                    </a:cubicBezTo>
                    <a:lnTo>
                      <a:pt x="17228" y="8"/>
                    </a:lnTo>
                    <a:cubicBezTo>
                      <a:pt x="17227" y="8"/>
                      <a:pt x="17226" y="7"/>
                      <a:pt x="17226" y="6"/>
                    </a:cubicBezTo>
                    <a:cubicBezTo>
                      <a:pt x="17226" y="5"/>
                      <a:pt x="17227" y="4"/>
                      <a:pt x="17228" y="4"/>
                    </a:cubicBezTo>
                    <a:close/>
                    <a:moveTo>
                      <a:pt x="17236" y="4"/>
                    </a:moveTo>
                    <a:lnTo>
                      <a:pt x="17236" y="4"/>
                    </a:lnTo>
                    <a:cubicBezTo>
                      <a:pt x="17237" y="4"/>
                      <a:pt x="17238" y="5"/>
                      <a:pt x="17238" y="6"/>
                    </a:cubicBezTo>
                    <a:cubicBezTo>
                      <a:pt x="17238" y="7"/>
                      <a:pt x="17237" y="8"/>
                      <a:pt x="17236" y="8"/>
                    </a:cubicBezTo>
                    <a:lnTo>
                      <a:pt x="17236" y="8"/>
                    </a:lnTo>
                    <a:cubicBezTo>
                      <a:pt x="17235" y="8"/>
                      <a:pt x="17234" y="7"/>
                      <a:pt x="17234" y="6"/>
                    </a:cubicBezTo>
                    <a:cubicBezTo>
                      <a:pt x="17234" y="5"/>
                      <a:pt x="17235" y="4"/>
                      <a:pt x="17236" y="4"/>
                    </a:cubicBezTo>
                    <a:close/>
                    <a:moveTo>
                      <a:pt x="17244" y="4"/>
                    </a:moveTo>
                    <a:lnTo>
                      <a:pt x="17244" y="4"/>
                    </a:lnTo>
                    <a:cubicBezTo>
                      <a:pt x="17245" y="4"/>
                      <a:pt x="17246" y="5"/>
                      <a:pt x="17246" y="6"/>
                    </a:cubicBezTo>
                    <a:cubicBezTo>
                      <a:pt x="17246" y="7"/>
                      <a:pt x="17245" y="8"/>
                      <a:pt x="17244" y="8"/>
                    </a:cubicBezTo>
                    <a:lnTo>
                      <a:pt x="17244" y="8"/>
                    </a:lnTo>
                    <a:cubicBezTo>
                      <a:pt x="17243" y="8"/>
                      <a:pt x="17242" y="7"/>
                      <a:pt x="17242" y="6"/>
                    </a:cubicBezTo>
                    <a:cubicBezTo>
                      <a:pt x="17242" y="5"/>
                      <a:pt x="17243" y="4"/>
                      <a:pt x="17244" y="4"/>
                    </a:cubicBezTo>
                    <a:close/>
                    <a:moveTo>
                      <a:pt x="17252" y="4"/>
                    </a:moveTo>
                    <a:lnTo>
                      <a:pt x="17252" y="4"/>
                    </a:lnTo>
                    <a:cubicBezTo>
                      <a:pt x="17253" y="4"/>
                      <a:pt x="17254" y="5"/>
                      <a:pt x="17254" y="6"/>
                    </a:cubicBezTo>
                    <a:cubicBezTo>
                      <a:pt x="17254" y="7"/>
                      <a:pt x="17253" y="8"/>
                      <a:pt x="17252" y="8"/>
                    </a:cubicBezTo>
                    <a:lnTo>
                      <a:pt x="17252" y="8"/>
                    </a:lnTo>
                    <a:cubicBezTo>
                      <a:pt x="17251" y="8"/>
                      <a:pt x="17250" y="7"/>
                      <a:pt x="17250" y="6"/>
                    </a:cubicBezTo>
                    <a:cubicBezTo>
                      <a:pt x="17250" y="5"/>
                      <a:pt x="17251" y="4"/>
                      <a:pt x="17252" y="4"/>
                    </a:cubicBezTo>
                    <a:close/>
                    <a:moveTo>
                      <a:pt x="17260" y="4"/>
                    </a:moveTo>
                    <a:lnTo>
                      <a:pt x="17260" y="4"/>
                    </a:lnTo>
                    <a:cubicBezTo>
                      <a:pt x="17261" y="4"/>
                      <a:pt x="17262" y="5"/>
                      <a:pt x="17262" y="6"/>
                    </a:cubicBezTo>
                    <a:cubicBezTo>
                      <a:pt x="17262" y="7"/>
                      <a:pt x="17261" y="8"/>
                      <a:pt x="17260" y="8"/>
                    </a:cubicBezTo>
                    <a:lnTo>
                      <a:pt x="17260" y="8"/>
                    </a:lnTo>
                    <a:cubicBezTo>
                      <a:pt x="17259" y="8"/>
                      <a:pt x="17258" y="7"/>
                      <a:pt x="17258" y="6"/>
                    </a:cubicBezTo>
                    <a:cubicBezTo>
                      <a:pt x="17258" y="5"/>
                      <a:pt x="17259" y="4"/>
                      <a:pt x="17260" y="4"/>
                    </a:cubicBezTo>
                    <a:close/>
                    <a:moveTo>
                      <a:pt x="17268" y="4"/>
                    </a:moveTo>
                    <a:lnTo>
                      <a:pt x="17268" y="4"/>
                    </a:lnTo>
                    <a:cubicBezTo>
                      <a:pt x="17269" y="4"/>
                      <a:pt x="17270" y="5"/>
                      <a:pt x="17270" y="6"/>
                    </a:cubicBezTo>
                    <a:cubicBezTo>
                      <a:pt x="17270" y="7"/>
                      <a:pt x="17269" y="8"/>
                      <a:pt x="17268" y="8"/>
                    </a:cubicBezTo>
                    <a:lnTo>
                      <a:pt x="17268" y="8"/>
                    </a:lnTo>
                    <a:cubicBezTo>
                      <a:pt x="17267" y="8"/>
                      <a:pt x="17266" y="7"/>
                      <a:pt x="17266" y="6"/>
                    </a:cubicBezTo>
                    <a:cubicBezTo>
                      <a:pt x="17266" y="5"/>
                      <a:pt x="17267" y="4"/>
                      <a:pt x="17268" y="4"/>
                    </a:cubicBezTo>
                    <a:close/>
                    <a:moveTo>
                      <a:pt x="17276" y="4"/>
                    </a:moveTo>
                    <a:lnTo>
                      <a:pt x="17276" y="4"/>
                    </a:lnTo>
                    <a:cubicBezTo>
                      <a:pt x="17277" y="4"/>
                      <a:pt x="17278" y="5"/>
                      <a:pt x="17278" y="6"/>
                    </a:cubicBezTo>
                    <a:cubicBezTo>
                      <a:pt x="17278" y="7"/>
                      <a:pt x="17277" y="8"/>
                      <a:pt x="17276" y="8"/>
                    </a:cubicBezTo>
                    <a:lnTo>
                      <a:pt x="17276" y="8"/>
                    </a:lnTo>
                    <a:cubicBezTo>
                      <a:pt x="17275" y="8"/>
                      <a:pt x="17274" y="7"/>
                      <a:pt x="17274" y="6"/>
                    </a:cubicBezTo>
                    <a:cubicBezTo>
                      <a:pt x="17274" y="5"/>
                      <a:pt x="17275" y="4"/>
                      <a:pt x="17276" y="4"/>
                    </a:cubicBezTo>
                    <a:close/>
                    <a:moveTo>
                      <a:pt x="17284" y="4"/>
                    </a:moveTo>
                    <a:lnTo>
                      <a:pt x="17284" y="4"/>
                    </a:lnTo>
                    <a:cubicBezTo>
                      <a:pt x="17285" y="4"/>
                      <a:pt x="17286" y="5"/>
                      <a:pt x="17286" y="6"/>
                    </a:cubicBezTo>
                    <a:cubicBezTo>
                      <a:pt x="17286" y="7"/>
                      <a:pt x="17285" y="8"/>
                      <a:pt x="17284" y="8"/>
                    </a:cubicBezTo>
                    <a:lnTo>
                      <a:pt x="17284" y="8"/>
                    </a:lnTo>
                    <a:cubicBezTo>
                      <a:pt x="17283" y="8"/>
                      <a:pt x="17282" y="7"/>
                      <a:pt x="17282" y="6"/>
                    </a:cubicBezTo>
                    <a:cubicBezTo>
                      <a:pt x="17282" y="5"/>
                      <a:pt x="17283" y="4"/>
                      <a:pt x="17284" y="4"/>
                    </a:cubicBezTo>
                    <a:close/>
                    <a:moveTo>
                      <a:pt x="17292" y="4"/>
                    </a:moveTo>
                    <a:lnTo>
                      <a:pt x="17292" y="4"/>
                    </a:lnTo>
                    <a:cubicBezTo>
                      <a:pt x="17293" y="4"/>
                      <a:pt x="17294" y="5"/>
                      <a:pt x="17294" y="6"/>
                    </a:cubicBezTo>
                    <a:cubicBezTo>
                      <a:pt x="17294" y="7"/>
                      <a:pt x="17293" y="8"/>
                      <a:pt x="17292" y="8"/>
                    </a:cubicBezTo>
                    <a:lnTo>
                      <a:pt x="17292" y="8"/>
                    </a:lnTo>
                    <a:cubicBezTo>
                      <a:pt x="17291" y="8"/>
                      <a:pt x="17290" y="7"/>
                      <a:pt x="17290" y="6"/>
                    </a:cubicBezTo>
                    <a:cubicBezTo>
                      <a:pt x="17290" y="5"/>
                      <a:pt x="17291" y="4"/>
                      <a:pt x="17292" y="4"/>
                    </a:cubicBezTo>
                    <a:close/>
                    <a:moveTo>
                      <a:pt x="17300" y="4"/>
                    </a:moveTo>
                    <a:lnTo>
                      <a:pt x="17300" y="4"/>
                    </a:lnTo>
                    <a:cubicBezTo>
                      <a:pt x="17301" y="4"/>
                      <a:pt x="17302" y="5"/>
                      <a:pt x="17302" y="6"/>
                    </a:cubicBezTo>
                    <a:cubicBezTo>
                      <a:pt x="17302" y="7"/>
                      <a:pt x="17301" y="8"/>
                      <a:pt x="17300" y="8"/>
                    </a:cubicBezTo>
                    <a:lnTo>
                      <a:pt x="17300" y="8"/>
                    </a:lnTo>
                    <a:cubicBezTo>
                      <a:pt x="17299" y="8"/>
                      <a:pt x="17298" y="7"/>
                      <a:pt x="17298" y="6"/>
                    </a:cubicBezTo>
                    <a:cubicBezTo>
                      <a:pt x="17298" y="5"/>
                      <a:pt x="17299" y="4"/>
                      <a:pt x="17300" y="4"/>
                    </a:cubicBezTo>
                    <a:close/>
                    <a:moveTo>
                      <a:pt x="17308" y="4"/>
                    </a:moveTo>
                    <a:lnTo>
                      <a:pt x="17308" y="4"/>
                    </a:lnTo>
                    <a:cubicBezTo>
                      <a:pt x="17309" y="4"/>
                      <a:pt x="17310" y="5"/>
                      <a:pt x="17310" y="6"/>
                    </a:cubicBezTo>
                    <a:cubicBezTo>
                      <a:pt x="17310" y="7"/>
                      <a:pt x="17309" y="8"/>
                      <a:pt x="17308" y="8"/>
                    </a:cubicBezTo>
                    <a:lnTo>
                      <a:pt x="17308" y="8"/>
                    </a:lnTo>
                    <a:cubicBezTo>
                      <a:pt x="17307" y="8"/>
                      <a:pt x="17306" y="7"/>
                      <a:pt x="17306" y="6"/>
                    </a:cubicBezTo>
                    <a:cubicBezTo>
                      <a:pt x="17306" y="5"/>
                      <a:pt x="17307" y="4"/>
                      <a:pt x="17308" y="4"/>
                    </a:cubicBezTo>
                    <a:close/>
                    <a:moveTo>
                      <a:pt x="17316" y="4"/>
                    </a:moveTo>
                    <a:lnTo>
                      <a:pt x="17316" y="4"/>
                    </a:lnTo>
                    <a:cubicBezTo>
                      <a:pt x="17317" y="4"/>
                      <a:pt x="17318" y="5"/>
                      <a:pt x="17318" y="6"/>
                    </a:cubicBezTo>
                    <a:cubicBezTo>
                      <a:pt x="17318" y="7"/>
                      <a:pt x="17317" y="8"/>
                      <a:pt x="17316" y="8"/>
                    </a:cubicBezTo>
                    <a:lnTo>
                      <a:pt x="17316" y="8"/>
                    </a:lnTo>
                    <a:cubicBezTo>
                      <a:pt x="17315" y="8"/>
                      <a:pt x="17314" y="7"/>
                      <a:pt x="17314" y="6"/>
                    </a:cubicBezTo>
                    <a:cubicBezTo>
                      <a:pt x="17314" y="5"/>
                      <a:pt x="17315" y="4"/>
                      <a:pt x="17316" y="4"/>
                    </a:cubicBezTo>
                    <a:close/>
                    <a:moveTo>
                      <a:pt x="17324" y="4"/>
                    </a:moveTo>
                    <a:lnTo>
                      <a:pt x="17324" y="4"/>
                    </a:lnTo>
                    <a:cubicBezTo>
                      <a:pt x="17325" y="4"/>
                      <a:pt x="17326" y="5"/>
                      <a:pt x="17326" y="6"/>
                    </a:cubicBezTo>
                    <a:cubicBezTo>
                      <a:pt x="17326" y="7"/>
                      <a:pt x="17325" y="8"/>
                      <a:pt x="17324" y="8"/>
                    </a:cubicBezTo>
                    <a:lnTo>
                      <a:pt x="17324" y="8"/>
                    </a:lnTo>
                    <a:cubicBezTo>
                      <a:pt x="17323" y="8"/>
                      <a:pt x="17322" y="7"/>
                      <a:pt x="17322" y="6"/>
                    </a:cubicBezTo>
                    <a:cubicBezTo>
                      <a:pt x="17322" y="5"/>
                      <a:pt x="17323" y="4"/>
                      <a:pt x="17324" y="4"/>
                    </a:cubicBezTo>
                    <a:close/>
                    <a:moveTo>
                      <a:pt x="17332" y="4"/>
                    </a:moveTo>
                    <a:lnTo>
                      <a:pt x="17332" y="4"/>
                    </a:lnTo>
                    <a:cubicBezTo>
                      <a:pt x="17333" y="4"/>
                      <a:pt x="17334" y="5"/>
                      <a:pt x="17334" y="6"/>
                    </a:cubicBezTo>
                    <a:cubicBezTo>
                      <a:pt x="17334" y="7"/>
                      <a:pt x="17333" y="8"/>
                      <a:pt x="17332" y="8"/>
                    </a:cubicBezTo>
                    <a:lnTo>
                      <a:pt x="17332" y="8"/>
                    </a:lnTo>
                    <a:cubicBezTo>
                      <a:pt x="17331" y="8"/>
                      <a:pt x="17330" y="7"/>
                      <a:pt x="17330" y="6"/>
                    </a:cubicBezTo>
                    <a:cubicBezTo>
                      <a:pt x="17330" y="5"/>
                      <a:pt x="17331" y="4"/>
                      <a:pt x="17332" y="4"/>
                    </a:cubicBezTo>
                    <a:close/>
                    <a:moveTo>
                      <a:pt x="17340" y="4"/>
                    </a:moveTo>
                    <a:lnTo>
                      <a:pt x="17340" y="4"/>
                    </a:lnTo>
                    <a:cubicBezTo>
                      <a:pt x="17341" y="4"/>
                      <a:pt x="17342" y="5"/>
                      <a:pt x="17342" y="6"/>
                    </a:cubicBezTo>
                    <a:cubicBezTo>
                      <a:pt x="17342" y="7"/>
                      <a:pt x="17341" y="8"/>
                      <a:pt x="17340" y="8"/>
                    </a:cubicBezTo>
                    <a:lnTo>
                      <a:pt x="17340" y="8"/>
                    </a:lnTo>
                    <a:cubicBezTo>
                      <a:pt x="17339" y="8"/>
                      <a:pt x="17338" y="7"/>
                      <a:pt x="17338" y="6"/>
                    </a:cubicBezTo>
                    <a:cubicBezTo>
                      <a:pt x="17338" y="5"/>
                      <a:pt x="17339" y="4"/>
                      <a:pt x="17340" y="4"/>
                    </a:cubicBezTo>
                    <a:close/>
                    <a:moveTo>
                      <a:pt x="17348" y="4"/>
                    </a:moveTo>
                    <a:lnTo>
                      <a:pt x="17348" y="4"/>
                    </a:lnTo>
                    <a:cubicBezTo>
                      <a:pt x="17349" y="4"/>
                      <a:pt x="17350" y="5"/>
                      <a:pt x="17350" y="6"/>
                    </a:cubicBezTo>
                    <a:cubicBezTo>
                      <a:pt x="17350" y="7"/>
                      <a:pt x="17349" y="8"/>
                      <a:pt x="17348" y="8"/>
                    </a:cubicBezTo>
                    <a:lnTo>
                      <a:pt x="17348" y="8"/>
                    </a:lnTo>
                    <a:cubicBezTo>
                      <a:pt x="17347" y="8"/>
                      <a:pt x="17346" y="7"/>
                      <a:pt x="17346" y="6"/>
                    </a:cubicBezTo>
                    <a:cubicBezTo>
                      <a:pt x="17346" y="5"/>
                      <a:pt x="17347" y="4"/>
                      <a:pt x="17348" y="4"/>
                    </a:cubicBezTo>
                    <a:close/>
                    <a:moveTo>
                      <a:pt x="17356" y="4"/>
                    </a:moveTo>
                    <a:lnTo>
                      <a:pt x="17356" y="4"/>
                    </a:lnTo>
                    <a:cubicBezTo>
                      <a:pt x="17357" y="4"/>
                      <a:pt x="17358" y="5"/>
                      <a:pt x="17358" y="6"/>
                    </a:cubicBezTo>
                    <a:cubicBezTo>
                      <a:pt x="17358" y="7"/>
                      <a:pt x="17357" y="8"/>
                      <a:pt x="17356" y="8"/>
                    </a:cubicBezTo>
                    <a:lnTo>
                      <a:pt x="17356" y="8"/>
                    </a:lnTo>
                    <a:cubicBezTo>
                      <a:pt x="17355" y="8"/>
                      <a:pt x="17354" y="7"/>
                      <a:pt x="17354" y="6"/>
                    </a:cubicBezTo>
                    <a:cubicBezTo>
                      <a:pt x="17354" y="5"/>
                      <a:pt x="17355" y="4"/>
                      <a:pt x="17356" y="4"/>
                    </a:cubicBezTo>
                    <a:close/>
                    <a:moveTo>
                      <a:pt x="17364" y="4"/>
                    </a:moveTo>
                    <a:lnTo>
                      <a:pt x="17364" y="4"/>
                    </a:lnTo>
                    <a:cubicBezTo>
                      <a:pt x="17365" y="4"/>
                      <a:pt x="17366" y="5"/>
                      <a:pt x="17366" y="6"/>
                    </a:cubicBezTo>
                    <a:cubicBezTo>
                      <a:pt x="17366" y="7"/>
                      <a:pt x="17365" y="8"/>
                      <a:pt x="17364" y="8"/>
                    </a:cubicBezTo>
                    <a:lnTo>
                      <a:pt x="17364" y="8"/>
                    </a:lnTo>
                    <a:cubicBezTo>
                      <a:pt x="17363" y="8"/>
                      <a:pt x="17362" y="7"/>
                      <a:pt x="17362" y="6"/>
                    </a:cubicBezTo>
                    <a:cubicBezTo>
                      <a:pt x="17362" y="5"/>
                      <a:pt x="17363" y="4"/>
                      <a:pt x="17364" y="4"/>
                    </a:cubicBezTo>
                    <a:close/>
                    <a:moveTo>
                      <a:pt x="17372" y="4"/>
                    </a:moveTo>
                    <a:lnTo>
                      <a:pt x="17372" y="4"/>
                    </a:lnTo>
                    <a:cubicBezTo>
                      <a:pt x="17373" y="4"/>
                      <a:pt x="17374" y="5"/>
                      <a:pt x="17374" y="6"/>
                    </a:cubicBezTo>
                    <a:cubicBezTo>
                      <a:pt x="17374" y="7"/>
                      <a:pt x="17373" y="8"/>
                      <a:pt x="17372" y="8"/>
                    </a:cubicBezTo>
                    <a:lnTo>
                      <a:pt x="17372" y="8"/>
                    </a:lnTo>
                    <a:cubicBezTo>
                      <a:pt x="17371" y="8"/>
                      <a:pt x="17370" y="7"/>
                      <a:pt x="17370" y="6"/>
                    </a:cubicBezTo>
                    <a:cubicBezTo>
                      <a:pt x="17370" y="5"/>
                      <a:pt x="17371" y="4"/>
                      <a:pt x="17372" y="4"/>
                    </a:cubicBezTo>
                    <a:close/>
                    <a:moveTo>
                      <a:pt x="17380" y="4"/>
                    </a:moveTo>
                    <a:lnTo>
                      <a:pt x="17380" y="4"/>
                    </a:lnTo>
                    <a:cubicBezTo>
                      <a:pt x="17381" y="4"/>
                      <a:pt x="17382" y="5"/>
                      <a:pt x="17382" y="6"/>
                    </a:cubicBezTo>
                    <a:cubicBezTo>
                      <a:pt x="17382" y="7"/>
                      <a:pt x="17381" y="8"/>
                      <a:pt x="17380" y="8"/>
                    </a:cubicBezTo>
                    <a:lnTo>
                      <a:pt x="17380" y="8"/>
                    </a:lnTo>
                    <a:cubicBezTo>
                      <a:pt x="17379" y="8"/>
                      <a:pt x="17378" y="7"/>
                      <a:pt x="17378" y="6"/>
                    </a:cubicBezTo>
                    <a:cubicBezTo>
                      <a:pt x="17378" y="5"/>
                      <a:pt x="17379" y="4"/>
                      <a:pt x="17380" y="4"/>
                    </a:cubicBezTo>
                    <a:close/>
                    <a:moveTo>
                      <a:pt x="17388" y="4"/>
                    </a:moveTo>
                    <a:lnTo>
                      <a:pt x="17388" y="4"/>
                    </a:lnTo>
                    <a:cubicBezTo>
                      <a:pt x="17389" y="4"/>
                      <a:pt x="17390" y="5"/>
                      <a:pt x="17390" y="6"/>
                    </a:cubicBezTo>
                    <a:cubicBezTo>
                      <a:pt x="17390" y="7"/>
                      <a:pt x="17389" y="8"/>
                      <a:pt x="17388" y="8"/>
                    </a:cubicBezTo>
                    <a:lnTo>
                      <a:pt x="17388" y="8"/>
                    </a:lnTo>
                    <a:cubicBezTo>
                      <a:pt x="17387" y="8"/>
                      <a:pt x="17386" y="7"/>
                      <a:pt x="17386" y="6"/>
                    </a:cubicBezTo>
                    <a:cubicBezTo>
                      <a:pt x="17386" y="5"/>
                      <a:pt x="17387" y="4"/>
                      <a:pt x="17388" y="4"/>
                    </a:cubicBezTo>
                    <a:close/>
                    <a:moveTo>
                      <a:pt x="17396" y="4"/>
                    </a:moveTo>
                    <a:lnTo>
                      <a:pt x="17396" y="4"/>
                    </a:lnTo>
                    <a:cubicBezTo>
                      <a:pt x="17397" y="4"/>
                      <a:pt x="17398" y="5"/>
                      <a:pt x="17398" y="6"/>
                    </a:cubicBezTo>
                    <a:cubicBezTo>
                      <a:pt x="17398" y="7"/>
                      <a:pt x="17397" y="8"/>
                      <a:pt x="17396" y="8"/>
                    </a:cubicBezTo>
                    <a:lnTo>
                      <a:pt x="17396" y="8"/>
                    </a:lnTo>
                    <a:cubicBezTo>
                      <a:pt x="17395" y="8"/>
                      <a:pt x="17394" y="7"/>
                      <a:pt x="17394" y="6"/>
                    </a:cubicBezTo>
                    <a:cubicBezTo>
                      <a:pt x="17394" y="5"/>
                      <a:pt x="17395" y="4"/>
                      <a:pt x="17396" y="4"/>
                    </a:cubicBezTo>
                    <a:close/>
                    <a:moveTo>
                      <a:pt x="17404" y="4"/>
                    </a:moveTo>
                    <a:lnTo>
                      <a:pt x="17404" y="4"/>
                    </a:lnTo>
                    <a:cubicBezTo>
                      <a:pt x="17405" y="4"/>
                      <a:pt x="17406" y="5"/>
                      <a:pt x="17406" y="6"/>
                    </a:cubicBezTo>
                    <a:cubicBezTo>
                      <a:pt x="17406" y="7"/>
                      <a:pt x="17405" y="8"/>
                      <a:pt x="17404" y="8"/>
                    </a:cubicBezTo>
                    <a:lnTo>
                      <a:pt x="17404" y="8"/>
                    </a:lnTo>
                    <a:cubicBezTo>
                      <a:pt x="17403" y="8"/>
                      <a:pt x="17402" y="7"/>
                      <a:pt x="17402" y="6"/>
                    </a:cubicBezTo>
                    <a:cubicBezTo>
                      <a:pt x="17402" y="5"/>
                      <a:pt x="17403" y="4"/>
                      <a:pt x="17404" y="4"/>
                    </a:cubicBezTo>
                    <a:close/>
                    <a:moveTo>
                      <a:pt x="17412" y="4"/>
                    </a:moveTo>
                    <a:lnTo>
                      <a:pt x="17412" y="4"/>
                    </a:lnTo>
                    <a:cubicBezTo>
                      <a:pt x="17413" y="4"/>
                      <a:pt x="17414" y="5"/>
                      <a:pt x="17414" y="6"/>
                    </a:cubicBezTo>
                    <a:cubicBezTo>
                      <a:pt x="17414" y="7"/>
                      <a:pt x="17413" y="8"/>
                      <a:pt x="17412" y="8"/>
                    </a:cubicBezTo>
                    <a:lnTo>
                      <a:pt x="17412" y="8"/>
                    </a:lnTo>
                    <a:cubicBezTo>
                      <a:pt x="17411" y="8"/>
                      <a:pt x="17410" y="7"/>
                      <a:pt x="17410" y="6"/>
                    </a:cubicBezTo>
                    <a:cubicBezTo>
                      <a:pt x="17410" y="5"/>
                      <a:pt x="17411" y="4"/>
                      <a:pt x="17412" y="4"/>
                    </a:cubicBezTo>
                    <a:close/>
                    <a:moveTo>
                      <a:pt x="17420" y="4"/>
                    </a:moveTo>
                    <a:lnTo>
                      <a:pt x="17420" y="4"/>
                    </a:lnTo>
                    <a:cubicBezTo>
                      <a:pt x="17421" y="4"/>
                      <a:pt x="17422" y="5"/>
                      <a:pt x="17422" y="6"/>
                    </a:cubicBezTo>
                    <a:cubicBezTo>
                      <a:pt x="17422" y="7"/>
                      <a:pt x="17421" y="8"/>
                      <a:pt x="17420" y="8"/>
                    </a:cubicBezTo>
                    <a:lnTo>
                      <a:pt x="17420" y="8"/>
                    </a:lnTo>
                    <a:cubicBezTo>
                      <a:pt x="17419" y="8"/>
                      <a:pt x="17418" y="7"/>
                      <a:pt x="17418" y="6"/>
                    </a:cubicBezTo>
                    <a:cubicBezTo>
                      <a:pt x="17418" y="5"/>
                      <a:pt x="17419" y="4"/>
                      <a:pt x="17420" y="4"/>
                    </a:cubicBezTo>
                    <a:close/>
                    <a:moveTo>
                      <a:pt x="17428" y="4"/>
                    </a:moveTo>
                    <a:lnTo>
                      <a:pt x="17428" y="4"/>
                    </a:lnTo>
                    <a:cubicBezTo>
                      <a:pt x="17429" y="4"/>
                      <a:pt x="17430" y="5"/>
                      <a:pt x="17430" y="6"/>
                    </a:cubicBezTo>
                    <a:cubicBezTo>
                      <a:pt x="17430" y="7"/>
                      <a:pt x="17429" y="8"/>
                      <a:pt x="17428" y="8"/>
                    </a:cubicBezTo>
                    <a:lnTo>
                      <a:pt x="17428" y="8"/>
                    </a:lnTo>
                    <a:cubicBezTo>
                      <a:pt x="17427" y="8"/>
                      <a:pt x="17426" y="7"/>
                      <a:pt x="17426" y="6"/>
                    </a:cubicBezTo>
                    <a:cubicBezTo>
                      <a:pt x="17426" y="5"/>
                      <a:pt x="17427" y="4"/>
                      <a:pt x="17428" y="4"/>
                    </a:cubicBezTo>
                    <a:close/>
                    <a:moveTo>
                      <a:pt x="17436" y="4"/>
                    </a:moveTo>
                    <a:lnTo>
                      <a:pt x="17436" y="4"/>
                    </a:lnTo>
                    <a:cubicBezTo>
                      <a:pt x="17437" y="4"/>
                      <a:pt x="17438" y="5"/>
                      <a:pt x="17438" y="6"/>
                    </a:cubicBezTo>
                    <a:cubicBezTo>
                      <a:pt x="17438" y="7"/>
                      <a:pt x="17437" y="8"/>
                      <a:pt x="17436" y="8"/>
                    </a:cubicBezTo>
                    <a:lnTo>
                      <a:pt x="17436" y="8"/>
                    </a:lnTo>
                    <a:cubicBezTo>
                      <a:pt x="17435" y="8"/>
                      <a:pt x="17434" y="7"/>
                      <a:pt x="17434" y="6"/>
                    </a:cubicBezTo>
                    <a:cubicBezTo>
                      <a:pt x="17434" y="5"/>
                      <a:pt x="17435" y="4"/>
                      <a:pt x="17436" y="4"/>
                    </a:cubicBezTo>
                    <a:close/>
                    <a:moveTo>
                      <a:pt x="17444" y="4"/>
                    </a:moveTo>
                    <a:lnTo>
                      <a:pt x="17444" y="4"/>
                    </a:lnTo>
                    <a:cubicBezTo>
                      <a:pt x="17445" y="4"/>
                      <a:pt x="17446" y="5"/>
                      <a:pt x="17446" y="6"/>
                    </a:cubicBezTo>
                    <a:cubicBezTo>
                      <a:pt x="17446" y="7"/>
                      <a:pt x="17445" y="8"/>
                      <a:pt x="17444" y="8"/>
                    </a:cubicBezTo>
                    <a:lnTo>
                      <a:pt x="17444" y="8"/>
                    </a:lnTo>
                    <a:cubicBezTo>
                      <a:pt x="17443" y="8"/>
                      <a:pt x="17442" y="7"/>
                      <a:pt x="17442" y="6"/>
                    </a:cubicBezTo>
                    <a:cubicBezTo>
                      <a:pt x="17442" y="5"/>
                      <a:pt x="17443" y="4"/>
                      <a:pt x="17444" y="4"/>
                    </a:cubicBezTo>
                    <a:close/>
                    <a:moveTo>
                      <a:pt x="17452" y="4"/>
                    </a:moveTo>
                    <a:lnTo>
                      <a:pt x="17452" y="4"/>
                    </a:lnTo>
                    <a:cubicBezTo>
                      <a:pt x="17453" y="4"/>
                      <a:pt x="17454" y="5"/>
                      <a:pt x="17454" y="6"/>
                    </a:cubicBezTo>
                    <a:cubicBezTo>
                      <a:pt x="17454" y="7"/>
                      <a:pt x="17453" y="8"/>
                      <a:pt x="17452" y="8"/>
                    </a:cubicBezTo>
                    <a:lnTo>
                      <a:pt x="17452" y="8"/>
                    </a:lnTo>
                    <a:cubicBezTo>
                      <a:pt x="17451" y="8"/>
                      <a:pt x="17450" y="7"/>
                      <a:pt x="17450" y="6"/>
                    </a:cubicBezTo>
                    <a:cubicBezTo>
                      <a:pt x="17450" y="5"/>
                      <a:pt x="17451" y="4"/>
                      <a:pt x="17452" y="4"/>
                    </a:cubicBezTo>
                    <a:close/>
                    <a:moveTo>
                      <a:pt x="17460" y="4"/>
                    </a:moveTo>
                    <a:lnTo>
                      <a:pt x="17460" y="4"/>
                    </a:lnTo>
                    <a:cubicBezTo>
                      <a:pt x="17461" y="4"/>
                      <a:pt x="17462" y="5"/>
                      <a:pt x="17462" y="6"/>
                    </a:cubicBezTo>
                    <a:cubicBezTo>
                      <a:pt x="17462" y="7"/>
                      <a:pt x="17461" y="8"/>
                      <a:pt x="17460" y="8"/>
                    </a:cubicBezTo>
                    <a:lnTo>
                      <a:pt x="17460" y="8"/>
                    </a:lnTo>
                    <a:cubicBezTo>
                      <a:pt x="17459" y="8"/>
                      <a:pt x="17458" y="7"/>
                      <a:pt x="17458" y="6"/>
                    </a:cubicBezTo>
                    <a:cubicBezTo>
                      <a:pt x="17458" y="5"/>
                      <a:pt x="17459" y="4"/>
                      <a:pt x="17460" y="4"/>
                    </a:cubicBezTo>
                    <a:close/>
                    <a:moveTo>
                      <a:pt x="17468" y="4"/>
                    </a:moveTo>
                    <a:lnTo>
                      <a:pt x="17468" y="4"/>
                    </a:lnTo>
                    <a:cubicBezTo>
                      <a:pt x="17469" y="4"/>
                      <a:pt x="17470" y="5"/>
                      <a:pt x="17470" y="6"/>
                    </a:cubicBezTo>
                    <a:cubicBezTo>
                      <a:pt x="17470" y="7"/>
                      <a:pt x="17469" y="8"/>
                      <a:pt x="17468" y="8"/>
                    </a:cubicBezTo>
                    <a:lnTo>
                      <a:pt x="17468" y="8"/>
                    </a:lnTo>
                    <a:cubicBezTo>
                      <a:pt x="17467" y="8"/>
                      <a:pt x="17466" y="7"/>
                      <a:pt x="17466" y="6"/>
                    </a:cubicBezTo>
                    <a:cubicBezTo>
                      <a:pt x="17466" y="5"/>
                      <a:pt x="17467" y="4"/>
                      <a:pt x="17468" y="4"/>
                    </a:cubicBezTo>
                    <a:close/>
                    <a:moveTo>
                      <a:pt x="17476" y="4"/>
                    </a:moveTo>
                    <a:lnTo>
                      <a:pt x="17476" y="4"/>
                    </a:lnTo>
                    <a:cubicBezTo>
                      <a:pt x="17477" y="4"/>
                      <a:pt x="17478" y="5"/>
                      <a:pt x="17478" y="6"/>
                    </a:cubicBezTo>
                    <a:cubicBezTo>
                      <a:pt x="17478" y="7"/>
                      <a:pt x="17477" y="8"/>
                      <a:pt x="17476" y="8"/>
                    </a:cubicBezTo>
                    <a:lnTo>
                      <a:pt x="17476" y="8"/>
                    </a:lnTo>
                    <a:cubicBezTo>
                      <a:pt x="17475" y="8"/>
                      <a:pt x="17474" y="7"/>
                      <a:pt x="17474" y="6"/>
                    </a:cubicBezTo>
                    <a:cubicBezTo>
                      <a:pt x="17474" y="5"/>
                      <a:pt x="17475" y="4"/>
                      <a:pt x="17476" y="4"/>
                    </a:cubicBezTo>
                    <a:close/>
                    <a:moveTo>
                      <a:pt x="17484" y="4"/>
                    </a:moveTo>
                    <a:lnTo>
                      <a:pt x="17484" y="4"/>
                    </a:lnTo>
                    <a:cubicBezTo>
                      <a:pt x="17485" y="4"/>
                      <a:pt x="17486" y="5"/>
                      <a:pt x="17486" y="6"/>
                    </a:cubicBezTo>
                    <a:cubicBezTo>
                      <a:pt x="17486" y="7"/>
                      <a:pt x="17485" y="8"/>
                      <a:pt x="17484" y="8"/>
                    </a:cubicBezTo>
                    <a:lnTo>
                      <a:pt x="17484" y="8"/>
                    </a:lnTo>
                    <a:cubicBezTo>
                      <a:pt x="17483" y="8"/>
                      <a:pt x="17482" y="7"/>
                      <a:pt x="17482" y="6"/>
                    </a:cubicBezTo>
                    <a:cubicBezTo>
                      <a:pt x="17482" y="5"/>
                      <a:pt x="17483" y="4"/>
                      <a:pt x="17484" y="4"/>
                    </a:cubicBezTo>
                    <a:close/>
                    <a:moveTo>
                      <a:pt x="17492" y="4"/>
                    </a:moveTo>
                    <a:lnTo>
                      <a:pt x="17492" y="4"/>
                    </a:lnTo>
                    <a:cubicBezTo>
                      <a:pt x="17493" y="4"/>
                      <a:pt x="17494" y="5"/>
                      <a:pt x="17494" y="6"/>
                    </a:cubicBezTo>
                    <a:cubicBezTo>
                      <a:pt x="17494" y="7"/>
                      <a:pt x="17493" y="8"/>
                      <a:pt x="17492" y="8"/>
                    </a:cubicBezTo>
                    <a:lnTo>
                      <a:pt x="17492" y="8"/>
                    </a:lnTo>
                    <a:cubicBezTo>
                      <a:pt x="17491" y="8"/>
                      <a:pt x="17490" y="7"/>
                      <a:pt x="17490" y="6"/>
                    </a:cubicBezTo>
                    <a:cubicBezTo>
                      <a:pt x="17490" y="5"/>
                      <a:pt x="17491" y="4"/>
                      <a:pt x="17492" y="4"/>
                    </a:cubicBezTo>
                    <a:close/>
                    <a:moveTo>
                      <a:pt x="17500" y="4"/>
                    </a:moveTo>
                    <a:lnTo>
                      <a:pt x="17500" y="4"/>
                    </a:lnTo>
                    <a:cubicBezTo>
                      <a:pt x="17501" y="4"/>
                      <a:pt x="17502" y="5"/>
                      <a:pt x="17502" y="6"/>
                    </a:cubicBezTo>
                    <a:cubicBezTo>
                      <a:pt x="17502" y="7"/>
                      <a:pt x="17501" y="8"/>
                      <a:pt x="17500" y="8"/>
                    </a:cubicBezTo>
                    <a:lnTo>
                      <a:pt x="17500" y="8"/>
                    </a:lnTo>
                    <a:cubicBezTo>
                      <a:pt x="17499" y="8"/>
                      <a:pt x="17498" y="7"/>
                      <a:pt x="17498" y="6"/>
                    </a:cubicBezTo>
                    <a:cubicBezTo>
                      <a:pt x="17498" y="5"/>
                      <a:pt x="17499" y="4"/>
                      <a:pt x="17500" y="4"/>
                    </a:cubicBezTo>
                    <a:close/>
                    <a:moveTo>
                      <a:pt x="17508" y="4"/>
                    </a:moveTo>
                    <a:lnTo>
                      <a:pt x="17508" y="4"/>
                    </a:lnTo>
                    <a:cubicBezTo>
                      <a:pt x="17509" y="4"/>
                      <a:pt x="17510" y="5"/>
                      <a:pt x="17510" y="6"/>
                    </a:cubicBezTo>
                    <a:cubicBezTo>
                      <a:pt x="17510" y="7"/>
                      <a:pt x="17509" y="8"/>
                      <a:pt x="17508" y="8"/>
                    </a:cubicBezTo>
                    <a:lnTo>
                      <a:pt x="17508" y="8"/>
                    </a:lnTo>
                    <a:cubicBezTo>
                      <a:pt x="17507" y="8"/>
                      <a:pt x="17506" y="7"/>
                      <a:pt x="17506" y="6"/>
                    </a:cubicBezTo>
                    <a:cubicBezTo>
                      <a:pt x="17506" y="5"/>
                      <a:pt x="17507" y="4"/>
                      <a:pt x="17508" y="4"/>
                    </a:cubicBezTo>
                    <a:close/>
                    <a:moveTo>
                      <a:pt x="17516" y="4"/>
                    </a:moveTo>
                    <a:lnTo>
                      <a:pt x="17516" y="4"/>
                    </a:lnTo>
                    <a:cubicBezTo>
                      <a:pt x="17517" y="4"/>
                      <a:pt x="17518" y="5"/>
                      <a:pt x="17518" y="6"/>
                    </a:cubicBezTo>
                    <a:cubicBezTo>
                      <a:pt x="17518" y="7"/>
                      <a:pt x="17517" y="8"/>
                      <a:pt x="17516" y="8"/>
                    </a:cubicBezTo>
                    <a:lnTo>
                      <a:pt x="17516" y="8"/>
                    </a:lnTo>
                    <a:cubicBezTo>
                      <a:pt x="17515" y="8"/>
                      <a:pt x="17514" y="7"/>
                      <a:pt x="17514" y="6"/>
                    </a:cubicBezTo>
                    <a:cubicBezTo>
                      <a:pt x="17514" y="5"/>
                      <a:pt x="17515" y="4"/>
                      <a:pt x="17516" y="4"/>
                    </a:cubicBezTo>
                    <a:close/>
                    <a:moveTo>
                      <a:pt x="17524" y="4"/>
                    </a:moveTo>
                    <a:lnTo>
                      <a:pt x="17524" y="4"/>
                    </a:lnTo>
                    <a:cubicBezTo>
                      <a:pt x="17525" y="4"/>
                      <a:pt x="17526" y="5"/>
                      <a:pt x="17526" y="6"/>
                    </a:cubicBezTo>
                    <a:cubicBezTo>
                      <a:pt x="17526" y="7"/>
                      <a:pt x="17525" y="8"/>
                      <a:pt x="17524" y="8"/>
                    </a:cubicBezTo>
                    <a:lnTo>
                      <a:pt x="17524" y="8"/>
                    </a:lnTo>
                    <a:cubicBezTo>
                      <a:pt x="17523" y="8"/>
                      <a:pt x="17522" y="7"/>
                      <a:pt x="17522" y="6"/>
                    </a:cubicBezTo>
                    <a:cubicBezTo>
                      <a:pt x="17522" y="5"/>
                      <a:pt x="17523" y="4"/>
                      <a:pt x="17524" y="4"/>
                    </a:cubicBezTo>
                    <a:close/>
                    <a:moveTo>
                      <a:pt x="17532" y="4"/>
                    </a:moveTo>
                    <a:lnTo>
                      <a:pt x="17532" y="4"/>
                    </a:lnTo>
                    <a:cubicBezTo>
                      <a:pt x="17533" y="4"/>
                      <a:pt x="17534" y="5"/>
                      <a:pt x="17534" y="6"/>
                    </a:cubicBezTo>
                    <a:cubicBezTo>
                      <a:pt x="17534" y="7"/>
                      <a:pt x="17533" y="8"/>
                      <a:pt x="17532" y="8"/>
                    </a:cubicBezTo>
                    <a:lnTo>
                      <a:pt x="17532" y="8"/>
                    </a:lnTo>
                    <a:cubicBezTo>
                      <a:pt x="17531" y="8"/>
                      <a:pt x="17530" y="7"/>
                      <a:pt x="17530" y="6"/>
                    </a:cubicBezTo>
                    <a:cubicBezTo>
                      <a:pt x="17530" y="5"/>
                      <a:pt x="17531" y="4"/>
                      <a:pt x="17532" y="4"/>
                    </a:cubicBezTo>
                    <a:close/>
                    <a:moveTo>
                      <a:pt x="17540" y="4"/>
                    </a:moveTo>
                    <a:lnTo>
                      <a:pt x="17540" y="4"/>
                    </a:lnTo>
                    <a:cubicBezTo>
                      <a:pt x="17541" y="4"/>
                      <a:pt x="17542" y="5"/>
                      <a:pt x="17542" y="6"/>
                    </a:cubicBezTo>
                    <a:cubicBezTo>
                      <a:pt x="17542" y="7"/>
                      <a:pt x="17541" y="8"/>
                      <a:pt x="17540" y="8"/>
                    </a:cubicBezTo>
                    <a:lnTo>
                      <a:pt x="17540" y="8"/>
                    </a:lnTo>
                    <a:cubicBezTo>
                      <a:pt x="17539" y="8"/>
                      <a:pt x="17538" y="7"/>
                      <a:pt x="17538" y="6"/>
                    </a:cubicBezTo>
                    <a:cubicBezTo>
                      <a:pt x="17538" y="5"/>
                      <a:pt x="17539" y="4"/>
                      <a:pt x="17540" y="4"/>
                    </a:cubicBezTo>
                    <a:close/>
                    <a:moveTo>
                      <a:pt x="17548" y="4"/>
                    </a:moveTo>
                    <a:lnTo>
                      <a:pt x="17548" y="4"/>
                    </a:lnTo>
                    <a:cubicBezTo>
                      <a:pt x="17549" y="4"/>
                      <a:pt x="17550" y="5"/>
                      <a:pt x="17550" y="6"/>
                    </a:cubicBezTo>
                    <a:cubicBezTo>
                      <a:pt x="17550" y="7"/>
                      <a:pt x="17549" y="8"/>
                      <a:pt x="17548" y="8"/>
                    </a:cubicBezTo>
                    <a:lnTo>
                      <a:pt x="17548" y="8"/>
                    </a:lnTo>
                    <a:cubicBezTo>
                      <a:pt x="17547" y="8"/>
                      <a:pt x="17546" y="7"/>
                      <a:pt x="17546" y="6"/>
                    </a:cubicBezTo>
                    <a:cubicBezTo>
                      <a:pt x="17546" y="5"/>
                      <a:pt x="17547" y="4"/>
                      <a:pt x="17548" y="4"/>
                    </a:cubicBezTo>
                    <a:close/>
                    <a:moveTo>
                      <a:pt x="17556" y="4"/>
                    </a:moveTo>
                    <a:lnTo>
                      <a:pt x="17556" y="4"/>
                    </a:lnTo>
                    <a:cubicBezTo>
                      <a:pt x="17557" y="4"/>
                      <a:pt x="17558" y="5"/>
                      <a:pt x="17558" y="6"/>
                    </a:cubicBezTo>
                    <a:cubicBezTo>
                      <a:pt x="17558" y="7"/>
                      <a:pt x="17557" y="8"/>
                      <a:pt x="17556" y="8"/>
                    </a:cubicBezTo>
                    <a:lnTo>
                      <a:pt x="17556" y="8"/>
                    </a:lnTo>
                    <a:cubicBezTo>
                      <a:pt x="17555" y="8"/>
                      <a:pt x="17554" y="7"/>
                      <a:pt x="17554" y="6"/>
                    </a:cubicBezTo>
                    <a:cubicBezTo>
                      <a:pt x="17554" y="5"/>
                      <a:pt x="17555" y="4"/>
                      <a:pt x="17556" y="4"/>
                    </a:cubicBezTo>
                    <a:close/>
                    <a:moveTo>
                      <a:pt x="17564" y="4"/>
                    </a:moveTo>
                    <a:lnTo>
                      <a:pt x="17564" y="4"/>
                    </a:lnTo>
                    <a:cubicBezTo>
                      <a:pt x="17565" y="4"/>
                      <a:pt x="17566" y="5"/>
                      <a:pt x="17566" y="6"/>
                    </a:cubicBezTo>
                    <a:cubicBezTo>
                      <a:pt x="17566" y="7"/>
                      <a:pt x="17565" y="8"/>
                      <a:pt x="17564" y="8"/>
                    </a:cubicBezTo>
                    <a:lnTo>
                      <a:pt x="17564" y="8"/>
                    </a:lnTo>
                    <a:cubicBezTo>
                      <a:pt x="17563" y="8"/>
                      <a:pt x="17562" y="7"/>
                      <a:pt x="17562" y="6"/>
                    </a:cubicBezTo>
                    <a:cubicBezTo>
                      <a:pt x="17562" y="5"/>
                      <a:pt x="17563" y="4"/>
                      <a:pt x="17564" y="4"/>
                    </a:cubicBezTo>
                    <a:close/>
                    <a:moveTo>
                      <a:pt x="17572" y="4"/>
                    </a:moveTo>
                    <a:lnTo>
                      <a:pt x="17572" y="4"/>
                    </a:lnTo>
                    <a:cubicBezTo>
                      <a:pt x="17573" y="4"/>
                      <a:pt x="17574" y="5"/>
                      <a:pt x="17574" y="6"/>
                    </a:cubicBezTo>
                    <a:cubicBezTo>
                      <a:pt x="17574" y="7"/>
                      <a:pt x="17573" y="8"/>
                      <a:pt x="17572" y="8"/>
                    </a:cubicBezTo>
                    <a:lnTo>
                      <a:pt x="17572" y="8"/>
                    </a:lnTo>
                    <a:cubicBezTo>
                      <a:pt x="17571" y="8"/>
                      <a:pt x="17570" y="7"/>
                      <a:pt x="17570" y="6"/>
                    </a:cubicBezTo>
                    <a:cubicBezTo>
                      <a:pt x="17570" y="5"/>
                      <a:pt x="17571" y="4"/>
                      <a:pt x="17572" y="4"/>
                    </a:cubicBezTo>
                    <a:close/>
                    <a:moveTo>
                      <a:pt x="17580" y="4"/>
                    </a:moveTo>
                    <a:lnTo>
                      <a:pt x="17580" y="4"/>
                    </a:lnTo>
                    <a:cubicBezTo>
                      <a:pt x="17581" y="4"/>
                      <a:pt x="17582" y="5"/>
                      <a:pt x="17582" y="6"/>
                    </a:cubicBezTo>
                    <a:cubicBezTo>
                      <a:pt x="17582" y="7"/>
                      <a:pt x="17581" y="8"/>
                      <a:pt x="17580" y="8"/>
                    </a:cubicBezTo>
                    <a:lnTo>
                      <a:pt x="17580" y="8"/>
                    </a:lnTo>
                    <a:cubicBezTo>
                      <a:pt x="17579" y="8"/>
                      <a:pt x="17578" y="7"/>
                      <a:pt x="17578" y="6"/>
                    </a:cubicBezTo>
                    <a:cubicBezTo>
                      <a:pt x="17578" y="5"/>
                      <a:pt x="17579" y="4"/>
                      <a:pt x="17580" y="4"/>
                    </a:cubicBezTo>
                    <a:close/>
                    <a:moveTo>
                      <a:pt x="17588" y="4"/>
                    </a:moveTo>
                    <a:lnTo>
                      <a:pt x="17588" y="4"/>
                    </a:lnTo>
                    <a:cubicBezTo>
                      <a:pt x="17589" y="4"/>
                      <a:pt x="17590" y="5"/>
                      <a:pt x="17590" y="6"/>
                    </a:cubicBezTo>
                    <a:cubicBezTo>
                      <a:pt x="17590" y="7"/>
                      <a:pt x="17589" y="8"/>
                      <a:pt x="17588" y="8"/>
                    </a:cubicBezTo>
                    <a:lnTo>
                      <a:pt x="17588" y="8"/>
                    </a:lnTo>
                    <a:cubicBezTo>
                      <a:pt x="17587" y="8"/>
                      <a:pt x="17586" y="7"/>
                      <a:pt x="17586" y="6"/>
                    </a:cubicBezTo>
                    <a:cubicBezTo>
                      <a:pt x="17586" y="5"/>
                      <a:pt x="17587" y="4"/>
                      <a:pt x="17588" y="4"/>
                    </a:cubicBezTo>
                    <a:close/>
                    <a:moveTo>
                      <a:pt x="17596" y="4"/>
                    </a:moveTo>
                    <a:lnTo>
                      <a:pt x="17596" y="4"/>
                    </a:lnTo>
                    <a:cubicBezTo>
                      <a:pt x="17597" y="4"/>
                      <a:pt x="17598" y="5"/>
                      <a:pt x="17598" y="6"/>
                    </a:cubicBezTo>
                    <a:cubicBezTo>
                      <a:pt x="17598" y="7"/>
                      <a:pt x="17597" y="8"/>
                      <a:pt x="17596" y="8"/>
                    </a:cubicBezTo>
                    <a:lnTo>
                      <a:pt x="17596" y="8"/>
                    </a:lnTo>
                    <a:cubicBezTo>
                      <a:pt x="17595" y="8"/>
                      <a:pt x="17594" y="7"/>
                      <a:pt x="17594" y="6"/>
                    </a:cubicBezTo>
                    <a:cubicBezTo>
                      <a:pt x="17594" y="5"/>
                      <a:pt x="17595" y="4"/>
                      <a:pt x="17596" y="4"/>
                    </a:cubicBezTo>
                    <a:close/>
                    <a:moveTo>
                      <a:pt x="17604" y="4"/>
                    </a:moveTo>
                    <a:lnTo>
                      <a:pt x="17604" y="4"/>
                    </a:lnTo>
                    <a:cubicBezTo>
                      <a:pt x="17605" y="4"/>
                      <a:pt x="17606" y="5"/>
                      <a:pt x="17606" y="6"/>
                    </a:cubicBezTo>
                    <a:cubicBezTo>
                      <a:pt x="17606" y="7"/>
                      <a:pt x="17605" y="8"/>
                      <a:pt x="17604" y="8"/>
                    </a:cubicBezTo>
                    <a:lnTo>
                      <a:pt x="17604" y="8"/>
                    </a:lnTo>
                    <a:cubicBezTo>
                      <a:pt x="17603" y="8"/>
                      <a:pt x="17602" y="7"/>
                      <a:pt x="17602" y="6"/>
                    </a:cubicBezTo>
                    <a:cubicBezTo>
                      <a:pt x="17602" y="5"/>
                      <a:pt x="17603" y="4"/>
                      <a:pt x="17604" y="4"/>
                    </a:cubicBezTo>
                    <a:close/>
                    <a:moveTo>
                      <a:pt x="17612" y="4"/>
                    </a:moveTo>
                    <a:lnTo>
                      <a:pt x="17612" y="4"/>
                    </a:lnTo>
                    <a:cubicBezTo>
                      <a:pt x="17613" y="4"/>
                      <a:pt x="17614" y="5"/>
                      <a:pt x="17614" y="6"/>
                    </a:cubicBezTo>
                    <a:cubicBezTo>
                      <a:pt x="17614" y="7"/>
                      <a:pt x="17613" y="8"/>
                      <a:pt x="17612" y="8"/>
                    </a:cubicBezTo>
                    <a:lnTo>
                      <a:pt x="17612" y="8"/>
                    </a:lnTo>
                    <a:cubicBezTo>
                      <a:pt x="17611" y="8"/>
                      <a:pt x="17610" y="7"/>
                      <a:pt x="17610" y="6"/>
                    </a:cubicBezTo>
                    <a:cubicBezTo>
                      <a:pt x="17610" y="5"/>
                      <a:pt x="17611" y="4"/>
                      <a:pt x="17612" y="4"/>
                    </a:cubicBezTo>
                    <a:close/>
                    <a:moveTo>
                      <a:pt x="17620" y="4"/>
                    </a:moveTo>
                    <a:lnTo>
                      <a:pt x="17620" y="4"/>
                    </a:lnTo>
                    <a:cubicBezTo>
                      <a:pt x="17621" y="4"/>
                      <a:pt x="17622" y="5"/>
                      <a:pt x="17622" y="6"/>
                    </a:cubicBezTo>
                    <a:cubicBezTo>
                      <a:pt x="17622" y="7"/>
                      <a:pt x="17621" y="8"/>
                      <a:pt x="17620" y="8"/>
                    </a:cubicBezTo>
                    <a:lnTo>
                      <a:pt x="17620" y="8"/>
                    </a:lnTo>
                    <a:cubicBezTo>
                      <a:pt x="17619" y="8"/>
                      <a:pt x="17618" y="7"/>
                      <a:pt x="17618" y="6"/>
                    </a:cubicBezTo>
                    <a:cubicBezTo>
                      <a:pt x="17618" y="5"/>
                      <a:pt x="17619" y="4"/>
                      <a:pt x="17620" y="4"/>
                    </a:cubicBezTo>
                    <a:close/>
                    <a:moveTo>
                      <a:pt x="17628" y="4"/>
                    </a:moveTo>
                    <a:lnTo>
                      <a:pt x="17628" y="4"/>
                    </a:lnTo>
                    <a:cubicBezTo>
                      <a:pt x="17629" y="4"/>
                      <a:pt x="17630" y="5"/>
                      <a:pt x="17630" y="6"/>
                    </a:cubicBezTo>
                    <a:cubicBezTo>
                      <a:pt x="17630" y="7"/>
                      <a:pt x="17629" y="8"/>
                      <a:pt x="17628" y="8"/>
                    </a:cubicBezTo>
                    <a:lnTo>
                      <a:pt x="17628" y="8"/>
                    </a:lnTo>
                    <a:cubicBezTo>
                      <a:pt x="17627" y="8"/>
                      <a:pt x="17626" y="7"/>
                      <a:pt x="17626" y="6"/>
                    </a:cubicBezTo>
                    <a:cubicBezTo>
                      <a:pt x="17626" y="5"/>
                      <a:pt x="17627" y="4"/>
                      <a:pt x="17628" y="4"/>
                    </a:cubicBezTo>
                    <a:close/>
                    <a:moveTo>
                      <a:pt x="17636" y="4"/>
                    </a:moveTo>
                    <a:lnTo>
                      <a:pt x="17636" y="4"/>
                    </a:lnTo>
                    <a:cubicBezTo>
                      <a:pt x="17637" y="4"/>
                      <a:pt x="17638" y="5"/>
                      <a:pt x="17638" y="6"/>
                    </a:cubicBezTo>
                    <a:cubicBezTo>
                      <a:pt x="17638" y="7"/>
                      <a:pt x="17637" y="8"/>
                      <a:pt x="17636" y="8"/>
                    </a:cubicBezTo>
                    <a:lnTo>
                      <a:pt x="17636" y="8"/>
                    </a:lnTo>
                    <a:cubicBezTo>
                      <a:pt x="17635" y="8"/>
                      <a:pt x="17634" y="7"/>
                      <a:pt x="17634" y="6"/>
                    </a:cubicBezTo>
                    <a:cubicBezTo>
                      <a:pt x="17634" y="5"/>
                      <a:pt x="17635" y="4"/>
                      <a:pt x="17636" y="4"/>
                    </a:cubicBezTo>
                    <a:close/>
                    <a:moveTo>
                      <a:pt x="17644" y="4"/>
                    </a:moveTo>
                    <a:lnTo>
                      <a:pt x="17644" y="4"/>
                    </a:lnTo>
                    <a:cubicBezTo>
                      <a:pt x="17645" y="4"/>
                      <a:pt x="17646" y="5"/>
                      <a:pt x="17646" y="6"/>
                    </a:cubicBezTo>
                    <a:cubicBezTo>
                      <a:pt x="17646" y="7"/>
                      <a:pt x="17645" y="8"/>
                      <a:pt x="17644" y="8"/>
                    </a:cubicBezTo>
                    <a:lnTo>
                      <a:pt x="17644" y="8"/>
                    </a:lnTo>
                    <a:cubicBezTo>
                      <a:pt x="17643" y="8"/>
                      <a:pt x="17642" y="7"/>
                      <a:pt x="17642" y="6"/>
                    </a:cubicBezTo>
                    <a:cubicBezTo>
                      <a:pt x="17642" y="5"/>
                      <a:pt x="17643" y="4"/>
                      <a:pt x="17644" y="4"/>
                    </a:cubicBezTo>
                    <a:close/>
                    <a:moveTo>
                      <a:pt x="17652" y="4"/>
                    </a:moveTo>
                    <a:lnTo>
                      <a:pt x="17652" y="4"/>
                    </a:lnTo>
                    <a:cubicBezTo>
                      <a:pt x="17653" y="4"/>
                      <a:pt x="17654" y="5"/>
                      <a:pt x="17654" y="6"/>
                    </a:cubicBezTo>
                    <a:cubicBezTo>
                      <a:pt x="17654" y="7"/>
                      <a:pt x="17653" y="8"/>
                      <a:pt x="17652" y="8"/>
                    </a:cubicBezTo>
                    <a:lnTo>
                      <a:pt x="17652" y="8"/>
                    </a:lnTo>
                    <a:cubicBezTo>
                      <a:pt x="17651" y="8"/>
                      <a:pt x="17650" y="7"/>
                      <a:pt x="17650" y="6"/>
                    </a:cubicBezTo>
                    <a:cubicBezTo>
                      <a:pt x="17650" y="5"/>
                      <a:pt x="17651" y="4"/>
                      <a:pt x="17652" y="4"/>
                    </a:cubicBezTo>
                    <a:close/>
                    <a:moveTo>
                      <a:pt x="17660" y="4"/>
                    </a:moveTo>
                    <a:lnTo>
                      <a:pt x="17660" y="4"/>
                    </a:lnTo>
                    <a:cubicBezTo>
                      <a:pt x="17661" y="4"/>
                      <a:pt x="17662" y="5"/>
                      <a:pt x="17662" y="6"/>
                    </a:cubicBezTo>
                    <a:cubicBezTo>
                      <a:pt x="17662" y="7"/>
                      <a:pt x="17661" y="8"/>
                      <a:pt x="17660" y="8"/>
                    </a:cubicBezTo>
                    <a:lnTo>
                      <a:pt x="17660" y="8"/>
                    </a:lnTo>
                    <a:cubicBezTo>
                      <a:pt x="17659" y="8"/>
                      <a:pt x="17658" y="7"/>
                      <a:pt x="17658" y="6"/>
                    </a:cubicBezTo>
                    <a:cubicBezTo>
                      <a:pt x="17658" y="5"/>
                      <a:pt x="17659" y="4"/>
                      <a:pt x="17660" y="4"/>
                    </a:cubicBezTo>
                    <a:close/>
                    <a:moveTo>
                      <a:pt x="17668" y="4"/>
                    </a:moveTo>
                    <a:lnTo>
                      <a:pt x="17668" y="4"/>
                    </a:lnTo>
                    <a:cubicBezTo>
                      <a:pt x="17669" y="4"/>
                      <a:pt x="17670" y="5"/>
                      <a:pt x="17670" y="6"/>
                    </a:cubicBezTo>
                    <a:cubicBezTo>
                      <a:pt x="17670" y="7"/>
                      <a:pt x="17669" y="8"/>
                      <a:pt x="17668" y="8"/>
                    </a:cubicBezTo>
                    <a:lnTo>
                      <a:pt x="17668" y="8"/>
                    </a:lnTo>
                    <a:cubicBezTo>
                      <a:pt x="17667" y="8"/>
                      <a:pt x="17666" y="7"/>
                      <a:pt x="17666" y="6"/>
                    </a:cubicBezTo>
                    <a:cubicBezTo>
                      <a:pt x="17666" y="5"/>
                      <a:pt x="17667" y="4"/>
                      <a:pt x="17668" y="4"/>
                    </a:cubicBezTo>
                    <a:close/>
                    <a:moveTo>
                      <a:pt x="17676" y="4"/>
                    </a:moveTo>
                    <a:lnTo>
                      <a:pt x="17676" y="4"/>
                    </a:lnTo>
                    <a:cubicBezTo>
                      <a:pt x="17677" y="4"/>
                      <a:pt x="17678" y="5"/>
                      <a:pt x="17678" y="6"/>
                    </a:cubicBezTo>
                    <a:cubicBezTo>
                      <a:pt x="17678" y="7"/>
                      <a:pt x="17677" y="8"/>
                      <a:pt x="17676" y="8"/>
                    </a:cubicBezTo>
                    <a:lnTo>
                      <a:pt x="17676" y="8"/>
                    </a:lnTo>
                    <a:cubicBezTo>
                      <a:pt x="17675" y="8"/>
                      <a:pt x="17674" y="7"/>
                      <a:pt x="17674" y="6"/>
                    </a:cubicBezTo>
                    <a:cubicBezTo>
                      <a:pt x="17674" y="5"/>
                      <a:pt x="17675" y="4"/>
                      <a:pt x="17676" y="4"/>
                    </a:cubicBezTo>
                    <a:close/>
                    <a:moveTo>
                      <a:pt x="17684" y="4"/>
                    </a:moveTo>
                    <a:lnTo>
                      <a:pt x="17684" y="4"/>
                    </a:lnTo>
                    <a:cubicBezTo>
                      <a:pt x="17685" y="4"/>
                      <a:pt x="17686" y="5"/>
                      <a:pt x="17686" y="6"/>
                    </a:cubicBezTo>
                    <a:cubicBezTo>
                      <a:pt x="17686" y="7"/>
                      <a:pt x="17685" y="8"/>
                      <a:pt x="17684" y="8"/>
                    </a:cubicBezTo>
                    <a:lnTo>
                      <a:pt x="17684" y="8"/>
                    </a:lnTo>
                    <a:cubicBezTo>
                      <a:pt x="17683" y="8"/>
                      <a:pt x="17682" y="7"/>
                      <a:pt x="17682" y="6"/>
                    </a:cubicBezTo>
                    <a:cubicBezTo>
                      <a:pt x="17682" y="5"/>
                      <a:pt x="17683" y="4"/>
                      <a:pt x="17684" y="4"/>
                    </a:cubicBezTo>
                    <a:close/>
                    <a:moveTo>
                      <a:pt x="17692" y="4"/>
                    </a:moveTo>
                    <a:lnTo>
                      <a:pt x="17692" y="4"/>
                    </a:lnTo>
                    <a:cubicBezTo>
                      <a:pt x="17693" y="4"/>
                      <a:pt x="17694" y="5"/>
                      <a:pt x="17694" y="6"/>
                    </a:cubicBezTo>
                    <a:cubicBezTo>
                      <a:pt x="17694" y="7"/>
                      <a:pt x="17693" y="8"/>
                      <a:pt x="17692" y="8"/>
                    </a:cubicBezTo>
                    <a:lnTo>
                      <a:pt x="17692" y="8"/>
                    </a:lnTo>
                    <a:cubicBezTo>
                      <a:pt x="17691" y="8"/>
                      <a:pt x="17690" y="7"/>
                      <a:pt x="17690" y="6"/>
                    </a:cubicBezTo>
                    <a:cubicBezTo>
                      <a:pt x="17690" y="5"/>
                      <a:pt x="17691" y="4"/>
                      <a:pt x="17692" y="4"/>
                    </a:cubicBezTo>
                    <a:close/>
                    <a:moveTo>
                      <a:pt x="17700" y="4"/>
                    </a:moveTo>
                    <a:lnTo>
                      <a:pt x="17700" y="4"/>
                    </a:lnTo>
                    <a:cubicBezTo>
                      <a:pt x="17701" y="4"/>
                      <a:pt x="17702" y="5"/>
                      <a:pt x="17702" y="6"/>
                    </a:cubicBezTo>
                    <a:cubicBezTo>
                      <a:pt x="17702" y="7"/>
                      <a:pt x="17701" y="8"/>
                      <a:pt x="17700" y="8"/>
                    </a:cubicBezTo>
                    <a:lnTo>
                      <a:pt x="17700" y="8"/>
                    </a:lnTo>
                    <a:cubicBezTo>
                      <a:pt x="17699" y="8"/>
                      <a:pt x="17698" y="7"/>
                      <a:pt x="17698" y="6"/>
                    </a:cubicBezTo>
                    <a:cubicBezTo>
                      <a:pt x="17698" y="5"/>
                      <a:pt x="17699" y="4"/>
                      <a:pt x="17700" y="4"/>
                    </a:cubicBezTo>
                    <a:close/>
                    <a:moveTo>
                      <a:pt x="17708" y="4"/>
                    </a:moveTo>
                    <a:lnTo>
                      <a:pt x="17708" y="4"/>
                    </a:lnTo>
                    <a:cubicBezTo>
                      <a:pt x="17709" y="4"/>
                      <a:pt x="17710" y="5"/>
                      <a:pt x="17710" y="6"/>
                    </a:cubicBezTo>
                    <a:cubicBezTo>
                      <a:pt x="17710" y="7"/>
                      <a:pt x="17709" y="8"/>
                      <a:pt x="17708" y="8"/>
                    </a:cubicBezTo>
                    <a:lnTo>
                      <a:pt x="17708" y="8"/>
                    </a:lnTo>
                    <a:cubicBezTo>
                      <a:pt x="17707" y="8"/>
                      <a:pt x="17706" y="7"/>
                      <a:pt x="17706" y="6"/>
                    </a:cubicBezTo>
                    <a:cubicBezTo>
                      <a:pt x="17706" y="5"/>
                      <a:pt x="17707" y="4"/>
                      <a:pt x="17708" y="4"/>
                    </a:cubicBezTo>
                    <a:close/>
                    <a:moveTo>
                      <a:pt x="17716" y="4"/>
                    </a:moveTo>
                    <a:lnTo>
                      <a:pt x="17716" y="4"/>
                    </a:lnTo>
                    <a:cubicBezTo>
                      <a:pt x="17717" y="4"/>
                      <a:pt x="17718" y="5"/>
                      <a:pt x="17718" y="6"/>
                    </a:cubicBezTo>
                    <a:cubicBezTo>
                      <a:pt x="17718" y="7"/>
                      <a:pt x="17717" y="8"/>
                      <a:pt x="17716" y="8"/>
                    </a:cubicBezTo>
                    <a:lnTo>
                      <a:pt x="17716" y="8"/>
                    </a:lnTo>
                    <a:cubicBezTo>
                      <a:pt x="17715" y="8"/>
                      <a:pt x="17714" y="7"/>
                      <a:pt x="17714" y="6"/>
                    </a:cubicBezTo>
                    <a:cubicBezTo>
                      <a:pt x="17714" y="5"/>
                      <a:pt x="17715" y="4"/>
                      <a:pt x="17716" y="4"/>
                    </a:cubicBezTo>
                    <a:close/>
                    <a:moveTo>
                      <a:pt x="17724" y="4"/>
                    </a:moveTo>
                    <a:lnTo>
                      <a:pt x="17724" y="4"/>
                    </a:lnTo>
                    <a:cubicBezTo>
                      <a:pt x="17725" y="4"/>
                      <a:pt x="17726" y="5"/>
                      <a:pt x="17726" y="6"/>
                    </a:cubicBezTo>
                    <a:cubicBezTo>
                      <a:pt x="17726" y="7"/>
                      <a:pt x="17725" y="8"/>
                      <a:pt x="17724" y="8"/>
                    </a:cubicBezTo>
                    <a:lnTo>
                      <a:pt x="17724" y="8"/>
                    </a:lnTo>
                    <a:cubicBezTo>
                      <a:pt x="17723" y="8"/>
                      <a:pt x="17722" y="7"/>
                      <a:pt x="17722" y="6"/>
                    </a:cubicBezTo>
                    <a:cubicBezTo>
                      <a:pt x="17722" y="5"/>
                      <a:pt x="17723" y="4"/>
                      <a:pt x="17724" y="4"/>
                    </a:cubicBezTo>
                    <a:close/>
                    <a:moveTo>
                      <a:pt x="17732" y="4"/>
                    </a:moveTo>
                    <a:lnTo>
                      <a:pt x="17732" y="4"/>
                    </a:lnTo>
                    <a:cubicBezTo>
                      <a:pt x="17733" y="4"/>
                      <a:pt x="17734" y="5"/>
                      <a:pt x="17734" y="6"/>
                    </a:cubicBezTo>
                    <a:cubicBezTo>
                      <a:pt x="17734" y="7"/>
                      <a:pt x="17733" y="8"/>
                      <a:pt x="17732" y="8"/>
                    </a:cubicBezTo>
                    <a:lnTo>
                      <a:pt x="17732" y="8"/>
                    </a:lnTo>
                    <a:cubicBezTo>
                      <a:pt x="17731" y="8"/>
                      <a:pt x="17730" y="7"/>
                      <a:pt x="17730" y="6"/>
                    </a:cubicBezTo>
                    <a:cubicBezTo>
                      <a:pt x="17730" y="5"/>
                      <a:pt x="17731" y="4"/>
                      <a:pt x="17732" y="4"/>
                    </a:cubicBezTo>
                    <a:close/>
                    <a:moveTo>
                      <a:pt x="17740" y="4"/>
                    </a:moveTo>
                    <a:lnTo>
                      <a:pt x="17740" y="4"/>
                    </a:lnTo>
                    <a:cubicBezTo>
                      <a:pt x="17741" y="4"/>
                      <a:pt x="17742" y="5"/>
                      <a:pt x="17742" y="6"/>
                    </a:cubicBezTo>
                    <a:cubicBezTo>
                      <a:pt x="17742" y="7"/>
                      <a:pt x="17741" y="8"/>
                      <a:pt x="17740" y="8"/>
                    </a:cubicBezTo>
                    <a:lnTo>
                      <a:pt x="17740" y="8"/>
                    </a:lnTo>
                    <a:cubicBezTo>
                      <a:pt x="17739" y="8"/>
                      <a:pt x="17738" y="7"/>
                      <a:pt x="17738" y="6"/>
                    </a:cubicBezTo>
                    <a:cubicBezTo>
                      <a:pt x="17738" y="5"/>
                      <a:pt x="17739" y="4"/>
                      <a:pt x="17740" y="4"/>
                    </a:cubicBezTo>
                    <a:close/>
                    <a:moveTo>
                      <a:pt x="17748" y="4"/>
                    </a:moveTo>
                    <a:lnTo>
                      <a:pt x="17748" y="4"/>
                    </a:lnTo>
                    <a:cubicBezTo>
                      <a:pt x="17749" y="4"/>
                      <a:pt x="17750" y="5"/>
                      <a:pt x="17750" y="6"/>
                    </a:cubicBezTo>
                    <a:cubicBezTo>
                      <a:pt x="17750" y="7"/>
                      <a:pt x="17749" y="8"/>
                      <a:pt x="17748" y="8"/>
                    </a:cubicBezTo>
                    <a:lnTo>
                      <a:pt x="17748" y="8"/>
                    </a:lnTo>
                    <a:cubicBezTo>
                      <a:pt x="17747" y="8"/>
                      <a:pt x="17746" y="7"/>
                      <a:pt x="17746" y="6"/>
                    </a:cubicBezTo>
                    <a:cubicBezTo>
                      <a:pt x="17746" y="5"/>
                      <a:pt x="17747" y="4"/>
                      <a:pt x="17748" y="4"/>
                    </a:cubicBezTo>
                    <a:close/>
                    <a:moveTo>
                      <a:pt x="17756" y="4"/>
                    </a:moveTo>
                    <a:lnTo>
                      <a:pt x="17756" y="4"/>
                    </a:lnTo>
                    <a:cubicBezTo>
                      <a:pt x="17757" y="4"/>
                      <a:pt x="17758" y="5"/>
                      <a:pt x="17758" y="6"/>
                    </a:cubicBezTo>
                    <a:cubicBezTo>
                      <a:pt x="17758" y="7"/>
                      <a:pt x="17757" y="8"/>
                      <a:pt x="17756" y="8"/>
                    </a:cubicBezTo>
                    <a:lnTo>
                      <a:pt x="17756" y="8"/>
                    </a:lnTo>
                    <a:cubicBezTo>
                      <a:pt x="17755" y="8"/>
                      <a:pt x="17754" y="7"/>
                      <a:pt x="17754" y="6"/>
                    </a:cubicBezTo>
                    <a:cubicBezTo>
                      <a:pt x="17754" y="5"/>
                      <a:pt x="17755" y="4"/>
                      <a:pt x="17756" y="4"/>
                    </a:cubicBezTo>
                    <a:close/>
                    <a:moveTo>
                      <a:pt x="17764" y="4"/>
                    </a:moveTo>
                    <a:lnTo>
                      <a:pt x="17764" y="4"/>
                    </a:lnTo>
                    <a:cubicBezTo>
                      <a:pt x="17765" y="4"/>
                      <a:pt x="17766" y="5"/>
                      <a:pt x="17766" y="6"/>
                    </a:cubicBezTo>
                    <a:cubicBezTo>
                      <a:pt x="17766" y="7"/>
                      <a:pt x="17765" y="8"/>
                      <a:pt x="17764" y="8"/>
                    </a:cubicBezTo>
                    <a:lnTo>
                      <a:pt x="17764" y="8"/>
                    </a:lnTo>
                    <a:cubicBezTo>
                      <a:pt x="17763" y="8"/>
                      <a:pt x="17762" y="7"/>
                      <a:pt x="17762" y="6"/>
                    </a:cubicBezTo>
                    <a:cubicBezTo>
                      <a:pt x="17762" y="5"/>
                      <a:pt x="17763" y="4"/>
                      <a:pt x="17764" y="4"/>
                    </a:cubicBezTo>
                    <a:close/>
                    <a:moveTo>
                      <a:pt x="17772" y="4"/>
                    </a:moveTo>
                    <a:lnTo>
                      <a:pt x="17772" y="4"/>
                    </a:lnTo>
                    <a:cubicBezTo>
                      <a:pt x="17773" y="4"/>
                      <a:pt x="17774" y="5"/>
                      <a:pt x="17774" y="6"/>
                    </a:cubicBezTo>
                    <a:cubicBezTo>
                      <a:pt x="17774" y="7"/>
                      <a:pt x="17773" y="8"/>
                      <a:pt x="17772" y="8"/>
                    </a:cubicBezTo>
                    <a:lnTo>
                      <a:pt x="17772" y="8"/>
                    </a:lnTo>
                    <a:cubicBezTo>
                      <a:pt x="17771" y="8"/>
                      <a:pt x="17770" y="7"/>
                      <a:pt x="17770" y="6"/>
                    </a:cubicBezTo>
                    <a:cubicBezTo>
                      <a:pt x="17770" y="5"/>
                      <a:pt x="17771" y="4"/>
                      <a:pt x="17772" y="4"/>
                    </a:cubicBezTo>
                    <a:close/>
                    <a:moveTo>
                      <a:pt x="17780" y="4"/>
                    </a:moveTo>
                    <a:lnTo>
                      <a:pt x="17780" y="4"/>
                    </a:lnTo>
                    <a:cubicBezTo>
                      <a:pt x="17781" y="4"/>
                      <a:pt x="17782" y="5"/>
                      <a:pt x="17782" y="6"/>
                    </a:cubicBezTo>
                    <a:cubicBezTo>
                      <a:pt x="17782" y="7"/>
                      <a:pt x="17781" y="8"/>
                      <a:pt x="17780" y="8"/>
                    </a:cubicBezTo>
                    <a:lnTo>
                      <a:pt x="17780" y="8"/>
                    </a:lnTo>
                    <a:cubicBezTo>
                      <a:pt x="17779" y="8"/>
                      <a:pt x="17778" y="7"/>
                      <a:pt x="17778" y="6"/>
                    </a:cubicBezTo>
                    <a:cubicBezTo>
                      <a:pt x="17778" y="5"/>
                      <a:pt x="17779" y="4"/>
                      <a:pt x="17780" y="4"/>
                    </a:cubicBezTo>
                    <a:close/>
                    <a:moveTo>
                      <a:pt x="17788" y="4"/>
                    </a:moveTo>
                    <a:lnTo>
                      <a:pt x="17788" y="4"/>
                    </a:lnTo>
                    <a:cubicBezTo>
                      <a:pt x="17789" y="4"/>
                      <a:pt x="17790" y="5"/>
                      <a:pt x="17790" y="6"/>
                    </a:cubicBezTo>
                    <a:cubicBezTo>
                      <a:pt x="17790" y="7"/>
                      <a:pt x="17789" y="8"/>
                      <a:pt x="17788" y="8"/>
                    </a:cubicBezTo>
                    <a:lnTo>
                      <a:pt x="17788" y="8"/>
                    </a:lnTo>
                    <a:cubicBezTo>
                      <a:pt x="17787" y="8"/>
                      <a:pt x="17786" y="7"/>
                      <a:pt x="17786" y="6"/>
                    </a:cubicBezTo>
                    <a:cubicBezTo>
                      <a:pt x="17786" y="5"/>
                      <a:pt x="17787" y="4"/>
                      <a:pt x="17788" y="4"/>
                    </a:cubicBezTo>
                    <a:close/>
                    <a:moveTo>
                      <a:pt x="17796" y="4"/>
                    </a:moveTo>
                    <a:lnTo>
                      <a:pt x="17796" y="4"/>
                    </a:lnTo>
                    <a:cubicBezTo>
                      <a:pt x="17797" y="4"/>
                      <a:pt x="17798" y="5"/>
                      <a:pt x="17798" y="6"/>
                    </a:cubicBezTo>
                    <a:cubicBezTo>
                      <a:pt x="17798" y="7"/>
                      <a:pt x="17797" y="8"/>
                      <a:pt x="17796" y="8"/>
                    </a:cubicBezTo>
                    <a:lnTo>
                      <a:pt x="17796" y="8"/>
                    </a:lnTo>
                    <a:cubicBezTo>
                      <a:pt x="17795" y="8"/>
                      <a:pt x="17794" y="7"/>
                      <a:pt x="17794" y="6"/>
                    </a:cubicBezTo>
                    <a:cubicBezTo>
                      <a:pt x="17794" y="5"/>
                      <a:pt x="17795" y="4"/>
                      <a:pt x="17796" y="4"/>
                    </a:cubicBezTo>
                    <a:close/>
                    <a:moveTo>
                      <a:pt x="17804" y="4"/>
                    </a:moveTo>
                    <a:lnTo>
                      <a:pt x="17804" y="4"/>
                    </a:lnTo>
                    <a:cubicBezTo>
                      <a:pt x="17805" y="4"/>
                      <a:pt x="17806" y="5"/>
                      <a:pt x="17806" y="6"/>
                    </a:cubicBezTo>
                    <a:cubicBezTo>
                      <a:pt x="17806" y="7"/>
                      <a:pt x="17805" y="8"/>
                      <a:pt x="17804" y="8"/>
                    </a:cubicBezTo>
                    <a:lnTo>
                      <a:pt x="17804" y="8"/>
                    </a:lnTo>
                    <a:cubicBezTo>
                      <a:pt x="17803" y="8"/>
                      <a:pt x="17802" y="7"/>
                      <a:pt x="17802" y="6"/>
                    </a:cubicBezTo>
                    <a:cubicBezTo>
                      <a:pt x="17802" y="5"/>
                      <a:pt x="17803" y="4"/>
                      <a:pt x="17804" y="4"/>
                    </a:cubicBezTo>
                    <a:close/>
                    <a:moveTo>
                      <a:pt x="17812" y="4"/>
                    </a:moveTo>
                    <a:lnTo>
                      <a:pt x="17812" y="4"/>
                    </a:lnTo>
                    <a:cubicBezTo>
                      <a:pt x="17813" y="4"/>
                      <a:pt x="17814" y="5"/>
                      <a:pt x="17814" y="6"/>
                    </a:cubicBezTo>
                    <a:cubicBezTo>
                      <a:pt x="17814" y="7"/>
                      <a:pt x="17813" y="8"/>
                      <a:pt x="17812" y="8"/>
                    </a:cubicBezTo>
                    <a:lnTo>
                      <a:pt x="17812" y="8"/>
                    </a:lnTo>
                    <a:cubicBezTo>
                      <a:pt x="17811" y="8"/>
                      <a:pt x="17810" y="7"/>
                      <a:pt x="17810" y="6"/>
                    </a:cubicBezTo>
                    <a:cubicBezTo>
                      <a:pt x="17810" y="5"/>
                      <a:pt x="17811" y="4"/>
                      <a:pt x="17812" y="4"/>
                    </a:cubicBezTo>
                    <a:close/>
                    <a:moveTo>
                      <a:pt x="17820" y="4"/>
                    </a:moveTo>
                    <a:lnTo>
                      <a:pt x="17820" y="4"/>
                    </a:lnTo>
                    <a:cubicBezTo>
                      <a:pt x="17821" y="4"/>
                      <a:pt x="17822" y="5"/>
                      <a:pt x="17822" y="6"/>
                    </a:cubicBezTo>
                    <a:cubicBezTo>
                      <a:pt x="17822" y="7"/>
                      <a:pt x="17821" y="8"/>
                      <a:pt x="17820" y="8"/>
                    </a:cubicBezTo>
                    <a:lnTo>
                      <a:pt x="17820" y="8"/>
                    </a:lnTo>
                    <a:cubicBezTo>
                      <a:pt x="17819" y="8"/>
                      <a:pt x="17818" y="7"/>
                      <a:pt x="17818" y="6"/>
                    </a:cubicBezTo>
                    <a:cubicBezTo>
                      <a:pt x="17818" y="5"/>
                      <a:pt x="17819" y="4"/>
                      <a:pt x="17820" y="4"/>
                    </a:cubicBezTo>
                    <a:close/>
                    <a:moveTo>
                      <a:pt x="17828" y="4"/>
                    </a:moveTo>
                    <a:lnTo>
                      <a:pt x="17828" y="4"/>
                    </a:lnTo>
                    <a:cubicBezTo>
                      <a:pt x="17829" y="4"/>
                      <a:pt x="17830" y="5"/>
                      <a:pt x="17830" y="6"/>
                    </a:cubicBezTo>
                    <a:cubicBezTo>
                      <a:pt x="17830" y="7"/>
                      <a:pt x="17829" y="8"/>
                      <a:pt x="17828" y="8"/>
                    </a:cubicBezTo>
                    <a:lnTo>
                      <a:pt x="17828" y="8"/>
                    </a:lnTo>
                    <a:cubicBezTo>
                      <a:pt x="17827" y="8"/>
                      <a:pt x="17826" y="7"/>
                      <a:pt x="17826" y="6"/>
                    </a:cubicBezTo>
                    <a:cubicBezTo>
                      <a:pt x="17826" y="5"/>
                      <a:pt x="17827" y="4"/>
                      <a:pt x="17828" y="4"/>
                    </a:cubicBezTo>
                    <a:close/>
                    <a:moveTo>
                      <a:pt x="17836" y="4"/>
                    </a:moveTo>
                    <a:lnTo>
                      <a:pt x="17836" y="4"/>
                    </a:lnTo>
                    <a:cubicBezTo>
                      <a:pt x="17837" y="4"/>
                      <a:pt x="17838" y="5"/>
                      <a:pt x="17838" y="6"/>
                    </a:cubicBezTo>
                    <a:cubicBezTo>
                      <a:pt x="17838" y="7"/>
                      <a:pt x="17837" y="8"/>
                      <a:pt x="17836" y="8"/>
                    </a:cubicBezTo>
                    <a:lnTo>
                      <a:pt x="17836" y="8"/>
                    </a:lnTo>
                    <a:cubicBezTo>
                      <a:pt x="17835" y="8"/>
                      <a:pt x="17834" y="7"/>
                      <a:pt x="17834" y="6"/>
                    </a:cubicBezTo>
                    <a:cubicBezTo>
                      <a:pt x="17834" y="5"/>
                      <a:pt x="17835" y="4"/>
                      <a:pt x="17836" y="4"/>
                    </a:cubicBezTo>
                    <a:close/>
                    <a:moveTo>
                      <a:pt x="17844" y="4"/>
                    </a:moveTo>
                    <a:lnTo>
                      <a:pt x="17844" y="4"/>
                    </a:lnTo>
                    <a:cubicBezTo>
                      <a:pt x="17845" y="4"/>
                      <a:pt x="17846" y="5"/>
                      <a:pt x="17846" y="6"/>
                    </a:cubicBezTo>
                    <a:cubicBezTo>
                      <a:pt x="17846" y="7"/>
                      <a:pt x="17845" y="8"/>
                      <a:pt x="17844" y="8"/>
                    </a:cubicBezTo>
                    <a:lnTo>
                      <a:pt x="17844" y="8"/>
                    </a:lnTo>
                    <a:cubicBezTo>
                      <a:pt x="17843" y="8"/>
                      <a:pt x="17842" y="7"/>
                      <a:pt x="17842" y="6"/>
                    </a:cubicBezTo>
                    <a:cubicBezTo>
                      <a:pt x="17842" y="5"/>
                      <a:pt x="17843" y="4"/>
                      <a:pt x="17844" y="4"/>
                    </a:cubicBezTo>
                    <a:close/>
                    <a:moveTo>
                      <a:pt x="17852" y="4"/>
                    </a:moveTo>
                    <a:lnTo>
                      <a:pt x="17852" y="4"/>
                    </a:lnTo>
                    <a:cubicBezTo>
                      <a:pt x="17853" y="4"/>
                      <a:pt x="17854" y="5"/>
                      <a:pt x="17854" y="6"/>
                    </a:cubicBezTo>
                    <a:cubicBezTo>
                      <a:pt x="17854" y="7"/>
                      <a:pt x="17853" y="8"/>
                      <a:pt x="17852" y="8"/>
                    </a:cubicBezTo>
                    <a:lnTo>
                      <a:pt x="17852" y="8"/>
                    </a:lnTo>
                    <a:cubicBezTo>
                      <a:pt x="17851" y="8"/>
                      <a:pt x="17850" y="7"/>
                      <a:pt x="17850" y="6"/>
                    </a:cubicBezTo>
                    <a:cubicBezTo>
                      <a:pt x="17850" y="5"/>
                      <a:pt x="17851" y="4"/>
                      <a:pt x="17852" y="4"/>
                    </a:cubicBezTo>
                    <a:close/>
                    <a:moveTo>
                      <a:pt x="17860" y="4"/>
                    </a:moveTo>
                    <a:lnTo>
                      <a:pt x="17860" y="4"/>
                    </a:lnTo>
                    <a:cubicBezTo>
                      <a:pt x="17861" y="4"/>
                      <a:pt x="17862" y="5"/>
                      <a:pt x="17862" y="6"/>
                    </a:cubicBezTo>
                    <a:cubicBezTo>
                      <a:pt x="17862" y="7"/>
                      <a:pt x="17861" y="8"/>
                      <a:pt x="17860" y="8"/>
                    </a:cubicBezTo>
                    <a:lnTo>
                      <a:pt x="17860" y="8"/>
                    </a:lnTo>
                    <a:cubicBezTo>
                      <a:pt x="17859" y="8"/>
                      <a:pt x="17858" y="7"/>
                      <a:pt x="17858" y="6"/>
                    </a:cubicBezTo>
                    <a:cubicBezTo>
                      <a:pt x="17858" y="5"/>
                      <a:pt x="17859" y="4"/>
                      <a:pt x="17860" y="4"/>
                    </a:cubicBezTo>
                    <a:close/>
                    <a:moveTo>
                      <a:pt x="17868" y="4"/>
                    </a:moveTo>
                    <a:lnTo>
                      <a:pt x="17868" y="4"/>
                    </a:lnTo>
                    <a:cubicBezTo>
                      <a:pt x="17869" y="4"/>
                      <a:pt x="17870" y="5"/>
                      <a:pt x="17870" y="6"/>
                    </a:cubicBezTo>
                    <a:cubicBezTo>
                      <a:pt x="17870" y="7"/>
                      <a:pt x="17869" y="8"/>
                      <a:pt x="17868" y="8"/>
                    </a:cubicBezTo>
                    <a:lnTo>
                      <a:pt x="17868" y="8"/>
                    </a:lnTo>
                    <a:cubicBezTo>
                      <a:pt x="17867" y="8"/>
                      <a:pt x="17866" y="7"/>
                      <a:pt x="17866" y="6"/>
                    </a:cubicBezTo>
                    <a:cubicBezTo>
                      <a:pt x="17866" y="5"/>
                      <a:pt x="17867" y="4"/>
                      <a:pt x="17868" y="4"/>
                    </a:cubicBezTo>
                    <a:close/>
                    <a:moveTo>
                      <a:pt x="17876" y="4"/>
                    </a:moveTo>
                    <a:lnTo>
                      <a:pt x="17876" y="4"/>
                    </a:lnTo>
                    <a:cubicBezTo>
                      <a:pt x="17877" y="4"/>
                      <a:pt x="17878" y="5"/>
                      <a:pt x="17878" y="6"/>
                    </a:cubicBezTo>
                    <a:cubicBezTo>
                      <a:pt x="17878" y="7"/>
                      <a:pt x="17877" y="8"/>
                      <a:pt x="17876" y="8"/>
                    </a:cubicBezTo>
                    <a:lnTo>
                      <a:pt x="17876" y="8"/>
                    </a:lnTo>
                    <a:cubicBezTo>
                      <a:pt x="17875" y="8"/>
                      <a:pt x="17874" y="7"/>
                      <a:pt x="17874" y="6"/>
                    </a:cubicBezTo>
                    <a:cubicBezTo>
                      <a:pt x="17874" y="5"/>
                      <a:pt x="17875" y="4"/>
                      <a:pt x="17876" y="4"/>
                    </a:cubicBezTo>
                    <a:close/>
                    <a:moveTo>
                      <a:pt x="17884" y="4"/>
                    </a:moveTo>
                    <a:lnTo>
                      <a:pt x="17884" y="4"/>
                    </a:lnTo>
                    <a:cubicBezTo>
                      <a:pt x="17885" y="4"/>
                      <a:pt x="17886" y="5"/>
                      <a:pt x="17886" y="6"/>
                    </a:cubicBezTo>
                    <a:cubicBezTo>
                      <a:pt x="17886" y="7"/>
                      <a:pt x="17885" y="8"/>
                      <a:pt x="17884" y="8"/>
                    </a:cubicBezTo>
                    <a:lnTo>
                      <a:pt x="17884" y="8"/>
                    </a:lnTo>
                    <a:cubicBezTo>
                      <a:pt x="17883" y="8"/>
                      <a:pt x="17882" y="7"/>
                      <a:pt x="17882" y="6"/>
                    </a:cubicBezTo>
                    <a:cubicBezTo>
                      <a:pt x="17882" y="5"/>
                      <a:pt x="17883" y="4"/>
                      <a:pt x="17884" y="4"/>
                    </a:cubicBezTo>
                    <a:close/>
                    <a:moveTo>
                      <a:pt x="17892" y="4"/>
                    </a:moveTo>
                    <a:lnTo>
                      <a:pt x="17892" y="4"/>
                    </a:lnTo>
                    <a:cubicBezTo>
                      <a:pt x="17893" y="4"/>
                      <a:pt x="17894" y="5"/>
                      <a:pt x="17894" y="6"/>
                    </a:cubicBezTo>
                    <a:cubicBezTo>
                      <a:pt x="17894" y="7"/>
                      <a:pt x="17893" y="8"/>
                      <a:pt x="17892" y="8"/>
                    </a:cubicBezTo>
                    <a:lnTo>
                      <a:pt x="17892" y="8"/>
                    </a:lnTo>
                    <a:cubicBezTo>
                      <a:pt x="17891" y="8"/>
                      <a:pt x="17890" y="7"/>
                      <a:pt x="17890" y="6"/>
                    </a:cubicBezTo>
                    <a:cubicBezTo>
                      <a:pt x="17890" y="5"/>
                      <a:pt x="17891" y="4"/>
                      <a:pt x="17892" y="4"/>
                    </a:cubicBezTo>
                    <a:close/>
                    <a:moveTo>
                      <a:pt x="17900" y="4"/>
                    </a:moveTo>
                    <a:lnTo>
                      <a:pt x="17900" y="4"/>
                    </a:lnTo>
                    <a:cubicBezTo>
                      <a:pt x="17901" y="4"/>
                      <a:pt x="17902" y="5"/>
                      <a:pt x="17902" y="6"/>
                    </a:cubicBezTo>
                    <a:cubicBezTo>
                      <a:pt x="17902" y="7"/>
                      <a:pt x="17901" y="8"/>
                      <a:pt x="17900" y="8"/>
                    </a:cubicBezTo>
                    <a:lnTo>
                      <a:pt x="17900" y="8"/>
                    </a:lnTo>
                    <a:cubicBezTo>
                      <a:pt x="17899" y="8"/>
                      <a:pt x="17898" y="7"/>
                      <a:pt x="17898" y="6"/>
                    </a:cubicBezTo>
                    <a:cubicBezTo>
                      <a:pt x="17898" y="5"/>
                      <a:pt x="17899" y="4"/>
                      <a:pt x="17900" y="4"/>
                    </a:cubicBezTo>
                    <a:close/>
                    <a:moveTo>
                      <a:pt x="17908" y="4"/>
                    </a:moveTo>
                    <a:lnTo>
                      <a:pt x="17908" y="4"/>
                    </a:lnTo>
                    <a:cubicBezTo>
                      <a:pt x="17909" y="4"/>
                      <a:pt x="17910" y="5"/>
                      <a:pt x="17910" y="6"/>
                    </a:cubicBezTo>
                    <a:cubicBezTo>
                      <a:pt x="17910" y="7"/>
                      <a:pt x="17909" y="8"/>
                      <a:pt x="17908" y="8"/>
                    </a:cubicBezTo>
                    <a:lnTo>
                      <a:pt x="17908" y="8"/>
                    </a:lnTo>
                    <a:cubicBezTo>
                      <a:pt x="17907" y="8"/>
                      <a:pt x="17906" y="7"/>
                      <a:pt x="17906" y="6"/>
                    </a:cubicBezTo>
                    <a:cubicBezTo>
                      <a:pt x="17906" y="5"/>
                      <a:pt x="17907" y="4"/>
                      <a:pt x="17908" y="4"/>
                    </a:cubicBezTo>
                    <a:close/>
                    <a:moveTo>
                      <a:pt x="17916" y="4"/>
                    </a:moveTo>
                    <a:lnTo>
                      <a:pt x="17916" y="4"/>
                    </a:lnTo>
                    <a:cubicBezTo>
                      <a:pt x="17917" y="4"/>
                      <a:pt x="17918" y="5"/>
                      <a:pt x="17918" y="6"/>
                    </a:cubicBezTo>
                    <a:cubicBezTo>
                      <a:pt x="17918" y="7"/>
                      <a:pt x="17917" y="8"/>
                      <a:pt x="17916" y="8"/>
                    </a:cubicBezTo>
                    <a:lnTo>
                      <a:pt x="17916" y="8"/>
                    </a:lnTo>
                    <a:cubicBezTo>
                      <a:pt x="17915" y="8"/>
                      <a:pt x="17914" y="7"/>
                      <a:pt x="17914" y="6"/>
                    </a:cubicBezTo>
                    <a:cubicBezTo>
                      <a:pt x="17914" y="5"/>
                      <a:pt x="17915" y="4"/>
                      <a:pt x="17916" y="4"/>
                    </a:cubicBezTo>
                    <a:close/>
                    <a:moveTo>
                      <a:pt x="17924" y="4"/>
                    </a:moveTo>
                    <a:lnTo>
                      <a:pt x="17924" y="4"/>
                    </a:lnTo>
                    <a:cubicBezTo>
                      <a:pt x="17925" y="4"/>
                      <a:pt x="17926" y="5"/>
                      <a:pt x="17926" y="6"/>
                    </a:cubicBezTo>
                    <a:cubicBezTo>
                      <a:pt x="17926" y="7"/>
                      <a:pt x="17925" y="8"/>
                      <a:pt x="17924" y="8"/>
                    </a:cubicBezTo>
                    <a:lnTo>
                      <a:pt x="17924" y="8"/>
                    </a:lnTo>
                    <a:cubicBezTo>
                      <a:pt x="17923" y="8"/>
                      <a:pt x="17922" y="7"/>
                      <a:pt x="17922" y="6"/>
                    </a:cubicBezTo>
                    <a:cubicBezTo>
                      <a:pt x="17922" y="5"/>
                      <a:pt x="17923" y="4"/>
                      <a:pt x="17924" y="4"/>
                    </a:cubicBezTo>
                    <a:close/>
                    <a:moveTo>
                      <a:pt x="17932" y="4"/>
                    </a:moveTo>
                    <a:lnTo>
                      <a:pt x="17932" y="4"/>
                    </a:lnTo>
                    <a:cubicBezTo>
                      <a:pt x="17933" y="4"/>
                      <a:pt x="17934" y="5"/>
                      <a:pt x="17934" y="6"/>
                    </a:cubicBezTo>
                    <a:cubicBezTo>
                      <a:pt x="17934" y="7"/>
                      <a:pt x="17933" y="8"/>
                      <a:pt x="17932" y="8"/>
                    </a:cubicBezTo>
                    <a:lnTo>
                      <a:pt x="17932" y="8"/>
                    </a:lnTo>
                    <a:cubicBezTo>
                      <a:pt x="17931" y="8"/>
                      <a:pt x="17930" y="7"/>
                      <a:pt x="17930" y="6"/>
                    </a:cubicBezTo>
                    <a:cubicBezTo>
                      <a:pt x="17930" y="5"/>
                      <a:pt x="17931" y="4"/>
                      <a:pt x="17932" y="4"/>
                    </a:cubicBezTo>
                    <a:close/>
                    <a:moveTo>
                      <a:pt x="17940" y="4"/>
                    </a:moveTo>
                    <a:lnTo>
                      <a:pt x="17940" y="4"/>
                    </a:lnTo>
                    <a:cubicBezTo>
                      <a:pt x="17941" y="4"/>
                      <a:pt x="17942" y="5"/>
                      <a:pt x="17942" y="6"/>
                    </a:cubicBezTo>
                    <a:cubicBezTo>
                      <a:pt x="17942" y="7"/>
                      <a:pt x="17941" y="8"/>
                      <a:pt x="17940" y="8"/>
                    </a:cubicBezTo>
                    <a:lnTo>
                      <a:pt x="17940" y="8"/>
                    </a:lnTo>
                    <a:cubicBezTo>
                      <a:pt x="17939" y="8"/>
                      <a:pt x="17938" y="7"/>
                      <a:pt x="17938" y="6"/>
                    </a:cubicBezTo>
                    <a:cubicBezTo>
                      <a:pt x="17938" y="5"/>
                      <a:pt x="17939" y="4"/>
                      <a:pt x="17940" y="4"/>
                    </a:cubicBezTo>
                    <a:close/>
                    <a:moveTo>
                      <a:pt x="17948" y="4"/>
                    </a:moveTo>
                    <a:lnTo>
                      <a:pt x="17948" y="4"/>
                    </a:lnTo>
                    <a:cubicBezTo>
                      <a:pt x="17949" y="4"/>
                      <a:pt x="17950" y="5"/>
                      <a:pt x="17950" y="6"/>
                    </a:cubicBezTo>
                    <a:cubicBezTo>
                      <a:pt x="17950" y="7"/>
                      <a:pt x="17949" y="8"/>
                      <a:pt x="17948" y="8"/>
                    </a:cubicBezTo>
                    <a:lnTo>
                      <a:pt x="17948" y="8"/>
                    </a:lnTo>
                    <a:cubicBezTo>
                      <a:pt x="17947" y="8"/>
                      <a:pt x="17946" y="7"/>
                      <a:pt x="17946" y="6"/>
                    </a:cubicBezTo>
                    <a:cubicBezTo>
                      <a:pt x="17946" y="5"/>
                      <a:pt x="17947" y="4"/>
                      <a:pt x="17948" y="4"/>
                    </a:cubicBezTo>
                    <a:close/>
                    <a:moveTo>
                      <a:pt x="17956" y="4"/>
                    </a:moveTo>
                    <a:lnTo>
                      <a:pt x="17956" y="4"/>
                    </a:lnTo>
                    <a:cubicBezTo>
                      <a:pt x="17957" y="4"/>
                      <a:pt x="17958" y="5"/>
                      <a:pt x="17958" y="6"/>
                    </a:cubicBezTo>
                    <a:cubicBezTo>
                      <a:pt x="17958" y="7"/>
                      <a:pt x="17957" y="8"/>
                      <a:pt x="17956" y="8"/>
                    </a:cubicBezTo>
                    <a:lnTo>
                      <a:pt x="17956" y="8"/>
                    </a:lnTo>
                    <a:cubicBezTo>
                      <a:pt x="17955" y="8"/>
                      <a:pt x="17954" y="7"/>
                      <a:pt x="17954" y="6"/>
                    </a:cubicBezTo>
                    <a:cubicBezTo>
                      <a:pt x="17954" y="5"/>
                      <a:pt x="17955" y="4"/>
                      <a:pt x="17956" y="4"/>
                    </a:cubicBezTo>
                    <a:close/>
                    <a:moveTo>
                      <a:pt x="17964" y="4"/>
                    </a:moveTo>
                    <a:lnTo>
                      <a:pt x="17964" y="4"/>
                    </a:lnTo>
                    <a:cubicBezTo>
                      <a:pt x="17965" y="4"/>
                      <a:pt x="17966" y="5"/>
                      <a:pt x="17966" y="6"/>
                    </a:cubicBezTo>
                    <a:cubicBezTo>
                      <a:pt x="17966" y="7"/>
                      <a:pt x="17965" y="8"/>
                      <a:pt x="17964" y="8"/>
                    </a:cubicBezTo>
                    <a:lnTo>
                      <a:pt x="17964" y="8"/>
                    </a:lnTo>
                    <a:cubicBezTo>
                      <a:pt x="17963" y="8"/>
                      <a:pt x="17962" y="7"/>
                      <a:pt x="17962" y="6"/>
                    </a:cubicBezTo>
                    <a:cubicBezTo>
                      <a:pt x="17962" y="5"/>
                      <a:pt x="17963" y="4"/>
                      <a:pt x="17964" y="4"/>
                    </a:cubicBezTo>
                    <a:close/>
                    <a:moveTo>
                      <a:pt x="17972" y="4"/>
                    </a:moveTo>
                    <a:lnTo>
                      <a:pt x="17972" y="4"/>
                    </a:lnTo>
                    <a:cubicBezTo>
                      <a:pt x="17973" y="4"/>
                      <a:pt x="17974" y="5"/>
                      <a:pt x="17974" y="6"/>
                    </a:cubicBezTo>
                    <a:cubicBezTo>
                      <a:pt x="17974" y="7"/>
                      <a:pt x="17973" y="8"/>
                      <a:pt x="17972" y="8"/>
                    </a:cubicBezTo>
                    <a:lnTo>
                      <a:pt x="17972" y="8"/>
                    </a:lnTo>
                    <a:cubicBezTo>
                      <a:pt x="17971" y="8"/>
                      <a:pt x="17970" y="7"/>
                      <a:pt x="17970" y="6"/>
                    </a:cubicBezTo>
                    <a:cubicBezTo>
                      <a:pt x="17970" y="5"/>
                      <a:pt x="17971" y="4"/>
                      <a:pt x="17972" y="4"/>
                    </a:cubicBezTo>
                    <a:close/>
                    <a:moveTo>
                      <a:pt x="17980" y="4"/>
                    </a:moveTo>
                    <a:lnTo>
                      <a:pt x="17980" y="4"/>
                    </a:lnTo>
                    <a:cubicBezTo>
                      <a:pt x="17981" y="4"/>
                      <a:pt x="17982" y="5"/>
                      <a:pt x="17982" y="6"/>
                    </a:cubicBezTo>
                    <a:cubicBezTo>
                      <a:pt x="17982" y="7"/>
                      <a:pt x="17981" y="8"/>
                      <a:pt x="17980" y="8"/>
                    </a:cubicBezTo>
                    <a:lnTo>
                      <a:pt x="17980" y="8"/>
                    </a:lnTo>
                    <a:cubicBezTo>
                      <a:pt x="17979" y="8"/>
                      <a:pt x="17978" y="7"/>
                      <a:pt x="17978" y="6"/>
                    </a:cubicBezTo>
                    <a:cubicBezTo>
                      <a:pt x="17978" y="5"/>
                      <a:pt x="17979" y="4"/>
                      <a:pt x="17980" y="4"/>
                    </a:cubicBezTo>
                    <a:close/>
                    <a:moveTo>
                      <a:pt x="17988" y="4"/>
                    </a:moveTo>
                    <a:lnTo>
                      <a:pt x="17988" y="4"/>
                    </a:lnTo>
                    <a:cubicBezTo>
                      <a:pt x="17989" y="4"/>
                      <a:pt x="17990" y="5"/>
                      <a:pt x="17990" y="6"/>
                    </a:cubicBezTo>
                    <a:cubicBezTo>
                      <a:pt x="17990" y="7"/>
                      <a:pt x="17989" y="8"/>
                      <a:pt x="17988" y="8"/>
                    </a:cubicBezTo>
                    <a:lnTo>
                      <a:pt x="17988" y="8"/>
                    </a:lnTo>
                    <a:cubicBezTo>
                      <a:pt x="17987" y="8"/>
                      <a:pt x="17986" y="7"/>
                      <a:pt x="17986" y="6"/>
                    </a:cubicBezTo>
                    <a:cubicBezTo>
                      <a:pt x="17986" y="5"/>
                      <a:pt x="17987" y="4"/>
                      <a:pt x="17988" y="4"/>
                    </a:cubicBezTo>
                    <a:close/>
                    <a:moveTo>
                      <a:pt x="17996" y="4"/>
                    </a:moveTo>
                    <a:lnTo>
                      <a:pt x="17996" y="4"/>
                    </a:lnTo>
                    <a:cubicBezTo>
                      <a:pt x="17997" y="4"/>
                      <a:pt x="17998" y="5"/>
                      <a:pt x="17998" y="6"/>
                    </a:cubicBezTo>
                    <a:cubicBezTo>
                      <a:pt x="17998" y="7"/>
                      <a:pt x="17997" y="8"/>
                      <a:pt x="17996" y="8"/>
                    </a:cubicBezTo>
                    <a:lnTo>
                      <a:pt x="17996" y="8"/>
                    </a:lnTo>
                    <a:cubicBezTo>
                      <a:pt x="17995" y="8"/>
                      <a:pt x="17994" y="7"/>
                      <a:pt x="17994" y="6"/>
                    </a:cubicBezTo>
                    <a:cubicBezTo>
                      <a:pt x="17994" y="5"/>
                      <a:pt x="17995" y="4"/>
                      <a:pt x="17996" y="4"/>
                    </a:cubicBezTo>
                    <a:close/>
                    <a:moveTo>
                      <a:pt x="18004" y="4"/>
                    </a:moveTo>
                    <a:lnTo>
                      <a:pt x="18004" y="4"/>
                    </a:lnTo>
                    <a:cubicBezTo>
                      <a:pt x="18005" y="4"/>
                      <a:pt x="18006" y="5"/>
                      <a:pt x="18006" y="6"/>
                    </a:cubicBezTo>
                    <a:cubicBezTo>
                      <a:pt x="18006" y="7"/>
                      <a:pt x="18005" y="8"/>
                      <a:pt x="18004" y="8"/>
                    </a:cubicBezTo>
                    <a:lnTo>
                      <a:pt x="18004" y="8"/>
                    </a:lnTo>
                    <a:cubicBezTo>
                      <a:pt x="18003" y="8"/>
                      <a:pt x="18002" y="7"/>
                      <a:pt x="18002" y="6"/>
                    </a:cubicBezTo>
                    <a:cubicBezTo>
                      <a:pt x="18002" y="5"/>
                      <a:pt x="18003" y="4"/>
                      <a:pt x="18004" y="4"/>
                    </a:cubicBezTo>
                    <a:close/>
                    <a:moveTo>
                      <a:pt x="18012" y="4"/>
                    </a:moveTo>
                    <a:lnTo>
                      <a:pt x="18012" y="4"/>
                    </a:lnTo>
                    <a:cubicBezTo>
                      <a:pt x="18013" y="4"/>
                      <a:pt x="18014" y="5"/>
                      <a:pt x="18014" y="6"/>
                    </a:cubicBezTo>
                    <a:cubicBezTo>
                      <a:pt x="18014" y="7"/>
                      <a:pt x="18013" y="8"/>
                      <a:pt x="18012" y="8"/>
                    </a:cubicBezTo>
                    <a:lnTo>
                      <a:pt x="18012" y="8"/>
                    </a:lnTo>
                    <a:cubicBezTo>
                      <a:pt x="18011" y="8"/>
                      <a:pt x="18010" y="7"/>
                      <a:pt x="18010" y="6"/>
                    </a:cubicBezTo>
                    <a:cubicBezTo>
                      <a:pt x="18010" y="5"/>
                      <a:pt x="18011" y="4"/>
                      <a:pt x="18012" y="4"/>
                    </a:cubicBezTo>
                    <a:close/>
                    <a:moveTo>
                      <a:pt x="18020" y="4"/>
                    </a:moveTo>
                    <a:lnTo>
                      <a:pt x="18020" y="4"/>
                    </a:lnTo>
                    <a:cubicBezTo>
                      <a:pt x="18021" y="4"/>
                      <a:pt x="18022" y="5"/>
                      <a:pt x="18022" y="6"/>
                    </a:cubicBezTo>
                    <a:cubicBezTo>
                      <a:pt x="18022" y="7"/>
                      <a:pt x="18021" y="8"/>
                      <a:pt x="18020" y="8"/>
                    </a:cubicBezTo>
                    <a:lnTo>
                      <a:pt x="18020" y="8"/>
                    </a:lnTo>
                    <a:cubicBezTo>
                      <a:pt x="18019" y="8"/>
                      <a:pt x="18018" y="7"/>
                      <a:pt x="18018" y="6"/>
                    </a:cubicBezTo>
                    <a:cubicBezTo>
                      <a:pt x="18018" y="5"/>
                      <a:pt x="18019" y="4"/>
                      <a:pt x="18020" y="4"/>
                    </a:cubicBezTo>
                    <a:close/>
                    <a:moveTo>
                      <a:pt x="18028" y="4"/>
                    </a:moveTo>
                    <a:lnTo>
                      <a:pt x="18028" y="4"/>
                    </a:lnTo>
                    <a:cubicBezTo>
                      <a:pt x="18029" y="4"/>
                      <a:pt x="18030" y="5"/>
                      <a:pt x="18030" y="6"/>
                    </a:cubicBezTo>
                    <a:cubicBezTo>
                      <a:pt x="18030" y="7"/>
                      <a:pt x="18029" y="8"/>
                      <a:pt x="18028" y="8"/>
                    </a:cubicBezTo>
                    <a:lnTo>
                      <a:pt x="18028" y="8"/>
                    </a:lnTo>
                    <a:cubicBezTo>
                      <a:pt x="18027" y="8"/>
                      <a:pt x="18026" y="7"/>
                      <a:pt x="18026" y="6"/>
                    </a:cubicBezTo>
                    <a:cubicBezTo>
                      <a:pt x="18026" y="5"/>
                      <a:pt x="18027" y="4"/>
                      <a:pt x="18028" y="4"/>
                    </a:cubicBezTo>
                    <a:close/>
                    <a:moveTo>
                      <a:pt x="18036" y="4"/>
                    </a:moveTo>
                    <a:lnTo>
                      <a:pt x="18036" y="4"/>
                    </a:lnTo>
                    <a:cubicBezTo>
                      <a:pt x="18037" y="4"/>
                      <a:pt x="18038" y="5"/>
                      <a:pt x="18038" y="6"/>
                    </a:cubicBezTo>
                    <a:cubicBezTo>
                      <a:pt x="18038" y="7"/>
                      <a:pt x="18037" y="8"/>
                      <a:pt x="18036" y="8"/>
                    </a:cubicBezTo>
                    <a:lnTo>
                      <a:pt x="18036" y="8"/>
                    </a:lnTo>
                    <a:cubicBezTo>
                      <a:pt x="18035" y="8"/>
                      <a:pt x="18034" y="7"/>
                      <a:pt x="18034" y="6"/>
                    </a:cubicBezTo>
                    <a:cubicBezTo>
                      <a:pt x="18034" y="5"/>
                      <a:pt x="18035" y="4"/>
                      <a:pt x="18036" y="4"/>
                    </a:cubicBezTo>
                    <a:close/>
                    <a:moveTo>
                      <a:pt x="18044" y="4"/>
                    </a:moveTo>
                    <a:lnTo>
                      <a:pt x="18044" y="4"/>
                    </a:lnTo>
                    <a:cubicBezTo>
                      <a:pt x="18045" y="4"/>
                      <a:pt x="18046" y="5"/>
                      <a:pt x="18046" y="6"/>
                    </a:cubicBezTo>
                    <a:cubicBezTo>
                      <a:pt x="18046" y="7"/>
                      <a:pt x="18045" y="8"/>
                      <a:pt x="18044" y="8"/>
                    </a:cubicBezTo>
                    <a:lnTo>
                      <a:pt x="18044" y="8"/>
                    </a:lnTo>
                    <a:cubicBezTo>
                      <a:pt x="18043" y="8"/>
                      <a:pt x="18042" y="7"/>
                      <a:pt x="18042" y="6"/>
                    </a:cubicBezTo>
                    <a:cubicBezTo>
                      <a:pt x="18042" y="5"/>
                      <a:pt x="18043" y="4"/>
                      <a:pt x="18044" y="4"/>
                    </a:cubicBezTo>
                    <a:close/>
                    <a:moveTo>
                      <a:pt x="18052" y="4"/>
                    </a:moveTo>
                    <a:lnTo>
                      <a:pt x="18052" y="4"/>
                    </a:lnTo>
                    <a:cubicBezTo>
                      <a:pt x="18053" y="4"/>
                      <a:pt x="18054" y="5"/>
                      <a:pt x="18054" y="6"/>
                    </a:cubicBezTo>
                    <a:cubicBezTo>
                      <a:pt x="18054" y="7"/>
                      <a:pt x="18053" y="8"/>
                      <a:pt x="18052" y="8"/>
                    </a:cubicBezTo>
                    <a:lnTo>
                      <a:pt x="18052" y="8"/>
                    </a:lnTo>
                    <a:cubicBezTo>
                      <a:pt x="18051" y="8"/>
                      <a:pt x="18050" y="7"/>
                      <a:pt x="18050" y="6"/>
                    </a:cubicBezTo>
                    <a:cubicBezTo>
                      <a:pt x="18050" y="5"/>
                      <a:pt x="18051" y="4"/>
                      <a:pt x="18052" y="4"/>
                    </a:cubicBezTo>
                    <a:close/>
                    <a:moveTo>
                      <a:pt x="18060" y="4"/>
                    </a:moveTo>
                    <a:lnTo>
                      <a:pt x="18060" y="4"/>
                    </a:lnTo>
                    <a:cubicBezTo>
                      <a:pt x="18061" y="4"/>
                      <a:pt x="18062" y="5"/>
                      <a:pt x="18062" y="6"/>
                    </a:cubicBezTo>
                    <a:cubicBezTo>
                      <a:pt x="18062" y="7"/>
                      <a:pt x="18061" y="8"/>
                      <a:pt x="18060" y="8"/>
                    </a:cubicBezTo>
                    <a:lnTo>
                      <a:pt x="18060" y="8"/>
                    </a:lnTo>
                    <a:cubicBezTo>
                      <a:pt x="18059" y="8"/>
                      <a:pt x="18058" y="7"/>
                      <a:pt x="18058" y="6"/>
                    </a:cubicBezTo>
                    <a:cubicBezTo>
                      <a:pt x="18058" y="5"/>
                      <a:pt x="18059" y="4"/>
                      <a:pt x="18060" y="4"/>
                    </a:cubicBezTo>
                    <a:close/>
                    <a:moveTo>
                      <a:pt x="18068" y="4"/>
                    </a:moveTo>
                    <a:lnTo>
                      <a:pt x="18068" y="4"/>
                    </a:lnTo>
                    <a:cubicBezTo>
                      <a:pt x="18069" y="4"/>
                      <a:pt x="18070" y="5"/>
                      <a:pt x="18070" y="6"/>
                    </a:cubicBezTo>
                    <a:cubicBezTo>
                      <a:pt x="18070" y="7"/>
                      <a:pt x="18069" y="8"/>
                      <a:pt x="18068" y="8"/>
                    </a:cubicBezTo>
                    <a:lnTo>
                      <a:pt x="18068" y="8"/>
                    </a:lnTo>
                    <a:cubicBezTo>
                      <a:pt x="18067" y="8"/>
                      <a:pt x="18066" y="7"/>
                      <a:pt x="18066" y="6"/>
                    </a:cubicBezTo>
                    <a:cubicBezTo>
                      <a:pt x="18066" y="5"/>
                      <a:pt x="18067" y="4"/>
                      <a:pt x="18068" y="4"/>
                    </a:cubicBezTo>
                    <a:close/>
                    <a:moveTo>
                      <a:pt x="18076" y="4"/>
                    </a:moveTo>
                    <a:lnTo>
                      <a:pt x="18076" y="4"/>
                    </a:lnTo>
                    <a:cubicBezTo>
                      <a:pt x="18077" y="4"/>
                      <a:pt x="18078" y="5"/>
                      <a:pt x="18078" y="6"/>
                    </a:cubicBezTo>
                    <a:cubicBezTo>
                      <a:pt x="18078" y="7"/>
                      <a:pt x="18077" y="8"/>
                      <a:pt x="18076" y="8"/>
                    </a:cubicBezTo>
                    <a:lnTo>
                      <a:pt x="18076" y="8"/>
                    </a:lnTo>
                    <a:cubicBezTo>
                      <a:pt x="18075" y="8"/>
                      <a:pt x="18074" y="7"/>
                      <a:pt x="18074" y="6"/>
                    </a:cubicBezTo>
                    <a:cubicBezTo>
                      <a:pt x="18074" y="5"/>
                      <a:pt x="18075" y="4"/>
                      <a:pt x="18076" y="4"/>
                    </a:cubicBezTo>
                    <a:close/>
                    <a:moveTo>
                      <a:pt x="18084" y="4"/>
                    </a:moveTo>
                    <a:lnTo>
                      <a:pt x="18084" y="4"/>
                    </a:lnTo>
                    <a:cubicBezTo>
                      <a:pt x="18085" y="4"/>
                      <a:pt x="18086" y="5"/>
                      <a:pt x="18086" y="6"/>
                    </a:cubicBezTo>
                    <a:cubicBezTo>
                      <a:pt x="18086" y="7"/>
                      <a:pt x="18085" y="8"/>
                      <a:pt x="18084" y="8"/>
                    </a:cubicBezTo>
                    <a:lnTo>
                      <a:pt x="18084" y="8"/>
                    </a:lnTo>
                    <a:cubicBezTo>
                      <a:pt x="18083" y="8"/>
                      <a:pt x="18082" y="7"/>
                      <a:pt x="18082" y="6"/>
                    </a:cubicBezTo>
                    <a:cubicBezTo>
                      <a:pt x="18082" y="5"/>
                      <a:pt x="18083" y="4"/>
                      <a:pt x="18084" y="4"/>
                    </a:cubicBezTo>
                    <a:close/>
                    <a:moveTo>
                      <a:pt x="18092" y="4"/>
                    </a:moveTo>
                    <a:lnTo>
                      <a:pt x="18092" y="4"/>
                    </a:lnTo>
                    <a:cubicBezTo>
                      <a:pt x="18093" y="4"/>
                      <a:pt x="18094" y="5"/>
                      <a:pt x="18094" y="6"/>
                    </a:cubicBezTo>
                    <a:cubicBezTo>
                      <a:pt x="18094" y="7"/>
                      <a:pt x="18093" y="8"/>
                      <a:pt x="18092" y="8"/>
                    </a:cubicBezTo>
                    <a:lnTo>
                      <a:pt x="18092" y="8"/>
                    </a:lnTo>
                    <a:cubicBezTo>
                      <a:pt x="18091" y="8"/>
                      <a:pt x="18090" y="7"/>
                      <a:pt x="18090" y="6"/>
                    </a:cubicBezTo>
                    <a:cubicBezTo>
                      <a:pt x="18090" y="5"/>
                      <a:pt x="18091" y="4"/>
                      <a:pt x="18092" y="4"/>
                    </a:cubicBezTo>
                    <a:close/>
                    <a:moveTo>
                      <a:pt x="18100" y="4"/>
                    </a:moveTo>
                    <a:lnTo>
                      <a:pt x="18100" y="4"/>
                    </a:lnTo>
                    <a:cubicBezTo>
                      <a:pt x="18101" y="4"/>
                      <a:pt x="18102" y="5"/>
                      <a:pt x="18102" y="6"/>
                    </a:cubicBezTo>
                    <a:cubicBezTo>
                      <a:pt x="18102" y="7"/>
                      <a:pt x="18101" y="8"/>
                      <a:pt x="18100" y="8"/>
                    </a:cubicBezTo>
                    <a:lnTo>
                      <a:pt x="18100" y="8"/>
                    </a:lnTo>
                    <a:cubicBezTo>
                      <a:pt x="18099" y="8"/>
                      <a:pt x="18098" y="7"/>
                      <a:pt x="18098" y="6"/>
                    </a:cubicBezTo>
                    <a:cubicBezTo>
                      <a:pt x="18098" y="5"/>
                      <a:pt x="18099" y="4"/>
                      <a:pt x="18100" y="4"/>
                    </a:cubicBezTo>
                    <a:close/>
                    <a:moveTo>
                      <a:pt x="18108" y="4"/>
                    </a:moveTo>
                    <a:lnTo>
                      <a:pt x="18108" y="4"/>
                    </a:lnTo>
                    <a:cubicBezTo>
                      <a:pt x="18109" y="4"/>
                      <a:pt x="18110" y="5"/>
                      <a:pt x="18110" y="6"/>
                    </a:cubicBezTo>
                    <a:cubicBezTo>
                      <a:pt x="18110" y="7"/>
                      <a:pt x="18109" y="8"/>
                      <a:pt x="18108" y="8"/>
                    </a:cubicBezTo>
                    <a:lnTo>
                      <a:pt x="18108" y="8"/>
                    </a:lnTo>
                    <a:cubicBezTo>
                      <a:pt x="18107" y="8"/>
                      <a:pt x="18106" y="7"/>
                      <a:pt x="18106" y="6"/>
                    </a:cubicBezTo>
                    <a:cubicBezTo>
                      <a:pt x="18106" y="5"/>
                      <a:pt x="18107" y="4"/>
                      <a:pt x="18108" y="4"/>
                    </a:cubicBezTo>
                    <a:close/>
                    <a:moveTo>
                      <a:pt x="18116" y="4"/>
                    </a:moveTo>
                    <a:lnTo>
                      <a:pt x="18116" y="4"/>
                    </a:lnTo>
                    <a:cubicBezTo>
                      <a:pt x="18117" y="4"/>
                      <a:pt x="18118" y="5"/>
                      <a:pt x="18118" y="6"/>
                    </a:cubicBezTo>
                    <a:cubicBezTo>
                      <a:pt x="18118" y="7"/>
                      <a:pt x="18117" y="8"/>
                      <a:pt x="18116" y="8"/>
                    </a:cubicBezTo>
                    <a:lnTo>
                      <a:pt x="18116" y="8"/>
                    </a:lnTo>
                    <a:cubicBezTo>
                      <a:pt x="18115" y="8"/>
                      <a:pt x="18114" y="7"/>
                      <a:pt x="18114" y="6"/>
                    </a:cubicBezTo>
                    <a:cubicBezTo>
                      <a:pt x="18114" y="5"/>
                      <a:pt x="18115" y="4"/>
                      <a:pt x="18116" y="4"/>
                    </a:cubicBezTo>
                    <a:close/>
                    <a:moveTo>
                      <a:pt x="18124" y="4"/>
                    </a:moveTo>
                    <a:lnTo>
                      <a:pt x="18124" y="4"/>
                    </a:lnTo>
                    <a:cubicBezTo>
                      <a:pt x="18125" y="4"/>
                      <a:pt x="18126" y="5"/>
                      <a:pt x="18126" y="6"/>
                    </a:cubicBezTo>
                    <a:cubicBezTo>
                      <a:pt x="18126" y="7"/>
                      <a:pt x="18125" y="8"/>
                      <a:pt x="18124" y="8"/>
                    </a:cubicBezTo>
                    <a:lnTo>
                      <a:pt x="18124" y="8"/>
                    </a:lnTo>
                    <a:cubicBezTo>
                      <a:pt x="18123" y="8"/>
                      <a:pt x="18122" y="7"/>
                      <a:pt x="18122" y="6"/>
                    </a:cubicBezTo>
                    <a:cubicBezTo>
                      <a:pt x="18122" y="5"/>
                      <a:pt x="18123" y="4"/>
                      <a:pt x="18124" y="4"/>
                    </a:cubicBezTo>
                    <a:close/>
                    <a:moveTo>
                      <a:pt x="18132" y="4"/>
                    </a:moveTo>
                    <a:lnTo>
                      <a:pt x="18132" y="4"/>
                    </a:lnTo>
                    <a:cubicBezTo>
                      <a:pt x="18133" y="4"/>
                      <a:pt x="18134" y="5"/>
                      <a:pt x="18134" y="6"/>
                    </a:cubicBezTo>
                    <a:cubicBezTo>
                      <a:pt x="18134" y="7"/>
                      <a:pt x="18133" y="8"/>
                      <a:pt x="18132" y="8"/>
                    </a:cubicBezTo>
                    <a:lnTo>
                      <a:pt x="18132" y="8"/>
                    </a:lnTo>
                    <a:cubicBezTo>
                      <a:pt x="18131" y="8"/>
                      <a:pt x="18130" y="7"/>
                      <a:pt x="18130" y="6"/>
                    </a:cubicBezTo>
                    <a:cubicBezTo>
                      <a:pt x="18130" y="5"/>
                      <a:pt x="18131" y="4"/>
                      <a:pt x="18132" y="4"/>
                    </a:cubicBezTo>
                    <a:close/>
                    <a:moveTo>
                      <a:pt x="18140" y="4"/>
                    </a:moveTo>
                    <a:lnTo>
                      <a:pt x="18140" y="4"/>
                    </a:lnTo>
                    <a:cubicBezTo>
                      <a:pt x="18141" y="4"/>
                      <a:pt x="18142" y="5"/>
                      <a:pt x="18142" y="6"/>
                    </a:cubicBezTo>
                    <a:cubicBezTo>
                      <a:pt x="18142" y="7"/>
                      <a:pt x="18141" y="8"/>
                      <a:pt x="18140" y="8"/>
                    </a:cubicBezTo>
                    <a:lnTo>
                      <a:pt x="18140" y="8"/>
                    </a:lnTo>
                    <a:cubicBezTo>
                      <a:pt x="18139" y="8"/>
                      <a:pt x="18138" y="7"/>
                      <a:pt x="18138" y="6"/>
                    </a:cubicBezTo>
                    <a:cubicBezTo>
                      <a:pt x="18138" y="5"/>
                      <a:pt x="18139" y="4"/>
                      <a:pt x="18140" y="4"/>
                    </a:cubicBezTo>
                    <a:close/>
                    <a:moveTo>
                      <a:pt x="18148" y="4"/>
                    </a:moveTo>
                    <a:lnTo>
                      <a:pt x="18148" y="4"/>
                    </a:lnTo>
                    <a:cubicBezTo>
                      <a:pt x="18149" y="4"/>
                      <a:pt x="18150" y="5"/>
                      <a:pt x="18150" y="6"/>
                    </a:cubicBezTo>
                    <a:cubicBezTo>
                      <a:pt x="18150" y="7"/>
                      <a:pt x="18149" y="8"/>
                      <a:pt x="18148" y="8"/>
                    </a:cubicBezTo>
                    <a:lnTo>
                      <a:pt x="18148" y="8"/>
                    </a:lnTo>
                    <a:cubicBezTo>
                      <a:pt x="18147" y="8"/>
                      <a:pt x="18146" y="7"/>
                      <a:pt x="18146" y="6"/>
                    </a:cubicBezTo>
                    <a:cubicBezTo>
                      <a:pt x="18146" y="5"/>
                      <a:pt x="18147" y="4"/>
                      <a:pt x="18148" y="4"/>
                    </a:cubicBezTo>
                    <a:close/>
                    <a:moveTo>
                      <a:pt x="18156" y="4"/>
                    </a:moveTo>
                    <a:lnTo>
                      <a:pt x="18156" y="4"/>
                    </a:lnTo>
                    <a:cubicBezTo>
                      <a:pt x="18157" y="4"/>
                      <a:pt x="18158" y="5"/>
                      <a:pt x="18158" y="6"/>
                    </a:cubicBezTo>
                    <a:cubicBezTo>
                      <a:pt x="18158" y="7"/>
                      <a:pt x="18157" y="8"/>
                      <a:pt x="18156" y="8"/>
                    </a:cubicBezTo>
                    <a:lnTo>
                      <a:pt x="18156" y="8"/>
                    </a:lnTo>
                    <a:cubicBezTo>
                      <a:pt x="18155" y="8"/>
                      <a:pt x="18154" y="7"/>
                      <a:pt x="18154" y="6"/>
                    </a:cubicBezTo>
                    <a:cubicBezTo>
                      <a:pt x="18154" y="5"/>
                      <a:pt x="18155" y="4"/>
                      <a:pt x="18156" y="4"/>
                    </a:cubicBezTo>
                    <a:close/>
                    <a:moveTo>
                      <a:pt x="18164" y="4"/>
                    </a:moveTo>
                    <a:lnTo>
                      <a:pt x="18164" y="4"/>
                    </a:lnTo>
                    <a:cubicBezTo>
                      <a:pt x="18165" y="4"/>
                      <a:pt x="18166" y="5"/>
                      <a:pt x="18166" y="6"/>
                    </a:cubicBezTo>
                    <a:cubicBezTo>
                      <a:pt x="18166" y="7"/>
                      <a:pt x="18165" y="8"/>
                      <a:pt x="18164" y="8"/>
                    </a:cubicBezTo>
                    <a:lnTo>
                      <a:pt x="18164" y="8"/>
                    </a:lnTo>
                    <a:cubicBezTo>
                      <a:pt x="18163" y="8"/>
                      <a:pt x="18162" y="7"/>
                      <a:pt x="18162" y="6"/>
                    </a:cubicBezTo>
                    <a:cubicBezTo>
                      <a:pt x="18162" y="5"/>
                      <a:pt x="18163" y="4"/>
                      <a:pt x="18164" y="4"/>
                    </a:cubicBezTo>
                    <a:close/>
                    <a:moveTo>
                      <a:pt x="18172" y="4"/>
                    </a:moveTo>
                    <a:lnTo>
                      <a:pt x="18172" y="4"/>
                    </a:lnTo>
                    <a:cubicBezTo>
                      <a:pt x="18173" y="4"/>
                      <a:pt x="18174" y="5"/>
                      <a:pt x="18174" y="6"/>
                    </a:cubicBezTo>
                    <a:cubicBezTo>
                      <a:pt x="18174" y="7"/>
                      <a:pt x="18173" y="8"/>
                      <a:pt x="18172" y="8"/>
                    </a:cubicBezTo>
                    <a:lnTo>
                      <a:pt x="18172" y="8"/>
                    </a:lnTo>
                    <a:cubicBezTo>
                      <a:pt x="18171" y="8"/>
                      <a:pt x="18170" y="7"/>
                      <a:pt x="18170" y="6"/>
                    </a:cubicBezTo>
                    <a:cubicBezTo>
                      <a:pt x="18170" y="5"/>
                      <a:pt x="18171" y="4"/>
                      <a:pt x="18172" y="4"/>
                    </a:cubicBezTo>
                    <a:close/>
                    <a:moveTo>
                      <a:pt x="18180" y="4"/>
                    </a:moveTo>
                    <a:lnTo>
                      <a:pt x="18180" y="4"/>
                    </a:lnTo>
                    <a:cubicBezTo>
                      <a:pt x="18181" y="4"/>
                      <a:pt x="18182" y="5"/>
                      <a:pt x="18182" y="6"/>
                    </a:cubicBezTo>
                    <a:cubicBezTo>
                      <a:pt x="18182" y="7"/>
                      <a:pt x="18181" y="8"/>
                      <a:pt x="18180" y="8"/>
                    </a:cubicBezTo>
                    <a:lnTo>
                      <a:pt x="18180" y="8"/>
                    </a:lnTo>
                    <a:cubicBezTo>
                      <a:pt x="18179" y="8"/>
                      <a:pt x="18178" y="7"/>
                      <a:pt x="18178" y="6"/>
                    </a:cubicBezTo>
                    <a:cubicBezTo>
                      <a:pt x="18178" y="5"/>
                      <a:pt x="18179" y="4"/>
                      <a:pt x="18180" y="4"/>
                    </a:cubicBezTo>
                    <a:close/>
                    <a:moveTo>
                      <a:pt x="18188" y="4"/>
                    </a:moveTo>
                    <a:lnTo>
                      <a:pt x="18188" y="4"/>
                    </a:lnTo>
                    <a:cubicBezTo>
                      <a:pt x="18189" y="4"/>
                      <a:pt x="18190" y="5"/>
                      <a:pt x="18190" y="6"/>
                    </a:cubicBezTo>
                    <a:cubicBezTo>
                      <a:pt x="18190" y="7"/>
                      <a:pt x="18189" y="8"/>
                      <a:pt x="18188" y="8"/>
                    </a:cubicBezTo>
                    <a:lnTo>
                      <a:pt x="18188" y="8"/>
                    </a:lnTo>
                    <a:cubicBezTo>
                      <a:pt x="18187" y="8"/>
                      <a:pt x="18186" y="7"/>
                      <a:pt x="18186" y="6"/>
                    </a:cubicBezTo>
                    <a:cubicBezTo>
                      <a:pt x="18186" y="5"/>
                      <a:pt x="18187" y="4"/>
                      <a:pt x="18188" y="4"/>
                    </a:cubicBezTo>
                    <a:close/>
                    <a:moveTo>
                      <a:pt x="18196" y="4"/>
                    </a:moveTo>
                    <a:lnTo>
                      <a:pt x="18196" y="4"/>
                    </a:lnTo>
                    <a:cubicBezTo>
                      <a:pt x="18197" y="4"/>
                      <a:pt x="18198" y="5"/>
                      <a:pt x="18198" y="6"/>
                    </a:cubicBezTo>
                    <a:cubicBezTo>
                      <a:pt x="18198" y="7"/>
                      <a:pt x="18197" y="8"/>
                      <a:pt x="18196" y="8"/>
                    </a:cubicBezTo>
                    <a:lnTo>
                      <a:pt x="18196" y="8"/>
                    </a:lnTo>
                    <a:cubicBezTo>
                      <a:pt x="18195" y="8"/>
                      <a:pt x="18194" y="7"/>
                      <a:pt x="18194" y="6"/>
                    </a:cubicBezTo>
                    <a:cubicBezTo>
                      <a:pt x="18194" y="5"/>
                      <a:pt x="18195" y="4"/>
                      <a:pt x="18196" y="4"/>
                    </a:cubicBezTo>
                    <a:close/>
                    <a:moveTo>
                      <a:pt x="18204" y="4"/>
                    </a:moveTo>
                    <a:lnTo>
                      <a:pt x="18204" y="4"/>
                    </a:lnTo>
                    <a:cubicBezTo>
                      <a:pt x="18205" y="4"/>
                      <a:pt x="18206" y="5"/>
                      <a:pt x="18206" y="6"/>
                    </a:cubicBezTo>
                    <a:cubicBezTo>
                      <a:pt x="18206" y="7"/>
                      <a:pt x="18205" y="8"/>
                      <a:pt x="18204" y="8"/>
                    </a:cubicBezTo>
                    <a:lnTo>
                      <a:pt x="18204" y="8"/>
                    </a:lnTo>
                    <a:cubicBezTo>
                      <a:pt x="18203" y="8"/>
                      <a:pt x="18202" y="7"/>
                      <a:pt x="18202" y="6"/>
                    </a:cubicBezTo>
                    <a:cubicBezTo>
                      <a:pt x="18202" y="5"/>
                      <a:pt x="18203" y="4"/>
                      <a:pt x="18204" y="4"/>
                    </a:cubicBezTo>
                    <a:close/>
                    <a:moveTo>
                      <a:pt x="18212" y="4"/>
                    </a:moveTo>
                    <a:lnTo>
                      <a:pt x="18212" y="4"/>
                    </a:lnTo>
                    <a:cubicBezTo>
                      <a:pt x="18214" y="4"/>
                      <a:pt x="18214" y="5"/>
                      <a:pt x="18214" y="6"/>
                    </a:cubicBezTo>
                    <a:cubicBezTo>
                      <a:pt x="18214" y="7"/>
                      <a:pt x="18214" y="8"/>
                      <a:pt x="18212" y="8"/>
                    </a:cubicBezTo>
                    <a:lnTo>
                      <a:pt x="18212" y="8"/>
                    </a:lnTo>
                    <a:cubicBezTo>
                      <a:pt x="18211" y="8"/>
                      <a:pt x="18210" y="7"/>
                      <a:pt x="18210" y="6"/>
                    </a:cubicBezTo>
                    <a:cubicBezTo>
                      <a:pt x="18210" y="5"/>
                      <a:pt x="18211" y="4"/>
                      <a:pt x="18212" y="4"/>
                    </a:cubicBezTo>
                    <a:close/>
                    <a:moveTo>
                      <a:pt x="18220" y="4"/>
                    </a:moveTo>
                    <a:lnTo>
                      <a:pt x="18220" y="4"/>
                    </a:lnTo>
                    <a:cubicBezTo>
                      <a:pt x="18222" y="4"/>
                      <a:pt x="18222" y="5"/>
                      <a:pt x="18222" y="6"/>
                    </a:cubicBezTo>
                    <a:cubicBezTo>
                      <a:pt x="18222" y="7"/>
                      <a:pt x="18222" y="8"/>
                      <a:pt x="18220" y="8"/>
                    </a:cubicBezTo>
                    <a:lnTo>
                      <a:pt x="18220" y="8"/>
                    </a:lnTo>
                    <a:cubicBezTo>
                      <a:pt x="18219" y="8"/>
                      <a:pt x="18218" y="7"/>
                      <a:pt x="18218" y="6"/>
                    </a:cubicBezTo>
                    <a:cubicBezTo>
                      <a:pt x="18218" y="5"/>
                      <a:pt x="18219" y="4"/>
                      <a:pt x="18220" y="4"/>
                    </a:cubicBezTo>
                    <a:close/>
                    <a:moveTo>
                      <a:pt x="18228" y="4"/>
                    </a:moveTo>
                    <a:lnTo>
                      <a:pt x="18228" y="4"/>
                    </a:lnTo>
                    <a:cubicBezTo>
                      <a:pt x="18230" y="4"/>
                      <a:pt x="18230" y="5"/>
                      <a:pt x="18230" y="6"/>
                    </a:cubicBezTo>
                    <a:cubicBezTo>
                      <a:pt x="18230" y="7"/>
                      <a:pt x="18230" y="8"/>
                      <a:pt x="18228" y="8"/>
                    </a:cubicBezTo>
                    <a:lnTo>
                      <a:pt x="18228" y="8"/>
                    </a:lnTo>
                    <a:cubicBezTo>
                      <a:pt x="18227" y="8"/>
                      <a:pt x="18226" y="7"/>
                      <a:pt x="18226" y="6"/>
                    </a:cubicBezTo>
                    <a:cubicBezTo>
                      <a:pt x="18226" y="5"/>
                      <a:pt x="18227" y="4"/>
                      <a:pt x="18228" y="4"/>
                    </a:cubicBezTo>
                    <a:close/>
                    <a:moveTo>
                      <a:pt x="18236" y="4"/>
                    </a:moveTo>
                    <a:lnTo>
                      <a:pt x="18236" y="4"/>
                    </a:lnTo>
                    <a:cubicBezTo>
                      <a:pt x="18238" y="4"/>
                      <a:pt x="18238" y="5"/>
                      <a:pt x="18238" y="6"/>
                    </a:cubicBezTo>
                    <a:cubicBezTo>
                      <a:pt x="18238" y="7"/>
                      <a:pt x="18238" y="8"/>
                      <a:pt x="18236" y="8"/>
                    </a:cubicBezTo>
                    <a:lnTo>
                      <a:pt x="18236" y="8"/>
                    </a:lnTo>
                    <a:cubicBezTo>
                      <a:pt x="18235" y="8"/>
                      <a:pt x="18234" y="7"/>
                      <a:pt x="18234" y="6"/>
                    </a:cubicBezTo>
                    <a:cubicBezTo>
                      <a:pt x="18234" y="5"/>
                      <a:pt x="18235" y="4"/>
                      <a:pt x="18236" y="4"/>
                    </a:cubicBezTo>
                    <a:close/>
                    <a:moveTo>
                      <a:pt x="18244" y="4"/>
                    </a:moveTo>
                    <a:lnTo>
                      <a:pt x="18244" y="4"/>
                    </a:lnTo>
                    <a:cubicBezTo>
                      <a:pt x="18246" y="4"/>
                      <a:pt x="18246" y="5"/>
                      <a:pt x="18246" y="6"/>
                    </a:cubicBezTo>
                    <a:cubicBezTo>
                      <a:pt x="18246" y="7"/>
                      <a:pt x="18246" y="8"/>
                      <a:pt x="18244" y="8"/>
                    </a:cubicBezTo>
                    <a:lnTo>
                      <a:pt x="18244" y="8"/>
                    </a:lnTo>
                    <a:cubicBezTo>
                      <a:pt x="18243" y="8"/>
                      <a:pt x="18242" y="7"/>
                      <a:pt x="18242" y="6"/>
                    </a:cubicBezTo>
                    <a:cubicBezTo>
                      <a:pt x="18242" y="5"/>
                      <a:pt x="18243" y="4"/>
                      <a:pt x="18244" y="4"/>
                    </a:cubicBezTo>
                    <a:close/>
                    <a:moveTo>
                      <a:pt x="18252" y="4"/>
                    </a:moveTo>
                    <a:lnTo>
                      <a:pt x="18252" y="4"/>
                    </a:lnTo>
                    <a:cubicBezTo>
                      <a:pt x="18254" y="4"/>
                      <a:pt x="18254" y="5"/>
                      <a:pt x="18254" y="6"/>
                    </a:cubicBezTo>
                    <a:cubicBezTo>
                      <a:pt x="18254" y="7"/>
                      <a:pt x="18254" y="8"/>
                      <a:pt x="18252" y="8"/>
                    </a:cubicBezTo>
                    <a:lnTo>
                      <a:pt x="18252" y="8"/>
                    </a:lnTo>
                    <a:cubicBezTo>
                      <a:pt x="18251" y="8"/>
                      <a:pt x="18250" y="7"/>
                      <a:pt x="18250" y="6"/>
                    </a:cubicBezTo>
                    <a:cubicBezTo>
                      <a:pt x="18250" y="5"/>
                      <a:pt x="18251" y="4"/>
                      <a:pt x="18252" y="4"/>
                    </a:cubicBezTo>
                    <a:close/>
                    <a:moveTo>
                      <a:pt x="18260" y="4"/>
                    </a:moveTo>
                    <a:lnTo>
                      <a:pt x="18260" y="4"/>
                    </a:lnTo>
                    <a:cubicBezTo>
                      <a:pt x="18262" y="4"/>
                      <a:pt x="18262" y="5"/>
                      <a:pt x="18262" y="6"/>
                    </a:cubicBezTo>
                    <a:cubicBezTo>
                      <a:pt x="18262" y="7"/>
                      <a:pt x="18262" y="8"/>
                      <a:pt x="18260" y="8"/>
                    </a:cubicBezTo>
                    <a:lnTo>
                      <a:pt x="18260" y="8"/>
                    </a:lnTo>
                    <a:cubicBezTo>
                      <a:pt x="18259" y="8"/>
                      <a:pt x="18258" y="7"/>
                      <a:pt x="18258" y="6"/>
                    </a:cubicBezTo>
                    <a:cubicBezTo>
                      <a:pt x="18258" y="5"/>
                      <a:pt x="18259" y="4"/>
                      <a:pt x="18260" y="4"/>
                    </a:cubicBezTo>
                    <a:close/>
                    <a:moveTo>
                      <a:pt x="18268" y="4"/>
                    </a:moveTo>
                    <a:lnTo>
                      <a:pt x="18268" y="4"/>
                    </a:lnTo>
                    <a:cubicBezTo>
                      <a:pt x="18270" y="4"/>
                      <a:pt x="18270" y="5"/>
                      <a:pt x="18270" y="6"/>
                    </a:cubicBezTo>
                    <a:cubicBezTo>
                      <a:pt x="18270" y="7"/>
                      <a:pt x="18270" y="8"/>
                      <a:pt x="18268" y="8"/>
                    </a:cubicBezTo>
                    <a:lnTo>
                      <a:pt x="18268" y="8"/>
                    </a:lnTo>
                    <a:cubicBezTo>
                      <a:pt x="18267" y="8"/>
                      <a:pt x="18266" y="7"/>
                      <a:pt x="18266" y="6"/>
                    </a:cubicBezTo>
                    <a:cubicBezTo>
                      <a:pt x="18266" y="5"/>
                      <a:pt x="18267" y="4"/>
                      <a:pt x="18268" y="4"/>
                    </a:cubicBezTo>
                    <a:close/>
                    <a:moveTo>
                      <a:pt x="18276" y="4"/>
                    </a:moveTo>
                    <a:lnTo>
                      <a:pt x="18276" y="4"/>
                    </a:lnTo>
                    <a:cubicBezTo>
                      <a:pt x="18278" y="4"/>
                      <a:pt x="18278" y="5"/>
                      <a:pt x="18278" y="6"/>
                    </a:cubicBezTo>
                    <a:cubicBezTo>
                      <a:pt x="18278" y="7"/>
                      <a:pt x="18278" y="8"/>
                      <a:pt x="18276" y="8"/>
                    </a:cubicBezTo>
                    <a:lnTo>
                      <a:pt x="18276" y="8"/>
                    </a:lnTo>
                    <a:cubicBezTo>
                      <a:pt x="18275" y="8"/>
                      <a:pt x="18274" y="7"/>
                      <a:pt x="18274" y="6"/>
                    </a:cubicBezTo>
                    <a:cubicBezTo>
                      <a:pt x="18274" y="5"/>
                      <a:pt x="18275" y="4"/>
                      <a:pt x="18276" y="4"/>
                    </a:cubicBezTo>
                    <a:close/>
                    <a:moveTo>
                      <a:pt x="18284" y="4"/>
                    </a:moveTo>
                    <a:lnTo>
                      <a:pt x="18284" y="4"/>
                    </a:lnTo>
                    <a:cubicBezTo>
                      <a:pt x="18286" y="4"/>
                      <a:pt x="18286" y="5"/>
                      <a:pt x="18286" y="6"/>
                    </a:cubicBezTo>
                    <a:cubicBezTo>
                      <a:pt x="18286" y="7"/>
                      <a:pt x="18286" y="8"/>
                      <a:pt x="18284" y="8"/>
                    </a:cubicBezTo>
                    <a:lnTo>
                      <a:pt x="18284" y="8"/>
                    </a:lnTo>
                    <a:cubicBezTo>
                      <a:pt x="18283" y="8"/>
                      <a:pt x="18282" y="7"/>
                      <a:pt x="18282" y="6"/>
                    </a:cubicBezTo>
                    <a:cubicBezTo>
                      <a:pt x="18282" y="5"/>
                      <a:pt x="18283" y="4"/>
                      <a:pt x="18284" y="4"/>
                    </a:cubicBezTo>
                    <a:close/>
                    <a:moveTo>
                      <a:pt x="18292" y="4"/>
                    </a:moveTo>
                    <a:lnTo>
                      <a:pt x="18292" y="4"/>
                    </a:lnTo>
                    <a:cubicBezTo>
                      <a:pt x="18294" y="4"/>
                      <a:pt x="18294" y="5"/>
                      <a:pt x="18294" y="6"/>
                    </a:cubicBezTo>
                    <a:cubicBezTo>
                      <a:pt x="18294" y="7"/>
                      <a:pt x="18294" y="8"/>
                      <a:pt x="18292" y="8"/>
                    </a:cubicBezTo>
                    <a:lnTo>
                      <a:pt x="18292" y="8"/>
                    </a:lnTo>
                    <a:cubicBezTo>
                      <a:pt x="18291" y="8"/>
                      <a:pt x="18290" y="7"/>
                      <a:pt x="18290" y="6"/>
                    </a:cubicBezTo>
                    <a:cubicBezTo>
                      <a:pt x="18290" y="5"/>
                      <a:pt x="18291" y="4"/>
                      <a:pt x="18292" y="4"/>
                    </a:cubicBezTo>
                    <a:close/>
                    <a:moveTo>
                      <a:pt x="18300" y="4"/>
                    </a:moveTo>
                    <a:lnTo>
                      <a:pt x="18300" y="4"/>
                    </a:lnTo>
                    <a:cubicBezTo>
                      <a:pt x="18302" y="4"/>
                      <a:pt x="18302" y="5"/>
                      <a:pt x="18302" y="6"/>
                    </a:cubicBezTo>
                    <a:cubicBezTo>
                      <a:pt x="18302" y="7"/>
                      <a:pt x="18302" y="8"/>
                      <a:pt x="18300" y="8"/>
                    </a:cubicBezTo>
                    <a:lnTo>
                      <a:pt x="18300" y="8"/>
                    </a:lnTo>
                    <a:cubicBezTo>
                      <a:pt x="18299" y="8"/>
                      <a:pt x="18298" y="7"/>
                      <a:pt x="18298" y="6"/>
                    </a:cubicBezTo>
                    <a:cubicBezTo>
                      <a:pt x="18298" y="5"/>
                      <a:pt x="18299" y="4"/>
                      <a:pt x="18300" y="4"/>
                    </a:cubicBezTo>
                    <a:close/>
                    <a:moveTo>
                      <a:pt x="18308" y="4"/>
                    </a:moveTo>
                    <a:lnTo>
                      <a:pt x="18308" y="4"/>
                    </a:lnTo>
                    <a:cubicBezTo>
                      <a:pt x="18310" y="4"/>
                      <a:pt x="18310" y="5"/>
                      <a:pt x="18310" y="6"/>
                    </a:cubicBezTo>
                    <a:cubicBezTo>
                      <a:pt x="18310" y="7"/>
                      <a:pt x="18310" y="8"/>
                      <a:pt x="18308" y="8"/>
                    </a:cubicBezTo>
                    <a:lnTo>
                      <a:pt x="18308" y="8"/>
                    </a:lnTo>
                    <a:cubicBezTo>
                      <a:pt x="18307" y="8"/>
                      <a:pt x="18306" y="7"/>
                      <a:pt x="18306" y="6"/>
                    </a:cubicBezTo>
                    <a:cubicBezTo>
                      <a:pt x="18306" y="5"/>
                      <a:pt x="18307" y="4"/>
                      <a:pt x="18308" y="4"/>
                    </a:cubicBezTo>
                    <a:close/>
                    <a:moveTo>
                      <a:pt x="18316" y="4"/>
                    </a:moveTo>
                    <a:lnTo>
                      <a:pt x="18317" y="4"/>
                    </a:lnTo>
                    <a:cubicBezTo>
                      <a:pt x="18318" y="4"/>
                      <a:pt x="18319" y="5"/>
                      <a:pt x="18319" y="6"/>
                    </a:cubicBezTo>
                    <a:cubicBezTo>
                      <a:pt x="18319" y="7"/>
                      <a:pt x="18318" y="8"/>
                      <a:pt x="18317" y="8"/>
                    </a:cubicBezTo>
                    <a:lnTo>
                      <a:pt x="18316" y="8"/>
                    </a:lnTo>
                    <a:cubicBezTo>
                      <a:pt x="18315" y="8"/>
                      <a:pt x="18314" y="7"/>
                      <a:pt x="18314" y="6"/>
                    </a:cubicBezTo>
                    <a:cubicBezTo>
                      <a:pt x="18314" y="5"/>
                      <a:pt x="18315" y="4"/>
                      <a:pt x="18316" y="4"/>
                    </a:cubicBezTo>
                    <a:close/>
                    <a:moveTo>
                      <a:pt x="18325" y="4"/>
                    </a:moveTo>
                    <a:lnTo>
                      <a:pt x="18325" y="4"/>
                    </a:lnTo>
                    <a:cubicBezTo>
                      <a:pt x="18326" y="4"/>
                      <a:pt x="18327" y="5"/>
                      <a:pt x="18327" y="6"/>
                    </a:cubicBezTo>
                    <a:cubicBezTo>
                      <a:pt x="18327" y="7"/>
                      <a:pt x="18326" y="8"/>
                      <a:pt x="18325" y="8"/>
                    </a:cubicBezTo>
                    <a:lnTo>
                      <a:pt x="18325" y="8"/>
                    </a:lnTo>
                    <a:cubicBezTo>
                      <a:pt x="18323" y="8"/>
                      <a:pt x="18323" y="7"/>
                      <a:pt x="18323" y="6"/>
                    </a:cubicBezTo>
                    <a:cubicBezTo>
                      <a:pt x="18323" y="5"/>
                      <a:pt x="18323" y="4"/>
                      <a:pt x="18325" y="4"/>
                    </a:cubicBezTo>
                    <a:close/>
                    <a:moveTo>
                      <a:pt x="18333" y="4"/>
                    </a:moveTo>
                    <a:lnTo>
                      <a:pt x="18333" y="4"/>
                    </a:lnTo>
                    <a:cubicBezTo>
                      <a:pt x="18334" y="4"/>
                      <a:pt x="18335" y="5"/>
                      <a:pt x="18335" y="6"/>
                    </a:cubicBezTo>
                    <a:cubicBezTo>
                      <a:pt x="18335" y="7"/>
                      <a:pt x="18334" y="8"/>
                      <a:pt x="18333" y="8"/>
                    </a:cubicBezTo>
                    <a:lnTo>
                      <a:pt x="18333" y="8"/>
                    </a:lnTo>
                    <a:cubicBezTo>
                      <a:pt x="18331" y="8"/>
                      <a:pt x="18331" y="7"/>
                      <a:pt x="18331" y="6"/>
                    </a:cubicBezTo>
                    <a:cubicBezTo>
                      <a:pt x="18331" y="5"/>
                      <a:pt x="18331" y="4"/>
                      <a:pt x="18333" y="4"/>
                    </a:cubicBezTo>
                    <a:close/>
                    <a:moveTo>
                      <a:pt x="18341" y="4"/>
                    </a:moveTo>
                    <a:lnTo>
                      <a:pt x="18341" y="4"/>
                    </a:lnTo>
                    <a:cubicBezTo>
                      <a:pt x="18342" y="4"/>
                      <a:pt x="18343" y="5"/>
                      <a:pt x="18343" y="6"/>
                    </a:cubicBezTo>
                    <a:cubicBezTo>
                      <a:pt x="18343" y="7"/>
                      <a:pt x="18342" y="8"/>
                      <a:pt x="18341" y="8"/>
                    </a:cubicBezTo>
                    <a:lnTo>
                      <a:pt x="18341" y="8"/>
                    </a:lnTo>
                    <a:cubicBezTo>
                      <a:pt x="18339" y="8"/>
                      <a:pt x="18339" y="7"/>
                      <a:pt x="18339" y="6"/>
                    </a:cubicBezTo>
                    <a:cubicBezTo>
                      <a:pt x="18339" y="5"/>
                      <a:pt x="18339" y="4"/>
                      <a:pt x="18341" y="4"/>
                    </a:cubicBezTo>
                    <a:close/>
                    <a:moveTo>
                      <a:pt x="18349" y="4"/>
                    </a:moveTo>
                    <a:lnTo>
                      <a:pt x="18349" y="4"/>
                    </a:lnTo>
                    <a:cubicBezTo>
                      <a:pt x="18350" y="4"/>
                      <a:pt x="18351" y="5"/>
                      <a:pt x="18351" y="6"/>
                    </a:cubicBezTo>
                    <a:cubicBezTo>
                      <a:pt x="18351" y="7"/>
                      <a:pt x="18350" y="8"/>
                      <a:pt x="18349" y="8"/>
                    </a:cubicBezTo>
                    <a:lnTo>
                      <a:pt x="18349" y="8"/>
                    </a:lnTo>
                    <a:cubicBezTo>
                      <a:pt x="18347" y="8"/>
                      <a:pt x="18347" y="7"/>
                      <a:pt x="18347" y="6"/>
                    </a:cubicBezTo>
                    <a:cubicBezTo>
                      <a:pt x="18347" y="5"/>
                      <a:pt x="18347" y="4"/>
                      <a:pt x="18349" y="4"/>
                    </a:cubicBezTo>
                    <a:close/>
                    <a:moveTo>
                      <a:pt x="18357" y="4"/>
                    </a:moveTo>
                    <a:lnTo>
                      <a:pt x="18357" y="4"/>
                    </a:lnTo>
                    <a:cubicBezTo>
                      <a:pt x="18358" y="4"/>
                      <a:pt x="18359" y="5"/>
                      <a:pt x="18359" y="6"/>
                    </a:cubicBezTo>
                    <a:cubicBezTo>
                      <a:pt x="18359" y="7"/>
                      <a:pt x="18358" y="8"/>
                      <a:pt x="18357" y="8"/>
                    </a:cubicBezTo>
                    <a:lnTo>
                      <a:pt x="18357" y="8"/>
                    </a:lnTo>
                    <a:cubicBezTo>
                      <a:pt x="18355" y="8"/>
                      <a:pt x="18355" y="7"/>
                      <a:pt x="18355" y="6"/>
                    </a:cubicBezTo>
                    <a:cubicBezTo>
                      <a:pt x="18355" y="5"/>
                      <a:pt x="18355" y="4"/>
                      <a:pt x="18357" y="4"/>
                    </a:cubicBezTo>
                    <a:close/>
                    <a:moveTo>
                      <a:pt x="18365" y="4"/>
                    </a:moveTo>
                    <a:lnTo>
                      <a:pt x="18365" y="4"/>
                    </a:lnTo>
                    <a:cubicBezTo>
                      <a:pt x="18366" y="4"/>
                      <a:pt x="18367" y="5"/>
                      <a:pt x="18367" y="6"/>
                    </a:cubicBezTo>
                    <a:cubicBezTo>
                      <a:pt x="18367" y="7"/>
                      <a:pt x="18366" y="8"/>
                      <a:pt x="18365" y="8"/>
                    </a:cubicBezTo>
                    <a:lnTo>
                      <a:pt x="18365" y="8"/>
                    </a:lnTo>
                    <a:cubicBezTo>
                      <a:pt x="18363" y="8"/>
                      <a:pt x="18363" y="7"/>
                      <a:pt x="18363" y="6"/>
                    </a:cubicBezTo>
                    <a:cubicBezTo>
                      <a:pt x="18363" y="5"/>
                      <a:pt x="18363" y="4"/>
                      <a:pt x="18365" y="4"/>
                    </a:cubicBezTo>
                    <a:close/>
                    <a:moveTo>
                      <a:pt x="18373" y="4"/>
                    </a:moveTo>
                    <a:lnTo>
                      <a:pt x="18373" y="4"/>
                    </a:lnTo>
                    <a:cubicBezTo>
                      <a:pt x="18374" y="4"/>
                      <a:pt x="18375" y="5"/>
                      <a:pt x="18375" y="6"/>
                    </a:cubicBezTo>
                    <a:cubicBezTo>
                      <a:pt x="18375" y="7"/>
                      <a:pt x="18374" y="8"/>
                      <a:pt x="18373" y="8"/>
                    </a:cubicBezTo>
                    <a:lnTo>
                      <a:pt x="18373" y="8"/>
                    </a:lnTo>
                    <a:cubicBezTo>
                      <a:pt x="18371" y="8"/>
                      <a:pt x="18371" y="7"/>
                      <a:pt x="18371" y="6"/>
                    </a:cubicBezTo>
                    <a:cubicBezTo>
                      <a:pt x="18371" y="5"/>
                      <a:pt x="18371" y="4"/>
                      <a:pt x="18373" y="4"/>
                    </a:cubicBezTo>
                    <a:close/>
                    <a:moveTo>
                      <a:pt x="18381" y="4"/>
                    </a:moveTo>
                    <a:lnTo>
                      <a:pt x="18381" y="4"/>
                    </a:lnTo>
                    <a:cubicBezTo>
                      <a:pt x="18382" y="4"/>
                      <a:pt x="18383" y="5"/>
                      <a:pt x="18383" y="6"/>
                    </a:cubicBezTo>
                    <a:cubicBezTo>
                      <a:pt x="18383" y="7"/>
                      <a:pt x="18382" y="8"/>
                      <a:pt x="18381" y="8"/>
                    </a:cubicBezTo>
                    <a:lnTo>
                      <a:pt x="18381" y="8"/>
                    </a:lnTo>
                    <a:cubicBezTo>
                      <a:pt x="18379" y="8"/>
                      <a:pt x="18379" y="7"/>
                      <a:pt x="18379" y="6"/>
                    </a:cubicBezTo>
                    <a:cubicBezTo>
                      <a:pt x="18379" y="5"/>
                      <a:pt x="18379" y="4"/>
                      <a:pt x="18381" y="4"/>
                    </a:cubicBezTo>
                    <a:close/>
                    <a:moveTo>
                      <a:pt x="18389" y="4"/>
                    </a:moveTo>
                    <a:lnTo>
                      <a:pt x="18389" y="4"/>
                    </a:lnTo>
                    <a:cubicBezTo>
                      <a:pt x="18390" y="4"/>
                      <a:pt x="18391" y="5"/>
                      <a:pt x="18391" y="6"/>
                    </a:cubicBezTo>
                    <a:cubicBezTo>
                      <a:pt x="18391" y="7"/>
                      <a:pt x="18390" y="8"/>
                      <a:pt x="18389" y="8"/>
                    </a:cubicBezTo>
                    <a:lnTo>
                      <a:pt x="18389" y="8"/>
                    </a:lnTo>
                    <a:cubicBezTo>
                      <a:pt x="18387" y="8"/>
                      <a:pt x="18387" y="7"/>
                      <a:pt x="18387" y="6"/>
                    </a:cubicBezTo>
                    <a:cubicBezTo>
                      <a:pt x="18387" y="5"/>
                      <a:pt x="18387" y="4"/>
                      <a:pt x="18389" y="4"/>
                    </a:cubicBezTo>
                    <a:close/>
                    <a:moveTo>
                      <a:pt x="18397" y="4"/>
                    </a:moveTo>
                    <a:lnTo>
                      <a:pt x="18397" y="4"/>
                    </a:lnTo>
                    <a:cubicBezTo>
                      <a:pt x="18398" y="4"/>
                      <a:pt x="18399" y="5"/>
                      <a:pt x="18399" y="6"/>
                    </a:cubicBezTo>
                    <a:cubicBezTo>
                      <a:pt x="18399" y="7"/>
                      <a:pt x="18398" y="8"/>
                      <a:pt x="18397" y="8"/>
                    </a:cubicBezTo>
                    <a:lnTo>
                      <a:pt x="18397" y="8"/>
                    </a:lnTo>
                    <a:cubicBezTo>
                      <a:pt x="18395" y="8"/>
                      <a:pt x="18395" y="7"/>
                      <a:pt x="18395" y="6"/>
                    </a:cubicBezTo>
                    <a:cubicBezTo>
                      <a:pt x="18395" y="5"/>
                      <a:pt x="18395" y="4"/>
                      <a:pt x="18397" y="4"/>
                    </a:cubicBezTo>
                    <a:close/>
                    <a:moveTo>
                      <a:pt x="18405" y="4"/>
                    </a:moveTo>
                    <a:lnTo>
                      <a:pt x="18405" y="4"/>
                    </a:lnTo>
                    <a:cubicBezTo>
                      <a:pt x="18406" y="4"/>
                      <a:pt x="18407" y="5"/>
                      <a:pt x="18407" y="6"/>
                    </a:cubicBezTo>
                    <a:cubicBezTo>
                      <a:pt x="18407" y="7"/>
                      <a:pt x="18406" y="8"/>
                      <a:pt x="18405" y="8"/>
                    </a:cubicBezTo>
                    <a:lnTo>
                      <a:pt x="18405" y="8"/>
                    </a:lnTo>
                    <a:cubicBezTo>
                      <a:pt x="18403" y="8"/>
                      <a:pt x="18403" y="7"/>
                      <a:pt x="18403" y="6"/>
                    </a:cubicBezTo>
                    <a:cubicBezTo>
                      <a:pt x="18403" y="5"/>
                      <a:pt x="18403" y="4"/>
                      <a:pt x="18405" y="4"/>
                    </a:cubicBezTo>
                    <a:close/>
                    <a:moveTo>
                      <a:pt x="18413" y="4"/>
                    </a:moveTo>
                    <a:lnTo>
                      <a:pt x="18413" y="4"/>
                    </a:lnTo>
                    <a:cubicBezTo>
                      <a:pt x="18414" y="4"/>
                      <a:pt x="18415" y="5"/>
                      <a:pt x="18415" y="6"/>
                    </a:cubicBezTo>
                    <a:cubicBezTo>
                      <a:pt x="18415" y="7"/>
                      <a:pt x="18414" y="8"/>
                      <a:pt x="18413" y="8"/>
                    </a:cubicBezTo>
                    <a:lnTo>
                      <a:pt x="18413" y="8"/>
                    </a:lnTo>
                    <a:cubicBezTo>
                      <a:pt x="18411" y="8"/>
                      <a:pt x="18411" y="7"/>
                      <a:pt x="18411" y="6"/>
                    </a:cubicBezTo>
                    <a:cubicBezTo>
                      <a:pt x="18411" y="5"/>
                      <a:pt x="18411" y="4"/>
                      <a:pt x="18413" y="4"/>
                    </a:cubicBezTo>
                    <a:close/>
                    <a:moveTo>
                      <a:pt x="18421" y="4"/>
                    </a:moveTo>
                    <a:lnTo>
                      <a:pt x="18421" y="4"/>
                    </a:lnTo>
                    <a:cubicBezTo>
                      <a:pt x="18422" y="4"/>
                      <a:pt x="18423" y="5"/>
                      <a:pt x="18423" y="6"/>
                    </a:cubicBezTo>
                    <a:cubicBezTo>
                      <a:pt x="18423" y="7"/>
                      <a:pt x="18422" y="8"/>
                      <a:pt x="18421" y="8"/>
                    </a:cubicBezTo>
                    <a:lnTo>
                      <a:pt x="18421" y="8"/>
                    </a:lnTo>
                    <a:cubicBezTo>
                      <a:pt x="18419" y="8"/>
                      <a:pt x="18419" y="7"/>
                      <a:pt x="18419" y="6"/>
                    </a:cubicBezTo>
                    <a:cubicBezTo>
                      <a:pt x="18419" y="5"/>
                      <a:pt x="18419" y="4"/>
                      <a:pt x="18421" y="4"/>
                    </a:cubicBezTo>
                    <a:close/>
                    <a:moveTo>
                      <a:pt x="18429" y="4"/>
                    </a:moveTo>
                    <a:lnTo>
                      <a:pt x="18429" y="4"/>
                    </a:lnTo>
                    <a:cubicBezTo>
                      <a:pt x="18430" y="4"/>
                      <a:pt x="18431" y="5"/>
                      <a:pt x="18431" y="6"/>
                    </a:cubicBezTo>
                    <a:cubicBezTo>
                      <a:pt x="18431" y="7"/>
                      <a:pt x="18430" y="8"/>
                      <a:pt x="18429" y="8"/>
                    </a:cubicBezTo>
                    <a:lnTo>
                      <a:pt x="18429" y="8"/>
                    </a:lnTo>
                    <a:cubicBezTo>
                      <a:pt x="18428" y="8"/>
                      <a:pt x="18427" y="7"/>
                      <a:pt x="18427" y="6"/>
                    </a:cubicBezTo>
                    <a:cubicBezTo>
                      <a:pt x="18427" y="5"/>
                      <a:pt x="18428" y="4"/>
                      <a:pt x="18429" y="4"/>
                    </a:cubicBezTo>
                    <a:close/>
                    <a:moveTo>
                      <a:pt x="18437" y="4"/>
                    </a:moveTo>
                    <a:lnTo>
                      <a:pt x="18437" y="4"/>
                    </a:lnTo>
                    <a:cubicBezTo>
                      <a:pt x="18438" y="4"/>
                      <a:pt x="18439" y="5"/>
                      <a:pt x="18439" y="6"/>
                    </a:cubicBezTo>
                    <a:cubicBezTo>
                      <a:pt x="18439" y="7"/>
                      <a:pt x="18438" y="8"/>
                      <a:pt x="18437" y="8"/>
                    </a:cubicBezTo>
                    <a:lnTo>
                      <a:pt x="18437" y="8"/>
                    </a:lnTo>
                    <a:cubicBezTo>
                      <a:pt x="18436" y="8"/>
                      <a:pt x="18435" y="7"/>
                      <a:pt x="18435" y="6"/>
                    </a:cubicBezTo>
                    <a:cubicBezTo>
                      <a:pt x="18435" y="5"/>
                      <a:pt x="18436" y="4"/>
                      <a:pt x="18437" y="4"/>
                    </a:cubicBezTo>
                    <a:close/>
                    <a:moveTo>
                      <a:pt x="18445" y="4"/>
                    </a:moveTo>
                    <a:lnTo>
                      <a:pt x="18445" y="4"/>
                    </a:lnTo>
                    <a:cubicBezTo>
                      <a:pt x="18446" y="4"/>
                      <a:pt x="18447" y="5"/>
                      <a:pt x="18447" y="6"/>
                    </a:cubicBezTo>
                    <a:cubicBezTo>
                      <a:pt x="18447" y="7"/>
                      <a:pt x="18446" y="8"/>
                      <a:pt x="18445" y="8"/>
                    </a:cubicBezTo>
                    <a:lnTo>
                      <a:pt x="18445" y="8"/>
                    </a:lnTo>
                    <a:cubicBezTo>
                      <a:pt x="18444" y="8"/>
                      <a:pt x="18443" y="7"/>
                      <a:pt x="18443" y="6"/>
                    </a:cubicBezTo>
                    <a:cubicBezTo>
                      <a:pt x="18443" y="5"/>
                      <a:pt x="18444" y="4"/>
                      <a:pt x="18445" y="4"/>
                    </a:cubicBezTo>
                    <a:close/>
                    <a:moveTo>
                      <a:pt x="18453" y="4"/>
                    </a:moveTo>
                    <a:lnTo>
                      <a:pt x="18453" y="4"/>
                    </a:lnTo>
                    <a:cubicBezTo>
                      <a:pt x="18454" y="4"/>
                      <a:pt x="18455" y="5"/>
                      <a:pt x="18455" y="6"/>
                    </a:cubicBezTo>
                    <a:cubicBezTo>
                      <a:pt x="18455" y="7"/>
                      <a:pt x="18454" y="8"/>
                      <a:pt x="18453" y="8"/>
                    </a:cubicBezTo>
                    <a:lnTo>
                      <a:pt x="18453" y="8"/>
                    </a:lnTo>
                    <a:cubicBezTo>
                      <a:pt x="18452" y="8"/>
                      <a:pt x="18451" y="7"/>
                      <a:pt x="18451" y="6"/>
                    </a:cubicBezTo>
                    <a:cubicBezTo>
                      <a:pt x="18451" y="5"/>
                      <a:pt x="18452" y="4"/>
                      <a:pt x="18453" y="4"/>
                    </a:cubicBezTo>
                    <a:close/>
                    <a:moveTo>
                      <a:pt x="18461" y="4"/>
                    </a:moveTo>
                    <a:lnTo>
                      <a:pt x="18461" y="4"/>
                    </a:lnTo>
                    <a:cubicBezTo>
                      <a:pt x="18462" y="4"/>
                      <a:pt x="18463" y="5"/>
                      <a:pt x="18463" y="6"/>
                    </a:cubicBezTo>
                    <a:cubicBezTo>
                      <a:pt x="18463" y="7"/>
                      <a:pt x="18462" y="8"/>
                      <a:pt x="18461" y="8"/>
                    </a:cubicBezTo>
                    <a:lnTo>
                      <a:pt x="18461" y="8"/>
                    </a:lnTo>
                    <a:cubicBezTo>
                      <a:pt x="18460" y="8"/>
                      <a:pt x="18459" y="7"/>
                      <a:pt x="18459" y="6"/>
                    </a:cubicBezTo>
                    <a:cubicBezTo>
                      <a:pt x="18459" y="5"/>
                      <a:pt x="18460" y="4"/>
                      <a:pt x="18461" y="4"/>
                    </a:cubicBezTo>
                    <a:close/>
                    <a:moveTo>
                      <a:pt x="18469" y="4"/>
                    </a:moveTo>
                    <a:lnTo>
                      <a:pt x="18469" y="4"/>
                    </a:lnTo>
                    <a:cubicBezTo>
                      <a:pt x="18470" y="4"/>
                      <a:pt x="18471" y="5"/>
                      <a:pt x="18471" y="6"/>
                    </a:cubicBezTo>
                    <a:cubicBezTo>
                      <a:pt x="18471" y="7"/>
                      <a:pt x="18470" y="8"/>
                      <a:pt x="18469" y="8"/>
                    </a:cubicBezTo>
                    <a:lnTo>
                      <a:pt x="18469" y="8"/>
                    </a:lnTo>
                    <a:cubicBezTo>
                      <a:pt x="18468" y="8"/>
                      <a:pt x="18467" y="7"/>
                      <a:pt x="18467" y="6"/>
                    </a:cubicBezTo>
                    <a:cubicBezTo>
                      <a:pt x="18467" y="5"/>
                      <a:pt x="18468" y="4"/>
                      <a:pt x="18469" y="4"/>
                    </a:cubicBezTo>
                    <a:close/>
                    <a:moveTo>
                      <a:pt x="18477" y="4"/>
                    </a:moveTo>
                    <a:lnTo>
                      <a:pt x="18477" y="4"/>
                    </a:lnTo>
                    <a:cubicBezTo>
                      <a:pt x="18478" y="4"/>
                      <a:pt x="18479" y="5"/>
                      <a:pt x="18479" y="6"/>
                    </a:cubicBezTo>
                    <a:cubicBezTo>
                      <a:pt x="18479" y="7"/>
                      <a:pt x="18478" y="8"/>
                      <a:pt x="18477" y="8"/>
                    </a:cubicBezTo>
                    <a:lnTo>
                      <a:pt x="18477" y="8"/>
                    </a:lnTo>
                    <a:cubicBezTo>
                      <a:pt x="18476" y="8"/>
                      <a:pt x="18475" y="7"/>
                      <a:pt x="18475" y="6"/>
                    </a:cubicBezTo>
                    <a:cubicBezTo>
                      <a:pt x="18475" y="5"/>
                      <a:pt x="18476" y="4"/>
                      <a:pt x="18477" y="4"/>
                    </a:cubicBezTo>
                    <a:close/>
                    <a:moveTo>
                      <a:pt x="18485" y="4"/>
                    </a:moveTo>
                    <a:lnTo>
                      <a:pt x="18485" y="4"/>
                    </a:lnTo>
                    <a:cubicBezTo>
                      <a:pt x="18486" y="4"/>
                      <a:pt x="18487" y="5"/>
                      <a:pt x="18487" y="6"/>
                    </a:cubicBezTo>
                    <a:cubicBezTo>
                      <a:pt x="18487" y="7"/>
                      <a:pt x="18486" y="8"/>
                      <a:pt x="18485" y="8"/>
                    </a:cubicBezTo>
                    <a:lnTo>
                      <a:pt x="18485" y="8"/>
                    </a:lnTo>
                    <a:cubicBezTo>
                      <a:pt x="18484" y="8"/>
                      <a:pt x="18483" y="7"/>
                      <a:pt x="18483" y="6"/>
                    </a:cubicBezTo>
                    <a:cubicBezTo>
                      <a:pt x="18483" y="5"/>
                      <a:pt x="18484" y="4"/>
                      <a:pt x="18485" y="4"/>
                    </a:cubicBezTo>
                    <a:close/>
                    <a:moveTo>
                      <a:pt x="18493" y="4"/>
                    </a:moveTo>
                    <a:lnTo>
                      <a:pt x="18493" y="4"/>
                    </a:lnTo>
                    <a:cubicBezTo>
                      <a:pt x="18494" y="4"/>
                      <a:pt x="18495" y="5"/>
                      <a:pt x="18495" y="6"/>
                    </a:cubicBezTo>
                    <a:cubicBezTo>
                      <a:pt x="18495" y="7"/>
                      <a:pt x="18494" y="8"/>
                      <a:pt x="18493" y="8"/>
                    </a:cubicBezTo>
                    <a:lnTo>
                      <a:pt x="18493" y="8"/>
                    </a:lnTo>
                    <a:cubicBezTo>
                      <a:pt x="18492" y="8"/>
                      <a:pt x="18491" y="7"/>
                      <a:pt x="18491" y="6"/>
                    </a:cubicBezTo>
                    <a:cubicBezTo>
                      <a:pt x="18491" y="5"/>
                      <a:pt x="18492" y="4"/>
                      <a:pt x="18493" y="4"/>
                    </a:cubicBezTo>
                    <a:close/>
                    <a:moveTo>
                      <a:pt x="18501" y="4"/>
                    </a:moveTo>
                    <a:lnTo>
                      <a:pt x="18501" y="4"/>
                    </a:lnTo>
                    <a:cubicBezTo>
                      <a:pt x="18502" y="4"/>
                      <a:pt x="18503" y="5"/>
                      <a:pt x="18503" y="6"/>
                    </a:cubicBezTo>
                    <a:cubicBezTo>
                      <a:pt x="18503" y="7"/>
                      <a:pt x="18502" y="8"/>
                      <a:pt x="18501" y="8"/>
                    </a:cubicBezTo>
                    <a:lnTo>
                      <a:pt x="18501" y="8"/>
                    </a:lnTo>
                    <a:cubicBezTo>
                      <a:pt x="18500" y="8"/>
                      <a:pt x="18499" y="7"/>
                      <a:pt x="18499" y="6"/>
                    </a:cubicBezTo>
                    <a:cubicBezTo>
                      <a:pt x="18499" y="5"/>
                      <a:pt x="18500" y="4"/>
                      <a:pt x="18501" y="4"/>
                    </a:cubicBezTo>
                    <a:close/>
                    <a:moveTo>
                      <a:pt x="18509" y="4"/>
                    </a:moveTo>
                    <a:lnTo>
                      <a:pt x="18509" y="4"/>
                    </a:lnTo>
                    <a:cubicBezTo>
                      <a:pt x="18510" y="4"/>
                      <a:pt x="18511" y="5"/>
                      <a:pt x="18511" y="6"/>
                    </a:cubicBezTo>
                    <a:cubicBezTo>
                      <a:pt x="18511" y="7"/>
                      <a:pt x="18510" y="8"/>
                      <a:pt x="18509" y="8"/>
                    </a:cubicBezTo>
                    <a:lnTo>
                      <a:pt x="18509" y="8"/>
                    </a:lnTo>
                    <a:cubicBezTo>
                      <a:pt x="18508" y="8"/>
                      <a:pt x="18507" y="7"/>
                      <a:pt x="18507" y="6"/>
                    </a:cubicBezTo>
                    <a:cubicBezTo>
                      <a:pt x="18507" y="5"/>
                      <a:pt x="18508" y="4"/>
                      <a:pt x="18509" y="4"/>
                    </a:cubicBez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562040" y="3502080"/>
                <a:ext cx="6075360" cy="3240"/>
              </a:xfrm>
              <a:custGeom>
                <a:avLst/>
                <a:gdLst/>
                <a:ahLst/>
                <a:rect l="l" t="t" r="r" b="b"/>
                <a:pathLst>
                  <a:path w="18511" h="9">
                    <a:moveTo>
                      <a:pt x="2" y="0"/>
                    </a:moveTo>
                    <a:lnTo>
                      <a:pt x="2" y="0"/>
                    </a:lnTo>
                    <a:cubicBezTo>
                      <a:pt x="3" y="0"/>
                      <a:pt x="4" y="1"/>
                      <a:pt x="4" y="2"/>
                    </a:cubicBezTo>
                    <a:cubicBezTo>
                      <a:pt x="4" y="4"/>
                      <a:pt x="3" y="4"/>
                      <a:pt x="2" y="4"/>
                    </a:cubicBezTo>
                    <a:lnTo>
                      <a:pt x="2" y="4"/>
                    </a:lnTo>
                    <a:cubicBezTo>
                      <a:pt x="1" y="4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0"/>
                    </a:cubicBezTo>
                    <a:close/>
                    <a:moveTo>
                      <a:pt x="10" y="0"/>
                    </a:moveTo>
                    <a:lnTo>
                      <a:pt x="10" y="0"/>
                    </a:lnTo>
                    <a:cubicBezTo>
                      <a:pt x="11" y="0"/>
                      <a:pt x="12" y="1"/>
                      <a:pt x="12" y="2"/>
                    </a:cubicBezTo>
                    <a:cubicBezTo>
                      <a:pt x="12" y="4"/>
                      <a:pt x="11" y="4"/>
                      <a:pt x="10" y="4"/>
                    </a:cubicBezTo>
                    <a:lnTo>
                      <a:pt x="10" y="4"/>
                    </a:lnTo>
                    <a:cubicBezTo>
                      <a:pt x="9" y="4"/>
                      <a:pt x="8" y="4"/>
                      <a:pt x="8" y="2"/>
                    </a:cubicBezTo>
                    <a:cubicBezTo>
                      <a:pt x="8" y="1"/>
                      <a:pt x="9" y="0"/>
                      <a:pt x="10" y="0"/>
                    </a:cubicBezTo>
                    <a:close/>
                    <a:moveTo>
                      <a:pt x="18" y="0"/>
                    </a:moveTo>
                    <a:lnTo>
                      <a:pt x="18" y="0"/>
                    </a:lnTo>
                    <a:cubicBezTo>
                      <a:pt x="19" y="0"/>
                      <a:pt x="20" y="1"/>
                      <a:pt x="20" y="2"/>
                    </a:cubicBezTo>
                    <a:cubicBezTo>
                      <a:pt x="20" y="4"/>
                      <a:pt x="19" y="4"/>
                      <a:pt x="18" y="4"/>
                    </a:cubicBezTo>
                    <a:lnTo>
                      <a:pt x="18" y="4"/>
                    </a:lnTo>
                    <a:cubicBezTo>
                      <a:pt x="17" y="4"/>
                      <a:pt x="16" y="4"/>
                      <a:pt x="16" y="2"/>
                    </a:cubicBezTo>
                    <a:cubicBezTo>
                      <a:pt x="16" y="1"/>
                      <a:pt x="17" y="0"/>
                      <a:pt x="18" y="0"/>
                    </a:cubicBezTo>
                    <a:close/>
                    <a:moveTo>
                      <a:pt x="26" y="0"/>
                    </a:moveTo>
                    <a:lnTo>
                      <a:pt x="26" y="0"/>
                    </a:lnTo>
                    <a:cubicBezTo>
                      <a:pt x="27" y="0"/>
                      <a:pt x="28" y="1"/>
                      <a:pt x="28" y="2"/>
                    </a:cubicBezTo>
                    <a:cubicBezTo>
                      <a:pt x="28" y="4"/>
                      <a:pt x="27" y="4"/>
                      <a:pt x="26" y="4"/>
                    </a:cubicBezTo>
                    <a:lnTo>
                      <a:pt x="26" y="4"/>
                    </a:lnTo>
                    <a:cubicBezTo>
                      <a:pt x="25" y="4"/>
                      <a:pt x="24" y="4"/>
                      <a:pt x="24" y="2"/>
                    </a:cubicBezTo>
                    <a:cubicBezTo>
                      <a:pt x="24" y="1"/>
                      <a:pt x="25" y="0"/>
                      <a:pt x="26" y="0"/>
                    </a:cubicBezTo>
                    <a:close/>
                    <a:moveTo>
                      <a:pt x="34" y="0"/>
                    </a:moveTo>
                    <a:lnTo>
                      <a:pt x="34" y="0"/>
                    </a:lnTo>
                    <a:cubicBezTo>
                      <a:pt x="35" y="0"/>
                      <a:pt x="36" y="1"/>
                      <a:pt x="36" y="2"/>
                    </a:cubicBezTo>
                    <a:cubicBezTo>
                      <a:pt x="36" y="4"/>
                      <a:pt x="35" y="4"/>
                      <a:pt x="34" y="4"/>
                    </a:cubicBezTo>
                    <a:lnTo>
                      <a:pt x="34" y="4"/>
                    </a:lnTo>
                    <a:cubicBezTo>
                      <a:pt x="33" y="4"/>
                      <a:pt x="32" y="4"/>
                      <a:pt x="32" y="2"/>
                    </a:cubicBezTo>
                    <a:cubicBezTo>
                      <a:pt x="32" y="1"/>
                      <a:pt x="33" y="0"/>
                      <a:pt x="34" y="0"/>
                    </a:cubicBezTo>
                    <a:close/>
                    <a:moveTo>
                      <a:pt x="42" y="0"/>
                    </a:moveTo>
                    <a:lnTo>
                      <a:pt x="42" y="0"/>
                    </a:lnTo>
                    <a:cubicBezTo>
                      <a:pt x="43" y="0"/>
                      <a:pt x="44" y="1"/>
                      <a:pt x="44" y="2"/>
                    </a:cubicBezTo>
                    <a:cubicBezTo>
                      <a:pt x="44" y="4"/>
                      <a:pt x="43" y="4"/>
                      <a:pt x="42" y="4"/>
                    </a:cubicBezTo>
                    <a:lnTo>
                      <a:pt x="42" y="4"/>
                    </a:lnTo>
                    <a:cubicBezTo>
                      <a:pt x="41" y="4"/>
                      <a:pt x="40" y="4"/>
                      <a:pt x="40" y="2"/>
                    </a:cubicBezTo>
                    <a:cubicBezTo>
                      <a:pt x="40" y="1"/>
                      <a:pt x="41" y="0"/>
                      <a:pt x="42" y="0"/>
                    </a:cubicBezTo>
                    <a:close/>
                    <a:moveTo>
                      <a:pt x="50" y="0"/>
                    </a:moveTo>
                    <a:lnTo>
                      <a:pt x="50" y="0"/>
                    </a:lnTo>
                    <a:cubicBezTo>
                      <a:pt x="51" y="0"/>
                      <a:pt x="52" y="1"/>
                      <a:pt x="52" y="2"/>
                    </a:cubicBezTo>
                    <a:cubicBezTo>
                      <a:pt x="52" y="4"/>
                      <a:pt x="51" y="4"/>
                      <a:pt x="50" y="4"/>
                    </a:cubicBezTo>
                    <a:lnTo>
                      <a:pt x="50" y="4"/>
                    </a:lnTo>
                    <a:cubicBezTo>
                      <a:pt x="49" y="4"/>
                      <a:pt x="48" y="4"/>
                      <a:pt x="48" y="2"/>
                    </a:cubicBezTo>
                    <a:cubicBezTo>
                      <a:pt x="48" y="1"/>
                      <a:pt x="49" y="0"/>
                      <a:pt x="50" y="0"/>
                    </a:cubicBezTo>
                    <a:close/>
                    <a:moveTo>
                      <a:pt x="58" y="0"/>
                    </a:moveTo>
                    <a:lnTo>
                      <a:pt x="58" y="0"/>
                    </a:lnTo>
                    <a:cubicBezTo>
                      <a:pt x="59" y="0"/>
                      <a:pt x="60" y="1"/>
                      <a:pt x="60" y="2"/>
                    </a:cubicBezTo>
                    <a:cubicBezTo>
                      <a:pt x="60" y="4"/>
                      <a:pt x="59" y="4"/>
                      <a:pt x="58" y="4"/>
                    </a:cubicBezTo>
                    <a:lnTo>
                      <a:pt x="58" y="4"/>
                    </a:lnTo>
                    <a:cubicBezTo>
                      <a:pt x="57" y="4"/>
                      <a:pt x="56" y="4"/>
                      <a:pt x="56" y="2"/>
                    </a:cubicBezTo>
                    <a:cubicBezTo>
                      <a:pt x="56" y="1"/>
                      <a:pt x="57" y="0"/>
                      <a:pt x="58" y="0"/>
                    </a:cubicBezTo>
                    <a:close/>
                    <a:moveTo>
                      <a:pt x="66" y="0"/>
                    </a:moveTo>
                    <a:lnTo>
                      <a:pt x="66" y="0"/>
                    </a:lnTo>
                    <a:cubicBezTo>
                      <a:pt x="67" y="0"/>
                      <a:pt x="68" y="1"/>
                      <a:pt x="68" y="2"/>
                    </a:cubicBezTo>
                    <a:cubicBezTo>
                      <a:pt x="68" y="4"/>
                      <a:pt x="67" y="4"/>
                      <a:pt x="66" y="4"/>
                    </a:cubicBezTo>
                    <a:lnTo>
                      <a:pt x="66" y="4"/>
                    </a:lnTo>
                    <a:cubicBezTo>
                      <a:pt x="65" y="4"/>
                      <a:pt x="64" y="4"/>
                      <a:pt x="64" y="2"/>
                    </a:cubicBezTo>
                    <a:cubicBezTo>
                      <a:pt x="64" y="1"/>
                      <a:pt x="65" y="0"/>
                      <a:pt x="66" y="0"/>
                    </a:cubicBezTo>
                    <a:close/>
                    <a:moveTo>
                      <a:pt x="74" y="0"/>
                    </a:moveTo>
                    <a:lnTo>
                      <a:pt x="74" y="0"/>
                    </a:lnTo>
                    <a:cubicBezTo>
                      <a:pt x="75" y="0"/>
                      <a:pt x="76" y="1"/>
                      <a:pt x="76" y="2"/>
                    </a:cubicBezTo>
                    <a:cubicBezTo>
                      <a:pt x="76" y="4"/>
                      <a:pt x="75" y="4"/>
                      <a:pt x="74" y="4"/>
                    </a:cubicBezTo>
                    <a:lnTo>
                      <a:pt x="74" y="4"/>
                    </a:lnTo>
                    <a:cubicBezTo>
                      <a:pt x="73" y="4"/>
                      <a:pt x="72" y="4"/>
                      <a:pt x="72" y="2"/>
                    </a:cubicBezTo>
                    <a:cubicBezTo>
                      <a:pt x="72" y="1"/>
                      <a:pt x="73" y="0"/>
                      <a:pt x="74" y="0"/>
                    </a:cubicBezTo>
                    <a:close/>
                    <a:moveTo>
                      <a:pt x="82" y="0"/>
                    </a:moveTo>
                    <a:lnTo>
                      <a:pt x="82" y="0"/>
                    </a:lnTo>
                    <a:cubicBezTo>
                      <a:pt x="83" y="0"/>
                      <a:pt x="84" y="1"/>
                      <a:pt x="84" y="2"/>
                    </a:cubicBezTo>
                    <a:cubicBezTo>
                      <a:pt x="84" y="4"/>
                      <a:pt x="83" y="4"/>
                      <a:pt x="82" y="4"/>
                    </a:cubicBezTo>
                    <a:lnTo>
                      <a:pt x="82" y="4"/>
                    </a:lnTo>
                    <a:cubicBezTo>
                      <a:pt x="81" y="4"/>
                      <a:pt x="80" y="4"/>
                      <a:pt x="80" y="2"/>
                    </a:cubicBezTo>
                    <a:cubicBezTo>
                      <a:pt x="80" y="1"/>
                      <a:pt x="81" y="0"/>
                      <a:pt x="82" y="0"/>
                    </a:cubicBezTo>
                    <a:close/>
                    <a:moveTo>
                      <a:pt x="90" y="0"/>
                    </a:moveTo>
                    <a:lnTo>
                      <a:pt x="90" y="0"/>
                    </a:lnTo>
                    <a:cubicBezTo>
                      <a:pt x="91" y="0"/>
                      <a:pt x="92" y="1"/>
                      <a:pt x="92" y="2"/>
                    </a:cubicBezTo>
                    <a:cubicBezTo>
                      <a:pt x="92" y="4"/>
                      <a:pt x="91" y="4"/>
                      <a:pt x="90" y="4"/>
                    </a:cubicBezTo>
                    <a:lnTo>
                      <a:pt x="90" y="4"/>
                    </a:lnTo>
                    <a:cubicBezTo>
                      <a:pt x="89" y="4"/>
                      <a:pt x="88" y="4"/>
                      <a:pt x="88" y="2"/>
                    </a:cubicBezTo>
                    <a:cubicBezTo>
                      <a:pt x="88" y="1"/>
                      <a:pt x="89" y="0"/>
                      <a:pt x="90" y="0"/>
                    </a:cubicBezTo>
                    <a:close/>
                    <a:moveTo>
                      <a:pt x="98" y="0"/>
                    </a:moveTo>
                    <a:lnTo>
                      <a:pt x="98" y="0"/>
                    </a:lnTo>
                    <a:cubicBezTo>
                      <a:pt x="99" y="0"/>
                      <a:pt x="100" y="1"/>
                      <a:pt x="100" y="2"/>
                    </a:cubicBezTo>
                    <a:cubicBezTo>
                      <a:pt x="100" y="4"/>
                      <a:pt x="99" y="4"/>
                      <a:pt x="98" y="4"/>
                    </a:cubicBezTo>
                    <a:lnTo>
                      <a:pt x="98" y="4"/>
                    </a:lnTo>
                    <a:cubicBezTo>
                      <a:pt x="97" y="4"/>
                      <a:pt x="96" y="4"/>
                      <a:pt x="96" y="2"/>
                    </a:cubicBezTo>
                    <a:cubicBezTo>
                      <a:pt x="96" y="1"/>
                      <a:pt x="97" y="0"/>
                      <a:pt x="98" y="0"/>
                    </a:cubicBezTo>
                    <a:close/>
                    <a:moveTo>
                      <a:pt x="106" y="0"/>
                    </a:moveTo>
                    <a:lnTo>
                      <a:pt x="106" y="0"/>
                    </a:lnTo>
                    <a:cubicBezTo>
                      <a:pt x="107" y="0"/>
                      <a:pt x="108" y="1"/>
                      <a:pt x="108" y="2"/>
                    </a:cubicBezTo>
                    <a:cubicBezTo>
                      <a:pt x="108" y="4"/>
                      <a:pt x="107" y="4"/>
                      <a:pt x="106" y="4"/>
                    </a:cubicBezTo>
                    <a:lnTo>
                      <a:pt x="106" y="4"/>
                    </a:lnTo>
                    <a:cubicBezTo>
                      <a:pt x="105" y="4"/>
                      <a:pt x="104" y="4"/>
                      <a:pt x="104" y="2"/>
                    </a:cubicBezTo>
                    <a:cubicBezTo>
                      <a:pt x="104" y="1"/>
                      <a:pt x="105" y="0"/>
                      <a:pt x="106" y="0"/>
                    </a:cubicBezTo>
                    <a:close/>
                    <a:moveTo>
                      <a:pt x="114" y="0"/>
                    </a:moveTo>
                    <a:lnTo>
                      <a:pt x="114" y="0"/>
                    </a:lnTo>
                    <a:cubicBezTo>
                      <a:pt x="115" y="0"/>
                      <a:pt x="116" y="1"/>
                      <a:pt x="116" y="2"/>
                    </a:cubicBezTo>
                    <a:cubicBezTo>
                      <a:pt x="116" y="4"/>
                      <a:pt x="115" y="4"/>
                      <a:pt x="114" y="4"/>
                    </a:cubicBezTo>
                    <a:lnTo>
                      <a:pt x="114" y="4"/>
                    </a:lnTo>
                    <a:cubicBezTo>
                      <a:pt x="113" y="4"/>
                      <a:pt x="112" y="4"/>
                      <a:pt x="112" y="2"/>
                    </a:cubicBezTo>
                    <a:cubicBezTo>
                      <a:pt x="112" y="1"/>
                      <a:pt x="113" y="0"/>
                      <a:pt x="114" y="0"/>
                    </a:cubicBezTo>
                    <a:close/>
                    <a:moveTo>
                      <a:pt x="122" y="0"/>
                    </a:moveTo>
                    <a:lnTo>
                      <a:pt x="122" y="0"/>
                    </a:lnTo>
                    <a:cubicBezTo>
                      <a:pt x="123" y="0"/>
                      <a:pt x="124" y="1"/>
                      <a:pt x="124" y="2"/>
                    </a:cubicBezTo>
                    <a:cubicBezTo>
                      <a:pt x="124" y="4"/>
                      <a:pt x="123" y="4"/>
                      <a:pt x="122" y="4"/>
                    </a:cubicBezTo>
                    <a:lnTo>
                      <a:pt x="122" y="4"/>
                    </a:lnTo>
                    <a:cubicBezTo>
                      <a:pt x="121" y="4"/>
                      <a:pt x="120" y="4"/>
                      <a:pt x="120" y="2"/>
                    </a:cubicBezTo>
                    <a:cubicBezTo>
                      <a:pt x="120" y="1"/>
                      <a:pt x="121" y="0"/>
                      <a:pt x="122" y="0"/>
                    </a:cubicBezTo>
                    <a:close/>
                    <a:moveTo>
                      <a:pt x="130" y="0"/>
                    </a:moveTo>
                    <a:lnTo>
                      <a:pt x="130" y="0"/>
                    </a:lnTo>
                    <a:cubicBezTo>
                      <a:pt x="131" y="0"/>
                      <a:pt x="132" y="1"/>
                      <a:pt x="132" y="2"/>
                    </a:cubicBezTo>
                    <a:cubicBezTo>
                      <a:pt x="132" y="4"/>
                      <a:pt x="131" y="4"/>
                      <a:pt x="130" y="4"/>
                    </a:cubicBezTo>
                    <a:lnTo>
                      <a:pt x="130" y="4"/>
                    </a:lnTo>
                    <a:cubicBezTo>
                      <a:pt x="129" y="4"/>
                      <a:pt x="128" y="4"/>
                      <a:pt x="128" y="2"/>
                    </a:cubicBezTo>
                    <a:cubicBezTo>
                      <a:pt x="128" y="1"/>
                      <a:pt x="129" y="0"/>
                      <a:pt x="130" y="0"/>
                    </a:cubicBezTo>
                    <a:close/>
                    <a:moveTo>
                      <a:pt x="138" y="0"/>
                    </a:moveTo>
                    <a:lnTo>
                      <a:pt x="138" y="0"/>
                    </a:lnTo>
                    <a:cubicBezTo>
                      <a:pt x="139" y="0"/>
                      <a:pt x="140" y="1"/>
                      <a:pt x="140" y="2"/>
                    </a:cubicBezTo>
                    <a:cubicBezTo>
                      <a:pt x="140" y="4"/>
                      <a:pt x="139" y="4"/>
                      <a:pt x="138" y="4"/>
                    </a:cubicBezTo>
                    <a:lnTo>
                      <a:pt x="138" y="4"/>
                    </a:lnTo>
                    <a:cubicBezTo>
                      <a:pt x="137" y="4"/>
                      <a:pt x="136" y="4"/>
                      <a:pt x="136" y="2"/>
                    </a:cubicBezTo>
                    <a:cubicBezTo>
                      <a:pt x="136" y="1"/>
                      <a:pt x="137" y="0"/>
                      <a:pt x="138" y="0"/>
                    </a:cubicBezTo>
                    <a:close/>
                    <a:moveTo>
                      <a:pt x="146" y="0"/>
                    </a:moveTo>
                    <a:lnTo>
                      <a:pt x="146" y="0"/>
                    </a:lnTo>
                    <a:cubicBezTo>
                      <a:pt x="147" y="0"/>
                      <a:pt x="148" y="1"/>
                      <a:pt x="148" y="2"/>
                    </a:cubicBezTo>
                    <a:cubicBezTo>
                      <a:pt x="148" y="4"/>
                      <a:pt x="147" y="4"/>
                      <a:pt x="146" y="4"/>
                    </a:cubicBezTo>
                    <a:lnTo>
                      <a:pt x="146" y="4"/>
                    </a:lnTo>
                    <a:cubicBezTo>
                      <a:pt x="145" y="4"/>
                      <a:pt x="144" y="4"/>
                      <a:pt x="144" y="2"/>
                    </a:cubicBezTo>
                    <a:cubicBezTo>
                      <a:pt x="144" y="1"/>
                      <a:pt x="145" y="0"/>
                      <a:pt x="146" y="0"/>
                    </a:cubicBezTo>
                    <a:close/>
                    <a:moveTo>
                      <a:pt x="154" y="0"/>
                    </a:moveTo>
                    <a:lnTo>
                      <a:pt x="154" y="0"/>
                    </a:lnTo>
                    <a:cubicBezTo>
                      <a:pt x="155" y="0"/>
                      <a:pt x="156" y="1"/>
                      <a:pt x="156" y="2"/>
                    </a:cubicBezTo>
                    <a:cubicBezTo>
                      <a:pt x="156" y="4"/>
                      <a:pt x="155" y="4"/>
                      <a:pt x="154" y="4"/>
                    </a:cubicBezTo>
                    <a:lnTo>
                      <a:pt x="154" y="4"/>
                    </a:lnTo>
                    <a:cubicBezTo>
                      <a:pt x="153" y="4"/>
                      <a:pt x="152" y="4"/>
                      <a:pt x="152" y="2"/>
                    </a:cubicBezTo>
                    <a:cubicBezTo>
                      <a:pt x="152" y="1"/>
                      <a:pt x="153" y="0"/>
                      <a:pt x="154" y="0"/>
                    </a:cubicBezTo>
                    <a:close/>
                    <a:moveTo>
                      <a:pt x="162" y="0"/>
                    </a:moveTo>
                    <a:lnTo>
                      <a:pt x="162" y="0"/>
                    </a:lnTo>
                    <a:cubicBezTo>
                      <a:pt x="163" y="0"/>
                      <a:pt x="164" y="1"/>
                      <a:pt x="164" y="2"/>
                    </a:cubicBezTo>
                    <a:cubicBezTo>
                      <a:pt x="164" y="4"/>
                      <a:pt x="163" y="4"/>
                      <a:pt x="162" y="4"/>
                    </a:cubicBezTo>
                    <a:lnTo>
                      <a:pt x="162" y="4"/>
                    </a:lnTo>
                    <a:cubicBezTo>
                      <a:pt x="161" y="4"/>
                      <a:pt x="160" y="4"/>
                      <a:pt x="160" y="2"/>
                    </a:cubicBezTo>
                    <a:cubicBezTo>
                      <a:pt x="160" y="1"/>
                      <a:pt x="161" y="0"/>
                      <a:pt x="162" y="0"/>
                    </a:cubicBezTo>
                    <a:close/>
                    <a:moveTo>
                      <a:pt x="170" y="0"/>
                    </a:moveTo>
                    <a:lnTo>
                      <a:pt x="170" y="0"/>
                    </a:lnTo>
                    <a:cubicBezTo>
                      <a:pt x="171" y="0"/>
                      <a:pt x="172" y="1"/>
                      <a:pt x="172" y="2"/>
                    </a:cubicBezTo>
                    <a:cubicBezTo>
                      <a:pt x="172" y="4"/>
                      <a:pt x="171" y="4"/>
                      <a:pt x="170" y="4"/>
                    </a:cubicBezTo>
                    <a:lnTo>
                      <a:pt x="170" y="4"/>
                    </a:lnTo>
                    <a:cubicBezTo>
                      <a:pt x="169" y="4"/>
                      <a:pt x="168" y="4"/>
                      <a:pt x="168" y="2"/>
                    </a:cubicBezTo>
                    <a:cubicBezTo>
                      <a:pt x="168" y="1"/>
                      <a:pt x="169" y="0"/>
                      <a:pt x="170" y="0"/>
                    </a:cubicBezTo>
                    <a:close/>
                    <a:moveTo>
                      <a:pt x="178" y="1"/>
                    </a:moveTo>
                    <a:lnTo>
                      <a:pt x="178" y="1"/>
                    </a:lnTo>
                    <a:cubicBezTo>
                      <a:pt x="179" y="1"/>
                      <a:pt x="180" y="1"/>
                      <a:pt x="180" y="3"/>
                    </a:cubicBezTo>
                    <a:cubicBezTo>
                      <a:pt x="180" y="4"/>
                      <a:pt x="179" y="5"/>
                      <a:pt x="178" y="5"/>
                    </a:cubicBezTo>
                    <a:lnTo>
                      <a:pt x="178" y="5"/>
                    </a:lnTo>
                    <a:cubicBezTo>
                      <a:pt x="177" y="5"/>
                      <a:pt x="176" y="4"/>
                      <a:pt x="176" y="3"/>
                    </a:cubicBezTo>
                    <a:cubicBezTo>
                      <a:pt x="176" y="1"/>
                      <a:pt x="177" y="1"/>
                      <a:pt x="178" y="1"/>
                    </a:cubicBezTo>
                    <a:close/>
                    <a:moveTo>
                      <a:pt x="186" y="1"/>
                    </a:moveTo>
                    <a:lnTo>
                      <a:pt x="186" y="1"/>
                    </a:lnTo>
                    <a:cubicBezTo>
                      <a:pt x="187" y="1"/>
                      <a:pt x="188" y="1"/>
                      <a:pt x="188" y="3"/>
                    </a:cubicBezTo>
                    <a:cubicBezTo>
                      <a:pt x="188" y="4"/>
                      <a:pt x="187" y="5"/>
                      <a:pt x="186" y="5"/>
                    </a:cubicBezTo>
                    <a:lnTo>
                      <a:pt x="186" y="5"/>
                    </a:lnTo>
                    <a:cubicBezTo>
                      <a:pt x="185" y="5"/>
                      <a:pt x="184" y="4"/>
                      <a:pt x="184" y="3"/>
                    </a:cubicBezTo>
                    <a:cubicBezTo>
                      <a:pt x="184" y="1"/>
                      <a:pt x="185" y="1"/>
                      <a:pt x="186" y="1"/>
                    </a:cubicBezTo>
                    <a:close/>
                    <a:moveTo>
                      <a:pt x="194" y="1"/>
                    </a:moveTo>
                    <a:lnTo>
                      <a:pt x="194" y="1"/>
                    </a:lnTo>
                    <a:cubicBezTo>
                      <a:pt x="195" y="1"/>
                      <a:pt x="196" y="1"/>
                      <a:pt x="196" y="3"/>
                    </a:cubicBezTo>
                    <a:cubicBezTo>
                      <a:pt x="196" y="4"/>
                      <a:pt x="195" y="5"/>
                      <a:pt x="194" y="5"/>
                    </a:cubicBezTo>
                    <a:lnTo>
                      <a:pt x="194" y="5"/>
                    </a:lnTo>
                    <a:cubicBezTo>
                      <a:pt x="193" y="5"/>
                      <a:pt x="192" y="4"/>
                      <a:pt x="192" y="3"/>
                    </a:cubicBezTo>
                    <a:cubicBezTo>
                      <a:pt x="192" y="1"/>
                      <a:pt x="193" y="1"/>
                      <a:pt x="194" y="1"/>
                    </a:cubicBezTo>
                    <a:close/>
                    <a:moveTo>
                      <a:pt x="202" y="1"/>
                    </a:moveTo>
                    <a:lnTo>
                      <a:pt x="202" y="1"/>
                    </a:lnTo>
                    <a:cubicBezTo>
                      <a:pt x="203" y="1"/>
                      <a:pt x="204" y="1"/>
                      <a:pt x="204" y="3"/>
                    </a:cubicBezTo>
                    <a:cubicBezTo>
                      <a:pt x="204" y="4"/>
                      <a:pt x="203" y="5"/>
                      <a:pt x="202" y="5"/>
                    </a:cubicBezTo>
                    <a:lnTo>
                      <a:pt x="202" y="5"/>
                    </a:lnTo>
                    <a:cubicBezTo>
                      <a:pt x="201" y="5"/>
                      <a:pt x="200" y="4"/>
                      <a:pt x="200" y="3"/>
                    </a:cubicBezTo>
                    <a:cubicBezTo>
                      <a:pt x="200" y="1"/>
                      <a:pt x="201" y="1"/>
                      <a:pt x="202" y="1"/>
                    </a:cubicBezTo>
                    <a:close/>
                    <a:moveTo>
                      <a:pt x="210" y="1"/>
                    </a:moveTo>
                    <a:lnTo>
                      <a:pt x="210" y="1"/>
                    </a:lnTo>
                    <a:cubicBezTo>
                      <a:pt x="211" y="1"/>
                      <a:pt x="212" y="1"/>
                      <a:pt x="212" y="3"/>
                    </a:cubicBezTo>
                    <a:cubicBezTo>
                      <a:pt x="212" y="4"/>
                      <a:pt x="211" y="5"/>
                      <a:pt x="210" y="5"/>
                    </a:cubicBezTo>
                    <a:lnTo>
                      <a:pt x="210" y="5"/>
                    </a:lnTo>
                    <a:cubicBezTo>
                      <a:pt x="209" y="5"/>
                      <a:pt x="208" y="4"/>
                      <a:pt x="208" y="3"/>
                    </a:cubicBezTo>
                    <a:cubicBezTo>
                      <a:pt x="208" y="1"/>
                      <a:pt x="209" y="1"/>
                      <a:pt x="210" y="1"/>
                    </a:cubicBezTo>
                    <a:close/>
                    <a:moveTo>
                      <a:pt x="218" y="1"/>
                    </a:moveTo>
                    <a:lnTo>
                      <a:pt x="218" y="1"/>
                    </a:lnTo>
                    <a:cubicBezTo>
                      <a:pt x="219" y="1"/>
                      <a:pt x="220" y="1"/>
                      <a:pt x="220" y="3"/>
                    </a:cubicBezTo>
                    <a:cubicBezTo>
                      <a:pt x="220" y="4"/>
                      <a:pt x="219" y="5"/>
                      <a:pt x="218" y="5"/>
                    </a:cubicBezTo>
                    <a:lnTo>
                      <a:pt x="218" y="5"/>
                    </a:lnTo>
                    <a:cubicBezTo>
                      <a:pt x="217" y="5"/>
                      <a:pt x="216" y="4"/>
                      <a:pt x="216" y="3"/>
                    </a:cubicBezTo>
                    <a:cubicBezTo>
                      <a:pt x="216" y="1"/>
                      <a:pt x="217" y="1"/>
                      <a:pt x="218" y="1"/>
                    </a:cubicBezTo>
                    <a:close/>
                    <a:moveTo>
                      <a:pt x="226" y="1"/>
                    </a:moveTo>
                    <a:lnTo>
                      <a:pt x="226" y="1"/>
                    </a:lnTo>
                    <a:cubicBezTo>
                      <a:pt x="227" y="1"/>
                      <a:pt x="228" y="1"/>
                      <a:pt x="228" y="3"/>
                    </a:cubicBezTo>
                    <a:cubicBezTo>
                      <a:pt x="228" y="4"/>
                      <a:pt x="227" y="5"/>
                      <a:pt x="226" y="5"/>
                    </a:cubicBezTo>
                    <a:lnTo>
                      <a:pt x="226" y="5"/>
                    </a:lnTo>
                    <a:cubicBezTo>
                      <a:pt x="225" y="5"/>
                      <a:pt x="224" y="4"/>
                      <a:pt x="224" y="3"/>
                    </a:cubicBezTo>
                    <a:cubicBezTo>
                      <a:pt x="224" y="1"/>
                      <a:pt x="225" y="1"/>
                      <a:pt x="226" y="1"/>
                    </a:cubicBezTo>
                    <a:close/>
                    <a:moveTo>
                      <a:pt x="234" y="1"/>
                    </a:moveTo>
                    <a:lnTo>
                      <a:pt x="234" y="1"/>
                    </a:lnTo>
                    <a:cubicBezTo>
                      <a:pt x="235" y="1"/>
                      <a:pt x="236" y="1"/>
                      <a:pt x="236" y="3"/>
                    </a:cubicBezTo>
                    <a:cubicBezTo>
                      <a:pt x="236" y="4"/>
                      <a:pt x="235" y="5"/>
                      <a:pt x="234" y="5"/>
                    </a:cubicBezTo>
                    <a:lnTo>
                      <a:pt x="234" y="5"/>
                    </a:lnTo>
                    <a:cubicBezTo>
                      <a:pt x="233" y="5"/>
                      <a:pt x="232" y="4"/>
                      <a:pt x="232" y="3"/>
                    </a:cubicBezTo>
                    <a:cubicBezTo>
                      <a:pt x="232" y="1"/>
                      <a:pt x="233" y="1"/>
                      <a:pt x="234" y="1"/>
                    </a:cubicBezTo>
                    <a:close/>
                    <a:moveTo>
                      <a:pt x="242" y="1"/>
                    </a:moveTo>
                    <a:lnTo>
                      <a:pt x="242" y="1"/>
                    </a:lnTo>
                    <a:cubicBezTo>
                      <a:pt x="243" y="1"/>
                      <a:pt x="244" y="1"/>
                      <a:pt x="244" y="3"/>
                    </a:cubicBezTo>
                    <a:cubicBezTo>
                      <a:pt x="244" y="4"/>
                      <a:pt x="243" y="5"/>
                      <a:pt x="242" y="5"/>
                    </a:cubicBezTo>
                    <a:lnTo>
                      <a:pt x="242" y="5"/>
                    </a:lnTo>
                    <a:cubicBezTo>
                      <a:pt x="241" y="5"/>
                      <a:pt x="240" y="4"/>
                      <a:pt x="240" y="3"/>
                    </a:cubicBezTo>
                    <a:cubicBezTo>
                      <a:pt x="240" y="1"/>
                      <a:pt x="241" y="1"/>
                      <a:pt x="242" y="1"/>
                    </a:cubicBezTo>
                    <a:close/>
                    <a:moveTo>
                      <a:pt x="250" y="1"/>
                    </a:moveTo>
                    <a:lnTo>
                      <a:pt x="250" y="1"/>
                    </a:lnTo>
                    <a:cubicBezTo>
                      <a:pt x="251" y="1"/>
                      <a:pt x="252" y="1"/>
                      <a:pt x="252" y="3"/>
                    </a:cubicBezTo>
                    <a:cubicBezTo>
                      <a:pt x="252" y="4"/>
                      <a:pt x="251" y="5"/>
                      <a:pt x="250" y="5"/>
                    </a:cubicBezTo>
                    <a:lnTo>
                      <a:pt x="250" y="5"/>
                    </a:lnTo>
                    <a:cubicBezTo>
                      <a:pt x="249" y="5"/>
                      <a:pt x="248" y="4"/>
                      <a:pt x="248" y="3"/>
                    </a:cubicBezTo>
                    <a:cubicBezTo>
                      <a:pt x="248" y="1"/>
                      <a:pt x="249" y="1"/>
                      <a:pt x="250" y="1"/>
                    </a:cubicBezTo>
                    <a:close/>
                    <a:moveTo>
                      <a:pt x="258" y="1"/>
                    </a:moveTo>
                    <a:lnTo>
                      <a:pt x="258" y="1"/>
                    </a:lnTo>
                    <a:cubicBezTo>
                      <a:pt x="259" y="1"/>
                      <a:pt x="260" y="1"/>
                      <a:pt x="260" y="3"/>
                    </a:cubicBezTo>
                    <a:cubicBezTo>
                      <a:pt x="260" y="4"/>
                      <a:pt x="259" y="5"/>
                      <a:pt x="258" y="5"/>
                    </a:cubicBezTo>
                    <a:lnTo>
                      <a:pt x="258" y="5"/>
                    </a:lnTo>
                    <a:cubicBezTo>
                      <a:pt x="257" y="5"/>
                      <a:pt x="256" y="4"/>
                      <a:pt x="256" y="3"/>
                    </a:cubicBezTo>
                    <a:cubicBezTo>
                      <a:pt x="256" y="1"/>
                      <a:pt x="257" y="1"/>
                      <a:pt x="258" y="1"/>
                    </a:cubicBezTo>
                    <a:close/>
                    <a:moveTo>
                      <a:pt x="266" y="1"/>
                    </a:moveTo>
                    <a:lnTo>
                      <a:pt x="266" y="1"/>
                    </a:lnTo>
                    <a:cubicBezTo>
                      <a:pt x="267" y="1"/>
                      <a:pt x="268" y="1"/>
                      <a:pt x="268" y="3"/>
                    </a:cubicBezTo>
                    <a:cubicBezTo>
                      <a:pt x="268" y="4"/>
                      <a:pt x="267" y="5"/>
                      <a:pt x="266" y="5"/>
                    </a:cubicBezTo>
                    <a:lnTo>
                      <a:pt x="266" y="5"/>
                    </a:lnTo>
                    <a:cubicBezTo>
                      <a:pt x="265" y="5"/>
                      <a:pt x="264" y="4"/>
                      <a:pt x="264" y="3"/>
                    </a:cubicBezTo>
                    <a:cubicBezTo>
                      <a:pt x="264" y="1"/>
                      <a:pt x="265" y="1"/>
                      <a:pt x="266" y="1"/>
                    </a:cubicBezTo>
                    <a:close/>
                    <a:moveTo>
                      <a:pt x="274" y="1"/>
                    </a:moveTo>
                    <a:lnTo>
                      <a:pt x="274" y="1"/>
                    </a:lnTo>
                    <a:cubicBezTo>
                      <a:pt x="275" y="1"/>
                      <a:pt x="276" y="1"/>
                      <a:pt x="276" y="3"/>
                    </a:cubicBezTo>
                    <a:cubicBezTo>
                      <a:pt x="276" y="4"/>
                      <a:pt x="275" y="5"/>
                      <a:pt x="274" y="5"/>
                    </a:cubicBezTo>
                    <a:lnTo>
                      <a:pt x="274" y="5"/>
                    </a:lnTo>
                    <a:cubicBezTo>
                      <a:pt x="273" y="5"/>
                      <a:pt x="272" y="4"/>
                      <a:pt x="272" y="3"/>
                    </a:cubicBezTo>
                    <a:cubicBezTo>
                      <a:pt x="272" y="1"/>
                      <a:pt x="273" y="1"/>
                      <a:pt x="274" y="1"/>
                    </a:cubicBezTo>
                    <a:close/>
                    <a:moveTo>
                      <a:pt x="282" y="1"/>
                    </a:moveTo>
                    <a:lnTo>
                      <a:pt x="282" y="1"/>
                    </a:lnTo>
                    <a:cubicBezTo>
                      <a:pt x="283" y="1"/>
                      <a:pt x="284" y="1"/>
                      <a:pt x="284" y="3"/>
                    </a:cubicBezTo>
                    <a:cubicBezTo>
                      <a:pt x="284" y="4"/>
                      <a:pt x="283" y="5"/>
                      <a:pt x="282" y="5"/>
                    </a:cubicBezTo>
                    <a:lnTo>
                      <a:pt x="282" y="5"/>
                    </a:lnTo>
                    <a:cubicBezTo>
                      <a:pt x="281" y="5"/>
                      <a:pt x="280" y="4"/>
                      <a:pt x="280" y="3"/>
                    </a:cubicBezTo>
                    <a:cubicBezTo>
                      <a:pt x="280" y="1"/>
                      <a:pt x="281" y="1"/>
                      <a:pt x="282" y="1"/>
                    </a:cubicBezTo>
                    <a:close/>
                    <a:moveTo>
                      <a:pt x="290" y="1"/>
                    </a:moveTo>
                    <a:lnTo>
                      <a:pt x="290" y="1"/>
                    </a:lnTo>
                    <a:cubicBezTo>
                      <a:pt x="291" y="1"/>
                      <a:pt x="292" y="1"/>
                      <a:pt x="292" y="3"/>
                    </a:cubicBezTo>
                    <a:cubicBezTo>
                      <a:pt x="292" y="4"/>
                      <a:pt x="291" y="5"/>
                      <a:pt x="290" y="5"/>
                    </a:cubicBezTo>
                    <a:lnTo>
                      <a:pt x="290" y="5"/>
                    </a:lnTo>
                    <a:cubicBezTo>
                      <a:pt x="289" y="5"/>
                      <a:pt x="288" y="4"/>
                      <a:pt x="288" y="3"/>
                    </a:cubicBezTo>
                    <a:cubicBezTo>
                      <a:pt x="288" y="1"/>
                      <a:pt x="289" y="1"/>
                      <a:pt x="290" y="1"/>
                    </a:cubicBezTo>
                    <a:close/>
                    <a:moveTo>
                      <a:pt x="298" y="1"/>
                    </a:moveTo>
                    <a:lnTo>
                      <a:pt x="298" y="1"/>
                    </a:lnTo>
                    <a:cubicBezTo>
                      <a:pt x="299" y="1"/>
                      <a:pt x="300" y="1"/>
                      <a:pt x="300" y="3"/>
                    </a:cubicBezTo>
                    <a:cubicBezTo>
                      <a:pt x="300" y="4"/>
                      <a:pt x="299" y="5"/>
                      <a:pt x="298" y="5"/>
                    </a:cubicBezTo>
                    <a:lnTo>
                      <a:pt x="298" y="5"/>
                    </a:lnTo>
                    <a:cubicBezTo>
                      <a:pt x="297" y="5"/>
                      <a:pt x="296" y="4"/>
                      <a:pt x="296" y="3"/>
                    </a:cubicBezTo>
                    <a:cubicBezTo>
                      <a:pt x="296" y="1"/>
                      <a:pt x="297" y="1"/>
                      <a:pt x="298" y="1"/>
                    </a:cubicBezTo>
                    <a:close/>
                    <a:moveTo>
                      <a:pt x="306" y="1"/>
                    </a:moveTo>
                    <a:lnTo>
                      <a:pt x="306" y="1"/>
                    </a:lnTo>
                    <a:cubicBezTo>
                      <a:pt x="307" y="1"/>
                      <a:pt x="308" y="1"/>
                      <a:pt x="308" y="3"/>
                    </a:cubicBezTo>
                    <a:cubicBezTo>
                      <a:pt x="308" y="4"/>
                      <a:pt x="307" y="5"/>
                      <a:pt x="306" y="5"/>
                    </a:cubicBezTo>
                    <a:lnTo>
                      <a:pt x="306" y="5"/>
                    </a:lnTo>
                    <a:cubicBezTo>
                      <a:pt x="305" y="5"/>
                      <a:pt x="304" y="4"/>
                      <a:pt x="304" y="3"/>
                    </a:cubicBezTo>
                    <a:cubicBezTo>
                      <a:pt x="304" y="1"/>
                      <a:pt x="305" y="1"/>
                      <a:pt x="306" y="1"/>
                    </a:cubicBezTo>
                    <a:close/>
                    <a:moveTo>
                      <a:pt x="314" y="1"/>
                    </a:moveTo>
                    <a:lnTo>
                      <a:pt x="314" y="1"/>
                    </a:lnTo>
                    <a:cubicBezTo>
                      <a:pt x="315" y="1"/>
                      <a:pt x="316" y="1"/>
                      <a:pt x="316" y="3"/>
                    </a:cubicBezTo>
                    <a:cubicBezTo>
                      <a:pt x="316" y="4"/>
                      <a:pt x="315" y="5"/>
                      <a:pt x="314" y="5"/>
                    </a:cubicBezTo>
                    <a:lnTo>
                      <a:pt x="314" y="5"/>
                    </a:lnTo>
                    <a:cubicBezTo>
                      <a:pt x="313" y="5"/>
                      <a:pt x="312" y="4"/>
                      <a:pt x="312" y="3"/>
                    </a:cubicBezTo>
                    <a:cubicBezTo>
                      <a:pt x="312" y="1"/>
                      <a:pt x="313" y="1"/>
                      <a:pt x="314" y="1"/>
                    </a:cubicBezTo>
                    <a:close/>
                    <a:moveTo>
                      <a:pt x="322" y="1"/>
                    </a:moveTo>
                    <a:lnTo>
                      <a:pt x="322" y="1"/>
                    </a:lnTo>
                    <a:cubicBezTo>
                      <a:pt x="323" y="1"/>
                      <a:pt x="324" y="1"/>
                      <a:pt x="324" y="3"/>
                    </a:cubicBezTo>
                    <a:cubicBezTo>
                      <a:pt x="324" y="4"/>
                      <a:pt x="323" y="5"/>
                      <a:pt x="322" y="5"/>
                    </a:cubicBezTo>
                    <a:lnTo>
                      <a:pt x="322" y="5"/>
                    </a:lnTo>
                    <a:cubicBezTo>
                      <a:pt x="321" y="5"/>
                      <a:pt x="320" y="4"/>
                      <a:pt x="320" y="3"/>
                    </a:cubicBezTo>
                    <a:cubicBezTo>
                      <a:pt x="320" y="1"/>
                      <a:pt x="321" y="1"/>
                      <a:pt x="322" y="1"/>
                    </a:cubicBezTo>
                    <a:close/>
                    <a:moveTo>
                      <a:pt x="330" y="1"/>
                    </a:moveTo>
                    <a:lnTo>
                      <a:pt x="330" y="1"/>
                    </a:lnTo>
                    <a:cubicBezTo>
                      <a:pt x="331" y="1"/>
                      <a:pt x="332" y="1"/>
                      <a:pt x="332" y="3"/>
                    </a:cubicBezTo>
                    <a:cubicBezTo>
                      <a:pt x="332" y="4"/>
                      <a:pt x="331" y="5"/>
                      <a:pt x="330" y="5"/>
                    </a:cubicBezTo>
                    <a:lnTo>
                      <a:pt x="330" y="5"/>
                    </a:lnTo>
                    <a:cubicBezTo>
                      <a:pt x="329" y="5"/>
                      <a:pt x="328" y="4"/>
                      <a:pt x="328" y="3"/>
                    </a:cubicBezTo>
                    <a:cubicBezTo>
                      <a:pt x="328" y="1"/>
                      <a:pt x="329" y="1"/>
                      <a:pt x="330" y="1"/>
                    </a:cubicBezTo>
                    <a:close/>
                    <a:moveTo>
                      <a:pt x="338" y="1"/>
                    </a:moveTo>
                    <a:lnTo>
                      <a:pt x="338" y="1"/>
                    </a:lnTo>
                    <a:cubicBezTo>
                      <a:pt x="339" y="1"/>
                      <a:pt x="340" y="1"/>
                      <a:pt x="340" y="3"/>
                    </a:cubicBezTo>
                    <a:cubicBezTo>
                      <a:pt x="340" y="4"/>
                      <a:pt x="339" y="5"/>
                      <a:pt x="338" y="5"/>
                    </a:cubicBezTo>
                    <a:lnTo>
                      <a:pt x="338" y="5"/>
                    </a:lnTo>
                    <a:cubicBezTo>
                      <a:pt x="337" y="5"/>
                      <a:pt x="336" y="4"/>
                      <a:pt x="336" y="3"/>
                    </a:cubicBezTo>
                    <a:cubicBezTo>
                      <a:pt x="336" y="1"/>
                      <a:pt x="337" y="1"/>
                      <a:pt x="338" y="1"/>
                    </a:cubicBezTo>
                    <a:close/>
                    <a:moveTo>
                      <a:pt x="346" y="1"/>
                    </a:moveTo>
                    <a:lnTo>
                      <a:pt x="346" y="1"/>
                    </a:lnTo>
                    <a:cubicBezTo>
                      <a:pt x="347" y="1"/>
                      <a:pt x="348" y="1"/>
                      <a:pt x="348" y="3"/>
                    </a:cubicBezTo>
                    <a:cubicBezTo>
                      <a:pt x="348" y="4"/>
                      <a:pt x="347" y="5"/>
                      <a:pt x="346" y="5"/>
                    </a:cubicBezTo>
                    <a:lnTo>
                      <a:pt x="346" y="5"/>
                    </a:lnTo>
                    <a:cubicBezTo>
                      <a:pt x="345" y="5"/>
                      <a:pt x="344" y="4"/>
                      <a:pt x="344" y="3"/>
                    </a:cubicBezTo>
                    <a:cubicBezTo>
                      <a:pt x="344" y="1"/>
                      <a:pt x="345" y="1"/>
                      <a:pt x="346" y="1"/>
                    </a:cubicBezTo>
                    <a:close/>
                    <a:moveTo>
                      <a:pt x="354" y="1"/>
                    </a:moveTo>
                    <a:lnTo>
                      <a:pt x="354" y="1"/>
                    </a:lnTo>
                    <a:cubicBezTo>
                      <a:pt x="355" y="1"/>
                      <a:pt x="356" y="1"/>
                      <a:pt x="356" y="3"/>
                    </a:cubicBezTo>
                    <a:cubicBezTo>
                      <a:pt x="356" y="4"/>
                      <a:pt x="355" y="5"/>
                      <a:pt x="354" y="5"/>
                    </a:cubicBezTo>
                    <a:lnTo>
                      <a:pt x="354" y="5"/>
                    </a:lnTo>
                    <a:cubicBezTo>
                      <a:pt x="353" y="5"/>
                      <a:pt x="352" y="4"/>
                      <a:pt x="352" y="3"/>
                    </a:cubicBezTo>
                    <a:cubicBezTo>
                      <a:pt x="352" y="1"/>
                      <a:pt x="353" y="1"/>
                      <a:pt x="354" y="1"/>
                    </a:cubicBezTo>
                    <a:close/>
                    <a:moveTo>
                      <a:pt x="362" y="1"/>
                    </a:moveTo>
                    <a:lnTo>
                      <a:pt x="362" y="1"/>
                    </a:lnTo>
                    <a:cubicBezTo>
                      <a:pt x="363" y="1"/>
                      <a:pt x="364" y="1"/>
                      <a:pt x="364" y="3"/>
                    </a:cubicBezTo>
                    <a:cubicBezTo>
                      <a:pt x="364" y="4"/>
                      <a:pt x="363" y="5"/>
                      <a:pt x="362" y="5"/>
                    </a:cubicBezTo>
                    <a:lnTo>
                      <a:pt x="362" y="5"/>
                    </a:lnTo>
                    <a:cubicBezTo>
                      <a:pt x="361" y="5"/>
                      <a:pt x="360" y="4"/>
                      <a:pt x="360" y="3"/>
                    </a:cubicBezTo>
                    <a:cubicBezTo>
                      <a:pt x="360" y="1"/>
                      <a:pt x="361" y="1"/>
                      <a:pt x="362" y="1"/>
                    </a:cubicBezTo>
                    <a:close/>
                    <a:moveTo>
                      <a:pt x="370" y="1"/>
                    </a:moveTo>
                    <a:lnTo>
                      <a:pt x="370" y="1"/>
                    </a:lnTo>
                    <a:cubicBezTo>
                      <a:pt x="371" y="1"/>
                      <a:pt x="372" y="1"/>
                      <a:pt x="372" y="3"/>
                    </a:cubicBezTo>
                    <a:cubicBezTo>
                      <a:pt x="372" y="4"/>
                      <a:pt x="371" y="5"/>
                      <a:pt x="370" y="5"/>
                    </a:cubicBezTo>
                    <a:lnTo>
                      <a:pt x="370" y="5"/>
                    </a:lnTo>
                    <a:cubicBezTo>
                      <a:pt x="369" y="5"/>
                      <a:pt x="368" y="4"/>
                      <a:pt x="368" y="3"/>
                    </a:cubicBezTo>
                    <a:cubicBezTo>
                      <a:pt x="368" y="1"/>
                      <a:pt x="369" y="1"/>
                      <a:pt x="370" y="1"/>
                    </a:cubicBezTo>
                    <a:close/>
                    <a:moveTo>
                      <a:pt x="378" y="1"/>
                    </a:moveTo>
                    <a:lnTo>
                      <a:pt x="378" y="1"/>
                    </a:lnTo>
                    <a:cubicBezTo>
                      <a:pt x="379" y="1"/>
                      <a:pt x="380" y="1"/>
                      <a:pt x="380" y="3"/>
                    </a:cubicBezTo>
                    <a:cubicBezTo>
                      <a:pt x="380" y="4"/>
                      <a:pt x="379" y="5"/>
                      <a:pt x="378" y="5"/>
                    </a:cubicBezTo>
                    <a:lnTo>
                      <a:pt x="378" y="5"/>
                    </a:lnTo>
                    <a:cubicBezTo>
                      <a:pt x="377" y="5"/>
                      <a:pt x="376" y="4"/>
                      <a:pt x="376" y="3"/>
                    </a:cubicBezTo>
                    <a:cubicBezTo>
                      <a:pt x="376" y="1"/>
                      <a:pt x="377" y="1"/>
                      <a:pt x="378" y="1"/>
                    </a:cubicBezTo>
                    <a:close/>
                    <a:moveTo>
                      <a:pt x="386" y="1"/>
                    </a:moveTo>
                    <a:lnTo>
                      <a:pt x="386" y="1"/>
                    </a:lnTo>
                    <a:cubicBezTo>
                      <a:pt x="387" y="1"/>
                      <a:pt x="388" y="1"/>
                      <a:pt x="388" y="3"/>
                    </a:cubicBezTo>
                    <a:cubicBezTo>
                      <a:pt x="388" y="4"/>
                      <a:pt x="387" y="5"/>
                      <a:pt x="386" y="5"/>
                    </a:cubicBezTo>
                    <a:lnTo>
                      <a:pt x="386" y="5"/>
                    </a:lnTo>
                    <a:cubicBezTo>
                      <a:pt x="385" y="5"/>
                      <a:pt x="384" y="4"/>
                      <a:pt x="384" y="3"/>
                    </a:cubicBezTo>
                    <a:cubicBezTo>
                      <a:pt x="384" y="1"/>
                      <a:pt x="385" y="1"/>
                      <a:pt x="386" y="1"/>
                    </a:cubicBezTo>
                    <a:close/>
                    <a:moveTo>
                      <a:pt x="394" y="1"/>
                    </a:moveTo>
                    <a:lnTo>
                      <a:pt x="394" y="1"/>
                    </a:lnTo>
                    <a:cubicBezTo>
                      <a:pt x="395" y="1"/>
                      <a:pt x="396" y="1"/>
                      <a:pt x="396" y="3"/>
                    </a:cubicBezTo>
                    <a:cubicBezTo>
                      <a:pt x="396" y="4"/>
                      <a:pt x="395" y="5"/>
                      <a:pt x="394" y="5"/>
                    </a:cubicBezTo>
                    <a:lnTo>
                      <a:pt x="394" y="5"/>
                    </a:lnTo>
                    <a:cubicBezTo>
                      <a:pt x="393" y="5"/>
                      <a:pt x="392" y="4"/>
                      <a:pt x="392" y="3"/>
                    </a:cubicBezTo>
                    <a:cubicBezTo>
                      <a:pt x="392" y="1"/>
                      <a:pt x="393" y="1"/>
                      <a:pt x="394" y="1"/>
                    </a:cubicBezTo>
                    <a:close/>
                    <a:moveTo>
                      <a:pt x="402" y="1"/>
                    </a:moveTo>
                    <a:lnTo>
                      <a:pt x="402" y="1"/>
                    </a:lnTo>
                    <a:cubicBezTo>
                      <a:pt x="403" y="1"/>
                      <a:pt x="404" y="1"/>
                      <a:pt x="404" y="3"/>
                    </a:cubicBezTo>
                    <a:cubicBezTo>
                      <a:pt x="404" y="4"/>
                      <a:pt x="403" y="5"/>
                      <a:pt x="402" y="5"/>
                    </a:cubicBezTo>
                    <a:lnTo>
                      <a:pt x="402" y="5"/>
                    </a:lnTo>
                    <a:cubicBezTo>
                      <a:pt x="401" y="5"/>
                      <a:pt x="400" y="4"/>
                      <a:pt x="400" y="3"/>
                    </a:cubicBezTo>
                    <a:cubicBezTo>
                      <a:pt x="400" y="1"/>
                      <a:pt x="401" y="1"/>
                      <a:pt x="402" y="1"/>
                    </a:cubicBezTo>
                    <a:close/>
                    <a:moveTo>
                      <a:pt x="410" y="1"/>
                    </a:moveTo>
                    <a:lnTo>
                      <a:pt x="410" y="1"/>
                    </a:lnTo>
                    <a:cubicBezTo>
                      <a:pt x="411" y="1"/>
                      <a:pt x="412" y="1"/>
                      <a:pt x="412" y="3"/>
                    </a:cubicBezTo>
                    <a:cubicBezTo>
                      <a:pt x="412" y="4"/>
                      <a:pt x="411" y="5"/>
                      <a:pt x="410" y="5"/>
                    </a:cubicBezTo>
                    <a:lnTo>
                      <a:pt x="410" y="5"/>
                    </a:lnTo>
                    <a:cubicBezTo>
                      <a:pt x="409" y="5"/>
                      <a:pt x="408" y="4"/>
                      <a:pt x="408" y="3"/>
                    </a:cubicBezTo>
                    <a:cubicBezTo>
                      <a:pt x="408" y="1"/>
                      <a:pt x="409" y="1"/>
                      <a:pt x="410" y="1"/>
                    </a:cubicBezTo>
                    <a:close/>
                    <a:moveTo>
                      <a:pt x="418" y="1"/>
                    </a:moveTo>
                    <a:lnTo>
                      <a:pt x="418" y="1"/>
                    </a:lnTo>
                    <a:cubicBezTo>
                      <a:pt x="419" y="1"/>
                      <a:pt x="420" y="1"/>
                      <a:pt x="420" y="3"/>
                    </a:cubicBezTo>
                    <a:cubicBezTo>
                      <a:pt x="420" y="4"/>
                      <a:pt x="419" y="5"/>
                      <a:pt x="418" y="5"/>
                    </a:cubicBezTo>
                    <a:lnTo>
                      <a:pt x="418" y="5"/>
                    </a:lnTo>
                    <a:cubicBezTo>
                      <a:pt x="417" y="5"/>
                      <a:pt x="416" y="4"/>
                      <a:pt x="416" y="3"/>
                    </a:cubicBezTo>
                    <a:cubicBezTo>
                      <a:pt x="416" y="1"/>
                      <a:pt x="417" y="1"/>
                      <a:pt x="418" y="1"/>
                    </a:cubicBezTo>
                    <a:close/>
                    <a:moveTo>
                      <a:pt x="426" y="1"/>
                    </a:moveTo>
                    <a:lnTo>
                      <a:pt x="426" y="1"/>
                    </a:lnTo>
                    <a:cubicBezTo>
                      <a:pt x="427" y="1"/>
                      <a:pt x="428" y="1"/>
                      <a:pt x="428" y="3"/>
                    </a:cubicBezTo>
                    <a:cubicBezTo>
                      <a:pt x="428" y="4"/>
                      <a:pt x="427" y="5"/>
                      <a:pt x="426" y="5"/>
                    </a:cubicBezTo>
                    <a:lnTo>
                      <a:pt x="426" y="5"/>
                    </a:lnTo>
                    <a:cubicBezTo>
                      <a:pt x="425" y="5"/>
                      <a:pt x="424" y="4"/>
                      <a:pt x="424" y="3"/>
                    </a:cubicBezTo>
                    <a:cubicBezTo>
                      <a:pt x="424" y="1"/>
                      <a:pt x="425" y="1"/>
                      <a:pt x="426" y="1"/>
                    </a:cubicBezTo>
                    <a:close/>
                    <a:moveTo>
                      <a:pt x="434" y="1"/>
                    </a:moveTo>
                    <a:lnTo>
                      <a:pt x="434" y="1"/>
                    </a:lnTo>
                    <a:cubicBezTo>
                      <a:pt x="435" y="1"/>
                      <a:pt x="436" y="1"/>
                      <a:pt x="436" y="3"/>
                    </a:cubicBezTo>
                    <a:cubicBezTo>
                      <a:pt x="436" y="4"/>
                      <a:pt x="435" y="5"/>
                      <a:pt x="434" y="5"/>
                    </a:cubicBezTo>
                    <a:lnTo>
                      <a:pt x="434" y="5"/>
                    </a:lnTo>
                    <a:cubicBezTo>
                      <a:pt x="433" y="5"/>
                      <a:pt x="432" y="4"/>
                      <a:pt x="432" y="3"/>
                    </a:cubicBezTo>
                    <a:cubicBezTo>
                      <a:pt x="432" y="1"/>
                      <a:pt x="433" y="1"/>
                      <a:pt x="434" y="1"/>
                    </a:cubicBezTo>
                    <a:close/>
                    <a:moveTo>
                      <a:pt x="442" y="1"/>
                    </a:moveTo>
                    <a:lnTo>
                      <a:pt x="442" y="1"/>
                    </a:lnTo>
                    <a:cubicBezTo>
                      <a:pt x="443" y="1"/>
                      <a:pt x="444" y="1"/>
                      <a:pt x="444" y="3"/>
                    </a:cubicBezTo>
                    <a:cubicBezTo>
                      <a:pt x="444" y="4"/>
                      <a:pt x="443" y="5"/>
                      <a:pt x="442" y="5"/>
                    </a:cubicBezTo>
                    <a:lnTo>
                      <a:pt x="442" y="5"/>
                    </a:lnTo>
                    <a:cubicBezTo>
                      <a:pt x="441" y="5"/>
                      <a:pt x="440" y="4"/>
                      <a:pt x="440" y="3"/>
                    </a:cubicBezTo>
                    <a:cubicBezTo>
                      <a:pt x="440" y="1"/>
                      <a:pt x="441" y="1"/>
                      <a:pt x="442" y="1"/>
                    </a:cubicBezTo>
                    <a:close/>
                    <a:moveTo>
                      <a:pt x="450" y="1"/>
                    </a:moveTo>
                    <a:lnTo>
                      <a:pt x="450" y="1"/>
                    </a:lnTo>
                    <a:cubicBezTo>
                      <a:pt x="451" y="1"/>
                      <a:pt x="452" y="1"/>
                      <a:pt x="452" y="3"/>
                    </a:cubicBezTo>
                    <a:cubicBezTo>
                      <a:pt x="452" y="4"/>
                      <a:pt x="451" y="5"/>
                      <a:pt x="450" y="5"/>
                    </a:cubicBezTo>
                    <a:lnTo>
                      <a:pt x="450" y="5"/>
                    </a:lnTo>
                    <a:cubicBezTo>
                      <a:pt x="449" y="5"/>
                      <a:pt x="448" y="4"/>
                      <a:pt x="448" y="3"/>
                    </a:cubicBezTo>
                    <a:cubicBezTo>
                      <a:pt x="448" y="1"/>
                      <a:pt x="449" y="1"/>
                      <a:pt x="450" y="1"/>
                    </a:cubicBezTo>
                    <a:close/>
                    <a:moveTo>
                      <a:pt x="458" y="1"/>
                    </a:moveTo>
                    <a:lnTo>
                      <a:pt x="458" y="1"/>
                    </a:lnTo>
                    <a:cubicBezTo>
                      <a:pt x="459" y="1"/>
                      <a:pt x="460" y="1"/>
                      <a:pt x="460" y="3"/>
                    </a:cubicBezTo>
                    <a:cubicBezTo>
                      <a:pt x="460" y="4"/>
                      <a:pt x="459" y="5"/>
                      <a:pt x="458" y="5"/>
                    </a:cubicBezTo>
                    <a:lnTo>
                      <a:pt x="458" y="5"/>
                    </a:lnTo>
                    <a:cubicBezTo>
                      <a:pt x="457" y="5"/>
                      <a:pt x="456" y="4"/>
                      <a:pt x="456" y="3"/>
                    </a:cubicBezTo>
                    <a:cubicBezTo>
                      <a:pt x="456" y="1"/>
                      <a:pt x="457" y="1"/>
                      <a:pt x="458" y="1"/>
                    </a:cubicBezTo>
                    <a:close/>
                    <a:moveTo>
                      <a:pt x="466" y="1"/>
                    </a:moveTo>
                    <a:lnTo>
                      <a:pt x="466" y="1"/>
                    </a:lnTo>
                    <a:cubicBezTo>
                      <a:pt x="467" y="1"/>
                      <a:pt x="468" y="1"/>
                      <a:pt x="468" y="3"/>
                    </a:cubicBezTo>
                    <a:cubicBezTo>
                      <a:pt x="468" y="4"/>
                      <a:pt x="467" y="5"/>
                      <a:pt x="466" y="5"/>
                    </a:cubicBezTo>
                    <a:lnTo>
                      <a:pt x="466" y="5"/>
                    </a:lnTo>
                    <a:cubicBezTo>
                      <a:pt x="465" y="5"/>
                      <a:pt x="464" y="4"/>
                      <a:pt x="464" y="3"/>
                    </a:cubicBezTo>
                    <a:cubicBezTo>
                      <a:pt x="464" y="1"/>
                      <a:pt x="465" y="1"/>
                      <a:pt x="466" y="1"/>
                    </a:cubicBezTo>
                    <a:close/>
                    <a:moveTo>
                      <a:pt x="474" y="1"/>
                    </a:moveTo>
                    <a:lnTo>
                      <a:pt x="474" y="1"/>
                    </a:lnTo>
                    <a:cubicBezTo>
                      <a:pt x="475" y="1"/>
                      <a:pt x="476" y="1"/>
                      <a:pt x="476" y="3"/>
                    </a:cubicBezTo>
                    <a:cubicBezTo>
                      <a:pt x="476" y="4"/>
                      <a:pt x="475" y="5"/>
                      <a:pt x="474" y="5"/>
                    </a:cubicBezTo>
                    <a:lnTo>
                      <a:pt x="474" y="5"/>
                    </a:lnTo>
                    <a:cubicBezTo>
                      <a:pt x="473" y="5"/>
                      <a:pt x="472" y="4"/>
                      <a:pt x="472" y="3"/>
                    </a:cubicBezTo>
                    <a:cubicBezTo>
                      <a:pt x="472" y="1"/>
                      <a:pt x="473" y="1"/>
                      <a:pt x="474" y="1"/>
                    </a:cubicBezTo>
                    <a:close/>
                    <a:moveTo>
                      <a:pt x="482" y="1"/>
                    </a:moveTo>
                    <a:lnTo>
                      <a:pt x="482" y="1"/>
                    </a:lnTo>
                    <a:cubicBezTo>
                      <a:pt x="483" y="1"/>
                      <a:pt x="484" y="1"/>
                      <a:pt x="484" y="3"/>
                    </a:cubicBezTo>
                    <a:cubicBezTo>
                      <a:pt x="484" y="4"/>
                      <a:pt x="483" y="5"/>
                      <a:pt x="482" y="5"/>
                    </a:cubicBezTo>
                    <a:lnTo>
                      <a:pt x="482" y="5"/>
                    </a:lnTo>
                    <a:cubicBezTo>
                      <a:pt x="481" y="5"/>
                      <a:pt x="480" y="4"/>
                      <a:pt x="480" y="3"/>
                    </a:cubicBezTo>
                    <a:cubicBezTo>
                      <a:pt x="480" y="1"/>
                      <a:pt x="481" y="1"/>
                      <a:pt x="482" y="1"/>
                    </a:cubicBezTo>
                    <a:close/>
                    <a:moveTo>
                      <a:pt x="490" y="1"/>
                    </a:moveTo>
                    <a:lnTo>
                      <a:pt x="490" y="1"/>
                    </a:lnTo>
                    <a:cubicBezTo>
                      <a:pt x="491" y="1"/>
                      <a:pt x="492" y="1"/>
                      <a:pt x="492" y="3"/>
                    </a:cubicBezTo>
                    <a:cubicBezTo>
                      <a:pt x="492" y="4"/>
                      <a:pt x="491" y="5"/>
                      <a:pt x="490" y="5"/>
                    </a:cubicBezTo>
                    <a:lnTo>
                      <a:pt x="490" y="5"/>
                    </a:lnTo>
                    <a:cubicBezTo>
                      <a:pt x="489" y="5"/>
                      <a:pt x="488" y="4"/>
                      <a:pt x="488" y="3"/>
                    </a:cubicBezTo>
                    <a:cubicBezTo>
                      <a:pt x="488" y="1"/>
                      <a:pt x="489" y="1"/>
                      <a:pt x="490" y="1"/>
                    </a:cubicBezTo>
                    <a:close/>
                    <a:moveTo>
                      <a:pt x="498" y="1"/>
                    </a:moveTo>
                    <a:lnTo>
                      <a:pt x="498" y="1"/>
                    </a:lnTo>
                    <a:cubicBezTo>
                      <a:pt x="499" y="1"/>
                      <a:pt x="500" y="1"/>
                      <a:pt x="500" y="3"/>
                    </a:cubicBezTo>
                    <a:cubicBezTo>
                      <a:pt x="500" y="4"/>
                      <a:pt x="499" y="5"/>
                      <a:pt x="498" y="5"/>
                    </a:cubicBezTo>
                    <a:lnTo>
                      <a:pt x="498" y="5"/>
                    </a:lnTo>
                    <a:cubicBezTo>
                      <a:pt x="497" y="5"/>
                      <a:pt x="496" y="4"/>
                      <a:pt x="496" y="3"/>
                    </a:cubicBezTo>
                    <a:cubicBezTo>
                      <a:pt x="496" y="1"/>
                      <a:pt x="497" y="1"/>
                      <a:pt x="498" y="1"/>
                    </a:cubicBezTo>
                    <a:close/>
                    <a:moveTo>
                      <a:pt x="506" y="1"/>
                    </a:moveTo>
                    <a:lnTo>
                      <a:pt x="506" y="1"/>
                    </a:lnTo>
                    <a:cubicBezTo>
                      <a:pt x="507" y="1"/>
                      <a:pt x="508" y="1"/>
                      <a:pt x="508" y="3"/>
                    </a:cubicBezTo>
                    <a:cubicBezTo>
                      <a:pt x="508" y="4"/>
                      <a:pt x="507" y="5"/>
                      <a:pt x="506" y="5"/>
                    </a:cubicBezTo>
                    <a:lnTo>
                      <a:pt x="506" y="5"/>
                    </a:lnTo>
                    <a:cubicBezTo>
                      <a:pt x="505" y="5"/>
                      <a:pt x="504" y="4"/>
                      <a:pt x="504" y="3"/>
                    </a:cubicBezTo>
                    <a:cubicBezTo>
                      <a:pt x="504" y="1"/>
                      <a:pt x="505" y="1"/>
                      <a:pt x="506" y="1"/>
                    </a:cubicBezTo>
                    <a:close/>
                    <a:moveTo>
                      <a:pt x="514" y="1"/>
                    </a:moveTo>
                    <a:lnTo>
                      <a:pt x="514" y="1"/>
                    </a:lnTo>
                    <a:cubicBezTo>
                      <a:pt x="515" y="1"/>
                      <a:pt x="516" y="1"/>
                      <a:pt x="516" y="3"/>
                    </a:cubicBezTo>
                    <a:cubicBezTo>
                      <a:pt x="516" y="4"/>
                      <a:pt x="515" y="5"/>
                      <a:pt x="514" y="5"/>
                    </a:cubicBezTo>
                    <a:lnTo>
                      <a:pt x="514" y="5"/>
                    </a:lnTo>
                    <a:cubicBezTo>
                      <a:pt x="513" y="5"/>
                      <a:pt x="512" y="4"/>
                      <a:pt x="512" y="3"/>
                    </a:cubicBezTo>
                    <a:cubicBezTo>
                      <a:pt x="512" y="1"/>
                      <a:pt x="513" y="1"/>
                      <a:pt x="514" y="1"/>
                    </a:cubicBezTo>
                    <a:close/>
                    <a:moveTo>
                      <a:pt x="522" y="1"/>
                    </a:moveTo>
                    <a:lnTo>
                      <a:pt x="522" y="1"/>
                    </a:lnTo>
                    <a:cubicBezTo>
                      <a:pt x="523" y="1"/>
                      <a:pt x="524" y="1"/>
                      <a:pt x="524" y="3"/>
                    </a:cubicBezTo>
                    <a:cubicBezTo>
                      <a:pt x="524" y="4"/>
                      <a:pt x="523" y="5"/>
                      <a:pt x="522" y="5"/>
                    </a:cubicBezTo>
                    <a:lnTo>
                      <a:pt x="522" y="5"/>
                    </a:lnTo>
                    <a:cubicBezTo>
                      <a:pt x="521" y="5"/>
                      <a:pt x="520" y="4"/>
                      <a:pt x="520" y="3"/>
                    </a:cubicBezTo>
                    <a:cubicBezTo>
                      <a:pt x="520" y="1"/>
                      <a:pt x="521" y="1"/>
                      <a:pt x="522" y="1"/>
                    </a:cubicBezTo>
                    <a:close/>
                    <a:moveTo>
                      <a:pt x="530" y="1"/>
                    </a:moveTo>
                    <a:lnTo>
                      <a:pt x="530" y="1"/>
                    </a:lnTo>
                    <a:cubicBezTo>
                      <a:pt x="531" y="1"/>
                      <a:pt x="532" y="1"/>
                      <a:pt x="532" y="3"/>
                    </a:cubicBezTo>
                    <a:cubicBezTo>
                      <a:pt x="532" y="4"/>
                      <a:pt x="531" y="5"/>
                      <a:pt x="530" y="5"/>
                    </a:cubicBezTo>
                    <a:lnTo>
                      <a:pt x="530" y="5"/>
                    </a:lnTo>
                    <a:cubicBezTo>
                      <a:pt x="529" y="5"/>
                      <a:pt x="528" y="4"/>
                      <a:pt x="528" y="3"/>
                    </a:cubicBezTo>
                    <a:cubicBezTo>
                      <a:pt x="528" y="1"/>
                      <a:pt x="529" y="1"/>
                      <a:pt x="530" y="1"/>
                    </a:cubicBezTo>
                    <a:close/>
                    <a:moveTo>
                      <a:pt x="538" y="1"/>
                    </a:moveTo>
                    <a:lnTo>
                      <a:pt x="538" y="1"/>
                    </a:lnTo>
                    <a:cubicBezTo>
                      <a:pt x="539" y="1"/>
                      <a:pt x="540" y="1"/>
                      <a:pt x="540" y="3"/>
                    </a:cubicBezTo>
                    <a:cubicBezTo>
                      <a:pt x="540" y="4"/>
                      <a:pt x="539" y="5"/>
                      <a:pt x="538" y="5"/>
                    </a:cubicBezTo>
                    <a:lnTo>
                      <a:pt x="538" y="5"/>
                    </a:lnTo>
                    <a:cubicBezTo>
                      <a:pt x="537" y="5"/>
                      <a:pt x="536" y="4"/>
                      <a:pt x="536" y="3"/>
                    </a:cubicBezTo>
                    <a:cubicBezTo>
                      <a:pt x="536" y="1"/>
                      <a:pt x="537" y="1"/>
                      <a:pt x="538" y="1"/>
                    </a:cubicBezTo>
                    <a:close/>
                    <a:moveTo>
                      <a:pt x="546" y="1"/>
                    </a:moveTo>
                    <a:lnTo>
                      <a:pt x="546" y="1"/>
                    </a:lnTo>
                    <a:cubicBezTo>
                      <a:pt x="547" y="1"/>
                      <a:pt x="548" y="1"/>
                      <a:pt x="548" y="3"/>
                    </a:cubicBezTo>
                    <a:cubicBezTo>
                      <a:pt x="548" y="4"/>
                      <a:pt x="547" y="5"/>
                      <a:pt x="546" y="5"/>
                    </a:cubicBezTo>
                    <a:lnTo>
                      <a:pt x="546" y="5"/>
                    </a:lnTo>
                    <a:cubicBezTo>
                      <a:pt x="545" y="5"/>
                      <a:pt x="544" y="4"/>
                      <a:pt x="544" y="3"/>
                    </a:cubicBezTo>
                    <a:cubicBezTo>
                      <a:pt x="544" y="1"/>
                      <a:pt x="545" y="1"/>
                      <a:pt x="546" y="1"/>
                    </a:cubicBezTo>
                    <a:close/>
                    <a:moveTo>
                      <a:pt x="554" y="1"/>
                    </a:moveTo>
                    <a:lnTo>
                      <a:pt x="554" y="1"/>
                    </a:lnTo>
                    <a:cubicBezTo>
                      <a:pt x="555" y="1"/>
                      <a:pt x="556" y="1"/>
                      <a:pt x="556" y="3"/>
                    </a:cubicBezTo>
                    <a:cubicBezTo>
                      <a:pt x="556" y="4"/>
                      <a:pt x="555" y="5"/>
                      <a:pt x="554" y="5"/>
                    </a:cubicBezTo>
                    <a:lnTo>
                      <a:pt x="554" y="5"/>
                    </a:lnTo>
                    <a:cubicBezTo>
                      <a:pt x="553" y="5"/>
                      <a:pt x="552" y="4"/>
                      <a:pt x="552" y="3"/>
                    </a:cubicBezTo>
                    <a:cubicBezTo>
                      <a:pt x="552" y="1"/>
                      <a:pt x="553" y="1"/>
                      <a:pt x="554" y="1"/>
                    </a:cubicBezTo>
                    <a:close/>
                    <a:moveTo>
                      <a:pt x="562" y="1"/>
                    </a:moveTo>
                    <a:lnTo>
                      <a:pt x="562" y="1"/>
                    </a:lnTo>
                    <a:cubicBezTo>
                      <a:pt x="563" y="1"/>
                      <a:pt x="564" y="1"/>
                      <a:pt x="564" y="3"/>
                    </a:cubicBezTo>
                    <a:cubicBezTo>
                      <a:pt x="564" y="4"/>
                      <a:pt x="563" y="5"/>
                      <a:pt x="562" y="5"/>
                    </a:cubicBezTo>
                    <a:lnTo>
                      <a:pt x="562" y="5"/>
                    </a:lnTo>
                    <a:cubicBezTo>
                      <a:pt x="561" y="5"/>
                      <a:pt x="560" y="4"/>
                      <a:pt x="560" y="3"/>
                    </a:cubicBezTo>
                    <a:cubicBezTo>
                      <a:pt x="560" y="1"/>
                      <a:pt x="561" y="1"/>
                      <a:pt x="562" y="1"/>
                    </a:cubicBezTo>
                    <a:close/>
                    <a:moveTo>
                      <a:pt x="570" y="1"/>
                    </a:moveTo>
                    <a:lnTo>
                      <a:pt x="570" y="1"/>
                    </a:lnTo>
                    <a:cubicBezTo>
                      <a:pt x="571" y="1"/>
                      <a:pt x="572" y="1"/>
                      <a:pt x="572" y="3"/>
                    </a:cubicBezTo>
                    <a:cubicBezTo>
                      <a:pt x="572" y="4"/>
                      <a:pt x="571" y="5"/>
                      <a:pt x="570" y="5"/>
                    </a:cubicBezTo>
                    <a:lnTo>
                      <a:pt x="570" y="5"/>
                    </a:lnTo>
                    <a:cubicBezTo>
                      <a:pt x="569" y="5"/>
                      <a:pt x="568" y="4"/>
                      <a:pt x="568" y="3"/>
                    </a:cubicBezTo>
                    <a:cubicBezTo>
                      <a:pt x="568" y="1"/>
                      <a:pt x="569" y="1"/>
                      <a:pt x="570" y="1"/>
                    </a:cubicBezTo>
                    <a:close/>
                    <a:moveTo>
                      <a:pt x="578" y="1"/>
                    </a:moveTo>
                    <a:lnTo>
                      <a:pt x="578" y="1"/>
                    </a:lnTo>
                    <a:cubicBezTo>
                      <a:pt x="579" y="1"/>
                      <a:pt x="580" y="1"/>
                      <a:pt x="580" y="3"/>
                    </a:cubicBezTo>
                    <a:cubicBezTo>
                      <a:pt x="580" y="4"/>
                      <a:pt x="579" y="5"/>
                      <a:pt x="578" y="5"/>
                    </a:cubicBezTo>
                    <a:lnTo>
                      <a:pt x="578" y="5"/>
                    </a:lnTo>
                    <a:cubicBezTo>
                      <a:pt x="577" y="5"/>
                      <a:pt x="576" y="4"/>
                      <a:pt x="576" y="3"/>
                    </a:cubicBezTo>
                    <a:cubicBezTo>
                      <a:pt x="576" y="1"/>
                      <a:pt x="577" y="1"/>
                      <a:pt x="578" y="1"/>
                    </a:cubicBezTo>
                    <a:close/>
                    <a:moveTo>
                      <a:pt x="586" y="1"/>
                    </a:moveTo>
                    <a:lnTo>
                      <a:pt x="586" y="1"/>
                    </a:lnTo>
                    <a:cubicBezTo>
                      <a:pt x="587" y="1"/>
                      <a:pt x="588" y="1"/>
                      <a:pt x="588" y="3"/>
                    </a:cubicBezTo>
                    <a:cubicBezTo>
                      <a:pt x="588" y="4"/>
                      <a:pt x="587" y="5"/>
                      <a:pt x="586" y="5"/>
                    </a:cubicBezTo>
                    <a:lnTo>
                      <a:pt x="586" y="5"/>
                    </a:lnTo>
                    <a:cubicBezTo>
                      <a:pt x="585" y="5"/>
                      <a:pt x="584" y="4"/>
                      <a:pt x="584" y="3"/>
                    </a:cubicBezTo>
                    <a:cubicBezTo>
                      <a:pt x="584" y="1"/>
                      <a:pt x="585" y="1"/>
                      <a:pt x="586" y="1"/>
                    </a:cubicBezTo>
                    <a:close/>
                    <a:moveTo>
                      <a:pt x="594" y="1"/>
                    </a:moveTo>
                    <a:lnTo>
                      <a:pt x="594" y="1"/>
                    </a:lnTo>
                    <a:cubicBezTo>
                      <a:pt x="595" y="1"/>
                      <a:pt x="596" y="1"/>
                      <a:pt x="596" y="3"/>
                    </a:cubicBezTo>
                    <a:cubicBezTo>
                      <a:pt x="596" y="4"/>
                      <a:pt x="595" y="5"/>
                      <a:pt x="594" y="5"/>
                    </a:cubicBezTo>
                    <a:lnTo>
                      <a:pt x="594" y="5"/>
                    </a:lnTo>
                    <a:cubicBezTo>
                      <a:pt x="593" y="5"/>
                      <a:pt x="592" y="4"/>
                      <a:pt x="592" y="3"/>
                    </a:cubicBezTo>
                    <a:cubicBezTo>
                      <a:pt x="592" y="1"/>
                      <a:pt x="593" y="1"/>
                      <a:pt x="594" y="1"/>
                    </a:cubicBezTo>
                    <a:close/>
                    <a:moveTo>
                      <a:pt x="602" y="1"/>
                    </a:moveTo>
                    <a:lnTo>
                      <a:pt x="602" y="1"/>
                    </a:lnTo>
                    <a:cubicBezTo>
                      <a:pt x="603" y="1"/>
                      <a:pt x="604" y="1"/>
                      <a:pt x="604" y="3"/>
                    </a:cubicBezTo>
                    <a:cubicBezTo>
                      <a:pt x="604" y="4"/>
                      <a:pt x="603" y="5"/>
                      <a:pt x="602" y="5"/>
                    </a:cubicBezTo>
                    <a:lnTo>
                      <a:pt x="602" y="5"/>
                    </a:lnTo>
                    <a:cubicBezTo>
                      <a:pt x="601" y="5"/>
                      <a:pt x="600" y="4"/>
                      <a:pt x="600" y="3"/>
                    </a:cubicBezTo>
                    <a:cubicBezTo>
                      <a:pt x="600" y="1"/>
                      <a:pt x="601" y="1"/>
                      <a:pt x="602" y="1"/>
                    </a:cubicBezTo>
                    <a:close/>
                    <a:moveTo>
                      <a:pt x="610" y="1"/>
                    </a:moveTo>
                    <a:lnTo>
                      <a:pt x="610" y="1"/>
                    </a:lnTo>
                    <a:cubicBezTo>
                      <a:pt x="611" y="1"/>
                      <a:pt x="612" y="1"/>
                      <a:pt x="612" y="3"/>
                    </a:cubicBezTo>
                    <a:cubicBezTo>
                      <a:pt x="612" y="4"/>
                      <a:pt x="611" y="5"/>
                      <a:pt x="610" y="5"/>
                    </a:cubicBezTo>
                    <a:lnTo>
                      <a:pt x="610" y="5"/>
                    </a:lnTo>
                    <a:cubicBezTo>
                      <a:pt x="609" y="5"/>
                      <a:pt x="608" y="4"/>
                      <a:pt x="608" y="3"/>
                    </a:cubicBezTo>
                    <a:cubicBezTo>
                      <a:pt x="608" y="1"/>
                      <a:pt x="609" y="1"/>
                      <a:pt x="610" y="1"/>
                    </a:cubicBezTo>
                    <a:close/>
                    <a:moveTo>
                      <a:pt x="618" y="1"/>
                    </a:moveTo>
                    <a:lnTo>
                      <a:pt x="618" y="1"/>
                    </a:lnTo>
                    <a:cubicBezTo>
                      <a:pt x="619" y="1"/>
                      <a:pt x="620" y="1"/>
                      <a:pt x="620" y="3"/>
                    </a:cubicBezTo>
                    <a:cubicBezTo>
                      <a:pt x="620" y="4"/>
                      <a:pt x="619" y="5"/>
                      <a:pt x="618" y="5"/>
                    </a:cubicBezTo>
                    <a:lnTo>
                      <a:pt x="618" y="5"/>
                    </a:lnTo>
                    <a:cubicBezTo>
                      <a:pt x="617" y="5"/>
                      <a:pt x="616" y="4"/>
                      <a:pt x="616" y="3"/>
                    </a:cubicBezTo>
                    <a:cubicBezTo>
                      <a:pt x="616" y="1"/>
                      <a:pt x="617" y="1"/>
                      <a:pt x="618" y="1"/>
                    </a:cubicBezTo>
                    <a:close/>
                    <a:moveTo>
                      <a:pt x="626" y="1"/>
                    </a:moveTo>
                    <a:lnTo>
                      <a:pt x="626" y="1"/>
                    </a:lnTo>
                    <a:cubicBezTo>
                      <a:pt x="627" y="1"/>
                      <a:pt x="628" y="1"/>
                      <a:pt x="628" y="3"/>
                    </a:cubicBezTo>
                    <a:cubicBezTo>
                      <a:pt x="628" y="4"/>
                      <a:pt x="627" y="5"/>
                      <a:pt x="626" y="5"/>
                    </a:cubicBezTo>
                    <a:lnTo>
                      <a:pt x="626" y="5"/>
                    </a:lnTo>
                    <a:cubicBezTo>
                      <a:pt x="625" y="5"/>
                      <a:pt x="624" y="4"/>
                      <a:pt x="624" y="3"/>
                    </a:cubicBezTo>
                    <a:cubicBezTo>
                      <a:pt x="624" y="1"/>
                      <a:pt x="625" y="1"/>
                      <a:pt x="626" y="1"/>
                    </a:cubicBezTo>
                    <a:close/>
                    <a:moveTo>
                      <a:pt x="634" y="1"/>
                    </a:moveTo>
                    <a:lnTo>
                      <a:pt x="634" y="1"/>
                    </a:lnTo>
                    <a:cubicBezTo>
                      <a:pt x="635" y="1"/>
                      <a:pt x="636" y="1"/>
                      <a:pt x="636" y="3"/>
                    </a:cubicBezTo>
                    <a:cubicBezTo>
                      <a:pt x="636" y="4"/>
                      <a:pt x="635" y="5"/>
                      <a:pt x="634" y="5"/>
                    </a:cubicBezTo>
                    <a:lnTo>
                      <a:pt x="634" y="5"/>
                    </a:lnTo>
                    <a:cubicBezTo>
                      <a:pt x="633" y="5"/>
                      <a:pt x="632" y="4"/>
                      <a:pt x="632" y="3"/>
                    </a:cubicBezTo>
                    <a:cubicBezTo>
                      <a:pt x="632" y="1"/>
                      <a:pt x="633" y="1"/>
                      <a:pt x="634" y="1"/>
                    </a:cubicBezTo>
                    <a:close/>
                    <a:moveTo>
                      <a:pt x="642" y="1"/>
                    </a:moveTo>
                    <a:lnTo>
                      <a:pt x="642" y="1"/>
                    </a:lnTo>
                    <a:cubicBezTo>
                      <a:pt x="643" y="1"/>
                      <a:pt x="644" y="1"/>
                      <a:pt x="644" y="3"/>
                    </a:cubicBezTo>
                    <a:cubicBezTo>
                      <a:pt x="644" y="4"/>
                      <a:pt x="643" y="5"/>
                      <a:pt x="642" y="5"/>
                    </a:cubicBezTo>
                    <a:lnTo>
                      <a:pt x="642" y="5"/>
                    </a:lnTo>
                    <a:cubicBezTo>
                      <a:pt x="641" y="5"/>
                      <a:pt x="640" y="4"/>
                      <a:pt x="640" y="3"/>
                    </a:cubicBezTo>
                    <a:cubicBezTo>
                      <a:pt x="640" y="1"/>
                      <a:pt x="641" y="1"/>
                      <a:pt x="642" y="1"/>
                    </a:cubicBezTo>
                    <a:close/>
                    <a:moveTo>
                      <a:pt x="650" y="1"/>
                    </a:moveTo>
                    <a:lnTo>
                      <a:pt x="650" y="1"/>
                    </a:lnTo>
                    <a:cubicBezTo>
                      <a:pt x="651" y="1"/>
                      <a:pt x="652" y="1"/>
                      <a:pt x="652" y="3"/>
                    </a:cubicBezTo>
                    <a:cubicBezTo>
                      <a:pt x="652" y="4"/>
                      <a:pt x="651" y="5"/>
                      <a:pt x="650" y="5"/>
                    </a:cubicBezTo>
                    <a:lnTo>
                      <a:pt x="650" y="5"/>
                    </a:lnTo>
                    <a:cubicBezTo>
                      <a:pt x="649" y="5"/>
                      <a:pt x="648" y="4"/>
                      <a:pt x="648" y="3"/>
                    </a:cubicBezTo>
                    <a:cubicBezTo>
                      <a:pt x="648" y="1"/>
                      <a:pt x="649" y="1"/>
                      <a:pt x="650" y="1"/>
                    </a:cubicBezTo>
                    <a:close/>
                    <a:moveTo>
                      <a:pt x="658" y="1"/>
                    </a:moveTo>
                    <a:lnTo>
                      <a:pt x="658" y="1"/>
                    </a:lnTo>
                    <a:cubicBezTo>
                      <a:pt x="659" y="1"/>
                      <a:pt x="660" y="1"/>
                      <a:pt x="660" y="3"/>
                    </a:cubicBezTo>
                    <a:cubicBezTo>
                      <a:pt x="660" y="4"/>
                      <a:pt x="659" y="5"/>
                      <a:pt x="658" y="5"/>
                    </a:cubicBezTo>
                    <a:lnTo>
                      <a:pt x="658" y="5"/>
                    </a:lnTo>
                    <a:cubicBezTo>
                      <a:pt x="657" y="5"/>
                      <a:pt x="656" y="4"/>
                      <a:pt x="656" y="3"/>
                    </a:cubicBezTo>
                    <a:cubicBezTo>
                      <a:pt x="656" y="1"/>
                      <a:pt x="657" y="1"/>
                      <a:pt x="658" y="1"/>
                    </a:cubicBezTo>
                    <a:close/>
                    <a:moveTo>
                      <a:pt x="666" y="1"/>
                    </a:moveTo>
                    <a:lnTo>
                      <a:pt x="666" y="1"/>
                    </a:lnTo>
                    <a:cubicBezTo>
                      <a:pt x="667" y="1"/>
                      <a:pt x="668" y="1"/>
                      <a:pt x="668" y="3"/>
                    </a:cubicBezTo>
                    <a:cubicBezTo>
                      <a:pt x="668" y="4"/>
                      <a:pt x="667" y="5"/>
                      <a:pt x="666" y="5"/>
                    </a:cubicBezTo>
                    <a:lnTo>
                      <a:pt x="666" y="5"/>
                    </a:lnTo>
                    <a:cubicBezTo>
                      <a:pt x="665" y="5"/>
                      <a:pt x="664" y="4"/>
                      <a:pt x="664" y="3"/>
                    </a:cubicBezTo>
                    <a:cubicBezTo>
                      <a:pt x="664" y="1"/>
                      <a:pt x="665" y="1"/>
                      <a:pt x="666" y="1"/>
                    </a:cubicBezTo>
                    <a:close/>
                    <a:moveTo>
                      <a:pt x="674" y="1"/>
                    </a:moveTo>
                    <a:lnTo>
                      <a:pt x="674" y="1"/>
                    </a:lnTo>
                    <a:cubicBezTo>
                      <a:pt x="675" y="1"/>
                      <a:pt x="676" y="1"/>
                      <a:pt x="676" y="3"/>
                    </a:cubicBezTo>
                    <a:cubicBezTo>
                      <a:pt x="676" y="4"/>
                      <a:pt x="675" y="5"/>
                      <a:pt x="674" y="5"/>
                    </a:cubicBezTo>
                    <a:lnTo>
                      <a:pt x="674" y="5"/>
                    </a:lnTo>
                    <a:cubicBezTo>
                      <a:pt x="673" y="5"/>
                      <a:pt x="672" y="4"/>
                      <a:pt x="672" y="3"/>
                    </a:cubicBezTo>
                    <a:cubicBezTo>
                      <a:pt x="672" y="1"/>
                      <a:pt x="673" y="1"/>
                      <a:pt x="674" y="1"/>
                    </a:cubicBezTo>
                    <a:close/>
                    <a:moveTo>
                      <a:pt x="682" y="1"/>
                    </a:moveTo>
                    <a:lnTo>
                      <a:pt x="682" y="1"/>
                    </a:lnTo>
                    <a:cubicBezTo>
                      <a:pt x="683" y="1"/>
                      <a:pt x="684" y="1"/>
                      <a:pt x="684" y="3"/>
                    </a:cubicBezTo>
                    <a:cubicBezTo>
                      <a:pt x="684" y="4"/>
                      <a:pt x="683" y="5"/>
                      <a:pt x="682" y="5"/>
                    </a:cubicBezTo>
                    <a:lnTo>
                      <a:pt x="682" y="5"/>
                    </a:lnTo>
                    <a:cubicBezTo>
                      <a:pt x="681" y="5"/>
                      <a:pt x="680" y="4"/>
                      <a:pt x="680" y="3"/>
                    </a:cubicBezTo>
                    <a:cubicBezTo>
                      <a:pt x="680" y="1"/>
                      <a:pt x="681" y="1"/>
                      <a:pt x="682" y="1"/>
                    </a:cubicBezTo>
                    <a:close/>
                    <a:moveTo>
                      <a:pt x="690" y="1"/>
                    </a:moveTo>
                    <a:lnTo>
                      <a:pt x="690" y="1"/>
                    </a:lnTo>
                    <a:cubicBezTo>
                      <a:pt x="691" y="1"/>
                      <a:pt x="692" y="1"/>
                      <a:pt x="692" y="3"/>
                    </a:cubicBezTo>
                    <a:cubicBezTo>
                      <a:pt x="692" y="4"/>
                      <a:pt x="691" y="5"/>
                      <a:pt x="690" y="5"/>
                    </a:cubicBezTo>
                    <a:lnTo>
                      <a:pt x="690" y="5"/>
                    </a:lnTo>
                    <a:cubicBezTo>
                      <a:pt x="689" y="5"/>
                      <a:pt x="688" y="4"/>
                      <a:pt x="688" y="3"/>
                    </a:cubicBezTo>
                    <a:cubicBezTo>
                      <a:pt x="688" y="1"/>
                      <a:pt x="689" y="1"/>
                      <a:pt x="690" y="1"/>
                    </a:cubicBezTo>
                    <a:close/>
                    <a:moveTo>
                      <a:pt x="698" y="1"/>
                    </a:moveTo>
                    <a:lnTo>
                      <a:pt x="698" y="1"/>
                    </a:lnTo>
                    <a:cubicBezTo>
                      <a:pt x="699" y="1"/>
                      <a:pt x="700" y="1"/>
                      <a:pt x="700" y="3"/>
                    </a:cubicBezTo>
                    <a:cubicBezTo>
                      <a:pt x="700" y="4"/>
                      <a:pt x="699" y="5"/>
                      <a:pt x="698" y="5"/>
                    </a:cubicBezTo>
                    <a:lnTo>
                      <a:pt x="698" y="5"/>
                    </a:lnTo>
                    <a:cubicBezTo>
                      <a:pt x="697" y="5"/>
                      <a:pt x="696" y="4"/>
                      <a:pt x="696" y="3"/>
                    </a:cubicBezTo>
                    <a:cubicBezTo>
                      <a:pt x="696" y="1"/>
                      <a:pt x="697" y="1"/>
                      <a:pt x="698" y="1"/>
                    </a:cubicBezTo>
                    <a:close/>
                    <a:moveTo>
                      <a:pt x="706" y="1"/>
                    </a:moveTo>
                    <a:lnTo>
                      <a:pt x="706" y="1"/>
                    </a:lnTo>
                    <a:cubicBezTo>
                      <a:pt x="707" y="1"/>
                      <a:pt x="708" y="1"/>
                      <a:pt x="708" y="3"/>
                    </a:cubicBezTo>
                    <a:cubicBezTo>
                      <a:pt x="708" y="4"/>
                      <a:pt x="707" y="5"/>
                      <a:pt x="706" y="5"/>
                    </a:cubicBezTo>
                    <a:lnTo>
                      <a:pt x="706" y="5"/>
                    </a:lnTo>
                    <a:cubicBezTo>
                      <a:pt x="705" y="5"/>
                      <a:pt x="704" y="4"/>
                      <a:pt x="704" y="3"/>
                    </a:cubicBezTo>
                    <a:cubicBezTo>
                      <a:pt x="704" y="1"/>
                      <a:pt x="705" y="1"/>
                      <a:pt x="706" y="1"/>
                    </a:cubicBezTo>
                    <a:close/>
                    <a:moveTo>
                      <a:pt x="714" y="1"/>
                    </a:moveTo>
                    <a:lnTo>
                      <a:pt x="714" y="1"/>
                    </a:lnTo>
                    <a:cubicBezTo>
                      <a:pt x="715" y="1"/>
                      <a:pt x="716" y="1"/>
                      <a:pt x="716" y="3"/>
                    </a:cubicBezTo>
                    <a:cubicBezTo>
                      <a:pt x="716" y="4"/>
                      <a:pt x="715" y="5"/>
                      <a:pt x="714" y="5"/>
                    </a:cubicBezTo>
                    <a:lnTo>
                      <a:pt x="714" y="5"/>
                    </a:lnTo>
                    <a:cubicBezTo>
                      <a:pt x="713" y="5"/>
                      <a:pt x="712" y="4"/>
                      <a:pt x="712" y="3"/>
                    </a:cubicBezTo>
                    <a:cubicBezTo>
                      <a:pt x="712" y="1"/>
                      <a:pt x="713" y="1"/>
                      <a:pt x="714" y="1"/>
                    </a:cubicBezTo>
                    <a:close/>
                    <a:moveTo>
                      <a:pt x="722" y="1"/>
                    </a:moveTo>
                    <a:lnTo>
                      <a:pt x="722" y="1"/>
                    </a:lnTo>
                    <a:cubicBezTo>
                      <a:pt x="723" y="1"/>
                      <a:pt x="724" y="1"/>
                      <a:pt x="724" y="3"/>
                    </a:cubicBezTo>
                    <a:cubicBezTo>
                      <a:pt x="724" y="4"/>
                      <a:pt x="723" y="5"/>
                      <a:pt x="722" y="5"/>
                    </a:cubicBezTo>
                    <a:lnTo>
                      <a:pt x="722" y="5"/>
                    </a:lnTo>
                    <a:cubicBezTo>
                      <a:pt x="721" y="5"/>
                      <a:pt x="720" y="4"/>
                      <a:pt x="720" y="3"/>
                    </a:cubicBezTo>
                    <a:cubicBezTo>
                      <a:pt x="720" y="1"/>
                      <a:pt x="721" y="1"/>
                      <a:pt x="722" y="1"/>
                    </a:cubicBezTo>
                    <a:close/>
                    <a:moveTo>
                      <a:pt x="730" y="1"/>
                    </a:moveTo>
                    <a:lnTo>
                      <a:pt x="730" y="1"/>
                    </a:lnTo>
                    <a:cubicBezTo>
                      <a:pt x="731" y="1"/>
                      <a:pt x="732" y="1"/>
                      <a:pt x="732" y="3"/>
                    </a:cubicBezTo>
                    <a:cubicBezTo>
                      <a:pt x="732" y="4"/>
                      <a:pt x="731" y="5"/>
                      <a:pt x="730" y="5"/>
                    </a:cubicBezTo>
                    <a:lnTo>
                      <a:pt x="730" y="5"/>
                    </a:lnTo>
                    <a:cubicBezTo>
                      <a:pt x="729" y="5"/>
                      <a:pt x="728" y="4"/>
                      <a:pt x="728" y="3"/>
                    </a:cubicBezTo>
                    <a:cubicBezTo>
                      <a:pt x="728" y="1"/>
                      <a:pt x="729" y="1"/>
                      <a:pt x="730" y="1"/>
                    </a:cubicBezTo>
                    <a:close/>
                    <a:moveTo>
                      <a:pt x="738" y="1"/>
                    </a:moveTo>
                    <a:lnTo>
                      <a:pt x="738" y="1"/>
                    </a:lnTo>
                    <a:cubicBezTo>
                      <a:pt x="739" y="1"/>
                      <a:pt x="740" y="1"/>
                      <a:pt x="740" y="3"/>
                    </a:cubicBezTo>
                    <a:cubicBezTo>
                      <a:pt x="740" y="4"/>
                      <a:pt x="739" y="5"/>
                      <a:pt x="738" y="5"/>
                    </a:cubicBezTo>
                    <a:lnTo>
                      <a:pt x="738" y="5"/>
                    </a:lnTo>
                    <a:cubicBezTo>
                      <a:pt x="737" y="5"/>
                      <a:pt x="736" y="4"/>
                      <a:pt x="736" y="3"/>
                    </a:cubicBezTo>
                    <a:cubicBezTo>
                      <a:pt x="736" y="1"/>
                      <a:pt x="737" y="1"/>
                      <a:pt x="738" y="1"/>
                    </a:cubicBezTo>
                    <a:close/>
                    <a:moveTo>
                      <a:pt x="746" y="1"/>
                    </a:moveTo>
                    <a:lnTo>
                      <a:pt x="746" y="1"/>
                    </a:lnTo>
                    <a:cubicBezTo>
                      <a:pt x="747" y="1"/>
                      <a:pt x="748" y="2"/>
                      <a:pt x="748" y="3"/>
                    </a:cubicBezTo>
                    <a:cubicBezTo>
                      <a:pt x="748" y="4"/>
                      <a:pt x="747" y="5"/>
                      <a:pt x="746" y="5"/>
                    </a:cubicBezTo>
                    <a:lnTo>
                      <a:pt x="746" y="5"/>
                    </a:lnTo>
                    <a:cubicBezTo>
                      <a:pt x="745" y="5"/>
                      <a:pt x="744" y="4"/>
                      <a:pt x="744" y="3"/>
                    </a:cubicBezTo>
                    <a:cubicBezTo>
                      <a:pt x="744" y="2"/>
                      <a:pt x="745" y="1"/>
                      <a:pt x="746" y="1"/>
                    </a:cubicBezTo>
                    <a:close/>
                    <a:moveTo>
                      <a:pt x="754" y="1"/>
                    </a:moveTo>
                    <a:lnTo>
                      <a:pt x="754" y="1"/>
                    </a:lnTo>
                    <a:cubicBezTo>
                      <a:pt x="755" y="1"/>
                      <a:pt x="756" y="2"/>
                      <a:pt x="756" y="3"/>
                    </a:cubicBezTo>
                    <a:cubicBezTo>
                      <a:pt x="756" y="4"/>
                      <a:pt x="755" y="5"/>
                      <a:pt x="754" y="5"/>
                    </a:cubicBezTo>
                    <a:lnTo>
                      <a:pt x="754" y="5"/>
                    </a:lnTo>
                    <a:cubicBezTo>
                      <a:pt x="753" y="5"/>
                      <a:pt x="752" y="4"/>
                      <a:pt x="752" y="3"/>
                    </a:cubicBezTo>
                    <a:cubicBezTo>
                      <a:pt x="752" y="2"/>
                      <a:pt x="753" y="1"/>
                      <a:pt x="754" y="1"/>
                    </a:cubicBezTo>
                    <a:close/>
                    <a:moveTo>
                      <a:pt x="762" y="1"/>
                    </a:moveTo>
                    <a:lnTo>
                      <a:pt x="762" y="1"/>
                    </a:lnTo>
                    <a:cubicBezTo>
                      <a:pt x="763" y="1"/>
                      <a:pt x="764" y="2"/>
                      <a:pt x="764" y="3"/>
                    </a:cubicBezTo>
                    <a:cubicBezTo>
                      <a:pt x="764" y="4"/>
                      <a:pt x="763" y="5"/>
                      <a:pt x="762" y="5"/>
                    </a:cubicBezTo>
                    <a:lnTo>
                      <a:pt x="762" y="5"/>
                    </a:lnTo>
                    <a:cubicBezTo>
                      <a:pt x="761" y="5"/>
                      <a:pt x="760" y="4"/>
                      <a:pt x="760" y="3"/>
                    </a:cubicBezTo>
                    <a:cubicBezTo>
                      <a:pt x="760" y="2"/>
                      <a:pt x="761" y="1"/>
                      <a:pt x="762" y="1"/>
                    </a:cubicBezTo>
                    <a:close/>
                    <a:moveTo>
                      <a:pt x="770" y="1"/>
                    </a:moveTo>
                    <a:lnTo>
                      <a:pt x="770" y="1"/>
                    </a:lnTo>
                    <a:cubicBezTo>
                      <a:pt x="771" y="1"/>
                      <a:pt x="772" y="2"/>
                      <a:pt x="772" y="3"/>
                    </a:cubicBezTo>
                    <a:cubicBezTo>
                      <a:pt x="772" y="4"/>
                      <a:pt x="771" y="5"/>
                      <a:pt x="770" y="5"/>
                    </a:cubicBezTo>
                    <a:lnTo>
                      <a:pt x="770" y="5"/>
                    </a:lnTo>
                    <a:cubicBezTo>
                      <a:pt x="769" y="5"/>
                      <a:pt x="768" y="4"/>
                      <a:pt x="768" y="3"/>
                    </a:cubicBezTo>
                    <a:cubicBezTo>
                      <a:pt x="768" y="2"/>
                      <a:pt x="769" y="1"/>
                      <a:pt x="770" y="1"/>
                    </a:cubicBezTo>
                    <a:close/>
                    <a:moveTo>
                      <a:pt x="778" y="1"/>
                    </a:moveTo>
                    <a:lnTo>
                      <a:pt x="778" y="1"/>
                    </a:lnTo>
                    <a:cubicBezTo>
                      <a:pt x="779" y="1"/>
                      <a:pt x="780" y="2"/>
                      <a:pt x="780" y="3"/>
                    </a:cubicBezTo>
                    <a:cubicBezTo>
                      <a:pt x="780" y="4"/>
                      <a:pt x="779" y="5"/>
                      <a:pt x="778" y="5"/>
                    </a:cubicBezTo>
                    <a:lnTo>
                      <a:pt x="778" y="5"/>
                    </a:lnTo>
                    <a:cubicBezTo>
                      <a:pt x="777" y="5"/>
                      <a:pt x="776" y="4"/>
                      <a:pt x="776" y="3"/>
                    </a:cubicBezTo>
                    <a:cubicBezTo>
                      <a:pt x="776" y="2"/>
                      <a:pt x="777" y="1"/>
                      <a:pt x="778" y="1"/>
                    </a:cubicBezTo>
                    <a:close/>
                    <a:moveTo>
                      <a:pt x="786" y="1"/>
                    </a:moveTo>
                    <a:lnTo>
                      <a:pt x="786" y="1"/>
                    </a:lnTo>
                    <a:cubicBezTo>
                      <a:pt x="787" y="1"/>
                      <a:pt x="788" y="2"/>
                      <a:pt x="788" y="3"/>
                    </a:cubicBezTo>
                    <a:cubicBezTo>
                      <a:pt x="788" y="4"/>
                      <a:pt x="787" y="5"/>
                      <a:pt x="786" y="5"/>
                    </a:cubicBezTo>
                    <a:lnTo>
                      <a:pt x="786" y="5"/>
                    </a:lnTo>
                    <a:cubicBezTo>
                      <a:pt x="785" y="5"/>
                      <a:pt x="784" y="4"/>
                      <a:pt x="784" y="3"/>
                    </a:cubicBezTo>
                    <a:cubicBezTo>
                      <a:pt x="784" y="2"/>
                      <a:pt x="785" y="1"/>
                      <a:pt x="786" y="1"/>
                    </a:cubicBezTo>
                    <a:close/>
                    <a:moveTo>
                      <a:pt x="794" y="1"/>
                    </a:moveTo>
                    <a:lnTo>
                      <a:pt x="794" y="1"/>
                    </a:lnTo>
                    <a:cubicBezTo>
                      <a:pt x="795" y="1"/>
                      <a:pt x="796" y="2"/>
                      <a:pt x="796" y="3"/>
                    </a:cubicBezTo>
                    <a:cubicBezTo>
                      <a:pt x="796" y="4"/>
                      <a:pt x="795" y="5"/>
                      <a:pt x="794" y="5"/>
                    </a:cubicBezTo>
                    <a:lnTo>
                      <a:pt x="794" y="5"/>
                    </a:lnTo>
                    <a:cubicBezTo>
                      <a:pt x="793" y="5"/>
                      <a:pt x="792" y="4"/>
                      <a:pt x="792" y="3"/>
                    </a:cubicBezTo>
                    <a:cubicBezTo>
                      <a:pt x="792" y="2"/>
                      <a:pt x="793" y="1"/>
                      <a:pt x="794" y="1"/>
                    </a:cubicBezTo>
                    <a:close/>
                    <a:moveTo>
                      <a:pt x="802" y="1"/>
                    </a:moveTo>
                    <a:lnTo>
                      <a:pt x="802" y="1"/>
                    </a:lnTo>
                    <a:cubicBezTo>
                      <a:pt x="803" y="1"/>
                      <a:pt x="804" y="2"/>
                      <a:pt x="804" y="3"/>
                    </a:cubicBezTo>
                    <a:cubicBezTo>
                      <a:pt x="804" y="4"/>
                      <a:pt x="803" y="5"/>
                      <a:pt x="802" y="5"/>
                    </a:cubicBezTo>
                    <a:lnTo>
                      <a:pt x="802" y="5"/>
                    </a:lnTo>
                    <a:cubicBezTo>
                      <a:pt x="801" y="5"/>
                      <a:pt x="800" y="4"/>
                      <a:pt x="800" y="3"/>
                    </a:cubicBezTo>
                    <a:cubicBezTo>
                      <a:pt x="800" y="2"/>
                      <a:pt x="801" y="1"/>
                      <a:pt x="802" y="1"/>
                    </a:cubicBezTo>
                    <a:close/>
                    <a:moveTo>
                      <a:pt x="810" y="1"/>
                    </a:moveTo>
                    <a:lnTo>
                      <a:pt x="810" y="1"/>
                    </a:lnTo>
                    <a:cubicBezTo>
                      <a:pt x="811" y="1"/>
                      <a:pt x="812" y="2"/>
                      <a:pt x="812" y="3"/>
                    </a:cubicBezTo>
                    <a:cubicBezTo>
                      <a:pt x="812" y="4"/>
                      <a:pt x="811" y="5"/>
                      <a:pt x="810" y="5"/>
                    </a:cubicBezTo>
                    <a:lnTo>
                      <a:pt x="810" y="5"/>
                    </a:lnTo>
                    <a:cubicBezTo>
                      <a:pt x="809" y="5"/>
                      <a:pt x="808" y="4"/>
                      <a:pt x="808" y="3"/>
                    </a:cubicBezTo>
                    <a:cubicBezTo>
                      <a:pt x="808" y="2"/>
                      <a:pt x="809" y="1"/>
                      <a:pt x="810" y="1"/>
                    </a:cubicBezTo>
                    <a:close/>
                    <a:moveTo>
                      <a:pt x="818" y="1"/>
                    </a:moveTo>
                    <a:lnTo>
                      <a:pt x="818" y="1"/>
                    </a:lnTo>
                    <a:cubicBezTo>
                      <a:pt x="819" y="1"/>
                      <a:pt x="820" y="2"/>
                      <a:pt x="820" y="3"/>
                    </a:cubicBezTo>
                    <a:cubicBezTo>
                      <a:pt x="820" y="4"/>
                      <a:pt x="819" y="5"/>
                      <a:pt x="818" y="5"/>
                    </a:cubicBezTo>
                    <a:lnTo>
                      <a:pt x="818" y="5"/>
                    </a:lnTo>
                    <a:cubicBezTo>
                      <a:pt x="817" y="5"/>
                      <a:pt x="816" y="4"/>
                      <a:pt x="816" y="3"/>
                    </a:cubicBezTo>
                    <a:cubicBezTo>
                      <a:pt x="816" y="2"/>
                      <a:pt x="817" y="1"/>
                      <a:pt x="818" y="1"/>
                    </a:cubicBezTo>
                    <a:close/>
                    <a:moveTo>
                      <a:pt x="826" y="1"/>
                    </a:moveTo>
                    <a:lnTo>
                      <a:pt x="826" y="1"/>
                    </a:lnTo>
                    <a:cubicBezTo>
                      <a:pt x="827" y="1"/>
                      <a:pt x="828" y="2"/>
                      <a:pt x="828" y="3"/>
                    </a:cubicBezTo>
                    <a:cubicBezTo>
                      <a:pt x="828" y="4"/>
                      <a:pt x="827" y="5"/>
                      <a:pt x="826" y="5"/>
                    </a:cubicBezTo>
                    <a:lnTo>
                      <a:pt x="826" y="5"/>
                    </a:lnTo>
                    <a:cubicBezTo>
                      <a:pt x="825" y="5"/>
                      <a:pt x="824" y="4"/>
                      <a:pt x="824" y="3"/>
                    </a:cubicBezTo>
                    <a:cubicBezTo>
                      <a:pt x="824" y="2"/>
                      <a:pt x="825" y="1"/>
                      <a:pt x="826" y="1"/>
                    </a:cubicBezTo>
                    <a:close/>
                    <a:moveTo>
                      <a:pt x="834" y="1"/>
                    </a:moveTo>
                    <a:lnTo>
                      <a:pt x="834" y="1"/>
                    </a:lnTo>
                    <a:cubicBezTo>
                      <a:pt x="835" y="1"/>
                      <a:pt x="836" y="2"/>
                      <a:pt x="836" y="3"/>
                    </a:cubicBezTo>
                    <a:cubicBezTo>
                      <a:pt x="836" y="4"/>
                      <a:pt x="835" y="5"/>
                      <a:pt x="834" y="5"/>
                    </a:cubicBezTo>
                    <a:lnTo>
                      <a:pt x="834" y="5"/>
                    </a:lnTo>
                    <a:cubicBezTo>
                      <a:pt x="833" y="5"/>
                      <a:pt x="832" y="4"/>
                      <a:pt x="832" y="3"/>
                    </a:cubicBezTo>
                    <a:cubicBezTo>
                      <a:pt x="832" y="2"/>
                      <a:pt x="833" y="1"/>
                      <a:pt x="834" y="1"/>
                    </a:cubicBezTo>
                    <a:close/>
                    <a:moveTo>
                      <a:pt x="842" y="1"/>
                    </a:moveTo>
                    <a:lnTo>
                      <a:pt x="842" y="1"/>
                    </a:lnTo>
                    <a:cubicBezTo>
                      <a:pt x="843" y="1"/>
                      <a:pt x="844" y="2"/>
                      <a:pt x="844" y="3"/>
                    </a:cubicBezTo>
                    <a:cubicBezTo>
                      <a:pt x="844" y="4"/>
                      <a:pt x="843" y="5"/>
                      <a:pt x="842" y="5"/>
                    </a:cubicBezTo>
                    <a:lnTo>
                      <a:pt x="842" y="5"/>
                    </a:lnTo>
                    <a:cubicBezTo>
                      <a:pt x="841" y="5"/>
                      <a:pt x="840" y="4"/>
                      <a:pt x="840" y="3"/>
                    </a:cubicBezTo>
                    <a:cubicBezTo>
                      <a:pt x="840" y="2"/>
                      <a:pt x="841" y="1"/>
                      <a:pt x="842" y="1"/>
                    </a:cubicBezTo>
                    <a:close/>
                    <a:moveTo>
                      <a:pt x="850" y="1"/>
                    </a:moveTo>
                    <a:lnTo>
                      <a:pt x="850" y="1"/>
                    </a:lnTo>
                    <a:cubicBezTo>
                      <a:pt x="851" y="1"/>
                      <a:pt x="852" y="2"/>
                      <a:pt x="852" y="3"/>
                    </a:cubicBezTo>
                    <a:cubicBezTo>
                      <a:pt x="852" y="4"/>
                      <a:pt x="851" y="5"/>
                      <a:pt x="850" y="5"/>
                    </a:cubicBezTo>
                    <a:lnTo>
                      <a:pt x="850" y="5"/>
                    </a:lnTo>
                    <a:cubicBezTo>
                      <a:pt x="849" y="5"/>
                      <a:pt x="848" y="4"/>
                      <a:pt x="848" y="3"/>
                    </a:cubicBezTo>
                    <a:cubicBezTo>
                      <a:pt x="848" y="2"/>
                      <a:pt x="849" y="1"/>
                      <a:pt x="850" y="1"/>
                    </a:cubicBezTo>
                    <a:close/>
                    <a:moveTo>
                      <a:pt x="858" y="1"/>
                    </a:moveTo>
                    <a:lnTo>
                      <a:pt x="858" y="1"/>
                    </a:lnTo>
                    <a:cubicBezTo>
                      <a:pt x="859" y="1"/>
                      <a:pt x="860" y="2"/>
                      <a:pt x="860" y="3"/>
                    </a:cubicBezTo>
                    <a:cubicBezTo>
                      <a:pt x="860" y="4"/>
                      <a:pt x="859" y="5"/>
                      <a:pt x="858" y="5"/>
                    </a:cubicBezTo>
                    <a:lnTo>
                      <a:pt x="858" y="5"/>
                    </a:lnTo>
                    <a:cubicBezTo>
                      <a:pt x="857" y="5"/>
                      <a:pt x="856" y="4"/>
                      <a:pt x="856" y="3"/>
                    </a:cubicBezTo>
                    <a:cubicBezTo>
                      <a:pt x="856" y="2"/>
                      <a:pt x="857" y="1"/>
                      <a:pt x="858" y="1"/>
                    </a:cubicBezTo>
                    <a:close/>
                    <a:moveTo>
                      <a:pt x="866" y="1"/>
                    </a:moveTo>
                    <a:lnTo>
                      <a:pt x="866" y="1"/>
                    </a:lnTo>
                    <a:cubicBezTo>
                      <a:pt x="867" y="1"/>
                      <a:pt x="868" y="2"/>
                      <a:pt x="868" y="3"/>
                    </a:cubicBezTo>
                    <a:cubicBezTo>
                      <a:pt x="868" y="4"/>
                      <a:pt x="867" y="5"/>
                      <a:pt x="866" y="5"/>
                    </a:cubicBezTo>
                    <a:lnTo>
                      <a:pt x="866" y="5"/>
                    </a:lnTo>
                    <a:cubicBezTo>
                      <a:pt x="865" y="5"/>
                      <a:pt x="864" y="4"/>
                      <a:pt x="864" y="3"/>
                    </a:cubicBezTo>
                    <a:cubicBezTo>
                      <a:pt x="864" y="2"/>
                      <a:pt x="865" y="1"/>
                      <a:pt x="866" y="1"/>
                    </a:cubicBezTo>
                    <a:close/>
                    <a:moveTo>
                      <a:pt x="874" y="1"/>
                    </a:moveTo>
                    <a:lnTo>
                      <a:pt x="874" y="1"/>
                    </a:lnTo>
                    <a:cubicBezTo>
                      <a:pt x="875" y="1"/>
                      <a:pt x="876" y="2"/>
                      <a:pt x="876" y="3"/>
                    </a:cubicBezTo>
                    <a:cubicBezTo>
                      <a:pt x="876" y="4"/>
                      <a:pt x="875" y="5"/>
                      <a:pt x="874" y="5"/>
                    </a:cubicBezTo>
                    <a:lnTo>
                      <a:pt x="874" y="5"/>
                    </a:lnTo>
                    <a:cubicBezTo>
                      <a:pt x="873" y="5"/>
                      <a:pt x="872" y="4"/>
                      <a:pt x="872" y="3"/>
                    </a:cubicBezTo>
                    <a:cubicBezTo>
                      <a:pt x="872" y="2"/>
                      <a:pt x="873" y="1"/>
                      <a:pt x="874" y="1"/>
                    </a:cubicBezTo>
                    <a:close/>
                    <a:moveTo>
                      <a:pt x="882" y="1"/>
                    </a:moveTo>
                    <a:lnTo>
                      <a:pt x="882" y="1"/>
                    </a:lnTo>
                    <a:cubicBezTo>
                      <a:pt x="883" y="1"/>
                      <a:pt x="884" y="2"/>
                      <a:pt x="884" y="3"/>
                    </a:cubicBezTo>
                    <a:cubicBezTo>
                      <a:pt x="884" y="4"/>
                      <a:pt x="883" y="5"/>
                      <a:pt x="882" y="5"/>
                    </a:cubicBezTo>
                    <a:lnTo>
                      <a:pt x="882" y="5"/>
                    </a:lnTo>
                    <a:cubicBezTo>
                      <a:pt x="881" y="5"/>
                      <a:pt x="880" y="4"/>
                      <a:pt x="880" y="3"/>
                    </a:cubicBezTo>
                    <a:cubicBezTo>
                      <a:pt x="880" y="2"/>
                      <a:pt x="881" y="1"/>
                      <a:pt x="882" y="1"/>
                    </a:cubicBezTo>
                    <a:close/>
                    <a:moveTo>
                      <a:pt x="890" y="1"/>
                    </a:moveTo>
                    <a:lnTo>
                      <a:pt x="890" y="1"/>
                    </a:lnTo>
                    <a:cubicBezTo>
                      <a:pt x="891" y="1"/>
                      <a:pt x="892" y="2"/>
                      <a:pt x="892" y="3"/>
                    </a:cubicBezTo>
                    <a:cubicBezTo>
                      <a:pt x="892" y="4"/>
                      <a:pt x="891" y="5"/>
                      <a:pt x="890" y="5"/>
                    </a:cubicBezTo>
                    <a:lnTo>
                      <a:pt x="890" y="5"/>
                    </a:lnTo>
                    <a:cubicBezTo>
                      <a:pt x="889" y="5"/>
                      <a:pt x="888" y="4"/>
                      <a:pt x="888" y="3"/>
                    </a:cubicBezTo>
                    <a:cubicBezTo>
                      <a:pt x="888" y="2"/>
                      <a:pt x="889" y="1"/>
                      <a:pt x="890" y="1"/>
                    </a:cubicBezTo>
                    <a:close/>
                    <a:moveTo>
                      <a:pt x="898" y="1"/>
                    </a:moveTo>
                    <a:lnTo>
                      <a:pt x="898" y="1"/>
                    </a:lnTo>
                    <a:cubicBezTo>
                      <a:pt x="899" y="1"/>
                      <a:pt x="900" y="2"/>
                      <a:pt x="900" y="3"/>
                    </a:cubicBezTo>
                    <a:cubicBezTo>
                      <a:pt x="900" y="4"/>
                      <a:pt x="899" y="5"/>
                      <a:pt x="898" y="5"/>
                    </a:cubicBezTo>
                    <a:lnTo>
                      <a:pt x="898" y="5"/>
                    </a:lnTo>
                    <a:cubicBezTo>
                      <a:pt x="897" y="5"/>
                      <a:pt x="896" y="4"/>
                      <a:pt x="896" y="3"/>
                    </a:cubicBezTo>
                    <a:cubicBezTo>
                      <a:pt x="896" y="2"/>
                      <a:pt x="897" y="1"/>
                      <a:pt x="898" y="1"/>
                    </a:cubicBezTo>
                    <a:close/>
                    <a:moveTo>
                      <a:pt x="906" y="1"/>
                    </a:moveTo>
                    <a:lnTo>
                      <a:pt x="906" y="1"/>
                    </a:lnTo>
                    <a:cubicBezTo>
                      <a:pt x="907" y="1"/>
                      <a:pt x="908" y="2"/>
                      <a:pt x="908" y="3"/>
                    </a:cubicBezTo>
                    <a:cubicBezTo>
                      <a:pt x="908" y="4"/>
                      <a:pt x="907" y="5"/>
                      <a:pt x="906" y="5"/>
                    </a:cubicBezTo>
                    <a:lnTo>
                      <a:pt x="906" y="5"/>
                    </a:lnTo>
                    <a:cubicBezTo>
                      <a:pt x="905" y="5"/>
                      <a:pt x="904" y="4"/>
                      <a:pt x="904" y="3"/>
                    </a:cubicBezTo>
                    <a:cubicBezTo>
                      <a:pt x="904" y="2"/>
                      <a:pt x="905" y="1"/>
                      <a:pt x="906" y="1"/>
                    </a:cubicBezTo>
                    <a:close/>
                    <a:moveTo>
                      <a:pt x="914" y="1"/>
                    </a:moveTo>
                    <a:lnTo>
                      <a:pt x="914" y="1"/>
                    </a:lnTo>
                    <a:cubicBezTo>
                      <a:pt x="915" y="1"/>
                      <a:pt x="916" y="2"/>
                      <a:pt x="916" y="3"/>
                    </a:cubicBezTo>
                    <a:cubicBezTo>
                      <a:pt x="916" y="4"/>
                      <a:pt x="915" y="5"/>
                      <a:pt x="914" y="5"/>
                    </a:cubicBezTo>
                    <a:lnTo>
                      <a:pt x="914" y="5"/>
                    </a:lnTo>
                    <a:cubicBezTo>
                      <a:pt x="913" y="5"/>
                      <a:pt x="912" y="4"/>
                      <a:pt x="912" y="3"/>
                    </a:cubicBezTo>
                    <a:cubicBezTo>
                      <a:pt x="912" y="2"/>
                      <a:pt x="913" y="1"/>
                      <a:pt x="914" y="1"/>
                    </a:cubicBezTo>
                    <a:close/>
                    <a:moveTo>
                      <a:pt x="922" y="1"/>
                    </a:moveTo>
                    <a:lnTo>
                      <a:pt x="922" y="1"/>
                    </a:lnTo>
                    <a:cubicBezTo>
                      <a:pt x="923" y="1"/>
                      <a:pt x="924" y="2"/>
                      <a:pt x="924" y="3"/>
                    </a:cubicBezTo>
                    <a:cubicBezTo>
                      <a:pt x="924" y="4"/>
                      <a:pt x="923" y="5"/>
                      <a:pt x="922" y="5"/>
                    </a:cubicBezTo>
                    <a:lnTo>
                      <a:pt x="922" y="5"/>
                    </a:lnTo>
                    <a:cubicBezTo>
                      <a:pt x="921" y="5"/>
                      <a:pt x="920" y="4"/>
                      <a:pt x="920" y="3"/>
                    </a:cubicBezTo>
                    <a:cubicBezTo>
                      <a:pt x="920" y="2"/>
                      <a:pt x="921" y="1"/>
                      <a:pt x="922" y="1"/>
                    </a:cubicBezTo>
                    <a:close/>
                    <a:moveTo>
                      <a:pt x="930" y="1"/>
                    </a:moveTo>
                    <a:lnTo>
                      <a:pt x="930" y="1"/>
                    </a:lnTo>
                    <a:cubicBezTo>
                      <a:pt x="931" y="1"/>
                      <a:pt x="932" y="2"/>
                      <a:pt x="932" y="3"/>
                    </a:cubicBezTo>
                    <a:cubicBezTo>
                      <a:pt x="932" y="4"/>
                      <a:pt x="931" y="5"/>
                      <a:pt x="930" y="5"/>
                    </a:cubicBezTo>
                    <a:lnTo>
                      <a:pt x="930" y="5"/>
                    </a:lnTo>
                    <a:cubicBezTo>
                      <a:pt x="929" y="5"/>
                      <a:pt x="928" y="4"/>
                      <a:pt x="928" y="3"/>
                    </a:cubicBezTo>
                    <a:cubicBezTo>
                      <a:pt x="928" y="2"/>
                      <a:pt x="929" y="1"/>
                      <a:pt x="930" y="1"/>
                    </a:cubicBezTo>
                    <a:close/>
                    <a:moveTo>
                      <a:pt x="938" y="1"/>
                    </a:moveTo>
                    <a:lnTo>
                      <a:pt x="938" y="1"/>
                    </a:lnTo>
                    <a:cubicBezTo>
                      <a:pt x="939" y="1"/>
                      <a:pt x="940" y="2"/>
                      <a:pt x="940" y="3"/>
                    </a:cubicBezTo>
                    <a:cubicBezTo>
                      <a:pt x="940" y="4"/>
                      <a:pt x="939" y="5"/>
                      <a:pt x="938" y="5"/>
                    </a:cubicBezTo>
                    <a:lnTo>
                      <a:pt x="938" y="5"/>
                    </a:lnTo>
                    <a:cubicBezTo>
                      <a:pt x="937" y="5"/>
                      <a:pt x="936" y="4"/>
                      <a:pt x="936" y="3"/>
                    </a:cubicBezTo>
                    <a:cubicBezTo>
                      <a:pt x="936" y="2"/>
                      <a:pt x="937" y="1"/>
                      <a:pt x="938" y="1"/>
                    </a:cubicBezTo>
                    <a:close/>
                    <a:moveTo>
                      <a:pt x="946" y="1"/>
                    </a:moveTo>
                    <a:lnTo>
                      <a:pt x="946" y="1"/>
                    </a:lnTo>
                    <a:cubicBezTo>
                      <a:pt x="947" y="1"/>
                      <a:pt x="948" y="2"/>
                      <a:pt x="948" y="3"/>
                    </a:cubicBezTo>
                    <a:cubicBezTo>
                      <a:pt x="948" y="4"/>
                      <a:pt x="947" y="5"/>
                      <a:pt x="946" y="5"/>
                    </a:cubicBezTo>
                    <a:lnTo>
                      <a:pt x="946" y="5"/>
                    </a:lnTo>
                    <a:cubicBezTo>
                      <a:pt x="945" y="5"/>
                      <a:pt x="944" y="4"/>
                      <a:pt x="944" y="3"/>
                    </a:cubicBezTo>
                    <a:cubicBezTo>
                      <a:pt x="944" y="2"/>
                      <a:pt x="945" y="1"/>
                      <a:pt x="946" y="1"/>
                    </a:cubicBezTo>
                    <a:close/>
                    <a:moveTo>
                      <a:pt x="954" y="1"/>
                    </a:moveTo>
                    <a:lnTo>
                      <a:pt x="954" y="1"/>
                    </a:lnTo>
                    <a:cubicBezTo>
                      <a:pt x="955" y="1"/>
                      <a:pt x="956" y="2"/>
                      <a:pt x="956" y="3"/>
                    </a:cubicBezTo>
                    <a:cubicBezTo>
                      <a:pt x="956" y="4"/>
                      <a:pt x="955" y="5"/>
                      <a:pt x="954" y="5"/>
                    </a:cubicBezTo>
                    <a:lnTo>
                      <a:pt x="954" y="5"/>
                    </a:lnTo>
                    <a:cubicBezTo>
                      <a:pt x="953" y="5"/>
                      <a:pt x="952" y="4"/>
                      <a:pt x="952" y="3"/>
                    </a:cubicBezTo>
                    <a:cubicBezTo>
                      <a:pt x="952" y="2"/>
                      <a:pt x="953" y="1"/>
                      <a:pt x="954" y="1"/>
                    </a:cubicBezTo>
                    <a:close/>
                    <a:moveTo>
                      <a:pt x="962" y="1"/>
                    </a:moveTo>
                    <a:lnTo>
                      <a:pt x="962" y="1"/>
                    </a:lnTo>
                    <a:cubicBezTo>
                      <a:pt x="963" y="1"/>
                      <a:pt x="964" y="2"/>
                      <a:pt x="964" y="3"/>
                    </a:cubicBezTo>
                    <a:cubicBezTo>
                      <a:pt x="964" y="4"/>
                      <a:pt x="963" y="5"/>
                      <a:pt x="962" y="5"/>
                    </a:cubicBezTo>
                    <a:lnTo>
                      <a:pt x="962" y="5"/>
                    </a:lnTo>
                    <a:cubicBezTo>
                      <a:pt x="961" y="5"/>
                      <a:pt x="960" y="4"/>
                      <a:pt x="960" y="3"/>
                    </a:cubicBezTo>
                    <a:cubicBezTo>
                      <a:pt x="960" y="2"/>
                      <a:pt x="961" y="1"/>
                      <a:pt x="962" y="1"/>
                    </a:cubicBezTo>
                    <a:close/>
                    <a:moveTo>
                      <a:pt x="970" y="1"/>
                    </a:moveTo>
                    <a:lnTo>
                      <a:pt x="970" y="1"/>
                    </a:lnTo>
                    <a:cubicBezTo>
                      <a:pt x="971" y="1"/>
                      <a:pt x="972" y="2"/>
                      <a:pt x="972" y="3"/>
                    </a:cubicBezTo>
                    <a:cubicBezTo>
                      <a:pt x="972" y="4"/>
                      <a:pt x="971" y="5"/>
                      <a:pt x="970" y="5"/>
                    </a:cubicBezTo>
                    <a:lnTo>
                      <a:pt x="970" y="5"/>
                    </a:lnTo>
                    <a:cubicBezTo>
                      <a:pt x="969" y="5"/>
                      <a:pt x="968" y="4"/>
                      <a:pt x="968" y="3"/>
                    </a:cubicBezTo>
                    <a:cubicBezTo>
                      <a:pt x="968" y="2"/>
                      <a:pt x="969" y="1"/>
                      <a:pt x="970" y="1"/>
                    </a:cubicBezTo>
                    <a:close/>
                    <a:moveTo>
                      <a:pt x="978" y="1"/>
                    </a:moveTo>
                    <a:lnTo>
                      <a:pt x="978" y="1"/>
                    </a:lnTo>
                    <a:cubicBezTo>
                      <a:pt x="979" y="1"/>
                      <a:pt x="980" y="2"/>
                      <a:pt x="980" y="3"/>
                    </a:cubicBezTo>
                    <a:cubicBezTo>
                      <a:pt x="980" y="4"/>
                      <a:pt x="979" y="5"/>
                      <a:pt x="978" y="5"/>
                    </a:cubicBezTo>
                    <a:lnTo>
                      <a:pt x="978" y="5"/>
                    </a:lnTo>
                    <a:cubicBezTo>
                      <a:pt x="977" y="5"/>
                      <a:pt x="976" y="4"/>
                      <a:pt x="976" y="3"/>
                    </a:cubicBezTo>
                    <a:cubicBezTo>
                      <a:pt x="976" y="2"/>
                      <a:pt x="977" y="1"/>
                      <a:pt x="978" y="1"/>
                    </a:cubicBezTo>
                    <a:close/>
                    <a:moveTo>
                      <a:pt x="986" y="1"/>
                    </a:moveTo>
                    <a:lnTo>
                      <a:pt x="986" y="1"/>
                    </a:lnTo>
                    <a:cubicBezTo>
                      <a:pt x="987" y="1"/>
                      <a:pt x="988" y="2"/>
                      <a:pt x="988" y="3"/>
                    </a:cubicBezTo>
                    <a:cubicBezTo>
                      <a:pt x="988" y="4"/>
                      <a:pt x="987" y="5"/>
                      <a:pt x="986" y="5"/>
                    </a:cubicBezTo>
                    <a:lnTo>
                      <a:pt x="986" y="5"/>
                    </a:lnTo>
                    <a:cubicBezTo>
                      <a:pt x="985" y="5"/>
                      <a:pt x="984" y="4"/>
                      <a:pt x="984" y="3"/>
                    </a:cubicBezTo>
                    <a:cubicBezTo>
                      <a:pt x="984" y="2"/>
                      <a:pt x="985" y="1"/>
                      <a:pt x="986" y="1"/>
                    </a:cubicBezTo>
                    <a:close/>
                    <a:moveTo>
                      <a:pt x="994" y="1"/>
                    </a:moveTo>
                    <a:lnTo>
                      <a:pt x="994" y="1"/>
                    </a:lnTo>
                    <a:cubicBezTo>
                      <a:pt x="995" y="1"/>
                      <a:pt x="996" y="2"/>
                      <a:pt x="996" y="3"/>
                    </a:cubicBezTo>
                    <a:cubicBezTo>
                      <a:pt x="996" y="4"/>
                      <a:pt x="995" y="5"/>
                      <a:pt x="994" y="5"/>
                    </a:cubicBezTo>
                    <a:lnTo>
                      <a:pt x="994" y="5"/>
                    </a:lnTo>
                    <a:cubicBezTo>
                      <a:pt x="993" y="5"/>
                      <a:pt x="992" y="4"/>
                      <a:pt x="992" y="3"/>
                    </a:cubicBezTo>
                    <a:cubicBezTo>
                      <a:pt x="992" y="2"/>
                      <a:pt x="993" y="1"/>
                      <a:pt x="994" y="1"/>
                    </a:cubicBezTo>
                    <a:close/>
                    <a:moveTo>
                      <a:pt x="1002" y="1"/>
                    </a:moveTo>
                    <a:lnTo>
                      <a:pt x="1002" y="1"/>
                    </a:lnTo>
                    <a:cubicBezTo>
                      <a:pt x="1003" y="1"/>
                      <a:pt x="1004" y="2"/>
                      <a:pt x="1004" y="3"/>
                    </a:cubicBezTo>
                    <a:cubicBezTo>
                      <a:pt x="1004" y="4"/>
                      <a:pt x="1003" y="5"/>
                      <a:pt x="1002" y="5"/>
                    </a:cubicBezTo>
                    <a:lnTo>
                      <a:pt x="1002" y="5"/>
                    </a:lnTo>
                    <a:cubicBezTo>
                      <a:pt x="1001" y="5"/>
                      <a:pt x="1000" y="4"/>
                      <a:pt x="1000" y="3"/>
                    </a:cubicBezTo>
                    <a:cubicBezTo>
                      <a:pt x="1000" y="2"/>
                      <a:pt x="1001" y="1"/>
                      <a:pt x="1002" y="1"/>
                    </a:cubicBezTo>
                    <a:close/>
                    <a:moveTo>
                      <a:pt x="1010" y="1"/>
                    </a:moveTo>
                    <a:lnTo>
                      <a:pt x="1010" y="1"/>
                    </a:lnTo>
                    <a:cubicBezTo>
                      <a:pt x="1011" y="1"/>
                      <a:pt x="1012" y="2"/>
                      <a:pt x="1012" y="3"/>
                    </a:cubicBezTo>
                    <a:cubicBezTo>
                      <a:pt x="1012" y="4"/>
                      <a:pt x="1011" y="5"/>
                      <a:pt x="1010" y="5"/>
                    </a:cubicBezTo>
                    <a:lnTo>
                      <a:pt x="1010" y="5"/>
                    </a:lnTo>
                    <a:cubicBezTo>
                      <a:pt x="1009" y="5"/>
                      <a:pt x="1008" y="4"/>
                      <a:pt x="1008" y="3"/>
                    </a:cubicBezTo>
                    <a:cubicBezTo>
                      <a:pt x="1008" y="2"/>
                      <a:pt x="1009" y="1"/>
                      <a:pt x="1010" y="1"/>
                    </a:cubicBezTo>
                    <a:close/>
                    <a:moveTo>
                      <a:pt x="1018" y="1"/>
                    </a:moveTo>
                    <a:lnTo>
                      <a:pt x="1018" y="1"/>
                    </a:lnTo>
                    <a:cubicBezTo>
                      <a:pt x="1019" y="1"/>
                      <a:pt x="1020" y="2"/>
                      <a:pt x="1020" y="3"/>
                    </a:cubicBezTo>
                    <a:cubicBezTo>
                      <a:pt x="1020" y="4"/>
                      <a:pt x="1019" y="5"/>
                      <a:pt x="1018" y="5"/>
                    </a:cubicBezTo>
                    <a:lnTo>
                      <a:pt x="1018" y="5"/>
                    </a:lnTo>
                    <a:cubicBezTo>
                      <a:pt x="1017" y="5"/>
                      <a:pt x="1016" y="4"/>
                      <a:pt x="1016" y="3"/>
                    </a:cubicBezTo>
                    <a:cubicBezTo>
                      <a:pt x="1016" y="2"/>
                      <a:pt x="1017" y="1"/>
                      <a:pt x="1018" y="1"/>
                    </a:cubicBezTo>
                    <a:close/>
                    <a:moveTo>
                      <a:pt x="1026" y="1"/>
                    </a:moveTo>
                    <a:lnTo>
                      <a:pt x="1026" y="1"/>
                    </a:lnTo>
                    <a:cubicBezTo>
                      <a:pt x="1027" y="1"/>
                      <a:pt x="1028" y="2"/>
                      <a:pt x="1028" y="3"/>
                    </a:cubicBezTo>
                    <a:cubicBezTo>
                      <a:pt x="1028" y="4"/>
                      <a:pt x="1027" y="5"/>
                      <a:pt x="1026" y="5"/>
                    </a:cubicBezTo>
                    <a:lnTo>
                      <a:pt x="1026" y="5"/>
                    </a:lnTo>
                    <a:cubicBezTo>
                      <a:pt x="1025" y="5"/>
                      <a:pt x="1024" y="4"/>
                      <a:pt x="1024" y="3"/>
                    </a:cubicBezTo>
                    <a:cubicBezTo>
                      <a:pt x="1024" y="2"/>
                      <a:pt x="1025" y="1"/>
                      <a:pt x="1026" y="1"/>
                    </a:cubicBezTo>
                    <a:close/>
                    <a:moveTo>
                      <a:pt x="1034" y="1"/>
                    </a:moveTo>
                    <a:lnTo>
                      <a:pt x="1034" y="1"/>
                    </a:lnTo>
                    <a:cubicBezTo>
                      <a:pt x="1035" y="1"/>
                      <a:pt x="1036" y="2"/>
                      <a:pt x="1036" y="3"/>
                    </a:cubicBezTo>
                    <a:cubicBezTo>
                      <a:pt x="1036" y="4"/>
                      <a:pt x="1035" y="5"/>
                      <a:pt x="1034" y="5"/>
                    </a:cubicBezTo>
                    <a:lnTo>
                      <a:pt x="1034" y="5"/>
                    </a:lnTo>
                    <a:cubicBezTo>
                      <a:pt x="1033" y="5"/>
                      <a:pt x="1032" y="4"/>
                      <a:pt x="1032" y="3"/>
                    </a:cubicBezTo>
                    <a:cubicBezTo>
                      <a:pt x="1032" y="2"/>
                      <a:pt x="1033" y="1"/>
                      <a:pt x="1034" y="1"/>
                    </a:cubicBezTo>
                    <a:close/>
                    <a:moveTo>
                      <a:pt x="1042" y="1"/>
                    </a:moveTo>
                    <a:lnTo>
                      <a:pt x="1042" y="1"/>
                    </a:lnTo>
                    <a:cubicBezTo>
                      <a:pt x="1043" y="1"/>
                      <a:pt x="1044" y="2"/>
                      <a:pt x="1044" y="3"/>
                    </a:cubicBezTo>
                    <a:cubicBezTo>
                      <a:pt x="1044" y="4"/>
                      <a:pt x="1043" y="5"/>
                      <a:pt x="1042" y="5"/>
                    </a:cubicBezTo>
                    <a:lnTo>
                      <a:pt x="1042" y="5"/>
                    </a:lnTo>
                    <a:cubicBezTo>
                      <a:pt x="1041" y="5"/>
                      <a:pt x="1040" y="4"/>
                      <a:pt x="1040" y="3"/>
                    </a:cubicBezTo>
                    <a:cubicBezTo>
                      <a:pt x="1040" y="2"/>
                      <a:pt x="1041" y="1"/>
                      <a:pt x="1042" y="1"/>
                    </a:cubicBezTo>
                    <a:close/>
                    <a:moveTo>
                      <a:pt x="1050" y="1"/>
                    </a:moveTo>
                    <a:lnTo>
                      <a:pt x="1050" y="1"/>
                    </a:lnTo>
                    <a:cubicBezTo>
                      <a:pt x="1051" y="1"/>
                      <a:pt x="1052" y="2"/>
                      <a:pt x="1052" y="3"/>
                    </a:cubicBezTo>
                    <a:cubicBezTo>
                      <a:pt x="1052" y="4"/>
                      <a:pt x="1051" y="5"/>
                      <a:pt x="1050" y="5"/>
                    </a:cubicBezTo>
                    <a:lnTo>
                      <a:pt x="1050" y="5"/>
                    </a:lnTo>
                    <a:cubicBezTo>
                      <a:pt x="1049" y="5"/>
                      <a:pt x="1048" y="4"/>
                      <a:pt x="1048" y="3"/>
                    </a:cubicBezTo>
                    <a:cubicBezTo>
                      <a:pt x="1048" y="2"/>
                      <a:pt x="1049" y="1"/>
                      <a:pt x="1050" y="1"/>
                    </a:cubicBezTo>
                    <a:close/>
                    <a:moveTo>
                      <a:pt x="1058" y="1"/>
                    </a:moveTo>
                    <a:lnTo>
                      <a:pt x="1058" y="1"/>
                    </a:lnTo>
                    <a:cubicBezTo>
                      <a:pt x="1059" y="1"/>
                      <a:pt x="1060" y="2"/>
                      <a:pt x="1060" y="3"/>
                    </a:cubicBezTo>
                    <a:cubicBezTo>
                      <a:pt x="1060" y="4"/>
                      <a:pt x="1059" y="5"/>
                      <a:pt x="1058" y="5"/>
                    </a:cubicBezTo>
                    <a:lnTo>
                      <a:pt x="1058" y="5"/>
                    </a:lnTo>
                    <a:cubicBezTo>
                      <a:pt x="1057" y="5"/>
                      <a:pt x="1056" y="4"/>
                      <a:pt x="1056" y="3"/>
                    </a:cubicBezTo>
                    <a:cubicBezTo>
                      <a:pt x="1056" y="2"/>
                      <a:pt x="1057" y="1"/>
                      <a:pt x="1058" y="1"/>
                    </a:cubicBezTo>
                    <a:close/>
                    <a:moveTo>
                      <a:pt x="1066" y="1"/>
                    </a:moveTo>
                    <a:lnTo>
                      <a:pt x="1066" y="1"/>
                    </a:lnTo>
                    <a:cubicBezTo>
                      <a:pt x="1067" y="1"/>
                      <a:pt x="1068" y="2"/>
                      <a:pt x="1068" y="3"/>
                    </a:cubicBezTo>
                    <a:cubicBezTo>
                      <a:pt x="1068" y="4"/>
                      <a:pt x="1067" y="5"/>
                      <a:pt x="1066" y="5"/>
                    </a:cubicBezTo>
                    <a:lnTo>
                      <a:pt x="1066" y="5"/>
                    </a:lnTo>
                    <a:cubicBezTo>
                      <a:pt x="1065" y="5"/>
                      <a:pt x="1064" y="4"/>
                      <a:pt x="1064" y="3"/>
                    </a:cubicBezTo>
                    <a:cubicBezTo>
                      <a:pt x="1064" y="2"/>
                      <a:pt x="1065" y="1"/>
                      <a:pt x="1066" y="1"/>
                    </a:cubicBezTo>
                    <a:close/>
                    <a:moveTo>
                      <a:pt x="1074" y="1"/>
                    </a:moveTo>
                    <a:lnTo>
                      <a:pt x="1074" y="1"/>
                    </a:lnTo>
                    <a:cubicBezTo>
                      <a:pt x="1075" y="1"/>
                      <a:pt x="1076" y="2"/>
                      <a:pt x="1076" y="3"/>
                    </a:cubicBezTo>
                    <a:cubicBezTo>
                      <a:pt x="1076" y="4"/>
                      <a:pt x="1075" y="5"/>
                      <a:pt x="1074" y="5"/>
                    </a:cubicBezTo>
                    <a:lnTo>
                      <a:pt x="1074" y="5"/>
                    </a:lnTo>
                    <a:cubicBezTo>
                      <a:pt x="1073" y="5"/>
                      <a:pt x="1072" y="4"/>
                      <a:pt x="1072" y="3"/>
                    </a:cubicBezTo>
                    <a:cubicBezTo>
                      <a:pt x="1072" y="2"/>
                      <a:pt x="1073" y="1"/>
                      <a:pt x="1074" y="1"/>
                    </a:cubicBezTo>
                    <a:close/>
                    <a:moveTo>
                      <a:pt x="1082" y="1"/>
                    </a:moveTo>
                    <a:lnTo>
                      <a:pt x="1082" y="1"/>
                    </a:lnTo>
                    <a:cubicBezTo>
                      <a:pt x="1083" y="1"/>
                      <a:pt x="1084" y="2"/>
                      <a:pt x="1084" y="3"/>
                    </a:cubicBezTo>
                    <a:cubicBezTo>
                      <a:pt x="1084" y="4"/>
                      <a:pt x="1083" y="5"/>
                      <a:pt x="1082" y="5"/>
                    </a:cubicBezTo>
                    <a:lnTo>
                      <a:pt x="1082" y="5"/>
                    </a:lnTo>
                    <a:cubicBezTo>
                      <a:pt x="1081" y="5"/>
                      <a:pt x="1080" y="4"/>
                      <a:pt x="1080" y="3"/>
                    </a:cubicBezTo>
                    <a:cubicBezTo>
                      <a:pt x="1080" y="2"/>
                      <a:pt x="1081" y="1"/>
                      <a:pt x="1082" y="1"/>
                    </a:cubicBezTo>
                    <a:close/>
                    <a:moveTo>
                      <a:pt x="1090" y="1"/>
                    </a:moveTo>
                    <a:lnTo>
                      <a:pt x="1090" y="1"/>
                    </a:lnTo>
                    <a:cubicBezTo>
                      <a:pt x="1091" y="1"/>
                      <a:pt x="1092" y="2"/>
                      <a:pt x="1092" y="3"/>
                    </a:cubicBezTo>
                    <a:cubicBezTo>
                      <a:pt x="1092" y="4"/>
                      <a:pt x="1091" y="5"/>
                      <a:pt x="1090" y="5"/>
                    </a:cubicBezTo>
                    <a:lnTo>
                      <a:pt x="1090" y="5"/>
                    </a:lnTo>
                    <a:cubicBezTo>
                      <a:pt x="1089" y="5"/>
                      <a:pt x="1088" y="4"/>
                      <a:pt x="1088" y="3"/>
                    </a:cubicBezTo>
                    <a:cubicBezTo>
                      <a:pt x="1088" y="2"/>
                      <a:pt x="1089" y="1"/>
                      <a:pt x="1090" y="1"/>
                    </a:cubicBezTo>
                    <a:close/>
                    <a:moveTo>
                      <a:pt x="1098" y="1"/>
                    </a:moveTo>
                    <a:lnTo>
                      <a:pt x="1098" y="1"/>
                    </a:lnTo>
                    <a:cubicBezTo>
                      <a:pt x="1099" y="1"/>
                      <a:pt x="1100" y="2"/>
                      <a:pt x="1100" y="3"/>
                    </a:cubicBezTo>
                    <a:cubicBezTo>
                      <a:pt x="1100" y="4"/>
                      <a:pt x="1099" y="5"/>
                      <a:pt x="1098" y="5"/>
                    </a:cubicBezTo>
                    <a:lnTo>
                      <a:pt x="1098" y="5"/>
                    </a:lnTo>
                    <a:cubicBezTo>
                      <a:pt x="1097" y="5"/>
                      <a:pt x="1096" y="4"/>
                      <a:pt x="1096" y="3"/>
                    </a:cubicBezTo>
                    <a:cubicBezTo>
                      <a:pt x="1096" y="2"/>
                      <a:pt x="1097" y="1"/>
                      <a:pt x="1098" y="1"/>
                    </a:cubicBezTo>
                    <a:close/>
                    <a:moveTo>
                      <a:pt x="1106" y="1"/>
                    </a:moveTo>
                    <a:lnTo>
                      <a:pt x="1106" y="1"/>
                    </a:lnTo>
                    <a:cubicBezTo>
                      <a:pt x="1107" y="1"/>
                      <a:pt x="1108" y="2"/>
                      <a:pt x="1108" y="3"/>
                    </a:cubicBezTo>
                    <a:cubicBezTo>
                      <a:pt x="1108" y="4"/>
                      <a:pt x="1107" y="5"/>
                      <a:pt x="1106" y="5"/>
                    </a:cubicBezTo>
                    <a:lnTo>
                      <a:pt x="1106" y="5"/>
                    </a:lnTo>
                    <a:cubicBezTo>
                      <a:pt x="1105" y="5"/>
                      <a:pt x="1104" y="4"/>
                      <a:pt x="1104" y="3"/>
                    </a:cubicBezTo>
                    <a:cubicBezTo>
                      <a:pt x="1104" y="2"/>
                      <a:pt x="1105" y="1"/>
                      <a:pt x="1106" y="1"/>
                    </a:cubicBezTo>
                    <a:close/>
                    <a:moveTo>
                      <a:pt x="1114" y="1"/>
                    </a:moveTo>
                    <a:lnTo>
                      <a:pt x="1114" y="1"/>
                    </a:lnTo>
                    <a:cubicBezTo>
                      <a:pt x="1115" y="1"/>
                      <a:pt x="1116" y="2"/>
                      <a:pt x="1116" y="3"/>
                    </a:cubicBezTo>
                    <a:cubicBezTo>
                      <a:pt x="1116" y="4"/>
                      <a:pt x="1115" y="5"/>
                      <a:pt x="1114" y="5"/>
                    </a:cubicBezTo>
                    <a:lnTo>
                      <a:pt x="1114" y="5"/>
                    </a:lnTo>
                    <a:cubicBezTo>
                      <a:pt x="1113" y="5"/>
                      <a:pt x="1112" y="4"/>
                      <a:pt x="1112" y="3"/>
                    </a:cubicBezTo>
                    <a:cubicBezTo>
                      <a:pt x="1112" y="2"/>
                      <a:pt x="1113" y="1"/>
                      <a:pt x="1114" y="1"/>
                    </a:cubicBezTo>
                    <a:close/>
                    <a:moveTo>
                      <a:pt x="1122" y="1"/>
                    </a:moveTo>
                    <a:lnTo>
                      <a:pt x="1122" y="1"/>
                    </a:lnTo>
                    <a:cubicBezTo>
                      <a:pt x="1123" y="1"/>
                      <a:pt x="1124" y="2"/>
                      <a:pt x="1124" y="3"/>
                    </a:cubicBezTo>
                    <a:cubicBezTo>
                      <a:pt x="1124" y="4"/>
                      <a:pt x="1123" y="5"/>
                      <a:pt x="1122" y="5"/>
                    </a:cubicBezTo>
                    <a:lnTo>
                      <a:pt x="1122" y="5"/>
                    </a:lnTo>
                    <a:cubicBezTo>
                      <a:pt x="1121" y="5"/>
                      <a:pt x="1120" y="4"/>
                      <a:pt x="1120" y="3"/>
                    </a:cubicBezTo>
                    <a:cubicBezTo>
                      <a:pt x="1120" y="2"/>
                      <a:pt x="1121" y="1"/>
                      <a:pt x="1122" y="1"/>
                    </a:cubicBezTo>
                    <a:close/>
                    <a:moveTo>
                      <a:pt x="1130" y="1"/>
                    </a:moveTo>
                    <a:lnTo>
                      <a:pt x="1130" y="1"/>
                    </a:lnTo>
                    <a:cubicBezTo>
                      <a:pt x="1131" y="1"/>
                      <a:pt x="1132" y="2"/>
                      <a:pt x="1132" y="3"/>
                    </a:cubicBezTo>
                    <a:cubicBezTo>
                      <a:pt x="1132" y="4"/>
                      <a:pt x="1131" y="5"/>
                      <a:pt x="1130" y="5"/>
                    </a:cubicBezTo>
                    <a:lnTo>
                      <a:pt x="1130" y="5"/>
                    </a:lnTo>
                    <a:cubicBezTo>
                      <a:pt x="1129" y="5"/>
                      <a:pt x="1128" y="4"/>
                      <a:pt x="1128" y="3"/>
                    </a:cubicBezTo>
                    <a:cubicBezTo>
                      <a:pt x="1128" y="2"/>
                      <a:pt x="1129" y="1"/>
                      <a:pt x="1130" y="1"/>
                    </a:cubicBezTo>
                    <a:close/>
                    <a:moveTo>
                      <a:pt x="1138" y="1"/>
                    </a:moveTo>
                    <a:lnTo>
                      <a:pt x="1138" y="1"/>
                    </a:lnTo>
                    <a:cubicBezTo>
                      <a:pt x="1139" y="1"/>
                      <a:pt x="1140" y="2"/>
                      <a:pt x="1140" y="3"/>
                    </a:cubicBezTo>
                    <a:cubicBezTo>
                      <a:pt x="1140" y="4"/>
                      <a:pt x="1139" y="5"/>
                      <a:pt x="1138" y="5"/>
                    </a:cubicBezTo>
                    <a:lnTo>
                      <a:pt x="1138" y="5"/>
                    </a:lnTo>
                    <a:cubicBezTo>
                      <a:pt x="1137" y="5"/>
                      <a:pt x="1136" y="4"/>
                      <a:pt x="1136" y="3"/>
                    </a:cubicBezTo>
                    <a:cubicBezTo>
                      <a:pt x="1136" y="2"/>
                      <a:pt x="1137" y="1"/>
                      <a:pt x="1138" y="1"/>
                    </a:cubicBezTo>
                    <a:close/>
                    <a:moveTo>
                      <a:pt x="1146" y="1"/>
                    </a:moveTo>
                    <a:lnTo>
                      <a:pt x="1146" y="1"/>
                    </a:lnTo>
                    <a:cubicBezTo>
                      <a:pt x="1147" y="1"/>
                      <a:pt x="1148" y="2"/>
                      <a:pt x="1148" y="3"/>
                    </a:cubicBezTo>
                    <a:cubicBezTo>
                      <a:pt x="1148" y="4"/>
                      <a:pt x="1147" y="5"/>
                      <a:pt x="1146" y="5"/>
                    </a:cubicBezTo>
                    <a:lnTo>
                      <a:pt x="1146" y="5"/>
                    </a:lnTo>
                    <a:cubicBezTo>
                      <a:pt x="1145" y="5"/>
                      <a:pt x="1144" y="4"/>
                      <a:pt x="1144" y="3"/>
                    </a:cubicBezTo>
                    <a:cubicBezTo>
                      <a:pt x="1144" y="2"/>
                      <a:pt x="1145" y="1"/>
                      <a:pt x="1146" y="1"/>
                    </a:cubicBezTo>
                    <a:close/>
                    <a:moveTo>
                      <a:pt x="1154" y="1"/>
                    </a:moveTo>
                    <a:lnTo>
                      <a:pt x="1154" y="1"/>
                    </a:lnTo>
                    <a:cubicBezTo>
                      <a:pt x="1155" y="1"/>
                      <a:pt x="1156" y="2"/>
                      <a:pt x="1156" y="3"/>
                    </a:cubicBezTo>
                    <a:cubicBezTo>
                      <a:pt x="1156" y="4"/>
                      <a:pt x="1155" y="5"/>
                      <a:pt x="1154" y="5"/>
                    </a:cubicBezTo>
                    <a:lnTo>
                      <a:pt x="1154" y="5"/>
                    </a:lnTo>
                    <a:cubicBezTo>
                      <a:pt x="1153" y="5"/>
                      <a:pt x="1152" y="4"/>
                      <a:pt x="1152" y="3"/>
                    </a:cubicBezTo>
                    <a:cubicBezTo>
                      <a:pt x="1152" y="2"/>
                      <a:pt x="1153" y="1"/>
                      <a:pt x="1154" y="1"/>
                    </a:cubicBezTo>
                    <a:close/>
                    <a:moveTo>
                      <a:pt x="1162" y="1"/>
                    </a:moveTo>
                    <a:lnTo>
                      <a:pt x="1162" y="1"/>
                    </a:lnTo>
                    <a:cubicBezTo>
                      <a:pt x="1163" y="1"/>
                      <a:pt x="1164" y="2"/>
                      <a:pt x="1164" y="3"/>
                    </a:cubicBezTo>
                    <a:cubicBezTo>
                      <a:pt x="1164" y="4"/>
                      <a:pt x="1163" y="5"/>
                      <a:pt x="1162" y="5"/>
                    </a:cubicBezTo>
                    <a:lnTo>
                      <a:pt x="1162" y="5"/>
                    </a:lnTo>
                    <a:cubicBezTo>
                      <a:pt x="1161" y="5"/>
                      <a:pt x="1160" y="4"/>
                      <a:pt x="1160" y="3"/>
                    </a:cubicBezTo>
                    <a:cubicBezTo>
                      <a:pt x="1160" y="2"/>
                      <a:pt x="1161" y="1"/>
                      <a:pt x="1162" y="1"/>
                    </a:cubicBezTo>
                    <a:close/>
                    <a:moveTo>
                      <a:pt x="1170" y="1"/>
                    </a:moveTo>
                    <a:lnTo>
                      <a:pt x="1170" y="1"/>
                    </a:lnTo>
                    <a:cubicBezTo>
                      <a:pt x="1171" y="1"/>
                      <a:pt x="1172" y="2"/>
                      <a:pt x="1172" y="3"/>
                    </a:cubicBezTo>
                    <a:cubicBezTo>
                      <a:pt x="1172" y="4"/>
                      <a:pt x="1171" y="5"/>
                      <a:pt x="1170" y="5"/>
                    </a:cubicBezTo>
                    <a:lnTo>
                      <a:pt x="1170" y="5"/>
                    </a:lnTo>
                    <a:cubicBezTo>
                      <a:pt x="1169" y="5"/>
                      <a:pt x="1168" y="4"/>
                      <a:pt x="1168" y="3"/>
                    </a:cubicBezTo>
                    <a:cubicBezTo>
                      <a:pt x="1168" y="2"/>
                      <a:pt x="1169" y="1"/>
                      <a:pt x="1170" y="1"/>
                    </a:cubicBezTo>
                    <a:close/>
                    <a:moveTo>
                      <a:pt x="1178" y="1"/>
                    </a:moveTo>
                    <a:lnTo>
                      <a:pt x="1178" y="1"/>
                    </a:lnTo>
                    <a:cubicBezTo>
                      <a:pt x="1179" y="1"/>
                      <a:pt x="1180" y="2"/>
                      <a:pt x="1180" y="3"/>
                    </a:cubicBezTo>
                    <a:cubicBezTo>
                      <a:pt x="1180" y="4"/>
                      <a:pt x="1179" y="5"/>
                      <a:pt x="1178" y="5"/>
                    </a:cubicBezTo>
                    <a:lnTo>
                      <a:pt x="1178" y="5"/>
                    </a:lnTo>
                    <a:cubicBezTo>
                      <a:pt x="1177" y="5"/>
                      <a:pt x="1176" y="4"/>
                      <a:pt x="1176" y="3"/>
                    </a:cubicBezTo>
                    <a:cubicBezTo>
                      <a:pt x="1176" y="2"/>
                      <a:pt x="1177" y="1"/>
                      <a:pt x="1178" y="1"/>
                    </a:cubicBezTo>
                    <a:close/>
                    <a:moveTo>
                      <a:pt x="1186" y="1"/>
                    </a:moveTo>
                    <a:lnTo>
                      <a:pt x="1186" y="1"/>
                    </a:lnTo>
                    <a:cubicBezTo>
                      <a:pt x="1187" y="1"/>
                      <a:pt x="1188" y="2"/>
                      <a:pt x="1188" y="3"/>
                    </a:cubicBezTo>
                    <a:cubicBezTo>
                      <a:pt x="1188" y="4"/>
                      <a:pt x="1187" y="5"/>
                      <a:pt x="1186" y="5"/>
                    </a:cubicBezTo>
                    <a:lnTo>
                      <a:pt x="1186" y="5"/>
                    </a:lnTo>
                    <a:cubicBezTo>
                      <a:pt x="1185" y="5"/>
                      <a:pt x="1184" y="4"/>
                      <a:pt x="1184" y="3"/>
                    </a:cubicBezTo>
                    <a:cubicBezTo>
                      <a:pt x="1184" y="2"/>
                      <a:pt x="1185" y="1"/>
                      <a:pt x="1186" y="1"/>
                    </a:cubicBezTo>
                    <a:close/>
                    <a:moveTo>
                      <a:pt x="1194" y="1"/>
                    </a:moveTo>
                    <a:lnTo>
                      <a:pt x="1194" y="1"/>
                    </a:lnTo>
                    <a:cubicBezTo>
                      <a:pt x="1195" y="1"/>
                      <a:pt x="1196" y="2"/>
                      <a:pt x="1196" y="3"/>
                    </a:cubicBezTo>
                    <a:cubicBezTo>
                      <a:pt x="1196" y="4"/>
                      <a:pt x="1195" y="5"/>
                      <a:pt x="1194" y="5"/>
                    </a:cubicBezTo>
                    <a:lnTo>
                      <a:pt x="1194" y="5"/>
                    </a:lnTo>
                    <a:cubicBezTo>
                      <a:pt x="1193" y="5"/>
                      <a:pt x="1192" y="4"/>
                      <a:pt x="1192" y="3"/>
                    </a:cubicBezTo>
                    <a:cubicBezTo>
                      <a:pt x="1192" y="2"/>
                      <a:pt x="1193" y="1"/>
                      <a:pt x="1194" y="1"/>
                    </a:cubicBezTo>
                    <a:close/>
                    <a:moveTo>
                      <a:pt x="1202" y="1"/>
                    </a:moveTo>
                    <a:lnTo>
                      <a:pt x="1202" y="1"/>
                    </a:lnTo>
                    <a:cubicBezTo>
                      <a:pt x="1203" y="1"/>
                      <a:pt x="1204" y="2"/>
                      <a:pt x="1204" y="3"/>
                    </a:cubicBezTo>
                    <a:cubicBezTo>
                      <a:pt x="1204" y="4"/>
                      <a:pt x="1203" y="5"/>
                      <a:pt x="1202" y="5"/>
                    </a:cubicBezTo>
                    <a:lnTo>
                      <a:pt x="1202" y="5"/>
                    </a:lnTo>
                    <a:cubicBezTo>
                      <a:pt x="1201" y="5"/>
                      <a:pt x="1200" y="4"/>
                      <a:pt x="1200" y="3"/>
                    </a:cubicBezTo>
                    <a:cubicBezTo>
                      <a:pt x="1200" y="2"/>
                      <a:pt x="1201" y="1"/>
                      <a:pt x="1202" y="1"/>
                    </a:cubicBezTo>
                    <a:close/>
                    <a:moveTo>
                      <a:pt x="1210" y="1"/>
                    </a:moveTo>
                    <a:lnTo>
                      <a:pt x="1210" y="1"/>
                    </a:lnTo>
                    <a:cubicBezTo>
                      <a:pt x="1212" y="1"/>
                      <a:pt x="1212" y="2"/>
                      <a:pt x="1212" y="3"/>
                    </a:cubicBezTo>
                    <a:cubicBezTo>
                      <a:pt x="1212" y="4"/>
                      <a:pt x="1212" y="5"/>
                      <a:pt x="1210" y="5"/>
                    </a:cubicBezTo>
                    <a:lnTo>
                      <a:pt x="1210" y="5"/>
                    </a:lnTo>
                    <a:cubicBezTo>
                      <a:pt x="1209" y="5"/>
                      <a:pt x="1208" y="4"/>
                      <a:pt x="1208" y="3"/>
                    </a:cubicBezTo>
                    <a:cubicBezTo>
                      <a:pt x="1208" y="2"/>
                      <a:pt x="1209" y="1"/>
                      <a:pt x="1210" y="1"/>
                    </a:cubicBezTo>
                    <a:close/>
                    <a:moveTo>
                      <a:pt x="1218" y="1"/>
                    </a:moveTo>
                    <a:lnTo>
                      <a:pt x="1218" y="1"/>
                    </a:lnTo>
                    <a:cubicBezTo>
                      <a:pt x="1220" y="1"/>
                      <a:pt x="1220" y="2"/>
                      <a:pt x="1220" y="3"/>
                    </a:cubicBezTo>
                    <a:cubicBezTo>
                      <a:pt x="1220" y="4"/>
                      <a:pt x="1220" y="5"/>
                      <a:pt x="1218" y="5"/>
                    </a:cubicBezTo>
                    <a:lnTo>
                      <a:pt x="1218" y="5"/>
                    </a:lnTo>
                    <a:cubicBezTo>
                      <a:pt x="1217" y="5"/>
                      <a:pt x="1216" y="4"/>
                      <a:pt x="1216" y="3"/>
                    </a:cubicBezTo>
                    <a:cubicBezTo>
                      <a:pt x="1216" y="2"/>
                      <a:pt x="1217" y="1"/>
                      <a:pt x="1218" y="1"/>
                    </a:cubicBezTo>
                    <a:close/>
                    <a:moveTo>
                      <a:pt x="1226" y="1"/>
                    </a:moveTo>
                    <a:lnTo>
                      <a:pt x="1226" y="1"/>
                    </a:lnTo>
                    <a:cubicBezTo>
                      <a:pt x="1228" y="1"/>
                      <a:pt x="1228" y="2"/>
                      <a:pt x="1228" y="3"/>
                    </a:cubicBezTo>
                    <a:cubicBezTo>
                      <a:pt x="1228" y="4"/>
                      <a:pt x="1228" y="5"/>
                      <a:pt x="1226" y="5"/>
                    </a:cubicBezTo>
                    <a:lnTo>
                      <a:pt x="1226" y="5"/>
                    </a:lnTo>
                    <a:cubicBezTo>
                      <a:pt x="1225" y="5"/>
                      <a:pt x="1224" y="4"/>
                      <a:pt x="1224" y="3"/>
                    </a:cubicBezTo>
                    <a:cubicBezTo>
                      <a:pt x="1224" y="2"/>
                      <a:pt x="1225" y="1"/>
                      <a:pt x="1226" y="1"/>
                    </a:cubicBezTo>
                    <a:close/>
                    <a:moveTo>
                      <a:pt x="1234" y="1"/>
                    </a:moveTo>
                    <a:lnTo>
                      <a:pt x="1234" y="1"/>
                    </a:lnTo>
                    <a:cubicBezTo>
                      <a:pt x="1236" y="1"/>
                      <a:pt x="1236" y="2"/>
                      <a:pt x="1236" y="3"/>
                    </a:cubicBezTo>
                    <a:cubicBezTo>
                      <a:pt x="1236" y="4"/>
                      <a:pt x="1236" y="5"/>
                      <a:pt x="1234" y="5"/>
                    </a:cubicBezTo>
                    <a:lnTo>
                      <a:pt x="1234" y="5"/>
                    </a:lnTo>
                    <a:cubicBezTo>
                      <a:pt x="1233" y="5"/>
                      <a:pt x="1232" y="4"/>
                      <a:pt x="1232" y="3"/>
                    </a:cubicBezTo>
                    <a:cubicBezTo>
                      <a:pt x="1232" y="2"/>
                      <a:pt x="1233" y="1"/>
                      <a:pt x="1234" y="1"/>
                    </a:cubicBezTo>
                    <a:close/>
                    <a:moveTo>
                      <a:pt x="1242" y="1"/>
                    </a:moveTo>
                    <a:lnTo>
                      <a:pt x="1242" y="1"/>
                    </a:lnTo>
                    <a:cubicBezTo>
                      <a:pt x="1244" y="1"/>
                      <a:pt x="1244" y="2"/>
                      <a:pt x="1244" y="3"/>
                    </a:cubicBezTo>
                    <a:cubicBezTo>
                      <a:pt x="1244" y="4"/>
                      <a:pt x="1244" y="5"/>
                      <a:pt x="1242" y="5"/>
                    </a:cubicBezTo>
                    <a:lnTo>
                      <a:pt x="1242" y="5"/>
                    </a:lnTo>
                    <a:cubicBezTo>
                      <a:pt x="1241" y="5"/>
                      <a:pt x="1240" y="4"/>
                      <a:pt x="1240" y="3"/>
                    </a:cubicBezTo>
                    <a:cubicBezTo>
                      <a:pt x="1240" y="2"/>
                      <a:pt x="1241" y="1"/>
                      <a:pt x="1242" y="1"/>
                    </a:cubicBezTo>
                    <a:close/>
                    <a:moveTo>
                      <a:pt x="1250" y="1"/>
                    </a:moveTo>
                    <a:lnTo>
                      <a:pt x="1250" y="1"/>
                    </a:lnTo>
                    <a:cubicBezTo>
                      <a:pt x="1252" y="1"/>
                      <a:pt x="1252" y="2"/>
                      <a:pt x="1252" y="3"/>
                    </a:cubicBezTo>
                    <a:cubicBezTo>
                      <a:pt x="1252" y="4"/>
                      <a:pt x="1252" y="5"/>
                      <a:pt x="1250" y="5"/>
                    </a:cubicBezTo>
                    <a:lnTo>
                      <a:pt x="1250" y="5"/>
                    </a:lnTo>
                    <a:cubicBezTo>
                      <a:pt x="1249" y="5"/>
                      <a:pt x="1248" y="4"/>
                      <a:pt x="1248" y="3"/>
                    </a:cubicBezTo>
                    <a:cubicBezTo>
                      <a:pt x="1248" y="2"/>
                      <a:pt x="1249" y="1"/>
                      <a:pt x="1250" y="1"/>
                    </a:cubicBezTo>
                    <a:close/>
                    <a:moveTo>
                      <a:pt x="1258" y="1"/>
                    </a:moveTo>
                    <a:lnTo>
                      <a:pt x="1258" y="1"/>
                    </a:lnTo>
                    <a:cubicBezTo>
                      <a:pt x="1260" y="1"/>
                      <a:pt x="1260" y="2"/>
                      <a:pt x="1260" y="3"/>
                    </a:cubicBezTo>
                    <a:cubicBezTo>
                      <a:pt x="1260" y="4"/>
                      <a:pt x="1260" y="5"/>
                      <a:pt x="1258" y="5"/>
                    </a:cubicBezTo>
                    <a:lnTo>
                      <a:pt x="1258" y="5"/>
                    </a:lnTo>
                    <a:cubicBezTo>
                      <a:pt x="1257" y="5"/>
                      <a:pt x="1256" y="4"/>
                      <a:pt x="1256" y="3"/>
                    </a:cubicBezTo>
                    <a:cubicBezTo>
                      <a:pt x="1256" y="2"/>
                      <a:pt x="1257" y="1"/>
                      <a:pt x="1258" y="1"/>
                    </a:cubicBezTo>
                    <a:close/>
                    <a:moveTo>
                      <a:pt x="1266" y="1"/>
                    </a:moveTo>
                    <a:lnTo>
                      <a:pt x="1266" y="1"/>
                    </a:lnTo>
                    <a:cubicBezTo>
                      <a:pt x="1268" y="1"/>
                      <a:pt x="1268" y="2"/>
                      <a:pt x="1268" y="3"/>
                    </a:cubicBezTo>
                    <a:cubicBezTo>
                      <a:pt x="1268" y="4"/>
                      <a:pt x="1268" y="5"/>
                      <a:pt x="1266" y="5"/>
                    </a:cubicBezTo>
                    <a:lnTo>
                      <a:pt x="1266" y="5"/>
                    </a:lnTo>
                    <a:cubicBezTo>
                      <a:pt x="1265" y="5"/>
                      <a:pt x="1264" y="4"/>
                      <a:pt x="1264" y="3"/>
                    </a:cubicBezTo>
                    <a:cubicBezTo>
                      <a:pt x="1264" y="2"/>
                      <a:pt x="1265" y="1"/>
                      <a:pt x="1266" y="1"/>
                    </a:cubicBezTo>
                    <a:close/>
                    <a:moveTo>
                      <a:pt x="1274" y="1"/>
                    </a:moveTo>
                    <a:lnTo>
                      <a:pt x="1274" y="1"/>
                    </a:lnTo>
                    <a:cubicBezTo>
                      <a:pt x="1276" y="1"/>
                      <a:pt x="1276" y="2"/>
                      <a:pt x="1276" y="3"/>
                    </a:cubicBezTo>
                    <a:cubicBezTo>
                      <a:pt x="1276" y="4"/>
                      <a:pt x="1276" y="5"/>
                      <a:pt x="1274" y="5"/>
                    </a:cubicBezTo>
                    <a:lnTo>
                      <a:pt x="1274" y="5"/>
                    </a:lnTo>
                    <a:cubicBezTo>
                      <a:pt x="1273" y="5"/>
                      <a:pt x="1272" y="4"/>
                      <a:pt x="1272" y="3"/>
                    </a:cubicBezTo>
                    <a:cubicBezTo>
                      <a:pt x="1272" y="2"/>
                      <a:pt x="1273" y="1"/>
                      <a:pt x="1274" y="1"/>
                    </a:cubicBezTo>
                    <a:close/>
                    <a:moveTo>
                      <a:pt x="1282" y="1"/>
                    </a:moveTo>
                    <a:lnTo>
                      <a:pt x="1282" y="1"/>
                    </a:lnTo>
                    <a:cubicBezTo>
                      <a:pt x="1284" y="1"/>
                      <a:pt x="1284" y="2"/>
                      <a:pt x="1284" y="3"/>
                    </a:cubicBezTo>
                    <a:cubicBezTo>
                      <a:pt x="1284" y="4"/>
                      <a:pt x="1284" y="5"/>
                      <a:pt x="1282" y="5"/>
                    </a:cubicBezTo>
                    <a:lnTo>
                      <a:pt x="1282" y="5"/>
                    </a:lnTo>
                    <a:cubicBezTo>
                      <a:pt x="1281" y="5"/>
                      <a:pt x="1280" y="4"/>
                      <a:pt x="1280" y="3"/>
                    </a:cubicBezTo>
                    <a:cubicBezTo>
                      <a:pt x="1280" y="2"/>
                      <a:pt x="1281" y="1"/>
                      <a:pt x="1282" y="1"/>
                    </a:cubicBezTo>
                    <a:close/>
                    <a:moveTo>
                      <a:pt x="1290" y="1"/>
                    </a:moveTo>
                    <a:lnTo>
                      <a:pt x="1290" y="1"/>
                    </a:lnTo>
                    <a:cubicBezTo>
                      <a:pt x="1292" y="1"/>
                      <a:pt x="1292" y="2"/>
                      <a:pt x="1292" y="3"/>
                    </a:cubicBezTo>
                    <a:cubicBezTo>
                      <a:pt x="1292" y="4"/>
                      <a:pt x="1292" y="5"/>
                      <a:pt x="1290" y="5"/>
                    </a:cubicBezTo>
                    <a:lnTo>
                      <a:pt x="1290" y="5"/>
                    </a:lnTo>
                    <a:cubicBezTo>
                      <a:pt x="1289" y="5"/>
                      <a:pt x="1288" y="4"/>
                      <a:pt x="1288" y="3"/>
                    </a:cubicBezTo>
                    <a:cubicBezTo>
                      <a:pt x="1288" y="2"/>
                      <a:pt x="1289" y="1"/>
                      <a:pt x="1290" y="1"/>
                    </a:cubicBezTo>
                    <a:close/>
                    <a:moveTo>
                      <a:pt x="1298" y="1"/>
                    </a:moveTo>
                    <a:lnTo>
                      <a:pt x="1298" y="1"/>
                    </a:lnTo>
                    <a:cubicBezTo>
                      <a:pt x="1300" y="1"/>
                      <a:pt x="1300" y="2"/>
                      <a:pt x="1300" y="3"/>
                    </a:cubicBezTo>
                    <a:cubicBezTo>
                      <a:pt x="1300" y="4"/>
                      <a:pt x="1300" y="5"/>
                      <a:pt x="1298" y="5"/>
                    </a:cubicBezTo>
                    <a:lnTo>
                      <a:pt x="1298" y="5"/>
                    </a:lnTo>
                    <a:cubicBezTo>
                      <a:pt x="1297" y="5"/>
                      <a:pt x="1296" y="4"/>
                      <a:pt x="1296" y="3"/>
                    </a:cubicBezTo>
                    <a:cubicBezTo>
                      <a:pt x="1296" y="2"/>
                      <a:pt x="1297" y="1"/>
                      <a:pt x="1298" y="1"/>
                    </a:cubicBezTo>
                    <a:close/>
                    <a:moveTo>
                      <a:pt x="1306" y="1"/>
                    </a:moveTo>
                    <a:lnTo>
                      <a:pt x="1306" y="1"/>
                    </a:lnTo>
                    <a:cubicBezTo>
                      <a:pt x="1308" y="1"/>
                      <a:pt x="1308" y="2"/>
                      <a:pt x="1308" y="3"/>
                    </a:cubicBezTo>
                    <a:cubicBezTo>
                      <a:pt x="1308" y="4"/>
                      <a:pt x="1308" y="5"/>
                      <a:pt x="1306" y="5"/>
                    </a:cubicBezTo>
                    <a:lnTo>
                      <a:pt x="1306" y="5"/>
                    </a:lnTo>
                    <a:cubicBezTo>
                      <a:pt x="1305" y="5"/>
                      <a:pt x="1304" y="4"/>
                      <a:pt x="1304" y="3"/>
                    </a:cubicBezTo>
                    <a:cubicBezTo>
                      <a:pt x="1304" y="2"/>
                      <a:pt x="1305" y="1"/>
                      <a:pt x="1306" y="1"/>
                    </a:cubicBezTo>
                    <a:close/>
                    <a:moveTo>
                      <a:pt x="1314" y="1"/>
                    </a:moveTo>
                    <a:lnTo>
                      <a:pt x="1314" y="1"/>
                    </a:lnTo>
                    <a:cubicBezTo>
                      <a:pt x="1316" y="1"/>
                      <a:pt x="1316" y="2"/>
                      <a:pt x="1316" y="3"/>
                    </a:cubicBezTo>
                    <a:cubicBezTo>
                      <a:pt x="1316" y="4"/>
                      <a:pt x="1316" y="5"/>
                      <a:pt x="1314" y="5"/>
                    </a:cubicBezTo>
                    <a:lnTo>
                      <a:pt x="1314" y="5"/>
                    </a:lnTo>
                    <a:cubicBezTo>
                      <a:pt x="1313" y="5"/>
                      <a:pt x="1312" y="4"/>
                      <a:pt x="1312" y="3"/>
                    </a:cubicBezTo>
                    <a:cubicBezTo>
                      <a:pt x="1312" y="2"/>
                      <a:pt x="1313" y="1"/>
                      <a:pt x="1314" y="1"/>
                    </a:cubicBezTo>
                    <a:close/>
                    <a:moveTo>
                      <a:pt x="1322" y="1"/>
                    </a:moveTo>
                    <a:lnTo>
                      <a:pt x="1322" y="1"/>
                    </a:lnTo>
                    <a:cubicBezTo>
                      <a:pt x="1324" y="1"/>
                      <a:pt x="1324" y="2"/>
                      <a:pt x="1324" y="3"/>
                    </a:cubicBezTo>
                    <a:cubicBezTo>
                      <a:pt x="1324" y="4"/>
                      <a:pt x="1324" y="5"/>
                      <a:pt x="1322" y="5"/>
                    </a:cubicBezTo>
                    <a:lnTo>
                      <a:pt x="1322" y="5"/>
                    </a:lnTo>
                    <a:cubicBezTo>
                      <a:pt x="1321" y="5"/>
                      <a:pt x="1320" y="4"/>
                      <a:pt x="1320" y="3"/>
                    </a:cubicBezTo>
                    <a:cubicBezTo>
                      <a:pt x="1320" y="2"/>
                      <a:pt x="1321" y="1"/>
                      <a:pt x="1322" y="1"/>
                    </a:cubicBezTo>
                    <a:close/>
                    <a:moveTo>
                      <a:pt x="1330" y="1"/>
                    </a:moveTo>
                    <a:lnTo>
                      <a:pt x="1330" y="1"/>
                    </a:lnTo>
                    <a:cubicBezTo>
                      <a:pt x="1332" y="1"/>
                      <a:pt x="1332" y="2"/>
                      <a:pt x="1332" y="3"/>
                    </a:cubicBezTo>
                    <a:cubicBezTo>
                      <a:pt x="1332" y="4"/>
                      <a:pt x="1332" y="5"/>
                      <a:pt x="1330" y="5"/>
                    </a:cubicBezTo>
                    <a:lnTo>
                      <a:pt x="1330" y="5"/>
                    </a:lnTo>
                    <a:cubicBezTo>
                      <a:pt x="1329" y="5"/>
                      <a:pt x="1328" y="4"/>
                      <a:pt x="1328" y="3"/>
                    </a:cubicBezTo>
                    <a:cubicBezTo>
                      <a:pt x="1328" y="2"/>
                      <a:pt x="1329" y="1"/>
                      <a:pt x="1330" y="1"/>
                    </a:cubicBezTo>
                    <a:close/>
                    <a:moveTo>
                      <a:pt x="1338" y="1"/>
                    </a:moveTo>
                    <a:lnTo>
                      <a:pt x="1338" y="1"/>
                    </a:lnTo>
                    <a:cubicBezTo>
                      <a:pt x="1340" y="1"/>
                      <a:pt x="1340" y="2"/>
                      <a:pt x="1340" y="3"/>
                    </a:cubicBezTo>
                    <a:cubicBezTo>
                      <a:pt x="1340" y="4"/>
                      <a:pt x="1340" y="5"/>
                      <a:pt x="1338" y="5"/>
                    </a:cubicBezTo>
                    <a:lnTo>
                      <a:pt x="1338" y="5"/>
                    </a:lnTo>
                    <a:cubicBezTo>
                      <a:pt x="1337" y="5"/>
                      <a:pt x="1336" y="4"/>
                      <a:pt x="1336" y="3"/>
                    </a:cubicBezTo>
                    <a:cubicBezTo>
                      <a:pt x="1336" y="2"/>
                      <a:pt x="1337" y="1"/>
                      <a:pt x="1338" y="1"/>
                    </a:cubicBezTo>
                    <a:close/>
                    <a:moveTo>
                      <a:pt x="1346" y="1"/>
                    </a:moveTo>
                    <a:lnTo>
                      <a:pt x="1346" y="1"/>
                    </a:lnTo>
                    <a:cubicBezTo>
                      <a:pt x="1348" y="1"/>
                      <a:pt x="1348" y="2"/>
                      <a:pt x="1348" y="3"/>
                    </a:cubicBezTo>
                    <a:cubicBezTo>
                      <a:pt x="1348" y="4"/>
                      <a:pt x="1348" y="5"/>
                      <a:pt x="1346" y="5"/>
                    </a:cubicBezTo>
                    <a:lnTo>
                      <a:pt x="1346" y="5"/>
                    </a:lnTo>
                    <a:cubicBezTo>
                      <a:pt x="1345" y="5"/>
                      <a:pt x="1344" y="4"/>
                      <a:pt x="1344" y="3"/>
                    </a:cubicBezTo>
                    <a:cubicBezTo>
                      <a:pt x="1344" y="2"/>
                      <a:pt x="1345" y="1"/>
                      <a:pt x="1346" y="1"/>
                    </a:cubicBezTo>
                    <a:close/>
                    <a:moveTo>
                      <a:pt x="1354" y="1"/>
                    </a:moveTo>
                    <a:lnTo>
                      <a:pt x="1354" y="1"/>
                    </a:lnTo>
                    <a:cubicBezTo>
                      <a:pt x="1356" y="1"/>
                      <a:pt x="1356" y="2"/>
                      <a:pt x="1356" y="3"/>
                    </a:cubicBezTo>
                    <a:cubicBezTo>
                      <a:pt x="1356" y="4"/>
                      <a:pt x="1356" y="5"/>
                      <a:pt x="1354" y="5"/>
                    </a:cubicBezTo>
                    <a:lnTo>
                      <a:pt x="1354" y="5"/>
                    </a:lnTo>
                    <a:cubicBezTo>
                      <a:pt x="1353" y="5"/>
                      <a:pt x="1352" y="4"/>
                      <a:pt x="1352" y="3"/>
                    </a:cubicBezTo>
                    <a:cubicBezTo>
                      <a:pt x="1352" y="2"/>
                      <a:pt x="1353" y="1"/>
                      <a:pt x="1354" y="1"/>
                    </a:cubicBezTo>
                    <a:close/>
                    <a:moveTo>
                      <a:pt x="1362" y="1"/>
                    </a:moveTo>
                    <a:lnTo>
                      <a:pt x="1362" y="1"/>
                    </a:lnTo>
                    <a:cubicBezTo>
                      <a:pt x="1364" y="1"/>
                      <a:pt x="1364" y="2"/>
                      <a:pt x="1364" y="3"/>
                    </a:cubicBezTo>
                    <a:cubicBezTo>
                      <a:pt x="1364" y="4"/>
                      <a:pt x="1364" y="5"/>
                      <a:pt x="1362" y="5"/>
                    </a:cubicBezTo>
                    <a:lnTo>
                      <a:pt x="1362" y="5"/>
                    </a:lnTo>
                    <a:cubicBezTo>
                      <a:pt x="1361" y="5"/>
                      <a:pt x="1360" y="4"/>
                      <a:pt x="1360" y="3"/>
                    </a:cubicBezTo>
                    <a:cubicBezTo>
                      <a:pt x="1360" y="2"/>
                      <a:pt x="1361" y="1"/>
                      <a:pt x="1362" y="1"/>
                    </a:cubicBezTo>
                    <a:close/>
                    <a:moveTo>
                      <a:pt x="1370" y="1"/>
                    </a:moveTo>
                    <a:lnTo>
                      <a:pt x="1370" y="1"/>
                    </a:lnTo>
                    <a:cubicBezTo>
                      <a:pt x="1372" y="1"/>
                      <a:pt x="1372" y="2"/>
                      <a:pt x="1372" y="3"/>
                    </a:cubicBezTo>
                    <a:cubicBezTo>
                      <a:pt x="1372" y="4"/>
                      <a:pt x="1372" y="5"/>
                      <a:pt x="1370" y="5"/>
                    </a:cubicBezTo>
                    <a:lnTo>
                      <a:pt x="1370" y="5"/>
                    </a:lnTo>
                    <a:cubicBezTo>
                      <a:pt x="1369" y="5"/>
                      <a:pt x="1368" y="4"/>
                      <a:pt x="1368" y="3"/>
                    </a:cubicBezTo>
                    <a:cubicBezTo>
                      <a:pt x="1368" y="2"/>
                      <a:pt x="1369" y="1"/>
                      <a:pt x="1370" y="1"/>
                    </a:cubicBezTo>
                    <a:close/>
                    <a:moveTo>
                      <a:pt x="1378" y="1"/>
                    </a:moveTo>
                    <a:lnTo>
                      <a:pt x="1378" y="1"/>
                    </a:lnTo>
                    <a:cubicBezTo>
                      <a:pt x="1380" y="1"/>
                      <a:pt x="1380" y="2"/>
                      <a:pt x="1380" y="3"/>
                    </a:cubicBezTo>
                    <a:cubicBezTo>
                      <a:pt x="1380" y="4"/>
                      <a:pt x="1380" y="5"/>
                      <a:pt x="1378" y="5"/>
                    </a:cubicBezTo>
                    <a:lnTo>
                      <a:pt x="1378" y="5"/>
                    </a:lnTo>
                    <a:cubicBezTo>
                      <a:pt x="1377" y="5"/>
                      <a:pt x="1376" y="4"/>
                      <a:pt x="1376" y="3"/>
                    </a:cubicBezTo>
                    <a:cubicBezTo>
                      <a:pt x="1376" y="2"/>
                      <a:pt x="1377" y="1"/>
                      <a:pt x="1378" y="1"/>
                    </a:cubicBezTo>
                    <a:close/>
                    <a:moveTo>
                      <a:pt x="1386" y="1"/>
                    </a:moveTo>
                    <a:lnTo>
                      <a:pt x="1386" y="1"/>
                    </a:lnTo>
                    <a:cubicBezTo>
                      <a:pt x="1388" y="1"/>
                      <a:pt x="1388" y="2"/>
                      <a:pt x="1388" y="3"/>
                    </a:cubicBezTo>
                    <a:cubicBezTo>
                      <a:pt x="1388" y="4"/>
                      <a:pt x="1388" y="5"/>
                      <a:pt x="1386" y="5"/>
                    </a:cubicBezTo>
                    <a:lnTo>
                      <a:pt x="1386" y="5"/>
                    </a:lnTo>
                    <a:cubicBezTo>
                      <a:pt x="1385" y="5"/>
                      <a:pt x="1384" y="4"/>
                      <a:pt x="1384" y="3"/>
                    </a:cubicBezTo>
                    <a:cubicBezTo>
                      <a:pt x="1384" y="2"/>
                      <a:pt x="1385" y="1"/>
                      <a:pt x="1386" y="1"/>
                    </a:cubicBezTo>
                    <a:close/>
                    <a:moveTo>
                      <a:pt x="1394" y="1"/>
                    </a:moveTo>
                    <a:lnTo>
                      <a:pt x="1394" y="1"/>
                    </a:lnTo>
                    <a:cubicBezTo>
                      <a:pt x="1396" y="1"/>
                      <a:pt x="1396" y="2"/>
                      <a:pt x="1396" y="3"/>
                    </a:cubicBezTo>
                    <a:cubicBezTo>
                      <a:pt x="1396" y="4"/>
                      <a:pt x="1396" y="5"/>
                      <a:pt x="1394" y="5"/>
                    </a:cubicBezTo>
                    <a:lnTo>
                      <a:pt x="1394" y="5"/>
                    </a:lnTo>
                    <a:cubicBezTo>
                      <a:pt x="1393" y="5"/>
                      <a:pt x="1392" y="4"/>
                      <a:pt x="1392" y="3"/>
                    </a:cubicBezTo>
                    <a:cubicBezTo>
                      <a:pt x="1392" y="2"/>
                      <a:pt x="1393" y="1"/>
                      <a:pt x="1394" y="1"/>
                    </a:cubicBezTo>
                    <a:close/>
                    <a:moveTo>
                      <a:pt x="1402" y="1"/>
                    </a:moveTo>
                    <a:lnTo>
                      <a:pt x="1402" y="1"/>
                    </a:lnTo>
                    <a:cubicBezTo>
                      <a:pt x="1404" y="1"/>
                      <a:pt x="1404" y="2"/>
                      <a:pt x="1404" y="3"/>
                    </a:cubicBezTo>
                    <a:cubicBezTo>
                      <a:pt x="1404" y="4"/>
                      <a:pt x="1404" y="5"/>
                      <a:pt x="1402" y="5"/>
                    </a:cubicBezTo>
                    <a:lnTo>
                      <a:pt x="1402" y="5"/>
                    </a:lnTo>
                    <a:cubicBezTo>
                      <a:pt x="1401" y="5"/>
                      <a:pt x="1400" y="4"/>
                      <a:pt x="1400" y="3"/>
                    </a:cubicBezTo>
                    <a:cubicBezTo>
                      <a:pt x="1400" y="2"/>
                      <a:pt x="1401" y="1"/>
                      <a:pt x="1402" y="1"/>
                    </a:cubicBezTo>
                    <a:close/>
                    <a:moveTo>
                      <a:pt x="1410" y="1"/>
                    </a:moveTo>
                    <a:lnTo>
                      <a:pt x="1410" y="1"/>
                    </a:lnTo>
                    <a:cubicBezTo>
                      <a:pt x="1412" y="1"/>
                      <a:pt x="1412" y="2"/>
                      <a:pt x="1412" y="3"/>
                    </a:cubicBezTo>
                    <a:cubicBezTo>
                      <a:pt x="1412" y="4"/>
                      <a:pt x="1412" y="5"/>
                      <a:pt x="1410" y="5"/>
                    </a:cubicBezTo>
                    <a:lnTo>
                      <a:pt x="1410" y="5"/>
                    </a:lnTo>
                    <a:cubicBezTo>
                      <a:pt x="1409" y="5"/>
                      <a:pt x="1408" y="4"/>
                      <a:pt x="1408" y="3"/>
                    </a:cubicBezTo>
                    <a:cubicBezTo>
                      <a:pt x="1408" y="2"/>
                      <a:pt x="1409" y="1"/>
                      <a:pt x="1410" y="1"/>
                    </a:cubicBezTo>
                    <a:close/>
                    <a:moveTo>
                      <a:pt x="1418" y="1"/>
                    </a:moveTo>
                    <a:lnTo>
                      <a:pt x="1418" y="1"/>
                    </a:lnTo>
                    <a:cubicBezTo>
                      <a:pt x="1420" y="1"/>
                      <a:pt x="1420" y="2"/>
                      <a:pt x="1420" y="3"/>
                    </a:cubicBezTo>
                    <a:cubicBezTo>
                      <a:pt x="1420" y="4"/>
                      <a:pt x="1420" y="5"/>
                      <a:pt x="1418" y="5"/>
                    </a:cubicBezTo>
                    <a:lnTo>
                      <a:pt x="1418" y="5"/>
                    </a:lnTo>
                    <a:cubicBezTo>
                      <a:pt x="1417" y="5"/>
                      <a:pt x="1416" y="4"/>
                      <a:pt x="1416" y="3"/>
                    </a:cubicBezTo>
                    <a:cubicBezTo>
                      <a:pt x="1416" y="2"/>
                      <a:pt x="1417" y="1"/>
                      <a:pt x="1418" y="1"/>
                    </a:cubicBezTo>
                    <a:close/>
                    <a:moveTo>
                      <a:pt x="1426" y="1"/>
                    </a:moveTo>
                    <a:lnTo>
                      <a:pt x="1427" y="1"/>
                    </a:lnTo>
                    <a:cubicBezTo>
                      <a:pt x="1428" y="1"/>
                      <a:pt x="1429" y="2"/>
                      <a:pt x="1429" y="3"/>
                    </a:cubicBezTo>
                    <a:cubicBezTo>
                      <a:pt x="1429" y="4"/>
                      <a:pt x="1428" y="5"/>
                      <a:pt x="1427" y="5"/>
                    </a:cubicBezTo>
                    <a:lnTo>
                      <a:pt x="1426" y="5"/>
                    </a:lnTo>
                    <a:cubicBezTo>
                      <a:pt x="1425" y="5"/>
                      <a:pt x="1424" y="4"/>
                      <a:pt x="1424" y="3"/>
                    </a:cubicBezTo>
                    <a:cubicBezTo>
                      <a:pt x="1424" y="2"/>
                      <a:pt x="1425" y="1"/>
                      <a:pt x="1426" y="1"/>
                    </a:cubicBezTo>
                    <a:close/>
                    <a:moveTo>
                      <a:pt x="1435" y="1"/>
                    </a:moveTo>
                    <a:lnTo>
                      <a:pt x="1435" y="1"/>
                    </a:lnTo>
                    <a:cubicBezTo>
                      <a:pt x="1436" y="1"/>
                      <a:pt x="1437" y="2"/>
                      <a:pt x="1437" y="3"/>
                    </a:cubicBezTo>
                    <a:cubicBezTo>
                      <a:pt x="1437" y="4"/>
                      <a:pt x="1436" y="5"/>
                      <a:pt x="1435" y="5"/>
                    </a:cubicBezTo>
                    <a:lnTo>
                      <a:pt x="1435" y="5"/>
                    </a:lnTo>
                    <a:cubicBezTo>
                      <a:pt x="1433" y="5"/>
                      <a:pt x="1433" y="4"/>
                      <a:pt x="1433" y="3"/>
                    </a:cubicBezTo>
                    <a:cubicBezTo>
                      <a:pt x="1433" y="2"/>
                      <a:pt x="1433" y="1"/>
                      <a:pt x="1435" y="1"/>
                    </a:cubicBezTo>
                    <a:close/>
                    <a:moveTo>
                      <a:pt x="1443" y="1"/>
                    </a:moveTo>
                    <a:lnTo>
                      <a:pt x="1443" y="1"/>
                    </a:lnTo>
                    <a:cubicBezTo>
                      <a:pt x="1444" y="1"/>
                      <a:pt x="1445" y="2"/>
                      <a:pt x="1445" y="3"/>
                    </a:cubicBezTo>
                    <a:cubicBezTo>
                      <a:pt x="1445" y="4"/>
                      <a:pt x="1444" y="5"/>
                      <a:pt x="1443" y="5"/>
                    </a:cubicBezTo>
                    <a:lnTo>
                      <a:pt x="1443" y="5"/>
                    </a:lnTo>
                    <a:cubicBezTo>
                      <a:pt x="1441" y="5"/>
                      <a:pt x="1441" y="4"/>
                      <a:pt x="1441" y="3"/>
                    </a:cubicBezTo>
                    <a:cubicBezTo>
                      <a:pt x="1441" y="2"/>
                      <a:pt x="1441" y="1"/>
                      <a:pt x="1443" y="1"/>
                    </a:cubicBezTo>
                    <a:close/>
                    <a:moveTo>
                      <a:pt x="1451" y="1"/>
                    </a:moveTo>
                    <a:lnTo>
                      <a:pt x="1451" y="1"/>
                    </a:lnTo>
                    <a:cubicBezTo>
                      <a:pt x="1452" y="1"/>
                      <a:pt x="1453" y="2"/>
                      <a:pt x="1453" y="3"/>
                    </a:cubicBezTo>
                    <a:cubicBezTo>
                      <a:pt x="1453" y="4"/>
                      <a:pt x="1452" y="5"/>
                      <a:pt x="1451" y="5"/>
                    </a:cubicBezTo>
                    <a:lnTo>
                      <a:pt x="1451" y="5"/>
                    </a:lnTo>
                    <a:cubicBezTo>
                      <a:pt x="1449" y="5"/>
                      <a:pt x="1449" y="4"/>
                      <a:pt x="1449" y="3"/>
                    </a:cubicBezTo>
                    <a:cubicBezTo>
                      <a:pt x="1449" y="2"/>
                      <a:pt x="1449" y="1"/>
                      <a:pt x="1451" y="1"/>
                    </a:cubicBezTo>
                    <a:close/>
                    <a:moveTo>
                      <a:pt x="1459" y="1"/>
                    </a:moveTo>
                    <a:lnTo>
                      <a:pt x="1459" y="1"/>
                    </a:lnTo>
                    <a:cubicBezTo>
                      <a:pt x="1460" y="1"/>
                      <a:pt x="1461" y="2"/>
                      <a:pt x="1461" y="3"/>
                    </a:cubicBezTo>
                    <a:cubicBezTo>
                      <a:pt x="1461" y="4"/>
                      <a:pt x="1460" y="5"/>
                      <a:pt x="1459" y="5"/>
                    </a:cubicBezTo>
                    <a:lnTo>
                      <a:pt x="1459" y="5"/>
                    </a:lnTo>
                    <a:cubicBezTo>
                      <a:pt x="1457" y="5"/>
                      <a:pt x="1457" y="4"/>
                      <a:pt x="1457" y="3"/>
                    </a:cubicBezTo>
                    <a:cubicBezTo>
                      <a:pt x="1457" y="2"/>
                      <a:pt x="1457" y="1"/>
                      <a:pt x="1459" y="1"/>
                    </a:cubicBezTo>
                    <a:close/>
                    <a:moveTo>
                      <a:pt x="1467" y="1"/>
                    </a:moveTo>
                    <a:lnTo>
                      <a:pt x="1467" y="1"/>
                    </a:lnTo>
                    <a:cubicBezTo>
                      <a:pt x="1468" y="1"/>
                      <a:pt x="1469" y="2"/>
                      <a:pt x="1469" y="3"/>
                    </a:cubicBezTo>
                    <a:cubicBezTo>
                      <a:pt x="1469" y="4"/>
                      <a:pt x="1468" y="5"/>
                      <a:pt x="1467" y="5"/>
                    </a:cubicBezTo>
                    <a:lnTo>
                      <a:pt x="1467" y="5"/>
                    </a:lnTo>
                    <a:cubicBezTo>
                      <a:pt x="1465" y="5"/>
                      <a:pt x="1465" y="4"/>
                      <a:pt x="1465" y="3"/>
                    </a:cubicBezTo>
                    <a:cubicBezTo>
                      <a:pt x="1465" y="2"/>
                      <a:pt x="1465" y="1"/>
                      <a:pt x="1467" y="1"/>
                    </a:cubicBezTo>
                    <a:close/>
                    <a:moveTo>
                      <a:pt x="1475" y="1"/>
                    </a:moveTo>
                    <a:lnTo>
                      <a:pt x="1475" y="1"/>
                    </a:lnTo>
                    <a:cubicBezTo>
                      <a:pt x="1476" y="1"/>
                      <a:pt x="1477" y="2"/>
                      <a:pt x="1477" y="3"/>
                    </a:cubicBezTo>
                    <a:cubicBezTo>
                      <a:pt x="1477" y="4"/>
                      <a:pt x="1476" y="5"/>
                      <a:pt x="1475" y="5"/>
                    </a:cubicBezTo>
                    <a:lnTo>
                      <a:pt x="1475" y="5"/>
                    </a:lnTo>
                    <a:cubicBezTo>
                      <a:pt x="1473" y="5"/>
                      <a:pt x="1473" y="4"/>
                      <a:pt x="1473" y="3"/>
                    </a:cubicBezTo>
                    <a:cubicBezTo>
                      <a:pt x="1473" y="2"/>
                      <a:pt x="1473" y="1"/>
                      <a:pt x="1475" y="1"/>
                    </a:cubicBezTo>
                    <a:close/>
                    <a:moveTo>
                      <a:pt x="1483" y="1"/>
                    </a:moveTo>
                    <a:lnTo>
                      <a:pt x="1483" y="1"/>
                    </a:lnTo>
                    <a:cubicBezTo>
                      <a:pt x="1484" y="1"/>
                      <a:pt x="1485" y="2"/>
                      <a:pt x="1485" y="3"/>
                    </a:cubicBezTo>
                    <a:cubicBezTo>
                      <a:pt x="1485" y="4"/>
                      <a:pt x="1484" y="5"/>
                      <a:pt x="1483" y="5"/>
                    </a:cubicBezTo>
                    <a:lnTo>
                      <a:pt x="1483" y="5"/>
                    </a:lnTo>
                    <a:cubicBezTo>
                      <a:pt x="1481" y="5"/>
                      <a:pt x="1481" y="4"/>
                      <a:pt x="1481" y="3"/>
                    </a:cubicBezTo>
                    <a:cubicBezTo>
                      <a:pt x="1481" y="2"/>
                      <a:pt x="1481" y="1"/>
                      <a:pt x="1483" y="1"/>
                    </a:cubicBezTo>
                    <a:close/>
                    <a:moveTo>
                      <a:pt x="1491" y="1"/>
                    </a:moveTo>
                    <a:lnTo>
                      <a:pt x="1491" y="1"/>
                    </a:lnTo>
                    <a:cubicBezTo>
                      <a:pt x="1492" y="1"/>
                      <a:pt x="1493" y="2"/>
                      <a:pt x="1493" y="3"/>
                    </a:cubicBezTo>
                    <a:cubicBezTo>
                      <a:pt x="1493" y="4"/>
                      <a:pt x="1492" y="5"/>
                      <a:pt x="1491" y="5"/>
                    </a:cubicBezTo>
                    <a:lnTo>
                      <a:pt x="1491" y="5"/>
                    </a:lnTo>
                    <a:cubicBezTo>
                      <a:pt x="1489" y="5"/>
                      <a:pt x="1489" y="4"/>
                      <a:pt x="1489" y="3"/>
                    </a:cubicBezTo>
                    <a:cubicBezTo>
                      <a:pt x="1489" y="2"/>
                      <a:pt x="1489" y="1"/>
                      <a:pt x="1491" y="1"/>
                    </a:cubicBezTo>
                    <a:close/>
                    <a:moveTo>
                      <a:pt x="1499" y="1"/>
                    </a:moveTo>
                    <a:lnTo>
                      <a:pt x="1499" y="1"/>
                    </a:lnTo>
                    <a:cubicBezTo>
                      <a:pt x="1500" y="1"/>
                      <a:pt x="1501" y="2"/>
                      <a:pt x="1501" y="3"/>
                    </a:cubicBezTo>
                    <a:cubicBezTo>
                      <a:pt x="1501" y="4"/>
                      <a:pt x="1500" y="5"/>
                      <a:pt x="1499" y="5"/>
                    </a:cubicBezTo>
                    <a:lnTo>
                      <a:pt x="1499" y="5"/>
                    </a:lnTo>
                    <a:cubicBezTo>
                      <a:pt x="1497" y="5"/>
                      <a:pt x="1497" y="4"/>
                      <a:pt x="1497" y="3"/>
                    </a:cubicBezTo>
                    <a:cubicBezTo>
                      <a:pt x="1497" y="2"/>
                      <a:pt x="1497" y="1"/>
                      <a:pt x="1499" y="1"/>
                    </a:cubicBezTo>
                    <a:close/>
                    <a:moveTo>
                      <a:pt x="1507" y="1"/>
                    </a:moveTo>
                    <a:lnTo>
                      <a:pt x="1507" y="1"/>
                    </a:lnTo>
                    <a:cubicBezTo>
                      <a:pt x="1508" y="1"/>
                      <a:pt x="1509" y="2"/>
                      <a:pt x="1509" y="3"/>
                    </a:cubicBezTo>
                    <a:cubicBezTo>
                      <a:pt x="1509" y="4"/>
                      <a:pt x="1508" y="5"/>
                      <a:pt x="1507" y="5"/>
                    </a:cubicBezTo>
                    <a:lnTo>
                      <a:pt x="1507" y="5"/>
                    </a:lnTo>
                    <a:cubicBezTo>
                      <a:pt x="1505" y="5"/>
                      <a:pt x="1505" y="4"/>
                      <a:pt x="1505" y="3"/>
                    </a:cubicBezTo>
                    <a:cubicBezTo>
                      <a:pt x="1505" y="2"/>
                      <a:pt x="1505" y="1"/>
                      <a:pt x="1507" y="1"/>
                    </a:cubicBezTo>
                    <a:close/>
                    <a:moveTo>
                      <a:pt x="1515" y="1"/>
                    </a:moveTo>
                    <a:lnTo>
                      <a:pt x="1515" y="1"/>
                    </a:lnTo>
                    <a:cubicBezTo>
                      <a:pt x="1516" y="1"/>
                      <a:pt x="1517" y="2"/>
                      <a:pt x="1517" y="3"/>
                    </a:cubicBezTo>
                    <a:cubicBezTo>
                      <a:pt x="1517" y="4"/>
                      <a:pt x="1516" y="5"/>
                      <a:pt x="1515" y="5"/>
                    </a:cubicBezTo>
                    <a:lnTo>
                      <a:pt x="1515" y="5"/>
                    </a:lnTo>
                    <a:cubicBezTo>
                      <a:pt x="1513" y="5"/>
                      <a:pt x="1513" y="4"/>
                      <a:pt x="1513" y="3"/>
                    </a:cubicBezTo>
                    <a:cubicBezTo>
                      <a:pt x="1513" y="2"/>
                      <a:pt x="1513" y="1"/>
                      <a:pt x="1515" y="1"/>
                    </a:cubicBezTo>
                    <a:close/>
                    <a:moveTo>
                      <a:pt x="1523" y="1"/>
                    </a:moveTo>
                    <a:lnTo>
                      <a:pt x="1523" y="1"/>
                    </a:lnTo>
                    <a:cubicBezTo>
                      <a:pt x="1524" y="1"/>
                      <a:pt x="1525" y="2"/>
                      <a:pt x="1525" y="3"/>
                    </a:cubicBezTo>
                    <a:cubicBezTo>
                      <a:pt x="1525" y="4"/>
                      <a:pt x="1524" y="5"/>
                      <a:pt x="1523" y="5"/>
                    </a:cubicBezTo>
                    <a:lnTo>
                      <a:pt x="1523" y="5"/>
                    </a:lnTo>
                    <a:cubicBezTo>
                      <a:pt x="1521" y="5"/>
                      <a:pt x="1521" y="4"/>
                      <a:pt x="1521" y="3"/>
                    </a:cubicBezTo>
                    <a:cubicBezTo>
                      <a:pt x="1521" y="2"/>
                      <a:pt x="1521" y="1"/>
                      <a:pt x="1523" y="1"/>
                    </a:cubicBezTo>
                    <a:close/>
                    <a:moveTo>
                      <a:pt x="1531" y="1"/>
                    </a:moveTo>
                    <a:lnTo>
                      <a:pt x="1531" y="1"/>
                    </a:lnTo>
                    <a:cubicBezTo>
                      <a:pt x="1532" y="1"/>
                      <a:pt x="1533" y="2"/>
                      <a:pt x="1533" y="3"/>
                    </a:cubicBezTo>
                    <a:cubicBezTo>
                      <a:pt x="1533" y="4"/>
                      <a:pt x="1532" y="5"/>
                      <a:pt x="1531" y="5"/>
                    </a:cubicBezTo>
                    <a:lnTo>
                      <a:pt x="1531" y="5"/>
                    </a:lnTo>
                    <a:cubicBezTo>
                      <a:pt x="1529" y="5"/>
                      <a:pt x="1529" y="4"/>
                      <a:pt x="1529" y="3"/>
                    </a:cubicBezTo>
                    <a:cubicBezTo>
                      <a:pt x="1529" y="2"/>
                      <a:pt x="1529" y="1"/>
                      <a:pt x="1531" y="1"/>
                    </a:cubicBezTo>
                    <a:close/>
                    <a:moveTo>
                      <a:pt x="1539" y="1"/>
                    </a:moveTo>
                    <a:lnTo>
                      <a:pt x="1539" y="1"/>
                    </a:lnTo>
                    <a:cubicBezTo>
                      <a:pt x="1540" y="1"/>
                      <a:pt x="1541" y="2"/>
                      <a:pt x="1541" y="3"/>
                    </a:cubicBezTo>
                    <a:cubicBezTo>
                      <a:pt x="1541" y="4"/>
                      <a:pt x="1540" y="5"/>
                      <a:pt x="1539" y="5"/>
                    </a:cubicBezTo>
                    <a:lnTo>
                      <a:pt x="1539" y="5"/>
                    </a:lnTo>
                    <a:cubicBezTo>
                      <a:pt x="1537" y="5"/>
                      <a:pt x="1537" y="4"/>
                      <a:pt x="1537" y="3"/>
                    </a:cubicBezTo>
                    <a:cubicBezTo>
                      <a:pt x="1537" y="2"/>
                      <a:pt x="1537" y="1"/>
                      <a:pt x="1539" y="1"/>
                    </a:cubicBezTo>
                    <a:close/>
                    <a:moveTo>
                      <a:pt x="1547" y="1"/>
                    </a:moveTo>
                    <a:lnTo>
                      <a:pt x="1547" y="1"/>
                    </a:lnTo>
                    <a:cubicBezTo>
                      <a:pt x="1548" y="1"/>
                      <a:pt x="1549" y="2"/>
                      <a:pt x="1549" y="3"/>
                    </a:cubicBezTo>
                    <a:cubicBezTo>
                      <a:pt x="1549" y="4"/>
                      <a:pt x="1548" y="5"/>
                      <a:pt x="1547" y="5"/>
                    </a:cubicBezTo>
                    <a:lnTo>
                      <a:pt x="1547" y="5"/>
                    </a:lnTo>
                    <a:cubicBezTo>
                      <a:pt x="1545" y="5"/>
                      <a:pt x="1545" y="4"/>
                      <a:pt x="1545" y="3"/>
                    </a:cubicBezTo>
                    <a:cubicBezTo>
                      <a:pt x="1545" y="2"/>
                      <a:pt x="1545" y="1"/>
                      <a:pt x="1547" y="1"/>
                    </a:cubicBezTo>
                    <a:close/>
                    <a:moveTo>
                      <a:pt x="1555" y="1"/>
                    </a:moveTo>
                    <a:lnTo>
                      <a:pt x="1555" y="1"/>
                    </a:lnTo>
                    <a:cubicBezTo>
                      <a:pt x="1556" y="1"/>
                      <a:pt x="1557" y="2"/>
                      <a:pt x="1557" y="3"/>
                    </a:cubicBezTo>
                    <a:cubicBezTo>
                      <a:pt x="1557" y="4"/>
                      <a:pt x="1556" y="5"/>
                      <a:pt x="1555" y="5"/>
                    </a:cubicBezTo>
                    <a:lnTo>
                      <a:pt x="1555" y="5"/>
                    </a:lnTo>
                    <a:cubicBezTo>
                      <a:pt x="1553" y="5"/>
                      <a:pt x="1553" y="4"/>
                      <a:pt x="1553" y="3"/>
                    </a:cubicBezTo>
                    <a:cubicBezTo>
                      <a:pt x="1553" y="2"/>
                      <a:pt x="1553" y="1"/>
                      <a:pt x="1555" y="1"/>
                    </a:cubicBezTo>
                    <a:close/>
                    <a:moveTo>
                      <a:pt x="1563" y="1"/>
                    </a:moveTo>
                    <a:lnTo>
                      <a:pt x="1563" y="1"/>
                    </a:lnTo>
                    <a:cubicBezTo>
                      <a:pt x="1564" y="1"/>
                      <a:pt x="1565" y="2"/>
                      <a:pt x="1565" y="3"/>
                    </a:cubicBezTo>
                    <a:cubicBezTo>
                      <a:pt x="1565" y="4"/>
                      <a:pt x="1564" y="5"/>
                      <a:pt x="1563" y="5"/>
                    </a:cubicBezTo>
                    <a:lnTo>
                      <a:pt x="1563" y="5"/>
                    </a:lnTo>
                    <a:cubicBezTo>
                      <a:pt x="1561" y="5"/>
                      <a:pt x="1561" y="4"/>
                      <a:pt x="1561" y="3"/>
                    </a:cubicBezTo>
                    <a:cubicBezTo>
                      <a:pt x="1561" y="2"/>
                      <a:pt x="1561" y="1"/>
                      <a:pt x="1563" y="1"/>
                    </a:cubicBezTo>
                    <a:close/>
                    <a:moveTo>
                      <a:pt x="1571" y="1"/>
                    </a:moveTo>
                    <a:lnTo>
                      <a:pt x="1571" y="1"/>
                    </a:lnTo>
                    <a:cubicBezTo>
                      <a:pt x="1572" y="1"/>
                      <a:pt x="1573" y="2"/>
                      <a:pt x="1573" y="3"/>
                    </a:cubicBezTo>
                    <a:cubicBezTo>
                      <a:pt x="1573" y="4"/>
                      <a:pt x="1572" y="5"/>
                      <a:pt x="1571" y="5"/>
                    </a:cubicBezTo>
                    <a:lnTo>
                      <a:pt x="1571" y="5"/>
                    </a:lnTo>
                    <a:cubicBezTo>
                      <a:pt x="1569" y="5"/>
                      <a:pt x="1569" y="4"/>
                      <a:pt x="1569" y="3"/>
                    </a:cubicBezTo>
                    <a:cubicBezTo>
                      <a:pt x="1569" y="2"/>
                      <a:pt x="1569" y="1"/>
                      <a:pt x="1571" y="1"/>
                    </a:cubicBezTo>
                    <a:close/>
                    <a:moveTo>
                      <a:pt x="1579" y="1"/>
                    </a:moveTo>
                    <a:lnTo>
                      <a:pt x="1579" y="1"/>
                    </a:lnTo>
                    <a:cubicBezTo>
                      <a:pt x="1580" y="1"/>
                      <a:pt x="1581" y="2"/>
                      <a:pt x="1581" y="3"/>
                    </a:cubicBezTo>
                    <a:cubicBezTo>
                      <a:pt x="1581" y="4"/>
                      <a:pt x="1580" y="5"/>
                      <a:pt x="1579" y="5"/>
                    </a:cubicBezTo>
                    <a:lnTo>
                      <a:pt x="1579" y="5"/>
                    </a:lnTo>
                    <a:cubicBezTo>
                      <a:pt x="1577" y="5"/>
                      <a:pt x="1577" y="4"/>
                      <a:pt x="1577" y="3"/>
                    </a:cubicBezTo>
                    <a:cubicBezTo>
                      <a:pt x="1577" y="2"/>
                      <a:pt x="1577" y="1"/>
                      <a:pt x="1579" y="1"/>
                    </a:cubicBezTo>
                    <a:close/>
                    <a:moveTo>
                      <a:pt x="1587" y="1"/>
                    </a:moveTo>
                    <a:lnTo>
                      <a:pt x="1587" y="1"/>
                    </a:lnTo>
                    <a:cubicBezTo>
                      <a:pt x="1588" y="1"/>
                      <a:pt x="1589" y="2"/>
                      <a:pt x="1589" y="3"/>
                    </a:cubicBezTo>
                    <a:cubicBezTo>
                      <a:pt x="1589" y="4"/>
                      <a:pt x="1588" y="5"/>
                      <a:pt x="1587" y="5"/>
                    </a:cubicBezTo>
                    <a:lnTo>
                      <a:pt x="1587" y="5"/>
                    </a:lnTo>
                    <a:cubicBezTo>
                      <a:pt x="1585" y="5"/>
                      <a:pt x="1585" y="4"/>
                      <a:pt x="1585" y="3"/>
                    </a:cubicBezTo>
                    <a:cubicBezTo>
                      <a:pt x="1585" y="2"/>
                      <a:pt x="1585" y="1"/>
                      <a:pt x="1587" y="1"/>
                    </a:cubicBezTo>
                    <a:close/>
                    <a:moveTo>
                      <a:pt x="1595" y="1"/>
                    </a:moveTo>
                    <a:lnTo>
                      <a:pt x="1595" y="1"/>
                    </a:lnTo>
                    <a:cubicBezTo>
                      <a:pt x="1596" y="1"/>
                      <a:pt x="1597" y="2"/>
                      <a:pt x="1597" y="3"/>
                    </a:cubicBezTo>
                    <a:cubicBezTo>
                      <a:pt x="1597" y="4"/>
                      <a:pt x="1596" y="5"/>
                      <a:pt x="1595" y="5"/>
                    </a:cubicBezTo>
                    <a:lnTo>
                      <a:pt x="1595" y="5"/>
                    </a:lnTo>
                    <a:cubicBezTo>
                      <a:pt x="1593" y="5"/>
                      <a:pt x="1593" y="4"/>
                      <a:pt x="1593" y="3"/>
                    </a:cubicBezTo>
                    <a:cubicBezTo>
                      <a:pt x="1593" y="2"/>
                      <a:pt x="1593" y="1"/>
                      <a:pt x="1595" y="1"/>
                    </a:cubicBezTo>
                    <a:close/>
                    <a:moveTo>
                      <a:pt x="1603" y="1"/>
                    </a:moveTo>
                    <a:lnTo>
                      <a:pt x="1603" y="1"/>
                    </a:lnTo>
                    <a:cubicBezTo>
                      <a:pt x="1604" y="1"/>
                      <a:pt x="1605" y="2"/>
                      <a:pt x="1605" y="3"/>
                    </a:cubicBezTo>
                    <a:cubicBezTo>
                      <a:pt x="1605" y="4"/>
                      <a:pt x="1604" y="5"/>
                      <a:pt x="1603" y="5"/>
                    </a:cubicBezTo>
                    <a:lnTo>
                      <a:pt x="1603" y="5"/>
                    </a:lnTo>
                    <a:cubicBezTo>
                      <a:pt x="1601" y="5"/>
                      <a:pt x="1601" y="4"/>
                      <a:pt x="1601" y="3"/>
                    </a:cubicBezTo>
                    <a:cubicBezTo>
                      <a:pt x="1601" y="2"/>
                      <a:pt x="1601" y="1"/>
                      <a:pt x="1603" y="1"/>
                    </a:cubicBezTo>
                    <a:close/>
                    <a:moveTo>
                      <a:pt x="1611" y="1"/>
                    </a:moveTo>
                    <a:lnTo>
                      <a:pt x="1611" y="1"/>
                    </a:lnTo>
                    <a:cubicBezTo>
                      <a:pt x="1612" y="1"/>
                      <a:pt x="1613" y="2"/>
                      <a:pt x="1613" y="3"/>
                    </a:cubicBezTo>
                    <a:cubicBezTo>
                      <a:pt x="1613" y="4"/>
                      <a:pt x="1612" y="5"/>
                      <a:pt x="1611" y="5"/>
                    </a:cubicBezTo>
                    <a:lnTo>
                      <a:pt x="1611" y="5"/>
                    </a:lnTo>
                    <a:cubicBezTo>
                      <a:pt x="1609" y="5"/>
                      <a:pt x="1609" y="4"/>
                      <a:pt x="1609" y="3"/>
                    </a:cubicBezTo>
                    <a:cubicBezTo>
                      <a:pt x="1609" y="2"/>
                      <a:pt x="1609" y="1"/>
                      <a:pt x="1611" y="1"/>
                    </a:cubicBezTo>
                    <a:close/>
                    <a:moveTo>
                      <a:pt x="1619" y="1"/>
                    </a:moveTo>
                    <a:lnTo>
                      <a:pt x="1619" y="1"/>
                    </a:lnTo>
                    <a:cubicBezTo>
                      <a:pt x="1620" y="1"/>
                      <a:pt x="1621" y="2"/>
                      <a:pt x="1621" y="3"/>
                    </a:cubicBezTo>
                    <a:cubicBezTo>
                      <a:pt x="1621" y="4"/>
                      <a:pt x="1620" y="5"/>
                      <a:pt x="1619" y="5"/>
                    </a:cubicBezTo>
                    <a:lnTo>
                      <a:pt x="1619" y="5"/>
                    </a:lnTo>
                    <a:cubicBezTo>
                      <a:pt x="1617" y="5"/>
                      <a:pt x="1617" y="4"/>
                      <a:pt x="1617" y="3"/>
                    </a:cubicBezTo>
                    <a:cubicBezTo>
                      <a:pt x="1617" y="2"/>
                      <a:pt x="1617" y="1"/>
                      <a:pt x="1619" y="1"/>
                    </a:cubicBezTo>
                    <a:close/>
                    <a:moveTo>
                      <a:pt x="1627" y="1"/>
                    </a:moveTo>
                    <a:lnTo>
                      <a:pt x="1627" y="1"/>
                    </a:lnTo>
                    <a:cubicBezTo>
                      <a:pt x="1628" y="1"/>
                      <a:pt x="1629" y="2"/>
                      <a:pt x="1629" y="3"/>
                    </a:cubicBezTo>
                    <a:cubicBezTo>
                      <a:pt x="1629" y="4"/>
                      <a:pt x="1628" y="5"/>
                      <a:pt x="1627" y="5"/>
                    </a:cubicBezTo>
                    <a:lnTo>
                      <a:pt x="1627" y="5"/>
                    </a:lnTo>
                    <a:cubicBezTo>
                      <a:pt x="1625" y="5"/>
                      <a:pt x="1625" y="4"/>
                      <a:pt x="1625" y="3"/>
                    </a:cubicBezTo>
                    <a:cubicBezTo>
                      <a:pt x="1625" y="2"/>
                      <a:pt x="1625" y="1"/>
                      <a:pt x="1627" y="1"/>
                    </a:cubicBezTo>
                    <a:close/>
                    <a:moveTo>
                      <a:pt x="1635" y="1"/>
                    </a:moveTo>
                    <a:lnTo>
                      <a:pt x="1635" y="1"/>
                    </a:lnTo>
                    <a:cubicBezTo>
                      <a:pt x="1636" y="1"/>
                      <a:pt x="1637" y="2"/>
                      <a:pt x="1637" y="3"/>
                    </a:cubicBezTo>
                    <a:cubicBezTo>
                      <a:pt x="1637" y="4"/>
                      <a:pt x="1636" y="5"/>
                      <a:pt x="1635" y="5"/>
                    </a:cubicBezTo>
                    <a:lnTo>
                      <a:pt x="1635" y="5"/>
                    </a:lnTo>
                    <a:cubicBezTo>
                      <a:pt x="1633" y="5"/>
                      <a:pt x="1633" y="4"/>
                      <a:pt x="1633" y="3"/>
                    </a:cubicBezTo>
                    <a:cubicBezTo>
                      <a:pt x="1633" y="2"/>
                      <a:pt x="1633" y="1"/>
                      <a:pt x="1635" y="1"/>
                    </a:cubicBezTo>
                    <a:close/>
                    <a:moveTo>
                      <a:pt x="1643" y="1"/>
                    </a:moveTo>
                    <a:lnTo>
                      <a:pt x="1643" y="1"/>
                    </a:lnTo>
                    <a:cubicBezTo>
                      <a:pt x="1644" y="1"/>
                      <a:pt x="1645" y="2"/>
                      <a:pt x="1645" y="3"/>
                    </a:cubicBezTo>
                    <a:cubicBezTo>
                      <a:pt x="1645" y="4"/>
                      <a:pt x="1644" y="5"/>
                      <a:pt x="1643" y="5"/>
                    </a:cubicBezTo>
                    <a:lnTo>
                      <a:pt x="1643" y="5"/>
                    </a:lnTo>
                    <a:cubicBezTo>
                      <a:pt x="1641" y="5"/>
                      <a:pt x="1641" y="4"/>
                      <a:pt x="1641" y="3"/>
                    </a:cubicBezTo>
                    <a:cubicBezTo>
                      <a:pt x="1641" y="2"/>
                      <a:pt x="1641" y="1"/>
                      <a:pt x="1643" y="1"/>
                    </a:cubicBezTo>
                    <a:close/>
                    <a:moveTo>
                      <a:pt x="1651" y="1"/>
                    </a:moveTo>
                    <a:lnTo>
                      <a:pt x="1651" y="1"/>
                    </a:lnTo>
                    <a:cubicBezTo>
                      <a:pt x="1652" y="1"/>
                      <a:pt x="1653" y="2"/>
                      <a:pt x="1653" y="3"/>
                    </a:cubicBezTo>
                    <a:cubicBezTo>
                      <a:pt x="1653" y="4"/>
                      <a:pt x="1652" y="5"/>
                      <a:pt x="1651" y="5"/>
                    </a:cubicBezTo>
                    <a:lnTo>
                      <a:pt x="1651" y="5"/>
                    </a:lnTo>
                    <a:cubicBezTo>
                      <a:pt x="1650" y="5"/>
                      <a:pt x="1649" y="4"/>
                      <a:pt x="1649" y="3"/>
                    </a:cubicBezTo>
                    <a:cubicBezTo>
                      <a:pt x="1649" y="2"/>
                      <a:pt x="1650" y="1"/>
                      <a:pt x="1651" y="1"/>
                    </a:cubicBezTo>
                    <a:close/>
                    <a:moveTo>
                      <a:pt x="1659" y="1"/>
                    </a:moveTo>
                    <a:lnTo>
                      <a:pt x="1659" y="1"/>
                    </a:lnTo>
                    <a:cubicBezTo>
                      <a:pt x="1660" y="1"/>
                      <a:pt x="1661" y="2"/>
                      <a:pt x="1661" y="3"/>
                    </a:cubicBezTo>
                    <a:cubicBezTo>
                      <a:pt x="1661" y="4"/>
                      <a:pt x="1660" y="5"/>
                      <a:pt x="1659" y="5"/>
                    </a:cubicBezTo>
                    <a:lnTo>
                      <a:pt x="1659" y="5"/>
                    </a:lnTo>
                    <a:cubicBezTo>
                      <a:pt x="1658" y="5"/>
                      <a:pt x="1657" y="4"/>
                      <a:pt x="1657" y="3"/>
                    </a:cubicBezTo>
                    <a:cubicBezTo>
                      <a:pt x="1657" y="2"/>
                      <a:pt x="1658" y="1"/>
                      <a:pt x="1659" y="1"/>
                    </a:cubicBezTo>
                    <a:close/>
                    <a:moveTo>
                      <a:pt x="1667" y="1"/>
                    </a:moveTo>
                    <a:lnTo>
                      <a:pt x="1667" y="1"/>
                    </a:lnTo>
                    <a:cubicBezTo>
                      <a:pt x="1668" y="1"/>
                      <a:pt x="1669" y="2"/>
                      <a:pt x="1669" y="3"/>
                    </a:cubicBezTo>
                    <a:cubicBezTo>
                      <a:pt x="1669" y="4"/>
                      <a:pt x="1668" y="5"/>
                      <a:pt x="1667" y="5"/>
                    </a:cubicBezTo>
                    <a:lnTo>
                      <a:pt x="1667" y="5"/>
                    </a:lnTo>
                    <a:cubicBezTo>
                      <a:pt x="1666" y="5"/>
                      <a:pt x="1665" y="4"/>
                      <a:pt x="1665" y="3"/>
                    </a:cubicBezTo>
                    <a:cubicBezTo>
                      <a:pt x="1665" y="2"/>
                      <a:pt x="1666" y="1"/>
                      <a:pt x="1667" y="1"/>
                    </a:cubicBezTo>
                    <a:close/>
                    <a:moveTo>
                      <a:pt x="1675" y="1"/>
                    </a:moveTo>
                    <a:lnTo>
                      <a:pt x="1675" y="1"/>
                    </a:lnTo>
                    <a:cubicBezTo>
                      <a:pt x="1676" y="1"/>
                      <a:pt x="1677" y="2"/>
                      <a:pt x="1677" y="3"/>
                    </a:cubicBezTo>
                    <a:cubicBezTo>
                      <a:pt x="1677" y="4"/>
                      <a:pt x="1676" y="5"/>
                      <a:pt x="1675" y="5"/>
                    </a:cubicBezTo>
                    <a:lnTo>
                      <a:pt x="1675" y="5"/>
                    </a:lnTo>
                    <a:cubicBezTo>
                      <a:pt x="1674" y="5"/>
                      <a:pt x="1673" y="4"/>
                      <a:pt x="1673" y="3"/>
                    </a:cubicBezTo>
                    <a:cubicBezTo>
                      <a:pt x="1673" y="2"/>
                      <a:pt x="1674" y="1"/>
                      <a:pt x="1675" y="1"/>
                    </a:cubicBezTo>
                    <a:close/>
                    <a:moveTo>
                      <a:pt x="1683" y="1"/>
                    </a:moveTo>
                    <a:lnTo>
                      <a:pt x="1683" y="1"/>
                    </a:lnTo>
                    <a:cubicBezTo>
                      <a:pt x="1684" y="1"/>
                      <a:pt x="1685" y="2"/>
                      <a:pt x="1685" y="3"/>
                    </a:cubicBezTo>
                    <a:cubicBezTo>
                      <a:pt x="1685" y="4"/>
                      <a:pt x="1684" y="5"/>
                      <a:pt x="1683" y="5"/>
                    </a:cubicBezTo>
                    <a:lnTo>
                      <a:pt x="1683" y="5"/>
                    </a:lnTo>
                    <a:cubicBezTo>
                      <a:pt x="1682" y="5"/>
                      <a:pt x="1681" y="4"/>
                      <a:pt x="1681" y="3"/>
                    </a:cubicBezTo>
                    <a:cubicBezTo>
                      <a:pt x="1681" y="2"/>
                      <a:pt x="1682" y="1"/>
                      <a:pt x="1683" y="1"/>
                    </a:cubicBezTo>
                    <a:close/>
                    <a:moveTo>
                      <a:pt x="1691" y="1"/>
                    </a:moveTo>
                    <a:lnTo>
                      <a:pt x="1691" y="1"/>
                    </a:lnTo>
                    <a:cubicBezTo>
                      <a:pt x="1692" y="1"/>
                      <a:pt x="1693" y="2"/>
                      <a:pt x="1693" y="3"/>
                    </a:cubicBezTo>
                    <a:cubicBezTo>
                      <a:pt x="1693" y="4"/>
                      <a:pt x="1692" y="5"/>
                      <a:pt x="1691" y="5"/>
                    </a:cubicBezTo>
                    <a:lnTo>
                      <a:pt x="1691" y="5"/>
                    </a:lnTo>
                    <a:cubicBezTo>
                      <a:pt x="1690" y="5"/>
                      <a:pt x="1689" y="4"/>
                      <a:pt x="1689" y="3"/>
                    </a:cubicBezTo>
                    <a:cubicBezTo>
                      <a:pt x="1689" y="2"/>
                      <a:pt x="1690" y="1"/>
                      <a:pt x="1691" y="1"/>
                    </a:cubicBezTo>
                    <a:close/>
                    <a:moveTo>
                      <a:pt x="1699" y="1"/>
                    </a:moveTo>
                    <a:lnTo>
                      <a:pt x="1699" y="1"/>
                    </a:lnTo>
                    <a:cubicBezTo>
                      <a:pt x="1700" y="1"/>
                      <a:pt x="1701" y="2"/>
                      <a:pt x="1701" y="3"/>
                    </a:cubicBezTo>
                    <a:cubicBezTo>
                      <a:pt x="1701" y="4"/>
                      <a:pt x="1700" y="5"/>
                      <a:pt x="1699" y="5"/>
                    </a:cubicBezTo>
                    <a:lnTo>
                      <a:pt x="1699" y="5"/>
                    </a:lnTo>
                    <a:cubicBezTo>
                      <a:pt x="1698" y="5"/>
                      <a:pt x="1697" y="4"/>
                      <a:pt x="1697" y="3"/>
                    </a:cubicBezTo>
                    <a:cubicBezTo>
                      <a:pt x="1697" y="2"/>
                      <a:pt x="1698" y="1"/>
                      <a:pt x="1699" y="1"/>
                    </a:cubicBezTo>
                    <a:close/>
                    <a:moveTo>
                      <a:pt x="1707" y="1"/>
                    </a:moveTo>
                    <a:lnTo>
                      <a:pt x="1707" y="1"/>
                    </a:lnTo>
                    <a:cubicBezTo>
                      <a:pt x="1708" y="1"/>
                      <a:pt x="1709" y="2"/>
                      <a:pt x="1709" y="3"/>
                    </a:cubicBezTo>
                    <a:cubicBezTo>
                      <a:pt x="1709" y="4"/>
                      <a:pt x="1708" y="5"/>
                      <a:pt x="1707" y="5"/>
                    </a:cubicBezTo>
                    <a:lnTo>
                      <a:pt x="1707" y="5"/>
                    </a:lnTo>
                    <a:cubicBezTo>
                      <a:pt x="1706" y="5"/>
                      <a:pt x="1705" y="4"/>
                      <a:pt x="1705" y="3"/>
                    </a:cubicBezTo>
                    <a:cubicBezTo>
                      <a:pt x="1705" y="2"/>
                      <a:pt x="1706" y="1"/>
                      <a:pt x="1707" y="1"/>
                    </a:cubicBezTo>
                    <a:close/>
                    <a:moveTo>
                      <a:pt x="1715" y="1"/>
                    </a:moveTo>
                    <a:lnTo>
                      <a:pt x="1715" y="1"/>
                    </a:lnTo>
                    <a:cubicBezTo>
                      <a:pt x="1716" y="1"/>
                      <a:pt x="1717" y="2"/>
                      <a:pt x="1717" y="3"/>
                    </a:cubicBezTo>
                    <a:cubicBezTo>
                      <a:pt x="1717" y="4"/>
                      <a:pt x="1716" y="5"/>
                      <a:pt x="1715" y="5"/>
                    </a:cubicBezTo>
                    <a:lnTo>
                      <a:pt x="1715" y="5"/>
                    </a:lnTo>
                    <a:cubicBezTo>
                      <a:pt x="1714" y="5"/>
                      <a:pt x="1713" y="4"/>
                      <a:pt x="1713" y="3"/>
                    </a:cubicBezTo>
                    <a:cubicBezTo>
                      <a:pt x="1713" y="2"/>
                      <a:pt x="1714" y="1"/>
                      <a:pt x="1715" y="1"/>
                    </a:cubicBezTo>
                    <a:close/>
                    <a:moveTo>
                      <a:pt x="1723" y="1"/>
                    </a:moveTo>
                    <a:lnTo>
                      <a:pt x="1723" y="1"/>
                    </a:lnTo>
                    <a:cubicBezTo>
                      <a:pt x="1724" y="1"/>
                      <a:pt x="1725" y="2"/>
                      <a:pt x="1725" y="3"/>
                    </a:cubicBezTo>
                    <a:cubicBezTo>
                      <a:pt x="1725" y="4"/>
                      <a:pt x="1724" y="5"/>
                      <a:pt x="1723" y="5"/>
                    </a:cubicBezTo>
                    <a:lnTo>
                      <a:pt x="1723" y="5"/>
                    </a:lnTo>
                    <a:cubicBezTo>
                      <a:pt x="1722" y="5"/>
                      <a:pt x="1721" y="4"/>
                      <a:pt x="1721" y="3"/>
                    </a:cubicBezTo>
                    <a:cubicBezTo>
                      <a:pt x="1721" y="2"/>
                      <a:pt x="1722" y="1"/>
                      <a:pt x="1723" y="1"/>
                    </a:cubicBezTo>
                    <a:close/>
                    <a:moveTo>
                      <a:pt x="1731" y="1"/>
                    </a:moveTo>
                    <a:lnTo>
                      <a:pt x="1731" y="1"/>
                    </a:lnTo>
                    <a:cubicBezTo>
                      <a:pt x="1732" y="1"/>
                      <a:pt x="1733" y="2"/>
                      <a:pt x="1733" y="3"/>
                    </a:cubicBezTo>
                    <a:cubicBezTo>
                      <a:pt x="1733" y="4"/>
                      <a:pt x="1732" y="5"/>
                      <a:pt x="1731" y="5"/>
                    </a:cubicBezTo>
                    <a:lnTo>
                      <a:pt x="1731" y="5"/>
                    </a:lnTo>
                    <a:cubicBezTo>
                      <a:pt x="1730" y="5"/>
                      <a:pt x="1729" y="4"/>
                      <a:pt x="1729" y="3"/>
                    </a:cubicBezTo>
                    <a:cubicBezTo>
                      <a:pt x="1729" y="2"/>
                      <a:pt x="1730" y="1"/>
                      <a:pt x="1731" y="1"/>
                    </a:cubicBezTo>
                    <a:close/>
                    <a:moveTo>
                      <a:pt x="1739" y="1"/>
                    </a:moveTo>
                    <a:lnTo>
                      <a:pt x="1739" y="1"/>
                    </a:lnTo>
                    <a:cubicBezTo>
                      <a:pt x="1740" y="1"/>
                      <a:pt x="1741" y="2"/>
                      <a:pt x="1741" y="3"/>
                    </a:cubicBezTo>
                    <a:cubicBezTo>
                      <a:pt x="1741" y="4"/>
                      <a:pt x="1740" y="5"/>
                      <a:pt x="1739" y="5"/>
                    </a:cubicBezTo>
                    <a:lnTo>
                      <a:pt x="1739" y="5"/>
                    </a:lnTo>
                    <a:cubicBezTo>
                      <a:pt x="1738" y="5"/>
                      <a:pt x="1737" y="4"/>
                      <a:pt x="1737" y="3"/>
                    </a:cubicBezTo>
                    <a:cubicBezTo>
                      <a:pt x="1737" y="2"/>
                      <a:pt x="1738" y="1"/>
                      <a:pt x="1739" y="1"/>
                    </a:cubicBezTo>
                    <a:close/>
                    <a:moveTo>
                      <a:pt x="1747" y="1"/>
                    </a:moveTo>
                    <a:lnTo>
                      <a:pt x="1747" y="1"/>
                    </a:lnTo>
                    <a:cubicBezTo>
                      <a:pt x="1748" y="1"/>
                      <a:pt x="1749" y="2"/>
                      <a:pt x="1749" y="3"/>
                    </a:cubicBezTo>
                    <a:cubicBezTo>
                      <a:pt x="1749" y="4"/>
                      <a:pt x="1748" y="5"/>
                      <a:pt x="1747" y="5"/>
                    </a:cubicBezTo>
                    <a:lnTo>
                      <a:pt x="1747" y="5"/>
                    </a:lnTo>
                    <a:cubicBezTo>
                      <a:pt x="1746" y="5"/>
                      <a:pt x="1745" y="4"/>
                      <a:pt x="1745" y="3"/>
                    </a:cubicBezTo>
                    <a:cubicBezTo>
                      <a:pt x="1745" y="2"/>
                      <a:pt x="1746" y="1"/>
                      <a:pt x="1747" y="1"/>
                    </a:cubicBezTo>
                    <a:close/>
                    <a:moveTo>
                      <a:pt x="1755" y="1"/>
                    </a:moveTo>
                    <a:lnTo>
                      <a:pt x="1755" y="1"/>
                    </a:lnTo>
                    <a:cubicBezTo>
                      <a:pt x="1756" y="1"/>
                      <a:pt x="1757" y="2"/>
                      <a:pt x="1757" y="3"/>
                    </a:cubicBezTo>
                    <a:cubicBezTo>
                      <a:pt x="1757" y="4"/>
                      <a:pt x="1756" y="5"/>
                      <a:pt x="1755" y="5"/>
                    </a:cubicBezTo>
                    <a:lnTo>
                      <a:pt x="1755" y="5"/>
                    </a:lnTo>
                    <a:cubicBezTo>
                      <a:pt x="1754" y="5"/>
                      <a:pt x="1753" y="4"/>
                      <a:pt x="1753" y="3"/>
                    </a:cubicBezTo>
                    <a:cubicBezTo>
                      <a:pt x="1753" y="2"/>
                      <a:pt x="1754" y="1"/>
                      <a:pt x="1755" y="1"/>
                    </a:cubicBezTo>
                    <a:close/>
                    <a:moveTo>
                      <a:pt x="1763" y="1"/>
                    </a:moveTo>
                    <a:lnTo>
                      <a:pt x="1763" y="1"/>
                    </a:lnTo>
                    <a:cubicBezTo>
                      <a:pt x="1764" y="1"/>
                      <a:pt x="1765" y="2"/>
                      <a:pt x="1765" y="3"/>
                    </a:cubicBezTo>
                    <a:cubicBezTo>
                      <a:pt x="1765" y="4"/>
                      <a:pt x="1764" y="5"/>
                      <a:pt x="1763" y="5"/>
                    </a:cubicBezTo>
                    <a:lnTo>
                      <a:pt x="1763" y="5"/>
                    </a:lnTo>
                    <a:cubicBezTo>
                      <a:pt x="1762" y="5"/>
                      <a:pt x="1761" y="4"/>
                      <a:pt x="1761" y="3"/>
                    </a:cubicBezTo>
                    <a:cubicBezTo>
                      <a:pt x="1761" y="2"/>
                      <a:pt x="1762" y="1"/>
                      <a:pt x="1763" y="1"/>
                    </a:cubicBezTo>
                    <a:close/>
                    <a:moveTo>
                      <a:pt x="1771" y="1"/>
                    </a:moveTo>
                    <a:lnTo>
                      <a:pt x="1771" y="1"/>
                    </a:lnTo>
                    <a:cubicBezTo>
                      <a:pt x="1772" y="1"/>
                      <a:pt x="1773" y="2"/>
                      <a:pt x="1773" y="3"/>
                    </a:cubicBezTo>
                    <a:cubicBezTo>
                      <a:pt x="1773" y="4"/>
                      <a:pt x="1772" y="5"/>
                      <a:pt x="1771" y="5"/>
                    </a:cubicBezTo>
                    <a:lnTo>
                      <a:pt x="1771" y="5"/>
                    </a:lnTo>
                    <a:cubicBezTo>
                      <a:pt x="1770" y="5"/>
                      <a:pt x="1769" y="4"/>
                      <a:pt x="1769" y="3"/>
                    </a:cubicBezTo>
                    <a:cubicBezTo>
                      <a:pt x="1769" y="2"/>
                      <a:pt x="1770" y="1"/>
                      <a:pt x="1771" y="1"/>
                    </a:cubicBezTo>
                    <a:close/>
                    <a:moveTo>
                      <a:pt x="1779" y="1"/>
                    </a:moveTo>
                    <a:lnTo>
                      <a:pt x="1779" y="1"/>
                    </a:lnTo>
                    <a:cubicBezTo>
                      <a:pt x="1780" y="1"/>
                      <a:pt x="1781" y="2"/>
                      <a:pt x="1781" y="3"/>
                    </a:cubicBezTo>
                    <a:cubicBezTo>
                      <a:pt x="1781" y="4"/>
                      <a:pt x="1780" y="5"/>
                      <a:pt x="1779" y="5"/>
                    </a:cubicBezTo>
                    <a:lnTo>
                      <a:pt x="1779" y="5"/>
                    </a:lnTo>
                    <a:cubicBezTo>
                      <a:pt x="1778" y="5"/>
                      <a:pt x="1777" y="4"/>
                      <a:pt x="1777" y="3"/>
                    </a:cubicBezTo>
                    <a:cubicBezTo>
                      <a:pt x="1777" y="2"/>
                      <a:pt x="1778" y="1"/>
                      <a:pt x="1779" y="1"/>
                    </a:cubicBezTo>
                    <a:close/>
                    <a:moveTo>
                      <a:pt x="1787" y="1"/>
                    </a:moveTo>
                    <a:lnTo>
                      <a:pt x="1787" y="1"/>
                    </a:lnTo>
                    <a:cubicBezTo>
                      <a:pt x="1788" y="1"/>
                      <a:pt x="1789" y="2"/>
                      <a:pt x="1789" y="3"/>
                    </a:cubicBezTo>
                    <a:cubicBezTo>
                      <a:pt x="1789" y="4"/>
                      <a:pt x="1788" y="5"/>
                      <a:pt x="1787" y="5"/>
                    </a:cubicBezTo>
                    <a:lnTo>
                      <a:pt x="1787" y="5"/>
                    </a:lnTo>
                    <a:cubicBezTo>
                      <a:pt x="1786" y="5"/>
                      <a:pt x="1785" y="4"/>
                      <a:pt x="1785" y="3"/>
                    </a:cubicBezTo>
                    <a:cubicBezTo>
                      <a:pt x="1785" y="2"/>
                      <a:pt x="1786" y="1"/>
                      <a:pt x="1787" y="1"/>
                    </a:cubicBezTo>
                    <a:close/>
                    <a:moveTo>
                      <a:pt x="1795" y="1"/>
                    </a:moveTo>
                    <a:lnTo>
                      <a:pt x="1795" y="1"/>
                    </a:lnTo>
                    <a:cubicBezTo>
                      <a:pt x="1796" y="1"/>
                      <a:pt x="1797" y="2"/>
                      <a:pt x="1797" y="3"/>
                    </a:cubicBezTo>
                    <a:cubicBezTo>
                      <a:pt x="1797" y="4"/>
                      <a:pt x="1796" y="5"/>
                      <a:pt x="1795" y="5"/>
                    </a:cubicBezTo>
                    <a:lnTo>
                      <a:pt x="1795" y="5"/>
                    </a:lnTo>
                    <a:cubicBezTo>
                      <a:pt x="1794" y="5"/>
                      <a:pt x="1793" y="4"/>
                      <a:pt x="1793" y="3"/>
                    </a:cubicBezTo>
                    <a:cubicBezTo>
                      <a:pt x="1793" y="2"/>
                      <a:pt x="1794" y="1"/>
                      <a:pt x="1795" y="1"/>
                    </a:cubicBezTo>
                    <a:close/>
                    <a:moveTo>
                      <a:pt x="1803" y="1"/>
                    </a:moveTo>
                    <a:lnTo>
                      <a:pt x="1803" y="1"/>
                    </a:lnTo>
                    <a:cubicBezTo>
                      <a:pt x="1804" y="1"/>
                      <a:pt x="1805" y="2"/>
                      <a:pt x="1805" y="3"/>
                    </a:cubicBezTo>
                    <a:cubicBezTo>
                      <a:pt x="1805" y="4"/>
                      <a:pt x="1804" y="5"/>
                      <a:pt x="1803" y="5"/>
                    </a:cubicBezTo>
                    <a:lnTo>
                      <a:pt x="1803" y="5"/>
                    </a:lnTo>
                    <a:cubicBezTo>
                      <a:pt x="1802" y="5"/>
                      <a:pt x="1801" y="4"/>
                      <a:pt x="1801" y="3"/>
                    </a:cubicBezTo>
                    <a:cubicBezTo>
                      <a:pt x="1801" y="2"/>
                      <a:pt x="1802" y="1"/>
                      <a:pt x="1803" y="1"/>
                    </a:cubicBezTo>
                    <a:close/>
                    <a:moveTo>
                      <a:pt x="1811" y="1"/>
                    </a:moveTo>
                    <a:lnTo>
                      <a:pt x="1811" y="1"/>
                    </a:lnTo>
                    <a:cubicBezTo>
                      <a:pt x="1812" y="1"/>
                      <a:pt x="1813" y="2"/>
                      <a:pt x="1813" y="3"/>
                    </a:cubicBezTo>
                    <a:cubicBezTo>
                      <a:pt x="1813" y="4"/>
                      <a:pt x="1812" y="5"/>
                      <a:pt x="1811" y="5"/>
                    </a:cubicBezTo>
                    <a:lnTo>
                      <a:pt x="1811" y="5"/>
                    </a:lnTo>
                    <a:cubicBezTo>
                      <a:pt x="1810" y="5"/>
                      <a:pt x="1809" y="4"/>
                      <a:pt x="1809" y="3"/>
                    </a:cubicBezTo>
                    <a:cubicBezTo>
                      <a:pt x="1809" y="2"/>
                      <a:pt x="1810" y="1"/>
                      <a:pt x="1811" y="1"/>
                    </a:cubicBezTo>
                    <a:close/>
                    <a:moveTo>
                      <a:pt x="1819" y="1"/>
                    </a:moveTo>
                    <a:lnTo>
                      <a:pt x="1819" y="1"/>
                    </a:lnTo>
                    <a:cubicBezTo>
                      <a:pt x="1820" y="1"/>
                      <a:pt x="1821" y="2"/>
                      <a:pt x="1821" y="3"/>
                    </a:cubicBezTo>
                    <a:cubicBezTo>
                      <a:pt x="1821" y="4"/>
                      <a:pt x="1820" y="5"/>
                      <a:pt x="1819" y="5"/>
                    </a:cubicBezTo>
                    <a:lnTo>
                      <a:pt x="1819" y="5"/>
                    </a:lnTo>
                    <a:cubicBezTo>
                      <a:pt x="1818" y="5"/>
                      <a:pt x="1817" y="4"/>
                      <a:pt x="1817" y="3"/>
                    </a:cubicBezTo>
                    <a:cubicBezTo>
                      <a:pt x="1817" y="2"/>
                      <a:pt x="1818" y="1"/>
                      <a:pt x="1819" y="1"/>
                    </a:cubicBezTo>
                    <a:close/>
                    <a:moveTo>
                      <a:pt x="1827" y="1"/>
                    </a:moveTo>
                    <a:lnTo>
                      <a:pt x="1827" y="1"/>
                    </a:lnTo>
                    <a:cubicBezTo>
                      <a:pt x="1828" y="1"/>
                      <a:pt x="1829" y="2"/>
                      <a:pt x="1829" y="3"/>
                    </a:cubicBezTo>
                    <a:cubicBezTo>
                      <a:pt x="1829" y="4"/>
                      <a:pt x="1828" y="5"/>
                      <a:pt x="1827" y="5"/>
                    </a:cubicBezTo>
                    <a:lnTo>
                      <a:pt x="1827" y="5"/>
                    </a:lnTo>
                    <a:cubicBezTo>
                      <a:pt x="1826" y="5"/>
                      <a:pt x="1825" y="4"/>
                      <a:pt x="1825" y="3"/>
                    </a:cubicBezTo>
                    <a:cubicBezTo>
                      <a:pt x="1825" y="2"/>
                      <a:pt x="1826" y="1"/>
                      <a:pt x="1827" y="1"/>
                    </a:cubicBezTo>
                    <a:close/>
                    <a:moveTo>
                      <a:pt x="1835" y="1"/>
                    </a:moveTo>
                    <a:lnTo>
                      <a:pt x="1835" y="1"/>
                    </a:lnTo>
                    <a:cubicBezTo>
                      <a:pt x="1836" y="1"/>
                      <a:pt x="1837" y="2"/>
                      <a:pt x="1837" y="3"/>
                    </a:cubicBezTo>
                    <a:cubicBezTo>
                      <a:pt x="1837" y="4"/>
                      <a:pt x="1836" y="5"/>
                      <a:pt x="1835" y="5"/>
                    </a:cubicBezTo>
                    <a:lnTo>
                      <a:pt x="1835" y="5"/>
                    </a:lnTo>
                    <a:cubicBezTo>
                      <a:pt x="1834" y="5"/>
                      <a:pt x="1833" y="4"/>
                      <a:pt x="1833" y="3"/>
                    </a:cubicBezTo>
                    <a:cubicBezTo>
                      <a:pt x="1833" y="2"/>
                      <a:pt x="1834" y="1"/>
                      <a:pt x="1835" y="1"/>
                    </a:cubicBezTo>
                    <a:close/>
                    <a:moveTo>
                      <a:pt x="1843" y="1"/>
                    </a:moveTo>
                    <a:lnTo>
                      <a:pt x="1843" y="1"/>
                    </a:lnTo>
                    <a:cubicBezTo>
                      <a:pt x="1844" y="1"/>
                      <a:pt x="1845" y="2"/>
                      <a:pt x="1845" y="3"/>
                    </a:cubicBezTo>
                    <a:cubicBezTo>
                      <a:pt x="1845" y="4"/>
                      <a:pt x="1844" y="5"/>
                      <a:pt x="1843" y="5"/>
                    </a:cubicBezTo>
                    <a:lnTo>
                      <a:pt x="1843" y="5"/>
                    </a:lnTo>
                    <a:cubicBezTo>
                      <a:pt x="1842" y="5"/>
                      <a:pt x="1841" y="4"/>
                      <a:pt x="1841" y="3"/>
                    </a:cubicBezTo>
                    <a:cubicBezTo>
                      <a:pt x="1841" y="2"/>
                      <a:pt x="1842" y="1"/>
                      <a:pt x="1843" y="1"/>
                    </a:cubicBezTo>
                    <a:close/>
                    <a:moveTo>
                      <a:pt x="1851" y="1"/>
                    </a:moveTo>
                    <a:lnTo>
                      <a:pt x="1851" y="1"/>
                    </a:lnTo>
                    <a:cubicBezTo>
                      <a:pt x="1852" y="1"/>
                      <a:pt x="1853" y="2"/>
                      <a:pt x="1853" y="3"/>
                    </a:cubicBezTo>
                    <a:cubicBezTo>
                      <a:pt x="1853" y="4"/>
                      <a:pt x="1852" y="5"/>
                      <a:pt x="1851" y="5"/>
                    </a:cubicBezTo>
                    <a:lnTo>
                      <a:pt x="1851" y="5"/>
                    </a:lnTo>
                    <a:cubicBezTo>
                      <a:pt x="1850" y="5"/>
                      <a:pt x="1849" y="4"/>
                      <a:pt x="1849" y="3"/>
                    </a:cubicBezTo>
                    <a:cubicBezTo>
                      <a:pt x="1849" y="2"/>
                      <a:pt x="1850" y="1"/>
                      <a:pt x="1851" y="1"/>
                    </a:cubicBezTo>
                    <a:close/>
                    <a:moveTo>
                      <a:pt x="1859" y="1"/>
                    </a:moveTo>
                    <a:lnTo>
                      <a:pt x="1859" y="1"/>
                    </a:lnTo>
                    <a:cubicBezTo>
                      <a:pt x="1860" y="1"/>
                      <a:pt x="1861" y="2"/>
                      <a:pt x="1861" y="3"/>
                    </a:cubicBezTo>
                    <a:cubicBezTo>
                      <a:pt x="1861" y="4"/>
                      <a:pt x="1860" y="5"/>
                      <a:pt x="1859" y="5"/>
                    </a:cubicBezTo>
                    <a:lnTo>
                      <a:pt x="1859" y="5"/>
                    </a:lnTo>
                    <a:cubicBezTo>
                      <a:pt x="1858" y="5"/>
                      <a:pt x="1857" y="4"/>
                      <a:pt x="1857" y="3"/>
                    </a:cubicBezTo>
                    <a:cubicBezTo>
                      <a:pt x="1857" y="2"/>
                      <a:pt x="1858" y="1"/>
                      <a:pt x="1859" y="1"/>
                    </a:cubicBezTo>
                    <a:close/>
                    <a:moveTo>
                      <a:pt x="1867" y="1"/>
                    </a:moveTo>
                    <a:lnTo>
                      <a:pt x="1867" y="1"/>
                    </a:lnTo>
                    <a:cubicBezTo>
                      <a:pt x="1868" y="1"/>
                      <a:pt x="1869" y="2"/>
                      <a:pt x="1869" y="3"/>
                    </a:cubicBezTo>
                    <a:cubicBezTo>
                      <a:pt x="1869" y="4"/>
                      <a:pt x="1868" y="5"/>
                      <a:pt x="1867" y="5"/>
                    </a:cubicBezTo>
                    <a:lnTo>
                      <a:pt x="1867" y="5"/>
                    </a:lnTo>
                    <a:cubicBezTo>
                      <a:pt x="1866" y="5"/>
                      <a:pt x="1865" y="4"/>
                      <a:pt x="1865" y="3"/>
                    </a:cubicBezTo>
                    <a:cubicBezTo>
                      <a:pt x="1865" y="2"/>
                      <a:pt x="1866" y="1"/>
                      <a:pt x="1867" y="1"/>
                    </a:cubicBezTo>
                    <a:close/>
                    <a:moveTo>
                      <a:pt x="1875" y="1"/>
                    </a:moveTo>
                    <a:lnTo>
                      <a:pt x="1875" y="1"/>
                    </a:lnTo>
                    <a:cubicBezTo>
                      <a:pt x="1876" y="1"/>
                      <a:pt x="1877" y="2"/>
                      <a:pt x="1877" y="3"/>
                    </a:cubicBezTo>
                    <a:cubicBezTo>
                      <a:pt x="1877" y="4"/>
                      <a:pt x="1876" y="5"/>
                      <a:pt x="1875" y="5"/>
                    </a:cubicBezTo>
                    <a:lnTo>
                      <a:pt x="1875" y="5"/>
                    </a:lnTo>
                    <a:cubicBezTo>
                      <a:pt x="1874" y="5"/>
                      <a:pt x="1873" y="4"/>
                      <a:pt x="1873" y="3"/>
                    </a:cubicBezTo>
                    <a:cubicBezTo>
                      <a:pt x="1873" y="2"/>
                      <a:pt x="1874" y="1"/>
                      <a:pt x="1875" y="1"/>
                    </a:cubicBezTo>
                    <a:close/>
                    <a:moveTo>
                      <a:pt x="1883" y="1"/>
                    </a:moveTo>
                    <a:lnTo>
                      <a:pt x="1883" y="1"/>
                    </a:lnTo>
                    <a:cubicBezTo>
                      <a:pt x="1884" y="1"/>
                      <a:pt x="1885" y="2"/>
                      <a:pt x="1885" y="3"/>
                    </a:cubicBezTo>
                    <a:cubicBezTo>
                      <a:pt x="1885" y="4"/>
                      <a:pt x="1884" y="5"/>
                      <a:pt x="1883" y="5"/>
                    </a:cubicBezTo>
                    <a:lnTo>
                      <a:pt x="1883" y="5"/>
                    </a:lnTo>
                    <a:cubicBezTo>
                      <a:pt x="1882" y="5"/>
                      <a:pt x="1881" y="4"/>
                      <a:pt x="1881" y="3"/>
                    </a:cubicBezTo>
                    <a:cubicBezTo>
                      <a:pt x="1881" y="2"/>
                      <a:pt x="1882" y="1"/>
                      <a:pt x="1883" y="1"/>
                    </a:cubicBezTo>
                    <a:close/>
                    <a:moveTo>
                      <a:pt x="1891" y="1"/>
                    </a:moveTo>
                    <a:lnTo>
                      <a:pt x="1891" y="1"/>
                    </a:lnTo>
                    <a:cubicBezTo>
                      <a:pt x="1892" y="1"/>
                      <a:pt x="1893" y="2"/>
                      <a:pt x="1893" y="3"/>
                    </a:cubicBezTo>
                    <a:cubicBezTo>
                      <a:pt x="1893" y="4"/>
                      <a:pt x="1892" y="5"/>
                      <a:pt x="1891" y="5"/>
                    </a:cubicBezTo>
                    <a:lnTo>
                      <a:pt x="1891" y="5"/>
                    </a:lnTo>
                    <a:cubicBezTo>
                      <a:pt x="1890" y="5"/>
                      <a:pt x="1889" y="4"/>
                      <a:pt x="1889" y="3"/>
                    </a:cubicBezTo>
                    <a:cubicBezTo>
                      <a:pt x="1889" y="2"/>
                      <a:pt x="1890" y="1"/>
                      <a:pt x="1891" y="1"/>
                    </a:cubicBezTo>
                    <a:close/>
                    <a:moveTo>
                      <a:pt x="1899" y="1"/>
                    </a:moveTo>
                    <a:lnTo>
                      <a:pt x="1899" y="1"/>
                    </a:lnTo>
                    <a:cubicBezTo>
                      <a:pt x="1900" y="1"/>
                      <a:pt x="1901" y="2"/>
                      <a:pt x="1901" y="3"/>
                    </a:cubicBezTo>
                    <a:cubicBezTo>
                      <a:pt x="1901" y="4"/>
                      <a:pt x="1900" y="5"/>
                      <a:pt x="1899" y="5"/>
                    </a:cubicBezTo>
                    <a:lnTo>
                      <a:pt x="1899" y="5"/>
                    </a:lnTo>
                    <a:cubicBezTo>
                      <a:pt x="1898" y="5"/>
                      <a:pt x="1897" y="4"/>
                      <a:pt x="1897" y="3"/>
                    </a:cubicBezTo>
                    <a:cubicBezTo>
                      <a:pt x="1897" y="2"/>
                      <a:pt x="1898" y="1"/>
                      <a:pt x="1899" y="1"/>
                    </a:cubicBezTo>
                    <a:close/>
                    <a:moveTo>
                      <a:pt x="1907" y="1"/>
                    </a:moveTo>
                    <a:lnTo>
                      <a:pt x="1907" y="1"/>
                    </a:lnTo>
                    <a:cubicBezTo>
                      <a:pt x="1908" y="1"/>
                      <a:pt x="1909" y="2"/>
                      <a:pt x="1909" y="3"/>
                    </a:cubicBezTo>
                    <a:cubicBezTo>
                      <a:pt x="1909" y="4"/>
                      <a:pt x="1908" y="5"/>
                      <a:pt x="1907" y="5"/>
                    </a:cubicBezTo>
                    <a:lnTo>
                      <a:pt x="1907" y="5"/>
                    </a:lnTo>
                    <a:cubicBezTo>
                      <a:pt x="1906" y="5"/>
                      <a:pt x="1905" y="4"/>
                      <a:pt x="1905" y="3"/>
                    </a:cubicBezTo>
                    <a:cubicBezTo>
                      <a:pt x="1905" y="2"/>
                      <a:pt x="1906" y="1"/>
                      <a:pt x="1907" y="1"/>
                    </a:cubicBezTo>
                    <a:close/>
                    <a:moveTo>
                      <a:pt x="1915" y="1"/>
                    </a:moveTo>
                    <a:lnTo>
                      <a:pt x="1915" y="1"/>
                    </a:lnTo>
                    <a:cubicBezTo>
                      <a:pt x="1916" y="1"/>
                      <a:pt x="1917" y="2"/>
                      <a:pt x="1917" y="3"/>
                    </a:cubicBezTo>
                    <a:cubicBezTo>
                      <a:pt x="1917" y="4"/>
                      <a:pt x="1916" y="5"/>
                      <a:pt x="1915" y="5"/>
                    </a:cubicBezTo>
                    <a:lnTo>
                      <a:pt x="1915" y="5"/>
                    </a:lnTo>
                    <a:cubicBezTo>
                      <a:pt x="1914" y="5"/>
                      <a:pt x="1913" y="4"/>
                      <a:pt x="1913" y="3"/>
                    </a:cubicBezTo>
                    <a:cubicBezTo>
                      <a:pt x="1913" y="2"/>
                      <a:pt x="1914" y="1"/>
                      <a:pt x="1915" y="1"/>
                    </a:cubicBezTo>
                    <a:close/>
                    <a:moveTo>
                      <a:pt x="1923" y="1"/>
                    </a:moveTo>
                    <a:lnTo>
                      <a:pt x="1923" y="1"/>
                    </a:lnTo>
                    <a:cubicBezTo>
                      <a:pt x="1924" y="1"/>
                      <a:pt x="1925" y="2"/>
                      <a:pt x="1925" y="3"/>
                    </a:cubicBezTo>
                    <a:cubicBezTo>
                      <a:pt x="1925" y="4"/>
                      <a:pt x="1924" y="5"/>
                      <a:pt x="1923" y="5"/>
                    </a:cubicBezTo>
                    <a:lnTo>
                      <a:pt x="1923" y="5"/>
                    </a:lnTo>
                    <a:cubicBezTo>
                      <a:pt x="1922" y="5"/>
                      <a:pt x="1921" y="4"/>
                      <a:pt x="1921" y="3"/>
                    </a:cubicBezTo>
                    <a:cubicBezTo>
                      <a:pt x="1921" y="2"/>
                      <a:pt x="1922" y="1"/>
                      <a:pt x="1923" y="1"/>
                    </a:cubicBezTo>
                    <a:close/>
                    <a:moveTo>
                      <a:pt x="1931" y="1"/>
                    </a:moveTo>
                    <a:lnTo>
                      <a:pt x="1931" y="1"/>
                    </a:lnTo>
                    <a:cubicBezTo>
                      <a:pt x="1932" y="1"/>
                      <a:pt x="1933" y="2"/>
                      <a:pt x="1933" y="3"/>
                    </a:cubicBezTo>
                    <a:cubicBezTo>
                      <a:pt x="1933" y="4"/>
                      <a:pt x="1932" y="5"/>
                      <a:pt x="1931" y="5"/>
                    </a:cubicBezTo>
                    <a:lnTo>
                      <a:pt x="1931" y="5"/>
                    </a:lnTo>
                    <a:cubicBezTo>
                      <a:pt x="1930" y="5"/>
                      <a:pt x="1929" y="4"/>
                      <a:pt x="1929" y="3"/>
                    </a:cubicBezTo>
                    <a:cubicBezTo>
                      <a:pt x="1929" y="2"/>
                      <a:pt x="1930" y="1"/>
                      <a:pt x="1931" y="1"/>
                    </a:cubicBezTo>
                    <a:close/>
                    <a:moveTo>
                      <a:pt x="1939" y="1"/>
                    </a:moveTo>
                    <a:lnTo>
                      <a:pt x="1939" y="1"/>
                    </a:lnTo>
                    <a:cubicBezTo>
                      <a:pt x="1940" y="1"/>
                      <a:pt x="1941" y="2"/>
                      <a:pt x="1941" y="3"/>
                    </a:cubicBezTo>
                    <a:cubicBezTo>
                      <a:pt x="1941" y="4"/>
                      <a:pt x="1940" y="5"/>
                      <a:pt x="1939" y="5"/>
                    </a:cubicBezTo>
                    <a:lnTo>
                      <a:pt x="1939" y="5"/>
                    </a:lnTo>
                    <a:cubicBezTo>
                      <a:pt x="1938" y="5"/>
                      <a:pt x="1937" y="4"/>
                      <a:pt x="1937" y="3"/>
                    </a:cubicBezTo>
                    <a:cubicBezTo>
                      <a:pt x="1937" y="2"/>
                      <a:pt x="1938" y="1"/>
                      <a:pt x="1939" y="1"/>
                    </a:cubicBezTo>
                    <a:close/>
                    <a:moveTo>
                      <a:pt x="1947" y="1"/>
                    </a:moveTo>
                    <a:lnTo>
                      <a:pt x="1947" y="1"/>
                    </a:lnTo>
                    <a:cubicBezTo>
                      <a:pt x="1948" y="1"/>
                      <a:pt x="1949" y="2"/>
                      <a:pt x="1949" y="3"/>
                    </a:cubicBezTo>
                    <a:cubicBezTo>
                      <a:pt x="1949" y="4"/>
                      <a:pt x="1948" y="5"/>
                      <a:pt x="1947" y="5"/>
                    </a:cubicBezTo>
                    <a:lnTo>
                      <a:pt x="1947" y="5"/>
                    </a:lnTo>
                    <a:cubicBezTo>
                      <a:pt x="1946" y="5"/>
                      <a:pt x="1945" y="4"/>
                      <a:pt x="1945" y="3"/>
                    </a:cubicBezTo>
                    <a:cubicBezTo>
                      <a:pt x="1945" y="2"/>
                      <a:pt x="1946" y="1"/>
                      <a:pt x="1947" y="1"/>
                    </a:cubicBezTo>
                    <a:close/>
                    <a:moveTo>
                      <a:pt x="1955" y="1"/>
                    </a:moveTo>
                    <a:lnTo>
                      <a:pt x="1955" y="1"/>
                    </a:lnTo>
                    <a:cubicBezTo>
                      <a:pt x="1956" y="1"/>
                      <a:pt x="1957" y="2"/>
                      <a:pt x="1957" y="3"/>
                    </a:cubicBezTo>
                    <a:cubicBezTo>
                      <a:pt x="1957" y="4"/>
                      <a:pt x="1956" y="5"/>
                      <a:pt x="1955" y="5"/>
                    </a:cubicBezTo>
                    <a:lnTo>
                      <a:pt x="1955" y="5"/>
                    </a:lnTo>
                    <a:cubicBezTo>
                      <a:pt x="1954" y="5"/>
                      <a:pt x="1953" y="4"/>
                      <a:pt x="1953" y="3"/>
                    </a:cubicBezTo>
                    <a:cubicBezTo>
                      <a:pt x="1953" y="2"/>
                      <a:pt x="1954" y="1"/>
                      <a:pt x="1955" y="1"/>
                    </a:cubicBezTo>
                    <a:close/>
                    <a:moveTo>
                      <a:pt x="1963" y="1"/>
                    </a:moveTo>
                    <a:lnTo>
                      <a:pt x="1963" y="1"/>
                    </a:lnTo>
                    <a:cubicBezTo>
                      <a:pt x="1964" y="1"/>
                      <a:pt x="1965" y="2"/>
                      <a:pt x="1965" y="3"/>
                    </a:cubicBezTo>
                    <a:cubicBezTo>
                      <a:pt x="1965" y="4"/>
                      <a:pt x="1964" y="5"/>
                      <a:pt x="1963" y="5"/>
                    </a:cubicBezTo>
                    <a:lnTo>
                      <a:pt x="1963" y="5"/>
                    </a:lnTo>
                    <a:cubicBezTo>
                      <a:pt x="1962" y="5"/>
                      <a:pt x="1961" y="4"/>
                      <a:pt x="1961" y="3"/>
                    </a:cubicBezTo>
                    <a:cubicBezTo>
                      <a:pt x="1961" y="2"/>
                      <a:pt x="1962" y="1"/>
                      <a:pt x="1963" y="1"/>
                    </a:cubicBezTo>
                    <a:close/>
                    <a:moveTo>
                      <a:pt x="1971" y="1"/>
                    </a:moveTo>
                    <a:lnTo>
                      <a:pt x="1971" y="1"/>
                    </a:lnTo>
                    <a:cubicBezTo>
                      <a:pt x="1972" y="1"/>
                      <a:pt x="1973" y="2"/>
                      <a:pt x="1973" y="3"/>
                    </a:cubicBezTo>
                    <a:cubicBezTo>
                      <a:pt x="1973" y="4"/>
                      <a:pt x="1972" y="5"/>
                      <a:pt x="1971" y="5"/>
                    </a:cubicBezTo>
                    <a:lnTo>
                      <a:pt x="1971" y="5"/>
                    </a:lnTo>
                    <a:cubicBezTo>
                      <a:pt x="1970" y="5"/>
                      <a:pt x="1969" y="4"/>
                      <a:pt x="1969" y="3"/>
                    </a:cubicBezTo>
                    <a:cubicBezTo>
                      <a:pt x="1969" y="2"/>
                      <a:pt x="1970" y="1"/>
                      <a:pt x="1971" y="1"/>
                    </a:cubicBezTo>
                    <a:close/>
                    <a:moveTo>
                      <a:pt x="1979" y="1"/>
                    </a:moveTo>
                    <a:lnTo>
                      <a:pt x="1979" y="1"/>
                    </a:lnTo>
                    <a:cubicBezTo>
                      <a:pt x="1980" y="1"/>
                      <a:pt x="1981" y="2"/>
                      <a:pt x="1981" y="3"/>
                    </a:cubicBezTo>
                    <a:cubicBezTo>
                      <a:pt x="1981" y="4"/>
                      <a:pt x="1980" y="5"/>
                      <a:pt x="1979" y="5"/>
                    </a:cubicBezTo>
                    <a:lnTo>
                      <a:pt x="1979" y="5"/>
                    </a:lnTo>
                    <a:cubicBezTo>
                      <a:pt x="1978" y="5"/>
                      <a:pt x="1977" y="4"/>
                      <a:pt x="1977" y="3"/>
                    </a:cubicBezTo>
                    <a:cubicBezTo>
                      <a:pt x="1977" y="2"/>
                      <a:pt x="1978" y="1"/>
                      <a:pt x="1979" y="1"/>
                    </a:cubicBezTo>
                    <a:close/>
                    <a:moveTo>
                      <a:pt x="1987" y="1"/>
                    </a:moveTo>
                    <a:lnTo>
                      <a:pt x="1987" y="1"/>
                    </a:lnTo>
                    <a:cubicBezTo>
                      <a:pt x="1988" y="1"/>
                      <a:pt x="1989" y="2"/>
                      <a:pt x="1989" y="3"/>
                    </a:cubicBezTo>
                    <a:cubicBezTo>
                      <a:pt x="1989" y="4"/>
                      <a:pt x="1988" y="5"/>
                      <a:pt x="1987" y="5"/>
                    </a:cubicBezTo>
                    <a:lnTo>
                      <a:pt x="1987" y="5"/>
                    </a:lnTo>
                    <a:cubicBezTo>
                      <a:pt x="1986" y="5"/>
                      <a:pt x="1985" y="4"/>
                      <a:pt x="1985" y="3"/>
                    </a:cubicBezTo>
                    <a:cubicBezTo>
                      <a:pt x="1985" y="2"/>
                      <a:pt x="1986" y="1"/>
                      <a:pt x="1987" y="1"/>
                    </a:cubicBezTo>
                    <a:close/>
                    <a:moveTo>
                      <a:pt x="1995" y="1"/>
                    </a:moveTo>
                    <a:lnTo>
                      <a:pt x="1995" y="1"/>
                    </a:lnTo>
                    <a:cubicBezTo>
                      <a:pt x="1996" y="1"/>
                      <a:pt x="1997" y="2"/>
                      <a:pt x="1997" y="3"/>
                    </a:cubicBezTo>
                    <a:cubicBezTo>
                      <a:pt x="1997" y="4"/>
                      <a:pt x="1996" y="5"/>
                      <a:pt x="1995" y="5"/>
                    </a:cubicBezTo>
                    <a:lnTo>
                      <a:pt x="1995" y="5"/>
                    </a:lnTo>
                    <a:cubicBezTo>
                      <a:pt x="1994" y="5"/>
                      <a:pt x="1993" y="4"/>
                      <a:pt x="1993" y="3"/>
                    </a:cubicBezTo>
                    <a:cubicBezTo>
                      <a:pt x="1993" y="2"/>
                      <a:pt x="1994" y="1"/>
                      <a:pt x="1995" y="1"/>
                    </a:cubicBezTo>
                    <a:close/>
                    <a:moveTo>
                      <a:pt x="2003" y="1"/>
                    </a:moveTo>
                    <a:lnTo>
                      <a:pt x="2003" y="1"/>
                    </a:lnTo>
                    <a:cubicBezTo>
                      <a:pt x="2004" y="1"/>
                      <a:pt x="2005" y="2"/>
                      <a:pt x="2005" y="3"/>
                    </a:cubicBezTo>
                    <a:cubicBezTo>
                      <a:pt x="2005" y="4"/>
                      <a:pt x="2004" y="5"/>
                      <a:pt x="2003" y="5"/>
                    </a:cubicBezTo>
                    <a:lnTo>
                      <a:pt x="2003" y="5"/>
                    </a:lnTo>
                    <a:cubicBezTo>
                      <a:pt x="2002" y="5"/>
                      <a:pt x="2001" y="4"/>
                      <a:pt x="2001" y="3"/>
                    </a:cubicBezTo>
                    <a:cubicBezTo>
                      <a:pt x="2001" y="2"/>
                      <a:pt x="2002" y="1"/>
                      <a:pt x="2003" y="1"/>
                    </a:cubicBezTo>
                    <a:close/>
                    <a:moveTo>
                      <a:pt x="2011" y="1"/>
                    </a:moveTo>
                    <a:lnTo>
                      <a:pt x="2011" y="1"/>
                    </a:lnTo>
                    <a:cubicBezTo>
                      <a:pt x="2012" y="1"/>
                      <a:pt x="2013" y="2"/>
                      <a:pt x="2013" y="3"/>
                    </a:cubicBezTo>
                    <a:cubicBezTo>
                      <a:pt x="2013" y="4"/>
                      <a:pt x="2012" y="5"/>
                      <a:pt x="2011" y="5"/>
                    </a:cubicBezTo>
                    <a:lnTo>
                      <a:pt x="2011" y="5"/>
                    </a:lnTo>
                    <a:cubicBezTo>
                      <a:pt x="2010" y="5"/>
                      <a:pt x="2009" y="4"/>
                      <a:pt x="2009" y="3"/>
                    </a:cubicBezTo>
                    <a:cubicBezTo>
                      <a:pt x="2009" y="2"/>
                      <a:pt x="2010" y="1"/>
                      <a:pt x="2011" y="1"/>
                    </a:cubicBezTo>
                    <a:close/>
                    <a:moveTo>
                      <a:pt x="2019" y="1"/>
                    </a:moveTo>
                    <a:lnTo>
                      <a:pt x="2019" y="1"/>
                    </a:lnTo>
                    <a:cubicBezTo>
                      <a:pt x="2020" y="1"/>
                      <a:pt x="2021" y="2"/>
                      <a:pt x="2021" y="3"/>
                    </a:cubicBezTo>
                    <a:cubicBezTo>
                      <a:pt x="2021" y="4"/>
                      <a:pt x="2020" y="5"/>
                      <a:pt x="2019" y="5"/>
                    </a:cubicBezTo>
                    <a:lnTo>
                      <a:pt x="2019" y="5"/>
                    </a:lnTo>
                    <a:cubicBezTo>
                      <a:pt x="2018" y="5"/>
                      <a:pt x="2017" y="4"/>
                      <a:pt x="2017" y="3"/>
                    </a:cubicBezTo>
                    <a:cubicBezTo>
                      <a:pt x="2017" y="2"/>
                      <a:pt x="2018" y="1"/>
                      <a:pt x="2019" y="1"/>
                    </a:cubicBezTo>
                    <a:close/>
                    <a:moveTo>
                      <a:pt x="2027" y="1"/>
                    </a:moveTo>
                    <a:lnTo>
                      <a:pt x="2027" y="1"/>
                    </a:lnTo>
                    <a:cubicBezTo>
                      <a:pt x="2028" y="1"/>
                      <a:pt x="2029" y="2"/>
                      <a:pt x="2029" y="3"/>
                    </a:cubicBezTo>
                    <a:cubicBezTo>
                      <a:pt x="2029" y="4"/>
                      <a:pt x="2028" y="5"/>
                      <a:pt x="2027" y="5"/>
                    </a:cubicBezTo>
                    <a:lnTo>
                      <a:pt x="2027" y="5"/>
                    </a:lnTo>
                    <a:cubicBezTo>
                      <a:pt x="2026" y="5"/>
                      <a:pt x="2025" y="4"/>
                      <a:pt x="2025" y="3"/>
                    </a:cubicBezTo>
                    <a:cubicBezTo>
                      <a:pt x="2025" y="2"/>
                      <a:pt x="2026" y="1"/>
                      <a:pt x="2027" y="1"/>
                    </a:cubicBezTo>
                    <a:close/>
                    <a:moveTo>
                      <a:pt x="2035" y="1"/>
                    </a:moveTo>
                    <a:lnTo>
                      <a:pt x="2035" y="1"/>
                    </a:lnTo>
                    <a:cubicBezTo>
                      <a:pt x="2036" y="1"/>
                      <a:pt x="2037" y="2"/>
                      <a:pt x="2037" y="3"/>
                    </a:cubicBezTo>
                    <a:cubicBezTo>
                      <a:pt x="2037" y="4"/>
                      <a:pt x="2036" y="5"/>
                      <a:pt x="2035" y="5"/>
                    </a:cubicBezTo>
                    <a:lnTo>
                      <a:pt x="2035" y="5"/>
                    </a:lnTo>
                    <a:cubicBezTo>
                      <a:pt x="2034" y="5"/>
                      <a:pt x="2033" y="4"/>
                      <a:pt x="2033" y="3"/>
                    </a:cubicBezTo>
                    <a:cubicBezTo>
                      <a:pt x="2033" y="2"/>
                      <a:pt x="2034" y="1"/>
                      <a:pt x="2035" y="1"/>
                    </a:cubicBezTo>
                    <a:close/>
                    <a:moveTo>
                      <a:pt x="2043" y="1"/>
                    </a:moveTo>
                    <a:lnTo>
                      <a:pt x="2043" y="1"/>
                    </a:lnTo>
                    <a:cubicBezTo>
                      <a:pt x="2044" y="1"/>
                      <a:pt x="2045" y="2"/>
                      <a:pt x="2045" y="3"/>
                    </a:cubicBezTo>
                    <a:cubicBezTo>
                      <a:pt x="2045" y="4"/>
                      <a:pt x="2044" y="5"/>
                      <a:pt x="2043" y="5"/>
                    </a:cubicBezTo>
                    <a:lnTo>
                      <a:pt x="2043" y="5"/>
                    </a:lnTo>
                    <a:cubicBezTo>
                      <a:pt x="2042" y="5"/>
                      <a:pt x="2041" y="4"/>
                      <a:pt x="2041" y="3"/>
                    </a:cubicBezTo>
                    <a:cubicBezTo>
                      <a:pt x="2041" y="2"/>
                      <a:pt x="2042" y="1"/>
                      <a:pt x="2043" y="1"/>
                    </a:cubicBezTo>
                    <a:close/>
                    <a:moveTo>
                      <a:pt x="2051" y="1"/>
                    </a:moveTo>
                    <a:lnTo>
                      <a:pt x="2051" y="1"/>
                    </a:lnTo>
                    <a:cubicBezTo>
                      <a:pt x="2052" y="1"/>
                      <a:pt x="2053" y="2"/>
                      <a:pt x="2053" y="3"/>
                    </a:cubicBezTo>
                    <a:cubicBezTo>
                      <a:pt x="2053" y="4"/>
                      <a:pt x="2052" y="5"/>
                      <a:pt x="2051" y="5"/>
                    </a:cubicBezTo>
                    <a:lnTo>
                      <a:pt x="2051" y="5"/>
                    </a:lnTo>
                    <a:cubicBezTo>
                      <a:pt x="2050" y="5"/>
                      <a:pt x="2049" y="4"/>
                      <a:pt x="2049" y="3"/>
                    </a:cubicBezTo>
                    <a:cubicBezTo>
                      <a:pt x="2049" y="2"/>
                      <a:pt x="2050" y="1"/>
                      <a:pt x="2051" y="1"/>
                    </a:cubicBezTo>
                    <a:close/>
                    <a:moveTo>
                      <a:pt x="2059" y="1"/>
                    </a:moveTo>
                    <a:lnTo>
                      <a:pt x="2059" y="1"/>
                    </a:lnTo>
                    <a:cubicBezTo>
                      <a:pt x="2060" y="1"/>
                      <a:pt x="2061" y="2"/>
                      <a:pt x="2061" y="3"/>
                    </a:cubicBezTo>
                    <a:cubicBezTo>
                      <a:pt x="2061" y="4"/>
                      <a:pt x="2060" y="5"/>
                      <a:pt x="2059" y="5"/>
                    </a:cubicBezTo>
                    <a:lnTo>
                      <a:pt x="2059" y="5"/>
                    </a:lnTo>
                    <a:cubicBezTo>
                      <a:pt x="2058" y="5"/>
                      <a:pt x="2057" y="4"/>
                      <a:pt x="2057" y="3"/>
                    </a:cubicBezTo>
                    <a:cubicBezTo>
                      <a:pt x="2057" y="2"/>
                      <a:pt x="2058" y="1"/>
                      <a:pt x="2059" y="1"/>
                    </a:cubicBezTo>
                    <a:close/>
                    <a:moveTo>
                      <a:pt x="2067" y="1"/>
                    </a:moveTo>
                    <a:lnTo>
                      <a:pt x="2067" y="1"/>
                    </a:lnTo>
                    <a:cubicBezTo>
                      <a:pt x="2068" y="1"/>
                      <a:pt x="2069" y="2"/>
                      <a:pt x="2069" y="3"/>
                    </a:cubicBezTo>
                    <a:cubicBezTo>
                      <a:pt x="2069" y="4"/>
                      <a:pt x="2068" y="5"/>
                      <a:pt x="2067" y="5"/>
                    </a:cubicBezTo>
                    <a:lnTo>
                      <a:pt x="2067" y="5"/>
                    </a:lnTo>
                    <a:cubicBezTo>
                      <a:pt x="2066" y="5"/>
                      <a:pt x="2065" y="4"/>
                      <a:pt x="2065" y="3"/>
                    </a:cubicBezTo>
                    <a:cubicBezTo>
                      <a:pt x="2065" y="2"/>
                      <a:pt x="2066" y="1"/>
                      <a:pt x="2067" y="1"/>
                    </a:cubicBezTo>
                    <a:close/>
                    <a:moveTo>
                      <a:pt x="2075" y="1"/>
                    </a:moveTo>
                    <a:lnTo>
                      <a:pt x="2075" y="1"/>
                    </a:lnTo>
                    <a:cubicBezTo>
                      <a:pt x="2076" y="1"/>
                      <a:pt x="2077" y="2"/>
                      <a:pt x="2077" y="3"/>
                    </a:cubicBezTo>
                    <a:cubicBezTo>
                      <a:pt x="2077" y="4"/>
                      <a:pt x="2076" y="5"/>
                      <a:pt x="2075" y="5"/>
                    </a:cubicBezTo>
                    <a:lnTo>
                      <a:pt x="2075" y="5"/>
                    </a:lnTo>
                    <a:cubicBezTo>
                      <a:pt x="2074" y="5"/>
                      <a:pt x="2073" y="4"/>
                      <a:pt x="2073" y="3"/>
                    </a:cubicBezTo>
                    <a:cubicBezTo>
                      <a:pt x="2073" y="2"/>
                      <a:pt x="2074" y="1"/>
                      <a:pt x="2075" y="1"/>
                    </a:cubicBezTo>
                    <a:close/>
                    <a:moveTo>
                      <a:pt x="2083" y="1"/>
                    </a:moveTo>
                    <a:lnTo>
                      <a:pt x="2083" y="1"/>
                    </a:lnTo>
                    <a:cubicBezTo>
                      <a:pt x="2084" y="1"/>
                      <a:pt x="2085" y="2"/>
                      <a:pt x="2085" y="3"/>
                    </a:cubicBezTo>
                    <a:cubicBezTo>
                      <a:pt x="2085" y="4"/>
                      <a:pt x="2084" y="5"/>
                      <a:pt x="2083" y="5"/>
                    </a:cubicBezTo>
                    <a:lnTo>
                      <a:pt x="2083" y="5"/>
                    </a:lnTo>
                    <a:cubicBezTo>
                      <a:pt x="2082" y="5"/>
                      <a:pt x="2081" y="4"/>
                      <a:pt x="2081" y="3"/>
                    </a:cubicBezTo>
                    <a:cubicBezTo>
                      <a:pt x="2081" y="2"/>
                      <a:pt x="2082" y="1"/>
                      <a:pt x="2083" y="1"/>
                    </a:cubicBezTo>
                    <a:close/>
                    <a:moveTo>
                      <a:pt x="2091" y="1"/>
                    </a:moveTo>
                    <a:lnTo>
                      <a:pt x="2091" y="1"/>
                    </a:lnTo>
                    <a:cubicBezTo>
                      <a:pt x="2092" y="1"/>
                      <a:pt x="2093" y="2"/>
                      <a:pt x="2093" y="3"/>
                    </a:cubicBezTo>
                    <a:cubicBezTo>
                      <a:pt x="2093" y="4"/>
                      <a:pt x="2092" y="5"/>
                      <a:pt x="2091" y="5"/>
                    </a:cubicBezTo>
                    <a:lnTo>
                      <a:pt x="2091" y="5"/>
                    </a:lnTo>
                    <a:cubicBezTo>
                      <a:pt x="2090" y="5"/>
                      <a:pt x="2089" y="4"/>
                      <a:pt x="2089" y="3"/>
                    </a:cubicBezTo>
                    <a:cubicBezTo>
                      <a:pt x="2089" y="2"/>
                      <a:pt x="2090" y="1"/>
                      <a:pt x="2091" y="1"/>
                    </a:cubicBezTo>
                    <a:close/>
                    <a:moveTo>
                      <a:pt x="2099" y="1"/>
                    </a:moveTo>
                    <a:lnTo>
                      <a:pt x="2099" y="1"/>
                    </a:lnTo>
                    <a:cubicBezTo>
                      <a:pt x="2100" y="1"/>
                      <a:pt x="2101" y="2"/>
                      <a:pt x="2101" y="3"/>
                    </a:cubicBezTo>
                    <a:cubicBezTo>
                      <a:pt x="2101" y="4"/>
                      <a:pt x="2100" y="5"/>
                      <a:pt x="2099" y="5"/>
                    </a:cubicBezTo>
                    <a:lnTo>
                      <a:pt x="2099" y="5"/>
                    </a:lnTo>
                    <a:cubicBezTo>
                      <a:pt x="2098" y="5"/>
                      <a:pt x="2097" y="4"/>
                      <a:pt x="2097" y="3"/>
                    </a:cubicBezTo>
                    <a:cubicBezTo>
                      <a:pt x="2097" y="2"/>
                      <a:pt x="2098" y="1"/>
                      <a:pt x="2099" y="1"/>
                    </a:cubicBezTo>
                    <a:close/>
                    <a:moveTo>
                      <a:pt x="2107" y="1"/>
                    </a:moveTo>
                    <a:lnTo>
                      <a:pt x="2107" y="1"/>
                    </a:lnTo>
                    <a:cubicBezTo>
                      <a:pt x="2108" y="1"/>
                      <a:pt x="2109" y="2"/>
                      <a:pt x="2109" y="3"/>
                    </a:cubicBezTo>
                    <a:cubicBezTo>
                      <a:pt x="2109" y="4"/>
                      <a:pt x="2108" y="5"/>
                      <a:pt x="2107" y="5"/>
                    </a:cubicBezTo>
                    <a:lnTo>
                      <a:pt x="2107" y="5"/>
                    </a:lnTo>
                    <a:cubicBezTo>
                      <a:pt x="2106" y="5"/>
                      <a:pt x="2105" y="4"/>
                      <a:pt x="2105" y="3"/>
                    </a:cubicBezTo>
                    <a:cubicBezTo>
                      <a:pt x="2105" y="2"/>
                      <a:pt x="2106" y="1"/>
                      <a:pt x="2107" y="1"/>
                    </a:cubicBezTo>
                    <a:close/>
                    <a:moveTo>
                      <a:pt x="2115" y="1"/>
                    </a:moveTo>
                    <a:lnTo>
                      <a:pt x="2115" y="1"/>
                    </a:lnTo>
                    <a:cubicBezTo>
                      <a:pt x="2116" y="1"/>
                      <a:pt x="2117" y="2"/>
                      <a:pt x="2117" y="3"/>
                    </a:cubicBezTo>
                    <a:cubicBezTo>
                      <a:pt x="2117" y="4"/>
                      <a:pt x="2116" y="5"/>
                      <a:pt x="2115" y="5"/>
                    </a:cubicBezTo>
                    <a:lnTo>
                      <a:pt x="2115" y="5"/>
                    </a:lnTo>
                    <a:cubicBezTo>
                      <a:pt x="2114" y="5"/>
                      <a:pt x="2113" y="4"/>
                      <a:pt x="2113" y="3"/>
                    </a:cubicBezTo>
                    <a:cubicBezTo>
                      <a:pt x="2113" y="2"/>
                      <a:pt x="2114" y="1"/>
                      <a:pt x="2115" y="1"/>
                    </a:cubicBezTo>
                    <a:close/>
                    <a:moveTo>
                      <a:pt x="2123" y="1"/>
                    </a:moveTo>
                    <a:lnTo>
                      <a:pt x="2123" y="1"/>
                    </a:lnTo>
                    <a:cubicBezTo>
                      <a:pt x="2124" y="1"/>
                      <a:pt x="2125" y="2"/>
                      <a:pt x="2125" y="3"/>
                    </a:cubicBezTo>
                    <a:cubicBezTo>
                      <a:pt x="2125" y="4"/>
                      <a:pt x="2124" y="5"/>
                      <a:pt x="2123" y="5"/>
                    </a:cubicBezTo>
                    <a:lnTo>
                      <a:pt x="2123" y="5"/>
                    </a:lnTo>
                    <a:cubicBezTo>
                      <a:pt x="2122" y="5"/>
                      <a:pt x="2121" y="4"/>
                      <a:pt x="2121" y="3"/>
                    </a:cubicBezTo>
                    <a:cubicBezTo>
                      <a:pt x="2121" y="2"/>
                      <a:pt x="2122" y="1"/>
                      <a:pt x="2123" y="1"/>
                    </a:cubicBezTo>
                    <a:close/>
                    <a:moveTo>
                      <a:pt x="2131" y="1"/>
                    </a:moveTo>
                    <a:lnTo>
                      <a:pt x="2131" y="1"/>
                    </a:lnTo>
                    <a:cubicBezTo>
                      <a:pt x="2132" y="1"/>
                      <a:pt x="2133" y="2"/>
                      <a:pt x="2133" y="3"/>
                    </a:cubicBezTo>
                    <a:cubicBezTo>
                      <a:pt x="2133" y="4"/>
                      <a:pt x="2132" y="5"/>
                      <a:pt x="2131" y="5"/>
                    </a:cubicBezTo>
                    <a:lnTo>
                      <a:pt x="2131" y="5"/>
                    </a:lnTo>
                    <a:cubicBezTo>
                      <a:pt x="2130" y="5"/>
                      <a:pt x="2129" y="4"/>
                      <a:pt x="2129" y="3"/>
                    </a:cubicBezTo>
                    <a:cubicBezTo>
                      <a:pt x="2129" y="2"/>
                      <a:pt x="2130" y="1"/>
                      <a:pt x="2131" y="1"/>
                    </a:cubicBezTo>
                    <a:close/>
                    <a:moveTo>
                      <a:pt x="2139" y="1"/>
                    </a:moveTo>
                    <a:lnTo>
                      <a:pt x="2139" y="1"/>
                    </a:lnTo>
                    <a:cubicBezTo>
                      <a:pt x="2140" y="1"/>
                      <a:pt x="2141" y="2"/>
                      <a:pt x="2141" y="3"/>
                    </a:cubicBezTo>
                    <a:cubicBezTo>
                      <a:pt x="2141" y="4"/>
                      <a:pt x="2140" y="5"/>
                      <a:pt x="2139" y="5"/>
                    </a:cubicBezTo>
                    <a:lnTo>
                      <a:pt x="2139" y="5"/>
                    </a:lnTo>
                    <a:cubicBezTo>
                      <a:pt x="2138" y="5"/>
                      <a:pt x="2137" y="4"/>
                      <a:pt x="2137" y="3"/>
                    </a:cubicBezTo>
                    <a:cubicBezTo>
                      <a:pt x="2137" y="2"/>
                      <a:pt x="2138" y="1"/>
                      <a:pt x="2139" y="1"/>
                    </a:cubicBezTo>
                    <a:close/>
                    <a:moveTo>
                      <a:pt x="2147" y="1"/>
                    </a:moveTo>
                    <a:lnTo>
                      <a:pt x="2147" y="1"/>
                    </a:lnTo>
                    <a:cubicBezTo>
                      <a:pt x="2148" y="1"/>
                      <a:pt x="2149" y="2"/>
                      <a:pt x="2149" y="3"/>
                    </a:cubicBezTo>
                    <a:cubicBezTo>
                      <a:pt x="2149" y="4"/>
                      <a:pt x="2148" y="5"/>
                      <a:pt x="2147" y="5"/>
                    </a:cubicBezTo>
                    <a:lnTo>
                      <a:pt x="2147" y="5"/>
                    </a:lnTo>
                    <a:cubicBezTo>
                      <a:pt x="2146" y="5"/>
                      <a:pt x="2145" y="4"/>
                      <a:pt x="2145" y="3"/>
                    </a:cubicBezTo>
                    <a:cubicBezTo>
                      <a:pt x="2145" y="2"/>
                      <a:pt x="2146" y="1"/>
                      <a:pt x="2147" y="1"/>
                    </a:cubicBezTo>
                    <a:close/>
                    <a:moveTo>
                      <a:pt x="2155" y="1"/>
                    </a:moveTo>
                    <a:lnTo>
                      <a:pt x="2155" y="1"/>
                    </a:lnTo>
                    <a:cubicBezTo>
                      <a:pt x="2156" y="1"/>
                      <a:pt x="2157" y="2"/>
                      <a:pt x="2157" y="3"/>
                    </a:cubicBezTo>
                    <a:cubicBezTo>
                      <a:pt x="2157" y="4"/>
                      <a:pt x="2156" y="5"/>
                      <a:pt x="2155" y="5"/>
                    </a:cubicBezTo>
                    <a:lnTo>
                      <a:pt x="2155" y="5"/>
                    </a:lnTo>
                    <a:cubicBezTo>
                      <a:pt x="2154" y="5"/>
                      <a:pt x="2153" y="4"/>
                      <a:pt x="2153" y="3"/>
                    </a:cubicBezTo>
                    <a:cubicBezTo>
                      <a:pt x="2153" y="2"/>
                      <a:pt x="2154" y="1"/>
                      <a:pt x="2155" y="1"/>
                    </a:cubicBezTo>
                    <a:close/>
                    <a:moveTo>
                      <a:pt x="2163" y="1"/>
                    </a:moveTo>
                    <a:lnTo>
                      <a:pt x="2163" y="1"/>
                    </a:lnTo>
                    <a:cubicBezTo>
                      <a:pt x="2164" y="1"/>
                      <a:pt x="2165" y="2"/>
                      <a:pt x="2165" y="3"/>
                    </a:cubicBezTo>
                    <a:cubicBezTo>
                      <a:pt x="2165" y="4"/>
                      <a:pt x="2164" y="5"/>
                      <a:pt x="2163" y="5"/>
                    </a:cubicBezTo>
                    <a:lnTo>
                      <a:pt x="2163" y="5"/>
                    </a:lnTo>
                    <a:cubicBezTo>
                      <a:pt x="2162" y="5"/>
                      <a:pt x="2161" y="4"/>
                      <a:pt x="2161" y="3"/>
                    </a:cubicBezTo>
                    <a:cubicBezTo>
                      <a:pt x="2161" y="2"/>
                      <a:pt x="2162" y="1"/>
                      <a:pt x="2163" y="1"/>
                    </a:cubicBezTo>
                    <a:close/>
                    <a:moveTo>
                      <a:pt x="2171" y="1"/>
                    </a:moveTo>
                    <a:lnTo>
                      <a:pt x="2171" y="1"/>
                    </a:lnTo>
                    <a:cubicBezTo>
                      <a:pt x="2172" y="1"/>
                      <a:pt x="2173" y="2"/>
                      <a:pt x="2173" y="3"/>
                    </a:cubicBezTo>
                    <a:cubicBezTo>
                      <a:pt x="2173" y="4"/>
                      <a:pt x="2172" y="5"/>
                      <a:pt x="2171" y="5"/>
                    </a:cubicBezTo>
                    <a:lnTo>
                      <a:pt x="2171" y="5"/>
                    </a:lnTo>
                    <a:cubicBezTo>
                      <a:pt x="2170" y="5"/>
                      <a:pt x="2169" y="4"/>
                      <a:pt x="2169" y="3"/>
                    </a:cubicBezTo>
                    <a:cubicBezTo>
                      <a:pt x="2169" y="2"/>
                      <a:pt x="2170" y="1"/>
                      <a:pt x="2171" y="1"/>
                    </a:cubicBezTo>
                    <a:close/>
                    <a:moveTo>
                      <a:pt x="2179" y="1"/>
                    </a:moveTo>
                    <a:lnTo>
                      <a:pt x="2179" y="1"/>
                    </a:lnTo>
                    <a:cubicBezTo>
                      <a:pt x="2180" y="1"/>
                      <a:pt x="2181" y="2"/>
                      <a:pt x="2181" y="3"/>
                    </a:cubicBezTo>
                    <a:cubicBezTo>
                      <a:pt x="2181" y="4"/>
                      <a:pt x="2180" y="5"/>
                      <a:pt x="2179" y="5"/>
                    </a:cubicBezTo>
                    <a:lnTo>
                      <a:pt x="2179" y="5"/>
                    </a:lnTo>
                    <a:cubicBezTo>
                      <a:pt x="2178" y="5"/>
                      <a:pt x="2177" y="4"/>
                      <a:pt x="2177" y="3"/>
                    </a:cubicBezTo>
                    <a:cubicBezTo>
                      <a:pt x="2177" y="2"/>
                      <a:pt x="2178" y="1"/>
                      <a:pt x="2179" y="1"/>
                    </a:cubicBezTo>
                    <a:close/>
                    <a:moveTo>
                      <a:pt x="2187" y="1"/>
                    </a:moveTo>
                    <a:lnTo>
                      <a:pt x="2187" y="1"/>
                    </a:lnTo>
                    <a:cubicBezTo>
                      <a:pt x="2188" y="1"/>
                      <a:pt x="2189" y="2"/>
                      <a:pt x="2189" y="3"/>
                    </a:cubicBezTo>
                    <a:cubicBezTo>
                      <a:pt x="2189" y="4"/>
                      <a:pt x="2188" y="5"/>
                      <a:pt x="2187" y="5"/>
                    </a:cubicBezTo>
                    <a:lnTo>
                      <a:pt x="2187" y="5"/>
                    </a:lnTo>
                    <a:cubicBezTo>
                      <a:pt x="2186" y="5"/>
                      <a:pt x="2185" y="4"/>
                      <a:pt x="2185" y="3"/>
                    </a:cubicBezTo>
                    <a:cubicBezTo>
                      <a:pt x="2185" y="2"/>
                      <a:pt x="2186" y="1"/>
                      <a:pt x="2187" y="1"/>
                    </a:cubicBezTo>
                    <a:close/>
                    <a:moveTo>
                      <a:pt x="2195" y="1"/>
                    </a:moveTo>
                    <a:lnTo>
                      <a:pt x="2195" y="1"/>
                    </a:lnTo>
                    <a:cubicBezTo>
                      <a:pt x="2196" y="1"/>
                      <a:pt x="2197" y="2"/>
                      <a:pt x="2197" y="3"/>
                    </a:cubicBezTo>
                    <a:cubicBezTo>
                      <a:pt x="2197" y="4"/>
                      <a:pt x="2196" y="5"/>
                      <a:pt x="2195" y="5"/>
                    </a:cubicBezTo>
                    <a:lnTo>
                      <a:pt x="2195" y="5"/>
                    </a:lnTo>
                    <a:cubicBezTo>
                      <a:pt x="2194" y="5"/>
                      <a:pt x="2193" y="4"/>
                      <a:pt x="2193" y="3"/>
                    </a:cubicBezTo>
                    <a:cubicBezTo>
                      <a:pt x="2193" y="2"/>
                      <a:pt x="2194" y="1"/>
                      <a:pt x="2195" y="1"/>
                    </a:cubicBezTo>
                    <a:close/>
                    <a:moveTo>
                      <a:pt x="2203" y="1"/>
                    </a:moveTo>
                    <a:lnTo>
                      <a:pt x="2203" y="1"/>
                    </a:lnTo>
                    <a:cubicBezTo>
                      <a:pt x="2204" y="1"/>
                      <a:pt x="2205" y="2"/>
                      <a:pt x="2205" y="3"/>
                    </a:cubicBezTo>
                    <a:cubicBezTo>
                      <a:pt x="2205" y="4"/>
                      <a:pt x="2204" y="5"/>
                      <a:pt x="2203" y="5"/>
                    </a:cubicBezTo>
                    <a:lnTo>
                      <a:pt x="2203" y="5"/>
                    </a:lnTo>
                    <a:cubicBezTo>
                      <a:pt x="2202" y="5"/>
                      <a:pt x="2201" y="4"/>
                      <a:pt x="2201" y="3"/>
                    </a:cubicBezTo>
                    <a:cubicBezTo>
                      <a:pt x="2201" y="2"/>
                      <a:pt x="2202" y="1"/>
                      <a:pt x="2203" y="1"/>
                    </a:cubicBezTo>
                    <a:close/>
                    <a:moveTo>
                      <a:pt x="2211" y="1"/>
                    </a:moveTo>
                    <a:lnTo>
                      <a:pt x="2211" y="1"/>
                    </a:lnTo>
                    <a:cubicBezTo>
                      <a:pt x="2212" y="1"/>
                      <a:pt x="2213" y="2"/>
                      <a:pt x="2213" y="3"/>
                    </a:cubicBezTo>
                    <a:cubicBezTo>
                      <a:pt x="2213" y="4"/>
                      <a:pt x="2212" y="5"/>
                      <a:pt x="2211" y="5"/>
                    </a:cubicBezTo>
                    <a:lnTo>
                      <a:pt x="2211" y="5"/>
                    </a:lnTo>
                    <a:cubicBezTo>
                      <a:pt x="2210" y="5"/>
                      <a:pt x="2209" y="4"/>
                      <a:pt x="2209" y="3"/>
                    </a:cubicBezTo>
                    <a:cubicBezTo>
                      <a:pt x="2209" y="2"/>
                      <a:pt x="2210" y="1"/>
                      <a:pt x="2211" y="1"/>
                    </a:cubicBezTo>
                    <a:close/>
                    <a:moveTo>
                      <a:pt x="2219" y="1"/>
                    </a:moveTo>
                    <a:lnTo>
                      <a:pt x="2219" y="1"/>
                    </a:lnTo>
                    <a:cubicBezTo>
                      <a:pt x="2220" y="1"/>
                      <a:pt x="2221" y="2"/>
                      <a:pt x="2221" y="3"/>
                    </a:cubicBezTo>
                    <a:cubicBezTo>
                      <a:pt x="2221" y="4"/>
                      <a:pt x="2220" y="5"/>
                      <a:pt x="2219" y="5"/>
                    </a:cubicBezTo>
                    <a:lnTo>
                      <a:pt x="2219" y="5"/>
                    </a:lnTo>
                    <a:cubicBezTo>
                      <a:pt x="2218" y="5"/>
                      <a:pt x="2217" y="4"/>
                      <a:pt x="2217" y="3"/>
                    </a:cubicBezTo>
                    <a:cubicBezTo>
                      <a:pt x="2217" y="2"/>
                      <a:pt x="2218" y="1"/>
                      <a:pt x="2219" y="1"/>
                    </a:cubicBezTo>
                    <a:close/>
                    <a:moveTo>
                      <a:pt x="2227" y="1"/>
                    </a:moveTo>
                    <a:lnTo>
                      <a:pt x="2227" y="1"/>
                    </a:lnTo>
                    <a:cubicBezTo>
                      <a:pt x="2228" y="1"/>
                      <a:pt x="2229" y="2"/>
                      <a:pt x="2229" y="3"/>
                    </a:cubicBezTo>
                    <a:cubicBezTo>
                      <a:pt x="2229" y="4"/>
                      <a:pt x="2228" y="5"/>
                      <a:pt x="2227" y="5"/>
                    </a:cubicBezTo>
                    <a:lnTo>
                      <a:pt x="2227" y="5"/>
                    </a:lnTo>
                    <a:cubicBezTo>
                      <a:pt x="2226" y="5"/>
                      <a:pt x="2225" y="4"/>
                      <a:pt x="2225" y="3"/>
                    </a:cubicBezTo>
                    <a:cubicBezTo>
                      <a:pt x="2225" y="2"/>
                      <a:pt x="2226" y="1"/>
                      <a:pt x="2227" y="1"/>
                    </a:cubicBezTo>
                    <a:close/>
                    <a:moveTo>
                      <a:pt x="2235" y="1"/>
                    </a:moveTo>
                    <a:lnTo>
                      <a:pt x="2235" y="1"/>
                    </a:lnTo>
                    <a:cubicBezTo>
                      <a:pt x="2236" y="1"/>
                      <a:pt x="2237" y="2"/>
                      <a:pt x="2237" y="3"/>
                    </a:cubicBezTo>
                    <a:cubicBezTo>
                      <a:pt x="2237" y="4"/>
                      <a:pt x="2236" y="5"/>
                      <a:pt x="2235" y="5"/>
                    </a:cubicBezTo>
                    <a:lnTo>
                      <a:pt x="2235" y="5"/>
                    </a:lnTo>
                    <a:cubicBezTo>
                      <a:pt x="2234" y="5"/>
                      <a:pt x="2233" y="4"/>
                      <a:pt x="2233" y="3"/>
                    </a:cubicBezTo>
                    <a:cubicBezTo>
                      <a:pt x="2233" y="2"/>
                      <a:pt x="2234" y="1"/>
                      <a:pt x="2235" y="1"/>
                    </a:cubicBezTo>
                    <a:close/>
                    <a:moveTo>
                      <a:pt x="2243" y="1"/>
                    </a:moveTo>
                    <a:lnTo>
                      <a:pt x="2243" y="1"/>
                    </a:lnTo>
                    <a:cubicBezTo>
                      <a:pt x="2244" y="1"/>
                      <a:pt x="2245" y="2"/>
                      <a:pt x="2245" y="3"/>
                    </a:cubicBezTo>
                    <a:cubicBezTo>
                      <a:pt x="2245" y="4"/>
                      <a:pt x="2244" y="5"/>
                      <a:pt x="2243" y="5"/>
                    </a:cubicBezTo>
                    <a:lnTo>
                      <a:pt x="2243" y="5"/>
                    </a:lnTo>
                    <a:cubicBezTo>
                      <a:pt x="2242" y="5"/>
                      <a:pt x="2241" y="4"/>
                      <a:pt x="2241" y="3"/>
                    </a:cubicBezTo>
                    <a:cubicBezTo>
                      <a:pt x="2241" y="2"/>
                      <a:pt x="2242" y="1"/>
                      <a:pt x="2243" y="1"/>
                    </a:cubicBezTo>
                    <a:close/>
                    <a:moveTo>
                      <a:pt x="2251" y="1"/>
                    </a:moveTo>
                    <a:lnTo>
                      <a:pt x="2251" y="1"/>
                    </a:lnTo>
                    <a:cubicBezTo>
                      <a:pt x="2252" y="1"/>
                      <a:pt x="2253" y="2"/>
                      <a:pt x="2253" y="3"/>
                    </a:cubicBezTo>
                    <a:cubicBezTo>
                      <a:pt x="2253" y="4"/>
                      <a:pt x="2252" y="5"/>
                      <a:pt x="2251" y="5"/>
                    </a:cubicBezTo>
                    <a:lnTo>
                      <a:pt x="2251" y="5"/>
                    </a:lnTo>
                    <a:cubicBezTo>
                      <a:pt x="2250" y="5"/>
                      <a:pt x="2249" y="4"/>
                      <a:pt x="2249" y="3"/>
                    </a:cubicBezTo>
                    <a:cubicBezTo>
                      <a:pt x="2249" y="2"/>
                      <a:pt x="2250" y="1"/>
                      <a:pt x="2251" y="1"/>
                    </a:cubicBezTo>
                    <a:close/>
                    <a:moveTo>
                      <a:pt x="2259" y="1"/>
                    </a:moveTo>
                    <a:lnTo>
                      <a:pt x="2259" y="1"/>
                    </a:lnTo>
                    <a:cubicBezTo>
                      <a:pt x="2260" y="1"/>
                      <a:pt x="2261" y="2"/>
                      <a:pt x="2261" y="3"/>
                    </a:cubicBezTo>
                    <a:cubicBezTo>
                      <a:pt x="2261" y="4"/>
                      <a:pt x="2260" y="5"/>
                      <a:pt x="2259" y="5"/>
                    </a:cubicBezTo>
                    <a:lnTo>
                      <a:pt x="2259" y="5"/>
                    </a:lnTo>
                    <a:cubicBezTo>
                      <a:pt x="2258" y="5"/>
                      <a:pt x="2257" y="4"/>
                      <a:pt x="2257" y="3"/>
                    </a:cubicBezTo>
                    <a:cubicBezTo>
                      <a:pt x="2257" y="2"/>
                      <a:pt x="2258" y="1"/>
                      <a:pt x="2259" y="1"/>
                    </a:cubicBezTo>
                    <a:close/>
                    <a:moveTo>
                      <a:pt x="2267" y="1"/>
                    </a:moveTo>
                    <a:lnTo>
                      <a:pt x="2267" y="1"/>
                    </a:lnTo>
                    <a:cubicBezTo>
                      <a:pt x="2268" y="1"/>
                      <a:pt x="2269" y="2"/>
                      <a:pt x="2269" y="3"/>
                    </a:cubicBezTo>
                    <a:cubicBezTo>
                      <a:pt x="2269" y="4"/>
                      <a:pt x="2268" y="5"/>
                      <a:pt x="2267" y="5"/>
                    </a:cubicBezTo>
                    <a:lnTo>
                      <a:pt x="2267" y="5"/>
                    </a:lnTo>
                    <a:cubicBezTo>
                      <a:pt x="2266" y="5"/>
                      <a:pt x="2265" y="4"/>
                      <a:pt x="2265" y="3"/>
                    </a:cubicBezTo>
                    <a:cubicBezTo>
                      <a:pt x="2265" y="2"/>
                      <a:pt x="2266" y="1"/>
                      <a:pt x="2267" y="1"/>
                    </a:cubicBezTo>
                    <a:close/>
                    <a:moveTo>
                      <a:pt x="2275" y="1"/>
                    </a:moveTo>
                    <a:lnTo>
                      <a:pt x="2275" y="1"/>
                    </a:lnTo>
                    <a:cubicBezTo>
                      <a:pt x="2276" y="1"/>
                      <a:pt x="2277" y="2"/>
                      <a:pt x="2277" y="3"/>
                    </a:cubicBezTo>
                    <a:cubicBezTo>
                      <a:pt x="2277" y="4"/>
                      <a:pt x="2276" y="5"/>
                      <a:pt x="2275" y="5"/>
                    </a:cubicBezTo>
                    <a:lnTo>
                      <a:pt x="2275" y="5"/>
                    </a:lnTo>
                    <a:cubicBezTo>
                      <a:pt x="2274" y="5"/>
                      <a:pt x="2273" y="4"/>
                      <a:pt x="2273" y="3"/>
                    </a:cubicBezTo>
                    <a:cubicBezTo>
                      <a:pt x="2273" y="2"/>
                      <a:pt x="2274" y="1"/>
                      <a:pt x="2275" y="1"/>
                    </a:cubicBezTo>
                    <a:close/>
                    <a:moveTo>
                      <a:pt x="2283" y="1"/>
                    </a:moveTo>
                    <a:lnTo>
                      <a:pt x="2283" y="1"/>
                    </a:lnTo>
                    <a:cubicBezTo>
                      <a:pt x="2284" y="1"/>
                      <a:pt x="2285" y="2"/>
                      <a:pt x="2285" y="3"/>
                    </a:cubicBezTo>
                    <a:cubicBezTo>
                      <a:pt x="2285" y="4"/>
                      <a:pt x="2284" y="5"/>
                      <a:pt x="2283" y="5"/>
                    </a:cubicBezTo>
                    <a:lnTo>
                      <a:pt x="2283" y="5"/>
                    </a:lnTo>
                    <a:cubicBezTo>
                      <a:pt x="2282" y="5"/>
                      <a:pt x="2281" y="4"/>
                      <a:pt x="2281" y="3"/>
                    </a:cubicBezTo>
                    <a:cubicBezTo>
                      <a:pt x="2281" y="2"/>
                      <a:pt x="2282" y="1"/>
                      <a:pt x="2283" y="1"/>
                    </a:cubicBezTo>
                    <a:close/>
                    <a:moveTo>
                      <a:pt x="2291" y="1"/>
                    </a:moveTo>
                    <a:lnTo>
                      <a:pt x="2291" y="1"/>
                    </a:lnTo>
                    <a:cubicBezTo>
                      <a:pt x="2292" y="1"/>
                      <a:pt x="2293" y="2"/>
                      <a:pt x="2293" y="3"/>
                    </a:cubicBezTo>
                    <a:cubicBezTo>
                      <a:pt x="2293" y="4"/>
                      <a:pt x="2292" y="5"/>
                      <a:pt x="2291" y="5"/>
                    </a:cubicBezTo>
                    <a:lnTo>
                      <a:pt x="2291" y="5"/>
                    </a:lnTo>
                    <a:cubicBezTo>
                      <a:pt x="2290" y="5"/>
                      <a:pt x="2289" y="4"/>
                      <a:pt x="2289" y="3"/>
                    </a:cubicBezTo>
                    <a:cubicBezTo>
                      <a:pt x="2289" y="2"/>
                      <a:pt x="2290" y="1"/>
                      <a:pt x="2291" y="1"/>
                    </a:cubicBezTo>
                    <a:close/>
                    <a:moveTo>
                      <a:pt x="2299" y="1"/>
                    </a:moveTo>
                    <a:lnTo>
                      <a:pt x="2299" y="1"/>
                    </a:lnTo>
                    <a:cubicBezTo>
                      <a:pt x="2300" y="1"/>
                      <a:pt x="2301" y="2"/>
                      <a:pt x="2301" y="3"/>
                    </a:cubicBezTo>
                    <a:cubicBezTo>
                      <a:pt x="2301" y="4"/>
                      <a:pt x="2300" y="5"/>
                      <a:pt x="2299" y="5"/>
                    </a:cubicBezTo>
                    <a:lnTo>
                      <a:pt x="2299" y="5"/>
                    </a:lnTo>
                    <a:cubicBezTo>
                      <a:pt x="2298" y="5"/>
                      <a:pt x="2297" y="4"/>
                      <a:pt x="2297" y="3"/>
                    </a:cubicBezTo>
                    <a:cubicBezTo>
                      <a:pt x="2297" y="2"/>
                      <a:pt x="2298" y="1"/>
                      <a:pt x="2299" y="1"/>
                    </a:cubicBezTo>
                    <a:close/>
                    <a:moveTo>
                      <a:pt x="2307" y="1"/>
                    </a:moveTo>
                    <a:lnTo>
                      <a:pt x="2307" y="1"/>
                    </a:lnTo>
                    <a:cubicBezTo>
                      <a:pt x="2308" y="1"/>
                      <a:pt x="2309" y="2"/>
                      <a:pt x="2309" y="3"/>
                    </a:cubicBezTo>
                    <a:cubicBezTo>
                      <a:pt x="2309" y="4"/>
                      <a:pt x="2308" y="5"/>
                      <a:pt x="2307" y="5"/>
                    </a:cubicBezTo>
                    <a:lnTo>
                      <a:pt x="2307" y="5"/>
                    </a:lnTo>
                    <a:cubicBezTo>
                      <a:pt x="2306" y="5"/>
                      <a:pt x="2305" y="4"/>
                      <a:pt x="2305" y="3"/>
                    </a:cubicBezTo>
                    <a:cubicBezTo>
                      <a:pt x="2305" y="2"/>
                      <a:pt x="2306" y="1"/>
                      <a:pt x="2307" y="1"/>
                    </a:cubicBezTo>
                    <a:close/>
                    <a:moveTo>
                      <a:pt x="2315" y="1"/>
                    </a:moveTo>
                    <a:lnTo>
                      <a:pt x="2315" y="1"/>
                    </a:lnTo>
                    <a:cubicBezTo>
                      <a:pt x="2316" y="1"/>
                      <a:pt x="2317" y="2"/>
                      <a:pt x="2317" y="3"/>
                    </a:cubicBezTo>
                    <a:cubicBezTo>
                      <a:pt x="2317" y="4"/>
                      <a:pt x="2316" y="5"/>
                      <a:pt x="2315" y="5"/>
                    </a:cubicBezTo>
                    <a:lnTo>
                      <a:pt x="2315" y="5"/>
                    </a:lnTo>
                    <a:cubicBezTo>
                      <a:pt x="2314" y="5"/>
                      <a:pt x="2313" y="4"/>
                      <a:pt x="2313" y="3"/>
                    </a:cubicBezTo>
                    <a:cubicBezTo>
                      <a:pt x="2313" y="2"/>
                      <a:pt x="2314" y="1"/>
                      <a:pt x="2315" y="1"/>
                    </a:cubicBezTo>
                    <a:close/>
                    <a:moveTo>
                      <a:pt x="2323" y="1"/>
                    </a:moveTo>
                    <a:lnTo>
                      <a:pt x="2323" y="1"/>
                    </a:lnTo>
                    <a:cubicBezTo>
                      <a:pt x="2324" y="1"/>
                      <a:pt x="2325" y="2"/>
                      <a:pt x="2325" y="3"/>
                    </a:cubicBezTo>
                    <a:cubicBezTo>
                      <a:pt x="2325" y="4"/>
                      <a:pt x="2324" y="5"/>
                      <a:pt x="2323" y="5"/>
                    </a:cubicBezTo>
                    <a:lnTo>
                      <a:pt x="2323" y="5"/>
                    </a:lnTo>
                    <a:cubicBezTo>
                      <a:pt x="2322" y="5"/>
                      <a:pt x="2321" y="4"/>
                      <a:pt x="2321" y="3"/>
                    </a:cubicBezTo>
                    <a:cubicBezTo>
                      <a:pt x="2321" y="2"/>
                      <a:pt x="2322" y="1"/>
                      <a:pt x="2323" y="1"/>
                    </a:cubicBezTo>
                    <a:close/>
                    <a:moveTo>
                      <a:pt x="2331" y="1"/>
                    </a:moveTo>
                    <a:lnTo>
                      <a:pt x="2331" y="1"/>
                    </a:lnTo>
                    <a:cubicBezTo>
                      <a:pt x="2332" y="1"/>
                      <a:pt x="2333" y="2"/>
                      <a:pt x="2333" y="3"/>
                    </a:cubicBezTo>
                    <a:cubicBezTo>
                      <a:pt x="2333" y="4"/>
                      <a:pt x="2332" y="5"/>
                      <a:pt x="2331" y="5"/>
                    </a:cubicBezTo>
                    <a:lnTo>
                      <a:pt x="2331" y="5"/>
                    </a:lnTo>
                    <a:cubicBezTo>
                      <a:pt x="2330" y="5"/>
                      <a:pt x="2329" y="4"/>
                      <a:pt x="2329" y="3"/>
                    </a:cubicBezTo>
                    <a:cubicBezTo>
                      <a:pt x="2329" y="2"/>
                      <a:pt x="2330" y="1"/>
                      <a:pt x="2331" y="1"/>
                    </a:cubicBezTo>
                    <a:close/>
                    <a:moveTo>
                      <a:pt x="2339" y="1"/>
                    </a:moveTo>
                    <a:lnTo>
                      <a:pt x="2339" y="1"/>
                    </a:lnTo>
                    <a:cubicBezTo>
                      <a:pt x="2340" y="1"/>
                      <a:pt x="2341" y="2"/>
                      <a:pt x="2341" y="3"/>
                    </a:cubicBezTo>
                    <a:cubicBezTo>
                      <a:pt x="2341" y="4"/>
                      <a:pt x="2340" y="5"/>
                      <a:pt x="2339" y="5"/>
                    </a:cubicBezTo>
                    <a:lnTo>
                      <a:pt x="2339" y="5"/>
                    </a:lnTo>
                    <a:cubicBezTo>
                      <a:pt x="2338" y="5"/>
                      <a:pt x="2337" y="4"/>
                      <a:pt x="2337" y="3"/>
                    </a:cubicBezTo>
                    <a:cubicBezTo>
                      <a:pt x="2337" y="2"/>
                      <a:pt x="2338" y="1"/>
                      <a:pt x="2339" y="1"/>
                    </a:cubicBezTo>
                    <a:close/>
                    <a:moveTo>
                      <a:pt x="2347" y="1"/>
                    </a:moveTo>
                    <a:lnTo>
                      <a:pt x="2347" y="1"/>
                    </a:lnTo>
                    <a:cubicBezTo>
                      <a:pt x="2348" y="1"/>
                      <a:pt x="2349" y="2"/>
                      <a:pt x="2349" y="3"/>
                    </a:cubicBezTo>
                    <a:cubicBezTo>
                      <a:pt x="2349" y="4"/>
                      <a:pt x="2348" y="5"/>
                      <a:pt x="2347" y="5"/>
                    </a:cubicBezTo>
                    <a:lnTo>
                      <a:pt x="2347" y="5"/>
                    </a:lnTo>
                    <a:cubicBezTo>
                      <a:pt x="2346" y="5"/>
                      <a:pt x="2345" y="4"/>
                      <a:pt x="2345" y="3"/>
                    </a:cubicBezTo>
                    <a:cubicBezTo>
                      <a:pt x="2345" y="2"/>
                      <a:pt x="2346" y="1"/>
                      <a:pt x="2347" y="1"/>
                    </a:cubicBezTo>
                    <a:close/>
                    <a:moveTo>
                      <a:pt x="2355" y="1"/>
                    </a:moveTo>
                    <a:lnTo>
                      <a:pt x="2355" y="1"/>
                    </a:lnTo>
                    <a:cubicBezTo>
                      <a:pt x="2356" y="1"/>
                      <a:pt x="2357" y="2"/>
                      <a:pt x="2357" y="3"/>
                    </a:cubicBezTo>
                    <a:cubicBezTo>
                      <a:pt x="2357" y="4"/>
                      <a:pt x="2356" y="5"/>
                      <a:pt x="2355" y="5"/>
                    </a:cubicBezTo>
                    <a:lnTo>
                      <a:pt x="2355" y="5"/>
                    </a:lnTo>
                    <a:cubicBezTo>
                      <a:pt x="2354" y="5"/>
                      <a:pt x="2353" y="4"/>
                      <a:pt x="2353" y="3"/>
                    </a:cubicBezTo>
                    <a:cubicBezTo>
                      <a:pt x="2353" y="2"/>
                      <a:pt x="2354" y="1"/>
                      <a:pt x="2355" y="1"/>
                    </a:cubicBezTo>
                    <a:close/>
                    <a:moveTo>
                      <a:pt x="2363" y="1"/>
                    </a:moveTo>
                    <a:lnTo>
                      <a:pt x="2363" y="1"/>
                    </a:lnTo>
                    <a:cubicBezTo>
                      <a:pt x="2364" y="1"/>
                      <a:pt x="2365" y="2"/>
                      <a:pt x="2365" y="3"/>
                    </a:cubicBezTo>
                    <a:cubicBezTo>
                      <a:pt x="2365" y="4"/>
                      <a:pt x="2364" y="5"/>
                      <a:pt x="2363" y="5"/>
                    </a:cubicBezTo>
                    <a:lnTo>
                      <a:pt x="2363" y="5"/>
                    </a:lnTo>
                    <a:cubicBezTo>
                      <a:pt x="2362" y="5"/>
                      <a:pt x="2361" y="4"/>
                      <a:pt x="2361" y="3"/>
                    </a:cubicBezTo>
                    <a:cubicBezTo>
                      <a:pt x="2361" y="2"/>
                      <a:pt x="2362" y="1"/>
                      <a:pt x="2363" y="1"/>
                    </a:cubicBezTo>
                    <a:close/>
                    <a:moveTo>
                      <a:pt x="2371" y="1"/>
                    </a:moveTo>
                    <a:lnTo>
                      <a:pt x="2371" y="1"/>
                    </a:lnTo>
                    <a:cubicBezTo>
                      <a:pt x="2372" y="1"/>
                      <a:pt x="2373" y="2"/>
                      <a:pt x="2373" y="3"/>
                    </a:cubicBezTo>
                    <a:cubicBezTo>
                      <a:pt x="2373" y="4"/>
                      <a:pt x="2372" y="5"/>
                      <a:pt x="2371" y="5"/>
                    </a:cubicBezTo>
                    <a:lnTo>
                      <a:pt x="2371" y="5"/>
                    </a:lnTo>
                    <a:cubicBezTo>
                      <a:pt x="2370" y="5"/>
                      <a:pt x="2369" y="4"/>
                      <a:pt x="2369" y="3"/>
                    </a:cubicBezTo>
                    <a:cubicBezTo>
                      <a:pt x="2369" y="2"/>
                      <a:pt x="2370" y="1"/>
                      <a:pt x="2371" y="1"/>
                    </a:cubicBezTo>
                    <a:close/>
                    <a:moveTo>
                      <a:pt x="2379" y="1"/>
                    </a:moveTo>
                    <a:lnTo>
                      <a:pt x="2379" y="1"/>
                    </a:lnTo>
                    <a:cubicBezTo>
                      <a:pt x="2380" y="1"/>
                      <a:pt x="2381" y="2"/>
                      <a:pt x="2381" y="3"/>
                    </a:cubicBezTo>
                    <a:cubicBezTo>
                      <a:pt x="2381" y="4"/>
                      <a:pt x="2380" y="5"/>
                      <a:pt x="2379" y="5"/>
                    </a:cubicBezTo>
                    <a:lnTo>
                      <a:pt x="2379" y="5"/>
                    </a:lnTo>
                    <a:cubicBezTo>
                      <a:pt x="2378" y="5"/>
                      <a:pt x="2377" y="4"/>
                      <a:pt x="2377" y="3"/>
                    </a:cubicBezTo>
                    <a:cubicBezTo>
                      <a:pt x="2377" y="2"/>
                      <a:pt x="2378" y="1"/>
                      <a:pt x="2379" y="1"/>
                    </a:cubicBezTo>
                    <a:close/>
                    <a:moveTo>
                      <a:pt x="2387" y="1"/>
                    </a:moveTo>
                    <a:lnTo>
                      <a:pt x="2387" y="1"/>
                    </a:lnTo>
                    <a:cubicBezTo>
                      <a:pt x="2388" y="1"/>
                      <a:pt x="2389" y="2"/>
                      <a:pt x="2389" y="3"/>
                    </a:cubicBezTo>
                    <a:cubicBezTo>
                      <a:pt x="2389" y="4"/>
                      <a:pt x="2388" y="5"/>
                      <a:pt x="2387" y="5"/>
                    </a:cubicBezTo>
                    <a:lnTo>
                      <a:pt x="2387" y="5"/>
                    </a:lnTo>
                    <a:cubicBezTo>
                      <a:pt x="2386" y="5"/>
                      <a:pt x="2385" y="4"/>
                      <a:pt x="2385" y="3"/>
                    </a:cubicBezTo>
                    <a:cubicBezTo>
                      <a:pt x="2385" y="2"/>
                      <a:pt x="2386" y="1"/>
                      <a:pt x="2387" y="1"/>
                    </a:cubicBezTo>
                    <a:close/>
                    <a:moveTo>
                      <a:pt x="2395" y="1"/>
                    </a:moveTo>
                    <a:lnTo>
                      <a:pt x="2395" y="1"/>
                    </a:lnTo>
                    <a:cubicBezTo>
                      <a:pt x="2396" y="1"/>
                      <a:pt x="2397" y="2"/>
                      <a:pt x="2397" y="3"/>
                    </a:cubicBezTo>
                    <a:cubicBezTo>
                      <a:pt x="2397" y="4"/>
                      <a:pt x="2396" y="5"/>
                      <a:pt x="2395" y="5"/>
                    </a:cubicBezTo>
                    <a:lnTo>
                      <a:pt x="2395" y="5"/>
                    </a:lnTo>
                    <a:cubicBezTo>
                      <a:pt x="2394" y="5"/>
                      <a:pt x="2393" y="4"/>
                      <a:pt x="2393" y="3"/>
                    </a:cubicBezTo>
                    <a:cubicBezTo>
                      <a:pt x="2393" y="2"/>
                      <a:pt x="2394" y="1"/>
                      <a:pt x="2395" y="1"/>
                    </a:cubicBezTo>
                    <a:close/>
                    <a:moveTo>
                      <a:pt x="2403" y="1"/>
                    </a:moveTo>
                    <a:lnTo>
                      <a:pt x="2403" y="1"/>
                    </a:lnTo>
                    <a:cubicBezTo>
                      <a:pt x="2404" y="1"/>
                      <a:pt x="2405" y="2"/>
                      <a:pt x="2405" y="3"/>
                    </a:cubicBezTo>
                    <a:cubicBezTo>
                      <a:pt x="2405" y="4"/>
                      <a:pt x="2404" y="5"/>
                      <a:pt x="2403" y="5"/>
                    </a:cubicBezTo>
                    <a:lnTo>
                      <a:pt x="2403" y="5"/>
                    </a:lnTo>
                    <a:cubicBezTo>
                      <a:pt x="2402" y="5"/>
                      <a:pt x="2401" y="4"/>
                      <a:pt x="2401" y="3"/>
                    </a:cubicBezTo>
                    <a:cubicBezTo>
                      <a:pt x="2401" y="2"/>
                      <a:pt x="2402" y="1"/>
                      <a:pt x="2403" y="1"/>
                    </a:cubicBezTo>
                    <a:close/>
                    <a:moveTo>
                      <a:pt x="2411" y="1"/>
                    </a:moveTo>
                    <a:lnTo>
                      <a:pt x="2411" y="1"/>
                    </a:lnTo>
                    <a:cubicBezTo>
                      <a:pt x="2412" y="1"/>
                      <a:pt x="2413" y="2"/>
                      <a:pt x="2413" y="3"/>
                    </a:cubicBezTo>
                    <a:cubicBezTo>
                      <a:pt x="2413" y="4"/>
                      <a:pt x="2412" y="5"/>
                      <a:pt x="2411" y="5"/>
                    </a:cubicBezTo>
                    <a:lnTo>
                      <a:pt x="2411" y="5"/>
                    </a:lnTo>
                    <a:cubicBezTo>
                      <a:pt x="2410" y="5"/>
                      <a:pt x="2409" y="4"/>
                      <a:pt x="2409" y="3"/>
                    </a:cubicBezTo>
                    <a:cubicBezTo>
                      <a:pt x="2409" y="2"/>
                      <a:pt x="2410" y="1"/>
                      <a:pt x="2411" y="1"/>
                    </a:cubicBezTo>
                    <a:close/>
                    <a:moveTo>
                      <a:pt x="2419" y="1"/>
                    </a:moveTo>
                    <a:lnTo>
                      <a:pt x="2419" y="1"/>
                    </a:lnTo>
                    <a:cubicBezTo>
                      <a:pt x="2420" y="1"/>
                      <a:pt x="2421" y="2"/>
                      <a:pt x="2421" y="3"/>
                    </a:cubicBezTo>
                    <a:cubicBezTo>
                      <a:pt x="2421" y="4"/>
                      <a:pt x="2420" y="5"/>
                      <a:pt x="2419" y="5"/>
                    </a:cubicBezTo>
                    <a:lnTo>
                      <a:pt x="2419" y="5"/>
                    </a:lnTo>
                    <a:cubicBezTo>
                      <a:pt x="2418" y="5"/>
                      <a:pt x="2417" y="4"/>
                      <a:pt x="2417" y="3"/>
                    </a:cubicBezTo>
                    <a:cubicBezTo>
                      <a:pt x="2417" y="2"/>
                      <a:pt x="2418" y="1"/>
                      <a:pt x="2419" y="1"/>
                    </a:cubicBezTo>
                    <a:close/>
                    <a:moveTo>
                      <a:pt x="2427" y="1"/>
                    </a:moveTo>
                    <a:lnTo>
                      <a:pt x="2427" y="1"/>
                    </a:lnTo>
                    <a:cubicBezTo>
                      <a:pt x="2428" y="1"/>
                      <a:pt x="2429" y="2"/>
                      <a:pt x="2429" y="3"/>
                    </a:cubicBezTo>
                    <a:cubicBezTo>
                      <a:pt x="2429" y="4"/>
                      <a:pt x="2428" y="5"/>
                      <a:pt x="2427" y="5"/>
                    </a:cubicBezTo>
                    <a:lnTo>
                      <a:pt x="2427" y="5"/>
                    </a:lnTo>
                    <a:cubicBezTo>
                      <a:pt x="2426" y="5"/>
                      <a:pt x="2425" y="4"/>
                      <a:pt x="2425" y="3"/>
                    </a:cubicBezTo>
                    <a:cubicBezTo>
                      <a:pt x="2425" y="2"/>
                      <a:pt x="2426" y="1"/>
                      <a:pt x="2427" y="1"/>
                    </a:cubicBezTo>
                    <a:close/>
                    <a:moveTo>
                      <a:pt x="2435" y="1"/>
                    </a:moveTo>
                    <a:lnTo>
                      <a:pt x="2435" y="1"/>
                    </a:lnTo>
                    <a:cubicBezTo>
                      <a:pt x="2436" y="1"/>
                      <a:pt x="2437" y="2"/>
                      <a:pt x="2437" y="3"/>
                    </a:cubicBezTo>
                    <a:cubicBezTo>
                      <a:pt x="2437" y="4"/>
                      <a:pt x="2436" y="5"/>
                      <a:pt x="2435" y="5"/>
                    </a:cubicBezTo>
                    <a:lnTo>
                      <a:pt x="2435" y="5"/>
                    </a:lnTo>
                    <a:cubicBezTo>
                      <a:pt x="2434" y="5"/>
                      <a:pt x="2433" y="4"/>
                      <a:pt x="2433" y="3"/>
                    </a:cubicBezTo>
                    <a:cubicBezTo>
                      <a:pt x="2433" y="2"/>
                      <a:pt x="2434" y="1"/>
                      <a:pt x="2435" y="1"/>
                    </a:cubicBezTo>
                    <a:close/>
                    <a:moveTo>
                      <a:pt x="2443" y="1"/>
                    </a:moveTo>
                    <a:lnTo>
                      <a:pt x="2443" y="1"/>
                    </a:lnTo>
                    <a:cubicBezTo>
                      <a:pt x="2444" y="1"/>
                      <a:pt x="2445" y="2"/>
                      <a:pt x="2445" y="3"/>
                    </a:cubicBezTo>
                    <a:cubicBezTo>
                      <a:pt x="2445" y="4"/>
                      <a:pt x="2444" y="5"/>
                      <a:pt x="2443" y="5"/>
                    </a:cubicBezTo>
                    <a:lnTo>
                      <a:pt x="2443" y="5"/>
                    </a:lnTo>
                    <a:cubicBezTo>
                      <a:pt x="2442" y="5"/>
                      <a:pt x="2441" y="4"/>
                      <a:pt x="2441" y="3"/>
                    </a:cubicBezTo>
                    <a:cubicBezTo>
                      <a:pt x="2441" y="2"/>
                      <a:pt x="2442" y="1"/>
                      <a:pt x="2443" y="1"/>
                    </a:cubicBezTo>
                    <a:close/>
                    <a:moveTo>
                      <a:pt x="2451" y="1"/>
                    </a:moveTo>
                    <a:lnTo>
                      <a:pt x="2451" y="1"/>
                    </a:lnTo>
                    <a:cubicBezTo>
                      <a:pt x="2452" y="1"/>
                      <a:pt x="2453" y="2"/>
                      <a:pt x="2453" y="3"/>
                    </a:cubicBezTo>
                    <a:cubicBezTo>
                      <a:pt x="2453" y="4"/>
                      <a:pt x="2452" y="5"/>
                      <a:pt x="2451" y="5"/>
                    </a:cubicBezTo>
                    <a:lnTo>
                      <a:pt x="2451" y="5"/>
                    </a:lnTo>
                    <a:cubicBezTo>
                      <a:pt x="2450" y="5"/>
                      <a:pt x="2449" y="4"/>
                      <a:pt x="2449" y="3"/>
                    </a:cubicBezTo>
                    <a:cubicBezTo>
                      <a:pt x="2449" y="2"/>
                      <a:pt x="2450" y="1"/>
                      <a:pt x="2451" y="1"/>
                    </a:cubicBezTo>
                    <a:close/>
                    <a:moveTo>
                      <a:pt x="2459" y="1"/>
                    </a:moveTo>
                    <a:lnTo>
                      <a:pt x="2459" y="1"/>
                    </a:lnTo>
                    <a:cubicBezTo>
                      <a:pt x="2460" y="1"/>
                      <a:pt x="2461" y="2"/>
                      <a:pt x="2461" y="3"/>
                    </a:cubicBezTo>
                    <a:cubicBezTo>
                      <a:pt x="2461" y="4"/>
                      <a:pt x="2460" y="5"/>
                      <a:pt x="2459" y="5"/>
                    </a:cubicBezTo>
                    <a:lnTo>
                      <a:pt x="2459" y="5"/>
                    </a:lnTo>
                    <a:cubicBezTo>
                      <a:pt x="2458" y="5"/>
                      <a:pt x="2457" y="4"/>
                      <a:pt x="2457" y="3"/>
                    </a:cubicBezTo>
                    <a:cubicBezTo>
                      <a:pt x="2457" y="2"/>
                      <a:pt x="2458" y="1"/>
                      <a:pt x="2459" y="1"/>
                    </a:cubicBezTo>
                    <a:close/>
                    <a:moveTo>
                      <a:pt x="2467" y="1"/>
                    </a:moveTo>
                    <a:lnTo>
                      <a:pt x="2467" y="1"/>
                    </a:lnTo>
                    <a:cubicBezTo>
                      <a:pt x="2468" y="1"/>
                      <a:pt x="2469" y="2"/>
                      <a:pt x="2469" y="3"/>
                    </a:cubicBezTo>
                    <a:cubicBezTo>
                      <a:pt x="2469" y="4"/>
                      <a:pt x="2468" y="5"/>
                      <a:pt x="2467" y="5"/>
                    </a:cubicBezTo>
                    <a:lnTo>
                      <a:pt x="2467" y="5"/>
                    </a:lnTo>
                    <a:cubicBezTo>
                      <a:pt x="2466" y="5"/>
                      <a:pt x="2465" y="4"/>
                      <a:pt x="2465" y="3"/>
                    </a:cubicBezTo>
                    <a:cubicBezTo>
                      <a:pt x="2465" y="2"/>
                      <a:pt x="2466" y="1"/>
                      <a:pt x="2467" y="1"/>
                    </a:cubicBezTo>
                    <a:close/>
                    <a:moveTo>
                      <a:pt x="2475" y="1"/>
                    </a:moveTo>
                    <a:lnTo>
                      <a:pt x="2475" y="1"/>
                    </a:lnTo>
                    <a:cubicBezTo>
                      <a:pt x="2476" y="1"/>
                      <a:pt x="2477" y="2"/>
                      <a:pt x="2477" y="3"/>
                    </a:cubicBezTo>
                    <a:cubicBezTo>
                      <a:pt x="2477" y="4"/>
                      <a:pt x="2476" y="5"/>
                      <a:pt x="2475" y="5"/>
                    </a:cubicBezTo>
                    <a:lnTo>
                      <a:pt x="2475" y="5"/>
                    </a:lnTo>
                    <a:cubicBezTo>
                      <a:pt x="2474" y="5"/>
                      <a:pt x="2473" y="4"/>
                      <a:pt x="2473" y="3"/>
                    </a:cubicBezTo>
                    <a:cubicBezTo>
                      <a:pt x="2473" y="2"/>
                      <a:pt x="2474" y="1"/>
                      <a:pt x="2475" y="1"/>
                    </a:cubicBezTo>
                    <a:close/>
                    <a:moveTo>
                      <a:pt x="2483" y="1"/>
                    </a:moveTo>
                    <a:lnTo>
                      <a:pt x="2483" y="1"/>
                    </a:lnTo>
                    <a:cubicBezTo>
                      <a:pt x="2484" y="1"/>
                      <a:pt x="2485" y="2"/>
                      <a:pt x="2485" y="3"/>
                    </a:cubicBezTo>
                    <a:cubicBezTo>
                      <a:pt x="2485" y="4"/>
                      <a:pt x="2484" y="5"/>
                      <a:pt x="2483" y="5"/>
                    </a:cubicBezTo>
                    <a:lnTo>
                      <a:pt x="2483" y="5"/>
                    </a:lnTo>
                    <a:cubicBezTo>
                      <a:pt x="2482" y="5"/>
                      <a:pt x="2481" y="4"/>
                      <a:pt x="2481" y="3"/>
                    </a:cubicBezTo>
                    <a:cubicBezTo>
                      <a:pt x="2481" y="2"/>
                      <a:pt x="2482" y="1"/>
                      <a:pt x="2483" y="1"/>
                    </a:cubicBezTo>
                    <a:close/>
                    <a:moveTo>
                      <a:pt x="2491" y="1"/>
                    </a:moveTo>
                    <a:lnTo>
                      <a:pt x="2491" y="1"/>
                    </a:lnTo>
                    <a:cubicBezTo>
                      <a:pt x="2492" y="1"/>
                      <a:pt x="2493" y="2"/>
                      <a:pt x="2493" y="3"/>
                    </a:cubicBezTo>
                    <a:cubicBezTo>
                      <a:pt x="2493" y="4"/>
                      <a:pt x="2492" y="5"/>
                      <a:pt x="2491" y="5"/>
                    </a:cubicBezTo>
                    <a:lnTo>
                      <a:pt x="2491" y="5"/>
                    </a:lnTo>
                    <a:cubicBezTo>
                      <a:pt x="2490" y="5"/>
                      <a:pt x="2489" y="4"/>
                      <a:pt x="2489" y="3"/>
                    </a:cubicBezTo>
                    <a:cubicBezTo>
                      <a:pt x="2489" y="2"/>
                      <a:pt x="2490" y="1"/>
                      <a:pt x="2491" y="1"/>
                    </a:cubicBezTo>
                    <a:close/>
                    <a:moveTo>
                      <a:pt x="2499" y="1"/>
                    </a:moveTo>
                    <a:lnTo>
                      <a:pt x="2499" y="1"/>
                    </a:lnTo>
                    <a:cubicBezTo>
                      <a:pt x="2500" y="1"/>
                      <a:pt x="2501" y="2"/>
                      <a:pt x="2501" y="3"/>
                    </a:cubicBezTo>
                    <a:cubicBezTo>
                      <a:pt x="2501" y="4"/>
                      <a:pt x="2500" y="5"/>
                      <a:pt x="2499" y="5"/>
                    </a:cubicBezTo>
                    <a:lnTo>
                      <a:pt x="2499" y="5"/>
                    </a:lnTo>
                    <a:cubicBezTo>
                      <a:pt x="2498" y="5"/>
                      <a:pt x="2497" y="4"/>
                      <a:pt x="2497" y="3"/>
                    </a:cubicBezTo>
                    <a:cubicBezTo>
                      <a:pt x="2497" y="2"/>
                      <a:pt x="2498" y="1"/>
                      <a:pt x="2499" y="1"/>
                    </a:cubicBezTo>
                    <a:close/>
                    <a:moveTo>
                      <a:pt x="2507" y="1"/>
                    </a:moveTo>
                    <a:lnTo>
                      <a:pt x="2507" y="1"/>
                    </a:lnTo>
                    <a:cubicBezTo>
                      <a:pt x="2508" y="1"/>
                      <a:pt x="2509" y="2"/>
                      <a:pt x="2509" y="3"/>
                    </a:cubicBezTo>
                    <a:cubicBezTo>
                      <a:pt x="2509" y="4"/>
                      <a:pt x="2508" y="5"/>
                      <a:pt x="2507" y="5"/>
                    </a:cubicBezTo>
                    <a:lnTo>
                      <a:pt x="2507" y="5"/>
                    </a:lnTo>
                    <a:cubicBezTo>
                      <a:pt x="2506" y="5"/>
                      <a:pt x="2505" y="4"/>
                      <a:pt x="2505" y="3"/>
                    </a:cubicBezTo>
                    <a:cubicBezTo>
                      <a:pt x="2505" y="2"/>
                      <a:pt x="2506" y="1"/>
                      <a:pt x="2507" y="1"/>
                    </a:cubicBezTo>
                    <a:close/>
                    <a:moveTo>
                      <a:pt x="2515" y="1"/>
                    </a:moveTo>
                    <a:lnTo>
                      <a:pt x="2515" y="1"/>
                    </a:lnTo>
                    <a:cubicBezTo>
                      <a:pt x="2516" y="1"/>
                      <a:pt x="2517" y="2"/>
                      <a:pt x="2517" y="3"/>
                    </a:cubicBezTo>
                    <a:cubicBezTo>
                      <a:pt x="2517" y="4"/>
                      <a:pt x="2516" y="5"/>
                      <a:pt x="2515" y="5"/>
                    </a:cubicBezTo>
                    <a:lnTo>
                      <a:pt x="2515" y="5"/>
                    </a:lnTo>
                    <a:cubicBezTo>
                      <a:pt x="2514" y="5"/>
                      <a:pt x="2513" y="4"/>
                      <a:pt x="2513" y="3"/>
                    </a:cubicBezTo>
                    <a:cubicBezTo>
                      <a:pt x="2513" y="2"/>
                      <a:pt x="2514" y="1"/>
                      <a:pt x="2515" y="1"/>
                    </a:cubicBezTo>
                    <a:close/>
                    <a:moveTo>
                      <a:pt x="2523" y="1"/>
                    </a:moveTo>
                    <a:lnTo>
                      <a:pt x="2523" y="1"/>
                    </a:lnTo>
                    <a:cubicBezTo>
                      <a:pt x="2524" y="1"/>
                      <a:pt x="2525" y="2"/>
                      <a:pt x="2525" y="3"/>
                    </a:cubicBezTo>
                    <a:cubicBezTo>
                      <a:pt x="2525" y="4"/>
                      <a:pt x="2524" y="5"/>
                      <a:pt x="2523" y="5"/>
                    </a:cubicBezTo>
                    <a:lnTo>
                      <a:pt x="2523" y="5"/>
                    </a:lnTo>
                    <a:cubicBezTo>
                      <a:pt x="2522" y="5"/>
                      <a:pt x="2521" y="4"/>
                      <a:pt x="2521" y="3"/>
                    </a:cubicBezTo>
                    <a:cubicBezTo>
                      <a:pt x="2521" y="2"/>
                      <a:pt x="2522" y="1"/>
                      <a:pt x="2523" y="1"/>
                    </a:cubicBezTo>
                    <a:close/>
                    <a:moveTo>
                      <a:pt x="2531" y="1"/>
                    </a:moveTo>
                    <a:lnTo>
                      <a:pt x="2531" y="1"/>
                    </a:lnTo>
                    <a:cubicBezTo>
                      <a:pt x="2532" y="1"/>
                      <a:pt x="2533" y="2"/>
                      <a:pt x="2533" y="3"/>
                    </a:cubicBezTo>
                    <a:cubicBezTo>
                      <a:pt x="2533" y="4"/>
                      <a:pt x="2532" y="5"/>
                      <a:pt x="2531" y="5"/>
                    </a:cubicBezTo>
                    <a:lnTo>
                      <a:pt x="2531" y="5"/>
                    </a:lnTo>
                    <a:cubicBezTo>
                      <a:pt x="2530" y="5"/>
                      <a:pt x="2529" y="4"/>
                      <a:pt x="2529" y="3"/>
                    </a:cubicBezTo>
                    <a:cubicBezTo>
                      <a:pt x="2529" y="2"/>
                      <a:pt x="2530" y="1"/>
                      <a:pt x="2531" y="1"/>
                    </a:cubicBezTo>
                    <a:close/>
                    <a:moveTo>
                      <a:pt x="2539" y="1"/>
                    </a:moveTo>
                    <a:lnTo>
                      <a:pt x="2539" y="1"/>
                    </a:lnTo>
                    <a:cubicBezTo>
                      <a:pt x="2540" y="1"/>
                      <a:pt x="2541" y="2"/>
                      <a:pt x="2541" y="3"/>
                    </a:cubicBezTo>
                    <a:cubicBezTo>
                      <a:pt x="2541" y="4"/>
                      <a:pt x="2540" y="5"/>
                      <a:pt x="2539" y="5"/>
                    </a:cubicBezTo>
                    <a:lnTo>
                      <a:pt x="2539" y="5"/>
                    </a:lnTo>
                    <a:cubicBezTo>
                      <a:pt x="2538" y="5"/>
                      <a:pt x="2537" y="4"/>
                      <a:pt x="2537" y="3"/>
                    </a:cubicBezTo>
                    <a:cubicBezTo>
                      <a:pt x="2537" y="2"/>
                      <a:pt x="2538" y="1"/>
                      <a:pt x="2539" y="1"/>
                    </a:cubicBezTo>
                    <a:close/>
                    <a:moveTo>
                      <a:pt x="2547" y="1"/>
                    </a:moveTo>
                    <a:lnTo>
                      <a:pt x="2547" y="1"/>
                    </a:lnTo>
                    <a:cubicBezTo>
                      <a:pt x="2548" y="1"/>
                      <a:pt x="2549" y="2"/>
                      <a:pt x="2549" y="3"/>
                    </a:cubicBezTo>
                    <a:cubicBezTo>
                      <a:pt x="2549" y="4"/>
                      <a:pt x="2548" y="5"/>
                      <a:pt x="2547" y="5"/>
                    </a:cubicBezTo>
                    <a:lnTo>
                      <a:pt x="2547" y="5"/>
                    </a:lnTo>
                    <a:cubicBezTo>
                      <a:pt x="2546" y="5"/>
                      <a:pt x="2545" y="4"/>
                      <a:pt x="2545" y="3"/>
                    </a:cubicBezTo>
                    <a:cubicBezTo>
                      <a:pt x="2545" y="2"/>
                      <a:pt x="2546" y="1"/>
                      <a:pt x="2547" y="1"/>
                    </a:cubicBezTo>
                    <a:close/>
                    <a:moveTo>
                      <a:pt x="2555" y="1"/>
                    </a:moveTo>
                    <a:lnTo>
                      <a:pt x="2555" y="1"/>
                    </a:lnTo>
                    <a:cubicBezTo>
                      <a:pt x="2556" y="1"/>
                      <a:pt x="2557" y="2"/>
                      <a:pt x="2557" y="3"/>
                    </a:cubicBezTo>
                    <a:cubicBezTo>
                      <a:pt x="2557" y="4"/>
                      <a:pt x="2556" y="5"/>
                      <a:pt x="2555" y="5"/>
                    </a:cubicBezTo>
                    <a:lnTo>
                      <a:pt x="2555" y="5"/>
                    </a:lnTo>
                    <a:cubicBezTo>
                      <a:pt x="2554" y="5"/>
                      <a:pt x="2553" y="4"/>
                      <a:pt x="2553" y="3"/>
                    </a:cubicBezTo>
                    <a:cubicBezTo>
                      <a:pt x="2553" y="2"/>
                      <a:pt x="2554" y="1"/>
                      <a:pt x="2555" y="1"/>
                    </a:cubicBezTo>
                    <a:close/>
                    <a:moveTo>
                      <a:pt x="2563" y="1"/>
                    </a:moveTo>
                    <a:lnTo>
                      <a:pt x="2563" y="1"/>
                    </a:lnTo>
                    <a:cubicBezTo>
                      <a:pt x="2564" y="1"/>
                      <a:pt x="2565" y="2"/>
                      <a:pt x="2565" y="3"/>
                    </a:cubicBezTo>
                    <a:cubicBezTo>
                      <a:pt x="2565" y="4"/>
                      <a:pt x="2564" y="5"/>
                      <a:pt x="2563" y="5"/>
                    </a:cubicBezTo>
                    <a:lnTo>
                      <a:pt x="2563" y="5"/>
                    </a:lnTo>
                    <a:cubicBezTo>
                      <a:pt x="2562" y="5"/>
                      <a:pt x="2561" y="4"/>
                      <a:pt x="2561" y="3"/>
                    </a:cubicBezTo>
                    <a:cubicBezTo>
                      <a:pt x="2561" y="2"/>
                      <a:pt x="2562" y="1"/>
                      <a:pt x="2563" y="1"/>
                    </a:cubicBezTo>
                    <a:close/>
                    <a:moveTo>
                      <a:pt x="2571" y="1"/>
                    </a:moveTo>
                    <a:lnTo>
                      <a:pt x="2571" y="1"/>
                    </a:lnTo>
                    <a:cubicBezTo>
                      <a:pt x="2572" y="1"/>
                      <a:pt x="2573" y="2"/>
                      <a:pt x="2573" y="3"/>
                    </a:cubicBezTo>
                    <a:cubicBezTo>
                      <a:pt x="2573" y="4"/>
                      <a:pt x="2572" y="5"/>
                      <a:pt x="2571" y="5"/>
                    </a:cubicBezTo>
                    <a:lnTo>
                      <a:pt x="2571" y="5"/>
                    </a:lnTo>
                    <a:cubicBezTo>
                      <a:pt x="2570" y="5"/>
                      <a:pt x="2569" y="4"/>
                      <a:pt x="2569" y="3"/>
                    </a:cubicBezTo>
                    <a:cubicBezTo>
                      <a:pt x="2569" y="2"/>
                      <a:pt x="2570" y="1"/>
                      <a:pt x="2571" y="1"/>
                    </a:cubicBezTo>
                    <a:close/>
                    <a:moveTo>
                      <a:pt x="2579" y="1"/>
                    </a:moveTo>
                    <a:lnTo>
                      <a:pt x="2579" y="1"/>
                    </a:lnTo>
                    <a:cubicBezTo>
                      <a:pt x="2580" y="1"/>
                      <a:pt x="2581" y="2"/>
                      <a:pt x="2581" y="3"/>
                    </a:cubicBezTo>
                    <a:cubicBezTo>
                      <a:pt x="2581" y="4"/>
                      <a:pt x="2580" y="5"/>
                      <a:pt x="2579" y="5"/>
                    </a:cubicBezTo>
                    <a:lnTo>
                      <a:pt x="2579" y="5"/>
                    </a:lnTo>
                    <a:cubicBezTo>
                      <a:pt x="2578" y="5"/>
                      <a:pt x="2577" y="4"/>
                      <a:pt x="2577" y="3"/>
                    </a:cubicBezTo>
                    <a:cubicBezTo>
                      <a:pt x="2577" y="2"/>
                      <a:pt x="2578" y="1"/>
                      <a:pt x="2579" y="1"/>
                    </a:cubicBezTo>
                    <a:close/>
                    <a:moveTo>
                      <a:pt x="2587" y="1"/>
                    </a:moveTo>
                    <a:lnTo>
                      <a:pt x="2587" y="1"/>
                    </a:lnTo>
                    <a:cubicBezTo>
                      <a:pt x="2588" y="1"/>
                      <a:pt x="2589" y="2"/>
                      <a:pt x="2589" y="3"/>
                    </a:cubicBezTo>
                    <a:cubicBezTo>
                      <a:pt x="2589" y="4"/>
                      <a:pt x="2588" y="5"/>
                      <a:pt x="2587" y="5"/>
                    </a:cubicBezTo>
                    <a:lnTo>
                      <a:pt x="2587" y="5"/>
                    </a:lnTo>
                    <a:cubicBezTo>
                      <a:pt x="2586" y="5"/>
                      <a:pt x="2585" y="4"/>
                      <a:pt x="2585" y="3"/>
                    </a:cubicBezTo>
                    <a:cubicBezTo>
                      <a:pt x="2585" y="2"/>
                      <a:pt x="2586" y="1"/>
                      <a:pt x="2587" y="1"/>
                    </a:cubicBezTo>
                    <a:close/>
                    <a:moveTo>
                      <a:pt x="2595" y="1"/>
                    </a:moveTo>
                    <a:lnTo>
                      <a:pt x="2595" y="1"/>
                    </a:lnTo>
                    <a:cubicBezTo>
                      <a:pt x="2596" y="1"/>
                      <a:pt x="2597" y="2"/>
                      <a:pt x="2597" y="3"/>
                    </a:cubicBezTo>
                    <a:cubicBezTo>
                      <a:pt x="2597" y="4"/>
                      <a:pt x="2596" y="5"/>
                      <a:pt x="2595" y="5"/>
                    </a:cubicBezTo>
                    <a:lnTo>
                      <a:pt x="2595" y="5"/>
                    </a:lnTo>
                    <a:cubicBezTo>
                      <a:pt x="2594" y="5"/>
                      <a:pt x="2593" y="4"/>
                      <a:pt x="2593" y="3"/>
                    </a:cubicBezTo>
                    <a:cubicBezTo>
                      <a:pt x="2593" y="2"/>
                      <a:pt x="2594" y="1"/>
                      <a:pt x="2595" y="1"/>
                    </a:cubicBezTo>
                    <a:close/>
                    <a:moveTo>
                      <a:pt x="2603" y="1"/>
                    </a:moveTo>
                    <a:lnTo>
                      <a:pt x="2603" y="1"/>
                    </a:lnTo>
                    <a:cubicBezTo>
                      <a:pt x="2604" y="1"/>
                      <a:pt x="2605" y="2"/>
                      <a:pt x="2605" y="3"/>
                    </a:cubicBezTo>
                    <a:cubicBezTo>
                      <a:pt x="2605" y="4"/>
                      <a:pt x="2604" y="5"/>
                      <a:pt x="2603" y="5"/>
                    </a:cubicBezTo>
                    <a:lnTo>
                      <a:pt x="2603" y="5"/>
                    </a:lnTo>
                    <a:cubicBezTo>
                      <a:pt x="2602" y="5"/>
                      <a:pt x="2601" y="4"/>
                      <a:pt x="2601" y="3"/>
                    </a:cubicBezTo>
                    <a:cubicBezTo>
                      <a:pt x="2601" y="2"/>
                      <a:pt x="2602" y="1"/>
                      <a:pt x="2603" y="1"/>
                    </a:cubicBezTo>
                    <a:close/>
                    <a:moveTo>
                      <a:pt x="2611" y="1"/>
                    </a:moveTo>
                    <a:lnTo>
                      <a:pt x="2611" y="1"/>
                    </a:lnTo>
                    <a:cubicBezTo>
                      <a:pt x="2612" y="1"/>
                      <a:pt x="2613" y="2"/>
                      <a:pt x="2613" y="3"/>
                    </a:cubicBezTo>
                    <a:cubicBezTo>
                      <a:pt x="2613" y="4"/>
                      <a:pt x="2612" y="5"/>
                      <a:pt x="2611" y="5"/>
                    </a:cubicBezTo>
                    <a:lnTo>
                      <a:pt x="2611" y="5"/>
                    </a:lnTo>
                    <a:cubicBezTo>
                      <a:pt x="2610" y="5"/>
                      <a:pt x="2609" y="4"/>
                      <a:pt x="2609" y="3"/>
                    </a:cubicBezTo>
                    <a:cubicBezTo>
                      <a:pt x="2609" y="2"/>
                      <a:pt x="2610" y="1"/>
                      <a:pt x="2611" y="1"/>
                    </a:cubicBezTo>
                    <a:close/>
                    <a:moveTo>
                      <a:pt x="2619" y="1"/>
                    </a:moveTo>
                    <a:lnTo>
                      <a:pt x="2619" y="1"/>
                    </a:lnTo>
                    <a:cubicBezTo>
                      <a:pt x="2620" y="1"/>
                      <a:pt x="2621" y="2"/>
                      <a:pt x="2621" y="3"/>
                    </a:cubicBezTo>
                    <a:cubicBezTo>
                      <a:pt x="2621" y="4"/>
                      <a:pt x="2620" y="5"/>
                      <a:pt x="2619" y="5"/>
                    </a:cubicBezTo>
                    <a:lnTo>
                      <a:pt x="2619" y="5"/>
                    </a:lnTo>
                    <a:cubicBezTo>
                      <a:pt x="2618" y="5"/>
                      <a:pt x="2617" y="4"/>
                      <a:pt x="2617" y="3"/>
                    </a:cubicBezTo>
                    <a:cubicBezTo>
                      <a:pt x="2617" y="2"/>
                      <a:pt x="2618" y="1"/>
                      <a:pt x="2619" y="1"/>
                    </a:cubicBezTo>
                    <a:close/>
                    <a:moveTo>
                      <a:pt x="2627" y="1"/>
                    </a:moveTo>
                    <a:lnTo>
                      <a:pt x="2627" y="1"/>
                    </a:lnTo>
                    <a:cubicBezTo>
                      <a:pt x="2628" y="1"/>
                      <a:pt x="2629" y="2"/>
                      <a:pt x="2629" y="3"/>
                    </a:cubicBezTo>
                    <a:cubicBezTo>
                      <a:pt x="2629" y="4"/>
                      <a:pt x="2628" y="5"/>
                      <a:pt x="2627" y="5"/>
                    </a:cubicBezTo>
                    <a:lnTo>
                      <a:pt x="2627" y="5"/>
                    </a:lnTo>
                    <a:cubicBezTo>
                      <a:pt x="2626" y="5"/>
                      <a:pt x="2625" y="4"/>
                      <a:pt x="2625" y="3"/>
                    </a:cubicBezTo>
                    <a:cubicBezTo>
                      <a:pt x="2625" y="2"/>
                      <a:pt x="2626" y="1"/>
                      <a:pt x="2627" y="1"/>
                    </a:cubicBezTo>
                    <a:close/>
                    <a:moveTo>
                      <a:pt x="2635" y="1"/>
                    </a:moveTo>
                    <a:lnTo>
                      <a:pt x="2635" y="1"/>
                    </a:lnTo>
                    <a:cubicBezTo>
                      <a:pt x="2636" y="1"/>
                      <a:pt x="2637" y="2"/>
                      <a:pt x="2637" y="3"/>
                    </a:cubicBezTo>
                    <a:cubicBezTo>
                      <a:pt x="2637" y="4"/>
                      <a:pt x="2636" y="5"/>
                      <a:pt x="2635" y="5"/>
                    </a:cubicBezTo>
                    <a:lnTo>
                      <a:pt x="2635" y="5"/>
                    </a:lnTo>
                    <a:cubicBezTo>
                      <a:pt x="2634" y="5"/>
                      <a:pt x="2633" y="4"/>
                      <a:pt x="2633" y="3"/>
                    </a:cubicBezTo>
                    <a:cubicBezTo>
                      <a:pt x="2633" y="2"/>
                      <a:pt x="2634" y="1"/>
                      <a:pt x="2635" y="1"/>
                    </a:cubicBezTo>
                    <a:close/>
                    <a:moveTo>
                      <a:pt x="2643" y="1"/>
                    </a:moveTo>
                    <a:lnTo>
                      <a:pt x="2643" y="1"/>
                    </a:lnTo>
                    <a:cubicBezTo>
                      <a:pt x="2644" y="1"/>
                      <a:pt x="2645" y="2"/>
                      <a:pt x="2645" y="3"/>
                    </a:cubicBezTo>
                    <a:cubicBezTo>
                      <a:pt x="2645" y="4"/>
                      <a:pt x="2644" y="5"/>
                      <a:pt x="2643" y="5"/>
                    </a:cubicBezTo>
                    <a:lnTo>
                      <a:pt x="2643" y="5"/>
                    </a:lnTo>
                    <a:cubicBezTo>
                      <a:pt x="2642" y="5"/>
                      <a:pt x="2641" y="4"/>
                      <a:pt x="2641" y="3"/>
                    </a:cubicBezTo>
                    <a:cubicBezTo>
                      <a:pt x="2641" y="2"/>
                      <a:pt x="2642" y="1"/>
                      <a:pt x="2643" y="1"/>
                    </a:cubicBezTo>
                    <a:close/>
                    <a:moveTo>
                      <a:pt x="2651" y="1"/>
                    </a:moveTo>
                    <a:lnTo>
                      <a:pt x="2651" y="1"/>
                    </a:lnTo>
                    <a:cubicBezTo>
                      <a:pt x="2652" y="1"/>
                      <a:pt x="2653" y="2"/>
                      <a:pt x="2653" y="3"/>
                    </a:cubicBezTo>
                    <a:cubicBezTo>
                      <a:pt x="2653" y="4"/>
                      <a:pt x="2652" y="5"/>
                      <a:pt x="2651" y="5"/>
                    </a:cubicBezTo>
                    <a:lnTo>
                      <a:pt x="2651" y="5"/>
                    </a:lnTo>
                    <a:cubicBezTo>
                      <a:pt x="2650" y="5"/>
                      <a:pt x="2649" y="4"/>
                      <a:pt x="2649" y="3"/>
                    </a:cubicBezTo>
                    <a:cubicBezTo>
                      <a:pt x="2649" y="2"/>
                      <a:pt x="2650" y="1"/>
                      <a:pt x="2651" y="1"/>
                    </a:cubicBezTo>
                    <a:close/>
                    <a:moveTo>
                      <a:pt x="2659" y="1"/>
                    </a:moveTo>
                    <a:lnTo>
                      <a:pt x="2659" y="1"/>
                    </a:lnTo>
                    <a:cubicBezTo>
                      <a:pt x="2660" y="1"/>
                      <a:pt x="2661" y="2"/>
                      <a:pt x="2661" y="3"/>
                    </a:cubicBezTo>
                    <a:cubicBezTo>
                      <a:pt x="2661" y="4"/>
                      <a:pt x="2660" y="5"/>
                      <a:pt x="2659" y="5"/>
                    </a:cubicBezTo>
                    <a:lnTo>
                      <a:pt x="2659" y="5"/>
                    </a:lnTo>
                    <a:cubicBezTo>
                      <a:pt x="2658" y="5"/>
                      <a:pt x="2657" y="4"/>
                      <a:pt x="2657" y="3"/>
                    </a:cubicBezTo>
                    <a:cubicBezTo>
                      <a:pt x="2657" y="2"/>
                      <a:pt x="2658" y="1"/>
                      <a:pt x="2659" y="1"/>
                    </a:cubicBezTo>
                    <a:close/>
                    <a:moveTo>
                      <a:pt x="2667" y="1"/>
                    </a:moveTo>
                    <a:lnTo>
                      <a:pt x="2667" y="1"/>
                    </a:lnTo>
                    <a:cubicBezTo>
                      <a:pt x="2668" y="1"/>
                      <a:pt x="2669" y="2"/>
                      <a:pt x="2669" y="3"/>
                    </a:cubicBezTo>
                    <a:cubicBezTo>
                      <a:pt x="2669" y="4"/>
                      <a:pt x="2668" y="5"/>
                      <a:pt x="2667" y="5"/>
                    </a:cubicBezTo>
                    <a:lnTo>
                      <a:pt x="2667" y="5"/>
                    </a:lnTo>
                    <a:cubicBezTo>
                      <a:pt x="2666" y="5"/>
                      <a:pt x="2665" y="4"/>
                      <a:pt x="2665" y="3"/>
                    </a:cubicBezTo>
                    <a:cubicBezTo>
                      <a:pt x="2665" y="2"/>
                      <a:pt x="2666" y="1"/>
                      <a:pt x="2667" y="1"/>
                    </a:cubicBezTo>
                    <a:close/>
                    <a:moveTo>
                      <a:pt x="2675" y="1"/>
                    </a:moveTo>
                    <a:lnTo>
                      <a:pt x="2675" y="1"/>
                    </a:lnTo>
                    <a:cubicBezTo>
                      <a:pt x="2676" y="1"/>
                      <a:pt x="2677" y="2"/>
                      <a:pt x="2677" y="3"/>
                    </a:cubicBezTo>
                    <a:cubicBezTo>
                      <a:pt x="2677" y="4"/>
                      <a:pt x="2676" y="5"/>
                      <a:pt x="2675" y="5"/>
                    </a:cubicBezTo>
                    <a:lnTo>
                      <a:pt x="2675" y="5"/>
                    </a:lnTo>
                    <a:cubicBezTo>
                      <a:pt x="2674" y="5"/>
                      <a:pt x="2673" y="4"/>
                      <a:pt x="2673" y="3"/>
                    </a:cubicBezTo>
                    <a:cubicBezTo>
                      <a:pt x="2673" y="2"/>
                      <a:pt x="2674" y="1"/>
                      <a:pt x="2675" y="1"/>
                    </a:cubicBezTo>
                    <a:close/>
                    <a:moveTo>
                      <a:pt x="2683" y="1"/>
                    </a:moveTo>
                    <a:lnTo>
                      <a:pt x="2683" y="1"/>
                    </a:lnTo>
                    <a:cubicBezTo>
                      <a:pt x="2684" y="1"/>
                      <a:pt x="2685" y="2"/>
                      <a:pt x="2685" y="3"/>
                    </a:cubicBezTo>
                    <a:cubicBezTo>
                      <a:pt x="2685" y="4"/>
                      <a:pt x="2684" y="5"/>
                      <a:pt x="2683" y="5"/>
                    </a:cubicBezTo>
                    <a:lnTo>
                      <a:pt x="2683" y="5"/>
                    </a:lnTo>
                    <a:cubicBezTo>
                      <a:pt x="2682" y="5"/>
                      <a:pt x="2681" y="4"/>
                      <a:pt x="2681" y="3"/>
                    </a:cubicBezTo>
                    <a:cubicBezTo>
                      <a:pt x="2681" y="2"/>
                      <a:pt x="2682" y="1"/>
                      <a:pt x="2683" y="1"/>
                    </a:cubicBezTo>
                    <a:close/>
                    <a:moveTo>
                      <a:pt x="2691" y="1"/>
                    </a:moveTo>
                    <a:lnTo>
                      <a:pt x="2691" y="1"/>
                    </a:lnTo>
                    <a:cubicBezTo>
                      <a:pt x="2692" y="1"/>
                      <a:pt x="2693" y="2"/>
                      <a:pt x="2693" y="3"/>
                    </a:cubicBezTo>
                    <a:cubicBezTo>
                      <a:pt x="2693" y="4"/>
                      <a:pt x="2692" y="5"/>
                      <a:pt x="2691" y="5"/>
                    </a:cubicBezTo>
                    <a:lnTo>
                      <a:pt x="2691" y="5"/>
                    </a:lnTo>
                    <a:cubicBezTo>
                      <a:pt x="2690" y="5"/>
                      <a:pt x="2689" y="4"/>
                      <a:pt x="2689" y="3"/>
                    </a:cubicBezTo>
                    <a:cubicBezTo>
                      <a:pt x="2689" y="2"/>
                      <a:pt x="2690" y="1"/>
                      <a:pt x="2691" y="1"/>
                    </a:cubicBezTo>
                    <a:close/>
                    <a:moveTo>
                      <a:pt x="2699" y="1"/>
                    </a:moveTo>
                    <a:lnTo>
                      <a:pt x="2699" y="1"/>
                    </a:lnTo>
                    <a:cubicBezTo>
                      <a:pt x="2700" y="1"/>
                      <a:pt x="2701" y="2"/>
                      <a:pt x="2701" y="3"/>
                    </a:cubicBezTo>
                    <a:cubicBezTo>
                      <a:pt x="2701" y="4"/>
                      <a:pt x="2700" y="5"/>
                      <a:pt x="2699" y="5"/>
                    </a:cubicBezTo>
                    <a:lnTo>
                      <a:pt x="2699" y="5"/>
                    </a:lnTo>
                    <a:cubicBezTo>
                      <a:pt x="2698" y="5"/>
                      <a:pt x="2697" y="4"/>
                      <a:pt x="2697" y="3"/>
                    </a:cubicBezTo>
                    <a:cubicBezTo>
                      <a:pt x="2697" y="2"/>
                      <a:pt x="2698" y="1"/>
                      <a:pt x="2699" y="1"/>
                    </a:cubicBezTo>
                    <a:close/>
                    <a:moveTo>
                      <a:pt x="2707" y="1"/>
                    </a:moveTo>
                    <a:lnTo>
                      <a:pt x="2707" y="1"/>
                    </a:lnTo>
                    <a:cubicBezTo>
                      <a:pt x="2708" y="1"/>
                      <a:pt x="2709" y="2"/>
                      <a:pt x="2709" y="3"/>
                    </a:cubicBezTo>
                    <a:cubicBezTo>
                      <a:pt x="2709" y="4"/>
                      <a:pt x="2708" y="5"/>
                      <a:pt x="2707" y="5"/>
                    </a:cubicBezTo>
                    <a:lnTo>
                      <a:pt x="2707" y="5"/>
                    </a:lnTo>
                    <a:cubicBezTo>
                      <a:pt x="2706" y="5"/>
                      <a:pt x="2705" y="4"/>
                      <a:pt x="2705" y="3"/>
                    </a:cubicBezTo>
                    <a:cubicBezTo>
                      <a:pt x="2705" y="2"/>
                      <a:pt x="2706" y="1"/>
                      <a:pt x="2707" y="1"/>
                    </a:cubicBezTo>
                    <a:close/>
                    <a:moveTo>
                      <a:pt x="2715" y="1"/>
                    </a:moveTo>
                    <a:lnTo>
                      <a:pt x="2715" y="1"/>
                    </a:lnTo>
                    <a:cubicBezTo>
                      <a:pt x="2716" y="1"/>
                      <a:pt x="2717" y="2"/>
                      <a:pt x="2717" y="3"/>
                    </a:cubicBezTo>
                    <a:cubicBezTo>
                      <a:pt x="2717" y="4"/>
                      <a:pt x="2716" y="5"/>
                      <a:pt x="2715" y="5"/>
                    </a:cubicBezTo>
                    <a:lnTo>
                      <a:pt x="2715" y="5"/>
                    </a:lnTo>
                    <a:cubicBezTo>
                      <a:pt x="2714" y="5"/>
                      <a:pt x="2713" y="4"/>
                      <a:pt x="2713" y="3"/>
                    </a:cubicBezTo>
                    <a:cubicBezTo>
                      <a:pt x="2713" y="2"/>
                      <a:pt x="2714" y="1"/>
                      <a:pt x="2715" y="1"/>
                    </a:cubicBezTo>
                    <a:close/>
                    <a:moveTo>
                      <a:pt x="2723" y="1"/>
                    </a:moveTo>
                    <a:lnTo>
                      <a:pt x="2723" y="1"/>
                    </a:lnTo>
                    <a:cubicBezTo>
                      <a:pt x="2724" y="1"/>
                      <a:pt x="2725" y="2"/>
                      <a:pt x="2725" y="3"/>
                    </a:cubicBezTo>
                    <a:cubicBezTo>
                      <a:pt x="2725" y="4"/>
                      <a:pt x="2724" y="5"/>
                      <a:pt x="2723" y="5"/>
                    </a:cubicBezTo>
                    <a:lnTo>
                      <a:pt x="2723" y="5"/>
                    </a:lnTo>
                    <a:cubicBezTo>
                      <a:pt x="2722" y="5"/>
                      <a:pt x="2721" y="4"/>
                      <a:pt x="2721" y="3"/>
                    </a:cubicBezTo>
                    <a:cubicBezTo>
                      <a:pt x="2721" y="2"/>
                      <a:pt x="2722" y="1"/>
                      <a:pt x="2723" y="1"/>
                    </a:cubicBezTo>
                    <a:close/>
                    <a:moveTo>
                      <a:pt x="2731" y="1"/>
                    </a:moveTo>
                    <a:lnTo>
                      <a:pt x="2731" y="1"/>
                    </a:lnTo>
                    <a:cubicBezTo>
                      <a:pt x="2732" y="1"/>
                      <a:pt x="2733" y="2"/>
                      <a:pt x="2733" y="3"/>
                    </a:cubicBezTo>
                    <a:cubicBezTo>
                      <a:pt x="2733" y="4"/>
                      <a:pt x="2732" y="5"/>
                      <a:pt x="2731" y="5"/>
                    </a:cubicBezTo>
                    <a:lnTo>
                      <a:pt x="2731" y="5"/>
                    </a:lnTo>
                    <a:cubicBezTo>
                      <a:pt x="2730" y="5"/>
                      <a:pt x="2729" y="4"/>
                      <a:pt x="2729" y="3"/>
                    </a:cubicBezTo>
                    <a:cubicBezTo>
                      <a:pt x="2729" y="2"/>
                      <a:pt x="2730" y="1"/>
                      <a:pt x="2731" y="1"/>
                    </a:cubicBezTo>
                    <a:close/>
                    <a:moveTo>
                      <a:pt x="2739" y="1"/>
                    </a:moveTo>
                    <a:lnTo>
                      <a:pt x="2739" y="1"/>
                    </a:lnTo>
                    <a:cubicBezTo>
                      <a:pt x="2740" y="1"/>
                      <a:pt x="2741" y="2"/>
                      <a:pt x="2741" y="3"/>
                    </a:cubicBezTo>
                    <a:cubicBezTo>
                      <a:pt x="2741" y="4"/>
                      <a:pt x="2740" y="5"/>
                      <a:pt x="2739" y="5"/>
                    </a:cubicBezTo>
                    <a:lnTo>
                      <a:pt x="2739" y="5"/>
                    </a:lnTo>
                    <a:cubicBezTo>
                      <a:pt x="2738" y="5"/>
                      <a:pt x="2737" y="4"/>
                      <a:pt x="2737" y="3"/>
                    </a:cubicBezTo>
                    <a:cubicBezTo>
                      <a:pt x="2737" y="2"/>
                      <a:pt x="2738" y="1"/>
                      <a:pt x="2739" y="1"/>
                    </a:cubicBezTo>
                    <a:close/>
                    <a:moveTo>
                      <a:pt x="2747" y="1"/>
                    </a:moveTo>
                    <a:lnTo>
                      <a:pt x="2747" y="1"/>
                    </a:lnTo>
                    <a:cubicBezTo>
                      <a:pt x="2748" y="1"/>
                      <a:pt x="2749" y="2"/>
                      <a:pt x="2749" y="3"/>
                    </a:cubicBezTo>
                    <a:cubicBezTo>
                      <a:pt x="2749" y="4"/>
                      <a:pt x="2748" y="5"/>
                      <a:pt x="2747" y="5"/>
                    </a:cubicBezTo>
                    <a:lnTo>
                      <a:pt x="2747" y="5"/>
                    </a:lnTo>
                    <a:cubicBezTo>
                      <a:pt x="2746" y="5"/>
                      <a:pt x="2745" y="4"/>
                      <a:pt x="2745" y="3"/>
                    </a:cubicBezTo>
                    <a:cubicBezTo>
                      <a:pt x="2745" y="2"/>
                      <a:pt x="2746" y="1"/>
                      <a:pt x="2747" y="1"/>
                    </a:cubicBezTo>
                    <a:close/>
                    <a:moveTo>
                      <a:pt x="2755" y="1"/>
                    </a:moveTo>
                    <a:lnTo>
                      <a:pt x="2755" y="1"/>
                    </a:lnTo>
                    <a:cubicBezTo>
                      <a:pt x="2756" y="1"/>
                      <a:pt x="2757" y="2"/>
                      <a:pt x="2757" y="3"/>
                    </a:cubicBezTo>
                    <a:cubicBezTo>
                      <a:pt x="2757" y="4"/>
                      <a:pt x="2756" y="5"/>
                      <a:pt x="2755" y="5"/>
                    </a:cubicBezTo>
                    <a:lnTo>
                      <a:pt x="2755" y="5"/>
                    </a:lnTo>
                    <a:cubicBezTo>
                      <a:pt x="2754" y="5"/>
                      <a:pt x="2753" y="4"/>
                      <a:pt x="2753" y="3"/>
                    </a:cubicBezTo>
                    <a:cubicBezTo>
                      <a:pt x="2753" y="2"/>
                      <a:pt x="2754" y="1"/>
                      <a:pt x="2755" y="1"/>
                    </a:cubicBezTo>
                    <a:close/>
                    <a:moveTo>
                      <a:pt x="2763" y="1"/>
                    </a:moveTo>
                    <a:lnTo>
                      <a:pt x="2763" y="1"/>
                    </a:lnTo>
                    <a:cubicBezTo>
                      <a:pt x="2764" y="1"/>
                      <a:pt x="2765" y="2"/>
                      <a:pt x="2765" y="3"/>
                    </a:cubicBezTo>
                    <a:cubicBezTo>
                      <a:pt x="2765" y="4"/>
                      <a:pt x="2764" y="5"/>
                      <a:pt x="2763" y="5"/>
                    </a:cubicBezTo>
                    <a:lnTo>
                      <a:pt x="2763" y="5"/>
                    </a:lnTo>
                    <a:cubicBezTo>
                      <a:pt x="2762" y="5"/>
                      <a:pt x="2761" y="4"/>
                      <a:pt x="2761" y="3"/>
                    </a:cubicBezTo>
                    <a:cubicBezTo>
                      <a:pt x="2761" y="2"/>
                      <a:pt x="2762" y="1"/>
                      <a:pt x="2763" y="1"/>
                    </a:cubicBezTo>
                    <a:close/>
                    <a:moveTo>
                      <a:pt x="2771" y="1"/>
                    </a:moveTo>
                    <a:lnTo>
                      <a:pt x="2771" y="1"/>
                    </a:lnTo>
                    <a:cubicBezTo>
                      <a:pt x="2772" y="1"/>
                      <a:pt x="2773" y="2"/>
                      <a:pt x="2773" y="3"/>
                    </a:cubicBezTo>
                    <a:cubicBezTo>
                      <a:pt x="2773" y="4"/>
                      <a:pt x="2772" y="5"/>
                      <a:pt x="2771" y="5"/>
                    </a:cubicBezTo>
                    <a:lnTo>
                      <a:pt x="2771" y="5"/>
                    </a:lnTo>
                    <a:cubicBezTo>
                      <a:pt x="2770" y="5"/>
                      <a:pt x="2769" y="4"/>
                      <a:pt x="2769" y="3"/>
                    </a:cubicBezTo>
                    <a:cubicBezTo>
                      <a:pt x="2769" y="2"/>
                      <a:pt x="2770" y="1"/>
                      <a:pt x="2771" y="1"/>
                    </a:cubicBezTo>
                    <a:close/>
                    <a:moveTo>
                      <a:pt x="2779" y="1"/>
                    </a:moveTo>
                    <a:lnTo>
                      <a:pt x="2779" y="1"/>
                    </a:lnTo>
                    <a:cubicBezTo>
                      <a:pt x="2780" y="1"/>
                      <a:pt x="2781" y="2"/>
                      <a:pt x="2781" y="3"/>
                    </a:cubicBezTo>
                    <a:cubicBezTo>
                      <a:pt x="2781" y="4"/>
                      <a:pt x="2780" y="5"/>
                      <a:pt x="2779" y="5"/>
                    </a:cubicBezTo>
                    <a:lnTo>
                      <a:pt x="2779" y="5"/>
                    </a:lnTo>
                    <a:cubicBezTo>
                      <a:pt x="2778" y="5"/>
                      <a:pt x="2777" y="4"/>
                      <a:pt x="2777" y="3"/>
                    </a:cubicBezTo>
                    <a:cubicBezTo>
                      <a:pt x="2777" y="2"/>
                      <a:pt x="2778" y="1"/>
                      <a:pt x="2779" y="1"/>
                    </a:cubicBezTo>
                    <a:close/>
                    <a:moveTo>
                      <a:pt x="2787" y="1"/>
                    </a:moveTo>
                    <a:lnTo>
                      <a:pt x="2787" y="1"/>
                    </a:lnTo>
                    <a:cubicBezTo>
                      <a:pt x="2788" y="1"/>
                      <a:pt x="2789" y="2"/>
                      <a:pt x="2789" y="3"/>
                    </a:cubicBezTo>
                    <a:cubicBezTo>
                      <a:pt x="2789" y="4"/>
                      <a:pt x="2788" y="5"/>
                      <a:pt x="2787" y="5"/>
                    </a:cubicBezTo>
                    <a:lnTo>
                      <a:pt x="2787" y="5"/>
                    </a:lnTo>
                    <a:cubicBezTo>
                      <a:pt x="2786" y="5"/>
                      <a:pt x="2785" y="4"/>
                      <a:pt x="2785" y="3"/>
                    </a:cubicBezTo>
                    <a:cubicBezTo>
                      <a:pt x="2785" y="2"/>
                      <a:pt x="2786" y="1"/>
                      <a:pt x="2787" y="1"/>
                    </a:cubicBezTo>
                    <a:close/>
                    <a:moveTo>
                      <a:pt x="2795" y="1"/>
                    </a:moveTo>
                    <a:lnTo>
                      <a:pt x="2795" y="1"/>
                    </a:lnTo>
                    <a:cubicBezTo>
                      <a:pt x="2796" y="1"/>
                      <a:pt x="2797" y="2"/>
                      <a:pt x="2797" y="3"/>
                    </a:cubicBezTo>
                    <a:cubicBezTo>
                      <a:pt x="2797" y="4"/>
                      <a:pt x="2796" y="5"/>
                      <a:pt x="2795" y="5"/>
                    </a:cubicBezTo>
                    <a:lnTo>
                      <a:pt x="2795" y="5"/>
                    </a:lnTo>
                    <a:cubicBezTo>
                      <a:pt x="2794" y="5"/>
                      <a:pt x="2793" y="4"/>
                      <a:pt x="2793" y="3"/>
                    </a:cubicBezTo>
                    <a:cubicBezTo>
                      <a:pt x="2793" y="2"/>
                      <a:pt x="2794" y="1"/>
                      <a:pt x="2795" y="1"/>
                    </a:cubicBezTo>
                    <a:close/>
                    <a:moveTo>
                      <a:pt x="2803" y="1"/>
                    </a:moveTo>
                    <a:lnTo>
                      <a:pt x="2803" y="1"/>
                    </a:lnTo>
                    <a:cubicBezTo>
                      <a:pt x="2804" y="1"/>
                      <a:pt x="2805" y="2"/>
                      <a:pt x="2805" y="3"/>
                    </a:cubicBezTo>
                    <a:cubicBezTo>
                      <a:pt x="2805" y="4"/>
                      <a:pt x="2804" y="5"/>
                      <a:pt x="2803" y="5"/>
                    </a:cubicBezTo>
                    <a:lnTo>
                      <a:pt x="2803" y="5"/>
                    </a:lnTo>
                    <a:cubicBezTo>
                      <a:pt x="2802" y="5"/>
                      <a:pt x="2801" y="4"/>
                      <a:pt x="2801" y="3"/>
                    </a:cubicBezTo>
                    <a:cubicBezTo>
                      <a:pt x="2801" y="2"/>
                      <a:pt x="2802" y="1"/>
                      <a:pt x="2803" y="1"/>
                    </a:cubicBezTo>
                    <a:close/>
                    <a:moveTo>
                      <a:pt x="2811" y="1"/>
                    </a:moveTo>
                    <a:lnTo>
                      <a:pt x="2811" y="1"/>
                    </a:lnTo>
                    <a:cubicBezTo>
                      <a:pt x="2812" y="1"/>
                      <a:pt x="2813" y="2"/>
                      <a:pt x="2813" y="3"/>
                    </a:cubicBezTo>
                    <a:cubicBezTo>
                      <a:pt x="2813" y="4"/>
                      <a:pt x="2812" y="5"/>
                      <a:pt x="2811" y="5"/>
                    </a:cubicBezTo>
                    <a:lnTo>
                      <a:pt x="2811" y="5"/>
                    </a:lnTo>
                    <a:cubicBezTo>
                      <a:pt x="2810" y="5"/>
                      <a:pt x="2809" y="4"/>
                      <a:pt x="2809" y="3"/>
                    </a:cubicBezTo>
                    <a:cubicBezTo>
                      <a:pt x="2809" y="2"/>
                      <a:pt x="2810" y="1"/>
                      <a:pt x="2811" y="1"/>
                    </a:cubicBezTo>
                    <a:close/>
                    <a:moveTo>
                      <a:pt x="2819" y="1"/>
                    </a:moveTo>
                    <a:lnTo>
                      <a:pt x="2819" y="1"/>
                    </a:lnTo>
                    <a:cubicBezTo>
                      <a:pt x="2820" y="1"/>
                      <a:pt x="2821" y="2"/>
                      <a:pt x="2821" y="3"/>
                    </a:cubicBezTo>
                    <a:cubicBezTo>
                      <a:pt x="2821" y="4"/>
                      <a:pt x="2820" y="5"/>
                      <a:pt x="2819" y="5"/>
                    </a:cubicBezTo>
                    <a:lnTo>
                      <a:pt x="2819" y="5"/>
                    </a:lnTo>
                    <a:cubicBezTo>
                      <a:pt x="2818" y="5"/>
                      <a:pt x="2817" y="4"/>
                      <a:pt x="2817" y="3"/>
                    </a:cubicBezTo>
                    <a:cubicBezTo>
                      <a:pt x="2817" y="2"/>
                      <a:pt x="2818" y="1"/>
                      <a:pt x="2819" y="1"/>
                    </a:cubicBezTo>
                    <a:close/>
                    <a:moveTo>
                      <a:pt x="2827" y="1"/>
                    </a:moveTo>
                    <a:lnTo>
                      <a:pt x="2827" y="1"/>
                    </a:lnTo>
                    <a:cubicBezTo>
                      <a:pt x="2828" y="1"/>
                      <a:pt x="2829" y="2"/>
                      <a:pt x="2829" y="3"/>
                    </a:cubicBezTo>
                    <a:cubicBezTo>
                      <a:pt x="2829" y="4"/>
                      <a:pt x="2828" y="5"/>
                      <a:pt x="2827" y="5"/>
                    </a:cubicBezTo>
                    <a:lnTo>
                      <a:pt x="2827" y="5"/>
                    </a:lnTo>
                    <a:cubicBezTo>
                      <a:pt x="2826" y="5"/>
                      <a:pt x="2825" y="4"/>
                      <a:pt x="2825" y="3"/>
                    </a:cubicBezTo>
                    <a:cubicBezTo>
                      <a:pt x="2825" y="2"/>
                      <a:pt x="2826" y="1"/>
                      <a:pt x="2827" y="1"/>
                    </a:cubicBezTo>
                    <a:close/>
                    <a:moveTo>
                      <a:pt x="2835" y="1"/>
                    </a:moveTo>
                    <a:lnTo>
                      <a:pt x="2835" y="1"/>
                    </a:lnTo>
                    <a:cubicBezTo>
                      <a:pt x="2836" y="1"/>
                      <a:pt x="2837" y="2"/>
                      <a:pt x="2837" y="3"/>
                    </a:cubicBezTo>
                    <a:cubicBezTo>
                      <a:pt x="2837" y="4"/>
                      <a:pt x="2836" y="5"/>
                      <a:pt x="2835" y="5"/>
                    </a:cubicBezTo>
                    <a:lnTo>
                      <a:pt x="2835" y="5"/>
                    </a:lnTo>
                    <a:cubicBezTo>
                      <a:pt x="2834" y="5"/>
                      <a:pt x="2833" y="4"/>
                      <a:pt x="2833" y="3"/>
                    </a:cubicBezTo>
                    <a:cubicBezTo>
                      <a:pt x="2833" y="2"/>
                      <a:pt x="2834" y="1"/>
                      <a:pt x="2835" y="1"/>
                    </a:cubicBezTo>
                    <a:close/>
                    <a:moveTo>
                      <a:pt x="2843" y="1"/>
                    </a:moveTo>
                    <a:lnTo>
                      <a:pt x="2843" y="1"/>
                    </a:lnTo>
                    <a:cubicBezTo>
                      <a:pt x="2844" y="1"/>
                      <a:pt x="2845" y="2"/>
                      <a:pt x="2845" y="3"/>
                    </a:cubicBezTo>
                    <a:cubicBezTo>
                      <a:pt x="2845" y="4"/>
                      <a:pt x="2844" y="5"/>
                      <a:pt x="2843" y="5"/>
                    </a:cubicBezTo>
                    <a:lnTo>
                      <a:pt x="2843" y="5"/>
                    </a:lnTo>
                    <a:cubicBezTo>
                      <a:pt x="2842" y="5"/>
                      <a:pt x="2841" y="4"/>
                      <a:pt x="2841" y="3"/>
                    </a:cubicBezTo>
                    <a:cubicBezTo>
                      <a:pt x="2841" y="2"/>
                      <a:pt x="2842" y="1"/>
                      <a:pt x="2843" y="1"/>
                    </a:cubicBezTo>
                    <a:close/>
                    <a:moveTo>
                      <a:pt x="2851" y="1"/>
                    </a:moveTo>
                    <a:lnTo>
                      <a:pt x="2851" y="1"/>
                    </a:lnTo>
                    <a:cubicBezTo>
                      <a:pt x="2852" y="1"/>
                      <a:pt x="2853" y="2"/>
                      <a:pt x="2853" y="3"/>
                    </a:cubicBezTo>
                    <a:cubicBezTo>
                      <a:pt x="2853" y="4"/>
                      <a:pt x="2852" y="5"/>
                      <a:pt x="2851" y="5"/>
                    </a:cubicBezTo>
                    <a:lnTo>
                      <a:pt x="2851" y="5"/>
                    </a:lnTo>
                    <a:cubicBezTo>
                      <a:pt x="2850" y="5"/>
                      <a:pt x="2849" y="4"/>
                      <a:pt x="2849" y="3"/>
                    </a:cubicBezTo>
                    <a:cubicBezTo>
                      <a:pt x="2849" y="2"/>
                      <a:pt x="2850" y="1"/>
                      <a:pt x="2851" y="1"/>
                    </a:cubicBezTo>
                    <a:close/>
                    <a:moveTo>
                      <a:pt x="2859" y="1"/>
                    </a:moveTo>
                    <a:lnTo>
                      <a:pt x="2859" y="1"/>
                    </a:lnTo>
                    <a:cubicBezTo>
                      <a:pt x="2860" y="1"/>
                      <a:pt x="2861" y="2"/>
                      <a:pt x="2861" y="3"/>
                    </a:cubicBezTo>
                    <a:cubicBezTo>
                      <a:pt x="2861" y="4"/>
                      <a:pt x="2860" y="5"/>
                      <a:pt x="2859" y="5"/>
                    </a:cubicBezTo>
                    <a:lnTo>
                      <a:pt x="2859" y="5"/>
                    </a:lnTo>
                    <a:cubicBezTo>
                      <a:pt x="2858" y="5"/>
                      <a:pt x="2857" y="4"/>
                      <a:pt x="2857" y="3"/>
                    </a:cubicBezTo>
                    <a:cubicBezTo>
                      <a:pt x="2857" y="2"/>
                      <a:pt x="2858" y="1"/>
                      <a:pt x="2859" y="1"/>
                    </a:cubicBezTo>
                    <a:close/>
                    <a:moveTo>
                      <a:pt x="2867" y="1"/>
                    </a:moveTo>
                    <a:lnTo>
                      <a:pt x="2867" y="1"/>
                    </a:lnTo>
                    <a:cubicBezTo>
                      <a:pt x="2868" y="1"/>
                      <a:pt x="2869" y="2"/>
                      <a:pt x="2869" y="3"/>
                    </a:cubicBezTo>
                    <a:cubicBezTo>
                      <a:pt x="2869" y="4"/>
                      <a:pt x="2868" y="5"/>
                      <a:pt x="2867" y="5"/>
                    </a:cubicBezTo>
                    <a:lnTo>
                      <a:pt x="2867" y="5"/>
                    </a:lnTo>
                    <a:cubicBezTo>
                      <a:pt x="2866" y="5"/>
                      <a:pt x="2865" y="4"/>
                      <a:pt x="2865" y="3"/>
                    </a:cubicBezTo>
                    <a:cubicBezTo>
                      <a:pt x="2865" y="2"/>
                      <a:pt x="2866" y="1"/>
                      <a:pt x="2867" y="1"/>
                    </a:cubicBezTo>
                    <a:close/>
                    <a:moveTo>
                      <a:pt x="2875" y="1"/>
                    </a:moveTo>
                    <a:lnTo>
                      <a:pt x="2875" y="1"/>
                    </a:lnTo>
                    <a:cubicBezTo>
                      <a:pt x="2876" y="1"/>
                      <a:pt x="2877" y="2"/>
                      <a:pt x="2877" y="3"/>
                    </a:cubicBezTo>
                    <a:cubicBezTo>
                      <a:pt x="2877" y="4"/>
                      <a:pt x="2876" y="5"/>
                      <a:pt x="2875" y="5"/>
                    </a:cubicBezTo>
                    <a:lnTo>
                      <a:pt x="2875" y="5"/>
                    </a:lnTo>
                    <a:cubicBezTo>
                      <a:pt x="2874" y="5"/>
                      <a:pt x="2873" y="4"/>
                      <a:pt x="2873" y="3"/>
                    </a:cubicBezTo>
                    <a:cubicBezTo>
                      <a:pt x="2873" y="2"/>
                      <a:pt x="2874" y="1"/>
                      <a:pt x="2875" y="1"/>
                    </a:cubicBezTo>
                    <a:close/>
                    <a:moveTo>
                      <a:pt x="2883" y="1"/>
                    </a:moveTo>
                    <a:lnTo>
                      <a:pt x="2883" y="1"/>
                    </a:lnTo>
                    <a:cubicBezTo>
                      <a:pt x="2884" y="1"/>
                      <a:pt x="2885" y="2"/>
                      <a:pt x="2885" y="3"/>
                    </a:cubicBezTo>
                    <a:cubicBezTo>
                      <a:pt x="2885" y="4"/>
                      <a:pt x="2884" y="5"/>
                      <a:pt x="2883" y="5"/>
                    </a:cubicBezTo>
                    <a:lnTo>
                      <a:pt x="2883" y="5"/>
                    </a:lnTo>
                    <a:cubicBezTo>
                      <a:pt x="2882" y="5"/>
                      <a:pt x="2881" y="4"/>
                      <a:pt x="2881" y="3"/>
                    </a:cubicBezTo>
                    <a:cubicBezTo>
                      <a:pt x="2881" y="2"/>
                      <a:pt x="2882" y="1"/>
                      <a:pt x="2883" y="1"/>
                    </a:cubicBezTo>
                    <a:close/>
                    <a:moveTo>
                      <a:pt x="2891" y="1"/>
                    </a:moveTo>
                    <a:lnTo>
                      <a:pt x="2891" y="1"/>
                    </a:lnTo>
                    <a:cubicBezTo>
                      <a:pt x="2892" y="1"/>
                      <a:pt x="2893" y="2"/>
                      <a:pt x="2893" y="3"/>
                    </a:cubicBezTo>
                    <a:cubicBezTo>
                      <a:pt x="2893" y="4"/>
                      <a:pt x="2892" y="5"/>
                      <a:pt x="2891" y="5"/>
                    </a:cubicBezTo>
                    <a:lnTo>
                      <a:pt x="2891" y="5"/>
                    </a:lnTo>
                    <a:cubicBezTo>
                      <a:pt x="2890" y="5"/>
                      <a:pt x="2889" y="4"/>
                      <a:pt x="2889" y="3"/>
                    </a:cubicBezTo>
                    <a:cubicBezTo>
                      <a:pt x="2889" y="2"/>
                      <a:pt x="2890" y="1"/>
                      <a:pt x="2891" y="1"/>
                    </a:cubicBezTo>
                    <a:close/>
                    <a:moveTo>
                      <a:pt x="2899" y="1"/>
                    </a:moveTo>
                    <a:lnTo>
                      <a:pt x="2899" y="1"/>
                    </a:lnTo>
                    <a:cubicBezTo>
                      <a:pt x="2900" y="1"/>
                      <a:pt x="2901" y="2"/>
                      <a:pt x="2901" y="3"/>
                    </a:cubicBezTo>
                    <a:cubicBezTo>
                      <a:pt x="2901" y="4"/>
                      <a:pt x="2900" y="5"/>
                      <a:pt x="2899" y="5"/>
                    </a:cubicBezTo>
                    <a:lnTo>
                      <a:pt x="2899" y="5"/>
                    </a:lnTo>
                    <a:cubicBezTo>
                      <a:pt x="2898" y="5"/>
                      <a:pt x="2897" y="4"/>
                      <a:pt x="2897" y="3"/>
                    </a:cubicBezTo>
                    <a:cubicBezTo>
                      <a:pt x="2897" y="2"/>
                      <a:pt x="2898" y="1"/>
                      <a:pt x="2899" y="1"/>
                    </a:cubicBezTo>
                    <a:close/>
                    <a:moveTo>
                      <a:pt x="2907" y="1"/>
                    </a:moveTo>
                    <a:lnTo>
                      <a:pt x="2907" y="1"/>
                    </a:lnTo>
                    <a:cubicBezTo>
                      <a:pt x="2908" y="1"/>
                      <a:pt x="2909" y="2"/>
                      <a:pt x="2909" y="3"/>
                    </a:cubicBezTo>
                    <a:cubicBezTo>
                      <a:pt x="2909" y="4"/>
                      <a:pt x="2908" y="5"/>
                      <a:pt x="2907" y="5"/>
                    </a:cubicBezTo>
                    <a:lnTo>
                      <a:pt x="2907" y="5"/>
                    </a:lnTo>
                    <a:cubicBezTo>
                      <a:pt x="2906" y="5"/>
                      <a:pt x="2905" y="4"/>
                      <a:pt x="2905" y="3"/>
                    </a:cubicBezTo>
                    <a:cubicBezTo>
                      <a:pt x="2905" y="2"/>
                      <a:pt x="2906" y="1"/>
                      <a:pt x="2907" y="1"/>
                    </a:cubicBezTo>
                    <a:close/>
                    <a:moveTo>
                      <a:pt x="2915" y="1"/>
                    </a:moveTo>
                    <a:lnTo>
                      <a:pt x="2915" y="1"/>
                    </a:lnTo>
                    <a:cubicBezTo>
                      <a:pt x="2916" y="1"/>
                      <a:pt x="2917" y="2"/>
                      <a:pt x="2917" y="3"/>
                    </a:cubicBezTo>
                    <a:cubicBezTo>
                      <a:pt x="2917" y="4"/>
                      <a:pt x="2916" y="5"/>
                      <a:pt x="2915" y="5"/>
                    </a:cubicBezTo>
                    <a:lnTo>
                      <a:pt x="2915" y="5"/>
                    </a:lnTo>
                    <a:cubicBezTo>
                      <a:pt x="2914" y="5"/>
                      <a:pt x="2913" y="4"/>
                      <a:pt x="2913" y="3"/>
                    </a:cubicBezTo>
                    <a:cubicBezTo>
                      <a:pt x="2913" y="2"/>
                      <a:pt x="2914" y="1"/>
                      <a:pt x="2915" y="1"/>
                    </a:cubicBezTo>
                    <a:close/>
                    <a:moveTo>
                      <a:pt x="2923" y="1"/>
                    </a:moveTo>
                    <a:lnTo>
                      <a:pt x="2923" y="1"/>
                    </a:lnTo>
                    <a:cubicBezTo>
                      <a:pt x="2924" y="1"/>
                      <a:pt x="2925" y="2"/>
                      <a:pt x="2925" y="3"/>
                    </a:cubicBezTo>
                    <a:cubicBezTo>
                      <a:pt x="2925" y="4"/>
                      <a:pt x="2924" y="5"/>
                      <a:pt x="2923" y="5"/>
                    </a:cubicBezTo>
                    <a:lnTo>
                      <a:pt x="2923" y="5"/>
                    </a:lnTo>
                    <a:cubicBezTo>
                      <a:pt x="2922" y="5"/>
                      <a:pt x="2921" y="4"/>
                      <a:pt x="2921" y="3"/>
                    </a:cubicBezTo>
                    <a:cubicBezTo>
                      <a:pt x="2921" y="2"/>
                      <a:pt x="2922" y="1"/>
                      <a:pt x="2923" y="1"/>
                    </a:cubicBezTo>
                    <a:close/>
                    <a:moveTo>
                      <a:pt x="2931" y="1"/>
                    </a:moveTo>
                    <a:lnTo>
                      <a:pt x="2931" y="1"/>
                    </a:lnTo>
                    <a:cubicBezTo>
                      <a:pt x="2932" y="1"/>
                      <a:pt x="2933" y="2"/>
                      <a:pt x="2933" y="3"/>
                    </a:cubicBezTo>
                    <a:cubicBezTo>
                      <a:pt x="2933" y="4"/>
                      <a:pt x="2932" y="5"/>
                      <a:pt x="2931" y="5"/>
                    </a:cubicBezTo>
                    <a:lnTo>
                      <a:pt x="2931" y="5"/>
                    </a:lnTo>
                    <a:cubicBezTo>
                      <a:pt x="2930" y="5"/>
                      <a:pt x="2929" y="4"/>
                      <a:pt x="2929" y="3"/>
                    </a:cubicBezTo>
                    <a:cubicBezTo>
                      <a:pt x="2929" y="2"/>
                      <a:pt x="2930" y="1"/>
                      <a:pt x="2931" y="1"/>
                    </a:cubicBezTo>
                    <a:close/>
                    <a:moveTo>
                      <a:pt x="2939" y="1"/>
                    </a:moveTo>
                    <a:lnTo>
                      <a:pt x="2939" y="1"/>
                    </a:lnTo>
                    <a:cubicBezTo>
                      <a:pt x="2940" y="1"/>
                      <a:pt x="2941" y="2"/>
                      <a:pt x="2941" y="3"/>
                    </a:cubicBezTo>
                    <a:cubicBezTo>
                      <a:pt x="2941" y="4"/>
                      <a:pt x="2940" y="5"/>
                      <a:pt x="2939" y="5"/>
                    </a:cubicBezTo>
                    <a:lnTo>
                      <a:pt x="2939" y="5"/>
                    </a:lnTo>
                    <a:cubicBezTo>
                      <a:pt x="2938" y="5"/>
                      <a:pt x="2937" y="4"/>
                      <a:pt x="2937" y="3"/>
                    </a:cubicBezTo>
                    <a:cubicBezTo>
                      <a:pt x="2937" y="2"/>
                      <a:pt x="2938" y="1"/>
                      <a:pt x="2939" y="1"/>
                    </a:cubicBezTo>
                    <a:close/>
                    <a:moveTo>
                      <a:pt x="2947" y="1"/>
                    </a:moveTo>
                    <a:lnTo>
                      <a:pt x="2947" y="1"/>
                    </a:lnTo>
                    <a:cubicBezTo>
                      <a:pt x="2948" y="1"/>
                      <a:pt x="2949" y="2"/>
                      <a:pt x="2949" y="3"/>
                    </a:cubicBezTo>
                    <a:cubicBezTo>
                      <a:pt x="2949" y="4"/>
                      <a:pt x="2948" y="5"/>
                      <a:pt x="2947" y="5"/>
                    </a:cubicBezTo>
                    <a:lnTo>
                      <a:pt x="2947" y="5"/>
                    </a:lnTo>
                    <a:cubicBezTo>
                      <a:pt x="2946" y="5"/>
                      <a:pt x="2945" y="4"/>
                      <a:pt x="2945" y="3"/>
                    </a:cubicBezTo>
                    <a:cubicBezTo>
                      <a:pt x="2945" y="2"/>
                      <a:pt x="2946" y="1"/>
                      <a:pt x="2947" y="1"/>
                    </a:cubicBezTo>
                    <a:close/>
                    <a:moveTo>
                      <a:pt x="2955" y="1"/>
                    </a:moveTo>
                    <a:lnTo>
                      <a:pt x="2955" y="1"/>
                    </a:lnTo>
                    <a:cubicBezTo>
                      <a:pt x="2956" y="1"/>
                      <a:pt x="2957" y="2"/>
                      <a:pt x="2957" y="3"/>
                    </a:cubicBezTo>
                    <a:cubicBezTo>
                      <a:pt x="2957" y="4"/>
                      <a:pt x="2956" y="5"/>
                      <a:pt x="2955" y="5"/>
                    </a:cubicBezTo>
                    <a:lnTo>
                      <a:pt x="2955" y="5"/>
                    </a:lnTo>
                    <a:cubicBezTo>
                      <a:pt x="2954" y="5"/>
                      <a:pt x="2953" y="4"/>
                      <a:pt x="2953" y="3"/>
                    </a:cubicBezTo>
                    <a:cubicBezTo>
                      <a:pt x="2953" y="2"/>
                      <a:pt x="2954" y="1"/>
                      <a:pt x="2955" y="1"/>
                    </a:cubicBezTo>
                    <a:close/>
                    <a:moveTo>
                      <a:pt x="2963" y="1"/>
                    </a:moveTo>
                    <a:lnTo>
                      <a:pt x="2963" y="1"/>
                    </a:lnTo>
                    <a:cubicBezTo>
                      <a:pt x="2964" y="1"/>
                      <a:pt x="2965" y="2"/>
                      <a:pt x="2965" y="3"/>
                    </a:cubicBezTo>
                    <a:cubicBezTo>
                      <a:pt x="2965" y="4"/>
                      <a:pt x="2964" y="5"/>
                      <a:pt x="2963" y="5"/>
                    </a:cubicBezTo>
                    <a:lnTo>
                      <a:pt x="2963" y="5"/>
                    </a:lnTo>
                    <a:cubicBezTo>
                      <a:pt x="2962" y="5"/>
                      <a:pt x="2961" y="4"/>
                      <a:pt x="2961" y="3"/>
                    </a:cubicBezTo>
                    <a:cubicBezTo>
                      <a:pt x="2961" y="2"/>
                      <a:pt x="2962" y="1"/>
                      <a:pt x="2963" y="1"/>
                    </a:cubicBezTo>
                    <a:close/>
                    <a:moveTo>
                      <a:pt x="2971" y="1"/>
                    </a:moveTo>
                    <a:lnTo>
                      <a:pt x="2971" y="1"/>
                    </a:lnTo>
                    <a:cubicBezTo>
                      <a:pt x="2972" y="1"/>
                      <a:pt x="2973" y="2"/>
                      <a:pt x="2973" y="3"/>
                    </a:cubicBezTo>
                    <a:cubicBezTo>
                      <a:pt x="2973" y="4"/>
                      <a:pt x="2972" y="5"/>
                      <a:pt x="2971" y="5"/>
                    </a:cubicBezTo>
                    <a:lnTo>
                      <a:pt x="2971" y="5"/>
                    </a:lnTo>
                    <a:cubicBezTo>
                      <a:pt x="2970" y="5"/>
                      <a:pt x="2969" y="4"/>
                      <a:pt x="2969" y="3"/>
                    </a:cubicBezTo>
                    <a:cubicBezTo>
                      <a:pt x="2969" y="2"/>
                      <a:pt x="2970" y="1"/>
                      <a:pt x="2971" y="1"/>
                    </a:cubicBezTo>
                    <a:close/>
                    <a:moveTo>
                      <a:pt x="2979" y="1"/>
                    </a:moveTo>
                    <a:lnTo>
                      <a:pt x="2979" y="1"/>
                    </a:lnTo>
                    <a:cubicBezTo>
                      <a:pt x="2980" y="1"/>
                      <a:pt x="2981" y="2"/>
                      <a:pt x="2981" y="3"/>
                    </a:cubicBezTo>
                    <a:cubicBezTo>
                      <a:pt x="2981" y="4"/>
                      <a:pt x="2980" y="5"/>
                      <a:pt x="2979" y="5"/>
                    </a:cubicBezTo>
                    <a:lnTo>
                      <a:pt x="2979" y="5"/>
                    </a:lnTo>
                    <a:cubicBezTo>
                      <a:pt x="2978" y="5"/>
                      <a:pt x="2977" y="4"/>
                      <a:pt x="2977" y="3"/>
                    </a:cubicBezTo>
                    <a:cubicBezTo>
                      <a:pt x="2977" y="2"/>
                      <a:pt x="2978" y="1"/>
                      <a:pt x="2979" y="1"/>
                    </a:cubicBezTo>
                    <a:close/>
                    <a:moveTo>
                      <a:pt x="2987" y="1"/>
                    </a:moveTo>
                    <a:lnTo>
                      <a:pt x="2987" y="1"/>
                    </a:lnTo>
                    <a:cubicBezTo>
                      <a:pt x="2988" y="1"/>
                      <a:pt x="2989" y="2"/>
                      <a:pt x="2989" y="3"/>
                    </a:cubicBezTo>
                    <a:cubicBezTo>
                      <a:pt x="2989" y="4"/>
                      <a:pt x="2988" y="5"/>
                      <a:pt x="2987" y="5"/>
                    </a:cubicBezTo>
                    <a:lnTo>
                      <a:pt x="2987" y="5"/>
                    </a:lnTo>
                    <a:cubicBezTo>
                      <a:pt x="2986" y="5"/>
                      <a:pt x="2985" y="4"/>
                      <a:pt x="2985" y="3"/>
                    </a:cubicBezTo>
                    <a:cubicBezTo>
                      <a:pt x="2985" y="2"/>
                      <a:pt x="2986" y="1"/>
                      <a:pt x="2987" y="1"/>
                    </a:cubicBezTo>
                    <a:close/>
                    <a:moveTo>
                      <a:pt x="2995" y="1"/>
                    </a:moveTo>
                    <a:lnTo>
                      <a:pt x="2995" y="1"/>
                    </a:lnTo>
                    <a:cubicBezTo>
                      <a:pt x="2996" y="1"/>
                      <a:pt x="2997" y="2"/>
                      <a:pt x="2997" y="3"/>
                    </a:cubicBezTo>
                    <a:cubicBezTo>
                      <a:pt x="2997" y="4"/>
                      <a:pt x="2996" y="5"/>
                      <a:pt x="2995" y="5"/>
                    </a:cubicBezTo>
                    <a:lnTo>
                      <a:pt x="2995" y="5"/>
                    </a:lnTo>
                    <a:cubicBezTo>
                      <a:pt x="2994" y="5"/>
                      <a:pt x="2993" y="4"/>
                      <a:pt x="2993" y="3"/>
                    </a:cubicBezTo>
                    <a:cubicBezTo>
                      <a:pt x="2993" y="2"/>
                      <a:pt x="2994" y="1"/>
                      <a:pt x="2995" y="1"/>
                    </a:cubicBezTo>
                    <a:close/>
                    <a:moveTo>
                      <a:pt x="3003" y="1"/>
                    </a:moveTo>
                    <a:lnTo>
                      <a:pt x="3003" y="1"/>
                    </a:lnTo>
                    <a:cubicBezTo>
                      <a:pt x="3004" y="1"/>
                      <a:pt x="3005" y="2"/>
                      <a:pt x="3005" y="3"/>
                    </a:cubicBezTo>
                    <a:cubicBezTo>
                      <a:pt x="3005" y="4"/>
                      <a:pt x="3004" y="5"/>
                      <a:pt x="3003" y="5"/>
                    </a:cubicBezTo>
                    <a:lnTo>
                      <a:pt x="3003" y="5"/>
                    </a:lnTo>
                    <a:cubicBezTo>
                      <a:pt x="3002" y="5"/>
                      <a:pt x="3001" y="4"/>
                      <a:pt x="3001" y="3"/>
                    </a:cubicBezTo>
                    <a:cubicBezTo>
                      <a:pt x="3001" y="2"/>
                      <a:pt x="3002" y="1"/>
                      <a:pt x="3003" y="1"/>
                    </a:cubicBezTo>
                    <a:close/>
                    <a:moveTo>
                      <a:pt x="3011" y="1"/>
                    </a:moveTo>
                    <a:lnTo>
                      <a:pt x="3011" y="1"/>
                    </a:lnTo>
                    <a:cubicBezTo>
                      <a:pt x="3012" y="1"/>
                      <a:pt x="3013" y="2"/>
                      <a:pt x="3013" y="3"/>
                    </a:cubicBezTo>
                    <a:cubicBezTo>
                      <a:pt x="3013" y="4"/>
                      <a:pt x="3012" y="5"/>
                      <a:pt x="3011" y="5"/>
                    </a:cubicBezTo>
                    <a:lnTo>
                      <a:pt x="3011" y="5"/>
                    </a:lnTo>
                    <a:cubicBezTo>
                      <a:pt x="3010" y="5"/>
                      <a:pt x="3009" y="4"/>
                      <a:pt x="3009" y="3"/>
                    </a:cubicBezTo>
                    <a:cubicBezTo>
                      <a:pt x="3009" y="2"/>
                      <a:pt x="3010" y="1"/>
                      <a:pt x="3011" y="1"/>
                    </a:cubicBezTo>
                    <a:close/>
                    <a:moveTo>
                      <a:pt x="3019" y="1"/>
                    </a:moveTo>
                    <a:lnTo>
                      <a:pt x="3019" y="1"/>
                    </a:lnTo>
                    <a:cubicBezTo>
                      <a:pt x="3020" y="1"/>
                      <a:pt x="3021" y="2"/>
                      <a:pt x="3021" y="3"/>
                    </a:cubicBezTo>
                    <a:cubicBezTo>
                      <a:pt x="3021" y="4"/>
                      <a:pt x="3020" y="5"/>
                      <a:pt x="3019" y="5"/>
                    </a:cubicBezTo>
                    <a:lnTo>
                      <a:pt x="3019" y="5"/>
                    </a:lnTo>
                    <a:cubicBezTo>
                      <a:pt x="3018" y="5"/>
                      <a:pt x="3017" y="4"/>
                      <a:pt x="3017" y="3"/>
                    </a:cubicBezTo>
                    <a:cubicBezTo>
                      <a:pt x="3017" y="2"/>
                      <a:pt x="3018" y="1"/>
                      <a:pt x="3019" y="1"/>
                    </a:cubicBezTo>
                    <a:close/>
                    <a:moveTo>
                      <a:pt x="3027" y="1"/>
                    </a:moveTo>
                    <a:lnTo>
                      <a:pt x="3027" y="1"/>
                    </a:lnTo>
                    <a:cubicBezTo>
                      <a:pt x="3028" y="1"/>
                      <a:pt x="3029" y="2"/>
                      <a:pt x="3029" y="3"/>
                    </a:cubicBezTo>
                    <a:cubicBezTo>
                      <a:pt x="3029" y="4"/>
                      <a:pt x="3028" y="5"/>
                      <a:pt x="3027" y="5"/>
                    </a:cubicBezTo>
                    <a:lnTo>
                      <a:pt x="3027" y="5"/>
                    </a:lnTo>
                    <a:cubicBezTo>
                      <a:pt x="3026" y="5"/>
                      <a:pt x="3025" y="4"/>
                      <a:pt x="3025" y="3"/>
                    </a:cubicBezTo>
                    <a:cubicBezTo>
                      <a:pt x="3025" y="2"/>
                      <a:pt x="3026" y="1"/>
                      <a:pt x="3027" y="1"/>
                    </a:cubicBezTo>
                    <a:close/>
                    <a:moveTo>
                      <a:pt x="3035" y="1"/>
                    </a:moveTo>
                    <a:lnTo>
                      <a:pt x="3035" y="1"/>
                    </a:lnTo>
                    <a:cubicBezTo>
                      <a:pt x="3036" y="1"/>
                      <a:pt x="3037" y="2"/>
                      <a:pt x="3037" y="3"/>
                    </a:cubicBezTo>
                    <a:cubicBezTo>
                      <a:pt x="3037" y="4"/>
                      <a:pt x="3036" y="5"/>
                      <a:pt x="3035" y="5"/>
                    </a:cubicBezTo>
                    <a:lnTo>
                      <a:pt x="3035" y="5"/>
                    </a:lnTo>
                    <a:cubicBezTo>
                      <a:pt x="3034" y="5"/>
                      <a:pt x="3033" y="4"/>
                      <a:pt x="3033" y="3"/>
                    </a:cubicBezTo>
                    <a:cubicBezTo>
                      <a:pt x="3033" y="2"/>
                      <a:pt x="3034" y="1"/>
                      <a:pt x="3035" y="1"/>
                    </a:cubicBezTo>
                    <a:close/>
                    <a:moveTo>
                      <a:pt x="3043" y="1"/>
                    </a:moveTo>
                    <a:lnTo>
                      <a:pt x="3043" y="1"/>
                    </a:lnTo>
                    <a:cubicBezTo>
                      <a:pt x="3044" y="1"/>
                      <a:pt x="3045" y="2"/>
                      <a:pt x="3045" y="3"/>
                    </a:cubicBezTo>
                    <a:cubicBezTo>
                      <a:pt x="3045" y="4"/>
                      <a:pt x="3044" y="5"/>
                      <a:pt x="3043" y="5"/>
                    </a:cubicBezTo>
                    <a:lnTo>
                      <a:pt x="3043" y="5"/>
                    </a:lnTo>
                    <a:cubicBezTo>
                      <a:pt x="3042" y="5"/>
                      <a:pt x="3041" y="4"/>
                      <a:pt x="3041" y="3"/>
                    </a:cubicBezTo>
                    <a:cubicBezTo>
                      <a:pt x="3041" y="2"/>
                      <a:pt x="3042" y="1"/>
                      <a:pt x="3043" y="1"/>
                    </a:cubicBezTo>
                    <a:close/>
                    <a:moveTo>
                      <a:pt x="3051" y="1"/>
                    </a:moveTo>
                    <a:lnTo>
                      <a:pt x="3051" y="1"/>
                    </a:lnTo>
                    <a:cubicBezTo>
                      <a:pt x="3052" y="1"/>
                      <a:pt x="3053" y="2"/>
                      <a:pt x="3053" y="3"/>
                    </a:cubicBezTo>
                    <a:cubicBezTo>
                      <a:pt x="3053" y="4"/>
                      <a:pt x="3052" y="5"/>
                      <a:pt x="3051" y="5"/>
                    </a:cubicBezTo>
                    <a:lnTo>
                      <a:pt x="3051" y="5"/>
                    </a:lnTo>
                    <a:cubicBezTo>
                      <a:pt x="3050" y="5"/>
                      <a:pt x="3049" y="4"/>
                      <a:pt x="3049" y="3"/>
                    </a:cubicBezTo>
                    <a:cubicBezTo>
                      <a:pt x="3049" y="2"/>
                      <a:pt x="3050" y="1"/>
                      <a:pt x="3051" y="1"/>
                    </a:cubicBezTo>
                    <a:close/>
                    <a:moveTo>
                      <a:pt x="3059" y="1"/>
                    </a:moveTo>
                    <a:lnTo>
                      <a:pt x="3059" y="1"/>
                    </a:lnTo>
                    <a:cubicBezTo>
                      <a:pt x="3060" y="1"/>
                      <a:pt x="3061" y="2"/>
                      <a:pt x="3061" y="3"/>
                    </a:cubicBezTo>
                    <a:cubicBezTo>
                      <a:pt x="3061" y="4"/>
                      <a:pt x="3060" y="5"/>
                      <a:pt x="3059" y="5"/>
                    </a:cubicBezTo>
                    <a:lnTo>
                      <a:pt x="3059" y="5"/>
                    </a:lnTo>
                    <a:cubicBezTo>
                      <a:pt x="3058" y="5"/>
                      <a:pt x="3057" y="4"/>
                      <a:pt x="3057" y="3"/>
                    </a:cubicBezTo>
                    <a:cubicBezTo>
                      <a:pt x="3057" y="2"/>
                      <a:pt x="3058" y="1"/>
                      <a:pt x="3059" y="1"/>
                    </a:cubicBezTo>
                    <a:close/>
                    <a:moveTo>
                      <a:pt x="3067" y="1"/>
                    </a:moveTo>
                    <a:lnTo>
                      <a:pt x="3067" y="1"/>
                    </a:lnTo>
                    <a:cubicBezTo>
                      <a:pt x="3068" y="1"/>
                      <a:pt x="3069" y="2"/>
                      <a:pt x="3069" y="3"/>
                    </a:cubicBezTo>
                    <a:cubicBezTo>
                      <a:pt x="3069" y="4"/>
                      <a:pt x="3068" y="5"/>
                      <a:pt x="3067" y="5"/>
                    </a:cubicBezTo>
                    <a:lnTo>
                      <a:pt x="3067" y="5"/>
                    </a:lnTo>
                    <a:cubicBezTo>
                      <a:pt x="3066" y="5"/>
                      <a:pt x="3065" y="4"/>
                      <a:pt x="3065" y="3"/>
                    </a:cubicBezTo>
                    <a:cubicBezTo>
                      <a:pt x="3065" y="2"/>
                      <a:pt x="3066" y="1"/>
                      <a:pt x="3067" y="1"/>
                    </a:cubicBezTo>
                    <a:close/>
                    <a:moveTo>
                      <a:pt x="3075" y="1"/>
                    </a:moveTo>
                    <a:lnTo>
                      <a:pt x="3075" y="1"/>
                    </a:lnTo>
                    <a:cubicBezTo>
                      <a:pt x="3076" y="1"/>
                      <a:pt x="3077" y="2"/>
                      <a:pt x="3077" y="3"/>
                    </a:cubicBezTo>
                    <a:cubicBezTo>
                      <a:pt x="3077" y="4"/>
                      <a:pt x="3076" y="5"/>
                      <a:pt x="3075" y="5"/>
                    </a:cubicBezTo>
                    <a:lnTo>
                      <a:pt x="3075" y="5"/>
                    </a:lnTo>
                    <a:cubicBezTo>
                      <a:pt x="3074" y="5"/>
                      <a:pt x="3073" y="4"/>
                      <a:pt x="3073" y="3"/>
                    </a:cubicBezTo>
                    <a:cubicBezTo>
                      <a:pt x="3073" y="2"/>
                      <a:pt x="3074" y="1"/>
                      <a:pt x="3075" y="1"/>
                    </a:cubicBezTo>
                    <a:close/>
                    <a:moveTo>
                      <a:pt x="3083" y="1"/>
                    </a:moveTo>
                    <a:lnTo>
                      <a:pt x="3083" y="1"/>
                    </a:lnTo>
                    <a:cubicBezTo>
                      <a:pt x="3084" y="1"/>
                      <a:pt x="3085" y="2"/>
                      <a:pt x="3085" y="3"/>
                    </a:cubicBezTo>
                    <a:cubicBezTo>
                      <a:pt x="3085" y="4"/>
                      <a:pt x="3084" y="5"/>
                      <a:pt x="3083" y="5"/>
                    </a:cubicBezTo>
                    <a:lnTo>
                      <a:pt x="3083" y="5"/>
                    </a:lnTo>
                    <a:cubicBezTo>
                      <a:pt x="3082" y="5"/>
                      <a:pt x="3081" y="4"/>
                      <a:pt x="3081" y="3"/>
                    </a:cubicBezTo>
                    <a:cubicBezTo>
                      <a:pt x="3081" y="2"/>
                      <a:pt x="3082" y="1"/>
                      <a:pt x="3083" y="1"/>
                    </a:cubicBezTo>
                    <a:close/>
                    <a:moveTo>
                      <a:pt x="3091" y="1"/>
                    </a:moveTo>
                    <a:lnTo>
                      <a:pt x="3091" y="1"/>
                    </a:lnTo>
                    <a:cubicBezTo>
                      <a:pt x="3092" y="1"/>
                      <a:pt x="3093" y="2"/>
                      <a:pt x="3093" y="3"/>
                    </a:cubicBezTo>
                    <a:cubicBezTo>
                      <a:pt x="3093" y="4"/>
                      <a:pt x="3092" y="5"/>
                      <a:pt x="3091" y="5"/>
                    </a:cubicBezTo>
                    <a:lnTo>
                      <a:pt x="3091" y="5"/>
                    </a:lnTo>
                    <a:cubicBezTo>
                      <a:pt x="3090" y="5"/>
                      <a:pt x="3089" y="4"/>
                      <a:pt x="3089" y="3"/>
                    </a:cubicBezTo>
                    <a:cubicBezTo>
                      <a:pt x="3089" y="2"/>
                      <a:pt x="3090" y="1"/>
                      <a:pt x="3091" y="1"/>
                    </a:cubicBezTo>
                    <a:close/>
                    <a:moveTo>
                      <a:pt x="3099" y="1"/>
                    </a:moveTo>
                    <a:lnTo>
                      <a:pt x="3099" y="1"/>
                    </a:lnTo>
                    <a:cubicBezTo>
                      <a:pt x="3100" y="1"/>
                      <a:pt x="3101" y="2"/>
                      <a:pt x="3101" y="3"/>
                    </a:cubicBezTo>
                    <a:cubicBezTo>
                      <a:pt x="3101" y="4"/>
                      <a:pt x="3100" y="5"/>
                      <a:pt x="3099" y="5"/>
                    </a:cubicBezTo>
                    <a:lnTo>
                      <a:pt x="3099" y="5"/>
                    </a:lnTo>
                    <a:cubicBezTo>
                      <a:pt x="3098" y="5"/>
                      <a:pt x="3097" y="4"/>
                      <a:pt x="3097" y="3"/>
                    </a:cubicBezTo>
                    <a:cubicBezTo>
                      <a:pt x="3097" y="2"/>
                      <a:pt x="3098" y="1"/>
                      <a:pt x="3099" y="1"/>
                    </a:cubicBezTo>
                    <a:close/>
                    <a:moveTo>
                      <a:pt x="3107" y="1"/>
                    </a:moveTo>
                    <a:lnTo>
                      <a:pt x="3107" y="1"/>
                    </a:lnTo>
                    <a:cubicBezTo>
                      <a:pt x="3108" y="1"/>
                      <a:pt x="3109" y="2"/>
                      <a:pt x="3109" y="3"/>
                    </a:cubicBezTo>
                    <a:cubicBezTo>
                      <a:pt x="3109" y="4"/>
                      <a:pt x="3108" y="5"/>
                      <a:pt x="3107" y="5"/>
                    </a:cubicBezTo>
                    <a:lnTo>
                      <a:pt x="3107" y="5"/>
                    </a:lnTo>
                    <a:cubicBezTo>
                      <a:pt x="3106" y="5"/>
                      <a:pt x="3105" y="4"/>
                      <a:pt x="3105" y="3"/>
                    </a:cubicBezTo>
                    <a:cubicBezTo>
                      <a:pt x="3105" y="2"/>
                      <a:pt x="3106" y="1"/>
                      <a:pt x="3107" y="1"/>
                    </a:cubicBezTo>
                    <a:close/>
                    <a:moveTo>
                      <a:pt x="3115" y="1"/>
                    </a:moveTo>
                    <a:lnTo>
                      <a:pt x="3115" y="1"/>
                    </a:lnTo>
                    <a:cubicBezTo>
                      <a:pt x="3116" y="1"/>
                      <a:pt x="3117" y="2"/>
                      <a:pt x="3117" y="3"/>
                    </a:cubicBezTo>
                    <a:cubicBezTo>
                      <a:pt x="3117" y="4"/>
                      <a:pt x="3116" y="5"/>
                      <a:pt x="3115" y="5"/>
                    </a:cubicBezTo>
                    <a:lnTo>
                      <a:pt x="3115" y="5"/>
                    </a:lnTo>
                    <a:cubicBezTo>
                      <a:pt x="3114" y="5"/>
                      <a:pt x="3113" y="4"/>
                      <a:pt x="3113" y="3"/>
                    </a:cubicBezTo>
                    <a:cubicBezTo>
                      <a:pt x="3113" y="2"/>
                      <a:pt x="3114" y="1"/>
                      <a:pt x="3115" y="1"/>
                    </a:cubicBezTo>
                    <a:close/>
                    <a:moveTo>
                      <a:pt x="3123" y="1"/>
                    </a:moveTo>
                    <a:lnTo>
                      <a:pt x="3123" y="1"/>
                    </a:lnTo>
                    <a:cubicBezTo>
                      <a:pt x="3124" y="1"/>
                      <a:pt x="3125" y="2"/>
                      <a:pt x="3125" y="3"/>
                    </a:cubicBezTo>
                    <a:cubicBezTo>
                      <a:pt x="3125" y="4"/>
                      <a:pt x="3124" y="5"/>
                      <a:pt x="3123" y="5"/>
                    </a:cubicBezTo>
                    <a:lnTo>
                      <a:pt x="3123" y="5"/>
                    </a:lnTo>
                    <a:cubicBezTo>
                      <a:pt x="3122" y="5"/>
                      <a:pt x="3121" y="4"/>
                      <a:pt x="3121" y="3"/>
                    </a:cubicBezTo>
                    <a:cubicBezTo>
                      <a:pt x="3121" y="2"/>
                      <a:pt x="3122" y="1"/>
                      <a:pt x="3123" y="1"/>
                    </a:cubicBezTo>
                    <a:close/>
                    <a:moveTo>
                      <a:pt x="3131" y="1"/>
                    </a:moveTo>
                    <a:lnTo>
                      <a:pt x="3131" y="1"/>
                    </a:lnTo>
                    <a:cubicBezTo>
                      <a:pt x="3132" y="1"/>
                      <a:pt x="3133" y="2"/>
                      <a:pt x="3133" y="3"/>
                    </a:cubicBezTo>
                    <a:cubicBezTo>
                      <a:pt x="3133" y="4"/>
                      <a:pt x="3132" y="5"/>
                      <a:pt x="3131" y="5"/>
                    </a:cubicBezTo>
                    <a:lnTo>
                      <a:pt x="3131" y="5"/>
                    </a:lnTo>
                    <a:cubicBezTo>
                      <a:pt x="3130" y="5"/>
                      <a:pt x="3129" y="4"/>
                      <a:pt x="3129" y="3"/>
                    </a:cubicBezTo>
                    <a:cubicBezTo>
                      <a:pt x="3129" y="2"/>
                      <a:pt x="3130" y="1"/>
                      <a:pt x="3131" y="1"/>
                    </a:cubicBezTo>
                    <a:close/>
                    <a:moveTo>
                      <a:pt x="3139" y="1"/>
                    </a:moveTo>
                    <a:lnTo>
                      <a:pt x="3139" y="1"/>
                    </a:lnTo>
                    <a:cubicBezTo>
                      <a:pt x="3140" y="1"/>
                      <a:pt x="3141" y="2"/>
                      <a:pt x="3141" y="3"/>
                    </a:cubicBezTo>
                    <a:cubicBezTo>
                      <a:pt x="3141" y="4"/>
                      <a:pt x="3140" y="5"/>
                      <a:pt x="3139" y="5"/>
                    </a:cubicBezTo>
                    <a:lnTo>
                      <a:pt x="3139" y="5"/>
                    </a:lnTo>
                    <a:cubicBezTo>
                      <a:pt x="3138" y="5"/>
                      <a:pt x="3137" y="4"/>
                      <a:pt x="3137" y="3"/>
                    </a:cubicBezTo>
                    <a:cubicBezTo>
                      <a:pt x="3137" y="2"/>
                      <a:pt x="3138" y="1"/>
                      <a:pt x="3139" y="1"/>
                    </a:cubicBezTo>
                    <a:close/>
                    <a:moveTo>
                      <a:pt x="3147" y="1"/>
                    </a:moveTo>
                    <a:lnTo>
                      <a:pt x="3147" y="1"/>
                    </a:lnTo>
                    <a:cubicBezTo>
                      <a:pt x="3148" y="1"/>
                      <a:pt x="3149" y="2"/>
                      <a:pt x="3149" y="3"/>
                    </a:cubicBezTo>
                    <a:cubicBezTo>
                      <a:pt x="3149" y="4"/>
                      <a:pt x="3148" y="5"/>
                      <a:pt x="3147" y="5"/>
                    </a:cubicBezTo>
                    <a:lnTo>
                      <a:pt x="3147" y="5"/>
                    </a:lnTo>
                    <a:cubicBezTo>
                      <a:pt x="3146" y="5"/>
                      <a:pt x="3145" y="4"/>
                      <a:pt x="3145" y="3"/>
                    </a:cubicBezTo>
                    <a:cubicBezTo>
                      <a:pt x="3145" y="2"/>
                      <a:pt x="3146" y="1"/>
                      <a:pt x="3147" y="1"/>
                    </a:cubicBezTo>
                    <a:close/>
                    <a:moveTo>
                      <a:pt x="3155" y="1"/>
                    </a:moveTo>
                    <a:lnTo>
                      <a:pt x="3155" y="1"/>
                    </a:lnTo>
                    <a:cubicBezTo>
                      <a:pt x="3156" y="1"/>
                      <a:pt x="3157" y="2"/>
                      <a:pt x="3157" y="3"/>
                    </a:cubicBezTo>
                    <a:cubicBezTo>
                      <a:pt x="3157" y="4"/>
                      <a:pt x="3156" y="5"/>
                      <a:pt x="3155" y="5"/>
                    </a:cubicBezTo>
                    <a:lnTo>
                      <a:pt x="3155" y="5"/>
                    </a:lnTo>
                    <a:cubicBezTo>
                      <a:pt x="3154" y="5"/>
                      <a:pt x="3153" y="4"/>
                      <a:pt x="3153" y="3"/>
                    </a:cubicBezTo>
                    <a:cubicBezTo>
                      <a:pt x="3153" y="2"/>
                      <a:pt x="3154" y="1"/>
                      <a:pt x="3155" y="1"/>
                    </a:cubicBezTo>
                    <a:close/>
                    <a:moveTo>
                      <a:pt x="3163" y="1"/>
                    </a:moveTo>
                    <a:lnTo>
                      <a:pt x="3163" y="1"/>
                    </a:lnTo>
                    <a:cubicBezTo>
                      <a:pt x="3164" y="1"/>
                      <a:pt x="3165" y="2"/>
                      <a:pt x="3165" y="3"/>
                    </a:cubicBezTo>
                    <a:cubicBezTo>
                      <a:pt x="3165" y="4"/>
                      <a:pt x="3164" y="5"/>
                      <a:pt x="3163" y="5"/>
                    </a:cubicBezTo>
                    <a:lnTo>
                      <a:pt x="3163" y="5"/>
                    </a:lnTo>
                    <a:cubicBezTo>
                      <a:pt x="3162" y="5"/>
                      <a:pt x="3161" y="4"/>
                      <a:pt x="3161" y="3"/>
                    </a:cubicBezTo>
                    <a:cubicBezTo>
                      <a:pt x="3161" y="2"/>
                      <a:pt x="3162" y="1"/>
                      <a:pt x="3163" y="1"/>
                    </a:cubicBezTo>
                    <a:close/>
                    <a:moveTo>
                      <a:pt x="3171" y="1"/>
                    </a:moveTo>
                    <a:lnTo>
                      <a:pt x="3171" y="1"/>
                    </a:lnTo>
                    <a:cubicBezTo>
                      <a:pt x="3172" y="1"/>
                      <a:pt x="3173" y="2"/>
                      <a:pt x="3173" y="3"/>
                    </a:cubicBezTo>
                    <a:cubicBezTo>
                      <a:pt x="3173" y="4"/>
                      <a:pt x="3172" y="5"/>
                      <a:pt x="3171" y="5"/>
                    </a:cubicBezTo>
                    <a:lnTo>
                      <a:pt x="3171" y="5"/>
                    </a:lnTo>
                    <a:cubicBezTo>
                      <a:pt x="3170" y="5"/>
                      <a:pt x="3169" y="4"/>
                      <a:pt x="3169" y="3"/>
                    </a:cubicBezTo>
                    <a:cubicBezTo>
                      <a:pt x="3169" y="2"/>
                      <a:pt x="3170" y="1"/>
                      <a:pt x="3171" y="1"/>
                    </a:cubicBezTo>
                    <a:close/>
                    <a:moveTo>
                      <a:pt x="3179" y="1"/>
                    </a:moveTo>
                    <a:lnTo>
                      <a:pt x="3179" y="1"/>
                    </a:lnTo>
                    <a:cubicBezTo>
                      <a:pt x="3180" y="1"/>
                      <a:pt x="3181" y="2"/>
                      <a:pt x="3181" y="3"/>
                    </a:cubicBezTo>
                    <a:cubicBezTo>
                      <a:pt x="3181" y="4"/>
                      <a:pt x="3180" y="5"/>
                      <a:pt x="3179" y="5"/>
                    </a:cubicBezTo>
                    <a:lnTo>
                      <a:pt x="3179" y="5"/>
                    </a:lnTo>
                    <a:cubicBezTo>
                      <a:pt x="3178" y="5"/>
                      <a:pt x="3177" y="4"/>
                      <a:pt x="3177" y="3"/>
                    </a:cubicBezTo>
                    <a:cubicBezTo>
                      <a:pt x="3177" y="2"/>
                      <a:pt x="3178" y="1"/>
                      <a:pt x="3179" y="1"/>
                    </a:cubicBezTo>
                    <a:close/>
                    <a:moveTo>
                      <a:pt x="3187" y="1"/>
                    </a:moveTo>
                    <a:lnTo>
                      <a:pt x="3187" y="1"/>
                    </a:lnTo>
                    <a:cubicBezTo>
                      <a:pt x="3188" y="1"/>
                      <a:pt x="3189" y="2"/>
                      <a:pt x="3189" y="3"/>
                    </a:cubicBezTo>
                    <a:cubicBezTo>
                      <a:pt x="3189" y="4"/>
                      <a:pt x="3188" y="5"/>
                      <a:pt x="3187" y="5"/>
                    </a:cubicBezTo>
                    <a:lnTo>
                      <a:pt x="3187" y="5"/>
                    </a:lnTo>
                    <a:cubicBezTo>
                      <a:pt x="3186" y="5"/>
                      <a:pt x="3185" y="4"/>
                      <a:pt x="3185" y="3"/>
                    </a:cubicBezTo>
                    <a:cubicBezTo>
                      <a:pt x="3185" y="2"/>
                      <a:pt x="3186" y="1"/>
                      <a:pt x="3187" y="1"/>
                    </a:cubicBezTo>
                    <a:close/>
                    <a:moveTo>
                      <a:pt x="3195" y="1"/>
                    </a:moveTo>
                    <a:lnTo>
                      <a:pt x="3195" y="1"/>
                    </a:lnTo>
                    <a:cubicBezTo>
                      <a:pt x="3196" y="1"/>
                      <a:pt x="3197" y="2"/>
                      <a:pt x="3197" y="3"/>
                    </a:cubicBezTo>
                    <a:cubicBezTo>
                      <a:pt x="3197" y="4"/>
                      <a:pt x="3196" y="5"/>
                      <a:pt x="3195" y="5"/>
                    </a:cubicBezTo>
                    <a:lnTo>
                      <a:pt x="3195" y="5"/>
                    </a:lnTo>
                    <a:cubicBezTo>
                      <a:pt x="3194" y="5"/>
                      <a:pt x="3193" y="4"/>
                      <a:pt x="3193" y="3"/>
                    </a:cubicBezTo>
                    <a:cubicBezTo>
                      <a:pt x="3193" y="2"/>
                      <a:pt x="3194" y="1"/>
                      <a:pt x="3195" y="1"/>
                    </a:cubicBezTo>
                    <a:close/>
                    <a:moveTo>
                      <a:pt x="3203" y="1"/>
                    </a:moveTo>
                    <a:lnTo>
                      <a:pt x="3203" y="1"/>
                    </a:lnTo>
                    <a:cubicBezTo>
                      <a:pt x="3204" y="1"/>
                      <a:pt x="3205" y="2"/>
                      <a:pt x="3205" y="3"/>
                    </a:cubicBezTo>
                    <a:cubicBezTo>
                      <a:pt x="3205" y="4"/>
                      <a:pt x="3204" y="5"/>
                      <a:pt x="3203" y="5"/>
                    </a:cubicBezTo>
                    <a:lnTo>
                      <a:pt x="3203" y="5"/>
                    </a:lnTo>
                    <a:cubicBezTo>
                      <a:pt x="3202" y="5"/>
                      <a:pt x="3201" y="4"/>
                      <a:pt x="3201" y="3"/>
                    </a:cubicBezTo>
                    <a:cubicBezTo>
                      <a:pt x="3201" y="2"/>
                      <a:pt x="3202" y="1"/>
                      <a:pt x="3203" y="1"/>
                    </a:cubicBezTo>
                    <a:close/>
                    <a:moveTo>
                      <a:pt x="3211" y="1"/>
                    </a:moveTo>
                    <a:lnTo>
                      <a:pt x="3211" y="1"/>
                    </a:lnTo>
                    <a:cubicBezTo>
                      <a:pt x="3212" y="1"/>
                      <a:pt x="3213" y="2"/>
                      <a:pt x="3213" y="3"/>
                    </a:cubicBezTo>
                    <a:cubicBezTo>
                      <a:pt x="3213" y="4"/>
                      <a:pt x="3212" y="5"/>
                      <a:pt x="3211" y="5"/>
                    </a:cubicBezTo>
                    <a:lnTo>
                      <a:pt x="3211" y="5"/>
                    </a:lnTo>
                    <a:cubicBezTo>
                      <a:pt x="3210" y="5"/>
                      <a:pt x="3209" y="4"/>
                      <a:pt x="3209" y="3"/>
                    </a:cubicBezTo>
                    <a:cubicBezTo>
                      <a:pt x="3209" y="2"/>
                      <a:pt x="3210" y="1"/>
                      <a:pt x="3211" y="1"/>
                    </a:cubicBezTo>
                    <a:close/>
                    <a:moveTo>
                      <a:pt x="3219" y="1"/>
                    </a:moveTo>
                    <a:lnTo>
                      <a:pt x="3219" y="1"/>
                    </a:lnTo>
                    <a:cubicBezTo>
                      <a:pt x="3220" y="1"/>
                      <a:pt x="3221" y="2"/>
                      <a:pt x="3221" y="3"/>
                    </a:cubicBezTo>
                    <a:cubicBezTo>
                      <a:pt x="3221" y="4"/>
                      <a:pt x="3220" y="5"/>
                      <a:pt x="3219" y="5"/>
                    </a:cubicBezTo>
                    <a:lnTo>
                      <a:pt x="3219" y="5"/>
                    </a:lnTo>
                    <a:cubicBezTo>
                      <a:pt x="3218" y="5"/>
                      <a:pt x="3217" y="4"/>
                      <a:pt x="3217" y="3"/>
                    </a:cubicBezTo>
                    <a:cubicBezTo>
                      <a:pt x="3217" y="2"/>
                      <a:pt x="3218" y="1"/>
                      <a:pt x="3219" y="1"/>
                    </a:cubicBezTo>
                    <a:close/>
                    <a:moveTo>
                      <a:pt x="3227" y="1"/>
                    </a:moveTo>
                    <a:lnTo>
                      <a:pt x="3227" y="1"/>
                    </a:lnTo>
                    <a:cubicBezTo>
                      <a:pt x="3228" y="1"/>
                      <a:pt x="3229" y="2"/>
                      <a:pt x="3229" y="3"/>
                    </a:cubicBezTo>
                    <a:cubicBezTo>
                      <a:pt x="3229" y="4"/>
                      <a:pt x="3228" y="5"/>
                      <a:pt x="3227" y="5"/>
                    </a:cubicBezTo>
                    <a:lnTo>
                      <a:pt x="3227" y="5"/>
                    </a:lnTo>
                    <a:cubicBezTo>
                      <a:pt x="3226" y="5"/>
                      <a:pt x="3225" y="4"/>
                      <a:pt x="3225" y="3"/>
                    </a:cubicBezTo>
                    <a:cubicBezTo>
                      <a:pt x="3225" y="2"/>
                      <a:pt x="3226" y="1"/>
                      <a:pt x="3227" y="1"/>
                    </a:cubicBezTo>
                    <a:close/>
                    <a:moveTo>
                      <a:pt x="3235" y="1"/>
                    </a:moveTo>
                    <a:lnTo>
                      <a:pt x="3235" y="1"/>
                    </a:lnTo>
                    <a:cubicBezTo>
                      <a:pt x="3236" y="1"/>
                      <a:pt x="3237" y="2"/>
                      <a:pt x="3237" y="3"/>
                    </a:cubicBezTo>
                    <a:cubicBezTo>
                      <a:pt x="3237" y="4"/>
                      <a:pt x="3236" y="5"/>
                      <a:pt x="3235" y="5"/>
                    </a:cubicBezTo>
                    <a:lnTo>
                      <a:pt x="3235" y="5"/>
                    </a:lnTo>
                    <a:cubicBezTo>
                      <a:pt x="3234" y="5"/>
                      <a:pt x="3233" y="4"/>
                      <a:pt x="3233" y="3"/>
                    </a:cubicBezTo>
                    <a:cubicBezTo>
                      <a:pt x="3233" y="2"/>
                      <a:pt x="3234" y="1"/>
                      <a:pt x="3235" y="1"/>
                    </a:cubicBezTo>
                    <a:close/>
                    <a:moveTo>
                      <a:pt x="3243" y="1"/>
                    </a:moveTo>
                    <a:lnTo>
                      <a:pt x="3243" y="1"/>
                    </a:lnTo>
                    <a:cubicBezTo>
                      <a:pt x="3244" y="1"/>
                      <a:pt x="3245" y="2"/>
                      <a:pt x="3245" y="3"/>
                    </a:cubicBezTo>
                    <a:cubicBezTo>
                      <a:pt x="3245" y="4"/>
                      <a:pt x="3244" y="5"/>
                      <a:pt x="3243" y="5"/>
                    </a:cubicBezTo>
                    <a:lnTo>
                      <a:pt x="3243" y="5"/>
                    </a:lnTo>
                    <a:cubicBezTo>
                      <a:pt x="3242" y="5"/>
                      <a:pt x="3241" y="4"/>
                      <a:pt x="3241" y="3"/>
                    </a:cubicBezTo>
                    <a:cubicBezTo>
                      <a:pt x="3241" y="2"/>
                      <a:pt x="3242" y="1"/>
                      <a:pt x="3243" y="1"/>
                    </a:cubicBezTo>
                    <a:close/>
                    <a:moveTo>
                      <a:pt x="3251" y="1"/>
                    </a:moveTo>
                    <a:lnTo>
                      <a:pt x="3251" y="1"/>
                    </a:lnTo>
                    <a:cubicBezTo>
                      <a:pt x="3252" y="1"/>
                      <a:pt x="3253" y="2"/>
                      <a:pt x="3253" y="3"/>
                    </a:cubicBezTo>
                    <a:cubicBezTo>
                      <a:pt x="3253" y="4"/>
                      <a:pt x="3252" y="5"/>
                      <a:pt x="3251" y="5"/>
                    </a:cubicBezTo>
                    <a:lnTo>
                      <a:pt x="3251" y="5"/>
                    </a:lnTo>
                    <a:cubicBezTo>
                      <a:pt x="3250" y="5"/>
                      <a:pt x="3249" y="4"/>
                      <a:pt x="3249" y="3"/>
                    </a:cubicBezTo>
                    <a:cubicBezTo>
                      <a:pt x="3249" y="2"/>
                      <a:pt x="3250" y="1"/>
                      <a:pt x="3251" y="1"/>
                    </a:cubicBezTo>
                    <a:close/>
                    <a:moveTo>
                      <a:pt x="3259" y="1"/>
                    </a:moveTo>
                    <a:lnTo>
                      <a:pt x="3259" y="1"/>
                    </a:lnTo>
                    <a:cubicBezTo>
                      <a:pt x="3261" y="1"/>
                      <a:pt x="3261" y="2"/>
                      <a:pt x="3261" y="3"/>
                    </a:cubicBezTo>
                    <a:cubicBezTo>
                      <a:pt x="3261" y="4"/>
                      <a:pt x="3261" y="5"/>
                      <a:pt x="3259" y="5"/>
                    </a:cubicBezTo>
                    <a:lnTo>
                      <a:pt x="3259" y="5"/>
                    </a:lnTo>
                    <a:cubicBezTo>
                      <a:pt x="3258" y="5"/>
                      <a:pt x="3257" y="4"/>
                      <a:pt x="3257" y="3"/>
                    </a:cubicBezTo>
                    <a:cubicBezTo>
                      <a:pt x="3257" y="2"/>
                      <a:pt x="3258" y="1"/>
                      <a:pt x="3259" y="1"/>
                    </a:cubicBezTo>
                    <a:close/>
                    <a:moveTo>
                      <a:pt x="3267" y="1"/>
                    </a:moveTo>
                    <a:lnTo>
                      <a:pt x="3267" y="1"/>
                    </a:lnTo>
                    <a:cubicBezTo>
                      <a:pt x="3269" y="1"/>
                      <a:pt x="3269" y="2"/>
                      <a:pt x="3269" y="3"/>
                    </a:cubicBezTo>
                    <a:cubicBezTo>
                      <a:pt x="3269" y="4"/>
                      <a:pt x="3269" y="5"/>
                      <a:pt x="3267" y="5"/>
                    </a:cubicBezTo>
                    <a:lnTo>
                      <a:pt x="3267" y="5"/>
                    </a:lnTo>
                    <a:cubicBezTo>
                      <a:pt x="3266" y="5"/>
                      <a:pt x="3265" y="4"/>
                      <a:pt x="3265" y="3"/>
                    </a:cubicBezTo>
                    <a:cubicBezTo>
                      <a:pt x="3265" y="2"/>
                      <a:pt x="3266" y="1"/>
                      <a:pt x="3267" y="1"/>
                    </a:cubicBezTo>
                    <a:close/>
                    <a:moveTo>
                      <a:pt x="3275" y="1"/>
                    </a:moveTo>
                    <a:lnTo>
                      <a:pt x="3275" y="1"/>
                    </a:lnTo>
                    <a:cubicBezTo>
                      <a:pt x="3277" y="1"/>
                      <a:pt x="3277" y="2"/>
                      <a:pt x="3277" y="3"/>
                    </a:cubicBezTo>
                    <a:cubicBezTo>
                      <a:pt x="3277" y="4"/>
                      <a:pt x="3277" y="5"/>
                      <a:pt x="3275" y="5"/>
                    </a:cubicBezTo>
                    <a:lnTo>
                      <a:pt x="3275" y="5"/>
                    </a:lnTo>
                    <a:cubicBezTo>
                      <a:pt x="3274" y="5"/>
                      <a:pt x="3273" y="4"/>
                      <a:pt x="3273" y="3"/>
                    </a:cubicBezTo>
                    <a:cubicBezTo>
                      <a:pt x="3273" y="2"/>
                      <a:pt x="3274" y="1"/>
                      <a:pt x="3275" y="1"/>
                    </a:cubicBezTo>
                    <a:close/>
                    <a:moveTo>
                      <a:pt x="3283" y="1"/>
                    </a:moveTo>
                    <a:lnTo>
                      <a:pt x="3283" y="1"/>
                    </a:lnTo>
                    <a:cubicBezTo>
                      <a:pt x="3285" y="1"/>
                      <a:pt x="3285" y="2"/>
                      <a:pt x="3285" y="3"/>
                    </a:cubicBezTo>
                    <a:cubicBezTo>
                      <a:pt x="3285" y="4"/>
                      <a:pt x="3285" y="5"/>
                      <a:pt x="3283" y="5"/>
                    </a:cubicBezTo>
                    <a:lnTo>
                      <a:pt x="3283" y="5"/>
                    </a:lnTo>
                    <a:cubicBezTo>
                      <a:pt x="3282" y="5"/>
                      <a:pt x="3281" y="4"/>
                      <a:pt x="3281" y="3"/>
                    </a:cubicBezTo>
                    <a:cubicBezTo>
                      <a:pt x="3281" y="2"/>
                      <a:pt x="3282" y="1"/>
                      <a:pt x="3283" y="1"/>
                    </a:cubicBezTo>
                    <a:close/>
                    <a:moveTo>
                      <a:pt x="3291" y="1"/>
                    </a:moveTo>
                    <a:lnTo>
                      <a:pt x="3291" y="1"/>
                    </a:lnTo>
                    <a:cubicBezTo>
                      <a:pt x="3293" y="1"/>
                      <a:pt x="3293" y="2"/>
                      <a:pt x="3293" y="3"/>
                    </a:cubicBezTo>
                    <a:cubicBezTo>
                      <a:pt x="3293" y="4"/>
                      <a:pt x="3293" y="5"/>
                      <a:pt x="3291" y="5"/>
                    </a:cubicBezTo>
                    <a:lnTo>
                      <a:pt x="3291" y="5"/>
                    </a:lnTo>
                    <a:cubicBezTo>
                      <a:pt x="3290" y="5"/>
                      <a:pt x="3289" y="4"/>
                      <a:pt x="3289" y="3"/>
                    </a:cubicBezTo>
                    <a:cubicBezTo>
                      <a:pt x="3289" y="2"/>
                      <a:pt x="3290" y="1"/>
                      <a:pt x="3291" y="1"/>
                    </a:cubicBezTo>
                    <a:close/>
                    <a:moveTo>
                      <a:pt x="3299" y="1"/>
                    </a:moveTo>
                    <a:lnTo>
                      <a:pt x="3299" y="1"/>
                    </a:lnTo>
                    <a:cubicBezTo>
                      <a:pt x="3301" y="1"/>
                      <a:pt x="3301" y="2"/>
                      <a:pt x="3301" y="3"/>
                    </a:cubicBezTo>
                    <a:cubicBezTo>
                      <a:pt x="3301" y="4"/>
                      <a:pt x="3301" y="5"/>
                      <a:pt x="3299" y="5"/>
                    </a:cubicBezTo>
                    <a:lnTo>
                      <a:pt x="3299" y="5"/>
                    </a:lnTo>
                    <a:cubicBezTo>
                      <a:pt x="3298" y="5"/>
                      <a:pt x="3297" y="4"/>
                      <a:pt x="3297" y="3"/>
                    </a:cubicBezTo>
                    <a:cubicBezTo>
                      <a:pt x="3297" y="2"/>
                      <a:pt x="3298" y="1"/>
                      <a:pt x="3299" y="1"/>
                    </a:cubicBezTo>
                    <a:close/>
                    <a:moveTo>
                      <a:pt x="3307" y="1"/>
                    </a:moveTo>
                    <a:lnTo>
                      <a:pt x="3307" y="1"/>
                    </a:lnTo>
                    <a:cubicBezTo>
                      <a:pt x="3309" y="1"/>
                      <a:pt x="3309" y="2"/>
                      <a:pt x="3309" y="3"/>
                    </a:cubicBezTo>
                    <a:cubicBezTo>
                      <a:pt x="3309" y="4"/>
                      <a:pt x="3309" y="5"/>
                      <a:pt x="3307" y="5"/>
                    </a:cubicBezTo>
                    <a:lnTo>
                      <a:pt x="3307" y="5"/>
                    </a:lnTo>
                    <a:cubicBezTo>
                      <a:pt x="3306" y="5"/>
                      <a:pt x="3305" y="4"/>
                      <a:pt x="3305" y="3"/>
                    </a:cubicBezTo>
                    <a:cubicBezTo>
                      <a:pt x="3305" y="2"/>
                      <a:pt x="3306" y="1"/>
                      <a:pt x="3307" y="1"/>
                    </a:cubicBezTo>
                    <a:close/>
                    <a:moveTo>
                      <a:pt x="3315" y="1"/>
                    </a:moveTo>
                    <a:lnTo>
                      <a:pt x="3315" y="1"/>
                    </a:lnTo>
                    <a:cubicBezTo>
                      <a:pt x="3317" y="1"/>
                      <a:pt x="3317" y="2"/>
                      <a:pt x="3317" y="3"/>
                    </a:cubicBezTo>
                    <a:cubicBezTo>
                      <a:pt x="3317" y="4"/>
                      <a:pt x="3317" y="5"/>
                      <a:pt x="3315" y="5"/>
                    </a:cubicBezTo>
                    <a:lnTo>
                      <a:pt x="3315" y="5"/>
                    </a:lnTo>
                    <a:cubicBezTo>
                      <a:pt x="3314" y="5"/>
                      <a:pt x="3313" y="4"/>
                      <a:pt x="3313" y="3"/>
                    </a:cubicBezTo>
                    <a:cubicBezTo>
                      <a:pt x="3313" y="2"/>
                      <a:pt x="3314" y="1"/>
                      <a:pt x="3315" y="1"/>
                    </a:cubicBezTo>
                    <a:close/>
                    <a:moveTo>
                      <a:pt x="3323" y="1"/>
                    </a:moveTo>
                    <a:lnTo>
                      <a:pt x="3323" y="1"/>
                    </a:lnTo>
                    <a:cubicBezTo>
                      <a:pt x="3325" y="1"/>
                      <a:pt x="3325" y="2"/>
                      <a:pt x="3325" y="3"/>
                    </a:cubicBezTo>
                    <a:cubicBezTo>
                      <a:pt x="3325" y="4"/>
                      <a:pt x="3325" y="5"/>
                      <a:pt x="3323" y="5"/>
                    </a:cubicBezTo>
                    <a:lnTo>
                      <a:pt x="3323" y="5"/>
                    </a:lnTo>
                    <a:cubicBezTo>
                      <a:pt x="3322" y="5"/>
                      <a:pt x="3321" y="4"/>
                      <a:pt x="3321" y="3"/>
                    </a:cubicBezTo>
                    <a:cubicBezTo>
                      <a:pt x="3321" y="2"/>
                      <a:pt x="3322" y="1"/>
                      <a:pt x="3323" y="1"/>
                    </a:cubicBezTo>
                    <a:close/>
                    <a:moveTo>
                      <a:pt x="3331" y="1"/>
                    </a:moveTo>
                    <a:lnTo>
                      <a:pt x="3331" y="1"/>
                    </a:lnTo>
                    <a:cubicBezTo>
                      <a:pt x="3333" y="1"/>
                      <a:pt x="3333" y="2"/>
                      <a:pt x="3333" y="3"/>
                    </a:cubicBezTo>
                    <a:cubicBezTo>
                      <a:pt x="3333" y="4"/>
                      <a:pt x="3333" y="5"/>
                      <a:pt x="3331" y="5"/>
                    </a:cubicBezTo>
                    <a:lnTo>
                      <a:pt x="3331" y="5"/>
                    </a:lnTo>
                    <a:cubicBezTo>
                      <a:pt x="3330" y="5"/>
                      <a:pt x="3329" y="4"/>
                      <a:pt x="3329" y="3"/>
                    </a:cubicBezTo>
                    <a:cubicBezTo>
                      <a:pt x="3329" y="2"/>
                      <a:pt x="3330" y="1"/>
                      <a:pt x="3331" y="1"/>
                    </a:cubicBezTo>
                    <a:close/>
                    <a:moveTo>
                      <a:pt x="3339" y="1"/>
                    </a:moveTo>
                    <a:lnTo>
                      <a:pt x="3339" y="1"/>
                    </a:lnTo>
                    <a:cubicBezTo>
                      <a:pt x="3341" y="1"/>
                      <a:pt x="3341" y="2"/>
                      <a:pt x="3341" y="3"/>
                    </a:cubicBezTo>
                    <a:cubicBezTo>
                      <a:pt x="3341" y="4"/>
                      <a:pt x="3341" y="5"/>
                      <a:pt x="3339" y="5"/>
                    </a:cubicBezTo>
                    <a:lnTo>
                      <a:pt x="3339" y="5"/>
                    </a:lnTo>
                    <a:cubicBezTo>
                      <a:pt x="3338" y="5"/>
                      <a:pt x="3337" y="4"/>
                      <a:pt x="3337" y="3"/>
                    </a:cubicBezTo>
                    <a:cubicBezTo>
                      <a:pt x="3337" y="2"/>
                      <a:pt x="3338" y="1"/>
                      <a:pt x="3339" y="1"/>
                    </a:cubicBezTo>
                    <a:close/>
                    <a:moveTo>
                      <a:pt x="3347" y="1"/>
                    </a:moveTo>
                    <a:lnTo>
                      <a:pt x="3347" y="1"/>
                    </a:lnTo>
                    <a:cubicBezTo>
                      <a:pt x="3349" y="1"/>
                      <a:pt x="3349" y="2"/>
                      <a:pt x="3349" y="3"/>
                    </a:cubicBezTo>
                    <a:cubicBezTo>
                      <a:pt x="3349" y="4"/>
                      <a:pt x="3349" y="5"/>
                      <a:pt x="3347" y="5"/>
                    </a:cubicBezTo>
                    <a:lnTo>
                      <a:pt x="3347" y="5"/>
                    </a:lnTo>
                    <a:cubicBezTo>
                      <a:pt x="3346" y="5"/>
                      <a:pt x="3345" y="4"/>
                      <a:pt x="3345" y="3"/>
                    </a:cubicBezTo>
                    <a:cubicBezTo>
                      <a:pt x="3345" y="2"/>
                      <a:pt x="3346" y="1"/>
                      <a:pt x="3347" y="1"/>
                    </a:cubicBezTo>
                    <a:close/>
                    <a:moveTo>
                      <a:pt x="3355" y="1"/>
                    </a:moveTo>
                    <a:lnTo>
                      <a:pt x="3355" y="1"/>
                    </a:lnTo>
                    <a:cubicBezTo>
                      <a:pt x="3357" y="1"/>
                      <a:pt x="3357" y="2"/>
                      <a:pt x="3357" y="3"/>
                    </a:cubicBezTo>
                    <a:cubicBezTo>
                      <a:pt x="3357" y="4"/>
                      <a:pt x="3357" y="5"/>
                      <a:pt x="3355" y="5"/>
                    </a:cubicBezTo>
                    <a:lnTo>
                      <a:pt x="3355" y="5"/>
                    </a:lnTo>
                    <a:cubicBezTo>
                      <a:pt x="3354" y="5"/>
                      <a:pt x="3353" y="4"/>
                      <a:pt x="3353" y="3"/>
                    </a:cubicBezTo>
                    <a:cubicBezTo>
                      <a:pt x="3353" y="2"/>
                      <a:pt x="3354" y="1"/>
                      <a:pt x="3355" y="1"/>
                    </a:cubicBezTo>
                    <a:close/>
                    <a:moveTo>
                      <a:pt x="3363" y="1"/>
                    </a:moveTo>
                    <a:lnTo>
                      <a:pt x="3363" y="1"/>
                    </a:lnTo>
                    <a:cubicBezTo>
                      <a:pt x="3365" y="1"/>
                      <a:pt x="3365" y="2"/>
                      <a:pt x="3365" y="3"/>
                    </a:cubicBezTo>
                    <a:cubicBezTo>
                      <a:pt x="3365" y="4"/>
                      <a:pt x="3365" y="5"/>
                      <a:pt x="3363" y="5"/>
                    </a:cubicBezTo>
                    <a:lnTo>
                      <a:pt x="3363" y="5"/>
                    </a:lnTo>
                    <a:cubicBezTo>
                      <a:pt x="3362" y="5"/>
                      <a:pt x="3361" y="4"/>
                      <a:pt x="3361" y="3"/>
                    </a:cubicBezTo>
                    <a:cubicBezTo>
                      <a:pt x="3361" y="2"/>
                      <a:pt x="3362" y="1"/>
                      <a:pt x="3363" y="1"/>
                    </a:cubicBezTo>
                    <a:close/>
                    <a:moveTo>
                      <a:pt x="3371" y="1"/>
                    </a:moveTo>
                    <a:lnTo>
                      <a:pt x="3371" y="1"/>
                    </a:lnTo>
                    <a:cubicBezTo>
                      <a:pt x="3373" y="1"/>
                      <a:pt x="3373" y="2"/>
                      <a:pt x="3373" y="3"/>
                    </a:cubicBezTo>
                    <a:cubicBezTo>
                      <a:pt x="3373" y="4"/>
                      <a:pt x="3373" y="5"/>
                      <a:pt x="3371" y="5"/>
                    </a:cubicBezTo>
                    <a:lnTo>
                      <a:pt x="3371" y="5"/>
                    </a:lnTo>
                    <a:cubicBezTo>
                      <a:pt x="3370" y="5"/>
                      <a:pt x="3369" y="4"/>
                      <a:pt x="3369" y="3"/>
                    </a:cubicBezTo>
                    <a:cubicBezTo>
                      <a:pt x="3369" y="2"/>
                      <a:pt x="3370" y="1"/>
                      <a:pt x="3371" y="1"/>
                    </a:cubicBezTo>
                    <a:close/>
                    <a:moveTo>
                      <a:pt x="3379" y="1"/>
                    </a:moveTo>
                    <a:lnTo>
                      <a:pt x="3379" y="1"/>
                    </a:lnTo>
                    <a:cubicBezTo>
                      <a:pt x="3381" y="1"/>
                      <a:pt x="3381" y="2"/>
                      <a:pt x="3381" y="3"/>
                    </a:cubicBezTo>
                    <a:cubicBezTo>
                      <a:pt x="3381" y="4"/>
                      <a:pt x="3381" y="5"/>
                      <a:pt x="3379" y="5"/>
                    </a:cubicBezTo>
                    <a:lnTo>
                      <a:pt x="3379" y="5"/>
                    </a:lnTo>
                    <a:cubicBezTo>
                      <a:pt x="3378" y="5"/>
                      <a:pt x="3377" y="4"/>
                      <a:pt x="3377" y="3"/>
                    </a:cubicBezTo>
                    <a:cubicBezTo>
                      <a:pt x="3377" y="2"/>
                      <a:pt x="3378" y="1"/>
                      <a:pt x="3379" y="1"/>
                    </a:cubicBezTo>
                    <a:close/>
                    <a:moveTo>
                      <a:pt x="3387" y="1"/>
                    </a:moveTo>
                    <a:lnTo>
                      <a:pt x="3387" y="1"/>
                    </a:lnTo>
                    <a:cubicBezTo>
                      <a:pt x="3389" y="1"/>
                      <a:pt x="3389" y="2"/>
                      <a:pt x="3389" y="3"/>
                    </a:cubicBezTo>
                    <a:cubicBezTo>
                      <a:pt x="3389" y="4"/>
                      <a:pt x="3389" y="5"/>
                      <a:pt x="3387" y="5"/>
                    </a:cubicBezTo>
                    <a:lnTo>
                      <a:pt x="3387" y="5"/>
                    </a:lnTo>
                    <a:cubicBezTo>
                      <a:pt x="3386" y="5"/>
                      <a:pt x="3385" y="4"/>
                      <a:pt x="3385" y="3"/>
                    </a:cubicBezTo>
                    <a:cubicBezTo>
                      <a:pt x="3385" y="2"/>
                      <a:pt x="3386" y="1"/>
                      <a:pt x="3387" y="1"/>
                    </a:cubicBezTo>
                    <a:close/>
                    <a:moveTo>
                      <a:pt x="3395" y="1"/>
                    </a:moveTo>
                    <a:lnTo>
                      <a:pt x="3395" y="1"/>
                    </a:lnTo>
                    <a:cubicBezTo>
                      <a:pt x="3397" y="1"/>
                      <a:pt x="3397" y="2"/>
                      <a:pt x="3397" y="3"/>
                    </a:cubicBezTo>
                    <a:cubicBezTo>
                      <a:pt x="3397" y="4"/>
                      <a:pt x="3397" y="5"/>
                      <a:pt x="3395" y="5"/>
                    </a:cubicBezTo>
                    <a:lnTo>
                      <a:pt x="3395" y="5"/>
                    </a:lnTo>
                    <a:cubicBezTo>
                      <a:pt x="3394" y="5"/>
                      <a:pt x="3393" y="4"/>
                      <a:pt x="3393" y="3"/>
                    </a:cubicBezTo>
                    <a:cubicBezTo>
                      <a:pt x="3393" y="2"/>
                      <a:pt x="3394" y="1"/>
                      <a:pt x="3395" y="1"/>
                    </a:cubicBezTo>
                    <a:close/>
                    <a:moveTo>
                      <a:pt x="3403" y="1"/>
                    </a:moveTo>
                    <a:lnTo>
                      <a:pt x="3403" y="1"/>
                    </a:lnTo>
                    <a:cubicBezTo>
                      <a:pt x="3405" y="1"/>
                      <a:pt x="3405" y="2"/>
                      <a:pt x="3405" y="3"/>
                    </a:cubicBezTo>
                    <a:cubicBezTo>
                      <a:pt x="3405" y="4"/>
                      <a:pt x="3405" y="5"/>
                      <a:pt x="3403" y="5"/>
                    </a:cubicBezTo>
                    <a:lnTo>
                      <a:pt x="3403" y="5"/>
                    </a:lnTo>
                    <a:cubicBezTo>
                      <a:pt x="3402" y="5"/>
                      <a:pt x="3401" y="4"/>
                      <a:pt x="3401" y="3"/>
                    </a:cubicBezTo>
                    <a:cubicBezTo>
                      <a:pt x="3401" y="2"/>
                      <a:pt x="3402" y="1"/>
                      <a:pt x="3403" y="1"/>
                    </a:cubicBezTo>
                    <a:close/>
                    <a:moveTo>
                      <a:pt x="3411" y="1"/>
                    </a:moveTo>
                    <a:lnTo>
                      <a:pt x="3411" y="1"/>
                    </a:lnTo>
                    <a:cubicBezTo>
                      <a:pt x="3413" y="1"/>
                      <a:pt x="3413" y="2"/>
                      <a:pt x="3413" y="3"/>
                    </a:cubicBezTo>
                    <a:cubicBezTo>
                      <a:pt x="3413" y="4"/>
                      <a:pt x="3413" y="5"/>
                      <a:pt x="3411" y="5"/>
                    </a:cubicBezTo>
                    <a:lnTo>
                      <a:pt x="3411" y="5"/>
                    </a:lnTo>
                    <a:cubicBezTo>
                      <a:pt x="3410" y="5"/>
                      <a:pt x="3409" y="4"/>
                      <a:pt x="3409" y="3"/>
                    </a:cubicBezTo>
                    <a:cubicBezTo>
                      <a:pt x="3409" y="2"/>
                      <a:pt x="3410" y="1"/>
                      <a:pt x="3411" y="1"/>
                    </a:cubicBezTo>
                    <a:close/>
                    <a:moveTo>
                      <a:pt x="3419" y="1"/>
                    </a:moveTo>
                    <a:lnTo>
                      <a:pt x="3419" y="1"/>
                    </a:lnTo>
                    <a:cubicBezTo>
                      <a:pt x="3421" y="1"/>
                      <a:pt x="3421" y="2"/>
                      <a:pt x="3421" y="3"/>
                    </a:cubicBezTo>
                    <a:cubicBezTo>
                      <a:pt x="3421" y="4"/>
                      <a:pt x="3421" y="5"/>
                      <a:pt x="3419" y="5"/>
                    </a:cubicBezTo>
                    <a:lnTo>
                      <a:pt x="3419" y="5"/>
                    </a:lnTo>
                    <a:cubicBezTo>
                      <a:pt x="3418" y="5"/>
                      <a:pt x="3417" y="4"/>
                      <a:pt x="3417" y="3"/>
                    </a:cubicBezTo>
                    <a:cubicBezTo>
                      <a:pt x="3417" y="2"/>
                      <a:pt x="3418" y="1"/>
                      <a:pt x="3419" y="1"/>
                    </a:cubicBezTo>
                    <a:close/>
                    <a:moveTo>
                      <a:pt x="3427" y="1"/>
                    </a:moveTo>
                    <a:lnTo>
                      <a:pt x="3427" y="1"/>
                    </a:lnTo>
                    <a:cubicBezTo>
                      <a:pt x="3429" y="1"/>
                      <a:pt x="3429" y="2"/>
                      <a:pt x="3429" y="3"/>
                    </a:cubicBezTo>
                    <a:cubicBezTo>
                      <a:pt x="3429" y="4"/>
                      <a:pt x="3429" y="5"/>
                      <a:pt x="3427" y="5"/>
                    </a:cubicBezTo>
                    <a:lnTo>
                      <a:pt x="3427" y="5"/>
                    </a:lnTo>
                    <a:cubicBezTo>
                      <a:pt x="3426" y="5"/>
                      <a:pt x="3425" y="4"/>
                      <a:pt x="3425" y="3"/>
                    </a:cubicBezTo>
                    <a:cubicBezTo>
                      <a:pt x="3425" y="2"/>
                      <a:pt x="3426" y="1"/>
                      <a:pt x="3427" y="1"/>
                    </a:cubicBezTo>
                    <a:close/>
                    <a:moveTo>
                      <a:pt x="3435" y="1"/>
                    </a:moveTo>
                    <a:lnTo>
                      <a:pt x="3435" y="1"/>
                    </a:lnTo>
                    <a:cubicBezTo>
                      <a:pt x="3437" y="1"/>
                      <a:pt x="3437" y="2"/>
                      <a:pt x="3437" y="3"/>
                    </a:cubicBezTo>
                    <a:cubicBezTo>
                      <a:pt x="3437" y="4"/>
                      <a:pt x="3437" y="5"/>
                      <a:pt x="3435" y="5"/>
                    </a:cubicBezTo>
                    <a:lnTo>
                      <a:pt x="3435" y="5"/>
                    </a:lnTo>
                    <a:cubicBezTo>
                      <a:pt x="3434" y="5"/>
                      <a:pt x="3433" y="4"/>
                      <a:pt x="3433" y="3"/>
                    </a:cubicBezTo>
                    <a:cubicBezTo>
                      <a:pt x="3433" y="2"/>
                      <a:pt x="3434" y="1"/>
                      <a:pt x="3435" y="1"/>
                    </a:cubicBezTo>
                    <a:close/>
                    <a:moveTo>
                      <a:pt x="3443" y="1"/>
                    </a:moveTo>
                    <a:lnTo>
                      <a:pt x="3443" y="1"/>
                    </a:lnTo>
                    <a:cubicBezTo>
                      <a:pt x="3445" y="1"/>
                      <a:pt x="3445" y="2"/>
                      <a:pt x="3445" y="3"/>
                    </a:cubicBezTo>
                    <a:cubicBezTo>
                      <a:pt x="3445" y="4"/>
                      <a:pt x="3445" y="5"/>
                      <a:pt x="3443" y="5"/>
                    </a:cubicBezTo>
                    <a:lnTo>
                      <a:pt x="3443" y="5"/>
                    </a:lnTo>
                    <a:cubicBezTo>
                      <a:pt x="3442" y="5"/>
                      <a:pt x="3441" y="4"/>
                      <a:pt x="3441" y="3"/>
                    </a:cubicBezTo>
                    <a:cubicBezTo>
                      <a:pt x="3441" y="2"/>
                      <a:pt x="3442" y="1"/>
                      <a:pt x="3443" y="1"/>
                    </a:cubicBezTo>
                    <a:close/>
                    <a:moveTo>
                      <a:pt x="3451" y="1"/>
                    </a:moveTo>
                    <a:lnTo>
                      <a:pt x="3451" y="1"/>
                    </a:lnTo>
                    <a:cubicBezTo>
                      <a:pt x="3453" y="1"/>
                      <a:pt x="3453" y="2"/>
                      <a:pt x="3453" y="3"/>
                    </a:cubicBezTo>
                    <a:cubicBezTo>
                      <a:pt x="3453" y="4"/>
                      <a:pt x="3453" y="5"/>
                      <a:pt x="3451" y="5"/>
                    </a:cubicBezTo>
                    <a:lnTo>
                      <a:pt x="3451" y="5"/>
                    </a:lnTo>
                    <a:cubicBezTo>
                      <a:pt x="3450" y="5"/>
                      <a:pt x="3449" y="4"/>
                      <a:pt x="3449" y="3"/>
                    </a:cubicBezTo>
                    <a:cubicBezTo>
                      <a:pt x="3449" y="2"/>
                      <a:pt x="3450" y="1"/>
                      <a:pt x="3451" y="1"/>
                    </a:cubicBezTo>
                    <a:close/>
                    <a:moveTo>
                      <a:pt x="3459" y="1"/>
                    </a:moveTo>
                    <a:lnTo>
                      <a:pt x="3459" y="1"/>
                    </a:lnTo>
                    <a:cubicBezTo>
                      <a:pt x="3461" y="1"/>
                      <a:pt x="3461" y="2"/>
                      <a:pt x="3461" y="3"/>
                    </a:cubicBezTo>
                    <a:cubicBezTo>
                      <a:pt x="3461" y="4"/>
                      <a:pt x="3461" y="5"/>
                      <a:pt x="3459" y="5"/>
                    </a:cubicBezTo>
                    <a:lnTo>
                      <a:pt x="3459" y="5"/>
                    </a:lnTo>
                    <a:cubicBezTo>
                      <a:pt x="3458" y="5"/>
                      <a:pt x="3457" y="4"/>
                      <a:pt x="3457" y="3"/>
                    </a:cubicBezTo>
                    <a:cubicBezTo>
                      <a:pt x="3457" y="2"/>
                      <a:pt x="3458" y="1"/>
                      <a:pt x="3459" y="1"/>
                    </a:cubicBezTo>
                    <a:close/>
                    <a:moveTo>
                      <a:pt x="3467" y="1"/>
                    </a:moveTo>
                    <a:lnTo>
                      <a:pt x="3467" y="1"/>
                    </a:lnTo>
                    <a:cubicBezTo>
                      <a:pt x="3469" y="1"/>
                      <a:pt x="3469" y="2"/>
                      <a:pt x="3469" y="3"/>
                    </a:cubicBezTo>
                    <a:cubicBezTo>
                      <a:pt x="3469" y="4"/>
                      <a:pt x="3469" y="5"/>
                      <a:pt x="3467" y="5"/>
                    </a:cubicBezTo>
                    <a:lnTo>
                      <a:pt x="3467" y="5"/>
                    </a:lnTo>
                    <a:cubicBezTo>
                      <a:pt x="3466" y="5"/>
                      <a:pt x="3465" y="4"/>
                      <a:pt x="3465" y="3"/>
                    </a:cubicBezTo>
                    <a:cubicBezTo>
                      <a:pt x="3465" y="2"/>
                      <a:pt x="3466" y="1"/>
                      <a:pt x="3467" y="1"/>
                    </a:cubicBezTo>
                    <a:close/>
                    <a:moveTo>
                      <a:pt x="3475" y="1"/>
                    </a:moveTo>
                    <a:lnTo>
                      <a:pt x="3476" y="1"/>
                    </a:lnTo>
                    <a:cubicBezTo>
                      <a:pt x="3477" y="1"/>
                      <a:pt x="3478" y="2"/>
                      <a:pt x="3478" y="3"/>
                    </a:cubicBezTo>
                    <a:cubicBezTo>
                      <a:pt x="3478" y="4"/>
                      <a:pt x="3477" y="5"/>
                      <a:pt x="3476" y="5"/>
                    </a:cubicBezTo>
                    <a:lnTo>
                      <a:pt x="3475" y="5"/>
                    </a:lnTo>
                    <a:cubicBezTo>
                      <a:pt x="3474" y="5"/>
                      <a:pt x="3473" y="4"/>
                      <a:pt x="3473" y="3"/>
                    </a:cubicBezTo>
                    <a:cubicBezTo>
                      <a:pt x="3473" y="2"/>
                      <a:pt x="3474" y="1"/>
                      <a:pt x="3475" y="1"/>
                    </a:cubicBezTo>
                    <a:close/>
                    <a:moveTo>
                      <a:pt x="3484" y="1"/>
                    </a:moveTo>
                    <a:lnTo>
                      <a:pt x="3484" y="1"/>
                    </a:lnTo>
                    <a:cubicBezTo>
                      <a:pt x="3485" y="1"/>
                      <a:pt x="3486" y="2"/>
                      <a:pt x="3486" y="3"/>
                    </a:cubicBezTo>
                    <a:cubicBezTo>
                      <a:pt x="3486" y="4"/>
                      <a:pt x="3485" y="5"/>
                      <a:pt x="3484" y="5"/>
                    </a:cubicBezTo>
                    <a:lnTo>
                      <a:pt x="3484" y="5"/>
                    </a:lnTo>
                    <a:cubicBezTo>
                      <a:pt x="3482" y="5"/>
                      <a:pt x="3482" y="4"/>
                      <a:pt x="3482" y="3"/>
                    </a:cubicBezTo>
                    <a:cubicBezTo>
                      <a:pt x="3482" y="2"/>
                      <a:pt x="3482" y="1"/>
                      <a:pt x="3484" y="1"/>
                    </a:cubicBezTo>
                    <a:close/>
                    <a:moveTo>
                      <a:pt x="3492" y="1"/>
                    </a:moveTo>
                    <a:lnTo>
                      <a:pt x="3492" y="1"/>
                    </a:lnTo>
                    <a:cubicBezTo>
                      <a:pt x="3493" y="1"/>
                      <a:pt x="3494" y="2"/>
                      <a:pt x="3494" y="3"/>
                    </a:cubicBezTo>
                    <a:cubicBezTo>
                      <a:pt x="3494" y="4"/>
                      <a:pt x="3493" y="5"/>
                      <a:pt x="3492" y="5"/>
                    </a:cubicBezTo>
                    <a:lnTo>
                      <a:pt x="3492" y="5"/>
                    </a:lnTo>
                    <a:cubicBezTo>
                      <a:pt x="3490" y="5"/>
                      <a:pt x="3490" y="4"/>
                      <a:pt x="3490" y="3"/>
                    </a:cubicBezTo>
                    <a:cubicBezTo>
                      <a:pt x="3490" y="2"/>
                      <a:pt x="3490" y="1"/>
                      <a:pt x="3492" y="1"/>
                    </a:cubicBezTo>
                    <a:close/>
                    <a:moveTo>
                      <a:pt x="3500" y="1"/>
                    </a:moveTo>
                    <a:lnTo>
                      <a:pt x="3500" y="1"/>
                    </a:lnTo>
                    <a:cubicBezTo>
                      <a:pt x="3501" y="1"/>
                      <a:pt x="3502" y="2"/>
                      <a:pt x="3502" y="3"/>
                    </a:cubicBezTo>
                    <a:cubicBezTo>
                      <a:pt x="3502" y="4"/>
                      <a:pt x="3501" y="5"/>
                      <a:pt x="3500" y="5"/>
                    </a:cubicBezTo>
                    <a:lnTo>
                      <a:pt x="3500" y="5"/>
                    </a:lnTo>
                    <a:cubicBezTo>
                      <a:pt x="3498" y="5"/>
                      <a:pt x="3498" y="4"/>
                      <a:pt x="3498" y="3"/>
                    </a:cubicBezTo>
                    <a:cubicBezTo>
                      <a:pt x="3498" y="2"/>
                      <a:pt x="3498" y="1"/>
                      <a:pt x="3500" y="1"/>
                    </a:cubicBezTo>
                    <a:close/>
                    <a:moveTo>
                      <a:pt x="3508" y="1"/>
                    </a:moveTo>
                    <a:lnTo>
                      <a:pt x="3508" y="1"/>
                    </a:lnTo>
                    <a:cubicBezTo>
                      <a:pt x="3509" y="1"/>
                      <a:pt x="3510" y="2"/>
                      <a:pt x="3510" y="3"/>
                    </a:cubicBezTo>
                    <a:cubicBezTo>
                      <a:pt x="3510" y="4"/>
                      <a:pt x="3509" y="5"/>
                      <a:pt x="3508" y="5"/>
                    </a:cubicBezTo>
                    <a:lnTo>
                      <a:pt x="3508" y="5"/>
                    </a:lnTo>
                    <a:cubicBezTo>
                      <a:pt x="3506" y="5"/>
                      <a:pt x="3506" y="4"/>
                      <a:pt x="3506" y="3"/>
                    </a:cubicBezTo>
                    <a:cubicBezTo>
                      <a:pt x="3506" y="2"/>
                      <a:pt x="3506" y="1"/>
                      <a:pt x="3508" y="1"/>
                    </a:cubicBezTo>
                    <a:close/>
                    <a:moveTo>
                      <a:pt x="3516" y="1"/>
                    </a:moveTo>
                    <a:lnTo>
                      <a:pt x="3516" y="1"/>
                    </a:lnTo>
                    <a:cubicBezTo>
                      <a:pt x="3517" y="1"/>
                      <a:pt x="3518" y="2"/>
                      <a:pt x="3518" y="3"/>
                    </a:cubicBezTo>
                    <a:cubicBezTo>
                      <a:pt x="3518" y="4"/>
                      <a:pt x="3517" y="5"/>
                      <a:pt x="3516" y="5"/>
                    </a:cubicBezTo>
                    <a:lnTo>
                      <a:pt x="3516" y="5"/>
                    </a:lnTo>
                    <a:cubicBezTo>
                      <a:pt x="3514" y="5"/>
                      <a:pt x="3514" y="4"/>
                      <a:pt x="3514" y="3"/>
                    </a:cubicBezTo>
                    <a:cubicBezTo>
                      <a:pt x="3514" y="2"/>
                      <a:pt x="3514" y="1"/>
                      <a:pt x="3516" y="1"/>
                    </a:cubicBezTo>
                    <a:close/>
                    <a:moveTo>
                      <a:pt x="3524" y="1"/>
                    </a:moveTo>
                    <a:lnTo>
                      <a:pt x="3524" y="1"/>
                    </a:lnTo>
                    <a:cubicBezTo>
                      <a:pt x="3525" y="1"/>
                      <a:pt x="3526" y="2"/>
                      <a:pt x="3526" y="3"/>
                    </a:cubicBezTo>
                    <a:cubicBezTo>
                      <a:pt x="3526" y="4"/>
                      <a:pt x="3525" y="5"/>
                      <a:pt x="3524" y="5"/>
                    </a:cubicBezTo>
                    <a:lnTo>
                      <a:pt x="3524" y="5"/>
                    </a:lnTo>
                    <a:cubicBezTo>
                      <a:pt x="3522" y="5"/>
                      <a:pt x="3522" y="4"/>
                      <a:pt x="3522" y="3"/>
                    </a:cubicBezTo>
                    <a:cubicBezTo>
                      <a:pt x="3522" y="2"/>
                      <a:pt x="3522" y="1"/>
                      <a:pt x="3524" y="1"/>
                    </a:cubicBezTo>
                    <a:close/>
                    <a:moveTo>
                      <a:pt x="3532" y="1"/>
                    </a:moveTo>
                    <a:lnTo>
                      <a:pt x="3532" y="1"/>
                    </a:lnTo>
                    <a:cubicBezTo>
                      <a:pt x="3533" y="1"/>
                      <a:pt x="3534" y="2"/>
                      <a:pt x="3534" y="3"/>
                    </a:cubicBezTo>
                    <a:cubicBezTo>
                      <a:pt x="3534" y="4"/>
                      <a:pt x="3533" y="5"/>
                      <a:pt x="3532" y="5"/>
                    </a:cubicBezTo>
                    <a:lnTo>
                      <a:pt x="3532" y="5"/>
                    </a:lnTo>
                    <a:cubicBezTo>
                      <a:pt x="3530" y="5"/>
                      <a:pt x="3530" y="4"/>
                      <a:pt x="3530" y="3"/>
                    </a:cubicBezTo>
                    <a:cubicBezTo>
                      <a:pt x="3530" y="2"/>
                      <a:pt x="3530" y="1"/>
                      <a:pt x="3532" y="1"/>
                    </a:cubicBezTo>
                    <a:close/>
                    <a:moveTo>
                      <a:pt x="3540" y="1"/>
                    </a:moveTo>
                    <a:lnTo>
                      <a:pt x="3540" y="1"/>
                    </a:lnTo>
                    <a:cubicBezTo>
                      <a:pt x="3541" y="1"/>
                      <a:pt x="3542" y="2"/>
                      <a:pt x="3542" y="3"/>
                    </a:cubicBezTo>
                    <a:cubicBezTo>
                      <a:pt x="3542" y="4"/>
                      <a:pt x="3541" y="5"/>
                      <a:pt x="3540" y="5"/>
                    </a:cubicBezTo>
                    <a:lnTo>
                      <a:pt x="3540" y="5"/>
                    </a:lnTo>
                    <a:cubicBezTo>
                      <a:pt x="3538" y="5"/>
                      <a:pt x="3538" y="4"/>
                      <a:pt x="3538" y="3"/>
                    </a:cubicBezTo>
                    <a:cubicBezTo>
                      <a:pt x="3538" y="2"/>
                      <a:pt x="3538" y="1"/>
                      <a:pt x="3540" y="1"/>
                    </a:cubicBezTo>
                    <a:close/>
                    <a:moveTo>
                      <a:pt x="3548" y="1"/>
                    </a:moveTo>
                    <a:lnTo>
                      <a:pt x="3548" y="1"/>
                    </a:lnTo>
                    <a:cubicBezTo>
                      <a:pt x="3549" y="1"/>
                      <a:pt x="3550" y="2"/>
                      <a:pt x="3550" y="3"/>
                    </a:cubicBezTo>
                    <a:cubicBezTo>
                      <a:pt x="3550" y="4"/>
                      <a:pt x="3549" y="5"/>
                      <a:pt x="3548" y="5"/>
                    </a:cubicBezTo>
                    <a:lnTo>
                      <a:pt x="3548" y="5"/>
                    </a:lnTo>
                    <a:cubicBezTo>
                      <a:pt x="3546" y="5"/>
                      <a:pt x="3546" y="4"/>
                      <a:pt x="3546" y="3"/>
                    </a:cubicBezTo>
                    <a:cubicBezTo>
                      <a:pt x="3546" y="2"/>
                      <a:pt x="3546" y="1"/>
                      <a:pt x="3548" y="1"/>
                    </a:cubicBezTo>
                    <a:close/>
                    <a:moveTo>
                      <a:pt x="3556" y="1"/>
                    </a:moveTo>
                    <a:lnTo>
                      <a:pt x="3556" y="1"/>
                    </a:lnTo>
                    <a:cubicBezTo>
                      <a:pt x="3557" y="1"/>
                      <a:pt x="3558" y="2"/>
                      <a:pt x="3558" y="3"/>
                    </a:cubicBezTo>
                    <a:cubicBezTo>
                      <a:pt x="3558" y="4"/>
                      <a:pt x="3557" y="5"/>
                      <a:pt x="3556" y="5"/>
                    </a:cubicBezTo>
                    <a:lnTo>
                      <a:pt x="3556" y="5"/>
                    </a:lnTo>
                    <a:cubicBezTo>
                      <a:pt x="3554" y="5"/>
                      <a:pt x="3554" y="4"/>
                      <a:pt x="3554" y="3"/>
                    </a:cubicBezTo>
                    <a:cubicBezTo>
                      <a:pt x="3554" y="2"/>
                      <a:pt x="3554" y="1"/>
                      <a:pt x="3556" y="1"/>
                    </a:cubicBezTo>
                    <a:close/>
                    <a:moveTo>
                      <a:pt x="3564" y="1"/>
                    </a:moveTo>
                    <a:lnTo>
                      <a:pt x="3564" y="1"/>
                    </a:lnTo>
                    <a:cubicBezTo>
                      <a:pt x="3565" y="1"/>
                      <a:pt x="3566" y="2"/>
                      <a:pt x="3566" y="3"/>
                    </a:cubicBezTo>
                    <a:cubicBezTo>
                      <a:pt x="3566" y="4"/>
                      <a:pt x="3565" y="5"/>
                      <a:pt x="3564" y="5"/>
                    </a:cubicBezTo>
                    <a:lnTo>
                      <a:pt x="3564" y="5"/>
                    </a:lnTo>
                    <a:cubicBezTo>
                      <a:pt x="3562" y="5"/>
                      <a:pt x="3562" y="4"/>
                      <a:pt x="3562" y="3"/>
                    </a:cubicBezTo>
                    <a:cubicBezTo>
                      <a:pt x="3562" y="2"/>
                      <a:pt x="3562" y="1"/>
                      <a:pt x="3564" y="1"/>
                    </a:cubicBezTo>
                    <a:close/>
                    <a:moveTo>
                      <a:pt x="3572" y="1"/>
                    </a:moveTo>
                    <a:lnTo>
                      <a:pt x="3572" y="1"/>
                    </a:lnTo>
                    <a:cubicBezTo>
                      <a:pt x="3573" y="1"/>
                      <a:pt x="3574" y="2"/>
                      <a:pt x="3574" y="3"/>
                    </a:cubicBezTo>
                    <a:cubicBezTo>
                      <a:pt x="3574" y="4"/>
                      <a:pt x="3573" y="5"/>
                      <a:pt x="3572" y="5"/>
                    </a:cubicBezTo>
                    <a:lnTo>
                      <a:pt x="3572" y="5"/>
                    </a:lnTo>
                    <a:cubicBezTo>
                      <a:pt x="3570" y="5"/>
                      <a:pt x="3570" y="4"/>
                      <a:pt x="3570" y="3"/>
                    </a:cubicBezTo>
                    <a:cubicBezTo>
                      <a:pt x="3570" y="2"/>
                      <a:pt x="3570" y="1"/>
                      <a:pt x="3572" y="1"/>
                    </a:cubicBezTo>
                    <a:close/>
                    <a:moveTo>
                      <a:pt x="3580" y="1"/>
                    </a:moveTo>
                    <a:lnTo>
                      <a:pt x="3580" y="1"/>
                    </a:lnTo>
                    <a:cubicBezTo>
                      <a:pt x="3581" y="1"/>
                      <a:pt x="3582" y="2"/>
                      <a:pt x="3582" y="3"/>
                    </a:cubicBezTo>
                    <a:cubicBezTo>
                      <a:pt x="3582" y="4"/>
                      <a:pt x="3581" y="5"/>
                      <a:pt x="3580" y="5"/>
                    </a:cubicBezTo>
                    <a:lnTo>
                      <a:pt x="3580" y="5"/>
                    </a:lnTo>
                    <a:cubicBezTo>
                      <a:pt x="3578" y="5"/>
                      <a:pt x="3578" y="4"/>
                      <a:pt x="3578" y="3"/>
                    </a:cubicBezTo>
                    <a:cubicBezTo>
                      <a:pt x="3578" y="2"/>
                      <a:pt x="3578" y="1"/>
                      <a:pt x="3580" y="1"/>
                    </a:cubicBezTo>
                    <a:close/>
                    <a:moveTo>
                      <a:pt x="3588" y="1"/>
                    </a:moveTo>
                    <a:lnTo>
                      <a:pt x="3588" y="1"/>
                    </a:lnTo>
                    <a:cubicBezTo>
                      <a:pt x="3589" y="1"/>
                      <a:pt x="3590" y="2"/>
                      <a:pt x="3590" y="3"/>
                    </a:cubicBezTo>
                    <a:cubicBezTo>
                      <a:pt x="3590" y="4"/>
                      <a:pt x="3589" y="5"/>
                      <a:pt x="3588" y="5"/>
                    </a:cubicBezTo>
                    <a:lnTo>
                      <a:pt x="3588" y="5"/>
                    </a:lnTo>
                    <a:cubicBezTo>
                      <a:pt x="3586" y="5"/>
                      <a:pt x="3586" y="4"/>
                      <a:pt x="3586" y="3"/>
                    </a:cubicBezTo>
                    <a:cubicBezTo>
                      <a:pt x="3586" y="2"/>
                      <a:pt x="3586" y="1"/>
                      <a:pt x="3588" y="1"/>
                    </a:cubicBezTo>
                    <a:close/>
                    <a:moveTo>
                      <a:pt x="3596" y="1"/>
                    </a:moveTo>
                    <a:lnTo>
                      <a:pt x="3596" y="1"/>
                    </a:lnTo>
                    <a:cubicBezTo>
                      <a:pt x="3597" y="1"/>
                      <a:pt x="3598" y="2"/>
                      <a:pt x="3598" y="3"/>
                    </a:cubicBezTo>
                    <a:cubicBezTo>
                      <a:pt x="3598" y="4"/>
                      <a:pt x="3597" y="5"/>
                      <a:pt x="3596" y="5"/>
                    </a:cubicBezTo>
                    <a:lnTo>
                      <a:pt x="3596" y="5"/>
                    </a:lnTo>
                    <a:cubicBezTo>
                      <a:pt x="3594" y="5"/>
                      <a:pt x="3594" y="4"/>
                      <a:pt x="3594" y="3"/>
                    </a:cubicBezTo>
                    <a:cubicBezTo>
                      <a:pt x="3594" y="2"/>
                      <a:pt x="3594" y="1"/>
                      <a:pt x="3596" y="1"/>
                    </a:cubicBezTo>
                    <a:close/>
                    <a:moveTo>
                      <a:pt x="3604" y="1"/>
                    </a:moveTo>
                    <a:lnTo>
                      <a:pt x="3604" y="1"/>
                    </a:lnTo>
                    <a:cubicBezTo>
                      <a:pt x="3605" y="1"/>
                      <a:pt x="3606" y="2"/>
                      <a:pt x="3606" y="3"/>
                    </a:cubicBezTo>
                    <a:cubicBezTo>
                      <a:pt x="3606" y="4"/>
                      <a:pt x="3605" y="5"/>
                      <a:pt x="3604" y="5"/>
                    </a:cubicBezTo>
                    <a:lnTo>
                      <a:pt x="3604" y="5"/>
                    </a:lnTo>
                    <a:cubicBezTo>
                      <a:pt x="3602" y="5"/>
                      <a:pt x="3602" y="4"/>
                      <a:pt x="3602" y="3"/>
                    </a:cubicBezTo>
                    <a:cubicBezTo>
                      <a:pt x="3602" y="2"/>
                      <a:pt x="3602" y="1"/>
                      <a:pt x="3604" y="1"/>
                    </a:cubicBezTo>
                    <a:close/>
                    <a:moveTo>
                      <a:pt x="3612" y="1"/>
                    </a:moveTo>
                    <a:lnTo>
                      <a:pt x="3612" y="1"/>
                    </a:lnTo>
                    <a:cubicBezTo>
                      <a:pt x="3613" y="1"/>
                      <a:pt x="3614" y="2"/>
                      <a:pt x="3614" y="3"/>
                    </a:cubicBezTo>
                    <a:cubicBezTo>
                      <a:pt x="3614" y="4"/>
                      <a:pt x="3613" y="5"/>
                      <a:pt x="3612" y="5"/>
                    </a:cubicBezTo>
                    <a:lnTo>
                      <a:pt x="3612" y="5"/>
                    </a:lnTo>
                    <a:cubicBezTo>
                      <a:pt x="3610" y="5"/>
                      <a:pt x="3610" y="4"/>
                      <a:pt x="3610" y="3"/>
                    </a:cubicBezTo>
                    <a:cubicBezTo>
                      <a:pt x="3610" y="2"/>
                      <a:pt x="3610" y="1"/>
                      <a:pt x="3612" y="1"/>
                    </a:cubicBezTo>
                    <a:close/>
                    <a:moveTo>
                      <a:pt x="3620" y="1"/>
                    </a:moveTo>
                    <a:lnTo>
                      <a:pt x="3620" y="1"/>
                    </a:lnTo>
                    <a:cubicBezTo>
                      <a:pt x="3621" y="1"/>
                      <a:pt x="3622" y="2"/>
                      <a:pt x="3622" y="3"/>
                    </a:cubicBezTo>
                    <a:cubicBezTo>
                      <a:pt x="3622" y="4"/>
                      <a:pt x="3621" y="5"/>
                      <a:pt x="3620" y="5"/>
                    </a:cubicBezTo>
                    <a:lnTo>
                      <a:pt x="3620" y="5"/>
                    </a:lnTo>
                    <a:cubicBezTo>
                      <a:pt x="3618" y="5"/>
                      <a:pt x="3618" y="4"/>
                      <a:pt x="3618" y="3"/>
                    </a:cubicBezTo>
                    <a:cubicBezTo>
                      <a:pt x="3618" y="2"/>
                      <a:pt x="3618" y="1"/>
                      <a:pt x="3620" y="1"/>
                    </a:cubicBezTo>
                    <a:close/>
                    <a:moveTo>
                      <a:pt x="3628" y="1"/>
                    </a:moveTo>
                    <a:lnTo>
                      <a:pt x="3628" y="1"/>
                    </a:lnTo>
                    <a:cubicBezTo>
                      <a:pt x="3629" y="1"/>
                      <a:pt x="3630" y="2"/>
                      <a:pt x="3630" y="3"/>
                    </a:cubicBezTo>
                    <a:cubicBezTo>
                      <a:pt x="3630" y="4"/>
                      <a:pt x="3629" y="5"/>
                      <a:pt x="3628" y="5"/>
                    </a:cubicBezTo>
                    <a:lnTo>
                      <a:pt x="3628" y="5"/>
                    </a:lnTo>
                    <a:cubicBezTo>
                      <a:pt x="3626" y="5"/>
                      <a:pt x="3626" y="4"/>
                      <a:pt x="3626" y="3"/>
                    </a:cubicBezTo>
                    <a:cubicBezTo>
                      <a:pt x="3626" y="2"/>
                      <a:pt x="3626" y="1"/>
                      <a:pt x="3628" y="1"/>
                    </a:cubicBezTo>
                    <a:close/>
                    <a:moveTo>
                      <a:pt x="3636" y="1"/>
                    </a:moveTo>
                    <a:lnTo>
                      <a:pt x="3636" y="1"/>
                    </a:lnTo>
                    <a:cubicBezTo>
                      <a:pt x="3637" y="1"/>
                      <a:pt x="3638" y="2"/>
                      <a:pt x="3638" y="3"/>
                    </a:cubicBezTo>
                    <a:cubicBezTo>
                      <a:pt x="3638" y="4"/>
                      <a:pt x="3637" y="5"/>
                      <a:pt x="3636" y="5"/>
                    </a:cubicBezTo>
                    <a:lnTo>
                      <a:pt x="3636" y="5"/>
                    </a:lnTo>
                    <a:cubicBezTo>
                      <a:pt x="3634" y="5"/>
                      <a:pt x="3634" y="4"/>
                      <a:pt x="3634" y="3"/>
                    </a:cubicBezTo>
                    <a:cubicBezTo>
                      <a:pt x="3634" y="2"/>
                      <a:pt x="3634" y="1"/>
                      <a:pt x="3636" y="1"/>
                    </a:cubicBezTo>
                    <a:close/>
                    <a:moveTo>
                      <a:pt x="3644" y="1"/>
                    </a:moveTo>
                    <a:lnTo>
                      <a:pt x="3644" y="1"/>
                    </a:lnTo>
                    <a:cubicBezTo>
                      <a:pt x="3645" y="1"/>
                      <a:pt x="3646" y="2"/>
                      <a:pt x="3646" y="3"/>
                    </a:cubicBezTo>
                    <a:cubicBezTo>
                      <a:pt x="3646" y="4"/>
                      <a:pt x="3645" y="5"/>
                      <a:pt x="3644" y="5"/>
                    </a:cubicBezTo>
                    <a:lnTo>
                      <a:pt x="3644" y="5"/>
                    </a:lnTo>
                    <a:cubicBezTo>
                      <a:pt x="3642" y="5"/>
                      <a:pt x="3642" y="4"/>
                      <a:pt x="3642" y="3"/>
                    </a:cubicBezTo>
                    <a:cubicBezTo>
                      <a:pt x="3642" y="2"/>
                      <a:pt x="3642" y="1"/>
                      <a:pt x="3644" y="1"/>
                    </a:cubicBezTo>
                    <a:close/>
                    <a:moveTo>
                      <a:pt x="3652" y="1"/>
                    </a:moveTo>
                    <a:lnTo>
                      <a:pt x="3652" y="1"/>
                    </a:lnTo>
                    <a:cubicBezTo>
                      <a:pt x="3653" y="1"/>
                      <a:pt x="3654" y="2"/>
                      <a:pt x="3654" y="3"/>
                    </a:cubicBezTo>
                    <a:cubicBezTo>
                      <a:pt x="3654" y="4"/>
                      <a:pt x="3653" y="5"/>
                      <a:pt x="3652" y="5"/>
                    </a:cubicBezTo>
                    <a:lnTo>
                      <a:pt x="3652" y="5"/>
                    </a:lnTo>
                    <a:cubicBezTo>
                      <a:pt x="3650" y="5"/>
                      <a:pt x="3650" y="4"/>
                      <a:pt x="3650" y="3"/>
                    </a:cubicBezTo>
                    <a:cubicBezTo>
                      <a:pt x="3650" y="2"/>
                      <a:pt x="3650" y="1"/>
                      <a:pt x="3652" y="1"/>
                    </a:cubicBezTo>
                    <a:close/>
                    <a:moveTo>
                      <a:pt x="3660" y="1"/>
                    </a:moveTo>
                    <a:lnTo>
                      <a:pt x="3660" y="1"/>
                    </a:lnTo>
                    <a:cubicBezTo>
                      <a:pt x="3661" y="1"/>
                      <a:pt x="3662" y="2"/>
                      <a:pt x="3662" y="3"/>
                    </a:cubicBezTo>
                    <a:cubicBezTo>
                      <a:pt x="3662" y="4"/>
                      <a:pt x="3661" y="5"/>
                      <a:pt x="3660" y="5"/>
                    </a:cubicBezTo>
                    <a:lnTo>
                      <a:pt x="3660" y="5"/>
                    </a:lnTo>
                    <a:cubicBezTo>
                      <a:pt x="3658" y="5"/>
                      <a:pt x="3658" y="4"/>
                      <a:pt x="3658" y="3"/>
                    </a:cubicBezTo>
                    <a:cubicBezTo>
                      <a:pt x="3658" y="2"/>
                      <a:pt x="3658" y="1"/>
                      <a:pt x="3660" y="1"/>
                    </a:cubicBezTo>
                    <a:close/>
                    <a:moveTo>
                      <a:pt x="3668" y="1"/>
                    </a:moveTo>
                    <a:lnTo>
                      <a:pt x="3668" y="1"/>
                    </a:lnTo>
                    <a:cubicBezTo>
                      <a:pt x="3669" y="1"/>
                      <a:pt x="3670" y="2"/>
                      <a:pt x="3670" y="3"/>
                    </a:cubicBezTo>
                    <a:cubicBezTo>
                      <a:pt x="3670" y="4"/>
                      <a:pt x="3669" y="5"/>
                      <a:pt x="3668" y="5"/>
                    </a:cubicBezTo>
                    <a:lnTo>
                      <a:pt x="3668" y="5"/>
                    </a:lnTo>
                    <a:cubicBezTo>
                      <a:pt x="3666" y="5"/>
                      <a:pt x="3666" y="4"/>
                      <a:pt x="3666" y="3"/>
                    </a:cubicBezTo>
                    <a:cubicBezTo>
                      <a:pt x="3666" y="2"/>
                      <a:pt x="3666" y="1"/>
                      <a:pt x="3668" y="1"/>
                    </a:cubicBezTo>
                    <a:close/>
                    <a:moveTo>
                      <a:pt x="3676" y="1"/>
                    </a:moveTo>
                    <a:lnTo>
                      <a:pt x="3676" y="1"/>
                    </a:lnTo>
                    <a:cubicBezTo>
                      <a:pt x="3677" y="1"/>
                      <a:pt x="3678" y="2"/>
                      <a:pt x="3678" y="3"/>
                    </a:cubicBezTo>
                    <a:cubicBezTo>
                      <a:pt x="3678" y="4"/>
                      <a:pt x="3677" y="5"/>
                      <a:pt x="3676" y="5"/>
                    </a:cubicBezTo>
                    <a:lnTo>
                      <a:pt x="3676" y="5"/>
                    </a:lnTo>
                    <a:cubicBezTo>
                      <a:pt x="3674" y="5"/>
                      <a:pt x="3674" y="4"/>
                      <a:pt x="3674" y="3"/>
                    </a:cubicBezTo>
                    <a:cubicBezTo>
                      <a:pt x="3674" y="2"/>
                      <a:pt x="3674" y="1"/>
                      <a:pt x="3676" y="1"/>
                    </a:cubicBezTo>
                    <a:close/>
                    <a:moveTo>
                      <a:pt x="3684" y="1"/>
                    </a:moveTo>
                    <a:lnTo>
                      <a:pt x="3684" y="1"/>
                    </a:lnTo>
                    <a:cubicBezTo>
                      <a:pt x="3685" y="1"/>
                      <a:pt x="3686" y="2"/>
                      <a:pt x="3686" y="3"/>
                    </a:cubicBezTo>
                    <a:cubicBezTo>
                      <a:pt x="3686" y="4"/>
                      <a:pt x="3685" y="5"/>
                      <a:pt x="3684" y="5"/>
                    </a:cubicBezTo>
                    <a:lnTo>
                      <a:pt x="3684" y="5"/>
                    </a:lnTo>
                    <a:cubicBezTo>
                      <a:pt x="3682" y="5"/>
                      <a:pt x="3682" y="4"/>
                      <a:pt x="3682" y="3"/>
                    </a:cubicBezTo>
                    <a:cubicBezTo>
                      <a:pt x="3682" y="2"/>
                      <a:pt x="3682" y="1"/>
                      <a:pt x="3684" y="1"/>
                    </a:cubicBezTo>
                    <a:close/>
                    <a:moveTo>
                      <a:pt x="3692" y="1"/>
                    </a:moveTo>
                    <a:lnTo>
                      <a:pt x="3692" y="1"/>
                    </a:lnTo>
                    <a:cubicBezTo>
                      <a:pt x="3693" y="1"/>
                      <a:pt x="3694" y="2"/>
                      <a:pt x="3694" y="3"/>
                    </a:cubicBezTo>
                    <a:cubicBezTo>
                      <a:pt x="3694" y="4"/>
                      <a:pt x="3693" y="5"/>
                      <a:pt x="3692" y="5"/>
                    </a:cubicBezTo>
                    <a:lnTo>
                      <a:pt x="3692" y="5"/>
                    </a:lnTo>
                    <a:cubicBezTo>
                      <a:pt x="3690" y="5"/>
                      <a:pt x="3690" y="4"/>
                      <a:pt x="3690" y="3"/>
                    </a:cubicBezTo>
                    <a:cubicBezTo>
                      <a:pt x="3690" y="2"/>
                      <a:pt x="3690" y="1"/>
                      <a:pt x="3692" y="1"/>
                    </a:cubicBezTo>
                    <a:close/>
                    <a:moveTo>
                      <a:pt x="3700" y="1"/>
                    </a:moveTo>
                    <a:lnTo>
                      <a:pt x="3700" y="1"/>
                    </a:lnTo>
                    <a:cubicBezTo>
                      <a:pt x="3701" y="1"/>
                      <a:pt x="3702" y="2"/>
                      <a:pt x="3702" y="3"/>
                    </a:cubicBezTo>
                    <a:cubicBezTo>
                      <a:pt x="3702" y="4"/>
                      <a:pt x="3701" y="5"/>
                      <a:pt x="3700" y="5"/>
                    </a:cubicBezTo>
                    <a:lnTo>
                      <a:pt x="3700" y="5"/>
                    </a:lnTo>
                    <a:cubicBezTo>
                      <a:pt x="3699" y="5"/>
                      <a:pt x="3698" y="4"/>
                      <a:pt x="3698" y="3"/>
                    </a:cubicBezTo>
                    <a:cubicBezTo>
                      <a:pt x="3698" y="2"/>
                      <a:pt x="3699" y="1"/>
                      <a:pt x="3700" y="1"/>
                    </a:cubicBezTo>
                    <a:close/>
                    <a:moveTo>
                      <a:pt x="3708" y="1"/>
                    </a:moveTo>
                    <a:lnTo>
                      <a:pt x="3708" y="1"/>
                    </a:lnTo>
                    <a:cubicBezTo>
                      <a:pt x="3709" y="1"/>
                      <a:pt x="3710" y="2"/>
                      <a:pt x="3710" y="3"/>
                    </a:cubicBezTo>
                    <a:cubicBezTo>
                      <a:pt x="3710" y="4"/>
                      <a:pt x="3709" y="5"/>
                      <a:pt x="3708" y="5"/>
                    </a:cubicBezTo>
                    <a:lnTo>
                      <a:pt x="3708" y="5"/>
                    </a:lnTo>
                    <a:cubicBezTo>
                      <a:pt x="3707" y="5"/>
                      <a:pt x="3706" y="4"/>
                      <a:pt x="3706" y="3"/>
                    </a:cubicBezTo>
                    <a:cubicBezTo>
                      <a:pt x="3706" y="2"/>
                      <a:pt x="3707" y="1"/>
                      <a:pt x="3708" y="1"/>
                    </a:cubicBezTo>
                    <a:close/>
                    <a:moveTo>
                      <a:pt x="3716" y="1"/>
                    </a:moveTo>
                    <a:lnTo>
                      <a:pt x="3716" y="1"/>
                    </a:lnTo>
                    <a:cubicBezTo>
                      <a:pt x="3717" y="1"/>
                      <a:pt x="3718" y="2"/>
                      <a:pt x="3718" y="3"/>
                    </a:cubicBezTo>
                    <a:cubicBezTo>
                      <a:pt x="3718" y="4"/>
                      <a:pt x="3717" y="5"/>
                      <a:pt x="3716" y="5"/>
                    </a:cubicBezTo>
                    <a:lnTo>
                      <a:pt x="3716" y="5"/>
                    </a:lnTo>
                    <a:cubicBezTo>
                      <a:pt x="3715" y="5"/>
                      <a:pt x="3714" y="4"/>
                      <a:pt x="3714" y="3"/>
                    </a:cubicBezTo>
                    <a:cubicBezTo>
                      <a:pt x="3714" y="2"/>
                      <a:pt x="3715" y="1"/>
                      <a:pt x="3716" y="1"/>
                    </a:cubicBezTo>
                    <a:close/>
                    <a:moveTo>
                      <a:pt x="3724" y="1"/>
                    </a:moveTo>
                    <a:lnTo>
                      <a:pt x="3724" y="1"/>
                    </a:lnTo>
                    <a:cubicBezTo>
                      <a:pt x="3725" y="1"/>
                      <a:pt x="3726" y="2"/>
                      <a:pt x="3726" y="3"/>
                    </a:cubicBezTo>
                    <a:cubicBezTo>
                      <a:pt x="3726" y="4"/>
                      <a:pt x="3725" y="5"/>
                      <a:pt x="3724" y="5"/>
                    </a:cubicBezTo>
                    <a:lnTo>
                      <a:pt x="3724" y="5"/>
                    </a:lnTo>
                    <a:cubicBezTo>
                      <a:pt x="3723" y="5"/>
                      <a:pt x="3722" y="4"/>
                      <a:pt x="3722" y="3"/>
                    </a:cubicBezTo>
                    <a:cubicBezTo>
                      <a:pt x="3722" y="2"/>
                      <a:pt x="3723" y="1"/>
                      <a:pt x="3724" y="1"/>
                    </a:cubicBezTo>
                    <a:close/>
                    <a:moveTo>
                      <a:pt x="3732" y="1"/>
                    </a:moveTo>
                    <a:lnTo>
                      <a:pt x="3732" y="1"/>
                    </a:lnTo>
                    <a:cubicBezTo>
                      <a:pt x="3733" y="1"/>
                      <a:pt x="3734" y="2"/>
                      <a:pt x="3734" y="3"/>
                    </a:cubicBezTo>
                    <a:cubicBezTo>
                      <a:pt x="3734" y="4"/>
                      <a:pt x="3733" y="5"/>
                      <a:pt x="3732" y="5"/>
                    </a:cubicBezTo>
                    <a:lnTo>
                      <a:pt x="3732" y="5"/>
                    </a:lnTo>
                    <a:cubicBezTo>
                      <a:pt x="3731" y="5"/>
                      <a:pt x="3730" y="4"/>
                      <a:pt x="3730" y="3"/>
                    </a:cubicBezTo>
                    <a:cubicBezTo>
                      <a:pt x="3730" y="2"/>
                      <a:pt x="3731" y="1"/>
                      <a:pt x="3732" y="1"/>
                    </a:cubicBezTo>
                    <a:close/>
                    <a:moveTo>
                      <a:pt x="3740" y="1"/>
                    </a:moveTo>
                    <a:lnTo>
                      <a:pt x="3740" y="1"/>
                    </a:lnTo>
                    <a:cubicBezTo>
                      <a:pt x="3741" y="1"/>
                      <a:pt x="3742" y="2"/>
                      <a:pt x="3742" y="3"/>
                    </a:cubicBezTo>
                    <a:cubicBezTo>
                      <a:pt x="3742" y="4"/>
                      <a:pt x="3741" y="5"/>
                      <a:pt x="3740" y="5"/>
                    </a:cubicBezTo>
                    <a:lnTo>
                      <a:pt x="3740" y="5"/>
                    </a:lnTo>
                    <a:cubicBezTo>
                      <a:pt x="3739" y="5"/>
                      <a:pt x="3738" y="4"/>
                      <a:pt x="3738" y="3"/>
                    </a:cubicBezTo>
                    <a:cubicBezTo>
                      <a:pt x="3738" y="2"/>
                      <a:pt x="3739" y="1"/>
                      <a:pt x="3740" y="1"/>
                    </a:cubicBezTo>
                    <a:close/>
                    <a:moveTo>
                      <a:pt x="3748" y="1"/>
                    </a:moveTo>
                    <a:lnTo>
                      <a:pt x="3748" y="1"/>
                    </a:lnTo>
                    <a:cubicBezTo>
                      <a:pt x="3749" y="1"/>
                      <a:pt x="3750" y="2"/>
                      <a:pt x="3750" y="3"/>
                    </a:cubicBezTo>
                    <a:cubicBezTo>
                      <a:pt x="3750" y="4"/>
                      <a:pt x="3749" y="5"/>
                      <a:pt x="3748" y="5"/>
                    </a:cubicBezTo>
                    <a:lnTo>
                      <a:pt x="3748" y="5"/>
                    </a:lnTo>
                    <a:cubicBezTo>
                      <a:pt x="3747" y="5"/>
                      <a:pt x="3746" y="4"/>
                      <a:pt x="3746" y="3"/>
                    </a:cubicBezTo>
                    <a:cubicBezTo>
                      <a:pt x="3746" y="2"/>
                      <a:pt x="3747" y="1"/>
                      <a:pt x="3748" y="1"/>
                    </a:cubicBezTo>
                    <a:close/>
                    <a:moveTo>
                      <a:pt x="3756" y="1"/>
                    </a:moveTo>
                    <a:lnTo>
                      <a:pt x="3756" y="1"/>
                    </a:lnTo>
                    <a:cubicBezTo>
                      <a:pt x="3757" y="1"/>
                      <a:pt x="3758" y="2"/>
                      <a:pt x="3758" y="3"/>
                    </a:cubicBezTo>
                    <a:cubicBezTo>
                      <a:pt x="3758" y="4"/>
                      <a:pt x="3757" y="5"/>
                      <a:pt x="3756" y="5"/>
                    </a:cubicBezTo>
                    <a:lnTo>
                      <a:pt x="3756" y="5"/>
                    </a:lnTo>
                    <a:cubicBezTo>
                      <a:pt x="3755" y="5"/>
                      <a:pt x="3754" y="4"/>
                      <a:pt x="3754" y="3"/>
                    </a:cubicBezTo>
                    <a:cubicBezTo>
                      <a:pt x="3754" y="2"/>
                      <a:pt x="3755" y="1"/>
                      <a:pt x="3756" y="1"/>
                    </a:cubicBezTo>
                    <a:close/>
                    <a:moveTo>
                      <a:pt x="3764" y="1"/>
                    </a:moveTo>
                    <a:lnTo>
                      <a:pt x="3764" y="1"/>
                    </a:lnTo>
                    <a:cubicBezTo>
                      <a:pt x="3765" y="1"/>
                      <a:pt x="3766" y="2"/>
                      <a:pt x="3766" y="3"/>
                    </a:cubicBezTo>
                    <a:cubicBezTo>
                      <a:pt x="3766" y="4"/>
                      <a:pt x="3765" y="5"/>
                      <a:pt x="3764" y="5"/>
                    </a:cubicBezTo>
                    <a:lnTo>
                      <a:pt x="3764" y="5"/>
                    </a:lnTo>
                    <a:cubicBezTo>
                      <a:pt x="3763" y="5"/>
                      <a:pt x="3762" y="4"/>
                      <a:pt x="3762" y="3"/>
                    </a:cubicBezTo>
                    <a:cubicBezTo>
                      <a:pt x="3762" y="2"/>
                      <a:pt x="3763" y="1"/>
                      <a:pt x="3764" y="1"/>
                    </a:cubicBezTo>
                    <a:close/>
                    <a:moveTo>
                      <a:pt x="3772" y="1"/>
                    </a:moveTo>
                    <a:lnTo>
                      <a:pt x="3772" y="1"/>
                    </a:lnTo>
                    <a:cubicBezTo>
                      <a:pt x="3773" y="1"/>
                      <a:pt x="3774" y="2"/>
                      <a:pt x="3774" y="3"/>
                    </a:cubicBezTo>
                    <a:cubicBezTo>
                      <a:pt x="3774" y="4"/>
                      <a:pt x="3773" y="5"/>
                      <a:pt x="3772" y="5"/>
                    </a:cubicBezTo>
                    <a:lnTo>
                      <a:pt x="3772" y="5"/>
                    </a:lnTo>
                    <a:cubicBezTo>
                      <a:pt x="3771" y="5"/>
                      <a:pt x="3770" y="4"/>
                      <a:pt x="3770" y="3"/>
                    </a:cubicBezTo>
                    <a:cubicBezTo>
                      <a:pt x="3770" y="2"/>
                      <a:pt x="3771" y="1"/>
                      <a:pt x="3772" y="1"/>
                    </a:cubicBezTo>
                    <a:close/>
                    <a:moveTo>
                      <a:pt x="3780" y="1"/>
                    </a:moveTo>
                    <a:lnTo>
                      <a:pt x="3780" y="1"/>
                    </a:lnTo>
                    <a:cubicBezTo>
                      <a:pt x="3781" y="1"/>
                      <a:pt x="3782" y="2"/>
                      <a:pt x="3782" y="3"/>
                    </a:cubicBezTo>
                    <a:cubicBezTo>
                      <a:pt x="3782" y="4"/>
                      <a:pt x="3781" y="5"/>
                      <a:pt x="3780" y="5"/>
                    </a:cubicBezTo>
                    <a:lnTo>
                      <a:pt x="3780" y="5"/>
                    </a:lnTo>
                    <a:cubicBezTo>
                      <a:pt x="3779" y="5"/>
                      <a:pt x="3778" y="4"/>
                      <a:pt x="3778" y="3"/>
                    </a:cubicBezTo>
                    <a:cubicBezTo>
                      <a:pt x="3778" y="2"/>
                      <a:pt x="3779" y="1"/>
                      <a:pt x="3780" y="1"/>
                    </a:cubicBezTo>
                    <a:close/>
                    <a:moveTo>
                      <a:pt x="3788" y="1"/>
                    </a:moveTo>
                    <a:lnTo>
                      <a:pt x="3788" y="1"/>
                    </a:lnTo>
                    <a:cubicBezTo>
                      <a:pt x="3789" y="1"/>
                      <a:pt x="3790" y="2"/>
                      <a:pt x="3790" y="3"/>
                    </a:cubicBezTo>
                    <a:cubicBezTo>
                      <a:pt x="3790" y="4"/>
                      <a:pt x="3789" y="5"/>
                      <a:pt x="3788" y="5"/>
                    </a:cubicBezTo>
                    <a:lnTo>
                      <a:pt x="3788" y="5"/>
                    </a:lnTo>
                    <a:cubicBezTo>
                      <a:pt x="3787" y="5"/>
                      <a:pt x="3786" y="4"/>
                      <a:pt x="3786" y="3"/>
                    </a:cubicBezTo>
                    <a:cubicBezTo>
                      <a:pt x="3786" y="2"/>
                      <a:pt x="3787" y="1"/>
                      <a:pt x="3788" y="1"/>
                    </a:cubicBezTo>
                    <a:close/>
                    <a:moveTo>
                      <a:pt x="3796" y="1"/>
                    </a:moveTo>
                    <a:lnTo>
                      <a:pt x="3796" y="1"/>
                    </a:lnTo>
                    <a:cubicBezTo>
                      <a:pt x="3797" y="1"/>
                      <a:pt x="3798" y="2"/>
                      <a:pt x="3798" y="3"/>
                    </a:cubicBezTo>
                    <a:cubicBezTo>
                      <a:pt x="3798" y="4"/>
                      <a:pt x="3797" y="5"/>
                      <a:pt x="3796" y="5"/>
                    </a:cubicBezTo>
                    <a:lnTo>
                      <a:pt x="3796" y="5"/>
                    </a:lnTo>
                    <a:cubicBezTo>
                      <a:pt x="3795" y="5"/>
                      <a:pt x="3794" y="4"/>
                      <a:pt x="3794" y="3"/>
                    </a:cubicBezTo>
                    <a:cubicBezTo>
                      <a:pt x="3794" y="2"/>
                      <a:pt x="3795" y="1"/>
                      <a:pt x="3796" y="1"/>
                    </a:cubicBezTo>
                    <a:close/>
                    <a:moveTo>
                      <a:pt x="3804" y="1"/>
                    </a:moveTo>
                    <a:lnTo>
                      <a:pt x="3804" y="1"/>
                    </a:lnTo>
                    <a:cubicBezTo>
                      <a:pt x="3805" y="1"/>
                      <a:pt x="3806" y="2"/>
                      <a:pt x="3806" y="3"/>
                    </a:cubicBezTo>
                    <a:cubicBezTo>
                      <a:pt x="3806" y="4"/>
                      <a:pt x="3805" y="5"/>
                      <a:pt x="3804" y="5"/>
                    </a:cubicBezTo>
                    <a:lnTo>
                      <a:pt x="3804" y="5"/>
                    </a:lnTo>
                    <a:cubicBezTo>
                      <a:pt x="3803" y="5"/>
                      <a:pt x="3802" y="4"/>
                      <a:pt x="3802" y="3"/>
                    </a:cubicBezTo>
                    <a:cubicBezTo>
                      <a:pt x="3802" y="2"/>
                      <a:pt x="3803" y="1"/>
                      <a:pt x="3804" y="1"/>
                    </a:cubicBezTo>
                    <a:close/>
                    <a:moveTo>
                      <a:pt x="3812" y="1"/>
                    </a:moveTo>
                    <a:lnTo>
                      <a:pt x="3812" y="1"/>
                    </a:lnTo>
                    <a:cubicBezTo>
                      <a:pt x="3813" y="1"/>
                      <a:pt x="3814" y="2"/>
                      <a:pt x="3814" y="3"/>
                    </a:cubicBezTo>
                    <a:cubicBezTo>
                      <a:pt x="3814" y="4"/>
                      <a:pt x="3813" y="5"/>
                      <a:pt x="3812" y="5"/>
                    </a:cubicBezTo>
                    <a:lnTo>
                      <a:pt x="3812" y="5"/>
                    </a:lnTo>
                    <a:cubicBezTo>
                      <a:pt x="3811" y="5"/>
                      <a:pt x="3810" y="4"/>
                      <a:pt x="3810" y="3"/>
                    </a:cubicBezTo>
                    <a:cubicBezTo>
                      <a:pt x="3810" y="2"/>
                      <a:pt x="3811" y="1"/>
                      <a:pt x="3812" y="1"/>
                    </a:cubicBezTo>
                    <a:close/>
                    <a:moveTo>
                      <a:pt x="3820" y="1"/>
                    </a:moveTo>
                    <a:lnTo>
                      <a:pt x="3820" y="1"/>
                    </a:lnTo>
                    <a:cubicBezTo>
                      <a:pt x="3821" y="1"/>
                      <a:pt x="3822" y="2"/>
                      <a:pt x="3822" y="3"/>
                    </a:cubicBezTo>
                    <a:cubicBezTo>
                      <a:pt x="3822" y="4"/>
                      <a:pt x="3821" y="5"/>
                      <a:pt x="3820" y="5"/>
                    </a:cubicBezTo>
                    <a:lnTo>
                      <a:pt x="3820" y="5"/>
                    </a:lnTo>
                    <a:cubicBezTo>
                      <a:pt x="3819" y="5"/>
                      <a:pt x="3818" y="4"/>
                      <a:pt x="3818" y="3"/>
                    </a:cubicBezTo>
                    <a:cubicBezTo>
                      <a:pt x="3818" y="2"/>
                      <a:pt x="3819" y="1"/>
                      <a:pt x="3820" y="1"/>
                    </a:cubicBezTo>
                    <a:close/>
                    <a:moveTo>
                      <a:pt x="3828" y="1"/>
                    </a:moveTo>
                    <a:lnTo>
                      <a:pt x="3828" y="1"/>
                    </a:lnTo>
                    <a:cubicBezTo>
                      <a:pt x="3829" y="1"/>
                      <a:pt x="3830" y="2"/>
                      <a:pt x="3830" y="3"/>
                    </a:cubicBezTo>
                    <a:cubicBezTo>
                      <a:pt x="3830" y="4"/>
                      <a:pt x="3829" y="5"/>
                      <a:pt x="3828" y="5"/>
                    </a:cubicBezTo>
                    <a:lnTo>
                      <a:pt x="3828" y="5"/>
                    </a:lnTo>
                    <a:cubicBezTo>
                      <a:pt x="3827" y="5"/>
                      <a:pt x="3826" y="4"/>
                      <a:pt x="3826" y="3"/>
                    </a:cubicBezTo>
                    <a:cubicBezTo>
                      <a:pt x="3826" y="2"/>
                      <a:pt x="3827" y="1"/>
                      <a:pt x="3828" y="1"/>
                    </a:cubicBezTo>
                    <a:close/>
                    <a:moveTo>
                      <a:pt x="3836" y="1"/>
                    </a:moveTo>
                    <a:lnTo>
                      <a:pt x="3836" y="1"/>
                    </a:lnTo>
                    <a:cubicBezTo>
                      <a:pt x="3837" y="1"/>
                      <a:pt x="3838" y="2"/>
                      <a:pt x="3838" y="3"/>
                    </a:cubicBezTo>
                    <a:cubicBezTo>
                      <a:pt x="3838" y="4"/>
                      <a:pt x="3837" y="5"/>
                      <a:pt x="3836" y="5"/>
                    </a:cubicBezTo>
                    <a:lnTo>
                      <a:pt x="3836" y="5"/>
                    </a:lnTo>
                    <a:cubicBezTo>
                      <a:pt x="3835" y="5"/>
                      <a:pt x="3834" y="4"/>
                      <a:pt x="3834" y="3"/>
                    </a:cubicBezTo>
                    <a:cubicBezTo>
                      <a:pt x="3834" y="2"/>
                      <a:pt x="3835" y="1"/>
                      <a:pt x="3836" y="1"/>
                    </a:cubicBezTo>
                    <a:close/>
                    <a:moveTo>
                      <a:pt x="3844" y="1"/>
                    </a:moveTo>
                    <a:lnTo>
                      <a:pt x="3844" y="1"/>
                    </a:lnTo>
                    <a:cubicBezTo>
                      <a:pt x="3845" y="1"/>
                      <a:pt x="3846" y="2"/>
                      <a:pt x="3846" y="3"/>
                    </a:cubicBezTo>
                    <a:cubicBezTo>
                      <a:pt x="3846" y="4"/>
                      <a:pt x="3845" y="5"/>
                      <a:pt x="3844" y="5"/>
                    </a:cubicBezTo>
                    <a:lnTo>
                      <a:pt x="3844" y="5"/>
                    </a:lnTo>
                    <a:cubicBezTo>
                      <a:pt x="3843" y="5"/>
                      <a:pt x="3842" y="4"/>
                      <a:pt x="3842" y="3"/>
                    </a:cubicBezTo>
                    <a:cubicBezTo>
                      <a:pt x="3842" y="2"/>
                      <a:pt x="3843" y="1"/>
                      <a:pt x="3844" y="1"/>
                    </a:cubicBezTo>
                    <a:close/>
                    <a:moveTo>
                      <a:pt x="3852" y="1"/>
                    </a:moveTo>
                    <a:lnTo>
                      <a:pt x="3852" y="1"/>
                    </a:lnTo>
                    <a:cubicBezTo>
                      <a:pt x="3853" y="1"/>
                      <a:pt x="3854" y="2"/>
                      <a:pt x="3854" y="3"/>
                    </a:cubicBezTo>
                    <a:cubicBezTo>
                      <a:pt x="3854" y="4"/>
                      <a:pt x="3853" y="5"/>
                      <a:pt x="3852" y="5"/>
                    </a:cubicBezTo>
                    <a:lnTo>
                      <a:pt x="3852" y="5"/>
                    </a:lnTo>
                    <a:cubicBezTo>
                      <a:pt x="3851" y="5"/>
                      <a:pt x="3850" y="4"/>
                      <a:pt x="3850" y="3"/>
                    </a:cubicBezTo>
                    <a:cubicBezTo>
                      <a:pt x="3850" y="2"/>
                      <a:pt x="3851" y="1"/>
                      <a:pt x="3852" y="1"/>
                    </a:cubicBezTo>
                    <a:close/>
                    <a:moveTo>
                      <a:pt x="3860" y="1"/>
                    </a:moveTo>
                    <a:lnTo>
                      <a:pt x="3860" y="1"/>
                    </a:lnTo>
                    <a:cubicBezTo>
                      <a:pt x="3861" y="1"/>
                      <a:pt x="3862" y="2"/>
                      <a:pt x="3862" y="3"/>
                    </a:cubicBezTo>
                    <a:cubicBezTo>
                      <a:pt x="3862" y="4"/>
                      <a:pt x="3861" y="5"/>
                      <a:pt x="3860" y="5"/>
                    </a:cubicBezTo>
                    <a:lnTo>
                      <a:pt x="3860" y="5"/>
                    </a:lnTo>
                    <a:cubicBezTo>
                      <a:pt x="3859" y="5"/>
                      <a:pt x="3858" y="4"/>
                      <a:pt x="3858" y="3"/>
                    </a:cubicBezTo>
                    <a:cubicBezTo>
                      <a:pt x="3858" y="2"/>
                      <a:pt x="3859" y="1"/>
                      <a:pt x="3860" y="1"/>
                    </a:cubicBezTo>
                    <a:close/>
                    <a:moveTo>
                      <a:pt x="3868" y="1"/>
                    </a:moveTo>
                    <a:lnTo>
                      <a:pt x="3868" y="1"/>
                    </a:lnTo>
                    <a:cubicBezTo>
                      <a:pt x="3869" y="1"/>
                      <a:pt x="3870" y="2"/>
                      <a:pt x="3870" y="3"/>
                    </a:cubicBezTo>
                    <a:cubicBezTo>
                      <a:pt x="3870" y="4"/>
                      <a:pt x="3869" y="5"/>
                      <a:pt x="3868" y="5"/>
                    </a:cubicBezTo>
                    <a:lnTo>
                      <a:pt x="3868" y="5"/>
                    </a:lnTo>
                    <a:cubicBezTo>
                      <a:pt x="3867" y="5"/>
                      <a:pt x="3866" y="4"/>
                      <a:pt x="3866" y="3"/>
                    </a:cubicBezTo>
                    <a:cubicBezTo>
                      <a:pt x="3866" y="2"/>
                      <a:pt x="3867" y="1"/>
                      <a:pt x="3868" y="1"/>
                    </a:cubicBezTo>
                    <a:close/>
                    <a:moveTo>
                      <a:pt x="3876" y="1"/>
                    </a:moveTo>
                    <a:lnTo>
                      <a:pt x="3876" y="1"/>
                    </a:lnTo>
                    <a:cubicBezTo>
                      <a:pt x="3877" y="1"/>
                      <a:pt x="3878" y="2"/>
                      <a:pt x="3878" y="3"/>
                    </a:cubicBezTo>
                    <a:cubicBezTo>
                      <a:pt x="3878" y="4"/>
                      <a:pt x="3877" y="5"/>
                      <a:pt x="3876" y="5"/>
                    </a:cubicBezTo>
                    <a:lnTo>
                      <a:pt x="3876" y="5"/>
                    </a:lnTo>
                    <a:cubicBezTo>
                      <a:pt x="3875" y="5"/>
                      <a:pt x="3874" y="4"/>
                      <a:pt x="3874" y="3"/>
                    </a:cubicBezTo>
                    <a:cubicBezTo>
                      <a:pt x="3874" y="2"/>
                      <a:pt x="3875" y="1"/>
                      <a:pt x="3876" y="1"/>
                    </a:cubicBezTo>
                    <a:close/>
                    <a:moveTo>
                      <a:pt x="3884" y="1"/>
                    </a:moveTo>
                    <a:lnTo>
                      <a:pt x="3884" y="1"/>
                    </a:lnTo>
                    <a:cubicBezTo>
                      <a:pt x="3885" y="1"/>
                      <a:pt x="3886" y="2"/>
                      <a:pt x="3886" y="3"/>
                    </a:cubicBezTo>
                    <a:cubicBezTo>
                      <a:pt x="3886" y="4"/>
                      <a:pt x="3885" y="5"/>
                      <a:pt x="3884" y="5"/>
                    </a:cubicBezTo>
                    <a:lnTo>
                      <a:pt x="3884" y="5"/>
                    </a:lnTo>
                    <a:cubicBezTo>
                      <a:pt x="3883" y="5"/>
                      <a:pt x="3882" y="4"/>
                      <a:pt x="3882" y="3"/>
                    </a:cubicBezTo>
                    <a:cubicBezTo>
                      <a:pt x="3882" y="2"/>
                      <a:pt x="3883" y="1"/>
                      <a:pt x="3884" y="1"/>
                    </a:cubicBezTo>
                    <a:close/>
                    <a:moveTo>
                      <a:pt x="3892" y="1"/>
                    </a:moveTo>
                    <a:lnTo>
                      <a:pt x="3892" y="1"/>
                    </a:lnTo>
                    <a:cubicBezTo>
                      <a:pt x="3893" y="1"/>
                      <a:pt x="3894" y="2"/>
                      <a:pt x="3894" y="3"/>
                    </a:cubicBezTo>
                    <a:cubicBezTo>
                      <a:pt x="3894" y="4"/>
                      <a:pt x="3893" y="5"/>
                      <a:pt x="3892" y="5"/>
                    </a:cubicBezTo>
                    <a:lnTo>
                      <a:pt x="3892" y="5"/>
                    </a:lnTo>
                    <a:cubicBezTo>
                      <a:pt x="3891" y="5"/>
                      <a:pt x="3890" y="4"/>
                      <a:pt x="3890" y="3"/>
                    </a:cubicBezTo>
                    <a:cubicBezTo>
                      <a:pt x="3890" y="2"/>
                      <a:pt x="3891" y="1"/>
                      <a:pt x="3892" y="1"/>
                    </a:cubicBezTo>
                    <a:close/>
                    <a:moveTo>
                      <a:pt x="3900" y="1"/>
                    </a:moveTo>
                    <a:lnTo>
                      <a:pt x="3900" y="1"/>
                    </a:lnTo>
                    <a:cubicBezTo>
                      <a:pt x="3901" y="1"/>
                      <a:pt x="3902" y="2"/>
                      <a:pt x="3902" y="3"/>
                    </a:cubicBezTo>
                    <a:cubicBezTo>
                      <a:pt x="3902" y="4"/>
                      <a:pt x="3901" y="5"/>
                      <a:pt x="3900" y="5"/>
                    </a:cubicBezTo>
                    <a:lnTo>
                      <a:pt x="3900" y="5"/>
                    </a:lnTo>
                    <a:cubicBezTo>
                      <a:pt x="3899" y="5"/>
                      <a:pt x="3898" y="4"/>
                      <a:pt x="3898" y="3"/>
                    </a:cubicBezTo>
                    <a:cubicBezTo>
                      <a:pt x="3898" y="2"/>
                      <a:pt x="3899" y="1"/>
                      <a:pt x="3900" y="1"/>
                    </a:cubicBezTo>
                    <a:close/>
                    <a:moveTo>
                      <a:pt x="3908" y="1"/>
                    </a:moveTo>
                    <a:lnTo>
                      <a:pt x="3908" y="1"/>
                    </a:lnTo>
                    <a:cubicBezTo>
                      <a:pt x="3909" y="1"/>
                      <a:pt x="3910" y="2"/>
                      <a:pt x="3910" y="3"/>
                    </a:cubicBezTo>
                    <a:cubicBezTo>
                      <a:pt x="3910" y="4"/>
                      <a:pt x="3909" y="5"/>
                      <a:pt x="3908" y="5"/>
                    </a:cubicBezTo>
                    <a:lnTo>
                      <a:pt x="3908" y="5"/>
                    </a:lnTo>
                    <a:cubicBezTo>
                      <a:pt x="3907" y="5"/>
                      <a:pt x="3906" y="4"/>
                      <a:pt x="3906" y="3"/>
                    </a:cubicBezTo>
                    <a:cubicBezTo>
                      <a:pt x="3906" y="2"/>
                      <a:pt x="3907" y="1"/>
                      <a:pt x="3908" y="1"/>
                    </a:cubicBezTo>
                    <a:close/>
                    <a:moveTo>
                      <a:pt x="3916" y="1"/>
                    </a:moveTo>
                    <a:lnTo>
                      <a:pt x="3916" y="1"/>
                    </a:lnTo>
                    <a:cubicBezTo>
                      <a:pt x="3917" y="1"/>
                      <a:pt x="3918" y="2"/>
                      <a:pt x="3918" y="3"/>
                    </a:cubicBezTo>
                    <a:cubicBezTo>
                      <a:pt x="3918" y="4"/>
                      <a:pt x="3917" y="5"/>
                      <a:pt x="3916" y="5"/>
                    </a:cubicBezTo>
                    <a:lnTo>
                      <a:pt x="3916" y="5"/>
                    </a:lnTo>
                    <a:cubicBezTo>
                      <a:pt x="3915" y="5"/>
                      <a:pt x="3914" y="4"/>
                      <a:pt x="3914" y="3"/>
                    </a:cubicBezTo>
                    <a:cubicBezTo>
                      <a:pt x="3914" y="2"/>
                      <a:pt x="3915" y="1"/>
                      <a:pt x="3916" y="1"/>
                    </a:cubicBezTo>
                    <a:close/>
                    <a:moveTo>
                      <a:pt x="3924" y="1"/>
                    </a:moveTo>
                    <a:lnTo>
                      <a:pt x="3924" y="1"/>
                    </a:lnTo>
                    <a:cubicBezTo>
                      <a:pt x="3925" y="1"/>
                      <a:pt x="3926" y="2"/>
                      <a:pt x="3926" y="3"/>
                    </a:cubicBezTo>
                    <a:cubicBezTo>
                      <a:pt x="3926" y="4"/>
                      <a:pt x="3925" y="5"/>
                      <a:pt x="3924" y="5"/>
                    </a:cubicBezTo>
                    <a:lnTo>
                      <a:pt x="3924" y="5"/>
                    </a:lnTo>
                    <a:cubicBezTo>
                      <a:pt x="3923" y="5"/>
                      <a:pt x="3922" y="4"/>
                      <a:pt x="3922" y="3"/>
                    </a:cubicBezTo>
                    <a:cubicBezTo>
                      <a:pt x="3922" y="2"/>
                      <a:pt x="3923" y="1"/>
                      <a:pt x="3924" y="1"/>
                    </a:cubicBezTo>
                    <a:close/>
                    <a:moveTo>
                      <a:pt x="3932" y="1"/>
                    </a:moveTo>
                    <a:lnTo>
                      <a:pt x="3932" y="1"/>
                    </a:lnTo>
                    <a:cubicBezTo>
                      <a:pt x="3933" y="1"/>
                      <a:pt x="3934" y="2"/>
                      <a:pt x="3934" y="3"/>
                    </a:cubicBezTo>
                    <a:cubicBezTo>
                      <a:pt x="3934" y="4"/>
                      <a:pt x="3933" y="5"/>
                      <a:pt x="3932" y="5"/>
                    </a:cubicBezTo>
                    <a:lnTo>
                      <a:pt x="3932" y="5"/>
                    </a:lnTo>
                    <a:cubicBezTo>
                      <a:pt x="3931" y="5"/>
                      <a:pt x="3930" y="4"/>
                      <a:pt x="3930" y="3"/>
                    </a:cubicBezTo>
                    <a:cubicBezTo>
                      <a:pt x="3930" y="2"/>
                      <a:pt x="3931" y="1"/>
                      <a:pt x="3932" y="1"/>
                    </a:cubicBezTo>
                    <a:close/>
                    <a:moveTo>
                      <a:pt x="3940" y="1"/>
                    </a:moveTo>
                    <a:lnTo>
                      <a:pt x="3940" y="1"/>
                    </a:lnTo>
                    <a:cubicBezTo>
                      <a:pt x="3941" y="1"/>
                      <a:pt x="3942" y="2"/>
                      <a:pt x="3942" y="3"/>
                    </a:cubicBezTo>
                    <a:cubicBezTo>
                      <a:pt x="3942" y="4"/>
                      <a:pt x="3941" y="5"/>
                      <a:pt x="3940" y="5"/>
                    </a:cubicBezTo>
                    <a:lnTo>
                      <a:pt x="3940" y="5"/>
                    </a:lnTo>
                    <a:cubicBezTo>
                      <a:pt x="3939" y="5"/>
                      <a:pt x="3938" y="4"/>
                      <a:pt x="3938" y="3"/>
                    </a:cubicBezTo>
                    <a:cubicBezTo>
                      <a:pt x="3938" y="2"/>
                      <a:pt x="3939" y="1"/>
                      <a:pt x="3940" y="1"/>
                    </a:cubicBezTo>
                    <a:close/>
                    <a:moveTo>
                      <a:pt x="3948" y="1"/>
                    </a:moveTo>
                    <a:lnTo>
                      <a:pt x="3948" y="1"/>
                    </a:lnTo>
                    <a:cubicBezTo>
                      <a:pt x="3949" y="1"/>
                      <a:pt x="3950" y="2"/>
                      <a:pt x="3950" y="3"/>
                    </a:cubicBezTo>
                    <a:cubicBezTo>
                      <a:pt x="3950" y="4"/>
                      <a:pt x="3949" y="5"/>
                      <a:pt x="3948" y="5"/>
                    </a:cubicBezTo>
                    <a:lnTo>
                      <a:pt x="3948" y="5"/>
                    </a:lnTo>
                    <a:cubicBezTo>
                      <a:pt x="3947" y="5"/>
                      <a:pt x="3946" y="4"/>
                      <a:pt x="3946" y="3"/>
                    </a:cubicBezTo>
                    <a:cubicBezTo>
                      <a:pt x="3946" y="2"/>
                      <a:pt x="3947" y="1"/>
                      <a:pt x="3948" y="1"/>
                    </a:cubicBezTo>
                    <a:close/>
                    <a:moveTo>
                      <a:pt x="3956" y="1"/>
                    </a:moveTo>
                    <a:lnTo>
                      <a:pt x="3956" y="1"/>
                    </a:lnTo>
                    <a:cubicBezTo>
                      <a:pt x="3957" y="1"/>
                      <a:pt x="3958" y="2"/>
                      <a:pt x="3958" y="3"/>
                    </a:cubicBezTo>
                    <a:cubicBezTo>
                      <a:pt x="3958" y="4"/>
                      <a:pt x="3957" y="5"/>
                      <a:pt x="3956" y="5"/>
                    </a:cubicBezTo>
                    <a:lnTo>
                      <a:pt x="3956" y="5"/>
                    </a:lnTo>
                    <a:cubicBezTo>
                      <a:pt x="3955" y="5"/>
                      <a:pt x="3954" y="4"/>
                      <a:pt x="3954" y="3"/>
                    </a:cubicBezTo>
                    <a:cubicBezTo>
                      <a:pt x="3954" y="2"/>
                      <a:pt x="3955" y="1"/>
                      <a:pt x="3956" y="1"/>
                    </a:cubicBezTo>
                    <a:close/>
                    <a:moveTo>
                      <a:pt x="3964" y="1"/>
                    </a:moveTo>
                    <a:lnTo>
                      <a:pt x="3964" y="1"/>
                    </a:lnTo>
                    <a:cubicBezTo>
                      <a:pt x="3965" y="1"/>
                      <a:pt x="3966" y="2"/>
                      <a:pt x="3966" y="3"/>
                    </a:cubicBezTo>
                    <a:cubicBezTo>
                      <a:pt x="3966" y="4"/>
                      <a:pt x="3965" y="5"/>
                      <a:pt x="3964" y="5"/>
                    </a:cubicBezTo>
                    <a:lnTo>
                      <a:pt x="3964" y="5"/>
                    </a:lnTo>
                    <a:cubicBezTo>
                      <a:pt x="3963" y="5"/>
                      <a:pt x="3962" y="4"/>
                      <a:pt x="3962" y="3"/>
                    </a:cubicBezTo>
                    <a:cubicBezTo>
                      <a:pt x="3962" y="2"/>
                      <a:pt x="3963" y="1"/>
                      <a:pt x="3964" y="1"/>
                    </a:cubicBezTo>
                    <a:close/>
                    <a:moveTo>
                      <a:pt x="3972" y="1"/>
                    </a:moveTo>
                    <a:lnTo>
                      <a:pt x="3972" y="1"/>
                    </a:lnTo>
                    <a:cubicBezTo>
                      <a:pt x="3973" y="1"/>
                      <a:pt x="3974" y="2"/>
                      <a:pt x="3974" y="3"/>
                    </a:cubicBezTo>
                    <a:cubicBezTo>
                      <a:pt x="3974" y="4"/>
                      <a:pt x="3973" y="5"/>
                      <a:pt x="3972" y="5"/>
                    </a:cubicBezTo>
                    <a:lnTo>
                      <a:pt x="3972" y="5"/>
                    </a:lnTo>
                    <a:cubicBezTo>
                      <a:pt x="3971" y="5"/>
                      <a:pt x="3970" y="4"/>
                      <a:pt x="3970" y="3"/>
                    </a:cubicBezTo>
                    <a:cubicBezTo>
                      <a:pt x="3970" y="2"/>
                      <a:pt x="3971" y="1"/>
                      <a:pt x="3972" y="1"/>
                    </a:cubicBezTo>
                    <a:close/>
                    <a:moveTo>
                      <a:pt x="3980" y="1"/>
                    </a:moveTo>
                    <a:lnTo>
                      <a:pt x="3980" y="1"/>
                    </a:lnTo>
                    <a:cubicBezTo>
                      <a:pt x="3981" y="1"/>
                      <a:pt x="3982" y="2"/>
                      <a:pt x="3982" y="3"/>
                    </a:cubicBezTo>
                    <a:cubicBezTo>
                      <a:pt x="3982" y="4"/>
                      <a:pt x="3981" y="5"/>
                      <a:pt x="3980" y="5"/>
                    </a:cubicBezTo>
                    <a:lnTo>
                      <a:pt x="3980" y="5"/>
                    </a:lnTo>
                    <a:cubicBezTo>
                      <a:pt x="3979" y="5"/>
                      <a:pt x="3978" y="4"/>
                      <a:pt x="3978" y="3"/>
                    </a:cubicBezTo>
                    <a:cubicBezTo>
                      <a:pt x="3978" y="2"/>
                      <a:pt x="3979" y="1"/>
                      <a:pt x="3980" y="1"/>
                    </a:cubicBezTo>
                    <a:close/>
                    <a:moveTo>
                      <a:pt x="3988" y="1"/>
                    </a:moveTo>
                    <a:lnTo>
                      <a:pt x="3988" y="1"/>
                    </a:lnTo>
                    <a:cubicBezTo>
                      <a:pt x="3989" y="1"/>
                      <a:pt x="3990" y="2"/>
                      <a:pt x="3990" y="3"/>
                    </a:cubicBezTo>
                    <a:cubicBezTo>
                      <a:pt x="3990" y="4"/>
                      <a:pt x="3989" y="5"/>
                      <a:pt x="3988" y="5"/>
                    </a:cubicBezTo>
                    <a:lnTo>
                      <a:pt x="3988" y="5"/>
                    </a:lnTo>
                    <a:cubicBezTo>
                      <a:pt x="3987" y="5"/>
                      <a:pt x="3986" y="4"/>
                      <a:pt x="3986" y="3"/>
                    </a:cubicBezTo>
                    <a:cubicBezTo>
                      <a:pt x="3986" y="2"/>
                      <a:pt x="3987" y="1"/>
                      <a:pt x="3988" y="1"/>
                    </a:cubicBezTo>
                    <a:close/>
                    <a:moveTo>
                      <a:pt x="3996" y="1"/>
                    </a:moveTo>
                    <a:lnTo>
                      <a:pt x="3996" y="1"/>
                    </a:lnTo>
                    <a:cubicBezTo>
                      <a:pt x="3997" y="1"/>
                      <a:pt x="3998" y="2"/>
                      <a:pt x="3998" y="3"/>
                    </a:cubicBezTo>
                    <a:cubicBezTo>
                      <a:pt x="3998" y="4"/>
                      <a:pt x="3997" y="5"/>
                      <a:pt x="3996" y="5"/>
                    </a:cubicBezTo>
                    <a:lnTo>
                      <a:pt x="3996" y="5"/>
                    </a:lnTo>
                    <a:cubicBezTo>
                      <a:pt x="3995" y="5"/>
                      <a:pt x="3994" y="4"/>
                      <a:pt x="3994" y="3"/>
                    </a:cubicBezTo>
                    <a:cubicBezTo>
                      <a:pt x="3994" y="2"/>
                      <a:pt x="3995" y="1"/>
                      <a:pt x="3996" y="1"/>
                    </a:cubicBezTo>
                    <a:close/>
                    <a:moveTo>
                      <a:pt x="4004" y="1"/>
                    </a:moveTo>
                    <a:lnTo>
                      <a:pt x="4004" y="1"/>
                    </a:lnTo>
                    <a:cubicBezTo>
                      <a:pt x="4005" y="1"/>
                      <a:pt x="4006" y="2"/>
                      <a:pt x="4006" y="3"/>
                    </a:cubicBezTo>
                    <a:cubicBezTo>
                      <a:pt x="4006" y="4"/>
                      <a:pt x="4005" y="5"/>
                      <a:pt x="4004" y="5"/>
                    </a:cubicBezTo>
                    <a:lnTo>
                      <a:pt x="4004" y="5"/>
                    </a:lnTo>
                    <a:cubicBezTo>
                      <a:pt x="4003" y="5"/>
                      <a:pt x="4002" y="4"/>
                      <a:pt x="4002" y="3"/>
                    </a:cubicBezTo>
                    <a:cubicBezTo>
                      <a:pt x="4002" y="2"/>
                      <a:pt x="4003" y="1"/>
                      <a:pt x="4004" y="1"/>
                    </a:cubicBezTo>
                    <a:close/>
                    <a:moveTo>
                      <a:pt x="4012" y="1"/>
                    </a:moveTo>
                    <a:lnTo>
                      <a:pt x="4012" y="1"/>
                    </a:lnTo>
                    <a:cubicBezTo>
                      <a:pt x="4013" y="1"/>
                      <a:pt x="4014" y="2"/>
                      <a:pt x="4014" y="3"/>
                    </a:cubicBezTo>
                    <a:cubicBezTo>
                      <a:pt x="4014" y="4"/>
                      <a:pt x="4013" y="5"/>
                      <a:pt x="4012" y="5"/>
                    </a:cubicBezTo>
                    <a:lnTo>
                      <a:pt x="4012" y="5"/>
                    </a:lnTo>
                    <a:cubicBezTo>
                      <a:pt x="4011" y="5"/>
                      <a:pt x="4010" y="4"/>
                      <a:pt x="4010" y="3"/>
                    </a:cubicBezTo>
                    <a:cubicBezTo>
                      <a:pt x="4010" y="2"/>
                      <a:pt x="4011" y="1"/>
                      <a:pt x="4012" y="1"/>
                    </a:cubicBezTo>
                    <a:close/>
                    <a:moveTo>
                      <a:pt x="4020" y="1"/>
                    </a:moveTo>
                    <a:lnTo>
                      <a:pt x="4020" y="1"/>
                    </a:lnTo>
                    <a:cubicBezTo>
                      <a:pt x="4021" y="1"/>
                      <a:pt x="4022" y="2"/>
                      <a:pt x="4022" y="3"/>
                    </a:cubicBezTo>
                    <a:cubicBezTo>
                      <a:pt x="4022" y="4"/>
                      <a:pt x="4021" y="5"/>
                      <a:pt x="4020" y="5"/>
                    </a:cubicBezTo>
                    <a:lnTo>
                      <a:pt x="4020" y="5"/>
                    </a:lnTo>
                    <a:cubicBezTo>
                      <a:pt x="4019" y="5"/>
                      <a:pt x="4018" y="4"/>
                      <a:pt x="4018" y="3"/>
                    </a:cubicBezTo>
                    <a:cubicBezTo>
                      <a:pt x="4018" y="2"/>
                      <a:pt x="4019" y="1"/>
                      <a:pt x="4020" y="1"/>
                    </a:cubicBezTo>
                    <a:close/>
                    <a:moveTo>
                      <a:pt x="4028" y="1"/>
                    </a:moveTo>
                    <a:lnTo>
                      <a:pt x="4028" y="1"/>
                    </a:lnTo>
                    <a:cubicBezTo>
                      <a:pt x="4029" y="1"/>
                      <a:pt x="4030" y="2"/>
                      <a:pt x="4030" y="3"/>
                    </a:cubicBezTo>
                    <a:cubicBezTo>
                      <a:pt x="4030" y="4"/>
                      <a:pt x="4029" y="5"/>
                      <a:pt x="4028" y="5"/>
                    </a:cubicBezTo>
                    <a:lnTo>
                      <a:pt x="4028" y="5"/>
                    </a:lnTo>
                    <a:cubicBezTo>
                      <a:pt x="4027" y="5"/>
                      <a:pt x="4026" y="4"/>
                      <a:pt x="4026" y="3"/>
                    </a:cubicBezTo>
                    <a:cubicBezTo>
                      <a:pt x="4026" y="2"/>
                      <a:pt x="4027" y="1"/>
                      <a:pt x="4028" y="1"/>
                    </a:cubicBezTo>
                    <a:close/>
                    <a:moveTo>
                      <a:pt x="4036" y="1"/>
                    </a:moveTo>
                    <a:lnTo>
                      <a:pt x="4036" y="1"/>
                    </a:lnTo>
                    <a:cubicBezTo>
                      <a:pt x="4037" y="1"/>
                      <a:pt x="4038" y="2"/>
                      <a:pt x="4038" y="3"/>
                    </a:cubicBezTo>
                    <a:cubicBezTo>
                      <a:pt x="4038" y="4"/>
                      <a:pt x="4037" y="5"/>
                      <a:pt x="4036" y="5"/>
                    </a:cubicBezTo>
                    <a:lnTo>
                      <a:pt x="4036" y="5"/>
                    </a:lnTo>
                    <a:cubicBezTo>
                      <a:pt x="4035" y="5"/>
                      <a:pt x="4034" y="4"/>
                      <a:pt x="4034" y="3"/>
                    </a:cubicBezTo>
                    <a:cubicBezTo>
                      <a:pt x="4034" y="2"/>
                      <a:pt x="4035" y="1"/>
                      <a:pt x="4036" y="1"/>
                    </a:cubicBezTo>
                    <a:close/>
                    <a:moveTo>
                      <a:pt x="4044" y="1"/>
                    </a:moveTo>
                    <a:lnTo>
                      <a:pt x="4044" y="1"/>
                    </a:lnTo>
                    <a:cubicBezTo>
                      <a:pt x="4045" y="1"/>
                      <a:pt x="4046" y="2"/>
                      <a:pt x="4046" y="3"/>
                    </a:cubicBezTo>
                    <a:cubicBezTo>
                      <a:pt x="4046" y="4"/>
                      <a:pt x="4045" y="5"/>
                      <a:pt x="4044" y="5"/>
                    </a:cubicBezTo>
                    <a:lnTo>
                      <a:pt x="4044" y="5"/>
                    </a:lnTo>
                    <a:cubicBezTo>
                      <a:pt x="4043" y="5"/>
                      <a:pt x="4042" y="4"/>
                      <a:pt x="4042" y="3"/>
                    </a:cubicBezTo>
                    <a:cubicBezTo>
                      <a:pt x="4042" y="2"/>
                      <a:pt x="4043" y="1"/>
                      <a:pt x="4044" y="1"/>
                    </a:cubicBezTo>
                    <a:close/>
                    <a:moveTo>
                      <a:pt x="4052" y="1"/>
                    </a:moveTo>
                    <a:lnTo>
                      <a:pt x="4052" y="1"/>
                    </a:lnTo>
                    <a:cubicBezTo>
                      <a:pt x="4053" y="1"/>
                      <a:pt x="4054" y="2"/>
                      <a:pt x="4054" y="3"/>
                    </a:cubicBezTo>
                    <a:cubicBezTo>
                      <a:pt x="4054" y="4"/>
                      <a:pt x="4053" y="5"/>
                      <a:pt x="4052" y="5"/>
                    </a:cubicBezTo>
                    <a:lnTo>
                      <a:pt x="4052" y="5"/>
                    </a:lnTo>
                    <a:cubicBezTo>
                      <a:pt x="4051" y="5"/>
                      <a:pt x="4050" y="4"/>
                      <a:pt x="4050" y="3"/>
                    </a:cubicBezTo>
                    <a:cubicBezTo>
                      <a:pt x="4050" y="2"/>
                      <a:pt x="4051" y="1"/>
                      <a:pt x="4052" y="1"/>
                    </a:cubicBezTo>
                    <a:close/>
                    <a:moveTo>
                      <a:pt x="4060" y="1"/>
                    </a:moveTo>
                    <a:lnTo>
                      <a:pt x="4060" y="1"/>
                    </a:lnTo>
                    <a:cubicBezTo>
                      <a:pt x="4061" y="1"/>
                      <a:pt x="4062" y="2"/>
                      <a:pt x="4062" y="3"/>
                    </a:cubicBezTo>
                    <a:cubicBezTo>
                      <a:pt x="4062" y="4"/>
                      <a:pt x="4061" y="5"/>
                      <a:pt x="4060" y="5"/>
                    </a:cubicBezTo>
                    <a:lnTo>
                      <a:pt x="4060" y="5"/>
                    </a:lnTo>
                    <a:cubicBezTo>
                      <a:pt x="4059" y="5"/>
                      <a:pt x="4058" y="4"/>
                      <a:pt x="4058" y="3"/>
                    </a:cubicBezTo>
                    <a:cubicBezTo>
                      <a:pt x="4058" y="2"/>
                      <a:pt x="4059" y="1"/>
                      <a:pt x="4060" y="1"/>
                    </a:cubicBezTo>
                    <a:close/>
                    <a:moveTo>
                      <a:pt x="4068" y="1"/>
                    </a:moveTo>
                    <a:lnTo>
                      <a:pt x="4068" y="1"/>
                    </a:lnTo>
                    <a:cubicBezTo>
                      <a:pt x="4069" y="1"/>
                      <a:pt x="4070" y="2"/>
                      <a:pt x="4070" y="3"/>
                    </a:cubicBezTo>
                    <a:cubicBezTo>
                      <a:pt x="4070" y="4"/>
                      <a:pt x="4069" y="5"/>
                      <a:pt x="4068" y="5"/>
                    </a:cubicBezTo>
                    <a:lnTo>
                      <a:pt x="4068" y="5"/>
                    </a:lnTo>
                    <a:cubicBezTo>
                      <a:pt x="4067" y="5"/>
                      <a:pt x="4066" y="4"/>
                      <a:pt x="4066" y="3"/>
                    </a:cubicBezTo>
                    <a:cubicBezTo>
                      <a:pt x="4066" y="2"/>
                      <a:pt x="4067" y="1"/>
                      <a:pt x="4068" y="1"/>
                    </a:cubicBezTo>
                    <a:close/>
                    <a:moveTo>
                      <a:pt x="4076" y="1"/>
                    </a:moveTo>
                    <a:lnTo>
                      <a:pt x="4076" y="1"/>
                    </a:lnTo>
                    <a:cubicBezTo>
                      <a:pt x="4077" y="1"/>
                      <a:pt x="4078" y="2"/>
                      <a:pt x="4078" y="3"/>
                    </a:cubicBezTo>
                    <a:cubicBezTo>
                      <a:pt x="4078" y="4"/>
                      <a:pt x="4077" y="5"/>
                      <a:pt x="4076" y="5"/>
                    </a:cubicBezTo>
                    <a:lnTo>
                      <a:pt x="4076" y="5"/>
                    </a:lnTo>
                    <a:cubicBezTo>
                      <a:pt x="4075" y="5"/>
                      <a:pt x="4074" y="4"/>
                      <a:pt x="4074" y="3"/>
                    </a:cubicBezTo>
                    <a:cubicBezTo>
                      <a:pt x="4074" y="2"/>
                      <a:pt x="4075" y="1"/>
                      <a:pt x="4076" y="1"/>
                    </a:cubicBezTo>
                    <a:close/>
                    <a:moveTo>
                      <a:pt x="4084" y="1"/>
                    </a:moveTo>
                    <a:lnTo>
                      <a:pt x="4084" y="1"/>
                    </a:lnTo>
                    <a:cubicBezTo>
                      <a:pt x="4085" y="1"/>
                      <a:pt x="4086" y="2"/>
                      <a:pt x="4086" y="3"/>
                    </a:cubicBezTo>
                    <a:cubicBezTo>
                      <a:pt x="4086" y="4"/>
                      <a:pt x="4085" y="5"/>
                      <a:pt x="4084" y="5"/>
                    </a:cubicBezTo>
                    <a:lnTo>
                      <a:pt x="4084" y="5"/>
                    </a:lnTo>
                    <a:cubicBezTo>
                      <a:pt x="4083" y="5"/>
                      <a:pt x="4082" y="4"/>
                      <a:pt x="4082" y="3"/>
                    </a:cubicBezTo>
                    <a:cubicBezTo>
                      <a:pt x="4082" y="2"/>
                      <a:pt x="4083" y="1"/>
                      <a:pt x="4084" y="1"/>
                    </a:cubicBezTo>
                    <a:close/>
                    <a:moveTo>
                      <a:pt x="4092" y="1"/>
                    </a:moveTo>
                    <a:lnTo>
                      <a:pt x="4092" y="1"/>
                    </a:lnTo>
                    <a:cubicBezTo>
                      <a:pt x="4093" y="1"/>
                      <a:pt x="4094" y="2"/>
                      <a:pt x="4094" y="3"/>
                    </a:cubicBezTo>
                    <a:cubicBezTo>
                      <a:pt x="4094" y="4"/>
                      <a:pt x="4093" y="5"/>
                      <a:pt x="4092" y="5"/>
                    </a:cubicBezTo>
                    <a:lnTo>
                      <a:pt x="4092" y="5"/>
                    </a:lnTo>
                    <a:cubicBezTo>
                      <a:pt x="4091" y="5"/>
                      <a:pt x="4090" y="4"/>
                      <a:pt x="4090" y="3"/>
                    </a:cubicBezTo>
                    <a:cubicBezTo>
                      <a:pt x="4090" y="2"/>
                      <a:pt x="4091" y="1"/>
                      <a:pt x="4092" y="1"/>
                    </a:cubicBezTo>
                    <a:close/>
                    <a:moveTo>
                      <a:pt x="4100" y="1"/>
                    </a:moveTo>
                    <a:lnTo>
                      <a:pt x="4100" y="1"/>
                    </a:lnTo>
                    <a:cubicBezTo>
                      <a:pt x="4101" y="1"/>
                      <a:pt x="4102" y="2"/>
                      <a:pt x="4102" y="3"/>
                    </a:cubicBezTo>
                    <a:cubicBezTo>
                      <a:pt x="4102" y="4"/>
                      <a:pt x="4101" y="5"/>
                      <a:pt x="4100" y="5"/>
                    </a:cubicBezTo>
                    <a:lnTo>
                      <a:pt x="4100" y="5"/>
                    </a:lnTo>
                    <a:cubicBezTo>
                      <a:pt x="4099" y="5"/>
                      <a:pt x="4098" y="4"/>
                      <a:pt x="4098" y="3"/>
                    </a:cubicBezTo>
                    <a:cubicBezTo>
                      <a:pt x="4098" y="2"/>
                      <a:pt x="4099" y="1"/>
                      <a:pt x="4100" y="1"/>
                    </a:cubicBezTo>
                    <a:close/>
                    <a:moveTo>
                      <a:pt x="4108" y="1"/>
                    </a:moveTo>
                    <a:lnTo>
                      <a:pt x="4108" y="1"/>
                    </a:lnTo>
                    <a:cubicBezTo>
                      <a:pt x="4109" y="1"/>
                      <a:pt x="4110" y="2"/>
                      <a:pt x="4110" y="3"/>
                    </a:cubicBezTo>
                    <a:cubicBezTo>
                      <a:pt x="4110" y="4"/>
                      <a:pt x="4109" y="5"/>
                      <a:pt x="4108" y="5"/>
                    </a:cubicBezTo>
                    <a:lnTo>
                      <a:pt x="4108" y="5"/>
                    </a:lnTo>
                    <a:cubicBezTo>
                      <a:pt x="4107" y="5"/>
                      <a:pt x="4106" y="4"/>
                      <a:pt x="4106" y="3"/>
                    </a:cubicBezTo>
                    <a:cubicBezTo>
                      <a:pt x="4106" y="2"/>
                      <a:pt x="4107" y="1"/>
                      <a:pt x="4108" y="1"/>
                    </a:cubicBezTo>
                    <a:close/>
                    <a:moveTo>
                      <a:pt x="4116" y="1"/>
                    </a:moveTo>
                    <a:lnTo>
                      <a:pt x="4116" y="1"/>
                    </a:lnTo>
                    <a:cubicBezTo>
                      <a:pt x="4117" y="1"/>
                      <a:pt x="4118" y="2"/>
                      <a:pt x="4118" y="3"/>
                    </a:cubicBezTo>
                    <a:cubicBezTo>
                      <a:pt x="4118" y="4"/>
                      <a:pt x="4117" y="5"/>
                      <a:pt x="4116" y="5"/>
                    </a:cubicBezTo>
                    <a:lnTo>
                      <a:pt x="4116" y="5"/>
                    </a:lnTo>
                    <a:cubicBezTo>
                      <a:pt x="4115" y="5"/>
                      <a:pt x="4114" y="4"/>
                      <a:pt x="4114" y="3"/>
                    </a:cubicBezTo>
                    <a:cubicBezTo>
                      <a:pt x="4114" y="2"/>
                      <a:pt x="4115" y="1"/>
                      <a:pt x="4116" y="1"/>
                    </a:cubicBezTo>
                    <a:close/>
                    <a:moveTo>
                      <a:pt x="4124" y="1"/>
                    </a:moveTo>
                    <a:lnTo>
                      <a:pt x="4124" y="1"/>
                    </a:lnTo>
                    <a:cubicBezTo>
                      <a:pt x="4125" y="1"/>
                      <a:pt x="4126" y="2"/>
                      <a:pt x="4126" y="3"/>
                    </a:cubicBezTo>
                    <a:cubicBezTo>
                      <a:pt x="4126" y="4"/>
                      <a:pt x="4125" y="5"/>
                      <a:pt x="4124" y="5"/>
                    </a:cubicBezTo>
                    <a:lnTo>
                      <a:pt x="4124" y="5"/>
                    </a:lnTo>
                    <a:cubicBezTo>
                      <a:pt x="4123" y="5"/>
                      <a:pt x="4122" y="4"/>
                      <a:pt x="4122" y="3"/>
                    </a:cubicBezTo>
                    <a:cubicBezTo>
                      <a:pt x="4122" y="2"/>
                      <a:pt x="4123" y="1"/>
                      <a:pt x="4124" y="1"/>
                    </a:cubicBezTo>
                    <a:close/>
                    <a:moveTo>
                      <a:pt x="4132" y="1"/>
                    </a:moveTo>
                    <a:lnTo>
                      <a:pt x="4132" y="1"/>
                    </a:lnTo>
                    <a:cubicBezTo>
                      <a:pt x="4133" y="1"/>
                      <a:pt x="4134" y="2"/>
                      <a:pt x="4134" y="3"/>
                    </a:cubicBezTo>
                    <a:cubicBezTo>
                      <a:pt x="4134" y="4"/>
                      <a:pt x="4133" y="5"/>
                      <a:pt x="4132" y="5"/>
                    </a:cubicBezTo>
                    <a:lnTo>
                      <a:pt x="4132" y="5"/>
                    </a:lnTo>
                    <a:cubicBezTo>
                      <a:pt x="4131" y="5"/>
                      <a:pt x="4130" y="4"/>
                      <a:pt x="4130" y="3"/>
                    </a:cubicBezTo>
                    <a:cubicBezTo>
                      <a:pt x="4130" y="2"/>
                      <a:pt x="4131" y="1"/>
                      <a:pt x="4132" y="1"/>
                    </a:cubicBezTo>
                    <a:close/>
                    <a:moveTo>
                      <a:pt x="4140" y="1"/>
                    </a:moveTo>
                    <a:lnTo>
                      <a:pt x="4140" y="1"/>
                    </a:lnTo>
                    <a:cubicBezTo>
                      <a:pt x="4141" y="1"/>
                      <a:pt x="4142" y="2"/>
                      <a:pt x="4142" y="3"/>
                    </a:cubicBezTo>
                    <a:cubicBezTo>
                      <a:pt x="4142" y="4"/>
                      <a:pt x="4141" y="5"/>
                      <a:pt x="4140" y="5"/>
                    </a:cubicBezTo>
                    <a:lnTo>
                      <a:pt x="4140" y="5"/>
                    </a:lnTo>
                    <a:cubicBezTo>
                      <a:pt x="4139" y="5"/>
                      <a:pt x="4138" y="4"/>
                      <a:pt x="4138" y="3"/>
                    </a:cubicBezTo>
                    <a:cubicBezTo>
                      <a:pt x="4138" y="2"/>
                      <a:pt x="4139" y="1"/>
                      <a:pt x="4140" y="1"/>
                    </a:cubicBezTo>
                    <a:close/>
                    <a:moveTo>
                      <a:pt x="4148" y="1"/>
                    </a:moveTo>
                    <a:lnTo>
                      <a:pt x="4148" y="1"/>
                    </a:lnTo>
                    <a:cubicBezTo>
                      <a:pt x="4149" y="1"/>
                      <a:pt x="4150" y="2"/>
                      <a:pt x="4150" y="3"/>
                    </a:cubicBezTo>
                    <a:cubicBezTo>
                      <a:pt x="4150" y="4"/>
                      <a:pt x="4149" y="5"/>
                      <a:pt x="4148" y="5"/>
                    </a:cubicBezTo>
                    <a:lnTo>
                      <a:pt x="4148" y="5"/>
                    </a:lnTo>
                    <a:cubicBezTo>
                      <a:pt x="4147" y="5"/>
                      <a:pt x="4146" y="4"/>
                      <a:pt x="4146" y="3"/>
                    </a:cubicBezTo>
                    <a:cubicBezTo>
                      <a:pt x="4146" y="2"/>
                      <a:pt x="4147" y="1"/>
                      <a:pt x="4148" y="1"/>
                    </a:cubicBezTo>
                    <a:close/>
                    <a:moveTo>
                      <a:pt x="4156" y="1"/>
                    </a:moveTo>
                    <a:lnTo>
                      <a:pt x="4156" y="1"/>
                    </a:lnTo>
                    <a:cubicBezTo>
                      <a:pt x="4157" y="1"/>
                      <a:pt x="4158" y="2"/>
                      <a:pt x="4158" y="3"/>
                    </a:cubicBezTo>
                    <a:cubicBezTo>
                      <a:pt x="4158" y="4"/>
                      <a:pt x="4157" y="5"/>
                      <a:pt x="4156" y="5"/>
                    </a:cubicBezTo>
                    <a:lnTo>
                      <a:pt x="4156" y="5"/>
                    </a:lnTo>
                    <a:cubicBezTo>
                      <a:pt x="4155" y="5"/>
                      <a:pt x="4154" y="4"/>
                      <a:pt x="4154" y="3"/>
                    </a:cubicBezTo>
                    <a:cubicBezTo>
                      <a:pt x="4154" y="2"/>
                      <a:pt x="4155" y="1"/>
                      <a:pt x="4156" y="1"/>
                    </a:cubicBezTo>
                    <a:close/>
                    <a:moveTo>
                      <a:pt x="4164" y="1"/>
                    </a:moveTo>
                    <a:lnTo>
                      <a:pt x="4164" y="1"/>
                    </a:lnTo>
                    <a:cubicBezTo>
                      <a:pt x="4165" y="1"/>
                      <a:pt x="4166" y="2"/>
                      <a:pt x="4166" y="3"/>
                    </a:cubicBezTo>
                    <a:cubicBezTo>
                      <a:pt x="4166" y="4"/>
                      <a:pt x="4165" y="5"/>
                      <a:pt x="4164" y="5"/>
                    </a:cubicBezTo>
                    <a:lnTo>
                      <a:pt x="4164" y="5"/>
                    </a:lnTo>
                    <a:cubicBezTo>
                      <a:pt x="4163" y="5"/>
                      <a:pt x="4162" y="4"/>
                      <a:pt x="4162" y="3"/>
                    </a:cubicBezTo>
                    <a:cubicBezTo>
                      <a:pt x="4162" y="2"/>
                      <a:pt x="4163" y="1"/>
                      <a:pt x="4164" y="1"/>
                    </a:cubicBezTo>
                    <a:close/>
                    <a:moveTo>
                      <a:pt x="4172" y="1"/>
                    </a:moveTo>
                    <a:lnTo>
                      <a:pt x="4172" y="1"/>
                    </a:lnTo>
                    <a:cubicBezTo>
                      <a:pt x="4173" y="1"/>
                      <a:pt x="4174" y="2"/>
                      <a:pt x="4174" y="3"/>
                    </a:cubicBezTo>
                    <a:cubicBezTo>
                      <a:pt x="4174" y="4"/>
                      <a:pt x="4173" y="5"/>
                      <a:pt x="4172" y="5"/>
                    </a:cubicBezTo>
                    <a:lnTo>
                      <a:pt x="4172" y="5"/>
                    </a:lnTo>
                    <a:cubicBezTo>
                      <a:pt x="4171" y="5"/>
                      <a:pt x="4170" y="4"/>
                      <a:pt x="4170" y="3"/>
                    </a:cubicBezTo>
                    <a:cubicBezTo>
                      <a:pt x="4170" y="2"/>
                      <a:pt x="4171" y="1"/>
                      <a:pt x="4172" y="1"/>
                    </a:cubicBezTo>
                    <a:close/>
                    <a:moveTo>
                      <a:pt x="4180" y="1"/>
                    </a:moveTo>
                    <a:lnTo>
                      <a:pt x="4180" y="1"/>
                    </a:lnTo>
                    <a:cubicBezTo>
                      <a:pt x="4181" y="1"/>
                      <a:pt x="4182" y="2"/>
                      <a:pt x="4182" y="3"/>
                    </a:cubicBezTo>
                    <a:cubicBezTo>
                      <a:pt x="4182" y="4"/>
                      <a:pt x="4181" y="5"/>
                      <a:pt x="4180" y="5"/>
                    </a:cubicBezTo>
                    <a:lnTo>
                      <a:pt x="4180" y="5"/>
                    </a:lnTo>
                    <a:cubicBezTo>
                      <a:pt x="4179" y="5"/>
                      <a:pt x="4178" y="4"/>
                      <a:pt x="4178" y="3"/>
                    </a:cubicBezTo>
                    <a:cubicBezTo>
                      <a:pt x="4178" y="2"/>
                      <a:pt x="4179" y="1"/>
                      <a:pt x="4180" y="1"/>
                    </a:cubicBezTo>
                    <a:close/>
                    <a:moveTo>
                      <a:pt x="4188" y="1"/>
                    </a:moveTo>
                    <a:lnTo>
                      <a:pt x="4188" y="1"/>
                    </a:lnTo>
                    <a:cubicBezTo>
                      <a:pt x="4189" y="1"/>
                      <a:pt x="4190" y="2"/>
                      <a:pt x="4190" y="3"/>
                    </a:cubicBezTo>
                    <a:cubicBezTo>
                      <a:pt x="4190" y="4"/>
                      <a:pt x="4189" y="5"/>
                      <a:pt x="4188" y="5"/>
                    </a:cubicBezTo>
                    <a:lnTo>
                      <a:pt x="4188" y="5"/>
                    </a:lnTo>
                    <a:cubicBezTo>
                      <a:pt x="4187" y="5"/>
                      <a:pt x="4186" y="4"/>
                      <a:pt x="4186" y="3"/>
                    </a:cubicBezTo>
                    <a:cubicBezTo>
                      <a:pt x="4186" y="2"/>
                      <a:pt x="4187" y="1"/>
                      <a:pt x="4188" y="1"/>
                    </a:cubicBezTo>
                    <a:close/>
                    <a:moveTo>
                      <a:pt x="4196" y="1"/>
                    </a:moveTo>
                    <a:lnTo>
                      <a:pt x="4196" y="1"/>
                    </a:lnTo>
                    <a:cubicBezTo>
                      <a:pt x="4197" y="1"/>
                      <a:pt x="4198" y="2"/>
                      <a:pt x="4198" y="3"/>
                    </a:cubicBezTo>
                    <a:cubicBezTo>
                      <a:pt x="4198" y="4"/>
                      <a:pt x="4197" y="5"/>
                      <a:pt x="4196" y="5"/>
                    </a:cubicBezTo>
                    <a:lnTo>
                      <a:pt x="4196" y="5"/>
                    </a:lnTo>
                    <a:cubicBezTo>
                      <a:pt x="4195" y="5"/>
                      <a:pt x="4194" y="4"/>
                      <a:pt x="4194" y="3"/>
                    </a:cubicBezTo>
                    <a:cubicBezTo>
                      <a:pt x="4194" y="2"/>
                      <a:pt x="4195" y="1"/>
                      <a:pt x="4196" y="1"/>
                    </a:cubicBezTo>
                    <a:close/>
                    <a:moveTo>
                      <a:pt x="4204" y="1"/>
                    </a:moveTo>
                    <a:lnTo>
                      <a:pt x="4204" y="1"/>
                    </a:lnTo>
                    <a:cubicBezTo>
                      <a:pt x="4205" y="1"/>
                      <a:pt x="4206" y="2"/>
                      <a:pt x="4206" y="3"/>
                    </a:cubicBezTo>
                    <a:cubicBezTo>
                      <a:pt x="4206" y="4"/>
                      <a:pt x="4205" y="5"/>
                      <a:pt x="4204" y="5"/>
                    </a:cubicBezTo>
                    <a:lnTo>
                      <a:pt x="4204" y="5"/>
                    </a:lnTo>
                    <a:cubicBezTo>
                      <a:pt x="4203" y="5"/>
                      <a:pt x="4202" y="4"/>
                      <a:pt x="4202" y="3"/>
                    </a:cubicBezTo>
                    <a:cubicBezTo>
                      <a:pt x="4202" y="2"/>
                      <a:pt x="4203" y="1"/>
                      <a:pt x="4204" y="1"/>
                    </a:cubicBezTo>
                    <a:close/>
                    <a:moveTo>
                      <a:pt x="4212" y="1"/>
                    </a:moveTo>
                    <a:lnTo>
                      <a:pt x="4212" y="1"/>
                    </a:lnTo>
                    <a:cubicBezTo>
                      <a:pt x="4213" y="1"/>
                      <a:pt x="4214" y="2"/>
                      <a:pt x="4214" y="3"/>
                    </a:cubicBezTo>
                    <a:cubicBezTo>
                      <a:pt x="4214" y="4"/>
                      <a:pt x="4213" y="5"/>
                      <a:pt x="4212" y="5"/>
                    </a:cubicBezTo>
                    <a:lnTo>
                      <a:pt x="4212" y="5"/>
                    </a:lnTo>
                    <a:cubicBezTo>
                      <a:pt x="4211" y="5"/>
                      <a:pt x="4210" y="4"/>
                      <a:pt x="4210" y="3"/>
                    </a:cubicBezTo>
                    <a:cubicBezTo>
                      <a:pt x="4210" y="2"/>
                      <a:pt x="4211" y="1"/>
                      <a:pt x="4212" y="1"/>
                    </a:cubicBezTo>
                    <a:close/>
                    <a:moveTo>
                      <a:pt x="4220" y="1"/>
                    </a:moveTo>
                    <a:lnTo>
                      <a:pt x="4220" y="1"/>
                    </a:lnTo>
                    <a:cubicBezTo>
                      <a:pt x="4221" y="1"/>
                      <a:pt x="4222" y="2"/>
                      <a:pt x="4222" y="3"/>
                    </a:cubicBezTo>
                    <a:cubicBezTo>
                      <a:pt x="4222" y="4"/>
                      <a:pt x="4221" y="5"/>
                      <a:pt x="4220" y="5"/>
                    </a:cubicBezTo>
                    <a:lnTo>
                      <a:pt x="4220" y="5"/>
                    </a:lnTo>
                    <a:cubicBezTo>
                      <a:pt x="4219" y="5"/>
                      <a:pt x="4218" y="4"/>
                      <a:pt x="4218" y="3"/>
                    </a:cubicBezTo>
                    <a:cubicBezTo>
                      <a:pt x="4218" y="2"/>
                      <a:pt x="4219" y="1"/>
                      <a:pt x="4220" y="1"/>
                    </a:cubicBezTo>
                    <a:close/>
                    <a:moveTo>
                      <a:pt x="4228" y="1"/>
                    </a:moveTo>
                    <a:lnTo>
                      <a:pt x="4228" y="1"/>
                    </a:lnTo>
                    <a:cubicBezTo>
                      <a:pt x="4229" y="1"/>
                      <a:pt x="4230" y="2"/>
                      <a:pt x="4230" y="3"/>
                    </a:cubicBezTo>
                    <a:cubicBezTo>
                      <a:pt x="4230" y="4"/>
                      <a:pt x="4229" y="5"/>
                      <a:pt x="4228" y="5"/>
                    </a:cubicBezTo>
                    <a:lnTo>
                      <a:pt x="4228" y="5"/>
                    </a:lnTo>
                    <a:cubicBezTo>
                      <a:pt x="4227" y="5"/>
                      <a:pt x="4226" y="4"/>
                      <a:pt x="4226" y="3"/>
                    </a:cubicBezTo>
                    <a:cubicBezTo>
                      <a:pt x="4226" y="2"/>
                      <a:pt x="4227" y="1"/>
                      <a:pt x="4228" y="1"/>
                    </a:cubicBezTo>
                    <a:close/>
                    <a:moveTo>
                      <a:pt x="4236" y="1"/>
                    </a:moveTo>
                    <a:lnTo>
                      <a:pt x="4236" y="1"/>
                    </a:lnTo>
                    <a:cubicBezTo>
                      <a:pt x="4237" y="1"/>
                      <a:pt x="4238" y="2"/>
                      <a:pt x="4238" y="3"/>
                    </a:cubicBezTo>
                    <a:cubicBezTo>
                      <a:pt x="4238" y="4"/>
                      <a:pt x="4237" y="5"/>
                      <a:pt x="4236" y="5"/>
                    </a:cubicBezTo>
                    <a:lnTo>
                      <a:pt x="4236" y="5"/>
                    </a:lnTo>
                    <a:cubicBezTo>
                      <a:pt x="4235" y="5"/>
                      <a:pt x="4234" y="4"/>
                      <a:pt x="4234" y="3"/>
                    </a:cubicBezTo>
                    <a:cubicBezTo>
                      <a:pt x="4234" y="2"/>
                      <a:pt x="4235" y="1"/>
                      <a:pt x="4236" y="1"/>
                    </a:cubicBezTo>
                    <a:close/>
                    <a:moveTo>
                      <a:pt x="4244" y="1"/>
                    </a:moveTo>
                    <a:lnTo>
                      <a:pt x="4244" y="1"/>
                    </a:lnTo>
                    <a:cubicBezTo>
                      <a:pt x="4245" y="1"/>
                      <a:pt x="4246" y="2"/>
                      <a:pt x="4246" y="3"/>
                    </a:cubicBezTo>
                    <a:cubicBezTo>
                      <a:pt x="4246" y="4"/>
                      <a:pt x="4245" y="5"/>
                      <a:pt x="4244" y="5"/>
                    </a:cubicBezTo>
                    <a:lnTo>
                      <a:pt x="4244" y="5"/>
                    </a:lnTo>
                    <a:cubicBezTo>
                      <a:pt x="4243" y="5"/>
                      <a:pt x="4242" y="4"/>
                      <a:pt x="4242" y="3"/>
                    </a:cubicBezTo>
                    <a:cubicBezTo>
                      <a:pt x="4242" y="2"/>
                      <a:pt x="4243" y="1"/>
                      <a:pt x="4244" y="1"/>
                    </a:cubicBezTo>
                    <a:close/>
                    <a:moveTo>
                      <a:pt x="4252" y="1"/>
                    </a:moveTo>
                    <a:lnTo>
                      <a:pt x="4252" y="1"/>
                    </a:lnTo>
                    <a:cubicBezTo>
                      <a:pt x="4253" y="1"/>
                      <a:pt x="4254" y="2"/>
                      <a:pt x="4254" y="3"/>
                    </a:cubicBezTo>
                    <a:cubicBezTo>
                      <a:pt x="4254" y="4"/>
                      <a:pt x="4253" y="5"/>
                      <a:pt x="4252" y="5"/>
                    </a:cubicBezTo>
                    <a:lnTo>
                      <a:pt x="4252" y="5"/>
                    </a:lnTo>
                    <a:cubicBezTo>
                      <a:pt x="4251" y="5"/>
                      <a:pt x="4250" y="4"/>
                      <a:pt x="4250" y="3"/>
                    </a:cubicBezTo>
                    <a:cubicBezTo>
                      <a:pt x="4250" y="2"/>
                      <a:pt x="4251" y="1"/>
                      <a:pt x="4252" y="1"/>
                    </a:cubicBezTo>
                    <a:close/>
                    <a:moveTo>
                      <a:pt x="4260" y="1"/>
                    </a:moveTo>
                    <a:lnTo>
                      <a:pt x="4260" y="1"/>
                    </a:lnTo>
                    <a:cubicBezTo>
                      <a:pt x="4261" y="1"/>
                      <a:pt x="4262" y="2"/>
                      <a:pt x="4262" y="3"/>
                    </a:cubicBezTo>
                    <a:cubicBezTo>
                      <a:pt x="4262" y="4"/>
                      <a:pt x="4261" y="5"/>
                      <a:pt x="4260" y="5"/>
                    </a:cubicBezTo>
                    <a:lnTo>
                      <a:pt x="4260" y="5"/>
                    </a:lnTo>
                    <a:cubicBezTo>
                      <a:pt x="4259" y="5"/>
                      <a:pt x="4258" y="4"/>
                      <a:pt x="4258" y="3"/>
                    </a:cubicBezTo>
                    <a:cubicBezTo>
                      <a:pt x="4258" y="2"/>
                      <a:pt x="4259" y="1"/>
                      <a:pt x="4260" y="1"/>
                    </a:cubicBezTo>
                    <a:close/>
                    <a:moveTo>
                      <a:pt x="4268" y="1"/>
                    </a:moveTo>
                    <a:lnTo>
                      <a:pt x="4268" y="1"/>
                    </a:lnTo>
                    <a:cubicBezTo>
                      <a:pt x="4269" y="1"/>
                      <a:pt x="4270" y="2"/>
                      <a:pt x="4270" y="3"/>
                    </a:cubicBezTo>
                    <a:cubicBezTo>
                      <a:pt x="4270" y="4"/>
                      <a:pt x="4269" y="5"/>
                      <a:pt x="4268" y="5"/>
                    </a:cubicBezTo>
                    <a:lnTo>
                      <a:pt x="4268" y="5"/>
                    </a:lnTo>
                    <a:cubicBezTo>
                      <a:pt x="4267" y="5"/>
                      <a:pt x="4266" y="4"/>
                      <a:pt x="4266" y="3"/>
                    </a:cubicBezTo>
                    <a:cubicBezTo>
                      <a:pt x="4266" y="2"/>
                      <a:pt x="4267" y="1"/>
                      <a:pt x="4268" y="1"/>
                    </a:cubicBezTo>
                    <a:close/>
                    <a:moveTo>
                      <a:pt x="4276" y="1"/>
                    </a:moveTo>
                    <a:lnTo>
                      <a:pt x="4276" y="1"/>
                    </a:lnTo>
                    <a:cubicBezTo>
                      <a:pt x="4277" y="1"/>
                      <a:pt x="4278" y="2"/>
                      <a:pt x="4278" y="3"/>
                    </a:cubicBezTo>
                    <a:cubicBezTo>
                      <a:pt x="4278" y="4"/>
                      <a:pt x="4277" y="5"/>
                      <a:pt x="4276" y="5"/>
                    </a:cubicBezTo>
                    <a:lnTo>
                      <a:pt x="4276" y="5"/>
                    </a:lnTo>
                    <a:cubicBezTo>
                      <a:pt x="4275" y="5"/>
                      <a:pt x="4274" y="4"/>
                      <a:pt x="4274" y="3"/>
                    </a:cubicBezTo>
                    <a:cubicBezTo>
                      <a:pt x="4274" y="2"/>
                      <a:pt x="4275" y="1"/>
                      <a:pt x="4276" y="1"/>
                    </a:cubicBezTo>
                    <a:close/>
                    <a:moveTo>
                      <a:pt x="4284" y="1"/>
                    </a:moveTo>
                    <a:lnTo>
                      <a:pt x="4284" y="1"/>
                    </a:lnTo>
                    <a:cubicBezTo>
                      <a:pt x="4285" y="1"/>
                      <a:pt x="4286" y="2"/>
                      <a:pt x="4286" y="3"/>
                    </a:cubicBezTo>
                    <a:cubicBezTo>
                      <a:pt x="4286" y="4"/>
                      <a:pt x="4285" y="5"/>
                      <a:pt x="4284" y="5"/>
                    </a:cubicBezTo>
                    <a:lnTo>
                      <a:pt x="4284" y="5"/>
                    </a:lnTo>
                    <a:cubicBezTo>
                      <a:pt x="4283" y="5"/>
                      <a:pt x="4282" y="4"/>
                      <a:pt x="4282" y="3"/>
                    </a:cubicBezTo>
                    <a:cubicBezTo>
                      <a:pt x="4282" y="2"/>
                      <a:pt x="4283" y="1"/>
                      <a:pt x="4284" y="1"/>
                    </a:cubicBezTo>
                    <a:close/>
                    <a:moveTo>
                      <a:pt x="4292" y="1"/>
                    </a:moveTo>
                    <a:lnTo>
                      <a:pt x="4292" y="1"/>
                    </a:lnTo>
                    <a:cubicBezTo>
                      <a:pt x="4293" y="1"/>
                      <a:pt x="4294" y="2"/>
                      <a:pt x="4294" y="3"/>
                    </a:cubicBezTo>
                    <a:cubicBezTo>
                      <a:pt x="4294" y="4"/>
                      <a:pt x="4293" y="5"/>
                      <a:pt x="4292" y="5"/>
                    </a:cubicBezTo>
                    <a:lnTo>
                      <a:pt x="4292" y="5"/>
                    </a:lnTo>
                    <a:cubicBezTo>
                      <a:pt x="4291" y="5"/>
                      <a:pt x="4290" y="4"/>
                      <a:pt x="4290" y="3"/>
                    </a:cubicBezTo>
                    <a:cubicBezTo>
                      <a:pt x="4290" y="2"/>
                      <a:pt x="4291" y="1"/>
                      <a:pt x="4292" y="1"/>
                    </a:cubicBezTo>
                    <a:close/>
                    <a:moveTo>
                      <a:pt x="4300" y="1"/>
                    </a:moveTo>
                    <a:lnTo>
                      <a:pt x="4300" y="1"/>
                    </a:lnTo>
                    <a:cubicBezTo>
                      <a:pt x="4301" y="1"/>
                      <a:pt x="4302" y="2"/>
                      <a:pt x="4302" y="3"/>
                    </a:cubicBezTo>
                    <a:cubicBezTo>
                      <a:pt x="4302" y="4"/>
                      <a:pt x="4301" y="5"/>
                      <a:pt x="4300" y="5"/>
                    </a:cubicBezTo>
                    <a:lnTo>
                      <a:pt x="4300" y="5"/>
                    </a:lnTo>
                    <a:cubicBezTo>
                      <a:pt x="4299" y="5"/>
                      <a:pt x="4298" y="4"/>
                      <a:pt x="4298" y="3"/>
                    </a:cubicBezTo>
                    <a:cubicBezTo>
                      <a:pt x="4298" y="2"/>
                      <a:pt x="4299" y="1"/>
                      <a:pt x="4300" y="1"/>
                    </a:cubicBezTo>
                    <a:close/>
                    <a:moveTo>
                      <a:pt x="4308" y="1"/>
                    </a:moveTo>
                    <a:lnTo>
                      <a:pt x="4308" y="1"/>
                    </a:lnTo>
                    <a:cubicBezTo>
                      <a:pt x="4309" y="1"/>
                      <a:pt x="4310" y="2"/>
                      <a:pt x="4310" y="3"/>
                    </a:cubicBezTo>
                    <a:cubicBezTo>
                      <a:pt x="4310" y="4"/>
                      <a:pt x="4309" y="5"/>
                      <a:pt x="4308" y="5"/>
                    </a:cubicBezTo>
                    <a:lnTo>
                      <a:pt x="4308" y="5"/>
                    </a:lnTo>
                    <a:cubicBezTo>
                      <a:pt x="4307" y="5"/>
                      <a:pt x="4306" y="4"/>
                      <a:pt x="4306" y="3"/>
                    </a:cubicBezTo>
                    <a:cubicBezTo>
                      <a:pt x="4306" y="2"/>
                      <a:pt x="4307" y="1"/>
                      <a:pt x="4308" y="1"/>
                    </a:cubicBezTo>
                    <a:close/>
                    <a:moveTo>
                      <a:pt x="4316" y="1"/>
                    </a:moveTo>
                    <a:lnTo>
                      <a:pt x="4316" y="1"/>
                    </a:lnTo>
                    <a:cubicBezTo>
                      <a:pt x="4317" y="1"/>
                      <a:pt x="4318" y="2"/>
                      <a:pt x="4318" y="3"/>
                    </a:cubicBezTo>
                    <a:cubicBezTo>
                      <a:pt x="4318" y="4"/>
                      <a:pt x="4317" y="5"/>
                      <a:pt x="4316" y="5"/>
                    </a:cubicBezTo>
                    <a:lnTo>
                      <a:pt x="4316" y="5"/>
                    </a:lnTo>
                    <a:cubicBezTo>
                      <a:pt x="4315" y="5"/>
                      <a:pt x="4314" y="4"/>
                      <a:pt x="4314" y="3"/>
                    </a:cubicBezTo>
                    <a:cubicBezTo>
                      <a:pt x="4314" y="2"/>
                      <a:pt x="4315" y="1"/>
                      <a:pt x="4316" y="1"/>
                    </a:cubicBezTo>
                    <a:close/>
                    <a:moveTo>
                      <a:pt x="4324" y="1"/>
                    </a:moveTo>
                    <a:lnTo>
                      <a:pt x="4324" y="1"/>
                    </a:lnTo>
                    <a:cubicBezTo>
                      <a:pt x="4325" y="1"/>
                      <a:pt x="4326" y="2"/>
                      <a:pt x="4326" y="3"/>
                    </a:cubicBezTo>
                    <a:cubicBezTo>
                      <a:pt x="4326" y="4"/>
                      <a:pt x="4325" y="5"/>
                      <a:pt x="4324" y="5"/>
                    </a:cubicBezTo>
                    <a:lnTo>
                      <a:pt x="4324" y="5"/>
                    </a:lnTo>
                    <a:cubicBezTo>
                      <a:pt x="4323" y="5"/>
                      <a:pt x="4322" y="4"/>
                      <a:pt x="4322" y="3"/>
                    </a:cubicBezTo>
                    <a:cubicBezTo>
                      <a:pt x="4322" y="2"/>
                      <a:pt x="4323" y="1"/>
                      <a:pt x="4324" y="1"/>
                    </a:cubicBezTo>
                    <a:close/>
                    <a:moveTo>
                      <a:pt x="4332" y="1"/>
                    </a:moveTo>
                    <a:lnTo>
                      <a:pt x="4332" y="1"/>
                    </a:lnTo>
                    <a:cubicBezTo>
                      <a:pt x="4333" y="1"/>
                      <a:pt x="4334" y="2"/>
                      <a:pt x="4334" y="3"/>
                    </a:cubicBezTo>
                    <a:cubicBezTo>
                      <a:pt x="4334" y="4"/>
                      <a:pt x="4333" y="5"/>
                      <a:pt x="4332" y="5"/>
                    </a:cubicBezTo>
                    <a:lnTo>
                      <a:pt x="4332" y="5"/>
                    </a:lnTo>
                    <a:cubicBezTo>
                      <a:pt x="4331" y="5"/>
                      <a:pt x="4330" y="4"/>
                      <a:pt x="4330" y="3"/>
                    </a:cubicBezTo>
                    <a:cubicBezTo>
                      <a:pt x="4330" y="2"/>
                      <a:pt x="4331" y="1"/>
                      <a:pt x="4332" y="1"/>
                    </a:cubicBezTo>
                    <a:close/>
                    <a:moveTo>
                      <a:pt x="4340" y="1"/>
                    </a:moveTo>
                    <a:lnTo>
                      <a:pt x="4340" y="1"/>
                    </a:lnTo>
                    <a:cubicBezTo>
                      <a:pt x="4341" y="1"/>
                      <a:pt x="4342" y="2"/>
                      <a:pt x="4342" y="3"/>
                    </a:cubicBezTo>
                    <a:cubicBezTo>
                      <a:pt x="4342" y="4"/>
                      <a:pt x="4341" y="5"/>
                      <a:pt x="4340" y="5"/>
                    </a:cubicBezTo>
                    <a:lnTo>
                      <a:pt x="4340" y="5"/>
                    </a:lnTo>
                    <a:cubicBezTo>
                      <a:pt x="4339" y="5"/>
                      <a:pt x="4338" y="4"/>
                      <a:pt x="4338" y="3"/>
                    </a:cubicBezTo>
                    <a:cubicBezTo>
                      <a:pt x="4338" y="2"/>
                      <a:pt x="4339" y="1"/>
                      <a:pt x="4340" y="1"/>
                    </a:cubicBezTo>
                    <a:close/>
                    <a:moveTo>
                      <a:pt x="4348" y="1"/>
                    </a:moveTo>
                    <a:lnTo>
                      <a:pt x="4348" y="1"/>
                    </a:lnTo>
                    <a:cubicBezTo>
                      <a:pt x="4349" y="1"/>
                      <a:pt x="4350" y="2"/>
                      <a:pt x="4350" y="3"/>
                    </a:cubicBezTo>
                    <a:cubicBezTo>
                      <a:pt x="4350" y="4"/>
                      <a:pt x="4349" y="5"/>
                      <a:pt x="4348" y="5"/>
                    </a:cubicBezTo>
                    <a:lnTo>
                      <a:pt x="4348" y="5"/>
                    </a:lnTo>
                    <a:cubicBezTo>
                      <a:pt x="4347" y="5"/>
                      <a:pt x="4346" y="4"/>
                      <a:pt x="4346" y="3"/>
                    </a:cubicBezTo>
                    <a:cubicBezTo>
                      <a:pt x="4346" y="2"/>
                      <a:pt x="4347" y="1"/>
                      <a:pt x="4348" y="1"/>
                    </a:cubicBezTo>
                    <a:close/>
                    <a:moveTo>
                      <a:pt x="4356" y="1"/>
                    </a:moveTo>
                    <a:lnTo>
                      <a:pt x="4356" y="1"/>
                    </a:lnTo>
                    <a:cubicBezTo>
                      <a:pt x="4357" y="1"/>
                      <a:pt x="4358" y="2"/>
                      <a:pt x="4358" y="3"/>
                    </a:cubicBezTo>
                    <a:cubicBezTo>
                      <a:pt x="4358" y="4"/>
                      <a:pt x="4357" y="5"/>
                      <a:pt x="4356" y="5"/>
                    </a:cubicBezTo>
                    <a:lnTo>
                      <a:pt x="4356" y="5"/>
                    </a:lnTo>
                    <a:cubicBezTo>
                      <a:pt x="4355" y="5"/>
                      <a:pt x="4354" y="4"/>
                      <a:pt x="4354" y="3"/>
                    </a:cubicBezTo>
                    <a:cubicBezTo>
                      <a:pt x="4354" y="2"/>
                      <a:pt x="4355" y="1"/>
                      <a:pt x="4356" y="1"/>
                    </a:cubicBezTo>
                    <a:close/>
                    <a:moveTo>
                      <a:pt x="4364" y="1"/>
                    </a:moveTo>
                    <a:lnTo>
                      <a:pt x="4364" y="1"/>
                    </a:lnTo>
                    <a:cubicBezTo>
                      <a:pt x="4365" y="1"/>
                      <a:pt x="4366" y="2"/>
                      <a:pt x="4366" y="3"/>
                    </a:cubicBezTo>
                    <a:cubicBezTo>
                      <a:pt x="4366" y="4"/>
                      <a:pt x="4365" y="5"/>
                      <a:pt x="4364" y="5"/>
                    </a:cubicBezTo>
                    <a:lnTo>
                      <a:pt x="4364" y="5"/>
                    </a:lnTo>
                    <a:cubicBezTo>
                      <a:pt x="4363" y="5"/>
                      <a:pt x="4362" y="4"/>
                      <a:pt x="4362" y="3"/>
                    </a:cubicBezTo>
                    <a:cubicBezTo>
                      <a:pt x="4362" y="2"/>
                      <a:pt x="4363" y="1"/>
                      <a:pt x="4364" y="1"/>
                    </a:cubicBezTo>
                    <a:close/>
                    <a:moveTo>
                      <a:pt x="4372" y="1"/>
                    </a:moveTo>
                    <a:lnTo>
                      <a:pt x="4372" y="1"/>
                    </a:lnTo>
                    <a:cubicBezTo>
                      <a:pt x="4373" y="1"/>
                      <a:pt x="4374" y="2"/>
                      <a:pt x="4374" y="3"/>
                    </a:cubicBezTo>
                    <a:cubicBezTo>
                      <a:pt x="4374" y="4"/>
                      <a:pt x="4373" y="5"/>
                      <a:pt x="4372" y="5"/>
                    </a:cubicBezTo>
                    <a:lnTo>
                      <a:pt x="4372" y="5"/>
                    </a:lnTo>
                    <a:cubicBezTo>
                      <a:pt x="4371" y="5"/>
                      <a:pt x="4370" y="4"/>
                      <a:pt x="4370" y="3"/>
                    </a:cubicBezTo>
                    <a:cubicBezTo>
                      <a:pt x="4370" y="2"/>
                      <a:pt x="4371" y="1"/>
                      <a:pt x="4372" y="1"/>
                    </a:cubicBezTo>
                    <a:close/>
                    <a:moveTo>
                      <a:pt x="4380" y="1"/>
                    </a:moveTo>
                    <a:lnTo>
                      <a:pt x="4380" y="1"/>
                    </a:lnTo>
                    <a:cubicBezTo>
                      <a:pt x="4381" y="1"/>
                      <a:pt x="4382" y="2"/>
                      <a:pt x="4382" y="3"/>
                    </a:cubicBezTo>
                    <a:cubicBezTo>
                      <a:pt x="4382" y="4"/>
                      <a:pt x="4381" y="5"/>
                      <a:pt x="4380" y="5"/>
                    </a:cubicBezTo>
                    <a:lnTo>
                      <a:pt x="4380" y="5"/>
                    </a:lnTo>
                    <a:cubicBezTo>
                      <a:pt x="4379" y="5"/>
                      <a:pt x="4378" y="4"/>
                      <a:pt x="4378" y="3"/>
                    </a:cubicBezTo>
                    <a:cubicBezTo>
                      <a:pt x="4378" y="2"/>
                      <a:pt x="4379" y="1"/>
                      <a:pt x="4380" y="1"/>
                    </a:cubicBezTo>
                    <a:close/>
                    <a:moveTo>
                      <a:pt x="4388" y="1"/>
                    </a:moveTo>
                    <a:lnTo>
                      <a:pt x="4388" y="1"/>
                    </a:lnTo>
                    <a:cubicBezTo>
                      <a:pt x="4389" y="1"/>
                      <a:pt x="4390" y="2"/>
                      <a:pt x="4390" y="3"/>
                    </a:cubicBezTo>
                    <a:cubicBezTo>
                      <a:pt x="4390" y="4"/>
                      <a:pt x="4389" y="5"/>
                      <a:pt x="4388" y="5"/>
                    </a:cubicBezTo>
                    <a:lnTo>
                      <a:pt x="4388" y="5"/>
                    </a:lnTo>
                    <a:cubicBezTo>
                      <a:pt x="4387" y="5"/>
                      <a:pt x="4386" y="4"/>
                      <a:pt x="4386" y="3"/>
                    </a:cubicBezTo>
                    <a:cubicBezTo>
                      <a:pt x="4386" y="2"/>
                      <a:pt x="4387" y="1"/>
                      <a:pt x="4388" y="1"/>
                    </a:cubicBezTo>
                    <a:close/>
                    <a:moveTo>
                      <a:pt x="4396" y="1"/>
                    </a:moveTo>
                    <a:lnTo>
                      <a:pt x="4396" y="1"/>
                    </a:lnTo>
                    <a:cubicBezTo>
                      <a:pt x="4397" y="1"/>
                      <a:pt x="4398" y="2"/>
                      <a:pt x="4398" y="3"/>
                    </a:cubicBezTo>
                    <a:cubicBezTo>
                      <a:pt x="4398" y="4"/>
                      <a:pt x="4397" y="5"/>
                      <a:pt x="4396" y="5"/>
                    </a:cubicBezTo>
                    <a:lnTo>
                      <a:pt x="4396" y="5"/>
                    </a:lnTo>
                    <a:cubicBezTo>
                      <a:pt x="4395" y="5"/>
                      <a:pt x="4394" y="4"/>
                      <a:pt x="4394" y="3"/>
                    </a:cubicBezTo>
                    <a:cubicBezTo>
                      <a:pt x="4394" y="2"/>
                      <a:pt x="4395" y="1"/>
                      <a:pt x="4396" y="1"/>
                    </a:cubicBezTo>
                    <a:close/>
                    <a:moveTo>
                      <a:pt x="4404" y="1"/>
                    </a:moveTo>
                    <a:lnTo>
                      <a:pt x="4404" y="1"/>
                    </a:lnTo>
                    <a:cubicBezTo>
                      <a:pt x="4405" y="1"/>
                      <a:pt x="4406" y="2"/>
                      <a:pt x="4406" y="3"/>
                    </a:cubicBezTo>
                    <a:cubicBezTo>
                      <a:pt x="4406" y="4"/>
                      <a:pt x="4405" y="5"/>
                      <a:pt x="4404" y="5"/>
                    </a:cubicBezTo>
                    <a:lnTo>
                      <a:pt x="4404" y="5"/>
                    </a:lnTo>
                    <a:cubicBezTo>
                      <a:pt x="4403" y="5"/>
                      <a:pt x="4402" y="4"/>
                      <a:pt x="4402" y="3"/>
                    </a:cubicBezTo>
                    <a:cubicBezTo>
                      <a:pt x="4402" y="2"/>
                      <a:pt x="4403" y="1"/>
                      <a:pt x="4404" y="1"/>
                    </a:cubicBezTo>
                    <a:close/>
                    <a:moveTo>
                      <a:pt x="4412" y="1"/>
                    </a:moveTo>
                    <a:lnTo>
                      <a:pt x="4412" y="1"/>
                    </a:lnTo>
                    <a:cubicBezTo>
                      <a:pt x="4413" y="1"/>
                      <a:pt x="4414" y="2"/>
                      <a:pt x="4414" y="3"/>
                    </a:cubicBezTo>
                    <a:cubicBezTo>
                      <a:pt x="4414" y="4"/>
                      <a:pt x="4413" y="5"/>
                      <a:pt x="4412" y="5"/>
                    </a:cubicBezTo>
                    <a:lnTo>
                      <a:pt x="4412" y="5"/>
                    </a:lnTo>
                    <a:cubicBezTo>
                      <a:pt x="4411" y="5"/>
                      <a:pt x="4410" y="4"/>
                      <a:pt x="4410" y="3"/>
                    </a:cubicBezTo>
                    <a:cubicBezTo>
                      <a:pt x="4410" y="2"/>
                      <a:pt x="4411" y="1"/>
                      <a:pt x="4412" y="1"/>
                    </a:cubicBezTo>
                    <a:close/>
                    <a:moveTo>
                      <a:pt x="4420" y="1"/>
                    </a:moveTo>
                    <a:lnTo>
                      <a:pt x="4420" y="1"/>
                    </a:lnTo>
                    <a:cubicBezTo>
                      <a:pt x="4421" y="1"/>
                      <a:pt x="4422" y="2"/>
                      <a:pt x="4422" y="3"/>
                    </a:cubicBezTo>
                    <a:cubicBezTo>
                      <a:pt x="4422" y="4"/>
                      <a:pt x="4421" y="5"/>
                      <a:pt x="4420" y="5"/>
                    </a:cubicBezTo>
                    <a:lnTo>
                      <a:pt x="4420" y="5"/>
                    </a:lnTo>
                    <a:cubicBezTo>
                      <a:pt x="4419" y="5"/>
                      <a:pt x="4418" y="4"/>
                      <a:pt x="4418" y="3"/>
                    </a:cubicBezTo>
                    <a:cubicBezTo>
                      <a:pt x="4418" y="2"/>
                      <a:pt x="4419" y="1"/>
                      <a:pt x="4420" y="1"/>
                    </a:cubicBezTo>
                    <a:close/>
                    <a:moveTo>
                      <a:pt x="4428" y="1"/>
                    </a:moveTo>
                    <a:lnTo>
                      <a:pt x="4428" y="1"/>
                    </a:lnTo>
                    <a:cubicBezTo>
                      <a:pt x="4429" y="1"/>
                      <a:pt x="4430" y="2"/>
                      <a:pt x="4430" y="3"/>
                    </a:cubicBezTo>
                    <a:cubicBezTo>
                      <a:pt x="4430" y="4"/>
                      <a:pt x="4429" y="5"/>
                      <a:pt x="4428" y="5"/>
                    </a:cubicBezTo>
                    <a:lnTo>
                      <a:pt x="4428" y="5"/>
                    </a:lnTo>
                    <a:cubicBezTo>
                      <a:pt x="4427" y="5"/>
                      <a:pt x="4426" y="4"/>
                      <a:pt x="4426" y="3"/>
                    </a:cubicBezTo>
                    <a:cubicBezTo>
                      <a:pt x="4426" y="2"/>
                      <a:pt x="4427" y="1"/>
                      <a:pt x="4428" y="1"/>
                    </a:cubicBezTo>
                    <a:close/>
                    <a:moveTo>
                      <a:pt x="4436" y="1"/>
                    </a:moveTo>
                    <a:lnTo>
                      <a:pt x="4436" y="1"/>
                    </a:lnTo>
                    <a:cubicBezTo>
                      <a:pt x="4437" y="1"/>
                      <a:pt x="4438" y="2"/>
                      <a:pt x="4438" y="3"/>
                    </a:cubicBezTo>
                    <a:cubicBezTo>
                      <a:pt x="4438" y="4"/>
                      <a:pt x="4437" y="5"/>
                      <a:pt x="4436" y="5"/>
                    </a:cubicBezTo>
                    <a:lnTo>
                      <a:pt x="4436" y="5"/>
                    </a:lnTo>
                    <a:cubicBezTo>
                      <a:pt x="4435" y="5"/>
                      <a:pt x="4434" y="4"/>
                      <a:pt x="4434" y="3"/>
                    </a:cubicBezTo>
                    <a:cubicBezTo>
                      <a:pt x="4434" y="2"/>
                      <a:pt x="4435" y="1"/>
                      <a:pt x="4436" y="1"/>
                    </a:cubicBezTo>
                    <a:close/>
                    <a:moveTo>
                      <a:pt x="4444" y="1"/>
                    </a:moveTo>
                    <a:lnTo>
                      <a:pt x="4444" y="1"/>
                    </a:lnTo>
                    <a:cubicBezTo>
                      <a:pt x="4445" y="1"/>
                      <a:pt x="4446" y="2"/>
                      <a:pt x="4446" y="3"/>
                    </a:cubicBezTo>
                    <a:cubicBezTo>
                      <a:pt x="4446" y="4"/>
                      <a:pt x="4445" y="5"/>
                      <a:pt x="4444" y="5"/>
                    </a:cubicBezTo>
                    <a:lnTo>
                      <a:pt x="4444" y="5"/>
                    </a:lnTo>
                    <a:cubicBezTo>
                      <a:pt x="4443" y="5"/>
                      <a:pt x="4442" y="4"/>
                      <a:pt x="4442" y="3"/>
                    </a:cubicBezTo>
                    <a:cubicBezTo>
                      <a:pt x="4442" y="2"/>
                      <a:pt x="4443" y="1"/>
                      <a:pt x="4444" y="1"/>
                    </a:cubicBezTo>
                    <a:close/>
                    <a:moveTo>
                      <a:pt x="4452" y="1"/>
                    </a:moveTo>
                    <a:lnTo>
                      <a:pt x="4452" y="1"/>
                    </a:lnTo>
                    <a:cubicBezTo>
                      <a:pt x="4453" y="1"/>
                      <a:pt x="4454" y="2"/>
                      <a:pt x="4454" y="3"/>
                    </a:cubicBezTo>
                    <a:cubicBezTo>
                      <a:pt x="4454" y="4"/>
                      <a:pt x="4453" y="5"/>
                      <a:pt x="4452" y="5"/>
                    </a:cubicBezTo>
                    <a:lnTo>
                      <a:pt x="4452" y="5"/>
                    </a:lnTo>
                    <a:cubicBezTo>
                      <a:pt x="4451" y="5"/>
                      <a:pt x="4450" y="4"/>
                      <a:pt x="4450" y="3"/>
                    </a:cubicBezTo>
                    <a:cubicBezTo>
                      <a:pt x="4450" y="2"/>
                      <a:pt x="4451" y="1"/>
                      <a:pt x="4452" y="1"/>
                    </a:cubicBezTo>
                    <a:close/>
                    <a:moveTo>
                      <a:pt x="4460" y="1"/>
                    </a:moveTo>
                    <a:lnTo>
                      <a:pt x="4460" y="1"/>
                    </a:lnTo>
                    <a:cubicBezTo>
                      <a:pt x="4461" y="1"/>
                      <a:pt x="4462" y="2"/>
                      <a:pt x="4462" y="3"/>
                    </a:cubicBezTo>
                    <a:cubicBezTo>
                      <a:pt x="4462" y="4"/>
                      <a:pt x="4461" y="5"/>
                      <a:pt x="4460" y="5"/>
                    </a:cubicBezTo>
                    <a:lnTo>
                      <a:pt x="4460" y="5"/>
                    </a:lnTo>
                    <a:cubicBezTo>
                      <a:pt x="4459" y="5"/>
                      <a:pt x="4458" y="4"/>
                      <a:pt x="4458" y="3"/>
                    </a:cubicBezTo>
                    <a:cubicBezTo>
                      <a:pt x="4458" y="2"/>
                      <a:pt x="4459" y="1"/>
                      <a:pt x="4460" y="1"/>
                    </a:cubicBezTo>
                    <a:close/>
                    <a:moveTo>
                      <a:pt x="4468" y="1"/>
                    </a:moveTo>
                    <a:lnTo>
                      <a:pt x="4468" y="1"/>
                    </a:lnTo>
                    <a:cubicBezTo>
                      <a:pt x="4469" y="1"/>
                      <a:pt x="4470" y="2"/>
                      <a:pt x="4470" y="3"/>
                    </a:cubicBezTo>
                    <a:cubicBezTo>
                      <a:pt x="4470" y="4"/>
                      <a:pt x="4469" y="5"/>
                      <a:pt x="4468" y="5"/>
                    </a:cubicBezTo>
                    <a:lnTo>
                      <a:pt x="4468" y="5"/>
                    </a:lnTo>
                    <a:cubicBezTo>
                      <a:pt x="4467" y="5"/>
                      <a:pt x="4466" y="4"/>
                      <a:pt x="4466" y="3"/>
                    </a:cubicBezTo>
                    <a:cubicBezTo>
                      <a:pt x="4466" y="2"/>
                      <a:pt x="4467" y="1"/>
                      <a:pt x="4468" y="1"/>
                    </a:cubicBezTo>
                    <a:close/>
                    <a:moveTo>
                      <a:pt x="4476" y="1"/>
                    </a:moveTo>
                    <a:lnTo>
                      <a:pt x="4476" y="1"/>
                    </a:lnTo>
                    <a:cubicBezTo>
                      <a:pt x="4477" y="1"/>
                      <a:pt x="4478" y="2"/>
                      <a:pt x="4478" y="3"/>
                    </a:cubicBezTo>
                    <a:cubicBezTo>
                      <a:pt x="4478" y="4"/>
                      <a:pt x="4477" y="5"/>
                      <a:pt x="4476" y="5"/>
                    </a:cubicBezTo>
                    <a:lnTo>
                      <a:pt x="4476" y="5"/>
                    </a:lnTo>
                    <a:cubicBezTo>
                      <a:pt x="4475" y="5"/>
                      <a:pt x="4474" y="4"/>
                      <a:pt x="4474" y="3"/>
                    </a:cubicBezTo>
                    <a:cubicBezTo>
                      <a:pt x="4474" y="2"/>
                      <a:pt x="4475" y="1"/>
                      <a:pt x="4476" y="1"/>
                    </a:cubicBezTo>
                    <a:close/>
                    <a:moveTo>
                      <a:pt x="4484" y="1"/>
                    </a:moveTo>
                    <a:lnTo>
                      <a:pt x="4484" y="1"/>
                    </a:lnTo>
                    <a:cubicBezTo>
                      <a:pt x="4485" y="1"/>
                      <a:pt x="4486" y="2"/>
                      <a:pt x="4486" y="3"/>
                    </a:cubicBezTo>
                    <a:cubicBezTo>
                      <a:pt x="4486" y="4"/>
                      <a:pt x="4485" y="5"/>
                      <a:pt x="4484" y="5"/>
                    </a:cubicBezTo>
                    <a:lnTo>
                      <a:pt x="4484" y="5"/>
                    </a:lnTo>
                    <a:cubicBezTo>
                      <a:pt x="4483" y="5"/>
                      <a:pt x="4482" y="4"/>
                      <a:pt x="4482" y="3"/>
                    </a:cubicBezTo>
                    <a:cubicBezTo>
                      <a:pt x="4482" y="2"/>
                      <a:pt x="4483" y="1"/>
                      <a:pt x="4484" y="1"/>
                    </a:cubicBezTo>
                    <a:close/>
                    <a:moveTo>
                      <a:pt x="4492" y="1"/>
                    </a:moveTo>
                    <a:lnTo>
                      <a:pt x="4492" y="1"/>
                    </a:lnTo>
                    <a:cubicBezTo>
                      <a:pt x="4493" y="1"/>
                      <a:pt x="4494" y="2"/>
                      <a:pt x="4494" y="3"/>
                    </a:cubicBezTo>
                    <a:cubicBezTo>
                      <a:pt x="4494" y="4"/>
                      <a:pt x="4493" y="5"/>
                      <a:pt x="4492" y="5"/>
                    </a:cubicBezTo>
                    <a:lnTo>
                      <a:pt x="4492" y="5"/>
                    </a:lnTo>
                    <a:cubicBezTo>
                      <a:pt x="4491" y="5"/>
                      <a:pt x="4490" y="4"/>
                      <a:pt x="4490" y="3"/>
                    </a:cubicBezTo>
                    <a:cubicBezTo>
                      <a:pt x="4490" y="2"/>
                      <a:pt x="4491" y="1"/>
                      <a:pt x="4492" y="1"/>
                    </a:cubicBezTo>
                    <a:close/>
                    <a:moveTo>
                      <a:pt x="4500" y="1"/>
                    </a:moveTo>
                    <a:lnTo>
                      <a:pt x="4500" y="1"/>
                    </a:lnTo>
                    <a:cubicBezTo>
                      <a:pt x="4501" y="1"/>
                      <a:pt x="4502" y="2"/>
                      <a:pt x="4502" y="3"/>
                    </a:cubicBezTo>
                    <a:cubicBezTo>
                      <a:pt x="4502" y="4"/>
                      <a:pt x="4501" y="5"/>
                      <a:pt x="4500" y="5"/>
                    </a:cubicBezTo>
                    <a:lnTo>
                      <a:pt x="4500" y="5"/>
                    </a:lnTo>
                    <a:cubicBezTo>
                      <a:pt x="4499" y="5"/>
                      <a:pt x="4498" y="4"/>
                      <a:pt x="4498" y="3"/>
                    </a:cubicBezTo>
                    <a:cubicBezTo>
                      <a:pt x="4498" y="2"/>
                      <a:pt x="4499" y="1"/>
                      <a:pt x="4500" y="1"/>
                    </a:cubicBezTo>
                    <a:close/>
                    <a:moveTo>
                      <a:pt x="4508" y="1"/>
                    </a:moveTo>
                    <a:lnTo>
                      <a:pt x="4508" y="1"/>
                    </a:lnTo>
                    <a:cubicBezTo>
                      <a:pt x="4509" y="1"/>
                      <a:pt x="4510" y="2"/>
                      <a:pt x="4510" y="3"/>
                    </a:cubicBezTo>
                    <a:cubicBezTo>
                      <a:pt x="4510" y="4"/>
                      <a:pt x="4509" y="5"/>
                      <a:pt x="4508" y="5"/>
                    </a:cubicBezTo>
                    <a:lnTo>
                      <a:pt x="4508" y="5"/>
                    </a:lnTo>
                    <a:cubicBezTo>
                      <a:pt x="4507" y="5"/>
                      <a:pt x="4506" y="4"/>
                      <a:pt x="4506" y="3"/>
                    </a:cubicBezTo>
                    <a:cubicBezTo>
                      <a:pt x="4506" y="2"/>
                      <a:pt x="4507" y="1"/>
                      <a:pt x="4508" y="1"/>
                    </a:cubicBezTo>
                    <a:close/>
                    <a:moveTo>
                      <a:pt x="4516" y="1"/>
                    </a:moveTo>
                    <a:lnTo>
                      <a:pt x="4516" y="1"/>
                    </a:lnTo>
                    <a:cubicBezTo>
                      <a:pt x="4517" y="1"/>
                      <a:pt x="4518" y="2"/>
                      <a:pt x="4518" y="3"/>
                    </a:cubicBezTo>
                    <a:cubicBezTo>
                      <a:pt x="4518" y="4"/>
                      <a:pt x="4517" y="5"/>
                      <a:pt x="4516" y="5"/>
                    </a:cubicBezTo>
                    <a:lnTo>
                      <a:pt x="4516" y="5"/>
                    </a:lnTo>
                    <a:cubicBezTo>
                      <a:pt x="4515" y="5"/>
                      <a:pt x="4514" y="4"/>
                      <a:pt x="4514" y="3"/>
                    </a:cubicBezTo>
                    <a:cubicBezTo>
                      <a:pt x="4514" y="2"/>
                      <a:pt x="4515" y="1"/>
                      <a:pt x="4516" y="1"/>
                    </a:cubicBezTo>
                    <a:close/>
                    <a:moveTo>
                      <a:pt x="4524" y="1"/>
                    </a:moveTo>
                    <a:lnTo>
                      <a:pt x="4524" y="1"/>
                    </a:lnTo>
                    <a:cubicBezTo>
                      <a:pt x="4525" y="1"/>
                      <a:pt x="4526" y="2"/>
                      <a:pt x="4526" y="3"/>
                    </a:cubicBezTo>
                    <a:cubicBezTo>
                      <a:pt x="4526" y="4"/>
                      <a:pt x="4525" y="5"/>
                      <a:pt x="4524" y="5"/>
                    </a:cubicBezTo>
                    <a:lnTo>
                      <a:pt x="4524" y="5"/>
                    </a:lnTo>
                    <a:cubicBezTo>
                      <a:pt x="4523" y="5"/>
                      <a:pt x="4522" y="4"/>
                      <a:pt x="4522" y="3"/>
                    </a:cubicBezTo>
                    <a:cubicBezTo>
                      <a:pt x="4522" y="2"/>
                      <a:pt x="4523" y="1"/>
                      <a:pt x="4524" y="1"/>
                    </a:cubicBezTo>
                    <a:close/>
                    <a:moveTo>
                      <a:pt x="4532" y="1"/>
                    </a:moveTo>
                    <a:lnTo>
                      <a:pt x="4532" y="1"/>
                    </a:lnTo>
                    <a:cubicBezTo>
                      <a:pt x="4533" y="1"/>
                      <a:pt x="4534" y="2"/>
                      <a:pt x="4534" y="3"/>
                    </a:cubicBezTo>
                    <a:cubicBezTo>
                      <a:pt x="4534" y="4"/>
                      <a:pt x="4533" y="5"/>
                      <a:pt x="4532" y="5"/>
                    </a:cubicBezTo>
                    <a:lnTo>
                      <a:pt x="4532" y="5"/>
                    </a:lnTo>
                    <a:cubicBezTo>
                      <a:pt x="4531" y="5"/>
                      <a:pt x="4530" y="4"/>
                      <a:pt x="4530" y="3"/>
                    </a:cubicBezTo>
                    <a:cubicBezTo>
                      <a:pt x="4530" y="2"/>
                      <a:pt x="4531" y="1"/>
                      <a:pt x="4532" y="1"/>
                    </a:cubicBezTo>
                    <a:close/>
                    <a:moveTo>
                      <a:pt x="4540" y="1"/>
                    </a:moveTo>
                    <a:lnTo>
                      <a:pt x="4540" y="1"/>
                    </a:lnTo>
                    <a:cubicBezTo>
                      <a:pt x="4541" y="1"/>
                      <a:pt x="4542" y="2"/>
                      <a:pt x="4542" y="3"/>
                    </a:cubicBezTo>
                    <a:cubicBezTo>
                      <a:pt x="4542" y="4"/>
                      <a:pt x="4541" y="5"/>
                      <a:pt x="4540" y="5"/>
                    </a:cubicBezTo>
                    <a:lnTo>
                      <a:pt x="4540" y="5"/>
                    </a:lnTo>
                    <a:cubicBezTo>
                      <a:pt x="4539" y="5"/>
                      <a:pt x="4538" y="4"/>
                      <a:pt x="4538" y="3"/>
                    </a:cubicBezTo>
                    <a:cubicBezTo>
                      <a:pt x="4538" y="2"/>
                      <a:pt x="4539" y="1"/>
                      <a:pt x="4540" y="1"/>
                    </a:cubicBezTo>
                    <a:close/>
                    <a:moveTo>
                      <a:pt x="4548" y="1"/>
                    </a:moveTo>
                    <a:lnTo>
                      <a:pt x="4548" y="1"/>
                    </a:lnTo>
                    <a:cubicBezTo>
                      <a:pt x="4549" y="1"/>
                      <a:pt x="4550" y="2"/>
                      <a:pt x="4550" y="3"/>
                    </a:cubicBezTo>
                    <a:cubicBezTo>
                      <a:pt x="4550" y="4"/>
                      <a:pt x="4549" y="5"/>
                      <a:pt x="4548" y="5"/>
                    </a:cubicBezTo>
                    <a:lnTo>
                      <a:pt x="4548" y="5"/>
                    </a:lnTo>
                    <a:cubicBezTo>
                      <a:pt x="4547" y="5"/>
                      <a:pt x="4546" y="4"/>
                      <a:pt x="4546" y="3"/>
                    </a:cubicBezTo>
                    <a:cubicBezTo>
                      <a:pt x="4546" y="2"/>
                      <a:pt x="4547" y="1"/>
                      <a:pt x="4548" y="1"/>
                    </a:cubicBezTo>
                    <a:close/>
                    <a:moveTo>
                      <a:pt x="4556" y="1"/>
                    </a:moveTo>
                    <a:lnTo>
                      <a:pt x="4556" y="1"/>
                    </a:lnTo>
                    <a:cubicBezTo>
                      <a:pt x="4557" y="1"/>
                      <a:pt x="4558" y="2"/>
                      <a:pt x="4558" y="3"/>
                    </a:cubicBezTo>
                    <a:cubicBezTo>
                      <a:pt x="4558" y="4"/>
                      <a:pt x="4557" y="5"/>
                      <a:pt x="4556" y="5"/>
                    </a:cubicBezTo>
                    <a:lnTo>
                      <a:pt x="4556" y="5"/>
                    </a:lnTo>
                    <a:cubicBezTo>
                      <a:pt x="4555" y="5"/>
                      <a:pt x="4554" y="4"/>
                      <a:pt x="4554" y="3"/>
                    </a:cubicBezTo>
                    <a:cubicBezTo>
                      <a:pt x="4554" y="2"/>
                      <a:pt x="4555" y="1"/>
                      <a:pt x="4556" y="1"/>
                    </a:cubicBezTo>
                    <a:close/>
                    <a:moveTo>
                      <a:pt x="4564" y="1"/>
                    </a:moveTo>
                    <a:lnTo>
                      <a:pt x="4564" y="1"/>
                    </a:lnTo>
                    <a:cubicBezTo>
                      <a:pt x="4565" y="1"/>
                      <a:pt x="4566" y="2"/>
                      <a:pt x="4566" y="3"/>
                    </a:cubicBezTo>
                    <a:cubicBezTo>
                      <a:pt x="4566" y="4"/>
                      <a:pt x="4565" y="5"/>
                      <a:pt x="4564" y="5"/>
                    </a:cubicBezTo>
                    <a:lnTo>
                      <a:pt x="4564" y="5"/>
                    </a:lnTo>
                    <a:cubicBezTo>
                      <a:pt x="4563" y="5"/>
                      <a:pt x="4562" y="4"/>
                      <a:pt x="4562" y="3"/>
                    </a:cubicBezTo>
                    <a:cubicBezTo>
                      <a:pt x="4562" y="2"/>
                      <a:pt x="4563" y="1"/>
                      <a:pt x="4564" y="1"/>
                    </a:cubicBezTo>
                    <a:close/>
                    <a:moveTo>
                      <a:pt x="4572" y="1"/>
                    </a:moveTo>
                    <a:lnTo>
                      <a:pt x="4572" y="1"/>
                    </a:lnTo>
                    <a:cubicBezTo>
                      <a:pt x="4573" y="1"/>
                      <a:pt x="4574" y="2"/>
                      <a:pt x="4574" y="3"/>
                    </a:cubicBezTo>
                    <a:cubicBezTo>
                      <a:pt x="4574" y="4"/>
                      <a:pt x="4573" y="5"/>
                      <a:pt x="4572" y="5"/>
                    </a:cubicBezTo>
                    <a:lnTo>
                      <a:pt x="4572" y="5"/>
                    </a:lnTo>
                    <a:cubicBezTo>
                      <a:pt x="4571" y="5"/>
                      <a:pt x="4570" y="4"/>
                      <a:pt x="4570" y="3"/>
                    </a:cubicBezTo>
                    <a:cubicBezTo>
                      <a:pt x="4570" y="2"/>
                      <a:pt x="4571" y="1"/>
                      <a:pt x="4572" y="1"/>
                    </a:cubicBezTo>
                    <a:close/>
                    <a:moveTo>
                      <a:pt x="4580" y="1"/>
                    </a:moveTo>
                    <a:lnTo>
                      <a:pt x="4580" y="1"/>
                    </a:lnTo>
                    <a:cubicBezTo>
                      <a:pt x="4581" y="1"/>
                      <a:pt x="4582" y="2"/>
                      <a:pt x="4582" y="3"/>
                    </a:cubicBezTo>
                    <a:cubicBezTo>
                      <a:pt x="4582" y="4"/>
                      <a:pt x="4581" y="5"/>
                      <a:pt x="4580" y="5"/>
                    </a:cubicBezTo>
                    <a:lnTo>
                      <a:pt x="4580" y="5"/>
                    </a:lnTo>
                    <a:cubicBezTo>
                      <a:pt x="4579" y="5"/>
                      <a:pt x="4578" y="4"/>
                      <a:pt x="4578" y="3"/>
                    </a:cubicBezTo>
                    <a:cubicBezTo>
                      <a:pt x="4578" y="2"/>
                      <a:pt x="4579" y="1"/>
                      <a:pt x="4580" y="1"/>
                    </a:cubicBezTo>
                    <a:close/>
                    <a:moveTo>
                      <a:pt x="4588" y="1"/>
                    </a:moveTo>
                    <a:lnTo>
                      <a:pt x="4588" y="1"/>
                    </a:lnTo>
                    <a:cubicBezTo>
                      <a:pt x="4589" y="1"/>
                      <a:pt x="4590" y="2"/>
                      <a:pt x="4590" y="3"/>
                    </a:cubicBezTo>
                    <a:cubicBezTo>
                      <a:pt x="4590" y="4"/>
                      <a:pt x="4589" y="5"/>
                      <a:pt x="4588" y="5"/>
                    </a:cubicBezTo>
                    <a:lnTo>
                      <a:pt x="4588" y="5"/>
                    </a:lnTo>
                    <a:cubicBezTo>
                      <a:pt x="4587" y="5"/>
                      <a:pt x="4586" y="4"/>
                      <a:pt x="4586" y="3"/>
                    </a:cubicBezTo>
                    <a:cubicBezTo>
                      <a:pt x="4586" y="2"/>
                      <a:pt x="4587" y="1"/>
                      <a:pt x="4588" y="1"/>
                    </a:cubicBezTo>
                    <a:close/>
                    <a:moveTo>
                      <a:pt x="4596" y="1"/>
                    </a:moveTo>
                    <a:lnTo>
                      <a:pt x="4596" y="1"/>
                    </a:lnTo>
                    <a:cubicBezTo>
                      <a:pt x="4597" y="1"/>
                      <a:pt x="4598" y="2"/>
                      <a:pt x="4598" y="3"/>
                    </a:cubicBezTo>
                    <a:cubicBezTo>
                      <a:pt x="4598" y="4"/>
                      <a:pt x="4597" y="5"/>
                      <a:pt x="4596" y="5"/>
                    </a:cubicBezTo>
                    <a:lnTo>
                      <a:pt x="4596" y="5"/>
                    </a:lnTo>
                    <a:cubicBezTo>
                      <a:pt x="4595" y="5"/>
                      <a:pt x="4594" y="4"/>
                      <a:pt x="4594" y="3"/>
                    </a:cubicBezTo>
                    <a:cubicBezTo>
                      <a:pt x="4594" y="2"/>
                      <a:pt x="4595" y="1"/>
                      <a:pt x="4596" y="1"/>
                    </a:cubicBezTo>
                    <a:close/>
                    <a:moveTo>
                      <a:pt x="4604" y="1"/>
                    </a:moveTo>
                    <a:lnTo>
                      <a:pt x="4604" y="1"/>
                    </a:lnTo>
                    <a:cubicBezTo>
                      <a:pt x="4605" y="1"/>
                      <a:pt x="4606" y="2"/>
                      <a:pt x="4606" y="3"/>
                    </a:cubicBezTo>
                    <a:cubicBezTo>
                      <a:pt x="4606" y="4"/>
                      <a:pt x="4605" y="5"/>
                      <a:pt x="4604" y="5"/>
                    </a:cubicBezTo>
                    <a:lnTo>
                      <a:pt x="4604" y="5"/>
                    </a:lnTo>
                    <a:cubicBezTo>
                      <a:pt x="4603" y="5"/>
                      <a:pt x="4602" y="4"/>
                      <a:pt x="4602" y="3"/>
                    </a:cubicBezTo>
                    <a:cubicBezTo>
                      <a:pt x="4602" y="2"/>
                      <a:pt x="4603" y="1"/>
                      <a:pt x="4604" y="1"/>
                    </a:cubicBezTo>
                    <a:close/>
                    <a:moveTo>
                      <a:pt x="4612" y="1"/>
                    </a:moveTo>
                    <a:lnTo>
                      <a:pt x="4612" y="1"/>
                    </a:lnTo>
                    <a:cubicBezTo>
                      <a:pt x="4613" y="1"/>
                      <a:pt x="4614" y="2"/>
                      <a:pt x="4614" y="3"/>
                    </a:cubicBezTo>
                    <a:cubicBezTo>
                      <a:pt x="4614" y="4"/>
                      <a:pt x="4613" y="5"/>
                      <a:pt x="4612" y="5"/>
                    </a:cubicBezTo>
                    <a:lnTo>
                      <a:pt x="4612" y="5"/>
                    </a:lnTo>
                    <a:cubicBezTo>
                      <a:pt x="4611" y="5"/>
                      <a:pt x="4610" y="4"/>
                      <a:pt x="4610" y="3"/>
                    </a:cubicBezTo>
                    <a:cubicBezTo>
                      <a:pt x="4610" y="2"/>
                      <a:pt x="4611" y="1"/>
                      <a:pt x="4612" y="1"/>
                    </a:cubicBezTo>
                    <a:close/>
                    <a:moveTo>
                      <a:pt x="4620" y="1"/>
                    </a:moveTo>
                    <a:lnTo>
                      <a:pt x="4620" y="1"/>
                    </a:lnTo>
                    <a:cubicBezTo>
                      <a:pt x="4621" y="1"/>
                      <a:pt x="4622" y="2"/>
                      <a:pt x="4622" y="3"/>
                    </a:cubicBezTo>
                    <a:cubicBezTo>
                      <a:pt x="4622" y="4"/>
                      <a:pt x="4621" y="5"/>
                      <a:pt x="4620" y="5"/>
                    </a:cubicBezTo>
                    <a:lnTo>
                      <a:pt x="4620" y="5"/>
                    </a:lnTo>
                    <a:cubicBezTo>
                      <a:pt x="4619" y="5"/>
                      <a:pt x="4618" y="4"/>
                      <a:pt x="4618" y="3"/>
                    </a:cubicBezTo>
                    <a:cubicBezTo>
                      <a:pt x="4618" y="2"/>
                      <a:pt x="4619" y="1"/>
                      <a:pt x="4620" y="1"/>
                    </a:cubicBezTo>
                    <a:close/>
                    <a:moveTo>
                      <a:pt x="4628" y="1"/>
                    </a:moveTo>
                    <a:lnTo>
                      <a:pt x="4628" y="1"/>
                    </a:lnTo>
                    <a:cubicBezTo>
                      <a:pt x="4629" y="1"/>
                      <a:pt x="4630" y="2"/>
                      <a:pt x="4630" y="3"/>
                    </a:cubicBezTo>
                    <a:cubicBezTo>
                      <a:pt x="4630" y="4"/>
                      <a:pt x="4629" y="5"/>
                      <a:pt x="4628" y="5"/>
                    </a:cubicBezTo>
                    <a:lnTo>
                      <a:pt x="4628" y="5"/>
                    </a:lnTo>
                    <a:cubicBezTo>
                      <a:pt x="4627" y="5"/>
                      <a:pt x="4626" y="4"/>
                      <a:pt x="4626" y="3"/>
                    </a:cubicBezTo>
                    <a:cubicBezTo>
                      <a:pt x="4626" y="2"/>
                      <a:pt x="4627" y="1"/>
                      <a:pt x="4628" y="1"/>
                    </a:cubicBezTo>
                    <a:close/>
                    <a:moveTo>
                      <a:pt x="4636" y="1"/>
                    </a:moveTo>
                    <a:lnTo>
                      <a:pt x="4636" y="1"/>
                    </a:lnTo>
                    <a:cubicBezTo>
                      <a:pt x="4637" y="1"/>
                      <a:pt x="4638" y="2"/>
                      <a:pt x="4638" y="3"/>
                    </a:cubicBezTo>
                    <a:cubicBezTo>
                      <a:pt x="4638" y="4"/>
                      <a:pt x="4637" y="5"/>
                      <a:pt x="4636" y="5"/>
                    </a:cubicBezTo>
                    <a:lnTo>
                      <a:pt x="4636" y="5"/>
                    </a:lnTo>
                    <a:cubicBezTo>
                      <a:pt x="4635" y="5"/>
                      <a:pt x="4634" y="4"/>
                      <a:pt x="4634" y="3"/>
                    </a:cubicBezTo>
                    <a:cubicBezTo>
                      <a:pt x="4634" y="2"/>
                      <a:pt x="4635" y="1"/>
                      <a:pt x="4636" y="1"/>
                    </a:cubicBezTo>
                    <a:close/>
                    <a:moveTo>
                      <a:pt x="4644" y="1"/>
                    </a:moveTo>
                    <a:lnTo>
                      <a:pt x="4644" y="1"/>
                    </a:lnTo>
                    <a:cubicBezTo>
                      <a:pt x="4645" y="1"/>
                      <a:pt x="4646" y="2"/>
                      <a:pt x="4646" y="3"/>
                    </a:cubicBezTo>
                    <a:cubicBezTo>
                      <a:pt x="4646" y="4"/>
                      <a:pt x="4645" y="5"/>
                      <a:pt x="4644" y="5"/>
                    </a:cubicBezTo>
                    <a:lnTo>
                      <a:pt x="4644" y="5"/>
                    </a:lnTo>
                    <a:cubicBezTo>
                      <a:pt x="4643" y="5"/>
                      <a:pt x="4642" y="4"/>
                      <a:pt x="4642" y="3"/>
                    </a:cubicBezTo>
                    <a:cubicBezTo>
                      <a:pt x="4642" y="2"/>
                      <a:pt x="4643" y="1"/>
                      <a:pt x="4644" y="1"/>
                    </a:cubicBezTo>
                    <a:close/>
                    <a:moveTo>
                      <a:pt x="4652" y="1"/>
                    </a:moveTo>
                    <a:lnTo>
                      <a:pt x="4652" y="1"/>
                    </a:lnTo>
                    <a:cubicBezTo>
                      <a:pt x="4653" y="1"/>
                      <a:pt x="4654" y="2"/>
                      <a:pt x="4654" y="3"/>
                    </a:cubicBezTo>
                    <a:cubicBezTo>
                      <a:pt x="4654" y="4"/>
                      <a:pt x="4653" y="5"/>
                      <a:pt x="4652" y="5"/>
                    </a:cubicBezTo>
                    <a:lnTo>
                      <a:pt x="4652" y="5"/>
                    </a:lnTo>
                    <a:cubicBezTo>
                      <a:pt x="4651" y="5"/>
                      <a:pt x="4650" y="4"/>
                      <a:pt x="4650" y="3"/>
                    </a:cubicBezTo>
                    <a:cubicBezTo>
                      <a:pt x="4650" y="2"/>
                      <a:pt x="4651" y="1"/>
                      <a:pt x="4652" y="1"/>
                    </a:cubicBezTo>
                    <a:close/>
                    <a:moveTo>
                      <a:pt x="4660" y="1"/>
                    </a:moveTo>
                    <a:lnTo>
                      <a:pt x="4660" y="1"/>
                    </a:lnTo>
                    <a:cubicBezTo>
                      <a:pt x="4661" y="1"/>
                      <a:pt x="4662" y="2"/>
                      <a:pt x="4662" y="3"/>
                    </a:cubicBezTo>
                    <a:cubicBezTo>
                      <a:pt x="4662" y="4"/>
                      <a:pt x="4661" y="5"/>
                      <a:pt x="4660" y="5"/>
                    </a:cubicBezTo>
                    <a:lnTo>
                      <a:pt x="4660" y="5"/>
                    </a:lnTo>
                    <a:cubicBezTo>
                      <a:pt x="4659" y="5"/>
                      <a:pt x="4658" y="4"/>
                      <a:pt x="4658" y="3"/>
                    </a:cubicBezTo>
                    <a:cubicBezTo>
                      <a:pt x="4658" y="2"/>
                      <a:pt x="4659" y="1"/>
                      <a:pt x="4660" y="1"/>
                    </a:cubicBezTo>
                    <a:close/>
                    <a:moveTo>
                      <a:pt x="4668" y="1"/>
                    </a:moveTo>
                    <a:lnTo>
                      <a:pt x="4668" y="1"/>
                    </a:lnTo>
                    <a:cubicBezTo>
                      <a:pt x="4669" y="1"/>
                      <a:pt x="4670" y="2"/>
                      <a:pt x="4670" y="3"/>
                    </a:cubicBezTo>
                    <a:cubicBezTo>
                      <a:pt x="4670" y="4"/>
                      <a:pt x="4669" y="5"/>
                      <a:pt x="4668" y="5"/>
                    </a:cubicBezTo>
                    <a:lnTo>
                      <a:pt x="4668" y="5"/>
                    </a:lnTo>
                    <a:cubicBezTo>
                      <a:pt x="4667" y="5"/>
                      <a:pt x="4666" y="4"/>
                      <a:pt x="4666" y="3"/>
                    </a:cubicBezTo>
                    <a:cubicBezTo>
                      <a:pt x="4666" y="2"/>
                      <a:pt x="4667" y="1"/>
                      <a:pt x="4668" y="1"/>
                    </a:cubicBezTo>
                    <a:close/>
                    <a:moveTo>
                      <a:pt x="4676" y="1"/>
                    </a:moveTo>
                    <a:lnTo>
                      <a:pt x="4676" y="1"/>
                    </a:lnTo>
                    <a:cubicBezTo>
                      <a:pt x="4677" y="1"/>
                      <a:pt x="4678" y="2"/>
                      <a:pt x="4678" y="3"/>
                    </a:cubicBezTo>
                    <a:cubicBezTo>
                      <a:pt x="4678" y="4"/>
                      <a:pt x="4677" y="5"/>
                      <a:pt x="4676" y="5"/>
                    </a:cubicBezTo>
                    <a:lnTo>
                      <a:pt x="4676" y="5"/>
                    </a:lnTo>
                    <a:cubicBezTo>
                      <a:pt x="4675" y="5"/>
                      <a:pt x="4674" y="4"/>
                      <a:pt x="4674" y="3"/>
                    </a:cubicBezTo>
                    <a:cubicBezTo>
                      <a:pt x="4674" y="2"/>
                      <a:pt x="4675" y="1"/>
                      <a:pt x="4676" y="1"/>
                    </a:cubicBezTo>
                    <a:close/>
                    <a:moveTo>
                      <a:pt x="4684" y="1"/>
                    </a:moveTo>
                    <a:lnTo>
                      <a:pt x="4684" y="1"/>
                    </a:lnTo>
                    <a:cubicBezTo>
                      <a:pt x="4685" y="1"/>
                      <a:pt x="4686" y="2"/>
                      <a:pt x="4686" y="3"/>
                    </a:cubicBezTo>
                    <a:cubicBezTo>
                      <a:pt x="4686" y="4"/>
                      <a:pt x="4685" y="5"/>
                      <a:pt x="4684" y="5"/>
                    </a:cubicBezTo>
                    <a:lnTo>
                      <a:pt x="4684" y="5"/>
                    </a:lnTo>
                    <a:cubicBezTo>
                      <a:pt x="4683" y="5"/>
                      <a:pt x="4682" y="4"/>
                      <a:pt x="4682" y="3"/>
                    </a:cubicBezTo>
                    <a:cubicBezTo>
                      <a:pt x="4682" y="2"/>
                      <a:pt x="4683" y="1"/>
                      <a:pt x="4684" y="1"/>
                    </a:cubicBezTo>
                    <a:close/>
                    <a:moveTo>
                      <a:pt x="4692" y="1"/>
                    </a:moveTo>
                    <a:lnTo>
                      <a:pt x="4692" y="1"/>
                    </a:lnTo>
                    <a:cubicBezTo>
                      <a:pt x="4693" y="1"/>
                      <a:pt x="4694" y="2"/>
                      <a:pt x="4694" y="3"/>
                    </a:cubicBezTo>
                    <a:cubicBezTo>
                      <a:pt x="4694" y="4"/>
                      <a:pt x="4693" y="5"/>
                      <a:pt x="4692" y="5"/>
                    </a:cubicBezTo>
                    <a:lnTo>
                      <a:pt x="4692" y="5"/>
                    </a:lnTo>
                    <a:cubicBezTo>
                      <a:pt x="4691" y="5"/>
                      <a:pt x="4690" y="4"/>
                      <a:pt x="4690" y="3"/>
                    </a:cubicBezTo>
                    <a:cubicBezTo>
                      <a:pt x="4690" y="2"/>
                      <a:pt x="4691" y="1"/>
                      <a:pt x="4692" y="1"/>
                    </a:cubicBezTo>
                    <a:close/>
                    <a:moveTo>
                      <a:pt x="4700" y="1"/>
                    </a:moveTo>
                    <a:lnTo>
                      <a:pt x="4700" y="1"/>
                    </a:lnTo>
                    <a:cubicBezTo>
                      <a:pt x="4701" y="1"/>
                      <a:pt x="4702" y="2"/>
                      <a:pt x="4702" y="3"/>
                    </a:cubicBezTo>
                    <a:cubicBezTo>
                      <a:pt x="4702" y="4"/>
                      <a:pt x="4701" y="5"/>
                      <a:pt x="4700" y="5"/>
                    </a:cubicBezTo>
                    <a:lnTo>
                      <a:pt x="4700" y="5"/>
                    </a:lnTo>
                    <a:cubicBezTo>
                      <a:pt x="4699" y="5"/>
                      <a:pt x="4698" y="4"/>
                      <a:pt x="4698" y="3"/>
                    </a:cubicBezTo>
                    <a:cubicBezTo>
                      <a:pt x="4698" y="2"/>
                      <a:pt x="4699" y="1"/>
                      <a:pt x="4700" y="1"/>
                    </a:cubicBezTo>
                    <a:close/>
                    <a:moveTo>
                      <a:pt x="4708" y="1"/>
                    </a:moveTo>
                    <a:lnTo>
                      <a:pt x="4708" y="1"/>
                    </a:lnTo>
                    <a:cubicBezTo>
                      <a:pt x="4709" y="1"/>
                      <a:pt x="4710" y="2"/>
                      <a:pt x="4710" y="3"/>
                    </a:cubicBezTo>
                    <a:cubicBezTo>
                      <a:pt x="4710" y="4"/>
                      <a:pt x="4709" y="5"/>
                      <a:pt x="4708" y="5"/>
                    </a:cubicBezTo>
                    <a:lnTo>
                      <a:pt x="4708" y="5"/>
                    </a:lnTo>
                    <a:cubicBezTo>
                      <a:pt x="4707" y="5"/>
                      <a:pt x="4706" y="4"/>
                      <a:pt x="4706" y="3"/>
                    </a:cubicBezTo>
                    <a:cubicBezTo>
                      <a:pt x="4706" y="2"/>
                      <a:pt x="4707" y="1"/>
                      <a:pt x="4708" y="1"/>
                    </a:cubicBezTo>
                    <a:close/>
                    <a:moveTo>
                      <a:pt x="4716" y="1"/>
                    </a:moveTo>
                    <a:lnTo>
                      <a:pt x="4716" y="1"/>
                    </a:lnTo>
                    <a:cubicBezTo>
                      <a:pt x="4717" y="1"/>
                      <a:pt x="4718" y="2"/>
                      <a:pt x="4718" y="3"/>
                    </a:cubicBezTo>
                    <a:cubicBezTo>
                      <a:pt x="4718" y="4"/>
                      <a:pt x="4717" y="5"/>
                      <a:pt x="4716" y="5"/>
                    </a:cubicBezTo>
                    <a:lnTo>
                      <a:pt x="4716" y="5"/>
                    </a:lnTo>
                    <a:cubicBezTo>
                      <a:pt x="4715" y="5"/>
                      <a:pt x="4714" y="4"/>
                      <a:pt x="4714" y="3"/>
                    </a:cubicBezTo>
                    <a:cubicBezTo>
                      <a:pt x="4714" y="2"/>
                      <a:pt x="4715" y="1"/>
                      <a:pt x="4716" y="1"/>
                    </a:cubicBezTo>
                    <a:close/>
                    <a:moveTo>
                      <a:pt x="4724" y="1"/>
                    </a:moveTo>
                    <a:lnTo>
                      <a:pt x="4724" y="1"/>
                    </a:lnTo>
                    <a:cubicBezTo>
                      <a:pt x="4725" y="1"/>
                      <a:pt x="4726" y="2"/>
                      <a:pt x="4726" y="3"/>
                    </a:cubicBezTo>
                    <a:cubicBezTo>
                      <a:pt x="4726" y="4"/>
                      <a:pt x="4725" y="5"/>
                      <a:pt x="4724" y="5"/>
                    </a:cubicBezTo>
                    <a:lnTo>
                      <a:pt x="4724" y="5"/>
                    </a:lnTo>
                    <a:cubicBezTo>
                      <a:pt x="4723" y="5"/>
                      <a:pt x="4722" y="4"/>
                      <a:pt x="4722" y="3"/>
                    </a:cubicBezTo>
                    <a:cubicBezTo>
                      <a:pt x="4722" y="2"/>
                      <a:pt x="4723" y="1"/>
                      <a:pt x="4724" y="1"/>
                    </a:cubicBezTo>
                    <a:close/>
                    <a:moveTo>
                      <a:pt x="4732" y="1"/>
                    </a:moveTo>
                    <a:lnTo>
                      <a:pt x="4732" y="1"/>
                    </a:lnTo>
                    <a:cubicBezTo>
                      <a:pt x="4733" y="1"/>
                      <a:pt x="4734" y="2"/>
                      <a:pt x="4734" y="3"/>
                    </a:cubicBezTo>
                    <a:cubicBezTo>
                      <a:pt x="4734" y="4"/>
                      <a:pt x="4733" y="5"/>
                      <a:pt x="4732" y="5"/>
                    </a:cubicBezTo>
                    <a:lnTo>
                      <a:pt x="4732" y="5"/>
                    </a:lnTo>
                    <a:cubicBezTo>
                      <a:pt x="4731" y="5"/>
                      <a:pt x="4730" y="4"/>
                      <a:pt x="4730" y="3"/>
                    </a:cubicBezTo>
                    <a:cubicBezTo>
                      <a:pt x="4730" y="2"/>
                      <a:pt x="4731" y="1"/>
                      <a:pt x="4732" y="1"/>
                    </a:cubicBezTo>
                    <a:close/>
                    <a:moveTo>
                      <a:pt x="4740" y="1"/>
                    </a:moveTo>
                    <a:lnTo>
                      <a:pt x="4740" y="1"/>
                    </a:lnTo>
                    <a:cubicBezTo>
                      <a:pt x="4741" y="1"/>
                      <a:pt x="4742" y="2"/>
                      <a:pt x="4742" y="3"/>
                    </a:cubicBezTo>
                    <a:cubicBezTo>
                      <a:pt x="4742" y="4"/>
                      <a:pt x="4741" y="5"/>
                      <a:pt x="4740" y="5"/>
                    </a:cubicBezTo>
                    <a:lnTo>
                      <a:pt x="4740" y="5"/>
                    </a:lnTo>
                    <a:cubicBezTo>
                      <a:pt x="4739" y="5"/>
                      <a:pt x="4738" y="4"/>
                      <a:pt x="4738" y="3"/>
                    </a:cubicBezTo>
                    <a:cubicBezTo>
                      <a:pt x="4738" y="2"/>
                      <a:pt x="4739" y="1"/>
                      <a:pt x="4740" y="1"/>
                    </a:cubicBezTo>
                    <a:close/>
                    <a:moveTo>
                      <a:pt x="4748" y="1"/>
                    </a:moveTo>
                    <a:lnTo>
                      <a:pt x="4748" y="1"/>
                    </a:lnTo>
                    <a:cubicBezTo>
                      <a:pt x="4749" y="1"/>
                      <a:pt x="4750" y="2"/>
                      <a:pt x="4750" y="3"/>
                    </a:cubicBezTo>
                    <a:cubicBezTo>
                      <a:pt x="4750" y="4"/>
                      <a:pt x="4749" y="5"/>
                      <a:pt x="4748" y="5"/>
                    </a:cubicBezTo>
                    <a:lnTo>
                      <a:pt x="4748" y="5"/>
                    </a:lnTo>
                    <a:cubicBezTo>
                      <a:pt x="4747" y="5"/>
                      <a:pt x="4746" y="4"/>
                      <a:pt x="4746" y="3"/>
                    </a:cubicBezTo>
                    <a:cubicBezTo>
                      <a:pt x="4746" y="2"/>
                      <a:pt x="4747" y="1"/>
                      <a:pt x="4748" y="1"/>
                    </a:cubicBezTo>
                    <a:close/>
                    <a:moveTo>
                      <a:pt x="4756" y="1"/>
                    </a:moveTo>
                    <a:lnTo>
                      <a:pt x="4756" y="1"/>
                    </a:lnTo>
                    <a:cubicBezTo>
                      <a:pt x="4757" y="1"/>
                      <a:pt x="4758" y="2"/>
                      <a:pt x="4758" y="3"/>
                    </a:cubicBezTo>
                    <a:cubicBezTo>
                      <a:pt x="4758" y="4"/>
                      <a:pt x="4757" y="5"/>
                      <a:pt x="4756" y="5"/>
                    </a:cubicBezTo>
                    <a:lnTo>
                      <a:pt x="4756" y="5"/>
                    </a:lnTo>
                    <a:cubicBezTo>
                      <a:pt x="4755" y="5"/>
                      <a:pt x="4754" y="4"/>
                      <a:pt x="4754" y="3"/>
                    </a:cubicBezTo>
                    <a:cubicBezTo>
                      <a:pt x="4754" y="2"/>
                      <a:pt x="4755" y="1"/>
                      <a:pt x="4756" y="1"/>
                    </a:cubicBezTo>
                    <a:close/>
                    <a:moveTo>
                      <a:pt x="4764" y="1"/>
                    </a:moveTo>
                    <a:lnTo>
                      <a:pt x="4764" y="1"/>
                    </a:lnTo>
                    <a:cubicBezTo>
                      <a:pt x="4765" y="1"/>
                      <a:pt x="4766" y="2"/>
                      <a:pt x="4766" y="3"/>
                    </a:cubicBezTo>
                    <a:cubicBezTo>
                      <a:pt x="4766" y="4"/>
                      <a:pt x="4765" y="5"/>
                      <a:pt x="4764" y="5"/>
                    </a:cubicBezTo>
                    <a:lnTo>
                      <a:pt x="4764" y="5"/>
                    </a:lnTo>
                    <a:cubicBezTo>
                      <a:pt x="4763" y="5"/>
                      <a:pt x="4762" y="4"/>
                      <a:pt x="4762" y="3"/>
                    </a:cubicBezTo>
                    <a:cubicBezTo>
                      <a:pt x="4762" y="2"/>
                      <a:pt x="4763" y="1"/>
                      <a:pt x="4764" y="1"/>
                    </a:cubicBezTo>
                    <a:close/>
                    <a:moveTo>
                      <a:pt x="4772" y="1"/>
                    </a:moveTo>
                    <a:lnTo>
                      <a:pt x="4772" y="1"/>
                    </a:lnTo>
                    <a:cubicBezTo>
                      <a:pt x="4773" y="1"/>
                      <a:pt x="4774" y="2"/>
                      <a:pt x="4774" y="3"/>
                    </a:cubicBezTo>
                    <a:cubicBezTo>
                      <a:pt x="4774" y="4"/>
                      <a:pt x="4773" y="5"/>
                      <a:pt x="4772" y="5"/>
                    </a:cubicBezTo>
                    <a:lnTo>
                      <a:pt x="4772" y="5"/>
                    </a:lnTo>
                    <a:cubicBezTo>
                      <a:pt x="4771" y="5"/>
                      <a:pt x="4770" y="4"/>
                      <a:pt x="4770" y="3"/>
                    </a:cubicBezTo>
                    <a:cubicBezTo>
                      <a:pt x="4770" y="2"/>
                      <a:pt x="4771" y="1"/>
                      <a:pt x="4772" y="1"/>
                    </a:cubicBezTo>
                    <a:close/>
                    <a:moveTo>
                      <a:pt x="4780" y="1"/>
                    </a:moveTo>
                    <a:lnTo>
                      <a:pt x="4780" y="1"/>
                    </a:lnTo>
                    <a:cubicBezTo>
                      <a:pt x="4781" y="1"/>
                      <a:pt x="4782" y="2"/>
                      <a:pt x="4782" y="3"/>
                    </a:cubicBezTo>
                    <a:cubicBezTo>
                      <a:pt x="4782" y="4"/>
                      <a:pt x="4781" y="5"/>
                      <a:pt x="4780" y="5"/>
                    </a:cubicBezTo>
                    <a:lnTo>
                      <a:pt x="4780" y="5"/>
                    </a:lnTo>
                    <a:cubicBezTo>
                      <a:pt x="4779" y="5"/>
                      <a:pt x="4778" y="4"/>
                      <a:pt x="4778" y="3"/>
                    </a:cubicBezTo>
                    <a:cubicBezTo>
                      <a:pt x="4778" y="2"/>
                      <a:pt x="4779" y="1"/>
                      <a:pt x="4780" y="1"/>
                    </a:cubicBezTo>
                    <a:close/>
                    <a:moveTo>
                      <a:pt x="4788" y="1"/>
                    </a:moveTo>
                    <a:lnTo>
                      <a:pt x="4788" y="1"/>
                    </a:lnTo>
                    <a:cubicBezTo>
                      <a:pt x="4789" y="1"/>
                      <a:pt x="4790" y="2"/>
                      <a:pt x="4790" y="3"/>
                    </a:cubicBezTo>
                    <a:cubicBezTo>
                      <a:pt x="4790" y="4"/>
                      <a:pt x="4789" y="5"/>
                      <a:pt x="4788" y="5"/>
                    </a:cubicBezTo>
                    <a:lnTo>
                      <a:pt x="4788" y="5"/>
                    </a:lnTo>
                    <a:cubicBezTo>
                      <a:pt x="4787" y="5"/>
                      <a:pt x="4786" y="4"/>
                      <a:pt x="4786" y="3"/>
                    </a:cubicBezTo>
                    <a:cubicBezTo>
                      <a:pt x="4786" y="2"/>
                      <a:pt x="4787" y="1"/>
                      <a:pt x="4788" y="1"/>
                    </a:cubicBezTo>
                    <a:close/>
                    <a:moveTo>
                      <a:pt x="4796" y="1"/>
                    </a:moveTo>
                    <a:lnTo>
                      <a:pt x="4796" y="1"/>
                    </a:lnTo>
                    <a:cubicBezTo>
                      <a:pt x="4797" y="1"/>
                      <a:pt x="4798" y="2"/>
                      <a:pt x="4798" y="3"/>
                    </a:cubicBezTo>
                    <a:cubicBezTo>
                      <a:pt x="4798" y="4"/>
                      <a:pt x="4797" y="5"/>
                      <a:pt x="4796" y="5"/>
                    </a:cubicBezTo>
                    <a:lnTo>
                      <a:pt x="4796" y="5"/>
                    </a:lnTo>
                    <a:cubicBezTo>
                      <a:pt x="4795" y="5"/>
                      <a:pt x="4794" y="4"/>
                      <a:pt x="4794" y="3"/>
                    </a:cubicBezTo>
                    <a:cubicBezTo>
                      <a:pt x="4794" y="2"/>
                      <a:pt x="4795" y="1"/>
                      <a:pt x="4796" y="1"/>
                    </a:cubicBezTo>
                    <a:close/>
                    <a:moveTo>
                      <a:pt x="4804" y="1"/>
                    </a:moveTo>
                    <a:lnTo>
                      <a:pt x="4804" y="1"/>
                    </a:lnTo>
                    <a:cubicBezTo>
                      <a:pt x="4805" y="1"/>
                      <a:pt x="4806" y="2"/>
                      <a:pt x="4806" y="3"/>
                    </a:cubicBezTo>
                    <a:cubicBezTo>
                      <a:pt x="4806" y="4"/>
                      <a:pt x="4805" y="5"/>
                      <a:pt x="4804" y="5"/>
                    </a:cubicBezTo>
                    <a:lnTo>
                      <a:pt x="4804" y="5"/>
                    </a:lnTo>
                    <a:cubicBezTo>
                      <a:pt x="4803" y="5"/>
                      <a:pt x="4802" y="4"/>
                      <a:pt x="4802" y="3"/>
                    </a:cubicBezTo>
                    <a:cubicBezTo>
                      <a:pt x="4802" y="2"/>
                      <a:pt x="4803" y="1"/>
                      <a:pt x="4804" y="1"/>
                    </a:cubicBezTo>
                    <a:close/>
                    <a:moveTo>
                      <a:pt x="4812" y="1"/>
                    </a:moveTo>
                    <a:lnTo>
                      <a:pt x="4812" y="1"/>
                    </a:lnTo>
                    <a:cubicBezTo>
                      <a:pt x="4813" y="1"/>
                      <a:pt x="4814" y="2"/>
                      <a:pt x="4814" y="3"/>
                    </a:cubicBezTo>
                    <a:cubicBezTo>
                      <a:pt x="4814" y="4"/>
                      <a:pt x="4813" y="5"/>
                      <a:pt x="4812" y="5"/>
                    </a:cubicBezTo>
                    <a:lnTo>
                      <a:pt x="4812" y="5"/>
                    </a:lnTo>
                    <a:cubicBezTo>
                      <a:pt x="4811" y="5"/>
                      <a:pt x="4810" y="4"/>
                      <a:pt x="4810" y="3"/>
                    </a:cubicBezTo>
                    <a:cubicBezTo>
                      <a:pt x="4810" y="2"/>
                      <a:pt x="4811" y="1"/>
                      <a:pt x="4812" y="1"/>
                    </a:cubicBezTo>
                    <a:close/>
                    <a:moveTo>
                      <a:pt x="4820" y="1"/>
                    </a:moveTo>
                    <a:lnTo>
                      <a:pt x="4820" y="1"/>
                    </a:lnTo>
                    <a:cubicBezTo>
                      <a:pt x="4821" y="1"/>
                      <a:pt x="4822" y="2"/>
                      <a:pt x="4822" y="3"/>
                    </a:cubicBezTo>
                    <a:cubicBezTo>
                      <a:pt x="4822" y="4"/>
                      <a:pt x="4821" y="5"/>
                      <a:pt x="4820" y="5"/>
                    </a:cubicBezTo>
                    <a:lnTo>
                      <a:pt x="4820" y="5"/>
                    </a:lnTo>
                    <a:cubicBezTo>
                      <a:pt x="4819" y="5"/>
                      <a:pt x="4818" y="4"/>
                      <a:pt x="4818" y="3"/>
                    </a:cubicBezTo>
                    <a:cubicBezTo>
                      <a:pt x="4818" y="2"/>
                      <a:pt x="4819" y="1"/>
                      <a:pt x="4820" y="1"/>
                    </a:cubicBezTo>
                    <a:close/>
                    <a:moveTo>
                      <a:pt x="4828" y="1"/>
                    </a:moveTo>
                    <a:lnTo>
                      <a:pt x="4828" y="1"/>
                    </a:lnTo>
                    <a:cubicBezTo>
                      <a:pt x="4829" y="1"/>
                      <a:pt x="4830" y="2"/>
                      <a:pt x="4830" y="3"/>
                    </a:cubicBezTo>
                    <a:cubicBezTo>
                      <a:pt x="4830" y="4"/>
                      <a:pt x="4829" y="5"/>
                      <a:pt x="4828" y="5"/>
                    </a:cubicBezTo>
                    <a:lnTo>
                      <a:pt x="4828" y="5"/>
                    </a:lnTo>
                    <a:cubicBezTo>
                      <a:pt x="4827" y="5"/>
                      <a:pt x="4826" y="4"/>
                      <a:pt x="4826" y="3"/>
                    </a:cubicBezTo>
                    <a:cubicBezTo>
                      <a:pt x="4826" y="2"/>
                      <a:pt x="4827" y="1"/>
                      <a:pt x="4828" y="1"/>
                    </a:cubicBezTo>
                    <a:close/>
                    <a:moveTo>
                      <a:pt x="4836" y="1"/>
                    </a:moveTo>
                    <a:lnTo>
                      <a:pt x="4836" y="1"/>
                    </a:lnTo>
                    <a:cubicBezTo>
                      <a:pt x="4837" y="1"/>
                      <a:pt x="4838" y="2"/>
                      <a:pt x="4838" y="3"/>
                    </a:cubicBezTo>
                    <a:cubicBezTo>
                      <a:pt x="4838" y="4"/>
                      <a:pt x="4837" y="5"/>
                      <a:pt x="4836" y="5"/>
                    </a:cubicBezTo>
                    <a:lnTo>
                      <a:pt x="4836" y="5"/>
                    </a:lnTo>
                    <a:cubicBezTo>
                      <a:pt x="4835" y="5"/>
                      <a:pt x="4834" y="4"/>
                      <a:pt x="4834" y="3"/>
                    </a:cubicBezTo>
                    <a:cubicBezTo>
                      <a:pt x="4834" y="2"/>
                      <a:pt x="4835" y="1"/>
                      <a:pt x="4836" y="1"/>
                    </a:cubicBezTo>
                    <a:close/>
                    <a:moveTo>
                      <a:pt x="4844" y="1"/>
                    </a:moveTo>
                    <a:lnTo>
                      <a:pt x="4844" y="1"/>
                    </a:lnTo>
                    <a:cubicBezTo>
                      <a:pt x="4845" y="1"/>
                      <a:pt x="4846" y="2"/>
                      <a:pt x="4846" y="3"/>
                    </a:cubicBezTo>
                    <a:cubicBezTo>
                      <a:pt x="4846" y="4"/>
                      <a:pt x="4845" y="5"/>
                      <a:pt x="4844" y="5"/>
                    </a:cubicBezTo>
                    <a:lnTo>
                      <a:pt x="4844" y="5"/>
                    </a:lnTo>
                    <a:cubicBezTo>
                      <a:pt x="4843" y="5"/>
                      <a:pt x="4842" y="4"/>
                      <a:pt x="4842" y="3"/>
                    </a:cubicBezTo>
                    <a:cubicBezTo>
                      <a:pt x="4842" y="2"/>
                      <a:pt x="4843" y="1"/>
                      <a:pt x="4844" y="1"/>
                    </a:cubicBezTo>
                    <a:close/>
                    <a:moveTo>
                      <a:pt x="4852" y="1"/>
                    </a:moveTo>
                    <a:lnTo>
                      <a:pt x="4852" y="1"/>
                    </a:lnTo>
                    <a:cubicBezTo>
                      <a:pt x="4853" y="1"/>
                      <a:pt x="4854" y="2"/>
                      <a:pt x="4854" y="3"/>
                    </a:cubicBezTo>
                    <a:cubicBezTo>
                      <a:pt x="4854" y="4"/>
                      <a:pt x="4853" y="5"/>
                      <a:pt x="4852" y="5"/>
                    </a:cubicBezTo>
                    <a:lnTo>
                      <a:pt x="4852" y="5"/>
                    </a:lnTo>
                    <a:cubicBezTo>
                      <a:pt x="4851" y="5"/>
                      <a:pt x="4850" y="4"/>
                      <a:pt x="4850" y="3"/>
                    </a:cubicBezTo>
                    <a:cubicBezTo>
                      <a:pt x="4850" y="2"/>
                      <a:pt x="4851" y="1"/>
                      <a:pt x="4852" y="1"/>
                    </a:cubicBezTo>
                    <a:close/>
                    <a:moveTo>
                      <a:pt x="4860" y="1"/>
                    </a:moveTo>
                    <a:lnTo>
                      <a:pt x="4860" y="1"/>
                    </a:lnTo>
                    <a:cubicBezTo>
                      <a:pt x="4861" y="1"/>
                      <a:pt x="4862" y="2"/>
                      <a:pt x="4862" y="3"/>
                    </a:cubicBezTo>
                    <a:cubicBezTo>
                      <a:pt x="4862" y="4"/>
                      <a:pt x="4861" y="5"/>
                      <a:pt x="4860" y="5"/>
                    </a:cubicBezTo>
                    <a:lnTo>
                      <a:pt x="4860" y="5"/>
                    </a:lnTo>
                    <a:cubicBezTo>
                      <a:pt x="4859" y="5"/>
                      <a:pt x="4858" y="4"/>
                      <a:pt x="4858" y="3"/>
                    </a:cubicBezTo>
                    <a:cubicBezTo>
                      <a:pt x="4858" y="2"/>
                      <a:pt x="4859" y="1"/>
                      <a:pt x="4860" y="1"/>
                    </a:cubicBezTo>
                    <a:close/>
                    <a:moveTo>
                      <a:pt x="4868" y="1"/>
                    </a:moveTo>
                    <a:lnTo>
                      <a:pt x="4868" y="1"/>
                    </a:lnTo>
                    <a:cubicBezTo>
                      <a:pt x="4869" y="1"/>
                      <a:pt x="4870" y="2"/>
                      <a:pt x="4870" y="3"/>
                    </a:cubicBezTo>
                    <a:cubicBezTo>
                      <a:pt x="4870" y="4"/>
                      <a:pt x="4869" y="5"/>
                      <a:pt x="4868" y="5"/>
                    </a:cubicBezTo>
                    <a:lnTo>
                      <a:pt x="4868" y="5"/>
                    </a:lnTo>
                    <a:cubicBezTo>
                      <a:pt x="4867" y="5"/>
                      <a:pt x="4866" y="4"/>
                      <a:pt x="4866" y="3"/>
                    </a:cubicBezTo>
                    <a:cubicBezTo>
                      <a:pt x="4866" y="2"/>
                      <a:pt x="4867" y="1"/>
                      <a:pt x="4868" y="1"/>
                    </a:cubicBezTo>
                    <a:close/>
                    <a:moveTo>
                      <a:pt x="4876" y="1"/>
                    </a:moveTo>
                    <a:lnTo>
                      <a:pt x="4876" y="1"/>
                    </a:lnTo>
                    <a:cubicBezTo>
                      <a:pt x="4877" y="1"/>
                      <a:pt x="4878" y="2"/>
                      <a:pt x="4878" y="3"/>
                    </a:cubicBezTo>
                    <a:cubicBezTo>
                      <a:pt x="4878" y="4"/>
                      <a:pt x="4877" y="5"/>
                      <a:pt x="4876" y="5"/>
                    </a:cubicBezTo>
                    <a:lnTo>
                      <a:pt x="4876" y="5"/>
                    </a:lnTo>
                    <a:cubicBezTo>
                      <a:pt x="4875" y="5"/>
                      <a:pt x="4874" y="4"/>
                      <a:pt x="4874" y="3"/>
                    </a:cubicBezTo>
                    <a:cubicBezTo>
                      <a:pt x="4874" y="2"/>
                      <a:pt x="4875" y="1"/>
                      <a:pt x="4876" y="1"/>
                    </a:cubicBezTo>
                    <a:close/>
                    <a:moveTo>
                      <a:pt x="4884" y="1"/>
                    </a:moveTo>
                    <a:lnTo>
                      <a:pt x="4884" y="1"/>
                    </a:lnTo>
                    <a:cubicBezTo>
                      <a:pt x="4885" y="1"/>
                      <a:pt x="4886" y="2"/>
                      <a:pt x="4886" y="3"/>
                    </a:cubicBezTo>
                    <a:cubicBezTo>
                      <a:pt x="4886" y="4"/>
                      <a:pt x="4885" y="5"/>
                      <a:pt x="4884" y="5"/>
                    </a:cubicBezTo>
                    <a:lnTo>
                      <a:pt x="4884" y="5"/>
                    </a:lnTo>
                    <a:cubicBezTo>
                      <a:pt x="4883" y="5"/>
                      <a:pt x="4882" y="4"/>
                      <a:pt x="4882" y="3"/>
                    </a:cubicBezTo>
                    <a:cubicBezTo>
                      <a:pt x="4882" y="2"/>
                      <a:pt x="4883" y="1"/>
                      <a:pt x="4884" y="1"/>
                    </a:cubicBezTo>
                    <a:close/>
                    <a:moveTo>
                      <a:pt x="4892" y="1"/>
                    </a:moveTo>
                    <a:lnTo>
                      <a:pt x="4892" y="1"/>
                    </a:lnTo>
                    <a:cubicBezTo>
                      <a:pt x="4893" y="1"/>
                      <a:pt x="4894" y="2"/>
                      <a:pt x="4894" y="3"/>
                    </a:cubicBezTo>
                    <a:cubicBezTo>
                      <a:pt x="4894" y="4"/>
                      <a:pt x="4893" y="5"/>
                      <a:pt x="4892" y="5"/>
                    </a:cubicBezTo>
                    <a:lnTo>
                      <a:pt x="4892" y="5"/>
                    </a:lnTo>
                    <a:cubicBezTo>
                      <a:pt x="4891" y="5"/>
                      <a:pt x="4890" y="4"/>
                      <a:pt x="4890" y="3"/>
                    </a:cubicBezTo>
                    <a:cubicBezTo>
                      <a:pt x="4890" y="2"/>
                      <a:pt x="4891" y="1"/>
                      <a:pt x="4892" y="1"/>
                    </a:cubicBezTo>
                    <a:close/>
                    <a:moveTo>
                      <a:pt x="4900" y="1"/>
                    </a:moveTo>
                    <a:lnTo>
                      <a:pt x="4900" y="1"/>
                    </a:lnTo>
                    <a:cubicBezTo>
                      <a:pt x="4901" y="1"/>
                      <a:pt x="4902" y="2"/>
                      <a:pt x="4902" y="3"/>
                    </a:cubicBezTo>
                    <a:cubicBezTo>
                      <a:pt x="4902" y="4"/>
                      <a:pt x="4901" y="5"/>
                      <a:pt x="4900" y="5"/>
                    </a:cubicBezTo>
                    <a:lnTo>
                      <a:pt x="4900" y="5"/>
                    </a:lnTo>
                    <a:cubicBezTo>
                      <a:pt x="4899" y="5"/>
                      <a:pt x="4898" y="4"/>
                      <a:pt x="4898" y="3"/>
                    </a:cubicBezTo>
                    <a:cubicBezTo>
                      <a:pt x="4898" y="2"/>
                      <a:pt x="4899" y="1"/>
                      <a:pt x="4900" y="1"/>
                    </a:cubicBezTo>
                    <a:close/>
                    <a:moveTo>
                      <a:pt x="4908" y="1"/>
                    </a:moveTo>
                    <a:lnTo>
                      <a:pt x="4908" y="1"/>
                    </a:lnTo>
                    <a:cubicBezTo>
                      <a:pt x="4909" y="1"/>
                      <a:pt x="4910" y="2"/>
                      <a:pt x="4910" y="3"/>
                    </a:cubicBezTo>
                    <a:cubicBezTo>
                      <a:pt x="4910" y="4"/>
                      <a:pt x="4909" y="5"/>
                      <a:pt x="4908" y="5"/>
                    </a:cubicBezTo>
                    <a:lnTo>
                      <a:pt x="4908" y="5"/>
                    </a:lnTo>
                    <a:cubicBezTo>
                      <a:pt x="4907" y="5"/>
                      <a:pt x="4906" y="4"/>
                      <a:pt x="4906" y="3"/>
                    </a:cubicBezTo>
                    <a:cubicBezTo>
                      <a:pt x="4906" y="2"/>
                      <a:pt x="4907" y="1"/>
                      <a:pt x="4908" y="1"/>
                    </a:cubicBezTo>
                    <a:close/>
                    <a:moveTo>
                      <a:pt x="4916" y="1"/>
                    </a:moveTo>
                    <a:lnTo>
                      <a:pt x="4916" y="1"/>
                    </a:lnTo>
                    <a:cubicBezTo>
                      <a:pt x="4917" y="1"/>
                      <a:pt x="4918" y="2"/>
                      <a:pt x="4918" y="3"/>
                    </a:cubicBezTo>
                    <a:cubicBezTo>
                      <a:pt x="4918" y="4"/>
                      <a:pt x="4917" y="5"/>
                      <a:pt x="4916" y="5"/>
                    </a:cubicBezTo>
                    <a:lnTo>
                      <a:pt x="4916" y="5"/>
                    </a:lnTo>
                    <a:cubicBezTo>
                      <a:pt x="4915" y="5"/>
                      <a:pt x="4914" y="4"/>
                      <a:pt x="4914" y="3"/>
                    </a:cubicBezTo>
                    <a:cubicBezTo>
                      <a:pt x="4914" y="2"/>
                      <a:pt x="4915" y="1"/>
                      <a:pt x="4916" y="1"/>
                    </a:cubicBezTo>
                    <a:close/>
                    <a:moveTo>
                      <a:pt x="4924" y="1"/>
                    </a:moveTo>
                    <a:lnTo>
                      <a:pt x="4924" y="1"/>
                    </a:lnTo>
                    <a:cubicBezTo>
                      <a:pt x="4925" y="1"/>
                      <a:pt x="4926" y="2"/>
                      <a:pt x="4926" y="3"/>
                    </a:cubicBezTo>
                    <a:cubicBezTo>
                      <a:pt x="4926" y="4"/>
                      <a:pt x="4925" y="5"/>
                      <a:pt x="4924" y="5"/>
                    </a:cubicBezTo>
                    <a:lnTo>
                      <a:pt x="4924" y="5"/>
                    </a:lnTo>
                    <a:cubicBezTo>
                      <a:pt x="4923" y="5"/>
                      <a:pt x="4922" y="4"/>
                      <a:pt x="4922" y="3"/>
                    </a:cubicBezTo>
                    <a:cubicBezTo>
                      <a:pt x="4922" y="2"/>
                      <a:pt x="4923" y="1"/>
                      <a:pt x="4924" y="1"/>
                    </a:cubicBezTo>
                    <a:close/>
                    <a:moveTo>
                      <a:pt x="4932" y="1"/>
                    </a:moveTo>
                    <a:lnTo>
                      <a:pt x="4932" y="1"/>
                    </a:lnTo>
                    <a:cubicBezTo>
                      <a:pt x="4933" y="1"/>
                      <a:pt x="4934" y="2"/>
                      <a:pt x="4934" y="3"/>
                    </a:cubicBezTo>
                    <a:cubicBezTo>
                      <a:pt x="4934" y="4"/>
                      <a:pt x="4933" y="5"/>
                      <a:pt x="4932" y="5"/>
                    </a:cubicBezTo>
                    <a:lnTo>
                      <a:pt x="4932" y="5"/>
                    </a:lnTo>
                    <a:cubicBezTo>
                      <a:pt x="4931" y="5"/>
                      <a:pt x="4930" y="4"/>
                      <a:pt x="4930" y="3"/>
                    </a:cubicBezTo>
                    <a:cubicBezTo>
                      <a:pt x="4930" y="2"/>
                      <a:pt x="4931" y="1"/>
                      <a:pt x="4932" y="1"/>
                    </a:cubicBezTo>
                    <a:close/>
                    <a:moveTo>
                      <a:pt x="4940" y="1"/>
                    </a:moveTo>
                    <a:lnTo>
                      <a:pt x="4940" y="1"/>
                    </a:lnTo>
                    <a:cubicBezTo>
                      <a:pt x="4941" y="1"/>
                      <a:pt x="4942" y="2"/>
                      <a:pt x="4942" y="3"/>
                    </a:cubicBezTo>
                    <a:cubicBezTo>
                      <a:pt x="4942" y="4"/>
                      <a:pt x="4941" y="5"/>
                      <a:pt x="4940" y="5"/>
                    </a:cubicBezTo>
                    <a:lnTo>
                      <a:pt x="4940" y="5"/>
                    </a:lnTo>
                    <a:cubicBezTo>
                      <a:pt x="4939" y="5"/>
                      <a:pt x="4938" y="4"/>
                      <a:pt x="4938" y="3"/>
                    </a:cubicBezTo>
                    <a:cubicBezTo>
                      <a:pt x="4938" y="2"/>
                      <a:pt x="4939" y="1"/>
                      <a:pt x="4940" y="1"/>
                    </a:cubicBezTo>
                    <a:close/>
                    <a:moveTo>
                      <a:pt x="4948" y="1"/>
                    </a:moveTo>
                    <a:lnTo>
                      <a:pt x="4948" y="1"/>
                    </a:lnTo>
                    <a:cubicBezTo>
                      <a:pt x="4949" y="1"/>
                      <a:pt x="4950" y="2"/>
                      <a:pt x="4950" y="3"/>
                    </a:cubicBezTo>
                    <a:cubicBezTo>
                      <a:pt x="4950" y="4"/>
                      <a:pt x="4949" y="5"/>
                      <a:pt x="4948" y="5"/>
                    </a:cubicBezTo>
                    <a:lnTo>
                      <a:pt x="4948" y="5"/>
                    </a:lnTo>
                    <a:cubicBezTo>
                      <a:pt x="4947" y="5"/>
                      <a:pt x="4946" y="4"/>
                      <a:pt x="4946" y="3"/>
                    </a:cubicBezTo>
                    <a:cubicBezTo>
                      <a:pt x="4946" y="2"/>
                      <a:pt x="4947" y="1"/>
                      <a:pt x="4948" y="1"/>
                    </a:cubicBezTo>
                    <a:close/>
                    <a:moveTo>
                      <a:pt x="4956" y="1"/>
                    </a:moveTo>
                    <a:lnTo>
                      <a:pt x="4956" y="1"/>
                    </a:lnTo>
                    <a:cubicBezTo>
                      <a:pt x="4957" y="1"/>
                      <a:pt x="4958" y="2"/>
                      <a:pt x="4958" y="3"/>
                    </a:cubicBezTo>
                    <a:cubicBezTo>
                      <a:pt x="4958" y="4"/>
                      <a:pt x="4957" y="5"/>
                      <a:pt x="4956" y="5"/>
                    </a:cubicBezTo>
                    <a:lnTo>
                      <a:pt x="4956" y="5"/>
                    </a:lnTo>
                    <a:cubicBezTo>
                      <a:pt x="4955" y="5"/>
                      <a:pt x="4954" y="4"/>
                      <a:pt x="4954" y="3"/>
                    </a:cubicBezTo>
                    <a:cubicBezTo>
                      <a:pt x="4954" y="2"/>
                      <a:pt x="4955" y="1"/>
                      <a:pt x="4956" y="1"/>
                    </a:cubicBezTo>
                    <a:close/>
                    <a:moveTo>
                      <a:pt x="4964" y="1"/>
                    </a:moveTo>
                    <a:lnTo>
                      <a:pt x="4964" y="1"/>
                    </a:lnTo>
                    <a:cubicBezTo>
                      <a:pt x="4965" y="1"/>
                      <a:pt x="4966" y="2"/>
                      <a:pt x="4966" y="3"/>
                    </a:cubicBezTo>
                    <a:cubicBezTo>
                      <a:pt x="4966" y="4"/>
                      <a:pt x="4965" y="5"/>
                      <a:pt x="4964" y="5"/>
                    </a:cubicBezTo>
                    <a:lnTo>
                      <a:pt x="4964" y="5"/>
                    </a:lnTo>
                    <a:cubicBezTo>
                      <a:pt x="4963" y="5"/>
                      <a:pt x="4962" y="4"/>
                      <a:pt x="4962" y="3"/>
                    </a:cubicBezTo>
                    <a:cubicBezTo>
                      <a:pt x="4962" y="2"/>
                      <a:pt x="4963" y="1"/>
                      <a:pt x="4964" y="1"/>
                    </a:cubicBezTo>
                    <a:close/>
                    <a:moveTo>
                      <a:pt x="4972" y="1"/>
                    </a:moveTo>
                    <a:lnTo>
                      <a:pt x="4972" y="1"/>
                    </a:lnTo>
                    <a:cubicBezTo>
                      <a:pt x="4973" y="1"/>
                      <a:pt x="4974" y="2"/>
                      <a:pt x="4974" y="3"/>
                    </a:cubicBezTo>
                    <a:cubicBezTo>
                      <a:pt x="4974" y="4"/>
                      <a:pt x="4973" y="5"/>
                      <a:pt x="4972" y="5"/>
                    </a:cubicBezTo>
                    <a:lnTo>
                      <a:pt x="4972" y="5"/>
                    </a:lnTo>
                    <a:cubicBezTo>
                      <a:pt x="4971" y="5"/>
                      <a:pt x="4970" y="4"/>
                      <a:pt x="4970" y="3"/>
                    </a:cubicBezTo>
                    <a:cubicBezTo>
                      <a:pt x="4970" y="2"/>
                      <a:pt x="4971" y="1"/>
                      <a:pt x="4972" y="1"/>
                    </a:cubicBezTo>
                    <a:close/>
                    <a:moveTo>
                      <a:pt x="4980" y="1"/>
                    </a:moveTo>
                    <a:lnTo>
                      <a:pt x="4980" y="1"/>
                    </a:lnTo>
                    <a:cubicBezTo>
                      <a:pt x="4981" y="1"/>
                      <a:pt x="4982" y="2"/>
                      <a:pt x="4982" y="3"/>
                    </a:cubicBezTo>
                    <a:cubicBezTo>
                      <a:pt x="4982" y="4"/>
                      <a:pt x="4981" y="5"/>
                      <a:pt x="4980" y="5"/>
                    </a:cubicBezTo>
                    <a:lnTo>
                      <a:pt x="4980" y="5"/>
                    </a:lnTo>
                    <a:cubicBezTo>
                      <a:pt x="4979" y="5"/>
                      <a:pt x="4978" y="4"/>
                      <a:pt x="4978" y="3"/>
                    </a:cubicBezTo>
                    <a:cubicBezTo>
                      <a:pt x="4978" y="2"/>
                      <a:pt x="4979" y="1"/>
                      <a:pt x="4980" y="1"/>
                    </a:cubicBezTo>
                    <a:close/>
                    <a:moveTo>
                      <a:pt x="4988" y="1"/>
                    </a:moveTo>
                    <a:lnTo>
                      <a:pt x="4988" y="1"/>
                    </a:lnTo>
                    <a:cubicBezTo>
                      <a:pt x="4989" y="1"/>
                      <a:pt x="4990" y="2"/>
                      <a:pt x="4990" y="3"/>
                    </a:cubicBezTo>
                    <a:cubicBezTo>
                      <a:pt x="4990" y="4"/>
                      <a:pt x="4989" y="5"/>
                      <a:pt x="4988" y="5"/>
                    </a:cubicBezTo>
                    <a:lnTo>
                      <a:pt x="4988" y="5"/>
                    </a:lnTo>
                    <a:cubicBezTo>
                      <a:pt x="4987" y="5"/>
                      <a:pt x="4986" y="4"/>
                      <a:pt x="4986" y="3"/>
                    </a:cubicBezTo>
                    <a:cubicBezTo>
                      <a:pt x="4986" y="2"/>
                      <a:pt x="4987" y="1"/>
                      <a:pt x="4988" y="1"/>
                    </a:cubicBezTo>
                    <a:close/>
                    <a:moveTo>
                      <a:pt x="4996" y="1"/>
                    </a:moveTo>
                    <a:lnTo>
                      <a:pt x="4996" y="1"/>
                    </a:lnTo>
                    <a:cubicBezTo>
                      <a:pt x="4997" y="1"/>
                      <a:pt x="4998" y="2"/>
                      <a:pt x="4998" y="3"/>
                    </a:cubicBezTo>
                    <a:cubicBezTo>
                      <a:pt x="4998" y="4"/>
                      <a:pt x="4997" y="5"/>
                      <a:pt x="4996" y="5"/>
                    </a:cubicBezTo>
                    <a:lnTo>
                      <a:pt x="4996" y="5"/>
                    </a:lnTo>
                    <a:cubicBezTo>
                      <a:pt x="4995" y="5"/>
                      <a:pt x="4994" y="4"/>
                      <a:pt x="4994" y="3"/>
                    </a:cubicBezTo>
                    <a:cubicBezTo>
                      <a:pt x="4994" y="2"/>
                      <a:pt x="4995" y="1"/>
                      <a:pt x="4996" y="1"/>
                    </a:cubicBezTo>
                    <a:close/>
                    <a:moveTo>
                      <a:pt x="5004" y="1"/>
                    </a:moveTo>
                    <a:lnTo>
                      <a:pt x="5004" y="1"/>
                    </a:lnTo>
                    <a:cubicBezTo>
                      <a:pt x="5005" y="1"/>
                      <a:pt x="5006" y="2"/>
                      <a:pt x="5006" y="3"/>
                    </a:cubicBezTo>
                    <a:cubicBezTo>
                      <a:pt x="5006" y="4"/>
                      <a:pt x="5005" y="5"/>
                      <a:pt x="5004" y="5"/>
                    </a:cubicBezTo>
                    <a:lnTo>
                      <a:pt x="5004" y="5"/>
                    </a:lnTo>
                    <a:cubicBezTo>
                      <a:pt x="5003" y="5"/>
                      <a:pt x="5002" y="4"/>
                      <a:pt x="5002" y="3"/>
                    </a:cubicBezTo>
                    <a:cubicBezTo>
                      <a:pt x="5002" y="2"/>
                      <a:pt x="5003" y="1"/>
                      <a:pt x="5004" y="1"/>
                    </a:cubicBezTo>
                    <a:close/>
                    <a:moveTo>
                      <a:pt x="5012" y="1"/>
                    </a:moveTo>
                    <a:lnTo>
                      <a:pt x="5012" y="1"/>
                    </a:lnTo>
                    <a:cubicBezTo>
                      <a:pt x="5013" y="1"/>
                      <a:pt x="5014" y="2"/>
                      <a:pt x="5014" y="3"/>
                    </a:cubicBezTo>
                    <a:cubicBezTo>
                      <a:pt x="5014" y="4"/>
                      <a:pt x="5013" y="5"/>
                      <a:pt x="5012" y="5"/>
                    </a:cubicBezTo>
                    <a:lnTo>
                      <a:pt x="5012" y="5"/>
                    </a:lnTo>
                    <a:cubicBezTo>
                      <a:pt x="5011" y="5"/>
                      <a:pt x="5010" y="4"/>
                      <a:pt x="5010" y="3"/>
                    </a:cubicBezTo>
                    <a:cubicBezTo>
                      <a:pt x="5010" y="2"/>
                      <a:pt x="5011" y="1"/>
                      <a:pt x="5012" y="1"/>
                    </a:cubicBezTo>
                    <a:close/>
                    <a:moveTo>
                      <a:pt x="5020" y="1"/>
                    </a:moveTo>
                    <a:lnTo>
                      <a:pt x="5020" y="1"/>
                    </a:lnTo>
                    <a:cubicBezTo>
                      <a:pt x="5021" y="1"/>
                      <a:pt x="5022" y="2"/>
                      <a:pt x="5022" y="3"/>
                    </a:cubicBezTo>
                    <a:cubicBezTo>
                      <a:pt x="5022" y="4"/>
                      <a:pt x="5021" y="5"/>
                      <a:pt x="5020" y="5"/>
                    </a:cubicBezTo>
                    <a:lnTo>
                      <a:pt x="5020" y="5"/>
                    </a:lnTo>
                    <a:cubicBezTo>
                      <a:pt x="5019" y="5"/>
                      <a:pt x="5018" y="4"/>
                      <a:pt x="5018" y="3"/>
                    </a:cubicBezTo>
                    <a:cubicBezTo>
                      <a:pt x="5018" y="2"/>
                      <a:pt x="5019" y="1"/>
                      <a:pt x="5020" y="1"/>
                    </a:cubicBezTo>
                    <a:close/>
                    <a:moveTo>
                      <a:pt x="5028" y="1"/>
                    </a:moveTo>
                    <a:lnTo>
                      <a:pt x="5028" y="1"/>
                    </a:lnTo>
                    <a:cubicBezTo>
                      <a:pt x="5029" y="1"/>
                      <a:pt x="5030" y="2"/>
                      <a:pt x="5030" y="3"/>
                    </a:cubicBezTo>
                    <a:cubicBezTo>
                      <a:pt x="5030" y="4"/>
                      <a:pt x="5029" y="5"/>
                      <a:pt x="5028" y="5"/>
                    </a:cubicBezTo>
                    <a:lnTo>
                      <a:pt x="5028" y="5"/>
                    </a:lnTo>
                    <a:cubicBezTo>
                      <a:pt x="5027" y="5"/>
                      <a:pt x="5026" y="4"/>
                      <a:pt x="5026" y="3"/>
                    </a:cubicBezTo>
                    <a:cubicBezTo>
                      <a:pt x="5026" y="2"/>
                      <a:pt x="5027" y="1"/>
                      <a:pt x="5028" y="1"/>
                    </a:cubicBezTo>
                    <a:close/>
                    <a:moveTo>
                      <a:pt x="5036" y="1"/>
                    </a:moveTo>
                    <a:lnTo>
                      <a:pt x="5036" y="1"/>
                    </a:lnTo>
                    <a:cubicBezTo>
                      <a:pt x="5037" y="1"/>
                      <a:pt x="5038" y="2"/>
                      <a:pt x="5038" y="3"/>
                    </a:cubicBezTo>
                    <a:cubicBezTo>
                      <a:pt x="5038" y="4"/>
                      <a:pt x="5037" y="5"/>
                      <a:pt x="5036" y="5"/>
                    </a:cubicBezTo>
                    <a:lnTo>
                      <a:pt x="5036" y="5"/>
                    </a:lnTo>
                    <a:cubicBezTo>
                      <a:pt x="5035" y="5"/>
                      <a:pt x="5034" y="4"/>
                      <a:pt x="5034" y="3"/>
                    </a:cubicBezTo>
                    <a:cubicBezTo>
                      <a:pt x="5034" y="2"/>
                      <a:pt x="5035" y="1"/>
                      <a:pt x="5036" y="1"/>
                    </a:cubicBezTo>
                    <a:close/>
                    <a:moveTo>
                      <a:pt x="5044" y="1"/>
                    </a:moveTo>
                    <a:lnTo>
                      <a:pt x="5044" y="1"/>
                    </a:lnTo>
                    <a:cubicBezTo>
                      <a:pt x="5045" y="1"/>
                      <a:pt x="5046" y="2"/>
                      <a:pt x="5046" y="3"/>
                    </a:cubicBezTo>
                    <a:cubicBezTo>
                      <a:pt x="5046" y="4"/>
                      <a:pt x="5045" y="5"/>
                      <a:pt x="5044" y="5"/>
                    </a:cubicBezTo>
                    <a:lnTo>
                      <a:pt x="5044" y="5"/>
                    </a:lnTo>
                    <a:cubicBezTo>
                      <a:pt x="5043" y="5"/>
                      <a:pt x="5042" y="4"/>
                      <a:pt x="5042" y="3"/>
                    </a:cubicBezTo>
                    <a:cubicBezTo>
                      <a:pt x="5042" y="2"/>
                      <a:pt x="5043" y="1"/>
                      <a:pt x="5044" y="1"/>
                    </a:cubicBezTo>
                    <a:close/>
                    <a:moveTo>
                      <a:pt x="5052" y="1"/>
                    </a:moveTo>
                    <a:lnTo>
                      <a:pt x="5052" y="1"/>
                    </a:lnTo>
                    <a:cubicBezTo>
                      <a:pt x="5053" y="1"/>
                      <a:pt x="5054" y="2"/>
                      <a:pt x="5054" y="3"/>
                    </a:cubicBezTo>
                    <a:cubicBezTo>
                      <a:pt x="5054" y="4"/>
                      <a:pt x="5053" y="5"/>
                      <a:pt x="5052" y="5"/>
                    </a:cubicBezTo>
                    <a:lnTo>
                      <a:pt x="5052" y="5"/>
                    </a:lnTo>
                    <a:cubicBezTo>
                      <a:pt x="5051" y="5"/>
                      <a:pt x="5050" y="4"/>
                      <a:pt x="5050" y="3"/>
                    </a:cubicBezTo>
                    <a:cubicBezTo>
                      <a:pt x="5050" y="2"/>
                      <a:pt x="5051" y="1"/>
                      <a:pt x="5052" y="1"/>
                    </a:cubicBezTo>
                    <a:close/>
                    <a:moveTo>
                      <a:pt x="5060" y="1"/>
                    </a:moveTo>
                    <a:lnTo>
                      <a:pt x="5060" y="1"/>
                    </a:lnTo>
                    <a:cubicBezTo>
                      <a:pt x="5061" y="1"/>
                      <a:pt x="5062" y="2"/>
                      <a:pt x="5062" y="3"/>
                    </a:cubicBezTo>
                    <a:cubicBezTo>
                      <a:pt x="5062" y="4"/>
                      <a:pt x="5061" y="5"/>
                      <a:pt x="5060" y="5"/>
                    </a:cubicBezTo>
                    <a:lnTo>
                      <a:pt x="5060" y="5"/>
                    </a:lnTo>
                    <a:cubicBezTo>
                      <a:pt x="5059" y="5"/>
                      <a:pt x="5058" y="4"/>
                      <a:pt x="5058" y="3"/>
                    </a:cubicBezTo>
                    <a:cubicBezTo>
                      <a:pt x="5058" y="2"/>
                      <a:pt x="5059" y="1"/>
                      <a:pt x="5060" y="1"/>
                    </a:cubicBezTo>
                    <a:close/>
                    <a:moveTo>
                      <a:pt x="5068" y="1"/>
                    </a:moveTo>
                    <a:lnTo>
                      <a:pt x="5068" y="1"/>
                    </a:lnTo>
                    <a:cubicBezTo>
                      <a:pt x="5069" y="1"/>
                      <a:pt x="5070" y="2"/>
                      <a:pt x="5070" y="3"/>
                    </a:cubicBezTo>
                    <a:cubicBezTo>
                      <a:pt x="5070" y="5"/>
                      <a:pt x="5069" y="5"/>
                      <a:pt x="5068" y="5"/>
                    </a:cubicBezTo>
                    <a:lnTo>
                      <a:pt x="5068" y="5"/>
                    </a:lnTo>
                    <a:cubicBezTo>
                      <a:pt x="5067" y="5"/>
                      <a:pt x="5066" y="5"/>
                      <a:pt x="5066" y="3"/>
                    </a:cubicBezTo>
                    <a:cubicBezTo>
                      <a:pt x="5066" y="2"/>
                      <a:pt x="5067" y="1"/>
                      <a:pt x="5068" y="1"/>
                    </a:cubicBezTo>
                    <a:close/>
                    <a:moveTo>
                      <a:pt x="5076" y="1"/>
                    </a:moveTo>
                    <a:lnTo>
                      <a:pt x="5076" y="1"/>
                    </a:lnTo>
                    <a:cubicBezTo>
                      <a:pt x="5077" y="1"/>
                      <a:pt x="5078" y="2"/>
                      <a:pt x="5078" y="3"/>
                    </a:cubicBezTo>
                    <a:cubicBezTo>
                      <a:pt x="5078" y="5"/>
                      <a:pt x="5077" y="5"/>
                      <a:pt x="5076" y="5"/>
                    </a:cubicBezTo>
                    <a:lnTo>
                      <a:pt x="5076" y="5"/>
                    </a:lnTo>
                    <a:cubicBezTo>
                      <a:pt x="5075" y="5"/>
                      <a:pt x="5074" y="5"/>
                      <a:pt x="5074" y="3"/>
                    </a:cubicBezTo>
                    <a:cubicBezTo>
                      <a:pt x="5074" y="2"/>
                      <a:pt x="5075" y="1"/>
                      <a:pt x="5076" y="1"/>
                    </a:cubicBezTo>
                    <a:close/>
                    <a:moveTo>
                      <a:pt x="5084" y="1"/>
                    </a:moveTo>
                    <a:lnTo>
                      <a:pt x="5084" y="1"/>
                    </a:lnTo>
                    <a:cubicBezTo>
                      <a:pt x="5085" y="1"/>
                      <a:pt x="5086" y="2"/>
                      <a:pt x="5086" y="3"/>
                    </a:cubicBezTo>
                    <a:cubicBezTo>
                      <a:pt x="5086" y="5"/>
                      <a:pt x="5085" y="5"/>
                      <a:pt x="5084" y="5"/>
                    </a:cubicBezTo>
                    <a:lnTo>
                      <a:pt x="5084" y="5"/>
                    </a:lnTo>
                    <a:cubicBezTo>
                      <a:pt x="5083" y="5"/>
                      <a:pt x="5082" y="5"/>
                      <a:pt x="5082" y="3"/>
                    </a:cubicBezTo>
                    <a:cubicBezTo>
                      <a:pt x="5082" y="2"/>
                      <a:pt x="5083" y="1"/>
                      <a:pt x="5084" y="1"/>
                    </a:cubicBezTo>
                    <a:close/>
                    <a:moveTo>
                      <a:pt x="5092" y="1"/>
                    </a:moveTo>
                    <a:lnTo>
                      <a:pt x="5092" y="1"/>
                    </a:lnTo>
                    <a:cubicBezTo>
                      <a:pt x="5093" y="1"/>
                      <a:pt x="5094" y="2"/>
                      <a:pt x="5094" y="3"/>
                    </a:cubicBezTo>
                    <a:cubicBezTo>
                      <a:pt x="5094" y="5"/>
                      <a:pt x="5093" y="5"/>
                      <a:pt x="5092" y="5"/>
                    </a:cubicBezTo>
                    <a:lnTo>
                      <a:pt x="5092" y="5"/>
                    </a:lnTo>
                    <a:cubicBezTo>
                      <a:pt x="5091" y="5"/>
                      <a:pt x="5090" y="5"/>
                      <a:pt x="5090" y="3"/>
                    </a:cubicBezTo>
                    <a:cubicBezTo>
                      <a:pt x="5090" y="2"/>
                      <a:pt x="5091" y="1"/>
                      <a:pt x="5092" y="1"/>
                    </a:cubicBezTo>
                    <a:close/>
                    <a:moveTo>
                      <a:pt x="5100" y="1"/>
                    </a:moveTo>
                    <a:lnTo>
                      <a:pt x="5100" y="1"/>
                    </a:lnTo>
                    <a:cubicBezTo>
                      <a:pt x="5101" y="1"/>
                      <a:pt x="5102" y="2"/>
                      <a:pt x="5102" y="3"/>
                    </a:cubicBezTo>
                    <a:cubicBezTo>
                      <a:pt x="5102" y="5"/>
                      <a:pt x="5101" y="5"/>
                      <a:pt x="5100" y="5"/>
                    </a:cubicBezTo>
                    <a:lnTo>
                      <a:pt x="5100" y="5"/>
                    </a:lnTo>
                    <a:cubicBezTo>
                      <a:pt x="5099" y="5"/>
                      <a:pt x="5098" y="5"/>
                      <a:pt x="5098" y="3"/>
                    </a:cubicBezTo>
                    <a:cubicBezTo>
                      <a:pt x="5098" y="2"/>
                      <a:pt x="5099" y="1"/>
                      <a:pt x="5100" y="1"/>
                    </a:cubicBezTo>
                    <a:close/>
                    <a:moveTo>
                      <a:pt x="5108" y="1"/>
                    </a:moveTo>
                    <a:lnTo>
                      <a:pt x="5108" y="1"/>
                    </a:lnTo>
                    <a:cubicBezTo>
                      <a:pt x="5109" y="1"/>
                      <a:pt x="5110" y="2"/>
                      <a:pt x="5110" y="3"/>
                    </a:cubicBezTo>
                    <a:cubicBezTo>
                      <a:pt x="5110" y="5"/>
                      <a:pt x="5109" y="5"/>
                      <a:pt x="5108" y="5"/>
                    </a:cubicBezTo>
                    <a:lnTo>
                      <a:pt x="5108" y="5"/>
                    </a:lnTo>
                    <a:cubicBezTo>
                      <a:pt x="5107" y="5"/>
                      <a:pt x="5106" y="5"/>
                      <a:pt x="5106" y="3"/>
                    </a:cubicBezTo>
                    <a:cubicBezTo>
                      <a:pt x="5106" y="2"/>
                      <a:pt x="5107" y="1"/>
                      <a:pt x="5108" y="1"/>
                    </a:cubicBezTo>
                    <a:close/>
                    <a:moveTo>
                      <a:pt x="5116" y="1"/>
                    </a:moveTo>
                    <a:lnTo>
                      <a:pt x="5116" y="1"/>
                    </a:lnTo>
                    <a:cubicBezTo>
                      <a:pt x="5117" y="1"/>
                      <a:pt x="5118" y="2"/>
                      <a:pt x="5118" y="3"/>
                    </a:cubicBezTo>
                    <a:cubicBezTo>
                      <a:pt x="5118" y="5"/>
                      <a:pt x="5117" y="5"/>
                      <a:pt x="5116" y="5"/>
                    </a:cubicBezTo>
                    <a:lnTo>
                      <a:pt x="5116" y="5"/>
                    </a:lnTo>
                    <a:cubicBezTo>
                      <a:pt x="5115" y="5"/>
                      <a:pt x="5114" y="5"/>
                      <a:pt x="5114" y="3"/>
                    </a:cubicBezTo>
                    <a:cubicBezTo>
                      <a:pt x="5114" y="2"/>
                      <a:pt x="5115" y="1"/>
                      <a:pt x="5116" y="1"/>
                    </a:cubicBezTo>
                    <a:close/>
                    <a:moveTo>
                      <a:pt x="5124" y="1"/>
                    </a:moveTo>
                    <a:lnTo>
                      <a:pt x="5124" y="1"/>
                    </a:lnTo>
                    <a:cubicBezTo>
                      <a:pt x="5125" y="1"/>
                      <a:pt x="5126" y="2"/>
                      <a:pt x="5126" y="3"/>
                    </a:cubicBezTo>
                    <a:cubicBezTo>
                      <a:pt x="5126" y="5"/>
                      <a:pt x="5125" y="5"/>
                      <a:pt x="5124" y="5"/>
                    </a:cubicBezTo>
                    <a:lnTo>
                      <a:pt x="5124" y="5"/>
                    </a:lnTo>
                    <a:cubicBezTo>
                      <a:pt x="5123" y="5"/>
                      <a:pt x="5122" y="5"/>
                      <a:pt x="5122" y="3"/>
                    </a:cubicBezTo>
                    <a:cubicBezTo>
                      <a:pt x="5122" y="2"/>
                      <a:pt x="5123" y="1"/>
                      <a:pt x="5124" y="1"/>
                    </a:cubicBezTo>
                    <a:close/>
                    <a:moveTo>
                      <a:pt x="5132" y="1"/>
                    </a:moveTo>
                    <a:lnTo>
                      <a:pt x="5132" y="1"/>
                    </a:lnTo>
                    <a:cubicBezTo>
                      <a:pt x="5133" y="1"/>
                      <a:pt x="5134" y="2"/>
                      <a:pt x="5134" y="3"/>
                    </a:cubicBezTo>
                    <a:cubicBezTo>
                      <a:pt x="5134" y="5"/>
                      <a:pt x="5133" y="5"/>
                      <a:pt x="5132" y="5"/>
                    </a:cubicBezTo>
                    <a:lnTo>
                      <a:pt x="5132" y="5"/>
                    </a:lnTo>
                    <a:cubicBezTo>
                      <a:pt x="5131" y="5"/>
                      <a:pt x="5130" y="5"/>
                      <a:pt x="5130" y="3"/>
                    </a:cubicBezTo>
                    <a:cubicBezTo>
                      <a:pt x="5130" y="2"/>
                      <a:pt x="5131" y="1"/>
                      <a:pt x="5132" y="1"/>
                    </a:cubicBezTo>
                    <a:close/>
                    <a:moveTo>
                      <a:pt x="5140" y="1"/>
                    </a:moveTo>
                    <a:lnTo>
                      <a:pt x="5140" y="1"/>
                    </a:lnTo>
                    <a:cubicBezTo>
                      <a:pt x="5141" y="1"/>
                      <a:pt x="5142" y="2"/>
                      <a:pt x="5142" y="3"/>
                    </a:cubicBezTo>
                    <a:cubicBezTo>
                      <a:pt x="5142" y="5"/>
                      <a:pt x="5141" y="5"/>
                      <a:pt x="5140" y="5"/>
                    </a:cubicBezTo>
                    <a:lnTo>
                      <a:pt x="5140" y="5"/>
                    </a:lnTo>
                    <a:cubicBezTo>
                      <a:pt x="5139" y="5"/>
                      <a:pt x="5138" y="5"/>
                      <a:pt x="5138" y="3"/>
                    </a:cubicBezTo>
                    <a:cubicBezTo>
                      <a:pt x="5138" y="2"/>
                      <a:pt x="5139" y="1"/>
                      <a:pt x="5140" y="1"/>
                    </a:cubicBezTo>
                    <a:close/>
                    <a:moveTo>
                      <a:pt x="5148" y="1"/>
                    </a:moveTo>
                    <a:lnTo>
                      <a:pt x="5148" y="1"/>
                    </a:lnTo>
                    <a:cubicBezTo>
                      <a:pt x="5149" y="1"/>
                      <a:pt x="5150" y="2"/>
                      <a:pt x="5150" y="3"/>
                    </a:cubicBezTo>
                    <a:cubicBezTo>
                      <a:pt x="5150" y="5"/>
                      <a:pt x="5149" y="5"/>
                      <a:pt x="5148" y="5"/>
                    </a:cubicBezTo>
                    <a:lnTo>
                      <a:pt x="5148" y="5"/>
                    </a:lnTo>
                    <a:cubicBezTo>
                      <a:pt x="5147" y="5"/>
                      <a:pt x="5146" y="5"/>
                      <a:pt x="5146" y="3"/>
                    </a:cubicBezTo>
                    <a:cubicBezTo>
                      <a:pt x="5146" y="2"/>
                      <a:pt x="5147" y="1"/>
                      <a:pt x="5148" y="1"/>
                    </a:cubicBezTo>
                    <a:close/>
                    <a:moveTo>
                      <a:pt x="5156" y="1"/>
                    </a:moveTo>
                    <a:lnTo>
                      <a:pt x="5156" y="1"/>
                    </a:lnTo>
                    <a:cubicBezTo>
                      <a:pt x="5157" y="1"/>
                      <a:pt x="5158" y="2"/>
                      <a:pt x="5158" y="3"/>
                    </a:cubicBezTo>
                    <a:cubicBezTo>
                      <a:pt x="5158" y="5"/>
                      <a:pt x="5157" y="5"/>
                      <a:pt x="5156" y="5"/>
                    </a:cubicBezTo>
                    <a:lnTo>
                      <a:pt x="5156" y="5"/>
                    </a:lnTo>
                    <a:cubicBezTo>
                      <a:pt x="5155" y="5"/>
                      <a:pt x="5154" y="5"/>
                      <a:pt x="5154" y="3"/>
                    </a:cubicBezTo>
                    <a:cubicBezTo>
                      <a:pt x="5154" y="2"/>
                      <a:pt x="5155" y="1"/>
                      <a:pt x="5156" y="1"/>
                    </a:cubicBezTo>
                    <a:close/>
                    <a:moveTo>
                      <a:pt x="5164" y="1"/>
                    </a:moveTo>
                    <a:lnTo>
                      <a:pt x="5164" y="1"/>
                    </a:lnTo>
                    <a:cubicBezTo>
                      <a:pt x="5165" y="1"/>
                      <a:pt x="5166" y="2"/>
                      <a:pt x="5166" y="3"/>
                    </a:cubicBezTo>
                    <a:cubicBezTo>
                      <a:pt x="5166" y="5"/>
                      <a:pt x="5165" y="5"/>
                      <a:pt x="5164" y="5"/>
                    </a:cubicBezTo>
                    <a:lnTo>
                      <a:pt x="5164" y="5"/>
                    </a:lnTo>
                    <a:cubicBezTo>
                      <a:pt x="5163" y="5"/>
                      <a:pt x="5162" y="5"/>
                      <a:pt x="5162" y="3"/>
                    </a:cubicBezTo>
                    <a:cubicBezTo>
                      <a:pt x="5162" y="2"/>
                      <a:pt x="5163" y="1"/>
                      <a:pt x="5164" y="1"/>
                    </a:cubicBezTo>
                    <a:close/>
                    <a:moveTo>
                      <a:pt x="5172" y="1"/>
                    </a:moveTo>
                    <a:lnTo>
                      <a:pt x="5172" y="1"/>
                    </a:lnTo>
                    <a:cubicBezTo>
                      <a:pt x="5173" y="1"/>
                      <a:pt x="5174" y="2"/>
                      <a:pt x="5174" y="3"/>
                    </a:cubicBezTo>
                    <a:cubicBezTo>
                      <a:pt x="5174" y="5"/>
                      <a:pt x="5173" y="5"/>
                      <a:pt x="5172" y="5"/>
                    </a:cubicBezTo>
                    <a:lnTo>
                      <a:pt x="5172" y="5"/>
                    </a:lnTo>
                    <a:cubicBezTo>
                      <a:pt x="5171" y="5"/>
                      <a:pt x="5170" y="5"/>
                      <a:pt x="5170" y="3"/>
                    </a:cubicBezTo>
                    <a:cubicBezTo>
                      <a:pt x="5170" y="2"/>
                      <a:pt x="5171" y="1"/>
                      <a:pt x="5172" y="1"/>
                    </a:cubicBezTo>
                    <a:close/>
                    <a:moveTo>
                      <a:pt x="5180" y="1"/>
                    </a:moveTo>
                    <a:lnTo>
                      <a:pt x="5180" y="1"/>
                    </a:lnTo>
                    <a:cubicBezTo>
                      <a:pt x="5181" y="1"/>
                      <a:pt x="5182" y="2"/>
                      <a:pt x="5182" y="3"/>
                    </a:cubicBezTo>
                    <a:cubicBezTo>
                      <a:pt x="5182" y="5"/>
                      <a:pt x="5181" y="5"/>
                      <a:pt x="5180" y="5"/>
                    </a:cubicBezTo>
                    <a:lnTo>
                      <a:pt x="5180" y="5"/>
                    </a:lnTo>
                    <a:cubicBezTo>
                      <a:pt x="5179" y="5"/>
                      <a:pt x="5178" y="5"/>
                      <a:pt x="5178" y="3"/>
                    </a:cubicBezTo>
                    <a:cubicBezTo>
                      <a:pt x="5178" y="2"/>
                      <a:pt x="5179" y="1"/>
                      <a:pt x="5180" y="1"/>
                    </a:cubicBezTo>
                    <a:close/>
                    <a:moveTo>
                      <a:pt x="5188" y="1"/>
                    </a:moveTo>
                    <a:lnTo>
                      <a:pt x="5188" y="1"/>
                    </a:lnTo>
                    <a:cubicBezTo>
                      <a:pt x="5189" y="1"/>
                      <a:pt x="5190" y="2"/>
                      <a:pt x="5190" y="3"/>
                    </a:cubicBezTo>
                    <a:cubicBezTo>
                      <a:pt x="5190" y="5"/>
                      <a:pt x="5189" y="5"/>
                      <a:pt x="5188" y="5"/>
                    </a:cubicBezTo>
                    <a:lnTo>
                      <a:pt x="5188" y="5"/>
                    </a:lnTo>
                    <a:cubicBezTo>
                      <a:pt x="5187" y="5"/>
                      <a:pt x="5186" y="5"/>
                      <a:pt x="5186" y="3"/>
                    </a:cubicBezTo>
                    <a:cubicBezTo>
                      <a:pt x="5186" y="2"/>
                      <a:pt x="5187" y="1"/>
                      <a:pt x="5188" y="1"/>
                    </a:cubicBezTo>
                    <a:close/>
                    <a:moveTo>
                      <a:pt x="5196" y="1"/>
                    </a:moveTo>
                    <a:lnTo>
                      <a:pt x="5196" y="1"/>
                    </a:lnTo>
                    <a:cubicBezTo>
                      <a:pt x="5197" y="1"/>
                      <a:pt x="5198" y="2"/>
                      <a:pt x="5198" y="3"/>
                    </a:cubicBezTo>
                    <a:cubicBezTo>
                      <a:pt x="5198" y="5"/>
                      <a:pt x="5197" y="5"/>
                      <a:pt x="5196" y="5"/>
                    </a:cubicBezTo>
                    <a:lnTo>
                      <a:pt x="5196" y="5"/>
                    </a:lnTo>
                    <a:cubicBezTo>
                      <a:pt x="5195" y="5"/>
                      <a:pt x="5194" y="5"/>
                      <a:pt x="5194" y="3"/>
                    </a:cubicBezTo>
                    <a:cubicBezTo>
                      <a:pt x="5194" y="2"/>
                      <a:pt x="5195" y="1"/>
                      <a:pt x="5196" y="1"/>
                    </a:cubicBezTo>
                    <a:close/>
                    <a:moveTo>
                      <a:pt x="5204" y="1"/>
                    </a:moveTo>
                    <a:lnTo>
                      <a:pt x="5204" y="1"/>
                    </a:lnTo>
                    <a:cubicBezTo>
                      <a:pt x="5205" y="1"/>
                      <a:pt x="5206" y="2"/>
                      <a:pt x="5206" y="3"/>
                    </a:cubicBezTo>
                    <a:cubicBezTo>
                      <a:pt x="5206" y="5"/>
                      <a:pt x="5205" y="5"/>
                      <a:pt x="5204" y="5"/>
                    </a:cubicBezTo>
                    <a:lnTo>
                      <a:pt x="5204" y="5"/>
                    </a:lnTo>
                    <a:cubicBezTo>
                      <a:pt x="5203" y="5"/>
                      <a:pt x="5202" y="5"/>
                      <a:pt x="5202" y="3"/>
                    </a:cubicBezTo>
                    <a:cubicBezTo>
                      <a:pt x="5202" y="2"/>
                      <a:pt x="5203" y="1"/>
                      <a:pt x="5204" y="1"/>
                    </a:cubicBezTo>
                    <a:close/>
                    <a:moveTo>
                      <a:pt x="5212" y="1"/>
                    </a:moveTo>
                    <a:lnTo>
                      <a:pt x="5212" y="1"/>
                    </a:lnTo>
                    <a:cubicBezTo>
                      <a:pt x="5213" y="1"/>
                      <a:pt x="5214" y="2"/>
                      <a:pt x="5214" y="3"/>
                    </a:cubicBezTo>
                    <a:cubicBezTo>
                      <a:pt x="5214" y="5"/>
                      <a:pt x="5213" y="5"/>
                      <a:pt x="5212" y="5"/>
                    </a:cubicBezTo>
                    <a:lnTo>
                      <a:pt x="5212" y="5"/>
                    </a:lnTo>
                    <a:cubicBezTo>
                      <a:pt x="5211" y="5"/>
                      <a:pt x="5210" y="5"/>
                      <a:pt x="5210" y="3"/>
                    </a:cubicBezTo>
                    <a:cubicBezTo>
                      <a:pt x="5210" y="2"/>
                      <a:pt x="5211" y="1"/>
                      <a:pt x="5212" y="1"/>
                    </a:cubicBezTo>
                    <a:close/>
                    <a:moveTo>
                      <a:pt x="5220" y="1"/>
                    </a:moveTo>
                    <a:lnTo>
                      <a:pt x="5220" y="1"/>
                    </a:lnTo>
                    <a:cubicBezTo>
                      <a:pt x="5221" y="1"/>
                      <a:pt x="5222" y="2"/>
                      <a:pt x="5222" y="3"/>
                    </a:cubicBezTo>
                    <a:cubicBezTo>
                      <a:pt x="5222" y="5"/>
                      <a:pt x="5221" y="5"/>
                      <a:pt x="5220" y="5"/>
                    </a:cubicBezTo>
                    <a:lnTo>
                      <a:pt x="5220" y="5"/>
                    </a:lnTo>
                    <a:cubicBezTo>
                      <a:pt x="5219" y="5"/>
                      <a:pt x="5218" y="5"/>
                      <a:pt x="5218" y="3"/>
                    </a:cubicBezTo>
                    <a:cubicBezTo>
                      <a:pt x="5218" y="2"/>
                      <a:pt x="5219" y="1"/>
                      <a:pt x="5220" y="1"/>
                    </a:cubicBezTo>
                    <a:close/>
                    <a:moveTo>
                      <a:pt x="5228" y="1"/>
                    </a:moveTo>
                    <a:lnTo>
                      <a:pt x="5228" y="1"/>
                    </a:lnTo>
                    <a:cubicBezTo>
                      <a:pt x="5229" y="1"/>
                      <a:pt x="5230" y="2"/>
                      <a:pt x="5230" y="3"/>
                    </a:cubicBezTo>
                    <a:cubicBezTo>
                      <a:pt x="5230" y="5"/>
                      <a:pt x="5229" y="5"/>
                      <a:pt x="5228" y="5"/>
                    </a:cubicBezTo>
                    <a:lnTo>
                      <a:pt x="5228" y="5"/>
                    </a:lnTo>
                    <a:cubicBezTo>
                      <a:pt x="5227" y="5"/>
                      <a:pt x="5226" y="5"/>
                      <a:pt x="5226" y="3"/>
                    </a:cubicBezTo>
                    <a:cubicBezTo>
                      <a:pt x="5226" y="2"/>
                      <a:pt x="5227" y="1"/>
                      <a:pt x="5228" y="1"/>
                    </a:cubicBezTo>
                    <a:close/>
                    <a:moveTo>
                      <a:pt x="5236" y="1"/>
                    </a:moveTo>
                    <a:lnTo>
                      <a:pt x="5236" y="1"/>
                    </a:lnTo>
                    <a:cubicBezTo>
                      <a:pt x="5237" y="1"/>
                      <a:pt x="5238" y="2"/>
                      <a:pt x="5238" y="3"/>
                    </a:cubicBezTo>
                    <a:cubicBezTo>
                      <a:pt x="5238" y="5"/>
                      <a:pt x="5237" y="5"/>
                      <a:pt x="5236" y="5"/>
                    </a:cubicBezTo>
                    <a:lnTo>
                      <a:pt x="5236" y="5"/>
                    </a:lnTo>
                    <a:cubicBezTo>
                      <a:pt x="5235" y="5"/>
                      <a:pt x="5234" y="5"/>
                      <a:pt x="5234" y="3"/>
                    </a:cubicBezTo>
                    <a:cubicBezTo>
                      <a:pt x="5234" y="2"/>
                      <a:pt x="5235" y="1"/>
                      <a:pt x="5236" y="1"/>
                    </a:cubicBezTo>
                    <a:close/>
                    <a:moveTo>
                      <a:pt x="5244" y="1"/>
                    </a:moveTo>
                    <a:lnTo>
                      <a:pt x="5244" y="1"/>
                    </a:lnTo>
                    <a:cubicBezTo>
                      <a:pt x="5245" y="1"/>
                      <a:pt x="5246" y="2"/>
                      <a:pt x="5246" y="3"/>
                    </a:cubicBezTo>
                    <a:cubicBezTo>
                      <a:pt x="5246" y="5"/>
                      <a:pt x="5245" y="5"/>
                      <a:pt x="5244" y="5"/>
                    </a:cubicBezTo>
                    <a:lnTo>
                      <a:pt x="5244" y="5"/>
                    </a:lnTo>
                    <a:cubicBezTo>
                      <a:pt x="5243" y="5"/>
                      <a:pt x="5242" y="5"/>
                      <a:pt x="5242" y="3"/>
                    </a:cubicBezTo>
                    <a:cubicBezTo>
                      <a:pt x="5242" y="2"/>
                      <a:pt x="5243" y="1"/>
                      <a:pt x="5244" y="1"/>
                    </a:cubicBezTo>
                    <a:close/>
                    <a:moveTo>
                      <a:pt x="5252" y="1"/>
                    </a:moveTo>
                    <a:lnTo>
                      <a:pt x="5252" y="1"/>
                    </a:lnTo>
                    <a:cubicBezTo>
                      <a:pt x="5253" y="1"/>
                      <a:pt x="5254" y="2"/>
                      <a:pt x="5254" y="3"/>
                    </a:cubicBezTo>
                    <a:cubicBezTo>
                      <a:pt x="5254" y="5"/>
                      <a:pt x="5253" y="5"/>
                      <a:pt x="5252" y="5"/>
                    </a:cubicBezTo>
                    <a:lnTo>
                      <a:pt x="5252" y="5"/>
                    </a:lnTo>
                    <a:cubicBezTo>
                      <a:pt x="5251" y="5"/>
                      <a:pt x="5250" y="5"/>
                      <a:pt x="5250" y="3"/>
                    </a:cubicBezTo>
                    <a:cubicBezTo>
                      <a:pt x="5250" y="2"/>
                      <a:pt x="5251" y="1"/>
                      <a:pt x="5252" y="1"/>
                    </a:cubicBezTo>
                    <a:close/>
                    <a:moveTo>
                      <a:pt x="5260" y="1"/>
                    </a:moveTo>
                    <a:lnTo>
                      <a:pt x="5260" y="1"/>
                    </a:lnTo>
                    <a:cubicBezTo>
                      <a:pt x="5261" y="1"/>
                      <a:pt x="5262" y="2"/>
                      <a:pt x="5262" y="3"/>
                    </a:cubicBezTo>
                    <a:cubicBezTo>
                      <a:pt x="5262" y="5"/>
                      <a:pt x="5261" y="5"/>
                      <a:pt x="5260" y="5"/>
                    </a:cubicBezTo>
                    <a:lnTo>
                      <a:pt x="5260" y="5"/>
                    </a:lnTo>
                    <a:cubicBezTo>
                      <a:pt x="5259" y="5"/>
                      <a:pt x="5258" y="5"/>
                      <a:pt x="5258" y="3"/>
                    </a:cubicBezTo>
                    <a:cubicBezTo>
                      <a:pt x="5258" y="2"/>
                      <a:pt x="5259" y="1"/>
                      <a:pt x="5260" y="1"/>
                    </a:cubicBezTo>
                    <a:close/>
                    <a:moveTo>
                      <a:pt x="5268" y="1"/>
                    </a:moveTo>
                    <a:lnTo>
                      <a:pt x="5268" y="1"/>
                    </a:lnTo>
                    <a:cubicBezTo>
                      <a:pt x="5270" y="1"/>
                      <a:pt x="5270" y="2"/>
                      <a:pt x="5270" y="3"/>
                    </a:cubicBezTo>
                    <a:cubicBezTo>
                      <a:pt x="5270" y="5"/>
                      <a:pt x="5270" y="5"/>
                      <a:pt x="5268" y="5"/>
                    </a:cubicBezTo>
                    <a:lnTo>
                      <a:pt x="5268" y="5"/>
                    </a:lnTo>
                    <a:cubicBezTo>
                      <a:pt x="5267" y="5"/>
                      <a:pt x="5266" y="5"/>
                      <a:pt x="5266" y="3"/>
                    </a:cubicBezTo>
                    <a:cubicBezTo>
                      <a:pt x="5266" y="2"/>
                      <a:pt x="5267" y="1"/>
                      <a:pt x="5268" y="1"/>
                    </a:cubicBezTo>
                    <a:close/>
                    <a:moveTo>
                      <a:pt x="5276" y="1"/>
                    </a:moveTo>
                    <a:lnTo>
                      <a:pt x="5276" y="1"/>
                    </a:lnTo>
                    <a:cubicBezTo>
                      <a:pt x="5278" y="1"/>
                      <a:pt x="5278" y="2"/>
                      <a:pt x="5278" y="3"/>
                    </a:cubicBezTo>
                    <a:cubicBezTo>
                      <a:pt x="5278" y="5"/>
                      <a:pt x="5278" y="5"/>
                      <a:pt x="5276" y="5"/>
                    </a:cubicBezTo>
                    <a:lnTo>
                      <a:pt x="5276" y="5"/>
                    </a:lnTo>
                    <a:cubicBezTo>
                      <a:pt x="5275" y="5"/>
                      <a:pt x="5274" y="5"/>
                      <a:pt x="5274" y="3"/>
                    </a:cubicBezTo>
                    <a:cubicBezTo>
                      <a:pt x="5274" y="2"/>
                      <a:pt x="5275" y="1"/>
                      <a:pt x="5276" y="1"/>
                    </a:cubicBezTo>
                    <a:close/>
                    <a:moveTo>
                      <a:pt x="5284" y="1"/>
                    </a:moveTo>
                    <a:lnTo>
                      <a:pt x="5284" y="1"/>
                    </a:lnTo>
                    <a:cubicBezTo>
                      <a:pt x="5286" y="1"/>
                      <a:pt x="5286" y="2"/>
                      <a:pt x="5286" y="3"/>
                    </a:cubicBezTo>
                    <a:cubicBezTo>
                      <a:pt x="5286" y="5"/>
                      <a:pt x="5286" y="5"/>
                      <a:pt x="5284" y="5"/>
                    </a:cubicBezTo>
                    <a:lnTo>
                      <a:pt x="5284" y="5"/>
                    </a:lnTo>
                    <a:cubicBezTo>
                      <a:pt x="5283" y="5"/>
                      <a:pt x="5282" y="5"/>
                      <a:pt x="5282" y="3"/>
                    </a:cubicBezTo>
                    <a:cubicBezTo>
                      <a:pt x="5282" y="2"/>
                      <a:pt x="5283" y="1"/>
                      <a:pt x="5284" y="1"/>
                    </a:cubicBezTo>
                    <a:close/>
                    <a:moveTo>
                      <a:pt x="5292" y="1"/>
                    </a:moveTo>
                    <a:lnTo>
                      <a:pt x="5292" y="1"/>
                    </a:lnTo>
                    <a:cubicBezTo>
                      <a:pt x="5294" y="1"/>
                      <a:pt x="5294" y="2"/>
                      <a:pt x="5294" y="3"/>
                    </a:cubicBezTo>
                    <a:cubicBezTo>
                      <a:pt x="5294" y="5"/>
                      <a:pt x="5294" y="5"/>
                      <a:pt x="5292" y="5"/>
                    </a:cubicBezTo>
                    <a:lnTo>
                      <a:pt x="5292" y="5"/>
                    </a:lnTo>
                    <a:cubicBezTo>
                      <a:pt x="5291" y="5"/>
                      <a:pt x="5290" y="5"/>
                      <a:pt x="5290" y="3"/>
                    </a:cubicBezTo>
                    <a:cubicBezTo>
                      <a:pt x="5290" y="2"/>
                      <a:pt x="5291" y="1"/>
                      <a:pt x="5292" y="1"/>
                    </a:cubicBezTo>
                    <a:close/>
                    <a:moveTo>
                      <a:pt x="5300" y="1"/>
                    </a:moveTo>
                    <a:lnTo>
                      <a:pt x="5300" y="1"/>
                    </a:lnTo>
                    <a:cubicBezTo>
                      <a:pt x="5302" y="1"/>
                      <a:pt x="5302" y="2"/>
                      <a:pt x="5302" y="3"/>
                    </a:cubicBezTo>
                    <a:cubicBezTo>
                      <a:pt x="5302" y="5"/>
                      <a:pt x="5302" y="5"/>
                      <a:pt x="5300" y="5"/>
                    </a:cubicBezTo>
                    <a:lnTo>
                      <a:pt x="5300" y="5"/>
                    </a:lnTo>
                    <a:cubicBezTo>
                      <a:pt x="5299" y="5"/>
                      <a:pt x="5298" y="5"/>
                      <a:pt x="5298" y="3"/>
                    </a:cubicBezTo>
                    <a:cubicBezTo>
                      <a:pt x="5298" y="2"/>
                      <a:pt x="5299" y="1"/>
                      <a:pt x="5300" y="1"/>
                    </a:cubicBezTo>
                    <a:close/>
                    <a:moveTo>
                      <a:pt x="5308" y="1"/>
                    </a:moveTo>
                    <a:lnTo>
                      <a:pt x="5308" y="1"/>
                    </a:lnTo>
                    <a:cubicBezTo>
                      <a:pt x="5310" y="1"/>
                      <a:pt x="5310" y="2"/>
                      <a:pt x="5310" y="3"/>
                    </a:cubicBezTo>
                    <a:cubicBezTo>
                      <a:pt x="5310" y="5"/>
                      <a:pt x="5310" y="5"/>
                      <a:pt x="5308" y="5"/>
                    </a:cubicBezTo>
                    <a:lnTo>
                      <a:pt x="5308" y="5"/>
                    </a:lnTo>
                    <a:cubicBezTo>
                      <a:pt x="5307" y="5"/>
                      <a:pt x="5306" y="5"/>
                      <a:pt x="5306" y="3"/>
                    </a:cubicBezTo>
                    <a:cubicBezTo>
                      <a:pt x="5306" y="2"/>
                      <a:pt x="5307" y="1"/>
                      <a:pt x="5308" y="1"/>
                    </a:cubicBezTo>
                    <a:close/>
                    <a:moveTo>
                      <a:pt x="5316" y="1"/>
                    </a:moveTo>
                    <a:lnTo>
                      <a:pt x="5316" y="1"/>
                    </a:lnTo>
                    <a:cubicBezTo>
                      <a:pt x="5318" y="1"/>
                      <a:pt x="5318" y="2"/>
                      <a:pt x="5318" y="3"/>
                    </a:cubicBezTo>
                    <a:cubicBezTo>
                      <a:pt x="5318" y="5"/>
                      <a:pt x="5318" y="5"/>
                      <a:pt x="5316" y="5"/>
                    </a:cubicBezTo>
                    <a:lnTo>
                      <a:pt x="5316" y="5"/>
                    </a:lnTo>
                    <a:cubicBezTo>
                      <a:pt x="5315" y="5"/>
                      <a:pt x="5314" y="5"/>
                      <a:pt x="5314" y="3"/>
                    </a:cubicBezTo>
                    <a:cubicBezTo>
                      <a:pt x="5314" y="2"/>
                      <a:pt x="5315" y="1"/>
                      <a:pt x="5316" y="1"/>
                    </a:cubicBezTo>
                    <a:close/>
                    <a:moveTo>
                      <a:pt x="5324" y="1"/>
                    </a:moveTo>
                    <a:lnTo>
                      <a:pt x="5324" y="1"/>
                    </a:lnTo>
                    <a:cubicBezTo>
                      <a:pt x="5326" y="1"/>
                      <a:pt x="5326" y="2"/>
                      <a:pt x="5326" y="3"/>
                    </a:cubicBezTo>
                    <a:cubicBezTo>
                      <a:pt x="5326" y="5"/>
                      <a:pt x="5326" y="5"/>
                      <a:pt x="5324" y="5"/>
                    </a:cubicBezTo>
                    <a:lnTo>
                      <a:pt x="5324" y="5"/>
                    </a:lnTo>
                    <a:cubicBezTo>
                      <a:pt x="5323" y="5"/>
                      <a:pt x="5322" y="5"/>
                      <a:pt x="5322" y="3"/>
                    </a:cubicBezTo>
                    <a:cubicBezTo>
                      <a:pt x="5322" y="2"/>
                      <a:pt x="5323" y="1"/>
                      <a:pt x="5324" y="1"/>
                    </a:cubicBezTo>
                    <a:close/>
                    <a:moveTo>
                      <a:pt x="5332" y="1"/>
                    </a:moveTo>
                    <a:lnTo>
                      <a:pt x="5332" y="1"/>
                    </a:lnTo>
                    <a:cubicBezTo>
                      <a:pt x="5334" y="1"/>
                      <a:pt x="5334" y="2"/>
                      <a:pt x="5334" y="3"/>
                    </a:cubicBezTo>
                    <a:cubicBezTo>
                      <a:pt x="5334" y="5"/>
                      <a:pt x="5334" y="5"/>
                      <a:pt x="5332" y="5"/>
                    </a:cubicBezTo>
                    <a:lnTo>
                      <a:pt x="5332" y="5"/>
                    </a:lnTo>
                    <a:cubicBezTo>
                      <a:pt x="5331" y="5"/>
                      <a:pt x="5330" y="5"/>
                      <a:pt x="5330" y="3"/>
                    </a:cubicBezTo>
                    <a:cubicBezTo>
                      <a:pt x="5330" y="2"/>
                      <a:pt x="5331" y="1"/>
                      <a:pt x="5332" y="1"/>
                    </a:cubicBezTo>
                    <a:close/>
                    <a:moveTo>
                      <a:pt x="5340" y="1"/>
                    </a:moveTo>
                    <a:lnTo>
                      <a:pt x="5340" y="1"/>
                    </a:lnTo>
                    <a:cubicBezTo>
                      <a:pt x="5342" y="1"/>
                      <a:pt x="5342" y="2"/>
                      <a:pt x="5342" y="3"/>
                    </a:cubicBezTo>
                    <a:cubicBezTo>
                      <a:pt x="5342" y="5"/>
                      <a:pt x="5342" y="5"/>
                      <a:pt x="5340" y="5"/>
                    </a:cubicBezTo>
                    <a:lnTo>
                      <a:pt x="5340" y="5"/>
                    </a:lnTo>
                    <a:cubicBezTo>
                      <a:pt x="5339" y="5"/>
                      <a:pt x="5338" y="5"/>
                      <a:pt x="5338" y="3"/>
                    </a:cubicBezTo>
                    <a:cubicBezTo>
                      <a:pt x="5338" y="2"/>
                      <a:pt x="5339" y="1"/>
                      <a:pt x="5340" y="1"/>
                    </a:cubicBezTo>
                    <a:close/>
                    <a:moveTo>
                      <a:pt x="5348" y="1"/>
                    </a:moveTo>
                    <a:lnTo>
                      <a:pt x="5348" y="1"/>
                    </a:lnTo>
                    <a:cubicBezTo>
                      <a:pt x="5350" y="1"/>
                      <a:pt x="5350" y="2"/>
                      <a:pt x="5350" y="3"/>
                    </a:cubicBezTo>
                    <a:cubicBezTo>
                      <a:pt x="5350" y="5"/>
                      <a:pt x="5350" y="5"/>
                      <a:pt x="5348" y="5"/>
                    </a:cubicBezTo>
                    <a:lnTo>
                      <a:pt x="5348" y="5"/>
                    </a:lnTo>
                    <a:cubicBezTo>
                      <a:pt x="5347" y="5"/>
                      <a:pt x="5346" y="5"/>
                      <a:pt x="5346" y="3"/>
                    </a:cubicBezTo>
                    <a:cubicBezTo>
                      <a:pt x="5346" y="2"/>
                      <a:pt x="5347" y="1"/>
                      <a:pt x="5348" y="1"/>
                    </a:cubicBezTo>
                    <a:close/>
                    <a:moveTo>
                      <a:pt x="5356" y="1"/>
                    </a:moveTo>
                    <a:lnTo>
                      <a:pt x="5356" y="1"/>
                    </a:lnTo>
                    <a:cubicBezTo>
                      <a:pt x="5358" y="1"/>
                      <a:pt x="5358" y="2"/>
                      <a:pt x="5358" y="3"/>
                    </a:cubicBezTo>
                    <a:cubicBezTo>
                      <a:pt x="5358" y="5"/>
                      <a:pt x="5358" y="5"/>
                      <a:pt x="5356" y="5"/>
                    </a:cubicBezTo>
                    <a:lnTo>
                      <a:pt x="5356" y="5"/>
                    </a:lnTo>
                    <a:cubicBezTo>
                      <a:pt x="5355" y="5"/>
                      <a:pt x="5354" y="5"/>
                      <a:pt x="5354" y="3"/>
                    </a:cubicBezTo>
                    <a:cubicBezTo>
                      <a:pt x="5354" y="2"/>
                      <a:pt x="5355" y="1"/>
                      <a:pt x="5356" y="1"/>
                    </a:cubicBezTo>
                    <a:close/>
                    <a:moveTo>
                      <a:pt x="5364" y="1"/>
                    </a:moveTo>
                    <a:lnTo>
                      <a:pt x="5364" y="1"/>
                    </a:lnTo>
                    <a:cubicBezTo>
                      <a:pt x="5366" y="1"/>
                      <a:pt x="5366" y="2"/>
                      <a:pt x="5366" y="3"/>
                    </a:cubicBezTo>
                    <a:cubicBezTo>
                      <a:pt x="5366" y="5"/>
                      <a:pt x="5366" y="5"/>
                      <a:pt x="5364" y="5"/>
                    </a:cubicBezTo>
                    <a:lnTo>
                      <a:pt x="5364" y="5"/>
                    </a:lnTo>
                    <a:cubicBezTo>
                      <a:pt x="5363" y="5"/>
                      <a:pt x="5362" y="5"/>
                      <a:pt x="5362" y="3"/>
                    </a:cubicBezTo>
                    <a:cubicBezTo>
                      <a:pt x="5362" y="2"/>
                      <a:pt x="5363" y="1"/>
                      <a:pt x="5364" y="1"/>
                    </a:cubicBezTo>
                    <a:close/>
                    <a:moveTo>
                      <a:pt x="5372" y="1"/>
                    </a:moveTo>
                    <a:lnTo>
                      <a:pt x="5372" y="1"/>
                    </a:lnTo>
                    <a:cubicBezTo>
                      <a:pt x="5374" y="1"/>
                      <a:pt x="5374" y="2"/>
                      <a:pt x="5374" y="3"/>
                    </a:cubicBezTo>
                    <a:cubicBezTo>
                      <a:pt x="5374" y="5"/>
                      <a:pt x="5374" y="5"/>
                      <a:pt x="5372" y="5"/>
                    </a:cubicBezTo>
                    <a:lnTo>
                      <a:pt x="5372" y="5"/>
                    </a:lnTo>
                    <a:cubicBezTo>
                      <a:pt x="5371" y="5"/>
                      <a:pt x="5370" y="5"/>
                      <a:pt x="5370" y="3"/>
                    </a:cubicBezTo>
                    <a:cubicBezTo>
                      <a:pt x="5370" y="2"/>
                      <a:pt x="5371" y="1"/>
                      <a:pt x="5372" y="1"/>
                    </a:cubicBezTo>
                    <a:close/>
                    <a:moveTo>
                      <a:pt x="5380" y="1"/>
                    </a:moveTo>
                    <a:lnTo>
                      <a:pt x="5380" y="1"/>
                    </a:lnTo>
                    <a:cubicBezTo>
                      <a:pt x="5382" y="1"/>
                      <a:pt x="5382" y="2"/>
                      <a:pt x="5382" y="3"/>
                    </a:cubicBezTo>
                    <a:cubicBezTo>
                      <a:pt x="5382" y="5"/>
                      <a:pt x="5382" y="5"/>
                      <a:pt x="5380" y="5"/>
                    </a:cubicBezTo>
                    <a:lnTo>
                      <a:pt x="5380" y="5"/>
                    </a:lnTo>
                    <a:cubicBezTo>
                      <a:pt x="5379" y="5"/>
                      <a:pt x="5378" y="5"/>
                      <a:pt x="5378" y="3"/>
                    </a:cubicBezTo>
                    <a:cubicBezTo>
                      <a:pt x="5378" y="2"/>
                      <a:pt x="5379" y="1"/>
                      <a:pt x="5380" y="1"/>
                    </a:cubicBezTo>
                    <a:close/>
                    <a:moveTo>
                      <a:pt x="5388" y="1"/>
                    </a:moveTo>
                    <a:lnTo>
                      <a:pt x="5388" y="1"/>
                    </a:lnTo>
                    <a:cubicBezTo>
                      <a:pt x="5390" y="1"/>
                      <a:pt x="5390" y="2"/>
                      <a:pt x="5390" y="3"/>
                    </a:cubicBezTo>
                    <a:cubicBezTo>
                      <a:pt x="5390" y="5"/>
                      <a:pt x="5390" y="5"/>
                      <a:pt x="5388" y="5"/>
                    </a:cubicBezTo>
                    <a:lnTo>
                      <a:pt x="5388" y="5"/>
                    </a:lnTo>
                    <a:cubicBezTo>
                      <a:pt x="5387" y="5"/>
                      <a:pt x="5386" y="5"/>
                      <a:pt x="5386" y="3"/>
                    </a:cubicBezTo>
                    <a:cubicBezTo>
                      <a:pt x="5386" y="2"/>
                      <a:pt x="5387" y="1"/>
                      <a:pt x="5388" y="1"/>
                    </a:cubicBezTo>
                    <a:close/>
                    <a:moveTo>
                      <a:pt x="5396" y="1"/>
                    </a:moveTo>
                    <a:lnTo>
                      <a:pt x="5396" y="1"/>
                    </a:lnTo>
                    <a:cubicBezTo>
                      <a:pt x="5398" y="1"/>
                      <a:pt x="5398" y="2"/>
                      <a:pt x="5398" y="3"/>
                    </a:cubicBezTo>
                    <a:cubicBezTo>
                      <a:pt x="5398" y="5"/>
                      <a:pt x="5398" y="5"/>
                      <a:pt x="5396" y="5"/>
                    </a:cubicBezTo>
                    <a:lnTo>
                      <a:pt x="5396" y="5"/>
                    </a:lnTo>
                    <a:cubicBezTo>
                      <a:pt x="5395" y="5"/>
                      <a:pt x="5394" y="5"/>
                      <a:pt x="5394" y="3"/>
                    </a:cubicBezTo>
                    <a:cubicBezTo>
                      <a:pt x="5394" y="2"/>
                      <a:pt x="5395" y="1"/>
                      <a:pt x="5396" y="1"/>
                    </a:cubicBezTo>
                    <a:close/>
                    <a:moveTo>
                      <a:pt x="5404" y="1"/>
                    </a:moveTo>
                    <a:lnTo>
                      <a:pt x="5404" y="1"/>
                    </a:lnTo>
                    <a:cubicBezTo>
                      <a:pt x="5406" y="1"/>
                      <a:pt x="5406" y="2"/>
                      <a:pt x="5406" y="3"/>
                    </a:cubicBezTo>
                    <a:cubicBezTo>
                      <a:pt x="5406" y="5"/>
                      <a:pt x="5406" y="5"/>
                      <a:pt x="5404" y="5"/>
                    </a:cubicBezTo>
                    <a:lnTo>
                      <a:pt x="5404" y="5"/>
                    </a:lnTo>
                    <a:cubicBezTo>
                      <a:pt x="5403" y="5"/>
                      <a:pt x="5402" y="5"/>
                      <a:pt x="5402" y="3"/>
                    </a:cubicBezTo>
                    <a:cubicBezTo>
                      <a:pt x="5402" y="2"/>
                      <a:pt x="5403" y="1"/>
                      <a:pt x="5404" y="1"/>
                    </a:cubicBezTo>
                    <a:close/>
                    <a:moveTo>
                      <a:pt x="5412" y="1"/>
                    </a:moveTo>
                    <a:lnTo>
                      <a:pt x="5412" y="1"/>
                    </a:lnTo>
                    <a:cubicBezTo>
                      <a:pt x="5414" y="1"/>
                      <a:pt x="5414" y="2"/>
                      <a:pt x="5414" y="3"/>
                    </a:cubicBezTo>
                    <a:cubicBezTo>
                      <a:pt x="5414" y="5"/>
                      <a:pt x="5414" y="5"/>
                      <a:pt x="5412" y="5"/>
                    </a:cubicBezTo>
                    <a:lnTo>
                      <a:pt x="5412" y="5"/>
                    </a:lnTo>
                    <a:cubicBezTo>
                      <a:pt x="5411" y="5"/>
                      <a:pt x="5410" y="5"/>
                      <a:pt x="5410" y="3"/>
                    </a:cubicBezTo>
                    <a:cubicBezTo>
                      <a:pt x="5410" y="2"/>
                      <a:pt x="5411" y="1"/>
                      <a:pt x="5412" y="1"/>
                    </a:cubicBezTo>
                    <a:close/>
                    <a:moveTo>
                      <a:pt x="5420" y="1"/>
                    </a:moveTo>
                    <a:lnTo>
                      <a:pt x="5420" y="1"/>
                    </a:lnTo>
                    <a:cubicBezTo>
                      <a:pt x="5422" y="1"/>
                      <a:pt x="5422" y="2"/>
                      <a:pt x="5422" y="3"/>
                    </a:cubicBezTo>
                    <a:cubicBezTo>
                      <a:pt x="5422" y="5"/>
                      <a:pt x="5422" y="5"/>
                      <a:pt x="5420" y="5"/>
                    </a:cubicBezTo>
                    <a:lnTo>
                      <a:pt x="5420" y="5"/>
                    </a:lnTo>
                    <a:cubicBezTo>
                      <a:pt x="5419" y="5"/>
                      <a:pt x="5418" y="5"/>
                      <a:pt x="5418" y="3"/>
                    </a:cubicBezTo>
                    <a:cubicBezTo>
                      <a:pt x="5418" y="2"/>
                      <a:pt x="5419" y="1"/>
                      <a:pt x="5420" y="1"/>
                    </a:cubicBezTo>
                    <a:close/>
                    <a:moveTo>
                      <a:pt x="5428" y="1"/>
                    </a:moveTo>
                    <a:lnTo>
                      <a:pt x="5428" y="1"/>
                    </a:lnTo>
                    <a:cubicBezTo>
                      <a:pt x="5430" y="1"/>
                      <a:pt x="5430" y="2"/>
                      <a:pt x="5430" y="3"/>
                    </a:cubicBezTo>
                    <a:cubicBezTo>
                      <a:pt x="5430" y="5"/>
                      <a:pt x="5430" y="5"/>
                      <a:pt x="5428" y="5"/>
                    </a:cubicBezTo>
                    <a:lnTo>
                      <a:pt x="5428" y="5"/>
                    </a:lnTo>
                    <a:cubicBezTo>
                      <a:pt x="5427" y="5"/>
                      <a:pt x="5426" y="5"/>
                      <a:pt x="5426" y="3"/>
                    </a:cubicBezTo>
                    <a:cubicBezTo>
                      <a:pt x="5426" y="2"/>
                      <a:pt x="5427" y="1"/>
                      <a:pt x="5428" y="1"/>
                    </a:cubicBezTo>
                    <a:close/>
                    <a:moveTo>
                      <a:pt x="5436" y="1"/>
                    </a:moveTo>
                    <a:lnTo>
                      <a:pt x="5436" y="1"/>
                    </a:lnTo>
                    <a:cubicBezTo>
                      <a:pt x="5438" y="1"/>
                      <a:pt x="5438" y="2"/>
                      <a:pt x="5438" y="3"/>
                    </a:cubicBezTo>
                    <a:cubicBezTo>
                      <a:pt x="5438" y="5"/>
                      <a:pt x="5438" y="5"/>
                      <a:pt x="5436" y="5"/>
                    </a:cubicBezTo>
                    <a:lnTo>
                      <a:pt x="5436" y="5"/>
                    </a:lnTo>
                    <a:cubicBezTo>
                      <a:pt x="5435" y="5"/>
                      <a:pt x="5434" y="5"/>
                      <a:pt x="5434" y="3"/>
                    </a:cubicBezTo>
                    <a:cubicBezTo>
                      <a:pt x="5434" y="2"/>
                      <a:pt x="5435" y="1"/>
                      <a:pt x="5436" y="1"/>
                    </a:cubicBezTo>
                    <a:close/>
                    <a:moveTo>
                      <a:pt x="5444" y="1"/>
                    </a:moveTo>
                    <a:lnTo>
                      <a:pt x="5444" y="1"/>
                    </a:lnTo>
                    <a:cubicBezTo>
                      <a:pt x="5446" y="1"/>
                      <a:pt x="5446" y="2"/>
                      <a:pt x="5446" y="3"/>
                    </a:cubicBezTo>
                    <a:cubicBezTo>
                      <a:pt x="5446" y="5"/>
                      <a:pt x="5446" y="5"/>
                      <a:pt x="5444" y="5"/>
                    </a:cubicBezTo>
                    <a:lnTo>
                      <a:pt x="5444" y="5"/>
                    </a:lnTo>
                    <a:cubicBezTo>
                      <a:pt x="5443" y="5"/>
                      <a:pt x="5442" y="5"/>
                      <a:pt x="5442" y="3"/>
                    </a:cubicBezTo>
                    <a:cubicBezTo>
                      <a:pt x="5442" y="2"/>
                      <a:pt x="5443" y="1"/>
                      <a:pt x="5444" y="1"/>
                    </a:cubicBezTo>
                    <a:close/>
                    <a:moveTo>
                      <a:pt x="5452" y="1"/>
                    </a:moveTo>
                    <a:lnTo>
                      <a:pt x="5452" y="1"/>
                    </a:lnTo>
                    <a:cubicBezTo>
                      <a:pt x="5454" y="1"/>
                      <a:pt x="5454" y="2"/>
                      <a:pt x="5454" y="3"/>
                    </a:cubicBezTo>
                    <a:cubicBezTo>
                      <a:pt x="5454" y="5"/>
                      <a:pt x="5454" y="5"/>
                      <a:pt x="5452" y="5"/>
                    </a:cubicBezTo>
                    <a:lnTo>
                      <a:pt x="5452" y="5"/>
                    </a:lnTo>
                    <a:cubicBezTo>
                      <a:pt x="5451" y="5"/>
                      <a:pt x="5450" y="5"/>
                      <a:pt x="5450" y="3"/>
                    </a:cubicBezTo>
                    <a:cubicBezTo>
                      <a:pt x="5450" y="2"/>
                      <a:pt x="5451" y="1"/>
                      <a:pt x="5452" y="1"/>
                    </a:cubicBezTo>
                    <a:close/>
                    <a:moveTo>
                      <a:pt x="5460" y="1"/>
                    </a:moveTo>
                    <a:lnTo>
                      <a:pt x="5460" y="1"/>
                    </a:lnTo>
                    <a:cubicBezTo>
                      <a:pt x="5462" y="1"/>
                      <a:pt x="5462" y="2"/>
                      <a:pt x="5462" y="3"/>
                    </a:cubicBezTo>
                    <a:cubicBezTo>
                      <a:pt x="5462" y="5"/>
                      <a:pt x="5462" y="5"/>
                      <a:pt x="5460" y="5"/>
                    </a:cubicBezTo>
                    <a:lnTo>
                      <a:pt x="5460" y="5"/>
                    </a:lnTo>
                    <a:cubicBezTo>
                      <a:pt x="5459" y="5"/>
                      <a:pt x="5458" y="5"/>
                      <a:pt x="5458" y="3"/>
                    </a:cubicBezTo>
                    <a:cubicBezTo>
                      <a:pt x="5458" y="2"/>
                      <a:pt x="5459" y="1"/>
                      <a:pt x="5460" y="1"/>
                    </a:cubicBezTo>
                    <a:close/>
                    <a:moveTo>
                      <a:pt x="5468" y="1"/>
                    </a:moveTo>
                    <a:lnTo>
                      <a:pt x="5468" y="1"/>
                    </a:lnTo>
                    <a:cubicBezTo>
                      <a:pt x="5470" y="1"/>
                      <a:pt x="5470" y="2"/>
                      <a:pt x="5470" y="3"/>
                    </a:cubicBezTo>
                    <a:cubicBezTo>
                      <a:pt x="5470" y="5"/>
                      <a:pt x="5470" y="5"/>
                      <a:pt x="5468" y="5"/>
                    </a:cubicBezTo>
                    <a:lnTo>
                      <a:pt x="5468" y="5"/>
                    </a:lnTo>
                    <a:cubicBezTo>
                      <a:pt x="5467" y="5"/>
                      <a:pt x="5466" y="5"/>
                      <a:pt x="5466" y="3"/>
                    </a:cubicBezTo>
                    <a:cubicBezTo>
                      <a:pt x="5466" y="2"/>
                      <a:pt x="5467" y="1"/>
                      <a:pt x="5468" y="1"/>
                    </a:cubicBezTo>
                    <a:close/>
                    <a:moveTo>
                      <a:pt x="5476" y="1"/>
                    </a:moveTo>
                    <a:lnTo>
                      <a:pt x="5476" y="1"/>
                    </a:lnTo>
                    <a:cubicBezTo>
                      <a:pt x="5478" y="1"/>
                      <a:pt x="5478" y="2"/>
                      <a:pt x="5478" y="3"/>
                    </a:cubicBezTo>
                    <a:cubicBezTo>
                      <a:pt x="5478" y="5"/>
                      <a:pt x="5478" y="5"/>
                      <a:pt x="5476" y="5"/>
                    </a:cubicBezTo>
                    <a:lnTo>
                      <a:pt x="5476" y="5"/>
                    </a:lnTo>
                    <a:cubicBezTo>
                      <a:pt x="5475" y="5"/>
                      <a:pt x="5474" y="5"/>
                      <a:pt x="5474" y="3"/>
                    </a:cubicBezTo>
                    <a:cubicBezTo>
                      <a:pt x="5474" y="2"/>
                      <a:pt x="5475" y="1"/>
                      <a:pt x="5476" y="1"/>
                    </a:cubicBezTo>
                    <a:close/>
                    <a:moveTo>
                      <a:pt x="5484" y="1"/>
                    </a:moveTo>
                    <a:lnTo>
                      <a:pt x="5485" y="1"/>
                    </a:lnTo>
                    <a:cubicBezTo>
                      <a:pt x="5486" y="1"/>
                      <a:pt x="5487" y="2"/>
                      <a:pt x="5487" y="3"/>
                    </a:cubicBezTo>
                    <a:cubicBezTo>
                      <a:pt x="5487" y="5"/>
                      <a:pt x="5486" y="5"/>
                      <a:pt x="5485" y="5"/>
                    </a:cubicBezTo>
                    <a:lnTo>
                      <a:pt x="5484" y="5"/>
                    </a:lnTo>
                    <a:cubicBezTo>
                      <a:pt x="5483" y="5"/>
                      <a:pt x="5482" y="5"/>
                      <a:pt x="5482" y="3"/>
                    </a:cubicBezTo>
                    <a:cubicBezTo>
                      <a:pt x="5482" y="2"/>
                      <a:pt x="5483" y="1"/>
                      <a:pt x="5484" y="1"/>
                    </a:cubicBezTo>
                    <a:close/>
                    <a:moveTo>
                      <a:pt x="5493" y="1"/>
                    </a:moveTo>
                    <a:lnTo>
                      <a:pt x="5493" y="1"/>
                    </a:lnTo>
                    <a:cubicBezTo>
                      <a:pt x="5494" y="1"/>
                      <a:pt x="5495" y="2"/>
                      <a:pt x="5495" y="3"/>
                    </a:cubicBezTo>
                    <a:cubicBezTo>
                      <a:pt x="5495" y="5"/>
                      <a:pt x="5494" y="5"/>
                      <a:pt x="5493" y="5"/>
                    </a:cubicBezTo>
                    <a:lnTo>
                      <a:pt x="5493" y="5"/>
                    </a:lnTo>
                    <a:cubicBezTo>
                      <a:pt x="5491" y="5"/>
                      <a:pt x="5491" y="5"/>
                      <a:pt x="5491" y="3"/>
                    </a:cubicBezTo>
                    <a:cubicBezTo>
                      <a:pt x="5491" y="2"/>
                      <a:pt x="5491" y="1"/>
                      <a:pt x="5493" y="1"/>
                    </a:cubicBezTo>
                    <a:close/>
                    <a:moveTo>
                      <a:pt x="5501" y="1"/>
                    </a:moveTo>
                    <a:lnTo>
                      <a:pt x="5501" y="1"/>
                    </a:lnTo>
                    <a:cubicBezTo>
                      <a:pt x="5502" y="1"/>
                      <a:pt x="5503" y="2"/>
                      <a:pt x="5503" y="3"/>
                    </a:cubicBezTo>
                    <a:cubicBezTo>
                      <a:pt x="5503" y="5"/>
                      <a:pt x="5502" y="5"/>
                      <a:pt x="5501" y="5"/>
                    </a:cubicBezTo>
                    <a:lnTo>
                      <a:pt x="5501" y="5"/>
                    </a:lnTo>
                    <a:cubicBezTo>
                      <a:pt x="5499" y="5"/>
                      <a:pt x="5499" y="5"/>
                      <a:pt x="5499" y="3"/>
                    </a:cubicBezTo>
                    <a:cubicBezTo>
                      <a:pt x="5499" y="2"/>
                      <a:pt x="5499" y="1"/>
                      <a:pt x="5501" y="1"/>
                    </a:cubicBezTo>
                    <a:close/>
                    <a:moveTo>
                      <a:pt x="5509" y="1"/>
                    </a:moveTo>
                    <a:lnTo>
                      <a:pt x="5509" y="1"/>
                    </a:lnTo>
                    <a:cubicBezTo>
                      <a:pt x="5510" y="1"/>
                      <a:pt x="5511" y="2"/>
                      <a:pt x="5511" y="3"/>
                    </a:cubicBezTo>
                    <a:cubicBezTo>
                      <a:pt x="5511" y="5"/>
                      <a:pt x="5510" y="5"/>
                      <a:pt x="5509" y="5"/>
                    </a:cubicBezTo>
                    <a:lnTo>
                      <a:pt x="5509" y="5"/>
                    </a:lnTo>
                    <a:cubicBezTo>
                      <a:pt x="5507" y="5"/>
                      <a:pt x="5507" y="5"/>
                      <a:pt x="5507" y="3"/>
                    </a:cubicBezTo>
                    <a:cubicBezTo>
                      <a:pt x="5507" y="2"/>
                      <a:pt x="5507" y="1"/>
                      <a:pt x="5509" y="1"/>
                    </a:cubicBezTo>
                    <a:close/>
                    <a:moveTo>
                      <a:pt x="5517" y="1"/>
                    </a:moveTo>
                    <a:lnTo>
                      <a:pt x="5517" y="1"/>
                    </a:lnTo>
                    <a:cubicBezTo>
                      <a:pt x="5518" y="1"/>
                      <a:pt x="5519" y="2"/>
                      <a:pt x="5519" y="3"/>
                    </a:cubicBezTo>
                    <a:cubicBezTo>
                      <a:pt x="5519" y="5"/>
                      <a:pt x="5518" y="5"/>
                      <a:pt x="5517" y="5"/>
                    </a:cubicBezTo>
                    <a:lnTo>
                      <a:pt x="5517" y="5"/>
                    </a:lnTo>
                    <a:cubicBezTo>
                      <a:pt x="5515" y="5"/>
                      <a:pt x="5515" y="5"/>
                      <a:pt x="5515" y="3"/>
                    </a:cubicBezTo>
                    <a:cubicBezTo>
                      <a:pt x="5515" y="2"/>
                      <a:pt x="5515" y="1"/>
                      <a:pt x="5517" y="1"/>
                    </a:cubicBezTo>
                    <a:close/>
                    <a:moveTo>
                      <a:pt x="5525" y="1"/>
                    </a:moveTo>
                    <a:lnTo>
                      <a:pt x="5525" y="1"/>
                    </a:lnTo>
                    <a:cubicBezTo>
                      <a:pt x="5526" y="1"/>
                      <a:pt x="5527" y="2"/>
                      <a:pt x="5527" y="3"/>
                    </a:cubicBezTo>
                    <a:cubicBezTo>
                      <a:pt x="5527" y="5"/>
                      <a:pt x="5526" y="5"/>
                      <a:pt x="5525" y="5"/>
                    </a:cubicBezTo>
                    <a:lnTo>
                      <a:pt x="5525" y="5"/>
                    </a:lnTo>
                    <a:cubicBezTo>
                      <a:pt x="5523" y="5"/>
                      <a:pt x="5523" y="5"/>
                      <a:pt x="5523" y="3"/>
                    </a:cubicBezTo>
                    <a:cubicBezTo>
                      <a:pt x="5523" y="2"/>
                      <a:pt x="5523" y="1"/>
                      <a:pt x="5525" y="1"/>
                    </a:cubicBezTo>
                    <a:close/>
                    <a:moveTo>
                      <a:pt x="5533" y="1"/>
                    </a:moveTo>
                    <a:lnTo>
                      <a:pt x="5533" y="1"/>
                    </a:lnTo>
                    <a:cubicBezTo>
                      <a:pt x="5534" y="1"/>
                      <a:pt x="5535" y="2"/>
                      <a:pt x="5535" y="3"/>
                    </a:cubicBezTo>
                    <a:cubicBezTo>
                      <a:pt x="5535" y="5"/>
                      <a:pt x="5534" y="5"/>
                      <a:pt x="5533" y="5"/>
                    </a:cubicBezTo>
                    <a:lnTo>
                      <a:pt x="5533" y="5"/>
                    </a:lnTo>
                    <a:cubicBezTo>
                      <a:pt x="5531" y="5"/>
                      <a:pt x="5531" y="5"/>
                      <a:pt x="5531" y="3"/>
                    </a:cubicBezTo>
                    <a:cubicBezTo>
                      <a:pt x="5531" y="2"/>
                      <a:pt x="5531" y="1"/>
                      <a:pt x="5533" y="1"/>
                    </a:cubicBezTo>
                    <a:close/>
                    <a:moveTo>
                      <a:pt x="5541" y="1"/>
                    </a:moveTo>
                    <a:lnTo>
                      <a:pt x="5541" y="1"/>
                    </a:lnTo>
                    <a:cubicBezTo>
                      <a:pt x="5542" y="1"/>
                      <a:pt x="5543" y="2"/>
                      <a:pt x="5543" y="3"/>
                    </a:cubicBezTo>
                    <a:cubicBezTo>
                      <a:pt x="5543" y="5"/>
                      <a:pt x="5542" y="5"/>
                      <a:pt x="5541" y="5"/>
                    </a:cubicBezTo>
                    <a:lnTo>
                      <a:pt x="5541" y="5"/>
                    </a:lnTo>
                    <a:cubicBezTo>
                      <a:pt x="5539" y="5"/>
                      <a:pt x="5539" y="5"/>
                      <a:pt x="5539" y="3"/>
                    </a:cubicBezTo>
                    <a:cubicBezTo>
                      <a:pt x="5539" y="2"/>
                      <a:pt x="5539" y="1"/>
                      <a:pt x="5541" y="1"/>
                    </a:cubicBezTo>
                    <a:close/>
                    <a:moveTo>
                      <a:pt x="5549" y="1"/>
                    </a:moveTo>
                    <a:lnTo>
                      <a:pt x="5549" y="1"/>
                    </a:lnTo>
                    <a:cubicBezTo>
                      <a:pt x="5550" y="1"/>
                      <a:pt x="5551" y="2"/>
                      <a:pt x="5551" y="3"/>
                    </a:cubicBezTo>
                    <a:cubicBezTo>
                      <a:pt x="5551" y="5"/>
                      <a:pt x="5550" y="5"/>
                      <a:pt x="5549" y="5"/>
                    </a:cubicBezTo>
                    <a:lnTo>
                      <a:pt x="5549" y="5"/>
                    </a:lnTo>
                    <a:cubicBezTo>
                      <a:pt x="5547" y="5"/>
                      <a:pt x="5547" y="5"/>
                      <a:pt x="5547" y="3"/>
                    </a:cubicBezTo>
                    <a:cubicBezTo>
                      <a:pt x="5547" y="2"/>
                      <a:pt x="5547" y="1"/>
                      <a:pt x="5549" y="1"/>
                    </a:cubicBezTo>
                    <a:close/>
                    <a:moveTo>
                      <a:pt x="5557" y="1"/>
                    </a:moveTo>
                    <a:lnTo>
                      <a:pt x="5557" y="1"/>
                    </a:lnTo>
                    <a:cubicBezTo>
                      <a:pt x="5558" y="1"/>
                      <a:pt x="5559" y="2"/>
                      <a:pt x="5559" y="3"/>
                    </a:cubicBezTo>
                    <a:cubicBezTo>
                      <a:pt x="5559" y="5"/>
                      <a:pt x="5558" y="5"/>
                      <a:pt x="5557" y="5"/>
                    </a:cubicBezTo>
                    <a:lnTo>
                      <a:pt x="5557" y="5"/>
                    </a:lnTo>
                    <a:cubicBezTo>
                      <a:pt x="5555" y="5"/>
                      <a:pt x="5555" y="5"/>
                      <a:pt x="5555" y="3"/>
                    </a:cubicBezTo>
                    <a:cubicBezTo>
                      <a:pt x="5555" y="2"/>
                      <a:pt x="5555" y="1"/>
                      <a:pt x="5557" y="1"/>
                    </a:cubicBezTo>
                    <a:close/>
                    <a:moveTo>
                      <a:pt x="5565" y="1"/>
                    </a:moveTo>
                    <a:lnTo>
                      <a:pt x="5565" y="1"/>
                    </a:lnTo>
                    <a:cubicBezTo>
                      <a:pt x="5566" y="1"/>
                      <a:pt x="5567" y="2"/>
                      <a:pt x="5567" y="3"/>
                    </a:cubicBezTo>
                    <a:cubicBezTo>
                      <a:pt x="5567" y="5"/>
                      <a:pt x="5566" y="5"/>
                      <a:pt x="5565" y="5"/>
                    </a:cubicBezTo>
                    <a:lnTo>
                      <a:pt x="5565" y="5"/>
                    </a:lnTo>
                    <a:cubicBezTo>
                      <a:pt x="5563" y="5"/>
                      <a:pt x="5563" y="5"/>
                      <a:pt x="5563" y="3"/>
                    </a:cubicBezTo>
                    <a:cubicBezTo>
                      <a:pt x="5563" y="2"/>
                      <a:pt x="5563" y="1"/>
                      <a:pt x="5565" y="1"/>
                    </a:cubicBezTo>
                    <a:close/>
                    <a:moveTo>
                      <a:pt x="5573" y="1"/>
                    </a:moveTo>
                    <a:lnTo>
                      <a:pt x="5573" y="1"/>
                    </a:lnTo>
                    <a:cubicBezTo>
                      <a:pt x="5574" y="1"/>
                      <a:pt x="5575" y="2"/>
                      <a:pt x="5575" y="3"/>
                    </a:cubicBezTo>
                    <a:cubicBezTo>
                      <a:pt x="5575" y="5"/>
                      <a:pt x="5574" y="5"/>
                      <a:pt x="5573" y="5"/>
                    </a:cubicBezTo>
                    <a:lnTo>
                      <a:pt x="5573" y="5"/>
                    </a:lnTo>
                    <a:cubicBezTo>
                      <a:pt x="5571" y="5"/>
                      <a:pt x="5571" y="5"/>
                      <a:pt x="5571" y="3"/>
                    </a:cubicBezTo>
                    <a:cubicBezTo>
                      <a:pt x="5571" y="2"/>
                      <a:pt x="5571" y="1"/>
                      <a:pt x="5573" y="1"/>
                    </a:cubicBezTo>
                    <a:close/>
                    <a:moveTo>
                      <a:pt x="5581" y="1"/>
                    </a:moveTo>
                    <a:lnTo>
                      <a:pt x="5581" y="1"/>
                    </a:lnTo>
                    <a:cubicBezTo>
                      <a:pt x="5582" y="1"/>
                      <a:pt x="5583" y="2"/>
                      <a:pt x="5583" y="3"/>
                    </a:cubicBezTo>
                    <a:cubicBezTo>
                      <a:pt x="5583" y="5"/>
                      <a:pt x="5582" y="5"/>
                      <a:pt x="5581" y="5"/>
                    </a:cubicBezTo>
                    <a:lnTo>
                      <a:pt x="5581" y="5"/>
                    </a:lnTo>
                    <a:cubicBezTo>
                      <a:pt x="5579" y="5"/>
                      <a:pt x="5579" y="5"/>
                      <a:pt x="5579" y="3"/>
                    </a:cubicBezTo>
                    <a:cubicBezTo>
                      <a:pt x="5579" y="2"/>
                      <a:pt x="5579" y="1"/>
                      <a:pt x="5581" y="1"/>
                    </a:cubicBezTo>
                    <a:close/>
                    <a:moveTo>
                      <a:pt x="5589" y="1"/>
                    </a:moveTo>
                    <a:lnTo>
                      <a:pt x="5589" y="1"/>
                    </a:lnTo>
                    <a:cubicBezTo>
                      <a:pt x="5590" y="1"/>
                      <a:pt x="5591" y="2"/>
                      <a:pt x="5591" y="3"/>
                    </a:cubicBezTo>
                    <a:cubicBezTo>
                      <a:pt x="5591" y="5"/>
                      <a:pt x="5590" y="5"/>
                      <a:pt x="5589" y="5"/>
                    </a:cubicBezTo>
                    <a:lnTo>
                      <a:pt x="5589" y="5"/>
                    </a:lnTo>
                    <a:cubicBezTo>
                      <a:pt x="5587" y="5"/>
                      <a:pt x="5587" y="5"/>
                      <a:pt x="5587" y="3"/>
                    </a:cubicBezTo>
                    <a:cubicBezTo>
                      <a:pt x="5587" y="2"/>
                      <a:pt x="5587" y="1"/>
                      <a:pt x="5589" y="1"/>
                    </a:cubicBezTo>
                    <a:close/>
                    <a:moveTo>
                      <a:pt x="5597" y="1"/>
                    </a:moveTo>
                    <a:lnTo>
                      <a:pt x="5597" y="1"/>
                    </a:lnTo>
                    <a:cubicBezTo>
                      <a:pt x="5598" y="1"/>
                      <a:pt x="5599" y="2"/>
                      <a:pt x="5599" y="3"/>
                    </a:cubicBezTo>
                    <a:cubicBezTo>
                      <a:pt x="5599" y="5"/>
                      <a:pt x="5598" y="5"/>
                      <a:pt x="5597" y="5"/>
                    </a:cubicBezTo>
                    <a:lnTo>
                      <a:pt x="5597" y="5"/>
                    </a:lnTo>
                    <a:cubicBezTo>
                      <a:pt x="5595" y="5"/>
                      <a:pt x="5595" y="5"/>
                      <a:pt x="5595" y="3"/>
                    </a:cubicBezTo>
                    <a:cubicBezTo>
                      <a:pt x="5595" y="2"/>
                      <a:pt x="5595" y="1"/>
                      <a:pt x="5597" y="1"/>
                    </a:cubicBezTo>
                    <a:close/>
                    <a:moveTo>
                      <a:pt x="5605" y="1"/>
                    </a:moveTo>
                    <a:lnTo>
                      <a:pt x="5605" y="1"/>
                    </a:lnTo>
                    <a:cubicBezTo>
                      <a:pt x="5606" y="1"/>
                      <a:pt x="5607" y="2"/>
                      <a:pt x="5607" y="3"/>
                    </a:cubicBezTo>
                    <a:cubicBezTo>
                      <a:pt x="5607" y="5"/>
                      <a:pt x="5606" y="5"/>
                      <a:pt x="5605" y="5"/>
                    </a:cubicBezTo>
                    <a:lnTo>
                      <a:pt x="5605" y="5"/>
                    </a:lnTo>
                    <a:cubicBezTo>
                      <a:pt x="5603" y="5"/>
                      <a:pt x="5603" y="5"/>
                      <a:pt x="5603" y="3"/>
                    </a:cubicBezTo>
                    <a:cubicBezTo>
                      <a:pt x="5603" y="2"/>
                      <a:pt x="5603" y="1"/>
                      <a:pt x="5605" y="1"/>
                    </a:cubicBezTo>
                    <a:close/>
                    <a:moveTo>
                      <a:pt x="5613" y="1"/>
                    </a:moveTo>
                    <a:lnTo>
                      <a:pt x="5613" y="1"/>
                    </a:lnTo>
                    <a:cubicBezTo>
                      <a:pt x="5614" y="1"/>
                      <a:pt x="5615" y="2"/>
                      <a:pt x="5615" y="3"/>
                    </a:cubicBezTo>
                    <a:cubicBezTo>
                      <a:pt x="5615" y="5"/>
                      <a:pt x="5614" y="5"/>
                      <a:pt x="5613" y="5"/>
                    </a:cubicBezTo>
                    <a:lnTo>
                      <a:pt x="5613" y="5"/>
                    </a:lnTo>
                    <a:cubicBezTo>
                      <a:pt x="5611" y="5"/>
                      <a:pt x="5611" y="5"/>
                      <a:pt x="5611" y="3"/>
                    </a:cubicBezTo>
                    <a:cubicBezTo>
                      <a:pt x="5611" y="2"/>
                      <a:pt x="5611" y="1"/>
                      <a:pt x="5613" y="1"/>
                    </a:cubicBezTo>
                    <a:close/>
                    <a:moveTo>
                      <a:pt x="5621" y="1"/>
                    </a:moveTo>
                    <a:lnTo>
                      <a:pt x="5621" y="1"/>
                    </a:lnTo>
                    <a:cubicBezTo>
                      <a:pt x="5622" y="1"/>
                      <a:pt x="5623" y="2"/>
                      <a:pt x="5623" y="3"/>
                    </a:cubicBezTo>
                    <a:cubicBezTo>
                      <a:pt x="5623" y="5"/>
                      <a:pt x="5622" y="5"/>
                      <a:pt x="5621" y="5"/>
                    </a:cubicBezTo>
                    <a:lnTo>
                      <a:pt x="5621" y="5"/>
                    </a:lnTo>
                    <a:cubicBezTo>
                      <a:pt x="5619" y="5"/>
                      <a:pt x="5619" y="5"/>
                      <a:pt x="5619" y="3"/>
                    </a:cubicBezTo>
                    <a:cubicBezTo>
                      <a:pt x="5619" y="2"/>
                      <a:pt x="5619" y="1"/>
                      <a:pt x="5621" y="1"/>
                    </a:cubicBezTo>
                    <a:close/>
                    <a:moveTo>
                      <a:pt x="5629" y="1"/>
                    </a:moveTo>
                    <a:lnTo>
                      <a:pt x="5629" y="1"/>
                    </a:lnTo>
                    <a:cubicBezTo>
                      <a:pt x="5630" y="1"/>
                      <a:pt x="5631" y="2"/>
                      <a:pt x="5631" y="3"/>
                    </a:cubicBezTo>
                    <a:cubicBezTo>
                      <a:pt x="5631" y="5"/>
                      <a:pt x="5630" y="5"/>
                      <a:pt x="5629" y="5"/>
                    </a:cubicBezTo>
                    <a:lnTo>
                      <a:pt x="5629" y="5"/>
                    </a:lnTo>
                    <a:cubicBezTo>
                      <a:pt x="5627" y="5"/>
                      <a:pt x="5627" y="5"/>
                      <a:pt x="5627" y="3"/>
                    </a:cubicBezTo>
                    <a:cubicBezTo>
                      <a:pt x="5627" y="2"/>
                      <a:pt x="5627" y="1"/>
                      <a:pt x="5629" y="1"/>
                    </a:cubicBezTo>
                    <a:close/>
                    <a:moveTo>
                      <a:pt x="5637" y="1"/>
                    </a:moveTo>
                    <a:lnTo>
                      <a:pt x="5637" y="1"/>
                    </a:lnTo>
                    <a:cubicBezTo>
                      <a:pt x="5638" y="1"/>
                      <a:pt x="5639" y="2"/>
                      <a:pt x="5639" y="4"/>
                    </a:cubicBezTo>
                    <a:cubicBezTo>
                      <a:pt x="5639" y="5"/>
                      <a:pt x="5638" y="6"/>
                      <a:pt x="5637" y="6"/>
                    </a:cubicBezTo>
                    <a:lnTo>
                      <a:pt x="5637" y="6"/>
                    </a:lnTo>
                    <a:cubicBezTo>
                      <a:pt x="5635" y="6"/>
                      <a:pt x="5635" y="5"/>
                      <a:pt x="5635" y="4"/>
                    </a:cubicBezTo>
                    <a:cubicBezTo>
                      <a:pt x="5635" y="2"/>
                      <a:pt x="5635" y="1"/>
                      <a:pt x="5637" y="1"/>
                    </a:cubicBezTo>
                    <a:close/>
                    <a:moveTo>
                      <a:pt x="5645" y="2"/>
                    </a:moveTo>
                    <a:lnTo>
                      <a:pt x="5645" y="2"/>
                    </a:lnTo>
                    <a:cubicBezTo>
                      <a:pt x="5646" y="2"/>
                      <a:pt x="5647" y="2"/>
                      <a:pt x="5647" y="4"/>
                    </a:cubicBezTo>
                    <a:cubicBezTo>
                      <a:pt x="5647" y="5"/>
                      <a:pt x="5646" y="6"/>
                      <a:pt x="5645" y="6"/>
                    </a:cubicBezTo>
                    <a:lnTo>
                      <a:pt x="5645" y="6"/>
                    </a:lnTo>
                    <a:cubicBezTo>
                      <a:pt x="5643" y="6"/>
                      <a:pt x="5643" y="5"/>
                      <a:pt x="5643" y="4"/>
                    </a:cubicBezTo>
                    <a:cubicBezTo>
                      <a:pt x="5643" y="2"/>
                      <a:pt x="5643" y="2"/>
                      <a:pt x="5645" y="2"/>
                    </a:cubicBezTo>
                    <a:close/>
                    <a:moveTo>
                      <a:pt x="5653" y="2"/>
                    </a:moveTo>
                    <a:lnTo>
                      <a:pt x="5653" y="2"/>
                    </a:lnTo>
                    <a:cubicBezTo>
                      <a:pt x="5654" y="2"/>
                      <a:pt x="5655" y="2"/>
                      <a:pt x="5655" y="4"/>
                    </a:cubicBezTo>
                    <a:cubicBezTo>
                      <a:pt x="5655" y="5"/>
                      <a:pt x="5654" y="6"/>
                      <a:pt x="5653" y="6"/>
                    </a:cubicBezTo>
                    <a:lnTo>
                      <a:pt x="5653" y="6"/>
                    </a:lnTo>
                    <a:cubicBezTo>
                      <a:pt x="5651" y="6"/>
                      <a:pt x="5651" y="5"/>
                      <a:pt x="5651" y="4"/>
                    </a:cubicBezTo>
                    <a:cubicBezTo>
                      <a:pt x="5651" y="2"/>
                      <a:pt x="5651" y="2"/>
                      <a:pt x="5653" y="2"/>
                    </a:cubicBezTo>
                    <a:close/>
                    <a:moveTo>
                      <a:pt x="5661" y="2"/>
                    </a:moveTo>
                    <a:lnTo>
                      <a:pt x="5661" y="2"/>
                    </a:lnTo>
                    <a:cubicBezTo>
                      <a:pt x="5662" y="2"/>
                      <a:pt x="5663" y="2"/>
                      <a:pt x="5663" y="4"/>
                    </a:cubicBezTo>
                    <a:cubicBezTo>
                      <a:pt x="5663" y="5"/>
                      <a:pt x="5662" y="6"/>
                      <a:pt x="5661" y="6"/>
                    </a:cubicBezTo>
                    <a:lnTo>
                      <a:pt x="5661" y="6"/>
                    </a:lnTo>
                    <a:cubicBezTo>
                      <a:pt x="5659" y="6"/>
                      <a:pt x="5659" y="5"/>
                      <a:pt x="5659" y="4"/>
                    </a:cubicBezTo>
                    <a:cubicBezTo>
                      <a:pt x="5659" y="2"/>
                      <a:pt x="5659" y="2"/>
                      <a:pt x="5661" y="2"/>
                    </a:cubicBezTo>
                    <a:close/>
                    <a:moveTo>
                      <a:pt x="5669" y="2"/>
                    </a:moveTo>
                    <a:lnTo>
                      <a:pt x="5669" y="2"/>
                    </a:lnTo>
                    <a:cubicBezTo>
                      <a:pt x="5670" y="2"/>
                      <a:pt x="5671" y="2"/>
                      <a:pt x="5671" y="4"/>
                    </a:cubicBezTo>
                    <a:cubicBezTo>
                      <a:pt x="5671" y="5"/>
                      <a:pt x="5670" y="6"/>
                      <a:pt x="5669" y="6"/>
                    </a:cubicBezTo>
                    <a:lnTo>
                      <a:pt x="5669" y="6"/>
                    </a:lnTo>
                    <a:cubicBezTo>
                      <a:pt x="5667" y="6"/>
                      <a:pt x="5667" y="5"/>
                      <a:pt x="5667" y="4"/>
                    </a:cubicBezTo>
                    <a:cubicBezTo>
                      <a:pt x="5667" y="2"/>
                      <a:pt x="5667" y="2"/>
                      <a:pt x="5669" y="2"/>
                    </a:cubicBezTo>
                    <a:close/>
                    <a:moveTo>
                      <a:pt x="5677" y="2"/>
                    </a:moveTo>
                    <a:lnTo>
                      <a:pt x="5677" y="2"/>
                    </a:lnTo>
                    <a:cubicBezTo>
                      <a:pt x="5678" y="2"/>
                      <a:pt x="5679" y="2"/>
                      <a:pt x="5679" y="4"/>
                    </a:cubicBezTo>
                    <a:cubicBezTo>
                      <a:pt x="5679" y="5"/>
                      <a:pt x="5678" y="6"/>
                      <a:pt x="5677" y="6"/>
                    </a:cubicBezTo>
                    <a:lnTo>
                      <a:pt x="5677" y="6"/>
                    </a:lnTo>
                    <a:cubicBezTo>
                      <a:pt x="5675" y="6"/>
                      <a:pt x="5675" y="5"/>
                      <a:pt x="5675" y="4"/>
                    </a:cubicBezTo>
                    <a:cubicBezTo>
                      <a:pt x="5675" y="2"/>
                      <a:pt x="5675" y="2"/>
                      <a:pt x="5677" y="2"/>
                    </a:cubicBezTo>
                    <a:close/>
                    <a:moveTo>
                      <a:pt x="5685" y="2"/>
                    </a:moveTo>
                    <a:lnTo>
                      <a:pt x="5685" y="2"/>
                    </a:lnTo>
                    <a:cubicBezTo>
                      <a:pt x="5686" y="2"/>
                      <a:pt x="5687" y="2"/>
                      <a:pt x="5687" y="4"/>
                    </a:cubicBezTo>
                    <a:cubicBezTo>
                      <a:pt x="5687" y="5"/>
                      <a:pt x="5686" y="6"/>
                      <a:pt x="5685" y="6"/>
                    </a:cubicBezTo>
                    <a:lnTo>
                      <a:pt x="5685" y="6"/>
                    </a:lnTo>
                    <a:cubicBezTo>
                      <a:pt x="5683" y="6"/>
                      <a:pt x="5683" y="5"/>
                      <a:pt x="5683" y="4"/>
                    </a:cubicBezTo>
                    <a:cubicBezTo>
                      <a:pt x="5683" y="2"/>
                      <a:pt x="5683" y="2"/>
                      <a:pt x="5685" y="2"/>
                    </a:cubicBezTo>
                    <a:close/>
                    <a:moveTo>
                      <a:pt x="5693" y="2"/>
                    </a:moveTo>
                    <a:lnTo>
                      <a:pt x="5693" y="2"/>
                    </a:lnTo>
                    <a:cubicBezTo>
                      <a:pt x="5694" y="2"/>
                      <a:pt x="5695" y="2"/>
                      <a:pt x="5695" y="4"/>
                    </a:cubicBezTo>
                    <a:cubicBezTo>
                      <a:pt x="5695" y="5"/>
                      <a:pt x="5694" y="6"/>
                      <a:pt x="5693" y="6"/>
                    </a:cubicBezTo>
                    <a:lnTo>
                      <a:pt x="5693" y="6"/>
                    </a:lnTo>
                    <a:cubicBezTo>
                      <a:pt x="5691" y="6"/>
                      <a:pt x="5691" y="5"/>
                      <a:pt x="5691" y="4"/>
                    </a:cubicBezTo>
                    <a:cubicBezTo>
                      <a:pt x="5691" y="2"/>
                      <a:pt x="5691" y="2"/>
                      <a:pt x="5693" y="2"/>
                    </a:cubicBezTo>
                    <a:close/>
                    <a:moveTo>
                      <a:pt x="5701" y="2"/>
                    </a:moveTo>
                    <a:lnTo>
                      <a:pt x="5701" y="2"/>
                    </a:lnTo>
                    <a:cubicBezTo>
                      <a:pt x="5702" y="2"/>
                      <a:pt x="5703" y="2"/>
                      <a:pt x="5703" y="4"/>
                    </a:cubicBezTo>
                    <a:cubicBezTo>
                      <a:pt x="5703" y="5"/>
                      <a:pt x="5702" y="6"/>
                      <a:pt x="5701" y="6"/>
                    </a:cubicBezTo>
                    <a:lnTo>
                      <a:pt x="5701" y="6"/>
                    </a:lnTo>
                    <a:cubicBezTo>
                      <a:pt x="5699" y="6"/>
                      <a:pt x="5699" y="5"/>
                      <a:pt x="5699" y="4"/>
                    </a:cubicBezTo>
                    <a:cubicBezTo>
                      <a:pt x="5699" y="2"/>
                      <a:pt x="5699" y="2"/>
                      <a:pt x="5701" y="2"/>
                    </a:cubicBezTo>
                    <a:close/>
                    <a:moveTo>
                      <a:pt x="5709" y="2"/>
                    </a:moveTo>
                    <a:lnTo>
                      <a:pt x="5709" y="2"/>
                    </a:lnTo>
                    <a:cubicBezTo>
                      <a:pt x="5710" y="2"/>
                      <a:pt x="5711" y="2"/>
                      <a:pt x="5711" y="4"/>
                    </a:cubicBezTo>
                    <a:cubicBezTo>
                      <a:pt x="5711" y="5"/>
                      <a:pt x="5710" y="6"/>
                      <a:pt x="5709" y="6"/>
                    </a:cubicBezTo>
                    <a:lnTo>
                      <a:pt x="5709" y="6"/>
                    </a:lnTo>
                    <a:cubicBezTo>
                      <a:pt x="5708" y="6"/>
                      <a:pt x="5707" y="5"/>
                      <a:pt x="5707" y="4"/>
                    </a:cubicBezTo>
                    <a:cubicBezTo>
                      <a:pt x="5707" y="2"/>
                      <a:pt x="5708" y="2"/>
                      <a:pt x="5709" y="2"/>
                    </a:cubicBezTo>
                    <a:close/>
                    <a:moveTo>
                      <a:pt x="5717" y="2"/>
                    </a:moveTo>
                    <a:lnTo>
                      <a:pt x="5717" y="2"/>
                    </a:lnTo>
                    <a:cubicBezTo>
                      <a:pt x="5718" y="2"/>
                      <a:pt x="5719" y="2"/>
                      <a:pt x="5719" y="4"/>
                    </a:cubicBezTo>
                    <a:cubicBezTo>
                      <a:pt x="5719" y="5"/>
                      <a:pt x="5718" y="6"/>
                      <a:pt x="5717" y="6"/>
                    </a:cubicBezTo>
                    <a:lnTo>
                      <a:pt x="5717" y="6"/>
                    </a:lnTo>
                    <a:cubicBezTo>
                      <a:pt x="5716" y="6"/>
                      <a:pt x="5715" y="5"/>
                      <a:pt x="5715" y="4"/>
                    </a:cubicBezTo>
                    <a:cubicBezTo>
                      <a:pt x="5715" y="2"/>
                      <a:pt x="5716" y="2"/>
                      <a:pt x="5717" y="2"/>
                    </a:cubicBezTo>
                    <a:close/>
                    <a:moveTo>
                      <a:pt x="5725" y="2"/>
                    </a:moveTo>
                    <a:lnTo>
                      <a:pt x="5725" y="2"/>
                    </a:lnTo>
                    <a:cubicBezTo>
                      <a:pt x="5726" y="2"/>
                      <a:pt x="5727" y="2"/>
                      <a:pt x="5727" y="4"/>
                    </a:cubicBezTo>
                    <a:cubicBezTo>
                      <a:pt x="5727" y="5"/>
                      <a:pt x="5726" y="6"/>
                      <a:pt x="5725" y="6"/>
                    </a:cubicBezTo>
                    <a:lnTo>
                      <a:pt x="5725" y="6"/>
                    </a:lnTo>
                    <a:cubicBezTo>
                      <a:pt x="5724" y="6"/>
                      <a:pt x="5723" y="5"/>
                      <a:pt x="5723" y="4"/>
                    </a:cubicBezTo>
                    <a:cubicBezTo>
                      <a:pt x="5723" y="2"/>
                      <a:pt x="5724" y="2"/>
                      <a:pt x="5725" y="2"/>
                    </a:cubicBezTo>
                    <a:close/>
                    <a:moveTo>
                      <a:pt x="5733" y="2"/>
                    </a:moveTo>
                    <a:lnTo>
                      <a:pt x="5733" y="2"/>
                    </a:lnTo>
                    <a:cubicBezTo>
                      <a:pt x="5734" y="2"/>
                      <a:pt x="5735" y="2"/>
                      <a:pt x="5735" y="4"/>
                    </a:cubicBezTo>
                    <a:cubicBezTo>
                      <a:pt x="5735" y="5"/>
                      <a:pt x="5734" y="6"/>
                      <a:pt x="5733" y="6"/>
                    </a:cubicBezTo>
                    <a:lnTo>
                      <a:pt x="5733" y="6"/>
                    </a:lnTo>
                    <a:cubicBezTo>
                      <a:pt x="5732" y="6"/>
                      <a:pt x="5731" y="5"/>
                      <a:pt x="5731" y="4"/>
                    </a:cubicBezTo>
                    <a:cubicBezTo>
                      <a:pt x="5731" y="2"/>
                      <a:pt x="5732" y="2"/>
                      <a:pt x="5733" y="2"/>
                    </a:cubicBezTo>
                    <a:close/>
                    <a:moveTo>
                      <a:pt x="5741" y="2"/>
                    </a:moveTo>
                    <a:lnTo>
                      <a:pt x="5741" y="2"/>
                    </a:lnTo>
                    <a:cubicBezTo>
                      <a:pt x="5742" y="2"/>
                      <a:pt x="5743" y="2"/>
                      <a:pt x="5743" y="4"/>
                    </a:cubicBezTo>
                    <a:cubicBezTo>
                      <a:pt x="5743" y="5"/>
                      <a:pt x="5742" y="6"/>
                      <a:pt x="5741" y="6"/>
                    </a:cubicBezTo>
                    <a:lnTo>
                      <a:pt x="5741" y="6"/>
                    </a:lnTo>
                    <a:cubicBezTo>
                      <a:pt x="5740" y="6"/>
                      <a:pt x="5739" y="5"/>
                      <a:pt x="5739" y="4"/>
                    </a:cubicBezTo>
                    <a:cubicBezTo>
                      <a:pt x="5739" y="2"/>
                      <a:pt x="5740" y="2"/>
                      <a:pt x="5741" y="2"/>
                    </a:cubicBezTo>
                    <a:close/>
                    <a:moveTo>
                      <a:pt x="5749" y="2"/>
                    </a:moveTo>
                    <a:lnTo>
                      <a:pt x="5749" y="2"/>
                    </a:lnTo>
                    <a:cubicBezTo>
                      <a:pt x="5750" y="2"/>
                      <a:pt x="5751" y="2"/>
                      <a:pt x="5751" y="4"/>
                    </a:cubicBezTo>
                    <a:cubicBezTo>
                      <a:pt x="5751" y="5"/>
                      <a:pt x="5750" y="6"/>
                      <a:pt x="5749" y="6"/>
                    </a:cubicBezTo>
                    <a:lnTo>
                      <a:pt x="5749" y="6"/>
                    </a:lnTo>
                    <a:cubicBezTo>
                      <a:pt x="5748" y="6"/>
                      <a:pt x="5747" y="5"/>
                      <a:pt x="5747" y="4"/>
                    </a:cubicBezTo>
                    <a:cubicBezTo>
                      <a:pt x="5747" y="2"/>
                      <a:pt x="5748" y="2"/>
                      <a:pt x="5749" y="2"/>
                    </a:cubicBezTo>
                    <a:close/>
                    <a:moveTo>
                      <a:pt x="5757" y="2"/>
                    </a:moveTo>
                    <a:lnTo>
                      <a:pt x="5757" y="2"/>
                    </a:lnTo>
                    <a:cubicBezTo>
                      <a:pt x="5758" y="2"/>
                      <a:pt x="5759" y="2"/>
                      <a:pt x="5759" y="4"/>
                    </a:cubicBezTo>
                    <a:cubicBezTo>
                      <a:pt x="5759" y="5"/>
                      <a:pt x="5758" y="6"/>
                      <a:pt x="5757" y="6"/>
                    </a:cubicBezTo>
                    <a:lnTo>
                      <a:pt x="5757" y="6"/>
                    </a:lnTo>
                    <a:cubicBezTo>
                      <a:pt x="5756" y="6"/>
                      <a:pt x="5755" y="5"/>
                      <a:pt x="5755" y="4"/>
                    </a:cubicBezTo>
                    <a:cubicBezTo>
                      <a:pt x="5755" y="2"/>
                      <a:pt x="5756" y="2"/>
                      <a:pt x="5757" y="2"/>
                    </a:cubicBezTo>
                    <a:close/>
                    <a:moveTo>
                      <a:pt x="5765" y="2"/>
                    </a:moveTo>
                    <a:lnTo>
                      <a:pt x="5765" y="2"/>
                    </a:lnTo>
                    <a:cubicBezTo>
                      <a:pt x="5766" y="2"/>
                      <a:pt x="5767" y="2"/>
                      <a:pt x="5767" y="4"/>
                    </a:cubicBezTo>
                    <a:cubicBezTo>
                      <a:pt x="5767" y="5"/>
                      <a:pt x="5766" y="6"/>
                      <a:pt x="5765" y="6"/>
                    </a:cubicBezTo>
                    <a:lnTo>
                      <a:pt x="5765" y="6"/>
                    </a:lnTo>
                    <a:cubicBezTo>
                      <a:pt x="5764" y="6"/>
                      <a:pt x="5763" y="5"/>
                      <a:pt x="5763" y="4"/>
                    </a:cubicBezTo>
                    <a:cubicBezTo>
                      <a:pt x="5763" y="2"/>
                      <a:pt x="5764" y="2"/>
                      <a:pt x="5765" y="2"/>
                    </a:cubicBezTo>
                    <a:close/>
                    <a:moveTo>
                      <a:pt x="5773" y="2"/>
                    </a:moveTo>
                    <a:lnTo>
                      <a:pt x="5773" y="2"/>
                    </a:lnTo>
                    <a:cubicBezTo>
                      <a:pt x="5774" y="2"/>
                      <a:pt x="5775" y="2"/>
                      <a:pt x="5775" y="4"/>
                    </a:cubicBezTo>
                    <a:cubicBezTo>
                      <a:pt x="5775" y="5"/>
                      <a:pt x="5774" y="6"/>
                      <a:pt x="5773" y="6"/>
                    </a:cubicBezTo>
                    <a:lnTo>
                      <a:pt x="5773" y="6"/>
                    </a:lnTo>
                    <a:cubicBezTo>
                      <a:pt x="5772" y="6"/>
                      <a:pt x="5771" y="5"/>
                      <a:pt x="5771" y="4"/>
                    </a:cubicBezTo>
                    <a:cubicBezTo>
                      <a:pt x="5771" y="2"/>
                      <a:pt x="5772" y="2"/>
                      <a:pt x="5773" y="2"/>
                    </a:cubicBezTo>
                    <a:close/>
                    <a:moveTo>
                      <a:pt x="5781" y="2"/>
                    </a:moveTo>
                    <a:lnTo>
                      <a:pt x="5781" y="2"/>
                    </a:lnTo>
                    <a:cubicBezTo>
                      <a:pt x="5782" y="2"/>
                      <a:pt x="5783" y="2"/>
                      <a:pt x="5783" y="4"/>
                    </a:cubicBezTo>
                    <a:cubicBezTo>
                      <a:pt x="5783" y="5"/>
                      <a:pt x="5782" y="6"/>
                      <a:pt x="5781" y="6"/>
                    </a:cubicBezTo>
                    <a:lnTo>
                      <a:pt x="5781" y="6"/>
                    </a:lnTo>
                    <a:cubicBezTo>
                      <a:pt x="5780" y="6"/>
                      <a:pt x="5779" y="5"/>
                      <a:pt x="5779" y="4"/>
                    </a:cubicBezTo>
                    <a:cubicBezTo>
                      <a:pt x="5779" y="2"/>
                      <a:pt x="5780" y="2"/>
                      <a:pt x="5781" y="2"/>
                    </a:cubicBezTo>
                    <a:close/>
                    <a:moveTo>
                      <a:pt x="5789" y="2"/>
                    </a:moveTo>
                    <a:lnTo>
                      <a:pt x="5789" y="2"/>
                    </a:lnTo>
                    <a:cubicBezTo>
                      <a:pt x="5790" y="2"/>
                      <a:pt x="5791" y="2"/>
                      <a:pt x="5791" y="4"/>
                    </a:cubicBezTo>
                    <a:cubicBezTo>
                      <a:pt x="5791" y="5"/>
                      <a:pt x="5790" y="6"/>
                      <a:pt x="5789" y="6"/>
                    </a:cubicBezTo>
                    <a:lnTo>
                      <a:pt x="5789" y="6"/>
                    </a:lnTo>
                    <a:cubicBezTo>
                      <a:pt x="5788" y="6"/>
                      <a:pt x="5787" y="5"/>
                      <a:pt x="5787" y="4"/>
                    </a:cubicBezTo>
                    <a:cubicBezTo>
                      <a:pt x="5787" y="2"/>
                      <a:pt x="5788" y="2"/>
                      <a:pt x="5789" y="2"/>
                    </a:cubicBezTo>
                    <a:close/>
                    <a:moveTo>
                      <a:pt x="5797" y="2"/>
                    </a:moveTo>
                    <a:lnTo>
                      <a:pt x="5797" y="2"/>
                    </a:lnTo>
                    <a:cubicBezTo>
                      <a:pt x="5798" y="2"/>
                      <a:pt x="5799" y="2"/>
                      <a:pt x="5799" y="4"/>
                    </a:cubicBezTo>
                    <a:cubicBezTo>
                      <a:pt x="5799" y="5"/>
                      <a:pt x="5798" y="6"/>
                      <a:pt x="5797" y="6"/>
                    </a:cubicBezTo>
                    <a:lnTo>
                      <a:pt x="5797" y="6"/>
                    </a:lnTo>
                    <a:cubicBezTo>
                      <a:pt x="5796" y="6"/>
                      <a:pt x="5795" y="5"/>
                      <a:pt x="5795" y="4"/>
                    </a:cubicBezTo>
                    <a:cubicBezTo>
                      <a:pt x="5795" y="2"/>
                      <a:pt x="5796" y="2"/>
                      <a:pt x="5797" y="2"/>
                    </a:cubicBezTo>
                    <a:close/>
                    <a:moveTo>
                      <a:pt x="5805" y="2"/>
                    </a:moveTo>
                    <a:lnTo>
                      <a:pt x="5805" y="2"/>
                    </a:lnTo>
                    <a:cubicBezTo>
                      <a:pt x="5806" y="2"/>
                      <a:pt x="5807" y="2"/>
                      <a:pt x="5807" y="4"/>
                    </a:cubicBezTo>
                    <a:cubicBezTo>
                      <a:pt x="5807" y="5"/>
                      <a:pt x="5806" y="6"/>
                      <a:pt x="5805" y="6"/>
                    </a:cubicBezTo>
                    <a:lnTo>
                      <a:pt x="5805" y="6"/>
                    </a:lnTo>
                    <a:cubicBezTo>
                      <a:pt x="5804" y="6"/>
                      <a:pt x="5803" y="5"/>
                      <a:pt x="5803" y="4"/>
                    </a:cubicBezTo>
                    <a:cubicBezTo>
                      <a:pt x="5803" y="2"/>
                      <a:pt x="5804" y="2"/>
                      <a:pt x="5805" y="2"/>
                    </a:cubicBezTo>
                    <a:close/>
                    <a:moveTo>
                      <a:pt x="5813" y="2"/>
                    </a:moveTo>
                    <a:lnTo>
                      <a:pt x="5813" y="2"/>
                    </a:lnTo>
                    <a:cubicBezTo>
                      <a:pt x="5814" y="2"/>
                      <a:pt x="5815" y="2"/>
                      <a:pt x="5815" y="4"/>
                    </a:cubicBezTo>
                    <a:cubicBezTo>
                      <a:pt x="5815" y="5"/>
                      <a:pt x="5814" y="6"/>
                      <a:pt x="5813" y="6"/>
                    </a:cubicBezTo>
                    <a:lnTo>
                      <a:pt x="5813" y="6"/>
                    </a:lnTo>
                    <a:cubicBezTo>
                      <a:pt x="5812" y="6"/>
                      <a:pt x="5811" y="5"/>
                      <a:pt x="5811" y="4"/>
                    </a:cubicBezTo>
                    <a:cubicBezTo>
                      <a:pt x="5811" y="2"/>
                      <a:pt x="5812" y="2"/>
                      <a:pt x="5813" y="2"/>
                    </a:cubicBezTo>
                    <a:close/>
                    <a:moveTo>
                      <a:pt x="5821" y="2"/>
                    </a:moveTo>
                    <a:lnTo>
                      <a:pt x="5821" y="2"/>
                    </a:lnTo>
                    <a:cubicBezTo>
                      <a:pt x="5822" y="2"/>
                      <a:pt x="5823" y="2"/>
                      <a:pt x="5823" y="4"/>
                    </a:cubicBezTo>
                    <a:cubicBezTo>
                      <a:pt x="5823" y="5"/>
                      <a:pt x="5822" y="6"/>
                      <a:pt x="5821" y="6"/>
                    </a:cubicBezTo>
                    <a:lnTo>
                      <a:pt x="5821" y="6"/>
                    </a:lnTo>
                    <a:cubicBezTo>
                      <a:pt x="5820" y="6"/>
                      <a:pt x="5819" y="5"/>
                      <a:pt x="5819" y="4"/>
                    </a:cubicBezTo>
                    <a:cubicBezTo>
                      <a:pt x="5819" y="2"/>
                      <a:pt x="5820" y="2"/>
                      <a:pt x="5821" y="2"/>
                    </a:cubicBezTo>
                    <a:close/>
                    <a:moveTo>
                      <a:pt x="5829" y="2"/>
                    </a:moveTo>
                    <a:lnTo>
                      <a:pt x="5829" y="2"/>
                    </a:lnTo>
                    <a:cubicBezTo>
                      <a:pt x="5830" y="2"/>
                      <a:pt x="5831" y="2"/>
                      <a:pt x="5831" y="4"/>
                    </a:cubicBezTo>
                    <a:cubicBezTo>
                      <a:pt x="5831" y="5"/>
                      <a:pt x="5830" y="6"/>
                      <a:pt x="5829" y="6"/>
                    </a:cubicBezTo>
                    <a:lnTo>
                      <a:pt x="5829" y="6"/>
                    </a:lnTo>
                    <a:cubicBezTo>
                      <a:pt x="5828" y="6"/>
                      <a:pt x="5827" y="5"/>
                      <a:pt x="5827" y="4"/>
                    </a:cubicBezTo>
                    <a:cubicBezTo>
                      <a:pt x="5827" y="2"/>
                      <a:pt x="5828" y="2"/>
                      <a:pt x="5829" y="2"/>
                    </a:cubicBezTo>
                    <a:close/>
                    <a:moveTo>
                      <a:pt x="5837" y="2"/>
                    </a:moveTo>
                    <a:lnTo>
                      <a:pt x="5837" y="2"/>
                    </a:lnTo>
                    <a:cubicBezTo>
                      <a:pt x="5838" y="2"/>
                      <a:pt x="5839" y="2"/>
                      <a:pt x="5839" y="4"/>
                    </a:cubicBezTo>
                    <a:cubicBezTo>
                      <a:pt x="5839" y="5"/>
                      <a:pt x="5838" y="6"/>
                      <a:pt x="5837" y="6"/>
                    </a:cubicBezTo>
                    <a:lnTo>
                      <a:pt x="5837" y="6"/>
                    </a:lnTo>
                    <a:cubicBezTo>
                      <a:pt x="5836" y="6"/>
                      <a:pt x="5835" y="5"/>
                      <a:pt x="5835" y="4"/>
                    </a:cubicBezTo>
                    <a:cubicBezTo>
                      <a:pt x="5835" y="2"/>
                      <a:pt x="5836" y="2"/>
                      <a:pt x="5837" y="2"/>
                    </a:cubicBezTo>
                    <a:close/>
                    <a:moveTo>
                      <a:pt x="5845" y="2"/>
                    </a:moveTo>
                    <a:lnTo>
                      <a:pt x="5845" y="2"/>
                    </a:lnTo>
                    <a:cubicBezTo>
                      <a:pt x="5846" y="2"/>
                      <a:pt x="5847" y="2"/>
                      <a:pt x="5847" y="4"/>
                    </a:cubicBezTo>
                    <a:cubicBezTo>
                      <a:pt x="5847" y="5"/>
                      <a:pt x="5846" y="6"/>
                      <a:pt x="5845" y="6"/>
                    </a:cubicBezTo>
                    <a:lnTo>
                      <a:pt x="5845" y="6"/>
                    </a:lnTo>
                    <a:cubicBezTo>
                      <a:pt x="5844" y="6"/>
                      <a:pt x="5843" y="5"/>
                      <a:pt x="5843" y="4"/>
                    </a:cubicBezTo>
                    <a:cubicBezTo>
                      <a:pt x="5843" y="2"/>
                      <a:pt x="5844" y="2"/>
                      <a:pt x="5845" y="2"/>
                    </a:cubicBezTo>
                    <a:close/>
                    <a:moveTo>
                      <a:pt x="5853" y="2"/>
                    </a:moveTo>
                    <a:lnTo>
                      <a:pt x="5853" y="2"/>
                    </a:lnTo>
                    <a:cubicBezTo>
                      <a:pt x="5854" y="2"/>
                      <a:pt x="5855" y="2"/>
                      <a:pt x="5855" y="4"/>
                    </a:cubicBezTo>
                    <a:cubicBezTo>
                      <a:pt x="5855" y="5"/>
                      <a:pt x="5854" y="6"/>
                      <a:pt x="5853" y="6"/>
                    </a:cubicBezTo>
                    <a:lnTo>
                      <a:pt x="5853" y="6"/>
                    </a:lnTo>
                    <a:cubicBezTo>
                      <a:pt x="5852" y="6"/>
                      <a:pt x="5851" y="5"/>
                      <a:pt x="5851" y="4"/>
                    </a:cubicBezTo>
                    <a:cubicBezTo>
                      <a:pt x="5851" y="2"/>
                      <a:pt x="5852" y="2"/>
                      <a:pt x="5853" y="2"/>
                    </a:cubicBezTo>
                    <a:close/>
                    <a:moveTo>
                      <a:pt x="5861" y="2"/>
                    </a:moveTo>
                    <a:lnTo>
                      <a:pt x="5861" y="2"/>
                    </a:lnTo>
                    <a:cubicBezTo>
                      <a:pt x="5862" y="2"/>
                      <a:pt x="5863" y="2"/>
                      <a:pt x="5863" y="4"/>
                    </a:cubicBezTo>
                    <a:cubicBezTo>
                      <a:pt x="5863" y="5"/>
                      <a:pt x="5862" y="6"/>
                      <a:pt x="5861" y="6"/>
                    </a:cubicBezTo>
                    <a:lnTo>
                      <a:pt x="5861" y="6"/>
                    </a:lnTo>
                    <a:cubicBezTo>
                      <a:pt x="5860" y="6"/>
                      <a:pt x="5859" y="5"/>
                      <a:pt x="5859" y="4"/>
                    </a:cubicBezTo>
                    <a:cubicBezTo>
                      <a:pt x="5859" y="2"/>
                      <a:pt x="5860" y="2"/>
                      <a:pt x="5861" y="2"/>
                    </a:cubicBezTo>
                    <a:close/>
                    <a:moveTo>
                      <a:pt x="5869" y="2"/>
                    </a:moveTo>
                    <a:lnTo>
                      <a:pt x="5869" y="2"/>
                    </a:lnTo>
                    <a:cubicBezTo>
                      <a:pt x="5870" y="2"/>
                      <a:pt x="5871" y="2"/>
                      <a:pt x="5871" y="4"/>
                    </a:cubicBezTo>
                    <a:cubicBezTo>
                      <a:pt x="5871" y="5"/>
                      <a:pt x="5870" y="6"/>
                      <a:pt x="5869" y="6"/>
                    </a:cubicBezTo>
                    <a:lnTo>
                      <a:pt x="5869" y="6"/>
                    </a:lnTo>
                    <a:cubicBezTo>
                      <a:pt x="5868" y="6"/>
                      <a:pt x="5867" y="5"/>
                      <a:pt x="5867" y="4"/>
                    </a:cubicBezTo>
                    <a:cubicBezTo>
                      <a:pt x="5867" y="2"/>
                      <a:pt x="5868" y="2"/>
                      <a:pt x="5869" y="2"/>
                    </a:cubicBezTo>
                    <a:close/>
                    <a:moveTo>
                      <a:pt x="5877" y="2"/>
                    </a:moveTo>
                    <a:lnTo>
                      <a:pt x="5877" y="2"/>
                    </a:lnTo>
                    <a:cubicBezTo>
                      <a:pt x="5878" y="2"/>
                      <a:pt x="5879" y="2"/>
                      <a:pt x="5879" y="4"/>
                    </a:cubicBezTo>
                    <a:cubicBezTo>
                      <a:pt x="5879" y="5"/>
                      <a:pt x="5878" y="6"/>
                      <a:pt x="5877" y="6"/>
                    </a:cubicBezTo>
                    <a:lnTo>
                      <a:pt x="5877" y="6"/>
                    </a:lnTo>
                    <a:cubicBezTo>
                      <a:pt x="5876" y="6"/>
                      <a:pt x="5875" y="5"/>
                      <a:pt x="5875" y="4"/>
                    </a:cubicBezTo>
                    <a:cubicBezTo>
                      <a:pt x="5875" y="2"/>
                      <a:pt x="5876" y="2"/>
                      <a:pt x="5877" y="2"/>
                    </a:cubicBezTo>
                    <a:close/>
                    <a:moveTo>
                      <a:pt x="5885" y="2"/>
                    </a:moveTo>
                    <a:lnTo>
                      <a:pt x="5885" y="2"/>
                    </a:lnTo>
                    <a:cubicBezTo>
                      <a:pt x="5886" y="2"/>
                      <a:pt x="5887" y="2"/>
                      <a:pt x="5887" y="4"/>
                    </a:cubicBezTo>
                    <a:cubicBezTo>
                      <a:pt x="5887" y="5"/>
                      <a:pt x="5886" y="6"/>
                      <a:pt x="5885" y="6"/>
                    </a:cubicBezTo>
                    <a:lnTo>
                      <a:pt x="5885" y="6"/>
                    </a:lnTo>
                    <a:cubicBezTo>
                      <a:pt x="5884" y="6"/>
                      <a:pt x="5883" y="5"/>
                      <a:pt x="5883" y="4"/>
                    </a:cubicBezTo>
                    <a:cubicBezTo>
                      <a:pt x="5883" y="2"/>
                      <a:pt x="5884" y="2"/>
                      <a:pt x="5885" y="2"/>
                    </a:cubicBezTo>
                    <a:close/>
                    <a:moveTo>
                      <a:pt x="5893" y="2"/>
                    </a:moveTo>
                    <a:lnTo>
                      <a:pt x="5893" y="2"/>
                    </a:lnTo>
                    <a:cubicBezTo>
                      <a:pt x="5894" y="2"/>
                      <a:pt x="5895" y="2"/>
                      <a:pt x="5895" y="4"/>
                    </a:cubicBezTo>
                    <a:cubicBezTo>
                      <a:pt x="5895" y="5"/>
                      <a:pt x="5894" y="6"/>
                      <a:pt x="5893" y="6"/>
                    </a:cubicBezTo>
                    <a:lnTo>
                      <a:pt x="5893" y="6"/>
                    </a:lnTo>
                    <a:cubicBezTo>
                      <a:pt x="5892" y="6"/>
                      <a:pt x="5891" y="5"/>
                      <a:pt x="5891" y="4"/>
                    </a:cubicBezTo>
                    <a:cubicBezTo>
                      <a:pt x="5891" y="2"/>
                      <a:pt x="5892" y="2"/>
                      <a:pt x="5893" y="2"/>
                    </a:cubicBezTo>
                    <a:close/>
                    <a:moveTo>
                      <a:pt x="5901" y="2"/>
                    </a:moveTo>
                    <a:lnTo>
                      <a:pt x="5901" y="2"/>
                    </a:lnTo>
                    <a:cubicBezTo>
                      <a:pt x="5902" y="2"/>
                      <a:pt x="5903" y="2"/>
                      <a:pt x="5903" y="4"/>
                    </a:cubicBezTo>
                    <a:cubicBezTo>
                      <a:pt x="5903" y="5"/>
                      <a:pt x="5902" y="6"/>
                      <a:pt x="5901" y="6"/>
                    </a:cubicBezTo>
                    <a:lnTo>
                      <a:pt x="5901" y="6"/>
                    </a:lnTo>
                    <a:cubicBezTo>
                      <a:pt x="5900" y="6"/>
                      <a:pt x="5899" y="5"/>
                      <a:pt x="5899" y="4"/>
                    </a:cubicBezTo>
                    <a:cubicBezTo>
                      <a:pt x="5899" y="2"/>
                      <a:pt x="5900" y="2"/>
                      <a:pt x="5901" y="2"/>
                    </a:cubicBezTo>
                    <a:close/>
                    <a:moveTo>
                      <a:pt x="5909" y="2"/>
                    </a:moveTo>
                    <a:lnTo>
                      <a:pt x="5909" y="2"/>
                    </a:lnTo>
                    <a:cubicBezTo>
                      <a:pt x="5910" y="2"/>
                      <a:pt x="5911" y="2"/>
                      <a:pt x="5911" y="4"/>
                    </a:cubicBezTo>
                    <a:cubicBezTo>
                      <a:pt x="5911" y="5"/>
                      <a:pt x="5910" y="6"/>
                      <a:pt x="5909" y="6"/>
                    </a:cubicBezTo>
                    <a:lnTo>
                      <a:pt x="5909" y="6"/>
                    </a:lnTo>
                    <a:cubicBezTo>
                      <a:pt x="5908" y="6"/>
                      <a:pt x="5907" y="5"/>
                      <a:pt x="5907" y="4"/>
                    </a:cubicBezTo>
                    <a:cubicBezTo>
                      <a:pt x="5907" y="2"/>
                      <a:pt x="5908" y="2"/>
                      <a:pt x="5909" y="2"/>
                    </a:cubicBezTo>
                    <a:close/>
                    <a:moveTo>
                      <a:pt x="5917" y="2"/>
                    </a:moveTo>
                    <a:lnTo>
                      <a:pt x="5917" y="2"/>
                    </a:lnTo>
                    <a:cubicBezTo>
                      <a:pt x="5918" y="2"/>
                      <a:pt x="5919" y="2"/>
                      <a:pt x="5919" y="4"/>
                    </a:cubicBezTo>
                    <a:cubicBezTo>
                      <a:pt x="5919" y="5"/>
                      <a:pt x="5918" y="6"/>
                      <a:pt x="5917" y="6"/>
                    </a:cubicBezTo>
                    <a:lnTo>
                      <a:pt x="5917" y="6"/>
                    </a:lnTo>
                    <a:cubicBezTo>
                      <a:pt x="5916" y="6"/>
                      <a:pt x="5915" y="5"/>
                      <a:pt x="5915" y="4"/>
                    </a:cubicBezTo>
                    <a:cubicBezTo>
                      <a:pt x="5915" y="2"/>
                      <a:pt x="5916" y="2"/>
                      <a:pt x="5917" y="2"/>
                    </a:cubicBezTo>
                    <a:close/>
                    <a:moveTo>
                      <a:pt x="5925" y="2"/>
                    </a:moveTo>
                    <a:lnTo>
                      <a:pt x="5925" y="2"/>
                    </a:lnTo>
                    <a:cubicBezTo>
                      <a:pt x="5926" y="2"/>
                      <a:pt x="5927" y="2"/>
                      <a:pt x="5927" y="4"/>
                    </a:cubicBezTo>
                    <a:cubicBezTo>
                      <a:pt x="5927" y="5"/>
                      <a:pt x="5926" y="6"/>
                      <a:pt x="5925" y="6"/>
                    </a:cubicBezTo>
                    <a:lnTo>
                      <a:pt x="5925" y="6"/>
                    </a:lnTo>
                    <a:cubicBezTo>
                      <a:pt x="5924" y="6"/>
                      <a:pt x="5923" y="5"/>
                      <a:pt x="5923" y="4"/>
                    </a:cubicBezTo>
                    <a:cubicBezTo>
                      <a:pt x="5923" y="2"/>
                      <a:pt x="5924" y="2"/>
                      <a:pt x="5925" y="2"/>
                    </a:cubicBezTo>
                    <a:close/>
                    <a:moveTo>
                      <a:pt x="5933" y="2"/>
                    </a:moveTo>
                    <a:lnTo>
                      <a:pt x="5933" y="2"/>
                    </a:lnTo>
                    <a:cubicBezTo>
                      <a:pt x="5934" y="2"/>
                      <a:pt x="5935" y="2"/>
                      <a:pt x="5935" y="4"/>
                    </a:cubicBezTo>
                    <a:cubicBezTo>
                      <a:pt x="5935" y="5"/>
                      <a:pt x="5934" y="6"/>
                      <a:pt x="5933" y="6"/>
                    </a:cubicBezTo>
                    <a:lnTo>
                      <a:pt x="5933" y="6"/>
                    </a:lnTo>
                    <a:cubicBezTo>
                      <a:pt x="5932" y="6"/>
                      <a:pt x="5931" y="5"/>
                      <a:pt x="5931" y="4"/>
                    </a:cubicBezTo>
                    <a:cubicBezTo>
                      <a:pt x="5931" y="2"/>
                      <a:pt x="5932" y="2"/>
                      <a:pt x="5933" y="2"/>
                    </a:cubicBezTo>
                    <a:close/>
                    <a:moveTo>
                      <a:pt x="5941" y="2"/>
                    </a:moveTo>
                    <a:lnTo>
                      <a:pt x="5941" y="2"/>
                    </a:lnTo>
                    <a:cubicBezTo>
                      <a:pt x="5942" y="2"/>
                      <a:pt x="5943" y="2"/>
                      <a:pt x="5943" y="4"/>
                    </a:cubicBezTo>
                    <a:cubicBezTo>
                      <a:pt x="5943" y="5"/>
                      <a:pt x="5942" y="6"/>
                      <a:pt x="5941" y="6"/>
                    </a:cubicBezTo>
                    <a:lnTo>
                      <a:pt x="5941" y="6"/>
                    </a:lnTo>
                    <a:cubicBezTo>
                      <a:pt x="5940" y="6"/>
                      <a:pt x="5939" y="5"/>
                      <a:pt x="5939" y="4"/>
                    </a:cubicBezTo>
                    <a:cubicBezTo>
                      <a:pt x="5939" y="2"/>
                      <a:pt x="5940" y="2"/>
                      <a:pt x="5941" y="2"/>
                    </a:cubicBezTo>
                    <a:close/>
                    <a:moveTo>
                      <a:pt x="5949" y="2"/>
                    </a:moveTo>
                    <a:lnTo>
                      <a:pt x="5949" y="2"/>
                    </a:lnTo>
                    <a:cubicBezTo>
                      <a:pt x="5950" y="2"/>
                      <a:pt x="5951" y="2"/>
                      <a:pt x="5951" y="4"/>
                    </a:cubicBezTo>
                    <a:cubicBezTo>
                      <a:pt x="5951" y="5"/>
                      <a:pt x="5950" y="6"/>
                      <a:pt x="5949" y="6"/>
                    </a:cubicBezTo>
                    <a:lnTo>
                      <a:pt x="5949" y="6"/>
                    </a:lnTo>
                    <a:cubicBezTo>
                      <a:pt x="5948" y="6"/>
                      <a:pt x="5947" y="5"/>
                      <a:pt x="5947" y="4"/>
                    </a:cubicBezTo>
                    <a:cubicBezTo>
                      <a:pt x="5947" y="2"/>
                      <a:pt x="5948" y="2"/>
                      <a:pt x="5949" y="2"/>
                    </a:cubicBezTo>
                    <a:close/>
                    <a:moveTo>
                      <a:pt x="5957" y="2"/>
                    </a:moveTo>
                    <a:lnTo>
                      <a:pt x="5957" y="2"/>
                    </a:lnTo>
                    <a:cubicBezTo>
                      <a:pt x="5958" y="2"/>
                      <a:pt x="5959" y="2"/>
                      <a:pt x="5959" y="4"/>
                    </a:cubicBezTo>
                    <a:cubicBezTo>
                      <a:pt x="5959" y="5"/>
                      <a:pt x="5958" y="6"/>
                      <a:pt x="5957" y="6"/>
                    </a:cubicBezTo>
                    <a:lnTo>
                      <a:pt x="5957" y="6"/>
                    </a:lnTo>
                    <a:cubicBezTo>
                      <a:pt x="5956" y="6"/>
                      <a:pt x="5955" y="5"/>
                      <a:pt x="5955" y="4"/>
                    </a:cubicBezTo>
                    <a:cubicBezTo>
                      <a:pt x="5955" y="2"/>
                      <a:pt x="5956" y="2"/>
                      <a:pt x="5957" y="2"/>
                    </a:cubicBezTo>
                    <a:close/>
                    <a:moveTo>
                      <a:pt x="5965" y="2"/>
                    </a:moveTo>
                    <a:lnTo>
                      <a:pt x="5965" y="2"/>
                    </a:lnTo>
                    <a:cubicBezTo>
                      <a:pt x="5966" y="2"/>
                      <a:pt x="5967" y="2"/>
                      <a:pt x="5967" y="4"/>
                    </a:cubicBezTo>
                    <a:cubicBezTo>
                      <a:pt x="5967" y="5"/>
                      <a:pt x="5966" y="6"/>
                      <a:pt x="5965" y="6"/>
                    </a:cubicBezTo>
                    <a:lnTo>
                      <a:pt x="5965" y="6"/>
                    </a:lnTo>
                    <a:cubicBezTo>
                      <a:pt x="5964" y="6"/>
                      <a:pt x="5963" y="5"/>
                      <a:pt x="5963" y="4"/>
                    </a:cubicBezTo>
                    <a:cubicBezTo>
                      <a:pt x="5963" y="2"/>
                      <a:pt x="5964" y="2"/>
                      <a:pt x="5965" y="2"/>
                    </a:cubicBezTo>
                    <a:close/>
                    <a:moveTo>
                      <a:pt x="5973" y="2"/>
                    </a:moveTo>
                    <a:lnTo>
                      <a:pt x="5973" y="2"/>
                    </a:lnTo>
                    <a:cubicBezTo>
                      <a:pt x="5974" y="2"/>
                      <a:pt x="5975" y="2"/>
                      <a:pt x="5975" y="4"/>
                    </a:cubicBezTo>
                    <a:cubicBezTo>
                      <a:pt x="5975" y="5"/>
                      <a:pt x="5974" y="6"/>
                      <a:pt x="5973" y="6"/>
                    </a:cubicBezTo>
                    <a:lnTo>
                      <a:pt x="5973" y="6"/>
                    </a:lnTo>
                    <a:cubicBezTo>
                      <a:pt x="5972" y="6"/>
                      <a:pt x="5971" y="5"/>
                      <a:pt x="5971" y="4"/>
                    </a:cubicBezTo>
                    <a:cubicBezTo>
                      <a:pt x="5971" y="2"/>
                      <a:pt x="5972" y="2"/>
                      <a:pt x="5973" y="2"/>
                    </a:cubicBezTo>
                    <a:close/>
                    <a:moveTo>
                      <a:pt x="5981" y="2"/>
                    </a:moveTo>
                    <a:lnTo>
                      <a:pt x="5981" y="2"/>
                    </a:lnTo>
                    <a:cubicBezTo>
                      <a:pt x="5982" y="2"/>
                      <a:pt x="5983" y="2"/>
                      <a:pt x="5983" y="4"/>
                    </a:cubicBezTo>
                    <a:cubicBezTo>
                      <a:pt x="5983" y="5"/>
                      <a:pt x="5982" y="6"/>
                      <a:pt x="5981" y="6"/>
                    </a:cubicBezTo>
                    <a:lnTo>
                      <a:pt x="5981" y="6"/>
                    </a:lnTo>
                    <a:cubicBezTo>
                      <a:pt x="5980" y="6"/>
                      <a:pt x="5979" y="5"/>
                      <a:pt x="5979" y="4"/>
                    </a:cubicBezTo>
                    <a:cubicBezTo>
                      <a:pt x="5979" y="2"/>
                      <a:pt x="5980" y="2"/>
                      <a:pt x="5981" y="2"/>
                    </a:cubicBezTo>
                    <a:close/>
                    <a:moveTo>
                      <a:pt x="5989" y="2"/>
                    </a:moveTo>
                    <a:lnTo>
                      <a:pt x="5989" y="2"/>
                    </a:lnTo>
                    <a:cubicBezTo>
                      <a:pt x="5990" y="2"/>
                      <a:pt x="5991" y="2"/>
                      <a:pt x="5991" y="4"/>
                    </a:cubicBezTo>
                    <a:cubicBezTo>
                      <a:pt x="5991" y="5"/>
                      <a:pt x="5990" y="6"/>
                      <a:pt x="5989" y="6"/>
                    </a:cubicBezTo>
                    <a:lnTo>
                      <a:pt x="5989" y="6"/>
                    </a:lnTo>
                    <a:cubicBezTo>
                      <a:pt x="5988" y="6"/>
                      <a:pt x="5987" y="5"/>
                      <a:pt x="5987" y="4"/>
                    </a:cubicBezTo>
                    <a:cubicBezTo>
                      <a:pt x="5987" y="2"/>
                      <a:pt x="5988" y="2"/>
                      <a:pt x="5989" y="2"/>
                    </a:cubicBezTo>
                    <a:close/>
                    <a:moveTo>
                      <a:pt x="5997" y="2"/>
                    </a:moveTo>
                    <a:lnTo>
                      <a:pt x="5997" y="2"/>
                    </a:lnTo>
                    <a:cubicBezTo>
                      <a:pt x="5998" y="2"/>
                      <a:pt x="5999" y="2"/>
                      <a:pt x="5999" y="4"/>
                    </a:cubicBezTo>
                    <a:cubicBezTo>
                      <a:pt x="5999" y="5"/>
                      <a:pt x="5998" y="6"/>
                      <a:pt x="5997" y="6"/>
                    </a:cubicBezTo>
                    <a:lnTo>
                      <a:pt x="5997" y="6"/>
                    </a:lnTo>
                    <a:cubicBezTo>
                      <a:pt x="5996" y="6"/>
                      <a:pt x="5995" y="5"/>
                      <a:pt x="5995" y="4"/>
                    </a:cubicBezTo>
                    <a:cubicBezTo>
                      <a:pt x="5995" y="2"/>
                      <a:pt x="5996" y="2"/>
                      <a:pt x="5997" y="2"/>
                    </a:cubicBezTo>
                    <a:close/>
                    <a:moveTo>
                      <a:pt x="6005" y="2"/>
                    </a:moveTo>
                    <a:lnTo>
                      <a:pt x="6005" y="2"/>
                    </a:lnTo>
                    <a:cubicBezTo>
                      <a:pt x="6006" y="2"/>
                      <a:pt x="6007" y="2"/>
                      <a:pt x="6007" y="4"/>
                    </a:cubicBezTo>
                    <a:cubicBezTo>
                      <a:pt x="6007" y="5"/>
                      <a:pt x="6006" y="6"/>
                      <a:pt x="6005" y="6"/>
                    </a:cubicBezTo>
                    <a:lnTo>
                      <a:pt x="6005" y="6"/>
                    </a:lnTo>
                    <a:cubicBezTo>
                      <a:pt x="6004" y="6"/>
                      <a:pt x="6003" y="5"/>
                      <a:pt x="6003" y="4"/>
                    </a:cubicBezTo>
                    <a:cubicBezTo>
                      <a:pt x="6003" y="2"/>
                      <a:pt x="6004" y="2"/>
                      <a:pt x="6005" y="2"/>
                    </a:cubicBezTo>
                    <a:close/>
                    <a:moveTo>
                      <a:pt x="6013" y="2"/>
                    </a:moveTo>
                    <a:lnTo>
                      <a:pt x="6013" y="2"/>
                    </a:lnTo>
                    <a:cubicBezTo>
                      <a:pt x="6014" y="2"/>
                      <a:pt x="6015" y="2"/>
                      <a:pt x="6015" y="4"/>
                    </a:cubicBezTo>
                    <a:cubicBezTo>
                      <a:pt x="6015" y="5"/>
                      <a:pt x="6014" y="6"/>
                      <a:pt x="6013" y="6"/>
                    </a:cubicBezTo>
                    <a:lnTo>
                      <a:pt x="6013" y="6"/>
                    </a:lnTo>
                    <a:cubicBezTo>
                      <a:pt x="6012" y="6"/>
                      <a:pt x="6011" y="5"/>
                      <a:pt x="6011" y="4"/>
                    </a:cubicBezTo>
                    <a:cubicBezTo>
                      <a:pt x="6011" y="2"/>
                      <a:pt x="6012" y="2"/>
                      <a:pt x="6013" y="2"/>
                    </a:cubicBezTo>
                    <a:close/>
                    <a:moveTo>
                      <a:pt x="6021" y="2"/>
                    </a:moveTo>
                    <a:lnTo>
                      <a:pt x="6021" y="2"/>
                    </a:lnTo>
                    <a:cubicBezTo>
                      <a:pt x="6022" y="2"/>
                      <a:pt x="6023" y="2"/>
                      <a:pt x="6023" y="4"/>
                    </a:cubicBezTo>
                    <a:cubicBezTo>
                      <a:pt x="6023" y="5"/>
                      <a:pt x="6022" y="6"/>
                      <a:pt x="6021" y="6"/>
                    </a:cubicBezTo>
                    <a:lnTo>
                      <a:pt x="6021" y="6"/>
                    </a:lnTo>
                    <a:cubicBezTo>
                      <a:pt x="6020" y="6"/>
                      <a:pt x="6019" y="5"/>
                      <a:pt x="6019" y="4"/>
                    </a:cubicBezTo>
                    <a:cubicBezTo>
                      <a:pt x="6019" y="2"/>
                      <a:pt x="6020" y="2"/>
                      <a:pt x="6021" y="2"/>
                    </a:cubicBezTo>
                    <a:close/>
                    <a:moveTo>
                      <a:pt x="6029" y="2"/>
                    </a:moveTo>
                    <a:lnTo>
                      <a:pt x="6029" y="2"/>
                    </a:lnTo>
                    <a:cubicBezTo>
                      <a:pt x="6030" y="2"/>
                      <a:pt x="6031" y="2"/>
                      <a:pt x="6031" y="4"/>
                    </a:cubicBezTo>
                    <a:cubicBezTo>
                      <a:pt x="6031" y="5"/>
                      <a:pt x="6030" y="6"/>
                      <a:pt x="6029" y="6"/>
                    </a:cubicBezTo>
                    <a:lnTo>
                      <a:pt x="6029" y="6"/>
                    </a:lnTo>
                    <a:cubicBezTo>
                      <a:pt x="6028" y="6"/>
                      <a:pt x="6027" y="5"/>
                      <a:pt x="6027" y="4"/>
                    </a:cubicBezTo>
                    <a:cubicBezTo>
                      <a:pt x="6027" y="2"/>
                      <a:pt x="6028" y="2"/>
                      <a:pt x="6029" y="2"/>
                    </a:cubicBezTo>
                    <a:close/>
                    <a:moveTo>
                      <a:pt x="6037" y="2"/>
                    </a:moveTo>
                    <a:lnTo>
                      <a:pt x="6037" y="2"/>
                    </a:lnTo>
                    <a:cubicBezTo>
                      <a:pt x="6038" y="2"/>
                      <a:pt x="6039" y="2"/>
                      <a:pt x="6039" y="4"/>
                    </a:cubicBezTo>
                    <a:cubicBezTo>
                      <a:pt x="6039" y="5"/>
                      <a:pt x="6038" y="6"/>
                      <a:pt x="6037" y="6"/>
                    </a:cubicBezTo>
                    <a:lnTo>
                      <a:pt x="6037" y="6"/>
                    </a:lnTo>
                    <a:cubicBezTo>
                      <a:pt x="6036" y="6"/>
                      <a:pt x="6035" y="5"/>
                      <a:pt x="6035" y="4"/>
                    </a:cubicBezTo>
                    <a:cubicBezTo>
                      <a:pt x="6035" y="2"/>
                      <a:pt x="6036" y="2"/>
                      <a:pt x="6037" y="2"/>
                    </a:cubicBezTo>
                    <a:close/>
                    <a:moveTo>
                      <a:pt x="6045" y="2"/>
                    </a:moveTo>
                    <a:lnTo>
                      <a:pt x="6045" y="2"/>
                    </a:lnTo>
                    <a:cubicBezTo>
                      <a:pt x="6046" y="2"/>
                      <a:pt x="6047" y="2"/>
                      <a:pt x="6047" y="4"/>
                    </a:cubicBezTo>
                    <a:cubicBezTo>
                      <a:pt x="6047" y="5"/>
                      <a:pt x="6046" y="6"/>
                      <a:pt x="6045" y="6"/>
                    </a:cubicBezTo>
                    <a:lnTo>
                      <a:pt x="6045" y="6"/>
                    </a:lnTo>
                    <a:cubicBezTo>
                      <a:pt x="6044" y="6"/>
                      <a:pt x="6043" y="5"/>
                      <a:pt x="6043" y="4"/>
                    </a:cubicBezTo>
                    <a:cubicBezTo>
                      <a:pt x="6043" y="2"/>
                      <a:pt x="6044" y="2"/>
                      <a:pt x="6045" y="2"/>
                    </a:cubicBezTo>
                    <a:close/>
                    <a:moveTo>
                      <a:pt x="6053" y="2"/>
                    </a:moveTo>
                    <a:lnTo>
                      <a:pt x="6053" y="2"/>
                    </a:lnTo>
                    <a:cubicBezTo>
                      <a:pt x="6054" y="2"/>
                      <a:pt x="6055" y="2"/>
                      <a:pt x="6055" y="4"/>
                    </a:cubicBezTo>
                    <a:cubicBezTo>
                      <a:pt x="6055" y="5"/>
                      <a:pt x="6054" y="6"/>
                      <a:pt x="6053" y="6"/>
                    </a:cubicBezTo>
                    <a:lnTo>
                      <a:pt x="6053" y="6"/>
                    </a:lnTo>
                    <a:cubicBezTo>
                      <a:pt x="6052" y="6"/>
                      <a:pt x="6051" y="5"/>
                      <a:pt x="6051" y="4"/>
                    </a:cubicBezTo>
                    <a:cubicBezTo>
                      <a:pt x="6051" y="2"/>
                      <a:pt x="6052" y="2"/>
                      <a:pt x="6053" y="2"/>
                    </a:cubicBezTo>
                    <a:close/>
                    <a:moveTo>
                      <a:pt x="6061" y="2"/>
                    </a:moveTo>
                    <a:lnTo>
                      <a:pt x="6061" y="2"/>
                    </a:lnTo>
                    <a:cubicBezTo>
                      <a:pt x="6062" y="2"/>
                      <a:pt x="6063" y="2"/>
                      <a:pt x="6063" y="4"/>
                    </a:cubicBezTo>
                    <a:cubicBezTo>
                      <a:pt x="6063" y="5"/>
                      <a:pt x="6062" y="6"/>
                      <a:pt x="6061" y="6"/>
                    </a:cubicBezTo>
                    <a:lnTo>
                      <a:pt x="6061" y="6"/>
                    </a:lnTo>
                    <a:cubicBezTo>
                      <a:pt x="6060" y="6"/>
                      <a:pt x="6059" y="5"/>
                      <a:pt x="6059" y="4"/>
                    </a:cubicBezTo>
                    <a:cubicBezTo>
                      <a:pt x="6059" y="2"/>
                      <a:pt x="6060" y="2"/>
                      <a:pt x="6061" y="2"/>
                    </a:cubicBezTo>
                    <a:close/>
                    <a:moveTo>
                      <a:pt x="6069" y="2"/>
                    </a:moveTo>
                    <a:lnTo>
                      <a:pt x="6069" y="2"/>
                    </a:lnTo>
                    <a:cubicBezTo>
                      <a:pt x="6070" y="2"/>
                      <a:pt x="6071" y="2"/>
                      <a:pt x="6071" y="4"/>
                    </a:cubicBezTo>
                    <a:cubicBezTo>
                      <a:pt x="6071" y="5"/>
                      <a:pt x="6070" y="6"/>
                      <a:pt x="6069" y="6"/>
                    </a:cubicBezTo>
                    <a:lnTo>
                      <a:pt x="6069" y="6"/>
                    </a:lnTo>
                    <a:cubicBezTo>
                      <a:pt x="6068" y="6"/>
                      <a:pt x="6067" y="5"/>
                      <a:pt x="6067" y="4"/>
                    </a:cubicBezTo>
                    <a:cubicBezTo>
                      <a:pt x="6067" y="2"/>
                      <a:pt x="6068" y="2"/>
                      <a:pt x="6069" y="2"/>
                    </a:cubicBezTo>
                    <a:close/>
                    <a:moveTo>
                      <a:pt x="6077" y="2"/>
                    </a:moveTo>
                    <a:lnTo>
                      <a:pt x="6077" y="2"/>
                    </a:lnTo>
                    <a:cubicBezTo>
                      <a:pt x="6078" y="2"/>
                      <a:pt x="6079" y="2"/>
                      <a:pt x="6079" y="4"/>
                    </a:cubicBezTo>
                    <a:cubicBezTo>
                      <a:pt x="6079" y="5"/>
                      <a:pt x="6078" y="6"/>
                      <a:pt x="6077" y="6"/>
                    </a:cubicBezTo>
                    <a:lnTo>
                      <a:pt x="6077" y="6"/>
                    </a:lnTo>
                    <a:cubicBezTo>
                      <a:pt x="6076" y="6"/>
                      <a:pt x="6075" y="5"/>
                      <a:pt x="6075" y="4"/>
                    </a:cubicBezTo>
                    <a:cubicBezTo>
                      <a:pt x="6075" y="2"/>
                      <a:pt x="6076" y="2"/>
                      <a:pt x="6077" y="2"/>
                    </a:cubicBezTo>
                    <a:close/>
                    <a:moveTo>
                      <a:pt x="6085" y="2"/>
                    </a:moveTo>
                    <a:lnTo>
                      <a:pt x="6085" y="2"/>
                    </a:lnTo>
                    <a:cubicBezTo>
                      <a:pt x="6086" y="2"/>
                      <a:pt x="6087" y="2"/>
                      <a:pt x="6087" y="4"/>
                    </a:cubicBezTo>
                    <a:cubicBezTo>
                      <a:pt x="6087" y="5"/>
                      <a:pt x="6086" y="6"/>
                      <a:pt x="6085" y="6"/>
                    </a:cubicBezTo>
                    <a:lnTo>
                      <a:pt x="6085" y="6"/>
                    </a:lnTo>
                    <a:cubicBezTo>
                      <a:pt x="6084" y="6"/>
                      <a:pt x="6083" y="5"/>
                      <a:pt x="6083" y="4"/>
                    </a:cubicBezTo>
                    <a:cubicBezTo>
                      <a:pt x="6083" y="2"/>
                      <a:pt x="6084" y="2"/>
                      <a:pt x="6085" y="2"/>
                    </a:cubicBezTo>
                    <a:close/>
                    <a:moveTo>
                      <a:pt x="6093" y="2"/>
                    </a:moveTo>
                    <a:lnTo>
                      <a:pt x="6093" y="2"/>
                    </a:lnTo>
                    <a:cubicBezTo>
                      <a:pt x="6094" y="2"/>
                      <a:pt x="6095" y="2"/>
                      <a:pt x="6095" y="4"/>
                    </a:cubicBezTo>
                    <a:cubicBezTo>
                      <a:pt x="6095" y="5"/>
                      <a:pt x="6094" y="6"/>
                      <a:pt x="6093" y="6"/>
                    </a:cubicBezTo>
                    <a:lnTo>
                      <a:pt x="6093" y="6"/>
                    </a:lnTo>
                    <a:cubicBezTo>
                      <a:pt x="6092" y="6"/>
                      <a:pt x="6091" y="5"/>
                      <a:pt x="6091" y="4"/>
                    </a:cubicBezTo>
                    <a:cubicBezTo>
                      <a:pt x="6091" y="2"/>
                      <a:pt x="6092" y="2"/>
                      <a:pt x="6093" y="2"/>
                    </a:cubicBezTo>
                    <a:close/>
                    <a:moveTo>
                      <a:pt x="6101" y="2"/>
                    </a:moveTo>
                    <a:lnTo>
                      <a:pt x="6101" y="2"/>
                    </a:lnTo>
                    <a:cubicBezTo>
                      <a:pt x="6102" y="2"/>
                      <a:pt x="6103" y="2"/>
                      <a:pt x="6103" y="4"/>
                    </a:cubicBezTo>
                    <a:cubicBezTo>
                      <a:pt x="6103" y="5"/>
                      <a:pt x="6102" y="6"/>
                      <a:pt x="6101" y="6"/>
                    </a:cubicBezTo>
                    <a:lnTo>
                      <a:pt x="6101" y="6"/>
                    </a:lnTo>
                    <a:cubicBezTo>
                      <a:pt x="6100" y="6"/>
                      <a:pt x="6099" y="5"/>
                      <a:pt x="6099" y="4"/>
                    </a:cubicBezTo>
                    <a:cubicBezTo>
                      <a:pt x="6099" y="2"/>
                      <a:pt x="6100" y="2"/>
                      <a:pt x="6101" y="2"/>
                    </a:cubicBezTo>
                    <a:close/>
                    <a:moveTo>
                      <a:pt x="6109" y="2"/>
                    </a:moveTo>
                    <a:lnTo>
                      <a:pt x="6109" y="2"/>
                    </a:lnTo>
                    <a:cubicBezTo>
                      <a:pt x="6110" y="2"/>
                      <a:pt x="6111" y="3"/>
                      <a:pt x="6111" y="4"/>
                    </a:cubicBezTo>
                    <a:cubicBezTo>
                      <a:pt x="6111" y="5"/>
                      <a:pt x="6110" y="6"/>
                      <a:pt x="6109" y="6"/>
                    </a:cubicBezTo>
                    <a:lnTo>
                      <a:pt x="6109" y="6"/>
                    </a:lnTo>
                    <a:cubicBezTo>
                      <a:pt x="6108" y="6"/>
                      <a:pt x="6107" y="5"/>
                      <a:pt x="6107" y="4"/>
                    </a:cubicBezTo>
                    <a:cubicBezTo>
                      <a:pt x="6107" y="3"/>
                      <a:pt x="6108" y="2"/>
                      <a:pt x="6109" y="2"/>
                    </a:cubicBezTo>
                    <a:close/>
                    <a:moveTo>
                      <a:pt x="6117" y="2"/>
                    </a:moveTo>
                    <a:lnTo>
                      <a:pt x="6117" y="2"/>
                    </a:lnTo>
                    <a:cubicBezTo>
                      <a:pt x="6118" y="2"/>
                      <a:pt x="6119" y="3"/>
                      <a:pt x="6119" y="4"/>
                    </a:cubicBezTo>
                    <a:cubicBezTo>
                      <a:pt x="6119" y="5"/>
                      <a:pt x="6118" y="6"/>
                      <a:pt x="6117" y="6"/>
                    </a:cubicBezTo>
                    <a:lnTo>
                      <a:pt x="6117" y="6"/>
                    </a:lnTo>
                    <a:cubicBezTo>
                      <a:pt x="6116" y="6"/>
                      <a:pt x="6115" y="5"/>
                      <a:pt x="6115" y="4"/>
                    </a:cubicBezTo>
                    <a:cubicBezTo>
                      <a:pt x="6115" y="3"/>
                      <a:pt x="6116" y="2"/>
                      <a:pt x="6117" y="2"/>
                    </a:cubicBezTo>
                    <a:close/>
                    <a:moveTo>
                      <a:pt x="6125" y="2"/>
                    </a:moveTo>
                    <a:lnTo>
                      <a:pt x="6125" y="2"/>
                    </a:lnTo>
                    <a:cubicBezTo>
                      <a:pt x="6126" y="2"/>
                      <a:pt x="6127" y="3"/>
                      <a:pt x="6127" y="4"/>
                    </a:cubicBezTo>
                    <a:cubicBezTo>
                      <a:pt x="6127" y="5"/>
                      <a:pt x="6126" y="6"/>
                      <a:pt x="6125" y="6"/>
                    </a:cubicBezTo>
                    <a:lnTo>
                      <a:pt x="6125" y="6"/>
                    </a:lnTo>
                    <a:cubicBezTo>
                      <a:pt x="6124" y="6"/>
                      <a:pt x="6123" y="5"/>
                      <a:pt x="6123" y="4"/>
                    </a:cubicBezTo>
                    <a:cubicBezTo>
                      <a:pt x="6123" y="3"/>
                      <a:pt x="6124" y="2"/>
                      <a:pt x="6125" y="2"/>
                    </a:cubicBezTo>
                    <a:close/>
                    <a:moveTo>
                      <a:pt x="6133" y="2"/>
                    </a:moveTo>
                    <a:lnTo>
                      <a:pt x="6133" y="2"/>
                    </a:lnTo>
                    <a:cubicBezTo>
                      <a:pt x="6134" y="2"/>
                      <a:pt x="6135" y="3"/>
                      <a:pt x="6135" y="4"/>
                    </a:cubicBezTo>
                    <a:cubicBezTo>
                      <a:pt x="6135" y="5"/>
                      <a:pt x="6134" y="6"/>
                      <a:pt x="6133" y="6"/>
                    </a:cubicBezTo>
                    <a:lnTo>
                      <a:pt x="6133" y="6"/>
                    </a:lnTo>
                    <a:cubicBezTo>
                      <a:pt x="6132" y="6"/>
                      <a:pt x="6131" y="5"/>
                      <a:pt x="6131" y="4"/>
                    </a:cubicBezTo>
                    <a:cubicBezTo>
                      <a:pt x="6131" y="3"/>
                      <a:pt x="6132" y="2"/>
                      <a:pt x="6133" y="2"/>
                    </a:cubicBezTo>
                    <a:close/>
                    <a:moveTo>
                      <a:pt x="6141" y="2"/>
                    </a:moveTo>
                    <a:lnTo>
                      <a:pt x="6141" y="2"/>
                    </a:lnTo>
                    <a:cubicBezTo>
                      <a:pt x="6142" y="2"/>
                      <a:pt x="6143" y="3"/>
                      <a:pt x="6143" y="4"/>
                    </a:cubicBezTo>
                    <a:cubicBezTo>
                      <a:pt x="6143" y="5"/>
                      <a:pt x="6142" y="6"/>
                      <a:pt x="6141" y="6"/>
                    </a:cubicBezTo>
                    <a:lnTo>
                      <a:pt x="6141" y="6"/>
                    </a:lnTo>
                    <a:cubicBezTo>
                      <a:pt x="6140" y="6"/>
                      <a:pt x="6139" y="5"/>
                      <a:pt x="6139" y="4"/>
                    </a:cubicBezTo>
                    <a:cubicBezTo>
                      <a:pt x="6139" y="3"/>
                      <a:pt x="6140" y="2"/>
                      <a:pt x="6141" y="2"/>
                    </a:cubicBezTo>
                    <a:close/>
                    <a:moveTo>
                      <a:pt x="6149" y="2"/>
                    </a:moveTo>
                    <a:lnTo>
                      <a:pt x="6149" y="2"/>
                    </a:lnTo>
                    <a:cubicBezTo>
                      <a:pt x="6150" y="2"/>
                      <a:pt x="6151" y="3"/>
                      <a:pt x="6151" y="4"/>
                    </a:cubicBezTo>
                    <a:cubicBezTo>
                      <a:pt x="6151" y="5"/>
                      <a:pt x="6150" y="6"/>
                      <a:pt x="6149" y="6"/>
                    </a:cubicBezTo>
                    <a:lnTo>
                      <a:pt x="6149" y="6"/>
                    </a:lnTo>
                    <a:cubicBezTo>
                      <a:pt x="6148" y="6"/>
                      <a:pt x="6147" y="5"/>
                      <a:pt x="6147" y="4"/>
                    </a:cubicBezTo>
                    <a:cubicBezTo>
                      <a:pt x="6147" y="3"/>
                      <a:pt x="6148" y="2"/>
                      <a:pt x="6149" y="2"/>
                    </a:cubicBezTo>
                    <a:close/>
                    <a:moveTo>
                      <a:pt x="6157" y="2"/>
                    </a:moveTo>
                    <a:lnTo>
                      <a:pt x="6157" y="2"/>
                    </a:lnTo>
                    <a:cubicBezTo>
                      <a:pt x="6158" y="2"/>
                      <a:pt x="6159" y="3"/>
                      <a:pt x="6159" y="4"/>
                    </a:cubicBezTo>
                    <a:cubicBezTo>
                      <a:pt x="6159" y="5"/>
                      <a:pt x="6158" y="6"/>
                      <a:pt x="6157" y="6"/>
                    </a:cubicBezTo>
                    <a:lnTo>
                      <a:pt x="6157" y="6"/>
                    </a:lnTo>
                    <a:cubicBezTo>
                      <a:pt x="6156" y="6"/>
                      <a:pt x="6155" y="5"/>
                      <a:pt x="6155" y="4"/>
                    </a:cubicBezTo>
                    <a:cubicBezTo>
                      <a:pt x="6155" y="3"/>
                      <a:pt x="6156" y="2"/>
                      <a:pt x="6157" y="2"/>
                    </a:cubicBezTo>
                    <a:close/>
                    <a:moveTo>
                      <a:pt x="6165" y="2"/>
                    </a:moveTo>
                    <a:lnTo>
                      <a:pt x="6165" y="2"/>
                    </a:lnTo>
                    <a:cubicBezTo>
                      <a:pt x="6166" y="2"/>
                      <a:pt x="6167" y="3"/>
                      <a:pt x="6167" y="4"/>
                    </a:cubicBezTo>
                    <a:cubicBezTo>
                      <a:pt x="6167" y="5"/>
                      <a:pt x="6166" y="6"/>
                      <a:pt x="6165" y="6"/>
                    </a:cubicBezTo>
                    <a:lnTo>
                      <a:pt x="6165" y="6"/>
                    </a:lnTo>
                    <a:cubicBezTo>
                      <a:pt x="6164" y="6"/>
                      <a:pt x="6163" y="5"/>
                      <a:pt x="6163" y="4"/>
                    </a:cubicBezTo>
                    <a:cubicBezTo>
                      <a:pt x="6163" y="3"/>
                      <a:pt x="6164" y="2"/>
                      <a:pt x="6165" y="2"/>
                    </a:cubicBezTo>
                    <a:close/>
                    <a:moveTo>
                      <a:pt x="6173" y="2"/>
                    </a:moveTo>
                    <a:lnTo>
                      <a:pt x="6173" y="2"/>
                    </a:lnTo>
                    <a:cubicBezTo>
                      <a:pt x="6174" y="2"/>
                      <a:pt x="6175" y="3"/>
                      <a:pt x="6175" y="4"/>
                    </a:cubicBezTo>
                    <a:cubicBezTo>
                      <a:pt x="6175" y="5"/>
                      <a:pt x="6174" y="6"/>
                      <a:pt x="6173" y="6"/>
                    </a:cubicBezTo>
                    <a:lnTo>
                      <a:pt x="6173" y="6"/>
                    </a:lnTo>
                    <a:cubicBezTo>
                      <a:pt x="6172" y="6"/>
                      <a:pt x="6171" y="5"/>
                      <a:pt x="6171" y="4"/>
                    </a:cubicBezTo>
                    <a:cubicBezTo>
                      <a:pt x="6171" y="3"/>
                      <a:pt x="6172" y="2"/>
                      <a:pt x="6173" y="2"/>
                    </a:cubicBezTo>
                    <a:close/>
                    <a:moveTo>
                      <a:pt x="6181" y="2"/>
                    </a:moveTo>
                    <a:lnTo>
                      <a:pt x="6181" y="2"/>
                    </a:lnTo>
                    <a:cubicBezTo>
                      <a:pt x="6182" y="2"/>
                      <a:pt x="6183" y="3"/>
                      <a:pt x="6183" y="4"/>
                    </a:cubicBezTo>
                    <a:cubicBezTo>
                      <a:pt x="6183" y="5"/>
                      <a:pt x="6182" y="6"/>
                      <a:pt x="6181" y="6"/>
                    </a:cubicBezTo>
                    <a:lnTo>
                      <a:pt x="6181" y="6"/>
                    </a:lnTo>
                    <a:cubicBezTo>
                      <a:pt x="6180" y="6"/>
                      <a:pt x="6179" y="5"/>
                      <a:pt x="6179" y="4"/>
                    </a:cubicBezTo>
                    <a:cubicBezTo>
                      <a:pt x="6179" y="3"/>
                      <a:pt x="6180" y="2"/>
                      <a:pt x="6181" y="2"/>
                    </a:cubicBezTo>
                    <a:close/>
                    <a:moveTo>
                      <a:pt x="6189" y="2"/>
                    </a:moveTo>
                    <a:lnTo>
                      <a:pt x="6189" y="2"/>
                    </a:lnTo>
                    <a:cubicBezTo>
                      <a:pt x="6190" y="2"/>
                      <a:pt x="6191" y="3"/>
                      <a:pt x="6191" y="4"/>
                    </a:cubicBezTo>
                    <a:cubicBezTo>
                      <a:pt x="6191" y="5"/>
                      <a:pt x="6190" y="6"/>
                      <a:pt x="6189" y="6"/>
                    </a:cubicBezTo>
                    <a:lnTo>
                      <a:pt x="6189" y="6"/>
                    </a:lnTo>
                    <a:cubicBezTo>
                      <a:pt x="6188" y="6"/>
                      <a:pt x="6187" y="5"/>
                      <a:pt x="6187" y="4"/>
                    </a:cubicBezTo>
                    <a:cubicBezTo>
                      <a:pt x="6187" y="3"/>
                      <a:pt x="6188" y="2"/>
                      <a:pt x="6189" y="2"/>
                    </a:cubicBezTo>
                    <a:close/>
                    <a:moveTo>
                      <a:pt x="6197" y="2"/>
                    </a:moveTo>
                    <a:lnTo>
                      <a:pt x="6197" y="2"/>
                    </a:lnTo>
                    <a:cubicBezTo>
                      <a:pt x="6198" y="2"/>
                      <a:pt x="6199" y="3"/>
                      <a:pt x="6199" y="4"/>
                    </a:cubicBezTo>
                    <a:cubicBezTo>
                      <a:pt x="6199" y="5"/>
                      <a:pt x="6198" y="6"/>
                      <a:pt x="6197" y="6"/>
                    </a:cubicBezTo>
                    <a:lnTo>
                      <a:pt x="6197" y="6"/>
                    </a:lnTo>
                    <a:cubicBezTo>
                      <a:pt x="6196" y="6"/>
                      <a:pt x="6195" y="5"/>
                      <a:pt x="6195" y="4"/>
                    </a:cubicBezTo>
                    <a:cubicBezTo>
                      <a:pt x="6195" y="3"/>
                      <a:pt x="6196" y="2"/>
                      <a:pt x="6197" y="2"/>
                    </a:cubicBezTo>
                    <a:close/>
                    <a:moveTo>
                      <a:pt x="6205" y="2"/>
                    </a:moveTo>
                    <a:lnTo>
                      <a:pt x="6205" y="2"/>
                    </a:lnTo>
                    <a:cubicBezTo>
                      <a:pt x="6206" y="2"/>
                      <a:pt x="6207" y="3"/>
                      <a:pt x="6207" y="4"/>
                    </a:cubicBezTo>
                    <a:cubicBezTo>
                      <a:pt x="6207" y="5"/>
                      <a:pt x="6206" y="6"/>
                      <a:pt x="6205" y="6"/>
                    </a:cubicBezTo>
                    <a:lnTo>
                      <a:pt x="6205" y="6"/>
                    </a:lnTo>
                    <a:cubicBezTo>
                      <a:pt x="6204" y="6"/>
                      <a:pt x="6203" y="5"/>
                      <a:pt x="6203" y="4"/>
                    </a:cubicBezTo>
                    <a:cubicBezTo>
                      <a:pt x="6203" y="3"/>
                      <a:pt x="6204" y="2"/>
                      <a:pt x="6205" y="2"/>
                    </a:cubicBezTo>
                    <a:close/>
                    <a:moveTo>
                      <a:pt x="6213" y="2"/>
                    </a:moveTo>
                    <a:lnTo>
                      <a:pt x="6213" y="2"/>
                    </a:lnTo>
                    <a:cubicBezTo>
                      <a:pt x="6214" y="2"/>
                      <a:pt x="6215" y="3"/>
                      <a:pt x="6215" y="4"/>
                    </a:cubicBezTo>
                    <a:cubicBezTo>
                      <a:pt x="6215" y="5"/>
                      <a:pt x="6214" y="6"/>
                      <a:pt x="6213" y="6"/>
                    </a:cubicBezTo>
                    <a:lnTo>
                      <a:pt x="6213" y="6"/>
                    </a:lnTo>
                    <a:cubicBezTo>
                      <a:pt x="6212" y="6"/>
                      <a:pt x="6211" y="5"/>
                      <a:pt x="6211" y="4"/>
                    </a:cubicBezTo>
                    <a:cubicBezTo>
                      <a:pt x="6211" y="3"/>
                      <a:pt x="6212" y="2"/>
                      <a:pt x="6213" y="2"/>
                    </a:cubicBezTo>
                    <a:close/>
                    <a:moveTo>
                      <a:pt x="6221" y="2"/>
                    </a:moveTo>
                    <a:lnTo>
                      <a:pt x="6221" y="2"/>
                    </a:lnTo>
                    <a:cubicBezTo>
                      <a:pt x="6222" y="2"/>
                      <a:pt x="6223" y="3"/>
                      <a:pt x="6223" y="4"/>
                    </a:cubicBezTo>
                    <a:cubicBezTo>
                      <a:pt x="6223" y="5"/>
                      <a:pt x="6222" y="6"/>
                      <a:pt x="6221" y="6"/>
                    </a:cubicBezTo>
                    <a:lnTo>
                      <a:pt x="6221" y="6"/>
                    </a:lnTo>
                    <a:cubicBezTo>
                      <a:pt x="6220" y="6"/>
                      <a:pt x="6219" y="5"/>
                      <a:pt x="6219" y="4"/>
                    </a:cubicBezTo>
                    <a:cubicBezTo>
                      <a:pt x="6219" y="3"/>
                      <a:pt x="6220" y="2"/>
                      <a:pt x="6221" y="2"/>
                    </a:cubicBezTo>
                    <a:close/>
                    <a:moveTo>
                      <a:pt x="6229" y="2"/>
                    </a:moveTo>
                    <a:lnTo>
                      <a:pt x="6229" y="2"/>
                    </a:lnTo>
                    <a:cubicBezTo>
                      <a:pt x="6230" y="2"/>
                      <a:pt x="6231" y="3"/>
                      <a:pt x="6231" y="4"/>
                    </a:cubicBezTo>
                    <a:cubicBezTo>
                      <a:pt x="6231" y="5"/>
                      <a:pt x="6230" y="6"/>
                      <a:pt x="6229" y="6"/>
                    </a:cubicBezTo>
                    <a:lnTo>
                      <a:pt x="6229" y="6"/>
                    </a:lnTo>
                    <a:cubicBezTo>
                      <a:pt x="6228" y="6"/>
                      <a:pt x="6227" y="5"/>
                      <a:pt x="6227" y="4"/>
                    </a:cubicBezTo>
                    <a:cubicBezTo>
                      <a:pt x="6227" y="3"/>
                      <a:pt x="6228" y="2"/>
                      <a:pt x="6229" y="2"/>
                    </a:cubicBezTo>
                    <a:close/>
                    <a:moveTo>
                      <a:pt x="6237" y="2"/>
                    </a:moveTo>
                    <a:lnTo>
                      <a:pt x="6237" y="2"/>
                    </a:lnTo>
                    <a:cubicBezTo>
                      <a:pt x="6238" y="2"/>
                      <a:pt x="6239" y="3"/>
                      <a:pt x="6239" y="4"/>
                    </a:cubicBezTo>
                    <a:cubicBezTo>
                      <a:pt x="6239" y="5"/>
                      <a:pt x="6238" y="6"/>
                      <a:pt x="6237" y="6"/>
                    </a:cubicBezTo>
                    <a:lnTo>
                      <a:pt x="6237" y="6"/>
                    </a:lnTo>
                    <a:cubicBezTo>
                      <a:pt x="6236" y="6"/>
                      <a:pt x="6235" y="5"/>
                      <a:pt x="6235" y="4"/>
                    </a:cubicBezTo>
                    <a:cubicBezTo>
                      <a:pt x="6235" y="3"/>
                      <a:pt x="6236" y="2"/>
                      <a:pt x="6237" y="2"/>
                    </a:cubicBezTo>
                    <a:close/>
                    <a:moveTo>
                      <a:pt x="6245" y="2"/>
                    </a:moveTo>
                    <a:lnTo>
                      <a:pt x="6245" y="2"/>
                    </a:lnTo>
                    <a:cubicBezTo>
                      <a:pt x="6246" y="2"/>
                      <a:pt x="6247" y="3"/>
                      <a:pt x="6247" y="4"/>
                    </a:cubicBezTo>
                    <a:cubicBezTo>
                      <a:pt x="6247" y="5"/>
                      <a:pt x="6246" y="6"/>
                      <a:pt x="6245" y="6"/>
                    </a:cubicBezTo>
                    <a:lnTo>
                      <a:pt x="6245" y="6"/>
                    </a:lnTo>
                    <a:cubicBezTo>
                      <a:pt x="6244" y="6"/>
                      <a:pt x="6243" y="5"/>
                      <a:pt x="6243" y="4"/>
                    </a:cubicBezTo>
                    <a:cubicBezTo>
                      <a:pt x="6243" y="3"/>
                      <a:pt x="6244" y="2"/>
                      <a:pt x="6245" y="2"/>
                    </a:cubicBezTo>
                    <a:close/>
                    <a:moveTo>
                      <a:pt x="6253" y="2"/>
                    </a:moveTo>
                    <a:lnTo>
                      <a:pt x="6253" y="2"/>
                    </a:lnTo>
                    <a:cubicBezTo>
                      <a:pt x="6254" y="2"/>
                      <a:pt x="6255" y="3"/>
                      <a:pt x="6255" y="4"/>
                    </a:cubicBezTo>
                    <a:cubicBezTo>
                      <a:pt x="6255" y="5"/>
                      <a:pt x="6254" y="6"/>
                      <a:pt x="6253" y="6"/>
                    </a:cubicBezTo>
                    <a:lnTo>
                      <a:pt x="6253" y="6"/>
                    </a:lnTo>
                    <a:cubicBezTo>
                      <a:pt x="6252" y="6"/>
                      <a:pt x="6251" y="5"/>
                      <a:pt x="6251" y="4"/>
                    </a:cubicBezTo>
                    <a:cubicBezTo>
                      <a:pt x="6251" y="3"/>
                      <a:pt x="6252" y="2"/>
                      <a:pt x="6253" y="2"/>
                    </a:cubicBezTo>
                    <a:close/>
                    <a:moveTo>
                      <a:pt x="6261" y="2"/>
                    </a:moveTo>
                    <a:lnTo>
                      <a:pt x="6261" y="2"/>
                    </a:lnTo>
                    <a:cubicBezTo>
                      <a:pt x="6262" y="2"/>
                      <a:pt x="6263" y="3"/>
                      <a:pt x="6263" y="4"/>
                    </a:cubicBezTo>
                    <a:cubicBezTo>
                      <a:pt x="6263" y="5"/>
                      <a:pt x="6262" y="6"/>
                      <a:pt x="6261" y="6"/>
                    </a:cubicBezTo>
                    <a:lnTo>
                      <a:pt x="6261" y="6"/>
                    </a:lnTo>
                    <a:cubicBezTo>
                      <a:pt x="6260" y="6"/>
                      <a:pt x="6259" y="5"/>
                      <a:pt x="6259" y="4"/>
                    </a:cubicBezTo>
                    <a:cubicBezTo>
                      <a:pt x="6259" y="3"/>
                      <a:pt x="6260" y="2"/>
                      <a:pt x="6261" y="2"/>
                    </a:cubicBezTo>
                    <a:close/>
                    <a:moveTo>
                      <a:pt x="6269" y="2"/>
                    </a:moveTo>
                    <a:lnTo>
                      <a:pt x="6269" y="2"/>
                    </a:lnTo>
                    <a:cubicBezTo>
                      <a:pt x="6270" y="2"/>
                      <a:pt x="6271" y="3"/>
                      <a:pt x="6271" y="4"/>
                    </a:cubicBezTo>
                    <a:cubicBezTo>
                      <a:pt x="6271" y="5"/>
                      <a:pt x="6270" y="6"/>
                      <a:pt x="6269" y="6"/>
                    </a:cubicBezTo>
                    <a:lnTo>
                      <a:pt x="6269" y="6"/>
                    </a:lnTo>
                    <a:cubicBezTo>
                      <a:pt x="6268" y="6"/>
                      <a:pt x="6267" y="5"/>
                      <a:pt x="6267" y="4"/>
                    </a:cubicBezTo>
                    <a:cubicBezTo>
                      <a:pt x="6267" y="3"/>
                      <a:pt x="6268" y="2"/>
                      <a:pt x="6269" y="2"/>
                    </a:cubicBezTo>
                    <a:close/>
                    <a:moveTo>
                      <a:pt x="6277" y="2"/>
                    </a:moveTo>
                    <a:lnTo>
                      <a:pt x="6277" y="2"/>
                    </a:lnTo>
                    <a:cubicBezTo>
                      <a:pt x="6278" y="2"/>
                      <a:pt x="6279" y="3"/>
                      <a:pt x="6279" y="4"/>
                    </a:cubicBezTo>
                    <a:cubicBezTo>
                      <a:pt x="6279" y="5"/>
                      <a:pt x="6278" y="6"/>
                      <a:pt x="6277" y="6"/>
                    </a:cubicBezTo>
                    <a:lnTo>
                      <a:pt x="6277" y="6"/>
                    </a:lnTo>
                    <a:cubicBezTo>
                      <a:pt x="6276" y="6"/>
                      <a:pt x="6275" y="5"/>
                      <a:pt x="6275" y="4"/>
                    </a:cubicBezTo>
                    <a:cubicBezTo>
                      <a:pt x="6275" y="3"/>
                      <a:pt x="6276" y="2"/>
                      <a:pt x="6277" y="2"/>
                    </a:cubicBezTo>
                    <a:close/>
                    <a:moveTo>
                      <a:pt x="6285" y="2"/>
                    </a:moveTo>
                    <a:lnTo>
                      <a:pt x="6285" y="2"/>
                    </a:lnTo>
                    <a:cubicBezTo>
                      <a:pt x="6286" y="2"/>
                      <a:pt x="6287" y="3"/>
                      <a:pt x="6287" y="4"/>
                    </a:cubicBezTo>
                    <a:cubicBezTo>
                      <a:pt x="6287" y="5"/>
                      <a:pt x="6286" y="6"/>
                      <a:pt x="6285" y="6"/>
                    </a:cubicBezTo>
                    <a:lnTo>
                      <a:pt x="6285" y="6"/>
                    </a:lnTo>
                    <a:cubicBezTo>
                      <a:pt x="6284" y="6"/>
                      <a:pt x="6283" y="5"/>
                      <a:pt x="6283" y="4"/>
                    </a:cubicBezTo>
                    <a:cubicBezTo>
                      <a:pt x="6283" y="3"/>
                      <a:pt x="6284" y="2"/>
                      <a:pt x="6285" y="2"/>
                    </a:cubicBezTo>
                    <a:close/>
                    <a:moveTo>
                      <a:pt x="6293" y="2"/>
                    </a:moveTo>
                    <a:lnTo>
                      <a:pt x="6293" y="2"/>
                    </a:lnTo>
                    <a:cubicBezTo>
                      <a:pt x="6294" y="2"/>
                      <a:pt x="6295" y="3"/>
                      <a:pt x="6295" y="4"/>
                    </a:cubicBezTo>
                    <a:cubicBezTo>
                      <a:pt x="6295" y="5"/>
                      <a:pt x="6294" y="6"/>
                      <a:pt x="6293" y="6"/>
                    </a:cubicBezTo>
                    <a:lnTo>
                      <a:pt x="6293" y="6"/>
                    </a:lnTo>
                    <a:cubicBezTo>
                      <a:pt x="6292" y="6"/>
                      <a:pt x="6291" y="5"/>
                      <a:pt x="6291" y="4"/>
                    </a:cubicBezTo>
                    <a:cubicBezTo>
                      <a:pt x="6291" y="3"/>
                      <a:pt x="6292" y="2"/>
                      <a:pt x="6293" y="2"/>
                    </a:cubicBezTo>
                    <a:close/>
                    <a:moveTo>
                      <a:pt x="6301" y="2"/>
                    </a:moveTo>
                    <a:lnTo>
                      <a:pt x="6301" y="2"/>
                    </a:lnTo>
                    <a:cubicBezTo>
                      <a:pt x="6302" y="2"/>
                      <a:pt x="6303" y="3"/>
                      <a:pt x="6303" y="4"/>
                    </a:cubicBezTo>
                    <a:cubicBezTo>
                      <a:pt x="6303" y="5"/>
                      <a:pt x="6302" y="6"/>
                      <a:pt x="6301" y="6"/>
                    </a:cubicBezTo>
                    <a:lnTo>
                      <a:pt x="6301" y="6"/>
                    </a:lnTo>
                    <a:cubicBezTo>
                      <a:pt x="6300" y="6"/>
                      <a:pt x="6299" y="5"/>
                      <a:pt x="6299" y="4"/>
                    </a:cubicBezTo>
                    <a:cubicBezTo>
                      <a:pt x="6299" y="3"/>
                      <a:pt x="6300" y="2"/>
                      <a:pt x="6301" y="2"/>
                    </a:cubicBezTo>
                    <a:close/>
                    <a:moveTo>
                      <a:pt x="6309" y="2"/>
                    </a:moveTo>
                    <a:lnTo>
                      <a:pt x="6309" y="2"/>
                    </a:lnTo>
                    <a:cubicBezTo>
                      <a:pt x="6310" y="2"/>
                      <a:pt x="6311" y="3"/>
                      <a:pt x="6311" y="4"/>
                    </a:cubicBezTo>
                    <a:cubicBezTo>
                      <a:pt x="6311" y="5"/>
                      <a:pt x="6310" y="6"/>
                      <a:pt x="6309" y="6"/>
                    </a:cubicBezTo>
                    <a:lnTo>
                      <a:pt x="6309" y="6"/>
                    </a:lnTo>
                    <a:cubicBezTo>
                      <a:pt x="6308" y="6"/>
                      <a:pt x="6307" y="5"/>
                      <a:pt x="6307" y="4"/>
                    </a:cubicBezTo>
                    <a:cubicBezTo>
                      <a:pt x="6307" y="3"/>
                      <a:pt x="6308" y="2"/>
                      <a:pt x="6309" y="2"/>
                    </a:cubicBezTo>
                    <a:close/>
                    <a:moveTo>
                      <a:pt x="6317" y="2"/>
                    </a:moveTo>
                    <a:lnTo>
                      <a:pt x="6317" y="2"/>
                    </a:lnTo>
                    <a:cubicBezTo>
                      <a:pt x="6318" y="2"/>
                      <a:pt x="6319" y="3"/>
                      <a:pt x="6319" y="4"/>
                    </a:cubicBezTo>
                    <a:cubicBezTo>
                      <a:pt x="6319" y="5"/>
                      <a:pt x="6318" y="6"/>
                      <a:pt x="6317" y="6"/>
                    </a:cubicBezTo>
                    <a:lnTo>
                      <a:pt x="6317" y="6"/>
                    </a:lnTo>
                    <a:cubicBezTo>
                      <a:pt x="6316" y="6"/>
                      <a:pt x="6315" y="5"/>
                      <a:pt x="6315" y="4"/>
                    </a:cubicBezTo>
                    <a:cubicBezTo>
                      <a:pt x="6315" y="3"/>
                      <a:pt x="6316" y="2"/>
                      <a:pt x="6317" y="2"/>
                    </a:cubicBezTo>
                    <a:close/>
                    <a:moveTo>
                      <a:pt x="6325" y="2"/>
                    </a:moveTo>
                    <a:lnTo>
                      <a:pt x="6325" y="2"/>
                    </a:lnTo>
                    <a:cubicBezTo>
                      <a:pt x="6326" y="2"/>
                      <a:pt x="6327" y="3"/>
                      <a:pt x="6327" y="4"/>
                    </a:cubicBezTo>
                    <a:cubicBezTo>
                      <a:pt x="6327" y="5"/>
                      <a:pt x="6326" y="6"/>
                      <a:pt x="6325" y="6"/>
                    </a:cubicBezTo>
                    <a:lnTo>
                      <a:pt x="6325" y="6"/>
                    </a:lnTo>
                    <a:cubicBezTo>
                      <a:pt x="6324" y="6"/>
                      <a:pt x="6323" y="5"/>
                      <a:pt x="6323" y="4"/>
                    </a:cubicBezTo>
                    <a:cubicBezTo>
                      <a:pt x="6323" y="3"/>
                      <a:pt x="6324" y="2"/>
                      <a:pt x="6325" y="2"/>
                    </a:cubicBezTo>
                    <a:close/>
                    <a:moveTo>
                      <a:pt x="6333" y="2"/>
                    </a:moveTo>
                    <a:lnTo>
                      <a:pt x="6333" y="2"/>
                    </a:lnTo>
                    <a:cubicBezTo>
                      <a:pt x="6334" y="2"/>
                      <a:pt x="6335" y="3"/>
                      <a:pt x="6335" y="4"/>
                    </a:cubicBezTo>
                    <a:cubicBezTo>
                      <a:pt x="6335" y="5"/>
                      <a:pt x="6334" y="6"/>
                      <a:pt x="6333" y="6"/>
                    </a:cubicBezTo>
                    <a:lnTo>
                      <a:pt x="6333" y="6"/>
                    </a:lnTo>
                    <a:cubicBezTo>
                      <a:pt x="6332" y="6"/>
                      <a:pt x="6331" y="5"/>
                      <a:pt x="6331" y="4"/>
                    </a:cubicBezTo>
                    <a:cubicBezTo>
                      <a:pt x="6331" y="3"/>
                      <a:pt x="6332" y="2"/>
                      <a:pt x="6333" y="2"/>
                    </a:cubicBezTo>
                    <a:close/>
                    <a:moveTo>
                      <a:pt x="6341" y="2"/>
                    </a:moveTo>
                    <a:lnTo>
                      <a:pt x="6341" y="2"/>
                    </a:lnTo>
                    <a:cubicBezTo>
                      <a:pt x="6342" y="2"/>
                      <a:pt x="6343" y="3"/>
                      <a:pt x="6343" y="4"/>
                    </a:cubicBezTo>
                    <a:cubicBezTo>
                      <a:pt x="6343" y="5"/>
                      <a:pt x="6342" y="6"/>
                      <a:pt x="6341" y="6"/>
                    </a:cubicBezTo>
                    <a:lnTo>
                      <a:pt x="6341" y="6"/>
                    </a:lnTo>
                    <a:cubicBezTo>
                      <a:pt x="6340" y="6"/>
                      <a:pt x="6339" y="5"/>
                      <a:pt x="6339" y="4"/>
                    </a:cubicBezTo>
                    <a:cubicBezTo>
                      <a:pt x="6339" y="3"/>
                      <a:pt x="6340" y="2"/>
                      <a:pt x="6341" y="2"/>
                    </a:cubicBezTo>
                    <a:close/>
                    <a:moveTo>
                      <a:pt x="6349" y="2"/>
                    </a:moveTo>
                    <a:lnTo>
                      <a:pt x="6349" y="2"/>
                    </a:lnTo>
                    <a:cubicBezTo>
                      <a:pt x="6350" y="2"/>
                      <a:pt x="6351" y="3"/>
                      <a:pt x="6351" y="4"/>
                    </a:cubicBezTo>
                    <a:cubicBezTo>
                      <a:pt x="6351" y="5"/>
                      <a:pt x="6350" y="6"/>
                      <a:pt x="6349" y="6"/>
                    </a:cubicBezTo>
                    <a:lnTo>
                      <a:pt x="6349" y="6"/>
                    </a:lnTo>
                    <a:cubicBezTo>
                      <a:pt x="6348" y="6"/>
                      <a:pt x="6347" y="5"/>
                      <a:pt x="6347" y="4"/>
                    </a:cubicBezTo>
                    <a:cubicBezTo>
                      <a:pt x="6347" y="3"/>
                      <a:pt x="6348" y="2"/>
                      <a:pt x="6349" y="2"/>
                    </a:cubicBezTo>
                    <a:close/>
                    <a:moveTo>
                      <a:pt x="6357" y="2"/>
                    </a:moveTo>
                    <a:lnTo>
                      <a:pt x="6357" y="2"/>
                    </a:lnTo>
                    <a:cubicBezTo>
                      <a:pt x="6358" y="2"/>
                      <a:pt x="6359" y="3"/>
                      <a:pt x="6359" y="4"/>
                    </a:cubicBezTo>
                    <a:cubicBezTo>
                      <a:pt x="6359" y="5"/>
                      <a:pt x="6358" y="6"/>
                      <a:pt x="6357" y="6"/>
                    </a:cubicBezTo>
                    <a:lnTo>
                      <a:pt x="6357" y="6"/>
                    </a:lnTo>
                    <a:cubicBezTo>
                      <a:pt x="6356" y="6"/>
                      <a:pt x="6355" y="5"/>
                      <a:pt x="6355" y="4"/>
                    </a:cubicBezTo>
                    <a:cubicBezTo>
                      <a:pt x="6355" y="3"/>
                      <a:pt x="6356" y="2"/>
                      <a:pt x="6357" y="2"/>
                    </a:cubicBezTo>
                    <a:close/>
                    <a:moveTo>
                      <a:pt x="6365" y="2"/>
                    </a:moveTo>
                    <a:lnTo>
                      <a:pt x="6365" y="2"/>
                    </a:lnTo>
                    <a:cubicBezTo>
                      <a:pt x="6366" y="2"/>
                      <a:pt x="6367" y="3"/>
                      <a:pt x="6367" y="4"/>
                    </a:cubicBezTo>
                    <a:cubicBezTo>
                      <a:pt x="6367" y="5"/>
                      <a:pt x="6366" y="6"/>
                      <a:pt x="6365" y="6"/>
                    </a:cubicBezTo>
                    <a:lnTo>
                      <a:pt x="6365" y="6"/>
                    </a:lnTo>
                    <a:cubicBezTo>
                      <a:pt x="6364" y="6"/>
                      <a:pt x="6363" y="5"/>
                      <a:pt x="6363" y="4"/>
                    </a:cubicBezTo>
                    <a:cubicBezTo>
                      <a:pt x="6363" y="3"/>
                      <a:pt x="6364" y="2"/>
                      <a:pt x="6365" y="2"/>
                    </a:cubicBezTo>
                    <a:close/>
                    <a:moveTo>
                      <a:pt x="6373" y="2"/>
                    </a:moveTo>
                    <a:lnTo>
                      <a:pt x="6373" y="2"/>
                    </a:lnTo>
                    <a:cubicBezTo>
                      <a:pt x="6374" y="2"/>
                      <a:pt x="6375" y="3"/>
                      <a:pt x="6375" y="4"/>
                    </a:cubicBezTo>
                    <a:cubicBezTo>
                      <a:pt x="6375" y="5"/>
                      <a:pt x="6374" y="6"/>
                      <a:pt x="6373" y="6"/>
                    </a:cubicBezTo>
                    <a:lnTo>
                      <a:pt x="6373" y="6"/>
                    </a:lnTo>
                    <a:cubicBezTo>
                      <a:pt x="6372" y="6"/>
                      <a:pt x="6371" y="5"/>
                      <a:pt x="6371" y="4"/>
                    </a:cubicBezTo>
                    <a:cubicBezTo>
                      <a:pt x="6371" y="3"/>
                      <a:pt x="6372" y="2"/>
                      <a:pt x="6373" y="2"/>
                    </a:cubicBezTo>
                    <a:close/>
                    <a:moveTo>
                      <a:pt x="6381" y="2"/>
                    </a:moveTo>
                    <a:lnTo>
                      <a:pt x="6381" y="2"/>
                    </a:lnTo>
                    <a:cubicBezTo>
                      <a:pt x="6382" y="2"/>
                      <a:pt x="6383" y="3"/>
                      <a:pt x="6383" y="4"/>
                    </a:cubicBezTo>
                    <a:cubicBezTo>
                      <a:pt x="6383" y="5"/>
                      <a:pt x="6382" y="6"/>
                      <a:pt x="6381" y="6"/>
                    </a:cubicBezTo>
                    <a:lnTo>
                      <a:pt x="6381" y="6"/>
                    </a:lnTo>
                    <a:cubicBezTo>
                      <a:pt x="6380" y="6"/>
                      <a:pt x="6379" y="5"/>
                      <a:pt x="6379" y="4"/>
                    </a:cubicBezTo>
                    <a:cubicBezTo>
                      <a:pt x="6379" y="3"/>
                      <a:pt x="6380" y="2"/>
                      <a:pt x="6381" y="2"/>
                    </a:cubicBezTo>
                    <a:close/>
                    <a:moveTo>
                      <a:pt x="6389" y="2"/>
                    </a:moveTo>
                    <a:lnTo>
                      <a:pt x="6389" y="2"/>
                    </a:lnTo>
                    <a:cubicBezTo>
                      <a:pt x="6390" y="2"/>
                      <a:pt x="6391" y="3"/>
                      <a:pt x="6391" y="4"/>
                    </a:cubicBezTo>
                    <a:cubicBezTo>
                      <a:pt x="6391" y="5"/>
                      <a:pt x="6390" y="6"/>
                      <a:pt x="6389" y="6"/>
                    </a:cubicBezTo>
                    <a:lnTo>
                      <a:pt x="6389" y="6"/>
                    </a:lnTo>
                    <a:cubicBezTo>
                      <a:pt x="6388" y="6"/>
                      <a:pt x="6387" y="5"/>
                      <a:pt x="6387" y="4"/>
                    </a:cubicBezTo>
                    <a:cubicBezTo>
                      <a:pt x="6387" y="3"/>
                      <a:pt x="6388" y="2"/>
                      <a:pt x="6389" y="2"/>
                    </a:cubicBezTo>
                    <a:close/>
                    <a:moveTo>
                      <a:pt x="6397" y="2"/>
                    </a:moveTo>
                    <a:lnTo>
                      <a:pt x="6397" y="2"/>
                    </a:lnTo>
                    <a:cubicBezTo>
                      <a:pt x="6398" y="2"/>
                      <a:pt x="6399" y="3"/>
                      <a:pt x="6399" y="4"/>
                    </a:cubicBezTo>
                    <a:cubicBezTo>
                      <a:pt x="6399" y="5"/>
                      <a:pt x="6398" y="6"/>
                      <a:pt x="6397" y="6"/>
                    </a:cubicBezTo>
                    <a:lnTo>
                      <a:pt x="6397" y="6"/>
                    </a:lnTo>
                    <a:cubicBezTo>
                      <a:pt x="6396" y="6"/>
                      <a:pt x="6395" y="5"/>
                      <a:pt x="6395" y="4"/>
                    </a:cubicBezTo>
                    <a:cubicBezTo>
                      <a:pt x="6395" y="3"/>
                      <a:pt x="6396" y="2"/>
                      <a:pt x="6397" y="2"/>
                    </a:cubicBezTo>
                    <a:close/>
                    <a:moveTo>
                      <a:pt x="6405" y="2"/>
                    </a:moveTo>
                    <a:lnTo>
                      <a:pt x="6405" y="2"/>
                    </a:lnTo>
                    <a:cubicBezTo>
                      <a:pt x="6406" y="2"/>
                      <a:pt x="6407" y="3"/>
                      <a:pt x="6407" y="4"/>
                    </a:cubicBezTo>
                    <a:cubicBezTo>
                      <a:pt x="6407" y="5"/>
                      <a:pt x="6406" y="6"/>
                      <a:pt x="6405" y="6"/>
                    </a:cubicBezTo>
                    <a:lnTo>
                      <a:pt x="6405" y="6"/>
                    </a:lnTo>
                    <a:cubicBezTo>
                      <a:pt x="6404" y="6"/>
                      <a:pt x="6403" y="5"/>
                      <a:pt x="6403" y="4"/>
                    </a:cubicBezTo>
                    <a:cubicBezTo>
                      <a:pt x="6403" y="3"/>
                      <a:pt x="6404" y="2"/>
                      <a:pt x="6405" y="2"/>
                    </a:cubicBezTo>
                    <a:close/>
                    <a:moveTo>
                      <a:pt x="6413" y="2"/>
                    </a:moveTo>
                    <a:lnTo>
                      <a:pt x="6413" y="2"/>
                    </a:lnTo>
                    <a:cubicBezTo>
                      <a:pt x="6414" y="2"/>
                      <a:pt x="6415" y="3"/>
                      <a:pt x="6415" y="4"/>
                    </a:cubicBezTo>
                    <a:cubicBezTo>
                      <a:pt x="6415" y="5"/>
                      <a:pt x="6414" y="6"/>
                      <a:pt x="6413" y="6"/>
                    </a:cubicBezTo>
                    <a:lnTo>
                      <a:pt x="6413" y="6"/>
                    </a:lnTo>
                    <a:cubicBezTo>
                      <a:pt x="6412" y="6"/>
                      <a:pt x="6411" y="5"/>
                      <a:pt x="6411" y="4"/>
                    </a:cubicBezTo>
                    <a:cubicBezTo>
                      <a:pt x="6411" y="3"/>
                      <a:pt x="6412" y="2"/>
                      <a:pt x="6413" y="2"/>
                    </a:cubicBezTo>
                    <a:close/>
                    <a:moveTo>
                      <a:pt x="6421" y="2"/>
                    </a:moveTo>
                    <a:lnTo>
                      <a:pt x="6421" y="2"/>
                    </a:lnTo>
                    <a:cubicBezTo>
                      <a:pt x="6422" y="2"/>
                      <a:pt x="6423" y="3"/>
                      <a:pt x="6423" y="4"/>
                    </a:cubicBezTo>
                    <a:cubicBezTo>
                      <a:pt x="6423" y="5"/>
                      <a:pt x="6422" y="6"/>
                      <a:pt x="6421" y="6"/>
                    </a:cubicBezTo>
                    <a:lnTo>
                      <a:pt x="6421" y="6"/>
                    </a:lnTo>
                    <a:cubicBezTo>
                      <a:pt x="6420" y="6"/>
                      <a:pt x="6419" y="5"/>
                      <a:pt x="6419" y="4"/>
                    </a:cubicBezTo>
                    <a:cubicBezTo>
                      <a:pt x="6419" y="3"/>
                      <a:pt x="6420" y="2"/>
                      <a:pt x="6421" y="2"/>
                    </a:cubicBezTo>
                    <a:close/>
                    <a:moveTo>
                      <a:pt x="6429" y="2"/>
                    </a:moveTo>
                    <a:lnTo>
                      <a:pt x="6429" y="2"/>
                    </a:lnTo>
                    <a:cubicBezTo>
                      <a:pt x="6430" y="2"/>
                      <a:pt x="6431" y="3"/>
                      <a:pt x="6431" y="4"/>
                    </a:cubicBezTo>
                    <a:cubicBezTo>
                      <a:pt x="6431" y="5"/>
                      <a:pt x="6430" y="6"/>
                      <a:pt x="6429" y="6"/>
                    </a:cubicBezTo>
                    <a:lnTo>
                      <a:pt x="6429" y="6"/>
                    </a:lnTo>
                    <a:cubicBezTo>
                      <a:pt x="6428" y="6"/>
                      <a:pt x="6427" y="5"/>
                      <a:pt x="6427" y="4"/>
                    </a:cubicBezTo>
                    <a:cubicBezTo>
                      <a:pt x="6427" y="3"/>
                      <a:pt x="6428" y="2"/>
                      <a:pt x="6429" y="2"/>
                    </a:cubicBezTo>
                    <a:close/>
                    <a:moveTo>
                      <a:pt x="6437" y="2"/>
                    </a:moveTo>
                    <a:lnTo>
                      <a:pt x="6437" y="2"/>
                    </a:lnTo>
                    <a:cubicBezTo>
                      <a:pt x="6438" y="2"/>
                      <a:pt x="6439" y="3"/>
                      <a:pt x="6439" y="4"/>
                    </a:cubicBezTo>
                    <a:cubicBezTo>
                      <a:pt x="6439" y="5"/>
                      <a:pt x="6438" y="6"/>
                      <a:pt x="6437" y="6"/>
                    </a:cubicBezTo>
                    <a:lnTo>
                      <a:pt x="6437" y="6"/>
                    </a:lnTo>
                    <a:cubicBezTo>
                      <a:pt x="6436" y="6"/>
                      <a:pt x="6435" y="5"/>
                      <a:pt x="6435" y="4"/>
                    </a:cubicBezTo>
                    <a:cubicBezTo>
                      <a:pt x="6435" y="3"/>
                      <a:pt x="6436" y="2"/>
                      <a:pt x="6437" y="2"/>
                    </a:cubicBezTo>
                    <a:close/>
                    <a:moveTo>
                      <a:pt x="6445" y="2"/>
                    </a:moveTo>
                    <a:lnTo>
                      <a:pt x="6445" y="2"/>
                    </a:lnTo>
                    <a:cubicBezTo>
                      <a:pt x="6446" y="2"/>
                      <a:pt x="6447" y="3"/>
                      <a:pt x="6447" y="4"/>
                    </a:cubicBezTo>
                    <a:cubicBezTo>
                      <a:pt x="6447" y="5"/>
                      <a:pt x="6446" y="6"/>
                      <a:pt x="6445" y="6"/>
                    </a:cubicBezTo>
                    <a:lnTo>
                      <a:pt x="6445" y="6"/>
                    </a:lnTo>
                    <a:cubicBezTo>
                      <a:pt x="6444" y="6"/>
                      <a:pt x="6443" y="5"/>
                      <a:pt x="6443" y="4"/>
                    </a:cubicBezTo>
                    <a:cubicBezTo>
                      <a:pt x="6443" y="3"/>
                      <a:pt x="6444" y="2"/>
                      <a:pt x="6445" y="2"/>
                    </a:cubicBezTo>
                    <a:close/>
                    <a:moveTo>
                      <a:pt x="6453" y="2"/>
                    </a:moveTo>
                    <a:lnTo>
                      <a:pt x="6453" y="2"/>
                    </a:lnTo>
                    <a:cubicBezTo>
                      <a:pt x="6454" y="2"/>
                      <a:pt x="6455" y="3"/>
                      <a:pt x="6455" y="4"/>
                    </a:cubicBezTo>
                    <a:cubicBezTo>
                      <a:pt x="6455" y="5"/>
                      <a:pt x="6454" y="6"/>
                      <a:pt x="6453" y="6"/>
                    </a:cubicBezTo>
                    <a:lnTo>
                      <a:pt x="6453" y="6"/>
                    </a:lnTo>
                    <a:cubicBezTo>
                      <a:pt x="6452" y="6"/>
                      <a:pt x="6451" y="5"/>
                      <a:pt x="6451" y="4"/>
                    </a:cubicBezTo>
                    <a:cubicBezTo>
                      <a:pt x="6451" y="3"/>
                      <a:pt x="6452" y="2"/>
                      <a:pt x="6453" y="2"/>
                    </a:cubicBezTo>
                    <a:close/>
                    <a:moveTo>
                      <a:pt x="6461" y="2"/>
                    </a:moveTo>
                    <a:lnTo>
                      <a:pt x="6461" y="2"/>
                    </a:lnTo>
                    <a:cubicBezTo>
                      <a:pt x="6462" y="2"/>
                      <a:pt x="6463" y="3"/>
                      <a:pt x="6463" y="4"/>
                    </a:cubicBezTo>
                    <a:cubicBezTo>
                      <a:pt x="6463" y="5"/>
                      <a:pt x="6462" y="6"/>
                      <a:pt x="6461" y="6"/>
                    </a:cubicBezTo>
                    <a:lnTo>
                      <a:pt x="6461" y="6"/>
                    </a:lnTo>
                    <a:cubicBezTo>
                      <a:pt x="6460" y="6"/>
                      <a:pt x="6459" y="5"/>
                      <a:pt x="6459" y="4"/>
                    </a:cubicBezTo>
                    <a:cubicBezTo>
                      <a:pt x="6459" y="3"/>
                      <a:pt x="6460" y="2"/>
                      <a:pt x="6461" y="2"/>
                    </a:cubicBezTo>
                    <a:close/>
                    <a:moveTo>
                      <a:pt x="6469" y="2"/>
                    </a:moveTo>
                    <a:lnTo>
                      <a:pt x="6469" y="2"/>
                    </a:lnTo>
                    <a:cubicBezTo>
                      <a:pt x="6470" y="2"/>
                      <a:pt x="6471" y="3"/>
                      <a:pt x="6471" y="4"/>
                    </a:cubicBezTo>
                    <a:cubicBezTo>
                      <a:pt x="6471" y="5"/>
                      <a:pt x="6470" y="6"/>
                      <a:pt x="6469" y="6"/>
                    </a:cubicBezTo>
                    <a:lnTo>
                      <a:pt x="6469" y="6"/>
                    </a:lnTo>
                    <a:cubicBezTo>
                      <a:pt x="6468" y="6"/>
                      <a:pt x="6467" y="5"/>
                      <a:pt x="6467" y="4"/>
                    </a:cubicBezTo>
                    <a:cubicBezTo>
                      <a:pt x="6467" y="3"/>
                      <a:pt x="6468" y="2"/>
                      <a:pt x="6469" y="2"/>
                    </a:cubicBezTo>
                    <a:close/>
                    <a:moveTo>
                      <a:pt x="6477" y="2"/>
                    </a:moveTo>
                    <a:lnTo>
                      <a:pt x="6477" y="2"/>
                    </a:lnTo>
                    <a:cubicBezTo>
                      <a:pt x="6478" y="2"/>
                      <a:pt x="6479" y="3"/>
                      <a:pt x="6479" y="4"/>
                    </a:cubicBezTo>
                    <a:cubicBezTo>
                      <a:pt x="6479" y="5"/>
                      <a:pt x="6478" y="6"/>
                      <a:pt x="6477" y="6"/>
                    </a:cubicBezTo>
                    <a:lnTo>
                      <a:pt x="6477" y="6"/>
                    </a:lnTo>
                    <a:cubicBezTo>
                      <a:pt x="6476" y="6"/>
                      <a:pt x="6475" y="5"/>
                      <a:pt x="6475" y="4"/>
                    </a:cubicBezTo>
                    <a:cubicBezTo>
                      <a:pt x="6475" y="3"/>
                      <a:pt x="6476" y="2"/>
                      <a:pt x="6477" y="2"/>
                    </a:cubicBezTo>
                    <a:close/>
                    <a:moveTo>
                      <a:pt x="6485" y="2"/>
                    </a:moveTo>
                    <a:lnTo>
                      <a:pt x="6485" y="2"/>
                    </a:lnTo>
                    <a:cubicBezTo>
                      <a:pt x="6486" y="2"/>
                      <a:pt x="6487" y="3"/>
                      <a:pt x="6487" y="4"/>
                    </a:cubicBezTo>
                    <a:cubicBezTo>
                      <a:pt x="6487" y="5"/>
                      <a:pt x="6486" y="6"/>
                      <a:pt x="6485" y="6"/>
                    </a:cubicBezTo>
                    <a:lnTo>
                      <a:pt x="6485" y="6"/>
                    </a:lnTo>
                    <a:cubicBezTo>
                      <a:pt x="6484" y="6"/>
                      <a:pt x="6483" y="5"/>
                      <a:pt x="6483" y="4"/>
                    </a:cubicBezTo>
                    <a:cubicBezTo>
                      <a:pt x="6483" y="3"/>
                      <a:pt x="6484" y="2"/>
                      <a:pt x="6485" y="2"/>
                    </a:cubicBezTo>
                    <a:close/>
                    <a:moveTo>
                      <a:pt x="6493" y="2"/>
                    </a:moveTo>
                    <a:lnTo>
                      <a:pt x="6493" y="2"/>
                    </a:lnTo>
                    <a:cubicBezTo>
                      <a:pt x="6494" y="2"/>
                      <a:pt x="6495" y="3"/>
                      <a:pt x="6495" y="4"/>
                    </a:cubicBezTo>
                    <a:cubicBezTo>
                      <a:pt x="6495" y="5"/>
                      <a:pt x="6494" y="6"/>
                      <a:pt x="6493" y="6"/>
                    </a:cubicBezTo>
                    <a:lnTo>
                      <a:pt x="6493" y="6"/>
                    </a:lnTo>
                    <a:cubicBezTo>
                      <a:pt x="6492" y="6"/>
                      <a:pt x="6491" y="5"/>
                      <a:pt x="6491" y="4"/>
                    </a:cubicBezTo>
                    <a:cubicBezTo>
                      <a:pt x="6491" y="3"/>
                      <a:pt x="6492" y="2"/>
                      <a:pt x="6493" y="2"/>
                    </a:cubicBezTo>
                    <a:close/>
                    <a:moveTo>
                      <a:pt x="6501" y="2"/>
                    </a:moveTo>
                    <a:lnTo>
                      <a:pt x="6501" y="2"/>
                    </a:lnTo>
                    <a:cubicBezTo>
                      <a:pt x="6502" y="2"/>
                      <a:pt x="6503" y="3"/>
                      <a:pt x="6503" y="4"/>
                    </a:cubicBezTo>
                    <a:cubicBezTo>
                      <a:pt x="6503" y="5"/>
                      <a:pt x="6502" y="6"/>
                      <a:pt x="6501" y="6"/>
                    </a:cubicBezTo>
                    <a:lnTo>
                      <a:pt x="6501" y="6"/>
                    </a:lnTo>
                    <a:cubicBezTo>
                      <a:pt x="6500" y="6"/>
                      <a:pt x="6499" y="5"/>
                      <a:pt x="6499" y="4"/>
                    </a:cubicBezTo>
                    <a:cubicBezTo>
                      <a:pt x="6499" y="3"/>
                      <a:pt x="6500" y="2"/>
                      <a:pt x="6501" y="2"/>
                    </a:cubicBezTo>
                    <a:close/>
                    <a:moveTo>
                      <a:pt x="6509" y="2"/>
                    </a:moveTo>
                    <a:lnTo>
                      <a:pt x="6509" y="2"/>
                    </a:lnTo>
                    <a:cubicBezTo>
                      <a:pt x="6510" y="2"/>
                      <a:pt x="6511" y="3"/>
                      <a:pt x="6511" y="4"/>
                    </a:cubicBezTo>
                    <a:cubicBezTo>
                      <a:pt x="6511" y="5"/>
                      <a:pt x="6510" y="6"/>
                      <a:pt x="6509" y="6"/>
                    </a:cubicBezTo>
                    <a:lnTo>
                      <a:pt x="6509" y="6"/>
                    </a:lnTo>
                    <a:cubicBezTo>
                      <a:pt x="6508" y="6"/>
                      <a:pt x="6507" y="5"/>
                      <a:pt x="6507" y="4"/>
                    </a:cubicBezTo>
                    <a:cubicBezTo>
                      <a:pt x="6507" y="3"/>
                      <a:pt x="6508" y="2"/>
                      <a:pt x="6509" y="2"/>
                    </a:cubicBezTo>
                    <a:close/>
                    <a:moveTo>
                      <a:pt x="6517" y="2"/>
                    </a:moveTo>
                    <a:lnTo>
                      <a:pt x="6517" y="2"/>
                    </a:lnTo>
                    <a:cubicBezTo>
                      <a:pt x="6518" y="2"/>
                      <a:pt x="6519" y="3"/>
                      <a:pt x="6519" y="4"/>
                    </a:cubicBezTo>
                    <a:cubicBezTo>
                      <a:pt x="6519" y="5"/>
                      <a:pt x="6518" y="6"/>
                      <a:pt x="6517" y="6"/>
                    </a:cubicBezTo>
                    <a:lnTo>
                      <a:pt x="6517" y="6"/>
                    </a:lnTo>
                    <a:cubicBezTo>
                      <a:pt x="6516" y="6"/>
                      <a:pt x="6515" y="5"/>
                      <a:pt x="6515" y="4"/>
                    </a:cubicBezTo>
                    <a:cubicBezTo>
                      <a:pt x="6515" y="3"/>
                      <a:pt x="6516" y="2"/>
                      <a:pt x="6517" y="2"/>
                    </a:cubicBezTo>
                    <a:close/>
                    <a:moveTo>
                      <a:pt x="6525" y="2"/>
                    </a:moveTo>
                    <a:lnTo>
                      <a:pt x="6525" y="2"/>
                    </a:lnTo>
                    <a:cubicBezTo>
                      <a:pt x="6526" y="2"/>
                      <a:pt x="6527" y="3"/>
                      <a:pt x="6527" y="4"/>
                    </a:cubicBezTo>
                    <a:cubicBezTo>
                      <a:pt x="6527" y="5"/>
                      <a:pt x="6526" y="6"/>
                      <a:pt x="6525" y="6"/>
                    </a:cubicBezTo>
                    <a:lnTo>
                      <a:pt x="6525" y="6"/>
                    </a:lnTo>
                    <a:cubicBezTo>
                      <a:pt x="6524" y="6"/>
                      <a:pt x="6523" y="5"/>
                      <a:pt x="6523" y="4"/>
                    </a:cubicBezTo>
                    <a:cubicBezTo>
                      <a:pt x="6523" y="3"/>
                      <a:pt x="6524" y="2"/>
                      <a:pt x="6525" y="2"/>
                    </a:cubicBezTo>
                    <a:close/>
                    <a:moveTo>
                      <a:pt x="6533" y="2"/>
                    </a:moveTo>
                    <a:lnTo>
                      <a:pt x="6533" y="2"/>
                    </a:lnTo>
                    <a:cubicBezTo>
                      <a:pt x="6534" y="2"/>
                      <a:pt x="6535" y="3"/>
                      <a:pt x="6535" y="4"/>
                    </a:cubicBezTo>
                    <a:cubicBezTo>
                      <a:pt x="6535" y="5"/>
                      <a:pt x="6534" y="6"/>
                      <a:pt x="6533" y="6"/>
                    </a:cubicBezTo>
                    <a:lnTo>
                      <a:pt x="6533" y="6"/>
                    </a:lnTo>
                    <a:cubicBezTo>
                      <a:pt x="6532" y="6"/>
                      <a:pt x="6531" y="5"/>
                      <a:pt x="6531" y="4"/>
                    </a:cubicBezTo>
                    <a:cubicBezTo>
                      <a:pt x="6531" y="3"/>
                      <a:pt x="6532" y="2"/>
                      <a:pt x="6533" y="2"/>
                    </a:cubicBezTo>
                    <a:close/>
                    <a:moveTo>
                      <a:pt x="6541" y="2"/>
                    </a:moveTo>
                    <a:lnTo>
                      <a:pt x="6541" y="2"/>
                    </a:lnTo>
                    <a:cubicBezTo>
                      <a:pt x="6542" y="2"/>
                      <a:pt x="6543" y="3"/>
                      <a:pt x="6543" y="4"/>
                    </a:cubicBezTo>
                    <a:cubicBezTo>
                      <a:pt x="6543" y="5"/>
                      <a:pt x="6542" y="6"/>
                      <a:pt x="6541" y="6"/>
                    </a:cubicBezTo>
                    <a:lnTo>
                      <a:pt x="6541" y="6"/>
                    </a:lnTo>
                    <a:cubicBezTo>
                      <a:pt x="6540" y="6"/>
                      <a:pt x="6539" y="5"/>
                      <a:pt x="6539" y="4"/>
                    </a:cubicBezTo>
                    <a:cubicBezTo>
                      <a:pt x="6539" y="3"/>
                      <a:pt x="6540" y="2"/>
                      <a:pt x="6541" y="2"/>
                    </a:cubicBezTo>
                    <a:close/>
                    <a:moveTo>
                      <a:pt x="6549" y="2"/>
                    </a:moveTo>
                    <a:lnTo>
                      <a:pt x="6549" y="2"/>
                    </a:lnTo>
                    <a:cubicBezTo>
                      <a:pt x="6550" y="2"/>
                      <a:pt x="6551" y="3"/>
                      <a:pt x="6551" y="4"/>
                    </a:cubicBezTo>
                    <a:cubicBezTo>
                      <a:pt x="6551" y="5"/>
                      <a:pt x="6550" y="6"/>
                      <a:pt x="6549" y="6"/>
                    </a:cubicBezTo>
                    <a:lnTo>
                      <a:pt x="6549" y="6"/>
                    </a:lnTo>
                    <a:cubicBezTo>
                      <a:pt x="6548" y="6"/>
                      <a:pt x="6547" y="5"/>
                      <a:pt x="6547" y="4"/>
                    </a:cubicBezTo>
                    <a:cubicBezTo>
                      <a:pt x="6547" y="3"/>
                      <a:pt x="6548" y="2"/>
                      <a:pt x="6549" y="2"/>
                    </a:cubicBezTo>
                    <a:close/>
                    <a:moveTo>
                      <a:pt x="6557" y="2"/>
                    </a:moveTo>
                    <a:lnTo>
                      <a:pt x="6557" y="2"/>
                    </a:lnTo>
                    <a:cubicBezTo>
                      <a:pt x="6558" y="2"/>
                      <a:pt x="6559" y="3"/>
                      <a:pt x="6559" y="4"/>
                    </a:cubicBezTo>
                    <a:cubicBezTo>
                      <a:pt x="6559" y="5"/>
                      <a:pt x="6558" y="6"/>
                      <a:pt x="6557" y="6"/>
                    </a:cubicBezTo>
                    <a:lnTo>
                      <a:pt x="6557" y="6"/>
                    </a:lnTo>
                    <a:cubicBezTo>
                      <a:pt x="6556" y="6"/>
                      <a:pt x="6555" y="5"/>
                      <a:pt x="6555" y="4"/>
                    </a:cubicBezTo>
                    <a:cubicBezTo>
                      <a:pt x="6555" y="3"/>
                      <a:pt x="6556" y="2"/>
                      <a:pt x="6557" y="2"/>
                    </a:cubicBezTo>
                    <a:close/>
                    <a:moveTo>
                      <a:pt x="6565" y="2"/>
                    </a:moveTo>
                    <a:lnTo>
                      <a:pt x="6565" y="2"/>
                    </a:lnTo>
                    <a:cubicBezTo>
                      <a:pt x="6566" y="2"/>
                      <a:pt x="6567" y="3"/>
                      <a:pt x="6567" y="4"/>
                    </a:cubicBezTo>
                    <a:cubicBezTo>
                      <a:pt x="6567" y="5"/>
                      <a:pt x="6566" y="6"/>
                      <a:pt x="6565" y="6"/>
                    </a:cubicBezTo>
                    <a:lnTo>
                      <a:pt x="6565" y="6"/>
                    </a:lnTo>
                    <a:cubicBezTo>
                      <a:pt x="6564" y="6"/>
                      <a:pt x="6563" y="5"/>
                      <a:pt x="6563" y="4"/>
                    </a:cubicBezTo>
                    <a:cubicBezTo>
                      <a:pt x="6563" y="3"/>
                      <a:pt x="6564" y="2"/>
                      <a:pt x="6565" y="2"/>
                    </a:cubicBezTo>
                    <a:close/>
                    <a:moveTo>
                      <a:pt x="6573" y="2"/>
                    </a:moveTo>
                    <a:lnTo>
                      <a:pt x="6573" y="2"/>
                    </a:lnTo>
                    <a:cubicBezTo>
                      <a:pt x="6574" y="2"/>
                      <a:pt x="6575" y="3"/>
                      <a:pt x="6575" y="4"/>
                    </a:cubicBezTo>
                    <a:cubicBezTo>
                      <a:pt x="6575" y="5"/>
                      <a:pt x="6574" y="6"/>
                      <a:pt x="6573" y="6"/>
                    </a:cubicBezTo>
                    <a:lnTo>
                      <a:pt x="6573" y="6"/>
                    </a:lnTo>
                    <a:cubicBezTo>
                      <a:pt x="6572" y="6"/>
                      <a:pt x="6571" y="5"/>
                      <a:pt x="6571" y="4"/>
                    </a:cubicBezTo>
                    <a:cubicBezTo>
                      <a:pt x="6571" y="3"/>
                      <a:pt x="6572" y="2"/>
                      <a:pt x="6573" y="2"/>
                    </a:cubicBezTo>
                    <a:close/>
                    <a:moveTo>
                      <a:pt x="6581" y="2"/>
                    </a:moveTo>
                    <a:lnTo>
                      <a:pt x="6581" y="2"/>
                    </a:lnTo>
                    <a:cubicBezTo>
                      <a:pt x="6582" y="2"/>
                      <a:pt x="6583" y="3"/>
                      <a:pt x="6583" y="4"/>
                    </a:cubicBezTo>
                    <a:cubicBezTo>
                      <a:pt x="6583" y="5"/>
                      <a:pt x="6582" y="6"/>
                      <a:pt x="6581" y="6"/>
                    </a:cubicBezTo>
                    <a:lnTo>
                      <a:pt x="6581" y="6"/>
                    </a:lnTo>
                    <a:cubicBezTo>
                      <a:pt x="6580" y="6"/>
                      <a:pt x="6579" y="5"/>
                      <a:pt x="6579" y="4"/>
                    </a:cubicBezTo>
                    <a:cubicBezTo>
                      <a:pt x="6579" y="3"/>
                      <a:pt x="6580" y="2"/>
                      <a:pt x="6581" y="2"/>
                    </a:cubicBezTo>
                    <a:close/>
                    <a:moveTo>
                      <a:pt x="6589" y="2"/>
                    </a:moveTo>
                    <a:lnTo>
                      <a:pt x="6589" y="2"/>
                    </a:lnTo>
                    <a:cubicBezTo>
                      <a:pt x="6590" y="2"/>
                      <a:pt x="6591" y="3"/>
                      <a:pt x="6591" y="4"/>
                    </a:cubicBezTo>
                    <a:cubicBezTo>
                      <a:pt x="6591" y="5"/>
                      <a:pt x="6590" y="6"/>
                      <a:pt x="6589" y="6"/>
                    </a:cubicBezTo>
                    <a:lnTo>
                      <a:pt x="6589" y="6"/>
                    </a:lnTo>
                    <a:cubicBezTo>
                      <a:pt x="6588" y="6"/>
                      <a:pt x="6587" y="5"/>
                      <a:pt x="6587" y="4"/>
                    </a:cubicBezTo>
                    <a:cubicBezTo>
                      <a:pt x="6587" y="3"/>
                      <a:pt x="6588" y="2"/>
                      <a:pt x="6589" y="2"/>
                    </a:cubicBezTo>
                    <a:close/>
                    <a:moveTo>
                      <a:pt x="6597" y="2"/>
                    </a:moveTo>
                    <a:lnTo>
                      <a:pt x="6597" y="2"/>
                    </a:lnTo>
                    <a:cubicBezTo>
                      <a:pt x="6598" y="2"/>
                      <a:pt x="6599" y="3"/>
                      <a:pt x="6599" y="4"/>
                    </a:cubicBezTo>
                    <a:cubicBezTo>
                      <a:pt x="6599" y="5"/>
                      <a:pt x="6598" y="6"/>
                      <a:pt x="6597" y="6"/>
                    </a:cubicBezTo>
                    <a:lnTo>
                      <a:pt x="6597" y="6"/>
                    </a:lnTo>
                    <a:cubicBezTo>
                      <a:pt x="6596" y="6"/>
                      <a:pt x="6595" y="5"/>
                      <a:pt x="6595" y="4"/>
                    </a:cubicBezTo>
                    <a:cubicBezTo>
                      <a:pt x="6595" y="3"/>
                      <a:pt x="6596" y="2"/>
                      <a:pt x="6597" y="2"/>
                    </a:cubicBezTo>
                    <a:close/>
                    <a:moveTo>
                      <a:pt x="6605" y="2"/>
                    </a:moveTo>
                    <a:lnTo>
                      <a:pt x="6605" y="2"/>
                    </a:lnTo>
                    <a:cubicBezTo>
                      <a:pt x="6606" y="2"/>
                      <a:pt x="6607" y="3"/>
                      <a:pt x="6607" y="4"/>
                    </a:cubicBezTo>
                    <a:cubicBezTo>
                      <a:pt x="6607" y="5"/>
                      <a:pt x="6606" y="6"/>
                      <a:pt x="6605" y="6"/>
                    </a:cubicBezTo>
                    <a:lnTo>
                      <a:pt x="6605" y="6"/>
                    </a:lnTo>
                    <a:cubicBezTo>
                      <a:pt x="6604" y="6"/>
                      <a:pt x="6603" y="5"/>
                      <a:pt x="6603" y="4"/>
                    </a:cubicBezTo>
                    <a:cubicBezTo>
                      <a:pt x="6603" y="3"/>
                      <a:pt x="6604" y="2"/>
                      <a:pt x="6605" y="2"/>
                    </a:cubicBezTo>
                    <a:close/>
                    <a:moveTo>
                      <a:pt x="6613" y="2"/>
                    </a:moveTo>
                    <a:lnTo>
                      <a:pt x="6613" y="2"/>
                    </a:lnTo>
                    <a:cubicBezTo>
                      <a:pt x="6614" y="2"/>
                      <a:pt x="6615" y="3"/>
                      <a:pt x="6615" y="4"/>
                    </a:cubicBezTo>
                    <a:cubicBezTo>
                      <a:pt x="6615" y="5"/>
                      <a:pt x="6614" y="6"/>
                      <a:pt x="6613" y="6"/>
                    </a:cubicBezTo>
                    <a:lnTo>
                      <a:pt x="6613" y="6"/>
                    </a:lnTo>
                    <a:cubicBezTo>
                      <a:pt x="6612" y="6"/>
                      <a:pt x="6611" y="5"/>
                      <a:pt x="6611" y="4"/>
                    </a:cubicBezTo>
                    <a:cubicBezTo>
                      <a:pt x="6611" y="3"/>
                      <a:pt x="6612" y="2"/>
                      <a:pt x="6613" y="2"/>
                    </a:cubicBezTo>
                    <a:close/>
                    <a:moveTo>
                      <a:pt x="6621" y="2"/>
                    </a:moveTo>
                    <a:lnTo>
                      <a:pt x="6621" y="2"/>
                    </a:lnTo>
                    <a:cubicBezTo>
                      <a:pt x="6622" y="2"/>
                      <a:pt x="6623" y="3"/>
                      <a:pt x="6623" y="4"/>
                    </a:cubicBezTo>
                    <a:cubicBezTo>
                      <a:pt x="6623" y="5"/>
                      <a:pt x="6622" y="6"/>
                      <a:pt x="6621" y="6"/>
                    </a:cubicBezTo>
                    <a:lnTo>
                      <a:pt x="6621" y="6"/>
                    </a:lnTo>
                    <a:cubicBezTo>
                      <a:pt x="6620" y="6"/>
                      <a:pt x="6619" y="5"/>
                      <a:pt x="6619" y="4"/>
                    </a:cubicBezTo>
                    <a:cubicBezTo>
                      <a:pt x="6619" y="3"/>
                      <a:pt x="6620" y="2"/>
                      <a:pt x="6621" y="2"/>
                    </a:cubicBezTo>
                    <a:close/>
                    <a:moveTo>
                      <a:pt x="6629" y="2"/>
                    </a:moveTo>
                    <a:lnTo>
                      <a:pt x="6629" y="2"/>
                    </a:lnTo>
                    <a:cubicBezTo>
                      <a:pt x="6630" y="2"/>
                      <a:pt x="6631" y="3"/>
                      <a:pt x="6631" y="4"/>
                    </a:cubicBezTo>
                    <a:cubicBezTo>
                      <a:pt x="6631" y="5"/>
                      <a:pt x="6630" y="6"/>
                      <a:pt x="6629" y="6"/>
                    </a:cubicBezTo>
                    <a:lnTo>
                      <a:pt x="6629" y="6"/>
                    </a:lnTo>
                    <a:cubicBezTo>
                      <a:pt x="6628" y="6"/>
                      <a:pt x="6627" y="5"/>
                      <a:pt x="6627" y="4"/>
                    </a:cubicBezTo>
                    <a:cubicBezTo>
                      <a:pt x="6627" y="3"/>
                      <a:pt x="6628" y="2"/>
                      <a:pt x="6629" y="2"/>
                    </a:cubicBezTo>
                    <a:close/>
                    <a:moveTo>
                      <a:pt x="6637" y="2"/>
                    </a:moveTo>
                    <a:lnTo>
                      <a:pt x="6637" y="2"/>
                    </a:lnTo>
                    <a:cubicBezTo>
                      <a:pt x="6638" y="2"/>
                      <a:pt x="6639" y="3"/>
                      <a:pt x="6639" y="4"/>
                    </a:cubicBezTo>
                    <a:cubicBezTo>
                      <a:pt x="6639" y="5"/>
                      <a:pt x="6638" y="6"/>
                      <a:pt x="6637" y="6"/>
                    </a:cubicBezTo>
                    <a:lnTo>
                      <a:pt x="6637" y="6"/>
                    </a:lnTo>
                    <a:cubicBezTo>
                      <a:pt x="6636" y="6"/>
                      <a:pt x="6635" y="5"/>
                      <a:pt x="6635" y="4"/>
                    </a:cubicBezTo>
                    <a:cubicBezTo>
                      <a:pt x="6635" y="3"/>
                      <a:pt x="6636" y="2"/>
                      <a:pt x="6637" y="2"/>
                    </a:cubicBezTo>
                    <a:close/>
                    <a:moveTo>
                      <a:pt x="6645" y="2"/>
                    </a:moveTo>
                    <a:lnTo>
                      <a:pt x="6645" y="2"/>
                    </a:lnTo>
                    <a:cubicBezTo>
                      <a:pt x="6646" y="2"/>
                      <a:pt x="6647" y="3"/>
                      <a:pt x="6647" y="4"/>
                    </a:cubicBezTo>
                    <a:cubicBezTo>
                      <a:pt x="6647" y="5"/>
                      <a:pt x="6646" y="6"/>
                      <a:pt x="6645" y="6"/>
                    </a:cubicBezTo>
                    <a:lnTo>
                      <a:pt x="6645" y="6"/>
                    </a:lnTo>
                    <a:cubicBezTo>
                      <a:pt x="6644" y="6"/>
                      <a:pt x="6643" y="5"/>
                      <a:pt x="6643" y="4"/>
                    </a:cubicBezTo>
                    <a:cubicBezTo>
                      <a:pt x="6643" y="3"/>
                      <a:pt x="6644" y="2"/>
                      <a:pt x="6645" y="2"/>
                    </a:cubicBezTo>
                    <a:close/>
                    <a:moveTo>
                      <a:pt x="6653" y="2"/>
                    </a:moveTo>
                    <a:lnTo>
                      <a:pt x="6653" y="2"/>
                    </a:lnTo>
                    <a:cubicBezTo>
                      <a:pt x="6654" y="2"/>
                      <a:pt x="6655" y="3"/>
                      <a:pt x="6655" y="4"/>
                    </a:cubicBezTo>
                    <a:cubicBezTo>
                      <a:pt x="6655" y="5"/>
                      <a:pt x="6654" y="6"/>
                      <a:pt x="6653" y="6"/>
                    </a:cubicBezTo>
                    <a:lnTo>
                      <a:pt x="6653" y="6"/>
                    </a:lnTo>
                    <a:cubicBezTo>
                      <a:pt x="6652" y="6"/>
                      <a:pt x="6651" y="5"/>
                      <a:pt x="6651" y="4"/>
                    </a:cubicBezTo>
                    <a:cubicBezTo>
                      <a:pt x="6651" y="3"/>
                      <a:pt x="6652" y="2"/>
                      <a:pt x="6653" y="2"/>
                    </a:cubicBezTo>
                    <a:close/>
                    <a:moveTo>
                      <a:pt x="6661" y="2"/>
                    </a:moveTo>
                    <a:lnTo>
                      <a:pt x="6661" y="2"/>
                    </a:lnTo>
                    <a:cubicBezTo>
                      <a:pt x="6662" y="2"/>
                      <a:pt x="6663" y="3"/>
                      <a:pt x="6663" y="4"/>
                    </a:cubicBezTo>
                    <a:cubicBezTo>
                      <a:pt x="6663" y="5"/>
                      <a:pt x="6662" y="6"/>
                      <a:pt x="6661" y="6"/>
                    </a:cubicBezTo>
                    <a:lnTo>
                      <a:pt x="6661" y="6"/>
                    </a:lnTo>
                    <a:cubicBezTo>
                      <a:pt x="6660" y="6"/>
                      <a:pt x="6659" y="5"/>
                      <a:pt x="6659" y="4"/>
                    </a:cubicBezTo>
                    <a:cubicBezTo>
                      <a:pt x="6659" y="3"/>
                      <a:pt x="6660" y="2"/>
                      <a:pt x="6661" y="2"/>
                    </a:cubicBezTo>
                    <a:close/>
                    <a:moveTo>
                      <a:pt x="6669" y="2"/>
                    </a:moveTo>
                    <a:lnTo>
                      <a:pt x="6669" y="2"/>
                    </a:lnTo>
                    <a:cubicBezTo>
                      <a:pt x="6670" y="2"/>
                      <a:pt x="6671" y="3"/>
                      <a:pt x="6671" y="4"/>
                    </a:cubicBezTo>
                    <a:cubicBezTo>
                      <a:pt x="6671" y="5"/>
                      <a:pt x="6670" y="6"/>
                      <a:pt x="6669" y="6"/>
                    </a:cubicBezTo>
                    <a:lnTo>
                      <a:pt x="6669" y="6"/>
                    </a:lnTo>
                    <a:cubicBezTo>
                      <a:pt x="6668" y="6"/>
                      <a:pt x="6667" y="5"/>
                      <a:pt x="6667" y="4"/>
                    </a:cubicBezTo>
                    <a:cubicBezTo>
                      <a:pt x="6667" y="3"/>
                      <a:pt x="6668" y="2"/>
                      <a:pt x="6669" y="2"/>
                    </a:cubicBezTo>
                    <a:close/>
                    <a:moveTo>
                      <a:pt x="6677" y="2"/>
                    </a:moveTo>
                    <a:lnTo>
                      <a:pt x="6677" y="2"/>
                    </a:lnTo>
                    <a:cubicBezTo>
                      <a:pt x="6678" y="2"/>
                      <a:pt x="6679" y="3"/>
                      <a:pt x="6679" y="4"/>
                    </a:cubicBezTo>
                    <a:cubicBezTo>
                      <a:pt x="6679" y="5"/>
                      <a:pt x="6678" y="6"/>
                      <a:pt x="6677" y="6"/>
                    </a:cubicBezTo>
                    <a:lnTo>
                      <a:pt x="6677" y="6"/>
                    </a:lnTo>
                    <a:cubicBezTo>
                      <a:pt x="6676" y="6"/>
                      <a:pt x="6675" y="5"/>
                      <a:pt x="6675" y="4"/>
                    </a:cubicBezTo>
                    <a:cubicBezTo>
                      <a:pt x="6675" y="3"/>
                      <a:pt x="6676" y="2"/>
                      <a:pt x="6677" y="2"/>
                    </a:cubicBezTo>
                    <a:close/>
                    <a:moveTo>
                      <a:pt x="6685" y="2"/>
                    </a:moveTo>
                    <a:lnTo>
                      <a:pt x="6685" y="2"/>
                    </a:lnTo>
                    <a:cubicBezTo>
                      <a:pt x="6686" y="2"/>
                      <a:pt x="6687" y="3"/>
                      <a:pt x="6687" y="4"/>
                    </a:cubicBezTo>
                    <a:cubicBezTo>
                      <a:pt x="6687" y="5"/>
                      <a:pt x="6686" y="6"/>
                      <a:pt x="6685" y="6"/>
                    </a:cubicBezTo>
                    <a:lnTo>
                      <a:pt x="6685" y="6"/>
                    </a:lnTo>
                    <a:cubicBezTo>
                      <a:pt x="6684" y="6"/>
                      <a:pt x="6683" y="5"/>
                      <a:pt x="6683" y="4"/>
                    </a:cubicBezTo>
                    <a:cubicBezTo>
                      <a:pt x="6683" y="3"/>
                      <a:pt x="6684" y="2"/>
                      <a:pt x="6685" y="2"/>
                    </a:cubicBezTo>
                    <a:close/>
                    <a:moveTo>
                      <a:pt x="6693" y="2"/>
                    </a:moveTo>
                    <a:lnTo>
                      <a:pt x="6693" y="2"/>
                    </a:lnTo>
                    <a:cubicBezTo>
                      <a:pt x="6694" y="2"/>
                      <a:pt x="6695" y="3"/>
                      <a:pt x="6695" y="4"/>
                    </a:cubicBezTo>
                    <a:cubicBezTo>
                      <a:pt x="6695" y="5"/>
                      <a:pt x="6694" y="6"/>
                      <a:pt x="6693" y="6"/>
                    </a:cubicBezTo>
                    <a:lnTo>
                      <a:pt x="6693" y="6"/>
                    </a:lnTo>
                    <a:cubicBezTo>
                      <a:pt x="6692" y="6"/>
                      <a:pt x="6691" y="5"/>
                      <a:pt x="6691" y="4"/>
                    </a:cubicBezTo>
                    <a:cubicBezTo>
                      <a:pt x="6691" y="3"/>
                      <a:pt x="6692" y="2"/>
                      <a:pt x="6693" y="2"/>
                    </a:cubicBezTo>
                    <a:close/>
                    <a:moveTo>
                      <a:pt x="6701" y="2"/>
                    </a:moveTo>
                    <a:lnTo>
                      <a:pt x="6701" y="2"/>
                    </a:lnTo>
                    <a:cubicBezTo>
                      <a:pt x="6702" y="2"/>
                      <a:pt x="6703" y="3"/>
                      <a:pt x="6703" y="4"/>
                    </a:cubicBezTo>
                    <a:cubicBezTo>
                      <a:pt x="6703" y="5"/>
                      <a:pt x="6702" y="6"/>
                      <a:pt x="6701" y="6"/>
                    </a:cubicBezTo>
                    <a:lnTo>
                      <a:pt x="6701" y="6"/>
                    </a:lnTo>
                    <a:cubicBezTo>
                      <a:pt x="6700" y="6"/>
                      <a:pt x="6699" y="5"/>
                      <a:pt x="6699" y="4"/>
                    </a:cubicBezTo>
                    <a:cubicBezTo>
                      <a:pt x="6699" y="3"/>
                      <a:pt x="6700" y="2"/>
                      <a:pt x="6701" y="2"/>
                    </a:cubicBezTo>
                    <a:close/>
                    <a:moveTo>
                      <a:pt x="6709" y="2"/>
                    </a:moveTo>
                    <a:lnTo>
                      <a:pt x="6709" y="2"/>
                    </a:lnTo>
                    <a:cubicBezTo>
                      <a:pt x="6710" y="2"/>
                      <a:pt x="6711" y="3"/>
                      <a:pt x="6711" y="4"/>
                    </a:cubicBezTo>
                    <a:cubicBezTo>
                      <a:pt x="6711" y="5"/>
                      <a:pt x="6710" y="6"/>
                      <a:pt x="6709" y="6"/>
                    </a:cubicBezTo>
                    <a:lnTo>
                      <a:pt x="6709" y="6"/>
                    </a:lnTo>
                    <a:cubicBezTo>
                      <a:pt x="6708" y="6"/>
                      <a:pt x="6707" y="5"/>
                      <a:pt x="6707" y="4"/>
                    </a:cubicBezTo>
                    <a:cubicBezTo>
                      <a:pt x="6707" y="3"/>
                      <a:pt x="6708" y="2"/>
                      <a:pt x="6709" y="2"/>
                    </a:cubicBezTo>
                    <a:close/>
                    <a:moveTo>
                      <a:pt x="6717" y="2"/>
                    </a:moveTo>
                    <a:lnTo>
                      <a:pt x="6717" y="2"/>
                    </a:lnTo>
                    <a:cubicBezTo>
                      <a:pt x="6718" y="2"/>
                      <a:pt x="6719" y="3"/>
                      <a:pt x="6719" y="4"/>
                    </a:cubicBezTo>
                    <a:cubicBezTo>
                      <a:pt x="6719" y="5"/>
                      <a:pt x="6718" y="6"/>
                      <a:pt x="6717" y="6"/>
                    </a:cubicBezTo>
                    <a:lnTo>
                      <a:pt x="6717" y="6"/>
                    </a:lnTo>
                    <a:cubicBezTo>
                      <a:pt x="6716" y="6"/>
                      <a:pt x="6715" y="5"/>
                      <a:pt x="6715" y="4"/>
                    </a:cubicBezTo>
                    <a:cubicBezTo>
                      <a:pt x="6715" y="3"/>
                      <a:pt x="6716" y="2"/>
                      <a:pt x="6717" y="2"/>
                    </a:cubicBezTo>
                    <a:close/>
                    <a:moveTo>
                      <a:pt x="6725" y="2"/>
                    </a:moveTo>
                    <a:lnTo>
                      <a:pt x="6725" y="2"/>
                    </a:lnTo>
                    <a:cubicBezTo>
                      <a:pt x="6726" y="2"/>
                      <a:pt x="6727" y="3"/>
                      <a:pt x="6727" y="4"/>
                    </a:cubicBezTo>
                    <a:cubicBezTo>
                      <a:pt x="6727" y="5"/>
                      <a:pt x="6726" y="6"/>
                      <a:pt x="6725" y="6"/>
                    </a:cubicBezTo>
                    <a:lnTo>
                      <a:pt x="6725" y="6"/>
                    </a:lnTo>
                    <a:cubicBezTo>
                      <a:pt x="6724" y="6"/>
                      <a:pt x="6723" y="5"/>
                      <a:pt x="6723" y="4"/>
                    </a:cubicBezTo>
                    <a:cubicBezTo>
                      <a:pt x="6723" y="3"/>
                      <a:pt x="6724" y="2"/>
                      <a:pt x="6725" y="2"/>
                    </a:cubicBezTo>
                    <a:close/>
                    <a:moveTo>
                      <a:pt x="6733" y="2"/>
                    </a:moveTo>
                    <a:lnTo>
                      <a:pt x="6733" y="2"/>
                    </a:lnTo>
                    <a:cubicBezTo>
                      <a:pt x="6734" y="2"/>
                      <a:pt x="6735" y="3"/>
                      <a:pt x="6735" y="4"/>
                    </a:cubicBezTo>
                    <a:cubicBezTo>
                      <a:pt x="6735" y="5"/>
                      <a:pt x="6734" y="6"/>
                      <a:pt x="6733" y="6"/>
                    </a:cubicBezTo>
                    <a:lnTo>
                      <a:pt x="6733" y="6"/>
                    </a:lnTo>
                    <a:cubicBezTo>
                      <a:pt x="6732" y="6"/>
                      <a:pt x="6731" y="5"/>
                      <a:pt x="6731" y="4"/>
                    </a:cubicBezTo>
                    <a:cubicBezTo>
                      <a:pt x="6731" y="3"/>
                      <a:pt x="6732" y="2"/>
                      <a:pt x="6733" y="2"/>
                    </a:cubicBezTo>
                    <a:close/>
                    <a:moveTo>
                      <a:pt x="6741" y="2"/>
                    </a:moveTo>
                    <a:lnTo>
                      <a:pt x="6741" y="2"/>
                    </a:lnTo>
                    <a:cubicBezTo>
                      <a:pt x="6742" y="2"/>
                      <a:pt x="6743" y="3"/>
                      <a:pt x="6743" y="4"/>
                    </a:cubicBezTo>
                    <a:cubicBezTo>
                      <a:pt x="6743" y="5"/>
                      <a:pt x="6742" y="6"/>
                      <a:pt x="6741" y="6"/>
                    </a:cubicBezTo>
                    <a:lnTo>
                      <a:pt x="6741" y="6"/>
                    </a:lnTo>
                    <a:cubicBezTo>
                      <a:pt x="6740" y="6"/>
                      <a:pt x="6739" y="5"/>
                      <a:pt x="6739" y="4"/>
                    </a:cubicBezTo>
                    <a:cubicBezTo>
                      <a:pt x="6739" y="3"/>
                      <a:pt x="6740" y="2"/>
                      <a:pt x="6741" y="2"/>
                    </a:cubicBezTo>
                    <a:close/>
                    <a:moveTo>
                      <a:pt x="6749" y="2"/>
                    </a:moveTo>
                    <a:lnTo>
                      <a:pt x="6749" y="2"/>
                    </a:lnTo>
                    <a:cubicBezTo>
                      <a:pt x="6750" y="2"/>
                      <a:pt x="6751" y="3"/>
                      <a:pt x="6751" y="4"/>
                    </a:cubicBezTo>
                    <a:cubicBezTo>
                      <a:pt x="6751" y="5"/>
                      <a:pt x="6750" y="6"/>
                      <a:pt x="6749" y="6"/>
                    </a:cubicBezTo>
                    <a:lnTo>
                      <a:pt x="6749" y="6"/>
                    </a:lnTo>
                    <a:cubicBezTo>
                      <a:pt x="6748" y="6"/>
                      <a:pt x="6747" y="5"/>
                      <a:pt x="6747" y="4"/>
                    </a:cubicBezTo>
                    <a:cubicBezTo>
                      <a:pt x="6747" y="3"/>
                      <a:pt x="6748" y="2"/>
                      <a:pt x="6749" y="2"/>
                    </a:cubicBezTo>
                    <a:close/>
                    <a:moveTo>
                      <a:pt x="6757" y="2"/>
                    </a:moveTo>
                    <a:lnTo>
                      <a:pt x="6757" y="2"/>
                    </a:lnTo>
                    <a:cubicBezTo>
                      <a:pt x="6758" y="2"/>
                      <a:pt x="6759" y="3"/>
                      <a:pt x="6759" y="4"/>
                    </a:cubicBezTo>
                    <a:cubicBezTo>
                      <a:pt x="6759" y="5"/>
                      <a:pt x="6758" y="6"/>
                      <a:pt x="6757" y="6"/>
                    </a:cubicBezTo>
                    <a:lnTo>
                      <a:pt x="6757" y="6"/>
                    </a:lnTo>
                    <a:cubicBezTo>
                      <a:pt x="6756" y="6"/>
                      <a:pt x="6755" y="5"/>
                      <a:pt x="6755" y="4"/>
                    </a:cubicBezTo>
                    <a:cubicBezTo>
                      <a:pt x="6755" y="3"/>
                      <a:pt x="6756" y="2"/>
                      <a:pt x="6757" y="2"/>
                    </a:cubicBezTo>
                    <a:close/>
                    <a:moveTo>
                      <a:pt x="6765" y="2"/>
                    </a:moveTo>
                    <a:lnTo>
                      <a:pt x="6765" y="2"/>
                    </a:lnTo>
                    <a:cubicBezTo>
                      <a:pt x="6766" y="2"/>
                      <a:pt x="6767" y="3"/>
                      <a:pt x="6767" y="4"/>
                    </a:cubicBezTo>
                    <a:cubicBezTo>
                      <a:pt x="6767" y="5"/>
                      <a:pt x="6766" y="6"/>
                      <a:pt x="6765" y="6"/>
                    </a:cubicBezTo>
                    <a:lnTo>
                      <a:pt x="6765" y="6"/>
                    </a:lnTo>
                    <a:cubicBezTo>
                      <a:pt x="6764" y="6"/>
                      <a:pt x="6763" y="5"/>
                      <a:pt x="6763" y="4"/>
                    </a:cubicBezTo>
                    <a:cubicBezTo>
                      <a:pt x="6763" y="3"/>
                      <a:pt x="6764" y="2"/>
                      <a:pt x="6765" y="2"/>
                    </a:cubicBezTo>
                    <a:close/>
                    <a:moveTo>
                      <a:pt x="6773" y="2"/>
                    </a:moveTo>
                    <a:lnTo>
                      <a:pt x="6773" y="2"/>
                    </a:lnTo>
                    <a:cubicBezTo>
                      <a:pt x="6774" y="2"/>
                      <a:pt x="6775" y="3"/>
                      <a:pt x="6775" y="4"/>
                    </a:cubicBezTo>
                    <a:cubicBezTo>
                      <a:pt x="6775" y="5"/>
                      <a:pt x="6774" y="6"/>
                      <a:pt x="6773" y="6"/>
                    </a:cubicBezTo>
                    <a:lnTo>
                      <a:pt x="6773" y="6"/>
                    </a:lnTo>
                    <a:cubicBezTo>
                      <a:pt x="6772" y="6"/>
                      <a:pt x="6771" y="5"/>
                      <a:pt x="6771" y="4"/>
                    </a:cubicBezTo>
                    <a:cubicBezTo>
                      <a:pt x="6771" y="3"/>
                      <a:pt x="6772" y="2"/>
                      <a:pt x="6773" y="2"/>
                    </a:cubicBezTo>
                    <a:close/>
                    <a:moveTo>
                      <a:pt x="6781" y="2"/>
                    </a:moveTo>
                    <a:lnTo>
                      <a:pt x="6781" y="2"/>
                    </a:lnTo>
                    <a:cubicBezTo>
                      <a:pt x="6782" y="2"/>
                      <a:pt x="6783" y="3"/>
                      <a:pt x="6783" y="4"/>
                    </a:cubicBezTo>
                    <a:cubicBezTo>
                      <a:pt x="6783" y="5"/>
                      <a:pt x="6782" y="6"/>
                      <a:pt x="6781" y="6"/>
                    </a:cubicBezTo>
                    <a:lnTo>
                      <a:pt x="6781" y="6"/>
                    </a:lnTo>
                    <a:cubicBezTo>
                      <a:pt x="6780" y="6"/>
                      <a:pt x="6779" y="5"/>
                      <a:pt x="6779" y="4"/>
                    </a:cubicBezTo>
                    <a:cubicBezTo>
                      <a:pt x="6779" y="3"/>
                      <a:pt x="6780" y="2"/>
                      <a:pt x="6781" y="2"/>
                    </a:cubicBezTo>
                    <a:close/>
                    <a:moveTo>
                      <a:pt x="6789" y="2"/>
                    </a:moveTo>
                    <a:lnTo>
                      <a:pt x="6789" y="2"/>
                    </a:lnTo>
                    <a:cubicBezTo>
                      <a:pt x="6790" y="2"/>
                      <a:pt x="6791" y="3"/>
                      <a:pt x="6791" y="4"/>
                    </a:cubicBezTo>
                    <a:cubicBezTo>
                      <a:pt x="6791" y="5"/>
                      <a:pt x="6790" y="6"/>
                      <a:pt x="6789" y="6"/>
                    </a:cubicBezTo>
                    <a:lnTo>
                      <a:pt x="6789" y="6"/>
                    </a:lnTo>
                    <a:cubicBezTo>
                      <a:pt x="6788" y="6"/>
                      <a:pt x="6787" y="5"/>
                      <a:pt x="6787" y="4"/>
                    </a:cubicBezTo>
                    <a:cubicBezTo>
                      <a:pt x="6787" y="3"/>
                      <a:pt x="6788" y="2"/>
                      <a:pt x="6789" y="2"/>
                    </a:cubicBezTo>
                    <a:close/>
                    <a:moveTo>
                      <a:pt x="6797" y="2"/>
                    </a:moveTo>
                    <a:lnTo>
                      <a:pt x="6797" y="2"/>
                    </a:lnTo>
                    <a:cubicBezTo>
                      <a:pt x="6798" y="2"/>
                      <a:pt x="6799" y="3"/>
                      <a:pt x="6799" y="4"/>
                    </a:cubicBezTo>
                    <a:cubicBezTo>
                      <a:pt x="6799" y="5"/>
                      <a:pt x="6798" y="6"/>
                      <a:pt x="6797" y="6"/>
                    </a:cubicBezTo>
                    <a:lnTo>
                      <a:pt x="6797" y="6"/>
                    </a:lnTo>
                    <a:cubicBezTo>
                      <a:pt x="6796" y="6"/>
                      <a:pt x="6795" y="5"/>
                      <a:pt x="6795" y="4"/>
                    </a:cubicBezTo>
                    <a:cubicBezTo>
                      <a:pt x="6795" y="3"/>
                      <a:pt x="6796" y="2"/>
                      <a:pt x="6797" y="2"/>
                    </a:cubicBezTo>
                    <a:close/>
                    <a:moveTo>
                      <a:pt x="6805" y="2"/>
                    </a:moveTo>
                    <a:lnTo>
                      <a:pt x="6805" y="2"/>
                    </a:lnTo>
                    <a:cubicBezTo>
                      <a:pt x="6806" y="2"/>
                      <a:pt x="6807" y="3"/>
                      <a:pt x="6807" y="4"/>
                    </a:cubicBezTo>
                    <a:cubicBezTo>
                      <a:pt x="6807" y="5"/>
                      <a:pt x="6806" y="6"/>
                      <a:pt x="6805" y="6"/>
                    </a:cubicBezTo>
                    <a:lnTo>
                      <a:pt x="6805" y="6"/>
                    </a:lnTo>
                    <a:cubicBezTo>
                      <a:pt x="6804" y="6"/>
                      <a:pt x="6803" y="5"/>
                      <a:pt x="6803" y="4"/>
                    </a:cubicBezTo>
                    <a:cubicBezTo>
                      <a:pt x="6803" y="3"/>
                      <a:pt x="6804" y="2"/>
                      <a:pt x="6805" y="2"/>
                    </a:cubicBezTo>
                    <a:close/>
                    <a:moveTo>
                      <a:pt x="6813" y="2"/>
                    </a:moveTo>
                    <a:lnTo>
                      <a:pt x="6813" y="2"/>
                    </a:lnTo>
                    <a:cubicBezTo>
                      <a:pt x="6814" y="2"/>
                      <a:pt x="6815" y="3"/>
                      <a:pt x="6815" y="4"/>
                    </a:cubicBezTo>
                    <a:cubicBezTo>
                      <a:pt x="6815" y="5"/>
                      <a:pt x="6814" y="6"/>
                      <a:pt x="6813" y="6"/>
                    </a:cubicBezTo>
                    <a:lnTo>
                      <a:pt x="6813" y="6"/>
                    </a:lnTo>
                    <a:cubicBezTo>
                      <a:pt x="6812" y="6"/>
                      <a:pt x="6811" y="5"/>
                      <a:pt x="6811" y="4"/>
                    </a:cubicBezTo>
                    <a:cubicBezTo>
                      <a:pt x="6811" y="3"/>
                      <a:pt x="6812" y="2"/>
                      <a:pt x="6813" y="2"/>
                    </a:cubicBezTo>
                    <a:close/>
                    <a:moveTo>
                      <a:pt x="6821" y="2"/>
                    </a:moveTo>
                    <a:lnTo>
                      <a:pt x="6821" y="2"/>
                    </a:lnTo>
                    <a:cubicBezTo>
                      <a:pt x="6822" y="2"/>
                      <a:pt x="6823" y="3"/>
                      <a:pt x="6823" y="4"/>
                    </a:cubicBezTo>
                    <a:cubicBezTo>
                      <a:pt x="6823" y="5"/>
                      <a:pt x="6822" y="6"/>
                      <a:pt x="6821" y="6"/>
                    </a:cubicBezTo>
                    <a:lnTo>
                      <a:pt x="6821" y="6"/>
                    </a:lnTo>
                    <a:cubicBezTo>
                      <a:pt x="6820" y="6"/>
                      <a:pt x="6819" y="5"/>
                      <a:pt x="6819" y="4"/>
                    </a:cubicBezTo>
                    <a:cubicBezTo>
                      <a:pt x="6819" y="3"/>
                      <a:pt x="6820" y="2"/>
                      <a:pt x="6821" y="2"/>
                    </a:cubicBezTo>
                    <a:close/>
                    <a:moveTo>
                      <a:pt x="6829" y="2"/>
                    </a:moveTo>
                    <a:lnTo>
                      <a:pt x="6829" y="2"/>
                    </a:lnTo>
                    <a:cubicBezTo>
                      <a:pt x="6830" y="2"/>
                      <a:pt x="6831" y="3"/>
                      <a:pt x="6831" y="4"/>
                    </a:cubicBezTo>
                    <a:cubicBezTo>
                      <a:pt x="6831" y="5"/>
                      <a:pt x="6830" y="6"/>
                      <a:pt x="6829" y="6"/>
                    </a:cubicBezTo>
                    <a:lnTo>
                      <a:pt x="6829" y="6"/>
                    </a:lnTo>
                    <a:cubicBezTo>
                      <a:pt x="6828" y="6"/>
                      <a:pt x="6827" y="5"/>
                      <a:pt x="6827" y="4"/>
                    </a:cubicBezTo>
                    <a:cubicBezTo>
                      <a:pt x="6827" y="3"/>
                      <a:pt x="6828" y="2"/>
                      <a:pt x="6829" y="2"/>
                    </a:cubicBezTo>
                    <a:close/>
                    <a:moveTo>
                      <a:pt x="6837" y="2"/>
                    </a:moveTo>
                    <a:lnTo>
                      <a:pt x="6837" y="2"/>
                    </a:lnTo>
                    <a:cubicBezTo>
                      <a:pt x="6838" y="2"/>
                      <a:pt x="6839" y="3"/>
                      <a:pt x="6839" y="4"/>
                    </a:cubicBezTo>
                    <a:cubicBezTo>
                      <a:pt x="6839" y="5"/>
                      <a:pt x="6838" y="6"/>
                      <a:pt x="6837" y="6"/>
                    </a:cubicBezTo>
                    <a:lnTo>
                      <a:pt x="6837" y="6"/>
                    </a:lnTo>
                    <a:cubicBezTo>
                      <a:pt x="6836" y="6"/>
                      <a:pt x="6835" y="5"/>
                      <a:pt x="6835" y="4"/>
                    </a:cubicBezTo>
                    <a:cubicBezTo>
                      <a:pt x="6835" y="3"/>
                      <a:pt x="6836" y="2"/>
                      <a:pt x="6837" y="2"/>
                    </a:cubicBezTo>
                    <a:close/>
                    <a:moveTo>
                      <a:pt x="6845" y="2"/>
                    </a:moveTo>
                    <a:lnTo>
                      <a:pt x="6845" y="2"/>
                    </a:lnTo>
                    <a:cubicBezTo>
                      <a:pt x="6846" y="2"/>
                      <a:pt x="6847" y="3"/>
                      <a:pt x="6847" y="4"/>
                    </a:cubicBezTo>
                    <a:cubicBezTo>
                      <a:pt x="6847" y="5"/>
                      <a:pt x="6846" y="6"/>
                      <a:pt x="6845" y="6"/>
                    </a:cubicBezTo>
                    <a:lnTo>
                      <a:pt x="6845" y="6"/>
                    </a:lnTo>
                    <a:cubicBezTo>
                      <a:pt x="6844" y="6"/>
                      <a:pt x="6843" y="5"/>
                      <a:pt x="6843" y="4"/>
                    </a:cubicBezTo>
                    <a:cubicBezTo>
                      <a:pt x="6843" y="3"/>
                      <a:pt x="6844" y="2"/>
                      <a:pt x="6845" y="2"/>
                    </a:cubicBezTo>
                    <a:close/>
                    <a:moveTo>
                      <a:pt x="6853" y="2"/>
                    </a:moveTo>
                    <a:lnTo>
                      <a:pt x="6853" y="2"/>
                    </a:lnTo>
                    <a:cubicBezTo>
                      <a:pt x="6854" y="2"/>
                      <a:pt x="6855" y="3"/>
                      <a:pt x="6855" y="4"/>
                    </a:cubicBezTo>
                    <a:cubicBezTo>
                      <a:pt x="6855" y="5"/>
                      <a:pt x="6854" y="6"/>
                      <a:pt x="6853" y="6"/>
                    </a:cubicBezTo>
                    <a:lnTo>
                      <a:pt x="6853" y="6"/>
                    </a:lnTo>
                    <a:cubicBezTo>
                      <a:pt x="6852" y="6"/>
                      <a:pt x="6851" y="5"/>
                      <a:pt x="6851" y="4"/>
                    </a:cubicBezTo>
                    <a:cubicBezTo>
                      <a:pt x="6851" y="3"/>
                      <a:pt x="6852" y="2"/>
                      <a:pt x="6853" y="2"/>
                    </a:cubicBezTo>
                    <a:close/>
                    <a:moveTo>
                      <a:pt x="6861" y="2"/>
                    </a:moveTo>
                    <a:lnTo>
                      <a:pt x="6861" y="2"/>
                    </a:lnTo>
                    <a:cubicBezTo>
                      <a:pt x="6862" y="2"/>
                      <a:pt x="6863" y="3"/>
                      <a:pt x="6863" y="4"/>
                    </a:cubicBezTo>
                    <a:cubicBezTo>
                      <a:pt x="6863" y="5"/>
                      <a:pt x="6862" y="6"/>
                      <a:pt x="6861" y="6"/>
                    </a:cubicBezTo>
                    <a:lnTo>
                      <a:pt x="6861" y="6"/>
                    </a:lnTo>
                    <a:cubicBezTo>
                      <a:pt x="6860" y="6"/>
                      <a:pt x="6859" y="5"/>
                      <a:pt x="6859" y="4"/>
                    </a:cubicBezTo>
                    <a:cubicBezTo>
                      <a:pt x="6859" y="3"/>
                      <a:pt x="6860" y="2"/>
                      <a:pt x="6861" y="2"/>
                    </a:cubicBezTo>
                    <a:close/>
                    <a:moveTo>
                      <a:pt x="6869" y="2"/>
                    </a:moveTo>
                    <a:lnTo>
                      <a:pt x="6869" y="2"/>
                    </a:lnTo>
                    <a:cubicBezTo>
                      <a:pt x="6870" y="2"/>
                      <a:pt x="6871" y="3"/>
                      <a:pt x="6871" y="4"/>
                    </a:cubicBezTo>
                    <a:cubicBezTo>
                      <a:pt x="6871" y="5"/>
                      <a:pt x="6870" y="6"/>
                      <a:pt x="6869" y="6"/>
                    </a:cubicBezTo>
                    <a:lnTo>
                      <a:pt x="6869" y="6"/>
                    </a:lnTo>
                    <a:cubicBezTo>
                      <a:pt x="6868" y="6"/>
                      <a:pt x="6867" y="5"/>
                      <a:pt x="6867" y="4"/>
                    </a:cubicBezTo>
                    <a:cubicBezTo>
                      <a:pt x="6867" y="3"/>
                      <a:pt x="6868" y="2"/>
                      <a:pt x="6869" y="2"/>
                    </a:cubicBezTo>
                    <a:close/>
                    <a:moveTo>
                      <a:pt x="6877" y="2"/>
                    </a:moveTo>
                    <a:lnTo>
                      <a:pt x="6877" y="2"/>
                    </a:lnTo>
                    <a:cubicBezTo>
                      <a:pt x="6878" y="2"/>
                      <a:pt x="6879" y="3"/>
                      <a:pt x="6879" y="4"/>
                    </a:cubicBezTo>
                    <a:cubicBezTo>
                      <a:pt x="6879" y="5"/>
                      <a:pt x="6878" y="6"/>
                      <a:pt x="6877" y="6"/>
                    </a:cubicBezTo>
                    <a:lnTo>
                      <a:pt x="6877" y="6"/>
                    </a:lnTo>
                    <a:cubicBezTo>
                      <a:pt x="6876" y="6"/>
                      <a:pt x="6875" y="5"/>
                      <a:pt x="6875" y="4"/>
                    </a:cubicBezTo>
                    <a:cubicBezTo>
                      <a:pt x="6875" y="3"/>
                      <a:pt x="6876" y="2"/>
                      <a:pt x="6877" y="2"/>
                    </a:cubicBezTo>
                    <a:close/>
                    <a:moveTo>
                      <a:pt x="6885" y="2"/>
                    </a:moveTo>
                    <a:lnTo>
                      <a:pt x="6885" y="2"/>
                    </a:lnTo>
                    <a:cubicBezTo>
                      <a:pt x="6886" y="2"/>
                      <a:pt x="6887" y="3"/>
                      <a:pt x="6887" y="4"/>
                    </a:cubicBezTo>
                    <a:cubicBezTo>
                      <a:pt x="6887" y="5"/>
                      <a:pt x="6886" y="6"/>
                      <a:pt x="6885" y="6"/>
                    </a:cubicBezTo>
                    <a:lnTo>
                      <a:pt x="6885" y="6"/>
                    </a:lnTo>
                    <a:cubicBezTo>
                      <a:pt x="6884" y="6"/>
                      <a:pt x="6883" y="5"/>
                      <a:pt x="6883" y="4"/>
                    </a:cubicBezTo>
                    <a:cubicBezTo>
                      <a:pt x="6883" y="3"/>
                      <a:pt x="6884" y="2"/>
                      <a:pt x="6885" y="2"/>
                    </a:cubicBezTo>
                    <a:close/>
                    <a:moveTo>
                      <a:pt x="6893" y="2"/>
                    </a:moveTo>
                    <a:lnTo>
                      <a:pt x="6893" y="2"/>
                    </a:lnTo>
                    <a:cubicBezTo>
                      <a:pt x="6894" y="2"/>
                      <a:pt x="6895" y="3"/>
                      <a:pt x="6895" y="4"/>
                    </a:cubicBezTo>
                    <a:cubicBezTo>
                      <a:pt x="6895" y="5"/>
                      <a:pt x="6894" y="6"/>
                      <a:pt x="6893" y="6"/>
                    </a:cubicBezTo>
                    <a:lnTo>
                      <a:pt x="6893" y="6"/>
                    </a:lnTo>
                    <a:cubicBezTo>
                      <a:pt x="6892" y="6"/>
                      <a:pt x="6891" y="5"/>
                      <a:pt x="6891" y="4"/>
                    </a:cubicBezTo>
                    <a:cubicBezTo>
                      <a:pt x="6891" y="3"/>
                      <a:pt x="6892" y="2"/>
                      <a:pt x="6893" y="2"/>
                    </a:cubicBezTo>
                    <a:close/>
                    <a:moveTo>
                      <a:pt x="6901" y="2"/>
                    </a:moveTo>
                    <a:lnTo>
                      <a:pt x="6901" y="2"/>
                    </a:lnTo>
                    <a:cubicBezTo>
                      <a:pt x="6902" y="2"/>
                      <a:pt x="6903" y="3"/>
                      <a:pt x="6903" y="4"/>
                    </a:cubicBezTo>
                    <a:cubicBezTo>
                      <a:pt x="6903" y="5"/>
                      <a:pt x="6902" y="6"/>
                      <a:pt x="6901" y="6"/>
                    </a:cubicBezTo>
                    <a:lnTo>
                      <a:pt x="6901" y="6"/>
                    </a:lnTo>
                    <a:cubicBezTo>
                      <a:pt x="6900" y="6"/>
                      <a:pt x="6899" y="5"/>
                      <a:pt x="6899" y="4"/>
                    </a:cubicBezTo>
                    <a:cubicBezTo>
                      <a:pt x="6899" y="3"/>
                      <a:pt x="6900" y="2"/>
                      <a:pt x="6901" y="2"/>
                    </a:cubicBezTo>
                    <a:close/>
                    <a:moveTo>
                      <a:pt x="6909" y="2"/>
                    </a:moveTo>
                    <a:lnTo>
                      <a:pt x="6909" y="2"/>
                    </a:lnTo>
                    <a:cubicBezTo>
                      <a:pt x="6910" y="2"/>
                      <a:pt x="6911" y="3"/>
                      <a:pt x="6911" y="4"/>
                    </a:cubicBezTo>
                    <a:cubicBezTo>
                      <a:pt x="6911" y="5"/>
                      <a:pt x="6910" y="6"/>
                      <a:pt x="6909" y="6"/>
                    </a:cubicBezTo>
                    <a:lnTo>
                      <a:pt x="6909" y="6"/>
                    </a:lnTo>
                    <a:cubicBezTo>
                      <a:pt x="6908" y="6"/>
                      <a:pt x="6907" y="5"/>
                      <a:pt x="6907" y="4"/>
                    </a:cubicBezTo>
                    <a:cubicBezTo>
                      <a:pt x="6907" y="3"/>
                      <a:pt x="6908" y="2"/>
                      <a:pt x="6909" y="2"/>
                    </a:cubicBezTo>
                    <a:close/>
                    <a:moveTo>
                      <a:pt x="6917" y="2"/>
                    </a:moveTo>
                    <a:lnTo>
                      <a:pt x="6917" y="2"/>
                    </a:lnTo>
                    <a:cubicBezTo>
                      <a:pt x="6918" y="2"/>
                      <a:pt x="6919" y="3"/>
                      <a:pt x="6919" y="4"/>
                    </a:cubicBezTo>
                    <a:cubicBezTo>
                      <a:pt x="6919" y="5"/>
                      <a:pt x="6918" y="6"/>
                      <a:pt x="6917" y="6"/>
                    </a:cubicBezTo>
                    <a:lnTo>
                      <a:pt x="6917" y="6"/>
                    </a:lnTo>
                    <a:cubicBezTo>
                      <a:pt x="6916" y="6"/>
                      <a:pt x="6915" y="5"/>
                      <a:pt x="6915" y="4"/>
                    </a:cubicBezTo>
                    <a:cubicBezTo>
                      <a:pt x="6915" y="3"/>
                      <a:pt x="6916" y="2"/>
                      <a:pt x="6917" y="2"/>
                    </a:cubicBezTo>
                    <a:close/>
                    <a:moveTo>
                      <a:pt x="6925" y="2"/>
                    </a:moveTo>
                    <a:lnTo>
                      <a:pt x="6925" y="2"/>
                    </a:lnTo>
                    <a:cubicBezTo>
                      <a:pt x="6926" y="2"/>
                      <a:pt x="6927" y="3"/>
                      <a:pt x="6927" y="4"/>
                    </a:cubicBezTo>
                    <a:cubicBezTo>
                      <a:pt x="6927" y="5"/>
                      <a:pt x="6926" y="6"/>
                      <a:pt x="6925" y="6"/>
                    </a:cubicBezTo>
                    <a:lnTo>
                      <a:pt x="6925" y="6"/>
                    </a:lnTo>
                    <a:cubicBezTo>
                      <a:pt x="6924" y="6"/>
                      <a:pt x="6923" y="5"/>
                      <a:pt x="6923" y="4"/>
                    </a:cubicBezTo>
                    <a:cubicBezTo>
                      <a:pt x="6923" y="3"/>
                      <a:pt x="6924" y="2"/>
                      <a:pt x="6925" y="2"/>
                    </a:cubicBezTo>
                    <a:close/>
                    <a:moveTo>
                      <a:pt x="6933" y="2"/>
                    </a:moveTo>
                    <a:lnTo>
                      <a:pt x="6933" y="2"/>
                    </a:lnTo>
                    <a:cubicBezTo>
                      <a:pt x="6934" y="2"/>
                      <a:pt x="6935" y="3"/>
                      <a:pt x="6935" y="4"/>
                    </a:cubicBezTo>
                    <a:cubicBezTo>
                      <a:pt x="6935" y="5"/>
                      <a:pt x="6934" y="6"/>
                      <a:pt x="6933" y="6"/>
                    </a:cubicBezTo>
                    <a:lnTo>
                      <a:pt x="6933" y="6"/>
                    </a:lnTo>
                    <a:cubicBezTo>
                      <a:pt x="6932" y="6"/>
                      <a:pt x="6931" y="5"/>
                      <a:pt x="6931" y="4"/>
                    </a:cubicBezTo>
                    <a:cubicBezTo>
                      <a:pt x="6931" y="3"/>
                      <a:pt x="6932" y="2"/>
                      <a:pt x="6933" y="2"/>
                    </a:cubicBezTo>
                    <a:close/>
                    <a:moveTo>
                      <a:pt x="6941" y="2"/>
                    </a:moveTo>
                    <a:lnTo>
                      <a:pt x="6941" y="2"/>
                    </a:lnTo>
                    <a:cubicBezTo>
                      <a:pt x="6942" y="2"/>
                      <a:pt x="6943" y="3"/>
                      <a:pt x="6943" y="4"/>
                    </a:cubicBezTo>
                    <a:cubicBezTo>
                      <a:pt x="6943" y="5"/>
                      <a:pt x="6942" y="6"/>
                      <a:pt x="6941" y="6"/>
                    </a:cubicBezTo>
                    <a:lnTo>
                      <a:pt x="6941" y="6"/>
                    </a:lnTo>
                    <a:cubicBezTo>
                      <a:pt x="6940" y="6"/>
                      <a:pt x="6939" y="5"/>
                      <a:pt x="6939" y="4"/>
                    </a:cubicBezTo>
                    <a:cubicBezTo>
                      <a:pt x="6939" y="3"/>
                      <a:pt x="6940" y="2"/>
                      <a:pt x="6941" y="2"/>
                    </a:cubicBezTo>
                    <a:close/>
                    <a:moveTo>
                      <a:pt x="6949" y="2"/>
                    </a:moveTo>
                    <a:lnTo>
                      <a:pt x="6949" y="2"/>
                    </a:lnTo>
                    <a:cubicBezTo>
                      <a:pt x="6950" y="2"/>
                      <a:pt x="6951" y="3"/>
                      <a:pt x="6951" y="4"/>
                    </a:cubicBezTo>
                    <a:cubicBezTo>
                      <a:pt x="6951" y="5"/>
                      <a:pt x="6950" y="6"/>
                      <a:pt x="6949" y="6"/>
                    </a:cubicBezTo>
                    <a:lnTo>
                      <a:pt x="6949" y="6"/>
                    </a:lnTo>
                    <a:cubicBezTo>
                      <a:pt x="6948" y="6"/>
                      <a:pt x="6947" y="5"/>
                      <a:pt x="6947" y="4"/>
                    </a:cubicBezTo>
                    <a:cubicBezTo>
                      <a:pt x="6947" y="3"/>
                      <a:pt x="6948" y="2"/>
                      <a:pt x="6949" y="2"/>
                    </a:cubicBezTo>
                    <a:close/>
                    <a:moveTo>
                      <a:pt x="6957" y="2"/>
                    </a:moveTo>
                    <a:lnTo>
                      <a:pt x="6957" y="2"/>
                    </a:lnTo>
                    <a:cubicBezTo>
                      <a:pt x="6958" y="2"/>
                      <a:pt x="6959" y="3"/>
                      <a:pt x="6959" y="4"/>
                    </a:cubicBezTo>
                    <a:cubicBezTo>
                      <a:pt x="6959" y="5"/>
                      <a:pt x="6958" y="6"/>
                      <a:pt x="6957" y="6"/>
                    </a:cubicBezTo>
                    <a:lnTo>
                      <a:pt x="6957" y="6"/>
                    </a:lnTo>
                    <a:cubicBezTo>
                      <a:pt x="6956" y="6"/>
                      <a:pt x="6955" y="5"/>
                      <a:pt x="6955" y="4"/>
                    </a:cubicBezTo>
                    <a:cubicBezTo>
                      <a:pt x="6955" y="3"/>
                      <a:pt x="6956" y="2"/>
                      <a:pt x="6957" y="2"/>
                    </a:cubicBezTo>
                    <a:close/>
                    <a:moveTo>
                      <a:pt x="6965" y="2"/>
                    </a:moveTo>
                    <a:lnTo>
                      <a:pt x="6965" y="2"/>
                    </a:lnTo>
                    <a:cubicBezTo>
                      <a:pt x="6966" y="2"/>
                      <a:pt x="6967" y="3"/>
                      <a:pt x="6967" y="4"/>
                    </a:cubicBezTo>
                    <a:cubicBezTo>
                      <a:pt x="6967" y="5"/>
                      <a:pt x="6966" y="6"/>
                      <a:pt x="6965" y="6"/>
                    </a:cubicBezTo>
                    <a:lnTo>
                      <a:pt x="6965" y="6"/>
                    </a:lnTo>
                    <a:cubicBezTo>
                      <a:pt x="6964" y="6"/>
                      <a:pt x="6963" y="5"/>
                      <a:pt x="6963" y="4"/>
                    </a:cubicBezTo>
                    <a:cubicBezTo>
                      <a:pt x="6963" y="3"/>
                      <a:pt x="6964" y="2"/>
                      <a:pt x="6965" y="2"/>
                    </a:cubicBezTo>
                    <a:close/>
                    <a:moveTo>
                      <a:pt x="6973" y="2"/>
                    </a:moveTo>
                    <a:lnTo>
                      <a:pt x="6973" y="2"/>
                    </a:lnTo>
                    <a:cubicBezTo>
                      <a:pt x="6974" y="2"/>
                      <a:pt x="6975" y="3"/>
                      <a:pt x="6975" y="4"/>
                    </a:cubicBezTo>
                    <a:cubicBezTo>
                      <a:pt x="6975" y="5"/>
                      <a:pt x="6974" y="6"/>
                      <a:pt x="6973" y="6"/>
                    </a:cubicBezTo>
                    <a:lnTo>
                      <a:pt x="6973" y="6"/>
                    </a:lnTo>
                    <a:cubicBezTo>
                      <a:pt x="6972" y="6"/>
                      <a:pt x="6971" y="5"/>
                      <a:pt x="6971" y="4"/>
                    </a:cubicBezTo>
                    <a:cubicBezTo>
                      <a:pt x="6971" y="3"/>
                      <a:pt x="6972" y="2"/>
                      <a:pt x="6973" y="2"/>
                    </a:cubicBezTo>
                    <a:close/>
                    <a:moveTo>
                      <a:pt x="6981" y="2"/>
                    </a:moveTo>
                    <a:lnTo>
                      <a:pt x="6981" y="2"/>
                    </a:lnTo>
                    <a:cubicBezTo>
                      <a:pt x="6982" y="2"/>
                      <a:pt x="6983" y="3"/>
                      <a:pt x="6983" y="4"/>
                    </a:cubicBezTo>
                    <a:cubicBezTo>
                      <a:pt x="6983" y="5"/>
                      <a:pt x="6982" y="6"/>
                      <a:pt x="6981" y="6"/>
                    </a:cubicBezTo>
                    <a:lnTo>
                      <a:pt x="6981" y="6"/>
                    </a:lnTo>
                    <a:cubicBezTo>
                      <a:pt x="6980" y="6"/>
                      <a:pt x="6979" y="5"/>
                      <a:pt x="6979" y="4"/>
                    </a:cubicBezTo>
                    <a:cubicBezTo>
                      <a:pt x="6979" y="3"/>
                      <a:pt x="6980" y="2"/>
                      <a:pt x="6981" y="2"/>
                    </a:cubicBezTo>
                    <a:close/>
                    <a:moveTo>
                      <a:pt x="6989" y="2"/>
                    </a:moveTo>
                    <a:lnTo>
                      <a:pt x="6989" y="2"/>
                    </a:lnTo>
                    <a:cubicBezTo>
                      <a:pt x="6990" y="2"/>
                      <a:pt x="6991" y="3"/>
                      <a:pt x="6991" y="4"/>
                    </a:cubicBezTo>
                    <a:cubicBezTo>
                      <a:pt x="6991" y="5"/>
                      <a:pt x="6990" y="6"/>
                      <a:pt x="6989" y="6"/>
                    </a:cubicBezTo>
                    <a:lnTo>
                      <a:pt x="6989" y="6"/>
                    </a:lnTo>
                    <a:cubicBezTo>
                      <a:pt x="6988" y="6"/>
                      <a:pt x="6987" y="5"/>
                      <a:pt x="6987" y="4"/>
                    </a:cubicBezTo>
                    <a:cubicBezTo>
                      <a:pt x="6987" y="3"/>
                      <a:pt x="6988" y="2"/>
                      <a:pt x="6989" y="2"/>
                    </a:cubicBezTo>
                    <a:close/>
                    <a:moveTo>
                      <a:pt x="6997" y="2"/>
                    </a:moveTo>
                    <a:lnTo>
                      <a:pt x="6997" y="2"/>
                    </a:lnTo>
                    <a:cubicBezTo>
                      <a:pt x="6998" y="2"/>
                      <a:pt x="6999" y="3"/>
                      <a:pt x="6999" y="4"/>
                    </a:cubicBezTo>
                    <a:cubicBezTo>
                      <a:pt x="6999" y="5"/>
                      <a:pt x="6998" y="6"/>
                      <a:pt x="6997" y="6"/>
                    </a:cubicBezTo>
                    <a:lnTo>
                      <a:pt x="6997" y="6"/>
                    </a:lnTo>
                    <a:cubicBezTo>
                      <a:pt x="6996" y="6"/>
                      <a:pt x="6995" y="5"/>
                      <a:pt x="6995" y="4"/>
                    </a:cubicBezTo>
                    <a:cubicBezTo>
                      <a:pt x="6995" y="3"/>
                      <a:pt x="6996" y="2"/>
                      <a:pt x="6997" y="2"/>
                    </a:cubicBezTo>
                    <a:close/>
                    <a:moveTo>
                      <a:pt x="7005" y="2"/>
                    </a:moveTo>
                    <a:lnTo>
                      <a:pt x="7005" y="2"/>
                    </a:lnTo>
                    <a:cubicBezTo>
                      <a:pt x="7006" y="2"/>
                      <a:pt x="7007" y="3"/>
                      <a:pt x="7007" y="4"/>
                    </a:cubicBezTo>
                    <a:cubicBezTo>
                      <a:pt x="7007" y="5"/>
                      <a:pt x="7006" y="6"/>
                      <a:pt x="7005" y="6"/>
                    </a:cubicBezTo>
                    <a:lnTo>
                      <a:pt x="7005" y="6"/>
                    </a:lnTo>
                    <a:cubicBezTo>
                      <a:pt x="7004" y="6"/>
                      <a:pt x="7003" y="5"/>
                      <a:pt x="7003" y="4"/>
                    </a:cubicBezTo>
                    <a:cubicBezTo>
                      <a:pt x="7003" y="3"/>
                      <a:pt x="7004" y="2"/>
                      <a:pt x="7005" y="2"/>
                    </a:cubicBezTo>
                    <a:close/>
                    <a:moveTo>
                      <a:pt x="7013" y="2"/>
                    </a:moveTo>
                    <a:lnTo>
                      <a:pt x="7013" y="2"/>
                    </a:lnTo>
                    <a:cubicBezTo>
                      <a:pt x="7014" y="2"/>
                      <a:pt x="7015" y="3"/>
                      <a:pt x="7015" y="4"/>
                    </a:cubicBezTo>
                    <a:cubicBezTo>
                      <a:pt x="7015" y="5"/>
                      <a:pt x="7014" y="6"/>
                      <a:pt x="7013" y="6"/>
                    </a:cubicBezTo>
                    <a:lnTo>
                      <a:pt x="7013" y="6"/>
                    </a:lnTo>
                    <a:cubicBezTo>
                      <a:pt x="7012" y="6"/>
                      <a:pt x="7011" y="5"/>
                      <a:pt x="7011" y="4"/>
                    </a:cubicBezTo>
                    <a:cubicBezTo>
                      <a:pt x="7011" y="3"/>
                      <a:pt x="7012" y="2"/>
                      <a:pt x="7013" y="2"/>
                    </a:cubicBezTo>
                    <a:close/>
                    <a:moveTo>
                      <a:pt x="7021" y="2"/>
                    </a:moveTo>
                    <a:lnTo>
                      <a:pt x="7021" y="2"/>
                    </a:lnTo>
                    <a:cubicBezTo>
                      <a:pt x="7022" y="2"/>
                      <a:pt x="7023" y="3"/>
                      <a:pt x="7023" y="4"/>
                    </a:cubicBezTo>
                    <a:cubicBezTo>
                      <a:pt x="7023" y="5"/>
                      <a:pt x="7022" y="6"/>
                      <a:pt x="7021" y="6"/>
                    </a:cubicBezTo>
                    <a:lnTo>
                      <a:pt x="7021" y="6"/>
                    </a:lnTo>
                    <a:cubicBezTo>
                      <a:pt x="7020" y="6"/>
                      <a:pt x="7019" y="5"/>
                      <a:pt x="7019" y="4"/>
                    </a:cubicBezTo>
                    <a:cubicBezTo>
                      <a:pt x="7019" y="3"/>
                      <a:pt x="7020" y="2"/>
                      <a:pt x="7021" y="2"/>
                    </a:cubicBezTo>
                    <a:close/>
                    <a:moveTo>
                      <a:pt x="7029" y="2"/>
                    </a:moveTo>
                    <a:lnTo>
                      <a:pt x="7029" y="2"/>
                    </a:lnTo>
                    <a:cubicBezTo>
                      <a:pt x="7030" y="2"/>
                      <a:pt x="7031" y="3"/>
                      <a:pt x="7031" y="4"/>
                    </a:cubicBezTo>
                    <a:cubicBezTo>
                      <a:pt x="7031" y="5"/>
                      <a:pt x="7030" y="6"/>
                      <a:pt x="7029" y="6"/>
                    </a:cubicBezTo>
                    <a:lnTo>
                      <a:pt x="7029" y="6"/>
                    </a:lnTo>
                    <a:cubicBezTo>
                      <a:pt x="7028" y="6"/>
                      <a:pt x="7027" y="5"/>
                      <a:pt x="7027" y="4"/>
                    </a:cubicBezTo>
                    <a:cubicBezTo>
                      <a:pt x="7027" y="3"/>
                      <a:pt x="7028" y="2"/>
                      <a:pt x="7029" y="2"/>
                    </a:cubicBezTo>
                    <a:close/>
                    <a:moveTo>
                      <a:pt x="7037" y="2"/>
                    </a:moveTo>
                    <a:lnTo>
                      <a:pt x="7037" y="2"/>
                    </a:lnTo>
                    <a:cubicBezTo>
                      <a:pt x="7038" y="2"/>
                      <a:pt x="7039" y="3"/>
                      <a:pt x="7039" y="4"/>
                    </a:cubicBezTo>
                    <a:cubicBezTo>
                      <a:pt x="7039" y="5"/>
                      <a:pt x="7038" y="6"/>
                      <a:pt x="7037" y="6"/>
                    </a:cubicBezTo>
                    <a:lnTo>
                      <a:pt x="7037" y="6"/>
                    </a:lnTo>
                    <a:cubicBezTo>
                      <a:pt x="7036" y="6"/>
                      <a:pt x="7035" y="5"/>
                      <a:pt x="7035" y="4"/>
                    </a:cubicBezTo>
                    <a:cubicBezTo>
                      <a:pt x="7035" y="3"/>
                      <a:pt x="7036" y="2"/>
                      <a:pt x="7037" y="2"/>
                    </a:cubicBezTo>
                    <a:close/>
                    <a:moveTo>
                      <a:pt x="7045" y="2"/>
                    </a:moveTo>
                    <a:lnTo>
                      <a:pt x="7045" y="2"/>
                    </a:lnTo>
                    <a:cubicBezTo>
                      <a:pt x="7046" y="2"/>
                      <a:pt x="7047" y="3"/>
                      <a:pt x="7047" y="4"/>
                    </a:cubicBezTo>
                    <a:cubicBezTo>
                      <a:pt x="7047" y="5"/>
                      <a:pt x="7046" y="6"/>
                      <a:pt x="7045" y="6"/>
                    </a:cubicBezTo>
                    <a:lnTo>
                      <a:pt x="7045" y="6"/>
                    </a:lnTo>
                    <a:cubicBezTo>
                      <a:pt x="7044" y="6"/>
                      <a:pt x="7043" y="5"/>
                      <a:pt x="7043" y="4"/>
                    </a:cubicBezTo>
                    <a:cubicBezTo>
                      <a:pt x="7043" y="3"/>
                      <a:pt x="7044" y="2"/>
                      <a:pt x="7045" y="2"/>
                    </a:cubicBezTo>
                    <a:close/>
                    <a:moveTo>
                      <a:pt x="7053" y="2"/>
                    </a:moveTo>
                    <a:lnTo>
                      <a:pt x="7053" y="2"/>
                    </a:lnTo>
                    <a:cubicBezTo>
                      <a:pt x="7054" y="2"/>
                      <a:pt x="7055" y="3"/>
                      <a:pt x="7055" y="4"/>
                    </a:cubicBezTo>
                    <a:cubicBezTo>
                      <a:pt x="7055" y="5"/>
                      <a:pt x="7054" y="6"/>
                      <a:pt x="7053" y="6"/>
                    </a:cubicBezTo>
                    <a:lnTo>
                      <a:pt x="7053" y="6"/>
                    </a:lnTo>
                    <a:cubicBezTo>
                      <a:pt x="7052" y="6"/>
                      <a:pt x="7051" y="5"/>
                      <a:pt x="7051" y="4"/>
                    </a:cubicBezTo>
                    <a:cubicBezTo>
                      <a:pt x="7051" y="3"/>
                      <a:pt x="7052" y="2"/>
                      <a:pt x="7053" y="2"/>
                    </a:cubicBezTo>
                    <a:close/>
                    <a:moveTo>
                      <a:pt x="7061" y="2"/>
                    </a:moveTo>
                    <a:lnTo>
                      <a:pt x="7061" y="2"/>
                    </a:lnTo>
                    <a:cubicBezTo>
                      <a:pt x="7062" y="2"/>
                      <a:pt x="7063" y="3"/>
                      <a:pt x="7063" y="4"/>
                    </a:cubicBezTo>
                    <a:cubicBezTo>
                      <a:pt x="7063" y="5"/>
                      <a:pt x="7062" y="6"/>
                      <a:pt x="7061" y="6"/>
                    </a:cubicBezTo>
                    <a:lnTo>
                      <a:pt x="7061" y="6"/>
                    </a:lnTo>
                    <a:cubicBezTo>
                      <a:pt x="7060" y="6"/>
                      <a:pt x="7059" y="5"/>
                      <a:pt x="7059" y="4"/>
                    </a:cubicBezTo>
                    <a:cubicBezTo>
                      <a:pt x="7059" y="3"/>
                      <a:pt x="7060" y="2"/>
                      <a:pt x="7061" y="2"/>
                    </a:cubicBezTo>
                    <a:close/>
                    <a:moveTo>
                      <a:pt x="7069" y="2"/>
                    </a:moveTo>
                    <a:lnTo>
                      <a:pt x="7069" y="2"/>
                    </a:lnTo>
                    <a:cubicBezTo>
                      <a:pt x="7070" y="2"/>
                      <a:pt x="7071" y="3"/>
                      <a:pt x="7071" y="4"/>
                    </a:cubicBezTo>
                    <a:cubicBezTo>
                      <a:pt x="7071" y="5"/>
                      <a:pt x="7070" y="6"/>
                      <a:pt x="7069" y="6"/>
                    </a:cubicBezTo>
                    <a:lnTo>
                      <a:pt x="7069" y="6"/>
                    </a:lnTo>
                    <a:cubicBezTo>
                      <a:pt x="7068" y="6"/>
                      <a:pt x="7067" y="5"/>
                      <a:pt x="7067" y="4"/>
                    </a:cubicBezTo>
                    <a:cubicBezTo>
                      <a:pt x="7067" y="3"/>
                      <a:pt x="7068" y="2"/>
                      <a:pt x="7069" y="2"/>
                    </a:cubicBezTo>
                    <a:close/>
                    <a:moveTo>
                      <a:pt x="7077" y="2"/>
                    </a:moveTo>
                    <a:lnTo>
                      <a:pt x="7077" y="2"/>
                    </a:lnTo>
                    <a:cubicBezTo>
                      <a:pt x="7078" y="2"/>
                      <a:pt x="7079" y="3"/>
                      <a:pt x="7079" y="4"/>
                    </a:cubicBezTo>
                    <a:cubicBezTo>
                      <a:pt x="7079" y="5"/>
                      <a:pt x="7078" y="6"/>
                      <a:pt x="7077" y="6"/>
                    </a:cubicBezTo>
                    <a:lnTo>
                      <a:pt x="7077" y="6"/>
                    </a:lnTo>
                    <a:cubicBezTo>
                      <a:pt x="7076" y="6"/>
                      <a:pt x="7075" y="5"/>
                      <a:pt x="7075" y="4"/>
                    </a:cubicBezTo>
                    <a:cubicBezTo>
                      <a:pt x="7075" y="3"/>
                      <a:pt x="7076" y="2"/>
                      <a:pt x="7077" y="2"/>
                    </a:cubicBezTo>
                    <a:close/>
                    <a:moveTo>
                      <a:pt x="7085" y="2"/>
                    </a:moveTo>
                    <a:lnTo>
                      <a:pt x="7085" y="2"/>
                    </a:lnTo>
                    <a:cubicBezTo>
                      <a:pt x="7086" y="2"/>
                      <a:pt x="7087" y="3"/>
                      <a:pt x="7087" y="4"/>
                    </a:cubicBezTo>
                    <a:cubicBezTo>
                      <a:pt x="7087" y="5"/>
                      <a:pt x="7086" y="6"/>
                      <a:pt x="7085" y="6"/>
                    </a:cubicBezTo>
                    <a:lnTo>
                      <a:pt x="7085" y="6"/>
                    </a:lnTo>
                    <a:cubicBezTo>
                      <a:pt x="7084" y="6"/>
                      <a:pt x="7083" y="5"/>
                      <a:pt x="7083" y="4"/>
                    </a:cubicBezTo>
                    <a:cubicBezTo>
                      <a:pt x="7083" y="3"/>
                      <a:pt x="7084" y="2"/>
                      <a:pt x="7085" y="2"/>
                    </a:cubicBezTo>
                    <a:close/>
                    <a:moveTo>
                      <a:pt x="7093" y="2"/>
                    </a:moveTo>
                    <a:lnTo>
                      <a:pt x="7093" y="2"/>
                    </a:lnTo>
                    <a:cubicBezTo>
                      <a:pt x="7094" y="2"/>
                      <a:pt x="7095" y="3"/>
                      <a:pt x="7095" y="4"/>
                    </a:cubicBezTo>
                    <a:cubicBezTo>
                      <a:pt x="7095" y="5"/>
                      <a:pt x="7094" y="6"/>
                      <a:pt x="7093" y="6"/>
                    </a:cubicBezTo>
                    <a:lnTo>
                      <a:pt x="7093" y="6"/>
                    </a:lnTo>
                    <a:cubicBezTo>
                      <a:pt x="7092" y="6"/>
                      <a:pt x="7091" y="5"/>
                      <a:pt x="7091" y="4"/>
                    </a:cubicBezTo>
                    <a:cubicBezTo>
                      <a:pt x="7091" y="3"/>
                      <a:pt x="7092" y="2"/>
                      <a:pt x="7093" y="2"/>
                    </a:cubicBezTo>
                    <a:close/>
                    <a:moveTo>
                      <a:pt x="7101" y="2"/>
                    </a:moveTo>
                    <a:lnTo>
                      <a:pt x="7101" y="2"/>
                    </a:lnTo>
                    <a:cubicBezTo>
                      <a:pt x="7102" y="2"/>
                      <a:pt x="7103" y="3"/>
                      <a:pt x="7103" y="4"/>
                    </a:cubicBezTo>
                    <a:cubicBezTo>
                      <a:pt x="7103" y="5"/>
                      <a:pt x="7102" y="6"/>
                      <a:pt x="7101" y="6"/>
                    </a:cubicBezTo>
                    <a:lnTo>
                      <a:pt x="7101" y="6"/>
                    </a:lnTo>
                    <a:cubicBezTo>
                      <a:pt x="7100" y="6"/>
                      <a:pt x="7099" y="5"/>
                      <a:pt x="7099" y="4"/>
                    </a:cubicBezTo>
                    <a:cubicBezTo>
                      <a:pt x="7099" y="3"/>
                      <a:pt x="7100" y="2"/>
                      <a:pt x="7101" y="2"/>
                    </a:cubicBezTo>
                    <a:close/>
                    <a:moveTo>
                      <a:pt x="7109" y="2"/>
                    </a:moveTo>
                    <a:lnTo>
                      <a:pt x="7109" y="2"/>
                    </a:lnTo>
                    <a:cubicBezTo>
                      <a:pt x="7110" y="2"/>
                      <a:pt x="7111" y="3"/>
                      <a:pt x="7111" y="4"/>
                    </a:cubicBezTo>
                    <a:cubicBezTo>
                      <a:pt x="7111" y="5"/>
                      <a:pt x="7110" y="6"/>
                      <a:pt x="7109" y="6"/>
                    </a:cubicBezTo>
                    <a:lnTo>
                      <a:pt x="7109" y="6"/>
                    </a:lnTo>
                    <a:cubicBezTo>
                      <a:pt x="7108" y="6"/>
                      <a:pt x="7107" y="5"/>
                      <a:pt x="7107" y="4"/>
                    </a:cubicBezTo>
                    <a:cubicBezTo>
                      <a:pt x="7107" y="3"/>
                      <a:pt x="7108" y="2"/>
                      <a:pt x="7109" y="2"/>
                    </a:cubicBezTo>
                    <a:close/>
                    <a:moveTo>
                      <a:pt x="7117" y="2"/>
                    </a:moveTo>
                    <a:lnTo>
                      <a:pt x="7117" y="2"/>
                    </a:lnTo>
                    <a:cubicBezTo>
                      <a:pt x="7118" y="2"/>
                      <a:pt x="7119" y="3"/>
                      <a:pt x="7119" y="4"/>
                    </a:cubicBezTo>
                    <a:cubicBezTo>
                      <a:pt x="7119" y="5"/>
                      <a:pt x="7118" y="6"/>
                      <a:pt x="7117" y="6"/>
                    </a:cubicBezTo>
                    <a:lnTo>
                      <a:pt x="7117" y="6"/>
                    </a:lnTo>
                    <a:cubicBezTo>
                      <a:pt x="7116" y="6"/>
                      <a:pt x="7115" y="5"/>
                      <a:pt x="7115" y="4"/>
                    </a:cubicBezTo>
                    <a:cubicBezTo>
                      <a:pt x="7115" y="3"/>
                      <a:pt x="7116" y="2"/>
                      <a:pt x="7117" y="2"/>
                    </a:cubicBezTo>
                    <a:close/>
                    <a:moveTo>
                      <a:pt x="7125" y="2"/>
                    </a:moveTo>
                    <a:lnTo>
                      <a:pt x="7125" y="2"/>
                    </a:lnTo>
                    <a:cubicBezTo>
                      <a:pt x="7126" y="2"/>
                      <a:pt x="7127" y="3"/>
                      <a:pt x="7127" y="4"/>
                    </a:cubicBezTo>
                    <a:cubicBezTo>
                      <a:pt x="7127" y="5"/>
                      <a:pt x="7126" y="6"/>
                      <a:pt x="7125" y="6"/>
                    </a:cubicBezTo>
                    <a:lnTo>
                      <a:pt x="7125" y="6"/>
                    </a:lnTo>
                    <a:cubicBezTo>
                      <a:pt x="7124" y="6"/>
                      <a:pt x="7123" y="5"/>
                      <a:pt x="7123" y="4"/>
                    </a:cubicBezTo>
                    <a:cubicBezTo>
                      <a:pt x="7123" y="3"/>
                      <a:pt x="7124" y="2"/>
                      <a:pt x="7125" y="2"/>
                    </a:cubicBezTo>
                    <a:close/>
                    <a:moveTo>
                      <a:pt x="7133" y="2"/>
                    </a:moveTo>
                    <a:lnTo>
                      <a:pt x="7133" y="2"/>
                    </a:lnTo>
                    <a:cubicBezTo>
                      <a:pt x="7134" y="2"/>
                      <a:pt x="7135" y="3"/>
                      <a:pt x="7135" y="4"/>
                    </a:cubicBezTo>
                    <a:cubicBezTo>
                      <a:pt x="7135" y="5"/>
                      <a:pt x="7134" y="6"/>
                      <a:pt x="7133" y="6"/>
                    </a:cubicBezTo>
                    <a:lnTo>
                      <a:pt x="7133" y="6"/>
                    </a:lnTo>
                    <a:cubicBezTo>
                      <a:pt x="7132" y="6"/>
                      <a:pt x="7131" y="5"/>
                      <a:pt x="7131" y="4"/>
                    </a:cubicBezTo>
                    <a:cubicBezTo>
                      <a:pt x="7131" y="3"/>
                      <a:pt x="7132" y="2"/>
                      <a:pt x="7133" y="2"/>
                    </a:cubicBezTo>
                    <a:close/>
                    <a:moveTo>
                      <a:pt x="7141" y="2"/>
                    </a:moveTo>
                    <a:lnTo>
                      <a:pt x="7141" y="2"/>
                    </a:lnTo>
                    <a:cubicBezTo>
                      <a:pt x="7142" y="2"/>
                      <a:pt x="7143" y="3"/>
                      <a:pt x="7143" y="4"/>
                    </a:cubicBezTo>
                    <a:cubicBezTo>
                      <a:pt x="7143" y="5"/>
                      <a:pt x="7142" y="6"/>
                      <a:pt x="7141" y="6"/>
                    </a:cubicBezTo>
                    <a:lnTo>
                      <a:pt x="7141" y="6"/>
                    </a:lnTo>
                    <a:cubicBezTo>
                      <a:pt x="7140" y="6"/>
                      <a:pt x="7139" y="5"/>
                      <a:pt x="7139" y="4"/>
                    </a:cubicBezTo>
                    <a:cubicBezTo>
                      <a:pt x="7139" y="3"/>
                      <a:pt x="7140" y="2"/>
                      <a:pt x="7141" y="2"/>
                    </a:cubicBezTo>
                    <a:close/>
                    <a:moveTo>
                      <a:pt x="7149" y="2"/>
                    </a:moveTo>
                    <a:lnTo>
                      <a:pt x="7149" y="2"/>
                    </a:lnTo>
                    <a:cubicBezTo>
                      <a:pt x="7150" y="2"/>
                      <a:pt x="7151" y="3"/>
                      <a:pt x="7151" y="4"/>
                    </a:cubicBezTo>
                    <a:cubicBezTo>
                      <a:pt x="7151" y="5"/>
                      <a:pt x="7150" y="6"/>
                      <a:pt x="7149" y="6"/>
                    </a:cubicBezTo>
                    <a:lnTo>
                      <a:pt x="7149" y="6"/>
                    </a:lnTo>
                    <a:cubicBezTo>
                      <a:pt x="7148" y="6"/>
                      <a:pt x="7147" y="5"/>
                      <a:pt x="7147" y="4"/>
                    </a:cubicBezTo>
                    <a:cubicBezTo>
                      <a:pt x="7147" y="3"/>
                      <a:pt x="7148" y="2"/>
                      <a:pt x="7149" y="2"/>
                    </a:cubicBezTo>
                    <a:close/>
                    <a:moveTo>
                      <a:pt x="7157" y="2"/>
                    </a:moveTo>
                    <a:lnTo>
                      <a:pt x="7157" y="2"/>
                    </a:lnTo>
                    <a:cubicBezTo>
                      <a:pt x="7158" y="2"/>
                      <a:pt x="7159" y="3"/>
                      <a:pt x="7159" y="4"/>
                    </a:cubicBezTo>
                    <a:cubicBezTo>
                      <a:pt x="7159" y="5"/>
                      <a:pt x="7158" y="6"/>
                      <a:pt x="7157" y="6"/>
                    </a:cubicBezTo>
                    <a:lnTo>
                      <a:pt x="7157" y="6"/>
                    </a:lnTo>
                    <a:cubicBezTo>
                      <a:pt x="7156" y="6"/>
                      <a:pt x="7155" y="5"/>
                      <a:pt x="7155" y="4"/>
                    </a:cubicBezTo>
                    <a:cubicBezTo>
                      <a:pt x="7155" y="3"/>
                      <a:pt x="7156" y="2"/>
                      <a:pt x="7157" y="2"/>
                    </a:cubicBezTo>
                    <a:close/>
                    <a:moveTo>
                      <a:pt x="7165" y="2"/>
                    </a:moveTo>
                    <a:lnTo>
                      <a:pt x="7165" y="2"/>
                    </a:lnTo>
                    <a:cubicBezTo>
                      <a:pt x="7166" y="2"/>
                      <a:pt x="7167" y="3"/>
                      <a:pt x="7167" y="4"/>
                    </a:cubicBezTo>
                    <a:cubicBezTo>
                      <a:pt x="7167" y="5"/>
                      <a:pt x="7166" y="6"/>
                      <a:pt x="7165" y="6"/>
                    </a:cubicBezTo>
                    <a:lnTo>
                      <a:pt x="7165" y="6"/>
                    </a:lnTo>
                    <a:cubicBezTo>
                      <a:pt x="7164" y="6"/>
                      <a:pt x="7163" y="5"/>
                      <a:pt x="7163" y="4"/>
                    </a:cubicBezTo>
                    <a:cubicBezTo>
                      <a:pt x="7163" y="3"/>
                      <a:pt x="7164" y="2"/>
                      <a:pt x="7165" y="2"/>
                    </a:cubicBezTo>
                    <a:close/>
                    <a:moveTo>
                      <a:pt x="7173" y="2"/>
                    </a:moveTo>
                    <a:lnTo>
                      <a:pt x="7173" y="2"/>
                    </a:lnTo>
                    <a:cubicBezTo>
                      <a:pt x="7174" y="2"/>
                      <a:pt x="7175" y="3"/>
                      <a:pt x="7175" y="4"/>
                    </a:cubicBezTo>
                    <a:cubicBezTo>
                      <a:pt x="7175" y="5"/>
                      <a:pt x="7174" y="6"/>
                      <a:pt x="7173" y="6"/>
                    </a:cubicBezTo>
                    <a:lnTo>
                      <a:pt x="7173" y="6"/>
                    </a:lnTo>
                    <a:cubicBezTo>
                      <a:pt x="7172" y="6"/>
                      <a:pt x="7171" y="5"/>
                      <a:pt x="7171" y="4"/>
                    </a:cubicBezTo>
                    <a:cubicBezTo>
                      <a:pt x="7171" y="3"/>
                      <a:pt x="7172" y="2"/>
                      <a:pt x="7173" y="2"/>
                    </a:cubicBezTo>
                    <a:close/>
                    <a:moveTo>
                      <a:pt x="7181" y="2"/>
                    </a:moveTo>
                    <a:lnTo>
                      <a:pt x="7181" y="2"/>
                    </a:lnTo>
                    <a:cubicBezTo>
                      <a:pt x="7182" y="2"/>
                      <a:pt x="7183" y="3"/>
                      <a:pt x="7183" y="4"/>
                    </a:cubicBezTo>
                    <a:cubicBezTo>
                      <a:pt x="7183" y="5"/>
                      <a:pt x="7182" y="6"/>
                      <a:pt x="7181" y="6"/>
                    </a:cubicBezTo>
                    <a:lnTo>
                      <a:pt x="7181" y="6"/>
                    </a:lnTo>
                    <a:cubicBezTo>
                      <a:pt x="7180" y="6"/>
                      <a:pt x="7179" y="5"/>
                      <a:pt x="7179" y="4"/>
                    </a:cubicBezTo>
                    <a:cubicBezTo>
                      <a:pt x="7179" y="3"/>
                      <a:pt x="7180" y="2"/>
                      <a:pt x="7181" y="2"/>
                    </a:cubicBezTo>
                    <a:close/>
                    <a:moveTo>
                      <a:pt x="7189" y="2"/>
                    </a:moveTo>
                    <a:lnTo>
                      <a:pt x="7189" y="2"/>
                    </a:lnTo>
                    <a:cubicBezTo>
                      <a:pt x="7190" y="2"/>
                      <a:pt x="7191" y="3"/>
                      <a:pt x="7191" y="4"/>
                    </a:cubicBezTo>
                    <a:cubicBezTo>
                      <a:pt x="7191" y="5"/>
                      <a:pt x="7190" y="6"/>
                      <a:pt x="7189" y="6"/>
                    </a:cubicBezTo>
                    <a:lnTo>
                      <a:pt x="7189" y="6"/>
                    </a:lnTo>
                    <a:cubicBezTo>
                      <a:pt x="7188" y="6"/>
                      <a:pt x="7187" y="5"/>
                      <a:pt x="7187" y="4"/>
                    </a:cubicBezTo>
                    <a:cubicBezTo>
                      <a:pt x="7187" y="3"/>
                      <a:pt x="7188" y="2"/>
                      <a:pt x="7189" y="2"/>
                    </a:cubicBezTo>
                    <a:close/>
                    <a:moveTo>
                      <a:pt x="7197" y="2"/>
                    </a:moveTo>
                    <a:lnTo>
                      <a:pt x="7197" y="2"/>
                    </a:lnTo>
                    <a:cubicBezTo>
                      <a:pt x="7198" y="2"/>
                      <a:pt x="7199" y="3"/>
                      <a:pt x="7199" y="4"/>
                    </a:cubicBezTo>
                    <a:cubicBezTo>
                      <a:pt x="7199" y="5"/>
                      <a:pt x="7198" y="6"/>
                      <a:pt x="7197" y="6"/>
                    </a:cubicBezTo>
                    <a:lnTo>
                      <a:pt x="7197" y="6"/>
                    </a:lnTo>
                    <a:cubicBezTo>
                      <a:pt x="7196" y="6"/>
                      <a:pt x="7195" y="5"/>
                      <a:pt x="7195" y="4"/>
                    </a:cubicBezTo>
                    <a:cubicBezTo>
                      <a:pt x="7195" y="3"/>
                      <a:pt x="7196" y="2"/>
                      <a:pt x="7197" y="2"/>
                    </a:cubicBezTo>
                    <a:close/>
                    <a:moveTo>
                      <a:pt x="7205" y="2"/>
                    </a:moveTo>
                    <a:lnTo>
                      <a:pt x="7205" y="2"/>
                    </a:lnTo>
                    <a:cubicBezTo>
                      <a:pt x="7206" y="2"/>
                      <a:pt x="7207" y="3"/>
                      <a:pt x="7207" y="4"/>
                    </a:cubicBezTo>
                    <a:cubicBezTo>
                      <a:pt x="7207" y="5"/>
                      <a:pt x="7206" y="6"/>
                      <a:pt x="7205" y="6"/>
                    </a:cubicBezTo>
                    <a:lnTo>
                      <a:pt x="7205" y="6"/>
                    </a:lnTo>
                    <a:cubicBezTo>
                      <a:pt x="7204" y="6"/>
                      <a:pt x="7203" y="5"/>
                      <a:pt x="7203" y="4"/>
                    </a:cubicBezTo>
                    <a:cubicBezTo>
                      <a:pt x="7203" y="3"/>
                      <a:pt x="7204" y="2"/>
                      <a:pt x="7205" y="2"/>
                    </a:cubicBezTo>
                    <a:close/>
                    <a:moveTo>
                      <a:pt x="7213" y="2"/>
                    </a:moveTo>
                    <a:lnTo>
                      <a:pt x="7213" y="2"/>
                    </a:lnTo>
                    <a:cubicBezTo>
                      <a:pt x="7214" y="2"/>
                      <a:pt x="7215" y="3"/>
                      <a:pt x="7215" y="4"/>
                    </a:cubicBezTo>
                    <a:cubicBezTo>
                      <a:pt x="7215" y="5"/>
                      <a:pt x="7214" y="6"/>
                      <a:pt x="7213" y="6"/>
                    </a:cubicBezTo>
                    <a:lnTo>
                      <a:pt x="7213" y="6"/>
                    </a:lnTo>
                    <a:cubicBezTo>
                      <a:pt x="7212" y="6"/>
                      <a:pt x="7211" y="5"/>
                      <a:pt x="7211" y="4"/>
                    </a:cubicBezTo>
                    <a:cubicBezTo>
                      <a:pt x="7211" y="3"/>
                      <a:pt x="7212" y="2"/>
                      <a:pt x="7213" y="2"/>
                    </a:cubicBezTo>
                    <a:close/>
                    <a:moveTo>
                      <a:pt x="7221" y="2"/>
                    </a:moveTo>
                    <a:lnTo>
                      <a:pt x="7221" y="2"/>
                    </a:lnTo>
                    <a:cubicBezTo>
                      <a:pt x="7222" y="2"/>
                      <a:pt x="7223" y="3"/>
                      <a:pt x="7223" y="4"/>
                    </a:cubicBezTo>
                    <a:cubicBezTo>
                      <a:pt x="7223" y="5"/>
                      <a:pt x="7222" y="6"/>
                      <a:pt x="7221" y="6"/>
                    </a:cubicBezTo>
                    <a:lnTo>
                      <a:pt x="7221" y="6"/>
                    </a:lnTo>
                    <a:cubicBezTo>
                      <a:pt x="7220" y="6"/>
                      <a:pt x="7219" y="5"/>
                      <a:pt x="7219" y="4"/>
                    </a:cubicBezTo>
                    <a:cubicBezTo>
                      <a:pt x="7219" y="3"/>
                      <a:pt x="7220" y="2"/>
                      <a:pt x="7221" y="2"/>
                    </a:cubicBezTo>
                    <a:close/>
                    <a:moveTo>
                      <a:pt x="7229" y="2"/>
                    </a:moveTo>
                    <a:lnTo>
                      <a:pt x="7229" y="2"/>
                    </a:lnTo>
                    <a:cubicBezTo>
                      <a:pt x="7230" y="2"/>
                      <a:pt x="7231" y="3"/>
                      <a:pt x="7231" y="4"/>
                    </a:cubicBezTo>
                    <a:cubicBezTo>
                      <a:pt x="7231" y="5"/>
                      <a:pt x="7230" y="6"/>
                      <a:pt x="7229" y="6"/>
                    </a:cubicBezTo>
                    <a:lnTo>
                      <a:pt x="7229" y="6"/>
                    </a:lnTo>
                    <a:cubicBezTo>
                      <a:pt x="7228" y="6"/>
                      <a:pt x="7227" y="5"/>
                      <a:pt x="7227" y="4"/>
                    </a:cubicBezTo>
                    <a:cubicBezTo>
                      <a:pt x="7227" y="3"/>
                      <a:pt x="7228" y="2"/>
                      <a:pt x="7229" y="2"/>
                    </a:cubicBezTo>
                    <a:close/>
                    <a:moveTo>
                      <a:pt x="7237" y="2"/>
                    </a:moveTo>
                    <a:lnTo>
                      <a:pt x="7237" y="2"/>
                    </a:lnTo>
                    <a:cubicBezTo>
                      <a:pt x="7238" y="2"/>
                      <a:pt x="7239" y="3"/>
                      <a:pt x="7239" y="4"/>
                    </a:cubicBezTo>
                    <a:cubicBezTo>
                      <a:pt x="7239" y="5"/>
                      <a:pt x="7238" y="6"/>
                      <a:pt x="7237" y="6"/>
                    </a:cubicBezTo>
                    <a:lnTo>
                      <a:pt x="7237" y="6"/>
                    </a:lnTo>
                    <a:cubicBezTo>
                      <a:pt x="7236" y="6"/>
                      <a:pt x="7235" y="5"/>
                      <a:pt x="7235" y="4"/>
                    </a:cubicBezTo>
                    <a:cubicBezTo>
                      <a:pt x="7235" y="3"/>
                      <a:pt x="7236" y="2"/>
                      <a:pt x="7237" y="2"/>
                    </a:cubicBezTo>
                    <a:close/>
                    <a:moveTo>
                      <a:pt x="7245" y="2"/>
                    </a:moveTo>
                    <a:lnTo>
                      <a:pt x="7245" y="2"/>
                    </a:lnTo>
                    <a:cubicBezTo>
                      <a:pt x="7246" y="2"/>
                      <a:pt x="7247" y="3"/>
                      <a:pt x="7247" y="4"/>
                    </a:cubicBezTo>
                    <a:cubicBezTo>
                      <a:pt x="7247" y="5"/>
                      <a:pt x="7246" y="6"/>
                      <a:pt x="7245" y="6"/>
                    </a:cubicBezTo>
                    <a:lnTo>
                      <a:pt x="7245" y="6"/>
                    </a:lnTo>
                    <a:cubicBezTo>
                      <a:pt x="7244" y="6"/>
                      <a:pt x="7243" y="5"/>
                      <a:pt x="7243" y="4"/>
                    </a:cubicBezTo>
                    <a:cubicBezTo>
                      <a:pt x="7243" y="3"/>
                      <a:pt x="7244" y="2"/>
                      <a:pt x="7245" y="2"/>
                    </a:cubicBezTo>
                    <a:close/>
                    <a:moveTo>
                      <a:pt x="7253" y="2"/>
                    </a:moveTo>
                    <a:lnTo>
                      <a:pt x="7253" y="2"/>
                    </a:lnTo>
                    <a:cubicBezTo>
                      <a:pt x="7254" y="2"/>
                      <a:pt x="7255" y="3"/>
                      <a:pt x="7255" y="4"/>
                    </a:cubicBezTo>
                    <a:cubicBezTo>
                      <a:pt x="7255" y="5"/>
                      <a:pt x="7254" y="6"/>
                      <a:pt x="7253" y="6"/>
                    </a:cubicBezTo>
                    <a:lnTo>
                      <a:pt x="7253" y="6"/>
                    </a:lnTo>
                    <a:cubicBezTo>
                      <a:pt x="7252" y="6"/>
                      <a:pt x="7251" y="5"/>
                      <a:pt x="7251" y="4"/>
                    </a:cubicBezTo>
                    <a:cubicBezTo>
                      <a:pt x="7251" y="3"/>
                      <a:pt x="7252" y="2"/>
                      <a:pt x="7253" y="2"/>
                    </a:cubicBezTo>
                    <a:close/>
                    <a:moveTo>
                      <a:pt x="7261" y="2"/>
                    </a:moveTo>
                    <a:lnTo>
                      <a:pt x="7261" y="2"/>
                    </a:lnTo>
                    <a:cubicBezTo>
                      <a:pt x="7262" y="2"/>
                      <a:pt x="7263" y="3"/>
                      <a:pt x="7263" y="4"/>
                    </a:cubicBezTo>
                    <a:cubicBezTo>
                      <a:pt x="7263" y="5"/>
                      <a:pt x="7262" y="6"/>
                      <a:pt x="7261" y="6"/>
                    </a:cubicBezTo>
                    <a:lnTo>
                      <a:pt x="7261" y="6"/>
                    </a:lnTo>
                    <a:cubicBezTo>
                      <a:pt x="7260" y="6"/>
                      <a:pt x="7259" y="5"/>
                      <a:pt x="7259" y="4"/>
                    </a:cubicBezTo>
                    <a:cubicBezTo>
                      <a:pt x="7259" y="3"/>
                      <a:pt x="7260" y="2"/>
                      <a:pt x="7261" y="2"/>
                    </a:cubicBezTo>
                    <a:close/>
                    <a:moveTo>
                      <a:pt x="7269" y="2"/>
                    </a:moveTo>
                    <a:lnTo>
                      <a:pt x="7269" y="2"/>
                    </a:lnTo>
                    <a:cubicBezTo>
                      <a:pt x="7270" y="2"/>
                      <a:pt x="7271" y="3"/>
                      <a:pt x="7271" y="4"/>
                    </a:cubicBezTo>
                    <a:cubicBezTo>
                      <a:pt x="7271" y="5"/>
                      <a:pt x="7270" y="6"/>
                      <a:pt x="7269" y="6"/>
                    </a:cubicBezTo>
                    <a:lnTo>
                      <a:pt x="7269" y="6"/>
                    </a:lnTo>
                    <a:cubicBezTo>
                      <a:pt x="7268" y="6"/>
                      <a:pt x="7267" y="5"/>
                      <a:pt x="7267" y="4"/>
                    </a:cubicBezTo>
                    <a:cubicBezTo>
                      <a:pt x="7267" y="3"/>
                      <a:pt x="7268" y="2"/>
                      <a:pt x="7269" y="2"/>
                    </a:cubicBezTo>
                    <a:close/>
                    <a:moveTo>
                      <a:pt x="7277" y="2"/>
                    </a:moveTo>
                    <a:lnTo>
                      <a:pt x="7277" y="2"/>
                    </a:lnTo>
                    <a:cubicBezTo>
                      <a:pt x="7278" y="2"/>
                      <a:pt x="7279" y="3"/>
                      <a:pt x="7279" y="4"/>
                    </a:cubicBezTo>
                    <a:cubicBezTo>
                      <a:pt x="7279" y="5"/>
                      <a:pt x="7278" y="6"/>
                      <a:pt x="7277" y="6"/>
                    </a:cubicBezTo>
                    <a:lnTo>
                      <a:pt x="7277" y="6"/>
                    </a:lnTo>
                    <a:cubicBezTo>
                      <a:pt x="7276" y="6"/>
                      <a:pt x="7275" y="5"/>
                      <a:pt x="7275" y="4"/>
                    </a:cubicBezTo>
                    <a:cubicBezTo>
                      <a:pt x="7275" y="3"/>
                      <a:pt x="7276" y="2"/>
                      <a:pt x="7277" y="2"/>
                    </a:cubicBezTo>
                    <a:close/>
                    <a:moveTo>
                      <a:pt x="7285" y="2"/>
                    </a:moveTo>
                    <a:lnTo>
                      <a:pt x="7285" y="2"/>
                    </a:lnTo>
                    <a:cubicBezTo>
                      <a:pt x="7286" y="2"/>
                      <a:pt x="7287" y="3"/>
                      <a:pt x="7287" y="4"/>
                    </a:cubicBezTo>
                    <a:cubicBezTo>
                      <a:pt x="7287" y="5"/>
                      <a:pt x="7286" y="6"/>
                      <a:pt x="7285" y="6"/>
                    </a:cubicBezTo>
                    <a:lnTo>
                      <a:pt x="7285" y="6"/>
                    </a:lnTo>
                    <a:cubicBezTo>
                      <a:pt x="7284" y="6"/>
                      <a:pt x="7283" y="5"/>
                      <a:pt x="7283" y="4"/>
                    </a:cubicBezTo>
                    <a:cubicBezTo>
                      <a:pt x="7283" y="3"/>
                      <a:pt x="7284" y="2"/>
                      <a:pt x="7285" y="2"/>
                    </a:cubicBezTo>
                    <a:close/>
                    <a:moveTo>
                      <a:pt x="7293" y="2"/>
                    </a:moveTo>
                    <a:lnTo>
                      <a:pt x="7293" y="2"/>
                    </a:lnTo>
                    <a:cubicBezTo>
                      <a:pt x="7294" y="2"/>
                      <a:pt x="7295" y="3"/>
                      <a:pt x="7295" y="4"/>
                    </a:cubicBezTo>
                    <a:cubicBezTo>
                      <a:pt x="7295" y="5"/>
                      <a:pt x="7294" y="6"/>
                      <a:pt x="7293" y="6"/>
                    </a:cubicBezTo>
                    <a:lnTo>
                      <a:pt x="7293" y="6"/>
                    </a:lnTo>
                    <a:cubicBezTo>
                      <a:pt x="7292" y="6"/>
                      <a:pt x="7291" y="5"/>
                      <a:pt x="7291" y="4"/>
                    </a:cubicBezTo>
                    <a:cubicBezTo>
                      <a:pt x="7291" y="3"/>
                      <a:pt x="7292" y="2"/>
                      <a:pt x="7293" y="2"/>
                    </a:cubicBezTo>
                    <a:close/>
                    <a:moveTo>
                      <a:pt x="7301" y="2"/>
                    </a:moveTo>
                    <a:lnTo>
                      <a:pt x="7301" y="2"/>
                    </a:lnTo>
                    <a:cubicBezTo>
                      <a:pt x="7302" y="2"/>
                      <a:pt x="7303" y="3"/>
                      <a:pt x="7303" y="4"/>
                    </a:cubicBezTo>
                    <a:cubicBezTo>
                      <a:pt x="7303" y="5"/>
                      <a:pt x="7302" y="6"/>
                      <a:pt x="7301" y="6"/>
                    </a:cubicBezTo>
                    <a:lnTo>
                      <a:pt x="7301" y="6"/>
                    </a:lnTo>
                    <a:cubicBezTo>
                      <a:pt x="7300" y="6"/>
                      <a:pt x="7299" y="5"/>
                      <a:pt x="7299" y="4"/>
                    </a:cubicBezTo>
                    <a:cubicBezTo>
                      <a:pt x="7299" y="3"/>
                      <a:pt x="7300" y="2"/>
                      <a:pt x="7301" y="2"/>
                    </a:cubicBezTo>
                    <a:close/>
                    <a:moveTo>
                      <a:pt x="7309" y="2"/>
                    </a:moveTo>
                    <a:lnTo>
                      <a:pt x="7309" y="2"/>
                    </a:lnTo>
                    <a:cubicBezTo>
                      <a:pt x="7310" y="2"/>
                      <a:pt x="7311" y="3"/>
                      <a:pt x="7311" y="4"/>
                    </a:cubicBezTo>
                    <a:cubicBezTo>
                      <a:pt x="7311" y="5"/>
                      <a:pt x="7310" y="6"/>
                      <a:pt x="7309" y="6"/>
                    </a:cubicBezTo>
                    <a:lnTo>
                      <a:pt x="7309" y="6"/>
                    </a:lnTo>
                    <a:cubicBezTo>
                      <a:pt x="7308" y="6"/>
                      <a:pt x="7307" y="5"/>
                      <a:pt x="7307" y="4"/>
                    </a:cubicBezTo>
                    <a:cubicBezTo>
                      <a:pt x="7307" y="3"/>
                      <a:pt x="7308" y="2"/>
                      <a:pt x="7309" y="2"/>
                    </a:cubicBezTo>
                    <a:close/>
                    <a:moveTo>
                      <a:pt x="7317" y="2"/>
                    </a:moveTo>
                    <a:lnTo>
                      <a:pt x="7317" y="2"/>
                    </a:lnTo>
                    <a:cubicBezTo>
                      <a:pt x="7319" y="2"/>
                      <a:pt x="7319" y="3"/>
                      <a:pt x="7319" y="4"/>
                    </a:cubicBezTo>
                    <a:cubicBezTo>
                      <a:pt x="7319" y="5"/>
                      <a:pt x="7319" y="6"/>
                      <a:pt x="7317" y="6"/>
                    </a:cubicBezTo>
                    <a:lnTo>
                      <a:pt x="7317" y="6"/>
                    </a:lnTo>
                    <a:cubicBezTo>
                      <a:pt x="7316" y="6"/>
                      <a:pt x="7315" y="5"/>
                      <a:pt x="7315" y="4"/>
                    </a:cubicBezTo>
                    <a:cubicBezTo>
                      <a:pt x="7315" y="3"/>
                      <a:pt x="7316" y="2"/>
                      <a:pt x="7317" y="2"/>
                    </a:cubicBezTo>
                    <a:close/>
                    <a:moveTo>
                      <a:pt x="7325" y="2"/>
                    </a:moveTo>
                    <a:lnTo>
                      <a:pt x="7325" y="2"/>
                    </a:lnTo>
                    <a:cubicBezTo>
                      <a:pt x="7327" y="2"/>
                      <a:pt x="7327" y="3"/>
                      <a:pt x="7327" y="4"/>
                    </a:cubicBezTo>
                    <a:cubicBezTo>
                      <a:pt x="7327" y="5"/>
                      <a:pt x="7327" y="6"/>
                      <a:pt x="7325" y="6"/>
                    </a:cubicBezTo>
                    <a:lnTo>
                      <a:pt x="7325" y="6"/>
                    </a:lnTo>
                    <a:cubicBezTo>
                      <a:pt x="7324" y="6"/>
                      <a:pt x="7323" y="5"/>
                      <a:pt x="7323" y="4"/>
                    </a:cubicBezTo>
                    <a:cubicBezTo>
                      <a:pt x="7323" y="3"/>
                      <a:pt x="7324" y="2"/>
                      <a:pt x="7325" y="2"/>
                    </a:cubicBezTo>
                    <a:close/>
                    <a:moveTo>
                      <a:pt x="7333" y="2"/>
                    </a:moveTo>
                    <a:lnTo>
                      <a:pt x="7333" y="2"/>
                    </a:lnTo>
                    <a:cubicBezTo>
                      <a:pt x="7335" y="2"/>
                      <a:pt x="7335" y="3"/>
                      <a:pt x="7335" y="4"/>
                    </a:cubicBezTo>
                    <a:cubicBezTo>
                      <a:pt x="7335" y="5"/>
                      <a:pt x="7335" y="6"/>
                      <a:pt x="7333" y="6"/>
                    </a:cubicBezTo>
                    <a:lnTo>
                      <a:pt x="7333" y="6"/>
                    </a:lnTo>
                    <a:cubicBezTo>
                      <a:pt x="7332" y="6"/>
                      <a:pt x="7331" y="5"/>
                      <a:pt x="7331" y="4"/>
                    </a:cubicBezTo>
                    <a:cubicBezTo>
                      <a:pt x="7331" y="3"/>
                      <a:pt x="7332" y="2"/>
                      <a:pt x="7333" y="2"/>
                    </a:cubicBezTo>
                    <a:close/>
                    <a:moveTo>
                      <a:pt x="7341" y="2"/>
                    </a:moveTo>
                    <a:lnTo>
                      <a:pt x="7341" y="2"/>
                    </a:lnTo>
                    <a:cubicBezTo>
                      <a:pt x="7343" y="2"/>
                      <a:pt x="7343" y="3"/>
                      <a:pt x="7343" y="4"/>
                    </a:cubicBezTo>
                    <a:cubicBezTo>
                      <a:pt x="7343" y="5"/>
                      <a:pt x="7343" y="6"/>
                      <a:pt x="7341" y="6"/>
                    </a:cubicBezTo>
                    <a:lnTo>
                      <a:pt x="7341" y="6"/>
                    </a:lnTo>
                    <a:cubicBezTo>
                      <a:pt x="7340" y="6"/>
                      <a:pt x="7339" y="5"/>
                      <a:pt x="7339" y="4"/>
                    </a:cubicBezTo>
                    <a:cubicBezTo>
                      <a:pt x="7339" y="3"/>
                      <a:pt x="7340" y="2"/>
                      <a:pt x="7341" y="2"/>
                    </a:cubicBezTo>
                    <a:close/>
                    <a:moveTo>
                      <a:pt x="7349" y="2"/>
                    </a:moveTo>
                    <a:lnTo>
                      <a:pt x="7349" y="2"/>
                    </a:lnTo>
                    <a:cubicBezTo>
                      <a:pt x="7351" y="2"/>
                      <a:pt x="7351" y="3"/>
                      <a:pt x="7351" y="4"/>
                    </a:cubicBezTo>
                    <a:cubicBezTo>
                      <a:pt x="7351" y="5"/>
                      <a:pt x="7351" y="6"/>
                      <a:pt x="7349" y="6"/>
                    </a:cubicBezTo>
                    <a:lnTo>
                      <a:pt x="7349" y="6"/>
                    </a:lnTo>
                    <a:cubicBezTo>
                      <a:pt x="7348" y="6"/>
                      <a:pt x="7347" y="5"/>
                      <a:pt x="7347" y="4"/>
                    </a:cubicBezTo>
                    <a:cubicBezTo>
                      <a:pt x="7347" y="3"/>
                      <a:pt x="7348" y="2"/>
                      <a:pt x="7349" y="2"/>
                    </a:cubicBezTo>
                    <a:close/>
                    <a:moveTo>
                      <a:pt x="7357" y="2"/>
                    </a:moveTo>
                    <a:lnTo>
                      <a:pt x="7357" y="2"/>
                    </a:lnTo>
                    <a:cubicBezTo>
                      <a:pt x="7359" y="2"/>
                      <a:pt x="7359" y="3"/>
                      <a:pt x="7359" y="4"/>
                    </a:cubicBezTo>
                    <a:cubicBezTo>
                      <a:pt x="7359" y="5"/>
                      <a:pt x="7359" y="6"/>
                      <a:pt x="7357" y="6"/>
                    </a:cubicBezTo>
                    <a:lnTo>
                      <a:pt x="7357" y="6"/>
                    </a:lnTo>
                    <a:cubicBezTo>
                      <a:pt x="7356" y="6"/>
                      <a:pt x="7355" y="5"/>
                      <a:pt x="7355" y="4"/>
                    </a:cubicBezTo>
                    <a:cubicBezTo>
                      <a:pt x="7355" y="3"/>
                      <a:pt x="7356" y="2"/>
                      <a:pt x="7357" y="2"/>
                    </a:cubicBezTo>
                    <a:close/>
                    <a:moveTo>
                      <a:pt x="7365" y="2"/>
                    </a:moveTo>
                    <a:lnTo>
                      <a:pt x="7365" y="2"/>
                    </a:lnTo>
                    <a:cubicBezTo>
                      <a:pt x="7367" y="2"/>
                      <a:pt x="7367" y="3"/>
                      <a:pt x="7367" y="4"/>
                    </a:cubicBezTo>
                    <a:cubicBezTo>
                      <a:pt x="7367" y="5"/>
                      <a:pt x="7367" y="6"/>
                      <a:pt x="7365" y="6"/>
                    </a:cubicBezTo>
                    <a:lnTo>
                      <a:pt x="7365" y="6"/>
                    </a:lnTo>
                    <a:cubicBezTo>
                      <a:pt x="7364" y="6"/>
                      <a:pt x="7363" y="5"/>
                      <a:pt x="7363" y="4"/>
                    </a:cubicBezTo>
                    <a:cubicBezTo>
                      <a:pt x="7363" y="3"/>
                      <a:pt x="7364" y="2"/>
                      <a:pt x="7365" y="2"/>
                    </a:cubicBezTo>
                    <a:close/>
                    <a:moveTo>
                      <a:pt x="7373" y="2"/>
                    </a:moveTo>
                    <a:lnTo>
                      <a:pt x="7373" y="2"/>
                    </a:lnTo>
                    <a:cubicBezTo>
                      <a:pt x="7375" y="2"/>
                      <a:pt x="7375" y="3"/>
                      <a:pt x="7375" y="4"/>
                    </a:cubicBezTo>
                    <a:cubicBezTo>
                      <a:pt x="7375" y="5"/>
                      <a:pt x="7375" y="6"/>
                      <a:pt x="7373" y="6"/>
                    </a:cubicBezTo>
                    <a:lnTo>
                      <a:pt x="7373" y="6"/>
                    </a:lnTo>
                    <a:cubicBezTo>
                      <a:pt x="7372" y="6"/>
                      <a:pt x="7371" y="5"/>
                      <a:pt x="7371" y="4"/>
                    </a:cubicBezTo>
                    <a:cubicBezTo>
                      <a:pt x="7371" y="3"/>
                      <a:pt x="7372" y="2"/>
                      <a:pt x="7373" y="2"/>
                    </a:cubicBezTo>
                    <a:close/>
                    <a:moveTo>
                      <a:pt x="7381" y="2"/>
                    </a:moveTo>
                    <a:lnTo>
                      <a:pt x="7381" y="2"/>
                    </a:lnTo>
                    <a:cubicBezTo>
                      <a:pt x="7383" y="2"/>
                      <a:pt x="7383" y="3"/>
                      <a:pt x="7383" y="4"/>
                    </a:cubicBezTo>
                    <a:cubicBezTo>
                      <a:pt x="7383" y="5"/>
                      <a:pt x="7383" y="6"/>
                      <a:pt x="7381" y="6"/>
                    </a:cubicBezTo>
                    <a:lnTo>
                      <a:pt x="7381" y="6"/>
                    </a:lnTo>
                    <a:cubicBezTo>
                      <a:pt x="7380" y="6"/>
                      <a:pt x="7379" y="5"/>
                      <a:pt x="7379" y="4"/>
                    </a:cubicBezTo>
                    <a:cubicBezTo>
                      <a:pt x="7379" y="3"/>
                      <a:pt x="7380" y="2"/>
                      <a:pt x="7381" y="2"/>
                    </a:cubicBezTo>
                    <a:close/>
                    <a:moveTo>
                      <a:pt x="7389" y="2"/>
                    </a:moveTo>
                    <a:lnTo>
                      <a:pt x="7389" y="2"/>
                    </a:lnTo>
                    <a:cubicBezTo>
                      <a:pt x="7391" y="2"/>
                      <a:pt x="7391" y="3"/>
                      <a:pt x="7391" y="4"/>
                    </a:cubicBezTo>
                    <a:cubicBezTo>
                      <a:pt x="7391" y="5"/>
                      <a:pt x="7391" y="6"/>
                      <a:pt x="7389" y="6"/>
                    </a:cubicBezTo>
                    <a:lnTo>
                      <a:pt x="7389" y="6"/>
                    </a:lnTo>
                    <a:cubicBezTo>
                      <a:pt x="7388" y="6"/>
                      <a:pt x="7387" y="5"/>
                      <a:pt x="7387" y="4"/>
                    </a:cubicBezTo>
                    <a:cubicBezTo>
                      <a:pt x="7387" y="3"/>
                      <a:pt x="7388" y="2"/>
                      <a:pt x="7389" y="2"/>
                    </a:cubicBezTo>
                    <a:close/>
                    <a:moveTo>
                      <a:pt x="7397" y="2"/>
                    </a:moveTo>
                    <a:lnTo>
                      <a:pt x="7397" y="2"/>
                    </a:lnTo>
                    <a:cubicBezTo>
                      <a:pt x="7399" y="2"/>
                      <a:pt x="7399" y="3"/>
                      <a:pt x="7399" y="4"/>
                    </a:cubicBezTo>
                    <a:cubicBezTo>
                      <a:pt x="7399" y="5"/>
                      <a:pt x="7399" y="6"/>
                      <a:pt x="7397" y="6"/>
                    </a:cubicBezTo>
                    <a:lnTo>
                      <a:pt x="7397" y="6"/>
                    </a:lnTo>
                    <a:cubicBezTo>
                      <a:pt x="7396" y="6"/>
                      <a:pt x="7395" y="5"/>
                      <a:pt x="7395" y="4"/>
                    </a:cubicBezTo>
                    <a:cubicBezTo>
                      <a:pt x="7395" y="3"/>
                      <a:pt x="7396" y="2"/>
                      <a:pt x="7397" y="2"/>
                    </a:cubicBezTo>
                    <a:close/>
                    <a:moveTo>
                      <a:pt x="7405" y="2"/>
                    </a:moveTo>
                    <a:lnTo>
                      <a:pt x="7405" y="2"/>
                    </a:lnTo>
                    <a:cubicBezTo>
                      <a:pt x="7407" y="2"/>
                      <a:pt x="7407" y="3"/>
                      <a:pt x="7407" y="4"/>
                    </a:cubicBezTo>
                    <a:cubicBezTo>
                      <a:pt x="7407" y="5"/>
                      <a:pt x="7407" y="6"/>
                      <a:pt x="7405" y="6"/>
                    </a:cubicBezTo>
                    <a:lnTo>
                      <a:pt x="7405" y="6"/>
                    </a:lnTo>
                    <a:cubicBezTo>
                      <a:pt x="7404" y="6"/>
                      <a:pt x="7403" y="5"/>
                      <a:pt x="7403" y="4"/>
                    </a:cubicBezTo>
                    <a:cubicBezTo>
                      <a:pt x="7403" y="3"/>
                      <a:pt x="7404" y="2"/>
                      <a:pt x="7405" y="2"/>
                    </a:cubicBezTo>
                    <a:close/>
                    <a:moveTo>
                      <a:pt x="7413" y="2"/>
                    </a:moveTo>
                    <a:lnTo>
                      <a:pt x="7413" y="2"/>
                    </a:lnTo>
                    <a:cubicBezTo>
                      <a:pt x="7415" y="2"/>
                      <a:pt x="7415" y="3"/>
                      <a:pt x="7415" y="4"/>
                    </a:cubicBezTo>
                    <a:cubicBezTo>
                      <a:pt x="7415" y="5"/>
                      <a:pt x="7415" y="6"/>
                      <a:pt x="7413" y="6"/>
                    </a:cubicBezTo>
                    <a:lnTo>
                      <a:pt x="7413" y="6"/>
                    </a:lnTo>
                    <a:cubicBezTo>
                      <a:pt x="7412" y="6"/>
                      <a:pt x="7411" y="5"/>
                      <a:pt x="7411" y="4"/>
                    </a:cubicBezTo>
                    <a:cubicBezTo>
                      <a:pt x="7411" y="3"/>
                      <a:pt x="7412" y="2"/>
                      <a:pt x="7413" y="2"/>
                    </a:cubicBezTo>
                    <a:close/>
                    <a:moveTo>
                      <a:pt x="7421" y="2"/>
                    </a:moveTo>
                    <a:lnTo>
                      <a:pt x="7421" y="2"/>
                    </a:lnTo>
                    <a:cubicBezTo>
                      <a:pt x="7423" y="2"/>
                      <a:pt x="7423" y="3"/>
                      <a:pt x="7423" y="4"/>
                    </a:cubicBezTo>
                    <a:cubicBezTo>
                      <a:pt x="7423" y="5"/>
                      <a:pt x="7423" y="6"/>
                      <a:pt x="7421" y="6"/>
                    </a:cubicBezTo>
                    <a:lnTo>
                      <a:pt x="7421" y="6"/>
                    </a:lnTo>
                    <a:cubicBezTo>
                      <a:pt x="7420" y="6"/>
                      <a:pt x="7419" y="5"/>
                      <a:pt x="7419" y="4"/>
                    </a:cubicBezTo>
                    <a:cubicBezTo>
                      <a:pt x="7419" y="3"/>
                      <a:pt x="7420" y="2"/>
                      <a:pt x="7421" y="2"/>
                    </a:cubicBezTo>
                    <a:close/>
                    <a:moveTo>
                      <a:pt x="7429" y="2"/>
                    </a:moveTo>
                    <a:lnTo>
                      <a:pt x="7429" y="2"/>
                    </a:lnTo>
                    <a:cubicBezTo>
                      <a:pt x="7431" y="2"/>
                      <a:pt x="7431" y="3"/>
                      <a:pt x="7431" y="4"/>
                    </a:cubicBezTo>
                    <a:cubicBezTo>
                      <a:pt x="7431" y="5"/>
                      <a:pt x="7431" y="6"/>
                      <a:pt x="7429" y="6"/>
                    </a:cubicBezTo>
                    <a:lnTo>
                      <a:pt x="7429" y="6"/>
                    </a:lnTo>
                    <a:cubicBezTo>
                      <a:pt x="7428" y="6"/>
                      <a:pt x="7427" y="5"/>
                      <a:pt x="7427" y="4"/>
                    </a:cubicBezTo>
                    <a:cubicBezTo>
                      <a:pt x="7427" y="3"/>
                      <a:pt x="7428" y="2"/>
                      <a:pt x="7429" y="2"/>
                    </a:cubicBezTo>
                    <a:close/>
                    <a:moveTo>
                      <a:pt x="7437" y="2"/>
                    </a:moveTo>
                    <a:lnTo>
                      <a:pt x="7437" y="2"/>
                    </a:lnTo>
                    <a:cubicBezTo>
                      <a:pt x="7439" y="2"/>
                      <a:pt x="7439" y="3"/>
                      <a:pt x="7439" y="4"/>
                    </a:cubicBezTo>
                    <a:cubicBezTo>
                      <a:pt x="7439" y="5"/>
                      <a:pt x="7439" y="6"/>
                      <a:pt x="7437" y="6"/>
                    </a:cubicBezTo>
                    <a:lnTo>
                      <a:pt x="7437" y="6"/>
                    </a:lnTo>
                    <a:cubicBezTo>
                      <a:pt x="7436" y="6"/>
                      <a:pt x="7435" y="5"/>
                      <a:pt x="7435" y="4"/>
                    </a:cubicBezTo>
                    <a:cubicBezTo>
                      <a:pt x="7435" y="3"/>
                      <a:pt x="7436" y="2"/>
                      <a:pt x="7437" y="2"/>
                    </a:cubicBezTo>
                    <a:close/>
                    <a:moveTo>
                      <a:pt x="7445" y="2"/>
                    </a:moveTo>
                    <a:lnTo>
                      <a:pt x="7445" y="2"/>
                    </a:lnTo>
                    <a:cubicBezTo>
                      <a:pt x="7447" y="2"/>
                      <a:pt x="7447" y="3"/>
                      <a:pt x="7447" y="4"/>
                    </a:cubicBezTo>
                    <a:cubicBezTo>
                      <a:pt x="7447" y="5"/>
                      <a:pt x="7447" y="6"/>
                      <a:pt x="7445" y="6"/>
                    </a:cubicBezTo>
                    <a:lnTo>
                      <a:pt x="7445" y="6"/>
                    </a:lnTo>
                    <a:cubicBezTo>
                      <a:pt x="7444" y="6"/>
                      <a:pt x="7443" y="5"/>
                      <a:pt x="7443" y="4"/>
                    </a:cubicBezTo>
                    <a:cubicBezTo>
                      <a:pt x="7443" y="3"/>
                      <a:pt x="7444" y="2"/>
                      <a:pt x="7445" y="2"/>
                    </a:cubicBezTo>
                    <a:close/>
                    <a:moveTo>
                      <a:pt x="7453" y="2"/>
                    </a:moveTo>
                    <a:lnTo>
                      <a:pt x="7453" y="2"/>
                    </a:lnTo>
                    <a:cubicBezTo>
                      <a:pt x="7455" y="2"/>
                      <a:pt x="7455" y="3"/>
                      <a:pt x="7455" y="4"/>
                    </a:cubicBezTo>
                    <a:cubicBezTo>
                      <a:pt x="7455" y="5"/>
                      <a:pt x="7455" y="6"/>
                      <a:pt x="7453" y="6"/>
                    </a:cubicBezTo>
                    <a:lnTo>
                      <a:pt x="7453" y="6"/>
                    </a:lnTo>
                    <a:cubicBezTo>
                      <a:pt x="7452" y="6"/>
                      <a:pt x="7451" y="5"/>
                      <a:pt x="7451" y="4"/>
                    </a:cubicBezTo>
                    <a:cubicBezTo>
                      <a:pt x="7451" y="3"/>
                      <a:pt x="7452" y="2"/>
                      <a:pt x="7453" y="2"/>
                    </a:cubicBezTo>
                    <a:close/>
                    <a:moveTo>
                      <a:pt x="7461" y="2"/>
                    </a:moveTo>
                    <a:lnTo>
                      <a:pt x="7461" y="2"/>
                    </a:lnTo>
                    <a:cubicBezTo>
                      <a:pt x="7463" y="2"/>
                      <a:pt x="7463" y="3"/>
                      <a:pt x="7463" y="4"/>
                    </a:cubicBezTo>
                    <a:cubicBezTo>
                      <a:pt x="7463" y="5"/>
                      <a:pt x="7463" y="6"/>
                      <a:pt x="7461" y="6"/>
                    </a:cubicBezTo>
                    <a:lnTo>
                      <a:pt x="7461" y="6"/>
                    </a:lnTo>
                    <a:cubicBezTo>
                      <a:pt x="7460" y="6"/>
                      <a:pt x="7459" y="5"/>
                      <a:pt x="7459" y="4"/>
                    </a:cubicBezTo>
                    <a:cubicBezTo>
                      <a:pt x="7459" y="3"/>
                      <a:pt x="7460" y="2"/>
                      <a:pt x="7461" y="2"/>
                    </a:cubicBezTo>
                    <a:close/>
                    <a:moveTo>
                      <a:pt x="7469" y="2"/>
                    </a:moveTo>
                    <a:lnTo>
                      <a:pt x="7469" y="2"/>
                    </a:lnTo>
                    <a:cubicBezTo>
                      <a:pt x="7471" y="2"/>
                      <a:pt x="7471" y="3"/>
                      <a:pt x="7471" y="4"/>
                    </a:cubicBezTo>
                    <a:cubicBezTo>
                      <a:pt x="7471" y="5"/>
                      <a:pt x="7471" y="6"/>
                      <a:pt x="7469" y="6"/>
                    </a:cubicBezTo>
                    <a:lnTo>
                      <a:pt x="7469" y="6"/>
                    </a:lnTo>
                    <a:cubicBezTo>
                      <a:pt x="7468" y="6"/>
                      <a:pt x="7467" y="5"/>
                      <a:pt x="7467" y="4"/>
                    </a:cubicBezTo>
                    <a:cubicBezTo>
                      <a:pt x="7467" y="3"/>
                      <a:pt x="7468" y="2"/>
                      <a:pt x="7469" y="2"/>
                    </a:cubicBezTo>
                    <a:close/>
                    <a:moveTo>
                      <a:pt x="7477" y="2"/>
                    </a:moveTo>
                    <a:lnTo>
                      <a:pt x="7477" y="2"/>
                    </a:lnTo>
                    <a:cubicBezTo>
                      <a:pt x="7479" y="2"/>
                      <a:pt x="7479" y="3"/>
                      <a:pt x="7479" y="4"/>
                    </a:cubicBezTo>
                    <a:cubicBezTo>
                      <a:pt x="7479" y="5"/>
                      <a:pt x="7479" y="6"/>
                      <a:pt x="7477" y="6"/>
                    </a:cubicBezTo>
                    <a:lnTo>
                      <a:pt x="7477" y="6"/>
                    </a:lnTo>
                    <a:cubicBezTo>
                      <a:pt x="7476" y="6"/>
                      <a:pt x="7475" y="5"/>
                      <a:pt x="7475" y="4"/>
                    </a:cubicBezTo>
                    <a:cubicBezTo>
                      <a:pt x="7475" y="3"/>
                      <a:pt x="7476" y="2"/>
                      <a:pt x="7477" y="2"/>
                    </a:cubicBezTo>
                    <a:close/>
                    <a:moveTo>
                      <a:pt x="7485" y="2"/>
                    </a:moveTo>
                    <a:lnTo>
                      <a:pt x="7485" y="2"/>
                    </a:lnTo>
                    <a:cubicBezTo>
                      <a:pt x="7487" y="2"/>
                      <a:pt x="7487" y="3"/>
                      <a:pt x="7487" y="4"/>
                    </a:cubicBezTo>
                    <a:cubicBezTo>
                      <a:pt x="7487" y="5"/>
                      <a:pt x="7487" y="6"/>
                      <a:pt x="7485" y="6"/>
                    </a:cubicBezTo>
                    <a:lnTo>
                      <a:pt x="7485" y="6"/>
                    </a:lnTo>
                    <a:cubicBezTo>
                      <a:pt x="7484" y="6"/>
                      <a:pt x="7483" y="5"/>
                      <a:pt x="7483" y="4"/>
                    </a:cubicBezTo>
                    <a:cubicBezTo>
                      <a:pt x="7483" y="3"/>
                      <a:pt x="7484" y="2"/>
                      <a:pt x="7485" y="2"/>
                    </a:cubicBezTo>
                    <a:close/>
                    <a:moveTo>
                      <a:pt x="7493" y="2"/>
                    </a:moveTo>
                    <a:lnTo>
                      <a:pt x="7493" y="2"/>
                    </a:lnTo>
                    <a:cubicBezTo>
                      <a:pt x="7495" y="2"/>
                      <a:pt x="7495" y="3"/>
                      <a:pt x="7495" y="4"/>
                    </a:cubicBezTo>
                    <a:cubicBezTo>
                      <a:pt x="7495" y="5"/>
                      <a:pt x="7495" y="6"/>
                      <a:pt x="7493" y="6"/>
                    </a:cubicBezTo>
                    <a:lnTo>
                      <a:pt x="7493" y="6"/>
                    </a:lnTo>
                    <a:cubicBezTo>
                      <a:pt x="7492" y="6"/>
                      <a:pt x="7491" y="5"/>
                      <a:pt x="7491" y="4"/>
                    </a:cubicBezTo>
                    <a:cubicBezTo>
                      <a:pt x="7491" y="3"/>
                      <a:pt x="7492" y="2"/>
                      <a:pt x="7493" y="2"/>
                    </a:cubicBezTo>
                    <a:close/>
                    <a:moveTo>
                      <a:pt x="7501" y="2"/>
                    </a:moveTo>
                    <a:lnTo>
                      <a:pt x="7501" y="2"/>
                    </a:lnTo>
                    <a:cubicBezTo>
                      <a:pt x="7503" y="2"/>
                      <a:pt x="7503" y="3"/>
                      <a:pt x="7503" y="4"/>
                    </a:cubicBezTo>
                    <a:cubicBezTo>
                      <a:pt x="7503" y="5"/>
                      <a:pt x="7503" y="6"/>
                      <a:pt x="7501" y="6"/>
                    </a:cubicBezTo>
                    <a:lnTo>
                      <a:pt x="7501" y="6"/>
                    </a:lnTo>
                    <a:cubicBezTo>
                      <a:pt x="7500" y="6"/>
                      <a:pt x="7499" y="5"/>
                      <a:pt x="7499" y="4"/>
                    </a:cubicBezTo>
                    <a:cubicBezTo>
                      <a:pt x="7499" y="3"/>
                      <a:pt x="7500" y="2"/>
                      <a:pt x="7501" y="2"/>
                    </a:cubicBezTo>
                    <a:close/>
                    <a:moveTo>
                      <a:pt x="7509" y="2"/>
                    </a:moveTo>
                    <a:lnTo>
                      <a:pt x="7509" y="2"/>
                    </a:lnTo>
                    <a:cubicBezTo>
                      <a:pt x="7511" y="2"/>
                      <a:pt x="7511" y="3"/>
                      <a:pt x="7511" y="4"/>
                    </a:cubicBezTo>
                    <a:cubicBezTo>
                      <a:pt x="7511" y="5"/>
                      <a:pt x="7511" y="6"/>
                      <a:pt x="7509" y="6"/>
                    </a:cubicBezTo>
                    <a:lnTo>
                      <a:pt x="7509" y="6"/>
                    </a:lnTo>
                    <a:cubicBezTo>
                      <a:pt x="7508" y="6"/>
                      <a:pt x="7507" y="5"/>
                      <a:pt x="7507" y="4"/>
                    </a:cubicBezTo>
                    <a:cubicBezTo>
                      <a:pt x="7507" y="3"/>
                      <a:pt x="7508" y="2"/>
                      <a:pt x="7509" y="2"/>
                    </a:cubicBezTo>
                    <a:close/>
                    <a:moveTo>
                      <a:pt x="7517" y="2"/>
                    </a:moveTo>
                    <a:lnTo>
                      <a:pt x="7517" y="2"/>
                    </a:lnTo>
                    <a:cubicBezTo>
                      <a:pt x="7519" y="2"/>
                      <a:pt x="7519" y="3"/>
                      <a:pt x="7519" y="4"/>
                    </a:cubicBezTo>
                    <a:cubicBezTo>
                      <a:pt x="7519" y="5"/>
                      <a:pt x="7519" y="6"/>
                      <a:pt x="7517" y="6"/>
                    </a:cubicBezTo>
                    <a:lnTo>
                      <a:pt x="7517" y="6"/>
                    </a:lnTo>
                    <a:cubicBezTo>
                      <a:pt x="7516" y="6"/>
                      <a:pt x="7515" y="5"/>
                      <a:pt x="7515" y="4"/>
                    </a:cubicBezTo>
                    <a:cubicBezTo>
                      <a:pt x="7515" y="3"/>
                      <a:pt x="7516" y="2"/>
                      <a:pt x="7517" y="2"/>
                    </a:cubicBezTo>
                    <a:close/>
                    <a:moveTo>
                      <a:pt x="7525" y="2"/>
                    </a:moveTo>
                    <a:lnTo>
                      <a:pt x="7525" y="2"/>
                    </a:lnTo>
                    <a:cubicBezTo>
                      <a:pt x="7527" y="2"/>
                      <a:pt x="7527" y="3"/>
                      <a:pt x="7527" y="4"/>
                    </a:cubicBezTo>
                    <a:cubicBezTo>
                      <a:pt x="7527" y="5"/>
                      <a:pt x="7527" y="6"/>
                      <a:pt x="7525" y="6"/>
                    </a:cubicBezTo>
                    <a:lnTo>
                      <a:pt x="7525" y="6"/>
                    </a:lnTo>
                    <a:cubicBezTo>
                      <a:pt x="7524" y="6"/>
                      <a:pt x="7523" y="5"/>
                      <a:pt x="7523" y="4"/>
                    </a:cubicBezTo>
                    <a:cubicBezTo>
                      <a:pt x="7523" y="3"/>
                      <a:pt x="7524" y="2"/>
                      <a:pt x="7525" y="2"/>
                    </a:cubicBezTo>
                    <a:close/>
                    <a:moveTo>
                      <a:pt x="7533" y="2"/>
                    </a:moveTo>
                    <a:lnTo>
                      <a:pt x="7534" y="2"/>
                    </a:lnTo>
                    <a:cubicBezTo>
                      <a:pt x="7535" y="2"/>
                      <a:pt x="7536" y="3"/>
                      <a:pt x="7536" y="4"/>
                    </a:cubicBezTo>
                    <a:cubicBezTo>
                      <a:pt x="7536" y="5"/>
                      <a:pt x="7535" y="6"/>
                      <a:pt x="7534" y="6"/>
                    </a:cubicBezTo>
                    <a:lnTo>
                      <a:pt x="7533" y="6"/>
                    </a:lnTo>
                    <a:cubicBezTo>
                      <a:pt x="7532" y="6"/>
                      <a:pt x="7531" y="5"/>
                      <a:pt x="7531" y="4"/>
                    </a:cubicBezTo>
                    <a:cubicBezTo>
                      <a:pt x="7531" y="3"/>
                      <a:pt x="7532" y="2"/>
                      <a:pt x="7533" y="2"/>
                    </a:cubicBezTo>
                    <a:close/>
                    <a:moveTo>
                      <a:pt x="7542" y="2"/>
                    </a:moveTo>
                    <a:lnTo>
                      <a:pt x="7542" y="2"/>
                    </a:lnTo>
                    <a:cubicBezTo>
                      <a:pt x="7543" y="2"/>
                      <a:pt x="7544" y="3"/>
                      <a:pt x="7544" y="4"/>
                    </a:cubicBezTo>
                    <a:cubicBezTo>
                      <a:pt x="7544" y="5"/>
                      <a:pt x="7543" y="6"/>
                      <a:pt x="7542" y="6"/>
                    </a:cubicBezTo>
                    <a:lnTo>
                      <a:pt x="7542" y="6"/>
                    </a:lnTo>
                    <a:cubicBezTo>
                      <a:pt x="7540" y="6"/>
                      <a:pt x="7540" y="5"/>
                      <a:pt x="7540" y="4"/>
                    </a:cubicBezTo>
                    <a:cubicBezTo>
                      <a:pt x="7540" y="3"/>
                      <a:pt x="7540" y="2"/>
                      <a:pt x="7542" y="2"/>
                    </a:cubicBezTo>
                    <a:close/>
                    <a:moveTo>
                      <a:pt x="7550" y="2"/>
                    </a:moveTo>
                    <a:lnTo>
                      <a:pt x="7550" y="2"/>
                    </a:lnTo>
                    <a:cubicBezTo>
                      <a:pt x="7551" y="2"/>
                      <a:pt x="7552" y="3"/>
                      <a:pt x="7552" y="4"/>
                    </a:cubicBezTo>
                    <a:cubicBezTo>
                      <a:pt x="7552" y="5"/>
                      <a:pt x="7551" y="6"/>
                      <a:pt x="7550" y="6"/>
                    </a:cubicBezTo>
                    <a:lnTo>
                      <a:pt x="7550" y="6"/>
                    </a:lnTo>
                    <a:cubicBezTo>
                      <a:pt x="7548" y="6"/>
                      <a:pt x="7548" y="5"/>
                      <a:pt x="7548" y="4"/>
                    </a:cubicBezTo>
                    <a:cubicBezTo>
                      <a:pt x="7548" y="3"/>
                      <a:pt x="7548" y="2"/>
                      <a:pt x="7550" y="2"/>
                    </a:cubicBezTo>
                    <a:close/>
                    <a:moveTo>
                      <a:pt x="7558" y="2"/>
                    </a:moveTo>
                    <a:lnTo>
                      <a:pt x="7558" y="2"/>
                    </a:lnTo>
                    <a:cubicBezTo>
                      <a:pt x="7559" y="2"/>
                      <a:pt x="7560" y="3"/>
                      <a:pt x="7560" y="4"/>
                    </a:cubicBezTo>
                    <a:cubicBezTo>
                      <a:pt x="7560" y="5"/>
                      <a:pt x="7559" y="6"/>
                      <a:pt x="7558" y="6"/>
                    </a:cubicBezTo>
                    <a:lnTo>
                      <a:pt x="7558" y="6"/>
                    </a:lnTo>
                    <a:cubicBezTo>
                      <a:pt x="7556" y="6"/>
                      <a:pt x="7556" y="5"/>
                      <a:pt x="7556" y="4"/>
                    </a:cubicBezTo>
                    <a:cubicBezTo>
                      <a:pt x="7556" y="3"/>
                      <a:pt x="7556" y="2"/>
                      <a:pt x="7558" y="2"/>
                    </a:cubicBezTo>
                    <a:close/>
                    <a:moveTo>
                      <a:pt x="7566" y="2"/>
                    </a:moveTo>
                    <a:lnTo>
                      <a:pt x="7566" y="2"/>
                    </a:lnTo>
                    <a:cubicBezTo>
                      <a:pt x="7567" y="2"/>
                      <a:pt x="7568" y="3"/>
                      <a:pt x="7568" y="4"/>
                    </a:cubicBezTo>
                    <a:cubicBezTo>
                      <a:pt x="7568" y="5"/>
                      <a:pt x="7567" y="6"/>
                      <a:pt x="7566" y="6"/>
                    </a:cubicBezTo>
                    <a:lnTo>
                      <a:pt x="7566" y="6"/>
                    </a:lnTo>
                    <a:cubicBezTo>
                      <a:pt x="7564" y="6"/>
                      <a:pt x="7564" y="5"/>
                      <a:pt x="7564" y="4"/>
                    </a:cubicBezTo>
                    <a:cubicBezTo>
                      <a:pt x="7564" y="3"/>
                      <a:pt x="7564" y="2"/>
                      <a:pt x="7566" y="2"/>
                    </a:cubicBezTo>
                    <a:close/>
                    <a:moveTo>
                      <a:pt x="7574" y="2"/>
                    </a:moveTo>
                    <a:lnTo>
                      <a:pt x="7574" y="2"/>
                    </a:lnTo>
                    <a:cubicBezTo>
                      <a:pt x="7575" y="2"/>
                      <a:pt x="7576" y="3"/>
                      <a:pt x="7576" y="4"/>
                    </a:cubicBezTo>
                    <a:cubicBezTo>
                      <a:pt x="7576" y="5"/>
                      <a:pt x="7575" y="6"/>
                      <a:pt x="7574" y="6"/>
                    </a:cubicBezTo>
                    <a:lnTo>
                      <a:pt x="7574" y="6"/>
                    </a:lnTo>
                    <a:cubicBezTo>
                      <a:pt x="7572" y="6"/>
                      <a:pt x="7572" y="5"/>
                      <a:pt x="7572" y="4"/>
                    </a:cubicBezTo>
                    <a:cubicBezTo>
                      <a:pt x="7572" y="3"/>
                      <a:pt x="7572" y="2"/>
                      <a:pt x="7574" y="2"/>
                    </a:cubicBezTo>
                    <a:close/>
                    <a:moveTo>
                      <a:pt x="7582" y="2"/>
                    </a:moveTo>
                    <a:lnTo>
                      <a:pt x="7582" y="2"/>
                    </a:lnTo>
                    <a:cubicBezTo>
                      <a:pt x="7583" y="2"/>
                      <a:pt x="7584" y="3"/>
                      <a:pt x="7584" y="4"/>
                    </a:cubicBezTo>
                    <a:cubicBezTo>
                      <a:pt x="7584" y="5"/>
                      <a:pt x="7583" y="6"/>
                      <a:pt x="7582" y="6"/>
                    </a:cubicBezTo>
                    <a:lnTo>
                      <a:pt x="7582" y="6"/>
                    </a:lnTo>
                    <a:cubicBezTo>
                      <a:pt x="7580" y="6"/>
                      <a:pt x="7580" y="5"/>
                      <a:pt x="7580" y="4"/>
                    </a:cubicBezTo>
                    <a:cubicBezTo>
                      <a:pt x="7580" y="3"/>
                      <a:pt x="7580" y="2"/>
                      <a:pt x="7582" y="2"/>
                    </a:cubicBezTo>
                    <a:close/>
                    <a:moveTo>
                      <a:pt x="7590" y="2"/>
                    </a:moveTo>
                    <a:lnTo>
                      <a:pt x="7590" y="2"/>
                    </a:lnTo>
                    <a:cubicBezTo>
                      <a:pt x="7591" y="2"/>
                      <a:pt x="7592" y="3"/>
                      <a:pt x="7592" y="4"/>
                    </a:cubicBezTo>
                    <a:cubicBezTo>
                      <a:pt x="7592" y="5"/>
                      <a:pt x="7591" y="6"/>
                      <a:pt x="7590" y="6"/>
                    </a:cubicBezTo>
                    <a:lnTo>
                      <a:pt x="7590" y="6"/>
                    </a:lnTo>
                    <a:cubicBezTo>
                      <a:pt x="7588" y="6"/>
                      <a:pt x="7588" y="5"/>
                      <a:pt x="7588" y="4"/>
                    </a:cubicBezTo>
                    <a:cubicBezTo>
                      <a:pt x="7588" y="3"/>
                      <a:pt x="7588" y="2"/>
                      <a:pt x="7590" y="2"/>
                    </a:cubicBezTo>
                    <a:close/>
                    <a:moveTo>
                      <a:pt x="7598" y="2"/>
                    </a:moveTo>
                    <a:lnTo>
                      <a:pt x="7598" y="2"/>
                    </a:lnTo>
                    <a:cubicBezTo>
                      <a:pt x="7599" y="2"/>
                      <a:pt x="7600" y="3"/>
                      <a:pt x="7600" y="4"/>
                    </a:cubicBezTo>
                    <a:cubicBezTo>
                      <a:pt x="7600" y="5"/>
                      <a:pt x="7599" y="6"/>
                      <a:pt x="7598" y="6"/>
                    </a:cubicBezTo>
                    <a:lnTo>
                      <a:pt x="7598" y="6"/>
                    </a:lnTo>
                    <a:cubicBezTo>
                      <a:pt x="7596" y="6"/>
                      <a:pt x="7596" y="5"/>
                      <a:pt x="7596" y="4"/>
                    </a:cubicBezTo>
                    <a:cubicBezTo>
                      <a:pt x="7596" y="3"/>
                      <a:pt x="7596" y="2"/>
                      <a:pt x="7598" y="2"/>
                    </a:cubicBezTo>
                    <a:close/>
                    <a:moveTo>
                      <a:pt x="7606" y="2"/>
                    </a:moveTo>
                    <a:lnTo>
                      <a:pt x="7606" y="2"/>
                    </a:lnTo>
                    <a:cubicBezTo>
                      <a:pt x="7607" y="2"/>
                      <a:pt x="7608" y="3"/>
                      <a:pt x="7608" y="4"/>
                    </a:cubicBezTo>
                    <a:cubicBezTo>
                      <a:pt x="7608" y="5"/>
                      <a:pt x="7607" y="6"/>
                      <a:pt x="7606" y="6"/>
                    </a:cubicBezTo>
                    <a:lnTo>
                      <a:pt x="7606" y="6"/>
                    </a:lnTo>
                    <a:cubicBezTo>
                      <a:pt x="7604" y="6"/>
                      <a:pt x="7604" y="5"/>
                      <a:pt x="7604" y="4"/>
                    </a:cubicBezTo>
                    <a:cubicBezTo>
                      <a:pt x="7604" y="3"/>
                      <a:pt x="7604" y="2"/>
                      <a:pt x="7606" y="2"/>
                    </a:cubicBezTo>
                    <a:close/>
                    <a:moveTo>
                      <a:pt x="7614" y="2"/>
                    </a:moveTo>
                    <a:lnTo>
                      <a:pt x="7614" y="2"/>
                    </a:lnTo>
                    <a:cubicBezTo>
                      <a:pt x="7615" y="2"/>
                      <a:pt x="7616" y="3"/>
                      <a:pt x="7616" y="4"/>
                    </a:cubicBezTo>
                    <a:cubicBezTo>
                      <a:pt x="7616" y="5"/>
                      <a:pt x="7615" y="6"/>
                      <a:pt x="7614" y="6"/>
                    </a:cubicBezTo>
                    <a:lnTo>
                      <a:pt x="7614" y="6"/>
                    </a:lnTo>
                    <a:cubicBezTo>
                      <a:pt x="7612" y="6"/>
                      <a:pt x="7612" y="5"/>
                      <a:pt x="7612" y="4"/>
                    </a:cubicBezTo>
                    <a:cubicBezTo>
                      <a:pt x="7612" y="3"/>
                      <a:pt x="7612" y="2"/>
                      <a:pt x="7614" y="2"/>
                    </a:cubicBezTo>
                    <a:close/>
                    <a:moveTo>
                      <a:pt x="7622" y="2"/>
                    </a:moveTo>
                    <a:lnTo>
                      <a:pt x="7622" y="2"/>
                    </a:lnTo>
                    <a:cubicBezTo>
                      <a:pt x="7623" y="2"/>
                      <a:pt x="7624" y="3"/>
                      <a:pt x="7624" y="4"/>
                    </a:cubicBezTo>
                    <a:cubicBezTo>
                      <a:pt x="7624" y="5"/>
                      <a:pt x="7623" y="6"/>
                      <a:pt x="7622" y="6"/>
                    </a:cubicBezTo>
                    <a:lnTo>
                      <a:pt x="7622" y="6"/>
                    </a:lnTo>
                    <a:cubicBezTo>
                      <a:pt x="7620" y="6"/>
                      <a:pt x="7620" y="5"/>
                      <a:pt x="7620" y="4"/>
                    </a:cubicBezTo>
                    <a:cubicBezTo>
                      <a:pt x="7620" y="3"/>
                      <a:pt x="7620" y="2"/>
                      <a:pt x="7622" y="2"/>
                    </a:cubicBezTo>
                    <a:close/>
                    <a:moveTo>
                      <a:pt x="7630" y="2"/>
                    </a:moveTo>
                    <a:lnTo>
                      <a:pt x="7630" y="2"/>
                    </a:lnTo>
                    <a:cubicBezTo>
                      <a:pt x="7631" y="2"/>
                      <a:pt x="7632" y="3"/>
                      <a:pt x="7632" y="4"/>
                    </a:cubicBezTo>
                    <a:cubicBezTo>
                      <a:pt x="7632" y="5"/>
                      <a:pt x="7631" y="6"/>
                      <a:pt x="7630" y="6"/>
                    </a:cubicBezTo>
                    <a:lnTo>
                      <a:pt x="7630" y="6"/>
                    </a:lnTo>
                    <a:cubicBezTo>
                      <a:pt x="7628" y="6"/>
                      <a:pt x="7628" y="5"/>
                      <a:pt x="7628" y="4"/>
                    </a:cubicBezTo>
                    <a:cubicBezTo>
                      <a:pt x="7628" y="3"/>
                      <a:pt x="7628" y="2"/>
                      <a:pt x="7630" y="2"/>
                    </a:cubicBezTo>
                    <a:close/>
                    <a:moveTo>
                      <a:pt x="7638" y="2"/>
                    </a:moveTo>
                    <a:lnTo>
                      <a:pt x="7638" y="2"/>
                    </a:lnTo>
                    <a:cubicBezTo>
                      <a:pt x="7639" y="2"/>
                      <a:pt x="7640" y="3"/>
                      <a:pt x="7640" y="4"/>
                    </a:cubicBezTo>
                    <a:cubicBezTo>
                      <a:pt x="7640" y="5"/>
                      <a:pt x="7639" y="6"/>
                      <a:pt x="7638" y="6"/>
                    </a:cubicBezTo>
                    <a:lnTo>
                      <a:pt x="7638" y="6"/>
                    </a:lnTo>
                    <a:cubicBezTo>
                      <a:pt x="7636" y="6"/>
                      <a:pt x="7636" y="5"/>
                      <a:pt x="7636" y="4"/>
                    </a:cubicBezTo>
                    <a:cubicBezTo>
                      <a:pt x="7636" y="3"/>
                      <a:pt x="7636" y="2"/>
                      <a:pt x="7638" y="2"/>
                    </a:cubicBezTo>
                    <a:close/>
                    <a:moveTo>
                      <a:pt x="7646" y="2"/>
                    </a:moveTo>
                    <a:lnTo>
                      <a:pt x="7646" y="2"/>
                    </a:lnTo>
                    <a:cubicBezTo>
                      <a:pt x="7647" y="2"/>
                      <a:pt x="7648" y="3"/>
                      <a:pt x="7648" y="4"/>
                    </a:cubicBezTo>
                    <a:cubicBezTo>
                      <a:pt x="7648" y="5"/>
                      <a:pt x="7647" y="6"/>
                      <a:pt x="7646" y="6"/>
                    </a:cubicBezTo>
                    <a:lnTo>
                      <a:pt x="7646" y="6"/>
                    </a:lnTo>
                    <a:cubicBezTo>
                      <a:pt x="7644" y="6"/>
                      <a:pt x="7644" y="5"/>
                      <a:pt x="7644" y="4"/>
                    </a:cubicBezTo>
                    <a:cubicBezTo>
                      <a:pt x="7644" y="3"/>
                      <a:pt x="7644" y="2"/>
                      <a:pt x="7646" y="2"/>
                    </a:cubicBezTo>
                    <a:close/>
                    <a:moveTo>
                      <a:pt x="7654" y="2"/>
                    </a:moveTo>
                    <a:lnTo>
                      <a:pt x="7654" y="2"/>
                    </a:lnTo>
                    <a:cubicBezTo>
                      <a:pt x="7655" y="2"/>
                      <a:pt x="7656" y="3"/>
                      <a:pt x="7656" y="4"/>
                    </a:cubicBezTo>
                    <a:cubicBezTo>
                      <a:pt x="7656" y="5"/>
                      <a:pt x="7655" y="6"/>
                      <a:pt x="7654" y="6"/>
                    </a:cubicBezTo>
                    <a:lnTo>
                      <a:pt x="7654" y="6"/>
                    </a:lnTo>
                    <a:cubicBezTo>
                      <a:pt x="7652" y="6"/>
                      <a:pt x="7652" y="5"/>
                      <a:pt x="7652" y="4"/>
                    </a:cubicBezTo>
                    <a:cubicBezTo>
                      <a:pt x="7652" y="3"/>
                      <a:pt x="7652" y="2"/>
                      <a:pt x="7654" y="2"/>
                    </a:cubicBezTo>
                    <a:close/>
                    <a:moveTo>
                      <a:pt x="7662" y="2"/>
                    </a:moveTo>
                    <a:lnTo>
                      <a:pt x="7662" y="2"/>
                    </a:lnTo>
                    <a:cubicBezTo>
                      <a:pt x="7663" y="2"/>
                      <a:pt x="7664" y="3"/>
                      <a:pt x="7664" y="4"/>
                    </a:cubicBezTo>
                    <a:cubicBezTo>
                      <a:pt x="7664" y="5"/>
                      <a:pt x="7663" y="6"/>
                      <a:pt x="7662" y="6"/>
                    </a:cubicBezTo>
                    <a:lnTo>
                      <a:pt x="7662" y="6"/>
                    </a:lnTo>
                    <a:cubicBezTo>
                      <a:pt x="7660" y="6"/>
                      <a:pt x="7660" y="5"/>
                      <a:pt x="7660" y="4"/>
                    </a:cubicBezTo>
                    <a:cubicBezTo>
                      <a:pt x="7660" y="3"/>
                      <a:pt x="7660" y="2"/>
                      <a:pt x="7662" y="2"/>
                    </a:cubicBezTo>
                    <a:close/>
                    <a:moveTo>
                      <a:pt x="7670" y="2"/>
                    </a:moveTo>
                    <a:lnTo>
                      <a:pt x="7670" y="2"/>
                    </a:lnTo>
                    <a:cubicBezTo>
                      <a:pt x="7671" y="2"/>
                      <a:pt x="7672" y="3"/>
                      <a:pt x="7672" y="4"/>
                    </a:cubicBezTo>
                    <a:cubicBezTo>
                      <a:pt x="7672" y="5"/>
                      <a:pt x="7671" y="6"/>
                      <a:pt x="7670" y="6"/>
                    </a:cubicBezTo>
                    <a:lnTo>
                      <a:pt x="7670" y="6"/>
                    </a:lnTo>
                    <a:cubicBezTo>
                      <a:pt x="7668" y="6"/>
                      <a:pt x="7668" y="5"/>
                      <a:pt x="7668" y="4"/>
                    </a:cubicBezTo>
                    <a:cubicBezTo>
                      <a:pt x="7668" y="3"/>
                      <a:pt x="7668" y="2"/>
                      <a:pt x="7670" y="2"/>
                    </a:cubicBezTo>
                    <a:close/>
                    <a:moveTo>
                      <a:pt x="7678" y="2"/>
                    </a:moveTo>
                    <a:lnTo>
                      <a:pt x="7678" y="2"/>
                    </a:lnTo>
                    <a:cubicBezTo>
                      <a:pt x="7679" y="2"/>
                      <a:pt x="7680" y="3"/>
                      <a:pt x="7680" y="4"/>
                    </a:cubicBezTo>
                    <a:cubicBezTo>
                      <a:pt x="7680" y="5"/>
                      <a:pt x="7679" y="6"/>
                      <a:pt x="7678" y="6"/>
                    </a:cubicBezTo>
                    <a:lnTo>
                      <a:pt x="7678" y="6"/>
                    </a:lnTo>
                    <a:cubicBezTo>
                      <a:pt x="7676" y="6"/>
                      <a:pt x="7676" y="5"/>
                      <a:pt x="7676" y="4"/>
                    </a:cubicBezTo>
                    <a:cubicBezTo>
                      <a:pt x="7676" y="3"/>
                      <a:pt x="7676" y="2"/>
                      <a:pt x="7678" y="2"/>
                    </a:cubicBezTo>
                    <a:close/>
                    <a:moveTo>
                      <a:pt x="7686" y="2"/>
                    </a:moveTo>
                    <a:lnTo>
                      <a:pt x="7686" y="2"/>
                    </a:lnTo>
                    <a:cubicBezTo>
                      <a:pt x="7687" y="2"/>
                      <a:pt x="7688" y="3"/>
                      <a:pt x="7688" y="4"/>
                    </a:cubicBezTo>
                    <a:cubicBezTo>
                      <a:pt x="7688" y="5"/>
                      <a:pt x="7687" y="6"/>
                      <a:pt x="7686" y="6"/>
                    </a:cubicBezTo>
                    <a:lnTo>
                      <a:pt x="7686" y="6"/>
                    </a:lnTo>
                    <a:cubicBezTo>
                      <a:pt x="7684" y="6"/>
                      <a:pt x="7684" y="5"/>
                      <a:pt x="7684" y="4"/>
                    </a:cubicBezTo>
                    <a:cubicBezTo>
                      <a:pt x="7684" y="3"/>
                      <a:pt x="7684" y="2"/>
                      <a:pt x="7686" y="2"/>
                    </a:cubicBezTo>
                    <a:close/>
                    <a:moveTo>
                      <a:pt x="7694" y="2"/>
                    </a:moveTo>
                    <a:lnTo>
                      <a:pt x="7694" y="2"/>
                    </a:lnTo>
                    <a:cubicBezTo>
                      <a:pt x="7695" y="2"/>
                      <a:pt x="7696" y="3"/>
                      <a:pt x="7696" y="4"/>
                    </a:cubicBezTo>
                    <a:cubicBezTo>
                      <a:pt x="7696" y="5"/>
                      <a:pt x="7695" y="6"/>
                      <a:pt x="7694" y="6"/>
                    </a:cubicBezTo>
                    <a:lnTo>
                      <a:pt x="7694" y="6"/>
                    </a:lnTo>
                    <a:cubicBezTo>
                      <a:pt x="7692" y="6"/>
                      <a:pt x="7692" y="5"/>
                      <a:pt x="7692" y="4"/>
                    </a:cubicBezTo>
                    <a:cubicBezTo>
                      <a:pt x="7692" y="3"/>
                      <a:pt x="7692" y="2"/>
                      <a:pt x="7694" y="2"/>
                    </a:cubicBezTo>
                    <a:close/>
                    <a:moveTo>
                      <a:pt x="7702" y="2"/>
                    </a:moveTo>
                    <a:lnTo>
                      <a:pt x="7702" y="2"/>
                    </a:lnTo>
                    <a:cubicBezTo>
                      <a:pt x="7703" y="2"/>
                      <a:pt x="7704" y="3"/>
                      <a:pt x="7704" y="4"/>
                    </a:cubicBezTo>
                    <a:cubicBezTo>
                      <a:pt x="7704" y="5"/>
                      <a:pt x="7703" y="6"/>
                      <a:pt x="7702" y="6"/>
                    </a:cubicBezTo>
                    <a:lnTo>
                      <a:pt x="7702" y="6"/>
                    </a:lnTo>
                    <a:cubicBezTo>
                      <a:pt x="7700" y="6"/>
                      <a:pt x="7700" y="5"/>
                      <a:pt x="7700" y="4"/>
                    </a:cubicBezTo>
                    <a:cubicBezTo>
                      <a:pt x="7700" y="3"/>
                      <a:pt x="7700" y="2"/>
                      <a:pt x="7702" y="2"/>
                    </a:cubicBezTo>
                    <a:close/>
                    <a:moveTo>
                      <a:pt x="7710" y="2"/>
                    </a:moveTo>
                    <a:lnTo>
                      <a:pt x="7710" y="2"/>
                    </a:lnTo>
                    <a:cubicBezTo>
                      <a:pt x="7711" y="2"/>
                      <a:pt x="7712" y="3"/>
                      <a:pt x="7712" y="4"/>
                    </a:cubicBezTo>
                    <a:cubicBezTo>
                      <a:pt x="7712" y="5"/>
                      <a:pt x="7711" y="6"/>
                      <a:pt x="7710" y="6"/>
                    </a:cubicBezTo>
                    <a:lnTo>
                      <a:pt x="7710" y="6"/>
                    </a:lnTo>
                    <a:cubicBezTo>
                      <a:pt x="7708" y="6"/>
                      <a:pt x="7708" y="5"/>
                      <a:pt x="7708" y="4"/>
                    </a:cubicBezTo>
                    <a:cubicBezTo>
                      <a:pt x="7708" y="3"/>
                      <a:pt x="7708" y="2"/>
                      <a:pt x="7710" y="2"/>
                    </a:cubicBezTo>
                    <a:close/>
                    <a:moveTo>
                      <a:pt x="7718" y="2"/>
                    </a:moveTo>
                    <a:lnTo>
                      <a:pt x="7718" y="2"/>
                    </a:lnTo>
                    <a:cubicBezTo>
                      <a:pt x="7719" y="2"/>
                      <a:pt x="7720" y="3"/>
                      <a:pt x="7720" y="4"/>
                    </a:cubicBezTo>
                    <a:cubicBezTo>
                      <a:pt x="7720" y="5"/>
                      <a:pt x="7719" y="6"/>
                      <a:pt x="7718" y="6"/>
                    </a:cubicBezTo>
                    <a:lnTo>
                      <a:pt x="7718" y="6"/>
                    </a:lnTo>
                    <a:cubicBezTo>
                      <a:pt x="7716" y="6"/>
                      <a:pt x="7716" y="5"/>
                      <a:pt x="7716" y="4"/>
                    </a:cubicBezTo>
                    <a:cubicBezTo>
                      <a:pt x="7716" y="3"/>
                      <a:pt x="7716" y="2"/>
                      <a:pt x="7718" y="2"/>
                    </a:cubicBezTo>
                    <a:close/>
                    <a:moveTo>
                      <a:pt x="7726" y="2"/>
                    </a:moveTo>
                    <a:lnTo>
                      <a:pt x="7726" y="2"/>
                    </a:lnTo>
                    <a:cubicBezTo>
                      <a:pt x="7727" y="2"/>
                      <a:pt x="7728" y="3"/>
                      <a:pt x="7728" y="4"/>
                    </a:cubicBezTo>
                    <a:cubicBezTo>
                      <a:pt x="7728" y="5"/>
                      <a:pt x="7727" y="6"/>
                      <a:pt x="7726" y="6"/>
                    </a:cubicBezTo>
                    <a:lnTo>
                      <a:pt x="7726" y="6"/>
                    </a:lnTo>
                    <a:cubicBezTo>
                      <a:pt x="7724" y="6"/>
                      <a:pt x="7724" y="5"/>
                      <a:pt x="7724" y="4"/>
                    </a:cubicBezTo>
                    <a:cubicBezTo>
                      <a:pt x="7724" y="3"/>
                      <a:pt x="7724" y="2"/>
                      <a:pt x="7726" y="2"/>
                    </a:cubicBezTo>
                    <a:close/>
                    <a:moveTo>
                      <a:pt x="7734" y="2"/>
                    </a:moveTo>
                    <a:lnTo>
                      <a:pt x="7734" y="2"/>
                    </a:lnTo>
                    <a:cubicBezTo>
                      <a:pt x="7735" y="2"/>
                      <a:pt x="7736" y="3"/>
                      <a:pt x="7736" y="4"/>
                    </a:cubicBezTo>
                    <a:cubicBezTo>
                      <a:pt x="7736" y="5"/>
                      <a:pt x="7735" y="6"/>
                      <a:pt x="7734" y="6"/>
                    </a:cubicBezTo>
                    <a:lnTo>
                      <a:pt x="7734" y="6"/>
                    </a:lnTo>
                    <a:cubicBezTo>
                      <a:pt x="7732" y="6"/>
                      <a:pt x="7732" y="5"/>
                      <a:pt x="7732" y="4"/>
                    </a:cubicBezTo>
                    <a:cubicBezTo>
                      <a:pt x="7732" y="3"/>
                      <a:pt x="7732" y="2"/>
                      <a:pt x="7734" y="2"/>
                    </a:cubicBezTo>
                    <a:close/>
                    <a:moveTo>
                      <a:pt x="7742" y="2"/>
                    </a:moveTo>
                    <a:lnTo>
                      <a:pt x="7742" y="2"/>
                    </a:lnTo>
                    <a:cubicBezTo>
                      <a:pt x="7743" y="2"/>
                      <a:pt x="7744" y="3"/>
                      <a:pt x="7744" y="4"/>
                    </a:cubicBezTo>
                    <a:cubicBezTo>
                      <a:pt x="7744" y="5"/>
                      <a:pt x="7743" y="6"/>
                      <a:pt x="7742" y="6"/>
                    </a:cubicBezTo>
                    <a:lnTo>
                      <a:pt x="7742" y="6"/>
                    </a:lnTo>
                    <a:cubicBezTo>
                      <a:pt x="7740" y="6"/>
                      <a:pt x="7740" y="5"/>
                      <a:pt x="7740" y="4"/>
                    </a:cubicBezTo>
                    <a:cubicBezTo>
                      <a:pt x="7740" y="3"/>
                      <a:pt x="7740" y="2"/>
                      <a:pt x="7742" y="2"/>
                    </a:cubicBezTo>
                    <a:close/>
                    <a:moveTo>
                      <a:pt x="7750" y="2"/>
                    </a:moveTo>
                    <a:lnTo>
                      <a:pt x="7750" y="2"/>
                    </a:lnTo>
                    <a:cubicBezTo>
                      <a:pt x="7751" y="2"/>
                      <a:pt x="7752" y="3"/>
                      <a:pt x="7752" y="4"/>
                    </a:cubicBezTo>
                    <a:cubicBezTo>
                      <a:pt x="7752" y="5"/>
                      <a:pt x="7751" y="6"/>
                      <a:pt x="7750" y="6"/>
                    </a:cubicBezTo>
                    <a:lnTo>
                      <a:pt x="7750" y="6"/>
                    </a:lnTo>
                    <a:cubicBezTo>
                      <a:pt x="7748" y="6"/>
                      <a:pt x="7748" y="5"/>
                      <a:pt x="7748" y="4"/>
                    </a:cubicBezTo>
                    <a:cubicBezTo>
                      <a:pt x="7748" y="3"/>
                      <a:pt x="7748" y="2"/>
                      <a:pt x="7750" y="2"/>
                    </a:cubicBezTo>
                    <a:close/>
                    <a:moveTo>
                      <a:pt x="7758" y="2"/>
                    </a:moveTo>
                    <a:lnTo>
                      <a:pt x="7758" y="2"/>
                    </a:lnTo>
                    <a:cubicBezTo>
                      <a:pt x="7759" y="2"/>
                      <a:pt x="7760" y="3"/>
                      <a:pt x="7760" y="4"/>
                    </a:cubicBezTo>
                    <a:cubicBezTo>
                      <a:pt x="7760" y="5"/>
                      <a:pt x="7759" y="6"/>
                      <a:pt x="7758" y="6"/>
                    </a:cubicBezTo>
                    <a:lnTo>
                      <a:pt x="7758" y="6"/>
                    </a:lnTo>
                    <a:cubicBezTo>
                      <a:pt x="7757" y="6"/>
                      <a:pt x="7756" y="5"/>
                      <a:pt x="7756" y="4"/>
                    </a:cubicBezTo>
                    <a:cubicBezTo>
                      <a:pt x="7756" y="3"/>
                      <a:pt x="7757" y="2"/>
                      <a:pt x="7758" y="2"/>
                    </a:cubicBezTo>
                    <a:close/>
                    <a:moveTo>
                      <a:pt x="7766" y="2"/>
                    </a:moveTo>
                    <a:lnTo>
                      <a:pt x="7766" y="2"/>
                    </a:lnTo>
                    <a:cubicBezTo>
                      <a:pt x="7767" y="2"/>
                      <a:pt x="7768" y="3"/>
                      <a:pt x="7768" y="4"/>
                    </a:cubicBezTo>
                    <a:cubicBezTo>
                      <a:pt x="7768" y="5"/>
                      <a:pt x="7767" y="6"/>
                      <a:pt x="7766" y="6"/>
                    </a:cubicBezTo>
                    <a:lnTo>
                      <a:pt x="7766" y="6"/>
                    </a:lnTo>
                    <a:cubicBezTo>
                      <a:pt x="7765" y="6"/>
                      <a:pt x="7764" y="5"/>
                      <a:pt x="7764" y="4"/>
                    </a:cubicBezTo>
                    <a:cubicBezTo>
                      <a:pt x="7764" y="3"/>
                      <a:pt x="7765" y="2"/>
                      <a:pt x="7766" y="2"/>
                    </a:cubicBezTo>
                    <a:close/>
                    <a:moveTo>
                      <a:pt x="7774" y="2"/>
                    </a:moveTo>
                    <a:lnTo>
                      <a:pt x="7774" y="2"/>
                    </a:lnTo>
                    <a:cubicBezTo>
                      <a:pt x="7775" y="2"/>
                      <a:pt x="7776" y="3"/>
                      <a:pt x="7776" y="4"/>
                    </a:cubicBezTo>
                    <a:cubicBezTo>
                      <a:pt x="7776" y="5"/>
                      <a:pt x="7775" y="6"/>
                      <a:pt x="7774" y="6"/>
                    </a:cubicBezTo>
                    <a:lnTo>
                      <a:pt x="7774" y="6"/>
                    </a:lnTo>
                    <a:cubicBezTo>
                      <a:pt x="7773" y="6"/>
                      <a:pt x="7772" y="5"/>
                      <a:pt x="7772" y="4"/>
                    </a:cubicBezTo>
                    <a:cubicBezTo>
                      <a:pt x="7772" y="3"/>
                      <a:pt x="7773" y="2"/>
                      <a:pt x="7774" y="2"/>
                    </a:cubicBezTo>
                    <a:close/>
                    <a:moveTo>
                      <a:pt x="7782" y="2"/>
                    </a:moveTo>
                    <a:lnTo>
                      <a:pt x="7782" y="2"/>
                    </a:lnTo>
                    <a:cubicBezTo>
                      <a:pt x="7783" y="2"/>
                      <a:pt x="7784" y="3"/>
                      <a:pt x="7784" y="4"/>
                    </a:cubicBezTo>
                    <a:cubicBezTo>
                      <a:pt x="7784" y="5"/>
                      <a:pt x="7783" y="6"/>
                      <a:pt x="7782" y="6"/>
                    </a:cubicBezTo>
                    <a:lnTo>
                      <a:pt x="7782" y="6"/>
                    </a:lnTo>
                    <a:cubicBezTo>
                      <a:pt x="7781" y="6"/>
                      <a:pt x="7780" y="5"/>
                      <a:pt x="7780" y="4"/>
                    </a:cubicBezTo>
                    <a:cubicBezTo>
                      <a:pt x="7780" y="3"/>
                      <a:pt x="7781" y="2"/>
                      <a:pt x="7782" y="2"/>
                    </a:cubicBezTo>
                    <a:close/>
                    <a:moveTo>
                      <a:pt x="7790" y="2"/>
                    </a:moveTo>
                    <a:lnTo>
                      <a:pt x="7790" y="2"/>
                    </a:lnTo>
                    <a:cubicBezTo>
                      <a:pt x="7791" y="2"/>
                      <a:pt x="7792" y="3"/>
                      <a:pt x="7792" y="4"/>
                    </a:cubicBezTo>
                    <a:cubicBezTo>
                      <a:pt x="7792" y="5"/>
                      <a:pt x="7791" y="6"/>
                      <a:pt x="7790" y="6"/>
                    </a:cubicBezTo>
                    <a:lnTo>
                      <a:pt x="7790" y="6"/>
                    </a:lnTo>
                    <a:cubicBezTo>
                      <a:pt x="7789" y="6"/>
                      <a:pt x="7788" y="5"/>
                      <a:pt x="7788" y="4"/>
                    </a:cubicBezTo>
                    <a:cubicBezTo>
                      <a:pt x="7788" y="3"/>
                      <a:pt x="7789" y="2"/>
                      <a:pt x="7790" y="2"/>
                    </a:cubicBezTo>
                    <a:close/>
                    <a:moveTo>
                      <a:pt x="7798" y="2"/>
                    </a:moveTo>
                    <a:lnTo>
                      <a:pt x="7798" y="2"/>
                    </a:lnTo>
                    <a:cubicBezTo>
                      <a:pt x="7799" y="2"/>
                      <a:pt x="7800" y="3"/>
                      <a:pt x="7800" y="4"/>
                    </a:cubicBezTo>
                    <a:cubicBezTo>
                      <a:pt x="7800" y="5"/>
                      <a:pt x="7799" y="6"/>
                      <a:pt x="7798" y="6"/>
                    </a:cubicBezTo>
                    <a:lnTo>
                      <a:pt x="7798" y="6"/>
                    </a:lnTo>
                    <a:cubicBezTo>
                      <a:pt x="7797" y="6"/>
                      <a:pt x="7796" y="5"/>
                      <a:pt x="7796" y="4"/>
                    </a:cubicBezTo>
                    <a:cubicBezTo>
                      <a:pt x="7796" y="3"/>
                      <a:pt x="7797" y="2"/>
                      <a:pt x="7798" y="2"/>
                    </a:cubicBezTo>
                    <a:close/>
                    <a:moveTo>
                      <a:pt x="7806" y="2"/>
                    </a:moveTo>
                    <a:lnTo>
                      <a:pt x="7806" y="2"/>
                    </a:lnTo>
                    <a:cubicBezTo>
                      <a:pt x="7807" y="2"/>
                      <a:pt x="7808" y="3"/>
                      <a:pt x="7808" y="4"/>
                    </a:cubicBezTo>
                    <a:cubicBezTo>
                      <a:pt x="7808" y="5"/>
                      <a:pt x="7807" y="6"/>
                      <a:pt x="7806" y="6"/>
                    </a:cubicBezTo>
                    <a:lnTo>
                      <a:pt x="7806" y="6"/>
                    </a:lnTo>
                    <a:cubicBezTo>
                      <a:pt x="7805" y="6"/>
                      <a:pt x="7804" y="5"/>
                      <a:pt x="7804" y="4"/>
                    </a:cubicBezTo>
                    <a:cubicBezTo>
                      <a:pt x="7804" y="3"/>
                      <a:pt x="7805" y="2"/>
                      <a:pt x="7806" y="2"/>
                    </a:cubicBezTo>
                    <a:close/>
                    <a:moveTo>
                      <a:pt x="7814" y="2"/>
                    </a:moveTo>
                    <a:lnTo>
                      <a:pt x="7814" y="2"/>
                    </a:lnTo>
                    <a:cubicBezTo>
                      <a:pt x="7815" y="2"/>
                      <a:pt x="7816" y="3"/>
                      <a:pt x="7816" y="4"/>
                    </a:cubicBezTo>
                    <a:cubicBezTo>
                      <a:pt x="7816" y="5"/>
                      <a:pt x="7815" y="6"/>
                      <a:pt x="7814" y="6"/>
                    </a:cubicBezTo>
                    <a:lnTo>
                      <a:pt x="7814" y="6"/>
                    </a:lnTo>
                    <a:cubicBezTo>
                      <a:pt x="7813" y="6"/>
                      <a:pt x="7812" y="5"/>
                      <a:pt x="7812" y="4"/>
                    </a:cubicBezTo>
                    <a:cubicBezTo>
                      <a:pt x="7812" y="3"/>
                      <a:pt x="7813" y="2"/>
                      <a:pt x="7814" y="2"/>
                    </a:cubicBezTo>
                    <a:close/>
                    <a:moveTo>
                      <a:pt x="7822" y="2"/>
                    </a:moveTo>
                    <a:lnTo>
                      <a:pt x="7822" y="2"/>
                    </a:lnTo>
                    <a:cubicBezTo>
                      <a:pt x="7823" y="2"/>
                      <a:pt x="7824" y="3"/>
                      <a:pt x="7824" y="4"/>
                    </a:cubicBezTo>
                    <a:cubicBezTo>
                      <a:pt x="7824" y="5"/>
                      <a:pt x="7823" y="6"/>
                      <a:pt x="7822" y="6"/>
                    </a:cubicBezTo>
                    <a:lnTo>
                      <a:pt x="7822" y="6"/>
                    </a:lnTo>
                    <a:cubicBezTo>
                      <a:pt x="7821" y="6"/>
                      <a:pt x="7820" y="5"/>
                      <a:pt x="7820" y="4"/>
                    </a:cubicBezTo>
                    <a:cubicBezTo>
                      <a:pt x="7820" y="3"/>
                      <a:pt x="7821" y="2"/>
                      <a:pt x="7822" y="2"/>
                    </a:cubicBezTo>
                    <a:close/>
                    <a:moveTo>
                      <a:pt x="7830" y="2"/>
                    </a:moveTo>
                    <a:lnTo>
                      <a:pt x="7830" y="2"/>
                    </a:lnTo>
                    <a:cubicBezTo>
                      <a:pt x="7831" y="2"/>
                      <a:pt x="7832" y="3"/>
                      <a:pt x="7832" y="4"/>
                    </a:cubicBezTo>
                    <a:cubicBezTo>
                      <a:pt x="7832" y="5"/>
                      <a:pt x="7831" y="6"/>
                      <a:pt x="7830" y="6"/>
                    </a:cubicBezTo>
                    <a:lnTo>
                      <a:pt x="7830" y="6"/>
                    </a:lnTo>
                    <a:cubicBezTo>
                      <a:pt x="7829" y="6"/>
                      <a:pt x="7828" y="5"/>
                      <a:pt x="7828" y="4"/>
                    </a:cubicBezTo>
                    <a:cubicBezTo>
                      <a:pt x="7828" y="3"/>
                      <a:pt x="7829" y="2"/>
                      <a:pt x="7830" y="2"/>
                    </a:cubicBezTo>
                    <a:close/>
                    <a:moveTo>
                      <a:pt x="7838" y="2"/>
                    </a:moveTo>
                    <a:lnTo>
                      <a:pt x="7838" y="2"/>
                    </a:lnTo>
                    <a:cubicBezTo>
                      <a:pt x="7839" y="2"/>
                      <a:pt x="7840" y="3"/>
                      <a:pt x="7840" y="4"/>
                    </a:cubicBezTo>
                    <a:cubicBezTo>
                      <a:pt x="7840" y="5"/>
                      <a:pt x="7839" y="6"/>
                      <a:pt x="7838" y="6"/>
                    </a:cubicBezTo>
                    <a:lnTo>
                      <a:pt x="7838" y="6"/>
                    </a:lnTo>
                    <a:cubicBezTo>
                      <a:pt x="7837" y="6"/>
                      <a:pt x="7836" y="5"/>
                      <a:pt x="7836" y="4"/>
                    </a:cubicBezTo>
                    <a:cubicBezTo>
                      <a:pt x="7836" y="3"/>
                      <a:pt x="7837" y="2"/>
                      <a:pt x="7838" y="2"/>
                    </a:cubicBezTo>
                    <a:close/>
                    <a:moveTo>
                      <a:pt x="7846" y="2"/>
                    </a:moveTo>
                    <a:lnTo>
                      <a:pt x="7846" y="2"/>
                    </a:lnTo>
                    <a:cubicBezTo>
                      <a:pt x="7847" y="2"/>
                      <a:pt x="7848" y="3"/>
                      <a:pt x="7848" y="4"/>
                    </a:cubicBezTo>
                    <a:cubicBezTo>
                      <a:pt x="7848" y="5"/>
                      <a:pt x="7847" y="6"/>
                      <a:pt x="7846" y="6"/>
                    </a:cubicBezTo>
                    <a:lnTo>
                      <a:pt x="7846" y="6"/>
                    </a:lnTo>
                    <a:cubicBezTo>
                      <a:pt x="7845" y="6"/>
                      <a:pt x="7844" y="5"/>
                      <a:pt x="7844" y="4"/>
                    </a:cubicBezTo>
                    <a:cubicBezTo>
                      <a:pt x="7844" y="3"/>
                      <a:pt x="7845" y="2"/>
                      <a:pt x="7846" y="2"/>
                    </a:cubicBezTo>
                    <a:close/>
                    <a:moveTo>
                      <a:pt x="7854" y="2"/>
                    </a:moveTo>
                    <a:lnTo>
                      <a:pt x="7854" y="2"/>
                    </a:lnTo>
                    <a:cubicBezTo>
                      <a:pt x="7855" y="2"/>
                      <a:pt x="7856" y="3"/>
                      <a:pt x="7856" y="4"/>
                    </a:cubicBezTo>
                    <a:cubicBezTo>
                      <a:pt x="7856" y="5"/>
                      <a:pt x="7855" y="6"/>
                      <a:pt x="7854" y="6"/>
                    </a:cubicBezTo>
                    <a:lnTo>
                      <a:pt x="7854" y="6"/>
                    </a:lnTo>
                    <a:cubicBezTo>
                      <a:pt x="7853" y="6"/>
                      <a:pt x="7852" y="5"/>
                      <a:pt x="7852" y="4"/>
                    </a:cubicBezTo>
                    <a:cubicBezTo>
                      <a:pt x="7852" y="3"/>
                      <a:pt x="7853" y="2"/>
                      <a:pt x="7854" y="2"/>
                    </a:cubicBezTo>
                    <a:close/>
                    <a:moveTo>
                      <a:pt x="7862" y="2"/>
                    </a:moveTo>
                    <a:lnTo>
                      <a:pt x="7862" y="2"/>
                    </a:lnTo>
                    <a:cubicBezTo>
                      <a:pt x="7863" y="2"/>
                      <a:pt x="7864" y="3"/>
                      <a:pt x="7864" y="4"/>
                    </a:cubicBezTo>
                    <a:cubicBezTo>
                      <a:pt x="7864" y="5"/>
                      <a:pt x="7863" y="6"/>
                      <a:pt x="7862" y="6"/>
                    </a:cubicBezTo>
                    <a:lnTo>
                      <a:pt x="7862" y="6"/>
                    </a:lnTo>
                    <a:cubicBezTo>
                      <a:pt x="7861" y="6"/>
                      <a:pt x="7860" y="5"/>
                      <a:pt x="7860" y="4"/>
                    </a:cubicBezTo>
                    <a:cubicBezTo>
                      <a:pt x="7860" y="3"/>
                      <a:pt x="7861" y="2"/>
                      <a:pt x="7862" y="2"/>
                    </a:cubicBezTo>
                    <a:close/>
                    <a:moveTo>
                      <a:pt x="7870" y="2"/>
                    </a:moveTo>
                    <a:lnTo>
                      <a:pt x="7870" y="2"/>
                    </a:lnTo>
                    <a:cubicBezTo>
                      <a:pt x="7871" y="2"/>
                      <a:pt x="7872" y="3"/>
                      <a:pt x="7872" y="4"/>
                    </a:cubicBezTo>
                    <a:cubicBezTo>
                      <a:pt x="7872" y="5"/>
                      <a:pt x="7871" y="6"/>
                      <a:pt x="7870" y="6"/>
                    </a:cubicBezTo>
                    <a:lnTo>
                      <a:pt x="7870" y="6"/>
                    </a:lnTo>
                    <a:cubicBezTo>
                      <a:pt x="7869" y="6"/>
                      <a:pt x="7868" y="5"/>
                      <a:pt x="7868" y="4"/>
                    </a:cubicBezTo>
                    <a:cubicBezTo>
                      <a:pt x="7868" y="3"/>
                      <a:pt x="7869" y="2"/>
                      <a:pt x="7870" y="2"/>
                    </a:cubicBezTo>
                    <a:close/>
                    <a:moveTo>
                      <a:pt x="7878" y="2"/>
                    </a:moveTo>
                    <a:lnTo>
                      <a:pt x="7878" y="2"/>
                    </a:lnTo>
                    <a:cubicBezTo>
                      <a:pt x="7879" y="2"/>
                      <a:pt x="7880" y="3"/>
                      <a:pt x="7880" y="4"/>
                    </a:cubicBezTo>
                    <a:cubicBezTo>
                      <a:pt x="7880" y="5"/>
                      <a:pt x="7879" y="6"/>
                      <a:pt x="7878" y="6"/>
                    </a:cubicBezTo>
                    <a:lnTo>
                      <a:pt x="7878" y="6"/>
                    </a:lnTo>
                    <a:cubicBezTo>
                      <a:pt x="7877" y="6"/>
                      <a:pt x="7876" y="5"/>
                      <a:pt x="7876" y="4"/>
                    </a:cubicBezTo>
                    <a:cubicBezTo>
                      <a:pt x="7876" y="3"/>
                      <a:pt x="7877" y="2"/>
                      <a:pt x="7878" y="2"/>
                    </a:cubicBezTo>
                    <a:close/>
                    <a:moveTo>
                      <a:pt x="7886" y="2"/>
                    </a:moveTo>
                    <a:lnTo>
                      <a:pt x="7886" y="2"/>
                    </a:lnTo>
                    <a:cubicBezTo>
                      <a:pt x="7887" y="2"/>
                      <a:pt x="7888" y="3"/>
                      <a:pt x="7888" y="4"/>
                    </a:cubicBezTo>
                    <a:cubicBezTo>
                      <a:pt x="7888" y="5"/>
                      <a:pt x="7887" y="6"/>
                      <a:pt x="7886" y="6"/>
                    </a:cubicBezTo>
                    <a:lnTo>
                      <a:pt x="7886" y="6"/>
                    </a:lnTo>
                    <a:cubicBezTo>
                      <a:pt x="7885" y="6"/>
                      <a:pt x="7884" y="5"/>
                      <a:pt x="7884" y="4"/>
                    </a:cubicBezTo>
                    <a:cubicBezTo>
                      <a:pt x="7884" y="3"/>
                      <a:pt x="7885" y="2"/>
                      <a:pt x="7886" y="2"/>
                    </a:cubicBezTo>
                    <a:close/>
                    <a:moveTo>
                      <a:pt x="7894" y="2"/>
                    </a:moveTo>
                    <a:lnTo>
                      <a:pt x="7894" y="2"/>
                    </a:lnTo>
                    <a:cubicBezTo>
                      <a:pt x="7895" y="2"/>
                      <a:pt x="7896" y="3"/>
                      <a:pt x="7896" y="4"/>
                    </a:cubicBezTo>
                    <a:cubicBezTo>
                      <a:pt x="7896" y="5"/>
                      <a:pt x="7895" y="6"/>
                      <a:pt x="7894" y="6"/>
                    </a:cubicBezTo>
                    <a:lnTo>
                      <a:pt x="7894" y="6"/>
                    </a:lnTo>
                    <a:cubicBezTo>
                      <a:pt x="7893" y="6"/>
                      <a:pt x="7892" y="5"/>
                      <a:pt x="7892" y="4"/>
                    </a:cubicBezTo>
                    <a:cubicBezTo>
                      <a:pt x="7892" y="3"/>
                      <a:pt x="7893" y="2"/>
                      <a:pt x="7894" y="2"/>
                    </a:cubicBezTo>
                    <a:close/>
                    <a:moveTo>
                      <a:pt x="7902" y="2"/>
                    </a:moveTo>
                    <a:lnTo>
                      <a:pt x="7902" y="2"/>
                    </a:lnTo>
                    <a:cubicBezTo>
                      <a:pt x="7903" y="2"/>
                      <a:pt x="7904" y="3"/>
                      <a:pt x="7904" y="4"/>
                    </a:cubicBezTo>
                    <a:cubicBezTo>
                      <a:pt x="7904" y="5"/>
                      <a:pt x="7903" y="6"/>
                      <a:pt x="7902" y="6"/>
                    </a:cubicBezTo>
                    <a:lnTo>
                      <a:pt x="7902" y="6"/>
                    </a:lnTo>
                    <a:cubicBezTo>
                      <a:pt x="7901" y="6"/>
                      <a:pt x="7900" y="5"/>
                      <a:pt x="7900" y="4"/>
                    </a:cubicBezTo>
                    <a:cubicBezTo>
                      <a:pt x="7900" y="3"/>
                      <a:pt x="7901" y="2"/>
                      <a:pt x="7902" y="2"/>
                    </a:cubicBezTo>
                    <a:close/>
                    <a:moveTo>
                      <a:pt x="7910" y="2"/>
                    </a:moveTo>
                    <a:lnTo>
                      <a:pt x="7910" y="2"/>
                    </a:lnTo>
                    <a:cubicBezTo>
                      <a:pt x="7911" y="2"/>
                      <a:pt x="7912" y="3"/>
                      <a:pt x="7912" y="4"/>
                    </a:cubicBezTo>
                    <a:cubicBezTo>
                      <a:pt x="7912" y="5"/>
                      <a:pt x="7911" y="6"/>
                      <a:pt x="7910" y="6"/>
                    </a:cubicBezTo>
                    <a:lnTo>
                      <a:pt x="7910" y="6"/>
                    </a:lnTo>
                    <a:cubicBezTo>
                      <a:pt x="7909" y="6"/>
                      <a:pt x="7908" y="5"/>
                      <a:pt x="7908" y="4"/>
                    </a:cubicBezTo>
                    <a:cubicBezTo>
                      <a:pt x="7908" y="3"/>
                      <a:pt x="7909" y="2"/>
                      <a:pt x="7910" y="2"/>
                    </a:cubicBezTo>
                    <a:close/>
                    <a:moveTo>
                      <a:pt x="7918" y="2"/>
                    </a:moveTo>
                    <a:lnTo>
                      <a:pt x="7918" y="2"/>
                    </a:lnTo>
                    <a:cubicBezTo>
                      <a:pt x="7919" y="2"/>
                      <a:pt x="7920" y="3"/>
                      <a:pt x="7920" y="4"/>
                    </a:cubicBezTo>
                    <a:cubicBezTo>
                      <a:pt x="7920" y="5"/>
                      <a:pt x="7919" y="6"/>
                      <a:pt x="7918" y="6"/>
                    </a:cubicBezTo>
                    <a:lnTo>
                      <a:pt x="7918" y="6"/>
                    </a:lnTo>
                    <a:cubicBezTo>
                      <a:pt x="7917" y="6"/>
                      <a:pt x="7916" y="5"/>
                      <a:pt x="7916" y="4"/>
                    </a:cubicBezTo>
                    <a:cubicBezTo>
                      <a:pt x="7916" y="3"/>
                      <a:pt x="7917" y="2"/>
                      <a:pt x="7918" y="2"/>
                    </a:cubicBezTo>
                    <a:close/>
                    <a:moveTo>
                      <a:pt x="7926" y="2"/>
                    </a:moveTo>
                    <a:lnTo>
                      <a:pt x="7926" y="2"/>
                    </a:lnTo>
                    <a:cubicBezTo>
                      <a:pt x="7927" y="2"/>
                      <a:pt x="7928" y="3"/>
                      <a:pt x="7928" y="4"/>
                    </a:cubicBezTo>
                    <a:cubicBezTo>
                      <a:pt x="7928" y="5"/>
                      <a:pt x="7927" y="6"/>
                      <a:pt x="7926" y="6"/>
                    </a:cubicBezTo>
                    <a:lnTo>
                      <a:pt x="7926" y="6"/>
                    </a:lnTo>
                    <a:cubicBezTo>
                      <a:pt x="7925" y="6"/>
                      <a:pt x="7924" y="5"/>
                      <a:pt x="7924" y="4"/>
                    </a:cubicBezTo>
                    <a:cubicBezTo>
                      <a:pt x="7924" y="3"/>
                      <a:pt x="7925" y="2"/>
                      <a:pt x="7926" y="2"/>
                    </a:cubicBezTo>
                    <a:close/>
                    <a:moveTo>
                      <a:pt x="7934" y="2"/>
                    </a:moveTo>
                    <a:lnTo>
                      <a:pt x="7934" y="2"/>
                    </a:lnTo>
                    <a:cubicBezTo>
                      <a:pt x="7935" y="2"/>
                      <a:pt x="7936" y="3"/>
                      <a:pt x="7936" y="4"/>
                    </a:cubicBezTo>
                    <a:cubicBezTo>
                      <a:pt x="7936" y="5"/>
                      <a:pt x="7935" y="6"/>
                      <a:pt x="7934" y="6"/>
                    </a:cubicBezTo>
                    <a:lnTo>
                      <a:pt x="7934" y="6"/>
                    </a:lnTo>
                    <a:cubicBezTo>
                      <a:pt x="7933" y="6"/>
                      <a:pt x="7932" y="5"/>
                      <a:pt x="7932" y="4"/>
                    </a:cubicBezTo>
                    <a:cubicBezTo>
                      <a:pt x="7932" y="3"/>
                      <a:pt x="7933" y="2"/>
                      <a:pt x="7934" y="2"/>
                    </a:cubicBezTo>
                    <a:close/>
                    <a:moveTo>
                      <a:pt x="7942" y="2"/>
                    </a:moveTo>
                    <a:lnTo>
                      <a:pt x="7942" y="2"/>
                    </a:lnTo>
                    <a:cubicBezTo>
                      <a:pt x="7943" y="2"/>
                      <a:pt x="7944" y="3"/>
                      <a:pt x="7944" y="4"/>
                    </a:cubicBezTo>
                    <a:cubicBezTo>
                      <a:pt x="7944" y="5"/>
                      <a:pt x="7943" y="6"/>
                      <a:pt x="7942" y="6"/>
                    </a:cubicBezTo>
                    <a:lnTo>
                      <a:pt x="7942" y="6"/>
                    </a:lnTo>
                    <a:cubicBezTo>
                      <a:pt x="7941" y="6"/>
                      <a:pt x="7940" y="5"/>
                      <a:pt x="7940" y="4"/>
                    </a:cubicBezTo>
                    <a:cubicBezTo>
                      <a:pt x="7940" y="3"/>
                      <a:pt x="7941" y="2"/>
                      <a:pt x="7942" y="2"/>
                    </a:cubicBezTo>
                    <a:close/>
                    <a:moveTo>
                      <a:pt x="7950" y="2"/>
                    </a:moveTo>
                    <a:lnTo>
                      <a:pt x="7950" y="2"/>
                    </a:lnTo>
                    <a:cubicBezTo>
                      <a:pt x="7951" y="2"/>
                      <a:pt x="7952" y="3"/>
                      <a:pt x="7952" y="4"/>
                    </a:cubicBezTo>
                    <a:cubicBezTo>
                      <a:pt x="7952" y="5"/>
                      <a:pt x="7951" y="6"/>
                      <a:pt x="7950" y="6"/>
                    </a:cubicBezTo>
                    <a:lnTo>
                      <a:pt x="7950" y="6"/>
                    </a:lnTo>
                    <a:cubicBezTo>
                      <a:pt x="7949" y="6"/>
                      <a:pt x="7948" y="5"/>
                      <a:pt x="7948" y="4"/>
                    </a:cubicBezTo>
                    <a:cubicBezTo>
                      <a:pt x="7948" y="3"/>
                      <a:pt x="7949" y="2"/>
                      <a:pt x="7950" y="2"/>
                    </a:cubicBezTo>
                    <a:close/>
                    <a:moveTo>
                      <a:pt x="7958" y="2"/>
                    </a:moveTo>
                    <a:lnTo>
                      <a:pt x="7958" y="2"/>
                    </a:lnTo>
                    <a:cubicBezTo>
                      <a:pt x="7959" y="2"/>
                      <a:pt x="7960" y="3"/>
                      <a:pt x="7960" y="4"/>
                    </a:cubicBezTo>
                    <a:cubicBezTo>
                      <a:pt x="7960" y="5"/>
                      <a:pt x="7959" y="6"/>
                      <a:pt x="7958" y="6"/>
                    </a:cubicBezTo>
                    <a:lnTo>
                      <a:pt x="7958" y="6"/>
                    </a:lnTo>
                    <a:cubicBezTo>
                      <a:pt x="7957" y="6"/>
                      <a:pt x="7956" y="5"/>
                      <a:pt x="7956" y="4"/>
                    </a:cubicBezTo>
                    <a:cubicBezTo>
                      <a:pt x="7956" y="3"/>
                      <a:pt x="7957" y="2"/>
                      <a:pt x="7958" y="2"/>
                    </a:cubicBezTo>
                    <a:close/>
                    <a:moveTo>
                      <a:pt x="7966" y="2"/>
                    </a:moveTo>
                    <a:lnTo>
                      <a:pt x="7966" y="2"/>
                    </a:lnTo>
                    <a:cubicBezTo>
                      <a:pt x="7967" y="2"/>
                      <a:pt x="7968" y="3"/>
                      <a:pt x="7968" y="4"/>
                    </a:cubicBezTo>
                    <a:cubicBezTo>
                      <a:pt x="7968" y="5"/>
                      <a:pt x="7967" y="6"/>
                      <a:pt x="7966" y="6"/>
                    </a:cubicBezTo>
                    <a:lnTo>
                      <a:pt x="7966" y="6"/>
                    </a:lnTo>
                    <a:cubicBezTo>
                      <a:pt x="7965" y="6"/>
                      <a:pt x="7964" y="5"/>
                      <a:pt x="7964" y="4"/>
                    </a:cubicBezTo>
                    <a:cubicBezTo>
                      <a:pt x="7964" y="3"/>
                      <a:pt x="7965" y="2"/>
                      <a:pt x="7966" y="2"/>
                    </a:cubicBezTo>
                    <a:close/>
                    <a:moveTo>
                      <a:pt x="7974" y="2"/>
                    </a:moveTo>
                    <a:lnTo>
                      <a:pt x="7974" y="2"/>
                    </a:lnTo>
                    <a:cubicBezTo>
                      <a:pt x="7975" y="2"/>
                      <a:pt x="7976" y="3"/>
                      <a:pt x="7976" y="4"/>
                    </a:cubicBezTo>
                    <a:cubicBezTo>
                      <a:pt x="7976" y="5"/>
                      <a:pt x="7975" y="6"/>
                      <a:pt x="7974" y="6"/>
                    </a:cubicBezTo>
                    <a:lnTo>
                      <a:pt x="7974" y="6"/>
                    </a:lnTo>
                    <a:cubicBezTo>
                      <a:pt x="7973" y="6"/>
                      <a:pt x="7972" y="5"/>
                      <a:pt x="7972" y="4"/>
                    </a:cubicBezTo>
                    <a:cubicBezTo>
                      <a:pt x="7972" y="3"/>
                      <a:pt x="7973" y="2"/>
                      <a:pt x="7974" y="2"/>
                    </a:cubicBezTo>
                    <a:close/>
                    <a:moveTo>
                      <a:pt x="7982" y="2"/>
                    </a:moveTo>
                    <a:lnTo>
                      <a:pt x="7982" y="2"/>
                    </a:lnTo>
                    <a:cubicBezTo>
                      <a:pt x="7983" y="2"/>
                      <a:pt x="7984" y="3"/>
                      <a:pt x="7984" y="4"/>
                    </a:cubicBezTo>
                    <a:cubicBezTo>
                      <a:pt x="7984" y="5"/>
                      <a:pt x="7983" y="6"/>
                      <a:pt x="7982" y="6"/>
                    </a:cubicBezTo>
                    <a:lnTo>
                      <a:pt x="7982" y="6"/>
                    </a:lnTo>
                    <a:cubicBezTo>
                      <a:pt x="7981" y="6"/>
                      <a:pt x="7980" y="5"/>
                      <a:pt x="7980" y="4"/>
                    </a:cubicBezTo>
                    <a:cubicBezTo>
                      <a:pt x="7980" y="3"/>
                      <a:pt x="7981" y="2"/>
                      <a:pt x="7982" y="2"/>
                    </a:cubicBezTo>
                    <a:close/>
                    <a:moveTo>
                      <a:pt x="7990" y="2"/>
                    </a:moveTo>
                    <a:lnTo>
                      <a:pt x="7990" y="2"/>
                    </a:lnTo>
                    <a:cubicBezTo>
                      <a:pt x="7991" y="2"/>
                      <a:pt x="7992" y="3"/>
                      <a:pt x="7992" y="4"/>
                    </a:cubicBezTo>
                    <a:cubicBezTo>
                      <a:pt x="7992" y="5"/>
                      <a:pt x="7991" y="6"/>
                      <a:pt x="7990" y="6"/>
                    </a:cubicBezTo>
                    <a:lnTo>
                      <a:pt x="7990" y="6"/>
                    </a:lnTo>
                    <a:cubicBezTo>
                      <a:pt x="7989" y="6"/>
                      <a:pt x="7988" y="5"/>
                      <a:pt x="7988" y="4"/>
                    </a:cubicBezTo>
                    <a:cubicBezTo>
                      <a:pt x="7988" y="3"/>
                      <a:pt x="7989" y="2"/>
                      <a:pt x="7990" y="2"/>
                    </a:cubicBezTo>
                    <a:close/>
                    <a:moveTo>
                      <a:pt x="7998" y="2"/>
                    </a:moveTo>
                    <a:lnTo>
                      <a:pt x="7998" y="2"/>
                    </a:lnTo>
                    <a:cubicBezTo>
                      <a:pt x="7999" y="2"/>
                      <a:pt x="8000" y="3"/>
                      <a:pt x="8000" y="4"/>
                    </a:cubicBezTo>
                    <a:cubicBezTo>
                      <a:pt x="8000" y="5"/>
                      <a:pt x="7999" y="6"/>
                      <a:pt x="7998" y="6"/>
                    </a:cubicBezTo>
                    <a:lnTo>
                      <a:pt x="7998" y="6"/>
                    </a:lnTo>
                    <a:cubicBezTo>
                      <a:pt x="7997" y="6"/>
                      <a:pt x="7996" y="5"/>
                      <a:pt x="7996" y="4"/>
                    </a:cubicBezTo>
                    <a:cubicBezTo>
                      <a:pt x="7996" y="3"/>
                      <a:pt x="7997" y="2"/>
                      <a:pt x="7998" y="2"/>
                    </a:cubicBezTo>
                    <a:close/>
                    <a:moveTo>
                      <a:pt x="8006" y="2"/>
                    </a:moveTo>
                    <a:lnTo>
                      <a:pt x="8006" y="2"/>
                    </a:lnTo>
                    <a:cubicBezTo>
                      <a:pt x="8007" y="2"/>
                      <a:pt x="8008" y="3"/>
                      <a:pt x="8008" y="4"/>
                    </a:cubicBezTo>
                    <a:cubicBezTo>
                      <a:pt x="8008" y="5"/>
                      <a:pt x="8007" y="6"/>
                      <a:pt x="8006" y="6"/>
                    </a:cubicBezTo>
                    <a:lnTo>
                      <a:pt x="8006" y="6"/>
                    </a:lnTo>
                    <a:cubicBezTo>
                      <a:pt x="8005" y="6"/>
                      <a:pt x="8004" y="5"/>
                      <a:pt x="8004" y="4"/>
                    </a:cubicBezTo>
                    <a:cubicBezTo>
                      <a:pt x="8004" y="3"/>
                      <a:pt x="8005" y="2"/>
                      <a:pt x="8006" y="2"/>
                    </a:cubicBezTo>
                    <a:close/>
                    <a:moveTo>
                      <a:pt x="8014" y="2"/>
                    </a:moveTo>
                    <a:lnTo>
                      <a:pt x="8014" y="2"/>
                    </a:lnTo>
                    <a:cubicBezTo>
                      <a:pt x="8015" y="2"/>
                      <a:pt x="8016" y="3"/>
                      <a:pt x="8016" y="4"/>
                    </a:cubicBezTo>
                    <a:cubicBezTo>
                      <a:pt x="8016" y="5"/>
                      <a:pt x="8015" y="6"/>
                      <a:pt x="8014" y="6"/>
                    </a:cubicBezTo>
                    <a:lnTo>
                      <a:pt x="8014" y="6"/>
                    </a:lnTo>
                    <a:cubicBezTo>
                      <a:pt x="8013" y="6"/>
                      <a:pt x="8012" y="5"/>
                      <a:pt x="8012" y="4"/>
                    </a:cubicBezTo>
                    <a:cubicBezTo>
                      <a:pt x="8012" y="3"/>
                      <a:pt x="8013" y="2"/>
                      <a:pt x="8014" y="2"/>
                    </a:cubicBezTo>
                    <a:close/>
                    <a:moveTo>
                      <a:pt x="8022" y="2"/>
                    </a:moveTo>
                    <a:lnTo>
                      <a:pt x="8022" y="2"/>
                    </a:lnTo>
                    <a:cubicBezTo>
                      <a:pt x="8023" y="2"/>
                      <a:pt x="8024" y="3"/>
                      <a:pt x="8024" y="4"/>
                    </a:cubicBezTo>
                    <a:cubicBezTo>
                      <a:pt x="8024" y="5"/>
                      <a:pt x="8023" y="6"/>
                      <a:pt x="8022" y="6"/>
                    </a:cubicBezTo>
                    <a:lnTo>
                      <a:pt x="8022" y="6"/>
                    </a:lnTo>
                    <a:cubicBezTo>
                      <a:pt x="8021" y="6"/>
                      <a:pt x="8020" y="5"/>
                      <a:pt x="8020" y="4"/>
                    </a:cubicBezTo>
                    <a:cubicBezTo>
                      <a:pt x="8020" y="3"/>
                      <a:pt x="8021" y="2"/>
                      <a:pt x="8022" y="2"/>
                    </a:cubicBezTo>
                    <a:close/>
                    <a:moveTo>
                      <a:pt x="8030" y="2"/>
                    </a:moveTo>
                    <a:lnTo>
                      <a:pt x="8030" y="2"/>
                    </a:lnTo>
                    <a:cubicBezTo>
                      <a:pt x="8031" y="2"/>
                      <a:pt x="8032" y="3"/>
                      <a:pt x="8032" y="4"/>
                    </a:cubicBezTo>
                    <a:cubicBezTo>
                      <a:pt x="8032" y="5"/>
                      <a:pt x="8031" y="6"/>
                      <a:pt x="8030" y="6"/>
                    </a:cubicBezTo>
                    <a:lnTo>
                      <a:pt x="8030" y="6"/>
                    </a:lnTo>
                    <a:cubicBezTo>
                      <a:pt x="8029" y="6"/>
                      <a:pt x="8028" y="5"/>
                      <a:pt x="8028" y="4"/>
                    </a:cubicBezTo>
                    <a:cubicBezTo>
                      <a:pt x="8028" y="3"/>
                      <a:pt x="8029" y="2"/>
                      <a:pt x="8030" y="2"/>
                    </a:cubicBezTo>
                    <a:close/>
                    <a:moveTo>
                      <a:pt x="8038" y="2"/>
                    </a:moveTo>
                    <a:lnTo>
                      <a:pt x="8038" y="2"/>
                    </a:lnTo>
                    <a:cubicBezTo>
                      <a:pt x="8039" y="2"/>
                      <a:pt x="8040" y="3"/>
                      <a:pt x="8040" y="4"/>
                    </a:cubicBezTo>
                    <a:cubicBezTo>
                      <a:pt x="8040" y="5"/>
                      <a:pt x="8039" y="6"/>
                      <a:pt x="8038" y="6"/>
                    </a:cubicBezTo>
                    <a:lnTo>
                      <a:pt x="8038" y="6"/>
                    </a:lnTo>
                    <a:cubicBezTo>
                      <a:pt x="8037" y="6"/>
                      <a:pt x="8036" y="5"/>
                      <a:pt x="8036" y="4"/>
                    </a:cubicBezTo>
                    <a:cubicBezTo>
                      <a:pt x="8036" y="3"/>
                      <a:pt x="8037" y="2"/>
                      <a:pt x="8038" y="2"/>
                    </a:cubicBezTo>
                    <a:close/>
                    <a:moveTo>
                      <a:pt x="8046" y="2"/>
                    </a:moveTo>
                    <a:lnTo>
                      <a:pt x="8046" y="2"/>
                    </a:lnTo>
                    <a:cubicBezTo>
                      <a:pt x="8047" y="2"/>
                      <a:pt x="8048" y="3"/>
                      <a:pt x="8048" y="4"/>
                    </a:cubicBezTo>
                    <a:cubicBezTo>
                      <a:pt x="8048" y="5"/>
                      <a:pt x="8047" y="6"/>
                      <a:pt x="8046" y="6"/>
                    </a:cubicBezTo>
                    <a:lnTo>
                      <a:pt x="8046" y="6"/>
                    </a:lnTo>
                    <a:cubicBezTo>
                      <a:pt x="8045" y="6"/>
                      <a:pt x="8044" y="5"/>
                      <a:pt x="8044" y="4"/>
                    </a:cubicBezTo>
                    <a:cubicBezTo>
                      <a:pt x="8044" y="3"/>
                      <a:pt x="8045" y="2"/>
                      <a:pt x="8046" y="2"/>
                    </a:cubicBezTo>
                    <a:close/>
                    <a:moveTo>
                      <a:pt x="8054" y="2"/>
                    </a:moveTo>
                    <a:lnTo>
                      <a:pt x="8054" y="2"/>
                    </a:lnTo>
                    <a:cubicBezTo>
                      <a:pt x="8055" y="2"/>
                      <a:pt x="8056" y="3"/>
                      <a:pt x="8056" y="4"/>
                    </a:cubicBezTo>
                    <a:cubicBezTo>
                      <a:pt x="8056" y="5"/>
                      <a:pt x="8055" y="6"/>
                      <a:pt x="8054" y="6"/>
                    </a:cubicBezTo>
                    <a:lnTo>
                      <a:pt x="8054" y="6"/>
                    </a:lnTo>
                    <a:cubicBezTo>
                      <a:pt x="8053" y="6"/>
                      <a:pt x="8052" y="5"/>
                      <a:pt x="8052" y="4"/>
                    </a:cubicBezTo>
                    <a:cubicBezTo>
                      <a:pt x="8052" y="3"/>
                      <a:pt x="8053" y="2"/>
                      <a:pt x="8054" y="2"/>
                    </a:cubicBezTo>
                    <a:close/>
                    <a:moveTo>
                      <a:pt x="8062" y="2"/>
                    </a:moveTo>
                    <a:lnTo>
                      <a:pt x="8062" y="2"/>
                    </a:lnTo>
                    <a:cubicBezTo>
                      <a:pt x="8063" y="2"/>
                      <a:pt x="8064" y="3"/>
                      <a:pt x="8064" y="4"/>
                    </a:cubicBezTo>
                    <a:cubicBezTo>
                      <a:pt x="8064" y="5"/>
                      <a:pt x="8063" y="6"/>
                      <a:pt x="8062" y="6"/>
                    </a:cubicBezTo>
                    <a:lnTo>
                      <a:pt x="8062" y="6"/>
                    </a:lnTo>
                    <a:cubicBezTo>
                      <a:pt x="8061" y="6"/>
                      <a:pt x="8060" y="5"/>
                      <a:pt x="8060" y="4"/>
                    </a:cubicBezTo>
                    <a:cubicBezTo>
                      <a:pt x="8060" y="3"/>
                      <a:pt x="8061" y="2"/>
                      <a:pt x="8062" y="2"/>
                    </a:cubicBezTo>
                    <a:close/>
                    <a:moveTo>
                      <a:pt x="8070" y="2"/>
                    </a:moveTo>
                    <a:lnTo>
                      <a:pt x="8070" y="2"/>
                    </a:lnTo>
                    <a:cubicBezTo>
                      <a:pt x="8071" y="2"/>
                      <a:pt x="8072" y="3"/>
                      <a:pt x="8072" y="4"/>
                    </a:cubicBezTo>
                    <a:cubicBezTo>
                      <a:pt x="8072" y="5"/>
                      <a:pt x="8071" y="6"/>
                      <a:pt x="8070" y="6"/>
                    </a:cubicBezTo>
                    <a:lnTo>
                      <a:pt x="8070" y="6"/>
                    </a:lnTo>
                    <a:cubicBezTo>
                      <a:pt x="8069" y="6"/>
                      <a:pt x="8068" y="5"/>
                      <a:pt x="8068" y="4"/>
                    </a:cubicBezTo>
                    <a:cubicBezTo>
                      <a:pt x="8068" y="3"/>
                      <a:pt x="8069" y="2"/>
                      <a:pt x="8070" y="2"/>
                    </a:cubicBezTo>
                    <a:close/>
                    <a:moveTo>
                      <a:pt x="8078" y="2"/>
                    </a:moveTo>
                    <a:lnTo>
                      <a:pt x="8078" y="2"/>
                    </a:lnTo>
                    <a:cubicBezTo>
                      <a:pt x="8079" y="2"/>
                      <a:pt x="8080" y="3"/>
                      <a:pt x="8080" y="4"/>
                    </a:cubicBezTo>
                    <a:cubicBezTo>
                      <a:pt x="8080" y="5"/>
                      <a:pt x="8079" y="6"/>
                      <a:pt x="8078" y="6"/>
                    </a:cubicBezTo>
                    <a:lnTo>
                      <a:pt x="8078" y="6"/>
                    </a:lnTo>
                    <a:cubicBezTo>
                      <a:pt x="8077" y="6"/>
                      <a:pt x="8076" y="5"/>
                      <a:pt x="8076" y="4"/>
                    </a:cubicBezTo>
                    <a:cubicBezTo>
                      <a:pt x="8076" y="3"/>
                      <a:pt x="8077" y="2"/>
                      <a:pt x="8078" y="2"/>
                    </a:cubicBezTo>
                    <a:close/>
                    <a:moveTo>
                      <a:pt x="8086" y="2"/>
                    </a:moveTo>
                    <a:lnTo>
                      <a:pt x="8086" y="2"/>
                    </a:lnTo>
                    <a:cubicBezTo>
                      <a:pt x="8087" y="2"/>
                      <a:pt x="8088" y="3"/>
                      <a:pt x="8088" y="4"/>
                    </a:cubicBezTo>
                    <a:cubicBezTo>
                      <a:pt x="8088" y="5"/>
                      <a:pt x="8087" y="6"/>
                      <a:pt x="8086" y="6"/>
                    </a:cubicBezTo>
                    <a:lnTo>
                      <a:pt x="8086" y="6"/>
                    </a:lnTo>
                    <a:cubicBezTo>
                      <a:pt x="8085" y="6"/>
                      <a:pt x="8084" y="5"/>
                      <a:pt x="8084" y="4"/>
                    </a:cubicBezTo>
                    <a:cubicBezTo>
                      <a:pt x="8084" y="3"/>
                      <a:pt x="8085" y="2"/>
                      <a:pt x="8086" y="2"/>
                    </a:cubicBezTo>
                    <a:close/>
                    <a:moveTo>
                      <a:pt x="8094" y="2"/>
                    </a:moveTo>
                    <a:lnTo>
                      <a:pt x="8094" y="2"/>
                    </a:lnTo>
                    <a:cubicBezTo>
                      <a:pt x="8095" y="2"/>
                      <a:pt x="8096" y="3"/>
                      <a:pt x="8096" y="4"/>
                    </a:cubicBezTo>
                    <a:cubicBezTo>
                      <a:pt x="8096" y="5"/>
                      <a:pt x="8095" y="6"/>
                      <a:pt x="8094" y="6"/>
                    </a:cubicBezTo>
                    <a:lnTo>
                      <a:pt x="8094" y="6"/>
                    </a:lnTo>
                    <a:cubicBezTo>
                      <a:pt x="8093" y="6"/>
                      <a:pt x="8092" y="5"/>
                      <a:pt x="8092" y="4"/>
                    </a:cubicBezTo>
                    <a:cubicBezTo>
                      <a:pt x="8092" y="3"/>
                      <a:pt x="8093" y="2"/>
                      <a:pt x="8094" y="2"/>
                    </a:cubicBezTo>
                    <a:close/>
                    <a:moveTo>
                      <a:pt x="8102" y="2"/>
                    </a:moveTo>
                    <a:lnTo>
                      <a:pt x="8102" y="2"/>
                    </a:lnTo>
                    <a:cubicBezTo>
                      <a:pt x="8103" y="2"/>
                      <a:pt x="8104" y="3"/>
                      <a:pt x="8104" y="4"/>
                    </a:cubicBezTo>
                    <a:cubicBezTo>
                      <a:pt x="8104" y="5"/>
                      <a:pt x="8103" y="6"/>
                      <a:pt x="8102" y="6"/>
                    </a:cubicBezTo>
                    <a:lnTo>
                      <a:pt x="8102" y="6"/>
                    </a:lnTo>
                    <a:cubicBezTo>
                      <a:pt x="8101" y="6"/>
                      <a:pt x="8100" y="5"/>
                      <a:pt x="8100" y="4"/>
                    </a:cubicBezTo>
                    <a:cubicBezTo>
                      <a:pt x="8100" y="3"/>
                      <a:pt x="8101" y="2"/>
                      <a:pt x="8102" y="2"/>
                    </a:cubicBezTo>
                    <a:close/>
                    <a:moveTo>
                      <a:pt x="8110" y="2"/>
                    </a:moveTo>
                    <a:lnTo>
                      <a:pt x="8110" y="2"/>
                    </a:lnTo>
                    <a:cubicBezTo>
                      <a:pt x="8111" y="2"/>
                      <a:pt x="8112" y="3"/>
                      <a:pt x="8112" y="4"/>
                    </a:cubicBezTo>
                    <a:cubicBezTo>
                      <a:pt x="8112" y="5"/>
                      <a:pt x="8111" y="6"/>
                      <a:pt x="8110" y="6"/>
                    </a:cubicBezTo>
                    <a:lnTo>
                      <a:pt x="8110" y="6"/>
                    </a:lnTo>
                    <a:cubicBezTo>
                      <a:pt x="8109" y="6"/>
                      <a:pt x="8108" y="5"/>
                      <a:pt x="8108" y="4"/>
                    </a:cubicBezTo>
                    <a:cubicBezTo>
                      <a:pt x="8108" y="3"/>
                      <a:pt x="8109" y="2"/>
                      <a:pt x="8110" y="2"/>
                    </a:cubicBezTo>
                    <a:close/>
                    <a:moveTo>
                      <a:pt x="8118" y="2"/>
                    </a:moveTo>
                    <a:lnTo>
                      <a:pt x="8118" y="2"/>
                    </a:lnTo>
                    <a:cubicBezTo>
                      <a:pt x="8119" y="2"/>
                      <a:pt x="8120" y="3"/>
                      <a:pt x="8120" y="4"/>
                    </a:cubicBezTo>
                    <a:cubicBezTo>
                      <a:pt x="8120" y="5"/>
                      <a:pt x="8119" y="6"/>
                      <a:pt x="8118" y="6"/>
                    </a:cubicBezTo>
                    <a:lnTo>
                      <a:pt x="8118" y="6"/>
                    </a:lnTo>
                    <a:cubicBezTo>
                      <a:pt x="8117" y="6"/>
                      <a:pt x="8116" y="5"/>
                      <a:pt x="8116" y="4"/>
                    </a:cubicBezTo>
                    <a:cubicBezTo>
                      <a:pt x="8116" y="3"/>
                      <a:pt x="8117" y="2"/>
                      <a:pt x="8118" y="2"/>
                    </a:cubicBezTo>
                    <a:close/>
                    <a:moveTo>
                      <a:pt x="8126" y="2"/>
                    </a:moveTo>
                    <a:lnTo>
                      <a:pt x="8126" y="2"/>
                    </a:lnTo>
                    <a:cubicBezTo>
                      <a:pt x="8127" y="2"/>
                      <a:pt x="8128" y="3"/>
                      <a:pt x="8128" y="4"/>
                    </a:cubicBezTo>
                    <a:cubicBezTo>
                      <a:pt x="8128" y="5"/>
                      <a:pt x="8127" y="6"/>
                      <a:pt x="8126" y="6"/>
                    </a:cubicBezTo>
                    <a:lnTo>
                      <a:pt x="8126" y="6"/>
                    </a:lnTo>
                    <a:cubicBezTo>
                      <a:pt x="8125" y="6"/>
                      <a:pt x="8124" y="5"/>
                      <a:pt x="8124" y="4"/>
                    </a:cubicBezTo>
                    <a:cubicBezTo>
                      <a:pt x="8124" y="3"/>
                      <a:pt x="8125" y="2"/>
                      <a:pt x="8126" y="2"/>
                    </a:cubicBezTo>
                    <a:close/>
                    <a:moveTo>
                      <a:pt x="8134" y="2"/>
                    </a:moveTo>
                    <a:lnTo>
                      <a:pt x="8134" y="2"/>
                    </a:lnTo>
                    <a:cubicBezTo>
                      <a:pt x="8135" y="2"/>
                      <a:pt x="8136" y="3"/>
                      <a:pt x="8136" y="4"/>
                    </a:cubicBezTo>
                    <a:cubicBezTo>
                      <a:pt x="8136" y="5"/>
                      <a:pt x="8135" y="6"/>
                      <a:pt x="8134" y="6"/>
                    </a:cubicBezTo>
                    <a:lnTo>
                      <a:pt x="8134" y="6"/>
                    </a:lnTo>
                    <a:cubicBezTo>
                      <a:pt x="8133" y="6"/>
                      <a:pt x="8132" y="5"/>
                      <a:pt x="8132" y="4"/>
                    </a:cubicBezTo>
                    <a:cubicBezTo>
                      <a:pt x="8132" y="3"/>
                      <a:pt x="8133" y="2"/>
                      <a:pt x="8134" y="2"/>
                    </a:cubicBezTo>
                    <a:close/>
                    <a:moveTo>
                      <a:pt x="8142" y="2"/>
                    </a:moveTo>
                    <a:lnTo>
                      <a:pt x="8142" y="2"/>
                    </a:lnTo>
                    <a:cubicBezTo>
                      <a:pt x="8143" y="2"/>
                      <a:pt x="8144" y="3"/>
                      <a:pt x="8144" y="4"/>
                    </a:cubicBezTo>
                    <a:cubicBezTo>
                      <a:pt x="8144" y="5"/>
                      <a:pt x="8143" y="6"/>
                      <a:pt x="8142" y="6"/>
                    </a:cubicBezTo>
                    <a:lnTo>
                      <a:pt x="8142" y="6"/>
                    </a:lnTo>
                    <a:cubicBezTo>
                      <a:pt x="8141" y="6"/>
                      <a:pt x="8140" y="5"/>
                      <a:pt x="8140" y="4"/>
                    </a:cubicBezTo>
                    <a:cubicBezTo>
                      <a:pt x="8140" y="3"/>
                      <a:pt x="8141" y="2"/>
                      <a:pt x="8142" y="2"/>
                    </a:cubicBezTo>
                    <a:close/>
                    <a:moveTo>
                      <a:pt x="8150" y="2"/>
                    </a:moveTo>
                    <a:lnTo>
                      <a:pt x="8150" y="2"/>
                    </a:lnTo>
                    <a:cubicBezTo>
                      <a:pt x="8151" y="2"/>
                      <a:pt x="8152" y="3"/>
                      <a:pt x="8152" y="4"/>
                    </a:cubicBezTo>
                    <a:cubicBezTo>
                      <a:pt x="8152" y="5"/>
                      <a:pt x="8151" y="6"/>
                      <a:pt x="8150" y="6"/>
                    </a:cubicBezTo>
                    <a:lnTo>
                      <a:pt x="8150" y="6"/>
                    </a:lnTo>
                    <a:cubicBezTo>
                      <a:pt x="8149" y="6"/>
                      <a:pt x="8148" y="5"/>
                      <a:pt x="8148" y="4"/>
                    </a:cubicBezTo>
                    <a:cubicBezTo>
                      <a:pt x="8148" y="3"/>
                      <a:pt x="8149" y="2"/>
                      <a:pt x="8150" y="2"/>
                    </a:cubicBezTo>
                    <a:close/>
                    <a:moveTo>
                      <a:pt x="8158" y="2"/>
                    </a:moveTo>
                    <a:lnTo>
                      <a:pt x="8158" y="2"/>
                    </a:lnTo>
                    <a:cubicBezTo>
                      <a:pt x="8159" y="2"/>
                      <a:pt x="8160" y="3"/>
                      <a:pt x="8160" y="4"/>
                    </a:cubicBezTo>
                    <a:cubicBezTo>
                      <a:pt x="8160" y="5"/>
                      <a:pt x="8159" y="6"/>
                      <a:pt x="8158" y="6"/>
                    </a:cubicBezTo>
                    <a:lnTo>
                      <a:pt x="8158" y="6"/>
                    </a:lnTo>
                    <a:cubicBezTo>
                      <a:pt x="8157" y="6"/>
                      <a:pt x="8156" y="5"/>
                      <a:pt x="8156" y="4"/>
                    </a:cubicBezTo>
                    <a:cubicBezTo>
                      <a:pt x="8156" y="3"/>
                      <a:pt x="8157" y="2"/>
                      <a:pt x="8158" y="2"/>
                    </a:cubicBezTo>
                    <a:close/>
                    <a:moveTo>
                      <a:pt x="8166" y="2"/>
                    </a:moveTo>
                    <a:lnTo>
                      <a:pt x="8166" y="2"/>
                    </a:lnTo>
                    <a:cubicBezTo>
                      <a:pt x="8167" y="2"/>
                      <a:pt x="8168" y="3"/>
                      <a:pt x="8168" y="4"/>
                    </a:cubicBezTo>
                    <a:cubicBezTo>
                      <a:pt x="8168" y="5"/>
                      <a:pt x="8167" y="6"/>
                      <a:pt x="8166" y="6"/>
                    </a:cubicBezTo>
                    <a:lnTo>
                      <a:pt x="8166" y="6"/>
                    </a:lnTo>
                    <a:cubicBezTo>
                      <a:pt x="8165" y="6"/>
                      <a:pt x="8164" y="5"/>
                      <a:pt x="8164" y="4"/>
                    </a:cubicBezTo>
                    <a:cubicBezTo>
                      <a:pt x="8164" y="3"/>
                      <a:pt x="8165" y="2"/>
                      <a:pt x="8166" y="2"/>
                    </a:cubicBezTo>
                    <a:close/>
                    <a:moveTo>
                      <a:pt x="8174" y="2"/>
                    </a:moveTo>
                    <a:lnTo>
                      <a:pt x="8174" y="2"/>
                    </a:lnTo>
                    <a:cubicBezTo>
                      <a:pt x="8175" y="2"/>
                      <a:pt x="8176" y="3"/>
                      <a:pt x="8176" y="4"/>
                    </a:cubicBezTo>
                    <a:cubicBezTo>
                      <a:pt x="8176" y="5"/>
                      <a:pt x="8175" y="6"/>
                      <a:pt x="8174" y="6"/>
                    </a:cubicBezTo>
                    <a:lnTo>
                      <a:pt x="8174" y="6"/>
                    </a:lnTo>
                    <a:cubicBezTo>
                      <a:pt x="8173" y="6"/>
                      <a:pt x="8172" y="5"/>
                      <a:pt x="8172" y="4"/>
                    </a:cubicBezTo>
                    <a:cubicBezTo>
                      <a:pt x="8172" y="3"/>
                      <a:pt x="8173" y="2"/>
                      <a:pt x="8174" y="2"/>
                    </a:cubicBezTo>
                    <a:close/>
                    <a:moveTo>
                      <a:pt x="8182" y="2"/>
                    </a:moveTo>
                    <a:lnTo>
                      <a:pt x="8182" y="2"/>
                    </a:lnTo>
                    <a:cubicBezTo>
                      <a:pt x="8183" y="2"/>
                      <a:pt x="8184" y="3"/>
                      <a:pt x="8184" y="4"/>
                    </a:cubicBezTo>
                    <a:cubicBezTo>
                      <a:pt x="8184" y="5"/>
                      <a:pt x="8183" y="6"/>
                      <a:pt x="8182" y="6"/>
                    </a:cubicBezTo>
                    <a:lnTo>
                      <a:pt x="8182" y="6"/>
                    </a:lnTo>
                    <a:cubicBezTo>
                      <a:pt x="8181" y="6"/>
                      <a:pt x="8180" y="5"/>
                      <a:pt x="8180" y="4"/>
                    </a:cubicBezTo>
                    <a:cubicBezTo>
                      <a:pt x="8180" y="3"/>
                      <a:pt x="8181" y="2"/>
                      <a:pt x="8182" y="2"/>
                    </a:cubicBezTo>
                    <a:close/>
                    <a:moveTo>
                      <a:pt x="8190" y="2"/>
                    </a:moveTo>
                    <a:lnTo>
                      <a:pt x="8190" y="2"/>
                    </a:lnTo>
                    <a:cubicBezTo>
                      <a:pt x="8191" y="2"/>
                      <a:pt x="8192" y="3"/>
                      <a:pt x="8192" y="4"/>
                    </a:cubicBezTo>
                    <a:cubicBezTo>
                      <a:pt x="8192" y="5"/>
                      <a:pt x="8191" y="6"/>
                      <a:pt x="8190" y="6"/>
                    </a:cubicBezTo>
                    <a:lnTo>
                      <a:pt x="8190" y="6"/>
                    </a:lnTo>
                    <a:cubicBezTo>
                      <a:pt x="8189" y="6"/>
                      <a:pt x="8188" y="5"/>
                      <a:pt x="8188" y="4"/>
                    </a:cubicBezTo>
                    <a:cubicBezTo>
                      <a:pt x="8188" y="3"/>
                      <a:pt x="8189" y="2"/>
                      <a:pt x="8190" y="2"/>
                    </a:cubicBezTo>
                    <a:close/>
                    <a:moveTo>
                      <a:pt x="8198" y="2"/>
                    </a:moveTo>
                    <a:lnTo>
                      <a:pt x="8198" y="2"/>
                    </a:lnTo>
                    <a:cubicBezTo>
                      <a:pt x="8199" y="2"/>
                      <a:pt x="8200" y="3"/>
                      <a:pt x="8200" y="4"/>
                    </a:cubicBezTo>
                    <a:cubicBezTo>
                      <a:pt x="8200" y="5"/>
                      <a:pt x="8199" y="6"/>
                      <a:pt x="8198" y="6"/>
                    </a:cubicBezTo>
                    <a:lnTo>
                      <a:pt x="8198" y="6"/>
                    </a:lnTo>
                    <a:cubicBezTo>
                      <a:pt x="8197" y="6"/>
                      <a:pt x="8196" y="5"/>
                      <a:pt x="8196" y="4"/>
                    </a:cubicBezTo>
                    <a:cubicBezTo>
                      <a:pt x="8196" y="3"/>
                      <a:pt x="8197" y="2"/>
                      <a:pt x="8198" y="2"/>
                    </a:cubicBezTo>
                    <a:close/>
                    <a:moveTo>
                      <a:pt x="8206" y="2"/>
                    </a:moveTo>
                    <a:lnTo>
                      <a:pt x="8206" y="2"/>
                    </a:lnTo>
                    <a:cubicBezTo>
                      <a:pt x="8207" y="2"/>
                      <a:pt x="8208" y="3"/>
                      <a:pt x="8208" y="4"/>
                    </a:cubicBezTo>
                    <a:cubicBezTo>
                      <a:pt x="8208" y="5"/>
                      <a:pt x="8207" y="6"/>
                      <a:pt x="8206" y="6"/>
                    </a:cubicBezTo>
                    <a:lnTo>
                      <a:pt x="8206" y="6"/>
                    </a:lnTo>
                    <a:cubicBezTo>
                      <a:pt x="8205" y="6"/>
                      <a:pt x="8204" y="5"/>
                      <a:pt x="8204" y="4"/>
                    </a:cubicBezTo>
                    <a:cubicBezTo>
                      <a:pt x="8204" y="3"/>
                      <a:pt x="8205" y="2"/>
                      <a:pt x="8206" y="2"/>
                    </a:cubicBezTo>
                    <a:close/>
                    <a:moveTo>
                      <a:pt x="8214" y="2"/>
                    </a:moveTo>
                    <a:lnTo>
                      <a:pt x="8214" y="2"/>
                    </a:lnTo>
                    <a:cubicBezTo>
                      <a:pt x="8215" y="2"/>
                      <a:pt x="8216" y="3"/>
                      <a:pt x="8216" y="4"/>
                    </a:cubicBezTo>
                    <a:cubicBezTo>
                      <a:pt x="8216" y="5"/>
                      <a:pt x="8215" y="6"/>
                      <a:pt x="8214" y="6"/>
                    </a:cubicBezTo>
                    <a:lnTo>
                      <a:pt x="8214" y="6"/>
                    </a:lnTo>
                    <a:cubicBezTo>
                      <a:pt x="8213" y="6"/>
                      <a:pt x="8212" y="5"/>
                      <a:pt x="8212" y="4"/>
                    </a:cubicBezTo>
                    <a:cubicBezTo>
                      <a:pt x="8212" y="3"/>
                      <a:pt x="8213" y="2"/>
                      <a:pt x="8214" y="2"/>
                    </a:cubicBezTo>
                    <a:close/>
                    <a:moveTo>
                      <a:pt x="8222" y="2"/>
                    </a:moveTo>
                    <a:lnTo>
                      <a:pt x="8222" y="2"/>
                    </a:lnTo>
                    <a:cubicBezTo>
                      <a:pt x="8223" y="2"/>
                      <a:pt x="8224" y="3"/>
                      <a:pt x="8224" y="4"/>
                    </a:cubicBezTo>
                    <a:cubicBezTo>
                      <a:pt x="8224" y="5"/>
                      <a:pt x="8223" y="6"/>
                      <a:pt x="8222" y="6"/>
                    </a:cubicBezTo>
                    <a:lnTo>
                      <a:pt x="8222" y="6"/>
                    </a:lnTo>
                    <a:cubicBezTo>
                      <a:pt x="8221" y="6"/>
                      <a:pt x="8220" y="5"/>
                      <a:pt x="8220" y="4"/>
                    </a:cubicBezTo>
                    <a:cubicBezTo>
                      <a:pt x="8220" y="3"/>
                      <a:pt x="8221" y="2"/>
                      <a:pt x="8222" y="2"/>
                    </a:cubicBezTo>
                    <a:close/>
                    <a:moveTo>
                      <a:pt x="8230" y="2"/>
                    </a:moveTo>
                    <a:lnTo>
                      <a:pt x="8230" y="2"/>
                    </a:lnTo>
                    <a:cubicBezTo>
                      <a:pt x="8231" y="2"/>
                      <a:pt x="8232" y="3"/>
                      <a:pt x="8232" y="4"/>
                    </a:cubicBezTo>
                    <a:cubicBezTo>
                      <a:pt x="8232" y="5"/>
                      <a:pt x="8231" y="6"/>
                      <a:pt x="8230" y="6"/>
                    </a:cubicBezTo>
                    <a:lnTo>
                      <a:pt x="8230" y="6"/>
                    </a:lnTo>
                    <a:cubicBezTo>
                      <a:pt x="8229" y="6"/>
                      <a:pt x="8228" y="5"/>
                      <a:pt x="8228" y="4"/>
                    </a:cubicBezTo>
                    <a:cubicBezTo>
                      <a:pt x="8228" y="3"/>
                      <a:pt x="8229" y="2"/>
                      <a:pt x="8230" y="2"/>
                    </a:cubicBezTo>
                    <a:close/>
                    <a:moveTo>
                      <a:pt x="8238" y="2"/>
                    </a:moveTo>
                    <a:lnTo>
                      <a:pt x="8238" y="2"/>
                    </a:lnTo>
                    <a:cubicBezTo>
                      <a:pt x="8239" y="2"/>
                      <a:pt x="8240" y="3"/>
                      <a:pt x="8240" y="4"/>
                    </a:cubicBezTo>
                    <a:cubicBezTo>
                      <a:pt x="8240" y="5"/>
                      <a:pt x="8239" y="6"/>
                      <a:pt x="8238" y="6"/>
                    </a:cubicBezTo>
                    <a:lnTo>
                      <a:pt x="8238" y="6"/>
                    </a:lnTo>
                    <a:cubicBezTo>
                      <a:pt x="8237" y="6"/>
                      <a:pt x="8236" y="5"/>
                      <a:pt x="8236" y="4"/>
                    </a:cubicBezTo>
                    <a:cubicBezTo>
                      <a:pt x="8236" y="3"/>
                      <a:pt x="8237" y="2"/>
                      <a:pt x="8238" y="2"/>
                    </a:cubicBezTo>
                    <a:close/>
                    <a:moveTo>
                      <a:pt x="8246" y="2"/>
                    </a:moveTo>
                    <a:lnTo>
                      <a:pt x="8246" y="2"/>
                    </a:lnTo>
                    <a:cubicBezTo>
                      <a:pt x="8247" y="2"/>
                      <a:pt x="8248" y="3"/>
                      <a:pt x="8248" y="4"/>
                    </a:cubicBezTo>
                    <a:cubicBezTo>
                      <a:pt x="8248" y="5"/>
                      <a:pt x="8247" y="6"/>
                      <a:pt x="8246" y="6"/>
                    </a:cubicBezTo>
                    <a:lnTo>
                      <a:pt x="8246" y="6"/>
                    </a:lnTo>
                    <a:cubicBezTo>
                      <a:pt x="8245" y="6"/>
                      <a:pt x="8244" y="5"/>
                      <a:pt x="8244" y="4"/>
                    </a:cubicBezTo>
                    <a:cubicBezTo>
                      <a:pt x="8244" y="3"/>
                      <a:pt x="8245" y="2"/>
                      <a:pt x="8246" y="2"/>
                    </a:cubicBezTo>
                    <a:close/>
                    <a:moveTo>
                      <a:pt x="8254" y="2"/>
                    </a:moveTo>
                    <a:lnTo>
                      <a:pt x="8254" y="2"/>
                    </a:lnTo>
                    <a:cubicBezTo>
                      <a:pt x="8255" y="2"/>
                      <a:pt x="8256" y="3"/>
                      <a:pt x="8256" y="4"/>
                    </a:cubicBezTo>
                    <a:cubicBezTo>
                      <a:pt x="8256" y="5"/>
                      <a:pt x="8255" y="6"/>
                      <a:pt x="8254" y="6"/>
                    </a:cubicBezTo>
                    <a:lnTo>
                      <a:pt x="8254" y="6"/>
                    </a:lnTo>
                    <a:cubicBezTo>
                      <a:pt x="8253" y="6"/>
                      <a:pt x="8252" y="5"/>
                      <a:pt x="8252" y="4"/>
                    </a:cubicBezTo>
                    <a:cubicBezTo>
                      <a:pt x="8252" y="3"/>
                      <a:pt x="8253" y="2"/>
                      <a:pt x="8254" y="2"/>
                    </a:cubicBezTo>
                    <a:close/>
                    <a:moveTo>
                      <a:pt x="8262" y="2"/>
                    </a:moveTo>
                    <a:lnTo>
                      <a:pt x="8262" y="2"/>
                    </a:lnTo>
                    <a:cubicBezTo>
                      <a:pt x="8263" y="2"/>
                      <a:pt x="8264" y="3"/>
                      <a:pt x="8264" y="4"/>
                    </a:cubicBezTo>
                    <a:cubicBezTo>
                      <a:pt x="8264" y="5"/>
                      <a:pt x="8263" y="6"/>
                      <a:pt x="8262" y="6"/>
                    </a:cubicBezTo>
                    <a:lnTo>
                      <a:pt x="8262" y="6"/>
                    </a:lnTo>
                    <a:cubicBezTo>
                      <a:pt x="8261" y="6"/>
                      <a:pt x="8260" y="5"/>
                      <a:pt x="8260" y="4"/>
                    </a:cubicBezTo>
                    <a:cubicBezTo>
                      <a:pt x="8260" y="3"/>
                      <a:pt x="8261" y="2"/>
                      <a:pt x="8262" y="2"/>
                    </a:cubicBezTo>
                    <a:close/>
                    <a:moveTo>
                      <a:pt x="8270" y="2"/>
                    </a:moveTo>
                    <a:lnTo>
                      <a:pt x="8270" y="2"/>
                    </a:lnTo>
                    <a:cubicBezTo>
                      <a:pt x="8271" y="2"/>
                      <a:pt x="8272" y="3"/>
                      <a:pt x="8272" y="4"/>
                    </a:cubicBezTo>
                    <a:cubicBezTo>
                      <a:pt x="8272" y="5"/>
                      <a:pt x="8271" y="6"/>
                      <a:pt x="8270" y="6"/>
                    </a:cubicBezTo>
                    <a:lnTo>
                      <a:pt x="8270" y="6"/>
                    </a:lnTo>
                    <a:cubicBezTo>
                      <a:pt x="8269" y="6"/>
                      <a:pt x="8268" y="5"/>
                      <a:pt x="8268" y="4"/>
                    </a:cubicBezTo>
                    <a:cubicBezTo>
                      <a:pt x="8268" y="3"/>
                      <a:pt x="8269" y="2"/>
                      <a:pt x="8270" y="2"/>
                    </a:cubicBezTo>
                    <a:close/>
                    <a:moveTo>
                      <a:pt x="8278" y="2"/>
                    </a:moveTo>
                    <a:lnTo>
                      <a:pt x="8278" y="2"/>
                    </a:lnTo>
                    <a:cubicBezTo>
                      <a:pt x="8279" y="2"/>
                      <a:pt x="8280" y="3"/>
                      <a:pt x="8280" y="4"/>
                    </a:cubicBezTo>
                    <a:cubicBezTo>
                      <a:pt x="8280" y="5"/>
                      <a:pt x="8279" y="6"/>
                      <a:pt x="8278" y="6"/>
                    </a:cubicBezTo>
                    <a:lnTo>
                      <a:pt x="8278" y="6"/>
                    </a:lnTo>
                    <a:cubicBezTo>
                      <a:pt x="8277" y="6"/>
                      <a:pt x="8276" y="5"/>
                      <a:pt x="8276" y="4"/>
                    </a:cubicBezTo>
                    <a:cubicBezTo>
                      <a:pt x="8276" y="3"/>
                      <a:pt x="8277" y="2"/>
                      <a:pt x="8278" y="2"/>
                    </a:cubicBezTo>
                    <a:close/>
                    <a:moveTo>
                      <a:pt x="8286" y="2"/>
                    </a:moveTo>
                    <a:lnTo>
                      <a:pt x="8286" y="2"/>
                    </a:lnTo>
                    <a:cubicBezTo>
                      <a:pt x="8287" y="2"/>
                      <a:pt x="8288" y="3"/>
                      <a:pt x="8288" y="4"/>
                    </a:cubicBezTo>
                    <a:cubicBezTo>
                      <a:pt x="8288" y="5"/>
                      <a:pt x="8287" y="6"/>
                      <a:pt x="8286" y="6"/>
                    </a:cubicBezTo>
                    <a:lnTo>
                      <a:pt x="8286" y="6"/>
                    </a:lnTo>
                    <a:cubicBezTo>
                      <a:pt x="8285" y="6"/>
                      <a:pt x="8284" y="5"/>
                      <a:pt x="8284" y="4"/>
                    </a:cubicBezTo>
                    <a:cubicBezTo>
                      <a:pt x="8284" y="3"/>
                      <a:pt x="8285" y="2"/>
                      <a:pt x="8286" y="2"/>
                    </a:cubicBezTo>
                    <a:close/>
                    <a:moveTo>
                      <a:pt x="8294" y="2"/>
                    </a:moveTo>
                    <a:lnTo>
                      <a:pt x="8294" y="2"/>
                    </a:lnTo>
                    <a:cubicBezTo>
                      <a:pt x="8295" y="2"/>
                      <a:pt x="8296" y="3"/>
                      <a:pt x="8296" y="4"/>
                    </a:cubicBezTo>
                    <a:cubicBezTo>
                      <a:pt x="8296" y="5"/>
                      <a:pt x="8295" y="6"/>
                      <a:pt x="8294" y="6"/>
                    </a:cubicBezTo>
                    <a:lnTo>
                      <a:pt x="8294" y="6"/>
                    </a:lnTo>
                    <a:cubicBezTo>
                      <a:pt x="8293" y="6"/>
                      <a:pt x="8292" y="5"/>
                      <a:pt x="8292" y="4"/>
                    </a:cubicBezTo>
                    <a:cubicBezTo>
                      <a:pt x="8292" y="3"/>
                      <a:pt x="8293" y="2"/>
                      <a:pt x="8294" y="2"/>
                    </a:cubicBezTo>
                    <a:close/>
                    <a:moveTo>
                      <a:pt x="8302" y="2"/>
                    </a:moveTo>
                    <a:lnTo>
                      <a:pt x="8302" y="2"/>
                    </a:lnTo>
                    <a:cubicBezTo>
                      <a:pt x="8303" y="2"/>
                      <a:pt x="8304" y="3"/>
                      <a:pt x="8304" y="4"/>
                    </a:cubicBezTo>
                    <a:cubicBezTo>
                      <a:pt x="8304" y="5"/>
                      <a:pt x="8303" y="6"/>
                      <a:pt x="8302" y="6"/>
                    </a:cubicBezTo>
                    <a:lnTo>
                      <a:pt x="8302" y="6"/>
                    </a:lnTo>
                    <a:cubicBezTo>
                      <a:pt x="8301" y="6"/>
                      <a:pt x="8300" y="5"/>
                      <a:pt x="8300" y="4"/>
                    </a:cubicBezTo>
                    <a:cubicBezTo>
                      <a:pt x="8300" y="3"/>
                      <a:pt x="8301" y="2"/>
                      <a:pt x="8302" y="2"/>
                    </a:cubicBezTo>
                    <a:close/>
                    <a:moveTo>
                      <a:pt x="8310" y="2"/>
                    </a:moveTo>
                    <a:lnTo>
                      <a:pt x="8310" y="2"/>
                    </a:lnTo>
                    <a:cubicBezTo>
                      <a:pt x="8311" y="2"/>
                      <a:pt x="8312" y="3"/>
                      <a:pt x="8312" y="4"/>
                    </a:cubicBezTo>
                    <a:cubicBezTo>
                      <a:pt x="8312" y="5"/>
                      <a:pt x="8311" y="6"/>
                      <a:pt x="8310" y="6"/>
                    </a:cubicBezTo>
                    <a:lnTo>
                      <a:pt x="8310" y="6"/>
                    </a:lnTo>
                    <a:cubicBezTo>
                      <a:pt x="8309" y="6"/>
                      <a:pt x="8308" y="5"/>
                      <a:pt x="8308" y="4"/>
                    </a:cubicBezTo>
                    <a:cubicBezTo>
                      <a:pt x="8308" y="3"/>
                      <a:pt x="8309" y="2"/>
                      <a:pt x="8310" y="2"/>
                    </a:cubicBezTo>
                    <a:close/>
                    <a:moveTo>
                      <a:pt x="8318" y="2"/>
                    </a:moveTo>
                    <a:lnTo>
                      <a:pt x="8318" y="2"/>
                    </a:lnTo>
                    <a:cubicBezTo>
                      <a:pt x="8319" y="2"/>
                      <a:pt x="8320" y="3"/>
                      <a:pt x="8320" y="4"/>
                    </a:cubicBezTo>
                    <a:cubicBezTo>
                      <a:pt x="8320" y="5"/>
                      <a:pt x="8319" y="6"/>
                      <a:pt x="8318" y="6"/>
                    </a:cubicBezTo>
                    <a:lnTo>
                      <a:pt x="8318" y="6"/>
                    </a:lnTo>
                    <a:cubicBezTo>
                      <a:pt x="8317" y="6"/>
                      <a:pt x="8316" y="5"/>
                      <a:pt x="8316" y="4"/>
                    </a:cubicBezTo>
                    <a:cubicBezTo>
                      <a:pt x="8316" y="3"/>
                      <a:pt x="8317" y="2"/>
                      <a:pt x="8318" y="2"/>
                    </a:cubicBezTo>
                    <a:close/>
                    <a:moveTo>
                      <a:pt x="8326" y="2"/>
                    </a:moveTo>
                    <a:lnTo>
                      <a:pt x="8326" y="2"/>
                    </a:lnTo>
                    <a:cubicBezTo>
                      <a:pt x="8327" y="2"/>
                      <a:pt x="8328" y="3"/>
                      <a:pt x="8328" y="4"/>
                    </a:cubicBezTo>
                    <a:cubicBezTo>
                      <a:pt x="8328" y="5"/>
                      <a:pt x="8327" y="6"/>
                      <a:pt x="8326" y="6"/>
                    </a:cubicBezTo>
                    <a:lnTo>
                      <a:pt x="8326" y="6"/>
                    </a:lnTo>
                    <a:cubicBezTo>
                      <a:pt x="8325" y="6"/>
                      <a:pt x="8324" y="5"/>
                      <a:pt x="8324" y="4"/>
                    </a:cubicBezTo>
                    <a:cubicBezTo>
                      <a:pt x="8324" y="3"/>
                      <a:pt x="8325" y="2"/>
                      <a:pt x="8326" y="2"/>
                    </a:cubicBezTo>
                    <a:close/>
                    <a:moveTo>
                      <a:pt x="8334" y="2"/>
                    </a:moveTo>
                    <a:lnTo>
                      <a:pt x="8334" y="2"/>
                    </a:lnTo>
                    <a:cubicBezTo>
                      <a:pt x="8335" y="2"/>
                      <a:pt x="8336" y="3"/>
                      <a:pt x="8336" y="4"/>
                    </a:cubicBezTo>
                    <a:cubicBezTo>
                      <a:pt x="8336" y="5"/>
                      <a:pt x="8335" y="6"/>
                      <a:pt x="8334" y="6"/>
                    </a:cubicBezTo>
                    <a:lnTo>
                      <a:pt x="8334" y="6"/>
                    </a:lnTo>
                    <a:cubicBezTo>
                      <a:pt x="8333" y="6"/>
                      <a:pt x="8332" y="5"/>
                      <a:pt x="8332" y="4"/>
                    </a:cubicBezTo>
                    <a:cubicBezTo>
                      <a:pt x="8332" y="3"/>
                      <a:pt x="8333" y="2"/>
                      <a:pt x="8334" y="2"/>
                    </a:cubicBezTo>
                    <a:close/>
                    <a:moveTo>
                      <a:pt x="8342" y="2"/>
                    </a:moveTo>
                    <a:lnTo>
                      <a:pt x="8342" y="2"/>
                    </a:lnTo>
                    <a:cubicBezTo>
                      <a:pt x="8343" y="2"/>
                      <a:pt x="8344" y="3"/>
                      <a:pt x="8344" y="4"/>
                    </a:cubicBezTo>
                    <a:cubicBezTo>
                      <a:pt x="8344" y="5"/>
                      <a:pt x="8343" y="6"/>
                      <a:pt x="8342" y="6"/>
                    </a:cubicBezTo>
                    <a:lnTo>
                      <a:pt x="8342" y="6"/>
                    </a:lnTo>
                    <a:cubicBezTo>
                      <a:pt x="8341" y="6"/>
                      <a:pt x="8340" y="5"/>
                      <a:pt x="8340" y="4"/>
                    </a:cubicBezTo>
                    <a:cubicBezTo>
                      <a:pt x="8340" y="3"/>
                      <a:pt x="8341" y="2"/>
                      <a:pt x="8342" y="2"/>
                    </a:cubicBezTo>
                    <a:close/>
                    <a:moveTo>
                      <a:pt x="8350" y="2"/>
                    </a:moveTo>
                    <a:lnTo>
                      <a:pt x="8350" y="2"/>
                    </a:lnTo>
                    <a:cubicBezTo>
                      <a:pt x="8351" y="2"/>
                      <a:pt x="8352" y="3"/>
                      <a:pt x="8352" y="4"/>
                    </a:cubicBezTo>
                    <a:cubicBezTo>
                      <a:pt x="8352" y="5"/>
                      <a:pt x="8351" y="6"/>
                      <a:pt x="8350" y="6"/>
                    </a:cubicBezTo>
                    <a:lnTo>
                      <a:pt x="8350" y="6"/>
                    </a:lnTo>
                    <a:cubicBezTo>
                      <a:pt x="8349" y="6"/>
                      <a:pt x="8348" y="5"/>
                      <a:pt x="8348" y="4"/>
                    </a:cubicBezTo>
                    <a:cubicBezTo>
                      <a:pt x="8348" y="3"/>
                      <a:pt x="8349" y="2"/>
                      <a:pt x="8350" y="2"/>
                    </a:cubicBezTo>
                    <a:close/>
                    <a:moveTo>
                      <a:pt x="8358" y="2"/>
                    </a:moveTo>
                    <a:lnTo>
                      <a:pt x="8358" y="2"/>
                    </a:lnTo>
                    <a:cubicBezTo>
                      <a:pt x="8359" y="2"/>
                      <a:pt x="8360" y="3"/>
                      <a:pt x="8360" y="4"/>
                    </a:cubicBezTo>
                    <a:cubicBezTo>
                      <a:pt x="8360" y="5"/>
                      <a:pt x="8359" y="6"/>
                      <a:pt x="8358" y="6"/>
                    </a:cubicBezTo>
                    <a:lnTo>
                      <a:pt x="8358" y="6"/>
                    </a:lnTo>
                    <a:cubicBezTo>
                      <a:pt x="8357" y="6"/>
                      <a:pt x="8356" y="5"/>
                      <a:pt x="8356" y="4"/>
                    </a:cubicBezTo>
                    <a:cubicBezTo>
                      <a:pt x="8356" y="3"/>
                      <a:pt x="8357" y="2"/>
                      <a:pt x="8358" y="2"/>
                    </a:cubicBezTo>
                    <a:close/>
                    <a:moveTo>
                      <a:pt x="8366" y="2"/>
                    </a:moveTo>
                    <a:lnTo>
                      <a:pt x="8366" y="2"/>
                    </a:lnTo>
                    <a:cubicBezTo>
                      <a:pt x="8367" y="2"/>
                      <a:pt x="8368" y="3"/>
                      <a:pt x="8368" y="4"/>
                    </a:cubicBezTo>
                    <a:cubicBezTo>
                      <a:pt x="8368" y="5"/>
                      <a:pt x="8367" y="6"/>
                      <a:pt x="8366" y="6"/>
                    </a:cubicBezTo>
                    <a:lnTo>
                      <a:pt x="8366" y="6"/>
                    </a:lnTo>
                    <a:cubicBezTo>
                      <a:pt x="8365" y="6"/>
                      <a:pt x="8364" y="5"/>
                      <a:pt x="8364" y="4"/>
                    </a:cubicBezTo>
                    <a:cubicBezTo>
                      <a:pt x="8364" y="3"/>
                      <a:pt x="8365" y="2"/>
                      <a:pt x="8366" y="2"/>
                    </a:cubicBezTo>
                    <a:close/>
                    <a:moveTo>
                      <a:pt x="8374" y="2"/>
                    </a:moveTo>
                    <a:lnTo>
                      <a:pt x="8374" y="2"/>
                    </a:lnTo>
                    <a:cubicBezTo>
                      <a:pt x="8375" y="2"/>
                      <a:pt x="8376" y="3"/>
                      <a:pt x="8376" y="4"/>
                    </a:cubicBezTo>
                    <a:cubicBezTo>
                      <a:pt x="8376" y="5"/>
                      <a:pt x="8375" y="6"/>
                      <a:pt x="8374" y="6"/>
                    </a:cubicBezTo>
                    <a:lnTo>
                      <a:pt x="8374" y="6"/>
                    </a:lnTo>
                    <a:cubicBezTo>
                      <a:pt x="8373" y="6"/>
                      <a:pt x="8372" y="5"/>
                      <a:pt x="8372" y="4"/>
                    </a:cubicBezTo>
                    <a:cubicBezTo>
                      <a:pt x="8372" y="3"/>
                      <a:pt x="8373" y="2"/>
                      <a:pt x="8374" y="2"/>
                    </a:cubicBezTo>
                    <a:close/>
                    <a:moveTo>
                      <a:pt x="8382" y="2"/>
                    </a:moveTo>
                    <a:lnTo>
                      <a:pt x="8382" y="2"/>
                    </a:lnTo>
                    <a:cubicBezTo>
                      <a:pt x="8383" y="2"/>
                      <a:pt x="8384" y="3"/>
                      <a:pt x="8384" y="4"/>
                    </a:cubicBezTo>
                    <a:cubicBezTo>
                      <a:pt x="8384" y="5"/>
                      <a:pt x="8383" y="6"/>
                      <a:pt x="8382" y="6"/>
                    </a:cubicBezTo>
                    <a:lnTo>
                      <a:pt x="8382" y="6"/>
                    </a:lnTo>
                    <a:cubicBezTo>
                      <a:pt x="8381" y="6"/>
                      <a:pt x="8380" y="5"/>
                      <a:pt x="8380" y="4"/>
                    </a:cubicBezTo>
                    <a:cubicBezTo>
                      <a:pt x="8380" y="3"/>
                      <a:pt x="8381" y="2"/>
                      <a:pt x="8382" y="2"/>
                    </a:cubicBezTo>
                    <a:close/>
                    <a:moveTo>
                      <a:pt x="8390" y="2"/>
                    </a:moveTo>
                    <a:lnTo>
                      <a:pt x="8390" y="2"/>
                    </a:lnTo>
                    <a:cubicBezTo>
                      <a:pt x="8391" y="2"/>
                      <a:pt x="8392" y="3"/>
                      <a:pt x="8392" y="4"/>
                    </a:cubicBezTo>
                    <a:cubicBezTo>
                      <a:pt x="8392" y="5"/>
                      <a:pt x="8391" y="6"/>
                      <a:pt x="8390" y="6"/>
                    </a:cubicBezTo>
                    <a:lnTo>
                      <a:pt x="8390" y="6"/>
                    </a:lnTo>
                    <a:cubicBezTo>
                      <a:pt x="8389" y="6"/>
                      <a:pt x="8388" y="5"/>
                      <a:pt x="8388" y="4"/>
                    </a:cubicBezTo>
                    <a:cubicBezTo>
                      <a:pt x="8388" y="3"/>
                      <a:pt x="8389" y="2"/>
                      <a:pt x="8390" y="2"/>
                    </a:cubicBezTo>
                    <a:close/>
                    <a:moveTo>
                      <a:pt x="8398" y="2"/>
                    </a:moveTo>
                    <a:lnTo>
                      <a:pt x="8398" y="2"/>
                    </a:lnTo>
                    <a:cubicBezTo>
                      <a:pt x="8399" y="2"/>
                      <a:pt x="8400" y="3"/>
                      <a:pt x="8400" y="4"/>
                    </a:cubicBezTo>
                    <a:cubicBezTo>
                      <a:pt x="8400" y="5"/>
                      <a:pt x="8399" y="6"/>
                      <a:pt x="8398" y="6"/>
                    </a:cubicBezTo>
                    <a:lnTo>
                      <a:pt x="8398" y="6"/>
                    </a:lnTo>
                    <a:cubicBezTo>
                      <a:pt x="8397" y="6"/>
                      <a:pt x="8396" y="5"/>
                      <a:pt x="8396" y="4"/>
                    </a:cubicBezTo>
                    <a:cubicBezTo>
                      <a:pt x="8396" y="3"/>
                      <a:pt x="8397" y="2"/>
                      <a:pt x="8398" y="2"/>
                    </a:cubicBezTo>
                    <a:close/>
                    <a:moveTo>
                      <a:pt x="8406" y="2"/>
                    </a:moveTo>
                    <a:lnTo>
                      <a:pt x="8406" y="2"/>
                    </a:lnTo>
                    <a:cubicBezTo>
                      <a:pt x="8407" y="2"/>
                      <a:pt x="8408" y="3"/>
                      <a:pt x="8408" y="4"/>
                    </a:cubicBezTo>
                    <a:cubicBezTo>
                      <a:pt x="8408" y="5"/>
                      <a:pt x="8407" y="6"/>
                      <a:pt x="8406" y="6"/>
                    </a:cubicBezTo>
                    <a:lnTo>
                      <a:pt x="8406" y="6"/>
                    </a:lnTo>
                    <a:cubicBezTo>
                      <a:pt x="8405" y="6"/>
                      <a:pt x="8404" y="5"/>
                      <a:pt x="8404" y="4"/>
                    </a:cubicBezTo>
                    <a:cubicBezTo>
                      <a:pt x="8404" y="3"/>
                      <a:pt x="8405" y="2"/>
                      <a:pt x="8406" y="2"/>
                    </a:cubicBezTo>
                    <a:close/>
                    <a:moveTo>
                      <a:pt x="8414" y="2"/>
                    </a:moveTo>
                    <a:lnTo>
                      <a:pt x="8414" y="2"/>
                    </a:lnTo>
                    <a:cubicBezTo>
                      <a:pt x="8415" y="2"/>
                      <a:pt x="8416" y="3"/>
                      <a:pt x="8416" y="4"/>
                    </a:cubicBezTo>
                    <a:cubicBezTo>
                      <a:pt x="8416" y="5"/>
                      <a:pt x="8415" y="6"/>
                      <a:pt x="8414" y="6"/>
                    </a:cubicBezTo>
                    <a:lnTo>
                      <a:pt x="8414" y="6"/>
                    </a:lnTo>
                    <a:cubicBezTo>
                      <a:pt x="8413" y="6"/>
                      <a:pt x="8412" y="5"/>
                      <a:pt x="8412" y="4"/>
                    </a:cubicBezTo>
                    <a:cubicBezTo>
                      <a:pt x="8412" y="3"/>
                      <a:pt x="8413" y="2"/>
                      <a:pt x="8414" y="2"/>
                    </a:cubicBezTo>
                    <a:close/>
                    <a:moveTo>
                      <a:pt x="8422" y="2"/>
                    </a:moveTo>
                    <a:lnTo>
                      <a:pt x="8422" y="2"/>
                    </a:lnTo>
                    <a:cubicBezTo>
                      <a:pt x="8423" y="2"/>
                      <a:pt x="8424" y="3"/>
                      <a:pt x="8424" y="4"/>
                    </a:cubicBezTo>
                    <a:cubicBezTo>
                      <a:pt x="8424" y="5"/>
                      <a:pt x="8423" y="6"/>
                      <a:pt x="8422" y="6"/>
                    </a:cubicBezTo>
                    <a:lnTo>
                      <a:pt x="8422" y="6"/>
                    </a:lnTo>
                    <a:cubicBezTo>
                      <a:pt x="8421" y="6"/>
                      <a:pt x="8420" y="5"/>
                      <a:pt x="8420" y="4"/>
                    </a:cubicBezTo>
                    <a:cubicBezTo>
                      <a:pt x="8420" y="3"/>
                      <a:pt x="8421" y="2"/>
                      <a:pt x="8422" y="2"/>
                    </a:cubicBezTo>
                    <a:close/>
                    <a:moveTo>
                      <a:pt x="8430" y="2"/>
                    </a:moveTo>
                    <a:lnTo>
                      <a:pt x="8430" y="2"/>
                    </a:lnTo>
                    <a:cubicBezTo>
                      <a:pt x="8431" y="2"/>
                      <a:pt x="8432" y="3"/>
                      <a:pt x="8432" y="4"/>
                    </a:cubicBezTo>
                    <a:cubicBezTo>
                      <a:pt x="8432" y="5"/>
                      <a:pt x="8431" y="6"/>
                      <a:pt x="8430" y="6"/>
                    </a:cubicBezTo>
                    <a:lnTo>
                      <a:pt x="8430" y="6"/>
                    </a:lnTo>
                    <a:cubicBezTo>
                      <a:pt x="8429" y="6"/>
                      <a:pt x="8428" y="5"/>
                      <a:pt x="8428" y="4"/>
                    </a:cubicBezTo>
                    <a:cubicBezTo>
                      <a:pt x="8428" y="3"/>
                      <a:pt x="8429" y="2"/>
                      <a:pt x="8430" y="2"/>
                    </a:cubicBezTo>
                    <a:close/>
                    <a:moveTo>
                      <a:pt x="8438" y="2"/>
                    </a:moveTo>
                    <a:lnTo>
                      <a:pt x="8438" y="2"/>
                    </a:lnTo>
                    <a:cubicBezTo>
                      <a:pt x="8439" y="2"/>
                      <a:pt x="8440" y="3"/>
                      <a:pt x="8440" y="4"/>
                    </a:cubicBezTo>
                    <a:cubicBezTo>
                      <a:pt x="8440" y="5"/>
                      <a:pt x="8439" y="6"/>
                      <a:pt x="8438" y="6"/>
                    </a:cubicBezTo>
                    <a:lnTo>
                      <a:pt x="8438" y="6"/>
                    </a:lnTo>
                    <a:cubicBezTo>
                      <a:pt x="8437" y="6"/>
                      <a:pt x="8436" y="5"/>
                      <a:pt x="8436" y="4"/>
                    </a:cubicBezTo>
                    <a:cubicBezTo>
                      <a:pt x="8436" y="3"/>
                      <a:pt x="8437" y="2"/>
                      <a:pt x="8438" y="2"/>
                    </a:cubicBezTo>
                    <a:close/>
                    <a:moveTo>
                      <a:pt x="8446" y="2"/>
                    </a:moveTo>
                    <a:lnTo>
                      <a:pt x="8446" y="2"/>
                    </a:lnTo>
                    <a:cubicBezTo>
                      <a:pt x="8447" y="2"/>
                      <a:pt x="8448" y="3"/>
                      <a:pt x="8448" y="4"/>
                    </a:cubicBezTo>
                    <a:cubicBezTo>
                      <a:pt x="8448" y="5"/>
                      <a:pt x="8447" y="6"/>
                      <a:pt x="8446" y="6"/>
                    </a:cubicBezTo>
                    <a:lnTo>
                      <a:pt x="8446" y="6"/>
                    </a:lnTo>
                    <a:cubicBezTo>
                      <a:pt x="8445" y="6"/>
                      <a:pt x="8444" y="5"/>
                      <a:pt x="8444" y="4"/>
                    </a:cubicBezTo>
                    <a:cubicBezTo>
                      <a:pt x="8444" y="3"/>
                      <a:pt x="8445" y="2"/>
                      <a:pt x="8446" y="2"/>
                    </a:cubicBezTo>
                    <a:close/>
                    <a:moveTo>
                      <a:pt x="8454" y="2"/>
                    </a:moveTo>
                    <a:lnTo>
                      <a:pt x="8454" y="2"/>
                    </a:lnTo>
                    <a:cubicBezTo>
                      <a:pt x="8455" y="2"/>
                      <a:pt x="8456" y="3"/>
                      <a:pt x="8456" y="4"/>
                    </a:cubicBezTo>
                    <a:cubicBezTo>
                      <a:pt x="8456" y="5"/>
                      <a:pt x="8455" y="6"/>
                      <a:pt x="8454" y="6"/>
                    </a:cubicBezTo>
                    <a:lnTo>
                      <a:pt x="8454" y="6"/>
                    </a:lnTo>
                    <a:cubicBezTo>
                      <a:pt x="8453" y="6"/>
                      <a:pt x="8452" y="5"/>
                      <a:pt x="8452" y="4"/>
                    </a:cubicBezTo>
                    <a:cubicBezTo>
                      <a:pt x="8452" y="3"/>
                      <a:pt x="8453" y="2"/>
                      <a:pt x="8454" y="2"/>
                    </a:cubicBezTo>
                    <a:close/>
                    <a:moveTo>
                      <a:pt x="8462" y="2"/>
                    </a:moveTo>
                    <a:lnTo>
                      <a:pt x="8462" y="2"/>
                    </a:lnTo>
                    <a:cubicBezTo>
                      <a:pt x="8463" y="2"/>
                      <a:pt x="8464" y="3"/>
                      <a:pt x="8464" y="4"/>
                    </a:cubicBezTo>
                    <a:cubicBezTo>
                      <a:pt x="8464" y="5"/>
                      <a:pt x="8463" y="6"/>
                      <a:pt x="8462" y="6"/>
                    </a:cubicBezTo>
                    <a:lnTo>
                      <a:pt x="8462" y="6"/>
                    </a:lnTo>
                    <a:cubicBezTo>
                      <a:pt x="8461" y="6"/>
                      <a:pt x="8460" y="5"/>
                      <a:pt x="8460" y="4"/>
                    </a:cubicBezTo>
                    <a:cubicBezTo>
                      <a:pt x="8460" y="3"/>
                      <a:pt x="8461" y="2"/>
                      <a:pt x="8462" y="2"/>
                    </a:cubicBezTo>
                    <a:close/>
                    <a:moveTo>
                      <a:pt x="8470" y="2"/>
                    </a:moveTo>
                    <a:lnTo>
                      <a:pt x="8470" y="2"/>
                    </a:lnTo>
                    <a:cubicBezTo>
                      <a:pt x="8471" y="2"/>
                      <a:pt x="8472" y="3"/>
                      <a:pt x="8472" y="4"/>
                    </a:cubicBezTo>
                    <a:cubicBezTo>
                      <a:pt x="8472" y="5"/>
                      <a:pt x="8471" y="6"/>
                      <a:pt x="8470" y="6"/>
                    </a:cubicBezTo>
                    <a:lnTo>
                      <a:pt x="8470" y="6"/>
                    </a:lnTo>
                    <a:cubicBezTo>
                      <a:pt x="8469" y="6"/>
                      <a:pt x="8468" y="5"/>
                      <a:pt x="8468" y="4"/>
                    </a:cubicBezTo>
                    <a:cubicBezTo>
                      <a:pt x="8468" y="3"/>
                      <a:pt x="8469" y="2"/>
                      <a:pt x="8470" y="2"/>
                    </a:cubicBezTo>
                    <a:close/>
                    <a:moveTo>
                      <a:pt x="8478" y="2"/>
                    </a:moveTo>
                    <a:lnTo>
                      <a:pt x="8478" y="2"/>
                    </a:lnTo>
                    <a:cubicBezTo>
                      <a:pt x="8479" y="2"/>
                      <a:pt x="8480" y="3"/>
                      <a:pt x="8480" y="4"/>
                    </a:cubicBezTo>
                    <a:cubicBezTo>
                      <a:pt x="8480" y="5"/>
                      <a:pt x="8479" y="6"/>
                      <a:pt x="8478" y="6"/>
                    </a:cubicBezTo>
                    <a:lnTo>
                      <a:pt x="8478" y="6"/>
                    </a:lnTo>
                    <a:cubicBezTo>
                      <a:pt x="8477" y="6"/>
                      <a:pt x="8476" y="5"/>
                      <a:pt x="8476" y="4"/>
                    </a:cubicBezTo>
                    <a:cubicBezTo>
                      <a:pt x="8476" y="3"/>
                      <a:pt x="8477" y="2"/>
                      <a:pt x="8478" y="2"/>
                    </a:cubicBezTo>
                    <a:close/>
                    <a:moveTo>
                      <a:pt x="8486" y="2"/>
                    </a:moveTo>
                    <a:lnTo>
                      <a:pt x="8486" y="2"/>
                    </a:lnTo>
                    <a:cubicBezTo>
                      <a:pt x="8487" y="2"/>
                      <a:pt x="8488" y="3"/>
                      <a:pt x="8488" y="4"/>
                    </a:cubicBezTo>
                    <a:cubicBezTo>
                      <a:pt x="8488" y="5"/>
                      <a:pt x="8487" y="6"/>
                      <a:pt x="8486" y="6"/>
                    </a:cubicBezTo>
                    <a:lnTo>
                      <a:pt x="8486" y="6"/>
                    </a:lnTo>
                    <a:cubicBezTo>
                      <a:pt x="8485" y="6"/>
                      <a:pt x="8484" y="5"/>
                      <a:pt x="8484" y="4"/>
                    </a:cubicBezTo>
                    <a:cubicBezTo>
                      <a:pt x="8484" y="3"/>
                      <a:pt x="8485" y="2"/>
                      <a:pt x="8486" y="2"/>
                    </a:cubicBezTo>
                    <a:close/>
                    <a:moveTo>
                      <a:pt x="8494" y="2"/>
                    </a:moveTo>
                    <a:lnTo>
                      <a:pt x="8494" y="2"/>
                    </a:lnTo>
                    <a:cubicBezTo>
                      <a:pt x="8495" y="2"/>
                      <a:pt x="8496" y="3"/>
                      <a:pt x="8496" y="4"/>
                    </a:cubicBezTo>
                    <a:cubicBezTo>
                      <a:pt x="8496" y="5"/>
                      <a:pt x="8495" y="6"/>
                      <a:pt x="8494" y="6"/>
                    </a:cubicBezTo>
                    <a:lnTo>
                      <a:pt x="8494" y="6"/>
                    </a:lnTo>
                    <a:cubicBezTo>
                      <a:pt x="8493" y="6"/>
                      <a:pt x="8492" y="5"/>
                      <a:pt x="8492" y="4"/>
                    </a:cubicBezTo>
                    <a:cubicBezTo>
                      <a:pt x="8492" y="3"/>
                      <a:pt x="8493" y="2"/>
                      <a:pt x="8494" y="2"/>
                    </a:cubicBezTo>
                    <a:close/>
                    <a:moveTo>
                      <a:pt x="8502" y="2"/>
                    </a:moveTo>
                    <a:lnTo>
                      <a:pt x="8502" y="2"/>
                    </a:lnTo>
                    <a:cubicBezTo>
                      <a:pt x="8503" y="2"/>
                      <a:pt x="8504" y="3"/>
                      <a:pt x="8504" y="4"/>
                    </a:cubicBezTo>
                    <a:cubicBezTo>
                      <a:pt x="8504" y="5"/>
                      <a:pt x="8503" y="6"/>
                      <a:pt x="8502" y="6"/>
                    </a:cubicBezTo>
                    <a:lnTo>
                      <a:pt x="8502" y="6"/>
                    </a:lnTo>
                    <a:cubicBezTo>
                      <a:pt x="8501" y="6"/>
                      <a:pt x="8500" y="5"/>
                      <a:pt x="8500" y="4"/>
                    </a:cubicBezTo>
                    <a:cubicBezTo>
                      <a:pt x="8500" y="3"/>
                      <a:pt x="8501" y="2"/>
                      <a:pt x="8502" y="2"/>
                    </a:cubicBezTo>
                    <a:close/>
                    <a:moveTo>
                      <a:pt x="8510" y="2"/>
                    </a:moveTo>
                    <a:lnTo>
                      <a:pt x="8510" y="2"/>
                    </a:lnTo>
                    <a:cubicBezTo>
                      <a:pt x="8511" y="2"/>
                      <a:pt x="8512" y="3"/>
                      <a:pt x="8512" y="4"/>
                    </a:cubicBezTo>
                    <a:cubicBezTo>
                      <a:pt x="8512" y="5"/>
                      <a:pt x="8511" y="6"/>
                      <a:pt x="8510" y="6"/>
                    </a:cubicBezTo>
                    <a:lnTo>
                      <a:pt x="8510" y="6"/>
                    </a:lnTo>
                    <a:cubicBezTo>
                      <a:pt x="8509" y="6"/>
                      <a:pt x="8508" y="5"/>
                      <a:pt x="8508" y="4"/>
                    </a:cubicBezTo>
                    <a:cubicBezTo>
                      <a:pt x="8508" y="3"/>
                      <a:pt x="8509" y="2"/>
                      <a:pt x="8510" y="2"/>
                    </a:cubicBezTo>
                    <a:close/>
                    <a:moveTo>
                      <a:pt x="8518" y="2"/>
                    </a:moveTo>
                    <a:lnTo>
                      <a:pt x="8518" y="2"/>
                    </a:lnTo>
                    <a:cubicBezTo>
                      <a:pt x="8519" y="2"/>
                      <a:pt x="8520" y="3"/>
                      <a:pt x="8520" y="4"/>
                    </a:cubicBezTo>
                    <a:cubicBezTo>
                      <a:pt x="8520" y="5"/>
                      <a:pt x="8519" y="6"/>
                      <a:pt x="8518" y="6"/>
                    </a:cubicBezTo>
                    <a:lnTo>
                      <a:pt x="8518" y="6"/>
                    </a:lnTo>
                    <a:cubicBezTo>
                      <a:pt x="8517" y="6"/>
                      <a:pt x="8516" y="5"/>
                      <a:pt x="8516" y="4"/>
                    </a:cubicBezTo>
                    <a:cubicBezTo>
                      <a:pt x="8516" y="3"/>
                      <a:pt x="8517" y="2"/>
                      <a:pt x="8518" y="2"/>
                    </a:cubicBezTo>
                    <a:close/>
                    <a:moveTo>
                      <a:pt x="8526" y="2"/>
                    </a:moveTo>
                    <a:lnTo>
                      <a:pt x="8526" y="2"/>
                    </a:lnTo>
                    <a:cubicBezTo>
                      <a:pt x="8527" y="2"/>
                      <a:pt x="8528" y="3"/>
                      <a:pt x="8528" y="4"/>
                    </a:cubicBezTo>
                    <a:cubicBezTo>
                      <a:pt x="8528" y="5"/>
                      <a:pt x="8527" y="6"/>
                      <a:pt x="8526" y="6"/>
                    </a:cubicBezTo>
                    <a:lnTo>
                      <a:pt x="8526" y="6"/>
                    </a:lnTo>
                    <a:cubicBezTo>
                      <a:pt x="8525" y="6"/>
                      <a:pt x="8524" y="5"/>
                      <a:pt x="8524" y="4"/>
                    </a:cubicBezTo>
                    <a:cubicBezTo>
                      <a:pt x="8524" y="3"/>
                      <a:pt x="8525" y="2"/>
                      <a:pt x="8526" y="2"/>
                    </a:cubicBezTo>
                    <a:close/>
                    <a:moveTo>
                      <a:pt x="8534" y="2"/>
                    </a:moveTo>
                    <a:lnTo>
                      <a:pt x="8534" y="2"/>
                    </a:lnTo>
                    <a:cubicBezTo>
                      <a:pt x="8535" y="2"/>
                      <a:pt x="8536" y="3"/>
                      <a:pt x="8536" y="4"/>
                    </a:cubicBezTo>
                    <a:cubicBezTo>
                      <a:pt x="8536" y="5"/>
                      <a:pt x="8535" y="6"/>
                      <a:pt x="8534" y="6"/>
                    </a:cubicBezTo>
                    <a:lnTo>
                      <a:pt x="8534" y="6"/>
                    </a:lnTo>
                    <a:cubicBezTo>
                      <a:pt x="8533" y="6"/>
                      <a:pt x="8532" y="5"/>
                      <a:pt x="8532" y="4"/>
                    </a:cubicBezTo>
                    <a:cubicBezTo>
                      <a:pt x="8532" y="3"/>
                      <a:pt x="8533" y="2"/>
                      <a:pt x="8534" y="2"/>
                    </a:cubicBezTo>
                    <a:close/>
                    <a:moveTo>
                      <a:pt x="8542" y="2"/>
                    </a:moveTo>
                    <a:lnTo>
                      <a:pt x="8542" y="2"/>
                    </a:lnTo>
                    <a:cubicBezTo>
                      <a:pt x="8543" y="2"/>
                      <a:pt x="8544" y="3"/>
                      <a:pt x="8544" y="4"/>
                    </a:cubicBezTo>
                    <a:cubicBezTo>
                      <a:pt x="8544" y="5"/>
                      <a:pt x="8543" y="6"/>
                      <a:pt x="8542" y="6"/>
                    </a:cubicBezTo>
                    <a:lnTo>
                      <a:pt x="8542" y="6"/>
                    </a:lnTo>
                    <a:cubicBezTo>
                      <a:pt x="8541" y="6"/>
                      <a:pt x="8540" y="5"/>
                      <a:pt x="8540" y="4"/>
                    </a:cubicBezTo>
                    <a:cubicBezTo>
                      <a:pt x="8540" y="3"/>
                      <a:pt x="8541" y="2"/>
                      <a:pt x="8542" y="2"/>
                    </a:cubicBezTo>
                    <a:close/>
                    <a:moveTo>
                      <a:pt x="8550" y="2"/>
                    </a:moveTo>
                    <a:lnTo>
                      <a:pt x="8550" y="2"/>
                    </a:lnTo>
                    <a:cubicBezTo>
                      <a:pt x="8551" y="2"/>
                      <a:pt x="8552" y="3"/>
                      <a:pt x="8552" y="4"/>
                    </a:cubicBezTo>
                    <a:cubicBezTo>
                      <a:pt x="8552" y="5"/>
                      <a:pt x="8551" y="6"/>
                      <a:pt x="8550" y="6"/>
                    </a:cubicBezTo>
                    <a:lnTo>
                      <a:pt x="8550" y="6"/>
                    </a:lnTo>
                    <a:cubicBezTo>
                      <a:pt x="8549" y="6"/>
                      <a:pt x="8548" y="5"/>
                      <a:pt x="8548" y="4"/>
                    </a:cubicBezTo>
                    <a:cubicBezTo>
                      <a:pt x="8548" y="3"/>
                      <a:pt x="8549" y="2"/>
                      <a:pt x="8550" y="2"/>
                    </a:cubicBezTo>
                    <a:close/>
                    <a:moveTo>
                      <a:pt x="8558" y="2"/>
                    </a:moveTo>
                    <a:lnTo>
                      <a:pt x="8558" y="2"/>
                    </a:lnTo>
                    <a:cubicBezTo>
                      <a:pt x="8559" y="2"/>
                      <a:pt x="8560" y="3"/>
                      <a:pt x="8560" y="4"/>
                    </a:cubicBezTo>
                    <a:cubicBezTo>
                      <a:pt x="8560" y="5"/>
                      <a:pt x="8559" y="6"/>
                      <a:pt x="8558" y="6"/>
                    </a:cubicBezTo>
                    <a:lnTo>
                      <a:pt x="8558" y="6"/>
                    </a:lnTo>
                    <a:cubicBezTo>
                      <a:pt x="8557" y="6"/>
                      <a:pt x="8556" y="5"/>
                      <a:pt x="8556" y="4"/>
                    </a:cubicBezTo>
                    <a:cubicBezTo>
                      <a:pt x="8556" y="3"/>
                      <a:pt x="8557" y="2"/>
                      <a:pt x="8558" y="2"/>
                    </a:cubicBezTo>
                    <a:close/>
                    <a:moveTo>
                      <a:pt x="8566" y="2"/>
                    </a:moveTo>
                    <a:lnTo>
                      <a:pt x="8566" y="2"/>
                    </a:lnTo>
                    <a:cubicBezTo>
                      <a:pt x="8567" y="2"/>
                      <a:pt x="8568" y="3"/>
                      <a:pt x="8568" y="4"/>
                    </a:cubicBezTo>
                    <a:cubicBezTo>
                      <a:pt x="8568" y="5"/>
                      <a:pt x="8567" y="6"/>
                      <a:pt x="8566" y="6"/>
                    </a:cubicBezTo>
                    <a:lnTo>
                      <a:pt x="8566" y="6"/>
                    </a:lnTo>
                    <a:cubicBezTo>
                      <a:pt x="8565" y="6"/>
                      <a:pt x="8564" y="5"/>
                      <a:pt x="8564" y="4"/>
                    </a:cubicBezTo>
                    <a:cubicBezTo>
                      <a:pt x="8564" y="3"/>
                      <a:pt x="8565" y="2"/>
                      <a:pt x="8566" y="2"/>
                    </a:cubicBezTo>
                    <a:close/>
                    <a:moveTo>
                      <a:pt x="8574" y="2"/>
                    </a:moveTo>
                    <a:lnTo>
                      <a:pt x="8574" y="2"/>
                    </a:lnTo>
                    <a:cubicBezTo>
                      <a:pt x="8575" y="2"/>
                      <a:pt x="8576" y="3"/>
                      <a:pt x="8576" y="4"/>
                    </a:cubicBezTo>
                    <a:cubicBezTo>
                      <a:pt x="8576" y="5"/>
                      <a:pt x="8575" y="6"/>
                      <a:pt x="8574" y="6"/>
                    </a:cubicBezTo>
                    <a:lnTo>
                      <a:pt x="8574" y="6"/>
                    </a:lnTo>
                    <a:cubicBezTo>
                      <a:pt x="8573" y="6"/>
                      <a:pt x="8572" y="5"/>
                      <a:pt x="8572" y="4"/>
                    </a:cubicBezTo>
                    <a:cubicBezTo>
                      <a:pt x="8572" y="3"/>
                      <a:pt x="8573" y="2"/>
                      <a:pt x="8574" y="2"/>
                    </a:cubicBezTo>
                    <a:close/>
                    <a:moveTo>
                      <a:pt x="8582" y="2"/>
                    </a:moveTo>
                    <a:lnTo>
                      <a:pt x="8582" y="2"/>
                    </a:lnTo>
                    <a:cubicBezTo>
                      <a:pt x="8583" y="2"/>
                      <a:pt x="8584" y="3"/>
                      <a:pt x="8584" y="4"/>
                    </a:cubicBezTo>
                    <a:cubicBezTo>
                      <a:pt x="8584" y="5"/>
                      <a:pt x="8583" y="6"/>
                      <a:pt x="8582" y="6"/>
                    </a:cubicBezTo>
                    <a:lnTo>
                      <a:pt x="8582" y="6"/>
                    </a:lnTo>
                    <a:cubicBezTo>
                      <a:pt x="8581" y="6"/>
                      <a:pt x="8580" y="5"/>
                      <a:pt x="8580" y="4"/>
                    </a:cubicBezTo>
                    <a:cubicBezTo>
                      <a:pt x="8580" y="3"/>
                      <a:pt x="8581" y="2"/>
                      <a:pt x="8582" y="2"/>
                    </a:cubicBezTo>
                    <a:close/>
                    <a:moveTo>
                      <a:pt x="8590" y="2"/>
                    </a:moveTo>
                    <a:lnTo>
                      <a:pt x="8590" y="2"/>
                    </a:lnTo>
                    <a:cubicBezTo>
                      <a:pt x="8591" y="2"/>
                      <a:pt x="8592" y="3"/>
                      <a:pt x="8592" y="4"/>
                    </a:cubicBezTo>
                    <a:cubicBezTo>
                      <a:pt x="8592" y="5"/>
                      <a:pt x="8591" y="6"/>
                      <a:pt x="8590" y="6"/>
                    </a:cubicBezTo>
                    <a:lnTo>
                      <a:pt x="8590" y="6"/>
                    </a:lnTo>
                    <a:cubicBezTo>
                      <a:pt x="8589" y="6"/>
                      <a:pt x="8588" y="5"/>
                      <a:pt x="8588" y="4"/>
                    </a:cubicBezTo>
                    <a:cubicBezTo>
                      <a:pt x="8588" y="3"/>
                      <a:pt x="8589" y="2"/>
                      <a:pt x="8590" y="2"/>
                    </a:cubicBezTo>
                    <a:close/>
                    <a:moveTo>
                      <a:pt x="8598" y="2"/>
                    </a:moveTo>
                    <a:lnTo>
                      <a:pt x="8598" y="2"/>
                    </a:lnTo>
                    <a:cubicBezTo>
                      <a:pt x="8599" y="2"/>
                      <a:pt x="8600" y="3"/>
                      <a:pt x="8600" y="4"/>
                    </a:cubicBezTo>
                    <a:cubicBezTo>
                      <a:pt x="8600" y="5"/>
                      <a:pt x="8599" y="6"/>
                      <a:pt x="8598" y="6"/>
                    </a:cubicBezTo>
                    <a:lnTo>
                      <a:pt x="8598" y="6"/>
                    </a:lnTo>
                    <a:cubicBezTo>
                      <a:pt x="8597" y="6"/>
                      <a:pt x="8596" y="5"/>
                      <a:pt x="8596" y="4"/>
                    </a:cubicBezTo>
                    <a:cubicBezTo>
                      <a:pt x="8596" y="3"/>
                      <a:pt x="8597" y="2"/>
                      <a:pt x="8598" y="2"/>
                    </a:cubicBezTo>
                    <a:close/>
                    <a:moveTo>
                      <a:pt x="8606" y="2"/>
                    </a:moveTo>
                    <a:lnTo>
                      <a:pt x="8606" y="2"/>
                    </a:lnTo>
                    <a:cubicBezTo>
                      <a:pt x="8607" y="2"/>
                      <a:pt x="8608" y="3"/>
                      <a:pt x="8608" y="4"/>
                    </a:cubicBezTo>
                    <a:cubicBezTo>
                      <a:pt x="8608" y="5"/>
                      <a:pt x="8607" y="6"/>
                      <a:pt x="8606" y="6"/>
                    </a:cubicBezTo>
                    <a:lnTo>
                      <a:pt x="8606" y="6"/>
                    </a:lnTo>
                    <a:cubicBezTo>
                      <a:pt x="8605" y="6"/>
                      <a:pt x="8604" y="5"/>
                      <a:pt x="8604" y="4"/>
                    </a:cubicBezTo>
                    <a:cubicBezTo>
                      <a:pt x="8604" y="3"/>
                      <a:pt x="8605" y="2"/>
                      <a:pt x="8606" y="2"/>
                    </a:cubicBezTo>
                    <a:close/>
                    <a:moveTo>
                      <a:pt x="8614" y="2"/>
                    </a:moveTo>
                    <a:lnTo>
                      <a:pt x="8614" y="2"/>
                    </a:lnTo>
                    <a:cubicBezTo>
                      <a:pt x="8615" y="2"/>
                      <a:pt x="8616" y="3"/>
                      <a:pt x="8616" y="4"/>
                    </a:cubicBezTo>
                    <a:cubicBezTo>
                      <a:pt x="8616" y="5"/>
                      <a:pt x="8615" y="6"/>
                      <a:pt x="8614" y="6"/>
                    </a:cubicBezTo>
                    <a:lnTo>
                      <a:pt x="8614" y="6"/>
                    </a:lnTo>
                    <a:cubicBezTo>
                      <a:pt x="8613" y="6"/>
                      <a:pt x="8612" y="5"/>
                      <a:pt x="8612" y="4"/>
                    </a:cubicBezTo>
                    <a:cubicBezTo>
                      <a:pt x="8612" y="3"/>
                      <a:pt x="8613" y="2"/>
                      <a:pt x="8614" y="2"/>
                    </a:cubicBezTo>
                    <a:close/>
                    <a:moveTo>
                      <a:pt x="8622" y="2"/>
                    </a:moveTo>
                    <a:lnTo>
                      <a:pt x="8622" y="2"/>
                    </a:lnTo>
                    <a:cubicBezTo>
                      <a:pt x="8623" y="2"/>
                      <a:pt x="8624" y="3"/>
                      <a:pt x="8624" y="4"/>
                    </a:cubicBezTo>
                    <a:cubicBezTo>
                      <a:pt x="8624" y="5"/>
                      <a:pt x="8623" y="6"/>
                      <a:pt x="8622" y="6"/>
                    </a:cubicBezTo>
                    <a:lnTo>
                      <a:pt x="8622" y="6"/>
                    </a:lnTo>
                    <a:cubicBezTo>
                      <a:pt x="8621" y="6"/>
                      <a:pt x="8620" y="5"/>
                      <a:pt x="8620" y="4"/>
                    </a:cubicBezTo>
                    <a:cubicBezTo>
                      <a:pt x="8620" y="3"/>
                      <a:pt x="8621" y="2"/>
                      <a:pt x="8622" y="2"/>
                    </a:cubicBezTo>
                    <a:close/>
                    <a:moveTo>
                      <a:pt x="8630" y="2"/>
                    </a:moveTo>
                    <a:lnTo>
                      <a:pt x="8630" y="2"/>
                    </a:lnTo>
                    <a:cubicBezTo>
                      <a:pt x="8631" y="2"/>
                      <a:pt x="8632" y="3"/>
                      <a:pt x="8632" y="4"/>
                    </a:cubicBezTo>
                    <a:cubicBezTo>
                      <a:pt x="8632" y="5"/>
                      <a:pt x="8631" y="6"/>
                      <a:pt x="8630" y="6"/>
                    </a:cubicBezTo>
                    <a:lnTo>
                      <a:pt x="8630" y="6"/>
                    </a:lnTo>
                    <a:cubicBezTo>
                      <a:pt x="8629" y="6"/>
                      <a:pt x="8628" y="5"/>
                      <a:pt x="8628" y="4"/>
                    </a:cubicBezTo>
                    <a:cubicBezTo>
                      <a:pt x="8628" y="3"/>
                      <a:pt x="8629" y="2"/>
                      <a:pt x="8630" y="2"/>
                    </a:cubicBezTo>
                    <a:close/>
                    <a:moveTo>
                      <a:pt x="8638" y="2"/>
                    </a:moveTo>
                    <a:lnTo>
                      <a:pt x="8638" y="2"/>
                    </a:lnTo>
                    <a:cubicBezTo>
                      <a:pt x="8639" y="2"/>
                      <a:pt x="8640" y="3"/>
                      <a:pt x="8640" y="4"/>
                    </a:cubicBezTo>
                    <a:cubicBezTo>
                      <a:pt x="8640" y="5"/>
                      <a:pt x="8639" y="6"/>
                      <a:pt x="8638" y="6"/>
                    </a:cubicBezTo>
                    <a:lnTo>
                      <a:pt x="8638" y="6"/>
                    </a:lnTo>
                    <a:cubicBezTo>
                      <a:pt x="8637" y="6"/>
                      <a:pt x="8636" y="5"/>
                      <a:pt x="8636" y="4"/>
                    </a:cubicBezTo>
                    <a:cubicBezTo>
                      <a:pt x="8636" y="3"/>
                      <a:pt x="8637" y="2"/>
                      <a:pt x="8638" y="2"/>
                    </a:cubicBezTo>
                    <a:close/>
                    <a:moveTo>
                      <a:pt x="8646" y="2"/>
                    </a:moveTo>
                    <a:lnTo>
                      <a:pt x="8646" y="2"/>
                    </a:lnTo>
                    <a:cubicBezTo>
                      <a:pt x="8647" y="2"/>
                      <a:pt x="8648" y="3"/>
                      <a:pt x="8648" y="4"/>
                    </a:cubicBezTo>
                    <a:cubicBezTo>
                      <a:pt x="8648" y="5"/>
                      <a:pt x="8647" y="6"/>
                      <a:pt x="8646" y="6"/>
                    </a:cubicBezTo>
                    <a:lnTo>
                      <a:pt x="8646" y="6"/>
                    </a:lnTo>
                    <a:cubicBezTo>
                      <a:pt x="8645" y="6"/>
                      <a:pt x="8644" y="5"/>
                      <a:pt x="8644" y="4"/>
                    </a:cubicBezTo>
                    <a:cubicBezTo>
                      <a:pt x="8644" y="3"/>
                      <a:pt x="8645" y="2"/>
                      <a:pt x="8646" y="2"/>
                    </a:cubicBezTo>
                    <a:close/>
                    <a:moveTo>
                      <a:pt x="8654" y="2"/>
                    </a:moveTo>
                    <a:lnTo>
                      <a:pt x="8654" y="2"/>
                    </a:lnTo>
                    <a:cubicBezTo>
                      <a:pt x="8655" y="2"/>
                      <a:pt x="8656" y="3"/>
                      <a:pt x="8656" y="4"/>
                    </a:cubicBezTo>
                    <a:cubicBezTo>
                      <a:pt x="8656" y="5"/>
                      <a:pt x="8655" y="6"/>
                      <a:pt x="8654" y="6"/>
                    </a:cubicBezTo>
                    <a:lnTo>
                      <a:pt x="8654" y="6"/>
                    </a:lnTo>
                    <a:cubicBezTo>
                      <a:pt x="8653" y="6"/>
                      <a:pt x="8652" y="5"/>
                      <a:pt x="8652" y="4"/>
                    </a:cubicBezTo>
                    <a:cubicBezTo>
                      <a:pt x="8652" y="3"/>
                      <a:pt x="8653" y="2"/>
                      <a:pt x="8654" y="2"/>
                    </a:cubicBezTo>
                    <a:close/>
                    <a:moveTo>
                      <a:pt x="8662" y="2"/>
                    </a:moveTo>
                    <a:lnTo>
                      <a:pt x="8662" y="2"/>
                    </a:lnTo>
                    <a:cubicBezTo>
                      <a:pt x="8663" y="2"/>
                      <a:pt x="8664" y="3"/>
                      <a:pt x="8664" y="4"/>
                    </a:cubicBezTo>
                    <a:cubicBezTo>
                      <a:pt x="8664" y="5"/>
                      <a:pt x="8663" y="6"/>
                      <a:pt x="8662" y="6"/>
                    </a:cubicBezTo>
                    <a:lnTo>
                      <a:pt x="8662" y="6"/>
                    </a:lnTo>
                    <a:cubicBezTo>
                      <a:pt x="8661" y="6"/>
                      <a:pt x="8660" y="5"/>
                      <a:pt x="8660" y="4"/>
                    </a:cubicBezTo>
                    <a:cubicBezTo>
                      <a:pt x="8660" y="3"/>
                      <a:pt x="8661" y="2"/>
                      <a:pt x="8662" y="2"/>
                    </a:cubicBezTo>
                    <a:close/>
                    <a:moveTo>
                      <a:pt x="8670" y="2"/>
                    </a:moveTo>
                    <a:lnTo>
                      <a:pt x="8670" y="2"/>
                    </a:lnTo>
                    <a:cubicBezTo>
                      <a:pt x="8671" y="2"/>
                      <a:pt x="8672" y="3"/>
                      <a:pt x="8672" y="4"/>
                    </a:cubicBezTo>
                    <a:cubicBezTo>
                      <a:pt x="8672" y="5"/>
                      <a:pt x="8671" y="6"/>
                      <a:pt x="8670" y="6"/>
                    </a:cubicBezTo>
                    <a:lnTo>
                      <a:pt x="8670" y="6"/>
                    </a:lnTo>
                    <a:cubicBezTo>
                      <a:pt x="8669" y="6"/>
                      <a:pt x="8668" y="5"/>
                      <a:pt x="8668" y="4"/>
                    </a:cubicBezTo>
                    <a:cubicBezTo>
                      <a:pt x="8668" y="3"/>
                      <a:pt x="8669" y="2"/>
                      <a:pt x="8670" y="2"/>
                    </a:cubicBezTo>
                    <a:close/>
                    <a:moveTo>
                      <a:pt x="8678" y="2"/>
                    </a:moveTo>
                    <a:lnTo>
                      <a:pt x="8678" y="2"/>
                    </a:lnTo>
                    <a:cubicBezTo>
                      <a:pt x="8679" y="2"/>
                      <a:pt x="8680" y="3"/>
                      <a:pt x="8680" y="4"/>
                    </a:cubicBezTo>
                    <a:cubicBezTo>
                      <a:pt x="8680" y="5"/>
                      <a:pt x="8679" y="6"/>
                      <a:pt x="8678" y="6"/>
                    </a:cubicBezTo>
                    <a:lnTo>
                      <a:pt x="8678" y="6"/>
                    </a:lnTo>
                    <a:cubicBezTo>
                      <a:pt x="8677" y="6"/>
                      <a:pt x="8676" y="5"/>
                      <a:pt x="8676" y="4"/>
                    </a:cubicBezTo>
                    <a:cubicBezTo>
                      <a:pt x="8676" y="3"/>
                      <a:pt x="8677" y="2"/>
                      <a:pt x="8678" y="2"/>
                    </a:cubicBezTo>
                    <a:close/>
                    <a:moveTo>
                      <a:pt x="8686" y="2"/>
                    </a:moveTo>
                    <a:lnTo>
                      <a:pt x="8686" y="2"/>
                    </a:lnTo>
                    <a:cubicBezTo>
                      <a:pt x="8687" y="2"/>
                      <a:pt x="8688" y="3"/>
                      <a:pt x="8688" y="4"/>
                    </a:cubicBezTo>
                    <a:cubicBezTo>
                      <a:pt x="8688" y="5"/>
                      <a:pt x="8687" y="6"/>
                      <a:pt x="8686" y="6"/>
                    </a:cubicBezTo>
                    <a:lnTo>
                      <a:pt x="8686" y="6"/>
                    </a:lnTo>
                    <a:cubicBezTo>
                      <a:pt x="8685" y="6"/>
                      <a:pt x="8684" y="5"/>
                      <a:pt x="8684" y="4"/>
                    </a:cubicBezTo>
                    <a:cubicBezTo>
                      <a:pt x="8684" y="3"/>
                      <a:pt x="8685" y="2"/>
                      <a:pt x="8686" y="2"/>
                    </a:cubicBezTo>
                    <a:close/>
                    <a:moveTo>
                      <a:pt x="8694" y="2"/>
                    </a:moveTo>
                    <a:lnTo>
                      <a:pt x="8694" y="2"/>
                    </a:lnTo>
                    <a:cubicBezTo>
                      <a:pt x="8695" y="2"/>
                      <a:pt x="8696" y="3"/>
                      <a:pt x="8696" y="4"/>
                    </a:cubicBezTo>
                    <a:cubicBezTo>
                      <a:pt x="8696" y="5"/>
                      <a:pt x="8695" y="6"/>
                      <a:pt x="8694" y="6"/>
                    </a:cubicBezTo>
                    <a:lnTo>
                      <a:pt x="8694" y="6"/>
                    </a:lnTo>
                    <a:cubicBezTo>
                      <a:pt x="8693" y="6"/>
                      <a:pt x="8692" y="5"/>
                      <a:pt x="8692" y="4"/>
                    </a:cubicBezTo>
                    <a:cubicBezTo>
                      <a:pt x="8692" y="3"/>
                      <a:pt x="8693" y="2"/>
                      <a:pt x="8694" y="2"/>
                    </a:cubicBezTo>
                    <a:close/>
                    <a:moveTo>
                      <a:pt x="8702" y="2"/>
                    </a:moveTo>
                    <a:lnTo>
                      <a:pt x="8702" y="2"/>
                    </a:lnTo>
                    <a:cubicBezTo>
                      <a:pt x="8703" y="2"/>
                      <a:pt x="8704" y="3"/>
                      <a:pt x="8704" y="4"/>
                    </a:cubicBezTo>
                    <a:cubicBezTo>
                      <a:pt x="8704" y="5"/>
                      <a:pt x="8703" y="6"/>
                      <a:pt x="8702" y="6"/>
                    </a:cubicBezTo>
                    <a:lnTo>
                      <a:pt x="8702" y="6"/>
                    </a:lnTo>
                    <a:cubicBezTo>
                      <a:pt x="8701" y="6"/>
                      <a:pt x="8700" y="5"/>
                      <a:pt x="8700" y="4"/>
                    </a:cubicBezTo>
                    <a:cubicBezTo>
                      <a:pt x="8700" y="3"/>
                      <a:pt x="8701" y="2"/>
                      <a:pt x="8702" y="2"/>
                    </a:cubicBezTo>
                    <a:close/>
                    <a:moveTo>
                      <a:pt x="8710" y="2"/>
                    </a:moveTo>
                    <a:lnTo>
                      <a:pt x="8710" y="2"/>
                    </a:lnTo>
                    <a:cubicBezTo>
                      <a:pt x="8711" y="2"/>
                      <a:pt x="8712" y="3"/>
                      <a:pt x="8712" y="4"/>
                    </a:cubicBezTo>
                    <a:cubicBezTo>
                      <a:pt x="8712" y="5"/>
                      <a:pt x="8711" y="6"/>
                      <a:pt x="8710" y="6"/>
                    </a:cubicBezTo>
                    <a:lnTo>
                      <a:pt x="8710" y="6"/>
                    </a:lnTo>
                    <a:cubicBezTo>
                      <a:pt x="8709" y="6"/>
                      <a:pt x="8708" y="5"/>
                      <a:pt x="8708" y="4"/>
                    </a:cubicBezTo>
                    <a:cubicBezTo>
                      <a:pt x="8708" y="3"/>
                      <a:pt x="8709" y="2"/>
                      <a:pt x="8710" y="2"/>
                    </a:cubicBezTo>
                    <a:close/>
                    <a:moveTo>
                      <a:pt x="8718" y="2"/>
                    </a:moveTo>
                    <a:lnTo>
                      <a:pt x="8718" y="2"/>
                    </a:lnTo>
                    <a:cubicBezTo>
                      <a:pt x="8719" y="2"/>
                      <a:pt x="8720" y="3"/>
                      <a:pt x="8720" y="4"/>
                    </a:cubicBezTo>
                    <a:cubicBezTo>
                      <a:pt x="8720" y="5"/>
                      <a:pt x="8719" y="6"/>
                      <a:pt x="8718" y="6"/>
                    </a:cubicBezTo>
                    <a:lnTo>
                      <a:pt x="8718" y="6"/>
                    </a:lnTo>
                    <a:cubicBezTo>
                      <a:pt x="8717" y="6"/>
                      <a:pt x="8716" y="5"/>
                      <a:pt x="8716" y="4"/>
                    </a:cubicBezTo>
                    <a:cubicBezTo>
                      <a:pt x="8716" y="3"/>
                      <a:pt x="8717" y="2"/>
                      <a:pt x="8718" y="2"/>
                    </a:cubicBezTo>
                    <a:close/>
                    <a:moveTo>
                      <a:pt x="8726" y="2"/>
                    </a:moveTo>
                    <a:lnTo>
                      <a:pt x="8726" y="2"/>
                    </a:lnTo>
                    <a:cubicBezTo>
                      <a:pt x="8727" y="2"/>
                      <a:pt x="8728" y="3"/>
                      <a:pt x="8728" y="4"/>
                    </a:cubicBezTo>
                    <a:cubicBezTo>
                      <a:pt x="8728" y="5"/>
                      <a:pt x="8727" y="6"/>
                      <a:pt x="8726" y="6"/>
                    </a:cubicBezTo>
                    <a:lnTo>
                      <a:pt x="8726" y="6"/>
                    </a:lnTo>
                    <a:cubicBezTo>
                      <a:pt x="8725" y="6"/>
                      <a:pt x="8724" y="5"/>
                      <a:pt x="8724" y="4"/>
                    </a:cubicBezTo>
                    <a:cubicBezTo>
                      <a:pt x="8724" y="3"/>
                      <a:pt x="8725" y="2"/>
                      <a:pt x="8726" y="2"/>
                    </a:cubicBezTo>
                    <a:close/>
                    <a:moveTo>
                      <a:pt x="8734" y="2"/>
                    </a:moveTo>
                    <a:lnTo>
                      <a:pt x="8734" y="2"/>
                    </a:lnTo>
                    <a:cubicBezTo>
                      <a:pt x="8735" y="2"/>
                      <a:pt x="8736" y="3"/>
                      <a:pt x="8736" y="4"/>
                    </a:cubicBezTo>
                    <a:cubicBezTo>
                      <a:pt x="8736" y="5"/>
                      <a:pt x="8735" y="6"/>
                      <a:pt x="8734" y="6"/>
                    </a:cubicBezTo>
                    <a:lnTo>
                      <a:pt x="8734" y="6"/>
                    </a:lnTo>
                    <a:cubicBezTo>
                      <a:pt x="8733" y="6"/>
                      <a:pt x="8732" y="5"/>
                      <a:pt x="8732" y="4"/>
                    </a:cubicBezTo>
                    <a:cubicBezTo>
                      <a:pt x="8732" y="3"/>
                      <a:pt x="8733" y="2"/>
                      <a:pt x="8734" y="2"/>
                    </a:cubicBezTo>
                    <a:close/>
                    <a:moveTo>
                      <a:pt x="8742" y="2"/>
                    </a:moveTo>
                    <a:lnTo>
                      <a:pt x="8742" y="2"/>
                    </a:lnTo>
                    <a:cubicBezTo>
                      <a:pt x="8743" y="2"/>
                      <a:pt x="8744" y="3"/>
                      <a:pt x="8744" y="4"/>
                    </a:cubicBezTo>
                    <a:cubicBezTo>
                      <a:pt x="8744" y="5"/>
                      <a:pt x="8743" y="6"/>
                      <a:pt x="8742" y="6"/>
                    </a:cubicBezTo>
                    <a:lnTo>
                      <a:pt x="8742" y="6"/>
                    </a:lnTo>
                    <a:cubicBezTo>
                      <a:pt x="8741" y="6"/>
                      <a:pt x="8740" y="5"/>
                      <a:pt x="8740" y="4"/>
                    </a:cubicBezTo>
                    <a:cubicBezTo>
                      <a:pt x="8740" y="3"/>
                      <a:pt x="8741" y="2"/>
                      <a:pt x="8742" y="2"/>
                    </a:cubicBezTo>
                    <a:close/>
                    <a:moveTo>
                      <a:pt x="8750" y="2"/>
                    </a:moveTo>
                    <a:lnTo>
                      <a:pt x="8750" y="2"/>
                    </a:lnTo>
                    <a:cubicBezTo>
                      <a:pt x="8751" y="2"/>
                      <a:pt x="8752" y="3"/>
                      <a:pt x="8752" y="4"/>
                    </a:cubicBezTo>
                    <a:cubicBezTo>
                      <a:pt x="8752" y="5"/>
                      <a:pt x="8751" y="6"/>
                      <a:pt x="8750" y="6"/>
                    </a:cubicBezTo>
                    <a:lnTo>
                      <a:pt x="8750" y="6"/>
                    </a:lnTo>
                    <a:cubicBezTo>
                      <a:pt x="8749" y="6"/>
                      <a:pt x="8748" y="5"/>
                      <a:pt x="8748" y="4"/>
                    </a:cubicBezTo>
                    <a:cubicBezTo>
                      <a:pt x="8748" y="3"/>
                      <a:pt x="8749" y="2"/>
                      <a:pt x="8750" y="2"/>
                    </a:cubicBezTo>
                    <a:close/>
                    <a:moveTo>
                      <a:pt x="8758" y="2"/>
                    </a:moveTo>
                    <a:lnTo>
                      <a:pt x="8758" y="2"/>
                    </a:lnTo>
                    <a:cubicBezTo>
                      <a:pt x="8759" y="2"/>
                      <a:pt x="8760" y="3"/>
                      <a:pt x="8760" y="4"/>
                    </a:cubicBezTo>
                    <a:cubicBezTo>
                      <a:pt x="8760" y="5"/>
                      <a:pt x="8759" y="6"/>
                      <a:pt x="8758" y="6"/>
                    </a:cubicBezTo>
                    <a:lnTo>
                      <a:pt x="8758" y="6"/>
                    </a:lnTo>
                    <a:cubicBezTo>
                      <a:pt x="8757" y="6"/>
                      <a:pt x="8756" y="5"/>
                      <a:pt x="8756" y="4"/>
                    </a:cubicBezTo>
                    <a:cubicBezTo>
                      <a:pt x="8756" y="3"/>
                      <a:pt x="8757" y="2"/>
                      <a:pt x="8758" y="2"/>
                    </a:cubicBezTo>
                    <a:close/>
                    <a:moveTo>
                      <a:pt x="8766" y="2"/>
                    </a:moveTo>
                    <a:lnTo>
                      <a:pt x="8766" y="2"/>
                    </a:lnTo>
                    <a:cubicBezTo>
                      <a:pt x="8767" y="2"/>
                      <a:pt x="8768" y="3"/>
                      <a:pt x="8768" y="4"/>
                    </a:cubicBezTo>
                    <a:cubicBezTo>
                      <a:pt x="8768" y="5"/>
                      <a:pt x="8767" y="6"/>
                      <a:pt x="8766" y="6"/>
                    </a:cubicBezTo>
                    <a:lnTo>
                      <a:pt x="8766" y="6"/>
                    </a:lnTo>
                    <a:cubicBezTo>
                      <a:pt x="8765" y="6"/>
                      <a:pt x="8764" y="5"/>
                      <a:pt x="8764" y="4"/>
                    </a:cubicBezTo>
                    <a:cubicBezTo>
                      <a:pt x="8764" y="3"/>
                      <a:pt x="8765" y="2"/>
                      <a:pt x="8766" y="2"/>
                    </a:cubicBezTo>
                    <a:close/>
                    <a:moveTo>
                      <a:pt x="8774" y="2"/>
                    </a:moveTo>
                    <a:lnTo>
                      <a:pt x="8774" y="2"/>
                    </a:lnTo>
                    <a:cubicBezTo>
                      <a:pt x="8775" y="2"/>
                      <a:pt x="8776" y="3"/>
                      <a:pt x="8776" y="4"/>
                    </a:cubicBezTo>
                    <a:cubicBezTo>
                      <a:pt x="8776" y="5"/>
                      <a:pt x="8775" y="6"/>
                      <a:pt x="8774" y="6"/>
                    </a:cubicBezTo>
                    <a:lnTo>
                      <a:pt x="8774" y="6"/>
                    </a:lnTo>
                    <a:cubicBezTo>
                      <a:pt x="8773" y="6"/>
                      <a:pt x="8772" y="5"/>
                      <a:pt x="8772" y="4"/>
                    </a:cubicBezTo>
                    <a:cubicBezTo>
                      <a:pt x="8772" y="3"/>
                      <a:pt x="8773" y="2"/>
                      <a:pt x="8774" y="2"/>
                    </a:cubicBezTo>
                    <a:close/>
                    <a:moveTo>
                      <a:pt x="8782" y="2"/>
                    </a:moveTo>
                    <a:lnTo>
                      <a:pt x="8782" y="2"/>
                    </a:lnTo>
                    <a:cubicBezTo>
                      <a:pt x="8783" y="2"/>
                      <a:pt x="8784" y="3"/>
                      <a:pt x="8784" y="4"/>
                    </a:cubicBezTo>
                    <a:cubicBezTo>
                      <a:pt x="8784" y="5"/>
                      <a:pt x="8783" y="6"/>
                      <a:pt x="8782" y="6"/>
                    </a:cubicBezTo>
                    <a:lnTo>
                      <a:pt x="8782" y="6"/>
                    </a:lnTo>
                    <a:cubicBezTo>
                      <a:pt x="8781" y="6"/>
                      <a:pt x="8780" y="5"/>
                      <a:pt x="8780" y="4"/>
                    </a:cubicBezTo>
                    <a:cubicBezTo>
                      <a:pt x="8780" y="3"/>
                      <a:pt x="8781" y="2"/>
                      <a:pt x="8782" y="2"/>
                    </a:cubicBezTo>
                    <a:close/>
                    <a:moveTo>
                      <a:pt x="8790" y="2"/>
                    </a:moveTo>
                    <a:lnTo>
                      <a:pt x="8790" y="2"/>
                    </a:lnTo>
                    <a:cubicBezTo>
                      <a:pt x="8791" y="2"/>
                      <a:pt x="8792" y="3"/>
                      <a:pt x="8792" y="4"/>
                    </a:cubicBezTo>
                    <a:cubicBezTo>
                      <a:pt x="8792" y="5"/>
                      <a:pt x="8791" y="6"/>
                      <a:pt x="8790" y="6"/>
                    </a:cubicBezTo>
                    <a:lnTo>
                      <a:pt x="8790" y="6"/>
                    </a:lnTo>
                    <a:cubicBezTo>
                      <a:pt x="8789" y="6"/>
                      <a:pt x="8788" y="5"/>
                      <a:pt x="8788" y="4"/>
                    </a:cubicBezTo>
                    <a:cubicBezTo>
                      <a:pt x="8788" y="3"/>
                      <a:pt x="8789" y="2"/>
                      <a:pt x="8790" y="2"/>
                    </a:cubicBezTo>
                    <a:close/>
                    <a:moveTo>
                      <a:pt x="8798" y="2"/>
                    </a:moveTo>
                    <a:lnTo>
                      <a:pt x="8798" y="2"/>
                    </a:lnTo>
                    <a:cubicBezTo>
                      <a:pt x="8799" y="2"/>
                      <a:pt x="8800" y="3"/>
                      <a:pt x="8800" y="4"/>
                    </a:cubicBezTo>
                    <a:cubicBezTo>
                      <a:pt x="8800" y="5"/>
                      <a:pt x="8799" y="6"/>
                      <a:pt x="8798" y="6"/>
                    </a:cubicBezTo>
                    <a:lnTo>
                      <a:pt x="8798" y="6"/>
                    </a:lnTo>
                    <a:cubicBezTo>
                      <a:pt x="8797" y="6"/>
                      <a:pt x="8796" y="5"/>
                      <a:pt x="8796" y="4"/>
                    </a:cubicBezTo>
                    <a:cubicBezTo>
                      <a:pt x="8796" y="3"/>
                      <a:pt x="8797" y="2"/>
                      <a:pt x="8798" y="2"/>
                    </a:cubicBezTo>
                    <a:close/>
                    <a:moveTo>
                      <a:pt x="8806" y="2"/>
                    </a:moveTo>
                    <a:lnTo>
                      <a:pt x="8806" y="2"/>
                    </a:lnTo>
                    <a:cubicBezTo>
                      <a:pt x="8807" y="2"/>
                      <a:pt x="8808" y="3"/>
                      <a:pt x="8808" y="4"/>
                    </a:cubicBezTo>
                    <a:cubicBezTo>
                      <a:pt x="8808" y="5"/>
                      <a:pt x="8807" y="6"/>
                      <a:pt x="8806" y="6"/>
                    </a:cubicBezTo>
                    <a:lnTo>
                      <a:pt x="8806" y="6"/>
                    </a:lnTo>
                    <a:cubicBezTo>
                      <a:pt x="8805" y="6"/>
                      <a:pt x="8804" y="5"/>
                      <a:pt x="8804" y="4"/>
                    </a:cubicBezTo>
                    <a:cubicBezTo>
                      <a:pt x="8804" y="3"/>
                      <a:pt x="8805" y="2"/>
                      <a:pt x="8806" y="2"/>
                    </a:cubicBezTo>
                    <a:close/>
                    <a:moveTo>
                      <a:pt x="8814" y="2"/>
                    </a:moveTo>
                    <a:lnTo>
                      <a:pt x="8814" y="2"/>
                    </a:lnTo>
                    <a:cubicBezTo>
                      <a:pt x="8815" y="2"/>
                      <a:pt x="8816" y="3"/>
                      <a:pt x="8816" y="4"/>
                    </a:cubicBezTo>
                    <a:cubicBezTo>
                      <a:pt x="8816" y="5"/>
                      <a:pt x="8815" y="6"/>
                      <a:pt x="8814" y="6"/>
                    </a:cubicBezTo>
                    <a:lnTo>
                      <a:pt x="8814" y="6"/>
                    </a:lnTo>
                    <a:cubicBezTo>
                      <a:pt x="8813" y="6"/>
                      <a:pt x="8812" y="5"/>
                      <a:pt x="8812" y="4"/>
                    </a:cubicBezTo>
                    <a:cubicBezTo>
                      <a:pt x="8812" y="3"/>
                      <a:pt x="8813" y="2"/>
                      <a:pt x="8814" y="2"/>
                    </a:cubicBezTo>
                    <a:close/>
                    <a:moveTo>
                      <a:pt x="8822" y="2"/>
                    </a:moveTo>
                    <a:lnTo>
                      <a:pt x="8822" y="2"/>
                    </a:lnTo>
                    <a:cubicBezTo>
                      <a:pt x="8823" y="2"/>
                      <a:pt x="8824" y="3"/>
                      <a:pt x="8824" y="4"/>
                    </a:cubicBezTo>
                    <a:cubicBezTo>
                      <a:pt x="8824" y="5"/>
                      <a:pt x="8823" y="6"/>
                      <a:pt x="8822" y="6"/>
                    </a:cubicBezTo>
                    <a:lnTo>
                      <a:pt x="8822" y="6"/>
                    </a:lnTo>
                    <a:cubicBezTo>
                      <a:pt x="8821" y="6"/>
                      <a:pt x="8820" y="5"/>
                      <a:pt x="8820" y="4"/>
                    </a:cubicBezTo>
                    <a:cubicBezTo>
                      <a:pt x="8820" y="3"/>
                      <a:pt x="8821" y="2"/>
                      <a:pt x="8822" y="2"/>
                    </a:cubicBezTo>
                    <a:close/>
                    <a:moveTo>
                      <a:pt x="8830" y="2"/>
                    </a:moveTo>
                    <a:lnTo>
                      <a:pt x="8830" y="2"/>
                    </a:lnTo>
                    <a:cubicBezTo>
                      <a:pt x="8831" y="2"/>
                      <a:pt x="8832" y="3"/>
                      <a:pt x="8832" y="4"/>
                    </a:cubicBezTo>
                    <a:cubicBezTo>
                      <a:pt x="8832" y="5"/>
                      <a:pt x="8831" y="6"/>
                      <a:pt x="8830" y="6"/>
                    </a:cubicBezTo>
                    <a:lnTo>
                      <a:pt x="8830" y="6"/>
                    </a:lnTo>
                    <a:cubicBezTo>
                      <a:pt x="8829" y="6"/>
                      <a:pt x="8828" y="5"/>
                      <a:pt x="8828" y="4"/>
                    </a:cubicBezTo>
                    <a:cubicBezTo>
                      <a:pt x="8828" y="3"/>
                      <a:pt x="8829" y="2"/>
                      <a:pt x="8830" y="2"/>
                    </a:cubicBezTo>
                    <a:close/>
                    <a:moveTo>
                      <a:pt x="8838" y="2"/>
                    </a:moveTo>
                    <a:lnTo>
                      <a:pt x="8838" y="2"/>
                    </a:lnTo>
                    <a:cubicBezTo>
                      <a:pt x="8839" y="2"/>
                      <a:pt x="8840" y="3"/>
                      <a:pt x="8840" y="4"/>
                    </a:cubicBezTo>
                    <a:cubicBezTo>
                      <a:pt x="8840" y="5"/>
                      <a:pt x="8839" y="6"/>
                      <a:pt x="8838" y="6"/>
                    </a:cubicBezTo>
                    <a:lnTo>
                      <a:pt x="8838" y="6"/>
                    </a:lnTo>
                    <a:cubicBezTo>
                      <a:pt x="8837" y="6"/>
                      <a:pt x="8836" y="5"/>
                      <a:pt x="8836" y="4"/>
                    </a:cubicBezTo>
                    <a:cubicBezTo>
                      <a:pt x="8836" y="3"/>
                      <a:pt x="8837" y="2"/>
                      <a:pt x="8838" y="2"/>
                    </a:cubicBezTo>
                    <a:close/>
                    <a:moveTo>
                      <a:pt x="8846" y="2"/>
                    </a:moveTo>
                    <a:lnTo>
                      <a:pt x="8846" y="2"/>
                    </a:lnTo>
                    <a:cubicBezTo>
                      <a:pt x="8847" y="2"/>
                      <a:pt x="8848" y="3"/>
                      <a:pt x="8848" y="4"/>
                    </a:cubicBezTo>
                    <a:cubicBezTo>
                      <a:pt x="8848" y="5"/>
                      <a:pt x="8847" y="6"/>
                      <a:pt x="8846" y="6"/>
                    </a:cubicBezTo>
                    <a:lnTo>
                      <a:pt x="8846" y="6"/>
                    </a:lnTo>
                    <a:cubicBezTo>
                      <a:pt x="8845" y="6"/>
                      <a:pt x="8844" y="5"/>
                      <a:pt x="8844" y="4"/>
                    </a:cubicBezTo>
                    <a:cubicBezTo>
                      <a:pt x="8844" y="3"/>
                      <a:pt x="8845" y="2"/>
                      <a:pt x="8846" y="2"/>
                    </a:cubicBezTo>
                    <a:close/>
                    <a:moveTo>
                      <a:pt x="8854" y="2"/>
                    </a:moveTo>
                    <a:lnTo>
                      <a:pt x="8854" y="2"/>
                    </a:lnTo>
                    <a:cubicBezTo>
                      <a:pt x="8855" y="2"/>
                      <a:pt x="8856" y="3"/>
                      <a:pt x="8856" y="4"/>
                    </a:cubicBezTo>
                    <a:cubicBezTo>
                      <a:pt x="8856" y="5"/>
                      <a:pt x="8855" y="6"/>
                      <a:pt x="8854" y="6"/>
                    </a:cubicBezTo>
                    <a:lnTo>
                      <a:pt x="8854" y="6"/>
                    </a:lnTo>
                    <a:cubicBezTo>
                      <a:pt x="8853" y="6"/>
                      <a:pt x="8852" y="5"/>
                      <a:pt x="8852" y="4"/>
                    </a:cubicBezTo>
                    <a:cubicBezTo>
                      <a:pt x="8852" y="3"/>
                      <a:pt x="8853" y="2"/>
                      <a:pt x="8854" y="2"/>
                    </a:cubicBezTo>
                    <a:close/>
                    <a:moveTo>
                      <a:pt x="8862" y="2"/>
                    </a:moveTo>
                    <a:lnTo>
                      <a:pt x="8862" y="2"/>
                    </a:lnTo>
                    <a:cubicBezTo>
                      <a:pt x="8863" y="2"/>
                      <a:pt x="8864" y="3"/>
                      <a:pt x="8864" y="4"/>
                    </a:cubicBezTo>
                    <a:cubicBezTo>
                      <a:pt x="8864" y="5"/>
                      <a:pt x="8863" y="6"/>
                      <a:pt x="8862" y="6"/>
                    </a:cubicBezTo>
                    <a:lnTo>
                      <a:pt x="8862" y="6"/>
                    </a:lnTo>
                    <a:cubicBezTo>
                      <a:pt x="8861" y="6"/>
                      <a:pt x="8860" y="5"/>
                      <a:pt x="8860" y="4"/>
                    </a:cubicBezTo>
                    <a:cubicBezTo>
                      <a:pt x="8860" y="3"/>
                      <a:pt x="8861" y="2"/>
                      <a:pt x="8862" y="2"/>
                    </a:cubicBezTo>
                    <a:close/>
                    <a:moveTo>
                      <a:pt x="8870" y="2"/>
                    </a:moveTo>
                    <a:lnTo>
                      <a:pt x="8870" y="2"/>
                    </a:lnTo>
                    <a:cubicBezTo>
                      <a:pt x="8871" y="2"/>
                      <a:pt x="8872" y="3"/>
                      <a:pt x="8872" y="4"/>
                    </a:cubicBezTo>
                    <a:cubicBezTo>
                      <a:pt x="8872" y="5"/>
                      <a:pt x="8871" y="6"/>
                      <a:pt x="8870" y="6"/>
                    </a:cubicBezTo>
                    <a:lnTo>
                      <a:pt x="8870" y="6"/>
                    </a:lnTo>
                    <a:cubicBezTo>
                      <a:pt x="8869" y="6"/>
                      <a:pt x="8868" y="5"/>
                      <a:pt x="8868" y="4"/>
                    </a:cubicBezTo>
                    <a:cubicBezTo>
                      <a:pt x="8868" y="3"/>
                      <a:pt x="8869" y="2"/>
                      <a:pt x="8870" y="2"/>
                    </a:cubicBezTo>
                    <a:close/>
                    <a:moveTo>
                      <a:pt x="8878" y="2"/>
                    </a:moveTo>
                    <a:lnTo>
                      <a:pt x="8878" y="2"/>
                    </a:lnTo>
                    <a:cubicBezTo>
                      <a:pt x="8879" y="2"/>
                      <a:pt x="8880" y="3"/>
                      <a:pt x="8880" y="4"/>
                    </a:cubicBezTo>
                    <a:cubicBezTo>
                      <a:pt x="8880" y="5"/>
                      <a:pt x="8879" y="6"/>
                      <a:pt x="8878" y="6"/>
                    </a:cubicBezTo>
                    <a:lnTo>
                      <a:pt x="8878" y="6"/>
                    </a:lnTo>
                    <a:cubicBezTo>
                      <a:pt x="8877" y="6"/>
                      <a:pt x="8876" y="5"/>
                      <a:pt x="8876" y="4"/>
                    </a:cubicBezTo>
                    <a:cubicBezTo>
                      <a:pt x="8876" y="3"/>
                      <a:pt x="8877" y="2"/>
                      <a:pt x="8878" y="2"/>
                    </a:cubicBezTo>
                    <a:close/>
                    <a:moveTo>
                      <a:pt x="8886" y="2"/>
                    </a:moveTo>
                    <a:lnTo>
                      <a:pt x="8886" y="2"/>
                    </a:lnTo>
                    <a:cubicBezTo>
                      <a:pt x="8887" y="2"/>
                      <a:pt x="8888" y="3"/>
                      <a:pt x="8888" y="4"/>
                    </a:cubicBezTo>
                    <a:cubicBezTo>
                      <a:pt x="8888" y="5"/>
                      <a:pt x="8887" y="6"/>
                      <a:pt x="8886" y="6"/>
                    </a:cubicBezTo>
                    <a:lnTo>
                      <a:pt x="8886" y="6"/>
                    </a:lnTo>
                    <a:cubicBezTo>
                      <a:pt x="8885" y="6"/>
                      <a:pt x="8884" y="5"/>
                      <a:pt x="8884" y="4"/>
                    </a:cubicBezTo>
                    <a:cubicBezTo>
                      <a:pt x="8884" y="3"/>
                      <a:pt x="8885" y="2"/>
                      <a:pt x="8886" y="2"/>
                    </a:cubicBezTo>
                    <a:close/>
                    <a:moveTo>
                      <a:pt x="8894" y="2"/>
                    </a:moveTo>
                    <a:lnTo>
                      <a:pt x="8894" y="2"/>
                    </a:lnTo>
                    <a:cubicBezTo>
                      <a:pt x="8895" y="2"/>
                      <a:pt x="8896" y="3"/>
                      <a:pt x="8896" y="4"/>
                    </a:cubicBezTo>
                    <a:cubicBezTo>
                      <a:pt x="8896" y="5"/>
                      <a:pt x="8895" y="6"/>
                      <a:pt x="8894" y="6"/>
                    </a:cubicBezTo>
                    <a:lnTo>
                      <a:pt x="8894" y="6"/>
                    </a:lnTo>
                    <a:cubicBezTo>
                      <a:pt x="8893" y="6"/>
                      <a:pt x="8892" y="5"/>
                      <a:pt x="8892" y="4"/>
                    </a:cubicBezTo>
                    <a:cubicBezTo>
                      <a:pt x="8892" y="3"/>
                      <a:pt x="8893" y="2"/>
                      <a:pt x="8894" y="2"/>
                    </a:cubicBezTo>
                    <a:close/>
                    <a:moveTo>
                      <a:pt x="8902" y="2"/>
                    </a:moveTo>
                    <a:lnTo>
                      <a:pt x="8902" y="2"/>
                    </a:lnTo>
                    <a:cubicBezTo>
                      <a:pt x="8903" y="2"/>
                      <a:pt x="8904" y="3"/>
                      <a:pt x="8904" y="4"/>
                    </a:cubicBezTo>
                    <a:cubicBezTo>
                      <a:pt x="8904" y="5"/>
                      <a:pt x="8903" y="6"/>
                      <a:pt x="8902" y="6"/>
                    </a:cubicBezTo>
                    <a:lnTo>
                      <a:pt x="8902" y="6"/>
                    </a:lnTo>
                    <a:cubicBezTo>
                      <a:pt x="8901" y="6"/>
                      <a:pt x="8900" y="5"/>
                      <a:pt x="8900" y="4"/>
                    </a:cubicBezTo>
                    <a:cubicBezTo>
                      <a:pt x="8900" y="3"/>
                      <a:pt x="8901" y="2"/>
                      <a:pt x="8902" y="2"/>
                    </a:cubicBezTo>
                    <a:close/>
                    <a:moveTo>
                      <a:pt x="8910" y="2"/>
                    </a:moveTo>
                    <a:lnTo>
                      <a:pt x="8910" y="2"/>
                    </a:lnTo>
                    <a:cubicBezTo>
                      <a:pt x="8911" y="2"/>
                      <a:pt x="8912" y="3"/>
                      <a:pt x="8912" y="4"/>
                    </a:cubicBezTo>
                    <a:cubicBezTo>
                      <a:pt x="8912" y="5"/>
                      <a:pt x="8911" y="6"/>
                      <a:pt x="8910" y="6"/>
                    </a:cubicBezTo>
                    <a:lnTo>
                      <a:pt x="8910" y="6"/>
                    </a:lnTo>
                    <a:cubicBezTo>
                      <a:pt x="8909" y="6"/>
                      <a:pt x="8908" y="5"/>
                      <a:pt x="8908" y="4"/>
                    </a:cubicBezTo>
                    <a:cubicBezTo>
                      <a:pt x="8908" y="3"/>
                      <a:pt x="8909" y="2"/>
                      <a:pt x="8910" y="2"/>
                    </a:cubicBezTo>
                    <a:close/>
                    <a:moveTo>
                      <a:pt x="8918" y="2"/>
                    </a:moveTo>
                    <a:lnTo>
                      <a:pt x="8918" y="2"/>
                    </a:lnTo>
                    <a:cubicBezTo>
                      <a:pt x="8919" y="2"/>
                      <a:pt x="8920" y="3"/>
                      <a:pt x="8920" y="4"/>
                    </a:cubicBezTo>
                    <a:cubicBezTo>
                      <a:pt x="8920" y="5"/>
                      <a:pt x="8919" y="6"/>
                      <a:pt x="8918" y="6"/>
                    </a:cubicBezTo>
                    <a:lnTo>
                      <a:pt x="8918" y="6"/>
                    </a:lnTo>
                    <a:cubicBezTo>
                      <a:pt x="8917" y="6"/>
                      <a:pt x="8916" y="5"/>
                      <a:pt x="8916" y="4"/>
                    </a:cubicBezTo>
                    <a:cubicBezTo>
                      <a:pt x="8916" y="3"/>
                      <a:pt x="8917" y="2"/>
                      <a:pt x="8918" y="2"/>
                    </a:cubicBezTo>
                    <a:close/>
                    <a:moveTo>
                      <a:pt x="8926" y="2"/>
                    </a:moveTo>
                    <a:lnTo>
                      <a:pt x="8926" y="2"/>
                    </a:lnTo>
                    <a:cubicBezTo>
                      <a:pt x="8927" y="2"/>
                      <a:pt x="8928" y="3"/>
                      <a:pt x="8928" y="4"/>
                    </a:cubicBezTo>
                    <a:cubicBezTo>
                      <a:pt x="8928" y="5"/>
                      <a:pt x="8927" y="6"/>
                      <a:pt x="8926" y="6"/>
                    </a:cubicBezTo>
                    <a:lnTo>
                      <a:pt x="8926" y="6"/>
                    </a:lnTo>
                    <a:cubicBezTo>
                      <a:pt x="8925" y="6"/>
                      <a:pt x="8924" y="5"/>
                      <a:pt x="8924" y="4"/>
                    </a:cubicBezTo>
                    <a:cubicBezTo>
                      <a:pt x="8924" y="3"/>
                      <a:pt x="8925" y="2"/>
                      <a:pt x="8926" y="2"/>
                    </a:cubicBezTo>
                    <a:close/>
                    <a:moveTo>
                      <a:pt x="8934" y="2"/>
                    </a:moveTo>
                    <a:lnTo>
                      <a:pt x="8934" y="2"/>
                    </a:lnTo>
                    <a:cubicBezTo>
                      <a:pt x="8935" y="2"/>
                      <a:pt x="8936" y="3"/>
                      <a:pt x="8936" y="4"/>
                    </a:cubicBezTo>
                    <a:cubicBezTo>
                      <a:pt x="8936" y="5"/>
                      <a:pt x="8935" y="6"/>
                      <a:pt x="8934" y="6"/>
                    </a:cubicBezTo>
                    <a:lnTo>
                      <a:pt x="8934" y="6"/>
                    </a:lnTo>
                    <a:cubicBezTo>
                      <a:pt x="8933" y="6"/>
                      <a:pt x="8932" y="5"/>
                      <a:pt x="8932" y="4"/>
                    </a:cubicBezTo>
                    <a:cubicBezTo>
                      <a:pt x="8932" y="3"/>
                      <a:pt x="8933" y="2"/>
                      <a:pt x="8934" y="2"/>
                    </a:cubicBezTo>
                    <a:close/>
                    <a:moveTo>
                      <a:pt x="8942" y="2"/>
                    </a:moveTo>
                    <a:lnTo>
                      <a:pt x="8942" y="2"/>
                    </a:lnTo>
                    <a:cubicBezTo>
                      <a:pt x="8943" y="2"/>
                      <a:pt x="8944" y="3"/>
                      <a:pt x="8944" y="4"/>
                    </a:cubicBezTo>
                    <a:cubicBezTo>
                      <a:pt x="8944" y="5"/>
                      <a:pt x="8943" y="6"/>
                      <a:pt x="8942" y="6"/>
                    </a:cubicBezTo>
                    <a:lnTo>
                      <a:pt x="8942" y="6"/>
                    </a:lnTo>
                    <a:cubicBezTo>
                      <a:pt x="8941" y="6"/>
                      <a:pt x="8940" y="5"/>
                      <a:pt x="8940" y="4"/>
                    </a:cubicBezTo>
                    <a:cubicBezTo>
                      <a:pt x="8940" y="3"/>
                      <a:pt x="8941" y="2"/>
                      <a:pt x="8942" y="2"/>
                    </a:cubicBezTo>
                    <a:close/>
                    <a:moveTo>
                      <a:pt x="8950" y="2"/>
                    </a:moveTo>
                    <a:lnTo>
                      <a:pt x="8950" y="2"/>
                    </a:lnTo>
                    <a:cubicBezTo>
                      <a:pt x="8951" y="2"/>
                      <a:pt x="8952" y="3"/>
                      <a:pt x="8952" y="4"/>
                    </a:cubicBezTo>
                    <a:cubicBezTo>
                      <a:pt x="8952" y="5"/>
                      <a:pt x="8951" y="6"/>
                      <a:pt x="8950" y="6"/>
                    </a:cubicBezTo>
                    <a:lnTo>
                      <a:pt x="8950" y="6"/>
                    </a:lnTo>
                    <a:cubicBezTo>
                      <a:pt x="8949" y="6"/>
                      <a:pt x="8948" y="5"/>
                      <a:pt x="8948" y="4"/>
                    </a:cubicBezTo>
                    <a:cubicBezTo>
                      <a:pt x="8948" y="3"/>
                      <a:pt x="8949" y="2"/>
                      <a:pt x="8950" y="2"/>
                    </a:cubicBezTo>
                    <a:close/>
                    <a:moveTo>
                      <a:pt x="8958" y="2"/>
                    </a:moveTo>
                    <a:lnTo>
                      <a:pt x="8958" y="2"/>
                    </a:lnTo>
                    <a:cubicBezTo>
                      <a:pt x="8959" y="2"/>
                      <a:pt x="8960" y="3"/>
                      <a:pt x="8960" y="4"/>
                    </a:cubicBezTo>
                    <a:cubicBezTo>
                      <a:pt x="8960" y="5"/>
                      <a:pt x="8959" y="6"/>
                      <a:pt x="8958" y="6"/>
                    </a:cubicBezTo>
                    <a:lnTo>
                      <a:pt x="8958" y="6"/>
                    </a:lnTo>
                    <a:cubicBezTo>
                      <a:pt x="8957" y="6"/>
                      <a:pt x="8956" y="5"/>
                      <a:pt x="8956" y="4"/>
                    </a:cubicBezTo>
                    <a:cubicBezTo>
                      <a:pt x="8956" y="3"/>
                      <a:pt x="8957" y="2"/>
                      <a:pt x="8958" y="2"/>
                    </a:cubicBezTo>
                    <a:close/>
                    <a:moveTo>
                      <a:pt x="8966" y="2"/>
                    </a:moveTo>
                    <a:lnTo>
                      <a:pt x="8966" y="2"/>
                    </a:lnTo>
                    <a:cubicBezTo>
                      <a:pt x="8967" y="2"/>
                      <a:pt x="8968" y="3"/>
                      <a:pt x="8968" y="4"/>
                    </a:cubicBezTo>
                    <a:cubicBezTo>
                      <a:pt x="8968" y="5"/>
                      <a:pt x="8967" y="6"/>
                      <a:pt x="8966" y="6"/>
                    </a:cubicBezTo>
                    <a:lnTo>
                      <a:pt x="8966" y="6"/>
                    </a:lnTo>
                    <a:cubicBezTo>
                      <a:pt x="8965" y="6"/>
                      <a:pt x="8964" y="5"/>
                      <a:pt x="8964" y="4"/>
                    </a:cubicBezTo>
                    <a:cubicBezTo>
                      <a:pt x="8964" y="3"/>
                      <a:pt x="8965" y="2"/>
                      <a:pt x="8966" y="2"/>
                    </a:cubicBezTo>
                    <a:close/>
                    <a:moveTo>
                      <a:pt x="8974" y="2"/>
                    </a:moveTo>
                    <a:lnTo>
                      <a:pt x="8974" y="2"/>
                    </a:lnTo>
                    <a:cubicBezTo>
                      <a:pt x="8975" y="2"/>
                      <a:pt x="8976" y="3"/>
                      <a:pt x="8976" y="4"/>
                    </a:cubicBezTo>
                    <a:cubicBezTo>
                      <a:pt x="8976" y="5"/>
                      <a:pt x="8975" y="6"/>
                      <a:pt x="8974" y="6"/>
                    </a:cubicBezTo>
                    <a:lnTo>
                      <a:pt x="8974" y="6"/>
                    </a:lnTo>
                    <a:cubicBezTo>
                      <a:pt x="8973" y="6"/>
                      <a:pt x="8972" y="5"/>
                      <a:pt x="8972" y="4"/>
                    </a:cubicBezTo>
                    <a:cubicBezTo>
                      <a:pt x="8972" y="3"/>
                      <a:pt x="8973" y="2"/>
                      <a:pt x="8974" y="2"/>
                    </a:cubicBezTo>
                    <a:close/>
                    <a:moveTo>
                      <a:pt x="8982" y="2"/>
                    </a:moveTo>
                    <a:lnTo>
                      <a:pt x="8982" y="2"/>
                    </a:lnTo>
                    <a:cubicBezTo>
                      <a:pt x="8983" y="2"/>
                      <a:pt x="8984" y="3"/>
                      <a:pt x="8984" y="4"/>
                    </a:cubicBezTo>
                    <a:cubicBezTo>
                      <a:pt x="8984" y="5"/>
                      <a:pt x="8983" y="6"/>
                      <a:pt x="8982" y="6"/>
                    </a:cubicBezTo>
                    <a:lnTo>
                      <a:pt x="8982" y="6"/>
                    </a:lnTo>
                    <a:cubicBezTo>
                      <a:pt x="8981" y="6"/>
                      <a:pt x="8980" y="5"/>
                      <a:pt x="8980" y="4"/>
                    </a:cubicBezTo>
                    <a:cubicBezTo>
                      <a:pt x="8980" y="3"/>
                      <a:pt x="8981" y="2"/>
                      <a:pt x="8982" y="2"/>
                    </a:cubicBezTo>
                    <a:close/>
                    <a:moveTo>
                      <a:pt x="8990" y="2"/>
                    </a:moveTo>
                    <a:lnTo>
                      <a:pt x="8990" y="2"/>
                    </a:lnTo>
                    <a:cubicBezTo>
                      <a:pt x="8991" y="2"/>
                      <a:pt x="8992" y="3"/>
                      <a:pt x="8992" y="4"/>
                    </a:cubicBezTo>
                    <a:cubicBezTo>
                      <a:pt x="8992" y="5"/>
                      <a:pt x="8991" y="6"/>
                      <a:pt x="8990" y="6"/>
                    </a:cubicBezTo>
                    <a:lnTo>
                      <a:pt x="8990" y="6"/>
                    </a:lnTo>
                    <a:cubicBezTo>
                      <a:pt x="8989" y="6"/>
                      <a:pt x="8988" y="5"/>
                      <a:pt x="8988" y="4"/>
                    </a:cubicBezTo>
                    <a:cubicBezTo>
                      <a:pt x="8988" y="3"/>
                      <a:pt x="8989" y="2"/>
                      <a:pt x="8990" y="2"/>
                    </a:cubicBezTo>
                    <a:close/>
                    <a:moveTo>
                      <a:pt x="8998" y="2"/>
                    </a:moveTo>
                    <a:lnTo>
                      <a:pt x="8998" y="2"/>
                    </a:lnTo>
                    <a:cubicBezTo>
                      <a:pt x="8999" y="2"/>
                      <a:pt x="9000" y="3"/>
                      <a:pt x="9000" y="4"/>
                    </a:cubicBezTo>
                    <a:cubicBezTo>
                      <a:pt x="9000" y="5"/>
                      <a:pt x="8999" y="6"/>
                      <a:pt x="8998" y="6"/>
                    </a:cubicBezTo>
                    <a:lnTo>
                      <a:pt x="8998" y="6"/>
                    </a:lnTo>
                    <a:cubicBezTo>
                      <a:pt x="8997" y="6"/>
                      <a:pt x="8996" y="5"/>
                      <a:pt x="8996" y="4"/>
                    </a:cubicBezTo>
                    <a:cubicBezTo>
                      <a:pt x="8996" y="3"/>
                      <a:pt x="8997" y="2"/>
                      <a:pt x="8998" y="2"/>
                    </a:cubicBezTo>
                    <a:close/>
                    <a:moveTo>
                      <a:pt x="9006" y="2"/>
                    </a:moveTo>
                    <a:lnTo>
                      <a:pt x="9006" y="2"/>
                    </a:lnTo>
                    <a:cubicBezTo>
                      <a:pt x="9007" y="2"/>
                      <a:pt x="9008" y="3"/>
                      <a:pt x="9008" y="4"/>
                    </a:cubicBezTo>
                    <a:cubicBezTo>
                      <a:pt x="9008" y="5"/>
                      <a:pt x="9007" y="6"/>
                      <a:pt x="9006" y="6"/>
                    </a:cubicBezTo>
                    <a:lnTo>
                      <a:pt x="9006" y="6"/>
                    </a:lnTo>
                    <a:cubicBezTo>
                      <a:pt x="9005" y="6"/>
                      <a:pt x="9004" y="5"/>
                      <a:pt x="9004" y="4"/>
                    </a:cubicBezTo>
                    <a:cubicBezTo>
                      <a:pt x="9004" y="3"/>
                      <a:pt x="9005" y="2"/>
                      <a:pt x="9006" y="2"/>
                    </a:cubicBezTo>
                    <a:close/>
                    <a:moveTo>
                      <a:pt x="9014" y="2"/>
                    </a:moveTo>
                    <a:lnTo>
                      <a:pt x="9014" y="2"/>
                    </a:lnTo>
                    <a:cubicBezTo>
                      <a:pt x="9015" y="2"/>
                      <a:pt x="9016" y="3"/>
                      <a:pt x="9016" y="4"/>
                    </a:cubicBezTo>
                    <a:cubicBezTo>
                      <a:pt x="9016" y="5"/>
                      <a:pt x="9015" y="6"/>
                      <a:pt x="9014" y="6"/>
                    </a:cubicBezTo>
                    <a:lnTo>
                      <a:pt x="9014" y="6"/>
                    </a:lnTo>
                    <a:cubicBezTo>
                      <a:pt x="9013" y="6"/>
                      <a:pt x="9012" y="5"/>
                      <a:pt x="9012" y="4"/>
                    </a:cubicBezTo>
                    <a:cubicBezTo>
                      <a:pt x="9012" y="3"/>
                      <a:pt x="9013" y="2"/>
                      <a:pt x="9014" y="2"/>
                    </a:cubicBezTo>
                    <a:close/>
                    <a:moveTo>
                      <a:pt x="9022" y="2"/>
                    </a:moveTo>
                    <a:lnTo>
                      <a:pt x="9022" y="2"/>
                    </a:lnTo>
                    <a:cubicBezTo>
                      <a:pt x="9023" y="2"/>
                      <a:pt x="9024" y="3"/>
                      <a:pt x="9024" y="4"/>
                    </a:cubicBezTo>
                    <a:cubicBezTo>
                      <a:pt x="9024" y="5"/>
                      <a:pt x="9023" y="6"/>
                      <a:pt x="9022" y="6"/>
                    </a:cubicBezTo>
                    <a:lnTo>
                      <a:pt x="9022" y="6"/>
                    </a:lnTo>
                    <a:cubicBezTo>
                      <a:pt x="9021" y="6"/>
                      <a:pt x="9020" y="5"/>
                      <a:pt x="9020" y="4"/>
                    </a:cubicBezTo>
                    <a:cubicBezTo>
                      <a:pt x="9020" y="3"/>
                      <a:pt x="9021" y="2"/>
                      <a:pt x="9022" y="2"/>
                    </a:cubicBezTo>
                    <a:close/>
                    <a:moveTo>
                      <a:pt x="9030" y="2"/>
                    </a:moveTo>
                    <a:lnTo>
                      <a:pt x="9030" y="2"/>
                    </a:lnTo>
                    <a:cubicBezTo>
                      <a:pt x="9031" y="2"/>
                      <a:pt x="9032" y="3"/>
                      <a:pt x="9032" y="4"/>
                    </a:cubicBezTo>
                    <a:cubicBezTo>
                      <a:pt x="9032" y="5"/>
                      <a:pt x="9031" y="6"/>
                      <a:pt x="9030" y="6"/>
                    </a:cubicBezTo>
                    <a:lnTo>
                      <a:pt x="9030" y="6"/>
                    </a:lnTo>
                    <a:cubicBezTo>
                      <a:pt x="9029" y="6"/>
                      <a:pt x="9028" y="5"/>
                      <a:pt x="9028" y="4"/>
                    </a:cubicBezTo>
                    <a:cubicBezTo>
                      <a:pt x="9028" y="3"/>
                      <a:pt x="9029" y="2"/>
                      <a:pt x="9030" y="2"/>
                    </a:cubicBezTo>
                    <a:close/>
                    <a:moveTo>
                      <a:pt x="9038" y="2"/>
                    </a:moveTo>
                    <a:lnTo>
                      <a:pt x="9038" y="2"/>
                    </a:lnTo>
                    <a:cubicBezTo>
                      <a:pt x="9039" y="2"/>
                      <a:pt x="9040" y="3"/>
                      <a:pt x="9040" y="4"/>
                    </a:cubicBezTo>
                    <a:cubicBezTo>
                      <a:pt x="9040" y="5"/>
                      <a:pt x="9039" y="6"/>
                      <a:pt x="9038" y="6"/>
                    </a:cubicBezTo>
                    <a:lnTo>
                      <a:pt x="9038" y="6"/>
                    </a:lnTo>
                    <a:cubicBezTo>
                      <a:pt x="9037" y="6"/>
                      <a:pt x="9036" y="5"/>
                      <a:pt x="9036" y="4"/>
                    </a:cubicBezTo>
                    <a:cubicBezTo>
                      <a:pt x="9036" y="3"/>
                      <a:pt x="9037" y="2"/>
                      <a:pt x="9038" y="2"/>
                    </a:cubicBezTo>
                    <a:close/>
                    <a:moveTo>
                      <a:pt x="9046" y="2"/>
                    </a:moveTo>
                    <a:lnTo>
                      <a:pt x="9046" y="2"/>
                    </a:lnTo>
                    <a:cubicBezTo>
                      <a:pt x="9047" y="2"/>
                      <a:pt x="9048" y="3"/>
                      <a:pt x="9048" y="4"/>
                    </a:cubicBezTo>
                    <a:cubicBezTo>
                      <a:pt x="9048" y="5"/>
                      <a:pt x="9047" y="6"/>
                      <a:pt x="9046" y="6"/>
                    </a:cubicBezTo>
                    <a:lnTo>
                      <a:pt x="9046" y="6"/>
                    </a:lnTo>
                    <a:cubicBezTo>
                      <a:pt x="9045" y="6"/>
                      <a:pt x="9044" y="5"/>
                      <a:pt x="9044" y="4"/>
                    </a:cubicBezTo>
                    <a:cubicBezTo>
                      <a:pt x="9044" y="3"/>
                      <a:pt x="9045" y="2"/>
                      <a:pt x="9046" y="2"/>
                    </a:cubicBezTo>
                    <a:close/>
                    <a:moveTo>
                      <a:pt x="9054" y="2"/>
                    </a:moveTo>
                    <a:lnTo>
                      <a:pt x="9054" y="2"/>
                    </a:lnTo>
                    <a:cubicBezTo>
                      <a:pt x="9055" y="2"/>
                      <a:pt x="9056" y="3"/>
                      <a:pt x="9056" y="4"/>
                    </a:cubicBezTo>
                    <a:cubicBezTo>
                      <a:pt x="9056" y="5"/>
                      <a:pt x="9055" y="6"/>
                      <a:pt x="9054" y="6"/>
                    </a:cubicBezTo>
                    <a:lnTo>
                      <a:pt x="9054" y="6"/>
                    </a:lnTo>
                    <a:cubicBezTo>
                      <a:pt x="9053" y="6"/>
                      <a:pt x="9052" y="5"/>
                      <a:pt x="9052" y="4"/>
                    </a:cubicBezTo>
                    <a:cubicBezTo>
                      <a:pt x="9052" y="3"/>
                      <a:pt x="9053" y="2"/>
                      <a:pt x="9054" y="2"/>
                    </a:cubicBezTo>
                    <a:close/>
                    <a:moveTo>
                      <a:pt x="9062" y="2"/>
                    </a:moveTo>
                    <a:lnTo>
                      <a:pt x="9062" y="2"/>
                    </a:lnTo>
                    <a:cubicBezTo>
                      <a:pt x="9063" y="2"/>
                      <a:pt x="9064" y="3"/>
                      <a:pt x="9064" y="4"/>
                    </a:cubicBezTo>
                    <a:cubicBezTo>
                      <a:pt x="9064" y="5"/>
                      <a:pt x="9063" y="6"/>
                      <a:pt x="9062" y="6"/>
                    </a:cubicBezTo>
                    <a:lnTo>
                      <a:pt x="9062" y="6"/>
                    </a:lnTo>
                    <a:cubicBezTo>
                      <a:pt x="9061" y="6"/>
                      <a:pt x="9060" y="5"/>
                      <a:pt x="9060" y="4"/>
                    </a:cubicBezTo>
                    <a:cubicBezTo>
                      <a:pt x="9060" y="3"/>
                      <a:pt x="9061" y="2"/>
                      <a:pt x="9062" y="2"/>
                    </a:cubicBezTo>
                    <a:close/>
                    <a:moveTo>
                      <a:pt x="9070" y="2"/>
                    </a:moveTo>
                    <a:lnTo>
                      <a:pt x="9070" y="2"/>
                    </a:lnTo>
                    <a:cubicBezTo>
                      <a:pt x="9071" y="2"/>
                      <a:pt x="9072" y="3"/>
                      <a:pt x="9072" y="4"/>
                    </a:cubicBezTo>
                    <a:cubicBezTo>
                      <a:pt x="9072" y="5"/>
                      <a:pt x="9071" y="6"/>
                      <a:pt x="9070" y="6"/>
                    </a:cubicBezTo>
                    <a:lnTo>
                      <a:pt x="9070" y="6"/>
                    </a:lnTo>
                    <a:cubicBezTo>
                      <a:pt x="9069" y="6"/>
                      <a:pt x="9068" y="5"/>
                      <a:pt x="9068" y="4"/>
                    </a:cubicBezTo>
                    <a:cubicBezTo>
                      <a:pt x="9068" y="3"/>
                      <a:pt x="9069" y="2"/>
                      <a:pt x="9070" y="2"/>
                    </a:cubicBezTo>
                    <a:close/>
                    <a:moveTo>
                      <a:pt x="9078" y="2"/>
                    </a:moveTo>
                    <a:lnTo>
                      <a:pt x="9078" y="2"/>
                    </a:lnTo>
                    <a:cubicBezTo>
                      <a:pt x="9079" y="2"/>
                      <a:pt x="9080" y="3"/>
                      <a:pt x="9080" y="4"/>
                    </a:cubicBezTo>
                    <a:cubicBezTo>
                      <a:pt x="9080" y="5"/>
                      <a:pt x="9079" y="6"/>
                      <a:pt x="9078" y="6"/>
                    </a:cubicBezTo>
                    <a:lnTo>
                      <a:pt x="9078" y="6"/>
                    </a:lnTo>
                    <a:cubicBezTo>
                      <a:pt x="9077" y="6"/>
                      <a:pt x="9076" y="5"/>
                      <a:pt x="9076" y="4"/>
                    </a:cubicBezTo>
                    <a:cubicBezTo>
                      <a:pt x="9076" y="3"/>
                      <a:pt x="9077" y="2"/>
                      <a:pt x="9078" y="2"/>
                    </a:cubicBezTo>
                    <a:close/>
                    <a:moveTo>
                      <a:pt x="9086" y="2"/>
                    </a:moveTo>
                    <a:lnTo>
                      <a:pt x="9086" y="2"/>
                    </a:lnTo>
                    <a:cubicBezTo>
                      <a:pt x="9087" y="2"/>
                      <a:pt x="9088" y="3"/>
                      <a:pt x="9088" y="4"/>
                    </a:cubicBezTo>
                    <a:cubicBezTo>
                      <a:pt x="9088" y="5"/>
                      <a:pt x="9087" y="6"/>
                      <a:pt x="9086" y="6"/>
                    </a:cubicBezTo>
                    <a:lnTo>
                      <a:pt x="9086" y="6"/>
                    </a:lnTo>
                    <a:cubicBezTo>
                      <a:pt x="9085" y="6"/>
                      <a:pt x="9084" y="5"/>
                      <a:pt x="9084" y="4"/>
                    </a:cubicBezTo>
                    <a:cubicBezTo>
                      <a:pt x="9084" y="3"/>
                      <a:pt x="9085" y="2"/>
                      <a:pt x="9086" y="2"/>
                    </a:cubicBezTo>
                    <a:close/>
                    <a:moveTo>
                      <a:pt x="9094" y="2"/>
                    </a:moveTo>
                    <a:lnTo>
                      <a:pt x="9094" y="2"/>
                    </a:lnTo>
                    <a:cubicBezTo>
                      <a:pt x="9095" y="2"/>
                      <a:pt x="9096" y="3"/>
                      <a:pt x="9096" y="4"/>
                    </a:cubicBezTo>
                    <a:cubicBezTo>
                      <a:pt x="9096" y="5"/>
                      <a:pt x="9095" y="6"/>
                      <a:pt x="9094" y="6"/>
                    </a:cubicBezTo>
                    <a:lnTo>
                      <a:pt x="9094" y="6"/>
                    </a:lnTo>
                    <a:cubicBezTo>
                      <a:pt x="9093" y="6"/>
                      <a:pt x="9092" y="5"/>
                      <a:pt x="9092" y="4"/>
                    </a:cubicBezTo>
                    <a:cubicBezTo>
                      <a:pt x="9092" y="3"/>
                      <a:pt x="9093" y="2"/>
                      <a:pt x="9094" y="2"/>
                    </a:cubicBezTo>
                    <a:close/>
                    <a:moveTo>
                      <a:pt x="9102" y="2"/>
                    </a:moveTo>
                    <a:lnTo>
                      <a:pt x="9102" y="2"/>
                    </a:lnTo>
                    <a:cubicBezTo>
                      <a:pt x="9103" y="2"/>
                      <a:pt x="9104" y="3"/>
                      <a:pt x="9104" y="4"/>
                    </a:cubicBezTo>
                    <a:cubicBezTo>
                      <a:pt x="9104" y="5"/>
                      <a:pt x="9103" y="6"/>
                      <a:pt x="9102" y="6"/>
                    </a:cubicBezTo>
                    <a:lnTo>
                      <a:pt x="9102" y="6"/>
                    </a:lnTo>
                    <a:cubicBezTo>
                      <a:pt x="9101" y="6"/>
                      <a:pt x="9100" y="5"/>
                      <a:pt x="9100" y="4"/>
                    </a:cubicBezTo>
                    <a:cubicBezTo>
                      <a:pt x="9100" y="3"/>
                      <a:pt x="9101" y="2"/>
                      <a:pt x="9102" y="2"/>
                    </a:cubicBezTo>
                    <a:close/>
                    <a:moveTo>
                      <a:pt x="9110" y="2"/>
                    </a:moveTo>
                    <a:lnTo>
                      <a:pt x="9110" y="2"/>
                    </a:lnTo>
                    <a:cubicBezTo>
                      <a:pt x="9111" y="2"/>
                      <a:pt x="9112" y="3"/>
                      <a:pt x="9112" y="4"/>
                    </a:cubicBezTo>
                    <a:cubicBezTo>
                      <a:pt x="9112" y="5"/>
                      <a:pt x="9111" y="6"/>
                      <a:pt x="9110" y="6"/>
                    </a:cubicBezTo>
                    <a:lnTo>
                      <a:pt x="9110" y="6"/>
                    </a:lnTo>
                    <a:cubicBezTo>
                      <a:pt x="9109" y="6"/>
                      <a:pt x="9108" y="5"/>
                      <a:pt x="9108" y="4"/>
                    </a:cubicBezTo>
                    <a:cubicBezTo>
                      <a:pt x="9108" y="3"/>
                      <a:pt x="9109" y="2"/>
                      <a:pt x="9110" y="2"/>
                    </a:cubicBezTo>
                    <a:close/>
                    <a:moveTo>
                      <a:pt x="9118" y="2"/>
                    </a:moveTo>
                    <a:lnTo>
                      <a:pt x="9118" y="2"/>
                    </a:lnTo>
                    <a:cubicBezTo>
                      <a:pt x="9119" y="2"/>
                      <a:pt x="9120" y="3"/>
                      <a:pt x="9120" y="4"/>
                    </a:cubicBezTo>
                    <a:cubicBezTo>
                      <a:pt x="9120" y="5"/>
                      <a:pt x="9119" y="6"/>
                      <a:pt x="9118" y="6"/>
                    </a:cubicBezTo>
                    <a:lnTo>
                      <a:pt x="9118" y="6"/>
                    </a:lnTo>
                    <a:cubicBezTo>
                      <a:pt x="9117" y="6"/>
                      <a:pt x="9116" y="5"/>
                      <a:pt x="9116" y="4"/>
                    </a:cubicBezTo>
                    <a:cubicBezTo>
                      <a:pt x="9116" y="3"/>
                      <a:pt x="9117" y="2"/>
                      <a:pt x="9118" y="2"/>
                    </a:cubicBezTo>
                    <a:close/>
                    <a:moveTo>
                      <a:pt x="9126" y="2"/>
                    </a:moveTo>
                    <a:lnTo>
                      <a:pt x="9126" y="2"/>
                    </a:lnTo>
                    <a:cubicBezTo>
                      <a:pt x="9127" y="2"/>
                      <a:pt x="9128" y="3"/>
                      <a:pt x="9128" y="4"/>
                    </a:cubicBezTo>
                    <a:cubicBezTo>
                      <a:pt x="9128" y="5"/>
                      <a:pt x="9127" y="6"/>
                      <a:pt x="9126" y="6"/>
                    </a:cubicBezTo>
                    <a:lnTo>
                      <a:pt x="9126" y="6"/>
                    </a:lnTo>
                    <a:cubicBezTo>
                      <a:pt x="9125" y="6"/>
                      <a:pt x="9124" y="5"/>
                      <a:pt x="9124" y="4"/>
                    </a:cubicBezTo>
                    <a:cubicBezTo>
                      <a:pt x="9124" y="3"/>
                      <a:pt x="9125" y="2"/>
                      <a:pt x="9126" y="2"/>
                    </a:cubicBezTo>
                    <a:close/>
                    <a:moveTo>
                      <a:pt x="9134" y="2"/>
                    </a:moveTo>
                    <a:lnTo>
                      <a:pt x="9134" y="2"/>
                    </a:lnTo>
                    <a:cubicBezTo>
                      <a:pt x="9135" y="2"/>
                      <a:pt x="9136" y="3"/>
                      <a:pt x="9136" y="4"/>
                    </a:cubicBezTo>
                    <a:cubicBezTo>
                      <a:pt x="9136" y="5"/>
                      <a:pt x="9135" y="6"/>
                      <a:pt x="9134" y="6"/>
                    </a:cubicBezTo>
                    <a:lnTo>
                      <a:pt x="9134" y="6"/>
                    </a:lnTo>
                    <a:cubicBezTo>
                      <a:pt x="9133" y="6"/>
                      <a:pt x="9132" y="5"/>
                      <a:pt x="9132" y="4"/>
                    </a:cubicBezTo>
                    <a:cubicBezTo>
                      <a:pt x="9132" y="3"/>
                      <a:pt x="9133" y="2"/>
                      <a:pt x="9134" y="2"/>
                    </a:cubicBezTo>
                    <a:close/>
                    <a:moveTo>
                      <a:pt x="9142" y="2"/>
                    </a:moveTo>
                    <a:lnTo>
                      <a:pt x="9142" y="2"/>
                    </a:lnTo>
                    <a:cubicBezTo>
                      <a:pt x="9143" y="2"/>
                      <a:pt x="9144" y="3"/>
                      <a:pt x="9144" y="4"/>
                    </a:cubicBezTo>
                    <a:cubicBezTo>
                      <a:pt x="9144" y="5"/>
                      <a:pt x="9143" y="6"/>
                      <a:pt x="9142" y="6"/>
                    </a:cubicBezTo>
                    <a:lnTo>
                      <a:pt x="9142" y="6"/>
                    </a:lnTo>
                    <a:cubicBezTo>
                      <a:pt x="9141" y="6"/>
                      <a:pt x="9140" y="5"/>
                      <a:pt x="9140" y="4"/>
                    </a:cubicBezTo>
                    <a:cubicBezTo>
                      <a:pt x="9140" y="3"/>
                      <a:pt x="9141" y="2"/>
                      <a:pt x="9142" y="2"/>
                    </a:cubicBezTo>
                    <a:close/>
                    <a:moveTo>
                      <a:pt x="9150" y="2"/>
                    </a:moveTo>
                    <a:lnTo>
                      <a:pt x="9150" y="2"/>
                    </a:lnTo>
                    <a:cubicBezTo>
                      <a:pt x="9152" y="2"/>
                      <a:pt x="9152" y="3"/>
                      <a:pt x="9152" y="4"/>
                    </a:cubicBezTo>
                    <a:cubicBezTo>
                      <a:pt x="9152" y="5"/>
                      <a:pt x="9152" y="6"/>
                      <a:pt x="9150" y="6"/>
                    </a:cubicBezTo>
                    <a:lnTo>
                      <a:pt x="9150" y="6"/>
                    </a:lnTo>
                    <a:cubicBezTo>
                      <a:pt x="9149" y="6"/>
                      <a:pt x="9148" y="5"/>
                      <a:pt x="9148" y="4"/>
                    </a:cubicBezTo>
                    <a:cubicBezTo>
                      <a:pt x="9148" y="3"/>
                      <a:pt x="9149" y="2"/>
                      <a:pt x="9150" y="2"/>
                    </a:cubicBezTo>
                    <a:close/>
                    <a:moveTo>
                      <a:pt x="9158" y="2"/>
                    </a:moveTo>
                    <a:lnTo>
                      <a:pt x="9158" y="2"/>
                    </a:lnTo>
                    <a:cubicBezTo>
                      <a:pt x="9160" y="2"/>
                      <a:pt x="9160" y="3"/>
                      <a:pt x="9160" y="4"/>
                    </a:cubicBezTo>
                    <a:cubicBezTo>
                      <a:pt x="9160" y="5"/>
                      <a:pt x="9160" y="6"/>
                      <a:pt x="9158" y="6"/>
                    </a:cubicBezTo>
                    <a:lnTo>
                      <a:pt x="9158" y="6"/>
                    </a:lnTo>
                    <a:cubicBezTo>
                      <a:pt x="9157" y="6"/>
                      <a:pt x="9156" y="5"/>
                      <a:pt x="9156" y="4"/>
                    </a:cubicBezTo>
                    <a:cubicBezTo>
                      <a:pt x="9156" y="3"/>
                      <a:pt x="9157" y="2"/>
                      <a:pt x="9158" y="2"/>
                    </a:cubicBezTo>
                    <a:close/>
                    <a:moveTo>
                      <a:pt x="9166" y="2"/>
                    </a:moveTo>
                    <a:lnTo>
                      <a:pt x="9166" y="2"/>
                    </a:lnTo>
                    <a:cubicBezTo>
                      <a:pt x="9168" y="2"/>
                      <a:pt x="9168" y="3"/>
                      <a:pt x="9168" y="4"/>
                    </a:cubicBezTo>
                    <a:cubicBezTo>
                      <a:pt x="9168" y="5"/>
                      <a:pt x="9168" y="6"/>
                      <a:pt x="9166" y="6"/>
                    </a:cubicBezTo>
                    <a:lnTo>
                      <a:pt x="9166" y="6"/>
                    </a:lnTo>
                    <a:cubicBezTo>
                      <a:pt x="9165" y="6"/>
                      <a:pt x="9164" y="5"/>
                      <a:pt x="9164" y="4"/>
                    </a:cubicBezTo>
                    <a:cubicBezTo>
                      <a:pt x="9164" y="3"/>
                      <a:pt x="9165" y="2"/>
                      <a:pt x="9166" y="2"/>
                    </a:cubicBezTo>
                    <a:close/>
                    <a:moveTo>
                      <a:pt x="9174" y="2"/>
                    </a:moveTo>
                    <a:lnTo>
                      <a:pt x="9174" y="2"/>
                    </a:lnTo>
                    <a:cubicBezTo>
                      <a:pt x="9176" y="2"/>
                      <a:pt x="9176" y="3"/>
                      <a:pt x="9176" y="4"/>
                    </a:cubicBezTo>
                    <a:cubicBezTo>
                      <a:pt x="9176" y="5"/>
                      <a:pt x="9176" y="6"/>
                      <a:pt x="9174" y="6"/>
                    </a:cubicBezTo>
                    <a:lnTo>
                      <a:pt x="9174" y="6"/>
                    </a:lnTo>
                    <a:cubicBezTo>
                      <a:pt x="9173" y="6"/>
                      <a:pt x="9172" y="5"/>
                      <a:pt x="9172" y="4"/>
                    </a:cubicBezTo>
                    <a:cubicBezTo>
                      <a:pt x="9172" y="3"/>
                      <a:pt x="9173" y="2"/>
                      <a:pt x="9174" y="2"/>
                    </a:cubicBezTo>
                    <a:close/>
                    <a:moveTo>
                      <a:pt x="9182" y="2"/>
                    </a:moveTo>
                    <a:lnTo>
                      <a:pt x="9182" y="2"/>
                    </a:lnTo>
                    <a:cubicBezTo>
                      <a:pt x="9184" y="2"/>
                      <a:pt x="9184" y="3"/>
                      <a:pt x="9184" y="4"/>
                    </a:cubicBezTo>
                    <a:cubicBezTo>
                      <a:pt x="9184" y="5"/>
                      <a:pt x="9184" y="6"/>
                      <a:pt x="9182" y="6"/>
                    </a:cubicBezTo>
                    <a:lnTo>
                      <a:pt x="9182" y="6"/>
                    </a:lnTo>
                    <a:cubicBezTo>
                      <a:pt x="9181" y="6"/>
                      <a:pt x="9180" y="5"/>
                      <a:pt x="9180" y="4"/>
                    </a:cubicBezTo>
                    <a:cubicBezTo>
                      <a:pt x="9180" y="3"/>
                      <a:pt x="9181" y="2"/>
                      <a:pt x="9182" y="2"/>
                    </a:cubicBezTo>
                    <a:close/>
                    <a:moveTo>
                      <a:pt x="9190" y="2"/>
                    </a:moveTo>
                    <a:lnTo>
                      <a:pt x="9190" y="2"/>
                    </a:lnTo>
                    <a:cubicBezTo>
                      <a:pt x="9192" y="2"/>
                      <a:pt x="9192" y="3"/>
                      <a:pt x="9192" y="4"/>
                    </a:cubicBezTo>
                    <a:cubicBezTo>
                      <a:pt x="9192" y="5"/>
                      <a:pt x="9192" y="6"/>
                      <a:pt x="9190" y="6"/>
                    </a:cubicBezTo>
                    <a:lnTo>
                      <a:pt x="9190" y="6"/>
                    </a:lnTo>
                    <a:cubicBezTo>
                      <a:pt x="9189" y="6"/>
                      <a:pt x="9188" y="5"/>
                      <a:pt x="9188" y="4"/>
                    </a:cubicBezTo>
                    <a:cubicBezTo>
                      <a:pt x="9188" y="3"/>
                      <a:pt x="9189" y="2"/>
                      <a:pt x="9190" y="2"/>
                    </a:cubicBezTo>
                    <a:close/>
                    <a:moveTo>
                      <a:pt x="9198" y="2"/>
                    </a:moveTo>
                    <a:lnTo>
                      <a:pt x="9198" y="2"/>
                    </a:lnTo>
                    <a:cubicBezTo>
                      <a:pt x="9200" y="2"/>
                      <a:pt x="9200" y="3"/>
                      <a:pt x="9200" y="4"/>
                    </a:cubicBezTo>
                    <a:cubicBezTo>
                      <a:pt x="9200" y="5"/>
                      <a:pt x="9200" y="6"/>
                      <a:pt x="9198" y="6"/>
                    </a:cubicBezTo>
                    <a:lnTo>
                      <a:pt x="9198" y="6"/>
                    </a:lnTo>
                    <a:cubicBezTo>
                      <a:pt x="9197" y="6"/>
                      <a:pt x="9196" y="5"/>
                      <a:pt x="9196" y="4"/>
                    </a:cubicBezTo>
                    <a:cubicBezTo>
                      <a:pt x="9196" y="3"/>
                      <a:pt x="9197" y="2"/>
                      <a:pt x="9198" y="2"/>
                    </a:cubicBezTo>
                    <a:close/>
                    <a:moveTo>
                      <a:pt x="9206" y="2"/>
                    </a:moveTo>
                    <a:lnTo>
                      <a:pt x="9206" y="2"/>
                    </a:lnTo>
                    <a:cubicBezTo>
                      <a:pt x="9208" y="2"/>
                      <a:pt x="9208" y="3"/>
                      <a:pt x="9208" y="4"/>
                    </a:cubicBezTo>
                    <a:cubicBezTo>
                      <a:pt x="9208" y="5"/>
                      <a:pt x="9208" y="6"/>
                      <a:pt x="9206" y="6"/>
                    </a:cubicBezTo>
                    <a:lnTo>
                      <a:pt x="9206" y="6"/>
                    </a:lnTo>
                    <a:cubicBezTo>
                      <a:pt x="9205" y="6"/>
                      <a:pt x="9204" y="5"/>
                      <a:pt x="9204" y="4"/>
                    </a:cubicBezTo>
                    <a:cubicBezTo>
                      <a:pt x="9204" y="3"/>
                      <a:pt x="9205" y="2"/>
                      <a:pt x="9206" y="2"/>
                    </a:cubicBezTo>
                    <a:close/>
                    <a:moveTo>
                      <a:pt x="9214" y="2"/>
                    </a:moveTo>
                    <a:lnTo>
                      <a:pt x="9214" y="2"/>
                    </a:lnTo>
                    <a:cubicBezTo>
                      <a:pt x="9216" y="2"/>
                      <a:pt x="9216" y="3"/>
                      <a:pt x="9216" y="4"/>
                    </a:cubicBezTo>
                    <a:cubicBezTo>
                      <a:pt x="9216" y="5"/>
                      <a:pt x="9216" y="6"/>
                      <a:pt x="9214" y="6"/>
                    </a:cubicBezTo>
                    <a:lnTo>
                      <a:pt x="9214" y="6"/>
                    </a:lnTo>
                    <a:cubicBezTo>
                      <a:pt x="9213" y="6"/>
                      <a:pt x="9212" y="5"/>
                      <a:pt x="9212" y="4"/>
                    </a:cubicBezTo>
                    <a:cubicBezTo>
                      <a:pt x="9212" y="3"/>
                      <a:pt x="9213" y="2"/>
                      <a:pt x="9214" y="2"/>
                    </a:cubicBezTo>
                    <a:close/>
                    <a:moveTo>
                      <a:pt x="9222" y="2"/>
                    </a:moveTo>
                    <a:lnTo>
                      <a:pt x="9222" y="2"/>
                    </a:lnTo>
                    <a:cubicBezTo>
                      <a:pt x="9224" y="2"/>
                      <a:pt x="9224" y="3"/>
                      <a:pt x="9224" y="4"/>
                    </a:cubicBezTo>
                    <a:cubicBezTo>
                      <a:pt x="9224" y="5"/>
                      <a:pt x="9224" y="6"/>
                      <a:pt x="9222" y="6"/>
                    </a:cubicBezTo>
                    <a:lnTo>
                      <a:pt x="9222" y="6"/>
                    </a:lnTo>
                    <a:cubicBezTo>
                      <a:pt x="9221" y="6"/>
                      <a:pt x="9220" y="5"/>
                      <a:pt x="9220" y="4"/>
                    </a:cubicBezTo>
                    <a:cubicBezTo>
                      <a:pt x="9220" y="3"/>
                      <a:pt x="9221" y="2"/>
                      <a:pt x="9222" y="2"/>
                    </a:cubicBezTo>
                    <a:close/>
                    <a:moveTo>
                      <a:pt x="9230" y="2"/>
                    </a:moveTo>
                    <a:lnTo>
                      <a:pt x="9230" y="2"/>
                    </a:lnTo>
                    <a:cubicBezTo>
                      <a:pt x="9232" y="2"/>
                      <a:pt x="9232" y="3"/>
                      <a:pt x="9232" y="4"/>
                    </a:cubicBezTo>
                    <a:cubicBezTo>
                      <a:pt x="9232" y="5"/>
                      <a:pt x="9232" y="6"/>
                      <a:pt x="9230" y="6"/>
                    </a:cubicBezTo>
                    <a:lnTo>
                      <a:pt x="9230" y="6"/>
                    </a:lnTo>
                    <a:cubicBezTo>
                      <a:pt x="9229" y="6"/>
                      <a:pt x="9228" y="5"/>
                      <a:pt x="9228" y="4"/>
                    </a:cubicBezTo>
                    <a:cubicBezTo>
                      <a:pt x="9228" y="3"/>
                      <a:pt x="9229" y="2"/>
                      <a:pt x="9230" y="2"/>
                    </a:cubicBezTo>
                    <a:close/>
                    <a:moveTo>
                      <a:pt x="9238" y="2"/>
                    </a:moveTo>
                    <a:lnTo>
                      <a:pt x="9238" y="2"/>
                    </a:lnTo>
                    <a:cubicBezTo>
                      <a:pt x="9240" y="2"/>
                      <a:pt x="9240" y="3"/>
                      <a:pt x="9240" y="4"/>
                    </a:cubicBezTo>
                    <a:cubicBezTo>
                      <a:pt x="9240" y="5"/>
                      <a:pt x="9240" y="6"/>
                      <a:pt x="9238" y="6"/>
                    </a:cubicBezTo>
                    <a:lnTo>
                      <a:pt x="9238" y="6"/>
                    </a:lnTo>
                    <a:cubicBezTo>
                      <a:pt x="9237" y="6"/>
                      <a:pt x="9236" y="5"/>
                      <a:pt x="9236" y="4"/>
                    </a:cubicBezTo>
                    <a:cubicBezTo>
                      <a:pt x="9236" y="3"/>
                      <a:pt x="9237" y="2"/>
                      <a:pt x="9238" y="2"/>
                    </a:cubicBezTo>
                    <a:close/>
                    <a:moveTo>
                      <a:pt x="9246" y="2"/>
                    </a:moveTo>
                    <a:lnTo>
                      <a:pt x="9246" y="2"/>
                    </a:lnTo>
                    <a:cubicBezTo>
                      <a:pt x="9248" y="2"/>
                      <a:pt x="9248" y="3"/>
                      <a:pt x="9248" y="4"/>
                    </a:cubicBezTo>
                    <a:cubicBezTo>
                      <a:pt x="9248" y="5"/>
                      <a:pt x="9248" y="6"/>
                      <a:pt x="9246" y="6"/>
                    </a:cubicBezTo>
                    <a:lnTo>
                      <a:pt x="9246" y="6"/>
                    </a:lnTo>
                    <a:cubicBezTo>
                      <a:pt x="9245" y="6"/>
                      <a:pt x="9244" y="5"/>
                      <a:pt x="9244" y="4"/>
                    </a:cubicBezTo>
                    <a:cubicBezTo>
                      <a:pt x="9244" y="3"/>
                      <a:pt x="9245" y="2"/>
                      <a:pt x="9246" y="2"/>
                    </a:cubicBezTo>
                    <a:close/>
                    <a:moveTo>
                      <a:pt x="9254" y="2"/>
                    </a:moveTo>
                    <a:lnTo>
                      <a:pt x="9254" y="2"/>
                    </a:lnTo>
                    <a:cubicBezTo>
                      <a:pt x="9256" y="2"/>
                      <a:pt x="9256" y="3"/>
                      <a:pt x="9256" y="4"/>
                    </a:cubicBezTo>
                    <a:cubicBezTo>
                      <a:pt x="9256" y="5"/>
                      <a:pt x="9256" y="6"/>
                      <a:pt x="9254" y="6"/>
                    </a:cubicBezTo>
                    <a:lnTo>
                      <a:pt x="9254" y="6"/>
                    </a:lnTo>
                    <a:cubicBezTo>
                      <a:pt x="9253" y="6"/>
                      <a:pt x="9252" y="5"/>
                      <a:pt x="9252" y="4"/>
                    </a:cubicBezTo>
                    <a:cubicBezTo>
                      <a:pt x="9252" y="3"/>
                      <a:pt x="9253" y="2"/>
                      <a:pt x="9254" y="2"/>
                    </a:cubicBezTo>
                    <a:close/>
                    <a:moveTo>
                      <a:pt x="9262" y="2"/>
                    </a:moveTo>
                    <a:lnTo>
                      <a:pt x="9262" y="2"/>
                    </a:lnTo>
                    <a:cubicBezTo>
                      <a:pt x="9264" y="2"/>
                      <a:pt x="9264" y="3"/>
                      <a:pt x="9264" y="4"/>
                    </a:cubicBezTo>
                    <a:cubicBezTo>
                      <a:pt x="9264" y="5"/>
                      <a:pt x="9264" y="6"/>
                      <a:pt x="9262" y="6"/>
                    </a:cubicBezTo>
                    <a:lnTo>
                      <a:pt x="9262" y="6"/>
                    </a:lnTo>
                    <a:cubicBezTo>
                      <a:pt x="9261" y="6"/>
                      <a:pt x="9260" y="5"/>
                      <a:pt x="9260" y="4"/>
                    </a:cubicBezTo>
                    <a:cubicBezTo>
                      <a:pt x="9260" y="3"/>
                      <a:pt x="9261" y="2"/>
                      <a:pt x="9262" y="2"/>
                    </a:cubicBezTo>
                    <a:close/>
                    <a:moveTo>
                      <a:pt x="9270" y="2"/>
                    </a:moveTo>
                    <a:lnTo>
                      <a:pt x="9270" y="2"/>
                    </a:lnTo>
                    <a:cubicBezTo>
                      <a:pt x="9272" y="2"/>
                      <a:pt x="9272" y="3"/>
                      <a:pt x="9272" y="4"/>
                    </a:cubicBezTo>
                    <a:cubicBezTo>
                      <a:pt x="9272" y="5"/>
                      <a:pt x="9272" y="6"/>
                      <a:pt x="9270" y="6"/>
                    </a:cubicBezTo>
                    <a:lnTo>
                      <a:pt x="9270" y="6"/>
                    </a:lnTo>
                    <a:cubicBezTo>
                      <a:pt x="9269" y="6"/>
                      <a:pt x="9268" y="5"/>
                      <a:pt x="9268" y="4"/>
                    </a:cubicBezTo>
                    <a:cubicBezTo>
                      <a:pt x="9268" y="3"/>
                      <a:pt x="9269" y="2"/>
                      <a:pt x="9270" y="2"/>
                    </a:cubicBezTo>
                    <a:close/>
                    <a:moveTo>
                      <a:pt x="9278" y="2"/>
                    </a:moveTo>
                    <a:lnTo>
                      <a:pt x="9278" y="2"/>
                    </a:lnTo>
                    <a:cubicBezTo>
                      <a:pt x="9280" y="2"/>
                      <a:pt x="9280" y="3"/>
                      <a:pt x="9280" y="4"/>
                    </a:cubicBezTo>
                    <a:cubicBezTo>
                      <a:pt x="9280" y="5"/>
                      <a:pt x="9280" y="6"/>
                      <a:pt x="9278" y="6"/>
                    </a:cubicBezTo>
                    <a:lnTo>
                      <a:pt x="9278" y="6"/>
                    </a:lnTo>
                    <a:cubicBezTo>
                      <a:pt x="9277" y="6"/>
                      <a:pt x="9276" y="5"/>
                      <a:pt x="9276" y="4"/>
                    </a:cubicBezTo>
                    <a:cubicBezTo>
                      <a:pt x="9276" y="3"/>
                      <a:pt x="9277" y="2"/>
                      <a:pt x="9278" y="2"/>
                    </a:cubicBezTo>
                    <a:close/>
                    <a:moveTo>
                      <a:pt x="9286" y="2"/>
                    </a:moveTo>
                    <a:lnTo>
                      <a:pt x="9286" y="2"/>
                    </a:lnTo>
                    <a:cubicBezTo>
                      <a:pt x="9288" y="2"/>
                      <a:pt x="9288" y="3"/>
                      <a:pt x="9288" y="4"/>
                    </a:cubicBezTo>
                    <a:cubicBezTo>
                      <a:pt x="9288" y="5"/>
                      <a:pt x="9288" y="6"/>
                      <a:pt x="9286" y="6"/>
                    </a:cubicBezTo>
                    <a:lnTo>
                      <a:pt x="9286" y="6"/>
                    </a:lnTo>
                    <a:cubicBezTo>
                      <a:pt x="9285" y="6"/>
                      <a:pt x="9284" y="5"/>
                      <a:pt x="9284" y="4"/>
                    </a:cubicBezTo>
                    <a:cubicBezTo>
                      <a:pt x="9284" y="3"/>
                      <a:pt x="9285" y="2"/>
                      <a:pt x="9286" y="2"/>
                    </a:cubicBezTo>
                    <a:close/>
                    <a:moveTo>
                      <a:pt x="9294" y="2"/>
                    </a:moveTo>
                    <a:lnTo>
                      <a:pt x="9294" y="2"/>
                    </a:lnTo>
                    <a:cubicBezTo>
                      <a:pt x="9296" y="2"/>
                      <a:pt x="9296" y="3"/>
                      <a:pt x="9296" y="4"/>
                    </a:cubicBezTo>
                    <a:cubicBezTo>
                      <a:pt x="9296" y="5"/>
                      <a:pt x="9296" y="6"/>
                      <a:pt x="9294" y="6"/>
                    </a:cubicBezTo>
                    <a:lnTo>
                      <a:pt x="9294" y="6"/>
                    </a:lnTo>
                    <a:cubicBezTo>
                      <a:pt x="9293" y="6"/>
                      <a:pt x="9292" y="5"/>
                      <a:pt x="9292" y="4"/>
                    </a:cubicBezTo>
                    <a:cubicBezTo>
                      <a:pt x="9292" y="3"/>
                      <a:pt x="9293" y="2"/>
                      <a:pt x="9294" y="2"/>
                    </a:cubicBezTo>
                    <a:close/>
                    <a:moveTo>
                      <a:pt x="9302" y="2"/>
                    </a:moveTo>
                    <a:lnTo>
                      <a:pt x="9302" y="2"/>
                    </a:lnTo>
                    <a:cubicBezTo>
                      <a:pt x="9304" y="2"/>
                      <a:pt x="9304" y="3"/>
                      <a:pt x="9304" y="4"/>
                    </a:cubicBezTo>
                    <a:cubicBezTo>
                      <a:pt x="9304" y="5"/>
                      <a:pt x="9304" y="6"/>
                      <a:pt x="9302" y="6"/>
                    </a:cubicBezTo>
                    <a:lnTo>
                      <a:pt x="9302" y="6"/>
                    </a:lnTo>
                    <a:cubicBezTo>
                      <a:pt x="9301" y="6"/>
                      <a:pt x="9300" y="5"/>
                      <a:pt x="9300" y="4"/>
                    </a:cubicBezTo>
                    <a:cubicBezTo>
                      <a:pt x="9300" y="3"/>
                      <a:pt x="9301" y="2"/>
                      <a:pt x="9302" y="2"/>
                    </a:cubicBezTo>
                    <a:close/>
                    <a:moveTo>
                      <a:pt x="9310" y="2"/>
                    </a:moveTo>
                    <a:lnTo>
                      <a:pt x="9310" y="2"/>
                    </a:lnTo>
                    <a:cubicBezTo>
                      <a:pt x="9312" y="2"/>
                      <a:pt x="9312" y="3"/>
                      <a:pt x="9312" y="4"/>
                    </a:cubicBezTo>
                    <a:cubicBezTo>
                      <a:pt x="9312" y="5"/>
                      <a:pt x="9312" y="6"/>
                      <a:pt x="9310" y="6"/>
                    </a:cubicBezTo>
                    <a:lnTo>
                      <a:pt x="9310" y="6"/>
                    </a:lnTo>
                    <a:cubicBezTo>
                      <a:pt x="9309" y="6"/>
                      <a:pt x="9308" y="5"/>
                      <a:pt x="9308" y="4"/>
                    </a:cubicBezTo>
                    <a:cubicBezTo>
                      <a:pt x="9308" y="3"/>
                      <a:pt x="9309" y="2"/>
                      <a:pt x="9310" y="2"/>
                    </a:cubicBezTo>
                    <a:close/>
                    <a:moveTo>
                      <a:pt x="9318" y="2"/>
                    </a:moveTo>
                    <a:lnTo>
                      <a:pt x="9319" y="2"/>
                    </a:lnTo>
                    <a:cubicBezTo>
                      <a:pt x="9320" y="2"/>
                      <a:pt x="9321" y="3"/>
                      <a:pt x="9321" y="4"/>
                    </a:cubicBezTo>
                    <a:cubicBezTo>
                      <a:pt x="9321" y="5"/>
                      <a:pt x="9320" y="6"/>
                      <a:pt x="9319" y="6"/>
                    </a:cubicBezTo>
                    <a:lnTo>
                      <a:pt x="9318" y="6"/>
                    </a:lnTo>
                    <a:cubicBezTo>
                      <a:pt x="9317" y="6"/>
                      <a:pt x="9316" y="5"/>
                      <a:pt x="9316" y="4"/>
                    </a:cubicBezTo>
                    <a:cubicBezTo>
                      <a:pt x="9316" y="3"/>
                      <a:pt x="9317" y="2"/>
                      <a:pt x="9318" y="2"/>
                    </a:cubicBezTo>
                    <a:close/>
                    <a:moveTo>
                      <a:pt x="9327" y="2"/>
                    </a:moveTo>
                    <a:lnTo>
                      <a:pt x="9327" y="2"/>
                    </a:lnTo>
                    <a:cubicBezTo>
                      <a:pt x="9328" y="2"/>
                      <a:pt x="9329" y="3"/>
                      <a:pt x="9329" y="4"/>
                    </a:cubicBezTo>
                    <a:cubicBezTo>
                      <a:pt x="9329" y="5"/>
                      <a:pt x="9328" y="6"/>
                      <a:pt x="9327" y="6"/>
                    </a:cubicBezTo>
                    <a:lnTo>
                      <a:pt x="9327" y="6"/>
                    </a:lnTo>
                    <a:cubicBezTo>
                      <a:pt x="9325" y="6"/>
                      <a:pt x="9325" y="5"/>
                      <a:pt x="9325" y="4"/>
                    </a:cubicBezTo>
                    <a:cubicBezTo>
                      <a:pt x="9325" y="3"/>
                      <a:pt x="9325" y="2"/>
                      <a:pt x="9327" y="2"/>
                    </a:cubicBezTo>
                    <a:close/>
                    <a:moveTo>
                      <a:pt x="9335" y="2"/>
                    </a:moveTo>
                    <a:lnTo>
                      <a:pt x="9335" y="2"/>
                    </a:lnTo>
                    <a:cubicBezTo>
                      <a:pt x="9336" y="2"/>
                      <a:pt x="9337" y="3"/>
                      <a:pt x="9337" y="4"/>
                    </a:cubicBezTo>
                    <a:cubicBezTo>
                      <a:pt x="9337" y="5"/>
                      <a:pt x="9336" y="6"/>
                      <a:pt x="9335" y="6"/>
                    </a:cubicBezTo>
                    <a:lnTo>
                      <a:pt x="9335" y="6"/>
                    </a:lnTo>
                    <a:cubicBezTo>
                      <a:pt x="9333" y="6"/>
                      <a:pt x="9333" y="5"/>
                      <a:pt x="9333" y="4"/>
                    </a:cubicBezTo>
                    <a:cubicBezTo>
                      <a:pt x="9333" y="3"/>
                      <a:pt x="9333" y="2"/>
                      <a:pt x="9335" y="2"/>
                    </a:cubicBezTo>
                    <a:close/>
                    <a:moveTo>
                      <a:pt x="9343" y="2"/>
                    </a:moveTo>
                    <a:lnTo>
                      <a:pt x="9343" y="2"/>
                    </a:lnTo>
                    <a:cubicBezTo>
                      <a:pt x="9344" y="2"/>
                      <a:pt x="9345" y="3"/>
                      <a:pt x="9345" y="4"/>
                    </a:cubicBezTo>
                    <a:cubicBezTo>
                      <a:pt x="9345" y="6"/>
                      <a:pt x="9344" y="6"/>
                      <a:pt x="9343" y="6"/>
                    </a:cubicBezTo>
                    <a:lnTo>
                      <a:pt x="9343" y="6"/>
                    </a:lnTo>
                    <a:cubicBezTo>
                      <a:pt x="9341" y="6"/>
                      <a:pt x="9341" y="6"/>
                      <a:pt x="9341" y="4"/>
                    </a:cubicBezTo>
                    <a:cubicBezTo>
                      <a:pt x="9341" y="3"/>
                      <a:pt x="9341" y="2"/>
                      <a:pt x="9343" y="2"/>
                    </a:cubicBezTo>
                    <a:close/>
                    <a:moveTo>
                      <a:pt x="9351" y="2"/>
                    </a:moveTo>
                    <a:lnTo>
                      <a:pt x="9351" y="2"/>
                    </a:lnTo>
                    <a:cubicBezTo>
                      <a:pt x="9352" y="2"/>
                      <a:pt x="9353" y="3"/>
                      <a:pt x="9353" y="4"/>
                    </a:cubicBezTo>
                    <a:cubicBezTo>
                      <a:pt x="9353" y="6"/>
                      <a:pt x="9352" y="6"/>
                      <a:pt x="9351" y="6"/>
                    </a:cubicBezTo>
                    <a:lnTo>
                      <a:pt x="9351" y="6"/>
                    </a:lnTo>
                    <a:cubicBezTo>
                      <a:pt x="9349" y="6"/>
                      <a:pt x="9349" y="6"/>
                      <a:pt x="9349" y="4"/>
                    </a:cubicBezTo>
                    <a:cubicBezTo>
                      <a:pt x="9349" y="3"/>
                      <a:pt x="9349" y="2"/>
                      <a:pt x="9351" y="2"/>
                    </a:cubicBezTo>
                    <a:close/>
                    <a:moveTo>
                      <a:pt x="9359" y="2"/>
                    </a:moveTo>
                    <a:lnTo>
                      <a:pt x="9359" y="2"/>
                    </a:lnTo>
                    <a:cubicBezTo>
                      <a:pt x="9360" y="2"/>
                      <a:pt x="9361" y="3"/>
                      <a:pt x="9361" y="4"/>
                    </a:cubicBezTo>
                    <a:cubicBezTo>
                      <a:pt x="9361" y="6"/>
                      <a:pt x="9360" y="6"/>
                      <a:pt x="9359" y="6"/>
                    </a:cubicBezTo>
                    <a:lnTo>
                      <a:pt x="9359" y="6"/>
                    </a:lnTo>
                    <a:cubicBezTo>
                      <a:pt x="9357" y="6"/>
                      <a:pt x="9357" y="6"/>
                      <a:pt x="9357" y="4"/>
                    </a:cubicBezTo>
                    <a:cubicBezTo>
                      <a:pt x="9357" y="3"/>
                      <a:pt x="9357" y="2"/>
                      <a:pt x="9359" y="2"/>
                    </a:cubicBezTo>
                    <a:close/>
                    <a:moveTo>
                      <a:pt x="9367" y="2"/>
                    </a:moveTo>
                    <a:lnTo>
                      <a:pt x="9367" y="2"/>
                    </a:lnTo>
                    <a:cubicBezTo>
                      <a:pt x="9368" y="2"/>
                      <a:pt x="9369" y="3"/>
                      <a:pt x="9369" y="4"/>
                    </a:cubicBezTo>
                    <a:cubicBezTo>
                      <a:pt x="9369" y="6"/>
                      <a:pt x="9368" y="6"/>
                      <a:pt x="9367" y="6"/>
                    </a:cubicBezTo>
                    <a:lnTo>
                      <a:pt x="9367" y="6"/>
                    </a:lnTo>
                    <a:cubicBezTo>
                      <a:pt x="9365" y="6"/>
                      <a:pt x="9365" y="6"/>
                      <a:pt x="9365" y="4"/>
                    </a:cubicBezTo>
                    <a:cubicBezTo>
                      <a:pt x="9365" y="3"/>
                      <a:pt x="9365" y="2"/>
                      <a:pt x="9367" y="2"/>
                    </a:cubicBezTo>
                    <a:close/>
                    <a:moveTo>
                      <a:pt x="9375" y="2"/>
                    </a:moveTo>
                    <a:lnTo>
                      <a:pt x="9375" y="2"/>
                    </a:lnTo>
                    <a:cubicBezTo>
                      <a:pt x="9376" y="2"/>
                      <a:pt x="9377" y="3"/>
                      <a:pt x="9377" y="4"/>
                    </a:cubicBezTo>
                    <a:cubicBezTo>
                      <a:pt x="9377" y="6"/>
                      <a:pt x="9376" y="6"/>
                      <a:pt x="9375" y="6"/>
                    </a:cubicBezTo>
                    <a:lnTo>
                      <a:pt x="9375" y="6"/>
                    </a:lnTo>
                    <a:cubicBezTo>
                      <a:pt x="9373" y="6"/>
                      <a:pt x="9373" y="6"/>
                      <a:pt x="9373" y="4"/>
                    </a:cubicBezTo>
                    <a:cubicBezTo>
                      <a:pt x="9373" y="3"/>
                      <a:pt x="9373" y="2"/>
                      <a:pt x="9375" y="2"/>
                    </a:cubicBezTo>
                    <a:close/>
                    <a:moveTo>
                      <a:pt x="9383" y="2"/>
                    </a:moveTo>
                    <a:lnTo>
                      <a:pt x="9383" y="2"/>
                    </a:lnTo>
                    <a:cubicBezTo>
                      <a:pt x="9384" y="2"/>
                      <a:pt x="9385" y="3"/>
                      <a:pt x="9385" y="4"/>
                    </a:cubicBezTo>
                    <a:cubicBezTo>
                      <a:pt x="9385" y="6"/>
                      <a:pt x="9384" y="6"/>
                      <a:pt x="9383" y="6"/>
                    </a:cubicBezTo>
                    <a:lnTo>
                      <a:pt x="9383" y="6"/>
                    </a:lnTo>
                    <a:cubicBezTo>
                      <a:pt x="9381" y="6"/>
                      <a:pt x="9381" y="6"/>
                      <a:pt x="9381" y="4"/>
                    </a:cubicBezTo>
                    <a:cubicBezTo>
                      <a:pt x="9381" y="3"/>
                      <a:pt x="9381" y="2"/>
                      <a:pt x="9383" y="2"/>
                    </a:cubicBezTo>
                    <a:close/>
                    <a:moveTo>
                      <a:pt x="9391" y="2"/>
                    </a:moveTo>
                    <a:lnTo>
                      <a:pt x="9391" y="2"/>
                    </a:lnTo>
                    <a:cubicBezTo>
                      <a:pt x="9392" y="2"/>
                      <a:pt x="9393" y="3"/>
                      <a:pt x="9393" y="4"/>
                    </a:cubicBezTo>
                    <a:cubicBezTo>
                      <a:pt x="9393" y="6"/>
                      <a:pt x="9392" y="6"/>
                      <a:pt x="9391" y="6"/>
                    </a:cubicBezTo>
                    <a:lnTo>
                      <a:pt x="9391" y="6"/>
                    </a:lnTo>
                    <a:cubicBezTo>
                      <a:pt x="9389" y="6"/>
                      <a:pt x="9389" y="6"/>
                      <a:pt x="9389" y="4"/>
                    </a:cubicBezTo>
                    <a:cubicBezTo>
                      <a:pt x="9389" y="3"/>
                      <a:pt x="9389" y="2"/>
                      <a:pt x="9391" y="2"/>
                    </a:cubicBezTo>
                    <a:close/>
                    <a:moveTo>
                      <a:pt x="9399" y="2"/>
                    </a:moveTo>
                    <a:lnTo>
                      <a:pt x="9399" y="2"/>
                    </a:lnTo>
                    <a:cubicBezTo>
                      <a:pt x="9400" y="2"/>
                      <a:pt x="9401" y="3"/>
                      <a:pt x="9401" y="4"/>
                    </a:cubicBezTo>
                    <a:cubicBezTo>
                      <a:pt x="9401" y="6"/>
                      <a:pt x="9400" y="6"/>
                      <a:pt x="9399" y="6"/>
                    </a:cubicBezTo>
                    <a:lnTo>
                      <a:pt x="9399" y="6"/>
                    </a:lnTo>
                    <a:cubicBezTo>
                      <a:pt x="9397" y="6"/>
                      <a:pt x="9397" y="6"/>
                      <a:pt x="9397" y="4"/>
                    </a:cubicBezTo>
                    <a:cubicBezTo>
                      <a:pt x="9397" y="3"/>
                      <a:pt x="9397" y="2"/>
                      <a:pt x="9399" y="2"/>
                    </a:cubicBezTo>
                    <a:close/>
                    <a:moveTo>
                      <a:pt x="9407" y="2"/>
                    </a:moveTo>
                    <a:lnTo>
                      <a:pt x="9407" y="2"/>
                    </a:lnTo>
                    <a:cubicBezTo>
                      <a:pt x="9408" y="2"/>
                      <a:pt x="9409" y="3"/>
                      <a:pt x="9409" y="4"/>
                    </a:cubicBezTo>
                    <a:cubicBezTo>
                      <a:pt x="9409" y="6"/>
                      <a:pt x="9408" y="6"/>
                      <a:pt x="9407" y="6"/>
                    </a:cubicBezTo>
                    <a:lnTo>
                      <a:pt x="9407" y="6"/>
                    </a:lnTo>
                    <a:cubicBezTo>
                      <a:pt x="9405" y="6"/>
                      <a:pt x="9405" y="6"/>
                      <a:pt x="9405" y="4"/>
                    </a:cubicBezTo>
                    <a:cubicBezTo>
                      <a:pt x="9405" y="3"/>
                      <a:pt x="9405" y="2"/>
                      <a:pt x="9407" y="2"/>
                    </a:cubicBezTo>
                    <a:close/>
                    <a:moveTo>
                      <a:pt x="9415" y="2"/>
                    </a:moveTo>
                    <a:lnTo>
                      <a:pt x="9415" y="2"/>
                    </a:lnTo>
                    <a:cubicBezTo>
                      <a:pt x="9416" y="2"/>
                      <a:pt x="9417" y="3"/>
                      <a:pt x="9417" y="4"/>
                    </a:cubicBezTo>
                    <a:cubicBezTo>
                      <a:pt x="9417" y="6"/>
                      <a:pt x="9416" y="6"/>
                      <a:pt x="9415" y="6"/>
                    </a:cubicBezTo>
                    <a:lnTo>
                      <a:pt x="9415" y="6"/>
                    </a:lnTo>
                    <a:cubicBezTo>
                      <a:pt x="9413" y="6"/>
                      <a:pt x="9413" y="6"/>
                      <a:pt x="9413" y="4"/>
                    </a:cubicBezTo>
                    <a:cubicBezTo>
                      <a:pt x="9413" y="3"/>
                      <a:pt x="9413" y="2"/>
                      <a:pt x="9415" y="2"/>
                    </a:cubicBezTo>
                    <a:close/>
                    <a:moveTo>
                      <a:pt x="9423" y="2"/>
                    </a:moveTo>
                    <a:lnTo>
                      <a:pt x="9423" y="2"/>
                    </a:lnTo>
                    <a:cubicBezTo>
                      <a:pt x="9424" y="2"/>
                      <a:pt x="9425" y="3"/>
                      <a:pt x="9425" y="4"/>
                    </a:cubicBezTo>
                    <a:cubicBezTo>
                      <a:pt x="9425" y="6"/>
                      <a:pt x="9424" y="6"/>
                      <a:pt x="9423" y="6"/>
                    </a:cubicBezTo>
                    <a:lnTo>
                      <a:pt x="9423" y="6"/>
                    </a:lnTo>
                    <a:cubicBezTo>
                      <a:pt x="9421" y="6"/>
                      <a:pt x="9421" y="6"/>
                      <a:pt x="9421" y="4"/>
                    </a:cubicBezTo>
                    <a:cubicBezTo>
                      <a:pt x="9421" y="3"/>
                      <a:pt x="9421" y="2"/>
                      <a:pt x="9423" y="2"/>
                    </a:cubicBezTo>
                    <a:close/>
                    <a:moveTo>
                      <a:pt x="9431" y="2"/>
                    </a:moveTo>
                    <a:lnTo>
                      <a:pt x="9431" y="2"/>
                    </a:lnTo>
                    <a:cubicBezTo>
                      <a:pt x="9432" y="2"/>
                      <a:pt x="9433" y="3"/>
                      <a:pt x="9433" y="4"/>
                    </a:cubicBezTo>
                    <a:cubicBezTo>
                      <a:pt x="9433" y="6"/>
                      <a:pt x="9432" y="6"/>
                      <a:pt x="9431" y="6"/>
                    </a:cubicBezTo>
                    <a:lnTo>
                      <a:pt x="9431" y="6"/>
                    </a:lnTo>
                    <a:cubicBezTo>
                      <a:pt x="9429" y="6"/>
                      <a:pt x="9429" y="6"/>
                      <a:pt x="9429" y="4"/>
                    </a:cubicBezTo>
                    <a:cubicBezTo>
                      <a:pt x="9429" y="3"/>
                      <a:pt x="9429" y="2"/>
                      <a:pt x="9431" y="2"/>
                    </a:cubicBezTo>
                    <a:close/>
                    <a:moveTo>
                      <a:pt x="9439" y="2"/>
                    </a:moveTo>
                    <a:lnTo>
                      <a:pt x="9439" y="2"/>
                    </a:lnTo>
                    <a:cubicBezTo>
                      <a:pt x="9440" y="2"/>
                      <a:pt x="9441" y="3"/>
                      <a:pt x="9441" y="4"/>
                    </a:cubicBezTo>
                    <a:cubicBezTo>
                      <a:pt x="9441" y="6"/>
                      <a:pt x="9440" y="6"/>
                      <a:pt x="9439" y="6"/>
                    </a:cubicBezTo>
                    <a:lnTo>
                      <a:pt x="9439" y="6"/>
                    </a:lnTo>
                    <a:cubicBezTo>
                      <a:pt x="9437" y="6"/>
                      <a:pt x="9437" y="6"/>
                      <a:pt x="9437" y="4"/>
                    </a:cubicBezTo>
                    <a:cubicBezTo>
                      <a:pt x="9437" y="3"/>
                      <a:pt x="9437" y="2"/>
                      <a:pt x="9439" y="2"/>
                    </a:cubicBezTo>
                    <a:close/>
                    <a:moveTo>
                      <a:pt x="9447" y="2"/>
                    </a:moveTo>
                    <a:lnTo>
                      <a:pt x="9447" y="2"/>
                    </a:lnTo>
                    <a:cubicBezTo>
                      <a:pt x="9448" y="2"/>
                      <a:pt x="9449" y="3"/>
                      <a:pt x="9449" y="4"/>
                    </a:cubicBezTo>
                    <a:cubicBezTo>
                      <a:pt x="9449" y="6"/>
                      <a:pt x="9448" y="6"/>
                      <a:pt x="9447" y="6"/>
                    </a:cubicBezTo>
                    <a:lnTo>
                      <a:pt x="9447" y="6"/>
                    </a:lnTo>
                    <a:cubicBezTo>
                      <a:pt x="9445" y="6"/>
                      <a:pt x="9445" y="6"/>
                      <a:pt x="9445" y="4"/>
                    </a:cubicBezTo>
                    <a:cubicBezTo>
                      <a:pt x="9445" y="3"/>
                      <a:pt x="9445" y="2"/>
                      <a:pt x="9447" y="2"/>
                    </a:cubicBezTo>
                    <a:close/>
                    <a:moveTo>
                      <a:pt x="9455" y="2"/>
                    </a:moveTo>
                    <a:lnTo>
                      <a:pt x="9455" y="2"/>
                    </a:lnTo>
                    <a:cubicBezTo>
                      <a:pt x="9456" y="2"/>
                      <a:pt x="9457" y="3"/>
                      <a:pt x="9457" y="4"/>
                    </a:cubicBezTo>
                    <a:cubicBezTo>
                      <a:pt x="9457" y="6"/>
                      <a:pt x="9456" y="6"/>
                      <a:pt x="9455" y="6"/>
                    </a:cubicBezTo>
                    <a:lnTo>
                      <a:pt x="9455" y="6"/>
                    </a:lnTo>
                    <a:cubicBezTo>
                      <a:pt x="9453" y="6"/>
                      <a:pt x="9453" y="6"/>
                      <a:pt x="9453" y="4"/>
                    </a:cubicBezTo>
                    <a:cubicBezTo>
                      <a:pt x="9453" y="3"/>
                      <a:pt x="9453" y="2"/>
                      <a:pt x="9455" y="2"/>
                    </a:cubicBezTo>
                    <a:close/>
                    <a:moveTo>
                      <a:pt x="9463" y="2"/>
                    </a:moveTo>
                    <a:lnTo>
                      <a:pt x="9463" y="2"/>
                    </a:lnTo>
                    <a:cubicBezTo>
                      <a:pt x="9464" y="2"/>
                      <a:pt x="9465" y="3"/>
                      <a:pt x="9465" y="4"/>
                    </a:cubicBezTo>
                    <a:cubicBezTo>
                      <a:pt x="9465" y="6"/>
                      <a:pt x="9464" y="6"/>
                      <a:pt x="9463" y="6"/>
                    </a:cubicBezTo>
                    <a:lnTo>
                      <a:pt x="9463" y="6"/>
                    </a:lnTo>
                    <a:cubicBezTo>
                      <a:pt x="9461" y="6"/>
                      <a:pt x="9461" y="6"/>
                      <a:pt x="9461" y="4"/>
                    </a:cubicBezTo>
                    <a:cubicBezTo>
                      <a:pt x="9461" y="3"/>
                      <a:pt x="9461" y="2"/>
                      <a:pt x="9463" y="2"/>
                    </a:cubicBezTo>
                    <a:close/>
                    <a:moveTo>
                      <a:pt x="9471" y="2"/>
                    </a:moveTo>
                    <a:lnTo>
                      <a:pt x="9471" y="2"/>
                    </a:lnTo>
                    <a:cubicBezTo>
                      <a:pt x="9472" y="2"/>
                      <a:pt x="9473" y="3"/>
                      <a:pt x="9473" y="4"/>
                    </a:cubicBezTo>
                    <a:cubicBezTo>
                      <a:pt x="9473" y="6"/>
                      <a:pt x="9472" y="6"/>
                      <a:pt x="9471" y="6"/>
                    </a:cubicBezTo>
                    <a:lnTo>
                      <a:pt x="9471" y="6"/>
                    </a:lnTo>
                    <a:cubicBezTo>
                      <a:pt x="9469" y="6"/>
                      <a:pt x="9469" y="6"/>
                      <a:pt x="9469" y="4"/>
                    </a:cubicBezTo>
                    <a:cubicBezTo>
                      <a:pt x="9469" y="3"/>
                      <a:pt x="9469" y="2"/>
                      <a:pt x="9471" y="2"/>
                    </a:cubicBezTo>
                    <a:close/>
                    <a:moveTo>
                      <a:pt x="9479" y="2"/>
                    </a:moveTo>
                    <a:lnTo>
                      <a:pt x="9479" y="2"/>
                    </a:lnTo>
                    <a:cubicBezTo>
                      <a:pt x="9480" y="2"/>
                      <a:pt x="9481" y="3"/>
                      <a:pt x="9481" y="4"/>
                    </a:cubicBezTo>
                    <a:cubicBezTo>
                      <a:pt x="9481" y="6"/>
                      <a:pt x="9480" y="6"/>
                      <a:pt x="9479" y="6"/>
                    </a:cubicBezTo>
                    <a:lnTo>
                      <a:pt x="9479" y="6"/>
                    </a:lnTo>
                    <a:cubicBezTo>
                      <a:pt x="9477" y="6"/>
                      <a:pt x="9477" y="6"/>
                      <a:pt x="9477" y="4"/>
                    </a:cubicBezTo>
                    <a:cubicBezTo>
                      <a:pt x="9477" y="3"/>
                      <a:pt x="9477" y="2"/>
                      <a:pt x="9479" y="2"/>
                    </a:cubicBezTo>
                    <a:close/>
                    <a:moveTo>
                      <a:pt x="9487" y="2"/>
                    </a:moveTo>
                    <a:lnTo>
                      <a:pt x="9487" y="2"/>
                    </a:lnTo>
                    <a:cubicBezTo>
                      <a:pt x="9488" y="2"/>
                      <a:pt x="9489" y="3"/>
                      <a:pt x="9489" y="4"/>
                    </a:cubicBezTo>
                    <a:cubicBezTo>
                      <a:pt x="9489" y="6"/>
                      <a:pt x="9488" y="6"/>
                      <a:pt x="9487" y="6"/>
                    </a:cubicBezTo>
                    <a:lnTo>
                      <a:pt x="9487" y="6"/>
                    </a:lnTo>
                    <a:cubicBezTo>
                      <a:pt x="9485" y="6"/>
                      <a:pt x="9485" y="6"/>
                      <a:pt x="9485" y="4"/>
                    </a:cubicBezTo>
                    <a:cubicBezTo>
                      <a:pt x="9485" y="3"/>
                      <a:pt x="9485" y="2"/>
                      <a:pt x="9487" y="2"/>
                    </a:cubicBezTo>
                    <a:close/>
                    <a:moveTo>
                      <a:pt x="9495" y="2"/>
                    </a:moveTo>
                    <a:lnTo>
                      <a:pt x="9495" y="2"/>
                    </a:lnTo>
                    <a:cubicBezTo>
                      <a:pt x="9496" y="2"/>
                      <a:pt x="9497" y="3"/>
                      <a:pt x="9497" y="4"/>
                    </a:cubicBezTo>
                    <a:cubicBezTo>
                      <a:pt x="9497" y="6"/>
                      <a:pt x="9496" y="6"/>
                      <a:pt x="9495" y="6"/>
                    </a:cubicBezTo>
                    <a:lnTo>
                      <a:pt x="9495" y="6"/>
                    </a:lnTo>
                    <a:cubicBezTo>
                      <a:pt x="9493" y="6"/>
                      <a:pt x="9493" y="6"/>
                      <a:pt x="9493" y="4"/>
                    </a:cubicBezTo>
                    <a:cubicBezTo>
                      <a:pt x="9493" y="3"/>
                      <a:pt x="9493" y="2"/>
                      <a:pt x="9495" y="2"/>
                    </a:cubicBezTo>
                    <a:close/>
                    <a:moveTo>
                      <a:pt x="9503" y="2"/>
                    </a:moveTo>
                    <a:lnTo>
                      <a:pt x="9503" y="2"/>
                    </a:lnTo>
                    <a:cubicBezTo>
                      <a:pt x="9504" y="2"/>
                      <a:pt x="9505" y="3"/>
                      <a:pt x="9505" y="4"/>
                    </a:cubicBezTo>
                    <a:cubicBezTo>
                      <a:pt x="9505" y="6"/>
                      <a:pt x="9504" y="6"/>
                      <a:pt x="9503" y="6"/>
                    </a:cubicBezTo>
                    <a:lnTo>
                      <a:pt x="9503" y="6"/>
                    </a:lnTo>
                    <a:cubicBezTo>
                      <a:pt x="9502" y="6"/>
                      <a:pt x="9501" y="6"/>
                      <a:pt x="9501" y="4"/>
                    </a:cubicBezTo>
                    <a:cubicBezTo>
                      <a:pt x="9501" y="3"/>
                      <a:pt x="9502" y="2"/>
                      <a:pt x="9503" y="2"/>
                    </a:cubicBezTo>
                    <a:close/>
                    <a:moveTo>
                      <a:pt x="9511" y="2"/>
                    </a:moveTo>
                    <a:lnTo>
                      <a:pt x="9511" y="2"/>
                    </a:lnTo>
                    <a:cubicBezTo>
                      <a:pt x="9512" y="2"/>
                      <a:pt x="9513" y="3"/>
                      <a:pt x="9513" y="4"/>
                    </a:cubicBezTo>
                    <a:cubicBezTo>
                      <a:pt x="9513" y="6"/>
                      <a:pt x="9512" y="6"/>
                      <a:pt x="9511" y="6"/>
                    </a:cubicBezTo>
                    <a:lnTo>
                      <a:pt x="9511" y="6"/>
                    </a:lnTo>
                    <a:cubicBezTo>
                      <a:pt x="9510" y="6"/>
                      <a:pt x="9509" y="6"/>
                      <a:pt x="9509" y="4"/>
                    </a:cubicBezTo>
                    <a:cubicBezTo>
                      <a:pt x="9509" y="3"/>
                      <a:pt x="9510" y="2"/>
                      <a:pt x="9511" y="2"/>
                    </a:cubicBezTo>
                    <a:close/>
                    <a:moveTo>
                      <a:pt x="9519" y="2"/>
                    </a:moveTo>
                    <a:lnTo>
                      <a:pt x="9519" y="2"/>
                    </a:lnTo>
                    <a:cubicBezTo>
                      <a:pt x="9520" y="2"/>
                      <a:pt x="9521" y="3"/>
                      <a:pt x="9521" y="4"/>
                    </a:cubicBezTo>
                    <a:cubicBezTo>
                      <a:pt x="9521" y="6"/>
                      <a:pt x="9520" y="6"/>
                      <a:pt x="9519" y="6"/>
                    </a:cubicBezTo>
                    <a:lnTo>
                      <a:pt x="9519" y="6"/>
                    </a:lnTo>
                    <a:cubicBezTo>
                      <a:pt x="9518" y="6"/>
                      <a:pt x="9517" y="6"/>
                      <a:pt x="9517" y="4"/>
                    </a:cubicBezTo>
                    <a:cubicBezTo>
                      <a:pt x="9517" y="3"/>
                      <a:pt x="9518" y="2"/>
                      <a:pt x="9519" y="2"/>
                    </a:cubicBezTo>
                    <a:close/>
                    <a:moveTo>
                      <a:pt x="9527" y="2"/>
                    </a:moveTo>
                    <a:lnTo>
                      <a:pt x="9527" y="2"/>
                    </a:lnTo>
                    <a:cubicBezTo>
                      <a:pt x="9528" y="2"/>
                      <a:pt x="9529" y="3"/>
                      <a:pt x="9529" y="4"/>
                    </a:cubicBezTo>
                    <a:cubicBezTo>
                      <a:pt x="9529" y="6"/>
                      <a:pt x="9528" y="6"/>
                      <a:pt x="9527" y="6"/>
                    </a:cubicBezTo>
                    <a:lnTo>
                      <a:pt x="9527" y="6"/>
                    </a:lnTo>
                    <a:cubicBezTo>
                      <a:pt x="9526" y="6"/>
                      <a:pt x="9525" y="6"/>
                      <a:pt x="9525" y="4"/>
                    </a:cubicBezTo>
                    <a:cubicBezTo>
                      <a:pt x="9525" y="3"/>
                      <a:pt x="9526" y="2"/>
                      <a:pt x="9527" y="2"/>
                    </a:cubicBezTo>
                    <a:close/>
                    <a:moveTo>
                      <a:pt x="9535" y="2"/>
                    </a:moveTo>
                    <a:lnTo>
                      <a:pt x="9535" y="2"/>
                    </a:lnTo>
                    <a:cubicBezTo>
                      <a:pt x="9536" y="2"/>
                      <a:pt x="9537" y="3"/>
                      <a:pt x="9537" y="4"/>
                    </a:cubicBezTo>
                    <a:cubicBezTo>
                      <a:pt x="9537" y="6"/>
                      <a:pt x="9536" y="6"/>
                      <a:pt x="9535" y="6"/>
                    </a:cubicBezTo>
                    <a:lnTo>
                      <a:pt x="9535" y="6"/>
                    </a:lnTo>
                    <a:cubicBezTo>
                      <a:pt x="9534" y="6"/>
                      <a:pt x="9533" y="6"/>
                      <a:pt x="9533" y="4"/>
                    </a:cubicBezTo>
                    <a:cubicBezTo>
                      <a:pt x="9533" y="3"/>
                      <a:pt x="9534" y="2"/>
                      <a:pt x="9535" y="2"/>
                    </a:cubicBezTo>
                    <a:close/>
                    <a:moveTo>
                      <a:pt x="9543" y="2"/>
                    </a:moveTo>
                    <a:lnTo>
                      <a:pt x="9543" y="2"/>
                    </a:lnTo>
                    <a:cubicBezTo>
                      <a:pt x="9544" y="2"/>
                      <a:pt x="9545" y="3"/>
                      <a:pt x="9545" y="4"/>
                    </a:cubicBezTo>
                    <a:cubicBezTo>
                      <a:pt x="9545" y="6"/>
                      <a:pt x="9544" y="6"/>
                      <a:pt x="9543" y="6"/>
                    </a:cubicBezTo>
                    <a:lnTo>
                      <a:pt x="9543" y="6"/>
                    </a:lnTo>
                    <a:cubicBezTo>
                      <a:pt x="9542" y="6"/>
                      <a:pt x="9541" y="6"/>
                      <a:pt x="9541" y="4"/>
                    </a:cubicBezTo>
                    <a:cubicBezTo>
                      <a:pt x="9541" y="3"/>
                      <a:pt x="9542" y="2"/>
                      <a:pt x="9543" y="2"/>
                    </a:cubicBezTo>
                    <a:close/>
                    <a:moveTo>
                      <a:pt x="9551" y="2"/>
                    </a:moveTo>
                    <a:lnTo>
                      <a:pt x="9551" y="2"/>
                    </a:lnTo>
                    <a:cubicBezTo>
                      <a:pt x="9552" y="2"/>
                      <a:pt x="9553" y="3"/>
                      <a:pt x="9553" y="4"/>
                    </a:cubicBezTo>
                    <a:cubicBezTo>
                      <a:pt x="9553" y="6"/>
                      <a:pt x="9552" y="6"/>
                      <a:pt x="9551" y="6"/>
                    </a:cubicBezTo>
                    <a:lnTo>
                      <a:pt x="9551" y="6"/>
                    </a:lnTo>
                    <a:cubicBezTo>
                      <a:pt x="9550" y="6"/>
                      <a:pt x="9549" y="6"/>
                      <a:pt x="9549" y="4"/>
                    </a:cubicBezTo>
                    <a:cubicBezTo>
                      <a:pt x="9549" y="3"/>
                      <a:pt x="9550" y="2"/>
                      <a:pt x="9551" y="2"/>
                    </a:cubicBezTo>
                    <a:close/>
                    <a:moveTo>
                      <a:pt x="9559" y="2"/>
                    </a:moveTo>
                    <a:lnTo>
                      <a:pt x="9559" y="2"/>
                    </a:lnTo>
                    <a:cubicBezTo>
                      <a:pt x="9560" y="2"/>
                      <a:pt x="9561" y="3"/>
                      <a:pt x="9561" y="4"/>
                    </a:cubicBezTo>
                    <a:cubicBezTo>
                      <a:pt x="9561" y="6"/>
                      <a:pt x="9560" y="6"/>
                      <a:pt x="9559" y="6"/>
                    </a:cubicBezTo>
                    <a:lnTo>
                      <a:pt x="9559" y="6"/>
                    </a:lnTo>
                    <a:cubicBezTo>
                      <a:pt x="9558" y="6"/>
                      <a:pt x="9557" y="6"/>
                      <a:pt x="9557" y="4"/>
                    </a:cubicBezTo>
                    <a:cubicBezTo>
                      <a:pt x="9557" y="3"/>
                      <a:pt x="9558" y="2"/>
                      <a:pt x="9559" y="2"/>
                    </a:cubicBezTo>
                    <a:close/>
                    <a:moveTo>
                      <a:pt x="9567" y="2"/>
                    </a:moveTo>
                    <a:lnTo>
                      <a:pt x="9567" y="2"/>
                    </a:lnTo>
                    <a:cubicBezTo>
                      <a:pt x="9568" y="2"/>
                      <a:pt x="9569" y="3"/>
                      <a:pt x="9569" y="4"/>
                    </a:cubicBezTo>
                    <a:cubicBezTo>
                      <a:pt x="9569" y="6"/>
                      <a:pt x="9568" y="6"/>
                      <a:pt x="9567" y="6"/>
                    </a:cubicBezTo>
                    <a:lnTo>
                      <a:pt x="9567" y="6"/>
                    </a:lnTo>
                    <a:cubicBezTo>
                      <a:pt x="9566" y="6"/>
                      <a:pt x="9565" y="6"/>
                      <a:pt x="9565" y="4"/>
                    </a:cubicBezTo>
                    <a:cubicBezTo>
                      <a:pt x="9565" y="3"/>
                      <a:pt x="9566" y="2"/>
                      <a:pt x="9567" y="2"/>
                    </a:cubicBezTo>
                    <a:close/>
                    <a:moveTo>
                      <a:pt x="9575" y="2"/>
                    </a:moveTo>
                    <a:lnTo>
                      <a:pt x="9575" y="2"/>
                    </a:lnTo>
                    <a:cubicBezTo>
                      <a:pt x="9576" y="2"/>
                      <a:pt x="9577" y="3"/>
                      <a:pt x="9577" y="4"/>
                    </a:cubicBezTo>
                    <a:cubicBezTo>
                      <a:pt x="9577" y="6"/>
                      <a:pt x="9576" y="6"/>
                      <a:pt x="9575" y="6"/>
                    </a:cubicBezTo>
                    <a:lnTo>
                      <a:pt x="9575" y="6"/>
                    </a:lnTo>
                    <a:cubicBezTo>
                      <a:pt x="9574" y="6"/>
                      <a:pt x="9573" y="6"/>
                      <a:pt x="9573" y="4"/>
                    </a:cubicBezTo>
                    <a:cubicBezTo>
                      <a:pt x="9573" y="3"/>
                      <a:pt x="9574" y="2"/>
                      <a:pt x="9575" y="2"/>
                    </a:cubicBezTo>
                    <a:close/>
                    <a:moveTo>
                      <a:pt x="9583" y="2"/>
                    </a:moveTo>
                    <a:lnTo>
                      <a:pt x="9583" y="2"/>
                    </a:lnTo>
                    <a:cubicBezTo>
                      <a:pt x="9584" y="2"/>
                      <a:pt x="9585" y="3"/>
                      <a:pt x="9585" y="4"/>
                    </a:cubicBezTo>
                    <a:cubicBezTo>
                      <a:pt x="9585" y="6"/>
                      <a:pt x="9584" y="6"/>
                      <a:pt x="9583" y="6"/>
                    </a:cubicBezTo>
                    <a:lnTo>
                      <a:pt x="9583" y="6"/>
                    </a:lnTo>
                    <a:cubicBezTo>
                      <a:pt x="9582" y="6"/>
                      <a:pt x="9581" y="6"/>
                      <a:pt x="9581" y="4"/>
                    </a:cubicBezTo>
                    <a:cubicBezTo>
                      <a:pt x="9581" y="3"/>
                      <a:pt x="9582" y="2"/>
                      <a:pt x="9583" y="2"/>
                    </a:cubicBezTo>
                    <a:close/>
                    <a:moveTo>
                      <a:pt x="9591" y="2"/>
                    </a:moveTo>
                    <a:lnTo>
                      <a:pt x="9591" y="2"/>
                    </a:lnTo>
                    <a:cubicBezTo>
                      <a:pt x="9592" y="2"/>
                      <a:pt x="9593" y="3"/>
                      <a:pt x="9593" y="4"/>
                    </a:cubicBezTo>
                    <a:cubicBezTo>
                      <a:pt x="9593" y="6"/>
                      <a:pt x="9592" y="6"/>
                      <a:pt x="9591" y="6"/>
                    </a:cubicBezTo>
                    <a:lnTo>
                      <a:pt x="9591" y="6"/>
                    </a:lnTo>
                    <a:cubicBezTo>
                      <a:pt x="9590" y="6"/>
                      <a:pt x="9589" y="6"/>
                      <a:pt x="9589" y="4"/>
                    </a:cubicBezTo>
                    <a:cubicBezTo>
                      <a:pt x="9589" y="3"/>
                      <a:pt x="9590" y="2"/>
                      <a:pt x="9591" y="2"/>
                    </a:cubicBezTo>
                    <a:close/>
                    <a:moveTo>
                      <a:pt x="9599" y="2"/>
                    </a:moveTo>
                    <a:lnTo>
                      <a:pt x="9599" y="2"/>
                    </a:lnTo>
                    <a:cubicBezTo>
                      <a:pt x="9600" y="2"/>
                      <a:pt x="9601" y="3"/>
                      <a:pt x="9601" y="4"/>
                    </a:cubicBezTo>
                    <a:cubicBezTo>
                      <a:pt x="9601" y="6"/>
                      <a:pt x="9600" y="6"/>
                      <a:pt x="9599" y="6"/>
                    </a:cubicBezTo>
                    <a:lnTo>
                      <a:pt x="9599" y="6"/>
                    </a:lnTo>
                    <a:cubicBezTo>
                      <a:pt x="9598" y="6"/>
                      <a:pt x="9597" y="6"/>
                      <a:pt x="9597" y="4"/>
                    </a:cubicBezTo>
                    <a:cubicBezTo>
                      <a:pt x="9597" y="3"/>
                      <a:pt x="9598" y="2"/>
                      <a:pt x="9599" y="2"/>
                    </a:cubicBezTo>
                    <a:close/>
                    <a:moveTo>
                      <a:pt x="9607" y="2"/>
                    </a:moveTo>
                    <a:lnTo>
                      <a:pt x="9607" y="2"/>
                    </a:lnTo>
                    <a:cubicBezTo>
                      <a:pt x="9608" y="2"/>
                      <a:pt x="9609" y="3"/>
                      <a:pt x="9609" y="4"/>
                    </a:cubicBezTo>
                    <a:cubicBezTo>
                      <a:pt x="9609" y="6"/>
                      <a:pt x="9608" y="6"/>
                      <a:pt x="9607" y="6"/>
                    </a:cubicBezTo>
                    <a:lnTo>
                      <a:pt x="9607" y="6"/>
                    </a:lnTo>
                    <a:cubicBezTo>
                      <a:pt x="9606" y="6"/>
                      <a:pt x="9605" y="6"/>
                      <a:pt x="9605" y="4"/>
                    </a:cubicBezTo>
                    <a:cubicBezTo>
                      <a:pt x="9605" y="3"/>
                      <a:pt x="9606" y="2"/>
                      <a:pt x="9607" y="2"/>
                    </a:cubicBezTo>
                    <a:close/>
                    <a:moveTo>
                      <a:pt x="9615" y="2"/>
                    </a:moveTo>
                    <a:lnTo>
                      <a:pt x="9615" y="2"/>
                    </a:lnTo>
                    <a:cubicBezTo>
                      <a:pt x="9616" y="2"/>
                      <a:pt x="9617" y="3"/>
                      <a:pt x="9617" y="4"/>
                    </a:cubicBezTo>
                    <a:cubicBezTo>
                      <a:pt x="9617" y="6"/>
                      <a:pt x="9616" y="6"/>
                      <a:pt x="9615" y="6"/>
                    </a:cubicBezTo>
                    <a:lnTo>
                      <a:pt x="9615" y="6"/>
                    </a:lnTo>
                    <a:cubicBezTo>
                      <a:pt x="9614" y="6"/>
                      <a:pt x="9613" y="6"/>
                      <a:pt x="9613" y="4"/>
                    </a:cubicBezTo>
                    <a:cubicBezTo>
                      <a:pt x="9613" y="3"/>
                      <a:pt x="9614" y="2"/>
                      <a:pt x="9615" y="2"/>
                    </a:cubicBezTo>
                    <a:close/>
                    <a:moveTo>
                      <a:pt x="9623" y="2"/>
                    </a:moveTo>
                    <a:lnTo>
                      <a:pt x="9623" y="2"/>
                    </a:lnTo>
                    <a:cubicBezTo>
                      <a:pt x="9624" y="2"/>
                      <a:pt x="9625" y="3"/>
                      <a:pt x="9625" y="4"/>
                    </a:cubicBezTo>
                    <a:cubicBezTo>
                      <a:pt x="9625" y="6"/>
                      <a:pt x="9624" y="6"/>
                      <a:pt x="9623" y="6"/>
                    </a:cubicBezTo>
                    <a:lnTo>
                      <a:pt x="9623" y="6"/>
                    </a:lnTo>
                    <a:cubicBezTo>
                      <a:pt x="9622" y="6"/>
                      <a:pt x="9621" y="6"/>
                      <a:pt x="9621" y="4"/>
                    </a:cubicBezTo>
                    <a:cubicBezTo>
                      <a:pt x="9621" y="3"/>
                      <a:pt x="9622" y="2"/>
                      <a:pt x="9623" y="2"/>
                    </a:cubicBezTo>
                    <a:close/>
                    <a:moveTo>
                      <a:pt x="9631" y="2"/>
                    </a:moveTo>
                    <a:lnTo>
                      <a:pt x="9631" y="2"/>
                    </a:lnTo>
                    <a:cubicBezTo>
                      <a:pt x="9632" y="2"/>
                      <a:pt x="9633" y="3"/>
                      <a:pt x="9633" y="4"/>
                    </a:cubicBezTo>
                    <a:cubicBezTo>
                      <a:pt x="9633" y="6"/>
                      <a:pt x="9632" y="6"/>
                      <a:pt x="9631" y="6"/>
                    </a:cubicBezTo>
                    <a:lnTo>
                      <a:pt x="9631" y="6"/>
                    </a:lnTo>
                    <a:cubicBezTo>
                      <a:pt x="9630" y="6"/>
                      <a:pt x="9629" y="6"/>
                      <a:pt x="9629" y="4"/>
                    </a:cubicBezTo>
                    <a:cubicBezTo>
                      <a:pt x="9629" y="3"/>
                      <a:pt x="9630" y="2"/>
                      <a:pt x="9631" y="2"/>
                    </a:cubicBezTo>
                    <a:close/>
                    <a:moveTo>
                      <a:pt x="9639" y="2"/>
                    </a:moveTo>
                    <a:lnTo>
                      <a:pt x="9639" y="2"/>
                    </a:lnTo>
                    <a:cubicBezTo>
                      <a:pt x="9640" y="2"/>
                      <a:pt x="9641" y="3"/>
                      <a:pt x="9641" y="4"/>
                    </a:cubicBezTo>
                    <a:cubicBezTo>
                      <a:pt x="9641" y="6"/>
                      <a:pt x="9640" y="6"/>
                      <a:pt x="9639" y="6"/>
                    </a:cubicBezTo>
                    <a:lnTo>
                      <a:pt x="9639" y="6"/>
                    </a:lnTo>
                    <a:cubicBezTo>
                      <a:pt x="9638" y="6"/>
                      <a:pt x="9637" y="6"/>
                      <a:pt x="9637" y="4"/>
                    </a:cubicBezTo>
                    <a:cubicBezTo>
                      <a:pt x="9637" y="3"/>
                      <a:pt x="9638" y="2"/>
                      <a:pt x="9639" y="2"/>
                    </a:cubicBezTo>
                    <a:close/>
                    <a:moveTo>
                      <a:pt x="9647" y="2"/>
                    </a:moveTo>
                    <a:lnTo>
                      <a:pt x="9647" y="2"/>
                    </a:lnTo>
                    <a:cubicBezTo>
                      <a:pt x="9648" y="2"/>
                      <a:pt x="9649" y="3"/>
                      <a:pt x="9649" y="4"/>
                    </a:cubicBezTo>
                    <a:cubicBezTo>
                      <a:pt x="9649" y="6"/>
                      <a:pt x="9648" y="6"/>
                      <a:pt x="9647" y="6"/>
                    </a:cubicBezTo>
                    <a:lnTo>
                      <a:pt x="9647" y="6"/>
                    </a:lnTo>
                    <a:cubicBezTo>
                      <a:pt x="9646" y="6"/>
                      <a:pt x="9645" y="6"/>
                      <a:pt x="9645" y="4"/>
                    </a:cubicBezTo>
                    <a:cubicBezTo>
                      <a:pt x="9645" y="3"/>
                      <a:pt x="9646" y="2"/>
                      <a:pt x="9647" y="2"/>
                    </a:cubicBezTo>
                    <a:close/>
                    <a:moveTo>
                      <a:pt x="9655" y="2"/>
                    </a:moveTo>
                    <a:lnTo>
                      <a:pt x="9655" y="2"/>
                    </a:lnTo>
                    <a:cubicBezTo>
                      <a:pt x="9656" y="2"/>
                      <a:pt x="9657" y="3"/>
                      <a:pt x="9657" y="4"/>
                    </a:cubicBezTo>
                    <a:cubicBezTo>
                      <a:pt x="9657" y="6"/>
                      <a:pt x="9656" y="6"/>
                      <a:pt x="9655" y="6"/>
                    </a:cubicBezTo>
                    <a:lnTo>
                      <a:pt x="9655" y="6"/>
                    </a:lnTo>
                    <a:cubicBezTo>
                      <a:pt x="9654" y="6"/>
                      <a:pt x="9653" y="6"/>
                      <a:pt x="9653" y="4"/>
                    </a:cubicBezTo>
                    <a:cubicBezTo>
                      <a:pt x="9653" y="3"/>
                      <a:pt x="9654" y="2"/>
                      <a:pt x="9655" y="2"/>
                    </a:cubicBezTo>
                    <a:close/>
                    <a:moveTo>
                      <a:pt x="9663" y="2"/>
                    </a:moveTo>
                    <a:lnTo>
                      <a:pt x="9663" y="2"/>
                    </a:lnTo>
                    <a:cubicBezTo>
                      <a:pt x="9664" y="2"/>
                      <a:pt x="9665" y="3"/>
                      <a:pt x="9665" y="4"/>
                    </a:cubicBezTo>
                    <a:cubicBezTo>
                      <a:pt x="9665" y="6"/>
                      <a:pt x="9664" y="6"/>
                      <a:pt x="9663" y="6"/>
                    </a:cubicBezTo>
                    <a:lnTo>
                      <a:pt x="9663" y="6"/>
                    </a:lnTo>
                    <a:cubicBezTo>
                      <a:pt x="9662" y="6"/>
                      <a:pt x="9661" y="6"/>
                      <a:pt x="9661" y="4"/>
                    </a:cubicBezTo>
                    <a:cubicBezTo>
                      <a:pt x="9661" y="3"/>
                      <a:pt x="9662" y="2"/>
                      <a:pt x="9663" y="2"/>
                    </a:cubicBezTo>
                    <a:close/>
                    <a:moveTo>
                      <a:pt x="9671" y="2"/>
                    </a:moveTo>
                    <a:lnTo>
                      <a:pt x="9671" y="2"/>
                    </a:lnTo>
                    <a:cubicBezTo>
                      <a:pt x="9672" y="2"/>
                      <a:pt x="9673" y="3"/>
                      <a:pt x="9673" y="4"/>
                    </a:cubicBezTo>
                    <a:cubicBezTo>
                      <a:pt x="9673" y="6"/>
                      <a:pt x="9672" y="6"/>
                      <a:pt x="9671" y="6"/>
                    </a:cubicBezTo>
                    <a:lnTo>
                      <a:pt x="9671" y="6"/>
                    </a:lnTo>
                    <a:cubicBezTo>
                      <a:pt x="9670" y="6"/>
                      <a:pt x="9669" y="6"/>
                      <a:pt x="9669" y="4"/>
                    </a:cubicBezTo>
                    <a:cubicBezTo>
                      <a:pt x="9669" y="3"/>
                      <a:pt x="9670" y="2"/>
                      <a:pt x="9671" y="2"/>
                    </a:cubicBezTo>
                    <a:close/>
                    <a:moveTo>
                      <a:pt x="9679" y="2"/>
                    </a:moveTo>
                    <a:lnTo>
                      <a:pt x="9679" y="2"/>
                    </a:lnTo>
                    <a:cubicBezTo>
                      <a:pt x="9680" y="2"/>
                      <a:pt x="9681" y="3"/>
                      <a:pt x="9681" y="4"/>
                    </a:cubicBezTo>
                    <a:cubicBezTo>
                      <a:pt x="9681" y="6"/>
                      <a:pt x="9680" y="6"/>
                      <a:pt x="9679" y="6"/>
                    </a:cubicBezTo>
                    <a:lnTo>
                      <a:pt x="9679" y="6"/>
                    </a:lnTo>
                    <a:cubicBezTo>
                      <a:pt x="9678" y="6"/>
                      <a:pt x="9677" y="6"/>
                      <a:pt x="9677" y="4"/>
                    </a:cubicBezTo>
                    <a:cubicBezTo>
                      <a:pt x="9677" y="3"/>
                      <a:pt x="9678" y="2"/>
                      <a:pt x="9679" y="2"/>
                    </a:cubicBezTo>
                    <a:close/>
                    <a:moveTo>
                      <a:pt x="9687" y="2"/>
                    </a:moveTo>
                    <a:lnTo>
                      <a:pt x="9687" y="2"/>
                    </a:lnTo>
                    <a:cubicBezTo>
                      <a:pt x="9688" y="2"/>
                      <a:pt x="9689" y="3"/>
                      <a:pt x="9689" y="4"/>
                    </a:cubicBezTo>
                    <a:cubicBezTo>
                      <a:pt x="9689" y="6"/>
                      <a:pt x="9688" y="6"/>
                      <a:pt x="9687" y="6"/>
                    </a:cubicBezTo>
                    <a:lnTo>
                      <a:pt x="9687" y="6"/>
                    </a:lnTo>
                    <a:cubicBezTo>
                      <a:pt x="9686" y="6"/>
                      <a:pt x="9685" y="6"/>
                      <a:pt x="9685" y="4"/>
                    </a:cubicBezTo>
                    <a:cubicBezTo>
                      <a:pt x="9685" y="3"/>
                      <a:pt x="9686" y="2"/>
                      <a:pt x="9687" y="2"/>
                    </a:cubicBezTo>
                    <a:close/>
                    <a:moveTo>
                      <a:pt x="9695" y="2"/>
                    </a:moveTo>
                    <a:lnTo>
                      <a:pt x="9695" y="2"/>
                    </a:lnTo>
                    <a:cubicBezTo>
                      <a:pt x="9696" y="2"/>
                      <a:pt x="9697" y="3"/>
                      <a:pt x="9697" y="4"/>
                    </a:cubicBezTo>
                    <a:cubicBezTo>
                      <a:pt x="9697" y="6"/>
                      <a:pt x="9696" y="6"/>
                      <a:pt x="9695" y="6"/>
                    </a:cubicBezTo>
                    <a:lnTo>
                      <a:pt x="9695" y="6"/>
                    </a:lnTo>
                    <a:cubicBezTo>
                      <a:pt x="9694" y="6"/>
                      <a:pt x="9693" y="6"/>
                      <a:pt x="9693" y="4"/>
                    </a:cubicBezTo>
                    <a:cubicBezTo>
                      <a:pt x="9693" y="3"/>
                      <a:pt x="9694" y="2"/>
                      <a:pt x="9695" y="2"/>
                    </a:cubicBezTo>
                    <a:close/>
                    <a:moveTo>
                      <a:pt x="9703" y="2"/>
                    </a:moveTo>
                    <a:lnTo>
                      <a:pt x="9703" y="2"/>
                    </a:lnTo>
                    <a:cubicBezTo>
                      <a:pt x="9704" y="2"/>
                      <a:pt x="9705" y="3"/>
                      <a:pt x="9705" y="4"/>
                    </a:cubicBezTo>
                    <a:cubicBezTo>
                      <a:pt x="9705" y="6"/>
                      <a:pt x="9704" y="6"/>
                      <a:pt x="9703" y="6"/>
                    </a:cubicBezTo>
                    <a:lnTo>
                      <a:pt x="9703" y="6"/>
                    </a:lnTo>
                    <a:cubicBezTo>
                      <a:pt x="9702" y="6"/>
                      <a:pt x="9701" y="6"/>
                      <a:pt x="9701" y="4"/>
                    </a:cubicBezTo>
                    <a:cubicBezTo>
                      <a:pt x="9701" y="3"/>
                      <a:pt x="9702" y="2"/>
                      <a:pt x="9703" y="2"/>
                    </a:cubicBezTo>
                    <a:close/>
                    <a:moveTo>
                      <a:pt x="9711" y="2"/>
                    </a:moveTo>
                    <a:lnTo>
                      <a:pt x="9711" y="2"/>
                    </a:lnTo>
                    <a:cubicBezTo>
                      <a:pt x="9712" y="2"/>
                      <a:pt x="9713" y="3"/>
                      <a:pt x="9713" y="4"/>
                    </a:cubicBezTo>
                    <a:cubicBezTo>
                      <a:pt x="9713" y="6"/>
                      <a:pt x="9712" y="6"/>
                      <a:pt x="9711" y="6"/>
                    </a:cubicBezTo>
                    <a:lnTo>
                      <a:pt x="9711" y="6"/>
                    </a:lnTo>
                    <a:cubicBezTo>
                      <a:pt x="9710" y="6"/>
                      <a:pt x="9709" y="6"/>
                      <a:pt x="9709" y="4"/>
                    </a:cubicBezTo>
                    <a:cubicBezTo>
                      <a:pt x="9709" y="3"/>
                      <a:pt x="9710" y="2"/>
                      <a:pt x="9711" y="2"/>
                    </a:cubicBezTo>
                    <a:close/>
                    <a:moveTo>
                      <a:pt x="9719" y="2"/>
                    </a:moveTo>
                    <a:lnTo>
                      <a:pt x="9719" y="2"/>
                    </a:lnTo>
                    <a:cubicBezTo>
                      <a:pt x="9720" y="2"/>
                      <a:pt x="9721" y="3"/>
                      <a:pt x="9721" y="4"/>
                    </a:cubicBezTo>
                    <a:cubicBezTo>
                      <a:pt x="9721" y="6"/>
                      <a:pt x="9720" y="6"/>
                      <a:pt x="9719" y="6"/>
                    </a:cubicBezTo>
                    <a:lnTo>
                      <a:pt x="9719" y="6"/>
                    </a:lnTo>
                    <a:cubicBezTo>
                      <a:pt x="9718" y="6"/>
                      <a:pt x="9717" y="6"/>
                      <a:pt x="9717" y="4"/>
                    </a:cubicBezTo>
                    <a:cubicBezTo>
                      <a:pt x="9717" y="3"/>
                      <a:pt x="9718" y="2"/>
                      <a:pt x="9719" y="2"/>
                    </a:cubicBezTo>
                    <a:close/>
                    <a:moveTo>
                      <a:pt x="9727" y="2"/>
                    </a:moveTo>
                    <a:lnTo>
                      <a:pt x="9727" y="2"/>
                    </a:lnTo>
                    <a:cubicBezTo>
                      <a:pt x="9728" y="2"/>
                      <a:pt x="9729" y="3"/>
                      <a:pt x="9729" y="4"/>
                    </a:cubicBezTo>
                    <a:cubicBezTo>
                      <a:pt x="9729" y="6"/>
                      <a:pt x="9728" y="6"/>
                      <a:pt x="9727" y="6"/>
                    </a:cubicBezTo>
                    <a:lnTo>
                      <a:pt x="9727" y="6"/>
                    </a:lnTo>
                    <a:cubicBezTo>
                      <a:pt x="9726" y="6"/>
                      <a:pt x="9725" y="6"/>
                      <a:pt x="9725" y="4"/>
                    </a:cubicBezTo>
                    <a:cubicBezTo>
                      <a:pt x="9725" y="3"/>
                      <a:pt x="9726" y="2"/>
                      <a:pt x="9727" y="2"/>
                    </a:cubicBezTo>
                    <a:close/>
                    <a:moveTo>
                      <a:pt x="9735" y="2"/>
                    </a:moveTo>
                    <a:lnTo>
                      <a:pt x="9735" y="2"/>
                    </a:lnTo>
                    <a:cubicBezTo>
                      <a:pt x="9736" y="2"/>
                      <a:pt x="9737" y="3"/>
                      <a:pt x="9737" y="4"/>
                    </a:cubicBezTo>
                    <a:cubicBezTo>
                      <a:pt x="9737" y="6"/>
                      <a:pt x="9736" y="6"/>
                      <a:pt x="9735" y="6"/>
                    </a:cubicBezTo>
                    <a:lnTo>
                      <a:pt x="9735" y="6"/>
                    </a:lnTo>
                    <a:cubicBezTo>
                      <a:pt x="9734" y="6"/>
                      <a:pt x="9733" y="6"/>
                      <a:pt x="9733" y="4"/>
                    </a:cubicBezTo>
                    <a:cubicBezTo>
                      <a:pt x="9733" y="3"/>
                      <a:pt x="9734" y="2"/>
                      <a:pt x="9735" y="2"/>
                    </a:cubicBezTo>
                    <a:close/>
                    <a:moveTo>
                      <a:pt x="9743" y="2"/>
                    </a:moveTo>
                    <a:lnTo>
                      <a:pt x="9743" y="2"/>
                    </a:lnTo>
                    <a:cubicBezTo>
                      <a:pt x="9744" y="2"/>
                      <a:pt x="9745" y="3"/>
                      <a:pt x="9745" y="4"/>
                    </a:cubicBezTo>
                    <a:cubicBezTo>
                      <a:pt x="9745" y="6"/>
                      <a:pt x="9744" y="6"/>
                      <a:pt x="9743" y="6"/>
                    </a:cubicBezTo>
                    <a:lnTo>
                      <a:pt x="9743" y="6"/>
                    </a:lnTo>
                    <a:cubicBezTo>
                      <a:pt x="9742" y="6"/>
                      <a:pt x="9741" y="6"/>
                      <a:pt x="9741" y="4"/>
                    </a:cubicBezTo>
                    <a:cubicBezTo>
                      <a:pt x="9741" y="3"/>
                      <a:pt x="9742" y="2"/>
                      <a:pt x="9743" y="2"/>
                    </a:cubicBezTo>
                    <a:close/>
                    <a:moveTo>
                      <a:pt x="9751" y="2"/>
                    </a:moveTo>
                    <a:lnTo>
                      <a:pt x="9751" y="2"/>
                    </a:lnTo>
                    <a:cubicBezTo>
                      <a:pt x="9752" y="2"/>
                      <a:pt x="9753" y="3"/>
                      <a:pt x="9753" y="4"/>
                    </a:cubicBezTo>
                    <a:cubicBezTo>
                      <a:pt x="9753" y="6"/>
                      <a:pt x="9752" y="6"/>
                      <a:pt x="9751" y="6"/>
                    </a:cubicBezTo>
                    <a:lnTo>
                      <a:pt x="9751" y="6"/>
                    </a:lnTo>
                    <a:cubicBezTo>
                      <a:pt x="9750" y="6"/>
                      <a:pt x="9749" y="6"/>
                      <a:pt x="9749" y="4"/>
                    </a:cubicBezTo>
                    <a:cubicBezTo>
                      <a:pt x="9749" y="3"/>
                      <a:pt x="9750" y="2"/>
                      <a:pt x="9751" y="2"/>
                    </a:cubicBezTo>
                    <a:close/>
                    <a:moveTo>
                      <a:pt x="9759" y="2"/>
                    </a:moveTo>
                    <a:lnTo>
                      <a:pt x="9759" y="2"/>
                    </a:lnTo>
                    <a:cubicBezTo>
                      <a:pt x="9760" y="2"/>
                      <a:pt x="9761" y="3"/>
                      <a:pt x="9761" y="4"/>
                    </a:cubicBezTo>
                    <a:cubicBezTo>
                      <a:pt x="9761" y="6"/>
                      <a:pt x="9760" y="6"/>
                      <a:pt x="9759" y="6"/>
                    </a:cubicBezTo>
                    <a:lnTo>
                      <a:pt x="9759" y="6"/>
                    </a:lnTo>
                    <a:cubicBezTo>
                      <a:pt x="9758" y="6"/>
                      <a:pt x="9757" y="6"/>
                      <a:pt x="9757" y="4"/>
                    </a:cubicBezTo>
                    <a:cubicBezTo>
                      <a:pt x="9757" y="3"/>
                      <a:pt x="9758" y="2"/>
                      <a:pt x="9759" y="2"/>
                    </a:cubicBezTo>
                    <a:close/>
                    <a:moveTo>
                      <a:pt x="9767" y="2"/>
                    </a:moveTo>
                    <a:lnTo>
                      <a:pt x="9767" y="2"/>
                    </a:lnTo>
                    <a:cubicBezTo>
                      <a:pt x="9768" y="2"/>
                      <a:pt x="9769" y="3"/>
                      <a:pt x="9769" y="4"/>
                    </a:cubicBezTo>
                    <a:cubicBezTo>
                      <a:pt x="9769" y="6"/>
                      <a:pt x="9768" y="6"/>
                      <a:pt x="9767" y="6"/>
                    </a:cubicBezTo>
                    <a:lnTo>
                      <a:pt x="9767" y="6"/>
                    </a:lnTo>
                    <a:cubicBezTo>
                      <a:pt x="9766" y="6"/>
                      <a:pt x="9765" y="6"/>
                      <a:pt x="9765" y="4"/>
                    </a:cubicBezTo>
                    <a:cubicBezTo>
                      <a:pt x="9765" y="3"/>
                      <a:pt x="9766" y="2"/>
                      <a:pt x="9767" y="2"/>
                    </a:cubicBezTo>
                    <a:close/>
                    <a:moveTo>
                      <a:pt x="9775" y="3"/>
                    </a:moveTo>
                    <a:lnTo>
                      <a:pt x="9775" y="3"/>
                    </a:lnTo>
                    <a:cubicBezTo>
                      <a:pt x="9776" y="3"/>
                      <a:pt x="9777" y="3"/>
                      <a:pt x="9777" y="5"/>
                    </a:cubicBezTo>
                    <a:cubicBezTo>
                      <a:pt x="9777" y="6"/>
                      <a:pt x="9776" y="7"/>
                      <a:pt x="9775" y="7"/>
                    </a:cubicBezTo>
                    <a:lnTo>
                      <a:pt x="9775" y="7"/>
                    </a:lnTo>
                    <a:cubicBezTo>
                      <a:pt x="9774" y="7"/>
                      <a:pt x="9773" y="6"/>
                      <a:pt x="9773" y="5"/>
                    </a:cubicBezTo>
                    <a:cubicBezTo>
                      <a:pt x="9773" y="3"/>
                      <a:pt x="9774" y="3"/>
                      <a:pt x="9775" y="3"/>
                    </a:cubicBezTo>
                    <a:close/>
                    <a:moveTo>
                      <a:pt x="9783" y="3"/>
                    </a:moveTo>
                    <a:lnTo>
                      <a:pt x="9783" y="3"/>
                    </a:lnTo>
                    <a:cubicBezTo>
                      <a:pt x="9784" y="3"/>
                      <a:pt x="9785" y="3"/>
                      <a:pt x="9785" y="5"/>
                    </a:cubicBezTo>
                    <a:cubicBezTo>
                      <a:pt x="9785" y="6"/>
                      <a:pt x="9784" y="7"/>
                      <a:pt x="9783" y="7"/>
                    </a:cubicBezTo>
                    <a:lnTo>
                      <a:pt x="9783" y="7"/>
                    </a:lnTo>
                    <a:cubicBezTo>
                      <a:pt x="9782" y="7"/>
                      <a:pt x="9781" y="6"/>
                      <a:pt x="9781" y="5"/>
                    </a:cubicBezTo>
                    <a:cubicBezTo>
                      <a:pt x="9781" y="3"/>
                      <a:pt x="9782" y="3"/>
                      <a:pt x="9783" y="3"/>
                    </a:cubicBezTo>
                    <a:close/>
                    <a:moveTo>
                      <a:pt x="9791" y="3"/>
                    </a:moveTo>
                    <a:lnTo>
                      <a:pt x="9791" y="3"/>
                    </a:lnTo>
                    <a:cubicBezTo>
                      <a:pt x="9792" y="3"/>
                      <a:pt x="9793" y="3"/>
                      <a:pt x="9793" y="5"/>
                    </a:cubicBezTo>
                    <a:cubicBezTo>
                      <a:pt x="9793" y="6"/>
                      <a:pt x="9792" y="7"/>
                      <a:pt x="9791" y="7"/>
                    </a:cubicBezTo>
                    <a:lnTo>
                      <a:pt x="9791" y="7"/>
                    </a:lnTo>
                    <a:cubicBezTo>
                      <a:pt x="9790" y="7"/>
                      <a:pt x="9789" y="6"/>
                      <a:pt x="9789" y="5"/>
                    </a:cubicBezTo>
                    <a:cubicBezTo>
                      <a:pt x="9789" y="3"/>
                      <a:pt x="9790" y="3"/>
                      <a:pt x="9791" y="3"/>
                    </a:cubicBezTo>
                    <a:close/>
                    <a:moveTo>
                      <a:pt x="9799" y="3"/>
                    </a:moveTo>
                    <a:lnTo>
                      <a:pt x="9799" y="3"/>
                    </a:lnTo>
                    <a:cubicBezTo>
                      <a:pt x="9800" y="3"/>
                      <a:pt x="9801" y="3"/>
                      <a:pt x="9801" y="5"/>
                    </a:cubicBezTo>
                    <a:cubicBezTo>
                      <a:pt x="9801" y="6"/>
                      <a:pt x="9800" y="7"/>
                      <a:pt x="9799" y="7"/>
                    </a:cubicBezTo>
                    <a:lnTo>
                      <a:pt x="9799" y="7"/>
                    </a:lnTo>
                    <a:cubicBezTo>
                      <a:pt x="9798" y="7"/>
                      <a:pt x="9797" y="6"/>
                      <a:pt x="9797" y="5"/>
                    </a:cubicBezTo>
                    <a:cubicBezTo>
                      <a:pt x="9797" y="3"/>
                      <a:pt x="9798" y="3"/>
                      <a:pt x="9799" y="3"/>
                    </a:cubicBezTo>
                    <a:close/>
                    <a:moveTo>
                      <a:pt x="9807" y="3"/>
                    </a:moveTo>
                    <a:lnTo>
                      <a:pt x="9807" y="3"/>
                    </a:lnTo>
                    <a:cubicBezTo>
                      <a:pt x="9808" y="3"/>
                      <a:pt x="9809" y="3"/>
                      <a:pt x="9809" y="5"/>
                    </a:cubicBezTo>
                    <a:cubicBezTo>
                      <a:pt x="9809" y="6"/>
                      <a:pt x="9808" y="7"/>
                      <a:pt x="9807" y="7"/>
                    </a:cubicBezTo>
                    <a:lnTo>
                      <a:pt x="9807" y="7"/>
                    </a:lnTo>
                    <a:cubicBezTo>
                      <a:pt x="9806" y="7"/>
                      <a:pt x="9805" y="6"/>
                      <a:pt x="9805" y="5"/>
                    </a:cubicBezTo>
                    <a:cubicBezTo>
                      <a:pt x="9805" y="3"/>
                      <a:pt x="9806" y="3"/>
                      <a:pt x="9807" y="3"/>
                    </a:cubicBezTo>
                    <a:close/>
                    <a:moveTo>
                      <a:pt x="9815" y="3"/>
                    </a:moveTo>
                    <a:lnTo>
                      <a:pt x="9815" y="3"/>
                    </a:lnTo>
                    <a:cubicBezTo>
                      <a:pt x="9816" y="3"/>
                      <a:pt x="9817" y="3"/>
                      <a:pt x="9817" y="5"/>
                    </a:cubicBezTo>
                    <a:cubicBezTo>
                      <a:pt x="9817" y="6"/>
                      <a:pt x="9816" y="7"/>
                      <a:pt x="9815" y="7"/>
                    </a:cubicBezTo>
                    <a:lnTo>
                      <a:pt x="9815" y="7"/>
                    </a:lnTo>
                    <a:cubicBezTo>
                      <a:pt x="9814" y="7"/>
                      <a:pt x="9813" y="6"/>
                      <a:pt x="9813" y="5"/>
                    </a:cubicBezTo>
                    <a:cubicBezTo>
                      <a:pt x="9813" y="3"/>
                      <a:pt x="9814" y="3"/>
                      <a:pt x="9815" y="3"/>
                    </a:cubicBezTo>
                    <a:close/>
                    <a:moveTo>
                      <a:pt x="9823" y="3"/>
                    </a:moveTo>
                    <a:lnTo>
                      <a:pt x="9823" y="3"/>
                    </a:lnTo>
                    <a:cubicBezTo>
                      <a:pt x="9824" y="3"/>
                      <a:pt x="9825" y="3"/>
                      <a:pt x="9825" y="5"/>
                    </a:cubicBezTo>
                    <a:cubicBezTo>
                      <a:pt x="9825" y="6"/>
                      <a:pt x="9824" y="7"/>
                      <a:pt x="9823" y="7"/>
                    </a:cubicBezTo>
                    <a:lnTo>
                      <a:pt x="9823" y="7"/>
                    </a:lnTo>
                    <a:cubicBezTo>
                      <a:pt x="9822" y="7"/>
                      <a:pt x="9821" y="6"/>
                      <a:pt x="9821" y="5"/>
                    </a:cubicBezTo>
                    <a:cubicBezTo>
                      <a:pt x="9821" y="3"/>
                      <a:pt x="9822" y="3"/>
                      <a:pt x="9823" y="3"/>
                    </a:cubicBezTo>
                    <a:close/>
                    <a:moveTo>
                      <a:pt x="9831" y="3"/>
                    </a:moveTo>
                    <a:lnTo>
                      <a:pt x="9831" y="3"/>
                    </a:lnTo>
                    <a:cubicBezTo>
                      <a:pt x="9832" y="3"/>
                      <a:pt x="9833" y="3"/>
                      <a:pt x="9833" y="5"/>
                    </a:cubicBezTo>
                    <a:cubicBezTo>
                      <a:pt x="9833" y="6"/>
                      <a:pt x="9832" y="7"/>
                      <a:pt x="9831" y="7"/>
                    </a:cubicBezTo>
                    <a:lnTo>
                      <a:pt x="9831" y="7"/>
                    </a:lnTo>
                    <a:cubicBezTo>
                      <a:pt x="9830" y="7"/>
                      <a:pt x="9829" y="6"/>
                      <a:pt x="9829" y="5"/>
                    </a:cubicBezTo>
                    <a:cubicBezTo>
                      <a:pt x="9829" y="3"/>
                      <a:pt x="9830" y="3"/>
                      <a:pt x="9831" y="3"/>
                    </a:cubicBezTo>
                    <a:close/>
                    <a:moveTo>
                      <a:pt x="9839" y="3"/>
                    </a:moveTo>
                    <a:lnTo>
                      <a:pt x="9839" y="3"/>
                    </a:lnTo>
                    <a:cubicBezTo>
                      <a:pt x="9840" y="3"/>
                      <a:pt x="9841" y="3"/>
                      <a:pt x="9841" y="5"/>
                    </a:cubicBezTo>
                    <a:cubicBezTo>
                      <a:pt x="9841" y="6"/>
                      <a:pt x="9840" y="7"/>
                      <a:pt x="9839" y="7"/>
                    </a:cubicBezTo>
                    <a:lnTo>
                      <a:pt x="9839" y="7"/>
                    </a:lnTo>
                    <a:cubicBezTo>
                      <a:pt x="9838" y="7"/>
                      <a:pt x="9837" y="6"/>
                      <a:pt x="9837" y="5"/>
                    </a:cubicBezTo>
                    <a:cubicBezTo>
                      <a:pt x="9837" y="3"/>
                      <a:pt x="9838" y="3"/>
                      <a:pt x="9839" y="3"/>
                    </a:cubicBezTo>
                    <a:close/>
                    <a:moveTo>
                      <a:pt x="9847" y="3"/>
                    </a:moveTo>
                    <a:lnTo>
                      <a:pt x="9847" y="3"/>
                    </a:lnTo>
                    <a:cubicBezTo>
                      <a:pt x="9848" y="3"/>
                      <a:pt x="9849" y="3"/>
                      <a:pt x="9849" y="5"/>
                    </a:cubicBezTo>
                    <a:cubicBezTo>
                      <a:pt x="9849" y="6"/>
                      <a:pt x="9848" y="7"/>
                      <a:pt x="9847" y="7"/>
                    </a:cubicBezTo>
                    <a:lnTo>
                      <a:pt x="9847" y="7"/>
                    </a:lnTo>
                    <a:cubicBezTo>
                      <a:pt x="9846" y="7"/>
                      <a:pt x="9845" y="6"/>
                      <a:pt x="9845" y="5"/>
                    </a:cubicBezTo>
                    <a:cubicBezTo>
                      <a:pt x="9845" y="3"/>
                      <a:pt x="9846" y="3"/>
                      <a:pt x="9847" y="3"/>
                    </a:cubicBezTo>
                    <a:close/>
                    <a:moveTo>
                      <a:pt x="9855" y="3"/>
                    </a:moveTo>
                    <a:lnTo>
                      <a:pt x="9855" y="3"/>
                    </a:lnTo>
                    <a:cubicBezTo>
                      <a:pt x="9856" y="3"/>
                      <a:pt x="9857" y="3"/>
                      <a:pt x="9857" y="5"/>
                    </a:cubicBezTo>
                    <a:cubicBezTo>
                      <a:pt x="9857" y="6"/>
                      <a:pt x="9856" y="7"/>
                      <a:pt x="9855" y="7"/>
                    </a:cubicBezTo>
                    <a:lnTo>
                      <a:pt x="9855" y="7"/>
                    </a:lnTo>
                    <a:cubicBezTo>
                      <a:pt x="9854" y="7"/>
                      <a:pt x="9853" y="6"/>
                      <a:pt x="9853" y="5"/>
                    </a:cubicBezTo>
                    <a:cubicBezTo>
                      <a:pt x="9853" y="3"/>
                      <a:pt x="9854" y="3"/>
                      <a:pt x="9855" y="3"/>
                    </a:cubicBezTo>
                    <a:close/>
                    <a:moveTo>
                      <a:pt x="9863" y="3"/>
                    </a:moveTo>
                    <a:lnTo>
                      <a:pt x="9863" y="3"/>
                    </a:lnTo>
                    <a:cubicBezTo>
                      <a:pt x="9864" y="3"/>
                      <a:pt x="9865" y="3"/>
                      <a:pt x="9865" y="5"/>
                    </a:cubicBezTo>
                    <a:cubicBezTo>
                      <a:pt x="9865" y="6"/>
                      <a:pt x="9864" y="7"/>
                      <a:pt x="9863" y="7"/>
                    </a:cubicBezTo>
                    <a:lnTo>
                      <a:pt x="9863" y="7"/>
                    </a:lnTo>
                    <a:cubicBezTo>
                      <a:pt x="9862" y="7"/>
                      <a:pt x="9861" y="6"/>
                      <a:pt x="9861" y="5"/>
                    </a:cubicBezTo>
                    <a:cubicBezTo>
                      <a:pt x="9861" y="3"/>
                      <a:pt x="9862" y="3"/>
                      <a:pt x="9863" y="3"/>
                    </a:cubicBezTo>
                    <a:close/>
                    <a:moveTo>
                      <a:pt x="9871" y="3"/>
                    </a:moveTo>
                    <a:lnTo>
                      <a:pt x="9871" y="3"/>
                    </a:lnTo>
                    <a:cubicBezTo>
                      <a:pt x="9872" y="3"/>
                      <a:pt x="9873" y="3"/>
                      <a:pt x="9873" y="5"/>
                    </a:cubicBezTo>
                    <a:cubicBezTo>
                      <a:pt x="9873" y="6"/>
                      <a:pt x="9872" y="7"/>
                      <a:pt x="9871" y="7"/>
                    </a:cubicBezTo>
                    <a:lnTo>
                      <a:pt x="9871" y="7"/>
                    </a:lnTo>
                    <a:cubicBezTo>
                      <a:pt x="9870" y="7"/>
                      <a:pt x="9869" y="6"/>
                      <a:pt x="9869" y="5"/>
                    </a:cubicBezTo>
                    <a:cubicBezTo>
                      <a:pt x="9869" y="3"/>
                      <a:pt x="9870" y="3"/>
                      <a:pt x="9871" y="3"/>
                    </a:cubicBezTo>
                    <a:close/>
                    <a:moveTo>
                      <a:pt x="9879" y="3"/>
                    </a:moveTo>
                    <a:lnTo>
                      <a:pt x="9879" y="3"/>
                    </a:lnTo>
                    <a:cubicBezTo>
                      <a:pt x="9880" y="3"/>
                      <a:pt x="9881" y="3"/>
                      <a:pt x="9881" y="5"/>
                    </a:cubicBezTo>
                    <a:cubicBezTo>
                      <a:pt x="9881" y="6"/>
                      <a:pt x="9880" y="7"/>
                      <a:pt x="9879" y="7"/>
                    </a:cubicBezTo>
                    <a:lnTo>
                      <a:pt x="9879" y="7"/>
                    </a:lnTo>
                    <a:cubicBezTo>
                      <a:pt x="9878" y="7"/>
                      <a:pt x="9877" y="6"/>
                      <a:pt x="9877" y="5"/>
                    </a:cubicBezTo>
                    <a:cubicBezTo>
                      <a:pt x="9877" y="3"/>
                      <a:pt x="9878" y="3"/>
                      <a:pt x="9879" y="3"/>
                    </a:cubicBezTo>
                    <a:close/>
                    <a:moveTo>
                      <a:pt x="9887" y="3"/>
                    </a:moveTo>
                    <a:lnTo>
                      <a:pt x="9887" y="3"/>
                    </a:lnTo>
                    <a:cubicBezTo>
                      <a:pt x="9888" y="3"/>
                      <a:pt x="9889" y="3"/>
                      <a:pt x="9889" y="5"/>
                    </a:cubicBezTo>
                    <a:cubicBezTo>
                      <a:pt x="9889" y="6"/>
                      <a:pt x="9888" y="7"/>
                      <a:pt x="9887" y="7"/>
                    </a:cubicBezTo>
                    <a:lnTo>
                      <a:pt x="9887" y="7"/>
                    </a:lnTo>
                    <a:cubicBezTo>
                      <a:pt x="9886" y="7"/>
                      <a:pt x="9885" y="6"/>
                      <a:pt x="9885" y="5"/>
                    </a:cubicBezTo>
                    <a:cubicBezTo>
                      <a:pt x="9885" y="3"/>
                      <a:pt x="9886" y="3"/>
                      <a:pt x="9887" y="3"/>
                    </a:cubicBezTo>
                    <a:close/>
                    <a:moveTo>
                      <a:pt x="9895" y="3"/>
                    </a:moveTo>
                    <a:lnTo>
                      <a:pt x="9895" y="3"/>
                    </a:lnTo>
                    <a:cubicBezTo>
                      <a:pt x="9896" y="3"/>
                      <a:pt x="9897" y="3"/>
                      <a:pt x="9897" y="5"/>
                    </a:cubicBezTo>
                    <a:cubicBezTo>
                      <a:pt x="9897" y="6"/>
                      <a:pt x="9896" y="7"/>
                      <a:pt x="9895" y="7"/>
                    </a:cubicBezTo>
                    <a:lnTo>
                      <a:pt x="9895" y="7"/>
                    </a:lnTo>
                    <a:cubicBezTo>
                      <a:pt x="9894" y="7"/>
                      <a:pt x="9893" y="6"/>
                      <a:pt x="9893" y="5"/>
                    </a:cubicBezTo>
                    <a:cubicBezTo>
                      <a:pt x="9893" y="3"/>
                      <a:pt x="9894" y="3"/>
                      <a:pt x="9895" y="3"/>
                    </a:cubicBezTo>
                    <a:close/>
                    <a:moveTo>
                      <a:pt x="9903" y="3"/>
                    </a:moveTo>
                    <a:lnTo>
                      <a:pt x="9903" y="3"/>
                    </a:lnTo>
                    <a:cubicBezTo>
                      <a:pt x="9904" y="3"/>
                      <a:pt x="9905" y="3"/>
                      <a:pt x="9905" y="5"/>
                    </a:cubicBezTo>
                    <a:cubicBezTo>
                      <a:pt x="9905" y="6"/>
                      <a:pt x="9904" y="7"/>
                      <a:pt x="9903" y="7"/>
                    </a:cubicBezTo>
                    <a:lnTo>
                      <a:pt x="9903" y="7"/>
                    </a:lnTo>
                    <a:cubicBezTo>
                      <a:pt x="9902" y="7"/>
                      <a:pt x="9901" y="6"/>
                      <a:pt x="9901" y="5"/>
                    </a:cubicBezTo>
                    <a:cubicBezTo>
                      <a:pt x="9901" y="3"/>
                      <a:pt x="9902" y="3"/>
                      <a:pt x="9903" y="3"/>
                    </a:cubicBezTo>
                    <a:close/>
                    <a:moveTo>
                      <a:pt x="9911" y="3"/>
                    </a:moveTo>
                    <a:lnTo>
                      <a:pt x="9911" y="3"/>
                    </a:lnTo>
                    <a:cubicBezTo>
                      <a:pt x="9912" y="3"/>
                      <a:pt x="9913" y="3"/>
                      <a:pt x="9913" y="5"/>
                    </a:cubicBezTo>
                    <a:cubicBezTo>
                      <a:pt x="9913" y="6"/>
                      <a:pt x="9912" y="7"/>
                      <a:pt x="9911" y="7"/>
                    </a:cubicBezTo>
                    <a:lnTo>
                      <a:pt x="9911" y="7"/>
                    </a:lnTo>
                    <a:cubicBezTo>
                      <a:pt x="9910" y="7"/>
                      <a:pt x="9909" y="6"/>
                      <a:pt x="9909" y="5"/>
                    </a:cubicBezTo>
                    <a:cubicBezTo>
                      <a:pt x="9909" y="3"/>
                      <a:pt x="9910" y="3"/>
                      <a:pt x="9911" y="3"/>
                    </a:cubicBezTo>
                    <a:close/>
                    <a:moveTo>
                      <a:pt x="9919" y="3"/>
                    </a:moveTo>
                    <a:lnTo>
                      <a:pt x="9919" y="3"/>
                    </a:lnTo>
                    <a:cubicBezTo>
                      <a:pt x="9920" y="3"/>
                      <a:pt x="9921" y="3"/>
                      <a:pt x="9921" y="5"/>
                    </a:cubicBezTo>
                    <a:cubicBezTo>
                      <a:pt x="9921" y="6"/>
                      <a:pt x="9920" y="7"/>
                      <a:pt x="9919" y="7"/>
                    </a:cubicBezTo>
                    <a:lnTo>
                      <a:pt x="9919" y="7"/>
                    </a:lnTo>
                    <a:cubicBezTo>
                      <a:pt x="9918" y="7"/>
                      <a:pt x="9917" y="6"/>
                      <a:pt x="9917" y="5"/>
                    </a:cubicBezTo>
                    <a:cubicBezTo>
                      <a:pt x="9917" y="3"/>
                      <a:pt x="9918" y="3"/>
                      <a:pt x="9919" y="3"/>
                    </a:cubicBezTo>
                    <a:close/>
                    <a:moveTo>
                      <a:pt x="9927" y="3"/>
                    </a:moveTo>
                    <a:lnTo>
                      <a:pt x="9927" y="3"/>
                    </a:lnTo>
                    <a:cubicBezTo>
                      <a:pt x="9928" y="3"/>
                      <a:pt x="9929" y="3"/>
                      <a:pt x="9929" y="5"/>
                    </a:cubicBezTo>
                    <a:cubicBezTo>
                      <a:pt x="9929" y="6"/>
                      <a:pt x="9928" y="7"/>
                      <a:pt x="9927" y="7"/>
                    </a:cubicBezTo>
                    <a:lnTo>
                      <a:pt x="9927" y="7"/>
                    </a:lnTo>
                    <a:cubicBezTo>
                      <a:pt x="9926" y="7"/>
                      <a:pt x="9925" y="6"/>
                      <a:pt x="9925" y="5"/>
                    </a:cubicBezTo>
                    <a:cubicBezTo>
                      <a:pt x="9925" y="3"/>
                      <a:pt x="9926" y="3"/>
                      <a:pt x="9927" y="3"/>
                    </a:cubicBezTo>
                    <a:close/>
                    <a:moveTo>
                      <a:pt x="9935" y="3"/>
                    </a:moveTo>
                    <a:lnTo>
                      <a:pt x="9935" y="3"/>
                    </a:lnTo>
                    <a:cubicBezTo>
                      <a:pt x="9936" y="3"/>
                      <a:pt x="9937" y="3"/>
                      <a:pt x="9937" y="5"/>
                    </a:cubicBezTo>
                    <a:cubicBezTo>
                      <a:pt x="9937" y="6"/>
                      <a:pt x="9936" y="7"/>
                      <a:pt x="9935" y="7"/>
                    </a:cubicBezTo>
                    <a:lnTo>
                      <a:pt x="9935" y="7"/>
                    </a:lnTo>
                    <a:cubicBezTo>
                      <a:pt x="9934" y="7"/>
                      <a:pt x="9933" y="6"/>
                      <a:pt x="9933" y="5"/>
                    </a:cubicBezTo>
                    <a:cubicBezTo>
                      <a:pt x="9933" y="3"/>
                      <a:pt x="9934" y="3"/>
                      <a:pt x="9935" y="3"/>
                    </a:cubicBezTo>
                    <a:close/>
                    <a:moveTo>
                      <a:pt x="9943" y="3"/>
                    </a:moveTo>
                    <a:lnTo>
                      <a:pt x="9943" y="3"/>
                    </a:lnTo>
                    <a:cubicBezTo>
                      <a:pt x="9944" y="3"/>
                      <a:pt x="9945" y="3"/>
                      <a:pt x="9945" y="5"/>
                    </a:cubicBezTo>
                    <a:cubicBezTo>
                      <a:pt x="9945" y="6"/>
                      <a:pt x="9944" y="7"/>
                      <a:pt x="9943" y="7"/>
                    </a:cubicBezTo>
                    <a:lnTo>
                      <a:pt x="9943" y="7"/>
                    </a:lnTo>
                    <a:cubicBezTo>
                      <a:pt x="9942" y="7"/>
                      <a:pt x="9941" y="6"/>
                      <a:pt x="9941" y="5"/>
                    </a:cubicBezTo>
                    <a:cubicBezTo>
                      <a:pt x="9941" y="3"/>
                      <a:pt x="9942" y="3"/>
                      <a:pt x="9943" y="3"/>
                    </a:cubicBezTo>
                    <a:close/>
                    <a:moveTo>
                      <a:pt x="9951" y="3"/>
                    </a:moveTo>
                    <a:lnTo>
                      <a:pt x="9951" y="3"/>
                    </a:lnTo>
                    <a:cubicBezTo>
                      <a:pt x="9952" y="3"/>
                      <a:pt x="9953" y="3"/>
                      <a:pt x="9953" y="5"/>
                    </a:cubicBezTo>
                    <a:cubicBezTo>
                      <a:pt x="9953" y="6"/>
                      <a:pt x="9952" y="7"/>
                      <a:pt x="9951" y="7"/>
                    </a:cubicBezTo>
                    <a:lnTo>
                      <a:pt x="9951" y="7"/>
                    </a:lnTo>
                    <a:cubicBezTo>
                      <a:pt x="9950" y="7"/>
                      <a:pt x="9949" y="6"/>
                      <a:pt x="9949" y="5"/>
                    </a:cubicBezTo>
                    <a:cubicBezTo>
                      <a:pt x="9949" y="3"/>
                      <a:pt x="9950" y="3"/>
                      <a:pt x="9951" y="3"/>
                    </a:cubicBezTo>
                    <a:close/>
                    <a:moveTo>
                      <a:pt x="9959" y="3"/>
                    </a:moveTo>
                    <a:lnTo>
                      <a:pt x="9959" y="3"/>
                    </a:lnTo>
                    <a:cubicBezTo>
                      <a:pt x="9960" y="3"/>
                      <a:pt x="9961" y="3"/>
                      <a:pt x="9961" y="5"/>
                    </a:cubicBezTo>
                    <a:cubicBezTo>
                      <a:pt x="9961" y="6"/>
                      <a:pt x="9960" y="7"/>
                      <a:pt x="9959" y="7"/>
                    </a:cubicBezTo>
                    <a:lnTo>
                      <a:pt x="9959" y="7"/>
                    </a:lnTo>
                    <a:cubicBezTo>
                      <a:pt x="9958" y="7"/>
                      <a:pt x="9957" y="6"/>
                      <a:pt x="9957" y="5"/>
                    </a:cubicBezTo>
                    <a:cubicBezTo>
                      <a:pt x="9957" y="3"/>
                      <a:pt x="9958" y="3"/>
                      <a:pt x="9959" y="3"/>
                    </a:cubicBezTo>
                    <a:close/>
                    <a:moveTo>
                      <a:pt x="9967" y="3"/>
                    </a:moveTo>
                    <a:lnTo>
                      <a:pt x="9967" y="3"/>
                    </a:lnTo>
                    <a:cubicBezTo>
                      <a:pt x="9968" y="3"/>
                      <a:pt x="9969" y="3"/>
                      <a:pt x="9969" y="5"/>
                    </a:cubicBezTo>
                    <a:cubicBezTo>
                      <a:pt x="9969" y="6"/>
                      <a:pt x="9968" y="7"/>
                      <a:pt x="9967" y="7"/>
                    </a:cubicBezTo>
                    <a:lnTo>
                      <a:pt x="9967" y="7"/>
                    </a:lnTo>
                    <a:cubicBezTo>
                      <a:pt x="9966" y="7"/>
                      <a:pt x="9965" y="6"/>
                      <a:pt x="9965" y="5"/>
                    </a:cubicBezTo>
                    <a:cubicBezTo>
                      <a:pt x="9965" y="3"/>
                      <a:pt x="9966" y="3"/>
                      <a:pt x="9967" y="3"/>
                    </a:cubicBezTo>
                    <a:close/>
                    <a:moveTo>
                      <a:pt x="9975" y="3"/>
                    </a:moveTo>
                    <a:lnTo>
                      <a:pt x="9975" y="3"/>
                    </a:lnTo>
                    <a:cubicBezTo>
                      <a:pt x="9976" y="3"/>
                      <a:pt x="9977" y="3"/>
                      <a:pt x="9977" y="5"/>
                    </a:cubicBezTo>
                    <a:cubicBezTo>
                      <a:pt x="9977" y="6"/>
                      <a:pt x="9976" y="7"/>
                      <a:pt x="9975" y="7"/>
                    </a:cubicBezTo>
                    <a:lnTo>
                      <a:pt x="9975" y="7"/>
                    </a:lnTo>
                    <a:cubicBezTo>
                      <a:pt x="9974" y="7"/>
                      <a:pt x="9973" y="6"/>
                      <a:pt x="9973" y="5"/>
                    </a:cubicBezTo>
                    <a:cubicBezTo>
                      <a:pt x="9973" y="3"/>
                      <a:pt x="9974" y="3"/>
                      <a:pt x="9975" y="3"/>
                    </a:cubicBezTo>
                    <a:close/>
                    <a:moveTo>
                      <a:pt x="9983" y="3"/>
                    </a:moveTo>
                    <a:lnTo>
                      <a:pt x="9983" y="3"/>
                    </a:lnTo>
                    <a:cubicBezTo>
                      <a:pt x="9984" y="3"/>
                      <a:pt x="9985" y="3"/>
                      <a:pt x="9985" y="5"/>
                    </a:cubicBezTo>
                    <a:cubicBezTo>
                      <a:pt x="9985" y="6"/>
                      <a:pt x="9984" y="7"/>
                      <a:pt x="9983" y="7"/>
                    </a:cubicBezTo>
                    <a:lnTo>
                      <a:pt x="9983" y="7"/>
                    </a:lnTo>
                    <a:cubicBezTo>
                      <a:pt x="9982" y="7"/>
                      <a:pt x="9981" y="6"/>
                      <a:pt x="9981" y="5"/>
                    </a:cubicBezTo>
                    <a:cubicBezTo>
                      <a:pt x="9981" y="3"/>
                      <a:pt x="9982" y="3"/>
                      <a:pt x="9983" y="3"/>
                    </a:cubicBezTo>
                    <a:close/>
                    <a:moveTo>
                      <a:pt x="9991" y="3"/>
                    </a:moveTo>
                    <a:lnTo>
                      <a:pt x="9991" y="3"/>
                    </a:lnTo>
                    <a:cubicBezTo>
                      <a:pt x="9992" y="3"/>
                      <a:pt x="9993" y="3"/>
                      <a:pt x="9993" y="5"/>
                    </a:cubicBezTo>
                    <a:cubicBezTo>
                      <a:pt x="9993" y="6"/>
                      <a:pt x="9992" y="7"/>
                      <a:pt x="9991" y="7"/>
                    </a:cubicBezTo>
                    <a:lnTo>
                      <a:pt x="9991" y="7"/>
                    </a:lnTo>
                    <a:cubicBezTo>
                      <a:pt x="9990" y="7"/>
                      <a:pt x="9989" y="6"/>
                      <a:pt x="9989" y="5"/>
                    </a:cubicBezTo>
                    <a:cubicBezTo>
                      <a:pt x="9989" y="3"/>
                      <a:pt x="9990" y="3"/>
                      <a:pt x="9991" y="3"/>
                    </a:cubicBezTo>
                    <a:close/>
                    <a:moveTo>
                      <a:pt x="9999" y="3"/>
                    </a:moveTo>
                    <a:lnTo>
                      <a:pt x="9999" y="3"/>
                    </a:lnTo>
                    <a:cubicBezTo>
                      <a:pt x="10000" y="3"/>
                      <a:pt x="10001" y="3"/>
                      <a:pt x="10001" y="5"/>
                    </a:cubicBezTo>
                    <a:cubicBezTo>
                      <a:pt x="10001" y="6"/>
                      <a:pt x="10000" y="7"/>
                      <a:pt x="9999" y="7"/>
                    </a:cubicBezTo>
                    <a:lnTo>
                      <a:pt x="9999" y="7"/>
                    </a:lnTo>
                    <a:cubicBezTo>
                      <a:pt x="9998" y="7"/>
                      <a:pt x="9997" y="6"/>
                      <a:pt x="9997" y="5"/>
                    </a:cubicBezTo>
                    <a:cubicBezTo>
                      <a:pt x="9997" y="3"/>
                      <a:pt x="9998" y="3"/>
                      <a:pt x="9999" y="3"/>
                    </a:cubicBezTo>
                    <a:close/>
                    <a:moveTo>
                      <a:pt x="10007" y="3"/>
                    </a:moveTo>
                    <a:lnTo>
                      <a:pt x="10007" y="3"/>
                    </a:lnTo>
                    <a:cubicBezTo>
                      <a:pt x="10008" y="3"/>
                      <a:pt x="10009" y="3"/>
                      <a:pt x="10009" y="5"/>
                    </a:cubicBezTo>
                    <a:cubicBezTo>
                      <a:pt x="10009" y="6"/>
                      <a:pt x="10008" y="7"/>
                      <a:pt x="10007" y="7"/>
                    </a:cubicBezTo>
                    <a:lnTo>
                      <a:pt x="10007" y="7"/>
                    </a:lnTo>
                    <a:cubicBezTo>
                      <a:pt x="10006" y="7"/>
                      <a:pt x="10005" y="6"/>
                      <a:pt x="10005" y="5"/>
                    </a:cubicBezTo>
                    <a:cubicBezTo>
                      <a:pt x="10005" y="3"/>
                      <a:pt x="10006" y="3"/>
                      <a:pt x="10007" y="3"/>
                    </a:cubicBezTo>
                    <a:close/>
                    <a:moveTo>
                      <a:pt x="10015" y="3"/>
                    </a:moveTo>
                    <a:lnTo>
                      <a:pt x="10015" y="3"/>
                    </a:lnTo>
                    <a:cubicBezTo>
                      <a:pt x="10016" y="3"/>
                      <a:pt x="10017" y="3"/>
                      <a:pt x="10017" y="5"/>
                    </a:cubicBezTo>
                    <a:cubicBezTo>
                      <a:pt x="10017" y="6"/>
                      <a:pt x="10016" y="7"/>
                      <a:pt x="10015" y="7"/>
                    </a:cubicBezTo>
                    <a:lnTo>
                      <a:pt x="10015" y="7"/>
                    </a:lnTo>
                    <a:cubicBezTo>
                      <a:pt x="10014" y="7"/>
                      <a:pt x="10013" y="6"/>
                      <a:pt x="10013" y="5"/>
                    </a:cubicBezTo>
                    <a:cubicBezTo>
                      <a:pt x="10013" y="3"/>
                      <a:pt x="10014" y="3"/>
                      <a:pt x="10015" y="3"/>
                    </a:cubicBezTo>
                    <a:close/>
                    <a:moveTo>
                      <a:pt x="10023" y="3"/>
                    </a:moveTo>
                    <a:lnTo>
                      <a:pt x="10023" y="3"/>
                    </a:lnTo>
                    <a:cubicBezTo>
                      <a:pt x="10024" y="3"/>
                      <a:pt x="10025" y="3"/>
                      <a:pt x="10025" y="5"/>
                    </a:cubicBezTo>
                    <a:cubicBezTo>
                      <a:pt x="10025" y="6"/>
                      <a:pt x="10024" y="7"/>
                      <a:pt x="10023" y="7"/>
                    </a:cubicBezTo>
                    <a:lnTo>
                      <a:pt x="10023" y="7"/>
                    </a:lnTo>
                    <a:cubicBezTo>
                      <a:pt x="10022" y="7"/>
                      <a:pt x="10021" y="6"/>
                      <a:pt x="10021" y="5"/>
                    </a:cubicBezTo>
                    <a:cubicBezTo>
                      <a:pt x="10021" y="3"/>
                      <a:pt x="10022" y="3"/>
                      <a:pt x="10023" y="3"/>
                    </a:cubicBezTo>
                    <a:close/>
                    <a:moveTo>
                      <a:pt x="10031" y="3"/>
                    </a:moveTo>
                    <a:lnTo>
                      <a:pt x="10031" y="3"/>
                    </a:lnTo>
                    <a:cubicBezTo>
                      <a:pt x="10032" y="3"/>
                      <a:pt x="10033" y="3"/>
                      <a:pt x="10033" y="5"/>
                    </a:cubicBezTo>
                    <a:cubicBezTo>
                      <a:pt x="10033" y="6"/>
                      <a:pt x="10032" y="7"/>
                      <a:pt x="10031" y="7"/>
                    </a:cubicBezTo>
                    <a:lnTo>
                      <a:pt x="10031" y="7"/>
                    </a:lnTo>
                    <a:cubicBezTo>
                      <a:pt x="10030" y="7"/>
                      <a:pt x="10029" y="6"/>
                      <a:pt x="10029" y="5"/>
                    </a:cubicBezTo>
                    <a:cubicBezTo>
                      <a:pt x="10029" y="3"/>
                      <a:pt x="10030" y="3"/>
                      <a:pt x="10031" y="3"/>
                    </a:cubicBezTo>
                    <a:close/>
                    <a:moveTo>
                      <a:pt x="10039" y="3"/>
                    </a:moveTo>
                    <a:lnTo>
                      <a:pt x="10039" y="3"/>
                    </a:lnTo>
                    <a:cubicBezTo>
                      <a:pt x="10040" y="3"/>
                      <a:pt x="10041" y="3"/>
                      <a:pt x="10041" y="5"/>
                    </a:cubicBezTo>
                    <a:cubicBezTo>
                      <a:pt x="10041" y="6"/>
                      <a:pt x="10040" y="7"/>
                      <a:pt x="10039" y="7"/>
                    </a:cubicBezTo>
                    <a:lnTo>
                      <a:pt x="10039" y="7"/>
                    </a:lnTo>
                    <a:cubicBezTo>
                      <a:pt x="10038" y="7"/>
                      <a:pt x="10037" y="6"/>
                      <a:pt x="10037" y="5"/>
                    </a:cubicBezTo>
                    <a:cubicBezTo>
                      <a:pt x="10037" y="3"/>
                      <a:pt x="10038" y="3"/>
                      <a:pt x="10039" y="3"/>
                    </a:cubicBezTo>
                    <a:close/>
                    <a:moveTo>
                      <a:pt x="10047" y="3"/>
                    </a:moveTo>
                    <a:lnTo>
                      <a:pt x="10047" y="3"/>
                    </a:lnTo>
                    <a:cubicBezTo>
                      <a:pt x="10048" y="3"/>
                      <a:pt x="10049" y="3"/>
                      <a:pt x="10049" y="5"/>
                    </a:cubicBezTo>
                    <a:cubicBezTo>
                      <a:pt x="10049" y="6"/>
                      <a:pt x="10048" y="7"/>
                      <a:pt x="10047" y="7"/>
                    </a:cubicBezTo>
                    <a:lnTo>
                      <a:pt x="10047" y="7"/>
                    </a:lnTo>
                    <a:cubicBezTo>
                      <a:pt x="10046" y="7"/>
                      <a:pt x="10045" y="6"/>
                      <a:pt x="10045" y="5"/>
                    </a:cubicBezTo>
                    <a:cubicBezTo>
                      <a:pt x="10045" y="3"/>
                      <a:pt x="10046" y="3"/>
                      <a:pt x="10047" y="3"/>
                    </a:cubicBezTo>
                    <a:close/>
                    <a:moveTo>
                      <a:pt x="10055" y="3"/>
                    </a:moveTo>
                    <a:lnTo>
                      <a:pt x="10055" y="3"/>
                    </a:lnTo>
                    <a:cubicBezTo>
                      <a:pt x="10056" y="3"/>
                      <a:pt x="10057" y="3"/>
                      <a:pt x="10057" y="5"/>
                    </a:cubicBezTo>
                    <a:cubicBezTo>
                      <a:pt x="10057" y="6"/>
                      <a:pt x="10056" y="7"/>
                      <a:pt x="10055" y="7"/>
                    </a:cubicBezTo>
                    <a:lnTo>
                      <a:pt x="10055" y="7"/>
                    </a:lnTo>
                    <a:cubicBezTo>
                      <a:pt x="10054" y="7"/>
                      <a:pt x="10053" y="6"/>
                      <a:pt x="10053" y="5"/>
                    </a:cubicBezTo>
                    <a:cubicBezTo>
                      <a:pt x="10053" y="3"/>
                      <a:pt x="10054" y="3"/>
                      <a:pt x="10055" y="3"/>
                    </a:cubicBezTo>
                    <a:close/>
                    <a:moveTo>
                      <a:pt x="10063" y="3"/>
                    </a:moveTo>
                    <a:lnTo>
                      <a:pt x="10063" y="3"/>
                    </a:lnTo>
                    <a:cubicBezTo>
                      <a:pt x="10064" y="3"/>
                      <a:pt x="10065" y="3"/>
                      <a:pt x="10065" y="5"/>
                    </a:cubicBezTo>
                    <a:cubicBezTo>
                      <a:pt x="10065" y="6"/>
                      <a:pt x="10064" y="7"/>
                      <a:pt x="10063" y="7"/>
                    </a:cubicBezTo>
                    <a:lnTo>
                      <a:pt x="10063" y="7"/>
                    </a:lnTo>
                    <a:cubicBezTo>
                      <a:pt x="10062" y="7"/>
                      <a:pt x="10061" y="6"/>
                      <a:pt x="10061" y="5"/>
                    </a:cubicBezTo>
                    <a:cubicBezTo>
                      <a:pt x="10061" y="3"/>
                      <a:pt x="10062" y="3"/>
                      <a:pt x="10063" y="3"/>
                    </a:cubicBezTo>
                    <a:close/>
                    <a:moveTo>
                      <a:pt x="10071" y="3"/>
                    </a:moveTo>
                    <a:lnTo>
                      <a:pt x="10071" y="3"/>
                    </a:lnTo>
                    <a:cubicBezTo>
                      <a:pt x="10072" y="3"/>
                      <a:pt x="10073" y="3"/>
                      <a:pt x="10073" y="5"/>
                    </a:cubicBezTo>
                    <a:cubicBezTo>
                      <a:pt x="10073" y="6"/>
                      <a:pt x="10072" y="7"/>
                      <a:pt x="10071" y="7"/>
                    </a:cubicBezTo>
                    <a:lnTo>
                      <a:pt x="10071" y="7"/>
                    </a:lnTo>
                    <a:cubicBezTo>
                      <a:pt x="10070" y="7"/>
                      <a:pt x="10069" y="6"/>
                      <a:pt x="10069" y="5"/>
                    </a:cubicBezTo>
                    <a:cubicBezTo>
                      <a:pt x="10069" y="3"/>
                      <a:pt x="10070" y="3"/>
                      <a:pt x="10071" y="3"/>
                    </a:cubicBezTo>
                    <a:close/>
                    <a:moveTo>
                      <a:pt x="10079" y="3"/>
                    </a:moveTo>
                    <a:lnTo>
                      <a:pt x="10079" y="3"/>
                    </a:lnTo>
                    <a:cubicBezTo>
                      <a:pt x="10080" y="3"/>
                      <a:pt x="10081" y="3"/>
                      <a:pt x="10081" y="5"/>
                    </a:cubicBezTo>
                    <a:cubicBezTo>
                      <a:pt x="10081" y="6"/>
                      <a:pt x="10080" y="7"/>
                      <a:pt x="10079" y="7"/>
                    </a:cubicBezTo>
                    <a:lnTo>
                      <a:pt x="10079" y="7"/>
                    </a:lnTo>
                    <a:cubicBezTo>
                      <a:pt x="10078" y="7"/>
                      <a:pt x="10077" y="6"/>
                      <a:pt x="10077" y="5"/>
                    </a:cubicBezTo>
                    <a:cubicBezTo>
                      <a:pt x="10077" y="3"/>
                      <a:pt x="10078" y="3"/>
                      <a:pt x="10079" y="3"/>
                    </a:cubicBezTo>
                    <a:close/>
                    <a:moveTo>
                      <a:pt x="10087" y="3"/>
                    </a:moveTo>
                    <a:lnTo>
                      <a:pt x="10087" y="3"/>
                    </a:lnTo>
                    <a:cubicBezTo>
                      <a:pt x="10088" y="3"/>
                      <a:pt x="10089" y="3"/>
                      <a:pt x="10089" y="5"/>
                    </a:cubicBezTo>
                    <a:cubicBezTo>
                      <a:pt x="10089" y="6"/>
                      <a:pt x="10088" y="7"/>
                      <a:pt x="10087" y="7"/>
                    </a:cubicBezTo>
                    <a:lnTo>
                      <a:pt x="10087" y="7"/>
                    </a:lnTo>
                    <a:cubicBezTo>
                      <a:pt x="10086" y="7"/>
                      <a:pt x="10085" y="6"/>
                      <a:pt x="10085" y="5"/>
                    </a:cubicBezTo>
                    <a:cubicBezTo>
                      <a:pt x="10085" y="3"/>
                      <a:pt x="10086" y="3"/>
                      <a:pt x="10087" y="3"/>
                    </a:cubicBezTo>
                    <a:close/>
                    <a:moveTo>
                      <a:pt x="10095" y="3"/>
                    </a:moveTo>
                    <a:lnTo>
                      <a:pt x="10095" y="3"/>
                    </a:lnTo>
                    <a:cubicBezTo>
                      <a:pt x="10096" y="3"/>
                      <a:pt x="10097" y="3"/>
                      <a:pt x="10097" y="5"/>
                    </a:cubicBezTo>
                    <a:cubicBezTo>
                      <a:pt x="10097" y="6"/>
                      <a:pt x="10096" y="7"/>
                      <a:pt x="10095" y="7"/>
                    </a:cubicBezTo>
                    <a:lnTo>
                      <a:pt x="10095" y="7"/>
                    </a:lnTo>
                    <a:cubicBezTo>
                      <a:pt x="10094" y="7"/>
                      <a:pt x="10093" y="6"/>
                      <a:pt x="10093" y="5"/>
                    </a:cubicBezTo>
                    <a:cubicBezTo>
                      <a:pt x="10093" y="3"/>
                      <a:pt x="10094" y="3"/>
                      <a:pt x="10095" y="3"/>
                    </a:cubicBezTo>
                    <a:close/>
                    <a:moveTo>
                      <a:pt x="10103" y="3"/>
                    </a:moveTo>
                    <a:lnTo>
                      <a:pt x="10103" y="3"/>
                    </a:lnTo>
                    <a:cubicBezTo>
                      <a:pt x="10104" y="3"/>
                      <a:pt x="10105" y="3"/>
                      <a:pt x="10105" y="5"/>
                    </a:cubicBezTo>
                    <a:cubicBezTo>
                      <a:pt x="10105" y="6"/>
                      <a:pt x="10104" y="7"/>
                      <a:pt x="10103" y="7"/>
                    </a:cubicBezTo>
                    <a:lnTo>
                      <a:pt x="10103" y="7"/>
                    </a:lnTo>
                    <a:cubicBezTo>
                      <a:pt x="10102" y="7"/>
                      <a:pt x="10101" y="6"/>
                      <a:pt x="10101" y="5"/>
                    </a:cubicBezTo>
                    <a:cubicBezTo>
                      <a:pt x="10101" y="3"/>
                      <a:pt x="10102" y="3"/>
                      <a:pt x="10103" y="3"/>
                    </a:cubicBezTo>
                    <a:close/>
                    <a:moveTo>
                      <a:pt x="10111" y="3"/>
                    </a:moveTo>
                    <a:lnTo>
                      <a:pt x="10111" y="3"/>
                    </a:lnTo>
                    <a:cubicBezTo>
                      <a:pt x="10112" y="3"/>
                      <a:pt x="10113" y="3"/>
                      <a:pt x="10113" y="5"/>
                    </a:cubicBezTo>
                    <a:cubicBezTo>
                      <a:pt x="10113" y="6"/>
                      <a:pt x="10112" y="7"/>
                      <a:pt x="10111" y="7"/>
                    </a:cubicBezTo>
                    <a:lnTo>
                      <a:pt x="10111" y="7"/>
                    </a:lnTo>
                    <a:cubicBezTo>
                      <a:pt x="10110" y="7"/>
                      <a:pt x="10109" y="6"/>
                      <a:pt x="10109" y="5"/>
                    </a:cubicBezTo>
                    <a:cubicBezTo>
                      <a:pt x="10109" y="3"/>
                      <a:pt x="10110" y="3"/>
                      <a:pt x="10111" y="3"/>
                    </a:cubicBezTo>
                    <a:close/>
                    <a:moveTo>
                      <a:pt x="10119" y="3"/>
                    </a:moveTo>
                    <a:lnTo>
                      <a:pt x="10119" y="3"/>
                    </a:lnTo>
                    <a:cubicBezTo>
                      <a:pt x="10120" y="3"/>
                      <a:pt x="10121" y="3"/>
                      <a:pt x="10121" y="5"/>
                    </a:cubicBezTo>
                    <a:cubicBezTo>
                      <a:pt x="10121" y="6"/>
                      <a:pt x="10120" y="7"/>
                      <a:pt x="10119" y="7"/>
                    </a:cubicBezTo>
                    <a:lnTo>
                      <a:pt x="10119" y="7"/>
                    </a:lnTo>
                    <a:cubicBezTo>
                      <a:pt x="10118" y="7"/>
                      <a:pt x="10117" y="6"/>
                      <a:pt x="10117" y="5"/>
                    </a:cubicBezTo>
                    <a:cubicBezTo>
                      <a:pt x="10117" y="3"/>
                      <a:pt x="10118" y="3"/>
                      <a:pt x="10119" y="3"/>
                    </a:cubicBezTo>
                    <a:close/>
                    <a:moveTo>
                      <a:pt x="10127" y="3"/>
                    </a:moveTo>
                    <a:lnTo>
                      <a:pt x="10127" y="3"/>
                    </a:lnTo>
                    <a:cubicBezTo>
                      <a:pt x="10128" y="3"/>
                      <a:pt x="10129" y="3"/>
                      <a:pt x="10129" y="5"/>
                    </a:cubicBezTo>
                    <a:cubicBezTo>
                      <a:pt x="10129" y="6"/>
                      <a:pt x="10128" y="7"/>
                      <a:pt x="10127" y="7"/>
                    </a:cubicBezTo>
                    <a:lnTo>
                      <a:pt x="10127" y="7"/>
                    </a:lnTo>
                    <a:cubicBezTo>
                      <a:pt x="10126" y="7"/>
                      <a:pt x="10125" y="6"/>
                      <a:pt x="10125" y="5"/>
                    </a:cubicBezTo>
                    <a:cubicBezTo>
                      <a:pt x="10125" y="3"/>
                      <a:pt x="10126" y="3"/>
                      <a:pt x="10127" y="3"/>
                    </a:cubicBezTo>
                    <a:close/>
                    <a:moveTo>
                      <a:pt x="10135" y="3"/>
                    </a:moveTo>
                    <a:lnTo>
                      <a:pt x="10135" y="3"/>
                    </a:lnTo>
                    <a:cubicBezTo>
                      <a:pt x="10136" y="3"/>
                      <a:pt x="10137" y="3"/>
                      <a:pt x="10137" y="5"/>
                    </a:cubicBezTo>
                    <a:cubicBezTo>
                      <a:pt x="10137" y="6"/>
                      <a:pt x="10136" y="7"/>
                      <a:pt x="10135" y="7"/>
                    </a:cubicBezTo>
                    <a:lnTo>
                      <a:pt x="10135" y="7"/>
                    </a:lnTo>
                    <a:cubicBezTo>
                      <a:pt x="10134" y="7"/>
                      <a:pt x="10133" y="6"/>
                      <a:pt x="10133" y="5"/>
                    </a:cubicBezTo>
                    <a:cubicBezTo>
                      <a:pt x="10133" y="3"/>
                      <a:pt x="10134" y="3"/>
                      <a:pt x="10135" y="3"/>
                    </a:cubicBezTo>
                    <a:close/>
                    <a:moveTo>
                      <a:pt x="10143" y="3"/>
                    </a:moveTo>
                    <a:lnTo>
                      <a:pt x="10143" y="3"/>
                    </a:lnTo>
                    <a:cubicBezTo>
                      <a:pt x="10144" y="3"/>
                      <a:pt x="10145" y="3"/>
                      <a:pt x="10145" y="5"/>
                    </a:cubicBezTo>
                    <a:cubicBezTo>
                      <a:pt x="10145" y="6"/>
                      <a:pt x="10144" y="7"/>
                      <a:pt x="10143" y="7"/>
                    </a:cubicBezTo>
                    <a:lnTo>
                      <a:pt x="10143" y="7"/>
                    </a:lnTo>
                    <a:cubicBezTo>
                      <a:pt x="10142" y="7"/>
                      <a:pt x="10141" y="6"/>
                      <a:pt x="10141" y="5"/>
                    </a:cubicBezTo>
                    <a:cubicBezTo>
                      <a:pt x="10141" y="3"/>
                      <a:pt x="10142" y="3"/>
                      <a:pt x="10143" y="3"/>
                    </a:cubicBezTo>
                    <a:close/>
                    <a:moveTo>
                      <a:pt x="10151" y="3"/>
                    </a:moveTo>
                    <a:lnTo>
                      <a:pt x="10151" y="3"/>
                    </a:lnTo>
                    <a:cubicBezTo>
                      <a:pt x="10152" y="3"/>
                      <a:pt x="10153" y="3"/>
                      <a:pt x="10153" y="5"/>
                    </a:cubicBezTo>
                    <a:cubicBezTo>
                      <a:pt x="10153" y="6"/>
                      <a:pt x="10152" y="7"/>
                      <a:pt x="10151" y="7"/>
                    </a:cubicBezTo>
                    <a:lnTo>
                      <a:pt x="10151" y="7"/>
                    </a:lnTo>
                    <a:cubicBezTo>
                      <a:pt x="10150" y="7"/>
                      <a:pt x="10149" y="6"/>
                      <a:pt x="10149" y="5"/>
                    </a:cubicBezTo>
                    <a:cubicBezTo>
                      <a:pt x="10149" y="3"/>
                      <a:pt x="10150" y="3"/>
                      <a:pt x="10151" y="3"/>
                    </a:cubicBezTo>
                    <a:close/>
                    <a:moveTo>
                      <a:pt x="10159" y="3"/>
                    </a:moveTo>
                    <a:lnTo>
                      <a:pt x="10159" y="3"/>
                    </a:lnTo>
                    <a:cubicBezTo>
                      <a:pt x="10160" y="3"/>
                      <a:pt x="10161" y="3"/>
                      <a:pt x="10161" y="5"/>
                    </a:cubicBezTo>
                    <a:cubicBezTo>
                      <a:pt x="10161" y="6"/>
                      <a:pt x="10160" y="7"/>
                      <a:pt x="10159" y="7"/>
                    </a:cubicBezTo>
                    <a:lnTo>
                      <a:pt x="10159" y="7"/>
                    </a:lnTo>
                    <a:cubicBezTo>
                      <a:pt x="10158" y="7"/>
                      <a:pt x="10157" y="6"/>
                      <a:pt x="10157" y="5"/>
                    </a:cubicBezTo>
                    <a:cubicBezTo>
                      <a:pt x="10157" y="3"/>
                      <a:pt x="10158" y="3"/>
                      <a:pt x="10159" y="3"/>
                    </a:cubicBezTo>
                    <a:close/>
                    <a:moveTo>
                      <a:pt x="10167" y="3"/>
                    </a:moveTo>
                    <a:lnTo>
                      <a:pt x="10167" y="3"/>
                    </a:lnTo>
                    <a:cubicBezTo>
                      <a:pt x="10168" y="3"/>
                      <a:pt x="10169" y="3"/>
                      <a:pt x="10169" y="5"/>
                    </a:cubicBezTo>
                    <a:cubicBezTo>
                      <a:pt x="10169" y="6"/>
                      <a:pt x="10168" y="7"/>
                      <a:pt x="10167" y="7"/>
                    </a:cubicBezTo>
                    <a:lnTo>
                      <a:pt x="10167" y="7"/>
                    </a:lnTo>
                    <a:cubicBezTo>
                      <a:pt x="10166" y="7"/>
                      <a:pt x="10165" y="6"/>
                      <a:pt x="10165" y="5"/>
                    </a:cubicBezTo>
                    <a:cubicBezTo>
                      <a:pt x="10165" y="3"/>
                      <a:pt x="10166" y="3"/>
                      <a:pt x="10167" y="3"/>
                    </a:cubicBezTo>
                    <a:close/>
                    <a:moveTo>
                      <a:pt x="10175" y="3"/>
                    </a:moveTo>
                    <a:lnTo>
                      <a:pt x="10175" y="3"/>
                    </a:lnTo>
                    <a:cubicBezTo>
                      <a:pt x="10176" y="3"/>
                      <a:pt x="10177" y="3"/>
                      <a:pt x="10177" y="5"/>
                    </a:cubicBezTo>
                    <a:cubicBezTo>
                      <a:pt x="10177" y="6"/>
                      <a:pt x="10176" y="7"/>
                      <a:pt x="10175" y="7"/>
                    </a:cubicBezTo>
                    <a:lnTo>
                      <a:pt x="10175" y="7"/>
                    </a:lnTo>
                    <a:cubicBezTo>
                      <a:pt x="10174" y="7"/>
                      <a:pt x="10173" y="6"/>
                      <a:pt x="10173" y="5"/>
                    </a:cubicBezTo>
                    <a:cubicBezTo>
                      <a:pt x="10173" y="3"/>
                      <a:pt x="10174" y="3"/>
                      <a:pt x="10175" y="3"/>
                    </a:cubicBezTo>
                    <a:close/>
                    <a:moveTo>
                      <a:pt x="10183" y="3"/>
                    </a:moveTo>
                    <a:lnTo>
                      <a:pt x="10183" y="3"/>
                    </a:lnTo>
                    <a:cubicBezTo>
                      <a:pt x="10184" y="3"/>
                      <a:pt x="10185" y="3"/>
                      <a:pt x="10185" y="5"/>
                    </a:cubicBezTo>
                    <a:cubicBezTo>
                      <a:pt x="10185" y="6"/>
                      <a:pt x="10184" y="7"/>
                      <a:pt x="10183" y="7"/>
                    </a:cubicBezTo>
                    <a:lnTo>
                      <a:pt x="10183" y="7"/>
                    </a:lnTo>
                    <a:cubicBezTo>
                      <a:pt x="10182" y="7"/>
                      <a:pt x="10181" y="6"/>
                      <a:pt x="10181" y="5"/>
                    </a:cubicBezTo>
                    <a:cubicBezTo>
                      <a:pt x="10181" y="3"/>
                      <a:pt x="10182" y="3"/>
                      <a:pt x="10183" y="3"/>
                    </a:cubicBezTo>
                    <a:close/>
                    <a:moveTo>
                      <a:pt x="10191" y="3"/>
                    </a:moveTo>
                    <a:lnTo>
                      <a:pt x="10191" y="3"/>
                    </a:lnTo>
                    <a:cubicBezTo>
                      <a:pt x="10192" y="3"/>
                      <a:pt x="10193" y="3"/>
                      <a:pt x="10193" y="5"/>
                    </a:cubicBezTo>
                    <a:cubicBezTo>
                      <a:pt x="10193" y="6"/>
                      <a:pt x="10192" y="7"/>
                      <a:pt x="10191" y="7"/>
                    </a:cubicBezTo>
                    <a:lnTo>
                      <a:pt x="10191" y="7"/>
                    </a:lnTo>
                    <a:cubicBezTo>
                      <a:pt x="10190" y="7"/>
                      <a:pt x="10189" y="6"/>
                      <a:pt x="10189" y="5"/>
                    </a:cubicBezTo>
                    <a:cubicBezTo>
                      <a:pt x="10189" y="3"/>
                      <a:pt x="10190" y="3"/>
                      <a:pt x="10191" y="3"/>
                    </a:cubicBezTo>
                    <a:close/>
                    <a:moveTo>
                      <a:pt x="10199" y="3"/>
                    </a:moveTo>
                    <a:lnTo>
                      <a:pt x="10199" y="3"/>
                    </a:lnTo>
                    <a:cubicBezTo>
                      <a:pt x="10200" y="3"/>
                      <a:pt x="10201" y="3"/>
                      <a:pt x="10201" y="5"/>
                    </a:cubicBezTo>
                    <a:cubicBezTo>
                      <a:pt x="10201" y="6"/>
                      <a:pt x="10200" y="7"/>
                      <a:pt x="10199" y="7"/>
                    </a:cubicBezTo>
                    <a:lnTo>
                      <a:pt x="10199" y="7"/>
                    </a:lnTo>
                    <a:cubicBezTo>
                      <a:pt x="10198" y="7"/>
                      <a:pt x="10197" y="6"/>
                      <a:pt x="10197" y="5"/>
                    </a:cubicBezTo>
                    <a:cubicBezTo>
                      <a:pt x="10197" y="3"/>
                      <a:pt x="10198" y="3"/>
                      <a:pt x="10199" y="3"/>
                    </a:cubicBezTo>
                    <a:close/>
                    <a:moveTo>
                      <a:pt x="10207" y="3"/>
                    </a:moveTo>
                    <a:lnTo>
                      <a:pt x="10207" y="3"/>
                    </a:lnTo>
                    <a:cubicBezTo>
                      <a:pt x="10208" y="3"/>
                      <a:pt x="10209" y="4"/>
                      <a:pt x="10209" y="5"/>
                    </a:cubicBezTo>
                    <a:cubicBezTo>
                      <a:pt x="10209" y="6"/>
                      <a:pt x="10208" y="7"/>
                      <a:pt x="10207" y="7"/>
                    </a:cubicBezTo>
                    <a:lnTo>
                      <a:pt x="10207" y="7"/>
                    </a:lnTo>
                    <a:cubicBezTo>
                      <a:pt x="10206" y="7"/>
                      <a:pt x="10205" y="6"/>
                      <a:pt x="10205" y="5"/>
                    </a:cubicBezTo>
                    <a:cubicBezTo>
                      <a:pt x="10205" y="4"/>
                      <a:pt x="10206" y="3"/>
                      <a:pt x="10207" y="3"/>
                    </a:cubicBezTo>
                    <a:close/>
                    <a:moveTo>
                      <a:pt x="10215" y="3"/>
                    </a:moveTo>
                    <a:lnTo>
                      <a:pt x="10215" y="3"/>
                    </a:lnTo>
                    <a:cubicBezTo>
                      <a:pt x="10216" y="3"/>
                      <a:pt x="10217" y="4"/>
                      <a:pt x="10217" y="5"/>
                    </a:cubicBezTo>
                    <a:cubicBezTo>
                      <a:pt x="10217" y="6"/>
                      <a:pt x="10216" y="7"/>
                      <a:pt x="10215" y="7"/>
                    </a:cubicBezTo>
                    <a:lnTo>
                      <a:pt x="10215" y="7"/>
                    </a:lnTo>
                    <a:cubicBezTo>
                      <a:pt x="10214" y="7"/>
                      <a:pt x="10213" y="6"/>
                      <a:pt x="10213" y="5"/>
                    </a:cubicBezTo>
                    <a:cubicBezTo>
                      <a:pt x="10213" y="4"/>
                      <a:pt x="10214" y="3"/>
                      <a:pt x="10215" y="3"/>
                    </a:cubicBezTo>
                    <a:close/>
                    <a:moveTo>
                      <a:pt x="10223" y="3"/>
                    </a:moveTo>
                    <a:lnTo>
                      <a:pt x="10223" y="3"/>
                    </a:lnTo>
                    <a:cubicBezTo>
                      <a:pt x="10224" y="3"/>
                      <a:pt x="10225" y="4"/>
                      <a:pt x="10225" y="5"/>
                    </a:cubicBezTo>
                    <a:cubicBezTo>
                      <a:pt x="10225" y="6"/>
                      <a:pt x="10224" y="7"/>
                      <a:pt x="10223" y="7"/>
                    </a:cubicBezTo>
                    <a:lnTo>
                      <a:pt x="10223" y="7"/>
                    </a:lnTo>
                    <a:cubicBezTo>
                      <a:pt x="10222" y="7"/>
                      <a:pt x="10221" y="6"/>
                      <a:pt x="10221" y="5"/>
                    </a:cubicBezTo>
                    <a:cubicBezTo>
                      <a:pt x="10221" y="4"/>
                      <a:pt x="10222" y="3"/>
                      <a:pt x="10223" y="3"/>
                    </a:cubicBezTo>
                    <a:close/>
                    <a:moveTo>
                      <a:pt x="10231" y="3"/>
                    </a:moveTo>
                    <a:lnTo>
                      <a:pt x="10231" y="3"/>
                    </a:lnTo>
                    <a:cubicBezTo>
                      <a:pt x="10232" y="3"/>
                      <a:pt x="10233" y="4"/>
                      <a:pt x="10233" y="5"/>
                    </a:cubicBezTo>
                    <a:cubicBezTo>
                      <a:pt x="10233" y="6"/>
                      <a:pt x="10232" y="7"/>
                      <a:pt x="10231" y="7"/>
                    </a:cubicBezTo>
                    <a:lnTo>
                      <a:pt x="10231" y="7"/>
                    </a:lnTo>
                    <a:cubicBezTo>
                      <a:pt x="10230" y="7"/>
                      <a:pt x="10229" y="6"/>
                      <a:pt x="10229" y="5"/>
                    </a:cubicBezTo>
                    <a:cubicBezTo>
                      <a:pt x="10229" y="4"/>
                      <a:pt x="10230" y="3"/>
                      <a:pt x="10231" y="3"/>
                    </a:cubicBezTo>
                    <a:close/>
                    <a:moveTo>
                      <a:pt x="10239" y="3"/>
                    </a:moveTo>
                    <a:lnTo>
                      <a:pt x="10239" y="3"/>
                    </a:lnTo>
                    <a:cubicBezTo>
                      <a:pt x="10240" y="3"/>
                      <a:pt x="10241" y="4"/>
                      <a:pt x="10241" y="5"/>
                    </a:cubicBezTo>
                    <a:cubicBezTo>
                      <a:pt x="10241" y="6"/>
                      <a:pt x="10240" y="7"/>
                      <a:pt x="10239" y="7"/>
                    </a:cubicBezTo>
                    <a:lnTo>
                      <a:pt x="10239" y="7"/>
                    </a:lnTo>
                    <a:cubicBezTo>
                      <a:pt x="10238" y="7"/>
                      <a:pt x="10237" y="6"/>
                      <a:pt x="10237" y="5"/>
                    </a:cubicBezTo>
                    <a:cubicBezTo>
                      <a:pt x="10237" y="4"/>
                      <a:pt x="10238" y="3"/>
                      <a:pt x="10239" y="3"/>
                    </a:cubicBezTo>
                    <a:close/>
                    <a:moveTo>
                      <a:pt x="10247" y="3"/>
                    </a:moveTo>
                    <a:lnTo>
                      <a:pt x="10247" y="3"/>
                    </a:lnTo>
                    <a:cubicBezTo>
                      <a:pt x="10248" y="3"/>
                      <a:pt x="10249" y="4"/>
                      <a:pt x="10249" y="5"/>
                    </a:cubicBezTo>
                    <a:cubicBezTo>
                      <a:pt x="10249" y="6"/>
                      <a:pt x="10248" y="7"/>
                      <a:pt x="10247" y="7"/>
                    </a:cubicBezTo>
                    <a:lnTo>
                      <a:pt x="10247" y="7"/>
                    </a:lnTo>
                    <a:cubicBezTo>
                      <a:pt x="10246" y="7"/>
                      <a:pt x="10245" y="6"/>
                      <a:pt x="10245" y="5"/>
                    </a:cubicBezTo>
                    <a:cubicBezTo>
                      <a:pt x="10245" y="4"/>
                      <a:pt x="10246" y="3"/>
                      <a:pt x="10247" y="3"/>
                    </a:cubicBezTo>
                    <a:close/>
                    <a:moveTo>
                      <a:pt x="10255" y="3"/>
                    </a:moveTo>
                    <a:lnTo>
                      <a:pt x="10255" y="3"/>
                    </a:lnTo>
                    <a:cubicBezTo>
                      <a:pt x="10256" y="3"/>
                      <a:pt x="10257" y="4"/>
                      <a:pt x="10257" y="5"/>
                    </a:cubicBezTo>
                    <a:cubicBezTo>
                      <a:pt x="10257" y="6"/>
                      <a:pt x="10256" y="7"/>
                      <a:pt x="10255" y="7"/>
                    </a:cubicBezTo>
                    <a:lnTo>
                      <a:pt x="10255" y="7"/>
                    </a:lnTo>
                    <a:cubicBezTo>
                      <a:pt x="10254" y="7"/>
                      <a:pt x="10253" y="6"/>
                      <a:pt x="10253" y="5"/>
                    </a:cubicBezTo>
                    <a:cubicBezTo>
                      <a:pt x="10253" y="4"/>
                      <a:pt x="10254" y="3"/>
                      <a:pt x="10255" y="3"/>
                    </a:cubicBezTo>
                    <a:close/>
                    <a:moveTo>
                      <a:pt x="10263" y="3"/>
                    </a:moveTo>
                    <a:lnTo>
                      <a:pt x="10263" y="3"/>
                    </a:lnTo>
                    <a:cubicBezTo>
                      <a:pt x="10264" y="3"/>
                      <a:pt x="10265" y="4"/>
                      <a:pt x="10265" y="5"/>
                    </a:cubicBezTo>
                    <a:cubicBezTo>
                      <a:pt x="10265" y="6"/>
                      <a:pt x="10264" y="7"/>
                      <a:pt x="10263" y="7"/>
                    </a:cubicBezTo>
                    <a:lnTo>
                      <a:pt x="10263" y="7"/>
                    </a:lnTo>
                    <a:cubicBezTo>
                      <a:pt x="10262" y="7"/>
                      <a:pt x="10261" y="6"/>
                      <a:pt x="10261" y="5"/>
                    </a:cubicBezTo>
                    <a:cubicBezTo>
                      <a:pt x="10261" y="4"/>
                      <a:pt x="10262" y="3"/>
                      <a:pt x="10263" y="3"/>
                    </a:cubicBezTo>
                    <a:close/>
                    <a:moveTo>
                      <a:pt x="10271" y="3"/>
                    </a:moveTo>
                    <a:lnTo>
                      <a:pt x="10271" y="3"/>
                    </a:lnTo>
                    <a:cubicBezTo>
                      <a:pt x="10272" y="3"/>
                      <a:pt x="10273" y="4"/>
                      <a:pt x="10273" y="5"/>
                    </a:cubicBezTo>
                    <a:cubicBezTo>
                      <a:pt x="10273" y="6"/>
                      <a:pt x="10272" y="7"/>
                      <a:pt x="10271" y="7"/>
                    </a:cubicBezTo>
                    <a:lnTo>
                      <a:pt x="10271" y="7"/>
                    </a:lnTo>
                    <a:cubicBezTo>
                      <a:pt x="10270" y="7"/>
                      <a:pt x="10269" y="6"/>
                      <a:pt x="10269" y="5"/>
                    </a:cubicBezTo>
                    <a:cubicBezTo>
                      <a:pt x="10269" y="4"/>
                      <a:pt x="10270" y="3"/>
                      <a:pt x="10271" y="3"/>
                    </a:cubicBezTo>
                    <a:close/>
                    <a:moveTo>
                      <a:pt x="10279" y="3"/>
                    </a:moveTo>
                    <a:lnTo>
                      <a:pt x="10279" y="3"/>
                    </a:lnTo>
                    <a:cubicBezTo>
                      <a:pt x="10280" y="3"/>
                      <a:pt x="10281" y="4"/>
                      <a:pt x="10281" y="5"/>
                    </a:cubicBezTo>
                    <a:cubicBezTo>
                      <a:pt x="10281" y="6"/>
                      <a:pt x="10280" y="7"/>
                      <a:pt x="10279" y="7"/>
                    </a:cubicBezTo>
                    <a:lnTo>
                      <a:pt x="10279" y="7"/>
                    </a:lnTo>
                    <a:cubicBezTo>
                      <a:pt x="10278" y="7"/>
                      <a:pt x="10277" y="6"/>
                      <a:pt x="10277" y="5"/>
                    </a:cubicBezTo>
                    <a:cubicBezTo>
                      <a:pt x="10277" y="4"/>
                      <a:pt x="10278" y="3"/>
                      <a:pt x="10279" y="3"/>
                    </a:cubicBezTo>
                    <a:close/>
                    <a:moveTo>
                      <a:pt x="10287" y="3"/>
                    </a:moveTo>
                    <a:lnTo>
                      <a:pt x="10287" y="3"/>
                    </a:lnTo>
                    <a:cubicBezTo>
                      <a:pt x="10288" y="3"/>
                      <a:pt x="10289" y="4"/>
                      <a:pt x="10289" y="5"/>
                    </a:cubicBezTo>
                    <a:cubicBezTo>
                      <a:pt x="10289" y="6"/>
                      <a:pt x="10288" y="7"/>
                      <a:pt x="10287" y="7"/>
                    </a:cubicBezTo>
                    <a:lnTo>
                      <a:pt x="10287" y="7"/>
                    </a:lnTo>
                    <a:cubicBezTo>
                      <a:pt x="10286" y="7"/>
                      <a:pt x="10285" y="6"/>
                      <a:pt x="10285" y="5"/>
                    </a:cubicBezTo>
                    <a:cubicBezTo>
                      <a:pt x="10285" y="4"/>
                      <a:pt x="10286" y="3"/>
                      <a:pt x="10287" y="3"/>
                    </a:cubicBezTo>
                    <a:close/>
                    <a:moveTo>
                      <a:pt x="10295" y="3"/>
                    </a:moveTo>
                    <a:lnTo>
                      <a:pt x="10295" y="3"/>
                    </a:lnTo>
                    <a:cubicBezTo>
                      <a:pt x="10296" y="3"/>
                      <a:pt x="10297" y="4"/>
                      <a:pt x="10297" y="5"/>
                    </a:cubicBezTo>
                    <a:cubicBezTo>
                      <a:pt x="10297" y="6"/>
                      <a:pt x="10296" y="7"/>
                      <a:pt x="10295" y="7"/>
                    </a:cubicBezTo>
                    <a:lnTo>
                      <a:pt x="10295" y="7"/>
                    </a:lnTo>
                    <a:cubicBezTo>
                      <a:pt x="10294" y="7"/>
                      <a:pt x="10293" y="6"/>
                      <a:pt x="10293" y="5"/>
                    </a:cubicBezTo>
                    <a:cubicBezTo>
                      <a:pt x="10293" y="4"/>
                      <a:pt x="10294" y="3"/>
                      <a:pt x="10295" y="3"/>
                    </a:cubicBezTo>
                    <a:close/>
                    <a:moveTo>
                      <a:pt x="10303" y="3"/>
                    </a:moveTo>
                    <a:lnTo>
                      <a:pt x="10303" y="3"/>
                    </a:lnTo>
                    <a:cubicBezTo>
                      <a:pt x="10304" y="3"/>
                      <a:pt x="10305" y="4"/>
                      <a:pt x="10305" y="5"/>
                    </a:cubicBezTo>
                    <a:cubicBezTo>
                      <a:pt x="10305" y="6"/>
                      <a:pt x="10304" y="7"/>
                      <a:pt x="10303" y="7"/>
                    </a:cubicBezTo>
                    <a:lnTo>
                      <a:pt x="10303" y="7"/>
                    </a:lnTo>
                    <a:cubicBezTo>
                      <a:pt x="10302" y="7"/>
                      <a:pt x="10301" y="6"/>
                      <a:pt x="10301" y="5"/>
                    </a:cubicBezTo>
                    <a:cubicBezTo>
                      <a:pt x="10301" y="4"/>
                      <a:pt x="10302" y="3"/>
                      <a:pt x="10303" y="3"/>
                    </a:cubicBezTo>
                    <a:close/>
                    <a:moveTo>
                      <a:pt x="10311" y="3"/>
                    </a:moveTo>
                    <a:lnTo>
                      <a:pt x="10311" y="3"/>
                    </a:lnTo>
                    <a:cubicBezTo>
                      <a:pt x="10312" y="3"/>
                      <a:pt x="10313" y="4"/>
                      <a:pt x="10313" y="5"/>
                    </a:cubicBezTo>
                    <a:cubicBezTo>
                      <a:pt x="10313" y="6"/>
                      <a:pt x="10312" y="7"/>
                      <a:pt x="10311" y="7"/>
                    </a:cubicBezTo>
                    <a:lnTo>
                      <a:pt x="10311" y="7"/>
                    </a:lnTo>
                    <a:cubicBezTo>
                      <a:pt x="10310" y="7"/>
                      <a:pt x="10309" y="6"/>
                      <a:pt x="10309" y="5"/>
                    </a:cubicBezTo>
                    <a:cubicBezTo>
                      <a:pt x="10309" y="4"/>
                      <a:pt x="10310" y="3"/>
                      <a:pt x="10311" y="3"/>
                    </a:cubicBezTo>
                    <a:close/>
                    <a:moveTo>
                      <a:pt x="10319" y="3"/>
                    </a:moveTo>
                    <a:lnTo>
                      <a:pt x="10319" y="3"/>
                    </a:lnTo>
                    <a:cubicBezTo>
                      <a:pt x="10320" y="3"/>
                      <a:pt x="10321" y="4"/>
                      <a:pt x="10321" y="5"/>
                    </a:cubicBezTo>
                    <a:cubicBezTo>
                      <a:pt x="10321" y="6"/>
                      <a:pt x="10320" y="7"/>
                      <a:pt x="10319" y="7"/>
                    </a:cubicBezTo>
                    <a:lnTo>
                      <a:pt x="10319" y="7"/>
                    </a:lnTo>
                    <a:cubicBezTo>
                      <a:pt x="10318" y="7"/>
                      <a:pt x="10317" y="6"/>
                      <a:pt x="10317" y="5"/>
                    </a:cubicBezTo>
                    <a:cubicBezTo>
                      <a:pt x="10317" y="4"/>
                      <a:pt x="10318" y="3"/>
                      <a:pt x="10319" y="3"/>
                    </a:cubicBezTo>
                    <a:close/>
                    <a:moveTo>
                      <a:pt x="10327" y="3"/>
                    </a:moveTo>
                    <a:lnTo>
                      <a:pt x="10327" y="3"/>
                    </a:lnTo>
                    <a:cubicBezTo>
                      <a:pt x="10328" y="3"/>
                      <a:pt x="10329" y="4"/>
                      <a:pt x="10329" y="5"/>
                    </a:cubicBezTo>
                    <a:cubicBezTo>
                      <a:pt x="10329" y="6"/>
                      <a:pt x="10328" y="7"/>
                      <a:pt x="10327" y="7"/>
                    </a:cubicBezTo>
                    <a:lnTo>
                      <a:pt x="10327" y="7"/>
                    </a:lnTo>
                    <a:cubicBezTo>
                      <a:pt x="10326" y="7"/>
                      <a:pt x="10325" y="6"/>
                      <a:pt x="10325" y="5"/>
                    </a:cubicBezTo>
                    <a:cubicBezTo>
                      <a:pt x="10325" y="4"/>
                      <a:pt x="10326" y="3"/>
                      <a:pt x="10327" y="3"/>
                    </a:cubicBezTo>
                    <a:close/>
                    <a:moveTo>
                      <a:pt x="10335" y="3"/>
                    </a:moveTo>
                    <a:lnTo>
                      <a:pt x="10335" y="3"/>
                    </a:lnTo>
                    <a:cubicBezTo>
                      <a:pt x="10336" y="3"/>
                      <a:pt x="10337" y="4"/>
                      <a:pt x="10337" y="5"/>
                    </a:cubicBezTo>
                    <a:cubicBezTo>
                      <a:pt x="10337" y="6"/>
                      <a:pt x="10336" y="7"/>
                      <a:pt x="10335" y="7"/>
                    </a:cubicBezTo>
                    <a:lnTo>
                      <a:pt x="10335" y="7"/>
                    </a:lnTo>
                    <a:cubicBezTo>
                      <a:pt x="10334" y="7"/>
                      <a:pt x="10333" y="6"/>
                      <a:pt x="10333" y="5"/>
                    </a:cubicBezTo>
                    <a:cubicBezTo>
                      <a:pt x="10333" y="4"/>
                      <a:pt x="10334" y="3"/>
                      <a:pt x="10335" y="3"/>
                    </a:cubicBezTo>
                    <a:close/>
                    <a:moveTo>
                      <a:pt x="10343" y="3"/>
                    </a:moveTo>
                    <a:lnTo>
                      <a:pt x="10343" y="3"/>
                    </a:lnTo>
                    <a:cubicBezTo>
                      <a:pt x="10344" y="3"/>
                      <a:pt x="10345" y="4"/>
                      <a:pt x="10345" y="5"/>
                    </a:cubicBezTo>
                    <a:cubicBezTo>
                      <a:pt x="10345" y="6"/>
                      <a:pt x="10344" y="7"/>
                      <a:pt x="10343" y="7"/>
                    </a:cubicBezTo>
                    <a:lnTo>
                      <a:pt x="10343" y="7"/>
                    </a:lnTo>
                    <a:cubicBezTo>
                      <a:pt x="10342" y="7"/>
                      <a:pt x="10341" y="6"/>
                      <a:pt x="10341" y="5"/>
                    </a:cubicBezTo>
                    <a:cubicBezTo>
                      <a:pt x="10341" y="4"/>
                      <a:pt x="10342" y="3"/>
                      <a:pt x="10343" y="3"/>
                    </a:cubicBezTo>
                    <a:close/>
                    <a:moveTo>
                      <a:pt x="10351" y="3"/>
                    </a:moveTo>
                    <a:lnTo>
                      <a:pt x="10351" y="3"/>
                    </a:lnTo>
                    <a:cubicBezTo>
                      <a:pt x="10352" y="3"/>
                      <a:pt x="10353" y="4"/>
                      <a:pt x="10353" y="5"/>
                    </a:cubicBezTo>
                    <a:cubicBezTo>
                      <a:pt x="10353" y="6"/>
                      <a:pt x="10352" y="7"/>
                      <a:pt x="10351" y="7"/>
                    </a:cubicBezTo>
                    <a:lnTo>
                      <a:pt x="10351" y="7"/>
                    </a:lnTo>
                    <a:cubicBezTo>
                      <a:pt x="10350" y="7"/>
                      <a:pt x="10349" y="6"/>
                      <a:pt x="10349" y="5"/>
                    </a:cubicBezTo>
                    <a:cubicBezTo>
                      <a:pt x="10349" y="4"/>
                      <a:pt x="10350" y="3"/>
                      <a:pt x="10351" y="3"/>
                    </a:cubicBezTo>
                    <a:close/>
                    <a:moveTo>
                      <a:pt x="10359" y="3"/>
                    </a:moveTo>
                    <a:lnTo>
                      <a:pt x="10359" y="3"/>
                    </a:lnTo>
                    <a:cubicBezTo>
                      <a:pt x="10360" y="3"/>
                      <a:pt x="10361" y="4"/>
                      <a:pt x="10361" y="5"/>
                    </a:cubicBezTo>
                    <a:cubicBezTo>
                      <a:pt x="10361" y="6"/>
                      <a:pt x="10360" y="7"/>
                      <a:pt x="10359" y="7"/>
                    </a:cubicBezTo>
                    <a:lnTo>
                      <a:pt x="10359" y="7"/>
                    </a:lnTo>
                    <a:cubicBezTo>
                      <a:pt x="10358" y="7"/>
                      <a:pt x="10357" y="6"/>
                      <a:pt x="10357" y="5"/>
                    </a:cubicBezTo>
                    <a:cubicBezTo>
                      <a:pt x="10357" y="4"/>
                      <a:pt x="10358" y="3"/>
                      <a:pt x="10359" y="3"/>
                    </a:cubicBezTo>
                    <a:close/>
                    <a:moveTo>
                      <a:pt x="10367" y="3"/>
                    </a:moveTo>
                    <a:lnTo>
                      <a:pt x="10367" y="3"/>
                    </a:lnTo>
                    <a:cubicBezTo>
                      <a:pt x="10368" y="3"/>
                      <a:pt x="10369" y="4"/>
                      <a:pt x="10369" y="5"/>
                    </a:cubicBezTo>
                    <a:cubicBezTo>
                      <a:pt x="10369" y="6"/>
                      <a:pt x="10368" y="7"/>
                      <a:pt x="10367" y="7"/>
                    </a:cubicBezTo>
                    <a:lnTo>
                      <a:pt x="10367" y="7"/>
                    </a:lnTo>
                    <a:cubicBezTo>
                      <a:pt x="10366" y="7"/>
                      <a:pt x="10365" y="6"/>
                      <a:pt x="10365" y="5"/>
                    </a:cubicBezTo>
                    <a:cubicBezTo>
                      <a:pt x="10365" y="4"/>
                      <a:pt x="10366" y="3"/>
                      <a:pt x="10367" y="3"/>
                    </a:cubicBezTo>
                    <a:close/>
                    <a:moveTo>
                      <a:pt x="10375" y="3"/>
                    </a:moveTo>
                    <a:lnTo>
                      <a:pt x="10375" y="3"/>
                    </a:lnTo>
                    <a:cubicBezTo>
                      <a:pt x="10376" y="3"/>
                      <a:pt x="10377" y="4"/>
                      <a:pt x="10377" y="5"/>
                    </a:cubicBezTo>
                    <a:cubicBezTo>
                      <a:pt x="10377" y="6"/>
                      <a:pt x="10376" y="7"/>
                      <a:pt x="10375" y="7"/>
                    </a:cubicBezTo>
                    <a:lnTo>
                      <a:pt x="10375" y="7"/>
                    </a:lnTo>
                    <a:cubicBezTo>
                      <a:pt x="10374" y="7"/>
                      <a:pt x="10373" y="6"/>
                      <a:pt x="10373" y="5"/>
                    </a:cubicBezTo>
                    <a:cubicBezTo>
                      <a:pt x="10373" y="4"/>
                      <a:pt x="10374" y="3"/>
                      <a:pt x="10375" y="3"/>
                    </a:cubicBezTo>
                    <a:close/>
                    <a:moveTo>
                      <a:pt x="10383" y="3"/>
                    </a:moveTo>
                    <a:lnTo>
                      <a:pt x="10383" y="3"/>
                    </a:lnTo>
                    <a:cubicBezTo>
                      <a:pt x="10384" y="3"/>
                      <a:pt x="10385" y="4"/>
                      <a:pt x="10385" y="5"/>
                    </a:cubicBezTo>
                    <a:cubicBezTo>
                      <a:pt x="10385" y="6"/>
                      <a:pt x="10384" y="7"/>
                      <a:pt x="10383" y="7"/>
                    </a:cubicBezTo>
                    <a:lnTo>
                      <a:pt x="10383" y="7"/>
                    </a:lnTo>
                    <a:cubicBezTo>
                      <a:pt x="10382" y="7"/>
                      <a:pt x="10381" y="6"/>
                      <a:pt x="10381" y="5"/>
                    </a:cubicBezTo>
                    <a:cubicBezTo>
                      <a:pt x="10381" y="4"/>
                      <a:pt x="10382" y="3"/>
                      <a:pt x="10383" y="3"/>
                    </a:cubicBezTo>
                    <a:close/>
                    <a:moveTo>
                      <a:pt x="10391" y="3"/>
                    </a:moveTo>
                    <a:lnTo>
                      <a:pt x="10391" y="3"/>
                    </a:lnTo>
                    <a:cubicBezTo>
                      <a:pt x="10392" y="3"/>
                      <a:pt x="10393" y="4"/>
                      <a:pt x="10393" y="5"/>
                    </a:cubicBezTo>
                    <a:cubicBezTo>
                      <a:pt x="10393" y="6"/>
                      <a:pt x="10392" y="7"/>
                      <a:pt x="10391" y="7"/>
                    </a:cubicBezTo>
                    <a:lnTo>
                      <a:pt x="10391" y="7"/>
                    </a:lnTo>
                    <a:cubicBezTo>
                      <a:pt x="10390" y="7"/>
                      <a:pt x="10389" y="6"/>
                      <a:pt x="10389" y="5"/>
                    </a:cubicBezTo>
                    <a:cubicBezTo>
                      <a:pt x="10389" y="4"/>
                      <a:pt x="10390" y="3"/>
                      <a:pt x="10391" y="3"/>
                    </a:cubicBezTo>
                    <a:close/>
                    <a:moveTo>
                      <a:pt x="10399" y="3"/>
                    </a:moveTo>
                    <a:lnTo>
                      <a:pt x="10399" y="3"/>
                    </a:lnTo>
                    <a:cubicBezTo>
                      <a:pt x="10400" y="3"/>
                      <a:pt x="10401" y="4"/>
                      <a:pt x="10401" y="5"/>
                    </a:cubicBezTo>
                    <a:cubicBezTo>
                      <a:pt x="10401" y="6"/>
                      <a:pt x="10400" y="7"/>
                      <a:pt x="10399" y="7"/>
                    </a:cubicBezTo>
                    <a:lnTo>
                      <a:pt x="10399" y="7"/>
                    </a:lnTo>
                    <a:cubicBezTo>
                      <a:pt x="10398" y="7"/>
                      <a:pt x="10397" y="6"/>
                      <a:pt x="10397" y="5"/>
                    </a:cubicBezTo>
                    <a:cubicBezTo>
                      <a:pt x="10397" y="4"/>
                      <a:pt x="10398" y="3"/>
                      <a:pt x="10399" y="3"/>
                    </a:cubicBezTo>
                    <a:close/>
                    <a:moveTo>
                      <a:pt x="10407" y="3"/>
                    </a:moveTo>
                    <a:lnTo>
                      <a:pt x="10407" y="3"/>
                    </a:lnTo>
                    <a:cubicBezTo>
                      <a:pt x="10408" y="3"/>
                      <a:pt x="10409" y="4"/>
                      <a:pt x="10409" y="5"/>
                    </a:cubicBezTo>
                    <a:cubicBezTo>
                      <a:pt x="10409" y="6"/>
                      <a:pt x="10408" y="7"/>
                      <a:pt x="10407" y="7"/>
                    </a:cubicBezTo>
                    <a:lnTo>
                      <a:pt x="10407" y="7"/>
                    </a:lnTo>
                    <a:cubicBezTo>
                      <a:pt x="10406" y="7"/>
                      <a:pt x="10405" y="6"/>
                      <a:pt x="10405" y="5"/>
                    </a:cubicBezTo>
                    <a:cubicBezTo>
                      <a:pt x="10405" y="4"/>
                      <a:pt x="10406" y="3"/>
                      <a:pt x="10407" y="3"/>
                    </a:cubicBezTo>
                    <a:close/>
                    <a:moveTo>
                      <a:pt x="10415" y="3"/>
                    </a:moveTo>
                    <a:lnTo>
                      <a:pt x="10415" y="3"/>
                    </a:lnTo>
                    <a:cubicBezTo>
                      <a:pt x="10416" y="3"/>
                      <a:pt x="10417" y="4"/>
                      <a:pt x="10417" y="5"/>
                    </a:cubicBezTo>
                    <a:cubicBezTo>
                      <a:pt x="10417" y="6"/>
                      <a:pt x="10416" y="7"/>
                      <a:pt x="10415" y="7"/>
                    </a:cubicBezTo>
                    <a:lnTo>
                      <a:pt x="10415" y="7"/>
                    </a:lnTo>
                    <a:cubicBezTo>
                      <a:pt x="10414" y="7"/>
                      <a:pt x="10413" y="6"/>
                      <a:pt x="10413" y="5"/>
                    </a:cubicBezTo>
                    <a:cubicBezTo>
                      <a:pt x="10413" y="4"/>
                      <a:pt x="10414" y="3"/>
                      <a:pt x="10415" y="3"/>
                    </a:cubicBezTo>
                    <a:close/>
                    <a:moveTo>
                      <a:pt x="10423" y="3"/>
                    </a:moveTo>
                    <a:lnTo>
                      <a:pt x="10423" y="3"/>
                    </a:lnTo>
                    <a:cubicBezTo>
                      <a:pt x="10424" y="3"/>
                      <a:pt x="10425" y="4"/>
                      <a:pt x="10425" y="5"/>
                    </a:cubicBezTo>
                    <a:cubicBezTo>
                      <a:pt x="10425" y="6"/>
                      <a:pt x="10424" y="7"/>
                      <a:pt x="10423" y="7"/>
                    </a:cubicBezTo>
                    <a:lnTo>
                      <a:pt x="10423" y="7"/>
                    </a:lnTo>
                    <a:cubicBezTo>
                      <a:pt x="10422" y="7"/>
                      <a:pt x="10421" y="6"/>
                      <a:pt x="10421" y="5"/>
                    </a:cubicBezTo>
                    <a:cubicBezTo>
                      <a:pt x="10421" y="4"/>
                      <a:pt x="10422" y="3"/>
                      <a:pt x="10423" y="3"/>
                    </a:cubicBezTo>
                    <a:close/>
                    <a:moveTo>
                      <a:pt x="10431" y="3"/>
                    </a:moveTo>
                    <a:lnTo>
                      <a:pt x="10431" y="3"/>
                    </a:lnTo>
                    <a:cubicBezTo>
                      <a:pt x="10432" y="3"/>
                      <a:pt x="10433" y="4"/>
                      <a:pt x="10433" y="5"/>
                    </a:cubicBezTo>
                    <a:cubicBezTo>
                      <a:pt x="10433" y="6"/>
                      <a:pt x="10432" y="7"/>
                      <a:pt x="10431" y="7"/>
                    </a:cubicBezTo>
                    <a:lnTo>
                      <a:pt x="10431" y="7"/>
                    </a:lnTo>
                    <a:cubicBezTo>
                      <a:pt x="10430" y="7"/>
                      <a:pt x="10429" y="6"/>
                      <a:pt x="10429" y="5"/>
                    </a:cubicBezTo>
                    <a:cubicBezTo>
                      <a:pt x="10429" y="4"/>
                      <a:pt x="10430" y="3"/>
                      <a:pt x="10431" y="3"/>
                    </a:cubicBezTo>
                    <a:close/>
                    <a:moveTo>
                      <a:pt x="10439" y="3"/>
                    </a:moveTo>
                    <a:lnTo>
                      <a:pt x="10439" y="3"/>
                    </a:lnTo>
                    <a:cubicBezTo>
                      <a:pt x="10440" y="3"/>
                      <a:pt x="10441" y="4"/>
                      <a:pt x="10441" y="5"/>
                    </a:cubicBezTo>
                    <a:cubicBezTo>
                      <a:pt x="10441" y="6"/>
                      <a:pt x="10440" y="7"/>
                      <a:pt x="10439" y="7"/>
                    </a:cubicBezTo>
                    <a:lnTo>
                      <a:pt x="10439" y="7"/>
                    </a:lnTo>
                    <a:cubicBezTo>
                      <a:pt x="10438" y="7"/>
                      <a:pt x="10437" y="6"/>
                      <a:pt x="10437" y="5"/>
                    </a:cubicBezTo>
                    <a:cubicBezTo>
                      <a:pt x="10437" y="4"/>
                      <a:pt x="10438" y="3"/>
                      <a:pt x="10439" y="3"/>
                    </a:cubicBezTo>
                    <a:close/>
                    <a:moveTo>
                      <a:pt x="10447" y="3"/>
                    </a:moveTo>
                    <a:lnTo>
                      <a:pt x="10447" y="3"/>
                    </a:lnTo>
                    <a:cubicBezTo>
                      <a:pt x="10448" y="3"/>
                      <a:pt x="10449" y="4"/>
                      <a:pt x="10449" y="5"/>
                    </a:cubicBezTo>
                    <a:cubicBezTo>
                      <a:pt x="10449" y="6"/>
                      <a:pt x="10448" y="7"/>
                      <a:pt x="10447" y="7"/>
                    </a:cubicBezTo>
                    <a:lnTo>
                      <a:pt x="10447" y="7"/>
                    </a:lnTo>
                    <a:cubicBezTo>
                      <a:pt x="10446" y="7"/>
                      <a:pt x="10445" y="6"/>
                      <a:pt x="10445" y="5"/>
                    </a:cubicBezTo>
                    <a:cubicBezTo>
                      <a:pt x="10445" y="4"/>
                      <a:pt x="10446" y="3"/>
                      <a:pt x="10447" y="3"/>
                    </a:cubicBezTo>
                    <a:close/>
                    <a:moveTo>
                      <a:pt x="10455" y="3"/>
                    </a:moveTo>
                    <a:lnTo>
                      <a:pt x="10455" y="3"/>
                    </a:lnTo>
                    <a:cubicBezTo>
                      <a:pt x="10456" y="3"/>
                      <a:pt x="10457" y="4"/>
                      <a:pt x="10457" y="5"/>
                    </a:cubicBezTo>
                    <a:cubicBezTo>
                      <a:pt x="10457" y="6"/>
                      <a:pt x="10456" y="7"/>
                      <a:pt x="10455" y="7"/>
                    </a:cubicBezTo>
                    <a:lnTo>
                      <a:pt x="10455" y="7"/>
                    </a:lnTo>
                    <a:cubicBezTo>
                      <a:pt x="10454" y="7"/>
                      <a:pt x="10453" y="6"/>
                      <a:pt x="10453" y="5"/>
                    </a:cubicBezTo>
                    <a:cubicBezTo>
                      <a:pt x="10453" y="4"/>
                      <a:pt x="10454" y="3"/>
                      <a:pt x="10455" y="3"/>
                    </a:cubicBezTo>
                    <a:close/>
                    <a:moveTo>
                      <a:pt x="10463" y="3"/>
                    </a:moveTo>
                    <a:lnTo>
                      <a:pt x="10463" y="3"/>
                    </a:lnTo>
                    <a:cubicBezTo>
                      <a:pt x="10464" y="3"/>
                      <a:pt x="10465" y="4"/>
                      <a:pt x="10465" y="5"/>
                    </a:cubicBezTo>
                    <a:cubicBezTo>
                      <a:pt x="10465" y="6"/>
                      <a:pt x="10464" y="7"/>
                      <a:pt x="10463" y="7"/>
                    </a:cubicBezTo>
                    <a:lnTo>
                      <a:pt x="10463" y="7"/>
                    </a:lnTo>
                    <a:cubicBezTo>
                      <a:pt x="10462" y="7"/>
                      <a:pt x="10461" y="6"/>
                      <a:pt x="10461" y="5"/>
                    </a:cubicBezTo>
                    <a:cubicBezTo>
                      <a:pt x="10461" y="4"/>
                      <a:pt x="10462" y="3"/>
                      <a:pt x="10463" y="3"/>
                    </a:cubicBezTo>
                    <a:close/>
                    <a:moveTo>
                      <a:pt x="10471" y="3"/>
                    </a:moveTo>
                    <a:lnTo>
                      <a:pt x="10471" y="3"/>
                    </a:lnTo>
                    <a:cubicBezTo>
                      <a:pt x="10472" y="3"/>
                      <a:pt x="10473" y="4"/>
                      <a:pt x="10473" y="5"/>
                    </a:cubicBezTo>
                    <a:cubicBezTo>
                      <a:pt x="10473" y="6"/>
                      <a:pt x="10472" y="7"/>
                      <a:pt x="10471" y="7"/>
                    </a:cubicBezTo>
                    <a:lnTo>
                      <a:pt x="10471" y="7"/>
                    </a:lnTo>
                    <a:cubicBezTo>
                      <a:pt x="10470" y="7"/>
                      <a:pt x="10469" y="6"/>
                      <a:pt x="10469" y="5"/>
                    </a:cubicBezTo>
                    <a:cubicBezTo>
                      <a:pt x="10469" y="4"/>
                      <a:pt x="10470" y="3"/>
                      <a:pt x="10471" y="3"/>
                    </a:cubicBezTo>
                    <a:close/>
                    <a:moveTo>
                      <a:pt x="10479" y="3"/>
                    </a:moveTo>
                    <a:lnTo>
                      <a:pt x="10479" y="3"/>
                    </a:lnTo>
                    <a:cubicBezTo>
                      <a:pt x="10480" y="3"/>
                      <a:pt x="10481" y="4"/>
                      <a:pt x="10481" y="5"/>
                    </a:cubicBezTo>
                    <a:cubicBezTo>
                      <a:pt x="10481" y="6"/>
                      <a:pt x="10480" y="7"/>
                      <a:pt x="10479" y="7"/>
                    </a:cubicBezTo>
                    <a:lnTo>
                      <a:pt x="10479" y="7"/>
                    </a:lnTo>
                    <a:cubicBezTo>
                      <a:pt x="10478" y="7"/>
                      <a:pt x="10477" y="6"/>
                      <a:pt x="10477" y="5"/>
                    </a:cubicBezTo>
                    <a:cubicBezTo>
                      <a:pt x="10477" y="4"/>
                      <a:pt x="10478" y="3"/>
                      <a:pt x="10479" y="3"/>
                    </a:cubicBezTo>
                    <a:close/>
                    <a:moveTo>
                      <a:pt x="10487" y="3"/>
                    </a:moveTo>
                    <a:lnTo>
                      <a:pt x="10487" y="3"/>
                    </a:lnTo>
                    <a:cubicBezTo>
                      <a:pt x="10488" y="3"/>
                      <a:pt x="10489" y="4"/>
                      <a:pt x="10489" y="5"/>
                    </a:cubicBezTo>
                    <a:cubicBezTo>
                      <a:pt x="10489" y="6"/>
                      <a:pt x="10488" y="7"/>
                      <a:pt x="10487" y="7"/>
                    </a:cubicBezTo>
                    <a:lnTo>
                      <a:pt x="10487" y="7"/>
                    </a:lnTo>
                    <a:cubicBezTo>
                      <a:pt x="10486" y="7"/>
                      <a:pt x="10485" y="6"/>
                      <a:pt x="10485" y="5"/>
                    </a:cubicBezTo>
                    <a:cubicBezTo>
                      <a:pt x="10485" y="4"/>
                      <a:pt x="10486" y="3"/>
                      <a:pt x="10487" y="3"/>
                    </a:cubicBezTo>
                    <a:close/>
                    <a:moveTo>
                      <a:pt x="10495" y="3"/>
                    </a:moveTo>
                    <a:lnTo>
                      <a:pt x="10495" y="3"/>
                    </a:lnTo>
                    <a:cubicBezTo>
                      <a:pt x="10496" y="3"/>
                      <a:pt x="10497" y="4"/>
                      <a:pt x="10497" y="5"/>
                    </a:cubicBezTo>
                    <a:cubicBezTo>
                      <a:pt x="10497" y="6"/>
                      <a:pt x="10496" y="7"/>
                      <a:pt x="10495" y="7"/>
                    </a:cubicBezTo>
                    <a:lnTo>
                      <a:pt x="10495" y="7"/>
                    </a:lnTo>
                    <a:cubicBezTo>
                      <a:pt x="10494" y="7"/>
                      <a:pt x="10493" y="6"/>
                      <a:pt x="10493" y="5"/>
                    </a:cubicBezTo>
                    <a:cubicBezTo>
                      <a:pt x="10493" y="4"/>
                      <a:pt x="10494" y="3"/>
                      <a:pt x="10495" y="3"/>
                    </a:cubicBezTo>
                    <a:close/>
                    <a:moveTo>
                      <a:pt x="10503" y="3"/>
                    </a:moveTo>
                    <a:lnTo>
                      <a:pt x="10503" y="3"/>
                    </a:lnTo>
                    <a:cubicBezTo>
                      <a:pt x="10504" y="3"/>
                      <a:pt x="10505" y="4"/>
                      <a:pt x="10505" y="5"/>
                    </a:cubicBezTo>
                    <a:cubicBezTo>
                      <a:pt x="10505" y="6"/>
                      <a:pt x="10504" y="7"/>
                      <a:pt x="10503" y="7"/>
                    </a:cubicBezTo>
                    <a:lnTo>
                      <a:pt x="10503" y="7"/>
                    </a:lnTo>
                    <a:cubicBezTo>
                      <a:pt x="10502" y="7"/>
                      <a:pt x="10501" y="6"/>
                      <a:pt x="10501" y="5"/>
                    </a:cubicBezTo>
                    <a:cubicBezTo>
                      <a:pt x="10501" y="4"/>
                      <a:pt x="10502" y="3"/>
                      <a:pt x="10503" y="3"/>
                    </a:cubicBezTo>
                    <a:close/>
                    <a:moveTo>
                      <a:pt x="10511" y="3"/>
                    </a:moveTo>
                    <a:lnTo>
                      <a:pt x="10511" y="3"/>
                    </a:lnTo>
                    <a:cubicBezTo>
                      <a:pt x="10512" y="3"/>
                      <a:pt x="10513" y="4"/>
                      <a:pt x="10513" y="5"/>
                    </a:cubicBezTo>
                    <a:cubicBezTo>
                      <a:pt x="10513" y="6"/>
                      <a:pt x="10512" y="7"/>
                      <a:pt x="10511" y="7"/>
                    </a:cubicBezTo>
                    <a:lnTo>
                      <a:pt x="10511" y="7"/>
                    </a:lnTo>
                    <a:cubicBezTo>
                      <a:pt x="10510" y="7"/>
                      <a:pt x="10509" y="6"/>
                      <a:pt x="10509" y="5"/>
                    </a:cubicBezTo>
                    <a:cubicBezTo>
                      <a:pt x="10509" y="4"/>
                      <a:pt x="10510" y="3"/>
                      <a:pt x="10511" y="3"/>
                    </a:cubicBezTo>
                    <a:close/>
                    <a:moveTo>
                      <a:pt x="10519" y="3"/>
                    </a:moveTo>
                    <a:lnTo>
                      <a:pt x="10519" y="3"/>
                    </a:lnTo>
                    <a:cubicBezTo>
                      <a:pt x="10520" y="3"/>
                      <a:pt x="10521" y="4"/>
                      <a:pt x="10521" y="5"/>
                    </a:cubicBezTo>
                    <a:cubicBezTo>
                      <a:pt x="10521" y="6"/>
                      <a:pt x="10520" y="7"/>
                      <a:pt x="10519" y="7"/>
                    </a:cubicBezTo>
                    <a:lnTo>
                      <a:pt x="10519" y="7"/>
                    </a:lnTo>
                    <a:cubicBezTo>
                      <a:pt x="10518" y="7"/>
                      <a:pt x="10517" y="6"/>
                      <a:pt x="10517" y="5"/>
                    </a:cubicBezTo>
                    <a:cubicBezTo>
                      <a:pt x="10517" y="4"/>
                      <a:pt x="10518" y="3"/>
                      <a:pt x="10519" y="3"/>
                    </a:cubicBezTo>
                    <a:close/>
                    <a:moveTo>
                      <a:pt x="10527" y="3"/>
                    </a:moveTo>
                    <a:lnTo>
                      <a:pt x="10527" y="3"/>
                    </a:lnTo>
                    <a:cubicBezTo>
                      <a:pt x="10528" y="3"/>
                      <a:pt x="10529" y="4"/>
                      <a:pt x="10529" y="5"/>
                    </a:cubicBezTo>
                    <a:cubicBezTo>
                      <a:pt x="10529" y="6"/>
                      <a:pt x="10528" y="7"/>
                      <a:pt x="10527" y="7"/>
                    </a:cubicBezTo>
                    <a:lnTo>
                      <a:pt x="10527" y="7"/>
                    </a:lnTo>
                    <a:cubicBezTo>
                      <a:pt x="10526" y="7"/>
                      <a:pt x="10525" y="6"/>
                      <a:pt x="10525" y="5"/>
                    </a:cubicBezTo>
                    <a:cubicBezTo>
                      <a:pt x="10525" y="4"/>
                      <a:pt x="10526" y="3"/>
                      <a:pt x="10527" y="3"/>
                    </a:cubicBezTo>
                    <a:close/>
                    <a:moveTo>
                      <a:pt x="10535" y="3"/>
                    </a:moveTo>
                    <a:lnTo>
                      <a:pt x="10535" y="3"/>
                    </a:lnTo>
                    <a:cubicBezTo>
                      <a:pt x="10536" y="3"/>
                      <a:pt x="10537" y="4"/>
                      <a:pt x="10537" y="5"/>
                    </a:cubicBezTo>
                    <a:cubicBezTo>
                      <a:pt x="10537" y="6"/>
                      <a:pt x="10536" y="7"/>
                      <a:pt x="10535" y="7"/>
                    </a:cubicBezTo>
                    <a:lnTo>
                      <a:pt x="10535" y="7"/>
                    </a:lnTo>
                    <a:cubicBezTo>
                      <a:pt x="10534" y="7"/>
                      <a:pt x="10533" y="6"/>
                      <a:pt x="10533" y="5"/>
                    </a:cubicBezTo>
                    <a:cubicBezTo>
                      <a:pt x="10533" y="4"/>
                      <a:pt x="10534" y="3"/>
                      <a:pt x="10535" y="3"/>
                    </a:cubicBezTo>
                    <a:close/>
                    <a:moveTo>
                      <a:pt x="10543" y="3"/>
                    </a:moveTo>
                    <a:lnTo>
                      <a:pt x="10543" y="3"/>
                    </a:lnTo>
                    <a:cubicBezTo>
                      <a:pt x="10544" y="3"/>
                      <a:pt x="10545" y="4"/>
                      <a:pt x="10545" y="5"/>
                    </a:cubicBezTo>
                    <a:cubicBezTo>
                      <a:pt x="10545" y="6"/>
                      <a:pt x="10544" y="7"/>
                      <a:pt x="10543" y="7"/>
                    </a:cubicBezTo>
                    <a:lnTo>
                      <a:pt x="10543" y="7"/>
                    </a:lnTo>
                    <a:cubicBezTo>
                      <a:pt x="10542" y="7"/>
                      <a:pt x="10541" y="6"/>
                      <a:pt x="10541" y="5"/>
                    </a:cubicBezTo>
                    <a:cubicBezTo>
                      <a:pt x="10541" y="4"/>
                      <a:pt x="10542" y="3"/>
                      <a:pt x="10543" y="3"/>
                    </a:cubicBezTo>
                    <a:close/>
                    <a:moveTo>
                      <a:pt x="10551" y="3"/>
                    </a:moveTo>
                    <a:lnTo>
                      <a:pt x="10551" y="3"/>
                    </a:lnTo>
                    <a:cubicBezTo>
                      <a:pt x="10552" y="3"/>
                      <a:pt x="10553" y="4"/>
                      <a:pt x="10553" y="5"/>
                    </a:cubicBezTo>
                    <a:cubicBezTo>
                      <a:pt x="10553" y="6"/>
                      <a:pt x="10552" y="7"/>
                      <a:pt x="10551" y="7"/>
                    </a:cubicBezTo>
                    <a:lnTo>
                      <a:pt x="10551" y="7"/>
                    </a:lnTo>
                    <a:cubicBezTo>
                      <a:pt x="10550" y="7"/>
                      <a:pt x="10549" y="6"/>
                      <a:pt x="10549" y="5"/>
                    </a:cubicBezTo>
                    <a:cubicBezTo>
                      <a:pt x="10549" y="4"/>
                      <a:pt x="10550" y="3"/>
                      <a:pt x="10551" y="3"/>
                    </a:cubicBezTo>
                    <a:close/>
                    <a:moveTo>
                      <a:pt x="10559" y="3"/>
                    </a:moveTo>
                    <a:lnTo>
                      <a:pt x="10559" y="3"/>
                    </a:lnTo>
                    <a:cubicBezTo>
                      <a:pt x="10560" y="3"/>
                      <a:pt x="10561" y="4"/>
                      <a:pt x="10561" y="5"/>
                    </a:cubicBezTo>
                    <a:cubicBezTo>
                      <a:pt x="10561" y="6"/>
                      <a:pt x="10560" y="7"/>
                      <a:pt x="10559" y="7"/>
                    </a:cubicBezTo>
                    <a:lnTo>
                      <a:pt x="10559" y="7"/>
                    </a:lnTo>
                    <a:cubicBezTo>
                      <a:pt x="10558" y="7"/>
                      <a:pt x="10557" y="6"/>
                      <a:pt x="10557" y="5"/>
                    </a:cubicBezTo>
                    <a:cubicBezTo>
                      <a:pt x="10557" y="4"/>
                      <a:pt x="10558" y="3"/>
                      <a:pt x="10559" y="3"/>
                    </a:cubicBezTo>
                    <a:close/>
                    <a:moveTo>
                      <a:pt x="10567" y="3"/>
                    </a:moveTo>
                    <a:lnTo>
                      <a:pt x="10567" y="3"/>
                    </a:lnTo>
                    <a:cubicBezTo>
                      <a:pt x="10568" y="3"/>
                      <a:pt x="10569" y="4"/>
                      <a:pt x="10569" y="5"/>
                    </a:cubicBezTo>
                    <a:cubicBezTo>
                      <a:pt x="10569" y="6"/>
                      <a:pt x="10568" y="7"/>
                      <a:pt x="10567" y="7"/>
                    </a:cubicBezTo>
                    <a:lnTo>
                      <a:pt x="10567" y="7"/>
                    </a:lnTo>
                    <a:cubicBezTo>
                      <a:pt x="10566" y="7"/>
                      <a:pt x="10565" y="6"/>
                      <a:pt x="10565" y="5"/>
                    </a:cubicBezTo>
                    <a:cubicBezTo>
                      <a:pt x="10565" y="4"/>
                      <a:pt x="10566" y="3"/>
                      <a:pt x="10567" y="3"/>
                    </a:cubicBezTo>
                    <a:close/>
                    <a:moveTo>
                      <a:pt x="10575" y="3"/>
                    </a:moveTo>
                    <a:lnTo>
                      <a:pt x="10575" y="3"/>
                    </a:lnTo>
                    <a:cubicBezTo>
                      <a:pt x="10576" y="3"/>
                      <a:pt x="10577" y="4"/>
                      <a:pt x="10577" y="5"/>
                    </a:cubicBezTo>
                    <a:cubicBezTo>
                      <a:pt x="10577" y="6"/>
                      <a:pt x="10576" y="7"/>
                      <a:pt x="10575" y="7"/>
                    </a:cubicBezTo>
                    <a:lnTo>
                      <a:pt x="10575" y="7"/>
                    </a:lnTo>
                    <a:cubicBezTo>
                      <a:pt x="10574" y="7"/>
                      <a:pt x="10573" y="6"/>
                      <a:pt x="10573" y="5"/>
                    </a:cubicBezTo>
                    <a:cubicBezTo>
                      <a:pt x="10573" y="4"/>
                      <a:pt x="10574" y="3"/>
                      <a:pt x="10575" y="3"/>
                    </a:cubicBezTo>
                    <a:close/>
                    <a:moveTo>
                      <a:pt x="10583" y="3"/>
                    </a:moveTo>
                    <a:lnTo>
                      <a:pt x="10583" y="3"/>
                    </a:lnTo>
                    <a:cubicBezTo>
                      <a:pt x="10584" y="3"/>
                      <a:pt x="10585" y="4"/>
                      <a:pt x="10585" y="5"/>
                    </a:cubicBezTo>
                    <a:cubicBezTo>
                      <a:pt x="10585" y="6"/>
                      <a:pt x="10584" y="7"/>
                      <a:pt x="10583" y="7"/>
                    </a:cubicBezTo>
                    <a:lnTo>
                      <a:pt x="10583" y="7"/>
                    </a:lnTo>
                    <a:cubicBezTo>
                      <a:pt x="10582" y="7"/>
                      <a:pt x="10581" y="6"/>
                      <a:pt x="10581" y="5"/>
                    </a:cubicBezTo>
                    <a:cubicBezTo>
                      <a:pt x="10581" y="4"/>
                      <a:pt x="10582" y="3"/>
                      <a:pt x="10583" y="3"/>
                    </a:cubicBezTo>
                    <a:close/>
                    <a:moveTo>
                      <a:pt x="10591" y="3"/>
                    </a:moveTo>
                    <a:lnTo>
                      <a:pt x="10591" y="3"/>
                    </a:lnTo>
                    <a:cubicBezTo>
                      <a:pt x="10592" y="3"/>
                      <a:pt x="10593" y="4"/>
                      <a:pt x="10593" y="5"/>
                    </a:cubicBezTo>
                    <a:cubicBezTo>
                      <a:pt x="10593" y="6"/>
                      <a:pt x="10592" y="7"/>
                      <a:pt x="10591" y="7"/>
                    </a:cubicBezTo>
                    <a:lnTo>
                      <a:pt x="10591" y="7"/>
                    </a:lnTo>
                    <a:cubicBezTo>
                      <a:pt x="10590" y="7"/>
                      <a:pt x="10589" y="6"/>
                      <a:pt x="10589" y="5"/>
                    </a:cubicBezTo>
                    <a:cubicBezTo>
                      <a:pt x="10589" y="4"/>
                      <a:pt x="10590" y="3"/>
                      <a:pt x="10591" y="3"/>
                    </a:cubicBezTo>
                    <a:close/>
                    <a:moveTo>
                      <a:pt x="10599" y="3"/>
                    </a:moveTo>
                    <a:lnTo>
                      <a:pt x="10599" y="3"/>
                    </a:lnTo>
                    <a:cubicBezTo>
                      <a:pt x="10600" y="3"/>
                      <a:pt x="10601" y="4"/>
                      <a:pt x="10601" y="5"/>
                    </a:cubicBezTo>
                    <a:cubicBezTo>
                      <a:pt x="10601" y="6"/>
                      <a:pt x="10600" y="7"/>
                      <a:pt x="10599" y="7"/>
                    </a:cubicBezTo>
                    <a:lnTo>
                      <a:pt x="10599" y="7"/>
                    </a:lnTo>
                    <a:cubicBezTo>
                      <a:pt x="10598" y="7"/>
                      <a:pt x="10597" y="6"/>
                      <a:pt x="10597" y="5"/>
                    </a:cubicBezTo>
                    <a:cubicBezTo>
                      <a:pt x="10597" y="4"/>
                      <a:pt x="10598" y="3"/>
                      <a:pt x="10599" y="3"/>
                    </a:cubicBezTo>
                    <a:close/>
                    <a:moveTo>
                      <a:pt x="10607" y="3"/>
                    </a:moveTo>
                    <a:lnTo>
                      <a:pt x="10607" y="3"/>
                    </a:lnTo>
                    <a:cubicBezTo>
                      <a:pt x="10608" y="3"/>
                      <a:pt x="10609" y="4"/>
                      <a:pt x="10609" y="5"/>
                    </a:cubicBezTo>
                    <a:cubicBezTo>
                      <a:pt x="10609" y="6"/>
                      <a:pt x="10608" y="7"/>
                      <a:pt x="10607" y="7"/>
                    </a:cubicBezTo>
                    <a:lnTo>
                      <a:pt x="10607" y="7"/>
                    </a:lnTo>
                    <a:cubicBezTo>
                      <a:pt x="10606" y="7"/>
                      <a:pt x="10605" y="6"/>
                      <a:pt x="10605" y="5"/>
                    </a:cubicBezTo>
                    <a:cubicBezTo>
                      <a:pt x="10605" y="4"/>
                      <a:pt x="10606" y="3"/>
                      <a:pt x="10607" y="3"/>
                    </a:cubicBezTo>
                    <a:close/>
                    <a:moveTo>
                      <a:pt x="10615" y="3"/>
                    </a:moveTo>
                    <a:lnTo>
                      <a:pt x="10615" y="3"/>
                    </a:lnTo>
                    <a:cubicBezTo>
                      <a:pt x="10616" y="3"/>
                      <a:pt x="10617" y="4"/>
                      <a:pt x="10617" y="5"/>
                    </a:cubicBezTo>
                    <a:cubicBezTo>
                      <a:pt x="10617" y="6"/>
                      <a:pt x="10616" y="7"/>
                      <a:pt x="10615" y="7"/>
                    </a:cubicBezTo>
                    <a:lnTo>
                      <a:pt x="10615" y="7"/>
                    </a:lnTo>
                    <a:cubicBezTo>
                      <a:pt x="10614" y="7"/>
                      <a:pt x="10613" y="6"/>
                      <a:pt x="10613" y="5"/>
                    </a:cubicBezTo>
                    <a:cubicBezTo>
                      <a:pt x="10613" y="4"/>
                      <a:pt x="10614" y="3"/>
                      <a:pt x="10615" y="3"/>
                    </a:cubicBezTo>
                    <a:close/>
                    <a:moveTo>
                      <a:pt x="10623" y="3"/>
                    </a:moveTo>
                    <a:lnTo>
                      <a:pt x="10623" y="3"/>
                    </a:lnTo>
                    <a:cubicBezTo>
                      <a:pt x="10624" y="3"/>
                      <a:pt x="10625" y="4"/>
                      <a:pt x="10625" y="5"/>
                    </a:cubicBezTo>
                    <a:cubicBezTo>
                      <a:pt x="10625" y="6"/>
                      <a:pt x="10624" y="7"/>
                      <a:pt x="10623" y="7"/>
                    </a:cubicBezTo>
                    <a:lnTo>
                      <a:pt x="10623" y="7"/>
                    </a:lnTo>
                    <a:cubicBezTo>
                      <a:pt x="10622" y="7"/>
                      <a:pt x="10621" y="6"/>
                      <a:pt x="10621" y="5"/>
                    </a:cubicBezTo>
                    <a:cubicBezTo>
                      <a:pt x="10621" y="4"/>
                      <a:pt x="10622" y="3"/>
                      <a:pt x="10623" y="3"/>
                    </a:cubicBezTo>
                    <a:close/>
                    <a:moveTo>
                      <a:pt x="10631" y="3"/>
                    </a:moveTo>
                    <a:lnTo>
                      <a:pt x="10631" y="3"/>
                    </a:lnTo>
                    <a:cubicBezTo>
                      <a:pt x="10632" y="3"/>
                      <a:pt x="10633" y="4"/>
                      <a:pt x="10633" y="5"/>
                    </a:cubicBezTo>
                    <a:cubicBezTo>
                      <a:pt x="10633" y="6"/>
                      <a:pt x="10632" y="7"/>
                      <a:pt x="10631" y="7"/>
                    </a:cubicBezTo>
                    <a:lnTo>
                      <a:pt x="10631" y="7"/>
                    </a:lnTo>
                    <a:cubicBezTo>
                      <a:pt x="10630" y="7"/>
                      <a:pt x="10629" y="6"/>
                      <a:pt x="10629" y="5"/>
                    </a:cubicBezTo>
                    <a:cubicBezTo>
                      <a:pt x="10629" y="4"/>
                      <a:pt x="10630" y="3"/>
                      <a:pt x="10631" y="3"/>
                    </a:cubicBezTo>
                    <a:close/>
                    <a:moveTo>
                      <a:pt x="10639" y="3"/>
                    </a:moveTo>
                    <a:lnTo>
                      <a:pt x="10639" y="3"/>
                    </a:lnTo>
                    <a:cubicBezTo>
                      <a:pt x="10640" y="3"/>
                      <a:pt x="10641" y="4"/>
                      <a:pt x="10641" y="5"/>
                    </a:cubicBezTo>
                    <a:cubicBezTo>
                      <a:pt x="10641" y="6"/>
                      <a:pt x="10640" y="7"/>
                      <a:pt x="10639" y="7"/>
                    </a:cubicBezTo>
                    <a:lnTo>
                      <a:pt x="10639" y="7"/>
                    </a:lnTo>
                    <a:cubicBezTo>
                      <a:pt x="10638" y="7"/>
                      <a:pt x="10637" y="6"/>
                      <a:pt x="10637" y="5"/>
                    </a:cubicBezTo>
                    <a:cubicBezTo>
                      <a:pt x="10637" y="4"/>
                      <a:pt x="10638" y="3"/>
                      <a:pt x="10639" y="3"/>
                    </a:cubicBezTo>
                    <a:close/>
                    <a:moveTo>
                      <a:pt x="10647" y="3"/>
                    </a:moveTo>
                    <a:lnTo>
                      <a:pt x="10647" y="3"/>
                    </a:lnTo>
                    <a:cubicBezTo>
                      <a:pt x="10648" y="3"/>
                      <a:pt x="10649" y="4"/>
                      <a:pt x="10649" y="5"/>
                    </a:cubicBezTo>
                    <a:cubicBezTo>
                      <a:pt x="10649" y="6"/>
                      <a:pt x="10648" y="7"/>
                      <a:pt x="10647" y="7"/>
                    </a:cubicBezTo>
                    <a:lnTo>
                      <a:pt x="10647" y="7"/>
                    </a:lnTo>
                    <a:cubicBezTo>
                      <a:pt x="10646" y="7"/>
                      <a:pt x="10645" y="6"/>
                      <a:pt x="10645" y="5"/>
                    </a:cubicBezTo>
                    <a:cubicBezTo>
                      <a:pt x="10645" y="4"/>
                      <a:pt x="10646" y="3"/>
                      <a:pt x="10647" y="3"/>
                    </a:cubicBezTo>
                    <a:close/>
                    <a:moveTo>
                      <a:pt x="10655" y="3"/>
                    </a:moveTo>
                    <a:lnTo>
                      <a:pt x="10655" y="3"/>
                    </a:lnTo>
                    <a:cubicBezTo>
                      <a:pt x="10656" y="3"/>
                      <a:pt x="10657" y="4"/>
                      <a:pt x="10657" y="5"/>
                    </a:cubicBezTo>
                    <a:cubicBezTo>
                      <a:pt x="10657" y="6"/>
                      <a:pt x="10656" y="7"/>
                      <a:pt x="10655" y="7"/>
                    </a:cubicBezTo>
                    <a:lnTo>
                      <a:pt x="10655" y="7"/>
                    </a:lnTo>
                    <a:cubicBezTo>
                      <a:pt x="10654" y="7"/>
                      <a:pt x="10653" y="6"/>
                      <a:pt x="10653" y="5"/>
                    </a:cubicBezTo>
                    <a:cubicBezTo>
                      <a:pt x="10653" y="4"/>
                      <a:pt x="10654" y="3"/>
                      <a:pt x="10655" y="3"/>
                    </a:cubicBezTo>
                    <a:close/>
                    <a:moveTo>
                      <a:pt x="10663" y="3"/>
                    </a:moveTo>
                    <a:lnTo>
                      <a:pt x="10663" y="3"/>
                    </a:lnTo>
                    <a:cubicBezTo>
                      <a:pt x="10664" y="3"/>
                      <a:pt x="10665" y="4"/>
                      <a:pt x="10665" y="5"/>
                    </a:cubicBezTo>
                    <a:cubicBezTo>
                      <a:pt x="10665" y="6"/>
                      <a:pt x="10664" y="7"/>
                      <a:pt x="10663" y="7"/>
                    </a:cubicBezTo>
                    <a:lnTo>
                      <a:pt x="10663" y="7"/>
                    </a:lnTo>
                    <a:cubicBezTo>
                      <a:pt x="10662" y="7"/>
                      <a:pt x="10661" y="6"/>
                      <a:pt x="10661" y="5"/>
                    </a:cubicBezTo>
                    <a:cubicBezTo>
                      <a:pt x="10661" y="4"/>
                      <a:pt x="10662" y="3"/>
                      <a:pt x="10663" y="3"/>
                    </a:cubicBezTo>
                    <a:close/>
                    <a:moveTo>
                      <a:pt x="10671" y="3"/>
                    </a:moveTo>
                    <a:lnTo>
                      <a:pt x="10671" y="3"/>
                    </a:lnTo>
                    <a:cubicBezTo>
                      <a:pt x="10672" y="3"/>
                      <a:pt x="10673" y="4"/>
                      <a:pt x="10673" y="5"/>
                    </a:cubicBezTo>
                    <a:cubicBezTo>
                      <a:pt x="10673" y="6"/>
                      <a:pt x="10672" y="7"/>
                      <a:pt x="10671" y="7"/>
                    </a:cubicBezTo>
                    <a:lnTo>
                      <a:pt x="10671" y="7"/>
                    </a:lnTo>
                    <a:cubicBezTo>
                      <a:pt x="10670" y="7"/>
                      <a:pt x="10669" y="6"/>
                      <a:pt x="10669" y="5"/>
                    </a:cubicBezTo>
                    <a:cubicBezTo>
                      <a:pt x="10669" y="4"/>
                      <a:pt x="10670" y="3"/>
                      <a:pt x="10671" y="3"/>
                    </a:cubicBezTo>
                    <a:close/>
                    <a:moveTo>
                      <a:pt x="10679" y="3"/>
                    </a:moveTo>
                    <a:lnTo>
                      <a:pt x="10679" y="3"/>
                    </a:lnTo>
                    <a:cubicBezTo>
                      <a:pt x="10680" y="3"/>
                      <a:pt x="10681" y="4"/>
                      <a:pt x="10681" y="5"/>
                    </a:cubicBezTo>
                    <a:cubicBezTo>
                      <a:pt x="10681" y="6"/>
                      <a:pt x="10680" y="7"/>
                      <a:pt x="10679" y="7"/>
                    </a:cubicBezTo>
                    <a:lnTo>
                      <a:pt x="10679" y="7"/>
                    </a:lnTo>
                    <a:cubicBezTo>
                      <a:pt x="10678" y="7"/>
                      <a:pt x="10677" y="6"/>
                      <a:pt x="10677" y="5"/>
                    </a:cubicBezTo>
                    <a:cubicBezTo>
                      <a:pt x="10677" y="4"/>
                      <a:pt x="10678" y="3"/>
                      <a:pt x="10679" y="3"/>
                    </a:cubicBezTo>
                    <a:close/>
                    <a:moveTo>
                      <a:pt x="10687" y="3"/>
                    </a:moveTo>
                    <a:lnTo>
                      <a:pt x="10687" y="3"/>
                    </a:lnTo>
                    <a:cubicBezTo>
                      <a:pt x="10688" y="3"/>
                      <a:pt x="10689" y="4"/>
                      <a:pt x="10689" y="5"/>
                    </a:cubicBezTo>
                    <a:cubicBezTo>
                      <a:pt x="10689" y="6"/>
                      <a:pt x="10688" y="7"/>
                      <a:pt x="10687" y="7"/>
                    </a:cubicBezTo>
                    <a:lnTo>
                      <a:pt x="10687" y="7"/>
                    </a:lnTo>
                    <a:cubicBezTo>
                      <a:pt x="10686" y="7"/>
                      <a:pt x="10685" y="6"/>
                      <a:pt x="10685" y="5"/>
                    </a:cubicBezTo>
                    <a:cubicBezTo>
                      <a:pt x="10685" y="4"/>
                      <a:pt x="10686" y="3"/>
                      <a:pt x="10687" y="3"/>
                    </a:cubicBezTo>
                    <a:close/>
                    <a:moveTo>
                      <a:pt x="10695" y="3"/>
                    </a:moveTo>
                    <a:lnTo>
                      <a:pt x="10695" y="3"/>
                    </a:lnTo>
                    <a:cubicBezTo>
                      <a:pt x="10696" y="3"/>
                      <a:pt x="10697" y="4"/>
                      <a:pt x="10697" y="5"/>
                    </a:cubicBezTo>
                    <a:cubicBezTo>
                      <a:pt x="10697" y="6"/>
                      <a:pt x="10696" y="7"/>
                      <a:pt x="10695" y="7"/>
                    </a:cubicBezTo>
                    <a:lnTo>
                      <a:pt x="10695" y="7"/>
                    </a:lnTo>
                    <a:cubicBezTo>
                      <a:pt x="10694" y="7"/>
                      <a:pt x="10693" y="6"/>
                      <a:pt x="10693" y="5"/>
                    </a:cubicBezTo>
                    <a:cubicBezTo>
                      <a:pt x="10693" y="4"/>
                      <a:pt x="10694" y="3"/>
                      <a:pt x="10695" y="3"/>
                    </a:cubicBezTo>
                    <a:close/>
                    <a:moveTo>
                      <a:pt x="10703" y="3"/>
                    </a:moveTo>
                    <a:lnTo>
                      <a:pt x="10703" y="3"/>
                    </a:lnTo>
                    <a:cubicBezTo>
                      <a:pt x="10704" y="3"/>
                      <a:pt x="10705" y="4"/>
                      <a:pt x="10705" y="5"/>
                    </a:cubicBezTo>
                    <a:cubicBezTo>
                      <a:pt x="10705" y="6"/>
                      <a:pt x="10704" y="7"/>
                      <a:pt x="10703" y="7"/>
                    </a:cubicBezTo>
                    <a:lnTo>
                      <a:pt x="10703" y="7"/>
                    </a:lnTo>
                    <a:cubicBezTo>
                      <a:pt x="10702" y="7"/>
                      <a:pt x="10701" y="6"/>
                      <a:pt x="10701" y="5"/>
                    </a:cubicBezTo>
                    <a:cubicBezTo>
                      <a:pt x="10701" y="4"/>
                      <a:pt x="10702" y="3"/>
                      <a:pt x="10703" y="3"/>
                    </a:cubicBezTo>
                    <a:close/>
                    <a:moveTo>
                      <a:pt x="10711" y="3"/>
                    </a:moveTo>
                    <a:lnTo>
                      <a:pt x="10711" y="3"/>
                    </a:lnTo>
                    <a:cubicBezTo>
                      <a:pt x="10712" y="3"/>
                      <a:pt x="10713" y="4"/>
                      <a:pt x="10713" y="5"/>
                    </a:cubicBezTo>
                    <a:cubicBezTo>
                      <a:pt x="10713" y="6"/>
                      <a:pt x="10712" y="7"/>
                      <a:pt x="10711" y="7"/>
                    </a:cubicBezTo>
                    <a:lnTo>
                      <a:pt x="10711" y="7"/>
                    </a:lnTo>
                    <a:cubicBezTo>
                      <a:pt x="10710" y="7"/>
                      <a:pt x="10709" y="6"/>
                      <a:pt x="10709" y="5"/>
                    </a:cubicBezTo>
                    <a:cubicBezTo>
                      <a:pt x="10709" y="4"/>
                      <a:pt x="10710" y="3"/>
                      <a:pt x="10711" y="3"/>
                    </a:cubicBezTo>
                    <a:close/>
                    <a:moveTo>
                      <a:pt x="10719" y="3"/>
                    </a:moveTo>
                    <a:lnTo>
                      <a:pt x="10719" y="3"/>
                    </a:lnTo>
                    <a:cubicBezTo>
                      <a:pt x="10720" y="3"/>
                      <a:pt x="10721" y="4"/>
                      <a:pt x="10721" y="5"/>
                    </a:cubicBezTo>
                    <a:cubicBezTo>
                      <a:pt x="10721" y="6"/>
                      <a:pt x="10720" y="7"/>
                      <a:pt x="10719" y="7"/>
                    </a:cubicBezTo>
                    <a:lnTo>
                      <a:pt x="10719" y="7"/>
                    </a:lnTo>
                    <a:cubicBezTo>
                      <a:pt x="10718" y="7"/>
                      <a:pt x="10717" y="6"/>
                      <a:pt x="10717" y="5"/>
                    </a:cubicBezTo>
                    <a:cubicBezTo>
                      <a:pt x="10717" y="4"/>
                      <a:pt x="10718" y="3"/>
                      <a:pt x="10719" y="3"/>
                    </a:cubicBezTo>
                    <a:close/>
                    <a:moveTo>
                      <a:pt x="10727" y="3"/>
                    </a:moveTo>
                    <a:lnTo>
                      <a:pt x="10727" y="3"/>
                    </a:lnTo>
                    <a:cubicBezTo>
                      <a:pt x="10728" y="3"/>
                      <a:pt x="10729" y="4"/>
                      <a:pt x="10729" y="5"/>
                    </a:cubicBezTo>
                    <a:cubicBezTo>
                      <a:pt x="10729" y="6"/>
                      <a:pt x="10728" y="7"/>
                      <a:pt x="10727" y="7"/>
                    </a:cubicBezTo>
                    <a:lnTo>
                      <a:pt x="10727" y="7"/>
                    </a:lnTo>
                    <a:cubicBezTo>
                      <a:pt x="10726" y="7"/>
                      <a:pt x="10725" y="6"/>
                      <a:pt x="10725" y="5"/>
                    </a:cubicBezTo>
                    <a:cubicBezTo>
                      <a:pt x="10725" y="4"/>
                      <a:pt x="10726" y="3"/>
                      <a:pt x="10727" y="3"/>
                    </a:cubicBezTo>
                    <a:close/>
                    <a:moveTo>
                      <a:pt x="10735" y="3"/>
                    </a:moveTo>
                    <a:lnTo>
                      <a:pt x="10735" y="3"/>
                    </a:lnTo>
                    <a:cubicBezTo>
                      <a:pt x="10736" y="3"/>
                      <a:pt x="10737" y="4"/>
                      <a:pt x="10737" y="5"/>
                    </a:cubicBezTo>
                    <a:cubicBezTo>
                      <a:pt x="10737" y="6"/>
                      <a:pt x="10736" y="7"/>
                      <a:pt x="10735" y="7"/>
                    </a:cubicBezTo>
                    <a:lnTo>
                      <a:pt x="10735" y="7"/>
                    </a:lnTo>
                    <a:cubicBezTo>
                      <a:pt x="10734" y="7"/>
                      <a:pt x="10733" y="6"/>
                      <a:pt x="10733" y="5"/>
                    </a:cubicBezTo>
                    <a:cubicBezTo>
                      <a:pt x="10733" y="4"/>
                      <a:pt x="10734" y="3"/>
                      <a:pt x="10735" y="3"/>
                    </a:cubicBezTo>
                    <a:close/>
                    <a:moveTo>
                      <a:pt x="10743" y="3"/>
                    </a:moveTo>
                    <a:lnTo>
                      <a:pt x="10743" y="3"/>
                    </a:lnTo>
                    <a:cubicBezTo>
                      <a:pt x="10744" y="3"/>
                      <a:pt x="10745" y="4"/>
                      <a:pt x="10745" y="5"/>
                    </a:cubicBezTo>
                    <a:cubicBezTo>
                      <a:pt x="10745" y="6"/>
                      <a:pt x="10744" y="7"/>
                      <a:pt x="10743" y="7"/>
                    </a:cubicBezTo>
                    <a:lnTo>
                      <a:pt x="10743" y="7"/>
                    </a:lnTo>
                    <a:cubicBezTo>
                      <a:pt x="10742" y="7"/>
                      <a:pt x="10741" y="6"/>
                      <a:pt x="10741" y="5"/>
                    </a:cubicBezTo>
                    <a:cubicBezTo>
                      <a:pt x="10741" y="4"/>
                      <a:pt x="10742" y="3"/>
                      <a:pt x="10743" y="3"/>
                    </a:cubicBezTo>
                    <a:close/>
                    <a:moveTo>
                      <a:pt x="10751" y="3"/>
                    </a:moveTo>
                    <a:lnTo>
                      <a:pt x="10751" y="3"/>
                    </a:lnTo>
                    <a:cubicBezTo>
                      <a:pt x="10752" y="3"/>
                      <a:pt x="10753" y="4"/>
                      <a:pt x="10753" y="5"/>
                    </a:cubicBezTo>
                    <a:cubicBezTo>
                      <a:pt x="10753" y="6"/>
                      <a:pt x="10752" y="7"/>
                      <a:pt x="10751" y="7"/>
                    </a:cubicBezTo>
                    <a:lnTo>
                      <a:pt x="10751" y="7"/>
                    </a:lnTo>
                    <a:cubicBezTo>
                      <a:pt x="10750" y="7"/>
                      <a:pt x="10749" y="6"/>
                      <a:pt x="10749" y="5"/>
                    </a:cubicBezTo>
                    <a:cubicBezTo>
                      <a:pt x="10749" y="4"/>
                      <a:pt x="10750" y="3"/>
                      <a:pt x="10751" y="3"/>
                    </a:cubicBezTo>
                    <a:close/>
                    <a:moveTo>
                      <a:pt x="10759" y="3"/>
                    </a:moveTo>
                    <a:lnTo>
                      <a:pt x="10759" y="3"/>
                    </a:lnTo>
                    <a:cubicBezTo>
                      <a:pt x="10760" y="3"/>
                      <a:pt x="10761" y="4"/>
                      <a:pt x="10761" y="5"/>
                    </a:cubicBezTo>
                    <a:cubicBezTo>
                      <a:pt x="10761" y="6"/>
                      <a:pt x="10760" y="7"/>
                      <a:pt x="10759" y="7"/>
                    </a:cubicBezTo>
                    <a:lnTo>
                      <a:pt x="10759" y="7"/>
                    </a:lnTo>
                    <a:cubicBezTo>
                      <a:pt x="10758" y="7"/>
                      <a:pt x="10757" y="6"/>
                      <a:pt x="10757" y="5"/>
                    </a:cubicBezTo>
                    <a:cubicBezTo>
                      <a:pt x="10757" y="4"/>
                      <a:pt x="10758" y="3"/>
                      <a:pt x="10759" y="3"/>
                    </a:cubicBezTo>
                    <a:close/>
                    <a:moveTo>
                      <a:pt x="10767" y="3"/>
                    </a:moveTo>
                    <a:lnTo>
                      <a:pt x="10767" y="3"/>
                    </a:lnTo>
                    <a:cubicBezTo>
                      <a:pt x="10768" y="3"/>
                      <a:pt x="10769" y="4"/>
                      <a:pt x="10769" y="5"/>
                    </a:cubicBezTo>
                    <a:cubicBezTo>
                      <a:pt x="10769" y="6"/>
                      <a:pt x="10768" y="7"/>
                      <a:pt x="10767" y="7"/>
                    </a:cubicBezTo>
                    <a:lnTo>
                      <a:pt x="10767" y="7"/>
                    </a:lnTo>
                    <a:cubicBezTo>
                      <a:pt x="10766" y="7"/>
                      <a:pt x="10765" y="6"/>
                      <a:pt x="10765" y="5"/>
                    </a:cubicBezTo>
                    <a:cubicBezTo>
                      <a:pt x="10765" y="4"/>
                      <a:pt x="10766" y="3"/>
                      <a:pt x="10767" y="3"/>
                    </a:cubicBezTo>
                    <a:close/>
                    <a:moveTo>
                      <a:pt x="10775" y="3"/>
                    </a:moveTo>
                    <a:lnTo>
                      <a:pt x="10775" y="3"/>
                    </a:lnTo>
                    <a:cubicBezTo>
                      <a:pt x="10776" y="3"/>
                      <a:pt x="10777" y="4"/>
                      <a:pt x="10777" y="5"/>
                    </a:cubicBezTo>
                    <a:cubicBezTo>
                      <a:pt x="10777" y="6"/>
                      <a:pt x="10776" y="7"/>
                      <a:pt x="10775" y="7"/>
                    </a:cubicBezTo>
                    <a:lnTo>
                      <a:pt x="10775" y="7"/>
                    </a:lnTo>
                    <a:cubicBezTo>
                      <a:pt x="10774" y="7"/>
                      <a:pt x="10773" y="6"/>
                      <a:pt x="10773" y="5"/>
                    </a:cubicBezTo>
                    <a:cubicBezTo>
                      <a:pt x="10773" y="4"/>
                      <a:pt x="10774" y="3"/>
                      <a:pt x="10775" y="3"/>
                    </a:cubicBezTo>
                    <a:close/>
                    <a:moveTo>
                      <a:pt x="10783" y="3"/>
                    </a:moveTo>
                    <a:lnTo>
                      <a:pt x="10783" y="3"/>
                    </a:lnTo>
                    <a:cubicBezTo>
                      <a:pt x="10784" y="3"/>
                      <a:pt x="10785" y="4"/>
                      <a:pt x="10785" y="5"/>
                    </a:cubicBezTo>
                    <a:cubicBezTo>
                      <a:pt x="10785" y="6"/>
                      <a:pt x="10784" y="7"/>
                      <a:pt x="10783" y="7"/>
                    </a:cubicBezTo>
                    <a:lnTo>
                      <a:pt x="10783" y="7"/>
                    </a:lnTo>
                    <a:cubicBezTo>
                      <a:pt x="10782" y="7"/>
                      <a:pt x="10781" y="6"/>
                      <a:pt x="10781" y="5"/>
                    </a:cubicBezTo>
                    <a:cubicBezTo>
                      <a:pt x="10781" y="4"/>
                      <a:pt x="10782" y="3"/>
                      <a:pt x="10783" y="3"/>
                    </a:cubicBezTo>
                    <a:close/>
                    <a:moveTo>
                      <a:pt x="10791" y="3"/>
                    </a:moveTo>
                    <a:lnTo>
                      <a:pt x="10791" y="3"/>
                    </a:lnTo>
                    <a:cubicBezTo>
                      <a:pt x="10793" y="3"/>
                      <a:pt x="10793" y="4"/>
                      <a:pt x="10793" y="5"/>
                    </a:cubicBezTo>
                    <a:cubicBezTo>
                      <a:pt x="10793" y="6"/>
                      <a:pt x="10793" y="7"/>
                      <a:pt x="10791" y="7"/>
                    </a:cubicBezTo>
                    <a:lnTo>
                      <a:pt x="10791" y="7"/>
                    </a:lnTo>
                    <a:cubicBezTo>
                      <a:pt x="10790" y="7"/>
                      <a:pt x="10789" y="6"/>
                      <a:pt x="10789" y="5"/>
                    </a:cubicBezTo>
                    <a:cubicBezTo>
                      <a:pt x="10789" y="4"/>
                      <a:pt x="10790" y="3"/>
                      <a:pt x="10791" y="3"/>
                    </a:cubicBezTo>
                    <a:close/>
                    <a:moveTo>
                      <a:pt x="10799" y="3"/>
                    </a:moveTo>
                    <a:lnTo>
                      <a:pt x="10799" y="3"/>
                    </a:lnTo>
                    <a:cubicBezTo>
                      <a:pt x="10801" y="3"/>
                      <a:pt x="10801" y="4"/>
                      <a:pt x="10801" y="5"/>
                    </a:cubicBezTo>
                    <a:cubicBezTo>
                      <a:pt x="10801" y="6"/>
                      <a:pt x="10801" y="7"/>
                      <a:pt x="10799" y="7"/>
                    </a:cubicBezTo>
                    <a:lnTo>
                      <a:pt x="10799" y="7"/>
                    </a:lnTo>
                    <a:cubicBezTo>
                      <a:pt x="10798" y="7"/>
                      <a:pt x="10797" y="6"/>
                      <a:pt x="10797" y="5"/>
                    </a:cubicBezTo>
                    <a:cubicBezTo>
                      <a:pt x="10797" y="4"/>
                      <a:pt x="10798" y="3"/>
                      <a:pt x="10799" y="3"/>
                    </a:cubicBezTo>
                    <a:close/>
                    <a:moveTo>
                      <a:pt x="10807" y="3"/>
                    </a:moveTo>
                    <a:lnTo>
                      <a:pt x="10807" y="3"/>
                    </a:lnTo>
                    <a:cubicBezTo>
                      <a:pt x="10809" y="3"/>
                      <a:pt x="10809" y="4"/>
                      <a:pt x="10809" y="5"/>
                    </a:cubicBezTo>
                    <a:cubicBezTo>
                      <a:pt x="10809" y="6"/>
                      <a:pt x="10809" y="7"/>
                      <a:pt x="10807" y="7"/>
                    </a:cubicBezTo>
                    <a:lnTo>
                      <a:pt x="10807" y="7"/>
                    </a:lnTo>
                    <a:cubicBezTo>
                      <a:pt x="10806" y="7"/>
                      <a:pt x="10805" y="6"/>
                      <a:pt x="10805" y="5"/>
                    </a:cubicBezTo>
                    <a:cubicBezTo>
                      <a:pt x="10805" y="4"/>
                      <a:pt x="10806" y="3"/>
                      <a:pt x="10807" y="3"/>
                    </a:cubicBezTo>
                    <a:close/>
                    <a:moveTo>
                      <a:pt x="10815" y="3"/>
                    </a:moveTo>
                    <a:lnTo>
                      <a:pt x="10815" y="3"/>
                    </a:lnTo>
                    <a:cubicBezTo>
                      <a:pt x="10817" y="3"/>
                      <a:pt x="10817" y="4"/>
                      <a:pt x="10817" y="5"/>
                    </a:cubicBezTo>
                    <a:cubicBezTo>
                      <a:pt x="10817" y="6"/>
                      <a:pt x="10817" y="7"/>
                      <a:pt x="10815" y="7"/>
                    </a:cubicBezTo>
                    <a:lnTo>
                      <a:pt x="10815" y="7"/>
                    </a:lnTo>
                    <a:cubicBezTo>
                      <a:pt x="10814" y="7"/>
                      <a:pt x="10813" y="6"/>
                      <a:pt x="10813" y="5"/>
                    </a:cubicBezTo>
                    <a:cubicBezTo>
                      <a:pt x="10813" y="4"/>
                      <a:pt x="10814" y="3"/>
                      <a:pt x="10815" y="3"/>
                    </a:cubicBezTo>
                    <a:close/>
                    <a:moveTo>
                      <a:pt x="10823" y="3"/>
                    </a:moveTo>
                    <a:lnTo>
                      <a:pt x="10823" y="3"/>
                    </a:lnTo>
                    <a:cubicBezTo>
                      <a:pt x="10825" y="3"/>
                      <a:pt x="10825" y="4"/>
                      <a:pt x="10825" y="5"/>
                    </a:cubicBezTo>
                    <a:cubicBezTo>
                      <a:pt x="10825" y="6"/>
                      <a:pt x="10825" y="7"/>
                      <a:pt x="10823" y="7"/>
                    </a:cubicBezTo>
                    <a:lnTo>
                      <a:pt x="10823" y="7"/>
                    </a:lnTo>
                    <a:cubicBezTo>
                      <a:pt x="10822" y="7"/>
                      <a:pt x="10821" y="6"/>
                      <a:pt x="10821" y="5"/>
                    </a:cubicBezTo>
                    <a:cubicBezTo>
                      <a:pt x="10821" y="4"/>
                      <a:pt x="10822" y="3"/>
                      <a:pt x="10823" y="3"/>
                    </a:cubicBezTo>
                    <a:close/>
                    <a:moveTo>
                      <a:pt x="10831" y="3"/>
                    </a:moveTo>
                    <a:lnTo>
                      <a:pt x="10831" y="3"/>
                    </a:lnTo>
                    <a:cubicBezTo>
                      <a:pt x="10833" y="3"/>
                      <a:pt x="10833" y="4"/>
                      <a:pt x="10833" y="5"/>
                    </a:cubicBezTo>
                    <a:cubicBezTo>
                      <a:pt x="10833" y="6"/>
                      <a:pt x="10833" y="7"/>
                      <a:pt x="10831" y="7"/>
                    </a:cubicBezTo>
                    <a:lnTo>
                      <a:pt x="10831" y="7"/>
                    </a:lnTo>
                    <a:cubicBezTo>
                      <a:pt x="10830" y="7"/>
                      <a:pt x="10829" y="6"/>
                      <a:pt x="10829" y="5"/>
                    </a:cubicBezTo>
                    <a:cubicBezTo>
                      <a:pt x="10829" y="4"/>
                      <a:pt x="10830" y="3"/>
                      <a:pt x="10831" y="3"/>
                    </a:cubicBezTo>
                    <a:close/>
                    <a:moveTo>
                      <a:pt x="10839" y="3"/>
                    </a:moveTo>
                    <a:lnTo>
                      <a:pt x="10839" y="3"/>
                    </a:lnTo>
                    <a:cubicBezTo>
                      <a:pt x="10841" y="3"/>
                      <a:pt x="10841" y="4"/>
                      <a:pt x="10841" y="5"/>
                    </a:cubicBezTo>
                    <a:cubicBezTo>
                      <a:pt x="10841" y="6"/>
                      <a:pt x="10841" y="7"/>
                      <a:pt x="10839" y="7"/>
                    </a:cubicBezTo>
                    <a:lnTo>
                      <a:pt x="10839" y="7"/>
                    </a:lnTo>
                    <a:cubicBezTo>
                      <a:pt x="10838" y="7"/>
                      <a:pt x="10837" y="6"/>
                      <a:pt x="10837" y="5"/>
                    </a:cubicBezTo>
                    <a:cubicBezTo>
                      <a:pt x="10837" y="4"/>
                      <a:pt x="10838" y="3"/>
                      <a:pt x="10839" y="3"/>
                    </a:cubicBezTo>
                    <a:close/>
                    <a:moveTo>
                      <a:pt x="10847" y="3"/>
                    </a:moveTo>
                    <a:lnTo>
                      <a:pt x="10847" y="3"/>
                    </a:lnTo>
                    <a:cubicBezTo>
                      <a:pt x="10849" y="3"/>
                      <a:pt x="10849" y="4"/>
                      <a:pt x="10849" y="5"/>
                    </a:cubicBezTo>
                    <a:cubicBezTo>
                      <a:pt x="10849" y="6"/>
                      <a:pt x="10849" y="7"/>
                      <a:pt x="10847" y="7"/>
                    </a:cubicBezTo>
                    <a:lnTo>
                      <a:pt x="10847" y="7"/>
                    </a:lnTo>
                    <a:cubicBezTo>
                      <a:pt x="10846" y="7"/>
                      <a:pt x="10845" y="6"/>
                      <a:pt x="10845" y="5"/>
                    </a:cubicBezTo>
                    <a:cubicBezTo>
                      <a:pt x="10845" y="4"/>
                      <a:pt x="10846" y="3"/>
                      <a:pt x="10847" y="3"/>
                    </a:cubicBezTo>
                    <a:close/>
                    <a:moveTo>
                      <a:pt x="10855" y="3"/>
                    </a:moveTo>
                    <a:lnTo>
                      <a:pt x="10855" y="3"/>
                    </a:lnTo>
                    <a:cubicBezTo>
                      <a:pt x="10857" y="3"/>
                      <a:pt x="10857" y="4"/>
                      <a:pt x="10857" y="5"/>
                    </a:cubicBezTo>
                    <a:cubicBezTo>
                      <a:pt x="10857" y="6"/>
                      <a:pt x="10857" y="7"/>
                      <a:pt x="10855" y="7"/>
                    </a:cubicBezTo>
                    <a:lnTo>
                      <a:pt x="10855" y="7"/>
                    </a:lnTo>
                    <a:cubicBezTo>
                      <a:pt x="10854" y="7"/>
                      <a:pt x="10853" y="6"/>
                      <a:pt x="10853" y="5"/>
                    </a:cubicBezTo>
                    <a:cubicBezTo>
                      <a:pt x="10853" y="4"/>
                      <a:pt x="10854" y="3"/>
                      <a:pt x="10855" y="3"/>
                    </a:cubicBezTo>
                    <a:close/>
                    <a:moveTo>
                      <a:pt x="10863" y="3"/>
                    </a:moveTo>
                    <a:lnTo>
                      <a:pt x="10863" y="3"/>
                    </a:lnTo>
                    <a:cubicBezTo>
                      <a:pt x="10865" y="3"/>
                      <a:pt x="10865" y="4"/>
                      <a:pt x="10865" y="5"/>
                    </a:cubicBezTo>
                    <a:cubicBezTo>
                      <a:pt x="10865" y="6"/>
                      <a:pt x="10865" y="7"/>
                      <a:pt x="10863" y="7"/>
                    </a:cubicBezTo>
                    <a:lnTo>
                      <a:pt x="10863" y="7"/>
                    </a:lnTo>
                    <a:cubicBezTo>
                      <a:pt x="10862" y="7"/>
                      <a:pt x="10861" y="6"/>
                      <a:pt x="10861" y="5"/>
                    </a:cubicBezTo>
                    <a:cubicBezTo>
                      <a:pt x="10861" y="4"/>
                      <a:pt x="10862" y="3"/>
                      <a:pt x="10863" y="3"/>
                    </a:cubicBezTo>
                    <a:close/>
                    <a:moveTo>
                      <a:pt x="10871" y="3"/>
                    </a:moveTo>
                    <a:lnTo>
                      <a:pt x="10871" y="3"/>
                    </a:lnTo>
                    <a:cubicBezTo>
                      <a:pt x="10873" y="3"/>
                      <a:pt x="10873" y="4"/>
                      <a:pt x="10873" y="5"/>
                    </a:cubicBezTo>
                    <a:cubicBezTo>
                      <a:pt x="10873" y="6"/>
                      <a:pt x="10873" y="7"/>
                      <a:pt x="10871" y="7"/>
                    </a:cubicBezTo>
                    <a:lnTo>
                      <a:pt x="10871" y="7"/>
                    </a:lnTo>
                    <a:cubicBezTo>
                      <a:pt x="10870" y="7"/>
                      <a:pt x="10869" y="6"/>
                      <a:pt x="10869" y="5"/>
                    </a:cubicBezTo>
                    <a:cubicBezTo>
                      <a:pt x="10869" y="4"/>
                      <a:pt x="10870" y="3"/>
                      <a:pt x="10871" y="3"/>
                    </a:cubicBezTo>
                    <a:close/>
                    <a:moveTo>
                      <a:pt x="10879" y="3"/>
                    </a:moveTo>
                    <a:lnTo>
                      <a:pt x="10879" y="3"/>
                    </a:lnTo>
                    <a:cubicBezTo>
                      <a:pt x="10881" y="3"/>
                      <a:pt x="10881" y="4"/>
                      <a:pt x="10881" y="5"/>
                    </a:cubicBezTo>
                    <a:cubicBezTo>
                      <a:pt x="10881" y="6"/>
                      <a:pt x="10881" y="7"/>
                      <a:pt x="10879" y="7"/>
                    </a:cubicBezTo>
                    <a:lnTo>
                      <a:pt x="10879" y="7"/>
                    </a:lnTo>
                    <a:cubicBezTo>
                      <a:pt x="10878" y="7"/>
                      <a:pt x="10877" y="6"/>
                      <a:pt x="10877" y="5"/>
                    </a:cubicBezTo>
                    <a:cubicBezTo>
                      <a:pt x="10877" y="4"/>
                      <a:pt x="10878" y="3"/>
                      <a:pt x="10879" y="3"/>
                    </a:cubicBezTo>
                    <a:close/>
                    <a:moveTo>
                      <a:pt x="10887" y="3"/>
                    </a:moveTo>
                    <a:lnTo>
                      <a:pt x="10887" y="3"/>
                    </a:lnTo>
                    <a:cubicBezTo>
                      <a:pt x="10889" y="3"/>
                      <a:pt x="10889" y="4"/>
                      <a:pt x="10889" y="5"/>
                    </a:cubicBezTo>
                    <a:cubicBezTo>
                      <a:pt x="10889" y="6"/>
                      <a:pt x="10889" y="7"/>
                      <a:pt x="10887" y="7"/>
                    </a:cubicBezTo>
                    <a:lnTo>
                      <a:pt x="10887" y="7"/>
                    </a:lnTo>
                    <a:cubicBezTo>
                      <a:pt x="10886" y="7"/>
                      <a:pt x="10885" y="6"/>
                      <a:pt x="10885" y="5"/>
                    </a:cubicBezTo>
                    <a:cubicBezTo>
                      <a:pt x="10885" y="4"/>
                      <a:pt x="10886" y="3"/>
                      <a:pt x="10887" y="3"/>
                    </a:cubicBezTo>
                    <a:close/>
                    <a:moveTo>
                      <a:pt x="10895" y="3"/>
                    </a:moveTo>
                    <a:lnTo>
                      <a:pt x="10895" y="3"/>
                    </a:lnTo>
                    <a:cubicBezTo>
                      <a:pt x="10897" y="3"/>
                      <a:pt x="10897" y="4"/>
                      <a:pt x="10897" y="5"/>
                    </a:cubicBezTo>
                    <a:cubicBezTo>
                      <a:pt x="10897" y="6"/>
                      <a:pt x="10897" y="7"/>
                      <a:pt x="10895" y="7"/>
                    </a:cubicBezTo>
                    <a:lnTo>
                      <a:pt x="10895" y="7"/>
                    </a:lnTo>
                    <a:cubicBezTo>
                      <a:pt x="10894" y="7"/>
                      <a:pt x="10893" y="6"/>
                      <a:pt x="10893" y="5"/>
                    </a:cubicBezTo>
                    <a:cubicBezTo>
                      <a:pt x="10893" y="4"/>
                      <a:pt x="10894" y="3"/>
                      <a:pt x="10895" y="3"/>
                    </a:cubicBezTo>
                    <a:close/>
                    <a:moveTo>
                      <a:pt x="10903" y="3"/>
                    </a:moveTo>
                    <a:lnTo>
                      <a:pt x="10903" y="3"/>
                    </a:lnTo>
                    <a:cubicBezTo>
                      <a:pt x="10905" y="3"/>
                      <a:pt x="10905" y="4"/>
                      <a:pt x="10905" y="5"/>
                    </a:cubicBezTo>
                    <a:cubicBezTo>
                      <a:pt x="10905" y="6"/>
                      <a:pt x="10905" y="7"/>
                      <a:pt x="10903" y="7"/>
                    </a:cubicBezTo>
                    <a:lnTo>
                      <a:pt x="10903" y="7"/>
                    </a:lnTo>
                    <a:cubicBezTo>
                      <a:pt x="10902" y="7"/>
                      <a:pt x="10901" y="6"/>
                      <a:pt x="10901" y="5"/>
                    </a:cubicBezTo>
                    <a:cubicBezTo>
                      <a:pt x="10901" y="4"/>
                      <a:pt x="10902" y="3"/>
                      <a:pt x="10903" y="3"/>
                    </a:cubicBezTo>
                    <a:close/>
                    <a:moveTo>
                      <a:pt x="10911" y="3"/>
                    </a:moveTo>
                    <a:lnTo>
                      <a:pt x="10911" y="3"/>
                    </a:lnTo>
                    <a:cubicBezTo>
                      <a:pt x="10913" y="3"/>
                      <a:pt x="10913" y="4"/>
                      <a:pt x="10913" y="5"/>
                    </a:cubicBezTo>
                    <a:cubicBezTo>
                      <a:pt x="10913" y="6"/>
                      <a:pt x="10913" y="7"/>
                      <a:pt x="10911" y="7"/>
                    </a:cubicBezTo>
                    <a:lnTo>
                      <a:pt x="10911" y="7"/>
                    </a:lnTo>
                    <a:cubicBezTo>
                      <a:pt x="10910" y="7"/>
                      <a:pt x="10909" y="6"/>
                      <a:pt x="10909" y="5"/>
                    </a:cubicBezTo>
                    <a:cubicBezTo>
                      <a:pt x="10909" y="4"/>
                      <a:pt x="10910" y="3"/>
                      <a:pt x="10911" y="3"/>
                    </a:cubicBezTo>
                    <a:close/>
                    <a:moveTo>
                      <a:pt x="10919" y="3"/>
                    </a:moveTo>
                    <a:lnTo>
                      <a:pt x="10919" y="3"/>
                    </a:lnTo>
                    <a:cubicBezTo>
                      <a:pt x="10921" y="3"/>
                      <a:pt x="10921" y="4"/>
                      <a:pt x="10921" y="5"/>
                    </a:cubicBezTo>
                    <a:cubicBezTo>
                      <a:pt x="10921" y="6"/>
                      <a:pt x="10921" y="7"/>
                      <a:pt x="10919" y="7"/>
                    </a:cubicBezTo>
                    <a:lnTo>
                      <a:pt x="10919" y="7"/>
                    </a:lnTo>
                    <a:cubicBezTo>
                      <a:pt x="10918" y="7"/>
                      <a:pt x="10917" y="6"/>
                      <a:pt x="10917" y="5"/>
                    </a:cubicBezTo>
                    <a:cubicBezTo>
                      <a:pt x="10917" y="4"/>
                      <a:pt x="10918" y="3"/>
                      <a:pt x="10919" y="3"/>
                    </a:cubicBezTo>
                    <a:close/>
                    <a:moveTo>
                      <a:pt x="10927" y="3"/>
                    </a:moveTo>
                    <a:lnTo>
                      <a:pt x="10927" y="3"/>
                    </a:lnTo>
                    <a:cubicBezTo>
                      <a:pt x="10929" y="3"/>
                      <a:pt x="10929" y="4"/>
                      <a:pt x="10929" y="5"/>
                    </a:cubicBezTo>
                    <a:cubicBezTo>
                      <a:pt x="10929" y="6"/>
                      <a:pt x="10929" y="7"/>
                      <a:pt x="10927" y="7"/>
                    </a:cubicBezTo>
                    <a:lnTo>
                      <a:pt x="10927" y="7"/>
                    </a:lnTo>
                    <a:cubicBezTo>
                      <a:pt x="10926" y="7"/>
                      <a:pt x="10925" y="6"/>
                      <a:pt x="10925" y="5"/>
                    </a:cubicBezTo>
                    <a:cubicBezTo>
                      <a:pt x="10925" y="4"/>
                      <a:pt x="10926" y="3"/>
                      <a:pt x="10927" y="3"/>
                    </a:cubicBezTo>
                    <a:close/>
                    <a:moveTo>
                      <a:pt x="10935" y="3"/>
                    </a:moveTo>
                    <a:lnTo>
                      <a:pt x="10935" y="3"/>
                    </a:lnTo>
                    <a:cubicBezTo>
                      <a:pt x="10937" y="3"/>
                      <a:pt x="10937" y="4"/>
                      <a:pt x="10937" y="5"/>
                    </a:cubicBezTo>
                    <a:cubicBezTo>
                      <a:pt x="10937" y="6"/>
                      <a:pt x="10937" y="7"/>
                      <a:pt x="10935" y="7"/>
                    </a:cubicBezTo>
                    <a:lnTo>
                      <a:pt x="10935" y="7"/>
                    </a:lnTo>
                    <a:cubicBezTo>
                      <a:pt x="10934" y="7"/>
                      <a:pt x="10933" y="6"/>
                      <a:pt x="10933" y="5"/>
                    </a:cubicBezTo>
                    <a:cubicBezTo>
                      <a:pt x="10933" y="4"/>
                      <a:pt x="10934" y="3"/>
                      <a:pt x="10935" y="3"/>
                    </a:cubicBezTo>
                    <a:close/>
                    <a:moveTo>
                      <a:pt x="10943" y="3"/>
                    </a:moveTo>
                    <a:lnTo>
                      <a:pt x="10943" y="3"/>
                    </a:lnTo>
                    <a:cubicBezTo>
                      <a:pt x="10945" y="3"/>
                      <a:pt x="10945" y="4"/>
                      <a:pt x="10945" y="5"/>
                    </a:cubicBezTo>
                    <a:cubicBezTo>
                      <a:pt x="10945" y="6"/>
                      <a:pt x="10945" y="7"/>
                      <a:pt x="10943" y="7"/>
                    </a:cubicBezTo>
                    <a:lnTo>
                      <a:pt x="10943" y="7"/>
                    </a:lnTo>
                    <a:cubicBezTo>
                      <a:pt x="10942" y="7"/>
                      <a:pt x="10941" y="6"/>
                      <a:pt x="10941" y="5"/>
                    </a:cubicBezTo>
                    <a:cubicBezTo>
                      <a:pt x="10941" y="4"/>
                      <a:pt x="10942" y="3"/>
                      <a:pt x="10943" y="3"/>
                    </a:cubicBezTo>
                    <a:close/>
                    <a:moveTo>
                      <a:pt x="10951" y="3"/>
                    </a:moveTo>
                    <a:lnTo>
                      <a:pt x="10951" y="3"/>
                    </a:lnTo>
                    <a:cubicBezTo>
                      <a:pt x="10953" y="3"/>
                      <a:pt x="10953" y="4"/>
                      <a:pt x="10953" y="5"/>
                    </a:cubicBezTo>
                    <a:cubicBezTo>
                      <a:pt x="10953" y="6"/>
                      <a:pt x="10953" y="7"/>
                      <a:pt x="10951" y="7"/>
                    </a:cubicBezTo>
                    <a:lnTo>
                      <a:pt x="10951" y="7"/>
                    </a:lnTo>
                    <a:cubicBezTo>
                      <a:pt x="10950" y="7"/>
                      <a:pt x="10949" y="6"/>
                      <a:pt x="10949" y="5"/>
                    </a:cubicBezTo>
                    <a:cubicBezTo>
                      <a:pt x="10949" y="4"/>
                      <a:pt x="10950" y="3"/>
                      <a:pt x="10951" y="3"/>
                    </a:cubicBezTo>
                    <a:close/>
                    <a:moveTo>
                      <a:pt x="10959" y="3"/>
                    </a:moveTo>
                    <a:lnTo>
                      <a:pt x="10960" y="3"/>
                    </a:lnTo>
                    <a:cubicBezTo>
                      <a:pt x="10961" y="3"/>
                      <a:pt x="10962" y="4"/>
                      <a:pt x="10962" y="5"/>
                    </a:cubicBezTo>
                    <a:cubicBezTo>
                      <a:pt x="10962" y="6"/>
                      <a:pt x="10961" y="7"/>
                      <a:pt x="10960" y="7"/>
                    </a:cubicBezTo>
                    <a:lnTo>
                      <a:pt x="10959" y="7"/>
                    </a:lnTo>
                    <a:cubicBezTo>
                      <a:pt x="10958" y="7"/>
                      <a:pt x="10957" y="6"/>
                      <a:pt x="10957" y="5"/>
                    </a:cubicBezTo>
                    <a:cubicBezTo>
                      <a:pt x="10957" y="4"/>
                      <a:pt x="10958" y="3"/>
                      <a:pt x="10959" y="3"/>
                    </a:cubicBezTo>
                    <a:close/>
                    <a:moveTo>
                      <a:pt x="10968" y="3"/>
                    </a:moveTo>
                    <a:lnTo>
                      <a:pt x="10968" y="3"/>
                    </a:lnTo>
                    <a:cubicBezTo>
                      <a:pt x="10969" y="3"/>
                      <a:pt x="10970" y="4"/>
                      <a:pt x="10970" y="5"/>
                    </a:cubicBezTo>
                    <a:cubicBezTo>
                      <a:pt x="10970" y="6"/>
                      <a:pt x="10969" y="7"/>
                      <a:pt x="10968" y="7"/>
                    </a:cubicBezTo>
                    <a:lnTo>
                      <a:pt x="10968" y="7"/>
                    </a:lnTo>
                    <a:cubicBezTo>
                      <a:pt x="10966" y="7"/>
                      <a:pt x="10966" y="6"/>
                      <a:pt x="10966" y="5"/>
                    </a:cubicBezTo>
                    <a:cubicBezTo>
                      <a:pt x="10966" y="4"/>
                      <a:pt x="10966" y="3"/>
                      <a:pt x="10968" y="3"/>
                    </a:cubicBezTo>
                    <a:close/>
                    <a:moveTo>
                      <a:pt x="10976" y="3"/>
                    </a:moveTo>
                    <a:lnTo>
                      <a:pt x="10976" y="3"/>
                    </a:lnTo>
                    <a:cubicBezTo>
                      <a:pt x="10977" y="3"/>
                      <a:pt x="10978" y="4"/>
                      <a:pt x="10978" y="5"/>
                    </a:cubicBezTo>
                    <a:cubicBezTo>
                      <a:pt x="10978" y="6"/>
                      <a:pt x="10977" y="7"/>
                      <a:pt x="10976" y="7"/>
                    </a:cubicBezTo>
                    <a:lnTo>
                      <a:pt x="10976" y="7"/>
                    </a:lnTo>
                    <a:cubicBezTo>
                      <a:pt x="10974" y="7"/>
                      <a:pt x="10974" y="6"/>
                      <a:pt x="10974" y="5"/>
                    </a:cubicBezTo>
                    <a:cubicBezTo>
                      <a:pt x="10974" y="4"/>
                      <a:pt x="10974" y="3"/>
                      <a:pt x="10976" y="3"/>
                    </a:cubicBezTo>
                    <a:close/>
                    <a:moveTo>
                      <a:pt x="10984" y="3"/>
                    </a:moveTo>
                    <a:lnTo>
                      <a:pt x="10984" y="3"/>
                    </a:lnTo>
                    <a:cubicBezTo>
                      <a:pt x="10985" y="3"/>
                      <a:pt x="10986" y="4"/>
                      <a:pt x="10986" y="5"/>
                    </a:cubicBezTo>
                    <a:cubicBezTo>
                      <a:pt x="10986" y="6"/>
                      <a:pt x="10985" y="7"/>
                      <a:pt x="10984" y="7"/>
                    </a:cubicBezTo>
                    <a:lnTo>
                      <a:pt x="10984" y="7"/>
                    </a:lnTo>
                    <a:cubicBezTo>
                      <a:pt x="10982" y="7"/>
                      <a:pt x="10982" y="6"/>
                      <a:pt x="10982" y="5"/>
                    </a:cubicBezTo>
                    <a:cubicBezTo>
                      <a:pt x="10982" y="4"/>
                      <a:pt x="10982" y="3"/>
                      <a:pt x="10984" y="3"/>
                    </a:cubicBezTo>
                    <a:close/>
                    <a:moveTo>
                      <a:pt x="10992" y="3"/>
                    </a:moveTo>
                    <a:lnTo>
                      <a:pt x="10992" y="3"/>
                    </a:lnTo>
                    <a:cubicBezTo>
                      <a:pt x="10993" y="3"/>
                      <a:pt x="10994" y="4"/>
                      <a:pt x="10994" y="5"/>
                    </a:cubicBezTo>
                    <a:cubicBezTo>
                      <a:pt x="10994" y="6"/>
                      <a:pt x="10993" y="7"/>
                      <a:pt x="10992" y="7"/>
                    </a:cubicBezTo>
                    <a:lnTo>
                      <a:pt x="10992" y="7"/>
                    </a:lnTo>
                    <a:cubicBezTo>
                      <a:pt x="10990" y="7"/>
                      <a:pt x="10990" y="6"/>
                      <a:pt x="10990" y="5"/>
                    </a:cubicBezTo>
                    <a:cubicBezTo>
                      <a:pt x="10990" y="4"/>
                      <a:pt x="10990" y="3"/>
                      <a:pt x="10992" y="3"/>
                    </a:cubicBezTo>
                    <a:close/>
                    <a:moveTo>
                      <a:pt x="11000" y="3"/>
                    </a:moveTo>
                    <a:lnTo>
                      <a:pt x="11000" y="3"/>
                    </a:lnTo>
                    <a:cubicBezTo>
                      <a:pt x="11001" y="3"/>
                      <a:pt x="11002" y="4"/>
                      <a:pt x="11002" y="5"/>
                    </a:cubicBezTo>
                    <a:cubicBezTo>
                      <a:pt x="11002" y="6"/>
                      <a:pt x="11001" y="7"/>
                      <a:pt x="11000" y="7"/>
                    </a:cubicBezTo>
                    <a:lnTo>
                      <a:pt x="11000" y="7"/>
                    </a:lnTo>
                    <a:cubicBezTo>
                      <a:pt x="10998" y="7"/>
                      <a:pt x="10998" y="6"/>
                      <a:pt x="10998" y="5"/>
                    </a:cubicBezTo>
                    <a:cubicBezTo>
                      <a:pt x="10998" y="4"/>
                      <a:pt x="10998" y="3"/>
                      <a:pt x="11000" y="3"/>
                    </a:cubicBezTo>
                    <a:close/>
                    <a:moveTo>
                      <a:pt x="11008" y="3"/>
                    </a:moveTo>
                    <a:lnTo>
                      <a:pt x="11008" y="3"/>
                    </a:lnTo>
                    <a:cubicBezTo>
                      <a:pt x="11009" y="3"/>
                      <a:pt x="11010" y="4"/>
                      <a:pt x="11010" y="5"/>
                    </a:cubicBezTo>
                    <a:cubicBezTo>
                      <a:pt x="11010" y="6"/>
                      <a:pt x="11009" y="7"/>
                      <a:pt x="11008" y="7"/>
                    </a:cubicBezTo>
                    <a:lnTo>
                      <a:pt x="11008" y="7"/>
                    </a:lnTo>
                    <a:cubicBezTo>
                      <a:pt x="11006" y="7"/>
                      <a:pt x="11006" y="6"/>
                      <a:pt x="11006" y="5"/>
                    </a:cubicBezTo>
                    <a:cubicBezTo>
                      <a:pt x="11006" y="4"/>
                      <a:pt x="11006" y="3"/>
                      <a:pt x="11008" y="3"/>
                    </a:cubicBezTo>
                    <a:close/>
                    <a:moveTo>
                      <a:pt x="11016" y="3"/>
                    </a:moveTo>
                    <a:lnTo>
                      <a:pt x="11016" y="3"/>
                    </a:lnTo>
                    <a:cubicBezTo>
                      <a:pt x="11017" y="3"/>
                      <a:pt x="11018" y="4"/>
                      <a:pt x="11018" y="5"/>
                    </a:cubicBezTo>
                    <a:cubicBezTo>
                      <a:pt x="11018" y="6"/>
                      <a:pt x="11017" y="7"/>
                      <a:pt x="11016" y="7"/>
                    </a:cubicBezTo>
                    <a:lnTo>
                      <a:pt x="11016" y="7"/>
                    </a:lnTo>
                    <a:cubicBezTo>
                      <a:pt x="11014" y="7"/>
                      <a:pt x="11014" y="6"/>
                      <a:pt x="11014" y="5"/>
                    </a:cubicBezTo>
                    <a:cubicBezTo>
                      <a:pt x="11014" y="4"/>
                      <a:pt x="11014" y="3"/>
                      <a:pt x="11016" y="3"/>
                    </a:cubicBezTo>
                    <a:close/>
                    <a:moveTo>
                      <a:pt x="11024" y="3"/>
                    </a:moveTo>
                    <a:lnTo>
                      <a:pt x="11024" y="3"/>
                    </a:lnTo>
                    <a:cubicBezTo>
                      <a:pt x="11025" y="3"/>
                      <a:pt x="11026" y="4"/>
                      <a:pt x="11026" y="5"/>
                    </a:cubicBezTo>
                    <a:cubicBezTo>
                      <a:pt x="11026" y="6"/>
                      <a:pt x="11025" y="7"/>
                      <a:pt x="11024" y="7"/>
                    </a:cubicBezTo>
                    <a:lnTo>
                      <a:pt x="11024" y="7"/>
                    </a:lnTo>
                    <a:cubicBezTo>
                      <a:pt x="11022" y="7"/>
                      <a:pt x="11022" y="6"/>
                      <a:pt x="11022" y="5"/>
                    </a:cubicBezTo>
                    <a:cubicBezTo>
                      <a:pt x="11022" y="4"/>
                      <a:pt x="11022" y="3"/>
                      <a:pt x="11024" y="3"/>
                    </a:cubicBezTo>
                    <a:close/>
                    <a:moveTo>
                      <a:pt x="11032" y="3"/>
                    </a:moveTo>
                    <a:lnTo>
                      <a:pt x="11032" y="3"/>
                    </a:lnTo>
                    <a:cubicBezTo>
                      <a:pt x="11033" y="3"/>
                      <a:pt x="11034" y="4"/>
                      <a:pt x="11034" y="5"/>
                    </a:cubicBezTo>
                    <a:cubicBezTo>
                      <a:pt x="11034" y="6"/>
                      <a:pt x="11033" y="7"/>
                      <a:pt x="11032" y="7"/>
                    </a:cubicBezTo>
                    <a:lnTo>
                      <a:pt x="11032" y="7"/>
                    </a:lnTo>
                    <a:cubicBezTo>
                      <a:pt x="11030" y="7"/>
                      <a:pt x="11030" y="6"/>
                      <a:pt x="11030" y="5"/>
                    </a:cubicBezTo>
                    <a:cubicBezTo>
                      <a:pt x="11030" y="4"/>
                      <a:pt x="11030" y="3"/>
                      <a:pt x="11032" y="3"/>
                    </a:cubicBezTo>
                    <a:close/>
                    <a:moveTo>
                      <a:pt x="11040" y="3"/>
                    </a:moveTo>
                    <a:lnTo>
                      <a:pt x="11040" y="3"/>
                    </a:lnTo>
                    <a:cubicBezTo>
                      <a:pt x="11041" y="3"/>
                      <a:pt x="11042" y="4"/>
                      <a:pt x="11042" y="5"/>
                    </a:cubicBezTo>
                    <a:cubicBezTo>
                      <a:pt x="11042" y="6"/>
                      <a:pt x="11041" y="7"/>
                      <a:pt x="11040" y="7"/>
                    </a:cubicBezTo>
                    <a:lnTo>
                      <a:pt x="11040" y="7"/>
                    </a:lnTo>
                    <a:cubicBezTo>
                      <a:pt x="11038" y="7"/>
                      <a:pt x="11038" y="6"/>
                      <a:pt x="11038" y="5"/>
                    </a:cubicBezTo>
                    <a:cubicBezTo>
                      <a:pt x="11038" y="4"/>
                      <a:pt x="11038" y="3"/>
                      <a:pt x="11040" y="3"/>
                    </a:cubicBezTo>
                    <a:close/>
                    <a:moveTo>
                      <a:pt x="11048" y="3"/>
                    </a:moveTo>
                    <a:lnTo>
                      <a:pt x="11048" y="3"/>
                    </a:lnTo>
                    <a:cubicBezTo>
                      <a:pt x="11049" y="3"/>
                      <a:pt x="11050" y="4"/>
                      <a:pt x="11050" y="5"/>
                    </a:cubicBezTo>
                    <a:cubicBezTo>
                      <a:pt x="11050" y="6"/>
                      <a:pt x="11049" y="7"/>
                      <a:pt x="11048" y="7"/>
                    </a:cubicBezTo>
                    <a:lnTo>
                      <a:pt x="11048" y="7"/>
                    </a:lnTo>
                    <a:cubicBezTo>
                      <a:pt x="11046" y="7"/>
                      <a:pt x="11046" y="6"/>
                      <a:pt x="11046" y="5"/>
                    </a:cubicBezTo>
                    <a:cubicBezTo>
                      <a:pt x="11046" y="4"/>
                      <a:pt x="11046" y="3"/>
                      <a:pt x="11048" y="3"/>
                    </a:cubicBezTo>
                    <a:close/>
                    <a:moveTo>
                      <a:pt x="11056" y="3"/>
                    </a:moveTo>
                    <a:lnTo>
                      <a:pt x="11056" y="3"/>
                    </a:lnTo>
                    <a:cubicBezTo>
                      <a:pt x="11057" y="3"/>
                      <a:pt x="11058" y="4"/>
                      <a:pt x="11058" y="5"/>
                    </a:cubicBezTo>
                    <a:cubicBezTo>
                      <a:pt x="11058" y="6"/>
                      <a:pt x="11057" y="7"/>
                      <a:pt x="11056" y="7"/>
                    </a:cubicBezTo>
                    <a:lnTo>
                      <a:pt x="11056" y="7"/>
                    </a:lnTo>
                    <a:cubicBezTo>
                      <a:pt x="11054" y="7"/>
                      <a:pt x="11054" y="6"/>
                      <a:pt x="11054" y="5"/>
                    </a:cubicBezTo>
                    <a:cubicBezTo>
                      <a:pt x="11054" y="4"/>
                      <a:pt x="11054" y="3"/>
                      <a:pt x="11056" y="3"/>
                    </a:cubicBezTo>
                    <a:close/>
                    <a:moveTo>
                      <a:pt x="11064" y="3"/>
                    </a:moveTo>
                    <a:lnTo>
                      <a:pt x="11064" y="3"/>
                    </a:lnTo>
                    <a:cubicBezTo>
                      <a:pt x="11065" y="3"/>
                      <a:pt x="11066" y="4"/>
                      <a:pt x="11066" y="5"/>
                    </a:cubicBezTo>
                    <a:cubicBezTo>
                      <a:pt x="11066" y="6"/>
                      <a:pt x="11065" y="7"/>
                      <a:pt x="11064" y="7"/>
                    </a:cubicBezTo>
                    <a:lnTo>
                      <a:pt x="11064" y="7"/>
                    </a:lnTo>
                    <a:cubicBezTo>
                      <a:pt x="11062" y="7"/>
                      <a:pt x="11062" y="6"/>
                      <a:pt x="11062" y="5"/>
                    </a:cubicBezTo>
                    <a:cubicBezTo>
                      <a:pt x="11062" y="4"/>
                      <a:pt x="11062" y="3"/>
                      <a:pt x="11064" y="3"/>
                    </a:cubicBezTo>
                    <a:close/>
                    <a:moveTo>
                      <a:pt x="11072" y="3"/>
                    </a:moveTo>
                    <a:lnTo>
                      <a:pt x="11072" y="3"/>
                    </a:lnTo>
                    <a:cubicBezTo>
                      <a:pt x="11073" y="3"/>
                      <a:pt x="11074" y="4"/>
                      <a:pt x="11074" y="5"/>
                    </a:cubicBezTo>
                    <a:cubicBezTo>
                      <a:pt x="11074" y="6"/>
                      <a:pt x="11073" y="7"/>
                      <a:pt x="11072" y="7"/>
                    </a:cubicBezTo>
                    <a:lnTo>
                      <a:pt x="11072" y="7"/>
                    </a:lnTo>
                    <a:cubicBezTo>
                      <a:pt x="11070" y="7"/>
                      <a:pt x="11070" y="6"/>
                      <a:pt x="11070" y="5"/>
                    </a:cubicBezTo>
                    <a:cubicBezTo>
                      <a:pt x="11070" y="4"/>
                      <a:pt x="11070" y="3"/>
                      <a:pt x="11072" y="3"/>
                    </a:cubicBezTo>
                    <a:close/>
                    <a:moveTo>
                      <a:pt x="11080" y="3"/>
                    </a:moveTo>
                    <a:lnTo>
                      <a:pt x="11080" y="3"/>
                    </a:lnTo>
                    <a:cubicBezTo>
                      <a:pt x="11081" y="3"/>
                      <a:pt x="11082" y="4"/>
                      <a:pt x="11082" y="5"/>
                    </a:cubicBezTo>
                    <a:cubicBezTo>
                      <a:pt x="11082" y="6"/>
                      <a:pt x="11081" y="7"/>
                      <a:pt x="11080" y="7"/>
                    </a:cubicBezTo>
                    <a:lnTo>
                      <a:pt x="11080" y="7"/>
                    </a:lnTo>
                    <a:cubicBezTo>
                      <a:pt x="11078" y="7"/>
                      <a:pt x="11078" y="6"/>
                      <a:pt x="11078" y="5"/>
                    </a:cubicBezTo>
                    <a:cubicBezTo>
                      <a:pt x="11078" y="4"/>
                      <a:pt x="11078" y="3"/>
                      <a:pt x="11080" y="3"/>
                    </a:cubicBezTo>
                    <a:close/>
                    <a:moveTo>
                      <a:pt x="11088" y="3"/>
                    </a:moveTo>
                    <a:lnTo>
                      <a:pt x="11088" y="3"/>
                    </a:lnTo>
                    <a:cubicBezTo>
                      <a:pt x="11089" y="3"/>
                      <a:pt x="11090" y="4"/>
                      <a:pt x="11090" y="5"/>
                    </a:cubicBezTo>
                    <a:cubicBezTo>
                      <a:pt x="11090" y="6"/>
                      <a:pt x="11089" y="7"/>
                      <a:pt x="11088" y="7"/>
                    </a:cubicBezTo>
                    <a:lnTo>
                      <a:pt x="11088" y="7"/>
                    </a:lnTo>
                    <a:cubicBezTo>
                      <a:pt x="11086" y="7"/>
                      <a:pt x="11086" y="6"/>
                      <a:pt x="11086" y="5"/>
                    </a:cubicBezTo>
                    <a:cubicBezTo>
                      <a:pt x="11086" y="4"/>
                      <a:pt x="11086" y="3"/>
                      <a:pt x="11088" y="3"/>
                    </a:cubicBezTo>
                    <a:close/>
                    <a:moveTo>
                      <a:pt x="11096" y="3"/>
                    </a:moveTo>
                    <a:lnTo>
                      <a:pt x="11096" y="3"/>
                    </a:lnTo>
                    <a:cubicBezTo>
                      <a:pt x="11097" y="3"/>
                      <a:pt x="11098" y="4"/>
                      <a:pt x="11098" y="5"/>
                    </a:cubicBezTo>
                    <a:cubicBezTo>
                      <a:pt x="11098" y="6"/>
                      <a:pt x="11097" y="7"/>
                      <a:pt x="11096" y="7"/>
                    </a:cubicBezTo>
                    <a:lnTo>
                      <a:pt x="11096" y="7"/>
                    </a:lnTo>
                    <a:cubicBezTo>
                      <a:pt x="11094" y="7"/>
                      <a:pt x="11094" y="6"/>
                      <a:pt x="11094" y="5"/>
                    </a:cubicBezTo>
                    <a:cubicBezTo>
                      <a:pt x="11094" y="4"/>
                      <a:pt x="11094" y="3"/>
                      <a:pt x="11096" y="3"/>
                    </a:cubicBezTo>
                    <a:close/>
                    <a:moveTo>
                      <a:pt x="11104" y="3"/>
                    </a:moveTo>
                    <a:lnTo>
                      <a:pt x="11104" y="3"/>
                    </a:lnTo>
                    <a:cubicBezTo>
                      <a:pt x="11105" y="3"/>
                      <a:pt x="11106" y="4"/>
                      <a:pt x="11106" y="5"/>
                    </a:cubicBezTo>
                    <a:cubicBezTo>
                      <a:pt x="11106" y="6"/>
                      <a:pt x="11105" y="7"/>
                      <a:pt x="11104" y="7"/>
                    </a:cubicBezTo>
                    <a:lnTo>
                      <a:pt x="11104" y="7"/>
                    </a:lnTo>
                    <a:cubicBezTo>
                      <a:pt x="11102" y="7"/>
                      <a:pt x="11102" y="6"/>
                      <a:pt x="11102" y="5"/>
                    </a:cubicBezTo>
                    <a:cubicBezTo>
                      <a:pt x="11102" y="4"/>
                      <a:pt x="11102" y="3"/>
                      <a:pt x="11104" y="3"/>
                    </a:cubicBezTo>
                    <a:close/>
                    <a:moveTo>
                      <a:pt x="11112" y="3"/>
                    </a:moveTo>
                    <a:lnTo>
                      <a:pt x="11112" y="3"/>
                    </a:lnTo>
                    <a:cubicBezTo>
                      <a:pt x="11113" y="3"/>
                      <a:pt x="11114" y="4"/>
                      <a:pt x="11114" y="5"/>
                    </a:cubicBezTo>
                    <a:cubicBezTo>
                      <a:pt x="11114" y="6"/>
                      <a:pt x="11113" y="7"/>
                      <a:pt x="11112" y="7"/>
                    </a:cubicBezTo>
                    <a:lnTo>
                      <a:pt x="11112" y="7"/>
                    </a:lnTo>
                    <a:cubicBezTo>
                      <a:pt x="11110" y="7"/>
                      <a:pt x="11110" y="6"/>
                      <a:pt x="11110" y="5"/>
                    </a:cubicBezTo>
                    <a:cubicBezTo>
                      <a:pt x="11110" y="4"/>
                      <a:pt x="11110" y="3"/>
                      <a:pt x="11112" y="3"/>
                    </a:cubicBezTo>
                    <a:close/>
                    <a:moveTo>
                      <a:pt x="11120" y="3"/>
                    </a:moveTo>
                    <a:lnTo>
                      <a:pt x="11120" y="3"/>
                    </a:lnTo>
                    <a:cubicBezTo>
                      <a:pt x="11121" y="3"/>
                      <a:pt x="11122" y="4"/>
                      <a:pt x="11122" y="5"/>
                    </a:cubicBezTo>
                    <a:cubicBezTo>
                      <a:pt x="11122" y="6"/>
                      <a:pt x="11121" y="7"/>
                      <a:pt x="11120" y="7"/>
                    </a:cubicBezTo>
                    <a:lnTo>
                      <a:pt x="11120" y="7"/>
                    </a:lnTo>
                    <a:cubicBezTo>
                      <a:pt x="11118" y="7"/>
                      <a:pt x="11118" y="6"/>
                      <a:pt x="11118" y="5"/>
                    </a:cubicBezTo>
                    <a:cubicBezTo>
                      <a:pt x="11118" y="4"/>
                      <a:pt x="11118" y="3"/>
                      <a:pt x="11120" y="3"/>
                    </a:cubicBezTo>
                    <a:close/>
                    <a:moveTo>
                      <a:pt x="11128" y="3"/>
                    </a:moveTo>
                    <a:lnTo>
                      <a:pt x="11128" y="3"/>
                    </a:lnTo>
                    <a:cubicBezTo>
                      <a:pt x="11129" y="3"/>
                      <a:pt x="11130" y="4"/>
                      <a:pt x="11130" y="5"/>
                    </a:cubicBezTo>
                    <a:cubicBezTo>
                      <a:pt x="11130" y="6"/>
                      <a:pt x="11129" y="7"/>
                      <a:pt x="11128" y="7"/>
                    </a:cubicBezTo>
                    <a:lnTo>
                      <a:pt x="11128" y="7"/>
                    </a:lnTo>
                    <a:cubicBezTo>
                      <a:pt x="11126" y="7"/>
                      <a:pt x="11126" y="6"/>
                      <a:pt x="11126" y="5"/>
                    </a:cubicBezTo>
                    <a:cubicBezTo>
                      <a:pt x="11126" y="4"/>
                      <a:pt x="11126" y="3"/>
                      <a:pt x="11128" y="3"/>
                    </a:cubicBezTo>
                    <a:close/>
                    <a:moveTo>
                      <a:pt x="11136" y="3"/>
                    </a:moveTo>
                    <a:lnTo>
                      <a:pt x="11136" y="3"/>
                    </a:lnTo>
                    <a:cubicBezTo>
                      <a:pt x="11137" y="3"/>
                      <a:pt x="11138" y="4"/>
                      <a:pt x="11138" y="5"/>
                    </a:cubicBezTo>
                    <a:cubicBezTo>
                      <a:pt x="11138" y="6"/>
                      <a:pt x="11137" y="7"/>
                      <a:pt x="11136" y="7"/>
                    </a:cubicBezTo>
                    <a:lnTo>
                      <a:pt x="11136" y="7"/>
                    </a:lnTo>
                    <a:cubicBezTo>
                      <a:pt x="11134" y="7"/>
                      <a:pt x="11134" y="6"/>
                      <a:pt x="11134" y="5"/>
                    </a:cubicBezTo>
                    <a:cubicBezTo>
                      <a:pt x="11134" y="4"/>
                      <a:pt x="11134" y="3"/>
                      <a:pt x="11136" y="3"/>
                    </a:cubicBezTo>
                    <a:close/>
                    <a:moveTo>
                      <a:pt x="11144" y="3"/>
                    </a:moveTo>
                    <a:lnTo>
                      <a:pt x="11144" y="3"/>
                    </a:lnTo>
                    <a:cubicBezTo>
                      <a:pt x="11145" y="3"/>
                      <a:pt x="11146" y="4"/>
                      <a:pt x="11146" y="5"/>
                    </a:cubicBezTo>
                    <a:cubicBezTo>
                      <a:pt x="11146" y="6"/>
                      <a:pt x="11145" y="7"/>
                      <a:pt x="11144" y="7"/>
                    </a:cubicBezTo>
                    <a:lnTo>
                      <a:pt x="11144" y="7"/>
                    </a:lnTo>
                    <a:cubicBezTo>
                      <a:pt x="11143" y="7"/>
                      <a:pt x="11142" y="6"/>
                      <a:pt x="11142" y="5"/>
                    </a:cubicBezTo>
                    <a:cubicBezTo>
                      <a:pt x="11142" y="4"/>
                      <a:pt x="11143" y="3"/>
                      <a:pt x="11144" y="3"/>
                    </a:cubicBezTo>
                    <a:close/>
                    <a:moveTo>
                      <a:pt x="11152" y="3"/>
                    </a:moveTo>
                    <a:lnTo>
                      <a:pt x="11152" y="3"/>
                    </a:lnTo>
                    <a:cubicBezTo>
                      <a:pt x="11153" y="3"/>
                      <a:pt x="11154" y="4"/>
                      <a:pt x="11154" y="5"/>
                    </a:cubicBezTo>
                    <a:cubicBezTo>
                      <a:pt x="11154" y="6"/>
                      <a:pt x="11153" y="7"/>
                      <a:pt x="11152" y="7"/>
                    </a:cubicBezTo>
                    <a:lnTo>
                      <a:pt x="11152" y="7"/>
                    </a:lnTo>
                    <a:cubicBezTo>
                      <a:pt x="11151" y="7"/>
                      <a:pt x="11150" y="6"/>
                      <a:pt x="11150" y="5"/>
                    </a:cubicBezTo>
                    <a:cubicBezTo>
                      <a:pt x="11150" y="4"/>
                      <a:pt x="11151" y="3"/>
                      <a:pt x="11152" y="3"/>
                    </a:cubicBezTo>
                    <a:close/>
                    <a:moveTo>
                      <a:pt x="11160" y="3"/>
                    </a:moveTo>
                    <a:lnTo>
                      <a:pt x="11160" y="3"/>
                    </a:lnTo>
                    <a:cubicBezTo>
                      <a:pt x="11161" y="3"/>
                      <a:pt x="11162" y="4"/>
                      <a:pt x="11162" y="5"/>
                    </a:cubicBezTo>
                    <a:cubicBezTo>
                      <a:pt x="11162" y="6"/>
                      <a:pt x="11161" y="7"/>
                      <a:pt x="11160" y="7"/>
                    </a:cubicBezTo>
                    <a:lnTo>
                      <a:pt x="11160" y="7"/>
                    </a:lnTo>
                    <a:cubicBezTo>
                      <a:pt x="11159" y="7"/>
                      <a:pt x="11158" y="6"/>
                      <a:pt x="11158" y="5"/>
                    </a:cubicBezTo>
                    <a:cubicBezTo>
                      <a:pt x="11158" y="4"/>
                      <a:pt x="11159" y="3"/>
                      <a:pt x="11160" y="3"/>
                    </a:cubicBezTo>
                    <a:close/>
                    <a:moveTo>
                      <a:pt x="11168" y="3"/>
                    </a:moveTo>
                    <a:lnTo>
                      <a:pt x="11168" y="3"/>
                    </a:lnTo>
                    <a:cubicBezTo>
                      <a:pt x="11169" y="3"/>
                      <a:pt x="11170" y="4"/>
                      <a:pt x="11170" y="5"/>
                    </a:cubicBezTo>
                    <a:cubicBezTo>
                      <a:pt x="11170" y="6"/>
                      <a:pt x="11169" y="7"/>
                      <a:pt x="11168" y="7"/>
                    </a:cubicBezTo>
                    <a:lnTo>
                      <a:pt x="11168" y="7"/>
                    </a:lnTo>
                    <a:cubicBezTo>
                      <a:pt x="11167" y="7"/>
                      <a:pt x="11166" y="6"/>
                      <a:pt x="11166" y="5"/>
                    </a:cubicBezTo>
                    <a:cubicBezTo>
                      <a:pt x="11166" y="4"/>
                      <a:pt x="11167" y="3"/>
                      <a:pt x="11168" y="3"/>
                    </a:cubicBezTo>
                    <a:close/>
                    <a:moveTo>
                      <a:pt x="11176" y="3"/>
                    </a:moveTo>
                    <a:lnTo>
                      <a:pt x="11176" y="3"/>
                    </a:lnTo>
                    <a:cubicBezTo>
                      <a:pt x="11177" y="3"/>
                      <a:pt x="11178" y="4"/>
                      <a:pt x="11178" y="5"/>
                    </a:cubicBezTo>
                    <a:cubicBezTo>
                      <a:pt x="11178" y="6"/>
                      <a:pt x="11177" y="7"/>
                      <a:pt x="11176" y="7"/>
                    </a:cubicBezTo>
                    <a:lnTo>
                      <a:pt x="11176" y="7"/>
                    </a:lnTo>
                    <a:cubicBezTo>
                      <a:pt x="11175" y="7"/>
                      <a:pt x="11174" y="6"/>
                      <a:pt x="11174" y="5"/>
                    </a:cubicBezTo>
                    <a:cubicBezTo>
                      <a:pt x="11174" y="4"/>
                      <a:pt x="11175" y="3"/>
                      <a:pt x="11176" y="3"/>
                    </a:cubicBezTo>
                    <a:close/>
                    <a:moveTo>
                      <a:pt x="11184" y="3"/>
                    </a:moveTo>
                    <a:lnTo>
                      <a:pt x="11184" y="3"/>
                    </a:lnTo>
                    <a:cubicBezTo>
                      <a:pt x="11185" y="3"/>
                      <a:pt x="11186" y="4"/>
                      <a:pt x="11186" y="5"/>
                    </a:cubicBezTo>
                    <a:cubicBezTo>
                      <a:pt x="11186" y="6"/>
                      <a:pt x="11185" y="7"/>
                      <a:pt x="11184" y="7"/>
                    </a:cubicBezTo>
                    <a:lnTo>
                      <a:pt x="11184" y="7"/>
                    </a:lnTo>
                    <a:cubicBezTo>
                      <a:pt x="11183" y="7"/>
                      <a:pt x="11182" y="6"/>
                      <a:pt x="11182" y="5"/>
                    </a:cubicBezTo>
                    <a:cubicBezTo>
                      <a:pt x="11182" y="4"/>
                      <a:pt x="11183" y="3"/>
                      <a:pt x="11184" y="3"/>
                    </a:cubicBezTo>
                    <a:close/>
                    <a:moveTo>
                      <a:pt x="11192" y="3"/>
                    </a:moveTo>
                    <a:lnTo>
                      <a:pt x="11192" y="3"/>
                    </a:lnTo>
                    <a:cubicBezTo>
                      <a:pt x="11193" y="3"/>
                      <a:pt x="11194" y="4"/>
                      <a:pt x="11194" y="5"/>
                    </a:cubicBezTo>
                    <a:cubicBezTo>
                      <a:pt x="11194" y="6"/>
                      <a:pt x="11193" y="7"/>
                      <a:pt x="11192" y="7"/>
                    </a:cubicBezTo>
                    <a:lnTo>
                      <a:pt x="11192" y="7"/>
                    </a:lnTo>
                    <a:cubicBezTo>
                      <a:pt x="11191" y="7"/>
                      <a:pt x="11190" y="6"/>
                      <a:pt x="11190" y="5"/>
                    </a:cubicBezTo>
                    <a:cubicBezTo>
                      <a:pt x="11190" y="4"/>
                      <a:pt x="11191" y="3"/>
                      <a:pt x="11192" y="3"/>
                    </a:cubicBezTo>
                    <a:close/>
                    <a:moveTo>
                      <a:pt x="11200" y="3"/>
                    </a:moveTo>
                    <a:lnTo>
                      <a:pt x="11200" y="3"/>
                    </a:lnTo>
                    <a:cubicBezTo>
                      <a:pt x="11201" y="3"/>
                      <a:pt x="11202" y="4"/>
                      <a:pt x="11202" y="5"/>
                    </a:cubicBezTo>
                    <a:cubicBezTo>
                      <a:pt x="11202" y="6"/>
                      <a:pt x="11201" y="7"/>
                      <a:pt x="11200" y="7"/>
                    </a:cubicBezTo>
                    <a:lnTo>
                      <a:pt x="11200" y="7"/>
                    </a:lnTo>
                    <a:cubicBezTo>
                      <a:pt x="11199" y="7"/>
                      <a:pt x="11198" y="6"/>
                      <a:pt x="11198" y="5"/>
                    </a:cubicBezTo>
                    <a:cubicBezTo>
                      <a:pt x="11198" y="4"/>
                      <a:pt x="11199" y="3"/>
                      <a:pt x="11200" y="3"/>
                    </a:cubicBezTo>
                    <a:close/>
                    <a:moveTo>
                      <a:pt x="11208" y="3"/>
                    </a:moveTo>
                    <a:lnTo>
                      <a:pt x="11208" y="3"/>
                    </a:lnTo>
                    <a:cubicBezTo>
                      <a:pt x="11209" y="3"/>
                      <a:pt x="11210" y="4"/>
                      <a:pt x="11210" y="5"/>
                    </a:cubicBezTo>
                    <a:cubicBezTo>
                      <a:pt x="11210" y="6"/>
                      <a:pt x="11209" y="7"/>
                      <a:pt x="11208" y="7"/>
                    </a:cubicBezTo>
                    <a:lnTo>
                      <a:pt x="11208" y="7"/>
                    </a:lnTo>
                    <a:cubicBezTo>
                      <a:pt x="11207" y="7"/>
                      <a:pt x="11206" y="6"/>
                      <a:pt x="11206" y="5"/>
                    </a:cubicBezTo>
                    <a:cubicBezTo>
                      <a:pt x="11206" y="4"/>
                      <a:pt x="11207" y="3"/>
                      <a:pt x="11208" y="3"/>
                    </a:cubicBezTo>
                    <a:close/>
                    <a:moveTo>
                      <a:pt x="11216" y="3"/>
                    </a:moveTo>
                    <a:lnTo>
                      <a:pt x="11216" y="3"/>
                    </a:lnTo>
                    <a:cubicBezTo>
                      <a:pt x="11217" y="3"/>
                      <a:pt x="11218" y="4"/>
                      <a:pt x="11218" y="5"/>
                    </a:cubicBezTo>
                    <a:cubicBezTo>
                      <a:pt x="11218" y="6"/>
                      <a:pt x="11217" y="7"/>
                      <a:pt x="11216" y="7"/>
                    </a:cubicBezTo>
                    <a:lnTo>
                      <a:pt x="11216" y="7"/>
                    </a:lnTo>
                    <a:cubicBezTo>
                      <a:pt x="11215" y="7"/>
                      <a:pt x="11214" y="6"/>
                      <a:pt x="11214" y="5"/>
                    </a:cubicBezTo>
                    <a:cubicBezTo>
                      <a:pt x="11214" y="4"/>
                      <a:pt x="11215" y="3"/>
                      <a:pt x="11216" y="3"/>
                    </a:cubicBezTo>
                    <a:close/>
                    <a:moveTo>
                      <a:pt x="11224" y="3"/>
                    </a:moveTo>
                    <a:lnTo>
                      <a:pt x="11224" y="3"/>
                    </a:lnTo>
                    <a:cubicBezTo>
                      <a:pt x="11225" y="3"/>
                      <a:pt x="11226" y="4"/>
                      <a:pt x="11226" y="5"/>
                    </a:cubicBezTo>
                    <a:cubicBezTo>
                      <a:pt x="11226" y="6"/>
                      <a:pt x="11225" y="7"/>
                      <a:pt x="11224" y="7"/>
                    </a:cubicBezTo>
                    <a:lnTo>
                      <a:pt x="11224" y="7"/>
                    </a:lnTo>
                    <a:cubicBezTo>
                      <a:pt x="11223" y="7"/>
                      <a:pt x="11222" y="6"/>
                      <a:pt x="11222" y="5"/>
                    </a:cubicBezTo>
                    <a:cubicBezTo>
                      <a:pt x="11222" y="4"/>
                      <a:pt x="11223" y="3"/>
                      <a:pt x="11224" y="3"/>
                    </a:cubicBezTo>
                    <a:close/>
                    <a:moveTo>
                      <a:pt x="11232" y="3"/>
                    </a:moveTo>
                    <a:lnTo>
                      <a:pt x="11232" y="3"/>
                    </a:lnTo>
                    <a:cubicBezTo>
                      <a:pt x="11233" y="3"/>
                      <a:pt x="11234" y="4"/>
                      <a:pt x="11234" y="5"/>
                    </a:cubicBezTo>
                    <a:cubicBezTo>
                      <a:pt x="11234" y="6"/>
                      <a:pt x="11233" y="7"/>
                      <a:pt x="11232" y="7"/>
                    </a:cubicBezTo>
                    <a:lnTo>
                      <a:pt x="11232" y="7"/>
                    </a:lnTo>
                    <a:cubicBezTo>
                      <a:pt x="11231" y="7"/>
                      <a:pt x="11230" y="6"/>
                      <a:pt x="11230" y="5"/>
                    </a:cubicBezTo>
                    <a:cubicBezTo>
                      <a:pt x="11230" y="4"/>
                      <a:pt x="11231" y="3"/>
                      <a:pt x="11232" y="3"/>
                    </a:cubicBezTo>
                    <a:close/>
                    <a:moveTo>
                      <a:pt x="11240" y="3"/>
                    </a:moveTo>
                    <a:lnTo>
                      <a:pt x="11240" y="3"/>
                    </a:lnTo>
                    <a:cubicBezTo>
                      <a:pt x="11241" y="3"/>
                      <a:pt x="11242" y="4"/>
                      <a:pt x="11242" y="5"/>
                    </a:cubicBezTo>
                    <a:cubicBezTo>
                      <a:pt x="11242" y="6"/>
                      <a:pt x="11241" y="7"/>
                      <a:pt x="11240" y="7"/>
                    </a:cubicBezTo>
                    <a:lnTo>
                      <a:pt x="11240" y="7"/>
                    </a:lnTo>
                    <a:cubicBezTo>
                      <a:pt x="11239" y="7"/>
                      <a:pt x="11238" y="6"/>
                      <a:pt x="11238" y="5"/>
                    </a:cubicBezTo>
                    <a:cubicBezTo>
                      <a:pt x="11238" y="4"/>
                      <a:pt x="11239" y="3"/>
                      <a:pt x="11240" y="3"/>
                    </a:cubicBezTo>
                    <a:close/>
                    <a:moveTo>
                      <a:pt x="11248" y="3"/>
                    </a:moveTo>
                    <a:lnTo>
                      <a:pt x="11248" y="3"/>
                    </a:lnTo>
                    <a:cubicBezTo>
                      <a:pt x="11249" y="3"/>
                      <a:pt x="11250" y="4"/>
                      <a:pt x="11250" y="5"/>
                    </a:cubicBezTo>
                    <a:cubicBezTo>
                      <a:pt x="11250" y="6"/>
                      <a:pt x="11249" y="7"/>
                      <a:pt x="11248" y="7"/>
                    </a:cubicBezTo>
                    <a:lnTo>
                      <a:pt x="11248" y="7"/>
                    </a:lnTo>
                    <a:cubicBezTo>
                      <a:pt x="11247" y="7"/>
                      <a:pt x="11246" y="6"/>
                      <a:pt x="11246" y="5"/>
                    </a:cubicBezTo>
                    <a:cubicBezTo>
                      <a:pt x="11246" y="4"/>
                      <a:pt x="11247" y="3"/>
                      <a:pt x="11248" y="3"/>
                    </a:cubicBezTo>
                    <a:close/>
                    <a:moveTo>
                      <a:pt x="11256" y="3"/>
                    </a:moveTo>
                    <a:lnTo>
                      <a:pt x="11256" y="3"/>
                    </a:lnTo>
                    <a:cubicBezTo>
                      <a:pt x="11257" y="3"/>
                      <a:pt x="11258" y="4"/>
                      <a:pt x="11258" y="5"/>
                    </a:cubicBezTo>
                    <a:cubicBezTo>
                      <a:pt x="11258" y="6"/>
                      <a:pt x="11257" y="7"/>
                      <a:pt x="11256" y="7"/>
                    </a:cubicBezTo>
                    <a:lnTo>
                      <a:pt x="11256" y="7"/>
                    </a:lnTo>
                    <a:cubicBezTo>
                      <a:pt x="11255" y="7"/>
                      <a:pt x="11254" y="6"/>
                      <a:pt x="11254" y="5"/>
                    </a:cubicBezTo>
                    <a:cubicBezTo>
                      <a:pt x="11254" y="4"/>
                      <a:pt x="11255" y="3"/>
                      <a:pt x="11256" y="3"/>
                    </a:cubicBezTo>
                    <a:close/>
                    <a:moveTo>
                      <a:pt x="11264" y="3"/>
                    </a:moveTo>
                    <a:lnTo>
                      <a:pt x="11264" y="3"/>
                    </a:lnTo>
                    <a:cubicBezTo>
                      <a:pt x="11265" y="3"/>
                      <a:pt x="11266" y="4"/>
                      <a:pt x="11266" y="5"/>
                    </a:cubicBezTo>
                    <a:cubicBezTo>
                      <a:pt x="11266" y="6"/>
                      <a:pt x="11265" y="7"/>
                      <a:pt x="11264" y="7"/>
                    </a:cubicBezTo>
                    <a:lnTo>
                      <a:pt x="11264" y="7"/>
                    </a:lnTo>
                    <a:cubicBezTo>
                      <a:pt x="11263" y="7"/>
                      <a:pt x="11262" y="6"/>
                      <a:pt x="11262" y="5"/>
                    </a:cubicBezTo>
                    <a:cubicBezTo>
                      <a:pt x="11262" y="4"/>
                      <a:pt x="11263" y="3"/>
                      <a:pt x="11264" y="3"/>
                    </a:cubicBezTo>
                    <a:close/>
                    <a:moveTo>
                      <a:pt x="11272" y="3"/>
                    </a:moveTo>
                    <a:lnTo>
                      <a:pt x="11272" y="3"/>
                    </a:lnTo>
                    <a:cubicBezTo>
                      <a:pt x="11273" y="3"/>
                      <a:pt x="11274" y="4"/>
                      <a:pt x="11274" y="5"/>
                    </a:cubicBezTo>
                    <a:cubicBezTo>
                      <a:pt x="11274" y="6"/>
                      <a:pt x="11273" y="7"/>
                      <a:pt x="11272" y="7"/>
                    </a:cubicBezTo>
                    <a:lnTo>
                      <a:pt x="11272" y="7"/>
                    </a:lnTo>
                    <a:cubicBezTo>
                      <a:pt x="11271" y="7"/>
                      <a:pt x="11270" y="6"/>
                      <a:pt x="11270" y="5"/>
                    </a:cubicBezTo>
                    <a:cubicBezTo>
                      <a:pt x="11270" y="4"/>
                      <a:pt x="11271" y="3"/>
                      <a:pt x="11272" y="3"/>
                    </a:cubicBezTo>
                    <a:close/>
                    <a:moveTo>
                      <a:pt x="11280" y="3"/>
                    </a:moveTo>
                    <a:lnTo>
                      <a:pt x="11280" y="3"/>
                    </a:lnTo>
                    <a:cubicBezTo>
                      <a:pt x="11281" y="3"/>
                      <a:pt x="11282" y="4"/>
                      <a:pt x="11282" y="5"/>
                    </a:cubicBezTo>
                    <a:cubicBezTo>
                      <a:pt x="11282" y="6"/>
                      <a:pt x="11281" y="7"/>
                      <a:pt x="11280" y="7"/>
                    </a:cubicBezTo>
                    <a:lnTo>
                      <a:pt x="11280" y="7"/>
                    </a:lnTo>
                    <a:cubicBezTo>
                      <a:pt x="11279" y="7"/>
                      <a:pt x="11278" y="6"/>
                      <a:pt x="11278" y="5"/>
                    </a:cubicBezTo>
                    <a:cubicBezTo>
                      <a:pt x="11278" y="4"/>
                      <a:pt x="11279" y="3"/>
                      <a:pt x="11280" y="3"/>
                    </a:cubicBezTo>
                    <a:close/>
                    <a:moveTo>
                      <a:pt x="11288" y="3"/>
                    </a:moveTo>
                    <a:lnTo>
                      <a:pt x="11288" y="3"/>
                    </a:lnTo>
                    <a:cubicBezTo>
                      <a:pt x="11289" y="3"/>
                      <a:pt x="11290" y="4"/>
                      <a:pt x="11290" y="5"/>
                    </a:cubicBezTo>
                    <a:cubicBezTo>
                      <a:pt x="11290" y="6"/>
                      <a:pt x="11289" y="7"/>
                      <a:pt x="11288" y="7"/>
                    </a:cubicBezTo>
                    <a:lnTo>
                      <a:pt x="11288" y="7"/>
                    </a:lnTo>
                    <a:cubicBezTo>
                      <a:pt x="11287" y="7"/>
                      <a:pt x="11286" y="6"/>
                      <a:pt x="11286" y="5"/>
                    </a:cubicBezTo>
                    <a:cubicBezTo>
                      <a:pt x="11286" y="4"/>
                      <a:pt x="11287" y="3"/>
                      <a:pt x="11288" y="3"/>
                    </a:cubicBezTo>
                    <a:close/>
                    <a:moveTo>
                      <a:pt x="11296" y="3"/>
                    </a:moveTo>
                    <a:lnTo>
                      <a:pt x="11296" y="3"/>
                    </a:lnTo>
                    <a:cubicBezTo>
                      <a:pt x="11297" y="3"/>
                      <a:pt x="11298" y="4"/>
                      <a:pt x="11298" y="5"/>
                    </a:cubicBezTo>
                    <a:cubicBezTo>
                      <a:pt x="11298" y="6"/>
                      <a:pt x="11297" y="7"/>
                      <a:pt x="11296" y="7"/>
                    </a:cubicBezTo>
                    <a:lnTo>
                      <a:pt x="11296" y="7"/>
                    </a:lnTo>
                    <a:cubicBezTo>
                      <a:pt x="11295" y="7"/>
                      <a:pt x="11294" y="6"/>
                      <a:pt x="11294" y="5"/>
                    </a:cubicBezTo>
                    <a:cubicBezTo>
                      <a:pt x="11294" y="4"/>
                      <a:pt x="11295" y="3"/>
                      <a:pt x="11296" y="3"/>
                    </a:cubicBezTo>
                    <a:close/>
                    <a:moveTo>
                      <a:pt x="11304" y="3"/>
                    </a:moveTo>
                    <a:lnTo>
                      <a:pt x="11304" y="3"/>
                    </a:lnTo>
                    <a:cubicBezTo>
                      <a:pt x="11305" y="3"/>
                      <a:pt x="11306" y="4"/>
                      <a:pt x="11306" y="5"/>
                    </a:cubicBezTo>
                    <a:cubicBezTo>
                      <a:pt x="11306" y="6"/>
                      <a:pt x="11305" y="7"/>
                      <a:pt x="11304" y="7"/>
                    </a:cubicBezTo>
                    <a:lnTo>
                      <a:pt x="11304" y="7"/>
                    </a:lnTo>
                    <a:cubicBezTo>
                      <a:pt x="11303" y="7"/>
                      <a:pt x="11302" y="6"/>
                      <a:pt x="11302" y="5"/>
                    </a:cubicBezTo>
                    <a:cubicBezTo>
                      <a:pt x="11302" y="4"/>
                      <a:pt x="11303" y="3"/>
                      <a:pt x="11304" y="3"/>
                    </a:cubicBezTo>
                    <a:close/>
                    <a:moveTo>
                      <a:pt x="11312" y="3"/>
                    </a:moveTo>
                    <a:lnTo>
                      <a:pt x="11312" y="3"/>
                    </a:lnTo>
                    <a:cubicBezTo>
                      <a:pt x="11313" y="3"/>
                      <a:pt x="11314" y="4"/>
                      <a:pt x="11314" y="5"/>
                    </a:cubicBezTo>
                    <a:cubicBezTo>
                      <a:pt x="11314" y="6"/>
                      <a:pt x="11313" y="7"/>
                      <a:pt x="11312" y="7"/>
                    </a:cubicBezTo>
                    <a:lnTo>
                      <a:pt x="11312" y="7"/>
                    </a:lnTo>
                    <a:cubicBezTo>
                      <a:pt x="11311" y="7"/>
                      <a:pt x="11310" y="6"/>
                      <a:pt x="11310" y="5"/>
                    </a:cubicBezTo>
                    <a:cubicBezTo>
                      <a:pt x="11310" y="4"/>
                      <a:pt x="11311" y="3"/>
                      <a:pt x="11312" y="3"/>
                    </a:cubicBezTo>
                    <a:close/>
                    <a:moveTo>
                      <a:pt x="11320" y="3"/>
                    </a:moveTo>
                    <a:lnTo>
                      <a:pt x="11320" y="3"/>
                    </a:lnTo>
                    <a:cubicBezTo>
                      <a:pt x="11321" y="3"/>
                      <a:pt x="11322" y="4"/>
                      <a:pt x="11322" y="5"/>
                    </a:cubicBezTo>
                    <a:cubicBezTo>
                      <a:pt x="11322" y="6"/>
                      <a:pt x="11321" y="7"/>
                      <a:pt x="11320" y="7"/>
                    </a:cubicBezTo>
                    <a:lnTo>
                      <a:pt x="11320" y="7"/>
                    </a:lnTo>
                    <a:cubicBezTo>
                      <a:pt x="11319" y="7"/>
                      <a:pt x="11318" y="6"/>
                      <a:pt x="11318" y="5"/>
                    </a:cubicBezTo>
                    <a:cubicBezTo>
                      <a:pt x="11318" y="4"/>
                      <a:pt x="11319" y="3"/>
                      <a:pt x="11320" y="3"/>
                    </a:cubicBezTo>
                    <a:close/>
                    <a:moveTo>
                      <a:pt x="11328" y="3"/>
                    </a:moveTo>
                    <a:lnTo>
                      <a:pt x="11328" y="3"/>
                    </a:lnTo>
                    <a:cubicBezTo>
                      <a:pt x="11329" y="3"/>
                      <a:pt x="11330" y="4"/>
                      <a:pt x="11330" y="5"/>
                    </a:cubicBezTo>
                    <a:cubicBezTo>
                      <a:pt x="11330" y="6"/>
                      <a:pt x="11329" y="7"/>
                      <a:pt x="11328" y="7"/>
                    </a:cubicBezTo>
                    <a:lnTo>
                      <a:pt x="11328" y="7"/>
                    </a:lnTo>
                    <a:cubicBezTo>
                      <a:pt x="11327" y="7"/>
                      <a:pt x="11326" y="6"/>
                      <a:pt x="11326" y="5"/>
                    </a:cubicBezTo>
                    <a:cubicBezTo>
                      <a:pt x="11326" y="4"/>
                      <a:pt x="11327" y="3"/>
                      <a:pt x="11328" y="3"/>
                    </a:cubicBezTo>
                    <a:close/>
                    <a:moveTo>
                      <a:pt x="11336" y="3"/>
                    </a:moveTo>
                    <a:lnTo>
                      <a:pt x="11336" y="3"/>
                    </a:lnTo>
                    <a:cubicBezTo>
                      <a:pt x="11337" y="3"/>
                      <a:pt x="11338" y="4"/>
                      <a:pt x="11338" y="5"/>
                    </a:cubicBezTo>
                    <a:cubicBezTo>
                      <a:pt x="11338" y="6"/>
                      <a:pt x="11337" y="7"/>
                      <a:pt x="11336" y="7"/>
                    </a:cubicBezTo>
                    <a:lnTo>
                      <a:pt x="11336" y="7"/>
                    </a:lnTo>
                    <a:cubicBezTo>
                      <a:pt x="11335" y="7"/>
                      <a:pt x="11334" y="6"/>
                      <a:pt x="11334" y="5"/>
                    </a:cubicBezTo>
                    <a:cubicBezTo>
                      <a:pt x="11334" y="4"/>
                      <a:pt x="11335" y="3"/>
                      <a:pt x="11336" y="3"/>
                    </a:cubicBezTo>
                    <a:close/>
                    <a:moveTo>
                      <a:pt x="11344" y="3"/>
                    </a:moveTo>
                    <a:lnTo>
                      <a:pt x="11344" y="3"/>
                    </a:lnTo>
                    <a:cubicBezTo>
                      <a:pt x="11345" y="3"/>
                      <a:pt x="11346" y="4"/>
                      <a:pt x="11346" y="5"/>
                    </a:cubicBezTo>
                    <a:cubicBezTo>
                      <a:pt x="11346" y="6"/>
                      <a:pt x="11345" y="7"/>
                      <a:pt x="11344" y="7"/>
                    </a:cubicBezTo>
                    <a:lnTo>
                      <a:pt x="11344" y="7"/>
                    </a:lnTo>
                    <a:cubicBezTo>
                      <a:pt x="11343" y="7"/>
                      <a:pt x="11342" y="6"/>
                      <a:pt x="11342" y="5"/>
                    </a:cubicBezTo>
                    <a:cubicBezTo>
                      <a:pt x="11342" y="4"/>
                      <a:pt x="11343" y="3"/>
                      <a:pt x="11344" y="3"/>
                    </a:cubicBezTo>
                    <a:close/>
                    <a:moveTo>
                      <a:pt x="11352" y="3"/>
                    </a:moveTo>
                    <a:lnTo>
                      <a:pt x="11352" y="3"/>
                    </a:lnTo>
                    <a:cubicBezTo>
                      <a:pt x="11353" y="3"/>
                      <a:pt x="11354" y="4"/>
                      <a:pt x="11354" y="5"/>
                    </a:cubicBezTo>
                    <a:cubicBezTo>
                      <a:pt x="11354" y="6"/>
                      <a:pt x="11353" y="7"/>
                      <a:pt x="11352" y="7"/>
                    </a:cubicBezTo>
                    <a:lnTo>
                      <a:pt x="11352" y="7"/>
                    </a:lnTo>
                    <a:cubicBezTo>
                      <a:pt x="11351" y="7"/>
                      <a:pt x="11350" y="6"/>
                      <a:pt x="11350" y="5"/>
                    </a:cubicBezTo>
                    <a:cubicBezTo>
                      <a:pt x="11350" y="4"/>
                      <a:pt x="11351" y="3"/>
                      <a:pt x="11352" y="3"/>
                    </a:cubicBezTo>
                    <a:close/>
                    <a:moveTo>
                      <a:pt x="11360" y="3"/>
                    </a:moveTo>
                    <a:lnTo>
                      <a:pt x="11360" y="3"/>
                    </a:lnTo>
                    <a:cubicBezTo>
                      <a:pt x="11361" y="3"/>
                      <a:pt x="11362" y="4"/>
                      <a:pt x="11362" y="5"/>
                    </a:cubicBezTo>
                    <a:cubicBezTo>
                      <a:pt x="11362" y="6"/>
                      <a:pt x="11361" y="7"/>
                      <a:pt x="11360" y="7"/>
                    </a:cubicBezTo>
                    <a:lnTo>
                      <a:pt x="11360" y="7"/>
                    </a:lnTo>
                    <a:cubicBezTo>
                      <a:pt x="11359" y="7"/>
                      <a:pt x="11358" y="6"/>
                      <a:pt x="11358" y="5"/>
                    </a:cubicBezTo>
                    <a:cubicBezTo>
                      <a:pt x="11358" y="4"/>
                      <a:pt x="11359" y="3"/>
                      <a:pt x="11360" y="3"/>
                    </a:cubicBezTo>
                    <a:close/>
                    <a:moveTo>
                      <a:pt x="11368" y="3"/>
                    </a:moveTo>
                    <a:lnTo>
                      <a:pt x="11368" y="3"/>
                    </a:lnTo>
                    <a:cubicBezTo>
                      <a:pt x="11369" y="3"/>
                      <a:pt x="11370" y="4"/>
                      <a:pt x="11370" y="5"/>
                    </a:cubicBezTo>
                    <a:cubicBezTo>
                      <a:pt x="11370" y="6"/>
                      <a:pt x="11369" y="7"/>
                      <a:pt x="11368" y="7"/>
                    </a:cubicBezTo>
                    <a:lnTo>
                      <a:pt x="11368" y="7"/>
                    </a:lnTo>
                    <a:cubicBezTo>
                      <a:pt x="11367" y="7"/>
                      <a:pt x="11366" y="6"/>
                      <a:pt x="11366" y="5"/>
                    </a:cubicBezTo>
                    <a:cubicBezTo>
                      <a:pt x="11366" y="4"/>
                      <a:pt x="11367" y="3"/>
                      <a:pt x="11368" y="3"/>
                    </a:cubicBezTo>
                    <a:close/>
                    <a:moveTo>
                      <a:pt x="11376" y="3"/>
                    </a:moveTo>
                    <a:lnTo>
                      <a:pt x="11376" y="3"/>
                    </a:lnTo>
                    <a:cubicBezTo>
                      <a:pt x="11377" y="3"/>
                      <a:pt x="11378" y="4"/>
                      <a:pt x="11378" y="5"/>
                    </a:cubicBezTo>
                    <a:cubicBezTo>
                      <a:pt x="11378" y="6"/>
                      <a:pt x="11377" y="7"/>
                      <a:pt x="11376" y="7"/>
                    </a:cubicBezTo>
                    <a:lnTo>
                      <a:pt x="11376" y="7"/>
                    </a:lnTo>
                    <a:cubicBezTo>
                      <a:pt x="11375" y="7"/>
                      <a:pt x="11374" y="6"/>
                      <a:pt x="11374" y="5"/>
                    </a:cubicBezTo>
                    <a:cubicBezTo>
                      <a:pt x="11374" y="4"/>
                      <a:pt x="11375" y="3"/>
                      <a:pt x="11376" y="3"/>
                    </a:cubicBezTo>
                    <a:close/>
                    <a:moveTo>
                      <a:pt x="11384" y="3"/>
                    </a:moveTo>
                    <a:lnTo>
                      <a:pt x="11384" y="3"/>
                    </a:lnTo>
                    <a:cubicBezTo>
                      <a:pt x="11385" y="3"/>
                      <a:pt x="11386" y="4"/>
                      <a:pt x="11386" y="5"/>
                    </a:cubicBezTo>
                    <a:cubicBezTo>
                      <a:pt x="11386" y="6"/>
                      <a:pt x="11385" y="7"/>
                      <a:pt x="11384" y="7"/>
                    </a:cubicBezTo>
                    <a:lnTo>
                      <a:pt x="11384" y="7"/>
                    </a:lnTo>
                    <a:cubicBezTo>
                      <a:pt x="11383" y="7"/>
                      <a:pt x="11382" y="6"/>
                      <a:pt x="11382" y="5"/>
                    </a:cubicBezTo>
                    <a:cubicBezTo>
                      <a:pt x="11382" y="4"/>
                      <a:pt x="11383" y="3"/>
                      <a:pt x="11384" y="3"/>
                    </a:cubicBezTo>
                    <a:close/>
                    <a:moveTo>
                      <a:pt x="11392" y="3"/>
                    </a:moveTo>
                    <a:lnTo>
                      <a:pt x="11392" y="3"/>
                    </a:lnTo>
                    <a:cubicBezTo>
                      <a:pt x="11393" y="3"/>
                      <a:pt x="11394" y="4"/>
                      <a:pt x="11394" y="5"/>
                    </a:cubicBezTo>
                    <a:cubicBezTo>
                      <a:pt x="11394" y="6"/>
                      <a:pt x="11393" y="7"/>
                      <a:pt x="11392" y="7"/>
                    </a:cubicBezTo>
                    <a:lnTo>
                      <a:pt x="11392" y="7"/>
                    </a:lnTo>
                    <a:cubicBezTo>
                      <a:pt x="11391" y="7"/>
                      <a:pt x="11390" y="6"/>
                      <a:pt x="11390" y="5"/>
                    </a:cubicBezTo>
                    <a:cubicBezTo>
                      <a:pt x="11390" y="4"/>
                      <a:pt x="11391" y="3"/>
                      <a:pt x="11392" y="3"/>
                    </a:cubicBezTo>
                    <a:close/>
                    <a:moveTo>
                      <a:pt x="11400" y="3"/>
                    </a:moveTo>
                    <a:lnTo>
                      <a:pt x="11400" y="3"/>
                    </a:lnTo>
                    <a:cubicBezTo>
                      <a:pt x="11401" y="3"/>
                      <a:pt x="11402" y="4"/>
                      <a:pt x="11402" y="5"/>
                    </a:cubicBezTo>
                    <a:cubicBezTo>
                      <a:pt x="11402" y="6"/>
                      <a:pt x="11401" y="7"/>
                      <a:pt x="11400" y="7"/>
                    </a:cubicBezTo>
                    <a:lnTo>
                      <a:pt x="11400" y="7"/>
                    </a:lnTo>
                    <a:cubicBezTo>
                      <a:pt x="11399" y="7"/>
                      <a:pt x="11398" y="6"/>
                      <a:pt x="11398" y="5"/>
                    </a:cubicBezTo>
                    <a:cubicBezTo>
                      <a:pt x="11398" y="4"/>
                      <a:pt x="11399" y="3"/>
                      <a:pt x="11400" y="3"/>
                    </a:cubicBezTo>
                    <a:close/>
                    <a:moveTo>
                      <a:pt x="11408" y="3"/>
                    </a:moveTo>
                    <a:lnTo>
                      <a:pt x="11408" y="3"/>
                    </a:lnTo>
                    <a:cubicBezTo>
                      <a:pt x="11409" y="3"/>
                      <a:pt x="11410" y="4"/>
                      <a:pt x="11410" y="5"/>
                    </a:cubicBezTo>
                    <a:cubicBezTo>
                      <a:pt x="11410" y="6"/>
                      <a:pt x="11409" y="7"/>
                      <a:pt x="11408" y="7"/>
                    </a:cubicBezTo>
                    <a:lnTo>
                      <a:pt x="11408" y="7"/>
                    </a:lnTo>
                    <a:cubicBezTo>
                      <a:pt x="11407" y="7"/>
                      <a:pt x="11406" y="6"/>
                      <a:pt x="11406" y="5"/>
                    </a:cubicBezTo>
                    <a:cubicBezTo>
                      <a:pt x="11406" y="4"/>
                      <a:pt x="11407" y="3"/>
                      <a:pt x="11408" y="3"/>
                    </a:cubicBezTo>
                    <a:close/>
                    <a:moveTo>
                      <a:pt x="11416" y="3"/>
                    </a:moveTo>
                    <a:lnTo>
                      <a:pt x="11416" y="3"/>
                    </a:lnTo>
                    <a:cubicBezTo>
                      <a:pt x="11417" y="3"/>
                      <a:pt x="11418" y="4"/>
                      <a:pt x="11418" y="5"/>
                    </a:cubicBezTo>
                    <a:cubicBezTo>
                      <a:pt x="11418" y="6"/>
                      <a:pt x="11417" y="7"/>
                      <a:pt x="11416" y="7"/>
                    </a:cubicBezTo>
                    <a:lnTo>
                      <a:pt x="11416" y="7"/>
                    </a:lnTo>
                    <a:cubicBezTo>
                      <a:pt x="11415" y="7"/>
                      <a:pt x="11414" y="6"/>
                      <a:pt x="11414" y="5"/>
                    </a:cubicBezTo>
                    <a:cubicBezTo>
                      <a:pt x="11414" y="4"/>
                      <a:pt x="11415" y="3"/>
                      <a:pt x="11416" y="3"/>
                    </a:cubicBezTo>
                    <a:close/>
                    <a:moveTo>
                      <a:pt x="11424" y="3"/>
                    </a:moveTo>
                    <a:lnTo>
                      <a:pt x="11424" y="3"/>
                    </a:lnTo>
                    <a:cubicBezTo>
                      <a:pt x="11425" y="3"/>
                      <a:pt x="11426" y="4"/>
                      <a:pt x="11426" y="5"/>
                    </a:cubicBezTo>
                    <a:cubicBezTo>
                      <a:pt x="11426" y="6"/>
                      <a:pt x="11425" y="7"/>
                      <a:pt x="11424" y="7"/>
                    </a:cubicBezTo>
                    <a:lnTo>
                      <a:pt x="11424" y="7"/>
                    </a:lnTo>
                    <a:cubicBezTo>
                      <a:pt x="11423" y="7"/>
                      <a:pt x="11422" y="6"/>
                      <a:pt x="11422" y="5"/>
                    </a:cubicBezTo>
                    <a:cubicBezTo>
                      <a:pt x="11422" y="4"/>
                      <a:pt x="11423" y="3"/>
                      <a:pt x="11424" y="3"/>
                    </a:cubicBezTo>
                    <a:close/>
                    <a:moveTo>
                      <a:pt x="11432" y="3"/>
                    </a:moveTo>
                    <a:lnTo>
                      <a:pt x="11432" y="3"/>
                    </a:lnTo>
                    <a:cubicBezTo>
                      <a:pt x="11433" y="3"/>
                      <a:pt x="11434" y="4"/>
                      <a:pt x="11434" y="5"/>
                    </a:cubicBezTo>
                    <a:cubicBezTo>
                      <a:pt x="11434" y="6"/>
                      <a:pt x="11433" y="7"/>
                      <a:pt x="11432" y="7"/>
                    </a:cubicBezTo>
                    <a:lnTo>
                      <a:pt x="11432" y="7"/>
                    </a:lnTo>
                    <a:cubicBezTo>
                      <a:pt x="11431" y="7"/>
                      <a:pt x="11430" y="6"/>
                      <a:pt x="11430" y="5"/>
                    </a:cubicBezTo>
                    <a:cubicBezTo>
                      <a:pt x="11430" y="4"/>
                      <a:pt x="11431" y="3"/>
                      <a:pt x="11432" y="3"/>
                    </a:cubicBezTo>
                    <a:close/>
                    <a:moveTo>
                      <a:pt x="11440" y="3"/>
                    </a:moveTo>
                    <a:lnTo>
                      <a:pt x="11440" y="3"/>
                    </a:lnTo>
                    <a:cubicBezTo>
                      <a:pt x="11441" y="3"/>
                      <a:pt x="11442" y="4"/>
                      <a:pt x="11442" y="5"/>
                    </a:cubicBezTo>
                    <a:cubicBezTo>
                      <a:pt x="11442" y="6"/>
                      <a:pt x="11441" y="7"/>
                      <a:pt x="11440" y="7"/>
                    </a:cubicBezTo>
                    <a:lnTo>
                      <a:pt x="11440" y="7"/>
                    </a:lnTo>
                    <a:cubicBezTo>
                      <a:pt x="11439" y="7"/>
                      <a:pt x="11438" y="6"/>
                      <a:pt x="11438" y="5"/>
                    </a:cubicBezTo>
                    <a:cubicBezTo>
                      <a:pt x="11438" y="4"/>
                      <a:pt x="11439" y="3"/>
                      <a:pt x="11440" y="3"/>
                    </a:cubicBezTo>
                    <a:close/>
                    <a:moveTo>
                      <a:pt x="11448" y="3"/>
                    </a:moveTo>
                    <a:lnTo>
                      <a:pt x="11448" y="3"/>
                    </a:lnTo>
                    <a:cubicBezTo>
                      <a:pt x="11449" y="3"/>
                      <a:pt x="11450" y="4"/>
                      <a:pt x="11450" y="5"/>
                    </a:cubicBezTo>
                    <a:cubicBezTo>
                      <a:pt x="11450" y="6"/>
                      <a:pt x="11449" y="7"/>
                      <a:pt x="11448" y="7"/>
                    </a:cubicBezTo>
                    <a:lnTo>
                      <a:pt x="11448" y="7"/>
                    </a:lnTo>
                    <a:cubicBezTo>
                      <a:pt x="11447" y="7"/>
                      <a:pt x="11446" y="6"/>
                      <a:pt x="11446" y="5"/>
                    </a:cubicBezTo>
                    <a:cubicBezTo>
                      <a:pt x="11446" y="4"/>
                      <a:pt x="11447" y="3"/>
                      <a:pt x="11448" y="3"/>
                    </a:cubicBezTo>
                    <a:close/>
                    <a:moveTo>
                      <a:pt x="11456" y="3"/>
                    </a:moveTo>
                    <a:lnTo>
                      <a:pt x="11456" y="3"/>
                    </a:lnTo>
                    <a:cubicBezTo>
                      <a:pt x="11457" y="3"/>
                      <a:pt x="11458" y="4"/>
                      <a:pt x="11458" y="5"/>
                    </a:cubicBezTo>
                    <a:cubicBezTo>
                      <a:pt x="11458" y="6"/>
                      <a:pt x="11457" y="7"/>
                      <a:pt x="11456" y="7"/>
                    </a:cubicBezTo>
                    <a:lnTo>
                      <a:pt x="11456" y="7"/>
                    </a:lnTo>
                    <a:cubicBezTo>
                      <a:pt x="11455" y="7"/>
                      <a:pt x="11454" y="6"/>
                      <a:pt x="11454" y="5"/>
                    </a:cubicBezTo>
                    <a:cubicBezTo>
                      <a:pt x="11454" y="4"/>
                      <a:pt x="11455" y="3"/>
                      <a:pt x="11456" y="3"/>
                    </a:cubicBezTo>
                    <a:close/>
                    <a:moveTo>
                      <a:pt x="11464" y="3"/>
                    </a:moveTo>
                    <a:lnTo>
                      <a:pt x="11464" y="3"/>
                    </a:lnTo>
                    <a:cubicBezTo>
                      <a:pt x="11465" y="3"/>
                      <a:pt x="11466" y="4"/>
                      <a:pt x="11466" y="5"/>
                    </a:cubicBezTo>
                    <a:cubicBezTo>
                      <a:pt x="11466" y="6"/>
                      <a:pt x="11465" y="7"/>
                      <a:pt x="11464" y="7"/>
                    </a:cubicBezTo>
                    <a:lnTo>
                      <a:pt x="11464" y="7"/>
                    </a:lnTo>
                    <a:cubicBezTo>
                      <a:pt x="11463" y="7"/>
                      <a:pt x="11462" y="6"/>
                      <a:pt x="11462" y="5"/>
                    </a:cubicBezTo>
                    <a:cubicBezTo>
                      <a:pt x="11462" y="4"/>
                      <a:pt x="11463" y="3"/>
                      <a:pt x="11464" y="3"/>
                    </a:cubicBezTo>
                    <a:close/>
                    <a:moveTo>
                      <a:pt x="11472" y="3"/>
                    </a:moveTo>
                    <a:lnTo>
                      <a:pt x="11472" y="3"/>
                    </a:lnTo>
                    <a:cubicBezTo>
                      <a:pt x="11473" y="3"/>
                      <a:pt x="11474" y="4"/>
                      <a:pt x="11474" y="5"/>
                    </a:cubicBezTo>
                    <a:cubicBezTo>
                      <a:pt x="11474" y="6"/>
                      <a:pt x="11473" y="7"/>
                      <a:pt x="11472" y="7"/>
                    </a:cubicBezTo>
                    <a:lnTo>
                      <a:pt x="11472" y="7"/>
                    </a:lnTo>
                    <a:cubicBezTo>
                      <a:pt x="11471" y="7"/>
                      <a:pt x="11470" y="6"/>
                      <a:pt x="11470" y="5"/>
                    </a:cubicBezTo>
                    <a:cubicBezTo>
                      <a:pt x="11470" y="4"/>
                      <a:pt x="11471" y="3"/>
                      <a:pt x="11472" y="3"/>
                    </a:cubicBezTo>
                    <a:close/>
                    <a:moveTo>
                      <a:pt x="11480" y="3"/>
                    </a:moveTo>
                    <a:lnTo>
                      <a:pt x="11480" y="3"/>
                    </a:lnTo>
                    <a:cubicBezTo>
                      <a:pt x="11481" y="3"/>
                      <a:pt x="11482" y="4"/>
                      <a:pt x="11482" y="5"/>
                    </a:cubicBezTo>
                    <a:cubicBezTo>
                      <a:pt x="11482" y="6"/>
                      <a:pt x="11481" y="7"/>
                      <a:pt x="11480" y="7"/>
                    </a:cubicBezTo>
                    <a:lnTo>
                      <a:pt x="11480" y="7"/>
                    </a:lnTo>
                    <a:cubicBezTo>
                      <a:pt x="11479" y="7"/>
                      <a:pt x="11478" y="6"/>
                      <a:pt x="11478" y="5"/>
                    </a:cubicBezTo>
                    <a:cubicBezTo>
                      <a:pt x="11478" y="4"/>
                      <a:pt x="11479" y="3"/>
                      <a:pt x="11480" y="3"/>
                    </a:cubicBezTo>
                    <a:close/>
                    <a:moveTo>
                      <a:pt x="11488" y="3"/>
                    </a:moveTo>
                    <a:lnTo>
                      <a:pt x="11488" y="3"/>
                    </a:lnTo>
                    <a:cubicBezTo>
                      <a:pt x="11489" y="3"/>
                      <a:pt x="11490" y="4"/>
                      <a:pt x="11490" y="5"/>
                    </a:cubicBezTo>
                    <a:cubicBezTo>
                      <a:pt x="11490" y="6"/>
                      <a:pt x="11489" y="7"/>
                      <a:pt x="11488" y="7"/>
                    </a:cubicBezTo>
                    <a:lnTo>
                      <a:pt x="11488" y="7"/>
                    </a:lnTo>
                    <a:cubicBezTo>
                      <a:pt x="11487" y="7"/>
                      <a:pt x="11486" y="6"/>
                      <a:pt x="11486" y="5"/>
                    </a:cubicBezTo>
                    <a:cubicBezTo>
                      <a:pt x="11486" y="4"/>
                      <a:pt x="11487" y="3"/>
                      <a:pt x="11488" y="3"/>
                    </a:cubicBezTo>
                    <a:close/>
                    <a:moveTo>
                      <a:pt x="11496" y="3"/>
                    </a:moveTo>
                    <a:lnTo>
                      <a:pt x="11496" y="3"/>
                    </a:lnTo>
                    <a:cubicBezTo>
                      <a:pt x="11497" y="3"/>
                      <a:pt x="11498" y="4"/>
                      <a:pt x="11498" y="5"/>
                    </a:cubicBezTo>
                    <a:cubicBezTo>
                      <a:pt x="11498" y="6"/>
                      <a:pt x="11497" y="7"/>
                      <a:pt x="11496" y="7"/>
                    </a:cubicBezTo>
                    <a:lnTo>
                      <a:pt x="11496" y="7"/>
                    </a:lnTo>
                    <a:cubicBezTo>
                      <a:pt x="11495" y="7"/>
                      <a:pt x="11494" y="6"/>
                      <a:pt x="11494" y="5"/>
                    </a:cubicBezTo>
                    <a:cubicBezTo>
                      <a:pt x="11494" y="4"/>
                      <a:pt x="11495" y="3"/>
                      <a:pt x="11496" y="3"/>
                    </a:cubicBezTo>
                    <a:close/>
                    <a:moveTo>
                      <a:pt x="11504" y="3"/>
                    </a:moveTo>
                    <a:lnTo>
                      <a:pt x="11504" y="3"/>
                    </a:lnTo>
                    <a:cubicBezTo>
                      <a:pt x="11505" y="3"/>
                      <a:pt x="11506" y="4"/>
                      <a:pt x="11506" y="5"/>
                    </a:cubicBezTo>
                    <a:cubicBezTo>
                      <a:pt x="11506" y="6"/>
                      <a:pt x="11505" y="7"/>
                      <a:pt x="11504" y="7"/>
                    </a:cubicBezTo>
                    <a:lnTo>
                      <a:pt x="11504" y="7"/>
                    </a:lnTo>
                    <a:cubicBezTo>
                      <a:pt x="11503" y="7"/>
                      <a:pt x="11502" y="6"/>
                      <a:pt x="11502" y="5"/>
                    </a:cubicBezTo>
                    <a:cubicBezTo>
                      <a:pt x="11502" y="4"/>
                      <a:pt x="11503" y="3"/>
                      <a:pt x="11504" y="3"/>
                    </a:cubicBezTo>
                    <a:close/>
                    <a:moveTo>
                      <a:pt x="11512" y="3"/>
                    </a:moveTo>
                    <a:lnTo>
                      <a:pt x="11512" y="3"/>
                    </a:lnTo>
                    <a:cubicBezTo>
                      <a:pt x="11513" y="3"/>
                      <a:pt x="11514" y="4"/>
                      <a:pt x="11514" y="5"/>
                    </a:cubicBezTo>
                    <a:cubicBezTo>
                      <a:pt x="11514" y="6"/>
                      <a:pt x="11513" y="7"/>
                      <a:pt x="11512" y="7"/>
                    </a:cubicBezTo>
                    <a:lnTo>
                      <a:pt x="11512" y="7"/>
                    </a:lnTo>
                    <a:cubicBezTo>
                      <a:pt x="11511" y="7"/>
                      <a:pt x="11510" y="6"/>
                      <a:pt x="11510" y="5"/>
                    </a:cubicBezTo>
                    <a:cubicBezTo>
                      <a:pt x="11510" y="4"/>
                      <a:pt x="11511" y="3"/>
                      <a:pt x="11512" y="3"/>
                    </a:cubicBezTo>
                    <a:close/>
                    <a:moveTo>
                      <a:pt x="11520" y="3"/>
                    </a:moveTo>
                    <a:lnTo>
                      <a:pt x="11520" y="3"/>
                    </a:lnTo>
                    <a:cubicBezTo>
                      <a:pt x="11521" y="3"/>
                      <a:pt x="11522" y="4"/>
                      <a:pt x="11522" y="5"/>
                    </a:cubicBezTo>
                    <a:cubicBezTo>
                      <a:pt x="11522" y="6"/>
                      <a:pt x="11521" y="7"/>
                      <a:pt x="11520" y="7"/>
                    </a:cubicBezTo>
                    <a:lnTo>
                      <a:pt x="11520" y="7"/>
                    </a:lnTo>
                    <a:cubicBezTo>
                      <a:pt x="11519" y="7"/>
                      <a:pt x="11518" y="6"/>
                      <a:pt x="11518" y="5"/>
                    </a:cubicBezTo>
                    <a:cubicBezTo>
                      <a:pt x="11518" y="4"/>
                      <a:pt x="11519" y="3"/>
                      <a:pt x="11520" y="3"/>
                    </a:cubicBezTo>
                    <a:close/>
                    <a:moveTo>
                      <a:pt x="11528" y="3"/>
                    </a:moveTo>
                    <a:lnTo>
                      <a:pt x="11528" y="3"/>
                    </a:lnTo>
                    <a:cubicBezTo>
                      <a:pt x="11529" y="3"/>
                      <a:pt x="11530" y="4"/>
                      <a:pt x="11530" y="5"/>
                    </a:cubicBezTo>
                    <a:cubicBezTo>
                      <a:pt x="11530" y="6"/>
                      <a:pt x="11529" y="7"/>
                      <a:pt x="11528" y="7"/>
                    </a:cubicBezTo>
                    <a:lnTo>
                      <a:pt x="11528" y="7"/>
                    </a:lnTo>
                    <a:cubicBezTo>
                      <a:pt x="11527" y="7"/>
                      <a:pt x="11526" y="6"/>
                      <a:pt x="11526" y="5"/>
                    </a:cubicBezTo>
                    <a:cubicBezTo>
                      <a:pt x="11526" y="4"/>
                      <a:pt x="11527" y="3"/>
                      <a:pt x="11528" y="3"/>
                    </a:cubicBezTo>
                    <a:close/>
                    <a:moveTo>
                      <a:pt x="11536" y="3"/>
                    </a:moveTo>
                    <a:lnTo>
                      <a:pt x="11536" y="3"/>
                    </a:lnTo>
                    <a:cubicBezTo>
                      <a:pt x="11537" y="3"/>
                      <a:pt x="11538" y="4"/>
                      <a:pt x="11538" y="5"/>
                    </a:cubicBezTo>
                    <a:cubicBezTo>
                      <a:pt x="11538" y="6"/>
                      <a:pt x="11537" y="7"/>
                      <a:pt x="11536" y="7"/>
                    </a:cubicBezTo>
                    <a:lnTo>
                      <a:pt x="11536" y="7"/>
                    </a:lnTo>
                    <a:cubicBezTo>
                      <a:pt x="11535" y="7"/>
                      <a:pt x="11534" y="6"/>
                      <a:pt x="11534" y="5"/>
                    </a:cubicBezTo>
                    <a:cubicBezTo>
                      <a:pt x="11534" y="4"/>
                      <a:pt x="11535" y="3"/>
                      <a:pt x="11536" y="3"/>
                    </a:cubicBezTo>
                    <a:close/>
                    <a:moveTo>
                      <a:pt x="11544" y="3"/>
                    </a:moveTo>
                    <a:lnTo>
                      <a:pt x="11544" y="3"/>
                    </a:lnTo>
                    <a:cubicBezTo>
                      <a:pt x="11545" y="3"/>
                      <a:pt x="11546" y="4"/>
                      <a:pt x="11546" y="5"/>
                    </a:cubicBezTo>
                    <a:cubicBezTo>
                      <a:pt x="11546" y="6"/>
                      <a:pt x="11545" y="7"/>
                      <a:pt x="11544" y="7"/>
                    </a:cubicBezTo>
                    <a:lnTo>
                      <a:pt x="11544" y="7"/>
                    </a:lnTo>
                    <a:cubicBezTo>
                      <a:pt x="11543" y="7"/>
                      <a:pt x="11542" y="6"/>
                      <a:pt x="11542" y="5"/>
                    </a:cubicBezTo>
                    <a:cubicBezTo>
                      <a:pt x="11542" y="4"/>
                      <a:pt x="11543" y="3"/>
                      <a:pt x="11544" y="3"/>
                    </a:cubicBezTo>
                    <a:close/>
                    <a:moveTo>
                      <a:pt x="11552" y="3"/>
                    </a:moveTo>
                    <a:lnTo>
                      <a:pt x="11552" y="3"/>
                    </a:lnTo>
                    <a:cubicBezTo>
                      <a:pt x="11553" y="3"/>
                      <a:pt x="11554" y="4"/>
                      <a:pt x="11554" y="5"/>
                    </a:cubicBezTo>
                    <a:cubicBezTo>
                      <a:pt x="11554" y="6"/>
                      <a:pt x="11553" y="7"/>
                      <a:pt x="11552" y="7"/>
                    </a:cubicBezTo>
                    <a:lnTo>
                      <a:pt x="11552" y="7"/>
                    </a:lnTo>
                    <a:cubicBezTo>
                      <a:pt x="11551" y="7"/>
                      <a:pt x="11550" y="6"/>
                      <a:pt x="11550" y="5"/>
                    </a:cubicBezTo>
                    <a:cubicBezTo>
                      <a:pt x="11550" y="4"/>
                      <a:pt x="11551" y="3"/>
                      <a:pt x="11552" y="3"/>
                    </a:cubicBezTo>
                    <a:close/>
                    <a:moveTo>
                      <a:pt x="11560" y="3"/>
                    </a:moveTo>
                    <a:lnTo>
                      <a:pt x="11560" y="3"/>
                    </a:lnTo>
                    <a:cubicBezTo>
                      <a:pt x="11561" y="3"/>
                      <a:pt x="11562" y="4"/>
                      <a:pt x="11562" y="5"/>
                    </a:cubicBezTo>
                    <a:cubicBezTo>
                      <a:pt x="11562" y="6"/>
                      <a:pt x="11561" y="7"/>
                      <a:pt x="11560" y="7"/>
                    </a:cubicBezTo>
                    <a:lnTo>
                      <a:pt x="11560" y="7"/>
                    </a:lnTo>
                    <a:cubicBezTo>
                      <a:pt x="11559" y="7"/>
                      <a:pt x="11558" y="6"/>
                      <a:pt x="11558" y="5"/>
                    </a:cubicBezTo>
                    <a:cubicBezTo>
                      <a:pt x="11558" y="4"/>
                      <a:pt x="11559" y="3"/>
                      <a:pt x="11560" y="3"/>
                    </a:cubicBezTo>
                    <a:close/>
                    <a:moveTo>
                      <a:pt x="11568" y="3"/>
                    </a:moveTo>
                    <a:lnTo>
                      <a:pt x="11568" y="3"/>
                    </a:lnTo>
                    <a:cubicBezTo>
                      <a:pt x="11569" y="3"/>
                      <a:pt x="11570" y="4"/>
                      <a:pt x="11570" y="5"/>
                    </a:cubicBezTo>
                    <a:cubicBezTo>
                      <a:pt x="11570" y="6"/>
                      <a:pt x="11569" y="7"/>
                      <a:pt x="11568" y="7"/>
                    </a:cubicBezTo>
                    <a:lnTo>
                      <a:pt x="11568" y="7"/>
                    </a:lnTo>
                    <a:cubicBezTo>
                      <a:pt x="11567" y="7"/>
                      <a:pt x="11566" y="6"/>
                      <a:pt x="11566" y="5"/>
                    </a:cubicBezTo>
                    <a:cubicBezTo>
                      <a:pt x="11566" y="4"/>
                      <a:pt x="11567" y="3"/>
                      <a:pt x="11568" y="3"/>
                    </a:cubicBezTo>
                    <a:close/>
                    <a:moveTo>
                      <a:pt x="11576" y="3"/>
                    </a:moveTo>
                    <a:lnTo>
                      <a:pt x="11576" y="3"/>
                    </a:lnTo>
                    <a:cubicBezTo>
                      <a:pt x="11577" y="3"/>
                      <a:pt x="11578" y="4"/>
                      <a:pt x="11578" y="5"/>
                    </a:cubicBezTo>
                    <a:cubicBezTo>
                      <a:pt x="11578" y="6"/>
                      <a:pt x="11577" y="7"/>
                      <a:pt x="11576" y="7"/>
                    </a:cubicBezTo>
                    <a:lnTo>
                      <a:pt x="11576" y="7"/>
                    </a:lnTo>
                    <a:cubicBezTo>
                      <a:pt x="11575" y="7"/>
                      <a:pt x="11574" y="6"/>
                      <a:pt x="11574" y="5"/>
                    </a:cubicBezTo>
                    <a:cubicBezTo>
                      <a:pt x="11574" y="4"/>
                      <a:pt x="11575" y="3"/>
                      <a:pt x="11576" y="3"/>
                    </a:cubicBezTo>
                    <a:close/>
                    <a:moveTo>
                      <a:pt x="11584" y="3"/>
                    </a:moveTo>
                    <a:lnTo>
                      <a:pt x="11584" y="3"/>
                    </a:lnTo>
                    <a:cubicBezTo>
                      <a:pt x="11585" y="3"/>
                      <a:pt x="11586" y="4"/>
                      <a:pt x="11586" y="5"/>
                    </a:cubicBezTo>
                    <a:cubicBezTo>
                      <a:pt x="11586" y="6"/>
                      <a:pt x="11585" y="7"/>
                      <a:pt x="11584" y="7"/>
                    </a:cubicBezTo>
                    <a:lnTo>
                      <a:pt x="11584" y="7"/>
                    </a:lnTo>
                    <a:cubicBezTo>
                      <a:pt x="11583" y="7"/>
                      <a:pt x="11582" y="6"/>
                      <a:pt x="11582" y="5"/>
                    </a:cubicBezTo>
                    <a:cubicBezTo>
                      <a:pt x="11582" y="4"/>
                      <a:pt x="11583" y="3"/>
                      <a:pt x="11584" y="3"/>
                    </a:cubicBezTo>
                    <a:close/>
                    <a:moveTo>
                      <a:pt x="11592" y="3"/>
                    </a:moveTo>
                    <a:lnTo>
                      <a:pt x="11592" y="3"/>
                    </a:lnTo>
                    <a:cubicBezTo>
                      <a:pt x="11593" y="3"/>
                      <a:pt x="11594" y="4"/>
                      <a:pt x="11594" y="5"/>
                    </a:cubicBezTo>
                    <a:cubicBezTo>
                      <a:pt x="11594" y="6"/>
                      <a:pt x="11593" y="7"/>
                      <a:pt x="11592" y="7"/>
                    </a:cubicBezTo>
                    <a:lnTo>
                      <a:pt x="11592" y="7"/>
                    </a:lnTo>
                    <a:cubicBezTo>
                      <a:pt x="11591" y="7"/>
                      <a:pt x="11590" y="6"/>
                      <a:pt x="11590" y="5"/>
                    </a:cubicBezTo>
                    <a:cubicBezTo>
                      <a:pt x="11590" y="4"/>
                      <a:pt x="11591" y="3"/>
                      <a:pt x="11592" y="3"/>
                    </a:cubicBezTo>
                    <a:close/>
                    <a:moveTo>
                      <a:pt x="11600" y="3"/>
                    </a:moveTo>
                    <a:lnTo>
                      <a:pt x="11600" y="3"/>
                    </a:lnTo>
                    <a:cubicBezTo>
                      <a:pt x="11601" y="3"/>
                      <a:pt x="11602" y="4"/>
                      <a:pt x="11602" y="5"/>
                    </a:cubicBezTo>
                    <a:cubicBezTo>
                      <a:pt x="11602" y="6"/>
                      <a:pt x="11601" y="7"/>
                      <a:pt x="11600" y="7"/>
                    </a:cubicBezTo>
                    <a:lnTo>
                      <a:pt x="11600" y="7"/>
                    </a:lnTo>
                    <a:cubicBezTo>
                      <a:pt x="11599" y="7"/>
                      <a:pt x="11598" y="6"/>
                      <a:pt x="11598" y="5"/>
                    </a:cubicBezTo>
                    <a:cubicBezTo>
                      <a:pt x="11598" y="4"/>
                      <a:pt x="11599" y="3"/>
                      <a:pt x="11600" y="3"/>
                    </a:cubicBezTo>
                    <a:close/>
                    <a:moveTo>
                      <a:pt x="11608" y="3"/>
                    </a:moveTo>
                    <a:lnTo>
                      <a:pt x="11608" y="3"/>
                    </a:lnTo>
                    <a:cubicBezTo>
                      <a:pt x="11609" y="3"/>
                      <a:pt x="11610" y="4"/>
                      <a:pt x="11610" y="5"/>
                    </a:cubicBezTo>
                    <a:cubicBezTo>
                      <a:pt x="11610" y="6"/>
                      <a:pt x="11609" y="7"/>
                      <a:pt x="11608" y="7"/>
                    </a:cubicBezTo>
                    <a:lnTo>
                      <a:pt x="11608" y="7"/>
                    </a:lnTo>
                    <a:cubicBezTo>
                      <a:pt x="11607" y="7"/>
                      <a:pt x="11606" y="6"/>
                      <a:pt x="11606" y="5"/>
                    </a:cubicBezTo>
                    <a:cubicBezTo>
                      <a:pt x="11606" y="4"/>
                      <a:pt x="11607" y="3"/>
                      <a:pt x="11608" y="3"/>
                    </a:cubicBezTo>
                    <a:close/>
                    <a:moveTo>
                      <a:pt x="11616" y="3"/>
                    </a:moveTo>
                    <a:lnTo>
                      <a:pt x="11616" y="3"/>
                    </a:lnTo>
                    <a:cubicBezTo>
                      <a:pt x="11617" y="3"/>
                      <a:pt x="11618" y="4"/>
                      <a:pt x="11618" y="5"/>
                    </a:cubicBezTo>
                    <a:cubicBezTo>
                      <a:pt x="11618" y="6"/>
                      <a:pt x="11617" y="7"/>
                      <a:pt x="11616" y="7"/>
                    </a:cubicBezTo>
                    <a:lnTo>
                      <a:pt x="11616" y="7"/>
                    </a:lnTo>
                    <a:cubicBezTo>
                      <a:pt x="11615" y="7"/>
                      <a:pt x="11614" y="6"/>
                      <a:pt x="11614" y="5"/>
                    </a:cubicBezTo>
                    <a:cubicBezTo>
                      <a:pt x="11614" y="4"/>
                      <a:pt x="11615" y="3"/>
                      <a:pt x="11616" y="3"/>
                    </a:cubicBezTo>
                    <a:close/>
                    <a:moveTo>
                      <a:pt x="11624" y="3"/>
                    </a:moveTo>
                    <a:lnTo>
                      <a:pt x="11624" y="3"/>
                    </a:lnTo>
                    <a:cubicBezTo>
                      <a:pt x="11625" y="3"/>
                      <a:pt x="11626" y="4"/>
                      <a:pt x="11626" y="5"/>
                    </a:cubicBezTo>
                    <a:cubicBezTo>
                      <a:pt x="11626" y="6"/>
                      <a:pt x="11625" y="7"/>
                      <a:pt x="11624" y="7"/>
                    </a:cubicBezTo>
                    <a:lnTo>
                      <a:pt x="11624" y="7"/>
                    </a:lnTo>
                    <a:cubicBezTo>
                      <a:pt x="11623" y="7"/>
                      <a:pt x="11622" y="6"/>
                      <a:pt x="11622" y="5"/>
                    </a:cubicBezTo>
                    <a:cubicBezTo>
                      <a:pt x="11622" y="4"/>
                      <a:pt x="11623" y="3"/>
                      <a:pt x="11624" y="3"/>
                    </a:cubicBezTo>
                    <a:close/>
                    <a:moveTo>
                      <a:pt x="11632" y="3"/>
                    </a:moveTo>
                    <a:lnTo>
                      <a:pt x="11632" y="3"/>
                    </a:lnTo>
                    <a:cubicBezTo>
                      <a:pt x="11633" y="3"/>
                      <a:pt x="11634" y="4"/>
                      <a:pt x="11634" y="5"/>
                    </a:cubicBezTo>
                    <a:cubicBezTo>
                      <a:pt x="11634" y="6"/>
                      <a:pt x="11633" y="7"/>
                      <a:pt x="11632" y="7"/>
                    </a:cubicBezTo>
                    <a:lnTo>
                      <a:pt x="11632" y="7"/>
                    </a:lnTo>
                    <a:cubicBezTo>
                      <a:pt x="11631" y="7"/>
                      <a:pt x="11630" y="6"/>
                      <a:pt x="11630" y="5"/>
                    </a:cubicBezTo>
                    <a:cubicBezTo>
                      <a:pt x="11630" y="4"/>
                      <a:pt x="11631" y="3"/>
                      <a:pt x="11632" y="3"/>
                    </a:cubicBezTo>
                    <a:close/>
                    <a:moveTo>
                      <a:pt x="11640" y="3"/>
                    </a:moveTo>
                    <a:lnTo>
                      <a:pt x="11640" y="3"/>
                    </a:lnTo>
                    <a:cubicBezTo>
                      <a:pt x="11641" y="3"/>
                      <a:pt x="11642" y="4"/>
                      <a:pt x="11642" y="5"/>
                    </a:cubicBezTo>
                    <a:cubicBezTo>
                      <a:pt x="11642" y="6"/>
                      <a:pt x="11641" y="7"/>
                      <a:pt x="11640" y="7"/>
                    </a:cubicBezTo>
                    <a:lnTo>
                      <a:pt x="11640" y="7"/>
                    </a:lnTo>
                    <a:cubicBezTo>
                      <a:pt x="11639" y="7"/>
                      <a:pt x="11638" y="6"/>
                      <a:pt x="11638" y="5"/>
                    </a:cubicBezTo>
                    <a:cubicBezTo>
                      <a:pt x="11638" y="4"/>
                      <a:pt x="11639" y="3"/>
                      <a:pt x="11640" y="3"/>
                    </a:cubicBezTo>
                    <a:close/>
                    <a:moveTo>
                      <a:pt x="11648" y="3"/>
                    </a:moveTo>
                    <a:lnTo>
                      <a:pt x="11648" y="3"/>
                    </a:lnTo>
                    <a:cubicBezTo>
                      <a:pt x="11649" y="3"/>
                      <a:pt x="11650" y="4"/>
                      <a:pt x="11650" y="5"/>
                    </a:cubicBezTo>
                    <a:cubicBezTo>
                      <a:pt x="11650" y="6"/>
                      <a:pt x="11649" y="7"/>
                      <a:pt x="11648" y="7"/>
                    </a:cubicBezTo>
                    <a:lnTo>
                      <a:pt x="11648" y="7"/>
                    </a:lnTo>
                    <a:cubicBezTo>
                      <a:pt x="11647" y="7"/>
                      <a:pt x="11646" y="6"/>
                      <a:pt x="11646" y="5"/>
                    </a:cubicBezTo>
                    <a:cubicBezTo>
                      <a:pt x="11646" y="4"/>
                      <a:pt x="11647" y="3"/>
                      <a:pt x="11648" y="3"/>
                    </a:cubicBezTo>
                    <a:close/>
                    <a:moveTo>
                      <a:pt x="11656" y="3"/>
                    </a:moveTo>
                    <a:lnTo>
                      <a:pt x="11656" y="3"/>
                    </a:lnTo>
                    <a:cubicBezTo>
                      <a:pt x="11657" y="3"/>
                      <a:pt x="11658" y="4"/>
                      <a:pt x="11658" y="5"/>
                    </a:cubicBezTo>
                    <a:cubicBezTo>
                      <a:pt x="11658" y="6"/>
                      <a:pt x="11657" y="7"/>
                      <a:pt x="11656" y="7"/>
                    </a:cubicBezTo>
                    <a:lnTo>
                      <a:pt x="11656" y="7"/>
                    </a:lnTo>
                    <a:cubicBezTo>
                      <a:pt x="11655" y="7"/>
                      <a:pt x="11654" y="6"/>
                      <a:pt x="11654" y="5"/>
                    </a:cubicBezTo>
                    <a:cubicBezTo>
                      <a:pt x="11654" y="4"/>
                      <a:pt x="11655" y="3"/>
                      <a:pt x="11656" y="3"/>
                    </a:cubicBezTo>
                    <a:close/>
                    <a:moveTo>
                      <a:pt x="11664" y="3"/>
                    </a:moveTo>
                    <a:lnTo>
                      <a:pt x="11664" y="3"/>
                    </a:lnTo>
                    <a:cubicBezTo>
                      <a:pt x="11665" y="3"/>
                      <a:pt x="11666" y="4"/>
                      <a:pt x="11666" y="5"/>
                    </a:cubicBezTo>
                    <a:cubicBezTo>
                      <a:pt x="11666" y="6"/>
                      <a:pt x="11665" y="7"/>
                      <a:pt x="11664" y="7"/>
                    </a:cubicBezTo>
                    <a:lnTo>
                      <a:pt x="11664" y="7"/>
                    </a:lnTo>
                    <a:cubicBezTo>
                      <a:pt x="11663" y="7"/>
                      <a:pt x="11662" y="6"/>
                      <a:pt x="11662" y="5"/>
                    </a:cubicBezTo>
                    <a:cubicBezTo>
                      <a:pt x="11662" y="4"/>
                      <a:pt x="11663" y="3"/>
                      <a:pt x="11664" y="3"/>
                    </a:cubicBezTo>
                    <a:close/>
                    <a:moveTo>
                      <a:pt x="11672" y="3"/>
                    </a:moveTo>
                    <a:lnTo>
                      <a:pt x="11672" y="3"/>
                    </a:lnTo>
                    <a:cubicBezTo>
                      <a:pt x="11673" y="3"/>
                      <a:pt x="11674" y="4"/>
                      <a:pt x="11674" y="5"/>
                    </a:cubicBezTo>
                    <a:cubicBezTo>
                      <a:pt x="11674" y="6"/>
                      <a:pt x="11673" y="7"/>
                      <a:pt x="11672" y="7"/>
                    </a:cubicBezTo>
                    <a:lnTo>
                      <a:pt x="11672" y="7"/>
                    </a:lnTo>
                    <a:cubicBezTo>
                      <a:pt x="11671" y="7"/>
                      <a:pt x="11670" y="6"/>
                      <a:pt x="11670" y="5"/>
                    </a:cubicBezTo>
                    <a:cubicBezTo>
                      <a:pt x="11670" y="4"/>
                      <a:pt x="11671" y="3"/>
                      <a:pt x="11672" y="3"/>
                    </a:cubicBezTo>
                    <a:close/>
                    <a:moveTo>
                      <a:pt x="11680" y="3"/>
                    </a:moveTo>
                    <a:lnTo>
                      <a:pt x="11680" y="3"/>
                    </a:lnTo>
                    <a:cubicBezTo>
                      <a:pt x="11681" y="3"/>
                      <a:pt x="11682" y="4"/>
                      <a:pt x="11682" y="5"/>
                    </a:cubicBezTo>
                    <a:cubicBezTo>
                      <a:pt x="11682" y="6"/>
                      <a:pt x="11681" y="7"/>
                      <a:pt x="11680" y="7"/>
                    </a:cubicBezTo>
                    <a:lnTo>
                      <a:pt x="11680" y="7"/>
                    </a:lnTo>
                    <a:cubicBezTo>
                      <a:pt x="11679" y="7"/>
                      <a:pt x="11678" y="6"/>
                      <a:pt x="11678" y="5"/>
                    </a:cubicBezTo>
                    <a:cubicBezTo>
                      <a:pt x="11678" y="4"/>
                      <a:pt x="11679" y="3"/>
                      <a:pt x="11680" y="3"/>
                    </a:cubicBezTo>
                    <a:close/>
                    <a:moveTo>
                      <a:pt x="11688" y="3"/>
                    </a:moveTo>
                    <a:lnTo>
                      <a:pt x="11688" y="3"/>
                    </a:lnTo>
                    <a:cubicBezTo>
                      <a:pt x="11689" y="3"/>
                      <a:pt x="11690" y="4"/>
                      <a:pt x="11690" y="5"/>
                    </a:cubicBezTo>
                    <a:cubicBezTo>
                      <a:pt x="11690" y="6"/>
                      <a:pt x="11689" y="7"/>
                      <a:pt x="11688" y="7"/>
                    </a:cubicBezTo>
                    <a:lnTo>
                      <a:pt x="11688" y="7"/>
                    </a:lnTo>
                    <a:cubicBezTo>
                      <a:pt x="11687" y="7"/>
                      <a:pt x="11686" y="6"/>
                      <a:pt x="11686" y="5"/>
                    </a:cubicBezTo>
                    <a:cubicBezTo>
                      <a:pt x="11686" y="4"/>
                      <a:pt x="11687" y="3"/>
                      <a:pt x="11688" y="3"/>
                    </a:cubicBezTo>
                    <a:close/>
                    <a:moveTo>
                      <a:pt x="11696" y="3"/>
                    </a:moveTo>
                    <a:lnTo>
                      <a:pt x="11696" y="3"/>
                    </a:lnTo>
                    <a:cubicBezTo>
                      <a:pt x="11697" y="3"/>
                      <a:pt x="11698" y="4"/>
                      <a:pt x="11698" y="5"/>
                    </a:cubicBezTo>
                    <a:cubicBezTo>
                      <a:pt x="11698" y="6"/>
                      <a:pt x="11697" y="7"/>
                      <a:pt x="11696" y="7"/>
                    </a:cubicBezTo>
                    <a:lnTo>
                      <a:pt x="11696" y="7"/>
                    </a:lnTo>
                    <a:cubicBezTo>
                      <a:pt x="11695" y="7"/>
                      <a:pt x="11694" y="6"/>
                      <a:pt x="11694" y="5"/>
                    </a:cubicBezTo>
                    <a:cubicBezTo>
                      <a:pt x="11694" y="4"/>
                      <a:pt x="11695" y="3"/>
                      <a:pt x="11696" y="3"/>
                    </a:cubicBezTo>
                    <a:close/>
                    <a:moveTo>
                      <a:pt x="11704" y="3"/>
                    </a:moveTo>
                    <a:lnTo>
                      <a:pt x="11704" y="3"/>
                    </a:lnTo>
                    <a:cubicBezTo>
                      <a:pt x="11705" y="3"/>
                      <a:pt x="11706" y="4"/>
                      <a:pt x="11706" y="5"/>
                    </a:cubicBezTo>
                    <a:cubicBezTo>
                      <a:pt x="11706" y="6"/>
                      <a:pt x="11705" y="7"/>
                      <a:pt x="11704" y="7"/>
                    </a:cubicBezTo>
                    <a:lnTo>
                      <a:pt x="11704" y="7"/>
                    </a:lnTo>
                    <a:cubicBezTo>
                      <a:pt x="11703" y="7"/>
                      <a:pt x="11702" y="6"/>
                      <a:pt x="11702" y="5"/>
                    </a:cubicBezTo>
                    <a:cubicBezTo>
                      <a:pt x="11702" y="4"/>
                      <a:pt x="11703" y="3"/>
                      <a:pt x="11704" y="3"/>
                    </a:cubicBezTo>
                    <a:close/>
                    <a:moveTo>
                      <a:pt x="11712" y="3"/>
                    </a:moveTo>
                    <a:lnTo>
                      <a:pt x="11712" y="3"/>
                    </a:lnTo>
                    <a:cubicBezTo>
                      <a:pt x="11713" y="3"/>
                      <a:pt x="11714" y="4"/>
                      <a:pt x="11714" y="5"/>
                    </a:cubicBezTo>
                    <a:cubicBezTo>
                      <a:pt x="11714" y="6"/>
                      <a:pt x="11713" y="7"/>
                      <a:pt x="11712" y="7"/>
                    </a:cubicBezTo>
                    <a:lnTo>
                      <a:pt x="11712" y="7"/>
                    </a:lnTo>
                    <a:cubicBezTo>
                      <a:pt x="11711" y="7"/>
                      <a:pt x="11710" y="6"/>
                      <a:pt x="11710" y="5"/>
                    </a:cubicBezTo>
                    <a:cubicBezTo>
                      <a:pt x="11710" y="4"/>
                      <a:pt x="11711" y="3"/>
                      <a:pt x="11712" y="3"/>
                    </a:cubicBezTo>
                    <a:close/>
                    <a:moveTo>
                      <a:pt x="11720" y="3"/>
                    </a:moveTo>
                    <a:lnTo>
                      <a:pt x="11720" y="3"/>
                    </a:lnTo>
                    <a:cubicBezTo>
                      <a:pt x="11721" y="3"/>
                      <a:pt x="11722" y="4"/>
                      <a:pt x="11722" y="5"/>
                    </a:cubicBezTo>
                    <a:cubicBezTo>
                      <a:pt x="11722" y="6"/>
                      <a:pt x="11721" y="7"/>
                      <a:pt x="11720" y="7"/>
                    </a:cubicBezTo>
                    <a:lnTo>
                      <a:pt x="11720" y="7"/>
                    </a:lnTo>
                    <a:cubicBezTo>
                      <a:pt x="11719" y="7"/>
                      <a:pt x="11718" y="6"/>
                      <a:pt x="11718" y="5"/>
                    </a:cubicBezTo>
                    <a:cubicBezTo>
                      <a:pt x="11718" y="4"/>
                      <a:pt x="11719" y="3"/>
                      <a:pt x="11720" y="3"/>
                    </a:cubicBezTo>
                    <a:close/>
                    <a:moveTo>
                      <a:pt x="11728" y="3"/>
                    </a:moveTo>
                    <a:lnTo>
                      <a:pt x="11728" y="3"/>
                    </a:lnTo>
                    <a:cubicBezTo>
                      <a:pt x="11729" y="3"/>
                      <a:pt x="11730" y="4"/>
                      <a:pt x="11730" y="5"/>
                    </a:cubicBezTo>
                    <a:cubicBezTo>
                      <a:pt x="11730" y="6"/>
                      <a:pt x="11729" y="7"/>
                      <a:pt x="11728" y="7"/>
                    </a:cubicBezTo>
                    <a:lnTo>
                      <a:pt x="11728" y="7"/>
                    </a:lnTo>
                    <a:cubicBezTo>
                      <a:pt x="11727" y="7"/>
                      <a:pt x="11726" y="6"/>
                      <a:pt x="11726" y="5"/>
                    </a:cubicBezTo>
                    <a:cubicBezTo>
                      <a:pt x="11726" y="4"/>
                      <a:pt x="11727" y="3"/>
                      <a:pt x="11728" y="3"/>
                    </a:cubicBezTo>
                    <a:close/>
                    <a:moveTo>
                      <a:pt x="11736" y="3"/>
                    </a:moveTo>
                    <a:lnTo>
                      <a:pt x="11736" y="3"/>
                    </a:lnTo>
                    <a:cubicBezTo>
                      <a:pt x="11737" y="3"/>
                      <a:pt x="11738" y="4"/>
                      <a:pt x="11738" y="5"/>
                    </a:cubicBezTo>
                    <a:cubicBezTo>
                      <a:pt x="11738" y="6"/>
                      <a:pt x="11737" y="7"/>
                      <a:pt x="11736" y="7"/>
                    </a:cubicBezTo>
                    <a:lnTo>
                      <a:pt x="11736" y="7"/>
                    </a:lnTo>
                    <a:cubicBezTo>
                      <a:pt x="11735" y="7"/>
                      <a:pt x="11734" y="6"/>
                      <a:pt x="11734" y="5"/>
                    </a:cubicBezTo>
                    <a:cubicBezTo>
                      <a:pt x="11734" y="4"/>
                      <a:pt x="11735" y="3"/>
                      <a:pt x="11736" y="3"/>
                    </a:cubicBezTo>
                    <a:close/>
                    <a:moveTo>
                      <a:pt x="11744" y="3"/>
                    </a:moveTo>
                    <a:lnTo>
                      <a:pt x="11744" y="3"/>
                    </a:lnTo>
                    <a:cubicBezTo>
                      <a:pt x="11745" y="3"/>
                      <a:pt x="11746" y="4"/>
                      <a:pt x="11746" y="5"/>
                    </a:cubicBezTo>
                    <a:cubicBezTo>
                      <a:pt x="11746" y="6"/>
                      <a:pt x="11745" y="7"/>
                      <a:pt x="11744" y="7"/>
                    </a:cubicBezTo>
                    <a:lnTo>
                      <a:pt x="11744" y="7"/>
                    </a:lnTo>
                    <a:cubicBezTo>
                      <a:pt x="11743" y="7"/>
                      <a:pt x="11742" y="6"/>
                      <a:pt x="11742" y="5"/>
                    </a:cubicBezTo>
                    <a:cubicBezTo>
                      <a:pt x="11742" y="4"/>
                      <a:pt x="11743" y="3"/>
                      <a:pt x="11744" y="3"/>
                    </a:cubicBezTo>
                    <a:close/>
                    <a:moveTo>
                      <a:pt x="11752" y="3"/>
                    </a:moveTo>
                    <a:lnTo>
                      <a:pt x="11752" y="3"/>
                    </a:lnTo>
                    <a:cubicBezTo>
                      <a:pt x="11753" y="3"/>
                      <a:pt x="11754" y="4"/>
                      <a:pt x="11754" y="5"/>
                    </a:cubicBezTo>
                    <a:cubicBezTo>
                      <a:pt x="11754" y="6"/>
                      <a:pt x="11753" y="7"/>
                      <a:pt x="11752" y="7"/>
                    </a:cubicBezTo>
                    <a:lnTo>
                      <a:pt x="11752" y="7"/>
                    </a:lnTo>
                    <a:cubicBezTo>
                      <a:pt x="11751" y="7"/>
                      <a:pt x="11750" y="6"/>
                      <a:pt x="11750" y="5"/>
                    </a:cubicBezTo>
                    <a:cubicBezTo>
                      <a:pt x="11750" y="4"/>
                      <a:pt x="11751" y="3"/>
                      <a:pt x="11752" y="3"/>
                    </a:cubicBezTo>
                    <a:close/>
                    <a:moveTo>
                      <a:pt x="11760" y="3"/>
                    </a:moveTo>
                    <a:lnTo>
                      <a:pt x="11760" y="3"/>
                    </a:lnTo>
                    <a:cubicBezTo>
                      <a:pt x="11761" y="3"/>
                      <a:pt x="11762" y="4"/>
                      <a:pt x="11762" y="5"/>
                    </a:cubicBezTo>
                    <a:cubicBezTo>
                      <a:pt x="11762" y="6"/>
                      <a:pt x="11761" y="7"/>
                      <a:pt x="11760" y="7"/>
                    </a:cubicBezTo>
                    <a:lnTo>
                      <a:pt x="11760" y="7"/>
                    </a:lnTo>
                    <a:cubicBezTo>
                      <a:pt x="11759" y="7"/>
                      <a:pt x="11758" y="6"/>
                      <a:pt x="11758" y="5"/>
                    </a:cubicBezTo>
                    <a:cubicBezTo>
                      <a:pt x="11758" y="4"/>
                      <a:pt x="11759" y="3"/>
                      <a:pt x="11760" y="3"/>
                    </a:cubicBezTo>
                    <a:close/>
                    <a:moveTo>
                      <a:pt x="11768" y="3"/>
                    </a:moveTo>
                    <a:lnTo>
                      <a:pt x="11768" y="3"/>
                    </a:lnTo>
                    <a:cubicBezTo>
                      <a:pt x="11769" y="3"/>
                      <a:pt x="11770" y="4"/>
                      <a:pt x="11770" y="5"/>
                    </a:cubicBezTo>
                    <a:cubicBezTo>
                      <a:pt x="11770" y="6"/>
                      <a:pt x="11769" y="7"/>
                      <a:pt x="11768" y="7"/>
                    </a:cubicBezTo>
                    <a:lnTo>
                      <a:pt x="11768" y="7"/>
                    </a:lnTo>
                    <a:cubicBezTo>
                      <a:pt x="11767" y="7"/>
                      <a:pt x="11766" y="6"/>
                      <a:pt x="11766" y="5"/>
                    </a:cubicBezTo>
                    <a:cubicBezTo>
                      <a:pt x="11766" y="4"/>
                      <a:pt x="11767" y="3"/>
                      <a:pt x="11768" y="3"/>
                    </a:cubicBezTo>
                    <a:close/>
                    <a:moveTo>
                      <a:pt x="11776" y="3"/>
                    </a:moveTo>
                    <a:lnTo>
                      <a:pt x="11776" y="3"/>
                    </a:lnTo>
                    <a:cubicBezTo>
                      <a:pt x="11777" y="3"/>
                      <a:pt x="11778" y="4"/>
                      <a:pt x="11778" y="5"/>
                    </a:cubicBezTo>
                    <a:cubicBezTo>
                      <a:pt x="11778" y="6"/>
                      <a:pt x="11777" y="7"/>
                      <a:pt x="11776" y="7"/>
                    </a:cubicBezTo>
                    <a:lnTo>
                      <a:pt x="11776" y="7"/>
                    </a:lnTo>
                    <a:cubicBezTo>
                      <a:pt x="11775" y="7"/>
                      <a:pt x="11774" y="6"/>
                      <a:pt x="11774" y="5"/>
                    </a:cubicBezTo>
                    <a:cubicBezTo>
                      <a:pt x="11774" y="4"/>
                      <a:pt x="11775" y="3"/>
                      <a:pt x="11776" y="3"/>
                    </a:cubicBezTo>
                    <a:close/>
                    <a:moveTo>
                      <a:pt x="11784" y="3"/>
                    </a:moveTo>
                    <a:lnTo>
                      <a:pt x="11784" y="3"/>
                    </a:lnTo>
                    <a:cubicBezTo>
                      <a:pt x="11785" y="3"/>
                      <a:pt x="11786" y="4"/>
                      <a:pt x="11786" y="5"/>
                    </a:cubicBezTo>
                    <a:cubicBezTo>
                      <a:pt x="11786" y="6"/>
                      <a:pt x="11785" y="7"/>
                      <a:pt x="11784" y="7"/>
                    </a:cubicBezTo>
                    <a:lnTo>
                      <a:pt x="11784" y="7"/>
                    </a:lnTo>
                    <a:cubicBezTo>
                      <a:pt x="11783" y="7"/>
                      <a:pt x="11782" y="6"/>
                      <a:pt x="11782" y="5"/>
                    </a:cubicBezTo>
                    <a:cubicBezTo>
                      <a:pt x="11782" y="4"/>
                      <a:pt x="11783" y="3"/>
                      <a:pt x="11784" y="3"/>
                    </a:cubicBezTo>
                    <a:close/>
                    <a:moveTo>
                      <a:pt x="11792" y="3"/>
                    </a:moveTo>
                    <a:lnTo>
                      <a:pt x="11792" y="3"/>
                    </a:lnTo>
                    <a:cubicBezTo>
                      <a:pt x="11793" y="3"/>
                      <a:pt x="11794" y="4"/>
                      <a:pt x="11794" y="5"/>
                    </a:cubicBezTo>
                    <a:cubicBezTo>
                      <a:pt x="11794" y="6"/>
                      <a:pt x="11793" y="7"/>
                      <a:pt x="11792" y="7"/>
                    </a:cubicBezTo>
                    <a:lnTo>
                      <a:pt x="11792" y="7"/>
                    </a:lnTo>
                    <a:cubicBezTo>
                      <a:pt x="11791" y="7"/>
                      <a:pt x="11790" y="6"/>
                      <a:pt x="11790" y="5"/>
                    </a:cubicBezTo>
                    <a:cubicBezTo>
                      <a:pt x="11790" y="4"/>
                      <a:pt x="11791" y="3"/>
                      <a:pt x="11792" y="3"/>
                    </a:cubicBezTo>
                    <a:close/>
                    <a:moveTo>
                      <a:pt x="11800" y="3"/>
                    </a:moveTo>
                    <a:lnTo>
                      <a:pt x="11800" y="3"/>
                    </a:lnTo>
                    <a:cubicBezTo>
                      <a:pt x="11801" y="3"/>
                      <a:pt x="11802" y="4"/>
                      <a:pt x="11802" y="5"/>
                    </a:cubicBezTo>
                    <a:cubicBezTo>
                      <a:pt x="11802" y="6"/>
                      <a:pt x="11801" y="7"/>
                      <a:pt x="11800" y="7"/>
                    </a:cubicBezTo>
                    <a:lnTo>
                      <a:pt x="11800" y="7"/>
                    </a:lnTo>
                    <a:cubicBezTo>
                      <a:pt x="11799" y="7"/>
                      <a:pt x="11798" y="6"/>
                      <a:pt x="11798" y="5"/>
                    </a:cubicBezTo>
                    <a:cubicBezTo>
                      <a:pt x="11798" y="4"/>
                      <a:pt x="11799" y="3"/>
                      <a:pt x="11800" y="3"/>
                    </a:cubicBezTo>
                    <a:close/>
                    <a:moveTo>
                      <a:pt x="11808" y="3"/>
                    </a:moveTo>
                    <a:lnTo>
                      <a:pt x="11808" y="3"/>
                    </a:lnTo>
                    <a:cubicBezTo>
                      <a:pt x="11809" y="3"/>
                      <a:pt x="11810" y="4"/>
                      <a:pt x="11810" y="5"/>
                    </a:cubicBezTo>
                    <a:cubicBezTo>
                      <a:pt x="11810" y="6"/>
                      <a:pt x="11809" y="7"/>
                      <a:pt x="11808" y="7"/>
                    </a:cubicBezTo>
                    <a:lnTo>
                      <a:pt x="11808" y="7"/>
                    </a:lnTo>
                    <a:cubicBezTo>
                      <a:pt x="11807" y="7"/>
                      <a:pt x="11806" y="6"/>
                      <a:pt x="11806" y="5"/>
                    </a:cubicBezTo>
                    <a:cubicBezTo>
                      <a:pt x="11806" y="4"/>
                      <a:pt x="11807" y="3"/>
                      <a:pt x="11808" y="3"/>
                    </a:cubicBezTo>
                    <a:close/>
                    <a:moveTo>
                      <a:pt x="11816" y="3"/>
                    </a:moveTo>
                    <a:lnTo>
                      <a:pt x="11816" y="3"/>
                    </a:lnTo>
                    <a:cubicBezTo>
                      <a:pt x="11817" y="3"/>
                      <a:pt x="11818" y="4"/>
                      <a:pt x="11818" y="5"/>
                    </a:cubicBezTo>
                    <a:cubicBezTo>
                      <a:pt x="11818" y="6"/>
                      <a:pt x="11817" y="7"/>
                      <a:pt x="11816" y="7"/>
                    </a:cubicBezTo>
                    <a:lnTo>
                      <a:pt x="11816" y="7"/>
                    </a:lnTo>
                    <a:cubicBezTo>
                      <a:pt x="11815" y="7"/>
                      <a:pt x="11814" y="6"/>
                      <a:pt x="11814" y="5"/>
                    </a:cubicBezTo>
                    <a:cubicBezTo>
                      <a:pt x="11814" y="4"/>
                      <a:pt x="11815" y="3"/>
                      <a:pt x="11816" y="3"/>
                    </a:cubicBezTo>
                    <a:close/>
                    <a:moveTo>
                      <a:pt x="11824" y="3"/>
                    </a:moveTo>
                    <a:lnTo>
                      <a:pt x="11824" y="3"/>
                    </a:lnTo>
                    <a:cubicBezTo>
                      <a:pt x="11825" y="3"/>
                      <a:pt x="11826" y="4"/>
                      <a:pt x="11826" y="5"/>
                    </a:cubicBezTo>
                    <a:cubicBezTo>
                      <a:pt x="11826" y="6"/>
                      <a:pt x="11825" y="7"/>
                      <a:pt x="11824" y="7"/>
                    </a:cubicBezTo>
                    <a:lnTo>
                      <a:pt x="11824" y="7"/>
                    </a:lnTo>
                    <a:cubicBezTo>
                      <a:pt x="11823" y="7"/>
                      <a:pt x="11822" y="6"/>
                      <a:pt x="11822" y="5"/>
                    </a:cubicBezTo>
                    <a:cubicBezTo>
                      <a:pt x="11822" y="4"/>
                      <a:pt x="11823" y="3"/>
                      <a:pt x="11824" y="3"/>
                    </a:cubicBezTo>
                    <a:close/>
                    <a:moveTo>
                      <a:pt x="11832" y="3"/>
                    </a:moveTo>
                    <a:lnTo>
                      <a:pt x="11832" y="3"/>
                    </a:lnTo>
                    <a:cubicBezTo>
                      <a:pt x="11833" y="3"/>
                      <a:pt x="11834" y="4"/>
                      <a:pt x="11834" y="5"/>
                    </a:cubicBezTo>
                    <a:cubicBezTo>
                      <a:pt x="11834" y="6"/>
                      <a:pt x="11833" y="7"/>
                      <a:pt x="11832" y="7"/>
                    </a:cubicBezTo>
                    <a:lnTo>
                      <a:pt x="11832" y="7"/>
                    </a:lnTo>
                    <a:cubicBezTo>
                      <a:pt x="11831" y="7"/>
                      <a:pt x="11830" y="6"/>
                      <a:pt x="11830" y="5"/>
                    </a:cubicBezTo>
                    <a:cubicBezTo>
                      <a:pt x="11830" y="4"/>
                      <a:pt x="11831" y="3"/>
                      <a:pt x="11832" y="3"/>
                    </a:cubicBezTo>
                    <a:close/>
                    <a:moveTo>
                      <a:pt x="11840" y="3"/>
                    </a:moveTo>
                    <a:lnTo>
                      <a:pt x="11840" y="3"/>
                    </a:lnTo>
                    <a:cubicBezTo>
                      <a:pt x="11841" y="3"/>
                      <a:pt x="11842" y="4"/>
                      <a:pt x="11842" y="5"/>
                    </a:cubicBezTo>
                    <a:cubicBezTo>
                      <a:pt x="11842" y="6"/>
                      <a:pt x="11841" y="7"/>
                      <a:pt x="11840" y="7"/>
                    </a:cubicBezTo>
                    <a:lnTo>
                      <a:pt x="11840" y="7"/>
                    </a:lnTo>
                    <a:cubicBezTo>
                      <a:pt x="11839" y="7"/>
                      <a:pt x="11838" y="6"/>
                      <a:pt x="11838" y="5"/>
                    </a:cubicBezTo>
                    <a:cubicBezTo>
                      <a:pt x="11838" y="4"/>
                      <a:pt x="11839" y="3"/>
                      <a:pt x="11840" y="3"/>
                    </a:cubicBezTo>
                    <a:close/>
                    <a:moveTo>
                      <a:pt x="11848" y="3"/>
                    </a:moveTo>
                    <a:lnTo>
                      <a:pt x="11848" y="3"/>
                    </a:lnTo>
                    <a:cubicBezTo>
                      <a:pt x="11849" y="3"/>
                      <a:pt x="11850" y="4"/>
                      <a:pt x="11850" y="5"/>
                    </a:cubicBezTo>
                    <a:cubicBezTo>
                      <a:pt x="11850" y="6"/>
                      <a:pt x="11849" y="7"/>
                      <a:pt x="11848" y="7"/>
                    </a:cubicBezTo>
                    <a:lnTo>
                      <a:pt x="11848" y="7"/>
                    </a:lnTo>
                    <a:cubicBezTo>
                      <a:pt x="11847" y="7"/>
                      <a:pt x="11846" y="6"/>
                      <a:pt x="11846" y="5"/>
                    </a:cubicBezTo>
                    <a:cubicBezTo>
                      <a:pt x="11846" y="4"/>
                      <a:pt x="11847" y="3"/>
                      <a:pt x="11848" y="3"/>
                    </a:cubicBezTo>
                    <a:close/>
                    <a:moveTo>
                      <a:pt x="11856" y="3"/>
                    </a:moveTo>
                    <a:lnTo>
                      <a:pt x="11856" y="3"/>
                    </a:lnTo>
                    <a:cubicBezTo>
                      <a:pt x="11857" y="3"/>
                      <a:pt x="11858" y="4"/>
                      <a:pt x="11858" y="5"/>
                    </a:cubicBezTo>
                    <a:cubicBezTo>
                      <a:pt x="11858" y="6"/>
                      <a:pt x="11857" y="7"/>
                      <a:pt x="11856" y="7"/>
                    </a:cubicBezTo>
                    <a:lnTo>
                      <a:pt x="11856" y="7"/>
                    </a:lnTo>
                    <a:cubicBezTo>
                      <a:pt x="11855" y="7"/>
                      <a:pt x="11854" y="6"/>
                      <a:pt x="11854" y="5"/>
                    </a:cubicBezTo>
                    <a:cubicBezTo>
                      <a:pt x="11854" y="4"/>
                      <a:pt x="11855" y="3"/>
                      <a:pt x="11856" y="3"/>
                    </a:cubicBezTo>
                    <a:close/>
                    <a:moveTo>
                      <a:pt x="11864" y="3"/>
                    </a:moveTo>
                    <a:lnTo>
                      <a:pt x="11864" y="3"/>
                    </a:lnTo>
                    <a:cubicBezTo>
                      <a:pt x="11865" y="3"/>
                      <a:pt x="11866" y="4"/>
                      <a:pt x="11866" y="5"/>
                    </a:cubicBezTo>
                    <a:cubicBezTo>
                      <a:pt x="11866" y="6"/>
                      <a:pt x="11865" y="7"/>
                      <a:pt x="11864" y="7"/>
                    </a:cubicBezTo>
                    <a:lnTo>
                      <a:pt x="11864" y="7"/>
                    </a:lnTo>
                    <a:cubicBezTo>
                      <a:pt x="11863" y="7"/>
                      <a:pt x="11862" y="6"/>
                      <a:pt x="11862" y="5"/>
                    </a:cubicBezTo>
                    <a:cubicBezTo>
                      <a:pt x="11862" y="4"/>
                      <a:pt x="11863" y="3"/>
                      <a:pt x="11864" y="3"/>
                    </a:cubicBezTo>
                    <a:close/>
                    <a:moveTo>
                      <a:pt x="11872" y="3"/>
                    </a:moveTo>
                    <a:lnTo>
                      <a:pt x="11872" y="3"/>
                    </a:lnTo>
                    <a:cubicBezTo>
                      <a:pt x="11873" y="3"/>
                      <a:pt x="11874" y="4"/>
                      <a:pt x="11874" y="5"/>
                    </a:cubicBezTo>
                    <a:cubicBezTo>
                      <a:pt x="11874" y="6"/>
                      <a:pt x="11873" y="7"/>
                      <a:pt x="11872" y="7"/>
                    </a:cubicBezTo>
                    <a:lnTo>
                      <a:pt x="11872" y="7"/>
                    </a:lnTo>
                    <a:cubicBezTo>
                      <a:pt x="11871" y="7"/>
                      <a:pt x="11870" y="6"/>
                      <a:pt x="11870" y="5"/>
                    </a:cubicBezTo>
                    <a:cubicBezTo>
                      <a:pt x="11870" y="4"/>
                      <a:pt x="11871" y="3"/>
                      <a:pt x="11872" y="3"/>
                    </a:cubicBezTo>
                    <a:close/>
                    <a:moveTo>
                      <a:pt x="11880" y="3"/>
                    </a:moveTo>
                    <a:lnTo>
                      <a:pt x="11880" y="3"/>
                    </a:lnTo>
                    <a:cubicBezTo>
                      <a:pt x="11881" y="3"/>
                      <a:pt x="11882" y="4"/>
                      <a:pt x="11882" y="5"/>
                    </a:cubicBezTo>
                    <a:cubicBezTo>
                      <a:pt x="11882" y="6"/>
                      <a:pt x="11881" y="7"/>
                      <a:pt x="11880" y="7"/>
                    </a:cubicBezTo>
                    <a:lnTo>
                      <a:pt x="11880" y="7"/>
                    </a:lnTo>
                    <a:cubicBezTo>
                      <a:pt x="11879" y="7"/>
                      <a:pt x="11878" y="6"/>
                      <a:pt x="11878" y="5"/>
                    </a:cubicBezTo>
                    <a:cubicBezTo>
                      <a:pt x="11878" y="4"/>
                      <a:pt x="11879" y="3"/>
                      <a:pt x="11880" y="3"/>
                    </a:cubicBezTo>
                    <a:close/>
                    <a:moveTo>
                      <a:pt x="11888" y="3"/>
                    </a:moveTo>
                    <a:lnTo>
                      <a:pt x="11888" y="3"/>
                    </a:lnTo>
                    <a:cubicBezTo>
                      <a:pt x="11889" y="3"/>
                      <a:pt x="11890" y="4"/>
                      <a:pt x="11890" y="5"/>
                    </a:cubicBezTo>
                    <a:cubicBezTo>
                      <a:pt x="11890" y="6"/>
                      <a:pt x="11889" y="7"/>
                      <a:pt x="11888" y="7"/>
                    </a:cubicBezTo>
                    <a:lnTo>
                      <a:pt x="11888" y="7"/>
                    </a:lnTo>
                    <a:cubicBezTo>
                      <a:pt x="11887" y="7"/>
                      <a:pt x="11886" y="6"/>
                      <a:pt x="11886" y="5"/>
                    </a:cubicBezTo>
                    <a:cubicBezTo>
                      <a:pt x="11886" y="4"/>
                      <a:pt x="11887" y="3"/>
                      <a:pt x="11888" y="3"/>
                    </a:cubicBezTo>
                    <a:close/>
                    <a:moveTo>
                      <a:pt x="11896" y="3"/>
                    </a:moveTo>
                    <a:lnTo>
                      <a:pt x="11896" y="3"/>
                    </a:lnTo>
                    <a:cubicBezTo>
                      <a:pt x="11897" y="3"/>
                      <a:pt x="11898" y="4"/>
                      <a:pt x="11898" y="5"/>
                    </a:cubicBezTo>
                    <a:cubicBezTo>
                      <a:pt x="11898" y="6"/>
                      <a:pt x="11897" y="7"/>
                      <a:pt x="11896" y="7"/>
                    </a:cubicBezTo>
                    <a:lnTo>
                      <a:pt x="11896" y="7"/>
                    </a:lnTo>
                    <a:cubicBezTo>
                      <a:pt x="11895" y="7"/>
                      <a:pt x="11894" y="6"/>
                      <a:pt x="11894" y="5"/>
                    </a:cubicBezTo>
                    <a:cubicBezTo>
                      <a:pt x="11894" y="4"/>
                      <a:pt x="11895" y="3"/>
                      <a:pt x="11896" y="3"/>
                    </a:cubicBezTo>
                    <a:close/>
                    <a:moveTo>
                      <a:pt x="11904" y="3"/>
                    </a:moveTo>
                    <a:lnTo>
                      <a:pt x="11904" y="3"/>
                    </a:lnTo>
                    <a:cubicBezTo>
                      <a:pt x="11905" y="3"/>
                      <a:pt x="11906" y="4"/>
                      <a:pt x="11906" y="5"/>
                    </a:cubicBezTo>
                    <a:cubicBezTo>
                      <a:pt x="11906" y="6"/>
                      <a:pt x="11905" y="7"/>
                      <a:pt x="11904" y="7"/>
                    </a:cubicBezTo>
                    <a:lnTo>
                      <a:pt x="11904" y="7"/>
                    </a:lnTo>
                    <a:cubicBezTo>
                      <a:pt x="11903" y="7"/>
                      <a:pt x="11902" y="6"/>
                      <a:pt x="11902" y="5"/>
                    </a:cubicBezTo>
                    <a:cubicBezTo>
                      <a:pt x="11902" y="4"/>
                      <a:pt x="11903" y="3"/>
                      <a:pt x="11904" y="3"/>
                    </a:cubicBezTo>
                    <a:close/>
                    <a:moveTo>
                      <a:pt x="11912" y="3"/>
                    </a:moveTo>
                    <a:lnTo>
                      <a:pt x="11912" y="3"/>
                    </a:lnTo>
                    <a:cubicBezTo>
                      <a:pt x="11913" y="3"/>
                      <a:pt x="11914" y="4"/>
                      <a:pt x="11914" y="5"/>
                    </a:cubicBezTo>
                    <a:cubicBezTo>
                      <a:pt x="11914" y="6"/>
                      <a:pt x="11913" y="7"/>
                      <a:pt x="11912" y="7"/>
                    </a:cubicBezTo>
                    <a:lnTo>
                      <a:pt x="11912" y="7"/>
                    </a:lnTo>
                    <a:cubicBezTo>
                      <a:pt x="11911" y="7"/>
                      <a:pt x="11910" y="6"/>
                      <a:pt x="11910" y="5"/>
                    </a:cubicBezTo>
                    <a:cubicBezTo>
                      <a:pt x="11910" y="4"/>
                      <a:pt x="11911" y="3"/>
                      <a:pt x="11912" y="3"/>
                    </a:cubicBezTo>
                    <a:close/>
                    <a:moveTo>
                      <a:pt x="11920" y="3"/>
                    </a:moveTo>
                    <a:lnTo>
                      <a:pt x="11920" y="3"/>
                    </a:lnTo>
                    <a:cubicBezTo>
                      <a:pt x="11921" y="3"/>
                      <a:pt x="11922" y="4"/>
                      <a:pt x="11922" y="5"/>
                    </a:cubicBezTo>
                    <a:cubicBezTo>
                      <a:pt x="11922" y="6"/>
                      <a:pt x="11921" y="7"/>
                      <a:pt x="11920" y="7"/>
                    </a:cubicBezTo>
                    <a:lnTo>
                      <a:pt x="11920" y="7"/>
                    </a:lnTo>
                    <a:cubicBezTo>
                      <a:pt x="11919" y="7"/>
                      <a:pt x="11918" y="6"/>
                      <a:pt x="11918" y="5"/>
                    </a:cubicBezTo>
                    <a:cubicBezTo>
                      <a:pt x="11918" y="4"/>
                      <a:pt x="11919" y="3"/>
                      <a:pt x="11920" y="3"/>
                    </a:cubicBezTo>
                    <a:close/>
                    <a:moveTo>
                      <a:pt x="11928" y="3"/>
                    </a:moveTo>
                    <a:lnTo>
                      <a:pt x="11928" y="3"/>
                    </a:lnTo>
                    <a:cubicBezTo>
                      <a:pt x="11929" y="3"/>
                      <a:pt x="11930" y="4"/>
                      <a:pt x="11930" y="5"/>
                    </a:cubicBezTo>
                    <a:cubicBezTo>
                      <a:pt x="11930" y="6"/>
                      <a:pt x="11929" y="7"/>
                      <a:pt x="11928" y="7"/>
                    </a:cubicBezTo>
                    <a:lnTo>
                      <a:pt x="11928" y="7"/>
                    </a:lnTo>
                    <a:cubicBezTo>
                      <a:pt x="11927" y="7"/>
                      <a:pt x="11926" y="6"/>
                      <a:pt x="11926" y="5"/>
                    </a:cubicBezTo>
                    <a:cubicBezTo>
                      <a:pt x="11926" y="4"/>
                      <a:pt x="11927" y="3"/>
                      <a:pt x="11928" y="3"/>
                    </a:cubicBezTo>
                    <a:close/>
                    <a:moveTo>
                      <a:pt x="11936" y="3"/>
                    </a:moveTo>
                    <a:lnTo>
                      <a:pt x="11936" y="3"/>
                    </a:lnTo>
                    <a:cubicBezTo>
                      <a:pt x="11937" y="3"/>
                      <a:pt x="11938" y="4"/>
                      <a:pt x="11938" y="5"/>
                    </a:cubicBezTo>
                    <a:cubicBezTo>
                      <a:pt x="11938" y="6"/>
                      <a:pt x="11937" y="7"/>
                      <a:pt x="11936" y="7"/>
                    </a:cubicBezTo>
                    <a:lnTo>
                      <a:pt x="11936" y="7"/>
                    </a:lnTo>
                    <a:cubicBezTo>
                      <a:pt x="11935" y="7"/>
                      <a:pt x="11934" y="6"/>
                      <a:pt x="11934" y="5"/>
                    </a:cubicBezTo>
                    <a:cubicBezTo>
                      <a:pt x="11934" y="4"/>
                      <a:pt x="11935" y="3"/>
                      <a:pt x="11936" y="3"/>
                    </a:cubicBezTo>
                    <a:close/>
                    <a:moveTo>
                      <a:pt x="11944" y="3"/>
                    </a:moveTo>
                    <a:lnTo>
                      <a:pt x="11944" y="3"/>
                    </a:lnTo>
                    <a:cubicBezTo>
                      <a:pt x="11945" y="3"/>
                      <a:pt x="11946" y="4"/>
                      <a:pt x="11946" y="5"/>
                    </a:cubicBezTo>
                    <a:cubicBezTo>
                      <a:pt x="11946" y="6"/>
                      <a:pt x="11945" y="7"/>
                      <a:pt x="11944" y="7"/>
                    </a:cubicBezTo>
                    <a:lnTo>
                      <a:pt x="11944" y="7"/>
                    </a:lnTo>
                    <a:cubicBezTo>
                      <a:pt x="11943" y="7"/>
                      <a:pt x="11942" y="6"/>
                      <a:pt x="11942" y="5"/>
                    </a:cubicBezTo>
                    <a:cubicBezTo>
                      <a:pt x="11942" y="4"/>
                      <a:pt x="11943" y="3"/>
                      <a:pt x="11944" y="3"/>
                    </a:cubicBezTo>
                    <a:close/>
                    <a:moveTo>
                      <a:pt x="11952" y="3"/>
                    </a:moveTo>
                    <a:lnTo>
                      <a:pt x="11952" y="3"/>
                    </a:lnTo>
                    <a:cubicBezTo>
                      <a:pt x="11953" y="3"/>
                      <a:pt x="11954" y="4"/>
                      <a:pt x="11954" y="5"/>
                    </a:cubicBezTo>
                    <a:cubicBezTo>
                      <a:pt x="11954" y="6"/>
                      <a:pt x="11953" y="7"/>
                      <a:pt x="11952" y="7"/>
                    </a:cubicBezTo>
                    <a:lnTo>
                      <a:pt x="11952" y="7"/>
                    </a:lnTo>
                    <a:cubicBezTo>
                      <a:pt x="11951" y="7"/>
                      <a:pt x="11950" y="6"/>
                      <a:pt x="11950" y="5"/>
                    </a:cubicBezTo>
                    <a:cubicBezTo>
                      <a:pt x="11950" y="4"/>
                      <a:pt x="11951" y="3"/>
                      <a:pt x="11952" y="3"/>
                    </a:cubicBezTo>
                    <a:close/>
                    <a:moveTo>
                      <a:pt x="11960" y="3"/>
                    </a:moveTo>
                    <a:lnTo>
                      <a:pt x="11960" y="3"/>
                    </a:lnTo>
                    <a:cubicBezTo>
                      <a:pt x="11961" y="3"/>
                      <a:pt x="11962" y="4"/>
                      <a:pt x="11962" y="5"/>
                    </a:cubicBezTo>
                    <a:cubicBezTo>
                      <a:pt x="11962" y="6"/>
                      <a:pt x="11961" y="7"/>
                      <a:pt x="11960" y="7"/>
                    </a:cubicBezTo>
                    <a:lnTo>
                      <a:pt x="11960" y="7"/>
                    </a:lnTo>
                    <a:cubicBezTo>
                      <a:pt x="11959" y="7"/>
                      <a:pt x="11958" y="6"/>
                      <a:pt x="11958" y="5"/>
                    </a:cubicBezTo>
                    <a:cubicBezTo>
                      <a:pt x="11958" y="4"/>
                      <a:pt x="11959" y="3"/>
                      <a:pt x="11960" y="3"/>
                    </a:cubicBezTo>
                    <a:close/>
                    <a:moveTo>
                      <a:pt x="11968" y="3"/>
                    </a:moveTo>
                    <a:lnTo>
                      <a:pt x="11968" y="3"/>
                    </a:lnTo>
                    <a:cubicBezTo>
                      <a:pt x="11969" y="3"/>
                      <a:pt x="11970" y="4"/>
                      <a:pt x="11970" y="5"/>
                    </a:cubicBezTo>
                    <a:cubicBezTo>
                      <a:pt x="11970" y="6"/>
                      <a:pt x="11969" y="7"/>
                      <a:pt x="11968" y="7"/>
                    </a:cubicBezTo>
                    <a:lnTo>
                      <a:pt x="11968" y="7"/>
                    </a:lnTo>
                    <a:cubicBezTo>
                      <a:pt x="11967" y="7"/>
                      <a:pt x="11966" y="6"/>
                      <a:pt x="11966" y="5"/>
                    </a:cubicBezTo>
                    <a:cubicBezTo>
                      <a:pt x="11966" y="4"/>
                      <a:pt x="11967" y="3"/>
                      <a:pt x="11968" y="3"/>
                    </a:cubicBezTo>
                    <a:close/>
                    <a:moveTo>
                      <a:pt x="11976" y="3"/>
                    </a:moveTo>
                    <a:lnTo>
                      <a:pt x="11976" y="3"/>
                    </a:lnTo>
                    <a:cubicBezTo>
                      <a:pt x="11977" y="3"/>
                      <a:pt x="11978" y="4"/>
                      <a:pt x="11978" y="5"/>
                    </a:cubicBezTo>
                    <a:cubicBezTo>
                      <a:pt x="11978" y="6"/>
                      <a:pt x="11977" y="7"/>
                      <a:pt x="11976" y="7"/>
                    </a:cubicBezTo>
                    <a:lnTo>
                      <a:pt x="11976" y="7"/>
                    </a:lnTo>
                    <a:cubicBezTo>
                      <a:pt x="11975" y="7"/>
                      <a:pt x="11974" y="6"/>
                      <a:pt x="11974" y="5"/>
                    </a:cubicBezTo>
                    <a:cubicBezTo>
                      <a:pt x="11974" y="4"/>
                      <a:pt x="11975" y="3"/>
                      <a:pt x="11976" y="3"/>
                    </a:cubicBezTo>
                    <a:close/>
                    <a:moveTo>
                      <a:pt x="11984" y="3"/>
                    </a:moveTo>
                    <a:lnTo>
                      <a:pt x="11984" y="3"/>
                    </a:lnTo>
                    <a:cubicBezTo>
                      <a:pt x="11985" y="3"/>
                      <a:pt x="11986" y="4"/>
                      <a:pt x="11986" y="5"/>
                    </a:cubicBezTo>
                    <a:cubicBezTo>
                      <a:pt x="11986" y="6"/>
                      <a:pt x="11985" y="7"/>
                      <a:pt x="11984" y="7"/>
                    </a:cubicBezTo>
                    <a:lnTo>
                      <a:pt x="11984" y="7"/>
                    </a:lnTo>
                    <a:cubicBezTo>
                      <a:pt x="11983" y="7"/>
                      <a:pt x="11982" y="6"/>
                      <a:pt x="11982" y="5"/>
                    </a:cubicBezTo>
                    <a:cubicBezTo>
                      <a:pt x="11982" y="4"/>
                      <a:pt x="11983" y="3"/>
                      <a:pt x="11984" y="3"/>
                    </a:cubicBezTo>
                    <a:close/>
                    <a:moveTo>
                      <a:pt x="11992" y="3"/>
                    </a:moveTo>
                    <a:lnTo>
                      <a:pt x="11992" y="3"/>
                    </a:lnTo>
                    <a:cubicBezTo>
                      <a:pt x="11993" y="3"/>
                      <a:pt x="11994" y="4"/>
                      <a:pt x="11994" y="5"/>
                    </a:cubicBezTo>
                    <a:cubicBezTo>
                      <a:pt x="11994" y="6"/>
                      <a:pt x="11993" y="7"/>
                      <a:pt x="11992" y="7"/>
                    </a:cubicBezTo>
                    <a:lnTo>
                      <a:pt x="11992" y="7"/>
                    </a:lnTo>
                    <a:cubicBezTo>
                      <a:pt x="11991" y="7"/>
                      <a:pt x="11990" y="6"/>
                      <a:pt x="11990" y="5"/>
                    </a:cubicBezTo>
                    <a:cubicBezTo>
                      <a:pt x="11990" y="4"/>
                      <a:pt x="11991" y="3"/>
                      <a:pt x="11992" y="3"/>
                    </a:cubicBezTo>
                    <a:close/>
                    <a:moveTo>
                      <a:pt x="12000" y="3"/>
                    </a:moveTo>
                    <a:lnTo>
                      <a:pt x="12000" y="3"/>
                    </a:lnTo>
                    <a:cubicBezTo>
                      <a:pt x="12001" y="3"/>
                      <a:pt x="12002" y="4"/>
                      <a:pt x="12002" y="5"/>
                    </a:cubicBezTo>
                    <a:cubicBezTo>
                      <a:pt x="12002" y="6"/>
                      <a:pt x="12001" y="7"/>
                      <a:pt x="12000" y="7"/>
                    </a:cubicBezTo>
                    <a:lnTo>
                      <a:pt x="12000" y="7"/>
                    </a:lnTo>
                    <a:cubicBezTo>
                      <a:pt x="11999" y="7"/>
                      <a:pt x="11998" y="6"/>
                      <a:pt x="11998" y="5"/>
                    </a:cubicBezTo>
                    <a:cubicBezTo>
                      <a:pt x="11998" y="4"/>
                      <a:pt x="11999" y="3"/>
                      <a:pt x="12000" y="3"/>
                    </a:cubicBezTo>
                    <a:close/>
                    <a:moveTo>
                      <a:pt x="12008" y="3"/>
                    </a:moveTo>
                    <a:lnTo>
                      <a:pt x="12008" y="3"/>
                    </a:lnTo>
                    <a:cubicBezTo>
                      <a:pt x="12009" y="3"/>
                      <a:pt x="12010" y="4"/>
                      <a:pt x="12010" y="5"/>
                    </a:cubicBezTo>
                    <a:cubicBezTo>
                      <a:pt x="12010" y="6"/>
                      <a:pt x="12009" y="7"/>
                      <a:pt x="12008" y="7"/>
                    </a:cubicBezTo>
                    <a:lnTo>
                      <a:pt x="12008" y="7"/>
                    </a:lnTo>
                    <a:cubicBezTo>
                      <a:pt x="12007" y="7"/>
                      <a:pt x="12006" y="6"/>
                      <a:pt x="12006" y="5"/>
                    </a:cubicBezTo>
                    <a:cubicBezTo>
                      <a:pt x="12006" y="4"/>
                      <a:pt x="12007" y="3"/>
                      <a:pt x="12008" y="3"/>
                    </a:cubicBezTo>
                    <a:close/>
                    <a:moveTo>
                      <a:pt x="12016" y="3"/>
                    </a:moveTo>
                    <a:lnTo>
                      <a:pt x="12016" y="3"/>
                    </a:lnTo>
                    <a:cubicBezTo>
                      <a:pt x="12017" y="3"/>
                      <a:pt x="12018" y="4"/>
                      <a:pt x="12018" y="5"/>
                    </a:cubicBezTo>
                    <a:cubicBezTo>
                      <a:pt x="12018" y="6"/>
                      <a:pt x="12017" y="7"/>
                      <a:pt x="12016" y="7"/>
                    </a:cubicBezTo>
                    <a:lnTo>
                      <a:pt x="12016" y="7"/>
                    </a:lnTo>
                    <a:cubicBezTo>
                      <a:pt x="12015" y="7"/>
                      <a:pt x="12014" y="6"/>
                      <a:pt x="12014" y="5"/>
                    </a:cubicBezTo>
                    <a:cubicBezTo>
                      <a:pt x="12014" y="4"/>
                      <a:pt x="12015" y="3"/>
                      <a:pt x="12016" y="3"/>
                    </a:cubicBezTo>
                    <a:close/>
                    <a:moveTo>
                      <a:pt x="12024" y="3"/>
                    </a:moveTo>
                    <a:lnTo>
                      <a:pt x="12024" y="3"/>
                    </a:lnTo>
                    <a:cubicBezTo>
                      <a:pt x="12025" y="3"/>
                      <a:pt x="12026" y="4"/>
                      <a:pt x="12026" y="5"/>
                    </a:cubicBezTo>
                    <a:cubicBezTo>
                      <a:pt x="12026" y="6"/>
                      <a:pt x="12025" y="7"/>
                      <a:pt x="12024" y="7"/>
                    </a:cubicBezTo>
                    <a:lnTo>
                      <a:pt x="12024" y="7"/>
                    </a:lnTo>
                    <a:cubicBezTo>
                      <a:pt x="12023" y="7"/>
                      <a:pt x="12022" y="6"/>
                      <a:pt x="12022" y="5"/>
                    </a:cubicBezTo>
                    <a:cubicBezTo>
                      <a:pt x="12022" y="4"/>
                      <a:pt x="12023" y="3"/>
                      <a:pt x="12024" y="3"/>
                    </a:cubicBezTo>
                    <a:close/>
                    <a:moveTo>
                      <a:pt x="12032" y="3"/>
                    </a:moveTo>
                    <a:lnTo>
                      <a:pt x="12032" y="3"/>
                    </a:lnTo>
                    <a:cubicBezTo>
                      <a:pt x="12033" y="3"/>
                      <a:pt x="12034" y="4"/>
                      <a:pt x="12034" y="5"/>
                    </a:cubicBezTo>
                    <a:cubicBezTo>
                      <a:pt x="12034" y="6"/>
                      <a:pt x="12033" y="7"/>
                      <a:pt x="12032" y="7"/>
                    </a:cubicBezTo>
                    <a:lnTo>
                      <a:pt x="12032" y="7"/>
                    </a:lnTo>
                    <a:cubicBezTo>
                      <a:pt x="12031" y="7"/>
                      <a:pt x="12030" y="6"/>
                      <a:pt x="12030" y="5"/>
                    </a:cubicBezTo>
                    <a:cubicBezTo>
                      <a:pt x="12030" y="4"/>
                      <a:pt x="12031" y="3"/>
                      <a:pt x="12032" y="3"/>
                    </a:cubicBezTo>
                    <a:close/>
                    <a:moveTo>
                      <a:pt x="12040" y="3"/>
                    </a:moveTo>
                    <a:lnTo>
                      <a:pt x="12040" y="3"/>
                    </a:lnTo>
                    <a:cubicBezTo>
                      <a:pt x="12041" y="3"/>
                      <a:pt x="12042" y="4"/>
                      <a:pt x="12042" y="5"/>
                    </a:cubicBezTo>
                    <a:cubicBezTo>
                      <a:pt x="12042" y="6"/>
                      <a:pt x="12041" y="7"/>
                      <a:pt x="12040" y="7"/>
                    </a:cubicBezTo>
                    <a:lnTo>
                      <a:pt x="12040" y="7"/>
                    </a:lnTo>
                    <a:cubicBezTo>
                      <a:pt x="12039" y="7"/>
                      <a:pt x="12038" y="6"/>
                      <a:pt x="12038" y="5"/>
                    </a:cubicBezTo>
                    <a:cubicBezTo>
                      <a:pt x="12038" y="4"/>
                      <a:pt x="12039" y="3"/>
                      <a:pt x="12040" y="3"/>
                    </a:cubicBezTo>
                    <a:close/>
                    <a:moveTo>
                      <a:pt x="12048" y="3"/>
                    </a:moveTo>
                    <a:lnTo>
                      <a:pt x="12048" y="3"/>
                    </a:lnTo>
                    <a:cubicBezTo>
                      <a:pt x="12049" y="3"/>
                      <a:pt x="12050" y="4"/>
                      <a:pt x="12050" y="5"/>
                    </a:cubicBezTo>
                    <a:cubicBezTo>
                      <a:pt x="12050" y="6"/>
                      <a:pt x="12049" y="7"/>
                      <a:pt x="12048" y="7"/>
                    </a:cubicBezTo>
                    <a:lnTo>
                      <a:pt x="12048" y="7"/>
                    </a:lnTo>
                    <a:cubicBezTo>
                      <a:pt x="12047" y="7"/>
                      <a:pt x="12046" y="6"/>
                      <a:pt x="12046" y="5"/>
                    </a:cubicBezTo>
                    <a:cubicBezTo>
                      <a:pt x="12046" y="4"/>
                      <a:pt x="12047" y="3"/>
                      <a:pt x="12048" y="3"/>
                    </a:cubicBezTo>
                    <a:close/>
                    <a:moveTo>
                      <a:pt x="12056" y="3"/>
                    </a:moveTo>
                    <a:lnTo>
                      <a:pt x="12056" y="3"/>
                    </a:lnTo>
                    <a:cubicBezTo>
                      <a:pt x="12057" y="3"/>
                      <a:pt x="12058" y="4"/>
                      <a:pt x="12058" y="5"/>
                    </a:cubicBezTo>
                    <a:cubicBezTo>
                      <a:pt x="12058" y="6"/>
                      <a:pt x="12057" y="7"/>
                      <a:pt x="12056" y="7"/>
                    </a:cubicBezTo>
                    <a:lnTo>
                      <a:pt x="12056" y="7"/>
                    </a:lnTo>
                    <a:cubicBezTo>
                      <a:pt x="12055" y="7"/>
                      <a:pt x="12054" y="6"/>
                      <a:pt x="12054" y="5"/>
                    </a:cubicBezTo>
                    <a:cubicBezTo>
                      <a:pt x="12054" y="4"/>
                      <a:pt x="12055" y="3"/>
                      <a:pt x="12056" y="3"/>
                    </a:cubicBezTo>
                    <a:close/>
                    <a:moveTo>
                      <a:pt x="12064" y="3"/>
                    </a:moveTo>
                    <a:lnTo>
                      <a:pt x="12064" y="3"/>
                    </a:lnTo>
                    <a:cubicBezTo>
                      <a:pt x="12065" y="3"/>
                      <a:pt x="12066" y="4"/>
                      <a:pt x="12066" y="5"/>
                    </a:cubicBezTo>
                    <a:cubicBezTo>
                      <a:pt x="12066" y="6"/>
                      <a:pt x="12065" y="7"/>
                      <a:pt x="12064" y="7"/>
                    </a:cubicBezTo>
                    <a:lnTo>
                      <a:pt x="12064" y="7"/>
                    </a:lnTo>
                    <a:cubicBezTo>
                      <a:pt x="12063" y="7"/>
                      <a:pt x="12062" y="6"/>
                      <a:pt x="12062" y="5"/>
                    </a:cubicBezTo>
                    <a:cubicBezTo>
                      <a:pt x="12062" y="4"/>
                      <a:pt x="12063" y="3"/>
                      <a:pt x="12064" y="3"/>
                    </a:cubicBezTo>
                    <a:close/>
                    <a:moveTo>
                      <a:pt x="12072" y="3"/>
                    </a:moveTo>
                    <a:lnTo>
                      <a:pt x="12072" y="3"/>
                    </a:lnTo>
                    <a:cubicBezTo>
                      <a:pt x="12073" y="3"/>
                      <a:pt x="12074" y="4"/>
                      <a:pt x="12074" y="5"/>
                    </a:cubicBezTo>
                    <a:cubicBezTo>
                      <a:pt x="12074" y="6"/>
                      <a:pt x="12073" y="7"/>
                      <a:pt x="12072" y="7"/>
                    </a:cubicBezTo>
                    <a:lnTo>
                      <a:pt x="12072" y="7"/>
                    </a:lnTo>
                    <a:cubicBezTo>
                      <a:pt x="12071" y="7"/>
                      <a:pt x="12070" y="6"/>
                      <a:pt x="12070" y="5"/>
                    </a:cubicBezTo>
                    <a:cubicBezTo>
                      <a:pt x="12070" y="4"/>
                      <a:pt x="12071" y="3"/>
                      <a:pt x="12072" y="3"/>
                    </a:cubicBezTo>
                    <a:close/>
                    <a:moveTo>
                      <a:pt x="12080" y="3"/>
                    </a:moveTo>
                    <a:lnTo>
                      <a:pt x="12080" y="3"/>
                    </a:lnTo>
                    <a:cubicBezTo>
                      <a:pt x="12081" y="3"/>
                      <a:pt x="12082" y="4"/>
                      <a:pt x="12082" y="5"/>
                    </a:cubicBezTo>
                    <a:cubicBezTo>
                      <a:pt x="12082" y="6"/>
                      <a:pt x="12081" y="7"/>
                      <a:pt x="12080" y="7"/>
                    </a:cubicBezTo>
                    <a:lnTo>
                      <a:pt x="12080" y="7"/>
                    </a:lnTo>
                    <a:cubicBezTo>
                      <a:pt x="12079" y="7"/>
                      <a:pt x="12078" y="6"/>
                      <a:pt x="12078" y="5"/>
                    </a:cubicBezTo>
                    <a:cubicBezTo>
                      <a:pt x="12078" y="4"/>
                      <a:pt x="12079" y="3"/>
                      <a:pt x="12080" y="3"/>
                    </a:cubicBezTo>
                    <a:close/>
                    <a:moveTo>
                      <a:pt x="12088" y="3"/>
                    </a:moveTo>
                    <a:lnTo>
                      <a:pt x="12088" y="3"/>
                    </a:lnTo>
                    <a:cubicBezTo>
                      <a:pt x="12089" y="3"/>
                      <a:pt x="12090" y="4"/>
                      <a:pt x="12090" y="5"/>
                    </a:cubicBezTo>
                    <a:cubicBezTo>
                      <a:pt x="12090" y="6"/>
                      <a:pt x="12089" y="7"/>
                      <a:pt x="12088" y="7"/>
                    </a:cubicBezTo>
                    <a:lnTo>
                      <a:pt x="12088" y="7"/>
                    </a:lnTo>
                    <a:cubicBezTo>
                      <a:pt x="12087" y="7"/>
                      <a:pt x="12086" y="6"/>
                      <a:pt x="12086" y="5"/>
                    </a:cubicBezTo>
                    <a:cubicBezTo>
                      <a:pt x="12086" y="4"/>
                      <a:pt x="12087" y="3"/>
                      <a:pt x="12088" y="3"/>
                    </a:cubicBezTo>
                    <a:close/>
                    <a:moveTo>
                      <a:pt x="12096" y="3"/>
                    </a:moveTo>
                    <a:lnTo>
                      <a:pt x="12096" y="3"/>
                    </a:lnTo>
                    <a:cubicBezTo>
                      <a:pt x="12097" y="3"/>
                      <a:pt x="12098" y="4"/>
                      <a:pt x="12098" y="5"/>
                    </a:cubicBezTo>
                    <a:cubicBezTo>
                      <a:pt x="12098" y="6"/>
                      <a:pt x="12097" y="7"/>
                      <a:pt x="12096" y="7"/>
                    </a:cubicBezTo>
                    <a:lnTo>
                      <a:pt x="12096" y="7"/>
                    </a:lnTo>
                    <a:cubicBezTo>
                      <a:pt x="12095" y="7"/>
                      <a:pt x="12094" y="6"/>
                      <a:pt x="12094" y="5"/>
                    </a:cubicBezTo>
                    <a:cubicBezTo>
                      <a:pt x="12094" y="4"/>
                      <a:pt x="12095" y="3"/>
                      <a:pt x="12096" y="3"/>
                    </a:cubicBezTo>
                    <a:close/>
                    <a:moveTo>
                      <a:pt x="12104" y="3"/>
                    </a:moveTo>
                    <a:lnTo>
                      <a:pt x="12104" y="3"/>
                    </a:lnTo>
                    <a:cubicBezTo>
                      <a:pt x="12105" y="3"/>
                      <a:pt x="12106" y="4"/>
                      <a:pt x="12106" y="5"/>
                    </a:cubicBezTo>
                    <a:cubicBezTo>
                      <a:pt x="12106" y="6"/>
                      <a:pt x="12105" y="7"/>
                      <a:pt x="12104" y="7"/>
                    </a:cubicBezTo>
                    <a:lnTo>
                      <a:pt x="12104" y="7"/>
                    </a:lnTo>
                    <a:cubicBezTo>
                      <a:pt x="12103" y="7"/>
                      <a:pt x="12102" y="6"/>
                      <a:pt x="12102" y="5"/>
                    </a:cubicBezTo>
                    <a:cubicBezTo>
                      <a:pt x="12102" y="4"/>
                      <a:pt x="12103" y="3"/>
                      <a:pt x="12104" y="3"/>
                    </a:cubicBezTo>
                    <a:close/>
                    <a:moveTo>
                      <a:pt x="12112" y="3"/>
                    </a:moveTo>
                    <a:lnTo>
                      <a:pt x="12112" y="3"/>
                    </a:lnTo>
                    <a:cubicBezTo>
                      <a:pt x="12113" y="3"/>
                      <a:pt x="12114" y="4"/>
                      <a:pt x="12114" y="5"/>
                    </a:cubicBezTo>
                    <a:cubicBezTo>
                      <a:pt x="12114" y="6"/>
                      <a:pt x="12113" y="7"/>
                      <a:pt x="12112" y="7"/>
                    </a:cubicBezTo>
                    <a:lnTo>
                      <a:pt x="12112" y="7"/>
                    </a:lnTo>
                    <a:cubicBezTo>
                      <a:pt x="12111" y="7"/>
                      <a:pt x="12110" y="6"/>
                      <a:pt x="12110" y="5"/>
                    </a:cubicBezTo>
                    <a:cubicBezTo>
                      <a:pt x="12110" y="4"/>
                      <a:pt x="12111" y="3"/>
                      <a:pt x="12112" y="3"/>
                    </a:cubicBezTo>
                    <a:close/>
                    <a:moveTo>
                      <a:pt x="12120" y="3"/>
                    </a:moveTo>
                    <a:lnTo>
                      <a:pt x="12120" y="3"/>
                    </a:lnTo>
                    <a:cubicBezTo>
                      <a:pt x="12121" y="3"/>
                      <a:pt x="12122" y="4"/>
                      <a:pt x="12122" y="5"/>
                    </a:cubicBezTo>
                    <a:cubicBezTo>
                      <a:pt x="12122" y="6"/>
                      <a:pt x="12121" y="7"/>
                      <a:pt x="12120" y="7"/>
                    </a:cubicBezTo>
                    <a:lnTo>
                      <a:pt x="12120" y="7"/>
                    </a:lnTo>
                    <a:cubicBezTo>
                      <a:pt x="12119" y="7"/>
                      <a:pt x="12118" y="6"/>
                      <a:pt x="12118" y="5"/>
                    </a:cubicBezTo>
                    <a:cubicBezTo>
                      <a:pt x="12118" y="4"/>
                      <a:pt x="12119" y="3"/>
                      <a:pt x="12120" y="3"/>
                    </a:cubicBezTo>
                    <a:close/>
                    <a:moveTo>
                      <a:pt x="12128" y="3"/>
                    </a:moveTo>
                    <a:lnTo>
                      <a:pt x="12128" y="3"/>
                    </a:lnTo>
                    <a:cubicBezTo>
                      <a:pt x="12129" y="3"/>
                      <a:pt x="12130" y="4"/>
                      <a:pt x="12130" y="5"/>
                    </a:cubicBezTo>
                    <a:cubicBezTo>
                      <a:pt x="12130" y="6"/>
                      <a:pt x="12129" y="7"/>
                      <a:pt x="12128" y="7"/>
                    </a:cubicBezTo>
                    <a:lnTo>
                      <a:pt x="12128" y="7"/>
                    </a:lnTo>
                    <a:cubicBezTo>
                      <a:pt x="12127" y="7"/>
                      <a:pt x="12126" y="6"/>
                      <a:pt x="12126" y="5"/>
                    </a:cubicBezTo>
                    <a:cubicBezTo>
                      <a:pt x="12126" y="4"/>
                      <a:pt x="12127" y="3"/>
                      <a:pt x="12128" y="3"/>
                    </a:cubicBezTo>
                    <a:close/>
                    <a:moveTo>
                      <a:pt x="12136" y="3"/>
                    </a:moveTo>
                    <a:lnTo>
                      <a:pt x="12136" y="3"/>
                    </a:lnTo>
                    <a:cubicBezTo>
                      <a:pt x="12137" y="3"/>
                      <a:pt x="12138" y="4"/>
                      <a:pt x="12138" y="5"/>
                    </a:cubicBezTo>
                    <a:cubicBezTo>
                      <a:pt x="12138" y="6"/>
                      <a:pt x="12137" y="7"/>
                      <a:pt x="12136" y="7"/>
                    </a:cubicBezTo>
                    <a:lnTo>
                      <a:pt x="12136" y="7"/>
                    </a:lnTo>
                    <a:cubicBezTo>
                      <a:pt x="12135" y="7"/>
                      <a:pt x="12134" y="6"/>
                      <a:pt x="12134" y="5"/>
                    </a:cubicBezTo>
                    <a:cubicBezTo>
                      <a:pt x="12134" y="4"/>
                      <a:pt x="12135" y="3"/>
                      <a:pt x="12136" y="3"/>
                    </a:cubicBezTo>
                    <a:close/>
                    <a:moveTo>
                      <a:pt x="12144" y="3"/>
                    </a:moveTo>
                    <a:lnTo>
                      <a:pt x="12144" y="3"/>
                    </a:lnTo>
                    <a:cubicBezTo>
                      <a:pt x="12145" y="3"/>
                      <a:pt x="12146" y="4"/>
                      <a:pt x="12146" y="5"/>
                    </a:cubicBezTo>
                    <a:cubicBezTo>
                      <a:pt x="12146" y="6"/>
                      <a:pt x="12145" y="7"/>
                      <a:pt x="12144" y="7"/>
                    </a:cubicBezTo>
                    <a:lnTo>
                      <a:pt x="12144" y="7"/>
                    </a:lnTo>
                    <a:cubicBezTo>
                      <a:pt x="12143" y="7"/>
                      <a:pt x="12142" y="6"/>
                      <a:pt x="12142" y="5"/>
                    </a:cubicBezTo>
                    <a:cubicBezTo>
                      <a:pt x="12142" y="4"/>
                      <a:pt x="12143" y="3"/>
                      <a:pt x="12144" y="3"/>
                    </a:cubicBezTo>
                    <a:close/>
                    <a:moveTo>
                      <a:pt x="12152" y="3"/>
                    </a:moveTo>
                    <a:lnTo>
                      <a:pt x="12152" y="3"/>
                    </a:lnTo>
                    <a:cubicBezTo>
                      <a:pt x="12153" y="3"/>
                      <a:pt x="12154" y="4"/>
                      <a:pt x="12154" y="5"/>
                    </a:cubicBezTo>
                    <a:cubicBezTo>
                      <a:pt x="12154" y="6"/>
                      <a:pt x="12153" y="7"/>
                      <a:pt x="12152" y="7"/>
                    </a:cubicBezTo>
                    <a:lnTo>
                      <a:pt x="12152" y="7"/>
                    </a:lnTo>
                    <a:cubicBezTo>
                      <a:pt x="12151" y="7"/>
                      <a:pt x="12150" y="6"/>
                      <a:pt x="12150" y="5"/>
                    </a:cubicBezTo>
                    <a:cubicBezTo>
                      <a:pt x="12150" y="4"/>
                      <a:pt x="12151" y="3"/>
                      <a:pt x="12152" y="3"/>
                    </a:cubicBezTo>
                    <a:close/>
                    <a:moveTo>
                      <a:pt x="12160" y="3"/>
                    </a:moveTo>
                    <a:lnTo>
                      <a:pt x="12160" y="3"/>
                    </a:lnTo>
                    <a:cubicBezTo>
                      <a:pt x="12161" y="3"/>
                      <a:pt x="12162" y="4"/>
                      <a:pt x="12162" y="5"/>
                    </a:cubicBezTo>
                    <a:cubicBezTo>
                      <a:pt x="12162" y="6"/>
                      <a:pt x="12161" y="7"/>
                      <a:pt x="12160" y="7"/>
                    </a:cubicBezTo>
                    <a:lnTo>
                      <a:pt x="12160" y="7"/>
                    </a:lnTo>
                    <a:cubicBezTo>
                      <a:pt x="12159" y="7"/>
                      <a:pt x="12158" y="6"/>
                      <a:pt x="12158" y="5"/>
                    </a:cubicBezTo>
                    <a:cubicBezTo>
                      <a:pt x="12158" y="4"/>
                      <a:pt x="12159" y="3"/>
                      <a:pt x="12160" y="3"/>
                    </a:cubicBezTo>
                    <a:close/>
                    <a:moveTo>
                      <a:pt x="12168" y="3"/>
                    </a:moveTo>
                    <a:lnTo>
                      <a:pt x="12168" y="3"/>
                    </a:lnTo>
                    <a:cubicBezTo>
                      <a:pt x="12169" y="3"/>
                      <a:pt x="12170" y="4"/>
                      <a:pt x="12170" y="5"/>
                    </a:cubicBezTo>
                    <a:cubicBezTo>
                      <a:pt x="12170" y="6"/>
                      <a:pt x="12169" y="7"/>
                      <a:pt x="12168" y="7"/>
                    </a:cubicBezTo>
                    <a:lnTo>
                      <a:pt x="12168" y="7"/>
                    </a:lnTo>
                    <a:cubicBezTo>
                      <a:pt x="12167" y="7"/>
                      <a:pt x="12166" y="6"/>
                      <a:pt x="12166" y="5"/>
                    </a:cubicBezTo>
                    <a:cubicBezTo>
                      <a:pt x="12166" y="4"/>
                      <a:pt x="12167" y="3"/>
                      <a:pt x="12168" y="3"/>
                    </a:cubicBezTo>
                    <a:close/>
                    <a:moveTo>
                      <a:pt x="12176" y="3"/>
                    </a:moveTo>
                    <a:lnTo>
                      <a:pt x="12176" y="3"/>
                    </a:lnTo>
                    <a:cubicBezTo>
                      <a:pt x="12177" y="3"/>
                      <a:pt x="12178" y="4"/>
                      <a:pt x="12178" y="5"/>
                    </a:cubicBezTo>
                    <a:cubicBezTo>
                      <a:pt x="12178" y="6"/>
                      <a:pt x="12177" y="7"/>
                      <a:pt x="12176" y="7"/>
                    </a:cubicBezTo>
                    <a:lnTo>
                      <a:pt x="12176" y="7"/>
                    </a:lnTo>
                    <a:cubicBezTo>
                      <a:pt x="12175" y="7"/>
                      <a:pt x="12174" y="6"/>
                      <a:pt x="12174" y="5"/>
                    </a:cubicBezTo>
                    <a:cubicBezTo>
                      <a:pt x="12174" y="4"/>
                      <a:pt x="12175" y="3"/>
                      <a:pt x="12176" y="3"/>
                    </a:cubicBezTo>
                    <a:close/>
                    <a:moveTo>
                      <a:pt x="12184" y="3"/>
                    </a:moveTo>
                    <a:lnTo>
                      <a:pt x="12184" y="3"/>
                    </a:lnTo>
                    <a:cubicBezTo>
                      <a:pt x="12185" y="3"/>
                      <a:pt x="12186" y="4"/>
                      <a:pt x="12186" y="5"/>
                    </a:cubicBezTo>
                    <a:cubicBezTo>
                      <a:pt x="12186" y="6"/>
                      <a:pt x="12185" y="7"/>
                      <a:pt x="12184" y="7"/>
                    </a:cubicBezTo>
                    <a:lnTo>
                      <a:pt x="12184" y="7"/>
                    </a:lnTo>
                    <a:cubicBezTo>
                      <a:pt x="12183" y="7"/>
                      <a:pt x="12182" y="6"/>
                      <a:pt x="12182" y="5"/>
                    </a:cubicBezTo>
                    <a:cubicBezTo>
                      <a:pt x="12182" y="4"/>
                      <a:pt x="12183" y="3"/>
                      <a:pt x="12184" y="3"/>
                    </a:cubicBezTo>
                    <a:close/>
                    <a:moveTo>
                      <a:pt x="12192" y="3"/>
                    </a:moveTo>
                    <a:lnTo>
                      <a:pt x="12192" y="3"/>
                    </a:lnTo>
                    <a:cubicBezTo>
                      <a:pt x="12193" y="3"/>
                      <a:pt x="12194" y="4"/>
                      <a:pt x="12194" y="5"/>
                    </a:cubicBezTo>
                    <a:cubicBezTo>
                      <a:pt x="12194" y="6"/>
                      <a:pt x="12193" y="7"/>
                      <a:pt x="12192" y="7"/>
                    </a:cubicBezTo>
                    <a:lnTo>
                      <a:pt x="12192" y="7"/>
                    </a:lnTo>
                    <a:cubicBezTo>
                      <a:pt x="12191" y="7"/>
                      <a:pt x="12190" y="6"/>
                      <a:pt x="12190" y="5"/>
                    </a:cubicBezTo>
                    <a:cubicBezTo>
                      <a:pt x="12190" y="4"/>
                      <a:pt x="12191" y="3"/>
                      <a:pt x="12192" y="3"/>
                    </a:cubicBezTo>
                    <a:close/>
                    <a:moveTo>
                      <a:pt x="12200" y="3"/>
                    </a:moveTo>
                    <a:lnTo>
                      <a:pt x="12200" y="3"/>
                    </a:lnTo>
                    <a:cubicBezTo>
                      <a:pt x="12201" y="3"/>
                      <a:pt x="12202" y="4"/>
                      <a:pt x="12202" y="5"/>
                    </a:cubicBezTo>
                    <a:cubicBezTo>
                      <a:pt x="12202" y="6"/>
                      <a:pt x="12201" y="7"/>
                      <a:pt x="12200" y="7"/>
                    </a:cubicBezTo>
                    <a:lnTo>
                      <a:pt x="12200" y="7"/>
                    </a:lnTo>
                    <a:cubicBezTo>
                      <a:pt x="12199" y="7"/>
                      <a:pt x="12198" y="6"/>
                      <a:pt x="12198" y="5"/>
                    </a:cubicBezTo>
                    <a:cubicBezTo>
                      <a:pt x="12198" y="4"/>
                      <a:pt x="12199" y="3"/>
                      <a:pt x="12200" y="3"/>
                    </a:cubicBezTo>
                    <a:close/>
                    <a:moveTo>
                      <a:pt x="12208" y="3"/>
                    </a:moveTo>
                    <a:lnTo>
                      <a:pt x="12208" y="3"/>
                    </a:lnTo>
                    <a:cubicBezTo>
                      <a:pt x="12209" y="3"/>
                      <a:pt x="12210" y="4"/>
                      <a:pt x="12210" y="5"/>
                    </a:cubicBezTo>
                    <a:cubicBezTo>
                      <a:pt x="12210" y="6"/>
                      <a:pt x="12209" y="7"/>
                      <a:pt x="12208" y="7"/>
                    </a:cubicBezTo>
                    <a:lnTo>
                      <a:pt x="12208" y="7"/>
                    </a:lnTo>
                    <a:cubicBezTo>
                      <a:pt x="12207" y="7"/>
                      <a:pt x="12206" y="6"/>
                      <a:pt x="12206" y="5"/>
                    </a:cubicBezTo>
                    <a:cubicBezTo>
                      <a:pt x="12206" y="4"/>
                      <a:pt x="12207" y="3"/>
                      <a:pt x="12208" y="3"/>
                    </a:cubicBezTo>
                    <a:close/>
                    <a:moveTo>
                      <a:pt x="12216" y="3"/>
                    </a:moveTo>
                    <a:lnTo>
                      <a:pt x="12216" y="3"/>
                    </a:lnTo>
                    <a:cubicBezTo>
                      <a:pt x="12217" y="3"/>
                      <a:pt x="12218" y="4"/>
                      <a:pt x="12218" y="5"/>
                    </a:cubicBezTo>
                    <a:cubicBezTo>
                      <a:pt x="12218" y="6"/>
                      <a:pt x="12217" y="7"/>
                      <a:pt x="12216" y="7"/>
                    </a:cubicBezTo>
                    <a:lnTo>
                      <a:pt x="12216" y="7"/>
                    </a:lnTo>
                    <a:cubicBezTo>
                      <a:pt x="12215" y="7"/>
                      <a:pt x="12214" y="6"/>
                      <a:pt x="12214" y="5"/>
                    </a:cubicBezTo>
                    <a:cubicBezTo>
                      <a:pt x="12214" y="4"/>
                      <a:pt x="12215" y="3"/>
                      <a:pt x="12216" y="3"/>
                    </a:cubicBezTo>
                    <a:close/>
                    <a:moveTo>
                      <a:pt x="12224" y="3"/>
                    </a:moveTo>
                    <a:lnTo>
                      <a:pt x="12224" y="3"/>
                    </a:lnTo>
                    <a:cubicBezTo>
                      <a:pt x="12225" y="3"/>
                      <a:pt x="12226" y="4"/>
                      <a:pt x="12226" y="5"/>
                    </a:cubicBezTo>
                    <a:cubicBezTo>
                      <a:pt x="12226" y="6"/>
                      <a:pt x="12225" y="7"/>
                      <a:pt x="12224" y="7"/>
                    </a:cubicBezTo>
                    <a:lnTo>
                      <a:pt x="12224" y="7"/>
                    </a:lnTo>
                    <a:cubicBezTo>
                      <a:pt x="12223" y="7"/>
                      <a:pt x="12222" y="6"/>
                      <a:pt x="12222" y="5"/>
                    </a:cubicBezTo>
                    <a:cubicBezTo>
                      <a:pt x="12222" y="4"/>
                      <a:pt x="12223" y="3"/>
                      <a:pt x="12224" y="3"/>
                    </a:cubicBezTo>
                    <a:close/>
                    <a:moveTo>
                      <a:pt x="12232" y="3"/>
                    </a:moveTo>
                    <a:lnTo>
                      <a:pt x="12232" y="3"/>
                    </a:lnTo>
                    <a:cubicBezTo>
                      <a:pt x="12233" y="3"/>
                      <a:pt x="12234" y="4"/>
                      <a:pt x="12234" y="5"/>
                    </a:cubicBezTo>
                    <a:cubicBezTo>
                      <a:pt x="12234" y="6"/>
                      <a:pt x="12233" y="7"/>
                      <a:pt x="12232" y="7"/>
                    </a:cubicBezTo>
                    <a:lnTo>
                      <a:pt x="12232" y="7"/>
                    </a:lnTo>
                    <a:cubicBezTo>
                      <a:pt x="12231" y="7"/>
                      <a:pt x="12230" y="6"/>
                      <a:pt x="12230" y="5"/>
                    </a:cubicBezTo>
                    <a:cubicBezTo>
                      <a:pt x="12230" y="4"/>
                      <a:pt x="12231" y="3"/>
                      <a:pt x="12232" y="3"/>
                    </a:cubicBezTo>
                    <a:close/>
                    <a:moveTo>
                      <a:pt x="12240" y="3"/>
                    </a:moveTo>
                    <a:lnTo>
                      <a:pt x="12240" y="3"/>
                    </a:lnTo>
                    <a:cubicBezTo>
                      <a:pt x="12241" y="3"/>
                      <a:pt x="12242" y="4"/>
                      <a:pt x="12242" y="5"/>
                    </a:cubicBezTo>
                    <a:cubicBezTo>
                      <a:pt x="12242" y="6"/>
                      <a:pt x="12241" y="7"/>
                      <a:pt x="12240" y="7"/>
                    </a:cubicBezTo>
                    <a:lnTo>
                      <a:pt x="12240" y="7"/>
                    </a:lnTo>
                    <a:cubicBezTo>
                      <a:pt x="12239" y="7"/>
                      <a:pt x="12238" y="6"/>
                      <a:pt x="12238" y="5"/>
                    </a:cubicBezTo>
                    <a:cubicBezTo>
                      <a:pt x="12238" y="4"/>
                      <a:pt x="12239" y="3"/>
                      <a:pt x="12240" y="3"/>
                    </a:cubicBezTo>
                    <a:close/>
                    <a:moveTo>
                      <a:pt x="12248" y="3"/>
                    </a:moveTo>
                    <a:lnTo>
                      <a:pt x="12248" y="3"/>
                    </a:lnTo>
                    <a:cubicBezTo>
                      <a:pt x="12249" y="3"/>
                      <a:pt x="12250" y="4"/>
                      <a:pt x="12250" y="5"/>
                    </a:cubicBezTo>
                    <a:cubicBezTo>
                      <a:pt x="12250" y="6"/>
                      <a:pt x="12249" y="7"/>
                      <a:pt x="12248" y="7"/>
                    </a:cubicBezTo>
                    <a:lnTo>
                      <a:pt x="12248" y="7"/>
                    </a:lnTo>
                    <a:cubicBezTo>
                      <a:pt x="12247" y="7"/>
                      <a:pt x="12246" y="6"/>
                      <a:pt x="12246" y="5"/>
                    </a:cubicBezTo>
                    <a:cubicBezTo>
                      <a:pt x="12246" y="4"/>
                      <a:pt x="12247" y="3"/>
                      <a:pt x="12248" y="3"/>
                    </a:cubicBezTo>
                    <a:close/>
                    <a:moveTo>
                      <a:pt x="12256" y="3"/>
                    </a:moveTo>
                    <a:lnTo>
                      <a:pt x="12256" y="3"/>
                    </a:lnTo>
                    <a:cubicBezTo>
                      <a:pt x="12257" y="3"/>
                      <a:pt x="12258" y="4"/>
                      <a:pt x="12258" y="5"/>
                    </a:cubicBezTo>
                    <a:cubicBezTo>
                      <a:pt x="12258" y="6"/>
                      <a:pt x="12257" y="7"/>
                      <a:pt x="12256" y="7"/>
                    </a:cubicBezTo>
                    <a:lnTo>
                      <a:pt x="12256" y="7"/>
                    </a:lnTo>
                    <a:cubicBezTo>
                      <a:pt x="12255" y="7"/>
                      <a:pt x="12254" y="6"/>
                      <a:pt x="12254" y="5"/>
                    </a:cubicBezTo>
                    <a:cubicBezTo>
                      <a:pt x="12254" y="4"/>
                      <a:pt x="12255" y="3"/>
                      <a:pt x="12256" y="3"/>
                    </a:cubicBezTo>
                    <a:close/>
                    <a:moveTo>
                      <a:pt x="12264" y="3"/>
                    </a:moveTo>
                    <a:lnTo>
                      <a:pt x="12264" y="3"/>
                    </a:lnTo>
                    <a:cubicBezTo>
                      <a:pt x="12265" y="3"/>
                      <a:pt x="12266" y="4"/>
                      <a:pt x="12266" y="5"/>
                    </a:cubicBezTo>
                    <a:cubicBezTo>
                      <a:pt x="12266" y="6"/>
                      <a:pt x="12265" y="7"/>
                      <a:pt x="12264" y="7"/>
                    </a:cubicBezTo>
                    <a:lnTo>
                      <a:pt x="12264" y="7"/>
                    </a:lnTo>
                    <a:cubicBezTo>
                      <a:pt x="12263" y="7"/>
                      <a:pt x="12262" y="6"/>
                      <a:pt x="12262" y="5"/>
                    </a:cubicBezTo>
                    <a:cubicBezTo>
                      <a:pt x="12262" y="4"/>
                      <a:pt x="12263" y="3"/>
                      <a:pt x="12264" y="3"/>
                    </a:cubicBezTo>
                    <a:close/>
                    <a:moveTo>
                      <a:pt x="12272" y="3"/>
                    </a:moveTo>
                    <a:lnTo>
                      <a:pt x="12272" y="3"/>
                    </a:lnTo>
                    <a:cubicBezTo>
                      <a:pt x="12273" y="3"/>
                      <a:pt x="12274" y="4"/>
                      <a:pt x="12274" y="5"/>
                    </a:cubicBezTo>
                    <a:cubicBezTo>
                      <a:pt x="12274" y="6"/>
                      <a:pt x="12273" y="7"/>
                      <a:pt x="12272" y="7"/>
                    </a:cubicBezTo>
                    <a:lnTo>
                      <a:pt x="12272" y="7"/>
                    </a:lnTo>
                    <a:cubicBezTo>
                      <a:pt x="12271" y="7"/>
                      <a:pt x="12270" y="6"/>
                      <a:pt x="12270" y="5"/>
                    </a:cubicBezTo>
                    <a:cubicBezTo>
                      <a:pt x="12270" y="4"/>
                      <a:pt x="12271" y="3"/>
                      <a:pt x="12272" y="3"/>
                    </a:cubicBezTo>
                    <a:close/>
                    <a:moveTo>
                      <a:pt x="12280" y="3"/>
                    </a:moveTo>
                    <a:lnTo>
                      <a:pt x="12280" y="3"/>
                    </a:lnTo>
                    <a:cubicBezTo>
                      <a:pt x="12281" y="3"/>
                      <a:pt x="12282" y="4"/>
                      <a:pt x="12282" y="5"/>
                    </a:cubicBezTo>
                    <a:cubicBezTo>
                      <a:pt x="12282" y="6"/>
                      <a:pt x="12281" y="7"/>
                      <a:pt x="12280" y="7"/>
                    </a:cubicBezTo>
                    <a:lnTo>
                      <a:pt x="12280" y="7"/>
                    </a:lnTo>
                    <a:cubicBezTo>
                      <a:pt x="12279" y="7"/>
                      <a:pt x="12278" y="6"/>
                      <a:pt x="12278" y="5"/>
                    </a:cubicBezTo>
                    <a:cubicBezTo>
                      <a:pt x="12278" y="4"/>
                      <a:pt x="12279" y="3"/>
                      <a:pt x="12280" y="3"/>
                    </a:cubicBezTo>
                    <a:close/>
                    <a:moveTo>
                      <a:pt x="12288" y="3"/>
                    </a:moveTo>
                    <a:lnTo>
                      <a:pt x="12288" y="3"/>
                    </a:lnTo>
                    <a:cubicBezTo>
                      <a:pt x="12289" y="3"/>
                      <a:pt x="12290" y="4"/>
                      <a:pt x="12290" y="5"/>
                    </a:cubicBezTo>
                    <a:cubicBezTo>
                      <a:pt x="12290" y="6"/>
                      <a:pt x="12289" y="7"/>
                      <a:pt x="12288" y="7"/>
                    </a:cubicBezTo>
                    <a:lnTo>
                      <a:pt x="12288" y="7"/>
                    </a:lnTo>
                    <a:cubicBezTo>
                      <a:pt x="12287" y="7"/>
                      <a:pt x="12286" y="6"/>
                      <a:pt x="12286" y="5"/>
                    </a:cubicBezTo>
                    <a:cubicBezTo>
                      <a:pt x="12286" y="4"/>
                      <a:pt x="12287" y="3"/>
                      <a:pt x="12288" y="3"/>
                    </a:cubicBezTo>
                    <a:close/>
                    <a:moveTo>
                      <a:pt x="12296" y="3"/>
                    </a:moveTo>
                    <a:lnTo>
                      <a:pt x="12296" y="3"/>
                    </a:lnTo>
                    <a:cubicBezTo>
                      <a:pt x="12297" y="3"/>
                      <a:pt x="12298" y="4"/>
                      <a:pt x="12298" y="5"/>
                    </a:cubicBezTo>
                    <a:cubicBezTo>
                      <a:pt x="12298" y="6"/>
                      <a:pt x="12297" y="7"/>
                      <a:pt x="12296" y="7"/>
                    </a:cubicBezTo>
                    <a:lnTo>
                      <a:pt x="12296" y="7"/>
                    </a:lnTo>
                    <a:cubicBezTo>
                      <a:pt x="12295" y="7"/>
                      <a:pt x="12294" y="6"/>
                      <a:pt x="12294" y="5"/>
                    </a:cubicBezTo>
                    <a:cubicBezTo>
                      <a:pt x="12294" y="4"/>
                      <a:pt x="12295" y="3"/>
                      <a:pt x="12296" y="3"/>
                    </a:cubicBezTo>
                    <a:close/>
                    <a:moveTo>
                      <a:pt x="12304" y="3"/>
                    </a:moveTo>
                    <a:lnTo>
                      <a:pt x="12304" y="3"/>
                    </a:lnTo>
                    <a:cubicBezTo>
                      <a:pt x="12305" y="3"/>
                      <a:pt x="12306" y="4"/>
                      <a:pt x="12306" y="5"/>
                    </a:cubicBezTo>
                    <a:cubicBezTo>
                      <a:pt x="12306" y="6"/>
                      <a:pt x="12305" y="7"/>
                      <a:pt x="12304" y="7"/>
                    </a:cubicBezTo>
                    <a:lnTo>
                      <a:pt x="12304" y="7"/>
                    </a:lnTo>
                    <a:cubicBezTo>
                      <a:pt x="12303" y="7"/>
                      <a:pt x="12302" y="6"/>
                      <a:pt x="12302" y="5"/>
                    </a:cubicBezTo>
                    <a:cubicBezTo>
                      <a:pt x="12302" y="4"/>
                      <a:pt x="12303" y="3"/>
                      <a:pt x="12304" y="3"/>
                    </a:cubicBezTo>
                    <a:close/>
                    <a:moveTo>
                      <a:pt x="12312" y="3"/>
                    </a:moveTo>
                    <a:lnTo>
                      <a:pt x="12312" y="3"/>
                    </a:lnTo>
                    <a:cubicBezTo>
                      <a:pt x="12313" y="3"/>
                      <a:pt x="12314" y="4"/>
                      <a:pt x="12314" y="5"/>
                    </a:cubicBezTo>
                    <a:cubicBezTo>
                      <a:pt x="12314" y="6"/>
                      <a:pt x="12313" y="7"/>
                      <a:pt x="12312" y="7"/>
                    </a:cubicBezTo>
                    <a:lnTo>
                      <a:pt x="12312" y="7"/>
                    </a:lnTo>
                    <a:cubicBezTo>
                      <a:pt x="12311" y="7"/>
                      <a:pt x="12310" y="6"/>
                      <a:pt x="12310" y="5"/>
                    </a:cubicBezTo>
                    <a:cubicBezTo>
                      <a:pt x="12310" y="4"/>
                      <a:pt x="12311" y="3"/>
                      <a:pt x="12312" y="3"/>
                    </a:cubicBezTo>
                    <a:close/>
                    <a:moveTo>
                      <a:pt x="12320" y="3"/>
                    </a:moveTo>
                    <a:lnTo>
                      <a:pt x="12320" y="3"/>
                    </a:lnTo>
                    <a:cubicBezTo>
                      <a:pt x="12321" y="3"/>
                      <a:pt x="12322" y="4"/>
                      <a:pt x="12322" y="5"/>
                    </a:cubicBezTo>
                    <a:cubicBezTo>
                      <a:pt x="12322" y="6"/>
                      <a:pt x="12321" y="7"/>
                      <a:pt x="12320" y="7"/>
                    </a:cubicBezTo>
                    <a:lnTo>
                      <a:pt x="12320" y="7"/>
                    </a:lnTo>
                    <a:cubicBezTo>
                      <a:pt x="12319" y="7"/>
                      <a:pt x="12318" y="6"/>
                      <a:pt x="12318" y="5"/>
                    </a:cubicBezTo>
                    <a:cubicBezTo>
                      <a:pt x="12318" y="4"/>
                      <a:pt x="12319" y="3"/>
                      <a:pt x="12320" y="3"/>
                    </a:cubicBezTo>
                    <a:close/>
                    <a:moveTo>
                      <a:pt x="12328" y="3"/>
                    </a:moveTo>
                    <a:lnTo>
                      <a:pt x="12328" y="3"/>
                    </a:lnTo>
                    <a:cubicBezTo>
                      <a:pt x="12329" y="3"/>
                      <a:pt x="12330" y="4"/>
                      <a:pt x="12330" y="5"/>
                    </a:cubicBezTo>
                    <a:cubicBezTo>
                      <a:pt x="12330" y="6"/>
                      <a:pt x="12329" y="7"/>
                      <a:pt x="12328" y="7"/>
                    </a:cubicBezTo>
                    <a:lnTo>
                      <a:pt x="12328" y="7"/>
                    </a:lnTo>
                    <a:cubicBezTo>
                      <a:pt x="12327" y="7"/>
                      <a:pt x="12326" y="6"/>
                      <a:pt x="12326" y="5"/>
                    </a:cubicBezTo>
                    <a:cubicBezTo>
                      <a:pt x="12326" y="4"/>
                      <a:pt x="12327" y="3"/>
                      <a:pt x="12328" y="3"/>
                    </a:cubicBezTo>
                    <a:close/>
                    <a:moveTo>
                      <a:pt x="12336" y="3"/>
                    </a:moveTo>
                    <a:lnTo>
                      <a:pt x="12336" y="3"/>
                    </a:lnTo>
                    <a:cubicBezTo>
                      <a:pt x="12337" y="3"/>
                      <a:pt x="12338" y="4"/>
                      <a:pt x="12338" y="5"/>
                    </a:cubicBezTo>
                    <a:cubicBezTo>
                      <a:pt x="12338" y="6"/>
                      <a:pt x="12337" y="7"/>
                      <a:pt x="12336" y="7"/>
                    </a:cubicBezTo>
                    <a:lnTo>
                      <a:pt x="12336" y="7"/>
                    </a:lnTo>
                    <a:cubicBezTo>
                      <a:pt x="12335" y="7"/>
                      <a:pt x="12334" y="6"/>
                      <a:pt x="12334" y="5"/>
                    </a:cubicBezTo>
                    <a:cubicBezTo>
                      <a:pt x="12334" y="4"/>
                      <a:pt x="12335" y="3"/>
                      <a:pt x="12336" y="3"/>
                    </a:cubicBezTo>
                    <a:close/>
                    <a:moveTo>
                      <a:pt x="12344" y="3"/>
                    </a:moveTo>
                    <a:lnTo>
                      <a:pt x="12344" y="3"/>
                    </a:lnTo>
                    <a:cubicBezTo>
                      <a:pt x="12345" y="3"/>
                      <a:pt x="12346" y="4"/>
                      <a:pt x="12346" y="5"/>
                    </a:cubicBezTo>
                    <a:cubicBezTo>
                      <a:pt x="12346" y="6"/>
                      <a:pt x="12345" y="7"/>
                      <a:pt x="12344" y="7"/>
                    </a:cubicBezTo>
                    <a:lnTo>
                      <a:pt x="12344" y="7"/>
                    </a:lnTo>
                    <a:cubicBezTo>
                      <a:pt x="12343" y="7"/>
                      <a:pt x="12342" y="6"/>
                      <a:pt x="12342" y="5"/>
                    </a:cubicBezTo>
                    <a:cubicBezTo>
                      <a:pt x="12342" y="4"/>
                      <a:pt x="12343" y="3"/>
                      <a:pt x="12344" y="3"/>
                    </a:cubicBezTo>
                    <a:close/>
                    <a:moveTo>
                      <a:pt x="12352" y="3"/>
                    </a:moveTo>
                    <a:lnTo>
                      <a:pt x="12352" y="3"/>
                    </a:lnTo>
                    <a:cubicBezTo>
                      <a:pt x="12353" y="3"/>
                      <a:pt x="12354" y="4"/>
                      <a:pt x="12354" y="5"/>
                    </a:cubicBezTo>
                    <a:cubicBezTo>
                      <a:pt x="12354" y="6"/>
                      <a:pt x="12353" y="7"/>
                      <a:pt x="12352" y="7"/>
                    </a:cubicBezTo>
                    <a:lnTo>
                      <a:pt x="12352" y="7"/>
                    </a:lnTo>
                    <a:cubicBezTo>
                      <a:pt x="12351" y="7"/>
                      <a:pt x="12350" y="6"/>
                      <a:pt x="12350" y="5"/>
                    </a:cubicBezTo>
                    <a:cubicBezTo>
                      <a:pt x="12350" y="4"/>
                      <a:pt x="12351" y="3"/>
                      <a:pt x="12352" y="3"/>
                    </a:cubicBezTo>
                    <a:close/>
                    <a:moveTo>
                      <a:pt x="12360" y="3"/>
                    </a:moveTo>
                    <a:lnTo>
                      <a:pt x="12360" y="3"/>
                    </a:lnTo>
                    <a:cubicBezTo>
                      <a:pt x="12361" y="3"/>
                      <a:pt x="12362" y="4"/>
                      <a:pt x="12362" y="5"/>
                    </a:cubicBezTo>
                    <a:cubicBezTo>
                      <a:pt x="12362" y="6"/>
                      <a:pt x="12361" y="7"/>
                      <a:pt x="12360" y="7"/>
                    </a:cubicBezTo>
                    <a:lnTo>
                      <a:pt x="12360" y="7"/>
                    </a:lnTo>
                    <a:cubicBezTo>
                      <a:pt x="12359" y="7"/>
                      <a:pt x="12358" y="6"/>
                      <a:pt x="12358" y="5"/>
                    </a:cubicBezTo>
                    <a:cubicBezTo>
                      <a:pt x="12358" y="4"/>
                      <a:pt x="12359" y="3"/>
                      <a:pt x="12360" y="3"/>
                    </a:cubicBezTo>
                    <a:close/>
                    <a:moveTo>
                      <a:pt x="12368" y="3"/>
                    </a:moveTo>
                    <a:lnTo>
                      <a:pt x="12368" y="3"/>
                    </a:lnTo>
                    <a:cubicBezTo>
                      <a:pt x="12369" y="3"/>
                      <a:pt x="12370" y="4"/>
                      <a:pt x="12370" y="5"/>
                    </a:cubicBezTo>
                    <a:cubicBezTo>
                      <a:pt x="12370" y="6"/>
                      <a:pt x="12369" y="7"/>
                      <a:pt x="12368" y="7"/>
                    </a:cubicBezTo>
                    <a:lnTo>
                      <a:pt x="12368" y="7"/>
                    </a:lnTo>
                    <a:cubicBezTo>
                      <a:pt x="12367" y="7"/>
                      <a:pt x="12366" y="6"/>
                      <a:pt x="12366" y="5"/>
                    </a:cubicBezTo>
                    <a:cubicBezTo>
                      <a:pt x="12366" y="4"/>
                      <a:pt x="12367" y="3"/>
                      <a:pt x="12368" y="3"/>
                    </a:cubicBezTo>
                    <a:close/>
                    <a:moveTo>
                      <a:pt x="12376" y="3"/>
                    </a:moveTo>
                    <a:lnTo>
                      <a:pt x="12376" y="3"/>
                    </a:lnTo>
                    <a:cubicBezTo>
                      <a:pt x="12377" y="3"/>
                      <a:pt x="12378" y="4"/>
                      <a:pt x="12378" y="5"/>
                    </a:cubicBezTo>
                    <a:cubicBezTo>
                      <a:pt x="12378" y="6"/>
                      <a:pt x="12377" y="7"/>
                      <a:pt x="12376" y="7"/>
                    </a:cubicBezTo>
                    <a:lnTo>
                      <a:pt x="12376" y="7"/>
                    </a:lnTo>
                    <a:cubicBezTo>
                      <a:pt x="12375" y="7"/>
                      <a:pt x="12374" y="6"/>
                      <a:pt x="12374" y="5"/>
                    </a:cubicBezTo>
                    <a:cubicBezTo>
                      <a:pt x="12374" y="4"/>
                      <a:pt x="12375" y="3"/>
                      <a:pt x="12376" y="3"/>
                    </a:cubicBezTo>
                    <a:close/>
                    <a:moveTo>
                      <a:pt x="12384" y="3"/>
                    </a:moveTo>
                    <a:lnTo>
                      <a:pt x="12384" y="3"/>
                    </a:lnTo>
                    <a:cubicBezTo>
                      <a:pt x="12385" y="3"/>
                      <a:pt x="12386" y="4"/>
                      <a:pt x="12386" y="5"/>
                    </a:cubicBezTo>
                    <a:cubicBezTo>
                      <a:pt x="12386" y="6"/>
                      <a:pt x="12385" y="7"/>
                      <a:pt x="12384" y="7"/>
                    </a:cubicBezTo>
                    <a:lnTo>
                      <a:pt x="12384" y="7"/>
                    </a:lnTo>
                    <a:cubicBezTo>
                      <a:pt x="12383" y="7"/>
                      <a:pt x="12382" y="6"/>
                      <a:pt x="12382" y="5"/>
                    </a:cubicBezTo>
                    <a:cubicBezTo>
                      <a:pt x="12382" y="4"/>
                      <a:pt x="12383" y="3"/>
                      <a:pt x="12384" y="3"/>
                    </a:cubicBezTo>
                    <a:close/>
                    <a:moveTo>
                      <a:pt x="12392" y="3"/>
                    </a:moveTo>
                    <a:lnTo>
                      <a:pt x="12392" y="3"/>
                    </a:lnTo>
                    <a:cubicBezTo>
                      <a:pt x="12393" y="3"/>
                      <a:pt x="12394" y="4"/>
                      <a:pt x="12394" y="5"/>
                    </a:cubicBezTo>
                    <a:cubicBezTo>
                      <a:pt x="12394" y="6"/>
                      <a:pt x="12393" y="7"/>
                      <a:pt x="12392" y="7"/>
                    </a:cubicBezTo>
                    <a:lnTo>
                      <a:pt x="12392" y="7"/>
                    </a:lnTo>
                    <a:cubicBezTo>
                      <a:pt x="12391" y="7"/>
                      <a:pt x="12390" y="6"/>
                      <a:pt x="12390" y="5"/>
                    </a:cubicBezTo>
                    <a:cubicBezTo>
                      <a:pt x="12390" y="4"/>
                      <a:pt x="12391" y="3"/>
                      <a:pt x="12392" y="3"/>
                    </a:cubicBezTo>
                    <a:close/>
                    <a:moveTo>
                      <a:pt x="12400" y="3"/>
                    </a:moveTo>
                    <a:lnTo>
                      <a:pt x="12400" y="3"/>
                    </a:lnTo>
                    <a:cubicBezTo>
                      <a:pt x="12401" y="3"/>
                      <a:pt x="12402" y="4"/>
                      <a:pt x="12402" y="5"/>
                    </a:cubicBezTo>
                    <a:cubicBezTo>
                      <a:pt x="12402" y="6"/>
                      <a:pt x="12401" y="7"/>
                      <a:pt x="12400" y="7"/>
                    </a:cubicBezTo>
                    <a:lnTo>
                      <a:pt x="12400" y="7"/>
                    </a:lnTo>
                    <a:cubicBezTo>
                      <a:pt x="12399" y="7"/>
                      <a:pt x="12398" y="6"/>
                      <a:pt x="12398" y="5"/>
                    </a:cubicBezTo>
                    <a:cubicBezTo>
                      <a:pt x="12398" y="4"/>
                      <a:pt x="12399" y="3"/>
                      <a:pt x="12400" y="3"/>
                    </a:cubicBezTo>
                    <a:close/>
                    <a:moveTo>
                      <a:pt x="12408" y="3"/>
                    </a:moveTo>
                    <a:lnTo>
                      <a:pt x="12408" y="3"/>
                    </a:lnTo>
                    <a:cubicBezTo>
                      <a:pt x="12409" y="3"/>
                      <a:pt x="12410" y="4"/>
                      <a:pt x="12410" y="5"/>
                    </a:cubicBezTo>
                    <a:cubicBezTo>
                      <a:pt x="12410" y="6"/>
                      <a:pt x="12409" y="7"/>
                      <a:pt x="12408" y="7"/>
                    </a:cubicBezTo>
                    <a:lnTo>
                      <a:pt x="12408" y="7"/>
                    </a:lnTo>
                    <a:cubicBezTo>
                      <a:pt x="12407" y="7"/>
                      <a:pt x="12406" y="6"/>
                      <a:pt x="12406" y="5"/>
                    </a:cubicBezTo>
                    <a:cubicBezTo>
                      <a:pt x="12406" y="4"/>
                      <a:pt x="12407" y="3"/>
                      <a:pt x="12408" y="3"/>
                    </a:cubicBezTo>
                    <a:close/>
                    <a:moveTo>
                      <a:pt x="12416" y="3"/>
                    </a:moveTo>
                    <a:lnTo>
                      <a:pt x="12416" y="3"/>
                    </a:lnTo>
                    <a:cubicBezTo>
                      <a:pt x="12417" y="3"/>
                      <a:pt x="12418" y="4"/>
                      <a:pt x="12418" y="5"/>
                    </a:cubicBezTo>
                    <a:cubicBezTo>
                      <a:pt x="12418" y="6"/>
                      <a:pt x="12417" y="7"/>
                      <a:pt x="12416" y="7"/>
                    </a:cubicBezTo>
                    <a:lnTo>
                      <a:pt x="12416" y="7"/>
                    </a:lnTo>
                    <a:cubicBezTo>
                      <a:pt x="12415" y="7"/>
                      <a:pt x="12414" y="6"/>
                      <a:pt x="12414" y="5"/>
                    </a:cubicBezTo>
                    <a:cubicBezTo>
                      <a:pt x="12414" y="4"/>
                      <a:pt x="12415" y="3"/>
                      <a:pt x="12416" y="3"/>
                    </a:cubicBezTo>
                    <a:close/>
                    <a:moveTo>
                      <a:pt x="12424" y="3"/>
                    </a:moveTo>
                    <a:lnTo>
                      <a:pt x="12424" y="3"/>
                    </a:lnTo>
                    <a:cubicBezTo>
                      <a:pt x="12425" y="3"/>
                      <a:pt x="12426" y="4"/>
                      <a:pt x="12426" y="5"/>
                    </a:cubicBezTo>
                    <a:cubicBezTo>
                      <a:pt x="12426" y="6"/>
                      <a:pt x="12425" y="7"/>
                      <a:pt x="12424" y="7"/>
                    </a:cubicBezTo>
                    <a:lnTo>
                      <a:pt x="12424" y="7"/>
                    </a:lnTo>
                    <a:cubicBezTo>
                      <a:pt x="12423" y="7"/>
                      <a:pt x="12422" y="6"/>
                      <a:pt x="12422" y="5"/>
                    </a:cubicBezTo>
                    <a:cubicBezTo>
                      <a:pt x="12422" y="4"/>
                      <a:pt x="12423" y="3"/>
                      <a:pt x="12424" y="3"/>
                    </a:cubicBezTo>
                    <a:close/>
                    <a:moveTo>
                      <a:pt x="12432" y="3"/>
                    </a:moveTo>
                    <a:lnTo>
                      <a:pt x="12432" y="3"/>
                    </a:lnTo>
                    <a:cubicBezTo>
                      <a:pt x="12434" y="3"/>
                      <a:pt x="12434" y="4"/>
                      <a:pt x="12434" y="5"/>
                    </a:cubicBezTo>
                    <a:cubicBezTo>
                      <a:pt x="12434" y="6"/>
                      <a:pt x="12434" y="7"/>
                      <a:pt x="12432" y="7"/>
                    </a:cubicBezTo>
                    <a:lnTo>
                      <a:pt x="12432" y="7"/>
                    </a:lnTo>
                    <a:cubicBezTo>
                      <a:pt x="12431" y="7"/>
                      <a:pt x="12430" y="6"/>
                      <a:pt x="12430" y="5"/>
                    </a:cubicBezTo>
                    <a:cubicBezTo>
                      <a:pt x="12430" y="4"/>
                      <a:pt x="12431" y="3"/>
                      <a:pt x="12432" y="3"/>
                    </a:cubicBezTo>
                    <a:close/>
                    <a:moveTo>
                      <a:pt x="12440" y="3"/>
                    </a:moveTo>
                    <a:lnTo>
                      <a:pt x="12440" y="3"/>
                    </a:lnTo>
                    <a:cubicBezTo>
                      <a:pt x="12442" y="3"/>
                      <a:pt x="12442" y="4"/>
                      <a:pt x="12442" y="5"/>
                    </a:cubicBezTo>
                    <a:cubicBezTo>
                      <a:pt x="12442" y="6"/>
                      <a:pt x="12442" y="7"/>
                      <a:pt x="12440" y="7"/>
                    </a:cubicBezTo>
                    <a:lnTo>
                      <a:pt x="12440" y="7"/>
                    </a:lnTo>
                    <a:cubicBezTo>
                      <a:pt x="12439" y="7"/>
                      <a:pt x="12438" y="6"/>
                      <a:pt x="12438" y="5"/>
                    </a:cubicBezTo>
                    <a:cubicBezTo>
                      <a:pt x="12438" y="4"/>
                      <a:pt x="12439" y="3"/>
                      <a:pt x="12440" y="3"/>
                    </a:cubicBezTo>
                    <a:close/>
                    <a:moveTo>
                      <a:pt x="12448" y="3"/>
                    </a:moveTo>
                    <a:lnTo>
                      <a:pt x="12448" y="3"/>
                    </a:lnTo>
                    <a:cubicBezTo>
                      <a:pt x="12450" y="3"/>
                      <a:pt x="12450" y="4"/>
                      <a:pt x="12450" y="5"/>
                    </a:cubicBezTo>
                    <a:cubicBezTo>
                      <a:pt x="12450" y="6"/>
                      <a:pt x="12450" y="7"/>
                      <a:pt x="12448" y="7"/>
                    </a:cubicBezTo>
                    <a:lnTo>
                      <a:pt x="12448" y="7"/>
                    </a:lnTo>
                    <a:cubicBezTo>
                      <a:pt x="12447" y="7"/>
                      <a:pt x="12446" y="6"/>
                      <a:pt x="12446" y="5"/>
                    </a:cubicBezTo>
                    <a:cubicBezTo>
                      <a:pt x="12446" y="4"/>
                      <a:pt x="12447" y="3"/>
                      <a:pt x="12448" y="3"/>
                    </a:cubicBezTo>
                    <a:close/>
                    <a:moveTo>
                      <a:pt x="12456" y="3"/>
                    </a:moveTo>
                    <a:lnTo>
                      <a:pt x="12456" y="3"/>
                    </a:lnTo>
                    <a:cubicBezTo>
                      <a:pt x="12458" y="3"/>
                      <a:pt x="12458" y="4"/>
                      <a:pt x="12458" y="5"/>
                    </a:cubicBezTo>
                    <a:cubicBezTo>
                      <a:pt x="12458" y="6"/>
                      <a:pt x="12458" y="7"/>
                      <a:pt x="12456" y="7"/>
                    </a:cubicBezTo>
                    <a:lnTo>
                      <a:pt x="12456" y="7"/>
                    </a:lnTo>
                    <a:cubicBezTo>
                      <a:pt x="12455" y="7"/>
                      <a:pt x="12454" y="6"/>
                      <a:pt x="12454" y="5"/>
                    </a:cubicBezTo>
                    <a:cubicBezTo>
                      <a:pt x="12454" y="4"/>
                      <a:pt x="12455" y="3"/>
                      <a:pt x="12456" y="3"/>
                    </a:cubicBezTo>
                    <a:close/>
                    <a:moveTo>
                      <a:pt x="12464" y="3"/>
                    </a:moveTo>
                    <a:lnTo>
                      <a:pt x="12464" y="3"/>
                    </a:lnTo>
                    <a:cubicBezTo>
                      <a:pt x="12466" y="3"/>
                      <a:pt x="12466" y="4"/>
                      <a:pt x="12466" y="5"/>
                    </a:cubicBezTo>
                    <a:cubicBezTo>
                      <a:pt x="12466" y="6"/>
                      <a:pt x="12466" y="7"/>
                      <a:pt x="12464" y="7"/>
                    </a:cubicBezTo>
                    <a:lnTo>
                      <a:pt x="12464" y="7"/>
                    </a:lnTo>
                    <a:cubicBezTo>
                      <a:pt x="12463" y="7"/>
                      <a:pt x="12462" y="6"/>
                      <a:pt x="12462" y="5"/>
                    </a:cubicBezTo>
                    <a:cubicBezTo>
                      <a:pt x="12462" y="4"/>
                      <a:pt x="12463" y="3"/>
                      <a:pt x="12464" y="3"/>
                    </a:cubicBezTo>
                    <a:close/>
                    <a:moveTo>
                      <a:pt x="12472" y="3"/>
                    </a:moveTo>
                    <a:lnTo>
                      <a:pt x="12472" y="3"/>
                    </a:lnTo>
                    <a:cubicBezTo>
                      <a:pt x="12474" y="3"/>
                      <a:pt x="12474" y="4"/>
                      <a:pt x="12474" y="5"/>
                    </a:cubicBezTo>
                    <a:cubicBezTo>
                      <a:pt x="12474" y="6"/>
                      <a:pt x="12474" y="7"/>
                      <a:pt x="12472" y="7"/>
                    </a:cubicBezTo>
                    <a:lnTo>
                      <a:pt x="12472" y="7"/>
                    </a:lnTo>
                    <a:cubicBezTo>
                      <a:pt x="12471" y="7"/>
                      <a:pt x="12470" y="6"/>
                      <a:pt x="12470" y="5"/>
                    </a:cubicBezTo>
                    <a:cubicBezTo>
                      <a:pt x="12470" y="4"/>
                      <a:pt x="12471" y="3"/>
                      <a:pt x="12472" y="3"/>
                    </a:cubicBezTo>
                    <a:close/>
                    <a:moveTo>
                      <a:pt x="12480" y="3"/>
                    </a:moveTo>
                    <a:lnTo>
                      <a:pt x="12480" y="3"/>
                    </a:lnTo>
                    <a:cubicBezTo>
                      <a:pt x="12482" y="3"/>
                      <a:pt x="12482" y="4"/>
                      <a:pt x="12482" y="5"/>
                    </a:cubicBezTo>
                    <a:cubicBezTo>
                      <a:pt x="12482" y="6"/>
                      <a:pt x="12482" y="7"/>
                      <a:pt x="12480" y="7"/>
                    </a:cubicBezTo>
                    <a:lnTo>
                      <a:pt x="12480" y="7"/>
                    </a:lnTo>
                    <a:cubicBezTo>
                      <a:pt x="12479" y="7"/>
                      <a:pt x="12478" y="6"/>
                      <a:pt x="12478" y="5"/>
                    </a:cubicBezTo>
                    <a:cubicBezTo>
                      <a:pt x="12478" y="4"/>
                      <a:pt x="12479" y="3"/>
                      <a:pt x="12480" y="3"/>
                    </a:cubicBezTo>
                    <a:close/>
                    <a:moveTo>
                      <a:pt x="12488" y="3"/>
                    </a:moveTo>
                    <a:lnTo>
                      <a:pt x="12488" y="3"/>
                    </a:lnTo>
                    <a:cubicBezTo>
                      <a:pt x="12490" y="3"/>
                      <a:pt x="12490" y="4"/>
                      <a:pt x="12490" y="5"/>
                    </a:cubicBezTo>
                    <a:cubicBezTo>
                      <a:pt x="12490" y="6"/>
                      <a:pt x="12490" y="7"/>
                      <a:pt x="12488" y="7"/>
                    </a:cubicBezTo>
                    <a:lnTo>
                      <a:pt x="12488" y="7"/>
                    </a:lnTo>
                    <a:cubicBezTo>
                      <a:pt x="12487" y="7"/>
                      <a:pt x="12486" y="6"/>
                      <a:pt x="12486" y="5"/>
                    </a:cubicBezTo>
                    <a:cubicBezTo>
                      <a:pt x="12486" y="4"/>
                      <a:pt x="12487" y="3"/>
                      <a:pt x="12488" y="3"/>
                    </a:cubicBezTo>
                    <a:close/>
                    <a:moveTo>
                      <a:pt x="12496" y="3"/>
                    </a:moveTo>
                    <a:lnTo>
                      <a:pt x="12496" y="3"/>
                    </a:lnTo>
                    <a:cubicBezTo>
                      <a:pt x="12498" y="3"/>
                      <a:pt x="12498" y="4"/>
                      <a:pt x="12498" y="5"/>
                    </a:cubicBezTo>
                    <a:cubicBezTo>
                      <a:pt x="12498" y="6"/>
                      <a:pt x="12498" y="7"/>
                      <a:pt x="12496" y="7"/>
                    </a:cubicBezTo>
                    <a:lnTo>
                      <a:pt x="12496" y="7"/>
                    </a:lnTo>
                    <a:cubicBezTo>
                      <a:pt x="12495" y="7"/>
                      <a:pt x="12494" y="6"/>
                      <a:pt x="12494" y="5"/>
                    </a:cubicBezTo>
                    <a:cubicBezTo>
                      <a:pt x="12494" y="4"/>
                      <a:pt x="12495" y="3"/>
                      <a:pt x="12496" y="3"/>
                    </a:cubicBezTo>
                    <a:close/>
                    <a:moveTo>
                      <a:pt x="12504" y="3"/>
                    </a:moveTo>
                    <a:lnTo>
                      <a:pt x="12504" y="3"/>
                    </a:lnTo>
                    <a:cubicBezTo>
                      <a:pt x="12506" y="3"/>
                      <a:pt x="12506" y="4"/>
                      <a:pt x="12506" y="5"/>
                    </a:cubicBezTo>
                    <a:cubicBezTo>
                      <a:pt x="12506" y="6"/>
                      <a:pt x="12506" y="7"/>
                      <a:pt x="12504" y="7"/>
                    </a:cubicBezTo>
                    <a:lnTo>
                      <a:pt x="12504" y="7"/>
                    </a:lnTo>
                    <a:cubicBezTo>
                      <a:pt x="12503" y="7"/>
                      <a:pt x="12502" y="6"/>
                      <a:pt x="12502" y="5"/>
                    </a:cubicBezTo>
                    <a:cubicBezTo>
                      <a:pt x="12502" y="4"/>
                      <a:pt x="12503" y="3"/>
                      <a:pt x="12504" y="3"/>
                    </a:cubicBezTo>
                    <a:close/>
                    <a:moveTo>
                      <a:pt x="12512" y="3"/>
                    </a:moveTo>
                    <a:lnTo>
                      <a:pt x="12512" y="3"/>
                    </a:lnTo>
                    <a:cubicBezTo>
                      <a:pt x="12514" y="3"/>
                      <a:pt x="12514" y="4"/>
                      <a:pt x="12514" y="5"/>
                    </a:cubicBezTo>
                    <a:cubicBezTo>
                      <a:pt x="12514" y="6"/>
                      <a:pt x="12514" y="7"/>
                      <a:pt x="12512" y="7"/>
                    </a:cubicBezTo>
                    <a:lnTo>
                      <a:pt x="12512" y="7"/>
                    </a:lnTo>
                    <a:cubicBezTo>
                      <a:pt x="12511" y="7"/>
                      <a:pt x="12510" y="6"/>
                      <a:pt x="12510" y="5"/>
                    </a:cubicBezTo>
                    <a:cubicBezTo>
                      <a:pt x="12510" y="4"/>
                      <a:pt x="12511" y="3"/>
                      <a:pt x="12512" y="3"/>
                    </a:cubicBezTo>
                    <a:close/>
                    <a:moveTo>
                      <a:pt x="12520" y="3"/>
                    </a:moveTo>
                    <a:lnTo>
                      <a:pt x="12520" y="3"/>
                    </a:lnTo>
                    <a:cubicBezTo>
                      <a:pt x="12522" y="3"/>
                      <a:pt x="12522" y="4"/>
                      <a:pt x="12522" y="5"/>
                    </a:cubicBezTo>
                    <a:cubicBezTo>
                      <a:pt x="12522" y="6"/>
                      <a:pt x="12522" y="7"/>
                      <a:pt x="12520" y="7"/>
                    </a:cubicBezTo>
                    <a:lnTo>
                      <a:pt x="12520" y="7"/>
                    </a:lnTo>
                    <a:cubicBezTo>
                      <a:pt x="12519" y="7"/>
                      <a:pt x="12518" y="6"/>
                      <a:pt x="12518" y="5"/>
                    </a:cubicBezTo>
                    <a:cubicBezTo>
                      <a:pt x="12518" y="4"/>
                      <a:pt x="12519" y="3"/>
                      <a:pt x="12520" y="3"/>
                    </a:cubicBezTo>
                    <a:close/>
                    <a:moveTo>
                      <a:pt x="12528" y="3"/>
                    </a:moveTo>
                    <a:lnTo>
                      <a:pt x="12528" y="3"/>
                    </a:lnTo>
                    <a:cubicBezTo>
                      <a:pt x="12530" y="3"/>
                      <a:pt x="12530" y="4"/>
                      <a:pt x="12530" y="5"/>
                    </a:cubicBezTo>
                    <a:cubicBezTo>
                      <a:pt x="12530" y="6"/>
                      <a:pt x="12530" y="7"/>
                      <a:pt x="12528" y="7"/>
                    </a:cubicBezTo>
                    <a:lnTo>
                      <a:pt x="12528" y="7"/>
                    </a:lnTo>
                    <a:cubicBezTo>
                      <a:pt x="12527" y="7"/>
                      <a:pt x="12526" y="6"/>
                      <a:pt x="12526" y="5"/>
                    </a:cubicBezTo>
                    <a:cubicBezTo>
                      <a:pt x="12526" y="4"/>
                      <a:pt x="12527" y="3"/>
                      <a:pt x="12528" y="3"/>
                    </a:cubicBezTo>
                    <a:close/>
                    <a:moveTo>
                      <a:pt x="12536" y="3"/>
                    </a:moveTo>
                    <a:lnTo>
                      <a:pt x="12536" y="3"/>
                    </a:lnTo>
                    <a:cubicBezTo>
                      <a:pt x="12538" y="3"/>
                      <a:pt x="12538" y="4"/>
                      <a:pt x="12538" y="5"/>
                    </a:cubicBezTo>
                    <a:cubicBezTo>
                      <a:pt x="12538" y="6"/>
                      <a:pt x="12538" y="7"/>
                      <a:pt x="12536" y="7"/>
                    </a:cubicBezTo>
                    <a:lnTo>
                      <a:pt x="12536" y="7"/>
                    </a:lnTo>
                    <a:cubicBezTo>
                      <a:pt x="12535" y="7"/>
                      <a:pt x="12534" y="6"/>
                      <a:pt x="12534" y="5"/>
                    </a:cubicBezTo>
                    <a:cubicBezTo>
                      <a:pt x="12534" y="4"/>
                      <a:pt x="12535" y="3"/>
                      <a:pt x="12536" y="3"/>
                    </a:cubicBezTo>
                    <a:close/>
                    <a:moveTo>
                      <a:pt x="12544" y="3"/>
                    </a:moveTo>
                    <a:lnTo>
                      <a:pt x="12544" y="3"/>
                    </a:lnTo>
                    <a:cubicBezTo>
                      <a:pt x="12546" y="3"/>
                      <a:pt x="12546" y="4"/>
                      <a:pt x="12546" y="5"/>
                    </a:cubicBezTo>
                    <a:cubicBezTo>
                      <a:pt x="12546" y="6"/>
                      <a:pt x="12546" y="7"/>
                      <a:pt x="12544" y="7"/>
                    </a:cubicBezTo>
                    <a:lnTo>
                      <a:pt x="12544" y="7"/>
                    </a:lnTo>
                    <a:cubicBezTo>
                      <a:pt x="12543" y="7"/>
                      <a:pt x="12542" y="6"/>
                      <a:pt x="12542" y="5"/>
                    </a:cubicBezTo>
                    <a:cubicBezTo>
                      <a:pt x="12542" y="4"/>
                      <a:pt x="12543" y="3"/>
                      <a:pt x="12544" y="3"/>
                    </a:cubicBezTo>
                    <a:close/>
                    <a:moveTo>
                      <a:pt x="12552" y="3"/>
                    </a:moveTo>
                    <a:lnTo>
                      <a:pt x="12552" y="3"/>
                    </a:lnTo>
                    <a:cubicBezTo>
                      <a:pt x="12554" y="3"/>
                      <a:pt x="12554" y="4"/>
                      <a:pt x="12554" y="5"/>
                    </a:cubicBezTo>
                    <a:cubicBezTo>
                      <a:pt x="12554" y="6"/>
                      <a:pt x="12554" y="7"/>
                      <a:pt x="12552" y="7"/>
                    </a:cubicBezTo>
                    <a:lnTo>
                      <a:pt x="12552" y="7"/>
                    </a:lnTo>
                    <a:cubicBezTo>
                      <a:pt x="12551" y="7"/>
                      <a:pt x="12550" y="6"/>
                      <a:pt x="12550" y="5"/>
                    </a:cubicBezTo>
                    <a:cubicBezTo>
                      <a:pt x="12550" y="4"/>
                      <a:pt x="12551" y="3"/>
                      <a:pt x="12552" y="3"/>
                    </a:cubicBezTo>
                    <a:close/>
                    <a:moveTo>
                      <a:pt x="12560" y="3"/>
                    </a:moveTo>
                    <a:lnTo>
                      <a:pt x="12560" y="3"/>
                    </a:lnTo>
                    <a:cubicBezTo>
                      <a:pt x="12562" y="3"/>
                      <a:pt x="12562" y="4"/>
                      <a:pt x="12562" y="5"/>
                    </a:cubicBezTo>
                    <a:cubicBezTo>
                      <a:pt x="12562" y="6"/>
                      <a:pt x="12562" y="7"/>
                      <a:pt x="12560" y="7"/>
                    </a:cubicBezTo>
                    <a:lnTo>
                      <a:pt x="12560" y="7"/>
                    </a:lnTo>
                    <a:cubicBezTo>
                      <a:pt x="12559" y="7"/>
                      <a:pt x="12558" y="6"/>
                      <a:pt x="12558" y="5"/>
                    </a:cubicBezTo>
                    <a:cubicBezTo>
                      <a:pt x="12558" y="4"/>
                      <a:pt x="12559" y="3"/>
                      <a:pt x="12560" y="3"/>
                    </a:cubicBezTo>
                    <a:close/>
                    <a:moveTo>
                      <a:pt x="12568" y="3"/>
                    </a:moveTo>
                    <a:lnTo>
                      <a:pt x="12568" y="3"/>
                    </a:lnTo>
                    <a:cubicBezTo>
                      <a:pt x="12570" y="3"/>
                      <a:pt x="12570" y="4"/>
                      <a:pt x="12570" y="5"/>
                    </a:cubicBezTo>
                    <a:cubicBezTo>
                      <a:pt x="12570" y="6"/>
                      <a:pt x="12570" y="7"/>
                      <a:pt x="12568" y="7"/>
                    </a:cubicBezTo>
                    <a:lnTo>
                      <a:pt x="12568" y="7"/>
                    </a:lnTo>
                    <a:cubicBezTo>
                      <a:pt x="12567" y="7"/>
                      <a:pt x="12566" y="6"/>
                      <a:pt x="12566" y="5"/>
                    </a:cubicBezTo>
                    <a:cubicBezTo>
                      <a:pt x="12566" y="4"/>
                      <a:pt x="12567" y="3"/>
                      <a:pt x="12568" y="3"/>
                    </a:cubicBezTo>
                    <a:close/>
                    <a:moveTo>
                      <a:pt x="12576" y="3"/>
                    </a:moveTo>
                    <a:lnTo>
                      <a:pt x="12576" y="3"/>
                    </a:lnTo>
                    <a:cubicBezTo>
                      <a:pt x="12578" y="3"/>
                      <a:pt x="12578" y="4"/>
                      <a:pt x="12578" y="5"/>
                    </a:cubicBezTo>
                    <a:cubicBezTo>
                      <a:pt x="12578" y="6"/>
                      <a:pt x="12578" y="7"/>
                      <a:pt x="12576" y="7"/>
                    </a:cubicBezTo>
                    <a:lnTo>
                      <a:pt x="12576" y="7"/>
                    </a:lnTo>
                    <a:cubicBezTo>
                      <a:pt x="12575" y="7"/>
                      <a:pt x="12574" y="6"/>
                      <a:pt x="12574" y="5"/>
                    </a:cubicBezTo>
                    <a:cubicBezTo>
                      <a:pt x="12574" y="4"/>
                      <a:pt x="12575" y="3"/>
                      <a:pt x="12576" y="3"/>
                    </a:cubicBezTo>
                    <a:close/>
                    <a:moveTo>
                      <a:pt x="12584" y="3"/>
                    </a:moveTo>
                    <a:lnTo>
                      <a:pt x="12584" y="3"/>
                    </a:lnTo>
                    <a:cubicBezTo>
                      <a:pt x="12586" y="3"/>
                      <a:pt x="12586" y="4"/>
                      <a:pt x="12586" y="5"/>
                    </a:cubicBezTo>
                    <a:cubicBezTo>
                      <a:pt x="12586" y="6"/>
                      <a:pt x="12586" y="7"/>
                      <a:pt x="12584" y="7"/>
                    </a:cubicBezTo>
                    <a:lnTo>
                      <a:pt x="12584" y="7"/>
                    </a:lnTo>
                    <a:cubicBezTo>
                      <a:pt x="12583" y="7"/>
                      <a:pt x="12582" y="6"/>
                      <a:pt x="12582" y="5"/>
                    </a:cubicBezTo>
                    <a:cubicBezTo>
                      <a:pt x="12582" y="4"/>
                      <a:pt x="12583" y="3"/>
                      <a:pt x="12584" y="3"/>
                    </a:cubicBezTo>
                    <a:close/>
                    <a:moveTo>
                      <a:pt x="12592" y="3"/>
                    </a:moveTo>
                    <a:lnTo>
                      <a:pt x="12592" y="3"/>
                    </a:lnTo>
                    <a:cubicBezTo>
                      <a:pt x="12594" y="3"/>
                      <a:pt x="12594" y="4"/>
                      <a:pt x="12594" y="5"/>
                    </a:cubicBezTo>
                    <a:cubicBezTo>
                      <a:pt x="12594" y="6"/>
                      <a:pt x="12594" y="7"/>
                      <a:pt x="12592" y="7"/>
                    </a:cubicBezTo>
                    <a:lnTo>
                      <a:pt x="12592" y="7"/>
                    </a:lnTo>
                    <a:cubicBezTo>
                      <a:pt x="12591" y="7"/>
                      <a:pt x="12590" y="6"/>
                      <a:pt x="12590" y="5"/>
                    </a:cubicBezTo>
                    <a:cubicBezTo>
                      <a:pt x="12590" y="4"/>
                      <a:pt x="12591" y="3"/>
                      <a:pt x="12592" y="3"/>
                    </a:cubicBezTo>
                    <a:close/>
                    <a:moveTo>
                      <a:pt x="12600" y="3"/>
                    </a:moveTo>
                    <a:lnTo>
                      <a:pt x="12601" y="3"/>
                    </a:lnTo>
                    <a:cubicBezTo>
                      <a:pt x="12602" y="3"/>
                      <a:pt x="12603" y="4"/>
                      <a:pt x="12603" y="5"/>
                    </a:cubicBezTo>
                    <a:cubicBezTo>
                      <a:pt x="12603" y="6"/>
                      <a:pt x="12602" y="7"/>
                      <a:pt x="12601" y="7"/>
                    </a:cubicBezTo>
                    <a:lnTo>
                      <a:pt x="12600" y="7"/>
                    </a:lnTo>
                    <a:cubicBezTo>
                      <a:pt x="12599" y="7"/>
                      <a:pt x="12598" y="6"/>
                      <a:pt x="12598" y="5"/>
                    </a:cubicBezTo>
                    <a:cubicBezTo>
                      <a:pt x="12598" y="4"/>
                      <a:pt x="12599" y="3"/>
                      <a:pt x="12600" y="3"/>
                    </a:cubicBezTo>
                    <a:close/>
                    <a:moveTo>
                      <a:pt x="12609" y="3"/>
                    </a:moveTo>
                    <a:lnTo>
                      <a:pt x="12609" y="3"/>
                    </a:lnTo>
                    <a:cubicBezTo>
                      <a:pt x="12610" y="3"/>
                      <a:pt x="12611" y="4"/>
                      <a:pt x="12611" y="5"/>
                    </a:cubicBezTo>
                    <a:cubicBezTo>
                      <a:pt x="12611" y="6"/>
                      <a:pt x="12610" y="7"/>
                      <a:pt x="12609" y="7"/>
                    </a:cubicBezTo>
                    <a:lnTo>
                      <a:pt x="12609" y="7"/>
                    </a:lnTo>
                    <a:cubicBezTo>
                      <a:pt x="12607" y="7"/>
                      <a:pt x="12607" y="6"/>
                      <a:pt x="12607" y="5"/>
                    </a:cubicBezTo>
                    <a:cubicBezTo>
                      <a:pt x="12607" y="4"/>
                      <a:pt x="12607" y="3"/>
                      <a:pt x="12609" y="3"/>
                    </a:cubicBezTo>
                    <a:close/>
                    <a:moveTo>
                      <a:pt x="12617" y="3"/>
                    </a:moveTo>
                    <a:lnTo>
                      <a:pt x="12617" y="3"/>
                    </a:lnTo>
                    <a:cubicBezTo>
                      <a:pt x="12618" y="3"/>
                      <a:pt x="12619" y="4"/>
                      <a:pt x="12619" y="5"/>
                    </a:cubicBezTo>
                    <a:cubicBezTo>
                      <a:pt x="12619" y="6"/>
                      <a:pt x="12618" y="7"/>
                      <a:pt x="12617" y="7"/>
                    </a:cubicBezTo>
                    <a:lnTo>
                      <a:pt x="12617" y="7"/>
                    </a:lnTo>
                    <a:cubicBezTo>
                      <a:pt x="12615" y="7"/>
                      <a:pt x="12615" y="6"/>
                      <a:pt x="12615" y="5"/>
                    </a:cubicBezTo>
                    <a:cubicBezTo>
                      <a:pt x="12615" y="4"/>
                      <a:pt x="12615" y="3"/>
                      <a:pt x="12617" y="3"/>
                    </a:cubicBezTo>
                    <a:close/>
                    <a:moveTo>
                      <a:pt x="12625" y="3"/>
                    </a:moveTo>
                    <a:lnTo>
                      <a:pt x="12625" y="3"/>
                    </a:lnTo>
                    <a:cubicBezTo>
                      <a:pt x="12626" y="3"/>
                      <a:pt x="12627" y="4"/>
                      <a:pt x="12627" y="5"/>
                    </a:cubicBezTo>
                    <a:cubicBezTo>
                      <a:pt x="12627" y="6"/>
                      <a:pt x="12626" y="7"/>
                      <a:pt x="12625" y="7"/>
                    </a:cubicBezTo>
                    <a:lnTo>
                      <a:pt x="12625" y="7"/>
                    </a:lnTo>
                    <a:cubicBezTo>
                      <a:pt x="12623" y="7"/>
                      <a:pt x="12623" y="6"/>
                      <a:pt x="12623" y="5"/>
                    </a:cubicBezTo>
                    <a:cubicBezTo>
                      <a:pt x="12623" y="4"/>
                      <a:pt x="12623" y="3"/>
                      <a:pt x="12625" y="3"/>
                    </a:cubicBezTo>
                    <a:close/>
                    <a:moveTo>
                      <a:pt x="12633" y="3"/>
                    </a:moveTo>
                    <a:lnTo>
                      <a:pt x="12633" y="3"/>
                    </a:lnTo>
                    <a:cubicBezTo>
                      <a:pt x="12634" y="3"/>
                      <a:pt x="12635" y="4"/>
                      <a:pt x="12635" y="5"/>
                    </a:cubicBezTo>
                    <a:cubicBezTo>
                      <a:pt x="12635" y="6"/>
                      <a:pt x="12634" y="7"/>
                      <a:pt x="12633" y="7"/>
                    </a:cubicBezTo>
                    <a:lnTo>
                      <a:pt x="12633" y="7"/>
                    </a:lnTo>
                    <a:cubicBezTo>
                      <a:pt x="12631" y="7"/>
                      <a:pt x="12631" y="6"/>
                      <a:pt x="12631" y="5"/>
                    </a:cubicBezTo>
                    <a:cubicBezTo>
                      <a:pt x="12631" y="4"/>
                      <a:pt x="12631" y="3"/>
                      <a:pt x="12633" y="3"/>
                    </a:cubicBezTo>
                    <a:close/>
                    <a:moveTo>
                      <a:pt x="12641" y="3"/>
                    </a:moveTo>
                    <a:lnTo>
                      <a:pt x="12641" y="3"/>
                    </a:lnTo>
                    <a:cubicBezTo>
                      <a:pt x="12642" y="3"/>
                      <a:pt x="12643" y="4"/>
                      <a:pt x="12643" y="5"/>
                    </a:cubicBezTo>
                    <a:cubicBezTo>
                      <a:pt x="12643" y="6"/>
                      <a:pt x="12642" y="7"/>
                      <a:pt x="12641" y="7"/>
                    </a:cubicBezTo>
                    <a:lnTo>
                      <a:pt x="12641" y="7"/>
                    </a:lnTo>
                    <a:cubicBezTo>
                      <a:pt x="12639" y="7"/>
                      <a:pt x="12639" y="6"/>
                      <a:pt x="12639" y="5"/>
                    </a:cubicBezTo>
                    <a:cubicBezTo>
                      <a:pt x="12639" y="4"/>
                      <a:pt x="12639" y="3"/>
                      <a:pt x="12641" y="3"/>
                    </a:cubicBezTo>
                    <a:close/>
                    <a:moveTo>
                      <a:pt x="12649" y="3"/>
                    </a:moveTo>
                    <a:lnTo>
                      <a:pt x="12649" y="3"/>
                    </a:lnTo>
                    <a:cubicBezTo>
                      <a:pt x="12650" y="3"/>
                      <a:pt x="12651" y="4"/>
                      <a:pt x="12651" y="5"/>
                    </a:cubicBezTo>
                    <a:cubicBezTo>
                      <a:pt x="12651" y="6"/>
                      <a:pt x="12650" y="7"/>
                      <a:pt x="12649" y="7"/>
                    </a:cubicBezTo>
                    <a:lnTo>
                      <a:pt x="12649" y="7"/>
                    </a:lnTo>
                    <a:cubicBezTo>
                      <a:pt x="12647" y="7"/>
                      <a:pt x="12647" y="6"/>
                      <a:pt x="12647" y="5"/>
                    </a:cubicBezTo>
                    <a:cubicBezTo>
                      <a:pt x="12647" y="4"/>
                      <a:pt x="12647" y="3"/>
                      <a:pt x="12649" y="3"/>
                    </a:cubicBezTo>
                    <a:close/>
                    <a:moveTo>
                      <a:pt x="12657" y="3"/>
                    </a:moveTo>
                    <a:lnTo>
                      <a:pt x="12657" y="3"/>
                    </a:lnTo>
                    <a:cubicBezTo>
                      <a:pt x="12658" y="3"/>
                      <a:pt x="12659" y="4"/>
                      <a:pt x="12659" y="5"/>
                    </a:cubicBezTo>
                    <a:cubicBezTo>
                      <a:pt x="12659" y="6"/>
                      <a:pt x="12658" y="7"/>
                      <a:pt x="12657" y="7"/>
                    </a:cubicBezTo>
                    <a:lnTo>
                      <a:pt x="12657" y="7"/>
                    </a:lnTo>
                    <a:cubicBezTo>
                      <a:pt x="12655" y="7"/>
                      <a:pt x="12655" y="6"/>
                      <a:pt x="12655" y="5"/>
                    </a:cubicBezTo>
                    <a:cubicBezTo>
                      <a:pt x="12655" y="4"/>
                      <a:pt x="12655" y="3"/>
                      <a:pt x="12657" y="3"/>
                    </a:cubicBezTo>
                    <a:close/>
                    <a:moveTo>
                      <a:pt x="12665" y="3"/>
                    </a:moveTo>
                    <a:lnTo>
                      <a:pt x="12665" y="3"/>
                    </a:lnTo>
                    <a:cubicBezTo>
                      <a:pt x="12666" y="3"/>
                      <a:pt x="12667" y="4"/>
                      <a:pt x="12667" y="5"/>
                    </a:cubicBezTo>
                    <a:cubicBezTo>
                      <a:pt x="12667" y="6"/>
                      <a:pt x="12666" y="7"/>
                      <a:pt x="12665" y="7"/>
                    </a:cubicBezTo>
                    <a:lnTo>
                      <a:pt x="12665" y="7"/>
                    </a:lnTo>
                    <a:cubicBezTo>
                      <a:pt x="12663" y="7"/>
                      <a:pt x="12663" y="6"/>
                      <a:pt x="12663" y="5"/>
                    </a:cubicBezTo>
                    <a:cubicBezTo>
                      <a:pt x="12663" y="4"/>
                      <a:pt x="12663" y="3"/>
                      <a:pt x="12665" y="3"/>
                    </a:cubicBezTo>
                    <a:close/>
                    <a:moveTo>
                      <a:pt x="12673" y="3"/>
                    </a:moveTo>
                    <a:lnTo>
                      <a:pt x="12673" y="3"/>
                    </a:lnTo>
                    <a:cubicBezTo>
                      <a:pt x="12674" y="3"/>
                      <a:pt x="12675" y="4"/>
                      <a:pt x="12675" y="5"/>
                    </a:cubicBezTo>
                    <a:cubicBezTo>
                      <a:pt x="12675" y="6"/>
                      <a:pt x="12674" y="7"/>
                      <a:pt x="12673" y="7"/>
                    </a:cubicBezTo>
                    <a:lnTo>
                      <a:pt x="12673" y="7"/>
                    </a:lnTo>
                    <a:cubicBezTo>
                      <a:pt x="12671" y="7"/>
                      <a:pt x="12671" y="6"/>
                      <a:pt x="12671" y="5"/>
                    </a:cubicBezTo>
                    <a:cubicBezTo>
                      <a:pt x="12671" y="4"/>
                      <a:pt x="12671" y="3"/>
                      <a:pt x="12673" y="3"/>
                    </a:cubicBezTo>
                    <a:close/>
                    <a:moveTo>
                      <a:pt x="12681" y="3"/>
                    </a:moveTo>
                    <a:lnTo>
                      <a:pt x="12681" y="3"/>
                    </a:lnTo>
                    <a:cubicBezTo>
                      <a:pt x="12682" y="3"/>
                      <a:pt x="12683" y="4"/>
                      <a:pt x="12683" y="5"/>
                    </a:cubicBezTo>
                    <a:cubicBezTo>
                      <a:pt x="12683" y="6"/>
                      <a:pt x="12682" y="7"/>
                      <a:pt x="12681" y="7"/>
                    </a:cubicBezTo>
                    <a:lnTo>
                      <a:pt x="12681" y="7"/>
                    </a:lnTo>
                    <a:cubicBezTo>
                      <a:pt x="12679" y="7"/>
                      <a:pt x="12679" y="6"/>
                      <a:pt x="12679" y="5"/>
                    </a:cubicBezTo>
                    <a:cubicBezTo>
                      <a:pt x="12679" y="4"/>
                      <a:pt x="12679" y="3"/>
                      <a:pt x="12681" y="3"/>
                    </a:cubicBezTo>
                    <a:close/>
                    <a:moveTo>
                      <a:pt x="12689" y="3"/>
                    </a:moveTo>
                    <a:lnTo>
                      <a:pt x="12689" y="3"/>
                    </a:lnTo>
                    <a:cubicBezTo>
                      <a:pt x="12690" y="3"/>
                      <a:pt x="12691" y="4"/>
                      <a:pt x="12691" y="5"/>
                    </a:cubicBezTo>
                    <a:cubicBezTo>
                      <a:pt x="12691" y="6"/>
                      <a:pt x="12690" y="7"/>
                      <a:pt x="12689" y="7"/>
                    </a:cubicBezTo>
                    <a:lnTo>
                      <a:pt x="12689" y="7"/>
                    </a:lnTo>
                    <a:cubicBezTo>
                      <a:pt x="12687" y="7"/>
                      <a:pt x="12687" y="6"/>
                      <a:pt x="12687" y="5"/>
                    </a:cubicBezTo>
                    <a:cubicBezTo>
                      <a:pt x="12687" y="4"/>
                      <a:pt x="12687" y="3"/>
                      <a:pt x="12689" y="3"/>
                    </a:cubicBezTo>
                    <a:close/>
                    <a:moveTo>
                      <a:pt x="12697" y="3"/>
                    </a:moveTo>
                    <a:lnTo>
                      <a:pt x="12697" y="3"/>
                    </a:lnTo>
                    <a:cubicBezTo>
                      <a:pt x="12698" y="3"/>
                      <a:pt x="12699" y="4"/>
                      <a:pt x="12699" y="5"/>
                    </a:cubicBezTo>
                    <a:cubicBezTo>
                      <a:pt x="12699" y="6"/>
                      <a:pt x="12698" y="7"/>
                      <a:pt x="12697" y="7"/>
                    </a:cubicBezTo>
                    <a:lnTo>
                      <a:pt x="12697" y="7"/>
                    </a:lnTo>
                    <a:cubicBezTo>
                      <a:pt x="12695" y="7"/>
                      <a:pt x="12695" y="6"/>
                      <a:pt x="12695" y="5"/>
                    </a:cubicBezTo>
                    <a:cubicBezTo>
                      <a:pt x="12695" y="4"/>
                      <a:pt x="12695" y="3"/>
                      <a:pt x="12697" y="3"/>
                    </a:cubicBezTo>
                    <a:close/>
                    <a:moveTo>
                      <a:pt x="12705" y="3"/>
                    </a:moveTo>
                    <a:lnTo>
                      <a:pt x="12705" y="3"/>
                    </a:lnTo>
                    <a:cubicBezTo>
                      <a:pt x="12706" y="3"/>
                      <a:pt x="12707" y="4"/>
                      <a:pt x="12707" y="5"/>
                    </a:cubicBezTo>
                    <a:cubicBezTo>
                      <a:pt x="12707" y="6"/>
                      <a:pt x="12706" y="7"/>
                      <a:pt x="12705" y="7"/>
                    </a:cubicBezTo>
                    <a:lnTo>
                      <a:pt x="12705" y="7"/>
                    </a:lnTo>
                    <a:cubicBezTo>
                      <a:pt x="12703" y="7"/>
                      <a:pt x="12703" y="6"/>
                      <a:pt x="12703" y="5"/>
                    </a:cubicBezTo>
                    <a:cubicBezTo>
                      <a:pt x="12703" y="4"/>
                      <a:pt x="12703" y="3"/>
                      <a:pt x="12705" y="3"/>
                    </a:cubicBezTo>
                    <a:close/>
                    <a:moveTo>
                      <a:pt x="12713" y="3"/>
                    </a:moveTo>
                    <a:lnTo>
                      <a:pt x="12713" y="3"/>
                    </a:lnTo>
                    <a:cubicBezTo>
                      <a:pt x="12714" y="3"/>
                      <a:pt x="12715" y="4"/>
                      <a:pt x="12715" y="5"/>
                    </a:cubicBezTo>
                    <a:cubicBezTo>
                      <a:pt x="12715" y="6"/>
                      <a:pt x="12714" y="7"/>
                      <a:pt x="12713" y="7"/>
                    </a:cubicBezTo>
                    <a:lnTo>
                      <a:pt x="12713" y="7"/>
                    </a:lnTo>
                    <a:cubicBezTo>
                      <a:pt x="12711" y="7"/>
                      <a:pt x="12711" y="6"/>
                      <a:pt x="12711" y="5"/>
                    </a:cubicBezTo>
                    <a:cubicBezTo>
                      <a:pt x="12711" y="4"/>
                      <a:pt x="12711" y="3"/>
                      <a:pt x="12713" y="3"/>
                    </a:cubicBezTo>
                    <a:close/>
                    <a:moveTo>
                      <a:pt x="12721" y="3"/>
                    </a:moveTo>
                    <a:lnTo>
                      <a:pt x="12721" y="3"/>
                    </a:lnTo>
                    <a:cubicBezTo>
                      <a:pt x="12722" y="3"/>
                      <a:pt x="12723" y="4"/>
                      <a:pt x="12723" y="5"/>
                    </a:cubicBezTo>
                    <a:cubicBezTo>
                      <a:pt x="12723" y="6"/>
                      <a:pt x="12722" y="7"/>
                      <a:pt x="12721" y="7"/>
                    </a:cubicBezTo>
                    <a:lnTo>
                      <a:pt x="12721" y="7"/>
                    </a:lnTo>
                    <a:cubicBezTo>
                      <a:pt x="12719" y="7"/>
                      <a:pt x="12719" y="6"/>
                      <a:pt x="12719" y="5"/>
                    </a:cubicBezTo>
                    <a:cubicBezTo>
                      <a:pt x="12719" y="4"/>
                      <a:pt x="12719" y="3"/>
                      <a:pt x="12721" y="3"/>
                    </a:cubicBezTo>
                    <a:close/>
                    <a:moveTo>
                      <a:pt x="12729" y="3"/>
                    </a:moveTo>
                    <a:lnTo>
                      <a:pt x="12729" y="3"/>
                    </a:lnTo>
                    <a:cubicBezTo>
                      <a:pt x="12730" y="3"/>
                      <a:pt x="12731" y="4"/>
                      <a:pt x="12731" y="5"/>
                    </a:cubicBezTo>
                    <a:cubicBezTo>
                      <a:pt x="12731" y="6"/>
                      <a:pt x="12730" y="7"/>
                      <a:pt x="12729" y="7"/>
                    </a:cubicBezTo>
                    <a:lnTo>
                      <a:pt x="12729" y="7"/>
                    </a:lnTo>
                    <a:cubicBezTo>
                      <a:pt x="12727" y="7"/>
                      <a:pt x="12727" y="6"/>
                      <a:pt x="12727" y="5"/>
                    </a:cubicBezTo>
                    <a:cubicBezTo>
                      <a:pt x="12727" y="4"/>
                      <a:pt x="12727" y="3"/>
                      <a:pt x="12729" y="3"/>
                    </a:cubicBezTo>
                    <a:close/>
                    <a:moveTo>
                      <a:pt x="12737" y="3"/>
                    </a:moveTo>
                    <a:lnTo>
                      <a:pt x="12737" y="3"/>
                    </a:lnTo>
                    <a:cubicBezTo>
                      <a:pt x="12738" y="3"/>
                      <a:pt x="12739" y="4"/>
                      <a:pt x="12739" y="5"/>
                    </a:cubicBezTo>
                    <a:cubicBezTo>
                      <a:pt x="12739" y="6"/>
                      <a:pt x="12738" y="7"/>
                      <a:pt x="12737" y="7"/>
                    </a:cubicBezTo>
                    <a:lnTo>
                      <a:pt x="12737" y="7"/>
                    </a:lnTo>
                    <a:cubicBezTo>
                      <a:pt x="12735" y="7"/>
                      <a:pt x="12735" y="6"/>
                      <a:pt x="12735" y="5"/>
                    </a:cubicBezTo>
                    <a:cubicBezTo>
                      <a:pt x="12735" y="4"/>
                      <a:pt x="12735" y="3"/>
                      <a:pt x="12737" y="3"/>
                    </a:cubicBezTo>
                    <a:close/>
                    <a:moveTo>
                      <a:pt x="12745" y="3"/>
                    </a:moveTo>
                    <a:lnTo>
                      <a:pt x="12745" y="3"/>
                    </a:lnTo>
                    <a:cubicBezTo>
                      <a:pt x="12746" y="3"/>
                      <a:pt x="12747" y="4"/>
                      <a:pt x="12747" y="5"/>
                    </a:cubicBezTo>
                    <a:cubicBezTo>
                      <a:pt x="12747" y="6"/>
                      <a:pt x="12746" y="7"/>
                      <a:pt x="12745" y="7"/>
                    </a:cubicBezTo>
                    <a:lnTo>
                      <a:pt x="12745" y="7"/>
                    </a:lnTo>
                    <a:cubicBezTo>
                      <a:pt x="12743" y="7"/>
                      <a:pt x="12743" y="6"/>
                      <a:pt x="12743" y="5"/>
                    </a:cubicBezTo>
                    <a:cubicBezTo>
                      <a:pt x="12743" y="4"/>
                      <a:pt x="12743" y="3"/>
                      <a:pt x="12745" y="3"/>
                    </a:cubicBezTo>
                    <a:close/>
                    <a:moveTo>
                      <a:pt x="12753" y="3"/>
                    </a:moveTo>
                    <a:lnTo>
                      <a:pt x="12753" y="3"/>
                    </a:lnTo>
                    <a:cubicBezTo>
                      <a:pt x="12754" y="3"/>
                      <a:pt x="12755" y="4"/>
                      <a:pt x="12755" y="5"/>
                    </a:cubicBezTo>
                    <a:cubicBezTo>
                      <a:pt x="12755" y="6"/>
                      <a:pt x="12754" y="7"/>
                      <a:pt x="12753" y="7"/>
                    </a:cubicBezTo>
                    <a:lnTo>
                      <a:pt x="12753" y="7"/>
                    </a:lnTo>
                    <a:cubicBezTo>
                      <a:pt x="12751" y="7"/>
                      <a:pt x="12751" y="6"/>
                      <a:pt x="12751" y="5"/>
                    </a:cubicBezTo>
                    <a:cubicBezTo>
                      <a:pt x="12751" y="4"/>
                      <a:pt x="12751" y="3"/>
                      <a:pt x="12753" y="3"/>
                    </a:cubicBezTo>
                    <a:close/>
                    <a:moveTo>
                      <a:pt x="12761" y="3"/>
                    </a:moveTo>
                    <a:lnTo>
                      <a:pt x="12761" y="3"/>
                    </a:lnTo>
                    <a:cubicBezTo>
                      <a:pt x="12762" y="3"/>
                      <a:pt x="12763" y="4"/>
                      <a:pt x="12763" y="5"/>
                    </a:cubicBezTo>
                    <a:cubicBezTo>
                      <a:pt x="12763" y="6"/>
                      <a:pt x="12762" y="7"/>
                      <a:pt x="12761" y="7"/>
                    </a:cubicBezTo>
                    <a:lnTo>
                      <a:pt x="12761" y="7"/>
                    </a:lnTo>
                    <a:cubicBezTo>
                      <a:pt x="12759" y="7"/>
                      <a:pt x="12759" y="6"/>
                      <a:pt x="12759" y="5"/>
                    </a:cubicBezTo>
                    <a:cubicBezTo>
                      <a:pt x="12759" y="4"/>
                      <a:pt x="12759" y="3"/>
                      <a:pt x="12761" y="3"/>
                    </a:cubicBezTo>
                    <a:close/>
                    <a:moveTo>
                      <a:pt x="12769" y="3"/>
                    </a:moveTo>
                    <a:lnTo>
                      <a:pt x="12769" y="3"/>
                    </a:lnTo>
                    <a:cubicBezTo>
                      <a:pt x="12770" y="3"/>
                      <a:pt x="12771" y="4"/>
                      <a:pt x="12771" y="5"/>
                    </a:cubicBezTo>
                    <a:cubicBezTo>
                      <a:pt x="12771" y="6"/>
                      <a:pt x="12770" y="7"/>
                      <a:pt x="12769" y="7"/>
                    </a:cubicBezTo>
                    <a:lnTo>
                      <a:pt x="12769" y="7"/>
                    </a:lnTo>
                    <a:cubicBezTo>
                      <a:pt x="12767" y="7"/>
                      <a:pt x="12767" y="6"/>
                      <a:pt x="12767" y="5"/>
                    </a:cubicBezTo>
                    <a:cubicBezTo>
                      <a:pt x="12767" y="4"/>
                      <a:pt x="12767" y="3"/>
                      <a:pt x="12769" y="3"/>
                    </a:cubicBezTo>
                    <a:close/>
                    <a:moveTo>
                      <a:pt x="12777" y="3"/>
                    </a:moveTo>
                    <a:lnTo>
                      <a:pt x="12777" y="3"/>
                    </a:lnTo>
                    <a:cubicBezTo>
                      <a:pt x="12778" y="3"/>
                      <a:pt x="12779" y="4"/>
                      <a:pt x="12779" y="5"/>
                    </a:cubicBezTo>
                    <a:cubicBezTo>
                      <a:pt x="12779" y="6"/>
                      <a:pt x="12778" y="7"/>
                      <a:pt x="12777" y="7"/>
                    </a:cubicBezTo>
                    <a:lnTo>
                      <a:pt x="12777" y="7"/>
                    </a:lnTo>
                    <a:cubicBezTo>
                      <a:pt x="12776" y="7"/>
                      <a:pt x="12775" y="6"/>
                      <a:pt x="12775" y="5"/>
                    </a:cubicBezTo>
                    <a:cubicBezTo>
                      <a:pt x="12775" y="4"/>
                      <a:pt x="12776" y="3"/>
                      <a:pt x="12777" y="3"/>
                    </a:cubicBezTo>
                    <a:close/>
                    <a:moveTo>
                      <a:pt x="12785" y="3"/>
                    </a:moveTo>
                    <a:lnTo>
                      <a:pt x="12785" y="3"/>
                    </a:lnTo>
                    <a:cubicBezTo>
                      <a:pt x="12786" y="3"/>
                      <a:pt x="12787" y="4"/>
                      <a:pt x="12787" y="5"/>
                    </a:cubicBezTo>
                    <a:cubicBezTo>
                      <a:pt x="12787" y="6"/>
                      <a:pt x="12786" y="7"/>
                      <a:pt x="12785" y="7"/>
                    </a:cubicBezTo>
                    <a:lnTo>
                      <a:pt x="12785" y="7"/>
                    </a:lnTo>
                    <a:cubicBezTo>
                      <a:pt x="12784" y="7"/>
                      <a:pt x="12783" y="6"/>
                      <a:pt x="12783" y="5"/>
                    </a:cubicBezTo>
                    <a:cubicBezTo>
                      <a:pt x="12783" y="4"/>
                      <a:pt x="12784" y="3"/>
                      <a:pt x="12785" y="3"/>
                    </a:cubicBezTo>
                    <a:close/>
                    <a:moveTo>
                      <a:pt x="12793" y="3"/>
                    </a:moveTo>
                    <a:lnTo>
                      <a:pt x="12793" y="3"/>
                    </a:lnTo>
                    <a:cubicBezTo>
                      <a:pt x="12794" y="3"/>
                      <a:pt x="12795" y="4"/>
                      <a:pt x="12795" y="5"/>
                    </a:cubicBezTo>
                    <a:cubicBezTo>
                      <a:pt x="12795" y="6"/>
                      <a:pt x="12794" y="7"/>
                      <a:pt x="12793" y="7"/>
                    </a:cubicBezTo>
                    <a:lnTo>
                      <a:pt x="12793" y="7"/>
                    </a:lnTo>
                    <a:cubicBezTo>
                      <a:pt x="12792" y="7"/>
                      <a:pt x="12791" y="6"/>
                      <a:pt x="12791" y="5"/>
                    </a:cubicBezTo>
                    <a:cubicBezTo>
                      <a:pt x="12791" y="4"/>
                      <a:pt x="12792" y="3"/>
                      <a:pt x="12793" y="3"/>
                    </a:cubicBezTo>
                    <a:close/>
                    <a:moveTo>
                      <a:pt x="12801" y="3"/>
                    </a:moveTo>
                    <a:lnTo>
                      <a:pt x="12801" y="3"/>
                    </a:lnTo>
                    <a:cubicBezTo>
                      <a:pt x="12802" y="3"/>
                      <a:pt x="12803" y="4"/>
                      <a:pt x="12803" y="5"/>
                    </a:cubicBezTo>
                    <a:cubicBezTo>
                      <a:pt x="12803" y="6"/>
                      <a:pt x="12802" y="7"/>
                      <a:pt x="12801" y="7"/>
                    </a:cubicBezTo>
                    <a:lnTo>
                      <a:pt x="12801" y="7"/>
                    </a:lnTo>
                    <a:cubicBezTo>
                      <a:pt x="12800" y="7"/>
                      <a:pt x="12799" y="6"/>
                      <a:pt x="12799" y="5"/>
                    </a:cubicBezTo>
                    <a:cubicBezTo>
                      <a:pt x="12799" y="4"/>
                      <a:pt x="12800" y="3"/>
                      <a:pt x="12801" y="3"/>
                    </a:cubicBezTo>
                    <a:close/>
                    <a:moveTo>
                      <a:pt x="12809" y="3"/>
                    </a:moveTo>
                    <a:lnTo>
                      <a:pt x="12809" y="3"/>
                    </a:lnTo>
                    <a:cubicBezTo>
                      <a:pt x="12810" y="3"/>
                      <a:pt x="12811" y="4"/>
                      <a:pt x="12811" y="5"/>
                    </a:cubicBezTo>
                    <a:cubicBezTo>
                      <a:pt x="12811" y="6"/>
                      <a:pt x="12810" y="7"/>
                      <a:pt x="12809" y="7"/>
                    </a:cubicBezTo>
                    <a:lnTo>
                      <a:pt x="12809" y="7"/>
                    </a:lnTo>
                    <a:cubicBezTo>
                      <a:pt x="12808" y="7"/>
                      <a:pt x="12807" y="6"/>
                      <a:pt x="12807" y="5"/>
                    </a:cubicBezTo>
                    <a:cubicBezTo>
                      <a:pt x="12807" y="4"/>
                      <a:pt x="12808" y="3"/>
                      <a:pt x="12809" y="3"/>
                    </a:cubicBezTo>
                    <a:close/>
                    <a:moveTo>
                      <a:pt x="12817" y="3"/>
                    </a:moveTo>
                    <a:lnTo>
                      <a:pt x="12817" y="3"/>
                    </a:lnTo>
                    <a:cubicBezTo>
                      <a:pt x="12818" y="3"/>
                      <a:pt x="12819" y="4"/>
                      <a:pt x="12819" y="5"/>
                    </a:cubicBezTo>
                    <a:cubicBezTo>
                      <a:pt x="12819" y="6"/>
                      <a:pt x="12818" y="7"/>
                      <a:pt x="12817" y="7"/>
                    </a:cubicBezTo>
                    <a:lnTo>
                      <a:pt x="12817" y="7"/>
                    </a:lnTo>
                    <a:cubicBezTo>
                      <a:pt x="12816" y="7"/>
                      <a:pt x="12815" y="6"/>
                      <a:pt x="12815" y="5"/>
                    </a:cubicBezTo>
                    <a:cubicBezTo>
                      <a:pt x="12815" y="4"/>
                      <a:pt x="12816" y="3"/>
                      <a:pt x="12817" y="3"/>
                    </a:cubicBezTo>
                    <a:close/>
                    <a:moveTo>
                      <a:pt x="12825" y="3"/>
                    </a:moveTo>
                    <a:lnTo>
                      <a:pt x="12825" y="3"/>
                    </a:lnTo>
                    <a:cubicBezTo>
                      <a:pt x="12826" y="3"/>
                      <a:pt x="12827" y="4"/>
                      <a:pt x="12827" y="5"/>
                    </a:cubicBezTo>
                    <a:cubicBezTo>
                      <a:pt x="12827" y="6"/>
                      <a:pt x="12826" y="7"/>
                      <a:pt x="12825" y="7"/>
                    </a:cubicBezTo>
                    <a:lnTo>
                      <a:pt x="12825" y="7"/>
                    </a:lnTo>
                    <a:cubicBezTo>
                      <a:pt x="12824" y="7"/>
                      <a:pt x="12823" y="6"/>
                      <a:pt x="12823" y="5"/>
                    </a:cubicBezTo>
                    <a:cubicBezTo>
                      <a:pt x="12823" y="4"/>
                      <a:pt x="12824" y="3"/>
                      <a:pt x="12825" y="3"/>
                    </a:cubicBezTo>
                    <a:close/>
                    <a:moveTo>
                      <a:pt x="12833" y="3"/>
                    </a:moveTo>
                    <a:lnTo>
                      <a:pt x="12833" y="3"/>
                    </a:lnTo>
                    <a:cubicBezTo>
                      <a:pt x="12834" y="3"/>
                      <a:pt x="12835" y="4"/>
                      <a:pt x="12835" y="5"/>
                    </a:cubicBezTo>
                    <a:cubicBezTo>
                      <a:pt x="12835" y="6"/>
                      <a:pt x="12834" y="7"/>
                      <a:pt x="12833" y="7"/>
                    </a:cubicBezTo>
                    <a:lnTo>
                      <a:pt x="12833" y="7"/>
                    </a:lnTo>
                    <a:cubicBezTo>
                      <a:pt x="12832" y="7"/>
                      <a:pt x="12831" y="6"/>
                      <a:pt x="12831" y="5"/>
                    </a:cubicBezTo>
                    <a:cubicBezTo>
                      <a:pt x="12831" y="4"/>
                      <a:pt x="12832" y="3"/>
                      <a:pt x="12833" y="3"/>
                    </a:cubicBezTo>
                    <a:close/>
                    <a:moveTo>
                      <a:pt x="12841" y="3"/>
                    </a:moveTo>
                    <a:lnTo>
                      <a:pt x="12841" y="3"/>
                    </a:lnTo>
                    <a:cubicBezTo>
                      <a:pt x="12842" y="3"/>
                      <a:pt x="12843" y="4"/>
                      <a:pt x="12843" y="5"/>
                    </a:cubicBezTo>
                    <a:cubicBezTo>
                      <a:pt x="12843" y="6"/>
                      <a:pt x="12842" y="7"/>
                      <a:pt x="12841" y="7"/>
                    </a:cubicBezTo>
                    <a:lnTo>
                      <a:pt x="12841" y="7"/>
                    </a:lnTo>
                    <a:cubicBezTo>
                      <a:pt x="12840" y="7"/>
                      <a:pt x="12839" y="6"/>
                      <a:pt x="12839" y="5"/>
                    </a:cubicBezTo>
                    <a:cubicBezTo>
                      <a:pt x="12839" y="4"/>
                      <a:pt x="12840" y="3"/>
                      <a:pt x="12841" y="3"/>
                    </a:cubicBezTo>
                    <a:close/>
                    <a:moveTo>
                      <a:pt x="12849" y="3"/>
                    </a:moveTo>
                    <a:lnTo>
                      <a:pt x="12849" y="3"/>
                    </a:lnTo>
                    <a:cubicBezTo>
                      <a:pt x="12850" y="3"/>
                      <a:pt x="12851" y="4"/>
                      <a:pt x="12851" y="5"/>
                    </a:cubicBezTo>
                    <a:cubicBezTo>
                      <a:pt x="12851" y="6"/>
                      <a:pt x="12850" y="7"/>
                      <a:pt x="12849" y="7"/>
                    </a:cubicBezTo>
                    <a:lnTo>
                      <a:pt x="12849" y="7"/>
                    </a:lnTo>
                    <a:cubicBezTo>
                      <a:pt x="12848" y="7"/>
                      <a:pt x="12847" y="6"/>
                      <a:pt x="12847" y="5"/>
                    </a:cubicBezTo>
                    <a:cubicBezTo>
                      <a:pt x="12847" y="4"/>
                      <a:pt x="12848" y="3"/>
                      <a:pt x="12849" y="3"/>
                    </a:cubicBezTo>
                    <a:close/>
                    <a:moveTo>
                      <a:pt x="12857" y="3"/>
                    </a:moveTo>
                    <a:lnTo>
                      <a:pt x="12857" y="3"/>
                    </a:lnTo>
                    <a:cubicBezTo>
                      <a:pt x="12858" y="3"/>
                      <a:pt x="12859" y="4"/>
                      <a:pt x="12859" y="5"/>
                    </a:cubicBezTo>
                    <a:cubicBezTo>
                      <a:pt x="12859" y="6"/>
                      <a:pt x="12858" y="7"/>
                      <a:pt x="12857" y="7"/>
                    </a:cubicBezTo>
                    <a:lnTo>
                      <a:pt x="12857" y="7"/>
                    </a:lnTo>
                    <a:cubicBezTo>
                      <a:pt x="12856" y="7"/>
                      <a:pt x="12855" y="6"/>
                      <a:pt x="12855" y="5"/>
                    </a:cubicBezTo>
                    <a:cubicBezTo>
                      <a:pt x="12855" y="4"/>
                      <a:pt x="12856" y="3"/>
                      <a:pt x="12857" y="3"/>
                    </a:cubicBezTo>
                    <a:close/>
                    <a:moveTo>
                      <a:pt x="12865" y="3"/>
                    </a:moveTo>
                    <a:lnTo>
                      <a:pt x="12865" y="3"/>
                    </a:lnTo>
                    <a:cubicBezTo>
                      <a:pt x="12866" y="3"/>
                      <a:pt x="12867" y="4"/>
                      <a:pt x="12867" y="5"/>
                    </a:cubicBezTo>
                    <a:cubicBezTo>
                      <a:pt x="12867" y="6"/>
                      <a:pt x="12866" y="7"/>
                      <a:pt x="12865" y="7"/>
                    </a:cubicBezTo>
                    <a:lnTo>
                      <a:pt x="12865" y="7"/>
                    </a:lnTo>
                    <a:cubicBezTo>
                      <a:pt x="12864" y="7"/>
                      <a:pt x="12863" y="6"/>
                      <a:pt x="12863" y="5"/>
                    </a:cubicBezTo>
                    <a:cubicBezTo>
                      <a:pt x="12863" y="4"/>
                      <a:pt x="12864" y="3"/>
                      <a:pt x="12865" y="3"/>
                    </a:cubicBezTo>
                    <a:close/>
                    <a:moveTo>
                      <a:pt x="12873" y="3"/>
                    </a:moveTo>
                    <a:lnTo>
                      <a:pt x="12873" y="3"/>
                    </a:lnTo>
                    <a:cubicBezTo>
                      <a:pt x="12874" y="3"/>
                      <a:pt x="12875" y="4"/>
                      <a:pt x="12875" y="5"/>
                    </a:cubicBezTo>
                    <a:cubicBezTo>
                      <a:pt x="12875" y="6"/>
                      <a:pt x="12874" y="7"/>
                      <a:pt x="12873" y="7"/>
                    </a:cubicBezTo>
                    <a:lnTo>
                      <a:pt x="12873" y="7"/>
                    </a:lnTo>
                    <a:cubicBezTo>
                      <a:pt x="12872" y="7"/>
                      <a:pt x="12871" y="6"/>
                      <a:pt x="12871" y="5"/>
                    </a:cubicBezTo>
                    <a:cubicBezTo>
                      <a:pt x="12871" y="4"/>
                      <a:pt x="12872" y="3"/>
                      <a:pt x="12873" y="3"/>
                    </a:cubicBezTo>
                    <a:close/>
                    <a:moveTo>
                      <a:pt x="12881" y="3"/>
                    </a:moveTo>
                    <a:lnTo>
                      <a:pt x="12881" y="3"/>
                    </a:lnTo>
                    <a:cubicBezTo>
                      <a:pt x="12882" y="3"/>
                      <a:pt x="12883" y="4"/>
                      <a:pt x="12883" y="5"/>
                    </a:cubicBezTo>
                    <a:cubicBezTo>
                      <a:pt x="12883" y="6"/>
                      <a:pt x="12882" y="7"/>
                      <a:pt x="12881" y="7"/>
                    </a:cubicBezTo>
                    <a:lnTo>
                      <a:pt x="12881" y="7"/>
                    </a:lnTo>
                    <a:cubicBezTo>
                      <a:pt x="12880" y="7"/>
                      <a:pt x="12879" y="6"/>
                      <a:pt x="12879" y="5"/>
                    </a:cubicBezTo>
                    <a:cubicBezTo>
                      <a:pt x="12879" y="4"/>
                      <a:pt x="12880" y="3"/>
                      <a:pt x="12881" y="3"/>
                    </a:cubicBezTo>
                    <a:close/>
                    <a:moveTo>
                      <a:pt x="12889" y="3"/>
                    </a:moveTo>
                    <a:lnTo>
                      <a:pt x="12889" y="3"/>
                    </a:lnTo>
                    <a:cubicBezTo>
                      <a:pt x="12890" y="3"/>
                      <a:pt x="12891" y="4"/>
                      <a:pt x="12891" y="5"/>
                    </a:cubicBezTo>
                    <a:cubicBezTo>
                      <a:pt x="12891" y="6"/>
                      <a:pt x="12890" y="7"/>
                      <a:pt x="12889" y="7"/>
                    </a:cubicBezTo>
                    <a:lnTo>
                      <a:pt x="12889" y="7"/>
                    </a:lnTo>
                    <a:cubicBezTo>
                      <a:pt x="12888" y="7"/>
                      <a:pt x="12887" y="6"/>
                      <a:pt x="12887" y="5"/>
                    </a:cubicBezTo>
                    <a:cubicBezTo>
                      <a:pt x="12887" y="4"/>
                      <a:pt x="12888" y="3"/>
                      <a:pt x="12889" y="3"/>
                    </a:cubicBezTo>
                    <a:close/>
                    <a:moveTo>
                      <a:pt x="12897" y="3"/>
                    </a:moveTo>
                    <a:lnTo>
                      <a:pt x="12897" y="3"/>
                    </a:lnTo>
                    <a:cubicBezTo>
                      <a:pt x="12898" y="3"/>
                      <a:pt x="12899" y="4"/>
                      <a:pt x="12899" y="5"/>
                    </a:cubicBezTo>
                    <a:cubicBezTo>
                      <a:pt x="12899" y="6"/>
                      <a:pt x="12898" y="7"/>
                      <a:pt x="12897" y="7"/>
                    </a:cubicBezTo>
                    <a:lnTo>
                      <a:pt x="12897" y="7"/>
                    </a:lnTo>
                    <a:cubicBezTo>
                      <a:pt x="12896" y="7"/>
                      <a:pt x="12895" y="6"/>
                      <a:pt x="12895" y="5"/>
                    </a:cubicBezTo>
                    <a:cubicBezTo>
                      <a:pt x="12895" y="4"/>
                      <a:pt x="12896" y="3"/>
                      <a:pt x="12897" y="3"/>
                    </a:cubicBezTo>
                    <a:close/>
                    <a:moveTo>
                      <a:pt x="12905" y="3"/>
                    </a:moveTo>
                    <a:lnTo>
                      <a:pt x="12905" y="3"/>
                    </a:lnTo>
                    <a:cubicBezTo>
                      <a:pt x="12906" y="3"/>
                      <a:pt x="12907" y="4"/>
                      <a:pt x="12907" y="5"/>
                    </a:cubicBezTo>
                    <a:cubicBezTo>
                      <a:pt x="12907" y="6"/>
                      <a:pt x="12906" y="7"/>
                      <a:pt x="12905" y="7"/>
                    </a:cubicBezTo>
                    <a:lnTo>
                      <a:pt x="12905" y="7"/>
                    </a:lnTo>
                    <a:cubicBezTo>
                      <a:pt x="12904" y="7"/>
                      <a:pt x="12903" y="6"/>
                      <a:pt x="12903" y="5"/>
                    </a:cubicBezTo>
                    <a:cubicBezTo>
                      <a:pt x="12903" y="4"/>
                      <a:pt x="12904" y="3"/>
                      <a:pt x="12905" y="3"/>
                    </a:cubicBezTo>
                    <a:close/>
                    <a:moveTo>
                      <a:pt x="12913" y="3"/>
                    </a:moveTo>
                    <a:lnTo>
                      <a:pt x="12913" y="3"/>
                    </a:lnTo>
                    <a:cubicBezTo>
                      <a:pt x="12914" y="3"/>
                      <a:pt x="12915" y="4"/>
                      <a:pt x="12915" y="5"/>
                    </a:cubicBezTo>
                    <a:cubicBezTo>
                      <a:pt x="12915" y="6"/>
                      <a:pt x="12914" y="7"/>
                      <a:pt x="12913" y="7"/>
                    </a:cubicBezTo>
                    <a:lnTo>
                      <a:pt x="12913" y="7"/>
                    </a:lnTo>
                    <a:cubicBezTo>
                      <a:pt x="12912" y="7"/>
                      <a:pt x="12911" y="6"/>
                      <a:pt x="12911" y="5"/>
                    </a:cubicBezTo>
                    <a:cubicBezTo>
                      <a:pt x="12911" y="4"/>
                      <a:pt x="12912" y="3"/>
                      <a:pt x="12913" y="3"/>
                    </a:cubicBezTo>
                    <a:close/>
                    <a:moveTo>
                      <a:pt x="12921" y="3"/>
                    </a:moveTo>
                    <a:lnTo>
                      <a:pt x="12921" y="3"/>
                    </a:lnTo>
                    <a:cubicBezTo>
                      <a:pt x="12922" y="3"/>
                      <a:pt x="12923" y="4"/>
                      <a:pt x="12923" y="5"/>
                    </a:cubicBezTo>
                    <a:cubicBezTo>
                      <a:pt x="12923" y="6"/>
                      <a:pt x="12922" y="7"/>
                      <a:pt x="12921" y="7"/>
                    </a:cubicBezTo>
                    <a:lnTo>
                      <a:pt x="12921" y="7"/>
                    </a:lnTo>
                    <a:cubicBezTo>
                      <a:pt x="12920" y="7"/>
                      <a:pt x="12919" y="6"/>
                      <a:pt x="12919" y="5"/>
                    </a:cubicBezTo>
                    <a:cubicBezTo>
                      <a:pt x="12919" y="4"/>
                      <a:pt x="12920" y="3"/>
                      <a:pt x="12921" y="3"/>
                    </a:cubicBezTo>
                    <a:close/>
                    <a:moveTo>
                      <a:pt x="12929" y="3"/>
                    </a:moveTo>
                    <a:lnTo>
                      <a:pt x="12929" y="3"/>
                    </a:lnTo>
                    <a:cubicBezTo>
                      <a:pt x="12930" y="3"/>
                      <a:pt x="12931" y="4"/>
                      <a:pt x="12931" y="5"/>
                    </a:cubicBezTo>
                    <a:cubicBezTo>
                      <a:pt x="12931" y="6"/>
                      <a:pt x="12930" y="7"/>
                      <a:pt x="12929" y="7"/>
                    </a:cubicBezTo>
                    <a:lnTo>
                      <a:pt x="12929" y="7"/>
                    </a:lnTo>
                    <a:cubicBezTo>
                      <a:pt x="12928" y="7"/>
                      <a:pt x="12927" y="6"/>
                      <a:pt x="12927" y="5"/>
                    </a:cubicBezTo>
                    <a:cubicBezTo>
                      <a:pt x="12927" y="4"/>
                      <a:pt x="12928" y="3"/>
                      <a:pt x="12929" y="3"/>
                    </a:cubicBezTo>
                    <a:close/>
                    <a:moveTo>
                      <a:pt x="12937" y="3"/>
                    </a:moveTo>
                    <a:lnTo>
                      <a:pt x="12937" y="3"/>
                    </a:lnTo>
                    <a:cubicBezTo>
                      <a:pt x="12938" y="3"/>
                      <a:pt x="12939" y="4"/>
                      <a:pt x="12939" y="5"/>
                    </a:cubicBezTo>
                    <a:cubicBezTo>
                      <a:pt x="12939" y="6"/>
                      <a:pt x="12938" y="7"/>
                      <a:pt x="12937" y="7"/>
                    </a:cubicBezTo>
                    <a:lnTo>
                      <a:pt x="12937" y="7"/>
                    </a:lnTo>
                    <a:cubicBezTo>
                      <a:pt x="12936" y="7"/>
                      <a:pt x="12935" y="6"/>
                      <a:pt x="12935" y="5"/>
                    </a:cubicBezTo>
                    <a:cubicBezTo>
                      <a:pt x="12935" y="4"/>
                      <a:pt x="12936" y="3"/>
                      <a:pt x="12937" y="3"/>
                    </a:cubicBezTo>
                    <a:close/>
                    <a:moveTo>
                      <a:pt x="12945" y="3"/>
                    </a:moveTo>
                    <a:lnTo>
                      <a:pt x="12945" y="3"/>
                    </a:lnTo>
                    <a:cubicBezTo>
                      <a:pt x="12946" y="3"/>
                      <a:pt x="12947" y="4"/>
                      <a:pt x="12947" y="5"/>
                    </a:cubicBezTo>
                    <a:cubicBezTo>
                      <a:pt x="12947" y="6"/>
                      <a:pt x="12946" y="7"/>
                      <a:pt x="12945" y="7"/>
                    </a:cubicBezTo>
                    <a:lnTo>
                      <a:pt x="12945" y="7"/>
                    </a:lnTo>
                    <a:cubicBezTo>
                      <a:pt x="12944" y="7"/>
                      <a:pt x="12943" y="6"/>
                      <a:pt x="12943" y="5"/>
                    </a:cubicBezTo>
                    <a:cubicBezTo>
                      <a:pt x="12943" y="4"/>
                      <a:pt x="12944" y="3"/>
                      <a:pt x="12945" y="3"/>
                    </a:cubicBezTo>
                    <a:close/>
                    <a:moveTo>
                      <a:pt x="12953" y="3"/>
                    </a:moveTo>
                    <a:lnTo>
                      <a:pt x="12953" y="3"/>
                    </a:lnTo>
                    <a:cubicBezTo>
                      <a:pt x="12954" y="3"/>
                      <a:pt x="12955" y="4"/>
                      <a:pt x="12955" y="5"/>
                    </a:cubicBezTo>
                    <a:cubicBezTo>
                      <a:pt x="12955" y="6"/>
                      <a:pt x="12954" y="7"/>
                      <a:pt x="12953" y="7"/>
                    </a:cubicBezTo>
                    <a:lnTo>
                      <a:pt x="12953" y="7"/>
                    </a:lnTo>
                    <a:cubicBezTo>
                      <a:pt x="12952" y="7"/>
                      <a:pt x="12951" y="6"/>
                      <a:pt x="12951" y="5"/>
                    </a:cubicBezTo>
                    <a:cubicBezTo>
                      <a:pt x="12951" y="4"/>
                      <a:pt x="12952" y="3"/>
                      <a:pt x="12953" y="3"/>
                    </a:cubicBezTo>
                    <a:close/>
                    <a:moveTo>
                      <a:pt x="12961" y="3"/>
                    </a:moveTo>
                    <a:lnTo>
                      <a:pt x="12961" y="3"/>
                    </a:lnTo>
                    <a:cubicBezTo>
                      <a:pt x="12962" y="3"/>
                      <a:pt x="12963" y="4"/>
                      <a:pt x="12963" y="5"/>
                    </a:cubicBezTo>
                    <a:cubicBezTo>
                      <a:pt x="12963" y="6"/>
                      <a:pt x="12962" y="7"/>
                      <a:pt x="12961" y="7"/>
                    </a:cubicBezTo>
                    <a:lnTo>
                      <a:pt x="12961" y="7"/>
                    </a:lnTo>
                    <a:cubicBezTo>
                      <a:pt x="12960" y="7"/>
                      <a:pt x="12959" y="6"/>
                      <a:pt x="12959" y="5"/>
                    </a:cubicBezTo>
                    <a:cubicBezTo>
                      <a:pt x="12959" y="4"/>
                      <a:pt x="12960" y="3"/>
                      <a:pt x="12961" y="3"/>
                    </a:cubicBezTo>
                    <a:close/>
                    <a:moveTo>
                      <a:pt x="12969" y="3"/>
                    </a:moveTo>
                    <a:lnTo>
                      <a:pt x="12969" y="3"/>
                    </a:lnTo>
                    <a:cubicBezTo>
                      <a:pt x="12970" y="3"/>
                      <a:pt x="12971" y="4"/>
                      <a:pt x="12971" y="5"/>
                    </a:cubicBezTo>
                    <a:cubicBezTo>
                      <a:pt x="12971" y="6"/>
                      <a:pt x="12970" y="7"/>
                      <a:pt x="12969" y="7"/>
                    </a:cubicBezTo>
                    <a:lnTo>
                      <a:pt x="12969" y="7"/>
                    </a:lnTo>
                    <a:cubicBezTo>
                      <a:pt x="12968" y="7"/>
                      <a:pt x="12967" y="6"/>
                      <a:pt x="12967" y="5"/>
                    </a:cubicBezTo>
                    <a:cubicBezTo>
                      <a:pt x="12967" y="4"/>
                      <a:pt x="12968" y="3"/>
                      <a:pt x="12969" y="3"/>
                    </a:cubicBezTo>
                    <a:close/>
                    <a:moveTo>
                      <a:pt x="12977" y="3"/>
                    </a:moveTo>
                    <a:lnTo>
                      <a:pt x="12977" y="3"/>
                    </a:lnTo>
                    <a:cubicBezTo>
                      <a:pt x="12978" y="3"/>
                      <a:pt x="12979" y="4"/>
                      <a:pt x="12979" y="5"/>
                    </a:cubicBezTo>
                    <a:cubicBezTo>
                      <a:pt x="12979" y="6"/>
                      <a:pt x="12978" y="7"/>
                      <a:pt x="12977" y="7"/>
                    </a:cubicBezTo>
                    <a:lnTo>
                      <a:pt x="12977" y="7"/>
                    </a:lnTo>
                    <a:cubicBezTo>
                      <a:pt x="12976" y="7"/>
                      <a:pt x="12975" y="6"/>
                      <a:pt x="12975" y="5"/>
                    </a:cubicBezTo>
                    <a:cubicBezTo>
                      <a:pt x="12975" y="4"/>
                      <a:pt x="12976" y="3"/>
                      <a:pt x="12977" y="3"/>
                    </a:cubicBezTo>
                    <a:close/>
                    <a:moveTo>
                      <a:pt x="12985" y="3"/>
                    </a:moveTo>
                    <a:lnTo>
                      <a:pt x="12985" y="3"/>
                    </a:lnTo>
                    <a:cubicBezTo>
                      <a:pt x="12986" y="3"/>
                      <a:pt x="12987" y="4"/>
                      <a:pt x="12987" y="5"/>
                    </a:cubicBezTo>
                    <a:cubicBezTo>
                      <a:pt x="12987" y="6"/>
                      <a:pt x="12986" y="7"/>
                      <a:pt x="12985" y="7"/>
                    </a:cubicBezTo>
                    <a:lnTo>
                      <a:pt x="12985" y="7"/>
                    </a:lnTo>
                    <a:cubicBezTo>
                      <a:pt x="12984" y="7"/>
                      <a:pt x="12983" y="6"/>
                      <a:pt x="12983" y="5"/>
                    </a:cubicBezTo>
                    <a:cubicBezTo>
                      <a:pt x="12983" y="4"/>
                      <a:pt x="12984" y="3"/>
                      <a:pt x="12985" y="3"/>
                    </a:cubicBezTo>
                    <a:close/>
                    <a:moveTo>
                      <a:pt x="12993" y="3"/>
                    </a:moveTo>
                    <a:lnTo>
                      <a:pt x="12993" y="3"/>
                    </a:lnTo>
                    <a:cubicBezTo>
                      <a:pt x="12994" y="3"/>
                      <a:pt x="12995" y="4"/>
                      <a:pt x="12995" y="5"/>
                    </a:cubicBezTo>
                    <a:cubicBezTo>
                      <a:pt x="12995" y="6"/>
                      <a:pt x="12994" y="7"/>
                      <a:pt x="12993" y="7"/>
                    </a:cubicBezTo>
                    <a:lnTo>
                      <a:pt x="12993" y="7"/>
                    </a:lnTo>
                    <a:cubicBezTo>
                      <a:pt x="12992" y="7"/>
                      <a:pt x="12991" y="6"/>
                      <a:pt x="12991" y="5"/>
                    </a:cubicBezTo>
                    <a:cubicBezTo>
                      <a:pt x="12991" y="4"/>
                      <a:pt x="12992" y="3"/>
                      <a:pt x="12993" y="3"/>
                    </a:cubicBezTo>
                    <a:close/>
                    <a:moveTo>
                      <a:pt x="13001" y="3"/>
                    </a:moveTo>
                    <a:lnTo>
                      <a:pt x="13001" y="3"/>
                    </a:lnTo>
                    <a:cubicBezTo>
                      <a:pt x="13002" y="3"/>
                      <a:pt x="13003" y="4"/>
                      <a:pt x="13003" y="5"/>
                    </a:cubicBezTo>
                    <a:cubicBezTo>
                      <a:pt x="13003" y="6"/>
                      <a:pt x="13002" y="7"/>
                      <a:pt x="13001" y="7"/>
                    </a:cubicBezTo>
                    <a:lnTo>
                      <a:pt x="13001" y="7"/>
                    </a:lnTo>
                    <a:cubicBezTo>
                      <a:pt x="13000" y="7"/>
                      <a:pt x="12999" y="6"/>
                      <a:pt x="12999" y="5"/>
                    </a:cubicBezTo>
                    <a:cubicBezTo>
                      <a:pt x="12999" y="4"/>
                      <a:pt x="13000" y="3"/>
                      <a:pt x="13001" y="3"/>
                    </a:cubicBezTo>
                    <a:close/>
                    <a:moveTo>
                      <a:pt x="13009" y="3"/>
                    </a:moveTo>
                    <a:lnTo>
                      <a:pt x="13009" y="3"/>
                    </a:lnTo>
                    <a:cubicBezTo>
                      <a:pt x="13010" y="3"/>
                      <a:pt x="13011" y="4"/>
                      <a:pt x="13011" y="5"/>
                    </a:cubicBezTo>
                    <a:cubicBezTo>
                      <a:pt x="13011" y="6"/>
                      <a:pt x="13010" y="7"/>
                      <a:pt x="13009" y="7"/>
                    </a:cubicBezTo>
                    <a:lnTo>
                      <a:pt x="13009" y="7"/>
                    </a:lnTo>
                    <a:cubicBezTo>
                      <a:pt x="13008" y="7"/>
                      <a:pt x="13007" y="6"/>
                      <a:pt x="13007" y="5"/>
                    </a:cubicBezTo>
                    <a:cubicBezTo>
                      <a:pt x="13007" y="4"/>
                      <a:pt x="13008" y="3"/>
                      <a:pt x="13009" y="3"/>
                    </a:cubicBezTo>
                    <a:close/>
                    <a:moveTo>
                      <a:pt x="13017" y="3"/>
                    </a:moveTo>
                    <a:lnTo>
                      <a:pt x="13017" y="3"/>
                    </a:lnTo>
                    <a:cubicBezTo>
                      <a:pt x="13018" y="3"/>
                      <a:pt x="13019" y="4"/>
                      <a:pt x="13019" y="5"/>
                    </a:cubicBezTo>
                    <a:cubicBezTo>
                      <a:pt x="13019" y="6"/>
                      <a:pt x="13018" y="7"/>
                      <a:pt x="13017" y="7"/>
                    </a:cubicBezTo>
                    <a:lnTo>
                      <a:pt x="13017" y="7"/>
                    </a:lnTo>
                    <a:cubicBezTo>
                      <a:pt x="13016" y="7"/>
                      <a:pt x="13015" y="6"/>
                      <a:pt x="13015" y="5"/>
                    </a:cubicBezTo>
                    <a:cubicBezTo>
                      <a:pt x="13015" y="4"/>
                      <a:pt x="13016" y="3"/>
                      <a:pt x="13017" y="3"/>
                    </a:cubicBezTo>
                    <a:close/>
                    <a:moveTo>
                      <a:pt x="13025" y="3"/>
                    </a:moveTo>
                    <a:lnTo>
                      <a:pt x="13025" y="3"/>
                    </a:lnTo>
                    <a:cubicBezTo>
                      <a:pt x="13026" y="3"/>
                      <a:pt x="13027" y="4"/>
                      <a:pt x="13027" y="5"/>
                    </a:cubicBezTo>
                    <a:cubicBezTo>
                      <a:pt x="13027" y="6"/>
                      <a:pt x="13026" y="7"/>
                      <a:pt x="13025" y="7"/>
                    </a:cubicBezTo>
                    <a:lnTo>
                      <a:pt x="13025" y="7"/>
                    </a:lnTo>
                    <a:cubicBezTo>
                      <a:pt x="13024" y="7"/>
                      <a:pt x="13023" y="6"/>
                      <a:pt x="13023" y="5"/>
                    </a:cubicBezTo>
                    <a:cubicBezTo>
                      <a:pt x="13023" y="4"/>
                      <a:pt x="13024" y="3"/>
                      <a:pt x="13025" y="3"/>
                    </a:cubicBezTo>
                    <a:close/>
                    <a:moveTo>
                      <a:pt x="13033" y="3"/>
                    </a:moveTo>
                    <a:lnTo>
                      <a:pt x="13033" y="3"/>
                    </a:lnTo>
                    <a:cubicBezTo>
                      <a:pt x="13034" y="3"/>
                      <a:pt x="13035" y="4"/>
                      <a:pt x="13035" y="5"/>
                    </a:cubicBezTo>
                    <a:cubicBezTo>
                      <a:pt x="13035" y="6"/>
                      <a:pt x="13034" y="7"/>
                      <a:pt x="13033" y="7"/>
                    </a:cubicBezTo>
                    <a:lnTo>
                      <a:pt x="13033" y="7"/>
                    </a:lnTo>
                    <a:cubicBezTo>
                      <a:pt x="13032" y="7"/>
                      <a:pt x="13031" y="6"/>
                      <a:pt x="13031" y="5"/>
                    </a:cubicBezTo>
                    <a:cubicBezTo>
                      <a:pt x="13031" y="4"/>
                      <a:pt x="13032" y="3"/>
                      <a:pt x="13033" y="3"/>
                    </a:cubicBezTo>
                    <a:close/>
                    <a:moveTo>
                      <a:pt x="13041" y="3"/>
                    </a:moveTo>
                    <a:lnTo>
                      <a:pt x="13041" y="3"/>
                    </a:lnTo>
                    <a:cubicBezTo>
                      <a:pt x="13042" y="3"/>
                      <a:pt x="13043" y="4"/>
                      <a:pt x="13043" y="5"/>
                    </a:cubicBezTo>
                    <a:cubicBezTo>
                      <a:pt x="13043" y="6"/>
                      <a:pt x="13042" y="7"/>
                      <a:pt x="13041" y="7"/>
                    </a:cubicBezTo>
                    <a:lnTo>
                      <a:pt x="13041" y="7"/>
                    </a:lnTo>
                    <a:cubicBezTo>
                      <a:pt x="13040" y="7"/>
                      <a:pt x="13039" y="6"/>
                      <a:pt x="13039" y="5"/>
                    </a:cubicBezTo>
                    <a:cubicBezTo>
                      <a:pt x="13039" y="4"/>
                      <a:pt x="13040" y="3"/>
                      <a:pt x="13041" y="3"/>
                    </a:cubicBezTo>
                    <a:close/>
                    <a:moveTo>
                      <a:pt x="13049" y="3"/>
                    </a:moveTo>
                    <a:lnTo>
                      <a:pt x="13049" y="3"/>
                    </a:lnTo>
                    <a:cubicBezTo>
                      <a:pt x="13050" y="3"/>
                      <a:pt x="13051" y="4"/>
                      <a:pt x="13051" y="5"/>
                    </a:cubicBezTo>
                    <a:cubicBezTo>
                      <a:pt x="13051" y="6"/>
                      <a:pt x="13050" y="7"/>
                      <a:pt x="13049" y="7"/>
                    </a:cubicBezTo>
                    <a:lnTo>
                      <a:pt x="13049" y="7"/>
                    </a:lnTo>
                    <a:cubicBezTo>
                      <a:pt x="13048" y="7"/>
                      <a:pt x="13047" y="6"/>
                      <a:pt x="13047" y="5"/>
                    </a:cubicBezTo>
                    <a:cubicBezTo>
                      <a:pt x="13047" y="4"/>
                      <a:pt x="13048" y="3"/>
                      <a:pt x="13049" y="3"/>
                    </a:cubicBezTo>
                    <a:close/>
                    <a:moveTo>
                      <a:pt x="13057" y="3"/>
                    </a:moveTo>
                    <a:lnTo>
                      <a:pt x="13057" y="3"/>
                    </a:lnTo>
                    <a:cubicBezTo>
                      <a:pt x="13058" y="3"/>
                      <a:pt x="13059" y="4"/>
                      <a:pt x="13059" y="5"/>
                    </a:cubicBezTo>
                    <a:cubicBezTo>
                      <a:pt x="13059" y="6"/>
                      <a:pt x="13058" y="7"/>
                      <a:pt x="13057" y="7"/>
                    </a:cubicBezTo>
                    <a:lnTo>
                      <a:pt x="13057" y="7"/>
                    </a:lnTo>
                    <a:cubicBezTo>
                      <a:pt x="13056" y="7"/>
                      <a:pt x="13055" y="6"/>
                      <a:pt x="13055" y="5"/>
                    </a:cubicBezTo>
                    <a:cubicBezTo>
                      <a:pt x="13055" y="4"/>
                      <a:pt x="13056" y="3"/>
                      <a:pt x="13057" y="3"/>
                    </a:cubicBezTo>
                    <a:close/>
                    <a:moveTo>
                      <a:pt x="13065" y="3"/>
                    </a:moveTo>
                    <a:lnTo>
                      <a:pt x="13065" y="3"/>
                    </a:lnTo>
                    <a:cubicBezTo>
                      <a:pt x="13066" y="3"/>
                      <a:pt x="13067" y="4"/>
                      <a:pt x="13067" y="5"/>
                    </a:cubicBezTo>
                    <a:cubicBezTo>
                      <a:pt x="13067" y="6"/>
                      <a:pt x="13066" y="7"/>
                      <a:pt x="13065" y="7"/>
                    </a:cubicBezTo>
                    <a:lnTo>
                      <a:pt x="13065" y="7"/>
                    </a:lnTo>
                    <a:cubicBezTo>
                      <a:pt x="13064" y="7"/>
                      <a:pt x="13063" y="6"/>
                      <a:pt x="13063" y="5"/>
                    </a:cubicBezTo>
                    <a:cubicBezTo>
                      <a:pt x="13063" y="4"/>
                      <a:pt x="13064" y="3"/>
                      <a:pt x="13065" y="3"/>
                    </a:cubicBezTo>
                    <a:close/>
                    <a:moveTo>
                      <a:pt x="13073" y="3"/>
                    </a:moveTo>
                    <a:lnTo>
                      <a:pt x="13073" y="3"/>
                    </a:lnTo>
                    <a:cubicBezTo>
                      <a:pt x="13074" y="3"/>
                      <a:pt x="13075" y="4"/>
                      <a:pt x="13075" y="5"/>
                    </a:cubicBezTo>
                    <a:cubicBezTo>
                      <a:pt x="13075" y="6"/>
                      <a:pt x="13074" y="7"/>
                      <a:pt x="13073" y="7"/>
                    </a:cubicBezTo>
                    <a:lnTo>
                      <a:pt x="13073" y="7"/>
                    </a:lnTo>
                    <a:cubicBezTo>
                      <a:pt x="13072" y="7"/>
                      <a:pt x="13071" y="6"/>
                      <a:pt x="13071" y="5"/>
                    </a:cubicBezTo>
                    <a:cubicBezTo>
                      <a:pt x="13071" y="4"/>
                      <a:pt x="13072" y="3"/>
                      <a:pt x="13073" y="3"/>
                    </a:cubicBezTo>
                    <a:close/>
                    <a:moveTo>
                      <a:pt x="13081" y="3"/>
                    </a:moveTo>
                    <a:lnTo>
                      <a:pt x="13081" y="3"/>
                    </a:lnTo>
                    <a:cubicBezTo>
                      <a:pt x="13082" y="3"/>
                      <a:pt x="13083" y="4"/>
                      <a:pt x="13083" y="5"/>
                    </a:cubicBezTo>
                    <a:cubicBezTo>
                      <a:pt x="13083" y="6"/>
                      <a:pt x="13082" y="7"/>
                      <a:pt x="13081" y="7"/>
                    </a:cubicBezTo>
                    <a:lnTo>
                      <a:pt x="13081" y="7"/>
                    </a:lnTo>
                    <a:cubicBezTo>
                      <a:pt x="13080" y="7"/>
                      <a:pt x="13079" y="6"/>
                      <a:pt x="13079" y="5"/>
                    </a:cubicBezTo>
                    <a:cubicBezTo>
                      <a:pt x="13079" y="4"/>
                      <a:pt x="13080" y="3"/>
                      <a:pt x="13081" y="3"/>
                    </a:cubicBezTo>
                    <a:close/>
                    <a:moveTo>
                      <a:pt x="13089" y="3"/>
                    </a:moveTo>
                    <a:lnTo>
                      <a:pt x="13089" y="3"/>
                    </a:lnTo>
                    <a:cubicBezTo>
                      <a:pt x="13090" y="3"/>
                      <a:pt x="13091" y="4"/>
                      <a:pt x="13091" y="5"/>
                    </a:cubicBezTo>
                    <a:cubicBezTo>
                      <a:pt x="13091" y="6"/>
                      <a:pt x="13090" y="7"/>
                      <a:pt x="13089" y="7"/>
                    </a:cubicBezTo>
                    <a:lnTo>
                      <a:pt x="13089" y="7"/>
                    </a:lnTo>
                    <a:cubicBezTo>
                      <a:pt x="13088" y="7"/>
                      <a:pt x="13087" y="6"/>
                      <a:pt x="13087" y="5"/>
                    </a:cubicBezTo>
                    <a:cubicBezTo>
                      <a:pt x="13087" y="4"/>
                      <a:pt x="13088" y="3"/>
                      <a:pt x="13089" y="3"/>
                    </a:cubicBezTo>
                    <a:close/>
                    <a:moveTo>
                      <a:pt x="13097" y="3"/>
                    </a:moveTo>
                    <a:lnTo>
                      <a:pt x="13097" y="3"/>
                    </a:lnTo>
                    <a:cubicBezTo>
                      <a:pt x="13098" y="3"/>
                      <a:pt x="13099" y="4"/>
                      <a:pt x="13099" y="5"/>
                    </a:cubicBezTo>
                    <a:cubicBezTo>
                      <a:pt x="13099" y="6"/>
                      <a:pt x="13098" y="7"/>
                      <a:pt x="13097" y="7"/>
                    </a:cubicBezTo>
                    <a:lnTo>
                      <a:pt x="13097" y="7"/>
                    </a:lnTo>
                    <a:cubicBezTo>
                      <a:pt x="13096" y="7"/>
                      <a:pt x="13095" y="6"/>
                      <a:pt x="13095" y="5"/>
                    </a:cubicBezTo>
                    <a:cubicBezTo>
                      <a:pt x="13095" y="4"/>
                      <a:pt x="13096" y="3"/>
                      <a:pt x="13097" y="3"/>
                    </a:cubicBezTo>
                    <a:close/>
                    <a:moveTo>
                      <a:pt x="13105" y="3"/>
                    </a:moveTo>
                    <a:lnTo>
                      <a:pt x="13105" y="3"/>
                    </a:lnTo>
                    <a:cubicBezTo>
                      <a:pt x="13106" y="3"/>
                      <a:pt x="13107" y="4"/>
                      <a:pt x="13107" y="5"/>
                    </a:cubicBezTo>
                    <a:cubicBezTo>
                      <a:pt x="13107" y="6"/>
                      <a:pt x="13106" y="7"/>
                      <a:pt x="13105" y="7"/>
                    </a:cubicBezTo>
                    <a:lnTo>
                      <a:pt x="13105" y="7"/>
                    </a:lnTo>
                    <a:cubicBezTo>
                      <a:pt x="13104" y="7"/>
                      <a:pt x="13103" y="6"/>
                      <a:pt x="13103" y="5"/>
                    </a:cubicBezTo>
                    <a:cubicBezTo>
                      <a:pt x="13103" y="4"/>
                      <a:pt x="13104" y="3"/>
                      <a:pt x="13105" y="3"/>
                    </a:cubicBezTo>
                    <a:close/>
                    <a:moveTo>
                      <a:pt x="13113" y="3"/>
                    </a:moveTo>
                    <a:lnTo>
                      <a:pt x="13113" y="3"/>
                    </a:lnTo>
                    <a:cubicBezTo>
                      <a:pt x="13114" y="3"/>
                      <a:pt x="13115" y="4"/>
                      <a:pt x="13115" y="5"/>
                    </a:cubicBezTo>
                    <a:cubicBezTo>
                      <a:pt x="13115" y="6"/>
                      <a:pt x="13114" y="7"/>
                      <a:pt x="13113" y="7"/>
                    </a:cubicBezTo>
                    <a:lnTo>
                      <a:pt x="13113" y="7"/>
                    </a:lnTo>
                    <a:cubicBezTo>
                      <a:pt x="13112" y="7"/>
                      <a:pt x="13111" y="6"/>
                      <a:pt x="13111" y="5"/>
                    </a:cubicBezTo>
                    <a:cubicBezTo>
                      <a:pt x="13111" y="4"/>
                      <a:pt x="13112" y="3"/>
                      <a:pt x="13113" y="3"/>
                    </a:cubicBezTo>
                    <a:close/>
                    <a:moveTo>
                      <a:pt x="13121" y="3"/>
                    </a:moveTo>
                    <a:lnTo>
                      <a:pt x="13121" y="3"/>
                    </a:lnTo>
                    <a:cubicBezTo>
                      <a:pt x="13122" y="3"/>
                      <a:pt x="13123" y="4"/>
                      <a:pt x="13123" y="5"/>
                    </a:cubicBezTo>
                    <a:cubicBezTo>
                      <a:pt x="13123" y="6"/>
                      <a:pt x="13122" y="7"/>
                      <a:pt x="13121" y="7"/>
                    </a:cubicBezTo>
                    <a:lnTo>
                      <a:pt x="13121" y="7"/>
                    </a:lnTo>
                    <a:cubicBezTo>
                      <a:pt x="13120" y="7"/>
                      <a:pt x="13119" y="6"/>
                      <a:pt x="13119" y="5"/>
                    </a:cubicBezTo>
                    <a:cubicBezTo>
                      <a:pt x="13119" y="4"/>
                      <a:pt x="13120" y="3"/>
                      <a:pt x="13121" y="3"/>
                    </a:cubicBezTo>
                    <a:close/>
                    <a:moveTo>
                      <a:pt x="13129" y="3"/>
                    </a:moveTo>
                    <a:lnTo>
                      <a:pt x="13129" y="3"/>
                    </a:lnTo>
                    <a:cubicBezTo>
                      <a:pt x="13130" y="3"/>
                      <a:pt x="13131" y="4"/>
                      <a:pt x="13131" y="5"/>
                    </a:cubicBezTo>
                    <a:cubicBezTo>
                      <a:pt x="13131" y="6"/>
                      <a:pt x="13130" y="7"/>
                      <a:pt x="13129" y="7"/>
                    </a:cubicBezTo>
                    <a:lnTo>
                      <a:pt x="13129" y="7"/>
                    </a:lnTo>
                    <a:cubicBezTo>
                      <a:pt x="13128" y="7"/>
                      <a:pt x="13127" y="6"/>
                      <a:pt x="13127" y="5"/>
                    </a:cubicBezTo>
                    <a:cubicBezTo>
                      <a:pt x="13127" y="4"/>
                      <a:pt x="13128" y="3"/>
                      <a:pt x="13129" y="3"/>
                    </a:cubicBezTo>
                    <a:close/>
                    <a:moveTo>
                      <a:pt x="13137" y="3"/>
                    </a:moveTo>
                    <a:lnTo>
                      <a:pt x="13137" y="3"/>
                    </a:lnTo>
                    <a:cubicBezTo>
                      <a:pt x="13138" y="3"/>
                      <a:pt x="13139" y="4"/>
                      <a:pt x="13139" y="5"/>
                    </a:cubicBezTo>
                    <a:cubicBezTo>
                      <a:pt x="13139" y="6"/>
                      <a:pt x="13138" y="7"/>
                      <a:pt x="13137" y="7"/>
                    </a:cubicBezTo>
                    <a:lnTo>
                      <a:pt x="13137" y="7"/>
                    </a:lnTo>
                    <a:cubicBezTo>
                      <a:pt x="13136" y="7"/>
                      <a:pt x="13135" y="6"/>
                      <a:pt x="13135" y="5"/>
                    </a:cubicBezTo>
                    <a:cubicBezTo>
                      <a:pt x="13135" y="4"/>
                      <a:pt x="13136" y="3"/>
                      <a:pt x="13137" y="3"/>
                    </a:cubicBezTo>
                    <a:close/>
                    <a:moveTo>
                      <a:pt x="13145" y="3"/>
                    </a:moveTo>
                    <a:lnTo>
                      <a:pt x="13145" y="3"/>
                    </a:lnTo>
                    <a:cubicBezTo>
                      <a:pt x="13146" y="3"/>
                      <a:pt x="13147" y="4"/>
                      <a:pt x="13147" y="5"/>
                    </a:cubicBezTo>
                    <a:cubicBezTo>
                      <a:pt x="13147" y="6"/>
                      <a:pt x="13146" y="7"/>
                      <a:pt x="13145" y="7"/>
                    </a:cubicBezTo>
                    <a:lnTo>
                      <a:pt x="13145" y="7"/>
                    </a:lnTo>
                    <a:cubicBezTo>
                      <a:pt x="13144" y="7"/>
                      <a:pt x="13143" y="6"/>
                      <a:pt x="13143" y="5"/>
                    </a:cubicBezTo>
                    <a:cubicBezTo>
                      <a:pt x="13143" y="4"/>
                      <a:pt x="13144" y="3"/>
                      <a:pt x="13145" y="3"/>
                    </a:cubicBezTo>
                    <a:close/>
                    <a:moveTo>
                      <a:pt x="13153" y="3"/>
                    </a:moveTo>
                    <a:lnTo>
                      <a:pt x="13153" y="3"/>
                    </a:lnTo>
                    <a:cubicBezTo>
                      <a:pt x="13154" y="3"/>
                      <a:pt x="13155" y="4"/>
                      <a:pt x="13155" y="5"/>
                    </a:cubicBezTo>
                    <a:cubicBezTo>
                      <a:pt x="13155" y="6"/>
                      <a:pt x="13154" y="7"/>
                      <a:pt x="13153" y="7"/>
                    </a:cubicBezTo>
                    <a:lnTo>
                      <a:pt x="13153" y="7"/>
                    </a:lnTo>
                    <a:cubicBezTo>
                      <a:pt x="13152" y="7"/>
                      <a:pt x="13151" y="6"/>
                      <a:pt x="13151" y="5"/>
                    </a:cubicBezTo>
                    <a:cubicBezTo>
                      <a:pt x="13151" y="4"/>
                      <a:pt x="13152" y="3"/>
                      <a:pt x="13153" y="3"/>
                    </a:cubicBezTo>
                    <a:close/>
                    <a:moveTo>
                      <a:pt x="13161" y="3"/>
                    </a:moveTo>
                    <a:lnTo>
                      <a:pt x="13161" y="3"/>
                    </a:lnTo>
                    <a:cubicBezTo>
                      <a:pt x="13162" y="3"/>
                      <a:pt x="13163" y="4"/>
                      <a:pt x="13163" y="5"/>
                    </a:cubicBezTo>
                    <a:cubicBezTo>
                      <a:pt x="13163" y="6"/>
                      <a:pt x="13162" y="7"/>
                      <a:pt x="13161" y="7"/>
                    </a:cubicBezTo>
                    <a:lnTo>
                      <a:pt x="13161" y="7"/>
                    </a:lnTo>
                    <a:cubicBezTo>
                      <a:pt x="13160" y="7"/>
                      <a:pt x="13159" y="6"/>
                      <a:pt x="13159" y="5"/>
                    </a:cubicBezTo>
                    <a:cubicBezTo>
                      <a:pt x="13159" y="4"/>
                      <a:pt x="13160" y="3"/>
                      <a:pt x="13161" y="3"/>
                    </a:cubicBezTo>
                    <a:close/>
                    <a:moveTo>
                      <a:pt x="13169" y="3"/>
                    </a:moveTo>
                    <a:lnTo>
                      <a:pt x="13169" y="3"/>
                    </a:lnTo>
                    <a:cubicBezTo>
                      <a:pt x="13170" y="3"/>
                      <a:pt x="13171" y="4"/>
                      <a:pt x="13171" y="5"/>
                    </a:cubicBezTo>
                    <a:cubicBezTo>
                      <a:pt x="13171" y="6"/>
                      <a:pt x="13170" y="7"/>
                      <a:pt x="13169" y="7"/>
                    </a:cubicBezTo>
                    <a:lnTo>
                      <a:pt x="13169" y="7"/>
                    </a:lnTo>
                    <a:cubicBezTo>
                      <a:pt x="13168" y="7"/>
                      <a:pt x="13167" y="6"/>
                      <a:pt x="13167" y="5"/>
                    </a:cubicBezTo>
                    <a:cubicBezTo>
                      <a:pt x="13167" y="4"/>
                      <a:pt x="13168" y="3"/>
                      <a:pt x="13169" y="3"/>
                    </a:cubicBezTo>
                    <a:close/>
                    <a:moveTo>
                      <a:pt x="13177" y="3"/>
                    </a:moveTo>
                    <a:lnTo>
                      <a:pt x="13177" y="3"/>
                    </a:lnTo>
                    <a:cubicBezTo>
                      <a:pt x="13178" y="3"/>
                      <a:pt x="13179" y="4"/>
                      <a:pt x="13179" y="5"/>
                    </a:cubicBezTo>
                    <a:cubicBezTo>
                      <a:pt x="13179" y="6"/>
                      <a:pt x="13178" y="7"/>
                      <a:pt x="13177" y="7"/>
                    </a:cubicBezTo>
                    <a:lnTo>
                      <a:pt x="13177" y="7"/>
                    </a:lnTo>
                    <a:cubicBezTo>
                      <a:pt x="13176" y="7"/>
                      <a:pt x="13175" y="6"/>
                      <a:pt x="13175" y="5"/>
                    </a:cubicBezTo>
                    <a:cubicBezTo>
                      <a:pt x="13175" y="4"/>
                      <a:pt x="13176" y="3"/>
                      <a:pt x="13177" y="3"/>
                    </a:cubicBezTo>
                    <a:close/>
                    <a:moveTo>
                      <a:pt x="13185" y="3"/>
                    </a:moveTo>
                    <a:lnTo>
                      <a:pt x="13185" y="3"/>
                    </a:lnTo>
                    <a:cubicBezTo>
                      <a:pt x="13186" y="3"/>
                      <a:pt x="13187" y="4"/>
                      <a:pt x="13187" y="5"/>
                    </a:cubicBezTo>
                    <a:cubicBezTo>
                      <a:pt x="13187" y="6"/>
                      <a:pt x="13186" y="7"/>
                      <a:pt x="13185" y="7"/>
                    </a:cubicBezTo>
                    <a:lnTo>
                      <a:pt x="13185" y="7"/>
                    </a:lnTo>
                    <a:cubicBezTo>
                      <a:pt x="13184" y="7"/>
                      <a:pt x="13183" y="6"/>
                      <a:pt x="13183" y="5"/>
                    </a:cubicBezTo>
                    <a:cubicBezTo>
                      <a:pt x="13183" y="4"/>
                      <a:pt x="13184" y="3"/>
                      <a:pt x="13185" y="3"/>
                    </a:cubicBezTo>
                    <a:close/>
                    <a:moveTo>
                      <a:pt x="13193" y="3"/>
                    </a:moveTo>
                    <a:lnTo>
                      <a:pt x="13193" y="3"/>
                    </a:lnTo>
                    <a:cubicBezTo>
                      <a:pt x="13194" y="3"/>
                      <a:pt x="13195" y="4"/>
                      <a:pt x="13195" y="5"/>
                    </a:cubicBezTo>
                    <a:cubicBezTo>
                      <a:pt x="13195" y="6"/>
                      <a:pt x="13194" y="7"/>
                      <a:pt x="13193" y="7"/>
                    </a:cubicBezTo>
                    <a:lnTo>
                      <a:pt x="13193" y="7"/>
                    </a:lnTo>
                    <a:cubicBezTo>
                      <a:pt x="13192" y="7"/>
                      <a:pt x="13191" y="6"/>
                      <a:pt x="13191" y="5"/>
                    </a:cubicBezTo>
                    <a:cubicBezTo>
                      <a:pt x="13191" y="4"/>
                      <a:pt x="13192" y="3"/>
                      <a:pt x="13193" y="3"/>
                    </a:cubicBezTo>
                    <a:close/>
                    <a:moveTo>
                      <a:pt x="13201" y="3"/>
                    </a:moveTo>
                    <a:lnTo>
                      <a:pt x="13201" y="3"/>
                    </a:lnTo>
                    <a:cubicBezTo>
                      <a:pt x="13202" y="3"/>
                      <a:pt x="13203" y="4"/>
                      <a:pt x="13203" y="5"/>
                    </a:cubicBezTo>
                    <a:cubicBezTo>
                      <a:pt x="13203" y="6"/>
                      <a:pt x="13202" y="7"/>
                      <a:pt x="13201" y="7"/>
                    </a:cubicBezTo>
                    <a:lnTo>
                      <a:pt x="13201" y="7"/>
                    </a:lnTo>
                    <a:cubicBezTo>
                      <a:pt x="13200" y="7"/>
                      <a:pt x="13199" y="6"/>
                      <a:pt x="13199" y="5"/>
                    </a:cubicBezTo>
                    <a:cubicBezTo>
                      <a:pt x="13199" y="4"/>
                      <a:pt x="13200" y="3"/>
                      <a:pt x="13201" y="3"/>
                    </a:cubicBezTo>
                    <a:close/>
                    <a:moveTo>
                      <a:pt x="13209" y="3"/>
                    </a:moveTo>
                    <a:lnTo>
                      <a:pt x="13209" y="3"/>
                    </a:lnTo>
                    <a:cubicBezTo>
                      <a:pt x="13210" y="3"/>
                      <a:pt x="13211" y="4"/>
                      <a:pt x="13211" y="5"/>
                    </a:cubicBezTo>
                    <a:cubicBezTo>
                      <a:pt x="13211" y="6"/>
                      <a:pt x="13210" y="7"/>
                      <a:pt x="13209" y="7"/>
                    </a:cubicBezTo>
                    <a:lnTo>
                      <a:pt x="13209" y="7"/>
                    </a:lnTo>
                    <a:cubicBezTo>
                      <a:pt x="13208" y="7"/>
                      <a:pt x="13207" y="6"/>
                      <a:pt x="13207" y="5"/>
                    </a:cubicBezTo>
                    <a:cubicBezTo>
                      <a:pt x="13207" y="4"/>
                      <a:pt x="13208" y="3"/>
                      <a:pt x="13209" y="3"/>
                    </a:cubicBezTo>
                    <a:close/>
                    <a:moveTo>
                      <a:pt x="13217" y="3"/>
                    </a:moveTo>
                    <a:lnTo>
                      <a:pt x="13217" y="3"/>
                    </a:lnTo>
                    <a:cubicBezTo>
                      <a:pt x="13218" y="3"/>
                      <a:pt x="13219" y="4"/>
                      <a:pt x="13219" y="5"/>
                    </a:cubicBezTo>
                    <a:cubicBezTo>
                      <a:pt x="13219" y="6"/>
                      <a:pt x="13218" y="7"/>
                      <a:pt x="13217" y="7"/>
                    </a:cubicBezTo>
                    <a:lnTo>
                      <a:pt x="13217" y="7"/>
                    </a:lnTo>
                    <a:cubicBezTo>
                      <a:pt x="13216" y="7"/>
                      <a:pt x="13215" y="6"/>
                      <a:pt x="13215" y="5"/>
                    </a:cubicBezTo>
                    <a:cubicBezTo>
                      <a:pt x="13215" y="4"/>
                      <a:pt x="13216" y="3"/>
                      <a:pt x="13217" y="3"/>
                    </a:cubicBezTo>
                    <a:close/>
                    <a:moveTo>
                      <a:pt x="13225" y="3"/>
                    </a:moveTo>
                    <a:lnTo>
                      <a:pt x="13225" y="3"/>
                    </a:lnTo>
                    <a:cubicBezTo>
                      <a:pt x="13226" y="3"/>
                      <a:pt x="13227" y="4"/>
                      <a:pt x="13227" y="5"/>
                    </a:cubicBezTo>
                    <a:cubicBezTo>
                      <a:pt x="13227" y="6"/>
                      <a:pt x="13226" y="7"/>
                      <a:pt x="13225" y="7"/>
                    </a:cubicBezTo>
                    <a:lnTo>
                      <a:pt x="13225" y="7"/>
                    </a:lnTo>
                    <a:cubicBezTo>
                      <a:pt x="13224" y="7"/>
                      <a:pt x="13223" y="6"/>
                      <a:pt x="13223" y="5"/>
                    </a:cubicBezTo>
                    <a:cubicBezTo>
                      <a:pt x="13223" y="4"/>
                      <a:pt x="13224" y="3"/>
                      <a:pt x="13225" y="3"/>
                    </a:cubicBezTo>
                    <a:close/>
                    <a:moveTo>
                      <a:pt x="13233" y="3"/>
                    </a:moveTo>
                    <a:lnTo>
                      <a:pt x="13233" y="3"/>
                    </a:lnTo>
                    <a:cubicBezTo>
                      <a:pt x="13234" y="3"/>
                      <a:pt x="13235" y="4"/>
                      <a:pt x="13235" y="5"/>
                    </a:cubicBezTo>
                    <a:cubicBezTo>
                      <a:pt x="13235" y="6"/>
                      <a:pt x="13234" y="7"/>
                      <a:pt x="13233" y="7"/>
                    </a:cubicBezTo>
                    <a:lnTo>
                      <a:pt x="13233" y="7"/>
                    </a:lnTo>
                    <a:cubicBezTo>
                      <a:pt x="13232" y="7"/>
                      <a:pt x="13231" y="6"/>
                      <a:pt x="13231" y="5"/>
                    </a:cubicBezTo>
                    <a:cubicBezTo>
                      <a:pt x="13231" y="4"/>
                      <a:pt x="13232" y="3"/>
                      <a:pt x="13233" y="3"/>
                    </a:cubicBezTo>
                    <a:close/>
                    <a:moveTo>
                      <a:pt x="13241" y="3"/>
                    </a:moveTo>
                    <a:lnTo>
                      <a:pt x="13241" y="3"/>
                    </a:lnTo>
                    <a:cubicBezTo>
                      <a:pt x="13242" y="3"/>
                      <a:pt x="13243" y="4"/>
                      <a:pt x="13243" y="5"/>
                    </a:cubicBezTo>
                    <a:cubicBezTo>
                      <a:pt x="13243" y="6"/>
                      <a:pt x="13242" y="7"/>
                      <a:pt x="13241" y="7"/>
                    </a:cubicBezTo>
                    <a:lnTo>
                      <a:pt x="13241" y="7"/>
                    </a:lnTo>
                    <a:cubicBezTo>
                      <a:pt x="13240" y="7"/>
                      <a:pt x="13239" y="6"/>
                      <a:pt x="13239" y="5"/>
                    </a:cubicBezTo>
                    <a:cubicBezTo>
                      <a:pt x="13239" y="4"/>
                      <a:pt x="13240" y="3"/>
                      <a:pt x="13241" y="3"/>
                    </a:cubicBezTo>
                    <a:close/>
                    <a:moveTo>
                      <a:pt x="13249" y="3"/>
                    </a:moveTo>
                    <a:lnTo>
                      <a:pt x="13249" y="3"/>
                    </a:lnTo>
                    <a:cubicBezTo>
                      <a:pt x="13250" y="3"/>
                      <a:pt x="13251" y="4"/>
                      <a:pt x="13251" y="5"/>
                    </a:cubicBezTo>
                    <a:cubicBezTo>
                      <a:pt x="13251" y="6"/>
                      <a:pt x="13250" y="7"/>
                      <a:pt x="13249" y="7"/>
                    </a:cubicBezTo>
                    <a:lnTo>
                      <a:pt x="13249" y="7"/>
                    </a:lnTo>
                    <a:cubicBezTo>
                      <a:pt x="13248" y="7"/>
                      <a:pt x="13247" y="6"/>
                      <a:pt x="13247" y="5"/>
                    </a:cubicBezTo>
                    <a:cubicBezTo>
                      <a:pt x="13247" y="4"/>
                      <a:pt x="13248" y="3"/>
                      <a:pt x="13249" y="3"/>
                    </a:cubicBezTo>
                    <a:close/>
                    <a:moveTo>
                      <a:pt x="13257" y="3"/>
                    </a:moveTo>
                    <a:lnTo>
                      <a:pt x="13257" y="3"/>
                    </a:lnTo>
                    <a:cubicBezTo>
                      <a:pt x="13258" y="3"/>
                      <a:pt x="13259" y="4"/>
                      <a:pt x="13259" y="5"/>
                    </a:cubicBezTo>
                    <a:cubicBezTo>
                      <a:pt x="13259" y="6"/>
                      <a:pt x="13258" y="7"/>
                      <a:pt x="13257" y="7"/>
                    </a:cubicBezTo>
                    <a:lnTo>
                      <a:pt x="13257" y="7"/>
                    </a:lnTo>
                    <a:cubicBezTo>
                      <a:pt x="13256" y="7"/>
                      <a:pt x="13255" y="6"/>
                      <a:pt x="13255" y="5"/>
                    </a:cubicBezTo>
                    <a:cubicBezTo>
                      <a:pt x="13255" y="4"/>
                      <a:pt x="13256" y="3"/>
                      <a:pt x="13257" y="3"/>
                    </a:cubicBezTo>
                    <a:close/>
                    <a:moveTo>
                      <a:pt x="13265" y="3"/>
                    </a:moveTo>
                    <a:lnTo>
                      <a:pt x="13265" y="3"/>
                    </a:lnTo>
                    <a:cubicBezTo>
                      <a:pt x="13266" y="3"/>
                      <a:pt x="13267" y="4"/>
                      <a:pt x="13267" y="5"/>
                    </a:cubicBezTo>
                    <a:cubicBezTo>
                      <a:pt x="13267" y="6"/>
                      <a:pt x="13266" y="7"/>
                      <a:pt x="13265" y="7"/>
                    </a:cubicBezTo>
                    <a:lnTo>
                      <a:pt x="13265" y="7"/>
                    </a:lnTo>
                    <a:cubicBezTo>
                      <a:pt x="13264" y="7"/>
                      <a:pt x="13263" y="6"/>
                      <a:pt x="13263" y="5"/>
                    </a:cubicBezTo>
                    <a:cubicBezTo>
                      <a:pt x="13263" y="4"/>
                      <a:pt x="13264" y="3"/>
                      <a:pt x="13265" y="3"/>
                    </a:cubicBezTo>
                    <a:close/>
                    <a:moveTo>
                      <a:pt x="13273" y="3"/>
                    </a:moveTo>
                    <a:lnTo>
                      <a:pt x="13273" y="3"/>
                    </a:lnTo>
                    <a:cubicBezTo>
                      <a:pt x="13274" y="3"/>
                      <a:pt x="13275" y="4"/>
                      <a:pt x="13275" y="5"/>
                    </a:cubicBezTo>
                    <a:cubicBezTo>
                      <a:pt x="13275" y="6"/>
                      <a:pt x="13274" y="7"/>
                      <a:pt x="13273" y="7"/>
                    </a:cubicBezTo>
                    <a:lnTo>
                      <a:pt x="13273" y="7"/>
                    </a:lnTo>
                    <a:cubicBezTo>
                      <a:pt x="13272" y="7"/>
                      <a:pt x="13271" y="6"/>
                      <a:pt x="13271" y="5"/>
                    </a:cubicBezTo>
                    <a:cubicBezTo>
                      <a:pt x="13271" y="4"/>
                      <a:pt x="13272" y="3"/>
                      <a:pt x="13273" y="3"/>
                    </a:cubicBezTo>
                    <a:close/>
                    <a:moveTo>
                      <a:pt x="13281" y="3"/>
                    </a:moveTo>
                    <a:lnTo>
                      <a:pt x="13281" y="3"/>
                    </a:lnTo>
                    <a:cubicBezTo>
                      <a:pt x="13282" y="3"/>
                      <a:pt x="13283" y="4"/>
                      <a:pt x="13283" y="5"/>
                    </a:cubicBezTo>
                    <a:cubicBezTo>
                      <a:pt x="13283" y="6"/>
                      <a:pt x="13282" y="7"/>
                      <a:pt x="13281" y="7"/>
                    </a:cubicBezTo>
                    <a:lnTo>
                      <a:pt x="13281" y="7"/>
                    </a:lnTo>
                    <a:cubicBezTo>
                      <a:pt x="13280" y="7"/>
                      <a:pt x="13279" y="6"/>
                      <a:pt x="13279" y="5"/>
                    </a:cubicBezTo>
                    <a:cubicBezTo>
                      <a:pt x="13279" y="4"/>
                      <a:pt x="13280" y="3"/>
                      <a:pt x="13281" y="3"/>
                    </a:cubicBezTo>
                    <a:close/>
                    <a:moveTo>
                      <a:pt x="13289" y="3"/>
                    </a:moveTo>
                    <a:lnTo>
                      <a:pt x="13289" y="3"/>
                    </a:lnTo>
                    <a:cubicBezTo>
                      <a:pt x="13290" y="3"/>
                      <a:pt x="13291" y="4"/>
                      <a:pt x="13291" y="5"/>
                    </a:cubicBezTo>
                    <a:cubicBezTo>
                      <a:pt x="13291" y="6"/>
                      <a:pt x="13290" y="7"/>
                      <a:pt x="13289" y="7"/>
                    </a:cubicBezTo>
                    <a:lnTo>
                      <a:pt x="13289" y="7"/>
                    </a:lnTo>
                    <a:cubicBezTo>
                      <a:pt x="13288" y="7"/>
                      <a:pt x="13287" y="6"/>
                      <a:pt x="13287" y="5"/>
                    </a:cubicBezTo>
                    <a:cubicBezTo>
                      <a:pt x="13287" y="4"/>
                      <a:pt x="13288" y="3"/>
                      <a:pt x="13289" y="3"/>
                    </a:cubicBezTo>
                    <a:close/>
                    <a:moveTo>
                      <a:pt x="13297" y="3"/>
                    </a:moveTo>
                    <a:lnTo>
                      <a:pt x="13297" y="3"/>
                    </a:lnTo>
                    <a:cubicBezTo>
                      <a:pt x="13298" y="3"/>
                      <a:pt x="13299" y="4"/>
                      <a:pt x="13299" y="5"/>
                    </a:cubicBezTo>
                    <a:cubicBezTo>
                      <a:pt x="13299" y="6"/>
                      <a:pt x="13298" y="7"/>
                      <a:pt x="13297" y="7"/>
                    </a:cubicBezTo>
                    <a:lnTo>
                      <a:pt x="13297" y="7"/>
                    </a:lnTo>
                    <a:cubicBezTo>
                      <a:pt x="13296" y="7"/>
                      <a:pt x="13295" y="6"/>
                      <a:pt x="13295" y="5"/>
                    </a:cubicBezTo>
                    <a:cubicBezTo>
                      <a:pt x="13295" y="4"/>
                      <a:pt x="13296" y="3"/>
                      <a:pt x="13297" y="3"/>
                    </a:cubicBezTo>
                    <a:close/>
                    <a:moveTo>
                      <a:pt x="13305" y="3"/>
                    </a:moveTo>
                    <a:lnTo>
                      <a:pt x="13305" y="3"/>
                    </a:lnTo>
                    <a:cubicBezTo>
                      <a:pt x="13306" y="3"/>
                      <a:pt x="13307" y="4"/>
                      <a:pt x="13307" y="5"/>
                    </a:cubicBezTo>
                    <a:cubicBezTo>
                      <a:pt x="13307" y="6"/>
                      <a:pt x="13306" y="7"/>
                      <a:pt x="13305" y="7"/>
                    </a:cubicBezTo>
                    <a:lnTo>
                      <a:pt x="13305" y="7"/>
                    </a:lnTo>
                    <a:cubicBezTo>
                      <a:pt x="13304" y="7"/>
                      <a:pt x="13303" y="6"/>
                      <a:pt x="13303" y="5"/>
                    </a:cubicBezTo>
                    <a:cubicBezTo>
                      <a:pt x="13303" y="4"/>
                      <a:pt x="13304" y="3"/>
                      <a:pt x="13305" y="3"/>
                    </a:cubicBezTo>
                    <a:close/>
                    <a:moveTo>
                      <a:pt x="13313" y="3"/>
                    </a:moveTo>
                    <a:lnTo>
                      <a:pt x="13313" y="3"/>
                    </a:lnTo>
                    <a:cubicBezTo>
                      <a:pt x="13314" y="3"/>
                      <a:pt x="13315" y="4"/>
                      <a:pt x="13315" y="5"/>
                    </a:cubicBezTo>
                    <a:cubicBezTo>
                      <a:pt x="13315" y="6"/>
                      <a:pt x="13314" y="7"/>
                      <a:pt x="13313" y="7"/>
                    </a:cubicBezTo>
                    <a:lnTo>
                      <a:pt x="13313" y="7"/>
                    </a:lnTo>
                    <a:cubicBezTo>
                      <a:pt x="13312" y="7"/>
                      <a:pt x="13311" y="6"/>
                      <a:pt x="13311" y="5"/>
                    </a:cubicBezTo>
                    <a:cubicBezTo>
                      <a:pt x="13311" y="4"/>
                      <a:pt x="13312" y="3"/>
                      <a:pt x="13313" y="3"/>
                    </a:cubicBezTo>
                    <a:close/>
                    <a:moveTo>
                      <a:pt x="13321" y="3"/>
                    </a:moveTo>
                    <a:lnTo>
                      <a:pt x="13321" y="3"/>
                    </a:lnTo>
                    <a:cubicBezTo>
                      <a:pt x="13322" y="3"/>
                      <a:pt x="13323" y="4"/>
                      <a:pt x="13323" y="5"/>
                    </a:cubicBezTo>
                    <a:cubicBezTo>
                      <a:pt x="13323" y="6"/>
                      <a:pt x="13322" y="7"/>
                      <a:pt x="13321" y="7"/>
                    </a:cubicBezTo>
                    <a:lnTo>
                      <a:pt x="13321" y="7"/>
                    </a:lnTo>
                    <a:cubicBezTo>
                      <a:pt x="13320" y="7"/>
                      <a:pt x="13319" y="6"/>
                      <a:pt x="13319" y="5"/>
                    </a:cubicBezTo>
                    <a:cubicBezTo>
                      <a:pt x="13319" y="4"/>
                      <a:pt x="13320" y="3"/>
                      <a:pt x="13321" y="3"/>
                    </a:cubicBezTo>
                    <a:close/>
                    <a:moveTo>
                      <a:pt x="13329" y="3"/>
                    </a:moveTo>
                    <a:lnTo>
                      <a:pt x="13329" y="3"/>
                    </a:lnTo>
                    <a:cubicBezTo>
                      <a:pt x="13330" y="3"/>
                      <a:pt x="13331" y="4"/>
                      <a:pt x="13331" y="5"/>
                    </a:cubicBezTo>
                    <a:cubicBezTo>
                      <a:pt x="13331" y="6"/>
                      <a:pt x="13330" y="7"/>
                      <a:pt x="13329" y="7"/>
                    </a:cubicBezTo>
                    <a:lnTo>
                      <a:pt x="13329" y="7"/>
                    </a:lnTo>
                    <a:cubicBezTo>
                      <a:pt x="13328" y="7"/>
                      <a:pt x="13327" y="6"/>
                      <a:pt x="13327" y="5"/>
                    </a:cubicBezTo>
                    <a:cubicBezTo>
                      <a:pt x="13327" y="4"/>
                      <a:pt x="13328" y="3"/>
                      <a:pt x="13329" y="3"/>
                    </a:cubicBezTo>
                    <a:close/>
                    <a:moveTo>
                      <a:pt x="13337" y="3"/>
                    </a:moveTo>
                    <a:lnTo>
                      <a:pt x="13337" y="3"/>
                    </a:lnTo>
                    <a:cubicBezTo>
                      <a:pt x="13338" y="3"/>
                      <a:pt x="13339" y="4"/>
                      <a:pt x="13339" y="5"/>
                    </a:cubicBezTo>
                    <a:cubicBezTo>
                      <a:pt x="13339" y="6"/>
                      <a:pt x="13338" y="7"/>
                      <a:pt x="13337" y="7"/>
                    </a:cubicBezTo>
                    <a:lnTo>
                      <a:pt x="13337" y="7"/>
                    </a:lnTo>
                    <a:cubicBezTo>
                      <a:pt x="13336" y="7"/>
                      <a:pt x="13335" y="6"/>
                      <a:pt x="13335" y="5"/>
                    </a:cubicBezTo>
                    <a:cubicBezTo>
                      <a:pt x="13335" y="4"/>
                      <a:pt x="13336" y="3"/>
                      <a:pt x="13337" y="3"/>
                    </a:cubicBezTo>
                    <a:close/>
                    <a:moveTo>
                      <a:pt x="13345" y="3"/>
                    </a:moveTo>
                    <a:lnTo>
                      <a:pt x="13345" y="3"/>
                    </a:lnTo>
                    <a:cubicBezTo>
                      <a:pt x="13346" y="3"/>
                      <a:pt x="13347" y="4"/>
                      <a:pt x="13347" y="5"/>
                    </a:cubicBezTo>
                    <a:cubicBezTo>
                      <a:pt x="13347" y="6"/>
                      <a:pt x="13346" y="7"/>
                      <a:pt x="13345" y="7"/>
                    </a:cubicBezTo>
                    <a:lnTo>
                      <a:pt x="13345" y="7"/>
                    </a:lnTo>
                    <a:cubicBezTo>
                      <a:pt x="13344" y="7"/>
                      <a:pt x="13343" y="6"/>
                      <a:pt x="13343" y="5"/>
                    </a:cubicBezTo>
                    <a:cubicBezTo>
                      <a:pt x="13343" y="4"/>
                      <a:pt x="13344" y="3"/>
                      <a:pt x="13345" y="3"/>
                    </a:cubicBezTo>
                    <a:close/>
                    <a:moveTo>
                      <a:pt x="13353" y="3"/>
                    </a:moveTo>
                    <a:lnTo>
                      <a:pt x="13353" y="3"/>
                    </a:lnTo>
                    <a:cubicBezTo>
                      <a:pt x="13354" y="3"/>
                      <a:pt x="13355" y="4"/>
                      <a:pt x="13355" y="5"/>
                    </a:cubicBezTo>
                    <a:cubicBezTo>
                      <a:pt x="13355" y="6"/>
                      <a:pt x="13354" y="7"/>
                      <a:pt x="13353" y="7"/>
                    </a:cubicBezTo>
                    <a:lnTo>
                      <a:pt x="13353" y="7"/>
                    </a:lnTo>
                    <a:cubicBezTo>
                      <a:pt x="13352" y="7"/>
                      <a:pt x="13351" y="6"/>
                      <a:pt x="13351" y="5"/>
                    </a:cubicBezTo>
                    <a:cubicBezTo>
                      <a:pt x="13351" y="4"/>
                      <a:pt x="13352" y="3"/>
                      <a:pt x="13353" y="3"/>
                    </a:cubicBezTo>
                    <a:close/>
                    <a:moveTo>
                      <a:pt x="13361" y="3"/>
                    </a:moveTo>
                    <a:lnTo>
                      <a:pt x="13361" y="3"/>
                    </a:lnTo>
                    <a:cubicBezTo>
                      <a:pt x="13362" y="3"/>
                      <a:pt x="13363" y="4"/>
                      <a:pt x="13363" y="5"/>
                    </a:cubicBezTo>
                    <a:cubicBezTo>
                      <a:pt x="13363" y="6"/>
                      <a:pt x="13362" y="7"/>
                      <a:pt x="13361" y="7"/>
                    </a:cubicBezTo>
                    <a:lnTo>
                      <a:pt x="13361" y="7"/>
                    </a:lnTo>
                    <a:cubicBezTo>
                      <a:pt x="13360" y="7"/>
                      <a:pt x="13359" y="6"/>
                      <a:pt x="13359" y="5"/>
                    </a:cubicBezTo>
                    <a:cubicBezTo>
                      <a:pt x="13359" y="4"/>
                      <a:pt x="13360" y="3"/>
                      <a:pt x="13361" y="3"/>
                    </a:cubicBezTo>
                    <a:close/>
                    <a:moveTo>
                      <a:pt x="13369" y="3"/>
                    </a:moveTo>
                    <a:lnTo>
                      <a:pt x="13369" y="3"/>
                    </a:lnTo>
                    <a:cubicBezTo>
                      <a:pt x="13370" y="3"/>
                      <a:pt x="13371" y="4"/>
                      <a:pt x="13371" y="5"/>
                    </a:cubicBezTo>
                    <a:cubicBezTo>
                      <a:pt x="13371" y="6"/>
                      <a:pt x="13370" y="7"/>
                      <a:pt x="13369" y="7"/>
                    </a:cubicBezTo>
                    <a:lnTo>
                      <a:pt x="13369" y="7"/>
                    </a:lnTo>
                    <a:cubicBezTo>
                      <a:pt x="13368" y="7"/>
                      <a:pt x="13367" y="6"/>
                      <a:pt x="13367" y="5"/>
                    </a:cubicBezTo>
                    <a:cubicBezTo>
                      <a:pt x="13367" y="4"/>
                      <a:pt x="13368" y="3"/>
                      <a:pt x="13369" y="3"/>
                    </a:cubicBezTo>
                    <a:close/>
                    <a:moveTo>
                      <a:pt x="13377" y="3"/>
                    </a:moveTo>
                    <a:lnTo>
                      <a:pt x="13377" y="3"/>
                    </a:lnTo>
                    <a:cubicBezTo>
                      <a:pt x="13378" y="3"/>
                      <a:pt x="13379" y="4"/>
                      <a:pt x="13379" y="5"/>
                    </a:cubicBezTo>
                    <a:cubicBezTo>
                      <a:pt x="13379" y="6"/>
                      <a:pt x="13378" y="7"/>
                      <a:pt x="13377" y="7"/>
                    </a:cubicBezTo>
                    <a:lnTo>
                      <a:pt x="13377" y="7"/>
                    </a:lnTo>
                    <a:cubicBezTo>
                      <a:pt x="13376" y="7"/>
                      <a:pt x="13375" y="6"/>
                      <a:pt x="13375" y="5"/>
                    </a:cubicBezTo>
                    <a:cubicBezTo>
                      <a:pt x="13375" y="4"/>
                      <a:pt x="13376" y="3"/>
                      <a:pt x="13377" y="3"/>
                    </a:cubicBezTo>
                    <a:close/>
                    <a:moveTo>
                      <a:pt x="13385" y="3"/>
                    </a:moveTo>
                    <a:lnTo>
                      <a:pt x="13385" y="3"/>
                    </a:lnTo>
                    <a:cubicBezTo>
                      <a:pt x="13386" y="3"/>
                      <a:pt x="13387" y="4"/>
                      <a:pt x="13387" y="5"/>
                    </a:cubicBezTo>
                    <a:cubicBezTo>
                      <a:pt x="13387" y="6"/>
                      <a:pt x="13386" y="7"/>
                      <a:pt x="13385" y="7"/>
                    </a:cubicBezTo>
                    <a:lnTo>
                      <a:pt x="13385" y="7"/>
                    </a:lnTo>
                    <a:cubicBezTo>
                      <a:pt x="13384" y="7"/>
                      <a:pt x="13383" y="6"/>
                      <a:pt x="13383" y="5"/>
                    </a:cubicBezTo>
                    <a:cubicBezTo>
                      <a:pt x="13383" y="4"/>
                      <a:pt x="13384" y="3"/>
                      <a:pt x="13385" y="3"/>
                    </a:cubicBezTo>
                    <a:close/>
                    <a:moveTo>
                      <a:pt x="13393" y="3"/>
                    </a:moveTo>
                    <a:lnTo>
                      <a:pt x="13393" y="3"/>
                    </a:lnTo>
                    <a:cubicBezTo>
                      <a:pt x="13394" y="3"/>
                      <a:pt x="13395" y="4"/>
                      <a:pt x="13395" y="5"/>
                    </a:cubicBezTo>
                    <a:cubicBezTo>
                      <a:pt x="13395" y="6"/>
                      <a:pt x="13394" y="7"/>
                      <a:pt x="13393" y="7"/>
                    </a:cubicBezTo>
                    <a:lnTo>
                      <a:pt x="13393" y="7"/>
                    </a:lnTo>
                    <a:cubicBezTo>
                      <a:pt x="13392" y="7"/>
                      <a:pt x="13391" y="6"/>
                      <a:pt x="13391" y="5"/>
                    </a:cubicBezTo>
                    <a:cubicBezTo>
                      <a:pt x="13391" y="4"/>
                      <a:pt x="13392" y="3"/>
                      <a:pt x="13393" y="3"/>
                    </a:cubicBezTo>
                    <a:close/>
                    <a:moveTo>
                      <a:pt x="13401" y="3"/>
                    </a:moveTo>
                    <a:lnTo>
                      <a:pt x="13401" y="3"/>
                    </a:lnTo>
                    <a:cubicBezTo>
                      <a:pt x="13402" y="3"/>
                      <a:pt x="13403" y="4"/>
                      <a:pt x="13403" y="5"/>
                    </a:cubicBezTo>
                    <a:cubicBezTo>
                      <a:pt x="13403" y="6"/>
                      <a:pt x="13402" y="7"/>
                      <a:pt x="13401" y="7"/>
                    </a:cubicBezTo>
                    <a:lnTo>
                      <a:pt x="13401" y="7"/>
                    </a:lnTo>
                    <a:cubicBezTo>
                      <a:pt x="13400" y="7"/>
                      <a:pt x="13399" y="6"/>
                      <a:pt x="13399" y="5"/>
                    </a:cubicBezTo>
                    <a:cubicBezTo>
                      <a:pt x="13399" y="4"/>
                      <a:pt x="13400" y="3"/>
                      <a:pt x="13401" y="3"/>
                    </a:cubicBezTo>
                    <a:close/>
                    <a:moveTo>
                      <a:pt x="13409" y="3"/>
                    </a:moveTo>
                    <a:lnTo>
                      <a:pt x="13409" y="3"/>
                    </a:lnTo>
                    <a:cubicBezTo>
                      <a:pt x="13410" y="3"/>
                      <a:pt x="13411" y="4"/>
                      <a:pt x="13411" y="5"/>
                    </a:cubicBezTo>
                    <a:cubicBezTo>
                      <a:pt x="13411" y="6"/>
                      <a:pt x="13410" y="7"/>
                      <a:pt x="13409" y="7"/>
                    </a:cubicBezTo>
                    <a:lnTo>
                      <a:pt x="13409" y="7"/>
                    </a:lnTo>
                    <a:cubicBezTo>
                      <a:pt x="13408" y="7"/>
                      <a:pt x="13407" y="6"/>
                      <a:pt x="13407" y="5"/>
                    </a:cubicBezTo>
                    <a:cubicBezTo>
                      <a:pt x="13407" y="4"/>
                      <a:pt x="13408" y="3"/>
                      <a:pt x="13409" y="3"/>
                    </a:cubicBezTo>
                    <a:close/>
                    <a:moveTo>
                      <a:pt x="13417" y="3"/>
                    </a:moveTo>
                    <a:lnTo>
                      <a:pt x="13417" y="3"/>
                    </a:lnTo>
                    <a:cubicBezTo>
                      <a:pt x="13418" y="3"/>
                      <a:pt x="13419" y="4"/>
                      <a:pt x="13419" y="5"/>
                    </a:cubicBezTo>
                    <a:cubicBezTo>
                      <a:pt x="13419" y="6"/>
                      <a:pt x="13418" y="7"/>
                      <a:pt x="13417" y="7"/>
                    </a:cubicBezTo>
                    <a:lnTo>
                      <a:pt x="13417" y="7"/>
                    </a:lnTo>
                    <a:cubicBezTo>
                      <a:pt x="13416" y="7"/>
                      <a:pt x="13415" y="6"/>
                      <a:pt x="13415" y="5"/>
                    </a:cubicBezTo>
                    <a:cubicBezTo>
                      <a:pt x="13415" y="4"/>
                      <a:pt x="13416" y="3"/>
                      <a:pt x="13417" y="3"/>
                    </a:cubicBezTo>
                    <a:close/>
                    <a:moveTo>
                      <a:pt x="13425" y="3"/>
                    </a:moveTo>
                    <a:lnTo>
                      <a:pt x="13425" y="3"/>
                    </a:lnTo>
                    <a:cubicBezTo>
                      <a:pt x="13426" y="3"/>
                      <a:pt x="13427" y="4"/>
                      <a:pt x="13427" y="5"/>
                    </a:cubicBezTo>
                    <a:cubicBezTo>
                      <a:pt x="13427" y="6"/>
                      <a:pt x="13426" y="7"/>
                      <a:pt x="13425" y="7"/>
                    </a:cubicBezTo>
                    <a:lnTo>
                      <a:pt x="13425" y="7"/>
                    </a:lnTo>
                    <a:cubicBezTo>
                      <a:pt x="13424" y="7"/>
                      <a:pt x="13423" y="6"/>
                      <a:pt x="13423" y="5"/>
                    </a:cubicBezTo>
                    <a:cubicBezTo>
                      <a:pt x="13423" y="4"/>
                      <a:pt x="13424" y="3"/>
                      <a:pt x="13425" y="3"/>
                    </a:cubicBezTo>
                    <a:close/>
                    <a:moveTo>
                      <a:pt x="13433" y="3"/>
                    </a:moveTo>
                    <a:lnTo>
                      <a:pt x="13433" y="3"/>
                    </a:lnTo>
                    <a:cubicBezTo>
                      <a:pt x="13434" y="3"/>
                      <a:pt x="13435" y="4"/>
                      <a:pt x="13435" y="5"/>
                    </a:cubicBezTo>
                    <a:cubicBezTo>
                      <a:pt x="13435" y="6"/>
                      <a:pt x="13434" y="7"/>
                      <a:pt x="13433" y="7"/>
                    </a:cubicBezTo>
                    <a:lnTo>
                      <a:pt x="13433" y="7"/>
                    </a:lnTo>
                    <a:cubicBezTo>
                      <a:pt x="13432" y="7"/>
                      <a:pt x="13431" y="6"/>
                      <a:pt x="13431" y="5"/>
                    </a:cubicBezTo>
                    <a:cubicBezTo>
                      <a:pt x="13431" y="4"/>
                      <a:pt x="13432" y="3"/>
                      <a:pt x="13433" y="3"/>
                    </a:cubicBezTo>
                    <a:close/>
                    <a:moveTo>
                      <a:pt x="13441" y="3"/>
                    </a:moveTo>
                    <a:lnTo>
                      <a:pt x="13441" y="3"/>
                    </a:lnTo>
                    <a:cubicBezTo>
                      <a:pt x="13442" y="3"/>
                      <a:pt x="13443" y="4"/>
                      <a:pt x="13443" y="5"/>
                    </a:cubicBezTo>
                    <a:cubicBezTo>
                      <a:pt x="13443" y="7"/>
                      <a:pt x="13442" y="7"/>
                      <a:pt x="13441" y="7"/>
                    </a:cubicBezTo>
                    <a:lnTo>
                      <a:pt x="13441" y="7"/>
                    </a:lnTo>
                    <a:cubicBezTo>
                      <a:pt x="13440" y="7"/>
                      <a:pt x="13439" y="7"/>
                      <a:pt x="13439" y="5"/>
                    </a:cubicBezTo>
                    <a:cubicBezTo>
                      <a:pt x="13439" y="4"/>
                      <a:pt x="13440" y="3"/>
                      <a:pt x="13441" y="3"/>
                    </a:cubicBezTo>
                    <a:close/>
                    <a:moveTo>
                      <a:pt x="13449" y="3"/>
                    </a:moveTo>
                    <a:lnTo>
                      <a:pt x="13449" y="3"/>
                    </a:lnTo>
                    <a:cubicBezTo>
                      <a:pt x="13450" y="3"/>
                      <a:pt x="13451" y="4"/>
                      <a:pt x="13451" y="5"/>
                    </a:cubicBezTo>
                    <a:cubicBezTo>
                      <a:pt x="13451" y="7"/>
                      <a:pt x="13450" y="7"/>
                      <a:pt x="13449" y="7"/>
                    </a:cubicBezTo>
                    <a:lnTo>
                      <a:pt x="13449" y="7"/>
                    </a:lnTo>
                    <a:cubicBezTo>
                      <a:pt x="13448" y="7"/>
                      <a:pt x="13447" y="7"/>
                      <a:pt x="13447" y="5"/>
                    </a:cubicBezTo>
                    <a:cubicBezTo>
                      <a:pt x="13447" y="4"/>
                      <a:pt x="13448" y="3"/>
                      <a:pt x="13449" y="3"/>
                    </a:cubicBezTo>
                    <a:close/>
                    <a:moveTo>
                      <a:pt x="13457" y="3"/>
                    </a:moveTo>
                    <a:lnTo>
                      <a:pt x="13457" y="3"/>
                    </a:lnTo>
                    <a:cubicBezTo>
                      <a:pt x="13458" y="3"/>
                      <a:pt x="13459" y="4"/>
                      <a:pt x="13459" y="5"/>
                    </a:cubicBezTo>
                    <a:cubicBezTo>
                      <a:pt x="13459" y="7"/>
                      <a:pt x="13458" y="7"/>
                      <a:pt x="13457" y="7"/>
                    </a:cubicBezTo>
                    <a:lnTo>
                      <a:pt x="13457" y="7"/>
                    </a:lnTo>
                    <a:cubicBezTo>
                      <a:pt x="13456" y="7"/>
                      <a:pt x="13455" y="7"/>
                      <a:pt x="13455" y="5"/>
                    </a:cubicBezTo>
                    <a:cubicBezTo>
                      <a:pt x="13455" y="4"/>
                      <a:pt x="13456" y="3"/>
                      <a:pt x="13457" y="3"/>
                    </a:cubicBezTo>
                    <a:close/>
                    <a:moveTo>
                      <a:pt x="13465" y="3"/>
                    </a:moveTo>
                    <a:lnTo>
                      <a:pt x="13465" y="3"/>
                    </a:lnTo>
                    <a:cubicBezTo>
                      <a:pt x="13466" y="3"/>
                      <a:pt x="13467" y="4"/>
                      <a:pt x="13467" y="5"/>
                    </a:cubicBezTo>
                    <a:cubicBezTo>
                      <a:pt x="13467" y="7"/>
                      <a:pt x="13466" y="7"/>
                      <a:pt x="13465" y="7"/>
                    </a:cubicBezTo>
                    <a:lnTo>
                      <a:pt x="13465" y="7"/>
                    </a:lnTo>
                    <a:cubicBezTo>
                      <a:pt x="13464" y="7"/>
                      <a:pt x="13463" y="7"/>
                      <a:pt x="13463" y="5"/>
                    </a:cubicBezTo>
                    <a:cubicBezTo>
                      <a:pt x="13463" y="4"/>
                      <a:pt x="13464" y="3"/>
                      <a:pt x="13465" y="3"/>
                    </a:cubicBezTo>
                    <a:close/>
                    <a:moveTo>
                      <a:pt x="13473" y="3"/>
                    </a:moveTo>
                    <a:lnTo>
                      <a:pt x="13473" y="3"/>
                    </a:lnTo>
                    <a:cubicBezTo>
                      <a:pt x="13474" y="3"/>
                      <a:pt x="13475" y="4"/>
                      <a:pt x="13475" y="5"/>
                    </a:cubicBezTo>
                    <a:cubicBezTo>
                      <a:pt x="13475" y="7"/>
                      <a:pt x="13474" y="7"/>
                      <a:pt x="13473" y="7"/>
                    </a:cubicBezTo>
                    <a:lnTo>
                      <a:pt x="13473" y="7"/>
                    </a:lnTo>
                    <a:cubicBezTo>
                      <a:pt x="13472" y="7"/>
                      <a:pt x="13471" y="7"/>
                      <a:pt x="13471" y="5"/>
                    </a:cubicBezTo>
                    <a:cubicBezTo>
                      <a:pt x="13471" y="4"/>
                      <a:pt x="13472" y="3"/>
                      <a:pt x="13473" y="3"/>
                    </a:cubicBezTo>
                    <a:close/>
                    <a:moveTo>
                      <a:pt x="13481" y="3"/>
                    </a:moveTo>
                    <a:lnTo>
                      <a:pt x="13481" y="3"/>
                    </a:lnTo>
                    <a:cubicBezTo>
                      <a:pt x="13482" y="3"/>
                      <a:pt x="13483" y="4"/>
                      <a:pt x="13483" y="5"/>
                    </a:cubicBezTo>
                    <a:cubicBezTo>
                      <a:pt x="13483" y="7"/>
                      <a:pt x="13482" y="7"/>
                      <a:pt x="13481" y="7"/>
                    </a:cubicBezTo>
                    <a:lnTo>
                      <a:pt x="13481" y="7"/>
                    </a:lnTo>
                    <a:cubicBezTo>
                      <a:pt x="13480" y="7"/>
                      <a:pt x="13479" y="7"/>
                      <a:pt x="13479" y="5"/>
                    </a:cubicBezTo>
                    <a:cubicBezTo>
                      <a:pt x="13479" y="4"/>
                      <a:pt x="13480" y="3"/>
                      <a:pt x="13481" y="3"/>
                    </a:cubicBezTo>
                    <a:close/>
                    <a:moveTo>
                      <a:pt x="13489" y="3"/>
                    </a:moveTo>
                    <a:lnTo>
                      <a:pt x="13489" y="3"/>
                    </a:lnTo>
                    <a:cubicBezTo>
                      <a:pt x="13490" y="3"/>
                      <a:pt x="13491" y="4"/>
                      <a:pt x="13491" y="5"/>
                    </a:cubicBezTo>
                    <a:cubicBezTo>
                      <a:pt x="13491" y="7"/>
                      <a:pt x="13490" y="7"/>
                      <a:pt x="13489" y="7"/>
                    </a:cubicBezTo>
                    <a:lnTo>
                      <a:pt x="13489" y="7"/>
                    </a:lnTo>
                    <a:cubicBezTo>
                      <a:pt x="13488" y="7"/>
                      <a:pt x="13487" y="7"/>
                      <a:pt x="13487" y="5"/>
                    </a:cubicBezTo>
                    <a:cubicBezTo>
                      <a:pt x="13487" y="4"/>
                      <a:pt x="13488" y="3"/>
                      <a:pt x="13489" y="3"/>
                    </a:cubicBezTo>
                    <a:close/>
                    <a:moveTo>
                      <a:pt x="13497" y="3"/>
                    </a:moveTo>
                    <a:lnTo>
                      <a:pt x="13497" y="3"/>
                    </a:lnTo>
                    <a:cubicBezTo>
                      <a:pt x="13498" y="3"/>
                      <a:pt x="13499" y="4"/>
                      <a:pt x="13499" y="5"/>
                    </a:cubicBezTo>
                    <a:cubicBezTo>
                      <a:pt x="13499" y="7"/>
                      <a:pt x="13498" y="7"/>
                      <a:pt x="13497" y="7"/>
                    </a:cubicBezTo>
                    <a:lnTo>
                      <a:pt x="13497" y="7"/>
                    </a:lnTo>
                    <a:cubicBezTo>
                      <a:pt x="13496" y="7"/>
                      <a:pt x="13495" y="7"/>
                      <a:pt x="13495" y="5"/>
                    </a:cubicBezTo>
                    <a:cubicBezTo>
                      <a:pt x="13495" y="4"/>
                      <a:pt x="13496" y="3"/>
                      <a:pt x="13497" y="3"/>
                    </a:cubicBezTo>
                    <a:close/>
                    <a:moveTo>
                      <a:pt x="13505" y="3"/>
                    </a:moveTo>
                    <a:lnTo>
                      <a:pt x="13505" y="3"/>
                    </a:lnTo>
                    <a:cubicBezTo>
                      <a:pt x="13506" y="3"/>
                      <a:pt x="13507" y="4"/>
                      <a:pt x="13507" y="5"/>
                    </a:cubicBezTo>
                    <a:cubicBezTo>
                      <a:pt x="13507" y="7"/>
                      <a:pt x="13506" y="7"/>
                      <a:pt x="13505" y="7"/>
                    </a:cubicBezTo>
                    <a:lnTo>
                      <a:pt x="13505" y="7"/>
                    </a:lnTo>
                    <a:cubicBezTo>
                      <a:pt x="13504" y="7"/>
                      <a:pt x="13503" y="7"/>
                      <a:pt x="13503" y="5"/>
                    </a:cubicBezTo>
                    <a:cubicBezTo>
                      <a:pt x="13503" y="4"/>
                      <a:pt x="13504" y="3"/>
                      <a:pt x="13505" y="3"/>
                    </a:cubicBezTo>
                    <a:close/>
                    <a:moveTo>
                      <a:pt x="13513" y="3"/>
                    </a:moveTo>
                    <a:lnTo>
                      <a:pt x="13513" y="3"/>
                    </a:lnTo>
                    <a:cubicBezTo>
                      <a:pt x="13514" y="3"/>
                      <a:pt x="13515" y="4"/>
                      <a:pt x="13515" y="5"/>
                    </a:cubicBezTo>
                    <a:cubicBezTo>
                      <a:pt x="13515" y="7"/>
                      <a:pt x="13514" y="7"/>
                      <a:pt x="13513" y="7"/>
                    </a:cubicBezTo>
                    <a:lnTo>
                      <a:pt x="13513" y="7"/>
                    </a:lnTo>
                    <a:cubicBezTo>
                      <a:pt x="13512" y="7"/>
                      <a:pt x="13511" y="7"/>
                      <a:pt x="13511" y="5"/>
                    </a:cubicBezTo>
                    <a:cubicBezTo>
                      <a:pt x="13511" y="4"/>
                      <a:pt x="13512" y="3"/>
                      <a:pt x="13513" y="3"/>
                    </a:cubicBezTo>
                    <a:close/>
                    <a:moveTo>
                      <a:pt x="13521" y="3"/>
                    </a:moveTo>
                    <a:lnTo>
                      <a:pt x="13521" y="3"/>
                    </a:lnTo>
                    <a:cubicBezTo>
                      <a:pt x="13522" y="3"/>
                      <a:pt x="13523" y="4"/>
                      <a:pt x="13523" y="5"/>
                    </a:cubicBezTo>
                    <a:cubicBezTo>
                      <a:pt x="13523" y="7"/>
                      <a:pt x="13522" y="7"/>
                      <a:pt x="13521" y="7"/>
                    </a:cubicBezTo>
                    <a:lnTo>
                      <a:pt x="13521" y="7"/>
                    </a:lnTo>
                    <a:cubicBezTo>
                      <a:pt x="13520" y="7"/>
                      <a:pt x="13519" y="7"/>
                      <a:pt x="13519" y="5"/>
                    </a:cubicBezTo>
                    <a:cubicBezTo>
                      <a:pt x="13519" y="4"/>
                      <a:pt x="13520" y="3"/>
                      <a:pt x="13521" y="3"/>
                    </a:cubicBezTo>
                    <a:close/>
                    <a:moveTo>
                      <a:pt x="13529" y="3"/>
                    </a:moveTo>
                    <a:lnTo>
                      <a:pt x="13529" y="3"/>
                    </a:lnTo>
                    <a:cubicBezTo>
                      <a:pt x="13530" y="3"/>
                      <a:pt x="13531" y="4"/>
                      <a:pt x="13531" y="5"/>
                    </a:cubicBezTo>
                    <a:cubicBezTo>
                      <a:pt x="13531" y="7"/>
                      <a:pt x="13530" y="7"/>
                      <a:pt x="13529" y="7"/>
                    </a:cubicBezTo>
                    <a:lnTo>
                      <a:pt x="13529" y="7"/>
                    </a:lnTo>
                    <a:cubicBezTo>
                      <a:pt x="13528" y="7"/>
                      <a:pt x="13527" y="7"/>
                      <a:pt x="13527" y="5"/>
                    </a:cubicBezTo>
                    <a:cubicBezTo>
                      <a:pt x="13527" y="4"/>
                      <a:pt x="13528" y="3"/>
                      <a:pt x="13529" y="3"/>
                    </a:cubicBezTo>
                    <a:close/>
                    <a:moveTo>
                      <a:pt x="13537" y="3"/>
                    </a:moveTo>
                    <a:lnTo>
                      <a:pt x="13537" y="3"/>
                    </a:lnTo>
                    <a:cubicBezTo>
                      <a:pt x="13538" y="3"/>
                      <a:pt x="13539" y="4"/>
                      <a:pt x="13539" y="5"/>
                    </a:cubicBezTo>
                    <a:cubicBezTo>
                      <a:pt x="13539" y="7"/>
                      <a:pt x="13538" y="7"/>
                      <a:pt x="13537" y="7"/>
                    </a:cubicBezTo>
                    <a:lnTo>
                      <a:pt x="13537" y="7"/>
                    </a:lnTo>
                    <a:cubicBezTo>
                      <a:pt x="13536" y="7"/>
                      <a:pt x="13535" y="7"/>
                      <a:pt x="13535" y="5"/>
                    </a:cubicBezTo>
                    <a:cubicBezTo>
                      <a:pt x="13535" y="4"/>
                      <a:pt x="13536" y="3"/>
                      <a:pt x="13537" y="3"/>
                    </a:cubicBezTo>
                    <a:close/>
                    <a:moveTo>
                      <a:pt x="13545" y="3"/>
                    </a:moveTo>
                    <a:lnTo>
                      <a:pt x="13545" y="3"/>
                    </a:lnTo>
                    <a:cubicBezTo>
                      <a:pt x="13546" y="3"/>
                      <a:pt x="13547" y="4"/>
                      <a:pt x="13547" y="5"/>
                    </a:cubicBezTo>
                    <a:cubicBezTo>
                      <a:pt x="13547" y="7"/>
                      <a:pt x="13546" y="7"/>
                      <a:pt x="13545" y="7"/>
                    </a:cubicBezTo>
                    <a:lnTo>
                      <a:pt x="13545" y="7"/>
                    </a:lnTo>
                    <a:cubicBezTo>
                      <a:pt x="13544" y="7"/>
                      <a:pt x="13543" y="7"/>
                      <a:pt x="13543" y="5"/>
                    </a:cubicBezTo>
                    <a:cubicBezTo>
                      <a:pt x="13543" y="4"/>
                      <a:pt x="13544" y="3"/>
                      <a:pt x="13545" y="3"/>
                    </a:cubicBezTo>
                    <a:close/>
                    <a:moveTo>
                      <a:pt x="13553" y="3"/>
                    </a:moveTo>
                    <a:lnTo>
                      <a:pt x="13553" y="3"/>
                    </a:lnTo>
                    <a:cubicBezTo>
                      <a:pt x="13554" y="3"/>
                      <a:pt x="13555" y="4"/>
                      <a:pt x="13555" y="5"/>
                    </a:cubicBezTo>
                    <a:cubicBezTo>
                      <a:pt x="13555" y="7"/>
                      <a:pt x="13554" y="7"/>
                      <a:pt x="13553" y="7"/>
                    </a:cubicBezTo>
                    <a:lnTo>
                      <a:pt x="13553" y="7"/>
                    </a:lnTo>
                    <a:cubicBezTo>
                      <a:pt x="13552" y="7"/>
                      <a:pt x="13551" y="7"/>
                      <a:pt x="13551" y="5"/>
                    </a:cubicBezTo>
                    <a:cubicBezTo>
                      <a:pt x="13551" y="4"/>
                      <a:pt x="13552" y="3"/>
                      <a:pt x="13553" y="3"/>
                    </a:cubicBezTo>
                    <a:close/>
                    <a:moveTo>
                      <a:pt x="13561" y="3"/>
                    </a:moveTo>
                    <a:lnTo>
                      <a:pt x="13561" y="3"/>
                    </a:lnTo>
                    <a:cubicBezTo>
                      <a:pt x="13562" y="3"/>
                      <a:pt x="13563" y="4"/>
                      <a:pt x="13563" y="5"/>
                    </a:cubicBezTo>
                    <a:cubicBezTo>
                      <a:pt x="13563" y="7"/>
                      <a:pt x="13562" y="7"/>
                      <a:pt x="13561" y="7"/>
                    </a:cubicBezTo>
                    <a:lnTo>
                      <a:pt x="13561" y="7"/>
                    </a:lnTo>
                    <a:cubicBezTo>
                      <a:pt x="13560" y="7"/>
                      <a:pt x="13559" y="7"/>
                      <a:pt x="13559" y="5"/>
                    </a:cubicBezTo>
                    <a:cubicBezTo>
                      <a:pt x="13559" y="4"/>
                      <a:pt x="13560" y="3"/>
                      <a:pt x="13561" y="3"/>
                    </a:cubicBezTo>
                    <a:close/>
                    <a:moveTo>
                      <a:pt x="13569" y="3"/>
                    </a:moveTo>
                    <a:lnTo>
                      <a:pt x="13569" y="3"/>
                    </a:lnTo>
                    <a:cubicBezTo>
                      <a:pt x="13570" y="3"/>
                      <a:pt x="13571" y="4"/>
                      <a:pt x="13571" y="5"/>
                    </a:cubicBezTo>
                    <a:cubicBezTo>
                      <a:pt x="13571" y="7"/>
                      <a:pt x="13570" y="7"/>
                      <a:pt x="13569" y="7"/>
                    </a:cubicBezTo>
                    <a:lnTo>
                      <a:pt x="13569" y="7"/>
                    </a:lnTo>
                    <a:cubicBezTo>
                      <a:pt x="13568" y="7"/>
                      <a:pt x="13567" y="7"/>
                      <a:pt x="13567" y="5"/>
                    </a:cubicBezTo>
                    <a:cubicBezTo>
                      <a:pt x="13567" y="4"/>
                      <a:pt x="13568" y="3"/>
                      <a:pt x="13569" y="3"/>
                    </a:cubicBezTo>
                    <a:close/>
                    <a:moveTo>
                      <a:pt x="13577" y="3"/>
                    </a:moveTo>
                    <a:lnTo>
                      <a:pt x="13577" y="3"/>
                    </a:lnTo>
                    <a:cubicBezTo>
                      <a:pt x="13578" y="3"/>
                      <a:pt x="13579" y="4"/>
                      <a:pt x="13579" y="5"/>
                    </a:cubicBezTo>
                    <a:cubicBezTo>
                      <a:pt x="13579" y="7"/>
                      <a:pt x="13578" y="7"/>
                      <a:pt x="13577" y="7"/>
                    </a:cubicBezTo>
                    <a:lnTo>
                      <a:pt x="13577" y="7"/>
                    </a:lnTo>
                    <a:cubicBezTo>
                      <a:pt x="13576" y="7"/>
                      <a:pt x="13575" y="7"/>
                      <a:pt x="13575" y="5"/>
                    </a:cubicBezTo>
                    <a:cubicBezTo>
                      <a:pt x="13575" y="4"/>
                      <a:pt x="13576" y="3"/>
                      <a:pt x="13577" y="3"/>
                    </a:cubicBezTo>
                    <a:close/>
                    <a:moveTo>
                      <a:pt x="13585" y="3"/>
                    </a:moveTo>
                    <a:lnTo>
                      <a:pt x="13585" y="3"/>
                    </a:lnTo>
                    <a:cubicBezTo>
                      <a:pt x="13586" y="3"/>
                      <a:pt x="13587" y="4"/>
                      <a:pt x="13587" y="5"/>
                    </a:cubicBezTo>
                    <a:cubicBezTo>
                      <a:pt x="13587" y="7"/>
                      <a:pt x="13586" y="7"/>
                      <a:pt x="13585" y="7"/>
                    </a:cubicBezTo>
                    <a:lnTo>
                      <a:pt x="13585" y="7"/>
                    </a:lnTo>
                    <a:cubicBezTo>
                      <a:pt x="13584" y="7"/>
                      <a:pt x="13583" y="7"/>
                      <a:pt x="13583" y="5"/>
                    </a:cubicBezTo>
                    <a:cubicBezTo>
                      <a:pt x="13583" y="4"/>
                      <a:pt x="13584" y="3"/>
                      <a:pt x="13585" y="3"/>
                    </a:cubicBezTo>
                    <a:close/>
                    <a:moveTo>
                      <a:pt x="13593" y="3"/>
                    </a:moveTo>
                    <a:lnTo>
                      <a:pt x="13593" y="3"/>
                    </a:lnTo>
                    <a:cubicBezTo>
                      <a:pt x="13594" y="3"/>
                      <a:pt x="13595" y="4"/>
                      <a:pt x="13595" y="5"/>
                    </a:cubicBezTo>
                    <a:cubicBezTo>
                      <a:pt x="13595" y="7"/>
                      <a:pt x="13594" y="7"/>
                      <a:pt x="13593" y="7"/>
                    </a:cubicBezTo>
                    <a:lnTo>
                      <a:pt x="13593" y="7"/>
                    </a:lnTo>
                    <a:cubicBezTo>
                      <a:pt x="13592" y="7"/>
                      <a:pt x="13591" y="7"/>
                      <a:pt x="13591" y="5"/>
                    </a:cubicBezTo>
                    <a:cubicBezTo>
                      <a:pt x="13591" y="4"/>
                      <a:pt x="13592" y="3"/>
                      <a:pt x="13593" y="3"/>
                    </a:cubicBezTo>
                    <a:close/>
                    <a:moveTo>
                      <a:pt x="13601" y="3"/>
                    </a:moveTo>
                    <a:lnTo>
                      <a:pt x="13601" y="3"/>
                    </a:lnTo>
                    <a:cubicBezTo>
                      <a:pt x="13602" y="3"/>
                      <a:pt x="13603" y="4"/>
                      <a:pt x="13603" y="5"/>
                    </a:cubicBezTo>
                    <a:cubicBezTo>
                      <a:pt x="13603" y="7"/>
                      <a:pt x="13602" y="7"/>
                      <a:pt x="13601" y="7"/>
                    </a:cubicBezTo>
                    <a:lnTo>
                      <a:pt x="13601" y="7"/>
                    </a:lnTo>
                    <a:cubicBezTo>
                      <a:pt x="13600" y="7"/>
                      <a:pt x="13599" y="7"/>
                      <a:pt x="13599" y="5"/>
                    </a:cubicBezTo>
                    <a:cubicBezTo>
                      <a:pt x="13599" y="4"/>
                      <a:pt x="13600" y="3"/>
                      <a:pt x="13601" y="3"/>
                    </a:cubicBezTo>
                    <a:close/>
                    <a:moveTo>
                      <a:pt x="13609" y="3"/>
                    </a:moveTo>
                    <a:lnTo>
                      <a:pt x="13609" y="3"/>
                    </a:lnTo>
                    <a:cubicBezTo>
                      <a:pt x="13610" y="3"/>
                      <a:pt x="13611" y="4"/>
                      <a:pt x="13611" y="5"/>
                    </a:cubicBezTo>
                    <a:cubicBezTo>
                      <a:pt x="13611" y="7"/>
                      <a:pt x="13610" y="7"/>
                      <a:pt x="13609" y="7"/>
                    </a:cubicBezTo>
                    <a:lnTo>
                      <a:pt x="13609" y="7"/>
                    </a:lnTo>
                    <a:cubicBezTo>
                      <a:pt x="13608" y="7"/>
                      <a:pt x="13607" y="7"/>
                      <a:pt x="13607" y="5"/>
                    </a:cubicBezTo>
                    <a:cubicBezTo>
                      <a:pt x="13607" y="4"/>
                      <a:pt x="13608" y="3"/>
                      <a:pt x="13609" y="3"/>
                    </a:cubicBezTo>
                    <a:close/>
                    <a:moveTo>
                      <a:pt x="13617" y="3"/>
                    </a:moveTo>
                    <a:lnTo>
                      <a:pt x="13617" y="3"/>
                    </a:lnTo>
                    <a:cubicBezTo>
                      <a:pt x="13618" y="3"/>
                      <a:pt x="13619" y="4"/>
                      <a:pt x="13619" y="5"/>
                    </a:cubicBezTo>
                    <a:cubicBezTo>
                      <a:pt x="13619" y="7"/>
                      <a:pt x="13618" y="7"/>
                      <a:pt x="13617" y="7"/>
                    </a:cubicBezTo>
                    <a:lnTo>
                      <a:pt x="13617" y="7"/>
                    </a:lnTo>
                    <a:cubicBezTo>
                      <a:pt x="13616" y="7"/>
                      <a:pt x="13615" y="7"/>
                      <a:pt x="13615" y="5"/>
                    </a:cubicBezTo>
                    <a:cubicBezTo>
                      <a:pt x="13615" y="4"/>
                      <a:pt x="13616" y="3"/>
                      <a:pt x="13617" y="3"/>
                    </a:cubicBezTo>
                    <a:close/>
                    <a:moveTo>
                      <a:pt x="13625" y="3"/>
                    </a:moveTo>
                    <a:lnTo>
                      <a:pt x="13625" y="3"/>
                    </a:lnTo>
                    <a:cubicBezTo>
                      <a:pt x="13626" y="3"/>
                      <a:pt x="13627" y="4"/>
                      <a:pt x="13627" y="5"/>
                    </a:cubicBezTo>
                    <a:cubicBezTo>
                      <a:pt x="13627" y="7"/>
                      <a:pt x="13626" y="7"/>
                      <a:pt x="13625" y="7"/>
                    </a:cubicBezTo>
                    <a:lnTo>
                      <a:pt x="13625" y="7"/>
                    </a:lnTo>
                    <a:cubicBezTo>
                      <a:pt x="13624" y="7"/>
                      <a:pt x="13623" y="7"/>
                      <a:pt x="13623" y="5"/>
                    </a:cubicBezTo>
                    <a:cubicBezTo>
                      <a:pt x="13623" y="4"/>
                      <a:pt x="13624" y="3"/>
                      <a:pt x="13625" y="3"/>
                    </a:cubicBezTo>
                    <a:close/>
                    <a:moveTo>
                      <a:pt x="13633" y="3"/>
                    </a:moveTo>
                    <a:lnTo>
                      <a:pt x="13633" y="3"/>
                    </a:lnTo>
                    <a:cubicBezTo>
                      <a:pt x="13634" y="3"/>
                      <a:pt x="13635" y="4"/>
                      <a:pt x="13635" y="5"/>
                    </a:cubicBezTo>
                    <a:cubicBezTo>
                      <a:pt x="13635" y="7"/>
                      <a:pt x="13634" y="7"/>
                      <a:pt x="13633" y="7"/>
                    </a:cubicBezTo>
                    <a:lnTo>
                      <a:pt x="13633" y="7"/>
                    </a:lnTo>
                    <a:cubicBezTo>
                      <a:pt x="13632" y="7"/>
                      <a:pt x="13631" y="7"/>
                      <a:pt x="13631" y="5"/>
                    </a:cubicBezTo>
                    <a:cubicBezTo>
                      <a:pt x="13631" y="4"/>
                      <a:pt x="13632" y="3"/>
                      <a:pt x="13633" y="3"/>
                    </a:cubicBezTo>
                    <a:close/>
                    <a:moveTo>
                      <a:pt x="13641" y="3"/>
                    </a:moveTo>
                    <a:lnTo>
                      <a:pt x="13641" y="3"/>
                    </a:lnTo>
                    <a:cubicBezTo>
                      <a:pt x="13642" y="3"/>
                      <a:pt x="13643" y="4"/>
                      <a:pt x="13643" y="5"/>
                    </a:cubicBezTo>
                    <a:cubicBezTo>
                      <a:pt x="13643" y="7"/>
                      <a:pt x="13642" y="7"/>
                      <a:pt x="13641" y="7"/>
                    </a:cubicBezTo>
                    <a:lnTo>
                      <a:pt x="13641" y="7"/>
                    </a:lnTo>
                    <a:cubicBezTo>
                      <a:pt x="13640" y="7"/>
                      <a:pt x="13639" y="7"/>
                      <a:pt x="13639" y="5"/>
                    </a:cubicBezTo>
                    <a:cubicBezTo>
                      <a:pt x="13639" y="4"/>
                      <a:pt x="13640" y="3"/>
                      <a:pt x="13641" y="3"/>
                    </a:cubicBezTo>
                    <a:close/>
                    <a:moveTo>
                      <a:pt x="13649" y="3"/>
                    </a:moveTo>
                    <a:lnTo>
                      <a:pt x="13649" y="3"/>
                    </a:lnTo>
                    <a:cubicBezTo>
                      <a:pt x="13650" y="3"/>
                      <a:pt x="13651" y="4"/>
                      <a:pt x="13651" y="5"/>
                    </a:cubicBezTo>
                    <a:cubicBezTo>
                      <a:pt x="13651" y="7"/>
                      <a:pt x="13650" y="7"/>
                      <a:pt x="13649" y="7"/>
                    </a:cubicBezTo>
                    <a:lnTo>
                      <a:pt x="13649" y="7"/>
                    </a:lnTo>
                    <a:cubicBezTo>
                      <a:pt x="13648" y="7"/>
                      <a:pt x="13647" y="7"/>
                      <a:pt x="13647" y="5"/>
                    </a:cubicBezTo>
                    <a:cubicBezTo>
                      <a:pt x="13647" y="4"/>
                      <a:pt x="13648" y="3"/>
                      <a:pt x="13649" y="3"/>
                    </a:cubicBezTo>
                    <a:close/>
                    <a:moveTo>
                      <a:pt x="13657" y="3"/>
                    </a:moveTo>
                    <a:lnTo>
                      <a:pt x="13657" y="3"/>
                    </a:lnTo>
                    <a:cubicBezTo>
                      <a:pt x="13658" y="3"/>
                      <a:pt x="13659" y="4"/>
                      <a:pt x="13659" y="5"/>
                    </a:cubicBezTo>
                    <a:cubicBezTo>
                      <a:pt x="13659" y="7"/>
                      <a:pt x="13658" y="7"/>
                      <a:pt x="13657" y="7"/>
                    </a:cubicBezTo>
                    <a:lnTo>
                      <a:pt x="13657" y="7"/>
                    </a:lnTo>
                    <a:cubicBezTo>
                      <a:pt x="13656" y="7"/>
                      <a:pt x="13655" y="7"/>
                      <a:pt x="13655" y="5"/>
                    </a:cubicBezTo>
                    <a:cubicBezTo>
                      <a:pt x="13655" y="4"/>
                      <a:pt x="13656" y="3"/>
                      <a:pt x="13657" y="3"/>
                    </a:cubicBezTo>
                    <a:close/>
                    <a:moveTo>
                      <a:pt x="13665" y="3"/>
                    </a:moveTo>
                    <a:lnTo>
                      <a:pt x="13665" y="3"/>
                    </a:lnTo>
                    <a:cubicBezTo>
                      <a:pt x="13666" y="3"/>
                      <a:pt x="13667" y="4"/>
                      <a:pt x="13667" y="5"/>
                    </a:cubicBezTo>
                    <a:cubicBezTo>
                      <a:pt x="13667" y="7"/>
                      <a:pt x="13666" y="7"/>
                      <a:pt x="13665" y="7"/>
                    </a:cubicBezTo>
                    <a:lnTo>
                      <a:pt x="13665" y="7"/>
                    </a:lnTo>
                    <a:cubicBezTo>
                      <a:pt x="13664" y="7"/>
                      <a:pt x="13663" y="7"/>
                      <a:pt x="13663" y="5"/>
                    </a:cubicBezTo>
                    <a:cubicBezTo>
                      <a:pt x="13663" y="4"/>
                      <a:pt x="13664" y="3"/>
                      <a:pt x="13665" y="3"/>
                    </a:cubicBezTo>
                    <a:close/>
                    <a:moveTo>
                      <a:pt x="13673" y="3"/>
                    </a:moveTo>
                    <a:lnTo>
                      <a:pt x="13673" y="3"/>
                    </a:lnTo>
                    <a:cubicBezTo>
                      <a:pt x="13674" y="3"/>
                      <a:pt x="13675" y="4"/>
                      <a:pt x="13675" y="5"/>
                    </a:cubicBezTo>
                    <a:cubicBezTo>
                      <a:pt x="13675" y="7"/>
                      <a:pt x="13674" y="7"/>
                      <a:pt x="13673" y="7"/>
                    </a:cubicBezTo>
                    <a:lnTo>
                      <a:pt x="13673" y="7"/>
                    </a:lnTo>
                    <a:cubicBezTo>
                      <a:pt x="13672" y="7"/>
                      <a:pt x="13671" y="7"/>
                      <a:pt x="13671" y="5"/>
                    </a:cubicBezTo>
                    <a:cubicBezTo>
                      <a:pt x="13671" y="4"/>
                      <a:pt x="13672" y="3"/>
                      <a:pt x="13673" y="3"/>
                    </a:cubicBezTo>
                    <a:close/>
                    <a:moveTo>
                      <a:pt x="13681" y="3"/>
                    </a:moveTo>
                    <a:lnTo>
                      <a:pt x="13681" y="3"/>
                    </a:lnTo>
                    <a:cubicBezTo>
                      <a:pt x="13682" y="3"/>
                      <a:pt x="13683" y="4"/>
                      <a:pt x="13683" y="5"/>
                    </a:cubicBezTo>
                    <a:cubicBezTo>
                      <a:pt x="13683" y="7"/>
                      <a:pt x="13682" y="7"/>
                      <a:pt x="13681" y="7"/>
                    </a:cubicBezTo>
                    <a:lnTo>
                      <a:pt x="13681" y="7"/>
                    </a:lnTo>
                    <a:cubicBezTo>
                      <a:pt x="13680" y="7"/>
                      <a:pt x="13679" y="7"/>
                      <a:pt x="13679" y="5"/>
                    </a:cubicBezTo>
                    <a:cubicBezTo>
                      <a:pt x="13679" y="4"/>
                      <a:pt x="13680" y="3"/>
                      <a:pt x="13681" y="3"/>
                    </a:cubicBezTo>
                    <a:close/>
                    <a:moveTo>
                      <a:pt x="13689" y="3"/>
                    </a:moveTo>
                    <a:lnTo>
                      <a:pt x="13689" y="3"/>
                    </a:lnTo>
                    <a:cubicBezTo>
                      <a:pt x="13690" y="3"/>
                      <a:pt x="13691" y="4"/>
                      <a:pt x="13691" y="5"/>
                    </a:cubicBezTo>
                    <a:cubicBezTo>
                      <a:pt x="13691" y="7"/>
                      <a:pt x="13690" y="7"/>
                      <a:pt x="13689" y="7"/>
                    </a:cubicBezTo>
                    <a:lnTo>
                      <a:pt x="13689" y="7"/>
                    </a:lnTo>
                    <a:cubicBezTo>
                      <a:pt x="13688" y="7"/>
                      <a:pt x="13687" y="7"/>
                      <a:pt x="13687" y="5"/>
                    </a:cubicBezTo>
                    <a:cubicBezTo>
                      <a:pt x="13687" y="4"/>
                      <a:pt x="13688" y="3"/>
                      <a:pt x="13689" y="3"/>
                    </a:cubicBezTo>
                    <a:close/>
                    <a:moveTo>
                      <a:pt x="13697" y="3"/>
                    </a:moveTo>
                    <a:lnTo>
                      <a:pt x="13697" y="3"/>
                    </a:lnTo>
                    <a:cubicBezTo>
                      <a:pt x="13698" y="3"/>
                      <a:pt x="13699" y="4"/>
                      <a:pt x="13699" y="5"/>
                    </a:cubicBezTo>
                    <a:cubicBezTo>
                      <a:pt x="13699" y="7"/>
                      <a:pt x="13698" y="7"/>
                      <a:pt x="13697" y="7"/>
                    </a:cubicBezTo>
                    <a:lnTo>
                      <a:pt x="13697" y="7"/>
                    </a:lnTo>
                    <a:cubicBezTo>
                      <a:pt x="13696" y="7"/>
                      <a:pt x="13695" y="7"/>
                      <a:pt x="13695" y="5"/>
                    </a:cubicBezTo>
                    <a:cubicBezTo>
                      <a:pt x="13695" y="4"/>
                      <a:pt x="13696" y="3"/>
                      <a:pt x="13697" y="3"/>
                    </a:cubicBezTo>
                    <a:close/>
                    <a:moveTo>
                      <a:pt x="13705" y="3"/>
                    </a:moveTo>
                    <a:lnTo>
                      <a:pt x="13705" y="3"/>
                    </a:lnTo>
                    <a:cubicBezTo>
                      <a:pt x="13706" y="3"/>
                      <a:pt x="13707" y="4"/>
                      <a:pt x="13707" y="5"/>
                    </a:cubicBezTo>
                    <a:cubicBezTo>
                      <a:pt x="13707" y="7"/>
                      <a:pt x="13706" y="7"/>
                      <a:pt x="13705" y="7"/>
                    </a:cubicBezTo>
                    <a:lnTo>
                      <a:pt x="13705" y="7"/>
                    </a:lnTo>
                    <a:cubicBezTo>
                      <a:pt x="13704" y="7"/>
                      <a:pt x="13703" y="7"/>
                      <a:pt x="13703" y="5"/>
                    </a:cubicBezTo>
                    <a:cubicBezTo>
                      <a:pt x="13703" y="4"/>
                      <a:pt x="13704" y="3"/>
                      <a:pt x="13705" y="3"/>
                    </a:cubicBezTo>
                    <a:close/>
                    <a:moveTo>
                      <a:pt x="13713" y="3"/>
                    </a:moveTo>
                    <a:lnTo>
                      <a:pt x="13713" y="3"/>
                    </a:lnTo>
                    <a:cubicBezTo>
                      <a:pt x="13714" y="3"/>
                      <a:pt x="13715" y="4"/>
                      <a:pt x="13715" y="5"/>
                    </a:cubicBezTo>
                    <a:cubicBezTo>
                      <a:pt x="13715" y="7"/>
                      <a:pt x="13714" y="7"/>
                      <a:pt x="13713" y="7"/>
                    </a:cubicBezTo>
                    <a:lnTo>
                      <a:pt x="13713" y="7"/>
                    </a:lnTo>
                    <a:cubicBezTo>
                      <a:pt x="13712" y="7"/>
                      <a:pt x="13711" y="7"/>
                      <a:pt x="13711" y="5"/>
                    </a:cubicBezTo>
                    <a:cubicBezTo>
                      <a:pt x="13711" y="4"/>
                      <a:pt x="13712" y="3"/>
                      <a:pt x="13713" y="3"/>
                    </a:cubicBezTo>
                    <a:close/>
                    <a:moveTo>
                      <a:pt x="13721" y="3"/>
                    </a:moveTo>
                    <a:lnTo>
                      <a:pt x="13721" y="3"/>
                    </a:lnTo>
                    <a:cubicBezTo>
                      <a:pt x="13722" y="3"/>
                      <a:pt x="13723" y="4"/>
                      <a:pt x="13723" y="5"/>
                    </a:cubicBezTo>
                    <a:cubicBezTo>
                      <a:pt x="13723" y="7"/>
                      <a:pt x="13722" y="7"/>
                      <a:pt x="13721" y="7"/>
                    </a:cubicBezTo>
                    <a:lnTo>
                      <a:pt x="13721" y="7"/>
                    </a:lnTo>
                    <a:cubicBezTo>
                      <a:pt x="13720" y="7"/>
                      <a:pt x="13719" y="7"/>
                      <a:pt x="13719" y="5"/>
                    </a:cubicBezTo>
                    <a:cubicBezTo>
                      <a:pt x="13719" y="4"/>
                      <a:pt x="13720" y="3"/>
                      <a:pt x="13721" y="3"/>
                    </a:cubicBezTo>
                    <a:close/>
                    <a:moveTo>
                      <a:pt x="13729" y="3"/>
                    </a:moveTo>
                    <a:lnTo>
                      <a:pt x="13729" y="3"/>
                    </a:lnTo>
                    <a:cubicBezTo>
                      <a:pt x="13730" y="3"/>
                      <a:pt x="13731" y="4"/>
                      <a:pt x="13731" y="5"/>
                    </a:cubicBezTo>
                    <a:cubicBezTo>
                      <a:pt x="13731" y="7"/>
                      <a:pt x="13730" y="7"/>
                      <a:pt x="13729" y="7"/>
                    </a:cubicBezTo>
                    <a:lnTo>
                      <a:pt x="13729" y="7"/>
                    </a:lnTo>
                    <a:cubicBezTo>
                      <a:pt x="13728" y="7"/>
                      <a:pt x="13727" y="7"/>
                      <a:pt x="13727" y="5"/>
                    </a:cubicBezTo>
                    <a:cubicBezTo>
                      <a:pt x="13727" y="4"/>
                      <a:pt x="13728" y="3"/>
                      <a:pt x="13729" y="3"/>
                    </a:cubicBezTo>
                    <a:close/>
                    <a:moveTo>
                      <a:pt x="13737" y="3"/>
                    </a:moveTo>
                    <a:lnTo>
                      <a:pt x="13737" y="3"/>
                    </a:lnTo>
                    <a:cubicBezTo>
                      <a:pt x="13738" y="3"/>
                      <a:pt x="13739" y="4"/>
                      <a:pt x="13739" y="5"/>
                    </a:cubicBezTo>
                    <a:cubicBezTo>
                      <a:pt x="13739" y="7"/>
                      <a:pt x="13738" y="7"/>
                      <a:pt x="13737" y="7"/>
                    </a:cubicBezTo>
                    <a:lnTo>
                      <a:pt x="13737" y="7"/>
                    </a:lnTo>
                    <a:cubicBezTo>
                      <a:pt x="13736" y="7"/>
                      <a:pt x="13735" y="7"/>
                      <a:pt x="13735" y="5"/>
                    </a:cubicBezTo>
                    <a:cubicBezTo>
                      <a:pt x="13735" y="4"/>
                      <a:pt x="13736" y="3"/>
                      <a:pt x="13737" y="3"/>
                    </a:cubicBezTo>
                    <a:close/>
                    <a:moveTo>
                      <a:pt x="13745" y="3"/>
                    </a:moveTo>
                    <a:lnTo>
                      <a:pt x="13745" y="3"/>
                    </a:lnTo>
                    <a:cubicBezTo>
                      <a:pt x="13746" y="3"/>
                      <a:pt x="13747" y="4"/>
                      <a:pt x="13747" y="5"/>
                    </a:cubicBezTo>
                    <a:cubicBezTo>
                      <a:pt x="13747" y="7"/>
                      <a:pt x="13746" y="7"/>
                      <a:pt x="13745" y="7"/>
                    </a:cubicBezTo>
                    <a:lnTo>
                      <a:pt x="13745" y="7"/>
                    </a:lnTo>
                    <a:cubicBezTo>
                      <a:pt x="13744" y="7"/>
                      <a:pt x="13743" y="7"/>
                      <a:pt x="13743" y="5"/>
                    </a:cubicBezTo>
                    <a:cubicBezTo>
                      <a:pt x="13743" y="4"/>
                      <a:pt x="13744" y="3"/>
                      <a:pt x="13745" y="3"/>
                    </a:cubicBezTo>
                    <a:close/>
                    <a:moveTo>
                      <a:pt x="13753" y="3"/>
                    </a:moveTo>
                    <a:lnTo>
                      <a:pt x="13753" y="3"/>
                    </a:lnTo>
                    <a:cubicBezTo>
                      <a:pt x="13754" y="3"/>
                      <a:pt x="13755" y="4"/>
                      <a:pt x="13755" y="5"/>
                    </a:cubicBezTo>
                    <a:cubicBezTo>
                      <a:pt x="13755" y="7"/>
                      <a:pt x="13754" y="7"/>
                      <a:pt x="13753" y="7"/>
                    </a:cubicBezTo>
                    <a:lnTo>
                      <a:pt x="13753" y="7"/>
                    </a:lnTo>
                    <a:cubicBezTo>
                      <a:pt x="13752" y="7"/>
                      <a:pt x="13751" y="7"/>
                      <a:pt x="13751" y="5"/>
                    </a:cubicBezTo>
                    <a:cubicBezTo>
                      <a:pt x="13751" y="4"/>
                      <a:pt x="13752" y="3"/>
                      <a:pt x="13753" y="3"/>
                    </a:cubicBezTo>
                    <a:close/>
                    <a:moveTo>
                      <a:pt x="13761" y="3"/>
                    </a:moveTo>
                    <a:lnTo>
                      <a:pt x="13761" y="3"/>
                    </a:lnTo>
                    <a:cubicBezTo>
                      <a:pt x="13762" y="3"/>
                      <a:pt x="13763" y="4"/>
                      <a:pt x="13763" y="5"/>
                    </a:cubicBezTo>
                    <a:cubicBezTo>
                      <a:pt x="13763" y="7"/>
                      <a:pt x="13762" y="7"/>
                      <a:pt x="13761" y="7"/>
                    </a:cubicBezTo>
                    <a:lnTo>
                      <a:pt x="13761" y="7"/>
                    </a:lnTo>
                    <a:cubicBezTo>
                      <a:pt x="13760" y="7"/>
                      <a:pt x="13759" y="7"/>
                      <a:pt x="13759" y="5"/>
                    </a:cubicBezTo>
                    <a:cubicBezTo>
                      <a:pt x="13759" y="4"/>
                      <a:pt x="13760" y="3"/>
                      <a:pt x="13761" y="3"/>
                    </a:cubicBezTo>
                    <a:close/>
                    <a:moveTo>
                      <a:pt x="13769" y="3"/>
                    </a:moveTo>
                    <a:lnTo>
                      <a:pt x="13769" y="3"/>
                    </a:lnTo>
                    <a:cubicBezTo>
                      <a:pt x="13770" y="3"/>
                      <a:pt x="13771" y="4"/>
                      <a:pt x="13771" y="5"/>
                    </a:cubicBezTo>
                    <a:cubicBezTo>
                      <a:pt x="13771" y="7"/>
                      <a:pt x="13770" y="7"/>
                      <a:pt x="13769" y="7"/>
                    </a:cubicBezTo>
                    <a:lnTo>
                      <a:pt x="13769" y="7"/>
                    </a:lnTo>
                    <a:cubicBezTo>
                      <a:pt x="13768" y="7"/>
                      <a:pt x="13767" y="7"/>
                      <a:pt x="13767" y="5"/>
                    </a:cubicBezTo>
                    <a:cubicBezTo>
                      <a:pt x="13767" y="4"/>
                      <a:pt x="13768" y="3"/>
                      <a:pt x="13769" y="3"/>
                    </a:cubicBezTo>
                    <a:close/>
                    <a:moveTo>
                      <a:pt x="13777" y="3"/>
                    </a:moveTo>
                    <a:lnTo>
                      <a:pt x="13777" y="3"/>
                    </a:lnTo>
                    <a:cubicBezTo>
                      <a:pt x="13778" y="3"/>
                      <a:pt x="13779" y="4"/>
                      <a:pt x="13779" y="5"/>
                    </a:cubicBezTo>
                    <a:cubicBezTo>
                      <a:pt x="13779" y="7"/>
                      <a:pt x="13778" y="7"/>
                      <a:pt x="13777" y="7"/>
                    </a:cubicBezTo>
                    <a:lnTo>
                      <a:pt x="13777" y="7"/>
                    </a:lnTo>
                    <a:cubicBezTo>
                      <a:pt x="13776" y="7"/>
                      <a:pt x="13775" y="7"/>
                      <a:pt x="13775" y="5"/>
                    </a:cubicBezTo>
                    <a:cubicBezTo>
                      <a:pt x="13775" y="4"/>
                      <a:pt x="13776" y="3"/>
                      <a:pt x="13777" y="3"/>
                    </a:cubicBezTo>
                    <a:close/>
                    <a:moveTo>
                      <a:pt x="13785" y="3"/>
                    </a:moveTo>
                    <a:lnTo>
                      <a:pt x="13785" y="3"/>
                    </a:lnTo>
                    <a:cubicBezTo>
                      <a:pt x="13786" y="3"/>
                      <a:pt x="13787" y="4"/>
                      <a:pt x="13787" y="5"/>
                    </a:cubicBezTo>
                    <a:cubicBezTo>
                      <a:pt x="13787" y="7"/>
                      <a:pt x="13786" y="7"/>
                      <a:pt x="13785" y="7"/>
                    </a:cubicBezTo>
                    <a:lnTo>
                      <a:pt x="13785" y="7"/>
                    </a:lnTo>
                    <a:cubicBezTo>
                      <a:pt x="13784" y="7"/>
                      <a:pt x="13783" y="7"/>
                      <a:pt x="13783" y="5"/>
                    </a:cubicBezTo>
                    <a:cubicBezTo>
                      <a:pt x="13783" y="4"/>
                      <a:pt x="13784" y="3"/>
                      <a:pt x="13785" y="3"/>
                    </a:cubicBezTo>
                    <a:close/>
                    <a:moveTo>
                      <a:pt x="13793" y="3"/>
                    </a:moveTo>
                    <a:lnTo>
                      <a:pt x="13793" y="3"/>
                    </a:lnTo>
                    <a:cubicBezTo>
                      <a:pt x="13794" y="3"/>
                      <a:pt x="13795" y="4"/>
                      <a:pt x="13795" y="5"/>
                    </a:cubicBezTo>
                    <a:cubicBezTo>
                      <a:pt x="13795" y="7"/>
                      <a:pt x="13794" y="7"/>
                      <a:pt x="13793" y="7"/>
                    </a:cubicBezTo>
                    <a:lnTo>
                      <a:pt x="13793" y="7"/>
                    </a:lnTo>
                    <a:cubicBezTo>
                      <a:pt x="13792" y="7"/>
                      <a:pt x="13791" y="7"/>
                      <a:pt x="13791" y="5"/>
                    </a:cubicBezTo>
                    <a:cubicBezTo>
                      <a:pt x="13791" y="4"/>
                      <a:pt x="13792" y="3"/>
                      <a:pt x="13793" y="3"/>
                    </a:cubicBezTo>
                    <a:close/>
                    <a:moveTo>
                      <a:pt x="13801" y="3"/>
                    </a:moveTo>
                    <a:lnTo>
                      <a:pt x="13801" y="3"/>
                    </a:lnTo>
                    <a:cubicBezTo>
                      <a:pt x="13802" y="3"/>
                      <a:pt x="13803" y="4"/>
                      <a:pt x="13803" y="5"/>
                    </a:cubicBezTo>
                    <a:cubicBezTo>
                      <a:pt x="13803" y="7"/>
                      <a:pt x="13802" y="7"/>
                      <a:pt x="13801" y="7"/>
                    </a:cubicBezTo>
                    <a:lnTo>
                      <a:pt x="13801" y="7"/>
                    </a:lnTo>
                    <a:cubicBezTo>
                      <a:pt x="13800" y="7"/>
                      <a:pt x="13799" y="7"/>
                      <a:pt x="13799" y="5"/>
                    </a:cubicBezTo>
                    <a:cubicBezTo>
                      <a:pt x="13799" y="4"/>
                      <a:pt x="13800" y="3"/>
                      <a:pt x="13801" y="3"/>
                    </a:cubicBezTo>
                    <a:close/>
                    <a:moveTo>
                      <a:pt x="13809" y="3"/>
                    </a:moveTo>
                    <a:lnTo>
                      <a:pt x="13809" y="3"/>
                    </a:lnTo>
                    <a:cubicBezTo>
                      <a:pt x="13810" y="3"/>
                      <a:pt x="13811" y="4"/>
                      <a:pt x="13811" y="5"/>
                    </a:cubicBezTo>
                    <a:cubicBezTo>
                      <a:pt x="13811" y="7"/>
                      <a:pt x="13810" y="7"/>
                      <a:pt x="13809" y="7"/>
                    </a:cubicBezTo>
                    <a:lnTo>
                      <a:pt x="13809" y="7"/>
                    </a:lnTo>
                    <a:cubicBezTo>
                      <a:pt x="13808" y="7"/>
                      <a:pt x="13807" y="7"/>
                      <a:pt x="13807" y="5"/>
                    </a:cubicBezTo>
                    <a:cubicBezTo>
                      <a:pt x="13807" y="4"/>
                      <a:pt x="13808" y="3"/>
                      <a:pt x="13809" y="3"/>
                    </a:cubicBezTo>
                    <a:close/>
                    <a:moveTo>
                      <a:pt x="13817" y="3"/>
                    </a:moveTo>
                    <a:lnTo>
                      <a:pt x="13817" y="3"/>
                    </a:lnTo>
                    <a:cubicBezTo>
                      <a:pt x="13818" y="3"/>
                      <a:pt x="13819" y="4"/>
                      <a:pt x="13819" y="5"/>
                    </a:cubicBezTo>
                    <a:cubicBezTo>
                      <a:pt x="13819" y="7"/>
                      <a:pt x="13818" y="7"/>
                      <a:pt x="13817" y="7"/>
                    </a:cubicBezTo>
                    <a:lnTo>
                      <a:pt x="13817" y="7"/>
                    </a:lnTo>
                    <a:cubicBezTo>
                      <a:pt x="13816" y="7"/>
                      <a:pt x="13815" y="7"/>
                      <a:pt x="13815" y="5"/>
                    </a:cubicBezTo>
                    <a:cubicBezTo>
                      <a:pt x="13815" y="4"/>
                      <a:pt x="13816" y="3"/>
                      <a:pt x="13817" y="3"/>
                    </a:cubicBezTo>
                    <a:close/>
                    <a:moveTo>
                      <a:pt x="13825" y="3"/>
                    </a:moveTo>
                    <a:lnTo>
                      <a:pt x="13825" y="3"/>
                    </a:lnTo>
                    <a:cubicBezTo>
                      <a:pt x="13826" y="3"/>
                      <a:pt x="13827" y="4"/>
                      <a:pt x="13827" y="5"/>
                    </a:cubicBezTo>
                    <a:cubicBezTo>
                      <a:pt x="13827" y="7"/>
                      <a:pt x="13826" y="7"/>
                      <a:pt x="13825" y="7"/>
                    </a:cubicBezTo>
                    <a:lnTo>
                      <a:pt x="13825" y="7"/>
                    </a:lnTo>
                    <a:cubicBezTo>
                      <a:pt x="13824" y="7"/>
                      <a:pt x="13823" y="7"/>
                      <a:pt x="13823" y="5"/>
                    </a:cubicBezTo>
                    <a:cubicBezTo>
                      <a:pt x="13823" y="4"/>
                      <a:pt x="13824" y="3"/>
                      <a:pt x="13825" y="3"/>
                    </a:cubicBezTo>
                    <a:close/>
                    <a:moveTo>
                      <a:pt x="13833" y="3"/>
                    </a:moveTo>
                    <a:lnTo>
                      <a:pt x="13833" y="3"/>
                    </a:lnTo>
                    <a:cubicBezTo>
                      <a:pt x="13834" y="3"/>
                      <a:pt x="13835" y="4"/>
                      <a:pt x="13835" y="5"/>
                    </a:cubicBezTo>
                    <a:cubicBezTo>
                      <a:pt x="13835" y="7"/>
                      <a:pt x="13834" y="7"/>
                      <a:pt x="13833" y="7"/>
                    </a:cubicBezTo>
                    <a:lnTo>
                      <a:pt x="13833" y="7"/>
                    </a:lnTo>
                    <a:cubicBezTo>
                      <a:pt x="13832" y="7"/>
                      <a:pt x="13831" y="7"/>
                      <a:pt x="13831" y="5"/>
                    </a:cubicBezTo>
                    <a:cubicBezTo>
                      <a:pt x="13831" y="4"/>
                      <a:pt x="13832" y="3"/>
                      <a:pt x="13833" y="3"/>
                    </a:cubicBezTo>
                    <a:close/>
                    <a:moveTo>
                      <a:pt x="13841" y="3"/>
                    </a:moveTo>
                    <a:lnTo>
                      <a:pt x="13841" y="3"/>
                    </a:lnTo>
                    <a:cubicBezTo>
                      <a:pt x="13842" y="3"/>
                      <a:pt x="13843" y="4"/>
                      <a:pt x="13843" y="5"/>
                    </a:cubicBezTo>
                    <a:cubicBezTo>
                      <a:pt x="13843" y="7"/>
                      <a:pt x="13842" y="7"/>
                      <a:pt x="13841" y="7"/>
                    </a:cubicBezTo>
                    <a:lnTo>
                      <a:pt x="13841" y="7"/>
                    </a:lnTo>
                    <a:cubicBezTo>
                      <a:pt x="13840" y="7"/>
                      <a:pt x="13839" y="7"/>
                      <a:pt x="13839" y="5"/>
                    </a:cubicBezTo>
                    <a:cubicBezTo>
                      <a:pt x="13839" y="4"/>
                      <a:pt x="13840" y="3"/>
                      <a:pt x="13841" y="3"/>
                    </a:cubicBezTo>
                    <a:close/>
                    <a:moveTo>
                      <a:pt x="13849" y="3"/>
                    </a:moveTo>
                    <a:lnTo>
                      <a:pt x="13849" y="3"/>
                    </a:lnTo>
                    <a:cubicBezTo>
                      <a:pt x="13850" y="3"/>
                      <a:pt x="13851" y="4"/>
                      <a:pt x="13851" y="5"/>
                    </a:cubicBezTo>
                    <a:cubicBezTo>
                      <a:pt x="13851" y="7"/>
                      <a:pt x="13850" y="7"/>
                      <a:pt x="13849" y="7"/>
                    </a:cubicBezTo>
                    <a:lnTo>
                      <a:pt x="13849" y="7"/>
                    </a:lnTo>
                    <a:cubicBezTo>
                      <a:pt x="13848" y="7"/>
                      <a:pt x="13847" y="7"/>
                      <a:pt x="13847" y="5"/>
                    </a:cubicBezTo>
                    <a:cubicBezTo>
                      <a:pt x="13847" y="4"/>
                      <a:pt x="13848" y="3"/>
                      <a:pt x="13849" y="3"/>
                    </a:cubicBezTo>
                    <a:close/>
                    <a:moveTo>
                      <a:pt x="13857" y="3"/>
                    </a:moveTo>
                    <a:lnTo>
                      <a:pt x="13857" y="3"/>
                    </a:lnTo>
                    <a:cubicBezTo>
                      <a:pt x="13858" y="3"/>
                      <a:pt x="13859" y="4"/>
                      <a:pt x="13859" y="5"/>
                    </a:cubicBezTo>
                    <a:cubicBezTo>
                      <a:pt x="13859" y="7"/>
                      <a:pt x="13858" y="7"/>
                      <a:pt x="13857" y="7"/>
                    </a:cubicBezTo>
                    <a:lnTo>
                      <a:pt x="13857" y="7"/>
                    </a:lnTo>
                    <a:cubicBezTo>
                      <a:pt x="13856" y="7"/>
                      <a:pt x="13855" y="7"/>
                      <a:pt x="13855" y="5"/>
                    </a:cubicBezTo>
                    <a:cubicBezTo>
                      <a:pt x="13855" y="4"/>
                      <a:pt x="13856" y="3"/>
                      <a:pt x="13857" y="3"/>
                    </a:cubicBezTo>
                    <a:close/>
                    <a:moveTo>
                      <a:pt x="13865" y="3"/>
                    </a:moveTo>
                    <a:lnTo>
                      <a:pt x="13865" y="3"/>
                    </a:lnTo>
                    <a:cubicBezTo>
                      <a:pt x="13866" y="3"/>
                      <a:pt x="13867" y="4"/>
                      <a:pt x="13867" y="5"/>
                    </a:cubicBezTo>
                    <a:cubicBezTo>
                      <a:pt x="13867" y="7"/>
                      <a:pt x="13866" y="7"/>
                      <a:pt x="13865" y="7"/>
                    </a:cubicBezTo>
                    <a:lnTo>
                      <a:pt x="13865" y="7"/>
                    </a:lnTo>
                    <a:cubicBezTo>
                      <a:pt x="13864" y="7"/>
                      <a:pt x="13863" y="7"/>
                      <a:pt x="13863" y="5"/>
                    </a:cubicBezTo>
                    <a:cubicBezTo>
                      <a:pt x="13863" y="4"/>
                      <a:pt x="13864" y="3"/>
                      <a:pt x="13865" y="3"/>
                    </a:cubicBezTo>
                    <a:close/>
                    <a:moveTo>
                      <a:pt x="13873" y="4"/>
                    </a:moveTo>
                    <a:lnTo>
                      <a:pt x="13873" y="4"/>
                    </a:lnTo>
                    <a:cubicBezTo>
                      <a:pt x="13874" y="4"/>
                      <a:pt x="13875" y="4"/>
                      <a:pt x="13875" y="6"/>
                    </a:cubicBezTo>
                    <a:cubicBezTo>
                      <a:pt x="13875" y="7"/>
                      <a:pt x="13874" y="8"/>
                      <a:pt x="13873" y="8"/>
                    </a:cubicBezTo>
                    <a:lnTo>
                      <a:pt x="13873" y="8"/>
                    </a:lnTo>
                    <a:cubicBezTo>
                      <a:pt x="13872" y="8"/>
                      <a:pt x="13871" y="7"/>
                      <a:pt x="13871" y="6"/>
                    </a:cubicBezTo>
                    <a:cubicBezTo>
                      <a:pt x="13871" y="4"/>
                      <a:pt x="13872" y="4"/>
                      <a:pt x="13873" y="4"/>
                    </a:cubicBezTo>
                    <a:close/>
                    <a:moveTo>
                      <a:pt x="13881" y="4"/>
                    </a:moveTo>
                    <a:lnTo>
                      <a:pt x="13881" y="4"/>
                    </a:lnTo>
                    <a:cubicBezTo>
                      <a:pt x="13882" y="4"/>
                      <a:pt x="13883" y="4"/>
                      <a:pt x="13883" y="6"/>
                    </a:cubicBezTo>
                    <a:cubicBezTo>
                      <a:pt x="13883" y="7"/>
                      <a:pt x="13882" y="8"/>
                      <a:pt x="13881" y="8"/>
                    </a:cubicBezTo>
                    <a:lnTo>
                      <a:pt x="13881" y="8"/>
                    </a:lnTo>
                    <a:cubicBezTo>
                      <a:pt x="13880" y="8"/>
                      <a:pt x="13879" y="7"/>
                      <a:pt x="13879" y="6"/>
                    </a:cubicBezTo>
                    <a:cubicBezTo>
                      <a:pt x="13879" y="4"/>
                      <a:pt x="13880" y="4"/>
                      <a:pt x="13881" y="4"/>
                    </a:cubicBezTo>
                    <a:close/>
                    <a:moveTo>
                      <a:pt x="13889" y="4"/>
                    </a:moveTo>
                    <a:lnTo>
                      <a:pt x="13889" y="4"/>
                    </a:lnTo>
                    <a:cubicBezTo>
                      <a:pt x="13890" y="4"/>
                      <a:pt x="13891" y="4"/>
                      <a:pt x="13891" y="6"/>
                    </a:cubicBezTo>
                    <a:cubicBezTo>
                      <a:pt x="13891" y="7"/>
                      <a:pt x="13890" y="8"/>
                      <a:pt x="13889" y="8"/>
                    </a:cubicBezTo>
                    <a:lnTo>
                      <a:pt x="13889" y="8"/>
                    </a:lnTo>
                    <a:cubicBezTo>
                      <a:pt x="13888" y="8"/>
                      <a:pt x="13887" y="7"/>
                      <a:pt x="13887" y="6"/>
                    </a:cubicBezTo>
                    <a:cubicBezTo>
                      <a:pt x="13887" y="4"/>
                      <a:pt x="13888" y="4"/>
                      <a:pt x="13889" y="4"/>
                    </a:cubicBezTo>
                    <a:close/>
                    <a:moveTo>
                      <a:pt x="13897" y="4"/>
                    </a:moveTo>
                    <a:lnTo>
                      <a:pt x="13897" y="4"/>
                    </a:lnTo>
                    <a:cubicBezTo>
                      <a:pt x="13898" y="4"/>
                      <a:pt x="13899" y="4"/>
                      <a:pt x="13899" y="6"/>
                    </a:cubicBezTo>
                    <a:cubicBezTo>
                      <a:pt x="13899" y="7"/>
                      <a:pt x="13898" y="8"/>
                      <a:pt x="13897" y="8"/>
                    </a:cubicBezTo>
                    <a:lnTo>
                      <a:pt x="13897" y="8"/>
                    </a:lnTo>
                    <a:cubicBezTo>
                      <a:pt x="13896" y="8"/>
                      <a:pt x="13895" y="7"/>
                      <a:pt x="13895" y="6"/>
                    </a:cubicBezTo>
                    <a:cubicBezTo>
                      <a:pt x="13895" y="4"/>
                      <a:pt x="13896" y="4"/>
                      <a:pt x="13897" y="4"/>
                    </a:cubicBezTo>
                    <a:close/>
                    <a:moveTo>
                      <a:pt x="13905" y="4"/>
                    </a:moveTo>
                    <a:lnTo>
                      <a:pt x="13905" y="4"/>
                    </a:lnTo>
                    <a:cubicBezTo>
                      <a:pt x="13906" y="4"/>
                      <a:pt x="13907" y="4"/>
                      <a:pt x="13907" y="6"/>
                    </a:cubicBezTo>
                    <a:cubicBezTo>
                      <a:pt x="13907" y="7"/>
                      <a:pt x="13906" y="8"/>
                      <a:pt x="13905" y="8"/>
                    </a:cubicBezTo>
                    <a:lnTo>
                      <a:pt x="13905" y="8"/>
                    </a:lnTo>
                    <a:cubicBezTo>
                      <a:pt x="13904" y="8"/>
                      <a:pt x="13903" y="7"/>
                      <a:pt x="13903" y="6"/>
                    </a:cubicBezTo>
                    <a:cubicBezTo>
                      <a:pt x="13903" y="4"/>
                      <a:pt x="13904" y="4"/>
                      <a:pt x="13905" y="4"/>
                    </a:cubicBezTo>
                    <a:close/>
                    <a:moveTo>
                      <a:pt x="13913" y="4"/>
                    </a:moveTo>
                    <a:lnTo>
                      <a:pt x="13913" y="4"/>
                    </a:lnTo>
                    <a:cubicBezTo>
                      <a:pt x="13914" y="4"/>
                      <a:pt x="13915" y="4"/>
                      <a:pt x="13915" y="6"/>
                    </a:cubicBezTo>
                    <a:cubicBezTo>
                      <a:pt x="13915" y="7"/>
                      <a:pt x="13914" y="8"/>
                      <a:pt x="13913" y="8"/>
                    </a:cubicBezTo>
                    <a:lnTo>
                      <a:pt x="13913" y="8"/>
                    </a:lnTo>
                    <a:cubicBezTo>
                      <a:pt x="13912" y="8"/>
                      <a:pt x="13911" y="7"/>
                      <a:pt x="13911" y="6"/>
                    </a:cubicBezTo>
                    <a:cubicBezTo>
                      <a:pt x="13911" y="4"/>
                      <a:pt x="13912" y="4"/>
                      <a:pt x="13913" y="4"/>
                    </a:cubicBezTo>
                    <a:close/>
                    <a:moveTo>
                      <a:pt x="13921" y="4"/>
                    </a:moveTo>
                    <a:lnTo>
                      <a:pt x="13921" y="4"/>
                    </a:lnTo>
                    <a:cubicBezTo>
                      <a:pt x="13922" y="4"/>
                      <a:pt x="13923" y="4"/>
                      <a:pt x="13923" y="6"/>
                    </a:cubicBezTo>
                    <a:cubicBezTo>
                      <a:pt x="13923" y="7"/>
                      <a:pt x="13922" y="8"/>
                      <a:pt x="13921" y="8"/>
                    </a:cubicBezTo>
                    <a:lnTo>
                      <a:pt x="13921" y="8"/>
                    </a:lnTo>
                    <a:cubicBezTo>
                      <a:pt x="13920" y="8"/>
                      <a:pt x="13919" y="7"/>
                      <a:pt x="13919" y="6"/>
                    </a:cubicBezTo>
                    <a:cubicBezTo>
                      <a:pt x="13919" y="4"/>
                      <a:pt x="13920" y="4"/>
                      <a:pt x="13921" y="4"/>
                    </a:cubicBezTo>
                    <a:close/>
                    <a:moveTo>
                      <a:pt x="13929" y="4"/>
                    </a:moveTo>
                    <a:lnTo>
                      <a:pt x="13929" y="4"/>
                    </a:lnTo>
                    <a:cubicBezTo>
                      <a:pt x="13930" y="4"/>
                      <a:pt x="13931" y="4"/>
                      <a:pt x="13931" y="6"/>
                    </a:cubicBezTo>
                    <a:cubicBezTo>
                      <a:pt x="13931" y="7"/>
                      <a:pt x="13930" y="8"/>
                      <a:pt x="13929" y="8"/>
                    </a:cubicBezTo>
                    <a:lnTo>
                      <a:pt x="13929" y="8"/>
                    </a:lnTo>
                    <a:cubicBezTo>
                      <a:pt x="13928" y="8"/>
                      <a:pt x="13927" y="7"/>
                      <a:pt x="13927" y="6"/>
                    </a:cubicBezTo>
                    <a:cubicBezTo>
                      <a:pt x="13927" y="4"/>
                      <a:pt x="13928" y="4"/>
                      <a:pt x="13929" y="4"/>
                    </a:cubicBezTo>
                    <a:close/>
                    <a:moveTo>
                      <a:pt x="13937" y="4"/>
                    </a:moveTo>
                    <a:lnTo>
                      <a:pt x="13937" y="4"/>
                    </a:lnTo>
                    <a:cubicBezTo>
                      <a:pt x="13938" y="4"/>
                      <a:pt x="13939" y="4"/>
                      <a:pt x="13939" y="6"/>
                    </a:cubicBezTo>
                    <a:cubicBezTo>
                      <a:pt x="13939" y="7"/>
                      <a:pt x="13938" y="8"/>
                      <a:pt x="13937" y="8"/>
                    </a:cubicBezTo>
                    <a:lnTo>
                      <a:pt x="13937" y="8"/>
                    </a:lnTo>
                    <a:cubicBezTo>
                      <a:pt x="13936" y="8"/>
                      <a:pt x="13935" y="7"/>
                      <a:pt x="13935" y="6"/>
                    </a:cubicBezTo>
                    <a:cubicBezTo>
                      <a:pt x="13935" y="4"/>
                      <a:pt x="13936" y="4"/>
                      <a:pt x="13937" y="4"/>
                    </a:cubicBezTo>
                    <a:close/>
                    <a:moveTo>
                      <a:pt x="13945" y="4"/>
                    </a:moveTo>
                    <a:lnTo>
                      <a:pt x="13945" y="4"/>
                    </a:lnTo>
                    <a:cubicBezTo>
                      <a:pt x="13946" y="4"/>
                      <a:pt x="13947" y="4"/>
                      <a:pt x="13947" y="6"/>
                    </a:cubicBezTo>
                    <a:cubicBezTo>
                      <a:pt x="13947" y="7"/>
                      <a:pt x="13946" y="8"/>
                      <a:pt x="13945" y="8"/>
                    </a:cubicBezTo>
                    <a:lnTo>
                      <a:pt x="13945" y="8"/>
                    </a:lnTo>
                    <a:cubicBezTo>
                      <a:pt x="13944" y="8"/>
                      <a:pt x="13943" y="7"/>
                      <a:pt x="13943" y="6"/>
                    </a:cubicBezTo>
                    <a:cubicBezTo>
                      <a:pt x="13943" y="4"/>
                      <a:pt x="13944" y="4"/>
                      <a:pt x="13945" y="4"/>
                    </a:cubicBezTo>
                    <a:close/>
                    <a:moveTo>
                      <a:pt x="13953" y="4"/>
                    </a:moveTo>
                    <a:lnTo>
                      <a:pt x="13953" y="4"/>
                    </a:lnTo>
                    <a:cubicBezTo>
                      <a:pt x="13954" y="4"/>
                      <a:pt x="13955" y="4"/>
                      <a:pt x="13955" y="6"/>
                    </a:cubicBezTo>
                    <a:cubicBezTo>
                      <a:pt x="13955" y="7"/>
                      <a:pt x="13954" y="8"/>
                      <a:pt x="13953" y="8"/>
                    </a:cubicBezTo>
                    <a:lnTo>
                      <a:pt x="13953" y="8"/>
                    </a:lnTo>
                    <a:cubicBezTo>
                      <a:pt x="13952" y="8"/>
                      <a:pt x="13951" y="7"/>
                      <a:pt x="13951" y="6"/>
                    </a:cubicBezTo>
                    <a:cubicBezTo>
                      <a:pt x="13951" y="4"/>
                      <a:pt x="13952" y="4"/>
                      <a:pt x="13953" y="4"/>
                    </a:cubicBezTo>
                    <a:close/>
                    <a:moveTo>
                      <a:pt x="13961" y="4"/>
                    </a:moveTo>
                    <a:lnTo>
                      <a:pt x="13961" y="4"/>
                    </a:lnTo>
                    <a:cubicBezTo>
                      <a:pt x="13962" y="4"/>
                      <a:pt x="13963" y="4"/>
                      <a:pt x="13963" y="6"/>
                    </a:cubicBezTo>
                    <a:cubicBezTo>
                      <a:pt x="13963" y="7"/>
                      <a:pt x="13962" y="8"/>
                      <a:pt x="13961" y="8"/>
                    </a:cubicBezTo>
                    <a:lnTo>
                      <a:pt x="13961" y="8"/>
                    </a:lnTo>
                    <a:cubicBezTo>
                      <a:pt x="13960" y="8"/>
                      <a:pt x="13959" y="7"/>
                      <a:pt x="13959" y="6"/>
                    </a:cubicBezTo>
                    <a:cubicBezTo>
                      <a:pt x="13959" y="4"/>
                      <a:pt x="13960" y="4"/>
                      <a:pt x="13961" y="4"/>
                    </a:cubicBezTo>
                    <a:close/>
                    <a:moveTo>
                      <a:pt x="13969" y="4"/>
                    </a:moveTo>
                    <a:lnTo>
                      <a:pt x="13969" y="4"/>
                    </a:lnTo>
                    <a:cubicBezTo>
                      <a:pt x="13970" y="4"/>
                      <a:pt x="13971" y="4"/>
                      <a:pt x="13971" y="6"/>
                    </a:cubicBezTo>
                    <a:cubicBezTo>
                      <a:pt x="13971" y="7"/>
                      <a:pt x="13970" y="8"/>
                      <a:pt x="13969" y="8"/>
                    </a:cubicBezTo>
                    <a:lnTo>
                      <a:pt x="13969" y="8"/>
                    </a:lnTo>
                    <a:cubicBezTo>
                      <a:pt x="13968" y="8"/>
                      <a:pt x="13967" y="7"/>
                      <a:pt x="13967" y="6"/>
                    </a:cubicBezTo>
                    <a:cubicBezTo>
                      <a:pt x="13967" y="4"/>
                      <a:pt x="13968" y="4"/>
                      <a:pt x="13969" y="4"/>
                    </a:cubicBezTo>
                    <a:close/>
                    <a:moveTo>
                      <a:pt x="13977" y="4"/>
                    </a:moveTo>
                    <a:lnTo>
                      <a:pt x="13977" y="4"/>
                    </a:lnTo>
                    <a:cubicBezTo>
                      <a:pt x="13978" y="4"/>
                      <a:pt x="13979" y="4"/>
                      <a:pt x="13979" y="6"/>
                    </a:cubicBezTo>
                    <a:cubicBezTo>
                      <a:pt x="13979" y="7"/>
                      <a:pt x="13978" y="8"/>
                      <a:pt x="13977" y="8"/>
                    </a:cubicBezTo>
                    <a:lnTo>
                      <a:pt x="13977" y="8"/>
                    </a:lnTo>
                    <a:cubicBezTo>
                      <a:pt x="13976" y="8"/>
                      <a:pt x="13975" y="7"/>
                      <a:pt x="13975" y="6"/>
                    </a:cubicBezTo>
                    <a:cubicBezTo>
                      <a:pt x="13975" y="4"/>
                      <a:pt x="13976" y="4"/>
                      <a:pt x="13977" y="4"/>
                    </a:cubicBezTo>
                    <a:close/>
                    <a:moveTo>
                      <a:pt x="13985" y="4"/>
                    </a:moveTo>
                    <a:lnTo>
                      <a:pt x="13985" y="4"/>
                    </a:lnTo>
                    <a:cubicBezTo>
                      <a:pt x="13986" y="4"/>
                      <a:pt x="13987" y="4"/>
                      <a:pt x="13987" y="6"/>
                    </a:cubicBezTo>
                    <a:cubicBezTo>
                      <a:pt x="13987" y="7"/>
                      <a:pt x="13986" y="8"/>
                      <a:pt x="13985" y="8"/>
                    </a:cubicBezTo>
                    <a:lnTo>
                      <a:pt x="13985" y="8"/>
                    </a:lnTo>
                    <a:cubicBezTo>
                      <a:pt x="13984" y="8"/>
                      <a:pt x="13983" y="7"/>
                      <a:pt x="13983" y="6"/>
                    </a:cubicBezTo>
                    <a:cubicBezTo>
                      <a:pt x="13983" y="4"/>
                      <a:pt x="13984" y="4"/>
                      <a:pt x="13985" y="4"/>
                    </a:cubicBezTo>
                    <a:close/>
                    <a:moveTo>
                      <a:pt x="13993" y="4"/>
                    </a:moveTo>
                    <a:lnTo>
                      <a:pt x="13993" y="4"/>
                    </a:lnTo>
                    <a:cubicBezTo>
                      <a:pt x="13994" y="4"/>
                      <a:pt x="13995" y="4"/>
                      <a:pt x="13995" y="6"/>
                    </a:cubicBezTo>
                    <a:cubicBezTo>
                      <a:pt x="13995" y="7"/>
                      <a:pt x="13994" y="8"/>
                      <a:pt x="13993" y="8"/>
                    </a:cubicBezTo>
                    <a:lnTo>
                      <a:pt x="13993" y="8"/>
                    </a:lnTo>
                    <a:cubicBezTo>
                      <a:pt x="13992" y="8"/>
                      <a:pt x="13991" y="7"/>
                      <a:pt x="13991" y="6"/>
                    </a:cubicBezTo>
                    <a:cubicBezTo>
                      <a:pt x="13991" y="4"/>
                      <a:pt x="13992" y="4"/>
                      <a:pt x="13993" y="4"/>
                    </a:cubicBezTo>
                    <a:close/>
                    <a:moveTo>
                      <a:pt x="14001" y="4"/>
                    </a:moveTo>
                    <a:lnTo>
                      <a:pt x="14001" y="4"/>
                    </a:lnTo>
                    <a:cubicBezTo>
                      <a:pt x="14002" y="4"/>
                      <a:pt x="14003" y="4"/>
                      <a:pt x="14003" y="6"/>
                    </a:cubicBezTo>
                    <a:cubicBezTo>
                      <a:pt x="14003" y="7"/>
                      <a:pt x="14002" y="8"/>
                      <a:pt x="14001" y="8"/>
                    </a:cubicBezTo>
                    <a:lnTo>
                      <a:pt x="14001" y="8"/>
                    </a:lnTo>
                    <a:cubicBezTo>
                      <a:pt x="14000" y="8"/>
                      <a:pt x="13999" y="7"/>
                      <a:pt x="13999" y="6"/>
                    </a:cubicBezTo>
                    <a:cubicBezTo>
                      <a:pt x="13999" y="4"/>
                      <a:pt x="14000" y="4"/>
                      <a:pt x="14001" y="4"/>
                    </a:cubicBezTo>
                    <a:close/>
                    <a:moveTo>
                      <a:pt x="14009" y="4"/>
                    </a:moveTo>
                    <a:lnTo>
                      <a:pt x="14009" y="4"/>
                    </a:lnTo>
                    <a:cubicBezTo>
                      <a:pt x="14010" y="4"/>
                      <a:pt x="14011" y="4"/>
                      <a:pt x="14011" y="6"/>
                    </a:cubicBezTo>
                    <a:cubicBezTo>
                      <a:pt x="14011" y="7"/>
                      <a:pt x="14010" y="8"/>
                      <a:pt x="14009" y="8"/>
                    </a:cubicBezTo>
                    <a:lnTo>
                      <a:pt x="14009" y="8"/>
                    </a:lnTo>
                    <a:cubicBezTo>
                      <a:pt x="14008" y="8"/>
                      <a:pt x="14007" y="7"/>
                      <a:pt x="14007" y="6"/>
                    </a:cubicBezTo>
                    <a:cubicBezTo>
                      <a:pt x="14007" y="4"/>
                      <a:pt x="14008" y="4"/>
                      <a:pt x="14009" y="4"/>
                    </a:cubicBezTo>
                    <a:close/>
                    <a:moveTo>
                      <a:pt x="14017" y="4"/>
                    </a:moveTo>
                    <a:lnTo>
                      <a:pt x="14017" y="4"/>
                    </a:lnTo>
                    <a:cubicBezTo>
                      <a:pt x="14018" y="4"/>
                      <a:pt x="14019" y="4"/>
                      <a:pt x="14019" y="6"/>
                    </a:cubicBezTo>
                    <a:cubicBezTo>
                      <a:pt x="14019" y="7"/>
                      <a:pt x="14018" y="8"/>
                      <a:pt x="14017" y="8"/>
                    </a:cubicBezTo>
                    <a:lnTo>
                      <a:pt x="14017" y="8"/>
                    </a:lnTo>
                    <a:cubicBezTo>
                      <a:pt x="14016" y="8"/>
                      <a:pt x="14015" y="7"/>
                      <a:pt x="14015" y="6"/>
                    </a:cubicBezTo>
                    <a:cubicBezTo>
                      <a:pt x="14015" y="4"/>
                      <a:pt x="14016" y="4"/>
                      <a:pt x="14017" y="4"/>
                    </a:cubicBezTo>
                    <a:close/>
                    <a:moveTo>
                      <a:pt x="14025" y="4"/>
                    </a:moveTo>
                    <a:lnTo>
                      <a:pt x="14025" y="4"/>
                    </a:lnTo>
                    <a:cubicBezTo>
                      <a:pt x="14026" y="4"/>
                      <a:pt x="14027" y="4"/>
                      <a:pt x="14027" y="6"/>
                    </a:cubicBezTo>
                    <a:cubicBezTo>
                      <a:pt x="14027" y="7"/>
                      <a:pt x="14026" y="8"/>
                      <a:pt x="14025" y="8"/>
                    </a:cubicBezTo>
                    <a:lnTo>
                      <a:pt x="14025" y="8"/>
                    </a:lnTo>
                    <a:cubicBezTo>
                      <a:pt x="14024" y="8"/>
                      <a:pt x="14023" y="7"/>
                      <a:pt x="14023" y="6"/>
                    </a:cubicBezTo>
                    <a:cubicBezTo>
                      <a:pt x="14023" y="4"/>
                      <a:pt x="14024" y="4"/>
                      <a:pt x="14025" y="4"/>
                    </a:cubicBezTo>
                    <a:close/>
                    <a:moveTo>
                      <a:pt x="14033" y="4"/>
                    </a:moveTo>
                    <a:lnTo>
                      <a:pt x="14033" y="4"/>
                    </a:lnTo>
                    <a:cubicBezTo>
                      <a:pt x="14034" y="4"/>
                      <a:pt x="14035" y="4"/>
                      <a:pt x="14035" y="6"/>
                    </a:cubicBezTo>
                    <a:cubicBezTo>
                      <a:pt x="14035" y="7"/>
                      <a:pt x="14034" y="8"/>
                      <a:pt x="14033" y="8"/>
                    </a:cubicBezTo>
                    <a:lnTo>
                      <a:pt x="14033" y="8"/>
                    </a:lnTo>
                    <a:cubicBezTo>
                      <a:pt x="14032" y="8"/>
                      <a:pt x="14031" y="7"/>
                      <a:pt x="14031" y="6"/>
                    </a:cubicBezTo>
                    <a:cubicBezTo>
                      <a:pt x="14031" y="4"/>
                      <a:pt x="14032" y="4"/>
                      <a:pt x="14033" y="4"/>
                    </a:cubicBezTo>
                    <a:close/>
                    <a:moveTo>
                      <a:pt x="14041" y="4"/>
                    </a:moveTo>
                    <a:lnTo>
                      <a:pt x="14041" y="4"/>
                    </a:lnTo>
                    <a:cubicBezTo>
                      <a:pt x="14042" y="4"/>
                      <a:pt x="14043" y="4"/>
                      <a:pt x="14043" y="6"/>
                    </a:cubicBezTo>
                    <a:cubicBezTo>
                      <a:pt x="14043" y="7"/>
                      <a:pt x="14042" y="8"/>
                      <a:pt x="14041" y="8"/>
                    </a:cubicBezTo>
                    <a:lnTo>
                      <a:pt x="14041" y="8"/>
                    </a:lnTo>
                    <a:cubicBezTo>
                      <a:pt x="14040" y="8"/>
                      <a:pt x="14039" y="7"/>
                      <a:pt x="14039" y="6"/>
                    </a:cubicBezTo>
                    <a:cubicBezTo>
                      <a:pt x="14039" y="4"/>
                      <a:pt x="14040" y="4"/>
                      <a:pt x="14041" y="4"/>
                    </a:cubicBezTo>
                    <a:close/>
                    <a:moveTo>
                      <a:pt x="14049" y="4"/>
                    </a:moveTo>
                    <a:lnTo>
                      <a:pt x="14049" y="4"/>
                    </a:lnTo>
                    <a:cubicBezTo>
                      <a:pt x="14050" y="4"/>
                      <a:pt x="14051" y="4"/>
                      <a:pt x="14051" y="6"/>
                    </a:cubicBezTo>
                    <a:cubicBezTo>
                      <a:pt x="14051" y="7"/>
                      <a:pt x="14050" y="8"/>
                      <a:pt x="14049" y="8"/>
                    </a:cubicBezTo>
                    <a:lnTo>
                      <a:pt x="14049" y="8"/>
                    </a:lnTo>
                    <a:cubicBezTo>
                      <a:pt x="14048" y="8"/>
                      <a:pt x="14047" y="7"/>
                      <a:pt x="14047" y="6"/>
                    </a:cubicBezTo>
                    <a:cubicBezTo>
                      <a:pt x="14047" y="4"/>
                      <a:pt x="14048" y="4"/>
                      <a:pt x="14049" y="4"/>
                    </a:cubicBezTo>
                    <a:close/>
                    <a:moveTo>
                      <a:pt x="14057" y="4"/>
                    </a:moveTo>
                    <a:lnTo>
                      <a:pt x="14057" y="4"/>
                    </a:lnTo>
                    <a:cubicBezTo>
                      <a:pt x="14058" y="4"/>
                      <a:pt x="14059" y="4"/>
                      <a:pt x="14059" y="6"/>
                    </a:cubicBezTo>
                    <a:cubicBezTo>
                      <a:pt x="14059" y="7"/>
                      <a:pt x="14058" y="8"/>
                      <a:pt x="14057" y="8"/>
                    </a:cubicBezTo>
                    <a:lnTo>
                      <a:pt x="14057" y="8"/>
                    </a:lnTo>
                    <a:cubicBezTo>
                      <a:pt x="14056" y="8"/>
                      <a:pt x="14055" y="7"/>
                      <a:pt x="14055" y="6"/>
                    </a:cubicBezTo>
                    <a:cubicBezTo>
                      <a:pt x="14055" y="4"/>
                      <a:pt x="14056" y="4"/>
                      <a:pt x="14057" y="4"/>
                    </a:cubicBezTo>
                    <a:close/>
                    <a:moveTo>
                      <a:pt x="14065" y="4"/>
                    </a:moveTo>
                    <a:lnTo>
                      <a:pt x="14065" y="4"/>
                    </a:lnTo>
                    <a:cubicBezTo>
                      <a:pt x="14066" y="4"/>
                      <a:pt x="14067" y="4"/>
                      <a:pt x="14067" y="6"/>
                    </a:cubicBezTo>
                    <a:cubicBezTo>
                      <a:pt x="14067" y="7"/>
                      <a:pt x="14066" y="8"/>
                      <a:pt x="14065" y="8"/>
                    </a:cubicBezTo>
                    <a:lnTo>
                      <a:pt x="14065" y="8"/>
                    </a:lnTo>
                    <a:cubicBezTo>
                      <a:pt x="14064" y="8"/>
                      <a:pt x="14063" y="7"/>
                      <a:pt x="14063" y="6"/>
                    </a:cubicBezTo>
                    <a:cubicBezTo>
                      <a:pt x="14063" y="4"/>
                      <a:pt x="14064" y="4"/>
                      <a:pt x="14065" y="4"/>
                    </a:cubicBezTo>
                    <a:close/>
                    <a:moveTo>
                      <a:pt x="14073" y="4"/>
                    </a:moveTo>
                    <a:lnTo>
                      <a:pt x="14073" y="4"/>
                    </a:lnTo>
                    <a:cubicBezTo>
                      <a:pt x="14074" y="4"/>
                      <a:pt x="14075" y="4"/>
                      <a:pt x="14075" y="6"/>
                    </a:cubicBezTo>
                    <a:cubicBezTo>
                      <a:pt x="14075" y="7"/>
                      <a:pt x="14074" y="8"/>
                      <a:pt x="14073" y="8"/>
                    </a:cubicBezTo>
                    <a:lnTo>
                      <a:pt x="14073" y="8"/>
                    </a:lnTo>
                    <a:cubicBezTo>
                      <a:pt x="14072" y="8"/>
                      <a:pt x="14071" y="7"/>
                      <a:pt x="14071" y="6"/>
                    </a:cubicBezTo>
                    <a:cubicBezTo>
                      <a:pt x="14071" y="4"/>
                      <a:pt x="14072" y="4"/>
                      <a:pt x="14073" y="4"/>
                    </a:cubicBezTo>
                    <a:close/>
                    <a:moveTo>
                      <a:pt x="14081" y="4"/>
                    </a:moveTo>
                    <a:lnTo>
                      <a:pt x="14081" y="4"/>
                    </a:lnTo>
                    <a:cubicBezTo>
                      <a:pt x="14082" y="4"/>
                      <a:pt x="14083" y="4"/>
                      <a:pt x="14083" y="6"/>
                    </a:cubicBezTo>
                    <a:cubicBezTo>
                      <a:pt x="14083" y="7"/>
                      <a:pt x="14082" y="8"/>
                      <a:pt x="14081" y="8"/>
                    </a:cubicBezTo>
                    <a:lnTo>
                      <a:pt x="14081" y="8"/>
                    </a:lnTo>
                    <a:cubicBezTo>
                      <a:pt x="14080" y="8"/>
                      <a:pt x="14079" y="7"/>
                      <a:pt x="14079" y="6"/>
                    </a:cubicBezTo>
                    <a:cubicBezTo>
                      <a:pt x="14079" y="4"/>
                      <a:pt x="14080" y="4"/>
                      <a:pt x="14081" y="4"/>
                    </a:cubicBezTo>
                    <a:close/>
                    <a:moveTo>
                      <a:pt x="14089" y="4"/>
                    </a:moveTo>
                    <a:lnTo>
                      <a:pt x="14089" y="4"/>
                    </a:lnTo>
                    <a:cubicBezTo>
                      <a:pt x="14090" y="4"/>
                      <a:pt x="14091" y="4"/>
                      <a:pt x="14091" y="6"/>
                    </a:cubicBezTo>
                    <a:cubicBezTo>
                      <a:pt x="14091" y="7"/>
                      <a:pt x="14090" y="8"/>
                      <a:pt x="14089" y="8"/>
                    </a:cubicBezTo>
                    <a:lnTo>
                      <a:pt x="14089" y="8"/>
                    </a:lnTo>
                    <a:cubicBezTo>
                      <a:pt x="14088" y="8"/>
                      <a:pt x="14087" y="7"/>
                      <a:pt x="14087" y="6"/>
                    </a:cubicBezTo>
                    <a:cubicBezTo>
                      <a:pt x="14087" y="4"/>
                      <a:pt x="14088" y="4"/>
                      <a:pt x="14089" y="4"/>
                    </a:cubicBezTo>
                    <a:close/>
                    <a:moveTo>
                      <a:pt x="14097" y="4"/>
                    </a:moveTo>
                    <a:lnTo>
                      <a:pt x="14097" y="4"/>
                    </a:lnTo>
                    <a:cubicBezTo>
                      <a:pt x="14098" y="4"/>
                      <a:pt x="14099" y="4"/>
                      <a:pt x="14099" y="6"/>
                    </a:cubicBezTo>
                    <a:cubicBezTo>
                      <a:pt x="14099" y="7"/>
                      <a:pt x="14098" y="8"/>
                      <a:pt x="14097" y="8"/>
                    </a:cubicBezTo>
                    <a:lnTo>
                      <a:pt x="14097" y="8"/>
                    </a:lnTo>
                    <a:cubicBezTo>
                      <a:pt x="14096" y="8"/>
                      <a:pt x="14095" y="7"/>
                      <a:pt x="14095" y="6"/>
                    </a:cubicBezTo>
                    <a:cubicBezTo>
                      <a:pt x="14095" y="4"/>
                      <a:pt x="14096" y="4"/>
                      <a:pt x="14097" y="4"/>
                    </a:cubicBezTo>
                    <a:close/>
                    <a:moveTo>
                      <a:pt x="14105" y="4"/>
                    </a:moveTo>
                    <a:lnTo>
                      <a:pt x="14105" y="4"/>
                    </a:lnTo>
                    <a:cubicBezTo>
                      <a:pt x="14106" y="4"/>
                      <a:pt x="14107" y="4"/>
                      <a:pt x="14107" y="6"/>
                    </a:cubicBezTo>
                    <a:cubicBezTo>
                      <a:pt x="14107" y="7"/>
                      <a:pt x="14106" y="8"/>
                      <a:pt x="14105" y="8"/>
                    </a:cubicBezTo>
                    <a:lnTo>
                      <a:pt x="14105" y="8"/>
                    </a:lnTo>
                    <a:cubicBezTo>
                      <a:pt x="14104" y="8"/>
                      <a:pt x="14103" y="7"/>
                      <a:pt x="14103" y="6"/>
                    </a:cubicBezTo>
                    <a:cubicBezTo>
                      <a:pt x="14103" y="4"/>
                      <a:pt x="14104" y="4"/>
                      <a:pt x="14105" y="4"/>
                    </a:cubicBezTo>
                    <a:close/>
                    <a:moveTo>
                      <a:pt x="14113" y="4"/>
                    </a:moveTo>
                    <a:lnTo>
                      <a:pt x="14113" y="4"/>
                    </a:lnTo>
                    <a:cubicBezTo>
                      <a:pt x="14114" y="4"/>
                      <a:pt x="14115" y="4"/>
                      <a:pt x="14115" y="6"/>
                    </a:cubicBezTo>
                    <a:cubicBezTo>
                      <a:pt x="14115" y="7"/>
                      <a:pt x="14114" y="8"/>
                      <a:pt x="14113" y="8"/>
                    </a:cubicBezTo>
                    <a:lnTo>
                      <a:pt x="14113" y="8"/>
                    </a:lnTo>
                    <a:cubicBezTo>
                      <a:pt x="14112" y="8"/>
                      <a:pt x="14111" y="7"/>
                      <a:pt x="14111" y="6"/>
                    </a:cubicBezTo>
                    <a:cubicBezTo>
                      <a:pt x="14111" y="4"/>
                      <a:pt x="14112" y="4"/>
                      <a:pt x="14113" y="4"/>
                    </a:cubicBezTo>
                    <a:close/>
                    <a:moveTo>
                      <a:pt x="14121" y="4"/>
                    </a:moveTo>
                    <a:lnTo>
                      <a:pt x="14121" y="4"/>
                    </a:lnTo>
                    <a:cubicBezTo>
                      <a:pt x="14122" y="4"/>
                      <a:pt x="14123" y="4"/>
                      <a:pt x="14123" y="6"/>
                    </a:cubicBezTo>
                    <a:cubicBezTo>
                      <a:pt x="14123" y="7"/>
                      <a:pt x="14122" y="8"/>
                      <a:pt x="14121" y="8"/>
                    </a:cubicBezTo>
                    <a:lnTo>
                      <a:pt x="14121" y="8"/>
                    </a:lnTo>
                    <a:cubicBezTo>
                      <a:pt x="14120" y="8"/>
                      <a:pt x="14119" y="7"/>
                      <a:pt x="14119" y="6"/>
                    </a:cubicBezTo>
                    <a:cubicBezTo>
                      <a:pt x="14119" y="4"/>
                      <a:pt x="14120" y="4"/>
                      <a:pt x="14121" y="4"/>
                    </a:cubicBezTo>
                    <a:close/>
                    <a:moveTo>
                      <a:pt x="14129" y="4"/>
                    </a:moveTo>
                    <a:lnTo>
                      <a:pt x="14129" y="4"/>
                    </a:lnTo>
                    <a:cubicBezTo>
                      <a:pt x="14130" y="4"/>
                      <a:pt x="14131" y="4"/>
                      <a:pt x="14131" y="6"/>
                    </a:cubicBezTo>
                    <a:cubicBezTo>
                      <a:pt x="14131" y="7"/>
                      <a:pt x="14130" y="8"/>
                      <a:pt x="14129" y="8"/>
                    </a:cubicBezTo>
                    <a:lnTo>
                      <a:pt x="14129" y="8"/>
                    </a:lnTo>
                    <a:cubicBezTo>
                      <a:pt x="14128" y="8"/>
                      <a:pt x="14127" y="7"/>
                      <a:pt x="14127" y="6"/>
                    </a:cubicBezTo>
                    <a:cubicBezTo>
                      <a:pt x="14127" y="4"/>
                      <a:pt x="14128" y="4"/>
                      <a:pt x="14129" y="4"/>
                    </a:cubicBezTo>
                    <a:close/>
                    <a:moveTo>
                      <a:pt x="14137" y="4"/>
                    </a:moveTo>
                    <a:lnTo>
                      <a:pt x="14137" y="4"/>
                    </a:lnTo>
                    <a:cubicBezTo>
                      <a:pt x="14138" y="4"/>
                      <a:pt x="14139" y="4"/>
                      <a:pt x="14139" y="6"/>
                    </a:cubicBezTo>
                    <a:cubicBezTo>
                      <a:pt x="14139" y="7"/>
                      <a:pt x="14138" y="8"/>
                      <a:pt x="14137" y="8"/>
                    </a:cubicBezTo>
                    <a:lnTo>
                      <a:pt x="14137" y="8"/>
                    </a:lnTo>
                    <a:cubicBezTo>
                      <a:pt x="14136" y="8"/>
                      <a:pt x="14135" y="7"/>
                      <a:pt x="14135" y="6"/>
                    </a:cubicBezTo>
                    <a:cubicBezTo>
                      <a:pt x="14135" y="4"/>
                      <a:pt x="14136" y="4"/>
                      <a:pt x="14137" y="4"/>
                    </a:cubicBezTo>
                    <a:close/>
                    <a:moveTo>
                      <a:pt x="14145" y="4"/>
                    </a:moveTo>
                    <a:lnTo>
                      <a:pt x="14145" y="4"/>
                    </a:lnTo>
                    <a:cubicBezTo>
                      <a:pt x="14146" y="4"/>
                      <a:pt x="14147" y="4"/>
                      <a:pt x="14147" y="6"/>
                    </a:cubicBezTo>
                    <a:cubicBezTo>
                      <a:pt x="14147" y="7"/>
                      <a:pt x="14146" y="8"/>
                      <a:pt x="14145" y="8"/>
                    </a:cubicBezTo>
                    <a:lnTo>
                      <a:pt x="14145" y="8"/>
                    </a:lnTo>
                    <a:cubicBezTo>
                      <a:pt x="14144" y="8"/>
                      <a:pt x="14143" y="7"/>
                      <a:pt x="14143" y="6"/>
                    </a:cubicBezTo>
                    <a:cubicBezTo>
                      <a:pt x="14143" y="4"/>
                      <a:pt x="14144" y="4"/>
                      <a:pt x="14145" y="4"/>
                    </a:cubicBezTo>
                    <a:close/>
                    <a:moveTo>
                      <a:pt x="14153" y="4"/>
                    </a:moveTo>
                    <a:lnTo>
                      <a:pt x="14153" y="4"/>
                    </a:lnTo>
                    <a:cubicBezTo>
                      <a:pt x="14154" y="4"/>
                      <a:pt x="14155" y="4"/>
                      <a:pt x="14155" y="6"/>
                    </a:cubicBezTo>
                    <a:cubicBezTo>
                      <a:pt x="14155" y="7"/>
                      <a:pt x="14154" y="8"/>
                      <a:pt x="14153" y="8"/>
                    </a:cubicBezTo>
                    <a:lnTo>
                      <a:pt x="14153" y="8"/>
                    </a:lnTo>
                    <a:cubicBezTo>
                      <a:pt x="14152" y="8"/>
                      <a:pt x="14151" y="7"/>
                      <a:pt x="14151" y="6"/>
                    </a:cubicBezTo>
                    <a:cubicBezTo>
                      <a:pt x="14151" y="4"/>
                      <a:pt x="14152" y="4"/>
                      <a:pt x="14153" y="4"/>
                    </a:cubicBezTo>
                    <a:close/>
                    <a:moveTo>
                      <a:pt x="14161" y="4"/>
                    </a:moveTo>
                    <a:lnTo>
                      <a:pt x="14161" y="4"/>
                    </a:lnTo>
                    <a:cubicBezTo>
                      <a:pt x="14162" y="4"/>
                      <a:pt x="14163" y="4"/>
                      <a:pt x="14163" y="6"/>
                    </a:cubicBezTo>
                    <a:cubicBezTo>
                      <a:pt x="14163" y="7"/>
                      <a:pt x="14162" y="8"/>
                      <a:pt x="14161" y="8"/>
                    </a:cubicBezTo>
                    <a:lnTo>
                      <a:pt x="14161" y="8"/>
                    </a:lnTo>
                    <a:cubicBezTo>
                      <a:pt x="14160" y="8"/>
                      <a:pt x="14159" y="7"/>
                      <a:pt x="14159" y="6"/>
                    </a:cubicBezTo>
                    <a:cubicBezTo>
                      <a:pt x="14159" y="4"/>
                      <a:pt x="14160" y="4"/>
                      <a:pt x="14161" y="4"/>
                    </a:cubicBezTo>
                    <a:close/>
                    <a:moveTo>
                      <a:pt x="14169" y="4"/>
                    </a:moveTo>
                    <a:lnTo>
                      <a:pt x="14169" y="4"/>
                    </a:lnTo>
                    <a:cubicBezTo>
                      <a:pt x="14171" y="4"/>
                      <a:pt x="14171" y="4"/>
                      <a:pt x="14171" y="6"/>
                    </a:cubicBezTo>
                    <a:cubicBezTo>
                      <a:pt x="14171" y="7"/>
                      <a:pt x="14171" y="8"/>
                      <a:pt x="14169" y="8"/>
                    </a:cubicBezTo>
                    <a:lnTo>
                      <a:pt x="14169" y="8"/>
                    </a:lnTo>
                    <a:cubicBezTo>
                      <a:pt x="14168" y="8"/>
                      <a:pt x="14167" y="7"/>
                      <a:pt x="14167" y="6"/>
                    </a:cubicBezTo>
                    <a:cubicBezTo>
                      <a:pt x="14167" y="4"/>
                      <a:pt x="14168" y="4"/>
                      <a:pt x="14169" y="4"/>
                    </a:cubicBezTo>
                    <a:close/>
                    <a:moveTo>
                      <a:pt x="14177" y="4"/>
                    </a:moveTo>
                    <a:lnTo>
                      <a:pt x="14177" y="4"/>
                    </a:lnTo>
                    <a:cubicBezTo>
                      <a:pt x="14179" y="4"/>
                      <a:pt x="14179" y="4"/>
                      <a:pt x="14179" y="6"/>
                    </a:cubicBezTo>
                    <a:cubicBezTo>
                      <a:pt x="14179" y="7"/>
                      <a:pt x="14179" y="8"/>
                      <a:pt x="14177" y="8"/>
                    </a:cubicBezTo>
                    <a:lnTo>
                      <a:pt x="14177" y="8"/>
                    </a:lnTo>
                    <a:cubicBezTo>
                      <a:pt x="14176" y="8"/>
                      <a:pt x="14175" y="7"/>
                      <a:pt x="14175" y="6"/>
                    </a:cubicBezTo>
                    <a:cubicBezTo>
                      <a:pt x="14175" y="4"/>
                      <a:pt x="14176" y="4"/>
                      <a:pt x="14177" y="4"/>
                    </a:cubicBezTo>
                    <a:close/>
                    <a:moveTo>
                      <a:pt x="14185" y="4"/>
                    </a:moveTo>
                    <a:lnTo>
                      <a:pt x="14185" y="4"/>
                    </a:lnTo>
                    <a:cubicBezTo>
                      <a:pt x="14187" y="4"/>
                      <a:pt x="14187" y="4"/>
                      <a:pt x="14187" y="6"/>
                    </a:cubicBezTo>
                    <a:cubicBezTo>
                      <a:pt x="14187" y="7"/>
                      <a:pt x="14187" y="8"/>
                      <a:pt x="14185" y="8"/>
                    </a:cubicBezTo>
                    <a:lnTo>
                      <a:pt x="14185" y="8"/>
                    </a:lnTo>
                    <a:cubicBezTo>
                      <a:pt x="14184" y="8"/>
                      <a:pt x="14183" y="7"/>
                      <a:pt x="14183" y="6"/>
                    </a:cubicBezTo>
                    <a:cubicBezTo>
                      <a:pt x="14183" y="4"/>
                      <a:pt x="14184" y="4"/>
                      <a:pt x="14185" y="4"/>
                    </a:cubicBezTo>
                    <a:close/>
                    <a:moveTo>
                      <a:pt x="14193" y="4"/>
                    </a:moveTo>
                    <a:lnTo>
                      <a:pt x="14193" y="4"/>
                    </a:lnTo>
                    <a:cubicBezTo>
                      <a:pt x="14195" y="4"/>
                      <a:pt x="14195" y="4"/>
                      <a:pt x="14195" y="6"/>
                    </a:cubicBezTo>
                    <a:cubicBezTo>
                      <a:pt x="14195" y="7"/>
                      <a:pt x="14195" y="8"/>
                      <a:pt x="14193" y="8"/>
                    </a:cubicBezTo>
                    <a:lnTo>
                      <a:pt x="14193" y="8"/>
                    </a:lnTo>
                    <a:cubicBezTo>
                      <a:pt x="14192" y="8"/>
                      <a:pt x="14191" y="7"/>
                      <a:pt x="14191" y="6"/>
                    </a:cubicBezTo>
                    <a:cubicBezTo>
                      <a:pt x="14191" y="4"/>
                      <a:pt x="14192" y="4"/>
                      <a:pt x="14193" y="4"/>
                    </a:cubicBezTo>
                    <a:close/>
                    <a:moveTo>
                      <a:pt x="14201" y="4"/>
                    </a:moveTo>
                    <a:lnTo>
                      <a:pt x="14201" y="4"/>
                    </a:lnTo>
                    <a:cubicBezTo>
                      <a:pt x="14203" y="4"/>
                      <a:pt x="14203" y="4"/>
                      <a:pt x="14203" y="6"/>
                    </a:cubicBezTo>
                    <a:cubicBezTo>
                      <a:pt x="14203" y="7"/>
                      <a:pt x="14203" y="8"/>
                      <a:pt x="14201" y="8"/>
                    </a:cubicBezTo>
                    <a:lnTo>
                      <a:pt x="14201" y="8"/>
                    </a:lnTo>
                    <a:cubicBezTo>
                      <a:pt x="14200" y="8"/>
                      <a:pt x="14199" y="7"/>
                      <a:pt x="14199" y="6"/>
                    </a:cubicBezTo>
                    <a:cubicBezTo>
                      <a:pt x="14199" y="4"/>
                      <a:pt x="14200" y="4"/>
                      <a:pt x="14201" y="4"/>
                    </a:cubicBezTo>
                    <a:close/>
                    <a:moveTo>
                      <a:pt x="14209" y="4"/>
                    </a:moveTo>
                    <a:lnTo>
                      <a:pt x="14209" y="4"/>
                    </a:lnTo>
                    <a:cubicBezTo>
                      <a:pt x="14211" y="4"/>
                      <a:pt x="14211" y="4"/>
                      <a:pt x="14211" y="6"/>
                    </a:cubicBezTo>
                    <a:cubicBezTo>
                      <a:pt x="14211" y="7"/>
                      <a:pt x="14211" y="8"/>
                      <a:pt x="14209" y="8"/>
                    </a:cubicBezTo>
                    <a:lnTo>
                      <a:pt x="14209" y="8"/>
                    </a:lnTo>
                    <a:cubicBezTo>
                      <a:pt x="14208" y="8"/>
                      <a:pt x="14207" y="7"/>
                      <a:pt x="14207" y="6"/>
                    </a:cubicBezTo>
                    <a:cubicBezTo>
                      <a:pt x="14207" y="4"/>
                      <a:pt x="14208" y="4"/>
                      <a:pt x="14209" y="4"/>
                    </a:cubicBezTo>
                    <a:close/>
                    <a:moveTo>
                      <a:pt x="14217" y="4"/>
                    </a:moveTo>
                    <a:lnTo>
                      <a:pt x="14217" y="4"/>
                    </a:lnTo>
                    <a:cubicBezTo>
                      <a:pt x="14219" y="4"/>
                      <a:pt x="14219" y="4"/>
                      <a:pt x="14219" y="6"/>
                    </a:cubicBezTo>
                    <a:cubicBezTo>
                      <a:pt x="14219" y="7"/>
                      <a:pt x="14219" y="8"/>
                      <a:pt x="14217" y="8"/>
                    </a:cubicBezTo>
                    <a:lnTo>
                      <a:pt x="14217" y="8"/>
                    </a:lnTo>
                    <a:cubicBezTo>
                      <a:pt x="14216" y="8"/>
                      <a:pt x="14215" y="7"/>
                      <a:pt x="14215" y="6"/>
                    </a:cubicBezTo>
                    <a:cubicBezTo>
                      <a:pt x="14215" y="4"/>
                      <a:pt x="14216" y="4"/>
                      <a:pt x="14217" y="4"/>
                    </a:cubicBezTo>
                    <a:close/>
                    <a:moveTo>
                      <a:pt x="14225" y="4"/>
                    </a:moveTo>
                    <a:lnTo>
                      <a:pt x="14225" y="4"/>
                    </a:lnTo>
                    <a:cubicBezTo>
                      <a:pt x="14227" y="4"/>
                      <a:pt x="14227" y="4"/>
                      <a:pt x="14227" y="6"/>
                    </a:cubicBezTo>
                    <a:cubicBezTo>
                      <a:pt x="14227" y="7"/>
                      <a:pt x="14227" y="8"/>
                      <a:pt x="14225" y="8"/>
                    </a:cubicBezTo>
                    <a:lnTo>
                      <a:pt x="14225" y="8"/>
                    </a:lnTo>
                    <a:cubicBezTo>
                      <a:pt x="14224" y="8"/>
                      <a:pt x="14223" y="7"/>
                      <a:pt x="14223" y="6"/>
                    </a:cubicBezTo>
                    <a:cubicBezTo>
                      <a:pt x="14223" y="4"/>
                      <a:pt x="14224" y="4"/>
                      <a:pt x="14225" y="4"/>
                    </a:cubicBezTo>
                    <a:close/>
                    <a:moveTo>
                      <a:pt x="14233" y="4"/>
                    </a:moveTo>
                    <a:lnTo>
                      <a:pt x="14233" y="4"/>
                    </a:lnTo>
                    <a:cubicBezTo>
                      <a:pt x="14235" y="4"/>
                      <a:pt x="14235" y="4"/>
                      <a:pt x="14235" y="6"/>
                    </a:cubicBezTo>
                    <a:cubicBezTo>
                      <a:pt x="14235" y="7"/>
                      <a:pt x="14235" y="8"/>
                      <a:pt x="14233" y="8"/>
                    </a:cubicBezTo>
                    <a:lnTo>
                      <a:pt x="14233" y="8"/>
                    </a:lnTo>
                    <a:cubicBezTo>
                      <a:pt x="14232" y="8"/>
                      <a:pt x="14231" y="7"/>
                      <a:pt x="14231" y="6"/>
                    </a:cubicBezTo>
                    <a:cubicBezTo>
                      <a:pt x="14231" y="4"/>
                      <a:pt x="14232" y="4"/>
                      <a:pt x="14233" y="4"/>
                    </a:cubicBezTo>
                    <a:close/>
                    <a:moveTo>
                      <a:pt x="14241" y="4"/>
                    </a:moveTo>
                    <a:lnTo>
                      <a:pt x="14241" y="4"/>
                    </a:lnTo>
                    <a:cubicBezTo>
                      <a:pt x="14243" y="4"/>
                      <a:pt x="14243" y="4"/>
                      <a:pt x="14243" y="6"/>
                    </a:cubicBezTo>
                    <a:cubicBezTo>
                      <a:pt x="14243" y="7"/>
                      <a:pt x="14243" y="8"/>
                      <a:pt x="14241" y="8"/>
                    </a:cubicBezTo>
                    <a:lnTo>
                      <a:pt x="14241" y="8"/>
                    </a:lnTo>
                    <a:cubicBezTo>
                      <a:pt x="14240" y="8"/>
                      <a:pt x="14239" y="7"/>
                      <a:pt x="14239" y="6"/>
                    </a:cubicBezTo>
                    <a:cubicBezTo>
                      <a:pt x="14239" y="4"/>
                      <a:pt x="14240" y="4"/>
                      <a:pt x="14241" y="4"/>
                    </a:cubicBezTo>
                    <a:close/>
                    <a:moveTo>
                      <a:pt x="14249" y="4"/>
                    </a:moveTo>
                    <a:lnTo>
                      <a:pt x="14249" y="4"/>
                    </a:lnTo>
                    <a:cubicBezTo>
                      <a:pt x="14251" y="4"/>
                      <a:pt x="14251" y="4"/>
                      <a:pt x="14251" y="6"/>
                    </a:cubicBezTo>
                    <a:cubicBezTo>
                      <a:pt x="14251" y="7"/>
                      <a:pt x="14251" y="8"/>
                      <a:pt x="14249" y="8"/>
                    </a:cubicBezTo>
                    <a:lnTo>
                      <a:pt x="14249" y="8"/>
                    </a:lnTo>
                    <a:cubicBezTo>
                      <a:pt x="14248" y="8"/>
                      <a:pt x="14247" y="7"/>
                      <a:pt x="14247" y="6"/>
                    </a:cubicBezTo>
                    <a:cubicBezTo>
                      <a:pt x="14247" y="4"/>
                      <a:pt x="14248" y="4"/>
                      <a:pt x="14249" y="4"/>
                    </a:cubicBezTo>
                    <a:close/>
                    <a:moveTo>
                      <a:pt x="14257" y="4"/>
                    </a:moveTo>
                    <a:lnTo>
                      <a:pt x="14257" y="4"/>
                    </a:lnTo>
                    <a:cubicBezTo>
                      <a:pt x="14259" y="4"/>
                      <a:pt x="14259" y="4"/>
                      <a:pt x="14259" y="6"/>
                    </a:cubicBezTo>
                    <a:cubicBezTo>
                      <a:pt x="14259" y="7"/>
                      <a:pt x="14259" y="8"/>
                      <a:pt x="14257" y="8"/>
                    </a:cubicBezTo>
                    <a:lnTo>
                      <a:pt x="14257" y="8"/>
                    </a:lnTo>
                    <a:cubicBezTo>
                      <a:pt x="14256" y="8"/>
                      <a:pt x="14255" y="7"/>
                      <a:pt x="14255" y="6"/>
                    </a:cubicBezTo>
                    <a:cubicBezTo>
                      <a:pt x="14255" y="4"/>
                      <a:pt x="14256" y="4"/>
                      <a:pt x="14257" y="4"/>
                    </a:cubicBezTo>
                    <a:close/>
                    <a:moveTo>
                      <a:pt x="14265" y="4"/>
                    </a:moveTo>
                    <a:lnTo>
                      <a:pt x="14265" y="4"/>
                    </a:lnTo>
                    <a:cubicBezTo>
                      <a:pt x="14267" y="4"/>
                      <a:pt x="14267" y="4"/>
                      <a:pt x="14267" y="6"/>
                    </a:cubicBezTo>
                    <a:cubicBezTo>
                      <a:pt x="14267" y="7"/>
                      <a:pt x="14267" y="8"/>
                      <a:pt x="14265" y="8"/>
                    </a:cubicBezTo>
                    <a:lnTo>
                      <a:pt x="14265" y="8"/>
                    </a:lnTo>
                    <a:cubicBezTo>
                      <a:pt x="14264" y="8"/>
                      <a:pt x="14263" y="7"/>
                      <a:pt x="14263" y="6"/>
                    </a:cubicBezTo>
                    <a:cubicBezTo>
                      <a:pt x="14263" y="4"/>
                      <a:pt x="14264" y="4"/>
                      <a:pt x="14265" y="4"/>
                    </a:cubicBezTo>
                    <a:close/>
                    <a:moveTo>
                      <a:pt x="14273" y="4"/>
                    </a:moveTo>
                    <a:lnTo>
                      <a:pt x="14273" y="4"/>
                    </a:lnTo>
                    <a:cubicBezTo>
                      <a:pt x="14275" y="4"/>
                      <a:pt x="14275" y="4"/>
                      <a:pt x="14275" y="6"/>
                    </a:cubicBezTo>
                    <a:cubicBezTo>
                      <a:pt x="14275" y="7"/>
                      <a:pt x="14275" y="8"/>
                      <a:pt x="14273" y="8"/>
                    </a:cubicBezTo>
                    <a:lnTo>
                      <a:pt x="14273" y="8"/>
                    </a:lnTo>
                    <a:cubicBezTo>
                      <a:pt x="14272" y="8"/>
                      <a:pt x="14271" y="7"/>
                      <a:pt x="14271" y="6"/>
                    </a:cubicBezTo>
                    <a:cubicBezTo>
                      <a:pt x="14271" y="4"/>
                      <a:pt x="14272" y="4"/>
                      <a:pt x="14273" y="4"/>
                    </a:cubicBezTo>
                    <a:close/>
                    <a:moveTo>
                      <a:pt x="14281" y="4"/>
                    </a:moveTo>
                    <a:lnTo>
                      <a:pt x="14281" y="4"/>
                    </a:lnTo>
                    <a:cubicBezTo>
                      <a:pt x="14283" y="4"/>
                      <a:pt x="14283" y="4"/>
                      <a:pt x="14283" y="6"/>
                    </a:cubicBezTo>
                    <a:cubicBezTo>
                      <a:pt x="14283" y="7"/>
                      <a:pt x="14283" y="8"/>
                      <a:pt x="14281" y="8"/>
                    </a:cubicBezTo>
                    <a:lnTo>
                      <a:pt x="14281" y="8"/>
                    </a:lnTo>
                    <a:cubicBezTo>
                      <a:pt x="14280" y="8"/>
                      <a:pt x="14279" y="7"/>
                      <a:pt x="14279" y="6"/>
                    </a:cubicBezTo>
                    <a:cubicBezTo>
                      <a:pt x="14279" y="4"/>
                      <a:pt x="14280" y="4"/>
                      <a:pt x="14281" y="4"/>
                    </a:cubicBezTo>
                    <a:close/>
                    <a:moveTo>
                      <a:pt x="14289" y="4"/>
                    </a:moveTo>
                    <a:lnTo>
                      <a:pt x="14289" y="4"/>
                    </a:lnTo>
                    <a:cubicBezTo>
                      <a:pt x="14291" y="4"/>
                      <a:pt x="14291" y="4"/>
                      <a:pt x="14291" y="6"/>
                    </a:cubicBezTo>
                    <a:cubicBezTo>
                      <a:pt x="14291" y="7"/>
                      <a:pt x="14291" y="8"/>
                      <a:pt x="14289" y="8"/>
                    </a:cubicBezTo>
                    <a:lnTo>
                      <a:pt x="14289" y="8"/>
                    </a:lnTo>
                    <a:cubicBezTo>
                      <a:pt x="14288" y="8"/>
                      <a:pt x="14287" y="7"/>
                      <a:pt x="14287" y="6"/>
                    </a:cubicBezTo>
                    <a:cubicBezTo>
                      <a:pt x="14287" y="4"/>
                      <a:pt x="14288" y="4"/>
                      <a:pt x="14289" y="4"/>
                    </a:cubicBezTo>
                    <a:close/>
                    <a:moveTo>
                      <a:pt x="14297" y="4"/>
                    </a:moveTo>
                    <a:lnTo>
                      <a:pt x="14297" y="4"/>
                    </a:lnTo>
                    <a:cubicBezTo>
                      <a:pt x="14299" y="4"/>
                      <a:pt x="14299" y="4"/>
                      <a:pt x="14299" y="6"/>
                    </a:cubicBezTo>
                    <a:cubicBezTo>
                      <a:pt x="14299" y="7"/>
                      <a:pt x="14299" y="8"/>
                      <a:pt x="14297" y="8"/>
                    </a:cubicBezTo>
                    <a:lnTo>
                      <a:pt x="14297" y="8"/>
                    </a:lnTo>
                    <a:cubicBezTo>
                      <a:pt x="14296" y="8"/>
                      <a:pt x="14295" y="7"/>
                      <a:pt x="14295" y="6"/>
                    </a:cubicBezTo>
                    <a:cubicBezTo>
                      <a:pt x="14295" y="4"/>
                      <a:pt x="14296" y="4"/>
                      <a:pt x="14297" y="4"/>
                    </a:cubicBezTo>
                    <a:close/>
                    <a:moveTo>
                      <a:pt x="14305" y="4"/>
                    </a:moveTo>
                    <a:lnTo>
                      <a:pt x="14306" y="4"/>
                    </a:lnTo>
                    <a:cubicBezTo>
                      <a:pt x="14307" y="4"/>
                      <a:pt x="14308" y="5"/>
                      <a:pt x="14308" y="6"/>
                    </a:cubicBezTo>
                    <a:cubicBezTo>
                      <a:pt x="14308" y="7"/>
                      <a:pt x="14307" y="8"/>
                      <a:pt x="14306" y="8"/>
                    </a:cubicBezTo>
                    <a:lnTo>
                      <a:pt x="14305" y="8"/>
                    </a:lnTo>
                    <a:cubicBezTo>
                      <a:pt x="14304" y="8"/>
                      <a:pt x="14303" y="7"/>
                      <a:pt x="14303" y="6"/>
                    </a:cubicBezTo>
                    <a:cubicBezTo>
                      <a:pt x="14303" y="5"/>
                      <a:pt x="14304" y="4"/>
                      <a:pt x="14305" y="4"/>
                    </a:cubicBezTo>
                    <a:close/>
                    <a:moveTo>
                      <a:pt x="14314" y="4"/>
                    </a:moveTo>
                    <a:lnTo>
                      <a:pt x="14314" y="4"/>
                    </a:lnTo>
                    <a:cubicBezTo>
                      <a:pt x="14315" y="4"/>
                      <a:pt x="14316" y="5"/>
                      <a:pt x="14316" y="6"/>
                    </a:cubicBezTo>
                    <a:cubicBezTo>
                      <a:pt x="14316" y="7"/>
                      <a:pt x="14315" y="8"/>
                      <a:pt x="14314" y="8"/>
                    </a:cubicBezTo>
                    <a:lnTo>
                      <a:pt x="14314" y="8"/>
                    </a:lnTo>
                    <a:cubicBezTo>
                      <a:pt x="14312" y="8"/>
                      <a:pt x="14312" y="7"/>
                      <a:pt x="14312" y="6"/>
                    </a:cubicBezTo>
                    <a:cubicBezTo>
                      <a:pt x="14312" y="5"/>
                      <a:pt x="14312" y="4"/>
                      <a:pt x="14314" y="4"/>
                    </a:cubicBezTo>
                    <a:close/>
                    <a:moveTo>
                      <a:pt x="14322" y="4"/>
                    </a:moveTo>
                    <a:lnTo>
                      <a:pt x="14322" y="4"/>
                    </a:lnTo>
                    <a:cubicBezTo>
                      <a:pt x="14323" y="4"/>
                      <a:pt x="14324" y="5"/>
                      <a:pt x="14324" y="6"/>
                    </a:cubicBezTo>
                    <a:cubicBezTo>
                      <a:pt x="14324" y="7"/>
                      <a:pt x="14323" y="8"/>
                      <a:pt x="14322" y="8"/>
                    </a:cubicBezTo>
                    <a:lnTo>
                      <a:pt x="14322" y="8"/>
                    </a:lnTo>
                    <a:cubicBezTo>
                      <a:pt x="14320" y="8"/>
                      <a:pt x="14320" y="7"/>
                      <a:pt x="14320" y="6"/>
                    </a:cubicBezTo>
                    <a:cubicBezTo>
                      <a:pt x="14320" y="5"/>
                      <a:pt x="14320" y="4"/>
                      <a:pt x="14322" y="4"/>
                    </a:cubicBezTo>
                    <a:close/>
                    <a:moveTo>
                      <a:pt x="14330" y="4"/>
                    </a:moveTo>
                    <a:lnTo>
                      <a:pt x="14330" y="4"/>
                    </a:lnTo>
                    <a:cubicBezTo>
                      <a:pt x="14331" y="4"/>
                      <a:pt x="14332" y="5"/>
                      <a:pt x="14332" y="6"/>
                    </a:cubicBezTo>
                    <a:cubicBezTo>
                      <a:pt x="14332" y="7"/>
                      <a:pt x="14331" y="8"/>
                      <a:pt x="14330" y="8"/>
                    </a:cubicBezTo>
                    <a:lnTo>
                      <a:pt x="14330" y="8"/>
                    </a:lnTo>
                    <a:cubicBezTo>
                      <a:pt x="14328" y="8"/>
                      <a:pt x="14328" y="7"/>
                      <a:pt x="14328" y="6"/>
                    </a:cubicBezTo>
                    <a:cubicBezTo>
                      <a:pt x="14328" y="5"/>
                      <a:pt x="14328" y="4"/>
                      <a:pt x="14330" y="4"/>
                    </a:cubicBezTo>
                    <a:close/>
                    <a:moveTo>
                      <a:pt x="14338" y="4"/>
                    </a:moveTo>
                    <a:lnTo>
                      <a:pt x="14338" y="4"/>
                    </a:lnTo>
                    <a:cubicBezTo>
                      <a:pt x="14339" y="4"/>
                      <a:pt x="14340" y="5"/>
                      <a:pt x="14340" y="6"/>
                    </a:cubicBezTo>
                    <a:cubicBezTo>
                      <a:pt x="14340" y="7"/>
                      <a:pt x="14339" y="8"/>
                      <a:pt x="14338" y="8"/>
                    </a:cubicBezTo>
                    <a:lnTo>
                      <a:pt x="14338" y="8"/>
                    </a:lnTo>
                    <a:cubicBezTo>
                      <a:pt x="14336" y="8"/>
                      <a:pt x="14336" y="7"/>
                      <a:pt x="14336" y="6"/>
                    </a:cubicBezTo>
                    <a:cubicBezTo>
                      <a:pt x="14336" y="5"/>
                      <a:pt x="14336" y="4"/>
                      <a:pt x="14338" y="4"/>
                    </a:cubicBezTo>
                    <a:close/>
                    <a:moveTo>
                      <a:pt x="14346" y="4"/>
                    </a:moveTo>
                    <a:lnTo>
                      <a:pt x="14346" y="4"/>
                    </a:lnTo>
                    <a:cubicBezTo>
                      <a:pt x="14347" y="4"/>
                      <a:pt x="14348" y="5"/>
                      <a:pt x="14348" y="6"/>
                    </a:cubicBezTo>
                    <a:cubicBezTo>
                      <a:pt x="14348" y="7"/>
                      <a:pt x="14347" y="8"/>
                      <a:pt x="14346" y="8"/>
                    </a:cubicBezTo>
                    <a:lnTo>
                      <a:pt x="14346" y="8"/>
                    </a:lnTo>
                    <a:cubicBezTo>
                      <a:pt x="14344" y="8"/>
                      <a:pt x="14344" y="7"/>
                      <a:pt x="14344" y="6"/>
                    </a:cubicBezTo>
                    <a:cubicBezTo>
                      <a:pt x="14344" y="5"/>
                      <a:pt x="14344" y="4"/>
                      <a:pt x="14346" y="4"/>
                    </a:cubicBezTo>
                    <a:close/>
                    <a:moveTo>
                      <a:pt x="14354" y="4"/>
                    </a:moveTo>
                    <a:lnTo>
                      <a:pt x="14354" y="4"/>
                    </a:lnTo>
                    <a:cubicBezTo>
                      <a:pt x="14355" y="4"/>
                      <a:pt x="14356" y="5"/>
                      <a:pt x="14356" y="6"/>
                    </a:cubicBezTo>
                    <a:cubicBezTo>
                      <a:pt x="14356" y="7"/>
                      <a:pt x="14355" y="8"/>
                      <a:pt x="14354" y="8"/>
                    </a:cubicBezTo>
                    <a:lnTo>
                      <a:pt x="14354" y="8"/>
                    </a:lnTo>
                    <a:cubicBezTo>
                      <a:pt x="14352" y="8"/>
                      <a:pt x="14352" y="7"/>
                      <a:pt x="14352" y="6"/>
                    </a:cubicBezTo>
                    <a:cubicBezTo>
                      <a:pt x="14352" y="5"/>
                      <a:pt x="14352" y="4"/>
                      <a:pt x="14354" y="4"/>
                    </a:cubicBezTo>
                    <a:close/>
                    <a:moveTo>
                      <a:pt x="14362" y="4"/>
                    </a:moveTo>
                    <a:lnTo>
                      <a:pt x="14362" y="4"/>
                    </a:lnTo>
                    <a:cubicBezTo>
                      <a:pt x="14363" y="4"/>
                      <a:pt x="14364" y="5"/>
                      <a:pt x="14364" y="6"/>
                    </a:cubicBezTo>
                    <a:cubicBezTo>
                      <a:pt x="14364" y="7"/>
                      <a:pt x="14363" y="8"/>
                      <a:pt x="14362" y="8"/>
                    </a:cubicBezTo>
                    <a:lnTo>
                      <a:pt x="14362" y="8"/>
                    </a:lnTo>
                    <a:cubicBezTo>
                      <a:pt x="14360" y="8"/>
                      <a:pt x="14360" y="7"/>
                      <a:pt x="14360" y="6"/>
                    </a:cubicBezTo>
                    <a:cubicBezTo>
                      <a:pt x="14360" y="5"/>
                      <a:pt x="14360" y="4"/>
                      <a:pt x="14362" y="4"/>
                    </a:cubicBezTo>
                    <a:close/>
                    <a:moveTo>
                      <a:pt x="14370" y="4"/>
                    </a:moveTo>
                    <a:lnTo>
                      <a:pt x="14370" y="4"/>
                    </a:lnTo>
                    <a:cubicBezTo>
                      <a:pt x="14371" y="4"/>
                      <a:pt x="14372" y="5"/>
                      <a:pt x="14372" y="6"/>
                    </a:cubicBezTo>
                    <a:cubicBezTo>
                      <a:pt x="14372" y="7"/>
                      <a:pt x="14371" y="8"/>
                      <a:pt x="14370" y="8"/>
                    </a:cubicBezTo>
                    <a:lnTo>
                      <a:pt x="14370" y="8"/>
                    </a:lnTo>
                    <a:cubicBezTo>
                      <a:pt x="14368" y="8"/>
                      <a:pt x="14368" y="7"/>
                      <a:pt x="14368" y="6"/>
                    </a:cubicBezTo>
                    <a:cubicBezTo>
                      <a:pt x="14368" y="5"/>
                      <a:pt x="14368" y="4"/>
                      <a:pt x="14370" y="4"/>
                    </a:cubicBezTo>
                    <a:close/>
                    <a:moveTo>
                      <a:pt x="14378" y="4"/>
                    </a:moveTo>
                    <a:lnTo>
                      <a:pt x="14378" y="4"/>
                    </a:lnTo>
                    <a:cubicBezTo>
                      <a:pt x="14379" y="4"/>
                      <a:pt x="14380" y="5"/>
                      <a:pt x="14380" y="6"/>
                    </a:cubicBezTo>
                    <a:cubicBezTo>
                      <a:pt x="14380" y="7"/>
                      <a:pt x="14379" y="8"/>
                      <a:pt x="14378" y="8"/>
                    </a:cubicBezTo>
                    <a:lnTo>
                      <a:pt x="14378" y="8"/>
                    </a:lnTo>
                    <a:cubicBezTo>
                      <a:pt x="14376" y="8"/>
                      <a:pt x="14376" y="7"/>
                      <a:pt x="14376" y="6"/>
                    </a:cubicBezTo>
                    <a:cubicBezTo>
                      <a:pt x="14376" y="5"/>
                      <a:pt x="14376" y="4"/>
                      <a:pt x="14378" y="4"/>
                    </a:cubicBezTo>
                    <a:close/>
                    <a:moveTo>
                      <a:pt x="14386" y="4"/>
                    </a:moveTo>
                    <a:lnTo>
                      <a:pt x="14386" y="4"/>
                    </a:lnTo>
                    <a:cubicBezTo>
                      <a:pt x="14387" y="4"/>
                      <a:pt x="14388" y="5"/>
                      <a:pt x="14388" y="6"/>
                    </a:cubicBezTo>
                    <a:cubicBezTo>
                      <a:pt x="14388" y="7"/>
                      <a:pt x="14387" y="8"/>
                      <a:pt x="14386" y="8"/>
                    </a:cubicBezTo>
                    <a:lnTo>
                      <a:pt x="14386" y="8"/>
                    </a:lnTo>
                    <a:cubicBezTo>
                      <a:pt x="14384" y="8"/>
                      <a:pt x="14384" y="7"/>
                      <a:pt x="14384" y="6"/>
                    </a:cubicBezTo>
                    <a:cubicBezTo>
                      <a:pt x="14384" y="5"/>
                      <a:pt x="14384" y="4"/>
                      <a:pt x="14386" y="4"/>
                    </a:cubicBezTo>
                    <a:close/>
                    <a:moveTo>
                      <a:pt x="14394" y="4"/>
                    </a:moveTo>
                    <a:lnTo>
                      <a:pt x="14394" y="4"/>
                    </a:lnTo>
                    <a:cubicBezTo>
                      <a:pt x="14395" y="4"/>
                      <a:pt x="14396" y="5"/>
                      <a:pt x="14396" y="6"/>
                    </a:cubicBezTo>
                    <a:cubicBezTo>
                      <a:pt x="14396" y="7"/>
                      <a:pt x="14395" y="8"/>
                      <a:pt x="14394" y="8"/>
                    </a:cubicBezTo>
                    <a:lnTo>
                      <a:pt x="14394" y="8"/>
                    </a:lnTo>
                    <a:cubicBezTo>
                      <a:pt x="14392" y="8"/>
                      <a:pt x="14392" y="7"/>
                      <a:pt x="14392" y="6"/>
                    </a:cubicBezTo>
                    <a:cubicBezTo>
                      <a:pt x="14392" y="5"/>
                      <a:pt x="14392" y="4"/>
                      <a:pt x="14394" y="4"/>
                    </a:cubicBezTo>
                    <a:close/>
                    <a:moveTo>
                      <a:pt x="14402" y="4"/>
                    </a:moveTo>
                    <a:lnTo>
                      <a:pt x="14402" y="4"/>
                    </a:lnTo>
                    <a:cubicBezTo>
                      <a:pt x="14403" y="4"/>
                      <a:pt x="14404" y="5"/>
                      <a:pt x="14404" y="6"/>
                    </a:cubicBezTo>
                    <a:cubicBezTo>
                      <a:pt x="14404" y="7"/>
                      <a:pt x="14403" y="8"/>
                      <a:pt x="14402" y="8"/>
                    </a:cubicBezTo>
                    <a:lnTo>
                      <a:pt x="14402" y="8"/>
                    </a:lnTo>
                    <a:cubicBezTo>
                      <a:pt x="14400" y="8"/>
                      <a:pt x="14400" y="7"/>
                      <a:pt x="14400" y="6"/>
                    </a:cubicBezTo>
                    <a:cubicBezTo>
                      <a:pt x="14400" y="5"/>
                      <a:pt x="14400" y="4"/>
                      <a:pt x="14402" y="4"/>
                    </a:cubicBezTo>
                    <a:close/>
                    <a:moveTo>
                      <a:pt x="14410" y="4"/>
                    </a:moveTo>
                    <a:lnTo>
                      <a:pt x="14410" y="4"/>
                    </a:lnTo>
                    <a:cubicBezTo>
                      <a:pt x="14411" y="4"/>
                      <a:pt x="14412" y="5"/>
                      <a:pt x="14412" y="6"/>
                    </a:cubicBezTo>
                    <a:cubicBezTo>
                      <a:pt x="14412" y="7"/>
                      <a:pt x="14411" y="8"/>
                      <a:pt x="14410" y="8"/>
                    </a:cubicBezTo>
                    <a:lnTo>
                      <a:pt x="14410" y="8"/>
                    </a:lnTo>
                    <a:cubicBezTo>
                      <a:pt x="14408" y="8"/>
                      <a:pt x="14408" y="7"/>
                      <a:pt x="14408" y="6"/>
                    </a:cubicBezTo>
                    <a:cubicBezTo>
                      <a:pt x="14408" y="5"/>
                      <a:pt x="14408" y="4"/>
                      <a:pt x="14410" y="4"/>
                    </a:cubicBezTo>
                    <a:close/>
                    <a:moveTo>
                      <a:pt x="14418" y="4"/>
                    </a:moveTo>
                    <a:lnTo>
                      <a:pt x="14418" y="4"/>
                    </a:lnTo>
                    <a:cubicBezTo>
                      <a:pt x="14419" y="4"/>
                      <a:pt x="14420" y="5"/>
                      <a:pt x="14420" y="6"/>
                    </a:cubicBezTo>
                    <a:cubicBezTo>
                      <a:pt x="14420" y="7"/>
                      <a:pt x="14419" y="8"/>
                      <a:pt x="14418" y="8"/>
                    </a:cubicBezTo>
                    <a:lnTo>
                      <a:pt x="14418" y="8"/>
                    </a:lnTo>
                    <a:cubicBezTo>
                      <a:pt x="14416" y="8"/>
                      <a:pt x="14416" y="7"/>
                      <a:pt x="14416" y="6"/>
                    </a:cubicBezTo>
                    <a:cubicBezTo>
                      <a:pt x="14416" y="5"/>
                      <a:pt x="14416" y="4"/>
                      <a:pt x="14418" y="4"/>
                    </a:cubicBezTo>
                    <a:close/>
                    <a:moveTo>
                      <a:pt x="14426" y="4"/>
                    </a:moveTo>
                    <a:lnTo>
                      <a:pt x="14426" y="4"/>
                    </a:lnTo>
                    <a:cubicBezTo>
                      <a:pt x="14427" y="4"/>
                      <a:pt x="14428" y="5"/>
                      <a:pt x="14428" y="6"/>
                    </a:cubicBezTo>
                    <a:cubicBezTo>
                      <a:pt x="14428" y="7"/>
                      <a:pt x="14427" y="8"/>
                      <a:pt x="14426" y="8"/>
                    </a:cubicBezTo>
                    <a:lnTo>
                      <a:pt x="14426" y="8"/>
                    </a:lnTo>
                    <a:cubicBezTo>
                      <a:pt x="14424" y="8"/>
                      <a:pt x="14424" y="7"/>
                      <a:pt x="14424" y="6"/>
                    </a:cubicBezTo>
                    <a:cubicBezTo>
                      <a:pt x="14424" y="5"/>
                      <a:pt x="14424" y="4"/>
                      <a:pt x="14426" y="4"/>
                    </a:cubicBezTo>
                    <a:close/>
                    <a:moveTo>
                      <a:pt x="14434" y="4"/>
                    </a:moveTo>
                    <a:lnTo>
                      <a:pt x="14434" y="4"/>
                    </a:lnTo>
                    <a:cubicBezTo>
                      <a:pt x="14435" y="4"/>
                      <a:pt x="14436" y="5"/>
                      <a:pt x="14436" y="6"/>
                    </a:cubicBezTo>
                    <a:cubicBezTo>
                      <a:pt x="14436" y="7"/>
                      <a:pt x="14435" y="8"/>
                      <a:pt x="14434" y="8"/>
                    </a:cubicBezTo>
                    <a:lnTo>
                      <a:pt x="14434" y="8"/>
                    </a:lnTo>
                    <a:cubicBezTo>
                      <a:pt x="14432" y="8"/>
                      <a:pt x="14432" y="7"/>
                      <a:pt x="14432" y="6"/>
                    </a:cubicBezTo>
                    <a:cubicBezTo>
                      <a:pt x="14432" y="5"/>
                      <a:pt x="14432" y="4"/>
                      <a:pt x="14434" y="4"/>
                    </a:cubicBezTo>
                    <a:close/>
                    <a:moveTo>
                      <a:pt x="14442" y="4"/>
                    </a:moveTo>
                    <a:lnTo>
                      <a:pt x="14442" y="4"/>
                    </a:lnTo>
                    <a:cubicBezTo>
                      <a:pt x="14443" y="4"/>
                      <a:pt x="14444" y="5"/>
                      <a:pt x="14444" y="6"/>
                    </a:cubicBezTo>
                    <a:cubicBezTo>
                      <a:pt x="14444" y="7"/>
                      <a:pt x="14443" y="8"/>
                      <a:pt x="14442" y="8"/>
                    </a:cubicBezTo>
                    <a:lnTo>
                      <a:pt x="14442" y="8"/>
                    </a:lnTo>
                    <a:cubicBezTo>
                      <a:pt x="14440" y="8"/>
                      <a:pt x="14440" y="7"/>
                      <a:pt x="14440" y="6"/>
                    </a:cubicBezTo>
                    <a:cubicBezTo>
                      <a:pt x="14440" y="5"/>
                      <a:pt x="14440" y="4"/>
                      <a:pt x="14442" y="4"/>
                    </a:cubicBezTo>
                    <a:close/>
                    <a:moveTo>
                      <a:pt x="14450" y="4"/>
                    </a:moveTo>
                    <a:lnTo>
                      <a:pt x="14450" y="4"/>
                    </a:lnTo>
                    <a:cubicBezTo>
                      <a:pt x="14451" y="4"/>
                      <a:pt x="14452" y="5"/>
                      <a:pt x="14452" y="6"/>
                    </a:cubicBezTo>
                    <a:cubicBezTo>
                      <a:pt x="14452" y="7"/>
                      <a:pt x="14451" y="8"/>
                      <a:pt x="14450" y="8"/>
                    </a:cubicBezTo>
                    <a:lnTo>
                      <a:pt x="14450" y="8"/>
                    </a:lnTo>
                    <a:cubicBezTo>
                      <a:pt x="14448" y="8"/>
                      <a:pt x="14448" y="7"/>
                      <a:pt x="14448" y="6"/>
                    </a:cubicBezTo>
                    <a:cubicBezTo>
                      <a:pt x="14448" y="5"/>
                      <a:pt x="14448" y="4"/>
                      <a:pt x="14450" y="4"/>
                    </a:cubicBezTo>
                    <a:close/>
                    <a:moveTo>
                      <a:pt x="14458" y="4"/>
                    </a:moveTo>
                    <a:lnTo>
                      <a:pt x="14458" y="4"/>
                    </a:lnTo>
                    <a:cubicBezTo>
                      <a:pt x="14459" y="4"/>
                      <a:pt x="14460" y="5"/>
                      <a:pt x="14460" y="6"/>
                    </a:cubicBezTo>
                    <a:cubicBezTo>
                      <a:pt x="14460" y="7"/>
                      <a:pt x="14459" y="8"/>
                      <a:pt x="14458" y="8"/>
                    </a:cubicBezTo>
                    <a:lnTo>
                      <a:pt x="14458" y="8"/>
                    </a:lnTo>
                    <a:cubicBezTo>
                      <a:pt x="14457" y="8"/>
                      <a:pt x="14456" y="7"/>
                      <a:pt x="14456" y="6"/>
                    </a:cubicBezTo>
                    <a:cubicBezTo>
                      <a:pt x="14456" y="5"/>
                      <a:pt x="14457" y="4"/>
                      <a:pt x="14458" y="4"/>
                    </a:cubicBezTo>
                    <a:close/>
                    <a:moveTo>
                      <a:pt x="14466" y="4"/>
                    </a:moveTo>
                    <a:lnTo>
                      <a:pt x="14466" y="4"/>
                    </a:lnTo>
                    <a:cubicBezTo>
                      <a:pt x="14467" y="4"/>
                      <a:pt x="14468" y="5"/>
                      <a:pt x="14468" y="6"/>
                    </a:cubicBezTo>
                    <a:cubicBezTo>
                      <a:pt x="14468" y="7"/>
                      <a:pt x="14467" y="8"/>
                      <a:pt x="14466" y="8"/>
                    </a:cubicBezTo>
                    <a:lnTo>
                      <a:pt x="14466" y="8"/>
                    </a:lnTo>
                    <a:cubicBezTo>
                      <a:pt x="14465" y="8"/>
                      <a:pt x="14464" y="7"/>
                      <a:pt x="14464" y="6"/>
                    </a:cubicBezTo>
                    <a:cubicBezTo>
                      <a:pt x="14464" y="5"/>
                      <a:pt x="14465" y="4"/>
                      <a:pt x="14466" y="4"/>
                    </a:cubicBezTo>
                    <a:close/>
                    <a:moveTo>
                      <a:pt x="14474" y="4"/>
                    </a:moveTo>
                    <a:lnTo>
                      <a:pt x="14474" y="4"/>
                    </a:lnTo>
                    <a:cubicBezTo>
                      <a:pt x="14475" y="4"/>
                      <a:pt x="14476" y="5"/>
                      <a:pt x="14476" y="6"/>
                    </a:cubicBezTo>
                    <a:cubicBezTo>
                      <a:pt x="14476" y="7"/>
                      <a:pt x="14475" y="8"/>
                      <a:pt x="14474" y="8"/>
                    </a:cubicBezTo>
                    <a:lnTo>
                      <a:pt x="14474" y="8"/>
                    </a:lnTo>
                    <a:cubicBezTo>
                      <a:pt x="14473" y="8"/>
                      <a:pt x="14472" y="7"/>
                      <a:pt x="14472" y="6"/>
                    </a:cubicBezTo>
                    <a:cubicBezTo>
                      <a:pt x="14472" y="5"/>
                      <a:pt x="14473" y="4"/>
                      <a:pt x="14474" y="4"/>
                    </a:cubicBezTo>
                    <a:close/>
                    <a:moveTo>
                      <a:pt x="14482" y="4"/>
                    </a:moveTo>
                    <a:lnTo>
                      <a:pt x="14482" y="4"/>
                    </a:lnTo>
                    <a:cubicBezTo>
                      <a:pt x="14483" y="4"/>
                      <a:pt x="14484" y="5"/>
                      <a:pt x="14484" y="6"/>
                    </a:cubicBezTo>
                    <a:cubicBezTo>
                      <a:pt x="14484" y="7"/>
                      <a:pt x="14483" y="8"/>
                      <a:pt x="14482" y="8"/>
                    </a:cubicBezTo>
                    <a:lnTo>
                      <a:pt x="14482" y="8"/>
                    </a:lnTo>
                    <a:cubicBezTo>
                      <a:pt x="14481" y="8"/>
                      <a:pt x="14480" y="7"/>
                      <a:pt x="14480" y="6"/>
                    </a:cubicBezTo>
                    <a:cubicBezTo>
                      <a:pt x="14480" y="5"/>
                      <a:pt x="14481" y="4"/>
                      <a:pt x="14482" y="4"/>
                    </a:cubicBezTo>
                    <a:close/>
                    <a:moveTo>
                      <a:pt x="14490" y="4"/>
                    </a:moveTo>
                    <a:lnTo>
                      <a:pt x="14490" y="4"/>
                    </a:lnTo>
                    <a:cubicBezTo>
                      <a:pt x="14491" y="4"/>
                      <a:pt x="14492" y="5"/>
                      <a:pt x="14492" y="6"/>
                    </a:cubicBezTo>
                    <a:cubicBezTo>
                      <a:pt x="14492" y="7"/>
                      <a:pt x="14491" y="8"/>
                      <a:pt x="14490" y="8"/>
                    </a:cubicBezTo>
                    <a:lnTo>
                      <a:pt x="14490" y="8"/>
                    </a:lnTo>
                    <a:cubicBezTo>
                      <a:pt x="14489" y="8"/>
                      <a:pt x="14488" y="7"/>
                      <a:pt x="14488" y="6"/>
                    </a:cubicBezTo>
                    <a:cubicBezTo>
                      <a:pt x="14488" y="5"/>
                      <a:pt x="14489" y="4"/>
                      <a:pt x="14490" y="4"/>
                    </a:cubicBezTo>
                    <a:close/>
                    <a:moveTo>
                      <a:pt x="14498" y="4"/>
                    </a:moveTo>
                    <a:lnTo>
                      <a:pt x="14498" y="4"/>
                    </a:lnTo>
                    <a:cubicBezTo>
                      <a:pt x="14499" y="4"/>
                      <a:pt x="14500" y="5"/>
                      <a:pt x="14500" y="6"/>
                    </a:cubicBezTo>
                    <a:cubicBezTo>
                      <a:pt x="14500" y="7"/>
                      <a:pt x="14499" y="8"/>
                      <a:pt x="14498" y="8"/>
                    </a:cubicBezTo>
                    <a:lnTo>
                      <a:pt x="14498" y="8"/>
                    </a:lnTo>
                    <a:cubicBezTo>
                      <a:pt x="14497" y="8"/>
                      <a:pt x="14496" y="7"/>
                      <a:pt x="14496" y="6"/>
                    </a:cubicBezTo>
                    <a:cubicBezTo>
                      <a:pt x="14496" y="5"/>
                      <a:pt x="14497" y="4"/>
                      <a:pt x="14498" y="4"/>
                    </a:cubicBezTo>
                    <a:close/>
                    <a:moveTo>
                      <a:pt x="14506" y="4"/>
                    </a:moveTo>
                    <a:lnTo>
                      <a:pt x="14506" y="4"/>
                    </a:lnTo>
                    <a:cubicBezTo>
                      <a:pt x="14507" y="4"/>
                      <a:pt x="14508" y="5"/>
                      <a:pt x="14508" y="6"/>
                    </a:cubicBezTo>
                    <a:cubicBezTo>
                      <a:pt x="14508" y="7"/>
                      <a:pt x="14507" y="8"/>
                      <a:pt x="14506" y="8"/>
                    </a:cubicBezTo>
                    <a:lnTo>
                      <a:pt x="14506" y="8"/>
                    </a:lnTo>
                    <a:cubicBezTo>
                      <a:pt x="14505" y="8"/>
                      <a:pt x="14504" y="7"/>
                      <a:pt x="14504" y="6"/>
                    </a:cubicBezTo>
                    <a:cubicBezTo>
                      <a:pt x="14504" y="5"/>
                      <a:pt x="14505" y="4"/>
                      <a:pt x="14506" y="4"/>
                    </a:cubicBezTo>
                    <a:close/>
                    <a:moveTo>
                      <a:pt x="14514" y="4"/>
                    </a:moveTo>
                    <a:lnTo>
                      <a:pt x="14514" y="4"/>
                    </a:lnTo>
                    <a:cubicBezTo>
                      <a:pt x="14515" y="4"/>
                      <a:pt x="14516" y="5"/>
                      <a:pt x="14516" y="6"/>
                    </a:cubicBezTo>
                    <a:cubicBezTo>
                      <a:pt x="14516" y="7"/>
                      <a:pt x="14515" y="8"/>
                      <a:pt x="14514" y="8"/>
                    </a:cubicBezTo>
                    <a:lnTo>
                      <a:pt x="14514" y="8"/>
                    </a:lnTo>
                    <a:cubicBezTo>
                      <a:pt x="14513" y="8"/>
                      <a:pt x="14512" y="7"/>
                      <a:pt x="14512" y="6"/>
                    </a:cubicBezTo>
                    <a:cubicBezTo>
                      <a:pt x="14512" y="5"/>
                      <a:pt x="14513" y="4"/>
                      <a:pt x="14514" y="4"/>
                    </a:cubicBezTo>
                    <a:close/>
                    <a:moveTo>
                      <a:pt x="14522" y="4"/>
                    </a:moveTo>
                    <a:lnTo>
                      <a:pt x="14522" y="4"/>
                    </a:lnTo>
                    <a:cubicBezTo>
                      <a:pt x="14523" y="4"/>
                      <a:pt x="14524" y="5"/>
                      <a:pt x="14524" y="6"/>
                    </a:cubicBezTo>
                    <a:cubicBezTo>
                      <a:pt x="14524" y="7"/>
                      <a:pt x="14523" y="8"/>
                      <a:pt x="14522" y="8"/>
                    </a:cubicBezTo>
                    <a:lnTo>
                      <a:pt x="14522" y="8"/>
                    </a:lnTo>
                    <a:cubicBezTo>
                      <a:pt x="14521" y="8"/>
                      <a:pt x="14520" y="7"/>
                      <a:pt x="14520" y="6"/>
                    </a:cubicBezTo>
                    <a:cubicBezTo>
                      <a:pt x="14520" y="5"/>
                      <a:pt x="14521" y="4"/>
                      <a:pt x="14522" y="4"/>
                    </a:cubicBezTo>
                    <a:close/>
                    <a:moveTo>
                      <a:pt x="14530" y="4"/>
                    </a:moveTo>
                    <a:lnTo>
                      <a:pt x="14530" y="4"/>
                    </a:lnTo>
                    <a:cubicBezTo>
                      <a:pt x="14531" y="4"/>
                      <a:pt x="14532" y="5"/>
                      <a:pt x="14532" y="6"/>
                    </a:cubicBezTo>
                    <a:cubicBezTo>
                      <a:pt x="14532" y="7"/>
                      <a:pt x="14531" y="8"/>
                      <a:pt x="14530" y="8"/>
                    </a:cubicBezTo>
                    <a:lnTo>
                      <a:pt x="14530" y="8"/>
                    </a:lnTo>
                    <a:cubicBezTo>
                      <a:pt x="14529" y="8"/>
                      <a:pt x="14528" y="7"/>
                      <a:pt x="14528" y="6"/>
                    </a:cubicBezTo>
                    <a:cubicBezTo>
                      <a:pt x="14528" y="5"/>
                      <a:pt x="14529" y="4"/>
                      <a:pt x="14530" y="4"/>
                    </a:cubicBezTo>
                    <a:close/>
                    <a:moveTo>
                      <a:pt x="14538" y="4"/>
                    </a:moveTo>
                    <a:lnTo>
                      <a:pt x="14538" y="4"/>
                    </a:lnTo>
                    <a:cubicBezTo>
                      <a:pt x="14539" y="4"/>
                      <a:pt x="14540" y="5"/>
                      <a:pt x="14540" y="6"/>
                    </a:cubicBezTo>
                    <a:cubicBezTo>
                      <a:pt x="14540" y="7"/>
                      <a:pt x="14539" y="8"/>
                      <a:pt x="14538" y="8"/>
                    </a:cubicBezTo>
                    <a:lnTo>
                      <a:pt x="14538" y="8"/>
                    </a:lnTo>
                    <a:cubicBezTo>
                      <a:pt x="14537" y="8"/>
                      <a:pt x="14536" y="7"/>
                      <a:pt x="14536" y="6"/>
                    </a:cubicBezTo>
                    <a:cubicBezTo>
                      <a:pt x="14536" y="5"/>
                      <a:pt x="14537" y="4"/>
                      <a:pt x="14538" y="4"/>
                    </a:cubicBezTo>
                    <a:close/>
                    <a:moveTo>
                      <a:pt x="14546" y="4"/>
                    </a:moveTo>
                    <a:lnTo>
                      <a:pt x="14546" y="4"/>
                    </a:lnTo>
                    <a:cubicBezTo>
                      <a:pt x="14547" y="4"/>
                      <a:pt x="14548" y="5"/>
                      <a:pt x="14548" y="6"/>
                    </a:cubicBezTo>
                    <a:cubicBezTo>
                      <a:pt x="14548" y="7"/>
                      <a:pt x="14547" y="8"/>
                      <a:pt x="14546" y="8"/>
                    </a:cubicBezTo>
                    <a:lnTo>
                      <a:pt x="14546" y="8"/>
                    </a:lnTo>
                    <a:cubicBezTo>
                      <a:pt x="14545" y="8"/>
                      <a:pt x="14544" y="7"/>
                      <a:pt x="14544" y="6"/>
                    </a:cubicBezTo>
                    <a:cubicBezTo>
                      <a:pt x="14544" y="5"/>
                      <a:pt x="14545" y="4"/>
                      <a:pt x="14546" y="4"/>
                    </a:cubicBezTo>
                    <a:close/>
                    <a:moveTo>
                      <a:pt x="14554" y="4"/>
                    </a:moveTo>
                    <a:lnTo>
                      <a:pt x="14554" y="4"/>
                    </a:lnTo>
                    <a:cubicBezTo>
                      <a:pt x="14555" y="4"/>
                      <a:pt x="14556" y="5"/>
                      <a:pt x="14556" y="6"/>
                    </a:cubicBezTo>
                    <a:cubicBezTo>
                      <a:pt x="14556" y="7"/>
                      <a:pt x="14555" y="8"/>
                      <a:pt x="14554" y="8"/>
                    </a:cubicBezTo>
                    <a:lnTo>
                      <a:pt x="14554" y="8"/>
                    </a:lnTo>
                    <a:cubicBezTo>
                      <a:pt x="14553" y="8"/>
                      <a:pt x="14552" y="7"/>
                      <a:pt x="14552" y="6"/>
                    </a:cubicBezTo>
                    <a:cubicBezTo>
                      <a:pt x="14552" y="5"/>
                      <a:pt x="14553" y="4"/>
                      <a:pt x="14554" y="4"/>
                    </a:cubicBezTo>
                    <a:close/>
                    <a:moveTo>
                      <a:pt x="14562" y="4"/>
                    </a:moveTo>
                    <a:lnTo>
                      <a:pt x="14562" y="4"/>
                    </a:lnTo>
                    <a:cubicBezTo>
                      <a:pt x="14563" y="4"/>
                      <a:pt x="14564" y="5"/>
                      <a:pt x="14564" y="6"/>
                    </a:cubicBezTo>
                    <a:cubicBezTo>
                      <a:pt x="14564" y="7"/>
                      <a:pt x="14563" y="8"/>
                      <a:pt x="14562" y="8"/>
                    </a:cubicBezTo>
                    <a:lnTo>
                      <a:pt x="14562" y="8"/>
                    </a:lnTo>
                    <a:cubicBezTo>
                      <a:pt x="14561" y="8"/>
                      <a:pt x="14560" y="7"/>
                      <a:pt x="14560" y="6"/>
                    </a:cubicBezTo>
                    <a:cubicBezTo>
                      <a:pt x="14560" y="5"/>
                      <a:pt x="14561" y="4"/>
                      <a:pt x="14562" y="4"/>
                    </a:cubicBezTo>
                    <a:close/>
                    <a:moveTo>
                      <a:pt x="14570" y="4"/>
                    </a:moveTo>
                    <a:lnTo>
                      <a:pt x="14570" y="4"/>
                    </a:lnTo>
                    <a:cubicBezTo>
                      <a:pt x="14571" y="4"/>
                      <a:pt x="14572" y="5"/>
                      <a:pt x="14572" y="6"/>
                    </a:cubicBezTo>
                    <a:cubicBezTo>
                      <a:pt x="14572" y="7"/>
                      <a:pt x="14571" y="8"/>
                      <a:pt x="14570" y="8"/>
                    </a:cubicBezTo>
                    <a:lnTo>
                      <a:pt x="14570" y="8"/>
                    </a:lnTo>
                    <a:cubicBezTo>
                      <a:pt x="14569" y="8"/>
                      <a:pt x="14568" y="7"/>
                      <a:pt x="14568" y="6"/>
                    </a:cubicBezTo>
                    <a:cubicBezTo>
                      <a:pt x="14568" y="5"/>
                      <a:pt x="14569" y="4"/>
                      <a:pt x="14570" y="4"/>
                    </a:cubicBezTo>
                    <a:close/>
                    <a:moveTo>
                      <a:pt x="14578" y="4"/>
                    </a:moveTo>
                    <a:lnTo>
                      <a:pt x="14578" y="4"/>
                    </a:lnTo>
                    <a:cubicBezTo>
                      <a:pt x="14579" y="4"/>
                      <a:pt x="14580" y="5"/>
                      <a:pt x="14580" y="6"/>
                    </a:cubicBezTo>
                    <a:cubicBezTo>
                      <a:pt x="14580" y="7"/>
                      <a:pt x="14579" y="8"/>
                      <a:pt x="14578" y="8"/>
                    </a:cubicBezTo>
                    <a:lnTo>
                      <a:pt x="14578" y="8"/>
                    </a:lnTo>
                    <a:cubicBezTo>
                      <a:pt x="14577" y="8"/>
                      <a:pt x="14576" y="7"/>
                      <a:pt x="14576" y="6"/>
                    </a:cubicBezTo>
                    <a:cubicBezTo>
                      <a:pt x="14576" y="5"/>
                      <a:pt x="14577" y="4"/>
                      <a:pt x="14578" y="4"/>
                    </a:cubicBezTo>
                    <a:close/>
                    <a:moveTo>
                      <a:pt x="14586" y="4"/>
                    </a:moveTo>
                    <a:lnTo>
                      <a:pt x="14586" y="4"/>
                    </a:lnTo>
                    <a:cubicBezTo>
                      <a:pt x="14587" y="4"/>
                      <a:pt x="14588" y="5"/>
                      <a:pt x="14588" y="6"/>
                    </a:cubicBezTo>
                    <a:cubicBezTo>
                      <a:pt x="14588" y="7"/>
                      <a:pt x="14587" y="8"/>
                      <a:pt x="14586" y="8"/>
                    </a:cubicBezTo>
                    <a:lnTo>
                      <a:pt x="14586" y="8"/>
                    </a:lnTo>
                    <a:cubicBezTo>
                      <a:pt x="14585" y="8"/>
                      <a:pt x="14584" y="7"/>
                      <a:pt x="14584" y="6"/>
                    </a:cubicBezTo>
                    <a:cubicBezTo>
                      <a:pt x="14584" y="5"/>
                      <a:pt x="14585" y="4"/>
                      <a:pt x="14586" y="4"/>
                    </a:cubicBezTo>
                    <a:close/>
                    <a:moveTo>
                      <a:pt x="14594" y="4"/>
                    </a:moveTo>
                    <a:lnTo>
                      <a:pt x="14594" y="4"/>
                    </a:lnTo>
                    <a:cubicBezTo>
                      <a:pt x="14595" y="4"/>
                      <a:pt x="14596" y="5"/>
                      <a:pt x="14596" y="6"/>
                    </a:cubicBezTo>
                    <a:cubicBezTo>
                      <a:pt x="14596" y="7"/>
                      <a:pt x="14595" y="8"/>
                      <a:pt x="14594" y="8"/>
                    </a:cubicBezTo>
                    <a:lnTo>
                      <a:pt x="14594" y="8"/>
                    </a:lnTo>
                    <a:cubicBezTo>
                      <a:pt x="14593" y="8"/>
                      <a:pt x="14592" y="7"/>
                      <a:pt x="14592" y="6"/>
                    </a:cubicBezTo>
                    <a:cubicBezTo>
                      <a:pt x="14592" y="5"/>
                      <a:pt x="14593" y="4"/>
                      <a:pt x="14594" y="4"/>
                    </a:cubicBezTo>
                    <a:close/>
                    <a:moveTo>
                      <a:pt x="14602" y="4"/>
                    </a:moveTo>
                    <a:lnTo>
                      <a:pt x="14602" y="4"/>
                    </a:lnTo>
                    <a:cubicBezTo>
                      <a:pt x="14603" y="4"/>
                      <a:pt x="14604" y="5"/>
                      <a:pt x="14604" y="6"/>
                    </a:cubicBezTo>
                    <a:cubicBezTo>
                      <a:pt x="14604" y="7"/>
                      <a:pt x="14603" y="8"/>
                      <a:pt x="14602" y="8"/>
                    </a:cubicBezTo>
                    <a:lnTo>
                      <a:pt x="14602" y="8"/>
                    </a:lnTo>
                    <a:cubicBezTo>
                      <a:pt x="14601" y="8"/>
                      <a:pt x="14600" y="7"/>
                      <a:pt x="14600" y="6"/>
                    </a:cubicBezTo>
                    <a:cubicBezTo>
                      <a:pt x="14600" y="5"/>
                      <a:pt x="14601" y="4"/>
                      <a:pt x="14602" y="4"/>
                    </a:cubicBezTo>
                    <a:close/>
                    <a:moveTo>
                      <a:pt x="14610" y="4"/>
                    </a:moveTo>
                    <a:lnTo>
                      <a:pt x="14610" y="4"/>
                    </a:lnTo>
                    <a:cubicBezTo>
                      <a:pt x="14611" y="4"/>
                      <a:pt x="14612" y="5"/>
                      <a:pt x="14612" y="6"/>
                    </a:cubicBezTo>
                    <a:cubicBezTo>
                      <a:pt x="14612" y="7"/>
                      <a:pt x="14611" y="8"/>
                      <a:pt x="14610" y="8"/>
                    </a:cubicBezTo>
                    <a:lnTo>
                      <a:pt x="14610" y="8"/>
                    </a:lnTo>
                    <a:cubicBezTo>
                      <a:pt x="14609" y="8"/>
                      <a:pt x="14608" y="7"/>
                      <a:pt x="14608" y="6"/>
                    </a:cubicBezTo>
                    <a:cubicBezTo>
                      <a:pt x="14608" y="5"/>
                      <a:pt x="14609" y="4"/>
                      <a:pt x="14610" y="4"/>
                    </a:cubicBezTo>
                    <a:close/>
                    <a:moveTo>
                      <a:pt x="14618" y="4"/>
                    </a:moveTo>
                    <a:lnTo>
                      <a:pt x="14618" y="4"/>
                    </a:lnTo>
                    <a:cubicBezTo>
                      <a:pt x="14619" y="4"/>
                      <a:pt x="14620" y="5"/>
                      <a:pt x="14620" y="6"/>
                    </a:cubicBezTo>
                    <a:cubicBezTo>
                      <a:pt x="14620" y="7"/>
                      <a:pt x="14619" y="8"/>
                      <a:pt x="14618" y="8"/>
                    </a:cubicBezTo>
                    <a:lnTo>
                      <a:pt x="14618" y="8"/>
                    </a:lnTo>
                    <a:cubicBezTo>
                      <a:pt x="14617" y="8"/>
                      <a:pt x="14616" y="7"/>
                      <a:pt x="14616" y="6"/>
                    </a:cubicBezTo>
                    <a:cubicBezTo>
                      <a:pt x="14616" y="5"/>
                      <a:pt x="14617" y="4"/>
                      <a:pt x="14618" y="4"/>
                    </a:cubicBezTo>
                    <a:close/>
                    <a:moveTo>
                      <a:pt x="14626" y="4"/>
                    </a:moveTo>
                    <a:lnTo>
                      <a:pt x="14626" y="4"/>
                    </a:lnTo>
                    <a:cubicBezTo>
                      <a:pt x="14627" y="4"/>
                      <a:pt x="14628" y="5"/>
                      <a:pt x="14628" y="6"/>
                    </a:cubicBezTo>
                    <a:cubicBezTo>
                      <a:pt x="14628" y="7"/>
                      <a:pt x="14627" y="8"/>
                      <a:pt x="14626" y="8"/>
                    </a:cubicBezTo>
                    <a:lnTo>
                      <a:pt x="14626" y="8"/>
                    </a:lnTo>
                    <a:cubicBezTo>
                      <a:pt x="14625" y="8"/>
                      <a:pt x="14624" y="7"/>
                      <a:pt x="14624" y="6"/>
                    </a:cubicBezTo>
                    <a:cubicBezTo>
                      <a:pt x="14624" y="5"/>
                      <a:pt x="14625" y="4"/>
                      <a:pt x="14626" y="4"/>
                    </a:cubicBezTo>
                    <a:close/>
                    <a:moveTo>
                      <a:pt x="14634" y="4"/>
                    </a:moveTo>
                    <a:lnTo>
                      <a:pt x="14634" y="4"/>
                    </a:lnTo>
                    <a:cubicBezTo>
                      <a:pt x="14635" y="4"/>
                      <a:pt x="14636" y="5"/>
                      <a:pt x="14636" y="6"/>
                    </a:cubicBezTo>
                    <a:cubicBezTo>
                      <a:pt x="14636" y="7"/>
                      <a:pt x="14635" y="8"/>
                      <a:pt x="14634" y="8"/>
                    </a:cubicBezTo>
                    <a:lnTo>
                      <a:pt x="14634" y="8"/>
                    </a:lnTo>
                    <a:cubicBezTo>
                      <a:pt x="14633" y="8"/>
                      <a:pt x="14632" y="7"/>
                      <a:pt x="14632" y="6"/>
                    </a:cubicBezTo>
                    <a:cubicBezTo>
                      <a:pt x="14632" y="5"/>
                      <a:pt x="14633" y="4"/>
                      <a:pt x="14634" y="4"/>
                    </a:cubicBezTo>
                    <a:close/>
                    <a:moveTo>
                      <a:pt x="14642" y="4"/>
                    </a:moveTo>
                    <a:lnTo>
                      <a:pt x="14642" y="4"/>
                    </a:lnTo>
                    <a:cubicBezTo>
                      <a:pt x="14643" y="4"/>
                      <a:pt x="14644" y="5"/>
                      <a:pt x="14644" y="6"/>
                    </a:cubicBezTo>
                    <a:cubicBezTo>
                      <a:pt x="14644" y="7"/>
                      <a:pt x="14643" y="8"/>
                      <a:pt x="14642" y="8"/>
                    </a:cubicBezTo>
                    <a:lnTo>
                      <a:pt x="14642" y="8"/>
                    </a:lnTo>
                    <a:cubicBezTo>
                      <a:pt x="14641" y="8"/>
                      <a:pt x="14640" y="7"/>
                      <a:pt x="14640" y="6"/>
                    </a:cubicBezTo>
                    <a:cubicBezTo>
                      <a:pt x="14640" y="5"/>
                      <a:pt x="14641" y="4"/>
                      <a:pt x="14642" y="4"/>
                    </a:cubicBezTo>
                    <a:close/>
                    <a:moveTo>
                      <a:pt x="14650" y="4"/>
                    </a:moveTo>
                    <a:lnTo>
                      <a:pt x="14650" y="4"/>
                    </a:lnTo>
                    <a:cubicBezTo>
                      <a:pt x="14651" y="4"/>
                      <a:pt x="14652" y="5"/>
                      <a:pt x="14652" y="6"/>
                    </a:cubicBezTo>
                    <a:cubicBezTo>
                      <a:pt x="14652" y="7"/>
                      <a:pt x="14651" y="8"/>
                      <a:pt x="14650" y="8"/>
                    </a:cubicBezTo>
                    <a:lnTo>
                      <a:pt x="14650" y="8"/>
                    </a:lnTo>
                    <a:cubicBezTo>
                      <a:pt x="14649" y="8"/>
                      <a:pt x="14648" y="7"/>
                      <a:pt x="14648" y="6"/>
                    </a:cubicBezTo>
                    <a:cubicBezTo>
                      <a:pt x="14648" y="5"/>
                      <a:pt x="14649" y="4"/>
                      <a:pt x="14650" y="4"/>
                    </a:cubicBezTo>
                    <a:close/>
                    <a:moveTo>
                      <a:pt x="14658" y="4"/>
                    </a:moveTo>
                    <a:lnTo>
                      <a:pt x="14658" y="4"/>
                    </a:lnTo>
                    <a:cubicBezTo>
                      <a:pt x="14659" y="4"/>
                      <a:pt x="14660" y="5"/>
                      <a:pt x="14660" y="6"/>
                    </a:cubicBezTo>
                    <a:cubicBezTo>
                      <a:pt x="14660" y="7"/>
                      <a:pt x="14659" y="8"/>
                      <a:pt x="14658" y="8"/>
                    </a:cubicBezTo>
                    <a:lnTo>
                      <a:pt x="14658" y="8"/>
                    </a:lnTo>
                    <a:cubicBezTo>
                      <a:pt x="14657" y="8"/>
                      <a:pt x="14656" y="7"/>
                      <a:pt x="14656" y="6"/>
                    </a:cubicBezTo>
                    <a:cubicBezTo>
                      <a:pt x="14656" y="5"/>
                      <a:pt x="14657" y="4"/>
                      <a:pt x="14658" y="4"/>
                    </a:cubicBezTo>
                    <a:close/>
                    <a:moveTo>
                      <a:pt x="14666" y="4"/>
                    </a:moveTo>
                    <a:lnTo>
                      <a:pt x="14666" y="4"/>
                    </a:lnTo>
                    <a:cubicBezTo>
                      <a:pt x="14667" y="4"/>
                      <a:pt x="14668" y="5"/>
                      <a:pt x="14668" y="6"/>
                    </a:cubicBezTo>
                    <a:cubicBezTo>
                      <a:pt x="14668" y="7"/>
                      <a:pt x="14667" y="8"/>
                      <a:pt x="14666" y="8"/>
                    </a:cubicBezTo>
                    <a:lnTo>
                      <a:pt x="14666" y="8"/>
                    </a:lnTo>
                    <a:cubicBezTo>
                      <a:pt x="14665" y="8"/>
                      <a:pt x="14664" y="7"/>
                      <a:pt x="14664" y="6"/>
                    </a:cubicBezTo>
                    <a:cubicBezTo>
                      <a:pt x="14664" y="5"/>
                      <a:pt x="14665" y="4"/>
                      <a:pt x="14666" y="4"/>
                    </a:cubicBezTo>
                    <a:close/>
                    <a:moveTo>
                      <a:pt x="14674" y="4"/>
                    </a:moveTo>
                    <a:lnTo>
                      <a:pt x="14674" y="4"/>
                    </a:lnTo>
                    <a:cubicBezTo>
                      <a:pt x="14675" y="4"/>
                      <a:pt x="14676" y="5"/>
                      <a:pt x="14676" y="6"/>
                    </a:cubicBezTo>
                    <a:cubicBezTo>
                      <a:pt x="14676" y="7"/>
                      <a:pt x="14675" y="8"/>
                      <a:pt x="14674" y="8"/>
                    </a:cubicBezTo>
                    <a:lnTo>
                      <a:pt x="14674" y="8"/>
                    </a:lnTo>
                    <a:cubicBezTo>
                      <a:pt x="14673" y="8"/>
                      <a:pt x="14672" y="7"/>
                      <a:pt x="14672" y="6"/>
                    </a:cubicBezTo>
                    <a:cubicBezTo>
                      <a:pt x="14672" y="5"/>
                      <a:pt x="14673" y="4"/>
                      <a:pt x="14674" y="4"/>
                    </a:cubicBezTo>
                    <a:close/>
                    <a:moveTo>
                      <a:pt x="14682" y="4"/>
                    </a:moveTo>
                    <a:lnTo>
                      <a:pt x="14682" y="4"/>
                    </a:lnTo>
                    <a:cubicBezTo>
                      <a:pt x="14683" y="4"/>
                      <a:pt x="14684" y="5"/>
                      <a:pt x="14684" y="6"/>
                    </a:cubicBezTo>
                    <a:cubicBezTo>
                      <a:pt x="14684" y="7"/>
                      <a:pt x="14683" y="8"/>
                      <a:pt x="14682" y="8"/>
                    </a:cubicBezTo>
                    <a:lnTo>
                      <a:pt x="14682" y="8"/>
                    </a:lnTo>
                    <a:cubicBezTo>
                      <a:pt x="14681" y="8"/>
                      <a:pt x="14680" y="7"/>
                      <a:pt x="14680" y="6"/>
                    </a:cubicBezTo>
                    <a:cubicBezTo>
                      <a:pt x="14680" y="5"/>
                      <a:pt x="14681" y="4"/>
                      <a:pt x="14682" y="4"/>
                    </a:cubicBezTo>
                    <a:close/>
                    <a:moveTo>
                      <a:pt x="14690" y="4"/>
                    </a:moveTo>
                    <a:lnTo>
                      <a:pt x="14690" y="4"/>
                    </a:lnTo>
                    <a:cubicBezTo>
                      <a:pt x="14691" y="4"/>
                      <a:pt x="14692" y="5"/>
                      <a:pt x="14692" y="6"/>
                    </a:cubicBezTo>
                    <a:cubicBezTo>
                      <a:pt x="14692" y="7"/>
                      <a:pt x="14691" y="8"/>
                      <a:pt x="14690" y="8"/>
                    </a:cubicBezTo>
                    <a:lnTo>
                      <a:pt x="14690" y="8"/>
                    </a:lnTo>
                    <a:cubicBezTo>
                      <a:pt x="14689" y="8"/>
                      <a:pt x="14688" y="7"/>
                      <a:pt x="14688" y="6"/>
                    </a:cubicBezTo>
                    <a:cubicBezTo>
                      <a:pt x="14688" y="5"/>
                      <a:pt x="14689" y="4"/>
                      <a:pt x="14690" y="4"/>
                    </a:cubicBezTo>
                    <a:close/>
                    <a:moveTo>
                      <a:pt x="14698" y="4"/>
                    </a:moveTo>
                    <a:lnTo>
                      <a:pt x="14698" y="4"/>
                    </a:lnTo>
                    <a:cubicBezTo>
                      <a:pt x="14699" y="4"/>
                      <a:pt x="14700" y="5"/>
                      <a:pt x="14700" y="6"/>
                    </a:cubicBezTo>
                    <a:cubicBezTo>
                      <a:pt x="14700" y="7"/>
                      <a:pt x="14699" y="8"/>
                      <a:pt x="14698" y="8"/>
                    </a:cubicBezTo>
                    <a:lnTo>
                      <a:pt x="14698" y="8"/>
                    </a:lnTo>
                    <a:cubicBezTo>
                      <a:pt x="14697" y="8"/>
                      <a:pt x="14696" y="7"/>
                      <a:pt x="14696" y="6"/>
                    </a:cubicBezTo>
                    <a:cubicBezTo>
                      <a:pt x="14696" y="5"/>
                      <a:pt x="14697" y="4"/>
                      <a:pt x="14698" y="4"/>
                    </a:cubicBezTo>
                    <a:close/>
                    <a:moveTo>
                      <a:pt x="14706" y="4"/>
                    </a:moveTo>
                    <a:lnTo>
                      <a:pt x="14706" y="4"/>
                    </a:lnTo>
                    <a:cubicBezTo>
                      <a:pt x="14707" y="4"/>
                      <a:pt x="14708" y="5"/>
                      <a:pt x="14708" y="6"/>
                    </a:cubicBezTo>
                    <a:cubicBezTo>
                      <a:pt x="14708" y="7"/>
                      <a:pt x="14707" y="8"/>
                      <a:pt x="14706" y="8"/>
                    </a:cubicBezTo>
                    <a:lnTo>
                      <a:pt x="14706" y="8"/>
                    </a:lnTo>
                    <a:cubicBezTo>
                      <a:pt x="14705" y="8"/>
                      <a:pt x="14704" y="7"/>
                      <a:pt x="14704" y="6"/>
                    </a:cubicBezTo>
                    <a:cubicBezTo>
                      <a:pt x="14704" y="5"/>
                      <a:pt x="14705" y="4"/>
                      <a:pt x="14706" y="4"/>
                    </a:cubicBezTo>
                    <a:close/>
                    <a:moveTo>
                      <a:pt x="14714" y="4"/>
                    </a:moveTo>
                    <a:lnTo>
                      <a:pt x="14714" y="4"/>
                    </a:lnTo>
                    <a:cubicBezTo>
                      <a:pt x="14715" y="4"/>
                      <a:pt x="14716" y="5"/>
                      <a:pt x="14716" y="6"/>
                    </a:cubicBezTo>
                    <a:cubicBezTo>
                      <a:pt x="14716" y="7"/>
                      <a:pt x="14715" y="8"/>
                      <a:pt x="14714" y="8"/>
                    </a:cubicBezTo>
                    <a:lnTo>
                      <a:pt x="14714" y="8"/>
                    </a:lnTo>
                    <a:cubicBezTo>
                      <a:pt x="14713" y="8"/>
                      <a:pt x="14712" y="7"/>
                      <a:pt x="14712" y="6"/>
                    </a:cubicBezTo>
                    <a:cubicBezTo>
                      <a:pt x="14712" y="5"/>
                      <a:pt x="14713" y="4"/>
                      <a:pt x="14714" y="4"/>
                    </a:cubicBezTo>
                    <a:close/>
                    <a:moveTo>
                      <a:pt x="14722" y="4"/>
                    </a:moveTo>
                    <a:lnTo>
                      <a:pt x="14722" y="4"/>
                    </a:lnTo>
                    <a:cubicBezTo>
                      <a:pt x="14723" y="4"/>
                      <a:pt x="14724" y="5"/>
                      <a:pt x="14724" y="6"/>
                    </a:cubicBezTo>
                    <a:cubicBezTo>
                      <a:pt x="14724" y="7"/>
                      <a:pt x="14723" y="8"/>
                      <a:pt x="14722" y="8"/>
                    </a:cubicBezTo>
                    <a:lnTo>
                      <a:pt x="14722" y="8"/>
                    </a:lnTo>
                    <a:cubicBezTo>
                      <a:pt x="14721" y="8"/>
                      <a:pt x="14720" y="7"/>
                      <a:pt x="14720" y="6"/>
                    </a:cubicBezTo>
                    <a:cubicBezTo>
                      <a:pt x="14720" y="5"/>
                      <a:pt x="14721" y="4"/>
                      <a:pt x="14722" y="4"/>
                    </a:cubicBezTo>
                    <a:close/>
                    <a:moveTo>
                      <a:pt x="14730" y="4"/>
                    </a:moveTo>
                    <a:lnTo>
                      <a:pt x="14730" y="4"/>
                    </a:lnTo>
                    <a:cubicBezTo>
                      <a:pt x="14731" y="4"/>
                      <a:pt x="14732" y="5"/>
                      <a:pt x="14732" y="6"/>
                    </a:cubicBezTo>
                    <a:cubicBezTo>
                      <a:pt x="14732" y="7"/>
                      <a:pt x="14731" y="8"/>
                      <a:pt x="14730" y="8"/>
                    </a:cubicBezTo>
                    <a:lnTo>
                      <a:pt x="14730" y="8"/>
                    </a:lnTo>
                    <a:cubicBezTo>
                      <a:pt x="14729" y="8"/>
                      <a:pt x="14728" y="7"/>
                      <a:pt x="14728" y="6"/>
                    </a:cubicBezTo>
                    <a:cubicBezTo>
                      <a:pt x="14728" y="5"/>
                      <a:pt x="14729" y="4"/>
                      <a:pt x="14730" y="4"/>
                    </a:cubicBezTo>
                    <a:close/>
                    <a:moveTo>
                      <a:pt x="14738" y="4"/>
                    </a:moveTo>
                    <a:lnTo>
                      <a:pt x="14738" y="4"/>
                    </a:lnTo>
                    <a:cubicBezTo>
                      <a:pt x="14739" y="4"/>
                      <a:pt x="14740" y="5"/>
                      <a:pt x="14740" y="6"/>
                    </a:cubicBezTo>
                    <a:cubicBezTo>
                      <a:pt x="14740" y="7"/>
                      <a:pt x="14739" y="8"/>
                      <a:pt x="14738" y="8"/>
                    </a:cubicBezTo>
                    <a:lnTo>
                      <a:pt x="14738" y="8"/>
                    </a:lnTo>
                    <a:cubicBezTo>
                      <a:pt x="14737" y="8"/>
                      <a:pt x="14736" y="7"/>
                      <a:pt x="14736" y="6"/>
                    </a:cubicBezTo>
                    <a:cubicBezTo>
                      <a:pt x="14736" y="5"/>
                      <a:pt x="14737" y="4"/>
                      <a:pt x="14738" y="4"/>
                    </a:cubicBezTo>
                    <a:close/>
                    <a:moveTo>
                      <a:pt x="14746" y="4"/>
                    </a:moveTo>
                    <a:lnTo>
                      <a:pt x="14746" y="4"/>
                    </a:lnTo>
                    <a:cubicBezTo>
                      <a:pt x="14747" y="4"/>
                      <a:pt x="14748" y="5"/>
                      <a:pt x="14748" y="6"/>
                    </a:cubicBezTo>
                    <a:cubicBezTo>
                      <a:pt x="14748" y="7"/>
                      <a:pt x="14747" y="8"/>
                      <a:pt x="14746" y="8"/>
                    </a:cubicBezTo>
                    <a:lnTo>
                      <a:pt x="14746" y="8"/>
                    </a:lnTo>
                    <a:cubicBezTo>
                      <a:pt x="14745" y="8"/>
                      <a:pt x="14744" y="7"/>
                      <a:pt x="14744" y="6"/>
                    </a:cubicBezTo>
                    <a:cubicBezTo>
                      <a:pt x="14744" y="5"/>
                      <a:pt x="14745" y="4"/>
                      <a:pt x="14746" y="4"/>
                    </a:cubicBezTo>
                    <a:close/>
                    <a:moveTo>
                      <a:pt x="14754" y="4"/>
                    </a:moveTo>
                    <a:lnTo>
                      <a:pt x="14754" y="4"/>
                    </a:lnTo>
                    <a:cubicBezTo>
                      <a:pt x="14755" y="4"/>
                      <a:pt x="14756" y="5"/>
                      <a:pt x="14756" y="6"/>
                    </a:cubicBezTo>
                    <a:cubicBezTo>
                      <a:pt x="14756" y="7"/>
                      <a:pt x="14755" y="8"/>
                      <a:pt x="14754" y="8"/>
                    </a:cubicBezTo>
                    <a:lnTo>
                      <a:pt x="14754" y="8"/>
                    </a:lnTo>
                    <a:cubicBezTo>
                      <a:pt x="14753" y="8"/>
                      <a:pt x="14752" y="7"/>
                      <a:pt x="14752" y="6"/>
                    </a:cubicBezTo>
                    <a:cubicBezTo>
                      <a:pt x="14752" y="5"/>
                      <a:pt x="14753" y="4"/>
                      <a:pt x="14754" y="4"/>
                    </a:cubicBezTo>
                    <a:close/>
                    <a:moveTo>
                      <a:pt x="14762" y="4"/>
                    </a:moveTo>
                    <a:lnTo>
                      <a:pt x="14762" y="4"/>
                    </a:lnTo>
                    <a:cubicBezTo>
                      <a:pt x="14763" y="4"/>
                      <a:pt x="14764" y="5"/>
                      <a:pt x="14764" y="6"/>
                    </a:cubicBezTo>
                    <a:cubicBezTo>
                      <a:pt x="14764" y="7"/>
                      <a:pt x="14763" y="8"/>
                      <a:pt x="14762" y="8"/>
                    </a:cubicBezTo>
                    <a:lnTo>
                      <a:pt x="14762" y="8"/>
                    </a:lnTo>
                    <a:cubicBezTo>
                      <a:pt x="14761" y="8"/>
                      <a:pt x="14760" y="7"/>
                      <a:pt x="14760" y="6"/>
                    </a:cubicBezTo>
                    <a:cubicBezTo>
                      <a:pt x="14760" y="5"/>
                      <a:pt x="14761" y="4"/>
                      <a:pt x="14762" y="4"/>
                    </a:cubicBezTo>
                    <a:close/>
                    <a:moveTo>
                      <a:pt x="14770" y="4"/>
                    </a:moveTo>
                    <a:lnTo>
                      <a:pt x="14770" y="4"/>
                    </a:lnTo>
                    <a:cubicBezTo>
                      <a:pt x="14771" y="4"/>
                      <a:pt x="14772" y="5"/>
                      <a:pt x="14772" y="6"/>
                    </a:cubicBezTo>
                    <a:cubicBezTo>
                      <a:pt x="14772" y="7"/>
                      <a:pt x="14771" y="8"/>
                      <a:pt x="14770" y="8"/>
                    </a:cubicBezTo>
                    <a:lnTo>
                      <a:pt x="14770" y="8"/>
                    </a:lnTo>
                    <a:cubicBezTo>
                      <a:pt x="14769" y="8"/>
                      <a:pt x="14768" y="7"/>
                      <a:pt x="14768" y="6"/>
                    </a:cubicBezTo>
                    <a:cubicBezTo>
                      <a:pt x="14768" y="5"/>
                      <a:pt x="14769" y="4"/>
                      <a:pt x="14770" y="4"/>
                    </a:cubicBezTo>
                    <a:close/>
                    <a:moveTo>
                      <a:pt x="14778" y="4"/>
                    </a:moveTo>
                    <a:lnTo>
                      <a:pt x="14778" y="4"/>
                    </a:lnTo>
                    <a:cubicBezTo>
                      <a:pt x="14779" y="4"/>
                      <a:pt x="14780" y="5"/>
                      <a:pt x="14780" y="6"/>
                    </a:cubicBezTo>
                    <a:cubicBezTo>
                      <a:pt x="14780" y="7"/>
                      <a:pt x="14779" y="8"/>
                      <a:pt x="14778" y="8"/>
                    </a:cubicBezTo>
                    <a:lnTo>
                      <a:pt x="14778" y="8"/>
                    </a:lnTo>
                    <a:cubicBezTo>
                      <a:pt x="14777" y="8"/>
                      <a:pt x="14776" y="7"/>
                      <a:pt x="14776" y="6"/>
                    </a:cubicBezTo>
                    <a:cubicBezTo>
                      <a:pt x="14776" y="5"/>
                      <a:pt x="14777" y="4"/>
                      <a:pt x="14778" y="4"/>
                    </a:cubicBezTo>
                    <a:close/>
                    <a:moveTo>
                      <a:pt x="14786" y="4"/>
                    </a:moveTo>
                    <a:lnTo>
                      <a:pt x="14786" y="4"/>
                    </a:lnTo>
                    <a:cubicBezTo>
                      <a:pt x="14787" y="4"/>
                      <a:pt x="14788" y="5"/>
                      <a:pt x="14788" y="6"/>
                    </a:cubicBezTo>
                    <a:cubicBezTo>
                      <a:pt x="14788" y="7"/>
                      <a:pt x="14787" y="8"/>
                      <a:pt x="14786" y="8"/>
                    </a:cubicBezTo>
                    <a:lnTo>
                      <a:pt x="14786" y="8"/>
                    </a:lnTo>
                    <a:cubicBezTo>
                      <a:pt x="14785" y="8"/>
                      <a:pt x="14784" y="7"/>
                      <a:pt x="14784" y="6"/>
                    </a:cubicBezTo>
                    <a:cubicBezTo>
                      <a:pt x="14784" y="5"/>
                      <a:pt x="14785" y="4"/>
                      <a:pt x="14786" y="4"/>
                    </a:cubicBezTo>
                    <a:close/>
                    <a:moveTo>
                      <a:pt x="14794" y="4"/>
                    </a:moveTo>
                    <a:lnTo>
                      <a:pt x="14794" y="4"/>
                    </a:lnTo>
                    <a:cubicBezTo>
                      <a:pt x="14795" y="4"/>
                      <a:pt x="14796" y="5"/>
                      <a:pt x="14796" y="6"/>
                    </a:cubicBezTo>
                    <a:cubicBezTo>
                      <a:pt x="14796" y="7"/>
                      <a:pt x="14795" y="8"/>
                      <a:pt x="14794" y="8"/>
                    </a:cubicBezTo>
                    <a:lnTo>
                      <a:pt x="14794" y="8"/>
                    </a:lnTo>
                    <a:cubicBezTo>
                      <a:pt x="14793" y="8"/>
                      <a:pt x="14792" y="7"/>
                      <a:pt x="14792" y="6"/>
                    </a:cubicBezTo>
                    <a:cubicBezTo>
                      <a:pt x="14792" y="5"/>
                      <a:pt x="14793" y="4"/>
                      <a:pt x="14794" y="4"/>
                    </a:cubicBezTo>
                    <a:close/>
                    <a:moveTo>
                      <a:pt x="14802" y="4"/>
                    </a:moveTo>
                    <a:lnTo>
                      <a:pt x="14802" y="4"/>
                    </a:lnTo>
                    <a:cubicBezTo>
                      <a:pt x="14803" y="4"/>
                      <a:pt x="14804" y="5"/>
                      <a:pt x="14804" y="6"/>
                    </a:cubicBezTo>
                    <a:cubicBezTo>
                      <a:pt x="14804" y="7"/>
                      <a:pt x="14803" y="8"/>
                      <a:pt x="14802" y="8"/>
                    </a:cubicBezTo>
                    <a:lnTo>
                      <a:pt x="14802" y="8"/>
                    </a:lnTo>
                    <a:cubicBezTo>
                      <a:pt x="14801" y="8"/>
                      <a:pt x="14800" y="7"/>
                      <a:pt x="14800" y="6"/>
                    </a:cubicBezTo>
                    <a:cubicBezTo>
                      <a:pt x="14800" y="5"/>
                      <a:pt x="14801" y="4"/>
                      <a:pt x="14802" y="4"/>
                    </a:cubicBezTo>
                    <a:close/>
                    <a:moveTo>
                      <a:pt x="14810" y="4"/>
                    </a:moveTo>
                    <a:lnTo>
                      <a:pt x="14810" y="4"/>
                    </a:lnTo>
                    <a:cubicBezTo>
                      <a:pt x="14811" y="4"/>
                      <a:pt x="14812" y="5"/>
                      <a:pt x="14812" y="6"/>
                    </a:cubicBezTo>
                    <a:cubicBezTo>
                      <a:pt x="14812" y="7"/>
                      <a:pt x="14811" y="8"/>
                      <a:pt x="14810" y="8"/>
                    </a:cubicBezTo>
                    <a:lnTo>
                      <a:pt x="14810" y="8"/>
                    </a:lnTo>
                    <a:cubicBezTo>
                      <a:pt x="14809" y="8"/>
                      <a:pt x="14808" y="7"/>
                      <a:pt x="14808" y="6"/>
                    </a:cubicBezTo>
                    <a:cubicBezTo>
                      <a:pt x="14808" y="5"/>
                      <a:pt x="14809" y="4"/>
                      <a:pt x="14810" y="4"/>
                    </a:cubicBezTo>
                    <a:close/>
                    <a:moveTo>
                      <a:pt x="14818" y="4"/>
                    </a:moveTo>
                    <a:lnTo>
                      <a:pt x="14818" y="4"/>
                    </a:lnTo>
                    <a:cubicBezTo>
                      <a:pt x="14819" y="4"/>
                      <a:pt x="14820" y="5"/>
                      <a:pt x="14820" y="6"/>
                    </a:cubicBezTo>
                    <a:cubicBezTo>
                      <a:pt x="14820" y="7"/>
                      <a:pt x="14819" y="8"/>
                      <a:pt x="14818" y="8"/>
                    </a:cubicBezTo>
                    <a:lnTo>
                      <a:pt x="14818" y="8"/>
                    </a:lnTo>
                    <a:cubicBezTo>
                      <a:pt x="14817" y="8"/>
                      <a:pt x="14816" y="7"/>
                      <a:pt x="14816" y="6"/>
                    </a:cubicBezTo>
                    <a:cubicBezTo>
                      <a:pt x="14816" y="5"/>
                      <a:pt x="14817" y="4"/>
                      <a:pt x="14818" y="4"/>
                    </a:cubicBezTo>
                    <a:close/>
                    <a:moveTo>
                      <a:pt x="14826" y="4"/>
                    </a:moveTo>
                    <a:lnTo>
                      <a:pt x="14826" y="4"/>
                    </a:lnTo>
                    <a:cubicBezTo>
                      <a:pt x="14827" y="4"/>
                      <a:pt x="14828" y="5"/>
                      <a:pt x="14828" y="6"/>
                    </a:cubicBezTo>
                    <a:cubicBezTo>
                      <a:pt x="14828" y="7"/>
                      <a:pt x="14827" y="8"/>
                      <a:pt x="14826" y="8"/>
                    </a:cubicBezTo>
                    <a:lnTo>
                      <a:pt x="14826" y="8"/>
                    </a:lnTo>
                    <a:cubicBezTo>
                      <a:pt x="14825" y="8"/>
                      <a:pt x="14824" y="7"/>
                      <a:pt x="14824" y="6"/>
                    </a:cubicBezTo>
                    <a:cubicBezTo>
                      <a:pt x="14824" y="5"/>
                      <a:pt x="14825" y="4"/>
                      <a:pt x="14826" y="4"/>
                    </a:cubicBezTo>
                    <a:close/>
                    <a:moveTo>
                      <a:pt x="14834" y="4"/>
                    </a:moveTo>
                    <a:lnTo>
                      <a:pt x="14834" y="4"/>
                    </a:lnTo>
                    <a:cubicBezTo>
                      <a:pt x="14835" y="4"/>
                      <a:pt x="14836" y="5"/>
                      <a:pt x="14836" y="6"/>
                    </a:cubicBezTo>
                    <a:cubicBezTo>
                      <a:pt x="14836" y="7"/>
                      <a:pt x="14835" y="8"/>
                      <a:pt x="14834" y="8"/>
                    </a:cubicBezTo>
                    <a:lnTo>
                      <a:pt x="14834" y="8"/>
                    </a:lnTo>
                    <a:cubicBezTo>
                      <a:pt x="14833" y="8"/>
                      <a:pt x="14832" y="7"/>
                      <a:pt x="14832" y="6"/>
                    </a:cubicBezTo>
                    <a:cubicBezTo>
                      <a:pt x="14832" y="5"/>
                      <a:pt x="14833" y="4"/>
                      <a:pt x="14834" y="4"/>
                    </a:cubicBezTo>
                    <a:close/>
                    <a:moveTo>
                      <a:pt x="14842" y="4"/>
                    </a:moveTo>
                    <a:lnTo>
                      <a:pt x="14842" y="4"/>
                    </a:lnTo>
                    <a:cubicBezTo>
                      <a:pt x="14843" y="4"/>
                      <a:pt x="14844" y="5"/>
                      <a:pt x="14844" y="6"/>
                    </a:cubicBezTo>
                    <a:cubicBezTo>
                      <a:pt x="14844" y="7"/>
                      <a:pt x="14843" y="8"/>
                      <a:pt x="14842" y="8"/>
                    </a:cubicBezTo>
                    <a:lnTo>
                      <a:pt x="14842" y="8"/>
                    </a:lnTo>
                    <a:cubicBezTo>
                      <a:pt x="14841" y="8"/>
                      <a:pt x="14840" y="7"/>
                      <a:pt x="14840" y="6"/>
                    </a:cubicBezTo>
                    <a:cubicBezTo>
                      <a:pt x="14840" y="5"/>
                      <a:pt x="14841" y="4"/>
                      <a:pt x="14842" y="4"/>
                    </a:cubicBezTo>
                    <a:close/>
                    <a:moveTo>
                      <a:pt x="14850" y="4"/>
                    </a:moveTo>
                    <a:lnTo>
                      <a:pt x="14850" y="4"/>
                    </a:lnTo>
                    <a:cubicBezTo>
                      <a:pt x="14851" y="4"/>
                      <a:pt x="14852" y="5"/>
                      <a:pt x="14852" y="6"/>
                    </a:cubicBezTo>
                    <a:cubicBezTo>
                      <a:pt x="14852" y="7"/>
                      <a:pt x="14851" y="8"/>
                      <a:pt x="14850" y="8"/>
                    </a:cubicBezTo>
                    <a:lnTo>
                      <a:pt x="14850" y="8"/>
                    </a:lnTo>
                    <a:cubicBezTo>
                      <a:pt x="14849" y="8"/>
                      <a:pt x="14848" y="7"/>
                      <a:pt x="14848" y="6"/>
                    </a:cubicBezTo>
                    <a:cubicBezTo>
                      <a:pt x="14848" y="5"/>
                      <a:pt x="14849" y="4"/>
                      <a:pt x="14850" y="4"/>
                    </a:cubicBezTo>
                    <a:close/>
                    <a:moveTo>
                      <a:pt x="14858" y="4"/>
                    </a:moveTo>
                    <a:lnTo>
                      <a:pt x="14858" y="4"/>
                    </a:lnTo>
                    <a:cubicBezTo>
                      <a:pt x="14859" y="4"/>
                      <a:pt x="14860" y="5"/>
                      <a:pt x="14860" y="6"/>
                    </a:cubicBezTo>
                    <a:cubicBezTo>
                      <a:pt x="14860" y="7"/>
                      <a:pt x="14859" y="8"/>
                      <a:pt x="14858" y="8"/>
                    </a:cubicBezTo>
                    <a:lnTo>
                      <a:pt x="14858" y="8"/>
                    </a:lnTo>
                    <a:cubicBezTo>
                      <a:pt x="14857" y="8"/>
                      <a:pt x="14856" y="7"/>
                      <a:pt x="14856" y="6"/>
                    </a:cubicBezTo>
                    <a:cubicBezTo>
                      <a:pt x="14856" y="5"/>
                      <a:pt x="14857" y="4"/>
                      <a:pt x="14858" y="4"/>
                    </a:cubicBezTo>
                    <a:close/>
                    <a:moveTo>
                      <a:pt x="14866" y="4"/>
                    </a:moveTo>
                    <a:lnTo>
                      <a:pt x="14866" y="4"/>
                    </a:lnTo>
                    <a:cubicBezTo>
                      <a:pt x="14867" y="4"/>
                      <a:pt x="14868" y="5"/>
                      <a:pt x="14868" y="6"/>
                    </a:cubicBezTo>
                    <a:cubicBezTo>
                      <a:pt x="14868" y="7"/>
                      <a:pt x="14867" y="8"/>
                      <a:pt x="14866" y="8"/>
                    </a:cubicBezTo>
                    <a:lnTo>
                      <a:pt x="14866" y="8"/>
                    </a:lnTo>
                    <a:cubicBezTo>
                      <a:pt x="14865" y="8"/>
                      <a:pt x="14864" y="7"/>
                      <a:pt x="14864" y="6"/>
                    </a:cubicBezTo>
                    <a:cubicBezTo>
                      <a:pt x="14864" y="5"/>
                      <a:pt x="14865" y="4"/>
                      <a:pt x="14866" y="4"/>
                    </a:cubicBezTo>
                    <a:close/>
                    <a:moveTo>
                      <a:pt x="14874" y="4"/>
                    </a:moveTo>
                    <a:lnTo>
                      <a:pt x="14874" y="4"/>
                    </a:lnTo>
                    <a:cubicBezTo>
                      <a:pt x="14875" y="4"/>
                      <a:pt x="14876" y="5"/>
                      <a:pt x="14876" y="6"/>
                    </a:cubicBezTo>
                    <a:cubicBezTo>
                      <a:pt x="14876" y="7"/>
                      <a:pt x="14875" y="8"/>
                      <a:pt x="14874" y="8"/>
                    </a:cubicBezTo>
                    <a:lnTo>
                      <a:pt x="14874" y="8"/>
                    </a:lnTo>
                    <a:cubicBezTo>
                      <a:pt x="14873" y="8"/>
                      <a:pt x="14872" y="7"/>
                      <a:pt x="14872" y="6"/>
                    </a:cubicBezTo>
                    <a:cubicBezTo>
                      <a:pt x="14872" y="5"/>
                      <a:pt x="14873" y="4"/>
                      <a:pt x="14874" y="4"/>
                    </a:cubicBezTo>
                    <a:close/>
                    <a:moveTo>
                      <a:pt x="14882" y="4"/>
                    </a:moveTo>
                    <a:lnTo>
                      <a:pt x="14882" y="4"/>
                    </a:lnTo>
                    <a:cubicBezTo>
                      <a:pt x="14883" y="4"/>
                      <a:pt x="14884" y="5"/>
                      <a:pt x="14884" y="6"/>
                    </a:cubicBezTo>
                    <a:cubicBezTo>
                      <a:pt x="14884" y="7"/>
                      <a:pt x="14883" y="8"/>
                      <a:pt x="14882" y="8"/>
                    </a:cubicBezTo>
                    <a:lnTo>
                      <a:pt x="14882" y="8"/>
                    </a:lnTo>
                    <a:cubicBezTo>
                      <a:pt x="14881" y="8"/>
                      <a:pt x="14880" y="7"/>
                      <a:pt x="14880" y="6"/>
                    </a:cubicBezTo>
                    <a:cubicBezTo>
                      <a:pt x="14880" y="5"/>
                      <a:pt x="14881" y="4"/>
                      <a:pt x="14882" y="4"/>
                    </a:cubicBezTo>
                    <a:close/>
                    <a:moveTo>
                      <a:pt x="14890" y="4"/>
                    </a:moveTo>
                    <a:lnTo>
                      <a:pt x="14890" y="4"/>
                    </a:lnTo>
                    <a:cubicBezTo>
                      <a:pt x="14891" y="4"/>
                      <a:pt x="14892" y="5"/>
                      <a:pt x="14892" y="6"/>
                    </a:cubicBezTo>
                    <a:cubicBezTo>
                      <a:pt x="14892" y="7"/>
                      <a:pt x="14891" y="8"/>
                      <a:pt x="14890" y="8"/>
                    </a:cubicBezTo>
                    <a:lnTo>
                      <a:pt x="14890" y="8"/>
                    </a:lnTo>
                    <a:cubicBezTo>
                      <a:pt x="14889" y="8"/>
                      <a:pt x="14888" y="7"/>
                      <a:pt x="14888" y="6"/>
                    </a:cubicBezTo>
                    <a:cubicBezTo>
                      <a:pt x="14888" y="5"/>
                      <a:pt x="14889" y="4"/>
                      <a:pt x="14890" y="4"/>
                    </a:cubicBezTo>
                    <a:close/>
                    <a:moveTo>
                      <a:pt x="14898" y="4"/>
                    </a:moveTo>
                    <a:lnTo>
                      <a:pt x="14898" y="4"/>
                    </a:lnTo>
                    <a:cubicBezTo>
                      <a:pt x="14899" y="4"/>
                      <a:pt x="14900" y="5"/>
                      <a:pt x="14900" y="6"/>
                    </a:cubicBezTo>
                    <a:cubicBezTo>
                      <a:pt x="14900" y="7"/>
                      <a:pt x="14899" y="8"/>
                      <a:pt x="14898" y="8"/>
                    </a:cubicBezTo>
                    <a:lnTo>
                      <a:pt x="14898" y="8"/>
                    </a:lnTo>
                    <a:cubicBezTo>
                      <a:pt x="14897" y="8"/>
                      <a:pt x="14896" y="7"/>
                      <a:pt x="14896" y="6"/>
                    </a:cubicBezTo>
                    <a:cubicBezTo>
                      <a:pt x="14896" y="5"/>
                      <a:pt x="14897" y="4"/>
                      <a:pt x="14898" y="4"/>
                    </a:cubicBezTo>
                    <a:close/>
                    <a:moveTo>
                      <a:pt x="14906" y="4"/>
                    </a:moveTo>
                    <a:lnTo>
                      <a:pt x="14906" y="4"/>
                    </a:lnTo>
                    <a:cubicBezTo>
                      <a:pt x="14907" y="4"/>
                      <a:pt x="14908" y="5"/>
                      <a:pt x="14908" y="6"/>
                    </a:cubicBezTo>
                    <a:cubicBezTo>
                      <a:pt x="14908" y="7"/>
                      <a:pt x="14907" y="8"/>
                      <a:pt x="14906" y="8"/>
                    </a:cubicBezTo>
                    <a:lnTo>
                      <a:pt x="14906" y="8"/>
                    </a:lnTo>
                    <a:cubicBezTo>
                      <a:pt x="14905" y="8"/>
                      <a:pt x="14904" y="7"/>
                      <a:pt x="14904" y="6"/>
                    </a:cubicBezTo>
                    <a:cubicBezTo>
                      <a:pt x="14904" y="5"/>
                      <a:pt x="14905" y="4"/>
                      <a:pt x="14906" y="4"/>
                    </a:cubicBezTo>
                    <a:close/>
                    <a:moveTo>
                      <a:pt x="14914" y="4"/>
                    </a:moveTo>
                    <a:lnTo>
                      <a:pt x="14914" y="4"/>
                    </a:lnTo>
                    <a:cubicBezTo>
                      <a:pt x="14915" y="4"/>
                      <a:pt x="14916" y="5"/>
                      <a:pt x="14916" y="6"/>
                    </a:cubicBezTo>
                    <a:cubicBezTo>
                      <a:pt x="14916" y="7"/>
                      <a:pt x="14915" y="8"/>
                      <a:pt x="14914" y="8"/>
                    </a:cubicBezTo>
                    <a:lnTo>
                      <a:pt x="14914" y="8"/>
                    </a:lnTo>
                    <a:cubicBezTo>
                      <a:pt x="14913" y="8"/>
                      <a:pt x="14912" y="7"/>
                      <a:pt x="14912" y="6"/>
                    </a:cubicBezTo>
                    <a:cubicBezTo>
                      <a:pt x="14912" y="5"/>
                      <a:pt x="14913" y="4"/>
                      <a:pt x="14914" y="4"/>
                    </a:cubicBezTo>
                    <a:close/>
                    <a:moveTo>
                      <a:pt x="14922" y="4"/>
                    </a:moveTo>
                    <a:lnTo>
                      <a:pt x="14922" y="4"/>
                    </a:lnTo>
                    <a:cubicBezTo>
                      <a:pt x="14923" y="4"/>
                      <a:pt x="14924" y="5"/>
                      <a:pt x="14924" y="6"/>
                    </a:cubicBezTo>
                    <a:cubicBezTo>
                      <a:pt x="14924" y="7"/>
                      <a:pt x="14923" y="8"/>
                      <a:pt x="14922" y="8"/>
                    </a:cubicBezTo>
                    <a:lnTo>
                      <a:pt x="14922" y="8"/>
                    </a:lnTo>
                    <a:cubicBezTo>
                      <a:pt x="14921" y="8"/>
                      <a:pt x="14920" y="7"/>
                      <a:pt x="14920" y="6"/>
                    </a:cubicBezTo>
                    <a:cubicBezTo>
                      <a:pt x="14920" y="5"/>
                      <a:pt x="14921" y="4"/>
                      <a:pt x="14922" y="4"/>
                    </a:cubicBezTo>
                    <a:close/>
                    <a:moveTo>
                      <a:pt x="14930" y="4"/>
                    </a:moveTo>
                    <a:lnTo>
                      <a:pt x="14930" y="4"/>
                    </a:lnTo>
                    <a:cubicBezTo>
                      <a:pt x="14931" y="4"/>
                      <a:pt x="14932" y="5"/>
                      <a:pt x="14932" y="6"/>
                    </a:cubicBezTo>
                    <a:cubicBezTo>
                      <a:pt x="14932" y="7"/>
                      <a:pt x="14931" y="8"/>
                      <a:pt x="14930" y="8"/>
                    </a:cubicBezTo>
                    <a:lnTo>
                      <a:pt x="14930" y="8"/>
                    </a:lnTo>
                    <a:cubicBezTo>
                      <a:pt x="14929" y="8"/>
                      <a:pt x="14928" y="7"/>
                      <a:pt x="14928" y="6"/>
                    </a:cubicBezTo>
                    <a:cubicBezTo>
                      <a:pt x="14928" y="5"/>
                      <a:pt x="14929" y="4"/>
                      <a:pt x="14930" y="4"/>
                    </a:cubicBezTo>
                    <a:close/>
                    <a:moveTo>
                      <a:pt x="14938" y="4"/>
                    </a:moveTo>
                    <a:lnTo>
                      <a:pt x="14938" y="4"/>
                    </a:lnTo>
                    <a:cubicBezTo>
                      <a:pt x="14939" y="4"/>
                      <a:pt x="14940" y="5"/>
                      <a:pt x="14940" y="6"/>
                    </a:cubicBezTo>
                    <a:cubicBezTo>
                      <a:pt x="14940" y="7"/>
                      <a:pt x="14939" y="8"/>
                      <a:pt x="14938" y="8"/>
                    </a:cubicBezTo>
                    <a:lnTo>
                      <a:pt x="14938" y="8"/>
                    </a:lnTo>
                    <a:cubicBezTo>
                      <a:pt x="14937" y="8"/>
                      <a:pt x="14936" y="7"/>
                      <a:pt x="14936" y="6"/>
                    </a:cubicBezTo>
                    <a:cubicBezTo>
                      <a:pt x="14936" y="5"/>
                      <a:pt x="14937" y="4"/>
                      <a:pt x="14938" y="4"/>
                    </a:cubicBezTo>
                    <a:close/>
                    <a:moveTo>
                      <a:pt x="14946" y="4"/>
                    </a:moveTo>
                    <a:lnTo>
                      <a:pt x="14946" y="4"/>
                    </a:lnTo>
                    <a:cubicBezTo>
                      <a:pt x="14947" y="4"/>
                      <a:pt x="14948" y="5"/>
                      <a:pt x="14948" y="6"/>
                    </a:cubicBezTo>
                    <a:cubicBezTo>
                      <a:pt x="14948" y="7"/>
                      <a:pt x="14947" y="8"/>
                      <a:pt x="14946" y="8"/>
                    </a:cubicBezTo>
                    <a:lnTo>
                      <a:pt x="14946" y="8"/>
                    </a:lnTo>
                    <a:cubicBezTo>
                      <a:pt x="14945" y="8"/>
                      <a:pt x="14944" y="7"/>
                      <a:pt x="14944" y="6"/>
                    </a:cubicBezTo>
                    <a:cubicBezTo>
                      <a:pt x="14944" y="5"/>
                      <a:pt x="14945" y="4"/>
                      <a:pt x="14946" y="4"/>
                    </a:cubicBezTo>
                    <a:close/>
                    <a:moveTo>
                      <a:pt x="14954" y="4"/>
                    </a:moveTo>
                    <a:lnTo>
                      <a:pt x="14954" y="4"/>
                    </a:lnTo>
                    <a:cubicBezTo>
                      <a:pt x="14955" y="4"/>
                      <a:pt x="14956" y="5"/>
                      <a:pt x="14956" y="6"/>
                    </a:cubicBezTo>
                    <a:cubicBezTo>
                      <a:pt x="14956" y="7"/>
                      <a:pt x="14955" y="8"/>
                      <a:pt x="14954" y="8"/>
                    </a:cubicBezTo>
                    <a:lnTo>
                      <a:pt x="14954" y="8"/>
                    </a:lnTo>
                    <a:cubicBezTo>
                      <a:pt x="14953" y="8"/>
                      <a:pt x="14952" y="7"/>
                      <a:pt x="14952" y="6"/>
                    </a:cubicBezTo>
                    <a:cubicBezTo>
                      <a:pt x="14952" y="5"/>
                      <a:pt x="14953" y="4"/>
                      <a:pt x="14954" y="4"/>
                    </a:cubicBezTo>
                    <a:close/>
                    <a:moveTo>
                      <a:pt x="14962" y="4"/>
                    </a:moveTo>
                    <a:lnTo>
                      <a:pt x="14962" y="4"/>
                    </a:lnTo>
                    <a:cubicBezTo>
                      <a:pt x="14963" y="4"/>
                      <a:pt x="14964" y="5"/>
                      <a:pt x="14964" y="6"/>
                    </a:cubicBezTo>
                    <a:cubicBezTo>
                      <a:pt x="14964" y="7"/>
                      <a:pt x="14963" y="8"/>
                      <a:pt x="14962" y="8"/>
                    </a:cubicBezTo>
                    <a:lnTo>
                      <a:pt x="14962" y="8"/>
                    </a:lnTo>
                    <a:cubicBezTo>
                      <a:pt x="14961" y="8"/>
                      <a:pt x="14960" y="7"/>
                      <a:pt x="14960" y="6"/>
                    </a:cubicBezTo>
                    <a:cubicBezTo>
                      <a:pt x="14960" y="5"/>
                      <a:pt x="14961" y="4"/>
                      <a:pt x="14962" y="4"/>
                    </a:cubicBezTo>
                    <a:close/>
                    <a:moveTo>
                      <a:pt x="14970" y="4"/>
                    </a:moveTo>
                    <a:lnTo>
                      <a:pt x="14970" y="4"/>
                    </a:lnTo>
                    <a:cubicBezTo>
                      <a:pt x="14971" y="4"/>
                      <a:pt x="14972" y="5"/>
                      <a:pt x="14972" y="6"/>
                    </a:cubicBezTo>
                    <a:cubicBezTo>
                      <a:pt x="14972" y="7"/>
                      <a:pt x="14971" y="8"/>
                      <a:pt x="14970" y="8"/>
                    </a:cubicBezTo>
                    <a:lnTo>
                      <a:pt x="14970" y="8"/>
                    </a:lnTo>
                    <a:cubicBezTo>
                      <a:pt x="14969" y="8"/>
                      <a:pt x="14968" y="7"/>
                      <a:pt x="14968" y="6"/>
                    </a:cubicBezTo>
                    <a:cubicBezTo>
                      <a:pt x="14968" y="5"/>
                      <a:pt x="14969" y="4"/>
                      <a:pt x="14970" y="4"/>
                    </a:cubicBezTo>
                    <a:close/>
                    <a:moveTo>
                      <a:pt x="14978" y="4"/>
                    </a:moveTo>
                    <a:lnTo>
                      <a:pt x="14978" y="4"/>
                    </a:lnTo>
                    <a:cubicBezTo>
                      <a:pt x="14979" y="4"/>
                      <a:pt x="14980" y="5"/>
                      <a:pt x="14980" y="6"/>
                    </a:cubicBezTo>
                    <a:cubicBezTo>
                      <a:pt x="14980" y="7"/>
                      <a:pt x="14979" y="8"/>
                      <a:pt x="14978" y="8"/>
                    </a:cubicBezTo>
                    <a:lnTo>
                      <a:pt x="14978" y="8"/>
                    </a:lnTo>
                    <a:cubicBezTo>
                      <a:pt x="14977" y="8"/>
                      <a:pt x="14976" y="7"/>
                      <a:pt x="14976" y="6"/>
                    </a:cubicBezTo>
                    <a:cubicBezTo>
                      <a:pt x="14976" y="5"/>
                      <a:pt x="14977" y="4"/>
                      <a:pt x="14978" y="4"/>
                    </a:cubicBezTo>
                    <a:close/>
                    <a:moveTo>
                      <a:pt x="14986" y="4"/>
                    </a:moveTo>
                    <a:lnTo>
                      <a:pt x="14986" y="4"/>
                    </a:lnTo>
                    <a:cubicBezTo>
                      <a:pt x="14987" y="4"/>
                      <a:pt x="14988" y="5"/>
                      <a:pt x="14988" y="6"/>
                    </a:cubicBezTo>
                    <a:cubicBezTo>
                      <a:pt x="14988" y="7"/>
                      <a:pt x="14987" y="8"/>
                      <a:pt x="14986" y="8"/>
                    </a:cubicBezTo>
                    <a:lnTo>
                      <a:pt x="14986" y="8"/>
                    </a:lnTo>
                    <a:cubicBezTo>
                      <a:pt x="14985" y="8"/>
                      <a:pt x="14984" y="7"/>
                      <a:pt x="14984" y="6"/>
                    </a:cubicBezTo>
                    <a:cubicBezTo>
                      <a:pt x="14984" y="5"/>
                      <a:pt x="14985" y="4"/>
                      <a:pt x="14986" y="4"/>
                    </a:cubicBezTo>
                    <a:close/>
                    <a:moveTo>
                      <a:pt x="14994" y="4"/>
                    </a:moveTo>
                    <a:lnTo>
                      <a:pt x="14994" y="4"/>
                    </a:lnTo>
                    <a:cubicBezTo>
                      <a:pt x="14995" y="4"/>
                      <a:pt x="14996" y="5"/>
                      <a:pt x="14996" y="6"/>
                    </a:cubicBezTo>
                    <a:cubicBezTo>
                      <a:pt x="14996" y="7"/>
                      <a:pt x="14995" y="8"/>
                      <a:pt x="14994" y="8"/>
                    </a:cubicBezTo>
                    <a:lnTo>
                      <a:pt x="14994" y="8"/>
                    </a:lnTo>
                    <a:cubicBezTo>
                      <a:pt x="14993" y="8"/>
                      <a:pt x="14992" y="7"/>
                      <a:pt x="14992" y="6"/>
                    </a:cubicBezTo>
                    <a:cubicBezTo>
                      <a:pt x="14992" y="5"/>
                      <a:pt x="14993" y="4"/>
                      <a:pt x="14994" y="4"/>
                    </a:cubicBezTo>
                    <a:close/>
                    <a:moveTo>
                      <a:pt x="15002" y="4"/>
                    </a:moveTo>
                    <a:lnTo>
                      <a:pt x="15002" y="4"/>
                    </a:lnTo>
                    <a:cubicBezTo>
                      <a:pt x="15003" y="4"/>
                      <a:pt x="15004" y="5"/>
                      <a:pt x="15004" y="6"/>
                    </a:cubicBezTo>
                    <a:cubicBezTo>
                      <a:pt x="15004" y="7"/>
                      <a:pt x="15003" y="8"/>
                      <a:pt x="15002" y="8"/>
                    </a:cubicBezTo>
                    <a:lnTo>
                      <a:pt x="15002" y="8"/>
                    </a:lnTo>
                    <a:cubicBezTo>
                      <a:pt x="15001" y="8"/>
                      <a:pt x="15000" y="7"/>
                      <a:pt x="15000" y="6"/>
                    </a:cubicBezTo>
                    <a:cubicBezTo>
                      <a:pt x="15000" y="5"/>
                      <a:pt x="15001" y="4"/>
                      <a:pt x="15002" y="4"/>
                    </a:cubicBezTo>
                    <a:close/>
                    <a:moveTo>
                      <a:pt x="15010" y="4"/>
                    </a:moveTo>
                    <a:lnTo>
                      <a:pt x="15010" y="4"/>
                    </a:lnTo>
                    <a:cubicBezTo>
                      <a:pt x="15011" y="4"/>
                      <a:pt x="15012" y="5"/>
                      <a:pt x="15012" y="6"/>
                    </a:cubicBezTo>
                    <a:cubicBezTo>
                      <a:pt x="15012" y="7"/>
                      <a:pt x="15011" y="8"/>
                      <a:pt x="15010" y="8"/>
                    </a:cubicBezTo>
                    <a:lnTo>
                      <a:pt x="15010" y="8"/>
                    </a:lnTo>
                    <a:cubicBezTo>
                      <a:pt x="15009" y="8"/>
                      <a:pt x="15008" y="7"/>
                      <a:pt x="15008" y="6"/>
                    </a:cubicBezTo>
                    <a:cubicBezTo>
                      <a:pt x="15008" y="5"/>
                      <a:pt x="15009" y="4"/>
                      <a:pt x="15010" y="4"/>
                    </a:cubicBezTo>
                    <a:close/>
                    <a:moveTo>
                      <a:pt x="15018" y="4"/>
                    </a:moveTo>
                    <a:lnTo>
                      <a:pt x="15018" y="4"/>
                    </a:lnTo>
                    <a:cubicBezTo>
                      <a:pt x="15019" y="4"/>
                      <a:pt x="15020" y="5"/>
                      <a:pt x="15020" y="6"/>
                    </a:cubicBezTo>
                    <a:cubicBezTo>
                      <a:pt x="15020" y="7"/>
                      <a:pt x="15019" y="8"/>
                      <a:pt x="15018" y="8"/>
                    </a:cubicBezTo>
                    <a:lnTo>
                      <a:pt x="15018" y="8"/>
                    </a:lnTo>
                    <a:cubicBezTo>
                      <a:pt x="15017" y="8"/>
                      <a:pt x="15016" y="7"/>
                      <a:pt x="15016" y="6"/>
                    </a:cubicBezTo>
                    <a:cubicBezTo>
                      <a:pt x="15016" y="5"/>
                      <a:pt x="15017" y="4"/>
                      <a:pt x="15018" y="4"/>
                    </a:cubicBezTo>
                    <a:close/>
                    <a:moveTo>
                      <a:pt x="15026" y="4"/>
                    </a:moveTo>
                    <a:lnTo>
                      <a:pt x="15026" y="4"/>
                    </a:lnTo>
                    <a:cubicBezTo>
                      <a:pt x="15027" y="4"/>
                      <a:pt x="15028" y="5"/>
                      <a:pt x="15028" y="6"/>
                    </a:cubicBezTo>
                    <a:cubicBezTo>
                      <a:pt x="15028" y="7"/>
                      <a:pt x="15027" y="8"/>
                      <a:pt x="15026" y="8"/>
                    </a:cubicBezTo>
                    <a:lnTo>
                      <a:pt x="15026" y="8"/>
                    </a:lnTo>
                    <a:cubicBezTo>
                      <a:pt x="15025" y="8"/>
                      <a:pt x="15024" y="7"/>
                      <a:pt x="15024" y="6"/>
                    </a:cubicBezTo>
                    <a:cubicBezTo>
                      <a:pt x="15024" y="5"/>
                      <a:pt x="15025" y="4"/>
                      <a:pt x="15026" y="4"/>
                    </a:cubicBezTo>
                    <a:close/>
                    <a:moveTo>
                      <a:pt x="15034" y="4"/>
                    </a:moveTo>
                    <a:lnTo>
                      <a:pt x="15034" y="4"/>
                    </a:lnTo>
                    <a:cubicBezTo>
                      <a:pt x="15035" y="4"/>
                      <a:pt x="15036" y="5"/>
                      <a:pt x="15036" y="6"/>
                    </a:cubicBezTo>
                    <a:cubicBezTo>
                      <a:pt x="15036" y="7"/>
                      <a:pt x="15035" y="8"/>
                      <a:pt x="15034" y="8"/>
                    </a:cubicBezTo>
                    <a:lnTo>
                      <a:pt x="15034" y="8"/>
                    </a:lnTo>
                    <a:cubicBezTo>
                      <a:pt x="15033" y="8"/>
                      <a:pt x="15032" y="7"/>
                      <a:pt x="15032" y="6"/>
                    </a:cubicBezTo>
                    <a:cubicBezTo>
                      <a:pt x="15032" y="5"/>
                      <a:pt x="15033" y="4"/>
                      <a:pt x="15034" y="4"/>
                    </a:cubicBezTo>
                    <a:close/>
                    <a:moveTo>
                      <a:pt x="15042" y="4"/>
                    </a:moveTo>
                    <a:lnTo>
                      <a:pt x="15042" y="4"/>
                    </a:lnTo>
                    <a:cubicBezTo>
                      <a:pt x="15043" y="4"/>
                      <a:pt x="15044" y="5"/>
                      <a:pt x="15044" y="6"/>
                    </a:cubicBezTo>
                    <a:cubicBezTo>
                      <a:pt x="15044" y="7"/>
                      <a:pt x="15043" y="8"/>
                      <a:pt x="15042" y="8"/>
                    </a:cubicBezTo>
                    <a:lnTo>
                      <a:pt x="15042" y="8"/>
                    </a:lnTo>
                    <a:cubicBezTo>
                      <a:pt x="15041" y="8"/>
                      <a:pt x="15040" y="7"/>
                      <a:pt x="15040" y="6"/>
                    </a:cubicBezTo>
                    <a:cubicBezTo>
                      <a:pt x="15040" y="5"/>
                      <a:pt x="15041" y="4"/>
                      <a:pt x="15042" y="4"/>
                    </a:cubicBezTo>
                    <a:close/>
                    <a:moveTo>
                      <a:pt x="15050" y="4"/>
                    </a:moveTo>
                    <a:lnTo>
                      <a:pt x="15050" y="4"/>
                    </a:lnTo>
                    <a:cubicBezTo>
                      <a:pt x="15051" y="4"/>
                      <a:pt x="15052" y="5"/>
                      <a:pt x="15052" y="6"/>
                    </a:cubicBezTo>
                    <a:cubicBezTo>
                      <a:pt x="15052" y="7"/>
                      <a:pt x="15051" y="8"/>
                      <a:pt x="15050" y="8"/>
                    </a:cubicBezTo>
                    <a:lnTo>
                      <a:pt x="15050" y="8"/>
                    </a:lnTo>
                    <a:cubicBezTo>
                      <a:pt x="15049" y="8"/>
                      <a:pt x="15048" y="7"/>
                      <a:pt x="15048" y="6"/>
                    </a:cubicBezTo>
                    <a:cubicBezTo>
                      <a:pt x="15048" y="5"/>
                      <a:pt x="15049" y="4"/>
                      <a:pt x="15050" y="4"/>
                    </a:cubicBezTo>
                    <a:close/>
                    <a:moveTo>
                      <a:pt x="15058" y="4"/>
                    </a:moveTo>
                    <a:lnTo>
                      <a:pt x="15058" y="4"/>
                    </a:lnTo>
                    <a:cubicBezTo>
                      <a:pt x="15059" y="4"/>
                      <a:pt x="15060" y="5"/>
                      <a:pt x="15060" y="6"/>
                    </a:cubicBezTo>
                    <a:cubicBezTo>
                      <a:pt x="15060" y="7"/>
                      <a:pt x="15059" y="8"/>
                      <a:pt x="15058" y="8"/>
                    </a:cubicBezTo>
                    <a:lnTo>
                      <a:pt x="15058" y="8"/>
                    </a:lnTo>
                    <a:cubicBezTo>
                      <a:pt x="15057" y="8"/>
                      <a:pt x="15056" y="7"/>
                      <a:pt x="15056" y="6"/>
                    </a:cubicBezTo>
                    <a:cubicBezTo>
                      <a:pt x="15056" y="5"/>
                      <a:pt x="15057" y="4"/>
                      <a:pt x="15058" y="4"/>
                    </a:cubicBezTo>
                    <a:close/>
                    <a:moveTo>
                      <a:pt x="15066" y="4"/>
                    </a:moveTo>
                    <a:lnTo>
                      <a:pt x="15066" y="4"/>
                    </a:lnTo>
                    <a:cubicBezTo>
                      <a:pt x="15067" y="4"/>
                      <a:pt x="15068" y="5"/>
                      <a:pt x="15068" y="6"/>
                    </a:cubicBezTo>
                    <a:cubicBezTo>
                      <a:pt x="15068" y="7"/>
                      <a:pt x="15067" y="8"/>
                      <a:pt x="15066" y="8"/>
                    </a:cubicBezTo>
                    <a:lnTo>
                      <a:pt x="15066" y="8"/>
                    </a:lnTo>
                    <a:cubicBezTo>
                      <a:pt x="15065" y="8"/>
                      <a:pt x="15064" y="7"/>
                      <a:pt x="15064" y="6"/>
                    </a:cubicBezTo>
                    <a:cubicBezTo>
                      <a:pt x="15064" y="5"/>
                      <a:pt x="15065" y="4"/>
                      <a:pt x="15066" y="4"/>
                    </a:cubicBezTo>
                    <a:close/>
                    <a:moveTo>
                      <a:pt x="15074" y="4"/>
                    </a:moveTo>
                    <a:lnTo>
                      <a:pt x="15074" y="4"/>
                    </a:lnTo>
                    <a:cubicBezTo>
                      <a:pt x="15075" y="4"/>
                      <a:pt x="15076" y="5"/>
                      <a:pt x="15076" y="6"/>
                    </a:cubicBezTo>
                    <a:cubicBezTo>
                      <a:pt x="15076" y="7"/>
                      <a:pt x="15075" y="8"/>
                      <a:pt x="15074" y="8"/>
                    </a:cubicBezTo>
                    <a:lnTo>
                      <a:pt x="15074" y="8"/>
                    </a:lnTo>
                    <a:cubicBezTo>
                      <a:pt x="15073" y="8"/>
                      <a:pt x="15072" y="7"/>
                      <a:pt x="15072" y="6"/>
                    </a:cubicBezTo>
                    <a:cubicBezTo>
                      <a:pt x="15072" y="5"/>
                      <a:pt x="15073" y="4"/>
                      <a:pt x="15074" y="4"/>
                    </a:cubicBezTo>
                    <a:close/>
                    <a:moveTo>
                      <a:pt x="15082" y="4"/>
                    </a:moveTo>
                    <a:lnTo>
                      <a:pt x="15082" y="4"/>
                    </a:lnTo>
                    <a:cubicBezTo>
                      <a:pt x="15083" y="4"/>
                      <a:pt x="15084" y="5"/>
                      <a:pt x="15084" y="6"/>
                    </a:cubicBezTo>
                    <a:cubicBezTo>
                      <a:pt x="15084" y="7"/>
                      <a:pt x="15083" y="8"/>
                      <a:pt x="15082" y="8"/>
                    </a:cubicBezTo>
                    <a:lnTo>
                      <a:pt x="15082" y="8"/>
                    </a:lnTo>
                    <a:cubicBezTo>
                      <a:pt x="15081" y="8"/>
                      <a:pt x="15080" y="7"/>
                      <a:pt x="15080" y="6"/>
                    </a:cubicBezTo>
                    <a:cubicBezTo>
                      <a:pt x="15080" y="5"/>
                      <a:pt x="15081" y="4"/>
                      <a:pt x="15082" y="4"/>
                    </a:cubicBezTo>
                    <a:close/>
                    <a:moveTo>
                      <a:pt x="15090" y="4"/>
                    </a:moveTo>
                    <a:lnTo>
                      <a:pt x="15090" y="4"/>
                    </a:lnTo>
                    <a:cubicBezTo>
                      <a:pt x="15091" y="4"/>
                      <a:pt x="15092" y="5"/>
                      <a:pt x="15092" y="6"/>
                    </a:cubicBezTo>
                    <a:cubicBezTo>
                      <a:pt x="15092" y="7"/>
                      <a:pt x="15091" y="8"/>
                      <a:pt x="15090" y="8"/>
                    </a:cubicBezTo>
                    <a:lnTo>
                      <a:pt x="15090" y="8"/>
                    </a:lnTo>
                    <a:cubicBezTo>
                      <a:pt x="15089" y="8"/>
                      <a:pt x="15088" y="7"/>
                      <a:pt x="15088" y="6"/>
                    </a:cubicBezTo>
                    <a:cubicBezTo>
                      <a:pt x="15088" y="5"/>
                      <a:pt x="15089" y="4"/>
                      <a:pt x="15090" y="4"/>
                    </a:cubicBezTo>
                    <a:close/>
                    <a:moveTo>
                      <a:pt x="15098" y="4"/>
                    </a:moveTo>
                    <a:lnTo>
                      <a:pt x="15098" y="4"/>
                    </a:lnTo>
                    <a:cubicBezTo>
                      <a:pt x="15099" y="4"/>
                      <a:pt x="15100" y="5"/>
                      <a:pt x="15100" y="6"/>
                    </a:cubicBezTo>
                    <a:cubicBezTo>
                      <a:pt x="15100" y="7"/>
                      <a:pt x="15099" y="8"/>
                      <a:pt x="15098" y="8"/>
                    </a:cubicBezTo>
                    <a:lnTo>
                      <a:pt x="15098" y="8"/>
                    </a:lnTo>
                    <a:cubicBezTo>
                      <a:pt x="15097" y="8"/>
                      <a:pt x="15096" y="7"/>
                      <a:pt x="15096" y="6"/>
                    </a:cubicBezTo>
                    <a:cubicBezTo>
                      <a:pt x="15096" y="5"/>
                      <a:pt x="15097" y="4"/>
                      <a:pt x="15098" y="4"/>
                    </a:cubicBezTo>
                    <a:close/>
                    <a:moveTo>
                      <a:pt x="15106" y="4"/>
                    </a:moveTo>
                    <a:lnTo>
                      <a:pt x="15106" y="4"/>
                    </a:lnTo>
                    <a:cubicBezTo>
                      <a:pt x="15107" y="4"/>
                      <a:pt x="15108" y="5"/>
                      <a:pt x="15108" y="6"/>
                    </a:cubicBezTo>
                    <a:cubicBezTo>
                      <a:pt x="15108" y="7"/>
                      <a:pt x="15107" y="8"/>
                      <a:pt x="15106" y="8"/>
                    </a:cubicBezTo>
                    <a:lnTo>
                      <a:pt x="15106" y="8"/>
                    </a:lnTo>
                    <a:cubicBezTo>
                      <a:pt x="15105" y="8"/>
                      <a:pt x="15104" y="7"/>
                      <a:pt x="15104" y="6"/>
                    </a:cubicBezTo>
                    <a:cubicBezTo>
                      <a:pt x="15104" y="5"/>
                      <a:pt x="15105" y="4"/>
                      <a:pt x="15106" y="4"/>
                    </a:cubicBezTo>
                    <a:close/>
                    <a:moveTo>
                      <a:pt x="15114" y="4"/>
                    </a:moveTo>
                    <a:lnTo>
                      <a:pt x="15114" y="4"/>
                    </a:lnTo>
                    <a:cubicBezTo>
                      <a:pt x="15115" y="4"/>
                      <a:pt x="15116" y="5"/>
                      <a:pt x="15116" y="6"/>
                    </a:cubicBezTo>
                    <a:cubicBezTo>
                      <a:pt x="15116" y="7"/>
                      <a:pt x="15115" y="8"/>
                      <a:pt x="15114" y="8"/>
                    </a:cubicBezTo>
                    <a:lnTo>
                      <a:pt x="15114" y="8"/>
                    </a:lnTo>
                    <a:cubicBezTo>
                      <a:pt x="15113" y="8"/>
                      <a:pt x="15112" y="7"/>
                      <a:pt x="15112" y="6"/>
                    </a:cubicBezTo>
                    <a:cubicBezTo>
                      <a:pt x="15112" y="5"/>
                      <a:pt x="15113" y="4"/>
                      <a:pt x="15114" y="4"/>
                    </a:cubicBezTo>
                    <a:close/>
                    <a:moveTo>
                      <a:pt x="15122" y="4"/>
                    </a:moveTo>
                    <a:lnTo>
                      <a:pt x="15122" y="4"/>
                    </a:lnTo>
                    <a:cubicBezTo>
                      <a:pt x="15123" y="4"/>
                      <a:pt x="15124" y="5"/>
                      <a:pt x="15124" y="6"/>
                    </a:cubicBezTo>
                    <a:cubicBezTo>
                      <a:pt x="15124" y="7"/>
                      <a:pt x="15123" y="8"/>
                      <a:pt x="15122" y="8"/>
                    </a:cubicBezTo>
                    <a:lnTo>
                      <a:pt x="15122" y="8"/>
                    </a:lnTo>
                    <a:cubicBezTo>
                      <a:pt x="15121" y="8"/>
                      <a:pt x="15120" y="7"/>
                      <a:pt x="15120" y="6"/>
                    </a:cubicBezTo>
                    <a:cubicBezTo>
                      <a:pt x="15120" y="5"/>
                      <a:pt x="15121" y="4"/>
                      <a:pt x="15122" y="4"/>
                    </a:cubicBezTo>
                    <a:close/>
                    <a:moveTo>
                      <a:pt x="15130" y="4"/>
                    </a:moveTo>
                    <a:lnTo>
                      <a:pt x="15130" y="4"/>
                    </a:lnTo>
                    <a:cubicBezTo>
                      <a:pt x="15131" y="4"/>
                      <a:pt x="15132" y="5"/>
                      <a:pt x="15132" y="6"/>
                    </a:cubicBezTo>
                    <a:cubicBezTo>
                      <a:pt x="15132" y="7"/>
                      <a:pt x="15131" y="8"/>
                      <a:pt x="15130" y="8"/>
                    </a:cubicBezTo>
                    <a:lnTo>
                      <a:pt x="15130" y="8"/>
                    </a:lnTo>
                    <a:cubicBezTo>
                      <a:pt x="15129" y="8"/>
                      <a:pt x="15128" y="7"/>
                      <a:pt x="15128" y="6"/>
                    </a:cubicBezTo>
                    <a:cubicBezTo>
                      <a:pt x="15128" y="5"/>
                      <a:pt x="15129" y="4"/>
                      <a:pt x="15130" y="4"/>
                    </a:cubicBezTo>
                    <a:close/>
                    <a:moveTo>
                      <a:pt x="15138" y="4"/>
                    </a:moveTo>
                    <a:lnTo>
                      <a:pt x="15138" y="4"/>
                    </a:lnTo>
                    <a:cubicBezTo>
                      <a:pt x="15139" y="4"/>
                      <a:pt x="15140" y="5"/>
                      <a:pt x="15140" y="6"/>
                    </a:cubicBezTo>
                    <a:cubicBezTo>
                      <a:pt x="15140" y="7"/>
                      <a:pt x="15139" y="8"/>
                      <a:pt x="15138" y="8"/>
                    </a:cubicBezTo>
                    <a:lnTo>
                      <a:pt x="15138" y="8"/>
                    </a:lnTo>
                    <a:cubicBezTo>
                      <a:pt x="15137" y="8"/>
                      <a:pt x="15136" y="7"/>
                      <a:pt x="15136" y="6"/>
                    </a:cubicBezTo>
                    <a:cubicBezTo>
                      <a:pt x="15136" y="5"/>
                      <a:pt x="15137" y="4"/>
                      <a:pt x="15138" y="4"/>
                    </a:cubicBezTo>
                    <a:close/>
                    <a:moveTo>
                      <a:pt x="15146" y="4"/>
                    </a:moveTo>
                    <a:lnTo>
                      <a:pt x="15146" y="4"/>
                    </a:lnTo>
                    <a:cubicBezTo>
                      <a:pt x="15147" y="4"/>
                      <a:pt x="15148" y="5"/>
                      <a:pt x="15148" y="6"/>
                    </a:cubicBezTo>
                    <a:cubicBezTo>
                      <a:pt x="15148" y="7"/>
                      <a:pt x="15147" y="8"/>
                      <a:pt x="15146" y="8"/>
                    </a:cubicBezTo>
                    <a:lnTo>
                      <a:pt x="15146" y="8"/>
                    </a:lnTo>
                    <a:cubicBezTo>
                      <a:pt x="15145" y="8"/>
                      <a:pt x="15144" y="7"/>
                      <a:pt x="15144" y="6"/>
                    </a:cubicBezTo>
                    <a:cubicBezTo>
                      <a:pt x="15144" y="5"/>
                      <a:pt x="15145" y="4"/>
                      <a:pt x="15146" y="4"/>
                    </a:cubicBezTo>
                    <a:close/>
                    <a:moveTo>
                      <a:pt x="15154" y="4"/>
                    </a:moveTo>
                    <a:lnTo>
                      <a:pt x="15154" y="4"/>
                    </a:lnTo>
                    <a:cubicBezTo>
                      <a:pt x="15155" y="4"/>
                      <a:pt x="15156" y="5"/>
                      <a:pt x="15156" y="6"/>
                    </a:cubicBezTo>
                    <a:cubicBezTo>
                      <a:pt x="15156" y="7"/>
                      <a:pt x="15155" y="8"/>
                      <a:pt x="15154" y="8"/>
                    </a:cubicBezTo>
                    <a:lnTo>
                      <a:pt x="15154" y="8"/>
                    </a:lnTo>
                    <a:cubicBezTo>
                      <a:pt x="15153" y="8"/>
                      <a:pt x="15152" y="7"/>
                      <a:pt x="15152" y="6"/>
                    </a:cubicBezTo>
                    <a:cubicBezTo>
                      <a:pt x="15152" y="5"/>
                      <a:pt x="15153" y="4"/>
                      <a:pt x="15154" y="4"/>
                    </a:cubicBezTo>
                    <a:close/>
                    <a:moveTo>
                      <a:pt x="15162" y="4"/>
                    </a:moveTo>
                    <a:lnTo>
                      <a:pt x="15162" y="4"/>
                    </a:lnTo>
                    <a:cubicBezTo>
                      <a:pt x="15163" y="4"/>
                      <a:pt x="15164" y="5"/>
                      <a:pt x="15164" y="6"/>
                    </a:cubicBezTo>
                    <a:cubicBezTo>
                      <a:pt x="15164" y="7"/>
                      <a:pt x="15163" y="8"/>
                      <a:pt x="15162" y="8"/>
                    </a:cubicBezTo>
                    <a:lnTo>
                      <a:pt x="15162" y="8"/>
                    </a:lnTo>
                    <a:cubicBezTo>
                      <a:pt x="15161" y="8"/>
                      <a:pt x="15160" y="7"/>
                      <a:pt x="15160" y="6"/>
                    </a:cubicBezTo>
                    <a:cubicBezTo>
                      <a:pt x="15160" y="5"/>
                      <a:pt x="15161" y="4"/>
                      <a:pt x="15162" y="4"/>
                    </a:cubicBezTo>
                    <a:close/>
                    <a:moveTo>
                      <a:pt x="15170" y="4"/>
                    </a:moveTo>
                    <a:lnTo>
                      <a:pt x="15170" y="4"/>
                    </a:lnTo>
                    <a:cubicBezTo>
                      <a:pt x="15171" y="4"/>
                      <a:pt x="15172" y="5"/>
                      <a:pt x="15172" y="6"/>
                    </a:cubicBezTo>
                    <a:cubicBezTo>
                      <a:pt x="15172" y="7"/>
                      <a:pt x="15171" y="8"/>
                      <a:pt x="15170" y="8"/>
                    </a:cubicBezTo>
                    <a:lnTo>
                      <a:pt x="15170" y="8"/>
                    </a:lnTo>
                    <a:cubicBezTo>
                      <a:pt x="15169" y="8"/>
                      <a:pt x="15168" y="7"/>
                      <a:pt x="15168" y="6"/>
                    </a:cubicBezTo>
                    <a:cubicBezTo>
                      <a:pt x="15168" y="5"/>
                      <a:pt x="15169" y="4"/>
                      <a:pt x="15170" y="4"/>
                    </a:cubicBezTo>
                    <a:close/>
                    <a:moveTo>
                      <a:pt x="15178" y="4"/>
                    </a:moveTo>
                    <a:lnTo>
                      <a:pt x="15178" y="4"/>
                    </a:lnTo>
                    <a:cubicBezTo>
                      <a:pt x="15179" y="4"/>
                      <a:pt x="15180" y="5"/>
                      <a:pt x="15180" y="6"/>
                    </a:cubicBezTo>
                    <a:cubicBezTo>
                      <a:pt x="15180" y="7"/>
                      <a:pt x="15179" y="8"/>
                      <a:pt x="15178" y="8"/>
                    </a:cubicBezTo>
                    <a:lnTo>
                      <a:pt x="15178" y="8"/>
                    </a:lnTo>
                    <a:cubicBezTo>
                      <a:pt x="15177" y="8"/>
                      <a:pt x="15176" y="7"/>
                      <a:pt x="15176" y="6"/>
                    </a:cubicBezTo>
                    <a:cubicBezTo>
                      <a:pt x="15176" y="5"/>
                      <a:pt x="15177" y="4"/>
                      <a:pt x="15178" y="4"/>
                    </a:cubicBezTo>
                    <a:close/>
                    <a:moveTo>
                      <a:pt x="15186" y="4"/>
                    </a:moveTo>
                    <a:lnTo>
                      <a:pt x="15186" y="4"/>
                    </a:lnTo>
                    <a:cubicBezTo>
                      <a:pt x="15187" y="4"/>
                      <a:pt x="15188" y="5"/>
                      <a:pt x="15188" y="6"/>
                    </a:cubicBezTo>
                    <a:cubicBezTo>
                      <a:pt x="15188" y="7"/>
                      <a:pt x="15187" y="8"/>
                      <a:pt x="15186" y="8"/>
                    </a:cubicBezTo>
                    <a:lnTo>
                      <a:pt x="15186" y="8"/>
                    </a:lnTo>
                    <a:cubicBezTo>
                      <a:pt x="15185" y="8"/>
                      <a:pt x="15184" y="7"/>
                      <a:pt x="15184" y="6"/>
                    </a:cubicBezTo>
                    <a:cubicBezTo>
                      <a:pt x="15184" y="5"/>
                      <a:pt x="15185" y="4"/>
                      <a:pt x="15186" y="4"/>
                    </a:cubicBezTo>
                    <a:close/>
                    <a:moveTo>
                      <a:pt x="15194" y="4"/>
                    </a:moveTo>
                    <a:lnTo>
                      <a:pt x="15194" y="4"/>
                    </a:lnTo>
                    <a:cubicBezTo>
                      <a:pt x="15195" y="4"/>
                      <a:pt x="15196" y="5"/>
                      <a:pt x="15196" y="6"/>
                    </a:cubicBezTo>
                    <a:cubicBezTo>
                      <a:pt x="15196" y="7"/>
                      <a:pt x="15195" y="8"/>
                      <a:pt x="15194" y="8"/>
                    </a:cubicBezTo>
                    <a:lnTo>
                      <a:pt x="15194" y="8"/>
                    </a:lnTo>
                    <a:cubicBezTo>
                      <a:pt x="15193" y="8"/>
                      <a:pt x="15192" y="7"/>
                      <a:pt x="15192" y="6"/>
                    </a:cubicBezTo>
                    <a:cubicBezTo>
                      <a:pt x="15192" y="5"/>
                      <a:pt x="15193" y="4"/>
                      <a:pt x="15194" y="4"/>
                    </a:cubicBezTo>
                    <a:close/>
                    <a:moveTo>
                      <a:pt x="15202" y="4"/>
                    </a:moveTo>
                    <a:lnTo>
                      <a:pt x="15202" y="4"/>
                    </a:lnTo>
                    <a:cubicBezTo>
                      <a:pt x="15203" y="4"/>
                      <a:pt x="15204" y="5"/>
                      <a:pt x="15204" y="6"/>
                    </a:cubicBezTo>
                    <a:cubicBezTo>
                      <a:pt x="15204" y="7"/>
                      <a:pt x="15203" y="8"/>
                      <a:pt x="15202" y="8"/>
                    </a:cubicBezTo>
                    <a:lnTo>
                      <a:pt x="15202" y="8"/>
                    </a:lnTo>
                    <a:cubicBezTo>
                      <a:pt x="15201" y="8"/>
                      <a:pt x="15200" y="7"/>
                      <a:pt x="15200" y="6"/>
                    </a:cubicBezTo>
                    <a:cubicBezTo>
                      <a:pt x="15200" y="5"/>
                      <a:pt x="15201" y="4"/>
                      <a:pt x="15202" y="4"/>
                    </a:cubicBezTo>
                    <a:close/>
                    <a:moveTo>
                      <a:pt x="15210" y="4"/>
                    </a:moveTo>
                    <a:lnTo>
                      <a:pt x="15210" y="4"/>
                    </a:lnTo>
                    <a:cubicBezTo>
                      <a:pt x="15211" y="4"/>
                      <a:pt x="15212" y="5"/>
                      <a:pt x="15212" y="6"/>
                    </a:cubicBezTo>
                    <a:cubicBezTo>
                      <a:pt x="15212" y="7"/>
                      <a:pt x="15211" y="8"/>
                      <a:pt x="15210" y="8"/>
                    </a:cubicBezTo>
                    <a:lnTo>
                      <a:pt x="15210" y="8"/>
                    </a:lnTo>
                    <a:cubicBezTo>
                      <a:pt x="15209" y="8"/>
                      <a:pt x="15208" y="7"/>
                      <a:pt x="15208" y="6"/>
                    </a:cubicBezTo>
                    <a:cubicBezTo>
                      <a:pt x="15208" y="5"/>
                      <a:pt x="15209" y="4"/>
                      <a:pt x="15210" y="4"/>
                    </a:cubicBezTo>
                    <a:close/>
                    <a:moveTo>
                      <a:pt x="15218" y="4"/>
                    </a:moveTo>
                    <a:lnTo>
                      <a:pt x="15218" y="4"/>
                    </a:lnTo>
                    <a:cubicBezTo>
                      <a:pt x="15219" y="4"/>
                      <a:pt x="15220" y="5"/>
                      <a:pt x="15220" y="6"/>
                    </a:cubicBezTo>
                    <a:cubicBezTo>
                      <a:pt x="15220" y="7"/>
                      <a:pt x="15219" y="8"/>
                      <a:pt x="15218" y="8"/>
                    </a:cubicBezTo>
                    <a:lnTo>
                      <a:pt x="15218" y="8"/>
                    </a:lnTo>
                    <a:cubicBezTo>
                      <a:pt x="15217" y="8"/>
                      <a:pt x="15216" y="7"/>
                      <a:pt x="15216" y="6"/>
                    </a:cubicBezTo>
                    <a:cubicBezTo>
                      <a:pt x="15216" y="5"/>
                      <a:pt x="15217" y="4"/>
                      <a:pt x="15218" y="4"/>
                    </a:cubicBezTo>
                    <a:close/>
                    <a:moveTo>
                      <a:pt x="15226" y="4"/>
                    </a:moveTo>
                    <a:lnTo>
                      <a:pt x="15226" y="4"/>
                    </a:lnTo>
                    <a:cubicBezTo>
                      <a:pt x="15227" y="4"/>
                      <a:pt x="15228" y="5"/>
                      <a:pt x="15228" y="6"/>
                    </a:cubicBezTo>
                    <a:cubicBezTo>
                      <a:pt x="15228" y="7"/>
                      <a:pt x="15227" y="8"/>
                      <a:pt x="15226" y="8"/>
                    </a:cubicBezTo>
                    <a:lnTo>
                      <a:pt x="15226" y="8"/>
                    </a:lnTo>
                    <a:cubicBezTo>
                      <a:pt x="15225" y="8"/>
                      <a:pt x="15224" y="7"/>
                      <a:pt x="15224" y="6"/>
                    </a:cubicBezTo>
                    <a:cubicBezTo>
                      <a:pt x="15224" y="5"/>
                      <a:pt x="15225" y="4"/>
                      <a:pt x="15226" y="4"/>
                    </a:cubicBezTo>
                    <a:close/>
                    <a:moveTo>
                      <a:pt x="15234" y="4"/>
                    </a:moveTo>
                    <a:lnTo>
                      <a:pt x="15234" y="4"/>
                    </a:lnTo>
                    <a:cubicBezTo>
                      <a:pt x="15235" y="4"/>
                      <a:pt x="15236" y="5"/>
                      <a:pt x="15236" y="6"/>
                    </a:cubicBezTo>
                    <a:cubicBezTo>
                      <a:pt x="15236" y="7"/>
                      <a:pt x="15235" y="8"/>
                      <a:pt x="15234" y="8"/>
                    </a:cubicBezTo>
                    <a:lnTo>
                      <a:pt x="15234" y="8"/>
                    </a:lnTo>
                    <a:cubicBezTo>
                      <a:pt x="15233" y="8"/>
                      <a:pt x="15232" y="7"/>
                      <a:pt x="15232" y="6"/>
                    </a:cubicBezTo>
                    <a:cubicBezTo>
                      <a:pt x="15232" y="5"/>
                      <a:pt x="15233" y="4"/>
                      <a:pt x="15234" y="4"/>
                    </a:cubicBezTo>
                    <a:close/>
                    <a:moveTo>
                      <a:pt x="15242" y="4"/>
                    </a:moveTo>
                    <a:lnTo>
                      <a:pt x="15242" y="4"/>
                    </a:lnTo>
                    <a:cubicBezTo>
                      <a:pt x="15243" y="4"/>
                      <a:pt x="15244" y="5"/>
                      <a:pt x="15244" y="6"/>
                    </a:cubicBezTo>
                    <a:cubicBezTo>
                      <a:pt x="15244" y="7"/>
                      <a:pt x="15243" y="8"/>
                      <a:pt x="15242" y="8"/>
                    </a:cubicBezTo>
                    <a:lnTo>
                      <a:pt x="15242" y="8"/>
                    </a:lnTo>
                    <a:cubicBezTo>
                      <a:pt x="15241" y="8"/>
                      <a:pt x="15240" y="7"/>
                      <a:pt x="15240" y="6"/>
                    </a:cubicBezTo>
                    <a:cubicBezTo>
                      <a:pt x="15240" y="5"/>
                      <a:pt x="15241" y="4"/>
                      <a:pt x="15242" y="4"/>
                    </a:cubicBezTo>
                    <a:close/>
                    <a:moveTo>
                      <a:pt x="15250" y="4"/>
                    </a:moveTo>
                    <a:lnTo>
                      <a:pt x="15250" y="4"/>
                    </a:lnTo>
                    <a:cubicBezTo>
                      <a:pt x="15251" y="4"/>
                      <a:pt x="15252" y="5"/>
                      <a:pt x="15252" y="6"/>
                    </a:cubicBezTo>
                    <a:cubicBezTo>
                      <a:pt x="15252" y="7"/>
                      <a:pt x="15251" y="8"/>
                      <a:pt x="15250" y="8"/>
                    </a:cubicBezTo>
                    <a:lnTo>
                      <a:pt x="15250" y="8"/>
                    </a:lnTo>
                    <a:cubicBezTo>
                      <a:pt x="15249" y="8"/>
                      <a:pt x="15248" y="7"/>
                      <a:pt x="15248" y="6"/>
                    </a:cubicBezTo>
                    <a:cubicBezTo>
                      <a:pt x="15248" y="5"/>
                      <a:pt x="15249" y="4"/>
                      <a:pt x="15250" y="4"/>
                    </a:cubicBezTo>
                    <a:close/>
                    <a:moveTo>
                      <a:pt x="15258" y="4"/>
                    </a:moveTo>
                    <a:lnTo>
                      <a:pt x="15258" y="4"/>
                    </a:lnTo>
                    <a:cubicBezTo>
                      <a:pt x="15259" y="4"/>
                      <a:pt x="15260" y="5"/>
                      <a:pt x="15260" y="6"/>
                    </a:cubicBezTo>
                    <a:cubicBezTo>
                      <a:pt x="15260" y="7"/>
                      <a:pt x="15259" y="8"/>
                      <a:pt x="15258" y="8"/>
                    </a:cubicBezTo>
                    <a:lnTo>
                      <a:pt x="15258" y="8"/>
                    </a:lnTo>
                    <a:cubicBezTo>
                      <a:pt x="15257" y="8"/>
                      <a:pt x="15256" y="7"/>
                      <a:pt x="15256" y="6"/>
                    </a:cubicBezTo>
                    <a:cubicBezTo>
                      <a:pt x="15256" y="5"/>
                      <a:pt x="15257" y="4"/>
                      <a:pt x="15258" y="4"/>
                    </a:cubicBezTo>
                    <a:close/>
                    <a:moveTo>
                      <a:pt x="15266" y="4"/>
                    </a:moveTo>
                    <a:lnTo>
                      <a:pt x="15266" y="4"/>
                    </a:lnTo>
                    <a:cubicBezTo>
                      <a:pt x="15267" y="4"/>
                      <a:pt x="15268" y="5"/>
                      <a:pt x="15268" y="6"/>
                    </a:cubicBezTo>
                    <a:cubicBezTo>
                      <a:pt x="15268" y="7"/>
                      <a:pt x="15267" y="8"/>
                      <a:pt x="15266" y="8"/>
                    </a:cubicBezTo>
                    <a:lnTo>
                      <a:pt x="15266" y="8"/>
                    </a:lnTo>
                    <a:cubicBezTo>
                      <a:pt x="15265" y="8"/>
                      <a:pt x="15264" y="7"/>
                      <a:pt x="15264" y="6"/>
                    </a:cubicBezTo>
                    <a:cubicBezTo>
                      <a:pt x="15264" y="5"/>
                      <a:pt x="15265" y="4"/>
                      <a:pt x="15266" y="4"/>
                    </a:cubicBezTo>
                    <a:close/>
                    <a:moveTo>
                      <a:pt x="15274" y="4"/>
                    </a:moveTo>
                    <a:lnTo>
                      <a:pt x="15274" y="4"/>
                    </a:lnTo>
                    <a:cubicBezTo>
                      <a:pt x="15275" y="4"/>
                      <a:pt x="15276" y="5"/>
                      <a:pt x="15276" y="6"/>
                    </a:cubicBezTo>
                    <a:cubicBezTo>
                      <a:pt x="15276" y="7"/>
                      <a:pt x="15275" y="8"/>
                      <a:pt x="15274" y="8"/>
                    </a:cubicBezTo>
                    <a:lnTo>
                      <a:pt x="15274" y="8"/>
                    </a:lnTo>
                    <a:cubicBezTo>
                      <a:pt x="15273" y="8"/>
                      <a:pt x="15272" y="7"/>
                      <a:pt x="15272" y="6"/>
                    </a:cubicBezTo>
                    <a:cubicBezTo>
                      <a:pt x="15272" y="5"/>
                      <a:pt x="15273" y="4"/>
                      <a:pt x="15274" y="4"/>
                    </a:cubicBezTo>
                    <a:close/>
                    <a:moveTo>
                      <a:pt x="15282" y="4"/>
                    </a:moveTo>
                    <a:lnTo>
                      <a:pt x="15282" y="4"/>
                    </a:lnTo>
                    <a:cubicBezTo>
                      <a:pt x="15283" y="4"/>
                      <a:pt x="15284" y="5"/>
                      <a:pt x="15284" y="6"/>
                    </a:cubicBezTo>
                    <a:cubicBezTo>
                      <a:pt x="15284" y="7"/>
                      <a:pt x="15283" y="8"/>
                      <a:pt x="15282" y="8"/>
                    </a:cubicBezTo>
                    <a:lnTo>
                      <a:pt x="15282" y="8"/>
                    </a:lnTo>
                    <a:cubicBezTo>
                      <a:pt x="15281" y="8"/>
                      <a:pt x="15280" y="7"/>
                      <a:pt x="15280" y="6"/>
                    </a:cubicBezTo>
                    <a:cubicBezTo>
                      <a:pt x="15280" y="5"/>
                      <a:pt x="15281" y="4"/>
                      <a:pt x="15282" y="4"/>
                    </a:cubicBezTo>
                    <a:close/>
                    <a:moveTo>
                      <a:pt x="15290" y="4"/>
                    </a:moveTo>
                    <a:lnTo>
                      <a:pt x="15290" y="4"/>
                    </a:lnTo>
                    <a:cubicBezTo>
                      <a:pt x="15291" y="4"/>
                      <a:pt x="15292" y="5"/>
                      <a:pt x="15292" y="6"/>
                    </a:cubicBezTo>
                    <a:cubicBezTo>
                      <a:pt x="15292" y="7"/>
                      <a:pt x="15291" y="8"/>
                      <a:pt x="15290" y="8"/>
                    </a:cubicBezTo>
                    <a:lnTo>
                      <a:pt x="15290" y="8"/>
                    </a:lnTo>
                    <a:cubicBezTo>
                      <a:pt x="15289" y="8"/>
                      <a:pt x="15288" y="7"/>
                      <a:pt x="15288" y="6"/>
                    </a:cubicBezTo>
                    <a:cubicBezTo>
                      <a:pt x="15288" y="5"/>
                      <a:pt x="15289" y="4"/>
                      <a:pt x="15290" y="4"/>
                    </a:cubicBezTo>
                    <a:close/>
                    <a:moveTo>
                      <a:pt x="15298" y="4"/>
                    </a:moveTo>
                    <a:lnTo>
                      <a:pt x="15298" y="4"/>
                    </a:lnTo>
                    <a:cubicBezTo>
                      <a:pt x="15299" y="4"/>
                      <a:pt x="15300" y="5"/>
                      <a:pt x="15300" y="6"/>
                    </a:cubicBezTo>
                    <a:cubicBezTo>
                      <a:pt x="15300" y="7"/>
                      <a:pt x="15299" y="8"/>
                      <a:pt x="15298" y="8"/>
                    </a:cubicBezTo>
                    <a:lnTo>
                      <a:pt x="15298" y="8"/>
                    </a:lnTo>
                    <a:cubicBezTo>
                      <a:pt x="15297" y="8"/>
                      <a:pt x="15296" y="7"/>
                      <a:pt x="15296" y="6"/>
                    </a:cubicBezTo>
                    <a:cubicBezTo>
                      <a:pt x="15296" y="5"/>
                      <a:pt x="15297" y="4"/>
                      <a:pt x="15298" y="4"/>
                    </a:cubicBezTo>
                    <a:close/>
                    <a:moveTo>
                      <a:pt x="15306" y="4"/>
                    </a:moveTo>
                    <a:lnTo>
                      <a:pt x="15306" y="4"/>
                    </a:lnTo>
                    <a:cubicBezTo>
                      <a:pt x="15307" y="4"/>
                      <a:pt x="15308" y="5"/>
                      <a:pt x="15308" y="6"/>
                    </a:cubicBezTo>
                    <a:cubicBezTo>
                      <a:pt x="15308" y="7"/>
                      <a:pt x="15307" y="8"/>
                      <a:pt x="15306" y="8"/>
                    </a:cubicBezTo>
                    <a:lnTo>
                      <a:pt x="15306" y="8"/>
                    </a:lnTo>
                    <a:cubicBezTo>
                      <a:pt x="15305" y="8"/>
                      <a:pt x="15304" y="7"/>
                      <a:pt x="15304" y="6"/>
                    </a:cubicBezTo>
                    <a:cubicBezTo>
                      <a:pt x="15304" y="5"/>
                      <a:pt x="15305" y="4"/>
                      <a:pt x="15306" y="4"/>
                    </a:cubicBezTo>
                    <a:close/>
                    <a:moveTo>
                      <a:pt x="15314" y="4"/>
                    </a:moveTo>
                    <a:lnTo>
                      <a:pt x="15314" y="4"/>
                    </a:lnTo>
                    <a:cubicBezTo>
                      <a:pt x="15315" y="4"/>
                      <a:pt x="15316" y="5"/>
                      <a:pt x="15316" y="6"/>
                    </a:cubicBezTo>
                    <a:cubicBezTo>
                      <a:pt x="15316" y="7"/>
                      <a:pt x="15315" y="8"/>
                      <a:pt x="15314" y="8"/>
                    </a:cubicBezTo>
                    <a:lnTo>
                      <a:pt x="15314" y="8"/>
                    </a:lnTo>
                    <a:cubicBezTo>
                      <a:pt x="15313" y="8"/>
                      <a:pt x="15312" y="7"/>
                      <a:pt x="15312" y="6"/>
                    </a:cubicBezTo>
                    <a:cubicBezTo>
                      <a:pt x="15312" y="5"/>
                      <a:pt x="15313" y="4"/>
                      <a:pt x="15314" y="4"/>
                    </a:cubicBezTo>
                    <a:close/>
                    <a:moveTo>
                      <a:pt x="15322" y="4"/>
                    </a:moveTo>
                    <a:lnTo>
                      <a:pt x="15322" y="4"/>
                    </a:lnTo>
                    <a:cubicBezTo>
                      <a:pt x="15323" y="4"/>
                      <a:pt x="15324" y="5"/>
                      <a:pt x="15324" y="6"/>
                    </a:cubicBezTo>
                    <a:cubicBezTo>
                      <a:pt x="15324" y="7"/>
                      <a:pt x="15323" y="8"/>
                      <a:pt x="15322" y="8"/>
                    </a:cubicBezTo>
                    <a:lnTo>
                      <a:pt x="15322" y="8"/>
                    </a:lnTo>
                    <a:cubicBezTo>
                      <a:pt x="15321" y="8"/>
                      <a:pt x="15320" y="7"/>
                      <a:pt x="15320" y="6"/>
                    </a:cubicBezTo>
                    <a:cubicBezTo>
                      <a:pt x="15320" y="5"/>
                      <a:pt x="15321" y="4"/>
                      <a:pt x="15322" y="4"/>
                    </a:cubicBezTo>
                    <a:close/>
                    <a:moveTo>
                      <a:pt x="15330" y="4"/>
                    </a:moveTo>
                    <a:lnTo>
                      <a:pt x="15330" y="4"/>
                    </a:lnTo>
                    <a:cubicBezTo>
                      <a:pt x="15331" y="4"/>
                      <a:pt x="15332" y="5"/>
                      <a:pt x="15332" y="6"/>
                    </a:cubicBezTo>
                    <a:cubicBezTo>
                      <a:pt x="15332" y="7"/>
                      <a:pt x="15331" y="8"/>
                      <a:pt x="15330" y="8"/>
                    </a:cubicBezTo>
                    <a:lnTo>
                      <a:pt x="15330" y="8"/>
                    </a:lnTo>
                    <a:cubicBezTo>
                      <a:pt x="15329" y="8"/>
                      <a:pt x="15328" y="7"/>
                      <a:pt x="15328" y="6"/>
                    </a:cubicBezTo>
                    <a:cubicBezTo>
                      <a:pt x="15328" y="5"/>
                      <a:pt x="15329" y="4"/>
                      <a:pt x="15330" y="4"/>
                    </a:cubicBezTo>
                    <a:close/>
                    <a:moveTo>
                      <a:pt x="15338" y="4"/>
                    </a:moveTo>
                    <a:lnTo>
                      <a:pt x="15338" y="4"/>
                    </a:lnTo>
                    <a:cubicBezTo>
                      <a:pt x="15339" y="4"/>
                      <a:pt x="15340" y="5"/>
                      <a:pt x="15340" y="6"/>
                    </a:cubicBezTo>
                    <a:cubicBezTo>
                      <a:pt x="15340" y="7"/>
                      <a:pt x="15339" y="8"/>
                      <a:pt x="15338" y="8"/>
                    </a:cubicBezTo>
                    <a:lnTo>
                      <a:pt x="15338" y="8"/>
                    </a:lnTo>
                    <a:cubicBezTo>
                      <a:pt x="15337" y="8"/>
                      <a:pt x="15336" y="7"/>
                      <a:pt x="15336" y="6"/>
                    </a:cubicBezTo>
                    <a:cubicBezTo>
                      <a:pt x="15336" y="5"/>
                      <a:pt x="15337" y="4"/>
                      <a:pt x="15338" y="4"/>
                    </a:cubicBezTo>
                    <a:close/>
                    <a:moveTo>
                      <a:pt x="15346" y="4"/>
                    </a:moveTo>
                    <a:lnTo>
                      <a:pt x="15346" y="4"/>
                    </a:lnTo>
                    <a:cubicBezTo>
                      <a:pt x="15347" y="4"/>
                      <a:pt x="15348" y="5"/>
                      <a:pt x="15348" y="6"/>
                    </a:cubicBezTo>
                    <a:cubicBezTo>
                      <a:pt x="15348" y="7"/>
                      <a:pt x="15347" y="8"/>
                      <a:pt x="15346" y="8"/>
                    </a:cubicBezTo>
                    <a:lnTo>
                      <a:pt x="15346" y="8"/>
                    </a:lnTo>
                    <a:cubicBezTo>
                      <a:pt x="15345" y="8"/>
                      <a:pt x="15344" y="7"/>
                      <a:pt x="15344" y="6"/>
                    </a:cubicBezTo>
                    <a:cubicBezTo>
                      <a:pt x="15344" y="5"/>
                      <a:pt x="15345" y="4"/>
                      <a:pt x="15346" y="4"/>
                    </a:cubicBezTo>
                    <a:close/>
                    <a:moveTo>
                      <a:pt x="15354" y="4"/>
                    </a:moveTo>
                    <a:lnTo>
                      <a:pt x="15354" y="4"/>
                    </a:lnTo>
                    <a:cubicBezTo>
                      <a:pt x="15355" y="4"/>
                      <a:pt x="15356" y="5"/>
                      <a:pt x="15356" y="6"/>
                    </a:cubicBezTo>
                    <a:cubicBezTo>
                      <a:pt x="15356" y="7"/>
                      <a:pt x="15355" y="8"/>
                      <a:pt x="15354" y="8"/>
                    </a:cubicBezTo>
                    <a:lnTo>
                      <a:pt x="15354" y="8"/>
                    </a:lnTo>
                    <a:cubicBezTo>
                      <a:pt x="15353" y="8"/>
                      <a:pt x="15352" y="7"/>
                      <a:pt x="15352" y="6"/>
                    </a:cubicBezTo>
                    <a:cubicBezTo>
                      <a:pt x="15352" y="5"/>
                      <a:pt x="15353" y="4"/>
                      <a:pt x="15354" y="4"/>
                    </a:cubicBezTo>
                    <a:close/>
                    <a:moveTo>
                      <a:pt x="15362" y="4"/>
                    </a:moveTo>
                    <a:lnTo>
                      <a:pt x="15362" y="4"/>
                    </a:lnTo>
                    <a:cubicBezTo>
                      <a:pt x="15363" y="4"/>
                      <a:pt x="15364" y="5"/>
                      <a:pt x="15364" y="6"/>
                    </a:cubicBezTo>
                    <a:cubicBezTo>
                      <a:pt x="15364" y="7"/>
                      <a:pt x="15363" y="8"/>
                      <a:pt x="15362" y="8"/>
                    </a:cubicBezTo>
                    <a:lnTo>
                      <a:pt x="15362" y="8"/>
                    </a:lnTo>
                    <a:cubicBezTo>
                      <a:pt x="15361" y="8"/>
                      <a:pt x="15360" y="7"/>
                      <a:pt x="15360" y="6"/>
                    </a:cubicBezTo>
                    <a:cubicBezTo>
                      <a:pt x="15360" y="5"/>
                      <a:pt x="15361" y="4"/>
                      <a:pt x="15362" y="4"/>
                    </a:cubicBezTo>
                    <a:close/>
                    <a:moveTo>
                      <a:pt x="15370" y="4"/>
                    </a:moveTo>
                    <a:lnTo>
                      <a:pt x="15370" y="4"/>
                    </a:lnTo>
                    <a:cubicBezTo>
                      <a:pt x="15371" y="4"/>
                      <a:pt x="15372" y="5"/>
                      <a:pt x="15372" y="6"/>
                    </a:cubicBezTo>
                    <a:cubicBezTo>
                      <a:pt x="15372" y="7"/>
                      <a:pt x="15371" y="8"/>
                      <a:pt x="15370" y="8"/>
                    </a:cubicBezTo>
                    <a:lnTo>
                      <a:pt x="15370" y="8"/>
                    </a:lnTo>
                    <a:cubicBezTo>
                      <a:pt x="15369" y="8"/>
                      <a:pt x="15368" y="7"/>
                      <a:pt x="15368" y="6"/>
                    </a:cubicBezTo>
                    <a:cubicBezTo>
                      <a:pt x="15368" y="5"/>
                      <a:pt x="15369" y="4"/>
                      <a:pt x="15370" y="4"/>
                    </a:cubicBezTo>
                    <a:close/>
                    <a:moveTo>
                      <a:pt x="15378" y="4"/>
                    </a:moveTo>
                    <a:lnTo>
                      <a:pt x="15378" y="4"/>
                    </a:lnTo>
                    <a:cubicBezTo>
                      <a:pt x="15379" y="4"/>
                      <a:pt x="15380" y="5"/>
                      <a:pt x="15380" y="6"/>
                    </a:cubicBezTo>
                    <a:cubicBezTo>
                      <a:pt x="15380" y="7"/>
                      <a:pt x="15379" y="8"/>
                      <a:pt x="15378" y="8"/>
                    </a:cubicBezTo>
                    <a:lnTo>
                      <a:pt x="15378" y="8"/>
                    </a:lnTo>
                    <a:cubicBezTo>
                      <a:pt x="15377" y="8"/>
                      <a:pt x="15376" y="7"/>
                      <a:pt x="15376" y="6"/>
                    </a:cubicBezTo>
                    <a:cubicBezTo>
                      <a:pt x="15376" y="5"/>
                      <a:pt x="15377" y="4"/>
                      <a:pt x="15378" y="4"/>
                    </a:cubicBezTo>
                    <a:close/>
                    <a:moveTo>
                      <a:pt x="15386" y="4"/>
                    </a:moveTo>
                    <a:lnTo>
                      <a:pt x="15386" y="4"/>
                    </a:lnTo>
                    <a:cubicBezTo>
                      <a:pt x="15387" y="4"/>
                      <a:pt x="15388" y="5"/>
                      <a:pt x="15388" y="6"/>
                    </a:cubicBezTo>
                    <a:cubicBezTo>
                      <a:pt x="15388" y="7"/>
                      <a:pt x="15387" y="8"/>
                      <a:pt x="15386" y="8"/>
                    </a:cubicBezTo>
                    <a:lnTo>
                      <a:pt x="15386" y="8"/>
                    </a:lnTo>
                    <a:cubicBezTo>
                      <a:pt x="15385" y="8"/>
                      <a:pt x="15384" y="7"/>
                      <a:pt x="15384" y="6"/>
                    </a:cubicBezTo>
                    <a:cubicBezTo>
                      <a:pt x="15384" y="5"/>
                      <a:pt x="15385" y="4"/>
                      <a:pt x="15386" y="4"/>
                    </a:cubicBezTo>
                    <a:close/>
                    <a:moveTo>
                      <a:pt x="15394" y="4"/>
                    </a:moveTo>
                    <a:lnTo>
                      <a:pt x="15394" y="4"/>
                    </a:lnTo>
                    <a:cubicBezTo>
                      <a:pt x="15395" y="4"/>
                      <a:pt x="15396" y="5"/>
                      <a:pt x="15396" y="6"/>
                    </a:cubicBezTo>
                    <a:cubicBezTo>
                      <a:pt x="15396" y="7"/>
                      <a:pt x="15395" y="8"/>
                      <a:pt x="15394" y="8"/>
                    </a:cubicBezTo>
                    <a:lnTo>
                      <a:pt x="15394" y="8"/>
                    </a:lnTo>
                    <a:cubicBezTo>
                      <a:pt x="15393" y="8"/>
                      <a:pt x="15392" y="7"/>
                      <a:pt x="15392" y="6"/>
                    </a:cubicBezTo>
                    <a:cubicBezTo>
                      <a:pt x="15392" y="5"/>
                      <a:pt x="15393" y="4"/>
                      <a:pt x="15394" y="4"/>
                    </a:cubicBezTo>
                    <a:close/>
                    <a:moveTo>
                      <a:pt x="15402" y="4"/>
                    </a:moveTo>
                    <a:lnTo>
                      <a:pt x="15402" y="4"/>
                    </a:lnTo>
                    <a:cubicBezTo>
                      <a:pt x="15403" y="4"/>
                      <a:pt x="15404" y="5"/>
                      <a:pt x="15404" y="6"/>
                    </a:cubicBezTo>
                    <a:cubicBezTo>
                      <a:pt x="15404" y="7"/>
                      <a:pt x="15403" y="8"/>
                      <a:pt x="15402" y="8"/>
                    </a:cubicBezTo>
                    <a:lnTo>
                      <a:pt x="15402" y="8"/>
                    </a:lnTo>
                    <a:cubicBezTo>
                      <a:pt x="15401" y="8"/>
                      <a:pt x="15400" y="7"/>
                      <a:pt x="15400" y="6"/>
                    </a:cubicBezTo>
                    <a:cubicBezTo>
                      <a:pt x="15400" y="5"/>
                      <a:pt x="15401" y="4"/>
                      <a:pt x="15402" y="4"/>
                    </a:cubicBezTo>
                    <a:close/>
                    <a:moveTo>
                      <a:pt x="15410" y="4"/>
                    </a:moveTo>
                    <a:lnTo>
                      <a:pt x="15410" y="4"/>
                    </a:lnTo>
                    <a:cubicBezTo>
                      <a:pt x="15411" y="4"/>
                      <a:pt x="15412" y="5"/>
                      <a:pt x="15412" y="6"/>
                    </a:cubicBezTo>
                    <a:cubicBezTo>
                      <a:pt x="15412" y="7"/>
                      <a:pt x="15411" y="8"/>
                      <a:pt x="15410" y="8"/>
                    </a:cubicBezTo>
                    <a:lnTo>
                      <a:pt x="15410" y="8"/>
                    </a:lnTo>
                    <a:cubicBezTo>
                      <a:pt x="15409" y="8"/>
                      <a:pt x="15408" y="7"/>
                      <a:pt x="15408" y="6"/>
                    </a:cubicBezTo>
                    <a:cubicBezTo>
                      <a:pt x="15408" y="5"/>
                      <a:pt x="15409" y="4"/>
                      <a:pt x="15410" y="4"/>
                    </a:cubicBezTo>
                    <a:close/>
                    <a:moveTo>
                      <a:pt x="15418" y="4"/>
                    </a:moveTo>
                    <a:lnTo>
                      <a:pt x="15418" y="4"/>
                    </a:lnTo>
                    <a:cubicBezTo>
                      <a:pt x="15419" y="4"/>
                      <a:pt x="15420" y="5"/>
                      <a:pt x="15420" y="6"/>
                    </a:cubicBezTo>
                    <a:cubicBezTo>
                      <a:pt x="15420" y="7"/>
                      <a:pt x="15419" y="8"/>
                      <a:pt x="15418" y="8"/>
                    </a:cubicBezTo>
                    <a:lnTo>
                      <a:pt x="15418" y="8"/>
                    </a:lnTo>
                    <a:cubicBezTo>
                      <a:pt x="15417" y="8"/>
                      <a:pt x="15416" y="7"/>
                      <a:pt x="15416" y="6"/>
                    </a:cubicBezTo>
                    <a:cubicBezTo>
                      <a:pt x="15416" y="5"/>
                      <a:pt x="15417" y="4"/>
                      <a:pt x="15418" y="4"/>
                    </a:cubicBezTo>
                    <a:close/>
                    <a:moveTo>
                      <a:pt x="15426" y="4"/>
                    </a:moveTo>
                    <a:lnTo>
                      <a:pt x="15426" y="4"/>
                    </a:lnTo>
                    <a:cubicBezTo>
                      <a:pt x="15427" y="4"/>
                      <a:pt x="15428" y="5"/>
                      <a:pt x="15428" y="6"/>
                    </a:cubicBezTo>
                    <a:cubicBezTo>
                      <a:pt x="15428" y="7"/>
                      <a:pt x="15427" y="8"/>
                      <a:pt x="15426" y="8"/>
                    </a:cubicBezTo>
                    <a:lnTo>
                      <a:pt x="15426" y="8"/>
                    </a:lnTo>
                    <a:cubicBezTo>
                      <a:pt x="15425" y="8"/>
                      <a:pt x="15424" y="7"/>
                      <a:pt x="15424" y="6"/>
                    </a:cubicBezTo>
                    <a:cubicBezTo>
                      <a:pt x="15424" y="5"/>
                      <a:pt x="15425" y="4"/>
                      <a:pt x="15426" y="4"/>
                    </a:cubicBezTo>
                    <a:close/>
                    <a:moveTo>
                      <a:pt x="15434" y="4"/>
                    </a:moveTo>
                    <a:lnTo>
                      <a:pt x="15434" y="4"/>
                    </a:lnTo>
                    <a:cubicBezTo>
                      <a:pt x="15435" y="4"/>
                      <a:pt x="15436" y="5"/>
                      <a:pt x="15436" y="6"/>
                    </a:cubicBezTo>
                    <a:cubicBezTo>
                      <a:pt x="15436" y="7"/>
                      <a:pt x="15435" y="8"/>
                      <a:pt x="15434" y="8"/>
                    </a:cubicBezTo>
                    <a:lnTo>
                      <a:pt x="15434" y="8"/>
                    </a:lnTo>
                    <a:cubicBezTo>
                      <a:pt x="15433" y="8"/>
                      <a:pt x="15432" y="7"/>
                      <a:pt x="15432" y="6"/>
                    </a:cubicBezTo>
                    <a:cubicBezTo>
                      <a:pt x="15432" y="5"/>
                      <a:pt x="15433" y="4"/>
                      <a:pt x="15434" y="4"/>
                    </a:cubicBezTo>
                    <a:close/>
                    <a:moveTo>
                      <a:pt x="15442" y="4"/>
                    </a:moveTo>
                    <a:lnTo>
                      <a:pt x="15442" y="4"/>
                    </a:lnTo>
                    <a:cubicBezTo>
                      <a:pt x="15443" y="4"/>
                      <a:pt x="15444" y="5"/>
                      <a:pt x="15444" y="6"/>
                    </a:cubicBezTo>
                    <a:cubicBezTo>
                      <a:pt x="15444" y="7"/>
                      <a:pt x="15443" y="8"/>
                      <a:pt x="15442" y="8"/>
                    </a:cubicBezTo>
                    <a:lnTo>
                      <a:pt x="15442" y="8"/>
                    </a:lnTo>
                    <a:cubicBezTo>
                      <a:pt x="15441" y="8"/>
                      <a:pt x="15440" y="7"/>
                      <a:pt x="15440" y="6"/>
                    </a:cubicBezTo>
                    <a:cubicBezTo>
                      <a:pt x="15440" y="5"/>
                      <a:pt x="15441" y="4"/>
                      <a:pt x="15442" y="4"/>
                    </a:cubicBezTo>
                    <a:close/>
                    <a:moveTo>
                      <a:pt x="15450" y="4"/>
                    </a:moveTo>
                    <a:lnTo>
                      <a:pt x="15450" y="4"/>
                    </a:lnTo>
                    <a:cubicBezTo>
                      <a:pt x="15451" y="4"/>
                      <a:pt x="15452" y="5"/>
                      <a:pt x="15452" y="6"/>
                    </a:cubicBezTo>
                    <a:cubicBezTo>
                      <a:pt x="15452" y="7"/>
                      <a:pt x="15451" y="8"/>
                      <a:pt x="15450" y="8"/>
                    </a:cubicBezTo>
                    <a:lnTo>
                      <a:pt x="15450" y="8"/>
                    </a:lnTo>
                    <a:cubicBezTo>
                      <a:pt x="15449" y="8"/>
                      <a:pt x="15448" y="7"/>
                      <a:pt x="15448" y="6"/>
                    </a:cubicBezTo>
                    <a:cubicBezTo>
                      <a:pt x="15448" y="5"/>
                      <a:pt x="15449" y="4"/>
                      <a:pt x="15450" y="4"/>
                    </a:cubicBezTo>
                    <a:close/>
                    <a:moveTo>
                      <a:pt x="15458" y="4"/>
                    </a:moveTo>
                    <a:lnTo>
                      <a:pt x="15458" y="4"/>
                    </a:lnTo>
                    <a:cubicBezTo>
                      <a:pt x="15459" y="4"/>
                      <a:pt x="15460" y="5"/>
                      <a:pt x="15460" y="6"/>
                    </a:cubicBezTo>
                    <a:cubicBezTo>
                      <a:pt x="15460" y="7"/>
                      <a:pt x="15459" y="8"/>
                      <a:pt x="15458" y="8"/>
                    </a:cubicBezTo>
                    <a:lnTo>
                      <a:pt x="15458" y="8"/>
                    </a:lnTo>
                    <a:cubicBezTo>
                      <a:pt x="15457" y="8"/>
                      <a:pt x="15456" y="7"/>
                      <a:pt x="15456" y="6"/>
                    </a:cubicBezTo>
                    <a:cubicBezTo>
                      <a:pt x="15456" y="5"/>
                      <a:pt x="15457" y="4"/>
                      <a:pt x="15458" y="4"/>
                    </a:cubicBezTo>
                    <a:close/>
                    <a:moveTo>
                      <a:pt x="15466" y="4"/>
                    </a:moveTo>
                    <a:lnTo>
                      <a:pt x="15466" y="4"/>
                    </a:lnTo>
                    <a:cubicBezTo>
                      <a:pt x="15467" y="4"/>
                      <a:pt x="15468" y="5"/>
                      <a:pt x="15468" y="6"/>
                    </a:cubicBezTo>
                    <a:cubicBezTo>
                      <a:pt x="15468" y="7"/>
                      <a:pt x="15467" y="8"/>
                      <a:pt x="15466" y="8"/>
                    </a:cubicBezTo>
                    <a:lnTo>
                      <a:pt x="15466" y="8"/>
                    </a:lnTo>
                    <a:cubicBezTo>
                      <a:pt x="15465" y="8"/>
                      <a:pt x="15464" y="7"/>
                      <a:pt x="15464" y="6"/>
                    </a:cubicBezTo>
                    <a:cubicBezTo>
                      <a:pt x="15464" y="5"/>
                      <a:pt x="15465" y="4"/>
                      <a:pt x="15466" y="4"/>
                    </a:cubicBezTo>
                    <a:close/>
                    <a:moveTo>
                      <a:pt x="15474" y="4"/>
                    </a:moveTo>
                    <a:lnTo>
                      <a:pt x="15474" y="4"/>
                    </a:lnTo>
                    <a:cubicBezTo>
                      <a:pt x="15475" y="4"/>
                      <a:pt x="15476" y="5"/>
                      <a:pt x="15476" y="6"/>
                    </a:cubicBezTo>
                    <a:cubicBezTo>
                      <a:pt x="15476" y="7"/>
                      <a:pt x="15475" y="8"/>
                      <a:pt x="15474" y="8"/>
                    </a:cubicBezTo>
                    <a:lnTo>
                      <a:pt x="15474" y="8"/>
                    </a:lnTo>
                    <a:cubicBezTo>
                      <a:pt x="15473" y="8"/>
                      <a:pt x="15472" y="7"/>
                      <a:pt x="15472" y="6"/>
                    </a:cubicBezTo>
                    <a:cubicBezTo>
                      <a:pt x="15472" y="5"/>
                      <a:pt x="15473" y="4"/>
                      <a:pt x="15474" y="4"/>
                    </a:cubicBezTo>
                    <a:close/>
                    <a:moveTo>
                      <a:pt x="15482" y="4"/>
                    </a:moveTo>
                    <a:lnTo>
                      <a:pt x="15482" y="4"/>
                    </a:lnTo>
                    <a:cubicBezTo>
                      <a:pt x="15483" y="4"/>
                      <a:pt x="15484" y="5"/>
                      <a:pt x="15484" y="6"/>
                    </a:cubicBezTo>
                    <a:cubicBezTo>
                      <a:pt x="15484" y="7"/>
                      <a:pt x="15483" y="8"/>
                      <a:pt x="15482" y="8"/>
                    </a:cubicBezTo>
                    <a:lnTo>
                      <a:pt x="15482" y="8"/>
                    </a:lnTo>
                    <a:cubicBezTo>
                      <a:pt x="15481" y="8"/>
                      <a:pt x="15480" y="7"/>
                      <a:pt x="15480" y="6"/>
                    </a:cubicBezTo>
                    <a:cubicBezTo>
                      <a:pt x="15480" y="5"/>
                      <a:pt x="15481" y="4"/>
                      <a:pt x="15482" y="4"/>
                    </a:cubicBezTo>
                    <a:close/>
                    <a:moveTo>
                      <a:pt x="15490" y="4"/>
                    </a:moveTo>
                    <a:lnTo>
                      <a:pt x="15490" y="4"/>
                    </a:lnTo>
                    <a:cubicBezTo>
                      <a:pt x="15491" y="4"/>
                      <a:pt x="15492" y="5"/>
                      <a:pt x="15492" y="6"/>
                    </a:cubicBezTo>
                    <a:cubicBezTo>
                      <a:pt x="15492" y="7"/>
                      <a:pt x="15491" y="8"/>
                      <a:pt x="15490" y="8"/>
                    </a:cubicBezTo>
                    <a:lnTo>
                      <a:pt x="15490" y="8"/>
                    </a:lnTo>
                    <a:cubicBezTo>
                      <a:pt x="15489" y="8"/>
                      <a:pt x="15488" y="7"/>
                      <a:pt x="15488" y="6"/>
                    </a:cubicBezTo>
                    <a:cubicBezTo>
                      <a:pt x="15488" y="5"/>
                      <a:pt x="15489" y="4"/>
                      <a:pt x="15490" y="4"/>
                    </a:cubicBezTo>
                    <a:close/>
                    <a:moveTo>
                      <a:pt x="15498" y="4"/>
                    </a:moveTo>
                    <a:lnTo>
                      <a:pt x="15498" y="4"/>
                    </a:lnTo>
                    <a:cubicBezTo>
                      <a:pt x="15499" y="4"/>
                      <a:pt x="15500" y="5"/>
                      <a:pt x="15500" y="6"/>
                    </a:cubicBezTo>
                    <a:cubicBezTo>
                      <a:pt x="15500" y="7"/>
                      <a:pt x="15499" y="8"/>
                      <a:pt x="15498" y="8"/>
                    </a:cubicBezTo>
                    <a:lnTo>
                      <a:pt x="15498" y="8"/>
                    </a:lnTo>
                    <a:cubicBezTo>
                      <a:pt x="15497" y="8"/>
                      <a:pt x="15496" y="7"/>
                      <a:pt x="15496" y="6"/>
                    </a:cubicBezTo>
                    <a:cubicBezTo>
                      <a:pt x="15496" y="5"/>
                      <a:pt x="15497" y="4"/>
                      <a:pt x="15498" y="4"/>
                    </a:cubicBezTo>
                    <a:close/>
                    <a:moveTo>
                      <a:pt x="15506" y="4"/>
                    </a:moveTo>
                    <a:lnTo>
                      <a:pt x="15506" y="4"/>
                    </a:lnTo>
                    <a:cubicBezTo>
                      <a:pt x="15507" y="4"/>
                      <a:pt x="15508" y="5"/>
                      <a:pt x="15508" y="6"/>
                    </a:cubicBezTo>
                    <a:cubicBezTo>
                      <a:pt x="15508" y="7"/>
                      <a:pt x="15507" y="8"/>
                      <a:pt x="15506" y="8"/>
                    </a:cubicBezTo>
                    <a:lnTo>
                      <a:pt x="15506" y="8"/>
                    </a:lnTo>
                    <a:cubicBezTo>
                      <a:pt x="15505" y="8"/>
                      <a:pt x="15504" y="7"/>
                      <a:pt x="15504" y="6"/>
                    </a:cubicBezTo>
                    <a:cubicBezTo>
                      <a:pt x="15504" y="5"/>
                      <a:pt x="15505" y="4"/>
                      <a:pt x="15506" y="4"/>
                    </a:cubicBezTo>
                    <a:close/>
                    <a:moveTo>
                      <a:pt x="15514" y="4"/>
                    </a:moveTo>
                    <a:lnTo>
                      <a:pt x="15514" y="4"/>
                    </a:lnTo>
                    <a:cubicBezTo>
                      <a:pt x="15515" y="4"/>
                      <a:pt x="15516" y="5"/>
                      <a:pt x="15516" y="6"/>
                    </a:cubicBezTo>
                    <a:cubicBezTo>
                      <a:pt x="15516" y="7"/>
                      <a:pt x="15515" y="8"/>
                      <a:pt x="15514" y="8"/>
                    </a:cubicBezTo>
                    <a:lnTo>
                      <a:pt x="15514" y="8"/>
                    </a:lnTo>
                    <a:cubicBezTo>
                      <a:pt x="15513" y="8"/>
                      <a:pt x="15512" y="7"/>
                      <a:pt x="15512" y="6"/>
                    </a:cubicBezTo>
                    <a:cubicBezTo>
                      <a:pt x="15512" y="5"/>
                      <a:pt x="15513" y="4"/>
                      <a:pt x="15514" y="4"/>
                    </a:cubicBezTo>
                    <a:close/>
                    <a:moveTo>
                      <a:pt x="15522" y="4"/>
                    </a:moveTo>
                    <a:lnTo>
                      <a:pt x="15522" y="4"/>
                    </a:lnTo>
                    <a:cubicBezTo>
                      <a:pt x="15523" y="4"/>
                      <a:pt x="15524" y="5"/>
                      <a:pt x="15524" y="6"/>
                    </a:cubicBezTo>
                    <a:cubicBezTo>
                      <a:pt x="15524" y="7"/>
                      <a:pt x="15523" y="8"/>
                      <a:pt x="15522" y="8"/>
                    </a:cubicBezTo>
                    <a:lnTo>
                      <a:pt x="15522" y="8"/>
                    </a:lnTo>
                    <a:cubicBezTo>
                      <a:pt x="15521" y="8"/>
                      <a:pt x="15520" y="7"/>
                      <a:pt x="15520" y="6"/>
                    </a:cubicBezTo>
                    <a:cubicBezTo>
                      <a:pt x="15520" y="5"/>
                      <a:pt x="15521" y="4"/>
                      <a:pt x="15522" y="4"/>
                    </a:cubicBezTo>
                    <a:close/>
                    <a:moveTo>
                      <a:pt x="15530" y="4"/>
                    </a:moveTo>
                    <a:lnTo>
                      <a:pt x="15530" y="4"/>
                    </a:lnTo>
                    <a:cubicBezTo>
                      <a:pt x="15532" y="4"/>
                      <a:pt x="15532" y="5"/>
                      <a:pt x="15532" y="6"/>
                    </a:cubicBezTo>
                    <a:cubicBezTo>
                      <a:pt x="15532" y="7"/>
                      <a:pt x="15532" y="8"/>
                      <a:pt x="15530" y="8"/>
                    </a:cubicBezTo>
                    <a:lnTo>
                      <a:pt x="15530" y="8"/>
                    </a:lnTo>
                    <a:cubicBezTo>
                      <a:pt x="15529" y="8"/>
                      <a:pt x="15528" y="7"/>
                      <a:pt x="15528" y="6"/>
                    </a:cubicBezTo>
                    <a:cubicBezTo>
                      <a:pt x="15528" y="5"/>
                      <a:pt x="15529" y="4"/>
                      <a:pt x="15530" y="4"/>
                    </a:cubicBezTo>
                    <a:close/>
                    <a:moveTo>
                      <a:pt x="15538" y="4"/>
                    </a:moveTo>
                    <a:lnTo>
                      <a:pt x="15538" y="4"/>
                    </a:lnTo>
                    <a:cubicBezTo>
                      <a:pt x="15540" y="4"/>
                      <a:pt x="15540" y="5"/>
                      <a:pt x="15540" y="6"/>
                    </a:cubicBezTo>
                    <a:cubicBezTo>
                      <a:pt x="15540" y="7"/>
                      <a:pt x="15540" y="8"/>
                      <a:pt x="15538" y="8"/>
                    </a:cubicBezTo>
                    <a:lnTo>
                      <a:pt x="15538" y="8"/>
                    </a:lnTo>
                    <a:cubicBezTo>
                      <a:pt x="15537" y="8"/>
                      <a:pt x="15536" y="7"/>
                      <a:pt x="15536" y="6"/>
                    </a:cubicBezTo>
                    <a:cubicBezTo>
                      <a:pt x="15536" y="5"/>
                      <a:pt x="15537" y="4"/>
                      <a:pt x="15538" y="4"/>
                    </a:cubicBezTo>
                    <a:close/>
                    <a:moveTo>
                      <a:pt x="15546" y="4"/>
                    </a:moveTo>
                    <a:lnTo>
                      <a:pt x="15546" y="4"/>
                    </a:lnTo>
                    <a:cubicBezTo>
                      <a:pt x="15548" y="4"/>
                      <a:pt x="15548" y="5"/>
                      <a:pt x="15548" y="6"/>
                    </a:cubicBezTo>
                    <a:cubicBezTo>
                      <a:pt x="15548" y="7"/>
                      <a:pt x="15548" y="8"/>
                      <a:pt x="15546" y="8"/>
                    </a:cubicBezTo>
                    <a:lnTo>
                      <a:pt x="15546" y="8"/>
                    </a:lnTo>
                    <a:cubicBezTo>
                      <a:pt x="15545" y="8"/>
                      <a:pt x="15544" y="7"/>
                      <a:pt x="15544" y="6"/>
                    </a:cubicBezTo>
                    <a:cubicBezTo>
                      <a:pt x="15544" y="5"/>
                      <a:pt x="15545" y="4"/>
                      <a:pt x="15546" y="4"/>
                    </a:cubicBezTo>
                    <a:close/>
                    <a:moveTo>
                      <a:pt x="15554" y="4"/>
                    </a:moveTo>
                    <a:lnTo>
                      <a:pt x="15554" y="4"/>
                    </a:lnTo>
                    <a:cubicBezTo>
                      <a:pt x="15556" y="4"/>
                      <a:pt x="15556" y="5"/>
                      <a:pt x="15556" y="6"/>
                    </a:cubicBezTo>
                    <a:cubicBezTo>
                      <a:pt x="15556" y="7"/>
                      <a:pt x="15556" y="8"/>
                      <a:pt x="15554" y="8"/>
                    </a:cubicBezTo>
                    <a:lnTo>
                      <a:pt x="15554" y="8"/>
                    </a:lnTo>
                    <a:cubicBezTo>
                      <a:pt x="15553" y="8"/>
                      <a:pt x="15552" y="7"/>
                      <a:pt x="15552" y="6"/>
                    </a:cubicBezTo>
                    <a:cubicBezTo>
                      <a:pt x="15552" y="5"/>
                      <a:pt x="15553" y="4"/>
                      <a:pt x="15554" y="4"/>
                    </a:cubicBezTo>
                    <a:close/>
                    <a:moveTo>
                      <a:pt x="15562" y="4"/>
                    </a:moveTo>
                    <a:lnTo>
                      <a:pt x="15562" y="4"/>
                    </a:lnTo>
                    <a:cubicBezTo>
                      <a:pt x="15564" y="4"/>
                      <a:pt x="15564" y="5"/>
                      <a:pt x="15564" y="6"/>
                    </a:cubicBezTo>
                    <a:cubicBezTo>
                      <a:pt x="15564" y="7"/>
                      <a:pt x="15564" y="8"/>
                      <a:pt x="15562" y="8"/>
                    </a:cubicBezTo>
                    <a:lnTo>
                      <a:pt x="15562" y="8"/>
                    </a:lnTo>
                    <a:cubicBezTo>
                      <a:pt x="15561" y="8"/>
                      <a:pt x="15560" y="7"/>
                      <a:pt x="15560" y="6"/>
                    </a:cubicBezTo>
                    <a:cubicBezTo>
                      <a:pt x="15560" y="5"/>
                      <a:pt x="15561" y="4"/>
                      <a:pt x="15562" y="4"/>
                    </a:cubicBezTo>
                    <a:close/>
                    <a:moveTo>
                      <a:pt x="15570" y="4"/>
                    </a:moveTo>
                    <a:lnTo>
                      <a:pt x="15570" y="4"/>
                    </a:lnTo>
                    <a:cubicBezTo>
                      <a:pt x="15572" y="4"/>
                      <a:pt x="15572" y="5"/>
                      <a:pt x="15572" y="6"/>
                    </a:cubicBezTo>
                    <a:cubicBezTo>
                      <a:pt x="15572" y="7"/>
                      <a:pt x="15572" y="8"/>
                      <a:pt x="15570" y="8"/>
                    </a:cubicBezTo>
                    <a:lnTo>
                      <a:pt x="15570" y="8"/>
                    </a:lnTo>
                    <a:cubicBezTo>
                      <a:pt x="15569" y="8"/>
                      <a:pt x="15568" y="7"/>
                      <a:pt x="15568" y="6"/>
                    </a:cubicBezTo>
                    <a:cubicBezTo>
                      <a:pt x="15568" y="5"/>
                      <a:pt x="15569" y="4"/>
                      <a:pt x="15570" y="4"/>
                    </a:cubicBezTo>
                    <a:close/>
                    <a:moveTo>
                      <a:pt x="15578" y="4"/>
                    </a:moveTo>
                    <a:lnTo>
                      <a:pt x="15578" y="4"/>
                    </a:lnTo>
                    <a:cubicBezTo>
                      <a:pt x="15580" y="4"/>
                      <a:pt x="15580" y="5"/>
                      <a:pt x="15580" y="6"/>
                    </a:cubicBezTo>
                    <a:cubicBezTo>
                      <a:pt x="15580" y="7"/>
                      <a:pt x="15580" y="8"/>
                      <a:pt x="15578" y="8"/>
                    </a:cubicBezTo>
                    <a:lnTo>
                      <a:pt x="15578" y="8"/>
                    </a:lnTo>
                    <a:cubicBezTo>
                      <a:pt x="15577" y="8"/>
                      <a:pt x="15576" y="7"/>
                      <a:pt x="15576" y="6"/>
                    </a:cubicBezTo>
                    <a:cubicBezTo>
                      <a:pt x="15576" y="5"/>
                      <a:pt x="15577" y="4"/>
                      <a:pt x="15578" y="4"/>
                    </a:cubicBezTo>
                    <a:close/>
                    <a:moveTo>
                      <a:pt x="15586" y="4"/>
                    </a:moveTo>
                    <a:lnTo>
                      <a:pt x="15586" y="4"/>
                    </a:lnTo>
                    <a:cubicBezTo>
                      <a:pt x="15588" y="4"/>
                      <a:pt x="15588" y="5"/>
                      <a:pt x="15588" y="6"/>
                    </a:cubicBezTo>
                    <a:cubicBezTo>
                      <a:pt x="15588" y="7"/>
                      <a:pt x="15588" y="8"/>
                      <a:pt x="15586" y="8"/>
                    </a:cubicBezTo>
                    <a:lnTo>
                      <a:pt x="15586" y="8"/>
                    </a:lnTo>
                    <a:cubicBezTo>
                      <a:pt x="15585" y="8"/>
                      <a:pt x="15584" y="7"/>
                      <a:pt x="15584" y="6"/>
                    </a:cubicBezTo>
                    <a:cubicBezTo>
                      <a:pt x="15584" y="5"/>
                      <a:pt x="15585" y="4"/>
                      <a:pt x="15586" y="4"/>
                    </a:cubicBezTo>
                    <a:close/>
                    <a:moveTo>
                      <a:pt x="15594" y="4"/>
                    </a:moveTo>
                    <a:lnTo>
                      <a:pt x="15594" y="4"/>
                    </a:lnTo>
                    <a:cubicBezTo>
                      <a:pt x="15596" y="4"/>
                      <a:pt x="15596" y="5"/>
                      <a:pt x="15596" y="6"/>
                    </a:cubicBezTo>
                    <a:cubicBezTo>
                      <a:pt x="15596" y="7"/>
                      <a:pt x="15596" y="8"/>
                      <a:pt x="15594" y="8"/>
                    </a:cubicBezTo>
                    <a:lnTo>
                      <a:pt x="15594" y="8"/>
                    </a:lnTo>
                    <a:cubicBezTo>
                      <a:pt x="15593" y="8"/>
                      <a:pt x="15592" y="7"/>
                      <a:pt x="15592" y="6"/>
                    </a:cubicBezTo>
                    <a:cubicBezTo>
                      <a:pt x="15592" y="5"/>
                      <a:pt x="15593" y="4"/>
                      <a:pt x="15594" y="4"/>
                    </a:cubicBezTo>
                    <a:close/>
                    <a:moveTo>
                      <a:pt x="15602" y="4"/>
                    </a:moveTo>
                    <a:lnTo>
                      <a:pt x="15602" y="4"/>
                    </a:lnTo>
                    <a:cubicBezTo>
                      <a:pt x="15604" y="4"/>
                      <a:pt x="15604" y="5"/>
                      <a:pt x="15604" y="6"/>
                    </a:cubicBezTo>
                    <a:cubicBezTo>
                      <a:pt x="15604" y="7"/>
                      <a:pt x="15604" y="8"/>
                      <a:pt x="15602" y="8"/>
                    </a:cubicBezTo>
                    <a:lnTo>
                      <a:pt x="15602" y="8"/>
                    </a:lnTo>
                    <a:cubicBezTo>
                      <a:pt x="15601" y="8"/>
                      <a:pt x="15600" y="7"/>
                      <a:pt x="15600" y="6"/>
                    </a:cubicBezTo>
                    <a:cubicBezTo>
                      <a:pt x="15600" y="5"/>
                      <a:pt x="15601" y="4"/>
                      <a:pt x="15602" y="4"/>
                    </a:cubicBezTo>
                    <a:close/>
                    <a:moveTo>
                      <a:pt x="15610" y="4"/>
                    </a:moveTo>
                    <a:lnTo>
                      <a:pt x="15610" y="4"/>
                    </a:lnTo>
                    <a:cubicBezTo>
                      <a:pt x="15612" y="4"/>
                      <a:pt x="15612" y="5"/>
                      <a:pt x="15612" y="6"/>
                    </a:cubicBezTo>
                    <a:cubicBezTo>
                      <a:pt x="15612" y="7"/>
                      <a:pt x="15612" y="8"/>
                      <a:pt x="15610" y="8"/>
                    </a:cubicBezTo>
                    <a:lnTo>
                      <a:pt x="15610" y="8"/>
                    </a:lnTo>
                    <a:cubicBezTo>
                      <a:pt x="15609" y="8"/>
                      <a:pt x="15608" y="7"/>
                      <a:pt x="15608" y="6"/>
                    </a:cubicBezTo>
                    <a:cubicBezTo>
                      <a:pt x="15608" y="5"/>
                      <a:pt x="15609" y="4"/>
                      <a:pt x="15610" y="4"/>
                    </a:cubicBezTo>
                    <a:close/>
                    <a:moveTo>
                      <a:pt x="15618" y="4"/>
                    </a:moveTo>
                    <a:lnTo>
                      <a:pt x="15618" y="4"/>
                    </a:lnTo>
                    <a:cubicBezTo>
                      <a:pt x="15620" y="4"/>
                      <a:pt x="15620" y="5"/>
                      <a:pt x="15620" y="6"/>
                    </a:cubicBezTo>
                    <a:cubicBezTo>
                      <a:pt x="15620" y="7"/>
                      <a:pt x="15620" y="8"/>
                      <a:pt x="15618" y="8"/>
                    </a:cubicBezTo>
                    <a:lnTo>
                      <a:pt x="15618" y="8"/>
                    </a:lnTo>
                    <a:cubicBezTo>
                      <a:pt x="15617" y="8"/>
                      <a:pt x="15616" y="7"/>
                      <a:pt x="15616" y="6"/>
                    </a:cubicBezTo>
                    <a:cubicBezTo>
                      <a:pt x="15616" y="5"/>
                      <a:pt x="15617" y="4"/>
                      <a:pt x="15618" y="4"/>
                    </a:cubicBezTo>
                    <a:close/>
                    <a:moveTo>
                      <a:pt x="15626" y="4"/>
                    </a:moveTo>
                    <a:lnTo>
                      <a:pt x="15626" y="4"/>
                    </a:lnTo>
                    <a:cubicBezTo>
                      <a:pt x="15628" y="4"/>
                      <a:pt x="15628" y="5"/>
                      <a:pt x="15628" y="6"/>
                    </a:cubicBezTo>
                    <a:cubicBezTo>
                      <a:pt x="15628" y="7"/>
                      <a:pt x="15628" y="8"/>
                      <a:pt x="15626" y="8"/>
                    </a:cubicBezTo>
                    <a:lnTo>
                      <a:pt x="15626" y="8"/>
                    </a:lnTo>
                    <a:cubicBezTo>
                      <a:pt x="15625" y="8"/>
                      <a:pt x="15624" y="7"/>
                      <a:pt x="15624" y="6"/>
                    </a:cubicBezTo>
                    <a:cubicBezTo>
                      <a:pt x="15624" y="5"/>
                      <a:pt x="15625" y="4"/>
                      <a:pt x="15626" y="4"/>
                    </a:cubicBezTo>
                    <a:close/>
                    <a:moveTo>
                      <a:pt x="15634" y="4"/>
                    </a:moveTo>
                    <a:lnTo>
                      <a:pt x="15634" y="4"/>
                    </a:lnTo>
                    <a:cubicBezTo>
                      <a:pt x="15636" y="4"/>
                      <a:pt x="15636" y="5"/>
                      <a:pt x="15636" y="6"/>
                    </a:cubicBezTo>
                    <a:cubicBezTo>
                      <a:pt x="15636" y="7"/>
                      <a:pt x="15636" y="8"/>
                      <a:pt x="15634" y="8"/>
                    </a:cubicBezTo>
                    <a:lnTo>
                      <a:pt x="15634" y="8"/>
                    </a:lnTo>
                    <a:cubicBezTo>
                      <a:pt x="15633" y="8"/>
                      <a:pt x="15632" y="7"/>
                      <a:pt x="15632" y="6"/>
                    </a:cubicBezTo>
                    <a:cubicBezTo>
                      <a:pt x="15632" y="5"/>
                      <a:pt x="15633" y="4"/>
                      <a:pt x="15634" y="4"/>
                    </a:cubicBezTo>
                    <a:close/>
                    <a:moveTo>
                      <a:pt x="15642" y="4"/>
                    </a:moveTo>
                    <a:lnTo>
                      <a:pt x="15642" y="4"/>
                    </a:lnTo>
                    <a:cubicBezTo>
                      <a:pt x="15644" y="4"/>
                      <a:pt x="15644" y="5"/>
                      <a:pt x="15644" y="6"/>
                    </a:cubicBezTo>
                    <a:cubicBezTo>
                      <a:pt x="15644" y="7"/>
                      <a:pt x="15644" y="8"/>
                      <a:pt x="15642" y="8"/>
                    </a:cubicBezTo>
                    <a:lnTo>
                      <a:pt x="15642" y="8"/>
                    </a:lnTo>
                    <a:cubicBezTo>
                      <a:pt x="15641" y="8"/>
                      <a:pt x="15640" y="7"/>
                      <a:pt x="15640" y="6"/>
                    </a:cubicBezTo>
                    <a:cubicBezTo>
                      <a:pt x="15640" y="5"/>
                      <a:pt x="15641" y="4"/>
                      <a:pt x="15642" y="4"/>
                    </a:cubicBezTo>
                    <a:close/>
                    <a:moveTo>
                      <a:pt x="15650" y="4"/>
                    </a:moveTo>
                    <a:lnTo>
                      <a:pt x="15650" y="4"/>
                    </a:lnTo>
                    <a:cubicBezTo>
                      <a:pt x="15652" y="4"/>
                      <a:pt x="15652" y="5"/>
                      <a:pt x="15652" y="6"/>
                    </a:cubicBezTo>
                    <a:cubicBezTo>
                      <a:pt x="15652" y="7"/>
                      <a:pt x="15652" y="8"/>
                      <a:pt x="15650" y="8"/>
                    </a:cubicBezTo>
                    <a:lnTo>
                      <a:pt x="15650" y="8"/>
                    </a:lnTo>
                    <a:cubicBezTo>
                      <a:pt x="15649" y="8"/>
                      <a:pt x="15648" y="7"/>
                      <a:pt x="15648" y="6"/>
                    </a:cubicBezTo>
                    <a:cubicBezTo>
                      <a:pt x="15648" y="5"/>
                      <a:pt x="15649" y="4"/>
                      <a:pt x="15650" y="4"/>
                    </a:cubicBezTo>
                    <a:close/>
                    <a:moveTo>
                      <a:pt x="15658" y="4"/>
                    </a:moveTo>
                    <a:lnTo>
                      <a:pt x="15658" y="4"/>
                    </a:lnTo>
                    <a:cubicBezTo>
                      <a:pt x="15660" y="4"/>
                      <a:pt x="15660" y="5"/>
                      <a:pt x="15660" y="6"/>
                    </a:cubicBezTo>
                    <a:cubicBezTo>
                      <a:pt x="15660" y="7"/>
                      <a:pt x="15660" y="8"/>
                      <a:pt x="15658" y="8"/>
                    </a:cubicBezTo>
                    <a:lnTo>
                      <a:pt x="15658" y="8"/>
                    </a:lnTo>
                    <a:cubicBezTo>
                      <a:pt x="15657" y="8"/>
                      <a:pt x="15656" y="7"/>
                      <a:pt x="15656" y="6"/>
                    </a:cubicBezTo>
                    <a:cubicBezTo>
                      <a:pt x="15656" y="5"/>
                      <a:pt x="15657" y="4"/>
                      <a:pt x="15658" y="4"/>
                    </a:cubicBezTo>
                    <a:close/>
                    <a:moveTo>
                      <a:pt x="15666" y="4"/>
                    </a:moveTo>
                    <a:lnTo>
                      <a:pt x="15666" y="4"/>
                    </a:lnTo>
                    <a:cubicBezTo>
                      <a:pt x="15668" y="4"/>
                      <a:pt x="15668" y="5"/>
                      <a:pt x="15668" y="6"/>
                    </a:cubicBezTo>
                    <a:cubicBezTo>
                      <a:pt x="15668" y="7"/>
                      <a:pt x="15668" y="8"/>
                      <a:pt x="15666" y="8"/>
                    </a:cubicBezTo>
                    <a:lnTo>
                      <a:pt x="15666" y="8"/>
                    </a:lnTo>
                    <a:cubicBezTo>
                      <a:pt x="15665" y="8"/>
                      <a:pt x="15664" y="7"/>
                      <a:pt x="15664" y="6"/>
                    </a:cubicBezTo>
                    <a:cubicBezTo>
                      <a:pt x="15664" y="5"/>
                      <a:pt x="15665" y="4"/>
                      <a:pt x="15666" y="4"/>
                    </a:cubicBezTo>
                    <a:close/>
                    <a:moveTo>
                      <a:pt x="15674" y="4"/>
                    </a:moveTo>
                    <a:lnTo>
                      <a:pt x="15675" y="4"/>
                    </a:lnTo>
                    <a:cubicBezTo>
                      <a:pt x="15676" y="4"/>
                      <a:pt x="15677" y="5"/>
                      <a:pt x="15677" y="6"/>
                    </a:cubicBezTo>
                    <a:cubicBezTo>
                      <a:pt x="15677" y="7"/>
                      <a:pt x="15676" y="8"/>
                      <a:pt x="15675" y="8"/>
                    </a:cubicBezTo>
                    <a:lnTo>
                      <a:pt x="15674" y="8"/>
                    </a:lnTo>
                    <a:cubicBezTo>
                      <a:pt x="15673" y="8"/>
                      <a:pt x="15672" y="7"/>
                      <a:pt x="15672" y="6"/>
                    </a:cubicBezTo>
                    <a:cubicBezTo>
                      <a:pt x="15672" y="5"/>
                      <a:pt x="15673" y="4"/>
                      <a:pt x="15674" y="4"/>
                    </a:cubicBezTo>
                    <a:close/>
                    <a:moveTo>
                      <a:pt x="15683" y="4"/>
                    </a:moveTo>
                    <a:lnTo>
                      <a:pt x="15683" y="4"/>
                    </a:lnTo>
                    <a:cubicBezTo>
                      <a:pt x="15684" y="4"/>
                      <a:pt x="15685" y="5"/>
                      <a:pt x="15685" y="6"/>
                    </a:cubicBezTo>
                    <a:cubicBezTo>
                      <a:pt x="15685" y="7"/>
                      <a:pt x="15684" y="8"/>
                      <a:pt x="15683" y="8"/>
                    </a:cubicBezTo>
                    <a:lnTo>
                      <a:pt x="15683" y="8"/>
                    </a:lnTo>
                    <a:cubicBezTo>
                      <a:pt x="15681" y="8"/>
                      <a:pt x="15681" y="7"/>
                      <a:pt x="15681" y="6"/>
                    </a:cubicBezTo>
                    <a:cubicBezTo>
                      <a:pt x="15681" y="5"/>
                      <a:pt x="15681" y="4"/>
                      <a:pt x="15683" y="4"/>
                    </a:cubicBezTo>
                    <a:close/>
                    <a:moveTo>
                      <a:pt x="15691" y="4"/>
                    </a:moveTo>
                    <a:lnTo>
                      <a:pt x="15691" y="4"/>
                    </a:lnTo>
                    <a:cubicBezTo>
                      <a:pt x="15692" y="4"/>
                      <a:pt x="15693" y="5"/>
                      <a:pt x="15693" y="6"/>
                    </a:cubicBezTo>
                    <a:cubicBezTo>
                      <a:pt x="15693" y="7"/>
                      <a:pt x="15692" y="8"/>
                      <a:pt x="15691" y="8"/>
                    </a:cubicBezTo>
                    <a:lnTo>
                      <a:pt x="15691" y="8"/>
                    </a:lnTo>
                    <a:cubicBezTo>
                      <a:pt x="15689" y="8"/>
                      <a:pt x="15689" y="7"/>
                      <a:pt x="15689" y="6"/>
                    </a:cubicBezTo>
                    <a:cubicBezTo>
                      <a:pt x="15689" y="5"/>
                      <a:pt x="15689" y="4"/>
                      <a:pt x="15691" y="4"/>
                    </a:cubicBezTo>
                    <a:close/>
                    <a:moveTo>
                      <a:pt x="15699" y="4"/>
                    </a:moveTo>
                    <a:lnTo>
                      <a:pt x="15699" y="4"/>
                    </a:lnTo>
                    <a:cubicBezTo>
                      <a:pt x="15700" y="4"/>
                      <a:pt x="15701" y="5"/>
                      <a:pt x="15701" y="6"/>
                    </a:cubicBezTo>
                    <a:cubicBezTo>
                      <a:pt x="15701" y="7"/>
                      <a:pt x="15700" y="8"/>
                      <a:pt x="15699" y="8"/>
                    </a:cubicBezTo>
                    <a:lnTo>
                      <a:pt x="15699" y="8"/>
                    </a:lnTo>
                    <a:cubicBezTo>
                      <a:pt x="15697" y="8"/>
                      <a:pt x="15697" y="7"/>
                      <a:pt x="15697" y="6"/>
                    </a:cubicBezTo>
                    <a:cubicBezTo>
                      <a:pt x="15697" y="5"/>
                      <a:pt x="15697" y="4"/>
                      <a:pt x="15699" y="4"/>
                    </a:cubicBezTo>
                    <a:close/>
                    <a:moveTo>
                      <a:pt x="15707" y="4"/>
                    </a:moveTo>
                    <a:lnTo>
                      <a:pt x="15707" y="4"/>
                    </a:lnTo>
                    <a:cubicBezTo>
                      <a:pt x="15708" y="4"/>
                      <a:pt x="15709" y="5"/>
                      <a:pt x="15709" y="6"/>
                    </a:cubicBezTo>
                    <a:cubicBezTo>
                      <a:pt x="15709" y="7"/>
                      <a:pt x="15708" y="8"/>
                      <a:pt x="15707" y="8"/>
                    </a:cubicBezTo>
                    <a:lnTo>
                      <a:pt x="15707" y="8"/>
                    </a:lnTo>
                    <a:cubicBezTo>
                      <a:pt x="15705" y="8"/>
                      <a:pt x="15705" y="7"/>
                      <a:pt x="15705" y="6"/>
                    </a:cubicBezTo>
                    <a:cubicBezTo>
                      <a:pt x="15705" y="5"/>
                      <a:pt x="15705" y="4"/>
                      <a:pt x="15707" y="4"/>
                    </a:cubicBezTo>
                    <a:close/>
                    <a:moveTo>
                      <a:pt x="15715" y="4"/>
                    </a:moveTo>
                    <a:lnTo>
                      <a:pt x="15715" y="4"/>
                    </a:lnTo>
                    <a:cubicBezTo>
                      <a:pt x="15716" y="4"/>
                      <a:pt x="15717" y="5"/>
                      <a:pt x="15717" y="6"/>
                    </a:cubicBezTo>
                    <a:cubicBezTo>
                      <a:pt x="15717" y="7"/>
                      <a:pt x="15716" y="8"/>
                      <a:pt x="15715" y="8"/>
                    </a:cubicBezTo>
                    <a:lnTo>
                      <a:pt x="15715" y="8"/>
                    </a:lnTo>
                    <a:cubicBezTo>
                      <a:pt x="15713" y="8"/>
                      <a:pt x="15713" y="7"/>
                      <a:pt x="15713" y="6"/>
                    </a:cubicBezTo>
                    <a:cubicBezTo>
                      <a:pt x="15713" y="5"/>
                      <a:pt x="15713" y="4"/>
                      <a:pt x="15715" y="4"/>
                    </a:cubicBezTo>
                    <a:close/>
                    <a:moveTo>
                      <a:pt x="15723" y="4"/>
                    </a:moveTo>
                    <a:lnTo>
                      <a:pt x="15723" y="4"/>
                    </a:lnTo>
                    <a:cubicBezTo>
                      <a:pt x="15724" y="4"/>
                      <a:pt x="15725" y="5"/>
                      <a:pt x="15725" y="6"/>
                    </a:cubicBezTo>
                    <a:cubicBezTo>
                      <a:pt x="15725" y="7"/>
                      <a:pt x="15724" y="8"/>
                      <a:pt x="15723" y="8"/>
                    </a:cubicBezTo>
                    <a:lnTo>
                      <a:pt x="15723" y="8"/>
                    </a:lnTo>
                    <a:cubicBezTo>
                      <a:pt x="15721" y="8"/>
                      <a:pt x="15721" y="7"/>
                      <a:pt x="15721" y="6"/>
                    </a:cubicBezTo>
                    <a:cubicBezTo>
                      <a:pt x="15721" y="5"/>
                      <a:pt x="15721" y="4"/>
                      <a:pt x="15723" y="4"/>
                    </a:cubicBezTo>
                    <a:close/>
                    <a:moveTo>
                      <a:pt x="15731" y="4"/>
                    </a:moveTo>
                    <a:lnTo>
                      <a:pt x="15731" y="4"/>
                    </a:lnTo>
                    <a:cubicBezTo>
                      <a:pt x="15732" y="4"/>
                      <a:pt x="15733" y="5"/>
                      <a:pt x="15733" y="6"/>
                    </a:cubicBezTo>
                    <a:cubicBezTo>
                      <a:pt x="15733" y="7"/>
                      <a:pt x="15732" y="8"/>
                      <a:pt x="15731" y="8"/>
                    </a:cubicBezTo>
                    <a:lnTo>
                      <a:pt x="15731" y="8"/>
                    </a:lnTo>
                    <a:cubicBezTo>
                      <a:pt x="15729" y="8"/>
                      <a:pt x="15729" y="7"/>
                      <a:pt x="15729" y="6"/>
                    </a:cubicBezTo>
                    <a:cubicBezTo>
                      <a:pt x="15729" y="5"/>
                      <a:pt x="15729" y="4"/>
                      <a:pt x="15731" y="4"/>
                    </a:cubicBezTo>
                    <a:close/>
                    <a:moveTo>
                      <a:pt x="15739" y="4"/>
                    </a:moveTo>
                    <a:lnTo>
                      <a:pt x="15739" y="4"/>
                    </a:lnTo>
                    <a:cubicBezTo>
                      <a:pt x="15740" y="4"/>
                      <a:pt x="15741" y="5"/>
                      <a:pt x="15741" y="6"/>
                    </a:cubicBezTo>
                    <a:cubicBezTo>
                      <a:pt x="15741" y="7"/>
                      <a:pt x="15740" y="8"/>
                      <a:pt x="15739" y="8"/>
                    </a:cubicBezTo>
                    <a:lnTo>
                      <a:pt x="15739" y="8"/>
                    </a:lnTo>
                    <a:cubicBezTo>
                      <a:pt x="15737" y="8"/>
                      <a:pt x="15737" y="7"/>
                      <a:pt x="15737" y="6"/>
                    </a:cubicBezTo>
                    <a:cubicBezTo>
                      <a:pt x="15737" y="5"/>
                      <a:pt x="15737" y="4"/>
                      <a:pt x="15739" y="4"/>
                    </a:cubicBezTo>
                    <a:close/>
                    <a:moveTo>
                      <a:pt x="15747" y="4"/>
                    </a:moveTo>
                    <a:lnTo>
                      <a:pt x="15747" y="4"/>
                    </a:lnTo>
                    <a:cubicBezTo>
                      <a:pt x="15748" y="4"/>
                      <a:pt x="15749" y="5"/>
                      <a:pt x="15749" y="6"/>
                    </a:cubicBezTo>
                    <a:cubicBezTo>
                      <a:pt x="15749" y="7"/>
                      <a:pt x="15748" y="8"/>
                      <a:pt x="15747" y="8"/>
                    </a:cubicBezTo>
                    <a:lnTo>
                      <a:pt x="15747" y="8"/>
                    </a:lnTo>
                    <a:cubicBezTo>
                      <a:pt x="15745" y="8"/>
                      <a:pt x="15745" y="7"/>
                      <a:pt x="15745" y="6"/>
                    </a:cubicBezTo>
                    <a:cubicBezTo>
                      <a:pt x="15745" y="5"/>
                      <a:pt x="15745" y="4"/>
                      <a:pt x="15747" y="4"/>
                    </a:cubicBezTo>
                    <a:close/>
                    <a:moveTo>
                      <a:pt x="15755" y="4"/>
                    </a:moveTo>
                    <a:lnTo>
                      <a:pt x="15755" y="4"/>
                    </a:lnTo>
                    <a:cubicBezTo>
                      <a:pt x="15756" y="4"/>
                      <a:pt x="15757" y="5"/>
                      <a:pt x="15757" y="6"/>
                    </a:cubicBezTo>
                    <a:cubicBezTo>
                      <a:pt x="15757" y="7"/>
                      <a:pt x="15756" y="8"/>
                      <a:pt x="15755" y="8"/>
                    </a:cubicBezTo>
                    <a:lnTo>
                      <a:pt x="15755" y="8"/>
                    </a:lnTo>
                    <a:cubicBezTo>
                      <a:pt x="15753" y="8"/>
                      <a:pt x="15753" y="7"/>
                      <a:pt x="15753" y="6"/>
                    </a:cubicBezTo>
                    <a:cubicBezTo>
                      <a:pt x="15753" y="5"/>
                      <a:pt x="15753" y="4"/>
                      <a:pt x="15755" y="4"/>
                    </a:cubicBezTo>
                    <a:close/>
                    <a:moveTo>
                      <a:pt x="15763" y="4"/>
                    </a:moveTo>
                    <a:lnTo>
                      <a:pt x="15763" y="4"/>
                    </a:lnTo>
                    <a:cubicBezTo>
                      <a:pt x="15764" y="4"/>
                      <a:pt x="15765" y="5"/>
                      <a:pt x="15765" y="6"/>
                    </a:cubicBezTo>
                    <a:cubicBezTo>
                      <a:pt x="15765" y="7"/>
                      <a:pt x="15764" y="8"/>
                      <a:pt x="15763" y="8"/>
                    </a:cubicBezTo>
                    <a:lnTo>
                      <a:pt x="15763" y="8"/>
                    </a:lnTo>
                    <a:cubicBezTo>
                      <a:pt x="15761" y="8"/>
                      <a:pt x="15761" y="7"/>
                      <a:pt x="15761" y="6"/>
                    </a:cubicBezTo>
                    <a:cubicBezTo>
                      <a:pt x="15761" y="5"/>
                      <a:pt x="15761" y="4"/>
                      <a:pt x="15763" y="4"/>
                    </a:cubicBezTo>
                    <a:close/>
                    <a:moveTo>
                      <a:pt x="15771" y="4"/>
                    </a:moveTo>
                    <a:lnTo>
                      <a:pt x="15771" y="4"/>
                    </a:lnTo>
                    <a:cubicBezTo>
                      <a:pt x="15772" y="4"/>
                      <a:pt x="15773" y="5"/>
                      <a:pt x="15773" y="6"/>
                    </a:cubicBezTo>
                    <a:cubicBezTo>
                      <a:pt x="15773" y="7"/>
                      <a:pt x="15772" y="8"/>
                      <a:pt x="15771" y="8"/>
                    </a:cubicBezTo>
                    <a:lnTo>
                      <a:pt x="15771" y="8"/>
                    </a:lnTo>
                    <a:cubicBezTo>
                      <a:pt x="15769" y="8"/>
                      <a:pt x="15769" y="7"/>
                      <a:pt x="15769" y="6"/>
                    </a:cubicBezTo>
                    <a:cubicBezTo>
                      <a:pt x="15769" y="5"/>
                      <a:pt x="15769" y="4"/>
                      <a:pt x="15771" y="4"/>
                    </a:cubicBezTo>
                    <a:close/>
                    <a:moveTo>
                      <a:pt x="15779" y="4"/>
                    </a:moveTo>
                    <a:lnTo>
                      <a:pt x="15779" y="4"/>
                    </a:lnTo>
                    <a:cubicBezTo>
                      <a:pt x="15780" y="4"/>
                      <a:pt x="15781" y="5"/>
                      <a:pt x="15781" y="6"/>
                    </a:cubicBezTo>
                    <a:cubicBezTo>
                      <a:pt x="15781" y="7"/>
                      <a:pt x="15780" y="8"/>
                      <a:pt x="15779" y="8"/>
                    </a:cubicBezTo>
                    <a:lnTo>
                      <a:pt x="15779" y="8"/>
                    </a:lnTo>
                    <a:cubicBezTo>
                      <a:pt x="15777" y="8"/>
                      <a:pt x="15777" y="7"/>
                      <a:pt x="15777" y="6"/>
                    </a:cubicBezTo>
                    <a:cubicBezTo>
                      <a:pt x="15777" y="5"/>
                      <a:pt x="15777" y="4"/>
                      <a:pt x="15779" y="4"/>
                    </a:cubicBezTo>
                    <a:close/>
                    <a:moveTo>
                      <a:pt x="15787" y="4"/>
                    </a:moveTo>
                    <a:lnTo>
                      <a:pt x="15787" y="4"/>
                    </a:lnTo>
                    <a:cubicBezTo>
                      <a:pt x="15788" y="4"/>
                      <a:pt x="15789" y="5"/>
                      <a:pt x="15789" y="6"/>
                    </a:cubicBezTo>
                    <a:cubicBezTo>
                      <a:pt x="15789" y="7"/>
                      <a:pt x="15788" y="8"/>
                      <a:pt x="15787" y="8"/>
                    </a:cubicBezTo>
                    <a:lnTo>
                      <a:pt x="15787" y="8"/>
                    </a:lnTo>
                    <a:cubicBezTo>
                      <a:pt x="15785" y="8"/>
                      <a:pt x="15785" y="7"/>
                      <a:pt x="15785" y="6"/>
                    </a:cubicBezTo>
                    <a:cubicBezTo>
                      <a:pt x="15785" y="5"/>
                      <a:pt x="15785" y="4"/>
                      <a:pt x="15787" y="4"/>
                    </a:cubicBezTo>
                    <a:close/>
                    <a:moveTo>
                      <a:pt x="15795" y="4"/>
                    </a:moveTo>
                    <a:lnTo>
                      <a:pt x="15795" y="4"/>
                    </a:lnTo>
                    <a:cubicBezTo>
                      <a:pt x="15796" y="4"/>
                      <a:pt x="15797" y="5"/>
                      <a:pt x="15797" y="6"/>
                    </a:cubicBezTo>
                    <a:cubicBezTo>
                      <a:pt x="15797" y="7"/>
                      <a:pt x="15796" y="8"/>
                      <a:pt x="15795" y="8"/>
                    </a:cubicBezTo>
                    <a:lnTo>
                      <a:pt x="15795" y="8"/>
                    </a:lnTo>
                    <a:cubicBezTo>
                      <a:pt x="15793" y="8"/>
                      <a:pt x="15793" y="7"/>
                      <a:pt x="15793" y="6"/>
                    </a:cubicBezTo>
                    <a:cubicBezTo>
                      <a:pt x="15793" y="5"/>
                      <a:pt x="15793" y="4"/>
                      <a:pt x="15795" y="4"/>
                    </a:cubicBezTo>
                    <a:close/>
                    <a:moveTo>
                      <a:pt x="15803" y="4"/>
                    </a:moveTo>
                    <a:lnTo>
                      <a:pt x="15803" y="4"/>
                    </a:lnTo>
                    <a:cubicBezTo>
                      <a:pt x="15804" y="4"/>
                      <a:pt x="15805" y="5"/>
                      <a:pt x="15805" y="6"/>
                    </a:cubicBezTo>
                    <a:cubicBezTo>
                      <a:pt x="15805" y="7"/>
                      <a:pt x="15804" y="8"/>
                      <a:pt x="15803" y="8"/>
                    </a:cubicBezTo>
                    <a:lnTo>
                      <a:pt x="15803" y="8"/>
                    </a:lnTo>
                    <a:cubicBezTo>
                      <a:pt x="15801" y="8"/>
                      <a:pt x="15801" y="7"/>
                      <a:pt x="15801" y="6"/>
                    </a:cubicBezTo>
                    <a:cubicBezTo>
                      <a:pt x="15801" y="5"/>
                      <a:pt x="15801" y="4"/>
                      <a:pt x="15803" y="4"/>
                    </a:cubicBezTo>
                    <a:close/>
                    <a:moveTo>
                      <a:pt x="15811" y="4"/>
                    </a:moveTo>
                    <a:lnTo>
                      <a:pt x="15811" y="4"/>
                    </a:lnTo>
                    <a:cubicBezTo>
                      <a:pt x="15812" y="4"/>
                      <a:pt x="15813" y="5"/>
                      <a:pt x="15813" y="6"/>
                    </a:cubicBezTo>
                    <a:cubicBezTo>
                      <a:pt x="15813" y="7"/>
                      <a:pt x="15812" y="8"/>
                      <a:pt x="15811" y="8"/>
                    </a:cubicBezTo>
                    <a:lnTo>
                      <a:pt x="15811" y="8"/>
                    </a:lnTo>
                    <a:cubicBezTo>
                      <a:pt x="15809" y="8"/>
                      <a:pt x="15809" y="7"/>
                      <a:pt x="15809" y="6"/>
                    </a:cubicBezTo>
                    <a:cubicBezTo>
                      <a:pt x="15809" y="5"/>
                      <a:pt x="15809" y="4"/>
                      <a:pt x="15811" y="4"/>
                    </a:cubicBezTo>
                    <a:close/>
                    <a:moveTo>
                      <a:pt x="15819" y="4"/>
                    </a:moveTo>
                    <a:lnTo>
                      <a:pt x="15819" y="4"/>
                    </a:lnTo>
                    <a:cubicBezTo>
                      <a:pt x="15820" y="4"/>
                      <a:pt x="15821" y="5"/>
                      <a:pt x="15821" y="6"/>
                    </a:cubicBezTo>
                    <a:cubicBezTo>
                      <a:pt x="15821" y="7"/>
                      <a:pt x="15820" y="8"/>
                      <a:pt x="15819" y="8"/>
                    </a:cubicBezTo>
                    <a:lnTo>
                      <a:pt x="15819" y="8"/>
                    </a:lnTo>
                    <a:cubicBezTo>
                      <a:pt x="15817" y="8"/>
                      <a:pt x="15817" y="7"/>
                      <a:pt x="15817" y="6"/>
                    </a:cubicBezTo>
                    <a:cubicBezTo>
                      <a:pt x="15817" y="5"/>
                      <a:pt x="15817" y="4"/>
                      <a:pt x="15819" y="4"/>
                    </a:cubicBezTo>
                    <a:close/>
                    <a:moveTo>
                      <a:pt x="15827" y="4"/>
                    </a:moveTo>
                    <a:lnTo>
                      <a:pt x="15827" y="4"/>
                    </a:lnTo>
                    <a:cubicBezTo>
                      <a:pt x="15828" y="4"/>
                      <a:pt x="15829" y="5"/>
                      <a:pt x="15829" y="6"/>
                    </a:cubicBezTo>
                    <a:cubicBezTo>
                      <a:pt x="15829" y="7"/>
                      <a:pt x="15828" y="8"/>
                      <a:pt x="15827" y="8"/>
                    </a:cubicBezTo>
                    <a:lnTo>
                      <a:pt x="15827" y="8"/>
                    </a:lnTo>
                    <a:cubicBezTo>
                      <a:pt x="15826" y="8"/>
                      <a:pt x="15825" y="7"/>
                      <a:pt x="15825" y="6"/>
                    </a:cubicBezTo>
                    <a:cubicBezTo>
                      <a:pt x="15825" y="5"/>
                      <a:pt x="15826" y="4"/>
                      <a:pt x="15827" y="4"/>
                    </a:cubicBezTo>
                    <a:close/>
                    <a:moveTo>
                      <a:pt x="15835" y="4"/>
                    </a:moveTo>
                    <a:lnTo>
                      <a:pt x="15835" y="4"/>
                    </a:lnTo>
                    <a:cubicBezTo>
                      <a:pt x="15836" y="4"/>
                      <a:pt x="15837" y="5"/>
                      <a:pt x="15837" y="6"/>
                    </a:cubicBezTo>
                    <a:cubicBezTo>
                      <a:pt x="15837" y="7"/>
                      <a:pt x="15836" y="8"/>
                      <a:pt x="15835" y="8"/>
                    </a:cubicBezTo>
                    <a:lnTo>
                      <a:pt x="15835" y="8"/>
                    </a:lnTo>
                    <a:cubicBezTo>
                      <a:pt x="15834" y="8"/>
                      <a:pt x="15833" y="7"/>
                      <a:pt x="15833" y="6"/>
                    </a:cubicBezTo>
                    <a:cubicBezTo>
                      <a:pt x="15833" y="5"/>
                      <a:pt x="15834" y="4"/>
                      <a:pt x="15835" y="4"/>
                    </a:cubicBezTo>
                    <a:close/>
                    <a:moveTo>
                      <a:pt x="15843" y="4"/>
                    </a:moveTo>
                    <a:lnTo>
                      <a:pt x="15843" y="4"/>
                    </a:lnTo>
                    <a:cubicBezTo>
                      <a:pt x="15844" y="4"/>
                      <a:pt x="15845" y="5"/>
                      <a:pt x="15845" y="6"/>
                    </a:cubicBezTo>
                    <a:cubicBezTo>
                      <a:pt x="15845" y="7"/>
                      <a:pt x="15844" y="8"/>
                      <a:pt x="15843" y="8"/>
                    </a:cubicBezTo>
                    <a:lnTo>
                      <a:pt x="15843" y="8"/>
                    </a:lnTo>
                    <a:cubicBezTo>
                      <a:pt x="15842" y="8"/>
                      <a:pt x="15841" y="7"/>
                      <a:pt x="15841" y="6"/>
                    </a:cubicBezTo>
                    <a:cubicBezTo>
                      <a:pt x="15841" y="5"/>
                      <a:pt x="15842" y="4"/>
                      <a:pt x="15843" y="4"/>
                    </a:cubicBezTo>
                    <a:close/>
                    <a:moveTo>
                      <a:pt x="15851" y="4"/>
                    </a:moveTo>
                    <a:lnTo>
                      <a:pt x="15851" y="4"/>
                    </a:lnTo>
                    <a:cubicBezTo>
                      <a:pt x="15852" y="4"/>
                      <a:pt x="15853" y="5"/>
                      <a:pt x="15853" y="6"/>
                    </a:cubicBezTo>
                    <a:cubicBezTo>
                      <a:pt x="15853" y="7"/>
                      <a:pt x="15852" y="8"/>
                      <a:pt x="15851" y="8"/>
                    </a:cubicBezTo>
                    <a:lnTo>
                      <a:pt x="15851" y="8"/>
                    </a:lnTo>
                    <a:cubicBezTo>
                      <a:pt x="15850" y="8"/>
                      <a:pt x="15849" y="7"/>
                      <a:pt x="15849" y="6"/>
                    </a:cubicBezTo>
                    <a:cubicBezTo>
                      <a:pt x="15849" y="5"/>
                      <a:pt x="15850" y="4"/>
                      <a:pt x="15851" y="4"/>
                    </a:cubicBezTo>
                    <a:close/>
                    <a:moveTo>
                      <a:pt x="15859" y="4"/>
                    </a:moveTo>
                    <a:lnTo>
                      <a:pt x="15859" y="4"/>
                    </a:lnTo>
                    <a:cubicBezTo>
                      <a:pt x="15860" y="4"/>
                      <a:pt x="15861" y="5"/>
                      <a:pt x="15861" y="6"/>
                    </a:cubicBezTo>
                    <a:cubicBezTo>
                      <a:pt x="15861" y="7"/>
                      <a:pt x="15860" y="8"/>
                      <a:pt x="15859" y="8"/>
                    </a:cubicBezTo>
                    <a:lnTo>
                      <a:pt x="15859" y="8"/>
                    </a:lnTo>
                    <a:cubicBezTo>
                      <a:pt x="15858" y="8"/>
                      <a:pt x="15857" y="7"/>
                      <a:pt x="15857" y="6"/>
                    </a:cubicBezTo>
                    <a:cubicBezTo>
                      <a:pt x="15857" y="5"/>
                      <a:pt x="15858" y="4"/>
                      <a:pt x="15859" y="4"/>
                    </a:cubicBezTo>
                    <a:close/>
                    <a:moveTo>
                      <a:pt x="15867" y="4"/>
                    </a:moveTo>
                    <a:lnTo>
                      <a:pt x="15867" y="4"/>
                    </a:lnTo>
                    <a:cubicBezTo>
                      <a:pt x="15868" y="4"/>
                      <a:pt x="15869" y="5"/>
                      <a:pt x="15869" y="6"/>
                    </a:cubicBezTo>
                    <a:cubicBezTo>
                      <a:pt x="15869" y="7"/>
                      <a:pt x="15868" y="8"/>
                      <a:pt x="15867" y="8"/>
                    </a:cubicBezTo>
                    <a:lnTo>
                      <a:pt x="15867" y="8"/>
                    </a:lnTo>
                    <a:cubicBezTo>
                      <a:pt x="15866" y="8"/>
                      <a:pt x="15865" y="7"/>
                      <a:pt x="15865" y="6"/>
                    </a:cubicBezTo>
                    <a:cubicBezTo>
                      <a:pt x="15865" y="5"/>
                      <a:pt x="15866" y="4"/>
                      <a:pt x="15867" y="4"/>
                    </a:cubicBezTo>
                    <a:close/>
                    <a:moveTo>
                      <a:pt x="15875" y="4"/>
                    </a:moveTo>
                    <a:lnTo>
                      <a:pt x="15875" y="4"/>
                    </a:lnTo>
                    <a:cubicBezTo>
                      <a:pt x="15876" y="4"/>
                      <a:pt x="15877" y="5"/>
                      <a:pt x="15877" y="6"/>
                    </a:cubicBezTo>
                    <a:cubicBezTo>
                      <a:pt x="15877" y="7"/>
                      <a:pt x="15876" y="8"/>
                      <a:pt x="15875" y="8"/>
                    </a:cubicBezTo>
                    <a:lnTo>
                      <a:pt x="15875" y="8"/>
                    </a:lnTo>
                    <a:cubicBezTo>
                      <a:pt x="15874" y="8"/>
                      <a:pt x="15873" y="7"/>
                      <a:pt x="15873" y="6"/>
                    </a:cubicBezTo>
                    <a:cubicBezTo>
                      <a:pt x="15873" y="5"/>
                      <a:pt x="15874" y="4"/>
                      <a:pt x="15875" y="4"/>
                    </a:cubicBezTo>
                    <a:close/>
                    <a:moveTo>
                      <a:pt x="15883" y="4"/>
                    </a:moveTo>
                    <a:lnTo>
                      <a:pt x="15883" y="4"/>
                    </a:lnTo>
                    <a:cubicBezTo>
                      <a:pt x="15884" y="4"/>
                      <a:pt x="15885" y="5"/>
                      <a:pt x="15885" y="6"/>
                    </a:cubicBezTo>
                    <a:cubicBezTo>
                      <a:pt x="15885" y="7"/>
                      <a:pt x="15884" y="8"/>
                      <a:pt x="15883" y="8"/>
                    </a:cubicBezTo>
                    <a:lnTo>
                      <a:pt x="15883" y="8"/>
                    </a:lnTo>
                    <a:cubicBezTo>
                      <a:pt x="15882" y="8"/>
                      <a:pt x="15881" y="7"/>
                      <a:pt x="15881" y="6"/>
                    </a:cubicBezTo>
                    <a:cubicBezTo>
                      <a:pt x="15881" y="5"/>
                      <a:pt x="15882" y="4"/>
                      <a:pt x="15883" y="4"/>
                    </a:cubicBezTo>
                    <a:close/>
                    <a:moveTo>
                      <a:pt x="15891" y="4"/>
                    </a:moveTo>
                    <a:lnTo>
                      <a:pt x="15891" y="4"/>
                    </a:lnTo>
                    <a:cubicBezTo>
                      <a:pt x="15892" y="4"/>
                      <a:pt x="15893" y="5"/>
                      <a:pt x="15893" y="6"/>
                    </a:cubicBezTo>
                    <a:cubicBezTo>
                      <a:pt x="15893" y="7"/>
                      <a:pt x="15892" y="8"/>
                      <a:pt x="15891" y="8"/>
                    </a:cubicBezTo>
                    <a:lnTo>
                      <a:pt x="15891" y="8"/>
                    </a:lnTo>
                    <a:cubicBezTo>
                      <a:pt x="15890" y="8"/>
                      <a:pt x="15889" y="7"/>
                      <a:pt x="15889" y="6"/>
                    </a:cubicBezTo>
                    <a:cubicBezTo>
                      <a:pt x="15889" y="5"/>
                      <a:pt x="15890" y="4"/>
                      <a:pt x="15891" y="4"/>
                    </a:cubicBezTo>
                    <a:close/>
                    <a:moveTo>
                      <a:pt x="15899" y="4"/>
                    </a:moveTo>
                    <a:lnTo>
                      <a:pt x="15899" y="4"/>
                    </a:lnTo>
                    <a:cubicBezTo>
                      <a:pt x="15900" y="4"/>
                      <a:pt x="15901" y="5"/>
                      <a:pt x="15901" y="6"/>
                    </a:cubicBezTo>
                    <a:cubicBezTo>
                      <a:pt x="15901" y="7"/>
                      <a:pt x="15900" y="8"/>
                      <a:pt x="15899" y="8"/>
                    </a:cubicBezTo>
                    <a:lnTo>
                      <a:pt x="15899" y="8"/>
                    </a:lnTo>
                    <a:cubicBezTo>
                      <a:pt x="15898" y="8"/>
                      <a:pt x="15897" y="7"/>
                      <a:pt x="15897" y="6"/>
                    </a:cubicBezTo>
                    <a:cubicBezTo>
                      <a:pt x="15897" y="5"/>
                      <a:pt x="15898" y="4"/>
                      <a:pt x="15899" y="4"/>
                    </a:cubicBezTo>
                    <a:close/>
                    <a:moveTo>
                      <a:pt x="15907" y="4"/>
                    </a:moveTo>
                    <a:lnTo>
                      <a:pt x="15907" y="4"/>
                    </a:lnTo>
                    <a:cubicBezTo>
                      <a:pt x="15908" y="4"/>
                      <a:pt x="15909" y="5"/>
                      <a:pt x="15909" y="6"/>
                    </a:cubicBezTo>
                    <a:cubicBezTo>
                      <a:pt x="15909" y="7"/>
                      <a:pt x="15908" y="8"/>
                      <a:pt x="15907" y="8"/>
                    </a:cubicBezTo>
                    <a:lnTo>
                      <a:pt x="15907" y="8"/>
                    </a:lnTo>
                    <a:cubicBezTo>
                      <a:pt x="15906" y="8"/>
                      <a:pt x="15905" y="7"/>
                      <a:pt x="15905" y="6"/>
                    </a:cubicBezTo>
                    <a:cubicBezTo>
                      <a:pt x="15905" y="5"/>
                      <a:pt x="15906" y="4"/>
                      <a:pt x="15907" y="4"/>
                    </a:cubicBezTo>
                    <a:close/>
                    <a:moveTo>
                      <a:pt x="15915" y="4"/>
                    </a:moveTo>
                    <a:lnTo>
                      <a:pt x="15915" y="4"/>
                    </a:lnTo>
                    <a:cubicBezTo>
                      <a:pt x="15916" y="4"/>
                      <a:pt x="15917" y="5"/>
                      <a:pt x="15917" y="6"/>
                    </a:cubicBezTo>
                    <a:cubicBezTo>
                      <a:pt x="15917" y="7"/>
                      <a:pt x="15916" y="8"/>
                      <a:pt x="15915" y="8"/>
                    </a:cubicBezTo>
                    <a:lnTo>
                      <a:pt x="15915" y="8"/>
                    </a:lnTo>
                    <a:cubicBezTo>
                      <a:pt x="15914" y="8"/>
                      <a:pt x="15913" y="7"/>
                      <a:pt x="15913" y="6"/>
                    </a:cubicBezTo>
                    <a:cubicBezTo>
                      <a:pt x="15913" y="5"/>
                      <a:pt x="15914" y="4"/>
                      <a:pt x="15915" y="4"/>
                    </a:cubicBezTo>
                    <a:close/>
                    <a:moveTo>
                      <a:pt x="15923" y="4"/>
                    </a:moveTo>
                    <a:lnTo>
                      <a:pt x="15923" y="4"/>
                    </a:lnTo>
                    <a:cubicBezTo>
                      <a:pt x="15924" y="4"/>
                      <a:pt x="15925" y="5"/>
                      <a:pt x="15925" y="6"/>
                    </a:cubicBezTo>
                    <a:cubicBezTo>
                      <a:pt x="15925" y="7"/>
                      <a:pt x="15924" y="8"/>
                      <a:pt x="15923" y="8"/>
                    </a:cubicBezTo>
                    <a:lnTo>
                      <a:pt x="15923" y="8"/>
                    </a:lnTo>
                    <a:cubicBezTo>
                      <a:pt x="15922" y="8"/>
                      <a:pt x="15921" y="7"/>
                      <a:pt x="15921" y="6"/>
                    </a:cubicBezTo>
                    <a:cubicBezTo>
                      <a:pt x="15921" y="5"/>
                      <a:pt x="15922" y="4"/>
                      <a:pt x="15923" y="4"/>
                    </a:cubicBezTo>
                    <a:close/>
                    <a:moveTo>
                      <a:pt x="15931" y="4"/>
                    </a:moveTo>
                    <a:lnTo>
                      <a:pt x="15931" y="4"/>
                    </a:lnTo>
                    <a:cubicBezTo>
                      <a:pt x="15932" y="4"/>
                      <a:pt x="15933" y="5"/>
                      <a:pt x="15933" y="6"/>
                    </a:cubicBezTo>
                    <a:cubicBezTo>
                      <a:pt x="15933" y="7"/>
                      <a:pt x="15932" y="8"/>
                      <a:pt x="15931" y="8"/>
                    </a:cubicBezTo>
                    <a:lnTo>
                      <a:pt x="15931" y="8"/>
                    </a:lnTo>
                    <a:cubicBezTo>
                      <a:pt x="15930" y="8"/>
                      <a:pt x="15929" y="7"/>
                      <a:pt x="15929" y="6"/>
                    </a:cubicBezTo>
                    <a:cubicBezTo>
                      <a:pt x="15929" y="5"/>
                      <a:pt x="15930" y="4"/>
                      <a:pt x="15931" y="4"/>
                    </a:cubicBezTo>
                    <a:close/>
                    <a:moveTo>
                      <a:pt x="15939" y="4"/>
                    </a:moveTo>
                    <a:lnTo>
                      <a:pt x="15939" y="4"/>
                    </a:lnTo>
                    <a:cubicBezTo>
                      <a:pt x="15940" y="4"/>
                      <a:pt x="15941" y="5"/>
                      <a:pt x="15941" y="6"/>
                    </a:cubicBezTo>
                    <a:cubicBezTo>
                      <a:pt x="15941" y="7"/>
                      <a:pt x="15940" y="8"/>
                      <a:pt x="15939" y="8"/>
                    </a:cubicBezTo>
                    <a:lnTo>
                      <a:pt x="15939" y="8"/>
                    </a:lnTo>
                    <a:cubicBezTo>
                      <a:pt x="15938" y="8"/>
                      <a:pt x="15937" y="7"/>
                      <a:pt x="15937" y="6"/>
                    </a:cubicBezTo>
                    <a:cubicBezTo>
                      <a:pt x="15937" y="5"/>
                      <a:pt x="15938" y="4"/>
                      <a:pt x="15939" y="4"/>
                    </a:cubicBezTo>
                    <a:close/>
                    <a:moveTo>
                      <a:pt x="15947" y="4"/>
                    </a:moveTo>
                    <a:lnTo>
                      <a:pt x="15947" y="4"/>
                    </a:lnTo>
                    <a:cubicBezTo>
                      <a:pt x="15948" y="4"/>
                      <a:pt x="15949" y="5"/>
                      <a:pt x="15949" y="6"/>
                    </a:cubicBezTo>
                    <a:cubicBezTo>
                      <a:pt x="15949" y="7"/>
                      <a:pt x="15948" y="8"/>
                      <a:pt x="15947" y="8"/>
                    </a:cubicBezTo>
                    <a:lnTo>
                      <a:pt x="15947" y="8"/>
                    </a:lnTo>
                    <a:cubicBezTo>
                      <a:pt x="15946" y="8"/>
                      <a:pt x="15945" y="7"/>
                      <a:pt x="15945" y="6"/>
                    </a:cubicBezTo>
                    <a:cubicBezTo>
                      <a:pt x="15945" y="5"/>
                      <a:pt x="15946" y="4"/>
                      <a:pt x="15947" y="4"/>
                    </a:cubicBezTo>
                    <a:close/>
                    <a:moveTo>
                      <a:pt x="15955" y="4"/>
                    </a:moveTo>
                    <a:lnTo>
                      <a:pt x="15955" y="4"/>
                    </a:lnTo>
                    <a:cubicBezTo>
                      <a:pt x="15956" y="4"/>
                      <a:pt x="15957" y="5"/>
                      <a:pt x="15957" y="6"/>
                    </a:cubicBezTo>
                    <a:cubicBezTo>
                      <a:pt x="15957" y="7"/>
                      <a:pt x="15956" y="8"/>
                      <a:pt x="15955" y="8"/>
                    </a:cubicBezTo>
                    <a:lnTo>
                      <a:pt x="15955" y="8"/>
                    </a:lnTo>
                    <a:cubicBezTo>
                      <a:pt x="15954" y="8"/>
                      <a:pt x="15953" y="7"/>
                      <a:pt x="15953" y="6"/>
                    </a:cubicBezTo>
                    <a:cubicBezTo>
                      <a:pt x="15953" y="5"/>
                      <a:pt x="15954" y="4"/>
                      <a:pt x="15955" y="4"/>
                    </a:cubicBezTo>
                    <a:close/>
                    <a:moveTo>
                      <a:pt x="15963" y="4"/>
                    </a:moveTo>
                    <a:lnTo>
                      <a:pt x="15963" y="4"/>
                    </a:lnTo>
                    <a:cubicBezTo>
                      <a:pt x="15964" y="4"/>
                      <a:pt x="15965" y="5"/>
                      <a:pt x="15965" y="6"/>
                    </a:cubicBezTo>
                    <a:cubicBezTo>
                      <a:pt x="15965" y="7"/>
                      <a:pt x="15964" y="8"/>
                      <a:pt x="15963" y="8"/>
                    </a:cubicBezTo>
                    <a:lnTo>
                      <a:pt x="15963" y="8"/>
                    </a:lnTo>
                    <a:cubicBezTo>
                      <a:pt x="15962" y="8"/>
                      <a:pt x="15961" y="7"/>
                      <a:pt x="15961" y="6"/>
                    </a:cubicBezTo>
                    <a:cubicBezTo>
                      <a:pt x="15961" y="5"/>
                      <a:pt x="15962" y="4"/>
                      <a:pt x="15963" y="4"/>
                    </a:cubicBezTo>
                    <a:close/>
                    <a:moveTo>
                      <a:pt x="15971" y="4"/>
                    </a:moveTo>
                    <a:lnTo>
                      <a:pt x="15971" y="4"/>
                    </a:lnTo>
                    <a:cubicBezTo>
                      <a:pt x="15972" y="4"/>
                      <a:pt x="15973" y="5"/>
                      <a:pt x="15973" y="6"/>
                    </a:cubicBezTo>
                    <a:cubicBezTo>
                      <a:pt x="15973" y="7"/>
                      <a:pt x="15972" y="8"/>
                      <a:pt x="15971" y="8"/>
                    </a:cubicBezTo>
                    <a:lnTo>
                      <a:pt x="15971" y="8"/>
                    </a:lnTo>
                    <a:cubicBezTo>
                      <a:pt x="15970" y="8"/>
                      <a:pt x="15969" y="7"/>
                      <a:pt x="15969" y="6"/>
                    </a:cubicBezTo>
                    <a:cubicBezTo>
                      <a:pt x="15969" y="5"/>
                      <a:pt x="15970" y="4"/>
                      <a:pt x="15971" y="4"/>
                    </a:cubicBezTo>
                    <a:close/>
                    <a:moveTo>
                      <a:pt x="15979" y="4"/>
                    </a:moveTo>
                    <a:lnTo>
                      <a:pt x="15979" y="4"/>
                    </a:lnTo>
                    <a:cubicBezTo>
                      <a:pt x="15980" y="4"/>
                      <a:pt x="15981" y="5"/>
                      <a:pt x="15981" y="6"/>
                    </a:cubicBezTo>
                    <a:cubicBezTo>
                      <a:pt x="15981" y="7"/>
                      <a:pt x="15980" y="8"/>
                      <a:pt x="15979" y="8"/>
                    </a:cubicBezTo>
                    <a:lnTo>
                      <a:pt x="15979" y="8"/>
                    </a:lnTo>
                    <a:cubicBezTo>
                      <a:pt x="15978" y="8"/>
                      <a:pt x="15977" y="7"/>
                      <a:pt x="15977" y="6"/>
                    </a:cubicBezTo>
                    <a:cubicBezTo>
                      <a:pt x="15977" y="5"/>
                      <a:pt x="15978" y="4"/>
                      <a:pt x="15979" y="4"/>
                    </a:cubicBezTo>
                    <a:close/>
                    <a:moveTo>
                      <a:pt x="15987" y="4"/>
                    </a:moveTo>
                    <a:lnTo>
                      <a:pt x="15987" y="4"/>
                    </a:lnTo>
                    <a:cubicBezTo>
                      <a:pt x="15988" y="4"/>
                      <a:pt x="15989" y="5"/>
                      <a:pt x="15989" y="6"/>
                    </a:cubicBezTo>
                    <a:cubicBezTo>
                      <a:pt x="15989" y="7"/>
                      <a:pt x="15988" y="8"/>
                      <a:pt x="15987" y="8"/>
                    </a:cubicBezTo>
                    <a:lnTo>
                      <a:pt x="15987" y="8"/>
                    </a:lnTo>
                    <a:cubicBezTo>
                      <a:pt x="15986" y="8"/>
                      <a:pt x="15985" y="7"/>
                      <a:pt x="15985" y="6"/>
                    </a:cubicBezTo>
                    <a:cubicBezTo>
                      <a:pt x="15985" y="5"/>
                      <a:pt x="15986" y="4"/>
                      <a:pt x="15987" y="4"/>
                    </a:cubicBezTo>
                    <a:close/>
                    <a:moveTo>
                      <a:pt x="15995" y="4"/>
                    </a:moveTo>
                    <a:lnTo>
                      <a:pt x="15995" y="4"/>
                    </a:lnTo>
                    <a:cubicBezTo>
                      <a:pt x="15996" y="4"/>
                      <a:pt x="15997" y="5"/>
                      <a:pt x="15997" y="6"/>
                    </a:cubicBezTo>
                    <a:cubicBezTo>
                      <a:pt x="15997" y="7"/>
                      <a:pt x="15996" y="8"/>
                      <a:pt x="15995" y="8"/>
                    </a:cubicBezTo>
                    <a:lnTo>
                      <a:pt x="15995" y="8"/>
                    </a:lnTo>
                    <a:cubicBezTo>
                      <a:pt x="15994" y="8"/>
                      <a:pt x="15993" y="7"/>
                      <a:pt x="15993" y="6"/>
                    </a:cubicBezTo>
                    <a:cubicBezTo>
                      <a:pt x="15993" y="5"/>
                      <a:pt x="15994" y="4"/>
                      <a:pt x="15995" y="4"/>
                    </a:cubicBezTo>
                    <a:close/>
                    <a:moveTo>
                      <a:pt x="16003" y="4"/>
                    </a:moveTo>
                    <a:lnTo>
                      <a:pt x="16003" y="4"/>
                    </a:lnTo>
                    <a:cubicBezTo>
                      <a:pt x="16004" y="4"/>
                      <a:pt x="16005" y="5"/>
                      <a:pt x="16005" y="6"/>
                    </a:cubicBezTo>
                    <a:cubicBezTo>
                      <a:pt x="16005" y="7"/>
                      <a:pt x="16004" y="8"/>
                      <a:pt x="16003" y="8"/>
                    </a:cubicBezTo>
                    <a:lnTo>
                      <a:pt x="16003" y="8"/>
                    </a:lnTo>
                    <a:cubicBezTo>
                      <a:pt x="16002" y="8"/>
                      <a:pt x="16001" y="7"/>
                      <a:pt x="16001" y="6"/>
                    </a:cubicBezTo>
                    <a:cubicBezTo>
                      <a:pt x="16001" y="5"/>
                      <a:pt x="16002" y="4"/>
                      <a:pt x="16003" y="4"/>
                    </a:cubicBezTo>
                    <a:close/>
                    <a:moveTo>
                      <a:pt x="16011" y="4"/>
                    </a:moveTo>
                    <a:lnTo>
                      <a:pt x="16011" y="4"/>
                    </a:lnTo>
                    <a:cubicBezTo>
                      <a:pt x="16012" y="4"/>
                      <a:pt x="16013" y="5"/>
                      <a:pt x="16013" y="6"/>
                    </a:cubicBezTo>
                    <a:cubicBezTo>
                      <a:pt x="16013" y="7"/>
                      <a:pt x="16012" y="8"/>
                      <a:pt x="16011" y="8"/>
                    </a:cubicBezTo>
                    <a:lnTo>
                      <a:pt x="16011" y="8"/>
                    </a:lnTo>
                    <a:cubicBezTo>
                      <a:pt x="16010" y="8"/>
                      <a:pt x="16009" y="7"/>
                      <a:pt x="16009" y="6"/>
                    </a:cubicBezTo>
                    <a:cubicBezTo>
                      <a:pt x="16009" y="5"/>
                      <a:pt x="16010" y="4"/>
                      <a:pt x="16011" y="4"/>
                    </a:cubicBezTo>
                    <a:close/>
                    <a:moveTo>
                      <a:pt x="16019" y="4"/>
                    </a:moveTo>
                    <a:lnTo>
                      <a:pt x="16019" y="4"/>
                    </a:lnTo>
                    <a:cubicBezTo>
                      <a:pt x="16020" y="4"/>
                      <a:pt x="16021" y="5"/>
                      <a:pt x="16021" y="6"/>
                    </a:cubicBezTo>
                    <a:cubicBezTo>
                      <a:pt x="16021" y="7"/>
                      <a:pt x="16020" y="8"/>
                      <a:pt x="16019" y="8"/>
                    </a:cubicBezTo>
                    <a:lnTo>
                      <a:pt x="16019" y="8"/>
                    </a:lnTo>
                    <a:cubicBezTo>
                      <a:pt x="16018" y="8"/>
                      <a:pt x="16017" y="7"/>
                      <a:pt x="16017" y="6"/>
                    </a:cubicBezTo>
                    <a:cubicBezTo>
                      <a:pt x="16017" y="5"/>
                      <a:pt x="16018" y="4"/>
                      <a:pt x="16019" y="4"/>
                    </a:cubicBezTo>
                    <a:close/>
                    <a:moveTo>
                      <a:pt x="16027" y="4"/>
                    </a:moveTo>
                    <a:lnTo>
                      <a:pt x="16027" y="4"/>
                    </a:lnTo>
                    <a:cubicBezTo>
                      <a:pt x="16028" y="4"/>
                      <a:pt x="16029" y="5"/>
                      <a:pt x="16029" y="6"/>
                    </a:cubicBezTo>
                    <a:cubicBezTo>
                      <a:pt x="16029" y="7"/>
                      <a:pt x="16028" y="8"/>
                      <a:pt x="16027" y="8"/>
                    </a:cubicBezTo>
                    <a:lnTo>
                      <a:pt x="16027" y="8"/>
                    </a:lnTo>
                    <a:cubicBezTo>
                      <a:pt x="16026" y="8"/>
                      <a:pt x="16025" y="7"/>
                      <a:pt x="16025" y="6"/>
                    </a:cubicBezTo>
                    <a:cubicBezTo>
                      <a:pt x="16025" y="5"/>
                      <a:pt x="16026" y="4"/>
                      <a:pt x="16027" y="4"/>
                    </a:cubicBezTo>
                    <a:close/>
                    <a:moveTo>
                      <a:pt x="16035" y="4"/>
                    </a:moveTo>
                    <a:lnTo>
                      <a:pt x="16035" y="4"/>
                    </a:lnTo>
                    <a:cubicBezTo>
                      <a:pt x="16036" y="4"/>
                      <a:pt x="16037" y="5"/>
                      <a:pt x="16037" y="6"/>
                    </a:cubicBezTo>
                    <a:cubicBezTo>
                      <a:pt x="16037" y="7"/>
                      <a:pt x="16036" y="8"/>
                      <a:pt x="16035" y="8"/>
                    </a:cubicBezTo>
                    <a:lnTo>
                      <a:pt x="16035" y="8"/>
                    </a:lnTo>
                    <a:cubicBezTo>
                      <a:pt x="16034" y="8"/>
                      <a:pt x="16033" y="7"/>
                      <a:pt x="16033" y="6"/>
                    </a:cubicBezTo>
                    <a:cubicBezTo>
                      <a:pt x="16033" y="5"/>
                      <a:pt x="16034" y="4"/>
                      <a:pt x="16035" y="4"/>
                    </a:cubicBezTo>
                    <a:close/>
                    <a:moveTo>
                      <a:pt x="16043" y="4"/>
                    </a:moveTo>
                    <a:lnTo>
                      <a:pt x="16043" y="4"/>
                    </a:lnTo>
                    <a:cubicBezTo>
                      <a:pt x="16044" y="4"/>
                      <a:pt x="16045" y="5"/>
                      <a:pt x="16045" y="6"/>
                    </a:cubicBezTo>
                    <a:cubicBezTo>
                      <a:pt x="16045" y="7"/>
                      <a:pt x="16044" y="8"/>
                      <a:pt x="16043" y="8"/>
                    </a:cubicBezTo>
                    <a:lnTo>
                      <a:pt x="16043" y="8"/>
                    </a:lnTo>
                    <a:cubicBezTo>
                      <a:pt x="16042" y="8"/>
                      <a:pt x="16041" y="7"/>
                      <a:pt x="16041" y="6"/>
                    </a:cubicBezTo>
                    <a:cubicBezTo>
                      <a:pt x="16041" y="5"/>
                      <a:pt x="16042" y="4"/>
                      <a:pt x="16043" y="4"/>
                    </a:cubicBezTo>
                    <a:close/>
                    <a:moveTo>
                      <a:pt x="16051" y="4"/>
                    </a:moveTo>
                    <a:lnTo>
                      <a:pt x="16051" y="4"/>
                    </a:lnTo>
                    <a:cubicBezTo>
                      <a:pt x="16052" y="4"/>
                      <a:pt x="16053" y="5"/>
                      <a:pt x="16053" y="6"/>
                    </a:cubicBezTo>
                    <a:cubicBezTo>
                      <a:pt x="16053" y="7"/>
                      <a:pt x="16052" y="8"/>
                      <a:pt x="16051" y="8"/>
                    </a:cubicBezTo>
                    <a:lnTo>
                      <a:pt x="16051" y="8"/>
                    </a:lnTo>
                    <a:cubicBezTo>
                      <a:pt x="16050" y="8"/>
                      <a:pt x="16049" y="7"/>
                      <a:pt x="16049" y="6"/>
                    </a:cubicBezTo>
                    <a:cubicBezTo>
                      <a:pt x="16049" y="5"/>
                      <a:pt x="16050" y="4"/>
                      <a:pt x="16051" y="4"/>
                    </a:cubicBezTo>
                    <a:close/>
                    <a:moveTo>
                      <a:pt x="16059" y="4"/>
                    </a:moveTo>
                    <a:lnTo>
                      <a:pt x="16059" y="4"/>
                    </a:lnTo>
                    <a:cubicBezTo>
                      <a:pt x="16060" y="4"/>
                      <a:pt x="16061" y="5"/>
                      <a:pt x="16061" y="6"/>
                    </a:cubicBezTo>
                    <a:cubicBezTo>
                      <a:pt x="16061" y="7"/>
                      <a:pt x="16060" y="8"/>
                      <a:pt x="16059" y="8"/>
                    </a:cubicBezTo>
                    <a:lnTo>
                      <a:pt x="16059" y="8"/>
                    </a:lnTo>
                    <a:cubicBezTo>
                      <a:pt x="16058" y="8"/>
                      <a:pt x="16057" y="7"/>
                      <a:pt x="16057" y="6"/>
                    </a:cubicBezTo>
                    <a:cubicBezTo>
                      <a:pt x="16057" y="5"/>
                      <a:pt x="16058" y="4"/>
                      <a:pt x="16059" y="4"/>
                    </a:cubicBezTo>
                    <a:close/>
                    <a:moveTo>
                      <a:pt x="16067" y="4"/>
                    </a:moveTo>
                    <a:lnTo>
                      <a:pt x="16067" y="4"/>
                    </a:lnTo>
                    <a:cubicBezTo>
                      <a:pt x="16068" y="4"/>
                      <a:pt x="16069" y="5"/>
                      <a:pt x="16069" y="6"/>
                    </a:cubicBezTo>
                    <a:cubicBezTo>
                      <a:pt x="16069" y="7"/>
                      <a:pt x="16068" y="8"/>
                      <a:pt x="16067" y="8"/>
                    </a:cubicBezTo>
                    <a:lnTo>
                      <a:pt x="16067" y="8"/>
                    </a:lnTo>
                    <a:cubicBezTo>
                      <a:pt x="16066" y="8"/>
                      <a:pt x="16065" y="7"/>
                      <a:pt x="16065" y="6"/>
                    </a:cubicBezTo>
                    <a:cubicBezTo>
                      <a:pt x="16065" y="5"/>
                      <a:pt x="16066" y="4"/>
                      <a:pt x="16067" y="4"/>
                    </a:cubicBezTo>
                    <a:close/>
                    <a:moveTo>
                      <a:pt x="16075" y="4"/>
                    </a:moveTo>
                    <a:lnTo>
                      <a:pt x="16075" y="4"/>
                    </a:lnTo>
                    <a:cubicBezTo>
                      <a:pt x="16076" y="4"/>
                      <a:pt x="16077" y="5"/>
                      <a:pt x="16077" y="6"/>
                    </a:cubicBezTo>
                    <a:cubicBezTo>
                      <a:pt x="16077" y="7"/>
                      <a:pt x="16076" y="8"/>
                      <a:pt x="16075" y="8"/>
                    </a:cubicBezTo>
                    <a:lnTo>
                      <a:pt x="16075" y="8"/>
                    </a:lnTo>
                    <a:cubicBezTo>
                      <a:pt x="16074" y="8"/>
                      <a:pt x="16073" y="7"/>
                      <a:pt x="16073" y="6"/>
                    </a:cubicBezTo>
                    <a:cubicBezTo>
                      <a:pt x="16073" y="5"/>
                      <a:pt x="16074" y="4"/>
                      <a:pt x="16075" y="4"/>
                    </a:cubicBezTo>
                    <a:close/>
                    <a:moveTo>
                      <a:pt x="16083" y="4"/>
                    </a:moveTo>
                    <a:lnTo>
                      <a:pt x="16083" y="4"/>
                    </a:lnTo>
                    <a:cubicBezTo>
                      <a:pt x="16084" y="4"/>
                      <a:pt x="16085" y="5"/>
                      <a:pt x="16085" y="6"/>
                    </a:cubicBezTo>
                    <a:cubicBezTo>
                      <a:pt x="16085" y="7"/>
                      <a:pt x="16084" y="8"/>
                      <a:pt x="16083" y="8"/>
                    </a:cubicBezTo>
                    <a:lnTo>
                      <a:pt x="16083" y="8"/>
                    </a:lnTo>
                    <a:cubicBezTo>
                      <a:pt x="16082" y="8"/>
                      <a:pt x="16081" y="7"/>
                      <a:pt x="16081" y="6"/>
                    </a:cubicBezTo>
                    <a:cubicBezTo>
                      <a:pt x="16081" y="5"/>
                      <a:pt x="16082" y="4"/>
                      <a:pt x="16083" y="4"/>
                    </a:cubicBezTo>
                    <a:close/>
                    <a:moveTo>
                      <a:pt x="16091" y="4"/>
                    </a:moveTo>
                    <a:lnTo>
                      <a:pt x="16091" y="4"/>
                    </a:lnTo>
                    <a:cubicBezTo>
                      <a:pt x="16092" y="4"/>
                      <a:pt x="16093" y="5"/>
                      <a:pt x="16093" y="6"/>
                    </a:cubicBezTo>
                    <a:cubicBezTo>
                      <a:pt x="16093" y="7"/>
                      <a:pt x="16092" y="8"/>
                      <a:pt x="16091" y="8"/>
                    </a:cubicBezTo>
                    <a:lnTo>
                      <a:pt x="16091" y="8"/>
                    </a:lnTo>
                    <a:cubicBezTo>
                      <a:pt x="16090" y="8"/>
                      <a:pt x="16089" y="7"/>
                      <a:pt x="16089" y="6"/>
                    </a:cubicBezTo>
                    <a:cubicBezTo>
                      <a:pt x="16089" y="5"/>
                      <a:pt x="16090" y="4"/>
                      <a:pt x="16091" y="4"/>
                    </a:cubicBezTo>
                    <a:close/>
                    <a:moveTo>
                      <a:pt x="16099" y="4"/>
                    </a:moveTo>
                    <a:lnTo>
                      <a:pt x="16099" y="4"/>
                    </a:lnTo>
                    <a:cubicBezTo>
                      <a:pt x="16100" y="4"/>
                      <a:pt x="16101" y="5"/>
                      <a:pt x="16101" y="6"/>
                    </a:cubicBezTo>
                    <a:cubicBezTo>
                      <a:pt x="16101" y="7"/>
                      <a:pt x="16100" y="8"/>
                      <a:pt x="16099" y="8"/>
                    </a:cubicBezTo>
                    <a:lnTo>
                      <a:pt x="16099" y="8"/>
                    </a:lnTo>
                    <a:cubicBezTo>
                      <a:pt x="16098" y="8"/>
                      <a:pt x="16097" y="7"/>
                      <a:pt x="16097" y="6"/>
                    </a:cubicBezTo>
                    <a:cubicBezTo>
                      <a:pt x="16097" y="5"/>
                      <a:pt x="16098" y="4"/>
                      <a:pt x="16099" y="4"/>
                    </a:cubicBezTo>
                    <a:close/>
                    <a:moveTo>
                      <a:pt x="16107" y="4"/>
                    </a:moveTo>
                    <a:lnTo>
                      <a:pt x="16107" y="4"/>
                    </a:lnTo>
                    <a:cubicBezTo>
                      <a:pt x="16108" y="4"/>
                      <a:pt x="16109" y="5"/>
                      <a:pt x="16109" y="6"/>
                    </a:cubicBezTo>
                    <a:cubicBezTo>
                      <a:pt x="16109" y="7"/>
                      <a:pt x="16108" y="8"/>
                      <a:pt x="16107" y="8"/>
                    </a:cubicBezTo>
                    <a:lnTo>
                      <a:pt x="16107" y="8"/>
                    </a:lnTo>
                    <a:cubicBezTo>
                      <a:pt x="16106" y="8"/>
                      <a:pt x="16105" y="7"/>
                      <a:pt x="16105" y="6"/>
                    </a:cubicBezTo>
                    <a:cubicBezTo>
                      <a:pt x="16105" y="5"/>
                      <a:pt x="16106" y="4"/>
                      <a:pt x="16107" y="4"/>
                    </a:cubicBezTo>
                    <a:close/>
                    <a:moveTo>
                      <a:pt x="16115" y="4"/>
                    </a:moveTo>
                    <a:lnTo>
                      <a:pt x="16115" y="4"/>
                    </a:lnTo>
                    <a:cubicBezTo>
                      <a:pt x="16116" y="4"/>
                      <a:pt x="16117" y="5"/>
                      <a:pt x="16117" y="6"/>
                    </a:cubicBezTo>
                    <a:cubicBezTo>
                      <a:pt x="16117" y="7"/>
                      <a:pt x="16116" y="8"/>
                      <a:pt x="16115" y="8"/>
                    </a:cubicBezTo>
                    <a:lnTo>
                      <a:pt x="16115" y="8"/>
                    </a:lnTo>
                    <a:cubicBezTo>
                      <a:pt x="16114" y="8"/>
                      <a:pt x="16113" y="7"/>
                      <a:pt x="16113" y="6"/>
                    </a:cubicBezTo>
                    <a:cubicBezTo>
                      <a:pt x="16113" y="5"/>
                      <a:pt x="16114" y="4"/>
                      <a:pt x="16115" y="4"/>
                    </a:cubicBezTo>
                    <a:close/>
                    <a:moveTo>
                      <a:pt x="16123" y="4"/>
                    </a:moveTo>
                    <a:lnTo>
                      <a:pt x="16123" y="4"/>
                    </a:lnTo>
                    <a:cubicBezTo>
                      <a:pt x="16124" y="4"/>
                      <a:pt x="16125" y="5"/>
                      <a:pt x="16125" y="6"/>
                    </a:cubicBezTo>
                    <a:cubicBezTo>
                      <a:pt x="16125" y="7"/>
                      <a:pt x="16124" y="8"/>
                      <a:pt x="16123" y="8"/>
                    </a:cubicBezTo>
                    <a:lnTo>
                      <a:pt x="16123" y="8"/>
                    </a:lnTo>
                    <a:cubicBezTo>
                      <a:pt x="16122" y="8"/>
                      <a:pt x="16121" y="7"/>
                      <a:pt x="16121" y="6"/>
                    </a:cubicBezTo>
                    <a:cubicBezTo>
                      <a:pt x="16121" y="5"/>
                      <a:pt x="16122" y="4"/>
                      <a:pt x="16123" y="4"/>
                    </a:cubicBezTo>
                    <a:close/>
                    <a:moveTo>
                      <a:pt x="16131" y="4"/>
                    </a:moveTo>
                    <a:lnTo>
                      <a:pt x="16131" y="4"/>
                    </a:lnTo>
                    <a:cubicBezTo>
                      <a:pt x="16132" y="4"/>
                      <a:pt x="16133" y="5"/>
                      <a:pt x="16133" y="6"/>
                    </a:cubicBezTo>
                    <a:cubicBezTo>
                      <a:pt x="16133" y="7"/>
                      <a:pt x="16132" y="8"/>
                      <a:pt x="16131" y="8"/>
                    </a:cubicBezTo>
                    <a:lnTo>
                      <a:pt x="16131" y="8"/>
                    </a:lnTo>
                    <a:cubicBezTo>
                      <a:pt x="16130" y="8"/>
                      <a:pt x="16129" y="7"/>
                      <a:pt x="16129" y="6"/>
                    </a:cubicBezTo>
                    <a:cubicBezTo>
                      <a:pt x="16129" y="5"/>
                      <a:pt x="16130" y="4"/>
                      <a:pt x="16131" y="4"/>
                    </a:cubicBezTo>
                    <a:close/>
                    <a:moveTo>
                      <a:pt x="16139" y="4"/>
                    </a:moveTo>
                    <a:lnTo>
                      <a:pt x="16139" y="4"/>
                    </a:lnTo>
                    <a:cubicBezTo>
                      <a:pt x="16140" y="4"/>
                      <a:pt x="16141" y="5"/>
                      <a:pt x="16141" y="6"/>
                    </a:cubicBezTo>
                    <a:cubicBezTo>
                      <a:pt x="16141" y="7"/>
                      <a:pt x="16140" y="8"/>
                      <a:pt x="16139" y="8"/>
                    </a:cubicBezTo>
                    <a:lnTo>
                      <a:pt x="16139" y="8"/>
                    </a:lnTo>
                    <a:cubicBezTo>
                      <a:pt x="16138" y="8"/>
                      <a:pt x="16137" y="7"/>
                      <a:pt x="16137" y="6"/>
                    </a:cubicBezTo>
                    <a:cubicBezTo>
                      <a:pt x="16137" y="5"/>
                      <a:pt x="16138" y="4"/>
                      <a:pt x="16139" y="4"/>
                    </a:cubicBezTo>
                    <a:close/>
                    <a:moveTo>
                      <a:pt x="16147" y="4"/>
                    </a:moveTo>
                    <a:lnTo>
                      <a:pt x="16147" y="4"/>
                    </a:lnTo>
                    <a:cubicBezTo>
                      <a:pt x="16148" y="4"/>
                      <a:pt x="16149" y="5"/>
                      <a:pt x="16149" y="6"/>
                    </a:cubicBezTo>
                    <a:cubicBezTo>
                      <a:pt x="16149" y="7"/>
                      <a:pt x="16148" y="8"/>
                      <a:pt x="16147" y="8"/>
                    </a:cubicBezTo>
                    <a:lnTo>
                      <a:pt x="16147" y="8"/>
                    </a:lnTo>
                    <a:cubicBezTo>
                      <a:pt x="16146" y="8"/>
                      <a:pt x="16145" y="7"/>
                      <a:pt x="16145" y="6"/>
                    </a:cubicBezTo>
                    <a:cubicBezTo>
                      <a:pt x="16145" y="5"/>
                      <a:pt x="16146" y="4"/>
                      <a:pt x="16147" y="4"/>
                    </a:cubicBezTo>
                    <a:close/>
                    <a:moveTo>
                      <a:pt x="16155" y="4"/>
                    </a:moveTo>
                    <a:lnTo>
                      <a:pt x="16155" y="4"/>
                    </a:lnTo>
                    <a:cubicBezTo>
                      <a:pt x="16156" y="4"/>
                      <a:pt x="16157" y="5"/>
                      <a:pt x="16157" y="6"/>
                    </a:cubicBezTo>
                    <a:cubicBezTo>
                      <a:pt x="16157" y="7"/>
                      <a:pt x="16156" y="8"/>
                      <a:pt x="16155" y="8"/>
                    </a:cubicBezTo>
                    <a:lnTo>
                      <a:pt x="16155" y="8"/>
                    </a:lnTo>
                    <a:cubicBezTo>
                      <a:pt x="16154" y="8"/>
                      <a:pt x="16153" y="7"/>
                      <a:pt x="16153" y="6"/>
                    </a:cubicBezTo>
                    <a:cubicBezTo>
                      <a:pt x="16153" y="5"/>
                      <a:pt x="16154" y="4"/>
                      <a:pt x="16155" y="4"/>
                    </a:cubicBezTo>
                    <a:close/>
                    <a:moveTo>
                      <a:pt x="16163" y="4"/>
                    </a:moveTo>
                    <a:lnTo>
                      <a:pt x="16163" y="4"/>
                    </a:lnTo>
                    <a:cubicBezTo>
                      <a:pt x="16164" y="4"/>
                      <a:pt x="16165" y="5"/>
                      <a:pt x="16165" y="6"/>
                    </a:cubicBezTo>
                    <a:cubicBezTo>
                      <a:pt x="16165" y="7"/>
                      <a:pt x="16164" y="8"/>
                      <a:pt x="16163" y="8"/>
                    </a:cubicBezTo>
                    <a:lnTo>
                      <a:pt x="16163" y="8"/>
                    </a:lnTo>
                    <a:cubicBezTo>
                      <a:pt x="16162" y="8"/>
                      <a:pt x="16161" y="7"/>
                      <a:pt x="16161" y="6"/>
                    </a:cubicBezTo>
                    <a:cubicBezTo>
                      <a:pt x="16161" y="5"/>
                      <a:pt x="16162" y="4"/>
                      <a:pt x="16163" y="4"/>
                    </a:cubicBezTo>
                    <a:close/>
                    <a:moveTo>
                      <a:pt x="16171" y="4"/>
                    </a:moveTo>
                    <a:lnTo>
                      <a:pt x="16171" y="4"/>
                    </a:lnTo>
                    <a:cubicBezTo>
                      <a:pt x="16172" y="4"/>
                      <a:pt x="16173" y="5"/>
                      <a:pt x="16173" y="6"/>
                    </a:cubicBezTo>
                    <a:cubicBezTo>
                      <a:pt x="16173" y="7"/>
                      <a:pt x="16172" y="8"/>
                      <a:pt x="16171" y="8"/>
                    </a:cubicBezTo>
                    <a:lnTo>
                      <a:pt x="16171" y="8"/>
                    </a:lnTo>
                    <a:cubicBezTo>
                      <a:pt x="16170" y="8"/>
                      <a:pt x="16169" y="7"/>
                      <a:pt x="16169" y="6"/>
                    </a:cubicBezTo>
                    <a:cubicBezTo>
                      <a:pt x="16169" y="5"/>
                      <a:pt x="16170" y="4"/>
                      <a:pt x="16171" y="4"/>
                    </a:cubicBezTo>
                    <a:close/>
                    <a:moveTo>
                      <a:pt x="16179" y="4"/>
                    </a:moveTo>
                    <a:lnTo>
                      <a:pt x="16179" y="4"/>
                    </a:lnTo>
                    <a:cubicBezTo>
                      <a:pt x="16180" y="4"/>
                      <a:pt x="16181" y="5"/>
                      <a:pt x="16181" y="6"/>
                    </a:cubicBezTo>
                    <a:cubicBezTo>
                      <a:pt x="16181" y="7"/>
                      <a:pt x="16180" y="8"/>
                      <a:pt x="16179" y="8"/>
                    </a:cubicBezTo>
                    <a:lnTo>
                      <a:pt x="16179" y="8"/>
                    </a:lnTo>
                    <a:cubicBezTo>
                      <a:pt x="16178" y="8"/>
                      <a:pt x="16177" y="7"/>
                      <a:pt x="16177" y="6"/>
                    </a:cubicBezTo>
                    <a:cubicBezTo>
                      <a:pt x="16177" y="5"/>
                      <a:pt x="16178" y="4"/>
                      <a:pt x="16179" y="4"/>
                    </a:cubicBezTo>
                    <a:close/>
                    <a:moveTo>
                      <a:pt x="16187" y="4"/>
                    </a:moveTo>
                    <a:lnTo>
                      <a:pt x="16187" y="4"/>
                    </a:lnTo>
                    <a:cubicBezTo>
                      <a:pt x="16188" y="4"/>
                      <a:pt x="16189" y="5"/>
                      <a:pt x="16189" y="6"/>
                    </a:cubicBezTo>
                    <a:cubicBezTo>
                      <a:pt x="16189" y="7"/>
                      <a:pt x="16188" y="8"/>
                      <a:pt x="16187" y="8"/>
                    </a:cubicBezTo>
                    <a:lnTo>
                      <a:pt x="16187" y="8"/>
                    </a:lnTo>
                    <a:cubicBezTo>
                      <a:pt x="16186" y="8"/>
                      <a:pt x="16185" y="7"/>
                      <a:pt x="16185" y="6"/>
                    </a:cubicBezTo>
                    <a:cubicBezTo>
                      <a:pt x="16185" y="5"/>
                      <a:pt x="16186" y="4"/>
                      <a:pt x="16187" y="4"/>
                    </a:cubicBezTo>
                    <a:close/>
                    <a:moveTo>
                      <a:pt x="16195" y="4"/>
                    </a:moveTo>
                    <a:lnTo>
                      <a:pt x="16195" y="4"/>
                    </a:lnTo>
                    <a:cubicBezTo>
                      <a:pt x="16196" y="4"/>
                      <a:pt x="16197" y="5"/>
                      <a:pt x="16197" y="6"/>
                    </a:cubicBezTo>
                    <a:cubicBezTo>
                      <a:pt x="16197" y="7"/>
                      <a:pt x="16196" y="8"/>
                      <a:pt x="16195" y="8"/>
                    </a:cubicBezTo>
                    <a:lnTo>
                      <a:pt x="16195" y="8"/>
                    </a:lnTo>
                    <a:cubicBezTo>
                      <a:pt x="16194" y="8"/>
                      <a:pt x="16193" y="7"/>
                      <a:pt x="16193" y="6"/>
                    </a:cubicBezTo>
                    <a:cubicBezTo>
                      <a:pt x="16193" y="5"/>
                      <a:pt x="16194" y="4"/>
                      <a:pt x="16195" y="4"/>
                    </a:cubicBezTo>
                    <a:close/>
                    <a:moveTo>
                      <a:pt x="16203" y="4"/>
                    </a:moveTo>
                    <a:lnTo>
                      <a:pt x="16203" y="4"/>
                    </a:lnTo>
                    <a:cubicBezTo>
                      <a:pt x="16204" y="4"/>
                      <a:pt x="16205" y="5"/>
                      <a:pt x="16205" y="6"/>
                    </a:cubicBezTo>
                    <a:cubicBezTo>
                      <a:pt x="16205" y="7"/>
                      <a:pt x="16204" y="8"/>
                      <a:pt x="16203" y="8"/>
                    </a:cubicBezTo>
                    <a:lnTo>
                      <a:pt x="16203" y="8"/>
                    </a:lnTo>
                    <a:cubicBezTo>
                      <a:pt x="16202" y="8"/>
                      <a:pt x="16201" y="7"/>
                      <a:pt x="16201" y="6"/>
                    </a:cubicBezTo>
                    <a:cubicBezTo>
                      <a:pt x="16201" y="5"/>
                      <a:pt x="16202" y="4"/>
                      <a:pt x="16203" y="4"/>
                    </a:cubicBezTo>
                    <a:close/>
                    <a:moveTo>
                      <a:pt x="16211" y="4"/>
                    </a:moveTo>
                    <a:lnTo>
                      <a:pt x="16211" y="4"/>
                    </a:lnTo>
                    <a:cubicBezTo>
                      <a:pt x="16212" y="4"/>
                      <a:pt x="16213" y="5"/>
                      <a:pt x="16213" y="6"/>
                    </a:cubicBezTo>
                    <a:cubicBezTo>
                      <a:pt x="16213" y="7"/>
                      <a:pt x="16212" y="8"/>
                      <a:pt x="16211" y="8"/>
                    </a:cubicBezTo>
                    <a:lnTo>
                      <a:pt x="16211" y="8"/>
                    </a:lnTo>
                    <a:cubicBezTo>
                      <a:pt x="16210" y="8"/>
                      <a:pt x="16209" y="7"/>
                      <a:pt x="16209" y="6"/>
                    </a:cubicBezTo>
                    <a:cubicBezTo>
                      <a:pt x="16209" y="5"/>
                      <a:pt x="16210" y="4"/>
                      <a:pt x="16211" y="4"/>
                    </a:cubicBezTo>
                    <a:close/>
                    <a:moveTo>
                      <a:pt x="16219" y="4"/>
                    </a:moveTo>
                    <a:lnTo>
                      <a:pt x="16219" y="4"/>
                    </a:lnTo>
                    <a:cubicBezTo>
                      <a:pt x="16220" y="4"/>
                      <a:pt x="16221" y="5"/>
                      <a:pt x="16221" y="6"/>
                    </a:cubicBezTo>
                    <a:cubicBezTo>
                      <a:pt x="16221" y="7"/>
                      <a:pt x="16220" y="8"/>
                      <a:pt x="16219" y="8"/>
                    </a:cubicBezTo>
                    <a:lnTo>
                      <a:pt x="16219" y="8"/>
                    </a:lnTo>
                    <a:cubicBezTo>
                      <a:pt x="16218" y="8"/>
                      <a:pt x="16217" y="7"/>
                      <a:pt x="16217" y="6"/>
                    </a:cubicBezTo>
                    <a:cubicBezTo>
                      <a:pt x="16217" y="5"/>
                      <a:pt x="16218" y="4"/>
                      <a:pt x="16219" y="4"/>
                    </a:cubicBezTo>
                    <a:close/>
                    <a:moveTo>
                      <a:pt x="16227" y="4"/>
                    </a:moveTo>
                    <a:lnTo>
                      <a:pt x="16227" y="4"/>
                    </a:lnTo>
                    <a:cubicBezTo>
                      <a:pt x="16228" y="4"/>
                      <a:pt x="16229" y="5"/>
                      <a:pt x="16229" y="6"/>
                    </a:cubicBezTo>
                    <a:cubicBezTo>
                      <a:pt x="16229" y="7"/>
                      <a:pt x="16228" y="8"/>
                      <a:pt x="16227" y="8"/>
                    </a:cubicBezTo>
                    <a:lnTo>
                      <a:pt x="16227" y="8"/>
                    </a:lnTo>
                    <a:cubicBezTo>
                      <a:pt x="16226" y="8"/>
                      <a:pt x="16225" y="7"/>
                      <a:pt x="16225" y="6"/>
                    </a:cubicBezTo>
                    <a:cubicBezTo>
                      <a:pt x="16225" y="5"/>
                      <a:pt x="16226" y="4"/>
                      <a:pt x="16227" y="4"/>
                    </a:cubicBezTo>
                    <a:close/>
                    <a:moveTo>
                      <a:pt x="16235" y="4"/>
                    </a:moveTo>
                    <a:lnTo>
                      <a:pt x="16235" y="4"/>
                    </a:lnTo>
                    <a:cubicBezTo>
                      <a:pt x="16236" y="4"/>
                      <a:pt x="16237" y="5"/>
                      <a:pt x="16237" y="6"/>
                    </a:cubicBezTo>
                    <a:cubicBezTo>
                      <a:pt x="16237" y="7"/>
                      <a:pt x="16236" y="8"/>
                      <a:pt x="16235" y="8"/>
                    </a:cubicBezTo>
                    <a:lnTo>
                      <a:pt x="16235" y="8"/>
                    </a:lnTo>
                    <a:cubicBezTo>
                      <a:pt x="16234" y="8"/>
                      <a:pt x="16233" y="7"/>
                      <a:pt x="16233" y="6"/>
                    </a:cubicBezTo>
                    <a:cubicBezTo>
                      <a:pt x="16233" y="5"/>
                      <a:pt x="16234" y="4"/>
                      <a:pt x="16235" y="4"/>
                    </a:cubicBezTo>
                    <a:close/>
                    <a:moveTo>
                      <a:pt x="16243" y="4"/>
                    </a:moveTo>
                    <a:lnTo>
                      <a:pt x="16243" y="4"/>
                    </a:lnTo>
                    <a:cubicBezTo>
                      <a:pt x="16244" y="4"/>
                      <a:pt x="16245" y="5"/>
                      <a:pt x="16245" y="6"/>
                    </a:cubicBezTo>
                    <a:cubicBezTo>
                      <a:pt x="16245" y="7"/>
                      <a:pt x="16244" y="8"/>
                      <a:pt x="16243" y="8"/>
                    </a:cubicBezTo>
                    <a:lnTo>
                      <a:pt x="16243" y="8"/>
                    </a:lnTo>
                    <a:cubicBezTo>
                      <a:pt x="16242" y="8"/>
                      <a:pt x="16241" y="7"/>
                      <a:pt x="16241" y="6"/>
                    </a:cubicBezTo>
                    <a:cubicBezTo>
                      <a:pt x="16241" y="5"/>
                      <a:pt x="16242" y="4"/>
                      <a:pt x="16243" y="4"/>
                    </a:cubicBezTo>
                    <a:close/>
                    <a:moveTo>
                      <a:pt x="16251" y="4"/>
                    </a:moveTo>
                    <a:lnTo>
                      <a:pt x="16251" y="4"/>
                    </a:lnTo>
                    <a:cubicBezTo>
                      <a:pt x="16252" y="4"/>
                      <a:pt x="16253" y="5"/>
                      <a:pt x="16253" y="6"/>
                    </a:cubicBezTo>
                    <a:cubicBezTo>
                      <a:pt x="16253" y="7"/>
                      <a:pt x="16252" y="8"/>
                      <a:pt x="16251" y="8"/>
                    </a:cubicBezTo>
                    <a:lnTo>
                      <a:pt x="16251" y="8"/>
                    </a:lnTo>
                    <a:cubicBezTo>
                      <a:pt x="16250" y="8"/>
                      <a:pt x="16249" y="7"/>
                      <a:pt x="16249" y="6"/>
                    </a:cubicBezTo>
                    <a:cubicBezTo>
                      <a:pt x="16249" y="5"/>
                      <a:pt x="16250" y="4"/>
                      <a:pt x="16251" y="4"/>
                    </a:cubicBezTo>
                    <a:close/>
                    <a:moveTo>
                      <a:pt x="16259" y="4"/>
                    </a:moveTo>
                    <a:lnTo>
                      <a:pt x="16259" y="4"/>
                    </a:lnTo>
                    <a:cubicBezTo>
                      <a:pt x="16260" y="4"/>
                      <a:pt x="16261" y="5"/>
                      <a:pt x="16261" y="6"/>
                    </a:cubicBezTo>
                    <a:cubicBezTo>
                      <a:pt x="16261" y="7"/>
                      <a:pt x="16260" y="8"/>
                      <a:pt x="16259" y="8"/>
                    </a:cubicBezTo>
                    <a:lnTo>
                      <a:pt x="16259" y="8"/>
                    </a:lnTo>
                    <a:cubicBezTo>
                      <a:pt x="16258" y="8"/>
                      <a:pt x="16257" y="7"/>
                      <a:pt x="16257" y="6"/>
                    </a:cubicBezTo>
                    <a:cubicBezTo>
                      <a:pt x="16257" y="5"/>
                      <a:pt x="16258" y="4"/>
                      <a:pt x="16259" y="4"/>
                    </a:cubicBezTo>
                    <a:close/>
                    <a:moveTo>
                      <a:pt x="16267" y="4"/>
                    </a:moveTo>
                    <a:lnTo>
                      <a:pt x="16267" y="4"/>
                    </a:lnTo>
                    <a:cubicBezTo>
                      <a:pt x="16268" y="4"/>
                      <a:pt x="16269" y="5"/>
                      <a:pt x="16269" y="6"/>
                    </a:cubicBezTo>
                    <a:cubicBezTo>
                      <a:pt x="16269" y="7"/>
                      <a:pt x="16268" y="8"/>
                      <a:pt x="16267" y="8"/>
                    </a:cubicBezTo>
                    <a:lnTo>
                      <a:pt x="16267" y="8"/>
                    </a:lnTo>
                    <a:cubicBezTo>
                      <a:pt x="16266" y="8"/>
                      <a:pt x="16265" y="7"/>
                      <a:pt x="16265" y="6"/>
                    </a:cubicBezTo>
                    <a:cubicBezTo>
                      <a:pt x="16265" y="5"/>
                      <a:pt x="16266" y="4"/>
                      <a:pt x="16267" y="4"/>
                    </a:cubicBezTo>
                    <a:close/>
                    <a:moveTo>
                      <a:pt x="16275" y="4"/>
                    </a:moveTo>
                    <a:lnTo>
                      <a:pt x="16275" y="4"/>
                    </a:lnTo>
                    <a:cubicBezTo>
                      <a:pt x="16276" y="4"/>
                      <a:pt x="16277" y="5"/>
                      <a:pt x="16277" y="6"/>
                    </a:cubicBezTo>
                    <a:cubicBezTo>
                      <a:pt x="16277" y="7"/>
                      <a:pt x="16276" y="8"/>
                      <a:pt x="16275" y="8"/>
                    </a:cubicBezTo>
                    <a:lnTo>
                      <a:pt x="16275" y="8"/>
                    </a:lnTo>
                    <a:cubicBezTo>
                      <a:pt x="16274" y="8"/>
                      <a:pt x="16273" y="7"/>
                      <a:pt x="16273" y="6"/>
                    </a:cubicBezTo>
                    <a:cubicBezTo>
                      <a:pt x="16273" y="5"/>
                      <a:pt x="16274" y="4"/>
                      <a:pt x="16275" y="4"/>
                    </a:cubicBezTo>
                    <a:close/>
                    <a:moveTo>
                      <a:pt x="16283" y="4"/>
                    </a:moveTo>
                    <a:lnTo>
                      <a:pt x="16283" y="4"/>
                    </a:lnTo>
                    <a:cubicBezTo>
                      <a:pt x="16284" y="4"/>
                      <a:pt x="16285" y="5"/>
                      <a:pt x="16285" y="6"/>
                    </a:cubicBezTo>
                    <a:cubicBezTo>
                      <a:pt x="16285" y="7"/>
                      <a:pt x="16284" y="8"/>
                      <a:pt x="16283" y="8"/>
                    </a:cubicBezTo>
                    <a:lnTo>
                      <a:pt x="16283" y="8"/>
                    </a:lnTo>
                    <a:cubicBezTo>
                      <a:pt x="16282" y="8"/>
                      <a:pt x="16281" y="7"/>
                      <a:pt x="16281" y="6"/>
                    </a:cubicBezTo>
                    <a:cubicBezTo>
                      <a:pt x="16281" y="5"/>
                      <a:pt x="16282" y="4"/>
                      <a:pt x="16283" y="4"/>
                    </a:cubicBezTo>
                    <a:close/>
                    <a:moveTo>
                      <a:pt x="16291" y="4"/>
                    </a:moveTo>
                    <a:lnTo>
                      <a:pt x="16291" y="4"/>
                    </a:lnTo>
                    <a:cubicBezTo>
                      <a:pt x="16292" y="4"/>
                      <a:pt x="16293" y="5"/>
                      <a:pt x="16293" y="6"/>
                    </a:cubicBezTo>
                    <a:cubicBezTo>
                      <a:pt x="16293" y="7"/>
                      <a:pt x="16292" y="8"/>
                      <a:pt x="16291" y="8"/>
                    </a:cubicBezTo>
                    <a:lnTo>
                      <a:pt x="16291" y="8"/>
                    </a:lnTo>
                    <a:cubicBezTo>
                      <a:pt x="16290" y="8"/>
                      <a:pt x="16289" y="7"/>
                      <a:pt x="16289" y="6"/>
                    </a:cubicBezTo>
                    <a:cubicBezTo>
                      <a:pt x="16289" y="5"/>
                      <a:pt x="16290" y="4"/>
                      <a:pt x="16291" y="4"/>
                    </a:cubicBezTo>
                    <a:close/>
                    <a:moveTo>
                      <a:pt x="16299" y="4"/>
                    </a:moveTo>
                    <a:lnTo>
                      <a:pt x="16299" y="4"/>
                    </a:lnTo>
                    <a:cubicBezTo>
                      <a:pt x="16300" y="4"/>
                      <a:pt x="16301" y="5"/>
                      <a:pt x="16301" y="6"/>
                    </a:cubicBezTo>
                    <a:cubicBezTo>
                      <a:pt x="16301" y="7"/>
                      <a:pt x="16300" y="8"/>
                      <a:pt x="16299" y="8"/>
                    </a:cubicBezTo>
                    <a:lnTo>
                      <a:pt x="16299" y="8"/>
                    </a:lnTo>
                    <a:cubicBezTo>
                      <a:pt x="16298" y="8"/>
                      <a:pt x="16297" y="7"/>
                      <a:pt x="16297" y="6"/>
                    </a:cubicBezTo>
                    <a:cubicBezTo>
                      <a:pt x="16297" y="5"/>
                      <a:pt x="16298" y="4"/>
                      <a:pt x="16299" y="4"/>
                    </a:cubicBezTo>
                    <a:close/>
                    <a:moveTo>
                      <a:pt x="16307" y="4"/>
                    </a:moveTo>
                    <a:lnTo>
                      <a:pt x="16307" y="4"/>
                    </a:lnTo>
                    <a:cubicBezTo>
                      <a:pt x="16308" y="4"/>
                      <a:pt x="16309" y="5"/>
                      <a:pt x="16309" y="6"/>
                    </a:cubicBezTo>
                    <a:cubicBezTo>
                      <a:pt x="16309" y="7"/>
                      <a:pt x="16308" y="8"/>
                      <a:pt x="16307" y="8"/>
                    </a:cubicBezTo>
                    <a:lnTo>
                      <a:pt x="16307" y="8"/>
                    </a:lnTo>
                    <a:cubicBezTo>
                      <a:pt x="16306" y="8"/>
                      <a:pt x="16305" y="7"/>
                      <a:pt x="16305" y="6"/>
                    </a:cubicBezTo>
                    <a:cubicBezTo>
                      <a:pt x="16305" y="5"/>
                      <a:pt x="16306" y="4"/>
                      <a:pt x="16307" y="4"/>
                    </a:cubicBezTo>
                    <a:close/>
                    <a:moveTo>
                      <a:pt x="16315" y="4"/>
                    </a:moveTo>
                    <a:lnTo>
                      <a:pt x="16315" y="4"/>
                    </a:lnTo>
                    <a:cubicBezTo>
                      <a:pt x="16316" y="4"/>
                      <a:pt x="16317" y="5"/>
                      <a:pt x="16317" y="6"/>
                    </a:cubicBezTo>
                    <a:cubicBezTo>
                      <a:pt x="16317" y="7"/>
                      <a:pt x="16316" y="8"/>
                      <a:pt x="16315" y="8"/>
                    </a:cubicBezTo>
                    <a:lnTo>
                      <a:pt x="16315" y="8"/>
                    </a:lnTo>
                    <a:cubicBezTo>
                      <a:pt x="16314" y="8"/>
                      <a:pt x="16313" y="7"/>
                      <a:pt x="16313" y="6"/>
                    </a:cubicBezTo>
                    <a:cubicBezTo>
                      <a:pt x="16313" y="5"/>
                      <a:pt x="16314" y="4"/>
                      <a:pt x="16315" y="4"/>
                    </a:cubicBezTo>
                    <a:close/>
                    <a:moveTo>
                      <a:pt x="16323" y="4"/>
                    </a:moveTo>
                    <a:lnTo>
                      <a:pt x="16323" y="4"/>
                    </a:lnTo>
                    <a:cubicBezTo>
                      <a:pt x="16324" y="4"/>
                      <a:pt x="16325" y="5"/>
                      <a:pt x="16325" y="6"/>
                    </a:cubicBezTo>
                    <a:cubicBezTo>
                      <a:pt x="16325" y="7"/>
                      <a:pt x="16324" y="8"/>
                      <a:pt x="16323" y="8"/>
                    </a:cubicBezTo>
                    <a:lnTo>
                      <a:pt x="16323" y="8"/>
                    </a:lnTo>
                    <a:cubicBezTo>
                      <a:pt x="16322" y="8"/>
                      <a:pt x="16321" y="7"/>
                      <a:pt x="16321" y="6"/>
                    </a:cubicBezTo>
                    <a:cubicBezTo>
                      <a:pt x="16321" y="5"/>
                      <a:pt x="16322" y="4"/>
                      <a:pt x="16323" y="4"/>
                    </a:cubicBezTo>
                    <a:close/>
                    <a:moveTo>
                      <a:pt x="16331" y="4"/>
                    </a:moveTo>
                    <a:lnTo>
                      <a:pt x="16331" y="4"/>
                    </a:lnTo>
                    <a:cubicBezTo>
                      <a:pt x="16332" y="4"/>
                      <a:pt x="16333" y="5"/>
                      <a:pt x="16333" y="6"/>
                    </a:cubicBezTo>
                    <a:cubicBezTo>
                      <a:pt x="16333" y="7"/>
                      <a:pt x="16332" y="8"/>
                      <a:pt x="16331" y="8"/>
                    </a:cubicBezTo>
                    <a:lnTo>
                      <a:pt x="16331" y="8"/>
                    </a:lnTo>
                    <a:cubicBezTo>
                      <a:pt x="16330" y="8"/>
                      <a:pt x="16329" y="7"/>
                      <a:pt x="16329" y="6"/>
                    </a:cubicBezTo>
                    <a:cubicBezTo>
                      <a:pt x="16329" y="5"/>
                      <a:pt x="16330" y="4"/>
                      <a:pt x="16331" y="4"/>
                    </a:cubicBezTo>
                    <a:close/>
                    <a:moveTo>
                      <a:pt x="16339" y="4"/>
                    </a:moveTo>
                    <a:lnTo>
                      <a:pt x="16339" y="4"/>
                    </a:lnTo>
                    <a:cubicBezTo>
                      <a:pt x="16340" y="4"/>
                      <a:pt x="16341" y="5"/>
                      <a:pt x="16341" y="6"/>
                    </a:cubicBezTo>
                    <a:cubicBezTo>
                      <a:pt x="16341" y="7"/>
                      <a:pt x="16340" y="8"/>
                      <a:pt x="16339" y="8"/>
                    </a:cubicBezTo>
                    <a:lnTo>
                      <a:pt x="16339" y="8"/>
                    </a:lnTo>
                    <a:cubicBezTo>
                      <a:pt x="16338" y="8"/>
                      <a:pt x="16337" y="7"/>
                      <a:pt x="16337" y="6"/>
                    </a:cubicBezTo>
                    <a:cubicBezTo>
                      <a:pt x="16337" y="5"/>
                      <a:pt x="16338" y="4"/>
                      <a:pt x="16339" y="4"/>
                    </a:cubicBezTo>
                    <a:close/>
                    <a:moveTo>
                      <a:pt x="16347" y="4"/>
                    </a:moveTo>
                    <a:lnTo>
                      <a:pt x="16347" y="4"/>
                    </a:lnTo>
                    <a:cubicBezTo>
                      <a:pt x="16348" y="4"/>
                      <a:pt x="16349" y="5"/>
                      <a:pt x="16349" y="6"/>
                    </a:cubicBezTo>
                    <a:cubicBezTo>
                      <a:pt x="16349" y="7"/>
                      <a:pt x="16348" y="8"/>
                      <a:pt x="16347" y="8"/>
                    </a:cubicBezTo>
                    <a:lnTo>
                      <a:pt x="16347" y="8"/>
                    </a:lnTo>
                    <a:cubicBezTo>
                      <a:pt x="16346" y="8"/>
                      <a:pt x="16345" y="7"/>
                      <a:pt x="16345" y="6"/>
                    </a:cubicBezTo>
                    <a:cubicBezTo>
                      <a:pt x="16345" y="5"/>
                      <a:pt x="16346" y="4"/>
                      <a:pt x="16347" y="4"/>
                    </a:cubicBezTo>
                    <a:close/>
                    <a:moveTo>
                      <a:pt x="16355" y="4"/>
                    </a:moveTo>
                    <a:lnTo>
                      <a:pt x="16355" y="4"/>
                    </a:lnTo>
                    <a:cubicBezTo>
                      <a:pt x="16356" y="4"/>
                      <a:pt x="16357" y="5"/>
                      <a:pt x="16357" y="6"/>
                    </a:cubicBezTo>
                    <a:cubicBezTo>
                      <a:pt x="16357" y="7"/>
                      <a:pt x="16356" y="8"/>
                      <a:pt x="16355" y="8"/>
                    </a:cubicBezTo>
                    <a:lnTo>
                      <a:pt x="16355" y="8"/>
                    </a:lnTo>
                    <a:cubicBezTo>
                      <a:pt x="16354" y="8"/>
                      <a:pt x="16353" y="7"/>
                      <a:pt x="16353" y="6"/>
                    </a:cubicBezTo>
                    <a:cubicBezTo>
                      <a:pt x="16353" y="5"/>
                      <a:pt x="16354" y="4"/>
                      <a:pt x="16355" y="4"/>
                    </a:cubicBezTo>
                    <a:close/>
                    <a:moveTo>
                      <a:pt x="16363" y="4"/>
                    </a:moveTo>
                    <a:lnTo>
                      <a:pt x="16363" y="4"/>
                    </a:lnTo>
                    <a:cubicBezTo>
                      <a:pt x="16364" y="4"/>
                      <a:pt x="16365" y="5"/>
                      <a:pt x="16365" y="6"/>
                    </a:cubicBezTo>
                    <a:cubicBezTo>
                      <a:pt x="16365" y="7"/>
                      <a:pt x="16364" y="8"/>
                      <a:pt x="16363" y="8"/>
                    </a:cubicBezTo>
                    <a:lnTo>
                      <a:pt x="16363" y="8"/>
                    </a:lnTo>
                    <a:cubicBezTo>
                      <a:pt x="16362" y="8"/>
                      <a:pt x="16361" y="7"/>
                      <a:pt x="16361" y="6"/>
                    </a:cubicBezTo>
                    <a:cubicBezTo>
                      <a:pt x="16361" y="5"/>
                      <a:pt x="16362" y="4"/>
                      <a:pt x="16363" y="4"/>
                    </a:cubicBezTo>
                    <a:close/>
                    <a:moveTo>
                      <a:pt x="16371" y="4"/>
                    </a:moveTo>
                    <a:lnTo>
                      <a:pt x="16371" y="4"/>
                    </a:lnTo>
                    <a:cubicBezTo>
                      <a:pt x="16372" y="4"/>
                      <a:pt x="16373" y="5"/>
                      <a:pt x="16373" y="6"/>
                    </a:cubicBezTo>
                    <a:cubicBezTo>
                      <a:pt x="16373" y="7"/>
                      <a:pt x="16372" y="8"/>
                      <a:pt x="16371" y="8"/>
                    </a:cubicBezTo>
                    <a:lnTo>
                      <a:pt x="16371" y="8"/>
                    </a:lnTo>
                    <a:cubicBezTo>
                      <a:pt x="16370" y="8"/>
                      <a:pt x="16369" y="7"/>
                      <a:pt x="16369" y="6"/>
                    </a:cubicBezTo>
                    <a:cubicBezTo>
                      <a:pt x="16369" y="5"/>
                      <a:pt x="16370" y="4"/>
                      <a:pt x="16371" y="4"/>
                    </a:cubicBezTo>
                    <a:close/>
                    <a:moveTo>
                      <a:pt x="16379" y="4"/>
                    </a:moveTo>
                    <a:lnTo>
                      <a:pt x="16379" y="4"/>
                    </a:lnTo>
                    <a:cubicBezTo>
                      <a:pt x="16380" y="4"/>
                      <a:pt x="16381" y="5"/>
                      <a:pt x="16381" y="6"/>
                    </a:cubicBezTo>
                    <a:cubicBezTo>
                      <a:pt x="16381" y="7"/>
                      <a:pt x="16380" y="8"/>
                      <a:pt x="16379" y="8"/>
                    </a:cubicBezTo>
                    <a:lnTo>
                      <a:pt x="16379" y="8"/>
                    </a:lnTo>
                    <a:cubicBezTo>
                      <a:pt x="16378" y="8"/>
                      <a:pt x="16377" y="7"/>
                      <a:pt x="16377" y="6"/>
                    </a:cubicBezTo>
                    <a:cubicBezTo>
                      <a:pt x="16377" y="5"/>
                      <a:pt x="16378" y="4"/>
                      <a:pt x="16379" y="4"/>
                    </a:cubicBezTo>
                    <a:close/>
                    <a:moveTo>
                      <a:pt x="16387" y="4"/>
                    </a:moveTo>
                    <a:lnTo>
                      <a:pt x="16387" y="4"/>
                    </a:lnTo>
                    <a:cubicBezTo>
                      <a:pt x="16388" y="4"/>
                      <a:pt x="16389" y="5"/>
                      <a:pt x="16389" y="6"/>
                    </a:cubicBezTo>
                    <a:cubicBezTo>
                      <a:pt x="16389" y="7"/>
                      <a:pt x="16388" y="8"/>
                      <a:pt x="16387" y="8"/>
                    </a:cubicBezTo>
                    <a:lnTo>
                      <a:pt x="16387" y="8"/>
                    </a:lnTo>
                    <a:cubicBezTo>
                      <a:pt x="16386" y="8"/>
                      <a:pt x="16385" y="7"/>
                      <a:pt x="16385" y="6"/>
                    </a:cubicBezTo>
                    <a:cubicBezTo>
                      <a:pt x="16385" y="5"/>
                      <a:pt x="16386" y="4"/>
                      <a:pt x="16387" y="4"/>
                    </a:cubicBezTo>
                    <a:close/>
                    <a:moveTo>
                      <a:pt x="16395" y="4"/>
                    </a:moveTo>
                    <a:lnTo>
                      <a:pt x="16395" y="4"/>
                    </a:lnTo>
                    <a:cubicBezTo>
                      <a:pt x="16396" y="4"/>
                      <a:pt x="16397" y="5"/>
                      <a:pt x="16397" y="6"/>
                    </a:cubicBezTo>
                    <a:cubicBezTo>
                      <a:pt x="16397" y="7"/>
                      <a:pt x="16396" y="8"/>
                      <a:pt x="16395" y="8"/>
                    </a:cubicBezTo>
                    <a:lnTo>
                      <a:pt x="16395" y="8"/>
                    </a:lnTo>
                    <a:cubicBezTo>
                      <a:pt x="16394" y="8"/>
                      <a:pt x="16393" y="7"/>
                      <a:pt x="16393" y="6"/>
                    </a:cubicBezTo>
                    <a:cubicBezTo>
                      <a:pt x="16393" y="5"/>
                      <a:pt x="16394" y="4"/>
                      <a:pt x="16395" y="4"/>
                    </a:cubicBezTo>
                    <a:close/>
                    <a:moveTo>
                      <a:pt x="16403" y="4"/>
                    </a:moveTo>
                    <a:lnTo>
                      <a:pt x="16403" y="4"/>
                    </a:lnTo>
                    <a:cubicBezTo>
                      <a:pt x="16404" y="4"/>
                      <a:pt x="16405" y="5"/>
                      <a:pt x="16405" y="6"/>
                    </a:cubicBezTo>
                    <a:cubicBezTo>
                      <a:pt x="16405" y="7"/>
                      <a:pt x="16404" y="8"/>
                      <a:pt x="16403" y="8"/>
                    </a:cubicBezTo>
                    <a:lnTo>
                      <a:pt x="16403" y="8"/>
                    </a:lnTo>
                    <a:cubicBezTo>
                      <a:pt x="16402" y="8"/>
                      <a:pt x="16401" y="7"/>
                      <a:pt x="16401" y="6"/>
                    </a:cubicBezTo>
                    <a:cubicBezTo>
                      <a:pt x="16401" y="5"/>
                      <a:pt x="16402" y="4"/>
                      <a:pt x="16403" y="4"/>
                    </a:cubicBezTo>
                    <a:close/>
                    <a:moveTo>
                      <a:pt x="16411" y="4"/>
                    </a:moveTo>
                    <a:lnTo>
                      <a:pt x="16411" y="4"/>
                    </a:lnTo>
                    <a:cubicBezTo>
                      <a:pt x="16412" y="4"/>
                      <a:pt x="16413" y="5"/>
                      <a:pt x="16413" y="6"/>
                    </a:cubicBezTo>
                    <a:cubicBezTo>
                      <a:pt x="16413" y="7"/>
                      <a:pt x="16412" y="8"/>
                      <a:pt x="16411" y="8"/>
                    </a:cubicBezTo>
                    <a:lnTo>
                      <a:pt x="16411" y="8"/>
                    </a:lnTo>
                    <a:cubicBezTo>
                      <a:pt x="16410" y="8"/>
                      <a:pt x="16409" y="7"/>
                      <a:pt x="16409" y="6"/>
                    </a:cubicBezTo>
                    <a:cubicBezTo>
                      <a:pt x="16409" y="5"/>
                      <a:pt x="16410" y="4"/>
                      <a:pt x="16411" y="4"/>
                    </a:cubicBezTo>
                    <a:close/>
                    <a:moveTo>
                      <a:pt x="16419" y="4"/>
                    </a:moveTo>
                    <a:lnTo>
                      <a:pt x="16419" y="4"/>
                    </a:lnTo>
                    <a:cubicBezTo>
                      <a:pt x="16420" y="4"/>
                      <a:pt x="16421" y="5"/>
                      <a:pt x="16421" y="6"/>
                    </a:cubicBezTo>
                    <a:cubicBezTo>
                      <a:pt x="16421" y="7"/>
                      <a:pt x="16420" y="8"/>
                      <a:pt x="16419" y="8"/>
                    </a:cubicBezTo>
                    <a:lnTo>
                      <a:pt x="16419" y="8"/>
                    </a:lnTo>
                    <a:cubicBezTo>
                      <a:pt x="16418" y="8"/>
                      <a:pt x="16417" y="7"/>
                      <a:pt x="16417" y="6"/>
                    </a:cubicBezTo>
                    <a:cubicBezTo>
                      <a:pt x="16417" y="5"/>
                      <a:pt x="16418" y="4"/>
                      <a:pt x="16419" y="4"/>
                    </a:cubicBezTo>
                    <a:close/>
                    <a:moveTo>
                      <a:pt x="16427" y="4"/>
                    </a:moveTo>
                    <a:lnTo>
                      <a:pt x="16427" y="4"/>
                    </a:lnTo>
                    <a:cubicBezTo>
                      <a:pt x="16428" y="4"/>
                      <a:pt x="16429" y="5"/>
                      <a:pt x="16429" y="6"/>
                    </a:cubicBezTo>
                    <a:cubicBezTo>
                      <a:pt x="16429" y="7"/>
                      <a:pt x="16428" y="8"/>
                      <a:pt x="16427" y="8"/>
                    </a:cubicBezTo>
                    <a:lnTo>
                      <a:pt x="16427" y="8"/>
                    </a:lnTo>
                    <a:cubicBezTo>
                      <a:pt x="16426" y="8"/>
                      <a:pt x="16425" y="7"/>
                      <a:pt x="16425" y="6"/>
                    </a:cubicBezTo>
                    <a:cubicBezTo>
                      <a:pt x="16425" y="5"/>
                      <a:pt x="16426" y="4"/>
                      <a:pt x="16427" y="4"/>
                    </a:cubicBezTo>
                    <a:close/>
                    <a:moveTo>
                      <a:pt x="16435" y="4"/>
                    </a:moveTo>
                    <a:lnTo>
                      <a:pt x="16435" y="4"/>
                    </a:lnTo>
                    <a:cubicBezTo>
                      <a:pt x="16436" y="4"/>
                      <a:pt x="16437" y="5"/>
                      <a:pt x="16437" y="6"/>
                    </a:cubicBezTo>
                    <a:cubicBezTo>
                      <a:pt x="16437" y="7"/>
                      <a:pt x="16436" y="8"/>
                      <a:pt x="16435" y="8"/>
                    </a:cubicBezTo>
                    <a:lnTo>
                      <a:pt x="16435" y="8"/>
                    </a:lnTo>
                    <a:cubicBezTo>
                      <a:pt x="16434" y="8"/>
                      <a:pt x="16433" y="7"/>
                      <a:pt x="16433" y="6"/>
                    </a:cubicBezTo>
                    <a:cubicBezTo>
                      <a:pt x="16433" y="5"/>
                      <a:pt x="16434" y="4"/>
                      <a:pt x="16435" y="4"/>
                    </a:cubicBezTo>
                    <a:close/>
                    <a:moveTo>
                      <a:pt x="16443" y="4"/>
                    </a:moveTo>
                    <a:lnTo>
                      <a:pt x="16443" y="4"/>
                    </a:lnTo>
                    <a:cubicBezTo>
                      <a:pt x="16444" y="4"/>
                      <a:pt x="16445" y="5"/>
                      <a:pt x="16445" y="6"/>
                    </a:cubicBezTo>
                    <a:cubicBezTo>
                      <a:pt x="16445" y="7"/>
                      <a:pt x="16444" y="8"/>
                      <a:pt x="16443" y="8"/>
                    </a:cubicBezTo>
                    <a:lnTo>
                      <a:pt x="16443" y="8"/>
                    </a:lnTo>
                    <a:cubicBezTo>
                      <a:pt x="16442" y="8"/>
                      <a:pt x="16441" y="7"/>
                      <a:pt x="16441" y="6"/>
                    </a:cubicBezTo>
                    <a:cubicBezTo>
                      <a:pt x="16441" y="5"/>
                      <a:pt x="16442" y="4"/>
                      <a:pt x="16443" y="4"/>
                    </a:cubicBezTo>
                    <a:close/>
                    <a:moveTo>
                      <a:pt x="16451" y="4"/>
                    </a:moveTo>
                    <a:lnTo>
                      <a:pt x="16451" y="4"/>
                    </a:lnTo>
                    <a:cubicBezTo>
                      <a:pt x="16452" y="4"/>
                      <a:pt x="16453" y="5"/>
                      <a:pt x="16453" y="6"/>
                    </a:cubicBezTo>
                    <a:cubicBezTo>
                      <a:pt x="16453" y="7"/>
                      <a:pt x="16452" y="8"/>
                      <a:pt x="16451" y="8"/>
                    </a:cubicBezTo>
                    <a:lnTo>
                      <a:pt x="16451" y="8"/>
                    </a:lnTo>
                    <a:cubicBezTo>
                      <a:pt x="16450" y="8"/>
                      <a:pt x="16449" y="7"/>
                      <a:pt x="16449" y="6"/>
                    </a:cubicBezTo>
                    <a:cubicBezTo>
                      <a:pt x="16449" y="5"/>
                      <a:pt x="16450" y="4"/>
                      <a:pt x="16451" y="4"/>
                    </a:cubicBezTo>
                    <a:close/>
                    <a:moveTo>
                      <a:pt x="16459" y="4"/>
                    </a:moveTo>
                    <a:lnTo>
                      <a:pt x="16459" y="4"/>
                    </a:lnTo>
                    <a:cubicBezTo>
                      <a:pt x="16460" y="4"/>
                      <a:pt x="16461" y="5"/>
                      <a:pt x="16461" y="6"/>
                    </a:cubicBezTo>
                    <a:cubicBezTo>
                      <a:pt x="16461" y="7"/>
                      <a:pt x="16460" y="8"/>
                      <a:pt x="16459" y="8"/>
                    </a:cubicBezTo>
                    <a:lnTo>
                      <a:pt x="16459" y="8"/>
                    </a:lnTo>
                    <a:cubicBezTo>
                      <a:pt x="16458" y="8"/>
                      <a:pt x="16457" y="7"/>
                      <a:pt x="16457" y="6"/>
                    </a:cubicBezTo>
                    <a:cubicBezTo>
                      <a:pt x="16457" y="5"/>
                      <a:pt x="16458" y="4"/>
                      <a:pt x="16459" y="4"/>
                    </a:cubicBezTo>
                    <a:close/>
                    <a:moveTo>
                      <a:pt x="16467" y="4"/>
                    </a:moveTo>
                    <a:lnTo>
                      <a:pt x="16467" y="4"/>
                    </a:lnTo>
                    <a:cubicBezTo>
                      <a:pt x="16468" y="4"/>
                      <a:pt x="16469" y="5"/>
                      <a:pt x="16469" y="6"/>
                    </a:cubicBezTo>
                    <a:cubicBezTo>
                      <a:pt x="16469" y="7"/>
                      <a:pt x="16468" y="8"/>
                      <a:pt x="16467" y="8"/>
                    </a:cubicBezTo>
                    <a:lnTo>
                      <a:pt x="16467" y="8"/>
                    </a:lnTo>
                    <a:cubicBezTo>
                      <a:pt x="16466" y="8"/>
                      <a:pt x="16465" y="7"/>
                      <a:pt x="16465" y="6"/>
                    </a:cubicBezTo>
                    <a:cubicBezTo>
                      <a:pt x="16465" y="5"/>
                      <a:pt x="16466" y="4"/>
                      <a:pt x="16467" y="4"/>
                    </a:cubicBezTo>
                    <a:close/>
                    <a:moveTo>
                      <a:pt x="16475" y="4"/>
                    </a:moveTo>
                    <a:lnTo>
                      <a:pt x="16475" y="4"/>
                    </a:lnTo>
                    <a:cubicBezTo>
                      <a:pt x="16476" y="4"/>
                      <a:pt x="16477" y="5"/>
                      <a:pt x="16477" y="6"/>
                    </a:cubicBezTo>
                    <a:cubicBezTo>
                      <a:pt x="16477" y="7"/>
                      <a:pt x="16476" y="8"/>
                      <a:pt x="16475" y="8"/>
                    </a:cubicBezTo>
                    <a:lnTo>
                      <a:pt x="16475" y="8"/>
                    </a:lnTo>
                    <a:cubicBezTo>
                      <a:pt x="16474" y="8"/>
                      <a:pt x="16473" y="7"/>
                      <a:pt x="16473" y="6"/>
                    </a:cubicBezTo>
                    <a:cubicBezTo>
                      <a:pt x="16473" y="5"/>
                      <a:pt x="16474" y="4"/>
                      <a:pt x="16475" y="4"/>
                    </a:cubicBezTo>
                    <a:close/>
                    <a:moveTo>
                      <a:pt x="16483" y="4"/>
                    </a:moveTo>
                    <a:lnTo>
                      <a:pt x="16483" y="4"/>
                    </a:lnTo>
                    <a:cubicBezTo>
                      <a:pt x="16484" y="4"/>
                      <a:pt x="16485" y="5"/>
                      <a:pt x="16485" y="6"/>
                    </a:cubicBezTo>
                    <a:cubicBezTo>
                      <a:pt x="16485" y="7"/>
                      <a:pt x="16484" y="8"/>
                      <a:pt x="16483" y="8"/>
                    </a:cubicBezTo>
                    <a:lnTo>
                      <a:pt x="16483" y="8"/>
                    </a:lnTo>
                    <a:cubicBezTo>
                      <a:pt x="16482" y="8"/>
                      <a:pt x="16481" y="7"/>
                      <a:pt x="16481" y="6"/>
                    </a:cubicBezTo>
                    <a:cubicBezTo>
                      <a:pt x="16481" y="5"/>
                      <a:pt x="16482" y="4"/>
                      <a:pt x="16483" y="4"/>
                    </a:cubicBezTo>
                    <a:close/>
                    <a:moveTo>
                      <a:pt x="16491" y="4"/>
                    </a:moveTo>
                    <a:lnTo>
                      <a:pt x="16491" y="4"/>
                    </a:lnTo>
                    <a:cubicBezTo>
                      <a:pt x="16492" y="4"/>
                      <a:pt x="16493" y="5"/>
                      <a:pt x="16493" y="6"/>
                    </a:cubicBezTo>
                    <a:cubicBezTo>
                      <a:pt x="16493" y="7"/>
                      <a:pt x="16492" y="8"/>
                      <a:pt x="16491" y="8"/>
                    </a:cubicBezTo>
                    <a:lnTo>
                      <a:pt x="16491" y="8"/>
                    </a:lnTo>
                    <a:cubicBezTo>
                      <a:pt x="16490" y="8"/>
                      <a:pt x="16489" y="7"/>
                      <a:pt x="16489" y="6"/>
                    </a:cubicBezTo>
                    <a:cubicBezTo>
                      <a:pt x="16489" y="5"/>
                      <a:pt x="16490" y="4"/>
                      <a:pt x="16491" y="4"/>
                    </a:cubicBezTo>
                    <a:close/>
                    <a:moveTo>
                      <a:pt x="16499" y="4"/>
                    </a:moveTo>
                    <a:lnTo>
                      <a:pt x="16499" y="4"/>
                    </a:lnTo>
                    <a:cubicBezTo>
                      <a:pt x="16500" y="4"/>
                      <a:pt x="16501" y="5"/>
                      <a:pt x="16501" y="6"/>
                    </a:cubicBezTo>
                    <a:cubicBezTo>
                      <a:pt x="16501" y="7"/>
                      <a:pt x="16500" y="8"/>
                      <a:pt x="16499" y="8"/>
                    </a:cubicBezTo>
                    <a:lnTo>
                      <a:pt x="16499" y="8"/>
                    </a:lnTo>
                    <a:cubicBezTo>
                      <a:pt x="16498" y="8"/>
                      <a:pt x="16497" y="7"/>
                      <a:pt x="16497" y="6"/>
                    </a:cubicBezTo>
                    <a:cubicBezTo>
                      <a:pt x="16497" y="5"/>
                      <a:pt x="16498" y="4"/>
                      <a:pt x="16499" y="4"/>
                    </a:cubicBezTo>
                    <a:close/>
                    <a:moveTo>
                      <a:pt x="16507" y="4"/>
                    </a:moveTo>
                    <a:lnTo>
                      <a:pt x="16507" y="4"/>
                    </a:lnTo>
                    <a:cubicBezTo>
                      <a:pt x="16508" y="4"/>
                      <a:pt x="16509" y="5"/>
                      <a:pt x="16509" y="6"/>
                    </a:cubicBezTo>
                    <a:cubicBezTo>
                      <a:pt x="16509" y="7"/>
                      <a:pt x="16508" y="8"/>
                      <a:pt x="16507" y="8"/>
                    </a:cubicBezTo>
                    <a:lnTo>
                      <a:pt x="16507" y="8"/>
                    </a:lnTo>
                    <a:cubicBezTo>
                      <a:pt x="16506" y="8"/>
                      <a:pt x="16505" y="7"/>
                      <a:pt x="16505" y="6"/>
                    </a:cubicBezTo>
                    <a:cubicBezTo>
                      <a:pt x="16505" y="5"/>
                      <a:pt x="16506" y="4"/>
                      <a:pt x="16507" y="4"/>
                    </a:cubicBezTo>
                    <a:close/>
                    <a:moveTo>
                      <a:pt x="16515" y="4"/>
                    </a:moveTo>
                    <a:lnTo>
                      <a:pt x="16515" y="4"/>
                    </a:lnTo>
                    <a:cubicBezTo>
                      <a:pt x="16516" y="4"/>
                      <a:pt x="16517" y="5"/>
                      <a:pt x="16517" y="6"/>
                    </a:cubicBezTo>
                    <a:cubicBezTo>
                      <a:pt x="16517" y="7"/>
                      <a:pt x="16516" y="8"/>
                      <a:pt x="16515" y="8"/>
                    </a:cubicBezTo>
                    <a:lnTo>
                      <a:pt x="16515" y="8"/>
                    </a:lnTo>
                    <a:cubicBezTo>
                      <a:pt x="16514" y="8"/>
                      <a:pt x="16513" y="7"/>
                      <a:pt x="16513" y="6"/>
                    </a:cubicBezTo>
                    <a:cubicBezTo>
                      <a:pt x="16513" y="5"/>
                      <a:pt x="16514" y="4"/>
                      <a:pt x="16515" y="4"/>
                    </a:cubicBezTo>
                    <a:close/>
                    <a:moveTo>
                      <a:pt x="16523" y="4"/>
                    </a:moveTo>
                    <a:lnTo>
                      <a:pt x="16523" y="4"/>
                    </a:lnTo>
                    <a:cubicBezTo>
                      <a:pt x="16524" y="4"/>
                      <a:pt x="16525" y="5"/>
                      <a:pt x="16525" y="6"/>
                    </a:cubicBezTo>
                    <a:cubicBezTo>
                      <a:pt x="16525" y="7"/>
                      <a:pt x="16524" y="8"/>
                      <a:pt x="16523" y="8"/>
                    </a:cubicBezTo>
                    <a:lnTo>
                      <a:pt x="16523" y="8"/>
                    </a:lnTo>
                    <a:cubicBezTo>
                      <a:pt x="16522" y="8"/>
                      <a:pt x="16521" y="7"/>
                      <a:pt x="16521" y="6"/>
                    </a:cubicBezTo>
                    <a:cubicBezTo>
                      <a:pt x="16521" y="5"/>
                      <a:pt x="16522" y="4"/>
                      <a:pt x="16523" y="4"/>
                    </a:cubicBezTo>
                    <a:close/>
                    <a:moveTo>
                      <a:pt x="16531" y="4"/>
                    </a:moveTo>
                    <a:lnTo>
                      <a:pt x="16531" y="4"/>
                    </a:lnTo>
                    <a:cubicBezTo>
                      <a:pt x="16532" y="4"/>
                      <a:pt x="16533" y="5"/>
                      <a:pt x="16533" y="6"/>
                    </a:cubicBezTo>
                    <a:cubicBezTo>
                      <a:pt x="16533" y="7"/>
                      <a:pt x="16532" y="8"/>
                      <a:pt x="16531" y="8"/>
                    </a:cubicBezTo>
                    <a:lnTo>
                      <a:pt x="16531" y="8"/>
                    </a:lnTo>
                    <a:cubicBezTo>
                      <a:pt x="16530" y="8"/>
                      <a:pt x="16529" y="7"/>
                      <a:pt x="16529" y="6"/>
                    </a:cubicBezTo>
                    <a:cubicBezTo>
                      <a:pt x="16529" y="5"/>
                      <a:pt x="16530" y="4"/>
                      <a:pt x="16531" y="4"/>
                    </a:cubicBezTo>
                    <a:close/>
                    <a:moveTo>
                      <a:pt x="16539" y="4"/>
                    </a:moveTo>
                    <a:lnTo>
                      <a:pt x="16539" y="4"/>
                    </a:lnTo>
                    <a:cubicBezTo>
                      <a:pt x="16540" y="4"/>
                      <a:pt x="16541" y="5"/>
                      <a:pt x="16541" y="6"/>
                    </a:cubicBezTo>
                    <a:cubicBezTo>
                      <a:pt x="16541" y="7"/>
                      <a:pt x="16540" y="8"/>
                      <a:pt x="16539" y="8"/>
                    </a:cubicBezTo>
                    <a:lnTo>
                      <a:pt x="16539" y="8"/>
                    </a:lnTo>
                    <a:cubicBezTo>
                      <a:pt x="16538" y="8"/>
                      <a:pt x="16537" y="7"/>
                      <a:pt x="16537" y="6"/>
                    </a:cubicBezTo>
                    <a:cubicBezTo>
                      <a:pt x="16537" y="5"/>
                      <a:pt x="16538" y="4"/>
                      <a:pt x="16539" y="4"/>
                    </a:cubicBezTo>
                    <a:close/>
                    <a:moveTo>
                      <a:pt x="16547" y="4"/>
                    </a:moveTo>
                    <a:lnTo>
                      <a:pt x="16547" y="4"/>
                    </a:lnTo>
                    <a:cubicBezTo>
                      <a:pt x="16548" y="4"/>
                      <a:pt x="16549" y="5"/>
                      <a:pt x="16549" y="6"/>
                    </a:cubicBezTo>
                    <a:cubicBezTo>
                      <a:pt x="16549" y="7"/>
                      <a:pt x="16548" y="8"/>
                      <a:pt x="16547" y="8"/>
                    </a:cubicBezTo>
                    <a:lnTo>
                      <a:pt x="16547" y="8"/>
                    </a:lnTo>
                    <a:cubicBezTo>
                      <a:pt x="16546" y="8"/>
                      <a:pt x="16545" y="7"/>
                      <a:pt x="16545" y="6"/>
                    </a:cubicBezTo>
                    <a:cubicBezTo>
                      <a:pt x="16545" y="5"/>
                      <a:pt x="16546" y="4"/>
                      <a:pt x="16547" y="4"/>
                    </a:cubicBezTo>
                    <a:close/>
                    <a:moveTo>
                      <a:pt x="16555" y="4"/>
                    </a:moveTo>
                    <a:lnTo>
                      <a:pt x="16555" y="4"/>
                    </a:lnTo>
                    <a:cubicBezTo>
                      <a:pt x="16556" y="4"/>
                      <a:pt x="16557" y="5"/>
                      <a:pt x="16557" y="6"/>
                    </a:cubicBezTo>
                    <a:cubicBezTo>
                      <a:pt x="16557" y="7"/>
                      <a:pt x="16556" y="8"/>
                      <a:pt x="16555" y="8"/>
                    </a:cubicBezTo>
                    <a:lnTo>
                      <a:pt x="16555" y="8"/>
                    </a:lnTo>
                    <a:cubicBezTo>
                      <a:pt x="16554" y="8"/>
                      <a:pt x="16553" y="7"/>
                      <a:pt x="16553" y="6"/>
                    </a:cubicBezTo>
                    <a:cubicBezTo>
                      <a:pt x="16553" y="5"/>
                      <a:pt x="16554" y="4"/>
                      <a:pt x="16555" y="4"/>
                    </a:cubicBezTo>
                    <a:close/>
                    <a:moveTo>
                      <a:pt x="16563" y="4"/>
                    </a:moveTo>
                    <a:lnTo>
                      <a:pt x="16563" y="4"/>
                    </a:lnTo>
                    <a:cubicBezTo>
                      <a:pt x="16564" y="4"/>
                      <a:pt x="16565" y="5"/>
                      <a:pt x="16565" y="6"/>
                    </a:cubicBezTo>
                    <a:cubicBezTo>
                      <a:pt x="16565" y="7"/>
                      <a:pt x="16564" y="8"/>
                      <a:pt x="16563" y="8"/>
                    </a:cubicBezTo>
                    <a:lnTo>
                      <a:pt x="16563" y="8"/>
                    </a:lnTo>
                    <a:cubicBezTo>
                      <a:pt x="16562" y="8"/>
                      <a:pt x="16561" y="7"/>
                      <a:pt x="16561" y="6"/>
                    </a:cubicBezTo>
                    <a:cubicBezTo>
                      <a:pt x="16561" y="5"/>
                      <a:pt x="16562" y="4"/>
                      <a:pt x="16563" y="4"/>
                    </a:cubicBezTo>
                    <a:close/>
                    <a:moveTo>
                      <a:pt x="16571" y="4"/>
                    </a:moveTo>
                    <a:lnTo>
                      <a:pt x="16571" y="4"/>
                    </a:lnTo>
                    <a:cubicBezTo>
                      <a:pt x="16572" y="4"/>
                      <a:pt x="16573" y="5"/>
                      <a:pt x="16573" y="6"/>
                    </a:cubicBezTo>
                    <a:cubicBezTo>
                      <a:pt x="16573" y="7"/>
                      <a:pt x="16572" y="8"/>
                      <a:pt x="16571" y="8"/>
                    </a:cubicBezTo>
                    <a:lnTo>
                      <a:pt x="16571" y="8"/>
                    </a:lnTo>
                    <a:cubicBezTo>
                      <a:pt x="16570" y="8"/>
                      <a:pt x="16569" y="7"/>
                      <a:pt x="16569" y="6"/>
                    </a:cubicBezTo>
                    <a:cubicBezTo>
                      <a:pt x="16569" y="5"/>
                      <a:pt x="16570" y="4"/>
                      <a:pt x="16571" y="4"/>
                    </a:cubicBezTo>
                    <a:close/>
                    <a:moveTo>
                      <a:pt x="16579" y="4"/>
                    </a:moveTo>
                    <a:lnTo>
                      <a:pt x="16579" y="4"/>
                    </a:lnTo>
                    <a:cubicBezTo>
                      <a:pt x="16580" y="4"/>
                      <a:pt x="16581" y="5"/>
                      <a:pt x="16581" y="6"/>
                    </a:cubicBezTo>
                    <a:cubicBezTo>
                      <a:pt x="16581" y="7"/>
                      <a:pt x="16580" y="8"/>
                      <a:pt x="16579" y="8"/>
                    </a:cubicBezTo>
                    <a:lnTo>
                      <a:pt x="16579" y="8"/>
                    </a:lnTo>
                    <a:cubicBezTo>
                      <a:pt x="16578" y="8"/>
                      <a:pt x="16577" y="7"/>
                      <a:pt x="16577" y="6"/>
                    </a:cubicBezTo>
                    <a:cubicBezTo>
                      <a:pt x="16577" y="5"/>
                      <a:pt x="16578" y="4"/>
                      <a:pt x="16579" y="4"/>
                    </a:cubicBezTo>
                    <a:close/>
                    <a:moveTo>
                      <a:pt x="16587" y="4"/>
                    </a:moveTo>
                    <a:lnTo>
                      <a:pt x="16587" y="4"/>
                    </a:lnTo>
                    <a:cubicBezTo>
                      <a:pt x="16588" y="4"/>
                      <a:pt x="16589" y="5"/>
                      <a:pt x="16589" y="6"/>
                    </a:cubicBezTo>
                    <a:cubicBezTo>
                      <a:pt x="16589" y="7"/>
                      <a:pt x="16588" y="8"/>
                      <a:pt x="16587" y="8"/>
                    </a:cubicBezTo>
                    <a:lnTo>
                      <a:pt x="16587" y="8"/>
                    </a:lnTo>
                    <a:cubicBezTo>
                      <a:pt x="16586" y="8"/>
                      <a:pt x="16585" y="7"/>
                      <a:pt x="16585" y="6"/>
                    </a:cubicBezTo>
                    <a:cubicBezTo>
                      <a:pt x="16585" y="5"/>
                      <a:pt x="16586" y="4"/>
                      <a:pt x="16587" y="4"/>
                    </a:cubicBezTo>
                    <a:close/>
                    <a:moveTo>
                      <a:pt x="16595" y="4"/>
                    </a:moveTo>
                    <a:lnTo>
                      <a:pt x="16595" y="4"/>
                    </a:lnTo>
                    <a:cubicBezTo>
                      <a:pt x="16596" y="4"/>
                      <a:pt x="16597" y="5"/>
                      <a:pt x="16597" y="6"/>
                    </a:cubicBezTo>
                    <a:cubicBezTo>
                      <a:pt x="16597" y="7"/>
                      <a:pt x="16596" y="8"/>
                      <a:pt x="16595" y="8"/>
                    </a:cubicBezTo>
                    <a:lnTo>
                      <a:pt x="16595" y="8"/>
                    </a:lnTo>
                    <a:cubicBezTo>
                      <a:pt x="16594" y="8"/>
                      <a:pt x="16593" y="7"/>
                      <a:pt x="16593" y="6"/>
                    </a:cubicBezTo>
                    <a:cubicBezTo>
                      <a:pt x="16593" y="5"/>
                      <a:pt x="16594" y="4"/>
                      <a:pt x="16595" y="4"/>
                    </a:cubicBezTo>
                    <a:close/>
                    <a:moveTo>
                      <a:pt x="16603" y="4"/>
                    </a:moveTo>
                    <a:lnTo>
                      <a:pt x="16603" y="4"/>
                    </a:lnTo>
                    <a:cubicBezTo>
                      <a:pt x="16604" y="4"/>
                      <a:pt x="16605" y="5"/>
                      <a:pt x="16605" y="6"/>
                    </a:cubicBezTo>
                    <a:cubicBezTo>
                      <a:pt x="16605" y="7"/>
                      <a:pt x="16604" y="8"/>
                      <a:pt x="16603" y="8"/>
                    </a:cubicBezTo>
                    <a:lnTo>
                      <a:pt x="16603" y="8"/>
                    </a:lnTo>
                    <a:cubicBezTo>
                      <a:pt x="16602" y="8"/>
                      <a:pt x="16601" y="7"/>
                      <a:pt x="16601" y="6"/>
                    </a:cubicBezTo>
                    <a:cubicBezTo>
                      <a:pt x="16601" y="5"/>
                      <a:pt x="16602" y="4"/>
                      <a:pt x="16603" y="4"/>
                    </a:cubicBezTo>
                    <a:close/>
                    <a:moveTo>
                      <a:pt x="16611" y="4"/>
                    </a:moveTo>
                    <a:lnTo>
                      <a:pt x="16611" y="4"/>
                    </a:lnTo>
                    <a:cubicBezTo>
                      <a:pt x="16612" y="4"/>
                      <a:pt x="16613" y="5"/>
                      <a:pt x="16613" y="6"/>
                    </a:cubicBezTo>
                    <a:cubicBezTo>
                      <a:pt x="16613" y="7"/>
                      <a:pt x="16612" y="8"/>
                      <a:pt x="16611" y="8"/>
                    </a:cubicBezTo>
                    <a:lnTo>
                      <a:pt x="16611" y="8"/>
                    </a:lnTo>
                    <a:cubicBezTo>
                      <a:pt x="16610" y="8"/>
                      <a:pt x="16609" y="7"/>
                      <a:pt x="16609" y="6"/>
                    </a:cubicBezTo>
                    <a:cubicBezTo>
                      <a:pt x="16609" y="5"/>
                      <a:pt x="16610" y="4"/>
                      <a:pt x="16611" y="4"/>
                    </a:cubicBezTo>
                    <a:close/>
                    <a:moveTo>
                      <a:pt x="16619" y="4"/>
                    </a:moveTo>
                    <a:lnTo>
                      <a:pt x="16619" y="4"/>
                    </a:lnTo>
                    <a:cubicBezTo>
                      <a:pt x="16620" y="4"/>
                      <a:pt x="16621" y="5"/>
                      <a:pt x="16621" y="6"/>
                    </a:cubicBezTo>
                    <a:cubicBezTo>
                      <a:pt x="16621" y="7"/>
                      <a:pt x="16620" y="8"/>
                      <a:pt x="16619" y="8"/>
                    </a:cubicBezTo>
                    <a:lnTo>
                      <a:pt x="16619" y="8"/>
                    </a:lnTo>
                    <a:cubicBezTo>
                      <a:pt x="16618" y="8"/>
                      <a:pt x="16617" y="7"/>
                      <a:pt x="16617" y="6"/>
                    </a:cubicBezTo>
                    <a:cubicBezTo>
                      <a:pt x="16617" y="5"/>
                      <a:pt x="16618" y="4"/>
                      <a:pt x="16619" y="4"/>
                    </a:cubicBezTo>
                    <a:close/>
                    <a:moveTo>
                      <a:pt x="16627" y="4"/>
                    </a:moveTo>
                    <a:lnTo>
                      <a:pt x="16627" y="4"/>
                    </a:lnTo>
                    <a:cubicBezTo>
                      <a:pt x="16628" y="4"/>
                      <a:pt x="16629" y="5"/>
                      <a:pt x="16629" y="6"/>
                    </a:cubicBezTo>
                    <a:cubicBezTo>
                      <a:pt x="16629" y="7"/>
                      <a:pt x="16628" y="8"/>
                      <a:pt x="16627" y="8"/>
                    </a:cubicBezTo>
                    <a:lnTo>
                      <a:pt x="16627" y="8"/>
                    </a:lnTo>
                    <a:cubicBezTo>
                      <a:pt x="16626" y="8"/>
                      <a:pt x="16625" y="7"/>
                      <a:pt x="16625" y="6"/>
                    </a:cubicBezTo>
                    <a:cubicBezTo>
                      <a:pt x="16625" y="5"/>
                      <a:pt x="16626" y="4"/>
                      <a:pt x="16627" y="4"/>
                    </a:cubicBezTo>
                    <a:close/>
                    <a:moveTo>
                      <a:pt x="16635" y="4"/>
                    </a:moveTo>
                    <a:lnTo>
                      <a:pt x="16635" y="4"/>
                    </a:lnTo>
                    <a:cubicBezTo>
                      <a:pt x="16636" y="4"/>
                      <a:pt x="16637" y="5"/>
                      <a:pt x="16637" y="6"/>
                    </a:cubicBezTo>
                    <a:cubicBezTo>
                      <a:pt x="16637" y="7"/>
                      <a:pt x="16636" y="8"/>
                      <a:pt x="16635" y="8"/>
                    </a:cubicBezTo>
                    <a:lnTo>
                      <a:pt x="16635" y="8"/>
                    </a:lnTo>
                    <a:cubicBezTo>
                      <a:pt x="16634" y="8"/>
                      <a:pt x="16633" y="7"/>
                      <a:pt x="16633" y="6"/>
                    </a:cubicBezTo>
                    <a:cubicBezTo>
                      <a:pt x="16633" y="5"/>
                      <a:pt x="16634" y="4"/>
                      <a:pt x="16635" y="4"/>
                    </a:cubicBezTo>
                    <a:close/>
                    <a:moveTo>
                      <a:pt x="16643" y="4"/>
                    </a:moveTo>
                    <a:lnTo>
                      <a:pt x="16643" y="4"/>
                    </a:lnTo>
                    <a:cubicBezTo>
                      <a:pt x="16644" y="4"/>
                      <a:pt x="16645" y="5"/>
                      <a:pt x="16645" y="6"/>
                    </a:cubicBezTo>
                    <a:cubicBezTo>
                      <a:pt x="16645" y="7"/>
                      <a:pt x="16644" y="8"/>
                      <a:pt x="16643" y="8"/>
                    </a:cubicBezTo>
                    <a:lnTo>
                      <a:pt x="16643" y="8"/>
                    </a:lnTo>
                    <a:cubicBezTo>
                      <a:pt x="16642" y="8"/>
                      <a:pt x="16641" y="7"/>
                      <a:pt x="16641" y="6"/>
                    </a:cubicBezTo>
                    <a:cubicBezTo>
                      <a:pt x="16641" y="5"/>
                      <a:pt x="16642" y="4"/>
                      <a:pt x="16643" y="4"/>
                    </a:cubicBezTo>
                    <a:close/>
                    <a:moveTo>
                      <a:pt x="16651" y="4"/>
                    </a:moveTo>
                    <a:lnTo>
                      <a:pt x="16651" y="4"/>
                    </a:lnTo>
                    <a:cubicBezTo>
                      <a:pt x="16652" y="4"/>
                      <a:pt x="16653" y="5"/>
                      <a:pt x="16653" y="6"/>
                    </a:cubicBezTo>
                    <a:cubicBezTo>
                      <a:pt x="16653" y="7"/>
                      <a:pt x="16652" y="8"/>
                      <a:pt x="16651" y="8"/>
                    </a:cubicBezTo>
                    <a:lnTo>
                      <a:pt x="16651" y="8"/>
                    </a:lnTo>
                    <a:cubicBezTo>
                      <a:pt x="16650" y="8"/>
                      <a:pt x="16649" y="7"/>
                      <a:pt x="16649" y="6"/>
                    </a:cubicBezTo>
                    <a:cubicBezTo>
                      <a:pt x="16649" y="5"/>
                      <a:pt x="16650" y="4"/>
                      <a:pt x="16651" y="4"/>
                    </a:cubicBezTo>
                    <a:close/>
                    <a:moveTo>
                      <a:pt x="16659" y="4"/>
                    </a:moveTo>
                    <a:lnTo>
                      <a:pt x="16659" y="4"/>
                    </a:lnTo>
                    <a:cubicBezTo>
                      <a:pt x="16660" y="4"/>
                      <a:pt x="16661" y="5"/>
                      <a:pt x="16661" y="6"/>
                    </a:cubicBezTo>
                    <a:cubicBezTo>
                      <a:pt x="16661" y="7"/>
                      <a:pt x="16660" y="8"/>
                      <a:pt x="16659" y="8"/>
                    </a:cubicBezTo>
                    <a:lnTo>
                      <a:pt x="16659" y="8"/>
                    </a:lnTo>
                    <a:cubicBezTo>
                      <a:pt x="16658" y="8"/>
                      <a:pt x="16657" y="7"/>
                      <a:pt x="16657" y="6"/>
                    </a:cubicBezTo>
                    <a:cubicBezTo>
                      <a:pt x="16657" y="5"/>
                      <a:pt x="16658" y="4"/>
                      <a:pt x="16659" y="4"/>
                    </a:cubicBezTo>
                    <a:close/>
                    <a:moveTo>
                      <a:pt x="16667" y="4"/>
                    </a:moveTo>
                    <a:lnTo>
                      <a:pt x="16667" y="4"/>
                    </a:lnTo>
                    <a:cubicBezTo>
                      <a:pt x="16668" y="4"/>
                      <a:pt x="16669" y="5"/>
                      <a:pt x="16669" y="6"/>
                    </a:cubicBezTo>
                    <a:cubicBezTo>
                      <a:pt x="16669" y="7"/>
                      <a:pt x="16668" y="8"/>
                      <a:pt x="16667" y="8"/>
                    </a:cubicBezTo>
                    <a:lnTo>
                      <a:pt x="16667" y="8"/>
                    </a:lnTo>
                    <a:cubicBezTo>
                      <a:pt x="16666" y="8"/>
                      <a:pt x="16665" y="7"/>
                      <a:pt x="16665" y="6"/>
                    </a:cubicBezTo>
                    <a:cubicBezTo>
                      <a:pt x="16665" y="5"/>
                      <a:pt x="16666" y="4"/>
                      <a:pt x="16667" y="4"/>
                    </a:cubicBezTo>
                    <a:close/>
                    <a:moveTo>
                      <a:pt x="16675" y="4"/>
                    </a:moveTo>
                    <a:lnTo>
                      <a:pt x="16675" y="4"/>
                    </a:lnTo>
                    <a:cubicBezTo>
                      <a:pt x="16676" y="4"/>
                      <a:pt x="16677" y="5"/>
                      <a:pt x="16677" y="6"/>
                    </a:cubicBezTo>
                    <a:cubicBezTo>
                      <a:pt x="16677" y="7"/>
                      <a:pt x="16676" y="8"/>
                      <a:pt x="16675" y="8"/>
                    </a:cubicBezTo>
                    <a:lnTo>
                      <a:pt x="16675" y="8"/>
                    </a:lnTo>
                    <a:cubicBezTo>
                      <a:pt x="16674" y="8"/>
                      <a:pt x="16673" y="7"/>
                      <a:pt x="16673" y="6"/>
                    </a:cubicBezTo>
                    <a:cubicBezTo>
                      <a:pt x="16673" y="5"/>
                      <a:pt x="16674" y="4"/>
                      <a:pt x="16675" y="4"/>
                    </a:cubicBezTo>
                    <a:close/>
                    <a:moveTo>
                      <a:pt x="16683" y="4"/>
                    </a:moveTo>
                    <a:lnTo>
                      <a:pt x="16683" y="4"/>
                    </a:lnTo>
                    <a:cubicBezTo>
                      <a:pt x="16684" y="4"/>
                      <a:pt x="16685" y="5"/>
                      <a:pt x="16685" y="6"/>
                    </a:cubicBezTo>
                    <a:cubicBezTo>
                      <a:pt x="16685" y="7"/>
                      <a:pt x="16684" y="8"/>
                      <a:pt x="16683" y="8"/>
                    </a:cubicBezTo>
                    <a:lnTo>
                      <a:pt x="16683" y="8"/>
                    </a:lnTo>
                    <a:cubicBezTo>
                      <a:pt x="16682" y="8"/>
                      <a:pt x="16681" y="7"/>
                      <a:pt x="16681" y="6"/>
                    </a:cubicBezTo>
                    <a:cubicBezTo>
                      <a:pt x="16681" y="5"/>
                      <a:pt x="16682" y="4"/>
                      <a:pt x="16683" y="4"/>
                    </a:cubicBezTo>
                    <a:close/>
                    <a:moveTo>
                      <a:pt x="16691" y="4"/>
                    </a:moveTo>
                    <a:lnTo>
                      <a:pt x="16691" y="4"/>
                    </a:lnTo>
                    <a:cubicBezTo>
                      <a:pt x="16692" y="4"/>
                      <a:pt x="16693" y="5"/>
                      <a:pt x="16693" y="6"/>
                    </a:cubicBezTo>
                    <a:cubicBezTo>
                      <a:pt x="16693" y="7"/>
                      <a:pt x="16692" y="8"/>
                      <a:pt x="16691" y="8"/>
                    </a:cubicBezTo>
                    <a:lnTo>
                      <a:pt x="16691" y="8"/>
                    </a:lnTo>
                    <a:cubicBezTo>
                      <a:pt x="16690" y="8"/>
                      <a:pt x="16689" y="7"/>
                      <a:pt x="16689" y="6"/>
                    </a:cubicBezTo>
                    <a:cubicBezTo>
                      <a:pt x="16689" y="5"/>
                      <a:pt x="16690" y="4"/>
                      <a:pt x="16691" y="4"/>
                    </a:cubicBezTo>
                    <a:close/>
                    <a:moveTo>
                      <a:pt x="16699" y="4"/>
                    </a:moveTo>
                    <a:lnTo>
                      <a:pt x="16699" y="4"/>
                    </a:lnTo>
                    <a:cubicBezTo>
                      <a:pt x="16700" y="4"/>
                      <a:pt x="16701" y="5"/>
                      <a:pt x="16701" y="6"/>
                    </a:cubicBezTo>
                    <a:cubicBezTo>
                      <a:pt x="16701" y="7"/>
                      <a:pt x="16700" y="8"/>
                      <a:pt x="16699" y="8"/>
                    </a:cubicBezTo>
                    <a:lnTo>
                      <a:pt x="16699" y="8"/>
                    </a:lnTo>
                    <a:cubicBezTo>
                      <a:pt x="16698" y="8"/>
                      <a:pt x="16697" y="7"/>
                      <a:pt x="16697" y="6"/>
                    </a:cubicBezTo>
                    <a:cubicBezTo>
                      <a:pt x="16697" y="5"/>
                      <a:pt x="16698" y="4"/>
                      <a:pt x="16699" y="4"/>
                    </a:cubicBezTo>
                    <a:close/>
                    <a:moveTo>
                      <a:pt x="16707" y="4"/>
                    </a:moveTo>
                    <a:lnTo>
                      <a:pt x="16707" y="4"/>
                    </a:lnTo>
                    <a:cubicBezTo>
                      <a:pt x="16708" y="4"/>
                      <a:pt x="16709" y="5"/>
                      <a:pt x="16709" y="6"/>
                    </a:cubicBezTo>
                    <a:cubicBezTo>
                      <a:pt x="16709" y="7"/>
                      <a:pt x="16708" y="8"/>
                      <a:pt x="16707" y="8"/>
                    </a:cubicBezTo>
                    <a:lnTo>
                      <a:pt x="16707" y="8"/>
                    </a:lnTo>
                    <a:cubicBezTo>
                      <a:pt x="16706" y="8"/>
                      <a:pt x="16705" y="7"/>
                      <a:pt x="16705" y="6"/>
                    </a:cubicBezTo>
                    <a:cubicBezTo>
                      <a:pt x="16705" y="5"/>
                      <a:pt x="16706" y="4"/>
                      <a:pt x="16707" y="4"/>
                    </a:cubicBezTo>
                    <a:close/>
                    <a:moveTo>
                      <a:pt x="16715" y="4"/>
                    </a:moveTo>
                    <a:lnTo>
                      <a:pt x="16715" y="4"/>
                    </a:lnTo>
                    <a:cubicBezTo>
                      <a:pt x="16716" y="4"/>
                      <a:pt x="16717" y="5"/>
                      <a:pt x="16717" y="6"/>
                    </a:cubicBezTo>
                    <a:cubicBezTo>
                      <a:pt x="16717" y="7"/>
                      <a:pt x="16716" y="8"/>
                      <a:pt x="16715" y="8"/>
                    </a:cubicBezTo>
                    <a:lnTo>
                      <a:pt x="16715" y="8"/>
                    </a:lnTo>
                    <a:cubicBezTo>
                      <a:pt x="16714" y="8"/>
                      <a:pt x="16713" y="7"/>
                      <a:pt x="16713" y="6"/>
                    </a:cubicBezTo>
                    <a:cubicBezTo>
                      <a:pt x="16713" y="5"/>
                      <a:pt x="16714" y="4"/>
                      <a:pt x="16715" y="4"/>
                    </a:cubicBezTo>
                    <a:close/>
                    <a:moveTo>
                      <a:pt x="16723" y="4"/>
                    </a:moveTo>
                    <a:lnTo>
                      <a:pt x="16723" y="4"/>
                    </a:lnTo>
                    <a:cubicBezTo>
                      <a:pt x="16724" y="4"/>
                      <a:pt x="16725" y="5"/>
                      <a:pt x="16725" y="6"/>
                    </a:cubicBezTo>
                    <a:cubicBezTo>
                      <a:pt x="16725" y="7"/>
                      <a:pt x="16724" y="8"/>
                      <a:pt x="16723" y="8"/>
                    </a:cubicBezTo>
                    <a:lnTo>
                      <a:pt x="16723" y="8"/>
                    </a:lnTo>
                    <a:cubicBezTo>
                      <a:pt x="16722" y="8"/>
                      <a:pt x="16721" y="7"/>
                      <a:pt x="16721" y="6"/>
                    </a:cubicBezTo>
                    <a:cubicBezTo>
                      <a:pt x="16721" y="5"/>
                      <a:pt x="16722" y="4"/>
                      <a:pt x="16723" y="4"/>
                    </a:cubicBezTo>
                    <a:close/>
                    <a:moveTo>
                      <a:pt x="16731" y="4"/>
                    </a:moveTo>
                    <a:lnTo>
                      <a:pt x="16731" y="4"/>
                    </a:lnTo>
                    <a:cubicBezTo>
                      <a:pt x="16732" y="4"/>
                      <a:pt x="16733" y="5"/>
                      <a:pt x="16733" y="6"/>
                    </a:cubicBezTo>
                    <a:cubicBezTo>
                      <a:pt x="16733" y="7"/>
                      <a:pt x="16732" y="8"/>
                      <a:pt x="16731" y="8"/>
                    </a:cubicBezTo>
                    <a:lnTo>
                      <a:pt x="16731" y="8"/>
                    </a:lnTo>
                    <a:cubicBezTo>
                      <a:pt x="16730" y="8"/>
                      <a:pt x="16729" y="7"/>
                      <a:pt x="16729" y="6"/>
                    </a:cubicBezTo>
                    <a:cubicBezTo>
                      <a:pt x="16729" y="5"/>
                      <a:pt x="16730" y="4"/>
                      <a:pt x="16731" y="4"/>
                    </a:cubicBezTo>
                    <a:close/>
                    <a:moveTo>
                      <a:pt x="16739" y="4"/>
                    </a:moveTo>
                    <a:lnTo>
                      <a:pt x="16739" y="4"/>
                    </a:lnTo>
                    <a:cubicBezTo>
                      <a:pt x="16740" y="4"/>
                      <a:pt x="16741" y="5"/>
                      <a:pt x="16741" y="6"/>
                    </a:cubicBezTo>
                    <a:cubicBezTo>
                      <a:pt x="16741" y="7"/>
                      <a:pt x="16740" y="8"/>
                      <a:pt x="16739" y="8"/>
                    </a:cubicBezTo>
                    <a:lnTo>
                      <a:pt x="16739" y="8"/>
                    </a:lnTo>
                    <a:cubicBezTo>
                      <a:pt x="16738" y="8"/>
                      <a:pt x="16737" y="7"/>
                      <a:pt x="16737" y="6"/>
                    </a:cubicBezTo>
                    <a:cubicBezTo>
                      <a:pt x="16737" y="5"/>
                      <a:pt x="16738" y="4"/>
                      <a:pt x="16739" y="4"/>
                    </a:cubicBezTo>
                    <a:close/>
                    <a:moveTo>
                      <a:pt x="16747" y="4"/>
                    </a:moveTo>
                    <a:lnTo>
                      <a:pt x="16747" y="4"/>
                    </a:lnTo>
                    <a:cubicBezTo>
                      <a:pt x="16748" y="4"/>
                      <a:pt x="16749" y="5"/>
                      <a:pt x="16749" y="6"/>
                    </a:cubicBezTo>
                    <a:cubicBezTo>
                      <a:pt x="16749" y="7"/>
                      <a:pt x="16748" y="8"/>
                      <a:pt x="16747" y="8"/>
                    </a:cubicBezTo>
                    <a:lnTo>
                      <a:pt x="16747" y="8"/>
                    </a:lnTo>
                    <a:cubicBezTo>
                      <a:pt x="16746" y="8"/>
                      <a:pt x="16745" y="7"/>
                      <a:pt x="16745" y="6"/>
                    </a:cubicBezTo>
                    <a:cubicBezTo>
                      <a:pt x="16745" y="5"/>
                      <a:pt x="16746" y="4"/>
                      <a:pt x="16747" y="4"/>
                    </a:cubicBezTo>
                    <a:close/>
                    <a:moveTo>
                      <a:pt x="16755" y="4"/>
                    </a:moveTo>
                    <a:lnTo>
                      <a:pt x="16755" y="4"/>
                    </a:lnTo>
                    <a:cubicBezTo>
                      <a:pt x="16756" y="4"/>
                      <a:pt x="16757" y="5"/>
                      <a:pt x="16757" y="6"/>
                    </a:cubicBezTo>
                    <a:cubicBezTo>
                      <a:pt x="16757" y="7"/>
                      <a:pt x="16756" y="8"/>
                      <a:pt x="16755" y="8"/>
                    </a:cubicBezTo>
                    <a:lnTo>
                      <a:pt x="16755" y="8"/>
                    </a:lnTo>
                    <a:cubicBezTo>
                      <a:pt x="16754" y="8"/>
                      <a:pt x="16753" y="7"/>
                      <a:pt x="16753" y="6"/>
                    </a:cubicBezTo>
                    <a:cubicBezTo>
                      <a:pt x="16753" y="5"/>
                      <a:pt x="16754" y="4"/>
                      <a:pt x="16755" y="4"/>
                    </a:cubicBezTo>
                    <a:close/>
                    <a:moveTo>
                      <a:pt x="16763" y="4"/>
                    </a:moveTo>
                    <a:lnTo>
                      <a:pt x="16763" y="4"/>
                    </a:lnTo>
                    <a:cubicBezTo>
                      <a:pt x="16764" y="4"/>
                      <a:pt x="16765" y="5"/>
                      <a:pt x="16765" y="6"/>
                    </a:cubicBezTo>
                    <a:cubicBezTo>
                      <a:pt x="16765" y="7"/>
                      <a:pt x="16764" y="8"/>
                      <a:pt x="16763" y="8"/>
                    </a:cubicBezTo>
                    <a:lnTo>
                      <a:pt x="16763" y="8"/>
                    </a:lnTo>
                    <a:cubicBezTo>
                      <a:pt x="16762" y="8"/>
                      <a:pt x="16761" y="7"/>
                      <a:pt x="16761" y="6"/>
                    </a:cubicBezTo>
                    <a:cubicBezTo>
                      <a:pt x="16761" y="5"/>
                      <a:pt x="16762" y="4"/>
                      <a:pt x="16763" y="4"/>
                    </a:cubicBezTo>
                    <a:close/>
                    <a:moveTo>
                      <a:pt x="16771" y="4"/>
                    </a:moveTo>
                    <a:lnTo>
                      <a:pt x="16771" y="4"/>
                    </a:lnTo>
                    <a:cubicBezTo>
                      <a:pt x="16772" y="4"/>
                      <a:pt x="16773" y="5"/>
                      <a:pt x="16773" y="6"/>
                    </a:cubicBezTo>
                    <a:cubicBezTo>
                      <a:pt x="16773" y="7"/>
                      <a:pt x="16772" y="8"/>
                      <a:pt x="16771" y="8"/>
                    </a:cubicBezTo>
                    <a:lnTo>
                      <a:pt x="16771" y="8"/>
                    </a:lnTo>
                    <a:cubicBezTo>
                      <a:pt x="16770" y="8"/>
                      <a:pt x="16769" y="7"/>
                      <a:pt x="16769" y="6"/>
                    </a:cubicBezTo>
                    <a:cubicBezTo>
                      <a:pt x="16769" y="5"/>
                      <a:pt x="16770" y="4"/>
                      <a:pt x="16771" y="4"/>
                    </a:cubicBezTo>
                    <a:close/>
                    <a:moveTo>
                      <a:pt x="16779" y="4"/>
                    </a:moveTo>
                    <a:lnTo>
                      <a:pt x="16779" y="4"/>
                    </a:lnTo>
                    <a:cubicBezTo>
                      <a:pt x="16780" y="4"/>
                      <a:pt x="16781" y="5"/>
                      <a:pt x="16781" y="6"/>
                    </a:cubicBezTo>
                    <a:cubicBezTo>
                      <a:pt x="16781" y="7"/>
                      <a:pt x="16780" y="8"/>
                      <a:pt x="16779" y="8"/>
                    </a:cubicBezTo>
                    <a:lnTo>
                      <a:pt x="16779" y="8"/>
                    </a:lnTo>
                    <a:cubicBezTo>
                      <a:pt x="16778" y="8"/>
                      <a:pt x="16777" y="7"/>
                      <a:pt x="16777" y="6"/>
                    </a:cubicBezTo>
                    <a:cubicBezTo>
                      <a:pt x="16777" y="5"/>
                      <a:pt x="16778" y="4"/>
                      <a:pt x="16779" y="4"/>
                    </a:cubicBezTo>
                    <a:close/>
                    <a:moveTo>
                      <a:pt x="16787" y="4"/>
                    </a:moveTo>
                    <a:lnTo>
                      <a:pt x="16787" y="4"/>
                    </a:lnTo>
                    <a:cubicBezTo>
                      <a:pt x="16788" y="4"/>
                      <a:pt x="16789" y="5"/>
                      <a:pt x="16789" y="6"/>
                    </a:cubicBezTo>
                    <a:cubicBezTo>
                      <a:pt x="16789" y="7"/>
                      <a:pt x="16788" y="8"/>
                      <a:pt x="16787" y="8"/>
                    </a:cubicBezTo>
                    <a:lnTo>
                      <a:pt x="16787" y="8"/>
                    </a:lnTo>
                    <a:cubicBezTo>
                      <a:pt x="16786" y="8"/>
                      <a:pt x="16785" y="7"/>
                      <a:pt x="16785" y="6"/>
                    </a:cubicBezTo>
                    <a:cubicBezTo>
                      <a:pt x="16785" y="5"/>
                      <a:pt x="16786" y="4"/>
                      <a:pt x="16787" y="4"/>
                    </a:cubicBezTo>
                    <a:close/>
                    <a:moveTo>
                      <a:pt x="16795" y="4"/>
                    </a:moveTo>
                    <a:lnTo>
                      <a:pt x="16795" y="4"/>
                    </a:lnTo>
                    <a:cubicBezTo>
                      <a:pt x="16796" y="4"/>
                      <a:pt x="16797" y="5"/>
                      <a:pt x="16797" y="6"/>
                    </a:cubicBezTo>
                    <a:cubicBezTo>
                      <a:pt x="16797" y="7"/>
                      <a:pt x="16796" y="8"/>
                      <a:pt x="16795" y="8"/>
                    </a:cubicBezTo>
                    <a:lnTo>
                      <a:pt x="16795" y="8"/>
                    </a:lnTo>
                    <a:cubicBezTo>
                      <a:pt x="16794" y="8"/>
                      <a:pt x="16793" y="7"/>
                      <a:pt x="16793" y="6"/>
                    </a:cubicBezTo>
                    <a:cubicBezTo>
                      <a:pt x="16793" y="5"/>
                      <a:pt x="16794" y="4"/>
                      <a:pt x="16795" y="4"/>
                    </a:cubicBezTo>
                    <a:close/>
                    <a:moveTo>
                      <a:pt x="16803" y="4"/>
                    </a:moveTo>
                    <a:lnTo>
                      <a:pt x="16803" y="4"/>
                    </a:lnTo>
                    <a:cubicBezTo>
                      <a:pt x="16804" y="4"/>
                      <a:pt x="16805" y="5"/>
                      <a:pt x="16805" y="6"/>
                    </a:cubicBezTo>
                    <a:cubicBezTo>
                      <a:pt x="16805" y="7"/>
                      <a:pt x="16804" y="8"/>
                      <a:pt x="16803" y="8"/>
                    </a:cubicBezTo>
                    <a:lnTo>
                      <a:pt x="16803" y="8"/>
                    </a:lnTo>
                    <a:cubicBezTo>
                      <a:pt x="16802" y="8"/>
                      <a:pt x="16801" y="7"/>
                      <a:pt x="16801" y="6"/>
                    </a:cubicBezTo>
                    <a:cubicBezTo>
                      <a:pt x="16801" y="5"/>
                      <a:pt x="16802" y="4"/>
                      <a:pt x="16803" y="4"/>
                    </a:cubicBezTo>
                    <a:close/>
                    <a:moveTo>
                      <a:pt x="16811" y="4"/>
                    </a:moveTo>
                    <a:lnTo>
                      <a:pt x="16811" y="4"/>
                    </a:lnTo>
                    <a:cubicBezTo>
                      <a:pt x="16812" y="4"/>
                      <a:pt x="16813" y="5"/>
                      <a:pt x="16813" y="6"/>
                    </a:cubicBezTo>
                    <a:cubicBezTo>
                      <a:pt x="16813" y="7"/>
                      <a:pt x="16812" y="8"/>
                      <a:pt x="16811" y="8"/>
                    </a:cubicBezTo>
                    <a:lnTo>
                      <a:pt x="16811" y="8"/>
                    </a:lnTo>
                    <a:cubicBezTo>
                      <a:pt x="16810" y="8"/>
                      <a:pt x="16809" y="7"/>
                      <a:pt x="16809" y="6"/>
                    </a:cubicBezTo>
                    <a:cubicBezTo>
                      <a:pt x="16809" y="5"/>
                      <a:pt x="16810" y="4"/>
                      <a:pt x="16811" y="4"/>
                    </a:cubicBezTo>
                    <a:close/>
                    <a:moveTo>
                      <a:pt x="16819" y="4"/>
                    </a:moveTo>
                    <a:lnTo>
                      <a:pt x="16819" y="4"/>
                    </a:lnTo>
                    <a:cubicBezTo>
                      <a:pt x="16820" y="4"/>
                      <a:pt x="16821" y="5"/>
                      <a:pt x="16821" y="6"/>
                    </a:cubicBezTo>
                    <a:cubicBezTo>
                      <a:pt x="16821" y="7"/>
                      <a:pt x="16820" y="8"/>
                      <a:pt x="16819" y="8"/>
                    </a:cubicBezTo>
                    <a:lnTo>
                      <a:pt x="16819" y="8"/>
                    </a:lnTo>
                    <a:cubicBezTo>
                      <a:pt x="16818" y="8"/>
                      <a:pt x="16817" y="7"/>
                      <a:pt x="16817" y="6"/>
                    </a:cubicBezTo>
                    <a:cubicBezTo>
                      <a:pt x="16817" y="5"/>
                      <a:pt x="16818" y="4"/>
                      <a:pt x="16819" y="4"/>
                    </a:cubicBezTo>
                    <a:close/>
                    <a:moveTo>
                      <a:pt x="16827" y="4"/>
                    </a:moveTo>
                    <a:lnTo>
                      <a:pt x="16827" y="4"/>
                    </a:lnTo>
                    <a:cubicBezTo>
                      <a:pt x="16828" y="4"/>
                      <a:pt x="16829" y="5"/>
                      <a:pt x="16829" y="6"/>
                    </a:cubicBezTo>
                    <a:cubicBezTo>
                      <a:pt x="16829" y="7"/>
                      <a:pt x="16828" y="8"/>
                      <a:pt x="16827" y="8"/>
                    </a:cubicBezTo>
                    <a:lnTo>
                      <a:pt x="16827" y="8"/>
                    </a:lnTo>
                    <a:cubicBezTo>
                      <a:pt x="16826" y="8"/>
                      <a:pt x="16825" y="7"/>
                      <a:pt x="16825" y="6"/>
                    </a:cubicBezTo>
                    <a:cubicBezTo>
                      <a:pt x="16825" y="5"/>
                      <a:pt x="16826" y="4"/>
                      <a:pt x="16827" y="4"/>
                    </a:cubicBezTo>
                    <a:close/>
                    <a:moveTo>
                      <a:pt x="16835" y="4"/>
                    </a:moveTo>
                    <a:lnTo>
                      <a:pt x="16835" y="4"/>
                    </a:lnTo>
                    <a:cubicBezTo>
                      <a:pt x="16836" y="4"/>
                      <a:pt x="16837" y="5"/>
                      <a:pt x="16837" y="6"/>
                    </a:cubicBezTo>
                    <a:cubicBezTo>
                      <a:pt x="16837" y="7"/>
                      <a:pt x="16836" y="8"/>
                      <a:pt x="16835" y="8"/>
                    </a:cubicBezTo>
                    <a:lnTo>
                      <a:pt x="16835" y="8"/>
                    </a:lnTo>
                    <a:cubicBezTo>
                      <a:pt x="16834" y="8"/>
                      <a:pt x="16833" y="7"/>
                      <a:pt x="16833" y="6"/>
                    </a:cubicBezTo>
                    <a:cubicBezTo>
                      <a:pt x="16833" y="5"/>
                      <a:pt x="16834" y="4"/>
                      <a:pt x="16835" y="4"/>
                    </a:cubicBezTo>
                    <a:close/>
                    <a:moveTo>
                      <a:pt x="16843" y="4"/>
                    </a:moveTo>
                    <a:lnTo>
                      <a:pt x="16843" y="4"/>
                    </a:lnTo>
                    <a:cubicBezTo>
                      <a:pt x="16844" y="4"/>
                      <a:pt x="16845" y="5"/>
                      <a:pt x="16845" y="6"/>
                    </a:cubicBezTo>
                    <a:cubicBezTo>
                      <a:pt x="16845" y="7"/>
                      <a:pt x="16844" y="8"/>
                      <a:pt x="16843" y="8"/>
                    </a:cubicBezTo>
                    <a:lnTo>
                      <a:pt x="16843" y="8"/>
                    </a:lnTo>
                    <a:cubicBezTo>
                      <a:pt x="16842" y="8"/>
                      <a:pt x="16841" y="7"/>
                      <a:pt x="16841" y="6"/>
                    </a:cubicBezTo>
                    <a:cubicBezTo>
                      <a:pt x="16841" y="5"/>
                      <a:pt x="16842" y="4"/>
                      <a:pt x="16843" y="4"/>
                    </a:cubicBezTo>
                    <a:close/>
                    <a:moveTo>
                      <a:pt x="16851" y="4"/>
                    </a:moveTo>
                    <a:lnTo>
                      <a:pt x="16851" y="4"/>
                    </a:lnTo>
                    <a:cubicBezTo>
                      <a:pt x="16852" y="4"/>
                      <a:pt x="16853" y="5"/>
                      <a:pt x="16853" y="6"/>
                    </a:cubicBezTo>
                    <a:cubicBezTo>
                      <a:pt x="16853" y="7"/>
                      <a:pt x="16852" y="8"/>
                      <a:pt x="16851" y="8"/>
                    </a:cubicBezTo>
                    <a:lnTo>
                      <a:pt x="16851" y="8"/>
                    </a:lnTo>
                    <a:cubicBezTo>
                      <a:pt x="16850" y="8"/>
                      <a:pt x="16849" y="7"/>
                      <a:pt x="16849" y="6"/>
                    </a:cubicBezTo>
                    <a:cubicBezTo>
                      <a:pt x="16849" y="5"/>
                      <a:pt x="16850" y="4"/>
                      <a:pt x="16851" y="4"/>
                    </a:cubicBezTo>
                    <a:close/>
                    <a:moveTo>
                      <a:pt x="16859" y="4"/>
                    </a:moveTo>
                    <a:lnTo>
                      <a:pt x="16859" y="4"/>
                    </a:lnTo>
                    <a:cubicBezTo>
                      <a:pt x="16860" y="4"/>
                      <a:pt x="16861" y="5"/>
                      <a:pt x="16861" y="6"/>
                    </a:cubicBezTo>
                    <a:cubicBezTo>
                      <a:pt x="16861" y="7"/>
                      <a:pt x="16860" y="8"/>
                      <a:pt x="16859" y="8"/>
                    </a:cubicBezTo>
                    <a:lnTo>
                      <a:pt x="16859" y="8"/>
                    </a:lnTo>
                    <a:cubicBezTo>
                      <a:pt x="16858" y="8"/>
                      <a:pt x="16857" y="7"/>
                      <a:pt x="16857" y="6"/>
                    </a:cubicBezTo>
                    <a:cubicBezTo>
                      <a:pt x="16857" y="5"/>
                      <a:pt x="16858" y="4"/>
                      <a:pt x="16859" y="4"/>
                    </a:cubicBezTo>
                    <a:close/>
                    <a:moveTo>
                      <a:pt x="16867" y="4"/>
                    </a:moveTo>
                    <a:lnTo>
                      <a:pt x="16867" y="4"/>
                    </a:lnTo>
                    <a:cubicBezTo>
                      <a:pt x="16868" y="4"/>
                      <a:pt x="16869" y="5"/>
                      <a:pt x="16869" y="6"/>
                    </a:cubicBezTo>
                    <a:cubicBezTo>
                      <a:pt x="16869" y="7"/>
                      <a:pt x="16868" y="8"/>
                      <a:pt x="16867" y="8"/>
                    </a:cubicBezTo>
                    <a:lnTo>
                      <a:pt x="16867" y="8"/>
                    </a:lnTo>
                    <a:cubicBezTo>
                      <a:pt x="16866" y="8"/>
                      <a:pt x="16865" y="7"/>
                      <a:pt x="16865" y="6"/>
                    </a:cubicBezTo>
                    <a:cubicBezTo>
                      <a:pt x="16865" y="5"/>
                      <a:pt x="16866" y="4"/>
                      <a:pt x="16867" y="4"/>
                    </a:cubicBezTo>
                    <a:close/>
                    <a:moveTo>
                      <a:pt x="16875" y="4"/>
                    </a:moveTo>
                    <a:lnTo>
                      <a:pt x="16875" y="4"/>
                    </a:lnTo>
                    <a:cubicBezTo>
                      <a:pt x="16876" y="4"/>
                      <a:pt x="16877" y="5"/>
                      <a:pt x="16877" y="6"/>
                    </a:cubicBezTo>
                    <a:cubicBezTo>
                      <a:pt x="16877" y="7"/>
                      <a:pt x="16876" y="8"/>
                      <a:pt x="16875" y="8"/>
                    </a:cubicBezTo>
                    <a:lnTo>
                      <a:pt x="16875" y="8"/>
                    </a:lnTo>
                    <a:cubicBezTo>
                      <a:pt x="16874" y="8"/>
                      <a:pt x="16873" y="7"/>
                      <a:pt x="16873" y="6"/>
                    </a:cubicBezTo>
                    <a:cubicBezTo>
                      <a:pt x="16873" y="5"/>
                      <a:pt x="16874" y="4"/>
                      <a:pt x="16875" y="4"/>
                    </a:cubicBezTo>
                    <a:close/>
                    <a:moveTo>
                      <a:pt x="16883" y="4"/>
                    </a:moveTo>
                    <a:lnTo>
                      <a:pt x="16883" y="4"/>
                    </a:lnTo>
                    <a:cubicBezTo>
                      <a:pt x="16884" y="4"/>
                      <a:pt x="16885" y="5"/>
                      <a:pt x="16885" y="6"/>
                    </a:cubicBezTo>
                    <a:cubicBezTo>
                      <a:pt x="16885" y="7"/>
                      <a:pt x="16884" y="8"/>
                      <a:pt x="16883" y="8"/>
                    </a:cubicBezTo>
                    <a:lnTo>
                      <a:pt x="16883" y="8"/>
                    </a:lnTo>
                    <a:cubicBezTo>
                      <a:pt x="16882" y="8"/>
                      <a:pt x="16881" y="7"/>
                      <a:pt x="16881" y="6"/>
                    </a:cubicBezTo>
                    <a:cubicBezTo>
                      <a:pt x="16881" y="5"/>
                      <a:pt x="16882" y="4"/>
                      <a:pt x="16883" y="4"/>
                    </a:cubicBezTo>
                    <a:close/>
                    <a:moveTo>
                      <a:pt x="16891" y="4"/>
                    </a:moveTo>
                    <a:lnTo>
                      <a:pt x="16891" y="4"/>
                    </a:lnTo>
                    <a:cubicBezTo>
                      <a:pt x="16892" y="4"/>
                      <a:pt x="16893" y="5"/>
                      <a:pt x="16893" y="6"/>
                    </a:cubicBezTo>
                    <a:cubicBezTo>
                      <a:pt x="16893" y="7"/>
                      <a:pt x="16892" y="8"/>
                      <a:pt x="16891" y="8"/>
                    </a:cubicBezTo>
                    <a:lnTo>
                      <a:pt x="16891" y="8"/>
                    </a:lnTo>
                    <a:cubicBezTo>
                      <a:pt x="16890" y="8"/>
                      <a:pt x="16889" y="7"/>
                      <a:pt x="16889" y="6"/>
                    </a:cubicBezTo>
                    <a:cubicBezTo>
                      <a:pt x="16889" y="5"/>
                      <a:pt x="16890" y="4"/>
                      <a:pt x="16891" y="4"/>
                    </a:cubicBezTo>
                    <a:close/>
                    <a:moveTo>
                      <a:pt x="16899" y="4"/>
                    </a:moveTo>
                    <a:lnTo>
                      <a:pt x="16899" y="4"/>
                    </a:lnTo>
                    <a:cubicBezTo>
                      <a:pt x="16901" y="4"/>
                      <a:pt x="16901" y="5"/>
                      <a:pt x="16901" y="6"/>
                    </a:cubicBezTo>
                    <a:cubicBezTo>
                      <a:pt x="16901" y="7"/>
                      <a:pt x="16901" y="8"/>
                      <a:pt x="16899" y="8"/>
                    </a:cubicBezTo>
                    <a:lnTo>
                      <a:pt x="16899" y="8"/>
                    </a:lnTo>
                    <a:cubicBezTo>
                      <a:pt x="16898" y="8"/>
                      <a:pt x="16897" y="7"/>
                      <a:pt x="16897" y="6"/>
                    </a:cubicBezTo>
                    <a:cubicBezTo>
                      <a:pt x="16897" y="5"/>
                      <a:pt x="16898" y="4"/>
                      <a:pt x="16899" y="4"/>
                    </a:cubicBezTo>
                    <a:close/>
                    <a:moveTo>
                      <a:pt x="16907" y="4"/>
                    </a:moveTo>
                    <a:lnTo>
                      <a:pt x="16907" y="4"/>
                    </a:lnTo>
                    <a:cubicBezTo>
                      <a:pt x="16909" y="4"/>
                      <a:pt x="16909" y="5"/>
                      <a:pt x="16909" y="6"/>
                    </a:cubicBezTo>
                    <a:cubicBezTo>
                      <a:pt x="16909" y="7"/>
                      <a:pt x="16909" y="8"/>
                      <a:pt x="16907" y="8"/>
                    </a:cubicBezTo>
                    <a:lnTo>
                      <a:pt x="16907" y="8"/>
                    </a:lnTo>
                    <a:cubicBezTo>
                      <a:pt x="16906" y="8"/>
                      <a:pt x="16905" y="7"/>
                      <a:pt x="16905" y="6"/>
                    </a:cubicBezTo>
                    <a:cubicBezTo>
                      <a:pt x="16905" y="5"/>
                      <a:pt x="16906" y="4"/>
                      <a:pt x="16907" y="4"/>
                    </a:cubicBezTo>
                    <a:close/>
                    <a:moveTo>
                      <a:pt x="16915" y="4"/>
                    </a:moveTo>
                    <a:lnTo>
                      <a:pt x="16915" y="4"/>
                    </a:lnTo>
                    <a:cubicBezTo>
                      <a:pt x="16917" y="4"/>
                      <a:pt x="16917" y="5"/>
                      <a:pt x="16917" y="6"/>
                    </a:cubicBezTo>
                    <a:cubicBezTo>
                      <a:pt x="16917" y="7"/>
                      <a:pt x="16917" y="8"/>
                      <a:pt x="16915" y="8"/>
                    </a:cubicBezTo>
                    <a:lnTo>
                      <a:pt x="16915" y="8"/>
                    </a:lnTo>
                    <a:cubicBezTo>
                      <a:pt x="16914" y="8"/>
                      <a:pt x="16913" y="7"/>
                      <a:pt x="16913" y="6"/>
                    </a:cubicBezTo>
                    <a:cubicBezTo>
                      <a:pt x="16913" y="5"/>
                      <a:pt x="16914" y="4"/>
                      <a:pt x="16915" y="4"/>
                    </a:cubicBezTo>
                    <a:close/>
                    <a:moveTo>
                      <a:pt x="16923" y="4"/>
                    </a:moveTo>
                    <a:lnTo>
                      <a:pt x="16923" y="4"/>
                    </a:lnTo>
                    <a:cubicBezTo>
                      <a:pt x="16925" y="4"/>
                      <a:pt x="16925" y="5"/>
                      <a:pt x="16925" y="6"/>
                    </a:cubicBezTo>
                    <a:cubicBezTo>
                      <a:pt x="16925" y="7"/>
                      <a:pt x="16925" y="8"/>
                      <a:pt x="16923" y="8"/>
                    </a:cubicBezTo>
                    <a:lnTo>
                      <a:pt x="16923" y="8"/>
                    </a:lnTo>
                    <a:cubicBezTo>
                      <a:pt x="16922" y="8"/>
                      <a:pt x="16921" y="7"/>
                      <a:pt x="16921" y="6"/>
                    </a:cubicBezTo>
                    <a:cubicBezTo>
                      <a:pt x="16921" y="5"/>
                      <a:pt x="16922" y="4"/>
                      <a:pt x="16923" y="4"/>
                    </a:cubicBezTo>
                    <a:close/>
                    <a:moveTo>
                      <a:pt x="16931" y="4"/>
                    </a:moveTo>
                    <a:lnTo>
                      <a:pt x="16931" y="4"/>
                    </a:lnTo>
                    <a:cubicBezTo>
                      <a:pt x="16933" y="4"/>
                      <a:pt x="16933" y="5"/>
                      <a:pt x="16933" y="6"/>
                    </a:cubicBezTo>
                    <a:cubicBezTo>
                      <a:pt x="16933" y="7"/>
                      <a:pt x="16933" y="8"/>
                      <a:pt x="16931" y="8"/>
                    </a:cubicBezTo>
                    <a:lnTo>
                      <a:pt x="16931" y="8"/>
                    </a:lnTo>
                    <a:cubicBezTo>
                      <a:pt x="16930" y="8"/>
                      <a:pt x="16929" y="7"/>
                      <a:pt x="16929" y="6"/>
                    </a:cubicBezTo>
                    <a:cubicBezTo>
                      <a:pt x="16929" y="5"/>
                      <a:pt x="16930" y="4"/>
                      <a:pt x="16931" y="4"/>
                    </a:cubicBezTo>
                    <a:close/>
                    <a:moveTo>
                      <a:pt x="16939" y="4"/>
                    </a:moveTo>
                    <a:lnTo>
                      <a:pt x="16939" y="4"/>
                    </a:lnTo>
                    <a:cubicBezTo>
                      <a:pt x="16941" y="4"/>
                      <a:pt x="16941" y="5"/>
                      <a:pt x="16941" y="6"/>
                    </a:cubicBezTo>
                    <a:cubicBezTo>
                      <a:pt x="16941" y="7"/>
                      <a:pt x="16941" y="8"/>
                      <a:pt x="16939" y="8"/>
                    </a:cubicBezTo>
                    <a:lnTo>
                      <a:pt x="16939" y="8"/>
                    </a:lnTo>
                    <a:cubicBezTo>
                      <a:pt x="16938" y="8"/>
                      <a:pt x="16937" y="7"/>
                      <a:pt x="16937" y="6"/>
                    </a:cubicBezTo>
                    <a:cubicBezTo>
                      <a:pt x="16937" y="5"/>
                      <a:pt x="16938" y="4"/>
                      <a:pt x="16939" y="4"/>
                    </a:cubicBezTo>
                    <a:close/>
                    <a:moveTo>
                      <a:pt x="16947" y="4"/>
                    </a:moveTo>
                    <a:lnTo>
                      <a:pt x="16947" y="4"/>
                    </a:lnTo>
                    <a:cubicBezTo>
                      <a:pt x="16949" y="4"/>
                      <a:pt x="16949" y="5"/>
                      <a:pt x="16949" y="6"/>
                    </a:cubicBezTo>
                    <a:cubicBezTo>
                      <a:pt x="16949" y="7"/>
                      <a:pt x="16949" y="8"/>
                      <a:pt x="16947" y="8"/>
                    </a:cubicBezTo>
                    <a:lnTo>
                      <a:pt x="16947" y="8"/>
                    </a:lnTo>
                    <a:cubicBezTo>
                      <a:pt x="16946" y="8"/>
                      <a:pt x="16945" y="7"/>
                      <a:pt x="16945" y="6"/>
                    </a:cubicBezTo>
                    <a:cubicBezTo>
                      <a:pt x="16945" y="5"/>
                      <a:pt x="16946" y="4"/>
                      <a:pt x="16947" y="4"/>
                    </a:cubicBezTo>
                    <a:close/>
                    <a:moveTo>
                      <a:pt x="16955" y="4"/>
                    </a:moveTo>
                    <a:lnTo>
                      <a:pt x="16955" y="4"/>
                    </a:lnTo>
                    <a:cubicBezTo>
                      <a:pt x="16957" y="4"/>
                      <a:pt x="16957" y="5"/>
                      <a:pt x="16957" y="6"/>
                    </a:cubicBezTo>
                    <a:cubicBezTo>
                      <a:pt x="16957" y="7"/>
                      <a:pt x="16957" y="8"/>
                      <a:pt x="16955" y="8"/>
                    </a:cubicBezTo>
                    <a:lnTo>
                      <a:pt x="16955" y="8"/>
                    </a:lnTo>
                    <a:cubicBezTo>
                      <a:pt x="16954" y="8"/>
                      <a:pt x="16953" y="7"/>
                      <a:pt x="16953" y="6"/>
                    </a:cubicBezTo>
                    <a:cubicBezTo>
                      <a:pt x="16953" y="5"/>
                      <a:pt x="16954" y="4"/>
                      <a:pt x="16955" y="4"/>
                    </a:cubicBezTo>
                    <a:close/>
                    <a:moveTo>
                      <a:pt x="16963" y="4"/>
                    </a:moveTo>
                    <a:lnTo>
                      <a:pt x="16963" y="4"/>
                    </a:lnTo>
                    <a:cubicBezTo>
                      <a:pt x="16965" y="4"/>
                      <a:pt x="16965" y="5"/>
                      <a:pt x="16965" y="6"/>
                    </a:cubicBezTo>
                    <a:cubicBezTo>
                      <a:pt x="16965" y="7"/>
                      <a:pt x="16965" y="8"/>
                      <a:pt x="16963" y="8"/>
                    </a:cubicBezTo>
                    <a:lnTo>
                      <a:pt x="16963" y="8"/>
                    </a:lnTo>
                    <a:cubicBezTo>
                      <a:pt x="16962" y="8"/>
                      <a:pt x="16961" y="7"/>
                      <a:pt x="16961" y="6"/>
                    </a:cubicBezTo>
                    <a:cubicBezTo>
                      <a:pt x="16961" y="5"/>
                      <a:pt x="16962" y="4"/>
                      <a:pt x="16963" y="4"/>
                    </a:cubicBezTo>
                    <a:close/>
                    <a:moveTo>
                      <a:pt x="16971" y="4"/>
                    </a:moveTo>
                    <a:lnTo>
                      <a:pt x="16971" y="4"/>
                    </a:lnTo>
                    <a:cubicBezTo>
                      <a:pt x="16973" y="4"/>
                      <a:pt x="16973" y="5"/>
                      <a:pt x="16973" y="6"/>
                    </a:cubicBezTo>
                    <a:cubicBezTo>
                      <a:pt x="16973" y="7"/>
                      <a:pt x="16973" y="8"/>
                      <a:pt x="16971" y="8"/>
                    </a:cubicBezTo>
                    <a:lnTo>
                      <a:pt x="16971" y="8"/>
                    </a:lnTo>
                    <a:cubicBezTo>
                      <a:pt x="16970" y="8"/>
                      <a:pt x="16969" y="7"/>
                      <a:pt x="16969" y="6"/>
                    </a:cubicBezTo>
                    <a:cubicBezTo>
                      <a:pt x="16969" y="5"/>
                      <a:pt x="16970" y="4"/>
                      <a:pt x="16971" y="4"/>
                    </a:cubicBezTo>
                    <a:close/>
                    <a:moveTo>
                      <a:pt x="16979" y="4"/>
                    </a:moveTo>
                    <a:lnTo>
                      <a:pt x="16979" y="4"/>
                    </a:lnTo>
                    <a:cubicBezTo>
                      <a:pt x="16981" y="4"/>
                      <a:pt x="16981" y="5"/>
                      <a:pt x="16981" y="6"/>
                    </a:cubicBezTo>
                    <a:cubicBezTo>
                      <a:pt x="16981" y="7"/>
                      <a:pt x="16981" y="8"/>
                      <a:pt x="16979" y="8"/>
                    </a:cubicBezTo>
                    <a:lnTo>
                      <a:pt x="16979" y="8"/>
                    </a:lnTo>
                    <a:cubicBezTo>
                      <a:pt x="16978" y="8"/>
                      <a:pt x="16977" y="7"/>
                      <a:pt x="16977" y="6"/>
                    </a:cubicBezTo>
                    <a:cubicBezTo>
                      <a:pt x="16977" y="5"/>
                      <a:pt x="16978" y="4"/>
                      <a:pt x="16979" y="4"/>
                    </a:cubicBezTo>
                    <a:close/>
                    <a:moveTo>
                      <a:pt x="16987" y="4"/>
                    </a:moveTo>
                    <a:lnTo>
                      <a:pt x="16987" y="4"/>
                    </a:lnTo>
                    <a:cubicBezTo>
                      <a:pt x="16989" y="4"/>
                      <a:pt x="16989" y="5"/>
                      <a:pt x="16989" y="6"/>
                    </a:cubicBezTo>
                    <a:cubicBezTo>
                      <a:pt x="16989" y="7"/>
                      <a:pt x="16989" y="8"/>
                      <a:pt x="16987" y="8"/>
                    </a:cubicBezTo>
                    <a:lnTo>
                      <a:pt x="16987" y="8"/>
                    </a:lnTo>
                    <a:cubicBezTo>
                      <a:pt x="16986" y="8"/>
                      <a:pt x="16985" y="7"/>
                      <a:pt x="16985" y="6"/>
                    </a:cubicBezTo>
                    <a:cubicBezTo>
                      <a:pt x="16985" y="5"/>
                      <a:pt x="16986" y="4"/>
                      <a:pt x="16987" y="4"/>
                    </a:cubicBezTo>
                    <a:close/>
                    <a:moveTo>
                      <a:pt x="16995" y="4"/>
                    </a:moveTo>
                    <a:lnTo>
                      <a:pt x="16995" y="4"/>
                    </a:lnTo>
                    <a:cubicBezTo>
                      <a:pt x="16997" y="4"/>
                      <a:pt x="16997" y="5"/>
                      <a:pt x="16997" y="6"/>
                    </a:cubicBezTo>
                    <a:cubicBezTo>
                      <a:pt x="16997" y="7"/>
                      <a:pt x="16997" y="8"/>
                      <a:pt x="16995" y="8"/>
                    </a:cubicBezTo>
                    <a:lnTo>
                      <a:pt x="16995" y="8"/>
                    </a:lnTo>
                    <a:cubicBezTo>
                      <a:pt x="16994" y="8"/>
                      <a:pt x="16993" y="7"/>
                      <a:pt x="16993" y="6"/>
                    </a:cubicBezTo>
                    <a:cubicBezTo>
                      <a:pt x="16993" y="5"/>
                      <a:pt x="16994" y="4"/>
                      <a:pt x="16995" y="4"/>
                    </a:cubicBezTo>
                    <a:close/>
                    <a:moveTo>
                      <a:pt x="17003" y="4"/>
                    </a:moveTo>
                    <a:lnTo>
                      <a:pt x="17003" y="4"/>
                    </a:lnTo>
                    <a:cubicBezTo>
                      <a:pt x="17005" y="4"/>
                      <a:pt x="17005" y="5"/>
                      <a:pt x="17005" y="6"/>
                    </a:cubicBezTo>
                    <a:cubicBezTo>
                      <a:pt x="17005" y="7"/>
                      <a:pt x="17005" y="8"/>
                      <a:pt x="17003" y="8"/>
                    </a:cubicBezTo>
                    <a:lnTo>
                      <a:pt x="17003" y="8"/>
                    </a:lnTo>
                    <a:cubicBezTo>
                      <a:pt x="17002" y="8"/>
                      <a:pt x="17001" y="7"/>
                      <a:pt x="17001" y="6"/>
                    </a:cubicBezTo>
                    <a:cubicBezTo>
                      <a:pt x="17001" y="5"/>
                      <a:pt x="17002" y="4"/>
                      <a:pt x="17003" y="4"/>
                    </a:cubicBezTo>
                    <a:close/>
                    <a:moveTo>
                      <a:pt x="17011" y="4"/>
                    </a:moveTo>
                    <a:lnTo>
                      <a:pt x="17011" y="4"/>
                    </a:lnTo>
                    <a:cubicBezTo>
                      <a:pt x="17013" y="4"/>
                      <a:pt x="17013" y="5"/>
                      <a:pt x="17013" y="6"/>
                    </a:cubicBezTo>
                    <a:cubicBezTo>
                      <a:pt x="17013" y="7"/>
                      <a:pt x="17013" y="8"/>
                      <a:pt x="17011" y="8"/>
                    </a:cubicBezTo>
                    <a:lnTo>
                      <a:pt x="17011" y="8"/>
                    </a:lnTo>
                    <a:cubicBezTo>
                      <a:pt x="17010" y="8"/>
                      <a:pt x="17009" y="7"/>
                      <a:pt x="17009" y="6"/>
                    </a:cubicBezTo>
                    <a:cubicBezTo>
                      <a:pt x="17009" y="5"/>
                      <a:pt x="17010" y="4"/>
                      <a:pt x="17011" y="4"/>
                    </a:cubicBezTo>
                    <a:close/>
                    <a:moveTo>
                      <a:pt x="17019" y="4"/>
                    </a:moveTo>
                    <a:lnTo>
                      <a:pt x="17019" y="4"/>
                    </a:lnTo>
                    <a:cubicBezTo>
                      <a:pt x="17021" y="4"/>
                      <a:pt x="17021" y="5"/>
                      <a:pt x="17021" y="6"/>
                    </a:cubicBezTo>
                    <a:cubicBezTo>
                      <a:pt x="17021" y="7"/>
                      <a:pt x="17021" y="8"/>
                      <a:pt x="17019" y="8"/>
                    </a:cubicBezTo>
                    <a:lnTo>
                      <a:pt x="17019" y="8"/>
                    </a:lnTo>
                    <a:cubicBezTo>
                      <a:pt x="17018" y="8"/>
                      <a:pt x="17017" y="7"/>
                      <a:pt x="17017" y="6"/>
                    </a:cubicBezTo>
                    <a:cubicBezTo>
                      <a:pt x="17017" y="5"/>
                      <a:pt x="17018" y="4"/>
                      <a:pt x="17019" y="4"/>
                    </a:cubicBezTo>
                    <a:close/>
                    <a:moveTo>
                      <a:pt x="17027" y="4"/>
                    </a:moveTo>
                    <a:lnTo>
                      <a:pt x="17027" y="4"/>
                    </a:lnTo>
                    <a:cubicBezTo>
                      <a:pt x="17029" y="4"/>
                      <a:pt x="17029" y="5"/>
                      <a:pt x="17029" y="6"/>
                    </a:cubicBezTo>
                    <a:cubicBezTo>
                      <a:pt x="17029" y="7"/>
                      <a:pt x="17029" y="8"/>
                      <a:pt x="17027" y="8"/>
                    </a:cubicBezTo>
                    <a:lnTo>
                      <a:pt x="17027" y="8"/>
                    </a:lnTo>
                    <a:cubicBezTo>
                      <a:pt x="17026" y="8"/>
                      <a:pt x="17025" y="7"/>
                      <a:pt x="17025" y="6"/>
                    </a:cubicBezTo>
                    <a:cubicBezTo>
                      <a:pt x="17025" y="5"/>
                      <a:pt x="17026" y="4"/>
                      <a:pt x="17027" y="4"/>
                    </a:cubicBezTo>
                    <a:close/>
                    <a:moveTo>
                      <a:pt x="17035" y="4"/>
                    </a:moveTo>
                    <a:lnTo>
                      <a:pt x="17035" y="4"/>
                    </a:lnTo>
                    <a:cubicBezTo>
                      <a:pt x="17037" y="4"/>
                      <a:pt x="17037" y="5"/>
                      <a:pt x="17037" y="6"/>
                    </a:cubicBezTo>
                    <a:cubicBezTo>
                      <a:pt x="17037" y="7"/>
                      <a:pt x="17037" y="8"/>
                      <a:pt x="17035" y="8"/>
                    </a:cubicBezTo>
                    <a:lnTo>
                      <a:pt x="17035" y="8"/>
                    </a:lnTo>
                    <a:cubicBezTo>
                      <a:pt x="17034" y="8"/>
                      <a:pt x="17033" y="7"/>
                      <a:pt x="17033" y="6"/>
                    </a:cubicBezTo>
                    <a:cubicBezTo>
                      <a:pt x="17033" y="5"/>
                      <a:pt x="17034" y="4"/>
                      <a:pt x="17035" y="4"/>
                    </a:cubicBezTo>
                    <a:close/>
                    <a:moveTo>
                      <a:pt x="17044" y="4"/>
                    </a:moveTo>
                    <a:lnTo>
                      <a:pt x="17044" y="4"/>
                    </a:lnTo>
                    <a:cubicBezTo>
                      <a:pt x="17045" y="4"/>
                      <a:pt x="17046" y="5"/>
                      <a:pt x="17046" y="6"/>
                    </a:cubicBezTo>
                    <a:cubicBezTo>
                      <a:pt x="17046" y="7"/>
                      <a:pt x="17045" y="8"/>
                      <a:pt x="17044" y="8"/>
                    </a:cubicBezTo>
                    <a:lnTo>
                      <a:pt x="17044" y="8"/>
                    </a:lnTo>
                    <a:cubicBezTo>
                      <a:pt x="17042" y="8"/>
                      <a:pt x="17041" y="7"/>
                      <a:pt x="17041" y="6"/>
                    </a:cubicBezTo>
                    <a:cubicBezTo>
                      <a:pt x="17041" y="5"/>
                      <a:pt x="17042" y="4"/>
                      <a:pt x="17044" y="4"/>
                    </a:cubicBezTo>
                    <a:close/>
                    <a:moveTo>
                      <a:pt x="17052" y="4"/>
                    </a:moveTo>
                    <a:lnTo>
                      <a:pt x="17052" y="4"/>
                    </a:lnTo>
                    <a:cubicBezTo>
                      <a:pt x="17053" y="4"/>
                      <a:pt x="17054" y="5"/>
                      <a:pt x="17054" y="6"/>
                    </a:cubicBezTo>
                    <a:cubicBezTo>
                      <a:pt x="17054" y="7"/>
                      <a:pt x="17053" y="8"/>
                      <a:pt x="17052" y="8"/>
                    </a:cubicBezTo>
                    <a:lnTo>
                      <a:pt x="17052" y="8"/>
                    </a:lnTo>
                    <a:cubicBezTo>
                      <a:pt x="17050" y="8"/>
                      <a:pt x="17050" y="7"/>
                      <a:pt x="17050" y="6"/>
                    </a:cubicBezTo>
                    <a:cubicBezTo>
                      <a:pt x="17050" y="5"/>
                      <a:pt x="17050" y="4"/>
                      <a:pt x="17052" y="4"/>
                    </a:cubicBezTo>
                    <a:close/>
                    <a:moveTo>
                      <a:pt x="17060" y="4"/>
                    </a:moveTo>
                    <a:lnTo>
                      <a:pt x="17060" y="4"/>
                    </a:lnTo>
                    <a:cubicBezTo>
                      <a:pt x="17061" y="4"/>
                      <a:pt x="17062" y="5"/>
                      <a:pt x="17062" y="6"/>
                    </a:cubicBezTo>
                    <a:cubicBezTo>
                      <a:pt x="17062" y="7"/>
                      <a:pt x="17061" y="8"/>
                      <a:pt x="17060" y="8"/>
                    </a:cubicBezTo>
                    <a:lnTo>
                      <a:pt x="17060" y="8"/>
                    </a:lnTo>
                    <a:cubicBezTo>
                      <a:pt x="17058" y="8"/>
                      <a:pt x="17058" y="7"/>
                      <a:pt x="17058" y="6"/>
                    </a:cubicBezTo>
                    <a:cubicBezTo>
                      <a:pt x="17058" y="5"/>
                      <a:pt x="17058" y="4"/>
                      <a:pt x="17060" y="4"/>
                    </a:cubicBezTo>
                    <a:close/>
                    <a:moveTo>
                      <a:pt x="17068" y="4"/>
                    </a:moveTo>
                    <a:lnTo>
                      <a:pt x="17068" y="4"/>
                    </a:lnTo>
                    <a:cubicBezTo>
                      <a:pt x="17069" y="4"/>
                      <a:pt x="17070" y="5"/>
                      <a:pt x="17070" y="6"/>
                    </a:cubicBezTo>
                    <a:cubicBezTo>
                      <a:pt x="17070" y="7"/>
                      <a:pt x="17069" y="8"/>
                      <a:pt x="17068" y="8"/>
                    </a:cubicBezTo>
                    <a:lnTo>
                      <a:pt x="17068" y="8"/>
                    </a:lnTo>
                    <a:cubicBezTo>
                      <a:pt x="17066" y="8"/>
                      <a:pt x="17066" y="7"/>
                      <a:pt x="17066" y="6"/>
                    </a:cubicBezTo>
                    <a:cubicBezTo>
                      <a:pt x="17066" y="5"/>
                      <a:pt x="17066" y="4"/>
                      <a:pt x="17068" y="4"/>
                    </a:cubicBezTo>
                    <a:close/>
                    <a:moveTo>
                      <a:pt x="17076" y="4"/>
                    </a:moveTo>
                    <a:lnTo>
                      <a:pt x="17076" y="4"/>
                    </a:lnTo>
                    <a:cubicBezTo>
                      <a:pt x="17077" y="4"/>
                      <a:pt x="17078" y="5"/>
                      <a:pt x="17078" y="6"/>
                    </a:cubicBezTo>
                    <a:cubicBezTo>
                      <a:pt x="17078" y="7"/>
                      <a:pt x="17077" y="8"/>
                      <a:pt x="17076" y="8"/>
                    </a:cubicBezTo>
                    <a:lnTo>
                      <a:pt x="17076" y="8"/>
                    </a:lnTo>
                    <a:cubicBezTo>
                      <a:pt x="17074" y="8"/>
                      <a:pt x="17074" y="7"/>
                      <a:pt x="17074" y="6"/>
                    </a:cubicBezTo>
                    <a:cubicBezTo>
                      <a:pt x="17074" y="5"/>
                      <a:pt x="17074" y="4"/>
                      <a:pt x="17076" y="4"/>
                    </a:cubicBezTo>
                    <a:close/>
                    <a:moveTo>
                      <a:pt x="17084" y="4"/>
                    </a:moveTo>
                    <a:lnTo>
                      <a:pt x="17084" y="4"/>
                    </a:lnTo>
                    <a:cubicBezTo>
                      <a:pt x="17085" y="4"/>
                      <a:pt x="17086" y="5"/>
                      <a:pt x="17086" y="6"/>
                    </a:cubicBezTo>
                    <a:cubicBezTo>
                      <a:pt x="17086" y="7"/>
                      <a:pt x="17085" y="8"/>
                      <a:pt x="17084" y="8"/>
                    </a:cubicBezTo>
                    <a:lnTo>
                      <a:pt x="17084" y="8"/>
                    </a:lnTo>
                    <a:cubicBezTo>
                      <a:pt x="17082" y="8"/>
                      <a:pt x="17082" y="7"/>
                      <a:pt x="17082" y="6"/>
                    </a:cubicBezTo>
                    <a:cubicBezTo>
                      <a:pt x="17082" y="5"/>
                      <a:pt x="17082" y="4"/>
                      <a:pt x="17084" y="4"/>
                    </a:cubicBezTo>
                    <a:close/>
                    <a:moveTo>
                      <a:pt x="17092" y="4"/>
                    </a:moveTo>
                    <a:lnTo>
                      <a:pt x="17092" y="4"/>
                    </a:lnTo>
                    <a:cubicBezTo>
                      <a:pt x="17093" y="4"/>
                      <a:pt x="17094" y="5"/>
                      <a:pt x="17094" y="6"/>
                    </a:cubicBezTo>
                    <a:cubicBezTo>
                      <a:pt x="17094" y="7"/>
                      <a:pt x="17093" y="8"/>
                      <a:pt x="17092" y="8"/>
                    </a:cubicBezTo>
                    <a:lnTo>
                      <a:pt x="17092" y="8"/>
                    </a:lnTo>
                    <a:cubicBezTo>
                      <a:pt x="17090" y="8"/>
                      <a:pt x="17090" y="7"/>
                      <a:pt x="17090" y="6"/>
                    </a:cubicBezTo>
                    <a:cubicBezTo>
                      <a:pt x="17090" y="5"/>
                      <a:pt x="17090" y="4"/>
                      <a:pt x="17092" y="4"/>
                    </a:cubicBezTo>
                    <a:close/>
                    <a:moveTo>
                      <a:pt x="17100" y="4"/>
                    </a:moveTo>
                    <a:lnTo>
                      <a:pt x="17100" y="4"/>
                    </a:lnTo>
                    <a:cubicBezTo>
                      <a:pt x="17101" y="4"/>
                      <a:pt x="17102" y="5"/>
                      <a:pt x="17102" y="6"/>
                    </a:cubicBezTo>
                    <a:cubicBezTo>
                      <a:pt x="17102" y="7"/>
                      <a:pt x="17101" y="8"/>
                      <a:pt x="17100" y="8"/>
                    </a:cubicBezTo>
                    <a:lnTo>
                      <a:pt x="17100" y="8"/>
                    </a:lnTo>
                    <a:cubicBezTo>
                      <a:pt x="17098" y="8"/>
                      <a:pt x="17098" y="7"/>
                      <a:pt x="17098" y="6"/>
                    </a:cubicBezTo>
                    <a:cubicBezTo>
                      <a:pt x="17098" y="5"/>
                      <a:pt x="17098" y="4"/>
                      <a:pt x="17100" y="4"/>
                    </a:cubicBezTo>
                    <a:close/>
                    <a:moveTo>
                      <a:pt x="17108" y="4"/>
                    </a:moveTo>
                    <a:lnTo>
                      <a:pt x="17108" y="4"/>
                    </a:lnTo>
                    <a:cubicBezTo>
                      <a:pt x="17109" y="4"/>
                      <a:pt x="17110" y="5"/>
                      <a:pt x="17110" y="6"/>
                    </a:cubicBezTo>
                    <a:cubicBezTo>
                      <a:pt x="17110" y="7"/>
                      <a:pt x="17109" y="8"/>
                      <a:pt x="17108" y="8"/>
                    </a:cubicBezTo>
                    <a:lnTo>
                      <a:pt x="17108" y="8"/>
                    </a:lnTo>
                    <a:cubicBezTo>
                      <a:pt x="17106" y="8"/>
                      <a:pt x="17106" y="7"/>
                      <a:pt x="17106" y="6"/>
                    </a:cubicBezTo>
                    <a:cubicBezTo>
                      <a:pt x="17106" y="5"/>
                      <a:pt x="17106" y="4"/>
                      <a:pt x="17108" y="4"/>
                    </a:cubicBezTo>
                    <a:close/>
                    <a:moveTo>
                      <a:pt x="17116" y="4"/>
                    </a:moveTo>
                    <a:lnTo>
                      <a:pt x="17116" y="4"/>
                    </a:lnTo>
                    <a:cubicBezTo>
                      <a:pt x="17117" y="4"/>
                      <a:pt x="17118" y="5"/>
                      <a:pt x="17118" y="6"/>
                    </a:cubicBezTo>
                    <a:cubicBezTo>
                      <a:pt x="17118" y="7"/>
                      <a:pt x="17117" y="8"/>
                      <a:pt x="17116" y="8"/>
                    </a:cubicBezTo>
                    <a:lnTo>
                      <a:pt x="17116" y="8"/>
                    </a:lnTo>
                    <a:cubicBezTo>
                      <a:pt x="17114" y="8"/>
                      <a:pt x="17114" y="7"/>
                      <a:pt x="17114" y="6"/>
                    </a:cubicBezTo>
                    <a:cubicBezTo>
                      <a:pt x="17114" y="5"/>
                      <a:pt x="17114" y="4"/>
                      <a:pt x="17116" y="4"/>
                    </a:cubicBezTo>
                    <a:close/>
                    <a:moveTo>
                      <a:pt x="17124" y="4"/>
                    </a:moveTo>
                    <a:lnTo>
                      <a:pt x="17124" y="4"/>
                    </a:lnTo>
                    <a:cubicBezTo>
                      <a:pt x="17125" y="4"/>
                      <a:pt x="17126" y="5"/>
                      <a:pt x="17126" y="6"/>
                    </a:cubicBezTo>
                    <a:cubicBezTo>
                      <a:pt x="17126" y="7"/>
                      <a:pt x="17125" y="8"/>
                      <a:pt x="17124" y="8"/>
                    </a:cubicBezTo>
                    <a:lnTo>
                      <a:pt x="17124" y="8"/>
                    </a:lnTo>
                    <a:cubicBezTo>
                      <a:pt x="17122" y="8"/>
                      <a:pt x="17122" y="7"/>
                      <a:pt x="17122" y="6"/>
                    </a:cubicBezTo>
                    <a:cubicBezTo>
                      <a:pt x="17122" y="5"/>
                      <a:pt x="17122" y="4"/>
                      <a:pt x="17124" y="4"/>
                    </a:cubicBezTo>
                    <a:close/>
                    <a:moveTo>
                      <a:pt x="17132" y="4"/>
                    </a:moveTo>
                    <a:lnTo>
                      <a:pt x="17132" y="4"/>
                    </a:lnTo>
                    <a:cubicBezTo>
                      <a:pt x="17133" y="4"/>
                      <a:pt x="17134" y="5"/>
                      <a:pt x="17134" y="6"/>
                    </a:cubicBezTo>
                    <a:cubicBezTo>
                      <a:pt x="17134" y="7"/>
                      <a:pt x="17133" y="8"/>
                      <a:pt x="17132" y="8"/>
                    </a:cubicBezTo>
                    <a:lnTo>
                      <a:pt x="17132" y="8"/>
                    </a:lnTo>
                    <a:cubicBezTo>
                      <a:pt x="17130" y="8"/>
                      <a:pt x="17130" y="7"/>
                      <a:pt x="17130" y="6"/>
                    </a:cubicBezTo>
                    <a:cubicBezTo>
                      <a:pt x="17130" y="5"/>
                      <a:pt x="17130" y="4"/>
                      <a:pt x="17132" y="4"/>
                    </a:cubicBezTo>
                    <a:close/>
                    <a:moveTo>
                      <a:pt x="17140" y="4"/>
                    </a:moveTo>
                    <a:lnTo>
                      <a:pt x="17140" y="4"/>
                    </a:lnTo>
                    <a:cubicBezTo>
                      <a:pt x="17141" y="4"/>
                      <a:pt x="17142" y="5"/>
                      <a:pt x="17142" y="6"/>
                    </a:cubicBezTo>
                    <a:cubicBezTo>
                      <a:pt x="17142" y="7"/>
                      <a:pt x="17141" y="8"/>
                      <a:pt x="17140" y="8"/>
                    </a:cubicBezTo>
                    <a:lnTo>
                      <a:pt x="17140" y="8"/>
                    </a:lnTo>
                    <a:cubicBezTo>
                      <a:pt x="17138" y="8"/>
                      <a:pt x="17138" y="7"/>
                      <a:pt x="17138" y="6"/>
                    </a:cubicBezTo>
                    <a:cubicBezTo>
                      <a:pt x="17138" y="5"/>
                      <a:pt x="17138" y="4"/>
                      <a:pt x="17140" y="4"/>
                    </a:cubicBezTo>
                    <a:close/>
                    <a:moveTo>
                      <a:pt x="17148" y="4"/>
                    </a:moveTo>
                    <a:lnTo>
                      <a:pt x="17148" y="4"/>
                    </a:lnTo>
                    <a:cubicBezTo>
                      <a:pt x="17149" y="4"/>
                      <a:pt x="17150" y="5"/>
                      <a:pt x="17150" y="6"/>
                    </a:cubicBezTo>
                    <a:cubicBezTo>
                      <a:pt x="17150" y="7"/>
                      <a:pt x="17149" y="8"/>
                      <a:pt x="17148" y="8"/>
                    </a:cubicBezTo>
                    <a:lnTo>
                      <a:pt x="17148" y="8"/>
                    </a:lnTo>
                    <a:cubicBezTo>
                      <a:pt x="17146" y="8"/>
                      <a:pt x="17146" y="7"/>
                      <a:pt x="17146" y="6"/>
                    </a:cubicBezTo>
                    <a:cubicBezTo>
                      <a:pt x="17146" y="5"/>
                      <a:pt x="17146" y="4"/>
                      <a:pt x="17148" y="4"/>
                    </a:cubicBezTo>
                    <a:close/>
                    <a:moveTo>
                      <a:pt x="17156" y="4"/>
                    </a:moveTo>
                    <a:lnTo>
                      <a:pt x="17156" y="4"/>
                    </a:lnTo>
                    <a:cubicBezTo>
                      <a:pt x="17157" y="4"/>
                      <a:pt x="17158" y="5"/>
                      <a:pt x="17158" y="6"/>
                    </a:cubicBezTo>
                    <a:cubicBezTo>
                      <a:pt x="17158" y="7"/>
                      <a:pt x="17157" y="8"/>
                      <a:pt x="17156" y="8"/>
                    </a:cubicBezTo>
                    <a:lnTo>
                      <a:pt x="17156" y="8"/>
                    </a:lnTo>
                    <a:cubicBezTo>
                      <a:pt x="17154" y="8"/>
                      <a:pt x="17154" y="7"/>
                      <a:pt x="17154" y="6"/>
                    </a:cubicBezTo>
                    <a:cubicBezTo>
                      <a:pt x="17154" y="5"/>
                      <a:pt x="17154" y="4"/>
                      <a:pt x="17156" y="4"/>
                    </a:cubicBezTo>
                    <a:close/>
                    <a:moveTo>
                      <a:pt x="17164" y="4"/>
                    </a:moveTo>
                    <a:lnTo>
                      <a:pt x="17164" y="4"/>
                    </a:lnTo>
                    <a:cubicBezTo>
                      <a:pt x="17165" y="4"/>
                      <a:pt x="17166" y="5"/>
                      <a:pt x="17166" y="6"/>
                    </a:cubicBezTo>
                    <a:cubicBezTo>
                      <a:pt x="17166" y="7"/>
                      <a:pt x="17165" y="8"/>
                      <a:pt x="17164" y="8"/>
                    </a:cubicBezTo>
                    <a:lnTo>
                      <a:pt x="17164" y="8"/>
                    </a:lnTo>
                    <a:cubicBezTo>
                      <a:pt x="17162" y="8"/>
                      <a:pt x="17162" y="7"/>
                      <a:pt x="17162" y="6"/>
                    </a:cubicBezTo>
                    <a:cubicBezTo>
                      <a:pt x="17162" y="5"/>
                      <a:pt x="17162" y="4"/>
                      <a:pt x="17164" y="4"/>
                    </a:cubicBezTo>
                    <a:close/>
                    <a:moveTo>
                      <a:pt x="17172" y="4"/>
                    </a:moveTo>
                    <a:lnTo>
                      <a:pt x="17172" y="4"/>
                    </a:lnTo>
                    <a:cubicBezTo>
                      <a:pt x="17173" y="4"/>
                      <a:pt x="17174" y="5"/>
                      <a:pt x="17174" y="6"/>
                    </a:cubicBezTo>
                    <a:cubicBezTo>
                      <a:pt x="17174" y="7"/>
                      <a:pt x="17173" y="8"/>
                      <a:pt x="17172" y="8"/>
                    </a:cubicBezTo>
                    <a:lnTo>
                      <a:pt x="17172" y="8"/>
                    </a:lnTo>
                    <a:cubicBezTo>
                      <a:pt x="17170" y="8"/>
                      <a:pt x="17170" y="7"/>
                      <a:pt x="17170" y="6"/>
                    </a:cubicBezTo>
                    <a:cubicBezTo>
                      <a:pt x="17170" y="5"/>
                      <a:pt x="17170" y="4"/>
                      <a:pt x="17172" y="4"/>
                    </a:cubicBezTo>
                    <a:close/>
                    <a:moveTo>
                      <a:pt x="17180" y="4"/>
                    </a:moveTo>
                    <a:lnTo>
                      <a:pt x="17180" y="4"/>
                    </a:lnTo>
                    <a:cubicBezTo>
                      <a:pt x="17181" y="4"/>
                      <a:pt x="17182" y="5"/>
                      <a:pt x="17182" y="6"/>
                    </a:cubicBezTo>
                    <a:cubicBezTo>
                      <a:pt x="17182" y="7"/>
                      <a:pt x="17181" y="8"/>
                      <a:pt x="17180" y="8"/>
                    </a:cubicBezTo>
                    <a:lnTo>
                      <a:pt x="17180" y="8"/>
                    </a:lnTo>
                    <a:cubicBezTo>
                      <a:pt x="17178" y="8"/>
                      <a:pt x="17178" y="7"/>
                      <a:pt x="17178" y="6"/>
                    </a:cubicBezTo>
                    <a:cubicBezTo>
                      <a:pt x="17178" y="5"/>
                      <a:pt x="17178" y="4"/>
                      <a:pt x="17180" y="4"/>
                    </a:cubicBezTo>
                    <a:close/>
                    <a:moveTo>
                      <a:pt x="17188" y="4"/>
                    </a:moveTo>
                    <a:lnTo>
                      <a:pt x="17188" y="4"/>
                    </a:lnTo>
                    <a:cubicBezTo>
                      <a:pt x="17189" y="4"/>
                      <a:pt x="17190" y="5"/>
                      <a:pt x="17190" y="6"/>
                    </a:cubicBezTo>
                    <a:cubicBezTo>
                      <a:pt x="17190" y="7"/>
                      <a:pt x="17189" y="8"/>
                      <a:pt x="17188" y="8"/>
                    </a:cubicBezTo>
                    <a:lnTo>
                      <a:pt x="17188" y="8"/>
                    </a:lnTo>
                    <a:cubicBezTo>
                      <a:pt x="17187" y="8"/>
                      <a:pt x="17186" y="7"/>
                      <a:pt x="17186" y="6"/>
                    </a:cubicBezTo>
                    <a:cubicBezTo>
                      <a:pt x="17186" y="5"/>
                      <a:pt x="17187" y="4"/>
                      <a:pt x="17188" y="4"/>
                    </a:cubicBezTo>
                    <a:close/>
                    <a:moveTo>
                      <a:pt x="17196" y="4"/>
                    </a:moveTo>
                    <a:lnTo>
                      <a:pt x="17196" y="4"/>
                    </a:lnTo>
                    <a:cubicBezTo>
                      <a:pt x="17197" y="4"/>
                      <a:pt x="17198" y="5"/>
                      <a:pt x="17198" y="6"/>
                    </a:cubicBezTo>
                    <a:cubicBezTo>
                      <a:pt x="17198" y="7"/>
                      <a:pt x="17197" y="8"/>
                      <a:pt x="17196" y="8"/>
                    </a:cubicBezTo>
                    <a:lnTo>
                      <a:pt x="17196" y="8"/>
                    </a:lnTo>
                    <a:cubicBezTo>
                      <a:pt x="17195" y="8"/>
                      <a:pt x="17194" y="7"/>
                      <a:pt x="17194" y="6"/>
                    </a:cubicBezTo>
                    <a:cubicBezTo>
                      <a:pt x="17194" y="5"/>
                      <a:pt x="17195" y="4"/>
                      <a:pt x="17196" y="4"/>
                    </a:cubicBezTo>
                    <a:close/>
                    <a:moveTo>
                      <a:pt x="17204" y="4"/>
                    </a:moveTo>
                    <a:lnTo>
                      <a:pt x="17204" y="4"/>
                    </a:lnTo>
                    <a:cubicBezTo>
                      <a:pt x="17205" y="4"/>
                      <a:pt x="17206" y="5"/>
                      <a:pt x="17206" y="6"/>
                    </a:cubicBezTo>
                    <a:cubicBezTo>
                      <a:pt x="17206" y="7"/>
                      <a:pt x="17205" y="8"/>
                      <a:pt x="17204" y="8"/>
                    </a:cubicBezTo>
                    <a:lnTo>
                      <a:pt x="17204" y="8"/>
                    </a:lnTo>
                    <a:cubicBezTo>
                      <a:pt x="17203" y="8"/>
                      <a:pt x="17202" y="7"/>
                      <a:pt x="17202" y="6"/>
                    </a:cubicBezTo>
                    <a:cubicBezTo>
                      <a:pt x="17202" y="5"/>
                      <a:pt x="17203" y="4"/>
                      <a:pt x="17204" y="4"/>
                    </a:cubicBezTo>
                    <a:close/>
                    <a:moveTo>
                      <a:pt x="17212" y="4"/>
                    </a:moveTo>
                    <a:lnTo>
                      <a:pt x="17212" y="4"/>
                    </a:lnTo>
                    <a:cubicBezTo>
                      <a:pt x="17213" y="4"/>
                      <a:pt x="17214" y="5"/>
                      <a:pt x="17214" y="6"/>
                    </a:cubicBezTo>
                    <a:cubicBezTo>
                      <a:pt x="17214" y="7"/>
                      <a:pt x="17213" y="8"/>
                      <a:pt x="17212" y="8"/>
                    </a:cubicBezTo>
                    <a:lnTo>
                      <a:pt x="17212" y="8"/>
                    </a:lnTo>
                    <a:cubicBezTo>
                      <a:pt x="17211" y="8"/>
                      <a:pt x="17210" y="7"/>
                      <a:pt x="17210" y="6"/>
                    </a:cubicBezTo>
                    <a:cubicBezTo>
                      <a:pt x="17210" y="5"/>
                      <a:pt x="17211" y="4"/>
                      <a:pt x="17212" y="4"/>
                    </a:cubicBezTo>
                    <a:close/>
                    <a:moveTo>
                      <a:pt x="17220" y="4"/>
                    </a:moveTo>
                    <a:lnTo>
                      <a:pt x="17220" y="4"/>
                    </a:lnTo>
                    <a:cubicBezTo>
                      <a:pt x="17221" y="4"/>
                      <a:pt x="17222" y="5"/>
                      <a:pt x="17222" y="6"/>
                    </a:cubicBezTo>
                    <a:cubicBezTo>
                      <a:pt x="17222" y="7"/>
                      <a:pt x="17221" y="8"/>
                      <a:pt x="17220" y="8"/>
                    </a:cubicBezTo>
                    <a:lnTo>
                      <a:pt x="17220" y="8"/>
                    </a:lnTo>
                    <a:cubicBezTo>
                      <a:pt x="17219" y="8"/>
                      <a:pt x="17218" y="7"/>
                      <a:pt x="17218" y="6"/>
                    </a:cubicBezTo>
                    <a:cubicBezTo>
                      <a:pt x="17218" y="5"/>
                      <a:pt x="17219" y="4"/>
                      <a:pt x="17220" y="4"/>
                    </a:cubicBezTo>
                    <a:close/>
                    <a:moveTo>
                      <a:pt x="17228" y="4"/>
                    </a:moveTo>
                    <a:lnTo>
                      <a:pt x="17228" y="4"/>
                    </a:lnTo>
                    <a:cubicBezTo>
                      <a:pt x="17229" y="4"/>
                      <a:pt x="17230" y="5"/>
                      <a:pt x="17230" y="6"/>
                    </a:cubicBezTo>
                    <a:cubicBezTo>
                      <a:pt x="17230" y="7"/>
                      <a:pt x="17229" y="8"/>
                      <a:pt x="17228" y="8"/>
                    </a:cubicBezTo>
                    <a:lnTo>
                      <a:pt x="17228" y="8"/>
                    </a:lnTo>
                    <a:cubicBezTo>
                      <a:pt x="17227" y="8"/>
                      <a:pt x="17226" y="7"/>
                      <a:pt x="17226" y="6"/>
                    </a:cubicBezTo>
                    <a:cubicBezTo>
                      <a:pt x="17226" y="5"/>
                      <a:pt x="17227" y="4"/>
                      <a:pt x="17228" y="4"/>
                    </a:cubicBezTo>
                    <a:close/>
                    <a:moveTo>
                      <a:pt x="17236" y="4"/>
                    </a:moveTo>
                    <a:lnTo>
                      <a:pt x="17236" y="4"/>
                    </a:lnTo>
                    <a:cubicBezTo>
                      <a:pt x="17237" y="4"/>
                      <a:pt x="17238" y="5"/>
                      <a:pt x="17238" y="6"/>
                    </a:cubicBezTo>
                    <a:cubicBezTo>
                      <a:pt x="17238" y="7"/>
                      <a:pt x="17237" y="8"/>
                      <a:pt x="17236" y="8"/>
                    </a:cubicBezTo>
                    <a:lnTo>
                      <a:pt x="17236" y="8"/>
                    </a:lnTo>
                    <a:cubicBezTo>
                      <a:pt x="17235" y="8"/>
                      <a:pt x="17234" y="7"/>
                      <a:pt x="17234" y="6"/>
                    </a:cubicBezTo>
                    <a:cubicBezTo>
                      <a:pt x="17234" y="5"/>
                      <a:pt x="17235" y="4"/>
                      <a:pt x="17236" y="4"/>
                    </a:cubicBezTo>
                    <a:close/>
                    <a:moveTo>
                      <a:pt x="17244" y="4"/>
                    </a:moveTo>
                    <a:lnTo>
                      <a:pt x="17244" y="4"/>
                    </a:lnTo>
                    <a:cubicBezTo>
                      <a:pt x="17245" y="4"/>
                      <a:pt x="17246" y="5"/>
                      <a:pt x="17246" y="6"/>
                    </a:cubicBezTo>
                    <a:cubicBezTo>
                      <a:pt x="17246" y="7"/>
                      <a:pt x="17245" y="8"/>
                      <a:pt x="17244" y="8"/>
                    </a:cubicBezTo>
                    <a:lnTo>
                      <a:pt x="17244" y="8"/>
                    </a:lnTo>
                    <a:cubicBezTo>
                      <a:pt x="17243" y="8"/>
                      <a:pt x="17242" y="7"/>
                      <a:pt x="17242" y="6"/>
                    </a:cubicBezTo>
                    <a:cubicBezTo>
                      <a:pt x="17242" y="5"/>
                      <a:pt x="17243" y="4"/>
                      <a:pt x="17244" y="4"/>
                    </a:cubicBezTo>
                    <a:close/>
                    <a:moveTo>
                      <a:pt x="17252" y="4"/>
                    </a:moveTo>
                    <a:lnTo>
                      <a:pt x="17252" y="4"/>
                    </a:lnTo>
                    <a:cubicBezTo>
                      <a:pt x="17253" y="4"/>
                      <a:pt x="17254" y="5"/>
                      <a:pt x="17254" y="6"/>
                    </a:cubicBezTo>
                    <a:cubicBezTo>
                      <a:pt x="17254" y="7"/>
                      <a:pt x="17253" y="8"/>
                      <a:pt x="17252" y="8"/>
                    </a:cubicBezTo>
                    <a:lnTo>
                      <a:pt x="17252" y="8"/>
                    </a:lnTo>
                    <a:cubicBezTo>
                      <a:pt x="17251" y="8"/>
                      <a:pt x="17250" y="7"/>
                      <a:pt x="17250" y="6"/>
                    </a:cubicBezTo>
                    <a:cubicBezTo>
                      <a:pt x="17250" y="5"/>
                      <a:pt x="17251" y="4"/>
                      <a:pt x="17252" y="4"/>
                    </a:cubicBezTo>
                    <a:close/>
                    <a:moveTo>
                      <a:pt x="17260" y="4"/>
                    </a:moveTo>
                    <a:lnTo>
                      <a:pt x="17260" y="4"/>
                    </a:lnTo>
                    <a:cubicBezTo>
                      <a:pt x="17261" y="4"/>
                      <a:pt x="17262" y="5"/>
                      <a:pt x="17262" y="6"/>
                    </a:cubicBezTo>
                    <a:cubicBezTo>
                      <a:pt x="17262" y="7"/>
                      <a:pt x="17261" y="8"/>
                      <a:pt x="17260" y="8"/>
                    </a:cubicBezTo>
                    <a:lnTo>
                      <a:pt x="17260" y="8"/>
                    </a:lnTo>
                    <a:cubicBezTo>
                      <a:pt x="17259" y="8"/>
                      <a:pt x="17258" y="7"/>
                      <a:pt x="17258" y="6"/>
                    </a:cubicBezTo>
                    <a:cubicBezTo>
                      <a:pt x="17258" y="5"/>
                      <a:pt x="17259" y="4"/>
                      <a:pt x="17260" y="4"/>
                    </a:cubicBezTo>
                    <a:close/>
                    <a:moveTo>
                      <a:pt x="17268" y="4"/>
                    </a:moveTo>
                    <a:lnTo>
                      <a:pt x="17268" y="4"/>
                    </a:lnTo>
                    <a:cubicBezTo>
                      <a:pt x="17269" y="4"/>
                      <a:pt x="17270" y="5"/>
                      <a:pt x="17270" y="6"/>
                    </a:cubicBezTo>
                    <a:cubicBezTo>
                      <a:pt x="17270" y="7"/>
                      <a:pt x="17269" y="8"/>
                      <a:pt x="17268" y="8"/>
                    </a:cubicBezTo>
                    <a:lnTo>
                      <a:pt x="17268" y="8"/>
                    </a:lnTo>
                    <a:cubicBezTo>
                      <a:pt x="17267" y="8"/>
                      <a:pt x="17266" y="7"/>
                      <a:pt x="17266" y="6"/>
                    </a:cubicBezTo>
                    <a:cubicBezTo>
                      <a:pt x="17266" y="5"/>
                      <a:pt x="17267" y="4"/>
                      <a:pt x="17268" y="4"/>
                    </a:cubicBezTo>
                    <a:close/>
                    <a:moveTo>
                      <a:pt x="17276" y="4"/>
                    </a:moveTo>
                    <a:lnTo>
                      <a:pt x="17276" y="4"/>
                    </a:lnTo>
                    <a:cubicBezTo>
                      <a:pt x="17277" y="4"/>
                      <a:pt x="17278" y="5"/>
                      <a:pt x="17278" y="6"/>
                    </a:cubicBezTo>
                    <a:cubicBezTo>
                      <a:pt x="17278" y="7"/>
                      <a:pt x="17277" y="8"/>
                      <a:pt x="17276" y="8"/>
                    </a:cubicBezTo>
                    <a:lnTo>
                      <a:pt x="17276" y="8"/>
                    </a:lnTo>
                    <a:cubicBezTo>
                      <a:pt x="17275" y="8"/>
                      <a:pt x="17274" y="7"/>
                      <a:pt x="17274" y="6"/>
                    </a:cubicBezTo>
                    <a:cubicBezTo>
                      <a:pt x="17274" y="5"/>
                      <a:pt x="17275" y="4"/>
                      <a:pt x="17276" y="4"/>
                    </a:cubicBezTo>
                    <a:close/>
                    <a:moveTo>
                      <a:pt x="17284" y="4"/>
                    </a:moveTo>
                    <a:lnTo>
                      <a:pt x="17284" y="4"/>
                    </a:lnTo>
                    <a:cubicBezTo>
                      <a:pt x="17285" y="4"/>
                      <a:pt x="17286" y="5"/>
                      <a:pt x="17286" y="6"/>
                    </a:cubicBezTo>
                    <a:cubicBezTo>
                      <a:pt x="17286" y="7"/>
                      <a:pt x="17285" y="8"/>
                      <a:pt x="17284" y="8"/>
                    </a:cubicBezTo>
                    <a:lnTo>
                      <a:pt x="17284" y="8"/>
                    </a:lnTo>
                    <a:cubicBezTo>
                      <a:pt x="17283" y="8"/>
                      <a:pt x="17282" y="7"/>
                      <a:pt x="17282" y="6"/>
                    </a:cubicBezTo>
                    <a:cubicBezTo>
                      <a:pt x="17282" y="5"/>
                      <a:pt x="17283" y="4"/>
                      <a:pt x="17284" y="4"/>
                    </a:cubicBezTo>
                    <a:close/>
                    <a:moveTo>
                      <a:pt x="17292" y="4"/>
                    </a:moveTo>
                    <a:lnTo>
                      <a:pt x="17292" y="4"/>
                    </a:lnTo>
                    <a:cubicBezTo>
                      <a:pt x="17293" y="4"/>
                      <a:pt x="17294" y="5"/>
                      <a:pt x="17294" y="6"/>
                    </a:cubicBezTo>
                    <a:cubicBezTo>
                      <a:pt x="17294" y="7"/>
                      <a:pt x="17293" y="8"/>
                      <a:pt x="17292" y="8"/>
                    </a:cubicBezTo>
                    <a:lnTo>
                      <a:pt x="17292" y="8"/>
                    </a:lnTo>
                    <a:cubicBezTo>
                      <a:pt x="17291" y="8"/>
                      <a:pt x="17290" y="7"/>
                      <a:pt x="17290" y="6"/>
                    </a:cubicBezTo>
                    <a:cubicBezTo>
                      <a:pt x="17290" y="5"/>
                      <a:pt x="17291" y="4"/>
                      <a:pt x="17292" y="4"/>
                    </a:cubicBezTo>
                    <a:close/>
                    <a:moveTo>
                      <a:pt x="17300" y="4"/>
                    </a:moveTo>
                    <a:lnTo>
                      <a:pt x="17300" y="4"/>
                    </a:lnTo>
                    <a:cubicBezTo>
                      <a:pt x="17301" y="4"/>
                      <a:pt x="17302" y="5"/>
                      <a:pt x="17302" y="6"/>
                    </a:cubicBezTo>
                    <a:cubicBezTo>
                      <a:pt x="17302" y="7"/>
                      <a:pt x="17301" y="8"/>
                      <a:pt x="17300" y="8"/>
                    </a:cubicBezTo>
                    <a:lnTo>
                      <a:pt x="17300" y="8"/>
                    </a:lnTo>
                    <a:cubicBezTo>
                      <a:pt x="17299" y="8"/>
                      <a:pt x="17298" y="7"/>
                      <a:pt x="17298" y="6"/>
                    </a:cubicBezTo>
                    <a:cubicBezTo>
                      <a:pt x="17298" y="5"/>
                      <a:pt x="17299" y="4"/>
                      <a:pt x="17300" y="4"/>
                    </a:cubicBezTo>
                    <a:close/>
                    <a:moveTo>
                      <a:pt x="17308" y="4"/>
                    </a:moveTo>
                    <a:lnTo>
                      <a:pt x="17308" y="4"/>
                    </a:lnTo>
                    <a:cubicBezTo>
                      <a:pt x="17309" y="4"/>
                      <a:pt x="17310" y="5"/>
                      <a:pt x="17310" y="6"/>
                    </a:cubicBezTo>
                    <a:cubicBezTo>
                      <a:pt x="17310" y="7"/>
                      <a:pt x="17309" y="8"/>
                      <a:pt x="17308" y="8"/>
                    </a:cubicBezTo>
                    <a:lnTo>
                      <a:pt x="17308" y="8"/>
                    </a:lnTo>
                    <a:cubicBezTo>
                      <a:pt x="17307" y="8"/>
                      <a:pt x="17306" y="7"/>
                      <a:pt x="17306" y="6"/>
                    </a:cubicBezTo>
                    <a:cubicBezTo>
                      <a:pt x="17306" y="5"/>
                      <a:pt x="17307" y="4"/>
                      <a:pt x="17308" y="4"/>
                    </a:cubicBezTo>
                    <a:close/>
                    <a:moveTo>
                      <a:pt x="17316" y="4"/>
                    </a:moveTo>
                    <a:lnTo>
                      <a:pt x="17316" y="4"/>
                    </a:lnTo>
                    <a:cubicBezTo>
                      <a:pt x="17317" y="4"/>
                      <a:pt x="17318" y="5"/>
                      <a:pt x="17318" y="6"/>
                    </a:cubicBezTo>
                    <a:cubicBezTo>
                      <a:pt x="17318" y="7"/>
                      <a:pt x="17317" y="8"/>
                      <a:pt x="17316" y="8"/>
                    </a:cubicBezTo>
                    <a:lnTo>
                      <a:pt x="17316" y="8"/>
                    </a:lnTo>
                    <a:cubicBezTo>
                      <a:pt x="17315" y="8"/>
                      <a:pt x="17314" y="7"/>
                      <a:pt x="17314" y="6"/>
                    </a:cubicBezTo>
                    <a:cubicBezTo>
                      <a:pt x="17314" y="5"/>
                      <a:pt x="17315" y="4"/>
                      <a:pt x="17316" y="4"/>
                    </a:cubicBezTo>
                    <a:close/>
                    <a:moveTo>
                      <a:pt x="17324" y="4"/>
                    </a:moveTo>
                    <a:lnTo>
                      <a:pt x="17324" y="4"/>
                    </a:lnTo>
                    <a:cubicBezTo>
                      <a:pt x="17325" y="4"/>
                      <a:pt x="17326" y="5"/>
                      <a:pt x="17326" y="6"/>
                    </a:cubicBezTo>
                    <a:cubicBezTo>
                      <a:pt x="17326" y="7"/>
                      <a:pt x="17325" y="8"/>
                      <a:pt x="17324" y="8"/>
                    </a:cubicBezTo>
                    <a:lnTo>
                      <a:pt x="17324" y="8"/>
                    </a:lnTo>
                    <a:cubicBezTo>
                      <a:pt x="17323" y="8"/>
                      <a:pt x="17322" y="7"/>
                      <a:pt x="17322" y="6"/>
                    </a:cubicBezTo>
                    <a:cubicBezTo>
                      <a:pt x="17322" y="5"/>
                      <a:pt x="17323" y="4"/>
                      <a:pt x="17324" y="4"/>
                    </a:cubicBezTo>
                    <a:close/>
                    <a:moveTo>
                      <a:pt x="17332" y="4"/>
                    </a:moveTo>
                    <a:lnTo>
                      <a:pt x="17332" y="4"/>
                    </a:lnTo>
                    <a:cubicBezTo>
                      <a:pt x="17333" y="4"/>
                      <a:pt x="17334" y="5"/>
                      <a:pt x="17334" y="6"/>
                    </a:cubicBezTo>
                    <a:cubicBezTo>
                      <a:pt x="17334" y="7"/>
                      <a:pt x="17333" y="8"/>
                      <a:pt x="17332" y="8"/>
                    </a:cubicBezTo>
                    <a:lnTo>
                      <a:pt x="17332" y="8"/>
                    </a:lnTo>
                    <a:cubicBezTo>
                      <a:pt x="17331" y="8"/>
                      <a:pt x="17330" y="7"/>
                      <a:pt x="17330" y="6"/>
                    </a:cubicBezTo>
                    <a:cubicBezTo>
                      <a:pt x="17330" y="5"/>
                      <a:pt x="17331" y="4"/>
                      <a:pt x="17332" y="4"/>
                    </a:cubicBezTo>
                    <a:close/>
                    <a:moveTo>
                      <a:pt x="17340" y="4"/>
                    </a:moveTo>
                    <a:lnTo>
                      <a:pt x="17340" y="4"/>
                    </a:lnTo>
                    <a:cubicBezTo>
                      <a:pt x="17341" y="4"/>
                      <a:pt x="17342" y="5"/>
                      <a:pt x="17342" y="6"/>
                    </a:cubicBezTo>
                    <a:cubicBezTo>
                      <a:pt x="17342" y="7"/>
                      <a:pt x="17341" y="8"/>
                      <a:pt x="17340" y="8"/>
                    </a:cubicBezTo>
                    <a:lnTo>
                      <a:pt x="17340" y="8"/>
                    </a:lnTo>
                    <a:cubicBezTo>
                      <a:pt x="17339" y="8"/>
                      <a:pt x="17338" y="7"/>
                      <a:pt x="17338" y="6"/>
                    </a:cubicBezTo>
                    <a:cubicBezTo>
                      <a:pt x="17338" y="5"/>
                      <a:pt x="17339" y="4"/>
                      <a:pt x="17340" y="4"/>
                    </a:cubicBezTo>
                    <a:close/>
                    <a:moveTo>
                      <a:pt x="17348" y="4"/>
                    </a:moveTo>
                    <a:lnTo>
                      <a:pt x="17348" y="4"/>
                    </a:lnTo>
                    <a:cubicBezTo>
                      <a:pt x="17349" y="4"/>
                      <a:pt x="17350" y="5"/>
                      <a:pt x="17350" y="6"/>
                    </a:cubicBezTo>
                    <a:cubicBezTo>
                      <a:pt x="17350" y="7"/>
                      <a:pt x="17349" y="8"/>
                      <a:pt x="17348" y="8"/>
                    </a:cubicBezTo>
                    <a:lnTo>
                      <a:pt x="17348" y="8"/>
                    </a:lnTo>
                    <a:cubicBezTo>
                      <a:pt x="17347" y="8"/>
                      <a:pt x="17346" y="7"/>
                      <a:pt x="17346" y="6"/>
                    </a:cubicBezTo>
                    <a:cubicBezTo>
                      <a:pt x="17346" y="5"/>
                      <a:pt x="17347" y="4"/>
                      <a:pt x="17348" y="4"/>
                    </a:cubicBezTo>
                    <a:close/>
                    <a:moveTo>
                      <a:pt x="17356" y="4"/>
                    </a:moveTo>
                    <a:lnTo>
                      <a:pt x="17356" y="4"/>
                    </a:lnTo>
                    <a:cubicBezTo>
                      <a:pt x="17357" y="4"/>
                      <a:pt x="17358" y="5"/>
                      <a:pt x="17358" y="6"/>
                    </a:cubicBezTo>
                    <a:cubicBezTo>
                      <a:pt x="17358" y="7"/>
                      <a:pt x="17357" y="8"/>
                      <a:pt x="17356" y="8"/>
                    </a:cubicBezTo>
                    <a:lnTo>
                      <a:pt x="17356" y="8"/>
                    </a:lnTo>
                    <a:cubicBezTo>
                      <a:pt x="17355" y="8"/>
                      <a:pt x="17354" y="7"/>
                      <a:pt x="17354" y="6"/>
                    </a:cubicBezTo>
                    <a:cubicBezTo>
                      <a:pt x="17354" y="5"/>
                      <a:pt x="17355" y="4"/>
                      <a:pt x="17356" y="4"/>
                    </a:cubicBezTo>
                    <a:close/>
                    <a:moveTo>
                      <a:pt x="17364" y="4"/>
                    </a:moveTo>
                    <a:lnTo>
                      <a:pt x="17364" y="4"/>
                    </a:lnTo>
                    <a:cubicBezTo>
                      <a:pt x="17365" y="4"/>
                      <a:pt x="17366" y="5"/>
                      <a:pt x="17366" y="6"/>
                    </a:cubicBezTo>
                    <a:cubicBezTo>
                      <a:pt x="17366" y="7"/>
                      <a:pt x="17365" y="8"/>
                      <a:pt x="17364" y="8"/>
                    </a:cubicBezTo>
                    <a:lnTo>
                      <a:pt x="17364" y="8"/>
                    </a:lnTo>
                    <a:cubicBezTo>
                      <a:pt x="17363" y="8"/>
                      <a:pt x="17362" y="7"/>
                      <a:pt x="17362" y="6"/>
                    </a:cubicBezTo>
                    <a:cubicBezTo>
                      <a:pt x="17362" y="5"/>
                      <a:pt x="17363" y="4"/>
                      <a:pt x="17364" y="4"/>
                    </a:cubicBezTo>
                    <a:close/>
                    <a:moveTo>
                      <a:pt x="17372" y="4"/>
                    </a:moveTo>
                    <a:lnTo>
                      <a:pt x="17372" y="4"/>
                    </a:lnTo>
                    <a:cubicBezTo>
                      <a:pt x="17373" y="4"/>
                      <a:pt x="17374" y="5"/>
                      <a:pt x="17374" y="6"/>
                    </a:cubicBezTo>
                    <a:cubicBezTo>
                      <a:pt x="17374" y="7"/>
                      <a:pt x="17373" y="8"/>
                      <a:pt x="17372" y="8"/>
                    </a:cubicBezTo>
                    <a:lnTo>
                      <a:pt x="17372" y="8"/>
                    </a:lnTo>
                    <a:cubicBezTo>
                      <a:pt x="17371" y="8"/>
                      <a:pt x="17370" y="7"/>
                      <a:pt x="17370" y="6"/>
                    </a:cubicBezTo>
                    <a:cubicBezTo>
                      <a:pt x="17370" y="5"/>
                      <a:pt x="17371" y="4"/>
                      <a:pt x="17372" y="4"/>
                    </a:cubicBezTo>
                    <a:close/>
                    <a:moveTo>
                      <a:pt x="17380" y="4"/>
                    </a:moveTo>
                    <a:lnTo>
                      <a:pt x="17380" y="4"/>
                    </a:lnTo>
                    <a:cubicBezTo>
                      <a:pt x="17381" y="4"/>
                      <a:pt x="17382" y="5"/>
                      <a:pt x="17382" y="6"/>
                    </a:cubicBezTo>
                    <a:cubicBezTo>
                      <a:pt x="17382" y="7"/>
                      <a:pt x="17381" y="8"/>
                      <a:pt x="17380" y="8"/>
                    </a:cubicBezTo>
                    <a:lnTo>
                      <a:pt x="17380" y="8"/>
                    </a:lnTo>
                    <a:cubicBezTo>
                      <a:pt x="17379" y="8"/>
                      <a:pt x="17378" y="7"/>
                      <a:pt x="17378" y="6"/>
                    </a:cubicBezTo>
                    <a:cubicBezTo>
                      <a:pt x="17378" y="5"/>
                      <a:pt x="17379" y="4"/>
                      <a:pt x="17380" y="4"/>
                    </a:cubicBezTo>
                    <a:close/>
                    <a:moveTo>
                      <a:pt x="17388" y="4"/>
                    </a:moveTo>
                    <a:lnTo>
                      <a:pt x="17388" y="4"/>
                    </a:lnTo>
                    <a:cubicBezTo>
                      <a:pt x="17389" y="4"/>
                      <a:pt x="17390" y="5"/>
                      <a:pt x="17390" y="6"/>
                    </a:cubicBezTo>
                    <a:cubicBezTo>
                      <a:pt x="17390" y="7"/>
                      <a:pt x="17389" y="8"/>
                      <a:pt x="17388" y="8"/>
                    </a:cubicBezTo>
                    <a:lnTo>
                      <a:pt x="17388" y="8"/>
                    </a:lnTo>
                    <a:cubicBezTo>
                      <a:pt x="17387" y="8"/>
                      <a:pt x="17386" y="7"/>
                      <a:pt x="17386" y="6"/>
                    </a:cubicBezTo>
                    <a:cubicBezTo>
                      <a:pt x="17386" y="5"/>
                      <a:pt x="17387" y="4"/>
                      <a:pt x="17388" y="4"/>
                    </a:cubicBezTo>
                    <a:close/>
                    <a:moveTo>
                      <a:pt x="17396" y="4"/>
                    </a:moveTo>
                    <a:lnTo>
                      <a:pt x="17396" y="4"/>
                    </a:lnTo>
                    <a:cubicBezTo>
                      <a:pt x="17397" y="4"/>
                      <a:pt x="17398" y="5"/>
                      <a:pt x="17398" y="6"/>
                    </a:cubicBezTo>
                    <a:cubicBezTo>
                      <a:pt x="17398" y="7"/>
                      <a:pt x="17397" y="8"/>
                      <a:pt x="17396" y="8"/>
                    </a:cubicBezTo>
                    <a:lnTo>
                      <a:pt x="17396" y="8"/>
                    </a:lnTo>
                    <a:cubicBezTo>
                      <a:pt x="17395" y="8"/>
                      <a:pt x="17394" y="7"/>
                      <a:pt x="17394" y="6"/>
                    </a:cubicBezTo>
                    <a:cubicBezTo>
                      <a:pt x="17394" y="5"/>
                      <a:pt x="17395" y="4"/>
                      <a:pt x="17396" y="4"/>
                    </a:cubicBezTo>
                    <a:close/>
                    <a:moveTo>
                      <a:pt x="17404" y="4"/>
                    </a:moveTo>
                    <a:lnTo>
                      <a:pt x="17404" y="4"/>
                    </a:lnTo>
                    <a:cubicBezTo>
                      <a:pt x="17405" y="4"/>
                      <a:pt x="17406" y="5"/>
                      <a:pt x="17406" y="6"/>
                    </a:cubicBezTo>
                    <a:cubicBezTo>
                      <a:pt x="17406" y="7"/>
                      <a:pt x="17405" y="8"/>
                      <a:pt x="17404" y="8"/>
                    </a:cubicBezTo>
                    <a:lnTo>
                      <a:pt x="17404" y="8"/>
                    </a:lnTo>
                    <a:cubicBezTo>
                      <a:pt x="17403" y="8"/>
                      <a:pt x="17402" y="7"/>
                      <a:pt x="17402" y="6"/>
                    </a:cubicBezTo>
                    <a:cubicBezTo>
                      <a:pt x="17402" y="5"/>
                      <a:pt x="17403" y="4"/>
                      <a:pt x="17404" y="4"/>
                    </a:cubicBezTo>
                    <a:close/>
                    <a:moveTo>
                      <a:pt x="17412" y="4"/>
                    </a:moveTo>
                    <a:lnTo>
                      <a:pt x="17412" y="4"/>
                    </a:lnTo>
                    <a:cubicBezTo>
                      <a:pt x="17413" y="4"/>
                      <a:pt x="17414" y="5"/>
                      <a:pt x="17414" y="6"/>
                    </a:cubicBezTo>
                    <a:cubicBezTo>
                      <a:pt x="17414" y="7"/>
                      <a:pt x="17413" y="8"/>
                      <a:pt x="17412" y="8"/>
                    </a:cubicBezTo>
                    <a:lnTo>
                      <a:pt x="17412" y="8"/>
                    </a:lnTo>
                    <a:cubicBezTo>
                      <a:pt x="17411" y="8"/>
                      <a:pt x="17410" y="7"/>
                      <a:pt x="17410" y="6"/>
                    </a:cubicBezTo>
                    <a:cubicBezTo>
                      <a:pt x="17410" y="5"/>
                      <a:pt x="17411" y="4"/>
                      <a:pt x="17412" y="4"/>
                    </a:cubicBezTo>
                    <a:close/>
                    <a:moveTo>
                      <a:pt x="17420" y="4"/>
                    </a:moveTo>
                    <a:lnTo>
                      <a:pt x="17420" y="4"/>
                    </a:lnTo>
                    <a:cubicBezTo>
                      <a:pt x="17421" y="4"/>
                      <a:pt x="17422" y="5"/>
                      <a:pt x="17422" y="6"/>
                    </a:cubicBezTo>
                    <a:cubicBezTo>
                      <a:pt x="17422" y="7"/>
                      <a:pt x="17421" y="8"/>
                      <a:pt x="17420" y="8"/>
                    </a:cubicBezTo>
                    <a:lnTo>
                      <a:pt x="17420" y="8"/>
                    </a:lnTo>
                    <a:cubicBezTo>
                      <a:pt x="17419" y="8"/>
                      <a:pt x="17418" y="7"/>
                      <a:pt x="17418" y="6"/>
                    </a:cubicBezTo>
                    <a:cubicBezTo>
                      <a:pt x="17418" y="5"/>
                      <a:pt x="17419" y="4"/>
                      <a:pt x="17420" y="4"/>
                    </a:cubicBezTo>
                    <a:close/>
                    <a:moveTo>
                      <a:pt x="17428" y="4"/>
                    </a:moveTo>
                    <a:lnTo>
                      <a:pt x="17428" y="4"/>
                    </a:lnTo>
                    <a:cubicBezTo>
                      <a:pt x="17429" y="4"/>
                      <a:pt x="17430" y="5"/>
                      <a:pt x="17430" y="6"/>
                    </a:cubicBezTo>
                    <a:cubicBezTo>
                      <a:pt x="17430" y="7"/>
                      <a:pt x="17429" y="8"/>
                      <a:pt x="17428" y="8"/>
                    </a:cubicBezTo>
                    <a:lnTo>
                      <a:pt x="17428" y="8"/>
                    </a:lnTo>
                    <a:cubicBezTo>
                      <a:pt x="17427" y="8"/>
                      <a:pt x="17426" y="7"/>
                      <a:pt x="17426" y="6"/>
                    </a:cubicBezTo>
                    <a:cubicBezTo>
                      <a:pt x="17426" y="5"/>
                      <a:pt x="17427" y="4"/>
                      <a:pt x="17428" y="4"/>
                    </a:cubicBezTo>
                    <a:close/>
                    <a:moveTo>
                      <a:pt x="17436" y="4"/>
                    </a:moveTo>
                    <a:lnTo>
                      <a:pt x="17436" y="4"/>
                    </a:lnTo>
                    <a:cubicBezTo>
                      <a:pt x="17437" y="4"/>
                      <a:pt x="17438" y="5"/>
                      <a:pt x="17438" y="6"/>
                    </a:cubicBezTo>
                    <a:cubicBezTo>
                      <a:pt x="17438" y="7"/>
                      <a:pt x="17437" y="8"/>
                      <a:pt x="17436" y="8"/>
                    </a:cubicBezTo>
                    <a:lnTo>
                      <a:pt x="17436" y="8"/>
                    </a:lnTo>
                    <a:cubicBezTo>
                      <a:pt x="17435" y="8"/>
                      <a:pt x="17434" y="7"/>
                      <a:pt x="17434" y="6"/>
                    </a:cubicBezTo>
                    <a:cubicBezTo>
                      <a:pt x="17434" y="5"/>
                      <a:pt x="17435" y="4"/>
                      <a:pt x="17436" y="4"/>
                    </a:cubicBezTo>
                    <a:close/>
                    <a:moveTo>
                      <a:pt x="17444" y="4"/>
                    </a:moveTo>
                    <a:lnTo>
                      <a:pt x="17444" y="4"/>
                    </a:lnTo>
                    <a:cubicBezTo>
                      <a:pt x="17445" y="4"/>
                      <a:pt x="17446" y="5"/>
                      <a:pt x="17446" y="6"/>
                    </a:cubicBezTo>
                    <a:cubicBezTo>
                      <a:pt x="17446" y="7"/>
                      <a:pt x="17445" y="8"/>
                      <a:pt x="17444" y="8"/>
                    </a:cubicBezTo>
                    <a:lnTo>
                      <a:pt x="17444" y="8"/>
                    </a:lnTo>
                    <a:cubicBezTo>
                      <a:pt x="17443" y="8"/>
                      <a:pt x="17442" y="7"/>
                      <a:pt x="17442" y="6"/>
                    </a:cubicBezTo>
                    <a:cubicBezTo>
                      <a:pt x="17442" y="5"/>
                      <a:pt x="17443" y="4"/>
                      <a:pt x="17444" y="4"/>
                    </a:cubicBezTo>
                    <a:close/>
                    <a:moveTo>
                      <a:pt x="17452" y="4"/>
                    </a:moveTo>
                    <a:lnTo>
                      <a:pt x="17452" y="4"/>
                    </a:lnTo>
                    <a:cubicBezTo>
                      <a:pt x="17453" y="4"/>
                      <a:pt x="17454" y="5"/>
                      <a:pt x="17454" y="6"/>
                    </a:cubicBezTo>
                    <a:cubicBezTo>
                      <a:pt x="17454" y="7"/>
                      <a:pt x="17453" y="8"/>
                      <a:pt x="17452" y="8"/>
                    </a:cubicBezTo>
                    <a:lnTo>
                      <a:pt x="17452" y="8"/>
                    </a:lnTo>
                    <a:cubicBezTo>
                      <a:pt x="17451" y="8"/>
                      <a:pt x="17450" y="7"/>
                      <a:pt x="17450" y="6"/>
                    </a:cubicBezTo>
                    <a:cubicBezTo>
                      <a:pt x="17450" y="5"/>
                      <a:pt x="17451" y="4"/>
                      <a:pt x="17452" y="4"/>
                    </a:cubicBezTo>
                    <a:close/>
                    <a:moveTo>
                      <a:pt x="17460" y="4"/>
                    </a:moveTo>
                    <a:lnTo>
                      <a:pt x="17460" y="4"/>
                    </a:lnTo>
                    <a:cubicBezTo>
                      <a:pt x="17461" y="4"/>
                      <a:pt x="17462" y="5"/>
                      <a:pt x="17462" y="6"/>
                    </a:cubicBezTo>
                    <a:cubicBezTo>
                      <a:pt x="17462" y="7"/>
                      <a:pt x="17461" y="8"/>
                      <a:pt x="17460" y="8"/>
                    </a:cubicBezTo>
                    <a:lnTo>
                      <a:pt x="17460" y="8"/>
                    </a:lnTo>
                    <a:cubicBezTo>
                      <a:pt x="17459" y="8"/>
                      <a:pt x="17458" y="7"/>
                      <a:pt x="17458" y="6"/>
                    </a:cubicBezTo>
                    <a:cubicBezTo>
                      <a:pt x="17458" y="5"/>
                      <a:pt x="17459" y="4"/>
                      <a:pt x="17460" y="4"/>
                    </a:cubicBezTo>
                    <a:close/>
                    <a:moveTo>
                      <a:pt x="17468" y="4"/>
                    </a:moveTo>
                    <a:lnTo>
                      <a:pt x="17468" y="4"/>
                    </a:lnTo>
                    <a:cubicBezTo>
                      <a:pt x="17469" y="4"/>
                      <a:pt x="17470" y="5"/>
                      <a:pt x="17470" y="6"/>
                    </a:cubicBezTo>
                    <a:cubicBezTo>
                      <a:pt x="17470" y="7"/>
                      <a:pt x="17469" y="8"/>
                      <a:pt x="17468" y="8"/>
                    </a:cubicBezTo>
                    <a:lnTo>
                      <a:pt x="17468" y="8"/>
                    </a:lnTo>
                    <a:cubicBezTo>
                      <a:pt x="17467" y="8"/>
                      <a:pt x="17466" y="7"/>
                      <a:pt x="17466" y="6"/>
                    </a:cubicBezTo>
                    <a:cubicBezTo>
                      <a:pt x="17466" y="5"/>
                      <a:pt x="17467" y="4"/>
                      <a:pt x="17468" y="4"/>
                    </a:cubicBezTo>
                    <a:close/>
                    <a:moveTo>
                      <a:pt x="17476" y="4"/>
                    </a:moveTo>
                    <a:lnTo>
                      <a:pt x="17476" y="4"/>
                    </a:lnTo>
                    <a:cubicBezTo>
                      <a:pt x="17477" y="4"/>
                      <a:pt x="17478" y="5"/>
                      <a:pt x="17478" y="6"/>
                    </a:cubicBezTo>
                    <a:cubicBezTo>
                      <a:pt x="17478" y="7"/>
                      <a:pt x="17477" y="8"/>
                      <a:pt x="17476" y="8"/>
                    </a:cubicBezTo>
                    <a:lnTo>
                      <a:pt x="17476" y="8"/>
                    </a:lnTo>
                    <a:cubicBezTo>
                      <a:pt x="17475" y="8"/>
                      <a:pt x="17474" y="7"/>
                      <a:pt x="17474" y="6"/>
                    </a:cubicBezTo>
                    <a:cubicBezTo>
                      <a:pt x="17474" y="5"/>
                      <a:pt x="17475" y="4"/>
                      <a:pt x="17476" y="4"/>
                    </a:cubicBezTo>
                    <a:close/>
                    <a:moveTo>
                      <a:pt x="17484" y="4"/>
                    </a:moveTo>
                    <a:lnTo>
                      <a:pt x="17484" y="4"/>
                    </a:lnTo>
                    <a:cubicBezTo>
                      <a:pt x="17485" y="4"/>
                      <a:pt x="17486" y="5"/>
                      <a:pt x="17486" y="6"/>
                    </a:cubicBezTo>
                    <a:cubicBezTo>
                      <a:pt x="17486" y="7"/>
                      <a:pt x="17485" y="8"/>
                      <a:pt x="17484" y="8"/>
                    </a:cubicBezTo>
                    <a:lnTo>
                      <a:pt x="17484" y="8"/>
                    </a:lnTo>
                    <a:cubicBezTo>
                      <a:pt x="17483" y="8"/>
                      <a:pt x="17482" y="7"/>
                      <a:pt x="17482" y="6"/>
                    </a:cubicBezTo>
                    <a:cubicBezTo>
                      <a:pt x="17482" y="5"/>
                      <a:pt x="17483" y="4"/>
                      <a:pt x="17484" y="4"/>
                    </a:cubicBezTo>
                    <a:close/>
                    <a:moveTo>
                      <a:pt x="17492" y="4"/>
                    </a:moveTo>
                    <a:lnTo>
                      <a:pt x="17492" y="4"/>
                    </a:lnTo>
                    <a:cubicBezTo>
                      <a:pt x="17493" y="4"/>
                      <a:pt x="17494" y="5"/>
                      <a:pt x="17494" y="6"/>
                    </a:cubicBezTo>
                    <a:cubicBezTo>
                      <a:pt x="17494" y="7"/>
                      <a:pt x="17493" y="8"/>
                      <a:pt x="17492" y="8"/>
                    </a:cubicBezTo>
                    <a:lnTo>
                      <a:pt x="17492" y="8"/>
                    </a:lnTo>
                    <a:cubicBezTo>
                      <a:pt x="17491" y="8"/>
                      <a:pt x="17490" y="7"/>
                      <a:pt x="17490" y="6"/>
                    </a:cubicBezTo>
                    <a:cubicBezTo>
                      <a:pt x="17490" y="5"/>
                      <a:pt x="17491" y="4"/>
                      <a:pt x="17492" y="4"/>
                    </a:cubicBezTo>
                    <a:close/>
                    <a:moveTo>
                      <a:pt x="17500" y="4"/>
                    </a:moveTo>
                    <a:lnTo>
                      <a:pt x="17500" y="4"/>
                    </a:lnTo>
                    <a:cubicBezTo>
                      <a:pt x="17501" y="4"/>
                      <a:pt x="17502" y="5"/>
                      <a:pt x="17502" y="6"/>
                    </a:cubicBezTo>
                    <a:cubicBezTo>
                      <a:pt x="17502" y="7"/>
                      <a:pt x="17501" y="8"/>
                      <a:pt x="17500" y="8"/>
                    </a:cubicBezTo>
                    <a:lnTo>
                      <a:pt x="17500" y="8"/>
                    </a:lnTo>
                    <a:cubicBezTo>
                      <a:pt x="17499" y="8"/>
                      <a:pt x="17498" y="7"/>
                      <a:pt x="17498" y="6"/>
                    </a:cubicBezTo>
                    <a:cubicBezTo>
                      <a:pt x="17498" y="5"/>
                      <a:pt x="17499" y="4"/>
                      <a:pt x="17500" y="4"/>
                    </a:cubicBezTo>
                    <a:close/>
                    <a:moveTo>
                      <a:pt x="17508" y="4"/>
                    </a:moveTo>
                    <a:lnTo>
                      <a:pt x="17508" y="4"/>
                    </a:lnTo>
                    <a:cubicBezTo>
                      <a:pt x="17509" y="4"/>
                      <a:pt x="17510" y="5"/>
                      <a:pt x="17510" y="6"/>
                    </a:cubicBezTo>
                    <a:cubicBezTo>
                      <a:pt x="17510" y="7"/>
                      <a:pt x="17509" y="8"/>
                      <a:pt x="17508" y="8"/>
                    </a:cubicBezTo>
                    <a:lnTo>
                      <a:pt x="17508" y="8"/>
                    </a:lnTo>
                    <a:cubicBezTo>
                      <a:pt x="17507" y="8"/>
                      <a:pt x="17506" y="7"/>
                      <a:pt x="17506" y="6"/>
                    </a:cubicBezTo>
                    <a:cubicBezTo>
                      <a:pt x="17506" y="5"/>
                      <a:pt x="17507" y="4"/>
                      <a:pt x="17508" y="4"/>
                    </a:cubicBezTo>
                    <a:close/>
                    <a:moveTo>
                      <a:pt x="17516" y="4"/>
                    </a:moveTo>
                    <a:lnTo>
                      <a:pt x="17516" y="4"/>
                    </a:lnTo>
                    <a:cubicBezTo>
                      <a:pt x="17517" y="4"/>
                      <a:pt x="17518" y="5"/>
                      <a:pt x="17518" y="6"/>
                    </a:cubicBezTo>
                    <a:cubicBezTo>
                      <a:pt x="17518" y="7"/>
                      <a:pt x="17517" y="8"/>
                      <a:pt x="17516" y="8"/>
                    </a:cubicBezTo>
                    <a:lnTo>
                      <a:pt x="17516" y="8"/>
                    </a:lnTo>
                    <a:cubicBezTo>
                      <a:pt x="17515" y="8"/>
                      <a:pt x="17514" y="7"/>
                      <a:pt x="17514" y="6"/>
                    </a:cubicBezTo>
                    <a:cubicBezTo>
                      <a:pt x="17514" y="5"/>
                      <a:pt x="17515" y="4"/>
                      <a:pt x="17516" y="4"/>
                    </a:cubicBezTo>
                    <a:close/>
                    <a:moveTo>
                      <a:pt x="17524" y="4"/>
                    </a:moveTo>
                    <a:lnTo>
                      <a:pt x="17524" y="4"/>
                    </a:lnTo>
                    <a:cubicBezTo>
                      <a:pt x="17525" y="4"/>
                      <a:pt x="17526" y="5"/>
                      <a:pt x="17526" y="6"/>
                    </a:cubicBezTo>
                    <a:cubicBezTo>
                      <a:pt x="17526" y="7"/>
                      <a:pt x="17525" y="8"/>
                      <a:pt x="17524" y="8"/>
                    </a:cubicBezTo>
                    <a:lnTo>
                      <a:pt x="17524" y="8"/>
                    </a:lnTo>
                    <a:cubicBezTo>
                      <a:pt x="17523" y="8"/>
                      <a:pt x="17522" y="7"/>
                      <a:pt x="17522" y="6"/>
                    </a:cubicBezTo>
                    <a:cubicBezTo>
                      <a:pt x="17522" y="5"/>
                      <a:pt x="17523" y="4"/>
                      <a:pt x="17524" y="4"/>
                    </a:cubicBezTo>
                    <a:close/>
                    <a:moveTo>
                      <a:pt x="17532" y="4"/>
                    </a:moveTo>
                    <a:lnTo>
                      <a:pt x="17532" y="4"/>
                    </a:lnTo>
                    <a:cubicBezTo>
                      <a:pt x="17533" y="4"/>
                      <a:pt x="17534" y="5"/>
                      <a:pt x="17534" y="6"/>
                    </a:cubicBezTo>
                    <a:cubicBezTo>
                      <a:pt x="17534" y="7"/>
                      <a:pt x="17533" y="8"/>
                      <a:pt x="17532" y="8"/>
                    </a:cubicBezTo>
                    <a:lnTo>
                      <a:pt x="17532" y="8"/>
                    </a:lnTo>
                    <a:cubicBezTo>
                      <a:pt x="17531" y="8"/>
                      <a:pt x="17530" y="7"/>
                      <a:pt x="17530" y="6"/>
                    </a:cubicBezTo>
                    <a:cubicBezTo>
                      <a:pt x="17530" y="5"/>
                      <a:pt x="17531" y="4"/>
                      <a:pt x="17532" y="4"/>
                    </a:cubicBezTo>
                    <a:close/>
                    <a:moveTo>
                      <a:pt x="17540" y="4"/>
                    </a:moveTo>
                    <a:lnTo>
                      <a:pt x="17540" y="4"/>
                    </a:lnTo>
                    <a:cubicBezTo>
                      <a:pt x="17541" y="4"/>
                      <a:pt x="17542" y="5"/>
                      <a:pt x="17542" y="6"/>
                    </a:cubicBezTo>
                    <a:cubicBezTo>
                      <a:pt x="17542" y="8"/>
                      <a:pt x="17541" y="8"/>
                      <a:pt x="17540" y="8"/>
                    </a:cubicBezTo>
                    <a:lnTo>
                      <a:pt x="17540" y="8"/>
                    </a:lnTo>
                    <a:cubicBezTo>
                      <a:pt x="17539" y="8"/>
                      <a:pt x="17538" y="8"/>
                      <a:pt x="17538" y="6"/>
                    </a:cubicBezTo>
                    <a:cubicBezTo>
                      <a:pt x="17538" y="5"/>
                      <a:pt x="17539" y="4"/>
                      <a:pt x="17540" y="4"/>
                    </a:cubicBezTo>
                    <a:close/>
                    <a:moveTo>
                      <a:pt x="17548" y="4"/>
                    </a:moveTo>
                    <a:lnTo>
                      <a:pt x="17548" y="4"/>
                    </a:lnTo>
                    <a:cubicBezTo>
                      <a:pt x="17549" y="4"/>
                      <a:pt x="17550" y="5"/>
                      <a:pt x="17550" y="6"/>
                    </a:cubicBezTo>
                    <a:cubicBezTo>
                      <a:pt x="17550" y="8"/>
                      <a:pt x="17549" y="8"/>
                      <a:pt x="17548" y="8"/>
                    </a:cubicBezTo>
                    <a:lnTo>
                      <a:pt x="17548" y="8"/>
                    </a:lnTo>
                    <a:cubicBezTo>
                      <a:pt x="17547" y="8"/>
                      <a:pt x="17546" y="8"/>
                      <a:pt x="17546" y="6"/>
                    </a:cubicBezTo>
                    <a:cubicBezTo>
                      <a:pt x="17546" y="5"/>
                      <a:pt x="17547" y="4"/>
                      <a:pt x="17548" y="4"/>
                    </a:cubicBezTo>
                    <a:close/>
                    <a:moveTo>
                      <a:pt x="17556" y="4"/>
                    </a:moveTo>
                    <a:lnTo>
                      <a:pt x="17556" y="4"/>
                    </a:lnTo>
                    <a:cubicBezTo>
                      <a:pt x="17557" y="4"/>
                      <a:pt x="17558" y="5"/>
                      <a:pt x="17558" y="6"/>
                    </a:cubicBezTo>
                    <a:cubicBezTo>
                      <a:pt x="17558" y="8"/>
                      <a:pt x="17557" y="8"/>
                      <a:pt x="17556" y="8"/>
                    </a:cubicBezTo>
                    <a:lnTo>
                      <a:pt x="17556" y="8"/>
                    </a:lnTo>
                    <a:cubicBezTo>
                      <a:pt x="17555" y="8"/>
                      <a:pt x="17554" y="8"/>
                      <a:pt x="17554" y="6"/>
                    </a:cubicBezTo>
                    <a:cubicBezTo>
                      <a:pt x="17554" y="5"/>
                      <a:pt x="17555" y="4"/>
                      <a:pt x="17556" y="4"/>
                    </a:cubicBezTo>
                    <a:close/>
                    <a:moveTo>
                      <a:pt x="17564" y="4"/>
                    </a:moveTo>
                    <a:lnTo>
                      <a:pt x="17564" y="4"/>
                    </a:lnTo>
                    <a:cubicBezTo>
                      <a:pt x="17565" y="4"/>
                      <a:pt x="17566" y="5"/>
                      <a:pt x="17566" y="6"/>
                    </a:cubicBezTo>
                    <a:cubicBezTo>
                      <a:pt x="17566" y="8"/>
                      <a:pt x="17565" y="8"/>
                      <a:pt x="17564" y="8"/>
                    </a:cubicBezTo>
                    <a:lnTo>
                      <a:pt x="17564" y="8"/>
                    </a:lnTo>
                    <a:cubicBezTo>
                      <a:pt x="17563" y="8"/>
                      <a:pt x="17562" y="8"/>
                      <a:pt x="17562" y="6"/>
                    </a:cubicBezTo>
                    <a:cubicBezTo>
                      <a:pt x="17562" y="5"/>
                      <a:pt x="17563" y="4"/>
                      <a:pt x="17564" y="4"/>
                    </a:cubicBezTo>
                    <a:close/>
                    <a:moveTo>
                      <a:pt x="17572" y="4"/>
                    </a:moveTo>
                    <a:lnTo>
                      <a:pt x="17572" y="4"/>
                    </a:lnTo>
                    <a:cubicBezTo>
                      <a:pt x="17573" y="4"/>
                      <a:pt x="17574" y="5"/>
                      <a:pt x="17574" y="6"/>
                    </a:cubicBezTo>
                    <a:cubicBezTo>
                      <a:pt x="17574" y="8"/>
                      <a:pt x="17573" y="8"/>
                      <a:pt x="17572" y="8"/>
                    </a:cubicBezTo>
                    <a:lnTo>
                      <a:pt x="17572" y="8"/>
                    </a:lnTo>
                    <a:cubicBezTo>
                      <a:pt x="17571" y="8"/>
                      <a:pt x="17570" y="8"/>
                      <a:pt x="17570" y="6"/>
                    </a:cubicBezTo>
                    <a:cubicBezTo>
                      <a:pt x="17570" y="5"/>
                      <a:pt x="17571" y="4"/>
                      <a:pt x="17572" y="4"/>
                    </a:cubicBezTo>
                    <a:close/>
                    <a:moveTo>
                      <a:pt x="17580" y="4"/>
                    </a:moveTo>
                    <a:lnTo>
                      <a:pt x="17580" y="4"/>
                    </a:lnTo>
                    <a:cubicBezTo>
                      <a:pt x="17581" y="4"/>
                      <a:pt x="17582" y="5"/>
                      <a:pt x="17582" y="6"/>
                    </a:cubicBezTo>
                    <a:cubicBezTo>
                      <a:pt x="17582" y="8"/>
                      <a:pt x="17581" y="8"/>
                      <a:pt x="17580" y="8"/>
                    </a:cubicBezTo>
                    <a:lnTo>
                      <a:pt x="17580" y="8"/>
                    </a:lnTo>
                    <a:cubicBezTo>
                      <a:pt x="17579" y="8"/>
                      <a:pt x="17578" y="8"/>
                      <a:pt x="17578" y="6"/>
                    </a:cubicBezTo>
                    <a:cubicBezTo>
                      <a:pt x="17578" y="5"/>
                      <a:pt x="17579" y="4"/>
                      <a:pt x="17580" y="4"/>
                    </a:cubicBezTo>
                    <a:close/>
                    <a:moveTo>
                      <a:pt x="17588" y="4"/>
                    </a:moveTo>
                    <a:lnTo>
                      <a:pt x="17588" y="4"/>
                    </a:lnTo>
                    <a:cubicBezTo>
                      <a:pt x="17589" y="4"/>
                      <a:pt x="17590" y="5"/>
                      <a:pt x="17590" y="6"/>
                    </a:cubicBezTo>
                    <a:cubicBezTo>
                      <a:pt x="17590" y="8"/>
                      <a:pt x="17589" y="8"/>
                      <a:pt x="17588" y="8"/>
                    </a:cubicBezTo>
                    <a:lnTo>
                      <a:pt x="17588" y="8"/>
                    </a:lnTo>
                    <a:cubicBezTo>
                      <a:pt x="17587" y="8"/>
                      <a:pt x="17586" y="8"/>
                      <a:pt x="17586" y="6"/>
                    </a:cubicBezTo>
                    <a:cubicBezTo>
                      <a:pt x="17586" y="5"/>
                      <a:pt x="17587" y="4"/>
                      <a:pt x="17588" y="4"/>
                    </a:cubicBezTo>
                    <a:close/>
                    <a:moveTo>
                      <a:pt x="17596" y="4"/>
                    </a:moveTo>
                    <a:lnTo>
                      <a:pt x="17596" y="4"/>
                    </a:lnTo>
                    <a:cubicBezTo>
                      <a:pt x="17597" y="4"/>
                      <a:pt x="17598" y="5"/>
                      <a:pt x="17598" y="6"/>
                    </a:cubicBezTo>
                    <a:cubicBezTo>
                      <a:pt x="17598" y="8"/>
                      <a:pt x="17597" y="8"/>
                      <a:pt x="17596" y="8"/>
                    </a:cubicBezTo>
                    <a:lnTo>
                      <a:pt x="17596" y="8"/>
                    </a:lnTo>
                    <a:cubicBezTo>
                      <a:pt x="17595" y="8"/>
                      <a:pt x="17594" y="8"/>
                      <a:pt x="17594" y="6"/>
                    </a:cubicBezTo>
                    <a:cubicBezTo>
                      <a:pt x="17594" y="5"/>
                      <a:pt x="17595" y="4"/>
                      <a:pt x="17596" y="4"/>
                    </a:cubicBezTo>
                    <a:close/>
                    <a:moveTo>
                      <a:pt x="17604" y="4"/>
                    </a:moveTo>
                    <a:lnTo>
                      <a:pt x="17604" y="4"/>
                    </a:lnTo>
                    <a:cubicBezTo>
                      <a:pt x="17605" y="4"/>
                      <a:pt x="17606" y="5"/>
                      <a:pt x="17606" y="6"/>
                    </a:cubicBezTo>
                    <a:cubicBezTo>
                      <a:pt x="17606" y="8"/>
                      <a:pt x="17605" y="8"/>
                      <a:pt x="17604" y="8"/>
                    </a:cubicBezTo>
                    <a:lnTo>
                      <a:pt x="17604" y="8"/>
                    </a:lnTo>
                    <a:cubicBezTo>
                      <a:pt x="17603" y="8"/>
                      <a:pt x="17602" y="8"/>
                      <a:pt x="17602" y="6"/>
                    </a:cubicBezTo>
                    <a:cubicBezTo>
                      <a:pt x="17602" y="5"/>
                      <a:pt x="17603" y="4"/>
                      <a:pt x="17604" y="4"/>
                    </a:cubicBezTo>
                    <a:close/>
                    <a:moveTo>
                      <a:pt x="17612" y="4"/>
                    </a:moveTo>
                    <a:lnTo>
                      <a:pt x="17612" y="4"/>
                    </a:lnTo>
                    <a:cubicBezTo>
                      <a:pt x="17613" y="4"/>
                      <a:pt x="17614" y="5"/>
                      <a:pt x="17614" y="6"/>
                    </a:cubicBezTo>
                    <a:cubicBezTo>
                      <a:pt x="17614" y="8"/>
                      <a:pt x="17613" y="8"/>
                      <a:pt x="17612" y="8"/>
                    </a:cubicBezTo>
                    <a:lnTo>
                      <a:pt x="17612" y="8"/>
                    </a:lnTo>
                    <a:cubicBezTo>
                      <a:pt x="17611" y="8"/>
                      <a:pt x="17610" y="8"/>
                      <a:pt x="17610" y="6"/>
                    </a:cubicBezTo>
                    <a:cubicBezTo>
                      <a:pt x="17610" y="5"/>
                      <a:pt x="17611" y="4"/>
                      <a:pt x="17612" y="4"/>
                    </a:cubicBezTo>
                    <a:close/>
                    <a:moveTo>
                      <a:pt x="17620" y="4"/>
                    </a:moveTo>
                    <a:lnTo>
                      <a:pt x="17620" y="4"/>
                    </a:lnTo>
                    <a:cubicBezTo>
                      <a:pt x="17621" y="4"/>
                      <a:pt x="17622" y="5"/>
                      <a:pt x="17622" y="6"/>
                    </a:cubicBezTo>
                    <a:cubicBezTo>
                      <a:pt x="17622" y="8"/>
                      <a:pt x="17621" y="8"/>
                      <a:pt x="17620" y="8"/>
                    </a:cubicBezTo>
                    <a:lnTo>
                      <a:pt x="17620" y="8"/>
                    </a:lnTo>
                    <a:cubicBezTo>
                      <a:pt x="17619" y="8"/>
                      <a:pt x="17618" y="8"/>
                      <a:pt x="17618" y="6"/>
                    </a:cubicBezTo>
                    <a:cubicBezTo>
                      <a:pt x="17618" y="5"/>
                      <a:pt x="17619" y="4"/>
                      <a:pt x="17620" y="4"/>
                    </a:cubicBezTo>
                    <a:close/>
                    <a:moveTo>
                      <a:pt x="17628" y="4"/>
                    </a:moveTo>
                    <a:lnTo>
                      <a:pt x="17628" y="4"/>
                    </a:lnTo>
                    <a:cubicBezTo>
                      <a:pt x="17629" y="4"/>
                      <a:pt x="17630" y="5"/>
                      <a:pt x="17630" y="6"/>
                    </a:cubicBezTo>
                    <a:cubicBezTo>
                      <a:pt x="17630" y="8"/>
                      <a:pt x="17629" y="8"/>
                      <a:pt x="17628" y="8"/>
                    </a:cubicBezTo>
                    <a:lnTo>
                      <a:pt x="17628" y="8"/>
                    </a:lnTo>
                    <a:cubicBezTo>
                      <a:pt x="17627" y="8"/>
                      <a:pt x="17626" y="8"/>
                      <a:pt x="17626" y="6"/>
                    </a:cubicBezTo>
                    <a:cubicBezTo>
                      <a:pt x="17626" y="5"/>
                      <a:pt x="17627" y="4"/>
                      <a:pt x="17628" y="4"/>
                    </a:cubicBezTo>
                    <a:close/>
                    <a:moveTo>
                      <a:pt x="17636" y="4"/>
                    </a:moveTo>
                    <a:lnTo>
                      <a:pt x="17636" y="4"/>
                    </a:lnTo>
                    <a:cubicBezTo>
                      <a:pt x="17637" y="4"/>
                      <a:pt x="17638" y="5"/>
                      <a:pt x="17638" y="6"/>
                    </a:cubicBezTo>
                    <a:cubicBezTo>
                      <a:pt x="17638" y="8"/>
                      <a:pt x="17637" y="8"/>
                      <a:pt x="17636" y="8"/>
                    </a:cubicBezTo>
                    <a:lnTo>
                      <a:pt x="17636" y="8"/>
                    </a:lnTo>
                    <a:cubicBezTo>
                      <a:pt x="17635" y="8"/>
                      <a:pt x="17634" y="8"/>
                      <a:pt x="17634" y="6"/>
                    </a:cubicBezTo>
                    <a:cubicBezTo>
                      <a:pt x="17634" y="5"/>
                      <a:pt x="17635" y="4"/>
                      <a:pt x="17636" y="4"/>
                    </a:cubicBezTo>
                    <a:close/>
                    <a:moveTo>
                      <a:pt x="17644" y="4"/>
                    </a:moveTo>
                    <a:lnTo>
                      <a:pt x="17644" y="4"/>
                    </a:lnTo>
                    <a:cubicBezTo>
                      <a:pt x="17645" y="4"/>
                      <a:pt x="17646" y="5"/>
                      <a:pt x="17646" y="6"/>
                    </a:cubicBezTo>
                    <a:cubicBezTo>
                      <a:pt x="17646" y="8"/>
                      <a:pt x="17645" y="8"/>
                      <a:pt x="17644" y="8"/>
                    </a:cubicBezTo>
                    <a:lnTo>
                      <a:pt x="17644" y="8"/>
                    </a:lnTo>
                    <a:cubicBezTo>
                      <a:pt x="17643" y="8"/>
                      <a:pt x="17642" y="8"/>
                      <a:pt x="17642" y="6"/>
                    </a:cubicBezTo>
                    <a:cubicBezTo>
                      <a:pt x="17642" y="5"/>
                      <a:pt x="17643" y="4"/>
                      <a:pt x="17644" y="4"/>
                    </a:cubicBezTo>
                    <a:close/>
                    <a:moveTo>
                      <a:pt x="17652" y="4"/>
                    </a:moveTo>
                    <a:lnTo>
                      <a:pt x="17652" y="4"/>
                    </a:lnTo>
                    <a:cubicBezTo>
                      <a:pt x="17653" y="4"/>
                      <a:pt x="17654" y="5"/>
                      <a:pt x="17654" y="6"/>
                    </a:cubicBezTo>
                    <a:cubicBezTo>
                      <a:pt x="17654" y="8"/>
                      <a:pt x="17653" y="8"/>
                      <a:pt x="17652" y="8"/>
                    </a:cubicBezTo>
                    <a:lnTo>
                      <a:pt x="17652" y="8"/>
                    </a:lnTo>
                    <a:cubicBezTo>
                      <a:pt x="17651" y="8"/>
                      <a:pt x="17650" y="8"/>
                      <a:pt x="17650" y="6"/>
                    </a:cubicBezTo>
                    <a:cubicBezTo>
                      <a:pt x="17650" y="5"/>
                      <a:pt x="17651" y="4"/>
                      <a:pt x="17652" y="4"/>
                    </a:cubicBezTo>
                    <a:close/>
                    <a:moveTo>
                      <a:pt x="17660" y="4"/>
                    </a:moveTo>
                    <a:lnTo>
                      <a:pt x="17660" y="4"/>
                    </a:lnTo>
                    <a:cubicBezTo>
                      <a:pt x="17661" y="4"/>
                      <a:pt x="17662" y="5"/>
                      <a:pt x="17662" y="6"/>
                    </a:cubicBezTo>
                    <a:cubicBezTo>
                      <a:pt x="17662" y="8"/>
                      <a:pt x="17661" y="8"/>
                      <a:pt x="17660" y="8"/>
                    </a:cubicBezTo>
                    <a:lnTo>
                      <a:pt x="17660" y="8"/>
                    </a:lnTo>
                    <a:cubicBezTo>
                      <a:pt x="17659" y="8"/>
                      <a:pt x="17658" y="8"/>
                      <a:pt x="17658" y="6"/>
                    </a:cubicBezTo>
                    <a:cubicBezTo>
                      <a:pt x="17658" y="5"/>
                      <a:pt x="17659" y="4"/>
                      <a:pt x="17660" y="4"/>
                    </a:cubicBezTo>
                    <a:close/>
                    <a:moveTo>
                      <a:pt x="17668" y="4"/>
                    </a:moveTo>
                    <a:lnTo>
                      <a:pt x="17668" y="4"/>
                    </a:lnTo>
                    <a:cubicBezTo>
                      <a:pt x="17669" y="4"/>
                      <a:pt x="17670" y="5"/>
                      <a:pt x="17670" y="6"/>
                    </a:cubicBezTo>
                    <a:cubicBezTo>
                      <a:pt x="17670" y="8"/>
                      <a:pt x="17669" y="8"/>
                      <a:pt x="17668" y="8"/>
                    </a:cubicBezTo>
                    <a:lnTo>
                      <a:pt x="17668" y="8"/>
                    </a:lnTo>
                    <a:cubicBezTo>
                      <a:pt x="17667" y="8"/>
                      <a:pt x="17666" y="8"/>
                      <a:pt x="17666" y="6"/>
                    </a:cubicBezTo>
                    <a:cubicBezTo>
                      <a:pt x="17666" y="5"/>
                      <a:pt x="17667" y="4"/>
                      <a:pt x="17668" y="4"/>
                    </a:cubicBezTo>
                    <a:close/>
                    <a:moveTo>
                      <a:pt x="17676" y="4"/>
                    </a:moveTo>
                    <a:lnTo>
                      <a:pt x="17676" y="4"/>
                    </a:lnTo>
                    <a:cubicBezTo>
                      <a:pt x="17677" y="4"/>
                      <a:pt x="17678" y="5"/>
                      <a:pt x="17678" y="6"/>
                    </a:cubicBezTo>
                    <a:cubicBezTo>
                      <a:pt x="17678" y="8"/>
                      <a:pt x="17677" y="8"/>
                      <a:pt x="17676" y="8"/>
                    </a:cubicBezTo>
                    <a:lnTo>
                      <a:pt x="17676" y="8"/>
                    </a:lnTo>
                    <a:cubicBezTo>
                      <a:pt x="17675" y="8"/>
                      <a:pt x="17674" y="8"/>
                      <a:pt x="17674" y="6"/>
                    </a:cubicBezTo>
                    <a:cubicBezTo>
                      <a:pt x="17674" y="5"/>
                      <a:pt x="17675" y="4"/>
                      <a:pt x="17676" y="4"/>
                    </a:cubicBezTo>
                    <a:close/>
                    <a:moveTo>
                      <a:pt x="17684" y="4"/>
                    </a:moveTo>
                    <a:lnTo>
                      <a:pt x="17684" y="4"/>
                    </a:lnTo>
                    <a:cubicBezTo>
                      <a:pt x="17685" y="4"/>
                      <a:pt x="17686" y="5"/>
                      <a:pt x="17686" y="6"/>
                    </a:cubicBezTo>
                    <a:cubicBezTo>
                      <a:pt x="17686" y="8"/>
                      <a:pt x="17685" y="8"/>
                      <a:pt x="17684" y="8"/>
                    </a:cubicBezTo>
                    <a:lnTo>
                      <a:pt x="17684" y="8"/>
                    </a:lnTo>
                    <a:cubicBezTo>
                      <a:pt x="17683" y="8"/>
                      <a:pt x="17682" y="8"/>
                      <a:pt x="17682" y="6"/>
                    </a:cubicBezTo>
                    <a:cubicBezTo>
                      <a:pt x="17682" y="5"/>
                      <a:pt x="17683" y="4"/>
                      <a:pt x="17684" y="4"/>
                    </a:cubicBezTo>
                    <a:close/>
                    <a:moveTo>
                      <a:pt x="17692" y="4"/>
                    </a:moveTo>
                    <a:lnTo>
                      <a:pt x="17692" y="4"/>
                    </a:lnTo>
                    <a:cubicBezTo>
                      <a:pt x="17693" y="4"/>
                      <a:pt x="17694" y="5"/>
                      <a:pt x="17694" y="6"/>
                    </a:cubicBezTo>
                    <a:cubicBezTo>
                      <a:pt x="17694" y="8"/>
                      <a:pt x="17693" y="8"/>
                      <a:pt x="17692" y="8"/>
                    </a:cubicBezTo>
                    <a:lnTo>
                      <a:pt x="17692" y="8"/>
                    </a:lnTo>
                    <a:cubicBezTo>
                      <a:pt x="17691" y="8"/>
                      <a:pt x="17690" y="8"/>
                      <a:pt x="17690" y="6"/>
                    </a:cubicBezTo>
                    <a:cubicBezTo>
                      <a:pt x="17690" y="5"/>
                      <a:pt x="17691" y="4"/>
                      <a:pt x="17692" y="4"/>
                    </a:cubicBezTo>
                    <a:close/>
                    <a:moveTo>
                      <a:pt x="17700" y="4"/>
                    </a:moveTo>
                    <a:lnTo>
                      <a:pt x="17700" y="4"/>
                    </a:lnTo>
                    <a:cubicBezTo>
                      <a:pt x="17701" y="4"/>
                      <a:pt x="17702" y="5"/>
                      <a:pt x="17702" y="6"/>
                    </a:cubicBezTo>
                    <a:cubicBezTo>
                      <a:pt x="17702" y="8"/>
                      <a:pt x="17701" y="8"/>
                      <a:pt x="17700" y="8"/>
                    </a:cubicBezTo>
                    <a:lnTo>
                      <a:pt x="17700" y="8"/>
                    </a:lnTo>
                    <a:cubicBezTo>
                      <a:pt x="17699" y="8"/>
                      <a:pt x="17698" y="8"/>
                      <a:pt x="17698" y="6"/>
                    </a:cubicBezTo>
                    <a:cubicBezTo>
                      <a:pt x="17698" y="5"/>
                      <a:pt x="17699" y="4"/>
                      <a:pt x="17700" y="4"/>
                    </a:cubicBezTo>
                    <a:close/>
                    <a:moveTo>
                      <a:pt x="17708" y="4"/>
                    </a:moveTo>
                    <a:lnTo>
                      <a:pt x="17708" y="4"/>
                    </a:lnTo>
                    <a:cubicBezTo>
                      <a:pt x="17709" y="4"/>
                      <a:pt x="17710" y="5"/>
                      <a:pt x="17710" y="6"/>
                    </a:cubicBezTo>
                    <a:cubicBezTo>
                      <a:pt x="17710" y="8"/>
                      <a:pt x="17709" y="8"/>
                      <a:pt x="17708" y="8"/>
                    </a:cubicBezTo>
                    <a:lnTo>
                      <a:pt x="17708" y="8"/>
                    </a:lnTo>
                    <a:cubicBezTo>
                      <a:pt x="17707" y="8"/>
                      <a:pt x="17706" y="8"/>
                      <a:pt x="17706" y="6"/>
                    </a:cubicBezTo>
                    <a:cubicBezTo>
                      <a:pt x="17706" y="5"/>
                      <a:pt x="17707" y="4"/>
                      <a:pt x="17708" y="4"/>
                    </a:cubicBezTo>
                    <a:close/>
                    <a:moveTo>
                      <a:pt x="17716" y="4"/>
                    </a:moveTo>
                    <a:lnTo>
                      <a:pt x="17716" y="4"/>
                    </a:lnTo>
                    <a:cubicBezTo>
                      <a:pt x="17717" y="4"/>
                      <a:pt x="17718" y="5"/>
                      <a:pt x="17718" y="6"/>
                    </a:cubicBezTo>
                    <a:cubicBezTo>
                      <a:pt x="17718" y="8"/>
                      <a:pt x="17717" y="8"/>
                      <a:pt x="17716" y="8"/>
                    </a:cubicBezTo>
                    <a:lnTo>
                      <a:pt x="17716" y="8"/>
                    </a:lnTo>
                    <a:cubicBezTo>
                      <a:pt x="17715" y="8"/>
                      <a:pt x="17714" y="8"/>
                      <a:pt x="17714" y="6"/>
                    </a:cubicBezTo>
                    <a:cubicBezTo>
                      <a:pt x="17714" y="5"/>
                      <a:pt x="17715" y="4"/>
                      <a:pt x="17716" y="4"/>
                    </a:cubicBezTo>
                    <a:close/>
                    <a:moveTo>
                      <a:pt x="17724" y="4"/>
                    </a:moveTo>
                    <a:lnTo>
                      <a:pt x="17724" y="4"/>
                    </a:lnTo>
                    <a:cubicBezTo>
                      <a:pt x="17725" y="4"/>
                      <a:pt x="17726" y="5"/>
                      <a:pt x="17726" y="6"/>
                    </a:cubicBezTo>
                    <a:cubicBezTo>
                      <a:pt x="17726" y="8"/>
                      <a:pt x="17725" y="8"/>
                      <a:pt x="17724" y="8"/>
                    </a:cubicBezTo>
                    <a:lnTo>
                      <a:pt x="17724" y="8"/>
                    </a:lnTo>
                    <a:cubicBezTo>
                      <a:pt x="17723" y="8"/>
                      <a:pt x="17722" y="8"/>
                      <a:pt x="17722" y="6"/>
                    </a:cubicBezTo>
                    <a:cubicBezTo>
                      <a:pt x="17722" y="5"/>
                      <a:pt x="17723" y="4"/>
                      <a:pt x="17724" y="4"/>
                    </a:cubicBezTo>
                    <a:close/>
                    <a:moveTo>
                      <a:pt x="17732" y="4"/>
                    </a:moveTo>
                    <a:lnTo>
                      <a:pt x="17732" y="4"/>
                    </a:lnTo>
                    <a:cubicBezTo>
                      <a:pt x="17733" y="4"/>
                      <a:pt x="17734" y="5"/>
                      <a:pt x="17734" y="6"/>
                    </a:cubicBezTo>
                    <a:cubicBezTo>
                      <a:pt x="17734" y="8"/>
                      <a:pt x="17733" y="8"/>
                      <a:pt x="17732" y="8"/>
                    </a:cubicBezTo>
                    <a:lnTo>
                      <a:pt x="17732" y="8"/>
                    </a:lnTo>
                    <a:cubicBezTo>
                      <a:pt x="17731" y="8"/>
                      <a:pt x="17730" y="8"/>
                      <a:pt x="17730" y="6"/>
                    </a:cubicBezTo>
                    <a:cubicBezTo>
                      <a:pt x="17730" y="5"/>
                      <a:pt x="17731" y="4"/>
                      <a:pt x="17732" y="4"/>
                    </a:cubicBezTo>
                    <a:close/>
                    <a:moveTo>
                      <a:pt x="17740" y="4"/>
                    </a:moveTo>
                    <a:lnTo>
                      <a:pt x="17740" y="4"/>
                    </a:lnTo>
                    <a:cubicBezTo>
                      <a:pt x="17741" y="4"/>
                      <a:pt x="17742" y="5"/>
                      <a:pt x="17742" y="6"/>
                    </a:cubicBezTo>
                    <a:cubicBezTo>
                      <a:pt x="17742" y="8"/>
                      <a:pt x="17741" y="8"/>
                      <a:pt x="17740" y="8"/>
                    </a:cubicBezTo>
                    <a:lnTo>
                      <a:pt x="17740" y="8"/>
                    </a:lnTo>
                    <a:cubicBezTo>
                      <a:pt x="17739" y="8"/>
                      <a:pt x="17738" y="8"/>
                      <a:pt x="17738" y="6"/>
                    </a:cubicBezTo>
                    <a:cubicBezTo>
                      <a:pt x="17738" y="5"/>
                      <a:pt x="17739" y="4"/>
                      <a:pt x="17740" y="4"/>
                    </a:cubicBezTo>
                    <a:close/>
                    <a:moveTo>
                      <a:pt x="17748" y="4"/>
                    </a:moveTo>
                    <a:lnTo>
                      <a:pt x="17748" y="4"/>
                    </a:lnTo>
                    <a:cubicBezTo>
                      <a:pt x="17749" y="4"/>
                      <a:pt x="17750" y="5"/>
                      <a:pt x="17750" y="6"/>
                    </a:cubicBezTo>
                    <a:cubicBezTo>
                      <a:pt x="17750" y="8"/>
                      <a:pt x="17749" y="8"/>
                      <a:pt x="17748" y="8"/>
                    </a:cubicBezTo>
                    <a:lnTo>
                      <a:pt x="17748" y="8"/>
                    </a:lnTo>
                    <a:cubicBezTo>
                      <a:pt x="17747" y="8"/>
                      <a:pt x="17746" y="8"/>
                      <a:pt x="17746" y="6"/>
                    </a:cubicBezTo>
                    <a:cubicBezTo>
                      <a:pt x="17746" y="5"/>
                      <a:pt x="17747" y="4"/>
                      <a:pt x="17748" y="4"/>
                    </a:cubicBezTo>
                    <a:close/>
                    <a:moveTo>
                      <a:pt x="17756" y="4"/>
                    </a:moveTo>
                    <a:lnTo>
                      <a:pt x="17756" y="4"/>
                    </a:lnTo>
                    <a:cubicBezTo>
                      <a:pt x="17757" y="4"/>
                      <a:pt x="17758" y="5"/>
                      <a:pt x="17758" y="6"/>
                    </a:cubicBezTo>
                    <a:cubicBezTo>
                      <a:pt x="17758" y="8"/>
                      <a:pt x="17757" y="8"/>
                      <a:pt x="17756" y="8"/>
                    </a:cubicBezTo>
                    <a:lnTo>
                      <a:pt x="17756" y="8"/>
                    </a:lnTo>
                    <a:cubicBezTo>
                      <a:pt x="17755" y="8"/>
                      <a:pt x="17754" y="8"/>
                      <a:pt x="17754" y="6"/>
                    </a:cubicBezTo>
                    <a:cubicBezTo>
                      <a:pt x="17754" y="5"/>
                      <a:pt x="17755" y="4"/>
                      <a:pt x="17756" y="4"/>
                    </a:cubicBezTo>
                    <a:close/>
                    <a:moveTo>
                      <a:pt x="17764" y="4"/>
                    </a:moveTo>
                    <a:lnTo>
                      <a:pt x="17764" y="4"/>
                    </a:lnTo>
                    <a:cubicBezTo>
                      <a:pt x="17765" y="4"/>
                      <a:pt x="17766" y="5"/>
                      <a:pt x="17766" y="6"/>
                    </a:cubicBezTo>
                    <a:cubicBezTo>
                      <a:pt x="17766" y="8"/>
                      <a:pt x="17765" y="8"/>
                      <a:pt x="17764" y="8"/>
                    </a:cubicBezTo>
                    <a:lnTo>
                      <a:pt x="17764" y="8"/>
                    </a:lnTo>
                    <a:cubicBezTo>
                      <a:pt x="17763" y="8"/>
                      <a:pt x="17762" y="8"/>
                      <a:pt x="17762" y="6"/>
                    </a:cubicBezTo>
                    <a:cubicBezTo>
                      <a:pt x="17762" y="5"/>
                      <a:pt x="17763" y="4"/>
                      <a:pt x="17764" y="4"/>
                    </a:cubicBezTo>
                    <a:close/>
                    <a:moveTo>
                      <a:pt x="17772" y="4"/>
                    </a:moveTo>
                    <a:lnTo>
                      <a:pt x="17772" y="4"/>
                    </a:lnTo>
                    <a:cubicBezTo>
                      <a:pt x="17773" y="4"/>
                      <a:pt x="17774" y="5"/>
                      <a:pt x="17774" y="6"/>
                    </a:cubicBezTo>
                    <a:cubicBezTo>
                      <a:pt x="17774" y="8"/>
                      <a:pt x="17773" y="8"/>
                      <a:pt x="17772" y="8"/>
                    </a:cubicBezTo>
                    <a:lnTo>
                      <a:pt x="17772" y="8"/>
                    </a:lnTo>
                    <a:cubicBezTo>
                      <a:pt x="17771" y="8"/>
                      <a:pt x="17770" y="8"/>
                      <a:pt x="17770" y="6"/>
                    </a:cubicBezTo>
                    <a:cubicBezTo>
                      <a:pt x="17770" y="5"/>
                      <a:pt x="17771" y="4"/>
                      <a:pt x="17772" y="4"/>
                    </a:cubicBezTo>
                    <a:close/>
                    <a:moveTo>
                      <a:pt x="17780" y="4"/>
                    </a:moveTo>
                    <a:lnTo>
                      <a:pt x="17780" y="4"/>
                    </a:lnTo>
                    <a:cubicBezTo>
                      <a:pt x="17781" y="4"/>
                      <a:pt x="17782" y="5"/>
                      <a:pt x="17782" y="6"/>
                    </a:cubicBezTo>
                    <a:cubicBezTo>
                      <a:pt x="17782" y="8"/>
                      <a:pt x="17781" y="8"/>
                      <a:pt x="17780" y="8"/>
                    </a:cubicBezTo>
                    <a:lnTo>
                      <a:pt x="17780" y="8"/>
                    </a:lnTo>
                    <a:cubicBezTo>
                      <a:pt x="17779" y="8"/>
                      <a:pt x="17778" y="8"/>
                      <a:pt x="17778" y="6"/>
                    </a:cubicBezTo>
                    <a:cubicBezTo>
                      <a:pt x="17778" y="5"/>
                      <a:pt x="17779" y="4"/>
                      <a:pt x="17780" y="4"/>
                    </a:cubicBezTo>
                    <a:close/>
                    <a:moveTo>
                      <a:pt x="17788" y="4"/>
                    </a:moveTo>
                    <a:lnTo>
                      <a:pt x="17788" y="4"/>
                    </a:lnTo>
                    <a:cubicBezTo>
                      <a:pt x="17789" y="4"/>
                      <a:pt x="17790" y="5"/>
                      <a:pt x="17790" y="6"/>
                    </a:cubicBezTo>
                    <a:cubicBezTo>
                      <a:pt x="17790" y="8"/>
                      <a:pt x="17789" y="8"/>
                      <a:pt x="17788" y="8"/>
                    </a:cubicBezTo>
                    <a:lnTo>
                      <a:pt x="17788" y="8"/>
                    </a:lnTo>
                    <a:cubicBezTo>
                      <a:pt x="17787" y="8"/>
                      <a:pt x="17786" y="8"/>
                      <a:pt x="17786" y="6"/>
                    </a:cubicBezTo>
                    <a:cubicBezTo>
                      <a:pt x="17786" y="5"/>
                      <a:pt x="17787" y="4"/>
                      <a:pt x="17788" y="4"/>
                    </a:cubicBezTo>
                    <a:close/>
                    <a:moveTo>
                      <a:pt x="17796" y="4"/>
                    </a:moveTo>
                    <a:lnTo>
                      <a:pt x="17796" y="4"/>
                    </a:lnTo>
                    <a:cubicBezTo>
                      <a:pt x="17797" y="4"/>
                      <a:pt x="17798" y="5"/>
                      <a:pt x="17798" y="6"/>
                    </a:cubicBezTo>
                    <a:cubicBezTo>
                      <a:pt x="17798" y="8"/>
                      <a:pt x="17797" y="8"/>
                      <a:pt x="17796" y="8"/>
                    </a:cubicBezTo>
                    <a:lnTo>
                      <a:pt x="17796" y="8"/>
                    </a:lnTo>
                    <a:cubicBezTo>
                      <a:pt x="17795" y="8"/>
                      <a:pt x="17794" y="8"/>
                      <a:pt x="17794" y="6"/>
                    </a:cubicBezTo>
                    <a:cubicBezTo>
                      <a:pt x="17794" y="5"/>
                      <a:pt x="17795" y="4"/>
                      <a:pt x="17796" y="4"/>
                    </a:cubicBezTo>
                    <a:close/>
                    <a:moveTo>
                      <a:pt x="17804" y="4"/>
                    </a:moveTo>
                    <a:lnTo>
                      <a:pt x="17804" y="4"/>
                    </a:lnTo>
                    <a:cubicBezTo>
                      <a:pt x="17805" y="4"/>
                      <a:pt x="17806" y="5"/>
                      <a:pt x="17806" y="6"/>
                    </a:cubicBezTo>
                    <a:cubicBezTo>
                      <a:pt x="17806" y="8"/>
                      <a:pt x="17805" y="8"/>
                      <a:pt x="17804" y="8"/>
                    </a:cubicBezTo>
                    <a:lnTo>
                      <a:pt x="17804" y="8"/>
                    </a:lnTo>
                    <a:cubicBezTo>
                      <a:pt x="17803" y="8"/>
                      <a:pt x="17802" y="8"/>
                      <a:pt x="17802" y="6"/>
                    </a:cubicBezTo>
                    <a:cubicBezTo>
                      <a:pt x="17802" y="5"/>
                      <a:pt x="17803" y="4"/>
                      <a:pt x="17804" y="4"/>
                    </a:cubicBezTo>
                    <a:close/>
                    <a:moveTo>
                      <a:pt x="17812" y="4"/>
                    </a:moveTo>
                    <a:lnTo>
                      <a:pt x="17812" y="4"/>
                    </a:lnTo>
                    <a:cubicBezTo>
                      <a:pt x="17813" y="4"/>
                      <a:pt x="17814" y="5"/>
                      <a:pt x="17814" y="6"/>
                    </a:cubicBezTo>
                    <a:cubicBezTo>
                      <a:pt x="17814" y="8"/>
                      <a:pt x="17813" y="8"/>
                      <a:pt x="17812" y="8"/>
                    </a:cubicBezTo>
                    <a:lnTo>
                      <a:pt x="17812" y="8"/>
                    </a:lnTo>
                    <a:cubicBezTo>
                      <a:pt x="17811" y="8"/>
                      <a:pt x="17810" y="8"/>
                      <a:pt x="17810" y="6"/>
                    </a:cubicBezTo>
                    <a:cubicBezTo>
                      <a:pt x="17810" y="5"/>
                      <a:pt x="17811" y="4"/>
                      <a:pt x="17812" y="4"/>
                    </a:cubicBezTo>
                    <a:close/>
                    <a:moveTo>
                      <a:pt x="17820" y="4"/>
                    </a:moveTo>
                    <a:lnTo>
                      <a:pt x="17820" y="4"/>
                    </a:lnTo>
                    <a:cubicBezTo>
                      <a:pt x="17821" y="4"/>
                      <a:pt x="17822" y="5"/>
                      <a:pt x="17822" y="6"/>
                    </a:cubicBezTo>
                    <a:cubicBezTo>
                      <a:pt x="17822" y="8"/>
                      <a:pt x="17821" y="8"/>
                      <a:pt x="17820" y="8"/>
                    </a:cubicBezTo>
                    <a:lnTo>
                      <a:pt x="17820" y="8"/>
                    </a:lnTo>
                    <a:cubicBezTo>
                      <a:pt x="17819" y="8"/>
                      <a:pt x="17818" y="8"/>
                      <a:pt x="17818" y="6"/>
                    </a:cubicBezTo>
                    <a:cubicBezTo>
                      <a:pt x="17818" y="5"/>
                      <a:pt x="17819" y="4"/>
                      <a:pt x="17820" y="4"/>
                    </a:cubicBezTo>
                    <a:close/>
                    <a:moveTo>
                      <a:pt x="17828" y="4"/>
                    </a:moveTo>
                    <a:lnTo>
                      <a:pt x="17828" y="4"/>
                    </a:lnTo>
                    <a:cubicBezTo>
                      <a:pt x="17829" y="4"/>
                      <a:pt x="17830" y="5"/>
                      <a:pt x="17830" y="6"/>
                    </a:cubicBezTo>
                    <a:cubicBezTo>
                      <a:pt x="17830" y="8"/>
                      <a:pt x="17829" y="8"/>
                      <a:pt x="17828" y="8"/>
                    </a:cubicBezTo>
                    <a:lnTo>
                      <a:pt x="17828" y="8"/>
                    </a:lnTo>
                    <a:cubicBezTo>
                      <a:pt x="17827" y="8"/>
                      <a:pt x="17826" y="8"/>
                      <a:pt x="17826" y="6"/>
                    </a:cubicBezTo>
                    <a:cubicBezTo>
                      <a:pt x="17826" y="5"/>
                      <a:pt x="17827" y="4"/>
                      <a:pt x="17828" y="4"/>
                    </a:cubicBezTo>
                    <a:close/>
                    <a:moveTo>
                      <a:pt x="17836" y="4"/>
                    </a:moveTo>
                    <a:lnTo>
                      <a:pt x="17836" y="4"/>
                    </a:lnTo>
                    <a:cubicBezTo>
                      <a:pt x="17837" y="4"/>
                      <a:pt x="17838" y="5"/>
                      <a:pt x="17838" y="6"/>
                    </a:cubicBezTo>
                    <a:cubicBezTo>
                      <a:pt x="17838" y="8"/>
                      <a:pt x="17837" y="8"/>
                      <a:pt x="17836" y="8"/>
                    </a:cubicBezTo>
                    <a:lnTo>
                      <a:pt x="17836" y="8"/>
                    </a:lnTo>
                    <a:cubicBezTo>
                      <a:pt x="17835" y="8"/>
                      <a:pt x="17834" y="8"/>
                      <a:pt x="17834" y="6"/>
                    </a:cubicBezTo>
                    <a:cubicBezTo>
                      <a:pt x="17834" y="5"/>
                      <a:pt x="17835" y="4"/>
                      <a:pt x="17836" y="4"/>
                    </a:cubicBezTo>
                    <a:close/>
                    <a:moveTo>
                      <a:pt x="17844" y="4"/>
                    </a:moveTo>
                    <a:lnTo>
                      <a:pt x="17844" y="4"/>
                    </a:lnTo>
                    <a:cubicBezTo>
                      <a:pt x="17845" y="4"/>
                      <a:pt x="17846" y="5"/>
                      <a:pt x="17846" y="6"/>
                    </a:cubicBezTo>
                    <a:cubicBezTo>
                      <a:pt x="17846" y="8"/>
                      <a:pt x="17845" y="8"/>
                      <a:pt x="17844" y="8"/>
                    </a:cubicBezTo>
                    <a:lnTo>
                      <a:pt x="17844" y="8"/>
                    </a:lnTo>
                    <a:cubicBezTo>
                      <a:pt x="17843" y="8"/>
                      <a:pt x="17842" y="8"/>
                      <a:pt x="17842" y="6"/>
                    </a:cubicBezTo>
                    <a:cubicBezTo>
                      <a:pt x="17842" y="5"/>
                      <a:pt x="17843" y="4"/>
                      <a:pt x="17844" y="4"/>
                    </a:cubicBezTo>
                    <a:close/>
                    <a:moveTo>
                      <a:pt x="17852" y="4"/>
                    </a:moveTo>
                    <a:lnTo>
                      <a:pt x="17852" y="4"/>
                    </a:lnTo>
                    <a:cubicBezTo>
                      <a:pt x="17853" y="4"/>
                      <a:pt x="17854" y="5"/>
                      <a:pt x="17854" y="6"/>
                    </a:cubicBezTo>
                    <a:cubicBezTo>
                      <a:pt x="17854" y="8"/>
                      <a:pt x="17853" y="8"/>
                      <a:pt x="17852" y="8"/>
                    </a:cubicBezTo>
                    <a:lnTo>
                      <a:pt x="17852" y="8"/>
                    </a:lnTo>
                    <a:cubicBezTo>
                      <a:pt x="17851" y="8"/>
                      <a:pt x="17850" y="8"/>
                      <a:pt x="17850" y="6"/>
                    </a:cubicBezTo>
                    <a:cubicBezTo>
                      <a:pt x="17850" y="5"/>
                      <a:pt x="17851" y="4"/>
                      <a:pt x="17852" y="4"/>
                    </a:cubicBezTo>
                    <a:close/>
                    <a:moveTo>
                      <a:pt x="17860" y="4"/>
                    </a:moveTo>
                    <a:lnTo>
                      <a:pt x="17860" y="4"/>
                    </a:lnTo>
                    <a:cubicBezTo>
                      <a:pt x="17861" y="4"/>
                      <a:pt x="17862" y="5"/>
                      <a:pt x="17862" y="6"/>
                    </a:cubicBezTo>
                    <a:cubicBezTo>
                      <a:pt x="17862" y="8"/>
                      <a:pt x="17861" y="8"/>
                      <a:pt x="17860" y="8"/>
                    </a:cubicBezTo>
                    <a:lnTo>
                      <a:pt x="17860" y="8"/>
                    </a:lnTo>
                    <a:cubicBezTo>
                      <a:pt x="17859" y="8"/>
                      <a:pt x="17858" y="8"/>
                      <a:pt x="17858" y="6"/>
                    </a:cubicBezTo>
                    <a:cubicBezTo>
                      <a:pt x="17858" y="5"/>
                      <a:pt x="17859" y="4"/>
                      <a:pt x="17860" y="4"/>
                    </a:cubicBezTo>
                    <a:close/>
                    <a:moveTo>
                      <a:pt x="17868" y="4"/>
                    </a:moveTo>
                    <a:lnTo>
                      <a:pt x="17868" y="4"/>
                    </a:lnTo>
                    <a:cubicBezTo>
                      <a:pt x="17869" y="4"/>
                      <a:pt x="17870" y="5"/>
                      <a:pt x="17870" y="6"/>
                    </a:cubicBezTo>
                    <a:cubicBezTo>
                      <a:pt x="17870" y="8"/>
                      <a:pt x="17869" y="8"/>
                      <a:pt x="17868" y="8"/>
                    </a:cubicBezTo>
                    <a:lnTo>
                      <a:pt x="17868" y="8"/>
                    </a:lnTo>
                    <a:cubicBezTo>
                      <a:pt x="17867" y="8"/>
                      <a:pt x="17866" y="8"/>
                      <a:pt x="17866" y="6"/>
                    </a:cubicBezTo>
                    <a:cubicBezTo>
                      <a:pt x="17866" y="5"/>
                      <a:pt x="17867" y="4"/>
                      <a:pt x="17868" y="4"/>
                    </a:cubicBezTo>
                    <a:close/>
                    <a:moveTo>
                      <a:pt x="17876" y="4"/>
                    </a:moveTo>
                    <a:lnTo>
                      <a:pt x="17876" y="4"/>
                    </a:lnTo>
                    <a:cubicBezTo>
                      <a:pt x="17877" y="4"/>
                      <a:pt x="17878" y="5"/>
                      <a:pt x="17878" y="6"/>
                    </a:cubicBezTo>
                    <a:cubicBezTo>
                      <a:pt x="17878" y="8"/>
                      <a:pt x="17877" y="8"/>
                      <a:pt x="17876" y="8"/>
                    </a:cubicBezTo>
                    <a:lnTo>
                      <a:pt x="17876" y="8"/>
                    </a:lnTo>
                    <a:cubicBezTo>
                      <a:pt x="17875" y="8"/>
                      <a:pt x="17874" y="8"/>
                      <a:pt x="17874" y="6"/>
                    </a:cubicBezTo>
                    <a:cubicBezTo>
                      <a:pt x="17874" y="5"/>
                      <a:pt x="17875" y="4"/>
                      <a:pt x="17876" y="4"/>
                    </a:cubicBezTo>
                    <a:close/>
                    <a:moveTo>
                      <a:pt x="17884" y="4"/>
                    </a:moveTo>
                    <a:lnTo>
                      <a:pt x="17884" y="4"/>
                    </a:lnTo>
                    <a:cubicBezTo>
                      <a:pt x="17885" y="4"/>
                      <a:pt x="17886" y="5"/>
                      <a:pt x="17886" y="6"/>
                    </a:cubicBezTo>
                    <a:cubicBezTo>
                      <a:pt x="17886" y="8"/>
                      <a:pt x="17885" y="8"/>
                      <a:pt x="17884" y="8"/>
                    </a:cubicBezTo>
                    <a:lnTo>
                      <a:pt x="17884" y="8"/>
                    </a:lnTo>
                    <a:cubicBezTo>
                      <a:pt x="17883" y="8"/>
                      <a:pt x="17882" y="8"/>
                      <a:pt x="17882" y="6"/>
                    </a:cubicBezTo>
                    <a:cubicBezTo>
                      <a:pt x="17882" y="5"/>
                      <a:pt x="17883" y="4"/>
                      <a:pt x="17884" y="4"/>
                    </a:cubicBezTo>
                    <a:close/>
                    <a:moveTo>
                      <a:pt x="17892" y="4"/>
                    </a:moveTo>
                    <a:lnTo>
                      <a:pt x="17892" y="4"/>
                    </a:lnTo>
                    <a:cubicBezTo>
                      <a:pt x="17893" y="4"/>
                      <a:pt x="17894" y="5"/>
                      <a:pt x="17894" y="6"/>
                    </a:cubicBezTo>
                    <a:cubicBezTo>
                      <a:pt x="17894" y="8"/>
                      <a:pt x="17893" y="8"/>
                      <a:pt x="17892" y="8"/>
                    </a:cubicBezTo>
                    <a:lnTo>
                      <a:pt x="17892" y="8"/>
                    </a:lnTo>
                    <a:cubicBezTo>
                      <a:pt x="17891" y="8"/>
                      <a:pt x="17890" y="8"/>
                      <a:pt x="17890" y="6"/>
                    </a:cubicBezTo>
                    <a:cubicBezTo>
                      <a:pt x="17890" y="5"/>
                      <a:pt x="17891" y="4"/>
                      <a:pt x="17892" y="4"/>
                    </a:cubicBezTo>
                    <a:close/>
                    <a:moveTo>
                      <a:pt x="17900" y="4"/>
                    </a:moveTo>
                    <a:lnTo>
                      <a:pt x="17900" y="4"/>
                    </a:lnTo>
                    <a:cubicBezTo>
                      <a:pt x="17901" y="4"/>
                      <a:pt x="17902" y="5"/>
                      <a:pt x="17902" y="6"/>
                    </a:cubicBezTo>
                    <a:cubicBezTo>
                      <a:pt x="17902" y="8"/>
                      <a:pt x="17901" y="8"/>
                      <a:pt x="17900" y="8"/>
                    </a:cubicBezTo>
                    <a:lnTo>
                      <a:pt x="17900" y="8"/>
                    </a:lnTo>
                    <a:cubicBezTo>
                      <a:pt x="17899" y="8"/>
                      <a:pt x="17898" y="8"/>
                      <a:pt x="17898" y="6"/>
                    </a:cubicBezTo>
                    <a:cubicBezTo>
                      <a:pt x="17898" y="5"/>
                      <a:pt x="17899" y="4"/>
                      <a:pt x="17900" y="4"/>
                    </a:cubicBezTo>
                    <a:close/>
                    <a:moveTo>
                      <a:pt x="17908" y="4"/>
                    </a:moveTo>
                    <a:lnTo>
                      <a:pt x="17908" y="4"/>
                    </a:lnTo>
                    <a:cubicBezTo>
                      <a:pt x="17909" y="4"/>
                      <a:pt x="17910" y="5"/>
                      <a:pt x="17910" y="6"/>
                    </a:cubicBezTo>
                    <a:cubicBezTo>
                      <a:pt x="17910" y="8"/>
                      <a:pt x="17909" y="8"/>
                      <a:pt x="17908" y="8"/>
                    </a:cubicBezTo>
                    <a:lnTo>
                      <a:pt x="17908" y="8"/>
                    </a:lnTo>
                    <a:cubicBezTo>
                      <a:pt x="17907" y="8"/>
                      <a:pt x="17906" y="8"/>
                      <a:pt x="17906" y="6"/>
                    </a:cubicBezTo>
                    <a:cubicBezTo>
                      <a:pt x="17906" y="5"/>
                      <a:pt x="17907" y="4"/>
                      <a:pt x="17908" y="4"/>
                    </a:cubicBezTo>
                    <a:close/>
                    <a:moveTo>
                      <a:pt x="17916" y="4"/>
                    </a:moveTo>
                    <a:lnTo>
                      <a:pt x="17916" y="4"/>
                    </a:lnTo>
                    <a:cubicBezTo>
                      <a:pt x="17917" y="4"/>
                      <a:pt x="17918" y="5"/>
                      <a:pt x="17918" y="6"/>
                    </a:cubicBezTo>
                    <a:cubicBezTo>
                      <a:pt x="17918" y="8"/>
                      <a:pt x="17917" y="8"/>
                      <a:pt x="17916" y="8"/>
                    </a:cubicBezTo>
                    <a:lnTo>
                      <a:pt x="17916" y="8"/>
                    </a:lnTo>
                    <a:cubicBezTo>
                      <a:pt x="17915" y="8"/>
                      <a:pt x="17914" y="8"/>
                      <a:pt x="17914" y="6"/>
                    </a:cubicBezTo>
                    <a:cubicBezTo>
                      <a:pt x="17914" y="5"/>
                      <a:pt x="17915" y="4"/>
                      <a:pt x="17916" y="4"/>
                    </a:cubicBezTo>
                    <a:close/>
                    <a:moveTo>
                      <a:pt x="17924" y="4"/>
                    </a:moveTo>
                    <a:lnTo>
                      <a:pt x="17924" y="4"/>
                    </a:lnTo>
                    <a:cubicBezTo>
                      <a:pt x="17925" y="4"/>
                      <a:pt x="17926" y="5"/>
                      <a:pt x="17926" y="6"/>
                    </a:cubicBezTo>
                    <a:cubicBezTo>
                      <a:pt x="17926" y="8"/>
                      <a:pt x="17925" y="8"/>
                      <a:pt x="17924" y="8"/>
                    </a:cubicBezTo>
                    <a:lnTo>
                      <a:pt x="17924" y="8"/>
                    </a:lnTo>
                    <a:cubicBezTo>
                      <a:pt x="17923" y="8"/>
                      <a:pt x="17922" y="8"/>
                      <a:pt x="17922" y="6"/>
                    </a:cubicBezTo>
                    <a:cubicBezTo>
                      <a:pt x="17922" y="5"/>
                      <a:pt x="17923" y="4"/>
                      <a:pt x="17924" y="4"/>
                    </a:cubicBezTo>
                    <a:close/>
                    <a:moveTo>
                      <a:pt x="17932" y="4"/>
                    </a:moveTo>
                    <a:lnTo>
                      <a:pt x="17932" y="4"/>
                    </a:lnTo>
                    <a:cubicBezTo>
                      <a:pt x="17933" y="4"/>
                      <a:pt x="17934" y="5"/>
                      <a:pt x="17934" y="6"/>
                    </a:cubicBezTo>
                    <a:cubicBezTo>
                      <a:pt x="17934" y="8"/>
                      <a:pt x="17933" y="8"/>
                      <a:pt x="17932" y="8"/>
                    </a:cubicBezTo>
                    <a:lnTo>
                      <a:pt x="17932" y="8"/>
                    </a:lnTo>
                    <a:cubicBezTo>
                      <a:pt x="17931" y="8"/>
                      <a:pt x="17930" y="8"/>
                      <a:pt x="17930" y="6"/>
                    </a:cubicBezTo>
                    <a:cubicBezTo>
                      <a:pt x="17930" y="5"/>
                      <a:pt x="17931" y="4"/>
                      <a:pt x="17932" y="4"/>
                    </a:cubicBezTo>
                    <a:close/>
                    <a:moveTo>
                      <a:pt x="17940" y="4"/>
                    </a:moveTo>
                    <a:lnTo>
                      <a:pt x="17940" y="4"/>
                    </a:lnTo>
                    <a:cubicBezTo>
                      <a:pt x="17941" y="4"/>
                      <a:pt x="17942" y="5"/>
                      <a:pt x="17942" y="6"/>
                    </a:cubicBezTo>
                    <a:cubicBezTo>
                      <a:pt x="17942" y="8"/>
                      <a:pt x="17941" y="8"/>
                      <a:pt x="17940" y="8"/>
                    </a:cubicBezTo>
                    <a:lnTo>
                      <a:pt x="17940" y="8"/>
                    </a:lnTo>
                    <a:cubicBezTo>
                      <a:pt x="17939" y="8"/>
                      <a:pt x="17938" y="8"/>
                      <a:pt x="17938" y="6"/>
                    </a:cubicBezTo>
                    <a:cubicBezTo>
                      <a:pt x="17938" y="5"/>
                      <a:pt x="17939" y="4"/>
                      <a:pt x="17940" y="4"/>
                    </a:cubicBezTo>
                    <a:close/>
                    <a:moveTo>
                      <a:pt x="17948" y="4"/>
                    </a:moveTo>
                    <a:lnTo>
                      <a:pt x="17948" y="4"/>
                    </a:lnTo>
                    <a:cubicBezTo>
                      <a:pt x="17949" y="4"/>
                      <a:pt x="17950" y="5"/>
                      <a:pt x="17950" y="6"/>
                    </a:cubicBezTo>
                    <a:cubicBezTo>
                      <a:pt x="17950" y="8"/>
                      <a:pt x="17949" y="8"/>
                      <a:pt x="17948" y="8"/>
                    </a:cubicBezTo>
                    <a:lnTo>
                      <a:pt x="17948" y="8"/>
                    </a:lnTo>
                    <a:cubicBezTo>
                      <a:pt x="17947" y="8"/>
                      <a:pt x="17946" y="8"/>
                      <a:pt x="17946" y="6"/>
                    </a:cubicBezTo>
                    <a:cubicBezTo>
                      <a:pt x="17946" y="5"/>
                      <a:pt x="17947" y="4"/>
                      <a:pt x="17948" y="4"/>
                    </a:cubicBezTo>
                    <a:close/>
                    <a:moveTo>
                      <a:pt x="17956" y="4"/>
                    </a:moveTo>
                    <a:lnTo>
                      <a:pt x="17956" y="4"/>
                    </a:lnTo>
                    <a:cubicBezTo>
                      <a:pt x="17957" y="4"/>
                      <a:pt x="17958" y="5"/>
                      <a:pt x="17958" y="6"/>
                    </a:cubicBezTo>
                    <a:cubicBezTo>
                      <a:pt x="17958" y="8"/>
                      <a:pt x="17957" y="8"/>
                      <a:pt x="17956" y="8"/>
                    </a:cubicBezTo>
                    <a:lnTo>
                      <a:pt x="17956" y="8"/>
                    </a:lnTo>
                    <a:cubicBezTo>
                      <a:pt x="17955" y="8"/>
                      <a:pt x="17954" y="8"/>
                      <a:pt x="17954" y="6"/>
                    </a:cubicBezTo>
                    <a:cubicBezTo>
                      <a:pt x="17954" y="5"/>
                      <a:pt x="17955" y="4"/>
                      <a:pt x="17956" y="4"/>
                    </a:cubicBezTo>
                    <a:close/>
                    <a:moveTo>
                      <a:pt x="17964" y="4"/>
                    </a:moveTo>
                    <a:lnTo>
                      <a:pt x="17964" y="4"/>
                    </a:lnTo>
                    <a:cubicBezTo>
                      <a:pt x="17965" y="4"/>
                      <a:pt x="17966" y="5"/>
                      <a:pt x="17966" y="6"/>
                    </a:cubicBezTo>
                    <a:cubicBezTo>
                      <a:pt x="17966" y="8"/>
                      <a:pt x="17965" y="8"/>
                      <a:pt x="17964" y="8"/>
                    </a:cubicBezTo>
                    <a:lnTo>
                      <a:pt x="17964" y="8"/>
                    </a:lnTo>
                    <a:cubicBezTo>
                      <a:pt x="17963" y="8"/>
                      <a:pt x="17962" y="8"/>
                      <a:pt x="17962" y="6"/>
                    </a:cubicBezTo>
                    <a:cubicBezTo>
                      <a:pt x="17962" y="5"/>
                      <a:pt x="17963" y="4"/>
                      <a:pt x="17964" y="4"/>
                    </a:cubicBezTo>
                    <a:close/>
                    <a:moveTo>
                      <a:pt x="17972" y="5"/>
                    </a:moveTo>
                    <a:lnTo>
                      <a:pt x="17972" y="5"/>
                    </a:lnTo>
                    <a:cubicBezTo>
                      <a:pt x="17973" y="5"/>
                      <a:pt x="17974" y="5"/>
                      <a:pt x="17974" y="7"/>
                    </a:cubicBezTo>
                    <a:cubicBezTo>
                      <a:pt x="17974" y="8"/>
                      <a:pt x="17973" y="9"/>
                      <a:pt x="17972" y="9"/>
                    </a:cubicBezTo>
                    <a:lnTo>
                      <a:pt x="17972" y="9"/>
                    </a:lnTo>
                    <a:cubicBezTo>
                      <a:pt x="17971" y="9"/>
                      <a:pt x="17970" y="8"/>
                      <a:pt x="17970" y="7"/>
                    </a:cubicBezTo>
                    <a:cubicBezTo>
                      <a:pt x="17970" y="5"/>
                      <a:pt x="17971" y="5"/>
                      <a:pt x="17972" y="5"/>
                    </a:cubicBezTo>
                    <a:close/>
                    <a:moveTo>
                      <a:pt x="17980" y="5"/>
                    </a:moveTo>
                    <a:lnTo>
                      <a:pt x="17980" y="5"/>
                    </a:lnTo>
                    <a:cubicBezTo>
                      <a:pt x="17981" y="5"/>
                      <a:pt x="17982" y="5"/>
                      <a:pt x="17982" y="7"/>
                    </a:cubicBezTo>
                    <a:cubicBezTo>
                      <a:pt x="17982" y="8"/>
                      <a:pt x="17981" y="9"/>
                      <a:pt x="17980" y="9"/>
                    </a:cubicBezTo>
                    <a:lnTo>
                      <a:pt x="17980" y="9"/>
                    </a:lnTo>
                    <a:cubicBezTo>
                      <a:pt x="17979" y="9"/>
                      <a:pt x="17978" y="8"/>
                      <a:pt x="17978" y="7"/>
                    </a:cubicBezTo>
                    <a:cubicBezTo>
                      <a:pt x="17978" y="5"/>
                      <a:pt x="17979" y="5"/>
                      <a:pt x="17980" y="5"/>
                    </a:cubicBezTo>
                    <a:close/>
                    <a:moveTo>
                      <a:pt x="17988" y="5"/>
                    </a:moveTo>
                    <a:lnTo>
                      <a:pt x="17988" y="5"/>
                    </a:lnTo>
                    <a:cubicBezTo>
                      <a:pt x="17989" y="5"/>
                      <a:pt x="17990" y="5"/>
                      <a:pt x="17990" y="7"/>
                    </a:cubicBezTo>
                    <a:cubicBezTo>
                      <a:pt x="17990" y="8"/>
                      <a:pt x="17989" y="9"/>
                      <a:pt x="17988" y="9"/>
                    </a:cubicBezTo>
                    <a:lnTo>
                      <a:pt x="17988" y="9"/>
                    </a:lnTo>
                    <a:cubicBezTo>
                      <a:pt x="17987" y="9"/>
                      <a:pt x="17986" y="8"/>
                      <a:pt x="17986" y="7"/>
                    </a:cubicBezTo>
                    <a:cubicBezTo>
                      <a:pt x="17986" y="5"/>
                      <a:pt x="17987" y="5"/>
                      <a:pt x="17988" y="5"/>
                    </a:cubicBezTo>
                    <a:close/>
                    <a:moveTo>
                      <a:pt x="17996" y="5"/>
                    </a:moveTo>
                    <a:lnTo>
                      <a:pt x="17996" y="5"/>
                    </a:lnTo>
                    <a:cubicBezTo>
                      <a:pt x="17997" y="5"/>
                      <a:pt x="17998" y="5"/>
                      <a:pt x="17998" y="7"/>
                    </a:cubicBezTo>
                    <a:cubicBezTo>
                      <a:pt x="17998" y="8"/>
                      <a:pt x="17997" y="9"/>
                      <a:pt x="17996" y="9"/>
                    </a:cubicBezTo>
                    <a:lnTo>
                      <a:pt x="17996" y="9"/>
                    </a:lnTo>
                    <a:cubicBezTo>
                      <a:pt x="17995" y="9"/>
                      <a:pt x="17994" y="8"/>
                      <a:pt x="17994" y="7"/>
                    </a:cubicBezTo>
                    <a:cubicBezTo>
                      <a:pt x="17994" y="5"/>
                      <a:pt x="17995" y="5"/>
                      <a:pt x="17996" y="5"/>
                    </a:cubicBezTo>
                    <a:close/>
                    <a:moveTo>
                      <a:pt x="18004" y="5"/>
                    </a:moveTo>
                    <a:lnTo>
                      <a:pt x="18004" y="5"/>
                    </a:lnTo>
                    <a:cubicBezTo>
                      <a:pt x="18005" y="5"/>
                      <a:pt x="18006" y="5"/>
                      <a:pt x="18006" y="7"/>
                    </a:cubicBezTo>
                    <a:cubicBezTo>
                      <a:pt x="18006" y="8"/>
                      <a:pt x="18005" y="9"/>
                      <a:pt x="18004" y="9"/>
                    </a:cubicBezTo>
                    <a:lnTo>
                      <a:pt x="18004" y="9"/>
                    </a:lnTo>
                    <a:cubicBezTo>
                      <a:pt x="18003" y="9"/>
                      <a:pt x="18002" y="8"/>
                      <a:pt x="18002" y="7"/>
                    </a:cubicBezTo>
                    <a:cubicBezTo>
                      <a:pt x="18002" y="5"/>
                      <a:pt x="18003" y="5"/>
                      <a:pt x="18004" y="5"/>
                    </a:cubicBezTo>
                    <a:close/>
                    <a:moveTo>
                      <a:pt x="18012" y="5"/>
                    </a:moveTo>
                    <a:lnTo>
                      <a:pt x="18012" y="5"/>
                    </a:lnTo>
                    <a:cubicBezTo>
                      <a:pt x="18013" y="5"/>
                      <a:pt x="18014" y="5"/>
                      <a:pt x="18014" y="7"/>
                    </a:cubicBezTo>
                    <a:cubicBezTo>
                      <a:pt x="18014" y="8"/>
                      <a:pt x="18013" y="9"/>
                      <a:pt x="18012" y="9"/>
                    </a:cubicBezTo>
                    <a:lnTo>
                      <a:pt x="18012" y="9"/>
                    </a:lnTo>
                    <a:cubicBezTo>
                      <a:pt x="18011" y="9"/>
                      <a:pt x="18010" y="8"/>
                      <a:pt x="18010" y="7"/>
                    </a:cubicBezTo>
                    <a:cubicBezTo>
                      <a:pt x="18010" y="5"/>
                      <a:pt x="18011" y="5"/>
                      <a:pt x="18012" y="5"/>
                    </a:cubicBezTo>
                    <a:close/>
                    <a:moveTo>
                      <a:pt x="18020" y="5"/>
                    </a:moveTo>
                    <a:lnTo>
                      <a:pt x="18020" y="5"/>
                    </a:lnTo>
                    <a:cubicBezTo>
                      <a:pt x="18021" y="5"/>
                      <a:pt x="18022" y="5"/>
                      <a:pt x="18022" y="7"/>
                    </a:cubicBezTo>
                    <a:cubicBezTo>
                      <a:pt x="18022" y="8"/>
                      <a:pt x="18021" y="9"/>
                      <a:pt x="18020" y="9"/>
                    </a:cubicBezTo>
                    <a:lnTo>
                      <a:pt x="18020" y="9"/>
                    </a:lnTo>
                    <a:cubicBezTo>
                      <a:pt x="18019" y="9"/>
                      <a:pt x="18018" y="8"/>
                      <a:pt x="18018" y="7"/>
                    </a:cubicBezTo>
                    <a:cubicBezTo>
                      <a:pt x="18018" y="5"/>
                      <a:pt x="18019" y="5"/>
                      <a:pt x="18020" y="5"/>
                    </a:cubicBezTo>
                    <a:close/>
                    <a:moveTo>
                      <a:pt x="18028" y="5"/>
                    </a:moveTo>
                    <a:lnTo>
                      <a:pt x="18028" y="5"/>
                    </a:lnTo>
                    <a:cubicBezTo>
                      <a:pt x="18029" y="5"/>
                      <a:pt x="18030" y="5"/>
                      <a:pt x="18030" y="7"/>
                    </a:cubicBezTo>
                    <a:cubicBezTo>
                      <a:pt x="18030" y="8"/>
                      <a:pt x="18029" y="9"/>
                      <a:pt x="18028" y="9"/>
                    </a:cubicBezTo>
                    <a:lnTo>
                      <a:pt x="18028" y="9"/>
                    </a:lnTo>
                    <a:cubicBezTo>
                      <a:pt x="18027" y="9"/>
                      <a:pt x="18026" y="8"/>
                      <a:pt x="18026" y="7"/>
                    </a:cubicBezTo>
                    <a:cubicBezTo>
                      <a:pt x="18026" y="5"/>
                      <a:pt x="18027" y="5"/>
                      <a:pt x="18028" y="5"/>
                    </a:cubicBezTo>
                    <a:close/>
                    <a:moveTo>
                      <a:pt x="18036" y="5"/>
                    </a:moveTo>
                    <a:lnTo>
                      <a:pt x="18036" y="5"/>
                    </a:lnTo>
                    <a:cubicBezTo>
                      <a:pt x="18037" y="5"/>
                      <a:pt x="18038" y="5"/>
                      <a:pt x="18038" y="7"/>
                    </a:cubicBezTo>
                    <a:cubicBezTo>
                      <a:pt x="18038" y="8"/>
                      <a:pt x="18037" y="9"/>
                      <a:pt x="18036" y="9"/>
                    </a:cubicBezTo>
                    <a:lnTo>
                      <a:pt x="18036" y="9"/>
                    </a:lnTo>
                    <a:cubicBezTo>
                      <a:pt x="18035" y="9"/>
                      <a:pt x="18034" y="8"/>
                      <a:pt x="18034" y="7"/>
                    </a:cubicBezTo>
                    <a:cubicBezTo>
                      <a:pt x="18034" y="5"/>
                      <a:pt x="18035" y="5"/>
                      <a:pt x="18036" y="5"/>
                    </a:cubicBezTo>
                    <a:close/>
                    <a:moveTo>
                      <a:pt x="18044" y="5"/>
                    </a:moveTo>
                    <a:lnTo>
                      <a:pt x="18044" y="5"/>
                    </a:lnTo>
                    <a:cubicBezTo>
                      <a:pt x="18045" y="5"/>
                      <a:pt x="18046" y="5"/>
                      <a:pt x="18046" y="7"/>
                    </a:cubicBezTo>
                    <a:cubicBezTo>
                      <a:pt x="18046" y="8"/>
                      <a:pt x="18045" y="9"/>
                      <a:pt x="18044" y="9"/>
                    </a:cubicBezTo>
                    <a:lnTo>
                      <a:pt x="18044" y="9"/>
                    </a:lnTo>
                    <a:cubicBezTo>
                      <a:pt x="18043" y="9"/>
                      <a:pt x="18042" y="8"/>
                      <a:pt x="18042" y="7"/>
                    </a:cubicBezTo>
                    <a:cubicBezTo>
                      <a:pt x="18042" y="5"/>
                      <a:pt x="18043" y="5"/>
                      <a:pt x="18044" y="5"/>
                    </a:cubicBezTo>
                    <a:close/>
                    <a:moveTo>
                      <a:pt x="18052" y="5"/>
                    </a:moveTo>
                    <a:lnTo>
                      <a:pt x="18052" y="5"/>
                    </a:lnTo>
                    <a:cubicBezTo>
                      <a:pt x="18053" y="5"/>
                      <a:pt x="18054" y="5"/>
                      <a:pt x="18054" y="7"/>
                    </a:cubicBezTo>
                    <a:cubicBezTo>
                      <a:pt x="18054" y="8"/>
                      <a:pt x="18053" y="9"/>
                      <a:pt x="18052" y="9"/>
                    </a:cubicBezTo>
                    <a:lnTo>
                      <a:pt x="18052" y="9"/>
                    </a:lnTo>
                    <a:cubicBezTo>
                      <a:pt x="18051" y="9"/>
                      <a:pt x="18050" y="8"/>
                      <a:pt x="18050" y="7"/>
                    </a:cubicBezTo>
                    <a:cubicBezTo>
                      <a:pt x="18050" y="5"/>
                      <a:pt x="18051" y="5"/>
                      <a:pt x="18052" y="5"/>
                    </a:cubicBezTo>
                    <a:close/>
                    <a:moveTo>
                      <a:pt x="18060" y="5"/>
                    </a:moveTo>
                    <a:lnTo>
                      <a:pt x="18060" y="5"/>
                    </a:lnTo>
                    <a:cubicBezTo>
                      <a:pt x="18061" y="5"/>
                      <a:pt x="18062" y="5"/>
                      <a:pt x="18062" y="7"/>
                    </a:cubicBezTo>
                    <a:cubicBezTo>
                      <a:pt x="18062" y="8"/>
                      <a:pt x="18061" y="9"/>
                      <a:pt x="18060" y="9"/>
                    </a:cubicBezTo>
                    <a:lnTo>
                      <a:pt x="18060" y="9"/>
                    </a:lnTo>
                    <a:cubicBezTo>
                      <a:pt x="18059" y="9"/>
                      <a:pt x="18058" y="8"/>
                      <a:pt x="18058" y="7"/>
                    </a:cubicBezTo>
                    <a:cubicBezTo>
                      <a:pt x="18058" y="5"/>
                      <a:pt x="18059" y="5"/>
                      <a:pt x="18060" y="5"/>
                    </a:cubicBezTo>
                    <a:close/>
                    <a:moveTo>
                      <a:pt x="18068" y="5"/>
                    </a:moveTo>
                    <a:lnTo>
                      <a:pt x="18068" y="5"/>
                    </a:lnTo>
                    <a:cubicBezTo>
                      <a:pt x="18069" y="5"/>
                      <a:pt x="18070" y="5"/>
                      <a:pt x="18070" y="7"/>
                    </a:cubicBezTo>
                    <a:cubicBezTo>
                      <a:pt x="18070" y="8"/>
                      <a:pt x="18069" y="9"/>
                      <a:pt x="18068" y="9"/>
                    </a:cubicBezTo>
                    <a:lnTo>
                      <a:pt x="18068" y="9"/>
                    </a:lnTo>
                    <a:cubicBezTo>
                      <a:pt x="18067" y="9"/>
                      <a:pt x="18066" y="8"/>
                      <a:pt x="18066" y="7"/>
                    </a:cubicBezTo>
                    <a:cubicBezTo>
                      <a:pt x="18066" y="5"/>
                      <a:pt x="18067" y="5"/>
                      <a:pt x="18068" y="5"/>
                    </a:cubicBezTo>
                    <a:close/>
                    <a:moveTo>
                      <a:pt x="18076" y="5"/>
                    </a:moveTo>
                    <a:lnTo>
                      <a:pt x="18076" y="5"/>
                    </a:lnTo>
                    <a:cubicBezTo>
                      <a:pt x="18077" y="5"/>
                      <a:pt x="18078" y="5"/>
                      <a:pt x="18078" y="7"/>
                    </a:cubicBezTo>
                    <a:cubicBezTo>
                      <a:pt x="18078" y="8"/>
                      <a:pt x="18077" y="9"/>
                      <a:pt x="18076" y="9"/>
                    </a:cubicBezTo>
                    <a:lnTo>
                      <a:pt x="18076" y="9"/>
                    </a:lnTo>
                    <a:cubicBezTo>
                      <a:pt x="18075" y="9"/>
                      <a:pt x="18074" y="8"/>
                      <a:pt x="18074" y="7"/>
                    </a:cubicBezTo>
                    <a:cubicBezTo>
                      <a:pt x="18074" y="5"/>
                      <a:pt x="18075" y="5"/>
                      <a:pt x="18076" y="5"/>
                    </a:cubicBezTo>
                    <a:close/>
                    <a:moveTo>
                      <a:pt x="18084" y="5"/>
                    </a:moveTo>
                    <a:lnTo>
                      <a:pt x="18084" y="5"/>
                    </a:lnTo>
                    <a:cubicBezTo>
                      <a:pt x="18085" y="5"/>
                      <a:pt x="18086" y="5"/>
                      <a:pt x="18086" y="7"/>
                    </a:cubicBezTo>
                    <a:cubicBezTo>
                      <a:pt x="18086" y="8"/>
                      <a:pt x="18085" y="9"/>
                      <a:pt x="18084" y="9"/>
                    </a:cubicBezTo>
                    <a:lnTo>
                      <a:pt x="18084" y="9"/>
                    </a:lnTo>
                    <a:cubicBezTo>
                      <a:pt x="18083" y="9"/>
                      <a:pt x="18082" y="8"/>
                      <a:pt x="18082" y="7"/>
                    </a:cubicBezTo>
                    <a:cubicBezTo>
                      <a:pt x="18082" y="5"/>
                      <a:pt x="18083" y="5"/>
                      <a:pt x="18084" y="5"/>
                    </a:cubicBezTo>
                    <a:close/>
                    <a:moveTo>
                      <a:pt x="18092" y="5"/>
                    </a:moveTo>
                    <a:lnTo>
                      <a:pt x="18092" y="5"/>
                    </a:lnTo>
                    <a:cubicBezTo>
                      <a:pt x="18093" y="5"/>
                      <a:pt x="18094" y="5"/>
                      <a:pt x="18094" y="7"/>
                    </a:cubicBezTo>
                    <a:cubicBezTo>
                      <a:pt x="18094" y="8"/>
                      <a:pt x="18093" y="9"/>
                      <a:pt x="18092" y="9"/>
                    </a:cubicBezTo>
                    <a:lnTo>
                      <a:pt x="18092" y="9"/>
                    </a:lnTo>
                    <a:cubicBezTo>
                      <a:pt x="18091" y="9"/>
                      <a:pt x="18090" y="8"/>
                      <a:pt x="18090" y="7"/>
                    </a:cubicBezTo>
                    <a:cubicBezTo>
                      <a:pt x="18090" y="5"/>
                      <a:pt x="18091" y="5"/>
                      <a:pt x="18092" y="5"/>
                    </a:cubicBezTo>
                    <a:close/>
                    <a:moveTo>
                      <a:pt x="18100" y="5"/>
                    </a:moveTo>
                    <a:lnTo>
                      <a:pt x="18100" y="5"/>
                    </a:lnTo>
                    <a:cubicBezTo>
                      <a:pt x="18101" y="5"/>
                      <a:pt x="18102" y="5"/>
                      <a:pt x="18102" y="7"/>
                    </a:cubicBezTo>
                    <a:cubicBezTo>
                      <a:pt x="18102" y="8"/>
                      <a:pt x="18101" y="9"/>
                      <a:pt x="18100" y="9"/>
                    </a:cubicBezTo>
                    <a:lnTo>
                      <a:pt x="18100" y="9"/>
                    </a:lnTo>
                    <a:cubicBezTo>
                      <a:pt x="18099" y="9"/>
                      <a:pt x="18098" y="8"/>
                      <a:pt x="18098" y="7"/>
                    </a:cubicBezTo>
                    <a:cubicBezTo>
                      <a:pt x="18098" y="5"/>
                      <a:pt x="18099" y="5"/>
                      <a:pt x="18100" y="5"/>
                    </a:cubicBezTo>
                    <a:close/>
                    <a:moveTo>
                      <a:pt x="18108" y="5"/>
                    </a:moveTo>
                    <a:lnTo>
                      <a:pt x="18108" y="5"/>
                    </a:lnTo>
                    <a:cubicBezTo>
                      <a:pt x="18109" y="5"/>
                      <a:pt x="18110" y="5"/>
                      <a:pt x="18110" y="7"/>
                    </a:cubicBezTo>
                    <a:cubicBezTo>
                      <a:pt x="18110" y="8"/>
                      <a:pt x="18109" y="9"/>
                      <a:pt x="18108" y="9"/>
                    </a:cubicBezTo>
                    <a:lnTo>
                      <a:pt x="18108" y="9"/>
                    </a:lnTo>
                    <a:cubicBezTo>
                      <a:pt x="18107" y="9"/>
                      <a:pt x="18106" y="8"/>
                      <a:pt x="18106" y="7"/>
                    </a:cubicBezTo>
                    <a:cubicBezTo>
                      <a:pt x="18106" y="5"/>
                      <a:pt x="18107" y="5"/>
                      <a:pt x="18108" y="5"/>
                    </a:cubicBezTo>
                    <a:close/>
                    <a:moveTo>
                      <a:pt x="18116" y="5"/>
                    </a:moveTo>
                    <a:lnTo>
                      <a:pt x="18116" y="5"/>
                    </a:lnTo>
                    <a:cubicBezTo>
                      <a:pt x="18117" y="5"/>
                      <a:pt x="18118" y="5"/>
                      <a:pt x="18118" y="7"/>
                    </a:cubicBezTo>
                    <a:cubicBezTo>
                      <a:pt x="18118" y="8"/>
                      <a:pt x="18117" y="9"/>
                      <a:pt x="18116" y="9"/>
                    </a:cubicBezTo>
                    <a:lnTo>
                      <a:pt x="18116" y="9"/>
                    </a:lnTo>
                    <a:cubicBezTo>
                      <a:pt x="18115" y="9"/>
                      <a:pt x="18114" y="8"/>
                      <a:pt x="18114" y="7"/>
                    </a:cubicBezTo>
                    <a:cubicBezTo>
                      <a:pt x="18114" y="5"/>
                      <a:pt x="18115" y="5"/>
                      <a:pt x="18116" y="5"/>
                    </a:cubicBezTo>
                    <a:close/>
                    <a:moveTo>
                      <a:pt x="18124" y="5"/>
                    </a:moveTo>
                    <a:lnTo>
                      <a:pt x="18124" y="5"/>
                    </a:lnTo>
                    <a:cubicBezTo>
                      <a:pt x="18125" y="5"/>
                      <a:pt x="18126" y="5"/>
                      <a:pt x="18126" y="7"/>
                    </a:cubicBezTo>
                    <a:cubicBezTo>
                      <a:pt x="18126" y="8"/>
                      <a:pt x="18125" y="9"/>
                      <a:pt x="18124" y="9"/>
                    </a:cubicBezTo>
                    <a:lnTo>
                      <a:pt x="18124" y="9"/>
                    </a:lnTo>
                    <a:cubicBezTo>
                      <a:pt x="18123" y="9"/>
                      <a:pt x="18122" y="8"/>
                      <a:pt x="18122" y="7"/>
                    </a:cubicBezTo>
                    <a:cubicBezTo>
                      <a:pt x="18122" y="5"/>
                      <a:pt x="18123" y="5"/>
                      <a:pt x="18124" y="5"/>
                    </a:cubicBezTo>
                    <a:close/>
                    <a:moveTo>
                      <a:pt x="18132" y="5"/>
                    </a:moveTo>
                    <a:lnTo>
                      <a:pt x="18132" y="5"/>
                    </a:lnTo>
                    <a:cubicBezTo>
                      <a:pt x="18133" y="5"/>
                      <a:pt x="18134" y="5"/>
                      <a:pt x="18134" y="7"/>
                    </a:cubicBezTo>
                    <a:cubicBezTo>
                      <a:pt x="18134" y="8"/>
                      <a:pt x="18133" y="9"/>
                      <a:pt x="18132" y="9"/>
                    </a:cubicBezTo>
                    <a:lnTo>
                      <a:pt x="18132" y="9"/>
                    </a:lnTo>
                    <a:cubicBezTo>
                      <a:pt x="18131" y="9"/>
                      <a:pt x="18130" y="8"/>
                      <a:pt x="18130" y="7"/>
                    </a:cubicBezTo>
                    <a:cubicBezTo>
                      <a:pt x="18130" y="5"/>
                      <a:pt x="18131" y="5"/>
                      <a:pt x="18132" y="5"/>
                    </a:cubicBezTo>
                    <a:close/>
                    <a:moveTo>
                      <a:pt x="18140" y="5"/>
                    </a:moveTo>
                    <a:lnTo>
                      <a:pt x="18140" y="5"/>
                    </a:lnTo>
                    <a:cubicBezTo>
                      <a:pt x="18141" y="5"/>
                      <a:pt x="18142" y="5"/>
                      <a:pt x="18142" y="7"/>
                    </a:cubicBezTo>
                    <a:cubicBezTo>
                      <a:pt x="18142" y="8"/>
                      <a:pt x="18141" y="9"/>
                      <a:pt x="18140" y="9"/>
                    </a:cubicBezTo>
                    <a:lnTo>
                      <a:pt x="18140" y="9"/>
                    </a:lnTo>
                    <a:cubicBezTo>
                      <a:pt x="18139" y="9"/>
                      <a:pt x="18138" y="8"/>
                      <a:pt x="18138" y="7"/>
                    </a:cubicBezTo>
                    <a:cubicBezTo>
                      <a:pt x="18138" y="5"/>
                      <a:pt x="18139" y="5"/>
                      <a:pt x="18140" y="5"/>
                    </a:cubicBezTo>
                    <a:close/>
                    <a:moveTo>
                      <a:pt x="18148" y="5"/>
                    </a:moveTo>
                    <a:lnTo>
                      <a:pt x="18148" y="5"/>
                    </a:lnTo>
                    <a:cubicBezTo>
                      <a:pt x="18149" y="5"/>
                      <a:pt x="18150" y="5"/>
                      <a:pt x="18150" y="7"/>
                    </a:cubicBezTo>
                    <a:cubicBezTo>
                      <a:pt x="18150" y="8"/>
                      <a:pt x="18149" y="9"/>
                      <a:pt x="18148" y="9"/>
                    </a:cubicBezTo>
                    <a:lnTo>
                      <a:pt x="18148" y="9"/>
                    </a:lnTo>
                    <a:cubicBezTo>
                      <a:pt x="18147" y="9"/>
                      <a:pt x="18146" y="8"/>
                      <a:pt x="18146" y="7"/>
                    </a:cubicBezTo>
                    <a:cubicBezTo>
                      <a:pt x="18146" y="5"/>
                      <a:pt x="18147" y="5"/>
                      <a:pt x="18148" y="5"/>
                    </a:cubicBezTo>
                    <a:close/>
                    <a:moveTo>
                      <a:pt x="18156" y="5"/>
                    </a:moveTo>
                    <a:lnTo>
                      <a:pt x="18156" y="5"/>
                    </a:lnTo>
                    <a:cubicBezTo>
                      <a:pt x="18157" y="5"/>
                      <a:pt x="18158" y="5"/>
                      <a:pt x="18158" y="7"/>
                    </a:cubicBezTo>
                    <a:cubicBezTo>
                      <a:pt x="18158" y="8"/>
                      <a:pt x="18157" y="9"/>
                      <a:pt x="18156" y="9"/>
                    </a:cubicBezTo>
                    <a:lnTo>
                      <a:pt x="18156" y="9"/>
                    </a:lnTo>
                    <a:cubicBezTo>
                      <a:pt x="18155" y="9"/>
                      <a:pt x="18154" y="8"/>
                      <a:pt x="18154" y="7"/>
                    </a:cubicBezTo>
                    <a:cubicBezTo>
                      <a:pt x="18154" y="5"/>
                      <a:pt x="18155" y="5"/>
                      <a:pt x="18156" y="5"/>
                    </a:cubicBezTo>
                    <a:close/>
                    <a:moveTo>
                      <a:pt x="18164" y="5"/>
                    </a:moveTo>
                    <a:lnTo>
                      <a:pt x="18164" y="5"/>
                    </a:lnTo>
                    <a:cubicBezTo>
                      <a:pt x="18165" y="5"/>
                      <a:pt x="18166" y="5"/>
                      <a:pt x="18166" y="7"/>
                    </a:cubicBezTo>
                    <a:cubicBezTo>
                      <a:pt x="18166" y="8"/>
                      <a:pt x="18165" y="9"/>
                      <a:pt x="18164" y="9"/>
                    </a:cubicBezTo>
                    <a:lnTo>
                      <a:pt x="18164" y="9"/>
                    </a:lnTo>
                    <a:cubicBezTo>
                      <a:pt x="18163" y="9"/>
                      <a:pt x="18162" y="8"/>
                      <a:pt x="18162" y="7"/>
                    </a:cubicBezTo>
                    <a:cubicBezTo>
                      <a:pt x="18162" y="5"/>
                      <a:pt x="18163" y="5"/>
                      <a:pt x="18164" y="5"/>
                    </a:cubicBezTo>
                    <a:close/>
                    <a:moveTo>
                      <a:pt x="18172" y="5"/>
                    </a:moveTo>
                    <a:lnTo>
                      <a:pt x="18172" y="5"/>
                    </a:lnTo>
                    <a:cubicBezTo>
                      <a:pt x="18173" y="5"/>
                      <a:pt x="18174" y="5"/>
                      <a:pt x="18174" y="7"/>
                    </a:cubicBezTo>
                    <a:cubicBezTo>
                      <a:pt x="18174" y="8"/>
                      <a:pt x="18173" y="9"/>
                      <a:pt x="18172" y="9"/>
                    </a:cubicBezTo>
                    <a:lnTo>
                      <a:pt x="18172" y="9"/>
                    </a:lnTo>
                    <a:cubicBezTo>
                      <a:pt x="18171" y="9"/>
                      <a:pt x="18170" y="8"/>
                      <a:pt x="18170" y="7"/>
                    </a:cubicBezTo>
                    <a:cubicBezTo>
                      <a:pt x="18170" y="5"/>
                      <a:pt x="18171" y="5"/>
                      <a:pt x="18172" y="5"/>
                    </a:cubicBezTo>
                    <a:close/>
                    <a:moveTo>
                      <a:pt x="18180" y="5"/>
                    </a:moveTo>
                    <a:lnTo>
                      <a:pt x="18180" y="5"/>
                    </a:lnTo>
                    <a:cubicBezTo>
                      <a:pt x="18181" y="5"/>
                      <a:pt x="18182" y="5"/>
                      <a:pt x="18182" y="7"/>
                    </a:cubicBezTo>
                    <a:cubicBezTo>
                      <a:pt x="18182" y="8"/>
                      <a:pt x="18181" y="9"/>
                      <a:pt x="18180" y="9"/>
                    </a:cubicBezTo>
                    <a:lnTo>
                      <a:pt x="18180" y="9"/>
                    </a:lnTo>
                    <a:cubicBezTo>
                      <a:pt x="18179" y="9"/>
                      <a:pt x="18178" y="8"/>
                      <a:pt x="18178" y="7"/>
                    </a:cubicBezTo>
                    <a:cubicBezTo>
                      <a:pt x="18178" y="5"/>
                      <a:pt x="18179" y="5"/>
                      <a:pt x="18180" y="5"/>
                    </a:cubicBezTo>
                    <a:close/>
                    <a:moveTo>
                      <a:pt x="18188" y="5"/>
                    </a:moveTo>
                    <a:lnTo>
                      <a:pt x="18188" y="5"/>
                    </a:lnTo>
                    <a:cubicBezTo>
                      <a:pt x="18189" y="5"/>
                      <a:pt x="18190" y="5"/>
                      <a:pt x="18190" y="7"/>
                    </a:cubicBezTo>
                    <a:cubicBezTo>
                      <a:pt x="18190" y="8"/>
                      <a:pt x="18189" y="9"/>
                      <a:pt x="18188" y="9"/>
                    </a:cubicBezTo>
                    <a:lnTo>
                      <a:pt x="18188" y="9"/>
                    </a:lnTo>
                    <a:cubicBezTo>
                      <a:pt x="18187" y="9"/>
                      <a:pt x="18186" y="8"/>
                      <a:pt x="18186" y="7"/>
                    </a:cubicBezTo>
                    <a:cubicBezTo>
                      <a:pt x="18186" y="5"/>
                      <a:pt x="18187" y="5"/>
                      <a:pt x="18188" y="5"/>
                    </a:cubicBezTo>
                    <a:close/>
                    <a:moveTo>
                      <a:pt x="18196" y="5"/>
                    </a:moveTo>
                    <a:lnTo>
                      <a:pt x="18196" y="5"/>
                    </a:lnTo>
                    <a:cubicBezTo>
                      <a:pt x="18197" y="5"/>
                      <a:pt x="18198" y="5"/>
                      <a:pt x="18198" y="7"/>
                    </a:cubicBezTo>
                    <a:cubicBezTo>
                      <a:pt x="18198" y="8"/>
                      <a:pt x="18197" y="9"/>
                      <a:pt x="18196" y="9"/>
                    </a:cubicBezTo>
                    <a:lnTo>
                      <a:pt x="18196" y="9"/>
                    </a:lnTo>
                    <a:cubicBezTo>
                      <a:pt x="18195" y="9"/>
                      <a:pt x="18194" y="8"/>
                      <a:pt x="18194" y="7"/>
                    </a:cubicBezTo>
                    <a:cubicBezTo>
                      <a:pt x="18194" y="5"/>
                      <a:pt x="18195" y="5"/>
                      <a:pt x="18196" y="5"/>
                    </a:cubicBezTo>
                    <a:close/>
                    <a:moveTo>
                      <a:pt x="18204" y="5"/>
                    </a:moveTo>
                    <a:lnTo>
                      <a:pt x="18204" y="5"/>
                    </a:lnTo>
                    <a:cubicBezTo>
                      <a:pt x="18205" y="5"/>
                      <a:pt x="18206" y="5"/>
                      <a:pt x="18206" y="7"/>
                    </a:cubicBezTo>
                    <a:cubicBezTo>
                      <a:pt x="18206" y="8"/>
                      <a:pt x="18205" y="9"/>
                      <a:pt x="18204" y="9"/>
                    </a:cubicBezTo>
                    <a:lnTo>
                      <a:pt x="18204" y="9"/>
                    </a:lnTo>
                    <a:cubicBezTo>
                      <a:pt x="18203" y="9"/>
                      <a:pt x="18202" y="8"/>
                      <a:pt x="18202" y="7"/>
                    </a:cubicBezTo>
                    <a:cubicBezTo>
                      <a:pt x="18202" y="5"/>
                      <a:pt x="18203" y="5"/>
                      <a:pt x="18204" y="5"/>
                    </a:cubicBezTo>
                    <a:close/>
                    <a:moveTo>
                      <a:pt x="18212" y="5"/>
                    </a:moveTo>
                    <a:lnTo>
                      <a:pt x="18212" y="5"/>
                    </a:lnTo>
                    <a:cubicBezTo>
                      <a:pt x="18214" y="5"/>
                      <a:pt x="18214" y="5"/>
                      <a:pt x="18214" y="7"/>
                    </a:cubicBezTo>
                    <a:cubicBezTo>
                      <a:pt x="18214" y="8"/>
                      <a:pt x="18214" y="9"/>
                      <a:pt x="18212" y="9"/>
                    </a:cubicBezTo>
                    <a:lnTo>
                      <a:pt x="18212" y="9"/>
                    </a:lnTo>
                    <a:cubicBezTo>
                      <a:pt x="18211" y="9"/>
                      <a:pt x="18210" y="8"/>
                      <a:pt x="18210" y="7"/>
                    </a:cubicBezTo>
                    <a:cubicBezTo>
                      <a:pt x="18210" y="5"/>
                      <a:pt x="18211" y="5"/>
                      <a:pt x="18212" y="5"/>
                    </a:cubicBezTo>
                    <a:close/>
                    <a:moveTo>
                      <a:pt x="18220" y="5"/>
                    </a:moveTo>
                    <a:lnTo>
                      <a:pt x="18220" y="5"/>
                    </a:lnTo>
                    <a:cubicBezTo>
                      <a:pt x="18222" y="5"/>
                      <a:pt x="18222" y="5"/>
                      <a:pt x="18222" y="7"/>
                    </a:cubicBezTo>
                    <a:cubicBezTo>
                      <a:pt x="18222" y="8"/>
                      <a:pt x="18222" y="9"/>
                      <a:pt x="18220" y="9"/>
                    </a:cubicBezTo>
                    <a:lnTo>
                      <a:pt x="18220" y="9"/>
                    </a:lnTo>
                    <a:cubicBezTo>
                      <a:pt x="18219" y="9"/>
                      <a:pt x="18218" y="8"/>
                      <a:pt x="18218" y="7"/>
                    </a:cubicBezTo>
                    <a:cubicBezTo>
                      <a:pt x="18218" y="5"/>
                      <a:pt x="18219" y="5"/>
                      <a:pt x="18220" y="5"/>
                    </a:cubicBezTo>
                    <a:close/>
                    <a:moveTo>
                      <a:pt x="18228" y="5"/>
                    </a:moveTo>
                    <a:lnTo>
                      <a:pt x="18228" y="5"/>
                    </a:lnTo>
                    <a:cubicBezTo>
                      <a:pt x="18230" y="5"/>
                      <a:pt x="18230" y="5"/>
                      <a:pt x="18230" y="7"/>
                    </a:cubicBezTo>
                    <a:cubicBezTo>
                      <a:pt x="18230" y="8"/>
                      <a:pt x="18230" y="9"/>
                      <a:pt x="18228" y="9"/>
                    </a:cubicBezTo>
                    <a:lnTo>
                      <a:pt x="18228" y="9"/>
                    </a:lnTo>
                    <a:cubicBezTo>
                      <a:pt x="18227" y="9"/>
                      <a:pt x="18226" y="8"/>
                      <a:pt x="18226" y="7"/>
                    </a:cubicBezTo>
                    <a:cubicBezTo>
                      <a:pt x="18226" y="5"/>
                      <a:pt x="18227" y="5"/>
                      <a:pt x="18228" y="5"/>
                    </a:cubicBezTo>
                    <a:close/>
                    <a:moveTo>
                      <a:pt x="18236" y="5"/>
                    </a:moveTo>
                    <a:lnTo>
                      <a:pt x="18236" y="5"/>
                    </a:lnTo>
                    <a:cubicBezTo>
                      <a:pt x="18238" y="5"/>
                      <a:pt x="18238" y="5"/>
                      <a:pt x="18238" y="7"/>
                    </a:cubicBezTo>
                    <a:cubicBezTo>
                      <a:pt x="18238" y="8"/>
                      <a:pt x="18238" y="9"/>
                      <a:pt x="18236" y="9"/>
                    </a:cubicBezTo>
                    <a:lnTo>
                      <a:pt x="18236" y="9"/>
                    </a:lnTo>
                    <a:cubicBezTo>
                      <a:pt x="18235" y="9"/>
                      <a:pt x="18234" y="8"/>
                      <a:pt x="18234" y="7"/>
                    </a:cubicBezTo>
                    <a:cubicBezTo>
                      <a:pt x="18234" y="5"/>
                      <a:pt x="18235" y="5"/>
                      <a:pt x="18236" y="5"/>
                    </a:cubicBezTo>
                    <a:close/>
                    <a:moveTo>
                      <a:pt x="18244" y="5"/>
                    </a:moveTo>
                    <a:lnTo>
                      <a:pt x="18244" y="5"/>
                    </a:lnTo>
                    <a:cubicBezTo>
                      <a:pt x="18246" y="5"/>
                      <a:pt x="18246" y="5"/>
                      <a:pt x="18246" y="7"/>
                    </a:cubicBezTo>
                    <a:cubicBezTo>
                      <a:pt x="18246" y="8"/>
                      <a:pt x="18246" y="9"/>
                      <a:pt x="18244" y="9"/>
                    </a:cubicBezTo>
                    <a:lnTo>
                      <a:pt x="18244" y="9"/>
                    </a:lnTo>
                    <a:cubicBezTo>
                      <a:pt x="18243" y="9"/>
                      <a:pt x="18242" y="8"/>
                      <a:pt x="18242" y="7"/>
                    </a:cubicBezTo>
                    <a:cubicBezTo>
                      <a:pt x="18242" y="5"/>
                      <a:pt x="18243" y="5"/>
                      <a:pt x="18244" y="5"/>
                    </a:cubicBezTo>
                    <a:close/>
                    <a:moveTo>
                      <a:pt x="18252" y="5"/>
                    </a:moveTo>
                    <a:lnTo>
                      <a:pt x="18252" y="5"/>
                    </a:lnTo>
                    <a:cubicBezTo>
                      <a:pt x="18254" y="5"/>
                      <a:pt x="18254" y="5"/>
                      <a:pt x="18254" y="7"/>
                    </a:cubicBezTo>
                    <a:cubicBezTo>
                      <a:pt x="18254" y="8"/>
                      <a:pt x="18254" y="9"/>
                      <a:pt x="18252" y="9"/>
                    </a:cubicBezTo>
                    <a:lnTo>
                      <a:pt x="18252" y="9"/>
                    </a:lnTo>
                    <a:cubicBezTo>
                      <a:pt x="18251" y="9"/>
                      <a:pt x="18250" y="8"/>
                      <a:pt x="18250" y="7"/>
                    </a:cubicBezTo>
                    <a:cubicBezTo>
                      <a:pt x="18250" y="5"/>
                      <a:pt x="18251" y="5"/>
                      <a:pt x="18252" y="5"/>
                    </a:cubicBezTo>
                    <a:close/>
                    <a:moveTo>
                      <a:pt x="18260" y="5"/>
                    </a:moveTo>
                    <a:lnTo>
                      <a:pt x="18260" y="5"/>
                    </a:lnTo>
                    <a:cubicBezTo>
                      <a:pt x="18262" y="5"/>
                      <a:pt x="18262" y="5"/>
                      <a:pt x="18262" y="7"/>
                    </a:cubicBezTo>
                    <a:cubicBezTo>
                      <a:pt x="18262" y="8"/>
                      <a:pt x="18262" y="9"/>
                      <a:pt x="18260" y="9"/>
                    </a:cubicBezTo>
                    <a:lnTo>
                      <a:pt x="18260" y="9"/>
                    </a:lnTo>
                    <a:cubicBezTo>
                      <a:pt x="18259" y="9"/>
                      <a:pt x="18258" y="8"/>
                      <a:pt x="18258" y="7"/>
                    </a:cubicBezTo>
                    <a:cubicBezTo>
                      <a:pt x="18258" y="5"/>
                      <a:pt x="18259" y="5"/>
                      <a:pt x="18260" y="5"/>
                    </a:cubicBezTo>
                    <a:close/>
                    <a:moveTo>
                      <a:pt x="18268" y="5"/>
                    </a:moveTo>
                    <a:lnTo>
                      <a:pt x="18268" y="5"/>
                    </a:lnTo>
                    <a:cubicBezTo>
                      <a:pt x="18270" y="5"/>
                      <a:pt x="18270" y="5"/>
                      <a:pt x="18270" y="7"/>
                    </a:cubicBezTo>
                    <a:cubicBezTo>
                      <a:pt x="18270" y="8"/>
                      <a:pt x="18270" y="9"/>
                      <a:pt x="18268" y="9"/>
                    </a:cubicBezTo>
                    <a:lnTo>
                      <a:pt x="18268" y="9"/>
                    </a:lnTo>
                    <a:cubicBezTo>
                      <a:pt x="18267" y="9"/>
                      <a:pt x="18266" y="8"/>
                      <a:pt x="18266" y="7"/>
                    </a:cubicBezTo>
                    <a:cubicBezTo>
                      <a:pt x="18266" y="5"/>
                      <a:pt x="18267" y="5"/>
                      <a:pt x="18268" y="5"/>
                    </a:cubicBezTo>
                    <a:close/>
                    <a:moveTo>
                      <a:pt x="18276" y="5"/>
                    </a:moveTo>
                    <a:lnTo>
                      <a:pt x="18276" y="5"/>
                    </a:lnTo>
                    <a:cubicBezTo>
                      <a:pt x="18278" y="5"/>
                      <a:pt x="18278" y="5"/>
                      <a:pt x="18278" y="7"/>
                    </a:cubicBezTo>
                    <a:cubicBezTo>
                      <a:pt x="18278" y="8"/>
                      <a:pt x="18278" y="9"/>
                      <a:pt x="18276" y="9"/>
                    </a:cubicBezTo>
                    <a:lnTo>
                      <a:pt x="18276" y="9"/>
                    </a:lnTo>
                    <a:cubicBezTo>
                      <a:pt x="18275" y="9"/>
                      <a:pt x="18274" y="8"/>
                      <a:pt x="18274" y="7"/>
                    </a:cubicBezTo>
                    <a:cubicBezTo>
                      <a:pt x="18274" y="5"/>
                      <a:pt x="18275" y="5"/>
                      <a:pt x="18276" y="5"/>
                    </a:cubicBezTo>
                    <a:close/>
                    <a:moveTo>
                      <a:pt x="18284" y="5"/>
                    </a:moveTo>
                    <a:lnTo>
                      <a:pt x="18284" y="5"/>
                    </a:lnTo>
                    <a:cubicBezTo>
                      <a:pt x="18286" y="5"/>
                      <a:pt x="18286" y="5"/>
                      <a:pt x="18286" y="7"/>
                    </a:cubicBezTo>
                    <a:cubicBezTo>
                      <a:pt x="18286" y="8"/>
                      <a:pt x="18286" y="9"/>
                      <a:pt x="18284" y="9"/>
                    </a:cubicBezTo>
                    <a:lnTo>
                      <a:pt x="18284" y="9"/>
                    </a:lnTo>
                    <a:cubicBezTo>
                      <a:pt x="18283" y="9"/>
                      <a:pt x="18282" y="8"/>
                      <a:pt x="18282" y="7"/>
                    </a:cubicBezTo>
                    <a:cubicBezTo>
                      <a:pt x="18282" y="5"/>
                      <a:pt x="18283" y="5"/>
                      <a:pt x="18284" y="5"/>
                    </a:cubicBezTo>
                    <a:close/>
                    <a:moveTo>
                      <a:pt x="18292" y="5"/>
                    </a:moveTo>
                    <a:lnTo>
                      <a:pt x="18292" y="5"/>
                    </a:lnTo>
                    <a:cubicBezTo>
                      <a:pt x="18294" y="5"/>
                      <a:pt x="18294" y="5"/>
                      <a:pt x="18294" y="7"/>
                    </a:cubicBezTo>
                    <a:cubicBezTo>
                      <a:pt x="18294" y="8"/>
                      <a:pt x="18294" y="9"/>
                      <a:pt x="18292" y="9"/>
                    </a:cubicBezTo>
                    <a:lnTo>
                      <a:pt x="18292" y="9"/>
                    </a:lnTo>
                    <a:cubicBezTo>
                      <a:pt x="18291" y="9"/>
                      <a:pt x="18290" y="8"/>
                      <a:pt x="18290" y="7"/>
                    </a:cubicBezTo>
                    <a:cubicBezTo>
                      <a:pt x="18290" y="5"/>
                      <a:pt x="18291" y="5"/>
                      <a:pt x="18292" y="5"/>
                    </a:cubicBezTo>
                    <a:close/>
                    <a:moveTo>
                      <a:pt x="18300" y="5"/>
                    </a:moveTo>
                    <a:lnTo>
                      <a:pt x="18300" y="5"/>
                    </a:lnTo>
                    <a:cubicBezTo>
                      <a:pt x="18302" y="5"/>
                      <a:pt x="18302" y="5"/>
                      <a:pt x="18302" y="7"/>
                    </a:cubicBezTo>
                    <a:cubicBezTo>
                      <a:pt x="18302" y="8"/>
                      <a:pt x="18302" y="9"/>
                      <a:pt x="18300" y="9"/>
                    </a:cubicBezTo>
                    <a:lnTo>
                      <a:pt x="18300" y="9"/>
                    </a:lnTo>
                    <a:cubicBezTo>
                      <a:pt x="18299" y="9"/>
                      <a:pt x="18298" y="8"/>
                      <a:pt x="18298" y="7"/>
                    </a:cubicBezTo>
                    <a:cubicBezTo>
                      <a:pt x="18298" y="5"/>
                      <a:pt x="18299" y="5"/>
                      <a:pt x="18300" y="5"/>
                    </a:cubicBezTo>
                    <a:close/>
                    <a:moveTo>
                      <a:pt x="18308" y="5"/>
                    </a:moveTo>
                    <a:lnTo>
                      <a:pt x="18308" y="5"/>
                    </a:lnTo>
                    <a:cubicBezTo>
                      <a:pt x="18310" y="5"/>
                      <a:pt x="18310" y="5"/>
                      <a:pt x="18310" y="7"/>
                    </a:cubicBezTo>
                    <a:cubicBezTo>
                      <a:pt x="18310" y="8"/>
                      <a:pt x="18310" y="9"/>
                      <a:pt x="18308" y="9"/>
                    </a:cubicBezTo>
                    <a:lnTo>
                      <a:pt x="18308" y="9"/>
                    </a:lnTo>
                    <a:cubicBezTo>
                      <a:pt x="18307" y="9"/>
                      <a:pt x="18306" y="8"/>
                      <a:pt x="18306" y="7"/>
                    </a:cubicBezTo>
                    <a:cubicBezTo>
                      <a:pt x="18306" y="5"/>
                      <a:pt x="18307" y="5"/>
                      <a:pt x="18308" y="5"/>
                    </a:cubicBezTo>
                    <a:close/>
                    <a:moveTo>
                      <a:pt x="18316" y="5"/>
                    </a:moveTo>
                    <a:lnTo>
                      <a:pt x="18317" y="5"/>
                    </a:lnTo>
                    <a:cubicBezTo>
                      <a:pt x="18318" y="5"/>
                      <a:pt x="18319" y="5"/>
                      <a:pt x="18319" y="7"/>
                    </a:cubicBezTo>
                    <a:cubicBezTo>
                      <a:pt x="18319" y="8"/>
                      <a:pt x="18318" y="9"/>
                      <a:pt x="18317" y="9"/>
                    </a:cubicBezTo>
                    <a:lnTo>
                      <a:pt x="18316" y="9"/>
                    </a:lnTo>
                    <a:cubicBezTo>
                      <a:pt x="18315" y="9"/>
                      <a:pt x="18314" y="8"/>
                      <a:pt x="18314" y="7"/>
                    </a:cubicBezTo>
                    <a:cubicBezTo>
                      <a:pt x="18314" y="5"/>
                      <a:pt x="18315" y="5"/>
                      <a:pt x="18316" y="5"/>
                    </a:cubicBezTo>
                    <a:close/>
                    <a:moveTo>
                      <a:pt x="18325" y="5"/>
                    </a:moveTo>
                    <a:lnTo>
                      <a:pt x="18325" y="5"/>
                    </a:lnTo>
                    <a:cubicBezTo>
                      <a:pt x="18326" y="5"/>
                      <a:pt x="18327" y="5"/>
                      <a:pt x="18327" y="7"/>
                    </a:cubicBezTo>
                    <a:cubicBezTo>
                      <a:pt x="18327" y="8"/>
                      <a:pt x="18326" y="9"/>
                      <a:pt x="18325" y="9"/>
                    </a:cubicBezTo>
                    <a:lnTo>
                      <a:pt x="18325" y="9"/>
                    </a:lnTo>
                    <a:cubicBezTo>
                      <a:pt x="18323" y="9"/>
                      <a:pt x="18323" y="8"/>
                      <a:pt x="18323" y="7"/>
                    </a:cubicBezTo>
                    <a:cubicBezTo>
                      <a:pt x="18323" y="5"/>
                      <a:pt x="18323" y="5"/>
                      <a:pt x="18325" y="5"/>
                    </a:cubicBezTo>
                    <a:close/>
                    <a:moveTo>
                      <a:pt x="18333" y="5"/>
                    </a:moveTo>
                    <a:lnTo>
                      <a:pt x="18333" y="5"/>
                    </a:lnTo>
                    <a:cubicBezTo>
                      <a:pt x="18334" y="5"/>
                      <a:pt x="18335" y="5"/>
                      <a:pt x="18335" y="7"/>
                    </a:cubicBezTo>
                    <a:cubicBezTo>
                      <a:pt x="18335" y="8"/>
                      <a:pt x="18334" y="9"/>
                      <a:pt x="18333" y="9"/>
                    </a:cubicBezTo>
                    <a:lnTo>
                      <a:pt x="18333" y="9"/>
                    </a:lnTo>
                    <a:cubicBezTo>
                      <a:pt x="18331" y="9"/>
                      <a:pt x="18331" y="8"/>
                      <a:pt x="18331" y="7"/>
                    </a:cubicBezTo>
                    <a:cubicBezTo>
                      <a:pt x="18331" y="5"/>
                      <a:pt x="18331" y="5"/>
                      <a:pt x="18333" y="5"/>
                    </a:cubicBezTo>
                    <a:close/>
                    <a:moveTo>
                      <a:pt x="18341" y="5"/>
                    </a:moveTo>
                    <a:lnTo>
                      <a:pt x="18341" y="5"/>
                    </a:lnTo>
                    <a:cubicBezTo>
                      <a:pt x="18342" y="5"/>
                      <a:pt x="18343" y="5"/>
                      <a:pt x="18343" y="7"/>
                    </a:cubicBezTo>
                    <a:cubicBezTo>
                      <a:pt x="18343" y="8"/>
                      <a:pt x="18342" y="9"/>
                      <a:pt x="18341" y="9"/>
                    </a:cubicBezTo>
                    <a:lnTo>
                      <a:pt x="18341" y="9"/>
                    </a:lnTo>
                    <a:cubicBezTo>
                      <a:pt x="18339" y="9"/>
                      <a:pt x="18339" y="8"/>
                      <a:pt x="18339" y="7"/>
                    </a:cubicBezTo>
                    <a:cubicBezTo>
                      <a:pt x="18339" y="5"/>
                      <a:pt x="18339" y="5"/>
                      <a:pt x="18341" y="5"/>
                    </a:cubicBezTo>
                    <a:close/>
                    <a:moveTo>
                      <a:pt x="18349" y="5"/>
                    </a:moveTo>
                    <a:lnTo>
                      <a:pt x="18349" y="5"/>
                    </a:lnTo>
                    <a:cubicBezTo>
                      <a:pt x="18350" y="5"/>
                      <a:pt x="18351" y="5"/>
                      <a:pt x="18351" y="7"/>
                    </a:cubicBezTo>
                    <a:cubicBezTo>
                      <a:pt x="18351" y="8"/>
                      <a:pt x="18350" y="9"/>
                      <a:pt x="18349" y="9"/>
                    </a:cubicBezTo>
                    <a:lnTo>
                      <a:pt x="18349" y="9"/>
                    </a:lnTo>
                    <a:cubicBezTo>
                      <a:pt x="18347" y="9"/>
                      <a:pt x="18347" y="8"/>
                      <a:pt x="18347" y="7"/>
                    </a:cubicBezTo>
                    <a:cubicBezTo>
                      <a:pt x="18347" y="5"/>
                      <a:pt x="18347" y="5"/>
                      <a:pt x="18349" y="5"/>
                    </a:cubicBezTo>
                    <a:close/>
                    <a:moveTo>
                      <a:pt x="18357" y="5"/>
                    </a:moveTo>
                    <a:lnTo>
                      <a:pt x="18357" y="5"/>
                    </a:lnTo>
                    <a:cubicBezTo>
                      <a:pt x="18358" y="5"/>
                      <a:pt x="18359" y="5"/>
                      <a:pt x="18359" y="7"/>
                    </a:cubicBezTo>
                    <a:cubicBezTo>
                      <a:pt x="18359" y="8"/>
                      <a:pt x="18358" y="9"/>
                      <a:pt x="18357" y="9"/>
                    </a:cubicBezTo>
                    <a:lnTo>
                      <a:pt x="18357" y="9"/>
                    </a:lnTo>
                    <a:cubicBezTo>
                      <a:pt x="18355" y="9"/>
                      <a:pt x="18355" y="8"/>
                      <a:pt x="18355" y="7"/>
                    </a:cubicBezTo>
                    <a:cubicBezTo>
                      <a:pt x="18355" y="5"/>
                      <a:pt x="18355" y="5"/>
                      <a:pt x="18357" y="5"/>
                    </a:cubicBezTo>
                    <a:close/>
                    <a:moveTo>
                      <a:pt x="18365" y="5"/>
                    </a:moveTo>
                    <a:lnTo>
                      <a:pt x="18365" y="5"/>
                    </a:lnTo>
                    <a:cubicBezTo>
                      <a:pt x="18366" y="5"/>
                      <a:pt x="18367" y="5"/>
                      <a:pt x="18367" y="7"/>
                    </a:cubicBezTo>
                    <a:cubicBezTo>
                      <a:pt x="18367" y="8"/>
                      <a:pt x="18366" y="9"/>
                      <a:pt x="18365" y="9"/>
                    </a:cubicBezTo>
                    <a:lnTo>
                      <a:pt x="18365" y="9"/>
                    </a:lnTo>
                    <a:cubicBezTo>
                      <a:pt x="18363" y="9"/>
                      <a:pt x="18363" y="8"/>
                      <a:pt x="18363" y="7"/>
                    </a:cubicBezTo>
                    <a:cubicBezTo>
                      <a:pt x="18363" y="5"/>
                      <a:pt x="18363" y="5"/>
                      <a:pt x="18365" y="5"/>
                    </a:cubicBezTo>
                    <a:close/>
                    <a:moveTo>
                      <a:pt x="18373" y="5"/>
                    </a:moveTo>
                    <a:lnTo>
                      <a:pt x="18373" y="5"/>
                    </a:lnTo>
                    <a:cubicBezTo>
                      <a:pt x="18374" y="5"/>
                      <a:pt x="18375" y="5"/>
                      <a:pt x="18375" y="7"/>
                    </a:cubicBezTo>
                    <a:cubicBezTo>
                      <a:pt x="18375" y="8"/>
                      <a:pt x="18374" y="9"/>
                      <a:pt x="18373" y="9"/>
                    </a:cubicBezTo>
                    <a:lnTo>
                      <a:pt x="18373" y="9"/>
                    </a:lnTo>
                    <a:cubicBezTo>
                      <a:pt x="18371" y="9"/>
                      <a:pt x="18371" y="8"/>
                      <a:pt x="18371" y="7"/>
                    </a:cubicBezTo>
                    <a:cubicBezTo>
                      <a:pt x="18371" y="5"/>
                      <a:pt x="18371" y="5"/>
                      <a:pt x="18373" y="5"/>
                    </a:cubicBezTo>
                    <a:close/>
                    <a:moveTo>
                      <a:pt x="18381" y="5"/>
                    </a:moveTo>
                    <a:lnTo>
                      <a:pt x="18381" y="5"/>
                    </a:lnTo>
                    <a:cubicBezTo>
                      <a:pt x="18382" y="5"/>
                      <a:pt x="18383" y="5"/>
                      <a:pt x="18383" y="7"/>
                    </a:cubicBezTo>
                    <a:cubicBezTo>
                      <a:pt x="18383" y="8"/>
                      <a:pt x="18382" y="9"/>
                      <a:pt x="18381" y="9"/>
                    </a:cubicBezTo>
                    <a:lnTo>
                      <a:pt x="18381" y="9"/>
                    </a:lnTo>
                    <a:cubicBezTo>
                      <a:pt x="18379" y="9"/>
                      <a:pt x="18379" y="8"/>
                      <a:pt x="18379" y="7"/>
                    </a:cubicBezTo>
                    <a:cubicBezTo>
                      <a:pt x="18379" y="5"/>
                      <a:pt x="18379" y="5"/>
                      <a:pt x="18381" y="5"/>
                    </a:cubicBezTo>
                    <a:close/>
                    <a:moveTo>
                      <a:pt x="18389" y="5"/>
                    </a:moveTo>
                    <a:lnTo>
                      <a:pt x="18389" y="5"/>
                    </a:lnTo>
                    <a:cubicBezTo>
                      <a:pt x="18390" y="5"/>
                      <a:pt x="18391" y="5"/>
                      <a:pt x="18391" y="7"/>
                    </a:cubicBezTo>
                    <a:cubicBezTo>
                      <a:pt x="18391" y="8"/>
                      <a:pt x="18390" y="9"/>
                      <a:pt x="18389" y="9"/>
                    </a:cubicBezTo>
                    <a:lnTo>
                      <a:pt x="18389" y="9"/>
                    </a:lnTo>
                    <a:cubicBezTo>
                      <a:pt x="18387" y="9"/>
                      <a:pt x="18387" y="8"/>
                      <a:pt x="18387" y="7"/>
                    </a:cubicBezTo>
                    <a:cubicBezTo>
                      <a:pt x="18387" y="5"/>
                      <a:pt x="18387" y="5"/>
                      <a:pt x="18389" y="5"/>
                    </a:cubicBezTo>
                    <a:close/>
                    <a:moveTo>
                      <a:pt x="18397" y="5"/>
                    </a:moveTo>
                    <a:lnTo>
                      <a:pt x="18397" y="5"/>
                    </a:lnTo>
                    <a:cubicBezTo>
                      <a:pt x="18398" y="5"/>
                      <a:pt x="18399" y="5"/>
                      <a:pt x="18399" y="7"/>
                    </a:cubicBezTo>
                    <a:cubicBezTo>
                      <a:pt x="18399" y="8"/>
                      <a:pt x="18398" y="9"/>
                      <a:pt x="18397" y="9"/>
                    </a:cubicBezTo>
                    <a:lnTo>
                      <a:pt x="18397" y="9"/>
                    </a:lnTo>
                    <a:cubicBezTo>
                      <a:pt x="18395" y="9"/>
                      <a:pt x="18395" y="8"/>
                      <a:pt x="18395" y="7"/>
                    </a:cubicBezTo>
                    <a:cubicBezTo>
                      <a:pt x="18395" y="5"/>
                      <a:pt x="18395" y="5"/>
                      <a:pt x="18397" y="5"/>
                    </a:cubicBezTo>
                    <a:close/>
                    <a:moveTo>
                      <a:pt x="18405" y="5"/>
                    </a:moveTo>
                    <a:lnTo>
                      <a:pt x="18405" y="5"/>
                    </a:lnTo>
                    <a:cubicBezTo>
                      <a:pt x="18406" y="5"/>
                      <a:pt x="18407" y="6"/>
                      <a:pt x="18407" y="7"/>
                    </a:cubicBezTo>
                    <a:cubicBezTo>
                      <a:pt x="18407" y="8"/>
                      <a:pt x="18406" y="9"/>
                      <a:pt x="18405" y="9"/>
                    </a:cubicBezTo>
                    <a:lnTo>
                      <a:pt x="18405" y="9"/>
                    </a:lnTo>
                    <a:cubicBezTo>
                      <a:pt x="18403" y="9"/>
                      <a:pt x="18403" y="8"/>
                      <a:pt x="18403" y="7"/>
                    </a:cubicBezTo>
                    <a:cubicBezTo>
                      <a:pt x="18403" y="6"/>
                      <a:pt x="18403" y="5"/>
                      <a:pt x="18405" y="5"/>
                    </a:cubicBezTo>
                    <a:close/>
                    <a:moveTo>
                      <a:pt x="18413" y="5"/>
                    </a:moveTo>
                    <a:lnTo>
                      <a:pt x="18413" y="5"/>
                    </a:lnTo>
                    <a:cubicBezTo>
                      <a:pt x="18414" y="5"/>
                      <a:pt x="18415" y="6"/>
                      <a:pt x="18415" y="7"/>
                    </a:cubicBezTo>
                    <a:cubicBezTo>
                      <a:pt x="18415" y="8"/>
                      <a:pt x="18414" y="9"/>
                      <a:pt x="18413" y="9"/>
                    </a:cubicBezTo>
                    <a:lnTo>
                      <a:pt x="18413" y="9"/>
                    </a:lnTo>
                    <a:cubicBezTo>
                      <a:pt x="18411" y="9"/>
                      <a:pt x="18411" y="8"/>
                      <a:pt x="18411" y="7"/>
                    </a:cubicBezTo>
                    <a:cubicBezTo>
                      <a:pt x="18411" y="6"/>
                      <a:pt x="18411" y="5"/>
                      <a:pt x="18413" y="5"/>
                    </a:cubicBezTo>
                    <a:close/>
                    <a:moveTo>
                      <a:pt x="18421" y="5"/>
                    </a:moveTo>
                    <a:lnTo>
                      <a:pt x="18421" y="5"/>
                    </a:lnTo>
                    <a:cubicBezTo>
                      <a:pt x="18422" y="5"/>
                      <a:pt x="18423" y="6"/>
                      <a:pt x="18423" y="7"/>
                    </a:cubicBezTo>
                    <a:cubicBezTo>
                      <a:pt x="18423" y="8"/>
                      <a:pt x="18422" y="9"/>
                      <a:pt x="18421" y="9"/>
                    </a:cubicBezTo>
                    <a:lnTo>
                      <a:pt x="18421" y="9"/>
                    </a:lnTo>
                    <a:cubicBezTo>
                      <a:pt x="18419" y="9"/>
                      <a:pt x="18419" y="8"/>
                      <a:pt x="18419" y="7"/>
                    </a:cubicBezTo>
                    <a:cubicBezTo>
                      <a:pt x="18419" y="6"/>
                      <a:pt x="18419" y="5"/>
                      <a:pt x="18421" y="5"/>
                    </a:cubicBezTo>
                    <a:close/>
                    <a:moveTo>
                      <a:pt x="18429" y="5"/>
                    </a:moveTo>
                    <a:lnTo>
                      <a:pt x="18429" y="5"/>
                    </a:lnTo>
                    <a:cubicBezTo>
                      <a:pt x="18430" y="5"/>
                      <a:pt x="18431" y="6"/>
                      <a:pt x="18431" y="7"/>
                    </a:cubicBezTo>
                    <a:cubicBezTo>
                      <a:pt x="18431" y="8"/>
                      <a:pt x="18430" y="9"/>
                      <a:pt x="18429" y="9"/>
                    </a:cubicBezTo>
                    <a:lnTo>
                      <a:pt x="18429" y="9"/>
                    </a:lnTo>
                    <a:cubicBezTo>
                      <a:pt x="18428" y="9"/>
                      <a:pt x="18427" y="8"/>
                      <a:pt x="18427" y="7"/>
                    </a:cubicBezTo>
                    <a:cubicBezTo>
                      <a:pt x="18427" y="6"/>
                      <a:pt x="18428" y="5"/>
                      <a:pt x="18429" y="5"/>
                    </a:cubicBezTo>
                    <a:close/>
                    <a:moveTo>
                      <a:pt x="18437" y="5"/>
                    </a:moveTo>
                    <a:lnTo>
                      <a:pt x="18437" y="5"/>
                    </a:lnTo>
                    <a:cubicBezTo>
                      <a:pt x="18438" y="5"/>
                      <a:pt x="18439" y="6"/>
                      <a:pt x="18439" y="7"/>
                    </a:cubicBezTo>
                    <a:cubicBezTo>
                      <a:pt x="18439" y="8"/>
                      <a:pt x="18438" y="9"/>
                      <a:pt x="18437" y="9"/>
                    </a:cubicBezTo>
                    <a:lnTo>
                      <a:pt x="18437" y="9"/>
                    </a:lnTo>
                    <a:cubicBezTo>
                      <a:pt x="18436" y="9"/>
                      <a:pt x="18435" y="8"/>
                      <a:pt x="18435" y="7"/>
                    </a:cubicBezTo>
                    <a:cubicBezTo>
                      <a:pt x="18435" y="6"/>
                      <a:pt x="18436" y="5"/>
                      <a:pt x="18437" y="5"/>
                    </a:cubicBezTo>
                    <a:close/>
                    <a:moveTo>
                      <a:pt x="18445" y="5"/>
                    </a:moveTo>
                    <a:lnTo>
                      <a:pt x="18445" y="5"/>
                    </a:lnTo>
                    <a:cubicBezTo>
                      <a:pt x="18446" y="5"/>
                      <a:pt x="18447" y="6"/>
                      <a:pt x="18447" y="7"/>
                    </a:cubicBezTo>
                    <a:cubicBezTo>
                      <a:pt x="18447" y="8"/>
                      <a:pt x="18446" y="9"/>
                      <a:pt x="18445" y="9"/>
                    </a:cubicBezTo>
                    <a:lnTo>
                      <a:pt x="18445" y="9"/>
                    </a:lnTo>
                    <a:cubicBezTo>
                      <a:pt x="18444" y="9"/>
                      <a:pt x="18443" y="8"/>
                      <a:pt x="18443" y="7"/>
                    </a:cubicBezTo>
                    <a:cubicBezTo>
                      <a:pt x="18443" y="6"/>
                      <a:pt x="18444" y="5"/>
                      <a:pt x="18445" y="5"/>
                    </a:cubicBezTo>
                    <a:close/>
                    <a:moveTo>
                      <a:pt x="18453" y="5"/>
                    </a:moveTo>
                    <a:lnTo>
                      <a:pt x="18453" y="5"/>
                    </a:lnTo>
                    <a:cubicBezTo>
                      <a:pt x="18454" y="5"/>
                      <a:pt x="18455" y="6"/>
                      <a:pt x="18455" y="7"/>
                    </a:cubicBezTo>
                    <a:cubicBezTo>
                      <a:pt x="18455" y="8"/>
                      <a:pt x="18454" y="9"/>
                      <a:pt x="18453" y="9"/>
                    </a:cubicBezTo>
                    <a:lnTo>
                      <a:pt x="18453" y="9"/>
                    </a:lnTo>
                    <a:cubicBezTo>
                      <a:pt x="18452" y="9"/>
                      <a:pt x="18451" y="8"/>
                      <a:pt x="18451" y="7"/>
                    </a:cubicBezTo>
                    <a:cubicBezTo>
                      <a:pt x="18451" y="6"/>
                      <a:pt x="18452" y="5"/>
                      <a:pt x="18453" y="5"/>
                    </a:cubicBezTo>
                    <a:close/>
                    <a:moveTo>
                      <a:pt x="18461" y="5"/>
                    </a:moveTo>
                    <a:lnTo>
                      <a:pt x="18461" y="5"/>
                    </a:lnTo>
                    <a:cubicBezTo>
                      <a:pt x="18462" y="5"/>
                      <a:pt x="18463" y="6"/>
                      <a:pt x="18463" y="7"/>
                    </a:cubicBezTo>
                    <a:cubicBezTo>
                      <a:pt x="18463" y="8"/>
                      <a:pt x="18462" y="9"/>
                      <a:pt x="18461" y="9"/>
                    </a:cubicBezTo>
                    <a:lnTo>
                      <a:pt x="18461" y="9"/>
                    </a:lnTo>
                    <a:cubicBezTo>
                      <a:pt x="18460" y="9"/>
                      <a:pt x="18459" y="8"/>
                      <a:pt x="18459" y="7"/>
                    </a:cubicBezTo>
                    <a:cubicBezTo>
                      <a:pt x="18459" y="6"/>
                      <a:pt x="18460" y="5"/>
                      <a:pt x="18461" y="5"/>
                    </a:cubicBezTo>
                    <a:close/>
                    <a:moveTo>
                      <a:pt x="18469" y="5"/>
                    </a:moveTo>
                    <a:lnTo>
                      <a:pt x="18469" y="5"/>
                    </a:lnTo>
                    <a:cubicBezTo>
                      <a:pt x="18470" y="5"/>
                      <a:pt x="18471" y="6"/>
                      <a:pt x="18471" y="7"/>
                    </a:cubicBezTo>
                    <a:cubicBezTo>
                      <a:pt x="18471" y="8"/>
                      <a:pt x="18470" y="9"/>
                      <a:pt x="18469" y="9"/>
                    </a:cubicBezTo>
                    <a:lnTo>
                      <a:pt x="18469" y="9"/>
                    </a:lnTo>
                    <a:cubicBezTo>
                      <a:pt x="18468" y="9"/>
                      <a:pt x="18467" y="8"/>
                      <a:pt x="18467" y="7"/>
                    </a:cubicBezTo>
                    <a:cubicBezTo>
                      <a:pt x="18467" y="6"/>
                      <a:pt x="18468" y="5"/>
                      <a:pt x="18469" y="5"/>
                    </a:cubicBezTo>
                    <a:close/>
                    <a:moveTo>
                      <a:pt x="18477" y="5"/>
                    </a:moveTo>
                    <a:lnTo>
                      <a:pt x="18477" y="5"/>
                    </a:lnTo>
                    <a:cubicBezTo>
                      <a:pt x="18478" y="5"/>
                      <a:pt x="18479" y="6"/>
                      <a:pt x="18479" y="7"/>
                    </a:cubicBezTo>
                    <a:cubicBezTo>
                      <a:pt x="18479" y="8"/>
                      <a:pt x="18478" y="9"/>
                      <a:pt x="18477" y="9"/>
                    </a:cubicBezTo>
                    <a:lnTo>
                      <a:pt x="18477" y="9"/>
                    </a:lnTo>
                    <a:cubicBezTo>
                      <a:pt x="18476" y="9"/>
                      <a:pt x="18475" y="8"/>
                      <a:pt x="18475" y="7"/>
                    </a:cubicBezTo>
                    <a:cubicBezTo>
                      <a:pt x="18475" y="6"/>
                      <a:pt x="18476" y="5"/>
                      <a:pt x="18477" y="5"/>
                    </a:cubicBezTo>
                    <a:close/>
                    <a:moveTo>
                      <a:pt x="18485" y="5"/>
                    </a:moveTo>
                    <a:lnTo>
                      <a:pt x="18485" y="5"/>
                    </a:lnTo>
                    <a:cubicBezTo>
                      <a:pt x="18486" y="5"/>
                      <a:pt x="18487" y="6"/>
                      <a:pt x="18487" y="7"/>
                    </a:cubicBezTo>
                    <a:cubicBezTo>
                      <a:pt x="18487" y="8"/>
                      <a:pt x="18486" y="9"/>
                      <a:pt x="18485" y="9"/>
                    </a:cubicBezTo>
                    <a:lnTo>
                      <a:pt x="18485" y="9"/>
                    </a:lnTo>
                    <a:cubicBezTo>
                      <a:pt x="18484" y="9"/>
                      <a:pt x="18483" y="8"/>
                      <a:pt x="18483" y="7"/>
                    </a:cubicBezTo>
                    <a:cubicBezTo>
                      <a:pt x="18483" y="6"/>
                      <a:pt x="18484" y="5"/>
                      <a:pt x="18485" y="5"/>
                    </a:cubicBezTo>
                    <a:close/>
                    <a:moveTo>
                      <a:pt x="18493" y="5"/>
                    </a:moveTo>
                    <a:lnTo>
                      <a:pt x="18493" y="5"/>
                    </a:lnTo>
                    <a:cubicBezTo>
                      <a:pt x="18494" y="5"/>
                      <a:pt x="18495" y="6"/>
                      <a:pt x="18495" y="7"/>
                    </a:cubicBezTo>
                    <a:cubicBezTo>
                      <a:pt x="18495" y="8"/>
                      <a:pt x="18494" y="9"/>
                      <a:pt x="18493" y="9"/>
                    </a:cubicBezTo>
                    <a:lnTo>
                      <a:pt x="18493" y="9"/>
                    </a:lnTo>
                    <a:cubicBezTo>
                      <a:pt x="18492" y="9"/>
                      <a:pt x="18491" y="8"/>
                      <a:pt x="18491" y="7"/>
                    </a:cubicBezTo>
                    <a:cubicBezTo>
                      <a:pt x="18491" y="6"/>
                      <a:pt x="18492" y="5"/>
                      <a:pt x="18493" y="5"/>
                    </a:cubicBezTo>
                    <a:close/>
                    <a:moveTo>
                      <a:pt x="18501" y="5"/>
                    </a:moveTo>
                    <a:lnTo>
                      <a:pt x="18501" y="5"/>
                    </a:lnTo>
                    <a:cubicBezTo>
                      <a:pt x="18502" y="5"/>
                      <a:pt x="18503" y="6"/>
                      <a:pt x="18503" y="7"/>
                    </a:cubicBezTo>
                    <a:cubicBezTo>
                      <a:pt x="18503" y="8"/>
                      <a:pt x="18502" y="9"/>
                      <a:pt x="18501" y="9"/>
                    </a:cubicBezTo>
                    <a:lnTo>
                      <a:pt x="18501" y="9"/>
                    </a:lnTo>
                    <a:cubicBezTo>
                      <a:pt x="18500" y="9"/>
                      <a:pt x="18499" y="8"/>
                      <a:pt x="18499" y="7"/>
                    </a:cubicBezTo>
                    <a:cubicBezTo>
                      <a:pt x="18499" y="6"/>
                      <a:pt x="18500" y="5"/>
                      <a:pt x="18501" y="5"/>
                    </a:cubicBezTo>
                    <a:close/>
                    <a:moveTo>
                      <a:pt x="18509" y="5"/>
                    </a:moveTo>
                    <a:lnTo>
                      <a:pt x="18509" y="5"/>
                    </a:lnTo>
                    <a:cubicBezTo>
                      <a:pt x="18510" y="5"/>
                      <a:pt x="18511" y="6"/>
                      <a:pt x="18511" y="7"/>
                    </a:cubicBezTo>
                    <a:cubicBezTo>
                      <a:pt x="18511" y="8"/>
                      <a:pt x="18510" y="9"/>
                      <a:pt x="18509" y="9"/>
                    </a:cubicBezTo>
                    <a:lnTo>
                      <a:pt x="18509" y="9"/>
                    </a:lnTo>
                    <a:cubicBezTo>
                      <a:pt x="18508" y="9"/>
                      <a:pt x="18507" y="8"/>
                      <a:pt x="18507" y="7"/>
                    </a:cubicBezTo>
                    <a:cubicBezTo>
                      <a:pt x="18507" y="6"/>
                      <a:pt x="18508" y="5"/>
                      <a:pt x="18509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562040" y="3021120"/>
                <a:ext cx="6075360" cy="3240"/>
              </a:xfrm>
              <a:custGeom>
                <a:avLst/>
                <a:gdLst/>
                <a:ahLst/>
                <a:rect l="l" t="t" r="r" b="b"/>
                <a:pathLst>
                  <a:path w="18511" h="8">
                    <a:moveTo>
                      <a:pt x="2" y="0"/>
                    </a:moveTo>
                    <a:lnTo>
                      <a:pt x="2" y="0"/>
                    </a:lnTo>
                    <a:cubicBezTo>
                      <a:pt x="3" y="0"/>
                      <a:pt x="4" y="1"/>
                      <a:pt x="4" y="2"/>
                    </a:cubicBezTo>
                    <a:cubicBezTo>
                      <a:pt x="4" y="3"/>
                      <a:pt x="3" y="4"/>
                      <a:pt x="2" y="4"/>
                    </a:cubicBezTo>
                    <a:lnTo>
                      <a:pt x="2" y="4"/>
                    </a:lnTo>
                    <a:cubicBezTo>
                      <a:pt x="1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0"/>
                    </a:cubicBezTo>
                    <a:close/>
                    <a:moveTo>
                      <a:pt x="10" y="0"/>
                    </a:moveTo>
                    <a:lnTo>
                      <a:pt x="10" y="0"/>
                    </a:lnTo>
                    <a:cubicBezTo>
                      <a:pt x="11" y="0"/>
                      <a:pt x="12" y="1"/>
                      <a:pt x="12" y="2"/>
                    </a:cubicBezTo>
                    <a:cubicBezTo>
                      <a:pt x="12" y="3"/>
                      <a:pt x="11" y="4"/>
                      <a:pt x="10" y="4"/>
                    </a:cubicBezTo>
                    <a:lnTo>
                      <a:pt x="10" y="4"/>
                    </a:lnTo>
                    <a:cubicBezTo>
                      <a:pt x="9" y="4"/>
                      <a:pt x="8" y="3"/>
                      <a:pt x="8" y="2"/>
                    </a:cubicBezTo>
                    <a:cubicBezTo>
                      <a:pt x="8" y="1"/>
                      <a:pt x="9" y="0"/>
                      <a:pt x="10" y="0"/>
                    </a:cubicBezTo>
                    <a:close/>
                    <a:moveTo>
                      <a:pt x="18" y="0"/>
                    </a:moveTo>
                    <a:lnTo>
                      <a:pt x="18" y="0"/>
                    </a:lnTo>
                    <a:cubicBezTo>
                      <a:pt x="19" y="0"/>
                      <a:pt x="20" y="1"/>
                      <a:pt x="20" y="2"/>
                    </a:cubicBezTo>
                    <a:cubicBezTo>
                      <a:pt x="20" y="3"/>
                      <a:pt x="19" y="4"/>
                      <a:pt x="18" y="4"/>
                    </a:cubicBezTo>
                    <a:lnTo>
                      <a:pt x="18" y="4"/>
                    </a:lnTo>
                    <a:cubicBezTo>
                      <a:pt x="17" y="4"/>
                      <a:pt x="16" y="3"/>
                      <a:pt x="16" y="2"/>
                    </a:cubicBezTo>
                    <a:cubicBezTo>
                      <a:pt x="16" y="1"/>
                      <a:pt x="17" y="0"/>
                      <a:pt x="18" y="0"/>
                    </a:cubicBezTo>
                    <a:close/>
                    <a:moveTo>
                      <a:pt x="26" y="0"/>
                    </a:moveTo>
                    <a:lnTo>
                      <a:pt x="26" y="0"/>
                    </a:lnTo>
                    <a:cubicBezTo>
                      <a:pt x="27" y="0"/>
                      <a:pt x="28" y="1"/>
                      <a:pt x="28" y="2"/>
                    </a:cubicBezTo>
                    <a:cubicBezTo>
                      <a:pt x="28" y="3"/>
                      <a:pt x="27" y="4"/>
                      <a:pt x="26" y="4"/>
                    </a:cubicBezTo>
                    <a:lnTo>
                      <a:pt x="26" y="4"/>
                    </a:lnTo>
                    <a:cubicBezTo>
                      <a:pt x="25" y="4"/>
                      <a:pt x="24" y="3"/>
                      <a:pt x="24" y="2"/>
                    </a:cubicBezTo>
                    <a:cubicBezTo>
                      <a:pt x="24" y="1"/>
                      <a:pt x="25" y="0"/>
                      <a:pt x="26" y="0"/>
                    </a:cubicBezTo>
                    <a:close/>
                    <a:moveTo>
                      <a:pt x="34" y="0"/>
                    </a:moveTo>
                    <a:lnTo>
                      <a:pt x="34" y="0"/>
                    </a:lnTo>
                    <a:cubicBezTo>
                      <a:pt x="35" y="0"/>
                      <a:pt x="36" y="1"/>
                      <a:pt x="36" y="2"/>
                    </a:cubicBezTo>
                    <a:cubicBezTo>
                      <a:pt x="36" y="3"/>
                      <a:pt x="35" y="4"/>
                      <a:pt x="34" y="4"/>
                    </a:cubicBezTo>
                    <a:lnTo>
                      <a:pt x="34" y="4"/>
                    </a:lnTo>
                    <a:cubicBezTo>
                      <a:pt x="33" y="4"/>
                      <a:pt x="32" y="3"/>
                      <a:pt x="32" y="2"/>
                    </a:cubicBezTo>
                    <a:cubicBezTo>
                      <a:pt x="32" y="1"/>
                      <a:pt x="33" y="0"/>
                      <a:pt x="34" y="0"/>
                    </a:cubicBezTo>
                    <a:close/>
                    <a:moveTo>
                      <a:pt x="42" y="0"/>
                    </a:moveTo>
                    <a:lnTo>
                      <a:pt x="42" y="0"/>
                    </a:lnTo>
                    <a:cubicBezTo>
                      <a:pt x="43" y="0"/>
                      <a:pt x="44" y="1"/>
                      <a:pt x="44" y="2"/>
                    </a:cubicBezTo>
                    <a:cubicBezTo>
                      <a:pt x="44" y="3"/>
                      <a:pt x="43" y="4"/>
                      <a:pt x="42" y="4"/>
                    </a:cubicBezTo>
                    <a:lnTo>
                      <a:pt x="42" y="4"/>
                    </a:lnTo>
                    <a:cubicBezTo>
                      <a:pt x="41" y="4"/>
                      <a:pt x="40" y="3"/>
                      <a:pt x="40" y="2"/>
                    </a:cubicBezTo>
                    <a:cubicBezTo>
                      <a:pt x="40" y="1"/>
                      <a:pt x="41" y="0"/>
                      <a:pt x="42" y="0"/>
                    </a:cubicBezTo>
                    <a:close/>
                    <a:moveTo>
                      <a:pt x="50" y="0"/>
                    </a:moveTo>
                    <a:lnTo>
                      <a:pt x="50" y="0"/>
                    </a:lnTo>
                    <a:cubicBezTo>
                      <a:pt x="51" y="0"/>
                      <a:pt x="52" y="1"/>
                      <a:pt x="52" y="2"/>
                    </a:cubicBezTo>
                    <a:cubicBezTo>
                      <a:pt x="52" y="3"/>
                      <a:pt x="51" y="4"/>
                      <a:pt x="50" y="4"/>
                    </a:cubicBezTo>
                    <a:lnTo>
                      <a:pt x="50" y="4"/>
                    </a:lnTo>
                    <a:cubicBezTo>
                      <a:pt x="49" y="4"/>
                      <a:pt x="48" y="3"/>
                      <a:pt x="48" y="2"/>
                    </a:cubicBezTo>
                    <a:cubicBezTo>
                      <a:pt x="48" y="1"/>
                      <a:pt x="49" y="0"/>
                      <a:pt x="50" y="0"/>
                    </a:cubicBezTo>
                    <a:close/>
                    <a:moveTo>
                      <a:pt x="58" y="0"/>
                    </a:moveTo>
                    <a:lnTo>
                      <a:pt x="58" y="0"/>
                    </a:lnTo>
                    <a:cubicBezTo>
                      <a:pt x="59" y="0"/>
                      <a:pt x="60" y="1"/>
                      <a:pt x="60" y="2"/>
                    </a:cubicBezTo>
                    <a:cubicBezTo>
                      <a:pt x="60" y="3"/>
                      <a:pt x="59" y="4"/>
                      <a:pt x="58" y="4"/>
                    </a:cubicBezTo>
                    <a:lnTo>
                      <a:pt x="58" y="4"/>
                    </a:lnTo>
                    <a:cubicBezTo>
                      <a:pt x="57" y="4"/>
                      <a:pt x="56" y="3"/>
                      <a:pt x="56" y="2"/>
                    </a:cubicBezTo>
                    <a:cubicBezTo>
                      <a:pt x="56" y="1"/>
                      <a:pt x="57" y="0"/>
                      <a:pt x="58" y="0"/>
                    </a:cubicBezTo>
                    <a:close/>
                    <a:moveTo>
                      <a:pt x="66" y="0"/>
                    </a:moveTo>
                    <a:lnTo>
                      <a:pt x="66" y="0"/>
                    </a:lnTo>
                    <a:cubicBezTo>
                      <a:pt x="67" y="0"/>
                      <a:pt x="68" y="1"/>
                      <a:pt x="68" y="2"/>
                    </a:cubicBezTo>
                    <a:cubicBezTo>
                      <a:pt x="68" y="3"/>
                      <a:pt x="67" y="4"/>
                      <a:pt x="66" y="4"/>
                    </a:cubicBezTo>
                    <a:lnTo>
                      <a:pt x="66" y="4"/>
                    </a:lnTo>
                    <a:cubicBezTo>
                      <a:pt x="65" y="4"/>
                      <a:pt x="64" y="3"/>
                      <a:pt x="64" y="2"/>
                    </a:cubicBezTo>
                    <a:cubicBezTo>
                      <a:pt x="64" y="1"/>
                      <a:pt x="65" y="0"/>
                      <a:pt x="66" y="0"/>
                    </a:cubicBezTo>
                    <a:close/>
                    <a:moveTo>
                      <a:pt x="74" y="0"/>
                    </a:moveTo>
                    <a:lnTo>
                      <a:pt x="74" y="0"/>
                    </a:lnTo>
                    <a:cubicBezTo>
                      <a:pt x="75" y="0"/>
                      <a:pt x="76" y="1"/>
                      <a:pt x="76" y="2"/>
                    </a:cubicBezTo>
                    <a:cubicBezTo>
                      <a:pt x="76" y="3"/>
                      <a:pt x="75" y="4"/>
                      <a:pt x="74" y="4"/>
                    </a:cubicBezTo>
                    <a:lnTo>
                      <a:pt x="74" y="4"/>
                    </a:lnTo>
                    <a:cubicBezTo>
                      <a:pt x="73" y="4"/>
                      <a:pt x="72" y="3"/>
                      <a:pt x="72" y="2"/>
                    </a:cubicBezTo>
                    <a:cubicBezTo>
                      <a:pt x="72" y="1"/>
                      <a:pt x="73" y="0"/>
                      <a:pt x="74" y="0"/>
                    </a:cubicBezTo>
                    <a:close/>
                    <a:moveTo>
                      <a:pt x="82" y="0"/>
                    </a:moveTo>
                    <a:lnTo>
                      <a:pt x="82" y="0"/>
                    </a:lnTo>
                    <a:cubicBezTo>
                      <a:pt x="83" y="0"/>
                      <a:pt x="84" y="1"/>
                      <a:pt x="84" y="2"/>
                    </a:cubicBezTo>
                    <a:cubicBezTo>
                      <a:pt x="84" y="3"/>
                      <a:pt x="83" y="4"/>
                      <a:pt x="82" y="4"/>
                    </a:cubicBezTo>
                    <a:lnTo>
                      <a:pt x="82" y="4"/>
                    </a:lnTo>
                    <a:cubicBezTo>
                      <a:pt x="81" y="4"/>
                      <a:pt x="80" y="3"/>
                      <a:pt x="80" y="2"/>
                    </a:cubicBezTo>
                    <a:cubicBezTo>
                      <a:pt x="80" y="1"/>
                      <a:pt x="81" y="0"/>
                      <a:pt x="82" y="0"/>
                    </a:cubicBezTo>
                    <a:close/>
                    <a:moveTo>
                      <a:pt x="90" y="0"/>
                    </a:moveTo>
                    <a:lnTo>
                      <a:pt x="90" y="0"/>
                    </a:lnTo>
                    <a:cubicBezTo>
                      <a:pt x="91" y="0"/>
                      <a:pt x="92" y="1"/>
                      <a:pt x="92" y="2"/>
                    </a:cubicBezTo>
                    <a:cubicBezTo>
                      <a:pt x="92" y="3"/>
                      <a:pt x="91" y="4"/>
                      <a:pt x="90" y="4"/>
                    </a:cubicBezTo>
                    <a:lnTo>
                      <a:pt x="90" y="4"/>
                    </a:lnTo>
                    <a:cubicBezTo>
                      <a:pt x="89" y="4"/>
                      <a:pt x="88" y="3"/>
                      <a:pt x="88" y="2"/>
                    </a:cubicBezTo>
                    <a:cubicBezTo>
                      <a:pt x="88" y="1"/>
                      <a:pt x="89" y="0"/>
                      <a:pt x="90" y="0"/>
                    </a:cubicBezTo>
                    <a:close/>
                    <a:moveTo>
                      <a:pt x="98" y="0"/>
                    </a:moveTo>
                    <a:lnTo>
                      <a:pt x="98" y="0"/>
                    </a:lnTo>
                    <a:cubicBezTo>
                      <a:pt x="99" y="0"/>
                      <a:pt x="100" y="1"/>
                      <a:pt x="100" y="2"/>
                    </a:cubicBezTo>
                    <a:cubicBezTo>
                      <a:pt x="100" y="3"/>
                      <a:pt x="99" y="4"/>
                      <a:pt x="98" y="4"/>
                    </a:cubicBezTo>
                    <a:lnTo>
                      <a:pt x="98" y="4"/>
                    </a:lnTo>
                    <a:cubicBezTo>
                      <a:pt x="97" y="4"/>
                      <a:pt x="96" y="3"/>
                      <a:pt x="96" y="2"/>
                    </a:cubicBezTo>
                    <a:cubicBezTo>
                      <a:pt x="96" y="1"/>
                      <a:pt x="97" y="0"/>
                      <a:pt x="98" y="0"/>
                    </a:cubicBezTo>
                    <a:close/>
                    <a:moveTo>
                      <a:pt x="106" y="0"/>
                    </a:moveTo>
                    <a:lnTo>
                      <a:pt x="106" y="0"/>
                    </a:lnTo>
                    <a:cubicBezTo>
                      <a:pt x="107" y="0"/>
                      <a:pt x="108" y="1"/>
                      <a:pt x="108" y="2"/>
                    </a:cubicBezTo>
                    <a:cubicBezTo>
                      <a:pt x="108" y="3"/>
                      <a:pt x="107" y="4"/>
                      <a:pt x="106" y="4"/>
                    </a:cubicBezTo>
                    <a:lnTo>
                      <a:pt x="106" y="4"/>
                    </a:lnTo>
                    <a:cubicBezTo>
                      <a:pt x="105" y="4"/>
                      <a:pt x="104" y="3"/>
                      <a:pt x="104" y="2"/>
                    </a:cubicBezTo>
                    <a:cubicBezTo>
                      <a:pt x="104" y="1"/>
                      <a:pt x="105" y="0"/>
                      <a:pt x="106" y="0"/>
                    </a:cubicBezTo>
                    <a:close/>
                    <a:moveTo>
                      <a:pt x="114" y="0"/>
                    </a:moveTo>
                    <a:lnTo>
                      <a:pt x="114" y="0"/>
                    </a:lnTo>
                    <a:cubicBezTo>
                      <a:pt x="115" y="0"/>
                      <a:pt x="116" y="1"/>
                      <a:pt x="116" y="2"/>
                    </a:cubicBezTo>
                    <a:cubicBezTo>
                      <a:pt x="116" y="3"/>
                      <a:pt x="115" y="4"/>
                      <a:pt x="114" y="4"/>
                    </a:cubicBezTo>
                    <a:lnTo>
                      <a:pt x="114" y="4"/>
                    </a:lnTo>
                    <a:cubicBezTo>
                      <a:pt x="113" y="4"/>
                      <a:pt x="112" y="3"/>
                      <a:pt x="112" y="2"/>
                    </a:cubicBezTo>
                    <a:cubicBezTo>
                      <a:pt x="112" y="1"/>
                      <a:pt x="113" y="0"/>
                      <a:pt x="114" y="0"/>
                    </a:cubicBezTo>
                    <a:close/>
                    <a:moveTo>
                      <a:pt x="122" y="0"/>
                    </a:moveTo>
                    <a:lnTo>
                      <a:pt x="122" y="0"/>
                    </a:lnTo>
                    <a:cubicBezTo>
                      <a:pt x="123" y="0"/>
                      <a:pt x="124" y="1"/>
                      <a:pt x="124" y="2"/>
                    </a:cubicBezTo>
                    <a:cubicBezTo>
                      <a:pt x="124" y="3"/>
                      <a:pt x="123" y="4"/>
                      <a:pt x="122" y="4"/>
                    </a:cubicBezTo>
                    <a:lnTo>
                      <a:pt x="122" y="4"/>
                    </a:lnTo>
                    <a:cubicBezTo>
                      <a:pt x="121" y="4"/>
                      <a:pt x="120" y="3"/>
                      <a:pt x="120" y="2"/>
                    </a:cubicBezTo>
                    <a:cubicBezTo>
                      <a:pt x="120" y="1"/>
                      <a:pt x="121" y="0"/>
                      <a:pt x="122" y="0"/>
                    </a:cubicBezTo>
                    <a:close/>
                    <a:moveTo>
                      <a:pt x="130" y="0"/>
                    </a:moveTo>
                    <a:lnTo>
                      <a:pt x="130" y="0"/>
                    </a:lnTo>
                    <a:cubicBezTo>
                      <a:pt x="131" y="0"/>
                      <a:pt x="132" y="1"/>
                      <a:pt x="132" y="2"/>
                    </a:cubicBezTo>
                    <a:cubicBezTo>
                      <a:pt x="132" y="3"/>
                      <a:pt x="131" y="4"/>
                      <a:pt x="130" y="4"/>
                    </a:cubicBezTo>
                    <a:lnTo>
                      <a:pt x="130" y="4"/>
                    </a:lnTo>
                    <a:cubicBezTo>
                      <a:pt x="129" y="4"/>
                      <a:pt x="128" y="3"/>
                      <a:pt x="128" y="2"/>
                    </a:cubicBezTo>
                    <a:cubicBezTo>
                      <a:pt x="128" y="1"/>
                      <a:pt x="129" y="0"/>
                      <a:pt x="130" y="0"/>
                    </a:cubicBezTo>
                    <a:close/>
                    <a:moveTo>
                      <a:pt x="138" y="0"/>
                    </a:moveTo>
                    <a:lnTo>
                      <a:pt x="138" y="0"/>
                    </a:lnTo>
                    <a:cubicBezTo>
                      <a:pt x="139" y="0"/>
                      <a:pt x="140" y="1"/>
                      <a:pt x="140" y="2"/>
                    </a:cubicBezTo>
                    <a:cubicBezTo>
                      <a:pt x="140" y="3"/>
                      <a:pt x="139" y="4"/>
                      <a:pt x="138" y="4"/>
                    </a:cubicBezTo>
                    <a:lnTo>
                      <a:pt x="138" y="4"/>
                    </a:lnTo>
                    <a:cubicBezTo>
                      <a:pt x="137" y="4"/>
                      <a:pt x="136" y="3"/>
                      <a:pt x="136" y="2"/>
                    </a:cubicBezTo>
                    <a:cubicBezTo>
                      <a:pt x="136" y="1"/>
                      <a:pt x="137" y="0"/>
                      <a:pt x="138" y="0"/>
                    </a:cubicBezTo>
                    <a:close/>
                    <a:moveTo>
                      <a:pt x="146" y="0"/>
                    </a:moveTo>
                    <a:lnTo>
                      <a:pt x="146" y="0"/>
                    </a:lnTo>
                    <a:cubicBezTo>
                      <a:pt x="147" y="0"/>
                      <a:pt x="148" y="1"/>
                      <a:pt x="148" y="2"/>
                    </a:cubicBezTo>
                    <a:cubicBezTo>
                      <a:pt x="148" y="3"/>
                      <a:pt x="147" y="4"/>
                      <a:pt x="146" y="4"/>
                    </a:cubicBezTo>
                    <a:lnTo>
                      <a:pt x="146" y="4"/>
                    </a:lnTo>
                    <a:cubicBezTo>
                      <a:pt x="145" y="4"/>
                      <a:pt x="144" y="3"/>
                      <a:pt x="144" y="2"/>
                    </a:cubicBezTo>
                    <a:cubicBezTo>
                      <a:pt x="144" y="1"/>
                      <a:pt x="145" y="0"/>
                      <a:pt x="146" y="0"/>
                    </a:cubicBezTo>
                    <a:close/>
                    <a:moveTo>
                      <a:pt x="154" y="0"/>
                    </a:moveTo>
                    <a:lnTo>
                      <a:pt x="154" y="0"/>
                    </a:lnTo>
                    <a:cubicBezTo>
                      <a:pt x="155" y="0"/>
                      <a:pt x="156" y="1"/>
                      <a:pt x="156" y="2"/>
                    </a:cubicBezTo>
                    <a:cubicBezTo>
                      <a:pt x="156" y="3"/>
                      <a:pt x="155" y="4"/>
                      <a:pt x="154" y="4"/>
                    </a:cubicBezTo>
                    <a:lnTo>
                      <a:pt x="154" y="4"/>
                    </a:lnTo>
                    <a:cubicBezTo>
                      <a:pt x="153" y="4"/>
                      <a:pt x="152" y="3"/>
                      <a:pt x="152" y="2"/>
                    </a:cubicBezTo>
                    <a:cubicBezTo>
                      <a:pt x="152" y="1"/>
                      <a:pt x="153" y="0"/>
                      <a:pt x="154" y="0"/>
                    </a:cubicBezTo>
                    <a:close/>
                    <a:moveTo>
                      <a:pt x="162" y="0"/>
                    </a:moveTo>
                    <a:lnTo>
                      <a:pt x="162" y="0"/>
                    </a:lnTo>
                    <a:cubicBezTo>
                      <a:pt x="163" y="0"/>
                      <a:pt x="164" y="1"/>
                      <a:pt x="164" y="2"/>
                    </a:cubicBezTo>
                    <a:cubicBezTo>
                      <a:pt x="164" y="3"/>
                      <a:pt x="163" y="4"/>
                      <a:pt x="162" y="4"/>
                    </a:cubicBezTo>
                    <a:lnTo>
                      <a:pt x="162" y="4"/>
                    </a:lnTo>
                    <a:cubicBezTo>
                      <a:pt x="161" y="4"/>
                      <a:pt x="160" y="3"/>
                      <a:pt x="160" y="2"/>
                    </a:cubicBezTo>
                    <a:cubicBezTo>
                      <a:pt x="160" y="1"/>
                      <a:pt x="161" y="0"/>
                      <a:pt x="162" y="0"/>
                    </a:cubicBezTo>
                    <a:close/>
                    <a:moveTo>
                      <a:pt x="170" y="0"/>
                    </a:moveTo>
                    <a:lnTo>
                      <a:pt x="170" y="0"/>
                    </a:lnTo>
                    <a:cubicBezTo>
                      <a:pt x="171" y="0"/>
                      <a:pt x="172" y="1"/>
                      <a:pt x="172" y="2"/>
                    </a:cubicBezTo>
                    <a:cubicBezTo>
                      <a:pt x="172" y="3"/>
                      <a:pt x="171" y="4"/>
                      <a:pt x="170" y="4"/>
                    </a:cubicBezTo>
                    <a:lnTo>
                      <a:pt x="170" y="4"/>
                    </a:lnTo>
                    <a:cubicBezTo>
                      <a:pt x="169" y="4"/>
                      <a:pt x="168" y="3"/>
                      <a:pt x="168" y="2"/>
                    </a:cubicBezTo>
                    <a:cubicBezTo>
                      <a:pt x="168" y="1"/>
                      <a:pt x="169" y="0"/>
                      <a:pt x="170" y="0"/>
                    </a:cubicBezTo>
                    <a:close/>
                    <a:moveTo>
                      <a:pt x="178" y="0"/>
                    </a:moveTo>
                    <a:lnTo>
                      <a:pt x="178" y="0"/>
                    </a:lnTo>
                    <a:cubicBezTo>
                      <a:pt x="179" y="0"/>
                      <a:pt x="180" y="1"/>
                      <a:pt x="180" y="2"/>
                    </a:cubicBezTo>
                    <a:cubicBezTo>
                      <a:pt x="180" y="3"/>
                      <a:pt x="179" y="4"/>
                      <a:pt x="178" y="4"/>
                    </a:cubicBezTo>
                    <a:lnTo>
                      <a:pt x="178" y="4"/>
                    </a:lnTo>
                    <a:cubicBezTo>
                      <a:pt x="177" y="4"/>
                      <a:pt x="176" y="3"/>
                      <a:pt x="176" y="2"/>
                    </a:cubicBezTo>
                    <a:cubicBezTo>
                      <a:pt x="176" y="1"/>
                      <a:pt x="177" y="0"/>
                      <a:pt x="178" y="0"/>
                    </a:cubicBezTo>
                    <a:close/>
                    <a:moveTo>
                      <a:pt x="186" y="0"/>
                    </a:moveTo>
                    <a:lnTo>
                      <a:pt x="186" y="0"/>
                    </a:lnTo>
                    <a:cubicBezTo>
                      <a:pt x="187" y="0"/>
                      <a:pt x="188" y="1"/>
                      <a:pt x="188" y="2"/>
                    </a:cubicBezTo>
                    <a:cubicBezTo>
                      <a:pt x="188" y="3"/>
                      <a:pt x="187" y="4"/>
                      <a:pt x="186" y="4"/>
                    </a:cubicBezTo>
                    <a:lnTo>
                      <a:pt x="186" y="4"/>
                    </a:lnTo>
                    <a:cubicBezTo>
                      <a:pt x="185" y="4"/>
                      <a:pt x="184" y="3"/>
                      <a:pt x="184" y="2"/>
                    </a:cubicBezTo>
                    <a:cubicBezTo>
                      <a:pt x="184" y="1"/>
                      <a:pt x="185" y="0"/>
                      <a:pt x="186" y="0"/>
                    </a:cubicBezTo>
                    <a:close/>
                    <a:moveTo>
                      <a:pt x="194" y="0"/>
                    </a:moveTo>
                    <a:lnTo>
                      <a:pt x="194" y="0"/>
                    </a:lnTo>
                    <a:cubicBezTo>
                      <a:pt x="195" y="0"/>
                      <a:pt x="196" y="1"/>
                      <a:pt x="196" y="2"/>
                    </a:cubicBezTo>
                    <a:cubicBezTo>
                      <a:pt x="196" y="3"/>
                      <a:pt x="195" y="4"/>
                      <a:pt x="194" y="4"/>
                    </a:cubicBezTo>
                    <a:lnTo>
                      <a:pt x="194" y="4"/>
                    </a:lnTo>
                    <a:cubicBezTo>
                      <a:pt x="193" y="4"/>
                      <a:pt x="192" y="3"/>
                      <a:pt x="192" y="2"/>
                    </a:cubicBezTo>
                    <a:cubicBezTo>
                      <a:pt x="192" y="1"/>
                      <a:pt x="193" y="0"/>
                      <a:pt x="194" y="0"/>
                    </a:cubicBezTo>
                    <a:close/>
                    <a:moveTo>
                      <a:pt x="202" y="0"/>
                    </a:moveTo>
                    <a:lnTo>
                      <a:pt x="202" y="0"/>
                    </a:lnTo>
                    <a:cubicBezTo>
                      <a:pt x="203" y="0"/>
                      <a:pt x="204" y="1"/>
                      <a:pt x="204" y="2"/>
                    </a:cubicBezTo>
                    <a:cubicBezTo>
                      <a:pt x="204" y="3"/>
                      <a:pt x="203" y="4"/>
                      <a:pt x="202" y="4"/>
                    </a:cubicBezTo>
                    <a:lnTo>
                      <a:pt x="202" y="4"/>
                    </a:lnTo>
                    <a:cubicBezTo>
                      <a:pt x="201" y="4"/>
                      <a:pt x="200" y="3"/>
                      <a:pt x="200" y="2"/>
                    </a:cubicBezTo>
                    <a:cubicBezTo>
                      <a:pt x="200" y="1"/>
                      <a:pt x="201" y="0"/>
                      <a:pt x="202" y="0"/>
                    </a:cubicBezTo>
                    <a:close/>
                    <a:moveTo>
                      <a:pt x="210" y="0"/>
                    </a:moveTo>
                    <a:lnTo>
                      <a:pt x="210" y="0"/>
                    </a:lnTo>
                    <a:cubicBezTo>
                      <a:pt x="211" y="0"/>
                      <a:pt x="212" y="1"/>
                      <a:pt x="212" y="2"/>
                    </a:cubicBezTo>
                    <a:cubicBezTo>
                      <a:pt x="212" y="3"/>
                      <a:pt x="211" y="4"/>
                      <a:pt x="210" y="4"/>
                    </a:cubicBezTo>
                    <a:lnTo>
                      <a:pt x="210" y="4"/>
                    </a:lnTo>
                    <a:cubicBezTo>
                      <a:pt x="209" y="4"/>
                      <a:pt x="208" y="3"/>
                      <a:pt x="208" y="2"/>
                    </a:cubicBezTo>
                    <a:cubicBezTo>
                      <a:pt x="208" y="1"/>
                      <a:pt x="209" y="0"/>
                      <a:pt x="210" y="0"/>
                    </a:cubicBezTo>
                    <a:close/>
                    <a:moveTo>
                      <a:pt x="218" y="0"/>
                    </a:moveTo>
                    <a:lnTo>
                      <a:pt x="218" y="0"/>
                    </a:lnTo>
                    <a:cubicBezTo>
                      <a:pt x="219" y="0"/>
                      <a:pt x="220" y="1"/>
                      <a:pt x="220" y="2"/>
                    </a:cubicBezTo>
                    <a:cubicBezTo>
                      <a:pt x="220" y="3"/>
                      <a:pt x="219" y="4"/>
                      <a:pt x="218" y="4"/>
                    </a:cubicBezTo>
                    <a:lnTo>
                      <a:pt x="218" y="4"/>
                    </a:lnTo>
                    <a:cubicBezTo>
                      <a:pt x="217" y="4"/>
                      <a:pt x="216" y="3"/>
                      <a:pt x="216" y="2"/>
                    </a:cubicBezTo>
                    <a:cubicBezTo>
                      <a:pt x="216" y="1"/>
                      <a:pt x="217" y="0"/>
                      <a:pt x="218" y="0"/>
                    </a:cubicBezTo>
                    <a:close/>
                    <a:moveTo>
                      <a:pt x="226" y="0"/>
                    </a:moveTo>
                    <a:lnTo>
                      <a:pt x="226" y="0"/>
                    </a:lnTo>
                    <a:cubicBezTo>
                      <a:pt x="227" y="0"/>
                      <a:pt x="228" y="1"/>
                      <a:pt x="228" y="2"/>
                    </a:cubicBezTo>
                    <a:cubicBezTo>
                      <a:pt x="228" y="3"/>
                      <a:pt x="227" y="4"/>
                      <a:pt x="226" y="4"/>
                    </a:cubicBezTo>
                    <a:lnTo>
                      <a:pt x="226" y="4"/>
                    </a:lnTo>
                    <a:cubicBezTo>
                      <a:pt x="225" y="4"/>
                      <a:pt x="224" y="3"/>
                      <a:pt x="224" y="2"/>
                    </a:cubicBezTo>
                    <a:cubicBezTo>
                      <a:pt x="224" y="1"/>
                      <a:pt x="225" y="0"/>
                      <a:pt x="226" y="0"/>
                    </a:cubicBezTo>
                    <a:close/>
                    <a:moveTo>
                      <a:pt x="234" y="0"/>
                    </a:moveTo>
                    <a:lnTo>
                      <a:pt x="234" y="0"/>
                    </a:lnTo>
                    <a:cubicBezTo>
                      <a:pt x="235" y="0"/>
                      <a:pt x="236" y="1"/>
                      <a:pt x="236" y="2"/>
                    </a:cubicBezTo>
                    <a:cubicBezTo>
                      <a:pt x="236" y="3"/>
                      <a:pt x="235" y="4"/>
                      <a:pt x="234" y="4"/>
                    </a:cubicBezTo>
                    <a:lnTo>
                      <a:pt x="234" y="4"/>
                    </a:lnTo>
                    <a:cubicBezTo>
                      <a:pt x="233" y="4"/>
                      <a:pt x="232" y="3"/>
                      <a:pt x="232" y="2"/>
                    </a:cubicBezTo>
                    <a:cubicBezTo>
                      <a:pt x="232" y="1"/>
                      <a:pt x="233" y="0"/>
                      <a:pt x="234" y="0"/>
                    </a:cubicBezTo>
                    <a:close/>
                    <a:moveTo>
                      <a:pt x="242" y="0"/>
                    </a:moveTo>
                    <a:lnTo>
                      <a:pt x="242" y="0"/>
                    </a:lnTo>
                    <a:cubicBezTo>
                      <a:pt x="243" y="0"/>
                      <a:pt x="244" y="1"/>
                      <a:pt x="244" y="2"/>
                    </a:cubicBezTo>
                    <a:cubicBezTo>
                      <a:pt x="244" y="3"/>
                      <a:pt x="243" y="4"/>
                      <a:pt x="242" y="4"/>
                    </a:cubicBezTo>
                    <a:lnTo>
                      <a:pt x="242" y="4"/>
                    </a:lnTo>
                    <a:cubicBezTo>
                      <a:pt x="241" y="4"/>
                      <a:pt x="240" y="3"/>
                      <a:pt x="240" y="2"/>
                    </a:cubicBezTo>
                    <a:cubicBezTo>
                      <a:pt x="240" y="1"/>
                      <a:pt x="241" y="0"/>
                      <a:pt x="242" y="0"/>
                    </a:cubicBezTo>
                    <a:close/>
                    <a:moveTo>
                      <a:pt x="250" y="0"/>
                    </a:moveTo>
                    <a:lnTo>
                      <a:pt x="250" y="0"/>
                    </a:lnTo>
                    <a:cubicBezTo>
                      <a:pt x="251" y="0"/>
                      <a:pt x="252" y="1"/>
                      <a:pt x="252" y="2"/>
                    </a:cubicBezTo>
                    <a:cubicBezTo>
                      <a:pt x="252" y="3"/>
                      <a:pt x="251" y="4"/>
                      <a:pt x="250" y="4"/>
                    </a:cubicBezTo>
                    <a:lnTo>
                      <a:pt x="250" y="4"/>
                    </a:lnTo>
                    <a:cubicBezTo>
                      <a:pt x="249" y="4"/>
                      <a:pt x="248" y="3"/>
                      <a:pt x="248" y="2"/>
                    </a:cubicBezTo>
                    <a:cubicBezTo>
                      <a:pt x="248" y="1"/>
                      <a:pt x="249" y="0"/>
                      <a:pt x="250" y="0"/>
                    </a:cubicBezTo>
                    <a:close/>
                    <a:moveTo>
                      <a:pt x="258" y="0"/>
                    </a:moveTo>
                    <a:lnTo>
                      <a:pt x="258" y="0"/>
                    </a:lnTo>
                    <a:cubicBezTo>
                      <a:pt x="259" y="0"/>
                      <a:pt x="260" y="1"/>
                      <a:pt x="260" y="2"/>
                    </a:cubicBezTo>
                    <a:cubicBezTo>
                      <a:pt x="260" y="3"/>
                      <a:pt x="259" y="4"/>
                      <a:pt x="258" y="4"/>
                    </a:cubicBezTo>
                    <a:lnTo>
                      <a:pt x="258" y="4"/>
                    </a:lnTo>
                    <a:cubicBezTo>
                      <a:pt x="257" y="4"/>
                      <a:pt x="256" y="3"/>
                      <a:pt x="256" y="2"/>
                    </a:cubicBezTo>
                    <a:cubicBezTo>
                      <a:pt x="256" y="1"/>
                      <a:pt x="257" y="0"/>
                      <a:pt x="258" y="0"/>
                    </a:cubicBezTo>
                    <a:close/>
                    <a:moveTo>
                      <a:pt x="266" y="0"/>
                    </a:moveTo>
                    <a:lnTo>
                      <a:pt x="266" y="0"/>
                    </a:lnTo>
                    <a:cubicBezTo>
                      <a:pt x="267" y="0"/>
                      <a:pt x="268" y="1"/>
                      <a:pt x="268" y="2"/>
                    </a:cubicBezTo>
                    <a:cubicBezTo>
                      <a:pt x="268" y="3"/>
                      <a:pt x="267" y="4"/>
                      <a:pt x="266" y="4"/>
                    </a:cubicBezTo>
                    <a:lnTo>
                      <a:pt x="266" y="4"/>
                    </a:lnTo>
                    <a:cubicBezTo>
                      <a:pt x="265" y="4"/>
                      <a:pt x="264" y="3"/>
                      <a:pt x="264" y="2"/>
                    </a:cubicBezTo>
                    <a:cubicBezTo>
                      <a:pt x="264" y="1"/>
                      <a:pt x="265" y="0"/>
                      <a:pt x="266" y="0"/>
                    </a:cubicBezTo>
                    <a:close/>
                    <a:moveTo>
                      <a:pt x="274" y="0"/>
                    </a:moveTo>
                    <a:lnTo>
                      <a:pt x="274" y="0"/>
                    </a:lnTo>
                    <a:cubicBezTo>
                      <a:pt x="275" y="0"/>
                      <a:pt x="276" y="1"/>
                      <a:pt x="276" y="2"/>
                    </a:cubicBezTo>
                    <a:cubicBezTo>
                      <a:pt x="276" y="3"/>
                      <a:pt x="275" y="4"/>
                      <a:pt x="274" y="4"/>
                    </a:cubicBezTo>
                    <a:lnTo>
                      <a:pt x="274" y="4"/>
                    </a:lnTo>
                    <a:cubicBezTo>
                      <a:pt x="273" y="4"/>
                      <a:pt x="272" y="3"/>
                      <a:pt x="272" y="2"/>
                    </a:cubicBezTo>
                    <a:cubicBezTo>
                      <a:pt x="272" y="1"/>
                      <a:pt x="273" y="0"/>
                      <a:pt x="274" y="0"/>
                    </a:cubicBezTo>
                    <a:close/>
                    <a:moveTo>
                      <a:pt x="282" y="0"/>
                    </a:moveTo>
                    <a:lnTo>
                      <a:pt x="282" y="0"/>
                    </a:lnTo>
                    <a:cubicBezTo>
                      <a:pt x="283" y="0"/>
                      <a:pt x="284" y="1"/>
                      <a:pt x="284" y="2"/>
                    </a:cubicBezTo>
                    <a:cubicBezTo>
                      <a:pt x="284" y="3"/>
                      <a:pt x="283" y="4"/>
                      <a:pt x="282" y="4"/>
                    </a:cubicBezTo>
                    <a:lnTo>
                      <a:pt x="282" y="4"/>
                    </a:lnTo>
                    <a:cubicBezTo>
                      <a:pt x="281" y="4"/>
                      <a:pt x="280" y="3"/>
                      <a:pt x="280" y="2"/>
                    </a:cubicBezTo>
                    <a:cubicBezTo>
                      <a:pt x="280" y="1"/>
                      <a:pt x="281" y="0"/>
                      <a:pt x="282" y="0"/>
                    </a:cubicBezTo>
                    <a:close/>
                    <a:moveTo>
                      <a:pt x="290" y="0"/>
                    </a:moveTo>
                    <a:lnTo>
                      <a:pt x="290" y="0"/>
                    </a:lnTo>
                    <a:cubicBezTo>
                      <a:pt x="291" y="0"/>
                      <a:pt x="292" y="1"/>
                      <a:pt x="292" y="2"/>
                    </a:cubicBezTo>
                    <a:cubicBezTo>
                      <a:pt x="292" y="3"/>
                      <a:pt x="291" y="4"/>
                      <a:pt x="290" y="4"/>
                    </a:cubicBezTo>
                    <a:lnTo>
                      <a:pt x="290" y="4"/>
                    </a:lnTo>
                    <a:cubicBezTo>
                      <a:pt x="289" y="4"/>
                      <a:pt x="288" y="3"/>
                      <a:pt x="288" y="2"/>
                    </a:cubicBezTo>
                    <a:cubicBezTo>
                      <a:pt x="288" y="1"/>
                      <a:pt x="289" y="0"/>
                      <a:pt x="290" y="0"/>
                    </a:cubicBezTo>
                    <a:close/>
                    <a:moveTo>
                      <a:pt x="298" y="0"/>
                    </a:moveTo>
                    <a:lnTo>
                      <a:pt x="298" y="0"/>
                    </a:lnTo>
                    <a:cubicBezTo>
                      <a:pt x="299" y="0"/>
                      <a:pt x="300" y="1"/>
                      <a:pt x="300" y="2"/>
                    </a:cubicBezTo>
                    <a:cubicBezTo>
                      <a:pt x="300" y="3"/>
                      <a:pt x="299" y="4"/>
                      <a:pt x="298" y="4"/>
                    </a:cubicBezTo>
                    <a:lnTo>
                      <a:pt x="298" y="4"/>
                    </a:lnTo>
                    <a:cubicBezTo>
                      <a:pt x="297" y="4"/>
                      <a:pt x="296" y="3"/>
                      <a:pt x="296" y="2"/>
                    </a:cubicBezTo>
                    <a:cubicBezTo>
                      <a:pt x="296" y="1"/>
                      <a:pt x="297" y="0"/>
                      <a:pt x="298" y="0"/>
                    </a:cubicBezTo>
                    <a:close/>
                    <a:moveTo>
                      <a:pt x="306" y="0"/>
                    </a:moveTo>
                    <a:lnTo>
                      <a:pt x="306" y="0"/>
                    </a:lnTo>
                    <a:cubicBezTo>
                      <a:pt x="307" y="0"/>
                      <a:pt x="308" y="1"/>
                      <a:pt x="308" y="2"/>
                    </a:cubicBezTo>
                    <a:cubicBezTo>
                      <a:pt x="308" y="3"/>
                      <a:pt x="307" y="4"/>
                      <a:pt x="306" y="4"/>
                    </a:cubicBezTo>
                    <a:lnTo>
                      <a:pt x="306" y="4"/>
                    </a:lnTo>
                    <a:cubicBezTo>
                      <a:pt x="305" y="4"/>
                      <a:pt x="304" y="3"/>
                      <a:pt x="304" y="2"/>
                    </a:cubicBezTo>
                    <a:cubicBezTo>
                      <a:pt x="304" y="1"/>
                      <a:pt x="305" y="0"/>
                      <a:pt x="306" y="0"/>
                    </a:cubicBezTo>
                    <a:close/>
                    <a:moveTo>
                      <a:pt x="314" y="0"/>
                    </a:moveTo>
                    <a:lnTo>
                      <a:pt x="314" y="0"/>
                    </a:lnTo>
                    <a:cubicBezTo>
                      <a:pt x="315" y="0"/>
                      <a:pt x="316" y="1"/>
                      <a:pt x="316" y="2"/>
                    </a:cubicBezTo>
                    <a:cubicBezTo>
                      <a:pt x="316" y="3"/>
                      <a:pt x="315" y="4"/>
                      <a:pt x="314" y="4"/>
                    </a:cubicBezTo>
                    <a:lnTo>
                      <a:pt x="314" y="4"/>
                    </a:lnTo>
                    <a:cubicBezTo>
                      <a:pt x="313" y="4"/>
                      <a:pt x="312" y="3"/>
                      <a:pt x="312" y="2"/>
                    </a:cubicBezTo>
                    <a:cubicBezTo>
                      <a:pt x="312" y="1"/>
                      <a:pt x="313" y="0"/>
                      <a:pt x="314" y="0"/>
                    </a:cubicBezTo>
                    <a:close/>
                    <a:moveTo>
                      <a:pt x="322" y="0"/>
                    </a:moveTo>
                    <a:lnTo>
                      <a:pt x="322" y="0"/>
                    </a:lnTo>
                    <a:cubicBezTo>
                      <a:pt x="323" y="0"/>
                      <a:pt x="324" y="1"/>
                      <a:pt x="324" y="2"/>
                    </a:cubicBezTo>
                    <a:cubicBezTo>
                      <a:pt x="324" y="3"/>
                      <a:pt x="323" y="4"/>
                      <a:pt x="322" y="4"/>
                    </a:cubicBezTo>
                    <a:lnTo>
                      <a:pt x="322" y="4"/>
                    </a:lnTo>
                    <a:cubicBezTo>
                      <a:pt x="321" y="4"/>
                      <a:pt x="320" y="3"/>
                      <a:pt x="320" y="2"/>
                    </a:cubicBezTo>
                    <a:cubicBezTo>
                      <a:pt x="320" y="1"/>
                      <a:pt x="321" y="0"/>
                      <a:pt x="322" y="0"/>
                    </a:cubicBezTo>
                    <a:close/>
                    <a:moveTo>
                      <a:pt x="330" y="0"/>
                    </a:moveTo>
                    <a:lnTo>
                      <a:pt x="330" y="0"/>
                    </a:lnTo>
                    <a:cubicBezTo>
                      <a:pt x="331" y="0"/>
                      <a:pt x="332" y="1"/>
                      <a:pt x="332" y="2"/>
                    </a:cubicBezTo>
                    <a:cubicBezTo>
                      <a:pt x="332" y="3"/>
                      <a:pt x="331" y="4"/>
                      <a:pt x="330" y="4"/>
                    </a:cubicBezTo>
                    <a:lnTo>
                      <a:pt x="330" y="4"/>
                    </a:lnTo>
                    <a:cubicBezTo>
                      <a:pt x="329" y="4"/>
                      <a:pt x="328" y="3"/>
                      <a:pt x="328" y="2"/>
                    </a:cubicBezTo>
                    <a:cubicBezTo>
                      <a:pt x="328" y="1"/>
                      <a:pt x="329" y="0"/>
                      <a:pt x="330" y="0"/>
                    </a:cubicBezTo>
                    <a:close/>
                    <a:moveTo>
                      <a:pt x="338" y="0"/>
                    </a:moveTo>
                    <a:lnTo>
                      <a:pt x="338" y="0"/>
                    </a:lnTo>
                    <a:cubicBezTo>
                      <a:pt x="339" y="0"/>
                      <a:pt x="340" y="1"/>
                      <a:pt x="340" y="2"/>
                    </a:cubicBezTo>
                    <a:cubicBezTo>
                      <a:pt x="340" y="3"/>
                      <a:pt x="339" y="4"/>
                      <a:pt x="338" y="4"/>
                    </a:cubicBezTo>
                    <a:lnTo>
                      <a:pt x="338" y="4"/>
                    </a:lnTo>
                    <a:cubicBezTo>
                      <a:pt x="337" y="4"/>
                      <a:pt x="336" y="3"/>
                      <a:pt x="336" y="2"/>
                    </a:cubicBezTo>
                    <a:cubicBezTo>
                      <a:pt x="336" y="1"/>
                      <a:pt x="337" y="0"/>
                      <a:pt x="338" y="0"/>
                    </a:cubicBezTo>
                    <a:close/>
                    <a:moveTo>
                      <a:pt x="346" y="0"/>
                    </a:moveTo>
                    <a:lnTo>
                      <a:pt x="346" y="0"/>
                    </a:lnTo>
                    <a:cubicBezTo>
                      <a:pt x="347" y="0"/>
                      <a:pt x="348" y="1"/>
                      <a:pt x="348" y="2"/>
                    </a:cubicBezTo>
                    <a:cubicBezTo>
                      <a:pt x="348" y="3"/>
                      <a:pt x="347" y="4"/>
                      <a:pt x="346" y="4"/>
                    </a:cubicBezTo>
                    <a:lnTo>
                      <a:pt x="346" y="4"/>
                    </a:lnTo>
                    <a:cubicBezTo>
                      <a:pt x="345" y="4"/>
                      <a:pt x="344" y="3"/>
                      <a:pt x="344" y="2"/>
                    </a:cubicBezTo>
                    <a:cubicBezTo>
                      <a:pt x="344" y="1"/>
                      <a:pt x="345" y="0"/>
                      <a:pt x="346" y="0"/>
                    </a:cubicBezTo>
                    <a:close/>
                    <a:moveTo>
                      <a:pt x="354" y="0"/>
                    </a:moveTo>
                    <a:lnTo>
                      <a:pt x="354" y="0"/>
                    </a:lnTo>
                    <a:cubicBezTo>
                      <a:pt x="355" y="0"/>
                      <a:pt x="356" y="1"/>
                      <a:pt x="356" y="2"/>
                    </a:cubicBezTo>
                    <a:cubicBezTo>
                      <a:pt x="356" y="3"/>
                      <a:pt x="355" y="4"/>
                      <a:pt x="354" y="4"/>
                    </a:cubicBezTo>
                    <a:lnTo>
                      <a:pt x="354" y="4"/>
                    </a:lnTo>
                    <a:cubicBezTo>
                      <a:pt x="353" y="4"/>
                      <a:pt x="352" y="3"/>
                      <a:pt x="352" y="2"/>
                    </a:cubicBezTo>
                    <a:cubicBezTo>
                      <a:pt x="352" y="1"/>
                      <a:pt x="353" y="0"/>
                      <a:pt x="354" y="0"/>
                    </a:cubicBezTo>
                    <a:close/>
                    <a:moveTo>
                      <a:pt x="362" y="0"/>
                    </a:moveTo>
                    <a:lnTo>
                      <a:pt x="362" y="0"/>
                    </a:lnTo>
                    <a:cubicBezTo>
                      <a:pt x="363" y="0"/>
                      <a:pt x="364" y="1"/>
                      <a:pt x="364" y="2"/>
                    </a:cubicBezTo>
                    <a:cubicBezTo>
                      <a:pt x="364" y="3"/>
                      <a:pt x="363" y="4"/>
                      <a:pt x="362" y="4"/>
                    </a:cubicBezTo>
                    <a:lnTo>
                      <a:pt x="362" y="4"/>
                    </a:lnTo>
                    <a:cubicBezTo>
                      <a:pt x="361" y="4"/>
                      <a:pt x="360" y="3"/>
                      <a:pt x="360" y="2"/>
                    </a:cubicBezTo>
                    <a:cubicBezTo>
                      <a:pt x="360" y="1"/>
                      <a:pt x="361" y="0"/>
                      <a:pt x="362" y="0"/>
                    </a:cubicBezTo>
                    <a:close/>
                    <a:moveTo>
                      <a:pt x="370" y="0"/>
                    </a:moveTo>
                    <a:lnTo>
                      <a:pt x="370" y="0"/>
                    </a:lnTo>
                    <a:cubicBezTo>
                      <a:pt x="371" y="0"/>
                      <a:pt x="372" y="1"/>
                      <a:pt x="372" y="2"/>
                    </a:cubicBezTo>
                    <a:cubicBezTo>
                      <a:pt x="372" y="3"/>
                      <a:pt x="371" y="4"/>
                      <a:pt x="370" y="4"/>
                    </a:cubicBezTo>
                    <a:lnTo>
                      <a:pt x="370" y="4"/>
                    </a:lnTo>
                    <a:cubicBezTo>
                      <a:pt x="369" y="4"/>
                      <a:pt x="368" y="3"/>
                      <a:pt x="368" y="2"/>
                    </a:cubicBezTo>
                    <a:cubicBezTo>
                      <a:pt x="368" y="1"/>
                      <a:pt x="369" y="0"/>
                      <a:pt x="370" y="0"/>
                    </a:cubicBezTo>
                    <a:close/>
                    <a:moveTo>
                      <a:pt x="378" y="0"/>
                    </a:moveTo>
                    <a:lnTo>
                      <a:pt x="378" y="0"/>
                    </a:lnTo>
                    <a:cubicBezTo>
                      <a:pt x="379" y="0"/>
                      <a:pt x="380" y="1"/>
                      <a:pt x="380" y="2"/>
                    </a:cubicBezTo>
                    <a:cubicBezTo>
                      <a:pt x="380" y="3"/>
                      <a:pt x="379" y="4"/>
                      <a:pt x="378" y="4"/>
                    </a:cubicBezTo>
                    <a:lnTo>
                      <a:pt x="378" y="4"/>
                    </a:lnTo>
                    <a:cubicBezTo>
                      <a:pt x="377" y="4"/>
                      <a:pt x="376" y="3"/>
                      <a:pt x="376" y="2"/>
                    </a:cubicBezTo>
                    <a:cubicBezTo>
                      <a:pt x="376" y="1"/>
                      <a:pt x="377" y="0"/>
                      <a:pt x="378" y="0"/>
                    </a:cubicBezTo>
                    <a:close/>
                    <a:moveTo>
                      <a:pt x="386" y="0"/>
                    </a:moveTo>
                    <a:lnTo>
                      <a:pt x="386" y="0"/>
                    </a:lnTo>
                    <a:cubicBezTo>
                      <a:pt x="387" y="0"/>
                      <a:pt x="388" y="1"/>
                      <a:pt x="388" y="2"/>
                    </a:cubicBezTo>
                    <a:cubicBezTo>
                      <a:pt x="388" y="3"/>
                      <a:pt x="387" y="4"/>
                      <a:pt x="386" y="4"/>
                    </a:cubicBezTo>
                    <a:lnTo>
                      <a:pt x="386" y="4"/>
                    </a:lnTo>
                    <a:cubicBezTo>
                      <a:pt x="385" y="4"/>
                      <a:pt x="384" y="3"/>
                      <a:pt x="384" y="2"/>
                    </a:cubicBezTo>
                    <a:cubicBezTo>
                      <a:pt x="384" y="1"/>
                      <a:pt x="385" y="0"/>
                      <a:pt x="386" y="0"/>
                    </a:cubicBezTo>
                    <a:close/>
                    <a:moveTo>
                      <a:pt x="394" y="0"/>
                    </a:moveTo>
                    <a:lnTo>
                      <a:pt x="394" y="0"/>
                    </a:lnTo>
                    <a:cubicBezTo>
                      <a:pt x="395" y="0"/>
                      <a:pt x="396" y="1"/>
                      <a:pt x="396" y="2"/>
                    </a:cubicBezTo>
                    <a:cubicBezTo>
                      <a:pt x="396" y="3"/>
                      <a:pt x="395" y="4"/>
                      <a:pt x="394" y="4"/>
                    </a:cubicBezTo>
                    <a:lnTo>
                      <a:pt x="394" y="4"/>
                    </a:lnTo>
                    <a:cubicBezTo>
                      <a:pt x="393" y="4"/>
                      <a:pt x="392" y="3"/>
                      <a:pt x="392" y="2"/>
                    </a:cubicBezTo>
                    <a:cubicBezTo>
                      <a:pt x="392" y="1"/>
                      <a:pt x="393" y="0"/>
                      <a:pt x="394" y="0"/>
                    </a:cubicBezTo>
                    <a:close/>
                    <a:moveTo>
                      <a:pt x="402" y="0"/>
                    </a:moveTo>
                    <a:lnTo>
                      <a:pt x="402" y="0"/>
                    </a:lnTo>
                    <a:cubicBezTo>
                      <a:pt x="403" y="0"/>
                      <a:pt x="404" y="1"/>
                      <a:pt x="404" y="2"/>
                    </a:cubicBezTo>
                    <a:cubicBezTo>
                      <a:pt x="404" y="3"/>
                      <a:pt x="403" y="4"/>
                      <a:pt x="402" y="4"/>
                    </a:cubicBezTo>
                    <a:lnTo>
                      <a:pt x="402" y="4"/>
                    </a:lnTo>
                    <a:cubicBezTo>
                      <a:pt x="401" y="4"/>
                      <a:pt x="400" y="3"/>
                      <a:pt x="400" y="2"/>
                    </a:cubicBezTo>
                    <a:cubicBezTo>
                      <a:pt x="400" y="1"/>
                      <a:pt x="401" y="0"/>
                      <a:pt x="402" y="0"/>
                    </a:cubicBezTo>
                    <a:close/>
                    <a:moveTo>
                      <a:pt x="410" y="0"/>
                    </a:moveTo>
                    <a:lnTo>
                      <a:pt x="410" y="0"/>
                    </a:lnTo>
                    <a:cubicBezTo>
                      <a:pt x="411" y="0"/>
                      <a:pt x="412" y="1"/>
                      <a:pt x="412" y="2"/>
                    </a:cubicBezTo>
                    <a:cubicBezTo>
                      <a:pt x="412" y="3"/>
                      <a:pt x="411" y="4"/>
                      <a:pt x="410" y="4"/>
                    </a:cubicBezTo>
                    <a:lnTo>
                      <a:pt x="410" y="4"/>
                    </a:lnTo>
                    <a:cubicBezTo>
                      <a:pt x="409" y="4"/>
                      <a:pt x="408" y="3"/>
                      <a:pt x="408" y="2"/>
                    </a:cubicBezTo>
                    <a:cubicBezTo>
                      <a:pt x="408" y="1"/>
                      <a:pt x="409" y="0"/>
                      <a:pt x="410" y="0"/>
                    </a:cubicBezTo>
                    <a:close/>
                    <a:moveTo>
                      <a:pt x="418" y="0"/>
                    </a:moveTo>
                    <a:lnTo>
                      <a:pt x="418" y="0"/>
                    </a:lnTo>
                    <a:cubicBezTo>
                      <a:pt x="419" y="0"/>
                      <a:pt x="420" y="1"/>
                      <a:pt x="420" y="2"/>
                    </a:cubicBezTo>
                    <a:cubicBezTo>
                      <a:pt x="420" y="3"/>
                      <a:pt x="419" y="4"/>
                      <a:pt x="418" y="4"/>
                    </a:cubicBezTo>
                    <a:lnTo>
                      <a:pt x="418" y="4"/>
                    </a:lnTo>
                    <a:cubicBezTo>
                      <a:pt x="417" y="4"/>
                      <a:pt x="416" y="3"/>
                      <a:pt x="416" y="2"/>
                    </a:cubicBezTo>
                    <a:cubicBezTo>
                      <a:pt x="416" y="1"/>
                      <a:pt x="417" y="0"/>
                      <a:pt x="418" y="0"/>
                    </a:cubicBezTo>
                    <a:close/>
                    <a:moveTo>
                      <a:pt x="426" y="0"/>
                    </a:moveTo>
                    <a:lnTo>
                      <a:pt x="426" y="0"/>
                    </a:lnTo>
                    <a:cubicBezTo>
                      <a:pt x="427" y="0"/>
                      <a:pt x="428" y="1"/>
                      <a:pt x="428" y="2"/>
                    </a:cubicBezTo>
                    <a:cubicBezTo>
                      <a:pt x="428" y="3"/>
                      <a:pt x="427" y="4"/>
                      <a:pt x="426" y="4"/>
                    </a:cubicBezTo>
                    <a:lnTo>
                      <a:pt x="426" y="4"/>
                    </a:lnTo>
                    <a:cubicBezTo>
                      <a:pt x="425" y="4"/>
                      <a:pt x="424" y="3"/>
                      <a:pt x="424" y="2"/>
                    </a:cubicBezTo>
                    <a:cubicBezTo>
                      <a:pt x="424" y="1"/>
                      <a:pt x="425" y="0"/>
                      <a:pt x="426" y="0"/>
                    </a:cubicBezTo>
                    <a:close/>
                    <a:moveTo>
                      <a:pt x="434" y="0"/>
                    </a:moveTo>
                    <a:lnTo>
                      <a:pt x="434" y="0"/>
                    </a:lnTo>
                    <a:cubicBezTo>
                      <a:pt x="435" y="0"/>
                      <a:pt x="436" y="1"/>
                      <a:pt x="436" y="2"/>
                    </a:cubicBezTo>
                    <a:cubicBezTo>
                      <a:pt x="436" y="3"/>
                      <a:pt x="435" y="4"/>
                      <a:pt x="434" y="4"/>
                    </a:cubicBezTo>
                    <a:lnTo>
                      <a:pt x="434" y="4"/>
                    </a:lnTo>
                    <a:cubicBezTo>
                      <a:pt x="433" y="4"/>
                      <a:pt x="432" y="3"/>
                      <a:pt x="432" y="2"/>
                    </a:cubicBezTo>
                    <a:cubicBezTo>
                      <a:pt x="432" y="1"/>
                      <a:pt x="433" y="0"/>
                      <a:pt x="434" y="0"/>
                    </a:cubicBezTo>
                    <a:close/>
                    <a:moveTo>
                      <a:pt x="442" y="0"/>
                    </a:moveTo>
                    <a:lnTo>
                      <a:pt x="442" y="0"/>
                    </a:lnTo>
                    <a:cubicBezTo>
                      <a:pt x="443" y="0"/>
                      <a:pt x="444" y="1"/>
                      <a:pt x="444" y="2"/>
                    </a:cubicBezTo>
                    <a:cubicBezTo>
                      <a:pt x="444" y="3"/>
                      <a:pt x="443" y="4"/>
                      <a:pt x="442" y="4"/>
                    </a:cubicBezTo>
                    <a:lnTo>
                      <a:pt x="442" y="4"/>
                    </a:lnTo>
                    <a:cubicBezTo>
                      <a:pt x="441" y="4"/>
                      <a:pt x="440" y="3"/>
                      <a:pt x="440" y="2"/>
                    </a:cubicBezTo>
                    <a:cubicBezTo>
                      <a:pt x="440" y="1"/>
                      <a:pt x="441" y="0"/>
                      <a:pt x="442" y="0"/>
                    </a:cubicBezTo>
                    <a:close/>
                    <a:moveTo>
                      <a:pt x="450" y="0"/>
                    </a:moveTo>
                    <a:lnTo>
                      <a:pt x="450" y="0"/>
                    </a:lnTo>
                    <a:cubicBezTo>
                      <a:pt x="451" y="0"/>
                      <a:pt x="452" y="1"/>
                      <a:pt x="452" y="2"/>
                    </a:cubicBezTo>
                    <a:cubicBezTo>
                      <a:pt x="452" y="3"/>
                      <a:pt x="451" y="4"/>
                      <a:pt x="450" y="4"/>
                    </a:cubicBezTo>
                    <a:lnTo>
                      <a:pt x="450" y="4"/>
                    </a:lnTo>
                    <a:cubicBezTo>
                      <a:pt x="449" y="4"/>
                      <a:pt x="448" y="3"/>
                      <a:pt x="448" y="2"/>
                    </a:cubicBezTo>
                    <a:cubicBezTo>
                      <a:pt x="448" y="1"/>
                      <a:pt x="449" y="0"/>
                      <a:pt x="450" y="0"/>
                    </a:cubicBezTo>
                    <a:close/>
                    <a:moveTo>
                      <a:pt x="458" y="0"/>
                    </a:moveTo>
                    <a:lnTo>
                      <a:pt x="458" y="0"/>
                    </a:lnTo>
                    <a:cubicBezTo>
                      <a:pt x="459" y="0"/>
                      <a:pt x="460" y="1"/>
                      <a:pt x="460" y="2"/>
                    </a:cubicBezTo>
                    <a:cubicBezTo>
                      <a:pt x="460" y="3"/>
                      <a:pt x="459" y="4"/>
                      <a:pt x="458" y="4"/>
                    </a:cubicBezTo>
                    <a:lnTo>
                      <a:pt x="458" y="4"/>
                    </a:lnTo>
                    <a:cubicBezTo>
                      <a:pt x="457" y="4"/>
                      <a:pt x="456" y="3"/>
                      <a:pt x="456" y="2"/>
                    </a:cubicBezTo>
                    <a:cubicBezTo>
                      <a:pt x="456" y="1"/>
                      <a:pt x="457" y="0"/>
                      <a:pt x="458" y="0"/>
                    </a:cubicBezTo>
                    <a:close/>
                    <a:moveTo>
                      <a:pt x="466" y="0"/>
                    </a:moveTo>
                    <a:lnTo>
                      <a:pt x="466" y="0"/>
                    </a:lnTo>
                    <a:cubicBezTo>
                      <a:pt x="467" y="0"/>
                      <a:pt x="468" y="1"/>
                      <a:pt x="468" y="2"/>
                    </a:cubicBezTo>
                    <a:cubicBezTo>
                      <a:pt x="468" y="3"/>
                      <a:pt x="467" y="4"/>
                      <a:pt x="466" y="4"/>
                    </a:cubicBezTo>
                    <a:lnTo>
                      <a:pt x="466" y="4"/>
                    </a:lnTo>
                    <a:cubicBezTo>
                      <a:pt x="465" y="4"/>
                      <a:pt x="464" y="3"/>
                      <a:pt x="464" y="2"/>
                    </a:cubicBezTo>
                    <a:cubicBezTo>
                      <a:pt x="464" y="1"/>
                      <a:pt x="465" y="0"/>
                      <a:pt x="466" y="0"/>
                    </a:cubicBezTo>
                    <a:close/>
                    <a:moveTo>
                      <a:pt x="474" y="0"/>
                    </a:moveTo>
                    <a:lnTo>
                      <a:pt x="474" y="0"/>
                    </a:lnTo>
                    <a:cubicBezTo>
                      <a:pt x="475" y="0"/>
                      <a:pt x="476" y="1"/>
                      <a:pt x="476" y="2"/>
                    </a:cubicBezTo>
                    <a:cubicBezTo>
                      <a:pt x="476" y="3"/>
                      <a:pt x="475" y="4"/>
                      <a:pt x="474" y="4"/>
                    </a:cubicBezTo>
                    <a:lnTo>
                      <a:pt x="474" y="4"/>
                    </a:lnTo>
                    <a:cubicBezTo>
                      <a:pt x="473" y="4"/>
                      <a:pt x="472" y="3"/>
                      <a:pt x="472" y="2"/>
                    </a:cubicBezTo>
                    <a:cubicBezTo>
                      <a:pt x="472" y="1"/>
                      <a:pt x="473" y="0"/>
                      <a:pt x="474" y="0"/>
                    </a:cubicBezTo>
                    <a:close/>
                    <a:moveTo>
                      <a:pt x="482" y="0"/>
                    </a:moveTo>
                    <a:lnTo>
                      <a:pt x="482" y="0"/>
                    </a:lnTo>
                    <a:cubicBezTo>
                      <a:pt x="483" y="0"/>
                      <a:pt x="484" y="1"/>
                      <a:pt x="484" y="2"/>
                    </a:cubicBezTo>
                    <a:cubicBezTo>
                      <a:pt x="484" y="3"/>
                      <a:pt x="483" y="4"/>
                      <a:pt x="482" y="4"/>
                    </a:cubicBezTo>
                    <a:lnTo>
                      <a:pt x="482" y="4"/>
                    </a:lnTo>
                    <a:cubicBezTo>
                      <a:pt x="481" y="4"/>
                      <a:pt x="480" y="3"/>
                      <a:pt x="480" y="2"/>
                    </a:cubicBezTo>
                    <a:cubicBezTo>
                      <a:pt x="480" y="1"/>
                      <a:pt x="481" y="0"/>
                      <a:pt x="482" y="0"/>
                    </a:cubicBezTo>
                    <a:close/>
                    <a:moveTo>
                      <a:pt x="490" y="0"/>
                    </a:moveTo>
                    <a:lnTo>
                      <a:pt x="490" y="0"/>
                    </a:lnTo>
                    <a:cubicBezTo>
                      <a:pt x="491" y="0"/>
                      <a:pt x="492" y="1"/>
                      <a:pt x="492" y="2"/>
                    </a:cubicBezTo>
                    <a:cubicBezTo>
                      <a:pt x="492" y="3"/>
                      <a:pt x="491" y="4"/>
                      <a:pt x="490" y="4"/>
                    </a:cubicBezTo>
                    <a:lnTo>
                      <a:pt x="490" y="4"/>
                    </a:lnTo>
                    <a:cubicBezTo>
                      <a:pt x="489" y="4"/>
                      <a:pt x="488" y="3"/>
                      <a:pt x="488" y="2"/>
                    </a:cubicBezTo>
                    <a:cubicBezTo>
                      <a:pt x="488" y="1"/>
                      <a:pt x="489" y="0"/>
                      <a:pt x="490" y="0"/>
                    </a:cubicBezTo>
                    <a:close/>
                    <a:moveTo>
                      <a:pt x="498" y="0"/>
                    </a:moveTo>
                    <a:lnTo>
                      <a:pt x="498" y="0"/>
                    </a:lnTo>
                    <a:cubicBezTo>
                      <a:pt x="499" y="0"/>
                      <a:pt x="500" y="1"/>
                      <a:pt x="500" y="2"/>
                    </a:cubicBezTo>
                    <a:cubicBezTo>
                      <a:pt x="500" y="3"/>
                      <a:pt x="499" y="4"/>
                      <a:pt x="498" y="4"/>
                    </a:cubicBezTo>
                    <a:lnTo>
                      <a:pt x="498" y="4"/>
                    </a:lnTo>
                    <a:cubicBezTo>
                      <a:pt x="497" y="4"/>
                      <a:pt x="496" y="3"/>
                      <a:pt x="496" y="2"/>
                    </a:cubicBezTo>
                    <a:cubicBezTo>
                      <a:pt x="496" y="1"/>
                      <a:pt x="497" y="0"/>
                      <a:pt x="498" y="0"/>
                    </a:cubicBezTo>
                    <a:close/>
                    <a:moveTo>
                      <a:pt x="506" y="0"/>
                    </a:moveTo>
                    <a:lnTo>
                      <a:pt x="506" y="0"/>
                    </a:lnTo>
                    <a:cubicBezTo>
                      <a:pt x="507" y="0"/>
                      <a:pt x="508" y="1"/>
                      <a:pt x="508" y="2"/>
                    </a:cubicBezTo>
                    <a:cubicBezTo>
                      <a:pt x="508" y="3"/>
                      <a:pt x="507" y="4"/>
                      <a:pt x="506" y="4"/>
                    </a:cubicBezTo>
                    <a:lnTo>
                      <a:pt x="506" y="4"/>
                    </a:lnTo>
                    <a:cubicBezTo>
                      <a:pt x="505" y="4"/>
                      <a:pt x="504" y="3"/>
                      <a:pt x="504" y="2"/>
                    </a:cubicBezTo>
                    <a:cubicBezTo>
                      <a:pt x="504" y="1"/>
                      <a:pt x="505" y="0"/>
                      <a:pt x="506" y="0"/>
                    </a:cubicBezTo>
                    <a:close/>
                    <a:moveTo>
                      <a:pt x="514" y="0"/>
                    </a:moveTo>
                    <a:lnTo>
                      <a:pt x="514" y="0"/>
                    </a:lnTo>
                    <a:cubicBezTo>
                      <a:pt x="515" y="0"/>
                      <a:pt x="516" y="1"/>
                      <a:pt x="516" y="2"/>
                    </a:cubicBezTo>
                    <a:cubicBezTo>
                      <a:pt x="516" y="3"/>
                      <a:pt x="515" y="4"/>
                      <a:pt x="514" y="4"/>
                    </a:cubicBezTo>
                    <a:lnTo>
                      <a:pt x="514" y="4"/>
                    </a:lnTo>
                    <a:cubicBezTo>
                      <a:pt x="513" y="4"/>
                      <a:pt x="512" y="3"/>
                      <a:pt x="512" y="2"/>
                    </a:cubicBezTo>
                    <a:cubicBezTo>
                      <a:pt x="512" y="1"/>
                      <a:pt x="513" y="0"/>
                      <a:pt x="514" y="0"/>
                    </a:cubicBezTo>
                    <a:close/>
                    <a:moveTo>
                      <a:pt x="522" y="0"/>
                    </a:moveTo>
                    <a:lnTo>
                      <a:pt x="522" y="0"/>
                    </a:lnTo>
                    <a:cubicBezTo>
                      <a:pt x="523" y="0"/>
                      <a:pt x="524" y="1"/>
                      <a:pt x="524" y="2"/>
                    </a:cubicBezTo>
                    <a:cubicBezTo>
                      <a:pt x="524" y="3"/>
                      <a:pt x="523" y="4"/>
                      <a:pt x="522" y="4"/>
                    </a:cubicBezTo>
                    <a:lnTo>
                      <a:pt x="522" y="4"/>
                    </a:lnTo>
                    <a:cubicBezTo>
                      <a:pt x="521" y="4"/>
                      <a:pt x="520" y="3"/>
                      <a:pt x="520" y="2"/>
                    </a:cubicBezTo>
                    <a:cubicBezTo>
                      <a:pt x="520" y="1"/>
                      <a:pt x="521" y="0"/>
                      <a:pt x="522" y="0"/>
                    </a:cubicBezTo>
                    <a:close/>
                    <a:moveTo>
                      <a:pt x="530" y="0"/>
                    </a:moveTo>
                    <a:lnTo>
                      <a:pt x="530" y="0"/>
                    </a:lnTo>
                    <a:cubicBezTo>
                      <a:pt x="531" y="0"/>
                      <a:pt x="532" y="1"/>
                      <a:pt x="532" y="2"/>
                    </a:cubicBezTo>
                    <a:cubicBezTo>
                      <a:pt x="532" y="3"/>
                      <a:pt x="531" y="4"/>
                      <a:pt x="530" y="4"/>
                    </a:cubicBezTo>
                    <a:lnTo>
                      <a:pt x="530" y="4"/>
                    </a:lnTo>
                    <a:cubicBezTo>
                      <a:pt x="529" y="4"/>
                      <a:pt x="528" y="3"/>
                      <a:pt x="528" y="2"/>
                    </a:cubicBezTo>
                    <a:cubicBezTo>
                      <a:pt x="528" y="1"/>
                      <a:pt x="529" y="0"/>
                      <a:pt x="530" y="0"/>
                    </a:cubicBezTo>
                    <a:close/>
                    <a:moveTo>
                      <a:pt x="538" y="0"/>
                    </a:moveTo>
                    <a:lnTo>
                      <a:pt x="538" y="0"/>
                    </a:lnTo>
                    <a:cubicBezTo>
                      <a:pt x="539" y="0"/>
                      <a:pt x="540" y="1"/>
                      <a:pt x="540" y="2"/>
                    </a:cubicBezTo>
                    <a:cubicBezTo>
                      <a:pt x="540" y="3"/>
                      <a:pt x="539" y="4"/>
                      <a:pt x="538" y="4"/>
                    </a:cubicBezTo>
                    <a:lnTo>
                      <a:pt x="538" y="4"/>
                    </a:lnTo>
                    <a:cubicBezTo>
                      <a:pt x="537" y="4"/>
                      <a:pt x="536" y="3"/>
                      <a:pt x="536" y="2"/>
                    </a:cubicBezTo>
                    <a:cubicBezTo>
                      <a:pt x="536" y="1"/>
                      <a:pt x="537" y="0"/>
                      <a:pt x="538" y="0"/>
                    </a:cubicBezTo>
                    <a:close/>
                    <a:moveTo>
                      <a:pt x="546" y="0"/>
                    </a:moveTo>
                    <a:lnTo>
                      <a:pt x="546" y="0"/>
                    </a:lnTo>
                    <a:cubicBezTo>
                      <a:pt x="547" y="0"/>
                      <a:pt x="548" y="1"/>
                      <a:pt x="548" y="2"/>
                    </a:cubicBezTo>
                    <a:cubicBezTo>
                      <a:pt x="548" y="3"/>
                      <a:pt x="547" y="4"/>
                      <a:pt x="546" y="4"/>
                    </a:cubicBezTo>
                    <a:lnTo>
                      <a:pt x="546" y="4"/>
                    </a:lnTo>
                    <a:cubicBezTo>
                      <a:pt x="545" y="4"/>
                      <a:pt x="544" y="3"/>
                      <a:pt x="544" y="2"/>
                    </a:cubicBezTo>
                    <a:cubicBezTo>
                      <a:pt x="544" y="1"/>
                      <a:pt x="545" y="0"/>
                      <a:pt x="546" y="0"/>
                    </a:cubicBezTo>
                    <a:close/>
                    <a:moveTo>
                      <a:pt x="554" y="0"/>
                    </a:moveTo>
                    <a:lnTo>
                      <a:pt x="554" y="0"/>
                    </a:lnTo>
                    <a:cubicBezTo>
                      <a:pt x="555" y="0"/>
                      <a:pt x="556" y="1"/>
                      <a:pt x="556" y="2"/>
                    </a:cubicBezTo>
                    <a:cubicBezTo>
                      <a:pt x="556" y="3"/>
                      <a:pt x="555" y="4"/>
                      <a:pt x="554" y="4"/>
                    </a:cubicBezTo>
                    <a:lnTo>
                      <a:pt x="554" y="4"/>
                    </a:lnTo>
                    <a:cubicBezTo>
                      <a:pt x="553" y="4"/>
                      <a:pt x="552" y="3"/>
                      <a:pt x="552" y="2"/>
                    </a:cubicBezTo>
                    <a:cubicBezTo>
                      <a:pt x="552" y="1"/>
                      <a:pt x="553" y="0"/>
                      <a:pt x="554" y="0"/>
                    </a:cubicBezTo>
                    <a:close/>
                    <a:moveTo>
                      <a:pt x="562" y="0"/>
                    </a:moveTo>
                    <a:lnTo>
                      <a:pt x="562" y="0"/>
                    </a:lnTo>
                    <a:cubicBezTo>
                      <a:pt x="563" y="0"/>
                      <a:pt x="564" y="1"/>
                      <a:pt x="564" y="2"/>
                    </a:cubicBezTo>
                    <a:cubicBezTo>
                      <a:pt x="564" y="3"/>
                      <a:pt x="563" y="4"/>
                      <a:pt x="562" y="4"/>
                    </a:cubicBezTo>
                    <a:lnTo>
                      <a:pt x="562" y="4"/>
                    </a:lnTo>
                    <a:cubicBezTo>
                      <a:pt x="561" y="4"/>
                      <a:pt x="560" y="3"/>
                      <a:pt x="560" y="2"/>
                    </a:cubicBezTo>
                    <a:cubicBezTo>
                      <a:pt x="560" y="1"/>
                      <a:pt x="561" y="0"/>
                      <a:pt x="562" y="0"/>
                    </a:cubicBezTo>
                    <a:close/>
                    <a:moveTo>
                      <a:pt x="570" y="0"/>
                    </a:moveTo>
                    <a:lnTo>
                      <a:pt x="570" y="0"/>
                    </a:lnTo>
                    <a:cubicBezTo>
                      <a:pt x="571" y="0"/>
                      <a:pt x="572" y="1"/>
                      <a:pt x="572" y="2"/>
                    </a:cubicBezTo>
                    <a:cubicBezTo>
                      <a:pt x="572" y="3"/>
                      <a:pt x="571" y="4"/>
                      <a:pt x="570" y="4"/>
                    </a:cubicBezTo>
                    <a:lnTo>
                      <a:pt x="570" y="4"/>
                    </a:lnTo>
                    <a:cubicBezTo>
                      <a:pt x="569" y="4"/>
                      <a:pt x="568" y="3"/>
                      <a:pt x="568" y="2"/>
                    </a:cubicBezTo>
                    <a:cubicBezTo>
                      <a:pt x="568" y="1"/>
                      <a:pt x="569" y="0"/>
                      <a:pt x="570" y="0"/>
                    </a:cubicBezTo>
                    <a:close/>
                    <a:moveTo>
                      <a:pt x="578" y="0"/>
                    </a:moveTo>
                    <a:lnTo>
                      <a:pt x="578" y="0"/>
                    </a:lnTo>
                    <a:cubicBezTo>
                      <a:pt x="579" y="0"/>
                      <a:pt x="580" y="1"/>
                      <a:pt x="580" y="2"/>
                    </a:cubicBezTo>
                    <a:cubicBezTo>
                      <a:pt x="580" y="3"/>
                      <a:pt x="579" y="4"/>
                      <a:pt x="578" y="4"/>
                    </a:cubicBezTo>
                    <a:lnTo>
                      <a:pt x="578" y="4"/>
                    </a:lnTo>
                    <a:cubicBezTo>
                      <a:pt x="577" y="4"/>
                      <a:pt x="576" y="3"/>
                      <a:pt x="576" y="2"/>
                    </a:cubicBezTo>
                    <a:cubicBezTo>
                      <a:pt x="576" y="1"/>
                      <a:pt x="577" y="0"/>
                      <a:pt x="578" y="0"/>
                    </a:cubicBezTo>
                    <a:close/>
                    <a:moveTo>
                      <a:pt x="586" y="0"/>
                    </a:moveTo>
                    <a:lnTo>
                      <a:pt x="586" y="0"/>
                    </a:lnTo>
                    <a:cubicBezTo>
                      <a:pt x="587" y="0"/>
                      <a:pt x="588" y="1"/>
                      <a:pt x="588" y="2"/>
                    </a:cubicBezTo>
                    <a:cubicBezTo>
                      <a:pt x="588" y="3"/>
                      <a:pt x="587" y="4"/>
                      <a:pt x="586" y="4"/>
                    </a:cubicBezTo>
                    <a:lnTo>
                      <a:pt x="586" y="4"/>
                    </a:lnTo>
                    <a:cubicBezTo>
                      <a:pt x="585" y="4"/>
                      <a:pt x="584" y="3"/>
                      <a:pt x="584" y="2"/>
                    </a:cubicBezTo>
                    <a:cubicBezTo>
                      <a:pt x="584" y="1"/>
                      <a:pt x="585" y="0"/>
                      <a:pt x="586" y="0"/>
                    </a:cubicBezTo>
                    <a:close/>
                    <a:moveTo>
                      <a:pt x="594" y="0"/>
                    </a:moveTo>
                    <a:lnTo>
                      <a:pt x="594" y="0"/>
                    </a:lnTo>
                    <a:cubicBezTo>
                      <a:pt x="595" y="0"/>
                      <a:pt x="596" y="1"/>
                      <a:pt x="596" y="2"/>
                    </a:cubicBezTo>
                    <a:cubicBezTo>
                      <a:pt x="596" y="3"/>
                      <a:pt x="595" y="4"/>
                      <a:pt x="594" y="4"/>
                    </a:cubicBezTo>
                    <a:lnTo>
                      <a:pt x="594" y="4"/>
                    </a:lnTo>
                    <a:cubicBezTo>
                      <a:pt x="593" y="4"/>
                      <a:pt x="592" y="3"/>
                      <a:pt x="592" y="2"/>
                    </a:cubicBezTo>
                    <a:cubicBezTo>
                      <a:pt x="592" y="1"/>
                      <a:pt x="593" y="0"/>
                      <a:pt x="594" y="0"/>
                    </a:cubicBezTo>
                    <a:close/>
                    <a:moveTo>
                      <a:pt x="602" y="0"/>
                    </a:moveTo>
                    <a:lnTo>
                      <a:pt x="602" y="0"/>
                    </a:lnTo>
                    <a:cubicBezTo>
                      <a:pt x="603" y="0"/>
                      <a:pt x="604" y="1"/>
                      <a:pt x="604" y="2"/>
                    </a:cubicBezTo>
                    <a:cubicBezTo>
                      <a:pt x="604" y="3"/>
                      <a:pt x="603" y="4"/>
                      <a:pt x="602" y="4"/>
                    </a:cubicBezTo>
                    <a:lnTo>
                      <a:pt x="602" y="4"/>
                    </a:lnTo>
                    <a:cubicBezTo>
                      <a:pt x="601" y="4"/>
                      <a:pt x="600" y="3"/>
                      <a:pt x="600" y="2"/>
                    </a:cubicBezTo>
                    <a:cubicBezTo>
                      <a:pt x="600" y="1"/>
                      <a:pt x="601" y="0"/>
                      <a:pt x="602" y="0"/>
                    </a:cubicBezTo>
                    <a:close/>
                    <a:moveTo>
                      <a:pt x="610" y="0"/>
                    </a:moveTo>
                    <a:lnTo>
                      <a:pt x="610" y="0"/>
                    </a:lnTo>
                    <a:cubicBezTo>
                      <a:pt x="611" y="0"/>
                      <a:pt x="612" y="1"/>
                      <a:pt x="612" y="2"/>
                    </a:cubicBezTo>
                    <a:cubicBezTo>
                      <a:pt x="612" y="3"/>
                      <a:pt x="611" y="4"/>
                      <a:pt x="610" y="4"/>
                    </a:cubicBezTo>
                    <a:lnTo>
                      <a:pt x="610" y="4"/>
                    </a:lnTo>
                    <a:cubicBezTo>
                      <a:pt x="609" y="4"/>
                      <a:pt x="608" y="3"/>
                      <a:pt x="608" y="2"/>
                    </a:cubicBezTo>
                    <a:cubicBezTo>
                      <a:pt x="608" y="1"/>
                      <a:pt x="609" y="0"/>
                      <a:pt x="610" y="0"/>
                    </a:cubicBezTo>
                    <a:close/>
                    <a:moveTo>
                      <a:pt x="618" y="0"/>
                    </a:moveTo>
                    <a:lnTo>
                      <a:pt x="618" y="0"/>
                    </a:lnTo>
                    <a:cubicBezTo>
                      <a:pt x="619" y="0"/>
                      <a:pt x="620" y="1"/>
                      <a:pt x="620" y="2"/>
                    </a:cubicBezTo>
                    <a:cubicBezTo>
                      <a:pt x="620" y="3"/>
                      <a:pt x="619" y="4"/>
                      <a:pt x="618" y="4"/>
                    </a:cubicBezTo>
                    <a:lnTo>
                      <a:pt x="618" y="4"/>
                    </a:lnTo>
                    <a:cubicBezTo>
                      <a:pt x="617" y="4"/>
                      <a:pt x="616" y="3"/>
                      <a:pt x="616" y="2"/>
                    </a:cubicBezTo>
                    <a:cubicBezTo>
                      <a:pt x="616" y="1"/>
                      <a:pt x="617" y="0"/>
                      <a:pt x="618" y="0"/>
                    </a:cubicBezTo>
                    <a:close/>
                    <a:moveTo>
                      <a:pt x="626" y="0"/>
                    </a:moveTo>
                    <a:lnTo>
                      <a:pt x="626" y="0"/>
                    </a:lnTo>
                    <a:cubicBezTo>
                      <a:pt x="627" y="0"/>
                      <a:pt x="628" y="1"/>
                      <a:pt x="628" y="2"/>
                    </a:cubicBezTo>
                    <a:cubicBezTo>
                      <a:pt x="628" y="3"/>
                      <a:pt x="627" y="4"/>
                      <a:pt x="626" y="4"/>
                    </a:cubicBezTo>
                    <a:lnTo>
                      <a:pt x="626" y="4"/>
                    </a:lnTo>
                    <a:cubicBezTo>
                      <a:pt x="625" y="4"/>
                      <a:pt x="624" y="3"/>
                      <a:pt x="624" y="2"/>
                    </a:cubicBezTo>
                    <a:cubicBezTo>
                      <a:pt x="624" y="1"/>
                      <a:pt x="625" y="0"/>
                      <a:pt x="626" y="0"/>
                    </a:cubicBezTo>
                    <a:close/>
                    <a:moveTo>
                      <a:pt x="634" y="0"/>
                    </a:moveTo>
                    <a:lnTo>
                      <a:pt x="634" y="0"/>
                    </a:lnTo>
                    <a:cubicBezTo>
                      <a:pt x="635" y="0"/>
                      <a:pt x="636" y="1"/>
                      <a:pt x="636" y="2"/>
                    </a:cubicBezTo>
                    <a:cubicBezTo>
                      <a:pt x="636" y="3"/>
                      <a:pt x="635" y="4"/>
                      <a:pt x="634" y="4"/>
                    </a:cubicBezTo>
                    <a:lnTo>
                      <a:pt x="634" y="4"/>
                    </a:lnTo>
                    <a:cubicBezTo>
                      <a:pt x="633" y="4"/>
                      <a:pt x="632" y="3"/>
                      <a:pt x="632" y="2"/>
                    </a:cubicBezTo>
                    <a:cubicBezTo>
                      <a:pt x="632" y="1"/>
                      <a:pt x="633" y="0"/>
                      <a:pt x="634" y="0"/>
                    </a:cubicBezTo>
                    <a:close/>
                    <a:moveTo>
                      <a:pt x="642" y="0"/>
                    </a:moveTo>
                    <a:lnTo>
                      <a:pt x="642" y="0"/>
                    </a:lnTo>
                    <a:cubicBezTo>
                      <a:pt x="643" y="0"/>
                      <a:pt x="644" y="1"/>
                      <a:pt x="644" y="2"/>
                    </a:cubicBezTo>
                    <a:cubicBezTo>
                      <a:pt x="644" y="3"/>
                      <a:pt x="643" y="4"/>
                      <a:pt x="642" y="4"/>
                    </a:cubicBezTo>
                    <a:lnTo>
                      <a:pt x="642" y="4"/>
                    </a:lnTo>
                    <a:cubicBezTo>
                      <a:pt x="641" y="4"/>
                      <a:pt x="640" y="3"/>
                      <a:pt x="640" y="2"/>
                    </a:cubicBezTo>
                    <a:cubicBezTo>
                      <a:pt x="640" y="1"/>
                      <a:pt x="641" y="0"/>
                      <a:pt x="642" y="0"/>
                    </a:cubicBezTo>
                    <a:close/>
                    <a:moveTo>
                      <a:pt x="650" y="0"/>
                    </a:moveTo>
                    <a:lnTo>
                      <a:pt x="650" y="0"/>
                    </a:lnTo>
                    <a:cubicBezTo>
                      <a:pt x="651" y="0"/>
                      <a:pt x="652" y="1"/>
                      <a:pt x="652" y="2"/>
                    </a:cubicBezTo>
                    <a:cubicBezTo>
                      <a:pt x="652" y="3"/>
                      <a:pt x="651" y="4"/>
                      <a:pt x="650" y="4"/>
                    </a:cubicBezTo>
                    <a:lnTo>
                      <a:pt x="650" y="4"/>
                    </a:lnTo>
                    <a:cubicBezTo>
                      <a:pt x="649" y="4"/>
                      <a:pt x="648" y="3"/>
                      <a:pt x="648" y="2"/>
                    </a:cubicBezTo>
                    <a:cubicBezTo>
                      <a:pt x="648" y="1"/>
                      <a:pt x="649" y="0"/>
                      <a:pt x="650" y="0"/>
                    </a:cubicBezTo>
                    <a:close/>
                    <a:moveTo>
                      <a:pt x="658" y="0"/>
                    </a:moveTo>
                    <a:lnTo>
                      <a:pt x="658" y="0"/>
                    </a:lnTo>
                    <a:cubicBezTo>
                      <a:pt x="659" y="0"/>
                      <a:pt x="660" y="1"/>
                      <a:pt x="660" y="2"/>
                    </a:cubicBezTo>
                    <a:cubicBezTo>
                      <a:pt x="660" y="3"/>
                      <a:pt x="659" y="4"/>
                      <a:pt x="658" y="4"/>
                    </a:cubicBezTo>
                    <a:lnTo>
                      <a:pt x="658" y="4"/>
                    </a:lnTo>
                    <a:cubicBezTo>
                      <a:pt x="657" y="4"/>
                      <a:pt x="656" y="3"/>
                      <a:pt x="656" y="2"/>
                    </a:cubicBezTo>
                    <a:cubicBezTo>
                      <a:pt x="656" y="1"/>
                      <a:pt x="657" y="0"/>
                      <a:pt x="658" y="0"/>
                    </a:cubicBezTo>
                    <a:close/>
                    <a:moveTo>
                      <a:pt x="666" y="0"/>
                    </a:moveTo>
                    <a:lnTo>
                      <a:pt x="666" y="0"/>
                    </a:lnTo>
                    <a:cubicBezTo>
                      <a:pt x="667" y="0"/>
                      <a:pt x="668" y="1"/>
                      <a:pt x="668" y="2"/>
                    </a:cubicBezTo>
                    <a:cubicBezTo>
                      <a:pt x="668" y="3"/>
                      <a:pt x="667" y="4"/>
                      <a:pt x="666" y="4"/>
                    </a:cubicBezTo>
                    <a:lnTo>
                      <a:pt x="666" y="4"/>
                    </a:lnTo>
                    <a:cubicBezTo>
                      <a:pt x="665" y="4"/>
                      <a:pt x="664" y="3"/>
                      <a:pt x="664" y="2"/>
                    </a:cubicBezTo>
                    <a:cubicBezTo>
                      <a:pt x="664" y="1"/>
                      <a:pt x="665" y="0"/>
                      <a:pt x="666" y="0"/>
                    </a:cubicBezTo>
                    <a:close/>
                    <a:moveTo>
                      <a:pt x="674" y="0"/>
                    </a:moveTo>
                    <a:lnTo>
                      <a:pt x="674" y="0"/>
                    </a:lnTo>
                    <a:cubicBezTo>
                      <a:pt x="675" y="0"/>
                      <a:pt x="676" y="1"/>
                      <a:pt x="676" y="2"/>
                    </a:cubicBezTo>
                    <a:cubicBezTo>
                      <a:pt x="676" y="3"/>
                      <a:pt x="675" y="4"/>
                      <a:pt x="674" y="4"/>
                    </a:cubicBezTo>
                    <a:lnTo>
                      <a:pt x="674" y="4"/>
                    </a:lnTo>
                    <a:cubicBezTo>
                      <a:pt x="673" y="4"/>
                      <a:pt x="672" y="3"/>
                      <a:pt x="672" y="2"/>
                    </a:cubicBezTo>
                    <a:cubicBezTo>
                      <a:pt x="672" y="1"/>
                      <a:pt x="673" y="0"/>
                      <a:pt x="674" y="0"/>
                    </a:cubicBezTo>
                    <a:close/>
                    <a:moveTo>
                      <a:pt x="682" y="0"/>
                    </a:moveTo>
                    <a:lnTo>
                      <a:pt x="682" y="0"/>
                    </a:lnTo>
                    <a:cubicBezTo>
                      <a:pt x="683" y="0"/>
                      <a:pt x="684" y="1"/>
                      <a:pt x="684" y="2"/>
                    </a:cubicBezTo>
                    <a:cubicBezTo>
                      <a:pt x="684" y="3"/>
                      <a:pt x="683" y="4"/>
                      <a:pt x="682" y="4"/>
                    </a:cubicBezTo>
                    <a:lnTo>
                      <a:pt x="682" y="4"/>
                    </a:lnTo>
                    <a:cubicBezTo>
                      <a:pt x="681" y="4"/>
                      <a:pt x="680" y="3"/>
                      <a:pt x="680" y="2"/>
                    </a:cubicBezTo>
                    <a:cubicBezTo>
                      <a:pt x="680" y="1"/>
                      <a:pt x="681" y="0"/>
                      <a:pt x="682" y="0"/>
                    </a:cubicBezTo>
                    <a:close/>
                    <a:moveTo>
                      <a:pt x="690" y="0"/>
                    </a:moveTo>
                    <a:lnTo>
                      <a:pt x="690" y="0"/>
                    </a:lnTo>
                    <a:cubicBezTo>
                      <a:pt x="691" y="0"/>
                      <a:pt x="692" y="1"/>
                      <a:pt x="692" y="2"/>
                    </a:cubicBezTo>
                    <a:cubicBezTo>
                      <a:pt x="692" y="3"/>
                      <a:pt x="691" y="4"/>
                      <a:pt x="690" y="4"/>
                    </a:cubicBezTo>
                    <a:lnTo>
                      <a:pt x="690" y="4"/>
                    </a:lnTo>
                    <a:cubicBezTo>
                      <a:pt x="689" y="4"/>
                      <a:pt x="688" y="3"/>
                      <a:pt x="688" y="2"/>
                    </a:cubicBezTo>
                    <a:cubicBezTo>
                      <a:pt x="688" y="1"/>
                      <a:pt x="689" y="0"/>
                      <a:pt x="690" y="0"/>
                    </a:cubicBezTo>
                    <a:close/>
                    <a:moveTo>
                      <a:pt x="698" y="0"/>
                    </a:moveTo>
                    <a:lnTo>
                      <a:pt x="698" y="0"/>
                    </a:lnTo>
                    <a:cubicBezTo>
                      <a:pt x="699" y="0"/>
                      <a:pt x="700" y="1"/>
                      <a:pt x="700" y="2"/>
                    </a:cubicBezTo>
                    <a:cubicBezTo>
                      <a:pt x="700" y="3"/>
                      <a:pt x="699" y="4"/>
                      <a:pt x="698" y="4"/>
                    </a:cubicBezTo>
                    <a:lnTo>
                      <a:pt x="698" y="4"/>
                    </a:lnTo>
                    <a:cubicBezTo>
                      <a:pt x="697" y="4"/>
                      <a:pt x="696" y="3"/>
                      <a:pt x="696" y="2"/>
                    </a:cubicBezTo>
                    <a:cubicBezTo>
                      <a:pt x="696" y="1"/>
                      <a:pt x="697" y="0"/>
                      <a:pt x="698" y="0"/>
                    </a:cubicBezTo>
                    <a:close/>
                    <a:moveTo>
                      <a:pt x="706" y="0"/>
                    </a:moveTo>
                    <a:lnTo>
                      <a:pt x="706" y="0"/>
                    </a:lnTo>
                    <a:cubicBezTo>
                      <a:pt x="707" y="0"/>
                      <a:pt x="708" y="1"/>
                      <a:pt x="708" y="2"/>
                    </a:cubicBezTo>
                    <a:cubicBezTo>
                      <a:pt x="708" y="3"/>
                      <a:pt x="707" y="4"/>
                      <a:pt x="706" y="4"/>
                    </a:cubicBezTo>
                    <a:lnTo>
                      <a:pt x="706" y="4"/>
                    </a:lnTo>
                    <a:cubicBezTo>
                      <a:pt x="705" y="4"/>
                      <a:pt x="704" y="3"/>
                      <a:pt x="704" y="2"/>
                    </a:cubicBezTo>
                    <a:cubicBezTo>
                      <a:pt x="704" y="1"/>
                      <a:pt x="705" y="0"/>
                      <a:pt x="706" y="0"/>
                    </a:cubicBezTo>
                    <a:close/>
                    <a:moveTo>
                      <a:pt x="714" y="0"/>
                    </a:moveTo>
                    <a:lnTo>
                      <a:pt x="714" y="0"/>
                    </a:lnTo>
                    <a:cubicBezTo>
                      <a:pt x="715" y="0"/>
                      <a:pt x="716" y="1"/>
                      <a:pt x="716" y="2"/>
                    </a:cubicBezTo>
                    <a:cubicBezTo>
                      <a:pt x="716" y="3"/>
                      <a:pt x="715" y="4"/>
                      <a:pt x="714" y="4"/>
                    </a:cubicBezTo>
                    <a:lnTo>
                      <a:pt x="714" y="4"/>
                    </a:lnTo>
                    <a:cubicBezTo>
                      <a:pt x="713" y="4"/>
                      <a:pt x="712" y="3"/>
                      <a:pt x="712" y="2"/>
                    </a:cubicBezTo>
                    <a:cubicBezTo>
                      <a:pt x="712" y="1"/>
                      <a:pt x="713" y="0"/>
                      <a:pt x="714" y="0"/>
                    </a:cubicBezTo>
                    <a:close/>
                    <a:moveTo>
                      <a:pt x="722" y="0"/>
                    </a:moveTo>
                    <a:lnTo>
                      <a:pt x="722" y="0"/>
                    </a:lnTo>
                    <a:cubicBezTo>
                      <a:pt x="723" y="0"/>
                      <a:pt x="724" y="1"/>
                      <a:pt x="724" y="2"/>
                    </a:cubicBezTo>
                    <a:cubicBezTo>
                      <a:pt x="724" y="3"/>
                      <a:pt x="723" y="4"/>
                      <a:pt x="722" y="4"/>
                    </a:cubicBezTo>
                    <a:lnTo>
                      <a:pt x="722" y="4"/>
                    </a:lnTo>
                    <a:cubicBezTo>
                      <a:pt x="721" y="4"/>
                      <a:pt x="720" y="3"/>
                      <a:pt x="720" y="2"/>
                    </a:cubicBezTo>
                    <a:cubicBezTo>
                      <a:pt x="720" y="1"/>
                      <a:pt x="721" y="0"/>
                      <a:pt x="722" y="0"/>
                    </a:cubicBezTo>
                    <a:close/>
                    <a:moveTo>
                      <a:pt x="730" y="0"/>
                    </a:moveTo>
                    <a:lnTo>
                      <a:pt x="730" y="0"/>
                    </a:lnTo>
                    <a:cubicBezTo>
                      <a:pt x="731" y="0"/>
                      <a:pt x="732" y="1"/>
                      <a:pt x="732" y="2"/>
                    </a:cubicBezTo>
                    <a:cubicBezTo>
                      <a:pt x="732" y="3"/>
                      <a:pt x="731" y="4"/>
                      <a:pt x="730" y="4"/>
                    </a:cubicBezTo>
                    <a:lnTo>
                      <a:pt x="730" y="4"/>
                    </a:lnTo>
                    <a:cubicBezTo>
                      <a:pt x="729" y="4"/>
                      <a:pt x="728" y="3"/>
                      <a:pt x="728" y="2"/>
                    </a:cubicBezTo>
                    <a:cubicBezTo>
                      <a:pt x="728" y="1"/>
                      <a:pt x="729" y="0"/>
                      <a:pt x="730" y="0"/>
                    </a:cubicBezTo>
                    <a:close/>
                    <a:moveTo>
                      <a:pt x="738" y="0"/>
                    </a:moveTo>
                    <a:lnTo>
                      <a:pt x="738" y="0"/>
                    </a:lnTo>
                    <a:cubicBezTo>
                      <a:pt x="739" y="0"/>
                      <a:pt x="740" y="1"/>
                      <a:pt x="740" y="2"/>
                    </a:cubicBezTo>
                    <a:cubicBezTo>
                      <a:pt x="740" y="3"/>
                      <a:pt x="739" y="4"/>
                      <a:pt x="738" y="4"/>
                    </a:cubicBezTo>
                    <a:lnTo>
                      <a:pt x="738" y="4"/>
                    </a:lnTo>
                    <a:cubicBezTo>
                      <a:pt x="737" y="4"/>
                      <a:pt x="736" y="3"/>
                      <a:pt x="736" y="2"/>
                    </a:cubicBezTo>
                    <a:cubicBezTo>
                      <a:pt x="736" y="1"/>
                      <a:pt x="737" y="0"/>
                      <a:pt x="738" y="0"/>
                    </a:cubicBezTo>
                    <a:close/>
                    <a:moveTo>
                      <a:pt x="746" y="0"/>
                    </a:moveTo>
                    <a:lnTo>
                      <a:pt x="746" y="0"/>
                    </a:lnTo>
                    <a:cubicBezTo>
                      <a:pt x="747" y="0"/>
                      <a:pt x="748" y="1"/>
                      <a:pt x="748" y="2"/>
                    </a:cubicBezTo>
                    <a:cubicBezTo>
                      <a:pt x="748" y="3"/>
                      <a:pt x="747" y="4"/>
                      <a:pt x="746" y="4"/>
                    </a:cubicBezTo>
                    <a:lnTo>
                      <a:pt x="746" y="4"/>
                    </a:lnTo>
                    <a:cubicBezTo>
                      <a:pt x="745" y="4"/>
                      <a:pt x="744" y="3"/>
                      <a:pt x="744" y="2"/>
                    </a:cubicBezTo>
                    <a:cubicBezTo>
                      <a:pt x="744" y="1"/>
                      <a:pt x="745" y="0"/>
                      <a:pt x="746" y="0"/>
                    </a:cubicBezTo>
                    <a:close/>
                    <a:moveTo>
                      <a:pt x="754" y="0"/>
                    </a:moveTo>
                    <a:lnTo>
                      <a:pt x="754" y="0"/>
                    </a:lnTo>
                    <a:cubicBezTo>
                      <a:pt x="755" y="0"/>
                      <a:pt x="756" y="1"/>
                      <a:pt x="756" y="2"/>
                    </a:cubicBezTo>
                    <a:cubicBezTo>
                      <a:pt x="756" y="3"/>
                      <a:pt x="755" y="4"/>
                      <a:pt x="754" y="4"/>
                    </a:cubicBezTo>
                    <a:lnTo>
                      <a:pt x="754" y="4"/>
                    </a:lnTo>
                    <a:cubicBezTo>
                      <a:pt x="753" y="4"/>
                      <a:pt x="752" y="3"/>
                      <a:pt x="752" y="2"/>
                    </a:cubicBezTo>
                    <a:cubicBezTo>
                      <a:pt x="752" y="1"/>
                      <a:pt x="753" y="0"/>
                      <a:pt x="754" y="0"/>
                    </a:cubicBezTo>
                    <a:close/>
                    <a:moveTo>
                      <a:pt x="762" y="0"/>
                    </a:moveTo>
                    <a:lnTo>
                      <a:pt x="762" y="0"/>
                    </a:lnTo>
                    <a:cubicBezTo>
                      <a:pt x="763" y="0"/>
                      <a:pt x="764" y="1"/>
                      <a:pt x="764" y="2"/>
                    </a:cubicBezTo>
                    <a:cubicBezTo>
                      <a:pt x="764" y="3"/>
                      <a:pt x="763" y="4"/>
                      <a:pt x="762" y="4"/>
                    </a:cubicBezTo>
                    <a:lnTo>
                      <a:pt x="762" y="4"/>
                    </a:lnTo>
                    <a:cubicBezTo>
                      <a:pt x="761" y="4"/>
                      <a:pt x="760" y="3"/>
                      <a:pt x="760" y="2"/>
                    </a:cubicBezTo>
                    <a:cubicBezTo>
                      <a:pt x="760" y="1"/>
                      <a:pt x="761" y="0"/>
                      <a:pt x="762" y="0"/>
                    </a:cubicBezTo>
                    <a:close/>
                    <a:moveTo>
                      <a:pt x="770" y="0"/>
                    </a:moveTo>
                    <a:lnTo>
                      <a:pt x="770" y="0"/>
                    </a:lnTo>
                    <a:cubicBezTo>
                      <a:pt x="771" y="0"/>
                      <a:pt x="772" y="1"/>
                      <a:pt x="772" y="2"/>
                    </a:cubicBezTo>
                    <a:cubicBezTo>
                      <a:pt x="772" y="3"/>
                      <a:pt x="771" y="4"/>
                      <a:pt x="770" y="4"/>
                    </a:cubicBezTo>
                    <a:lnTo>
                      <a:pt x="770" y="4"/>
                    </a:lnTo>
                    <a:cubicBezTo>
                      <a:pt x="769" y="4"/>
                      <a:pt x="768" y="3"/>
                      <a:pt x="768" y="2"/>
                    </a:cubicBezTo>
                    <a:cubicBezTo>
                      <a:pt x="768" y="1"/>
                      <a:pt x="769" y="0"/>
                      <a:pt x="770" y="0"/>
                    </a:cubicBezTo>
                    <a:close/>
                    <a:moveTo>
                      <a:pt x="778" y="0"/>
                    </a:moveTo>
                    <a:lnTo>
                      <a:pt x="778" y="0"/>
                    </a:lnTo>
                    <a:cubicBezTo>
                      <a:pt x="779" y="0"/>
                      <a:pt x="780" y="1"/>
                      <a:pt x="780" y="2"/>
                    </a:cubicBezTo>
                    <a:cubicBezTo>
                      <a:pt x="780" y="3"/>
                      <a:pt x="779" y="4"/>
                      <a:pt x="778" y="4"/>
                    </a:cubicBezTo>
                    <a:lnTo>
                      <a:pt x="778" y="4"/>
                    </a:lnTo>
                    <a:cubicBezTo>
                      <a:pt x="777" y="4"/>
                      <a:pt x="776" y="3"/>
                      <a:pt x="776" y="2"/>
                    </a:cubicBezTo>
                    <a:cubicBezTo>
                      <a:pt x="776" y="1"/>
                      <a:pt x="777" y="0"/>
                      <a:pt x="778" y="0"/>
                    </a:cubicBezTo>
                    <a:close/>
                    <a:moveTo>
                      <a:pt x="786" y="0"/>
                    </a:moveTo>
                    <a:lnTo>
                      <a:pt x="786" y="0"/>
                    </a:lnTo>
                    <a:cubicBezTo>
                      <a:pt x="787" y="0"/>
                      <a:pt x="788" y="1"/>
                      <a:pt x="788" y="2"/>
                    </a:cubicBezTo>
                    <a:cubicBezTo>
                      <a:pt x="788" y="3"/>
                      <a:pt x="787" y="4"/>
                      <a:pt x="786" y="4"/>
                    </a:cubicBezTo>
                    <a:lnTo>
                      <a:pt x="786" y="4"/>
                    </a:lnTo>
                    <a:cubicBezTo>
                      <a:pt x="785" y="4"/>
                      <a:pt x="784" y="3"/>
                      <a:pt x="784" y="2"/>
                    </a:cubicBezTo>
                    <a:cubicBezTo>
                      <a:pt x="784" y="1"/>
                      <a:pt x="785" y="0"/>
                      <a:pt x="786" y="0"/>
                    </a:cubicBezTo>
                    <a:close/>
                    <a:moveTo>
                      <a:pt x="794" y="0"/>
                    </a:moveTo>
                    <a:lnTo>
                      <a:pt x="794" y="0"/>
                    </a:lnTo>
                    <a:cubicBezTo>
                      <a:pt x="795" y="0"/>
                      <a:pt x="796" y="1"/>
                      <a:pt x="796" y="2"/>
                    </a:cubicBezTo>
                    <a:cubicBezTo>
                      <a:pt x="796" y="3"/>
                      <a:pt x="795" y="4"/>
                      <a:pt x="794" y="4"/>
                    </a:cubicBezTo>
                    <a:lnTo>
                      <a:pt x="794" y="4"/>
                    </a:lnTo>
                    <a:cubicBezTo>
                      <a:pt x="793" y="4"/>
                      <a:pt x="792" y="3"/>
                      <a:pt x="792" y="2"/>
                    </a:cubicBezTo>
                    <a:cubicBezTo>
                      <a:pt x="792" y="1"/>
                      <a:pt x="793" y="0"/>
                      <a:pt x="794" y="0"/>
                    </a:cubicBezTo>
                    <a:close/>
                    <a:moveTo>
                      <a:pt x="802" y="0"/>
                    </a:moveTo>
                    <a:lnTo>
                      <a:pt x="802" y="0"/>
                    </a:lnTo>
                    <a:cubicBezTo>
                      <a:pt x="803" y="0"/>
                      <a:pt x="804" y="1"/>
                      <a:pt x="804" y="2"/>
                    </a:cubicBezTo>
                    <a:cubicBezTo>
                      <a:pt x="804" y="3"/>
                      <a:pt x="803" y="4"/>
                      <a:pt x="802" y="4"/>
                    </a:cubicBezTo>
                    <a:lnTo>
                      <a:pt x="802" y="4"/>
                    </a:lnTo>
                    <a:cubicBezTo>
                      <a:pt x="801" y="4"/>
                      <a:pt x="800" y="3"/>
                      <a:pt x="800" y="2"/>
                    </a:cubicBezTo>
                    <a:cubicBezTo>
                      <a:pt x="800" y="1"/>
                      <a:pt x="801" y="0"/>
                      <a:pt x="802" y="0"/>
                    </a:cubicBezTo>
                    <a:close/>
                    <a:moveTo>
                      <a:pt x="810" y="0"/>
                    </a:moveTo>
                    <a:lnTo>
                      <a:pt x="810" y="0"/>
                    </a:lnTo>
                    <a:cubicBezTo>
                      <a:pt x="811" y="0"/>
                      <a:pt x="812" y="1"/>
                      <a:pt x="812" y="2"/>
                    </a:cubicBezTo>
                    <a:cubicBezTo>
                      <a:pt x="812" y="3"/>
                      <a:pt x="811" y="4"/>
                      <a:pt x="810" y="4"/>
                    </a:cubicBezTo>
                    <a:lnTo>
                      <a:pt x="810" y="4"/>
                    </a:lnTo>
                    <a:cubicBezTo>
                      <a:pt x="809" y="4"/>
                      <a:pt x="808" y="3"/>
                      <a:pt x="808" y="2"/>
                    </a:cubicBezTo>
                    <a:cubicBezTo>
                      <a:pt x="808" y="1"/>
                      <a:pt x="809" y="0"/>
                      <a:pt x="810" y="0"/>
                    </a:cubicBezTo>
                    <a:close/>
                    <a:moveTo>
                      <a:pt x="818" y="0"/>
                    </a:moveTo>
                    <a:lnTo>
                      <a:pt x="818" y="0"/>
                    </a:lnTo>
                    <a:cubicBezTo>
                      <a:pt x="819" y="0"/>
                      <a:pt x="820" y="1"/>
                      <a:pt x="820" y="2"/>
                    </a:cubicBezTo>
                    <a:cubicBezTo>
                      <a:pt x="820" y="3"/>
                      <a:pt x="819" y="4"/>
                      <a:pt x="818" y="4"/>
                    </a:cubicBezTo>
                    <a:lnTo>
                      <a:pt x="818" y="4"/>
                    </a:lnTo>
                    <a:cubicBezTo>
                      <a:pt x="817" y="4"/>
                      <a:pt x="816" y="3"/>
                      <a:pt x="816" y="2"/>
                    </a:cubicBezTo>
                    <a:cubicBezTo>
                      <a:pt x="816" y="1"/>
                      <a:pt x="817" y="0"/>
                      <a:pt x="818" y="0"/>
                    </a:cubicBezTo>
                    <a:close/>
                    <a:moveTo>
                      <a:pt x="826" y="0"/>
                    </a:moveTo>
                    <a:lnTo>
                      <a:pt x="826" y="0"/>
                    </a:lnTo>
                    <a:cubicBezTo>
                      <a:pt x="827" y="0"/>
                      <a:pt x="828" y="1"/>
                      <a:pt x="828" y="2"/>
                    </a:cubicBezTo>
                    <a:cubicBezTo>
                      <a:pt x="828" y="3"/>
                      <a:pt x="827" y="4"/>
                      <a:pt x="826" y="4"/>
                    </a:cubicBezTo>
                    <a:lnTo>
                      <a:pt x="826" y="4"/>
                    </a:lnTo>
                    <a:cubicBezTo>
                      <a:pt x="825" y="4"/>
                      <a:pt x="824" y="3"/>
                      <a:pt x="824" y="2"/>
                    </a:cubicBezTo>
                    <a:cubicBezTo>
                      <a:pt x="824" y="1"/>
                      <a:pt x="825" y="0"/>
                      <a:pt x="826" y="0"/>
                    </a:cubicBezTo>
                    <a:close/>
                    <a:moveTo>
                      <a:pt x="834" y="0"/>
                    </a:moveTo>
                    <a:lnTo>
                      <a:pt x="834" y="0"/>
                    </a:lnTo>
                    <a:cubicBezTo>
                      <a:pt x="835" y="0"/>
                      <a:pt x="836" y="1"/>
                      <a:pt x="836" y="2"/>
                    </a:cubicBezTo>
                    <a:cubicBezTo>
                      <a:pt x="836" y="3"/>
                      <a:pt x="835" y="4"/>
                      <a:pt x="834" y="4"/>
                    </a:cubicBezTo>
                    <a:lnTo>
                      <a:pt x="834" y="4"/>
                    </a:lnTo>
                    <a:cubicBezTo>
                      <a:pt x="833" y="4"/>
                      <a:pt x="832" y="3"/>
                      <a:pt x="832" y="2"/>
                    </a:cubicBezTo>
                    <a:cubicBezTo>
                      <a:pt x="832" y="1"/>
                      <a:pt x="833" y="0"/>
                      <a:pt x="834" y="0"/>
                    </a:cubicBezTo>
                    <a:close/>
                    <a:moveTo>
                      <a:pt x="842" y="0"/>
                    </a:moveTo>
                    <a:lnTo>
                      <a:pt x="842" y="0"/>
                    </a:lnTo>
                    <a:cubicBezTo>
                      <a:pt x="843" y="0"/>
                      <a:pt x="844" y="1"/>
                      <a:pt x="844" y="2"/>
                    </a:cubicBezTo>
                    <a:cubicBezTo>
                      <a:pt x="844" y="3"/>
                      <a:pt x="843" y="4"/>
                      <a:pt x="842" y="4"/>
                    </a:cubicBezTo>
                    <a:lnTo>
                      <a:pt x="842" y="4"/>
                    </a:lnTo>
                    <a:cubicBezTo>
                      <a:pt x="841" y="4"/>
                      <a:pt x="840" y="3"/>
                      <a:pt x="840" y="2"/>
                    </a:cubicBezTo>
                    <a:cubicBezTo>
                      <a:pt x="840" y="1"/>
                      <a:pt x="841" y="0"/>
                      <a:pt x="842" y="0"/>
                    </a:cubicBezTo>
                    <a:close/>
                    <a:moveTo>
                      <a:pt x="850" y="0"/>
                    </a:moveTo>
                    <a:lnTo>
                      <a:pt x="850" y="0"/>
                    </a:lnTo>
                    <a:cubicBezTo>
                      <a:pt x="851" y="0"/>
                      <a:pt x="852" y="1"/>
                      <a:pt x="852" y="2"/>
                    </a:cubicBezTo>
                    <a:cubicBezTo>
                      <a:pt x="852" y="3"/>
                      <a:pt x="851" y="4"/>
                      <a:pt x="850" y="4"/>
                    </a:cubicBezTo>
                    <a:lnTo>
                      <a:pt x="850" y="4"/>
                    </a:lnTo>
                    <a:cubicBezTo>
                      <a:pt x="849" y="4"/>
                      <a:pt x="848" y="3"/>
                      <a:pt x="848" y="2"/>
                    </a:cubicBezTo>
                    <a:cubicBezTo>
                      <a:pt x="848" y="1"/>
                      <a:pt x="849" y="0"/>
                      <a:pt x="850" y="0"/>
                    </a:cubicBezTo>
                    <a:close/>
                    <a:moveTo>
                      <a:pt x="858" y="0"/>
                    </a:moveTo>
                    <a:lnTo>
                      <a:pt x="858" y="0"/>
                    </a:lnTo>
                    <a:cubicBezTo>
                      <a:pt x="859" y="0"/>
                      <a:pt x="860" y="1"/>
                      <a:pt x="860" y="2"/>
                    </a:cubicBezTo>
                    <a:cubicBezTo>
                      <a:pt x="860" y="3"/>
                      <a:pt x="859" y="4"/>
                      <a:pt x="858" y="4"/>
                    </a:cubicBezTo>
                    <a:lnTo>
                      <a:pt x="858" y="4"/>
                    </a:lnTo>
                    <a:cubicBezTo>
                      <a:pt x="857" y="4"/>
                      <a:pt x="856" y="3"/>
                      <a:pt x="856" y="2"/>
                    </a:cubicBezTo>
                    <a:cubicBezTo>
                      <a:pt x="856" y="1"/>
                      <a:pt x="857" y="0"/>
                      <a:pt x="858" y="0"/>
                    </a:cubicBezTo>
                    <a:close/>
                    <a:moveTo>
                      <a:pt x="866" y="0"/>
                    </a:moveTo>
                    <a:lnTo>
                      <a:pt x="866" y="0"/>
                    </a:lnTo>
                    <a:cubicBezTo>
                      <a:pt x="867" y="0"/>
                      <a:pt x="868" y="1"/>
                      <a:pt x="868" y="2"/>
                    </a:cubicBezTo>
                    <a:cubicBezTo>
                      <a:pt x="868" y="3"/>
                      <a:pt x="867" y="4"/>
                      <a:pt x="866" y="4"/>
                    </a:cubicBezTo>
                    <a:lnTo>
                      <a:pt x="866" y="4"/>
                    </a:lnTo>
                    <a:cubicBezTo>
                      <a:pt x="865" y="4"/>
                      <a:pt x="864" y="3"/>
                      <a:pt x="864" y="2"/>
                    </a:cubicBezTo>
                    <a:cubicBezTo>
                      <a:pt x="864" y="1"/>
                      <a:pt x="865" y="0"/>
                      <a:pt x="866" y="0"/>
                    </a:cubicBezTo>
                    <a:close/>
                    <a:moveTo>
                      <a:pt x="874" y="0"/>
                    </a:moveTo>
                    <a:lnTo>
                      <a:pt x="874" y="0"/>
                    </a:lnTo>
                    <a:cubicBezTo>
                      <a:pt x="875" y="0"/>
                      <a:pt x="876" y="1"/>
                      <a:pt x="876" y="2"/>
                    </a:cubicBezTo>
                    <a:cubicBezTo>
                      <a:pt x="876" y="3"/>
                      <a:pt x="875" y="4"/>
                      <a:pt x="874" y="4"/>
                    </a:cubicBezTo>
                    <a:lnTo>
                      <a:pt x="874" y="4"/>
                    </a:lnTo>
                    <a:cubicBezTo>
                      <a:pt x="873" y="4"/>
                      <a:pt x="872" y="3"/>
                      <a:pt x="872" y="2"/>
                    </a:cubicBezTo>
                    <a:cubicBezTo>
                      <a:pt x="872" y="1"/>
                      <a:pt x="873" y="0"/>
                      <a:pt x="874" y="0"/>
                    </a:cubicBezTo>
                    <a:close/>
                    <a:moveTo>
                      <a:pt x="882" y="0"/>
                    </a:moveTo>
                    <a:lnTo>
                      <a:pt x="882" y="0"/>
                    </a:lnTo>
                    <a:cubicBezTo>
                      <a:pt x="883" y="0"/>
                      <a:pt x="884" y="1"/>
                      <a:pt x="884" y="2"/>
                    </a:cubicBezTo>
                    <a:cubicBezTo>
                      <a:pt x="884" y="3"/>
                      <a:pt x="883" y="4"/>
                      <a:pt x="882" y="4"/>
                    </a:cubicBezTo>
                    <a:lnTo>
                      <a:pt x="882" y="4"/>
                    </a:lnTo>
                    <a:cubicBezTo>
                      <a:pt x="881" y="4"/>
                      <a:pt x="880" y="3"/>
                      <a:pt x="880" y="2"/>
                    </a:cubicBezTo>
                    <a:cubicBezTo>
                      <a:pt x="880" y="1"/>
                      <a:pt x="881" y="0"/>
                      <a:pt x="882" y="0"/>
                    </a:cubicBezTo>
                    <a:close/>
                    <a:moveTo>
                      <a:pt x="890" y="0"/>
                    </a:moveTo>
                    <a:lnTo>
                      <a:pt x="890" y="0"/>
                    </a:lnTo>
                    <a:cubicBezTo>
                      <a:pt x="891" y="0"/>
                      <a:pt x="892" y="1"/>
                      <a:pt x="892" y="2"/>
                    </a:cubicBezTo>
                    <a:cubicBezTo>
                      <a:pt x="892" y="3"/>
                      <a:pt x="891" y="4"/>
                      <a:pt x="890" y="4"/>
                    </a:cubicBezTo>
                    <a:lnTo>
                      <a:pt x="890" y="4"/>
                    </a:lnTo>
                    <a:cubicBezTo>
                      <a:pt x="889" y="4"/>
                      <a:pt x="888" y="3"/>
                      <a:pt x="888" y="2"/>
                    </a:cubicBezTo>
                    <a:cubicBezTo>
                      <a:pt x="888" y="1"/>
                      <a:pt x="889" y="0"/>
                      <a:pt x="890" y="0"/>
                    </a:cubicBezTo>
                    <a:close/>
                    <a:moveTo>
                      <a:pt x="898" y="0"/>
                    </a:moveTo>
                    <a:lnTo>
                      <a:pt x="898" y="0"/>
                    </a:lnTo>
                    <a:cubicBezTo>
                      <a:pt x="899" y="0"/>
                      <a:pt x="900" y="1"/>
                      <a:pt x="900" y="2"/>
                    </a:cubicBezTo>
                    <a:cubicBezTo>
                      <a:pt x="900" y="3"/>
                      <a:pt x="899" y="4"/>
                      <a:pt x="898" y="4"/>
                    </a:cubicBezTo>
                    <a:lnTo>
                      <a:pt x="898" y="4"/>
                    </a:lnTo>
                    <a:cubicBezTo>
                      <a:pt x="897" y="4"/>
                      <a:pt x="896" y="3"/>
                      <a:pt x="896" y="2"/>
                    </a:cubicBezTo>
                    <a:cubicBezTo>
                      <a:pt x="896" y="1"/>
                      <a:pt x="897" y="0"/>
                      <a:pt x="898" y="0"/>
                    </a:cubicBezTo>
                    <a:close/>
                    <a:moveTo>
                      <a:pt x="906" y="0"/>
                    </a:moveTo>
                    <a:lnTo>
                      <a:pt x="906" y="0"/>
                    </a:lnTo>
                    <a:cubicBezTo>
                      <a:pt x="907" y="0"/>
                      <a:pt x="908" y="1"/>
                      <a:pt x="908" y="2"/>
                    </a:cubicBezTo>
                    <a:cubicBezTo>
                      <a:pt x="908" y="3"/>
                      <a:pt x="907" y="4"/>
                      <a:pt x="906" y="4"/>
                    </a:cubicBezTo>
                    <a:lnTo>
                      <a:pt x="906" y="4"/>
                    </a:lnTo>
                    <a:cubicBezTo>
                      <a:pt x="905" y="4"/>
                      <a:pt x="904" y="3"/>
                      <a:pt x="904" y="2"/>
                    </a:cubicBezTo>
                    <a:cubicBezTo>
                      <a:pt x="904" y="1"/>
                      <a:pt x="905" y="0"/>
                      <a:pt x="906" y="0"/>
                    </a:cubicBezTo>
                    <a:close/>
                    <a:moveTo>
                      <a:pt x="914" y="0"/>
                    </a:moveTo>
                    <a:lnTo>
                      <a:pt x="914" y="0"/>
                    </a:lnTo>
                    <a:cubicBezTo>
                      <a:pt x="915" y="0"/>
                      <a:pt x="916" y="1"/>
                      <a:pt x="916" y="2"/>
                    </a:cubicBezTo>
                    <a:cubicBezTo>
                      <a:pt x="916" y="3"/>
                      <a:pt x="915" y="4"/>
                      <a:pt x="914" y="4"/>
                    </a:cubicBezTo>
                    <a:lnTo>
                      <a:pt x="914" y="4"/>
                    </a:lnTo>
                    <a:cubicBezTo>
                      <a:pt x="913" y="4"/>
                      <a:pt x="912" y="3"/>
                      <a:pt x="912" y="2"/>
                    </a:cubicBezTo>
                    <a:cubicBezTo>
                      <a:pt x="912" y="1"/>
                      <a:pt x="913" y="0"/>
                      <a:pt x="914" y="0"/>
                    </a:cubicBezTo>
                    <a:close/>
                    <a:moveTo>
                      <a:pt x="922" y="0"/>
                    </a:moveTo>
                    <a:lnTo>
                      <a:pt x="922" y="0"/>
                    </a:lnTo>
                    <a:cubicBezTo>
                      <a:pt x="923" y="0"/>
                      <a:pt x="924" y="1"/>
                      <a:pt x="924" y="2"/>
                    </a:cubicBezTo>
                    <a:cubicBezTo>
                      <a:pt x="924" y="3"/>
                      <a:pt x="923" y="4"/>
                      <a:pt x="922" y="4"/>
                    </a:cubicBezTo>
                    <a:lnTo>
                      <a:pt x="922" y="4"/>
                    </a:lnTo>
                    <a:cubicBezTo>
                      <a:pt x="921" y="4"/>
                      <a:pt x="920" y="3"/>
                      <a:pt x="920" y="2"/>
                    </a:cubicBezTo>
                    <a:cubicBezTo>
                      <a:pt x="920" y="1"/>
                      <a:pt x="921" y="0"/>
                      <a:pt x="922" y="0"/>
                    </a:cubicBezTo>
                    <a:close/>
                    <a:moveTo>
                      <a:pt x="930" y="0"/>
                    </a:moveTo>
                    <a:lnTo>
                      <a:pt x="930" y="0"/>
                    </a:lnTo>
                    <a:cubicBezTo>
                      <a:pt x="931" y="0"/>
                      <a:pt x="932" y="1"/>
                      <a:pt x="932" y="2"/>
                    </a:cubicBezTo>
                    <a:cubicBezTo>
                      <a:pt x="932" y="3"/>
                      <a:pt x="931" y="4"/>
                      <a:pt x="930" y="4"/>
                    </a:cubicBezTo>
                    <a:lnTo>
                      <a:pt x="930" y="4"/>
                    </a:lnTo>
                    <a:cubicBezTo>
                      <a:pt x="929" y="4"/>
                      <a:pt x="928" y="3"/>
                      <a:pt x="928" y="2"/>
                    </a:cubicBezTo>
                    <a:cubicBezTo>
                      <a:pt x="928" y="1"/>
                      <a:pt x="929" y="0"/>
                      <a:pt x="930" y="0"/>
                    </a:cubicBezTo>
                    <a:close/>
                    <a:moveTo>
                      <a:pt x="938" y="0"/>
                    </a:moveTo>
                    <a:lnTo>
                      <a:pt x="938" y="0"/>
                    </a:lnTo>
                    <a:cubicBezTo>
                      <a:pt x="939" y="0"/>
                      <a:pt x="940" y="1"/>
                      <a:pt x="940" y="2"/>
                    </a:cubicBezTo>
                    <a:cubicBezTo>
                      <a:pt x="940" y="3"/>
                      <a:pt x="939" y="4"/>
                      <a:pt x="938" y="4"/>
                    </a:cubicBezTo>
                    <a:lnTo>
                      <a:pt x="938" y="4"/>
                    </a:lnTo>
                    <a:cubicBezTo>
                      <a:pt x="937" y="4"/>
                      <a:pt x="936" y="3"/>
                      <a:pt x="936" y="2"/>
                    </a:cubicBezTo>
                    <a:cubicBezTo>
                      <a:pt x="936" y="1"/>
                      <a:pt x="937" y="0"/>
                      <a:pt x="938" y="0"/>
                    </a:cubicBezTo>
                    <a:close/>
                    <a:moveTo>
                      <a:pt x="946" y="0"/>
                    </a:moveTo>
                    <a:lnTo>
                      <a:pt x="946" y="0"/>
                    </a:lnTo>
                    <a:cubicBezTo>
                      <a:pt x="947" y="0"/>
                      <a:pt x="948" y="1"/>
                      <a:pt x="948" y="2"/>
                    </a:cubicBezTo>
                    <a:cubicBezTo>
                      <a:pt x="948" y="3"/>
                      <a:pt x="947" y="4"/>
                      <a:pt x="946" y="4"/>
                    </a:cubicBezTo>
                    <a:lnTo>
                      <a:pt x="946" y="4"/>
                    </a:lnTo>
                    <a:cubicBezTo>
                      <a:pt x="945" y="4"/>
                      <a:pt x="944" y="3"/>
                      <a:pt x="944" y="2"/>
                    </a:cubicBezTo>
                    <a:cubicBezTo>
                      <a:pt x="944" y="1"/>
                      <a:pt x="945" y="0"/>
                      <a:pt x="946" y="0"/>
                    </a:cubicBezTo>
                    <a:close/>
                    <a:moveTo>
                      <a:pt x="954" y="0"/>
                    </a:moveTo>
                    <a:lnTo>
                      <a:pt x="954" y="0"/>
                    </a:lnTo>
                    <a:cubicBezTo>
                      <a:pt x="955" y="0"/>
                      <a:pt x="956" y="1"/>
                      <a:pt x="956" y="2"/>
                    </a:cubicBezTo>
                    <a:cubicBezTo>
                      <a:pt x="956" y="3"/>
                      <a:pt x="955" y="4"/>
                      <a:pt x="954" y="4"/>
                    </a:cubicBezTo>
                    <a:lnTo>
                      <a:pt x="954" y="4"/>
                    </a:lnTo>
                    <a:cubicBezTo>
                      <a:pt x="953" y="4"/>
                      <a:pt x="952" y="3"/>
                      <a:pt x="952" y="2"/>
                    </a:cubicBezTo>
                    <a:cubicBezTo>
                      <a:pt x="952" y="1"/>
                      <a:pt x="953" y="0"/>
                      <a:pt x="954" y="0"/>
                    </a:cubicBezTo>
                    <a:close/>
                    <a:moveTo>
                      <a:pt x="962" y="0"/>
                    </a:moveTo>
                    <a:lnTo>
                      <a:pt x="962" y="0"/>
                    </a:lnTo>
                    <a:cubicBezTo>
                      <a:pt x="963" y="0"/>
                      <a:pt x="964" y="1"/>
                      <a:pt x="964" y="2"/>
                    </a:cubicBezTo>
                    <a:cubicBezTo>
                      <a:pt x="964" y="3"/>
                      <a:pt x="963" y="4"/>
                      <a:pt x="962" y="4"/>
                    </a:cubicBezTo>
                    <a:lnTo>
                      <a:pt x="962" y="4"/>
                    </a:lnTo>
                    <a:cubicBezTo>
                      <a:pt x="961" y="4"/>
                      <a:pt x="960" y="3"/>
                      <a:pt x="960" y="2"/>
                    </a:cubicBezTo>
                    <a:cubicBezTo>
                      <a:pt x="960" y="1"/>
                      <a:pt x="961" y="0"/>
                      <a:pt x="962" y="0"/>
                    </a:cubicBezTo>
                    <a:close/>
                    <a:moveTo>
                      <a:pt x="970" y="0"/>
                    </a:moveTo>
                    <a:lnTo>
                      <a:pt x="970" y="0"/>
                    </a:lnTo>
                    <a:cubicBezTo>
                      <a:pt x="971" y="0"/>
                      <a:pt x="972" y="1"/>
                      <a:pt x="972" y="2"/>
                    </a:cubicBezTo>
                    <a:cubicBezTo>
                      <a:pt x="972" y="3"/>
                      <a:pt x="971" y="4"/>
                      <a:pt x="970" y="4"/>
                    </a:cubicBezTo>
                    <a:lnTo>
                      <a:pt x="970" y="4"/>
                    </a:lnTo>
                    <a:cubicBezTo>
                      <a:pt x="969" y="4"/>
                      <a:pt x="968" y="3"/>
                      <a:pt x="968" y="2"/>
                    </a:cubicBezTo>
                    <a:cubicBezTo>
                      <a:pt x="968" y="1"/>
                      <a:pt x="969" y="0"/>
                      <a:pt x="970" y="0"/>
                    </a:cubicBezTo>
                    <a:close/>
                    <a:moveTo>
                      <a:pt x="978" y="0"/>
                    </a:moveTo>
                    <a:lnTo>
                      <a:pt x="978" y="0"/>
                    </a:lnTo>
                    <a:cubicBezTo>
                      <a:pt x="979" y="0"/>
                      <a:pt x="980" y="1"/>
                      <a:pt x="980" y="2"/>
                    </a:cubicBezTo>
                    <a:cubicBezTo>
                      <a:pt x="980" y="3"/>
                      <a:pt x="979" y="4"/>
                      <a:pt x="978" y="4"/>
                    </a:cubicBezTo>
                    <a:lnTo>
                      <a:pt x="978" y="4"/>
                    </a:lnTo>
                    <a:cubicBezTo>
                      <a:pt x="977" y="4"/>
                      <a:pt x="976" y="3"/>
                      <a:pt x="976" y="2"/>
                    </a:cubicBezTo>
                    <a:cubicBezTo>
                      <a:pt x="976" y="1"/>
                      <a:pt x="977" y="0"/>
                      <a:pt x="978" y="0"/>
                    </a:cubicBezTo>
                    <a:close/>
                    <a:moveTo>
                      <a:pt x="986" y="0"/>
                    </a:moveTo>
                    <a:lnTo>
                      <a:pt x="986" y="0"/>
                    </a:lnTo>
                    <a:cubicBezTo>
                      <a:pt x="987" y="0"/>
                      <a:pt x="988" y="1"/>
                      <a:pt x="988" y="2"/>
                    </a:cubicBezTo>
                    <a:cubicBezTo>
                      <a:pt x="988" y="3"/>
                      <a:pt x="987" y="4"/>
                      <a:pt x="986" y="4"/>
                    </a:cubicBezTo>
                    <a:lnTo>
                      <a:pt x="986" y="4"/>
                    </a:lnTo>
                    <a:cubicBezTo>
                      <a:pt x="985" y="4"/>
                      <a:pt x="984" y="3"/>
                      <a:pt x="984" y="2"/>
                    </a:cubicBezTo>
                    <a:cubicBezTo>
                      <a:pt x="984" y="1"/>
                      <a:pt x="985" y="0"/>
                      <a:pt x="986" y="0"/>
                    </a:cubicBezTo>
                    <a:close/>
                    <a:moveTo>
                      <a:pt x="994" y="0"/>
                    </a:moveTo>
                    <a:lnTo>
                      <a:pt x="994" y="0"/>
                    </a:lnTo>
                    <a:cubicBezTo>
                      <a:pt x="995" y="0"/>
                      <a:pt x="996" y="1"/>
                      <a:pt x="996" y="2"/>
                    </a:cubicBezTo>
                    <a:cubicBezTo>
                      <a:pt x="996" y="3"/>
                      <a:pt x="995" y="4"/>
                      <a:pt x="994" y="4"/>
                    </a:cubicBezTo>
                    <a:lnTo>
                      <a:pt x="994" y="4"/>
                    </a:lnTo>
                    <a:cubicBezTo>
                      <a:pt x="993" y="4"/>
                      <a:pt x="992" y="3"/>
                      <a:pt x="992" y="2"/>
                    </a:cubicBezTo>
                    <a:cubicBezTo>
                      <a:pt x="992" y="1"/>
                      <a:pt x="993" y="0"/>
                      <a:pt x="994" y="0"/>
                    </a:cubicBezTo>
                    <a:close/>
                    <a:moveTo>
                      <a:pt x="1002" y="0"/>
                    </a:moveTo>
                    <a:lnTo>
                      <a:pt x="1002" y="0"/>
                    </a:lnTo>
                    <a:cubicBezTo>
                      <a:pt x="1003" y="0"/>
                      <a:pt x="1004" y="1"/>
                      <a:pt x="1004" y="2"/>
                    </a:cubicBezTo>
                    <a:cubicBezTo>
                      <a:pt x="1004" y="3"/>
                      <a:pt x="1003" y="4"/>
                      <a:pt x="1002" y="4"/>
                    </a:cubicBezTo>
                    <a:lnTo>
                      <a:pt x="1002" y="4"/>
                    </a:lnTo>
                    <a:cubicBezTo>
                      <a:pt x="1001" y="4"/>
                      <a:pt x="1000" y="3"/>
                      <a:pt x="1000" y="2"/>
                    </a:cubicBezTo>
                    <a:cubicBezTo>
                      <a:pt x="1000" y="1"/>
                      <a:pt x="1001" y="0"/>
                      <a:pt x="1002" y="0"/>
                    </a:cubicBezTo>
                    <a:close/>
                    <a:moveTo>
                      <a:pt x="1010" y="0"/>
                    </a:moveTo>
                    <a:lnTo>
                      <a:pt x="1010" y="0"/>
                    </a:lnTo>
                    <a:cubicBezTo>
                      <a:pt x="1011" y="0"/>
                      <a:pt x="1012" y="1"/>
                      <a:pt x="1012" y="2"/>
                    </a:cubicBezTo>
                    <a:cubicBezTo>
                      <a:pt x="1012" y="3"/>
                      <a:pt x="1011" y="4"/>
                      <a:pt x="1010" y="4"/>
                    </a:cubicBezTo>
                    <a:lnTo>
                      <a:pt x="1010" y="4"/>
                    </a:lnTo>
                    <a:cubicBezTo>
                      <a:pt x="1009" y="4"/>
                      <a:pt x="1008" y="3"/>
                      <a:pt x="1008" y="2"/>
                    </a:cubicBezTo>
                    <a:cubicBezTo>
                      <a:pt x="1008" y="1"/>
                      <a:pt x="1009" y="0"/>
                      <a:pt x="1010" y="0"/>
                    </a:cubicBezTo>
                    <a:close/>
                    <a:moveTo>
                      <a:pt x="1018" y="0"/>
                    </a:moveTo>
                    <a:lnTo>
                      <a:pt x="1018" y="0"/>
                    </a:lnTo>
                    <a:cubicBezTo>
                      <a:pt x="1019" y="0"/>
                      <a:pt x="1020" y="1"/>
                      <a:pt x="1020" y="2"/>
                    </a:cubicBezTo>
                    <a:cubicBezTo>
                      <a:pt x="1020" y="3"/>
                      <a:pt x="1019" y="4"/>
                      <a:pt x="1018" y="4"/>
                    </a:cubicBezTo>
                    <a:lnTo>
                      <a:pt x="1018" y="4"/>
                    </a:lnTo>
                    <a:cubicBezTo>
                      <a:pt x="1017" y="4"/>
                      <a:pt x="1016" y="3"/>
                      <a:pt x="1016" y="2"/>
                    </a:cubicBezTo>
                    <a:cubicBezTo>
                      <a:pt x="1016" y="1"/>
                      <a:pt x="1017" y="0"/>
                      <a:pt x="1018" y="0"/>
                    </a:cubicBezTo>
                    <a:close/>
                    <a:moveTo>
                      <a:pt x="1026" y="0"/>
                    </a:moveTo>
                    <a:lnTo>
                      <a:pt x="1026" y="0"/>
                    </a:lnTo>
                    <a:cubicBezTo>
                      <a:pt x="1027" y="0"/>
                      <a:pt x="1028" y="1"/>
                      <a:pt x="1028" y="2"/>
                    </a:cubicBezTo>
                    <a:cubicBezTo>
                      <a:pt x="1028" y="3"/>
                      <a:pt x="1027" y="4"/>
                      <a:pt x="1026" y="4"/>
                    </a:cubicBezTo>
                    <a:lnTo>
                      <a:pt x="1026" y="4"/>
                    </a:lnTo>
                    <a:cubicBezTo>
                      <a:pt x="1025" y="4"/>
                      <a:pt x="1024" y="3"/>
                      <a:pt x="1024" y="2"/>
                    </a:cubicBezTo>
                    <a:cubicBezTo>
                      <a:pt x="1024" y="1"/>
                      <a:pt x="1025" y="0"/>
                      <a:pt x="1026" y="0"/>
                    </a:cubicBezTo>
                    <a:close/>
                    <a:moveTo>
                      <a:pt x="1034" y="0"/>
                    </a:moveTo>
                    <a:lnTo>
                      <a:pt x="1034" y="0"/>
                    </a:lnTo>
                    <a:cubicBezTo>
                      <a:pt x="1035" y="0"/>
                      <a:pt x="1036" y="1"/>
                      <a:pt x="1036" y="2"/>
                    </a:cubicBezTo>
                    <a:cubicBezTo>
                      <a:pt x="1036" y="3"/>
                      <a:pt x="1035" y="4"/>
                      <a:pt x="1034" y="4"/>
                    </a:cubicBezTo>
                    <a:lnTo>
                      <a:pt x="1034" y="4"/>
                    </a:lnTo>
                    <a:cubicBezTo>
                      <a:pt x="1033" y="4"/>
                      <a:pt x="1032" y="3"/>
                      <a:pt x="1032" y="2"/>
                    </a:cubicBezTo>
                    <a:cubicBezTo>
                      <a:pt x="1032" y="1"/>
                      <a:pt x="1033" y="0"/>
                      <a:pt x="1034" y="0"/>
                    </a:cubicBezTo>
                    <a:close/>
                    <a:moveTo>
                      <a:pt x="1042" y="0"/>
                    </a:moveTo>
                    <a:lnTo>
                      <a:pt x="1042" y="0"/>
                    </a:lnTo>
                    <a:cubicBezTo>
                      <a:pt x="1043" y="0"/>
                      <a:pt x="1044" y="1"/>
                      <a:pt x="1044" y="2"/>
                    </a:cubicBezTo>
                    <a:cubicBezTo>
                      <a:pt x="1044" y="3"/>
                      <a:pt x="1043" y="4"/>
                      <a:pt x="1042" y="4"/>
                    </a:cubicBezTo>
                    <a:lnTo>
                      <a:pt x="1042" y="4"/>
                    </a:lnTo>
                    <a:cubicBezTo>
                      <a:pt x="1041" y="4"/>
                      <a:pt x="1040" y="3"/>
                      <a:pt x="1040" y="2"/>
                    </a:cubicBezTo>
                    <a:cubicBezTo>
                      <a:pt x="1040" y="1"/>
                      <a:pt x="1041" y="0"/>
                      <a:pt x="1042" y="0"/>
                    </a:cubicBezTo>
                    <a:close/>
                    <a:moveTo>
                      <a:pt x="1050" y="0"/>
                    </a:moveTo>
                    <a:lnTo>
                      <a:pt x="1050" y="0"/>
                    </a:lnTo>
                    <a:cubicBezTo>
                      <a:pt x="1051" y="0"/>
                      <a:pt x="1052" y="1"/>
                      <a:pt x="1052" y="2"/>
                    </a:cubicBezTo>
                    <a:cubicBezTo>
                      <a:pt x="1052" y="3"/>
                      <a:pt x="1051" y="4"/>
                      <a:pt x="1050" y="4"/>
                    </a:cubicBezTo>
                    <a:lnTo>
                      <a:pt x="1050" y="4"/>
                    </a:lnTo>
                    <a:cubicBezTo>
                      <a:pt x="1049" y="4"/>
                      <a:pt x="1048" y="3"/>
                      <a:pt x="1048" y="2"/>
                    </a:cubicBezTo>
                    <a:cubicBezTo>
                      <a:pt x="1048" y="1"/>
                      <a:pt x="1049" y="0"/>
                      <a:pt x="1050" y="0"/>
                    </a:cubicBezTo>
                    <a:close/>
                    <a:moveTo>
                      <a:pt x="1058" y="0"/>
                    </a:moveTo>
                    <a:lnTo>
                      <a:pt x="1058" y="0"/>
                    </a:lnTo>
                    <a:cubicBezTo>
                      <a:pt x="1059" y="0"/>
                      <a:pt x="1060" y="1"/>
                      <a:pt x="1060" y="2"/>
                    </a:cubicBezTo>
                    <a:cubicBezTo>
                      <a:pt x="1060" y="3"/>
                      <a:pt x="1059" y="4"/>
                      <a:pt x="1058" y="4"/>
                    </a:cubicBezTo>
                    <a:lnTo>
                      <a:pt x="1058" y="4"/>
                    </a:lnTo>
                    <a:cubicBezTo>
                      <a:pt x="1057" y="4"/>
                      <a:pt x="1056" y="3"/>
                      <a:pt x="1056" y="2"/>
                    </a:cubicBezTo>
                    <a:cubicBezTo>
                      <a:pt x="1056" y="1"/>
                      <a:pt x="1057" y="0"/>
                      <a:pt x="1058" y="0"/>
                    </a:cubicBezTo>
                    <a:close/>
                    <a:moveTo>
                      <a:pt x="1066" y="0"/>
                    </a:moveTo>
                    <a:lnTo>
                      <a:pt x="1066" y="0"/>
                    </a:lnTo>
                    <a:cubicBezTo>
                      <a:pt x="1067" y="0"/>
                      <a:pt x="1068" y="1"/>
                      <a:pt x="1068" y="2"/>
                    </a:cubicBezTo>
                    <a:cubicBezTo>
                      <a:pt x="1068" y="3"/>
                      <a:pt x="1067" y="4"/>
                      <a:pt x="1066" y="4"/>
                    </a:cubicBezTo>
                    <a:lnTo>
                      <a:pt x="1066" y="4"/>
                    </a:lnTo>
                    <a:cubicBezTo>
                      <a:pt x="1065" y="4"/>
                      <a:pt x="1064" y="3"/>
                      <a:pt x="1064" y="2"/>
                    </a:cubicBezTo>
                    <a:cubicBezTo>
                      <a:pt x="1064" y="1"/>
                      <a:pt x="1065" y="0"/>
                      <a:pt x="1066" y="0"/>
                    </a:cubicBezTo>
                    <a:close/>
                    <a:moveTo>
                      <a:pt x="1074" y="0"/>
                    </a:moveTo>
                    <a:lnTo>
                      <a:pt x="1074" y="0"/>
                    </a:lnTo>
                    <a:cubicBezTo>
                      <a:pt x="1075" y="0"/>
                      <a:pt x="1076" y="1"/>
                      <a:pt x="1076" y="2"/>
                    </a:cubicBezTo>
                    <a:cubicBezTo>
                      <a:pt x="1076" y="3"/>
                      <a:pt x="1075" y="4"/>
                      <a:pt x="1074" y="4"/>
                    </a:cubicBezTo>
                    <a:lnTo>
                      <a:pt x="1074" y="4"/>
                    </a:lnTo>
                    <a:cubicBezTo>
                      <a:pt x="1073" y="4"/>
                      <a:pt x="1072" y="3"/>
                      <a:pt x="1072" y="2"/>
                    </a:cubicBezTo>
                    <a:cubicBezTo>
                      <a:pt x="1072" y="1"/>
                      <a:pt x="1073" y="0"/>
                      <a:pt x="1074" y="0"/>
                    </a:cubicBezTo>
                    <a:close/>
                    <a:moveTo>
                      <a:pt x="1082" y="0"/>
                    </a:moveTo>
                    <a:lnTo>
                      <a:pt x="1082" y="0"/>
                    </a:lnTo>
                    <a:cubicBezTo>
                      <a:pt x="1083" y="0"/>
                      <a:pt x="1084" y="1"/>
                      <a:pt x="1084" y="2"/>
                    </a:cubicBezTo>
                    <a:cubicBezTo>
                      <a:pt x="1084" y="3"/>
                      <a:pt x="1083" y="4"/>
                      <a:pt x="1082" y="4"/>
                    </a:cubicBezTo>
                    <a:lnTo>
                      <a:pt x="1082" y="4"/>
                    </a:lnTo>
                    <a:cubicBezTo>
                      <a:pt x="1081" y="4"/>
                      <a:pt x="1080" y="3"/>
                      <a:pt x="1080" y="2"/>
                    </a:cubicBezTo>
                    <a:cubicBezTo>
                      <a:pt x="1080" y="1"/>
                      <a:pt x="1081" y="0"/>
                      <a:pt x="1082" y="0"/>
                    </a:cubicBezTo>
                    <a:close/>
                    <a:moveTo>
                      <a:pt x="1090" y="0"/>
                    </a:moveTo>
                    <a:lnTo>
                      <a:pt x="1090" y="0"/>
                    </a:lnTo>
                    <a:cubicBezTo>
                      <a:pt x="1091" y="0"/>
                      <a:pt x="1092" y="1"/>
                      <a:pt x="1092" y="2"/>
                    </a:cubicBezTo>
                    <a:cubicBezTo>
                      <a:pt x="1092" y="3"/>
                      <a:pt x="1091" y="4"/>
                      <a:pt x="1090" y="4"/>
                    </a:cubicBezTo>
                    <a:lnTo>
                      <a:pt x="1090" y="4"/>
                    </a:lnTo>
                    <a:cubicBezTo>
                      <a:pt x="1089" y="4"/>
                      <a:pt x="1088" y="3"/>
                      <a:pt x="1088" y="2"/>
                    </a:cubicBezTo>
                    <a:cubicBezTo>
                      <a:pt x="1088" y="1"/>
                      <a:pt x="1089" y="0"/>
                      <a:pt x="1090" y="0"/>
                    </a:cubicBezTo>
                    <a:close/>
                    <a:moveTo>
                      <a:pt x="1098" y="0"/>
                    </a:moveTo>
                    <a:lnTo>
                      <a:pt x="1098" y="0"/>
                    </a:lnTo>
                    <a:cubicBezTo>
                      <a:pt x="1099" y="0"/>
                      <a:pt x="1100" y="1"/>
                      <a:pt x="1100" y="2"/>
                    </a:cubicBezTo>
                    <a:cubicBezTo>
                      <a:pt x="1100" y="3"/>
                      <a:pt x="1099" y="4"/>
                      <a:pt x="1098" y="4"/>
                    </a:cubicBezTo>
                    <a:lnTo>
                      <a:pt x="1098" y="4"/>
                    </a:lnTo>
                    <a:cubicBezTo>
                      <a:pt x="1097" y="4"/>
                      <a:pt x="1096" y="3"/>
                      <a:pt x="1096" y="2"/>
                    </a:cubicBezTo>
                    <a:cubicBezTo>
                      <a:pt x="1096" y="1"/>
                      <a:pt x="1097" y="0"/>
                      <a:pt x="1098" y="0"/>
                    </a:cubicBezTo>
                    <a:close/>
                    <a:moveTo>
                      <a:pt x="1106" y="0"/>
                    </a:moveTo>
                    <a:lnTo>
                      <a:pt x="1106" y="0"/>
                    </a:lnTo>
                    <a:cubicBezTo>
                      <a:pt x="1107" y="0"/>
                      <a:pt x="1108" y="1"/>
                      <a:pt x="1108" y="2"/>
                    </a:cubicBezTo>
                    <a:cubicBezTo>
                      <a:pt x="1108" y="3"/>
                      <a:pt x="1107" y="4"/>
                      <a:pt x="1106" y="4"/>
                    </a:cubicBezTo>
                    <a:lnTo>
                      <a:pt x="1106" y="4"/>
                    </a:lnTo>
                    <a:cubicBezTo>
                      <a:pt x="1105" y="4"/>
                      <a:pt x="1104" y="3"/>
                      <a:pt x="1104" y="2"/>
                    </a:cubicBezTo>
                    <a:cubicBezTo>
                      <a:pt x="1104" y="1"/>
                      <a:pt x="1105" y="0"/>
                      <a:pt x="1106" y="0"/>
                    </a:cubicBezTo>
                    <a:close/>
                    <a:moveTo>
                      <a:pt x="1114" y="0"/>
                    </a:moveTo>
                    <a:lnTo>
                      <a:pt x="1114" y="0"/>
                    </a:lnTo>
                    <a:cubicBezTo>
                      <a:pt x="1115" y="0"/>
                      <a:pt x="1116" y="1"/>
                      <a:pt x="1116" y="2"/>
                    </a:cubicBezTo>
                    <a:cubicBezTo>
                      <a:pt x="1116" y="3"/>
                      <a:pt x="1115" y="4"/>
                      <a:pt x="1114" y="4"/>
                    </a:cubicBezTo>
                    <a:lnTo>
                      <a:pt x="1114" y="4"/>
                    </a:lnTo>
                    <a:cubicBezTo>
                      <a:pt x="1113" y="4"/>
                      <a:pt x="1112" y="3"/>
                      <a:pt x="1112" y="2"/>
                    </a:cubicBezTo>
                    <a:cubicBezTo>
                      <a:pt x="1112" y="1"/>
                      <a:pt x="1113" y="0"/>
                      <a:pt x="1114" y="0"/>
                    </a:cubicBezTo>
                    <a:close/>
                    <a:moveTo>
                      <a:pt x="1122" y="0"/>
                    </a:moveTo>
                    <a:lnTo>
                      <a:pt x="1122" y="0"/>
                    </a:lnTo>
                    <a:cubicBezTo>
                      <a:pt x="1123" y="0"/>
                      <a:pt x="1124" y="1"/>
                      <a:pt x="1124" y="2"/>
                    </a:cubicBezTo>
                    <a:cubicBezTo>
                      <a:pt x="1124" y="3"/>
                      <a:pt x="1123" y="4"/>
                      <a:pt x="1122" y="4"/>
                    </a:cubicBezTo>
                    <a:lnTo>
                      <a:pt x="1122" y="4"/>
                    </a:lnTo>
                    <a:cubicBezTo>
                      <a:pt x="1121" y="4"/>
                      <a:pt x="1120" y="3"/>
                      <a:pt x="1120" y="2"/>
                    </a:cubicBezTo>
                    <a:cubicBezTo>
                      <a:pt x="1120" y="1"/>
                      <a:pt x="1121" y="0"/>
                      <a:pt x="1122" y="0"/>
                    </a:cubicBezTo>
                    <a:close/>
                    <a:moveTo>
                      <a:pt x="1130" y="0"/>
                    </a:moveTo>
                    <a:lnTo>
                      <a:pt x="1130" y="0"/>
                    </a:lnTo>
                    <a:cubicBezTo>
                      <a:pt x="1131" y="0"/>
                      <a:pt x="1132" y="1"/>
                      <a:pt x="1132" y="2"/>
                    </a:cubicBezTo>
                    <a:cubicBezTo>
                      <a:pt x="1132" y="3"/>
                      <a:pt x="1131" y="4"/>
                      <a:pt x="1130" y="4"/>
                    </a:cubicBezTo>
                    <a:lnTo>
                      <a:pt x="1130" y="4"/>
                    </a:lnTo>
                    <a:cubicBezTo>
                      <a:pt x="1129" y="4"/>
                      <a:pt x="1128" y="3"/>
                      <a:pt x="1128" y="2"/>
                    </a:cubicBezTo>
                    <a:cubicBezTo>
                      <a:pt x="1128" y="1"/>
                      <a:pt x="1129" y="0"/>
                      <a:pt x="1130" y="0"/>
                    </a:cubicBezTo>
                    <a:close/>
                    <a:moveTo>
                      <a:pt x="1138" y="0"/>
                    </a:moveTo>
                    <a:lnTo>
                      <a:pt x="1138" y="0"/>
                    </a:lnTo>
                    <a:cubicBezTo>
                      <a:pt x="1139" y="0"/>
                      <a:pt x="1140" y="1"/>
                      <a:pt x="1140" y="2"/>
                    </a:cubicBezTo>
                    <a:cubicBezTo>
                      <a:pt x="1140" y="3"/>
                      <a:pt x="1139" y="4"/>
                      <a:pt x="1138" y="4"/>
                    </a:cubicBezTo>
                    <a:lnTo>
                      <a:pt x="1138" y="4"/>
                    </a:lnTo>
                    <a:cubicBezTo>
                      <a:pt x="1137" y="4"/>
                      <a:pt x="1136" y="3"/>
                      <a:pt x="1136" y="2"/>
                    </a:cubicBezTo>
                    <a:cubicBezTo>
                      <a:pt x="1136" y="1"/>
                      <a:pt x="1137" y="0"/>
                      <a:pt x="1138" y="0"/>
                    </a:cubicBezTo>
                    <a:close/>
                    <a:moveTo>
                      <a:pt x="1146" y="0"/>
                    </a:moveTo>
                    <a:lnTo>
                      <a:pt x="1146" y="0"/>
                    </a:lnTo>
                    <a:cubicBezTo>
                      <a:pt x="1147" y="0"/>
                      <a:pt x="1148" y="1"/>
                      <a:pt x="1148" y="2"/>
                    </a:cubicBezTo>
                    <a:cubicBezTo>
                      <a:pt x="1148" y="3"/>
                      <a:pt x="1147" y="4"/>
                      <a:pt x="1146" y="4"/>
                    </a:cubicBezTo>
                    <a:lnTo>
                      <a:pt x="1146" y="4"/>
                    </a:lnTo>
                    <a:cubicBezTo>
                      <a:pt x="1145" y="4"/>
                      <a:pt x="1144" y="3"/>
                      <a:pt x="1144" y="2"/>
                    </a:cubicBezTo>
                    <a:cubicBezTo>
                      <a:pt x="1144" y="1"/>
                      <a:pt x="1145" y="0"/>
                      <a:pt x="1146" y="0"/>
                    </a:cubicBezTo>
                    <a:close/>
                    <a:moveTo>
                      <a:pt x="1154" y="0"/>
                    </a:moveTo>
                    <a:lnTo>
                      <a:pt x="1154" y="0"/>
                    </a:lnTo>
                    <a:cubicBezTo>
                      <a:pt x="1155" y="0"/>
                      <a:pt x="1156" y="1"/>
                      <a:pt x="1156" y="2"/>
                    </a:cubicBezTo>
                    <a:cubicBezTo>
                      <a:pt x="1156" y="3"/>
                      <a:pt x="1155" y="4"/>
                      <a:pt x="1154" y="4"/>
                    </a:cubicBezTo>
                    <a:lnTo>
                      <a:pt x="1154" y="4"/>
                    </a:lnTo>
                    <a:cubicBezTo>
                      <a:pt x="1153" y="4"/>
                      <a:pt x="1152" y="3"/>
                      <a:pt x="1152" y="2"/>
                    </a:cubicBezTo>
                    <a:cubicBezTo>
                      <a:pt x="1152" y="1"/>
                      <a:pt x="1153" y="0"/>
                      <a:pt x="1154" y="0"/>
                    </a:cubicBezTo>
                    <a:close/>
                    <a:moveTo>
                      <a:pt x="1162" y="0"/>
                    </a:moveTo>
                    <a:lnTo>
                      <a:pt x="1162" y="0"/>
                    </a:lnTo>
                    <a:cubicBezTo>
                      <a:pt x="1163" y="0"/>
                      <a:pt x="1164" y="1"/>
                      <a:pt x="1164" y="2"/>
                    </a:cubicBezTo>
                    <a:cubicBezTo>
                      <a:pt x="1164" y="3"/>
                      <a:pt x="1163" y="4"/>
                      <a:pt x="1162" y="4"/>
                    </a:cubicBezTo>
                    <a:lnTo>
                      <a:pt x="1162" y="4"/>
                    </a:lnTo>
                    <a:cubicBezTo>
                      <a:pt x="1161" y="4"/>
                      <a:pt x="1160" y="3"/>
                      <a:pt x="1160" y="2"/>
                    </a:cubicBezTo>
                    <a:cubicBezTo>
                      <a:pt x="1160" y="1"/>
                      <a:pt x="1161" y="0"/>
                      <a:pt x="1162" y="0"/>
                    </a:cubicBezTo>
                    <a:close/>
                    <a:moveTo>
                      <a:pt x="1170" y="0"/>
                    </a:moveTo>
                    <a:lnTo>
                      <a:pt x="1170" y="0"/>
                    </a:lnTo>
                    <a:cubicBezTo>
                      <a:pt x="1171" y="0"/>
                      <a:pt x="1172" y="1"/>
                      <a:pt x="1172" y="2"/>
                    </a:cubicBezTo>
                    <a:cubicBezTo>
                      <a:pt x="1172" y="3"/>
                      <a:pt x="1171" y="4"/>
                      <a:pt x="1170" y="4"/>
                    </a:cubicBezTo>
                    <a:lnTo>
                      <a:pt x="1170" y="4"/>
                    </a:lnTo>
                    <a:cubicBezTo>
                      <a:pt x="1169" y="4"/>
                      <a:pt x="1168" y="3"/>
                      <a:pt x="1168" y="2"/>
                    </a:cubicBezTo>
                    <a:cubicBezTo>
                      <a:pt x="1168" y="1"/>
                      <a:pt x="1169" y="0"/>
                      <a:pt x="1170" y="0"/>
                    </a:cubicBezTo>
                    <a:close/>
                    <a:moveTo>
                      <a:pt x="1178" y="0"/>
                    </a:moveTo>
                    <a:lnTo>
                      <a:pt x="1178" y="0"/>
                    </a:lnTo>
                    <a:cubicBezTo>
                      <a:pt x="1179" y="0"/>
                      <a:pt x="1180" y="1"/>
                      <a:pt x="1180" y="2"/>
                    </a:cubicBezTo>
                    <a:cubicBezTo>
                      <a:pt x="1180" y="3"/>
                      <a:pt x="1179" y="4"/>
                      <a:pt x="1178" y="4"/>
                    </a:cubicBezTo>
                    <a:lnTo>
                      <a:pt x="1178" y="4"/>
                    </a:lnTo>
                    <a:cubicBezTo>
                      <a:pt x="1177" y="4"/>
                      <a:pt x="1176" y="3"/>
                      <a:pt x="1176" y="2"/>
                    </a:cubicBezTo>
                    <a:cubicBezTo>
                      <a:pt x="1176" y="1"/>
                      <a:pt x="1177" y="0"/>
                      <a:pt x="1178" y="0"/>
                    </a:cubicBezTo>
                    <a:close/>
                    <a:moveTo>
                      <a:pt x="1186" y="0"/>
                    </a:moveTo>
                    <a:lnTo>
                      <a:pt x="1186" y="0"/>
                    </a:lnTo>
                    <a:cubicBezTo>
                      <a:pt x="1187" y="0"/>
                      <a:pt x="1188" y="1"/>
                      <a:pt x="1188" y="2"/>
                    </a:cubicBezTo>
                    <a:cubicBezTo>
                      <a:pt x="1188" y="3"/>
                      <a:pt x="1187" y="4"/>
                      <a:pt x="1186" y="4"/>
                    </a:cubicBezTo>
                    <a:lnTo>
                      <a:pt x="1186" y="4"/>
                    </a:lnTo>
                    <a:cubicBezTo>
                      <a:pt x="1185" y="4"/>
                      <a:pt x="1184" y="3"/>
                      <a:pt x="1184" y="2"/>
                    </a:cubicBezTo>
                    <a:cubicBezTo>
                      <a:pt x="1184" y="1"/>
                      <a:pt x="1185" y="0"/>
                      <a:pt x="1186" y="0"/>
                    </a:cubicBezTo>
                    <a:close/>
                    <a:moveTo>
                      <a:pt x="1194" y="0"/>
                    </a:moveTo>
                    <a:lnTo>
                      <a:pt x="1194" y="0"/>
                    </a:lnTo>
                    <a:cubicBezTo>
                      <a:pt x="1195" y="0"/>
                      <a:pt x="1196" y="1"/>
                      <a:pt x="1196" y="2"/>
                    </a:cubicBezTo>
                    <a:cubicBezTo>
                      <a:pt x="1196" y="3"/>
                      <a:pt x="1195" y="4"/>
                      <a:pt x="1194" y="4"/>
                    </a:cubicBezTo>
                    <a:lnTo>
                      <a:pt x="1194" y="4"/>
                    </a:lnTo>
                    <a:cubicBezTo>
                      <a:pt x="1193" y="4"/>
                      <a:pt x="1192" y="3"/>
                      <a:pt x="1192" y="2"/>
                    </a:cubicBezTo>
                    <a:cubicBezTo>
                      <a:pt x="1192" y="1"/>
                      <a:pt x="1193" y="0"/>
                      <a:pt x="1194" y="0"/>
                    </a:cubicBezTo>
                    <a:close/>
                    <a:moveTo>
                      <a:pt x="1202" y="0"/>
                    </a:moveTo>
                    <a:lnTo>
                      <a:pt x="1202" y="0"/>
                    </a:lnTo>
                    <a:cubicBezTo>
                      <a:pt x="1203" y="0"/>
                      <a:pt x="1204" y="1"/>
                      <a:pt x="1204" y="2"/>
                    </a:cubicBezTo>
                    <a:cubicBezTo>
                      <a:pt x="1204" y="3"/>
                      <a:pt x="1203" y="4"/>
                      <a:pt x="1202" y="4"/>
                    </a:cubicBezTo>
                    <a:lnTo>
                      <a:pt x="1202" y="4"/>
                    </a:lnTo>
                    <a:cubicBezTo>
                      <a:pt x="1201" y="4"/>
                      <a:pt x="1200" y="3"/>
                      <a:pt x="1200" y="2"/>
                    </a:cubicBezTo>
                    <a:cubicBezTo>
                      <a:pt x="1200" y="1"/>
                      <a:pt x="1201" y="0"/>
                      <a:pt x="1202" y="0"/>
                    </a:cubicBezTo>
                    <a:close/>
                    <a:moveTo>
                      <a:pt x="1210" y="0"/>
                    </a:moveTo>
                    <a:lnTo>
                      <a:pt x="1210" y="0"/>
                    </a:lnTo>
                    <a:cubicBezTo>
                      <a:pt x="1212" y="0"/>
                      <a:pt x="1212" y="1"/>
                      <a:pt x="1212" y="2"/>
                    </a:cubicBezTo>
                    <a:cubicBezTo>
                      <a:pt x="1212" y="3"/>
                      <a:pt x="1212" y="4"/>
                      <a:pt x="1210" y="4"/>
                    </a:cubicBezTo>
                    <a:lnTo>
                      <a:pt x="1210" y="4"/>
                    </a:lnTo>
                    <a:cubicBezTo>
                      <a:pt x="1209" y="4"/>
                      <a:pt x="1208" y="3"/>
                      <a:pt x="1208" y="2"/>
                    </a:cubicBezTo>
                    <a:cubicBezTo>
                      <a:pt x="1208" y="1"/>
                      <a:pt x="1209" y="0"/>
                      <a:pt x="1210" y="0"/>
                    </a:cubicBezTo>
                    <a:close/>
                    <a:moveTo>
                      <a:pt x="1218" y="0"/>
                    </a:moveTo>
                    <a:lnTo>
                      <a:pt x="1218" y="0"/>
                    </a:lnTo>
                    <a:cubicBezTo>
                      <a:pt x="1220" y="0"/>
                      <a:pt x="1220" y="1"/>
                      <a:pt x="1220" y="2"/>
                    </a:cubicBezTo>
                    <a:cubicBezTo>
                      <a:pt x="1220" y="3"/>
                      <a:pt x="1220" y="4"/>
                      <a:pt x="1218" y="4"/>
                    </a:cubicBezTo>
                    <a:lnTo>
                      <a:pt x="1218" y="4"/>
                    </a:lnTo>
                    <a:cubicBezTo>
                      <a:pt x="1217" y="4"/>
                      <a:pt x="1216" y="3"/>
                      <a:pt x="1216" y="2"/>
                    </a:cubicBezTo>
                    <a:cubicBezTo>
                      <a:pt x="1216" y="1"/>
                      <a:pt x="1217" y="0"/>
                      <a:pt x="1218" y="0"/>
                    </a:cubicBezTo>
                    <a:close/>
                    <a:moveTo>
                      <a:pt x="1226" y="0"/>
                    </a:moveTo>
                    <a:lnTo>
                      <a:pt x="1226" y="0"/>
                    </a:lnTo>
                    <a:cubicBezTo>
                      <a:pt x="1228" y="0"/>
                      <a:pt x="1228" y="1"/>
                      <a:pt x="1228" y="2"/>
                    </a:cubicBezTo>
                    <a:cubicBezTo>
                      <a:pt x="1228" y="3"/>
                      <a:pt x="1228" y="4"/>
                      <a:pt x="1226" y="4"/>
                    </a:cubicBezTo>
                    <a:lnTo>
                      <a:pt x="1226" y="4"/>
                    </a:lnTo>
                    <a:cubicBezTo>
                      <a:pt x="1225" y="4"/>
                      <a:pt x="1224" y="3"/>
                      <a:pt x="1224" y="2"/>
                    </a:cubicBezTo>
                    <a:cubicBezTo>
                      <a:pt x="1224" y="1"/>
                      <a:pt x="1225" y="0"/>
                      <a:pt x="1226" y="0"/>
                    </a:cubicBezTo>
                    <a:close/>
                    <a:moveTo>
                      <a:pt x="1234" y="0"/>
                    </a:moveTo>
                    <a:lnTo>
                      <a:pt x="1234" y="0"/>
                    </a:lnTo>
                    <a:cubicBezTo>
                      <a:pt x="1236" y="0"/>
                      <a:pt x="1236" y="1"/>
                      <a:pt x="1236" y="2"/>
                    </a:cubicBezTo>
                    <a:cubicBezTo>
                      <a:pt x="1236" y="3"/>
                      <a:pt x="1236" y="4"/>
                      <a:pt x="1234" y="4"/>
                    </a:cubicBezTo>
                    <a:lnTo>
                      <a:pt x="1234" y="4"/>
                    </a:lnTo>
                    <a:cubicBezTo>
                      <a:pt x="1233" y="4"/>
                      <a:pt x="1232" y="3"/>
                      <a:pt x="1232" y="2"/>
                    </a:cubicBezTo>
                    <a:cubicBezTo>
                      <a:pt x="1232" y="1"/>
                      <a:pt x="1233" y="0"/>
                      <a:pt x="1234" y="0"/>
                    </a:cubicBezTo>
                    <a:close/>
                    <a:moveTo>
                      <a:pt x="1242" y="0"/>
                    </a:moveTo>
                    <a:lnTo>
                      <a:pt x="1242" y="0"/>
                    </a:lnTo>
                    <a:cubicBezTo>
                      <a:pt x="1244" y="0"/>
                      <a:pt x="1244" y="1"/>
                      <a:pt x="1244" y="2"/>
                    </a:cubicBezTo>
                    <a:cubicBezTo>
                      <a:pt x="1244" y="3"/>
                      <a:pt x="1244" y="4"/>
                      <a:pt x="1242" y="4"/>
                    </a:cubicBezTo>
                    <a:lnTo>
                      <a:pt x="1242" y="4"/>
                    </a:lnTo>
                    <a:cubicBezTo>
                      <a:pt x="1241" y="4"/>
                      <a:pt x="1240" y="3"/>
                      <a:pt x="1240" y="2"/>
                    </a:cubicBezTo>
                    <a:cubicBezTo>
                      <a:pt x="1240" y="1"/>
                      <a:pt x="1241" y="0"/>
                      <a:pt x="1242" y="0"/>
                    </a:cubicBezTo>
                    <a:close/>
                    <a:moveTo>
                      <a:pt x="1250" y="0"/>
                    </a:moveTo>
                    <a:lnTo>
                      <a:pt x="1250" y="0"/>
                    </a:lnTo>
                    <a:cubicBezTo>
                      <a:pt x="1252" y="0"/>
                      <a:pt x="1252" y="1"/>
                      <a:pt x="1252" y="2"/>
                    </a:cubicBezTo>
                    <a:cubicBezTo>
                      <a:pt x="1252" y="3"/>
                      <a:pt x="1252" y="4"/>
                      <a:pt x="1250" y="4"/>
                    </a:cubicBezTo>
                    <a:lnTo>
                      <a:pt x="1250" y="4"/>
                    </a:lnTo>
                    <a:cubicBezTo>
                      <a:pt x="1249" y="4"/>
                      <a:pt x="1248" y="3"/>
                      <a:pt x="1248" y="2"/>
                    </a:cubicBezTo>
                    <a:cubicBezTo>
                      <a:pt x="1248" y="1"/>
                      <a:pt x="1249" y="0"/>
                      <a:pt x="1250" y="0"/>
                    </a:cubicBezTo>
                    <a:close/>
                    <a:moveTo>
                      <a:pt x="1258" y="0"/>
                    </a:moveTo>
                    <a:lnTo>
                      <a:pt x="1258" y="0"/>
                    </a:lnTo>
                    <a:cubicBezTo>
                      <a:pt x="1260" y="0"/>
                      <a:pt x="1260" y="1"/>
                      <a:pt x="1260" y="2"/>
                    </a:cubicBezTo>
                    <a:cubicBezTo>
                      <a:pt x="1260" y="3"/>
                      <a:pt x="1260" y="4"/>
                      <a:pt x="1258" y="4"/>
                    </a:cubicBezTo>
                    <a:lnTo>
                      <a:pt x="1258" y="4"/>
                    </a:lnTo>
                    <a:cubicBezTo>
                      <a:pt x="1257" y="4"/>
                      <a:pt x="1256" y="3"/>
                      <a:pt x="1256" y="2"/>
                    </a:cubicBezTo>
                    <a:cubicBezTo>
                      <a:pt x="1256" y="1"/>
                      <a:pt x="1257" y="0"/>
                      <a:pt x="1258" y="0"/>
                    </a:cubicBezTo>
                    <a:close/>
                    <a:moveTo>
                      <a:pt x="1266" y="0"/>
                    </a:moveTo>
                    <a:lnTo>
                      <a:pt x="1266" y="0"/>
                    </a:lnTo>
                    <a:cubicBezTo>
                      <a:pt x="1268" y="0"/>
                      <a:pt x="1268" y="1"/>
                      <a:pt x="1268" y="2"/>
                    </a:cubicBezTo>
                    <a:cubicBezTo>
                      <a:pt x="1268" y="3"/>
                      <a:pt x="1268" y="4"/>
                      <a:pt x="1266" y="4"/>
                    </a:cubicBezTo>
                    <a:lnTo>
                      <a:pt x="1266" y="4"/>
                    </a:lnTo>
                    <a:cubicBezTo>
                      <a:pt x="1265" y="4"/>
                      <a:pt x="1264" y="3"/>
                      <a:pt x="1264" y="2"/>
                    </a:cubicBezTo>
                    <a:cubicBezTo>
                      <a:pt x="1264" y="1"/>
                      <a:pt x="1265" y="0"/>
                      <a:pt x="1266" y="0"/>
                    </a:cubicBezTo>
                    <a:close/>
                    <a:moveTo>
                      <a:pt x="1274" y="0"/>
                    </a:moveTo>
                    <a:lnTo>
                      <a:pt x="1274" y="0"/>
                    </a:lnTo>
                    <a:cubicBezTo>
                      <a:pt x="1276" y="0"/>
                      <a:pt x="1276" y="1"/>
                      <a:pt x="1276" y="2"/>
                    </a:cubicBezTo>
                    <a:cubicBezTo>
                      <a:pt x="1276" y="3"/>
                      <a:pt x="1276" y="4"/>
                      <a:pt x="1274" y="4"/>
                    </a:cubicBezTo>
                    <a:lnTo>
                      <a:pt x="1274" y="4"/>
                    </a:lnTo>
                    <a:cubicBezTo>
                      <a:pt x="1273" y="4"/>
                      <a:pt x="1272" y="3"/>
                      <a:pt x="1272" y="2"/>
                    </a:cubicBezTo>
                    <a:cubicBezTo>
                      <a:pt x="1272" y="1"/>
                      <a:pt x="1273" y="0"/>
                      <a:pt x="1274" y="0"/>
                    </a:cubicBezTo>
                    <a:close/>
                    <a:moveTo>
                      <a:pt x="1282" y="0"/>
                    </a:moveTo>
                    <a:lnTo>
                      <a:pt x="1282" y="0"/>
                    </a:lnTo>
                    <a:cubicBezTo>
                      <a:pt x="1284" y="0"/>
                      <a:pt x="1284" y="1"/>
                      <a:pt x="1284" y="2"/>
                    </a:cubicBezTo>
                    <a:cubicBezTo>
                      <a:pt x="1284" y="3"/>
                      <a:pt x="1284" y="4"/>
                      <a:pt x="1282" y="4"/>
                    </a:cubicBezTo>
                    <a:lnTo>
                      <a:pt x="1282" y="4"/>
                    </a:lnTo>
                    <a:cubicBezTo>
                      <a:pt x="1281" y="4"/>
                      <a:pt x="1280" y="3"/>
                      <a:pt x="1280" y="2"/>
                    </a:cubicBezTo>
                    <a:cubicBezTo>
                      <a:pt x="1280" y="1"/>
                      <a:pt x="1281" y="0"/>
                      <a:pt x="1282" y="0"/>
                    </a:cubicBezTo>
                    <a:close/>
                    <a:moveTo>
                      <a:pt x="1290" y="0"/>
                    </a:moveTo>
                    <a:lnTo>
                      <a:pt x="1290" y="0"/>
                    </a:lnTo>
                    <a:cubicBezTo>
                      <a:pt x="1292" y="0"/>
                      <a:pt x="1292" y="1"/>
                      <a:pt x="1292" y="2"/>
                    </a:cubicBezTo>
                    <a:cubicBezTo>
                      <a:pt x="1292" y="3"/>
                      <a:pt x="1292" y="4"/>
                      <a:pt x="1290" y="4"/>
                    </a:cubicBezTo>
                    <a:lnTo>
                      <a:pt x="1290" y="4"/>
                    </a:lnTo>
                    <a:cubicBezTo>
                      <a:pt x="1289" y="4"/>
                      <a:pt x="1288" y="3"/>
                      <a:pt x="1288" y="2"/>
                    </a:cubicBezTo>
                    <a:cubicBezTo>
                      <a:pt x="1288" y="1"/>
                      <a:pt x="1289" y="0"/>
                      <a:pt x="1290" y="0"/>
                    </a:cubicBezTo>
                    <a:close/>
                    <a:moveTo>
                      <a:pt x="1298" y="0"/>
                    </a:moveTo>
                    <a:lnTo>
                      <a:pt x="1298" y="0"/>
                    </a:lnTo>
                    <a:cubicBezTo>
                      <a:pt x="1300" y="0"/>
                      <a:pt x="1300" y="1"/>
                      <a:pt x="1300" y="2"/>
                    </a:cubicBezTo>
                    <a:cubicBezTo>
                      <a:pt x="1300" y="3"/>
                      <a:pt x="1300" y="4"/>
                      <a:pt x="1298" y="4"/>
                    </a:cubicBezTo>
                    <a:lnTo>
                      <a:pt x="1298" y="4"/>
                    </a:lnTo>
                    <a:cubicBezTo>
                      <a:pt x="1297" y="4"/>
                      <a:pt x="1296" y="3"/>
                      <a:pt x="1296" y="2"/>
                    </a:cubicBezTo>
                    <a:cubicBezTo>
                      <a:pt x="1296" y="1"/>
                      <a:pt x="1297" y="0"/>
                      <a:pt x="1298" y="0"/>
                    </a:cubicBezTo>
                    <a:close/>
                    <a:moveTo>
                      <a:pt x="1306" y="0"/>
                    </a:moveTo>
                    <a:lnTo>
                      <a:pt x="1306" y="0"/>
                    </a:lnTo>
                    <a:cubicBezTo>
                      <a:pt x="1308" y="0"/>
                      <a:pt x="1308" y="1"/>
                      <a:pt x="1308" y="2"/>
                    </a:cubicBezTo>
                    <a:cubicBezTo>
                      <a:pt x="1308" y="3"/>
                      <a:pt x="1308" y="4"/>
                      <a:pt x="1306" y="4"/>
                    </a:cubicBezTo>
                    <a:lnTo>
                      <a:pt x="1306" y="4"/>
                    </a:lnTo>
                    <a:cubicBezTo>
                      <a:pt x="1305" y="4"/>
                      <a:pt x="1304" y="3"/>
                      <a:pt x="1304" y="2"/>
                    </a:cubicBezTo>
                    <a:cubicBezTo>
                      <a:pt x="1304" y="1"/>
                      <a:pt x="1305" y="0"/>
                      <a:pt x="1306" y="0"/>
                    </a:cubicBezTo>
                    <a:close/>
                    <a:moveTo>
                      <a:pt x="1314" y="0"/>
                    </a:moveTo>
                    <a:lnTo>
                      <a:pt x="1314" y="0"/>
                    </a:lnTo>
                    <a:cubicBezTo>
                      <a:pt x="1316" y="0"/>
                      <a:pt x="1316" y="1"/>
                      <a:pt x="1316" y="2"/>
                    </a:cubicBezTo>
                    <a:cubicBezTo>
                      <a:pt x="1316" y="3"/>
                      <a:pt x="1316" y="4"/>
                      <a:pt x="1314" y="4"/>
                    </a:cubicBezTo>
                    <a:lnTo>
                      <a:pt x="1314" y="4"/>
                    </a:lnTo>
                    <a:cubicBezTo>
                      <a:pt x="1313" y="4"/>
                      <a:pt x="1312" y="3"/>
                      <a:pt x="1312" y="2"/>
                    </a:cubicBezTo>
                    <a:cubicBezTo>
                      <a:pt x="1312" y="1"/>
                      <a:pt x="1313" y="0"/>
                      <a:pt x="1314" y="0"/>
                    </a:cubicBezTo>
                    <a:close/>
                    <a:moveTo>
                      <a:pt x="1322" y="0"/>
                    </a:moveTo>
                    <a:lnTo>
                      <a:pt x="1322" y="0"/>
                    </a:lnTo>
                    <a:cubicBezTo>
                      <a:pt x="1324" y="0"/>
                      <a:pt x="1324" y="1"/>
                      <a:pt x="1324" y="2"/>
                    </a:cubicBezTo>
                    <a:cubicBezTo>
                      <a:pt x="1324" y="3"/>
                      <a:pt x="1324" y="4"/>
                      <a:pt x="1322" y="4"/>
                    </a:cubicBezTo>
                    <a:lnTo>
                      <a:pt x="1322" y="4"/>
                    </a:lnTo>
                    <a:cubicBezTo>
                      <a:pt x="1321" y="4"/>
                      <a:pt x="1320" y="3"/>
                      <a:pt x="1320" y="2"/>
                    </a:cubicBezTo>
                    <a:cubicBezTo>
                      <a:pt x="1320" y="1"/>
                      <a:pt x="1321" y="0"/>
                      <a:pt x="1322" y="0"/>
                    </a:cubicBezTo>
                    <a:close/>
                    <a:moveTo>
                      <a:pt x="1330" y="0"/>
                    </a:moveTo>
                    <a:lnTo>
                      <a:pt x="1330" y="0"/>
                    </a:lnTo>
                    <a:cubicBezTo>
                      <a:pt x="1332" y="0"/>
                      <a:pt x="1332" y="1"/>
                      <a:pt x="1332" y="2"/>
                    </a:cubicBezTo>
                    <a:cubicBezTo>
                      <a:pt x="1332" y="3"/>
                      <a:pt x="1332" y="4"/>
                      <a:pt x="1330" y="4"/>
                    </a:cubicBezTo>
                    <a:lnTo>
                      <a:pt x="1330" y="4"/>
                    </a:lnTo>
                    <a:cubicBezTo>
                      <a:pt x="1329" y="4"/>
                      <a:pt x="1328" y="3"/>
                      <a:pt x="1328" y="2"/>
                    </a:cubicBezTo>
                    <a:cubicBezTo>
                      <a:pt x="1328" y="1"/>
                      <a:pt x="1329" y="0"/>
                      <a:pt x="1330" y="0"/>
                    </a:cubicBezTo>
                    <a:close/>
                    <a:moveTo>
                      <a:pt x="1338" y="0"/>
                    </a:moveTo>
                    <a:lnTo>
                      <a:pt x="1338" y="0"/>
                    </a:lnTo>
                    <a:cubicBezTo>
                      <a:pt x="1340" y="0"/>
                      <a:pt x="1340" y="1"/>
                      <a:pt x="1340" y="2"/>
                    </a:cubicBezTo>
                    <a:cubicBezTo>
                      <a:pt x="1340" y="3"/>
                      <a:pt x="1340" y="4"/>
                      <a:pt x="1338" y="4"/>
                    </a:cubicBezTo>
                    <a:lnTo>
                      <a:pt x="1338" y="4"/>
                    </a:lnTo>
                    <a:cubicBezTo>
                      <a:pt x="1337" y="4"/>
                      <a:pt x="1336" y="3"/>
                      <a:pt x="1336" y="2"/>
                    </a:cubicBezTo>
                    <a:cubicBezTo>
                      <a:pt x="1336" y="1"/>
                      <a:pt x="1337" y="0"/>
                      <a:pt x="1338" y="0"/>
                    </a:cubicBezTo>
                    <a:close/>
                    <a:moveTo>
                      <a:pt x="1346" y="0"/>
                    </a:moveTo>
                    <a:lnTo>
                      <a:pt x="1346" y="0"/>
                    </a:lnTo>
                    <a:cubicBezTo>
                      <a:pt x="1348" y="0"/>
                      <a:pt x="1348" y="1"/>
                      <a:pt x="1348" y="2"/>
                    </a:cubicBezTo>
                    <a:cubicBezTo>
                      <a:pt x="1348" y="3"/>
                      <a:pt x="1348" y="4"/>
                      <a:pt x="1346" y="4"/>
                    </a:cubicBezTo>
                    <a:lnTo>
                      <a:pt x="1346" y="4"/>
                    </a:lnTo>
                    <a:cubicBezTo>
                      <a:pt x="1345" y="4"/>
                      <a:pt x="1344" y="3"/>
                      <a:pt x="1344" y="2"/>
                    </a:cubicBezTo>
                    <a:cubicBezTo>
                      <a:pt x="1344" y="1"/>
                      <a:pt x="1345" y="0"/>
                      <a:pt x="1346" y="0"/>
                    </a:cubicBezTo>
                    <a:close/>
                    <a:moveTo>
                      <a:pt x="1354" y="0"/>
                    </a:moveTo>
                    <a:lnTo>
                      <a:pt x="1354" y="0"/>
                    </a:lnTo>
                    <a:cubicBezTo>
                      <a:pt x="1356" y="0"/>
                      <a:pt x="1356" y="1"/>
                      <a:pt x="1356" y="2"/>
                    </a:cubicBezTo>
                    <a:cubicBezTo>
                      <a:pt x="1356" y="3"/>
                      <a:pt x="1356" y="4"/>
                      <a:pt x="1354" y="4"/>
                    </a:cubicBezTo>
                    <a:lnTo>
                      <a:pt x="1354" y="4"/>
                    </a:lnTo>
                    <a:cubicBezTo>
                      <a:pt x="1353" y="4"/>
                      <a:pt x="1352" y="3"/>
                      <a:pt x="1352" y="2"/>
                    </a:cubicBezTo>
                    <a:cubicBezTo>
                      <a:pt x="1352" y="1"/>
                      <a:pt x="1353" y="0"/>
                      <a:pt x="1354" y="0"/>
                    </a:cubicBezTo>
                    <a:close/>
                    <a:moveTo>
                      <a:pt x="1362" y="0"/>
                    </a:moveTo>
                    <a:lnTo>
                      <a:pt x="1362" y="0"/>
                    </a:lnTo>
                    <a:cubicBezTo>
                      <a:pt x="1364" y="0"/>
                      <a:pt x="1364" y="1"/>
                      <a:pt x="1364" y="2"/>
                    </a:cubicBezTo>
                    <a:cubicBezTo>
                      <a:pt x="1364" y="3"/>
                      <a:pt x="1364" y="4"/>
                      <a:pt x="1362" y="4"/>
                    </a:cubicBezTo>
                    <a:lnTo>
                      <a:pt x="1362" y="4"/>
                    </a:lnTo>
                    <a:cubicBezTo>
                      <a:pt x="1361" y="4"/>
                      <a:pt x="1360" y="3"/>
                      <a:pt x="1360" y="2"/>
                    </a:cubicBezTo>
                    <a:cubicBezTo>
                      <a:pt x="1360" y="1"/>
                      <a:pt x="1361" y="0"/>
                      <a:pt x="1362" y="0"/>
                    </a:cubicBezTo>
                    <a:close/>
                    <a:moveTo>
                      <a:pt x="1370" y="0"/>
                    </a:moveTo>
                    <a:lnTo>
                      <a:pt x="1370" y="0"/>
                    </a:lnTo>
                    <a:cubicBezTo>
                      <a:pt x="1372" y="0"/>
                      <a:pt x="1372" y="1"/>
                      <a:pt x="1372" y="2"/>
                    </a:cubicBezTo>
                    <a:cubicBezTo>
                      <a:pt x="1372" y="3"/>
                      <a:pt x="1372" y="4"/>
                      <a:pt x="1370" y="4"/>
                    </a:cubicBezTo>
                    <a:lnTo>
                      <a:pt x="1370" y="4"/>
                    </a:lnTo>
                    <a:cubicBezTo>
                      <a:pt x="1369" y="4"/>
                      <a:pt x="1368" y="3"/>
                      <a:pt x="1368" y="2"/>
                    </a:cubicBezTo>
                    <a:cubicBezTo>
                      <a:pt x="1368" y="1"/>
                      <a:pt x="1369" y="0"/>
                      <a:pt x="1370" y="0"/>
                    </a:cubicBezTo>
                    <a:close/>
                    <a:moveTo>
                      <a:pt x="1378" y="0"/>
                    </a:moveTo>
                    <a:lnTo>
                      <a:pt x="1378" y="0"/>
                    </a:lnTo>
                    <a:cubicBezTo>
                      <a:pt x="1380" y="0"/>
                      <a:pt x="1380" y="1"/>
                      <a:pt x="1380" y="2"/>
                    </a:cubicBezTo>
                    <a:cubicBezTo>
                      <a:pt x="1380" y="3"/>
                      <a:pt x="1380" y="4"/>
                      <a:pt x="1378" y="4"/>
                    </a:cubicBezTo>
                    <a:lnTo>
                      <a:pt x="1378" y="4"/>
                    </a:lnTo>
                    <a:cubicBezTo>
                      <a:pt x="1377" y="4"/>
                      <a:pt x="1376" y="3"/>
                      <a:pt x="1376" y="2"/>
                    </a:cubicBezTo>
                    <a:cubicBezTo>
                      <a:pt x="1376" y="1"/>
                      <a:pt x="1377" y="0"/>
                      <a:pt x="1378" y="0"/>
                    </a:cubicBezTo>
                    <a:close/>
                    <a:moveTo>
                      <a:pt x="1386" y="0"/>
                    </a:moveTo>
                    <a:lnTo>
                      <a:pt x="1386" y="0"/>
                    </a:lnTo>
                    <a:cubicBezTo>
                      <a:pt x="1388" y="0"/>
                      <a:pt x="1388" y="1"/>
                      <a:pt x="1388" y="2"/>
                    </a:cubicBezTo>
                    <a:cubicBezTo>
                      <a:pt x="1388" y="3"/>
                      <a:pt x="1388" y="4"/>
                      <a:pt x="1386" y="4"/>
                    </a:cubicBezTo>
                    <a:lnTo>
                      <a:pt x="1386" y="4"/>
                    </a:lnTo>
                    <a:cubicBezTo>
                      <a:pt x="1385" y="4"/>
                      <a:pt x="1384" y="3"/>
                      <a:pt x="1384" y="2"/>
                    </a:cubicBezTo>
                    <a:cubicBezTo>
                      <a:pt x="1384" y="1"/>
                      <a:pt x="1385" y="0"/>
                      <a:pt x="1386" y="0"/>
                    </a:cubicBezTo>
                    <a:close/>
                    <a:moveTo>
                      <a:pt x="1394" y="0"/>
                    </a:moveTo>
                    <a:lnTo>
                      <a:pt x="1394" y="0"/>
                    </a:lnTo>
                    <a:cubicBezTo>
                      <a:pt x="1396" y="0"/>
                      <a:pt x="1396" y="1"/>
                      <a:pt x="1396" y="2"/>
                    </a:cubicBezTo>
                    <a:cubicBezTo>
                      <a:pt x="1396" y="3"/>
                      <a:pt x="1396" y="4"/>
                      <a:pt x="1394" y="4"/>
                    </a:cubicBezTo>
                    <a:lnTo>
                      <a:pt x="1394" y="4"/>
                    </a:lnTo>
                    <a:cubicBezTo>
                      <a:pt x="1393" y="4"/>
                      <a:pt x="1392" y="3"/>
                      <a:pt x="1392" y="2"/>
                    </a:cubicBezTo>
                    <a:cubicBezTo>
                      <a:pt x="1392" y="1"/>
                      <a:pt x="1393" y="0"/>
                      <a:pt x="1394" y="0"/>
                    </a:cubicBezTo>
                    <a:close/>
                    <a:moveTo>
                      <a:pt x="1402" y="0"/>
                    </a:moveTo>
                    <a:lnTo>
                      <a:pt x="1402" y="0"/>
                    </a:lnTo>
                    <a:cubicBezTo>
                      <a:pt x="1404" y="0"/>
                      <a:pt x="1404" y="1"/>
                      <a:pt x="1404" y="2"/>
                    </a:cubicBezTo>
                    <a:cubicBezTo>
                      <a:pt x="1404" y="3"/>
                      <a:pt x="1404" y="4"/>
                      <a:pt x="1402" y="4"/>
                    </a:cubicBezTo>
                    <a:lnTo>
                      <a:pt x="1402" y="4"/>
                    </a:lnTo>
                    <a:cubicBezTo>
                      <a:pt x="1401" y="4"/>
                      <a:pt x="1400" y="3"/>
                      <a:pt x="1400" y="2"/>
                    </a:cubicBezTo>
                    <a:cubicBezTo>
                      <a:pt x="1400" y="1"/>
                      <a:pt x="1401" y="0"/>
                      <a:pt x="1402" y="0"/>
                    </a:cubicBezTo>
                    <a:close/>
                    <a:moveTo>
                      <a:pt x="1410" y="0"/>
                    </a:moveTo>
                    <a:lnTo>
                      <a:pt x="1410" y="0"/>
                    </a:lnTo>
                    <a:cubicBezTo>
                      <a:pt x="1412" y="0"/>
                      <a:pt x="1412" y="1"/>
                      <a:pt x="1412" y="2"/>
                    </a:cubicBezTo>
                    <a:cubicBezTo>
                      <a:pt x="1412" y="3"/>
                      <a:pt x="1412" y="4"/>
                      <a:pt x="1410" y="4"/>
                    </a:cubicBezTo>
                    <a:lnTo>
                      <a:pt x="1410" y="4"/>
                    </a:lnTo>
                    <a:cubicBezTo>
                      <a:pt x="1409" y="4"/>
                      <a:pt x="1408" y="3"/>
                      <a:pt x="1408" y="2"/>
                    </a:cubicBezTo>
                    <a:cubicBezTo>
                      <a:pt x="1408" y="1"/>
                      <a:pt x="1409" y="0"/>
                      <a:pt x="1410" y="0"/>
                    </a:cubicBezTo>
                    <a:close/>
                    <a:moveTo>
                      <a:pt x="1418" y="0"/>
                    </a:moveTo>
                    <a:lnTo>
                      <a:pt x="1418" y="0"/>
                    </a:lnTo>
                    <a:cubicBezTo>
                      <a:pt x="1420" y="0"/>
                      <a:pt x="1420" y="1"/>
                      <a:pt x="1420" y="2"/>
                    </a:cubicBezTo>
                    <a:cubicBezTo>
                      <a:pt x="1420" y="3"/>
                      <a:pt x="1420" y="4"/>
                      <a:pt x="1418" y="4"/>
                    </a:cubicBezTo>
                    <a:lnTo>
                      <a:pt x="1418" y="4"/>
                    </a:lnTo>
                    <a:cubicBezTo>
                      <a:pt x="1417" y="4"/>
                      <a:pt x="1416" y="3"/>
                      <a:pt x="1416" y="2"/>
                    </a:cubicBezTo>
                    <a:cubicBezTo>
                      <a:pt x="1416" y="1"/>
                      <a:pt x="1417" y="0"/>
                      <a:pt x="1418" y="0"/>
                    </a:cubicBezTo>
                    <a:close/>
                    <a:moveTo>
                      <a:pt x="1426" y="0"/>
                    </a:moveTo>
                    <a:lnTo>
                      <a:pt x="1427" y="0"/>
                    </a:lnTo>
                    <a:cubicBezTo>
                      <a:pt x="1428" y="0"/>
                      <a:pt x="1429" y="1"/>
                      <a:pt x="1429" y="2"/>
                    </a:cubicBezTo>
                    <a:cubicBezTo>
                      <a:pt x="1429" y="3"/>
                      <a:pt x="1428" y="4"/>
                      <a:pt x="1427" y="4"/>
                    </a:cubicBezTo>
                    <a:lnTo>
                      <a:pt x="1426" y="4"/>
                    </a:lnTo>
                    <a:cubicBezTo>
                      <a:pt x="1425" y="4"/>
                      <a:pt x="1424" y="3"/>
                      <a:pt x="1424" y="2"/>
                    </a:cubicBezTo>
                    <a:cubicBezTo>
                      <a:pt x="1424" y="1"/>
                      <a:pt x="1425" y="0"/>
                      <a:pt x="1426" y="0"/>
                    </a:cubicBezTo>
                    <a:close/>
                    <a:moveTo>
                      <a:pt x="1435" y="0"/>
                    </a:moveTo>
                    <a:lnTo>
                      <a:pt x="1435" y="0"/>
                    </a:lnTo>
                    <a:cubicBezTo>
                      <a:pt x="1436" y="0"/>
                      <a:pt x="1437" y="1"/>
                      <a:pt x="1437" y="2"/>
                    </a:cubicBezTo>
                    <a:cubicBezTo>
                      <a:pt x="1437" y="3"/>
                      <a:pt x="1436" y="4"/>
                      <a:pt x="1435" y="4"/>
                    </a:cubicBezTo>
                    <a:lnTo>
                      <a:pt x="1435" y="4"/>
                    </a:lnTo>
                    <a:cubicBezTo>
                      <a:pt x="1433" y="4"/>
                      <a:pt x="1433" y="3"/>
                      <a:pt x="1433" y="2"/>
                    </a:cubicBezTo>
                    <a:cubicBezTo>
                      <a:pt x="1433" y="1"/>
                      <a:pt x="1433" y="0"/>
                      <a:pt x="1435" y="0"/>
                    </a:cubicBezTo>
                    <a:close/>
                    <a:moveTo>
                      <a:pt x="1443" y="0"/>
                    </a:moveTo>
                    <a:lnTo>
                      <a:pt x="1443" y="0"/>
                    </a:lnTo>
                    <a:cubicBezTo>
                      <a:pt x="1444" y="0"/>
                      <a:pt x="1445" y="1"/>
                      <a:pt x="1445" y="2"/>
                    </a:cubicBezTo>
                    <a:cubicBezTo>
                      <a:pt x="1445" y="3"/>
                      <a:pt x="1444" y="4"/>
                      <a:pt x="1443" y="4"/>
                    </a:cubicBezTo>
                    <a:lnTo>
                      <a:pt x="1443" y="4"/>
                    </a:lnTo>
                    <a:cubicBezTo>
                      <a:pt x="1441" y="4"/>
                      <a:pt x="1441" y="3"/>
                      <a:pt x="1441" y="2"/>
                    </a:cubicBezTo>
                    <a:cubicBezTo>
                      <a:pt x="1441" y="1"/>
                      <a:pt x="1441" y="0"/>
                      <a:pt x="1443" y="0"/>
                    </a:cubicBezTo>
                    <a:close/>
                    <a:moveTo>
                      <a:pt x="1451" y="0"/>
                    </a:moveTo>
                    <a:lnTo>
                      <a:pt x="1451" y="0"/>
                    </a:lnTo>
                    <a:cubicBezTo>
                      <a:pt x="1452" y="0"/>
                      <a:pt x="1453" y="1"/>
                      <a:pt x="1453" y="2"/>
                    </a:cubicBezTo>
                    <a:cubicBezTo>
                      <a:pt x="1453" y="3"/>
                      <a:pt x="1452" y="4"/>
                      <a:pt x="1451" y="4"/>
                    </a:cubicBezTo>
                    <a:lnTo>
                      <a:pt x="1451" y="4"/>
                    </a:lnTo>
                    <a:cubicBezTo>
                      <a:pt x="1449" y="4"/>
                      <a:pt x="1449" y="3"/>
                      <a:pt x="1449" y="2"/>
                    </a:cubicBezTo>
                    <a:cubicBezTo>
                      <a:pt x="1449" y="1"/>
                      <a:pt x="1449" y="0"/>
                      <a:pt x="1451" y="0"/>
                    </a:cubicBezTo>
                    <a:close/>
                    <a:moveTo>
                      <a:pt x="1459" y="0"/>
                    </a:moveTo>
                    <a:lnTo>
                      <a:pt x="1459" y="0"/>
                    </a:lnTo>
                    <a:cubicBezTo>
                      <a:pt x="1460" y="0"/>
                      <a:pt x="1461" y="1"/>
                      <a:pt x="1461" y="2"/>
                    </a:cubicBezTo>
                    <a:cubicBezTo>
                      <a:pt x="1461" y="3"/>
                      <a:pt x="1460" y="4"/>
                      <a:pt x="1459" y="4"/>
                    </a:cubicBezTo>
                    <a:lnTo>
                      <a:pt x="1459" y="4"/>
                    </a:lnTo>
                    <a:cubicBezTo>
                      <a:pt x="1457" y="4"/>
                      <a:pt x="1457" y="3"/>
                      <a:pt x="1457" y="2"/>
                    </a:cubicBezTo>
                    <a:cubicBezTo>
                      <a:pt x="1457" y="1"/>
                      <a:pt x="1457" y="0"/>
                      <a:pt x="1459" y="0"/>
                    </a:cubicBezTo>
                    <a:close/>
                    <a:moveTo>
                      <a:pt x="1467" y="0"/>
                    </a:moveTo>
                    <a:lnTo>
                      <a:pt x="1467" y="0"/>
                    </a:lnTo>
                    <a:cubicBezTo>
                      <a:pt x="1468" y="0"/>
                      <a:pt x="1469" y="1"/>
                      <a:pt x="1469" y="2"/>
                    </a:cubicBezTo>
                    <a:cubicBezTo>
                      <a:pt x="1469" y="3"/>
                      <a:pt x="1468" y="4"/>
                      <a:pt x="1467" y="4"/>
                    </a:cubicBezTo>
                    <a:lnTo>
                      <a:pt x="1467" y="4"/>
                    </a:lnTo>
                    <a:cubicBezTo>
                      <a:pt x="1465" y="4"/>
                      <a:pt x="1465" y="3"/>
                      <a:pt x="1465" y="2"/>
                    </a:cubicBezTo>
                    <a:cubicBezTo>
                      <a:pt x="1465" y="1"/>
                      <a:pt x="1465" y="0"/>
                      <a:pt x="1467" y="0"/>
                    </a:cubicBezTo>
                    <a:close/>
                    <a:moveTo>
                      <a:pt x="1475" y="0"/>
                    </a:moveTo>
                    <a:lnTo>
                      <a:pt x="1475" y="0"/>
                    </a:lnTo>
                    <a:cubicBezTo>
                      <a:pt x="1476" y="0"/>
                      <a:pt x="1477" y="1"/>
                      <a:pt x="1477" y="2"/>
                    </a:cubicBezTo>
                    <a:cubicBezTo>
                      <a:pt x="1477" y="3"/>
                      <a:pt x="1476" y="4"/>
                      <a:pt x="1475" y="4"/>
                    </a:cubicBezTo>
                    <a:lnTo>
                      <a:pt x="1475" y="4"/>
                    </a:lnTo>
                    <a:cubicBezTo>
                      <a:pt x="1473" y="4"/>
                      <a:pt x="1473" y="3"/>
                      <a:pt x="1473" y="2"/>
                    </a:cubicBezTo>
                    <a:cubicBezTo>
                      <a:pt x="1473" y="1"/>
                      <a:pt x="1473" y="0"/>
                      <a:pt x="1475" y="0"/>
                    </a:cubicBezTo>
                    <a:close/>
                    <a:moveTo>
                      <a:pt x="1483" y="0"/>
                    </a:moveTo>
                    <a:lnTo>
                      <a:pt x="1483" y="0"/>
                    </a:lnTo>
                    <a:cubicBezTo>
                      <a:pt x="1484" y="0"/>
                      <a:pt x="1485" y="1"/>
                      <a:pt x="1485" y="2"/>
                    </a:cubicBezTo>
                    <a:cubicBezTo>
                      <a:pt x="1485" y="3"/>
                      <a:pt x="1484" y="4"/>
                      <a:pt x="1483" y="4"/>
                    </a:cubicBezTo>
                    <a:lnTo>
                      <a:pt x="1483" y="4"/>
                    </a:lnTo>
                    <a:cubicBezTo>
                      <a:pt x="1481" y="4"/>
                      <a:pt x="1481" y="3"/>
                      <a:pt x="1481" y="2"/>
                    </a:cubicBezTo>
                    <a:cubicBezTo>
                      <a:pt x="1481" y="1"/>
                      <a:pt x="1481" y="0"/>
                      <a:pt x="1483" y="0"/>
                    </a:cubicBezTo>
                    <a:close/>
                    <a:moveTo>
                      <a:pt x="1491" y="0"/>
                    </a:moveTo>
                    <a:lnTo>
                      <a:pt x="1491" y="0"/>
                    </a:lnTo>
                    <a:cubicBezTo>
                      <a:pt x="1492" y="0"/>
                      <a:pt x="1493" y="1"/>
                      <a:pt x="1493" y="2"/>
                    </a:cubicBezTo>
                    <a:cubicBezTo>
                      <a:pt x="1493" y="3"/>
                      <a:pt x="1492" y="4"/>
                      <a:pt x="1491" y="4"/>
                    </a:cubicBezTo>
                    <a:lnTo>
                      <a:pt x="1491" y="4"/>
                    </a:lnTo>
                    <a:cubicBezTo>
                      <a:pt x="1489" y="4"/>
                      <a:pt x="1489" y="3"/>
                      <a:pt x="1489" y="2"/>
                    </a:cubicBezTo>
                    <a:cubicBezTo>
                      <a:pt x="1489" y="1"/>
                      <a:pt x="1489" y="0"/>
                      <a:pt x="1491" y="0"/>
                    </a:cubicBezTo>
                    <a:close/>
                    <a:moveTo>
                      <a:pt x="1499" y="0"/>
                    </a:moveTo>
                    <a:lnTo>
                      <a:pt x="1499" y="0"/>
                    </a:lnTo>
                    <a:cubicBezTo>
                      <a:pt x="1500" y="0"/>
                      <a:pt x="1501" y="1"/>
                      <a:pt x="1501" y="2"/>
                    </a:cubicBezTo>
                    <a:cubicBezTo>
                      <a:pt x="1501" y="3"/>
                      <a:pt x="1500" y="4"/>
                      <a:pt x="1499" y="4"/>
                    </a:cubicBezTo>
                    <a:lnTo>
                      <a:pt x="1499" y="4"/>
                    </a:lnTo>
                    <a:cubicBezTo>
                      <a:pt x="1497" y="4"/>
                      <a:pt x="1497" y="3"/>
                      <a:pt x="1497" y="2"/>
                    </a:cubicBezTo>
                    <a:cubicBezTo>
                      <a:pt x="1497" y="1"/>
                      <a:pt x="1497" y="0"/>
                      <a:pt x="1499" y="0"/>
                    </a:cubicBezTo>
                    <a:close/>
                    <a:moveTo>
                      <a:pt x="1507" y="0"/>
                    </a:moveTo>
                    <a:lnTo>
                      <a:pt x="1507" y="0"/>
                    </a:lnTo>
                    <a:cubicBezTo>
                      <a:pt x="1508" y="0"/>
                      <a:pt x="1509" y="1"/>
                      <a:pt x="1509" y="2"/>
                    </a:cubicBezTo>
                    <a:cubicBezTo>
                      <a:pt x="1509" y="3"/>
                      <a:pt x="1508" y="4"/>
                      <a:pt x="1507" y="4"/>
                    </a:cubicBezTo>
                    <a:lnTo>
                      <a:pt x="1507" y="4"/>
                    </a:lnTo>
                    <a:cubicBezTo>
                      <a:pt x="1505" y="4"/>
                      <a:pt x="1505" y="3"/>
                      <a:pt x="1505" y="2"/>
                    </a:cubicBezTo>
                    <a:cubicBezTo>
                      <a:pt x="1505" y="1"/>
                      <a:pt x="1505" y="0"/>
                      <a:pt x="1507" y="0"/>
                    </a:cubicBezTo>
                    <a:close/>
                    <a:moveTo>
                      <a:pt x="1515" y="0"/>
                    </a:moveTo>
                    <a:lnTo>
                      <a:pt x="1515" y="0"/>
                    </a:lnTo>
                    <a:cubicBezTo>
                      <a:pt x="1516" y="0"/>
                      <a:pt x="1517" y="1"/>
                      <a:pt x="1517" y="2"/>
                    </a:cubicBezTo>
                    <a:cubicBezTo>
                      <a:pt x="1517" y="3"/>
                      <a:pt x="1516" y="4"/>
                      <a:pt x="1515" y="4"/>
                    </a:cubicBezTo>
                    <a:lnTo>
                      <a:pt x="1515" y="4"/>
                    </a:lnTo>
                    <a:cubicBezTo>
                      <a:pt x="1513" y="4"/>
                      <a:pt x="1513" y="3"/>
                      <a:pt x="1513" y="2"/>
                    </a:cubicBezTo>
                    <a:cubicBezTo>
                      <a:pt x="1513" y="1"/>
                      <a:pt x="1513" y="0"/>
                      <a:pt x="1515" y="0"/>
                    </a:cubicBezTo>
                    <a:close/>
                    <a:moveTo>
                      <a:pt x="1523" y="0"/>
                    </a:moveTo>
                    <a:lnTo>
                      <a:pt x="1523" y="0"/>
                    </a:lnTo>
                    <a:cubicBezTo>
                      <a:pt x="1524" y="0"/>
                      <a:pt x="1525" y="1"/>
                      <a:pt x="1525" y="2"/>
                    </a:cubicBezTo>
                    <a:cubicBezTo>
                      <a:pt x="1525" y="3"/>
                      <a:pt x="1524" y="4"/>
                      <a:pt x="1523" y="4"/>
                    </a:cubicBezTo>
                    <a:lnTo>
                      <a:pt x="1523" y="4"/>
                    </a:lnTo>
                    <a:cubicBezTo>
                      <a:pt x="1521" y="4"/>
                      <a:pt x="1521" y="3"/>
                      <a:pt x="1521" y="2"/>
                    </a:cubicBezTo>
                    <a:cubicBezTo>
                      <a:pt x="1521" y="1"/>
                      <a:pt x="1521" y="0"/>
                      <a:pt x="1523" y="0"/>
                    </a:cubicBezTo>
                    <a:close/>
                    <a:moveTo>
                      <a:pt x="1531" y="0"/>
                    </a:moveTo>
                    <a:lnTo>
                      <a:pt x="1531" y="0"/>
                    </a:lnTo>
                    <a:cubicBezTo>
                      <a:pt x="1532" y="0"/>
                      <a:pt x="1533" y="1"/>
                      <a:pt x="1533" y="2"/>
                    </a:cubicBezTo>
                    <a:cubicBezTo>
                      <a:pt x="1533" y="3"/>
                      <a:pt x="1532" y="4"/>
                      <a:pt x="1531" y="4"/>
                    </a:cubicBezTo>
                    <a:lnTo>
                      <a:pt x="1531" y="4"/>
                    </a:lnTo>
                    <a:cubicBezTo>
                      <a:pt x="1529" y="4"/>
                      <a:pt x="1529" y="3"/>
                      <a:pt x="1529" y="2"/>
                    </a:cubicBezTo>
                    <a:cubicBezTo>
                      <a:pt x="1529" y="1"/>
                      <a:pt x="1529" y="0"/>
                      <a:pt x="1531" y="0"/>
                    </a:cubicBezTo>
                    <a:close/>
                    <a:moveTo>
                      <a:pt x="1539" y="0"/>
                    </a:moveTo>
                    <a:lnTo>
                      <a:pt x="1539" y="0"/>
                    </a:lnTo>
                    <a:cubicBezTo>
                      <a:pt x="1540" y="0"/>
                      <a:pt x="1541" y="1"/>
                      <a:pt x="1541" y="2"/>
                    </a:cubicBezTo>
                    <a:cubicBezTo>
                      <a:pt x="1541" y="3"/>
                      <a:pt x="1540" y="4"/>
                      <a:pt x="1539" y="4"/>
                    </a:cubicBezTo>
                    <a:lnTo>
                      <a:pt x="1539" y="4"/>
                    </a:lnTo>
                    <a:cubicBezTo>
                      <a:pt x="1537" y="4"/>
                      <a:pt x="1537" y="3"/>
                      <a:pt x="1537" y="2"/>
                    </a:cubicBezTo>
                    <a:cubicBezTo>
                      <a:pt x="1537" y="1"/>
                      <a:pt x="1537" y="0"/>
                      <a:pt x="1539" y="0"/>
                    </a:cubicBezTo>
                    <a:close/>
                    <a:moveTo>
                      <a:pt x="1547" y="0"/>
                    </a:moveTo>
                    <a:lnTo>
                      <a:pt x="1547" y="0"/>
                    </a:lnTo>
                    <a:cubicBezTo>
                      <a:pt x="1548" y="0"/>
                      <a:pt x="1549" y="1"/>
                      <a:pt x="1549" y="2"/>
                    </a:cubicBezTo>
                    <a:cubicBezTo>
                      <a:pt x="1549" y="3"/>
                      <a:pt x="1548" y="4"/>
                      <a:pt x="1547" y="4"/>
                    </a:cubicBezTo>
                    <a:lnTo>
                      <a:pt x="1547" y="4"/>
                    </a:lnTo>
                    <a:cubicBezTo>
                      <a:pt x="1545" y="4"/>
                      <a:pt x="1545" y="3"/>
                      <a:pt x="1545" y="2"/>
                    </a:cubicBezTo>
                    <a:cubicBezTo>
                      <a:pt x="1545" y="1"/>
                      <a:pt x="1545" y="0"/>
                      <a:pt x="1547" y="0"/>
                    </a:cubicBezTo>
                    <a:close/>
                    <a:moveTo>
                      <a:pt x="1555" y="0"/>
                    </a:moveTo>
                    <a:lnTo>
                      <a:pt x="1555" y="0"/>
                    </a:lnTo>
                    <a:cubicBezTo>
                      <a:pt x="1556" y="0"/>
                      <a:pt x="1557" y="1"/>
                      <a:pt x="1557" y="2"/>
                    </a:cubicBezTo>
                    <a:cubicBezTo>
                      <a:pt x="1557" y="3"/>
                      <a:pt x="1556" y="4"/>
                      <a:pt x="1555" y="4"/>
                    </a:cubicBezTo>
                    <a:lnTo>
                      <a:pt x="1555" y="4"/>
                    </a:lnTo>
                    <a:cubicBezTo>
                      <a:pt x="1553" y="4"/>
                      <a:pt x="1553" y="3"/>
                      <a:pt x="1553" y="2"/>
                    </a:cubicBezTo>
                    <a:cubicBezTo>
                      <a:pt x="1553" y="1"/>
                      <a:pt x="1553" y="0"/>
                      <a:pt x="1555" y="0"/>
                    </a:cubicBezTo>
                    <a:close/>
                    <a:moveTo>
                      <a:pt x="1563" y="0"/>
                    </a:moveTo>
                    <a:lnTo>
                      <a:pt x="1563" y="0"/>
                    </a:lnTo>
                    <a:cubicBezTo>
                      <a:pt x="1564" y="0"/>
                      <a:pt x="1565" y="1"/>
                      <a:pt x="1565" y="2"/>
                    </a:cubicBezTo>
                    <a:cubicBezTo>
                      <a:pt x="1565" y="3"/>
                      <a:pt x="1564" y="4"/>
                      <a:pt x="1563" y="4"/>
                    </a:cubicBezTo>
                    <a:lnTo>
                      <a:pt x="1563" y="4"/>
                    </a:lnTo>
                    <a:cubicBezTo>
                      <a:pt x="1561" y="4"/>
                      <a:pt x="1561" y="3"/>
                      <a:pt x="1561" y="2"/>
                    </a:cubicBezTo>
                    <a:cubicBezTo>
                      <a:pt x="1561" y="1"/>
                      <a:pt x="1561" y="0"/>
                      <a:pt x="1563" y="0"/>
                    </a:cubicBezTo>
                    <a:close/>
                    <a:moveTo>
                      <a:pt x="1571" y="0"/>
                    </a:moveTo>
                    <a:lnTo>
                      <a:pt x="1571" y="0"/>
                    </a:lnTo>
                    <a:cubicBezTo>
                      <a:pt x="1572" y="0"/>
                      <a:pt x="1573" y="1"/>
                      <a:pt x="1573" y="2"/>
                    </a:cubicBezTo>
                    <a:cubicBezTo>
                      <a:pt x="1573" y="3"/>
                      <a:pt x="1572" y="4"/>
                      <a:pt x="1571" y="4"/>
                    </a:cubicBezTo>
                    <a:lnTo>
                      <a:pt x="1571" y="4"/>
                    </a:lnTo>
                    <a:cubicBezTo>
                      <a:pt x="1569" y="4"/>
                      <a:pt x="1569" y="3"/>
                      <a:pt x="1569" y="2"/>
                    </a:cubicBezTo>
                    <a:cubicBezTo>
                      <a:pt x="1569" y="1"/>
                      <a:pt x="1569" y="0"/>
                      <a:pt x="1571" y="0"/>
                    </a:cubicBezTo>
                    <a:close/>
                    <a:moveTo>
                      <a:pt x="1579" y="0"/>
                    </a:moveTo>
                    <a:lnTo>
                      <a:pt x="1579" y="0"/>
                    </a:lnTo>
                    <a:cubicBezTo>
                      <a:pt x="1580" y="0"/>
                      <a:pt x="1581" y="1"/>
                      <a:pt x="1581" y="2"/>
                    </a:cubicBezTo>
                    <a:cubicBezTo>
                      <a:pt x="1581" y="3"/>
                      <a:pt x="1580" y="4"/>
                      <a:pt x="1579" y="4"/>
                    </a:cubicBezTo>
                    <a:lnTo>
                      <a:pt x="1579" y="4"/>
                    </a:lnTo>
                    <a:cubicBezTo>
                      <a:pt x="1577" y="4"/>
                      <a:pt x="1577" y="3"/>
                      <a:pt x="1577" y="2"/>
                    </a:cubicBezTo>
                    <a:cubicBezTo>
                      <a:pt x="1577" y="1"/>
                      <a:pt x="1577" y="0"/>
                      <a:pt x="1579" y="0"/>
                    </a:cubicBezTo>
                    <a:close/>
                    <a:moveTo>
                      <a:pt x="1587" y="0"/>
                    </a:moveTo>
                    <a:lnTo>
                      <a:pt x="1587" y="0"/>
                    </a:lnTo>
                    <a:cubicBezTo>
                      <a:pt x="1588" y="0"/>
                      <a:pt x="1589" y="1"/>
                      <a:pt x="1589" y="2"/>
                    </a:cubicBezTo>
                    <a:cubicBezTo>
                      <a:pt x="1589" y="3"/>
                      <a:pt x="1588" y="4"/>
                      <a:pt x="1587" y="4"/>
                    </a:cubicBezTo>
                    <a:lnTo>
                      <a:pt x="1587" y="4"/>
                    </a:lnTo>
                    <a:cubicBezTo>
                      <a:pt x="1585" y="4"/>
                      <a:pt x="1585" y="3"/>
                      <a:pt x="1585" y="2"/>
                    </a:cubicBezTo>
                    <a:cubicBezTo>
                      <a:pt x="1585" y="1"/>
                      <a:pt x="1585" y="0"/>
                      <a:pt x="1587" y="0"/>
                    </a:cubicBezTo>
                    <a:close/>
                    <a:moveTo>
                      <a:pt x="1595" y="0"/>
                    </a:moveTo>
                    <a:lnTo>
                      <a:pt x="1595" y="0"/>
                    </a:lnTo>
                    <a:cubicBezTo>
                      <a:pt x="1596" y="0"/>
                      <a:pt x="1597" y="1"/>
                      <a:pt x="1597" y="2"/>
                    </a:cubicBezTo>
                    <a:cubicBezTo>
                      <a:pt x="1597" y="3"/>
                      <a:pt x="1596" y="4"/>
                      <a:pt x="1595" y="4"/>
                    </a:cubicBezTo>
                    <a:lnTo>
                      <a:pt x="1595" y="4"/>
                    </a:lnTo>
                    <a:cubicBezTo>
                      <a:pt x="1593" y="4"/>
                      <a:pt x="1593" y="3"/>
                      <a:pt x="1593" y="2"/>
                    </a:cubicBezTo>
                    <a:cubicBezTo>
                      <a:pt x="1593" y="1"/>
                      <a:pt x="1593" y="0"/>
                      <a:pt x="1595" y="0"/>
                    </a:cubicBezTo>
                    <a:close/>
                    <a:moveTo>
                      <a:pt x="1603" y="0"/>
                    </a:moveTo>
                    <a:lnTo>
                      <a:pt x="1603" y="0"/>
                    </a:lnTo>
                    <a:cubicBezTo>
                      <a:pt x="1604" y="0"/>
                      <a:pt x="1605" y="1"/>
                      <a:pt x="1605" y="2"/>
                    </a:cubicBezTo>
                    <a:cubicBezTo>
                      <a:pt x="1605" y="3"/>
                      <a:pt x="1604" y="4"/>
                      <a:pt x="1603" y="4"/>
                    </a:cubicBezTo>
                    <a:lnTo>
                      <a:pt x="1603" y="4"/>
                    </a:lnTo>
                    <a:cubicBezTo>
                      <a:pt x="1601" y="4"/>
                      <a:pt x="1601" y="3"/>
                      <a:pt x="1601" y="2"/>
                    </a:cubicBezTo>
                    <a:cubicBezTo>
                      <a:pt x="1601" y="1"/>
                      <a:pt x="1601" y="0"/>
                      <a:pt x="1603" y="0"/>
                    </a:cubicBezTo>
                    <a:close/>
                    <a:moveTo>
                      <a:pt x="1611" y="0"/>
                    </a:moveTo>
                    <a:lnTo>
                      <a:pt x="1611" y="0"/>
                    </a:lnTo>
                    <a:cubicBezTo>
                      <a:pt x="1612" y="0"/>
                      <a:pt x="1613" y="1"/>
                      <a:pt x="1613" y="2"/>
                    </a:cubicBezTo>
                    <a:cubicBezTo>
                      <a:pt x="1613" y="3"/>
                      <a:pt x="1612" y="4"/>
                      <a:pt x="1611" y="4"/>
                    </a:cubicBezTo>
                    <a:lnTo>
                      <a:pt x="1611" y="4"/>
                    </a:lnTo>
                    <a:cubicBezTo>
                      <a:pt x="1609" y="4"/>
                      <a:pt x="1609" y="3"/>
                      <a:pt x="1609" y="2"/>
                    </a:cubicBezTo>
                    <a:cubicBezTo>
                      <a:pt x="1609" y="1"/>
                      <a:pt x="1609" y="0"/>
                      <a:pt x="1611" y="0"/>
                    </a:cubicBezTo>
                    <a:close/>
                    <a:moveTo>
                      <a:pt x="1619" y="0"/>
                    </a:moveTo>
                    <a:lnTo>
                      <a:pt x="1619" y="0"/>
                    </a:lnTo>
                    <a:cubicBezTo>
                      <a:pt x="1620" y="0"/>
                      <a:pt x="1621" y="1"/>
                      <a:pt x="1621" y="2"/>
                    </a:cubicBezTo>
                    <a:cubicBezTo>
                      <a:pt x="1621" y="3"/>
                      <a:pt x="1620" y="4"/>
                      <a:pt x="1619" y="4"/>
                    </a:cubicBezTo>
                    <a:lnTo>
                      <a:pt x="1619" y="4"/>
                    </a:lnTo>
                    <a:cubicBezTo>
                      <a:pt x="1617" y="4"/>
                      <a:pt x="1617" y="3"/>
                      <a:pt x="1617" y="2"/>
                    </a:cubicBezTo>
                    <a:cubicBezTo>
                      <a:pt x="1617" y="1"/>
                      <a:pt x="1617" y="0"/>
                      <a:pt x="1619" y="0"/>
                    </a:cubicBezTo>
                    <a:close/>
                    <a:moveTo>
                      <a:pt x="1627" y="0"/>
                    </a:moveTo>
                    <a:lnTo>
                      <a:pt x="1627" y="0"/>
                    </a:lnTo>
                    <a:cubicBezTo>
                      <a:pt x="1628" y="0"/>
                      <a:pt x="1629" y="1"/>
                      <a:pt x="1629" y="2"/>
                    </a:cubicBezTo>
                    <a:cubicBezTo>
                      <a:pt x="1629" y="3"/>
                      <a:pt x="1628" y="4"/>
                      <a:pt x="1627" y="4"/>
                    </a:cubicBezTo>
                    <a:lnTo>
                      <a:pt x="1627" y="4"/>
                    </a:lnTo>
                    <a:cubicBezTo>
                      <a:pt x="1625" y="4"/>
                      <a:pt x="1625" y="3"/>
                      <a:pt x="1625" y="2"/>
                    </a:cubicBezTo>
                    <a:cubicBezTo>
                      <a:pt x="1625" y="1"/>
                      <a:pt x="1625" y="0"/>
                      <a:pt x="1627" y="0"/>
                    </a:cubicBezTo>
                    <a:close/>
                    <a:moveTo>
                      <a:pt x="1635" y="0"/>
                    </a:moveTo>
                    <a:lnTo>
                      <a:pt x="1635" y="0"/>
                    </a:lnTo>
                    <a:cubicBezTo>
                      <a:pt x="1636" y="0"/>
                      <a:pt x="1637" y="1"/>
                      <a:pt x="1637" y="2"/>
                    </a:cubicBezTo>
                    <a:cubicBezTo>
                      <a:pt x="1637" y="3"/>
                      <a:pt x="1636" y="4"/>
                      <a:pt x="1635" y="4"/>
                    </a:cubicBezTo>
                    <a:lnTo>
                      <a:pt x="1635" y="4"/>
                    </a:lnTo>
                    <a:cubicBezTo>
                      <a:pt x="1633" y="4"/>
                      <a:pt x="1633" y="3"/>
                      <a:pt x="1633" y="2"/>
                    </a:cubicBezTo>
                    <a:cubicBezTo>
                      <a:pt x="1633" y="1"/>
                      <a:pt x="1633" y="0"/>
                      <a:pt x="1635" y="0"/>
                    </a:cubicBezTo>
                    <a:close/>
                    <a:moveTo>
                      <a:pt x="1643" y="0"/>
                    </a:moveTo>
                    <a:lnTo>
                      <a:pt x="1643" y="0"/>
                    </a:lnTo>
                    <a:cubicBezTo>
                      <a:pt x="1644" y="0"/>
                      <a:pt x="1645" y="1"/>
                      <a:pt x="1645" y="2"/>
                    </a:cubicBezTo>
                    <a:cubicBezTo>
                      <a:pt x="1645" y="3"/>
                      <a:pt x="1644" y="4"/>
                      <a:pt x="1643" y="4"/>
                    </a:cubicBezTo>
                    <a:lnTo>
                      <a:pt x="1643" y="4"/>
                    </a:lnTo>
                    <a:cubicBezTo>
                      <a:pt x="1641" y="4"/>
                      <a:pt x="1641" y="3"/>
                      <a:pt x="1641" y="2"/>
                    </a:cubicBezTo>
                    <a:cubicBezTo>
                      <a:pt x="1641" y="1"/>
                      <a:pt x="1641" y="0"/>
                      <a:pt x="1643" y="0"/>
                    </a:cubicBezTo>
                    <a:close/>
                    <a:moveTo>
                      <a:pt x="1651" y="0"/>
                    </a:moveTo>
                    <a:lnTo>
                      <a:pt x="1651" y="0"/>
                    </a:lnTo>
                    <a:cubicBezTo>
                      <a:pt x="1652" y="0"/>
                      <a:pt x="1653" y="1"/>
                      <a:pt x="1653" y="2"/>
                    </a:cubicBezTo>
                    <a:cubicBezTo>
                      <a:pt x="1653" y="3"/>
                      <a:pt x="1652" y="4"/>
                      <a:pt x="1651" y="4"/>
                    </a:cubicBezTo>
                    <a:lnTo>
                      <a:pt x="1651" y="4"/>
                    </a:lnTo>
                    <a:cubicBezTo>
                      <a:pt x="1650" y="4"/>
                      <a:pt x="1649" y="3"/>
                      <a:pt x="1649" y="2"/>
                    </a:cubicBezTo>
                    <a:cubicBezTo>
                      <a:pt x="1649" y="1"/>
                      <a:pt x="1650" y="0"/>
                      <a:pt x="1651" y="0"/>
                    </a:cubicBezTo>
                    <a:close/>
                    <a:moveTo>
                      <a:pt x="1659" y="0"/>
                    </a:moveTo>
                    <a:lnTo>
                      <a:pt x="1659" y="0"/>
                    </a:lnTo>
                    <a:cubicBezTo>
                      <a:pt x="1660" y="0"/>
                      <a:pt x="1661" y="1"/>
                      <a:pt x="1661" y="2"/>
                    </a:cubicBezTo>
                    <a:cubicBezTo>
                      <a:pt x="1661" y="3"/>
                      <a:pt x="1660" y="4"/>
                      <a:pt x="1659" y="4"/>
                    </a:cubicBezTo>
                    <a:lnTo>
                      <a:pt x="1659" y="4"/>
                    </a:lnTo>
                    <a:cubicBezTo>
                      <a:pt x="1658" y="4"/>
                      <a:pt x="1657" y="3"/>
                      <a:pt x="1657" y="2"/>
                    </a:cubicBezTo>
                    <a:cubicBezTo>
                      <a:pt x="1657" y="1"/>
                      <a:pt x="1658" y="0"/>
                      <a:pt x="1659" y="0"/>
                    </a:cubicBezTo>
                    <a:close/>
                    <a:moveTo>
                      <a:pt x="1667" y="0"/>
                    </a:moveTo>
                    <a:lnTo>
                      <a:pt x="1667" y="0"/>
                    </a:lnTo>
                    <a:cubicBezTo>
                      <a:pt x="1668" y="0"/>
                      <a:pt x="1669" y="1"/>
                      <a:pt x="1669" y="2"/>
                    </a:cubicBezTo>
                    <a:cubicBezTo>
                      <a:pt x="1669" y="3"/>
                      <a:pt x="1668" y="4"/>
                      <a:pt x="1667" y="4"/>
                    </a:cubicBezTo>
                    <a:lnTo>
                      <a:pt x="1667" y="4"/>
                    </a:lnTo>
                    <a:cubicBezTo>
                      <a:pt x="1666" y="4"/>
                      <a:pt x="1665" y="3"/>
                      <a:pt x="1665" y="2"/>
                    </a:cubicBezTo>
                    <a:cubicBezTo>
                      <a:pt x="1665" y="1"/>
                      <a:pt x="1666" y="0"/>
                      <a:pt x="1667" y="0"/>
                    </a:cubicBezTo>
                    <a:close/>
                    <a:moveTo>
                      <a:pt x="1675" y="0"/>
                    </a:moveTo>
                    <a:lnTo>
                      <a:pt x="1675" y="0"/>
                    </a:lnTo>
                    <a:cubicBezTo>
                      <a:pt x="1676" y="0"/>
                      <a:pt x="1677" y="1"/>
                      <a:pt x="1677" y="2"/>
                    </a:cubicBezTo>
                    <a:cubicBezTo>
                      <a:pt x="1677" y="3"/>
                      <a:pt x="1676" y="4"/>
                      <a:pt x="1675" y="4"/>
                    </a:cubicBezTo>
                    <a:lnTo>
                      <a:pt x="1675" y="4"/>
                    </a:lnTo>
                    <a:cubicBezTo>
                      <a:pt x="1674" y="4"/>
                      <a:pt x="1673" y="3"/>
                      <a:pt x="1673" y="2"/>
                    </a:cubicBezTo>
                    <a:cubicBezTo>
                      <a:pt x="1673" y="1"/>
                      <a:pt x="1674" y="0"/>
                      <a:pt x="1675" y="0"/>
                    </a:cubicBezTo>
                    <a:close/>
                    <a:moveTo>
                      <a:pt x="1683" y="0"/>
                    </a:moveTo>
                    <a:lnTo>
                      <a:pt x="1683" y="0"/>
                    </a:lnTo>
                    <a:cubicBezTo>
                      <a:pt x="1684" y="0"/>
                      <a:pt x="1685" y="1"/>
                      <a:pt x="1685" y="2"/>
                    </a:cubicBezTo>
                    <a:cubicBezTo>
                      <a:pt x="1685" y="3"/>
                      <a:pt x="1684" y="4"/>
                      <a:pt x="1683" y="4"/>
                    </a:cubicBezTo>
                    <a:lnTo>
                      <a:pt x="1683" y="4"/>
                    </a:lnTo>
                    <a:cubicBezTo>
                      <a:pt x="1682" y="4"/>
                      <a:pt x="1681" y="3"/>
                      <a:pt x="1681" y="2"/>
                    </a:cubicBezTo>
                    <a:cubicBezTo>
                      <a:pt x="1681" y="1"/>
                      <a:pt x="1682" y="0"/>
                      <a:pt x="1683" y="0"/>
                    </a:cubicBezTo>
                    <a:close/>
                    <a:moveTo>
                      <a:pt x="1691" y="0"/>
                    </a:moveTo>
                    <a:lnTo>
                      <a:pt x="1691" y="0"/>
                    </a:lnTo>
                    <a:cubicBezTo>
                      <a:pt x="1692" y="0"/>
                      <a:pt x="1693" y="1"/>
                      <a:pt x="1693" y="2"/>
                    </a:cubicBezTo>
                    <a:cubicBezTo>
                      <a:pt x="1693" y="3"/>
                      <a:pt x="1692" y="4"/>
                      <a:pt x="1691" y="4"/>
                    </a:cubicBezTo>
                    <a:lnTo>
                      <a:pt x="1691" y="4"/>
                    </a:lnTo>
                    <a:cubicBezTo>
                      <a:pt x="1690" y="4"/>
                      <a:pt x="1689" y="3"/>
                      <a:pt x="1689" y="2"/>
                    </a:cubicBezTo>
                    <a:cubicBezTo>
                      <a:pt x="1689" y="1"/>
                      <a:pt x="1690" y="0"/>
                      <a:pt x="1691" y="0"/>
                    </a:cubicBezTo>
                    <a:close/>
                    <a:moveTo>
                      <a:pt x="1699" y="0"/>
                    </a:moveTo>
                    <a:lnTo>
                      <a:pt x="1699" y="0"/>
                    </a:lnTo>
                    <a:cubicBezTo>
                      <a:pt x="1700" y="0"/>
                      <a:pt x="1701" y="1"/>
                      <a:pt x="1701" y="2"/>
                    </a:cubicBezTo>
                    <a:cubicBezTo>
                      <a:pt x="1701" y="3"/>
                      <a:pt x="1700" y="4"/>
                      <a:pt x="1699" y="4"/>
                    </a:cubicBezTo>
                    <a:lnTo>
                      <a:pt x="1699" y="4"/>
                    </a:lnTo>
                    <a:cubicBezTo>
                      <a:pt x="1698" y="4"/>
                      <a:pt x="1697" y="3"/>
                      <a:pt x="1697" y="2"/>
                    </a:cubicBezTo>
                    <a:cubicBezTo>
                      <a:pt x="1697" y="1"/>
                      <a:pt x="1698" y="0"/>
                      <a:pt x="1699" y="0"/>
                    </a:cubicBezTo>
                    <a:close/>
                    <a:moveTo>
                      <a:pt x="1707" y="0"/>
                    </a:moveTo>
                    <a:lnTo>
                      <a:pt x="1707" y="0"/>
                    </a:lnTo>
                    <a:cubicBezTo>
                      <a:pt x="1708" y="0"/>
                      <a:pt x="1709" y="1"/>
                      <a:pt x="1709" y="2"/>
                    </a:cubicBezTo>
                    <a:cubicBezTo>
                      <a:pt x="1709" y="3"/>
                      <a:pt x="1708" y="4"/>
                      <a:pt x="1707" y="4"/>
                    </a:cubicBezTo>
                    <a:lnTo>
                      <a:pt x="1707" y="4"/>
                    </a:lnTo>
                    <a:cubicBezTo>
                      <a:pt x="1706" y="4"/>
                      <a:pt x="1705" y="3"/>
                      <a:pt x="1705" y="2"/>
                    </a:cubicBezTo>
                    <a:cubicBezTo>
                      <a:pt x="1705" y="1"/>
                      <a:pt x="1706" y="0"/>
                      <a:pt x="1707" y="0"/>
                    </a:cubicBezTo>
                    <a:close/>
                    <a:moveTo>
                      <a:pt x="1715" y="0"/>
                    </a:moveTo>
                    <a:lnTo>
                      <a:pt x="1715" y="0"/>
                    </a:lnTo>
                    <a:cubicBezTo>
                      <a:pt x="1716" y="0"/>
                      <a:pt x="1717" y="1"/>
                      <a:pt x="1717" y="2"/>
                    </a:cubicBezTo>
                    <a:cubicBezTo>
                      <a:pt x="1717" y="3"/>
                      <a:pt x="1716" y="4"/>
                      <a:pt x="1715" y="4"/>
                    </a:cubicBezTo>
                    <a:lnTo>
                      <a:pt x="1715" y="4"/>
                    </a:lnTo>
                    <a:cubicBezTo>
                      <a:pt x="1714" y="4"/>
                      <a:pt x="1713" y="3"/>
                      <a:pt x="1713" y="2"/>
                    </a:cubicBezTo>
                    <a:cubicBezTo>
                      <a:pt x="1713" y="1"/>
                      <a:pt x="1714" y="0"/>
                      <a:pt x="1715" y="0"/>
                    </a:cubicBezTo>
                    <a:close/>
                    <a:moveTo>
                      <a:pt x="1723" y="0"/>
                    </a:moveTo>
                    <a:lnTo>
                      <a:pt x="1723" y="0"/>
                    </a:lnTo>
                    <a:cubicBezTo>
                      <a:pt x="1724" y="0"/>
                      <a:pt x="1725" y="1"/>
                      <a:pt x="1725" y="2"/>
                    </a:cubicBezTo>
                    <a:cubicBezTo>
                      <a:pt x="1725" y="3"/>
                      <a:pt x="1724" y="4"/>
                      <a:pt x="1723" y="4"/>
                    </a:cubicBezTo>
                    <a:lnTo>
                      <a:pt x="1723" y="4"/>
                    </a:lnTo>
                    <a:cubicBezTo>
                      <a:pt x="1722" y="4"/>
                      <a:pt x="1721" y="3"/>
                      <a:pt x="1721" y="2"/>
                    </a:cubicBezTo>
                    <a:cubicBezTo>
                      <a:pt x="1721" y="1"/>
                      <a:pt x="1722" y="0"/>
                      <a:pt x="1723" y="0"/>
                    </a:cubicBezTo>
                    <a:close/>
                    <a:moveTo>
                      <a:pt x="1731" y="0"/>
                    </a:moveTo>
                    <a:lnTo>
                      <a:pt x="1731" y="0"/>
                    </a:lnTo>
                    <a:cubicBezTo>
                      <a:pt x="1732" y="0"/>
                      <a:pt x="1733" y="1"/>
                      <a:pt x="1733" y="2"/>
                    </a:cubicBezTo>
                    <a:cubicBezTo>
                      <a:pt x="1733" y="3"/>
                      <a:pt x="1732" y="4"/>
                      <a:pt x="1731" y="4"/>
                    </a:cubicBezTo>
                    <a:lnTo>
                      <a:pt x="1731" y="4"/>
                    </a:lnTo>
                    <a:cubicBezTo>
                      <a:pt x="1730" y="4"/>
                      <a:pt x="1729" y="3"/>
                      <a:pt x="1729" y="2"/>
                    </a:cubicBezTo>
                    <a:cubicBezTo>
                      <a:pt x="1729" y="1"/>
                      <a:pt x="1730" y="0"/>
                      <a:pt x="1731" y="0"/>
                    </a:cubicBezTo>
                    <a:close/>
                    <a:moveTo>
                      <a:pt x="1739" y="0"/>
                    </a:moveTo>
                    <a:lnTo>
                      <a:pt x="1739" y="0"/>
                    </a:lnTo>
                    <a:cubicBezTo>
                      <a:pt x="1740" y="0"/>
                      <a:pt x="1741" y="1"/>
                      <a:pt x="1741" y="2"/>
                    </a:cubicBezTo>
                    <a:cubicBezTo>
                      <a:pt x="1741" y="3"/>
                      <a:pt x="1740" y="4"/>
                      <a:pt x="1739" y="4"/>
                    </a:cubicBezTo>
                    <a:lnTo>
                      <a:pt x="1739" y="4"/>
                    </a:lnTo>
                    <a:cubicBezTo>
                      <a:pt x="1738" y="4"/>
                      <a:pt x="1737" y="3"/>
                      <a:pt x="1737" y="2"/>
                    </a:cubicBezTo>
                    <a:cubicBezTo>
                      <a:pt x="1737" y="1"/>
                      <a:pt x="1738" y="0"/>
                      <a:pt x="1739" y="0"/>
                    </a:cubicBezTo>
                    <a:close/>
                    <a:moveTo>
                      <a:pt x="1747" y="0"/>
                    </a:moveTo>
                    <a:lnTo>
                      <a:pt x="1747" y="0"/>
                    </a:lnTo>
                    <a:cubicBezTo>
                      <a:pt x="1748" y="0"/>
                      <a:pt x="1749" y="1"/>
                      <a:pt x="1749" y="2"/>
                    </a:cubicBezTo>
                    <a:cubicBezTo>
                      <a:pt x="1749" y="3"/>
                      <a:pt x="1748" y="4"/>
                      <a:pt x="1747" y="4"/>
                    </a:cubicBezTo>
                    <a:lnTo>
                      <a:pt x="1747" y="4"/>
                    </a:lnTo>
                    <a:cubicBezTo>
                      <a:pt x="1746" y="4"/>
                      <a:pt x="1745" y="3"/>
                      <a:pt x="1745" y="2"/>
                    </a:cubicBezTo>
                    <a:cubicBezTo>
                      <a:pt x="1745" y="1"/>
                      <a:pt x="1746" y="0"/>
                      <a:pt x="1747" y="0"/>
                    </a:cubicBezTo>
                    <a:close/>
                    <a:moveTo>
                      <a:pt x="1755" y="0"/>
                    </a:moveTo>
                    <a:lnTo>
                      <a:pt x="1755" y="0"/>
                    </a:lnTo>
                    <a:cubicBezTo>
                      <a:pt x="1756" y="0"/>
                      <a:pt x="1757" y="1"/>
                      <a:pt x="1757" y="2"/>
                    </a:cubicBezTo>
                    <a:cubicBezTo>
                      <a:pt x="1757" y="3"/>
                      <a:pt x="1756" y="4"/>
                      <a:pt x="1755" y="4"/>
                    </a:cubicBezTo>
                    <a:lnTo>
                      <a:pt x="1755" y="4"/>
                    </a:lnTo>
                    <a:cubicBezTo>
                      <a:pt x="1754" y="4"/>
                      <a:pt x="1753" y="3"/>
                      <a:pt x="1753" y="2"/>
                    </a:cubicBezTo>
                    <a:cubicBezTo>
                      <a:pt x="1753" y="1"/>
                      <a:pt x="1754" y="0"/>
                      <a:pt x="1755" y="0"/>
                    </a:cubicBezTo>
                    <a:close/>
                    <a:moveTo>
                      <a:pt x="1763" y="0"/>
                    </a:moveTo>
                    <a:lnTo>
                      <a:pt x="1763" y="0"/>
                    </a:lnTo>
                    <a:cubicBezTo>
                      <a:pt x="1764" y="0"/>
                      <a:pt x="1765" y="1"/>
                      <a:pt x="1765" y="2"/>
                    </a:cubicBezTo>
                    <a:cubicBezTo>
                      <a:pt x="1765" y="3"/>
                      <a:pt x="1764" y="4"/>
                      <a:pt x="1763" y="4"/>
                    </a:cubicBezTo>
                    <a:lnTo>
                      <a:pt x="1763" y="4"/>
                    </a:lnTo>
                    <a:cubicBezTo>
                      <a:pt x="1762" y="4"/>
                      <a:pt x="1761" y="3"/>
                      <a:pt x="1761" y="2"/>
                    </a:cubicBezTo>
                    <a:cubicBezTo>
                      <a:pt x="1761" y="1"/>
                      <a:pt x="1762" y="0"/>
                      <a:pt x="1763" y="0"/>
                    </a:cubicBezTo>
                    <a:close/>
                    <a:moveTo>
                      <a:pt x="1771" y="0"/>
                    </a:moveTo>
                    <a:lnTo>
                      <a:pt x="1771" y="0"/>
                    </a:lnTo>
                    <a:cubicBezTo>
                      <a:pt x="1772" y="0"/>
                      <a:pt x="1773" y="1"/>
                      <a:pt x="1773" y="2"/>
                    </a:cubicBezTo>
                    <a:cubicBezTo>
                      <a:pt x="1773" y="3"/>
                      <a:pt x="1772" y="4"/>
                      <a:pt x="1771" y="4"/>
                    </a:cubicBezTo>
                    <a:lnTo>
                      <a:pt x="1771" y="4"/>
                    </a:lnTo>
                    <a:cubicBezTo>
                      <a:pt x="1770" y="4"/>
                      <a:pt x="1769" y="3"/>
                      <a:pt x="1769" y="2"/>
                    </a:cubicBezTo>
                    <a:cubicBezTo>
                      <a:pt x="1769" y="1"/>
                      <a:pt x="1770" y="0"/>
                      <a:pt x="1771" y="0"/>
                    </a:cubicBezTo>
                    <a:close/>
                    <a:moveTo>
                      <a:pt x="1779" y="0"/>
                    </a:moveTo>
                    <a:lnTo>
                      <a:pt x="1779" y="0"/>
                    </a:lnTo>
                    <a:cubicBezTo>
                      <a:pt x="1780" y="0"/>
                      <a:pt x="1781" y="1"/>
                      <a:pt x="1781" y="2"/>
                    </a:cubicBezTo>
                    <a:cubicBezTo>
                      <a:pt x="1781" y="3"/>
                      <a:pt x="1780" y="4"/>
                      <a:pt x="1779" y="4"/>
                    </a:cubicBezTo>
                    <a:lnTo>
                      <a:pt x="1779" y="4"/>
                    </a:lnTo>
                    <a:cubicBezTo>
                      <a:pt x="1778" y="4"/>
                      <a:pt x="1777" y="3"/>
                      <a:pt x="1777" y="2"/>
                    </a:cubicBezTo>
                    <a:cubicBezTo>
                      <a:pt x="1777" y="1"/>
                      <a:pt x="1778" y="0"/>
                      <a:pt x="1779" y="0"/>
                    </a:cubicBezTo>
                    <a:close/>
                    <a:moveTo>
                      <a:pt x="1787" y="0"/>
                    </a:moveTo>
                    <a:lnTo>
                      <a:pt x="1787" y="0"/>
                    </a:lnTo>
                    <a:cubicBezTo>
                      <a:pt x="1788" y="0"/>
                      <a:pt x="1789" y="1"/>
                      <a:pt x="1789" y="2"/>
                    </a:cubicBezTo>
                    <a:cubicBezTo>
                      <a:pt x="1789" y="3"/>
                      <a:pt x="1788" y="4"/>
                      <a:pt x="1787" y="4"/>
                    </a:cubicBezTo>
                    <a:lnTo>
                      <a:pt x="1787" y="4"/>
                    </a:lnTo>
                    <a:cubicBezTo>
                      <a:pt x="1786" y="4"/>
                      <a:pt x="1785" y="3"/>
                      <a:pt x="1785" y="2"/>
                    </a:cubicBezTo>
                    <a:cubicBezTo>
                      <a:pt x="1785" y="1"/>
                      <a:pt x="1786" y="0"/>
                      <a:pt x="1787" y="0"/>
                    </a:cubicBezTo>
                    <a:close/>
                    <a:moveTo>
                      <a:pt x="1795" y="0"/>
                    </a:moveTo>
                    <a:lnTo>
                      <a:pt x="1795" y="0"/>
                    </a:lnTo>
                    <a:cubicBezTo>
                      <a:pt x="1796" y="0"/>
                      <a:pt x="1797" y="1"/>
                      <a:pt x="1797" y="2"/>
                    </a:cubicBezTo>
                    <a:cubicBezTo>
                      <a:pt x="1797" y="3"/>
                      <a:pt x="1796" y="4"/>
                      <a:pt x="1795" y="4"/>
                    </a:cubicBezTo>
                    <a:lnTo>
                      <a:pt x="1795" y="4"/>
                    </a:lnTo>
                    <a:cubicBezTo>
                      <a:pt x="1794" y="4"/>
                      <a:pt x="1793" y="3"/>
                      <a:pt x="1793" y="2"/>
                    </a:cubicBezTo>
                    <a:cubicBezTo>
                      <a:pt x="1793" y="1"/>
                      <a:pt x="1794" y="0"/>
                      <a:pt x="1795" y="0"/>
                    </a:cubicBezTo>
                    <a:close/>
                    <a:moveTo>
                      <a:pt x="1803" y="0"/>
                    </a:moveTo>
                    <a:lnTo>
                      <a:pt x="1803" y="0"/>
                    </a:lnTo>
                    <a:cubicBezTo>
                      <a:pt x="1804" y="0"/>
                      <a:pt x="1805" y="1"/>
                      <a:pt x="1805" y="2"/>
                    </a:cubicBezTo>
                    <a:cubicBezTo>
                      <a:pt x="1805" y="3"/>
                      <a:pt x="1804" y="4"/>
                      <a:pt x="1803" y="4"/>
                    </a:cubicBezTo>
                    <a:lnTo>
                      <a:pt x="1803" y="4"/>
                    </a:lnTo>
                    <a:cubicBezTo>
                      <a:pt x="1802" y="4"/>
                      <a:pt x="1801" y="3"/>
                      <a:pt x="1801" y="2"/>
                    </a:cubicBezTo>
                    <a:cubicBezTo>
                      <a:pt x="1801" y="1"/>
                      <a:pt x="1802" y="0"/>
                      <a:pt x="1803" y="0"/>
                    </a:cubicBezTo>
                    <a:close/>
                    <a:moveTo>
                      <a:pt x="1811" y="0"/>
                    </a:moveTo>
                    <a:lnTo>
                      <a:pt x="1811" y="0"/>
                    </a:lnTo>
                    <a:cubicBezTo>
                      <a:pt x="1812" y="0"/>
                      <a:pt x="1813" y="1"/>
                      <a:pt x="1813" y="2"/>
                    </a:cubicBezTo>
                    <a:cubicBezTo>
                      <a:pt x="1813" y="3"/>
                      <a:pt x="1812" y="4"/>
                      <a:pt x="1811" y="4"/>
                    </a:cubicBezTo>
                    <a:lnTo>
                      <a:pt x="1811" y="4"/>
                    </a:lnTo>
                    <a:cubicBezTo>
                      <a:pt x="1810" y="4"/>
                      <a:pt x="1809" y="3"/>
                      <a:pt x="1809" y="2"/>
                    </a:cubicBezTo>
                    <a:cubicBezTo>
                      <a:pt x="1809" y="1"/>
                      <a:pt x="1810" y="0"/>
                      <a:pt x="1811" y="0"/>
                    </a:cubicBezTo>
                    <a:close/>
                    <a:moveTo>
                      <a:pt x="1819" y="0"/>
                    </a:moveTo>
                    <a:lnTo>
                      <a:pt x="1819" y="0"/>
                    </a:lnTo>
                    <a:cubicBezTo>
                      <a:pt x="1820" y="0"/>
                      <a:pt x="1821" y="1"/>
                      <a:pt x="1821" y="2"/>
                    </a:cubicBezTo>
                    <a:cubicBezTo>
                      <a:pt x="1821" y="3"/>
                      <a:pt x="1820" y="4"/>
                      <a:pt x="1819" y="4"/>
                    </a:cubicBezTo>
                    <a:lnTo>
                      <a:pt x="1819" y="4"/>
                    </a:lnTo>
                    <a:cubicBezTo>
                      <a:pt x="1818" y="4"/>
                      <a:pt x="1817" y="3"/>
                      <a:pt x="1817" y="2"/>
                    </a:cubicBezTo>
                    <a:cubicBezTo>
                      <a:pt x="1817" y="1"/>
                      <a:pt x="1818" y="0"/>
                      <a:pt x="1819" y="0"/>
                    </a:cubicBezTo>
                    <a:close/>
                    <a:moveTo>
                      <a:pt x="1827" y="0"/>
                    </a:moveTo>
                    <a:lnTo>
                      <a:pt x="1827" y="0"/>
                    </a:lnTo>
                    <a:cubicBezTo>
                      <a:pt x="1828" y="0"/>
                      <a:pt x="1829" y="1"/>
                      <a:pt x="1829" y="2"/>
                    </a:cubicBezTo>
                    <a:cubicBezTo>
                      <a:pt x="1829" y="3"/>
                      <a:pt x="1828" y="4"/>
                      <a:pt x="1827" y="4"/>
                    </a:cubicBezTo>
                    <a:lnTo>
                      <a:pt x="1827" y="4"/>
                    </a:lnTo>
                    <a:cubicBezTo>
                      <a:pt x="1826" y="4"/>
                      <a:pt x="1825" y="3"/>
                      <a:pt x="1825" y="2"/>
                    </a:cubicBezTo>
                    <a:cubicBezTo>
                      <a:pt x="1825" y="1"/>
                      <a:pt x="1826" y="0"/>
                      <a:pt x="1827" y="0"/>
                    </a:cubicBezTo>
                    <a:close/>
                    <a:moveTo>
                      <a:pt x="1835" y="0"/>
                    </a:moveTo>
                    <a:lnTo>
                      <a:pt x="1835" y="0"/>
                    </a:lnTo>
                    <a:cubicBezTo>
                      <a:pt x="1836" y="0"/>
                      <a:pt x="1837" y="1"/>
                      <a:pt x="1837" y="2"/>
                    </a:cubicBezTo>
                    <a:cubicBezTo>
                      <a:pt x="1837" y="3"/>
                      <a:pt x="1836" y="4"/>
                      <a:pt x="1835" y="4"/>
                    </a:cubicBezTo>
                    <a:lnTo>
                      <a:pt x="1835" y="4"/>
                    </a:lnTo>
                    <a:cubicBezTo>
                      <a:pt x="1834" y="4"/>
                      <a:pt x="1833" y="3"/>
                      <a:pt x="1833" y="2"/>
                    </a:cubicBezTo>
                    <a:cubicBezTo>
                      <a:pt x="1833" y="1"/>
                      <a:pt x="1834" y="0"/>
                      <a:pt x="1835" y="0"/>
                    </a:cubicBezTo>
                    <a:close/>
                    <a:moveTo>
                      <a:pt x="1843" y="0"/>
                    </a:moveTo>
                    <a:lnTo>
                      <a:pt x="1843" y="0"/>
                    </a:lnTo>
                    <a:cubicBezTo>
                      <a:pt x="1844" y="0"/>
                      <a:pt x="1845" y="1"/>
                      <a:pt x="1845" y="2"/>
                    </a:cubicBezTo>
                    <a:cubicBezTo>
                      <a:pt x="1845" y="3"/>
                      <a:pt x="1844" y="4"/>
                      <a:pt x="1843" y="4"/>
                    </a:cubicBezTo>
                    <a:lnTo>
                      <a:pt x="1843" y="4"/>
                    </a:lnTo>
                    <a:cubicBezTo>
                      <a:pt x="1842" y="4"/>
                      <a:pt x="1841" y="3"/>
                      <a:pt x="1841" y="2"/>
                    </a:cubicBezTo>
                    <a:cubicBezTo>
                      <a:pt x="1841" y="1"/>
                      <a:pt x="1842" y="0"/>
                      <a:pt x="1843" y="0"/>
                    </a:cubicBezTo>
                    <a:close/>
                    <a:moveTo>
                      <a:pt x="1851" y="0"/>
                    </a:moveTo>
                    <a:lnTo>
                      <a:pt x="1851" y="0"/>
                    </a:lnTo>
                    <a:cubicBezTo>
                      <a:pt x="1852" y="0"/>
                      <a:pt x="1853" y="1"/>
                      <a:pt x="1853" y="2"/>
                    </a:cubicBezTo>
                    <a:cubicBezTo>
                      <a:pt x="1853" y="3"/>
                      <a:pt x="1852" y="4"/>
                      <a:pt x="1851" y="4"/>
                    </a:cubicBezTo>
                    <a:lnTo>
                      <a:pt x="1851" y="4"/>
                    </a:lnTo>
                    <a:cubicBezTo>
                      <a:pt x="1850" y="4"/>
                      <a:pt x="1849" y="3"/>
                      <a:pt x="1849" y="2"/>
                    </a:cubicBezTo>
                    <a:cubicBezTo>
                      <a:pt x="1849" y="1"/>
                      <a:pt x="1850" y="0"/>
                      <a:pt x="1851" y="0"/>
                    </a:cubicBezTo>
                    <a:close/>
                    <a:moveTo>
                      <a:pt x="1859" y="0"/>
                    </a:moveTo>
                    <a:lnTo>
                      <a:pt x="1859" y="0"/>
                    </a:lnTo>
                    <a:cubicBezTo>
                      <a:pt x="1860" y="0"/>
                      <a:pt x="1861" y="1"/>
                      <a:pt x="1861" y="2"/>
                    </a:cubicBezTo>
                    <a:cubicBezTo>
                      <a:pt x="1861" y="3"/>
                      <a:pt x="1860" y="4"/>
                      <a:pt x="1859" y="4"/>
                    </a:cubicBezTo>
                    <a:lnTo>
                      <a:pt x="1859" y="4"/>
                    </a:lnTo>
                    <a:cubicBezTo>
                      <a:pt x="1858" y="4"/>
                      <a:pt x="1857" y="3"/>
                      <a:pt x="1857" y="2"/>
                    </a:cubicBezTo>
                    <a:cubicBezTo>
                      <a:pt x="1857" y="1"/>
                      <a:pt x="1858" y="0"/>
                      <a:pt x="1859" y="0"/>
                    </a:cubicBezTo>
                    <a:close/>
                    <a:moveTo>
                      <a:pt x="1867" y="0"/>
                    </a:moveTo>
                    <a:lnTo>
                      <a:pt x="1867" y="0"/>
                    </a:lnTo>
                    <a:cubicBezTo>
                      <a:pt x="1868" y="0"/>
                      <a:pt x="1869" y="1"/>
                      <a:pt x="1869" y="2"/>
                    </a:cubicBezTo>
                    <a:cubicBezTo>
                      <a:pt x="1869" y="3"/>
                      <a:pt x="1868" y="4"/>
                      <a:pt x="1867" y="4"/>
                    </a:cubicBezTo>
                    <a:lnTo>
                      <a:pt x="1867" y="4"/>
                    </a:lnTo>
                    <a:cubicBezTo>
                      <a:pt x="1866" y="4"/>
                      <a:pt x="1865" y="3"/>
                      <a:pt x="1865" y="2"/>
                    </a:cubicBezTo>
                    <a:cubicBezTo>
                      <a:pt x="1865" y="1"/>
                      <a:pt x="1866" y="0"/>
                      <a:pt x="1867" y="0"/>
                    </a:cubicBezTo>
                    <a:close/>
                    <a:moveTo>
                      <a:pt x="1875" y="0"/>
                    </a:moveTo>
                    <a:lnTo>
                      <a:pt x="1875" y="0"/>
                    </a:lnTo>
                    <a:cubicBezTo>
                      <a:pt x="1876" y="0"/>
                      <a:pt x="1877" y="1"/>
                      <a:pt x="1877" y="2"/>
                    </a:cubicBezTo>
                    <a:cubicBezTo>
                      <a:pt x="1877" y="3"/>
                      <a:pt x="1876" y="4"/>
                      <a:pt x="1875" y="4"/>
                    </a:cubicBezTo>
                    <a:lnTo>
                      <a:pt x="1875" y="4"/>
                    </a:lnTo>
                    <a:cubicBezTo>
                      <a:pt x="1874" y="4"/>
                      <a:pt x="1873" y="3"/>
                      <a:pt x="1873" y="2"/>
                    </a:cubicBezTo>
                    <a:cubicBezTo>
                      <a:pt x="1873" y="1"/>
                      <a:pt x="1874" y="0"/>
                      <a:pt x="1875" y="0"/>
                    </a:cubicBezTo>
                    <a:close/>
                    <a:moveTo>
                      <a:pt x="1883" y="0"/>
                    </a:moveTo>
                    <a:lnTo>
                      <a:pt x="1883" y="0"/>
                    </a:lnTo>
                    <a:cubicBezTo>
                      <a:pt x="1884" y="0"/>
                      <a:pt x="1885" y="1"/>
                      <a:pt x="1885" y="2"/>
                    </a:cubicBezTo>
                    <a:cubicBezTo>
                      <a:pt x="1885" y="3"/>
                      <a:pt x="1884" y="4"/>
                      <a:pt x="1883" y="4"/>
                    </a:cubicBezTo>
                    <a:lnTo>
                      <a:pt x="1883" y="4"/>
                    </a:lnTo>
                    <a:cubicBezTo>
                      <a:pt x="1882" y="4"/>
                      <a:pt x="1881" y="3"/>
                      <a:pt x="1881" y="2"/>
                    </a:cubicBezTo>
                    <a:cubicBezTo>
                      <a:pt x="1881" y="1"/>
                      <a:pt x="1882" y="0"/>
                      <a:pt x="1883" y="0"/>
                    </a:cubicBezTo>
                    <a:close/>
                    <a:moveTo>
                      <a:pt x="1891" y="0"/>
                    </a:moveTo>
                    <a:lnTo>
                      <a:pt x="1891" y="0"/>
                    </a:lnTo>
                    <a:cubicBezTo>
                      <a:pt x="1892" y="0"/>
                      <a:pt x="1893" y="1"/>
                      <a:pt x="1893" y="2"/>
                    </a:cubicBezTo>
                    <a:cubicBezTo>
                      <a:pt x="1893" y="3"/>
                      <a:pt x="1892" y="4"/>
                      <a:pt x="1891" y="4"/>
                    </a:cubicBezTo>
                    <a:lnTo>
                      <a:pt x="1891" y="4"/>
                    </a:lnTo>
                    <a:cubicBezTo>
                      <a:pt x="1890" y="4"/>
                      <a:pt x="1889" y="3"/>
                      <a:pt x="1889" y="2"/>
                    </a:cubicBezTo>
                    <a:cubicBezTo>
                      <a:pt x="1889" y="1"/>
                      <a:pt x="1890" y="0"/>
                      <a:pt x="1891" y="0"/>
                    </a:cubicBezTo>
                    <a:close/>
                    <a:moveTo>
                      <a:pt x="1899" y="0"/>
                    </a:moveTo>
                    <a:lnTo>
                      <a:pt x="1899" y="0"/>
                    </a:lnTo>
                    <a:cubicBezTo>
                      <a:pt x="1900" y="0"/>
                      <a:pt x="1901" y="1"/>
                      <a:pt x="1901" y="2"/>
                    </a:cubicBezTo>
                    <a:cubicBezTo>
                      <a:pt x="1901" y="3"/>
                      <a:pt x="1900" y="4"/>
                      <a:pt x="1899" y="4"/>
                    </a:cubicBezTo>
                    <a:lnTo>
                      <a:pt x="1899" y="4"/>
                    </a:lnTo>
                    <a:cubicBezTo>
                      <a:pt x="1898" y="4"/>
                      <a:pt x="1897" y="3"/>
                      <a:pt x="1897" y="2"/>
                    </a:cubicBezTo>
                    <a:cubicBezTo>
                      <a:pt x="1897" y="1"/>
                      <a:pt x="1898" y="0"/>
                      <a:pt x="1899" y="0"/>
                    </a:cubicBezTo>
                    <a:close/>
                    <a:moveTo>
                      <a:pt x="1907" y="0"/>
                    </a:moveTo>
                    <a:lnTo>
                      <a:pt x="1907" y="0"/>
                    </a:lnTo>
                    <a:cubicBezTo>
                      <a:pt x="1908" y="0"/>
                      <a:pt x="1909" y="1"/>
                      <a:pt x="1909" y="2"/>
                    </a:cubicBezTo>
                    <a:cubicBezTo>
                      <a:pt x="1909" y="3"/>
                      <a:pt x="1908" y="4"/>
                      <a:pt x="1907" y="4"/>
                    </a:cubicBezTo>
                    <a:lnTo>
                      <a:pt x="1907" y="4"/>
                    </a:lnTo>
                    <a:cubicBezTo>
                      <a:pt x="1906" y="4"/>
                      <a:pt x="1905" y="3"/>
                      <a:pt x="1905" y="2"/>
                    </a:cubicBezTo>
                    <a:cubicBezTo>
                      <a:pt x="1905" y="1"/>
                      <a:pt x="1906" y="0"/>
                      <a:pt x="1907" y="0"/>
                    </a:cubicBezTo>
                    <a:close/>
                    <a:moveTo>
                      <a:pt x="1915" y="0"/>
                    </a:moveTo>
                    <a:lnTo>
                      <a:pt x="1915" y="0"/>
                    </a:lnTo>
                    <a:cubicBezTo>
                      <a:pt x="1916" y="0"/>
                      <a:pt x="1917" y="1"/>
                      <a:pt x="1917" y="2"/>
                    </a:cubicBezTo>
                    <a:cubicBezTo>
                      <a:pt x="1917" y="3"/>
                      <a:pt x="1916" y="4"/>
                      <a:pt x="1915" y="4"/>
                    </a:cubicBezTo>
                    <a:lnTo>
                      <a:pt x="1915" y="4"/>
                    </a:lnTo>
                    <a:cubicBezTo>
                      <a:pt x="1914" y="4"/>
                      <a:pt x="1913" y="3"/>
                      <a:pt x="1913" y="2"/>
                    </a:cubicBezTo>
                    <a:cubicBezTo>
                      <a:pt x="1913" y="1"/>
                      <a:pt x="1914" y="0"/>
                      <a:pt x="1915" y="0"/>
                    </a:cubicBezTo>
                    <a:close/>
                    <a:moveTo>
                      <a:pt x="1923" y="0"/>
                    </a:moveTo>
                    <a:lnTo>
                      <a:pt x="1923" y="0"/>
                    </a:lnTo>
                    <a:cubicBezTo>
                      <a:pt x="1924" y="0"/>
                      <a:pt x="1925" y="1"/>
                      <a:pt x="1925" y="2"/>
                    </a:cubicBezTo>
                    <a:cubicBezTo>
                      <a:pt x="1925" y="3"/>
                      <a:pt x="1924" y="4"/>
                      <a:pt x="1923" y="4"/>
                    </a:cubicBezTo>
                    <a:lnTo>
                      <a:pt x="1923" y="4"/>
                    </a:lnTo>
                    <a:cubicBezTo>
                      <a:pt x="1922" y="4"/>
                      <a:pt x="1921" y="3"/>
                      <a:pt x="1921" y="2"/>
                    </a:cubicBezTo>
                    <a:cubicBezTo>
                      <a:pt x="1921" y="1"/>
                      <a:pt x="1922" y="0"/>
                      <a:pt x="1923" y="0"/>
                    </a:cubicBezTo>
                    <a:close/>
                    <a:moveTo>
                      <a:pt x="1931" y="0"/>
                    </a:moveTo>
                    <a:lnTo>
                      <a:pt x="1931" y="0"/>
                    </a:lnTo>
                    <a:cubicBezTo>
                      <a:pt x="1932" y="0"/>
                      <a:pt x="1933" y="1"/>
                      <a:pt x="1933" y="2"/>
                    </a:cubicBezTo>
                    <a:cubicBezTo>
                      <a:pt x="1933" y="3"/>
                      <a:pt x="1932" y="4"/>
                      <a:pt x="1931" y="4"/>
                    </a:cubicBezTo>
                    <a:lnTo>
                      <a:pt x="1931" y="4"/>
                    </a:lnTo>
                    <a:cubicBezTo>
                      <a:pt x="1930" y="4"/>
                      <a:pt x="1929" y="3"/>
                      <a:pt x="1929" y="2"/>
                    </a:cubicBezTo>
                    <a:cubicBezTo>
                      <a:pt x="1929" y="1"/>
                      <a:pt x="1930" y="0"/>
                      <a:pt x="1931" y="0"/>
                    </a:cubicBezTo>
                    <a:close/>
                    <a:moveTo>
                      <a:pt x="1939" y="0"/>
                    </a:moveTo>
                    <a:lnTo>
                      <a:pt x="1939" y="0"/>
                    </a:lnTo>
                    <a:cubicBezTo>
                      <a:pt x="1940" y="0"/>
                      <a:pt x="1941" y="1"/>
                      <a:pt x="1941" y="2"/>
                    </a:cubicBezTo>
                    <a:cubicBezTo>
                      <a:pt x="1941" y="3"/>
                      <a:pt x="1940" y="4"/>
                      <a:pt x="1939" y="4"/>
                    </a:cubicBezTo>
                    <a:lnTo>
                      <a:pt x="1939" y="4"/>
                    </a:lnTo>
                    <a:cubicBezTo>
                      <a:pt x="1938" y="4"/>
                      <a:pt x="1937" y="3"/>
                      <a:pt x="1937" y="2"/>
                    </a:cubicBezTo>
                    <a:cubicBezTo>
                      <a:pt x="1937" y="1"/>
                      <a:pt x="1938" y="0"/>
                      <a:pt x="1939" y="0"/>
                    </a:cubicBezTo>
                    <a:close/>
                    <a:moveTo>
                      <a:pt x="1947" y="0"/>
                    </a:moveTo>
                    <a:lnTo>
                      <a:pt x="1947" y="0"/>
                    </a:lnTo>
                    <a:cubicBezTo>
                      <a:pt x="1948" y="0"/>
                      <a:pt x="1949" y="1"/>
                      <a:pt x="1949" y="2"/>
                    </a:cubicBezTo>
                    <a:cubicBezTo>
                      <a:pt x="1949" y="3"/>
                      <a:pt x="1948" y="4"/>
                      <a:pt x="1947" y="4"/>
                    </a:cubicBezTo>
                    <a:lnTo>
                      <a:pt x="1947" y="4"/>
                    </a:lnTo>
                    <a:cubicBezTo>
                      <a:pt x="1946" y="4"/>
                      <a:pt x="1945" y="3"/>
                      <a:pt x="1945" y="2"/>
                    </a:cubicBezTo>
                    <a:cubicBezTo>
                      <a:pt x="1945" y="1"/>
                      <a:pt x="1946" y="0"/>
                      <a:pt x="1947" y="0"/>
                    </a:cubicBezTo>
                    <a:close/>
                    <a:moveTo>
                      <a:pt x="1955" y="0"/>
                    </a:moveTo>
                    <a:lnTo>
                      <a:pt x="1955" y="0"/>
                    </a:lnTo>
                    <a:cubicBezTo>
                      <a:pt x="1956" y="0"/>
                      <a:pt x="1957" y="1"/>
                      <a:pt x="1957" y="2"/>
                    </a:cubicBezTo>
                    <a:cubicBezTo>
                      <a:pt x="1957" y="3"/>
                      <a:pt x="1956" y="4"/>
                      <a:pt x="1955" y="4"/>
                    </a:cubicBezTo>
                    <a:lnTo>
                      <a:pt x="1955" y="4"/>
                    </a:lnTo>
                    <a:cubicBezTo>
                      <a:pt x="1954" y="4"/>
                      <a:pt x="1953" y="3"/>
                      <a:pt x="1953" y="2"/>
                    </a:cubicBezTo>
                    <a:cubicBezTo>
                      <a:pt x="1953" y="1"/>
                      <a:pt x="1954" y="0"/>
                      <a:pt x="1955" y="0"/>
                    </a:cubicBezTo>
                    <a:close/>
                    <a:moveTo>
                      <a:pt x="1963" y="0"/>
                    </a:moveTo>
                    <a:lnTo>
                      <a:pt x="1963" y="0"/>
                    </a:lnTo>
                    <a:cubicBezTo>
                      <a:pt x="1964" y="0"/>
                      <a:pt x="1965" y="1"/>
                      <a:pt x="1965" y="2"/>
                    </a:cubicBezTo>
                    <a:cubicBezTo>
                      <a:pt x="1965" y="3"/>
                      <a:pt x="1964" y="4"/>
                      <a:pt x="1963" y="4"/>
                    </a:cubicBezTo>
                    <a:lnTo>
                      <a:pt x="1963" y="4"/>
                    </a:lnTo>
                    <a:cubicBezTo>
                      <a:pt x="1962" y="4"/>
                      <a:pt x="1961" y="3"/>
                      <a:pt x="1961" y="2"/>
                    </a:cubicBezTo>
                    <a:cubicBezTo>
                      <a:pt x="1961" y="1"/>
                      <a:pt x="1962" y="0"/>
                      <a:pt x="1963" y="0"/>
                    </a:cubicBezTo>
                    <a:close/>
                    <a:moveTo>
                      <a:pt x="1971" y="0"/>
                    </a:moveTo>
                    <a:lnTo>
                      <a:pt x="1971" y="0"/>
                    </a:lnTo>
                    <a:cubicBezTo>
                      <a:pt x="1972" y="0"/>
                      <a:pt x="1973" y="1"/>
                      <a:pt x="1973" y="2"/>
                    </a:cubicBezTo>
                    <a:cubicBezTo>
                      <a:pt x="1973" y="3"/>
                      <a:pt x="1972" y="4"/>
                      <a:pt x="1971" y="4"/>
                    </a:cubicBezTo>
                    <a:lnTo>
                      <a:pt x="1971" y="4"/>
                    </a:lnTo>
                    <a:cubicBezTo>
                      <a:pt x="1970" y="4"/>
                      <a:pt x="1969" y="3"/>
                      <a:pt x="1969" y="2"/>
                    </a:cubicBezTo>
                    <a:cubicBezTo>
                      <a:pt x="1969" y="1"/>
                      <a:pt x="1970" y="0"/>
                      <a:pt x="1971" y="0"/>
                    </a:cubicBezTo>
                    <a:close/>
                    <a:moveTo>
                      <a:pt x="1979" y="0"/>
                    </a:moveTo>
                    <a:lnTo>
                      <a:pt x="1979" y="0"/>
                    </a:lnTo>
                    <a:cubicBezTo>
                      <a:pt x="1980" y="0"/>
                      <a:pt x="1981" y="1"/>
                      <a:pt x="1981" y="2"/>
                    </a:cubicBezTo>
                    <a:cubicBezTo>
                      <a:pt x="1981" y="3"/>
                      <a:pt x="1980" y="4"/>
                      <a:pt x="1979" y="4"/>
                    </a:cubicBezTo>
                    <a:lnTo>
                      <a:pt x="1979" y="4"/>
                    </a:lnTo>
                    <a:cubicBezTo>
                      <a:pt x="1978" y="4"/>
                      <a:pt x="1977" y="3"/>
                      <a:pt x="1977" y="2"/>
                    </a:cubicBezTo>
                    <a:cubicBezTo>
                      <a:pt x="1977" y="1"/>
                      <a:pt x="1978" y="0"/>
                      <a:pt x="1979" y="0"/>
                    </a:cubicBezTo>
                    <a:close/>
                    <a:moveTo>
                      <a:pt x="1987" y="0"/>
                    </a:moveTo>
                    <a:lnTo>
                      <a:pt x="1987" y="0"/>
                    </a:lnTo>
                    <a:cubicBezTo>
                      <a:pt x="1988" y="0"/>
                      <a:pt x="1989" y="1"/>
                      <a:pt x="1989" y="2"/>
                    </a:cubicBezTo>
                    <a:cubicBezTo>
                      <a:pt x="1989" y="3"/>
                      <a:pt x="1988" y="4"/>
                      <a:pt x="1987" y="4"/>
                    </a:cubicBezTo>
                    <a:lnTo>
                      <a:pt x="1987" y="4"/>
                    </a:lnTo>
                    <a:cubicBezTo>
                      <a:pt x="1986" y="4"/>
                      <a:pt x="1985" y="3"/>
                      <a:pt x="1985" y="2"/>
                    </a:cubicBezTo>
                    <a:cubicBezTo>
                      <a:pt x="1985" y="1"/>
                      <a:pt x="1986" y="0"/>
                      <a:pt x="1987" y="0"/>
                    </a:cubicBezTo>
                    <a:close/>
                    <a:moveTo>
                      <a:pt x="1995" y="0"/>
                    </a:moveTo>
                    <a:lnTo>
                      <a:pt x="1995" y="0"/>
                    </a:lnTo>
                    <a:cubicBezTo>
                      <a:pt x="1996" y="0"/>
                      <a:pt x="1997" y="1"/>
                      <a:pt x="1997" y="2"/>
                    </a:cubicBezTo>
                    <a:cubicBezTo>
                      <a:pt x="1997" y="3"/>
                      <a:pt x="1996" y="4"/>
                      <a:pt x="1995" y="4"/>
                    </a:cubicBezTo>
                    <a:lnTo>
                      <a:pt x="1995" y="4"/>
                    </a:lnTo>
                    <a:cubicBezTo>
                      <a:pt x="1994" y="4"/>
                      <a:pt x="1993" y="3"/>
                      <a:pt x="1993" y="2"/>
                    </a:cubicBezTo>
                    <a:cubicBezTo>
                      <a:pt x="1993" y="1"/>
                      <a:pt x="1994" y="0"/>
                      <a:pt x="1995" y="0"/>
                    </a:cubicBezTo>
                    <a:close/>
                    <a:moveTo>
                      <a:pt x="2003" y="0"/>
                    </a:moveTo>
                    <a:lnTo>
                      <a:pt x="2003" y="0"/>
                    </a:lnTo>
                    <a:cubicBezTo>
                      <a:pt x="2004" y="0"/>
                      <a:pt x="2005" y="1"/>
                      <a:pt x="2005" y="2"/>
                    </a:cubicBezTo>
                    <a:cubicBezTo>
                      <a:pt x="2005" y="3"/>
                      <a:pt x="2004" y="4"/>
                      <a:pt x="2003" y="4"/>
                    </a:cubicBezTo>
                    <a:lnTo>
                      <a:pt x="2003" y="4"/>
                    </a:lnTo>
                    <a:cubicBezTo>
                      <a:pt x="2002" y="4"/>
                      <a:pt x="2001" y="3"/>
                      <a:pt x="2001" y="2"/>
                    </a:cubicBezTo>
                    <a:cubicBezTo>
                      <a:pt x="2001" y="1"/>
                      <a:pt x="2002" y="0"/>
                      <a:pt x="2003" y="0"/>
                    </a:cubicBezTo>
                    <a:close/>
                    <a:moveTo>
                      <a:pt x="2011" y="0"/>
                    </a:moveTo>
                    <a:lnTo>
                      <a:pt x="2011" y="0"/>
                    </a:lnTo>
                    <a:cubicBezTo>
                      <a:pt x="2012" y="0"/>
                      <a:pt x="2013" y="1"/>
                      <a:pt x="2013" y="2"/>
                    </a:cubicBezTo>
                    <a:cubicBezTo>
                      <a:pt x="2013" y="3"/>
                      <a:pt x="2012" y="4"/>
                      <a:pt x="2011" y="4"/>
                    </a:cubicBezTo>
                    <a:lnTo>
                      <a:pt x="2011" y="4"/>
                    </a:lnTo>
                    <a:cubicBezTo>
                      <a:pt x="2010" y="4"/>
                      <a:pt x="2009" y="3"/>
                      <a:pt x="2009" y="2"/>
                    </a:cubicBezTo>
                    <a:cubicBezTo>
                      <a:pt x="2009" y="1"/>
                      <a:pt x="2010" y="0"/>
                      <a:pt x="2011" y="0"/>
                    </a:cubicBezTo>
                    <a:close/>
                    <a:moveTo>
                      <a:pt x="2019" y="0"/>
                    </a:moveTo>
                    <a:lnTo>
                      <a:pt x="2019" y="0"/>
                    </a:lnTo>
                    <a:cubicBezTo>
                      <a:pt x="2020" y="0"/>
                      <a:pt x="2021" y="1"/>
                      <a:pt x="2021" y="2"/>
                    </a:cubicBezTo>
                    <a:cubicBezTo>
                      <a:pt x="2021" y="3"/>
                      <a:pt x="2020" y="4"/>
                      <a:pt x="2019" y="4"/>
                    </a:cubicBezTo>
                    <a:lnTo>
                      <a:pt x="2019" y="4"/>
                    </a:lnTo>
                    <a:cubicBezTo>
                      <a:pt x="2018" y="4"/>
                      <a:pt x="2017" y="3"/>
                      <a:pt x="2017" y="2"/>
                    </a:cubicBezTo>
                    <a:cubicBezTo>
                      <a:pt x="2017" y="1"/>
                      <a:pt x="2018" y="0"/>
                      <a:pt x="2019" y="0"/>
                    </a:cubicBezTo>
                    <a:close/>
                    <a:moveTo>
                      <a:pt x="2027" y="0"/>
                    </a:moveTo>
                    <a:lnTo>
                      <a:pt x="2027" y="0"/>
                    </a:lnTo>
                    <a:cubicBezTo>
                      <a:pt x="2028" y="0"/>
                      <a:pt x="2029" y="1"/>
                      <a:pt x="2029" y="2"/>
                    </a:cubicBezTo>
                    <a:cubicBezTo>
                      <a:pt x="2029" y="3"/>
                      <a:pt x="2028" y="4"/>
                      <a:pt x="2027" y="4"/>
                    </a:cubicBezTo>
                    <a:lnTo>
                      <a:pt x="2027" y="4"/>
                    </a:lnTo>
                    <a:cubicBezTo>
                      <a:pt x="2026" y="4"/>
                      <a:pt x="2025" y="3"/>
                      <a:pt x="2025" y="2"/>
                    </a:cubicBezTo>
                    <a:cubicBezTo>
                      <a:pt x="2025" y="1"/>
                      <a:pt x="2026" y="0"/>
                      <a:pt x="2027" y="0"/>
                    </a:cubicBezTo>
                    <a:close/>
                    <a:moveTo>
                      <a:pt x="2035" y="0"/>
                    </a:moveTo>
                    <a:lnTo>
                      <a:pt x="2035" y="0"/>
                    </a:lnTo>
                    <a:cubicBezTo>
                      <a:pt x="2036" y="0"/>
                      <a:pt x="2037" y="1"/>
                      <a:pt x="2037" y="2"/>
                    </a:cubicBezTo>
                    <a:cubicBezTo>
                      <a:pt x="2037" y="3"/>
                      <a:pt x="2036" y="4"/>
                      <a:pt x="2035" y="4"/>
                    </a:cubicBezTo>
                    <a:lnTo>
                      <a:pt x="2035" y="4"/>
                    </a:lnTo>
                    <a:cubicBezTo>
                      <a:pt x="2034" y="4"/>
                      <a:pt x="2033" y="3"/>
                      <a:pt x="2033" y="2"/>
                    </a:cubicBezTo>
                    <a:cubicBezTo>
                      <a:pt x="2033" y="1"/>
                      <a:pt x="2034" y="0"/>
                      <a:pt x="2035" y="0"/>
                    </a:cubicBezTo>
                    <a:close/>
                    <a:moveTo>
                      <a:pt x="2043" y="0"/>
                    </a:moveTo>
                    <a:lnTo>
                      <a:pt x="2043" y="0"/>
                    </a:lnTo>
                    <a:cubicBezTo>
                      <a:pt x="2044" y="0"/>
                      <a:pt x="2045" y="1"/>
                      <a:pt x="2045" y="2"/>
                    </a:cubicBezTo>
                    <a:cubicBezTo>
                      <a:pt x="2045" y="3"/>
                      <a:pt x="2044" y="4"/>
                      <a:pt x="2043" y="4"/>
                    </a:cubicBezTo>
                    <a:lnTo>
                      <a:pt x="2043" y="4"/>
                    </a:lnTo>
                    <a:cubicBezTo>
                      <a:pt x="2042" y="4"/>
                      <a:pt x="2041" y="3"/>
                      <a:pt x="2041" y="2"/>
                    </a:cubicBezTo>
                    <a:cubicBezTo>
                      <a:pt x="2041" y="1"/>
                      <a:pt x="2042" y="0"/>
                      <a:pt x="2043" y="0"/>
                    </a:cubicBezTo>
                    <a:close/>
                    <a:moveTo>
                      <a:pt x="2051" y="0"/>
                    </a:moveTo>
                    <a:lnTo>
                      <a:pt x="2051" y="0"/>
                    </a:lnTo>
                    <a:cubicBezTo>
                      <a:pt x="2052" y="0"/>
                      <a:pt x="2053" y="1"/>
                      <a:pt x="2053" y="2"/>
                    </a:cubicBezTo>
                    <a:cubicBezTo>
                      <a:pt x="2053" y="3"/>
                      <a:pt x="2052" y="4"/>
                      <a:pt x="2051" y="4"/>
                    </a:cubicBezTo>
                    <a:lnTo>
                      <a:pt x="2051" y="4"/>
                    </a:lnTo>
                    <a:cubicBezTo>
                      <a:pt x="2050" y="4"/>
                      <a:pt x="2049" y="3"/>
                      <a:pt x="2049" y="2"/>
                    </a:cubicBezTo>
                    <a:cubicBezTo>
                      <a:pt x="2049" y="1"/>
                      <a:pt x="2050" y="0"/>
                      <a:pt x="2051" y="0"/>
                    </a:cubicBezTo>
                    <a:close/>
                    <a:moveTo>
                      <a:pt x="2059" y="0"/>
                    </a:moveTo>
                    <a:lnTo>
                      <a:pt x="2059" y="0"/>
                    </a:lnTo>
                    <a:cubicBezTo>
                      <a:pt x="2060" y="0"/>
                      <a:pt x="2061" y="1"/>
                      <a:pt x="2061" y="2"/>
                    </a:cubicBezTo>
                    <a:cubicBezTo>
                      <a:pt x="2061" y="3"/>
                      <a:pt x="2060" y="4"/>
                      <a:pt x="2059" y="4"/>
                    </a:cubicBezTo>
                    <a:lnTo>
                      <a:pt x="2059" y="4"/>
                    </a:lnTo>
                    <a:cubicBezTo>
                      <a:pt x="2058" y="4"/>
                      <a:pt x="2057" y="3"/>
                      <a:pt x="2057" y="2"/>
                    </a:cubicBezTo>
                    <a:cubicBezTo>
                      <a:pt x="2057" y="1"/>
                      <a:pt x="2058" y="0"/>
                      <a:pt x="2059" y="0"/>
                    </a:cubicBezTo>
                    <a:close/>
                    <a:moveTo>
                      <a:pt x="2067" y="0"/>
                    </a:moveTo>
                    <a:lnTo>
                      <a:pt x="2067" y="0"/>
                    </a:lnTo>
                    <a:cubicBezTo>
                      <a:pt x="2068" y="0"/>
                      <a:pt x="2069" y="1"/>
                      <a:pt x="2069" y="2"/>
                    </a:cubicBezTo>
                    <a:cubicBezTo>
                      <a:pt x="2069" y="3"/>
                      <a:pt x="2068" y="4"/>
                      <a:pt x="2067" y="4"/>
                    </a:cubicBezTo>
                    <a:lnTo>
                      <a:pt x="2067" y="4"/>
                    </a:lnTo>
                    <a:cubicBezTo>
                      <a:pt x="2066" y="4"/>
                      <a:pt x="2065" y="3"/>
                      <a:pt x="2065" y="2"/>
                    </a:cubicBezTo>
                    <a:cubicBezTo>
                      <a:pt x="2065" y="1"/>
                      <a:pt x="2066" y="0"/>
                      <a:pt x="2067" y="0"/>
                    </a:cubicBezTo>
                    <a:close/>
                    <a:moveTo>
                      <a:pt x="2075" y="0"/>
                    </a:moveTo>
                    <a:lnTo>
                      <a:pt x="2075" y="0"/>
                    </a:lnTo>
                    <a:cubicBezTo>
                      <a:pt x="2076" y="0"/>
                      <a:pt x="2077" y="1"/>
                      <a:pt x="2077" y="2"/>
                    </a:cubicBezTo>
                    <a:cubicBezTo>
                      <a:pt x="2077" y="3"/>
                      <a:pt x="2076" y="4"/>
                      <a:pt x="2075" y="4"/>
                    </a:cubicBezTo>
                    <a:lnTo>
                      <a:pt x="2075" y="4"/>
                    </a:lnTo>
                    <a:cubicBezTo>
                      <a:pt x="2074" y="4"/>
                      <a:pt x="2073" y="3"/>
                      <a:pt x="2073" y="2"/>
                    </a:cubicBezTo>
                    <a:cubicBezTo>
                      <a:pt x="2073" y="1"/>
                      <a:pt x="2074" y="0"/>
                      <a:pt x="2075" y="0"/>
                    </a:cubicBezTo>
                    <a:close/>
                    <a:moveTo>
                      <a:pt x="2083" y="0"/>
                    </a:moveTo>
                    <a:lnTo>
                      <a:pt x="2083" y="0"/>
                    </a:lnTo>
                    <a:cubicBezTo>
                      <a:pt x="2084" y="0"/>
                      <a:pt x="2085" y="1"/>
                      <a:pt x="2085" y="2"/>
                    </a:cubicBezTo>
                    <a:cubicBezTo>
                      <a:pt x="2085" y="3"/>
                      <a:pt x="2084" y="4"/>
                      <a:pt x="2083" y="4"/>
                    </a:cubicBezTo>
                    <a:lnTo>
                      <a:pt x="2083" y="4"/>
                    </a:lnTo>
                    <a:cubicBezTo>
                      <a:pt x="2082" y="4"/>
                      <a:pt x="2081" y="3"/>
                      <a:pt x="2081" y="2"/>
                    </a:cubicBezTo>
                    <a:cubicBezTo>
                      <a:pt x="2081" y="1"/>
                      <a:pt x="2082" y="0"/>
                      <a:pt x="2083" y="0"/>
                    </a:cubicBezTo>
                    <a:close/>
                    <a:moveTo>
                      <a:pt x="2091" y="0"/>
                    </a:moveTo>
                    <a:lnTo>
                      <a:pt x="2091" y="0"/>
                    </a:lnTo>
                    <a:cubicBezTo>
                      <a:pt x="2092" y="0"/>
                      <a:pt x="2093" y="1"/>
                      <a:pt x="2093" y="2"/>
                    </a:cubicBezTo>
                    <a:cubicBezTo>
                      <a:pt x="2093" y="3"/>
                      <a:pt x="2092" y="4"/>
                      <a:pt x="2091" y="4"/>
                    </a:cubicBezTo>
                    <a:lnTo>
                      <a:pt x="2091" y="4"/>
                    </a:lnTo>
                    <a:cubicBezTo>
                      <a:pt x="2090" y="4"/>
                      <a:pt x="2089" y="3"/>
                      <a:pt x="2089" y="2"/>
                    </a:cubicBezTo>
                    <a:cubicBezTo>
                      <a:pt x="2089" y="1"/>
                      <a:pt x="2090" y="0"/>
                      <a:pt x="2091" y="0"/>
                    </a:cubicBezTo>
                    <a:close/>
                    <a:moveTo>
                      <a:pt x="2099" y="0"/>
                    </a:moveTo>
                    <a:lnTo>
                      <a:pt x="2099" y="0"/>
                    </a:lnTo>
                    <a:cubicBezTo>
                      <a:pt x="2100" y="0"/>
                      <a:pt x="2101" y="1"/>
                      <a:pt x="2101" y="2"/>
                    </a:cubicBezTo>
                    <a:cubicBezTo>
                      <a:pt x="2101" y="3"/>
                      <a:pt x="2100" y="4"/>
                      <a:pt x="2099" y="4"/>
                    </a:cubicBezTo>
                    <a:lnTo>
                      <a:pt x="2099" y="4"/>
                    </a:lnTo>
                    <a:cubicBezTo>
                      <a:pt x="2098" y="4"/>
                      <a:pt x="2097" y="3"/>
                      <a:pt x="2097" y="2"/>
                    </a:cubicBezTo>
                    <a:cubicBezTo>
                      <a:pt x="2097" y="1"/>
                      <a:pt x="2098" y="0"/>
                      <a:pt x="2099" y="0"/>
                    </a:cubicBezTo>
                    <a:close/>
                    <a:moveTo>
                      <a:pt x="2107" y="0"/>
                    </a:moveTo>
                    <a:lnTo>
                      <a:pt x="2107" y="0"/>
                    </a:lnTo>
                    <a:cubicBezTo>
                      <a:pt x="2108" y="0"/>
                      <a:pt x="2109" y="1"/>
                      <a:pt x="2109" y="2"/>
                    </a:cubicBezTo>
                    <a:cubicBezTo>
                      <a:pt x="2109" y="3"/>
                      <a:pt x="2108" y="4"/>
                      <a:pt x="2107" y="4"/>
                    </a:cubicBezTo>
                    <a:lnTo>
                      <a:pt x="2107" y="4"/>
                    </a:lnTo>
                    <a:cubicBezTo>
                      <a:pt x="2106" y="4"/>
                      <a:pt x="2105" y="3"/>
                      <a:pt x="2105" y="2"/>
                    </a:cubicBezTo>
                    <a:cubicBezTo>
                      <a:pt x="2105" y="1"/>
                      <a:pt x="2106" y="0"/>
                      <a:pt x="2107" y="0"/>
                    </a:cubicBezTo>
                    <a:close/>
                    <a:moveTo>
                      <a:pt x="2115" y="0"/>
                    </a:moveTo>
                    <a:lnTo>
                      <a:pt x="2115" y="0"/>
                    </a:lnTo>
                    <a:cubicBezTo>
                      <a:pt x="2116" y="0"/>
                      <a:pt x="2117" y="1"/>
                      <a:pt x="2117" y="2"/>
                    </a:cubicBezTo>
                    <a:cubicBezTo>
                      <a:pt x="2117" y="3"/>
                      <a:pt x="2116" y="4"/>
                      <a:pt x="2115" y="4"/>
                    </a:cubicBezTo>
                    <a:lnTo>
                      <a:pt x="2115" y="4"/>
                    </a:lnTo>
                    <a:cubicBezTo>
                      <a:pt x="2114" y="4"/>
                      <a:pt x="2113" y="3"/>
                      <a:pt x="2113" y="2"/>
                    </a:cubicBezTo>
                    <a:cubicBezTo>
                      <a:pt x="2113" y="1"/>
                      <a:pt x="2114" y="0"/>
                      <a:pt x="2115" y="0"/>
                    </a:cubicBezTo>
                    <a:close/>
                    <a:moveTo>
                      <a:pt x="2123" y="0"/>
                    </a:moveTo>
                    <a:lnTo>
                      <a:pt x="2123" y="0"/>
                    </a:lnTo>
                    <a:cubicBezTo>
                      <a:pt x="2124" y="0"/>
                      <a:pt x="2125" y="1"/>
                      <a:pt x="2125" y="2"/>
                    </a:cubicBezTo>
                    <a:cubicBezTo>
                      <a:pt x="2125" y="3"/>
                      <a:pt x="2124" y="4"/>
                      <a:pt x="2123" y="4"/>
                    </a:cubicBezTo>
                    <a:lnTo>
                      <a:pt x="2123" y="4"/>
                    </a:lnTo>
                    <a:cubicBezTo>
                      <a:pt x="2122" y="4"/>
                      <a:pt x="2121" y="3"/>
                      <a:pt x="2121" y="2"/>
                    </a:cubicBezTo>
                    <a:cubicBezTo>
                      <a:pt x="2121" y="1"/>
                      <a:pt x="2122" y="0"/>
                      <a:pt x="2123" y="0"/>
                    </a:cubicBezTo>
                    <a:close/>
                    <a:moveTo>
                      <a:pt x="2131" y="0"/>
                    </a:moveTo>
                    <a:lnTo>
                      <a:pt x="2131" y="0"/>
                    </a:lnTo>
                    <a:cubicBezTo>
                      <a:pt x="2132" y="0"/>
                      <a:pt x="2133" y="1"/>
                      <a:pt x="2133" y="2"/>
                    </a:cubicBezTo>
                    <a:cubicBezTo>
                      <a:pt x="2133" y="3"/>
                      <a:pt x="2132" y="4"/>
                      <a:pt x="2131" y="4"/>
                    </a:cubicBezTo>
                    <a:lnTo>
                      <a:pt x="2131" y="4"/>
                    </a:lnTo>
                    <a:cubicBezTo>
                      <a:pt x="2130" y="4"/>
                      <a:pt x="2129" y="3"/>
                      <a:pt x="2129" y="2"/>
                    </a:cubicBezTo>
                    <a:cubicBezTo>
                      <a:pt x="2129" y="1"/>
                      <a:pt x="2130" y="0"/>
                      <a:pt x="2131" y="0"/>
                    </a:cubicBezTo>
                    <a:close/>
                    <a:moveTo>
                      <a:pt x="2139" y="0"/>
                    </a:moveTo>
                    <a:lnTo>
                      <a:pt x="2139" y="0"/>
                    </a:lnTo>
                    <a:cubicBezTo>
                      <a:pt x="2140" y="0"/>
                      <a:pt x="2141" y="1"/>
                      <a:pt x="2141" y="2"/>
                    </a:cubicBezTo>
                    <a:cubicBezTo>
                      <a:pt x="2141" y="3"/>
                      <a:pt x="2140" y="4"/>
                      <a:pt x="2139" y="4"/>
                    </a:cubicBezTo>
                    <a:lnTo>
                      <a:pt x="2139" y="4"/>
                    </a:lnTo>
                    <a:cubicBezTo>
                      <a:pt x="2138" y="4"/>
                      <a:pt x="2137" y="3"/>
                      <a:pt x="2137" y="2"/>
                    </a:cubicBezTo>
                    <a:cubicBezTo>
                      <a:pt x="2137" y="1"/>
                      <a:pt x="2138" y="0"/>
                      <a:pt x="2139" y="0"/>
                    </a:cubicBezTo>
                    <a:close/>
                    <a:moveTo>
                      <a:pt x="2147" y="0"/>
                    </a:moveTo>
                    <a:lnTo>
                      <a:pt x="2147" y="0"/>
                    </a:lnTo>
                    <a:cubicBezTo>
                      <a:pt x="2148" y="0"/>
                      <a:pt x="2149" y="1"/>
                      <a:pt x="2149" y="2"/>
                    </a:cubicBezTo>
                    <a:cubicBezTo>
                      <a:pt x="2149" y="3"/>
                      <a:pt x="2148" y="4"/>
                      <a:pt x="2147" y="4"/>
                    </a:cubicBezTo>
                    <a:lnTo>
                      <a:pt x="2147" y="4"/>
                    </a:lnTo>
                    <a:cubicBezTo>
                      <a:pt x="2146" y="4"/>
                      <a:pt x="2145" y="3"/>
                      <a:pt x="2145" y="2"/>
                    </a:cubicBezTo>
                    <a:cubicBezTo>
                      <a:pt x="2145" y="1"/>
                      <a:pt x="2146" y="0"/>
                      <a:pt x="2147" y="0"/>
                    </a:cubicBezTo>
                    <a:close/>
                    <a:moveTo>
                      <a:pt x="2155" y="0"/>
                    </a:moveTo>
                    <a:lnTo>
                      <a:pt x="2155" y="0"/>
                    </a:lnTo>
                    <a:cubicBezTo>
                      <a:pt x="2156" y="0"/>
                      <a:pt x="2157" y="1"/>
                      <a:pt x="2157" y="2"/>
                    </a:cubicBezTo>
                    <a:cubicBezTo>
                      <a:pt x="2157" y="3"/>
                      <a:pt x="2156" y="4"/>
                      <a:pt x="2155" y="4"/>
                    </a:cubicBezTo>
                    <a:lnTo>
                      <a:pt x="2155" y="4"/>
                    </a:lnTo>
                    <a:cubicBezTo>
                      <a:pt x="2154" y="4"/>
                      <a:pt x="2153" y="3"/>
                      <a:pt x="2153" y="2"/>
                    </a:cubicBezTo>
                    <a:cubicBezTo>
                      <a:pt x="2153" y="1"/>
                      <a:pt x="2154" y="0"/>
                      <a:pt x="2155" y="0"/>
                    </a:cubicBezTo>
                    <a:close/>
                    <a:moveTo>
                      <a:pt x="2163" y="0"/>
                    </a:moveTo>
                    <a:lnTo>
                      <a:pt x="2163" y="0"/>
                    </a:lnTo>
                    <a:cubicBezTo>
                      <a:pt x="2164" y="0"/>
                      <a:pt x="2165" y="1"/>
                      <a:pt x="2165" y="2"/>
                    </a:cubicBezTo>
                    <a:cubicBezTo>
                      <a:pt x="2165" y="3"/>
                      <a:pt x="2164" y="4"/>
                      <a:pt x="2163" y="4"/>
                    </a:cubicBezTo>
                    <a:lnTo>
                      <a:pt x="2163" y="4"/>
                    </a:lnTo>
                    <a:cubicBezTo>
                      <a:pt x="2162" y="4"/>
                      <a:pt x="2161" y="3"/>
                      <a:pt x="2161" y="2"/>
                    </a:cubicBezTo>
                    <a:cubicBezTo>
                      <a:pt x="2161" y="1"/>
                      <a:pt x="2162" y="0"/>
                      <a:pt x="2163" y="0"/>
                    </a:cubicBezTo>
                    <a:close/>
                    <a:moveTo>
                      <a:pt x="2171" y="0"/>
                    </a:moveTo>
                    <a:lnTo>
                      <a:pt x="2171" y="0"/>
                    </a:lnTo>
                    <a:cubicBezTo>
                      <a:pt x="2172" y="0"/>
                      <a:pt x="2173" y="1"/>
                      <a:pt x="2173" y="2"/>
                    </a:cubicBezTo>
                    <a:cubicBezTo>
                      <a:pt x="2173" y="3"/>
                      <a:pt x="2172" y="4"/>
                      <a:pt x="2171" y="4"/>
                    </a:cubicBezTo>
                    <a:lnTo>
                      <a:pt x="2171" y="4"/>
                    </a:lnTo>
                    <a:cubicBezTo>
                      <a:pt x="2170" y="4"/>
                      <a:pt x="2169" y="3"/>
                      <a:pt x="2169" y="2"/>
                    </a:cubicBezTo>
                    <a:cubicBezTo>
                      <a:pt x="2169" y="1"/>
                      <a:pt x="2170" y="0"/>
                      <a:pt x="2171" y="0"/>
                    </a:cubicBezTo>
                    <a:close/>
                    <a:moveTo>
                      <a:pt x="2179" y="0"/>
                    </a:moveTo>
                    <a:lnTo>
                      <a:pt x="2179" y="0"/>
                    </a:lnTo>
                    <a:cubicBezTo>
                      <a:pt x="2180" y="0"/>
                      <a:pt x="2181" y="1"/>
                      <a:pt x="2181" y="2"/>
                    </a:cubicBezTo>
                    <a:cubicBezTo>
                      <a:pt x="2181" y="3"/>
                      <a:pt x="2180" y="4"/>
                      <a:pt x="2179" y="4"/>
                    </a:cubicBezTo>
                    <a:lnTo>
                      <a:pt x="2179" y="4"/>
                    </a:lnTo>
                    <a:cubicBezTo>
                      <a:pt x="2178" y="4"/>
                      <a:pt x="2177" y="3"/>
                      <a:pt x="2177" y="2"/>
                    </a:cubicBezTo>
                    <a:cubicBezTo>
                      <a:pt x="2177" y="1"/>
                      <a:pt x="2178" y="0"/>
                      <a:pt x="2179" y="0"/>
                    </a:cubicBezTo>
                    <a:close/>
                    <a:moveTo>
                      <a:pt x="2187" y="0"/>
                    </a:moveTo>
                    <a:lnTo>
                      <a:pt x="2187" y="0"/>
                    </a:lnTo>
                    <a:cubicBezTo>
                      <a:pt x="2188" y="0"/>
                      <a:pt x="2189" y="1"/>
                      <a:pt x="2189" y="2"/>
                    </a:cubicBezTo>
                    <a:cubicBezTo>
                      <a:pt x="2189" y="3"/>
                      <a:pt x="2188" y="4"/>
                      <a:pt x="2187" y="4"/>
                    </a:cubicBezTo>
                    <a:lnTo>
                      <a:pt x="2187" y="4"/>
                    </a:lnTo>
                    <a:cubicBezTo>
                      <a:pt x="2186" y="4"/>
                      <a:pt x="2185" y="3"/>
                      <a:pt x="2185" y="2"/>
                    </a:cubicBezTo>
                    <a:cubicBezTo>
                      <a:pt x="2185" y="1"/>
                      <a:pt x="2186" y="0"/>
                      <a:pt x="2187" y="0"/>
                    </a:cubicBezTo>
                    <a:close/>
                    <a:moveTo>
                      <a:pt x="2195" y="0"/>
                    </a:moveTo>
                    <a:lnTo>
                      <a:pt x="2195" y="0"/>
                    </a:lnTo>
                    <a:cubicBezTo>
                      <a:pt x="2196" y="0"/>
                      <a:pt x="2197" y="1"/>
                      <a:pt x="2197" y="2"/>
                    </a:cubicBezTo>
                    <a:cubicBezTo>
                      <a:pt x="2197" y="3"/>
                      <a:pt x="2196" y="4"/>
                      <a:pt x="2195" y="4"/>
                    </a:cubicBezTo>
                    <a:lnTo>
                      <a:pt x="2195" y="4"/>
                    </a:lnTo>
                    <a:cubicBezTo>
                      <a:pt x="2194" y="4"/>
                      <a:pt x="2193" y="3"/>
                      <a:pt x="2193" y="2"/>
                    </a:cubicBezTo>
                    <a:cubicBezTo>
                      <a:pt x="2193" y="1"/>
                      <a:pt x="2194" y="0"/>
                      <a:pt x="2195" y="0"/>
                    </a:cubicBezTo>
                    <a:close/>
                    <a:moveTo>
                      <a:pt x="2203" y="0"/>
                    </a:moveTo>
                    <a:lnTo>
                      <a:pt x="2203" y="0"/>
                    </a:lnTo>
                    <a:cubicBezTo>
                      <a:pt x="2204" y="0"/>
                      <a:pt x="2205" y="1"/>
                      <a:pt x="2205" y="2"/>
                    </a:cubicBezTo>
                    <a:cubicBezTo>
                      <a:pt x="2205" y="3"/>
                      <a:pt x="2204" y="4"/>
                      <a:pt x="2203" y="4"/>
                    </a:cubicBezTo>
                    <a:lnTo>
                      <a:pt x="2203" y="4"/>
                    </a:lnTo>
                    <a:cubicBezTo>
                      <a:pt x="2202" y="4"/>
                      <a:pt x="2201" y="3"/>
                      <a:pt x="2201" y="2"/>
                    </a:cubicBezTo>
                    <a:cubicBezTo>
                      <a:pt x="2201" y="1"/>
                      <a:pt x="2202" y="0"/>
                      <a:pt x="2203" y="0"/>
                    </a:cubicBezTo>
                    <a:close/>
                    <a:moveTo>
                      <a:pt x="2211" y="0"/>
                    </a:moveTo>
                    <a:lnTo>
                      <a:pt x="2211" y="0"/>
                    </a:lnTo>
                    <a:cubicBezTo>
                      <a:pt x="2212" y="0"/>
                      <a:pt x="2213" y="1"/>
                      <a:pt x="2213" y="2"/>
                    </a:cubicBezTo>
                    <a:cubicBezTo>
                      <a:pt x="2213" y="3"/>
                      <a:pt x="2212" y="4"/>
                      <a:pt x="2211" y="4"/>
                    </a:cubicBezTo>
                    <a:lnTo>
                      <a:pt x="2211" y="4"/>
                    </a:lnTo>
                    <a:cubicBezTo>
                      <a:pt x="2210" y="4"/>
                      <a:pt x="2209" y="3"/>
                      <a:pt x="2209" y="2"/>
                    </a:cubicBezTo>
                    <a:cubicBezTo>
                      <a:pt x="2209" y="1"/>
                      <a:pt x="2210" y="0"/>
                      <a:pt x="2211" y="0"/>
                    </a:cubicBezTo>
                    <a:close/>
                    <a:moveTo>
                      <a:pt x="2219" y="0"/>
                    </a:moveTo>
                    <a:lnTo>
                      <a:pt x="2219" y="0"/>
                    </a:lnTo>
                    <a:cubicBezTo>
                      <a:pt x="2220" y="0"/>
                      <a:pt x="2221" y="1"/>
                      <a:pt x="2221" y="2"/>
                    </a:cubicBezTo>
                    <a:cubicBezTo>
                      <a:pt x="2221" y="3"/>
                      <a:pt x="2220" y="4"/>
                      <a:pt x="2219" y="4"/>
                    </a:cubicBezTo>
                    <a:lnTo>
                      <a:pt x="2219" y="4"/>
                    </a:lnTo>
                    <a:cubicBezTo>
                      <a:pt x="2218" y="4"/>
                      <a:pt x="2217" y="3"/>
                      <a:pt x="2217" y="2"/>
                    </a:cubicBezTo>
                    <a:cubicBezTo>
                      <a:pt x="2217" y="1"/>
                      <a:pt x="2218" y="0"/>
                      <a:pt x="2219" y="0"/>
                    </a:cubicBezTo>
                    <a:close/>
                    <a:moveTo>
                      <a:pt x="2227" y="0"/>
                    </a:moveTo>
                    <a:lnTo>
                      <a:pt x="2227" y="0"/>
                    </a:lnTo>
                    <a:cubicBezTo>
                      <a:pt x="2228" y="0"/>
                      <a:pt x="2229" y="1"/>
                      <a:pt x="2229" y="2"/>
                    </a:cubicBezTo>
                    <a:cubicBezTo>
                      <a:pt x="2229" y="3"/>
                      <a:pt x="2228" y="4"/>
                      <a:pt x="2227" y="4"/>
                    </a:cubicBezTo>
                    <a:lnTo>
                      <a:pt x="2227" y="4"/>
                    </a:lnTo>
                    <a:cubicBezTo>
                      <a:pt x="2226" y="4"/>
                      <a:pt x="2225" y="3"/>
                      <a:pt x="2225" y="2"/>
                    </a:cubicBezTo>
                    <a:cubicBezTo>
                      <a:pt x="2225" y="1"/>
                      <a:pt x="2226" y="0"/>
                      <a:pt x="2227" y="0"/>
                    </a:cubicBezTo>
                    <a:close/>
                    <a:moveTo>
                      <a:pt x="2235" y="0"/>
                    </a:moveTo>
                    <a:lnTo>
                      <a:pt x="2235" y="0"/>
                    </a:lnTo>
                    <a:cubicBezTo>
                      <a:pt x="2236" y="0"/>
                      <a:pt x="2237" y="1"/>
                      <a:pt x="2237" y="2"/>
                    </a:cubicBezTo>
                    <a:cubicBezTo>
                      <a:pt x="2237" y="3"/>
                      <a:pt x="2236" y="4"/>
                      <a:pt x="2235" y="4"/>
                    </a:cubicBezTo>
                    <a:lnTo>
                      <a:pt x="2235" y="4"/>
                    </a:lnTo>
                    <a:cubicBezTo>
                      <a:pt x="2234" y="4"/>
                      <a:pt x="2233" y="3"/>
                      <a:pt x="2233" y="2"/>
                    </a:cubicBezTo>
                    <a:cubicBezTo>
                      <a:pt x="2233" y="1"/>
                      <a:pt x="2234" y="0"/>
                      <a:pt x="2235" y="0"/>
                    </a:cubicBezTo>
                    <a:close/>
                    <a:moveTo>
                      <a:pt x="2243" y="0"/>
                    </a:moveTo>
                    <a:lnTo>
                      <a:pt x="2243" y="0"/>
                    </a:lnTo>
                    <a:cubicBezTo>
                      <a:pt x="2244" y="0"/>
                      <a:pt x="2245" y="1"/>
                      <a:pt x="2245" y="2"/>
                    </a:cubicBezTo>
                    <a:cubicBezTo>
                      <a:pt x="2245" y="3"/>
                      <a:pt x="2244" y="4"/>
                      <a:pt x="2243" y="4"/>
                    </a:cubicBezTo>
                    <a:lnTo>
                      <a:pt x="2243" y="4"/>
                    </a:lnTo>
                    <a:cubicBezTo>
                      <a:pt x="2242" y="4"/>
                      <a:pt x="2241" y="3"/>
                      <a:pt x="2241" y="2"/>
                    </a:cubicBezTo>
                    <a:cubicBezTo>
                      <a:pt x="2241" y="1"/>
                      <a:pt x="2242" y="0"/>
                      <a:pt x="2243" y="0"/>
                    </a:cubicBezTo>
                    <a:close/>
                    <a:moveTo>
                      <a:pt x="2251" y="0"/>
                    </a:moveTo>
                    <a:lnTo>
                      <a:pt x="2251" y="0"/>
                    </a:lnTo>
                    <a:cubicBezTo>
                      <a:pt x="2252" y="0"/>
                      <a:pt x="2253" y="1"/>
                      <a:pt x="2253" y="2"/>
                    </a:cubicBezTo>
                    <a:cubicBezTo>
                      <a:pt x="2253" y="3"/>
                      <a:pt x="2252" y="4"/>
                      <a:pt x="2251" y="4"/>
                    </a:cubicBezTo>
                    <a:lnTo>
                      <a:pt x="2251" y="4"/>
                    </a:lnTo>
                    <a:cubicBezTo>
                      <a:pt x="2250" y="4"/>
                      <a:pt x="2249" y="3"/>
                      <a:pt x="2249" y="2"/>
                    </a:cubicBezTo>
                    <a:cubicBezTo>
                      <a:pt x="2249" y="1"/>
                      <a:pt x="2250" y="0"/>
                      <a:pt x="2251" y="0"/>
                    </a:cubicBezTo>
                    <a:close/>
                    <a:moveTo>
                      <a:pt x="2259" y="0"/>
                    </a:moveTo>
                    <a:lnTo>
                      <a:pt x="2259" y="0"/>
                    </a:lnTo>
                    <a:cubicBezTo>
                      <a:pt x="2260" y="0"/>
                      <a:pt x="2261" y="1"/>
                      <a:pt x="2261" y="2"/>
                    </a:cubicBezTo>
                    <a:cubicBezTo>
                      <a:pt x="2261" y="3"/>
                      <a:pt x="2260" y="4"/>
                      <a:pt x="2259" y="4"/>
                    </a:cubicBezTo>
                    <a:lnTo>
                      <a:pt x="2259" y="4"/>
                    </a:lnTo>
                    <a:cubicBezTo>
                      <a:pt x="2258" y="4"/>
                      <a:pt x="2257" y="3"/>
                      <a:pt x="2257" y="2"/>
                    </a:cubicBezTo>
                    <a:cubicBezTo>
                      <a:pt x="2257" y="1"/>
                      <a:pt x="2258" y="0"/>
                      <a:pt x="2259" y="0"/>
                    </a:cubicBezTo>
                    <a:close/>
                    <a:moveTo>
                      <a:pt x="2267" y="0"/>
                    </a:moveTo>
                    <a:lnTo>
                      <a:pt x="2267" y="0"/>
                    </a:lnTo>
                    <a:cubicBezTo>
                      <a:pt x="2268" y="0"/>
                      <a:pt x="2269" y="1"/>
                      <a:pt x="2269" y="2"/>
                    </a:cubicBezTo>
                    <a:cubicBezTo>
                      <a:pt x="2269" y="3"/>
                      <a:pt x="2268" y="4"/>
                      <a:pt x="2267" y="4"/>
                    </a:cubicBezTo>
                    <a:lnTo>
                      <a:pt x="2267" y="4"/>
                    </a:lnTo>
                    <a:cubicBezTo>
                      <a:pt x="2266" y="4"/>
                      <a:pt x="2265" y="3"/>
                      <a:pt x="2265" y="2"/>
                    </a:cubicBezTo>
                    <a:cubicBezTo>
                      <a:pt x="2265" y="1"/>
                      <a:pt x="2266" y="0"/>
                      <a:pt x="2267" y="0"/>
                    </a:cubicBezTo>
                    <a:close/>
                    <a:moveTo>
                      <a:pt x="2275" y="0"/>
                    </a:moveTo>
                    <a:lnTo>
                      <a:pt x="2275" y="0"/>
                    </a:lnTo>
                    <a:cubicBezTo>
                      <a:pt x="2276" y="0"/>
                      <a:pt x="2277" y="1"/>
                      <a:pt x="2277" y="2"/>
                    </a:cubicBezTo>
                    <a:cubicBezTo>
                      <a:pt x="2277" y="3"/>
                      <a:pt x="2276" y="4"/>
                      <a:pt x="2275" y="4"/>
                    </a:cubicBezTo>
                    <a:lnTo>
                      <a:pt x="2275" y="4"/>
                    </a:lnTo>
                    <a:cubicBezTo>
                      <a:pt x="2274" y="4"/>
                      <a:pt x="2273" y="3"/>
                      <a:pt x="2273" y="2"/>
                    </a:cubicBezTo>
                    <a:cubicBezTo>
                      <a:pt x="2273" y="1"/>
                      <a:pt x="2274" y="0"/>
                      <a:pt x="2275" y="0"/>
                    </a:cubicBezTo>
                    <a:close/>
                    <a:moveTo>
                      <a:pt x="2283" y="0"/>
                    </a:moveTo>
                    <a:lnTo>
                      <a:pt x="2283" y="0"/>
                    </a:lnTo>
                    <a:cubicBezTo>
                      <a:pt x="2284" y="0"/>
                      <a:pt x="2285" y="1"/>
                      <a:pt x="2285" y="2"/>
                    </a:cubicBezTo>
                    <a:cubicBezTo>
                      <a:pt x="2285" y="3"/>
                      <a:pt x="2284" y="4"/>
                      <a:pt x="2283" y="4"/>
                    </a:cubicBezTo>
                    <a:lnTo>
                      <a:pt x="2283" y="4"/>
                    </a:lnTo>
                    <a:cubicBezTo>
                      <a:pt x="2282" y="4"/>
                      <a:pt x="2281" y="3"/>
                      <a:pt x="2281" y="2"/>
                    </a:cubicBezTo>
                    <a:cubicBezTo>
                      <a:pt x="2281" y="1"/>
                      <a:pt x="2282" y="0"/>
                      <a:pt x="2283" y="0"/>
                    </a:cubicBezTo>
                    <a:close/>
                    <a:moveTo>
                      <a:pt x="2291" y="0"/>
                    </a:moveTo>
                    <a:lnTo>
                      <a:pt x="2291" y="0"/>
                    </a:lnTo>
                    <a:cubicBezTo>
                      <a:pt x="2292" y="0"/>
                      <a:pt x="2293" y="1"/>
                      <a:pt x="2293" y="2"/>
                    </a:cubicBezTo>
                    <a:cubicBezTo>
                      <a:pt x="2293" y="3"/>
                      <a:pt x="2292" y="4"/>
                      <a:pt x="2291" y="4"/>
                    </a:cubicBezTo>
                    <a:lnTo>
                      <a:pt x="2291" y="4"/>
                    </a:lnTo>
                    <a:cubicBezTo>
                      <a:pt x="2290" y="4"/>
                      <a:pt x="2289" y="3"/>
                      <a:pt x="2289" y="2"/>
                    </a:cubicBezTo>
                    <a:cubicBezTo>
                      <a:pt x="2289" y="1"/>
                      <a:pt x="2290" y="0"/>
                      <a:pt x="2291" y="0"/>
                    </a:cubicBezTo>
                    <a:close/>
                    <a:moveTo>
                      <a:pt x="2299" y="0"/>
                    </a:moveTo>
                    <a:lnTo>
                      <a:pt x="2299" y="0"/>
                    </a:lnTo>
                    <a:cubicBezTo>
                      <a:pt x="2300" y="0"/>
                      <a:pt x="2301" y="1"/>
                      <a:pt x="2301" y="2"/>
                    </a:cubicBezTo>
                    <a:cubicBezTo>
                      <a:pt x="2301" y="3"/>
                      <a:pt x="2300" y="4"/>
                      <a:pt x="2299" y="4"/>
                    </a:cubicBezTo>
                    <a:lnTo>
                      <a:pt x="2299" y="4"/>
                    </a:lnTo>
                    <a:cubicBezTo>
                      <a:pt x="2298" y="4"/>
                      <a:pt x="2297" y="3"/>
                      <a:pt x="2297" y="2"/>
                    </a:cubicBezTo>
                    <a:cubicBezTo>
                      <a:pt x="2297" y="1"/>
                      <a:pt x="2298" y="0"/>
                      <a:pt x="2299" y="0"/>
                    </a:cubicBezTo>
                    <a:close/>
                    <a:moveTo>
                      <a:pt x="2307" y="0"/>
                    </a:moveTo>
                    <a:lnTo>
                      <a:pt x="2307" y="0"/>
                    </a:lnTo>
                    <a:cubicBezTo>
                      <a:pt x="2308" y="0"/>
                      <a:pt x="2309" y="1"/>
                      <a:pt x="2309" y="2"/>
                    </a:cubicBezTo>
                    <a:cubicBezTo>
                      <a:pt x="2309" y="3"/>
                      <a:pt x="2308" y="4"/>
                      <a:pt x="2307" y="4"/>
                    </a:cubicBezTo>
                    <a:lnTo>
                      <a:pt x="2307" y="4"/>
                    </a:lnTo>
                    <a:cubicBezTo>
                      <a:pt x="2306" y="4"/>
                      <a:pt x="2305" y="3"/>
                      <a:pt x="2305" y="2"/>
                    </a:cubicBezTo>
                    <a:cubicBezTo>
                      <a:pt x="2305" y="1"/>
                      <a:pt x="2306" y="0"/>
                      <a:pt x="2307" y="0"/>
                    </a:cubicBezTo>
                    <a:close/>
                    <a:moveTo>
                      <a:pt x="2315" y="0"/>
                    </a:moveTo>
                    <a:lnTo>
                      <a:pt x="2315" y="0"/>
                    </a:lnTo>
                    <a:cubicBezTo>
                      <a:pt x="2316" y="0"/>
                      <a:pt x="2317" y="1"/>
                      <a:pt x="2317" y="2"/>
                    </a:cubicBezTo>
                    <a:cubicBezTo>
                      <a:pt x="2317" y="3"/>
                      <a:pt x="2316" y="4"/>
                      <a:pt x="2315" y="4"/>
                    </a:cubicBezTo>
                    <a:lnTo>
                      <a:pt x="2315" y="4"/>
                    </a:lnTo>
                    <a:cubicBezTo>
                      <a:pt x="2314" y="4"/>
                      <a:pt x="2313" y="3"/>
                      <a:pt x="2313" y="2"/>
                    </a:cubicBezTo>
                    <a:cubicBezTo>
                      <a:pt x="2313" y="1"/>
                      <a:pt x="2314" y="0"/>
                      <a:pt x="2315" y="0"/>
                    </a:cubicBezTo>
                    <a:close/>
                    <a:moveTo>
                      <a:pt x="2323" y="0"/>
                    </a:moveTo>
                    <a:lnTo>
                      <a:pt x="2323" y="0"/>
                    </a:lnTo>
                    <a:cubicBezTo>
                      <a:pt x="2324" y="0"/>
                      <a:pt x="2325" y="1"/>
                      <a:pt x="2325" y="2"/>
                    </a:cubicBezTo>
                    <a:cubicBezTo>
                      <a:pt x="2325" y="3"/>
                      <a:pt x="2324" y="4"/>
                      <a:pt x="2323" y="4"/>
                    </a:cubicBezTo>
                    <a:lnTo>
                      <a:pt x="2323" y="4"/>
                    </a:lnTo>
                    <a:cubicBezTo>
                      <a:pt x="2322" y="4"/>
                      <a:pt x="2321" y="3"/>
                      <a:pt x="2321" y="2"/>
                    </a:cubicBezTo>
                    <a:cubicBezTo>
                      <a:pt x="2321" y="1"/>
                      <a:pt x="2322" y="0"/>
                      <a:pt x="2323" y="0"/>
                    </a:cubicBezTo>
                    <a:close/>
                    <a:moveTo>
                      <a:pt x="2331" y="0"/>
                    </a:moveTo>
                    <a:lnTo>
                      <a:pt x="2331" y="0"/>
                    </a:lnTo>
                    <a:cubicBezTo>
                      <a:pt x="2332" y="0"/>
                      <a:pt x="2333" y="1"/>
                      <a:pt x="2333" y="2"/>
                    </a:cubicBezTo>
                    <a:cubicBezTo>
                      <a:pt x="2333" y="3"/>
                      <a:pt x="2332" y="4"/>
                      <a:pt x="2331" y="4"/>
                    </a:cubicBezTo>
                    <a:lnTo>
                      <a:pt x="2331" y="4"/>
                    </a:lnTo>
                    <a:cubicBezTo>
                      <a:pt x="2330" y="4"/>
                      <a:pt x="2329" y="3"/>
                      <a:pt x="2329" y="2"/>
                    </a:cubicBezTo>
                    <a:cubicBezTo>
                      <a:pt x="2329" y="1"/>
                      <a:pt x="2330" y="0"/>
                      <a:pt x="2331" y="0"/>
                    </a:cubicBezTo>
                    <a:close/>
                    <a:moveTo>
                      <a:pt x="2339" y="0"/>
                    </a:moveTo>
                    <a:lnTo>
                      <a:pt x="2339" y="0"/>
                    </a:lnTo>
                    <a:cubicBezTo>
                      <a:pt x="2340" y="0"/>
                      <a:pt x="2341" y="1"/>
                      <a:pt x="2341" y="2"/>
                    </a:cubicBezTo>
                    <a:cubicBezTo>
                      <a:pt x="2341" y="3"/>
                      <a:pt x="2340" y="4"/>
                      <a:pt x="2339" y="4"/>
                    </a:cubicBezTo>
                    <a:lnTo>
                      <a:pt x="2339" y="4"/>
                    </a:lnTo>
                    <a:cubicBezTo>
                      <a:pt x="2338" y="4"/>
                      <a:pt x="2337" y="3"/>
                      <a:pt x="2337" y="2"/>
                    </a:cubicBezTo>
                    <a:cubicBezTo>
                      <a:pt x="2337" y="1"/>
                      <a:pt x="2338" y="0"/>
                      <a:pt x="2339" y="0"/>
                    </a:cubicBezTo>
                    <a:close/>
                    <a:moveTo>
                      <a:pt x="2347" y="0"/>
                    </a:moveTo>
                    <a:lnTo>
                      <a:pt x="2347" y="0"/>
                    </a:lnTo>
                    <a:cubicBezTo>
                      <a:pt x="2348" y="0"/>
                      <a:pt x="2349" y="1"/>
                      <a:pt x="2349" y="2"/>
                    </a:cubicBezTo>
                    <a:cubicBezTo>
                      <a:pt x="2349" y="3"/>
                      <a:pt x="2348" y="4"/>
                      <a:pt x="2347" y="4"/>
                    </a:cubicBezTo>
                    <a:lnTo>
                      <a:pt x="2347" y="4"/>
                    </a:lnTo>
                    <a:cubicBezTo>
                      <a:pt x="2346" y="4"/>
                      <a:pt x="2345" y="3"/>
                      <a:pt x="2345" y="2"/>
                    </a:cubicBezTo>
                    <a:cubicBezTo>
                      <a:pt x="2345" y="1"/>
                      <a:pt x="2346" y="0"/>
                      <a:pt x="2347" y="0"/>
                    </a:cubicBezTo>
                    <a:close/>
                    <a:moveTo>
                      <a:pt x="2355" y="0"/>
                    </a:moveTo>
                    <a:lnTo>
                      <a:pt x="2355" y="0"/>
                    </a:lnTo>
                    <a:cubicBezTo>
                      <a:pt x="2356" y="0"/>
                      <a:pt x="2357" y="1"/>
                      <a:pt x="2357" y="2"/>
                    </a:cubicBezTo>
                    <a:cubicBezTo>
                      <a:pt x="2357" y="3"/>
                      <a:pt x="2356" y="4"/>
                      <a:pt x="2355" y="4"/>
                    </a:cubicBezTo>
                    <a:lnTo>
                      <a:pt x="2355" y="4"/>
                    </a:lnTo>
                    <a:cubicBezTo>
                      <a:pt x="2354" y="4"/>
                      <a:pt x="2353" y="3"/>
                      <a:pt x="2353" y="2"/>
                    </a:cubicBezTo>
                    <a:cubicBezTo>
                      <a:pt x="2353" y="1"/>
                      <a:pt x="2354" y="0"/>
                      <a:pt x="2355" y="0"/>
                    </a:cubicBezTo>
                    <a:close/>
                    <a:moveTo>
                      <a:pt x="2363" y="0"/>
                    </a:moveTo>
                    <a:lnTo>
                      <a:pt x="2363" y="0"/>
                    </a:lnTo>
                    <a:cubicBezTo>
                      <a:pt x="2364" y="0"/>
                      <a:pt x="2365" y="1"/>
                      <a:pt x="2365" y="2"/>
                    </a:cubicBezTo>
                    <a:cubicBezTo>
                      <a:pt x="2365" y="3"/>
                      <a:pt x="2364" y="4"/>
                      <a:pt x="2363" y="4"/>
                    </a:cubicBezTo>
                    <a:lnTo>
                      <a:pt x="2363" y="4"/>
                    </a:lnTo>
                    <a:cubicBezTo>
                      <a:pt x="2362" y="4"/>
                      <a:pt x="2361" y="3"/>
                      <a:pt x="2361" y="2"/>
                    </a:cubicBezTo>
                    <a:cubicBezTo>
                      <a:pt x="2361" y="1"/>
                      <a:pt x="2362" y="0"/>
                      <a:pt x="2363" y="0"/>
                    </a:cubicBezTo>
                    <a:close/>
                    <a:moveTo>
                      <a:pt x="2371" y="0"/>
                    </a:moveTo>
                    <a:lnTo>
                      <a:pt x="2371" y="0"/>
                    </a:lnTo>
                    <a:cubicBezTo>
                      <a:pt x="2372" y="0"/>
                      <a:pt x="2373" y="1"/>
                      <a:pt x="2373" y="2"/>
                    </a:cubicBezTo>
                    <a:cubicBezTo>
                      <a:pt x="2373" y="3"/>
                      <a:pt x="2372" y="4"/>
                      <a:pt x="2371" y="4"/>
                    </a:cubicBezTo>
                    <a:lnTo>
                      <a:pt x="2371" y="4"/>
                    </a:lnTo>
                    <a:cubicBezTo>
                      <a:pt x="2370" y="4"/>
                      <a:pt x="2369" y="3"/>
                      <a:pt x="2369" y="2"/>
                    </a:cubicBezTo>
                    <a:cubicBezTo>
                      <a:pt x="2369" y="1"/>
                      <a:pt x="2370" y="0"/>
                      <a:pt x="2371" y="0"/>
                    </a:cubicBezTo>
                    <a:close/>
                    <a:moveTo>
                      <a:pt x="2379" y="0"/>
                    </a:moveTo>
                    <a:lnTo>
                      <a:pt x="2379" y="0"/>
                    </a:lnTo>
                    <a:cubicBezTo>
                      <a:pt x="2380" y="0"/>
                      <a:pt x="2381" y="1"/>
                      <a:pt x="2381" y="2"/>
                    </a:cubicBezTo>
                    <a:cubicBezTo>
                      <a:pt x="2381" y="3"/>
                      <a:pt x="2380" y="4"/>
                      <a:pt x="2379" y="4"/>
                    </a:cubicBezTo>
                    <a:lnTo>
                      <a:pt x="2379" y="4"/>
                    </a:lnTo>
                    <a:cubicBezTo>
                      <a:pt x="2378" y="4"/>
                      <a:pt x="2377" y="3"/>
                      <a:pt x="2377" y="2"/>
                    </a:cubicBezTo>
                    <a:cubicBezTo>
                      <a:pt x="2377" y="1"/>
                      <a:pt x="2378" y="0"/>
                      <a:pt x="2379" y="0"/>
                    </a:cubicBezTo>
                    <a:close/>
                    <a:moveTo>
                      <a:pt x="2387" y="0"/>
                    </a:moveTo>
                    <a:lnTo>
                      <a:pt x="2387" y="0"/>
                    </a:lnTo>
                    <a:cubicBezTo>
                      <a:pt x="2388" y="0"/>
                      <a:pt x="2389" y="1"/>
                      <a:pt x="2389" y="2"/>
                    </a:cubicBezTo>
                    <a:cubicBezTo>
                      <a:pt x="2389" y="3"/>
                      <a:pt x="2388" y="4"/>
                      <a:pt x="2387" y="4"/>
                    </a:cubicBezTo>
                    <a:lnTo>
                      <a:pt x="2387" y="4"/>
                    </a:lnTo>
                    <a:cubicBezTo>
                      <a:pt x="2386" y="4"/>
                      <a:pt x="2385" y="3"/>
                      <a:pt x="2385" y="2"/>
                    </a:cubicBezTo>
                    <a:cubicBezTo>
                      <a:pt x="2385" y="1"/>
                      <a:pt x="2386" y="0"/>
                      <a:pt x="2387" y="0"/>
                    </a:cubicBezTo>
                    <a:close/>
                    <a:moveTo>
                      <a:pt x="2395" y="0"/>
                    </a:moveTo>
                    <a:lnTo>
                      <a:pt x="2395" y="0"/>
                    </a:lnTo>
                    <a:cubicBezTo>
                      <a:pt x="2396" y="0"/>
                      <a:pt x="2397" y="1"/>
                      <a:pt x="2397" y="2"/>
                    </a:cubicBezTo>
                    <a:cubicBezTo>
                      <a:pt x="2397" y="3"/>
                      <a:pt x="2396" y="4"/>
                      <a:pt x="2395" y="4"/>
                    </a:cubicBezTo>
                    <a:lnTo>
                      <a:pt x="2395" y="4"/>
                    </a:lnTo>
                    <a:cubicBezTo>
                      <a:pt x="2394" y="4"/>
                      <a:pt x="2393" y="3"/>
                      <a:pt x="2393" y="2"/>
                    </a:cubicBezTo>
                    <a:cubicBezTo>
                      <a:pt x="2393" y="1"/>
                      <a:pt x="2394" y="0"/>
                      <a:pt x="2395" y="0"/>
                    </a:cubicBezTo>
                    <a:close/>
                    <a:moveTo>
                      <a:pt x="2403" y="0"/>
                    </a:moveTo>
                    <a:lnTo>
                      <a:pt x="2403" y="0"/>
                    </a:lnTo>
                    <a:cubicBezTo>
                      <a:pt x="2404" y="0"/>
                      <a:pt x="2405" y="1"/>
                      <a:pt x="2405" y="2"/>
                    </a:cubicBezTo>
                    <a:cubicBezTo>
                      <a:pt x="2405" y="3"/>
                      <a:pt x="2404" y="4"/>
                      <a:pt x="2403" y="4"/>
                    </a:cubicBezTo>
                    <a:lnTo>
                      <a:pt x="2403" y="4"/>
                    </a:lnTo>
                    <a:cubicBezTo>
                      <a:pt x="2402" y="4"/>
                      <a:pt x="2401" y="3"/>
                      <a:pt x="2401" y="2"/>
                    </a:cubicBezTo>
                    <a:cubicBezTo>
                      <a:pt x="2401" y="1"/>
                      <a:pt x="2402" y="0"/>
                      <a:pt x="2403" y="0"/>
                    </a:cubicBezTo>
                    <a:close/>
                    <a:moveTo>
                      <a:pt x="2411" y="0"/>
                    </a:moveTo>
                    <a:lnTo>
                      <a:pt x="2411" y="0"/>
                    </a:lnTo>
                    <a:cubicBezTo>
                      <a:pt x="2412" y="0"/>
                      <a:pt x="2413" y="1"/>
                      <a:pt x="2413" y="2"/>
                    </a:cubicBezTo>
                    <a:cubicBezTo>
                      <a:pt x="2413" y="3"/>
                      <a:pt x="2412" y="4"/>
                      <a:pt x="2411" y="4"/>
                    </a:cubicBezTo>
                    <a:lnTo>
                      <a:pt x="2411" y="4"/>
                    </a:lnTo>
                    <a:cubicBezTo>
                      <a:pt x="2410" y="4"/>
                      <a:pt x="2409" y="3"/>
                      <a:pt x="2409" y="2"/>
                    </a:cubicBezTo>
                    <a:cubicBezTo>
                      <a:pt x="2409" y="1"/>
                      <a:pt x="2410" y="0"/>
                      <a:pt x="2411" y="0"/>
                    </a:cubicBezTo>
                    <a:close/>
                    <a:moveTo>
                      <a:pt x="2419" y="0"/>
                    </a:moveTo>
                    <a:lnTo>
                      <a:pt x="2419" y="0"/>
                    </a:lnTo>
                    <a:cubicBezTo>
                      <a:pt x="2420" y="0"/>
                      <a:pt x="2421" y="1"/>
                      <a:pt x="2421" y="2"/>
                    </a:cubicBezTo>
                    <a:cubicBezTo>
                      <a:pt x="2421" y="3"/>
                      <a:pt x="2420" y="4"/>
                      <a:pt x="2419" y="4"/>
                    </a:cubicBezTo>
                    <a:lnTo>
                      <a:pt x="2419" y="4"/>
                    </a:lnTo>
                    <a:cubicBezTo>
                      <a:pt x="2418" y="4"/>
                      <a:pt x="2417" y="3"/>
                      <a:pt x="2417" y="2"/>
                    </a:cubicBezTo>
                    <a:cubicBezTo>
                      <a:pt x="2417" y="1"/>
                      <a:pt x="2418" y="0"/>
                      <a:pt x="2419" y="0"/>
                    </a:cubicBezTo>
                    <a:close/>
                    <a:moveTo>
                      <a:pt x="2427" y="0"/>
                    </a:moveTo>
                    <a:lnTo>
                      <a:pt x="2427" y="0"/>
                    </a:lnTo>
                    <a:cubicBezTo>
                      <a:pt x="2428" y="0"/>
                      <a:pt x="2429" y="1"/>
                      <a:pt x="2429" y="2"/>
                    </a:cubicBezTo>
                    <a:cubicBezTo>
                      <a:pt x="2429" y="3"/>
                      <a:pt x="2428" y="4"/>
                      <a:pt x="2427" y="4"/>
                    </a:cubicBezTo>
                    <a:lnTo>
                      <a:pt x="2427" y="4"/>
                    </a:lnTo>
                    <a:cubicBezTo>
                      <a:pt x="2426" y="4"/>
                      <a:pt x="2425" y="3"/>
                      <a:pt x="2425" y="2"/>
                    </a:cubicBezTo>
                    <a:cubicBezTo>
                      <a:pt x="2425" y="1"/>
                      <a:pt x="2426" y="0"/>
                      <a:pt x="2427" y="0"/>
                    </a:cubicBezTo>
                    <a:close/>
                    <a:moveTo>
                      <a:pt x="2435" y="0"/>
                    </a:moveTo>
                    <a:lnTo>
                      <a:pt x="2435" y="0"/>
                    </a:lnTo>
                    <a:cubicBezTo>
                      <a:pt x="2436" y="0"/>
                      <a:pt x="2437" y="1"/>
                      <a:pt x="2437" y="2"/>
                    </a:cubicBezTo>
                    <a:cubicBezTo>
                      <a:pt x="2437" y="3"/>
                      <a:pt x="2436" y="4"/>
                      <a:pt x="2435" y="4"/>
                    </a:cubicBezTo>
                    <a:lnTo>
                      <a:pt x="2435" y="4"/>
                    </a:lnTo>
                    <a:cubicBezTo>
                      <a:pt x="2434" y="4"/>
                      <a:pt x="2433" y="3"/>
                      <a:pt x="2433" y="2"/>
                    </a:cubicBezTo>
                    <a:cubicBezTo>
                      <a:pt x="2433" y="1"/>
                      <a:pt x="2434" y="0"/>
                      <a:pt x="2435" y="0"/>
                    </a:cubicBezTo>
                    <a:close/>
                    <a:moveTo>
                      <a:pt x="2443" y="0"/>
                    </a:moveTo>
                    <a:lnTo>
                      <a:pt x="2443" y="0"/>
                    </a:lnTo>
                    <a:cubicBezTo>
                      <a:pt x="2444" y="0"/>
                      <a:pt x="2445" y="1"/>
                      <a:pt x="2445" y="2"/>
                    </a:cubicBezTo>
                    <a:cubicBezTo>
                      <a:pt x="2445" y="3"/>
                      <a:pt x="2444" y="4"/>
                      <a:pt x="2443" y="4"/>
                    </a:cubicBezTo>
                    <a:lnTo>
                      <a:pt x="2443" y="4"/>
                    </a:lnTo>
                    <a:cubicBezTo>
                      <a:pt x="2442" y="4"/>
                      <a:pt x="2441" y="3"/>
                      <a:pt x="2441" y="2"/>
                    </a:cubicBezTo>
                    <a:cubicBezTo>
                      <a:pt x="2441" y="1"/>
                      <a:pt x="2442" y="0"/>
                      <a:pt x="2443" y="0"/>
                    </a:cubicBezTo>
                    <a:close/>
                    <a:moveTo>
                      <a:pt x="2451" y="0"/>
                    </a:moveTo>
                    <a:lnTo>
                      <a:pt x="2451" y="0"/>
                    </a:lnTo>
                    <a:cubicBezTo>
                      <a:pt x="2452" y="0"/>
                      <a:pt x="2453" y="1"/>
                      <a:pt x="2453" y="2"/>
                    </a:cubicBezTo>
                    <a:cubicBezTo>
                      <a:pt x="2453" y="3"/>
                      <a:pt x="2452" y="4"/>
                      <a:pt x="2451" y="4"/>
                    </a:cubicBezTo>
                    <a:lnTo>
                      <a:pt x="2451" y="4"/>
                    </a:lnTo>
                    <a:cubicBezTo>
                      <a:pt x="2450" y="4"/>
                      <a:pt x="2449" y="3"/>
                      <a:pt x="2449" y="2"/>
                    </a:cubicBezTo>
                    <a:cubicBezTo>
                      <a:pt x="2449" y="1"/>
                      <a:pt x="2450" y="0"/>
                      <a:pt x="2451" y="0"/>
                    </a:cubicBezTo>
                    <a:close/>
                    <a:moveTo>
                      <a:pt x="2459" y="0"/>
                    </a:moveTo>
                    <a:lnTo>
                      <a:pt x="2459" y="0"/>
                    </a:lnTo>
                    <a:cubicBezTo>
                      <a:pt x="2460" y="0"/>
                      <a:pt x="2461" y="1"/>
                      <a:pt x="2461" y="2"/>
                    </a:cubicBezTo>
                    <a:cubicBezTo>
                      <a:pt x="2461" y="3"/>
                      <a:pt x="2460" y="4"/>
                      <a:pt x="2459" y="4"/>
                    </a:cubicBezTo>
                    <a:lnTo>
                      <a:pt x="2459" y="4"/>
                    </a:lnTo>
                    <a:cubicBezTo>
                      <a:pt x="2458" y="4"/>
                      <a:pt x="2457" y="3"/>
                      <a:pt x="2457" y="2"/>
                    </a:cubicBezTo>
                    <a:cubicBezTo>
                      <a:pt x="2457" y="1"/>
                      <a:pt x="2458" y="0"/>
                      <a:pt x="2459" y="0"/>
                    </a:cubicBezTo>
                    <a:close/>
                    <a:moveTo>
                      <a:pt x="2467" y="0"/>
                    </a:moveTo>
                    <a:lnTo>
                      <a:pt x="2467" y="0"/>
                    </a:lnTo>
                    <a:cubicBezTo>
                      <a:pt x="2468" y="0"/>
                      <a:pt x="2469" y="1"/>
                      <a:pt x="2469" y="2"/>
                    </a:cubicBezTo>
                    <a:cubicBezTo>
                      <a:pt x="2469" y="3"/>
                      <a:pt x="2468" y="4"/>
                      <a:pt x="2467" y="4"/>
                    </a:cubicBezTo>
                    <a:lnTo>
                      <a:pt x="2467" y="4"/>
                    </a:lnTo>
                    <a:cubicBezTo>
                      <a:pt x="2466" y="4"/>
                      <a:pt x="2465" y="3"/>
                      <a:pt x="2465" y="2"/>
                    </a:cubicBezTo>
                    <a:cubicBezTo>
                      <a:pt x="2465" y="1"/>
                      <a:pt x="2466" y="0"/>
                      <a:pt x="2467" y="0"/>
                    </a:cubicBezTo>
                    <a:close/>
                    <a:moveTo>
                      <a:pt x="2475" y="0"/>
                    </a:moveTo>
                    <a:lnTo>
                      <a:pt x="2475" y="0"/>
                    </a:lnTo>
                    <a:cubicBezTo>
                      <a:pt x="2476" y="0"/>
                      <a:pt x="2477" y="1"/>
                      <a:pt x="2477" y="2"/>
                    </a:cubicBezTo>
                    <a:cubicBezTo>
                      <a:pt x="2477" y="3"/>
                      <a:pt x="2476" y="4"/>
                      <a:pt x="2475" y="4"/>
                    </a:cubicBezTo>
                    <a:lnTo>
                      <a:pt x="2475" y="4"/>
                    </a:lnTo>
                    <a:cubicBezTo>
                      <a:pt x="2474" y="4"/>
                      <a:pt x="2473" y="3"/>
                      <a:pt x="2473" y="2"/>
                    </a:cubicBezTo>
                    <a:cubicBezTo>
                      <a:pt x="2473" y="1"/>
                      <a:pt x="2474" y="0"/>
                      <a:pt x="2475" y="0"/>
                    </a:cubicBezTo>
                    <a:close/>
                    <a:moveTo>
                      <a:pt x="2483" y="0"/>
                    </a:moveTo>
                    <a:lnTo>
                      <a:pt x="2483" y="0"/>
                    </a:lnTo>
                    <a:cubicBezTo>
                      <a:pt x="2484" y="0"/>
                      <a:pt x="2485" y="1"/>
                      <a:pt x="2485" y="2"/>
                    </a:cubicBezTo>
                    <a:cubicBezTo>
                      <a:pt x="2485" y="3"/>
                      <a:pt x="2484" y="4"/>
                      <a:pt x="2483" y="4"/>
                    </a:cubicBezTo>
                    <a:lnTo>
                      <a:pt x="2483" y="4"/>
                    </a:lnTo>
                    <a:cubicBezTo>
                      <a:pt x="2482" y="4"/>
                      <a:pt x="2481" y="3"/>
                      <a:pt x="2481" y="2"/>
                    </a:cubicBezTo>
                    <a:cubicBezTo>
                      <a:pt x="2481" y="1"/>
                      <a:pt x="2482" y="0"/>
                      <a:pt x="2483" y="0"/>
                    </a:cubicBezTo>
                    <a:close/>
                    <a:moveTo>
                      <a:pt x="2491" y="0"/>
                    </a:moveTo>
                    <a:lnTo>
                      <a:pt x="2491" y="0"/>
                    </a:lnTo>
                    <a:cubicBezTo>
                      <a:pt x="2492" y="0"/>
                      <a:pt x="2493" y="1"/>
                      <a:pt x="2493" y="2"/>
                    </a:cubicBezTo>
                    <a:cubicBezTo>
                      <a:pt x="2493" y="3"/>
                      <a:pt x="2492" y="4"/>
                      <a:pt x="2491" y="4"/>
                    </a:cubicBezTo>
                    <a:lnTo>
                      <a:pt x="2491" y="4"/>
                    </a:lnTo>
                    <a:cubicBezTo>
                      <a:pt x="2490" y="4"/>
                      <a:pt x="2489" y="3"/>
                      <a:pt x="2489" y="2"/>
                    </a:cubicBezTo>
                    <a:cubicBezTo>
                      <a:pt x="2489" y="1"/>
                      <a:pt x="2490" y="0"/>
                      <a:pt x="2491" y="0"/>
                    </a:cubicBezTo>
                    <a:close/>
                    <a:moveTo>
                      <a:pt x="2499" y="0"/>
                    </a:moveTo>
                    <a:lnTo>
                      <a:pt x="2499" y="0"/>
                    </a:lnTo>
                    <a:cubicBezTo>
                      <a:pt x="2500" y="0"/>
                      <a:pt x="2501" y="1"/>
                      <a:pt x="2501" y="2"/>
                    </a:cubicBezTo>
                    <a:cubicBezTo>
                      <a:pt x="2501" y="3"/>
                      <a:pt x="2500" y="4"/>
                      <a:pt x="2499" y="4"/>
                    </a:cubicBezTo>
                    <a:lnTo>
                      <a:pt x="2499" y="4"/>
                    </a:lnTo>
                    <a:cubicBezTo>
                      <a:pt x="2498" y="4"/>
                      <a:pt x="2497" y="3"/>
                      <a:pt x="2497" y="2"/>
                    </a:cubicBezTo>
                    <a:cubicBezTo>
                      <a:pt x="2497" y="1"/>
                      <a:pt x="2498" y="0"/>
                      <a:pt x="2499" y="0"/>
                    </a:cubicBezTo>
                    <a:close/>
                    <a:moveTo>
                      <a:pt x="2507" y="0"/>
                    </a:moveTo>
                    <a:lnTo>
                      <a:pt x="2507" y="0"/>
                    </a:lnTo>
                    <a:cubicBezTo>
                      <a:pt x="2508" y="0"/>
                      <a:pt x="2509" y="1"/>
                      <a:pt x="2509" y="2"/>
                    </a:cubicBezTo>
                    <a:cubicBezTo>
                      <a:pt x="2509" y="3"/>
                      <a:pt x="2508" y="4"/>
                      <a:pt x="2507" y="4"/>
                    </a:cubicBezTo>
                    <a:lnTo>
                      <a:pt x="2507" y="4"/>
                    </a:lnTo>
                    <a:cubicBezTo>
                      <a:pt x="2506" y="4"/>
                      <a:pt x="2505" y="3"/>
                      <a:pt x="2505" y="2"/>
                    </a:cubicBezTo>
                    <a:cubicBezTo>
                      <a:pt x="2505" y="1"/>
                      <a:pt x="2506" y="0"/>
                      <a:pt x="2507" y="0"/>
                    </a:cubicBezTo>
                    <a:close/>
                    <a:moveTo>
                      <a:pt x="2515" y="0"/>
                    </a:moveTo>
                    <a:lnTo>
                      <a:pt x="2515" y="0"/>
                    </a:lnTo>
                    <a:cubicBezTo>
                      <a:pt x="2516" y="0"/>
                      <a:pt x="2517" y="1"/>
                      <a:pt x="2517" y="2"/>
                    </a:cubicBezTo>
                    <a:cubicBezTo>
                      <a:pt x="2517" y="3"/>
                      <a:pt x="2516" y="4"/>
                      <a:pt x="2515" y="4"/>
                    </a:cubicBezTo>
                    <a:lnTo>
                      <a:pt x="2515" y="4"/>
                    </a:lnTo>
                    <a:cubicBezTo>
                      <a:pt x="2514" y="4"/>
                      <a:pt x="2513" y="3"/>
                      <a:pt x="2513" y="2"/>
                    </a:cubicBezTo>
                    <a:cubicBezTo>
                      <a:pt x="2513" y="1"/>
                      <a:pt x="2514" y="0"/>
                      <a:pt x="2515" y="0"/>
                    </a:cubicBezTo>
                    <a:close/>
                    <a:moveTo>
                      <a:pt x="2523" y="0"/>
                    </a:moveTo>
                    <a:lnTo>
                      <a:pt x="2523" y="0"/>
                    </a:lnTo>
                    <a:cubicBezTo>
                      <a:pt x="2524" y="0"/>
                      <a:pt x="2525" y="1"/>
                      <a:pt x="2525" y="2"/>
                    </a:cubicBezTo>
                    <a:cubicBezTo>
                      <a:pt x="2525" y="3"/>
                      <a:pt x="2524" y="4"/>
                      <a:pt x="2523" y="4"/>
                    </a:cubicBezTo>
                    <a:lnTo>
                      <a:pt x="2523" y="4"/>
                    </a:lnTo>
                    <a:cubicBezTo>
                      <a:pt x="2522" y="4"/>
                      <a:pt x="2521" y="3"/>
                      <a:pt x="2521" y="2"/>
                    </a:cubicBezTo>
                    <a:cubicBezTo>
                      <a:pt x="2521" y="1"/>
                      <a:pt x="2522" y="0"/>
                      <a:pt x="2523" y="0"/>
                    </a:cubicBezTo>
                    <a:close/>
                    <a:moveTo>
                      <a:pt x="2531" y="0"/>
                    </a:moveTo>
                    <a:lnTo>
                      <a:pt x="2531" y="0"/>
                    </a:lnTo>
                    <a:cubicBezTo>
                      <a:pt x="2532" y="0"/>
                      <a:pt x="2533" y="1"/>
                      <a:pt x="2533" y="2"/>
                    </a:cubicBezTo>
                    <a:cubicBezTo>
                      <a:pt x="2533" y="3"/>
                      <a:pt x="2532" y="4"/>
                      <a:pt x="2531" y="4"/>
                    </a:cubicBezTo>
                    <a:lnTo>
                      <a:pt x="2531" y="4"/>
                    </a:lnTo>
                    <a:cubicBezTo>
                      <a:pt x="2530" y="4"/>
                      <a:pt x="2529" y="3"/>
                      <a:pt x="2529" y="2"/>
                    </a:cubicBezTo>
                    <a:cubicBezTo>
                      <a:pt x="2529" y="1"/>
                      <a:pt x="2530" y="0"/>
                      <a:pt x="2531" y="0"/>
                    </a:cubicBezTo>
                    <a:close/>
                    <a:moveTo>
                      <a:pt x="2539" y="0"/>
                    </a:moveTo>
                    <a:lnTo>
                      <a:pt x="2539" y="0"/>
                    </a:lnTo>
                    <a:cubicBezTo>
                      <a:pt x="2540" y="0"/>
                      <a:pt x="2541" y="1"/>
                      <a:pt x="2541" y="2"/>
                    </a:cubicBezTo>
                    <a:cubicBezTo>
                      <a:pt x="2541" y="3"/>
                      <a:pt x="2540" y="4"/>
                      <a:pt x="2539" y="4"/>
                    </a:cubicBezTo>
                    <a:lnTo>
                      <a:pt x="2539" y="4"/>
                    </a:lnTo>
                    <a:cubicBezTo>
                      <a:pt x="2538" y="4"/>
                      <a:pt x="2537" y="3"/>
                      <a:pt x="2537" y="2"/>
                    </a:cubicBezTo>
                    <a:cubicBezTo>
                      <a:pt x="2537" y="1"/>
                      <a:pt x="2538" y="0"/>
                      <a:pt x="2539" y="0"/>
                    </a:cubicBezTo>
                    <a:close/>
                    <a:moveTo>
                      <a:pt x="2547" y="0"/>
                    </a:moveTo>
                    <a:lnTo>
                      <a:pt x="2547" y="0"/>
                    </a:lnTo>
                    <a:cubicBezTo>
                      <a:pt x="2548" y="0"/>
                      <a:pt x="2549" y="1"/>
                      <a:pt x="2549" y="2"/>
                    </a:cubicBezTo>
                    <a:cubicBezTo>
                      <a:pt x="2549" y="3"/>
                      <a:pt x="2548" y="4"/>
                      <a:pt x="2547" y="4"/>
                    </a:cubicBezTo>
                    <a:lnTo>
                      <a:pt x="2547" y="4"/>
                    </a:lnTo>
                    <a:cubicBezTo>
                      <a:pt x="2546" y="4"/>
                      <a:pt x="2545" y="3"/>
                      <a:pt x="2545" y="2"/>
                    </a:cubicBezTo>
                    <a:cubicBezTo>
                      <a:pt x="2545" y="1"/>
                      <a:pt x="2546" y="0"/>
                      <a:pt x="2547" y="0"/>
                    </a:cubicBezTo>
                    <a:close/>
                    <a:moveTo>
                      <a:pt x="2555" y="0"/>
                    </a:moveTo>
                    <a:lnTo>
                      <a:pt x="2555" y="0"/>
                    </a:lnTo>
                    <a:cubicBezTo>
                      <a:pt x="2556" y="0"/>
                      <a:pt x="2557" y="1"/>
                      <a:pt x="2557" y="2"/>
                    </a:cubicBezTo>
                    <a:cubicBezTo>
                      <a:pt x="2557" y="3"/>
                      <a:pt x="2556" y="4"/>
                      <a:pt x="2555" y="4"/>
                    </a:cubicBezTo>
                    <a:lnTo>
                      <a:pt x="2555" y="4"/>
                    </a:lnTo>
                    <a:cubicBezTo>
                      <a:pt x="2554" y="4"/>
                      <a:pt x="2553" y="3"/>
                      <a:pt x="2553" y="2"/>
                    </a:cubicBezTo>
                    <a:cubicBezTo>
                      <a:pt x="2553" y="1"/>
                      <a:pt x="2554" y="0"/>
                      <a:pt x="2555" y="0"/>
                    </a:cubicBezTo>
                    <a:close/>
                    <a:moveTo>
                      <a:pt x="2563" y="0"/>
                    </a:moveTo>
                    <a:lnTo>
                      <a:pt x="2563" y="0"/>
                    </a:lnTo>
                    <a:cubicBezTo>
                      <a:pt x="2564" y="0"/>
                      <a:pt x="2565" y="1"/>
                      <a:pt x="2565" y="2"/>
                    </a:cubicBezTo>
                    <a:cubicBezTo>
                      <a:pt x="2565" y="3"/>
                      <a:pt x="2564" y="4"/>
                      <a:pt x="2563" y="4"/>
                    </a:cubicBezTo>
                    <a:lnTo>
                      <a:pt x="2563" y="4"/>
                    </a:lnTo>
                    <a:cubicBezTo>
                      <a:pt x="2562" y="4"/>
                      <a:pt x="2561" y="3"/>
                      <a:pt x="2561" y="2"/>
                    </a:cubicBezTo>
                    <a:cubicBezTo>
                      <a:pt x="2561" y="1"/>
                      <a:pt x="2562" y="0"/>
                      <a:pt x="2563" y="0"/>
                    </a:cubicBezTo>
                    <a:close/>
                    <a:moveTo>
                      <a:pt x="2571" y="0"/>
                    </a:moveTo>
                    <a:lnTo>
                      <a:pt x="2571" y="0"/>
                    </a:lnTo>
                    <a:cubicBezTo>
                      <a:pt x="2572" y="0"/>
                      <a:pt x="2573" y="1"/>
                      <a:pt x="2573" y="2"/>
                    </a:cubicBezTo>
                    <a:cubicBezTo>
                      <a:pt x="2573" y="3"/>
                      <a:pt x="2572" y="4"/>
                      <a:pt x="2571" y="4"/>
                    </a:cubicBezTo>
                    <a:lnTo>
                      <a:pt x="2571" y="4"/>
                    </a:lnTo>
                    <a:cubicBezTo>
                      <a:pt x="2570" y="4"/>
                      <a:pt x="2569" y="3"/>
                      <a:pt x="2569" y="2"/>
                    </a:cubicBezTo>
                    <a:cubicBezTo>
                      <a:pt x="2569" y="1"/>
                      <a:pt x="2570" y="0"/>
                      <a:pt x="2571" y="0"/>
                    </a:cubicBezTo>
                    <a:close/>
                    <a:moveTo>
                      <a:pt x="2579" y="0"/>
                    </a:moveTo>
                    <a:lnTo>
                      <a:pt x="2579" y="0"/>
                    </a:lnTo>
                    <a:cubicBezTo>
                      <a:pt x="2580" y="0"/>
                      <a:pt x="2581" y="1"/>
                      <a:pt x="2581" y="2"/>
                    </a:cubicBezTo>
                    <a:cubicBezTo>
                      <a:pt x="2581" y="3"/>
                      <a:pt x="2580" y="4"/>
                      <a:pt x="2579" y="4"/>
                    </a:cubicBezTo>
                    <a:lnTo>
                      <a:pt x="2579" y="4"/>
                    </a:lnTo>
                    <a:cubicBezTo>
                      <a:pt x="2578" y="4"/>
                      <a:pt x="2577" y="3"/>
                      <a:pt x="2577" y="2"/>
                    </a:cubicBezTo>
                    <a:cubicBezTo>
                      <a:pt x="2577" y="1"/>
                      <a:pt x="2578" y="0"/>
                      <a:pt x="2579" y="0"/>
                    </a:cubicBezTo>
                    <a:close/>
                    <a:moveTo>
                      <a:pt x="2587" y="0"/>
                    </a:moveTo>
                    <a:lnTo>
                      <a:pt x="2587" y="0"/>
                    </a:lnTo>
                    <a:cubicBezTo>
                      <a:pt x="2588" y="0"/>
                      <a:pt x="2589" y="1"/>
                      <a:pt x="2589" y="2"/>
                    </a:cubicBezTo>
                    <a:cubicBezTo>
                      <a:pt x="2589" y="3"/>
                      <a:pt x="2588" y="4"/>
                      <a:pt x="2587" y="4"/>
                    </a:cubicBezTo>
                    <a:lnTo>
                      <a:pt x="2587" y="4"/>
                    </a:lnTo>
                    <a:cubicBezTo>
                      <a:pt x="2586" y="4"/>
                      <a:pt x="2585" y="3"/>
                      <a:pt x="2585" y="2"/>
                    </a:cubicBezTo>
                    <a:cubicBezTo>
                      <a:pt x="2585" y="1"/>
                      <a:pt x="2586" y="0"/>
                      <a:pt x="2587" y="0"/>
                    </a:cubicBezTo>
                    <a:close/>
                    <a:moveTo>
                      <a:pt x="2595" y="0"/>
                    </a:moveTo>
                    <a:lnTo>
                      <a:pt x="2595" y="0"/>
                    </a:lnTo>
                    <a:cubicBezTo>
                      <a:pt x="2596" y="0"/>
                      <a:pt x="2597" y="1"/>
                      <a:pt x="2597" y="2"/>
                    </a:cubicBezTo>
                    <a:cubicBezTo>
                      <a:pt x="2597" y="3"/>
                      <a:pt x="2596" y="4"/>
                      <a:pt x="2595" y="4"/>
                    </a:cubicBezTo>
                    <a:lnTo>
                      <a:pt x="2595" y="4"/>
                    </a:lnTo>
                    <a:cubicBezTo>
                      <a:pt x="2594" y="4"/>
                      <a:pt x="2593" y="3"/>
                      <a:pt x="2593" y="2"/>
                    </a:cubicBezTo>
                    <a:cubicBezTo>
                      <a:pt x="2593" y="1"/>
                      <a:pt x="2594" y="0"/>
                      <a:pt x="2595" y="0"/>
                    </a:cubicBezTo>
                    <a:close/>
                    <a:moveTo>
                      <a:pt x="2603" y="0"/>
                    </a:moveTo>
                    <a:lnTo>
                      <a:pt x="2603" y="0"/>
                    </a:lnTo>
                    <a:cubicBezTo>
                      <a:pt x="2604" y="0"/>
                      <a:pt x="2605" y="1"/>
                      <a:pt x="2605" y="2"/>
                    </a:cubicBezTo>
                    <a:cubicBezTo>
                      <a:pt x="2605" y="3"/>
                      <a:pt x="2604" y="4"/>
                      <a:pt x="2603" y="4"/>
                    </a:cubicBezTo>
                    <a:lnTo>
                      <a:pt x="2603" y="4"/>
                    </a:lnTo>
                    <a:cubicBezTo>
                      <a:pt x="2602" y="4"/>
                      <a:pt x="2601" y="3"/>
                      <a:pt x="2601" y="2"/>
                    </a:cubicBezTo>
                    <a:cubicBezTo>
                      <a:pt x="2601" y="1"/>
                      <a:pt x="2602" y="0"/>
                      <a:pt x="2603" y="0"/>
                    </a:cubicBezTo>
                    <a:close/>
                    <a:moveTo>
                      <a:pt x="2611" y="0"/>
                    </a:moveTo>
                    <a:lnTo>
                      <a:pt x="2611" y="0"/>
                    </a:lnTo>
                    <a:cubicBezTo>
                      <a:pt x="2612" y="0"/>
                      <a:pt x="2613" y="1"/>
                      <a:pt x="2613" y="2"/>
                    </a:cubicBezTo>
                    <a:cubicBezTo>
                      <a:pt x="2613" y="3"/>
                      <a:pt x="2612" y="4"/>
                      <a:pt x="2611" y="4"/>
                    </a:cubicBezTo>
                    <a:lnTo>
                      <a:pt x="2611" y="4"/>
                    </a:lnTo>
                    <a:cubicBezTo>
                      <a:pt x="2610" y="4"/>
                      <a:pt x="2609" y="3"/>
                      <a:pt x="2609" y="2"/>
                    </a:cubicBezTo>
                    <a:cubicBezTo>
                      <a:pt x="2609" y="1"/>
                      <a:pt x="2610" y="0"/>
                      <a:pt x="2611" y="0"/>
                    </a:cubicBezTo>
                    <a:close/>
                    <a:moveTo>
                      <a:pt x="2619" y="0"/>
                    </a:moveTo>
                    <a:lnTo>
                      <a:pt x="2619" y="0"/>
                    </a:lnTo>
                    <a:cubicBezTo>
                      <a:pt x="2620" y="0"/>
                      <a:pt x="2621" y="1"/>
                      <a:pt x="2621" y="2"/>
                    </a:cubicBezTo>
                    <a:cubicBezTo>
                      <a:pt x="2621" y="3"/>
                      <a:pt x="2620" y="4"/>
                      <a:pt x="2619" y="4"/>
                    </a:cubicBezTo>
                    <a:lnTo>
                      <a:pt x="2619" y="4"/>
                    </a:lnTo>
                    <a:cubicBezTo>
                      <a:pt x="2618" y="4"/>
                      <a:pt x="2617" y="3"/>
                      <a:pt x="2617" y="2"/>
                    </a:cubicBezTo>
                    <a:cubicBezTo>
                      <a:pt x="2617" y="1"/>
                      <a:pt x="2618" y="0"/>
                      <a:pt x="2619" y="0"/>
                    </a:cubicBezTo>
                    <a:close/>
                    <a:moveTo>
                      <a:pt x="2627" y="0"/>
                    </a:moveTo>
                    <a:lnTo>
                      <a:pt x="2627" y="0"/>
                    </a:lnTo>
                    <a:cubicBezTo>
                      <a:pt x="2628" y="0"/>
                      <a:pt x="2629" y="1"/>
                      <a:pt x="2629" y="2"/>
                    </a:cubicBezTo>
                    <a:cubicBezTo>
                      <a:pt x="2629" y="3"/>
                      <a:pt x="2628" y="4"/>
                      <a:pt x="2627" y="4"/>
                    </a:cubicBezTo>
                    <a:lnTo>
                      <a:pt x="2627" y="4"/>
                    </a:lnTo>
                    <a:cubicBezTo>
                      <a:pt x="2626" y="4"/>
                      <a:pt x="2625" y="3"/>
                      <a:pt x="2625" y="2"/>
                    </a:cubicBezTo>
                    <a:cubicBezTo>
                      <a:pt x="2625" y="1"/>
                      <a:pt x="2626" y="0"/>
                      <a:pt x="2627" y="0"/>
                    </a:cubicBezTo>
                    <a:close/>
                    <a:moveTo>
                      <a:pt x="2635" y="0"/>
                    </a:moveTo>
                    <a:lnTo>
                      <a:pt x="2635" y="0"/>
                    </a:lnTo>
                    <a:cubicBezTo>
                      <a:pt x="2636" y="0"/>
                      <a:pt x="2637" y="1"/>
                      <a:pt x="2637" y="2"/>
                    </a:cubicBezTo>
                    <a:cubicBezTo>
                      <a:pt x="2637" y="3"/>
                      <a:pt x="2636" y="4"/>
                      <a:pt x="2635" y="4"/>
                    </a:cubicBezTo>
                    <a:lnTo>
                      <a:pt x="2635" y="4"/>
                    </a:lnTo>
                    <a:cubicBezTo>
                      <a:pt x="2634" y="4"/>
                      <a:pt x="2633" y="3"/>
                      <a:pt x="2633" y="2"/>
                    </a:cubicBezTo>
                    <a:cubicBezTo>
                      <a:pt x="2633" y="1"/>
                      <a:pt x="2634" y="0"/>
                      <a:pt x="2635" y="0"/>
                    </a:cubicBezTo>
                    <a:close/>
                    <a:moveTo>
                      <a:pt x="2643" y="0"/>
                    </a:moveTo>
                    <a:lnTo>
                      <a:pt x="2643" y="0"/>
                    </a:lnTo>
                    <a:cubicBezTo>
                      <a:pt x="2644" y="0"/>
                      <a:pt x="2645" y="1"/>
                      <a:pt x="2645" y="2"/>
                    </a:cubicBezTo>
                    <a:cubicBezTo>
                      <a:pt x="2645" y="3"/>
                      <a:pt x="2644" y="4"/>
                      <a:pt x="2643" y="4"/>
                    </a:cubicBezTo>
                    <a:lnTo>
                      <a:pt x="2643" y="4"/>
                    </a:lnTo>
                    <a:cubicBezTo>
                      <a:pt x="2642" y="4"/>
                      <a:pt x="2641" y="3"/>
                      <a:pt x="2641" y="2"/>
                    </a:cubicBezTo>
                    <a:cubicBezTo>
                      <a:pt x="2641" y="1"/>
                      <a:pt x="2642" y="0"/>
                      <a:pt x="2643" y="0"/>
                    </a:cubicBezTo>
                    <a:close/>
                    <a:moveTo>
                      <a:pt x="2651" y="0"/>
                    </a:moveTo>
                    <a:lnTo>
                      <a:pt x="2651" y="0"/>
                    </a:lnTo>
                    <a:cubicBezTo>
                      <a:pt x="2652" y="0"/>
                      <a:pt x="2653" y="1"/>
                      <a:pt x="2653" y="2"/>
                    </a:cubicBezTo>
                    <a:cubicBezTo>
                      <a:pt x="2653" y="3"/>
                      <a:pt x="2652" y="4"/>
                      <a:pt x="2651" y="4"/>
                    </a:cubicBezTo>
                    <a:lnTo>
                      <a:pt x="2651" y="4"/>
                    </a:lnTo>
                    <a:cubicBezTo>
                      <a:pt x="2650" y="4"/>
                      <a:pt x="2649" y="3"/>
                      <a:pt x="2649" y="2"/>
                    </a:cubicBezTo>
                    <a:cubicBezTo>
                      <a:pt x="2649" y="1"/>
                      <a:pt x="2650" y="0"/>
                      <a:pt x="2651" y="0"/>
                    </a:cubicBezTo>
                    <a:close/>
                    <a:moveTo>
                      <a:pt x="2659" y="0"/>
                    </a:moveTo>
                    <a:lnTo>
                      <a:pt x="2659" y="0"/>
                    </a:lnTo>
                    <a:cubicBezTo>
                      <a:pt x="2660" y="0"/>
                      <a:pt x="2661" y="1"/>
                      <a:pt x="2661" y="2"/>
                    </a:cubicBezTo>
                    <a:cubicBezTo>
                      <a:pt x="2661" y="3"/>
                      <a:pt x="2660" y="4"/>
                      <a:pt x="2659" y="4"/>
                    </a:cubicBezTo>
                    <a:lnTo>
                      <a:pt x="2659" y="4"/>
                    </a:lnTo>
                    <a:cubicBezTo>
                      <a:pt x="2658" y="4"/>
                      <a:pt x="2657" y="3"/>
                      <a:pt x="2657" y="2"/>
                    </a:cubicBezTo>
                    <a:cubicBezTo>
                      <a:pt x="2657" y="1"/>
                      <a:pt x="2658" y="0"/>
                      <a:pt x="2659" y="0"/>
                    </a:cubicBezTo>
                    <a:close/>
                    <a:moveTo>
                      <a:pt x="2667" y="0"/>
                    </a:moveTo>
                    <a:lnTo>
                      <a:pt x="2667" y="0"/>
                    </a:lnTo>
                    <a:cubicBezTo>
                      <a:pt x="2668" y="0"/>
                      <a:pt x="2669" y="1"/>
                      <a:pt x="2669" y="2"/>
                    </a:cubicBezTo>
                    <a:cubicBezTo>
                      <a:pt x="2669" y="3"/>
                      <a:pt x="2668" y="4"/>
                      <a:pt x="2667" y="4"/>
                    </a:cubicBezTo>
                    <a:lnTo>
                      <a:pt x="2667" y="4"/>
                    </a:lnTo>
                    <a:cubicBezTo>
                      <a:pt x="2666" y="4"/>
                      <a:pt x="2665" y="3"/>
                      <a:pt x="2665" y="2"/>
                    </a:cubicBezTo>
                    <a:cubicBezTo>
                      <a:pt x="2665" y="1"/>
                      <a:pt x="2666" y="0"/>
                      <a:pt x="2667" y="0"/>
                    </a:cubicBezTo>
                    <a:close/>
                    <a:moveTo>
                      <a:pt x="2675" y="0"/>
                    </a:moveTo>
                    <a:lnTo>
                      <a:pt x="2675" y="0"/>
                    </a:lnTo>
                    <a:cubicBezTo>
                      <a:pt x="2676" y="0"/>
                      <a:pt x="2677" y="1"/>
                      <a:pt x="2677" y="2"/>
                    </a:cubicBezTo>
                    <a:cubicBezTo>
                      <a:pt x="2677" y="3"/>
                      <a:pt x="2676" y="4"/>
                      <a:pt x="2675" y="4"/>
                    </a:cubicBezTo>
                    <a:lnTo>
                      <a:pt x="2675" y="4"/>
                    </a:lnTo>
                    <a:cubicBezTo>
                      <a:pt x="2674" y="4"/>
                      <a:pt x="2673" y="3"/>
                      <a:pt x="2673" y="2"/>
                    </a:cubicBezTo>
                    <a:cubicBezTo>
                      <a:pt x="2673" y="1"/>
                      <a:pt x="2674" y="0"/>
                      <a:pt x="2675" y="0"/>
                    </a:cubicBezTo>
                    <a:close/>
                    <a:moveTo>
                      <a:pt x="2683" y="0"/>
                    </a:moveTo>
                    <a:lnTo>
                      <a:pt x="2683" y="0"/>
                    </a:lnTo>
                    <a:cubicBezTo>
                      <a:pt x="2684" y="0"/>
                      <a:pt x="2685" y="1"/>
                      <a:pt x="2685" y="2"/>
                    </a:cubicBezTo>
                    <a:cubicBezTo>
                      <a:pt x="2685" y="3"/>
                      <a:pt x="2684" y="4"/>
                      <a:pt x="2683" y="4"/>
                    </a:cubicBezTo>
                    <a:lnTo>
                      <a:pt x="2683" y="4"/>
                    </a:lnTo>
                    <a:cubicBezTo>
                      <a:pt x="2682" y="4"/>
                      <a:pt x="2681" y="3"/>
                      <a:pt x="2681" y="2"/>
                    </a:cubicBezTo>
                    <a:cubicBezTo>
                      <a:pt x="2681" y="1"/>
                      <a:pt x="2682" y="0"/>
                      <a:pt x="2683" y="0"/>
                    </a:cubicBezTo>
                    <a:close/>
                    <a:moveTo>
                      <a:pt x="2691" y="0"/>
                    </a:moveTo>
                    <a:lnTo>
                      <a:pt x="2691" y="0"/>
                    </a:lnTo>
                    <a:cubicBezTo>
                      <a:pt x="2692" y="0"/>
                      <a:pt x="2693" y="1"/>
                      <a:pt x="2693" y="2"/>
                    </a:cubicBezTo>
                    <a:cubicBezTo>
                      <a:pt x="2693" y="3"/>
                      <a:pt x="2692" y="4"/>
                      <a:pt x="2691" y="4"/>
                    </a:cubicBezTo>
                    <a:lnTo>
                      <a:pt x="2691" y="4"/>
                    </a:lnTo>
                    <a:cubicBezTo>
                      <a:pt x="2690" y="4"/>
                      <a:pt x="2689" y="3"/>
                      <a:pt x="2689" y="2"/>
                    </a:cubicBezTo>
                    <a:cubicBezTo>
                      <a:pt x="2689" y="1"/>
                      <a:pt x="2690" y="0"/>
                      <a:pt x="2691" y="0"/>
                    </a:cubicBezTo>
                    <a:close/>
                    <a:moveTo>
                      <a:pt x="2699" y="0"/>
                    </a:moveTo>
                    <a:lnTo>
                      <a:pt x="2699" y="0"/>
                    </a:lnTo>
                    <a:cubicBezTo>
                      <a:pt x="2700" y="0"/>
                      <a:pt x="2701" y="1"/>
                      <a:pt x="2701" y="2"/>
                    </a:cubicBezTo>
                    <a:cubicBezTo>
                      <a:pt x="2701" y="3"/>
                      <a:pt x="2700" y="4"/>
                      <a:pt x="2699" y="4"/>
                    </a:cubicBezTo>
                    <a:lnTo>
                      <a:pt x="2699" y="4"/>
                    </a:lnTo>
                    <a:cubicBezTo>
                      <a:pt x="2698" y="4"/>
                      <a:pt x="2697" y="3"/>
                      <a:pt x="2697" y="2"/>
                    </a:cubicBezTo>
                    <a:cubicBezTo>
                      <a:pt x="2697" y="1"/>
                      <a:pt x="2698" y="0"/>
                      <a:pt x="2699" y="0"/>
                    </a:cubicBezTo>
                    <a:close/>
                    <a:moveTo>
                      <a:pt x="2707" y="0"/>
                    </a:moveTo>
                    <a:lnTo>
                      <a:pt x="2707" y="0"/>
                    </a:lnTo>
                    <a:cubicBezTo>
                      <a:pt x="2708" y="0"/>
                      <a:pt x="2709" y="1"/>
                      <a:pt x="2709" y="2"/>
                    </a:cubicBezTo>
                    <a:cubicBezTo>
                      <a:pt x="2709" y="3"/>
                      <a:pt x="2708" y="4"/>
                      <a:pt x="2707" y="4"/>
                    </a:cubicBezTo>
                    <a:lnTo>
                      <a:pt x="2707" y="4"/>
                    </a:lnTo>
                    <a:cubicBezTo>
                      <a:pt x="2706" y="4"/>
                      <a:pt x="2705" y="3"/>
                      <a:pt x="2705" y="2"/>
                    </a:cubicBezTo>
                    <a:cubicBezTo>
                      <a:pt x="2705" y="1"/>
                      <a:pt x="2706" y="0"/>
                      <a:pt x="2707" y="0"/>
                    </a:cubicBezTo>
                    <a:close/>
                    <a:moveTo>
                      <a:pt x="2715" y="0"/>
                    </a:moveTo>
                    <a:lnTo>
                      <a:pt x="2715" y="0"/>
                    </a:lnTo>
                    <a:cubicBezTo>
                      <a:pt x="2716" y="0"/>
                      <a:pt x="2717" y="1"/>
                      <a:pt x="2717" y="2"/>
                    </a:cubicBezTo>
                    <a:cubicBezTo>
                      <a:pt x="2717" y="3"/>
                      <a:pt x="2716" y="4"/>
                      <a:pt x="2715" y="4"/>
                    </a:cubicBezTo>
                    <a:lnTo>
                      <a:pt x="2715" y="4"/>
                    </a:lnTo>
                    <a:cubicBezTo>
                      <a:pt x="2714" y="4"/>
                      <a:pt x="2713" y="3"/>
                      <a:pt x="2713" y="2"/>
                    </a:cubicBezTo>
                    <a:cubicBezTo>
                      <a:pt x="2713" y="1"/>
                      <a:pt x="2714" y="0"/>
                      <a:pt x="2715" y="0"/>
                    </a:cubicBezTo>
                    <a:close/>
                    <a:moveTo>
                      <a:pt x="2723" y="0"/>
                    </a:moveTo>
                    <a:lnTo>
                      <a:pt x="2723" y="0"/>
                    </a:lnTo>
                    <a:cubicBezTo>
                      <a:pt x="2724" y="0"/>
                      <a:pt x="2725" y="1"/>
                      <a:pt x="2725" y="2"/>
                    </a:cubicBezTo>
                    <a:cubicBezTo>
                      <a:pt x="2725" y="3"/>
                      <a:pt x="2724" y="4"/>
                      <a:pt x="2723" y="4"/>
                    </a:cubicBezTo>
                    <a:lnTo>
                      <a:pt x="2723" y="4"/>
                    </a:lnTo>
                    <a:cubicBezTo>
                      <a:pt x="2722" y="4"/>
                      <a:pt x="2721" y="3"/>
                      <a:pt x="2721" y="2"/>
                    </a:cubicBezTo>
                    <a:cubicBezTo>
                      <a:pt x="2721" y="1"/>
                      <a:pt x="2722" y="0"/>
                      <a:pt x="2723" y="0"/>
                    </a:cubicBezTo>
                    <a:close/>
                    <a:moveTo>
                      <a:pt x="2731" y="0"/>
                    </a:moveTo>
                    <a:lnTo>
                      <a:pt x="2731" y="0"/>
                    </a:lnTo>
                    <a:cubicBezTo>
                      <a:pt x="2732" y="0"/>
                      <a:pt x="2733" y="1"/>
                      <a:pt x="2733" y="2"/>
                    </a:cubicBezTo>
                    <a:cubicBezTo>
                      <a:pt x="2733" y="3"/>
                      <a:pt x="2732" y="4"/>
                      <a:pt x="2731" y="4"/>
                    </a:cubicBezTo>
                    <a:lnTo>
                      <a:pt x="2731" y="4"/>
                    </a:lnTo>
                    <a:cubicBezTo>
                      <a:pt x="2730" y="4"/>
                      <a:pt x="2729" y="3"/>
                      <a:pt x="2729" y="2"/>
                    </a:cubicBezTo>
                    <a:cubicBezTo>
                      <a:pt x="2729" y="1"/>
                      <a:pt x="2730" y="0"/>
                      <a:pt x="2731" y="0"/>
                    </a:cubicBezTo>
                    <a:close/>
                    <a:moveTo>
                      <a:pt x="2739" y="0"/>
                    </a:moveTo>
                    <a:lnTo>
                      <a:pt x="2739" y="0"/>
                    </a:lnTo>
                    <a:cubicBezTo>
                      <a:pt x="2740" y="0"/>
                      <a:pt x="2741" y="1"/>
                      <a:pt x="2741" y="2"/>
                    </a:cubicBezTo>
                    <a:cubicBezTo>
                      <a:pt x="2741" y="3"/>
                      <a:pt x="2740" y="4"/>
                      <a:pt x="2739" y="4"/>
                    </a:cubicBezTo>
                    <a:lnTo>
                      <a:pt x="2739" y="4"/>
                    </a:lnTo>
                    <a:cubicBezTo>
                      <a:pt x="2738" y="4"/>
                      <a:pt x="2737" y="3"/>
                      <a:pt x="2737" y="2"/>
                    </a:cubicBezTo>
                    <a:cubicBezTo>
                      <a:pt x="2737" y="1"/>
                      <a:pt x="2738" y="0"/>
                      <a:pt x="2739" y="0"/>
                    </a:cubicBezTo>
                    <a:close/>
                    <a:moveTo>
                      <a:pt x="2747" y="0"/>
                    </a:moveTo>
                    <a:lnTo>
                      <a:pt x="2747" y="0"/>
                    </a:lnTo>
                    <a:cubicBezTo>
                      <a:pt x="2748" y="0"/>
                      <a:pt x="2749" y="1"/>
                      <a:pt x="2749" y="2"/>
                    </a:cubicBezTo>
                    <a:cubicBezTo>
                      <a:pt x="2749" y="3"/>
                      <a:pt x="2748" y="4"/>
                      <a:pt x="2747" y="4"/>
                    </a:cubicBezTo>
                    <a:lnTo>
                      <a:pt x="2747" y="4"/>
                    </a:lnTo>
                    <a:cubicBezTo>
                      <a:pt x="2746" y="4"/>
                      <a:pt x="2745" y="3"/>
                      <a:pt x="2745" y="2"/>
                    </a:cubicBezTo>
                    <a:cubicBezTo>
                      <a:pt x="2745" y="1"/>
                      <a:pt x="2746" y="0"/>
                      <a:pt x="2747" y="0"/>
                    </a:cubicBezTo>
                    <a:close/>
                    <a:moveTo>
                      <a:pt x="2755" y="0"/>
                    </a:moveTo>
                    <a:lnTo>
                      <a:pt x="2755" y="0"/>
                    </a:lnTo>
                    <a:cubicBezTo>
                      <a:pt x="2756" y="0"/>
                      <a:pt x="2757" y="1"/>
                      <a:pt x="2757" y="2"/>
                    </a:cubicBezTo>
                    <a:cubicBezTo>
                      <a:pt x="2757" y="3"/>
                      <a:pt x="2756" y="4"/>
                      <a:pt x="2755" y="4"/>
                    </a:cubicBezTo>
                    <a:lnTo>
                      <a:pt x="2755" y="4"/>
                    </a:lnTo>
                    <a:cubicBezTo>
                      <a:pt x="2754" y="4"/>
                      <a:pt x="2753" y="3"/>
                      <a:pt x="2753" y="2"/>
                    </a:cubicBezTo>
                    <a:cubicBezTo>
                      <a:pt x="2753" y="1"/>
                      <a:pt x="2754" y="0"/>
                      <a:pt x="2755" y="0"/>
                    </a:cubicBezTo>
                    <a:close/>
                    <a:moveTo>
                      <a:pt x="2763" y="0"/>
                    </a:moveTo>
                    <a:lnTo>
                      <a:pt x="2763" y="0"/>
                    </a:lnTo>
                    <a:cubicBezTo>
                      <a:pt x="2764" y="0"/>
                      <a:pt x="2765" y="1"/>
                      <a:pt x="2765" y="2"/>
                    </a:cubicBezTo>
                    <a:cubicBezTo>
                      <a:pt x="2765" y="3"/>
                      <a:pt x="2764" y="4"/>
                      <a:pt x="2763" y="4"/>
                    </a:cubicBezTo>
                    <a:lnTo>
                      <a:pt x="2763" y="4"/>
                    </a:lnTo>
                    <a:cubicBezTo>
                      <a:pt x="2762" y="4"/>
                      <a:pt x="2761" y="3"/>
                      <a:pt x="2761" y="2"/>
                    </a:cubicBezTo>
                    <a:cubicBezTo>
                      <a:pt x="2761" y="1"/>
                      <a:pt x="2762" y="0"/>
                      <a:pt x="2763" y="0"/>
                    </a:cubicBezTo>
                    <a:close/>
                    <a:moveTo>
                      <a:pt x="2771" y="0"/>
                    </a:moveTo>
                    <a:lnTo>
                      <a:pt x="2771" y="0"/>
                    </a:lnTo>
                    <a:cubicBezTo>
                      <a:pt x="2772" y="0"/>
                      <a:pt x="2773" y="1"/>
                      <a:pt x="2773" y="2"/>
                    </a:cubicBezTo>
                    <a:cubicBezTo>
                      <a:pt x="2773" y="3"/>
                      <a:pt x="2772" y="4"/>
                      <a:pt x="2771" y="4"/>
                    </a:cubicBezTo>
                    <a:lnTo>
                      <a:pt x="2771" y="4"/>
                    </a:lnTo>
                    <a:cubicBezTo>
                      <a:pt x="2770" y="4"/>
                      <a:pt x="2769" y="3"/>
                      <a:pt x="2769" y="2"/>
                    </a:cubicBezTo>
                    <a:cubicBezTo>
                      <a:pt x="2769" y="1"/>
                      <a:pt x="2770" y="0"/>
                      <a:pt x="2771" y="0"/>
                    </a:cubicBezTo>
                    <a:close/>
                    <a:moveTo>
                      <a:pt x="2779" y="0"/>
                    </a:moveTo>
                    <a:lnTo>
                      <a:pt x="2779" y="0"/>
                    </a:lnTo>
                    <a:cubicBezTo>
                      <a:pt x="2780" y="0"/>
                      <a:pt x="2781" y="1"/>
                      <a:pt x="2781" y="2"/>
                    </a:cubicBezTo>
                    <a:cubicBezTo>
                      <a:pt x="2781" y="3"/>
                      <a:pt x="2780" y="4"/>
                      <a:pt x="2779" y="4"/>
                    </a:cubicBezTo>
                    <a:lnTo>
                      <a:pt x="2779" y="4"/>
                    </a:lnTo>
                    <a:cubicBezTo>
                      <a:pt x="2778" y="4"/>
                      <a:pt x="2777" y="3"/>
                      <a:pt x="2777" y="2"/>
                    </a:cubicBezTo>
                    <a:cubicBezTo>
                      <a:pt x="2777" y="1"/>
                      <a:pt x="2778" y="0"/>
                      <a:pt x="2779" y="0"/>
                    </a:cubicBezTo>
                    <a:close/>
                    <a:moveTo>
                      <a:pt x="2787" y="0"/>
                    </a:moveTo>
                    <a:lnTo>
                      <a:pt x="2787" y="0"/>
                    </a:lnTo>
                    <a:cubicBezTo>
                      <a:pt x="2788" y="0"/>
                      <a:pt x="2789" y="1"/>
                      <a:pt x="2789" y="2"/>
                    </a:cubicBezTo>
                    <a:cubicBezTo>
                      <a:pt x="2789" y="3"/>
                      <a:pt x="2788" y="4"/>
                      <a:pt x="2787" y="4"/>
                    </a:cubicBezTo>
                    <a:lnTo>
                      <a:pt x="2787" y="4"/>
                    </a:lnTo>
                    <a:cubicBezTo>
                      <a:pt x="2786" y="4"/>
                      <a:pt x="2785" y="3"/>
                      <a:pt x="2785" y="2"/>
                    </a:cubicBezTo>
                    <a:cubicBezTo>
                      <a:pt x="2785" y="1"/>
                      <a:pt x="2786" y="0"/>
                      <a:pt x="2787" y="0"/>
                    </a:cubicBezTo>
                    <a:close/>
                    <a:moveTo>
                      <a:pt x="2795" y="0"/>
                    </a:moveTo>
                    <a:lnTo>
                      <a:pt x="2795" y="0"/>
                    </a:lnTo>
                    <a:cubicBezTo>
                      <a:pt x="2796" y="0"/>
                      <a:pt x="2797" y="1"/>
                      <a:pt x="2797" y="2"/>
                    </a:cubicBezTo>
                    <a:cubicBezTo>
                      <a:pt x="2797" y="3"/>
                      <a:pt x="2796" y="4"/>
                      <a:pt x="2795" y="4"/>
                    </a:cubicBezTo>
                    <a:lnTo>
                      <a:pt x="2795" y="4"/>
                    </a:lnTo>
                    <a:cubicBezTo>
                      <a:pt x="2794" y="4"/>
                      <a:pt x="2793" y="3"/>
                      <a:pt x="2793" y="2"/>
                    </a:cubicBezTo>
                    <a:cubicBezTo>
                      <a:pt x="2793" y="1"/>
                      <a:pt x="2794" y="0"/>
                      <a:pt x="2795" y="0"/>
                    </a:cubicBezTo>
                    <a:close/>
                    <a:moveTo>
                      <a:pt x="2803" y="0"/>
                    </a:moveTo>
                    <a:lnTo>
                      <a:pt x="2803" y="0"/>
                    </a:lnTo>
                    <a:cubicBezTo>
                      <a:pt x="2804" y="0"/>
                      <a:pt x="2805" y="1"/>
                      <a:pt x="2805" y="2"/>
                    </a:cubicBezTo>
                    <a:cubicBezTo>
                      <a:pt x="2805" y="3"/>
                      <a:pt x="2804" y="4"/>
                      <a:pt x="2803" y="4"/>
                    </a:cubicBezTo>
                    <a:lnTo>
                      <a:pt x="2803" y="4"/>
                    </a:lnTo>
                    <a:cubicBezTo>
                      <a:pt x="2802" y="4"/>
                      <a:pt x="2801" y="3"/>
                      <a:pt x="2801" y="2"/>
                    </a:cubicBezTo>
                    <a:cubicBezTo>
                      <a:pt x="2801" y="1"/>
                      <a:pt x="2802" y="0"/>
                      <a:pt x="2803" y="0"/>
                    </a:cubicBezTo>
                    <a:close/>
                    <a:moveTo>
                      <a:pt x="2811" y="0"/>
                    </a:moveTo>
                    <a:lnTo>
                      <a:pt x="2811" y="0"/>
                    </a:lnTo>
                    <a:cubicBezTo>
                      <a:pt x="2812" y="0"/>
                      <a:pt x="2813" y="1"/>
                      <a:pt x="2813" y="2"/>
                    </a:cubicBezTo>
                    <a:cubicBezTo>
                      <a:pt x="2813" y="3"/>
                      <a:pt x="2812" y="4"/>
                      <a:pt x="2811" y="4"/>
                    </a:cubicBezTo>
                    <a:lnTo>
                      <a:pt x="2811" y="4"/>
                    </a:lnTo>
                    <a:cubicBezTo>
                      <a:pt x="2810" y="4"/>
                      <a:pt x="2809" y="3"/>
                      <a:pt x="2809" y="2"/>
                    </a:cubicBezTo>
                    <a:cubicBezTo>
                      <a:pt x="2809" y="1"/>
                      <a:pt x="2810" y="0"/>
                      <a:pt x="2811" y="0"/>
                    </a:cubicBezTo>
                    <a:close/>
                    <a:moveTo>
                      <a:pt x="2819" y="0"/>
                    </a:moveTo>
                    <a:lnTo>
                      <a:pt x="2819" y="0"/>
                    </a:lnTo>
                    <a:cubicBezTo>
                      <a:pt x="2820" y="0"/>
                      <a:pt x="2821" y="1"/>
                      <a:pt x="2821" y="2"/>
                    </a:cubicBezTo>
                    <a:cubicBezTo>
                      <a:pt x="2821" y="3"/>
                      <a:pt x="2820" y="4"/>
                      <a:pt x="2819" y="4"/>
                    </a:cubicBezTo>
                    <a:lnTo>
                      <a:pt x="2819" y="4"/>
                    </a:lnTo>
                    <a:cubicBezTo>
                      <a:pt x="2818" y="4"/>
                      <a:pt x="2817" y="3"/>
                      <a:pt x="2817" y="2"/>
                    </a:cubicBezTo>
                    <a:cubicBezTo>
                      <a:pt x="2817" y="1"/>
                      <a:pt x="2818" y="0"/>
                      <a:pt x="2819" y="0"/>
                    </a:cubicBezTo>
                    <a:close/>
                    <a:moveTo>
                      <a:pt x="2827" y="0"/>
                    </a:moveTo>
                    <a:lnTo>
                      <a:pt x="2827" y="0"/>
                    </a:lnTo>
                    <a:cubicBezTo>
                      <a:pt x="2828" y="0"/>
                      <a:pt x="2829" y="1"/>
                      <a:pt x="2829" y="2"/>
                    </a:cubicBezTo>
                    <a:cubicBezTo>
                      <a:pt x="2829" y="3"/>
                      <a:pt x="2828" y="4"/>
                      <a:pt x="2827" y="4"/>
                    </a:cubicBezTo>
                    <a:lnTo>
                      <a:pt x="2827" y="4"/>
                    </a:lnTo>
                    <a:cubicBezTo>
                      <a:pt x="2826" y="4"/>
                      <a:pt x="2825" y="3"/>
                      <a:pt x="2825" y="2"/>
                    </a:cubicBezTo>
                    <a:cubicBezTo>
                      <a:pt x="2825" y="1"/>
                      <a:pt x="2826" y="0"/>
                      <a:pt x="2827" y="0"/>
                    </a:cubicBezTo>
                    <a:close/>
                    <a:moveTo>
                      <a:pt x="2835" y="0"/>
                    </a:moveTo>
                    <a:lnTo>
                      <a:pt x="2835" y="0"/>
                    </a:lnTo>
                    <a:cubicBezTo>
                      <a:pt x="2836" y="0"/>
                      <a:pt x="2837" y="1"/>
                      <a:pt x="2837" y="2"/>
                    </a:cubicBezTo>
                    <a:cubicBezTo>
                      <a:pt x="2837" y="3"/>
                      <a:pt x="2836" y="4"/>
                      <a:pt x="2835" y="4"/>
                    </a:cubicBezTo>
                    <a:lnTo>
                      <a:pt x="2835" y="4"/>
                    </a:lnTo>
                    <a:cubicBezTo>
                      <a:pt x="2834" y="4"/>
                      <a:pt x="2833" y="3"/>
                      <a:pt x="2833" y="2"/>
                    </a:cubicBezTo>
                    <a:cubicBezTo>
                      <a:pt x="2833" y="1"/>
                      <a:pt x="2834" y="0"/>
                      <a:pt x="2835" y="0"/>
                    </a:cubicBezTo>
                    <a:close/>
                    <a:moveTo>
                      <a:pt x="2843" y="0"/>
                    </a:moveTo>
                    <a:lnTo>
                      <a:pt x="2843" y="0"/>
                    </a:lnTo>
                    <a:cubicBezTo>
                      <a:pt x="2844" y="0"/>
                      <a:pt x="2845" y="1"/>
                      <a:pt x="2845" y="2"/>
                    </a:cubicBezTo>
                    <a:cubicBezTo>
                      <a:pt x="2845" y="3"/>
                      <a:pt x="2844" y="4"/>
                      <a:pt x="2843" y="4"/>
                    </a:cubicBezTo>
                    <a:lnTo>
                      <a:pt x="2843" y="4"/>
                    </a:lnTo>
                    <a:cubicBezTo>
                      <a:pt x="2842" y="4"/>
                      <a:pt x="2841" y="3"/>
                      <a:pt x="2841" y="2"/>
                    </a:cubicBezTo>
                    <a:cubicBezTo>
                      <a:pt x="2841" y="1"/>
                      <a:pt x="2842" y="0"/>
                      <a:pt x="2843" y="0"/>
                    </a:cubicBezTo>
                    <a:close/>
                    <a:moveTo>
                      <a:pt x="2851" y="0"/>
                    </a:moveTo>
                    <a:lnTo>
                      <a:pt x="2851" y="0"/>
                    </a:lnTo>
                    <a:cubicBezTo>
                      <a:pt x="2852" y="0"/>
                      <a:pt x="2853" y="1"/>
                      <a:pt x="2853" y="2"/>
                    </a:cubicBezTo>
                    <a:cubicBezTo>
                      <a:pt x="2853" y="3"/>
                      <a:pt x="2852" y="4"/>
                      <a:pt x="2851" y="4"/>
                    </a:cubicBezTo>
                    <a:lnTo>
                      <a:pt x="2851" y="4"/>
                    </a:lnTo>
                    <a:cubicBezTo>
                      <a:pt x="2850" y="4"/>
                      <a:pt x="2849" y="3"/>
                      <a:pt x="2849" y="2"/>
                    </a:cubicBezTo>
                    <a:cubicBezTo>
                      <a:pt x="2849" y="1"/>
                      <a:pt x="2850" y="0"/>
                      <a:pt x="2851" y="0"/>
                    </a:cubicBezTo>
                    <a:close/>
                    <a:moveTo>
                      <a:pt x="2859" y="0"/>
                    </a:moveTo>
                    <a:lnTo>
                      <a:pt x="2859" y="0"/>
                    </a:lnTo>
                    <a:cubicBezTo>
                      <a:pt x="2860" y="0"/>
                      <a:pt x="2861" y="1"/>
                      <a:pt x="2861" y="2"/>
                    </a:cubicBezTo>
                    <a:cubicBezTo>
                      <a:pt x="2861" y="3"/>
                      <a:pt x="2860" y="4"/>
                      <a:pt x="2859" y="4"/>
                    </a:cubicBezTo>
                    <a:lnTo>
                      <a:pt x="2859" y="4"/>
                    </a:lnTo>
                    <a:cubicBezTo>
                      <a:pt x="2858" y="4"/>
                      <a:pt x="2857" y="3"/>
                      <a:pt x="2857" y="2"/>
                    </a:cubicBezTo>
                    <a:cubicBezTo>
                      <a:pt x="2857" y="1"/>
                      <a:pt x="2858" y="0"/>
                      <a:pt x="2859" y="0"/>
                    </a:cubicBezTo>
                    <a:close/>
                    <a:moveTo>
                      <a:pt x="2867" y="0"/>
                    </a:moveTo>
                    <a:lnTo>
                      <a:pt x="2867" y="0"/>
                    </a:lnTo>
                    <a:cubicBezTo>
                      <a:pt x="2868" y="0"/>
                      <a:pt x="2869" y="1"/>
                      <a:pt x="2869" y="2"/>
                    </a:cubicBezTo>
                    <a:cubicBezTo>
                      <a:pt x="2869" y="3"/>
                      <a:pt x="2868" y="4"/>
                      <a:pt x="2867" y="4"/>
                    </a:cubicBezTo>
                    <a:lnTo>
                      <a:pt x="2867" y="4"/>
                    </a:lnTo>
                    <a:cubicBezTo>
                      <a:pt x="2866" y="4"/>
                      <a:pt x="2865" y="3"/>
                      <a:pt x="2865" y="2"/>
                    </a:cubicBezTo>
                    <a:cubicBezTo>
                      <a:pt x="2865" y="1"/>
                      <a:pt x="2866" y="0"/>
                      <a:pt x="2867" y="0"/>
                    </a:cubicBezTo>
                    <a:close/>
                    <a:moveTo>
                      <a:pt x="2875" y="0"/>
                    </a:moveTo>
                    <a:lnTo>
                      <a:pt x="2875" y="0"/>
                    </a:lnTo>
                    <a:cubicBezTo>
                      <a:pt x="2876" y="0"/>
                      <a:pt x="2877" y="1"/>
                      <a:pt x="2877" y="2"/>
                    </a:cubicBezTo>
                    <a:cubicBezTo>
                      <a:pt x="2877" y="3"/>
                      <a:pt x="2876" y="4"/>
                      <a:pt x="2875" y="4"/>
                    </a:cubicBezTo>
                    <a:lnTo>
                      <a:pt x="2875" y="4"/>
                    </a:lnTo>
                    <a:cubicBezTo>
                      <a:pt x="2874" y="4"/>
                      <a:pt x="2873" y="3"/>
                      <a:pt x="2873" y="2"/>
                    </a:cubicBezTo>
                    <a:cubicBezTo>
                      <a:pt x="2873" y="1"/>
                      <a:pt x="2874" y="0"/>
                      <a:pt x="2875" y="0"/>
                    </a:cubicBezTo>
                    <a:close/>
                    <a:moveTo>
                      <a:pt x="2883" y="0"/>
                    </a:moveTo>
                    <a:lnTo>
                      <a:pt x="2883" y="0"/>
                    </a:lnTo>
                    <a:cubicBezTo>
                      <a:pt x="2884" y="0"/>
                      <a:pt x="2885" y="1"/>
                      <a:pt x="2885" y="2"/>
                    </a:cubicBezTo>
                    <a:cubicBezTo>
                      <a:pt x="2885" y="3"/>
                      <a:pt x="2884" y="4"/>
                      <a:pt x="2883" y="4"/>
                    </a:cubicBezTo>
                    <a:lnTo>
                      <a:pt x="2883" y="4"/>
                    </a:lnTo>
                    <a:cubicBezTo>
                      <a:pt x="2882" y="4"/>
                      <a:pt x="2881" y="3"/>
                      <a:pt x="2881" y="2"/>
                    </a:cubicBezTo>
                    <a:cubicBezTo>
                      <a:pt x="2881" y="1"/>
                      <a:pt x="2882" y="0"/>
                      <a:pt x="2883" y="0"/>
                    </a:cubicBezTo>
                    <a:close/>
                    <a:moveTo>
                      <a:pt x="2891" y="0"/>
                    </a:moveTo>
                    <a:lnTo>
                      <a:pt x="2891" y="0"/>
                    </a:lnTo>
                    <a:cubicBezTo>
                      <a:pt x="2892" y="0"/>
                      <a:pt x="2893" y="1"/>
                      <a:pt x="2893" y="2"/>
                    </a:cubicBezTo>
                    <a:cubicBezTo>
                      <a:pt x="2893" y="3"/>
                      <a:pt x="2892" y="4"/>
                      <a:pt x="2891" y="4"/>
                    </a:cubicBezTo>
                    <a:lnTo>
                      <a:pt x="2891" y="4"/>
                    </a:lnTo>
                    <a:cubicBezTo>
                      <a:pt x="2890" y="4"/>
                      <a:pt x="2889" y="3"/>
                      <a:pt x="2889" y="2"/>
                    </a:cubicBezTo>
                    <a:cubicBezTo>
                      <a:pt x="2889" y="1"/>
                      <a:pt x="2890" y="0"/>
                      <a:pt x="2891" y="0"/>
                    </a:cubicBezTo>
                    <a:close/>
                    <a:moveTo>
                      <a:pt x="2899" y="0"/>
                    </a:moveTo>
                    <a:lnTo>
                      <a:pt x="2899" y="0"/>
                    </a:lnTo>
                    <a:cubicBezTo>
                      <a:pt x="2900" y="0"/>
                      <a:pt x="2901" y="1"/>
                      <a:pt x="2901" y="2"/>
                    </a:cubicBezTo>
                    <a:cubicBezTo>
                      <a:pt x="2901" y="3"/>
                      <a:pt x="2900" y="4"/>
                      <a:pt x="2899" y="4"/>
                    </a:cubicBezTo>
                    <a:lnTo>
                      <a:pt x="2899" y="4"/>
                    </a:lnTo>
                    <a:cubicBezTo>
                      <a:pt x="2898" y="4"/>
                      <a:pt x="2897" y="3"/>
                      <a:pt x="2897" y="2"/>
                    </a:cubicBezTo>
                    <a:cubicBezTo>
                      <a:pt x="2897" y="1"/>
                      <a:pt x="2898" y="0"/>
                      <a:pt x="2899" y="0"/>
                    </a:cubicBezTo>
                    <a:close/>
                    <a:moveTo>
                      <a:pt x="2907" y="0"/>
                    </a:moveTo>
                    <a:lnTo>
                      <a:pt x="2907" y="0"/>
                    </a:lnTo>
                    <a:cubicBezTo>
                      <a:pt x="2908" y="0"/>
                      <a:pt x="2909" y="1"/>
                      <a:pt x="2909" y="2"/>
                    </a:cubicBezTo>
                    <a:cubicBezTo>
                      <a:pt x="2909" y="3"/>
                      <a:pt x="2908" y="4"/>
                      <a:pt x="2907" y="4"/>
                    </a:cubicBezTo>
                    <a:lnTo>
                      <a:pt x="2907" y="4"/>
                    </a:lnTo>
                    <a:cubicBezTo>
                      <a:pt x="2906" y="4"/>
                      <a:pt x="2905" y="3"/>
                      <a:pt x="2905" y="2"/>
                    </a:cubicBezTo>
                    <a:cubicBezTo>
                      <a:pt x="2905" y="1"/>
                      <a:pt x="2906" y="0"/>
                      <a:pt x="2907" y="0"/>
                    </a:cubicBezTo>
                    <a:close/>
                    <a:moveTo>
                      <a:pt x="2915" y="0"/>
                    </a:moveTo>
                    <a:lnTo>
                      <a:pt x="2915" y="0"/>
                    </a:lnTo>
                    <a:cubicBezTo>
                      <a:pt x="2916" y="0"/>
                      <a:pt x="2917" y="1"/>
                      <a:pt x="2917" y="2"/>
                    </a:cubicBezTo>
                    <a:cubicBezTo>
                      <a:pt x="2917" y="3"/>
                      <a:pt x="2916" y="4"/>
                      <a:pt x="2915" y="4"/>
                    </a:cubicBezTo>
                    <a:lnTo>
                      <a:pt x="2915" y="4"/>
                    </a:lnTo>
                    <a:cubicBezTo>
                      <a:pt x="2914" y="4"/>
                      <a:pt x="2913" y="3"/>
                      <a:pt x="2913" y="2"/>
                    </a:cubicBezTo>
                    <a:cubicBezTo>
                      <a:pt x="2913" y="1"/>
                      <a:pt x="2914" y="0"/>
                      <a:pt x="2915" y="0"/>
                    </a:cubicBezTo>
                    <a:close/>
                    <a:moveTo>
                      <a:pt x="2923" y="0"/>
                    </a:moveTo>
                    <a:lnTo>
                      <a:pt x="2923" y="0"/>
                    </a:lnTo>
                    <a:cubicBezTo>
                      <a:pt x="2924" y="0"/>
                      <a:pt x="2925" y="1"/>
                      <a:pt x="2925" y="2"/>
                    </a:cubicBezTo>
                    <a:cubicBezTo>
                      <a:pt x="2925" y="3"/>
                      <a:pt x="2924" y="4"/>
                      <a:pt x="2923" y="4"/>
                    </a:cubicBezTo>
                    <a:lnTo>
                      <a:pt x="2923" y="4"/>
                    </a:lnTo>
                    <a:cubicBezTo>
                      <a:pt x="2922" y="4"/>
                      <a:pt x="2921" y="3"/>
                      <a:pt x="2921" y="2"/>
                    </a:cubicBezTo>
                    <a:cubicBezTo>
                      <a:pt x="2921" y="1"/>
                      <a:pt x="2922" y="0"/>
                      <a:pt x="2923" y="0"/>
                    </a:cubicBezTo>
                    <a:close/>
                    <a:moveTo>
                      <a:pt x="2931" y="0"/>
                    </a:moveTo>
                    <a:lnTo>
                      <a:pt x="2931" y="0"/>
                    </a:lnTo>
                    <a:cubicBezTo>
                      <a:pt x="2932" y="0"/>
                      <a:pt x="2933" y="1"/>
                      <a:pt x="2933" y="2"/>
                    </a:cubicBezTo>
                    <a:cubicBezTo>
                      <a:pt x="2933" y="3"/>
                      <a:pt x="2932" y="4"/>
                      <a:pt x="2931" y="4"/>
                    </a:cubicBezTo>
                    <a:lnTo>
                      <a:pt x="2931" y="4"/>
                    </a:lnTo>
                    <a:cubicBezTo>
                      <a:pt x="2930" y="4"/>
                      <a:pt x="2929" y="3"/>
                      <a:pt x="2929" y="2"/>
                    </a:cubicBezTo>
                    <a:cubicBezTo>
                      <a:pt x="2929" y="1"/>
                      <a:pt x="2930" y="0"/>
                      <a:pt x="2931" y="0"/>
                    </a:cubicBezTo>
                    <a:close/>
                    <a:moveTo>
                      <a:pt x="2939" y="0"/>
                    </a:moveTo>
                    <a:lnTo>
                      <a:pt x="2939" y="0"/>
                    </a:lnTo>
                    <a:cubicBezTo>
                      <a:pt x="2940" y="0"/>
                      <a:pt x="2941" y="1"/>
                      <a:pt x="2941" y="2"/>
                    </a:cubicBezTo>
                    <a:cubicBezTo>
                      <a:pt x="2941" y="3"/>
                      <a:pt x="2940" y="4"/>
                      <a:pt x="2939" y="4"/>
                    </a:cubicBezTo>
                    <a:lnTo>
                      <a:pt x="2939" y="4"/>
                    </a:lnTo>
                    <a:cubicBezTo>
                      <a:pt x="2938" y="4"/>
                      <a:pt x="2937" y="3"/>
                      <a:pt x="2937" y="2"/>
                    </a:cubicBezTo>
                    <a:cubicBezTo>
                      <a:pt x="2937" y="1"/>
                      <a:pt x="2938" y="0"/>
                      <a:pt x="2939" y="0"/>
                    </a:cubicBezTo>
                    <a:close/>
                    <a:moveTo>
                      <a:pt x="2947" y="0"/>
                    </a:moveTo>
                    <a:lnTo>
                      <a:pt x="2947" y="0"/>
                    </a:lnTo>
                    <a:cubicBezTo>
                      <a:pt x="2948" y="0"/>
                      <a:pt x="2949" y="1"/>
                      <a:pt x="2949" y="2"/>
                    </a:cubicBezTo>
                    <a:cubicBezTo>
                      <a:pt x="2949" y="3"/>
                      <a:pt x="2948" y="4"/>
                      <a:pt x="2947" y="4"/>
                    </a:cubicBezTo>
                    <a:lnTo>
                      <a:pt x="2947" y="4"/>
                    </a:lnTo>
                    <a:cubicBezTo>
                      <a:pt x="2946" y="4"/>
                      <a:pt x="2945" y="3"/>
                      <a:pt x="2945" y="2"/>
                    </a:cubicBezTo>
                    <a:cubicBezTo>
                      <a:pt x="2945" y="1"/>
                      <a:pt x="2946" y="0"/>
                      <a:pt x="2947" y="0"/>
                    </a:cubicBezTo>
                    <a:close/>
                    <a:moveTo>
                      <a:pt x="2955" y="0"/>
                    </a:moveTo>
                    <a:lnTo>
                      <a:pt x="2955" y="0"/>
                    </a:lnTo>
                    <a:cubicBezTo>
                      <a:pt x="2956" y="0"/>
                      <a:pt x="2957" y="1"/>
                      <a:pt x="2957" y="2"/>
                    </a:cubicBezTo>
                    <a:cubicBezTo>
                      <a:pt x="2957" y="3"/>
                      <a:pt x="2956" y="4"/>
                      <a:pt x="2955" y="4"/>
                    </a:cubicBezTo>
                    <a:lnTo>
                      <a:pt x="2955" y="4"/>
                    </a:lnTo>
                    <a:cubicBezTo>
                      <a:pt x="2954" y="4"/>
                      <a:pt x="2953" y="3"/>
                      <a:pt x="2953" y="2"/>
                    </a:cubicBezTo>
                    <a:cubicBezTo>
                      <a:pt x="2953" y="1"/>
                      <a:pt x="2954" y="0"/>
                      <a:pt x="2955" y="0"/>
                    </a:cubicBezTo>
                    <a:close/>
                    <a:moveTo>
                      <a:pt x="2963" y="0"/>
                    </a:moveTo>
                    <a:lnTo>
                      <a:pt x="2963" y="0"/>
                    </a:lnTo>
                    <a:cubicBezTo>
                      <a:pt x="2964" y="0"/>
                      <a:pt x="2965" y="1"/>
                      <a:pt x="2965" y="2"/>
                    </a:cubicBezTo>
                    <a:cubicBezTo>
                      <a:pt x="2965" y="3"/>
                      <a:pt x="2964" y="4"/>
                      <a:pt x="2963" y="4"/>
                    </a:cubicBezTo>
                    <a:lnTo>
                      <a:pt x="2963" y="4"/>
                    </a:lnTo>
                    <a:cubicBezTo>
                      <a:pt x="2962" y="4"/>
                      <a:pt x="2961" y="3"/>
                      <a:pt x="2961" y="2"/>
                    </a:cubicBezTo>
                    <a:cubicBezTo>
                      <a:pt x="2961" y="1"/>
                      <a:pt x="2962" y="0"/>
                      <a:pt x="2963" y="0"/>
                    </a:cubicBezTo>
                    <a:close/>
                    <a:moveTo>
                      <a:pt x="2971" y="0"/>
                    </a:moveTo>
                    <a:lnTo>
                      <a:pt x="2971" y="0"/>
                    </a:lnTo>
                    <a:cubicBezTo>
                      <a:pt x="2972" y="0"/>
                      <a:pt x="2973" y="1"/>
                      <a:pt x="2973" y="2"/>
                    </a:cubicBezTo>
                    <a:cubicBezTo>
                      <a:pt x="2973" y="3"/>
                      <a:pt x="2972" y="4"/>
                      <a:pt x="2971" y="4"/>
                    </a:cubicBezTo>
                    <a:lnTo>
                      <a:pt x="2971" y="4"/>
                    </a:lnTo>
                    <a:cubicBezTo>
                      <a:pt x="2970" y="4"/>
                      <a:pt x="2969" y="3"/>
                      <a:pt x="2969" y="2"/>
                    </a:cubicBezTo>
                    <a:cubicBezTo>
                      <a:pt x="2969" y="1"/>
                      <a:pt x="2970" y="0"/>
                      <a:pt x="2971" y="0"/>
                    </a:cubicBezTo>
                    <a:close/>
                    <a:moveTo>
                      <a:pt x="2979" y="0"/>
                    </a:moveTo>
                    <a:lnTo>
                      <a:pt x="2979" y="0"/>
                    </a:lnTo>
                    <a:cubicBezTo>
                      <a:pt x="2980" y="0"/>
                      <a:pt x="2981" y="1"/>
                      <a:pt x="2981" y="2"/>
                    </a:cubicBezTo>
                    <a:cubicBezTo>
                      <a:pt x="2981" y="3"/>
                      <a:pt x="2980" y="4"/>
                      <a:pt x="2979" y="4"/>
                    </a:cubicBezTo>
                    <a:lnTo>
                      <a:pt x="2979" y="4"/>
                    </a:lnTo>
                    <a:cubicBezTo>
                      <a:pt x="2978" y="4"/>
                      <a:pt x="2977" y="3"/>
                      <a:pt x="2977" y="2"/>
                    </a:cubicBezTo>
                    <a:cubicBezTo>
                      <a:pt x="2977" y="1"/>
                      <a:pt x="2978" y="0"/>
                      <a:pt x="2979" y="0"/>
                    </a:cubicBezTo>
                    <a:close/>
                    <a:moveTo>
                      <a:pt x="2987" y="0"/>
                    </a:moveTo>
                    <a:lnTo>
                      <a:pt x="2987" y="0"/>
                    </a:lnTo>
                    <a:cubicBezTo>
                      <a:pt x="2988" y="0"/>
                      <a:pt x="2989" y="1"/>
                      <a:pt x="2989" y="2"/>
                    </a:cubicBezTo>
                    <a:cubicBezTo>
                      <a:pt x="2989" y="3"/>
                      <a:pt x="2988" y="4"/>
                      <a:pt x="2987" y="4"/>
                    </a:cubicBezTo>
                    <a:lnTo>
                      <a:pt x="2987" y="4"/>
                    </a:lnTo>
                    <a:cubicBezTo>
                      <a:pt x="2986" y="4"/>
                      <a:pt x="2985" y="3"/>
                      <a:pt x="2985" y="2"/>
                    </a:cubicBezTo>
                    <a:cubicBezTo>
                      <a:pt x="2985" y="1"/>
                      <a:pt x="2986" y="0"/>
                      <a:pt x="2987" y="0"/>
                    </a:cubicBezTo>
                    <a:close/>
                    <a:moveTo>
                      <a:pt x="2995" y="0"/>
                    </a:moveTo>
                    <a:lnTo>
                      <a:pt x="2995" y="0"/>
                    </a:lnTo>
                    <a:cubicBezTo>
                      <a:pt x="2996" y="0"/>
                      <a:pt x="2997" y="1"/>
                      <a:pt x="2997" y="2"/>
                    </a:cubicBezTo>
                    <a:cubicBezTo>
                      <a:pt x="2997" y="3"/>
                      <a:pt x="2996" y="4"/>
                      <a:pt x="2995" y="4"/>
                    </a:cubicBezTo>
                    <a:lnTo>
                      <a:pt x="2995" y="4"/>
                    </a:lnTo>
                    <a:cubicBezTo>
                      <a:pt x="2994" y="4"/>
                      <a:pt x="2993" y="3"/>
                      <a:pt x="2993" y="2"/>
                    </a:cubicBezTo>
                    <a:cubicBezTo>
                      <a:pt x="2993" y="1"/>
                      <a:pt x="2994" y="0"/>
                      <a:pt x="2995" y="0"/>
                    </a:cubicBezTo>
                    <a:close/>
                    <a:moveTo>
                      <a:pt x="3003" y="0"/>
                    </a:moveTo>
                    <a:lnTo>
                      <a:pt x="3003" y="0"/>
                    </a:lnTo>
                    <a:cubicBezTo>
                      <a:pt x="3004" y="0"/>
                      <a:pt x="3005" y="1"/>
                      <a:pt x="3005" y="2"/>
                    </a:cubicBezTo>
                    <a:cubicBezTo>
                      <a:pt x="3005" y="3"/>
                      <a:pt x="3004" y="4"/>
                      <a:pt x="3003" y="4"/>
                    </a:cubicBezTo>
                    <a:lnTo>
                      <a:pt x="3003" y="4"/>
                    </a:lnTo>
                    <a:cubicBezTo>
                      <a:pt x="3002" y="4"/>
                      <a:pt x="3001" y="3"/>
                      <a:pt x="3001" y="2"/>
                    </a:cubicBezTo>
                    <a:cubicBezTo>
                      <a:pt x="3001" y="1"/>
                      <a:pt x="3002" y="0"/>
                      <a:pt x="3003" y="0"/>
                    </a:cubicBezTo>
                    <a:close/>
                    <a:moveTo>
                      <a:pt x="3011" y="0"/>
                    </a:moveTo>
                    <a:lnTo>
                      <a:pt x="3011" y="0"/>
                    </a:lnTo>
                    <a:cubicBezTo>
                      <a:pt x="3012" y="0"/>
                      <a:pt x="3013" y="1"/>
                      <a:pt x="3013" y="2"/>
                    </a:cubicBezTo>
                    <a:cubicBezTo>
                      <a:pt x="3013" y="3"/>
                      <a:pt x="3012" y="4"/>
                      <a:pt x="3011" y="4"/>
                    </a:cubicBezTo>
                    <a:lnTo>
                      <a:pt x="3011" y="4"/>
                    </a:lnTo>
                    <a:cubicBezTo>
                      <a:pt x="3010" y="4"/>
                      <a:pt x="3009" y="3"/>
                      <a:pt x="3009" y="2"/>
                    </a:cubicBezTo>
                    <a:cubicBezTo>
                      <a:pt x="3009" y="1"/>
                      <a:pt x="3010" y="0"/>
                      <a:pt x="3011" y="0"/>
                    </a:cubicBezTo>
                    <a:close/>
                    <a:moveTo>
                      <a:pt x="3019" y="0"/>
                    </a:moveTo>
                    <a:lnTo>
                      <a:pt x="3019" y="0"/>
                    </a:lnTo>
                    <a:cubicBezTo>
                      <a:pt x="3020" y="0"/>
                      <a:pt x="3021" y="1"/>
                      <a:pt x="3021" y="2"/>
                    </a:cubicBezTo>
                    <a:cubicBezTo>
                      <a:pt x="3021" y="3"/>
                      <a:pt x="3020" y="4"/>
                      <a:pt x="3019" y="4"/>
                    </a:cubicBezTo>
                    <a:lnTo>
                      <a:pt x="3019" y="4"/>
                    </a:lnTo>
                    <a:cubicBezTo>
                      <a:pt x="3018" y="4"/>
                      <a:pt x="3017" y="3"/>
                      <a:pt x="3017" y="2"/>
                    </a:cubicBezTo>
                    <a:cubicBezTo>
                      <a:pt x="3017" y="1"/>
                      <a:pt x="3018" y="0"/>
                      <a:pt x="3019" y="0"/>
                    </a:cubicBezTo>
                    <a:close/>
                    <a:moveTo>
                      <a:pt x="3027" y="0"/>
                    </a:moveTo>
                    <a:lnTo>
                      <a:pt x="3027" y="0"/>
                    </a:lnTo>
                    <a:cubicBezTo>
                      <a:pt x="3028" y="0"/>
                      <a:pt x="3029" y="1"/>
                      <a:pt x="3029" y="2"/>
                    </a:cubicBezTo>
                    <a:cubicBezTo>
                      <a:pt x="3029" y="3"/>
                      <a:pt x="3028" y="4"/>
                      <a:pt x="3027" y="4"/>
                    </a:cubicBezTo>
                    <a:lnTo>
                      <a:pt x="3027" y="4"/>
                    </a:lnTo>
                    <a:cubicBezTo>
                      <a:pt x="3026" y="4"/>
                      <a:pt x="3025" y="3"/>
                      <a:pt x="3025" y="2"/>
                    </a:cubicBezTo>
                    <a:cubicBezTo>
                      <a:pt x="3025" y="1"/>
                      <a:pt x="3026" y="0"/>
                      <a:pt x="3027" y="0"/>
                    </a:cubicBezTo>
                    <a:close/>
                    <a:moveTo>
                      <a:pt x="3035" y="0"/>
                    </a:moveTo>
                    <a:lnTo>
                      <a:pt x="3035" y="0"/>
                    </a:lnTo>
                    <a:cubicBezTo>
                      <a:pt x="3036" y="0"/>
                      <a:pt x="3037" y="1"/>
                      <a:pt x="3037" y="2"/>
                    </a:cubicBezTo>
                    <a:cubicBezTo>
                      <a:pt x="3037" y="3"/>
                      <a:pt x="3036" y="4"/>
                      <a:pt x="3035" y="4"/>
                    </a:cubicBezTo>
                    <a:lnTo>
                      <a:pt x="3035" y="4"/>
                    </a:lnTo>
                    <a:cubicBezTo>
                      <a:pt x="3034" y="4"/>
                      <a:pt x="3033" y="3"/>
                      <a:pt x="3033" y="2"/>
                    </a:cubicBezTo>
                    <a:cubicBezTo>
                      <a:pt x="3033" y="1"/>
                      <a:pt x="3034" y="0"/>
                      <a:pt x="3035" y="0"/>
                    </a:cubicBezTo>
                    <a:close/>
                    <a:moveTo>
                      <a:pt x="3043" y="0"/>
                    </a:moveTo>
                    <a:lnTo>
                      <a:pt x="3043" y="0"/>
                    </a:lnTo>
                    <a:cubicBezTo>
                      <a:pt x="3044" y="0"/>
                      <a:pt x="3045" y="1"/>
                      <a:pt x="3045" y="2"/>
                    </a:cubicBezTo>
                    <a:cubicBezTo>
                      <a:pt x="3045" y="3"/>
                      <a:pt x="3044" y="4"/>
                      <a:pt x="3043" y="4"/>
                    </a:cubicBezTo>
                    <a:lnTo>
                      <a:pt x="3043" y="4"/>
                    </a:lnTo>
                    <a:cubicBezTo>
                      <a:pt x="3042" y="4"/>
                      <a:pt x="3041" y="3"/>
                      <a:pt x="3041" y="2"/>
                    </a:cubicBezTo>
                    <a:cubicBezTo>
                      <a:pt x="3041" y="1"/>
                      <a:pt x="3042" y="0"/>
                      <a:pt x="3043" y="0"/>
                    </a:cubicBezTo>
                    <a:close/>
                    <a:moveTo>
                      <a:pt x="3051" y="0"/>
                    </a:moveTo>
                    <a:lnTo>
                      <a:pt x="3051" y="0"/>
                    </a:lnTo>
                    <a:cubicBezTo>
                      <a:pt x="3052" y="0"/>
                      <a:pt x="3053" y="1"/>
                      <a:pt x="3053" y="2"/>
                    </a:cubicBezTo>
                    <a:cubicBezTo>
                      <a:pt x="3053" y="3"/>
                      <a:pt x="3052" y="4"/>
                      <a:pt x="3051" y="4"/>
                    </a:cubicBezTo>
                    <a:lnTo>
                      <a:pt x="3051" y="4"/>
                    </a:lnTo>
                    <a:cubicBezTo>
                      <a:pt x="3050" y="4"/>
                      <a:pt x="3049" y="3"/>
                      <a:pt x="3049" y="2"/>
                    </a:cubicBezTo>
                    <a:cubicBezTo>
                      <a:pt x="3049" y="1"/>
                      <a:pt x="3050" y="0"/>
                      <a:pt x="3051" y="0"/>
                    </a:cubicBezTo>
                    <a:close/>
                    <a:moveTo>
                      <a:pt x="3059" y="0"/>
                    </a:moveTo>
                    <a:lnTo>
                      <a:pt x="3059" y="0"/>
                    </a:lnTo>
                    <a:cubicBezTo>
                      <a:pt x="3060" y="0"/>
                      <a:pt x="3061" y="1"/>
                      <a:pt x="3061" y="2"/>
                    </a:cubicBezTo>
                    <a:cubicBezTo>
                      <a:pt x="3061" y="3"/>
                      <a:pt x="3060" y="4"/>
                      <a:pt x="3059" y="4"/>
                    </a:cubicBezTo>
                    <a:lnTo>
                      <a:pt x="3059" y="4"/>
                    </a:lnTo>
                    <a:cubicBezTo>
                      <a:pt x="3058" y="4"/>
                      <a:pt x="3057" y="3"/>
                      <a:pt x="3057" y="2"/>
                    </a:cubicBezTo>
                    <a:cubicBezTo>
                      <a:pt x="3057" y="1"/>
                      <a:pt x="3058" y="0"/>
                      <a:pt x="3059" y="0"/>
                    </a:cubicBezTo>
                    <a:close/>
                    <a:moveTo>
                      <a:pt x="3067" y="0"/>
                    </a:moveTo>
                    <a:lnTo>
                      <a:pt x="3067" y="0"/>
                    </a:lnTo>
                    <a:cubicBezTo>
                      <a:pt x="3068" y="0"/>
                      <a:pt x="3069" y="1"/>
                      <a:pt x="3069" y="2"/>
                    </a:cubicBezTo>
                    <a:cubicBezTo>
                      <a:pt x="3069" y="3"/>
                      <a:pt x="3068" y="4"/>
                      <a:pt x="3067" y="4"/>
                    </a:cubicBezTo>
                    <a:lnTo>
                      <a:pt x="3067" y="4"/>
                    </a:lnTo>
                    <a:cubicBezTo>
                      <a:pt x="3066" y="4"/>
                      <a:pt x="3065" y="3"/>
                      <a:pt x="3065" y="2"/>
                    </a:cubicBezTo>
                    <a:cubicBezTo>
                      <a:pt x="3065" y="1"/>
                      <a:pt x="3066" y="0"/>
                      <a:pt x="3067" y="0"/>
                    </a:cubicBezTo>
                    <a:close/>
                    <a:moveTo>
                      <a:pt x="3075" y="0"/>
                    </a:moveTo>
                    <a:lnTo>
                      <a:pt x="3075" y="0"/>
                    </a:lnTo>
                    <a:cubicBezTo>
                      <a:pt x="3076" y="0"/>
                      <a:pt x="3077" y="1"/>
                      <a:pt x="3077" y="2"/>
                    </a:cubicBezTo>
                    <a:cubicBezTo>
                      <a:pt x="3077" y="3"/>
                      <a:pt x="3076" y="4"/>
                      <a:pt x="3075" y="4"/>
                    </a:cubicBezTo>
                    <a:lnTo>
                      <a:pt x="3075" y="4"/>
                    </a:lnTo>
                    <a:cubicBezTo>
                      <a:pt x="3074" y="4"/>
                      <a:pt x="3073" y="3"/>
                      <a:pt x="3073" y="2"/>
                    </a:cubicBezTo>
                    <a:cubicBezTo>
                      <a:pt x="3073" y="1"/>
                      <a:pt x="3074" y="0"/>
                      <a:pt x="3075" y="0"/>
                    </a:cubicBezTo>
                    <a:close/>
                    <a:moveTo>
                      <a:pt x="3083" y="0"/>
                    </a:moveTo>
                    <a:lnTo>
                      <a:pt x="3083" y="0"/>
                    </a:lnTo>
                    <a:cubicBezTo>
                      <a:pt x="3084" y="0"/>
                      <a:pt x="3085" y="1"/>
                      <a:pt x="3085" y="2"/>
                    </a:cubicBezTo>
                    <a:cubicBezTo>
                      <a:pt x="3085" y="3"/>
                      <a:pt x="3084" y="4"/>
                      <a:pt x="3083" y="4"/>
                    </a:cubicBezTo>
                    <a:lnTo>
                      <a:pt x="3083" y="4"/>
                    </a:lnTo>
                    <a:cubicBezTo>
                      <a:pt x="3082" y="4"/>
                      <a:pt x="3081" y="3"/>
                      <a:pt x="3081" y="2"/>
                    </a:cubicBezTo>
                    <a:cubicBezTo>
                      <a:pt x="3081" y="1"/>
                      <a:pt x="3082" y="0"/>
                      <a:pt x="3083" y="0"/>
                    </a:cubicBezTo>
                    <a:close/>
                    <a:moveTo>
                      <a:pt x="3091" y="0"/>
                    </a:moveTo>
                    <a:lnTo>
                      <a:pt x="3091" y="0"/>
                    </a:lnTo>
                    <a:cubicBezTo>
                      <a:pt x="3092" y="0"/>
                      <a:pt x="3093" y="1"/>
                      <a:pt x="3093" y="2"/>
                    </a:cubicBezTo>
                    <a:cubicBezTo>
                      <a:pt x="3093" y="3"/>
                      <a:pt x="3092" y="4"/>
                      <a:pt x="3091" y="4"/>
                    </a:cubicBezTo>
                    <a:lnTo>
                      <a:pt x="3091" y="4"/>
                    </a:lnTo>
                    <a:cubicBezTo>
                      <a:pt x="3090" y="4"/>
                      <a:pt x="3089" y="3"/>
                      <a:pt x="3089" y="2"/>
                    </a:cubicBezTo>
                    <a:cubicBezTo>
                      <a:pt x="3089" y="1"/>
                      <a:pt x="3090" y="0"/>
                      <a:pt x="3091" y="0"/>
                    </a:cubicBezTo>
                    <a:close/>
                    <a:moveTo>
                      <a:pt x="3099" y="0"/>
                    </a:moveTo>
                    <a:lnTo>
                      <a:pt x="3099" y="0"/>
                    </a:lnTo>
                    <a:cubicBezTo>
                      <a:pt x="3100" y="0"/>
                      <a:pt x="3101" y="1"/>
                      <a:pt x="3101" y="2"/>
                    </a:cubicBezTo>
                    <a:cubicBezTo>
                      <a:pt x="3101" y="3"/>
                      <a:pt x="3100" y="4"/>
                      <a:pt x="3099" y="4"/>
                    </a:cubicBezTo>
                    <a:lnTo>
                      <a:pt x="3099" y="4"/>
                    </a:lnTo>
                    <a:cubicBezTo>
                      <a:pt x="3098" y="4"/>
                      <a:pt x="3097" y="3"/>
                      <a:pt x="3097" y="2"/>
                    </a:cubicBezTo>
                    <a:cubicBezTo>
                      <a:pt x="3097" y="1"/>
                      <a:pt x="3098" y="0"/>
                      <a:pt x="3099" y="0"/>
                    </a:cubicBezTo>
                    <a:close/>
                    <a:moveTo>
                      <a:pt x="3107" y="0"/>
                    </a:moveTo>
                    <a:lnTo>
                      <a:pt x="3107" y="0"/>
                    </a:lnTo>
                    <a:cubicBezTo>
                      <a:pt x="3108" y="0"/>
                      <a:pt x="3109" y="1"/>
                      <a:pt x="3109" y="2"/>
                    </a:cubicBezTo>
                    <a:cubicBezTo>
                      <a:pt x="3109" y="3"/>
                      <a:pt x="3108" y="4"/>
                      <a:pt x="3107" y="4"/>
                    </a:cubicBezTo>
                    <a:lnTo>
                      <a:pt x="3107" y="4"/>
                    </a:lnTo>
                    <a:cubicBezTo>
                      <a:pt x="3106" y="4"/>
                      <a:pt x="3105" y="3"/>
                      <a:pt x="3105" y="2"/>
                    </a:cubicBezTo>
                    <a:cubicBezTo>
                      <a:pt x="3105" y="1"/>
                      <a:pt x="3106" y="0"/>
                      <a:pt x="3107" y="0"/>
                    </a:cubicBezTo>
                    <a:close/>
                    <a:moveTo>
                      <a:pt x="3115" y="0"/>
                    </a:moveTo>
                    <a:lnTo>
                      <a:pt x="3115" y="0"/>
                    </a:lnTo>
                    <a:cubicBezTo>
                      <a:pt x="3116" y="0"/>
                      <a:pt x="3117" y="1"/>
                      <a:pt x="3117" y="2"/>
                    </a:cubicBezTo>
                    <a:cubicBezTo>
                      <a:pt x="3117" y="3"/>
                      <a:pt x="3116" y="4"/>
                      <a:pt x="3115" y="4"/>
                    </a:cubicBezTo>
                    <a:lnTo>
                      <a:pt x="3115" y="4"/>
                    </a:lnTo>
                    <a:cubicBezTo>
                      <a:pt x="3114" y="4"/>
                      <a:pt x="3113" y="3"/>
                      <a:pt x="3113" y="2"/>
                    </a:cubicBezTo>
                    <a:cubicBezTo>
                      <a:pt x="3113" y="1"/>
                      <a:pt x="3114" y="0"/>
                      <a:pt x="3115" y="0"/>
                    </a:cubicBezTo>
                    <a:close/>
                    <a:moveTo>
                      <a:pt x="3123" y="0"/>
                    </a:moveTo>
                    <a:lnTo>
                      <a:pt x="3123" y="0"/>
                    </a:lnTo>
                    <a:cubicBezTo>
                      <a:pt x="3124" y="0"/>
                      <a:pt x="3125" y="1"/>
                      <a:pt x="3125" y="2"/>
                    </a:cubicBezTo>
                    <a:cubicBezTo>
                      <a:pt x="3125" y="3"/>
                      <a:pt x="3124" y="4"/>
                      <a:pt x="3123" y="4"/>
                    </a:cubicBezTo>
                    <a:lnTo>
                      <a:pt x="3123" y="4"/>
                    </a:lnTo>
                    <a:cubicBezTo>
                      <a:pt x="3122" y="4"/>
                      <a:pt x="3121" y="3"/>
                      <a:pt x="3121" y="2"/>
                    </a:cubicBezTo>
                    <a:cubicBezTo>
                      <a:pt x="3121" y="1"/>
                      <a:pt x="3122" y="0"/>
                      <a:pt x="3123" y="0"/>
                    </a:cubicBezTo>
                    <a:close/>
                    <a:moveTo>
                      <a:pt x="3131" y="0"/>
                    </a:moveTo>
                    <a:lnTo>
                      <a:pt x="3131" y="0"/>
                    </a:lnTo>
                    <a:cubicBezTo>
                      <a:pt x="3132" y="0"/>
                      <a:pt x="3133" y="1"/>
                      <a:pt x="3133" y="2"/>
                    </a:cubicBezTo>
                    <a:cubicBezTo>
                      <a:pt x="3133" y="3"/>
                      <a:pt x="3132" y="4"/>
                      <a:pt x="3131" y="4"/>
                    </a:cubicBezTo>
                    <a:lnTo>
                      <a:pt x="3131" y="4"/>
                    </a:lnTo>
                    <a:cubicBezTo>
                      <a:pt x="3130" y="4"/>
                      <a:pt x="3129" y="3"/>
                      <a:pt x="3129" y="2"/>
                    </a:cubicBezTo>
                    <a:cubicBezTo>
                      <a:pt x="3129" y="1"/>
                      <a:pt x="3130" y="0"/>
                      <a:pt x="3131" y="0"/>
                    </a:cubicBezTo>
                    <a:close/>
                    <a:moveTo>
                      <a:pt x="3139" y="0"/>
                    </a:moveTo>
                    <a:lnTo>
                      <a:pt x="3139" y="0"/>
                    </a:lnTo>
                    <a:cubicBezTo>
                      <a:pt x="3140" y="0"/>
                      <a:pt x="3141" y="1"/>
                      <a:pt x="3141" y="2"/>
                    </a:cubicBezTo>
                    <a:cubicBezTo>
                      <a:pt x="3141" y="3"/>
                      <a:pt x="3140" y="4"/>
                      <a:pt x="3139" y="4"/>
                    </a:cubicBezTo>
                    <a:lnTo>
                      <a:pt x="3139" y="4"/>
                    </a:lnTo>
                    <a:cubicBezTo>
                      <a:pt x="3138" y="4"/>
                      <a:pt x="3137" y="3"/>
                      <a:pt x="3137" y="2"/>
                    </a:cubicBezTo>
                    <a:cubicBezTo>
                      <a:pt x="3137" y="1"/>
                      <a:pt x="3138" y="0"/>
                      <a:pt x="3139" y="0"/>
                    </a:cubicBezTo>
                    <a:close/>
                    <a:moveTo>
                      <a:pt x="3147" y="0"/>
                    </a:moveTo>
                    <a:lnTo>
                      <a:pt x="3147" y="0"/>
                    </a:lnTo>
                    <a:cubicBezTo>
                      <a:pt x="3148" y="0"/>
                      <a:pt x="3149" y="1"/>
                      <a:pt x="3149" y="2"/>
                    </a:cubicBezTo>
                    <a:cubicBezTo>
                      <a:pt x="3149" y="3"/>
                      <a:pt x="3148" y="4"/>
                      <a:pt x="3147" y="4"/>
                    </a:cubicBezTo>
                    <a:lnTo>
                      <a:pt x="3147" y="4"/>
                    </a:lnTo>
                    <a:cubicBezTo>
                      <a:pt x="3146" y="4"/>
                      <a:pt x="3145" y="3"/>
                      <a:pt x="3145" y="2"/>
                    </a:cubicBezTo>
                    <a:cubicBezTo>
                      <a:pt x="3145" y="1"/>
                      <a:pt x="3146" y="0"/>
                      <a:pt x="3147" y="0"/>
                    </a:cubicBezTo>
                    <a:close/>
                    <a:moveTo>
                      <a:pt x="3155" y="0"/>
                    </a:moveTo>
                    <a:lnTo>
                      <a:pt x="3155" y="0"/>
                    </a:lnTo>
                    <a:cubicBezTo>
                      <a:pt x="3156" y="0"/>
                      <a:pt x="3157" y="1"/>
                      <a:pt x="3157" y="2"/>
                    </a:cubicBezTo>
                    <a:cubicBezTo>
                      <a:pt x="3157" y="3"/>
                      <a:pt x="3156" y="4"/>
                      <a:pt x="3155" y="4"/>
                    </a:cubicBezTo>
                    <a:lnTo>
                      <a:pt x="3155" y="4"/>
                    </a:lnTo>
                    <a:cubicBezTo>
                      <a:pt x="3154" y="4"/>
                      <a:pt x="3153" y="3"/>
                      <a:pt x="3153" y="2"/>
                    </a:cubicBezTo>
                    <a:cubicBezTo>
                      <a:pt x="3153" y="1"/>
                      <a:pt x="3154" y="0"/>
                      <a:pt x="3155" y="0"/>
                    </a:cubicBezTo>
                    <a:close/>
                    <a:moveTo>
                      <a:pt x="3163" y="0"/>
                    </a:moveTo>
                    <a:lnTo>
                      <a:pt x="3163" y="0"/>
                    </a:lnTo>
                    <a:cubicBezTo>
                      <a:pt x="3164" y="0"/>
                      <a:pt x="3165" y="1"/>
                      <a:pt x="3165" y="2"/>
                    </a:cubicBezTo>
                    <a:cubicBezTo>
                      <a:pt x="3165" y="3"/>
                      <a:pt x="3164" y="4"/>
                      <a:pt x="3163" y="4"/>
                    </a:cubicBezTo>
                    <a:lnTo>
                      <a:pt x="3163" y="4"/>
                    </a:lnTo>
                    <a:cubicBezTo>
                      <a:pt x="3162" y="4"/>
                      <a:pt x="3161" y="3"/>
                      <a:pt x="3161" y="2"/>
                    </a:cubicBezTo>
                    <a:cubicBezTo>
                      <a:pt x="3161" y="1"/>
                      <a:pt x="3162" y="0"/>
                      <a:pt x="3163" y="0"/>
                    </a:cubicBezTo>
                    <a:close/>
                    <a:moveTo>
                      <a:pt x="3171" y="0"/>
                    </a:moveTo>
                    <a:lnTo>
                      <a:pt x="3171" y="0"/>
                    </a:lnTo>
                    <a:cubicBezTo>
                      <a:pt x="3172" y="0"/>
                      <a:pt x="3173" y="1"/>
                      <a:pt x="3173" y="2"/>
                    </a:cubicBezTo>
                    <a:cubicBezTo>
                      <a:pt x="3173" y="3"/>
                      <a:pt x="3172" y="4"/>
                      <a:pt x="3171" y="4"/>
                    </a:cubicBezTo>
                    <a:lnTo>
                      <a:pt x="3171" y="4"/>
                    </a:lnTo>
                    <a:cubicBezTo>
                      <a:pt x="3170" y="4"/>
                      <a:pt x="3169" y="3"/>
                      <a:pt x="3169" y="2"/>
                    </a:cubicBezTo>
                    <a:cubicBezTo>
                      <a:pt x="3169" y="1"/>
                      <a:pt x="3170" y="0"/>
                      <a:pt x="3171" y="0"/>
                    </a:cubicBezTo>
                    <a:close/>
                    <a:moveTo>
                      <a:pt x="3179" y="0"/>
                    </a:moveTo>
                    <a:lnTo>
                      <a:pt x="3179" y="0"/>
                    </a:lnTo>
                    <a:cubicBezTo>
                      <a:pt x="3180" y="0"/>
                      <a:pt x="3181" y="1"/>
                      <a:pt x="3181" y="2"/>
                    </a:cubicBezTo>
                    <a:cubicBezTo>
                      <a:pt x="3181" y="3"/>
                      <a:pt x="3180" y="4"/>
                      <a:pt x="3179" y="4"/>
                    </a:cubicBezTo>
                    <a:lnTo>
                      <a:pt x="3179" y="4"/>
                    </a:lnTo>
                    <a:cubicBezTo>
                      <a:pt x="3178" y="4"/>
                      <a:pt x="3177" y="3"/>
                      <a:pt x="3177" y="2"/>
                    </a:cubicBezTo>
                    <a:cubicBezTo>
                      <a:pt x="3177" y="1"/>
                      <a:pt x="3178" y="0"/>
                      <a:pt x="3179" y="0"/>
                    </a:cubicBezTo>
                    <a:close/>
                    <a:moveTo>
                      <a:pt x="3187" y="0"/>
                    </a:moveTo>
                    <a:lnTo>
                      <a:pt x="3187" y="0"/>
                    </a:lnTo>
                    <a:cubicBezTo>
                      <a:pt x="3188" y="0"/>
                      <a:pt x="3189" y="1"/>
                      <a:pt x="3189" y="2"/>
                    </a:cubicBezTo>
                    <a:cubicBezTo>
                      <a:pt x="3189" y="3"/>
                      <a:pt x="3188" y="4"/>
                      <a:pt x="3187" y="4"/>
                    </a:cubicBezTo>
                    <a:lnTo>
                      <a:pt x="3187" y="4"/>
                    </a:lnTo>
                    <a:cubicBezTo>
                      <a:pt x="3186" y="4"/>
                      <a:pt x="3185" y="3"/>
                      <a:pt x="3185" y="2"/>
                    </a:cubicBezTo>
                    <a:cubicBezTo>
                      <a:pt x="3185" y="1"/>
                      <a:pt x="3186" y="0"/>
                      <a:pt x="3187" y="0"/>
                    </a:cubicBezTo>
                    <a:close/>
                    <a:moveTo>
                      <a:pt x="3195" y="0"/>
                    </a:moveTo>
                    <a:lnTo>
                      <a:pt x="3195" y="0"/>
                    </a:lnTo>
                    <a:cubicBezTo>
                      <a:pt x="3196" y="0"/>
                      <a:pt x="3197" y="1"/>
                      <a:pt x="3197" y="2"/>
                    </a:cubicBezTo>
                    <a:cubicBezTo>
                      <a:pt x="3197" y="3"/>
                      <a:pt x="3196" y="4"/>
                      <a:pt x="3195" y="4"/>
                    </a:cubicBezTo>
                    <a:lnTo>
                      <a:pt x="3195" y="4"/>
                    </a:lnTo>
                    <a:cubicBezTo>
                      <a:pt x="3194" y="4"/>
                      <a:pt x="3193" y="3"/>
                      <a:pt x="3193" y="2"/>
                    </a:cubicBezTo>
                    <a:cubicBezTo>
                      <a:pt x="3193" y="1"/>
                      <a:pt x="3194" y="0"/>
                      <a:pt x="3195" y="0"/>
                    </a:cubicBezTo>
                    <a:close/>
                    <a:moveTo>
                      <a:pt x="3203" y="0"/>
                    </a:moveTo>
                    <a:lnTo>
                      <a:pt x="3203" y="0"/>
                    </a:lnTo>
                    <a:cubicBezTo>
                      <a:pt x="3204" y="0"/>
                      <a:pt x="3205" y="1"/>
                      <a:pt x="3205" y="2"/>
                    </a:cubicBezTo>
                    <a:cubicBezTo>
                      <a:pt x="3205" y="3"/>
                      <a:pt x="3204" y="4"/>
                      <a:pt x="3203" y="4"/>
                    </a:cubicBezTo>
                    <a:lnTo>
                      <a:pt x="3203" y="4"/>
                    </a:lnTo>
                    <a:cubicBezTo>
                      <a:pt x="3202" y="4"/>
                      <a:pt x="3201" y="3"/>
                      <a:pt x="3201" y="2"/>
                    </a:cubicBezTo>
                    <a:cubicBezTo>
                      <a:pt x="3201" y="1"/>
                      <a:pt x="3202" y="0"/>
                      <a:pt x="3203" y="0"/>
                    </a:cubicBezTo>
                    <a:close/>
                    <a:moveTo>
                      <a:pt x="3211" y="0"/>
                    </a:moveTo>
                    <a:lnTo>
                      <a:pt x="3211" y="0"/>
                    </a:lnTo>
                    <a:cubicBezTo>
                      <a:pt x="3212" y="0"/>
                      <a:pt x="3213" y="1"/>
                      <a:pt x="3213" y="2"/>
                    </a:cubicBezTo>
                    <a:cubicBezTo>
                      <a:pt x="3213" y="3"/>
                      <a:pt x="3212" y="4"/>
                      <a:pt x="3211" y="4"/>
                    </a:cubicBezTo>
                    <a:lnTo>
                      <a:pt x="3211" y="4"/>
                    </a:lnTo>
                    <a:cubicBezTo>
                      <a:pt x="3210" y="4"/>
                      <a:pt x="3209" y="3"/>
                      <a:pt x="3209" y="2"/>
                    </a:cubicBezTo>
                    <a:cubicBezTo>
                      <a:pt x="3209" y="1"/>
                      <a:pt x="3210" y="0"/>
                      <a:pt x="3211" y="0"/>
                    </a:cubicBezTo>
                    <a:close/>
                    <a:moveTo>
                      <a:pt x="3219" y="0"/>
                    </a:moveTo>
                    <a:lnTo>
                      <a:pt x="3219" y="0"/>
                    </a:lnTo>
                    <a:cubicBezTo>
                      <a:pt x="3220" y="0"/>
                      <a:pt x="3221" y="1"/>
                      <a:pt x="3221" y="2"/>
                    </a:cubicBezTo>
                    <a:cubicBezTo>
                      <a:pt x="3221" y="3"/>
                      <a:pt x="3220" y="4"/>
                      <a:pt x="3219" y="4"/>
                    </a:cubicBezTo>
                    <a:lnTo>
                      <a:pt x="3219" y="4"/>
                    </a:lnTo>
                    <a:cubicBezTo>
                      <a:pt x="3218" y="4"/>
                      <a:pt x="3217" y="3"/>
                      <a:pt x="3217" y="2"/>
                    </a:cubicBezTo>
                    <a:cubicBezTo>
                      <a:pt x="3217" y="1"/>
                      <a:pt x="3218" y="0"/>
                      <a:pt x="3219" y="0"/>
                    </a:cubicBezTo>
                    <a:close/>
                    <a:moveTo>
                      <a:pt x="3227" y="0"/>
                    </a:moveTo>
                    <a:lnTo>
                      <a:pt x="3227" y="0"/>
                    </a:lnTo>
                    <a:cubicBezTo>
                      <a:pt x="3228" y="0"/>
                      <a:pt x="3229" y="1"/>
                      <a:pt x="3229" y="2"/>
                    </a:cubicBezTo>
                    <a:cubicBezTo>
                      <a:pt x="3229" y="3"/>
                      <a:pt x="3228" y="4"/>
                      <a:pt x="3227" y="4"/>
                    </a:cubicBezTo>
                    <a:lnTo>
                      <a:pt x="3227" y="4"/>
                    </a:lnTo>
                    <a:cubicBezTo>
                      <a:pt x="3226" y="4"/>
                      <a:pt x="3225" y="3"/>
                      <a:pt x="3225" y="2"/>
                    </a:cubicBezTo>
                    <a:cubicBezTo>
                      <a:pt x="3225" y="1"/>
                      <a:pt x="3226" y="0"/>
                      <a:pt x="3227" y="0"/>
                    </a:cubicBezTo>
                    <a:close/>
                    <a:moveTo>
                      <a:pt x="3235" y="0"/>
                    </a:moveTo>
                    <a:lnTo>
                      <a:pt x="3235" y="0"/>
                    </a:lnTo>
                    <a:cubicBezTo>
                      <a:pt x="3236" y="0"/>
                      <a:pt x="3237" y="1"/>
                      <a:pt x="3237" y="2"/>
                    </a:cubicBezTo>
                    <a:cubicBezTo>
                      <a:pt x="3237" y="3"/>
                      <a:pt x="3236" y="4"/>
                      <a:pt x="3235" y="4"/>
                    </a:cubicBezTo>
                    <a:lnTo>
                      <a:pt x="3235" y="4"/>
                    </a:lnTo>
                    <a:cubicBezTo>
                      <a:pt x="3234" y="4"/>
                      <a:pt x="3233" y="3"/>
                      <a:pt x="3233" y="2"/>
                    </a:cubicBezTo>
                    <a:cubicBezTo>
                      <a:pt x="3233" y="1"/>
                      <a:pt x="3234" y="0"/>
                      <a:pt x="3235" y="0"/>
                    </a:cubicBezTo>
                    <a:close/>
                    <a:moveTo>
                      <a:pt x="3243" y="0"/>
                    </a:moveTo>
                    <a:lnTo>
                      <a:pt x="3243" y="0"/>
                    </a:lnTo>
                    <a:cubicBezTo>
                      <a:pt x="3244" y="0"/>
                      <a:pt x="3245" y="1"/>
                      <a:pt x="3245" y="2"/>
                    </a:cubicBezTo>
                    <a:cubicBezTo>
                      <a:pt x="3245" y="3"/>
                      <a:pt x="3244" y="4"/>
                      <a:pt x="3243" y="4"/>
                    </a:cubicBezTo>
                    <a:lnTo>
                      <a:pt x="3243" y="4"/>
                    </a:lnTo>
                    <a:cubicBezTo>
                      <a:pt x="3242" y="4"/>
                      <a:pt x="3241" y="3"/>
                      <a:pt x="3241" y="2"/>
                    </a:cubicBezTo>
                    <a:cubicBezTo>
                      <a:pt x="3241" y="1"/>
                      <a:pt x="3242" y="0"/>
                      <a:pt x="3243" y="0"/>
                    </a:cubicBezTo>
                    <a:close/>
                    <a:moveTo>
                      <a:pt x="3251" y="0"/>
                    </a:moveTo>
                    <a:lnTo>
                      <a:pt x="3251" y="0"/>
                    </a:lnTo>
                    <a:cubicBezTo>
                      <a:pt x="3252" y="0"/>
                      <a:pt x="3253" y="1"/>
                      <a:pt x="3253" y="2"/>
                    </a:cubicBezTo>
                    <a:cubicBezTo>
                      <a:pt x="3253" y="3"/>
                      <a:pt x="3252" y="4"/>
                      <a:pt x="3251" y="4"/>
                    </a:cubicBezTo>
                    <a:lnTo>
                      <a:pt x="3251" y="4"/>
                    </a:lnTo>
                    <a:cubicBezTo>
                      <a:pt x="3250" y="4"/>
                      <a:pt x="3249" y="3"/>
                      <a:pt x="3249" y="2"/>
                    </a:cubicBezTo>
                    <a:cubicBezTo>
                      <a:pt x="3249" y="1"/>
                      <a:pt x="3250" y="0"/>
                      <a:pt x="3251" y="0"/>
                    </a:cubicBezTo>
                    <a:close/>
                    <a:moveTo>
                      <a:pt x="3259" y="0"/>
                    </a:moveTo>
                    <a:lnTo>
                      <a:pt x="3259" y="0"/>
                    </a:lnTo>
                    <a:cubicBezTo>
                      <a:pt x="3261" y="0"/>
                      <a:pt x="3261" y="1"/>
                      <a:pt x="3261" y="2"/>
                    </a:cubicBezTo>
                    <a:cubicBezTo>
                      <a:pt x="3261" y="3"/>
                      <a:pt x="3261" y="4"/>
                      <a:pt x="3259" y="4"/>
                    </a:cubicBezTo>
                    <a:lnTo>
                      <a:pt x="3259" y="4"/>
                    </a:lnTo>
                    <a:cubicBezTo>
                      <a:pt x="3258" y="4"/>
                      <a:pt x="3257" y="3"/>
                      <a:pt x="3257" y="2"/>
                    </a:cubicBezTo>
                    <a:cubicBezTo>
                      <a:pt x="3257" y="1"/>
                      <a:pt x="3258" y="0"/>
                      <a:pt x="3259" y="0"/>
                    </a:cubicBezTo>
                    <a:close/>
                    <a:moveTo>
                      <a:pt x="3267" y="0"/>
                    </a:moveTo>
                    <a:lnTo>
                      <a:pt x="3267" y="0"/>
                    </a:lnTo>
                    <a:cubicBezTo>
                      <a:pt x="3269" y="0"/>
                      <a:pt x="3269" y="1"/>
                      <a:pt x="3269" y="2"/>
                    </a:cubicBezTo>
                    <a:cubicBezTo>
                      <a:pt x="3269" y="3"/>
                      <a:pt x="3269" y="4"/>
                      <a:pt x="3267" y="4"/>
                    </a:cubicBezTo>
                    <a:lnTo>
                      <a:pt x="3267" y="4"/>
                    </a:lnTo>
                    <a:cubicBezTo>
                      <a:pt x="3266" y="4"/>
                      <a:pt x="3265" y="3"/>
                      <a:pt x="3265" y="2"/>
                    </a:cubicBezTo>
                    <a:cubicBezTo>
                      <a:pt x="3265" y="1"/>
                      <a:pt x="3266" y="0"/>
                      <a:pt x="3267" y="0"/>
                    </a:cubicBezTo>
                    <a:close/>
                    <a:moveTo>
                      <a:pt x="3275" y="0"/>
                    </a:moveTo>
                    <a:lnTo>
                      <a:pt x="3275" y="0"/>
                    </a:lnTo>
                    <a:cubicBezTo>
                      <a:pt x="3277" y="0"/>
                      <a:pt x="3277" y="1"/>
                      <a:pt x="3277" y="2"/>
                    </a:cubicBezTo>
                    <a:cubicBezTo>
                      <a:pt x="3277" y="3"/>
                      <a:pt x="3277" y="4"/>
                      <a:pt x="3275" y="4"/>
                    </a:cubicBezTo>
                    <a:lnTo>
                      <a:pt x="3275" y="4"/>
                    </a:lnTo>
                    <a:cubicBezTo>
                      <a:pt x="3274" y="4"/>
                      <a:pt x="3273" y="3"/>
                      <a:pt x="3273" y="2"/>
                    </a:cubicBezTo>
                    <a:cubicBezTo>
                      <a:pt x="3273" y="1"/>
                      <a:pt x="3274" y="0"/>
                      <a:pt x="3275" y="0"/>
                    </a:cubicBezTo>
                    <a:close/>
                    <a:moveTo>
                      <a:pt x="3283" y="0"/>
                    </a:moveTo>
                    <a:lnTo>
                      <a:pt x="3283" y="0"/>
                    </a:lnTo>
                    <a:cubicBezTo>
                      <a:pt x="3285" y="0"/>
                      <a:pt x="3285" y="1"/>
                      <a:pt x="3285" y="2"/>
                    </a:cubicBezTo>
                    <a:cubicBezTo>
                      <a:pt x="3285" y="3"/>
                      <a:pt x="3285" y="4"/>
                      <a:pt x="3283" y="4"/>
                    </a:cubicBezTo>
                    <a:lnTo>
                      <a:pt x="3283" y="4"/>
                    </a:lnTo>
                    <a:cubicBezTo>
                      <a:pt x="3282" y="4"/>
                      <a:pt x="3281" y="3"/>
                      <a:pt x="3281" y="2"/>
                    </a:cubicBezTo>
                    <a:cubicBezTo>
                      <a:pt x="3281" y="1"/>
                      <a:pt x="3282" y="0"/>
                      <a:pt x="3283" y="0"/>
                    </a:cubicBezTo>
                    <a:close/>
                    <a:moveTo>
                      <a:pt x="3291" y="0"/>
                    </a:moveTo>
                    <a:lnTo>
                      <a:pt x="3291" y="0"/>
                    </a:lnTo>
                    <a:cubicBezTo>
                      <a:pt x="3293" y="0"/>
                      <a:pt x="3293" y="1"/>
                      <a:pt x="3293" y="2"/>
                    </a:cubicBezTo>
                    <a:cubicBezTo>
                      <a:pt x="3293" y="3"/>
                      <a:pt x="3293" y="4"/>
                      <a:pt x="3291" y="4"/>
                    </a:cubicBezTo>
                    <a:lnTo>
                      <a:pt x="3291" y="4"/>
                    </a:lnTo>
                    <a:cubicBezTo>
                      <a:pt x="3290" y="4"/>
                      <a:pt x="3289" y="3"/>
                      <a:pt x="3289" y="2"/>
                    </a:cubicBezTo>
                    <a:cubicBezTo>
                      <a:pt x="3289" y="1"/>
                      <a:pt x="3290" y="0"/>
                      <a:pt x="3291" y="0"/>
                    </a:cubicBezTo>
                    <a:close/>
                    <a:moveTo>
                      <a:pt x="3299" y="0"/>
                    </a:moveTo>
                    <a:lnTo>
                      <a:pt x="3299" y="0"/>
                    </a:lnTo>
                    <a:cubicBezTo>
                      <a:pt x="3301" y="0"/>
                      <a:pt x="3301" y="1"/>
                      <a:pt x="3301" y="2"/>
                    </a:cubicBezTo>
                    <a:cubicBezTo>
                      <a:pt x="3301" y="3"/>
                      <a:pt x="3301" y="4"/>
                      <a:pt x="3299" y="4"/>
                    </a:cubicBezTo>
                    <a:lnTo>
                      <a:pt x="3299" y="4"/>
                    </a:lnTo>
                    <a:cubicBezTo>
                      <a:pt x="3298" y="4"/>
                      <a:pt x="3297" y="3"/>
                      <a:pt x="3297" y="2"/>
                    </a:cubicBezTo>
                    <a:cubicBezTo>
                      <a:pt x="3297" y="1"/>
                      <a:pt x="3298" y="0"/>
                      <a:pt x="3299" y="0"/>
                    </a:cubicBezTo>
                    <a:close/>
                    <a:moveTo>
                      <a:pt x="3307" y="0"/>
                    </a:moveTo>
                    <a:lnTo>
                      <a:pt x="3307" y="0"/>
                    </a:lnTo>
                    <a:cubicBezTo>
                      <a:pt x="3309" y="0"/>
                      <a:pt x="3309" y="1"/>
                      <a:pt x="3309" y="2"/>
                    </a:cubicBezTo>
                    <a:cubicBezTo>
                      <a:pt x="3309" y="3"/>
                      <a:pt x="3309" y="4"/>
                      <a:pt x="3307" y="4"/>
                    </a:cubicBezTo>
                    <a:lnTo>
                      <a:pt x="3307" y="4"/>
                    </a:lnTo>
                    <a:cubicBezTo>
                      <a:pt x="3306" y="4"/>
                      <a:pt x="3305" y="3"/>
                      <a:pt x="3305" y="2"/>
                    </a:cubicBezTo>
                    <a:cubicBezTo>
                      <a:pt x="3305" y="1"/>
                      <a:pt x="3306" y="0"/>
                      <a:pt x="3307" y="0"/>
                    </a:cubicBezTo>
                    <a:close/>
                    <a:moveTo>
                      <a:pt x="3315" y="0"/>
                    </a:moveTo>
                    <a:lnTo>
                      <a:pt x="3315" y="0"/>
                    </a:lnTo>
                    <a:cubicBezTo>
                      <a:pt x="3317" y="0"/>
                      <a:pt x="3317" y="1"/>
                      <a:pt x="3317" y="2"/>
                    </a:cubicBezTo>
                    <a:cubicBezTo>
                      <a:pt x="3317" y="3"/>
                      <a:pt x="3317" y="4"/>
                      <a:pt x="3315" y="4"/>
                    </a:cubicBezTo>
                    <a:lnTo>
                      <a:pt x="3315" y="4"/>
                    </a:lnTo>
                    <a:cubicBezTo>
                      <a:pt x="3314" y="4"/>
                      <a:pt x="3313" y="3"/>
                      <a:pt x="3313" y="2"/>
                    </a:cubicBezTo>
                    <a:cubicBezTo>
                      <a:pt x="3313" y="1"/>
                      <a:pt x="3314" y="0"/>
                      <a:pt x="3315" y="0"/>
                    </a:cubicBezTo>
                    <a:close/>
                    <a:moveTo>
                      <a:pt x="3323" y="0"/>
                    </a:moveTo>
                    <a:lnTo>
                      <a:pt x="3323" y="0"/>
                    </a:lnTo>
                    <a:cubicBezTo>
                      <a:pt x="3325" y="0"/>
                      <a:pt x="3325" y="1"/>
                      <a:pt x="3325" y="2"/>
                    </a:cubicBezTo>
                    <a:cubicBezTo>
                      <a:pt x="3325" y="3"/>
                      <a:pt x="3325" y="4"/>
                      <a:pt x="3323" y="4"/>
                    </a:cubicBezTo>
                    <a:lnTo>
                      <a:pt x="3323" y="4"/>
                    </a:lnTo>
                    <a:cubicBezTo>
                      <a:pt x="3322" y="4"/>
                      <a:pt x="3321" y="3"/>
                      <a:pt x="3321" y="2"/>
                    </a:cubicBezTo>
                    <a:cubicBezTo>
                      <a:pt x="3321" y="1"/>
                      <a:pt x="3322" y="0"/>
                      <a:pt x="3323" y="0"/>
                    </a:cubicBezTo>
                    <a:close/>
                    <a:moveTo>
                      <a:pt x="3331" y="0"/>
                    </a:moveTo>
                    <a:lnTo>
                      <a:pt x="3331" y="0"/>
                    </a:lnTo>
                    <a:cubicBezTo>
                      <a:pt x="3333" y="0"/>
                      <a:pt x="3333" y="1"/>
                      <a:pt x="3333" y="2"/>
                    </a:cubicBezTo>
                    <a:cubicBezTo>
                      <a:pt x="3333" y="3"/>
                      <a:pt x="3333" y="4"/>
                      <a:pt x="3331" y="4"/>
                    </a:cubicBezTo>
                    <a:lnTo>
                      <a:pt x="3331" y="4"/>
                    </a:lnTo>
                    <a:cubicBezTo>
                      <a:pt x="3330" y="4"/>
                      <a:pt x="3329" y="3"/>
                      <a:pt x="3329" y="2"/>
                    </a:cubicBezTo>
                    <a:cubicBezTo>
                      <a:pt x="3329" y="1"/>
                      <a:pt x="3330" y="0"/>
                      <a:pt x="3331" y="0"/>
                    </a:cubicBezTo>
                    <a:close/>
                    <a:moveTo>
                      <a:pt x="3339" y="0"/>
                    </a:moveTo>
                    <a:lnTo>
                      <a:pt x="3339" y="0"/>
                    </a:lnTo>
                    <a:cubicBezTo>
                      <a:pt x="3341" y="0"/>
                      <a:pt x="3341" y="1"/>
                      <a:pt x="3341" y="2"/>
                    </a:cubicBezTo>
                    <a:cubicBezTo>
                      <a:pt x="3341" y="3"/>
                      <a:pt x="3341" y="4"/>
                      <a:pt x="3339" y="4"/>
                    </a:cubicBezTo>
                    <a:lnTo>
                      <a:pt x="3339" y="4"/>
                    </a:lnTo>
                    <a:cubicBezTo>
                      <a:pt x="3338" y="4"/>
                      <a:pt x="3337" y="3"/>
                      <a:pt x="3337" y="2"/>
                    </a:cubicBezTo>
                    <a:cubicBezTo>
                      <a:pt x="3337" y="1"/>
                      <a:pt x="3338" y="0"/>
                      <a:pt x="3339" y="0"/>
                    </a:cubicBezTo>
                    <a:close/>
                    <a:moveTo>
                      <a:pt x="3347" y="0"/>
                    </a:moveTo>
                    <a:lnTo>
                      <a:pt x="3347" y="0"/>
                    </a:lnTo>
                    <a:cubicBezTo>
                      <a:pt x="3349" y="0"/>
                      <a:pt x="3349" y="1"/>
                      <a:pt x="3349" y="2"/>
                    </a:cubicBezTo>
                    <a:cubicBezTo>
                      <a:pt x="3349" y="3"/>
                      <a:pt x="3349" y="4"/>
                      <a:pt x="3347" y="4"/>
                    </a:cubicBezTo>
                    <a:lnTo>
                      <a:pt x="3347" y="4"/>
                    </a:lnTo>
                    <a:cubicBezTo>
                      <a:pt x="3346" y="4"/>
                      <a:pt x="3345" y="3"/>
                      <a:pt x="3345" y="2"/>
                    </a:cubicBezTo>
                    <a:cubicBezTo>
                      <a:pt x="3345" y="1"/>
                      <a:pt x="3346" y="0"/>
                      <a:pt x="3347" y="0"/>
                    </a:cubicBezTo>
                    <a:close/>
                    <a:moveTo>
                      <a:pt x="3355" y="0"/>
                    </a:moveTo>
                    <a:lnTo>
                      <a:pt x="3355" y="0"/>
                    </a:lnTo>
                    <a:cubicBezTo>
                      <a:pt x="3357" y="0"/>
                      <a:pt x="3357" y="1"/>
                      <a:pt x="3357" y="2"/>
                    </a:cubicBezTo>
                    <a:cubicBezTo>
                      <a:pt x="3357" y="3"/>
                      <a:pt x="3357" y="4"/>
                      <a:pt x="3355" y="4"/>
                    </a:cubicBezTo>
                    <a:lnTo>
                      <a:pt x="3355" y="4"/>
                    </a:lnTo>
                    <a:cubicBezTo>
                      <a:pt x="3354" y="4"/>
                      <a:pt x="3353" y="3"/>
                      <a:pt x="3353" y="2"/>
                    </a:cubicBezTo>
                    <a:cubicBezTo>
                      <a:pt x="3353" y="1"/>
                      <a:pt x="3354" y="0"/>
                      <a:pt x="3355" y="0"/>
                    </a:cubicBezTo>
                    <a:close/>
                    <a:moveTo>
                      <a:pt x="3363" y="0"/>
                    </a:moveTo>
                    <a:lnTo>
                      <a:pt x="3363" y="0"/>
                    </a:lnTo>
                    <a:cubicBezTo>
                      <a:pt x="3365" y="0"/>
                      <a:pt x="3365" y="1"/>
                      <a:pt x="3365" y="2"/>
                    </a:cubicBezTo>
                    <a:cubicBezTo>
                      <a:pt x="3365" y="3"/>
                      <a:pt x="3365" y="4"/>
                      <a:pt x="3363" y="4"/>
                    </a:cubicBezTo>
                    <a:lnTo>
                      <a:pt x="3363" y="4"/>
                    </a:lnTo>
                    <a:cubicBezTo>
                      <a:pt x="3362" y="4"/>
                      <a:pt x="3361" y="3"/>
                      <a:pt x="3361" y="2"/>
                    </a:cubicBezTo>
                    <a:cubicBezTo>
                      <a:pt x="3361" y="1"/>
                      <a:pt x="3362" y="0"/>
                      <a:pt x="3363" y="0"/>
                    </a:cubicBezTo>
                    <a:close/>
                    <a:moveTo>
                      <a:pt x="3371" y="0"/>
                    </a:moveTo>
                    <a:lnTo>
                      <a:pt x="3371" y="0"/>
                    </a:lnTo>
                    <a:cubicBezTo>
                      <a:pt x="3373" y="0"/>
                      <a:pt x="3373" y="1"/>
                      <a:pt x="3373" y="2"/>
                    </a:cubicBezTo>
                    <a:cubicBezTo>
                      <a:pt x="3373" y="3"/>
                      <a:pt x="3373" y="4"/>
                      <a:pt x="3371" y="4"/>
                    </a:cubicBezTo>
                    <a:lnTo>
                      <a:pt x="3371" y="4"/>
                    </a:lnTo>
                    <a:cubicBezTo>
                      <a:pt x="3370" y="4"/>
                      <a:pt x="3369" y="3"/>
                      <a:pt x="3369" y="2"/>
                    </a:cubicBezTo>
                    <a:cubicBezTo>
                      <a:pt x="3369" y="1"/>
                      <a:pt x="3370" y="0"/>
                      <a:pt x="3371" y="0"/>
                    </a:cubicBezTo>
                    <a:close/>
                    <a:moveTo>
                      <a:pt x="3379" y="0"/>
                    </a:moveTo>
                    <a:lnTo>
                      <a:pt x="3379" y="0"/>
                    </a:lnTo>
                    <a:cubicBezTo>
                      <a:pt x="3381" y="0"/>
                      <a:pt x="3381" y="1"/>
                      <a:pt x="3381" y="2"/>
                    </a:cubicBezTo>
                    <a:cubicBezTo>
                      <a:pt x="3381" y="3"/>
                      <a:pt x="3381" y="4"/>
                      <a:pt x="3379" y="4"/>
                    </a:cubicBezTo>
                    <a:lnTo>
                      <a:pt x="3379" y="4"/>
                    </a:lnTo>
                    <a:cubicBezTo>
                      <a:pt x="3378" y="4"/>
                      <a:pt x="3377" y="3"/>
                      <a:pt x="3377" y="2"/>
                    </a:cubicBezTo>
                    <a:cubicBezTo>
                      <a:pt x="3377" y="1"/>
                      <a:pt x="3378" y="0"/>
                      <a:pt x="3379" y="0"/>
                    </a:cubicBezTo>
                    <a:close/>
                    <a:moveTo>
                      <a:pt x="3387" y="0"/>
                    </a:moveTo>
                    <a:lnTo>
                      <a:pt x="3387" y="0"/>
                    </a:lnTo>
                    <a:cubicBezTo>
                      <a:pt x="3389" y="0"/>
                      <a:pt x="3389" y="1"/>
                      <a:pt x="3389" y="2"/>
                    </a:cubicBezTo>
                    <a:cubicBezTo>
                      <a:pt x="3389" y="3"/>
                      <a:pt x="3389" y="4"/>
                      <a:pt x="3387" y="4"/>
                    </a:cubicBezTo>
                    <a:lnTo>
                      <a:pt x="3387" y="4"/>
                    </a:lnTo>
                    <a:cubicBezTo>
                      <a:pt x="3386" y="4"/>
                      <a:pt x="3385" y="3"/>
                      <a:pt x="3385" y="2"/>
                    </a:cubicBezTo>
                    <a:cubicBezTo>
                      <a:pt x="3385" y="1"/>
                      <a:pt x="3386" y="0"/>
                      <a:pt x="3387" y="0"/>
                    </a:cubicBezTo>
                    <a:close/>
                    <a:moveTo>
                      <a:pt x="3395" y="0"/>
                    </a:moveTo>
                    <a:lnTo>
                      <a:pt x="3395" y="0"/>
                    </a:lnTo>
                    <a:cubicBezTo>
                      <a:pt x="3397" y="0"/>
                      <a:pt x="3397" y="1"/>
                      <a:pt x="3397" y="2"/>
                    </a:cubicBezTo>
                    <a:cubicBezTo>
                      <a:pt x="3397" y="3"/>
                      <a:pt x="3397" y="4"/>
                      <a:pt x="3395" y="4"/>
                    </a:cubicBezTo>
                    <a:lnTo>
                      <a:pt x="3395" y="4"/>
                    </a:lnTo>
                    <a:cubicBezTo>
                      <a:pt x="3394" y="4"/>
                      <a:pt x="3393" y="3"/>
                      <a:pt x="3393" y="2"/>
                    </a:cubicBezTo>
                    <a:cubicBezTo>
                      <a:pt x="3393" y="1"/>
                      <a:pt x="3394" y="0"/>
                      <a:pt x="3395" y="0"/>
                    </a:cubicBezTo>
                    <a:close/>
                    <a:moveTo>
                      <a:pt x="3403" y="0"/>
                    </a:moveTo>
                    <a:lnTo>
                      <a:pt x="3403" y="0"/>
                    </a:lnTo>
                    <a:cubicBezTo>
                      <a:pt x="3405" y="0"/>
                      <a:pt x="3405" y="1"/>
                      <a:pt x="3405" y="2"/>
                    </a:cubicBezTo>
                    <a:cubicBezTo>
                      <a:pt x="3405" y="3"/>
                      <a:pt x="3405" y="4"/>
                      <a:pt x="3403" y="4"/>
                    </a:cubicBezTo>
                    <a:lnTo>
                      <a:pt x="3403" y="4"/>
                    </a:lnTo>
                    <a:cubicBezTo>
                      <a:pt x="3402" y="4"/>
                      <a:pt x="3401" y="3"/>
                      <a:pt x="3401" y="2"/>
                    </a:cubicBezTo>
                    <a:cubicBezTo>
                      <a:pt x="3401" y="1"/>
                      <a:pt x="3402" y="0"/>
                      <a:pt x="3403" y="0"/>
                    </a:cubicBezTo>
                    <a:close/>
                    <a:moveTo>
                      <a:pt x="3411" y="0"/>
                    </a:moveTo>
                    <a:lnTo>
                      <a:pt x="3411" y="0"/>
                    </a:lnTo>
                    <a:cubicBezTo>
                      <a:pt x="3413" y="0"/>
                      <a:pt x="3413" y="1"/>
                      <a:pt x="3413" y="2"/>
                    </a:cubicBezTo>
                    <a:cubicBezTo>
                      <a:pt x="3413" y="3"/>
                      <a:pt x="3413" y="4"/>
                      <a:pt x="3411" y="4"/>
                    </a:cubicBezTo>
                    <a:lnTo>
                      <a:pt x="3411" y="4"/>
                    </a:lnTo>
                    <a:cubicBezTo>
                      <a:pt x="3410" y="4"/>
                      <a:pt x="3409" y="3"/>
                      <a:pt x="3409" y="2"/>
                    </a:cubicBezTo>
                    <a:cubicBezTo>
                      <a:pt x="3409" y="1"/>
                      <a:pt x="3410" y="0"/>
                      <a:pt x="3411" y="0"/>
                    </a:cubicBezTo>
                    <a:close/>
                    <a:moveTo>
                      <a:pt x="3419" y="0"/>
                    </a:moveTo>
                    <a:lnTo>
                      <a:pt x="3419" y="0"/>
                    </a:lnTo>
                    <a:cubicBezTo>
                      <a:pt x="3421" y="0"/>
                      <a:pt x="3421" y="1"/>
                      <a:pt x="3421" y="2"/>
                    </a:cubicBezTo>
                    <a:cubicBezTo>
                      <a:pt x="3421" y="3"/>
                      <a:pt x="3421" y="4"/>
                      <a:pt x="3419" y="4"/>
                    </a:cubicBezTo>
                    <a:lnTo>
                      <a:pt x="3419" y="4"/>
                    </a:lnTo>
                    <a:cubicBezTo>
                      <a:pt x="3418" y="4"/>
                      <a:pt x="3417" y="3"/>
                      <a:pt x="3417" y="2"/>
                    </a:cubicBezTo>
                    <a:cubicBezTo>
                      <a:pt x="3417" y="1"/>
                      <a:pt x="3418" y="0"/>
                      <a:pt x="3419" y="0"/>
                    </a:cubicBezTo>
                    <a:close/>
                    <a:moveTo>
                      <a:pt x="3427" y="0"/>
                    </a:moveTo>
                    <a:lnTo>
                      <a:pt x="3427" y="0"/>
                    </a:lnTo>
                    <a:cubicBezTo>
                      <a:pt x="3429" y="0"/>
                      <a:pt x="3429" y="1"/>
                      <a:pt x="3429" y="2"/>
                    </a:cubicBezTo>
                    <a:cubicBezTo>
                      <a:pt x="3429" y="3"/>
                      <a:pt x="3429" y="4"/>
                      <a:pt x="3427" y="4"/>
                    </a:cubicBezTo>
                    <a:lnTo>
                      <a:pt x="3427" y="4"/>
                    </a:lnTo>
                    <a:cubicBezTo>
                      <a:pt x="3426" y="4"/>
                      <a:pt x="3425" y="3"/>
                      <a:pt x="3425" y="2"/>
                    </a:cubicBezTo>
                    <a:cubicBezTo>
                      <a:pt x="3425" y="1"/>
                      <a:pt x="3426" y="0"/>
                      <a:pt x="3427" y="0"/>
                    </a:cubicBezTo>
                    <a:close/>
                    <a:moveTo>
                      <a:pt x="3435" y="0"/>
                    </a:moveTo>
                    <a:lnTo>
                      <a:pt x="3435" y="0"/>
                    </a:lnTo>
                    <a:cubicBezTo>
                      <a:pt x="3437" y="0"/>
                      <a:pt x="3437" y="1"/>
                      <a:pt x="3437" y="2"/>
                    </a:cubicBezTo>
                    <a:cubicBezTo>
                      <a:pt x="3437" y="3"/>
                      <a:pt x="3437" y="4"/>
                      <a:pt x="3435" y="4"/>
                    </a:cubicBezTo>
                    <a:lnTo>
                      <a:pt x="3435" y="4"/>
                    </a:lnTo>
                    <a:cubicBezTo>
                      <a:pt x="3434" y="4"/>
                      <a:pt x="3433" y="3"/>
                      <a:pt x="3433" y="2"/>
                    </a:cubicBezTo>
                    <a:cubicBezTo>
                      <a:pt x="3433" y="1"/>
                      <a:pt x="3434" y="0"/>
                      <a:pt x="3435" y="0"/>
                    </a:cubicBezTo>
                    <a:close/>
                    <a:moveTo>
                      <a:pt x="3443" y="0"/>
                    </a:moveTo>
                    <a:lnTo>
                      <a:pt x="3443" y="0"/>
                    </a:lnTo>
                    <a:cubicBezTo>
                      <a:pt x="3445" y="0"/>
                      <a:pt x="3445" y="1"/>
                      <a:pt x="3445" y="2"/>
                    </a:cubicBezTo>
                    <a:cubicBezTo>
                      <a:pt x="3445" y="3"/>
                      <a:pt x="3445" y="4"/>
                      <a:pt x="3443" y="4"/>
                    </a:cubicBezTo>
                    <a:lnTo>
                      <a:pt x="3443" y="4"/>
                    </a:lnTo>
                    <a:cubicBezTo>
                      <a:pt x="3442" y="4"/>
                      <a:pt x="3441" y="3"/>
                      <a:pt x="3441" y="2"/>
                    </a:cubicBezTo>
                    <a:cubicBezTo>
                      <a:pt x="3441" y="1"/>
                      <a:pt x="3442" y="0"/>
                      <a:pt x="3443" y="0"/>
                    </a:cubicBezTo>
                    <a:close/>
                    <a:moveTo>
                      <a:pt x="3451" y="0"/>
                    </a:moveTo>
                    <a:lnTo>
                      <a:pt x="3451" y="0"/>
                    </a:lnTo>
                    <a:cubicBezTo>
                      <a:pt x="3453" y="0"/>
                      <a:pt x="3453" y="1"/>
                      <a:pt x="3453" y="2"/>
                    </a:cubicBezTo>
                    <a:cubicBezTo>
                      <a:pt x="3453" y="3"/>
                      <a:pt x="3453" y="4"/>
                      <a:pt x="3451" y="4"/>
                    </a:cubicBezTo>
                    <a:lnTo>
                      <a:pt x="3451" y="4"/>
                    </a:lnTo>
                    <a:cubicBezTo>
                      <a:pt x="3450" y="4"/>
                      <a:pt x="3449" y="3"/>
                      <a:pt x="3449" y="2"/>
                    </a:cubicBezTo>
                    <a:cubicBezTo>
                      <a:pt x="3449" y="1"/>
                      <a:pt x="3450" y="0"/>
                      <a:pt x="3451" y="0"/>
                    </a:cubicBezTo>
                    <a:close/>
                    <a:moveTo>
                      <a:pt x="3459" y="0"/>
                    </a:moveTo>
                    <a:lnTo>
                      <a:pt x="3459" y="0"/>
                    </a:lnTo>
                    <a:cubicBezTo>
                      <a:pt x="3461" y="0"/>
                      <a:pt x="3461" y="1"/>
                      <a:pt x="3461" y="2"/>
                    </a:cubicBezTo>
                    <a:cubicBezTo>
                      <a:pt x="3461" y="3"/>
                      <a:pt x="3461" y="4"/>
                      <a:pt x="3459" y="4"/>
                    </a:cubicBezTo>
                    <a:lnTo>
                      <a:pt x="3459" y="4"/>
                    </a:lnTo>
                    <a:cubicBezTo>
                      <a:pt x="3458" y="4"/>
                      <a:pt x="3457" y="3"/>
                      <a:pt x="3457" y="2"/>
                    </a:cubicBezTo>
                    <a:cubicBezTo>
                      <a:pt x="3457" y="1"/>
                      <a:pt x="3458" y="0"/>
                      <a:pt x="3459" y="0"/>
                    </a:cubicBezTo>
                    <a:close/>
                    <a:moveTo>
                      <a:pt x="3467" y="0"/>
                    </a:moveTo>
                    <a:lnTo>
                      <a:pt x="3467" y="0"/>
                    </a:lnTo>
                    <a:cubicBezTo>
                      <a:pt x="3469" y="0"/>
                      <a:pt x="3469" y="1"/>
                      <a:pt x="3469" y="2"/>
                    </a:cubicBezTo>
                    <a:cubicBezTo>
                      <a:pt x="3469" y="3"/>
                      <a:pt x="3469" y="4"/>
                      <a:pt x="3467" y="4"/>
                    </a:cubicBezTo>
                    <a:lnTo>
                      <a:pt x="3467" y="4"/>
                    </a:lnTo>
                    <a:cubicBezTo>
                      <a:pt x="3466" y="4"/>
                      <a:pt x="3465" y="3"/>
                      <a:pt x="3465" y="2"/>
                    </a:cubicBezTo>
                    <a:cubicBezTo>
                      <a:pt x="3465" y="1"/>
                      <a:pt x="3466" y="0"/>
                      <a:pt x="3467" y="0"/>
                    </a:cubicBezTo>
                    <a:close/>
                    <a:moveTo>
                      <a:pt x="3475" y="0"/>
                    </a:moveTo>
                    <a:lnTo>
                      <a:pt x="3476" y="0"/>
                    </a:lnTo>
                    <a:cubicBezTo>
                      <a:pt x="3477" y="0"/>
                      <a:pt x="3478" y="1"/>
                      <a:pt x="3478" y="2"/>
                    </a:cubicBezTo>
                    <a:cubicBezTo>
                      <a:pt x="3478" y="3"/>
                      <a:pt x="3477" y="4"/>
                      <a:pt x="3476" y="4"/>
                    </a:cubicBezTo>
                    <a:lnTo>
                      <a:pt x="3475" y="4"/>
                    </a:lnTo>
                    <a:cubicBezTo>
                      <a:pt x="3474" y="4"/>
                      <a:pt x="3473" y="3"/>
                      <a:pt x="3473" y="2"/>
                    </a:cubicBezTo>
                    <a:cubicBezTo>
                      <a:pt x="3473" y="1"/>
                      <a:pt x="3474" y="0"/>
                      <a:pt x="3475" y="0"/>
                    </a:cubicBezTo>
                    <a:close/>
                    <a:moveTo>
                      <a:pt x="3484" y="0"/>
                    </a:moveTo>
                    <a:lnTo>
                      <a:pt x="3484" y="0"/>
                    </a:lnTo>
                    <a:cubicBezTo>
                      <a:pt x="3485" y="0"/>
                      <a:pt x="3486" y="1"/>
                      <a:pt x="3486" y="2"/>
                    </a:cubicBezTo>
                    <a:cubicBezTo>
                      <a:pt x="3486" y="3"/>
                      <a:pt x="3485" y="4"/>
                      <a:pt x="3484" y="4"/>
                    </a:cubicBezTo>
                    <a:lnTo>
                      <a:pt x="3484" y="4"/>
                    </a:lnTo>
                    <a:cubicBezTo>
                      <a:pt x="3482" y="4"/>
                      <a:pt x="3482" y="3"/>
                      <a:pt x="3482" y="2"/>
                    </a:cubicBezTo>
                    <a:cubicBezTo>
                      <a:pt x="3482" y="1"/>
                      <a:pt x="3482" y="0"/>
                      <a:pt x="3484" y="0"/>
                    </a:cubicBezTo>
                    <a:close/>
                    <a:moveTo>
                      <a:pt x="3492" y="0"/>
                    </a:moveTo>
                    <a:lnTo>
                      <a:pt x="3492" y="0"/>
                    </a:lnTo>
                    <a:cubicBezTo>
                      <a:pt x="3493" y="0"/>
                      <a:pt x="3494" y="1"/>
                      <a:pt x="3494" y="2"/>
                    </a:cubicBezTo>
                    <a:cubicBezTo>
                      <a:pt x="3494" y="3"/>
                      <a:pt x="3493" y="4"/>
                      <a:pt x="3492" y="4"/>
                    </a:cubicBezTo>
                    <a:lnTo>
                      <a:pt x="3492" y="4"/>
                    </a:lnTo>
                    <a:cubicBezTo>
                      <a:pt x="3490" y="4"/>
                      <a:pt x="3490" y="3"/>
                      <a:pt x="3490" y="2"/>
                    </a:cubicBezTo>
                    <a:cubicBezTo>
                      <a:pt x="3490" y="1"/>
                      <a:pt x="3490" y="0"/>
                      <a:pt x="3492" y="0"/>
                    </a:cubicBezTo>
                    <a:close/>
                    <a:moveTo>
                      <a:pt x="3500" y="0"/>
                    </a:moveTo>
                    <a:lnTo>
                      <a:pt x="3500" y="0"/>
                    </a:lnTo>
                    <a:cubicBezTo>
                      <a:pt x="3501" y="0"/>
                      <a:pt x="3502" y="1"/>
                      <a:pt x="3502" y="2"/>
                    </a:cubicBezTo>
                    <a:cubicBezTo>
                      <a:pt x="3502" y="3"/>
                      <a:pt x="3501" y="4"/>
                      <a:pt x="3500" y="4"/>
                    </a:cubicBezTo>
                    <a:lnTo>
                      <a:pt x="3500" y="4"/>
                    </a:lnTo>
                    <a:cubicBezTo>
                      <a:pt x="3498" y="4"/>
                      <a:pt x="3498" y="3"/>
                      <a:pt x="3498" y="2"/>
                    </a:cubicBezTo>
                    <a:cubicBezTo>
                      <a:pt x="3498" y="1"/>
                      <a:pt x="3498" y="0"/>
                      <a:pt x="3500" y="0"/>
                    </a:cubicBezTo>
                    <a:close/>
                    <a:moveTo>
                      <a:pt x="3508" y="0"/>
                    </a:moveTo>
                    <a:lnTo>
                      <a:pt x="3508" y="0"/>
                    </a:lnTo>
                    <a:cubicBezTo>
                      <a:pt x="3509" y="0"/>
                      <a:pt x="3510" y="1"/>
                      <a:pt x="3510" y="2"/>
                    </a:cubicBezTo>
                    <a:cubicBezTo>
                      <a:pt x="3510" y="3"/>
                      <a:pt x="3509" y="4"/>
                      <a:pt x="3508" y="4"/>
                    </a:cubicBezTo>
                    <a:lnTo>
                      <a:pt x="3508" y="4"/>
                    </a:lnTo>
                    <a:cubicBezTo>
                      <a:pt x="3506" y="4"/>
                      <a:pt x="3506" y="3"/>
                      <a:pt x="3506" y="2"/>
                    </a:cubicBezTo>
                    <a:cubicBezTo>
                      <a:pt x="3506" y="1"/>
                      <a:pt x="3506" y="0"/>
                      <a:pt x="3508" y="0"/>
                    </a:cubicBezTo>
                    <a:close/>
                    <a:moveTo>
                      <a:pt x="3516" y="0"/>
                    </a:moveTo>
                    <a:lnTo>
                      <a:pt x="3516" y="0"/>
                    </a:lnTo>
                    <a:cubicBezTo>
                      <a:pt x="3517" y="0"/>
                      <a:pt x="3518" y="1"/>
                      <a:pt x="3518" y="2"/>
                    </a:cubicBezTo>
                    <a:cubicBezTo>
                      <a:pt x="3518" y="3"/>
                      <a:pt x="3517" y="4"/>
                      <a:pt x="3516" y="4"/>
                    </a:cubicBezTo>
                    <a:lnTo>
                      <a:pt x="3516" y="4"/>
                    </a:lnTo>
                    <a:cubicBezTo>
                      <a:pt x="3514" y="4"/>
                      <a:pt x="3514" y="3"/>
                      <a:pt x="3514" y="2"/>
                    </a:cubicBezTo>
                    <a:cubicBezTo>
                      <a:pt x="3514" y="1"/>
                      <a:pt x="3514" y="0"/>
                      <a:pt x="3516" y="0"/>
                    </a:cubicBezTo>
                    <a:close/>
                    <a:moveTo>
                      <a:pt x="3524" y="0"/>
                    </a:moveTo>
                    <a:lnTo>
                      <a:pt x="3524" y="0"/>
                    </a:lnTo>
                    <a:cubicBezTo>
                      <a:pt x="3525" y="0"/>
                      <a:pt x="3526" y="1"/>
                      <a:pt x="3526" y="2"/>
                    </a:cubicBezTo>
                    <a:cubicBezTo>
                      <a:pt x="3526" y="3"/>
                      <a:pt x="3525" y="4"/>
                      <a:pt x="3524" y="4"/>
                    </a:cubicBezTo>
                    <a:lnTo>
                      <a:pt x="3524" y="4"/>
                    </a:lnTo>
                    <a:cubicBezTo>
                      <a:pt x="3522" y="4"/>
                      <a:pt x="3522" y="3"/>
                      <a:pt x="3522" y="2"/>
                    </a:cubicBezTo>
                    <a:cubicBezTo>
                      <a:pt x="3522" y="1"/>
                      <a:pt x="3522" y="0"/>
                      <a:pt x="3524" y="0"/>
                    </a:cubicBezTo>
                    <a:close/>
                    <a:moveTo>
                      <a:pt x="3532" y="0"/>
                    </a:moveTo>
                    <a:lnTo>
                      <a:pt x="3532" y="0"/>
                    </a:lnTo>
                    <a:cubicBezTo>
                      <a:pt x="3533" y="0"/>
                      <a:pt x="3534" y="1"/>
                      <a:pt x="3534" y="2"/>
                    </a:cubicBezTo>
                    <a:cubicBezTo>
                      <a:pt x="3534" y="3"/>
                      <a:pt x="3533" y="4"/>
                      <a:pt x="3532" y="4"/>
                    </a:cubicBezTo>
                    <a:lnTo>
                      <a:pt x="3532" y="4"/>
                    </a:lnTo>
                    <a:cubicBezTo>
                      <a:pt x="3530" y="4"/>
                      <a:pt x="3530" y="3"/>
                      <a:pt x="3530" y="2"/>
                    </a:cubicBezTo>
                    <a:cubicBezTo>
                      <a:pt x="3530" y="1"/>
                      <a:pt x="3530" y="0"/>
                      <a:pt x="3532" y="0"/>
                    </a:cubicBezTo>
                    <a:close/>
                    <a:moveTo>
                      <a:pt x="3540" y="0"/>
                    </a:moveTo>
                    <a:lnTo>
                      <a:pt x="3540" y="0"/>
                    </a:lnTo>
                    <a:cubicBezTo>
                      <a:pt x="3541" y="0"/>
                      <a:pt x="3542" y="1"/>
                      <a:pt x="3542" y="2"/>
                    </a:cubicBezTo>
                    <a:cubicBezTo>
                      <a:pt x="3542" y="3"/>
                      <a:pt x="3541" y="4"/>
                      <a:pt x="3540" y="4"/>
                    </a:cubicBezTo>
                    <a:lnTo>
                      <a:pt x="3540" y="4"/>
                    </a:lnTo>
                    <a:cubicBezTo>
                      <a:pt x="3538" y="4"/>
                      <a:pt x="3538" y="3"/>
                      <a:pt x="3538" y="2"/>
                    </a:cubicBezTo>
                    <a:cubicBezTo>
                      <a:pt x="3538" y="1"/>
                      <a:pt x="3538" y="0"/>
                      <a:pt x="3540" y="0"/>
                    </a:cubicBezTo>
                    <a:close/>
                    <a:moveTo>
                      <a:pt x="3548" y="0"/>
                    </a:moveTo>
                    <a:lnTo>
                      <a:pt x="3548" y="0"/>
                    </a:lnTo>
                    <a:cubicBezTo>
                      <a:pt x="3549" y="0"/>
                      <a:pt x="3550" y="1"/>
                      <a:pt x="3550" y="2"/>
                    </a:cubicBezTo>
                    <a:cubicBezTo>
                      <a:pt x="3550" y="3"/>
                      <a:pt x="3549" y="4"/>
                      <a:pt x="3548" y="4"/>
                    </a:cubicBezTo>
                    <a:lnTo>
                      <a:pt x="3548" y="4"/>
                    </a:lnTo>
                    <a:cubicBezTo>
                      <a:pt x="3546" y="4"/>
                      <a:pt x="3546" y="3"/>
                      <a:pt x="3546" y="2"/>
                    </a:cubicBezTo>
                    <a:cubicBezTo>
                      <a:pt x="3546" y="1"/>
                      <a:pt x="3546" y="0"/>
                      <a:pt x="3548" y="0"/>
                    </a:cubicBezTo>
                    <a:close/>
                    <a:moveTo>
                      <a:pt x="3556" y="0"/>
                    </a:moveTo>
                    <a:lnTo>
                      <a:pt x="3556" y="0"/>
                    </a:lnTo>
                    <a:cubicBezTo>
                      <a:pt x="3557" y="0"/>
                      <a:pt x="3558" y="1"/>
                      <a:pt x="3558" y="2"/>
                    </a:cubicBezTo>
                    <a:cubicBezTo>
                      <a:pt x="3558" y="3"/>
                      <a:pt x="3557" y="4"/>
                      <a:pt x="3556" y="4"/>
                    </a:cubicBezTo>
                    <a:lnTo>
                      <a:pt x="3556" y="4"/>
                    </a:lnTo>
                    <a:cubicBezTo>
                      <a:pt x="3554" y="4"/>
                      <a:pt x="3554" y="3"/>
                      <a:pt x="3554" y="2"/>
                    </a:cubicBezTo>
                    <a:cubicBezTo>
                      <a:pt x="3554" y="1"/>
                      <a:pt x="3554" y="0"/>
                      <a:pt x="3556" y="0"/>
                    </a:cubicBezTo>
                    <a:close/>
                    <a:moveTo>
                      <a:pt x="3564" y="0"/>
                    </a:moveTo>
                    <a:lnTo>
                      <a:pt x="3564" y="0"/>
                    </a:lnTo>
                    <a:cubicBezTo>
                      <a:pt x="3565" y="0"/>
                      <a:pt x="3566" y="1"/>
                      <a:pt x="3566" y="2"/>
                    </a:cubicBezTo>
                    <a:cubicBezTo>
                      <a:pt x="3566" y="3"/>
                      <a:pt x="3565" y="4"/>
                      <a:pt x="3564" y="4"/>
                    </a:cubicBezTo>
                    <a:lnTo>
                      <a:pt x="3564" y="4"/>
                    </a:lnTo>
                    <a:cubicBezTo>
                      <a:pt x="3562" y="4"/>
                      <a:pt x="3562" y="3"/>
                      <a:pt x="3562" y="2"/>
                    </a:cubicBezTo>
                    <a:cubicBezTo>
                      <a:pt x="3562" y="1"/>
                      <a:pt x="3562" y="0"/>
                      <a:pt x="3564" y="0"/>
                    </a:cubicBezTo>
                    <a:close/>
                    <a:moveTo>
                      <a:pt x="3572" y="0"/>
                    </a:moveTo>
                    <a:lnTo>
                      <a:pt x="3572" y="0"/>
                    </a:lnTo>
                    <a:cubicBezTo>
                      <a:pt x="3573" y="0"/>
                      <a:pt x="3574" y="1"/>
                      <a:pt x="3574" y="2"/>
                    </a:cubicBezTo>
                    <a:cubicBezTo>
                      <a:pt x="3574" y="3"/>
                      <a:pt x="3573" y="4"/>
                      <a:pt x="3572" y="4"/>
                    </a:cubicBezTo>
                    <a:lnTo>
                      <a:pt x="3572" y="4"/>
                    </a:lnTo>
                    <a:cubicBezTo>
                      <a:pt x="3570" y="4"/>
                      <a:pt x="3570" y="3"/>
                      <a:pt x="3570" y="2"/>
                    </a:cubicBezTo>
                    <a:cubicBezTo>
                      <a:pt x="3570" y="1"/>
                      <a:pt x="3570" y="0"/>
                      <a:pt x="3572" y="0"/>
                    </a:cubicBezTo>
                    <a:close/>
                    <a:moveTo>
                      <a:pt x="3580" y="0"/>
                    </a:moveTo>
                    <a:lnTo>
                      <a:pt x="3580" y="0"/>
                    </a:lnTo>
                    <a:cubicBezTo>
                      <a:pt x="3581" y="0"/>
                      <a:pt x="3582" y="1"/>
                      <a:pt x="3582" y="2"/>
                    </a:cubicBezTo>
                    <a:cubicBezTo>
                      <a:pt x="3582" y="3"/>
                      <a:pt x="3581" y="4"/>
                      <a:pt x="3580" y="4"/>
                    </a:cubicBezTo>
                    <a:lnTo>
                      <a:pt x="3580" y="4"/>
                    </a:lnTo>
                    <a:cubicBezTo>
                      <a:pt x="3578" y="4"/>
                      <a:pt x="3578" y="3"/>
                      <a:pt x="3578" y="2"/>
                    </a:cubicBezTo>
                    <a:cubicBezTo>
                      <a:pt x="3578" y="1"/>
                      <a:pt x="3578" y="0"/>
                      <a:pt x="3580" y="0"/>
                    </a:cubicBezTo>
                    <a:close/>
                    <a:moveTo>
                      <a:pt x="3588" y="0"/>
                    </a:moveTo>
                    <a:lnTo>
                      <a:pt x="3588" y="0"/>
                    </a:lnTo>
                    <a:cubicBezTo>
                      <a:pt x="3589" y="0"/>
                      <a:pt x="3590" y="1"/>
                      <a:pt x="3590" y="2"/>
                    </a:cubicBezTo>
                    <a:cubicBezTo>
                      <a:pt x="3590" y="3"/>
                      <a:pt x="3589" y="4"/>
                      <a:pt x="3588" y="4"/>
                    </a:cubicBezTo>
                    <a:lnTo>
                      <a:pt x="3588" y="4"/>
                    </a:lnTo>
                    <a:cubicBezTo>
                      <a:pt x="3586" y="4"/>
                      <a:pt x="3586" y="3"/>
                      <a:pt x="3586" y="2"/>
                    </a:cubicBezTo>
                    <a:cubicBezTo>
                      <a:pt x="3586" y="1"/>
                      <a:pt x="3586" y="0"/>
                      <a:pt x="3588" y="0"/>
                    </a:cubicBezTo>
                    <a:close/>
                    <a:moveTo>
                      <a:pt x="3596" y="0"/>
                    </a:moveTo>
                    <a:lnTo>
                      <a:pt x="3596" y="0"/>
                    </a:lnTo>
                    <a:cubicBezTo>
                      <a:pt x="3597" y="0"/>
                      <a:pt x="3598" y="1"/>
                      <a:pt x="3598" y="2"/>
                    </a:cubicBezTo>
                    <a:cubicBezTo>
                      <a:pt x="3598" y="3"/>
                      <a:pt x="3597" y="4"/>
                      <a:pt x="3596" y="4"/>
                    </a:cubicBezTo>
                    <a:lnTo>
                      <a:pt x="3596" y="4"/>
                    </a:lnTo>
                    <a:cubicBezTo>
                      <a:pt x="3594" y="4"/>
                      <a:pt x="3594" y="3"/>
                      <a:pt x="3594" y="2"/>
                    </a:cubicBezTo>
                    <a:cubicBezTo>
                      <a:pt x="3594" y="1"/>
                      <a:pt x="3594" y="0"/>
                      <a:pt x="3596" y="0"/>
                    </a:cubicBezTo>
                    <a:close/>
                    <a:moveTo>
                      <a:pt x="3604" y="0"/>
                    </a:moveTo>
                    <a:lnTo>
                      <a:pt x="3604" y="0"/>
                    </a:lnTo>
                    <a:cubicBezTo>
                      <a:pt x="3605" y="0"/>
                      <a:pt x="3606" y="1"/>
                      <a:pt x="3606" y="2"/>
                    </a:cubicBezTo>
                    <a:cubicBezTo>
                      <a:pt x="3606" y="3"/>
                      <a:pt x="3605" y="4"/>
                      <a:pt x="3604" y="4"/>
                    </a:cubicBezTo>
                    <a:lnTo>
                      <a:pt x="3604" y="4"/>
                    </a:lnTo>
                    <a:cubicBezTo>
                      <a:pt x="3602" y="4"/>
                      <a:pt x="3602" y="3"/>
                      <a:pt x="3602" y="2"/>
                    </a:cubicBezTo>
                    <a:cubicBezTo>
                      <a:pt x="3602" y="1"/>
                      <a:pt x="3602" y="0"/>
                      <a:pt x="3604" y="0"/>
                    </a:cubicBezTo>
                    <a:close/>
                    <a:moveTo>
                      <a:pt x="3612" y="0"/>
                    </a:moveTo>
                    <a:lnTo>
                      <a:pt x="3612" y="0"/>
                    </a:lnTo>
                    <a:cubicBezTo>
                      <a:pt x="3613" y="0"/>
                      <a:pt x="3614" y="1"/>
                      <a:pt x="3614" y="2"/>
                    </a:cubicBezTo>
                    <a:cubicBezTo>
                      <a:pt x="3614" y="3"/>
                      <a:pt x="3613" y="4"/>
                      <a:pt x="3612" y="4"/>
                    </a:cubicBezTo>
                    <a:lnTo>
                      <a:pt x="3612" y="4"/>
                    </a:lnTo>
                    <a:cubicBezTo>
                      <a:pt x="3610" y="4"/>
                      <a:pt x="3610" y="3"/>
                      <a:pt x="3610" y="2"/>
                    </a:cubicBezTo>
                    <a:cubicBezTo>
                      <a:pt x="3610" y="1"/>
                      <a:pt x="3610" y="0"/>
                      <a:pt x="3612" y="0"/>
                    </a:cubicBezTo>
                    <a:close/>
                    <a:moveTo>
                      <a:pt x="3620" y="0"/>
                    </a:moveTo>
                    <a:lnTo>
                      <a:pt x="3620" y="0"/>
                    </a:lnTo>
                    <a:cubicBezTo>
                      <a:pt x="3621" y="0"/>
                      <a:pt x="3622" y="1"/>
                      <a:pt x="3622" y="2"/>
                    </a:cubicBezTo>
                    <a:cubicBezTo>
                      <a:pt x="3622" y="3"/>
                      <a:pt x="3621" y="4"/>
                      <a:pt x="3620" y="4"/>
                    </a:cubicBezTo>
                    <a:lnTo>
                      <a:pt x="3620" y="4"/>
                    </a:lnTo>
                    <a:cubicBezTo>
                      <a:pt x="3618" y="4"/>
                      <a:pt x="3618" y="3"/>
                      <a:pt x="3618" y="2"/>
                    </a:cubicBezTo>
                    <a:cubicBezTo>
                      <a:pt x="3618" y="1"/>
                      <a:pt x="3618" y="0"/>
                      <a:pt x="3620" y="0"/>
                    </a:cubicBezTo>
                    <a:close/>
                    <a:moveTo>
                      <a:pt x="3628" y="0"/>
                    </a:moveTo>
                    <a:lnTo>
                      <a:pt x="3628" y="0"/>
                    </a:lnTo>
                    <a:cubicBezTo>
                      <a:pt x="3629" y="0"/>
                      <a:pt x="3630" y="1"/>
                      <a:pt x="3630" y="2"/>
                    </a:cubicBezTo>
                    <a:cubicBezTo>
                      <a:pt x="3630" y="3"/>
                      <a:pt x="3629" y="4"/>
                      <a:pt x="3628" y="4"/>
                    </a:cubicBezTo>
                    <a:lnTo>
                      <a:pt x="3628" y="4"/>
                    </a:lnTo>
                    <a:cubicBezTo>
                      <a:pt x="3626" y="4"/>
                      <a:pt x="3626" y="3"/>
                      <a:pt x="3626" y="2"/>
                    </a:cubicBezTo>
                    <a:cubicBezTo>
                      <a:pt x="3626" y="1"/>
                      <a:pt x="3626" y="0"/>
                      <a:pt x="3628" y="0"/>
                    </a:cubicBezTo>
                    <a:close/>
                    <a:moveTo>
                      <a:pt x="3636" y="0"/>
                    </a:moveTo>
                    <a:lnTo>
                      <a:pt x="3636" y="0"/>
                    </a:lnTo>
                    <a:cubicBezTo>
                      <a:pt x="3637" y="0"/>
                      <a:pt x="3638" y="1"/>
                      <a:pt x="3638" y="2"/>
                    </a:cubicBezTo>
                    <a:cubicBezTo>
                      <a:pt x="3638" y="3"/>
                      <a:pt x="3637" y="4"/>
                      <a:pt x="3636" y="4"/>
                    </a:cubicBezTo>
                    <a:lnTo>
                      <a:pt x="3636" y="4"/>
                    </a:lnTo>
                    <a:cubicBezTo>
                      <a:pt x="3634" y="4"/>
                      <a:pt x="3634" y="3"/>
                      <a:pt x="3634" y="2"/>
                    </a:cubicBezTo>
                    <a:cubicBezTo>
                      <a:pt x="3634" y="1"/>
                      <a:pt x="3634" y="0"/>
                      <a:pt x="3636" y="0"/>
                    </a:cubicBezTo>
                    <a:close/>
                    <a:moveTo>
                      <a:pt x="3644" y="0"/>
                    </a:moveTo>
                    <a:lnTo>
                      <a:pt x="3644" y="0"/>
                    </a:lnTo>
                    <a:cubicBezTo>
                      <a:pt x="3645" y="0"/>
                      <a:pt x="3646" y="1"/>
                      <a:pt x="3646" y="2"/>
                    </a:cubicBezTo>
                    <a:cubicBezTo>
                      <a:pt x="3646" y="3"/>
                      <a:pt x="3645" y="4"/>
                      <a:pt x="3644" y="4"/>
                    </a:cubicBezTo>
                    <a:lnTo>
                      <a:pt x="3644" y="4"/>
                    </a:lnTo>
                    <a:cubicBezTo>
                      <a:pt x="3642" y="4"/>
                      <a:pt x="3642" y="3"/>
                      <a:pt x="3642" y="2"/>
                    </a:cubicBezTo>
                    <a:cubicBezTo>
                      <a:pt x="3642" y="1"/>
                      <a:pt x="3642" y="0"/>
                      <a:pt x="3644" y="0"/>
                    </a:cubicBezTo>
                    <a:close/>
                    <a:moveTo>
                      <a:pt x="3652" y="0"/>
                    </a:moveTo>
                    <a:lnTo>
                      <a:pt x="3652" y="0"/>
                    </a:lnTo>
                    <a:cubicBezTo>
                      <a:pt x="3653" y="0"/>
                      <a:pt x="3654" y="1"/>
                      <a:pt x="3654" y="2"/>
                    </a:cubicBezTo>
                    <a:cubicBezTo>
                      <a:pt x="3654" y="3"/>
                      <a:pt x="3653" y="4"/>
                      <a:pt x="3652" y="4"/>
                    </a:cubicBezTo>
                    <a:lnTo>
                      <a:pt x="3652" y="4"/>
                    </a:lnTo>
                    <a:cubicBezTo>
                      <a:pt x="3650" y="4"/>
                      <a:pt x="3650" y="3"/>
                      <a:pt x="3650" y="2"/>
                    </a:cubicBezTo>
                    <a:cubicBezTo>
                      <a:pt x="3650" y="1"/>
                      <a:pt x="3650" y="0"/>
                      <a:pt x="3652" y="0"/>
                    </a:cubicBezTo>
                    <a:close/>
                    <a:moveTo>
                      <a:pt x="3660" y="0"/>
                    </a:moveTo>
                    <a:lnTo>
                      <a:pt x="3660" y="0"/>
                    </a:lnTo>
                    <a:cubicBezTo>
                      <a:pt x="3661" y="0"/>
                      <a:pt x="3662" y="1"/>
                      <a:pt x="3662" y="2"/>
                    </a:cubicBezTo>
                    <a:cubicBezTo>
                      <a:pt x="3662" y="3"/>
                      <a:pt x="3661" y="4"/>
                      <a:pt x="3660" y="4"/>
                    </a:cubicBezTo>
                    <a:lnTo>
                      <a:pt x="3660" y="4"/>
                    </a:lnTo>
                    <a:cubicBezTo>
                      <a:pt x="3658" y="4"/>
                      <a:pt x="3658" y="3"/>
                      <a:pt x="3658" y="2"/>
                    </a:cubicBezTo>
                    <a:cubicBezTo>
                      <a:pt x="3658" y="1"/>
                      <a:pt x="3658" y="0"/>
                      <a:pt x="3660" y="0"/>
                    </a:cubicBezTo>
                    <a:close/>
                    <a:moveTo>
                      <a:pt x="3668" y="0"/>
                    </a:moveTo>
                    <a:lnTo>
                      <a:pt x="3668" y="0"/>
                    </a:lnTo>
                    <a:cubicBezTo>
                      <a:pt x="3669" y="0"/>
                      <a:pt x="3670" y="1"/>
                      <a:pt x="3670" y="2"/>
                    </a:cubicBezTo>
                    <a:cubicBezTo>
                      <a:pt x="3670" y="3"/>
                      <a:pt x="3669" y="4"/>
                      <a:pt x="3668" y="4"/>
                    </a:cubicBezTo>
                    <a:lnTo>
                      <a:pt x="3668" y="4"/>
                    </a:lnTo>
                    <a:cubicBezTo>
                      <a:pt x="3666" y="4"/>
                      <a:pt x="3666" y="3"/>
                      <a:pt x="3666" y="2"/>
                    </a:cubicBezTo>
                    <a:cubicBezTo>
                      <a:pt x="3666" y="1"/>
                      <a:pt x="3666" y="0"/>
                      <a:pt x="3668" y="0"/>
                    </a:cubicBezTo>
                    <a:close/>
                    <a:moveTo>
                      <a:pt x="3676" y="0"/>
                    </a:moveTo>
                    <a:lnTo>
                      <a:pt x="3676" y="0"/>
                    </a:lnTo>
                    <a:cubicBezTo>
                      <a:pt x="3677" y="0"/>
                      <a:pt x="3678" y="1"/>
                      <a:pt x="3678" y="2"/>
                    </a:cubicBezTo>
                    <a:cubicBezTo>
                      <a:pt x="3678" y="3"/>
                      <a:pt x="3677" y="4"/>
                      <a:pt x="3676" y="4"/>
                    </a:cubicBezTo>
                    <a:lnTo>
                      <a:pt x="3676" y="4"/>
                    </a:lnTo>
                    <a:cubicBezTo>
                      <a:pt x="3674" y="4"/>
                      <a:pt x="3674" y="3"/>
                      <a:pt x="3674" y="2"/>
                    </a:cubicBezTo>
                    <a:cubicBezTo>
                      <a:pt x="3674" y="1"/>
                      <a:pt x="3674" y="0"/>
                      <a:pt x="3676" y="0"/>
                    </a:cubicBezTo>
                    <a:close/>
                    <a:moveTo>
                      <a:pt x="3684" y="0"/>
                    </a:moveTo>
                    <a:lnTo>
                      <a:pt x="3684" y="0"/>
                    </a:lnTo>
                    <a:cubicBezTo>
                      <a:pt x="3685" y="0"/>
                      <a:pt x="3686" y="1"/>
                      <a:pt x="3686" y="2"/>
                    </a:cubicBezTo>
                    <a:cubicBezTo>
                      <a:pt x="3686" y="3"/>
                      <a:pt x="3685" y="4"/>
                      <a:pt x="3684" y="4"/>
                    </a:cubicBezTo>
                    <a:lnTo>
                      <a:pt x="3684" y="4"/>
                    </a:lnTo>
                    <a:cubicBezTo>
                      <a:pt x="3682" y="4"/>
                      <a:pt x="3682" y="3"/>
                      <a:pt x="3682" y="2"/>
                    </a:cubicBezTo>
                    <a:cubicBezTo>
                      <a:pt x="3682" y="1"/>
                      <a:pt x="3682" y="0"/>
                      <a:pt x="3684" y="0"/>
                    </a:cubicBezTo>
                    <a:close/>
                    <a:moveTo>
                      <a:pt x="3692" y="0"/>
                    </a:moveTo>
                    <a:lnTo>
                      <a:pt x="3692" y="0"/>
                    </a:lnTo>
                    <a:cubicBezTo>
                      <a:pt x="3693" y="0"/>
                      <a:pt x="3694" y="1"/>
                      <a:pt x="3694" y="2"/>
                    </a:cubicBezTo>
                    <a:cubicBezTo>
                      <a:pt x="3694" y="3"/>
                      <a:pt x="3693" y="4"/>
                      <a:pt x="3692" y="4"/>
                    </a:cubicBezTo>
                    <a:lnTo>
                      <a:pt x="3692" y="4"/>
                    </a:lnTo>
                    <a:cubicBezTo>
                      <a:pt x="3690" y="4"/>
                      <a:pt x="3690" y="3"/>
                      <a:pt x="3690" y="2"/>
                    </a:cubicBezTo>
                    <a:cubicBezTo>
                      <a:pt x="3690" y="1"/>
                      <a:pt x="3690" y="0"/>
                      <a:pt x="3692" y="0"/>
                    </a:cubicBezTo>
                    <a:close/>
                    <a:moveTo>
                      <a:pt x="3700" y="0"/>
                    </a:moveTo>
                    <a:lnTo>
                      <a:pt x="3700" y="0"/>
                    </a:lnTo>
                    <a:cubicBezTo>
                      <a:pt x="3701" y="0"/>
                      <a:pt x="3702" y="1"/>
                      <a:pt x="3702" y="2"/>
                    </a:cubicBezTo>
                    <a:cubicBezTo>
                      <a:pt x="3702" y="3"/>
                      <a:pt x="3701" y="4"/>
                      <a:pt x="3700" y="4"/>
                    </a:cubicBezTo>
                    <a:lnTo>
                      <a:pt x="3700" y="4"/>
                    </a:lnTo>
                    <a:cubicBezTo>
                      <a:pt x="3699" y="4"/>
                      <a:pt x="3698" y="3"/>
                      <a:pt x="3698" y="2"/>
                    </a:cubicBezTo>
                    <a:cubicBezTo>
                      <a:pt x="3698" y="1"/>
                      <a:pt x="3699" y="0"/>
                      <a:pt x="3700" y="0"/>
                    </a:cubicBezTo>
                    <a:close/>
                    <a:moveTo>
                      <a:pt x="3708" y="0"/>
                    </a:moveTo>
                    <a:lnTo>
                      <a:pt x="3708" y="0"/>
                    </a:lnTo>
                    <a:cubicBezTo>
                      <a:pt x="3709" y="0"/>
                      <a:pt x="3710" y="1"/>
                      <a:pt x="3710" y="2"/>
                    </a:cubicBezTo>
                    <a:cubicBezTo>
                      <a:pt x="3710" y="3"/>
                      <a:pt x="3709" y="4"/>
                      <a:pt x="3708" y="4"/>
                    </a:cubicBezTo>
                    <a:lnTo>
                      <a:pt x="3708" y="4"/>
                    </a:lnTo>
                    <a:cubicBezTo>
                      <a:pt x="3707" y="4"/>
                      <a:pt x="3706" y="3"/>
                      <a:pt x="3706" y="2"/>
                    </a:cubicBezTo>
                    <a:cubicBezTo>
                      <a:pt x="3706" y="1"/>
                      <a:pt x="3707" y="0"/>
                      <a:pt x="3708" y="0"/>
                    </a:cubicBezTo>
                    <a:close/>
                    <a:moveTo>
                      <a:pt x="3716" y="0"/>
                    </a:moveTo>
                    <a:lnTo>
                      <a:pt x="3716" y="0"/>
                    </a:lnTo>
                    <a:cubicBezTo>
                      <a:pt x="3717" y="0"/>
                      <a:pt x="3718" y="1"/>
                      <a:pt x="3718" y="2"/>
                    </a:cubicBezTo>
                    <a:cubicBezTo>
                      <a:pt x="3718" y="3"/>
                      <a:pt x="3717" y="4"/>
                      <a:pt x="3716" y="4"/>
                    </a:cubicBezTo>
                    <a:lnTo>
                      <a:pt x="3716" y="4"/>
                    </a:lnTo>
                    <a:cubicBezTo>
                      <a:pt x="3715" y="4"/>
                      <a:pt x="3714" y="3"/>
                      <a:pt x="3714" y="2"/>
                    </a:cubicBezTo>
                    <a:cubicBezTo>
                      <a:pt x="3714" y="1"/>
                      <a:pt x="3715" y="0"/>
                      <a:pt x="3716" y="0"/>
                    </a:cubicBezTo>
                    <a:close/>
                    <a:moveTo>
                      <a:pt x="3724" y="0"/>
                    </a:moveTo>
                    <a:lnTo>
                      <a:pt x="3724" y="0"/>
                    </a:lnTo>
                    <a:cubicBezTo>
                      <a:pt x="3725" y="0"/>
                      <a:pt x="3726" y="1"/>
                      <a:pt x="3726" y="2"/>
                    </a:cubicBezTo>
                    <a:cubicBezTo>
                      <a:pt x="3726" y="3"/>
                      <a:pt x="3725" y="4"/>
                      <a:pt x="3724" y="4"/>
                    </a:cubicBezTo>
                    <a:lnTo>
                      <a:pt x="3724" y="4"/>
                    </a:lnTo>
                    <a:cubicBezTo>
                      <a:pt x="3723" y="4"/>
                      <a:pt x="3722" y="3"/>
                      <a:pt x="3722" y="2"/>
                    </a:cubicBezTo>
                    <a:cubicBezTo>
                      <a:pt x="3722" y="1"/>
                      <a:pt x="3723" y="0"/>
                      <a:pt x="3724" y="0"/>
                    </a:cubicBezTo>
                    <a:close/>
                    <a:moveTo>
                      <a:pt x="3732" y="0"/>
                    </a:moveTo>
                    <a:lnTo>
                      <a:pt x="3732" y="0"/>
                    </a:lnTo>
                    <a:cubicBezTo>
                      <a:pt x="3733" y="0"/>
                      <a:pt x="3734" y="1"/>
                      <a:pt x="3734" y="2"/>
                    </a:cubicBezTo>
                    <a:cubicBezTo>
                      <a:pt x="3734" y="3"/>
                      <a:pt x="3733" y="4"/>
                      <a:pt x="3732" y="4"/>
                    </a:cubicBezTo>
                    <a:lnTo>
                      <a:pt x="3732" y="4"/>
                    </a:lnTo>
                    <a:cubicBezTo>
                      <a:pt x="3731" y="4"/>
                      <a:pt x="3730" y="3"/>
                      <a:pt x="3730" y="2"/>
                    </a:cubicBezTo>
                    <a:cubicBezTo>
                      <a:pt x="3730" y="1"/>
                      <a:pt x="3731" y="0"/>
                      <a:pt x="3732" y="0"/>
                    </a:cubicBezTo>
                    <a:close/>
                    <a:moveTo>
                      <a:pt x="3740" y="0"/>
                    </a:moveTo>
                    <a:lnTo>
                      <a:pt x="3740" y="0"/>
                    </a:lnTo>
                    <a:cubicBezTo>
                      <a:pt x="3741" y="0"/>
                      <a:pt x="3742" y="1"/>
                      <a:pt x="3742" y="2"/>
                    </a:cubicBezTo>
                    <a:cubicBezTo>
                      <a:pt x="3742" y="3"/>
                      <a:pt x="3741" y="4"/>
                      <a:pt x="3740" y="4"/>
                    </a:cubicBezTo>
                    <a:lnTo>
                      <a:pt x="3740" y="4"/>
                    </a:lnTo>
                    <a:cubicBezTo>
                      <a:pt x="3739" y="4"/>
                      <a:pt x="3738" y="3"/>
                      <a:pt x="3738" y="2"/>
                    </a:cubicBezTo>
                    <a:cubicBezTo>
                      <a:pt x="3738" y="1"/>
                      <a:pt x="3739" y="0"/>
                      <a:pt x="3740" y="0"/>
                    </a:cubicBezTo>
                    <a:close/>
                    <a:moveTo>
                      <a:pt x="3748" y="0"/>
                    </a:moveTo>
                    <a:lnTo>
                      <a:pt x="3748" y="0"/>
                    </a:lnTo>
                    <a:cubicBezTo>
                      <a:pt x="3749" y="0"/>
                      <a:pt x="3750" y="1"/>
                      <a:pt x="3750" y="2"/>
                    </a:cubicBezTo>
                    <a:cubicBezTo>
                      <a:pt x="3750" y="3"/>
                      <a:pt x="3749" y="4"/>
                      <a:pt x="3748" y="4"/>
                    </a:cubicBezTo>
                    <a:lnTo>
                      <a:pt x="3748" y="4"/>
                    </a:lnTo>
                    <a:cubicBezTo>
                      <a:pt x="3747" y="4"/>
                      <a:pt x="3746" y="3"/>
                      <a:pt x="3746" y="2"/>
                    </a:cubicBezTo>
                    <a:cubicBezTo>
                      <a:pt x="3746" y="1"/>
                      <a:pt x="3747" y="0"/>
                      <a:pt x="3748" y="0"/>
                    </a:cubicBezTo>
                    <a:close/>
                    <a:moveTo>
                      <a:pt x="3756" y="0"/>
                    </a:moveTo>
                    <a:lnTo>
                      <a:pt x="3756" y="0"/>
                    </a:lnTo>
                    <a:cubicBezTo>
                      <a:pt x="3757" y="0"/>
                      <a:pt x="3758" y="1"/>
                      <a:pt x="3758" y="2"/>
                    </a:cubicBezTo>
                    <a:cubicBezTo>
                      <a:pt x="3758" y="3"/>
                      <a:pt x="3757" y="4"/>
                      <a:pt x="3756" y="4"/>
                    </a:cubicBezTo>
                    <a:lnTo>
                      <a:pt x="3756" y="4"/>
                    </a:lnTo>
                    <a:cubicBezTo>
                      <a:pt x="3755" y="4"/>
                      <a:pt x="3754" y="3"/>
                      <a:pt x="3754" y="2"/>
                    </a:cubicBezTo>
                    <a:cubicBezTo>
                      <a:pt x="3754" y="1"/>
                      <a:pt x="3755" y="0"/>
                      <a:pt x="3756" y="0"/>
                    </a:cubicBezTo>
                    <a:close/>
                    <a:moveTo>
                      <a:pt x="3764" y="0"/>
                    </a:moveTo>
                    <a:lnTo>
                      <a:pt x="3764" y="0"/>
                    </a:lnTo>
                    <a:cubicBezTo>
                      <a:pt x="3765" y="0"/>
                      <a:pt x="3766" y="1"/>
                      <a:pt x="3766" y="2"/>
                    </a:cubicBezTo>
                    <a:cubicBezTo>
                      <a:pt x="3766" y="3"/>
                      <a:pt x="3765" y="4"/>
                      <a:pt x="3764" y="4"/>
                    </a:cubicBezTo>
                    <a:lnTo>
                      <a:pt x="3764" y="4"/>
                    </a:lnTo>
                    <a:cubicBezTo>
                      <a:pt x="3763" y="4"/>
                      <a:pt x="3762" y="3"/>
                      <a:pt x="3762" y="2"/>
                    </a:cubicBezTo>
                    <a:cubicBezTo>
                      <a:pt x="3762" y="1"/>
                      <a:pt x="3763" y="0"/>
                      <a:pt x="3764" y="0"/>
                    </a:cubicBezTo>
                    <a:close/>
                    <a:moveTo>
                      <a:pt x="3772" y="0"/>
                    </a:moveTo>
                    <a:lnTo>
                      <a:pt x="3772" y="0"/>
                    </a:lnTo>
                    <a:cubicBezTo>
                      <a:pt x="3773" y="0"/>
                      <a:pt x="3774" y="1"/>
                      <a:pt x="3774" y="2"/>
                    </a:cubicBezTo>
                    <a:cubicBezTo>
                      <a:pt x="3774" y="3"/>
                      <a:pt x="3773" y="4"/>
                      <a:pt x="3772" y="4"/>
                    </a:cubicBezTo>
                    <a:lnTo>
                      <a:pt x="3772" y="4"/>
                    </a:lnTo>
                    <a:cubicBezTo>
                      <a:pt x="3771" y="4"/>
                      <a:pt x="3770" y="3"/>
                      <a:pt x="3770" y="2"/>
                    </a:cubicBezTo>
                    <a:cubicBezTo>
                      <a:pt x="3770" y="1"/>
                      <a:pt x="3771" y="0"/>
                      <a:pt x="3772" y="0"/>
                    </a:cubicBezTo>
                    <a:close/>
                    <a:moveTo>
                      <a:pt x="3780" y="0"/>
                    </a:moveTo>
                    <a:lnTo>
                      <a:pt x="3780" y="0"/>
                    </a:lnTo>
                    <a:cubicBezTo>
                      <a:pt x="3781" y="0"/>
                      <a:pt x="3782" y="1"/>
                      <a:pt x="3782" y="2"/>
                    </a:cubicBezTo>
                    <a:cubicBezTo>
                      <a:pt x="3782" y="3"/>
                      <a:pt x="3781" y="4"/>
                      <a:pt x="3780" y="4"/>
                    </a:cubicBezTo>
                    <a:lnTo>
                      <a:pt x="3780" y="4"/>
                    </a:lnTo>
                    <a:cubicBezTo>
                      <a:pt x="3779" y="4"/>
                      <a:pt x="3778" y="3"/>
                      <a:pt x="3778" y="2"/>
                    </a:cubicBezTo>
                    <a:cubicBezTo>
                      <a:pt x="3778" y="1"/>
                      <a:pt x="3779" y="0"/>
                      <a:pt x="3780" y="0"/>
                    </a:cubicBezTo>
                    <a:close/>
                    <a:moveTo>
                      <a:pt x="3788" y="0"/>
                    </a:moveTo>
                    <a:lnTo>
                      <a:pt x="3788" y="0"/>
                    </a:lnTo>
                    <a:cubicBezTo>
                      <a:pt x="3789" y="0"/>
                      <a:pt x="3790" y="1"/>
                      <a:pt x="3790" y="2"/>
                    </a:cubicBezTo>
                    <a:cubicBezTo>
                      <a:pt x="3790" y="3"/>
                      <a:pt x="3789" y="4"/>
                      <a:pt x="3788" y="4"/>
                    </a:cubicBezTo>
                    <a:lnTo>
                      <a:pt x="3788" y="4"/>
                    </a:lnTo>
                    <a:cubicBezTo>
                      <a:pt x="3787" y="4"/>
                      <a:pt x="3786" y="3"/>
                      <a:pt x="3786" y="2"/>
                    </a:cubicBezTo>
                    <a:cubicBezTo>
                      <a:pt x="3786" y="1"/>
                      <a:pt x="3787" y="0"/>
                      <a:pt x="3788" y="0"/>
                    </a:cubicBezTo>
                    <a:close/>
                    <a:moveTo>
                      <a:pt x="3796" y="0"/>
                    </a:moveTo>
                    <a:lnTo>
                      <a:pt x="3796" y="0"/>
                    </a:lnTo>
                    <a:cubicBezTo>
                      <a:pt x="3797" y="0"/>
                      <a:pt x="3798" y="1"/>
                      <a:pt x="3798" y="2"/>
                    </a:cubicBezTo>
                    <a:cubicBezTo>
                      <a:pt x="3798" y="3"/>
                      <a:pt x="3797" y="4"/>
                      <a:pt x="3796" y="4"/>
                    </a:cubicBezTo>
                    <a:lnTo>
                      <a:pt x="3796" y="4"/>
                    </a:lnTo>
                    <a:cubicBezTo>
                      <a:pt x="3795" y="4"/>
                      <a:pt x="3794" y="3"/>
                      <a:pt x="3794" y="2"/>
                    </a:cubicBezTo>
                    <a:cubicBezTo>
                      <a:pt x="3794" y="1"/>
                      <a:pt x="3795" y="0"/>
                      <a:pt x="3796" y="0"/>
                    </a:cubicBezTo>
                    <a:close/>
                    <a:moveTo>
                      <a:pt x="3804" y="0"/>
                    </a:moveTo>
                    <a:lnTo>
                      <a:pt x="3804" y="0"/>
                    </a:lnTo>
                    <a:cubicBezTo>
                      <a:pt x="3805" y="0"/>
                      <a:pt x="3806" y="1"/>
                      <a:pt x="3806" y="2"/>
                    </a:cubicBezTo>
                    <a:cubicBezTo>
                      <a:pt x="3806" y="3"/>
                      <a:pt x="3805" y="4"/>
                      <a:pt x="3804" y="4"/>
                    </a:cubicBezTo>
                    <a:lnTo>
                      <a:pt x="3804" y="4"/>
                    </a:lnTo>
                    <a:cubicBezTo>
                      <a:pt x="3803" y="4"/>
                      <a:pt x="3802" y="3"/>
                      <a:pt x="3802" y="2"/>
                    </a:cubicBezTo>
                    <a:cubicBezTo>
                      <a:pt x="3802" y="1"/>
                      <a:pt x="3803" y="0"/>
                      <a:pt x="3804" y="0"/>
                    </a:cubicBezTo>
                    <a:close/>
                    <a:moveTo>
                      <a:pt x="3812" y="0"/>
                    </a:moveTo>
                    <a:lnTo>
                      <a:pt x="3812" y="0"/>
                    </a:lnTo>
                    <a:cubicBezTo>
                      <a:pt x="3813" y="0"/>
                      <a:pt x="3814" y="1"/>
                      <a:pt x="3814" y="2"/>
                    </a:cubicBezTo>
                    <a:cubicBezTo>
                      <a:pt x="3814" y="3"/>
                      <a:pt x="3813" y="4"/>
                      <a:pt x="3812" y="4"/>
                    </a:cubicBezTo>
                    <a:lnTo>
                      <a:pt x="3812" y="4"/>
                    </a:lnTo>
                    <a:cubicBezTo>
                      <a:pt x="3811" y="4"/>
                      <a:pt x="3810" y="3"/>
                      <a:pt x="3810" y="2"/>
                    </a:cubicBezTo>
                    <a:cubicBezTo>
                      <a:pt x="3810" y="1"/>
                      <a:pt x="3811" y="0"/>
                      <a:pt x="3812" y="0"/>
                    </a:cubicBezTo>
                    <a:close/>
                    <a:moveTo>
                      <a:pt x="3820" y="0"/>
                    </a:moveTo>
                    <a:lnTo>
                      <a:pt x="3820" y="0"/>
                    </a:lnTo>
                    <a:cubicBezTo>
                      <a:pt x="3821" y="0"/>
                      <a:pt x="3822" y="1"/>
                      <a:pt x="3822" y="2"/>
                    </a:cubicBezTo>
                    <a:cubicBezTo>
                      <a:pt x="3822" y="3"/>
                      <a:pt x="3821" y="4"/>
                      <a:pt x="3820" y="4"/>
                    </a:cubicBezTo>
                    <a:lnTo>
                      <a:pt x="3820" y="4"/>
                    </a:lnTo>
                    <a:cubicBezTo>
                      <a:pt x="3819" y="4"/>
                      <a:pt x="3818" y="3"/>
                      <a:pt x="3818" y="2"/>
                    </a:cubicBezTo>
                    <a:cubicBezTo>
                      <a:pt x="3818" y="1"/>
                      <a:pt x="3819" y="0"/>
                      <a:pt x="3820" y="0"/>
                    </a:cubicBezTo>
                    <a:close/>
                    <a:moveTo>
                      <a:pt x="3828" y="0"/>
                    </a:moveTo>
                    <a:lnTo>
                      <a:pt x="3828" y="0"/>
                    </a:lnTo>
                    <a:cubicBezTo>
                      <a:pt x="3829" y="0"/>
                      <a:pt x="3830" y="1"/>
                      <a:pt x="3830" y="2"/>
                    </a:cubicBezTo>
                    <a:cubicBezTo>
                      <a:pt x="3830" y="3"/>
                      <a:pt x="3829" y="4"/>
                      <a:pt x="3828" y="4"/>
                    </a:cubicBezTo>
                    <a:lnTo>
                      <a:pt x="3828" y="4"/>
                    </a:lnTo>
                    <a:cubicBezTo>
                      <a:pt x="3827" y="4"/>
                      <a:pt x="3826" y="3"/>
                      <a:pt x="3826" y="2"/>
                    </a:cubicBezTo>
                    <a:cubicBezTo>
                      <a:pt x="3826" y="1"/>
                      <a:pt x="3827" y="0"/>
                      <a:pt x="3828" y="0"/>
                    </a:cubicBezTo>
                    <a:close/>
                    <a:moveTo>
                      <a:pt x="3836" y="0"/>
                    </a:moveTo>
                    <a:lnTo>
                      <a:pt x="3836" y="0"/>
                    </a:lnTo>
                    <a:cubicBezTo>
                      <a:pt x="3837" y="0"/>
                      <a:pt x="3838" y="1"/>
                      <a:pt x="3838" y="2"/>
                    </a:cubicBezTo>
                    <a:cubicBezTo>
                      <a:pt x="3838" y="3"/>
                      <a:pt x="3837" y="4"/>
                      <a:pt x="3836" y="4"/>
                    </a:cubicBezTo>
                    <a:lnTo>
                      <a:pt x="3836" y="4"/>
                    </a:lnTo>
                    <a:cubicBezTo>
                      <a:pt x="3835" y="4"/>
                      <a:pt x="3834" y="3"/>
                      <a:pt x="3834" y="2"/>
                    </a:cubicBezTo>
                    <a:cubicBezTo>
                      <a:pt x="3834" y="1"/>
                      <a:pt x="3835" y="0"/>
                      <a:pt x="3836" y="0"/>
                    </a:cubicBezTo>
                    <a:close/>
                    <a:moveTo>
                      <a:pt x="3844" y="0"/>
                    </a:moveTo>
                    <a:lnTo>
                      <a:pt x="3844" y="0"/>
                    </a:lnTo>
                    <a:cubicBezTo>
                      <a:pt x="3845" y="0"/>
                      <a:pt x="3846" y="1"/>
                      <a:pt x="3846" y="2"/>
                    </a:cubicBezTo>
                    <a:cubicBezTo>
                      <a:pt x="3846" y="3"/>
                      <a:pt x="3845" y="4"/>
                      <a:pt x="3844" y="4"/>
                    </a:cubicBezTo>
                    <a:lnTo>
                      <a:pt x="3844" y="4"/>
                    </a:lnTo>
                    <a:cubicBezTo>
                      <a:pt x="3843" y="4"/>
                      <a:pt x="3842" y="3"/>
                      <a:pt x="3842" y="2"/>
                    </a:cubicBezTo>
                    <a:cubicBezTo>
                      <a:pt x="3842" y="1"/>
                      <a:pt x="3843" y="0"/>
                      <a:pt x="3844" y="0"/>
                    </a:cubicBezTo>
                    <a:close/>
                    <a:moveTo>
                      <a:pt x="3852" y="0"/>
                    </a:moveTo>
                    <a:lnTo>
                      <a:pt x="3852" y="0"/>
                    </a:lnTo>
                    <a:cubicBezTo>
                      <a:pt x="3853" y="0"/>
                      <a:pt x="3854" y="1"/>
                      <a:pt x="3854" y="2"/>
                    </a:cubicBezTo>
                    <a:cubicBezTo>
                      <a:pt x="3854" y="3"/>
                      <a:pt x="3853" y="4"/>
                      <a:pt x="3852" y="4"/>
                    </a:cubicBezTo>
                    <a:lnTo>
                      <a:pt x="3852" y="4"/>
                    </a:lnTo>
                    <a:cubicBezTo>
                      <a:pt x="3851" y="4"/>
                      <a:pt x="3850" y="3"/>
                      <a:pt x="3850" y="2"/>
                    </a:cubicBezTo>
                    <a:cubicBezTo>
                      <a:pt x="3850" y="1"/>
                      <a:pt x="3851" y="0"/>
                      <a:pt x="3852" y="0"/>
                    </a:cubicBezTo>
                    <a:close/>
                    <a:moveTo>
                      <a:pt x="3860" y="0"/>
                    </a:moveTo>
                    <a:lnTo>
                      <a:pt x="3860" y="0"/>
                    </a:lnTo>
                    <a:cubicBezTo>
                      <a:pt x="3861" y="0"/>
                      <a:pt x="3862" y="1"/>
                      <a:pt x="3862" y="2"/>
                    </a:cubicBezTo>
                    <a:cubicBezTo>
                      <a:pt x="3862" y="3"/>
                      <a:pt x="3861" y="4"/>
                      <a:pt x="3860" y="4"/>
                    </a:cubicBezTo>
                    <a:lnTo>
                      <a:pt x="3860" y="4"/>
                    </a:lnTo>
                    <a:cubicBezTo>
                      <a:pt x="3859" y="4"/>
                      <a:pt x="3858" y="3"/>
                      <a:pt x="3858" y="2"/>
                    </a:cubicBezTo>
                    <a:cubicBezTo>
                      <a:pt x="3858" y="1"/>
                      <a:pt x="3859" y="0"/>
                      <a:pt x="3860" y="0"/>
                    </a:cubicBezTo>
                    <a:close/>
                    <a:moveTo>
                      <a:pt x="3868" y="0"/>
                    </a:moveTo>
                    <a:lnTo>
                      <a:pt x="3868" y="0"/>
                    </a:lnTo>
                    <a:cubicBezTo>
                      <a:pt x="3869" y="0"/>
                      <a:pt x="3870" y="1"/>
                      <a:pt x="3870" y="2"/>
                    </a:cubicBezTo>
                    <a:cubicBezTo>
                      <a:pt x="3870" y="3"/>
                      <a:pt x="3869" y="4"/>
                      <a:pt x="3868" y="4"/>
                    </a:cubicBezTo>
                    <a:lnTo>
                      <a:pt x="3868" y="4"/>
                    </a:lnTo>
                    <a:cubicBezTo>
                      <a:pt x="3867" y="4"/>
                      <a:pt x="3866" y="3"/>
                      <a:pt x="3866" y="2"/>
                    </a:cubicBezTo>
                    <a:cubicBezTo>
                      <a:pt x="3866" y="1"/>
                      <a:pt x="3867" y="0"/>
                      <a:pt x="3868" y="0"/>
                    </a:cubicBezTo>
                    <a:close/>
                    <a:moveTo>
                      <a:pt x="3876" y="0"/>
                    </a:moveTo>
                    <a:lnTo>
                      <a:pt x="3876" y="0"/>
                    </a:lnTo>
                    <a:cubicBezTo>
                      <a:pt x="3877" y="0"/>
                      <a:pt x="3878" y="1"/>
                      <a:pt x="3878" y="2"/>
                    </a:cubicBezTo>
                    <a:cubicBezTo>
                      <a:pt x="3878" y="3"/>
                      <a:pt x="3877" y="4"/>
                      <a:pt x="3876" y="4"/>
                    </a:cubicBezTo>
                    <a:lnTo>
                      <a:pt x="3876" y="4"/>
                    </a:lnTo>
                    <a:cubicBezTo>
                      <a:pt x="3875" y="4"/>
                      <a:pt x="3874" y="3"/>
                      <a:pt x="3874" y="2"/>
                    </a:cubicBezTo>
                    <a:cubicBezTo>
                      <a:pt x="3874" y="1"/>
                      <a:pt x="3875" y="0"/>
                      <a:pt x="3876" y="0"/>
                    </a:cubicBezTo>
                    <a:close/>
                    <a:moveTo>
                      <a:pt x="3884" y="0"/>
                    </a:moveTo>
                    <a:lnTo>
                      <a:pt x="3884" y="0"/>
                    </a:lnTo>
                    <a:cubicBezTo>
                      <a:pt x="3885" y="0"/>
                      <a:pt x="3886" y="1"/>
                      <a:pt x="3886" y="2"/>
                    </a:cubicBezTo>
                    <a:cubicBezTo>
                      <a:pt x="3886" y="3"/>
                      <a:pt x="3885" y="4"/>
                      <a:pt x="3884" y="4"/>
                    </a:cubicBezTo>
                    <a:lnTo>
                      <a:pt x="3884" y="4"/>
                    </a:lnTo>
                    <a:cubicBezTo>
                      <a:pt x="3883" y="4"/>
                      <a:pt x="3882" y="3"/>
                      <a:pt x="3882" y="2"/>
                    </a:cubicBezTo>
                    <a:cubicBezTo>
                      <a:pt x="3882" y="1"/>
                      <a:pt x="3883" y="0"/>
                      <a:pt x="3884" y="0"/>
                    </a:cubicBezTo>
                    <a:close/>
                    <a:moveTo>
                      <a:pt x="3892" y="0"/>
                    </a:moveTo>
                    <a:lnTo>
                      <a:pt x="3892" y="0"/>
                    </a:lnTo>
                    <a:cubicBezTo>
                      <a:pt x="3893" y="0"/>
                      <a:pt x="3894" y="1"/>
                      <a:pt x="3894" y="2"/>
                    </a:cubicBezTo>
                    <a:cubicBezTo>
                      <a:pt x="3894" y="3"/>
                      <a:pt x="3893" y="4"/>
                      <a:pt x="3892" y="4"/>
                    </a:cubicBezTo>
                    <a:lnTo>
                      <a:pt x="3892" y="4"/>
                    </a:lnTo>
                    <a:cubicBezTo>
                      <a:pt x="3891" y="4"/>
                      <a:pt x="3890" y="3"/>
                      <a:pt x="3890" y="2"/>
                    </a:cubicBezTo>
                    <a:cubicBezTo>
                      <a:pt x="3890" y="1"/>
                      <a:pt x="3891" y="0"/>
                      <a:pt x="3892" y="0"/>
                    </a:cubicBezTo>
                    <a:close/>
                    <a:moveTo>
                      <a:pt x="3900" y="0"/>
                    </a:moveTo>
                    <a:lnTo>
                      <a:pt x="3900" y="0"/>
                    </a:lnTo>
                    <a:cubicBezTo>
                      <a:pt x="3901" y="0"/>
                      <a:pt x="3902" y="1"/>
                      <a:pt x="3902" y="2"/>
                    </a:cubicBezTo>
                    <a:cubicBezTo>
                      <a:pt x="3902" y="3"/>
                      <a:pt x="3901" y="4"/>
                      <a:pt x="3900" y="4"/>
                    </a:cubicBezTo>
                    <a:lnTo>
                      <a:pt x="3900" y="4"/>
                    </a:lnTo>
                    <a:cubicBezTo>
                      <a:pt x="3899" y="4"/>
                      <a:pt x="3898" y="3"/>
                      <a:pt x="3898" y="2"/>
                    </a:cubicBezTo>
                    <a:cubicBezTo>
                      <a:pt x="3898" y="1"/>
                      <a:pt x="3899" y="0"/>
                      <a:pt x="3900" y="0"/>
                    </a:cubicBezTo>
                    <a:close/>
                    <a:moveTo>
                      <a:pt x="3908" y="0"/>
                    </a:moveTo>
                    <a:lnTo>
                      <a:pt x="3908" y="0"/>
                    </a:lnTo>
                    <a:cubicBezTo>
                      <a:pt x="3909" y="0"/>
                      <a:pt x="3910" y="1"/>
                      <a:pt x="3910" y="2"/>
                    </a:cubicBezTo>
                    <a:cubicBezTo>
                      <a:pt x="3910" y="3"/>
                      <a:pt x="3909" y="4"/>
                      <a:pt x="3908" y="4"/>
                    </a:cubicBezTo>
                    <a:lnTo>
                      <a:pt x="3908" y="4"/>
                    </a:lnTo>
                    <a:cubicBezTo>
                      <a:pt x="3907" y="4"/>
                      <a:pt x="3906" y="3"/>
                      <a:pt x="3906" y="2"/>
                    </a:cubicBezTo>
                    <a:cubicBezTo>
                      <a:pt x="3906" y="1"/>
                      <a:pt x="3907" y="0"/>
                      <a:pt x="3908" y="0"/>
                    </a:cubicBezTo>
                    <a:close/>
                    <a:moveTo>
                      <a:pt x="3916" y="0"/>
                    </a:moveTo>
                    <a:lnTo>
                      <a:pt x="3916" y="0"/>
                    </a:lnTo>
                    <a:cubicBezTo>
                      <a:pt x="3917" y="0"/>
                      <a:pt x="3918" y="1"/>
                      <a:pt x="3918" y="2"/>
                    </a:cubicBezTo>
                    <a:cubicBezTo>
                      <a:pt x="3918" y="3"/>
                      <a:pt x="3917" y="4"/>
                      <a:pt x="3916" y="4"/>
                    </a:cubicBezTo>
                    <a:lnTo>
                      <a:pt x="3916" y="4"/>
                    </a:lnTo>
                    <a:cubicBezTo>
                      <a:pt x="3915" y="4"/>
                      <a:pt x="3914" y="3"/>
                      <a:pt x="3914" y="2"/>
                    </a:cubicBezTo>
                    <a:cubicBezTo>
                      <a:pt x="3914" y="1"/>
                      <a:pt x="3915" y="0"/>
                      <a:pt x="3916" y="0"/>
                    </a:cubicBezTo>
                    <a:close/>
                    <a:moveTo>
                      <a:pt x="3924" y="0"/>
                    </a:moveTo>
                    <a:lnTo>
                      <a:pt x="3924" y="0"/>
                    </a:lnTo>
                    <a:cubicBezTo>
                      <a:pt x="3925" y="0"/>
                      <a:pt x="3926" y="1"/>
                      <a:pt x="3926" y="2"/>
                    </a:cubicBezTo>
                    <a:cubicBezTo>
                      <a:pt x="3926" y="3"/>
                      <a:pt x="3925" y="4"/>
                      <a:pt x="3924" y="4"/>
                    </a:cubicBezTo>
                    <a:lnTo>
                      <a:pt x="3924" y="4"/>
                    </a:lnTo>
                    <a:cubicBezTo>
                      <a:pt x="3923" y="4"/>
                      <a:pt x="3922" y="3"/>
                      <a:pt x="3922" y="2"/>
                    </a:cubicBezTo>
                    <a:cubicBezTo>
                      <a:pt x="3922" y="1"/>
                      <a:pt x="3923" y="0"/>
                      <a:pt x="3924" y="0"/>
                    </a:cubicBezTo>
                    <a:close/>
                    <a:moveTo>
                      <a:pt x="3932" y="0"/>
                    </a:moveTo>
                    <a:lnTo>
                      <a:pt x="3932" y="0"/>
                    </a:lnTo>
                    <a:cubicBezTo>
                      <a:pt x="3933" y="0"/>
                      <a:pt x="3934" y="1"/>
                      <a:pt x="3934" y="2"/>
                    </a:cubicBezTo>
                    <a:cubicBezTo>
                      <a:pt x="3934" y="3"/>
                      <a:pt x="3933" y="4"/>
                      <a:pt x="3932" y="4"/>
                    </a:cubicBezTo>
                    <a:lnTo>
                      <a:pt x="3932" y="4"/>
                    </a:lnTo>
                    <a:cubicBezTo>
                      <a:pt x="3931" y="4"/>
                      <a:pt x="3930" y="3"/>
                      <a:pt x="3930" y="2"/>
                    </a:cubicBezTo>
                    <a:cubicBezTo>
                      <a:pt x="3930" y="1"/>
                      <a:pt x="3931" y="0"/>
                      <a:pt x="3932" y="0"/>
                    </a:cubicBezTo>
                    <a:close/>
                    <a:moveTo>
                      <a:pt x="3940" y="0"/>
                    </a:moveTo>
                    <a:lnTo>
                      <a:pt x="3940" y="0"/>
                    </a:lnTo>
                    <a:cubicBezTo>
                      <a:pt x="3941" y="0"/>
                      <a:pt x="3942" y="1"/>
                      <a:pt x="3942" y="2"/>
                    </a:cubicBezTo>
                    <a:cubicBezTo>
                      <a:pt x="3942" y="3"/>
                      <a:pt x="3941" y="4"/>
                      <a:pt x="3940" y="4"/>
                    </a:cubicBezTo>
                    <a:lnTo>
                      <a:pt x="3940" y="4"/>
                    </a:lnTo>
                    <a:cubicBezTo>
                      <a:pt x="3939" y="4"/>
                      <a:pt x="3938" y="3"/>
                      <a:pt x="3938" y="2"/>
                    </a:cubicBezTo>
                    <a:cubicBezTo>
                      <a:pt x="3938" y="1"/>
                      <a:pt x="3939" y="0"/>
                      <a:pt x="3940" y="0"/>
                    </a:cubicBezTo>
                    <a:close/>
                    <a:moveTo>
                      <a:pt x="3948" y="0"/>
                    </a:moveTo>
                    <a:lnTo>
                      <a:pt x="3948" y="0"/>
                    </a:lnTo>
                    <a:cubicBezTo>
                      <a:pt x="3949" y="0"/>
                      <a:pt x="3950" y="1"/>
                      <a:pt x="3950" y="2"/>
                    </a:cubicBezTo>
                    <a:cubicBezTo>
                      <a:pt x="3950" y="3"/>
                      <a:pt x="3949" y="4"/>
                      <a:pt x="3948" y="4"/>
                    </a:cubicBezTo>
                    <a:lnTo>
                      <a:pt x="3948" y="4"/>
                    </a:lnTo>
                    <a:cubicBezTo>
                      <a:pt x="3947" y="4"/>
                      <a:pt x="3946" y="3"/>
                      <a:pt x="3946" y="2"/>
                    </a:cubicBezTo>
                    <a:cubicBezTo>
                      <a:pt x="3946" y="1"/>
                      <a:pt x="3947" y="0"/>
                      <a:pt x="3948" y="0"/>
                    </a:cubicBezTo>
                    <a:close/>
                    <a:moveTo>
                      <a:pt x="3956" y="0"/>
                    </a:moveTo>
                    <a:lnTo>
                      <a:pt x="3956" y="0"/>
                    </a:lnTo>
                    <a:cubicBezTo>
                      <a:pt x="3957" y="0"/>
                      <a:pt x="3958" y="1"/>
                      <a:pt x="3958" y="2"/>
                    </a:cubicBezTo>
                    <a:cubicBezTo>
                      <a:pt x="3958" y="3"/>
                      <a:pt x="3957" y="4"/>
                      <a:pt x="3956" y="4"/>
                    </a:cubicBezTo>
                    <a:lnTo>
                      <a:pt x="3956" y="4"/>
                    </a:lnTo>
                    <a:cubicBezTo>
                      <a:pt x="3955" y="4"/>
                      <a:pt x="3954" y="3"/>
                      <a:pt x="3954" y="2"/>
                    </a:cubicBezTo>
                    <a:cubicBezTo>
                      <a:pt x="3954" y="1"/>
                      <a:pt x="3955" y="0"/>
                      <a:pt x="3956" y="0"/>
                    </a:cubicBezTo>
                    <a:close/>
                    <a:moveTo>
                      <a:pt x="3964" y="0"/>
                    </a:moveTo>
                    <a:lnTo>
                      <a:pt x="3964" y="0"/>
                    </a:lnTo>
                    <a:cubicBezTo>
                      <a:pt x="3965" y="0"/>
                      <a:pt x="3966" y="1"/>
                      <a:pt x="3966" y="2"/>
                    </a:cubicBezTo>
                    <a:cubicBezTo>
                      <a:pt x="3966" y="3"/>
                      <a:pt x="3965" y="4"/>
                      <a:pt x="3964" y="4"/>
                    </a:cubicBezTo>
                    <a:lnTo>
                      <a:pt x="3964" y="4"/>
                    </a:lnTo>
                    <a:cubicBezTo>
                      <a:pt x="3963" y="4"/>
                      <a:pt x="3962" y="3"/>
                      <a:pt x="3962" y="2"/>
                    </a:cubicBezTo>
                    <a:cubicBezTo>
                      <a:pt x="3962" y="1"/>
                      <a:pt x="3963" y="0"/>
                      <a:pt x="3964" y="0"/>
                    </a:cubicBezTo>
                    <a:close/>
                    <a:moveTo>
                      <a:pt x="3972" y="0"/>
                    </a:moveTo>
                    <a:lnTo>
                      <a:pt x="3972" y="0"/>
                    </a:lnTo>
                    <a:cubicBezTo>
                      <a:pt x="3973" y="0"/>
                      <a:pt x="3974" y="1"/>
                      <a:pt x="3974" y="2"/>
                    </a:cubicBezTo>
                    <a:cubicBezTo>
                      <a:pt x="3974" y="3"/>
                      <a:pt x="3973" y="4"/>
                      <a:pt x="3972" y="4"/>
                    </a:cubicBezTo>
                    <a:lnTo>
                      <a:pt x="3972" y="4"/>
                    </a:lnTo>
                    <a:cubicBezTo>
                      <a:pt x="3971" y="4"/>
                      <a:pt x="3970" y="3"/>
                      <a:pt x="3970" y="2"/>
                    </a:cubicBezTo>
                    <a:cubicBezTo>
                      <a:pt x="3970" y="1"/>
                      <a:pt x="3971" y="0"/>
                      <a:pt x="3972" y="0"/>
                    </a:cubicBezTo>
                    <a:close/>
                    <a:moveTo>
                      <a:pt x="3980" y="0"/>
                    </a:moveTo>
                    <a:lnTo>
                      <a:pt x="3980" y="0"/>
                    </a:lnTo>
                    <a:cubicBezTo>
                      <a:pt x="3981" y="0"/>
                      <a:pt x="3982" y="1"/>
                      <a:pt x="3982" y="2"/>
                    </a:cubicBezTo>
                    <a:cubicBezTo>
                      <a:pt x="3982" y="3"/>
                      <a:pt x="3981" y="4"/>
                      <a:pt x="3980" y="4"/>
                    </a:cubicBezTo>
                    <a:lnTo>
                      <a:pt x="3980" y="4"/>
                    </a:lnTo>
                    <a:cubicBezTo>
                      <a:pt x="3979" y="4"/>
                      <a:pt x="3978" y="3"/>
                      <a:pt x="3978" y="2"/>
                    </a:cubicBezTo>
                    <a:cubicBezTo>
                      <a:pt x="3978" y="1"/>
                      <a:pt x="3979" y="0"/>
                      <a:pt x="3980" y="0"/>
                    </a:cubicBezTo>
                    <a:close/>
                    <a:moveTo>
                      <a:pt x="3988" y="0"/>
                    </a:moveTo>
                    <a:lnTo>
                      <a:pt x="3988" y="0"/>
                    </a:lnTo>
                    <a:cubicBezTo>
                      <a:pt x="3989" y="0"/>
                      <a:pt x="3990" y="1"/>
                      <a:pt x="3990" y="2"/>
                    </a:cubicBezTo>
                    <a:cubicBezTo>
                      <a:pt x="3990" y="3"/>
                      <a:pt x="3989" y="4"/>
                      <a:pt x="3988" y="4"/>
                    </a:cubicBezTo>
                    <a:lnTo>
                      <a:pt x="3988" y="4"/>
                    </a:lnTo>
                    <a:cubicBezTo>
                      <a:pt x="3987" y="4"/>
                      <a:pt x="3986" y="3"/>
                      <a:pt x="3986" y="2"/>
                    </a:cubicBezTo>
                    <a:cubicBezTo>
                      <a:pt x="3986" y="1"/>
                      <a:pt x="3987" y="0"/>
                      <a:pt x="3988" y="0"/>
                    </a:cubicBezTo>
                    <a:close/>
                    <a:moveTo>
                      <a:pt x="3996" y="0"/>
                    </a:moveTo>
                    <a:lnTo>
                      <a:pt x="3996" y="0"/>
                    </a:lnTo>
                    <a:cubicBezTo>
                      <a:pt x="3997" y="0"/>
                      <a:pt x="3998" y="1"/>
                      <a:pt x="3998" y="2"/>
                    </a:cubicBezTo>
                    <a:cubicBezTo>
                      <a:pt x="3998" y="3"/>
                      <a:pt x="3997" y="4"/>
                      <a:pt x="3996" y="4"/>
                    </a:cubicBezTo>
                    <a:lnTo>
                      <a:pt x="3996" y="4"/>
                    </a:lnTo>
                    <a:cubicBezTo>
                      <a:pt x="3995" y="4"/>
                      <a:pt x="3994" y="3"/>
                      <a:pt x="3994" y="2"/>
                    </a:cubicBezTo>
                    <a:cubicBezTo>
                      <a:pt x="3994" y="1"/>
                      <a:pt x="3995" y="0"/>
                      <a:pt x="3996" y="0"/>
                    </a:cubicBezTo>
                    <a:close/>
                    <a:moveTo>
                      <a:pt x="4004" y="0"/>
                    </a:moveTo>
                    <a:lnTo>
                      <a:pt x="4004" y="0"/>
                    </a:lnTo>
                    <a:cubicBezTo>
                      <a:pt x="4005" y="0"/>
                      <a:pt x="4006" y="1"/>
                      <a:pt x="4006" y="2"/>
                    </a:cubicBezTo>
                    <a:cubicBezTo>
                      <a:pt x="4006" y="3"/>
                      <a:pt x="4005" y="4"/>
                      <a:pt x="4004" y="4"/>
                    </a:cubicBezTo>
                    <a:lnTo>
                      <a:pt x="4004" y="4"/>
                    </a:lnTo>
                    <a:cubicBezTo>
                      <a:pt x="4003" y="4"/>
                      <a:pt x="4002" y="3"/>
                      <a:pt x="4002" y="2"/>
                    </a:cubicBezTo>
                    <a:cubicBezTo>
                      <a:pt x="4002" y="1"/>
                      <a:pt x="4003" y="0"/>
                      <a:pt x="4004" y="0"/>
                    </a:cubicBezTo>
                    <a:close/>
                    <a:moveTo>
                      <a:pt x="4012" y="0"/>
                    </a:moveTo>
                    <a:lnTo>
                      <a:pt x="4012" y="0"/>
                    </a:lnTo>
                    <a:cubicBezTo>
                      <a:pt x="4013" y="0"/>
                      <a:pt x="4014" y="1"/>
                      <a:pt x="4014" y="2"/>
                    </a:cubicBezTo>
                    <a:cubicBezTo>
                      <a:pt x="4014" y="3"/>
                      <a:pt x="4013" y="4"/>
                      <a:pt x="4012" y="4"/>
                    </a:cubicBezTo>
                    <a:lnTo>
                      <a:pt x="4012" y="4"/>
                    </a:lnTo>
                    <a:cubicBezTo>
                      <a:pt x="4011" y="4"/>
                      <a:pt x="4010" y="3"/>
                      <a:pt x="4010" y="2"/>
                    </a:cubicBezTo>
                    <a:cubicBezTo>
                      <a:pt x="4010" y="1"/>
                      <a:pt x="4011" y="0"/>
                      <a:pt x="4012" y="0"/>
                    </a:cubicBezTo>
                    <a:close/>
                    <a:moveTo>
                      <a:pt x="4020" y="0"/>
                    </a:moveTo>
                    <a:lnTo>
                      <a:pt x="4020" y="0"/>
                    </a:lnTo>
                    <a:cubicBezTo>
                      <a:pt x="4021" y="0"/>
                      <a:pt x="4022" y="1"/>
                      <a:pt x="4022" y="2"/>
                    </a:cubicBezTo>
                    <a:cubicBezTo>
                      <a:pt x="4022" y="3"/>
                      <a:pt x="4021" y="4"/>
                      <a:pt x="4020" y="4"/>
                    </a:cubicBezTo>
                    <a:lnTo>
                      <a:pt x="4020" y="4"/>
                    </a:lnTo>
                    <a:cubicBezTo>
                      <a:pt x="4019" y="4"/>
                      <a:pt x="4018" y="3"/>
                      <a:pt x="4018" y="2"/>
                    </a:cubicBezTo>
                    <a:cubicBezTo>
                      <a:pt x="4018" y="1"/>
                      <a:pt x="4019" y="0"/>
                      <a:pt x="4020" y="0"/>
                    </a:cubicBezTo>
                    <a:close/>
                    <a:moveTo>
                      <a:pt x="4028" y="0"/>
                    </a:moveTo>
                    <a:lnTo>
                      <a:pt x="4028" y="0"/>
                    </a:lnTo>
                    <a:cubicBezTo>
                      <a:pt x="4029" y="0"/>
                      <a:pt x="4030" y="1"/>
                      <a:pt x="4030" y="2"/>
                    </a:cubicBezTo>
                    <a:cubicBezTo>
                      <a:pt x="4030" y="3"/>
                      <a:pt x="4029" y="4"/>
                      <a:pt x="4028" y="4"/>
                    </a:cubicBezTo>
                    <a:lnTo>
                      <a:pt x="4028" y="4"/>
                    </a:lnTo>
                    <a:cubicBezTo>
                      <a:pt x="4027" y="4"/>
                      <a:pt x="4026" y="3"/>
                      <a:pt x="4026" y="2"/>
                    </a:cubicBezTo>
                    <a:cubicBezTo>
                      <a:pt x="4026" y="1"/>
                      <a:pt x="4027" y="0"/>
                      <a:pt x="4028" y="0"/>
                    </a:cubicBezTo>
                    <a:close/>
                    <a:moveTo>
                      <a:pt x="4036" y="0"/>
                    </a:moveTo>
                    <a:lnTo>
                      <a:pt x="4036" y="0"/>
                    </a:lnTo>
                    <a:cubicBezTo>
                      <a:pt x="4037" y="0"/>
                      <a:pt x="4038" y="1"/>
                      <a:pt x="4038" y="2"/>
                    </a:cubicBezTo>
                    <a:cubicBezTo>
                      <a:pt x="4038" y="3"/>
                      <a:pt x="4037" y="4"/>
                      <a:pt x="4036" y="4"/>
                    </a:cubicBezTo>
                    <a:lnTo>
                      <a:pt x="4036" y="4"/>
                    </a:lnTo>
                    <a:cubicBezTo>
                      <a:pt x="4035" y="4"/>
                      <a:pt x="4034" y="3"/>
                      <a:pt x="4034" y="2"/>
                    </a:cubicBezTo>
                    <a:cubicBezTo>
                      <a:pt x="4034" y="1"/>
                      <a:pt x="4035" y="0"/>
                      <a:pt x="4036" y="0"/>
                    </a:cubicBezTo>
                    <a:close/>
                    <a:moveTo>
                      <a:pt x="4044" y="0"/>
                    </a:moveTo>
                    <a:lnTo>
                      <a:pt x="4044" y="0"/>
                    </a:lnTo>
                    <a:cubicBezTo>
                      <a:pt x="4045" y="0"/>
                      <a:pt x="4046" y="1"/>
                      <a:pt x="4046" y="2"/>
                    </a:cubicBezTo>
                    <a:cubicBezTo>
                      <a:pt x="4046" y="3"/>
                      <a:pt x="4045" y="4"/>
                      <a:pt x="4044" y="4"/>
                    </a:cubicBezTo>
                    <a:lnTo>
                      <a:pt x="4044" y="4"/>
                    </a:lnTo>
                    <a:cubicBezTo>
                      <a:pt x="4043" y="4"/>
                      <a:pt x="4042" y="3"/>
                      <a:pt x="4042" y="2"/>
                    </a:cubicBezTo>
                    <a:cubicBezTo>
                      <a:pt x="4042" y="1"/>
                      <a:pt x="4043" y="0"/>
                      <a:pt x="4044" y="0"/>
                    </a:cubicBezTo>
                    <a:close/>
                    <a:moveTo>
                      <a:pt x="4052" y="0"/>
                    </a:moveTo>
                    <a:lnTo>
                      <a:pt x="4052" y="0"/>
                    </a:lnTo>
                    <a:cubicBezTo>
                      <a:pt x="4053" y="0"/>
                      <a:pt x="4054" y="1"/>
                      <a:pt x="4054" y="2"/>
                    </a:cubicBezTo>
                    <a:cubicBezTo>
                      <a:pt x="4054" y="3"/>
                      <a:pt x="4053" y="4"/>
                      <a:pt x="4052" y="4"/>
                    </a:cubicBezTo>
                    <a:lnTo>
                      <a:pt x="4052" y="4"/>
                    </a:lnTo>
                    <a:cubicBezTo>
                      <a:pt x="4051" y="4"/>
                      <a:pt x="4050" y="3"/>
                      <a:pt x="4050" y="2"/>
                    </a:cubicBezTo>
                    <a:cubicBezTo>
                      <a:pt x="4050" y="1"/>
                      <a:pt x="4051" y="0"/>
                      <a:pt x="4052" y="0"/>
                    </a:cubicBezTo>
                    <a:close/>
                    <a:moveTo>
                      <a:pt x="4060" y="0"/>
                    </a:moveTo>
                    <a:lnTo>
                      <a:pt x="4060" y="0"/>
                    </a:lnTo>
                    <a:cubicBezTo>
                      <a:pt x="4061" y="0"/>
                      <a:pt x="4062" y="1"/>
                      <a:pt x="4062" y="2"/>
                    </a:cubicBezTo>
                    <a:cubicBezTo>
                      <a:pt x="4062" y="3"/>
                      <a:pt x="4061" y="4"/>
                      <a:pt x="4060" y="4"/>
                    </a:cubicBezTo>
                    <a:lnTo>
                      <a:pt x="4060" y="4"/>
                    </a:lnTo>
                    <a:cubicBezTo>
                      <a:pt x="4059" y="4"/>
                      <a:pt x="4058" y="3"/>
                      <a:pt x="4058" y="2"/>
                    </a:cubicBezTo>
                    <a:cubicBezTo>
                      <a:pt x="4058" y="1"/>
                      <a:pt x="4059" y="0"/>
                      <a:pt x="4060" y="0"/>
                    </a:cubicBezTo>
                    <a:close/>
                    <a:moveTo>
                      <a:pt x="4068" y="0"/>
                    </a:moveTo>
                    <a:lnTo>
                      <a:pt x="4068" y="0"/>
                    </a:lnTo>
                    <a:cubicBezTo>
                      <a:pt x="4069" y="0"/>
                      <a:pt x="4070" y="1"/>
                      <a:pt x="4070" y="2"/>
                    </a:cubicBezTo>
                    <a:cubicBezTo>
                      <a:pt x="4070" y="3"/>
                      <a:pt x="4069" y="4"/>
                      <a:pt x="4068" y="4"/>
                    </a:cubicBezTo>
                    <a:lnTo>
                      <a:pt x="4068" y="4"/>
                    </a:lnTo>
                    <a:cubicBezTo>
                      <a:pt x="4067" y="4"/>
                      <a:pt x="4066" y="3"/>
                      <a:pt x="4066" y="2"/>
                    </a:cubicBezTo>
                    <a:cubicBezTo>
                      <a:pt x="4066" y="1"/>
                      <a:pt x="4067" y="0"/>
                      <a:pt x="4068" y="0"/>
                    </a:cubicBezTo>
                    <a:close/>
                    <a:moveTo>
                      <a:pt x="4076" y="0"/>
                    </a:moveTo>
                    <a:lnTo>
                      <a:pt x="4076" y="0"/>
                    </a:lnTo>
                    <a:cubicBezTo>
                      <a:pt x="4077" y="0"/>
                      <a:pt x="4078" y="1"/>
                      <a:pt x="4078" y="2"/>
                    </a:cubicBezTo>
                    <a:cubicBezTo>
                      <a:pt x="4078" y="3"/>
                      <a:pt x="4077" y="4"/>
                      <a:pt x="4076" y="4"/>
                    </a:cubicBezTo>
                    <a:lnTo>
                      <a:pt x="4076" y="4"/>
                    </a:lnTo>
                    <a:cubicBezTo>
                      <a:pt x="4075" y="4"/>
                      <a:pt x="4074" y="3"/>
                      <a:pt x="4074" y="2"/>
                    </a:cubicBezTo>
                    <a:cubicBezTo>
                      <a:pt x="4074" y="1"/>
                      <a:pt x="4075" y="0"/>
                      <a:pt x="4076" y="0"/>
                    </a:cubicBezTo>
                    <a:close/>
                    <a:moveTo>
                      <a:pt x="4084" y="0"/>
                    </a:moveTo>
                    <a:lnTo>
                      <a:pt x="4084" y="0"/>
                    </a:lnTo>
                    <a:cubicBezTo>
                      <a:pt x="4085" y="0"/>
                      <a:pt x="4086" y="1"/>
                      <a:pt x="4086" y="2"/>
                    </a:cubicBezTo>
                    <a:cubicBezTo>
                      <a:pt x="4086" y="3"/>
                      <a:pt x="4085" y="4"/>
                      <a:pt x="4084" y="4"/>
                    </a:cubicBezTo>
                    <a:lnTo>
                      <a:pt x="4084" y="4"/>
                    </a:lnTo>
                    <a:cubicBezTo>
                      <a:pt x="4083" y="4"/>
                      <a:pt x="4082" y="3"/>
                      <a:pt x="4082" y="2"/>
                    </a:cubicBezTo>
                    <a:cubicBezTo>
                      <a:pt x="4082" y="1"/>
                      <a:pt x="4083" y="0"/>
                      <a:pt x="4084" y="0"/>
                    </a:cubicBezTo>
                    <a:close/>
                    <a:moveTo>
                      <a:pt x="4092" y="0"/>
                    </a:moveTo>
                    <a:lnTo>
                      <a:pt x="4092" y="0"/>
                    </a:lnTo>
                    <a:cubicBezTo>
                      <a:pt x="4093" y="0"/>
                      <a:pt x="4094" y="1"/>
                      <a:pt x="4094" y="2"/>
                    </a:cubicBezTo>
                    <a:cubicBezTo>
                      <a:pt x="4094" y="3"/>
                      <a:pt x="4093" y="4"/>
                      <a:pt x="4092" y="4"/>
                    </a:cubicBezTo>
                    <a:lnTo>
                      <a:pt x="4092" y="4"/>
                    </a:lnTo>
                    <a:cubicBezTo>
                      <a:pt x="4091" y="4"/>
                      <a:pt x="4090" y="3"/>
                      <a:pt x="4090" y="2"/>
                    </a:cubicBezTo>
                    <a:cubicBezTo>
                      <a:pt x="4090" y="1"/>
                      <a:pt x="4091" y="0"/>
                      <a:pt x="4092" y="0"/>
                    </a:cubicBezTo>
                    <a:close/>
                    <a:moveTo>
                      <a:pt x="4100" y="0"/>
                    </a:moveTo>
                    <a:lnTo>
                      <a:pt x="4100" y="0"/>
                    </a:lnTo>
                    <a:cubicBezTo>
                      <a:pt x="4101" y="0"/>
                      <a:pt x="4102" y="1"/>
                      <a:pt x="4102" y="2"/>
                    </a:cubicBezTo>
                    <a:cubicBezTo>
                      <a:pt x="4102" y="3"/>
                      <a:pt x="4101" y="4"/>
                      <a:pt x="4100" y="4"/>
                    </a:cubicBezTo>
                    <a:lnTo>
                      <a:pt x="4100" y="4"/>
                    </a:lnTo>
                    <a:cubicBezTo>
                      <a:pt x="4099" y="4"/>
                      <a:pt x="4098" y="3"/>
                      <a:pt x="4098" y="2"/>
                    </a:cubicBezTo>
                    <a:cubicBezTo>
                      <a:pt x="4098" y="1"/>
                      <a:pt x="4099" y="0"/>
                      <a:pt x="4100" y="0"/>
                    </a:cubicBezTo>
                    <a:close/>
                    <a:moveTo>
                      <a:pt x="4108" y="0"/>
                    </a:moveTo>
                    <a:lnTo>
                      <a:pt x="4108" y="0"/>
                    </a:lnTo>
                    <a:cubicBezTo>
                      <a:pt x="4109" y="0"/>
                      <a:pt x="4110" y="1"/>
                      <a:pt x="4110" y="2"/>
                    </a:cubicBezTo>
                    <a:cubicBezTo>
                      <a:pt x="4110" y="3"/>
                      <a:pt x="4109" y="4"/>
                      <a:pt x="4108" y="4"/>
                    </a:cubicBezTo>
                    <a:lnTo>
                      <a:pt x="4108" y="4"/>
                    </a:lnTo>
                    <a:cubicBezTo>
                      <a:pt x="4107" y="4"/>
                      <a:pt x="4106" y="3"/>
                      <a:pt x="4106" y="2"/>
                    </a:cubicBezTo>
                    <a:cubicBezTo>
                      <a:pt x="4106" y="1"/>
                      <a:pt x="4107" y="0"/>
                      <a:pt x="4108" y="0"/>
                    </a:cubicBezTo>
                    <a:close/>
                    <a:moveTo>
                      <a:pt x="4116" y="0"/>
                    </a:moveTo>
                    <a:lnTo>
                      <a:pt x="4116" y="0"/>
                    </a:lnTo>
                    <a:cubicBezTo>
                      <a:pt x="4117" y="0"/>
                      <a:pt x="4118" y="1"/>
                      <a:pt x="4118" y="2"/>
                    </a:cubicBezTo>
                    <a:cubicBezTo>
                      <a:pt x="4118" y="3"/>
                      <a:pt x="4117" y="4"/>
                      <a:pt x="4116" y="4"/>
                    </a:cubicBezTo>
                    <a:lnTo>
                      <a:pt x="4116" y="4"/>
                    </a:lnTo>
                    <a:cubicBezTo>
                      <a:pt x="4115" y="4"/>
                      <a:pt x="4114" y="3"/>
                      <a:pt x="4114" y="2"/>
                    </a:cubicBezTo>
                    <a:cubicBezTo>
                      <a:pt x="4114" y="1"/>
                      <a:pt x="4115" y="0"/>
                      <a:pt x="4116" y="0"/>
                    </a:cubicBezTo>
                    <a:close/>
                    <a:moveTo>
                      <a:pt x="4124" y="0"/>
                    </a:moveTo>
                    <a:lnTo>
                      <a:pt x="4124" y="0"/>
                    </a:lnTo>
                    <a:cubicBezTo>
                      <a:pt x="4125" y="0"/>
                      <a:pt x="4126" y="1"/>
                      <a:pt x="4126" y="2"/>
                    </a:cubicBezTo>
                    <a:cubicBezTo>
                      <a:pt x="4126" y="3"/>
                      <a:pt x="4125" y="4"/>
                      <a:pt x="4124" y="4"/>
                    </a:cubicBezTo>
                    <a:lnTo>
                      <a:pt x="4124" y="4"/>
                    </a:lnTo>
                    <a:cubicBezTo>
                      <a:pt x="4123" y="4"/>
                      <a:pt x="4122" y="3"/>
                      <a:pt x="4122" y="2"/>
                    </a:cubicBezTo>
                    <a:cubicBezTo>
                      <a:pt x="4122" y="1"/>
                      <a:pt x="4123" y="0"/>
                      <a:pt x="4124" y="0"/>
                    </a:cubicBezTo>
                    <a:close/>
                    <a:moveTo>
                      <a:pt x="4132" y="0"/>
                    </a:moveTo>
                    <a:lnTo>
                      <a:pt x="4132" y="0"/>
                    </a:lnTo>
                    <a:cubicBezTo>
                      <a:pt x="4133" y="0"/>
                      <a:pt x="4134" y="1"/>
                      <a:pt x="4134" y="2"/>
                    </a:cubicBezTo>
                    <a:cubicBezTo>
                      <a:pt x="4134" y="3"/>
                      <a:pt x="4133" y="4"/>
                      <a:pt x="4132" y="4"/>
                    </a:cubicBezTo>
                    <a:lnTo>
                      <a:pt x="4132" y="4"/>
                    </a:lnTo>
                    <a:cubicBezTo>
                      <a:pt x="4131" y="4"/>
                      <a:pt x="4130" y="3"/>
                      <a:pt x="4130" y="2"/>
                    </a:cubicBezTo>
                    <a:cubicBezTo>
                      <a:pt x="4130" y="1"/>
                      <a:pt x="4131" y="0"/>
                      <a:pt x="4132" y="0"/>
                    </a:cubicBezTo>
                    <a:close/>
                    <a:moveTo>
                      <a:pt x="4140" y="0"/>
                    </a:moveTo>
                    <a:lnTo>
                      <a:pt x="4140" y="0"/>
                    </a:lnTo>
                    <a:cubicBezTo>
                      <a:pt x="4141" y="0"/>
                      <a:pt x="4142" y="1"/>
                      <a:pt x="4142" y="2"/>
                    </a:cubicBezTo>
                    <a:cubicBezTo>
                      <a:pt x="4142" y="3"/>
                      <a:pt x="4141" y="4"/>
                      <a:pt x="4140" y="4"/>
                    </a:cubicBezTo>
                    <a:lnTo>
                      <a:pt x="4140" y="4"/>
                    </a:lnTo>
                    <a:cubicBezTo>
                      <a:pt x="4139" y="4"/>
                      <a:pt x="4138" y="3"/>
                      <a:pt x="4138" y="2"/>
                    </a:cubicBezTo>
                    <a:cubicBezTo>
                      <a:pt x="4138" y="1"/>
                      <a:pt x="4139" y="0"/>
                      <a:pt x="4140" y="0"/>
                    </a:cubicBezTo>
                    <a:close/>
                    <a:moveTo>
                      <a:pt x="4148" y="0"/>
                    </a:moveTo>
                    <a:lnTo>
                      <a:pt x="4148" y="0"/>
                    </a:lnTo>
                    <a:cubicBezTo>
                      <a:pt x="4149" y="0"/>
                      <a:pt x="4150" y="1"/>
                      <a:pt x="4150" y="2"/>
                    </a:cubicBezTo>
                    <a:cubicBezTo>
                      <a:pt x="4150" y="3"/>
                      <a:pt x="4149" y="4"/>
                      <a:pt x="4148" y="4"/>
                    </a:cubicBezTo>
                    <a:lnTo>
                      <a:pt x="4148" y="4"/>
                    </a:lnTo>
                    <a:cubicBezTo>
                      <a:pt x="4147" y="4"/>
                      <a:pt x="4146" y="3"/>
                      <a:pt x="4146" y="2"/>
                    </a:cubicBezTo>
                    <a:cubicBezTo>
                      <a:pt x="4146" y="1"/>
                      <a:pt x="4147" y="0"/>
                      <a:pt x="4148" y="0"/>
                    </a:cubicBezTo>
                    <a:close/>
                    <a:moveTo>
                      <a:pt x="4156" y="0"/>
                    </a:moveTo>
                    <a:lnTo>
                      <a:pt x="4156" y="0"/>
                    </a:lnTo>
                    <a:cubicBezTo>
                      <a:pt x="4157" y="0"/>
                      <a:pt x="4158" y="1"/>
                      <a:pt x="4158" y="2"/>
                    </a:cubicBezTo>
                    <a:cubicBezTo>
                      <a:pt x="4158" y="4"/>
                      <a:pt x="4157" y="4"/>
                      <a:pt x="4156" y="4"/>
                    </a:cubicBezTo>
                    <a:lnTo>
                      <a:pt x="4156" y="4"/>
                    </a:lnTo>
                    <a:cubicBezTo>
                      <a:pt x="4155" y="4"/>
                      <a:pt x="4154" y="4"/>
                      <a:pt x="4154" y="2"/>
                    </a:cubicBezTo>
                    <a:cubicBezTo>
                      <a:pt x="4154" y="1"/>
                      <a:pt x="4155" y="0"/>
                      <a:pt x="4156" y="0"/>
                    </a:cubicBezTo>
                    <a:close/>
                    <a:moveTo>
                      <a:pt x="4164" y="0"/>
                    </a:moveTo>
                    <a:lnTo>
                      <a:pt x="4164" y="0"/>
                    </a:lnTo>
                    <a:cubicBezTo>
                      <a:pt x="4165" y="0"/>
                      <a:pt x="4166" y="1"/>
                      <a:pt x="4166" y="2"/>
                    </a:cubicBezTo>
                    <a:cubicBezTo>
                      <a:pt x="4166" y="4"/>
                      <a:pt x="4165" y="4"/>
                      <a:pt x="4164" y="4"/>
                    </a:cubicBezTo>
                    <a:lnTo>
                      <a:pt x="4164" y="4"/>
                    </a:lnTo>
                    <a:cubicBezTo>
                      <a:pt x="4163" y="4"/>
                      <a:pt x="4162" y="4"/>
                      <a:pt x="4162" y="2"/>
                    </a:cubicBezTo>
                    <a:cubicBezTo>
                      <a:pt x="4162" y="1"/>
                      <a:pt x="4163" y="0"/>
                      <a:pt x="4164" y="0"/>
                    </a:cubicBezTo>
                    <a:close/>
                    <a:moveTo>
                      <a:pt x="4172" y="0"/>
                    </a:moveTo>
                    <a:lnTo>
                      <a:pt x="4172" y="0"/>
                    </a:lnTo>
                    <a:cubicBezTo>
                      <a:pt x="4173" y="0"/>
                      <a:pt x="4174" y="1"/>
                      <a:pt x="4174" y="2"/>
                    </a:cubicBezTo>
                    <a:cubicBezTo>
                      <a:pt x="4174" y="4"/>
                      <a:pt x="4173" y="4"/>
                      <a:pt x="4172" y="4"/>
                    </a:cubicBezTo>
                    <a:lnTo>
                      <a:pt x="4172" y="4"/>
                    </a:lnTo>
                    <a:cubicBezTo>
                      <a:pt x="4171" y="4"/>
                      <a:pt x="4170" y="4"/>
                      <a:pt x="4170" y="2"/>
                    </a:cubicBezTo>
                    <a:cubicBezTo>
                      <a:pt x="4170" y="1"/>
                      <a:pt x="4171" y="0"/>
                      <a:pt x="4172" y="0"/>
                    </a:cubicBezTo>
                    <a:close/>
                    <a:moveTo>
                      <a:pt x="4180" y="0"/>
                    </a:moveTo>
                    <a:lnTo>
                      <a:pt x="4180" y="0"/>
                    </a:lnTo>
                    <a:cubicBezTo>
                      <a:pt x="4181" y="0"/>
                      <a:pt x="4182" y="1"/>
                      <a:pt x="4182" y="2"/>
                    </a:cubicBezTo>
                    <a:cubicBezTo>
                      <a:pt x="4182" y="4"/>
                      <a:pt x="4181" y="4"/>
                      <a:pt x="4180" y="4"/>
                    </a:cubicBezTo>
                    <a:lnTo>
                      <a:pt x="4180" y="4"/>
                    </a:lnTo>
                    <a:cubicBezTo>
                      <a:pt x="4179" y="4"/>
                      <a:pt x="4178" y="4"/>
                      <a:pt x="4178" y="2"/>
                    </a:cubicBezTo>
                    <a:cubicBezTo>
                      <a:pt x="4178" y="1"/>
                      <a:pt x="4179" y="0"/>
                      <a:pt x="4180" y="0"/>
                    </a:cubicBezTo>
                    <a:close/>
                    <a:moveTo>
                      <a:pt x="4188" y="0"/>
                    </a:moveTo>
                    <a:lnTo>
                      <a:pt x="4188" y="0"/>
                    </a:lnTo>
                    <a:cubicBezTo>
                      <a:pt x="4189" y="0"/>
                      <a:pt x="4190" y="1"/>
                      <a:pt x="4190" y="2"/>
                    </a:cubicBezTo>
                    <a:cubicBezTo>
                      <a:pt x="4190" y="4"/>
                      <a:pt x="4189" y="4"/>
                      <a:pt x="4188" y="4"/>
                    </a:cubicBezTo>
                    <a:lnTo>
                      <a:pt x="4188" y="4"/>
                    </a:lnTo>
                    <a:cubicBezTo>
                      <a:pt x="4187" y="4"/>
                      <a:pt x="4186" y="4"/>
                      <a:pt x="4186" y="2"/>
                    </a:cubicBezTo>
                    <a:cubicBezTo>
                      <a:pt x="4186" y="1"/>
                      <a:pt x="4187" y="0"/>
                      <a:pt x="4188" y="0"/>
                    </a:cubicBezTo>
                    <a:close/>
                    <a:moveTo>
                      <a:pt x="4196" y="0"/>
                    </a:moveTo>
                    <a:lnTo>
                      <a:pt x="4196" y="0"/>
                    </a:lnTo>
                    <a:cubicBezTo>
                      <a:pt x="4197" y="0"/>
                      <a:pt x="4198" y="1"/>
                      <a:pt x="4198" y="2"/>
                    </a:cubicBezTo>
                    <a:cubicBezTo>
                      <a:pt x="4198" y="4"/>
                      <a:pt x="4197" y="4"/>
                      <a:pt x="4196" y="4"/>
                    </a:cubicBezTo>
                    <a:lnTo>
                      <a:pt x="4196" y="4"/>
                    </a:lnTo>
                    <a:cubicBezTo>
                      <a:pt x="4195" y="4"/>
                      <a:pt x="4194" y="4"/>
                      <a:pt x="4194" y="2"/>
                    </a:cubicBezTo>
                    <a:cubicBezTo>
                      <a:pt x="4194" y="1"/>
                      <a:pt x="4195" y="0"/>
                      <a:pt x="4196" y="0"/>
                    </a:cubicBezTo>
                    <a:close/>
                    <a:moveTo>
                      <a:pt x="4204" y="0"/>
                    </a:moveTo>
                    <a:lnTo>
                      <a:pt x="4204" y="0"/>
                    </a:lnTo>
                    <a:cubicBezTo>
                      <a:pt x="4205" y="0"/>
                      <a:pt x="4206" y="1"/>
                      <a:pt x="4206" y="2"/>
                    </a:cubicBezTo>
                    <a:cubicBezTo>
                      <a:pt x="4206" y="4"/>
                      <a:pt x="4205" y="4"/>
                      <a:pt x="4204" y="4"/>
                    </a:cubicBezTo>
                    <a:lnTo>
                      <a:pt x="4204" y="4"/>
                    </a:lnTo>
                    <a:cubicBezTo>
                      <a:pt x="4203" y="4"/>
                      <a:pt x="4202" y="4"/>
                      <a:pt x="4202" y="2"/>
                    </a:cubicBezTo>
                    <a:cubicBezTo>
                      <a:pt x="4202" y="1"/>
                      <a:pt x="4203" y="0"/>
                      <a:pt x="4204" y="0"/>
                    </a:cubicBezTo>
                    <a:close/>
                    <a:moveTo>
                      <a:pt x="4212" y="0"/>
                    </a:moveTo>
                    <a:lnTo>
                      <a:pt x="4212" y="0"/>
                    </a:lnTo>
                    <a:cubicBezTo>
                      <a:pt x="4213" y="0"/>
                      <a:pt x="4214" y="1"/>
                      <a:pt x="4214" y="2"/>
                    </a:cubicBezTo>
                    <a:cubicBezTo>
                      <a:pt x="4214" y="4"/>
                      <a:pt x="4213" y="4"/>
                      <a:pt x="4212" y="4"/>
                    </a:cubicBezTo>
                    <a:lnTo>
                      <a:pt x="4212" y="4"/>
                    </a:lnTo>
                    <a:cubicBezTo>
                      <a:pt x="4211" y="4"/>
                      <a:pt x="4210" y="4"/>
                      <a:pt x="4210" y="2"/>
                    </a:cubicBezTo>
                    <a:cubicBezTo>
                      <a:pt x="4210" y="1"/>
                      <a:pt x="4211" y="0"/>
                      <a:pt x="4212" y="0"/>
                    </a:cubicBezTo>
                    <a:close/>
                    <a:moveTo>
                      <a:pt x="4220" y="0"/>
                    </a:moveTo>
                    <a:lnTo>
                      <a:pt x="4220" y="0"/>
                    </a:lnTo>
                    <a:cubicBezTo>
                      <a:pt x="4221" y="0"/>
                      <a:pt x="4222" y="1"/>
                      <a:pt x="4222" y="2"/>
                    </a:cubicBezTo>
                    <a:cubicBezTo>
                      <a:pt x="4222" y="4"/>
                      <a:pt x="4221" y="4"/>
                      <a:pt x="4220" y="4"/>
                    </a:cubicBezTo>
                    <a:lnTo>
                      <a:pt x="4220" y="4"/>
                    </a:lnTo>
                    <a:cubicBezTo>
                      <a:pt x="4219" y="4"/>
                      <a:pt x="4218" y="4"/>
                      <a:pt x="4218" y="2"/>
                    </a:cubicBezTo>
                    <a:cubicBezTo>
                      <a:pt x="4218" y="1"/>
                      <a:pt x="4219" y="0"/>
                      <a:pt x="4220" y="0"/>
                    </a:cubicBezTo>
                    <a:close/>
                    <a:moveTo>
                      <a:pt x="4228" y="0"/>
                    </a:moveTo>
                    <a:lnTo>
                      <a:pt x="4228" y="0"/>
                    </a:lnTo>
                    <a:cubicBezTo>
                      <a:pt x="4229" y="0"/>
                      <a:pt x="4230" y="1"/>
                      <a:pt x="4230" y="2"/>
                    </a:cubicBezTo>
                    <a:cubicBezTo>
                      <a:pt x="4230" y="4"/>
                      <a:pt x="4229" y="4"/>
                      <a:pt x="4228" y="4"/>
                    </a:cubicBezTo>
                    <a:lnTo>
                      <a:pt x="4228" y="4"/>
                    </a:lnTo>
                    <a:cubicBezTo>
                      <a:pt x="4227" y="4"/>
                      <a:pt x="4226" y="4"/>
                      <a:pt x="4226" y="2"/>
                    </a:cubicBezTo>
                    <a:cubicBezTo>
                      <a:pt x="4226" y="1"/>
                      <a:pt x="4227" y="0"/>
                      <a:pt x="4228" y="0"/>
                    </a:cubicBezTo>
                    <a:close/>
                    <a:moveTo>
                      <a:pt x="4236" y="0"/>
                    </a:moveTo>
                    <a:lnTo>
                      <a:pt x="4236" y="0"/>
                    </a:lnTo>
                    <a:cubicBezTo>
                      <a:pt x="4237" y="0"/>
                      <a:pt x="4238" y="1"/>
                      <a:pt x="4238" y="2"/>
                    </a:cubicBezTo>
                    <a:cubicBezTo>
                      <a:pt x="4238" y="4"/>
                      <a:pt x="4237" y="4"/>
                      <a:pt x="4236" y="4"/>
                    </a:cubicBezTo>
                    <a:lnTo>
                      <a:pt x="4236" y="4"/>
                    </a:lnTo>
                    <a:cubicBezTo>
                      <a:pt x="4235" y="4"/>
                      <a:pt x="4234" y="4"/>
                      <a:pt x="4234" y="2"/>
                    </a:cubicBezTo>
                    <a:cubicBezTo>
                      <a:pt x="4234" y="1"/>
                      <a:pt x="4235" y="0"/>
                      <a:pt x="4236" y="0"/>
                    </a:cubicBezTo>
                    <a:close/>
                    <a:moveTo>
                      <a:pt x="4244" y="0"/>
                    </a:moveTo>
                    <a:lnTo>
                      <a:pt x="4244" y="0"/>
                    </a:lnTo>
                    <a:cubicBezTo>
                      <a:pt x="4245" y="0"/>
                      <a:pt x="4246" y="1"/>
                      <a:pt x="4246" y="2"/>
                    </a:cubicBezTo>
                    <a:cubicBezTo>
                      <a:pt x="4246" y="4"/>
                      <a:pt x="4245" y="4"/>
                      <a:pt x="4244" y="4"/>
                    </a:cubicBezTo>
                    <a:lnTo>
                      <a:pt x="4244" y="4"/>
                    </a:lnTo>
                    <a:cubicBezTo>
                      <a:pt x="4243" y="4"/>
                      <a:pt x="4242" y="4"/>
                      <a:pt x="4242" y="2"/>
                    </a:cubicBezTo>
                    <a:cubicBezTo>
                      <a:pt x="4242" y="1"/>
                      <a:pt x="4243" y="0"/>
                      <a:pt x="4244" y="0"/>
                    </a:cubicBezTo>
                    <a:close/>
                    <a:moveTo>
                      <a:pt x="4252" y="0"/>
                    </a:moveTo>
                    <a:lnTo>
                      <a:pt x="4252" y="0"/>
                    </a:lnTo>
                    <a:cubicBezTo>
                      <a:pt x="4253" y="0"/>
                      <a:pt x="4254" y="1"/>
                      <a:pt x="4254" y="2"/>
                    </a:cubicBezTo>
                    <a:cubicBezTo>
                      <a:pt x="4254" y="4"/>
                      <a:pt x="4253" y="4"/>
                      <a:pt x="4252" y="4"/>
                    </a:cubicBezTo>
                    <a:lnTo>
                      <a:pt x="4252" y="4"/>
                    </a:lnTo>
                    <a:cubicBezTo>
                      <a:pt x="4251" y="4"/>
                      <a:pt x="4250" y="4"/>
                      <a:pt x="4250" y="2"/>
                    </a:cubicBezTo>
                    <a:cubicBezTo>
                      <a:pt x="4250" y="1"/>
                      <a:pt x="4251" y="0"/>
                      <a:pt x="4252" y="0"/>
                    </a:cubicBezTo>
                    <a:close/>
                    <a:moveTo>
                      <a:pt x="4260" y="0"/>
                    </a:moveTo>
                    <a:lnTo>
                      <a:pt x="4260" y="0"/>
                    </a:lnTo>
                    <a:cubicBezTo>
                      <a:pt x="4261" y="0"/>
                      <a:pt x="4262" y="1"/>
                      <a:pt x="4262" y="2"/>
                    </a:cubicBezTo>
                    <a:cubicBezTo>
                      <a:pt x="4262" y="4"/>
                      <a:pt x="4261" y="4"/>
                      <a:pt x="4260" y="4"/>
                    </a:cubicBezTo>
                    <a:lnTo>
                      <a:pt x="4260" y="4"/>
                    </a:lnTo>
                    <a:cubicBezTo>
                      <a:pt x="4259" y="4"/>
                      <a:pt x="4258" y="4"/>
                      <a:pt x="4258" y="2"/>
                    </a:cubicBezTo>
                    <a:cubicBezTo>
                      <a:pt x="4258" y="1"/>
                      <a:pt x="4259" y="0"/>
                      <a:pt x="4260" y="0"/>
                    </a:cubicBezTo>
                    <a:close/>
                    <a:moveTo>
                      <a:pt x="4268" y="0"/>
                    </a:moveTo>
                    <a:lnTo>
                      <a:pt x="4268" y="0"/>
                    </a:lnTo>
                    <a:cubicBezTo>
                      <a:pt x="4269" y="0"/>
                      <a:pt x="4270" y="1"/>
                      <a:pt x="4270" y="2"/>
                    </a:cubicBezTo>
                    <a:cubicBezTo>
                      <a:pt x="4270" y="4"/>
                      <a:pt x="4269" y="4"/>
                      <a:pt x="4268" y="4"/>
                    </a:cubicBezTo>
                    <a:lnTo>
                      <a:pt x="4268" y="4"/>
                    </a:lnTo>
                    <a:cubicBezTo>
                      <a:pt x="4267" y="4"/>
                      <a:pt x="4266" y="4"/>
                      <a:pt x="4266" y="2"/>
                    </a:cubicBezTo>
                    <a:cubicBezTo>
                      <a:pt x="4266" y="1"/>
                      <a:pt x="4267" y="0"/>
                      <a:pt x="4268" y="0"/>
                    </a:cubicBezTo>
                    <a:close/>
                    <a:moveTo>
                      <a:pt x="4276" y="0"/>
                    </a:moveTo>
                    <a:lnTo>
                      <a:pt x="4276" y="0"/>
                    </a:lnTo>
                    <a:cubicBezTo>
                      <a:pt x="4277" y="0"/>
                      <a:pt x="4278" y="1"/>
                      <a:pt x="4278" y="2"/>
                    </a:cubicBezTo>
                    <a:cubicBezTo>
                      <a:pt x="4278" y="4"/>
                      <a:pt x="4277" y="4"/>
                      <a:pt x="4276" y="4"/>
                    </a:cubicBezTo>
                    <a:lnTo>
                      <a:pt x="4276" y="4"/>
                    </a:lnTo>
                    <a:cubicBezTo>
                      <a:pt x="4275" y="4"/>
                      <a:pt x="4274" y="4"/>
                      <a:pt x="4274" y="2"/>
                    </a:cubicBezTo>
                    <a:cubicBezTo>
                      <a:pt x="4274" y="1"/>
                      <a:pt x="4275" y="0"/>
                      <a:pt x="4276" y="0"/>
                    </a:cubicBezTo>
                    <a:close/>
                    <a:moveTo>
                      <a:pt x="4284" y="0"/>
                    </a:moveTo>
                    <a:lnTo>
                      <a:pt x="4284" y="0"/>
                    </a:lnTo>
                    <a:cubicBezTo>
                      <a:pt x="4285" y="0"/>
                      <a:pt x="4286" y="1"/>
                      <a:pt x="4286" y="2"/>
                    </a:cubicBezTo>
                    <a:cubicBezTo>
                      <a:pt x="4286" y="4"/>
                      <a:pt x="4285" y="4"/>
                      <a:pt x="4284" y="4"/>
                    </a:cubicBezTo>
                    <a:lnTo>
                      <a:pt x="4284" y="4"/>
                    </a:lnTo>
                    <a:cubicBezTo>
                      <a:pt x="4283" y="4"/>
                      <a:pt x="4282" y="4"/>
                      <a:pt x="4282" y="2"/>
                    </a:cubicBezTo>
                    <a:cubicBezTo>
                      <a:pt x="4282" y="1"/>
                      <a:pt x="4283" y="0"/>
                      <a:pt x="4284" y="0"/>
                    </a:cubicBezTo>
                    <a:close/>
                    <a:moveTo>
                      <a:pt x="4292" y="0"/>
                    </a:moveTo>
                    <a:lnTo>
                      <a:pt x="4292" y="0"/>
                    </a:lnTo>
                    <a:cubicBezTo>
                      <a:pt x="4293" y="0"/>
                      <a:pt x="4294" y="1"/>
                      <a:pt x="4294" y="2"/>
                    </a:cubicBezTo>
                    <a:cubicBezTo>
                      <a:pt x="4294" y="4"/>
                      <a:pt x="4293" y="4"/>
                      <a:pt x="4292" y="4"/>
                    </a:cubicBezTo>
                    <a:lnTo>
                      <a:pt x="4292" y="4"/>
                    </a:lnTo>
                    <a:cubicBezTo>
                      <a:pt x="4291" y="4"/>
                      <a:pt x="4290" y="4"/>
                      <a:pt x="4290" y="2"/>
                    </a:cubicBezTo>
                    <a:cubicBezTo>
                      <a:pt x="4290" y="1"/>
                      <a:pt x="4291" y="0"/>
                      <a:pt x="4292" y="0"/>
                    </a:cubicBezTo>
                    <a:close/>
                    <a:moveTo>
                      <a:pt x="4300" y="0"/>
                    </a:moveTo>
                    <a:lnTo>
                      <a:pt x="4300" y="0"/>
                    </a:lnTo>
                    <a:cubicBezTo>
                      <a:pt x="4301" y="0"/>
                      <a:pt x="4302" y="1"/>
                      <a:pt x="4302" y="2"/>
                    </a:cubicBezTo>
                    <a:cubicBezTo>
                      <a:pt x="4302" y="4"/>
                      <a:pt x="4301" y="4"/>
                      <a:pt x="4300" y="4"/>
                    </a:cubicBezTo>
                    <a:lnTo>
                      <a:pt x="4300" y="4"/>
                    </a:lnTo>
                    <a:cubicBezTo>
                      <a:pt x="4299" y="4"/>
                      <a:pt x="4298" y="4"/>
                      <a:pt x="4298" y="2"/>
                    </a:cubicBezTo>
                    <a:cubicBezTo>
                      <a:pt x="4298" y="1"/>
                      <a:pt x="4299" y="0"/>
                      <a:pt x="4300" y="0"/>
                    </a:cubicBezTo>
                    <a:close/>
                    <a:moveTo>
                      <a:pt x="4308" y="0"/>
                    </a:moveTo>
                    <a:lnTo>
                      <a:pt x="4308" y="0"/>
                    </a:lnTo>
                    <a:cubicBezTo>
                      <a:pt x="4309" y="0"/>
                      <a:pt x="4310" y="1"/>
                      <a:pt x="4310" y="2"/>
                    </a:cubicBezTo>
                    <a:cubicBezTo>
                      <a:pt x="4310" y="4"/>
                      <a:pt x="4309" y="4"/>
                      <a:pt x="4308" y="4"/>
                    </a:cubicBezTo>
                    <a:lnTo>
                      <a:pt x="4308" y="4"/>
                    </a:lnTo>
                    <a:cubicBezTo>
                      <a:pt x="4307" y="4"/>
                      <a:pt x="4306" y="4"/>
                      <a:pt x="4306" y="2"/>
                    </a:cubicBezTo>
                    <a:cubicBezTo>
                      <a:pt x="4306" y="1"/>
                      <a:pt x="4307" y="0"/>
                      <a:pt x="4308" y="0"/>
                    </a:cubicBezTo>
                    <a:close/>
                    <a:moveTo>
                      <a:pt x="4316" y="0"/>
                    </a:moveTo>
                    <a:lnTo>
                      <a:pt x="4316" y="0"/>
                    </a:lnTo>
                    <a:cubicBezTo>
                      <a:pt x="4317" y="0"/>
                      <a:pt x="4318" y="1"/>
                      <a:pt x="4318" y="2"/>
                    </a:cubicBezTo>
                    <a:cubicBezTo>
                      <a:pt x="4318" y="4"/>
                      <a:pt x="4317" y="4"/>
                      <a:pt x="4316" y="4"/>
                    </a:cubicBezTo>
                    <a:lnTo>
                      <a:pt x="4316" y="4"/>
                    </a:lnTo>
                    <a:cubicBezTo>
                      <a:pt x="4315" y="4"/>
                      <a:pt x="4314" y="4"/>
                      <a:pt x="4314" y="2"/>
                    </a:cubicBezTo>
                    <a:cubicBezTo>
                      <a:pt x="4314" y="1"/>
                      <a:pt x="4315" y="0"/>
                      <a:pt x="4316" y="0"/>
                    </a:cubicBezTo>
                    <a:close/>
                    <a:moveTo>
                      <a:pt x="4324" y="0"/>
                    </a:moveTo>
                    <a:lnTo>
                      <a:pt x="4324" y="0"/>
                    </a:lnTo>
                    <a:cubicBezTo>
                      <a:pt x="4325" y="0"/>
                      <a:pt x="4326" y="1"/>
                      <a:pt x="4326" y="2"/>
                    </a:cubicBezTo>
                    <a:cubicBezTo>
                      <a:pt x="4326" y="4"/>
                      <a:pt x="4325" y="4"/>
                      <a:pt x="4324" y="4"/>
                    </a:cubicBezTo>
                    <a:lnTo>
                      <a:pt x="4324" y="4"/>
                    </a:lnTo>
                    <a:cubicBezTo>
                      <a:pt x="4323" y="4"/>
                      <a:pt x="4322" y="4"/>
                      <a:pt x="4322" y="2"/>
                    </a:cubicBezTo>
                    <a:cubicBezTo>
                      <a:pt x="4322" y="1"/>
                      <a:pt x="4323" y="0"/>
                      <a:pt x="4324" y="0"/>
                    </a:cubicBezTo>
                    <a:close/>
                    <a:moveTo>
                      <a:pt x="4332" y="0"/>
                    </a:moveTo>
                    <a:lnTo>
                      <a:pt x="4332" y="0"/>
                    </a:lnTo>
                    <a:cubicBezTo>
                      <a:pt x="4333" y="0"/>
                      <a:pt x="4334" y="1"/>
                      <a:pt x="4334" y="2"/>
                    </a:cubicBezTo>
                    <a:cubicBezTo>
                      <a:pt x="4334" y="4"/>
                      <a:pt x="4333" y="4"/>
                      <a:pt x="4332" y="4"/>
                    </a:cubicBezTo>
                    <a:lnTo>
                      <a:pt x="4332" y="4"/>
                    </a:lnTo>
                    <a:cubicBezTo>
                      <a:pt x="4331" y="4"/>
                      <a:pt x="4330" y="4"/>
                      <a:pt x="4330" y="2"/>
                    </a:cubicBezTo>
                    <a:cubicBezTo>
                      <a:pt x="4330" y="1"/>
                      <a:pt x="4331" y="0"/>
                      <a:pt x="4332" y="0"/>
                    </a:cubicBezTo>
                    <a:close/>
                    <a:moveTo>
                      <a:pt x="4340" y="0"/>
                    </a:moveTo>
                    <a:lnTo>
                      <a:pt x="4340" y="0"/>
                    </a:lnTo>
                    <a:cubicBezTo>
                      <a:pt x="4341" y="0"/>
                      <a:pt x="4342" y="1"/>
                      <a:pt x="4342" y="2"/>
                    </a:cubicBezTo>
                    <a:cubicBezTo>
                      <a:pt x="4342" y="4"/>
                      <a:pt x="4341" y="4"/>
                      <a:pt x="4340" y="4"/>
                    </a:cubicBezTo>
                    <a:lnTo>
                      <a:pt x="4340" y="4"/>
                    </a:lnTo>
                    <a:cubicBezTo>
                      <a:pt x="4339" y="4"/>
                      <a:pt x="4338" y="4"/>
                      <a:pt x="4338" y="2"/>
                    </a:cubicBezTo>
                    <a:cubicBezTo>
                      <a:pt x="4338" y="1"/>
                      <a:pt x="4339" y="0"/>
                      <a:pt x="4340" y="0"/>
                    </a:cubicBezTo>
                    <a:close/>
                    <a:moveTo>
                      <a:pt x="4348" y="0"/>
                    </a:moveTo>
                    <a:lnTo>
                      <a:pt x="4348" y="0"/>
                    </a:lnTo>
                    <a:cubicBezTo>
                      <a:pt x="4349" y="0"/>
                      <a:pt x="4350" y="1"/>
                      <a:pt x="4350" y="2"/>
                    </a:cubicBezTo>
                    <a:cubicBezTo>
                      <a:pt x="4350" y="4"/>
                      <a:pt x="4349" y="4"/>
                      <a:pt x="4348" y="4"/>
                    </a:cubicBezTo>
                    <a:lnTo>
                      <a:pt x="4348" y="4"/>
                    </a:lnTo>
                    <a:cubicBezTo>
                      <a:pt x="4347" y="4"/>
                      <a:pt x="4346" y="4"/>
                      <a:pt x="4346" y="2"/>
                    </a:cubicBezTo>
                    <a:cubicBezTo>
                      <a:pt x="4346" y="1"/>
                      <a:pt x="4347" y="0"/>
                      <a:pt x="4348" y="0"/>
                    </a:cubicBezTo>
                    <a:close/>
                    <a:moveTo>
                      <a:pt x="4356" y="0"/>
                    </a:moveTo>
                    <a:lnTo>
                      <a:pt x="4356" y="0"/>
                    </a:lnTo>
                    <a:cubicBezTo>
                      <a:pt x="4357" y="0"/>
                      <a:pt x="4358" y="1"/>
                      <a:pt x="4358" y="2"/>
                    </a:cubicBezTo>
                    <a:cubicBezTo>
                      <a:pt x="4358" y="4"/>
                      <a:pt x="4357" y="4"/>
                      <a:pt x="4356" y="4"/>
                    </a:cubicBezTo>
                    <a:lnTo>
                      <a:pt x="4356" y="4"/>
                    </a:lnTo>
                    <a:cubicBezTo>
                      <a:pt x="4355" y="4"/>
                      <a:pt x="4354" y="4"/>
                      <a:pt x="4354" y="2"/>
                    </a:cubicBezTo>
                    <a:cubicBezTo>
                      <a:pt x="4354" y="1"/>
                      <a:pt x="4355" y="0"/>
                      <a:pt x="4356" y="0"/>
                    </a:cubicBezTo>
                    <a:close/>
                    <a:moveTo>
                      <a:pt x="4364" y="0"/>
                    </a:moveTo>
                    <a:lnTo>
                      <a:pt x="4364" y="0"/>
                    </a:lnTo>
                    <a:cubicBezTo>
                      <a:pt x="4365" y="0"/>
                      <a:pt x="4366" y="1"/>
                      <a:pt x="4366" y="2"/>
                    </a:cubicBezTo>
                    <a:cubicBezTo>
                      <a:pt x="4366" y="4"/>
                      <a:pt x="4365" y="4"/>
                      <a:pt x="4364" y="4"/>
                    </a:cubicBezTo>
                    <a:lnTo>
                      <a:pt x="4364" y="4"/>
                    </a:lnTo>
                    <a:cubicBezTo>
                      <a:pt x="4363" y="4"/>
                      <a:pt x="4362" y="4"/>
                      <a:pt x="4362" y="2"/>
                    </a:cubicBezTo>
                    <a:cubicBezTo>
                      <a:pt x="4362" y="1"/>
                      <a:pt x="4363" y="0"/>
                      <a:pt x="4364" y="0"/>
                    </a:cubicBezTo>
                    <a:close/>
                    <a:moveTo>
                      <a:pt x="4372" y="0"/>
                    </a:moveTo>
                    <a:lnTo>
                      <a:pt x="4372" y="0"/>
                    </a:lnTo>
                    <a:cubicBezTo>
                      <a:pt x="4373" y="0"/>
                      <a:pt x="4374" y="1"/>
                      <a:pt x="4374" y="2"/>
                    </a:cubicBezTo>
                    <a:cubicBezTo>
                      <a:pt x="4374" y="4"/>
                      <a:pt x="4373" y="4"/>
                      <a:pt x="4372" y="4"/>
                    </a:cubicBezTo>
                    <a:lnTo>
                      <a:pt x="4372" y="4"/>
                    </a:lnTo>
                    <a:cubicBezTo>
                      <a:pt x="4371" y="4"/>
                      <a:pt x="4370" y="4"/>
                      <a:pt x="4370" y="2"/>
                    </a:cubicBezTo>
                    <a:cubicBezTo>
                      <a:pt x="4370" y="1"/>
                      <a:pt x="4371" y="0"/>
                      <a:pt x="4372" y="0"/>
                    </a:cubicBezTo>
                    <a:close/>
                    <a:moveTo>
                      <a:pt x="4380" y="0"/>
                    </a:moveTo>
                    <a:lnTo>
                      <a:pt x="4380" y="0"/>
                    </a:lnTo>
                    <a:cubicBezTo>
                      <a:pt x="4381" y="0"/>
                      <a:pt x="4382" y="1"/>
                      <a:pt x="4382" y="2"/>
                    </a:cubicBezTo>
                    <a:cubicBezTo>
                      <a:pt x="4382" y="4"/>
                      <a:pt x="4381" y="4"/>
                      <a:pt x="4380" y="4"/>
                    </a:cubicBezTo>
                    <a:lnTo>
                      <a:pt x="4380" y="4"/>
                    </a:lnTo>
                    <a:cubicBezTo>
                      <a:pt x="4379" y="4"/>
                      <a:pt x="4378" y="4"/>
                      <a:pt x="4378" y="2"/>
                    </a:cubicBezTo>
                    <a:cubicBezTo>
                      <a:pt x="4378" y="1"/>
                      <a:pt x="4379" y="0"/>
                      <a:pt x="4380" y="0"/>
                    </a:cubicBezTo>
                    <a:close/>
                    <a:moveTo>
                      <a:pt x="4388" y="0"/>
                    </a:moveTo>
                    <a:lnTo>
                      <a:pt x="4388" y="0"/>
                    </a:lnTo>
                    <a:cubicBezTo>
                      <a:pt x="4389" y="0"/>
                      <a:pt x="4390" y="1"/>
                      <a:pt x="4390" y="2"/>
                    </a:cubicBezTo>
                    <a:cubicBezTo>
                      <a:pt x="4390" y="4"/>
                      <a:pt x="4389" y="4"/>
                      <a:pt x="4388" y="4"/>
                    </a:cubicBezTo>
                    <a:lnTo>
                      <a:pt x="4388" y="4"/>
                    </a:lnTo>
                    <a:cubicBezTo>
                      <a:pt x="4387" y="4"/>
                      <a:pt x="4386" y="4"/>
                      <a:pt x="4386" y="2"/>
                    </a:cubicBezTo>
                    <a:cubicBezTo>
                      <a:pt x="4386" y="1"/>
                      <a:pt x="4387" y="0"/>
                      <a:pt x="4388" y="0"/>
                    </a:cubicBezTo>
                    <a:close/>
                    <a:moveTo>
                      <a:pt x="4396" y="0"/>
                    </a:moveTo>
                    <a:lnTo>
                      <a:pt x="4396" y="0"/>
                    </a:lnTo>
                    <a:cubicBezTo>
                      <a:pt x="4397" y="0"/>
                      <a:pt x="4398" y="1"/>
                      <a:pt x="4398" y="2"/>
                    </a:cubicBezTo>
                    <a:cubicBezTo>
                      <a:pt x="4398" y="4"/>
                      <a:pt x="4397" y="4"/>
                      <a:pt x="4396" y="4"/>
                    </a:cubicBezTo>
                    <a:lnTo>
                      <a:pt x="4396" y="4"/>
                    </a:lnTo>
                    <a:cubicBezTo>
                      <a:pt x="4395" y="4"/>
                      <a:pt x="4394" y="4"/>
                      <a:pt x="4394" y="2"/>
                    </a:cubicBezTo>
                    <a:cubicBezTo>
                      <a:pt x="4394" y="1"/>
                      <a:pt x="4395" y="0"/>
                      <a:pt x="4396" y="0"/>
                    </a:cubicBezTo>
                    <a:close/>
                    <a:moveTo>
                      <a:pt x="4404" y="0"/>
                    </a:moveTo>
                    <a:lnTo>
                      <a:pt x="4404" y="0"/>
                    </a:lnTo>
                    <a:cubicBezTo>
                      <a:pt x="4405" y="0"/>
                      <a:pt x="4406" y="1"/>
                      <a:pt x="4406" y="2"/>
                    </a:cubicBezTo>
                    <a:cubicBezTo>
                      <a:pt x="4406" y="4"/>
                      <a:pt x="4405" y="4"/>
                      <a:pt x="4404" y="4"/>
                    </a:cubicBezTo>
                    <a:lnTo>
                      <a:pt x="4404" y="4"/>
                    </a:lnTo>
                    <a:cubicBezTo>
                      <a:pt x="4403" y="4"/>
                      <a:pt x="4402" y="4"/>
                      <a:pt x="4402" y="2"/>
                    </a:cubicBezTo>
                    <a:cubicBezTo>
                      <a:pt x="4402" y="1"/>
                      <a:pt x="4403" y="0"/>
                      <a:pt x="4404" y="0"/>
                    </a:cubicBezTo>
                    <a:close/>
                    <a:moveTo>
                      <a:pt x="4412" y="0"/>
                    </a:moveTo>
                    <a:lnTo>
                      <a:pt x="4412" y="0"/>
                    </a:lnTo>
                    <a:cubicBezTo>
                      <a:pt x="4413" y="0"/>
                      <a:pt x="4414" y="1"/>
                      <a:pt x="4414" y="2"/>
                    </a:cubicBezTo>
                    <a:cubicBezTo>
                      <a:pt x="4414" y="4"/>
                      <a:pt x="4413" y="4"/>
                      <a:pt x="4412" y="4"/>
                    </a:cubicBezTo>
                    <a:lnTo>
                      <a:pt x="4412" y="4"/>
                    </a:lnTo>
                    <a:cubicBezTo>
                      <a:pt x="4411" y="4"/>
                      <a:pt x="4410" y="4"/>
                      <a:pt x="4410" y="2"/>
                    </a:cubicBezTo>
                    <a:cubicBezTo>
                      <a:pt x="4410" y="1"/>
                      <a:pt x="4411" y="0"/>
                      <a:pt x="4412" y="0"/>
                    </a:cubicBezTo>
                    <a:close/>
                    <a:moveTo>
                      <a:pt x="4420" y="0"/>
                    </a:moveTo>
                    <a:lnTo>
                      <a:pt x="4420" y="0"/>
                    </a:lnTo>
                    <a:cubicBezTo>
                      <a:pt x="4421" y="0"/>
                      <a:pt x="4422" y="1"/>
                      <a:pt x="4422" y="2"/>
                    </a:cubicBezTo>
                    <a:cubicBezTo>
                      <a:pt x="4422" y="4"/>
                      <a:pt x="4421" y="4"/>
                      <a:pt x="4420" y="4"/>
                    </a:cubicBezTo>
                    <a:lnTo>
                      <a:pt x="4420" y="4"/>
                    </a:lnTo>
                    <a:cubicBezTo>
                      <a:pt x="4419" y="4"/>
                      <a:pt x="4418" y="4"/>
                      <a:pt x="4418" y="2"/>
                    </a:cubicBezTo>
                    <a:cubicBezTo>
                      <a:pt x="4418" y="1"/>
                      <a:pt x="4419" y="0"/>
                      <a:pt x="4420" y="0"/>
                    </a:cubicBezTo>
                    <a:close/>
                    <a:moveTo>
                      <a:pt x="4428" y="0"/>
                    </a:moveTo>
                    <a:lnTo>
                      <a:pt x="4428" y="0"/>
                    </a:lnTo>
                    <a:cubicBezTo>
                      <a:pt x="4429" y="0"/>
                      <a:pt x="4430" y="1"/>
                      <a:pt x="4430" y="2"/>
                    </a:cubicBezTo>
                    <a:cubicBezTo>
                      <a:pt x="4430" y="4"/>
                      <a:pt x="4429" y="4"/>
                      <a:pt x="4428" y="4"/>
                    </a:cubicBezTo>
                    <a:lnTo>
                      <a:pt x="4428" y="4"/>
                    </a:lnTo>
                    <a:cubicBezTo>
                      <a:pt x="4427" y="4"/>
                      <a:pt x="4426" y="4"/>
                      <a:pt x="4426" y="2"/>
                    </a:cubicBezTo>
                    <a:cubicBezTo>
                      <a:pt x="4426" y="1"/>
                      <a:pt x="4427" y="0"/>
                      <a:pt x="4428" y="0"/>
                    </a:cubicBezTo>
                    <a:close/>
                    <a:moveTo>
                      <a:pt x="4436" y="0"/>
                    </a:moveTo>
                    <a:lnTo>
                      <a:pt x="4436" y="0"/>
                    </a:lnTo>
                    <a:cubicBezTo>
                      <a:pt x="4437" y="0"/>
                      <a:pt x="4438" y="1"/>
                      <a:pt x="4438" y="2"/>
                    </a:cubicBezTo>
                    <a:cubicBezTo>
                      <a:pt x="4438" y="4"/>
                      <a:pt x="4437" y="4"/>
                      <a:pt x="4436" y="4"/>
                    </a:cubicBezTo>
                    <a:lnTo>
                      <a:pt x="4436" y="4"/>
                    </a:lnTo>
                    <a:cubicBezTo>
                      <a:pt x="4435" y="4"/>
                      <a:pt x="4434" y="4"/>
                      <a:pt x="4434" y="2"/>
                    </a:cubicBezTo>
                    <a:cubicBezTo>
                      <a:pt x="4434" y="1"/>
                      <a:pt x="4435" y="0"/>
                      <a:pt x="4436" y="0"/>
                    </a:cubicBezTo>
                    <a:close/>
                    <a:moveTo>
                      <a:pt x="4444" y="0"/>
                    </a:moveTo>
                    <a:lnTo>
                      <a:pt x="4444" y="0"/>
                    </a:lnTo>
                    <a:cubicBezTo>
                      <a:pt x="4445" y="0"/>
                      <a:pt x="4446" y="1"/>
                      <a:pt x="4446" y="2"/>
                    </a:cubicBezTo>
                    <a:cubicBezTo>
                      <a:pt x="4446" y="4"/>
                      <a:pt x="4445" y="4"/>
                      <a:pt x="4444" y="4"/>
                    </a:cubicBezTo>
                    <a:lnTo>
                      <a:pt x="4444" y="4"/>
                    </a:lnTo>
                    <a:cubicBezTo>
                      <a:pt x="4443" y="4"/>
                      <a:pt x="4442" y="4"/>
                      <a:pt x="4442" y="2"/>
                    </a:cubicBezTo>
                    <a:cubicBezTo>
                      <a:pt x="4442" y="1"/>
                      <a:pt x="4443" y="0"/>
                      <a:pt x="4444" y="0"/>
                    </a:cubicBezTo>
                    <a:close/>
                    <a:moveTo>
                      <a:pt x="4452" y="0"/>
                    </a:moveTo>
                    <a:lnTo>
                      <a:pt x="4452" y="0"/>
                    </a:lnTo>
                    <a:cubicBezTo>
                      <a:pt x="4453" y="0"/>
                      <a:pt x="4454" y="1"/>
                      <a:pt x="4454" y="2"/>
                    </a:cubicBezTo>
                    <a:cubicBezTo>
                      <a:pt x="4454" y="4"/>
                      <a:pt x="4453" y="4"/>
                      <a:pt x="4452" y="4"/>
                    </a:cubicBezTo>
                    <a:lnTo>
                      <a:pt x="4452" y="4"/>
                    </a:lnTo>
                    <a:cubicBezTo>
                      <a:pt x="4451" y="4"/>
                      <a:pt x="4450" y="4"/>
                      <a:pt x="4450" y="2"/>
                    </a:cubicBezTo>
                    <a:cubicBezTo>
                      <a:pt x="4450" y="1"/>
                      <a:pt x="4451" y="0"/>
                      <a:pt x="4452" y="0"/>
                    </a:cubicBezTo>
                    <a:close/>
                    <a:moveTo>
                      <a:pt x="4460" y="0"/>
                    </a:moveTo>
                    <a:lnTo>
                      <a:pt x="4460" y="0"/>
                    </a:lnTo>
                    <a:cubicBezTo>
                      <a:pt x="4461" y="0"/>
                      <a:pt x="4462" y="1"/>
                      <a:pt x="4462" y="2"/>
                    </a:cubicBezTo>
                    <a:cubicBezTo>
                      <a:pt x="4462" y="4"/>
                      <a:pt x="4461" y="4"/>
                      <a:pt x="4460" y="4"/>
                    </a:cubicBezTo>
                    <a:lnTo>
                      <a:pt x="4460" y="4"/>
                    </a:lnTo>
                    <a:cubicBezTo>
                      <a:pt x="4459" y="4"/>
                      <a:pt x="4458" y="4"/>
                      <a:pt x="4458" y="2"/>
                    </a:cubicBezTo>
                    <a:cubicBezTo>
                      <a:pt x="4458" y="1"/>
                      <a:pt x="4459" y="0"/>
                      <a:pt x="4460" y="0"/>
                    </a:cubicBezTo>
                    <a:close/>
                    <a:moveTo>
                      <a:pt x="4468" y="0"/>
                    </a:moveTo>
                    <a:lnTo>
                      <a:pt x="4468" y="0"/>
                    </a:lnTo>
                    <a:cubicBezTo>
                      <a:pt x="4469" y="0"/>
                      <a:pt x="4470" y="1"/>
                      <a:pt x="4470" y="2"/>
                    </a:cubicBezTo>
                    <a:cubicBezTo>
                      <a:pt x="4470" y="4"/>
                      <a:pt x="4469" y="4"/>
                      <a:pt x="4468" y="4"/>
                    </a:cubicBezTo>
                    <a:lnTo>
                      <a:pt x="4468" y="4"/>
                    </a:lnTo>
                    <a:cubicBezTo>
                      <a:pt x="4467" y="4"/>
                      <a:pt x="4466" y="4"/>
                      <a:pt x="4466" y="2"/>
                    </a:cubicBezTo>
                    <a:cubicBezTo>
                      <a:pt x="4466" y="1"/>
                      <a:pt x="4467" y="0"/>
                      <a:pt x="4468" y="0"/>
                    </a:cubicBezTo>
                    <a:close/>
                    <a:moveTo>
                      <a:pt x="4476" y="0"/>
                    </a:moveTo>
                    <a:lnTo>
                      <a:pt x="4476" y="0"/>
                    </a:lnTo>
                    <a:cubicBezTo>
                      <a:pt x="4477" y="0"/>
                      <a:pt x="4478" y="1"/>
                      <a:pt x="4478" y="2"/>
                    </a:cubicBezTo>
                    <a:cubicBezTo>
                      <a:pt x="4478" y="4"/>
                      <a:pt x="4477" y="4"/>
                      <a:pt x="4476" y="4"/>
                    </a:cubicBezTo>
                    <a:lnTo>
                      <a:pt x="4476" y="4"/>
                    </a:lnTo>
                    <a:cubicBezTo>
                      <a:pt x="4475" y="4"/>
                      <a:pt x="4474" y="4"/>
                      <a:pt x="4474" y="2"/>
                    </a:cubicBezTo>
                    <a:cubicBezTo>
                      <a:pt x="4474" y="1"/>
                      <a:pt x="4475" y="0"/>
                      <a:pt x="4476" y="0"/>
                    </a:cubicBezTo>
                    <a:close/>
                    <a:moveTo>
                      <a:pt x="4484" y="0"/>
                    </a:moveTo>
                    <a:lnTo>
                      <a:pt x="4484" y="0"/>
                    </a:lnTo>
                    <a:cubicBezTo>
                      <a:pt x="4485" y="0"/>
                      <a:pt x="4486" y="1"/>
                      <a:pt x="4486" y="2"/>
                    </a:cubicBezTo>
                    <a:cubicBezTo>
                      <a:pt x="4486" y="4"/>
                      <a:pt x="4485" y="4"/>
                      <a:pt x="4484" y="4"/>
                    </a:cubicBezTo>
                    <a:lnTo>
                      <a:pt x="4484" y="4"/>
                    </a:lnTo>
                    <a:cubicBezTo>
                      <a:pt x="4483" y="4"/>
                      <a:pt x="4482" y="4"/>
                      <a:pt x="4482" y="2"/>
                    </a:cubicBezTo>
                    <a:cubicBezTo>
                      <a:pt x="4482" y="1"/>
                      <a:pt x="4483" y="0"/>
                      <a:pt x="4484" y="0"/>
                    </a:cubicBezTo>
                    <a:close/>
                    <a:moveTo>
                      <a:pt x="4492" y="0"/>
                    </a:moveTo>
                    <a:lnTo>
                      <a:pt x="4492" y="0"/>
                    </a:lnTo>
                    <a:cubicBezTo>
                      <a:pt x="4493" y="0"/>
                      <a:pt x="4494" y="1"/>
                      <a:pt x="4494" y="2"/>
                    </a:cubicBezTo>
                    <a:cubicBezTo>
                      <a:pt x="4494" y="4"/>
                      <a:pt x="4493" y="4"/>
                      <a:pt x="4492" y="4"/>
                    </a:cubicBezTo>
                    <a:lnTo>
                      <a:pt x="4492" y="4"/>
                    </a:lnTo>
                    <a:cubicBezTo>
                      <a:pt x="4491" y="4"/>
                      <a:pt x="4490" y="4"/>
                      <a:pt x="4490" y="2"/>
                    </a:cubicBezTo>
                    <a:cubicBezTo>
                      <a:pt x="4490" y="1"/>
                      <a:pt x="4491" y="0"/>
                      <a:pt x="4492" y="0"/>
                    </a:cubicBezTo>
                    <a:close/>
                    <a:moveTo>
                      <a:pt x="4500" y="0"/>
                    </a:moveTo>
                    <a:lnTo>
                      <a:pt x="4500" y="0"/>
                    </a:lnTo>
                    <a:cubicBezTo>
                      <a:pt x="4501" y="0"/>
                      <a:pt x="4502" y="1"/>
                      <a:pt x="4502" y="2"/>
                    </a:cubicBezTo>
                    <a:cubicBezTo>
                      <a:pt x="4502" y="4"/>
                      <a:pt x="4501" y="4"/>
                      <a:pt x="4500" y="4"/>
                    </a:cubicBezTo>
                    <a:lnTo>
                      <a:pt x="4500" y="4"/>
                    </a:lnTo>
                    <a:cubicBezTo>
                      <a:pt x="4499" y="4"/>
                      <a:pt x="4498" y="4"/>
                      <a:pt x="4498" y="2"/>
                    </a:cubicBezTo>
                    <a:cubicBezTo>
                      <a:pt x="4498" y="1"/>
                      <a:pt x="4499" y="0"/>
                      <a:pt x="4500" y="0"/>
                    </a:cubicBezTo>
                    <a:close/>
                    <a:moveTo>
                      <a:pt x="4508" y="0"/>
                    </a:moveTo>
                    <a:lnTo>
                      <a:pt x="4508" y="0"/>
                    </a:lnTo>
                    <a:cubicBezTo>
                      <a:pt x="4509" y="0"/>
                      <a:pt x="4510" y="1"/>
                      <a:pt x="4510" y="2"/>
                    </a:cubicBezTo>
                    <a:cubicBezTo>
                      <a:pt x="4510" y="4"/>
                      <a:pt x="4509" y="4"/>
                      <a:pt x="4508" y="4"/>
                    </a:cubicBezTo>
                    <a:lnTo>
                      <a:pt x="4508" y="4"/>
                    </a:lnTo>
                    <a:cubicBezTo>
                      <a:pt x="4507" y="4"/>
                      <a:pt x="4506" y="4"/>
                      <a:pt x="4506" y="2"/>
                    </a:cubicBezTo>
                    <a:cubicBezTo>
                      <a:pt x="4506" y="1"/>
                      <a:pt x="4507" y="0"/>
                      <a:pt x="4508" y="0"/>
                    </a:cubicBezTo>
                    <a:close/>
                    <a:moveTo>
                      <a:pt x="4516" y="0"/>
                    </a:moveTo>
                    <a:lnTo>
                      <a:pt x="4516" y="0"/>
                    </a:lnTo>
                    <a:cubicBezTo>
                      <a:pt x="4517" y="0"/>
                      <a:pt x="4518" y="1"/>
                      <a:pt x="4518" y="2"/>
                    </a:cubicBezTo>
                    <a:cubicBezTo>
                      <a:pt x="4518" y="4"/>
                      <a:pt x="4517" y="4"/>
                      <a:pt x="4516" y="4"/>
                    </a:cubicBezTo>
                    <a:lnTo>
                      <a:pt x="4516" y="4"/>
                    </a:lnTo>
                    <a:cubicBezTo>
                      <a:pt x="4515" y="4"/>
                      <a:pt x="4514" y="4"/>
                      <a:pt x="4514" y="2"/>
                    </a:cubicBezTo>
                    <a:cubicBezTo>
                      <a:pt x="4514" y="1"/>
                      <a:pt x="4515" y="0"/>
                      <a:pt x="4516" y="0"/>
                    </a:cubicBezTo>
                    <a:close/>
                    <a:moveTo>
                      <a:pt x="4524" y="0"/>
                    </a:moveTo>
                    <a:lnTo>
                      <a:pt x="4524" y="0"/>
                    </a:lnTo>
                    <a:cubicBezTo>
                      <a:pt x="4525" y="0"/>
                      <a:pt x="4526" y="1"/>
                      <a:pt x="4526" y="2"/>
                    </a:cubicBezTo>
                    <a:cubicBezTo>
                      <a:pt x="4526" y="4"/>
                      <a:pt x="4525" y="4"/>
                      <a:pt x="4524" y="4"/>
                    </a:cubicBezTo>
                    <a:lnTo>
                      <a:pt x="4524" y="4"/>
                    </a:lnTo>
                    <a:cubicBezTo>
                      <a:pt x="4523" y="4"/>
                      <a:pt x="4522" y="4"/>
                      <a:pt x="4522" y="2"/>
                    </a:cubicBezTo>
                    <a:cubicBezTo>
                      <a:pt x="4522" y="1"/>
                      <a:pt x="4523" y="0"/>
                      <a:pt x="4524" y="0"/>
                    </a:cubicBezTo>
                    <a:close/>
                    <a:moveTo>
                      <a:pt x="4532" y="0"/>
                    </a:moveTo>
                    <a:lnTo>
                      <a:pt x="4532" y="0"/>
                    </a:lnTo>
                    <a:cubicBezTo>
                      <a:pt x="4533" y="0"/>
                      <a:pt x="4534" y="1"/>
                      <a:pt x="4534" y="2"/>
                    </a:cubicBezTo>
                    <a:cubicBezTo>
                      <a:pt x="4534" y="4"/>
                      <a:pt x="4533" y="4"/>
                      <a:pt x="4532" y="4"/>
                    </a:cubicBezTo>
                    <a:lnTo>
                      <a:pt x="4532" y="4"/>
                    </a:lnTo>
                    <a:cubicBezTo>
                      <a:pt x="4531" y="4"/>
                      <a:pt x="4530" y="4"/>
                      <a:pt x="4530" y="2"/>
                    </a:cubicBezTo>
                    <a:cubicBezTo>
                      <a:pt x="4530" y="1"/>
                      <a:pt x="4531" y="0"/>
                      <a:pt x="4532" y="0"/>
                    </a:cubicBezTo>
                    <a:close/>
                    <a:moveTo>
                      <a:pt x="4540" y="0"/>
                    </a:moveTo>
                    <a:lnTo>
                      <a:pt x="4540" y="0"/>
                    </a:lnTo>
                    <a:cubicBezTo>
                      <a:pt x="4541" y="0"/>
                      <a:pt x="4542" y="1"/>
                      <a:pt x="4542" y="2"/>
                    </a:cubicBezTo>
                    <a:cubicBezTo>
                      <a:pt x="4542" y="4"/>
                      <a:pt x="4541" y="4"/>
                      <a:pt x="4540" y="4"/>
                    </a:cubicBezTo>
                    <a:lnTo>
                      <a:pt x="4540" y="4"/>
                    </a:lnTo>
                    <a:cubicBezTo>
                      <a:pt x="4539" y="4"/>
                      <a:pt x="4538" y="4"/>
                      <a:pt x="4538" y="2"/>
                    </a:cubicBezTo>
                    <a:cubicBezTo>
                      <a:pt x="4538" y="1"/>
                      <a:pt x="4539" y="0"/>
                      <a:pt x="4540" y="0"/>
                    </a:cubicBezTo>
                    <a:close/>
                    <a:moveTo>
                      <a:pt x="4548" y="0"/>
                    </a:moveTo>
                    <a:lnTo>
                      <a:pt x="4548" y="0"/>
                    </a:lnTo>
                    <a:cubicBezTo>
                      <a:pt x="4549" y="0"/>
                      <a:pt x="4550" y="1"/>
                      <a:pt x="4550" y="2"/>
                    </a:cubicBezTo>
                    <a:cubicBezTo>
                      <a:pt x="4550" y="4"/>
                      <a:pt x="4549" y="4"/>
                      <a:pt x="4548" y="4"/>
                    </a:cubicBezTo>
                    <a:lnTo>
                      <a:pt x="4548" y="4"/>
                    </a:lnTo>
                    <a:cubicBezTo>
                      <a:pt x="4547" y="4"/>
                      <a:pt x="4546" y="4"/>
                      <a:pt x="4546" y="2"/>
                    </a:cubicBezTo>
                    <a:cubicBezTo>
                      <a:pt x="4546" y="1"/>
                      <a:pt x="4547" y="0"/>
                      <a:pt x="4548" y="0"/>
                    </a:cubicBezTo>
                    <a:close/>
                    <a:moveTo>
                      <a:pt x="4556" y="0"/>
                    </a:moveTo>
                    <a:lnTo>
                      <a:pt x="4556" y="0"/>
                    </a:lnTo>
                    <a:cubicBezTo>
                      <a:pt x="4557" y="0"/>
                      <a:pt x="4558" y="1"/>
                      <a:pt x="4558" y="2"/>
                    </a:cubicBezTo>
                    <a:cubicBezTo>
                      <a:pt x="4558" y="4"/>
                      <a:pt x="4557" y="4"/>
                      <a:pt x="4556" y="4"/>
                    </a:cubicBezTo>
                    <a:lnTo>
                      <a:pt x="4556" y="4"/>
                    </a:lnTo>
                    <a:cubicBezTo>
                      <a:pt x="4555" y="4"/>
                      <a:pt x="4554" y="4"/>
                      <a:pt x="4554" y="2"/>
                    </a:cubicBezTo>
                    <a:cubicBezTo>
                      <a:pt x="4554" y="1"/>
                      <a:pt x="4555" y="0"/>
                      <a:pt x="4556" y="0"/>
                    </a:cubicBezTo>
                    <a:close/>
                    <a:moveTo>
                      <a:pt x="4564" y="0"/>
                    </a:moveTo>
                    <a:lnTo>
                      <a:pt x="4564" y="0"/>
                    </a:lnTo>
                    <a:cubicBezTo>
                      <a:pt x="4565" y="0"/>
                      <a:pt x="4566" y="1"/>
                      <a:pt x="4566" y="2"/>
                    </a:cubicBezTo>
                    <a:cubicBezTo>
                      <a:pt x="4566" y="4"/>
                      <a:pt x="4565" y="4"/>
                      <a:pt x="4564" y="4"/>
                    </a:cubicBezTo>
                    <a:lnTo>
                      <a:pt x="4564" y="4"/>
                    </a:lnTo>
                    <a:cubicBezTo>
                      <a:pt x="4563" y="4"/>
                      <a:pt x="4562" y="4"/>
                      <a:pt x="4562" y="2"/>
                    </a:cubicBezTo>
                    <a:cubicBezTo>
                      <a:pt x="4562" y="1"/>
                      <a:pt x="4563" y="0"/>
                      <a:pt x="4564" y="0"/>
                    </a:cubicBezTo>
                    <a:close/>
                    <a:moveTo>
                      <a:pt x="4572" y="0"/>
                    </a:moveTo>
                    <a:lnTo>
                      <a:pt x="4572" y="0"/>
                    </a:lnTo>
                    <a:cubicBezTo>
                      <a:pt x="4573" y="0"/>
                      <a:pt x="4574" y="1"/>
                      <a:pt x="4574" y="2"/>
                    </a:cubicBezTo>
                    <a:cubicBezTo>
                      <a:pt x="4574" y="4"/>
                      <a:pt x="4573" y="4"/>
                      <a:pt x="4572" y="4"/>
                    </a:cubicBezTo>
                    <a:lnTo>
                      <a:pt x="4572" y="4"/>
                    </a:lnTo>
                    <a:cubicBezTo>
                      <a:pt x="4571" y="4"/>
                      <a:pt x="4570" y="4"/>
                      <a:pt x="4570" y="2"/>
                    </a:cubicBezTo>
                    <a:cubicBezTo>
                      <a:pt x="4570" y="1"/>
                      <a:pt x="4571" y="0"/>
                      <a:pt x="4572" y="0"/>
                    </a:cubicBezTo>
                    <a:close/>
                    <a:moveTo>
                      <a:pt x="4580" y="0"/>
                    </a:moveTo>
                    <a:lnTo>
                      <a:pt x="4580" y="0"/>
                    </a:lnTo>
                    <a:cubicBezTo>
                      <a:pt x="4581" y="0"/>
                      <a:pt x="4582" y="1"/>
                      <a:pt x="4582" y="2"/>
                    </a:cubicBezTo>
                    <a:cubicBezTo>
                      <a:pt x="4582" y="4"/>
                      <a:pt x="4581" y="4"/>
                      <a:pt x="4580" y="4"/>
                    </a:cubicBezTo>
                    <a:lnTo>
                      <a:pt x="4580" y="4"/>
                    </a:lnTo>
                    <a:cubicBezTo>
                      <a:pt x="4579" y="4"/>
                      <a:pt x="4578" y="4"/>
                      <a:pt x="4578" y="2"/>
                    </a:cubicBezTo>
                    <a:cubicBezTo>
                      <a:pt x="4578" y="1"/>
                      <a:pt x="4579" y="0"/>
                      <a:pt x="4580" y="0"/>
                    </a:cubicBezTo>
                    <a:close/>
                    <a:moveTo>
                      <a:pt x="4588" y="0"/>
                    </a:moveTo>
                    <a:lnTo>
                      <a:pt x="4588" y="0"/>
                    </a:lnTo>
                    <a:cubicBezTo>
                      <a:pt x="4589" y="0"/>
                      <a:pt x="4590" y="1"/>
                      <a:pt x="4590" y="2"/>
                    </a:cubicBezTo>
                    <a:cubicBezTo>
                      <a:pt x="4590" y="4"/>
                      <a:pt x="4589" y="4"/>
                      <a:pt x="4588" y="4"/>
                    </a:cubicBezTo>
                    <a:lnTo>
                      <a:pt x="4588" y="4"/>
                    </a:lnTo>
                    <a:cubicBezTo>
                      <a:pt x="4587" y="4"/>
                      <a:pt x="4586" y="4"/>
                      <a:pt x="4586" y="2"/>
                    </a:cubicBezTo>
                    <a:cubicBezTo>
                      <a:pt x="4586" y="1"/>
                      <a:pt x="4587" y="0"/>
                      <a:pt x="4588" y="0"/>
                    </a:cubicBezTo>
                    <a:close/>
                    <a:moveTo>
                      <a:pt x="4596" y="0"/>
                    </a:moveTo>
                    <a:lnTo>
                      <a:pt x="4596" y="0"/>
                    </a:lnTo>
                    <a:cubicBezTo>
                      <a:pt x="4597" y="0"/>
                      <a:pt x="4598" y="1"/>
                      <a:pt x="4598" y="2"/>
                    </a:cubicBezTo>
                    <a:cubicBezTo>
                      <a:pt x="4598" y="4"/>
                      <a:pt x="4597" y="4"/>
                      <a:pt x="4596" y="4"/>
                    </a:cubicBezTo>
                    <a:lnTo>
                      <a:pt x="4596" y="4"/>
                    </a:lnTo>
                    <a:cubicBezTo>
                      <a:pt x="4595" y="4"/>
                      <a:pt x="4594" y="4"/>
                      <a:pt x="4594" y="2"/>
                    </a:cubicBezTo>
                    <a:cubicBezTo>
                      <a:pt x="4594" y="1"/>
                      <a:pt x="4595" y="0"/>
                      <a:pt x="4596" y="0"/>
                    </a:cubicBezTo>
                    <a:close/>
                    <a:moveTo>
                      <a:pt x="4604" y="0"/>
                    </a:moveTo>
                    <a:lnTo>
                      <a:pt x="4604" y="0"/>
                    </a:lnTo>
                    <a:cubicBezTo>
                      <a:pt x="4605" y="0"/>
                      <a:pt x="4606" y="1"/>
                      <a:pt x="4606" y="2"/>
                    </a:cubicBezTo>
                    <a:cubicBezTo>
                      <a:pt x="4606" y="4"/>
                      <a:pt x="4605" y="4"/>
                      <a:pt x="4604" y="4"/>
                    </a:cubicBezTo>
                    <a:lnTo>
                      <a:pt x="4604" y="4"/>
                    </a:lnTo>
                    <a:cubicBezTo>
                      <a:pt x="4603" y="4"/>
                      <a:pt x="4602" y="4"/>
                      <a:pt x="4602" y="2"/>
                    </a:cubicBezTo>
                    <a:cubicBezTo>
                      <a:pt x="4602" y="1"/>
                      <a:pt x="4603" y="0"/>
                      <a:pt x="4604" y="0"/>
                    </a:cubicBezTo>
                    <a:close/>
                    <a:moveTo>
                      <a:pt x="4612" y="0"/>
                    </a:moveTo>
                    <a:lnTo>
                      <a:pt x="4612" y="0"/>
                    </a:lnTo>
                    <a:cubicBezTo>
                      <a:pt x="4613" y="0"/>
                      <a:pt x="4614" y="1"/>
                      <a:pt x="4614" y="2"/>
                    </a:cubicBezTo>
                    <a:cubicBezTo>
                      <a:pt x="4614" y="4"/>
                      <a:pt x="4613" y="4"/>
                      <a:pt x="4612" y="4"/>
                    </a:cubicBezTo>
                    <a:lnTo>
                      <a:pt x="4612" y="4"/>
                    </a:lnTo>
                    <a:cubicBezTo>
                      <a:pt x="4611" y="4"/>
                      <a:pt x="4610" y="4"/>
                      <a:pt x="4610" y="2"/>
                    </a:cubicBezTo>
                    <a:cubicBezTo>
                      <a:pt x="4610" y="1"/>
                      <a:pt x="4611" y="0"/>
                      <a:pt x="4612" y="0"/>
                    </a:cubicBezTo>
                    <a:close/>
                    <a:moveTo>
                      <a:pt x="4620" y="0"/>
                    </a:moveTo>
                    <a:lnTo>
                      <a:pt x="4620" y="0"/>
                    </a:lnTo>
                    <a:cubicBezTo>
                      <a:pt x="4621" y="0"/>
                      <a:pt x="4622" y="1"/>
                      <a:pt x="4622" y="2"/>
                    </a:cubicBezTo>
                    <a:cubicBezTo>
                      <a:pt x="4622" y="4"/>
                      <a:pt x="4621" y="4"/>
                      <a:pt x="4620" y="4"/>
                    </a:cubicBezTo>
                    <a:lnTo>
                      <a:pt x="4620" y="4"/>
                    </a:lnTo>
                    <a:cubicBezTo>
                      <a:pt x="4619" y="4"/>
                      <a:pt x="4618" y="4"/>
                      <a:pt x="4618" y="2"/>
                    </a:cubicBezTo>
                    <a:cubicBezTo>
                      <a:pt x="4618" y="1"/>
                      <a:pt x="4619" y="0"/>
                      <a:pt x="4620" y="0"/>
                    </a:cubicBezTo>
                    <a:close/>
                    <a:moveTo>
                      <a:pt x="4628" y="0"/>
                    </a:moveTo>
                    <a:lnTo>
                      <a:pt x="4628" y="0"/>
                    </a:lnTo>
                    <a:cubicBezTo>
                      <a:pt x="4629" y="0"/>
                      <a:pt x="4630" y="1"/>
                      <a:pt x="4630" y="2"/>
                    </a:cubicBezTo>
                    <a:cubicBezTo>
                      <a:pt x="4630" y="4"/>
                      <a:pt x="4629" y="4"/>
                      <a:pt x="4628" y="4"/>
                    </a:cubicBezTo>
                    <a:lnTo>
                      <a:pt x="4628" y="4"/>
                    </a:lnTo>
                    <a:cubicBezTo>
                      <a:pt x="4627" y="4"/>
                      <a:pt x="4626" y="4"/>
                      <a:pt x="4626" y="2"/>
                    </a:cubicBezTo>
                    <a:cubicBezTo>
                      <a:pt x="4626" y="1"/>
                      <a:pt x="4627" y="0"/>
                      <a:pt x="4628" y="0"/>
                    </a:cubicBezTo>
                    <a:close/>
                    <a:moveTo>
                      <a:pt x="4636" y="0"/>
                    </a:moveTo>
                    <a:lnTo>
                      <a:pt x="4636" y="0"/>
                    </a:lnTo>
                    <a:cubicBezTo>
                      <a:pt x="4637" y="0"/>
                      <a:pt x="4638" y="1"/>
                      <a:pt x="4638" y="2"/>
                    </a:cubicBezTo>
                    <a:cubicBezTo>
                      <a:pt x="4638" y="4"/>
                      <a:pt x="4637" y="4"/>
                      <a:pt x="4636" y="4"/>
                    </a:cubicBezTo>
                    <a:lnTo>
                      <a:pt x="4636" y="4"/>
                    </a:lnTo>
                    <a:cubicBezTo>
                      <a:pt x="4635" y="4"/>
                      <a:pt x="4634" y="4"/>
                      <a:pt x="4634" y="2"/>
                    </a:cubicBezTo>
                    <a:cubicBezTo>
                      <a:pt x="4634" y="1"/>
                      <a:pt x="4635" y="0"/>
                      <a:pt x="4636" y="0"/>
                    </a:cubicBezTo>
                    <a:close/>
                    <a:moveTo>
                      <a:pt x="4644" y="0"/>
                    </a:moveTo>
                    <a:lnTo>
                      <a:pt x="4644" y="0"/>
                    </a:lnTo>
                    <a:cubicBezTo>
                      <a:pt x="4645" y="0"/>
                      <a:pt x="4646" y="1"/>
                      <a:pt x="4646" y="2"/>
                    </a:cubicBezTo>
                    <a:cubicBezTo>
                      <a:pt x="4646" y="4"/>
                      <a:pt x="4645" y="4"/>
                      <a:pt x="4644" y="4"/>
                    </a:cubicBezTo>
                    <a:lnTo>
                      <a:pt x="4644" y="4"/>
                    </a:lnTo>
                    <a:cubicBezTo>
                      <a:pt x="4643" y="4"/>
                      <a:pt x="4642" y="4"/>
                      <a:pt x="4642" y="2"/>
                    </a:cubicBezTo>
                    <a:cubicBezTo>
                      <a:pt x="4642" y="1"/>
                      <a:pt x="4643" y="0"/>
                      <a:pt x="4644" y="0"/>
                    </a:cubicBezTo>
                    <a:close/>
                    <a:moveTo>
                      <a:pt x="4652" y="0"/>
                    </a:moveTo>
                    <a:lnTo>
                      <a:pt x="4652" y="0"/>
                    </a:lnTo>
                    <a:cubicBezTo>
                      <a:pt x="4653" y="0"/>
                      <a:pt x="4654" y="1"/>
                      <a:pt x="4654" y="2"/>
                    </a:cubicBezTo>
                    <a:cubicBezTo>
                      <a:pt x="4654" y="4"/>
                      <a:pt x="4653" y="4"/>
                      <a:pt x="4652" y="4"/>
                    </a:cubicBezTo>
                    <a:lnTo>
                      <a:pt x="4652" y="4"/>
                    </a:lnTo>
                    <a:cubicBezTo>
                      <a:pt x="4651" y="4"/>
                      <a:pt x="4650" y="4"/>
                      <a:pt x="4650" y="2"/>
                    </a:cubicBezTo>
                    <a:cubicBezTo>
                      <a:pt x="4650" y="1"/>
                      <a:pt x="4651" y="0"/>
                      <a:pt x="4652" y="0"/>
                    </a:cubicBezTo>
                    <a:close/>
                    <a:moveTo>
                      <a:pt x="4660" y="0"/>
                    </a:moveTo>
                    <a:lnTo>
                      <a:pt x="4660" y="0"/>
                    </a:lnTo>
                    <a:cubicBezTo>
                      <a:pt x="4661" y="0"/>
                      <a:pt x="4662" y="1"/>
                      <a:pt x="4662" y="2"/>
                    </a:cubicBezTo>
                    <a:cubicBezTo>
                      <a:pt x="4662" y="4"/>
                      <a:pt x="4661" y="4"/>
                      <a:pt x="4660" y="4"/>
                    </a:cubicBezTo>
                    <a:lnTo>
                      <a:pt x="4660" y="4"/>
                    </a:lnTo>
                    <a:cubicBezTo>
                      <a:pt x="4659" y="4"/>
                      <a:pt x="4658" y="4"/>
                      <a:pt x="4658" y="2"/>
                    </a:cubicBezTo>
                    <a:cubicBezTo>
                      <a:pt x="4658" y="1"/>
                      <a:pt x="4659" y="0"/>
                      <a:pt x="4660" y="0"/>
                    </a:cubicBezTo>
                    <a:close/>
                    <a:moveTo>
                      <a:pt x="4668" y="0"/>
                    </a:moveTo>
                    <a:lnTo>
                      <a:pt x="4668" y="0"/>
                    </a:lnTo>
                    <a:cubicBezTo>
                      <a:pt x="4669" y="0"/>
                      <a:pt x="4670" y="1"/>
                      <a:pt x="4670" y="2"/>
                    </a:cubicBezTo>
                    <a:cubicBezTo>
                      <a:pt x="4670" y="4"/>
                      <a:pt x="4669" y="4"/>
                      <a:pt x="4668" y="4"/>
                    </a:cubicBezTo>
                    <a:lnTo>
                      <a:pt x="4668" y="4"/>
                    </a:lnTo>
                    <a:cubicBezTo>
                      <a:pt x="4667" y="4"/>
                      <a:pt x="4666" y="4"/>
                      <a:pt x="4666" y="2"/>
                    </a:cubicBezTo>
                    <a:cubicBezTo>
                      <a:pt x="4666" y="1"/>
                      <a:pt x="4667" y="0"/>
                      <a:pt x="4668" y="0"/>
                    </a:cubicBezTo>
                    <a:close/>
                    <a:moveTo>
                      <a:pt x="4676" y="0"/>
                    </a:moveTo>
                    <a:lnTo>
                      <a:pt x="4676" y="0"/>
                    </a:lnTo>
                    <a:cubicBezTo>
                      <a:pt x="4677" y="0"/>
                      <a:pt x="4678" y="1"/>
                      <a:pt x="4678" y="2"/>
                    </a:cubicBezTo>
                    <a:cubicBezTo>
                      <a:pt x="4678" y="4"/>
                      <a:pt x="4677" y="4"/>
                      <a:pt x="4676" y="4"/>
                    </a:cubicBezTo>
                    <a:lnTo>
                      <a:pt x="4676" y="4"/>
                    </a:lnTo>
                    <a:cubicBezTo>
                      <a:pt x="4675" y="4"/>
                      <a:pt x="4674" y="4"/>
                      <a:pt x="4674" y="2"/>
                    </a:cubicBezTo>
                    <a:cubicBezTo>
                      <a:pt x="4674" y="1"/>
                      <a:pt x="4675" y="0"/>
                      <a:pt x="4676" y="0"/>
                    </a:cubicBezTo>
                    <a:close/>
                    <a:moveTo>
                      <a:pt x="4684" y="0"/>
                    </a:moveTo>
                    <a:lnTo>
                      <a:pt x="4684" y="0"/>
                    </a:lnTo>
                    <a:cubicBezTo>
                      <a:pt x="4685" y="0"/>
                      <a:pt x="4686" y="1"/>
                      <a:pt x="4686" y="2"/>
                    </a:cubicBezTo>
                    <a:cubicBezTo>
                      <a:pt x="4686" y="4"/>
                      <a:pt x="4685" y="4"/>
                      <a:pt x="4684" y="4"/>
                    </a:cubicBezTo>
                    <a:lnTo>
                      <a:pt x="4684" y="4"/>
                    </a:lnTo>
                    <a:cubicBezTo>
                      <a:pt x="4683" y="4"/>
                      <a:pt x="4682" y="4"/>
                      <a:pt x="4682" y="2"/>
                    </a:cubicBezTo>
                    <a:cubicBezTo>
                      <a:pt x="4682" y="1"/>
                      <a:pt x="4683" y="0"/>
                      <a:pt x="4684" y="0"/>
                    </a:cubicBezTo>
                    <a:close/>
                    <a:moveTo>
                      <a:pt x="4692" y="0"/>
                    </a:moveTo>
                    <a:lnTo>
                      <a:pt x="4692" y="0"/>
                    </a:lnTo>
                    <a:cubicBezTo>
                      <a:pt x="4693" y="0"/>
                      <a:pt x="4694" y="1"/>
                      <a:pt x="4694" y="2"/>
                    </a:cubicBezTo>
                    <a:cubicBezTo>
                      <a:pt x="4694" y="4"/>
                      <a:pt x="4693" y="4"/>
                      <a:pt x="4692" y="4"/>
                    </a:cubicBezTo>
                    <a:lnTo>
                      <a:pt x="4692" y="4"/>
                    </a:lnTo>
                    <a:cubicBezTo>
                      <a:pt x="4691" y="4"/>
                      <a:pt x="4690" y="4"/>
                      <a:pt x="4690" y="2"/>
                    </a:cubicBezTo>
                    <a:cubicBezTo>
                      <a:pt x="4690" y="1"/>
                      <a:pt x="4691" y="0"/>
                      <a:pt x="4692" y="0"/>
                    </a:cubicBezTo>
                    <a:close/>
                    <a:moveTo>
                      <a:pt x="4700" y="0"/>
                    </a:moveTo>
                    <a:lnTo>
                      <a:pt x="4700" y="0"/>
                    </a:lnTo>
                    <a:cubicBezTo>
                      <a:pt x="4701" y="0"/>
                      <a:pt x="4702" y="1"/>
                      <a:pt x="4702" y="2"/>
                    </a:cubicBezTo>
                    <a:cubicBezTo>
                      <a:pt x="4702" y="4"/>
                      <a:pt x="4701" y="4"/>
                      <a:pt x="4700" y="4"/>
                    </a:cubicBezTo>
                    <a:lnTo>
                      <a:pt x="4700" y="4"/>
                    </a:lnTo>
                    <a:cubicBezTo>
                      <a:pt x="4699" y="4"/>
                      <a:pt x="4698" y="4"/>
                      <a:pt x="4698" y="2"/>
                    </a:cubicBezTo>
                    <a:cubicBezTo>
                      <a:pt x="4698" y="1"/>
                      <a:pt x="4699" y="0"/>
                      <a:pt x="4700" y="0"/>
                    </a:cubicBezTo>
                    <a:close/>
                    <a:moveTo>
                      <a:pt x="4708" y="0"/>
                    </a:moveTo>
                    <a:lnTo>
                      <a:pt x="4708" y="0"/>
                    </a:lnTo>
                    <a:cubicBezTo>
                      <a:pt x="4709" y="0"/>
                      <a:pt x="4710" y="1"/>
                      <a:pt x="4710" y="2"/>
                    </a:cubicBezTo>
                    <a:cubicBezTo>
                      <a:pt x="4710" y="4"/>
                      <a:pt x="4709" y="4"/>
                      <a:pt x="4708" y="4"/>
                    </a:cubicBezTo>
                    <a:lnTo>
                      <a:pt x="4708" y="4"/>
                    </a:lnTo>
                    <a:cubicBezTo>
                      <a:pt x="4707" y="4"/>
                      <a:pt x="4706" y="4"/>
                      <a:pt x="4706" y="2"/>
                    </a:cubicBezTo>
                    <a:cubicBezTo>
                      <a:pt x="4706" y="1"/>
                      <a:pt x="4707" y="0"/>
                      <a:pt x="4708" y="0"/>
                    </a:cubicBezTo>
                    <a:close/>
                    <a:moveTo>
                      <a:pt x="4716" y="0"/>
                    </a:moveTo>
                    <a:lnTo>
                      <a:pt x="4716" y="0"/>
                    </a:lnTo>
                    <a:cubicBezTo>
                      <a:pt x="4717" y="0"/>
                      <a:pt x="4718" y="1"/>
                      <a:pt x="4718" y="2"/>
                    </a:cubicBezTo>
                    <a:cubicBezTo>
                      <a:pt x="4718" y="4"/>
                      <a:pt x="4717" y="4"/>
                      <a:pt x="4716" y="4"/>
                    </a:cubicBezTo>
                    <a:lnTo>
                      <a:pt x="4716" y="4"/>
                    </a:lnTo>
                    <a:cubicBezTo>
                      <a:pt x="4715" y="4"/>
                      <a:pt x="4714" y="4"/>
                      <a:pt x="4714" y="2"/>
                    </a:cubicBezTo>
                    <a:cubicBezTo>
                      <a:pt x="4714" y="1"/>
                      <a:pt x="4715" y="0"/>
                      <a:pt x="4716" y="0"/>
                    </a:cubicBezTo>
                    <a:close/>
                    <a:moveTo>
                      <a:pt x="4724" y="0"/>
                    </a:moveTo>
                    <a:lnTo>
                      <a:pt x="4724" y="0"/>
                    </a:lnTo>
                    <a:cubicBezTo>
                      <a:pt x="4725" y="0"/>
                      <a:pt x="4726" y="1"/>
                      <a:pt x="4726" y="2"/>
                    </a:cubicBezTo>
                    <a:cubicBezTo>
                      <a:pt x="4726" y="4"/>
                      <a:pt x="4725" y="4"/>
                      <a:pt x="4724" y="4"/>
                    </a:cubicBezTo>
                    <a:lnTo>
                      <a:pt x="4724" y="4"/>
                    </a:lnTo>
                    <a:cubicBezTo>
                      <a:pt x="4723" y="4"/>
                      <a:pt x="4722" y="4"/>
                      <a:pt x="4722" y="2"/>
                    </a:cubicBezTo>
                    <a:cubicBezTo>
                      <a:pt x="4722" y="1"/>
                      <a:pt x="4723" y="0"/>
                      <a:pt x="4724" y="0"/>
                    </a:cubicBezTo>
                    <a:close/>
                    <a:moveTo>
                      <a:pt x="4732" y="1"/>
                    </a:moveTo>
                    <a:lnTo>
                      <a:pt x="4732" y="1"/>
                    </a:lnTo>
                    <a:cubicBezTo>
                      <a:pt x="4733" y="1"/>
                      <a:pt x="4734" y="1"/>
                      <a:pt x="4734" y="3"/>
                    </a:cubicBezTo>
                    <a:cubicBezTo>
                      <a:pt x="4734" y="4"/>
                      <a:pt x="4733" y="5"/>
                      <a:pt x="4732" y="5"/>
                    </a:cubicBezTo>
                    <a:lnTo>
                      <a:pt x="4732" y="5"/>
                    </a:lnTo>
                    <a:cubicBezTo>
                      <a:pt x="4731" y="5"/>
                      <a:pt x="4730" y="4"/>
                      <a:pt x="4730" y="3"/>
                    </a:cubicBezTo>
                    <a:cubicBezTo>
                      <a:pt x="4730" y="1"/>
                      <a:pt x="4731" y="1"/>
                      <a:pt x="4732" y="1"/>
                    </a:cubicBezTo>
                    <a:close/>
                    <a:moveTo>
                      <a:pt x="4740" y="1"/>
                    </a:moveTo>
                    <a:lnTo>
                      <a:pt x="4740" y="1"/>
                    </a:lnTo>
                    <a:cubicBezTo>
                      <a:pt x="4741" y="1"/>
                      <a:pt x="4742" y="1"/>
                      <a:pt x="4742" y="3"/>
                    </a:cubicBezTo>
                    <a:cubicBezTo>
                      <a:pt x="4742" y="4"/>
                      <a:pt x="4741" y="5"/>
                      <a:pt x="4740" y="5"/>
                    </a:cubicBezTo>
                    <a:lnTo>
                      <a:pt x="4740" y="5"/>
                    </a:lnTo>
                    <a:cubicBezTo>
                      <a:pt x="4739" y="5"/>
                      <a:pt x="4738" y="4"/>
                      <a:pt x="4738" y="3"/>
                    </a:cubicBezTo>
                    <a:cubicBezTo>
                      <a:pt x="4738" y="1"/>
                      <a:pt x="4739" y="1"/>
                      <a:pt x="4740" y="1"/>
                    </a:cubicBezTo>
                    <a:close/>
                    <a:moveTo>
                      <a:pt x="4748" y="1"/>
                    </a:moveTo>
                    <a:lnTo>
                      <a:pt x="4748" y="1"/>
                    </a:lnTo>
                    <a:cubicBezTo>
                      <a:pt x="4749" y="1"/>
                      <a:pt x="4750" y="1"/>
                      <a:pt x="4750" y="3"/>
                    </a:cubicBezTo>
                    <a:cubicBezTo>
                      <a:pt x="4750" y="4"/>
                      <a:pt x="4749" y="5"/>
                      <a:pt x="4748" y="5"/>
                    </a:cubicBezTo>
                    <a:lnTo>
                      <a:pt x="4748" y="5"/>
                    </a:lnTo>
                    <a:cubicBezTo>
                      <a:pt x="4747" y="5"/>
                      <a:pt x="4746" y="4"/>
                      <a:pt x="4746" y="3"/>
                    </a:cubicBezTo>
                    <a:cubicBezTo>
                      <a:pt x="4746" y="1"/>
                      <a:pt x="4747" y="1"/>
                      <a:pt x="4748" y="1"/>
                    </a:cubicBezTo>
                    <a:close/>
                    <a:moveTo>
                      <a:pt x="4756" y="1"/>
                    </a:moveTo>
                    <a:lnTo>
                      <a:pt x="4756" y="1"/>
                    </a:lnTo>
                    <a:cubicBezTo>
                      <a:pt x="4757" y="1"/>
                      <a:pt x="4758" y="1"/>
                      <a:pt x="4758" y="3"/>
                    </a:cubicBezTo>
                    <a:cubicBezTo>
                      <a:pt x="4758" y="4"/>
                      <a:pt x="4757" y="5"/>
                      <a:pt x="4756" y="5"/>
                    </a:cubicBezTo>
                    <a:lnTo>
                      <a:pt x="4756" y="5"/>
                    </a:lnTo>
                    <a:cubicBezTo>
                      <a:pt x="4755" y="5"/>
                      <a:pt x="4754" y="4"/>
                      <a:pt x="4754" y="3"/>
                    </a:cubicBezTo>
                    <a:cubicBezTo>
                      <a:pt x="4754" y="1"/>
                      <a:pt x="4755" y="1"/>
                      <a:pt x="4756" y="1"/>
                    </a:cubicBezTo>
                    <a:close/>
                    <a:moveTo>
                      <a:pt x="4764" y="1"/>
                    </a:moveTo>
                    <a:lnTo>
                      <a:pt x="4764" y="1"/>
                    </a:lnTo>
                    <a:cubicBezTo>
                      <a:pt x="4765" y="1"/>
                      <a:pt x="4766" y="1"/>
                      <a:pt x="4766" y="3"/>
                    </a:cubicBezTo>
                    <a:cubicBezTo>
                      <a:pt x="4766" y="4"/>
                      <a:pt x="4765" y="5"/>
                      <a:pt x="4764" y="5"/>
                    </a:cubicBezTo>
                    <a:lnTo>
                      <a:pt x="4764" y="5"/>
                    </a:lnTo>
                    <a:cubicBezTo>
                      <a:pt x="4763" y="5"/>
                      <a:pt x="4762" y="4"/>
                      <a:pt x="4762" y="3"/>
                    </a:cubicBezTo>
                    <a:cubicBezTo>
                      <a:pt x="4762" y="1"/>
                      <a:pt x="4763" y="1"/>
                      <a:pt x="4764" y="1"/>
                    </a:cubicBezTo>
                    <a:close/>
                    <a:moveTo>
                      <a:pt x="4772" y="1"/>
                    </a:moveTo>
                    <a:lnTo>
                      <a:pt x="4772" y="1"/>
                    </a:lnTo>
                    <a:cubicBezTo>
                      <a:pt x="4773" y="1"/>
                      <a:pt x="4774" y="1"/>
                      <a:pt x="4774" y="3"/>
                    </a:cubicBezTo>
                    <a:cubicBezTo>
                      <a:pt x="4774" y="4"/>
                      <a:pt x="4773" y="5"/>
                      <a:pt x="4772" y="5"/>
                    </a:cubicBezTo>
                    <a:lnTo>
                      <a:pt x="4772" y="5"/>
                    </a:lnTo>
                    <a:cubicBezTo>
                      <a:pt x="4771" y="5"/>
                      <a:pt x="4770" y="4"/>
                      <a:pt x="4770" y="3"/>
                    </a:cubicBezTo>
                    <a:cubicBezTo>
                      <a:pt x="4770" y="1"/>
                      <a:pt x="4771" y="1"/>
                      <a:pt x="4772" y="1"/>
                    </a:cubicBezTo>
                    <a:close/>
                    <a:moveTo>
                      <a:pt x="4780" y="1"/>
                    </a:moveTo>
                    <a:lnTo>
                      <a:pt x="4780" y="1"/>
                    </a:lnTo>
                    <a:cubicBezTo>
                      <a:pt x="4781" y="1"/>
                      <a:pt x="4782" y="1"/>
                      <a:pt x="4782" y="3"/>
                    </a:cubicBezTo>
                    <a:cubicBezTo>
                      <a:pt x="4782" y="4"/>
                      <a:pt x="4781" y="5"/>
                      <a:pt x="4780" y="5"/>
                    </a:cubicBezTo>
                    <a:lnTo>
                      <a:pt x="4780" y="5"/>
                    </a:lnTo>
                    <a:cubicBezTo>
                      <a:pt x="4779" y="5"/>
                      <a:pt x="4778" y="4"/>
                      <a:pt x="4778" y="3"/>
                    </a:cubicBezTo>
                    <a:cubicBezTo>
                      <a:pt x="4778" y="1"/>
                      <a:pt x="4779" y="1"/>
                      <a:pt x="4780" y="1"/>
                    </a:cubicBezTo>
                    <a:close/>
                    <a:moveTo>
                      <a:pt x="4788" y="1"/>
                    </a:moveTo>
                    <a:lnTo>
                      <a:pt x="4788" y="1"/>
                    </a:lnTo>
                    <a:cubicBezTo>
                      <a:pt x="4789" y="1"/>
                      <a:pt x="4790" y="1"/>
                      <a:pt x="4790" y="3"/>
                    </a:cubicBezTo>
                    <a:cubicBezTo>
                      <a:pt x="4790" y="4"/>
                      <a:pt x="4789" y="5"/>
                      <a:pt x="4788" y="5"/>
                    </a:cubicBezTo>
                    <a:lnTo>
                      <a:pt x="4788" y="5"/>
                    </a:lnTo>
                    <a:cubicBezTo>
                      <a:pt x="4787" y="5"/>
                      <a:pt x="4786" y="4"/>
                      <a:pt x="4786" y="3"/>
                    </a:cubicBezTo>
                    <a:cubicBezTo>
                      <a:pt x="4786" y="1"/>
                      <a:pt x="4787" y="1"/>
                      <a:pt x="4788" y="1"/>
                    </a:cubicBezTo>
                    <a:close/>
                    <a:moveTo>
                      <a:pt x="4796" y="1"/>
                    </a:moveTo>
                    <a:lnTo>
                      <a:pt x="4796" y="1"/>
                    </a:lnTo>
                    <a:cubicBezTo>
                      <a:pt x="4797" y="1"/>
                      <a:pt x="4798" y="1"/>
                      <a:pt x="4798" y="3"/>
                    </a:cubicBezTo>
                    <a:cubicBezTo>
                      <a:pt x="4798" y="4"/>
                      <a:pt x="4797" y="5"/>
                      <a:pt x="4796" y="5"/>
                    </a:cubicBezTo>
                    <a:lnTo>
                      <a:pt x="4796" y="5"/>
                    </a:lnTo>
                    <a:cubicBezTo>
                      <a:pt x="4795" y="5"/>
                      <a:pt x="4794" y="4"/>
                      <a:pt x="4794" y="3"/>
                    </a:cubicBezTo>
                    <a:cubicBezTo>
                      <a:pt x="4794" y="1"/>
                      <a:pt x="4795" y="1"/>
                      <a:pt x="4796" y="1"/>
                    </a:cubicBezTo>
                    <a:close/>
                    <a:moveTo>
                      <a:pt x="4804" y="1"/>
                    </a:moveTo>
                    <a:lnTo>
                      <a:pt x="4804" y="1"/>
                    </a:lnTo>
                    <a:cubicBezTo>
                      <a:pt x="4805" y="1"/>
                      <a:pt x="4806" y="1"/>
                      <a:pt x="4806" y="3"/>
                    </a:cubicBezTo>
                    <a:cubicBezTo>
                      <a:pt x="4806" y="4"/>
                      <a:pt x="4805" y="5"/>
                      <a:pt x="4804" y="5"/>
                    </a:cubicBezTo>
                    <a:lnTo>
                      <a:pt x="4804" y="5"/>
                    </a:lnTo>
                    <a:cubicBezTo>
                      <a:pt x="4803" y="5"/>
                      <a:pt x="4802" y="4"/>
                      <a:pt x="4802" y="3"/>
                    </a:cubicBezTo>
                    <a:cubicBezTo>
                      <a:pt x="4802" y="1"/>
                      <a:pt x="4803" y="1"/>
                      <a:pt x="4804" y="1"/>
                    </a:cubicBezTo>
                    <a:close/>
                    <a:moveTo>
                      <a:pt x="4812" y="1"/>
                    </a:moveTo>
                    <a:lnTo>
                      <a:pt x="4812" y="1"/>
                    </a:lnTo>
                    <a:cubicBezTo>
                      <a:pt x="4813" y="1"/>
                      <a:pt x="4814" y="1"/>
                      <a:pt x="4814" y="3"/>
                    </a:cubicBezTo>
                    <a:cubicBezTo>
                      <a:pt x="4814" y="4"/>
                      <a:pt x="4813" y="5"/>
                      <a:pt x="4812" y="5"/>
                    </a:cubicBezTo>
                    <a:lnTo>
                      <a:pt x="4812" y="5"/>
                    </a:lnTo>
                    <a:cubicBezTo>
                      <a:pt x="4811" y="5"/>
                      <a:pt x="4810" y="4"/>
                      <a:pt x="4810" y="3"/>
                    </a:cubicBezTo>
                    <a:cubicBezTo>
                      <a:pt x="4810" y="1"/>
                      <a:pt x="4811" y="1"/>
                      <a:pt x="4812" y="1"/>
                    </a:cubicBezTo>
                    <a:close/>
                    <a:moveTo>
                      <a:pt x="4820" y="1"/>
                    </a:moveTo>
                    <a:lnTo>
                      <a:pt x="4820" y="1"/>
                    </a:lnTo>
                    <a:cubicBezTo>
                      <a:pt x="4821" y="1"/>
                      <a:pt x="4822" y="1"/>
                      <a:pt x="4822" y="3"/>
                    </a:cubicBezTo>
                    <a:cubicBezTo>
                      <a:pt x="4822" y="4"/>
                      <a:pt x="4821" y="5"/>
                      <a:pt x="4820" y="5"/>
                    </a:cubicBezTo>
                    <a:lnTo>
                      <a:pt x="4820" y="5"/>
                    </a:lnTo>
                    <a:cubicBezTo>
                      <a:pt x="4819" y="5"/>
                      <a:pt x="4818" y="4"/>
                      <a:pt x="4818" y="3"/>
                    </a:cubicBezTo>
                    <a:cubicBezTo>
                      <a:pt x="4818" y="1"/>
                      <a:pt x="4819" y="1"/>
                      <a:pt x="4820" y="1"/>
                    </a:cubicBezTo>
                    <a:close/>
                    <a:moveTo>
                      <a:pt x="4828" y="1"/>
                    </a:moveTo>
                    <a:lnTo>
                      <a:pt x="4828" y="1"/>
                    </a:lnTo>
                    <a:cubicBezTo>
                      <a:pt x="4829" y="1"/>
                      <a:pt x="4830" y="1"/>
                      <a:pt x="4830" y="3"/>
                    </a:cubicBezTo>
                    <a:cubicBezTo>
                      <a:pt x="4830" y="4"/>
                      <a:pt x="4829" y="5"/>
                      <a:pt x="4828" y="5"/>
                    </a:cubicBezTo>
                    <a:lnTo>
                      <a:pt x="4828" y="5"/>
                    </a:lnTo>
                    <a:cubicBezTo>
                      <a:pt x="4827" y="5"/>
                      <a:pt x="4826" y="4"/>
                      <a:pt x="4826" y="3"/>
                    </a:cubicBezTo>
                    <a:cubicBezTo>
                      <a:pt x="4826" y="1"/>
                      <a:pt x="4827" y="1"/>
                      <a:pt x="4828" y="1"/>
                    </a:cubicBezTo>
                    <a:close/>
                    <a:moveTo>
                      <a:pt x="4836" y="1"/>
                    </a:moveTo>
                    <a:lnTo>
                      <a:pt x="4836" y="1"/>
                    </a:lnTo>
                    <a:cubicBezTo>
                      <a:pt x="4837" y="1"/>
                      <a:pt x="4838" y="1"/>
                      <a:pt x="4838" y="3"/>
                    </a:cubicBezTo>
                    <a:cubicBezTo>
                      <a:pt x="4838" y="4"/>
                      <a:pt x="4837" y="5"/>
                      <a:pt x="4836" y="5"/>
                    </a:cubicBezTo>
                    <a:lnTo>
                      <a:pt x="4836" y="5"/>
                    </a:lnTo>
                    <a:cubicBezTo>
                      <a:pt x="4835" y="5"/>
                      <a:pt x="4834" y="4"/>
                      <a:pt x="4834" y="3"/>
                    </a:cubicBezTo>
                    <a:cubicBezTo>
                      <a:pt x="4834" y="1"/>
                      <a:pt x="4835" y="1"/>
                      <a:pt x="4836" y="1"/>
                    </a:cubicBezTo>
                    <a:close/>
                    <a:moveTo>
                      <a:pt x="4844" y="1"/>
                    </a:moveTo>
                    <a:lnTo>
                      <a:pt x="4844" y="1"/>
                    </a:lnTo>
                    <a:cubicBezTo>
                      <a:pt x="4845" y="1"/>
                      <a:pt x="4846" y="1"/>
                      <a:pt x="4846" y="3"/>
                    </a:cubicBezTo>
                    <a:cubicBezTo>
                      <a:pt x="4846" y="4"/>
                      <a:pt x="4845" y="5"/>
                      <a:pt x="4844" y="5"/>
                    </a:cubicBezTo>
                    <a:lnTo>
                      <a:pt x="4844" y="5"/>
                    </a:lnTo>
                    <a:cubicBezTo>
                      <a:pt x="4843" y="5"/>
                      <a:pt x="4842" y="4"/>
                      <a:pt x="4842" y="3"/>
                    </a:cubicBezTo>
                    <a:cubicBezTo>
                      <a:pt x="4842" y="1"/>
                      <a:pt x="4843" y="1"/>
                      <a:pt x="4844" y="1"/>
                    </a:cubicBezTo>
                    <a:close/>
                    <a:moveTo>
                      <a:pt x="4852" y="1"/>
                    </a:moveTo>
                    <a:lnTo>
                      <a:pt x="4852" y="1"/>
                    </a:lnTo>
                    <a:cubicBezTo>
                      <a:pt x="4853" y="1"/>
                      <a:pt x="4854" y="1"/>
                      <a:pt x="4854" y="3"/>
                    </a:cubicBezTo>
                    <a:cubicBezTo>
                      <a:pt x="4854" y="4"/>
                      <a:pt x="4853" y="5"/>
                      <a:pt x="4852" y="5"/>
                    </a:cubicBezTo>
                    <a:lnTo>
                      <a:pt x="4852" y="5"/>
                    </a:lnTo>
                    <a:cubicBezTo>
                      <a:pt x="4851" y="5"/>
                      <a:pt x="4850" y="4"/>
                      <a:pt x="4850" y="3"/>
                    </a:cubicBezTo>
                    <a:cubicBezTo>
                      <a:pt x="4850" y="1"/>
                      <a:pt x="4851" y="1"/>
                      <a:pt x="4852" y="1"/>
                    </a:cubicBezTo>
                    <a:close/>
                    <a:moveTo>
                      <a:pt x="4860" y="1"/>
                    </a:moveTo>
                    <a:lnTo>
                      <a:pt x="4860" y="1"/>
                    </a:lnTo>
                    <a:cubicBezTo>
                      <a:pt x="4861" y="1"/>
                      <a:pt x="4862" y="1"/>
                      <a:pt x="4862" y="3"/>
                    </a:cubicBezTo>
                    <a:cubicBezTo>
                      <a:pt x="4862" y="4"/>
                      <a:pt x="4861" y="5"/>
                      <a:pt x="4860" y="5"/>
                    </a:cubicBezTo>
                    <a:lnTo>
                      <a:pt x="4860" y="5"/>
                    </a:lnTo>
                    <a:cubicBezTo>
                      <a:pt x="4859" y="5"/>
                      <a:pt x="4858" y="4"/>
                      <a:pt x="4858" y="3"/>
                    </a:cubicBezTo>
                    <a:cubicBezTo>
                      <a:pt x="4858" y="1"/>
                      <a:pt x="4859" y="1"/>
                      <a:pt x="4860" y="1"/>
                    </a:cubicBezTo>
                    <a:close/>
                    <a:moveTo>
                      <a:pt x="4868" y="1"/>
                    </a:moveTo>
                    <a:lnTo>
                      <a:pt x="4868" y="1"/>
                    </a:lnTo>
                    <a:cubicBezTo>
                      <a:pt x="4869" y="1"/>
                      <a:pt x="4870" y="1"/>
                      <a:pt x="4870" y="3"/>
                    </a:cubicBezTo>
                    <a:cubicBezTo>
                      <a:pt x="4870" y="4"/>
                      <a:pt x="4869" y="5"/>
                      <a:pt x="4868" y="5"/>
                    </a:cubicBezTo>
                    <a:lnTo>
                      <a:pt x="4868" y="5"/>
                    </a:lnTo>
                    <a:cubicBezTo>
                      <a:pt x="4867" y="5"/>
                      <a:pt x="4866" y="4"/>
                      <a:pt x="4866" y="3"/>
                    </a:cubicBezTo>
                    <a:cubicBezTo>
                      <a:pt x="4866" y="1"/>
                      <a:pt x="4867" y="1"/>
                      <a:pt x="4868" y="1"/>
                    </a:cubicBezTo>
                    <a:close/>
                    <a:moveTo>
                      <a:pt x="4876" y="1"/>
                    </a:moveTo>
                    <a:lnTo>
                      <a:pt x="4876" y="1"/>
                    </a:lnTo>
                    <a:cubicBezTo>
                      <a:pt x="4877" y="1"/>
                      <a:pt x="4878" y="1"/>
                      <a:pt x="4878" y="3"/>
                    </a:cubicBezTo>
                    <a:cubicBezTo>
                      <a:pt x="4878" y="4"/>
                      <a:pt x="4877" y="5"/>
                      <a:pt x="4876" y="5"/>
                    </a:cubicBezTo>
                    <a:lnTo>
                      <a:pt x="4876" y="5"/>
                    </a:lnTo>
                    <a:cubicBezTo>
                      <a:pt x="4875" y="5"/>
                      <a:pt x="4874" y="4"/>
                      <a:pt x="4874" y="3"/>
                    </a:cubicBezTo>
                    <a:cubicBezTo>
                      <a:pt x="4874" y="1"/>
                      <a:pt x="4875" y="1"/>
                      <a:pt x="4876" y="1"/>
                    </a:cubicBezTo>
                    <a:close/>
                    <a:moveTo>
                      <a:pt x="4884" y="1"/>
                    </a:moveTo>
                    <a:lnTo>
                      <a:pt x="4884" y="1"/>
                    </a:lnTo>
                    <a:cubicBezTo>
                      <a:pt x="4885" y="1"/>
                      <a:pt x="4886" y="1"/>
                      <a:pt x="4886" y="3"/>
                    </a:cubicBezTo>
                    <a:cubicBezTo>
                      <a:pt x="4886" y="4"/>
                      <a:pt x="4885" y="5"/>
                      <a:pt x="4884" y="5"/>
                    </a:cubicBezTo>
                    <a:lnTo>
                      <a:pt x="4884" y="5"/>
                    </a:lnTo>
                    <a:cubicBezTo>
                      <a:pt x="4883" y="5"/>
                      <a:pt x="4882" y="4"/>
                      <a:pt x="4882" y="3"/>
                    </a:cubicBezTo>
                    <a:cubicBezTo>
                      <a:pt x="4882" y="1"/>
                      <a:pt x="4883" y="1"/>
                      <a:pt x="4884" y="1"/>
                    </a:cubicBezTo>
                    <a:close/>
                    <a:moveTo>
                      <a:pt x="4892" y="1"/>
                    </a:moveTo>
                    <a:lnTo>
                      <a:pt x="4892" y="1"/>
                    </a:lnTo>
                    <a:cubicBezTo>
                      <a:pt x="4893" y="1"/>
                      <a:pt x="4894" y="1"/>
                      <a:pt x="4894" y="3"/>
                    </a:cubicBezTo>
                    <a:cubicBezTo>
                      <a:pt x="4894" y="4"/>
                      <a:pt x="4893" y="5"/>
                      <a:pt x="4892" y="5"/>
                    </a:cubicBezTo>
                    <a:lnTo>
                      <a:pt x="4892" y="5"/>
                    </a:lnTo>
                    <a:cubicBezTo>
                      <a:pt x="4891" y="5"/>
                      <a:pt x="4890" y="4"/>
                      <a:pt x="4890" y="3"/>
                    </a:cubicBezTo>
                    <a:cubicBezTo>
                      <a:pt x="4890" y="1"/>
                      <a:pt x="4891" y="1"/>
                      <a:pt x="4892" y="1"/>
                    </a:cubicBezTo>
                    <a:close/>
                    <a:moveTo>
                      <a:pt x="4900" y="1"/>
                    </a:moveTo>
                    <a:lnTo>
                      <a:pt x="4900" y="1"/>
                    </a:lnTo>
                    <a:cubicBezTo>
                      <a:pt x="4901" y="1"/>
                      <a:pt x="4902" y="1"/>
                      <a:pt x="4902" y="3"/>
                    </a:cubicBezTo>
                    <a:cubicBezTo>
                      <a:pt x="4902" y="4"/>
                      <a:pt x="4901" y="5"/>
                      <a:pt x="4900" y="5"/>
                    </a:cubicBezTo>
                    <a:lnTo>
                      <a:pt x="4900" y="5"/>
                    </a:lnTo>
                    <a:cubicBezTo>
                      <a:pt x="4899" y="5"/>
                      <a:pt x="4898" y="4"/>
                      <a:pt x="4898" y="3"/>
                    </a:cubicBezTo>
                    <a:cubicBezTo>
                      <a:pt x="4898" y="1"/>
                      <a:pt x="4899" y="1"/>
                      <a:pt x="4900" y="1"/>
                    </a:cubicBezTo>
                    <a:close/>
                    <a:moveTo>
                      <a:pt x="4908" y="1"/>
                    </a:moveTo>
                    <a:lnTo>
                      <a:pt x="4908" y="1"/>
                    </a:lnTo>
                    <a:cubicBezTo>
                      <a:pt x="4909" y="1"/>
                      <a:pt x="4910" y="1"/>
                      <a:pt x="4910" y="3"/>
                    </a:cubicBezTo>
                    <a:cubicBezTo>
                      <a:pt x="4910" y="4"/>
                      <a:pt x="4909" y="5"/>
                      <a:pt x="4908" y="5"/>
                    </a:cubicBezTo>
                    <a:lnTo>
                      <a:pt x="4908" y="5"/>
                    </a:lnTo>
                    <a:cubicBezTo>
                      <a:pt x="4907" y="5"/>
                      <a:pt x="4906" y="4"/>
                      <a:pt x="4906" y="3"/>
                    </a:cubicBezTo>
                    <a:cubicBezTo>
                      <a:pt x="4906" y="1"/>
                      <a:pt x="4907" y="1"/>
                      <a:pt x="4908" y="1"/>
                    </a:cubicBezTo>
                    <a:close/>
                    <a:moveTo>
                      <a:pt x="4916" y="1"/>
                    </a:moveTo>
                    <a:lnTo>
                      <a:pt x="4916" y="1"/>
                    </a:lnTo>
                    <a:cubicBezTo>
                      <a:pt x="4917" y="1"/>
                      <a:pt x="4918" y="1"/>
                      <a:pt x="4918" y="3"/>
                    </a:cubicBezTo>
                    <a:cubicBezTo>
                      <a:pt x="4918" y="4"/>
                      <a:pt x="4917" y="5"/>
                      <a:pt x="4916" y="5"/>
                    </a:cubicBezTo>
                    <a:lnTo>
                      <a:pt x="4916" y="5"/>
                    </a:lnTo>
                    <a:cubicBezTo>
                      <a:pt x="4915" y="5"/>
                      <a:pt x="4914" y="4"/>
                      <a:pt x="4914" y="3"/>
                    </a:cubicBezTo>
                    <a:cubicBezTo>
                      <a:pt x="4914" y="1"/>
                      <a:pt x="4915" y="1"/>
                      <a:pt x="4916" y="1"/>
                    </a:cubicBezTo>
                    <a:close/>
                    <a:moveTo>
                      <a:pt x="4924" y="1"/>
                    </a:moveTo>
                    <a:lnTo>
                      <a:pt x="4924" y="1"/>
                    </a:lnTo>
                    <a:cubicBezTo>
                      <a:pt x="4925" y="1"/>
                      <a:pt x="4926" y="1"/>
                      <a:pt x="4926" y="3"/>
                    </a:cubicBezTo>
                    <a:cubicBezTo>
                      <a:pt x="4926" y="4"/>
                      <a:pt x="4925" y="5"/>
                      <a:pt x="4924" y="5"/>
                    </a:cubicBezTo>
                    <a:lnTo>
                      <a:pt x="4924" y="5"/>
                    </a:lnTo>
                    <a:cubicBezTo>
                      <a:pt x="4923" y="5"/>
                      <a:pt x="4922" y="4"/>
                      <a:pt x="4922" y="3"/>
                    </a:cubicBezTo>
                    <a:cubicBezTo>
                      <a:pt x="4922" y="1"/>
                      <a:pt x="4923" y="1"/>
                      <a:pt x="4924" y="1"/>
                    </a:cubicBezTo>
                    <a:close/>
                    <a:moveTo>
                      <a:pt x="4932" y="1"/>
                    </a:moveTo>
                    <a:lnTo>
                      <a:pt x="4932" y="1"/>
                    </a:lnTo>
                    <a:cubicBezTo>
                      <a:pt x="4933" y="1"/>
                      <a:pt x="4934" y="1"/>
                      <a:pt x="4934" y="3"/>
                    </a:cubicBezTo>
                    <a:cubicBezTo>
                      <a:pt x="4934" y="4"/>
                      <a:pt x="4933" y="5"/>
                      <a:pt x="4932" y="5"/>
                    </a:cubicBezTo>
                    <a:lnTo>
                      <a:pt x="4932" y="5"/>
                    </a:lnTo>
                    <a:cubicBezTo>
                      <a:pt x="4931" y="5"/>
                      <a:pt x="4930" y="4"/>
                      <a:pt x="4930" y="3"/>
                    </a:cubicBezTo>
                    <a:cubicBezTo>
                      <a:pt x="4930" y="1"/>
                      <a:pt x="4931" y="1"/>
                      <a:pt x="4932" y="1"/>
                    </a:cubicBezTo>
                    <a:close/>
                    <a:moveTo>
                      <a:pt x="4940" y="1"/>
                    </a:moveTo>
                    <a:lnTo>
                      <a:pt x="4940" y="1"/>
                    </a:lnTo>
                    <a:cubicBezTo>
                      <a:pt x="4941" y="1"/>
                      <a:pt x="4942" y="1"/>
                      <a:pt x="4942" y="3"/>
                    </a:cubicBezTo>
                    <a:cubicBezTo>
                      <a:pt x="4942" y="4"/>
                      <a:pt x="4941" y="5"/>
                      <a:pt x="4940" y="5"/>
                    </a:cubicBezTo>
                    <a:lnTo>
                      <a:pt x="4940" y="5"/>
                    </a:lnTo>
                    <a:cubicBezTo>
                      <a:pt x="4939" y="5"/>
                      <a:pt x="4938" y="4"/>
                      <a:pt x="4938" y="3"/>
                    </a:cubicBezTo>
                    <a:cubicBezTo>
                      <a:pt x="4938" y="1"/>
                      <a:pt x="4939" y="1"/>
                      <a:pt x="4940" y="1"/>
                    </a:cubicBezTo>
                    <a:close/>
                    <a:moveTo>
                      <a:pt x="4948" y="1"/>
                    </a:moveTo>
                    <a:lnTo>
                      <a:pt x="4948" y="1"/>
                    </a:lnTo>
                    <a:cubicBezTo>
                      <a:pt x="4949" y="1"/>
                      <a:pt x="4950" y="1"/>
                      <a:pt x="4950" y="3"/>
                    </a:cubicBezTo>
                    <a:cubicBezTo>
                      <a:pt x="4950" y="4"/>
                      <a:pt x="4949" y="5"/>
                      <a:pt x="4948" y="5"/>
                    </a:cubicBezTo>
                    <a:lnTo>
                      <a:pt x="4948" y="5"/>
                    </a:lnTo>
                    <a:cubicBezTo>
                      <a:pt x="4947" y="5"/>
                      <a:pt x="4946" y="4"/>
                      <a:pt x="4946" y="3"/>
                    </a:cubicBezTo>
                    <a:cubicBezTo>
                      <a:pt x="4946" y="1"/>
                      <a:pt x="4947" y="1"/>
                      <a:pt x="4948" y="1"/>
                    </a:cubicBezTo>
                    <a:close/>
                    <a:moveTo>
                      <a:pt x="4956" y="1"/>
                    </a:moveTo>
                    <a:lnTo>
                      <a:pt x="4956" y="1"/>
                    </a:lnTo>
                    <a:cubicBezTo>
                      <a:pt x="4957" y="1"/>
                      <a:pt x="4958" y="1"/>
                      <a:pt x="4958" y="3"/>
                    </a:cubicBezTo>
                    <a:cubicBezTo>
                      <a:pt x="4958" y="4"/>
                      <a:pt x="4957" y="5"/>
                      <a:pt x="4956" y="5"/>
                    </a:cubicBezTo>
                    <a:lnTo>
                      <a:pt x="4956" y="5"/>
                    </a:lnTo>
                    <a:cubicBezTo>
                      <a:pt x="4955" y="5"/>
                      <a:pt x="4954" y="4"/>
                      <a:pt x="4954" y="3"/>
                    </a:cubicBezTo>
                    <a:cubicBezTo>
                      <a:pt x="4954" y="1"/>
                      <a:pt x="4955" y="1"/>
                      <a:pt x="4956" y="1"/>
                    </a:cubicBezTo>
                    <a:close/>
                    <a:moveTo>
                      <a:pt x="4964" y="1"/>
                    </a:moveTo>
                    <a:lnTo>
                      <a:pt x="4964" y="1"/>
                    </a:lnTo>
                    <a:cubicBezTo>
                      <a:pt x="4965" y="1"/>
                      <a:pt x="4966" y="1"/>
                      <a:pt x="4966" y="3"/>
                    </a:cubicBezTo>
                    <a:cubicBezTo>
                      <a:pt x="4966" y="4"/>
                      <a:pt x="4965" y="5"/>
                      <a:pt x="4964" y="5"/>
                    </a:cubicBezTo>
                    <a:lnTo>
                      <a:pt x="4964" y="5"/>
                    </a:lnTo>
                    <a:cubicBezTo>
                      <a:pt x="4963" y="5"/>
                      <a:pt x="4962" y="4"/>
                      <a:pt x="4962" y="3"/>
                    </a:cubicBezTo>
                    <a:cubicBezTo>
                      <a:pt x="4962" y="1"/>
                      <a:pt x="4963" y="1"/>
                      <a:pt x="4964" y="1"/>
                    </a:cubicBezTo>
                    <a:close/>
                    <a:moveTo>
                      <a:pt x="4972" y="1"/>
                    </a:moveTo>
                    <a:lnTo>
                      <a:pt x="4972" y="1"/>
                    </a:lnTo>
                    <a:cubicBezTo>
                      <a:pt x="4973" y="1"/>
                      <a:pt x="4974" y="1"/>
                      <a:pt x="4974" y="3"/>
                    </a:cubicBezTo>
                    <a:cubicBezTo>
                      <a:pt x="4974" y="4"/>
                      <a:pt x="4973" y="5"/>
                      <a:pt x="4972" y="5"/>
                    </a:cubicBezTo>
                    <a:lnTo>
                      <a:pt x="4972" y="5"/>
                    </a:lnTo>
                    <a:cubicBezTo>
                      <a:pt x="4971" y="5"/>
                      <a:pt x="4970" y="4"/>
                      <a:pt x="4970" y="3"/>
                    </a:cubicBezTo>
                    <a:cubicBezTo>
                      <a:pt x="4970" y="1"/>
                      <a:pt x="4971" y="1"/>
                      <a:pt x="4972" y="1"/>
                    </a:cubicBezTo>
                    <a:close/>
                    <a:moveTo>
                      <a:pt x="4980" y="1"/>
                    </a:moveTo>
                    <a:lnTo>
                      <a:pt x="4980" y="1"/>
                    </a:lnTo>
                    <a:cubicBezTo>
                      <a:pt x="4981" y="1"/>
                      <a:pt x="4982" y="1"/>
                      <a:pt x="4982" y="3"/>
                    </a:cubicBezTo>
                    <a:cubicBezTo>
                      <a:pt x="4982" y="4"/>
                      <a:pt x="4981" y="5"/>
                      <a:pt x="4980" y="5"/>
                    </a:cubicBezTo>
                    <a:lnTo>
                      <a:pt x="4980" y="5"/>
                    </a:lnTo>
                    <a:cubicBezTo>
                      <a:pt x="4979" y="5"/>
                      <a:pt x="4978" y="4"/>
                      <a:pt x="4978" y="3"/>
                    </a:cubicBezTo>
                    <a:cubicBezTo>
                      <a:pt x="4978" y="1"/>
                      <a:pt x="4979" y="1"/>
                      <a:pt x="4980" y="1"/>
                    </a:cubicBezTo>
                    <a:close/>
                    <a:moveTo>
                      <a:pt x="4988" y="1"/>
                    </a:moveTo>
                    <a:lnTo>
                      <a:pt x="4988" y="1"/>
                    </a:lnTo>
                    <a:cubicBezTo>
                      <a:pt x="4989" y="1"/>
                      <a:pt x="4990" y="1"/>
                      <a:pt x="4990" y="3"/>
                    </a:cubicBezTo>
                    <a:cubicBezTo>
                      <a:pt x="4990" y="4"/>
                      <a:pt x="4989" y="5"/>
                      <a:pt x="4988" y="5"/>
                    </a:cubicBezTo>
                    <a:lnTo>
                      <a:pt x="4988" y="5"/>
                    </a:lnTo>
                    <a:cubicBezTo>
                      <a:pt x="4987" y="5"/>
                      <a:pt x="4986" y="4"/>
                      <a:pt x="4986" y="3"/>
                    </a:cubicBezTo>
                    <a:cubicBezTo>
                      <a:pt x="4986" y="1"/>
                      <a:pt x="4987" y="1"/>
                      <a:pt x="4988" y="1"/>
                    </a:cubicBezTo>
                    <a:close/>
                    <a:moveTo>
                      <a:pt x="4996" y="1"/>
                    </a:moveTo>
                    <a:lnTo>
                      <a:pt x="4996" y="1"/>
                    </a:lnTo>
                    <a:cubicBezTo>
                      <a:pt x="4997" y="1"/>
                      <a:pt x="4998" y="1"/>
                      <a:pt x="4998" y="3"/>
                    </a:cubicBezTo>
                    <a:cubicBezTo>
                      <a:pt x="4998" y="4"/>
                      <a:pt x="4997" y="5"/>
                      <a:pt x="4996" y="5"/>
                    </a:cubicBezTo>
                    <a:lnTo>
                      <a:pt x="4996" y="5"/>
                    </a:lnTo>
                    <a:cubicBezTo>
                      <a:pt x="4995" y="5"/>
                      <a:pt x="4994" y="4"/>
                      <a:pt x="4994" y="3"/>
                    </a:cubicBezTo>
                    <a:cubicBezTo>
                      <a:pt x="4994" y="1"/>
                      <a:pt x="4995" y="1"/>
                      <a:pt x="4996" y="1"/>
                    </a:cubicBezTo>
                    <a:close/>
                    <a:moveTo>
                      <a:pt x="5004" y="1"/>
                    </a:moveTo>
                    <a:lnTo>
                      <a:pt x="5004" y="1"/>
                    </a:lnTo>
                    <a:cubicBezTo>
                      <a:pt x="5005" y="1"/>
                      <a:pt x="5006" y="1"/>
                      <a:pt x="5006" y="3"/>
                    </a:cubicBezTo>
                    <a:cubicBezTo>
                      <a:pt x="5006" y="4"/>
                      <a:pt x="5005" y="5"/>
                      <a:pt x="5004" y="5"/>
                    </a:cubicBezTo>
                    <a:lnTo>
                      <a:pt x="5004" y="5"/>
                    </a:lnTo>
                    <a:cubicBezTo>
                      <a:pt x="5003" y="5"/>
                      <a:pt x="5002" y="4"/>
                      <a:pt x="5002" y="3"/>
                    </a:cubicBezTo>
                    <a:cubicBezTo>
                      <a:pt x="5002" y="1"/>
                      <a:pt x="5003" y="1"/>
                      <a:pt x="5004" y="1"/>
                    </a:cubicBezTo>
                    <a:close/>
                    <a:moveTo>
                      <a:pt x="5012" y="1"/>
                    </a:moveTo>
                    <a:lnTo>
                      <a:pt x="5012" y="1"/>
                    </a:lnTo>
                    <a:cubicBezTo>
                      <a:pt x="5013" y="1"/>
                      <a:pt x="5014" y="1"/>
                      <a:pt x="5014" y="3"/>
                    </a:cubicBezTo>
                    <a:cubicBezTo>
                      <a:pt x="5014" y="4"/>
                      <a:pt x="5013" y="5"/>
                      <a:pt x="5012" y="5"/>
                    </a:cubicBezTo>
                    <a:lnTo>
                      <a:pt x="5012" y="5"/>
                    </a:lnTo>
                    <a:cubicBezTo>
                      <a:pt x="5011" y="5"/>
                      <a:pt x="5010" y="4"/>
                      <a:pt x="5010" y="3"/>
                    </a:cubicBezTo>
                    <a:cubicBezTo>
                      <a:pt x="5010" y="1"/>
                      <a:pt x="5011" y="1"/>
                      <a:pt x="5012" y="1"/>
                    </a:cubicBezTo>
                    <a:close/>
                    <a:moveTo>
                      <a:pt x="5020" y="1"/>
                    </a:moveTo>
                    <a:lnTo>
                      <a:pt x="5020" y="1"/>
                    </a:lnTo>
                    <a:cubicBezTo>
                      <a:pt x="5021" y="1"/>
                      <a:pt x="5022" y="1"/>
                      <a:pt x="5022" y="3"/>
                    </a:cubicBezTo>
                    <a:cubicBezTo>
                      <a:pt x="5022" y="4"/>
                      <a:pt x="5021" y="5"/>
                      <a:pt x="5020" y="5"/>
                    </a:cubicBezTo>
                    <a:lnTo>
                      <a:pt x="5020" y="5"/>
                    </a:lnTo>
                    <a:cubicBezTo>
                      <a:pt x="5019" y="5"/>
                      <a:pt x="5018" y="4"/>
                      <a:pt x="5018" y="3"/>
                    </a:cubicBezTo>
                    <a:cubicBezTo>
                      <a:pt x="5018" y="1"/>
                      <a:pt x="5019" y="1"/>
                      <a:pt x="5020" y="1"/>
                    </a:cubicBezTo>
                    <a:close/>
                    <a:moveTo>
                      <a:pt x="5028" y="1"/>
                    </a:moveTo>
                    <a:lnTo>
                      <a:pt x="5028" y="1"/>
                    </a:lnTo>
                    <a:cubicBezTo>
                      <a:pt x="5029" y="1"/>
                      <a:pt x="5030" y="1"/>
                      <a:pt x="5030" y="3"/>
                    </a:cubicBezTo>
                    <a:cubicBezTo>
                      <a:pt x="5030" y="4"/>
                      <a:pt x="5029" y="5"/>
                      <a:pt x="5028" y="5"/>
                    </a:cubicBezTo>
                    <a:lnTo>
                      <a:pt x="5028" y="5"/>
                    </a:lnTo>
                    <a:cubicBezTo>
                      <a:pt x="5027" y="5"/>
                      <a:pt x="5026" y="4"/>
                      <a:pt x="5026" y="3"/>
                    </a:cubicBezTo>
                    <a:cubicBezTo>
                      <a:pt x="5026" y="1"/>
                      <a:pt x="5027" y="1"/>
                      <a:pt x="5028" y="1"/>
                    </a:cubicBezTo>
                    <a:close/>
                    <a:moveTo>
                      <a:pt x="5036" y="1"/>
                    </a:moveTo>
                    <a:lnTo>
                      <a:pt x="5036" y="1"/>
                    </a:lnTo>
                    <a:cubicBezTo>
                      <a:pt x="5037" y="1"/>
                      <a:pt x="5038" y="1"/>
                      <a:pt x="5038" y="3"/>
                    </a:cubicBezTo>
                    <a:cubicBezTo>
                      <a:pt x="5038" y="4"/>
                      <a:pt x="5037" y="5"/>
                      <a:pt x="5036" y="5"/>
                    </a:cubicBezTo>
                    <a:lnTo>
                      <a:pt x="5036" y="5"/>
                    </a:lnTo>
                    <a:cubicBezTo>
                      <a:pt x="5035" y="5"/>
                      <a:pt x="5034" y="4"/>
                      <a:pt x="5034" y="3"/>
                    </a:cubicBezTo>
                    <a:cubicBezTo>
                      <a:pt x="5034" y="1"/>
                      <a:pt x="5035" y="1"/>
                      <a:pt x="5036" y="1"/>
                    </a:cubicBezTo>
                    <a:close/>
                    <a:moveTo>
                      <a:pt x="5044" y="1"/>
                    </a:moveTo>
                    <a:lnTo>
                      <a:pt x="5044" y="1"/>
                    </a:lnTo>
                    <a:cubicBezTo>
                      <a:pt x="5045" y="1"/>
                      <a:pt x="5046" y="1"/>
                      <a:pt x="5046" y="3"/>
                    </a:cubicBezTo>
                    <a:cubicBezTo>
                      <a:pt x="5046" y="4"/>
                      <a:pt x="5045" y="5"/>
                      <a:pt x="5044" y="5"/>
                    </a:cubicBezTo>
                    <a:lnTo>
                      <a:pt x="5044" y="5"/>
                    </a:lnTo>
                    <a:cubicBezTo>
                      <a:pt x="5043" y="5"/>
                      <a:pt x="5042" y="4"/>
                      <a:pt x="5042" y="3"/>
                    </a:cubicBezTo>
                    <a:cubicBezTo>
                      <a:pt x="5042" y="1"/>
                      <a:pt x="5043" y="1"/>
                      <a:pt x="5044" y="1"/>
                    </a:cubicBezTo>
                    <a:close/>
                    <a:moveTo>
                      <a:pt x="5052" y="1"/>
                    </a:moveTo>
                    <a:lnTo>
                      <a:pt x="5052" y="1"/>
                    </a:lnTo>
                    <a:cubicBezTo>
                      <a:pt x="5053" y="1"/>
                      <a:pt x="5054" y="1"/>
                      <a:pt x="5054" y="3"/>
                    </a:cubicBezTo>
                    <a:cubicBezTo>
                      <a:pt x="5054" y="4"/>
                      <a:pt x="5053" y="5"/>
                      <a:pt x="5052" y="5"/>
                    </a:cubicBezTo>
                    <a:lnTo>
                      <a:pt x="5052" y="5"/>
                    </a:lnTo>
                    <a:cubicBezTo>
                      <a:pt x="5051" y="5"/>
                      <a:pt x="5050" y="4"/>
                      <a:pt x="5050" y="3"/>
                    </a:cubicBezTo>
                    <a:cubicBezTo>
                      <a:pt x="5050" y="1"/>
                      <a:pt x="5051" y="1"/>
                      <a:pt x="5052" y="1"/>
                    </a:cubicBezTo>
                    <a:close/>
                    <a:moveTo>
                      <a:pt x="5060" y="1"/>
                    </a:moveTo>
                    <a:lnTo>
                      <a:pt x="5060" y="1"/>
                    </a:lnTo>
                    <a:cubicBezTo>
                      <a:pt x="5061" y="1"/>
                      <a:pt x="5062" y="1"/>
                      <a:pt x="5062" y="3"/>
                    </a:cubicBezTo>
                    <a:cubicBezTo>
                      <a:pt x="5062" y="4"/>
                      <a:pt x="5061" y="5"/>
                      <a:pt x="5060" y="5"/>
                    </a:cubicBezTo>
                    <a:lnTo>
                      <a:pt x="5060" y="5"/>
                    </a:lnTo>
                    <a:cubicBezTo>
                      <a:pt x="5059" y="5"/>
                      <a:pt x="5058" y="4"/>
                      <a:pt x="5058" y="3"/>
                    </a:cubicBezTo>
                    <a:cubicBezTo>
                      <a:pt x="5058" y="1"/>
                      <a:pt x="5059" y="1"/>
                      <a:pt x="5060" y="1"/>
                    </a:cubicBezTo>
                    <a:close/>
                    <a:moveTo>
                      <a:pt x="5068" y="1"/>
                    </a:moveTo>
                    <a:lnTo>
                      <a:pt x="5068" y="1"/>
                    </a:lnTo>
                    <a:cubicBezTo>
                      <a:pt x="5069" y="1"/>
                      <a:pt x="5070" y="1"/>
                      <a:pt x="5070" y="3"/>
                    </a:cubicBezTo>
                    <a:cubicBezTo>
                      <a:pt x="5070" y="4"/>
                      <a:pt x="5069" y="5"/>
                      <a:pt x="5068" y="5"/>
                    </a:cubicBezTo>
                    <a:lnTo>
                      <a:pt x="5068" y="5"/>
                    </a:lnTo>
                    <a:cubicBezTo>
                      <a:pt x="5067" y="5"/>
                      <a:pt x="5066" y="4"/>
                      <a:pt x="5066" y="3"/>
                    </a:cubicBezTo>
                    <a:cubicBezTo>
                      <a:pt x="5066" y="1"/>
                      <a:pt x="5067" y="1"/>
                      <a:pt x="5068" y="1"/>
                    </a:cubicBezTo>
                    <a:close/>
                    <a:moveTo>
                      <a:pt x="5076" y="1"/>
                    </a:moveTo>
                    <a:lnTo>
                      <a:pt x="5076" y="1"/>
                    </a:lnTo>
                    <a:cubicBezTo>
                      <a:pt x="5077" y="1"/>
                      <a:pt x="5078" y="1"/>
                      <a:pt x="5078" y="3"/>
                    </a:cubicBezTo>
                    <a:cubicBezTo>
                      <a:pt x="5078" y="4"/>
                      <a:pt x="5077" y="5"/>
                      <a:pt x="5076" y="5"/>
                    </a:cubicBezTo>
                    <a:lnTo>
                      <a:pt x="5076" y="5"/>
                    </a:lnTo>
                    <a:cubicBezTo>
                      <a:pt x="5075" y="5"/>
                      <a:pt x="5074" y="4"/>
                      <a:pt x="5074" y="3"/>
                    </a:cubicBezTo>
                    <a:cubicBezTo>
                      <a:pt x="5074" y="1"/>
                      <a:pt x="5075" y="1"/>
                      <a:pt x="5076" y="1"/>
                    </a:cubicBezTo>
                    <a:close/>
                    <a:moveTo>
                      <a:pt x="5084" y="1"/>
                    </a:moveTo>
                    <a:lnTo>
                      <a:pt x="5084" y="1"/>
                    </a:lnTo>
                    <a:cubicBezTo>
                      <a:pt x="5085" y="1"/>
                      <a:pt x="5086" y="1"/>
                      <a:pt x="5086" y="3"/>
                    </a:cubicBezTo>
                    <a:cubicBezTo>
                      <a:pt x="5086" y="4"/>
                      <a:pt x="5085" y="5"/>
                      <a:pt x="5084" y="5"/>
                    </a:cubicBezTo>
                    <a:lnTo>
                      <a:pt x="5084" y="5"/>
                    </a:lnTo>
                    <a:cubicBezTo>
                      <a:pt x="5083" y="5"/>
                      <a:pt x="5082" y="4"/>
                      <a:pt x="5082" y="3"/>
                    </a:cubicBezTo>
                    <a:cubicBezTo>
                      <a:pt x="5082" y="1"/>
                      <a:pt x="5083" y="1"/>
                      <a:pt x="5084" y="1"/>
                    </a:cubicBezTo>
                    <a:close/>
                    <a:moveTo>
                      <a:pt x="5092" y="1"/>
                    </a:moveTo>
                    <a:lnTo>
                      <a:pt x="5092" y="1"/>
                    </a:lnTo>
                    <a:cubicBezTo>
                      <a:pt x="5093" y="1"/>
                      <a:pt x="5094" y="1"/>
                      <a:pt x="5094" y="3"/>
                    </a:cubicBezTo>
                    <a:cubicBezTo>
                      <a:pt x="5094" y="4"/>
                      <a:pt x="5093" y="5"/>
                      <a:pt x="5092" y="5"/>
                    </a:cubicBezTo>
                    <a:lnTo>
                      <a:pt x="5092" y="5"/>
                    </a:lnTo>
                    <a:cubicBezTo>
                      <a:pt x="5091" y="5"/>
                      <a:pt x="5090" y="4"/>
                      <a:pt x="5090" y="3"/>
                    </a:cubicBezTo>
                    <a:cubicBezTo>
                      <a:pt x="5090" y="1"/>
                      <a:pt x="5091" y="1"/>
                      <a:pt x="5092" y="1"/>
                    </a:cubicBezTo>
                    <a:close/>
                    <a:moveTo>
                      <a:pt x="5100" y="1"/>
                    </a:moveTo>
                    <a:lnTo>
                      <a:pt x="5100" y="1"/>
                    </a:lnTo>
                    <a:cubicBezTo>
                      <a:pt x="5101" y="1"/>
                      <a:pt x="5102" y="1"/>
                      <a:pt x="5102" y="3"/>
                    </a:cubicBezTo>
                    <a:cubicBezTo>
                      <a:pt x="5102" y="4"/>
                      <a:pt x="5101" y="5"/>
                      <a:pt x="5100" y="5"/>
                    </a:cubicBezTo>
                    <a:lnTo>
                      <a:pt x="5100" y="5"/>
                    </a:lnTo>
                    <a:cubicBezTo>
                      <a:pt x="5099" y="5"/>
                      <a:pt x="5098" y="4"/>
                      <a:pt x="5098" y="3"/>
                    </a:cubicBezTo>
                    <a:cubicBezTo>
                      <a:pt x="5098" y="1"/>
                      <a:pt x="5099" y="1"/>
                      <a:pt x="5100" y="1"/>
                    </a:cubicBezTo>
                    <a:close/>
                    <a:moveTo>
                      <a:pt x="5108" y="1"/>
                    </a:moveTo>
                    <a:lnTo>
                      <a:pt x="5108" y="1"/>
                    </a:lnTo>
                    <a:cubicBezTo>
                      <a:pt x="5109" y="1"/>
                      <a:pt x="5110" y="1"/>
                      <a:pt x="5110" y="3"/>
                    </a:cubicBezTo>
                    <a:cubicBezTo>
                      <a:pt x="5110" y="4"/>
                      <a:pt x="5109" y="5"/>
                      <a:pt x="5108" y="5"/>
                    </a:cubicBezTo>
                    <a:lnTo>
                      <a:pt x="5108" y="5"/>
                    </a:lnTo>
                    <a:cubicBezTo>
                      <a:pt x="5107" y="5"/>
                      <a:pt x="5106" y="4"/>
                      <a:pt x="5106" y="3"/>
                    </a:cubicBezTo>
                    <a:cubicBezTo>
                      <a:pt x="5106" y="1"/>
                      <a:pt x="5107" y="1"/>
                      <a:pt x="5108" y="1"/>
                    </a:cubicBezTo>
                    <a:close/>
                    <a:moveTo>
                      <a:pt x="5116" y="1"/>
                    </a:moveTo>
                    <a:lnTo>
                      <a:pt x="5116" y="1"/>
                    </a:lnTo>
                    <a:cubicBezTo>
                      <a:pt x="5117" y="1"/>
                      <a:pt x="5118" y="1"/>
                      <a:pt x="5118" y="3"/>
                    </a:cubicBezTo>
                    <a:cubicBezTo>
                      <a:pt x="5118" y="4"/>
                      <a:pt x="5117" y="5"/>
                      <a:pt x="5116" y="5"/>
                    </a:cubicBezTo>
                    <a:lnTo>
                      <a:pt x="5116" y="5"/>
                    </a:lnTo>
                    <a:cubicBezTo>
                      <a:pt x="5115" y="5"/>
                      <a:pt x="5114" y="4"/>
                      <a:pt x="5114" y="3"/>
                    </a:cubicBezTo>
                    <a:cubicBezTo>
                      <a:pt x="5114" y="1"/>
                      <a:pt x="5115" y="1"/>
                      <a:pt x="5116" y="1"/>
                    </a:cubicBezTo>
                    <a:close/>
                    <a:moveTo>
                      <a:pt x="5124" y="1"/>
                    </a:moveTo>
                    <a:lnTo>
                      <a:pt x="5124" y="1"/>
                    </a:lnTo>
                    <a:cubicBezTo>
                      <a:pt x="5125" y="1"/>
                      <a:pt x="5126" y="1"/>
                      <a:pt x="5126" y="3"/>
                    </a:cubicBezTo>
                    <a:cubicBezTo>
                      <a:pt x="5126" y="4"/>
                      <a:pt x="5125" y="5"/>
                      <a:pt x="5124" y="5"/>
                    </a:cubicBezTo>
                    <a:lnTo>
                      <a:pt x="5124" y="5"/>
                    </a:lnTo>
                    <a:cubicBezTo>
                      <a:pt x="5123" y="5"/>
                      <a:pt x="5122" y="4"/>
                      <a:pt x="5122" y="3"/>
                    </a:cubicBezTo>
                    <a:cubicBezTo>
                      <a:pt x="5122" y="1"/>
                      <a:pt x="5123" y="1"/>
                      <a:pt x="5124" y="1"/>
                    </a:cubicBezTo>
                    <a:close/>
                    <a:moveTo>
                      <a:pt x="5132" y="1"/>
                    </a:moveTo>
                    <a:lnTo>
                      <a:pt x="5132" y="1"/>
                    </a:lnTo>
                    <a:cubicBezTo>
                      <a:pt x="5133" y="1"/>
                      <a:pt x="5134" y="1"/>
                      <a:pt x="5134" y="3"/>
                    </a:cubicBezTo>
                    <a:cubicBezTo>
                      <a:pt x="5134" y="4"/>
                      <a:pt x="5133" y="5"/>
                      <a:pt x="5132" y="5"/>
                    </a:cubicBezTo>
                    <a:lnTo>
                      <a:pt x="5132" y="5"/>
                    </a:lnTo>
                    <a:cubicBezTo>
                      <a:pt x="5131" y="5"/>
                      <a:pt x="5130" y="4"/>
                      <a:pt x="5130" y="3"/>
                    </a:cubicBezTo>
                    <a:cubicBezTo>
                      <a:pt x="5130" y="1"/>
                      <a:pt x="5131" y="1"/>
                      <a:pt x="5132" y="1"/>
                    </a:cubicBezTo>
                    <a:close/>
                    <a:moveTo>
                      <a:pt x="5140" y="1"/>
                    </a:moveTo>
                    <a:lnTo>
                      <a:pt x="5140" y="1"/>
                    </a:lnTo>
                    <a:cubicBezTo>
                      <a:pt x="5141" y="1"/>
                      <a:pt x="5142" y="1"/>
                      <a:pt x="5142" y="3"/>
                    </a:cubicBezTo>
                    <a:cubicBezTo>
                      <a:pt x="5142" y="4"/>
                      <a:pt x="5141" y="5"/>
                      <a:pt x="5140" y="5"/>
                    </a:cubicBezTo>
                    <a:lnTo>
                      <a:pt x="5140" y="5"/>
                    </a:lnTo>
                    <a:cubicBezTo>
                      <a:pt x="5139" y="5"/>
                      <a:pt x="5138" y="4"/>
                      <a:pt x="5138" y="3"/>
                    </a:cubicBezTo>
                    <a:cubicBezTo>
                      <a:pt x="5138" y="1"/>
                      <a:pt x="5139" y="1"/>
                      <a:pt x="5140" y="1"/>
                    </a:cubicBezTo>
                    <a:close/>
                    <a:moveTo>
                      <a:pt x="5148" y="1"/>
                    </a:moveTo>
                    <a:lnTo>
                      <a:pt x="5148" y="1"/>
                    </a:lnTo>
                    <a:cubicBezTo>
                      <a:pt x="5149" y="1"/>
                      <a:pt x="5150" y="1"/>
                      <a:pt x="5150" y="3"/>
                    </a:cubicBezTo>
                    <a:cubicBezTo>
                      <a:pt x="5150" y="4"/>
                      <a:pt x="5149" y="5"/>
                      <a:pt x="5148" y="5"/>
                    </a:cubicBezTo>
                    <a:lnTo>
                      <a:pt x="5148" y="5"/>
                    </a:lnTo>
                    <a:cubicBezTo>
                      <a:pt x="5147" y="5"/>
                      <a:pt x="5146" y="4"/>
                      <a:pt x="5146" y="3"/>
                    </a:cubicBezTo>
                    <a:cubicBezTo>
                      <a:pt x="5146" y="1"/>
                      <a:pt x="5147" y="1"/>
                      <a:pt x="5148" y="1"/>
                    </a:cubicBezTo>
                    <a:close/>
                    <a:moveTo>
                      <a:pt x="5156" y="1"/>
                    </a:moveTo>
                    <a:lnTo>
                      <a:pt x="5156" y="1"/>
                    </a:lnTo>
                    <a:cubicBezTo>
                      <a:pt x="5157" y="1"/>
                      <a:pt x="5158" y="1"/>
                      <a:pt x="5158" y="3"/>
                    </a:cubicBezTo>
                    <a:cubicBezTo>
                      <a:pt x="5158" y="4"/>
                      <a:pt x="5157" y="5"/>
                      <a:pt x="5156" y="5"/>
                    </a:cubicBezTo>
                    <a:lnTo>
                      <a:pt x="5156" y="5"/>
                    </a:lnTo>
                    <a:cubicBezTo>
                      <a:pt x="5155" y="5"/>
                      <a:pt x="5154" y="4"/>
                      <a:pt x="5154" y="3"/>
                    </a:cubicBezTo>
                    <a:cubicBezTo>
                      <a:pt x="5154" y="1"/>
                      <a:pt x="5155" y="1"/>
                      <a:pt x="5156" y="1"/>
                    </a:cubicBezTo>
                    <a:close/>
                    <a:moveTo>
                      <a:pt x="5164" y="1"/>
                    </a:moveTo>
                    <a:lnTo>
                      <a:pt x="5164" y="1"/>
                    </a:lnTo>
                    <a:cubicBezTo>
                      <a:pt x="5165" y="1"/>
                      <a:pt x="5166" y="1"/>
                      <a:pt x="5166" y="3"/>
                    </a:cubicBezTo>
                    <a:cubicBezTo>
                      <a:pt x="5166" y="4"/>
                      <a:pt x="5165" y="5"/>
                      <a:pt x="5164" y="5"/>
                    </a:cubicBezTo>
                    <a:lnTo>
                      <a:pt x="5164" y="5"/>
                    </a:lnTo>
                    <a:cubicBezTo>
                      <a:pt x="5163" y="5"/>
                      <a:pt x="5162" y="4"/>
                      <a:pt x="5162" y="3"/>
                    </a:cubicBezTo>
                    <a:cubicBezTo>
                      <a:pt x="5162" y="1"/>
                      <a:pt x="5163" y="1"/>
                      <a:pt x="5164" y="1"/>
                    </a:cubicBezTo>
                    <a:close/>
                    <a:moveTo>
                      <a:pt x="5172" y="1"/>
                    </a:moveTo>
                    <a:lnTo>
                      <a:pt x="5172" y="1"/>
                    </a:lnTo>
                    <a:cubicBezTo>
                      <a:pt x="5173" y="1"/>
                      <a:pt x="5174" y="1"/>
                      <a:pt x="5174" y="3"/>
                    </a:cubicBezTo>
                    <a:cubicBezTo>
                      <a:pt x="5174" y="4"/>
                      <a:pt x="5173" y="5"/>
                      <a:pt x="5172" y="5"/>
                    </a:cubicBezTo>
                    <a:lnTo>
                      <a:pt x="5172" y="5"/>
                    </a:lnTo>
                    <a:cubicBezTo>
                      <a:pt x="5171" y="5"/>
                      <a:pt x="5170" y="4"/>
                      <a:pt x="5170" y="3"/>
                    </a:cubicBezTo>
                    <a:cubicBezTo>
                      <a:pt x="5170" y="1"/>
                      <a:pt x="5171" y="1"/>
                      <a:pt x="5172" y="1"/>
                    </a:cubicBezTo>
                    <a:close/>
                    <a:moveTo>
                      <a:pt x="5180" y="1"/>
                    </a:moveTo>
                    <a:lnTo>
                      <a:pt x="5180" y="1"/>
                    </a:lnTo>
                    <a:cubicBezTo>
                      <a:pt x="5181" y="1"/>
                      <a:pt x="5182" y="1"/>
                      <a:pt x="5182" y="3"/>
                    </a:cubicBezTo>
                    <a:cubicBezTo>
                      <a:pt x="5182" y="4"/>
                      <a:pt x="5181" y="5"/>
                      <a:pt x="5180" y="5"/>
                    </a:cubicBezTo>
                    <a:lnTo>
                      <a:pt x="5180" y="5"/>
                    </a:lnTo>
                    <a:cubicBezTo>
                      <a:pt x="5179" y="5"/>
                      <a:pt x="5178" y="4"/>
                      <a:pt x="5178" y="3"/>
                    </a:cubicBezTo>
                    <a:cubicBezTo>
                      <a:pt x="5178" y="1"/>
                      <a:pt x="5179" y="1"/>
                      <a:pt x="5180" y="1"/>
                    </a:cubicBezTo>
                    <a:close/>
                    <a:moveTo>
                      <a:pt x="5188" y="1"/>
                    </a:moveTo>
                    <a:lnTo>
                      <a:pt x="5188" y="1"/>
                    </a:lnTo>
                    <a:cubicBezTo>
                      <a:pt x="5189" y="1"/>
                      <a:pt x="5190" y="1"/>
                      <a:pt x="5190" y="3"/>
                    </a:cubicBezTo>
                    <a:cubicBezTo>
                      <a:pt x="5190" y="4"/>
                      <a:pt x="5189" y="5"/>
                      <a:pt x="5188" y="5"/>
                    </a:cubicBezTo>
                    <a:lnTo>
                      <a:pt x="5188" y="5"/>
                    </a:lnTo>
                    <a:cubicBezTo>
                      <a:pt x="5187" y="5"/>
                      <a:pt x="5186" y="4"/>
                      <a:pt x="5186" y="3"/>
                    </a:cubicBezTo>
                    <a:cubicBezTo>
                      <a:pt x="5186" y="1"/>
                      <a:pt x="5187" y="1"/>
                      <a:pt x="5188" y="1"/>
                    </a:cubicBezTo>
                    <a:close/>
                    <a:moveTo>
                      <a:pt x="5196" y="1"/>
                    </a:moveTo>
                    <a:lnTo>
                      <a:pt x="5196" y="1"/>
                    </a:lnTo>
                    <a:cubicBezTo>
                      <a:pt x="5197" y="1"/>
                      <a:pt x="5198" y="1"/>
                      <a:pt x="5198" y="3"/>
                    </a:cubicBezTo>
                    <a:cubicBezTo>
                      <a:pt x="5198" y="4"/>
                      <a:pt x="5197" y="5"/>
                      <a:pt x="5196" y="5"/>
                    </a:cubicBezTo>
                    <a:lnTo>
                      <a:pt x="5196" y="5"/>
                    </a:lnTo>
                    <a:cubicBezTo>
                      <a:pt x="5195" y="5"/>
                      <a:pt x="5194" y="4"/>
                      <a:pt x="5194" y="3"/>
                    </a:cubicBezTo>
                    <a:cubicBezTo>
                      <a:pt x="5194" y="1"/>
                      <a:pt x="5195" y="1"/>
                      <a:pt x="5196" y="1"/>
                    </a:cubicBezTo>
                    <a:close/>
                    <a:moveTo>
                      <a:pt x="5204" y="1"/>
                    </a:moveTo>
                    <a:lnTo>
                      <a:pt x="5204" y="1"/>
                    </a:lnTo>
                    <a:cubicBezTo>
                      <a:pt x="5205" y="1"/>
                      <a:pt x="5206" y="1"/>
                      <a:pt x="5206" y="3"/>
                    </a:cubicBezTo>
                    <a:cubicBezTo>
                      <a:pt x="5206" y="4"/>
                      <a:pt x="5205" y="5"/>
                      <a:pt x="5204" y="5"/>
                    </a:cubicBezTo>
                    <a:lnTo>
                      <a:pt x="5204" y="5"/>
                    </a:lnTo>
                    <a:cubicBezTo>
                      <a:pt x="5203" y="5"/>
                      <a:pt x="5202" y="4"/>
                      <a:pt x="5202" y="3"/>
                    </a:cubicBezTo>
                    <a:cubicBezTo>
                      <a:pt x="5202" y="1"/>
                      <a:pt x="5203" y="1"/>
                      <a:pt x="5204" y="1"/>
                    </a:cubicBezTo>
                    <a:close/>
                    <a:moveTo>
                      <a:pt x="5212" y="1"/>
                    </a:moveTo>
                    <a:lnTo>
                      <a:pt x="5212" y="1"/>
                    </a:lnTo>
                    <a:cubicBezTo>
                      <a:pt x="5213" y="1"/>
                      <a:pt x="5214" y="1"/>
                      <a:pt x="5214" y="3"/>
                    </a:cubicBezTo>
                    <a:cubicBezTo>
                      <a:pt x="5214" y="4"/>
                      <a:pt x="5213" y="5"/>
                      <a:pt x="5212" y="5"/>
                    </a:cubicBezTo>
                    <a:lnTo>
                      <a:pt x="5212" y="5"/>
                    </a:lnTo>
                    <a:cubicBezTo>
                      <a:pt x="5211" y="5"/>
                      <a:pt x="5210" y="4"/>
                      <a:pt x="5210" y="3"/>
                    </a:cubicBezTo>
                    <a:cubicBezTo>
                      <a:pt x="5210" y="1"/>
                      <a:pt x="5211" y="1"/>
                      <a:pt x="5212" y="1"/>
                    </a:cubicBezTo>
                    <a:close/>
                    <a:moveTo>
                      <a:pt x="5220" y="1"/>
                    </a:moveTo>
                    <a:lnTo>
                      <a:pt x="5220" y="1"/>
                    </a:lnTo>
                    <a:cubicBezTo>
                      <a:pt x="5221" y="1"/>
                      <a:pt x="5222" y="1"/>
                      <a:pt x="5222" y="3"/>
                    </a:cubicBezTo>
                    <a:cubicBezTo>
                      <a:pt x="5222" y="4"/>
                      <a:pt x="5221" y="5"/>
                      <a:pt x="5220" y="5"/>
                    </a:cubicBezTo>
                    <a:lnTo>
                      <a:pt x="5220" y="5"/>
                    </a:lnTo>
                    <a:cubicBezTo>
                      <a:pt x="5219" y="5"/>
                      <a:pt x="5218" y="4"/>
                      <a:pt x="5218" y="3"/>
                    </a:cubicBezTo>
                    <a:cubicBezTo>
                      <a:pt x="5218" y="1"/>
                      <a:pt x="5219" y="1"/>
                      <a:pt x="5220" y="1"/>
                    </a:cubicBezTo>
                    <a:close/>
                    <a:moveTo>
                      <a:pt x="5228" y="1"/>
                    </a:moveTo>
                    <a:lnTo>
                      <a:pt x="5228" y="1"/>
                    </a:lnTo>
                    <a:cubicBezTo>
                      <a:pt x="5229" y="1"/>
                      <a:pt x="5230" y="1"/>
                      <a:pt x="5230" y="3"/>
                    </a:cubicBezTo>
                    <a:cubicBezTo>
                      <a:pt x="5230" y="4"/>
                      <a:pt x="5229" y="5"/>
                      <a:pt x="5228" y="5"/>
                    </a:cubicBezTo>
                    <a:lnTo>
                      <a:pt x="5228" y="5"/>
                    </a:lnTo>
                    <a:cubicBezTo>
                      <a:pt x="5227" y="5"/>
                      <a:pt x="5226" y="4"/>
                      <a:pt x="5226" y="3"/>
                    </a:cubicBezTo>
                    <a:cubicBezTo>
                      <a:pt x="5226" y="1"/>
                      <a:pt x="5227" y="1"/>
                      <a:pt x="5228" y="1"/>
                    </a:cubicBezTo>
                    <a:close/>
                    <a:moveTo>
                      <a:pt x="5236" y="1"/>
                    </a:moveTo>
                    <a:lnTo>
                      <a:pt x="5236" y="1"/>
                    </a:lnTo>
                    <a:cubicBezTo>
                      <a:pt x="5237" y="1"/>
                      <a:pt x="5238" y="1"/>
                      <a:pt x="5238" y="3"/>
                    </a:cubicBezTo>
                    <a:cubicBezTo>
                      <a:pt x="5238" y="4"/>
                      <a:pt x="5237" y="5"/>
                      <a:pt x="5236" y="5"/>
                    </a:cubicBezTo>
                    <a:lnTo>
                      <a:pt x="5236" y="5"/>
                    </a:lnTo>
                    <a:cubicBezTo>
                      <a:pt x="5235" y="5"/>
                      <a:pt x="5234" y="4"/>
                      <a:pt x="5234" y="3"/>
                    </a:cubicBezTo>
                    <a:cubicBezTo>
                      <a:pt x="5234" y="1"/>
                      <a:pt x="5235" y="1"/>
                      <a:pt x="5236" y="1"/>
                    </a:cubicBezTo>
                    <a:close/>
                    <a:moveTo>
                      <a:pt x="5244" y="1"/>
                    </a:moveTo>
                    <a:lnTo>
                      <a:pt x="5244" y="1"/>
                    </a:lnTo>
                    <a:cubicBezTo>
                      <a:pt x="5245" y="1"/>
                      <a:pt x="5246" y="1"/>
                      <a:pt x="5246" y="3"/>
                    </a:cubicBezTo>
                    <a:cubicBezTo>
                      <a:pt x="5246" y="4"/>
                      <a:pt x="5245" y="5"/>
                      <a:pt x="5244" y="5"/>
                    </a:cubicBezTo>
                    <a:lnTo>
                      <a:pt x="5244" y="5"/>
                    </a:lnTo>
                    <a:cubicBezTo>
                      <a:pt x="5243" y="5"/>
                      <a:pt x="5242" y="4"/>
                      <a:pt x="5242" y="3"/>
                    </a:cubicBezTo>
                    <a:cubicBezTo>
                      <a:pt x="5242" y="1"/>
                      <a:pt x="5243" y="1"/>
                      <a:pt x="5244" y="1"/>
                    </a:cubicBezTo>
                    <a:close/>
                    <a:moveTo>
                      <a:pt x="5252" y="1"/>
                    </a:moveTo>
                    <a:lnTo>
                      <a:pt x="5252" y="1"/>
                    </a:lnTo>
                    <a:cubicBezTo>
                      <a:pt x="5253" y="1"/>
                      <a:pt x="5254" y="1"/>
                      <a:pt x="5254" y="3"/>
                    </a:cubicBezTo>
                    <a:cubicBezTo>
                      <a:pt x="5254" y="4"/>
                      <a:pt x="5253" y="5"/>
                      <a:pt x="5252" y="5"/>
                    </a:cubicBezTo>
                    <a:lnTo>
                      <a:pt x="5252" y="5"/>
                    </a:lnTo>
                    <a:cubicBezTo>
                      <a:pt x="5251" y="5"/>
                      <a:pt x="5250" y="4"/>
                      <a:pt x="5250" y="3"/>
                    </a:cubicBezTo>
                    <a:cubicBezTo>
                      <a:pt x="5250" y="1"/>
                      <a:pt x="5251" y="1"/>
                      <a:pt x="5252" y="1"/>
                    </a:cubicBezTo>
                    <a:close/>
                    <a:moveTo>
                      <a:pt x="5260" y="1"/>
                    </a:moveTo>
                    <a:lnTo>
                      <a:pt x="5260" y="1"/>
                    </a:lnTo>
                    <a:cubicBezTo>
                      <a:pt x="5261" y="1"/>
                      <a:pt x="5262" y="1"/>
                      <a:pt x="5262" y="3"/>
                    </a:cubicBezTo>
                    <a:cubicBezTo>
                      <a:pt x="5262" y="4"/>
                      <a:pt x="5261" y="5"/>
                      <a:pt x="5260" y="5"/>
                    </a:cubicBezTo>
                    <a:lnTo>
                      <a:pt x="5260" y="5"/>
                    </a:lnTo>
                    <a:cubicBezTo>
                      <a:pt x="5259" y="5"/>
                      <a:pt x="5258" y="4"/>
                      <a:pt x="5258" y="3"/>
                    </a:cubicBezTo>
                    <a:cubicBezTo>
                      <a:pt x="5258" y="1"/>
                      <a:pt x="5259" y="1"/>
                      <a:pt x="5260" y="1"/>
                    </a:cubicBezTo>
                    <a:close/>
                    <a:moveTo>
                      <a:pt x="5268" y="1"/>
                    </a:moveTo>
                    <a:lnTo>
                      <a:pt x="5268" y="1"/>
                    </a:lnTo>
                    <a:cubicBezTo>
                      <a:pt x="5270" y="1"/>
                      <a:pt x="5270" y="1"/>
                      <a:pt x="5270" y="3"/>
                    </a:cubicBezTo>
                    <a:cubicBezTo>
                      <a:pt x="5270" y="4"/>
                      <a:pt x="5270" y="5"/>
                      <a:pt x="5268" y="5"/>
                    </a:cubicBezTo>
                    <a:lnTo>
                      <a:pt x="5268" y="5"/>
                    </a:lnTo>
                    <a:cubicBezTo>
                      <a:pt x="5267" y="5"/>
                      <a:pt x="5266" y="4"/>
                      <a:pt x="5266" y="3"/>
                    </a:cubicBezTo>
                    <a:cubicBezTo>
                      <a:pt x="5266" y="1"/>
                      <a:pt x="5267" y="1"/>
                      <a:pt x="5268" y="1"/>
                    </a:cubicBezTo>
                    <a:close/>
                    <a:moveTo>
                      <a:pt x="5276" y="1"/>
                    </a:moveTo>
                    <a:lnTo>
                      <a:pt x="5276" y="1"/>
                    </a:lnTo>
                    <a:cubicBezTo>
                      <a:pt x="5278" y="1"/>
                      <a:pt x="5278" y="1"/>
                      <a:pt x="5278" y="3"/>
                    </a:cubicBezTo>
                    <a:cubicBezTo>
                      <a:pt x="5278" y="4"/>
                      <a:pt x="5278" y="5"/>
                      <a:pt x="5276" y="5"/>
                    </a:cubicBezTo>
                    <a:lnTo>
                      <a:pt x="5276" y="5"/>
                    </a:lnTo>
                    <a:cubicBezTo>
                      <a:pt x="5275" y="5"/>
                      <a:pt x="5274" y="4"/>
                      <a:pt x="5274" y="3"/>
                    </a:cubicBezTo>
                    <a:cubicBezTo>
                      <a:pt x="5274" y="1"/>
                      <a:pt x="5275" y="1"/>
                      <a:pt x="5276" y="1"/>
                    </a:cubicBezTo>
                    <a:close/>
                    <a:moveTo>
                      <a:pt x="5284" y="1"/>
                    </a:moveTo>
                    <a:lnTo>
                      <a:pt x="5284" y="1"/>
                    </a:lnTo>
                    <a:cubicBezTo>
                      <a:pt x="5286" y="1"/>
                      <a:pt x="5286" y="1"/>
                      <a:pt x="5286" y="3"/>
                    </a:cubicBezTo>
                    <a:cubicBezTo>
                      <a:pt x="5286" y="4"/>
                      <a:pt x="5286" y="5"/>
                      <a:pt x="5284" y="5"/>
                    </a:cubicBezTo>
                    <a:lnTo>
                      <a:pt x="5284" y="5"/>
                    </a:lnTo>
                    <a:cubicBezTo>
                      <a:pt x="5283" y="5"/>
                      <a:pt x="5282" y="4"/>
                      <a:pt x="5282" y="3"/>
                    </a:cubicBezTo>
                    <a:cubicBezTo>
                      <a:pt x="5282" y="1"/>
                      <a:pt x="5283" y="1"/>
                      <a:pt x="5284" y="1"/>
                    </a:cubicBezTo>
                    <a:close/>
                    <a:moveTo>
                      <a:pt x="5292" y="1"/>
                    </a:moveTo>
                    <a:lnTo>
                      <a:pt x="5292" y="1"/>
                    </a:lnTo>
                    <a:cubicBezTo>
                      <a:pt x="5294" y="1"/>
                      <a:pt x="5294" y="1"/>
                      <a:pt x="5294" y="3"/>
                    </a:cubicBezTo>
                    <a:cubicBezTo>
                      <a:pt x="5294" y="4"/>
                      <a:pt x="5294" y="5"/>
                      <a:pt x="5292" y="5"/>
                    </a:cubicBezTo>
                    <a:lnTo>
                      <a:pt x="5292" y="5"/>
                    </a:lnTo>
                    <a:cubicBezTo>
                      <a:pt x="5291" y="5"/>
                      <a:pt x="5290" y="4"/>
                      <a:pt x="5290" y="3"/>
                    </a:cubicBezTo>
                    <a:cubicBezTo>
                      <a:pt x="5290" y="1"/>
                      <a:pt x="5291" y="1"/>
                      <a:pt x="5292" y="1"/>
                    </a:cubicBezTo>
                    <a:close/>
                    <a:moveTo>
                      <a:pt x="5300" y="1"/>
                    </a:moveTo>
                    <a:lnTo>
                      <a:pt x="5300" y="1"/>
                    </a:lnTo>
                    <a:cubicBezTo>
                      <a:pt x="5302" y="1"/>
                      <a:pt x="5302" y="2"/>
                      <a:pt x="5302" y="3"/>
                    </a:cubicBezTo>
                    <a:cubicBezTo>
                      <a:pt x="5302" y="4"/>
                      <a:pt x="5302" y="5"/>
                      <a:pt x="5300" y="5"/>
                    </a:cubicBezTo>
                    <a:lnTo>
                      <a:pt x="5300" y="5"/>
                    </a:lnTo>
                    <a:cubicBezTo>
                      <a:pt x="5299" y="5"/>
                      <a:pt x="5298" y="4"/>
                      <a:pt x="5298" y="3"/>
                    </a:cubicBezTo>
                    <a:cubicBezTo>
                      <a:pt x="5298" y="2"/>
                      <a:pt x="5299" y="1"/>
                      <a:pt x="5300" y="1"/>
                    </a:cubicBezTo>
                    <a:close/>
                    <a:moveTo>
                      <a:pt x="5308" y="1"/>
                    </a:moveTo>
                    <a:lnTo>
                      <a:pt x="5308" y="1"/>
                    </a:lnTo>
                    <a:cubicBezTo>
                      <a:pt x="5310" y="1"/>
                      <a:pt x="5310" y="2"/>
                      <a:pt x="5310" y="3"/>
                    </a:cubicBezTo>
                    <a:cubicBezTo>
                      <a:pt x="5310" y="4"/>
                      <a:pt x="5310" y="5"/>
                      <a:pt x="5308" y="5"/>
                    </a:cubicBezTo>
                    <a:lnTo>
                      <a:pt x="5308" y="5"/>
                    </a:lnTo>
                    <a:cubicBezTo>
                      <a:pt x="5307" y="5"/>
                      <a:pt x="5306" y="4"/>
                      <a:pt x="5306" y="3"/>
                    </a:cubicBezTo>
                    <a:cubicBezTo>
                      <a:pt x="5306" y="2"/>
                      <a:pt x="5307" y="1"/>
                      <a:pt x="5308" y="1"/>
                    </a:cubicBezTo>
                    <a:close/>
                    <a:moveTo>
                      <a:pt x="5316" y="1"/>
                    </a:moveTo>
                    <a:lnTo>
                      <a:pt x="5316" y="1"/>
                    </a:lnTo>
                    <a:cubicBezTo>
                      <a:pt x="5318" y="1"/>
                      <a:pt x="5318" y="2"/>
                      <a:pt x="5318" y="3"/>
                    </a:cubicBezTo>
                    <a:cubicBezTo>
                      <a:pt x="5318" y="4"/>
                      <a:pt x="5318" y="5"/>
                      <a:pt x="5316" y="5"/>
                    </a:cubicBezTo>
                    <a:lnTo>
                      <a:pt x="5316" y="5"/>
                    </a:lnTo>
                    <a:cubicBezTo>
                      <a:pt x="5315" y="5"/>
                      <a:pt x="5314" y="4"/>
                      <a:pt x="5314" y="3"/>
                    </a:cubicBezTo>
                    <a:cubicBezTo>
                      <a:pt x="5314" y="2"/>
                      <a:pt x="5315" y="1"/>
                      <a:pt x="5316" y="1"/>
                    </a:cubicBezTo>
                    <a:close/>
                    <a:moveTo>
                      <a:pt x="5324" y="1"/>
                    </a:moveTo>
                    <a:lnTo>
                      <a:pt x="5324" y="1"/>
                    </a:lnTo>
                    <a:cubicBezTo>
                      <a:pt x="5326" y="1"/>
                      <a:pt x="5326" y="2"/>
                      <a:pt x="5326" y="3"/>
                    </a:cubicBezTo>
                    <a:cubicBezTo>
                      <a:pt x="5326" y="4"/>
                      <a:pt x="5326" y="5"/>
                      <a:pt x="5324" y="5"/>
                    </a:cubicBezTo>
                    <a:lnTo>
                      <a:pt x="5324" y="5"/>
                    </a:lnTo>
                    <a:cubicBezTo>
                      <a:pt x="5323" y="5"/>
                      <a:pt x="5322" y="4"/>
                      <a:pt x="5322" y="3"/>
                    </a:cubicBezTo>
                    <a:cubicBezTo>
                      <a:pt x="5322" y="2"/>
                      <a:pt x="5323" y="1"/>
                      <a:pt x="5324" y="1"/>
                    </a:cubicBezTo>
                    <a:close/>
                    <a:moveTo>
                      <a:pt x="5332" y="1"/>
                    </a:moveTo>
                    <a:lnTo>
                      <a:pt x="5332" y="1"/>
                    </a:lnTo>
                    <a:cubicBezTo>
                      <a:pt x="5334" y="1"/>
                      <a:pt x="5334" y="2"/>
                      <a:pt x="5334" y="3"/>
                    </a:cubicBezTo>
                    <a:cubicBezTo>
                      <a:pt x="5334" y="4"/>
                      <a:pt x="5334" y="5"/>
                      <a:pt x="5332" y="5"/>
                    </a:cubicBezTo>
                    <a:lnTo>
                      <a:pt x="5332" y="5"/>
                    </a:lnTo>
                    <a:cubicBezTo>
                      <a:pt x="5331" y="5"/>
                      <a:pt x="5330" y="4"/>
                      <a:pt x="5330" y="3"/>
                    </a:cubicBezTo>
                    <a:cubicBezTo>
                      <a:pt x="5330" y="2"/>
                      <a:pt x="5331" y="1"/>
                      <a:pt x="5332" y="1"/>
                    </a:cubicBezTo>
                    <a:close/>
                    <a:moveTo>
                      <a:pt x="5340" y="1"/>
                    </a:moveTo>
                    <a:lnTo>
                      <a:pt x="5340" y="1"/>
                    </a:lnTo>
                    <a:cubicBezTo>
                      <a:pt x="5342" y="1"/>
                      <a:pt x="5342" y="2"/>
                      <a:pt x="5342" y="3"/>
                    </a:cubicBezTo>
                    <a:cubicBezTo>
                      <a:pt x="5342" y="4"/>
                      <a:pt x="5342" y="5"/>
                      <a:pt x="5340" y="5"/>
                    </a:cubicBezTo>
                    <a:lnTo>
                      <a:pt x="5340" y="5"/>
                    </a:lnTo>
                    <a:cubicBezTo>
                      <a:pt x="5339" y="5"/>
                      <a:pt x="5338" y="4"/>
                      <a:pt x="5338" y="3"/>
                    </a:cubicBezTo>
                    <a:cubicBezTo>
                      <a:pt x="5338" y="2"/>
                      <a:pt x="5339" y="1"/>
                      <a:pt x="5340" y="1"/>
                    </a:cubicBezTo>
                    <a:close/>
                    <a:moveTo>
                      <a:pt x="5348" y="1"/>
                    </a:moveTo>
                    <a:lnTo>
                      <a:pt x="5348" y="1"/>
                    </a:lnTo>
                    <a:cubicBezTo>
                      <a:pt x="5350" y="1"/>
                      <a:pt x="5350" y="2"/>
                      <a:pt x="5350" y="3"/>
                    </a:cubicBezTo>
                    <a:cubicBezTo>
                      <a:pt x="5350" y="4"/>
                      <a:pt x="5350" y="5"/>
                      <a:pt x="5348" y="5"/>
                    </a:cubicBezTo>
                    <a:lnTo>
                      <a:pt x="5348" y="5"/>
                    </a:lnTo>
                    <a:cubicBezTo>
                      <a:pt x="5347" y="5"/>
                      <a:pt x="5346" y="4"/>
                      <a:pt x="5346" y="3"/>
                    </a:cubicBezTo>
                    <a:cubicBezTo>
                      <a:pt x="5346" y="2"/>
                      <a:pt x="5347" y="1"/>
                      <a:pt x="5348" y="1"/>
                    </a:cubicBezTo>
                    <a:close/>
                    <a:moveTo>
                      <a:pt x="5356" y="1"/>
                    </a:moveTo>
                    <a:lnTo>
                      <a:pt x="5356" y="1"/>
                    </a:lnTo>
                    <a:cubicBezTo>
                      <a:pt x="5358" y="1"/>
                      <a:pt x="5358" y="2"/>
                      <a:pt x="5358" y="3"/>
                    </a:cubicBezTo>
                    <a:cubicBezTo>
                      <a:pt x="5358" y="4"/>
                      <a:pt x="5358" y="5"/>
                      <a:pt x="5356" y="5"/>
                    </a:cubicBezTo>
                    <a:lnTo>
                      <a:pt x="5356" y="5"/>
                    </a:lnTo>
                    <a:cubicBezTo>
                      <a:pt x="5355" y="5"/>
                      <a:pt x="5354" y="4"/>
                      <a:pt x="5354" y="3"/>
                    </a:cubicBezTo>
                    <a:cubicBezTo>
                      <a:pt x="5354" y="2"/>
                      <a:pt x="5355" y="1"/>
                      <a:pt x="5356" y="1"/>
                    </a:cubicBezTo>
                    <a:close/>
                    <a:moveTo>
                      <a:pt x="5364" y="1"/>
                    </a:moveTo>
                    <a:lnTo>
                      <a:pt x="5364" y="1"/>
                    </a:lnTo>
                    <a:cubicBezTo>
                      <a:pt x="5366" y="1"/>
                      <a:pt x="5366" y="2"/>
                      <a:pt x="5366" y="3"/>
                    </a:cubicBezTo>
                    <a:cubicBezTo>
                      <a:pt x="5366" y="4"/>
                      <a:pt x="5366" y="5"/>
                      <a:pt x="5364" y="5"/>
                    </a:cubicBezTo>
                    <a:lnTo>
                      <a:pt x="5364" y="5"/>
                    </a:lnTo>
                    <a:cubicBezTo>
                      <a:pt x="5363" y="5"/>
                      <a:pt x="5362" y="4"/>
                      <a:pt x="5362" y="3"/>
                    </a:cubicBezTo>
                    <a:cubicBezTo>
                      <a:pt x="5362" y="2"/>
                      <a:pt x="5363" y="1"/>
                      <a:pt x="5364" y="1"/>
                    </a:cubicBezTo>
                    <a:close/>
                    <a:moveTo>
                      <a:pt x="5372" y="1"/>
                    </a:moveTo>
                    <a:lnTo>
                      <a:pt x="5372" y="1"/>
                    </a:lnTo>
                    <a:cubicBezTo>
                      <a:pt x="5374" y="1"/>
                      <a:pt x="5374" y="2"/>
                      <a:pt x="5374" y="3"/>
                    </a:cubicBezTo>
                    <a:cubicBezTo>
                      <a:pt x="5374" y="4"/>
                      <a:pt x="5374" y="5"/>
                      <a:pt x="5372" y="5"/>
                    </a:cubicBezTo>
                    <a:lnTo>
                      <a:pt x="5372" y="5"/>
                    </a:lnTo>
                    <a:cubicBezTo>
                      <a:pt x="5371" y="5"/>
                      <a:pt x="5370" y="4"/>
                      <a:pt x="5370" y="3"/>
                    </a:cubicBezTo>
                    <a:cubicBezTo>
                      <a:pt x="5370" y="2"/>
                      <a:pt x="5371" y="1"/>
                      <a:pt x="5372" y="1"/>
                    </a:cubicBezTo>
                    <a:close/>
                    <a:moveTo>
                      <a:pt x="5380" y="1"/>
                    </a:moveTo>
                    <a:lnTo>
                      <a:pt x="5380" y="1"/>
                    </a:lnTo>
                    <a:cubicBezTo>
                      <a:pt x="5382" y="1"/>
                      <a:pt x="5382" y="2"/>
                      <a:pt x="5382" y="3"/>
                    </a:cubicBezTo>
                    <a:cubicBezTo>
                      <a:pt x="5382" y="4"/>
                      <a:pt x="5382" y="5"/>
                      <a:pt x="5380" y="5"/>
                    </a:cubicBezTo>
                    <a:lnTo>
                      <a:pt x="5380" y="5"/>
                    </a:lnTo>
                    <a:cubicBezTo>
                      <a:pt x="5379" y="5"/>
                      <a:pt x="5378" y="4"/>
                      <a:pt x="5378" y="3"/>
                    </a:cubicBezTo>
                    <a:cubicBezTo>
                      <a:pt x="5378" y="2"/>
                      <a:pt x="5379" y="1"/>
                      <a:pt x="5380" y="1"/>
                    </a:cubicBezTo>
                    <a:close/>
                    <a:moveTo>
                      <a:pt x="5388" y="1"/>
                    </a:moveTo>
                    <a:lnTo>
                      <a:pt x="5388" y="1"/>
                    </a:lnTo>
                    <a:cubicBezTo>
                      <a:pt x="5390" y="1"/>
                      <a:pt x="5390" y="2"/>
                      <a:pt x="5390" y="3"/>
                    </a:cubicBezTo>
                    <a:cubicBezTo>
                      <a:pt x="5390" y="4"/>
                      <a:pt x="5390" y="5"/>
                      <a:pt x="5388" y="5"/>
                    </a:cubicBezTo>
                    <a:lnTo>
                      <a:pt x="5388" y="5"/>
                    </a:lnTo>
                    <a:cubicBezTo>
                      <a:pt x="5387" y="5"/>
                      <a:pt x="5386" y="4"/>
                      <a:pt x="5386" y="3"/>
                    </a:cubicBezTo>
                    <a:cubicBezTo>
                      <a:pt x="5386" y="2"/>
                      <a:pt x="5387" y="1"/>
                      <a:pt x="5388" y="1"/>
                    </a:cubicBezTo>
                    <a:close/>
                    <a:moveTo>
                      <a:pt x="5396" y="1"/>
                    </a:moveTo>
                    <a:lnTo>
                      <a:pt x="5396" y="1"/>
                    </a:lnTo>
                    <a:cubicBezTo>
                      <a:pt x="5398" y="1"/>
                      <a:pt x="5398" y="2"/>
                      <a:pt x="5398" y="3"/>
                    </a:cubicBezTo>
                    <a:cubicBezTo>
                      <a:pt x="5398" y="4"/>
                      <a:pt x="5398" y="5"/>
                      <a:pt x="5396" y="5"/>
                    </a:cubicBezTo>
                    <a:lnTo>
                      <a:pt x="5396" y="5"/>
                    </a:lnTo>
                    <a:cubicBezTo>
                      <a:pt x="5395" y="5"/>
                      <a:pt x="5394" y="4"/>
                      <a:pt x="5394" y="3"/>
                    </a:cubicBezTo>
                    <a:cubicBezTo>
                      <a:pt x="5394" y="2"/>
                      <a:pt x="5395" y="1"/>
                      <a:pt x="5396" y="1"/>
                    </a:cubicBezTo>
                    <a:close/>
                    <a:moveTo>
                      <a:pt x="5404" y="1"/>
                    </a:moveTo>
                    <a:lnTo>
                      <a:pt x="5404" y="1"/>
                    </a:lnTo>
                    <a:cubicBezTo>
                      <a:pt x="5406" y="1"/>
                      <a:pt x="5406" y="2"/>
                      <a:pt x="5406" y="3"/>
                    </a:cubicBezTo>
                    <a:cubicBezTo>
                      <a:pt x="5406" y="4"/>
                      <a:pt x="5406" y="5"/>
                      <a:pt x="5404" y="5"/>
                    </a:cubicBezTo>
                    <a:lnTo>
                      <a:pt x="5404" y="5"/>
                    </a:lnTo>
                    <a:cubicBezTo>
                      <a:pt x="5403" y="5"/>
                      <a:pt x="5402" y="4"/>
                      <a:pt x="5402" y="3"/>
                    </a:cubicBezTo>
                    <a:cubicBezTo>
                      <a:pt x="5402" y="2"/>
                      <a:pt x="5403" y="1"/>
                      <a:pt x="5404" y="1"/>
                    </a:cubicBezTo>
                    <a:close/>
                    <a:moveTo>
                      <a:pt x="5412" y="1"/>
                    </a:moveTo>
                    <a:lnTo>
                      <a:pt x="5412" y="1"/>
                    </a:lnTo>
                    <a:cubicBezTo>
                      <a:pt x="5414" y="1"/>
                      <a:pt x="5414" y="2"/>
                      <a:pt x="5414" y="3"/>
                    </a:cubicBezTo>
                    <a:cubicBezTo>
                      <a:pt x="5414" y="4"/>
                      <a:pt x="5414" y="5"/>
                      <a:pt x="5412" y="5"/>
                    </a:cubicBezTo>
                    <a:lnTo>
                      <a:pt x="5412" y="5"/>
                    </a:lnTo>
                    <a:cubicBezTo>
                      <a:pt x="5411" y="5"/>
                      <a:pt x="5410" y="4"/>
                      <a:pt x="5410" y="3"/>
                    </a:cubicBezTo>
                    <a:cubicBezTo>
                      <a:pt x="5410" y="2"/>
                      <a:pt x="5411" y="1"/>
                      <a:pt x="5412" y="1"/>
                    </a:cubicBezTo>
                    <a:close/>
                    <a:moveTo>
                      <a:pt x="5420" y="1"/>
                    </a:moveTo>
                    <a:lnTo>
                      <a:pt x="5420" y="1"/>
                    </a:lnTo>
                    <a:cubicBezTo>
                      <a:pt x="5422" y="1"/>
                      <a:pt x="5422" y="2"/>
                      <a:pt x="5422" y="3"/>
                    </a:cubicBezTo>
                    <a:cubicBezTo>
                      <a:pt x="5422" y="4"/>
                      <a:pt x="5422" y="5"/>
                      <a:pt x="5420" y="5"/>
                    </a:cubicBezTo>
                    <a:lnTo>
                      <a:pt x="5420" y="5"/>
                    </a:lnTo>
                    <a:cubicBezTo>
                      <a:pt x="5419" y="5"/>
                      <a:pt x="5418" y="4"/>
                      <a:pt x="5418" y="3"/>
                    </a:cubicBezTo>
                    <a:cubicBezTo>
                      <a:pt x="5418" y="2"/>
                      <a:pt x="5419" y="1"/>
                      <a:pt x="5420" y="1"/>
                    </a:cubicBezTo>
                    <a:close/>
                    <a:moveTo>
                      <a:pt x="5428" y="1"/>
                    </a:moveTo>
                    <a:lnTo>
                      <a:pt x="5428" y="1"/>
                    </a:lnTo>
                    <a:cubicBezTo>
                      <a:pt x="5430" y="1"/>
                      <a:pt x="5430" y="2"/>
                      <a:pt x="5430" y="3"/>
                    </a:cubicBezTo>
                    <a:cubicBezTo>
                      <a:pt x="5430" y="4"/>
                      <a:pt x="5430" y="5"/>
                      <a:pt x="5428" y="5"/>
                    </a:cubicBezTo>
                    <a:lnTo>
                      <a:pt x="5428" y="5"/>
                    </a:lnTo>
                    <a:cubicBezTo>
                      <a:pt x="5427" y="5"/>
                      <a:pt x="5426" y="4"/>
                      <a:pt x="5426" y="3"/>
                    </a:cubicBezTo>
                    <a:cubicBezTo>
                      <a:pt x="5426" y="2"/>
                      <a:pt x="5427" y="1"/>
                      <a:pt x="5428" y="1"/>
                    </a:cubicBezTo>
                    <a:close/>
                    <a:moveTo>
                      <a:pt x="5436" y="1"/>
                    </a:moveTo>
                    <a:lnTo>
                      <a:pt x="5436" y="1"/>
                    </a:lnTo>
                    <a:cubicBezTo>
                      <a:pt x="5438" y="1"/>
                      <a:pt x="5438" y="2"/>
                      <a:pt x="5438" y="3"/>
                    </a:cubicBezTo>
                    <a:cubicBezTo>
                      <a:pt x="5438" y="4"/>
                      <a:pt x="5438" y="5"/>
                      <a:pt x="5436" y="5"/>
                    </a:cubicBezTo>
                    <a:lnTo>
                      <a:pt x="5436" y="5"/>
                    </a:lnTo>
                    <a:cubicBezTo>
                      <a:pt x="5435" y="5"/>
                      <a:pt x="5434" y="4"/>
                      <a:pt x="5434" y="3"/>
                    </a:cubicBezTo>
                    <a:cubicBezTo>
                      <a:pt x="5434" y="2"/>
                      <a:pt x="5435" y="1"/>
                      <a:pt x="5436" y="1"/>
                    </a:cubicBezTo>
                    <a:close/>
                    <a:moveTo>
                      <a:pt x="5444" y="1"/>
                    </a:moveTo>
                    <a:lnTo>
                      <a:pt x="5444" y="1"/>
                    </a:lnTo>
                    <a:cubicBezTo>
                      <a:pt x="5446" y="1"/>
                      <a:pt x="5446" y="2"/>
                      <a:pt x="5446" y="3"/>
                    </a:cubicBezTo>
                    <a:cubicBezTo>
                      <a:pt x="5446" y="4"/>
                      <a:pt x="5446" y="5"/>
                      <a:pt x="5444" y="5"/>
                    </a:cubicBezTo>
                    <a:lnTo>
                      <a:pt x="5444" y="5"/>
                    </a:lnTo>
                    <a:cubicBezTo>
                      <a:pt x="5443" y="5"/>
                      <a:pt x="5442" y="4"/>
                      <a:pt x="5442" y="3"/>
                    </a:cubicBezTo>
                    <a:cubicBezTo>
                      <a:pt x="5442" y="2"/>
                      <a:pt x="5443" y="1"/>
                      <a:pt x="5444" y="1"/>
                    </a:cubicBezTo>
                    <a:close/>
                    <a:moveTo>
                      <a:pt x="5452" y="1"/>
                    </a:moveTo>
                    <a:lnTo>
                      <a:pt x="5452" y="1"/>
                    </a:lnTo>
                    <a:cubicBezTo>
                      <a:pt x="5454" y="1"/>
                      <a:pt x="5454" y="2"/>
                      <a:pt x="5454" y="3"/>
                    </a:cubicBezTo>
                    <a:cubicBezTo>
                      <a:pt x="5454" y="4"/>
                      <a:pt x="5454" y="5"/>
                      <a:pt x="5452" y="5"/>
                    </a:cubicBezTo>
                    <a:lnTo>
                      <a:pt x="5452" y="5"/>
                    </a:lnTo>
                    <a:cubicBezTo>
                      <a:pt x="5451" y="5"/>
                      <a:pt x="5450" y="4"/>
                      <a:pt x="5450" y="3"/>
                    </a:cubicBezTo>
                    <a:cubicBezTo>
                      <a:pt x="5450" y="2"/>
                      <a:pt x="5451" y="1"/>
                      <a:pt x="5452" y="1"/>
                    </a:cubicBezTo>
                    <a:close/>
                    <a:moveTo>
                      <a:pt x="5460" y="1"/>
                    </a:moveTo>
                    <a:lnTo>
                      <a:pt x="5460" y="1"/>
                    </a:lnTo>
                    <a:cubicBezTo>
                      <a:pt x="5462" y="1"/>
                      <a:pt x="5462" y="2"/>
                      <a:pt x="5462" y="3"/>
                    </a:cubicBezTo>
                    <a:cubicBezTo>
                      <a:pt x="5462" y="4"/>
                      <a:pt x="5462" y="5"/>
                      <a:pt x="5460" y="5"/>
                    </a:cubicBezTo>
                    <a:lnTo>
                      <a:pt x="5460" y="5"/>
                    </a:lnTo>
                    <a:cubicBezTo>
                      <a:pt x="5459" y="5"/>
                      <a:pt x="5458" y="4"/>
                      <a:pt x="5458" y="3"/>
                    </a:cubicBezTo>
                    <a:cubicBezTo>
                      <a:pt x="5458" y="2"/>
                      <a:pt x="5459" y="1"/>
                      <a:pt x="5460" y="1"/>
                    </a:cubicBezTo>
                    <a:close/>
                    <a:moveTo>
                      <a:pt x="5468" y="1"/>
                    </a:moveTo>
                    <a:lnTo>
                      <a:pt x="5468" y="1"/>
                    </a:lnTo>
                    <a:cubicBezTo>
                      <a:pt x="5470" y="1"/>
                      <a:pt x="5470" y="2"/>
                      <a:pt x="5470" y="3"/>
                    </a:cubicBezTo>
                    <a:cubicBezTo>
                      <a:pt x="5470" y="4"/>
                      <a:pt x="5470" y="5"/>
                      <a:pt x="5468" y="5"/>
                    </a:cubicBezTo>
                    <a:lnTo>
                      <a:pt x="5468" y="5"/>
                    </a:lnTo>
                    <a:cubicBezTo>
                      <a:pt x="5467" y="5"/>
                      <a:pt x="5466" y="4"/>
                      <a:pt x="5466" y="3"/>
                    </a:cubicBezTo>
                    <a:cubicBezTo>
                      <a:pt x="5466" y="2"/>
                      <a:pt x="5467" y="1"/>
                      <a:pt x="5468" y="1"/>
                    </a:cubicBezTo>
                    <a:close/>
                    <a:moveTo>
                      <a:pt x="5476" y="1"/>
                    </a:moveTo>
                    <a:lnTo>
                      <a:pt x="5476" y="1"/>
                    </a:lnTo>
                    <a:cubicBezTo>
                      <a:pt x="5478" y="1"/>
                      <a:pt x="5478" y="2"/>
                      <a:pt x="5478" y="3"/>
                    </a:cubicBezTo>
                    <a:cubicBezTo>
                      <a:pt x="5478" y="4"/>
                      <a:pt x="5478" y="5"/>
                      <a:pt x="5476" y="5"/>
                    </a:cubicBezTo>
                    <a:lnTo>
                      <a:pt x="5476" y="5"/>
                    </a:lnTo>
                    <a:cubicBezTo>
                      <a:pt x="5475" y="5"/>
                      <a:pt x="5474" y="4"/>
                      <a:pt x="5474" y="3"/>
                    </a:cubicBezTo>
                    <a:cubicBezTo>
                      <a:pt x="5474" y="2"/>
                      <a:pt x="5475" y="1"/>
                      <a:pt x="5476" y="1"/>
                    </a:cubicBezTo>
                    <a:close/>
                    <a:moveTo>
                      <a:pt x="5484" y="1"/>
                    </a:moveTo>
                    <a:lnTo>
                      <a:pt x="5485" y="1"/>
                    </a:lnTo>
                    <a:cubicBezTo>
                      <a:pt x="5486" y="1"/>
                      <a:pt x="5487" y="2"/>
                      <a:pt x="5487" y="3"/>
                    </a:cubicBezTo>
                    <a:cubicBezTo>
                      <a:pt x="5487" y="4"/>
                      <a:pt x="5486" y="5"/>
                      <a:pt x="5485" y="5"/>
                    </a:cubicBezTo>
                    <a:lnTo>
                      <a:pt x="5484" y="5"/>
                    </a:lnTo>
                    <a:cubicBezTo>
                      <a:pt x="5483" y="5"/>
                      <a:pt x="5482" y="4"/>
                      <a:pt x="5482" y="3"/>
                    </a:cubicBezTo>
                    <a:cubicBezTo>
                      <a:pt x="5482" y="2"/>
                      <a:pt x="5483" y="1"/>
                      <a:pt x="5484" y="1"/>
                    </a:cubicBezTo>
                    <a:close/>
                    <a:moveTo>
                      <a:pt x="5493" y="1"/>
                    </a:moveTo>
                    <a:lnTo>
                      <a:pt x="5493" y="1"/>
                    </a:lnTo>
                    <a:cubicBezTo>
                      <a:pt x="5494" y="1"/>
                      <a:pt x="5495" y="2"/>
                      <a:pt x="5495" y="3"/>
                    </a:cubicBezTo>
                    <a:cubicBezTo>
                      <a:pt x="5495" y="4"/>
                      <a:pt x="5494" y="5"/>
                      <a:pt x="5493" y="5"/>
                    </a:cubicBezTo>
                    <a:lnTo>
                      <a:pt x="5493" y="5"/>
                    </a:lnTo>
                    <a:cubicBezTo>
                      <a:pt x="5491" y="5"/>
                      <a:pt x="5491" y="4"/>
                      <a:pt x="5491" y="3"/>
                    </a:cubicBezTo>
                    <a:cubicBezTo>
                      <a:pt x="5491" y="2"/>
                      <a:pt x="5491" y="1"/>
                      <a:pt x="5493" y="1"/>
                    </a:cubicBezTo>
                    <a:close/>
                    <a:moveTo>
                      <a:pt x="5501" y="1"/>
                    </a:moveTo>
                    <a:lnTo>
                      <a:pt x="5501" y="1"/>
                    </a:lnTo>
                    <a:cubicBezTo>
                      <a:pt x="5502" y="1"/>
                      <a:pt x="5503" y="2"/>
                      <a:pt x="5503" y="3"/>
                    </a:cubicBezTo>
                    <a:cubicBezTo>
                      <a:pt x="5503" y="4"/>
                      <a:pt x="5502" y="5"/>
                      <a:pt x="5501" y="5"/>
                    </a:cubicBezTo>
                    <a:lnTo>
                      <a:pt x="5501" y="5"/>
                    </a:lnTo>
                    <a:cubicBezTo>
                      <a:pt x="5499" y="5"/>
                      <a:pt x="5499" y="4"/>
                      <a:pt x="5499" y="3"/>
                    </a:cubicBezTo>
                    <a:cubicBezTo>
                      <a:pt x="5499" y="2"/>
                      <a:pt x="5499" y="1"/>
                      <a:pt x="5501" y="1"/>
                    </a:cubicBezTo>
                    <a:close/>
                    <a:moveTo>
                      <a:pt x="5509" y="1"/>
                    </a:moveTo>
                    <a:lnTo>
                      <a:pt x="5509" y="1"/>
                    </a:lnTo>
                    <a:cubicBezTo>
                      <a:pt x="5510" y="1"/>
                      <a:pt x="5511" y="2"/>
                      <a:pt x="5511" y="3"/>
                    </a:cubicBezTo>
                    <a:cubicBezTo>
                      <a:pt x="5511" y="4"/>
                      <a:pt x="5510" y="5"/>
                      <a:pt x="5509" y="5"/>
                    </a:cubicBezTo>
                    <a:lnTo>
                      <a:pt x="5509" y="5"/>
                    </a:lnTo>
                    <a:cubicBezTo>
                      <a:pt x="5507" y="5"/>
                      <a:pt x="5507" y="4"/>
                      <a:pt x="5507" y="3"/>
                    </a:cubicBezTo>
                    <a:cubicBezTo>
                      <a:pt x="5507" y="2"/>
                      <a:pt x="5507" y="1"/>
                      <a:pt x="5509" y="1"/>
                    </a:cubicBezTo>
                    <a:close/>
                    <a:moveTo>
                      <a:pt x="5517" y="1"/>
                    </a:moveTo>
                    <a:lnTo>
                      <a:pt x="5517" y="1"/>
                    </a:lnTo>
                    <a:cubicBezTo>
                      <a:pt x="5518" y="1"/>
                      <a:pt x="5519" y="2"/>
                      <a:pt x="5519" y="3"/>
                    </a:cubicBezTo>
                    <a:cubicBezTo>
                      <a:pt x="5519" y="4"/>
                      <a:pt x="5518" y="5"/>
                      <a:pt x="5517" y="5"/>
                    </a:cubicBezTo>
                    <a:lnTo>
                      <a:pt x="5517" y="5"/>
                    </a:lnTo>
                    <a:cubicBezTo>
                      <a:pt x="5515" y="5"/>
                      <a:pt x="5515" y="4"/>
                      <a:pt x="5515" y="3"/>
                    </a:cubicBezTo>
                    <a:cubicBezTo>
                      <a:pt x="5515" y="2"/>
                      <a:pt x="5515" y="1"/>
                      <a:pt x="5517" y="1"/>
                    </a:cubicBezTo>
                    <a:close/>
                    <a:moveTo>
                      <a:pt x="5525" y="1"/>
                    </a:moveTo>
                    <a:lnTo>
                      <a:pt x="5525" y="1"/>
                    </a:lnTo>
                    <a:cubicBezTo>
                      <a:pt x="5526" y="1"/>
                      <a:pt x="5527" y="2"/>
                      <a:pt x="5527" y="3"/>
                    </a:cubicBezTo>
                    <a:cubicBezTo>
                      <a:pt x="5527" y="4"/>
                      <a:pt x="5526" y="5"/>
                      <a:pt x="5525" y="5"/>
                    </a:cubicBezTo>
                    <a:lnTo>
                      <a:pt x="5525" y="5"/>
                    </a:lnTo>
                    <a:cubicBezTo>
                      <a:pt x="5523" y="5"/>
                      <a:pt x="5523" y="4"/>
                      <a:pt x="5523" y="3"/>
                    </a:cubicBezTo>
                    <a:cubicBezTo>
                      <a:pt x="5523" y="2"/>
                      <a:pt x="5523" y="1"/>
                      <a:pt x="5525" y="1"/>
                    </a:cubicBezTo>
                    <a:close/>
                    <a:moveTo>
                      <a:pt x="5533" y="1"/>
                    </a:moveTo>
                    <a:lnTo>
                      <a:pt x="5533" y="1"/>
                    </a:lnTo>
                    <a:cubicBezTo>
                      <a:pt x="5534" y="1"/>
                      <a:pt x="5535" y="2"/>
                      <a:pt x="5535" y="3"/>
                    </a:cubicBezTo>
                    <a:cubicBezTo>
                      <a:pt x="5535" y="4"/>
                      <a:pt x="5534" y="5"/>
                      <a:pt x="5533" y="5"/>
                    </a:cubicBezTo>
                    <a:lnTo>
                      <a:pt x="5533" y="5"/>
                    </a:lnTo>
                    <a:cubicBezTo>
                      <a:pt x="5531" y="5"/>
                      <a:pt x="5531" y="4"/>
                      <a:pt x="5531" y="3"/>
                    </a:cubicBezTo>
                    <a:cubicBezTo>
                      <a:pt x="5531" y="2"/>
                      <a:pt x="5531" y="1"/>
                      <a:pt x="5533" y="1"/>
                    </a:cubicBezTo>
                    <a:close/>
                    <a:moveTo>
                      <a:pt x="5541" y="1"/>
                    </a:moveTo>
                    <a:lnTo>
                      <a:pt x="5541" y="1"/>
                    </a:lnTo>
                    <a:cubicBezTo>
                      <a:pt x="5542" y="1"/>
                      <a:pt x="5543" y="2"/>
                      <a:pt x="5543" y="3"/>
                    </a:cubicBezTo>
                    <a:cubicBezTo>
                      <a:pt x="5543" y="4"/>
                      <a:pt x="5542" y="5"/>
                      <a:pt x="5541" y="5"/>
                    </a:cubicBezTo>
                    <a:lnTo>
                      <a:pt x="5541" y="5"/>
                    </a:lnTo>
                    <a:cubicBezTo>
                      <a:pt x="5539" y="5"/>
                      <a:pt x="5539" y="4"/>
                      <a:pt x="5539" y="3"/>
                    </a:cubicBezTo>
                    <a:cubicBezTo>
                      <a:pt x="5539" y="2"/>
                      <a:pt x="5539" y="1"/>
                      <a:pt x="5541" y="1"/>
                    </a:cubicBezTo>
                    <a:close/>
                    <a:moveTo>
                      <a:pt x="5549" y="1"/>
                    </a:moveTo>
                    <a:lnTo>
                      <a:pt x="5549" y="1"/>
                    </a:lnTo>
                    <a:cubicBezTo>
                      <a:pt x="5550" y="1"/>
                      <a:pt x="5551" y="2"/>
                      <a:pt x="5551" y="3"/>
                    </a:cubicBezTo>
                    <a:cubicBezTo>
                      <a:pt x="5551" y="4"/>
                      <a:pt x="5550" y="5"/>
                      <a:pt x="5549" y="5"/>
                    </a:cubicBezTo>
                    <a:lnTo>
                      <a:pt x="5549" y="5"/>
                    </a:lnTo>
                    <a:cubicBezTo>
                      <a:pt x="5547" y="5"/>
                      <a:pt x="5547" y="4"/>
                      <a:pt x="5547" y="3"/>
                    </a:cubicBezTo>
                    <a:cubicBezTo>
                      <a:pt x="5547" y="2"/>
                      <a:pt x="5547" y="1"/>
                      <a:pt x="5549" y="1"/>
                    </a:cubicBezTo>
                    <a:close/>
                    <a:moveTo>
                      <a:pt x="5557" y="1"/>
                    </a:moveTo>
                    <a:lnTo>
                      <a:pt x="5557" y="1"/>
                    </a:lnTo>
                    <a:cubicBezTo>
                      <a:pt x="5558" y="1"/>
                      <a:pt x="5559" y="2"/>
                      <a:pt x="5559" y="3"/>
                    </a:cubicBezTo>
                    <a:cubicBezTo>
                      <a:pt x="5559" y="4"/>
                      <a:pt x="5558" y="5"/>
                      <a:pt x="5557" y="5"/>
                    </a:cubicBezTo>
                    <a:lnTo>
                      <a:pt x="5557" y="5"/>
                    </a:lnTo>
                    <a:cubicBezTo>
                      <a:pt x="5555" y="5"/>
                      <a:pt x="5555" y="4"/>
                      <a:pt x="5555" y="3"/>
                    </a:cubicBezTo>
                    <a:cubicBezTo>
                      <a:pt x="5555" y="2"/>
                      <a:pt x="5555" y="1"/>
                      <a:pt x="5557" y="1"/>
                    </a:cubicBezTo>
                    <a:close/>
                    <a:moveTo>
                      <a:pt x="5565" y="1"/>
                    </a:moveTo>
                    <a:lnTo>
                      <a:pt x="5565" y="1"/>
                    </a:lnTo>
                    <a:cubicBezTo>
                      <a:pt x="5566" y="1"/>
                      <a:pt x="5567" y="2"/>
                      <a:pt x="5567" y="3"/>
                    </a:cubicBezTo>
                    <a:cubicBezTo>
                      <a:pt x="5567" y="4"/>
                      <a:pt x="5566" y="5"/>
                      <a:pt x="5565" y="5"/>
                    </a:cubicBezTo>
                    <a:lnTo>
                      <a:pt x="5565" y="5"/>
                    </a:lnTo>
                    <a:cubicBezTo>
                      <a:pt x="5563" y="5"/>
                      <a:pt x="5563" y="4"/>
                      <a:pt x="5563" y="3"/>
                    </a:cubicBezTo>
                    <a:cubicBezTo>
                      <a:pt x="5563" y="2"/>
                      <a:pt x="5563" y="1"/>
                      <a:pt x="5565" y="1"/>
                    </a:cubicBezTo>
                    <a:close/>
                    <a:moveTo>
                      <a:pt x="5573" y="1"/>
                    </a:moveTo>
                    <a:lnTo>
                      <a:pt x="5573" y="1"/>
                    </a:lnTo>
                    <a:cubicBezTo>
                      <a:pt x="5574" y="1"/>
                      <a:pt x="5575" y="2"/>
                      <a:pt x="5575" y="3"/>
                    </a:cubicBezTo>
                    <a:cubicBezTo>
                      <a:pt x="5575" y="4"/>
                      <a:pt x="5574" y="5"/>
                      <a:pt x="5573" y="5"/>
                    </a:cubicBezTo>
                    <a:lnTo>
                      <a:pt x="5573" y="5"/>
                    </a:lnTo>
                    <a:cubicBezTo>
                      <a:pt x="5571" y="5"/>
                      <a:pt x="5571" y="4"/>
                      <a:pt x="5571" y="3"/>
                    </a:cubicBezTo>
                    <a:cubicBezTo>
                      <a:pt x="5571" y="2"/>
                      <a:pt x="5571" y="1"/>
                      <a:pt x="5573" y="1"/>
                    </a:cubicBezTo>
                    <a:close/>
                    <a:moveTo>
                      <a:pt x="5581" y="1"/>
                    </a:moveTo>
                    <a:lnTo>
                      <a:pt x="5581" y="1"/>
                    </a:lnTo>
                    <a:cubicBezTo>
                      <a:pt x="5582" y="1"/>
                      <a:pt x="5583" y="2"/>
                      <a:pt x="5583" y="3"/>
                    </a:cubicBezTo>
                    <a:cubicBezTo>
                      <a:pt x="5583" y="4"/>
                      <a:pt x="5582" y="5"/>
                      <a:pt x="5581" y="5"/>
                    </a:cubicBezTo>
                    <a:lnTo>
                      <a:pt x="5581" y="5"/>
                    </a:lnTo>
                    <a:cubicBezTo>
                      <a:pt x="5579" y="5"/>
                      <a:pt x="5579" y="4"/>
                      <a:pt x="5579" y="3"/>
                    </a:cubicBezTo>
                    <a:cubicBezTo>
                      <a:pt x="5579" y="2"/>
                      <a:pt x="5579" y="1"/>
                      <a:pt x="5581" y="1"/>
                    </a:cubicBezTo>
                    <a:close/>
                    <a:moveTo>
                      <a:pt x="5589" y="1"/>
                    </a:moveTo>
                    <a:lnTo>
                      <a:pt x="5589" y="1"/>
                    </a:lnTo>
                    <a:cubicBezTo>
                      <a:pt x="5590" y="1"/>
                      <a:pt x="5591" y="2"/>
                      <a:pt x="5591" y="3"/>
                    </a:cubicBezTo>
                    <a:cubicBezTo>
                      <a:pt x="5591" y="4"/>
                      <a:pt x="5590" y="5"/>
                      <a:pt x="5589" y="5"/>
                    </a:cubicBezTo>
                    <a:lnTo>
                      <a:pt x="5589" y="5"/>
                    </a:lnTo>
                    <a:cubicBezTo>
                      <a:pt x="5587" y="5"/>
                      <a:pt x="5587" y="4"/>
                      <a:pt x="5587" y="3"/>
                    </a:cubicBezTo>
                    <a:cubicBezTo>
                      <a:pt x="5587" y="2"/>
                      <a:pt x="5587" y="1"/>
                      <a:pt x="5589" y="1"/>
                    </a:cubicBezTo>
                    <a:close/>
                    <a:moveTo>
                      <a:pt x="5597" y="1"/>
                    </a:moveTo>
                    <a:lnTo>
                      <a:pt x="5597" y="1"/>
                    </a:lnTo>
                    <a:cubicBezTo>
                      <a:pt x="5598" y="1"/>
                      <a:pt x="5599" y="2"/>
                      <a:pt x="5599" y="3"/>
                    </a:cubicBezTo>
                    <a:cubicBezTo>
                      <a:pt x="5599" y="4"/>
                      <a:pt x="5598" y="5"/>
                      <a:pt x="5597" y="5"/>
                    </a:cubicBezTo>
                    <a:lnTo>
                      <a:pt x="5597" y="5"/>
                    </a:lnTo>
                    <a:cubicBezTo>
                      <a:pt x="5595" y="5"/>
                      <a:pt x="5595" y="4"/>
                      <a:pt x="5595" y="3"/>
                    </a:cubicBezTo>
                    <a:cubicBezTo>
                      <a:pt x="5595" y="2"/>
                      <a:pt x="5595" y="1"/>
                      <a:pt x="5597" y="1"/>
                    </a:cubicBezTo>
                    <a:close/>
                    <a:moveTo>
                      <a:pt x="5605" y="1"/>
                    </a:moveTo>
                    <a:lnTo>
                      <a:pt x="5605" y="1"/>
                    </a:lnTo>
                    <a:cubicBezTo>
                      <a:pt x="5606" y="1"/>
                      <a:pt x="5607" y="2"/>
                      <a:pt x="5607" y="3"/>
                    </a:cubicBezTo>
                    <a:cubicBezTo>
                      <a:pt x="5607" y="4"/>
                      <a:pt x="5606" y="5"/>
                      <a:pt x="5605" y="5"/>
                    </a:cubicBezTo>
                    <a:lnTo>
                      <a:pt x="5605" y="5"/>
                    </a:lnTo>
                    <a:cubicBezTo>
                      <a:pt x="5603" y="5"/>
                      <a:pt x="5603" y="4"/>
                      <a:pt x="5603" y="3"/>
                    </a:cubicBezTo>
                    <a:cubicBezTo>
                      <a:pt x="5603" y="2"/>
                      <a:pt x="5603" y="1"/>
                      <a:pt x="5605" y="1"/>
                    </a:cubicBezTo>
                    <a:close/>
                    <a:moveTo>
                      <a:pt x="5613" y="1"/>
                    </a:moveTo>
                    <a:lnTo>
                      <a:pt x="5613" y="1"/>
                    </a:lnTo>
                    <a:cubicBezTo>
                      <a:pt x="5614" y="1"/>
                      <a:pt x="5615" y="2"/>
                      <a:pt x="5615" y="3"/>
                    </a:cubicBezTo>
                    <a:cubicBezTo>
                      <a:pt x="5615" y="4"/>
                      <a:pt x="5614" y="5"/>
                      <a:pt x="5613" y="5"/>
                    </a:cubicBezTo>
                    <a:lnTo>
                      <a:pt x="5613" y="5"/>
                    </a:lnTo>
                    <a:cubicBezTo>
                      <a:pt x="5611" y="5"/>
                      <a:pt x="5611" y="4"/>
                      <a:pt x="5611" y="3"/>
                    </a:cubicBezTo>
                    <a:cubicBezTo>
                      <a:pt x="5611" y="2"/>
                      <a:pt x="5611" y="1"/>
                      <a:pt x="5613" y="1"/>
                    </a:cubicBezTo>
                    <a:close/>
                    <a:moveTo>
                      <a:pt x="5621" y="1"/>
                    </a:moveTo>
                    <a:lnTo>
                      <a:pt x="5621" y="1"/>
                    </a:lnTo>
                    <a:cubicBezTo>
                      <a:pt x="5622" y="1"/>
                      <a:pt x="5623" y="2"/>
                      <a:pt x="5623" y="3"/>
                    </a:cubicBezTo>
                    <a:cubicBezTo>
                      <a:pt x="5623" y="4"/>
                      <a:pt x="5622" y="5"/>
                      <a:pt x="5621" y="5"/>
                    </a:cubicBezTo>
                    <a:lnTo>
                      <a:pt x="5621" y="5"/>
                    </a:lnTo>
                    <a:cubicBezTo>
                      <a:pt x="5619" y="5"/>
                      <a:pt x="5619" y="4"/>
                      <a:pt x="5619" y="3"/>
                    </a:cubicBezTo>
                    <a:cubicBezTo>
                      <a:pt x="5619" y="2"/>
                      <a:pt x="5619" y="1"/>
                      <a:pt x="5621" y="1"/>
                    </a:cubicBezTo>
                    <a:close/>
                    <a:moveTo>
                      <a:pt x="5629" y="1"/>
                    </a:moveTo>
                    <a:lnTo>
                      <a:pt x="5629" y="1"/>
                    </a:lnTo>
                    <a:cubicBezTo>
                      <a:pt x="5630" y="1"/>
                      <a:pt x="5631" y="2"/>
                      <a:pt x="5631" y="3"/>
                    </a:cubicBezTo>
                    <a:cubicBezTo>
                      <a:pt x="5631" y="4"/>
                      <a:pt x="5630" y="5"/>
                      <a:pt x="5629" y="5"/>
                    </a:cubicBezTo>
                    <a:lnTo>
                      <a:pt x="5629" y="5"/>
                    </a:lnTo>
                    <a:cubicBezTo>
                      <a:pt x="5627" y="5"/>
                      <a:pt x="5627" y="4"/>
                      <a:pt x="5627" y="3"/>
                    </a:cubicBezTo>
                    <a:cubicBezTo>
                      <a:pt x="5627" y="2"/>
                      <a:pt x="5627" y="1"/>
                      <a:pt x="5629" y="1"/>
                    </a:cubicBezTo>
                    <a:close/>
                    <a:moveTo>
                      <a:pt x="5637" y="1"/>
                    </a:moveTo>
                    <a:lnTo>
                      <a:pt x="5637" y="1"/>
                    </a:lnTo>
                    <a:cubicBezTo>
                      <a:pt x="5638" y="1"/>
                      <a:pt x="5639" y="2"/>
                      <a:pt x="5639" y="3"/>
                    </a:cubicBezTo>
                    <a:cubicBezTo>
                      <a:pt x="5639" y="4"/>
                      <a:pt x="5638" y="5"/>
                      <a:pt x="5637" y="5"/>
                    </a:cubicBezTo>
                    <a:lnTo>
                      <a:pt x="5637" y="5"/>
                    </a:lnTo>
                    <a:cubicBezTo>
                      <a:pt x="5635" y="5"/>
                      <a:pt x="5635" y="4"/>
                      <a:pt x="5635" y="3"/>
                    </a:cubicBezTo>
                    <a:cubicBezTo>
                      <a:pt x="5635" y="2"/>
                      <a:pt x="5635" y="1"/>
                      <a:pt x="5637" y="1"/>
                    </a:cubicBezTo>
                    <a:close/>
                    <a:moveTo>
                      <a:pt x="5645" y="1"/>
                    </a:moveTo>
                    <a:lnTo>
                      <a:pt x="5645" y="1"/>
                    </a:lnTo>
                    <a:cubicBezTo>
                      <a:pt x="5646" y="1"/>
                      <a:pt x="5647" y="2"/>
                      <a:pt x="5647" y="3"/>
                    </a:cubicBezTo>
                    <a:cubicBezTo>
                      <a:pt x="5647" y="4"/>
                      <a:pt x="5646" y="5"/>
                      <a:pt x="5645" y="5"/>
                    </a:cubicBezTo>
                    <a:lnTo>
                      <a:pt x="5645" y="5"/>
                    </a:lnTo>
                    <a:cubicBezTo>
                      <a:pt x="5643" y="5"/>
                      <a:pt x="5643" y="4"/>
                      <a:pt x="5643" y="3"/>
                    </a:cubicBezTo>
                    <a:cubicBezTo>
                      <a:pt x="5643" y="2"/>
                      <a:pt x="5643" y="1"/>
                      <a:pt x="5645" y="1"/>
                    </a:cubicBezTo>
                    <a:close/>
                    <a:moveTo>
                      <a:pt x="5653" y="1"/>
                    </a:moveTo>
                    <a:lnTo>
                      <a:pt x="5653" y="1"/>
                    </a:lnTo>
                    <a:cubicBezTo>
                      <a:pt x="5654" y="1"/>
                      <a:pt x="5655" y="2"/>
                      <a:pt x="5655" y="3"/>
                    </a:cubicBezTo>
                    <a:cubicBezTo>
                      <a:pt x="5655" y="4"/>
                      <a:pt x="5654" y="5"/>
                      <a:pt x="5653" y="5"/>
                    </a:cubicBezTo>
                    <a:lnTo>
                      <a:pt x="5653" y="5"/>
                    </a:lnTo>
                    <a:cubicBezTo>
                      <a:pt x="5651" y="5"/>
                      <a:pt x="5651" y="4"/>
                      <a:pt x="5651" y="3"/>
                    </a:cubicBezTo>
                    <a:cubicBezTo>
                      <a:pt x="5651" y="2"/>
                      <a:pt x="5651" y="1"/>
                      <a:pt x="5653" y="1"/>
                    </a:cubicBezTo>
                    <a:close/>
                    <a:moveTo>
                      <a:pt x="5661" y="1"/>
                    </a:moveTo>
                    <a:lnTo>
                      <a:pt x="5661" y="1"/>
                    </a:lnTo>
                    <a:cubicBezTo>
                      <a:pt x="5662" y="1"/>
                      <a:pt x="5663" y="2"/>
                      <a:pt x="5663" y="3"/>
                    </a:cubicBezTo>
                    <a:cubicBezTo>
                      <a:pt x="5663" y="4"/>
                      <a:pt x="5662" y="5"/>
                      <a:pt x="5661" y="5"/>
                    </a:cubicBezTo>
                    <a:lnTo>
                      <a:pt x="5661" y="5"/>
                    </a:lnTo>
                    <a:cubicBezTo>
                      <a:pt x="5659" y="5"/>
                      <a:pt x="5659" y="4"/>
                      <a:pt x="5659" y="3"/>
                    </a:cubicBezTo>
                    <a:cubicBezTo>
                      <a:pt x="5659" y="2"/>
                      <a:pt x="5659" y="1"/>
                      <a:pt x="5661" y="1"/>
                    </a:cubicBezTo>
                    <a:close/>
                    <a:moveTo>
                      <a:pt x="5669" y="1"/>
                    </a:moveTo>
                    <a:lnTo>
                      <a:pt x="5669" y="1"/>
                    </a:lnTo>
                    <a:cubicBezTo>
                      <a:pt x="5670" y="1"/>
                      <a:pt x="5671" y="2"/>
                      <a:pt x="5671" y="3"/>
                    </a:cubicBezTo>
                    <a:cubicBezTo>
                      <a:pt x="5671" y="4"/>
                      <a:pt x="5670" y="5"/>
                      <a:pt x="5669" y="5"/>
                    </a:cubicBezTo>
                    <a:lnTo>
                      <a:pt x="5669" y="5"/>
                    </a:lnTo>
                    <a:cubicBezTo>
                      <a:pt x="5667" y="5"/>
                      <a:pt x="5667" y="4"/>
                      <a:pt x="5667" y="3"/>
                    </a:cubicBezTo>
                    <a:cubicBezTo>
                      <a:pt x="5667" y="2"/>
                      <a:pt x="5667" y="1"/>
                      <a:pt x="5669" y="1"/>
                    </a:cubicBezTo>
                    <a:close/>
                    <a:moveTo>
                      <a:pt x="5677" y="1"/>
                    </a:moveTo>
                    <a:lnTo>
                      <a:pt x="5677" y="1"/>
                    </a:lnTo>
                    <a:cubicBezTo>
                      <a:pt x="5678" y="1"/>
                      <a:pt x="5679" y="2"/>
                      <a:pt x="5679" y="3"/>
                    </a:cubicBezTo>
                    <a:cubicBezTo>
                      <a:pt x="5679" y="4"/>
                      <a:pt x="5678" y="5"/>
                      <a:pt x="5677" y="5"/>
                    </a:cubicBezTo>
                    <a:lnTo>
                      <a:pt x="5677" y="5"/>
                    </a:lnTo>
                    <a:cubicBezTo>
                      <a:pt x="5675" y="5"/>
                      <a:pt x="5675" y="4"/>
                      <a:pt x="5675" y="3"/>
                    </a:cubicBezTo>
                    <a:cubicBezTo>
                      <a:pt x="5675" y="2"/>
                      <a:pt x="5675" y="1"/>
                      <a:pt x="5677" y="1"/>
                    </a:cubicBezTo>
                    <a:close/>
                    <a:moveTo>
                      <a:pt x="5685" y="1"/>
                    </a:moveTo>
                    <a:lnTo>
                      <a:pt x="5685" y="1"/>
                    </a:lnTo>
                    <a:cubicBezTo>
                      <a:pt x="5686" y="1"/>
                      <a:pt x="5687" y="2"/>
                      <a:pt x="5687" y="3"/>
                    </a:cubicBezTo>
                    <a:cubicBezTo>
                      <a:pt x="5687" y="4"/>
                      <a:pt x="5686" y="5"/>
                      <a:pt x="5685" y="5"/>
                    </a:cubicBezTo>
                    <a:lnTo>
                      <a:pt x="5685" y="5"/>
                    </a:lnTo>
                    <a:cubicBezTo>
                      <a:pt x="5683" y="5"/>
                      <a:pt x="5683" y="4"/>
                      <a:pt x="5683" y="3"/>
                    </a:cubicBezTo>
                    <a:cubicBezTo>
                      <a:pt x="5683" y="2"/>
                      <a:pt x="5683" y="1"/>
                      <a:pt x="5685" y="1"/>
                    </a:cubicBezTo>
                    <a:close/>
                    <a:moveTo>
                      <a:pt x="5693" y="1"/>
                    </a:moveTo>
                    <a:lnTo>
                      <a:pt x="5693" y="1"/>
                    </a:lnTo>
                    <a:cubicBezTo>
                      <a:pt x="5694" y="1"/>
                      <a:pt x="5695" y="2"/>
                      <a:pt x="5695" y="3"/>
                    </a:cubicBezTo>
                    <a:cubicBezTo>
                      <a:pt x="5695" y="4"/>
                      <a:pt x="5694" y="5"/>
                      <a:pt x="5693" y="5"/>
                    </a:cubicBezTo>
                    <a:lnTo>
                      <a:pt x="5693" y="5"/>
                    </a:lnTo>
                    <a:cubicBezTo>
                      <a:pt x="5691" y="5"/>
                      <a:pt x="5691" y="4"/>
                      <a:pt x="5691" y="3"/>
                    </a:cubicBezTo>
                    <a:cubicBezTo>
                      <a:pt x="5691" y="2"/>
                      <a:pt x="5691" y="1"/>
                      <a:pt x="5693" y="1"/>
                    </a:cubicBezTo>
                    <a:close/>
                    <a:moveTo>
                      <a:pt x="5701" y="1"/>
                    </a:moveTo>
                    <a:lnTo>
                      <a:pt x="5701" y="1"/>
                    </a:lnTo>
                    <a:cubicBezTo>
                      <a:pt x="5702" y="1"/>
                      <a:pt x="5703" y="2"/>
                      <a:pt x="5703" y="3"/>
                    </a:cubicBezTo>
                    <a:cubicBezTo>
                      <a:pt x="5703" y="4"/>
                      <a:pt x="5702" y="5"/>
                      <a:pt x="5701" y="5"/>
                    </a:cubicBezTo>
                    <a:lnTo>
                      <a:pt x="5701" y="5"/>
                    </a:lnTo>
                    <a:cubicBezTo>
                      <a:pt x="5699" y="5"/>
                      <a:pt x="5699" y="4"/>
                      <a:pt x="5699" y="3"/>
                    </a:cubicBezTo>
                    <a:cubicBezTo>
                      <a:pt x="5699" y="2"/>
                      <a:pt x="5699" y="1"/>
                      <a:pt x="5701" y="1"/>
                    </a:cubicBezTo>
                    <a:close/>
                    <a:moveTo>
                      <a:pt x="5709" y="1"/>
                    </a:moveTo>
                    <a:lnTo>
                      <a:pt x="5709" y="1"/>
                    </a:lnTo>
                    <a:cubicBezTo>
                      <a:pt x="5710" y="1"/>
                      <a:pt x="5711" y="2"/>
                      <a:pt x="5711" y="3"/>
                    </a:cubicBezTo>
                    <a:cubicBezTo>
                      <a:pt x="5711" y="4"/>
                      <a:pt x="5710" y="5"/>
                      <a:pt x="5709" y="5"/>
                    </a:cubicBezTo>
                    <a:lnTo>
                      <a:pt x="5709" y="5"/>
                    </a:lnTo>
                    <a:cubicBezTo>
                      <a:pt x="5708" y="5"/>
                      <a:pt x="5707" y="4"/>
                      <a:pt x="5707" y="3"/>
                    </a:cubicBezTo>
                    <a:cubicBezTo>
                      <a:pt x="5707" y="2"/>
                      <a:pt x="5708" y="1"/>
                      <a:pt x="5709" y="1"/>
                    </a:cubicBezTo>
                    <a:close/>
                    <a:moveTo>
                      <a:pt x="5717" y="1"/>
                    </a:moveTo>
                    <a:lnTo>
                      <a:pt x="5717" y="1"/>
                    </a:lnTo>
                    <a:cubicBezTo>
                      <a:pt x="5718" y="1"/>
                      <a:pt x="5719" y="2"/>
                      <a:pt x="5719" y="3"/>
                    </a:cubicBezTo>
                    <a:cubicBezTo>
                      <a:pt x="5719" y="4"/>
                      <a:pt x="5718" y="5"/>
                      <a:pt x="5717" y="5"/>
                    </a:cubicBezTo>
                    <a:lnTo>
                      <a:pt x="5717" y="5"/>
                    </a:lnTo>
                    <a:cubicBezTo>
                      <a:pt x="5716" y="5"/>
                      <a:pt x="5715" y="4"/>
                      <a:pt x="5715" y="3"/>
                    </a:cubicBezTo>
                    <a:cubicBezTo>
                      <a:pt x="5715" y="2"/>
                      <a:pt x="5716" y="1"/>
                      <a:pt x="5717" y="1"/>
                    </a:cubicBezTo>
                    <a:close/>
                    <a:moveTo>
                      <a:pt x="5725" y="1"/>
                    </a:moveTo>
                    <a:lnTo>
                      <a:pt x="5725" y="1"/>
                    </a:lnTo>
                    <a:cubicBezTo>
                      <a:pt x="5726" y="1"/>
                      <a:pt x="5727" y="2"/>
                      <a:pt x="5727" y="3"/>
                    </a:cubicBezTo>
                    <a:cubicBezTo>
                      <a:pt x="5727" y="4"/>
                      <a:pt x="5726" y="5"/>
                      <a:pt x="5725" y="5"/>
                    </a:cubicBezTo>
                    <a:lnTo>
                      <a:pt x="5725" y="5"/>
                    </a:lnTo>
                    <a:cubicBezTo>
                      <a:pt x="5724" y="5"/>
                      <a:pt x="5723" y="4"/>
                      <a:pt x="5723" y="3"/>
                    </a:cubicBezTo>
                    <a:cubicBezTo>
                      <a:pt x="5723" y="2"/>
                      <a:pt x="5724" y="1"/>
                      <a:pt x="5725" y="1"/>
                    </a:cubicBezTo>
                    <a:close/>
                    <a:moveTo>
                      <a:pt x="5733" y="1"/>
                    </a:moveTo>
                    <a:lnTo>
                      <a:pt x="5733" y="1"/>
                    </a:lnTo>
                    <a:cubicBezTo>
                      <a:pt x="5734" y="1"/>
                      <a:pt x="5735" y="2"/>
                      <a:pt x="5735" y="3"/>
                    </a:cubicBezTo>
                    <a:cubicBezTo>
                      <a:pt x="5735" y="4"/>
                      <a:pt x="5734" y="5"/>
                      <a:pt x="5733" y="5"/>
                    </a:cubicBezTo>
                    <a:lnTo>
                      <a:pt x="5733" y="5"/>
                    </a:lnTo>
                    <a:cubicBezTo>
                      <a:pt x="5732" y="5"/>
                      <a:pt x="5731" y="4"/>
                      <a:pt x="5731" y="3"/>
                    </a:cubicBezTo>
                    <a:cubicBezTo>
                      <a:pt x="5731" y="2"/>
                      <a:pt x="5732" y="1"/>
                      <a:pt x="5733" y="1"/>
                    </a:cubicBezTo>
                    <a:close/>
                    <a:moveTo>
                      <a:pt x="5741" y="1"/>
                    </a:moveTo>
                    <a:lnTo>
                      <a:pt x="5741" y="1"/>
                    </a:lnTo>
                    <a:cubicBezTo>
                      <a:pt x="5742" y="1"/>
                      <a:pt x="5743" y="2"/>
                      <a:pt x="5743" y="3"/>
                    </a:cubicBezTo>
                    <a:cubicBezTo>
                      <a:pt x="5743" y="4"/>
                      <a:pt x="5742" y="5"/>
                      <a:pt x="5741" y="5"/>
                    </a:cubicBezTo>
                    <a:lnTo>
                      <a:pt x="5741" y="5"/>
                    </a:lnTo>
                    <a:cubicBezTo>
                      <a:pt x="5740" y="5"/>
                      <a:pt x="5739" y="4"/>
                      <a:pt x="5739" y="3"/>
                    </a:cubicBezTo>
                    <a:cubicBezTo>
                      <a:pt x="5739" y="2"/>
                      <a:pt x="5740" y="1"/>
                      <a:pt x="5741" y="1"/>
                    </a:cubicBezTo>
                    <a:close/>
                    <a:moveTo>
                      <a:pt x="5749" y="1"/>
                    </a:moveTo>
                    <a:lnTo>
                      <a:pt x="5749" y="1"/>
                    </a:lnTo>
                    <a:cubicBezTo>
                      <a:pt x="5750" y="1"/>
                      <a:pt x="5751" y="2"/>
                      <a:pt x="5751" y="3"/>
                    </a:cubicBezTo>
                    <a:cubicBezTo>
                      <a:pt x="5751" y="4"/>
                      <a:pt x="5750" y="5"/>
                      <a:pt x="5749" y="5"/>
                    </a:cubicBezTo>
                    <a:lnTo>
                      <a:pt x="5749" y="5"/>
                    </a:lnTo>
                    <a:cubicBezTo>
                      <a:pt x="5748" y="5"/>
                      <a:pt x="5747" y="4"/>
                      <a:pt x="5747" y="3"/>
                    </a:cubicBezTo>
                    <a:cubicBezTo>
                      <a:pt x="5747" y="2"/>
                      <a:pt x="5748" y="1"/>
                      <a:pt x="5749" y="1"/>
                    </a:cubicBezTo>
                    <a:close/>
                    <a:moveTo>
                      <a:pt x="5757" y="1"/>
                    </a:moveTo>
                    <a:lnTo>
                      <a:pt x="5757" y="1"/>
                    </a:lnTo>
                    <a:cubicBezTo>
                      <a:pt x="5758" y="1"/>
                      <a:pt x="5759" y="2"/>
                      <a:pt x="5759" y="3"/>
                    </a:cubicBezTo>
                    <a:cubicBezTo>
                      <a:pt x="5759" y="4"/>
                      <a:pt x="5758" y="5"/>
                      <a:pt x="5757" y="5"/>
                    </a:cubicBezTo>
                    <a:lnTo>
                      <a:pt x="5757" y="5"/>
                    </a:lnTo>
                    <a:cubicBezTo>
                      <a:pt x="5756" y="5"/>
                      <a:pt x="5755" y="4"/>
                      <a:pt x="5755" y="3"/>
                    </a:cubicBezTo>
                    <a:cubicBezTo>
                      <a:pt x="5755" y="2"/>
                      <a:pt x="5756" y="1"/>
                      <a:pt x="5757" y="1"/>
                    </a:cubicBezTo>
                    <a:close/>
                    <a:moveTo>
                      <a:pt x="5765" y="1"/>
                    </a:moveTo>
                    <a:lnTo>
                      <a:pt x="5765" y="1"/>
                    </a:lnTo>
                    <a:cubicBezTo>
                      <a:pt x="5766" y="1"/>
                      <a:pt x="5767" y="2"/>
                      <a:pt x="5767" y="3"/>
                    </a:cubicBezTo>
                    <a:cubicBezTo>
                      <a:pt x="5767" y="4"/>
                      <a:pt x="5766" y="5"/>
                      <a:pt x="5765" y="5"/>
                    </a:cubicBezTo>
                    <a:lnTo>
                      <a:pt x="5765" y="5"/>
                    </a:lnTo>
                    <a:cubicBezTo>
                      <a:pt x="5764" y="5"/>
                      <a:pt x="5763" y="4"/>
                      <a:pt x="5763" y="3"/>
                    </a:cubicBezTo>
                    <a:cubicBezTo>
                      <a:pt x="5763" y="2"/>
                      <a:pt x="5764" y="1"/>
                      <a:pt x="5765" y="1"/>
                    </a:cubicBezTo>
                    <a:close/>
                    <a:moveTo>
                      <a:pt x="5773" y="1"/>
                    </a:moveTo>
                    <a:lnTo>
                      <a:pt x="5773" y="1"/>
                    </a:lnTo>
                    <a:cubicBezTo>
                      <a:pt x="5774" y="1"/>
                      <a:pt x="5775" y="2"/>
                      <a:pt x="5775" y="3"/>
                    </a:cubicBezTo>
                    <a:cubicBezTo>
                      <a:pt x="5775" y="4"/>
                      <a:pt x="5774" y="5"/>
                      <a:pt x="5773" y="5"/>
                    </a:cubicBezTo>
                    <a:lnTo>
                      <a:pt x="5773" y="5"/>
                    </a:lnTo>
                    <a:cubicBezTo>
                      <a:pt x="5772" y="5"/>
                      <a:pt x="5771" y="4"/>
                      <a:pt x="5771" y="3"/>
                    </a:cubicBezTo>
                    <a:cubicBezTo>
                      <a:pt x="5771" y="2"/>
                      <a:pt x="5772" y="1"/>
                      <a:pt x="5773" y="1"/>
                    </a:cubicBezTo>
                    <a:close/>
                    <a:moveTo>
                      <a:pt x="5781" y="1"/>
                    </a:moveTo>
                    <a:lnTo>
                      <a:pt x="5781" y="1"/>
                    </a:lnTo>
                    <a:cubicBezTo>
                      <a:pt x="5782" y="1"/>
                      <a:pt x="5783" y="2"/>
                      <a:pt x="5783" y="3"/>
                    </a:cubicBezTo>
                    <a:cubicBezTo>
                      <a:pt x="5783" y="4"/>
                      <a:pt x="5782" y="5"/>
                      <a:pt x="5781" y="5"/>
                    </a:cubicBezTo>
                    <a:lnTo>
                      <a:pt x="5781" y="5"/>
                    </a:lnTo>
                    <a:cubicBezTo>
                      <a:pt x="5780" y="5"/>
                      <a:pt x="5779" y="4"/>
                      <a:pt x="5779" y="3"/>
                    </a:cubicBezTo>
                    <a:cubicBezTo>
                      <a:pt x="5779" y="2"/>
                      <a:pt x="5780" y="1"/>
                      <a:pt x="5781" y="1"/>
                    </a:cubicBezTo>
                    <a:close/>
                    <a:moveTo>
                      <a:pt x="5789" y="1"/>
                    </a:moveTo>
                    <a:lnTo>
                      <a:pt x="5789" y="1"/>
                    </a:lnTo>
                    <a:cubicBezTo>
                      <a:pt x="5790" y="1"/>
                      <a:pt x="5791" y="2"/>
                      <a:pt x="5791" y="3"/>
                    </a:cubicBezTo>
                    <a:cubicBezTo>
                      <a:pt x="5791" y="4"/>
                      <a:pt x="5790" y="5"/>
                      <a:pt x="5789" y="5"/>
                    </a:cubicBezTo>
                    <a:lnTo>
                      <a:pt x="5789" y="5"/>
                    </a:lnTo>
                    <a:cubicBezTo>
                      <a:pt x="5788" y="5"/>
                      <a:pt x="5787" y="4"/>
                      <a:pt x="5787" y="3"/>
                    </a:cubicBezTo>
                    <a:cubicBezTo>
                      <a:pt x="5787" y="2"/>
                      <a:pt x="5788" y="1"/>
                      <a:pt x="5789" y="1"/>
                    </a:cubicBezTo>
                    <a:close/>
                    <a:moveTo>
                      <a:pt x="5797" y="1"/>
                    </a:moveTo>
                    <a:lnTo>
                      <a:pt x="5797" y="1"/>
                    </a:lnTo>
                    <a:cubicBezTo>
                      <a:pt x="5798" y="1"/>
                      <a:pt x="5799" y="2"/>
                      <a:pt x="5799" y="3"/>
                    </a:cubicBezTo>
                    <a:cubicBezTo>
                      <a:pt x="5799" y="4"/>
                      <a:pt x="5798" y="5"/>
                      <a:pt x="5797" y="5"/>
                    </a:cubicBezTo>
                    <a:lnTo>
                      <a:pt x="5797" y="5"/>
                    </a:lnTo>
                    <a:cubicBezTo>
                      <a:pt x="5796" y="5"/>
                      <a:pt x="5795" y="4"/>
                      <a:pt x="5795" y="3"/>
                    </a:cubicBezTo>
                    <a:cubicBezTo>
                      <a:pt x="5795" y="2"/>
                      <a:pt x="5796" y="1"/>
                      <a:pt x="5797" y="1"/>
                    </a:cubicBezTo>
                    <a:close/>
                    <a:moveTo>
                      <a:pt x="5805" y="1"/>
                    </a:moveTo>
                    <a:lnTo>
                      <a:pt x="5805" y="1"/>
                    </a:lnTo>
                    <a:cubicBezTo>
                      <a:pt x="5806" y="1"/>
                      <a:pt x="5807" y="2"/>
                      <a:pt x="5807" y="3"/>
                    </a:cubicBezTo>
                    <a:cubicBezTo>
                      <a:pt x="5807" y="4"/>
                      <a:pt x="5806" y="5"/>
                      <a:pt x="5805" y="5"/>
                    </a:cubicBezTo>
                    <a:lnTo>
                      <a:pt x="5805" y="5"/>
                    </a:lnTo>
                    <a:cubicBezTo>
                      <a:pt x="5804" y="5"/>
                      <a:pt x="5803" y="4"/>
                      <a:pt x="5803" y="3"/>
                    </a:cubicBezTo>
                    <a:cubicBezTo>
                      <a:pt x="5803" y="2"/>
                      <a:pt x="5804" y="1"/>
                      <a:pt x="5805" y="1"/>
                    </a:cubicBezTo>
                    <a:close/>
                    <a:moveTo>
                      <a:pt x="5813" y="1"/>
                    </a:moveTo>
                    <a:lnTo>
                      <a:pt x="5813" y="1"/>
                    </a:lnTo>
                    <a:cubicBezTo>
                      <a:pt x="5814" y="1"/>
                      <a:pt x="5815" y="2"/>
                      <a:pt x="5815" y="3"/>
                    </a:cubicBezTo>
                    <a:cubicBezTo>
                      <a:pt x="5815" y="4"/>
                      <a:pt x="5814" y="5"/>
                      <a:pt x="5813" y="5"/>
                    </a:cubicBezTo>
                    <a:lnTo>
                      <a:pt x="5813" y="5"/>
                    </a:lnTo>
                    <a:cubicBezTo>
                      <a:pt x="5812" y="5"/>
                      <a:pt x="5811" y="4"/>
                      <a:pt x="5811" y="3"/>
                    </a:cubicBezTo>
                    <a:cubicBezTo>
                      <a:pt x="5811" y="2"/>
                      <a:pt x="5812" y="1"/>
                      <a:pt x="5813" y="1"/>
                    </a:cubicBezTo>
                    <a:close/>
                    <a:moveTo>
                      <a:pt x="5821" y="1"/>
                    </a:moveTo>
                    <a:lnTo>
                      <a:pt x="5821" y="1"/>
                    </a:lnTo>
                    <a:cubicBezTo>
                      <a:pt x="5822" y="1"/>
                      <a:pt x="5823" y="2"/>
                      <a:pt x="5823" y="3"/>
                    </a:cubicBezTo>
                    <a:cubicBezTo>
                      <a:pt x="5823" y="4"/>
                      <a:pt x="5822" y="5"/>
                      <a:pt x="5821" y="5"/>
                    </a:cubicBezTo>
                    <a:lnTo>
                      <a:pt x="5821" y="5"/>
                    </a:lnTo>
                    <a:cubicBezTo>
                      <a:pt x="5820" y="5"/>
                      <a:pt x="5819" y="4"/>
                      <a:pt x="5819" y="3"/>
                    </a:cubicBezTo>
                    <a:cubicBezTo>
                      <a:pt x="5819" y="2"/>
                      <a:pt x="5820" y="1"/>
                      <a:pt x="5821" y="1"/>
                    </a:cubicBezTo>
                    <a:close/>
                    <a:moveTo>
                      <a:pt x="5829" y="1"/>
                    </a:moveTo>
                    <a:lnTo>
                      <a:pt x="5829" y="1"/>
                    </a:lnTo>
                    <a:cubicBezTo>
                      <a:pt x="5830" y="1"/>
                      <a:pt x="5831" y="2"/>
                      <a:pt x="5831" y="3"/>
                    </a:cubicBezTo>
                    <a:cubicBezTo>
                      <a:pt x="5831" y="4"/>
                      <a:pt x="5830" y="5"/>
                      <a:pt x="5829" y="5"/>
                    </a:cubicBezTo>
                    <a:lnTo>
                      <a:pt x="5829" y="5"/>
                    </a:lnTo>
                    <a:cubicBezTo>
                      <a:pt x="5828" y="5"/>
                      <a:pt x="5827" y="4"/>
                      <a:pt x="5827" y="3"/>
                    </a:cubicBezTo>
                    <a:cubicBezTo>
                      <a:pt x="5827" y="2"/>
                      <a:pt x="5828" y="1"/>
                      <a:pt x="5829" y="1"/>
                    </a:cubicBezTo>
                    <a:close/>
                    <a:moveTo>
                      <a:pt x="5837" y="1"/>
                    </a:moveTo>
                    <a:lnTo>
                      <a:pt x="5837" y="1"/>
                    </a:lnTo>
                    <a:cubicBezTo>
                      <a:pt x="5838" y="1"/>
                      <a:pt x="5839" y="2"/>
                      <a:pt x="5839" y="3"/>
                    </a:cubicBezTo>
                    <a:cubicBezTo>
                      <a:pt x="5839" y="4"/>
                      <a:pt x="5838" y="5"/>
                      <a:pt x="5837" y="5"/>
                    </a:cubicBezTo>
                    <a:lnTo>
                      <a:pt x="5837" y="5"/>
                    </a:lnTo>
                    <a:cubicBezTo>
                      <a:pt x="5836" y="5"/>
                      <a:pt x="5835" y="4"/>
                      <a:pt x="5835" y="3"/>
                    </a:cubicBezTo>
                    <a:cubicBezTo>
                      <a:pt x="5835" y="2"/>
                      <a:pt x="5836" y="1"/>
                      <a:pt x="5837" y="1"/>
                    </a:cubicBezTo>
                    <a:close/>
                    <a:moveTo>
                      <a:pt x="5845" y="1"/>
                    </a:moveTo>
                    <a:lnTo>
                      <a:pt x="5845" y="1"/>
                    </a:lnTo>
                    <a:cubicBezTo>
                      <a:pt x="5846" y="1"/>
                      <a:pt x="5847" y="2"/>
                      <a:pt x="5847" y="3"/>
                    </a:cubicBezTo>
                    <a:cubicBezTo>
                      <a:pt x="5847" y="4"/>
                      <a:pt x="5846" y="5"/>
                      <a:pt x="5845" y="5"/>
                    </a:cubicBezTo>
                    <a:lnTo>
                      <a:pt x="5845" y="5"/>
                    </a:lnTo>
                    <a:cubicBezTo>
                      <a:pt x="5844" y="5"/>
                      <a:pt x="5843" y="4"/>
                      <a:pt x="5843" y="3"/>
                    </a:cubicBezTo>
                    <a:cubicBezTo>
                      <a:pt x="5843" y="2"/>
                      <a:pt x="5844" y="1"/>
                      <a:pt x="5845" y="1"/>
                    </a:cubicBezTo>
                    <a:close/>
                    <a:moveTo>
                      <a:pt x="5853" y="1"/>
                    </a:moveTo>
                    <a:lnTo>
                      <a:pt x="5853" y="1"/>
                    </a:lnTo>
                    <a:cubicBezTo>
                      <a:pt x="5854" y="1"/>
                      <a:pt x="5855" y="2"/>
                      <a:pt x="5855" y="3"/>
                    </a:cubicBezTo>
                    <a:cubicBezTo>
                      <a:pt x="5855" y="4"/>
                      <a:pt x="5854" y="5"/>
                      <a:pt x="5853" y="5"/>
                    </a:cubicBezTo>
                    <a:lnTo>
                      <a:pt x="5853" y="5"/>
                    </a:lnTo>
                    <a:cubicBezTo>
                      <a:pt x="5852" y="5"/>
                      <a:pt x="5851" y="4"/>
                      <a:pt x="5851" y="3"/>
                    </a:cubicBezTo>
                    <a:cubicBezTo>
                      <a:pt x="5851" y="2"/>
                      <a:pt x="5852" y="1"/>
                      <a:pt x="5853" y="1"/>
                    </a:cubicBezTo>
                    <a:close/>
                    <a:moveTo>
                      <a:pt x="5861" y="1"/>
                    </a:moveTo>
                    <a:lnTo>
                      <a:pt x="5861" y="1"/>
                    </a:lnTo>
                    <a:cubicBezTo>
                      <a:pt x="5862" y="1"/>
                      <a:pt x="5863" y="2"/>
                      <a:pt x="5863" y="3"/>
                    </a:cubicBezTo>
                    <a:cubicBezTo>
                      <a:pt x="5863" y="4"/>
                      <a:pt x="5862" y="5"/>
                      <a:pt x="5861" y="5"/>
                    </a:cubicBezTo>
                    <a:lnTo>
                      <a:pt x="5861" y="5"/>
                    </a:lnTo>
                    <a:cubicBezTo>
                      <a:pt x="5860" y="5"/>
                      <a:pt x="5859" y="4"/>
                      <a:pt x="5859" y="3"/>
                    </a:cubicBezTo>
                    <a:cubicBezTo>
                      <a:pt x="5859" y="2"/>
                      <a:pt x="5860" y="1"/>
                      <a:pt x="5861" y="1"/>
                    </a:cubicBezTo>
                    <a:close/>
                    <a:moveTo>
                      <a:pt x="5869" y="1"/>
                    </a:moveTo>
                    <a:lnTo>
                      <a:pt x="5869" y="1"/>
                    </a:lnTo>
                    <a:cubicBezTo>
                      <a:pt x="5870" y="1"/>
                      <a:pt x="5871" y="2"/>
                      <a:pt x="5871" y="3"/>
                    </a:cubicBezTo>
                    <a:cubicBezTo>
                      <a:pt x="5871" y="4"/>
                      <a:pt x="5870" y="5"/>
                      <a:pt x="5869" y="5"/>
                    </a:cubicBezTo>
                    <a:lnTo>
                      <a:pt x="5869" y="5"/>
                    </a:lnTo>
                    <a:cubicBezTo>
                      <a:pt x="5868" y="5"/>
                      <a:pt x="5867" y="4"/>
                      <a:pt x="5867" y="3"/>
                    </a:cubicBezTo>
                    <a:cubicBezTo>
                      <a:pt x="5867" y="2"/>
                      <a:pt x="5868" y="1"/>
                      <a:pt x="5869" y="1"/>
                    </a:cubicBezTo>
                    <a:close/>
                    <a:moveTo>
                      <a:pt x="5877" y="1"/>
                    </a:moveTo>
                    <a:lnTo>
                      <a:pt x="5877" y="1"/>
                    </a:lnTo>
                    <a:cubicBezTo>
                      <a:pt x="5878" y="1"/>
                      <a:pt x="5879" y="2"/>
                      <a:pt x="5879" y="3"/>
                    </a:cubicBezTo>
                    <a:cubicBezTo>
                      <a:pt x="5879" y="4"/>
                      <a:pt x="5878" y="5"/>
                      <a:pt x="5877" y="5"/>
                    </a:cubicBezTo>
                    <a:lnTo>
                      <a:pt x="5877" y="5"/>
                    </a:lnTo>
                    <a:cubicBezTo>
                      <a:pt x="5876" y="5"/>
                      <a:pt x="5875" y="4"/>
                      <a:pt x="5875" y="3"/>
                    </a:cubicBezTo>
                    <a:cubicBezTo>
                      <a:pt x="5875" y="2"/>
                      <a:pt x="5876" y="1"/>
                      <a:pt x="5877" y="1"/>
                    </a:cubicBezTo>
                    <a:close/>
                    <a:moveTo>
                      <a:pt x="5885" y="1"/>
                    </a:moveTo>
                    <a:lnTo>
                      <a:pt x="5885" y="1"/>
                    </a:lnTo>
                    <a:cubicBezTo>
                      <a:pt x="5886" y="1"/>
                      <a:pt x="5887" y="2"/>
                      <a:pt x="5887" y="3"/>
                    </a:cubicBezTo>
                    <a:cubicBezTo>
                      <a:pt x="5887" y="4"/>
                      <a:pt x="5886" y="5"/>
                      <a:pt x="5885" y="5"/>
                    </a:cubicBezTo>
                    <a:lnTo>
                      <a:pt x="5885" y="5"/>
                    </a:lnTo>
                    <a:cubicBezTo>
                      <a:pt x="5884" y="5"/>
                      <a:pt x="5883" y="4"/>
                      <a:pt x="5883" y="3"/>
                    </a:cubicBezTo>
                    <a:cubicBezTo>
                      <a:pt x="5883" y="2"/>
                      <a:pt x="5884" y="1"/>
                      <a:pt x="5885" y="1"/>
                    </a:cubicBezTo>
                    <a:close/>
                    <a:moveTo>
                      <a:pt x="5893" y="1"/>
                    </a:moveTo>
                    <a:lnTo>
                      <a:pt x="5893" y="1"/>
                    </a:lnTo>
                    <a:cubicBezTo>
                      <a:pt x="5894" y="1"/>
                      <a:pt x="5895" y="2"/>
                      <a:pt x="5895" y="3"/>
                    </a:cubicBezTo>
                    <a:cubicBezTo>
                      <a:pt x="5895" y="4"/>
                      <a:pt x="5894" y="5"/>
                      <a:pt x="5893" y="5"/>
                    </a:cubicBezTo>
                    <a:lnTo>
                      <a:pt x="5893" y="5"/>
                    </a:lnTo>
                    <a:cubicBezTo>
                      <a:pt x="5892" y="5"/>
                      <a:pt x="5891" y="4"/>
                      <a:pt x="5891" y="3"/>
                    </a:cubicBezTo>
                    <a:cubicBezTo>
                      <a:pt x="5891" y="2"/>
                      <a:pt x="5892" y="1"/>
                      <a:pt x="5893" y="1"/>
                    </a:cubicBezTo>
                    <a:close/>
                    <a:moveTo>
                      <a:pt x="5901" y="1"/>
                    </a:moveTo>
                    <a:lnTo>
                      <a:pt x="5901" y="1"/>
                    </a:lnTo>
                    <a:cubicBezTo>
                      <a:pt x="5902" y="1"/>
                      <a:pt x="5903" y="2"/>
                      <a:pt x="5903" y="3"/>
                    </a:cubicBezTo>
                    <a:cubicBezTo>
                      <a:pt x="5903" y="4"/>
                      <a:pt x="5902" y="5"/>
                      <a:pt x="5901" y="5"/>
                    </a:cubicBezTo>
                    <a:lnTo>
                      <a:pt x="5901" y="5"/>
                    </a:lnTo>
                    <a:cubicBezTo>
                      <a:pt x="5900" y="5"/>
                      <a:pt x="5899" y="4"/>
                      <a:pt x="5899" y="3"/>
                    </a:cubicBezTo>
                    <a:cubicBezTo>
                      <a:pt x="5899" y="2"/>
                      <a:pt x="5900" y="1"/>
                      <a:pt x="5901" y="1"/>
                    </a:cubicBezTo>
                    <a:close/>
                    <a:moveTo>
                      <a:pt x="5909" y="1"/>
                    </a:moveTo>
                    <a:lnTo>
                      <a:pt x="5909" y="1"/>
                    </a:lnTo>
                    <a:cubicBezTo>
                      <a:pt x="5910" y="1"/>
                      <a:pt x="5911" y="2"/>
                      <a:pt x="5911" y="3"/>
                    </a:cubicBezTo>
                    <a:cubicBezTo>
                      <a:pt x="5911" y="4"/>
                      <a:pt x="5910" y="5"/>
                      <a:pt x="5909" y="5"/>
                    </a:cubicBezTo>
                    <a:lnTo>
                      <a:pt x="5909" y="5"/>
                    </a:lnTo>
                    <a:cubicBezTo>
                      <a:pt x="5908" y="5"/>
                      <a:pt x="5907" y="4"/>
                      <a:pt x="5907" y="3"/>
                    </a:cubicBezTo>
                    <a:cubicBezTo>
                      <a:pt x="5907" y="2"/>
                      <a:pt x="5908" y="1"/>
                      <a:pt x="5909" y="1"/>
                    </a:cubicBezTo>
                    <a:close/>
                    <a:moveTo>
                      <a:pt x="5917" y="1"/>
                    </a:moveTo>
                    <a:lnTo>
                      <a:pt x="5917" y="1"/>
                    </a:lnTo>
                    <a:cubicBezTo>
                      <a:pt x="5918" y="1"/>
                      <a:pt x="5919" y="2"/>
                      <a:pt x="5919" y="3"/>
                    </a:cubicBezTo>
                    <a:cubicBezTo>
                      <a:pt x="5919" y="4"/>
                      <a:pt x="5918" y="5"/>
                      <a:pt x="5917" y="5"/>
                    </a:cubicBezTo>
                    <a:lnTo>
                      <a:pt x="5917" y="5"/>
                    </a:lnTo>
                    <a:cubicBezTo>
                      <a:pt x="5916" y="5"/>
                      <a:pt x="5915" y="4"/>
                      <a:pt x="5915" y="3"/>
                    </a:cubicBezTo>
                    <a:cubicBezTo>
                      <a:pt x="5915" y="2"/>
                      <a:pt x="5916" y="1"/>
                      <a:pt x="5917" y="1"/>
                    </a:cubicBezTo>
                    <a:close/>
                    <a:moveTo>
                      <a:pt x="5925" y="1"/>
                    </a:moveTo>
                    <a:lnTo>
                      <a:pt x="5925" y="1"/>
                    </a:lnTo>
                    <a:cubicBezTo>
                      <a:pt x="5926" y="1"/>
                      <a:pt x="5927" y="2"/>
                      <a:pt x="5927" y="3"/>
                    </a:cubicBezTo>
                    <a:cubicBezTo>
                      <a:pt x="5927" y="4"/>
                      <a:pt x="5926" y="5"/>
                      <a:pt x="5925" y="5"/>
                    </a:cubicBezTo>
                    <a:lnTo>
                      <a:pt x="5925" y="5"/>
                    </a:lnTo>
                    <a:cubicBezTo>
                      <a:pt x="5924" y="5"/>
                      <a:pt x="5923" y="4"/>
                      <a:pt x="5923" y="3"/>
                    </a:cubicBezTo>
                    <a:cubicBezTo>
                      <a:pt x="5923" y="2"/>
                      <a:pt x="5924" y="1"/>
                      <a:pt x="5925" y="1"/>
                    </a:cubicBezTo>
                    <a:close/>
                    <a:moveTo>
                      <a:pt x="5933" y="1"/>
                    </a:moveTo>
                    <a:lnTo>
                      <a:pt x="5933" y="1"/>
                    </a:lnTo>
                    <a:cubicBezTo>
                      <a:pt x="5934" y="1"/>
                      <a:pt x="5935" y="2"/>
                      <a:pt x="5935" y="3"/>
                    </a:cubicBezTo>
                    <a:cubicBezTo>
                      <a:pt x="5935" y="4"/>
                      <a:pt x="5934" y="5"/>
                      <a:pt x="5933" y="5"/>
                    </a:cubicBezTo>
                    <a:lnTo>
                      <a:pt x="5933" y="5"/>
                    </a:lnTo>
                    <a:cubicBezTo>
                      <a:pt x="5932" y="5"/>
                      <a:pt x="5931" y="4"/>
                      <a:pt x="5931" y="3"/>
                    </a:cubicBezTo>
                    <a:cubicBezTo>
                      <a:pt x="5931" y="2"/>
                      <a:pt x="5932" y="1"/>
                      <a:pt x="5933" y="1"/>
                    </a:cubicBezTo>
                    <a:close/>
                    <a:moveTo>
                      <a:pt x="5941" y="1"/>
                    </a:moveTo>
                    <a:lnTo>
                      <a:pt x="5941" y="1"/>
                    </a:lnTo>
                    <a:cubicBezTo>
                      <a:pt x="5942" y="1"/>
                      <a:pt x="5943" y="2"/>
                      <a:pt x="5943" y="3"/>
                    </a:cubicBezTo>
                    <a:cubicBezTo>
                      <a:pt x="5943" y="4"/>
                      <a:pt x="5942" y="5"/>
                      <a:pt x="5941" y="5"/>
                    </a:cubicBezTo>
                    <a:lnTo>
                      <a:pt x="5941" y="5"/>
                    </a:lnTo>
                    <a:cubicBezTo>
                      <a:pt x="5940" y="5"/>
                      <a:pt x="5939" y="4"/>
                      <a:pt x="5939" y="3"/>
                    </a:cubicBezTo>
                    <a:cubicBezTo>
                      <a:pt x="5939" y="2"/>
                      <a:pt x="5940" y="1"/>
                      <a:pt x="5941" y="1"/>
                    </a:cubicBezTo>
                    <a:close/>
                    <a:moveTo>
                      <a:pt x="5949" y="1"/>
                    </a:moveTo>
                    <a:lnTo>
                      <a:pt x="5949" y="1"/>
                    </a:lnTo>
                    <a:cubicBezTo>
                      <a:pt x="5950" y="1"/>
                      <a:pt x="5951" y="2"/>
                      <a:pt x="5951" y="3"/>
                    </a:cubicBezTo>
                    <a:cubicBezTo>
                      <a:pt x="5951" y="4"/>
                      <a:pt x="5950" y="5"/>
                      <a:pt x="5949" y="5"/>
                    </a:cubicBezTo>
                    <a:lnTo>
                      <a:pt x="5949" y="5"/>
                    </a:lnTo>
                    <a:cubicBezTo>
                      <a:pt x="5948" y="5"/>
                      <a:pt x="5947" y="4"/>
                      <a:pt x="5947" y="3"/>
                    </a:cubicBezTo>
                    <a:cubicBezTo>
                      <a:pt x="5947" y="2"/>
                      <a:pt x="5948" y="1"/>
                      <a:pt x="5949" y="1"/>
                    </a:cubicBezTo>
                    <a:close/>
                    <a:moveTo>
                      <a:pt x="5957" y="1"/>
                    </a:moveTo>
                    <a:lnTo>
                      <a:pt x="5957" y="1"/>
                    </a:lnTo>
                    <a:cubicBezTo>
                      <a:pt x="5958" y="1"/>
                      <a:pt x="5959" y="2"/>
                      <a:pt x="5959" y="3"/>
                    </a:cubicBezTo>
                    <a:cubicBezTo>
                      <a:pt x="5959" y="4"/>
                      <a:pt x="5958" y="5"/>
                      <a:pt x="5957" y="5"/>
                    </a:cubicBezTo>
                    <a:lnTo>
                      <a:pt x="5957" y="5"/>
                    </a:lnTo>
                    <a:cubicBezTo>
                      <a:pt x="5956" y="5"/>
                      <a:pt x="5955" y="4"/>
                      <a:pt x="5955" y="3"/>
                    </a:cubicBezTo>
                    <a:cubicBezTo>
                      <a:pt x="5955" y="2"/>
                      <a:pt x="5956" y="1"/>
                      <a:pt x="5957" y="1"/>
                    </a:cubicBezTo>
                    <a:close/>
                    <a:moveTo>
                      <a:pt x="5965" y="1"/>
                    </a:moveTo>
                    <a:lnTo>
                      <a:pt x="5965" y="1"/>
                    </a:lnTo>
                    <a:cubicBezTo>
                      <a:pt x="5966" y="1"/>
                      <a:pt x="5967" y="2"/>
                      <a:pt x="5967" y="3"/>
                    </a:cubicBezTo>
                    <a:cubicBezTo>
                      <a:pt x="5967" y="4"/>
                      <a:pt x="5966" y="5"/>
                      <a:pt x="5965" y="5"/>
                    </a:cubicBezTo>
                    <a:lnTo>
                      <a:pt x="5965" y="5"/>
                    </a:lnTo>
                    <a:cubicBezTo>
                      <a:pt x="5964" y="5"/>
                      <a:pt x="5963" y="4"/>
                      <a:pt x="5963" y="3"/>
                    </a:cubicBezTo>
                    <a:cubicBezTo>
                      <a:pt x="5963" y="2"/>
                      <a:pt x="5964" y="1"/>
                      <a:pt x="5965" y="1"/>
                    </a:cubicBezTo>
                    <a:close/>
                    <a:moveTo>
                      <a:pt x="5973" y="1"/>
                    </a:moveTo>
                    <a:lnTo>
                      <a:pt x="5973" y="1"/>
                    </a:lnTo>
                    <a:cubicBezTo>
                      <a:pt x="5974" y="1"/>
                      <a:pt x="5975" y="2"/>
                      <a:pt x="5975" y="3"/>
                    </a:cubicBezTo>
                    <a:cubicBezTo>
                      <a:pt x="5975" y="4"/>
                      <a:pt x="5974" y="5"/>
                      <a:pt x="5973" y="5"/>
                    </a:cubicBezTo>
                    <a:lnTo>
                      <a:pt x="5973" y="5"/>
                    </a:lnTo>
                    <a:cubicBezTo>
                      <a:pt x="5972" y="5"/>
                      <a:pt x="5971" y="4"/>
                      <a:pt x="5971" y="3"/>
                    </a:cubicBezTo>
                    <a:cubicBezTo>
                      <a:pt x="5971" y="2"/>
                      <a:pt x="5972" y="1"/>
                      <a:pt x="5973" y="1"/>
                    </a:cubicBezTo>
                    <a:close/>
                    <a:moveTo>
                      <a:pt x="5981" y="1"/>
                    </a:moveTo>
                    <a:lnTo>
                      <a:pt x="5981" y="1"/>
                    </a:lnTo>
                    <a:cubicBezTo>
                      <a:pt x="5982" y="1"/>
                      <a:pt x="5983" y="2"/>
                      <a:pt x="5983" y="3"/>
                    </a:cubicBezTo>
                    <a:cubicBezTo>
                      <a:pt x="5983" y="4"/>
                      <a:pt x="5982" y="5"/>
                      <a:pt x="5981" y="5"/>
                    </a:cubicBezTo>
                    <a:lnTo>
                      <a:pt x="5981" y="5"/>
                    </a:lnTo>
                    <a:cubicBezTo>
                      <a:pt x="5980" y="5"/>
                      <a:pt x="5979" y="4"/>
                      <a:pt x="5979" y="3"/>
                    </a:cubicBezTo>
                    <a:cubicBezTo>
                      <a:pt x="5979" y="2"/>
                      <a:pt x="5980" y="1"/>
                      <a:pt x="5981" y="1"/>
                    </a:cubicBezTo>
                    <a:close/>
                    <a:moveTo>
                      <a:pt x="5989" y="1"/>
                    </a:moveTo>
                    <a:lnTo>
                      <a:pt x="5989" y="1"/>
                    </a:lnTo>
                    <a:cubicBezTo>
                      <a:pt x="5990" y="1"/>
                      <a:pt x="5991" y="2"/>
                      <a:pt x="5991" y="3"/>
                    </a:cubicBezTo>
                    <a:cubicBezTo>
                      <a:pt x="5991" y="4"/>
                      <a:pt x="5990" y="5"/>
                      <a:pt x="5989" y="5"/>
                    </a:cubicBezTo>
                    <a:lnTo>
                      <a:pt x="5989" y="5"/>
                    </a:lnTo>
                    <a:cubicBezTo>
                      <a:pt x="5988" y="5"/>
                      <a:pt x="5987" y="4"/>
                      <a:pt x="5987" y="3"/>
                    </a:cubicBezTo>
                    <a:cubicBezTo>
                      <a:pt x="5987" y="2"/>
                      <a:pt x="5988" y="1"/>
                      <a:pt x="5989" y="1"/>
                    </a:cubicBezTo>
                    <a:close/>
                    <a:moveTo>
                      <a:pt x="5997" y="1"/>
                    </a:moveTo>
                    <a:lnTo>
                      <a:pt x="5997" y="1"/>
                    </a:lnTo>
                    <a:cubicBezTo>
                      <a:pt x="5998" y="1"/>
                      <a:pt x="5999" y="2"/>
                      <a:pt x="5999" y="3"/>
                    </a:cubicBezTo>
                    <a:cubicBezTo>
                      <a:pt x="5999" y="4"/>
                      <a:pt x="5998" y="5"/>
                      <a:pt x="5997" y="5"/>
                    </a:cubicBezTo>
                    <a:lnTo>
                      <a:pt x="5997" y="5"/>
                    </a:lnTo>
                    <a:cubicBezTo>
                      <a:pt x="5996" y="5"/>
                      <a:pt x="5995" y="4"/>
                      <a:pt x="5995" y="3"/>
                    </a:cubicBezTo>
                    <a:cubicBezTo>
                      <a:pt x="5995" y="2"/>
                      <a:pt x="5996" y="1"/>
                      <a:pt x="5997" y="1"/>
                    </a:cubicBezTo>
                    <a:close/>
                    <a:moveTo>
                      <a:pt x="6005" y="1"/>
                    </a:moveTo>
                    <a:lnTo>
                      <a:pt x="6005" y="1"/>
                    </a:lnTo>
                    <a:cubicBezTo>
                      <a:pt x="6006" y="1"/>
                      <a:pt x="6007" y="2"/>
                      <a:pt x="6007" y="3"/>
                    </a:cubicBezTo>
                    <a:cubicBezTo>
                      <a:pt x="6007" y="4"/>
                      <a:pt x="6006" y="5"/>
                      <a:pt x="6005" y="5"/>
                    </a:cubicBezTo>
                    <a:lnTo>
                      <a:pt x="6005" y="5"/>
                    </a:lnTo>
                    <a:cubicBezTo>
                      <a:pt x="6004" y="5"/>
                      <a:pt x="6003" y="4"/>
                      <a:pt x="6003" y="3"/>
                    </a:cubicBezTo>
                    <a:cubicBezTo>
                      <a:pt x="6003" y="2"/>
                      <a:pt x="6004" y="1"/>
                      <a:pt x="6005" y="1"/>
                    </a:cubicBezTo>
                    <a:close/>
                    <a:moveTo>
                      <a:pt x="6013" y="1"/>
                    </a:moveTo>
                    <a:lnTo>
                      <a:pt x="6013" y="1"/>
                    </a:lnTo>
                    <a:cubicBezTo>
                      <a:pt x="6014" y="1"/>
                      <a:pt x="6015" y="2"/>
                      <a:pt x="6015" y="3"/>
                    </a:cubicBezTo>
                    <a:cubicBezTo>
                      <a:pt x="6015" y="4"/>
                      <a:pt x="6014" y="5"/>
                      <a:pt x="6013" y="5"/>
                    </a:cubicBezTo>
                    <a:lnTo>
                      <a:pt x="6013" y="5"/>
                    </a:lnTo>
                    <a:cubicBezTo>
                      <a:pt x="6012" y="5"/>
                      <a:pt x="6011" y="4"/>
                      <a:pt x="6011" y="3"/>
                    </a:cubicBezTo>
                    <a:cubicBezTo>
                      <a:pt x="6011" y="2"/>
                      <a:pt x="6012" y="1"/>
                      <a:pt x="6013" y="1"/>
                    </a:cubicBezTo>
                    <a:close/>
                    <a:moveTo>
                      <a:pt x="6021" y="1"/>
                    </a:moveTo>
                    <a:lnTo>
                      <a:pt x="6021" y="1"/>
                    </a:lnTo>
                    <a:cubicBezTo>
                      <a:pt x="6022" y="1"/>
                      <a:pt x="6023" y="2"/>
                      <a:pt x="6023" y="3"/>
                    </a:cubicBezTo>
                    <a:cubicBezTo>
                      <a:pt x="6023" y="4"/>
                      <a:pt x="6022" y="5"/>
                      <a:pt x="6021" y="5"/>
                    </a:cubicBezTo>
                    <a:lnTo>
                      <a:pt x="6021" y="5"/>
                    </a:lnTo>
                    <a:cubicBezTo>
                      <a:pt x="6020" y="5"/>
                      <a:pt x="6019" y="4"/>
                      <a:pt x="6019" y="3"/>
                    </a:cubicBezTo>
                    <a:cubicBezTo>
                      <a:pt x="6019" y="2"/>
                      <a:pt x="6020" y="1"/>
                      <a:pt x="6021" y="1"/>
                    </a:cubicBezTo>
                    <a:close/>
                    <a:moveTo>
                      <a:pt x="6029" y="1"/>
                    </a:moveTo>
                    <a:lnTo>
                      <a:pt x="6029" y="1"/>
                    </a:lnTo>
                    <a:cubicBezTo>
                      <a:pt x="6030" y="1"/>
                      <a:pt x="6031" y="2"/>
                      <a:pt x="6031" y="3"/>
                    </a:cubicBezTo>
                    <a:cubicBezTo>
                      <a:pt x="6031" y="4"/>
                      <a:pt x="6030" y="5"/>
                      <a:pt x="6029" y="5"/>
                    </a:cubicBezTo>
                    <a:lnTo>
                      <a:pt x="6029" y="5"/>
                    </a:lnTo>
                    <a:cubicBezTo>
                      <a:pt x="6028" y="5"/>
                      <a:pt x="6027" y="4"/>
                      <a:pt x="6027" y="3"/>
                    </a:cubicBezTo>
                    <a:cubicBezTo>
                      <a:pt x="6027" y="2"/>
                      <a:pt x="6028" y="1"/>
                      <a:pt x="6029" y="1"/>
                    </a:cubicBezTo>
                    <a:close/>
                    <a:moveTo>
                      <a:pt x="6037" y="1"/>
                    </a:moveTo>
                    <a:lnTo>
                      <a:pt x="6037" y="1"/>
                    </a:lnTo>
                    <a:cubicBezTo>
                      <a:pt x="6038" y="1"/>
                      <a:pt x="6039" y="2"/>
                      <a:pt x="6039" y="3"/>
                    </a:cubicBezTo>
                    <a:cubicBezTo>
                      <a:pt x="6039" y="4"/>
                      <a:pt x="6038" y="5"/>
                      <a:pt x="6037" y="5"/>
                    </a:cubicBezTo>
                    <a:lnTo>
                      <a:pt x="6037" y="5"/>
                    </a:lnTo>
                    <a:cubicBezTo>
                      <a:pt x="6036" y="5"/>
                      <a:pt x="6035" y="4"/>
                      <a:pt x="6035" y="3"/>
                    </a:cubicBezTo>
                    <a:cubicBezTo>
                      <a:pt x="6035" y="2"/>
                      <a:pt x="6036" y="1"/>
                      <a:pt x="6037" y="1"/>
                    </a:cubicBezTo>
                    <a:close/>
                    <a:moveTo>
                      <a:pt x="6045" y="1"/>
                    </a:moveTo>
                    <a:lnTo>
                      <a:pt x="6045" y="1"/>
                    </a:lnTo>
                    <a:cubicBezTo>
                      <a:pt x="6046" y="1"/>
                      <a:pt x="6047" y="2"/>
                      <a:pt x="6047" y="3"/>
                    </a:cubicBezTo>
                    <a:cubicBezTo>
                      <a:pt x="6047" y="4"/>
                      <a:pt x="6046" y="5"/>
                      <a:pt x="6045" y="5"/>
                    </a:cubicBezTo>
                    <a:lnTo>
                      <a:pt x="6045" y="5"/>
                    </a:lnTo>
                    <a:cubicBezTo>
                      <a:pt x="6044" y="5"/>
                      <a:pt x="6043" y="4"/>
                      <a:pt x="6043" y="3"/>
                    </a:cubicBezTo>
                    <a:cubicBezTo>
                      <a:pt x="6043" y="2"/>
                      <a:pt x="6044" y="1"/>
                      <a:pt x="6045" y="1"/>
                    </a:cubicBezTo>
                    <a:close/>
                    <a:moveTo>
                      <a:pt x="6053" y="1"/>
                    </a:moveTo>
                    <a:lnTo>
                      <a:pt x="6053" y="1"/>
                    </a:lnTo>
                    <a:cubicBezTo>
                      <a:pt x="6054" y="1"/>
                      <a:pt x="6055" y="2"/>
                      <a:pt x="6055" y="3"/>
                    </a:cubicBezTo>
                    <a:cubicBezTo>
                      <a:pt x="6055" y="4"/>
                      <a:pt x="6054" y="5"/>
                      <a:pt x="6053" y="5"/>
                    </a:cubicBezTo>
                    <a:lnTo>
                      <a:pt x="6053" y="5"/>
                    </a:lnTo>
                    <a:cubicBezTo>
                      <a:pt x="6052" y="5"/>
                      <a:pt x="6051" y="4"/>
                      <a:pt x="6051" y="3"/>
                    </a:cubicBezTo>
                    <a:cubicBezTo>
                      <a:pt x="6051" y="2"/>
                      <a:pt x="6052" y="1"/>
                      <a:pt x="6053" y="1"/>
                    </a:cubicBezTo>
                    <a:close/>
                    <a:moveTo>
                      <a:pt x="6061" y="1"/>
                    </a:moveTo>
                    <a:lnTo>
                      <a:pt x="6061" y="1"/>
                    </a:lnTo>
                    <a:cubicBezTo>
                      <a:pt x="6062" y="1"/>
                      <a:pt x="6063" y="2"/>
                      <a:pt x="6063" y="3"/>
                    </a:cubicBezTo>
                    <a:cubicBezTo>
                      <a:pt x="6063" y="4"/>
                      <a:pt x="6062" y="5"/>
                      <a:pt x="6061" y="5"/>
                    </a:cubicBezTo>
                    <a:lnTo>
                      <a:pt x="6061" y="5"/>
                    </a:lnTo>
                    <a:cubicBezTo>
                      <a:pt x="6060" y="5"/>
                      <a:pt x="6059" y="4"/>
                      <a:pt x="6059" y="3"/>
                    </a:cubicBezTo>
                    <a:cubicBezTo>
                      <a:pt x="6059" y="2"/>
                      <a:pt x="6060" y="1"/>
                      <a:pt x="6061" y="1"/>
                    </a:cubicBezTo>
                    <a:close/>
                    <a:moveTo>
                      <a:pt x="6069" y="1"/>
                    </a:moveTo>
                    <a:lnTo>
                      <a:pt x="6069" y="1"/>
                    </a:lnTo>
                    <a:cubicBezTo>
                      <a:pt x="6070" y="1"/>
                      <a:pt x="6071" y="2"/>
                      <a:pt x="6071" y="3"/>
                    </a:cubicBezTo>
                    <a:cubicBezTo>
                      <a:pt x="6071" y="4"/>
                      <a:pt x="6070" y="5"/>
                      <a:pt x="6069" y="5"/>
                    </a:cubicBezTo>
                    <a:lnTo>
                      <a:pt x="6069" y="5"/>
                    </a:lnTo>
                    <a:cubicBezTo>
                      <a:pt x="6068" y="5"/>
                      <a:pt x="6067" y="4"/>
                      <a:pt x="6067" y="3"/>
                    </a:cubicBezTo>
                    <a:cubicBezTo>
                      <a:pt x="6067" y="2"/>
                      <a:pt x="6068" y="1"/>
                      <a:pt x="6069" y="1"/>
                    </a:cubicBezTo>
                    <a:close/>
                    <a:moveTo>
                      <a:pt x="6077" y="1"/>
                    </a:moveTo>
                    <a:lnTo>
                      <a:pt x="6077" y="1"/>
                    </a:lnTo>
                    <a:cubicBezTo>
                      <a:pt x="6078" y="1"/>
                      <a:pt x="6079" y="2"/>
                      <a:pt x="6079" y="3"/>
                    </a:cubicBezTo>
                    <a:cubicBezTo>
                      <a:pt x="6079" y="4"/>
                      <a:pt x="6078" y="5"/>
                      <a:pt x="6077" y="5"/>
                    </a:cubicBezTo>
                    <a:lnTo>
                      <a:pt x="6077" y="5"/>
                    </a:lnTo>
                    <a:cubicBezTo>
                      <a:pt x="6076" y="5"/>
                      <a:pt x="6075" y="4"/>
                      <a:pt x="6075" y="3"/>
                    </a:cubicBezTo>
                    <a:cubicBezTo>
                      <a:pt x="6075" y="2"/>
                      <a:pt x="6076" y="1"/>
                      <a:pt x="6077" y="1"/>
                    </a:cubicBezTo>
                    <a:close/>
                    <a:moveTo>
                      <a:pt x="6085" y="1"/>
                    </a:moveTo>
                    <a:lnTo>
                      <a:pt x="6085" y="1"/>
                    </a:lnTo>
                    <a:cubicBezTo>
                      <a:pt x="6086" y="1"/>
                      <a:pt x="6087" y="2"/>
                      <a:pt x="6087" y="3"/>
                    </a:cubicBezTo>
                    <a:cubicBezTo>
                      <a:pt x="6087" y="4"/>
                      <a:pt x="6086" y="5"/>
                      <a:pt x="6085" y="5"/>
                    </a:cubicBezTo>
                    <a:lnTo>
                      <a:pt x="6085" y="5"/>
                    </a:lnTo>
                    <a:cubicBezTo>
                      <a:pt x="6084" y="5"/>
                      <a:pt x="6083" y="4"/>
                      <a:pt x="6083" y="3"/>
                    </a:cubicBezTo>
                    <a:cubicBezTo>
                      <a:pt x="6083" y="2"/>
                      <a:pt x="6084" y="1"/>
                      <a:pt x="6085" y="1"/>
                    </a:cubicBezTo>
                    <a:close/>
                    <a:moveTo>
                      <a:pt x="6093" y="1"/>
                    </a:moveTo>
                    <a:lnTo>
                      <a:pt x="6093" y="1"/>
                    </a:lnTo>
                    <a:cubicBezTo>
                      <a:pt x="6094" y="1"/>
                      <a:pt x="6095" y="2"/>
                      <a:pt x="6095" y="3"/>
                    </a:cubicBezTo>
                    <a:cubicBezTo>
                      <a:pt x="6095" y="4"/>
                      <a:pt x="6094" y="5"/>
                      <a:pt x="6093" y="5"/>
                    </a:cubicBezTo>
                    <a:lnTo>
                      <a:pt x="6093" y="5"/>
                    </a:lnTo>
                    <a:cubicBezTo>
                      <a:pt x="6092" y="5"/>
                      <a:pt x="6091" y="4"/>
                      <a:pt x="6091" y="3"/>
                    </a:cubicBezTo>
                    <a:cubicBezTo>
                      <a:pt x="6091" y="2"/>
                      <a:pt x="6092" y="1"/>
                      <a:pt x="6093" y="1"/>
                    </a:cubicBezTo>
                    <a:close/>
                    <a:moveTo>
                      <a:pt x="6101" y="1"/>
                    </a:moveTo>
                    <a:lnTo>
                      <a:pt x="6101" y="1"/>
                    </a:lnTo>
                    <a:cubicBezTo>
                      <a:pt x="6102" y="1"/>
                      <a:pt x="6103" y="2"/>
                      <a:pt x="6103" y="3"/>
                    </a:cubicBezTo>
                    <a:cubicBezTo>
                      <a:pt x="6103" y="4"/>
                      <a:pt x="6102" y="5"/>
                      <a:pt x="6101" y="5"/>
                    </a:cubicBezTo>
                    <a:lnTo>
                      <a:pt x="6101" y="5"/>
                    </a:lnTo>
                    <a:cubicBezTo>
                      <a:pt x="6100" y="5"/>
                      <a:pt x="6099" y="4"/>
                      <a:pt x="6099" y="3"/>
                    </a:cubicBezTo>
                    <a:cubicBezTo>
                      <a:pt x="6099" y="2"/>
                      <a:pt x="6100" y="1"/>
                      <a:pt x="6101" y="1"/>
                    </a:cubicBezTo>
                    <a:close/>
                    <a:moveTo>
                      <a:pt x="6109" y="1"/>
                    </a:moveTo>
                    <a:lnTo>
                      <a:pt x="6109" y="1"/>
                    </a:lnTo>
                    <a:cubicBezTo>
                      <a:pt x="6110" y="1"/>
                      <a:pt x="6111" y="2"/>
                      <a:pt x="6111" y="3"/>
                    </a:cubicBezTo>
                    <a:cubicBezTo>
                      <a:pt x="6111" y="4"/>
                      <a:pt x="6110" y="5"/>
                      <a:pt x="6109" y="5"/>
                    </a:cubicBezTo>
                    <a:lnTo>
                      <a:pt x="6109" y="5"/>
                    </a:lnTo>
                    <a:cubicBezTo>
                      <a:pt x="6108" y="5"/>
                      <a:pt x="6107" y="4"/>
                      <a:pt x="6107" y="3"/>
                    </a:cubicBezTo>
                    <a:cubicBezTo>
                      <a:pt x="6107" y="2"/>
                      <a:pt x="6108" y="1"/>
                      <a:pt x="6109" y="1"/>
                    </a:cubicBezTo>
                    <a:close/>
                    <a:moveTo>
                      <a:pt x="6117" y="1"/>
                    </a:moveTo>
                    <a:lnTo>
                      <a:pt x="6117" y="1"/>
                    </a:lnTo>
                    <a:cubicBezTo>
                      <a:pt x="6118" y="1"/>
                      <a:pt x="6119" y="2"/>
                      <a:pt x="6119" y="3"/>
                    </a:cubicBezTo>
                    <a:cubicBezTo>
                      <a:pt x="6119" y="4"/>
                      <a:pt x="6118" y="5"/>
                      <a:pt x="6117" y="5"/>
                    </a:cubicBezTo>
                    <a:lnTo>
                      <a:pt x="6117" y="5"/>
                    </a:lnTo>
                    <a:cubicBezTo>
                      <a:pt x="6116" y="5"/>
                      <a:pt x="6115" y="4"/>
                      <a:pt x="6115" y="3"/>
                    </a:cubicBezTo>
                    <a:cubicBezTo>
                      <a:pt x="6115" y="2"/>
                      <a:pt x="6116" y="1"/>
                      <a:pt x="6117" y="1"/>
                    </a:cubicBezTo>
                    <a:close/>
                    <a:moveTo>
                      <a:pt x="6125" y="1"/>
                    </a:moveTo>
                    <a:lnTo>
                      <a:pt x="6125" y="1"/>
                    </a:lnTo>
                    <a:cubicBezTo>
                      <a:pt x="6126" y="1"/>
                      <a:pt x="6127" y="2"/>
                      <a:pt x="6127" y="3"/>
                    </a:cubicBezTo>
                    <a:cubicBezTo>
                      <a:pt x="6127" y="4"/>
                      <a:pt x="6126" y="5"/>
                      <a:pt x="6125" y="5"/>
                    </a:cubicBezTo>
                    <a:lnTo>
                      <a:pt x="6125" y="5"/>
                    </a:lnTo>
                    <a:cubicBezTo>
                      <a:pt x="6124" y="5"/>
                      <a:pt x="6123" y="4"/>
                      <a:pt x="6123" y="3"/>
                    </a:cubicBezTo>
                    <a:cubicBezTo>
                      <a:pt x="6123" y="2"/>
                      <a:pt x="6124" y="1"/>
                      <a:pt x="6125" y="1"/>
                    </a:cubicBezTo>
                    <a:close/>
                    <a:moveTo>
                      <a:pt x="6133" y="1"/>
                    </a:moveTo>
                    <a:lnTo>
                      <a:pt x="6133" y="1"/>
                    </a:lnTo>
                    <a:cubicBezTo>
                      <a:pt x="6134" y="1"/>
                      <a:pt x="6135" y="2"/>
                      <a:pt x="6135" y="3"/>
                    </a:cubicBezTo>
                    <a:cubicBezTo>
                      <a:pt x="6135" y="4"/>
                      <a:pt x="6134" y="5"/>
                      <a:pt x="6133" y="5"/>
                    </a:cubicBezTo>
                    <a:lnTo>
                      <a:pt x="6133" y="5"/>
                    </a:lnTo>
                    <a:cubicBezTo>
                      <a:pt x="6132" y="5"/>
                      <a:pt x="6131" y="4"/>
                      <a:pt x="6131" y="3"/>
                    </a:cubicBezTo>
                    <a:cubicBezTo>
                      <a:pt x="6131" y="2"/>
                      <a:pt x="6132" y="1"/>
                      <a:pt x="6133" y="1"/>
                    </a:cubicBezTo>
                    <a:close/>
                    <a:moveTo>
                      <a:pt x="6141" y="1"/>
                    </a:moveTo>
                    <a:lnTo>
                      <a:pt x="6141" y="1"/>
                    </a:lnTo>
                    <a:cubicBezTo>
                      <a:pt x="6142" y="1"/>
                      <a:pt x="6143" y="2"/>
                      <a:pt x="6143" y="3"/>
                    </a:cubicBezTo>
                    <a:cubicBezTo>
                      <a:pt x="6143" y="4"/>
                      <a:pt x="6142" y="5"/>
                      <a:pt x="6141" y="5"/>
                    </a:cubicBezTo>
                    <a:lnTo>
                      <a:pt x="6141" y="5"/>
                    </a:lnTo>
                    <a:cubicBezTo>
                      <a:pt x="6140" y="5"/>
                      <a:pt x="6139" y="4"/>
                      <a:pt x="6139" y="3"/>
                    </a:cubicBezTo>
                    <a:cubicBezTo>
                      <a:pt x="6139" y="2"/>
                      <a:pt x="6140" y="1"/>
                      <a:pt x="6141" y="1"/>
                    </a:cubicBezTo>
                    <a:close/>
                    <a:moveTo>
                      <a:pt x="6149" y="1"/>
                    </a:moveTo>
                    <a:lnTo>
                      <a:pt x="6149" y="1"/>
                    </a:lnTo>
                    <a:cubicBezTo>
                      <a:pt x="6150" y="1"/>
                      <a:pt x="6151" y="2"/>
                      <a:pt x="6151" y="3"/>
                    </a:cubicBezTo>
                    <a:cubicBezTo>
                      <a:pt x="6151" y="4"/>
                      <a:pt x="6150" y="5"/>
                      <a:pt x="6149" y="5"/>
                    </a:cubicBezTo>
                    <a:lnTo>
                      <a:pt x="6149" y="5"/>
                    </a:lnTo>
                    <a:cubicBezTo>
                      <a:pt x="6148" y="5"/>
                      <a:pt x="6147" y="4"/>
                      <a:pt x="6147" y="3"/>
                    </a:cubicBezTo>
                    <a:cubicBezTo>
                      <a:pt x="6147" y="2"/>
                      <a:pt x="6148" y="1"/>
                      <a:pt x="6149" y="1"/>
                    </a:cubicBezTo>
                    <a:close/>
                    <a:moveTo>
                      <a:pt x="6157" y="1"/>
                    </a:moveTo>
                    <a:lnTo>
                      <a:pt x="6157" y="1"/>
                    </a:lnTo>
                    <a:cubicBezTo>
                      <a:pt x="6158" y="1"/>
                      <a:pt x="6159" y="2"/>
                      <a:pt x="6159" y="3"/>
                    </a:cubicBezTo>
                    <a:cubicBezTo>
                      <a:pt x="6159" y="4"/>
                      <a:pt x="6158" y="5"/>
                      <a:pt x="6157" y="5"/>
                    </a:cubicBezTo>
                    <a:lnTo>
                      <a:pt x="6157" y="5"/>
                    </a:lnTo>
                    <a:cubicBezTo>
                      <a:pt x="6156" y="5"/>
                      <a:pt x="6155" y="4"/>
                      <a:pt x="6155" y="3"/>
                    </a:cubicBezTo>
                    <a:cubicBezTo>
                      <a:pt x="6155" y="2"/>
                      <a:pt x="6156" y="1"/>
                      <a:pt x="6157" y="1"/>
                    </a:cubicBezTo>
                    <a:close/>
                    <a:moveTo>
                      <a:pt x="6165" y="1"/>
                    </a:moveTo>
                    <a:lnTo>
                      <a:pt x="6165" y="1"/>
                    </a:lnTo>
                    <a:cubicBezTo>
                      <a:pt x="6166" y="1"/>
                      <a:pt x="6167" y="2"/>
                      <a:pt x="6167" y="3"/>
                    </a:cubicBezTo>
                    <a:cubicBezTo>
                      <a:pt x="6167" y="4"/>
                      <a:pt x="6166" y="5"/>
                      <a:pt x="6165" y="5"/>
                    </a:cubicBezTo>
                    <a:lnTo>
                      <a:pt x="6165" y="5"/>
                    </a:lnTo>
                    <a:cubicBezTo>
                      <a:pt x="6164" y="5"/>
                      <a:pt x="6163" y="4"/>
                      <a:pt x="6163" y="3"/>
                    </a:cubicBezTo>
                    <a:cubicBezTo>
                      <a:pt x="6163" y="2"/>
                      <a:pt x="6164" y="1"/>
                      <a:pt x="6165" y="1"/>
                    </a:cubicBezTo>
                    <a:close/>
                    <a:moveTo>
                      <a:pt x="6173" y="1"/>
                    </a:moveTo>
                    <a:lnTo>
                      <a:pt x="6173" y="1"/>
                    </a:lnTo>
                    <a:cubicBezTo>
                      <a:pt x="6174" y="1"/>
                      <a:pt x="6175" y="2"/>
                      <a:pt x="6175" y="3"/>
                    </a:cubicBezTo>
                    <a:cubicBezTo>
                      <a:pt x="6175" y="4"/>
                      <a:pt x="6174" y="5"/>
                      <a:pt x="6173" y="5"/>
                    </a:cubicBezTo>
                    <a:lnTo>
                      <a:pt x="6173" y="5"/>
                    </a:lnTo>
                    <a:cubicBezTo>
                      <a:pt x="6172" y="5"/>
                      <a:pt x="6171" y="4"/>
                      <a:pt x="6171" y="3"/>
                    </a:cubicBezTo>
                    <a:cubicBezTo>
                      <a:pt x="6171" y="2"/>
                      <a:pt x="6172" y="1"/>
                      <a:pt x="6173" y="1"/>
                    </a:cubicBezTo>
                    <a:close/>
                    <a:moveTo>
                      <a:pt x="6181" y="1"/>
                    </a:moveTo>
                    <a:lnTo>
                      <a:pt x="6181" y="1"/>
                    </a:lnTo>
                    <a:cubicBezTo>
                      <a:pt x="6182" y="1"/>
                      <a:pt x="6183" y="2"/>
                      <a:pt x="6183" y="3"/>
                    </a:cubicBezTo>
                    <a:cubicBezTo>
                      <a:pt x="6183" y="4"/>
                      <a:pt x="6182" y="5"/>
                      <a:pt x="6181" y="5"/>
                    </a:cubicBezTo>
                    <a:lnTo>
                      <a:pt x="6181" y="5"/>
                    </a:lnTo>
                    <a:cubicBezTo>
                      <a:pt x="6180" y="5"/>
                      <a:pt x="6179" y="4"/>
                      <a:pt x="6179" y="3"/>
                    </a:cubicBezTo>
                    <a:cubicBezTo>
                      <a:pt x="6179" y="2"/>
                      <a:pt x="6180" y="1"/>
                      <a:pt x="6181" y="1"/>
                    </a:cubicBezTo>
                    <a:close/>
                    <a:moveTo>
                      <a:pt x="6189" y="1"/>
                    </a:moveTo>
                    <a:lnTo>
                      <a:pt x="6189" y="1"/>
                    </a:lnTo>
                    <a:cubicBezTo>
                      <a:pt x="6190" y="1"/>
                      <a:pt x="6191" y="2"/>
                      <a:pt x="6191" y="3"/>
                    </a:cubicBezTo>
                    <a:cubicBezTo>
                      <a:pt x="6191" y="4"/>
                      <a:pt x="6190" y="5"/>
                      <a:pt x="6189" y="5"/>
                    </a:cubicBezTo>
                    <a:lnTo>
                      <a:pt x="6189" y="5"/>
                    </a:lnTo>
                    <a:cubicBezTo>
                      <a:pt x="6188" y="5"/>
                      <a:pt x="6187" y="4"/>
                      <a:pt x="6187" y="3"/>
                    </a:cubicBezTo>
                    <a:cubicBezTo>
                      <a:pt x="6187" y="2"/>
                      <a:pt x="6188" y="1"/>
                      <a:pt x="6189" y="1"/>
                    </a:cubicBezTo>
                    <a:close/>
                    <a:moveTo>
                      <a:pt x="6197" y="1"/>
                    </a:moveTo>
                    <a:lnTo>
                      <a:pt x="6197" y="1"/>
                    </a:lnTo>
                    <a:cubicBezTo>
                      <a:pt x="6198" y="1"/>
                      <a:pt x="6199" y="2"/>
                      <a:pt x="6199" y="3"/>
                    </a:cubicBezTo>
                    <a:cubicBezTo>
                      <a:pt x="6199" y="4"/>
                      <a:pt x="6198" y="5"/>
                      <a:pt x="6197" y="5"/>
                    </a:cubicBezTo>
                    <a:lnTo>
                      <a:pt x="6197" y="5"/>
                    </a:lnTo>
                    <a:cubicBezTo>
                      <a:pt x="6196" y="5"/>
                      <a:pt x="6195" y="4"/>
                      <a:pt x="6195" y="3"/>
                    </a:cubicBezTo>
                    <a:cubicBezTo>
                      <a:pt x="6195" y="2"/>
                      <a:pt x="6196" y="1"/>
                      <a:pt x="6197" y="1"/>
                    </a:cubicBezTo>
                    <a:close/>
                    <a:moveTo>
                      <a:pt x="6205" y="1"/>
                    </a:moveTo>
                    <a:lnTo>
                      <a:pt x="6205" y="1"/>
                    </a:lnTo>
                    <a:cubicBezTo>
                      <a:pt x="6206" y="1"/>
                      <a:pt x="6207" y="2"/>
                      <a:pt x="6207" y="3"/>
                    </a:cubicBezTo>
                    <a:cubicBezTo>
                      <a:pt x="6207" y="4"/>
                      <a:pt x="6206" y="5"/>
                      <a:pt x="6205" y="5"/>
                    </a:cubicBezTo>
                    <a:lnTo>
                      <a:pt x="6205" y="5"/>
                    </a:lnTo>
                    <a:cubicBezTo>
                      <a:pt x="6204" y="5"/>
                      <a:pt x="6203" y="4"/>
                      <a:pt x="6203" y="3"/>
                    </a:cubicBezTo>
                    <a:cubicBezTo>
                      <a:pt x="6203" y="2"/>
                      <a:pt x="6204" y="1"/>
                      <a:pt x="6205" y="1"/>
                    </a:cubicBezTo>
                    <a:close/>
                    <a:moveTo>
                      <a:pt x="6213" y="1"/>
                    </a:moveTo>
                    <a:lnTo>
                      <a:pt x="6213" y="1"/>
                    </a:lnTo>
                    <a:cubicBezTo>
                      <a:pt x="6214" y="1"/>
                      <a:pt x="6215" y="2"/>
                      <a:pt x="6215" y="3"/>
                    </a:cubicBezTo>
                    <a:cubicBezTo>
                      <a:pt x="6215" y="4"/>
                      <a:pt x="6214" y="5"/>
                      <a:pt x="6213" y="5"/>
                    </a:cubicBezTo>
                    <a:lnTo>
                      <a:pt x="6213" y="5"/>
                    </a:lnTo>
                    <a:cubicBezTo>
                      <a:pt x="6212" y="5"/>
                      <a:pt x="6211" y="4"/>
                      <a:pt x="6211" y="3"/>
                    </a:cubicBezTo>
                    <a:cubicBezTo>
                      <a:pt x="6211" y="2"/>
                      <a:pt x="6212" y="1"/>
                      <a:pt x="6213" y="1"/>
                    </a:cubicBezTo>
                    <a:close/>
                    <a:moveTo>
                      <a:pt x="6221" y="1"/>
                    </a:moveTo>
                    <a:lnTo>
                      <a:pt x="6221" y="1"/>
                    </a:lnTo>
                    <a:cubicBezTo>
                      <a:pt x="6222" y="1"/>
                      <a:pt x="6223" y="2"/>
                      <a:pt x="6223" y="3"/>
                    </a:cubicBezTo>
                    <a:cubicBezTo>
                      <a:pt x="6223" y="4"/>
                      <a:pt x="6222" y="5"/>
                      <a:pt x="6221" y="5"/>
                    </a:cubicBezTo>
                    <a:lnTo>
                      <a:pt x="6221" y="5"/>
                    </a:lnTo>
                    <a:cubicBezTo>
                      <a:pt x="6220" y="5"/>
                      <a:pt x="6219" y="4"/>
                      <a:pt x="6219" y="3"/>
                    </a:cubicBezTo>
                    <a:cubicBezTo>
                      <a:pt x="6219" y="2"/>
                      <a:pt x="6220" y="1"/>
                      <a:pt x="6221" y="1"/>
                    </a:cubicBezTo>
                    <a:close/>
                    <a:moveTo>
                      <a:pt x="6229" y="1"/>
                    </a:moveTo>
                    <a:lnTo>
                      <a:pt x="6229" y="1"/>
                    </a:lnTo>
                    <a:cubicBezTo>
                      <a:pt x="6230" y="1"/>
                      <a:pt x="6231" y="2"/>
                      <a:pt x="6231" y="3"/>
                    </a:cubicBezTo>
                    <a:cubicBezTo>
                      <a:pt x="6231" y="4"/>
                      <a:pt x="6230" y="5"/>
                      <a:pt x="6229" y="5"/>
                    </a:cubicBezTo>
                    <a:lnTo>
                      <a:pt x="6229" y="5"/>
                    </a:lnTo>
                    <a:cubicBezTo>
                      <a:pt x="6228" y="5"/>
                      <a:pt x="6227" y="4"/>
                      <a:pt x="6227" y="3"/>
                    </a:cubicBezTo>
                    <a:cubicBezTo>
                      <a:pt x="6227" y="2"/>
                      <a:pt x="6228" y="1"/>
                      <a:pt x="6229" y="1"/>
                    </a:cubicBezTo>
                    <a:close/>
                    <a:moveTo>
                      <a:pt x="6237" y="1"/>
                    </a:moveTo>
                    <a:lnTo>
                      <a:pt x="6237" y="1"/>
                    </a:lnTo>
                    <a:cubicBezTo>
                      <a:pt x="6238" y="1"/>
                      <a:pt x="6239" y="2"/>
                      <a:pt x="6239" y="3"/>
                    </a:cubicBezTo>
                    <a:cubicBezTo>
                      <a:pt x="6239" y="4"/>
                      <a:pt x="6238" y="5"/>
                      <a:pt x="6237" y="5"/>
                    </a:cubicBezTo>
                    <a:lnTo>
                      <a:pt x="6237" y="5"/>
                    </a:lnTo>
                    <a:cubicBezTo>
                      <a:pt x="6236" y="5"/>
                      <a:pt x="6235" y="4"/>
                      <a:pt x="6235" y="3"/>
                    </a:cubicBezTo>
                    <a:cubicBezTo>
                      <a:pt x="6235" y="2"/>
                      <a:pt x="6236" y="1"/>
                      <a:pt x="6237" y="1"/>
                    </a:cubicBezTo>
                    <a:close/>
                    <a:moveTo>
                      <a:pt x="6245" y="1"/>
                    </a:moveTo>
                    <a:lnTo>
                      <a:pt x="6245" y="1"/>
                    </a:lnTo>
                    <a:cubicBezTo>
                      <a:pt x="6246" y="1"/>
                      <a:pt x="6247" y="2"/>
                      <a:pt x="6247" y="3"/>
                    </a:cubicBezTo>
                    <a:cubicBezTo>
                      <a:pt x="6247" y="4"/>
                      <a:pt x="6246" y="5"/>
                      <a:pt x="6245" y="5"/>
                    </a:cubicBezTo>
                    <a:lnTo>
                      <a:pt x="6245" y="5"/>
                    </a:lnTo>
                    <a:cubicBezTo>
                      <a:pt x="6244" y="5"/>
                      <a:pt x="6243" y="4"/>
                      <a:pt x="6243" y="3"/>
                    </a:cubicBezTo>
                    <a:cubicBezTo>
                      <a:pt x="6243" y="2"/>
                      <a:pt x="6244" y="1"/>
                      <a:pt x="6245" y="1"/>
                    </a:cubicBezTo>
                    <a:close/>
                    <a:moveTo>
                      <a:pt x="6253" y="1"/>
                    </a:moveTo>
                    <a:lnTo>
                      <a:pt x="6253" y="1"/>
                    </a:lnTo>
                    <a:cubicBezTo>
                      <a:pt x="6254" y="1"/>
                      <a:pt x="6255" y="2"/>
                      <a:pt x="6255" y="3"/>
                    </a:cubicBezTo>
                    <a:cubicBezTo>
                      <a:pt x="6255" y="4"/>
                      <a:pt x="6254" y="5"/>
                      <a:pt x="6253" y="5"/>
                    </a:cubicBezTo>
                    <a:lnTo>
                      <a:pt x="6253" y="5"/>
                    </a:lnTo>
                    <a:cubicBezTo>
                      <a:pt x="6252" y="5"/>
                      <a:pt x="6251" y="4"/>
                      <a:pt x="6251" y="3"/>
                    </a:cubicBezTo>
                    <a:cubicBezTo>
                      <a:pt x="6251" y="2"/>
                      <a:pt x="6252" y="1"/>
                      <a:pt x="6253" y="1"/>
                    </a:cubicBezTo>
                    <a:close/>
                    <a:moveTo>
                      <a:pt x="6261" y="1"/>
                    </a:moveTo>
                    <a:lnTo>
                      <a:pt x="6261" y="1"/>
                    </a:lnTo>
                    <a:cubicBezTo>
                      <a:pt x="6262" y="1"/>
                      <a:pt x="6263" y="2"/>
                      <a:pt x="6263" y="3"/>
                    </a:cubicBezTo>
                    <a:cubicBezTo>
                      <a:pt x="6263" y="4"/>
                      <a:pt x="6262" y="5"/>
                      <a:pt x="6261" y="5"/>
                    </a:cubicBezTo>
                    <a:lnTo>
                      <a:pt x="6261" y="5"/>
                    </a:lnTo>
                    <a:cubicBezTo>
                      <a:pt x="6260" y="5"/>
                      <a:pt x="6259" y="4"/>
                      <a:pt x="6259" y="3"/>
                    </a:cubicBezTo>
                    <a:cubicBezTo>
                      <a:pt x="6259" y="2"/>
                      <a:pt x="6260" y="1"/>
                      <a:pt x="6261" y="1"/>
                    </a:cubicBezTo>
                    <a:close/>
                    <a:moveTo>
                      <a:pt x="6269" y="1"/>
                    </a:moveTo>
                    <a:lnTo>
                      <a:pt x="6269" y="1"/>
                    </a:lnTo>
                    <a:cubicBezTo>
                      <a:pt x="6270" y="1"/>
                      <a:pt x="6271" y="2"/>
                      <a:pt x="6271" y="3"/>
                    </a:cubicBezTo>
                    <a:cubicBezTo>
                      <a:pt x="6271" y="4"/>
                      <a:pt x="6270" y="5"/>
                      <a:pt x="6269" y="5"/>
                    </a:cubicBezTo>
                    <a:lnTo>
                      <a:pt x="6269" y="5"/>
                    </a:lnTo>
                    <a:cubicBezTo>
                      <a:pt x="6268" y="5"/>
                      <a:pt x="6267" y="4"/>
                      <a:pt x="6267" y="3"/>
                    </a:cubicBezTo>
                    <a:cubicBezTo>
                      <a:pt x="6267" y="2"/>
                      <a:pt x="6268" y="1"/>
                      <a:pt x="6269" y="1"/>
                    </a:cubicBezTo>
                    <a:close/>
                    <a:moveTo>
                      <a:pt x="6277" y="1"/>
                    </a:moveTo>
                    <a:lnTo>
                      <a:pt x="6277" y="1"/>
                    </a:lnTo>
                    <a:cubicBezTo>
                      <a:pt x="6278" y="1"/>
                      <a:pt x="6279" y="2"/>
                      <a:pt x="6279" y="3"/>
                    </a:cubicBezTo>
                    <a:cubicBezTo>
                      <a:pt x="6279" y="4"/>
                      <a:pt x="6278" y="5"/>
                      <a:pt x="6277" y="5"/>
                    </a:cubicBezTo>
                    <a:lnTo>
                      <a:pt x="6277" y="5"/>
                    </a:lnTo>
                    <a:cubicBezTo>
                      <a:pt x="6276" y="5"/>
                      <a:pt x="6275" y="4"/>
                      <a:pt x="6275" y="3"/>
                    </a:cubicBezTo>
                    <a:cubicBezTo>
                      <a:pt x="6275" y="2"/>
                      <a:pt x="6276" y="1"/>
                      <a:pt x="6277" y="1"/>
                    </a:cubicBezTo>
                    <a:close/>
                    <a:moveTo>
                      <a:pt x="6285" y="1"/>
                    </a:moveTo>
                    <a:lnTo>
                      <a:pt x="6285" y="1"/>
                    </a:lnTo>
                    <a:cubicBezTo>
                      <a:pt x="6286" y="1"/>
                      <a:pt x="6287" y="2"/>
                      <a:pt x="6287" y="3"/>
                    </a:cubicBezTo>
                    <a:cubicBezTo>
                      <a:pt x="6287" y="4"/>
                      <a:pt x="6286" y="5"/>
                      <a:pt x="6285" y="5"/>
                    </a:cubicBezTo>
                    <a:lnTo>
                      <a:pt x="6285" y="5"/>
                    </a:lnTo>
                    <a:cubicBezTo>
                      <a:pt x="6284" y="5"/>
                      <a:pt x="6283" y="4"/>
                      <a:pt x="6283" y="3"/>
                    </a:cubicBezTo>
                    <a:cubicBezTo>
                      <a:pt x="6283" y="2"/>
                      <a:pt x="6284" y="1"/>
                      <a:pt x="6285" y="1"/>
                    </a:cubicBezTo>
                    <a:close/>
                    <a:moveTo>
                      <a:pt x="6293" y="1"/>
                    </a:moveTo>
                    <a:lnTo>
                      <a:pt x="6293" y="1"/>
                    </a:lnTo>
                    <a:cubicBezTo>
                      <a:pt x="6294" y="1"/>
                      <a:pt x="6295" y="2"/>
                      <a:pt x="6295" y="3"/>
                    </a:cubicBezTo>
                    <a:cubicBezTo>
                      <a:pt x="6295" y="4"/>
                      <a:pt x="6294" y="5"/>
                      <a:pt x="6293" y="5"/>
                    </a:cubicBezTo>
                    <a:lnTo>
                      <a:pt x="6293" y="5"/>
                    </a:lnTo>
                    <a:cubicBezTo>
                      <a:pt x="6292" y="5"/>
                      <a:pt x="6291" y="4"/>
                      <a:pt x="6291" y="3"/>
                    </a:cubicBezTo>
                    <a:cubicBezTo>
                      <a:pt x="6291" y="2"/>
                      <a:pt x="6292" y="1"/>
                      <a:pt x="6293" y="1"/>
                    </a:cubicBezTo>
                    <a:close/>
                    <a:moveTo>
                      <a:pt x="6301" y="1"/>
                    </a:moveTo>
                    <a:lnTo>
                      <a:pt x="6301" y="1"/>
                    </a:lnTo>
                    <a:cubicBezTo>
                      <a:pt x="6302" y="1"/>
                      <a:pt x="6303" y="2"/>
                      <a:pt x="6303" y="3"/>
                    </a:cubicBezTo>
                    <a:cubicBezTo>
                      <a:pt x="6303" y="4"/>
                      <a:pt x="6302" y="5"/>
                      <a:pt x="6301" y="5"/>
                    </a:cubicBezTo>
                    <a:lnTo>
                      <a:pt x="6301" y="5"/>
                    </a:lnTo>
                    <a:cubicBezTo>
                      <a:pt x="6300" y="5"/>
                      <a:pt x="6299" y="4"/>
                      <a:pt x="6299" y="3"/>
                    </a:cubicBezTo>
                    <a:cubicBezTo>
                      <a:pt x="6299" y="2"/>
                      <a:pt x="6300" y="1"/>
                      <a:pt x="6301" y="1"/>
                    </a:cubicBezTo>
                    <a:close/>
                    <a:moveTo>
                      <a:pt x="6309" y="1"/>
                    </a:moveTo>
                    <a:lnTo>
                      <a:pt x="6309" y="1"/>
                    </a:lnTo>
                    <a:cubicBezTo>
                      <a:pt x="6310" y="1"/>
                      <a:pt x="6311" y="2"/>
                      <a:pt x="6311" y="3"/>
                    </a:cubicBezTo>
                    <a:cubicBezTo>
                      <a:pt x="6311" y="4"/>
                      <a:pt x="6310" y="5"/>
                      <a:pt x="6309" y="5"/>
                    </a:cubicBezTo>
                    <a:lnTo>
                      <a:pt x="6309" y="5"/>
                    </a:lnTo>
                    <a:cubicBezTo>
                      <a:pt x="6308" y="5"/>
                      <a:pt x="6307" y="4"/>
                      <a:pt x="6307" y="3"/>
                    </a:cubicBezTo>
                    <a:cubicBezTo>
                      <a:pt x="6307" y="2"/>
                      <a:pt x="6308" y="1"/>
                      <a:pt x="6309" y="1"/>
                    </a:cubicBezTo>
                    <a:close/>
                    <a:moveTo>
                      <a:pt x="6317" y="1"/>
                    </a:moveTo>
                    <a:lnTo>
                      <a:pt x="6317" y="1"/>
                    </a:lnTo>
                    <a:cubicBezTo>
                      <a:pt x="6318" y="1"/>
                      <a:pt x="6319" y="2"/>
                      <a:pt x="6319" y="3"/>
                    </a:cubicBezTo>
                    <a:cubicBezTo>
                      <a:pt x="6319" y="4"/>
                      <a:pt x="6318" y="5"/>
                      <a:pt x="6317" y="5"/>
                    </a:cubicBezTo>
                    <a:lnTo>
                      <a:pt x="6317" y="5"/>
                    </a:lnTo>
                    <a:cubicBezTo>
                      <a:pt x="6316" y="5"/>
                      <a:pt x="6315" y="4"/>
                      <a:pt x="6315" y="3"/>
                    </a:cubicBezTo>
                    <a:cubicBezTo>
                      <a:pt x="6315" y="2"/>
                      <a:pt x="6316" y="1"/>
                      <a:pt x="6317" y="1"/>
                    </a:cubicBezTo>
                    <a:close/>
                    <a:moveTo>
                      <a:pt x="6325" y="1"/>
                    </a:moveTo>
                    <a:lnTo>
                      <a:pt x="6325" y="1"/>
                    </a:lnTo>
                    <a:cubicBezTo>
                      <a:pt x="6326" y="1"/>
                      <a:pt x="6327" y="2"/>
                      <a:pt x="6327" y="3"/>
                    </a:cubicBezTo>
                    <a:cubicBezTo>
                      <a:pt x="6327" y="4"/>
                      <a:pt x="6326" y="5"/>
                      <a:pt x="6325" y="5"/>
                    </a:cubicBezTo>
                    <a:lnTo>
                      <a:pt x="6325" y="5"/>
                    </a:lnTo>
                    <a:cubicBezTo>
                      <a:pt x="6324" y="5"/>
                      <a:pt x="6323" y="4"/>
                      <a:pt x="6323" y="3"/>
                    </a:cubicBezTo>
                    <a:cubicBezTo>
                      <a:pt x="6323" y="2"/>
                      <a:pt x="6324" y="1"/>
                      <a:pt x="6325" y="1"/>
                    </a:cubicBezTo>
                    <a:close/>
                    <a:moveTo>
                      <a:pt x="6333" y="1"/>
                    </a:moveTo>
                    <a:lnTo>
                      <a:pt x="6333" y="1"/>
                    </a:lnTo>
                    <a:cubicBezTo>
                      <a:pt x="6334" y="1"/>
                      <a:pt x="6335" y="2"/>
                      <a:pt x="6335" y="3"/>
                    </a:cubicBezTo>
                    <a:cubicBezTo>
                      <a:pt x="6335" y="4"/>
                      <a:pt x="6334" y="5"/>
                      <a:pt x="6333" y="5"/>
                    </a:cubicBezTo>
                    <a:lnTo>
                      <a:pt x="6333" y="5"/>
                    </a:lnTo>
                    <a:cubicBezTo>
                      <a:pt x="6332" y="5"/>
                      <a:pt x="6331" y="4"/>
                      <a:pt x="6331" y="3"/>
                    </a:cubicBezTo>
                    <a:cubicBezTo>
                      <a:pt x="6331" y="2"/>
                      <a:pt x="6332" y="1"/>
                      <a:pt x="6333" y="1"/>
                    </a:cubicBezTo>
                    <a:close/>
                    <a:moveTo>
                      <a:pt x="6341" y="1"/>
                    </a:moveTo>
                    <a:lnTo>
                      <a:pt x="6341" y="1"/>
                    </a:lnTo>
                    <a:cubicBezTo>
                      <a:pt x="6342" y="1"/>
                      <a:pt x="6343" y="2"/>
                      <a:pt x="6343" y="3"/>
                    </a:cubicBezTo>
                    <a:cubicBezTo>
                      <a:pt x="6343" y="4"/>
                      <a:pt x="6342" y="5"/>
                      <a:pt x="6341" y="5"/>
                    </a:cubicBezTo>
                    <a:lnTo>
                      <a:pt x="6341" y="5"/>
                    </a:lnTo>
                    <a:cubicBezTo>
                      <a:pt x="6340" y="5"/>
                      <a:pt x="6339" y="4"/>
                      <a:pt x="6339" y="3"/>
                    </a:cubicBezTo>
                    <a:cubicBezTo>
                      <a:pt x="6339" y="2"/>
                      <a:pt x="6340" y="1"/>
                      <a:pt x="6341" y="1"/>
                    </a:cubicBezTo>
                    <a:close/>
                    <a:moveTo>
                      <a:pt x="6349" y="1"/>
                    </a:moveTo>
                    <a:lnTo>
                      <a:pt x="6349" y="1"/>
                    </a:lnTo>
                    <a:cubicBezTo>
                      <a:pt x="6350" y="1"/>
                      <a:pt x="6351" y="2"/>
                      <a:pt x="6351" y="3"/>
                    </a:cubicBezTo>
                    <a:cubicBezTo>
                      <a:pt x="6351" y="4"/>
                      <a:pt x="6350" y="5"/>
                      <a:pt x="6349" y="5"/>
                    </a:cubicBezTo>
                    <a:lnTo>
                      <a:pt x="6349" y="5"/>
                    </a:lnTo>
                    <a:cubicBezTo>
                      <a:pt x="6348" y="5"/>
                      <a:pt x="6347" y="4"/>
                      <a:pt x="6347" y="3"/>
                    </a:cubicBezTo>
                    <a:cubicBezTo>
                      <a:pt x="6347" y="2"/>
                      <a:pt x="6348" y="1"/>
                      <a:pt x="6349" y="1"/>
                    </a:cubicBezTo>
                    <a:close/>
                    <a:moveTo>
                      <a:pt x="6357" y="1"/>
                    </a:moveTo>
                    <a:lnTo>
                      <a:pt x="6357" y="1"/>
                    </a:lnTo>
                    <a:cubicBezTo>
                      <a:pt x="6358" y="1"/>
                      <a:pt x="6359" y="2"/>
                      <a:pt x="6359" y="3"/>
                    </a:cubicBezTo>
                    <a:cubicBezTo>
                      <a:pt x="6359" y="4"/>
                      <a:pt x="6358" y="5"/>
                      <a:pt x="6357" y="5"/>
                    </a:cubicBezTo>
                    <a:lnTo>
                      <a:pt x="6357" y="5"/>
                    </a:lnTo>
                    <a:cubicBezTo>
                      <a:pt x="6356" y="5"/>
                      <a:pt x="6355" y="4"/>
                      <a:pt x="6355" y="3"/>
                    </a:cubicBezTo>
                    <a:cubicBezTo>
                      <a:pt x="6355" y="2"/>
                      <a:pt x="6356" y="1"/>
                      <a:pt x="6357" y="1"/>
                    </a:cubicBezTo>
                    <a:close/>
                    <a:moveTo>
                      <a:pt x="6365" y="1"/>
                    </a:moveTo>
                    <a:lnTo>
                      <a:pt x="6365" y="1"/>
                    </a:lnTo>
                    <a:cubicBezTo>
                      <a:pt x="6366" y="1"/>
                      <a:pt x="6367" y="2"/>
                      <a:pt x="6367" y="3"/>
                    </a:cubicBezTo>
                    <a:cubicBezTo>
                      <a:pt x="6367" y="4"/>
                      <a:pt x="6366" y="5"/>
                      <a:pt x="6365" y="5"/>
                    </a:cubicBezTo>
                    <a:lnTo>
                      <a:pt x="6365" y="5"/>
                    </a:lnTo>
                    <a:cubicBezTo>
                      <a:pt x="6364" y="5"/>
                      <a:pt x="6363" y="4"/>
                      <a:pt x="6363" y="3"/>
                    </a:cubicBezTo>
                    <a:cubicBezTo>
                      <a:pt x="6363" y="2"/>
                      <a:pt x="6364" y="1"/>
                      <a:pt x="6365" y="1"/>
                    </a:cubicBezTo>
                    <a:close/>
                    <a:moveTo>
                      <a:pt x="6373" y="1"/>
                    </a:moveTo>
                    <a:lnTo>
                      <a:pt x="6373" y="1"/>
                    </a:lnTo>
                    <a:cubicBezTo>
                      <a:pt x="6374" y="1"/>
                      <a:pt x="6375" y="2"/>
                      <a:pt x="6375" y="3"/>
                    </a:cubicBezTo>
                    <a:cubicBezTo>
                      <a:pt x="6375" y="4"/>
                      <a:pt x="6374" y="5"/>
                      <a:pt x="6373" y="5"/>
                    </a:cubicBezTo>
                    <a:lnTo>
                      <a:pt x="6373" y="5"/>
                    </a:lnTo>
                    <a:cubicBezTo>
                      <a:pt x="6372" y="5"/>
                      <a:pt x="6371" y="4"/>
                      <a:pt x="6371" y="3"/>
                    </a:cubicBezTo>
                    <a:cubicBezTo>
                      <a:pt x="6371" y="2"/>
                      <a:pt x="6372" y="1"/>
                      <a:pt x="6373" y="1"/>
                    </a:cubicBezTo>
                    <a:close/>
                    <a:moveTo>
                      <a:pt x="6381" y="1"/>
                    </a:moveTo>
                    <a:lnTo>
                      <a:pt x="6381" y="1"/>
                    </a:lnTo>
                    <a:cubicBezTo>
                      <a:pt x="6382" y="1"/>
                      <a:pt x="6383" y="2"/>
                      <a:pt x="6383" y="3"/>
                    </a:cubicBezTo>
                    <a:cubicBezTo>
                      <a:pt x="6383" y="4"/>
                      <a:pt x="6382" y="5"/>
                      <a:pt x="6381" y="5"/>
                    </a:cubicBezTo>
                    <a:lnTo>
                      <a:pt x="6381" y="5"/>
                    </a:lnTo>
                    <a:cubicBezTo>
                      <a:pt x="6380" y="5"/>
                      <a:pt x="6379" y="4"/>
                      <a:pt x="6379" y="3"/>
                    </a:cubicBezTo>
                    <a:cubicBezTo>
                      <a:pt x="6379" y="2"/>
                      <a:pt x="6380" y="1"/>
                      <a:pt x="6381" y="1"/>
                    </a:cubicBezTo>
                    <a:close/>
                    <a:moveTo>
                      <a:pt x="6389" y="1"/>
                    </a:moveTo>
                    <a:lnTo>
                      <a:pt x="6389" y="1"/>
                    </a:lnTo>
                    <a:cubicBezTo>
                      <a:pt x="6390" y="1"/>
                      <a:pt x="6391" y="2"/>
                      <a:pt x="6391" y="3"/>
                    </a:cubicBezTo>
                    <a:cubicBezTo>
                      <a:pt x="6391" y="4"/>
                      <a:pt x="6390" y="5"/>
                      <a:pt x="6389" y="5"/>
                    </a:cubicBezTo>
                    <a:lnTo>
                      <a:pt x="6389" y="5"/>
                    </a:lnTo>
                    <a:cubicBezTo>
                      <a:pt x="6388" y="5"/>
                      <a:pt x="6387" y="4"/>
                      <a:pt x="6387" y="3"/>
                    </a:cubicBezTo>
                    <a:cubicBezTo>
                      <a:pt x="6387" y="2"/>
                      <a:pt x="6388" y="1"/>
                      <a:pt x="6389" y="1"/>
                    </a:cubicBezTo>
                    <a:close/>
                    <a:moveTo>
                      <a:pt x="6397" y="1"/>
                    </a:moveTo>
                    <a:lnTo>
                      <a:pt x="6397" y="1"/>
                    </a:lnTo>
                    <a:cubicBezTo>
                      <a:pt x="6398" y="1"/>
                      <a:pt x="6399" y="2"/>
                      <a:pt x="6399" y="3"/>
                    </a:cubicBezTo>
                    <a:cubicBezTo>
                      <a:pt x="6399" y="4"/>
                      <a:pt x="6398" y="5"/>
                      <a:pt x="6397" y="5"/>
                    </a:cubicBezTo>
                    <a:lnTo>
                      <a:pt x="6397" y="5"/>
                    </a:lnTo>
                    <a:cubicBezTo>
                      <a:pt x="6396" y="5"/>
                      <a:pt x="6395" y="4"/>
                      <a:pt x="6395" y="3"/>
                    </a:cubicBezTo>
                    <a:cubicBezTo>
                      <a:pt x="6395" y="2"/>
                      <a:pt x="6396" y="1"/>
                      <a:pt x="6397" y="1"/>
                    </a:cubicBezTo>
                    <a:close/>
                    <a:moveTo>
                      <a:pt x="6405" y="1"/>
                    </a:moveTo>
                    <a:lnTo>
                      <a:pt x="6405" y="1"/>
                    </a:lnTo>
                    <a:cubicBezTo>
                      <a:pt x="6406" y="1"/>
                      <a:pt x="6407" y="2"/>
                      <a:pt x="6407" y="3"/>
                    </a:cubicBezTo>
                    <a:cubicBezTo>
                      <a:pt x="6407" y="4"/>
                      <a:pt x="6406" y="5"/>
                      <a:pt x="6405" y="5"/>
                    </a:cubicBezTo>
                    <a:lnTo>
                      <a:pt x="6405" y="5"/>
                    </a:lnTo>
                    <a:cubicBezTo>
                      <a:pt x="6404" y="5"/>
                      <a:pt x="6403" y="4"/>
                      <a:pt x="6403" y="3"/>
                    </a:cubicBezTo>
                    <a:cubicBezTo>
                      <a:pt x="6403" y="2"/>
                      <a:pt x="6404" y="1"/>
                      <a:pt x="6405" y="1"/>
                    </a:cubicBezTo>
                    <a:close/>
                    <a:moveTo>
                      <a:pt x="6413" y="1"/>
                    </a:moveTo>
                    <a:lnTo>
                      <a:pt x="6413" y="1"/>
                    </a:lnTo>
                    <a:cubicBezTo>
                      <a:pt x="6414" y="1"/>
                      <a:pt x="6415" y="2"/>
                      <a:pt x="6415" y="3"/>
                    </a:cubicBezTo>
                    <a:cubicBezTo>
                      <a:pt x="6415" y="4"/>
                      <a:pt x="6414" y="5"/>
                      <a:pt x="6413" y="5"/>
                    </a:cubicBezTo>
                    <a:lnTo>
                      <a:pt x="6413" y="5"/>
                    </a:lnTo>
                    <a:cubicBezTo>
                      <a:pt x="6412" y="5"/>
                      <a:pt x="6411" y="4"/>
                      <a:pt x="6411" y="3"/>
                    </a:cubicBezTo>
                    <a:cubicBezTo>
                      <a:pt x="6411" y="2"/>
                      <a:pt x="6412" y="1"/>
                      <a:pt x="6413" y="1"/>
                    </a:cubicBezTo>
                    <a:close/>
                    <a:moveTo>
                      <a:pt x="6421" y="1"/>
                    </a:moveTo>
                    <a:lnTo>
                      <a:pt x="6421" y="1"/>
                    </a:lnTo>
                    <a:cubicBezTo>
                      <a:pt x="6422" y="1"/>
                      <a:pt x="6423" y="2"/>
                      <a:pt x="6423" y="3"/>
                    </a:cubicBezTo>
                    <a:cubicBezTo>
                      <a:pt x="6423" y="4"/>
                      <a:pt x="6422" y="5"/>
                      <a:pt x="6421" y="5"/>
                    </a:cubicBezTo>
                    <a:lnTo>
                      <a:pt x="6421" y="5"/>
                    </a:lnTo>
                    <a:cubicBezTo>
                      <a:pt x="6420" y="5"/>
                      <a:pt x="6419" y="4"/>
                      <a:pt x="6419" y="3"/>
                    </a:cubicBezTo>
                    <a:cubicBezTo>
                      <a:pt x="6419" y="2"/>
                      <a:pt x="6420" y="1"/>
                      <a:pt x="6421" y="1"/>
                    </a:cubicBezTo>
                    <a:close/>
                    <a:moveTo>
                      <a:pt x="6429" y="1"/>
                    </a:moveTo>
                    <a:lnTo>
                      <a:pt x="6429" y="1"/>
                    </a:lnTo>
                    <a:cubicBezTo>
                      <a:pt x="6430" y="1"/>
                      <a:pt x="6431" y="2"/>
                      <a:pt x="6431" y="3"/>
                    </a:cubicBezTo>
                    <a:cubicBezTo>
                      <a:pt x="6431" y="4"/>
                      <a:pt x="6430" y="5"/>
                      <a:pt x="6429" y="5"/>
                    </a:cubicBezTo>
                    <a:lnTo>
                      <a:pt x="6429" y="5"/>
                    </a:lnTo>
                    <a:cubicBezTo>
                      <a:pt x="6428" y="5"/>
                      <a:pt x="6427" y="4"/>
                      <a:pt x="6427" y="3"/>
                    </a:cubicBezTo>
                    <a:cubicBezTo>
                      <a:pt x="6427" y="2"/>
                      <a:pt x="6428" y="1"/>
                      <a:pt x="6429" y="1"/>
                    </a:cubicBezTo>
                    <a:close/>
                    <a:moveTo>
                      <a:pt x="6437" y="1"/>
                    </a:moveTo>
                    <a:lnTo>
                      <a:pt x="6437" y="1"/>
                    </a:lnTo>
                    <a:cubicBezTo>
                      <a:pt x="6438" y="1"/>
                      <a:pt x="6439" y="2"/>
                      <a:pt x="6439" y="3"/>
                    </a:cubicBezTo>
                    <a:cubicBezTo>
                      <a:pt x="6439" y="4"/>
                      <a:pt x="6438" y="5"/>
                      <a:pt x="6437" y="5"/>
                    </a:cubicBezTo>
                    <a:lnTo>
                      <a:pt x="6437" y="5"/>
                    </a:lnTo>
                    <a:cubicBezTo>
                      <a:pt x="6436" y="5"/>
                      <a:pt x="6435" y="4"/>
                      <a:pt x="6435" y="3"/>
                    </a:cubicBezTo>
                    <a:cubicBezTo>
                      <a:pt x="6435" y="2"/>
                      <a:pt x="6436" y="1"/>
                      <a:pt x="6437" y="1"/>
                    </a:cubicBezTo>
                    <a:close/>
                    <a:moveTo>
                      <a:pt x="6445" y="1"/>
                    </a:moveTo>
                    <a:lnTo>
                      <a:pt x="6445" y="1"/>
                    </a:lnTo>
                    <a:cubicBezTo>
                      <a:pt x="6446" y="1"/>
                      <a:pt x="6447" y="2"/>
                      <a:pt x="6447" y="3"/>
                    </a:cubicBezTo>
                    <a:cubicBezTo>
                      <a:pt x="6447" y="4"/>
                      <a:pt x="6446" y="5"/>
                      <a:pt x="6445" y="5"/>
                    </a:cubicBezTo>
                    <a:lnTo>
                      <a:pt x="6445" y="5"/>
                    </a:lnTo>
                    <a:cubicBezTo>
                      <a:pt x="6444" y="5"/>
                      <a:pt x="6443" y="4"/>
                      <a:pt x="6443" y="3"/>
                    </a:cubicBezTo>
                    <a:cubicBezTo>
                      <a:pt x="6443" y="2"/>
                      <a:pt x="6444" y="1"/>
                      <a:pt x="6445" y="1"/>
                    </a:cubicBezTo>
                    <a:close/>
                    <a:moveTo>
                      <a:pt x="6453" y="1"/>
                    </a:moveTo>
                    <a:lnTo>
                      <a:pt x="6453" y="1"/>
                    </a:lnTo>
                    <a:cubicBezTo>
                      <a:pt x="6454" y="1"/>
                      <a:pt x="6455" y="2"/>
                      <a:pt x="6455" y="3"/>
                    </a:cubicBezTo>
                    <a:cubicBezTo>
                      <a:pt x="6455" y="4"/>
                      <a:pt x="6454" y="5"/>
                      <a:pt x="6453" y="5"/>
                    </a:cubicBezTo>
                    <a:lnTo>
                      <a:pt x="6453" y="5"/>
                    </a:lnTo>
                    <a:cubicBezTo>
                      <a:pt x="6452" y="5"/>
                      <a:pt x="6451" y="4"/>
                      <a:pt x="6451" y="3"/>
                    </a:cubicBezTo>
                    <a:cubicBezTo>
                      <a:pt x="6451" y="2"/>
                      <a:pt x="6452" y="1"/>
                      <a:pt x="6453" y="1"/>
                    </a:cubicBezTo>
                    <a:close/>
                    <a:moveTo>
                      <a:pt x="6461" y="1"/>
                    </a:moveTo>
                    <a:lnTo>
                      <a:pt x="6461" y="1"/>
                    </a:lnTo>
                    <a:cubicBezTo>
                      <a:pt x="6462" y="1"/>
                      <a:pt x="6463" y="2"/>
                      <a:pt x="6463" y="3"/>
                    </a:cubicBezTo>
                    <a:cubicBezTo>
                      <a:pt x="6463" y="4"/>
                      <a:pt x="6462" y="5"/>
                      <a:pt x="6461" y="5"/>
                    </a:cubicBezTo>
                    <a:lnTo>
                      <a:pt x="6461" y="5"/>
                    </a:lnTo>
                    <a:cubicBezTo>
                      <a:pt x="6460" y="5"/>
                      <a:pt x="6459" y="4"/>
                      <a:pt x="6459" y="3"/>
                    </a:cubicBezTo>
                    <a:cubicBezTo>
                      <a:pt x="6459" y="2"/>
                      <a:pt x="6460" y="1"/>
                      <a:pt x="6461" y="1"/>
                    </a:cubicBezTo>
                    <a:close/>
                    <a:moveTo>
                      <a:pt x="6469" y="1"/>
                    </a:moveTo>
                    <a:lnTo>
                      <a:pt x="6469" y="1"/>
                    </a:lnTo>
                    <a:cubicBezTo>
                      <a:pt x="6470" y="1"/>
                      <a:pt x="6471" y="2"/>
                      <a:pt x="6471" y="3"/>
                    </a:cubicBezTo>
                    <a:cubicBezTo>
                      <a:pt x="6471" y="4"/>
                      <a:pt x="6470" y="5"/>
                      <a:pt x="6469" y="5"/>
                    </a:cubicBezTo>
                    <a:lnTo>
                      <a:pt x="6469" y="5"/>
                    </a:lnTo>
                    <a:cubicBezTo>
                      <a:pt x="6468" y="5"/>
                      <a:pt x="6467" y="4"/>
                      <a:pt x="6467" y="3"/>
                    </a:cubicBezTo>
                    <a:cubicBezTo>
                      <a:pt x="6467" y="2"/>
                      <a:pt x="6468" y="1"/>
                      <a:pt x="6469" y="1"/>
                    </a:cubicBezTo>
                    <a:close/>
                    <a:moveTo>
                      <a:pt x="6477" y="1"/>
                    </a:moveTo>
                    <a:lnTo>
                      <a:pt x="6477" y="1"/>
                    </a:lnTo>
                    <a:cubicBezTo>
                      <a:pt x="6478" y="1"/>
                      <a:pt x="6479" y="2"/>
                      <a:pt x="6479" y="3"/>
                    </a:cubicBezTo>
                    <a:cubicBezTo>
                      <a:pt x="6479" y="4"/>
                      <a:pt x="6478" y="5"/>
                      <a:pt x="6477" y="5"/>
                    </a:cubicBezTo>
                    <a:lnTo>
                      <a:pt x="6477" y="5"/>
                    </a:lnTo>
                    <a:cubicBezTo>
                      <a:pt x="6476" y="5"/>
                      <a:pt x="6475" y="4"/>
                      <a:pt x="6475" y="3"/>
                    </a:cubicBezTo>
                    <a:cubicBezTo>
                      <a:pt x="6475" y="2"/>
                      <a:pt x="6476" y="1"/>
                      <a:pt x="6477" y="1"/>
                    </a:cubicBezTo>
                    <a:close/>
                    <a:moveTo>
                      <a:pt x="6485" y="1"/>
                    </a:moveTo>
                    <a:lnTo>
                      <a:pt x="6485" y="1"/>
                    </a:lnTo>
                    <a:cubicBezTo>
                      <a:pt x="6486" y="1"/>
                      <a:pt x="6487" y="2"/>
                      <a:pt x="6487" y="3"/>
                    </a:cubicBezTo>
                    <a:cubicBezTo>
                      <a:pt x="6487" y="4"/>
                      <a:pt x="6486" y="5"/>
                      <a:pt x="6485" y="5"/>
                    </a:cubicBezTo>
                    <a:lnTo>
                      <a:pt x="6485" y="5"/>
                    </a:lnTo>
                    <a:cubicBezTo>
                      <a:pt x="6484" y="5"/>
                      <a:pt x="6483" y="4"/>
                      <a:pt x="6483" y="3"/>
                    </a:cubicBezTo>
                    <a:cubicBezTo>
                      <a:pt x="6483" y="2"/>
                      <a:pt x="6484" y="1"/>
                      <a:pt x="6485" y="1"/>
                    </a:cubicBezTo>
                    <a:close/>
                    <a:moveTo>
                      <a:pt x="6493" y="1"/>
                    </a:moveTo>
                    <a:lnTo>
                      <a:pt x="6493" y="1"/>
                    </a:lnTo>
                    <a:cubicBezTo>
                      <a:pt x="6494" y="1"/>
                      <a:pt x="6495" y="2"/>
                      <a:pt x="6495" y="3"/>
                    </a:cubicBezTo>
                    <a:cubicBezTo>
                      <a:pt x="6495" y="4"/>
                      <a:pt x="6494" y="5"/>
                      <a:pt x="6493" y="5"/>
                    </a:cubicBezTo>
                    <a:lnTo>
                      <a:pt x="6493" y="5"/>
                    </a:lnTo>
                    <a:cubicBezTo>
                      <a:pt x="6492" y="5"/>
                      <a:pt x="6491" y="4"/>
                      <a:pt x="6491" y="3"/>
                    </a:cubicBezTo>
                    <a:cubicBezTo>
                      <a:pt x="6491" y="2"/>
                      <a:pt x="6492" y="1"/>
                      <a:pt x="6493" y="1"/>
                    </a:cubicBezTo>
                    <a:close/>
                    <a:moveTo>
                      <a:pt x="6501" y="1"/>
                    </a:moveTo>
                    <a:lnTo>
                      <a:pt x="6501" y="1"/>
                    </a:lnTo>
                    <a:cubicBezTo>
                      <a:pt x="6502" y="1"/>
                      <a:pt x="6503" y="2"/>
                      <a:pt x="6503" y="3"/>
                    </a:cubicBezTo>
                    <a:cubicBezTo>
                      <a:pt x="6503" y="4"/>
                      <a:pt x="6502" y="5"/>
                      <a:pt x="6501" y="5"/>
                    </a:cubicBezTo>
                    <a:lnTo>
                      <a:pt x="6501" y="5"/>
                    </a:lnTo>
                    <a:cubicBezTo>
                      <a:pt x="6500" y="5"/>
                      <a:pt x="6499" y="4"/>
                      <a:pt x="6499" y="3"/>
                    </a:cubicBezTo>
                    <a:cubicBezTo>
                      <a:pt x="6499" y="2"/>
                      <a:pt x="6500" y="1"/>
                      <a:pt x="6501" y="1"/>
                    </a:cubicBezTo>
                    <a:close/>
                    <a:moveTo>
                      <a:pt x="6509" y="1"/>
                    </a:moveTo>
                    <a:lnTo>
                      <a:pt x="6509" y="1"/>
                    </a:lnTo>
                    <a:cubicBezTo>
                      <a:pt x="6510" y="1"/>
                      <a:pt x="6511" y="2"/>
                      <a:pt x="6511" y="3"/>
                    </a:cubicBezTo>
                    <a:cubicBezTo>
                      <a:pt x="6511" y="4"/>
                      <a:pt x="6510" y="5"/>
                      <a:pt x="6509" y="5"/>
                    </a:cubicBezTo>
                    <a:lnTo>
                      <a:pt x="6509" y="5"/>
                    </a:lnTo>
                    <a:cubicBezTo>
                      <a:pt x="6508" y="5"/>
                      <a:pt x="6507" y="4"/>
                      <a:pt x="6507" y="3"/>
                    </a:cubicBezTo>
                    <a:cubicBezTo>
                      <a:pt x="6507" y="2"/>
                      <a:pt x="6508" y="1"/>
                      <a:pt x="6509" y="1"/>
                    </a:cubicBezTo>
                    <a:close/>
                    <a:moveTo>
                      <a:pt x="6517" y="1"/>
                    </a:moveTo>
                    <a:lnTo>
                      <a:pt x="6517" y="1"/>
                    </a:lnTo>
                    <a:cubicBezTo>
                      <a:pt x="6518" y="1"/>
                      <a:pt x="6519" y="2"/>
                      <a:pt x="6519" y="3"/>
                    </a:cubicBezTo>
                    <a:cubicBezTo>
                      <a:pt x="6519" y="4"/>
                      <a:pt x="6518" y="5"/>
                      <a:pt x="6517" y="5"/>
                    </a:cubicBezTo>
                    <a:lnTo>
                      <a:pt x="6517" y="5"/>
                    </a:lnTo>
                    <a:cubicBezTo>
                      <a:pt x="6516" y="5"/>
                      <a:pt x="6515" y="4"/>
                      <a:pt x="6515" y="3"/>
                    </a:cubicBezTo>
                    <a:cubicBezTo>
                      <a:pt x="6515" y="2"/>
                      <a:pt x="6516" y="1"/>
                      <a:pt x="6517" y="1"/>
                    </a:cubicBezTo>
                    <a:close/>
                    <a:moveTo>
                      <a:pt x="6525" y="1"/>
                    </a:moveTo>
                    <a:lnTo>
                      <a:pt x="6525" y="1"/>
                    </a:lnTo>
                    <a:cubicBezTo>
                      <a:pt x="6526" y="1"/>
                      <a:pt x="6527" y="2"/>
                      <a:pt x="6527" y="3"/>
                    </a:cubicBezTo>
                    <a:cubicBezTo>
                      <a:pt x="6527" y="4"/>
                      <a:pt x="6526" y="5"/>
                      <a:pt x="6525" y="5"/>
                    </a:cubicBezTo>
                    <a:lnTo>
                      <a:pt x="6525" y="5"/>
                    </a:lnTo>
                    <a:cubicBezTo>
                      <a:pt x="6524" y="5"/>
                      <a:pt x="6523" y="4"/>
                      <a:pt x="6523" y="3"/>
                    </a:cubicBezTo>
                    <a:cubicBezTo>
                      <a:pt x="6523" y="2"/>
                      <a:pt x="6524" y="1"/>
                      <a:pt x="6525" y="1"/>
                    </a:cubicBezTo>
                    <a:close/>
                    <a:moveTo>
                      <a:pt x="6533" y="1"/>
                    </a:moveTo>
                    <a:lnTo>
                      <a:pt x="6533" y="1"/>
                    </a:lnTo>
                    <a:cubicBezTo>
                      <a:pt x="6534" y="1"/>
                      <a:pt x="6535" y="2"/>
                      <a:pt x="6535" y="3"/>
                    </a:cubicBezTo>
                    <a:cubicBezTo>
                      <a:pt x="6535" y="4"/>
                      <a:pt x="6534" y="5"/>
                      <a:pt x="6533" y="5"/>
                    </a:cubicBezTo>
                    <a:lnTo>
                      <a:pt x="6533" y="5"/>
                    </a:lnTo>
                    <a:cubicBezTo>
                      <a:pt x="6532" y="5"/>
                      <a:pt x="6531" y="4"/>
                      <a:pt x="6531" y="3"/>
                    </a:cubicBezTo>
                    <a:cubicBezTo>
                      <a:pt x="6531" y="2"/>
                      <a:pt x="6532" y="1"/>
                      <a:pt x="6533" y="1"/>
                    </a:cubicBezTo>
                    <a:close/>
                    <a:moveTo>
                      <a:pt x="6541" y="1"/>
                    </a:moveTo>
                    <a:lnTo>
                      <a:pt x="6541" y="1"/>
                    </a:lnTo>
                    <a:cubicBezTo>
                      <a:pt x="6542" y="1"/>
                      <a:pt x="6543" y="2"/>
                      <a:pt x="6543" y="3"/>
                    </a:cubicBezTo>
                    <a:cubicBezTo>
                      <a:pt x="6543" y="4"/>
                      <a:pt x="6542" y="5"/>
                      <a:pt x="6541" y="5"/>
                    </a:cubicBezTo>
                    <a:lnTo>
                      <a:pt x="6541" y="5"/>
                    </a:lnTo>
                    <a:cubicBezTo>
                      <a:pt x="6540" y="5"/>
                      <a:pt x="6539" y="4"/>
                      <a:pt x="6539" y="3"/>
                    </a:cubicBezTo>
                    <a:cubicBezTo>
                      <a:pt x="6539" y="2"/>
                      <a:pt x="6540" y="1"/>
                      <a:pt x="6541" y="1"/>
                    </a:cubicBezTo>
                    <a:close/>
                    <a:moveTo>
                      <a:pt x="6549" y="1"/>
                    </a:moveTo>
                    <a:lnTo>
                      <a:pt x="6549" y="1"/>
                    </a:lnTo>
                    <a:cubicBezTo>
                      <a:pt x="6550" y="1"/>
                      <a:pt x="6551" y="2"/>
                      <a:pt x="6551" y="3"/>
                    </a:cubicBezTo>
                    <a:cubicBezTo>
                      <a:pt x="6551" y="4"/>
                      <a:pt x="6550" y="5"/>
                      <a:pt x="6549" y="5"/>
                    </a:cubicBezTo>
                    <a:lnTo>
                      <a:pt x="6549" y="5"/>
                    </a:lnTo>
                    <a:cubicBezTo>
                      <a:pt x="6548" y="5"/>
                      <a:pt x="6547" y="4"/>
                      <a:pt x="6547" y="3"/>
                    </a:cubicBezTo>
                    <a:cubicBezTo>
                      <a:pt x="6547" y="2"/>
                      <a:pt x="6548" y="1"/>
                      <a:pt x="6549" y="1"/>
                    </a:cubicBezTo>
                    <a:close/>
                    <a:moveTo>
                      <a:pt x="6557" y="1"/>
                    </a:moveTo>
                    <a:lnTo>
                      <a:pt x="6557" y="1"/>
                    </a:lnTo>
                    <a:cubicBezTo>
                      <a:pt x="6558" y="1"/>
                      <a:pt x="6559" y="2"/>
                      <a:pt x="6559" y="3"/>
                    </a:cubicBezTo>
                    <a:cubicBezTo>
                      <a:pt x="6559" y="4"/>
                      <a:pt x="6558" y="5"/>
                      <a:pt x="6557" y="5"/>
                    </a:cubicBezTo>
                    <a:lnTo>
                      <a:pt x="6557" y="5"/>
                    </a:lnTo>
                    <a:cubicBezTo>
                      <a:pt x="6556" y="5"/>
                      <a:pt x="6555" y="4"/>
                      <a:pt x="6555" y="3"/>
                    </a:cubicBezTo>
                    <a:cubicBezTo>
                      <a:pt x="6555" y="2"/>
                      <a:pt x="6556" y="1"/>
                      <a:pt x="6557" y="1"/>
                    </a:cubicBezTo>
                    <a:close/>
                    <a:moveTo>
                      <a:pt x="6565" y="1"/>
                    </a:moveTo>
                    <a:lnTo>
                      <a:pt x="6565" y="1"/>
                    </a:lnTo>
                    <a:cubicBezTo>
                      <a:pt x="6566" y="1"/>
                      <a:pt x="6567" y="2"/>
                      <a:pt x="6567" y="3"/>
                    </a:cubicBezTo>
                    <a:cubicBezTo>
                      <a:pt x="6567" y="4"/>
                      <a:pt x="6566" y="5"/>
                      <a:pt x="6565" y="5"/>
                    </a:cubicBezTo>
                    <a:lnTo>
                      <a:pt x="6565" y="5"/>
                    </a:lnTo>
                    <a:cubicBezTo>
                      <a:pt x="6564" y="5"/>
                      <a:pt x="6563" y="4"/>
                      <a:pt x="6563" y="3"/>
                    </a:cubicBezTo>
                    <a:cubicBezTo>
                      <a:pt x="6563" y="2"/>
                      <a:pt x="6564" y="1"/>
                      <a:pt x="6565" y="1"/>
                    </a:cubicBezTo>
                    <a:close/>
                    <a:moveTo>
                      <a:pt x="6573" y="1"/>
                    </a:moveTo>
                    <a:lnTo>
                      <a:pt x="6573" y="1"/>
                    </a:lnTo>
                    <a:cubicBezTo>
                      <a:pt x="6574" y="1"/>
                      <a:pt x="6575" y="2"/>
                      <a:pt x="6575" y="3"/>
                    </a:cubicBezTo>
                    <a:cubicBezTo>
                      <a:pt x="6575" y="4"/>
                      <a:pt x="6574" y="5"/>
                      <a:pt x="6573" y="5"/>
                    </a:cubicBezTo>
                    <a:lnTo>
                      <a:pt x="6573" y="5"/>
                    </a:lnTo>
                    <a:cubicBezTo>
                      <a:pt x="6572" y="5"/>
                      <a:pt x="6571" y="4"/>
                      <a:pt x="6571" y="3"/>
                    </a:cubicBezTo>
                    <a:cubicBezTo>
                      <a:pt x="6571" y="2"/>
                      <a:pt x="6572" y="1"/>
                      <a:pt x="6573" y="1"/>
                    </a:cubicBezTo>
                    <a:close/>
                    <a:moveTo>
                      <a:pt x="6581" y="1"/>
                    </a:moveTo>
                    <a:lnTo>
                      <a:pt x="6581" y="1"/>
                    </a:lnTo>
                    <a:cubicBezTo>
                      <a:pt x="6582" y="1"/>
                      <a:pt x="6583" y="2"/>
                      <a:pt x="6583" y="3"/>
                    </a:cubicBezTo>
                    <a:cubicBezTo>
                      <a:pt x="6583" y="4"/>
                      <a:pt x="6582" y="5"/>
                      <a:pt x="6581" y="5"/>
                    </a:cubicBezTo>
                    <a:lnTo>
                      <a:pt x="6581" y="5"/>
                    </a:lnTo>
                    <a:cubicBezTo>
                      <a:pt x="6580" y="5"/>
                      <a:pt x="6579" y="4"/>
                      <a:pt x="6579" y="3"/>
                    </a:cubicBezTo>
                    <a:cubicBezTo>
                      <a:pt x="6579" y="2"/>
                      <a:pt x="6580" y="1"/>
                      <a:pt x="6581" y="1"/>
                    </a:cubicBezTo>
                    <a:close/>
                    <a:moveTo>
                      <a:pt x="6589" y="1"/>
                    </a:moveTo>
                    <a:lnTo>
                      <a:pt x="6589" y="1"/>
                    </a:lnTo>
                    <a:cubicBezTo>
                      <a:pt x="6590" y="1"/>
                      <a:pt x="6591" y="2"/>
                      <a:pt x="6591" y="3"/>
                    </a:cubicBezTo>
                    <a:cubicBezTo>
                      <a:pt x="6591" y="4"/>
                      <a:pt x="6590" y="5"/>
                      <a:pt x="6589" y="5"/>
                    </a:cubicBezTo>
                    <a:lnTo>
                      <a:pt x="6589" y="5"/>
                    </a:lnTo>
                    <a:cubicBezTo>
                      <a:pt x="6588" y="5"/>
                      <a:pt x="6587" y="4"/>
                      <a:pt x="6587" y="3"/>
                    </a:cubicBezTo>
                    <a:cubicBezTo>
                      <a:pt x="6587" y="2"/>
                      <a:pt x="6588" y="1"/>
                      <a:pt x="6589" y="1"/>
                    </a:cubicBezTo>
                    <a:close/>
                    <a:moveTo>
                      <a:pt x="6597" y="1"/>
                    </a:moveTo>
                    <a:lnTo>
                      <a:pt x="6597" y="1"/>
                    </a:lnTo>
                    <a:cubicBezTo>
                      <a:pt x="6598" y="1"/>
                      <a:pt x="6599" y="2"/>
                      <a:pt x="6599" y="3"/>
                    </a:cubicBezTo>
                    <a:cubicBezTo>
                      <a:pt x="6599" y="4"/>
                      <a:pt x="6598" y="5"/>
                      <a:pt x="6597" y="5"/>
                    </a:cubicBezTo>
                    <a:lnTo>
                      <a:pt x="6597" y="5"/>
                    </a:lnTo>
                    <a:cubicBezTo>
                      <a:pt x="6596" y="5"/>
                      <a:pt x="6595" y="4"/>
                      <a:pt x="6595" y="3"/>
                    </a:cubicBezTo>
                    <a:cubicBezTo>
                      <a:pt x="6595" y="2"/>
                      <a:pt x="6596" y="1"/>
                      <a:pt x="6597" y="1"/>
                    </a:cubicBezTo>
                    <a:close/>
                    <a:moveTo>
                      <a:pt x="6605" y="1"/>
                    </a:moveTo>
                    <a:lnTo>
                      <a:pt x="6605" y="1"/>
                    </a:lnTo>
                    <a:cubicBezTo>
                      <a:pt x="6606" y="1"/>
                      <a:pt x="6607" y="2"/>
                      <a:pt x="6607" y="3"/>
                    </a:cubicBezTo>
                    <a:cubicBezTo>
                      <a:pt x="6607" y="4"/>
                      <a:pt x="6606" y="5"/>
                      <a:pt x="6605" y="5"/>
                    </a:cubicBezTo>
                    <a:lnTo>
                      <a:pt x="6605" y="5"/>
                    </a:lnTo>
                    <a:cubicBezTo>
                      <a:pt x="6604" y="5"/>
                      <a:pt x="6603" y="4"/>
                      <a:pt x="6603" y="3"/>
                    </a:cubicBezTo>
                    <a:cubicBezTo>
                      <a:pt x="6603" y="2"/>
                      <a:pt x="6604" y="1"/>
                      <a:pt x="6605" y="1"/>
                    </a:cubicBezTo>
                    <a:close/>
                    <a:moveTo>
                      <a:pt x="6613" y="1"/>
                    </a:moveTo>
                    <a:lnTo>
                      <a:pt x="6613" y="1"/>
                    </a:lnTo>
                    <a:cubicBezTo>
                      <a:pt x="6614" y="1"/>
                      <a:pt x="6615" y="2"/>
                      <a:pt x="6615" y="3"/>
                    </a:cubicBezTo>
                    <a:cubicBezTo>
                      <a:pt x="6615" y="4"/>
                      <a:pt x="6614" y="5"/>
                      <a:pt x="6613" y="5"/>
                    </a:cubicBezTo>
                    <a:lnTo>
                      <a:pt x="6613" y="5"/>
                    </a:lnTo>
                    <a:cubicBezTo>
                      <a:pt x="6612" y="5"/>
                      <a:pt x="6611" y="4"/>
                      <a:pt x="6611" y="3"/>
                    </a:cubicBezTo>
                    <a:cubicBezTo>
                      <a:pt x="6611" y="2"/>
                      <a:pt x="6612" y="1"/>
                      <a:pt x="6613" y="1"/>
                    </a:cubicBezTo>
                    <a:close/>
                    <a:moveTo>
                      <a:pt x="6621" y="1"/>
                    </a:moveTo>
                    <a:lnTo>
                      <a:pt x="6621" y="1"/>
                    </a:lnTo>
                    <a:cubicBezTo>
                      <a:pt x="6622" y="1"/>
                      <a:pt x="6623" y="2"/>
                      <a:pt x="6623" y="3"/>
                    </a:cubicBezTo>
                    <a:cubicBezTo>
                      <a:pt x="6623" y="4"/>
                      <a:pt x="6622" y="5"/>
                      <a:pt x="6621" y="5"/>
                    </a:cubicBezTo>
                    <a:lnTo>
                      <a:pt x="6621" y="5"/>
                    </a:lnTo>
                    <a:cubicBezTo>
                      <a:pt x="6620" y="5"/>
                      <a:pt x="6619" y="4"/>
                      <a:pt x="6619" y="3"/>
                    </a:cubicBezTo>
                    <a:cubicBezTo>
                      <a:pt x="6619" y="2"/>
                      <a:pt x="6620" y="1"/>
                      <a:pt x="6621" y="1"/>
                    </a:cubicBezTo>
                    <a:close/>
                    <a:moveTo>
                      <a:pt x="6629" y="1"/>
                    </a:moveTo>
                    <a:lnTo>
                      <a:pt x="6629" y="1"/>
                    </a:lnTo>
                    <a:cubicBezTo>
                      <a:pt x="6630" y="1"/>
                      <a:pt x="6631" y="2"/>
                      <a:pt x="6631" y="3"/>
                    </a:cubicBezTo>
                    <a:cubicBezTo>
                      <a:pt x="6631" y="4"/>
                      <a:pt x="6630" y="5"/>
                      <a:pt x="6629" y="5"/>
                    </a:cubicBezTo>
                    <a:lnTo>
                      <a:pt x="6629" y="5"/>
                    </a:lnTo>
                    <a:cubicBezTo>
                      <a:pt x="6628" y="5"/>
                      <a:pt x="6627" y="4"/>
                      <a:pt x="6627" y="3"/>
                    </a:cubicBezTo>
                    <a:cubicBezTo>
                      <a:pt x="6627" y="2"/>
                      <a:pt x="6628" y="1"/>
                      <a:pt x="6629" y="1"/>
                    </a:cubicBezTo>
                    <a:close/>
                    <a:moveTo>
                      <a:pt x="6637" y="1"/>
                    </a:moveTo>
                    <a:lnTo>
                      <a:pt x="6637" y="1"/>
                    </a:lnTo>
                    <a:cubicBezTo>
                      <a:pt x="6638" y="1"/>
                      <a:pt x="6639" y="2"/>
                      <a:pt x="6639" y="3"/>
                    </a:cubicBezTo>
                    <a:cubicBezTo>
                      <a:pt x="6639" y="4"/>
                      <a:pt x="6638" y="5"/>
                      <a:pt x="6637" y="5"/>
                    </a:cubicBezTo>
                    <a:lnTo>
                      <a:pt x="6637" y="5"/>
                    </a:lnTo>
                    <a:cubicBezTo>
                      <a:pt x="6636" y="5"/>
                      <a:pt x="6635" y="4"/>
                      <a:pt x="6635" y="3"/>
                    </a:cubicBezTo>
                    <a:cubicBezTo>
                      <a:pt x="6635" y="2"/>
                      <a:pt x="6636" y="1"/>
                      <a:pt x="6637" y="1"/>
                    </a:cubicBezTo>
                    <a:close/>
                    <a:moveTo>
                      <a:pt x="6645" y="1"/>
                    </a:moveTo>
                    <a:lnTo>
                      <a:pt x="6645" y="1"/>
                    </a:lnTo>
                    <a:cubicBezTo>
                      <a:pt x="6646" y="1"/>
                      <a:pt x="6647" y="2"/>
                      <a:pt x="6647" y="3"/>
                    </a:cubicBezTo>
                    <a:cubicBezTo>
                      <a:pt x="6647" y="4"/>
                      <a:pt x="6646" y="5"/>
                      <a:pt x="6645" y="5"/>
                    </a:cubicBezTo>
                    <a:lnTo>
                      <a:pt x="6645" y="5"/>
                    </a:lnTo>
                    <a:cubicBezTo>
                      <a:pt x="6644" y="5"/>
                      <a:pt x="6643" y="4"/>
                      <a:pt x="6643" y="3"/>
                    </a:cubicBezTo>
                    <a:cubicBezTo>
                      <a:pt x="6643" y="2"/>
                      <a:pt x="6644" y="1"/>
                      <a:pt x="6645" y="1"/>
                    </a:cubicBezTo>
                    <a:close/>
                    <a:moveTo>
                      <a:pt x="6653" y="1"/>
                    </a:moveTo>
                    <a:lnTo>
                      <a:pt x="6653" y="1"/>
                    </a:lnTo>
                    <a:cubicBezTo>
                      <a:pt x="6654" y="1"/>
                      <a:pt x="6655" y="2"/>
                      <a:pt x="6655" y="3"/>
                    </a:cubicBezTo>
                    <a:cubicBezTo>
                      <a:pt x="6655" y="4"/>
                      <a:pt x="6654" y="5"/>
                      <a:pt x="6653" y="5"/>
                    </a:cubicBezTo>
                    <a:lnTo>
                      <a:pt x="6653" y="5"/>
                    </a:lnTo>
                    <a:cubicBezTo>
                      <a:pt x="6652" y="5"/>
                      <a:pt x="6651" y="4"/>
                      <a:pt x="6651" y="3"/>
                    </a:cubicBezTo>
                    <a:cubicBezTo>
                      <a:pt x="6651" y="2"/>
                      <a:pt x="6652" y="1"/>
                      <a:pt x="6653" y="1"/>
                    </a:cubicBezTo>
                    <a:close/>
                    <a:moveTo>
                      <a:pt x="6661" y="1"/>
                    </a:moveTo>
                    <a:lnTo>
                      <a:pt x="6661" y="1"/>
                    </a:lnTo>
                    <a:cubicBezTo>
                      <a:pt x="6662" y="1"/>
                      <a:pt x="6663" y="2"/>
                      <a:pt x="6663" y="3"/>
                    </a:cubicBezTo>
                    <a:cubicBezTo>
                      <a:pt x="6663" y="4"/>
                      <a:pt x="6662" y="5"/>
                      <a:pt x="6661" y="5"/>
                    </a:cubicBezTo>
                    <a:lnTo>
                      <a:pt x="6661" y="5"/>
                    </a:lnTo>
                    <a:cubicBezTo>
                      <a:pt x="6660" y="5"/>
                      <a:pt x="6659" y="4"/>
                      <a:pt x="6659" y="3"/>
                    </a:cubicBezTo>
                    <a:cubicBezTo>
                      <a:pt x="6659" y="2"/>
                      <a:pt x="6660" y="1"/>
                      <a:pt x="6661" y="1"/>
                    </a:cubicBezTo>
                    <a:close/>
                    <a:moveTo>
                      <a:pt x="6669" y="1"/>
                    </a:moveTo>
                    <a:lnTo>
                      <a:pt x="6669" y="1"/>
                    </a:lnTo>
                    <a:cubicBezTo>
                      <a:pt x="6670" y="1"/>
                      <a:pt x="6671" y="2"/>
                      <a:pt x="6671" y="3"/>
                    </a:cubicBezTo>
                    <a:cubicBezTo>
                      <a:pt x="6671" y="4"/>
                      <a:pt x="6670" y="5"/>
                      <a:pt x="6669" y="5"/>
                    </a:cubicBezTo>
                    <a:lnTo>
                      <a:pt x="6669" y="5"/>
                    </a:lnTo>
                    <a:cubicBezTo>
                      <a:pt x="6668" y="5"/>
                      <a:pt x="6667" y="4"/>
                      <a:pt x="6667" y="3"/>
                    </a:cubicBezTo>
                    <a:cubicBezTo>
                      <a:pt x="6667" y="2"/>
                      <a:pt x="6668" y="1"/>
                      <a:pt x="6669" y="1"/>
                    </a:cubicBezTo>
                    <a:close/>
                    <a:moveTo>
                      <a:pt x="6677" y="1"/>
                    </a:moveTo>
                    <a:lnTo>
                      <a:pt x="6677" y="1"/>
                    </a:lnTo>
                    <a:cubicBezTo>
                      <a:pt x="6678" y="1"/>
                      <a:pt x="6679" y="2"/>
                      <a:pt x="6679" y="3"/>
                    </a:cubicBezTo>
                    <a:cubicBezTo>
                      <a:pt x="6679" y="4"/>
                      <a:pt x="6678" y="5"/>
                      <a:pt x="6677" y="5"/>
                    </a:cubicBezTo>
                    <a:lnTo>
                      <a:pt x="6677" y="5"/>
                    </a:lnTo>
                    <a:cubicBezTo>
                      <a:pt x="6676" y="5"/>
                      <a:pt x="6675" y="4"/>
                      <a:pt x="6675" y="3"/>
                    </a:cubicBezTo>
                    <a:cubicBezTo>
                      <a:pt x="6675" y="2"/>
                      <a:pt x="6676" y="1"/>
                      <a:pt x="6677" y="1"/>
                    </a:cubicBezTo>
                    <a:close/>
                    <a:moveTo>
                      <a:pt x="6685" y="1"/>
                    </a:moveTo>
                    <a:lnTo>
                      <a:pt x="6685" y="1"/>
                    </a:lnTo>
                    <a:cubicBezTo>
                      <a:pt x="6686" y="1"/>
                      <a:pt x="6687" y="2"/>
                      <a:pt x="6687" y="3"/>
                    </a:cubicBezTo>
                    <a:cubicBezTo>
                      <a:pt x="6687" y="4"/>
                      <a:pt x="6686" y="5"/>
                      <a:pt x="6685" y="5"/>
                    </a:cubicBezTo>
                    <a:lnTo>
                      <a:pt x="6685" y="5"/>
                    </a:lnTo>
                    <a:cubicBezTo>
                      <a:pt x="6684" y="5"/>
                      <a:pt x="6683" y="4"/>
                      <a:pt x="6683" y="3"/>
                    </a:cubicBezTo>
                    <a:cubicBezTo>
                      <a:pt x="6683" y="2"/>
                      <a:pt x="6684" y="1"/>
                      <a:pt x="6685" y="1"/>
                    </a:cubicBezTo>
                    <a:close/>
                    <a:moveTo>
                      <a:pt x="6693" y="1"/>
                    </a:moveTo>
                    <a:lnTo>
                      <a:pt x="6693" y="1"/>
                    </a:lnTo>
                    <a:cubicBezTo>
                      <a:pt x="6694" y="1"/>
                      <a:pt x="6695" y="2"/>
                      <a:pt x="6695" y="3"/>
                    </a:cubicBezTo>
                    <a:cubicBezTo>
                      <a:pt x="6695" y="4"/>
                      <a:pt x="6694" y="5"/>
                      <a:pt x="6693" y="5"/>
                    </a:cubicBezTo>
                    <a:lnTo>
                      <a:pt x="6693" y="5"/>
                    </a:lnTo>
                    <a:cubicBezTo>
                      <a:pt x="6692" y="5"/>
                      <a:pt x="6691" y="4"/>
                      <a:pt x="6691" y="3"/>
                    </a:cubicBezTo>
                    <a:cubicBezTo>
                      <a:pt x="6691" y="2"/>
                      <a:pt x="6692" y="1"/>
                      <a:pt x="6693" y="1"/>
                    </a:cubicBezTo>
                    <a:close/>
                    <a:moveTo>
                      <a:pt x="6701" y="1"/>
                    </a:moveTo>
                    <a:lnTo>
                      <a:pt x="6701" y="1"/>
                    </a:lnTo>
                    <a:cubicBezTo>
                      <a:pt x="6702" y="1"/>
                      <a:pt x="6703" y="2"/>
                      <a:pt x="6703" y="3"/>
                    </a:cubicBezTo>
                    <a:cubicBezTo>
                      <a:pt x="6703" y="4"/>
                      <a:pt x="6702" y="5"/>
                      <a:pt x="6701" y="5"/>
                    </a:cubicBezTo>
                    <a:lnTo>
                      <a:pt x="6701" y="5"/>
                    </a:lnTo>
                    <a:cubicBezTo>
                      <a:pt x="6700" y="5"/>
                      <a:pt x="6699" y="4"/>
                      <a:pt x="6699" y="3"/>
                    </a:cubicBezTo>
                    <a:cubicBezTo>
                      <a:pt x="6699" y="2"/>
                      <a:pt x="6700" y="1"/>
                      <a:pt x="6701" y="1"/>
                    </a:cubicBezTo>
                    <a:close/>
                    <a:moveTo>
                      <a:pt x="6709" y="1"/>
                    </a:moveTo>
                    <a:lnTo>
                      <a:pt x="6709" y="1"/>
                    </a:lnTo>
                    <a:cubicBezTo>
                      <a:pt x="6710" y="1"/>
                      <a:pt x="6711" y="2"/>
                      <a:pt x="6711" y="3"/>
                    </a:cubicBezTo>
                    <a:cubicBezTo>
                      <a:pt x="6711" y="4"/>
                      <a:pt x="6710" y="5"/>
                      <a:pt x="6709" y="5"/>
                    </a:cubicBezTo>
                    <a:lnTo>
                      <a:pt x="6709" y="5"/>
                    </a:lnTo>
                    <a:cubicBezTo>
                      <a:pt x="6708" y="5"/>
                      <a:pt x="6707" y="4"/>
                      <a:pt x="6707" y="3"/>
                    </a:cubicBezTo>
                    <a:cubicBezTo>
                      <a:pt x="6707" y="2"/>
                      <a:pt x="6708" y="1"/>
                      <a:pt x="6709" y="1"/>
                    </a:cubicBezTo>
                    <a:close/>
                    <a:moveTo>
                      <a:pt x="6717" y="1"/>
                    </a:moveTo>
                    <a:lnTo>
                      <a:pt x="6717" y="1"/>
                    </a:lnTo>
                    <a:cubicBezTo>
                      <a:pt x="6718" y="1"/>
                      <a:pt x="6719" y="2"/>
                      <a:pt x="6719" y="3"/>
                    </a:cubicBezTo>
                    <a:cubicBezTo>
                      <a:pt x="6719" y="4"/>
                      <a:pt x="6718" y="5"/>
                      <a:pt x="6717" y="5"/>
                    </a:cubicBezTo>
                    <a:lnTo>
                      <a:pt x="6717" y="5"/>
                    </a:lnTo>
                    <a:cubicBezTo>
                      <a:pt x="6716" y="5"/>
                      <a:pt x="6715" y="4"/>
                      <a:pt x="6715" y="3"/>
                    </a:cubicBezTo>
                    <a:cubicBezTo>
                      <a:pt x="6715" y="2"/>
                      <a:pt x="6716" y="1"/>
                      <a:pt x="6717" y="1"/>
                    </a:cubicBezTo>
                    <a:close/>
                    <a:moveTo>
                      <a:pt x="6725" y="1"/>
                    </a:moveTo>
                    <a:lnTo>
                      <a:pt x="6725" y="1"/>
                    </a:lnTo>
                    <a:cubicBezTo>
                      <a:pt x="6726" y="1"/>
                      <a:pt x="6727" y="2"/>
                      <a:pt x="6727" y="3"/>
                    </a:cubicBezTo>
                    <a:cubicBezTo>
                      <a:pt x="6727" y="4"/>
                      <a:pt x="6726" y="5"/>
                      <a:pt x="6725" y="5"/>
                    </a:cubicBezTo>
                    <a:lnTo>
                      <a:pt x="6725" y="5"/>
                    </a:lnTo>
                    <a:cubicBezTo>
                      <a:pt x="6724" y="5"/>
                      <a:pt x="6723" y="4"/>
                      <a:pt x="6723" y="3"/>
                    </a:cubicBezTo>
                    <a:cubicBezTo>
                      <a:pt x="6723" y="2"/>
                      <a:pt x="6724" y="1"/>
                      <a:pt x="6725" y="1"/>
                    </a:cubicBezTo>
                    <a:close/>
                    <a:moveTo>
                      <a:pt x="6733" y="1"/>
                    </a:moveTo>
                    <a:lnTo>
                      <a:pt x="6733" y="1"/>
                    </a:lnTo>
                    <a:cubicBezTo>
                      <a:pt x="6734" y="1"/>
                      <a:pt x="6735" y="2"/>
                      <a:pt x="6735" y="3"/>
                    </a:cubicBezTo>
                    <a:cubicBezTo>
                      <a:pt x="6735" y="4"/>
                      <a:pt x="6734" y="5"/>
                      <a:pt x="6733" y="5"/>
                    </a:cubicBezTo>
                    <a:lnTo>
                      <a:pt x="6733" y="5"/>
                    </a:lnTo>
                    <a:cubicBezTo>
                      <a:pt x="6732" y="5"/>
                      <a:pt x="6731" y="4"/>
                      <a:pt x="6731" y="3"/>
                    </a:cubicBezTo>
                    <a:cubicBezTo>
                      <a:pt x="6731" y="2"/>
                      <a:pt x="6732" y="1"/>
                      <a:pt x="6733" y="1"/>
                    </a:cubicBezTo>
                    <a:close/>
                    <a:moveTo>
                      <a:pt x="6741" y="1"/>
                    </a:moveTo>
                    <a:lnTo>
                      <a:pt x="6741" y="1"/>
                    </a:lnTo>
                    <a:cubicBezTo>
                      <a:pt x="6742" y="1"/>
                      <a:pt x="6743" y="2"/>
                      <a:pt x="6743" y="3"/>
                    </a:cubicBezTo>
                    <a:cubicBezTo>
                      <a:pt x="6743" y="4"/>
                      <a:pt x="6742" y="5"/>
                      <a:pt x="6741" y="5"/>
                    </a:cubicBezTo>
                    <a:lnTo>
                      <a:pt x="6741" y="5"/>
                    </a:lnTo>
                    <a:cubicBezTo>
                      <a:pt x="6740" y="5"/>
                      <a:pt x="6739" y="4"/>
                      <a:pt x="6739" y="3"/>
                    </a:cubicBezTo>
                    <a:cubicBezTo>
                      <a:pt x="6739" y="2"/>
                      <a:pt x="6740" y="1"/>
                      <a:pt x="6741" y="1"/>
                    </a:cubicBezTo>
                    <a:close/>
                    <a:moveTo>
                      <a:pt x="6749" y="1"/>
                    </a:moveTo>
                    <a:lnTo>
                      <a:pt x="6749" y="1"/>
                    </a:lnTo>
                    <a:cubicBezTo>
                      <a:pt x="6750" y="1"/>
                      <a:pt x="6751" y="2"/>
                      <a:pt x="6751" y="3"/>
                    </a:cubicBezTo>
                    <a:cubicBezTo>
                      <a:pt x="6751" y="4"/>
                      <a:pt x="6750" y="5"/>
                      <a:pt x="6749" y="5"/>
                    </a:cubicBezTo>
                    <a:lnTo>
                      <a:pt x="6749" y="5"/>
                    </a:lnTo>
                    <a:cubicBezTo>
                      <a:pt x="6748" y="5"/>
                      <a:pt x="6747" y="4"/>
                      <a:pt x="6747" y="3"/>
                    </a:cubicBezTo>
                    <a:cubicBezTo>
                      <a:pt x="6747" y="2"/>
                      <a:pt x="6748" y="1"/>
                      <a:pt x="6749" y="1"/>
                    </a:cubicBezTo>
                    <a:close/>
                    <a:moveTo>
                      <a:pt x="6757" y="1"/>
                    </a:moveTo>
                    <a:lnTo>
                      <a:pt x="6757" y="1"/>
                    </a:lnTo>
                    <a:cubicBezTo>
                      <a:pt x="6758" y="1"/>
                      <a:pt x="6759" y="2"/>
                      <a:pt x="6759" y="3"/>
                    </a:cubicBezTo>
                    <a:cubicBezTo>
                      <a:pt x="6759" y="4"/>
                      <a:pt x="6758" y="5"/>
                      <a:pt x="6757" y="5"/>
                    </a:cubicBezTo>
                    <a:lnTo>
                      <a:pt x="6757" y="5"/>
                    </a:lnTo>
                    <a:cubicBezTo>
                      <a:pt x="6756" y="5"/>
                      <a:pt x="6755" y="4"/>
                      <a:pt x="6755" y="3"/>
                    </a:cubicBezTo>
                    <a:cubicBezTo>
                      <a:pt x="6755" y="2"/>
                      <a:pt x="6756" y="1"/>
                      <a:pt x="6757" y="1"/>
                    </a:cubicBezTo>
                    <a:close/>
                    <a:moveTo>
                      <a:pt x="6765" y="1"/>
                    </a:moveTo>
                    <a:lnTo>
                      <a:pt x="6765" y="1"/>
                    </a:lnTo>
                    <a:cubicBezTo>
                      <a:pt x="6766" y="1"/>
                      <a:pt x="6767" y="2"/>
                      <a:pt x="6767" y="3"/>
                    </a:cubicBezTo>
                    <a:cubicBezTo>
                      <a:pt x="6767" y="4"/>
                      <a:pt x="6766" y="5"/>
                      <a:pt x="6765" y="5"/>
                    </a:cubicBezTo>
                    <a:lnTo>
                      <a:pt x="6765" y="5"/>
                    </a:lnTo>
                    <a:cubicBezTo>
                      <a:pt x="6764" y="5"/>
                      <a:pt x="6763" y="4"/>
                      <a:pt x="6763" y="3"/>
                    </a:cubicBezTo>
                    <a:cubicBezTo>
                      <a:pt x="6763" y="2"/>
                      <a:pt x="6764" y="1"/>
                      <a:pt x="6765" y="1"/>
                    </a:cubicBezTo>
                    <a:close/>
                    <a:moveTo>
                      <a:pt x="6773" y="1"/>
                    </a:moveTo>
                    <a:lnTo>
                      <a:pt x="6773" y="1"/>
                    </a:lnTo>
                    <a:cubicBezTo>
                      <a:pt x="6774" y="1"/>
                      <a:pt x="6775" y="2"/>
                      <a:pt x="6775" y="3"/>
                    </a:cubicBezTo>
                    <a:cubicBezTo>
                      <a:pt x="6775" y="4"/>
                      <a:pt x="6774" y="5"/>
                      <a:pt x="6773" y="5"/>
                    </a:cubicBezTo>
                    <a:lnTo>
                      <a:pt x="6773" y="5"/>
                    </a:lnTo>
                    <a:cubicBezTo>
                      <a:pt x="6772" y="5"/>
                      <a:pt x="6771" y="4"/>
                      <a:pt x="6771" y="3"/>
                    </a:cubicBezTo>
                    <a:cubicBezTo>
                      <a:pt x="6771" y="2"/>
                      <a:pt x="6772" y="1"/>
                      <a:pt x="6773" y="1"/>
                    </a:cubicBezTo>
                    <a:close/>
                    <a:moveTo>
                      <a:pt x="6781" y="1"/>
                    </a:moveTo>
                    <a:lnTo>
                      <a:pt x="6781" y="1"/>
                    </a:lnTo>
                    <a:cubicBezTo>
                      <a:pt x="6782" y="1"/>
                      <a:pt x="6783" y="2"/>
                      <a:pt x="6783" y="3"/>
                    </a:cubicBezTo>
                    <a:cubicBezTo>
                      <a:pt x="6783" y="4"/>
                      <a:pt x="6782" y="5"/>
                      <a:pt x="6781" y="5"/>
                    </a:cubicBezTo>
                    <a:lnTo>
                      <a:pt x="6781" y="5"/>
                    </a:lnTo>
                    <a:cubicBezTo>
                      <a:pt x="6780" y="5"/>
                      <a:pt x="6779" y="4"/>
                      <a:pt x="6779" y="3"/>
                    </a:cubicBezTo>
                    <a:cubicBezTo>
                      <a:pt x="6779" y="2"/>
                      <a:pt x="6780" y="1"/>
                      <a:pt x="6781" y="1"/>
                    </a:cubicBezTo>
                    <a:close/>
                    <a:moveTo>
                      <a:pt x="6789" y="1"/>
                    </a:moveTo>
                    <a:lnTo>
                      <a:pt x="6789" y="1"/>
                    </a:lnTo>
                    <a:cubicBezTo>
                      <a:pt x="6790" y="1"/>
                      <a:pt x="6791" y="2"/>
                      <a:pt x="6791" y="3"/>
                    </a:cubicBezTo>
                    <a:cubicBezTo>
                      <a:pt x="6791" y="4"/>
                      <a:pt x="6790" y="5"/>
                      <a:pt x="6789" y="5"/>
                    </a:cubicBezTo>
                    <a:lnTo>
                      <a:pt x="6789" y="5"/>
                    </a:lnTo>
                    <a:cubicBezTo>
                      <a:pt x="6788" y="5"/>
                      <a:pt x="6787" y="4"/>
                      <a:pt x="6787" y="3"/>
                    </a:cubicBezTo>
                    <a:cubicBezTo>
                      <a:pt x="6787" y="2"/>
                      <a:pt x="6788" y="1"/>
                      <a:pt x="6789" y="1"/>
                    </a:cubicBezTo>
                    <a:close/>
                    <a:moveTo>
                      <a:pt x="6797" y="1"/>
                    </a:moveTo>
                    <a:lnTo>
                      <a:pt x="6797" y="1"/>
                    </a:lnTo>
                    <a:cubicBezTo>
                      <a:pt x="6798" y="1"/>
                      <a:pt x="6799" y="2"/>
                      <a:pt x="6799" y="3"/>
                    </a:cubicBezTo>
                    <a:cubicBezTo>
                      <a:pt x="6799" y="4"/>
                      <a:pt x="6798" y="5"/>
                      <a:pt x="6797" y="5"/>
                    </a:cubicBezTo>
                    <a:lnTo>
                      <a:pt x="6797" y="5"/>
                    </a:lnTo>
                    <a:cubicBezTo>
                      <a:pt x="6796" y="5"/>
                      <a:pt x="6795" y="4"/>
                      <a:pt x="6795" y="3"/>
                    </a:cubicBezTo>
                    <a:cubicBezTo>
                      <a:pt x="6795" y="2"/>
                      <a:pt x="6796" y="1"/>
                      <a:pt x="6797" y="1"/>
                    </a:cubicBezTo>
                    <a:close/>
                    <a:moveTo>
                      <a:pt x="6805" y="1"/>
                    </a:moveTo>
                    <a:lnTo>
                      <a:pt x="6805" y="1"/>
                    </a:lnTo>
                    <a:cubicBezTo>
                      <a:pt x="6806" y="1"/>
                      <a:pt x="6807" y="2"/>
                      <a:pt x="6807" y="3"/>
                    </a:cubicBezTo>
                    <a:cubicBezTo>
                      <a:pt x="6807" y="4"/>
                      <a:pt x="6806" y="5"/>
                      <a:pt x="6805" y="5"/>
                    </a:cubicBezTo>
                    <a:lnTo>
                      <a:pt x="6805" y="5"/>
                    </a:lnTo>
                    <a:cubicBezTo>
                      <a:pt x="6804" y="5"/>
                      <a:pt x="6803" y="4"/>
                      <a:pt x="6803" y="3"/>
                    </a:cubicBezTo>
                    <a:cubicBezTo>
                      <a:pt x="6803" y="2"/>
                      <a:pt x="6804" y="1"/>
                      <a:pt x="6805" y="1"/>
                    </a:cubicBezTo>
                    <a:close/>
                    <a:moveTo>
                      <a:pt x="6813" y="1"/>
                    </a:moveTo>
                    <a:lnTo>
                      <a:pt x="6813" y="1"/>
                    </a:lnTo>
                    <a:cubicBezTo>
                      <a:pt x="6814" y="1"/>
                      <a:pt x="6815" y="2"/>
                      <a:pt x="6815" y="3"/>
                    </a:cubicBezTo>
                    <a:cubicBezTo>
                      <a:pt x="6815" y="4"/>
                      <a:pt x="6814" y="5"/>
                      <a:pt x="6813" y="5"/>
                    </a:cubicBezTo>
                    <a:lnTo>
                      <a:pt x="6813" y="5"/>
                    </a:lnTo>
                    <a:cubicBezTo>
                      <a:pt x="6812" y="5"/>
                      <a:pt x="6811" y="4"/>
                      <a:pt x="6811" y="3"/>
                    </a:cubicBezTo>
                    <a:cubicBezTo>
                      <a:pt x="6811" y="2"/>
                      <a:pt x="6812" y="1"/>
                      <a:pt x="6813" y="1"/>
                    </a:cubicBezTo>
                    <a:close/>
                    <a:moveTo>
                      <a:pt x="6821" y="1"/>
                    </a:moveTo>
                    <a:lnTo>
                      <a:pt x="6821" y="1"/>
                    </a:lnTo>
                    <a:cubicBezTo>
                      <a:pt x="6822" y="1"/>
                      <a:pt x="6823" y="2"/>
                      <a:pt x="6823" y="3"/>
                    </a:cubicBezTo>
                    <a:cubicBezTo>
                      <a:pt x="6823" y="4"/>
                      <a:pt x="6822" y="5"/>
                      <a:pt x="6821" y="5"/>
                    </a:cubicBezTo>
                    <a:lnTo>
                      <a:pt x="6821" y="5"/>
                    </a:lnTo>
                    <a:cubicBezTo>
                      <a:pt x="6820" y="5"/>
                      <a:pt x="6819" y="4"/>
                      <a:pt x="6819" y="3"/>
                    </a:cubicBezTo>
                    <a:cubicBezTo>
                      <a:pt x="6819" y="2"/>
                      <a:pt x="6820" y="1"/>
                      <a:pt x="6821" y="1"/>
                    </a:cubicBezTo>
                    <a:close/>
                    <a:moveTo>
                      <a:pt x="6829" y="1"/>
                    </a:moveTo>
                    <a:lnTo>
                      <a:pt x="6829" y="1"/>
                    </a:lnTo>
                    <a:cubicBezTo>
                      <a:pt x="6830" y="1"/>
                      <a:pt x="6831" y="2"/>
                      <a:pt x="6831" y="3"/>
                    </a:cubicBezTo>
                    <a:cubicBezTo>
                      <a:pt x="6831" y="4"/>
                      <a:pt x="6830" y="5"/>
                      <a:pt x="6829" y="5"/>
                    </a:cubicBezTo>
                    <a:lnTo>
                      <a:pt x="6829" y="5"/>
                    </a:lnTo>
                    <a:cubicBezTo>
                      <a:pt x="6828" y="5"/>
                      <a:pt x="6827" y="4"/>
                      <a:pt x="6827" y="3"/>
                    </a:cubicBezTo>
                    <a:cubicBezTo>
                      <a:pt x="6827" y="2"/>
                      <a:pt x="6828" y="1"/>
                      <a:pt x="6829" y="1"/>
                    </a:cubicBezTo>
                    <a:close/>
                    <a:moveTo>
                      <a:pt x="6837" y="1"/>
                    </a:moveTo>
                    <a:lnTo>
                      <a:pt x="6837" y="1"/>
                    </a:lnTo>
                    <a:cubicBezTo>
                      <a:pt x="6838" y="1"/>
                      <a:pt x="6839" y="2"/>
                      <a:pt x="6839" y="3"/>
                    </a:cubicBezTo>
                    <a:cubicBezTo>
                      <a:pt x="6839" y="4"/>
                      <a:pt x="6838" y="5"/>
                      <a:pt x="6837" y="5"/>
                    </a:cubicBezTo>
                    <a:lnTo>
                      <a:pt x="6837" y="5"/>
                    </a:lnTo>
                    <a:cubicBezTo>
                      <a:pt x="6836" y="5"/>
                      <a:pt x="6835" y="4"/>
                      <a:pt x="6835" y="3"/>
                    </a:cubicBezTo>
                    <a:cubicBezTo>
                      <a:pt x="6835" y="2"/>
                      <a:pt x="6836" y="1"/>
                      <a:pt x="6837" y="1"/>
                    </a:cubicBezTo>
                    <a:close/>
                    <a:moveTo>
                      <a:pt x="6845" y="1"/>
                    </a:moveTo>
                    <a:lnTo>
                      <a:pt x="6845" y="1"/>
                    </a:lnTo>
                    <a:cubicBezTo>
                      <a:pt x="6846" y="1"/>
                      <a:pt x="6847" y="2"/>
                      <a:pt x="6847" y="3"/>
                    </a:cubicBezTo>
                    <a:cubicBezTo>
                      <a:pt x="6847" y="4"/>
                      <a:pt x="6846" y="5"/>
                      <a:pt x="6845" y="5"/>
                    </a:cubicBezTo>
                    <a:lnTo>
                      <a:pt x="6845" y="5"/>
                    </a:lnTo>
                    <a:cubicBezTo>
                      <a:pt x="6844" y="5"/>
                      <a:pt x="6843" y="4"/>
                      <a:pt x="6843" y="3"/>
                    </a:cubicBezTo>
                    <a:cubicBezTo>
                      <a:pt x="6843" y="2"/>
                      <a:pt x="6844" y="1"/>
                      <a:pt x="6845" y="1"/>
                    </a:cubicBezTo>
                    <a:close/>
                    <a:moveTo>
                      <a:pt x="6853" y="1"/>
                    </a:moveTo>
                    <a:lnTo>
                      <a:pt x="6853" y="1"/>
                    </a:lnTo>
                    <a:cubicBezTo>
                      <a:pt x="6854" y="1"/>
                      <a:pt x="6855" y="2"/>
                      <a:pt x="6855" y="3"/>
                    </a:cubicBezTo>
                    <a:cubicBezTo>
                      <a:pt x="6855" y="4"/>
                      <a:pt x="6854" y="5"/>
                      <a:pt x="6853" y="5"/>
                    </a:cubicBezTo>
                    <a:lnTo>
                      <a:pt x="6853" y="5"/>
                    </a:lnTo>
                    <a:cubicBezTo>
                      <a:pt x="6852" y="5"/>
                      <a:pt x="6851" y="4"/>
                      <a:pt x="6851" y="3"/>
                    </a:cubicBezTo>
                    <a:cubicBezTo>
                      <a:pt x="6851" y="2"/>
                      <a:pt x="6852" y="1"/>
                      <a:pt x="6853" y="1"/>
                    </a:cubicBezTo>
                    <a:close/>
                    <a:moveTo>
                      <a:pt x="6861" y="1"/>
                    </a:moveTo>
                    <a:lnTo>
                      <a:pt x="6861" y="1"/>
                    </a:lnTo>
                    <a:cubicBezTo>
                      <a:pt x="6862" y="1"/>
                      <a:pt x="6863" y="2"/>
                      <a:pt x="6863" y="3"/>
                    </a:cubicBezTo>
                    <a:cubicBezTo>
                      <a:pt x="6863" y="4"/>
                      <a:pt x="6862" y="5"/>
                      <a:pt x="6861" y="5"/>
                    </a:cubicBezTo>
                    <a:lnTo>
                      <a:pt x="6861" y="5"/>
                    </a:lnTo>
                    <a:cubicBezTo>
                      <a:pt x="6860" y="5"/>
                      <a:pt x="6859" y="4"/>
                      <a:pt x="6859" y="3"/>
                    </a:cubicBezTo>
                    <a:cubicBezTo>
                      <a:pt x="6859" y="2"/>
                      <a:pt x="6860" y="1"/>
                      <a:pt x="6861" y="1"/>
                    </a:cubicBezTo>
                    <a:close/>
                    <a:moveTo>
                      <a:pt x="6869" y="1"/>
                    </a:moveTo>
                    <a:lnTo>
                      <a:pt x="6869" y="1"/>
                    </a:lnTo>
                    <a:cubicBezTo>
                      <a:pt x="6870" y="1"/>
                      <a:pt x="6871" y="2"/>
                      <a:pt x="6871" y="3"/>
                    </a:cubicBezTo>
                    <a:cubicBezTo>
                      <a:pt x="6871" y="4"/>
                      <a:pt x="6870" y="5"/>
                      <a:pt x="6869" y="5"/>
                    </a:cubicBezTo>
                    <a:lnTo>
                      <a:pt x="6869" y="5"/>
                    </a:lnTo>
                    <a:cubicBezTo>
                      <a:pt x="6868" y="5"/>
                      <a:pt x="6867" y="4"/>
                      <a:pt x="6867" y="3"/>
                    </a:cubicBezTo>
                    <a:cubicBezTo>
                      <a:pt x="6867" y="2"/>
                      <a:pt x="6868" y="1"/>
                      <a:pt x="6869" y="1"/>
                    </a:cubicBezTo>
                    <a:close/>
                    <a:moveTo>
                      <a:pt x="6877" y="1"/>
                    </a:moveTo>
                    <a:lnTo>
                      <a:pt x="6877" y="1"/>
                    </a:lnTo>
                    <a:cubicBezTo>
                      <a:pt x="6878" y="1"/>
                      <a:pt x="6879" y="2"/>
                      <a:pt x="6879" y="3"/>
                    </a:cubicBezTo>
                    <a:cubicBezTo>
                      <a:pt x="6879" y="4"/>
                      <a:pt x="6878" y="5"/>
                      <a:pt x="6877" y="5"/>
                    </a:cubicBezTo>
                    <a:lnTo>
                      <a:pt x="6877" y="5"/>
                    </a:lnTo>
                    <a:cubicBezTo>
                      <a:pt x="6876" y="5"/>
                      <a:pt x="6875" y="4"/>
                      <a:pt x="6875" y="3"/>
                    </a:cubicBezTo>
                    <a:cubicBezTo>
                      <a:pt x="6875" y="2"/>
                      <a:pt x="6876" y="1"/>
                      <a:pt x="6877" y="1"/>
                    </a:cubicBezTo>
                    <a:close/>
                    <a:moveTo>
                      <a:pt x="6885" y="1"/>
                    </a:moveTo>
                    <a:lnTo>
                      <a:pt x="6885" y="1"/>
                    </a:lnTo>
                    <a:cubicBezTo>
                      <a:pt x="6886" y="1"/>
                      <a:pt x="6887" y="2"/>
                      <a:pt x="6887" y="3"/>
                    </a:cubicBezTo>
                    <a:cubicBezTo>
                      <a:pt x="6887" y="4"/>
                      <a:pt x="6886" y="5"/>
                      <a:pt x="6885" y="5"/>
                    </a:cubicBezTo>
                    <a:lnTo>
                      <a:pt x="6885" y="5"/>
                    </a:lnTo>
                    <a:cubicBezTo>
                      <a:pt x="6884" y="5"/>
                      <a:pt x="6883" y="4"/>
                      <a:pt x="6883" y="3"/>
                    </a:cubicBezTo>
                    <a:cubicBezTo>
                      <a:pt x="6883" y="2"/>
                      <a:pt x="6884" y="1"/>
                      <a:pt x="6885" y="1"/>
                    </a:cubicBezTo>
                    <a:close/>
                    <a:moveTo>
                      <a:pt x="6893" y="1"/>
                    </a:moveTo>
                    <a:lnTo>
                      <a:pt x="6893" y="1"/>
                    </a:lnTo>
                    <a:cubicBezTo>
                      <a:pt x="6894" y="1"/>
                      <a:pt x="6895" y="2"/>
                      <a:pt x="6895" y="3"/>
                    </a:cubicBezTo>
                    <a:cubicBezTo>
                      <a:pt x="6895" y="4"/>
                      <a:pt x="6894" y="5"/>
                      <a:pt x="6893" y="5"/>
                    </a:cubicBezTo>
                    <a:lnTo>
                      <a:pt x="6893" y="5"/>
                    </a:lnTo>
                    <a:cubicBezTo>
                      <a:pt x="6892" y="5"/>
                      <a:pt x="6891" y="4"/>
                      <a:pt x="6891" y="3"/>
                    </a:cubicBezTo>
                    <a:cubicBezTo>
                      <a:pt x="6891" y="2"/>
                      <a:pt x="6892" y="1"/>
                      <a:pt x="6893" y="1"/>
                    </a:cubicBezTo>
                    <a:close/>
                    <a:moveTo>
                      <a:pt x="6901" y="1"/>
                    </a:moveTo>
                    <a:lnTo>
                      <a:pt x="6901" y="1"/>
                    </a:lnTo>
                    <a:cubicBezTo>
                      <a:pt x="6902" y="1"/>
                      <a:pt x="6903" y="2"/>
                      <a:pt x="6903" y="3"/>
                    </a:cubicBezTo>
                    <a:cubicBezTo>
                      <a:pt x="6903" y="4"/>
                      <a:pt x="6902" y="5"/>
                      <a:pt x="6901" y="5"/>
                    </a:cubicBezTo>
                    <a:lnTo>
                      <a:pt x="6901" y="5"/>
                    </a:lnTo>
                    <a:cubicBezTo>
                      <a:pt x="6900" y="5"/>
                      <a:pt x="6899" y="4"/>
                      <a:pt x="6899" y="3"/>
                    </a:cubicBezTo>
                    <a:cubicBezTo>
                      <a:pt x="6899" y="2"/>
                      <a:pt x="6900" y="1"/>
                      <a:pt x="6901" y="1"/>
                    </a:cubicBezTo>
                    <a:close/>
                    <a:moveTo>
                      <a:pt x="6909" y="1"/>
                    </a:moveTo>
                    <a:lnTo>
                      <a:pt x="6909" y="1"/>
                    </a:lnTo>
                    <a:cubicBezTo>
                      <a:pt x="6910" y="1"/>
                      <a:pt x="6911" y="2"/>
                      <a:pt x="6911" y="3"/>
                    </a:cubicBezTo>
                    <a:cubicBezTo>
                      <a:pt x="6911" y="4"/>
                      <a:pt x="6910" y="5"/>
                      <a:pt x="6909" y="5"/>
                    </a:cubicBezTo>
                    <a:lnTo>
                      <a:pt x="6909" y="5"/>
                    </a:lnTo>
                    <a:cubicBezTo>
                      <a:pt x="6908" y="5"/>
                      <a:pt x="6907" y="4"/>
                      <a:pt x="6907" y="3"/>
                    </a:cubicBezTo>
                    <a:cubicBezTo>
                      <a:pt x="6907" y="2"/>
                      <a:pt x="6908" y="1"/>
                      <a:pt x="6909" y="1"/>
                    </a:cubicBezTo>
                    <a:close/>
                    <a:moveTo>
                      <a:pt x="6917" y="1"/>
                    </a:moveTo>
                    <a:lnTo>
                      <a:pt x="6917" y="1"/>
                    </a:lnTo>
                    <a:cubicBezTo>
                      <a:pt x="6918" y="1"/>
                      <a:pt x="6919" y="2"/>
                      <a:pt x="6919" y="3"/>
                    </a:cubicBezTo>
                    <a:cubicBezTo>
                      <a:pt x="6919" y="4"/>
                      <a:pt x="6918" y="5"/>
                      <a:pt x="6917" y="5"/>
                    </a:cubicBezTo>
                    <a:lnTo>
                      <a:pt x="6917" y="5"/>
                    </a:lnTo>
                    <a:cubicBezTo>
                      <a:pt x="6916" y="5"/>
                      <a:pt x="6915" y="4"/>
                      <a:pt x="6915" y="3"/>
                    </a:cubicBezTo>
                    <a:cubicBezTo>
                      <a:pt x="6915" y="2"/>
                      <a:pt x="6916" y="1"/>
                      <a:pt x="6917" y="1"/>
                    </a:cubicBezTo>
                    <a:close/>
                    <a:moveTo>
                      <a:pt x="6925" y="1"/>
                    </a:moveTo>
                    <a:lnTo>
                      <a:pt x="6925" y="1"/>
                    </a:lnTo>
                    <a:cubicBezTo>
                      <a:pt x="6926" y="1"/>
                      <a:pt x="6927" y="2"/>
                      <a:pt x="6927" y="3"/>
                    </a:cubicBezTo>
                    <a:cubicBezTo>
                      <a:pt x="6927" y="4"/>
                      <a:pt x="6926" y="5"/>
                      <a:pt x="6925" y="5"/>
                    </a:cubicBezTo>
                    <a:lnTo>
                      <a:pt x="6925" y="5"/>
                    </a:lnTo>
                    <a:cubicBezTo>
                      <a:pt x="6924" y="5"/>
                      <a:pt x="6923" y="4"/>
                      <a:pt x="6923" y="3"/>
                    </a:cubicBezTo>
                    <a:cubicBezTo>
                      <a:pt x="6923" y="2"/>
                      <a:pt x="6924" y="1"/>
                      <a:pt x="6925" y="1"/>
                    </a:cubicBezTo>
                    <a:close/>
                    <a:moveTo>
                      <a:pt x="6933" y="1"/>
                    </a:moveTo>
                    <a:lnTo>
                      <a:pt x="6933" y="1"/>
                    </a:lnTo>
                    <a:cubicBezTo>
                      <a:pt x="6934" y="1"/>
                      <a:pt x="6935" y="2"/>
                      <a:pt x="6935" y="3"/>
                    </a:cubicBezTo>
                    <a:cubicBezTo>
                      <a:pt x="6935" y="4"/>
                      <a:pt x="6934" y="5"/>
                      <a:pt x="6933" y="5"/>
                    </a:cubicBezTo>
                    <a:lnTo>
                      <a:pt x="6933" y="5"/>
                    </a:lnTo>
                    <a:cubicBezTo>
                      <a:pt x="6932" y="5"/>
                      <a:pt x="6931" y="4"/>
                      <a:pt x="6931" y="3"/>
                    </a:cubicBezTo>
                    <a:cubicBezTo>
                      <a:pt x="6931" y="2"/>
                      <a:pt x="6932" y="1"/>
                      <a:pt x="6933" y="1"/>
                    </a:cubicBezTo>
                    <a:close/>
                    <a:moveTo>
                      <a:pt x="6941" y="1"/>
                    </a:moveTo>
                    <a:lnTo>
                      <a:pt x="6941" y="1"/>
                    </a:lnTo>
                    <a:cubicBezTo>
                      <a:pt x="6942" y="1"/>
                      <a:pt x="6943" y="2"/>
                      <a:pt x="6943" y="3"/>
                    </a:cubicBezTo>
                    <a:cubicBezTo>
                      <a:pt x="6943" y="4"/>
                      <a:pt x="6942" y="5"/>
                      <a:pt x="6941" y="5"/>
                    </a:cubicBezTo>
                    <a:lnTo>
                      <a:pt x="6941" y="5"/>
                    </a:lnTo>
                    <a:cubicBezTo>
                      <a:pt x="6940" y="5"/>
                      <a:pt x="6939" y="4"/>
                      <a:pt x="6939" y="3"/>
                    </a:cubicBezTo>
                    <a:cubicBezTo>
                      <a:pt x="6939" y="2"/>
                      <a:pt x="6940" y="1"/>
                      <a:pt x="6941" y="1"/>
                    </a:cubicBezTo>
                    <a:close/>
                    <a:moveTo>
                      <a:pt x="6949" y="1"/>
                    </a:moveTo>
                    <a:lnTo>
                      <a:pt x="6949" y="1"/>
                    </a:lnTo>
                    <a:cubicBezTo>
                      <a:pt x="6950" y="1"/>
                      <a:pt x="6951" y="2"/>
                      <a:pt x="6951" y="3"/>
                    </a:cubicBezTo>
                    <a:cubicBezTo>
                      <a:pt x="6951" y="4"/>
                      <a:pt x="6950" y="5"/>
                      <a:pt x="6949" y="5"/>
                    </a:cubicBezTo>
                    <a:lnTo>
                      <a:pt x="6949" y="5"/>
                    </a:lnTo>
                    <a:cubicBezTo>
                      <a:pt x="6948" y="5"/>
                      <a:pt x="6947" y="4"/>
                      <a:pt x="6947" y="3"/>
                    </a:cubicBezTo>
                    <a:cubicBezTo>
                      <a:pt x="6947" y="2"/>
                      <a:pt x="6948" y="1"/>
                      <a:pt x="6949" y="1"/>
                    </a:cubicBezTo>
                    <a:close/>
                    <a:moveTo>
                      <a:pt x="6957" y="1"/>
                    </a:moveTo>
                    <a:lnTo>
                      <a:pt x="6957" y="1"/>
                    </a:lnTo>
                    <a:cubicBezTo>
                      <a:pt x="6958" y="1"/>
                      <a:pt x="6959" y="2"/>
                      <a:pt x="6959" y="3"/>
                    </a:cubicBezTo>
                    <a:cubicBezTo>
                      <a:pt x="6959" y="4"/>
                      <a:pt x="6958" y="5"/>
                      <a:pt x="6957" y="5"/>
                    </a:cubicBezTo>
                    <a:lnTo>
                      <a:pt x="6957" y="5"/>
                    </a:lnTo>
                    <a:cubicBezTo>
                      <a:pt x="6956" y="5"/>
                      <a:pt x="6955" y="4"/>
                      <a:pt x="6955" y="3"/>
                    </a:cubicBezTo>
                    <a:cubicBezTo>
                      <a:pt x="6955" y="2"/>
                      <a:pt x="6956" y="1"/>
                      <a:pt x="6957" y="1"/>
                    </a:cubicBezTo>
                    <a:close/>
                    <a:moveTo>
                      <a:pt x="6965" y="1"/>
                    </a:moveTo>
                    <a:lnTo>
                      <a:pt x="6965" y="1"/>
                    </a:lnTo>
                    <a:cubicBezTo>
                      <a:pt x="6966" y="1"/>
                      <a:pt x="6967" y="2"/>
                      <a:pt x="6967" y="3"/>
                    </a:cubicBezTo>
                    <a:cubicBezTo>
                      <a:pt x="6967" y="4"/>
                      <a:pt x="6966" y="5"/>
                      <a:pt x="6965" y="5"/>
                    </a:cubicBezTo>
                    <a:lnTo>
                      <a:pt x="6965" y="5"/>
                    </a:lnTo>
                    <a:cubicBezTo>
                      <a:pt x="6964" y="5"/>
                      <a:pt x="6963" y="4"/>
                      <a:pt x="6963" y="3"/>
                    </a:cubicBezTo>
                    <a:cubicBezTo>
                      <a:pt x="6963" y="2"/>
                      <a:pt x="6964" y="1"/>
                      <a:pt x="6965" y="1"/>
                    </a:cubicBezTo>
                    <a:close/>
                    <a:moveTo>
                      <a:pt x="6973" y="1"/>
                    </a:moveTo>
                    <a:lnTo>
                      <a:pt x="6973" y="1"/>
                    </a:lnTo>
                    <a:cubicBezTo>
                      <a:pt x="6974" y="1"/>
                      <a:pt x="6975" y="2"/>
                      <a:pt x="6975" y="3"/>
                    </a:cubicBezTo>
                    <a:cubicBezTo>
                      <a:pt x="6975" y="4"/>
                      <a:pt x="6974" y="5"/>
                      <a:pt x="6973" y="5"/>
                    </a:cubicBezTo>
                    <a:lnTo>
                      <a:pt x="6973" y="5"/>
                    </a:lnTo>
                    <a:cubicBezTo>
                      <a:pt x="6972" y="5"/>
                      <a:pt x="6971" y="4"/>
                      <a:pt x="6971" y="3"/>
                    </a:cubicBezTo>
                    <a:cubicBezTo>
                      <a:pt x="6971" y="2"/>
                      <a:pt x="6972" y="1"/>
                      <a:pt x="6973" y="1"/>
                    </a:cubicBezTo>
                    <a:close/>
                    <a:moveTo>
                      <a:pt x="6981" y="1"/>
                    </a:moveTo>
                    <a:lnTo>
                      <a:pt x="6981" y="1"/>
                    </a:lnTo>
                    <a:cubicBezTo>
                      <a:pt x="6982" y="1"/>
                      <a:pt x="6983" y="2"/>
                      <a:pt x="6983" y="3"/>
                    </a:cubicBezTo>
                    <a:cubicBezTo>
                      <a:pt x="6983" y="4"/>
                      <a:pt x="6982" y="5"/>
                      <a:pt x="6981" y="5"/>
                    </a:cubicBezTo>
                    <a:lnTo>
                      <a:pt x="6981" y="5"/>
                    </a:lnTo>
                    <a:cubicBezTo>
                      <a:pt x="6980" y="5"/>
                      <a:pt x="6979" y="4"/>
                      <a:pt x="6979" y="3"/>
                    </a:cubicBezTo>
                    <a:cubicBezTo>
                      <a:pt x="6979" y="2"/>
                      <a:pt x="6980" y="1"/>
                      <a:pt x="6981" y="1"/>
                    </a:cubicBezTo>
                    <a:close/>
                    <a:moveTo>
                      <a:pt x="6989" y="1"/>
                    </a:moveTo>
                    <a:lnTo>
                      <a:pt x="6989" y="1"/>
                    </a:lnTo>
                    <a:cubicBezTo>
                      <a:pt x="6990" y="1"/>
                      <a:pt x="6991" y="2"/>
                      <a:pt x="6991" y="3"/>
                    </a:cubicBezTo>
                    <a:cubicBezTo>
                      <a:pt x="6991" y="4"/>
                      <a:pt x="6990" y="5"/>
                      <a:pt x="6989" y="5"/>
                    </a:cubicBezTo>
                    <a:lnTo>
                      <a:pt x="6989" y="5"/>
                    </a:lnTo>
                    <a:cubicBezTo>
                      <a:pt x="6988" y="5"/>
                      <a:pt x="6987" y="4"/>
                      <a:pt x="6987" y="3"/>
                    </a:cubicBezTo>
                    <a:cubicBezTo>
                      <a:pt x="6987" y="2"/>
                      <a:pt x="6988" y="1"/>
                      <a:pt x="6989" y="1"/>
                    </a:cubicBezTo>
                    <a:close/>
                    <a:moveTo>
                      <a:pt x="6997" y="1"/>
                    </a:moveTo>
                    <a:lnTo>
                      <a:pt x="6997" y="1"/>
                    </a:lnTo>
                    <a:cubicBezTo>
                      <a:pt x="6998" y="1"/>
                      <a:pt x="6999" y="2"/>
                      <a:pt x="6999" y="3"/>
                    </a:cubicBezTo>
                    <a:cubicBezTo>
                      <a:pt x="6999" y="4"/>
                      <a:pt x="6998" y="5"/>
                      <a:pt x="6997" y="5"/>
                    </a:cubicBezTo>
                    <a:lnTo>
                      <a:pt x="6997" y="5"/>
                    </a:lnTo>
                    <a:cubicBezTo>
                      <a:pt x="6996" y="5"/>
                      <a:pt x="6995" y="4"/>
                      <a:pt x="6995" y="3"/>
                    </a:cubicBezTo>
                    <a:cubicBezTo>
                      <a:pt x="6995" y="2"/>
                      <a:pt x="6996" y="1"/>
                      <a:pt x="6997" y="1"/>
                    </a:cubicBezTo>
                    <a:close/>
                    <a:moveTo>
                      <a:pt x="7005" y="1"/>
                    </a:moveTo>
                    <a:lnTo>
                      <a:pt x="7005" y="1"/>
                    </a:lnTo>
                    <a:cubicBezTo>
                      <a:pt x="7006" y="1"/>
                      <a:pt x="7007" y="2"/>
                      <a:pt x="7007" y="3"/>
                    </a:cubicBezTo>
                    <a:cubicBezTo>
                      <a:pt x="7007" y="4"/>
                      <a:pt x="7006" y="5"/>
                      <a:pt x="7005" y="5"/>
                    </a:cubicBezTo>
                    <a:lnTo>
                      <a:pt x="7005" y="5"/>
                    </a:lnTo>
                    <a:cubicBezTo>
                      <a:pt x="7004" y="5"/>
                      <a:pt x="7003" y="4"/>
                      <a:pt x="7003" y="3"/>
                    </a:cubicBezTo>
                    <a:cubicBezTo>
                      <a:pt x="7003" y="2"/>
                      <a:pt x="7004" y="1"/>
                      <a:pt x="7005" y="1"/>
                    </a:cubicBezTo>
                    <a:close/>
                    <a:moveTo>
                      <a:pt x="7013" y="1"/>
                    </a:moveTo>
                    <a:lnTo>
                      <a:pt x="7013" y="1"/>
                    </a:lnTo>
                    <a:cubicBezTo>
                      <a:pt x="7014" y="1"/>
                      <a:pt x="7015" y="2"/>
                      <a:pt x="7015" y="3"/>
                    </a:cubicBezTo>
                    <a:cubicBezTo>
                      <a:pt x="7015" y="4"/>
                      <a:pt x="7014" y="5"/>
                      <a:pt x="7013" y="5"/>
                    </a:cubicBezTo>
                    <a:lnTo>
                      <a:pt x="7013" y="5"/>
                    </a:lnTo>
                    <a:cubicBezTo>
                      <a:pt x="7012" y="5"/>
                      <a:pt x="7011" y="4"/>
                      <a:pt x="7011" y="3"/>
                    </a:cubicBezTo>
                    <a:cubicBezTo>
                      <a:pt x="7011" y="2"/>
                      <a:pt x="7012" y="1"/>
                      <a:pt x="7013" y="1"/>
                    </a:cubicBezTo>
                    <a:close/>
                    <a:moveTo>
                      <a:pt x="7021" y="1"/>
                    </a:moveTo>
                    <a:lnTo>
                      <a:pt x="7021" y="1"/>
                    </a:lnTo>
                    <a:cubicBezTo>
                      <a:pt x="7022" y="1"/>
                      <a:pt x="7023" y="2"/>
                      <a:pt x="7023" y="3"/>
                    </a:cubicBezTo>
                    <a:cubicBezTo>
                      <a:pt x="7023" y="4"/>
                      <a:pt x="7022" y="5"/>
                      <a:pt x="7021" y="5"/>
                    </a:cubicBezTo>
                    <a:lnTo>
                      <a:pt x="7021" y="5"/>
                    </a:lnTo>
                    <a:cubicBezTo>
                      <a:pt x="7020" y="5"/>
                      <a:pt x="7019" y="4"/>
                      <a:pt x="7019" y="3"/>
                    </a:cubicBezTo>
                    <a:cubicBezTo>
                      <a:pt x="7019" y="2"/>
                      <a:pt x="7020" y="1"/>
                      <a:pt x="7021" y="1"/>
                    </a:cubicBezTo>
                    <a:close/>
                    <a:moveTo>
                      <a:pt x="7029" y="1"/>
                    </a:moveTo>
                    <a:lnTo>
                      <a:pt x="7029" y="1"/>
                    </a:lnTo>
                    <a:cubicBezTo>
                      <a:pt x="7030" y="1"/>
                      <a:pt x="7031" y="2"/>
                      <a:pt x="7031" y="3"/>
                    </a:cubicBezTo>
                    <a:cubicBezTo>
                      <a:pt x="7031" y="4"/>
                      <a:pt x="7030" y="5"/>
                      <a:pt x="7029" y="5"/>
                    </a:cubicBezTo>
                    <a:lnTo>
                      <a:pt x="7029" y="5"/>
                    </a:lnTo>
                    <a:cubicBezTo>
                      <a:pt x="7028" y="5"/>
                      <a:pt x="7027" y="4"/>
                      <a:pt x="7027" y="3"/>
                    </a:cubicBezTo>
                    <a:cubicBezTo>
                      <a:pt x="7027" y="2"/>
                      <a:pt x="7028" y="1"/>
                      <a:pt x="7029" y="1"/>
                    </a:cubicBezTo>
                    <a:close/>
                    <a:moveTo>
                      <a:pt x="7037" y="1"/>
                    </a:moveTo>
                    <a:lnTo>
                      <a:pt x="7037" y="1"/>
                    </a:lnTo>
                    <a:cubicBezTo>
                      <a:pt x="7038" y="1"/>
                      <a:pt x="7039" y="2"/>
                      <a:pt x="7039" y="3"/>
                    </a:cubicBezTo>
                    <a:cubicBezTo>
                      <a:pt x="7039" y="4"/>
                      <a:pt x="7038" y="5"/>
                      <a:pt x="7037" y="5"/>
                    </a:cubicBezTo>
                    <a:lnTo>
                      <a:pt x="7037" y="5"/>
                    </a:lnTo>
                    <a:cubicBezTo>
                      <a:pt x="7036" y="5"/>
                      <a:pt x="7035" y="4"/>
                      <a:pt x="7035" y="3"/>
                    </a:cubicBezTo>
                    <a:cubicBezTo>
                      <a:pt x="7035" y="2"/>
                      <a:pt x="7036" y="1"/>
                      <a:pt x="7037" y="1"/>
                    </a:cubicBezTo>
                    <a:close/>
                    <a:moveTo>
                      <a:pt x="7045" y="1"/>
                    </a:moveTo>
                    <a:lnTo>
                      <a:pt x="7045" y="1"/>
                    </a:lnTo>
                    <a:cubicBezTo>
                      <a:pt x="7046" y="1"/>
                      <a:pt x="7047" y="2"/>
                      <a:pt x="7047" y="3"/>
                    </a:cubicBezTo>
                    <a:cubicBezTo>
                      <a:pt x="7047" y="4"/>
                      <a:pt x="7046" y="5"/>
                      <a:pt x="7045" y="5"/>
                    </a:cubicBezTo>
                    <a:lnTo>
                      <a:pt x="7045" y="5"/>
                    </a:lnTo>
                    <a:cubicBezTo>
                      <a:pt x="7044" y="5"/>
                      <a:pt x="7043" y="4"/>
                      <a:pt x="7043" y="3"/>
                    </a:cubicBezTo>
                    <a:cubicBezTo>
                      <a:pt x="7043" y="2"/>
                      <a:pt x="7044" y="1"/>
                      <a:pt x="7045" y="1"/>
                    </a:cubicBezTo>
                    <a:close/>
                    <a:moveTo>
                      <a:pt x="7053" y="1"/>
                    </a:moveTo>
                    <a:lnTo>
                      <a:pt x="7053" y="1"/>
                    </a:lnTo>
                    <a:cubicBezTo>
                      <a:pt x="7054" y="1"/>
                      <a:pt x="7055" y="2"/>
                      <a:pt x="7055" y="3"/>
                    </a:cubicBezTo>
                    <a:cubicBezTo>
                      <a:pt x="7055" y="4"/>
                      <a:pt x="7054" y="5"/>
                      <a:pt x="7053" y="5"/>
                    </a:cubicBezTo>
                    <a:lnTo>
                      <a:pt x="7053" y="5"/>
                    </a:lnTo>
                    <a:cubicBezTo>
                      <a:pt x="7052" y="5"/>
                      <a:pt x="7051" y="4"/>
                      <a:pt x="7051" y="3"/>
                    </a:cubicBezTo>
                    <a:cubicBezTo>
                      <a:pt x="7051" y="2"/>
                      <a:pt x="7052" y="1"/>
                      <a:pt x="7053" y="1"/>
                    </a:cubicBezTo>
                    <a:close/>
                    <a:moveTo>
                      <a:pt x="7061" y="1"/>
                    </a:moveTo>
                    <a:lnTo>
                      <a:pt x="7061" y="1"/>
                    </a:lnTo>
                    <a:cubicBezTo>
                      <a:pt x="7062" y="1"/>
                      <a:pt x="7063" y="2"/>
                      <a:pt x="7063" y="3"/>
                    </a:cubicBezTo>
                    <a:cubicBezTo>
                      <a:pt x="7063" y="4"/>
                      <a:pt x="7062" y="5"/>
                      <a:pt x="7061" y="5"/>
                    </a:cubicBezTo>
                    <a:lnTo>
                      <a:pt x="7061" y="5"/>
                    </a:lnTo>
                    <a:cubicBezTo>
                      <a:pt x="7060" y="5"/>
                      <a:pt x="7059" y="4"/>
                      <a:pt x="7059" y="3"/>
                    </a:cubicBezTo>
                    <a:cubicBezTo>
                      <a:pt x="7059" y="2"/>
                      <a:pt x="7060" y="1"/>
                      <a:pt x="7061" y="1"/>
                    </a:cubicBezTo>
                    <a:close/>
                    <a:moveTo>
                      <a:pt x="7069" y="1"/>
                    </a:moveTo>
                    <a:lnTo>
                      <a:pt x="7069" y="1"/>
                    </a:lnTo>
                    <a:cubicBezTo>
                      <a:pt x="7070" y="1"/>
                      <a:pt x="7071" y="2"/>
                      <a:pt x="7071" y="3"/>
                    </a:cubicBezTo>
                    <a:cubicBezTo>
                      <a:pt x="7071" y="4"/>
                      <a:pt x="7070" y="5"/>
                      <a:pt x="7069" y="5"/>
                    </a:cubicBezTo>
                    <a:lnTo>
                      <a:pt x="7069" y="5"/>
                    </a:lnTo>
                    <a:cubicBezTo>
                      <a:pt x="7068" y="5"/>
                      <a:pt x="7067" y="4"/>
                      <a:pt x="7067" y="3"/>
                    </a:cubicBezTo>
                    <a:cubicBezTo>
                      <a:pt x="7067" y="2"/>
                      <a:pt x="7068" y="1"/>
                      <a:pt x="7069" y="1"/>
                    </a:cubicBezTo>
                    <a:close/>
                    <a:moveTo>
                      <a:pt x="7077" y="1"/>
                    </a:moveTo>
                    <a:lnTo>
                      <a:pt x="7077" y="1"/>
                    </a:lnTo>
                    <a:cubicBezTo>
                      <a:pt x="7078" y="1"/>
                      <a:pt x="7079" y="2"/>
                      <a:pt x="7079" y="3"/>
                    </a:cubicBezTo>
                    <a:cubicBezTo>
                      <a:pt x="7079" y="4"/>
                      <a:pt x="7078" y="5"/>
                      <a:pt x="7077" y="5"/>
                    </a:cubicBezTo>
                    <a:lnTo>
                      <a:pt x="7077" y="5"/>
                    </a:lnTo>
                    <a:cubicBezTo>
                      <a:pt x="7076" y="5"/>
                      <a:pt x="7075" y="4"/>
                      <a:pt x="7075" y="3"/>
                    </a:cubicBezTo>
                    <a:cubicBezTo>
                      <a:pt x="7075" y="2"/>
                      <a:pt x="7076" y="1"/>
                      <a:pt x="7077" y="1"/>
                    </a:cubicBezTo>
                    <a:close/>
                    <a:moveTo>
                      <a:pt x="7085" y="1"/>
                    </a:moveTo>
                    <a:lnTo>
                      <a:pt x="7085" y="1"/>
                    </a:lnTo>
                    <a:cubicBezTo>
                      <a:pt x="7086" y="1"/>
                      <a:pt x="7087" y="2"/>
                      <a:pt x="7087" y="3"/>
                    </a:cubicBezTo>
                    <a:cubicBezTo>
                      <a:pt x="7087" y="4"/>
                      <a:pt x="7086" y="5"/>
                      <a:pt x="7085" y="5"/>
                    </a:cubicBezTo>
                    <a:lnTo>
                      <a:pt x="7085" y="5"/>
                    </a:lnTo>
                    <a:cubicBezTo>
                      <a:pt x="7084" y="5"/>
                      <a:pt x="7083" y="4"/>
                      <a:pt x="7083" y="3"/>
                    </a:cubicBezTo>
                    <a:cubicBezTo>
                      <a:pt x="7083" y="2"/>
                      <a:pt x="7084" y="1"/>
                      <a:pt x="7085" y="1"/>
                    </a:cubicBezTo>
                    <a:close/>
                    <a:moveTo>
                      <a:pt x="7093" y="1"/>
                    </a:moveTo>
                    <a:lnTo>
                      <a:pt x="7093" y="1"/>
                    </a:lnTo>
                    <a:cubicBezTo>
                      <a:pt x="7094" y="1"/>
                      <a:pt x="7095" y="2"/>
                      <a:pt x="7095" y="3"/>
                    </a:cubicBezTo>
                    <a:cubicBezTo>
                      <a:pt x="7095" y="4"/>
                      <a:pt x="7094" y="5"/>
                      <a:pt x="7093" y="5"/>
                    </a:cubicBezTo>
                    <a:lnTo>
                      <a:pt x="7093" y="5"/>
                    </a:lnTo>
                    <a:cubicBezTo>
                      <a:pt x="7092" y="5"/>
                      <a:pt x="7091" y="4"/>
                      <a:pt x="7091" y="3"/>
                    </a:cubicBezTo>
                    <a:cubicBezTo>
                      <a:pt x="7091" y="2"/>
                      <a:pt x="7092" y="1"/>
                      <a:pt x="7093" y="1"/>
                    </a:cubicBezTo>
                    <a:close/>
                    <a:moveTo>
                      <a:pt x="7101" y="1"/>
                    </a:moveTo>
                    <a:lnTo>
                      <a:pt x="7101" y="1"/>
                    </a:lnTo>
                    <a:cubicBezTo>
                      <a:pt x="7102" y="1"/>
                      <a:pt x="7103" y="2"/>
                      <a:pt x="7103" y="3"/>
                    </a:cubicBezTo>
                    <a:cubicBezTo>
                      <a:pt x="7103" y="4"/>
                      <a:pt x="7102" y="5"/>
                      <a:pt x="7101" y="5"/>
                    </a:cubicBezTo>
                    <a:lnTo>
                      <a:pt x="7101" y="5"/>
                    </a:lnTo>
                    <a:cubicBezTo>
                      <a:pt x="7100" y="5"/>
                      <a:pt x="7099" y="4"/>
                      <a:pt x="7099" y="3"/>
                    </a:cubicBezTo>
                    <a:cubicBezTo>
                      <a:pt x="7099" y="2"/>
                      <a:pt x="7100" y="1"/>
                      <a:pt x="7101" y="1"/>
                    </a:cubicBezTo>
                    <a:close/>
                    <a:moveTo>
                      <a:pt x="7109" y="1"/>
                    </a:moveTo>
                    <a:lnTo>
                      <a:pt x="7109" y="1"/>
                    </a:lnTo>
                    <a:cubicBezTo>
                      <a:pt x="7110" y="1"/>
                      <a:pt x="7111" y="2"/>
                      <a:pt x="7111" y="3"/>
                    </a:cubicBezTo>
                    <a:cubicBezTo>
                      <a:pt x="7111" y="4"/>
                      <a:pt x="7110" y="5"/>
                      <a:pt x="7109" y="5"/>
                    </a:cubicBezTo>
                    <a:lnTo>
                      <a:pt x="7109" y="5"/>
                    </a:lnTo>
                    <a:cubicBezTo>
                      <a:pt x="7108" y="5"/>
                      <a:pt x="7107" y="4"/>
                      <a:pt x="7107" y="3"/>
                    </a:cubicBezTo>
                    <a:cubicBezTo>
                      <a:pt x="7107" y="2"/>
                      <a:pt x="7108" y="1"/>
                      <a:pt x="7109" y="1"/>
                    </a:cubicBezTo>
                    <a:close/>
                    <a:moveTo>
                      <a:pt x="7117" y="1"/>
                    </a:moveTo>
                    <a:lnTo>
                      <a:pt x="7117" y="1"/>
                    </a:lnTo>
                    <a:cubicBezTo>
                      <a:pt x="7118" y="1"/>
                      <a:pt x="7119" y="2"/>
                      <a:pt x="7119" y="3"/>
                    </a:cubicBezTo>
                    <a:cubicBezTo>
                      <a:pt x="7119" y="4"/>
                      <a:pt x="7118" y="5"/>
                      <a:pt x="7117" y="5"/>
                    </a:cubicBezTo>
                    <a:lnTo>
                      <a:pt x="7117" y="5"/>
                    </a:lnTo>
                    <a:cubicBezTo>
                      <a:pt x="7116" y="5"/>
                      <a:pt x="7115" y="4"/>
                      <a:pt x="7115" y="3"/>
                    </a:cubicBezTo>
                    <a:cubicBezTo>
                      <a:pt x="7115" y="2"/>
                      <a:pt x="7116" y="1"/>
                      <a:pt x="7117" y="1"/>
                    </a:cubicBezTo>
                    <a:close/>
                    <a:moveTo>
                      <a:pt x="7125" y="1"/>
                    </a:moveTo>
                    <a:lnTo>
                      <a:pt x="7125" y="1"/>
                    </a:lnTo>
                    <a:cubicBezTo>
                      <a:pt x="7126" y="1"/>
                      <a:pt x="7127" y="2"/>
                      <a:pt x="7127" y="3"/>
                    </a:cubicBezTo>
                    <a:cubicBezTo>
                      <a:pt x="7127" y="4"/>
                      <a:pt x="7126" y="5"/>
                      <a:pt x="7125" y="5"/>
                    </a:cubicBezTo>
                    <a:lnTo>
                      <a:pt x="7125" y="5"/>
                    </a:lnTo>
                    <a:cubicBezTo>
                      <a:pt x="7124" y="5"/>
                      <a:pt x="7123" y="4"/>
                      <a:pt x="7123" y="3"/>
                    </a:cubicBezTo>
                    <a:cubicBezTo>
                      <a:pt x="7123" y="2"/>
                      <a:pt x="7124" y="1"/>
                      <a:pt x="7125" y="1"/>
                    </a:cubicBezTo>
                    <a:close/>
                    <a:moveTo>
                      <a:pt x="7133" y="1"/>
                    </a:moveTo>
                    <a:lnTo>
                      <a:pt x="7133" y="1"/>
                    </a:lnTo>
                    <a:cubicBezTo>
                      <a:pt x="7134" y="1"/>
                      <a:pt x="7135" y="2"/>
                      <a:pt x="7135" y="3"/>
                    </a:cubicBezTo>
                    <a:cubicBezTo>
                      <a:pt x="7135" y="4"/>
                      <a:pt x="7134" y="5"/>
                      <a:pt x="7133" y="5"/>
                    </a:cubicBezTo>
                    <a:lnTo>
                      <a:pt x="7133" y="5"/>
                    </a:lnTo>
                    <a:cubicBezTo>
                      <a:pt x="7132" y="5"/>
                      <a:pt x="7131" y="4"/>
                      <a:pt x="7131" y="3"/>
                    </a:cubicBezTo>
                    <a:cubicBezTo>
                      <a:pt x="7131" y="2"/>
                      <a:pt x="7132" y="1"/>
                      <a:pt x="7133" y="1"/>
                    </a:cubicBezTo>
                    <a:close/>
                    <a:moveTo>
                      <a:pt x="7141" y="1"/>
                    </a:moveTo>
                    <a:lnTo>
                      <a:pt x="7141" y="1"/>
                    </a:lnTo>
                    <a:cubicBezTo>
                      <a:pt x="7142" y="1"/>
                      <a:pt x="7143" y="2"/>
                      <a:pt x="7143" y="3"/>
                    </a:cubicBezTo>
                    <a:cubicBezTo>
                      <a:pt x="7143" y="4"/>
                      <a:pt x="7142" y="5"/>
                      <a:pt x="7141" y="5"/>
                    </a:cubicBezTo>
                    <a:lnTo>
                      <a:pt x="7141" y="5"/>
                    </a:lnTo>
                    <a:cubicBezTo>
                      <a:pt x="7140" y="5"/>
                      <a:pt x="7139" y="4"/>
                      <a:pt x="7139" y="3"/>
                    </a:cubicBezTo>
                    <a:cubicBezTo>
                      <a:pt x="7139" y="2"/>
                      <a:pt x="7140" y="1"/>
                      <a:pt x="7141" y="1"/>
                    </a:cubicBezTo>
                    <a:close/>
                    <a:moveTo>
                      <a:pt x="7149" y="1"/>
                    </a:moveTo>
                    <a:lnTo>
                      <a:pt x="7149" y="1"/>
                    </a:lnTo>
                    <a:cubicBezTo>
                      <a:pt x="7150" y="1"/>
                      <a:pt x="7151" y="2"/>
                      <a:pt x="7151" y="3"/>
                    </a:cubicBezTo>
                    <a:cubicBezTo>
                      <a:pt x="7151" y="4"/>
                      <a:pt x="7150" y="5"/>
                      <a:pt x="7149" y="5"/>
                    </a:cubicBezTo>
                    <a:lnTo>
                      <a:pt x="7149" y="5"/>
                    </a:lnTo>
                    <a:cubicBezTo>
                      <a:pt x="7148" y="5"/>
                      <a:pt x="7147" y="4"/>
                      <a:pt x="7147" y="3"/>
                    </a:cubicBezTo>
                    <a:cubicBezTo>
                      <a:pt x="7147" y="2"/>
                      <a:pt x="7148" y="1"/>
                      <a:pt x="7149" y="1"/>
                    </a:cubicBezTo>
                    <a:close/>
                    <a:moveTo>
                      <a:pt x="7157" y="1"/>
                    </a:moveTo>
                    <a:lnTo>
                      <a:pt x="7157" y="1"/>
                    </a:lnTo>
                    <a:cubicBezTo>
                      <a:pt x="7158" y="1"/>
                      <a:pt x="7159" y="2"/>
                      <a:pt x="7159" y="3"/>
                    </a:cubicBezTo>
                    <a:cubicBezTo>
                      <a:pt x="7159" y="4"/>
                      <a:pt x="7158" y="5"/>
                      <a:pt x="7157" y="5"/>
                    </a:cubicBezTo>
                    <a:lnTo>
                      <a:pt x="7157" y="5"/>
                    </a:lnTo>
                    <a:cubicBezTo>
                      <a:pt x="7156" y="5"/>
                      <a:pt x="7155" y="4"/>
                      <a:pt x="7155" y="3"/>
                    </a:cubicBezTo>
                    <a:cubicBezTo>
                      <a:pt x="7155" y="2"/>
                      <a:pt x="7156" y="1"/>
                      <a:pt x="7157" y="1"/>
                    </a:cubicBezTo>
                    <a:close/>
                    <a:moveTo>
                      <a:pt x="7165" y="1"/>
                    </a:moveTo>
                    <a:lnTo>
                      <a:pt x="7165" y="1"/>
                    </a:lnTo>
                    <a:cubicBezTo>
                      <a:pt x="7166" y="1"/>
                      <a:pt x="7167" y="2"/>
                      <a:pt x="7167" y="3"/>
                    </a:cubicBezTo>
                    <a:cubicBezTo>
                      <a:pt x="7167" y="4"/>
                      <a:pt x="7166" y="5"/>
                      <a:pt x="7165" y="5"/>
                    </a:cubicBezTo>
                    <a:lnTo>
                      <a:pt x="7165" y="5"/>
                    </a:lnTo>
                    <a:cubicBezTo>
                      <a:pt x="7164" y="5"/>
                      <a:pt x="7163" y="4"/>
                      <a:pt x="7163" y="3"/>
                    </a:cubicBezTo>
                    <a:cubicBezTo>
                      <a:pt x="7163" y="2"/>
                      <a:pt x="7164" y="1"/>
                      <a:pt x="7165" y="1"/>
                    </a:cubicBezTo>
                    <a:close/>
                    <a:moveTo>
                      <a:pt x="7173" y="1"/>
                    </a:moveTo>
                    <a:lnTo>
                      <a:pt x="7173" y="1"/>
                    </a:lnTo>
                    <a:cubicBezTo>
                      <a:pt x="7174" y="1"/>
                      <a:pt x="7175" y="2"/>
                      <a:pt x="7175" y="3"/>
                    </a:cubicBezTo>
                    <a:cubicBezTo>
                      <a:pt x="7175" y="4"/>
                      <a:pt x="7174" y="5"/>
                      <a:pt x="7173" y="5"/>
                    </a:cubicBezTo>
                    <a:lnTo>
                      <a:pt x="7173" y="5"/>
                    </a:lnTo>
                    <a:cubicBezTo>
                      <a:pt x="7172" y="5"/>
                      <a:pt x="7171" y="4"/>
                      <a:pt x="7171" y="3"/>
                    </a:cubicBezTo>
                    <a:cubicBezTo>
                      <a:pt x="7171" y="2"/>
                      <a:pt x="7172" y="1"/>
                      <a:pt x="7173" y="1"/>
                    </a:cubicBezTo>
                    <a:close/>
                    <a:moveTo>
                      <a:pt x="7181" y="1"/>
                    </a:moveTo>
                    <a:lnTo>
                      <a:pt x="7181" y="1"/>
                    </a:lnTo>
                    <a:cubicBezTo>
                      <a:pt x="7182" y="1"/>
                      <a:pt x="7183" y="2"/>
                      <a:pt x="7183" y="3"/>
                    </a:cubicBezTo>
                    <a:cubicBezTo>
                      <a:pt x="7183" y="4"/>
                      <a:pt x="7182" y="5"/>
                      <a:pt x="7181" y="5"/>
                    </a:cubicBezTo>
                    <a:lnTo>
                      <a:pt x="7181" y="5"/>
                    </a:lnTo>
                    <a:cubicBezTo>
                      <a:pt x="7180" y="5"/>
                      <a:pt x="7179" y="4"/>
                      <a:pt x="7179" y="3"/>
                    </a:cubicBezTo>
                    <a:cubicBezTo>
                      <a:pt x="7179" y="2"/>
                      <a:pt x="7180" y="1"/>
                      <a:pt x="7181" y="1"/>
                    </a:cubicBezTo>
                    <a:close/>
                    <a:moveTo>
                      <a:pt x="7189" y="1"/>
                    </a:moveTo>
                    <a:lnTo>
                      <a:pt x="7189" y="1"/>
                    </a:lnTo>
                    <a:cubicBezTo>
                      <a:pt x="7190" y="1"/>
                      <a:pt x="7191" y="2"/>
                      <a:pt x="7191" y="3"/>
                    </a:cubicBezTo>
                    <a:cubicBezTo>
                      <a:pt x="7191" y="4"/>
                      <a:pt x="7190" y="5"/>
                      <a:pt x="7189" y="5"/>
                    </a:cubicBezTo>
                    <a:lnTo>
                      <a:pt x="7189" y="5"/>
                    </a:lnTo>
                    <a:cubicBezTo>
                      <a:pt x="7188" y="5"/>
                      <a:pt x="7187" y="4"/>
                      <a:pt x="7187" y="3"/>
                    </a:cubicBezTo>
                    <a:cubicBezTo>
                      <a:pt x="7187" y="2"/>
                      <a:pt x="7188" y="1"/>
                      <a:pt x="7189" y="1"/>
                    </a:cubicBezTo>
                    <a:close/>
                    <a:moveTo>
                      <a:pt x="7197" y="1"/>
                    </a:moveTo>
                    <a:lnTo>
                      <a:pt x="7197" y="1"/>
                    </a:lnTo>
                    <a:cubicBezTo>
                      <a:pt x="7198" y="1"/>
                      <a:pt x="7199" y="2"/>
                      <a:pt x="7199" y="3"/>
                    </a:cubicBezTo>
                    <a:cubicBezTo>
                      <a:pt x="7199" y="4"/>
                      <a:pt x="7198" y="5"/>
                      <a:pt x="7197" y="5"/>
                    </a:cubicBezTo>
                    <a:lnTo>
                      <a:pt x="7197" y="5"/>
                    </a:lnTo>
                    <a:cubicBezTo>
                      <a:pt x="7196" y="5"/>
                      <a:pt x="7195" y="4"/>
                      <a:pt x="7195" y="3"/>
                    </a:cubicBezTo>
                    <a:cubicBezTo>
                      <a:pt x="7195" y="2"/>
                      <a:pt x="7196" y="1"/>
                      <a:pt x="7197" y="1"/>
                    </a:cubicBezTo>
                    <a:close/>
                    <a:moveTo>
                      <a:pt x="7205" y="1"/>
                    </a:moveTo>
                    <a:lnTo>
                      <a:pt x="7205" y="1"/>
                    </a:lnTo>
                    <a:cubicBezTo>
                      <a:pt x="7206" y="1"/>
                      <a:pt x="7207" y="2"/>
                      <a:pt x="7207" y="3"/>
                    </a:cubicBezTo>
                    <a:cubicBezTo>
                      <a:pt x="7207" y="4"/>
                      <a:pt x="7206" y="5"/>
                      <a:pt x="7205" y="5"/>
                    </a:cubicBezTo>
                    <a:lnTo>
                      <a:pt x="7205" y="5"/>
                    </a:lnTo>
                    <a:cubicBezTo>
                      <a:pt x="7204" y="5"/>
                      <a:pt x="7203" y="4"/>
                      <a:pt x="7203" y="3"/>
                    </a:cubicBezTo>
                    <a:cubicBezTo>
                      <a:pt x="7203" y="2"/>
                      <a:pt x="7204" y="1"/>
                      <a:pt x="7205" y="1"/>
                    </a:cubicBezTo>
                    <a:close/>
                    <a:moveTo>
                      <a:pt x="7213" y="1"/>
                    </a:moveTo>
                    <a:lnTo>
                      <a:pt x="7213" y="1"/>
                    </a:lnTo>
                    <a:cubicBezTo>
                      <a:pt x="7214" y="1"/>
                      <a:pt x="7215" y="2"/>
                      <a:pt x="7215" y="3"/>
                    </a:cubicBezTo>
                    <a:cubicBezTo>
                      <a:pt x="7215" y="4"/>
                      <a:pt x="7214" y="5"/>
                      <a:pt x="7213" y="5"/>
                    </a:cubicBezTo>
                    <a:lnTo>
                      <a:pt x="7213" y="5"/>
                    </a:lnTo>
                    <a:cubicBezTo>
                      <a:pt x="7212" y="5"/>
                      <a:pt x="7211" y="4"/>
                      <a:pt x="7211" y="3"/>
                    </a:cubicBezTo>
                    <a:cubicBezTo>
                      <a:pt x="7211" y="2"/>
                      <a:pt x="7212" y="1"/>
                      <a:pt x="7213" y="1"/>
                    </a:cubicBezTo>
                    <a:close/>
                    <a:moveTo>
                      <a:pt x="7221" y="1"/>
                    </a:moveTo>
                    <a:lnTo>
                      <a:pt x="7221" y="1"/>
                    </a:lnTo>
                    <a:cubicBezTo>
                      <a:pt x="7222" y="1"/>
                      <a:pt x="7223" y="2"/>
                      <a:pt x="7223" y="3"/>
                    </a:cubicBezTo>
                    <a:cubicBezTo>
                      <a:pt x="7223" y="4"/>
                      <a:pt x="7222" y="5"/>
                      <a:pt x="7221" y="5"/>
                    </a:cubicBezTo>
                    <a:lnTo>
                      <a:pt x="7221" y="5"/>
                    </a:lnTo>
                    <a:cubicBezTo>
                      <a:pt x="7220" y="5"/>
                      <a:pt x="7219" y="4"/>
                      <a:pt x="7219" y="3"/>
                    </a:cubicBezTo>
                    <a:cubicBezTo>
                      <a:pt x="7219" y="2"/>
                      <a:pt x="7220" y="1"/>
                      <a:pt x="7221" y="1"/>
                    </a:cubicBezTo>
                    <a:close/>
                    <a:moveTo>
                      <a:pt x="7229" y="1"/>
                    </a:moveTo>
                    <a:lnTo>
                      <a:pt x="7229" y="1"/>
                    </a:lnTo>
                    <a:cubicBezTo>
                      <a:pt x="7230" y="1"/>
                      <a:pt x="7231" y="2"/>
                      <a:pt x="7231" y="3"/>
                    </a:cubicBezTo>
                    <a:cubicBezTo>
                      <a:pt x="7231" y="4"/>
                      <a:pt x="7230" y="5"/>
                      <a:pt x="7229" y="5"/>
                    </a:cubicBezTo>
                    <a:lnTo>
                      <a:pt x="7229" y="5"/>
                    </a:lnTo>
                    <a:cubicBezTo>
                      <a:pt x="7228" y="5"/>
                      <a:pt x="7227" y="4"/>
                      <a:pt x="7227" y="3"/>
                    </a:cubicBezTo>
                    <a:cubicBezTo>
                      <a:pt x="7227" y="2"/>
                      <a:pt x="7228" y="1"/>
                      <a:pt x="7229" y="1"/>
                    </a:cubicBezTo>
                    <a:close/>
                    <a:moveTo>
                      <a:pt x="7237" y="1"/>
                    </a:moveTo>
                    <a:lnTo>
                      <a:pt x="7237" y="1"/>
                    </a:lnTo>
                    <a:cubicBezTo>
                      <a:pt x="7238" y="1"/>
                      <a:pt x="7239" y="2"/>
                      <a:pt x="7239" y="3"/>
                    </a:cubicBezTo>
                    <a:cubicBezTo>
                      <a:pt x="7239" y="4"/>
                      <a:pt x="7238" y="5"/>
                      <a:pt x="7237" y="5"/>
                    </a:cubicBezTo>
                    <a:lnTo>
                      <a:pt x="7237" y="5"/>
                    </a:lnTo>
                    <a:cubicBezTo>
                      <a:pt x="7236" y="5"/>
                      <a:pt x="7235" y="4"/>
                      <a:pt x="7235" y="3"/>
                    </a:cubicBezTo>
                    <a:cubicBezTo>
                      <a:pt x="7235" y="2"/>
                      <a:pt x="7236" y="1"/>
                      <a:pt x="7237" y="1"/>
                    </a:cubicBezTo>
                    <a:close/>
                    <a:moveTo>
                      <a:pt x="7245" y="1"/>
                    </a:moveTo>
                    <a:lnTo>
                      <a:pt x="7245" y="1"/>
                    </a:lnTo>
                    <a:cubicBezTo>
                      <a:pt x="7246" y="1"/>
                      <a:pt x="7247" y="2"/>
                      <a:pt x="7247" y="3"/>
                    </a:cubicBezTo>
                    <a:cubicBezTo>
                      <a:pt x="7247" y="4"/>
                      <a:pt x="7246" y="5"/>
                      <a:pt x="7245" y="5"/>
                    </a:cubicBezTo>
                    <a:lnTo>
                      <a:pt x="7245" y="5"/>
                    </a:lnTo>
                    <a:cubicBezTo>
                      <a:pt x="7244" y="5"/>
                      <a:pt x="7243" y="4"/>
                      <a:pt x="7243" y="3"/>
                    </a:cubicBezTo>
                    <a:cubicBezTo>
                      <a:pt x="7243" y="2"/>
                      <a:pt x="7244" y="1"/>
                      <a:pt x="7245" y="1"/>
                    </a:cubicBezTo>
                    <a:close/>
                    <a:moveTo>
                      <a:pt x="7253" y="1"/>
                    </a:moveTo>
                    <a:lnTo>
                      <a:pt x="7253" y="1"/>
                    </a:lnTo>
                    <a:cubicBezTo>
                      <a:pt x="7254" y="1"/>
                      <a:pt x="7255" y="2"/>
                      <a:pt x="7255" y="3"/>
                    </a:cubicBezTo>
                    <a:cubicBezTo>
                      <a:pt x="7255" y="4"/>
                      <a:pt x="7254" y="5"/>
                      <a:pt x="7253" y="5"/>
                    </a:cubicBezTo>
                    <a:lnTo>
                      <a:pt x="7253" y="5"/>
                    </a:lnTo>
                    <a:cubicBezTo>
                      <a:pt x="7252" y="5"/>
                      <a:pt x="7251" y="4"/>
                      <a:pt x="7251" y="3"/>
                    </a:cubicBezTo>
                    <a:cubicBezTo>
                      <a:pt x="7251" y="2"/>
                      <a:pt x="7252" y="1"/>
                      <a:pt x="7253" y="1"/>
                    </a:cubicBezTo>
                    <a:close/>
                    <a:moveTo>
                      <a:pt x="7261" y="1"/>
                    </a:moveTo>
                    <a:lnTo>
                      <a:pt x="7261" y="1"/>
                    </a:lnTo>
                    <a:cubicBezTo>
                      <a:pt x="7262" y="1"/>
                      <a:pt x="7263" y="2"/>
                      <a:pt x="7263" y="3"/>
                    </a:cubicBezTo>
                    <a:cubicBezTo>
                      <a:pt x="7263" y="4"/>
                      <a:pt x="7262" y="5"/>
                      <a:pt x="7261" y="5"/>
                    </a:cubicBezTo>
                    <a:lnTo>
                      <a:pt x="7261" y="5"/>
                    </a:lnTo>
                    <a:cubicBezTo>
                      <a:pt x="7260" y="5"/>
                      <a:pt x="7259" y="4"/>
                      <a:pt x="7259" y="3"/>
                    </a:cubicBezTo>
                    <a:cubicBezTo>
                      <a:pt x="7259" y="2"/>
                      <a:pt x="7260" y="1"/>
                      <a:pt x="7261" y="1"/>
                    </a:cubicBezTo>
                    <a:close/>
                    <a:moveTo>
                      <a:pt x="7269" y="1"/>
                    </a:moveTo>
                    <a:lnTo>
                      <a:pt x="7269" y="1"/>
                    </a:lnTo>
                    <a:cubicBezTo>
                      <a:pt x="7270" y="1"/>
                      <a:pt x="7271" y="2"/>
                      <a:pt x="7271" y="3"/>
                    </a:cubicBezTo>
                    <a:cubicBezTo>
                      <a:pt x="7271" y="4"/>
                      <a:pt x="7270" y="5"/>
                      <a:pt x="7269" y="5"/>
                    </a:cubicBezTo>
                    <a:lnTo>
                      <a:pt x="7269" y="5"/>
                    </a:lnTo>
                    <a:cubicBezTo>
                      <a:pt x="7268" y="5"/>
                      <a:pt x="7267" y="4"/>
                      <a:pt x="7267" y="3"/>
                    </a:cubicBezTo>
                    <a:cubicBezTo>
                      <a:pt x="7267" y="2"/>
                      <a:pt x="7268" y="1"/>
                      <a:pt x="7269" y="1"/>
                    </a:cubicBezTo>
                    <a:close/>
                    <a:moveTo>
                      <a:pt x="7277" y="1"/>
                    </a:moveTo>
                    <a:lnTo>
                      <a:pt x="7277" y="1"/>
                    </a:lnTo>
                    <a:cubicBezTo>
                      <a:pt x="7278" y="1"/>
                      <a:pt x="7279" y="2"/>
                      <a:pt x="7279" y="3"/>
                    </a:cubicBezTo>
                    <a:cubicBezTo>
                      <a:pt x="7279" y="4"/>
                      <a:pt x="7278" y="5"/>
                      <a:pt x="7277" y="5"/>
                    </a:cubicBezTo>
                    <a:lnTo>
                      <a:pt x="7277" y="5"/>
                    </a:lnTo>
                    <a:cubicBezTo>
                      <a:pt x="7276" y="5"/>
                      <a:pt x="7275" y="4"/>
                      <a:pt x="7275" y="3"/>
                    </a:cubicBezTo>
                    <a:cubicBezTo>
                      <a:pt x="7275" y="2"/>
                      <a:pt x="7276" y="1"/>
                      <a:pt x="7277" y="1"/>
                    </a:cubicBezTo>
                    <a:close/>
                    <a:moveTo>
                      <a:pt x="7285" y="1"/>
                    </a:moveTo>
                    <a:lnTo>
                      <a:pt x="7285" y="1"/>
                    </a:lnTo>
                    <a:cubicBezTo>
                      <a:pt x="7286" y="1"/>
                      <a:pt x="7287" y="2"/>
                      <a:pt x="7287" y="3"/>
                    </a:cubicBezTo>
                    <a:cubicBezTo>
                      <a:pt x="7287" y="4"/>
                      <a:pt x="7286" y="5"/>
                      <a:pt x="7285" y="5"/>
                    </a:cubicBezTo>
                    <a:lnTo>
                      <a:pt x="7285" y="5"/>
                    </a:lnTo>
                    <a:cubicBezTo>
                      <a:pt x="7284" y="5"/>
                      <a:pt x="7283" y="4"/>
                      <a:pt x="7283" y="3"/>
                    </a:cubicBezTo>
                    <a:cubicBezTo>
                      <a:pt x="7283" y="2"/>
                      <a:pt x="7284" y="1"/>
                      <a:pt x="7285" y="1"/>
                    </a:cubicBezTo>
                    <a:close/>
                    <a:moveTo>
                      <a:pt x="7293" y="1"/>
                    </a:moveTo>
                    <a:lnTo>
                      <a:pt x="7293" y="1"/>
                    </a:lnTo>
                    <a:cubicBezTo>
                      <a:pt x="7294" y="1"/>
                      <a:pt x="7295" y="2"/>
                      <a:pt x="7295" y="3"/>
                    </a:cubicBezTo>
                    <a:cubicBezTo>
                      <a:pt x="7295" y="4"/>
                      <a:pt x="7294" y="5"/>
                      <a:pt x="7293" y="5"/>
                    </a:cubicBezTo>
                    <a:lnTo>
                      <a:pt x="7293" y="5"/>
                    </a:lnTo>
                    <a:cubicBezTo>
                      <a:pt x="7292" y="5"/>
                      <a:pt x="7291" y="4"/>
                      <a:pt x="7291" y="3"/>
                    </a:cubicBezTo>
                    <a:cubicBezTo>
                      <a:pt x="7291" y="2"/>
                      <a:pt x="7292" y="1"/>
                      <a:pt x="7293" y="1"/>
                    </a:cubicBezTo>
                    <a:close/>
                    <a:moveTo>
                      <a:pt x="7301" y="1"/>
                    </a:moveTo>
                    <a:lnTo>
                      <a:pt x="7301" y="1"/>
                    </a:lnTo>
                    <a:cubicBezTo>
                      <a:pt x="7302" y="1"/>
                      <a:pt x="7303" y="2"/>
                      <a:pt x="7303" y="3"/>
                    </a:cubicBezTo>
                    <a:cubicBezTo>
                      <a:pt x="7303" y="4"/>
                      <a:pt x="7302" y="5"/>
                      <a:pt x="7301" y="5"/>
                    </a:cubicBezTo>
                    <a:lnTo>
                      <a:pt x="7301" y="5"/>
                    </a:lnTo>
                    <a:cubicBezTo>
                      <a:pt x="7300" y="5"/>
                      <a:pt x="7299" y="4"/>
                      <a:pt x="7299" y="3"/>
                    </a:cubicBezTo>
                    <a:cubicBezTo>
                      <a:pt x="7299" y="2"/>
                      <a:pt x="7300" y="1"/>
                      <a:pt x="7301" y="1"/>
                    </a:cubicBezTo>
                    <a:close/>
                    <a:moveTo>
                      <a:pt x="7309" y="1"/>
                    </a:moveTo>
                    <a:lnTo>
                      <a:pt x="7309" y="1"/>
                    </a:lnTo>
                    <a:cubicBezTo>
                      <a:pt x="7310" y="1"/>
                      <a:pt x="7311" y="2"/>
                      <a:pt x="7311" y="3"/>
                    </a:cubicBezTo>
                    <a:cubicBezTo>
                      <a:pt x="7311" y="4"/>
                      <a:pt x="7310" y="5"/>
                      <a:pt x="7309" y="5"/>
                    </a:cubicBezTo>
                    <a:lnTo>
                      <a:pt x="7309" y="5"/>
                    </a:lnTo>
                    <a:cubicBezTo>
                      <a:pt x="7308" y="5"/>
                      <a:pt x="7307" y="4"/>
                      <a:pt x="7307" y="3"/>
                    </a:cubicBezTo>
                    <a:cubicBezTo>
                      <a:pt x="7307" y="2"/>
                      <a:pt x="7308" y="1"/>
                      <a:pt x="7309" y="1"/>
                    </a:cubicBezTo>
                    <a:close/>
                    <a:moveTo>
                      <a:pt x="7317" y="1"/>
                    </a:moveTo>
                    <a:lnTo>
                      <a:pt x="7317" y="1"/>
                    </a:lnTo>
                    <a:cubicBezTo>
                      <a:pt x="7319" y="1"/>
                      <a:pt x="7319" y="2"/>
                      <a:pt x="7319" y="3"/>
                    </a:cubicBezTo>
                    <a:cubicBezTo>
                      <a:pt x="7319" y="4"/>
                      <a:pt x="7319" y="5"/>
                      <a:pt x="7317" y="5"/>
                    </a:cubicBezTo>
                    <a:lnTo>
                      <a:pt x="7317" y="5"/>
                    </a:lnTo>
                    <a:cubicBezTo>
                      <a:pt x="7316" y="5"/>
                      <a:pt x="7315" y="4"/>
                      <a:pt x="7315" y="3"/>
                    </a:cubicBezTo>
                    <a:cubicBezTo>
                      <a:pt x="7315" y="2"/>
                      <a:pt x="7316" y="1"/>
                      <a:pt x="7317" y="1"/>
                    </a:cubicBezTo>
                    <a:close/>
                    <a:moveTo>
                      <a:pt x="7325" y="1"/>
                    </a:moveTo>
                    <a:lnTo>
                      <a:pt x="7325" y="1"/>
                    </a:lnTo>
                    <a:cubicBezTo>
                      <a:pt x="7327" y="1"/>
                      <a:pt x="7327" y="2"/>
                      <a:pt x="7327" y="3"/>
                    </a:cubicBezTo>
                    <a:cubicBezTo>
                      <a:pt x="7327" y="4"/>
                      <a:pt x="7327" y="5"/>
                      <a:pt x="7325" y="5"/>
                    </a:cubicBezTo>
                    <a:lnTo>
                      <a:pt x="7325" y="5"/>
                    </a:lnTo>
                    <a:cubicBezTo>
                      <a:pt x="7324" y="5"/>
                      <a:pt x="7323" y="4"/>
                      <a:pt x="7323" y="3"/>
                    </a:cubicBezTo>
                    <a:cubicBezTo>
                      <a:pt x="7323" y="2"/>
                      <a:pt x="7324" y="1"/>
                      <a:pt x="7325" y="1"/>
                    </a:cubicBezTo>
                    <a:close/>
                    <a:moveTo>
                      <a:pt x="7333" y="1"/>
                    </a:moveTo>
                    <a:lnTo>
                      <a:pt x="7333" y="1"/>
                    </a:lnTo>
                    <a:cubicBezTo>
                      <a:pt x="7335" y="1"/>
                      <a:pt x="7335" y="2"/>
                      <a:pt x="7335" y="3"/>
                    </a:cubicBezTo>
                    <a:cubicBezTo>
                      <a:pt x="7335" y="4"/>
                      <a:pt x="7335" y="5"/>
                      <a:pt x="7333" y="5"/>
                    </a:cubicBezTo>
                    <a:lnTo>
                      <a:pt x="7333" y="5"/>
                    </a:lnTo>
                    <a:cubicBezTo>
                      <a:pt x="7332" y="5"/>
                      <a:pt x="7331" y="4"/>
                      <a:pt x="7331" y="3"/>
                    </a:cubicBezTo>
                    <a:cubicBezTo>
                      <a:pt x="7331" y="2"/>
                      <a:pt x="7332" y="1"/>
                      <a:pt x="7333" y="1"/>
                    </a:cubicBezTo>
                    <a:close/>
                    <a:moveTo>
                      <a:pt x="7341" y="1"/>
                    </a:moveTo>
                    <a:lnTo>
                      <a:pt x="7341" y="1"/>
                    </a:lnTo>
                    <a:cubicBezTo>
                      <a:pt x="7343" y="1"/>
                      <a:pt x="7343" y="2"/>
                      <a:pt x="7343" y="3"/>
                    </a:cubicBezTo>
                    <a:cubicBezTo>
                      <a:pt x="7343" y="4"/>
                      <a:pt x="7343" y="5"/>
                      <a:pt x="7341" y="5"/>
                    </a:cubicBezTo>
                    <a:lnTo>
                      <a:pt x="7341" y="5"/>
                    </a:lnTo>
                    <a:cubicBezTo>
                      <a:pt x="7340" y="5"/>
                      <a:pt x="7339" y="4"/>
                      <a:pt x="7339" y="3"/>
                    </a:cubicBezTo>
                    <a:cubicBezTo>
                      <a:pt x="7339" y="2"/>
                      <a:pt x="7340" y="1"/>
                      <a:pt x="7341" y="1"/>
                    </a:cubicBezTo>
                    <a:close/>
                    <a:moveTo>
                      <a:pt x="7349" y="1"/>
                    </a:moveTo>
                    <a:lnTo>
                      <a:pt x="7349" y="1"/>
                    </a:lnTo>
                    <a:cubicBezTo>
                      <a:pt x="7351" y="1"/>
                      <a:pt x="7351" y="2"/>
                      <a:pt x="7351" y="3"/>
                    </a:cubicBezTo>
                    <a:cubicBezTo>
                      <a:pt x="7351" y="4"/>
                      <a:pt x="7351" y="5"/>
                      <a:pt x="7349" y="5"/>
                    </a:cubicBezTo>
                    <a:lnTo>
                      <a:pt x="7349" y="5"/>
                    </a:lnTo>
                    <a:cubicBezTo>
                      <a:pt x="7348" y="5"/>
                      <a:pt x="7347" y="4"/>
                      <a:pt x="7347" y="3"/>
                    </a:cubicBezTo>
                    <a:cubicBezTo>
                      <a:pt x="7347" y="2"/>
                      <a:pt x="7348" y="1"/>
                      <a:pt x="7349" y="1"/>
                    </a:cubicBezTo>
                    <a:close/>
                    <a:moveTo>
                      <a:pt x="7357" y="1"/>
                    </a:moveTo>
                    <a:lnTo>
                      <a:pt x="7357" y="1"/>
                    </a:lnTo>
                    <a:cubicBezTo>
                      <a:pt x="7359" y="1"/>
                      <a:pt x="7359" y="2"/>
                      <a:pt x="7359" y="3"/>
                    </a:cubicBezTo>
                    <a:cubicBezTo>
                      <a:pt x="7359" y="4"/>
                      <a:pt x="7359" y="5"/>
                      <a:pt x="7357" y="5"/>
                    </a:cubicBezTo>
                    <a:lnTo>
                      <a:pt x="7357" y="5"/>
                    </a:lnTo>
                    <a:cubicBezTo>
                      <a:pt x="7356" y="5"/>
                      <a:pt x="7355" y="4"/>
                      <a:pt x="7355" y="3"/>
                    </a:cubicBezTo>
                    <a:cubicBezTo>
                      <a:pt x="7355" y="2"/>
                      <a:pt x="7356" y="1"/>
                      <a:pt x="7357" y="1"/>
                    </a:cubicBezTo>
                    <a:close/>
                    <a:moveTo>
                      <a:pt x="7365" y="1"/>
                    </a:moveTo>
                    <a:lnTo>
                      <a:pt x="7365" y="1"/>
                    </a:lnTo>
                    <a:cubicBezTo>
                      <a:pt x="7367" y="1"/>
                      <a:pt x="7367" y="2"/>
                      <a:pt x="7367" y="3"/>
                    </a:cubicBezTo>
                    <a:cubicBezTo>
                      <a:pt x="7367" y="4"/>
                      <a:pt x="7367" y="5"/>
                      <a:pt x="7365" y="5"/>
                    </a:cubicBezTo>
                    <a:lnTo>
                      <a:pt x="7365" y="5"/>
                    </a:lnTo>
                    <a:cubicBezTo>
                      <a:pt x="7364" y="5"/>
                      <a:pt x="7363" y="4"/>
                      <a:pt x="7363" y="3"/>
                    </a:cubicBezTo>
                    <a:cubicBezTo>
                      <a:pt x="7363" y="2"/>
                      <a:pt x="7364" y="1"/>
                      <a:pt x="7365" y="1"/>
                    </a:cubicBezTo>
                    <a:close/>
                    <a:moveTo>
                      <a:pt x="7373" y="1"/>
                    </a:moveTo>
                    <a:lnTo>
                      <a:pt x="7373" y="1"/>
                    </a:lnTo>
                    <a:cubicBezTo>
                      <a:pt x="7375" y="1"/>
                      <a:pt x="7375" y="2"/>
                      <a:pt x="7375" y="3"/>
                    </a:cubicBezTo>
                    <a:cubicBezTo>
                      <a:pt x="7375" y="4"/>
                      <a:pt x="7375" y="5"/>
                      <a:pt x="7373" y="5"/>
                    </a:cubicBezTo>
                    <a:lnTo>
                      <a:pt x="7373" y="5"/>
                    </a:lnTo>
                    <a:cubicBezTo>
                      <a:pt x="7372" y="5"/>
                      <a:pt x="7371" y="4"/>
                      <a:pt x="7371" y="3"/>
                    </a:cubicBezTo>
                    <a:cubicBezTo>
                      <a:pt x="7371" y="2"/>
                      <a:pt x="7372" y="1"/>
                      <a:pt x="7373" y="1"/>
                    </a:cubicBezTo>
                    <a:close/>
                    <a:moveTo>
                      <a:pt x="7381" y="1"/>
                    </a:moveTo>
                    <a:lnTo>
                      <a:pt x="7381" y="1"/>
                    </a:lnTo>
                    <a:cubicBezTo>
                      <a:pt x="7383" y="1"/>
                      <a:pt x="7383" y="2"/>
                      <a:pt x="7383" y="3"/>
                    </a:cubicBezTo>
                    <a:cubicBezTo>
                      <a:pt x="7383" y="4"/>
                      <a:pt x="7383" y="5"/>
                      <a:pt x="7381" y="5"/>
                    </a:cubicBezTo>
                    <a:lnTo>
                      <a:pt x="7381" y="5"/>
                    </a:lnTo>
                    <a:cubicBezTo>
                      <a:pt x="7380" y="5"/>
                      <a:pt x="7379" y="4"/>
                      <a:pt x="7379" y="3"/>
                    </a:cubicBezTo>
                    <a:cubicBezTo>
                      <a:pt x="7379" y="2"/>
                      <a:pt x="7380" y="1"/>
                      <a:pt x="7381" y="1"/>
                    </a:cubicBezTo>
                    <a:close/>
                    <a:moveTo>
                      <a:pt x="7389" y="1"/>
                    </a:moveTo>
                    <a:lnTo>
                      <a:pt x="7389" y="1"/>
                    </a:lnTo>
                    <a:cubicBezTo>
                      <a:pt x="7391" y="1"/>
                      <a:pt x="7391" y="2"/>
                      <a:pt x="7391" y="3"/>
                    </a:cubicBezTo>
                    <a:cubicBezTo>
                      <a:pt x="7391" y="4"/>
                      <a:pt x="7391" y="5"/>
                      <a:pt x="7389" y="5"/>
                    </a:cubicBezTo>
                    <a:lnTo>
                      <a:pt x="7389" y="5"/>
                    </a:lnTo>
                    <a:cubicBezTo>
                      <a:pt x="7388" y="5"/>
                      <a:pt x="7387" y="4"/>
                      <a:pt x="7387" y="3"/>
                    </a:cubicBezTo>
                    <a:cubicBezTo>
                      <a:pt x="7387" y="2"/>
                      <a:pt x="7388" y="1"/>
                      <a:pt x="7389" y="1"/>
                    </a:cubicBezTo>
                    <a:close/>
                    <a:moveTo>
                      <a:pt x="7397" y="1"/>
                    </a:moveTo>
                    <a:lnTo>
                      <a:pt x="7397" y="1"/>
                    </a:lnTo>
                    <a:cubicBezTo>
                      <a:pt x="7399" y="1"/>
                      <a:pt x="7399" y="2"/>
                      <a:pt x="7399" y="3"/>
                    </a:cubicBezTo>
                    <a:cubicBezTo>
                      <a:pt x="7399" y="4"/>
                      <a:pt x="7399" y="5"/>
                      <a:pt x="7397" y="5"/>
                    </a:cubicBezTo>
                    <a:lnTo>
                      <a:pt x="7397" y="5"/>
                    </a:lnTo>
                    <a:cubicBezTo>
                      <a:pt x="7396" y="5"/>
                      <a:pt x="7395" y="4"/>
                      <a:pt x="7395" y="3"/>
                    </a:cubicBezTo>
                    <a:cubicBezTo>
                      <a:pt x="7395" y="2"/>
                      <a:pt x="7396" y="1"/>
                      <a:pt x="7397" y="1"/>
                    </a:cubicBezTo>
                    <a:close/>
                    <a:moveTo>
                      <a:pt x="7405" y="1"/>
                    </a:moveTo>
                    <a:lnTo>
                      <a:pt x="7405" y="1"/>
                    </a:lnTo>
                    <a:cubicBezTo>
                      <a:pt x="7407" y="1"/>
                      <a:pt x="7407" y="2"/>
                      <a:pt x="7407" y="3"/>
                    </a:cubicBezTo>
                    <a:cubicBezTo>
                      <a:pt x="7407" y="4"/>
                      <a:pt x="7407" y="5"/>
                      <a:pt x="7405" y="5"/>
                    </a:cubicBezTo>
                    <a:lnTo>
                      <a:pt x="7405" y="5"/>
                    </a:lnTo>
                    <a:cubicBezTo>
                      <a:pt x="7404" y="5"/>
                      <a:pt x="7403" y="4"/>
                      <a:pt x="7403" y="3"/>
                    </a:cubicBezTo>
                    <a:cubicBezTo>
                      <a:pt x="7403" y="2"/>
                      <a:pt x="7404" y="1"/>
                      <a:pt x="7405" y="1"/>
                    </a:cubicBezTo>
                    <a:close/>
                    <a:moveTo>
                      <a:pt x="7413" y="1"/>
                    </a:moveTo>
                    <a:lnTo>
                      <a:pt x="7413" y="1"/>
                    </a:lnTo>
                    <a:cubicBezTo>
                      <a:pt x="7415" y="1"/>
                      <a:pt x="7415" y="2"/>
                      <a:pt x="7415" y="3"/>
                    </a:cubicBezTo>
                    <a:cubicBezTo>
                      <a:pt x="7415" y="4"/>
                      <a:pt x="7415" y="5"/>
                      <a:pt x="7413" y="5"/>
                    </a:cubicBezTo>
                    <a:lnTo>
                      <a:pt x="7413" y="5"/>
                    </a:lnTo>
                    <a:cubicBezTo>
                      <a:pt x="7412" y="5"/>
                      <a:pt x="7411" y="4"/>
                      <a:pt x="7411" y="3"/>
                    </a:cubicBezTo>
                    <a:cubicBezTo>
                      <a:pt x="7411" y="2"/>
                      <a:pt x="7412" y="1"/>
                      <a:pt x="7413" y="1"/>
                    </a:cubicBezTo>
                    <a:close/>
                    <a:moveTo>
                      <a:pt x="7421" y="1"/>
                    </a:moveTo>
                    <a:lnTo>
                      <a:pt x="7421" y="1"/>
                    </a:lnTo>
                    <a:cubicBezTo>
                      <a:pt x="7423" y="1"/>
                      <a:pt x="7423" y="2"/>
                      <a:pt x="7423" y="3"/>
                    </a:cubicBezTo>
                    <a:cubicBezTo>
                      <a:pt x="7423" y="4"/>
                      <a:pt x="7423" y="5"/>
                      <a:pt x="7421" y="5"/>
                    </a:cubicBezTo>
                    <a:lnTo>
                      <a:pt x="7421" y="5"/>
                    </a:lnTo>
                    <a:cubicBezTo>
                      <a:pt x="7420" y="5"/>
                      <a:pt x="7419" y="4"/>
                      <a:pt x="7419" y="3"/>
                    </a:cubicBezTo>
                    <a:cubicBezTo>
                      <a:pt x="7419" y="2"/>
                      <a:pt x="7420" y="1"/>
                      <a:pt x="7421" y="1"/>
                    </a:cubicBezTo>
                    <a:close/>
                    <a:moveTo>
                      <a:pt x="7429" y="1"/>
                    </a:moveTo>
                    <a:lnTo>
                      <a:pt x="7429" y="1"/>
                    </a:lnTo>
                    <a:cubicBezTo>
                      <a:pt x="7431" y="1"/>
                      <a:pt x="7431" y="2"/>
                      <a:pt x="7431" y="3"/>
                    </a:cubicBezTo>
                    <a:cubicBezTo>
                      <a:pt x="7431" y="4"/>
                      <a:pt x="7431" y="5"/>
                      <a:pt x="7429" y="5"/>
                    </a:cubicBezTo>
                    <a:lnTo>
                      <a:pt x="7429" y="5"/>
                    </a:lnTo>
                    <a:cubicBezTo>
                      <a:pt x="7428" y="5"/>
                      <a:pt x="7427" y="4"/>
                      <a:pt x="7427" y="3"/>
                    </a:cubicBezTo>
                    <a:cubicBezTo>
                      <a:pt x="7427" y="2"/>
                      <a:pt x="7428" y="1"/>
                      <a:pt x="7429" y="1"/>
                    </a:cubicBezTo>
                    <a:close/>
                    <a:moveTo>
                      <a:pt x="7437" y="1"/>
                    </a:moveTo>
                    <a:lnTo>
                      <a:pt x="7437" y="1"/>
                    </a:lnTo>
                    <a:cubicBezTo>
                      <a:pt x="7439" y="1"/>
                      <a:pt x="7439" y="2"/>
                      <a:pt x="7439" y="3"/>
                    </a:cubicBezTo>
                    <a:cubicBezTo>
                      <a:pt x="7439" y="4"/>
                      <a:pt x="7439" y="5"/>
                      <a:pt x="7437" y="5"/>
                    </a:cubicBezTo>
                    <a:lnTo>
                      <a:pt x="7437" y="5"/>
                    </a:lnTo>
                    <a:cubicBezTo>
                      <a:pt x="7436" y="5"/>
                      <a:pt x="7435" y="4"/>
                      <a:pt x="7435" y="3"/>
                    </a:cubicBezTo>
                    <a:cubicBezTo>
                      <a:pt x="7435" y="2"/>
                      <a:pt x="7436" y="1"/>
                      <a:pt x="7437" y="1"/>
                    </a:cubicBezTo>
                    <a:close/>
                    <a:moveTo>
                      <a:pt x="7445" y="1"/>
                    </a:moveTo>
                    <a:lnTo>
                      <a:pt x="7445" y="1"/>
                    </a:lnTo>
                    <a:cubicBezTo>
                      <a:pt x="7447" y="1"/>
                      <a:pt x="7447" y="2"/>
                      <a:pt x="7447" y="3"/>
                    </a:cubicBezTo>
                    <a:cubicBezTo>
                      <a:pt x="7447" y="4"/>
                      <a:pt x="7447" y="5"/>
                      <a:pt x="7445" y="5"/>
                    </a:cubicBezTo>
                    <a:lnTo>
                      <a:pt x="7445" y="5"/>
                    </a:lnTo>
                    <a:cubicBezTo>
                      <a:pt x="7444" y="5"/>
                      <a:pt x="7443" y="4"/>
                      <a:pt x="7443" y="3"/>
                    </a:cubicBezTo>
                    <a:cubicBezTo>
                      <a:pt x="7443" y="2"/>
                      <a:pt x="7444" y="1"/>
                      <a:pt x="7445" y="1"/>
                    </a:cubicBezTo>
                    <a:close/>
                    <a:moveTo>
                      <a:pt x="7453" y="1"/>
                    </a:moveTo>
                    <a:lnTo>
                      <a:pt x="7453" y="1"/>
                    </a:lnTo>
                    <a:cubicBezTo>
                      <a:pt x="7455" y="1"/>
                      <a:pt x="7455" y="2"/>
                      <a:pt x="7455" y="3"/>
                    </a:cubicBezTo>
                    <a:cubicBezTo>
                      <a:pt x="7455" y="4"/>
                      <a:pt x="7455" y="5"/>
                      <a:pt x="7453" y="5"/>
                    </a:cubicBezTo>
                    <a:lnTo>
                      <a:pt x="7453" y="5"/>
                    </a:lnTo>
                    <a:cubicBezTo>
                      <a:pt x="7452" y="5"/>
                      <a:pt x="7451" y="4"/>
                      <a:pt x="7451" y="3"/>
                    </a:cubicBezTo>
                    <a:cubicBezTo>
                      <a:pt x="7451" y="2"/>
                      <a:pt x="7452" y="1"/>
                      <a:pt x="7453" y="1"/>
                    </a:cubicBezTo>
                    <a:close/>
                    <a:moveTo>
                      <a:pt x="7461" y="1"/>
                    </a:moveTo>
                    <a:lnTo>
                      <a:pt x="7461" y="1"/>
                    </a:lnTo>
                    <a:cubicBezTo>
                      <a:pt x="7463" y="1"/>
                      <a:pt x="7463" y="2"/>
                      <a:pt x="7463" y="3"/>
                    </a:cubicBezTo>
                    <a:cubicBezTo>
                      <a:pt x="7463" y="4"/>
                      <a:pt x="7463" y="5"/>
                      <a:pt x="7461" y="5"/>
                    </a:cubicBezTo>
                    <a:lnTo>
                      <a:pt x="7461" y="5"/>
                    </a:lnTo>
                    <a:cubicBezTo>
                      <a:pt x="7460" y="5"/>
                      <a:pt x="7459" y="4"/>
                      <a:pt x="7459" y="3"/>
                    </a:cubicBezTo>
                    <a:cubicBezTo>
                      <a:pt x="7459" y="2"/>
                      <a:pt x="7460" y="1"/>
                      <a:pt x="7461" y="1"/>
                    </a:cubicBezTo>
                    <a:close/>
                    <a:moveTo>
                      <a:pt x="7469" y="1"/>
                    </a:moveTo>
                    <a:lnTo>
                      <a:pt x="7469" y="1"/>
                    </a:lnTo>
                    <a:cubicBezTo>
                      <a:pt x="7471" y="1"/>
                      <a:pt x="7471" y="2"/>
                      <a:pt x="7471" y="3"/>
                    </a:cubicBezTo>
                    <a:cubicBezTo>
                      <a:pt x="7471" y="4"/>
                      <a:pt x="7471" y="5"/>
                      <a:pt x="7469" y="5"/>
                    </a:cubicBezTo>
                    <a:lnTo>
                      <a:pt x="7469" y="5"/>
                    </a:lnTo>
                    <a:cubicBezTo>
                      <a:pt x="7468" y="5"/>
                      <a:pt x="7467" y="4"/>
                      <a:pt x="7467" y="3"/>
                    </a:cubicBezTo>
                    <a:cubicBezTo>
                      <a:pt x="7467" y="2"/>
                      <a:pt x="7468" y="1"/>
                      <a:pt x="7469" y="1"/>
                    </a:cubicBezTo>
                    <a:close/>
                    <a:moveTo>
                      <a:pt x="7477" y="1"/>
                    </a:moveTo>
                    <a:lnTo>
                      <a:pt x="7477" y="1"/>
                    </a:lnTo>
                    <a:cubicBezTo>
                      <a:pt x="7479" y="1"/>
                      <a:pt x="7479" y="2"/>
                      <a:pt x="7479" y="3"/>
                    </a:cubicBezTo>
                    <a:cubicBezTo>
                      <a:pt x="7479" y="4"/>
                      <a:pt x="7479" y="5"/>
                      <a:pt x="7477" y="5"/>
                    </a:cubicBezTo>
                    <a:lnTo>
                      <a:pt x="7477" y="5"/>
                    </a:lnTo>
                    <a:cubicBezTo>
                      <a:pt x="7476" y="5"/>
                      <a:pt x="7475" y="4"/>
                      <a:pt x="7475" y="3"/>
                    </a:cubicBezTo>
                    <a:cubicBezTo>
                      <a:pt x="7475" y="2"/>
                      <a:pt x="7476" y="1"/>
                      <a:pt x="7477" y="1"/>
                    </a:cubicBezTo>
                    <a:close/>
                    <a:moveTo>
                      <a:pt x="7485" y="1"/>
                    </a:moveTo>
                    <a:lnTo>
                      <a:pt x="7485" y="1"/>
                    </a:lnTo>
                    <a:cubicBezTo>
                      <a:pt x="7487" y="1"/>
                      <a:pt x="7487" y="2"/>
                      <a:pt x="7487" y="3"/>
                    </a:cubicBezTo>
                    <a:cubicBezTo>
                      <a:pt x="7487" y="4"/>
                      <a:pt x="7487" y="5"/>
                      <a:pt x="7485" y="5"/>
                    </a:cubicBezTo>
                    <a:lnTo>
                      <a:pt x="7485" y="5"/>
                    </a:lnTo>
                    <a:cubicBezTo>
                      <a:pt x="7484" y="5"/>
                      <a:pt x="7483" y="4"/>
                      <a:pt x="7483" y="3"/>
                    </a:cubicBezTo>
                    <a:cubicBezTo>
                      <a:pt x="7483" y="2"/>
                      <a:pt x="7484" y="1"/>
                      <a:pt x="7485" y="1"/>
                    </a:cubicBezTo>
                    <a:close/>
                    <a:moveTo>
                      <a:pt x="7493" y="1"/>
                    </a:moveTo>
                    <a:lnTo>
                      <a:pt x="7493" y="1"/>
                    </a:lnTo>
                    <a:cubicBezTo>
                      <a:pt x="7495" y="1"/>
                      <a:pt x="7495" y="2"/>
                      <a:pt x="7495" y="3"/>
                    </a:cubicBezTo>
                    <a:cubicBezTo>
                      <a:pt x="7495" y="4"/>
                      <a:pt x="7495" y="5"/>
                      <a:pt x="7493" y="5"/>
                    </a:cubicBezTo>
                    <a:lnTo>
                      <a:pt x="7493" y="5"/>
                    </a:lnTo>
                    <a:cubicBezTo>
                      <a:pt x="7492" y="5"/>
                      <a:pt x="7491" y="4"/>
                      <a:pt x="7491" y="3"/>
                    </a:cubicBezTo>
                    <a:cubicBezTo>
                      <a:pt x="7491" y="2"/>
                      <a:pt x="7492" y="1"/>
                      <a:pt x="7493" y="1"/>
                    </a:cubicBezTo>
                    <a:close/>
                    <a:moveTo>
                      <a:pt x="7501" y="1"/>
                    </a:moveTo>
                    <a:lnTo>
                      <a:pt x="7501" y="1"/>
                    </a:lnTo>
                    <a:cubicBezTo>
                      <a:pt x="7503" y="1"/>
                      <a:pt x="7503" y="2"/>
                      <a:pt x="7503" y="3"/>
                    </a:cubicBezTo>
                    <a:cubicBezTo>
                      <a:pt x="7503" y="4"/>
                      <a:pt x="7503" y="5"/>
                      <a:pt x="7501" y="5"/>
                    </a:cubicBezTo>
                    <a:lnTo>
                      <a:pt x="7501" y="5"/>
                    </a:lnTo>
                    <a:cubicBezTo>
                      <a:pt x="7500" y="5"/>
                      <a:pt x="7499" y="4"/>
                      <a:pt x="7499" y="3"/>
                    </a:cubicBezTo>
                    <a:cubicBezTo>
                      <a:pt x="7499" y="2"/>
                      <a:pt x="7500" y="1"/>
                      <a:pt x="7501" y="1"/>
                    </a:cubicBezTo>
                    <a:close/>
                    <a:moveTo>
                      <a:pt x="7509" y="1"/>
                    </a:moveTo>
                    <a:lnTo>
                      <a:pt x="7509" y="1"/>
                    </a:lnTo>
                    <a:cubicBezTo>
                      <a:pt x="7511" y="1"/>
                      <a:pt x="7511" y="2"/>
                      <a:pt x="7511" y="3"/>
                    </a:cubicBezTo>
                    <a:cubicBezTo>
                      <a:pt x="7511" y="4"/>
                      <a:pt x="7511" y="5"/>
                      <a:pt x="7509" y="5"/>
                    </a:cubicBezTo>
                    <a:lnTo>
                      <a:pt x="7509" y="5"/>
                    </a:lnTo>
                    <a:cubicBezTo>
                      <a:pt x="7508" y="5"/>
                      <a:pt x="7507" y="4"/>
                      <a:pt x="7507" y="3"/>
                    </a:cubicBezTo>
                    <a:cubicBezTo>
                      <a:pt x="7507" y="2"/>
                      <a:pt x="7508" y="1"/>
                      <a:pt x="7509" y="1"/>
                    </a:cubicBezTo>
                    <a:close/>
                    <a:moveTo>
                      <a:pt x="7517" y="1"/>
                    </a:moveTo>
                    <a:lnTo>
                      <a:pt x="7517" y="1"/>
                    </a:lnTo>
                    <a:cubicBezTo>
                      <a:pt x="7519" y="1"/>
                      <a:pt x="7519" y="2"/>
                      <a:pt x="7519" y="3"/>
                    </a:cubicBezTo>
                    <a:cubicBezTo>
                      <a:pt x="7519" y="4"/>
                      <a:pt x="7519" y="5"/>
                      <a:pt x="7517" y="5"/>
                    </a:cubicBezTo>
                    <a:lnTo>
                      <a:pt x="7517" y="5"/>
                    </a:lnTo>
                    <a:cubicBezTo>
                      <a:pt x="7516" y="5"/>
                      <a:pt x="7515" y="4"/>
                      <a:pt x="7515" y="3"/>
                    </a:cubicBezTo>
                    <a:cubicBezTo>
                      <a:pt x="7515" y="2"/>
                      <a:pt x="7516" y="1"/>
                      <a:pt x="7517" y="1"/>
                    </a:cubicBezTo>
                    <a:close/>
                    <a:moveTo>
                      <a:pt x="7525" y="1"/>
                    </a:moveTo>
                    <a:lnTo>
                      <a:pt x="7525" y="1"/>
                    </a:lnTo>
                    <a:cubicBezTo>
                      <a:pt x="7527" y="1"/>
                      <a:pt x="7527" y="2"/>
                      <a:pt x="7527" y="3"/>
                    </a:cubicBezTo>
                    <a:cubicBezTo>
                      <a:pt x="7527" y="4"/>
                      <a:pt x="7527" y="5"/>
                      <a:pt x="7525" y="5"/>
                    </a:cubicBezTo>
                    <a:lnTo>
                      <a:pt x="7525" y="5"/>
                    </a:lnTo>
                    <a:cubicBezTo>
                      <a:pt x="7524" y="5"/>
                      <a:pt x="7523" y="4"/>
                      <a:pt x="7523" y="3"/>
                    </a:cubicBezTo>
                    <a:cubicBezTo>
                      <a:pt x="7523" y="2"/>
                      <a:pt x="7524" y="1"/>
                      <a:pt x="7525" y="1"/>
                    </a:cubicBezTo>
                    <a:close/>
                    <a:moveTo>
                      <a:pt x="7533" y="1"/>
                    </a:moveTo>
                    <a:lnTo>
                      <a:pt x="7534" y="1"/>
                    </a:lnTo>
                    <a:cubicBezTo>
                      <a:pt x="7535" y="1"/>
                      <a:pt x="7536" y="2"/>
                      <a:pt x="7536" y="3"/>
                    </a:cubicBezTo>
                    <a:cubicBezTo>
                      <a:pt x="7536" y="4"/>
                      <a:pt x="7535" y="5"/>
                      <a:pt x="7534" y="5"/>
                    </a:cubicBezTo>
                    <a:lnTo>
                      <a:pt x="7533" y="5"/>
                    </a:lnTo>
                    <a:cubicBezTo>
                      <a:pt x="7532" y="5"/>
                      <a:pt x="7531" y="4"/>
                      <a:pt x="7531" y="3"/>
                    </a:cubicBezTo>
                    <a:cubicBezTo>
                      <a:pt x="7531" y="2"/>
                      <a:pt x="7532" y="1"/>
                      <a:pt x="7533" y="1"/>
                    </a:cubicBezTo>
                    <a:close/>
                    <a:moveTo>
                      <a:pt x="7542" y="1"/>
                    </a:moveTo>
                    <a:lnTo>
                      <a:pt x="7542" y="1"/>
                    </a:lnTo>
                    <a:cubicBezTo>
                      <a:pt x="7543" y="1"/>
                      <a:pt x="7544" y="2"/>
                      <a:pt x="7544" y="3"/>
                    </a:cubicBezTo>
                    <a:cubicBezTo>
                      <a:pt x="7544" y="4"/>
                      <a:pt x="7543" y="5"/>
                      <a:pt x="7542" y="5"/>
                    </a:cubicBezTo>
                    <a:lnTo>
                      <a:pt x="7542" y="5"/>
                    </a:lnTo>
                    <a:cubicBezTo>
                      <a:pt x="7540" y="5"/>
                      <a:pt x="7540" y="4"/>
                      <a:pt x="7540" y="3"/>
                    </a:cubicBezTo>
                    <a:cubicBezTo>
                      <a:pt x="7540" y="2"/>
                      <a:pt x="7540" y="1"/>
                      <a:pt x="7542" y="1"/>
                    </a:cubicBezTo>
                    <a:close/>
                    <a:moveTo>
                      <a:pt x="7550" y="1"/>
                    </a:moveTo>
                    <a:lnTo>
                      <a:pt x="7550" y="1"/>
                    </a:lnTo>
                    <a:cubicBezTo>
                      <a:pt x="7551" y="1"/>
                      <a:pt x="7552" y="2"/>
                      <a:pt x="7552" y="3"/>
                    </a:cubicBezTo>
                    <a:cubicBezTo>
                      <a:pt x="7552" y="4"/>
                      <a:pt x="7551" y="5"/>
                      <a:pt x="7550" y="5"/>
                    </a:cubicBezTo>
                    <a:lnTo>
                      <a:pt x="7550" y="5"/>
                    </a:lnTo>
                    <a:cubicBezTo>
                      <a:pt x="7548" y="5"/>
                      <a:pt x="7548" y="4"/>
                      <a:pt x="7548" y="3"/>
                    </a:cubicBezTo>
                    <a:cubicBezTo>
                      <a:pt x="7548" y="2"/>
                      <a:pt x="7548" y="1"/>
                      <a:pt x="7550" y="1"/>
                    </a:cubicBezTo>
                    <a:close/>
                    <a:moveTo>
                      <a:pt x="7558" y="1"/>
                    </a:moveTo>
                    <a:lnTo>
                      <a:pt x="7558" y="1"/>
                    </a:lnTo>
                    <a:cubicBezTo>
                      <a:pt x="7559" y="1"/>
                      <a:pt x="7560" y="2"/>
                      <a:pt x="7560" y="3"/>
                    </a:cubicBezTo>
                    <a:cubicBezTo>
                      <a:pt x="7560" y="4"/>
                      <a:pt x="7559" y="5"/>
                      <a:pt x="7558" y="5"/>
                    </a:cubicBezTo>
                    <a:lnTo>
                      <a:pt x="7558" y="5"/>
                    </a:lnTo>
                    <a:cubicBezTo>
                      <a:pt x="7556" y="5"/>
                      <a:pt x="7556" y="4"/>
                      <a:pt x="7556" y="3"/>
                    </a:cubicBezTo>
                    <a:cubicBezTo>
                      <a:pt x="7556" y="2"/>
                      <a:pt x="7556" y="1"/>
                      <a:pt x="7558" y="1"/>
                    </a:cubicBezTo>
                    <a:close/>
                    <a:moveTo>
                      <a:pt x="7566" y="1"/>
                    </a:moveTo>
                    <a:lnTo>
                      <a:pt x="7566" y="1"/>
                    </a:lnTo>
                    <a:cubicBezTo>
                      <a:pt x="7567" y="1"/>
                      <a:pt x="7568" y="2"/>
                      <a:pt x="7568" y="3"/>
                    </a:cubicBezTo>
                    <a:cubicBezTo>
                      <a:pt x="7568" y="4"/>
                      <a:pt x="7567" y="5"/>
                      <a:pt x="7566" y="5"/>
                    </a:cubicBezTo>
                    <a:lnTo>
                      <a:pt x="7566" y="5"/>
                    </a:lnTo>
                    <a:cubicBezTo>
                      <a:pt x="7564" y="5"/>
                      <a:pt x="7564" y="4"/>
                      <a:pt x="7564" y="3"/>
                    </a:cubicBezTo>
                    <a:cubicBezTo>
                      <a:pt x="7564" y="2"/>
                      <a:pt x="7564" y="1"/>
                      <a:pt x="7566" y="1"/>
                    </a:cubicBezTo>
                    <a:close/>
                    <a:moveTo>
                      <a:pt x="7574" y="1"/>
                    </a:moveTo>
                    <a:lnTo>
                      <a:pt x="7574" y="1"/>
                    </a:lnTo>
                    <a:cubicBezTo>
                      <a:pt x="7575" y="1"/>
                      <a:pt x="7576" y="2"/>
                      <a:pt x="7576" y="3"/>
                    </a:cubicBezTo>
                    <a:cubicBezTo>
                      <a:pt x="7576" y="4"/>
                      <a:pt x="7575" y="5"/>
                      <a:pt x="7574" y="5"/>
                    </a:cubicBezTo>
                    <a:lnTo>
                      <a:pt x="7574" y="5"/>
                    </a:lnTo>
                    <a:cubicBezTo>
                      <a:pt x="7572" y="5"/>
                      <a:pt x="7572" y="4"/>
                      <a:pt x="7572" y="3"/>
                    </a:cubicBezTo>
                    <a:cubicBezTo>
                      <a:pt x="7572" y="2"/>
                      <a:pt x="7572" y="1"/>
                      <a:pt x="7574" y="1"/>
                    </a:cubicBezTo>
                    <a:close/>
                    <a:moveTo>
                      <a:pt x="7582" y="1"/>
                    </a:moveTo>
                    <a:lnTo>
                      <a:pt x="7582" y="1"/>
                    </a:lnTo>
                    <a:cubicBezTo>
                      <a:pt x="7583" y="1"/>
                      <a:pt x="7584" y="2"/>
                      <a:pt x="7584" y="3"/>
                    </a:cubicBezTo>
                    <a:cubicBezTo>
                      <a:pt x="7584" y="4"/>
                      <a:pt x="7583" y="5"/>
                      <a:pt x="7582" y="5"/>
                    </a:cubicBezTo>
                    <a:lnTo>
                      <a:pt x="7582" y="5"/>
                    </a:lnTo>
                    <a:cubicBezTo>
                      <a:pt x="7580" y="5"/>
                      <a:pt x="7580" y="4"/>
                      <a:pt x="7580" y="3"/>
                    </a:cubicBezTo>
                    <a:cubicBezTo>
                      <a:pt x="7580" y="2"/>
                      <a:pt x="7580" y="1"/>
                      <a:pt x="7582" y="1"/>
                    </a:cubicBezTo>
                    <a:close/>
                    <a:moveTo>
                      <a:pt x="7590" y="1"/>
                    </a:moveTo>
                    <a:lnTo>
                      <a:pt x="7590" y="1"/>
                    </a:lnTo>
                    <a:cubicBezTo>
                      <a:pt x="7591" y="1"/>
                      <a:pt x="7592" y="2"/>
                      <a:pt x="7592" y="3"/>
                    </a:cubicBezTo>
                    <a:cubicBezTo>
                      <a:pt x="7592" y="4"/>
                      <a:pt x="7591" y="5"/>
                      <a:pt x="7590" y="5"/>
                    </a:cubicBezTo>
                    <a:lnTo>
                      <a:pt x="7590" y="5"/>
                    </a:lnTo>
                    <a:cubicBezTo>
                      <a:pt x="7588" y="5"/>
                      <a:pt x="7588" y="4"/>
                      <a:pt x="7588" y="3"/>
                    </a:cubicBezTo>
                    <a:cubicBezTo>
                      <a:pt x="7588" y="2"/>
                      <a:pt x="7588" y="1"/>
                      <a:pt x="7590" y="1"/>
                    </a:cubicBezTo>
                    <a:close/>
                    <a:moveTo>
                      <a:pt x="7598" y="1"/>
                    </a:moveTo>
                    <a:lnTo>
                      <a:pt x="7598" y="1"/>
                    </a:lnTo>
                    <a:cubicBezTo>
                      <a:pt x="7599" y="1"/>
                      <a:pt x="7600" y="2"/>
                      <a:pt x="7600" y="3"/>
                    </a:cubicBezTo>
                    <a:cubicBezTo>
                      <a:pt x="7600" y="4"/>
                      <a:pt x="7599" y="5"/>
                      <a:pt x="7598" y="5"/>
                    </a:cubicBezTo>
                    <a:lnTo>
                      <a:pt x="7598" y="5"/>
                    </a:lnTo>
                    <a:cubicBezTo>
                      <a:pt x="7596" y="5"/>
                      <a:pt x="7596" y="4"/>
                      <a:pt x="7596" y="3"/>
                    </a:cubicBezTo>
                    <a:cubicBezTo>
                      <a:pt x="7596" y="2"/>
                      <a:pt x="7596" y="1"/>
                      <a:pt x="7598" y="1"/>
                    </a:cubicBezTo>
                    <a:close/>
                    <a:moveTo>
                      <a:pt x="7606" y="1"/>
                    </a:moveTo>
                    <a:lnTo>
                      <a:pt x="7606" y="1"/>
                    </a:lnTo>
                    <a:cubicBezTo>
                      <a:pt x="7607" y="1"/>
                      <a:pt x="7608" y="2"/>
                      <a:pt x="7608" y="3"/>
                    </a:cubicBezTo>
                    <a:cubicBezTo>
                      <a:pt x="7608" y="4"/>
                      <a:pt x="7607" y="5"/>
                      <a:pt x="7606" y="5"/>
                    </a:cubicBezTo>
                    <a:lnTo>
                      <a:pt x="7606" y="5"/>
                    </a:lnTo>
                    <a:cubicBezTo>
                      <a:pt x="7604" y="5"/>
                      <a:pt x="7604" y="4"/>
                      <a:pt x="7604" y="3"/>
                    </a:cubicBezTo>
                    <a:cubicBezTo>
                      <a:pt x="7604" y="2"/>
                      <a:pt x="7604" y="1"/>
                      <a:pt x="7606" y="1"/>
                    </a:cubicBezTo>
                    <a:close/>
                    <a:moveTo>
                      <a:pt x="7614" y="1"/>
                    </a:moveTo>
                    <a:lnTo>
                      <a:pt x="7614" y="1"/>
                    </a:lnTo>
                    <a:cubicBezTo>
                      <a:pt x="7615" y="1"/>
                      <a:pt x="7616" y="2"/>
                      <a:pt x="7616" y="3"/>
                    </a:cubicBezTo>
                    <a:cubicBezTo>
                      <a:pt x="7616" y="4"/>
                      <a:pt x="7615" y="5"/>
                      <a:pt x="7614" y="5"/>
                    </a:cubicBezTo>
                    <a:lnTo>
                      <a:pt x="7614" y="5"/>
                    </a:lnTo>
                    <a:cubicBezTo>
                      <a:pt x="7612" y="5"/>
                      <a:pt x="7612" y="4"/>
                      <a:pt x="7612" y="3"/>
                    </a:cubicBezTo>
                    <a:cubicBezTo>
                      <a:pt x="7612" y="2"/>
                      <a:pt x="7612" y="1"/>
                      <a:pt x="7614" y="1"/>
                    </a:cubicBezTo>
                    <a:close/>
                    <a:moveTo>
                      <a:pt x="7622" y="1"/>
                    </a:moveTo>
                    <a:lnTo>
                      <a:pt x="7622" y="1"/>
                    </a:lnTo>
                    <a:cubicBezTo>
                      <a:pt x="7623" y="1"/>
                      <a:pt x="7624" y="2"/>
                      <a:pt x="7624" y="3"/>
                    </a:cubicBezTo>
                    <a:cubicBezTo>
                      <a:pt x="7624" y="4"/>
                      <a:pt x="7623" y="5"/>
                      <a:pt x="7622" y="5"/>
                    </a:cubicBezTo>
                    <a:lnTo>
                      <a:pt x="7622" y="5"/>
                    </a:lnTo>
                    <a:cubicBezTo>
                      <a:pt x="7620" y="5"/>
                      <a:pt x="7620" y="4"/>
                      <a:pt x="7620" y="3"/>
                    </a:cubicBezTo>
                    <a:cubicBezTo>
                      <a:pt x="7620" y="2"/>
                      <a:pt x="7620" y="1"/>
                      <a:pt x="7622" y="1"/>
                    </a:cubicBezTo>
                    <a:close/>
                    <a:moveTo>
                      <a:pt x="7630" y="1"/>
                    </a:moveTo>
                    <a:lnTo>
                      <a:pt x="7630" y="1"/>
                    </a:lnTo>
                    <a:cubicBezTo>
                      <a:pt x="7631" y="1"/>
                      <a:pt x="7632" y="2"/>
                      <a:pt x="7632" y="3"/>
                    </a:cubicBezTo>
                    <a:cubicBezTo>
                      <a:pt x="7632" y="4"/>
                      <a:pt x="7631" y="5"/>
                      <a:pt x="7630" y="5"/>
                    </a:cubicBezTo>
                    <a:lnTo>
                      <a:pt x="7630" y="5"/>
                    </a:lnTo>
                    <a:cubicBezTo>
                      <a:pt x="7628" y="5"/>
                      <a:pt x="7628" y="4"/>
                      <a:pt x="7628" y="3"/>
                    </a:cubicBezTo>
                    <a:cubicBezTo>
                      <a:pt x="7628" y="2"/>
                      <a:pt x="7628" y="1"/>
                      <a:pt x="7630" y="1"/>
                    </a:cubicBezTo>
                    <a:close/>
                    <a:moveTo>
                      <a:pt x="7638" y="1"/>
                    </a:moveTo>
                    <a:lnTo>
                      <a:pt x="7638" y="1"/>
                    </a:lnTo>
                    <a:cubicBezTo>
                      <a:pt x="7639" y="1"/>
                      <a:pt x="7640" y="2"/>
                      <a:pt x="7640" y="3"/>
                    </a:cubicBezTo>
                    <a:cubicBezTo>
                      <a:pt x="7640" y="4"/>
                      <a:pt x="7639" y="5"/>
                      <a:pt x="7638" y="5"/>
                    </a:cubicBezTo>
                    <a:lnTo>
                      <a:pt x="7638" y="5"/>
                    </a:lnTo>
                    <a:cubicBezTo>
                      <a:pt x="7636" y="5"/>
                      <a:pt x="7636" y="4"/>
                      <a:pt x="7636" y="3"/>
                    </a:cubicBezTo>
                    <a:cubicBezTo>
                      <a:pt x="7636" y="2"/>
                      <a:pt x="7636" y="1"/>
                      <a:pt x="7638" y="1"/>
                    </a:cubicBezTo>
                    <a:close/>
                    <a:moveTo>
                      <a:pt x="7646" y="1"/>
                    </a:moveTo>
                    <a:lnTo>
                      <a:pt x="7646" y="1"/>
                    </a:lnTo>
                    <a:cubicBezTo>
                      <a:pt x="7647" y="1"/>
                      <a:pt x="7648" y="2"/>
                      <a:pt x="7648" y="3"/>
                    </a:cubicBezTo>
                    <a:cubicBezTo>
                      <a:pt x="7648" y="4"/>
                      <a:pt x="7647" y="5"/>
                      <a:pt x="7646" y="5"/>
                    </a:cubicBezTo>
                    <a:lnTo>
                      <a:pt x="7646" y="5"/>
                    </a:lnTo>
                    <a:cubicBezTo>
                      <a:pt x="7644" y="5"/>
                      <a:pt x="7644" y="4"/>
                      <a:pt x="7644" y="3"/>
                    </a:cubicBezTo>
                    <a:cubicBezTo>
                      <a:pt x="7644" y="2"/>
                      <a:pt x="7644" y="1"/>
                      <a:pt x="7646" y="1"/>
                    </a:cubicBezTo>
                    <a:close/>
                    <a:moveTo>
                      <a:pt x="7654" y="1"/>
                    </a:moveTo>
                    <a:lnTo>
                      <a:pt x="7654" y="1"/>
                    </a:lnTo>
                    <a:cubicBezTo>
                      <a:pt x="7655" y="1"/>
                      <a:pt x="7656" y="2"/>
                      <a:pt x="7656" y="3"/>
                    </a:cubicBezTo>
                    <a:cubicBezTo>
                      <a:pt x="7656" y="4"/>
                      <a:pt x="7655" y="5"/>
                      <a:pt x="7654" y="5"/>
                    </a:cubicBezTo>
                    <a:lnTo>
                      <a:pt x="7654" y="5"/>
                    </a:lnTo>
                    <a:cubicBezTo>
                      <a:pt x="7652" y="5"/>
                      <a:pt x="7652" y="4"/>
                      <a:pt x="7652" y="3"/>
                    </a:cubicBezTo>
                    <a:cubicBezTo>
                      <a:pt x="7652" y="2"/>
                      <a:pt x="7652" y="1"/>
                      <a:pt x="7654" y="1"/>
                    </a:cubicBezTo>
                    <a:close/>
                    <a:moveTo>
                      <a:pt x="7662" y="1"/>
                    </a:moveTo>
                    <a:lnTo>
                      <a:pt x="7662" y="1"/>
                    </a:lnTo>
                    <a:cubicBezTo>
                      <a:pt x="7663" y="1"/>
                      <a:pt x="7664" y="2"/>
                      <a:pt x="7664" y="3"/>
                    </a:cubicBezTo>
                    <a:cubicBezTo>
                      <a:pt x="7664" y="4"/>
                      <a:pt x="7663" y="5"/>
                      <a:pt x="7662" y="5"/>
                    </a:cubicBezTo>
                    <a:lnTo>
                      <a:pt x="7662" y="5"/>
                    </a:lnTo>
                    <a:cubicBezTo>
                      <a:pt x="7660" y="5"/>
                      <a:pt x="7660" y="4"/>
                      <a:pt x="7660" y="3"/>
                    </a:cubicBezTo>
                    <a:cubicBezTo>
                      <a:pt x="7660" y="2"/>
                      <a:pt x="7660" y="1"/>
                      <a:pt x="7662" y="1"/>
                    </a:cubicBezTo>
                    <a:close/>
                    <a:moveTo>
                      <a:pt x="7670" y="1"/>
                    </a:moveTo>
                    <a:lnTo>
                      <a:pt x="7670" y="1"/>
                    </a:lnTo>
                    <a:cubicBezTo>
                      <a:pt x="7671" y="1"/>
                      <a:pt x="7672" y="2"/>
                      <a:pt x="7672" y="3"/>
                    </a:cubicBezTo>
                    <a:cubicBezTo>
                      <a:pt x="7672" y="4"/>
                      <a:pt x="7671" y="5"/>
                      <a:pt x="7670" y="5"/>
                    </a:cubicBezTo>
                    <a:lnTo>
                      <a:pt x="7670" y="5"/>
                    </a:lnTo>
                    <a:cubicBezTo>
                      <a:pt x="7668" y="5"/>
                      <a:pt x="7668" y="4"/>
                      <a:pt x="7668" y="3"/>
                    </a:cubicBezTo>
                    <a:cubicBezTo>
                      <a:pt x="7668" y="2"/>
                      <a:pt x="7668" y="1"/>
                      <a:pt x="7670" y="1"/>
                    </a:cubicBezTo>
                    <a:close/>
                    <a:moveTo>
                      <a:pt x="7678" y="1"/>
                    </a:moveTo>
                    <a:lnTo>
                      <a:pt x="7678" y="1"/>
                    </a:lnTo>
                    <a:cubicBezTo>
                      <a:pt x="7679" y="1"/>
                      <a:pt x="7680" y="2"/>
                      <a:pt x="7680" y="3"/>
                    </a:cubicBezTo>
                    <a:cubicBezTo>
                      <a:pt x="7680" y="4"/>
                      <a:pt x="7679" y="5"/>
                      <a:pt x="7678" y="5"/>
                    </a:cubicBezTo>
                    <a:lnTo>
                      <a:pt x="7678" y="5"/>
                    </a:lnTo>
                    <a:cubicBezTo>
                      <a:pt x="7676" y="5"/>
                      <a:pt x="7676" y="4"/>
                      <a:pt x="7676" y="3"/>
                    </a:cubicBezTo>
                    <a:cubicBezTo>
                      <a:pt x="7676" y="2"/>
                      <a:pt x="7676" y="1"/>
                      <a:pt x="7678" y="1"/>
                    </a:cubicBezTo>
                    <a:close/>
                    <a:moveTo>
                      <a:pt x="7686" y="1"/>
                    </a:moveTo>
                    <a:lnTo>
                      <a:pt x="7686" y="1"/>
                    </a:lnTo>
                    <a:cubicBezTo>
                      <a:pt x="7687" y="1"/>
                      <a:pt x="7688" y="2"/>
                      <a:pt x="7688" y="3"/>
                    </a:cubicBezTo>
                    <a:cubicBezTo>
                      <a:pt x="7688" y="4"/>
                      <a:pt x="7687" y="5"/>
                      <a:pt x="7686" y="5"/>
                    </a:cubicBezTo>
                    <a:lnTo>
                      <a:pt x="7686" y="5"/>
                    </a:lnTo>
                    <a:cubicBezTo>
                      <a:pt x="7684" y="5"/>
                      <a:pt x="7684" y="4"/>
                      <a:pt x="7684" y="3"/>
                    </a:cubicBezTo>
                    <a:cubicBezTo>
                      <a:pt x="7684" y="2"/>
                      <a:pt x="7684" y="1"/>
                      <a:pt x="7686" y="1"/>
                    </a:cubicBezTo>
                    <a:close/>
                    <a:moveTo>
                      <a:pt x="7694" y="1"/>
                    </a:moveTo>
                    <a:lnTo>
                      <a:pt x="7694" y="1"/>
                    </a:lnTo>
                    <a:cubicBezTo>
                      <a:pt x="7695" y="1"/>
                      <a:pt x="7696" y="2"/>
                      <a:pt x="7696" y="3"/>
                    </a:cubicBezTo>
                    <a:cubicBezTo>
                      <a:pt x="7696" y="4"/>
                      <a:pt x="7695" y="5"/>
                      <a:pt x="7694" y="5"/>
                    </a:cubicBezTo>
                    <a:lnTo>
                      <a:pt x="7694" y="5"/>
                    </a:lnTo>
                    <a:cubicBezTo>
                      <a:pt x="7692" y="5"/>
                      <a:pt x="7692" y="4"/>
                      <a:pt x="7692" y="3"/>
                    </a:cubicBezTo>
                    <a:cubicBezTo>
                      <a:pt x="7692" y="2"/>
                      <a:pt x="7692" y="1"/>
                      <a:pt x="7694" y="1"/>
                    </a:cubicBezTo>
                    <a:close/>
                    <a:moveTo>
                      <a:pt x="7702" y="1"/>
                    </a:moveTo>
                    <a:lnTo>
                      <a:pt x="7702" y="1"/>
                    </a:lnTo>
                    <a:cubicBezTo>
                      <a:pt x="7703" y="1"/>
                      <a:pt x="7704" y="2"/>
                      <a:pt x="7704" y="3"/>
                    </a:cubicBezTo>
                    <a:cubicBezTo>
                      <a:pt x="7704" y="4"/>
                      <a:pt x="7703" y="5"/>
                      <a:pt x="7702" y="5"/>
                    </a:cubicBezTo>
                    <a:lnTo>
                      <a:pt x="7702" y="5"/>
                    </a:lnTo>
                    <a:cubicBezTo>
                      <a:pt x="7700" y="5"/>
                      <a:pt x="7700" y="4"/>
                      <a:pt x="7700" y="3"/>
                    </a:cubicBezTo>
                    <a:cubicBezTo>
                      <a:pt x="7700" y="2"/>
                      <a:pt x="7700" y="1"/>
                      <a:pt x="7702" y="1"/>
                    </a:cubicBezTo>
                    <a:close/>
                    <a:moveTo>
                      <a:pt x="7710" y="1"/>
                    </a:moveTo>
                    <a:lnTo>
                      <a:pt x="7710" y="1"/>
                    </a:lnTo>
                    <a:cubicBezTo>
                      <a:pt x="7711" y="1"/>
                      <a:pt x="7712" y="2"/>
                      <a:pt x="7712" y="3"/>
                    </a:cubicBezTo>
                    <a:cubicBezTo>
                      <a:pt x="7712" y="4"/>
                      <a:pt x="7711" y="5"/>
                      <a:pt x="7710" y="5"/>
                    </a:cubicBezTo>
                    <a:lnTo>
                      <a:pt x="7710" y="5"/>
                    </a:lnTo>
                    <a:cubicBezTo>
                      <a:pt x="7708" y="5"/>
                      <a:pt x="7708" y="4"/>
                      <a:pt x="7708" y="3"/>
                    </a:cubicBezTo>
                    <a:cubicBezTo>
                      <a:pt x="7708" y="2"/>
                      <a:pt x="7708" y="1"/>
                      <a:pt x="7710" y="1"/>
                    </a:cubicBezTo>
                    <a:close/>
                    <a:moveTo>
                      <a:pt x="7718" y="1"/>
                    </a:moveTo>
                    <a:lnTo>
                      <a:pt x="7718" y="1"/>
                    </a:lnTo>
                    <a:cubicBezTo>
                      <a:pt x="7719" y="1"/>
                      <a:pt x="7720" y="2"/>
                      <a:pt x="7720" y="3"/>
                    </a:cubicBezTo>
                    <a:cubicBezTo>
                      <a:pt x="7720" y="4"/>
                      <a:pt x="7719" y="5"/>
                      <a:pt x="7718" y="5"/>
                    </a:cubicBezTo>
                    <a:lnTo>
                      <a:pt x="7718" y="5"/>
                    </a:lnTo>
                    <a:cubicBezTo>
                      <a:pt x="7716" y="5"/>
                      <a:pt x="7716" y="4"/>
                      <a:pt x="7716" y="3"/>
                    </a:cubicBezTo>
                    <a:cubicBezTo>
                      <a:pt x="7716" y="2"/>
                      <a:pt x="7716" y="1"/>
                      <a:pt x="7718" y="1"/>
                    </a:cubicBezTo>
                    <a:close/>
                    <a:moveTo>
                      <a:pt x="7726" y="1"/>
                    </a:moveTo>
                    <a:lnTo>
                      <a:pt x="7726" y="1"/>
                    </a:lnTo>
                    <a:cubicBezTo>
                      <a:pt x="7727" y="1"/>
                      <a:pt x="7728" y="2"/>
                      <a:pt x="7728" y="3"/>
                    </a:cubicBezTo>
                    <a:cubicBezTo>
                      <a:pt x="7728" y="4"/>
                      <a:pt x="7727" y="5"/>
                      <a:pt x="7726" y="5"/>
                    </a:cubicBezTo>
                    <a:lnTo>
                      <a:pt x="7726" y="5"/>
                    </a:lnTo>
                    <a:cubicBezTo>
                      <a:pt x="7724" y="5"/>
                      <a:pt x="7724" y="4"/>
                      <a:pt x="7724" y="3"/>
                    </a:cubicBezTo>
                    <a:cubicBezTo>
                      <a:pt x="7724" y="2"/>
                      <a:pt x="7724" y="1"/>
                      <a:pt x="7726" y="1"/>
                    </a:cubicBezTo>
                    <a:close/>
                    <a:moveTo>
                      <a:pt x="7734" y="1"/>
                    </a:moveTo>
                    <a:lnTo>
                      <a:pt x="7734" y="1"/>
                    </a:lnTo>
                    <a:cubicBezTo>
                      <a:pt x="7735" y="1"/>
                      <a:pt x="7736" y="2"/>
                      <a:pt x="7736" y="3"/>
                    </a:cubicBezTo>
                    <a:cubicBezTo>
                      <a:pt x="7736" y="4"/>
                      <a:pt x="7735" y="5"/>
                      <a:pt x="7734" y="5"/>
                    </a:cubicBezTo>
                    <a:lnTo>
                      <a:pt x="7734" y="5"/>
                    </a:lnTo>
                    <a:cubicBezTo>
                      <a:pt x="7732" y="5"/>
                      <a:pt x="7732" y="4"/>
                      <a:pt x="7732" y="3"/>
                    </a:cubicBezTo>
                    <a:cubicBezTo>
                      <a:pt x="7732" y="2"/>
                      <a:pt x="7732" y="1"/>
                      <a:pt x="7734" y="1"/>
                    </a:cubicBezTo>
                    <a:close/>
                    <a:moveTo>
                      <a:pt x="7742" y="1"/>
                    </a:moveTo>
                    <a:lnTo>
                      <a:pt x="7742" y="1"/>
                    </a:lnTo>
                    <a:cubicBezTo>
                      <a:pt x="7743" y="1"/>
                      <a:pt x="7744" y="2"/>
                      <a:pt x="7744" y="3"/>
                    </a:cubicBezTo>
                    <a:cubicBezTo>
                      <a:pt x="7744" y="4"/>
                      <a:pt x="7743" y="5"/>
                      <a:pt x="7742" y="5"/>
                    </a:cubicBezTo>
                    <a:lnTo>
                      <a:pt x="7742" y="5"/>
                    </a:lnTo>
                    <a:cubicBezTo>
                      <a:pt x="7740" y="5"/>
                      <a:pt x="7740" y="4"/>
                      <a:pt x="7740" y="3"/>
                    </a:cubicBezTo>
                    <a:cubicBezTo>
                      <a:pt x="7740" y="2"/>
                      <a:pt x="7740" y="1"/>
                      <a:pt x="7742" y="1"/>
                    </a:cubicBezTo>
                    <a:close/>
                    <a:moveTo>
                      <a:pt x="7750" y="1"/>
                    </a:moveTo>
                    <a:lnTo>
                      <a:pt x="7750" y="1"/>
                    </a:lnTo>
                    <a:cubicBezTo>
                      <a:pt x="7751" y="1"/>
                      <a:pt x="7752" y="2"/>
                      <a:pt x="7752" y="3"/>
                    </a:cubicBezTo>
                    <a:cubicBezTo>
                      <a:pt x="7752" y="4"/>
                      <a:pt x="7751" y="5"/>
                      <a:pt x="7750" y="5"/>
                    </a:cubicBezTo>
                    <a:lnTo>
                      <a:pt x="7750" y="5"/>
                    </a:lnTo>
                    <a:cubicBezTo>
                      <a:pt x="7748" y="5"/>
                      <a:pt x="7748" y="4"/>
                      <a:pt x="7748" y="3"/>
                    </a:cubicBezTo>
                    <a:cubicBezTo>
                      <a:pt x="7748" y="2"/>
                      <a:pt x="7748" y="1"/>
                      <a:pt x="7750" y="1"/>
                    </a:cubicBezTo>
                    <a:close/>
                    <a:moveTo>
                      <a:pt x="7758" y="1"/>
                    </a:moveTo>
                    <a:lnTo>
                      <a:pt x="7758" y="1"/>
                    </a:lnTo>
                    <a:cubicBezTo>
                      <a:pt x="7759" y="1"/>
                      <a:pt x="7760" y="2"/>
                      <a:pt x="7760" y="3"/>
                    </a:cubicBezTo>
                    <a:cubicBezTo>
                      <a:pt x="7760" y="4"/>
                      <a:pt x="7759" y="5"/>
                      <a:pt x="7758" y="5"/>
                    </a:cubicBezTo>
                    <a:lnTo>
                      <a:pt x="7758" y="5"/>
                    </a:lnTo>
                    <a:cubicBezTo>
                      <a:pt x="7757" y="5"/>
                      <a:pt x="7756" y="4"/>
                      <a:pt x="7756" y="3"/>
                    </a:cubicBezTo>
                    <a:cubicBezTo>
                      <a:pt x="7756" y="2"/>
                      <a:pt x="7757" y="1"/>
                      <a:pt x="7758" y="1"/>
                    </a:cubicBezTo>
                    <a:close/>
                    <a:moveTo>
                      <a:pt x="7766" y="1"/>
                    </a:moveTo>
                    <a:lnTo>
                      <a:pt x="7766" y="1"/>
                    </a:lnTo>
                    <a:cubicBezTo>
                      <a:pt x="7767" y="1"/>
                      <a:pt x="7768" y="2"/>
                      <a:pt x="7768" y="3"/>
                    </a:cubicBezTo>
                    <a:cubicBezTo>
                      <a:pt x="7768" y="4"/>
                      <a:pt x="7767" y="5"/>
                      <a:pt x="7766" y="5"/>
                    </a:cubicBezTo>
                    <a:lnTo>
                      <a:pt x="7766" y="5"/>
                    </a:lnTo>
                    <a:cubicBezTo>
                      <a:pt x="7765" y="5"/>
                      <a:pt x="7764" y="4"/>
                      <a:pt x="7764" y="3"/>
                    </a:cubicBezTo>
                    <a:cubicBezTo>
                      <a:pt x="7764" y="2"/>
                      <a:pt x="7765" y="1"/>
                      <a:pt x="7766" y="1"/>
                    </a:cubicBezTo>
                    <a:close/>
                    <a:moveTo>
                      <a:pt x="7774" y="1"/>
                    </a:moveTo>
                    <a:lnTo>
                      <a:pt x="7774" y="1"/>
                    </a:lnTo>
                    <a:cubicBezTo>
                      <a:pt x="7775" y="1"/>
                      <a:pt x="7776" y="2"/>
                      <a:pt x="7776" y="3"/>
                    </a:cubicBezTo>
                    <a:cubicBezTo>
                      <a:pt x="7776" y="4"/>
                      <a:pt x="7775" y="5"/>
                      <a:pt x="7774" y="5"/>
                    </a:cubicBezTo>
                    <a:lnTo>
                      <a:pt x="7774" y="5"/>
                    </a:lnTo>
                    <a:cubicBezTo>
                      <a:pt x="7773" y="5"/>
                      <a:pt x="7772" y="4"/>
                      <a:pt x="7772" y="3"/>
                    </a:cubicBezTo>
                    <a:cubicBezTo>
                      <a:pt x="7772" y="2"/>
                      <a:pt x="7773" y="1"/>
                      <a:pt x="7774" y="1"/>
                    </a:cubicBezTo>
                    <a:close/>
                    <a:moveTo>
                      <a:pt x="7782" y="1"/>
                    </a:moveTo>
                    <a:lnTo>
                      <a:pt x="7782" y="1"/>
                    </a:lnTo>
                    <a:cubicBezTo>
                      <a:pt x="7783" y="1"/>
                      <a:pt x="7784" y="2"/>
                      <a:pt x="7784" y="3"/>
                    </a:cubicBezTo>
                    <a:cubicBezTo>
                      <a:pt x="7784" y="4"/>
                      <a:pt x="7783" y="5"/>
                      <a:pt x="7782" y="5"/>
                    </a:cubicBezTo>
                    <a:lnTo>
                      <a:pt x="7782" y="5"/>
                    </a:lnTo>
                    <a:cubicBezTo>
                      <a:pt x="7781" y="5"/>
                      <a:pt x="7780" y="4"/>
                      <a:pt x="7780" y="3"/>
                    </a:cubicBezTo>
                    <a:cubicBezTo>
                      <a:pt x="7780" y="2"/>
                      <a:pt x="7781" y="1"/>
                      <a:pt x="7782" y="1"/>
                    </a:cubicBezTo>
                    <a:close/>
                    <a:moveTo>
                      <a:pt x="7790" y="1"/>
                    </a:moveTo>
                    <a:lnTo>
                      <a:pt x="7790" y="1"/>
                    </a:lnTo>
                    <a:cubicBezTo>
                      <a:pt x="7791" y="1"/>
                      <a:pt x="7792" y="2"/>
                      <a:pt x="7792" y="3"/>
                    </a:cubicBezTo>
                    <a:cubicBezTo>
                      <a:pt x="7792" y="4"/>
                      <a:pt x="7791" y="5"/>
                      <a:pt x="7790" y="5"/>
                    </a:cubicBezTo>
                    <a:lnTo>
                      <a:pt x="7790" y="5"/>
                    </a:lnTo>
                    <a:cubicBezTo>
                      <a:pt x="7789" y="5"/>
                      <a:pt x="7788" y="4"/>
                      <a:pt x="7788" y="3"/>
                    </a:cubicBezTo>
                    <a:cubicBezTo>
                      <a:pt x="7788" y="2"/>
                      <a:pt x="7789" y="1"/>
                      <a:pt x="7790" y="1"/>
                    </a:cubicBezTo>
                    <a:close/>
                    <a:moveTo>
                      <a:pt x="7798" y="1"/>
                    </a:moveTo>
                    <a:lnTo>
                      <a:pt x="7798" y="1"/>
                    </a:lnTo>
                    <a:cubicBezTo>
                      <a:pt x="7799" y="1"/>
                      <a:pt x="7800" y="2"/>
                      <a:pt x="7800" y="3"/>
                    </a:cubicBezTo>
                    <a:cubicBezTo>
                      <a:pt x="7800" y="4"/>
                      <a:pt x="7799" y="5"/>
                      <a:pt x="7798" y="5"/>
                    </a:cubicBezTo>
                    <a:lnTo>
                      <a:pt x="7798" y="5"/>
                    </a:lnTo>
                    <a:cubicBezTo>
                      <a:pt x="7797" y="5"/>
                      <a:pt x="7796" y="4"/>
                      <a:pt x="7796" y="3"/>
                    </a:cubicBezTo>
                    <a:cubicBezTo>
                      <a:pt x="7796" y="2"/>
                      <a:pt x="7797" y="1"/>
                      <a:pt x="7798" y="1"/>
                    </a:cubicBezTo>
                    <a:close/>
                    <a:moveTo>
                      <a:pt x="7806" y="1"/>
                    </a:moveTo>
                    <a:lnTo>
                      <a:pt x="7806" y="1"/>
                    </a:lnTo>
                    <a:cubicBezTo>
                      <a:pt x="7807" y="1"/>
                      <a:pt x="7808" y="2"/>
                      <a:pt x="7808" y="3"/>
                    </a:cubicBezTo>
                    <a:cubicBezTo>
                      <a:pt x="7808" y="4"/>
                      <a:pt x="7807" y="5"/>
                      <a:pt x="7806" y="5"/>
                    </a:cubicBezTo>
                    <a:lnTo>
                      <a:pt x="7806" y="5"/>
                    </a:lnTo>
                    <a:cubicBezTo>
                      <a:pt x="7805" y="5"/>
                      <a:pt x="7804" y="4"/>
                      <a:pt x="7804" y="3"/>
                    </a:cubicBezTo>
                    <a:cubicBezTo>
                      <a:pt x="7804" y="2"/>
                      <a:pt x="7805" y="1"/>
                      <a:pt x="7806" y="1"/>
                    </a:cubicBezTo>
                    <a:close/>
                    <a:moveTo>
                      <a:pt x="7814" y="1"/>
                    </a:moveTo>
                    <a:lnTo>
                      <a:pt x="7814" y="1"/>
                    </a:lnTo>
                    <a:cubicBezTo>
                      <a:pt x="7815" y="1"/>
                      <a:pt x="7816" y="2"/>
                      <a:pt x="7816" y="3"/>
                    </a:cubicBezTo>
                    <a:cubicBezTo>
                      <a:pt x="7816" y="4"/>
                      <a:pt x="7815" y="5"/>
                      <a:pt x="7814" y="5"/>
                    </a:cubicBezTo>
                    <a:lnTo>
                      <a:pt x="7814" y="5"/>
                    </a:lnTo>
                    <a:cubicBezTo>
                      <a:pt x="7813" y="5"/>
                      <a:pt x="7812" y="4"/>
                      <a:pt x="7812" y="3"/>
                    </a:cubicBezTo>
                    <a:cubicBezTo>
                      <a:pt x="7812" y="2"/>
                      <a:pt x="7813" y="1"/>
                      <a:pt x="7814" y="1"/>
                    </a:cubicBezTo>
                    <a:close/>
                    <a:moveTo>
                      <a:pt x="7822" y="1"/>
                    </a:moveTo>
                    <a:lnTo>
                      <a:pt x="7822" y="1"/>
                    </a:lnTo>
                    <a:cubicBezTo>
                      <a:pt x="7823" y="1"/>
                      <a:pt x="7824" y="2"/>
                      <a:pt x="7824" y="3"/>
                    </a:cubicBezTo>
                    <a:cubicBezTo>
                      <a:pt x="7824" y="4"/>
                      <a:pt x="7823" y="5"/>
                      <a:pt x="7822" y="5"/>
                    </a:cubicBezTo>
                    <a:lnTo>
                      <a:pt x="7822" y="5"/>
                    </a:lnTo>
                    <a:cubicBezTo>
                      <a:pt x="7821" y="5"/>
                      <a:pt x="7820" y="4"/>
                      <a:pt x="7820" y="3"/>
                    </a:cubicBezTo>
                    <a:cubicBezTo>
                      <a:pt x="7820" y="2"/>
                      <a:pt x="7821" y="1"/>
                      <a:pt x="7822" y="1"/>
                    </a:cubicBezTo>
                    <a:close/>
                    <a:moveTo>
                      <a:pt x="7830" y="1"/>
                    </a:moveTo>
                    <a:lnTo>
                      <a:pt x="7830" y="1"/>
                    </a:lnTo>
                    <a:cubicBezTo>
                      <a:pt x="7831" y="1"/>
                      <a:pt x="7832" y="2"/>
                      <a:pt x="7832" y="3"/>
                    </a:cubicBezTo>
                    <a:cubicBezTo>
                      <a:pt x="7832" y="4"/>
                      <a:pt x="7831" y="5"/>
                      <a:pt x="7830" y="5"/>
                    </a:cubicBezTo>
                    <a:lnTo>
                      <a:pt x="7830" y="5"/>
                    </a:lnTo>
                    <a:cubicBezTo>
                      <a:pt x="7829" y="5"/>
                      <a:pt x="7828" y="4"/>
                      <a:pt x="7828" y="3"/>
                    </a:cubicBezTo>
                    <a:cubicBezTo>
                      <a:pt x="7828" y="2"/>
                      <a:pt x="7829" y="1"/>
                      <a:pt x="7830" y="1"/>
                    </a:cubicBezTo>
                    <a:close/>
                    <a:moveTo>
                      <a:pt x="7838" y="1"/>
                    </a:moveTo>
                    <a:lnTo>
                      <a:pt x="7838" y="1"/>
                    </a:lnTo>
                    <a:cubicBezTo>
                      <a:pt x="7839" y="1"/>
                      <a:pt x="7840" y="2"/>
                      <a:pt x="7840" y="3"/>
                    </a:cubicBezTo>
                    <a:cubicBezTo>
                      <a:pt x="7840" y="4"/>
                      <a:pt x="7839" y="5"/>
                      <a:pt x="7838" y="5"/>
                    </a:cubicBezTo>
                    <a:lnTo>
                      <a:pt x="7838" y="5"/>
                    </a:lnTo>
                    <a:cubicBezTo>
                      <a:pt x="7837" y="5"/>
                      <a:pt x="7836" y="4"/>
                      <a:pt x="7836" y="3"/>
                    </a:cubicBezTo>
                    <a:cubicBezTo>
                      <a:pt x="7836" y="2"/>
                      <a:pt x="7837" y="1"/>
                      <a:pt x="7838" y="1"/>
                    </a:cubicBezTo>
                    <a:close/>
                    <a:moveTo>
                      <a:pt x="7846" y="1"/>
                    </a:moveTo>
                    <a:lnTo>
                      <a:pt x="7846" y="1"/>
                    </a:lnTo>
                    <a:cubicBezTo>
                      <a:pt x="7847" y="1"/>
                      <a:pt x="7848" y="2"/>
                      <a:pt x="7848" y="3"/>
                    </a:cubicBezTo>
                    <a:cubicBezTo>
                      <a:pt x="7848" y="4"/>
                      <a:pt x="7847" y="5"/>
                      <a:pt x="7846" y="5"/>
                    </a:cubicBezTo>
                    <a:lnTo>
                      <a:pt x="7846" y="5"/>
                    </a:lnTo>
                    <a:cubicBezTo>
                      <a:pt x="7845" y="5"/>
                      <a:pt x="7844" y="4"/>
                      <a:pt x="7844" y="3"/>
                    </a:cubicBezTo>
                    <a:cubicBezTo>
                      <a:pt x="7844" y="2"/>
                      <a:pt x="7845" y="1"/>
                      <a:pt x="7846" y="1"/>
                    </a:cubicBezTo>
                    <a:close/>
                    <a:moveTo>
                      <a:pt x="7854" y="1"/>
                    </a:moveTo>
                    <a:lnTo>
                      <a:pt x="7854" y="1"/>
                    </a:lnTo>
                    <a:cubicBezTo>
                      <a:pt x="7855" y="1"/>
                      <a:pt x="7856" y="2"/>
                      <a:pt x="7856" y="3"/>
                    </a:cubicBezTo>
                    <a:cubicBezTo>
                      <a:pt x="7856" y="4"/>
                      <a:pt x="7855" y="5"/>
                      <a:pt x="7854" y="5"/>
                    </a:cubicBezTo>
                    <a:lnTo>
                      <a:pt x="7854" y="5"/>
                    </a:lnTo>
                    <a:cubicBezTo>
                      <a:pt x="7853" y="5"/>
                      <a:pt x="7852" y="4"/>
                      <a:pt x="7852" y="3"/>
                    </a:cubicBezTo>
                    <a:cubicBezTo>
                      <a:pt x="7852" y="2"/>
                      <a:pt x="7853" y="1"/>
                      <a:pt x="7854" y="1"/>
                    </a:cubicBezTo>
                    <a:close/>
                    <a:moveTo>
                      <a:pt x="7862" y="1"/>
                    </a:moveTo>
                    <a:lnTo>
                      <a:pt x="7862" y="1"/>
                    </a:lnTo>
                    <a:cubicBezTo>
                      <a:pt x="7863" y="1"/>
                      <a:pt x="7864" y="2"/>
                      <a:pt x="7864" y="3"/>
                    </a:cubicBezTo>
                    <a:cubicBezTo>
                      <a:pt x="7864" y="4"/>
                      <a:pt x="7863" y="5"/>
                      <a:pt x="7862" y="5"/>
                    </a:cubicBezTo>
                    <a:lnTo>
                      <a:pt x="7862" y="5"/>
                    </a:lnTo>
                    <a:cubicBezTo>
                      <a:pt x="7861" y="5"/>
                      <a:pt x="7860" y="4"/>
                      <a:pt x="7860" y="3"/>
                    </a:cubicBezTo>
                    <a:cubicBezTo>
                      <a:pt x="7860" y="2"/>
                      <a:pt x="7861" y="1"/>
                      <a:pt x="7862" y="1"/>
                    </a:cubicBezTo>
                    <a:close/>
                    <a:moveTo>
                      <a:pt x="7870" y="1"/>
                    </a:moveTo>
                    <a:lnTo>
                      <a:pt x="7870" y="1"/>
                    </a:lnTo>
                    <a:cubicBezTo>
                      <a:pt x="7871" y="1"/>
                      <a:pt x="7872" y="2"/>
                      <a:pt x="7872" y="3"/>
                    </a:cubicBezTo>
                    <a:cubicBezTo>
                      <a:pt x="7872" y="4"/>
                      <a:pt x="7871" y="5"/>
                      <a:pt x="7870" y="5"/>
                    </a:cubicBezTo>
                    <a:lnTo>
                      <a:pt x="7870" y="5"/>
                    </a:lnTo>
                    <a:cubicBezTo>
                      <a:pt x="7869" y="5"/>
                      <a:pt x="7868" y="4"/>
                      <a:pt x="7868" y="3"/>
                    </a:cubicBezTo>
                    <a:cubicBezTo>
                      <a:pt x="7868" y="2"/>
                      <a:pt x="7869" y="1"/>
                      <a:pt x="7870" y="1"/>
                    </a:cubicBezTo>
                    <a:close/>
                    <a:moveTo>
                      <a:pt x="7878" y="1"/>
                    </a:moveTo>
                    <a:lnTo>
                      <a:pt x="7878" y="1"/>
                    </a:lnTo>
                    <a:cubicBezTo>
                      <a:pt x="7879" y="1"/>
                      <a:pt x="7880" y="2"/>
                      <a:pt x="7880" y="3"/>
                    </a:cubicBezTo>
                    <a:cubicBezTo>
                      <a:pt x="7880" y="4"/>
                      <a:pt x="7879" y="5"/>
                      <a:pt x="7878" y="5"/>
                    </a:cubicBezTo>
                    <a:lnTo>
                      <a:pt x="7878" y="5"/>
                    </a:lnTo>
                    <a:cubicBezTo>
                      <a:pt x="7877" y="5"/>
                      <a:pt x="7876" y="4"/>
                      <a:pt x="7876" y="3"/>
                    </a:cubicBezTo>
                    <a:cubicBezTo>
                      <a:pt x="7876" y="2"/>
                      <a:pt x="7877" y="1"/>
                      <a:pt x="7878" y="1"/>
                    </a:cubicBezTo>
                    <a:close/>
                    <a:moveTo>
                      <a:pt x="7886" y="1"/>
                    </a:moveTo>
                    <a:lnTo>
                      <a:pt x="7886" y="1"/>
                    </a:lnTo>
                    <a:cubicBezTo>
                      <a:pt x="7887" y="1"/>
                      <a:pt x="7888" y="2"/>
                      <a:pt x="7888" y="3"/>
                    </a:cubicBezTo>
                    <a:cubicBezTo>
                      <a:pt x="7888" y="4"/>
                      <a:pt x="7887" y="5"/>
                      <a:pt x="7886" y="5"/>
                    </a:cubicBezTo>
                    <a:lnTo>
                      <a:pt x="7886" y="5"/>
                    </a:lnTo>
                    <a:cubicBezTo>
                      <a:pt x="7885" y="5"/>
                      <a:pt x="7884" y="4"/>
                      <a:pt x="7884" y="3"/>
                    </a:cubicBezTo>
                    <a:cubicBezTo>
                      <a:pt x="7884" y="2"/>
                      <a:pt x="7885" y="1"/>
                      <a:pt x="7886" y="1"/>
                    </a:cubicBezTo>
                    <a:close/>
                    <a:moveTo>
                      <a:pt x="7894" y="1"/>
                    </a:moveTo>
                    <a:lnTo>
                      <a:pt x="7894" y="1"/>
                    </a:lnTo>
                    <a:cubicBezTo>
                      <a:pt x="7895" y="1"/>
                      <a:pt x="7896" y="2"/>
                      <a:pt x="7896" y="3"/>
                    </a:cubicBezTo>
                    <a:cubicBezTo>
                      <a:pt x="7896" y="4"/>
                      <a:pt x="7895" y="5"/>
                      <a:pt x="7894" y="5"/>
                    </a:cubicBezTo>
                    <a:lnTo>
                      <a:pt x="7894" y="5"/>
                    </a:lnTo>
                    <a:cubicBezTo>
                      <a:pt x="7893" y="5"/>
                      <a:pt x="7892" y="4"/>
                      <a:pt x="7892" y="3"/>
                    </a:cubicBezTo>
                    <a:cubicBezTo>
                      <a:pt x="7892" y="2"/>
                      <a:pt x="7893" y="1"/>
                      <a:pt x="7894" y="1"/>
                    </a:cubicBezTo>
                    <a:close/>
                    <a:moveTo>
                      <a:pt x="7902" y="1"/>
                    </a:moveTo>
                    <a:lnTo>
                      <a:pt x="7902" y="1"/>
                    </a:lnTo>
                    <a:cubicBezTo>
                      <a:pt x="7903" y="1"/>
                      <a:pt x="7904" y="2"/>
                      <a:pt x="7904" y="3"/>
                    </a:cubicBezTo>
                    <a:cubicBezTo>
                      <a:pt x="7904" y="4"/>
                      <a:pt x="7903" y="5"/>
                      <a:pt x="7902" y="5"/>
                    </a:cubicBezTo>
                    <a:lnTo>
                      <a:pt x="7902" y="5"/>
                    </a:lnTo>
                    <a:cubicBezTo>
                      <a:pt x="7901" y="5"/>
                      <a:pt x="7900" y="4"/>
                      <a:pt x="7900" y="3"/>
                    </a:cubicBezTo>
                    <a:cubicBezTo>
                      <a:pt x="7900" y="2"/>
                      <a:pt x="7901" y="1"/>
                      <a:pt x="7902" y="1"/>
                    </a:cubicBezTo>
                    <a:close/>
                    <a:moveTo>
                      <a:pt x="7910" y="1"/>
                    </a:moveTo>
                    <a:lnTo>
                      <a:pt x="7910" y="1"/>
                    </a:lnTo>
                    <a:cubicBezTo>
                      <a:pt x="7911" y="1"/>
                      <a:pt x="7912" y="2"/>
                      <a:pt x="7912" y="3"/>
                    </a:cubicBezTo>
                    <a:cubicBezTo>
                      <a:pt x="7912" y="4"/>
                      <a:pt x="7911" y="5"/>
                      <a:pt x="7910" y="5"/>
                    </a:cubicBezTo>
                    <a:lnTo>
                      <a:pt x="7910" y="5"/>
                    </a:lnTo>
                    <a:cubicBezTo>
                      <a:pt x="7909" y="5"/>
                      <a:pt x="7908" y="4"/>
                      <a:pt x="7908" y="3"/>
                    </a:cubicBezTo>
                    <a:cubicBezTo>
                      <a:pt x="7908" y="2"/>
                      <a:pt x="7909" y="1"/>
                      <a:pt x="7910" y="1"/>
                    </a:cubicBezTo>
                    <a:close/>
                    <a:moveTo>
                      <a:pt x="7918" y="1"/>
                    </a:moveTo>
                    <a:lnTo>
                      <a:pt x="7918" y="1"/>
                    </a:lnTo>
                    <a:cubicBezTo>
                      <a:pt x="7919" y="1"/>
                      <a:pt x="7920" y="2"/>
                      <a:pt x="7920" y="3"/>
                    </a:cubicBezTo>
                    <a:cubicBezTo>
                      <a:pt x="7920" y="4"/>
                      <a:pt x="7919" y="5"/>
                      <a:pt x="7918" y="5"/>
                    </a:cubicBezTo>
                    <a:lnTo>
                      <a:pt x="7918" y="5"/>
                    </a:lnTo>
                    <a:cubicBezTo>
                      <a:pt x="7917" y="5"/>
                      <a:pt x="7916" y="4"/>
                      <a:pt x="7916" y="3"/>
                    </a:cubicBezTo>
                    <a:cubicBezTo>
                      <a:pt x="7916" y="2"/>
                      <a:pt x="7917" y="1"/>
                      <a:pt x="7918" y="1"/>
                    </a:cubicBezTo>
                    <a:close/>
                    <a:moveTo>
                      <a:pt x="7926" y="1"/>
                    </a:moveTo>
                    <a:lnTo>
                      <a:pt x="7926" y="1"/>
                    </a:lnTo>
                    <a:cubicBezTo>
                      <a:pt x="7927" y="1"/>
                      <a:pt x="7928" y="2"/>
                      <a:pt x="7928" y="3"/>
                    </a:cubicBezTo>
                    <a:cubicBezTo>
                      <a:pt x="7928" y="4"/>
                      <a:pt x="7927" y="5"/>
                      <a:pt x="7926" y="5"/>
                    </a:cubicBezTo>
                    <a:lnTo>
                      <a:pt x="7926" y="5"/>
                    </a:lnTo>
                    <a:cubicBezTo>
                      <a:pt x="7925" y="5"/>
                      <a:pt x="7924" y="4"/>
                      <a:pt x="7924" y="3"/>
                    </a:cubicBezTo>
                    <a:cubicBezTo>
                      <a:pt x="7924" y="2"/>
                      <a:pt x="7925" y="1"/>
                      <a:pt x="7926" y="1"/>
                    </a:cubicBezTo>
                    <a:close/>
                    <a:moveTo>
                      <a:pt x="7934" y="1"/>
                    </a:moveTo>
                    <a:lnTo>
                      <a:pt x="7934" y="1"/>
                    </a:lnTo>
                    <a:cubicBezTo>
                      <a:pt x="7935" y="1"/>
                      <a:pt x="7936" y="2"/>
                      <a:pt x="7936" y="3"/>
                    </a:cubicBezTo>
                    <a:cubicBezTo>
                      <a:pt x="7936" y="4"/>
                      <a:pt x="7935" y="5"/>
                      <a:pt x="7934" y="5"/>
                    </a:cubicBezTo>
                    <a:lnTo>
                      <a:pt x="7934" y="5"/>
                    </a:lnTo>
                    <a:cubicBezTo>
                      <a:pt x="7933" y="5"/>
                      <a:pt x="7932" y="4"/>
                      <a:pt x="7932" y="3"/>
                    </a:cubicBezTo>
                    <a:cubicBezTo>
                      <a:pt x="7932" y="2"/>
                      <a:pt x="7933" y="1"/>
                      <a:pt x="7934" y="1"/>
                    </a:cubicBezTo>
                    <a:close/>
                    <a:moveTo>
                      <a:pt x="7942" y="1"/>
                    </a:moveTo>
                    <a:lnTo>
                      <a:pt x="7942" y="1"/>
                    </a:lnTo>
                    <a:cubicBezTo>
                      <a:pt x="7943" y="1"/>
                      <a:pt x="7944" y="2"/>
                      <a:pt x="7944" y="3"/>
                    </a:cubicBezTo>
                    <a:cubicBezTo>
                      <a:pt x="7944" y="4"/>
                      <a:pt x="7943" y="5"/>
                      <a:pt x="7942" y="5"/>
                    </a:cubicBezTo>
                    <a:lnTo>
                      <a:pt x="7942" y="5"/>
                    </a:lnTo>
                    <a:cubicBezTo>
                      <a:pt x="7941" y="5"/>
                      <a:pt x="7940" y="4"/>
                      <a:pt x="7940" y="3"/>
                    </a:cubicBezTo>
                    <a:cubicBezTo>
                      <a:pt x="7940" y="2"/>
                      <a:pt x="7941" y="1"/>
                      <a:pt x="7942" y="1"/>
                    </a:cubicBezTo>
                    <a:close/>
                    <a:moveTo>
                      <a:pt x="7950" y="1"/>
                    </a:moveTo>
                    <a:lnTo>
                      <a:pt x="7950" y="1"/>
                    </a:lnTo>
                    <a:cubicBezTo>
                      <a:pt x="7951" y="1"/>
                      <a:pt x="7952" y="2"/>
                      <a:pt x="7952" y="3"/>
                    </a:cubicBezTo>
                    <a:cubicBezTo>
                      <a:pt x="7952" y="4"/>
                      <a:pt x="7951" y="5"/>
                      <a:pt x="7950" y="5"/>
                    </a:cubicBezTo>
                    <a:lnTo>
                      <a:pt x="7950" y="5"/>
                    </a:lnTo>
                    <a:cubicBezTo>
                      <a:pt x="7949" y="5"/>
                      <a:pt x="7948" y="4"/>
                      <a:pt x="7948" y="3"/>
                    </a:cubicBezTo>
                    <a:cubicBezTo>
                      <a:pt x="7948" y="2"/>
                      <a:pt x="7949" y="1"/>
                      <a:pt x="7950" y="1"/>
                    </a:cubicBezTo>
                    <a:close/>
                    <a:moveTo>
                      <a:pt x="7958" y="1"/>
                    </a:moveTo>
                    <a:lnTo>
                      <a:pt x="7958" y="1"/>
                    </a:lnTo>
                    <a:cubicBezTo>
                      <a:pt x="7959" y="1"/>
                      <a:pt x="7960" y="2"/>
                      <a:pt x="7960" y="3"/>
                    </a:cubicBezTo>
                    <a:cubicBezTo>
                      <a:pt x="7960" y="4"/>
                      <a:pt x="7959" y="5"/>
                      <a:pt x="7958" y="5"/>
                    </a:cubicBezTo>
                    <a:lnTo>
                      <a:pt x="7958" y="5"/>
                    </a:lnTo>
                    <a:cubicBezTo>
                      <a:pt x="7957" y="5"/>
                      <a:pt x="7956" y="4"/>
                      <a:pt x="7956" y="3"/>
                    </a:cubicBezTo>
                    <a:cubicBezTo>
                      <a:pt x="7956" y="2"/>
                      <a:pt x="7957" y="1"/>
                      <a:pt x="7958" y="1"/>
                    </a:cubicBezTo>
                    <a:close/>
                    <a:moveTo>
                      <a:pt x="7966" y="1"/>
                    </a:moveTo>
                    <a:lnTo>
                      <a:pt x="7966" y="1"/>
                    </a:lnTo>
                    <a:cubicBezTo>
                      <a:pt x="7967" y="1"/>
                      <a:pt x="7968" y="2"/>
                      <a:pt x="7968" y="3"/>
                    </a:cubicBezTo>
                    <a:cubicBezTo>
                      <a:pt x="7968" y="4"/>
                      <a:pt x="7967" y="5"/>
                      <a:pt x="7966" y="5"/>
                    </a:cubicBezTo>
                    <a:lnTo>
                      <a:pt x="7966" y="5"/>
                    </a:lnTo>
                    <a:cubicBezTo>
                      <a:pt x="7965" y="5"/>
                      <a:pt x="7964" y="4"/>
                      <a:pt x="7964" y="3"/>
                    </a:cubicBezTo>
                    <a:cubicBezTo>
                      <a:pt x="7964" y="2"/>
                      <a:pt x="7965" y="1"/>
                      <a:pt x="7966" y="1"/>
                    </a:cubicBezTo>
                    <a:close/>
                    <a:moveTo>
                      <a:pt x="7974" y="1"/>
                    </a:moveTo>
                    <a:lnTo>
                      <a:pt x="7974" y="1"/>
                    </a:lnTo>
                    <a:cubicBezTo>
                      <a:pt x="7975" y="1"/>
                      <a:pt x="7976" y="2"/>
                      <a:pt x="7976" y="3"/>
                    </a:cubicBezTo>
                    <a:cubicBezTo>
                      <a:pt x="7976" y="4"/>
                      <a:pt x="7975" y="5"/>
                      <a:pt x="7974" y="5"/>
                    </a:cubicBezTo>
                    <a:lnTo>
                      <a:pt x="7974" y="5"/>
                    </a:lnTo>
                    <a:cubicBezTo>
                      <a:pt x="7973" y="5"/>
                      <a:pt x="7972" y="4"/>
                      <a:pt x="7972" y="3"/>
                    </a:cubicBezTo>
                    <a:cubicBezTo>
                      <a:pt x="7972" y="2"/>
                      <a:pt x="7973" y="1"/>
                      <a:pt x="7974" y="1"/>
                    </a:cubicBezTo>
                    <a:close/>
                    <a:moveTo>
                      <a:pt x="7982" y="1"/>
                    </a:moveTo>
                    <a:lnTo>
                      <a:pt x="7982" y="1"/>
                    </a:lnTo>
                    <a:cubicBezTo>
                      <a:pt x="7983" y="1"/>
                      <a:pt x="7984" y="2"/>
                      <a:pt x="7984" y="3"/>
                    </a:cubicBezTo>
                    <a:cubicBezTo>
                      <a:pt x="7984" y="4"/>
                      <a:pt x="7983" y="5"/>
                      <a:pt x="7982" y="5"/>
                    </a:cubicBezTo>
                    <a:lnTo>
                      <a:pt x="7982" y="5"/>
                    </a:lnTo>
                    <a:cubicBezTo>
                      <a:pt x="7981" y="5"/>
                      <a:pt x="7980" y="4"/>
                      <a:pt x="7980" y="3"/>
                    </a:cubicBezTo>
                    <a:cubicBezTo>
                      <a:pt x="7980" y="2"/>
                      <a:pt x="7981" y="1"/>
                      <a:pt x="7982" y="1"/>
                    </a:cubicBezTo>
                    <a:close/>
                    <a:moveTo>
                      <a:pt x="7990" y="1"/>
                    </a:moveTo>
                    <a:lnTo>
                      <a:pt x="7990" y="1"/>
                    </a:lnTo>
                    <a:cubicBezTo>
                      <a:pt x="7991" y="1"/>
                      <a:pt x="7992" y="2"/>
                      <a:pt x="7992" y="3"/>
                    </a:cubicBezTo>
                    <a:cubicBezTo>
                      <a:pt x="7992" y="4"/>
                      <a:pt x="7991" y="5"/>
                      <a:pt x="7990" y="5"/>
                    </a:cubicBezTo>
                    <a:lnTo>
                      <a:pt x="7990" y="5"/>
                    </a:lnTo>
                    <a:cubicBezTo>
                      <a:pt x="7989" y="5"/>
                      <a:pt x="7988" y="4"/>
                      <a:pt x="7988" y="3"/>
                    </a:cubicBezTo>
                    <a:cubicBezTo>
                      <a:pt x="7988" y="2"/>
                      <a:pt x="7989" y="1"/>
                      <a:pt x="7990" y="1"/>
                    </a:cubicBezTo>
                    <a:close/>
                    <a:moveTo>
                      <a:pt x="7998" y="1"/>
                    </a:moveTo>
                    <a:lnTo>
                      <a:pt x="7998" y="1"/>
                    </a:lnTo>
                    <a:cubicBezTo>
                      <a:pt x="7999" y="1"/>
                      <a:pt x="8000" y="2"/>
                      <a:pt x="8000" y="3"/>
                    </a:cubicBezTo>
                    <a:cubicBezTo>
                      <a:pt x="8000" y="4"/>
                      <a:pt x="7999" y="5"/>
                      <a:pt x="7998" y="5"/>
                    </a:cubicBezTo>
                    <a:lnTo>
                      <a:pt x="7998" y="5"/>
                    </a:lnTo>
                    <a:cubicBezTo>
                      <a:pt x="7997" y="5"/>
                      <a:pt x="7996" y="4"/>
                      <a:pt x="7996" y="3"/>
                    </a:cubicBezTo>
                    <a:cubicBezTo>
                      <a:pt x="7996" y="2"/>
                      <a:pt x="7997" y="1"/>
                      <a:pt x="7998" y="1"/>
                    </a:cubicBezTo>
                    <a:close/>
                    <a:moveTo>
                      <a:pt x="8006" y="1"/>
                    </a:moveTo>
                    <a:lnTo>
                      <a:pt x="8006" y="1"/>
                    </a:lnTo>
                    <a:cubicBezTo>
                      <a:pt x="8007" y="1"/>
                      <a:pt x="8008" y="2"/>
                      <a:pt x="8008" y="3"/>
                    </a:cubicBezTo>
                    <a:cubicBezTo>
                      <a:pt x="8008" y="4"/>
                      <a:pt x="8007" y="5"/>
                      <a:pt x="8006" y="5"/>
                    </a:cubicBezTo>
                    <a:lnTo>
                      <a:pt x="8006" y="5"/>
                    </a:lnTo>
                    <a:cubicBezTo>
                      <a:pt x="8005" y="5"/>
                      <a:pt x="8004" y="4"/>
                      <a:pt x="8004" y="3"/>
                    </a:cubicBezTo>
                    <a:cubicBezTo>
                      <a:pt x="8004" y="2"/>
                      <a:pt x="8005" y="1"/>
                      <a:pt x="8006" y="1"/>
                    </a:cubicBezTo>
                    <a:close/>
                    <a:moveTo>
                      <a:pt x="8014" y="1"/>
                    </a:moveTo>
                    <a:lnTo>
                      <a:pt x="8014" y="1"/>
                    </a:lnTo>
                    <a:cubicBezTo>
                      <a:pt x="8015" y="1"/>
                      <a:pt x="8016" y="2"/>
                      <a:pt x="8016" y="3"/>
                    </a:cubicBezTo>
                    <a:cubicBezTo>
                      <a:pt x="8016" y="4"/>
                      <a:pt x="8015" y="5"/>
                      <a:pt x="8014" y="5"/>
                    </a:cubicBezTo>
                    <a:lnTo>
                      <a:pt x="8014" y="5"/>
                    </a:lnTo>
                    <a:cubicBezTo>
                      <a:pt x="8013" y="5"/>
                      <a:pt x="8012" y="4"/>
                      <a:pt x="8012" y="3"/>
                    </a:cubicBezTo>
                    <a:cubicBezTo>
                      <a:pt x="8012" y="2"/>
                      <a:pt x="8013" y="1"/>
                      <a:pt x="8014" y="1"/>
                    </a:cubicBezTo>
                    <a:close/>
                    <a:moveTo>
                      <a:pt x="8022" y="1"/>
                    </a:moveTo>
                    <a:lnTo>
                      <a:pt x="8022" y="1"/>
                    </a:lnTo>
                    <a:cubicBezTo>
                      <a:pt x="8023" y="1"/>
                      <a:pt x="8024" y="2"/>
                      <a:pt x="8024" y="3"/>
                    </a:cubicBezTo>
                    <a:cubicBezTo>
                      <a:pt x="8024" y="4"/>
                      <a:pt x="8023" y="5"/>
                      <a:pt x="8022" y="5"/>
                    </a:cubicBezTo>
                    <a:lnTo>
                      <a:pt x="8022" y="5"/>
                    </a:lnTo>
                    <a:cubicBezTo>
                      <a:pt x="8021" y="5"/>
                      <a:pt x="8020" y="4"/>
                      <a:pt x="8020" y="3"/>
                    </a:cubicBezTo>
                    <a:cubicBezTo>
                      <a:pt x="8020" y="2"/>
                      <a:pt x="8021" y="1"/>
                      <a:pt x="8022" y="1"/>
                    </a:cubicBezTo>
                    <a:close/>
                    <a:moveTo>
                      <a:pt x="8030" y="1"/>
                    </a:moveTo>
                    <a:lnTo>
                      <a:pt x="8030" y="1"/>
                    </a:lnTo>
                    <a:cubicBezTo>
                      <a:pt x="8031" y="1"/>
                      <a:pt x="8032" y="2"/>
                      <a:pt x="8032" y="3"/>
                    </a:cubicBezTo>
                    <a:cubicBezTo>
                      <a:pt x="8032" y="4"/>
                      <a:pt x="8031" y="5"/>
                      <a:pt x="8030" y="5"/>
                    </a:cubicBezTo>
                    <a:lnTo>
                      <a:pt x="8030" y="5"/>
                    </a:lnTo>
                    <a:cubicBezTo>
                      <a:pt x="8029" y="5"/>
                      <a:pt x="8028" y="4"/>
                      <a:pt x="8028" y="3"/>
                    </a:cubicBezTo>
                    <a:cubicBezTo>
                      <a:pt x="8028" y="2"/>
                      <a:pt x="8029" y="1"/>
                      <a:pt x="8030" y="1"/>
                    </a:cubicBezTo>
                    <a:close/>
                    <a:moveTo>
                      <a:pt x="8038" y="1"/>
                    </a:moveTo>
                    <a:lnTo>
                      <a:pt x="8038" y="1"/>
                    </a:lnTo>
                    <a:cubicBezTo>
                      <a:pt x="8039" y="1"/>
                      <a:pt x="8040" y="2"/>
                      <a:pt x="8040" y="3"/>
                    </a:cubicBezTo>
                    <a:cubicBezTo>
                      <a:pt x="8040" y="4"/>
                      <a:pt x="8039" y="5"/>
                      <a:pt x="8038" y="5"/>
                    </a:cubicBezTo>
                    <a:lnTo>
                      <a:pt x="8038" y="5"/>
                    </a:lnTo>
                    <a:cubicBezTo>
                      <a:pt x="8037" y="5"/>
                      <a:pt x="8036" y="4"/>
                      <a:pt x="8036" y="3"/>
                    </a:cubicBezTo>
                    <a:cubicBezTo>
                      <a:pt x="8036" y="2"/>
                      <a:pt x="8037" y="1"/>
                      <a:pt x="8038" y="1"/>
                    </a:cubicBezTo>
                    <a:close/>
                    <a:moveTo>
                      <a:pt x="8046" y="1"/>
                    </a:moveTo>
                    <a:lnTo>
                      <a:pt x="8046" y="1"/>
                    </a:lnTo>
                    <a:cubicBezTo>
                      <a:pt x="8047" y="1"/>
                      <a:pt x="8048" y="2"/>
                      <a:pt x="8048" y="3"/>
                    </a:cubicBezTo>
                    <a:cubicBezTo>
                      <a:pt x="8048" y="4"/>
                      <a:pt x="8047" y="5"/>
                      <a:pt x="8046" y="5"/>
                    </a:cubicBezTo>
                    <a:lnTo>
                      <a:pt x="8046" y="5"/>
                    </a:lnTo>
                    <a:cubicBezTo>
                      <a:pt x="8045" y="5"/>
                      <a:pt x="8044" y="4"/>
                      <a:pt x="8044" y="3"/>
                    </a:cubicBezTo>
                    <a:cubicBezTo>
                      <a:pt x="8044" y="2"/>
                      <a:pt x="8045" y="1"/>
                      <a:pt x="8046" y="1"/>
                    </a:cubicBezTo>
                    <a:close/>
                    <a:moveTo>
                      <a:pt x="8054" y="1"/>
                    </a:moveTo>
                    <a:lnTo>
                      <a:pt x="8054" y="1"/>
                    </a:lnTo>
                    <a:cubicBezTo>
                      <a:pt x="8055" y="1"/>
                      <a:pt x="8056" y="2"/>
                      <a:pt x="8056" y="3"/>
                    </a:cubicBezTo>
                    <a:cubicBezTo>
                      <a:pt x="8056" y="4"/>
                      <a:pt x="8055" y="5"/>
                      <a:pt x="8054" y="5"/>
                    </a:cubicBezTo>
                    <a:lnTo>
                      <a:pt x="8054" y="5"/>
                    </a:lnTo>
                    <a:cubicBezTo>
                      <a:pt x="8053" y="5"/>
                      <a:pt x="8052" y="4"/>
                      <a:pt x="8052" y="3"/>
                    </a:cubicBezTo>
                    <a:cubicBezTo>
                      <a:pt x="8052" y="2"/>
                      <a:pt x="8053" y="1"/>
                      <a:pt x="8054" y="1"/>
                    </a:cubicBezTo>
                    <a:close/>
                    <a:moveTo>
                      <a:pt x="8062" y="1"/>
                    </a:moveTo>
                    <a:lnTo>
                      <a:pt x="8062" y="1"/>
                    </a:lnTo>
                    <a:cubicBezTo>
                      <a:pt x="8063" y="1"/>
                      <a:pt x="8064" y="2"/>
                      <a:pt x="8064" y="3"/>
                    </a:cubicBezTo>
                    <a:cubicBezTo>
                      <a:pt x="8064" y="4"/>
                      <a:pt x="8063" y="5"/>
                      <a:pt x="8062" y="5"/>
                    </a:cubicBezTo>
                    <a:lnTo>
                      <a:pt x="8062" y="5"/>
                    </a:lnTo>
                    <a:cubicBezTo>
                      <a:pt x="8061" y="5"/>
                      <a:pt x="8060" y="4"/>
                      <a:pt x="8060" y="3"/>
                    </a:cubicBezTo>
                    <a:cubicBezTo>
                      <a:pt x="8060" y="2"/>
                      <a:pt x="8061" y="1"/>
                      <a:pt x="8062" y="1"/>
                    </a:cubicBezTo>
                    <a:close/>
                    <a:moveTo>
                      <a:pt x="8070" y="1"/>
                    </a:moveTo>
                    <a:lnTo>
                      <a:pt x="8070" y="1"/>
                    </a:lnTo>
                    <a:cubicBezTo>
                      <a:pt x="8071" y="1"/>
                      <a:pt x="8072" y="2"/>
                      <a:pt x="8072" y="3"/>
                    </a:cubicBezTo>
                    <a:cubicBezTo>
                      <a:pt x="8072" y="4"/>
                      <a:pt x="8071" y="5"/>
                      <a:pt x="8070" y="5"/>
                    </a:cubicBezTo>
                    <a:lnTo>
                      <a:pt x="8070" y="5"/>
                    </a:lnTo>
                    <a:cubicBezTo>
                      <a:pt x="8069" y="5"/>
                      <a:pt x="8068" y="4"/>
                      <a:pt x="8068" y="3"/>
                    </a:cubicBezTo>
                    <a:cubicBezTo>
                      <a:pt x="8068" y="2"/>
                      <a:pt x="8069" y="1"/>
                      <a:pt x="8070" y="1"/>
                    </a:cubicBezTo>
                    <a:close/>
                    <a:moveTo>
                      <a:pt x="8078" y="1"/>
                    </a:moveTo>
                    <a:lnTo>
                      <a:pt x="8078" y="1"/>
                    </a:lnTo>
                    <a:cubicBezTo>
                      <a:pt x="8079" y="1"/>
                      <a:pt x="8080" y="2"/>
                      <a:pt x="8080" y="3"/>
                    </a:cubicBezTo>
                    <a:cubicBezTo>
                      <a:pt x="8080" y="4"/>
                      <a:pt x="8079" y="5"/>
                      <a:pt x="8078" y="5"/>
                    </a:cubicBezTo>
                    <a:lnTo>
                      <a:pt x="8078" y="5"/>
                    </a:lnTo>
                    <a:cubicBezTo>
                      <a:pt x="8077" y="5"/>
                      <a:pt x="8076" y="4"/>
                      <a:pt x="8076" y="3"/>
                    </a:cubicBezTo>
                    <a:cubicBezTo>
                      <a:pt x="8076" y="2"/>
                      <a:pt x="8077" y="1"/>
                      <a:pt x="8078" y="1"/>
                    </a:cubicBezTo>
                    <a:close/>
                    <a:moveTo>
                      <a:pt x="8086" y="1"/>
                    </a:moveTo>
                    <a:lnTo>
                      <a:pt x="8086" y="1"/>
                    </a:lnTo>
                    <a:cubicBezTo>
                      <a:pt x="8087" y="1"/>
                      <a:pt x="8088" y="2"/>
                      <a:pt x="8088" y="3"/>
                    </a:cubicBezTo>
                    <a:cubicBezTo>
                      <a:pt x="8088" y="4"/>
                      <a:pt x="8087" y="5"/>
                      <a:pt x="8086" y="5"/>
                    </a:cubicBezTo>
                    <a:lnTo>
                      <a:pt x="8086" y="5"/>
                    </a:lnTo>
                    <a:cubicBezTo>
                      <a:pt x="8085" y="5"/>
                      <a:pt x="8084" y="4"/>
                      <a:pt x="8084" y="3"/>
                    </a:cubicBezTo>
                    <a:cubicBezTo>
                      <a:pt x="8084" y="2"/>
                      <a:pt x="8085" y="1"/>
                      <a:pt x="8086" y="1"/>
                    </a:cubicBezTo>
                    <a:close/>
                    <a:moveTo>
                      <a:pt x="8094" y="1"/>
                    </a:moveTo>
                    <a:lnTo>
                      <a:pt x="8094" y="1"/>
                    </a:lnTo>
                    <a:cubicBezTo>
                      <a:pt x="8095" y="1"/>
                      <a:pt x="8096" y="2"/>
                      <a:pt x="8096" y="3"/>
                    </a:cubicBezTo>
                    <a:cubicBezTo>
                      <a:pt x="8096" y="4"/>
                      <a:pt x="8095" y="5"/>
                      <a:pt x="8094" y="5"/>
                    </a:cubicBezTo>
                    <a:lnTo>
                      <a:pt x="8094" y="5"/>
                    </a:lnTo>
                    <a:cubicBezTo>
                      <a:pt x="8093" y="5"/>
                      <a:pt x="8092" y="4"/>
                      <a:pt x="8092" y="3"/>
                    </a:cubicBezTo>
                    <a:cubicBezTo>
                      <a:pt x="8092" y="2"/>
                      <a:pt x="8093" y="1"/>
                      <a:pt x="8094" y="1"/>
                    </a:cubicBezTo>
                    <a:close/>
                    <a:moveTo>
                      <a:pt x="8102" y="1"/>
                    </a:moveTo>
                    <a:lnTo>
                      <a:pt x="8102" y="1"/>
                    </a:lnTo>
                    <a:cubicBezTo>
                      <a:pt x="8103" y="1"/>
                      <a:pt x="8104" y="2"/>
                      <a:pt x="8104" y="3"/>
                    </a:cubicBezTo>
                    <a:cubicBezTo>
                      <a:pt x="8104" y="4"/>
                      <a:pt x="8103" y="5"/>
                      <a:pt x="8102" y="5"/>
                    </a:cubicBezTo>
                    <a:lnTo>
                      <a:pt x="8102" y="5"/>
                    </a:lnTo>
                    <a:cubicBezTo>
                      <a:pt x="8101" y="5"/>
                      <a:pt x="8100" y="4"/>
                      <a:pt x="8100" y="3"/>
                    </a:cubicBezTo>
                    <a:cubicBezTo>
                      <a:pt x="8100" y="2"/>
                      <a:pt x="8101" y="1"/>
                      <a:pt x="8102" y="1"/>
                    </a:cubicBezTo>
                    <a:close/>
                    <a:moveTo>
                      <a:pt x="8110" y="1"/>
                    </a:moveTo>
                    <a:lnTo>
                      <a:pt x="8110" y="1"/>
                    </a:lnTo>
                    <a:cubicBezTo>
                      <a:pt x="8111" y="1"/>
                      <a:pt x="8112" y="2"/>
                      <a:pt x="8112" y="3"/>
                    </a:cubicBezTo>
                    <a:cubicBezTo>
                      <a:pt x="8112" y="4"/>
                      <a:pt x="8111" y="5"/>
                      <a:pt x="8110" y="5"/>
                    </a:cubicBezTo>
                    <a:lnTo>
                      <a:pt x="8110" y="5"/>
                    </a:lnTo>
                    <a:cubicBezTo>
                      <a:pt x="8109" y="5"/>
                      <a:pt x="8108" y="4"/>
                      <a:pt x="8108" y="3"/>
                    </a:cubicBezTo>
                    <a:cubicBezTo>
                      <a:pt x="8108" y="2"/>
                      <a:pt x="8109" y="1"/>
                      <a:pt x="8110" y="1"/>
                    </a:cubicBezTo>
                    <a:close/>
                    <a:moveTo>
                      <a:pt x="8118" y="1"/>
                    </a:moveTo>
                    <a:lnTo>
                      <a:pt x="8118" y="1"/>
                    </a:lnTo>
                    <a:cubicBezTo>
                      <a:pt x="8119" y="1"/>
                      <a:pt x="8120" y="2"/>
                      <a:pt x="8120" y="3"/>
                    </a:cubicBezTo>
                    <a:cubicBezTo>
                      <a:pt x="8120" y="4"/>
                      <a:pt x="8119" y="5"/>
                      <a:pt x="8118" y="5"/>
                    </a:cubicBezTo>
                    <a:lnTo>
                      <a:pt x="8118" y="5"/>
                    </a:lnTo>
                    <a:cubicBezTo>
                      <a:pt x="8117" y="5"/>
                      <a:pt x="8116" y="4"/>
                      <a:pt x="8116" y="3"/>
                    </a:cubicBezTo>
                    <a:cubicBezTo>
                      <a:pt x="8116" y="2"/>
                      <a:pt x="8117" y="1"/>
                      <a:pt x="8118" y="1"/>
                    </a:cubicBezTo>
                    <a:close/>
                    <a:moveTo>
                      <a:pt x="8126" y="1"/>
                    </a:moveTo>
                    <a:lnTo>
                      <a:pt x="8126" y="1"/>
                    </a:lnTo>
                    <a:cubicBezTo>
                      <a:pt x="8127" y="1"/>
                      <a:pt x="8128" y="2"/>
                      <a:pt x="8128" y="3"/>
                    </a:cubicBezTo>
                    <a:cubicBezTo>
                      <a:pt x="8128" y="4"/>
                      <a:pt x="8127" y="5"/>
                      <a:pt x="8126" y="5"/>
                    </a:cubicBezTo>
                    <a:lnTo>
                      <a:pt x="8126" y="5"/>
                    </a:lnTo>
                    <a:cubicBezTo>
                      <a:pt x="8125" y="5"/>
                      <a:pt x="8124" y="4"/>
                      <a:pt x="8124" y="3"/>
                    </a:cubicBezTo>
                    <a:cubicBezTo>
                      <a:pt x="8124" y="2"/>
                      <a:pt x="8125" y="1"/>
                      <a:pt x="8126" y="1"/>
                    </a:cubicBezTo>
                    <a:close/>
                    <a:moveTo>
                      <a:pt x="8134" y="1"/>
                    </a:moveTo>
                    <a:lnTo>
                      <a:pt x="8134" y="1"/>
                    </a:lnTo>
                    <a:cubicBezTo>
                      <a:pt x="8135" y="1"/>
                      <a:pt x="8136" y="2"/>
                      <a:pt x="8136" y="3"/>
                    </a:cubicBezTo>
                    <a:cubicBezTo>
                      <a:pt x="8136" y="4"/>
                      <a:pt x="8135" y="5"/>
                      <a:pt x="8134" y="5"/>
                    </a:cubicBezTo>
                    <a:lnTo>
                      <a:pt x="8134" y="5"/>
                    </a:lnTo>
                    <a:cubicBezTo>
                      <a:pt x="8133" y="5"/>
                      <a:pt x="8132" y="4"/>
                      <a:pt x="8132" y="3"/>
                    </a:cubicBezTo>
                    <a:cubicBezTo>
                      <a:pt x="8132" y="2"/>
                      <a:pt x="8133" y="1"/>
                      <a:pt x="8134" y="1"/>
                    </a:cubicBezTo>
                    <a:close/>
                    <a:moveTo>
                      <a:pt x="8142" y="1"/>
                    </a:moveTo>
                    <a:lnTo>
                      <a:pt x="8142" y="1"/>
                    </a:lnTo>
                    <a:cubicBezTo>
                      <a:pt x="8143" y="1"/>
                      <a:pt x="8144" y="2"/>
                      <a:pt x="8144" y="3"/>
                    </a:cubicBezTo>
                    <a:cubicBezTo>
                      <a:pt x="8144" y="4"/>
                      <a:pt x="8143" y="5"/>
                      <a:pt x="8142" y="5"/>
                    </a:cubicBezTo>
                    <a:lnTo>
                      <a:pt x="8142" y="5"/>
                    </a:lnTo>
                    <a:cubicBezTo>
                      <a:pt x="8141" y="5"/>
                      <a:pt x="8140" y="4"/>
                      <a:pt x="8140" y="3"/>
                    </a:cubicBezTo>
                    <a:cubicBezTo>
                      <a:pt x="8140" y="2"/>
                      <a:pt x="8141" y="1"/>
                      <a:pt x="8142" y="1"/>
                    </a:cubicBezTo>
                    <a:close/>
                    <a:moveTo>
                      <a:pt x="8150" y="1"/>
                    </a:moveTo>
                    <a:lnTo>
                      <a:pt x="8150" y="1"/>
                    </a:lnTo>
                    <a:cubicBezTo>
                      <a:pt x="8151" y="1"/>
                      <a:pt x="8152" y="2"/>
                      <a:pt x="8152" y="3"/>
                    </a:cubicBezTo>
                    <a:cubicBezTo>
                      <a:pt x="8152" y="4"/>
                      <a:pt x="8151" y="5"/>
                      <a:pt x="8150" y="5"/>
                    </a:cubicBezTo>
                    <a:lnTo>
                      <a:pt x="8150" y="5"/>
                    </a:lnTo>
                    <a:cubicBezTo>
                      <a:pt x="8149" y="5"/>
                      <a:pt x="8148" y="4"/>
                      <a:pt x="8148" y="3"/>
                    </a:cubicBezTo>
                    <a:cubicBezTo>
                      <a:pt x="8148" y="2"/>
                      <a:pt x="8149" y="1"/>
                      <a:pt x="8150" y="1"/>
                    </a:cubicBezTo>
                    <a:close/>
                    <a:moveTo>
                      <a:pt x="8158" y="1"/>
                    </a:moveTo>
                    <a:lnTo>
                      <a:pt x="8158" y="1"/>
                    </a:lnTo>
                    <a:cubicBezTo>
                      <a:pt x="8159" y="1"/>
                      <a:pt x="8160" y="2"/>
                      <a:pt x="8160" y="3"/>
                    </a:cubicBezTo>
                    <a:cubicBezTo>
                      <a:pt x="8160" y="4"/>
                      <a:pt x="8159" y="5"/>
                      <a:pt x="8158" y="5"/>
                    </a:cubicBezTo>
                    <a:lnTo>
                      <a:pt x="8158" y="5"/>
                    </a:lnTo>
                    <a:cubicBezTo>
                      <a:pt x="8157" y="5"/>
                      <a:pt x="8156" y="4"/>
                      <a:pt x="8156" y="3"/>
                    </a:cubicBezTo>
                    <a:cubicBezTo>
                      <a:pt x="8156" y="2"/>
                      <a:pt x="8157" y="1"/>
                      <a:pt x="8158" y="1"/>
                    </a:cubicBezTo>
                    <a:close/>
                    <a:moveTo>
                      <a:pt x="8166" y="1"/>
                    </a:moveTo>
                    <a:lnTo>
                      <a:pt x="8166" y="1"/>
                    </a:lnTo>
                    <a:cubicBezTo>
                      <a:pt x="8167" y="1"/>
                      <a:pt x="8168" y="2"/>
                      <a:pt x="8168" y="3"/>
                    </a:cubicBezTo>
                    <a:cubicBezTo>
                      <a:pt x="8168" y="4"/>
                      <a:pt x="8167" y="5"/>
                      <a:pt x="8166" y="5"/>
                    </a:cubicBezTo>
                    <a:lnTo>
                      <a:pt x="8166" y="5"/>
                    </a:lnTo>
                    <a:cubicBezTo>
                      <a:pt x="8165" y="5"/>
                      <a:pt x="8164" y="4"/>
                      <a:pt x="8164" y="3"/>
                    </a:cubicBezTo>
                    <a:cubicBezTo>
                      <a:pt x="8164" y="2"/>
                      <a:pt x="8165" y="1"/>
                      <a:pt x="8166" y="1"/>
                    </a:cubicBezTo>
                    <a:close/>
                    <a:moveTo>
                      <a:pt x="8174" y="1"/>
                    </a:moveTo>
                    <a:lnTo>
                      <a:pt x="8174" y="1"/>
                    </a:lnTo>
                    <a:cubicBezTo>
                      <a:pt x="8175" y="1"/>
                      <a:pt x="8176" y="2"/>
                      <a:pt x="8176" y="3"/>
                    </a:cubicBezTo>
                    <a:cubicBezTo>
                      <a:pt x="8176" y="4"/>
                      <a:pt x="8175" y="5"/>
                      <a:pt x="8174" y="5"/>
                    </a:cubicBezTo>
                    <a:lnTo>
                      <a:pt x="8174" y="5"/>
                    </a:lnTo>
                    <a:cubicBezTo>
                      <a:pt x="8173" y="5"/>
                      <a:pt x="8172" y="4"/>
                      <a:pt x="8172" y="3"/>
                    </a:cubicBezTo>
                    <a:cubicBezTo>
                      <a:pt x="8172" y="2"/>
                      <a:pt x="8173" y="1"/>
                      <a:pt x="8174" y="1"/>
                    </a:cubicBezTo>
                    <a:close/>
                    <a:moveTo>
                      <a:pt x="8182" y="1"/>
                    </a:moveTo>
                    <a:lnTo>
                      <a:pt x="8182" y="1"/>
                    </a:lnTo>
                    <a:cubicBezTo>
                      <a:pt x="8183" y="1"/>
                      <a:pt x="8184" y="2"/>
                      <a:pt x="8184" y="3"/>
                    </a:cubicBezTo>
                    <a:cubicBezTo>
                      <a:pt x="8184" y="4"/>
                      <a:pt x="8183" y="5"/>
                      <a:pt x="8182" y="5"/>
                    </a:cubicBezTo>
                    <a:lnTo>
                      <a:pt x="8182" y="5"/>
                    </a:lnTo>
                    <a:cubicBezTo>
                      <a:pt x="8181" y="5"/>
                      <a:pt x="8180" y="4"/>
                      <a:pt x="8180" y="3"/>
                    </a:cubicBezTo>
                    <a:cubicBezTo>
                      <a:pt x="8180" y="2"/>
                      <a:pt x="8181" y="1"/>
                      <a:pt x="8182" y="1"/>
                    </a:cubicBezTo>
                    <a:close/>
                    <a:moveTo>
                      <a:pt x="8190" y="1"/>
                    </a:moveTo>
                    <a:lnTo>
                      <a:pt x="8190" y="1"/>
                    </a:lnTo>
                    <a:cubicBezTo>
                      <a:pt x="8191" y="1"/>
                      <a:pt x="8192" y="2"/>
                      <a:pt x="8192" y="3"/>
                    </a:cubicBezTo>
                    <a:cubicBezTo>
                      <a:pt x="8192" y="4"/>
                      <a:pt x="8191" y="5"/>
                      <a:pt x="8190" y="5"/>
                    </a:cubicBezTo>
                    <a:lnTo>
                      <a:pt x="8190" y="5"/>
                    </a:lnTo>
                    <a:cubicBezTo>
                      <a:pt x="8189" y="5"/>
                      <a:pt x="8188" y="4"/>
                      <a:pt x="8188" y="3"/>
                    </a:cubicBezTo>
                    <a:cubicBezTo>
                      <a:pt x="8188" y="2"/>
                      <a:pt x="8189" y="1"/>
                      <a:pt x="8190" y="1"/>
                    </a:cubicBezTo>
                    <a:close/>
                    <a:moveTo>
                      <a:pt x="8198" y="1"/>
                    </a:moveTo>
                    <a:lnTo>
                      <a:pt x="8198" y="1"/>
                    </a:lnTo>
                    <a:cubicBezTo>
                      <a:pt x="8199" y="1"/>
                      <a:pt x="8200" y="2"/>
                      <a:pt x="8200" y="3"/>
                    </a:cubicBezTo>
                    <a:cubicBezTo>
                      <a:pt x="8200" y="4"/>
                      <a:pt x="8199" y="5"/>
                      <a:pt x="8198" y="5"/>
                    </a:cubicBezTo>
                    <a:lnTo>
                      <a:pt x="8198" y="5"/>
                    </a:lnTo>
                    <a:cubicBezTo>
                      <a:pt x="8197" y="5"/>
                      <a:pt x="8196" y="4"/>
                      <a:pt x="8196" y="3"/>
                    </a:cubicBezTo>
                    <a:cubicBezTo>
                      <a:pt x="8196" y="2"/>
                      <a:pt x="8197" y="1"/>
                      <a:pt x="8198" y="1"/>
                    </a:cubicBezTo>
                    <a:close/>
                    <a:moveTo>
                      <a:pt x="8206" y="1"/>
                    </a:moveTo>
                    <a:lnTo>
                      <a:pt x="8206" y="1"/>
                    </a:lnTo>
                    <a:cubicBezTo>
                      <a:pt x="8207" y="1"/>
                      <a:pt x="8208" y="2"/>
                      <a:pt x="8208" y="3"/>
                    </a:cubicBezTo>
                    <a:cubicBezTo>
                      <a:pt x="8208" y="4"/>
                      <a:pt x="8207" y="5"/>
                      <a:pt x="8206" y="5"/>
                    </a:cubicBezTo>
                    <a:lnTo>
                      <a:pt x="8206" y="5"/>
                    </a:lnTo>
                    <a:cubicBezTo>
                      <a:pt x="8205" y="5"/>
                      <a:pt x="8204" y="4"/>
                      <a:pt x="8204" y="3"/>
                    </a:cubicBezTo>
                    <a:cubicBezTo>
                      <a:pt x="8204" y="2"/>
                      <a:pt x="8205" y="1"/>
                      <a:pt x="8206" y="1"/>
                    </a:cubicBezTo>
                    <a:close/>
                    <a:moveTo>
                      <a:pt x="8214" y="1"/>
                    </a:moveTo>
                    <a:lnTo>
                      <a:pt x="8214" y="1"/>
                    </a:lnTo>
                    <a:cubicBezTo>
                      <a:pt x="8215" y="1"/>
                      <a:pt x="8216" y="2"/>
                      <a:pt x="8216" y="3"/>
                    </a:cubicBezTo>
                    <a:cubicBezTo>
                      <a:pt x="8216" y="4"/>
                      <a:pt x="8215" y="5"/>
                      <a:pt x="8214" y="5"/>
                    </a:cubicBezTo>
                    <a:lnTo>
                      <a:pt x="8214" y="5"/>
                    </a:lnTo>
                    <a:cubicBezTo>
                      <a:pt x="8213" y="5"/>
                      <a:pt x="8212" y="4"/>
                      <a:pt x="8212" y="3"/>
                    </a:cubicBezTo>
                    <a:cubicBezTo>
                      <a:pt x="8212" y="2"/>
                      <a:pt x="8213" y="1"/>
                      <a:pt x="8214" y="1"/>
                    </a:cubicBezTo>
                    <a:close/>
                    <a:moveTo>
                      <a:pt x="8222" y="1"/>
                    </a:moveTo>
                    <a:lnTo>
                      <a:pt x="8222" y="1"/>
                    </a:lnTo>
                    <a:cubicBezTo>
                      <a:pt x="8223" y="1"/>
                      <a:pt x="8224" y="2"/>
                      <a:pt x="8224" y="3"/>
                    </a:cubicBezTo>
                    <a:cubicBezTo>
                      <a:pt x="8224" y="4"/>
                      <a:pt x="8223" y="5"/>
                      <a:pt x="8222" y="5"/>
                    </a:cubicBezTo>
                    <a:lnTo>
                      <a:pt x="8222" y="5"/>
                    </a:lnTo>
                    <a:cubicBezTo>
                      <a:pt x="8221" y="5"/>
                      <a:pt x="8220" y="4"/>
                      <a:pt x="8220" y="3"/>
                    </a:cubicBezTo>
                    <a:cubicBezTo>
                      <a:pt x="8220" y="2"/>
                      <a:pt x="8221" y="1"/>
                      <a:pt x="8222" y="1"/>
                    </a:cubicBezTo>
                    <a:close/>
                    <a:moveTo>
                      <a:pt x="8230" y="1"/>
                    </a:moveTo>
                    <a:lnTo>
                      <a:pt x="8230" y="1"/>
                    </a:lnTo>
                    <a:cubicBezTo>
                      <a:pt x="8231" y="1"/>
                      <a:pt x="8232" y="2"/>
                      <a:pt x="8232" y="3"/>
                    </a:cubicBezTo>
                    <a:cubicBezTo>
                      <a:pt x="8232" y="4"/>
                      <a:pt x="8231" y="5"/>
                      <a:pt x="8230" y="5"/>
                    </a:cubicBezTo>
                    <a:lnTo>
                      <a:pt x="8230" y="5"/>
                    </a:lnTo>
                    <a:cubicBezTo>
                      <a:pt x="8229" y="5"/>
                      <a:pt x="8228" y="4"/>
                      <a:pt x="8228" y="3"/>
                    </a:cubicBezTo>
                    <a:cubicBezTo>
                      <a:pt x="8228" y="2"/>
                      <a:pt x="8229" y="1"/>
                      <a:pt x="8230" y="1"/>
                    </a:cubicBezTo>
                    <a:close/>
                    <a:moveTo>
                      <a:pt x="8238" y="1"/>
                    </a:moveTo>
                    <a:lnTo>
                      <a:pt x="8238" y="1"/>
                    </a:lnTo>
                    <a:cubicBezTo>
                      <a:pt x="8239" y="1"/>
                      <a:pt x="8240" y="2"/>
                      <a:pt x="8240" y="3"/>
                    </a:cubicBezTo>
                    <a:cubicBezTo>
                      <a:pt x="8240" y="4"/>
                      <a:pt x="8239" y="5"/>
                      <a:pt x="8238" y="5"/>
                    </a:cubicBezTo>
                    <a:lnTo>
                      <a:pt x="8238" y="5"/>
                    </a:lnTo>
                    <a:cubicBezTo>
                      <a:pt x="8237" y="5"/>
                      <a:pt x="8236" y="4"/>
                      <a:pt x="8236" y="3"/>
                    </a:cubicBezTo>
                    <a:cubicBezTo>
                      <a:pt x="8236" y="2"/>
                      <a:pt x="8237" y="1"/>
                      <a:pt x="8238" y="1"/>
                    </a:cubicBezTo>
                    <a:close/>
                    <a:moveTo>
                      <a:pt x="8246" y="1"/>
                    </a:moveTo>
                    <a:lnTo>
                      <a:pt x="8246" y="1"/>
                    </a:lnTo>
                    <a:cubicBezTo>
                      <a:pt x="8247" y="1"/>
                      <a:pt x="8248" y="2"/>
                      <a:pt x="8248" y="3"/>
                    </a:cubicBezTo>
                    <a:cubicBezTo>
                      <a:pt x="8248" y="4"/>
                      <a:pt x="8247" y="5"/>
                      <a:pt x="8246" y="5"/>
                    </a:cubicBezTo>
                    <a:lnTo>
                      <a:pt x="8246" y="5"/>
                    </a:lnTo>
                    <a:cubicBezTo>
                      <a:pt x="8245" y="5"/>
                      <a:pt x="8244" y="4"/>
                      <a:pt x="8244" y="3"/>
                    </a:cubicBezTo>
                    <a:cubicBezTo>
                      <a:pt x="8244" y="2"/>
                      <a:pt x="8245" y="1"/>
                      <a:pt x="8246" y="1"/>
                    </a:cubicBezTo>
                    <a:close/>
                    <a:moveTo>
                      <a:pt x="8254" y="1"/>
                    </a:moveTo>
                    <a:lnTo>
                      <a:pt x="8254" y="1"/>
                    </a:lnTo>
                    <a:cubicBezTo>
                      <a:pt x="8255" y="1"/>
                      <a:pt x="8256" y="2"/>
                      <a:pt x="8256" y="3"/>
                    </a:cubicBezTo>
                    <a:cubicBezTo>
                      <a:pt x="8256" y="4"/>
                      <a:pt x="8255" y="5"/>
                      <a:pt x="8254" y="5"/>
                    </a:cubicBezTo>
                    <a:lnTo>
                      <a:pt x="8254" y="5"/>
                    </a:lnTo>
                    <a:cubicBezTo>
                      <a:pt x="8253" y="5"/>
                      <a:pt x="8252" y="4"/>
                      <a:pt x="8252" y="3"/>
                    </a:cubicBezTo>
                    <a:cubicBezTo>
                      <a:pt x="8252" y="2"/>
                      <a:pt x="8253" y="1"/>
                      <a:pt x="8254" y="1"/>
                    </a:cubicBezTo>
                    <a:close/>
                    <a:moveTo>
                      <a:pt x="8262" y="1"/>
                    </a:moveTo>
                    <a:lnTo>
                      <a:pt x="8262" y="1"/>
                    </a:lnTo>
                    <a:cubicBezTo>
                      <a:pt x="8263" y="1"/>
                      <a:pt x="8264" y="2"/>
                      <a:pt x="8264" y="3"/>
                    </a:cubicBezTo>
                    <a:cubicBezTo>
                      <a:pt x="8264" y="4"/>
                      <a:pt x="8263" y="5"/>
                      <a:pt x="8262" y="5"/>
                    </a:cubicBezTo>
                    <a:lnTo>
                      <a:pt x="8262" y="5"/>
                    </a:lnTo>
                    <a:cubicBezTo>
                      <a:pt x="8261" y="5"/>
                      <a:pt x="8260" y="4"/>
                      <a:pt x="8260" y="3"/>
                    </a:cubicBezTo>
                    <a:cubicBezTo>
                      <a:pt x="8260" y="2"/>
                      <a:pt x="8261" y="1"/>
                      <a:pt x="8262" y="1"/>
                    </a:cubicBezTo>
                    <a:close/>
                    <a:moveTo>
                      <a:pt x="8270" y="1"/>
                    </a:moveTo>
                    <a:lnTo>
                      <a:pt x="8270" y="1"/>
                    </a:lnTo>
                    <a:cubicBezTo>
                      <a:pt x="8271" y="1"/>
                      <a:pt x="8272" y="2"/>
                      <a:pt x="8272" y="3"/>
                    </a:cubicBezTo>
                    <a:cubicBezTo>
                      <a:pt x="8272" y="4"/>
                      <a:pt x="8271" y="5"/>
                      <a:pt x="8270" y="5"/>
                    </a:cubicBezTo>
                    <a:lnTo>
                      <a:pt x="8270" y="5"/>
                    </a:lnTo>
                    <a:cubicBezTo>
                      <a:pt x="8269" y="5"/>
                      <a:pt x="8268" y="4"/>
                      <a:pt x="8268" y="3"/>
                    </a:cubicBezTo>
                    <a:cubicBezTo>
                      <a:pt x="8268" y="2"/>
                      <a:pt x="8269" y="1"/>
                      <a:pt x="8270" y="1"/>
                    </a:cubicBezTo>
                    <a:close/>
                    <a:moveTo>
                      <a:pt x="8278" y="1"/>
                    </a:moveTo>
                    <a:lnTo>
                      <a:pt x="8278" y="1"/>
                    </a:lnTo>
                    <a:cubicBezTo>
                      <a:pt x="8279" y="1"/>
                      <a:pt x="8280" y="2"/>
                      <a:pt x="8280" y="3"/>
                    </a:cubicBezTo>
                    <a:cubicBezTo>
                      <a:pt x="8280" y="4"/>
                      <a:pt x="8279" y="5"/>
                      <a:pt x="8278" y="5"/>
                    </a:cubicBezTo>
                    <a:lnTo>
                      <a:pt x="8278" y="5"/>
                    </a:lnTo>
                    <a:cubicBezTo>
                      <a:pt x="8277" y="5"/>
                      <a:pt x="8276" y="4"/>
                      <a:pt x="8276" y="3"/>
                    </a:cubicBezTo>
                    <a:cubicBezTo>
                      <a:pt x="8276" y="2"/>
                      <a:pt x="8277" y="1"/>
                      <a:pt x="8278" y="1"/>
                    </a:cubicBezTo>
                    <a:close/>
                    <a:moveTo>
                      <a:pt x="8286" y="1"/>
                    </a:moveTo>
                    <a:lnTo>
                      <a:pt x="8286" y="1"/>
                    </a:lnTo>
                    <a:cubicBezTo>
                      <a:pt x="8287" y="1"/>
                      <a:pt x="8288" y="2"/>
                      <a:pt x="8288" y="3"/>
                    </a:cubicBezTo>
                    <a:cubicBezTo>
                      <a:pt x="8288" y="4"/>
                      <a:pt x="8287" y="5"/>
                      <a:pt x="8286" y="5"/>
                    </a:cubicBezTo>
                    <a:lnTo>
                      <a:pt x="8286" y="5"/>
                    </a:lnTo>
                    <a:cubicBezTo>
                      <a:pt x="8285" y="5"/>
                      <a:pt x="8284" y="4"/>
                      <a:pt x="8284" y="3"/>
                    </a:cubicBezTo>
                    <a:cubicBezTo>
                      <a:pt x="8284" y="2"/>
                      <a:pt x="8285" y="1"/>
                      <a:pt x="8286" y="1"/>
                    </a:cubicBezTo>
                    <a:close/>
                    <a:moveTo>
                      <a:pt x="8294" y="1"/>
                    </a:moveTo>
                    <a:lnTo>
                      <a:pt x="8294" y="1"/>
                    </a:lnTo>
                    <a:cubicBezTo>
                      <a:pt x="8295" y="1"/>
                      <a:pt x="8296" y="2"/>
                      <a:pt x="8296" y="3"/>
                    </a:cubicBezTo>
                    <a:cubicBezTo>
                      <a:pt x="8296" y="4"/>
                      <a:pt x="8295" y="5"/>
                      <a:pt x="8294" y="5"/>
                    </a:cubicBezTo>
                    <a:lnTo>
                      <a:pt x="8294" y="5"/>
                    </a:lnTo>
                    <a:cubicBezTo>
                      <a:pt x="8293" y="5"/>
                      <a:pt x="8292" y="4"/>
                      <a:pt x="8292" y="3"/>
                    </a:cubicBezTo>
                    <a:cubicBezTo>
                      <a:pt x="8292" y="2"/>
                      <a:pt x="8293" y="1"/>
                      <a:pt x="8294" y="1"/>
                    </a:cubicBezTo>
                    <a:close/>
                    <a:moveTo>
                      <a:pt x="8302" y="1"/>
                    </a:moveTo>
                    <a:lnTo>
                      <a:pt x="8302" y="1"/>
                    </a:lnTo>
                    <a:cubicBezTo>
                      <a:pt x="8303" y="1"/>
                      <a:pt x="8304" y="2"/>
                      <a:pt x="8304" y="3"/>
                    </a:cubicBezTo>
                    <a:cubicBezTo>
                      <a:pt x="8304" y="4"/>
                      <a:pt x="8303" y="5"/>
                      <a:pt x="8302" y="5"/>
                    </a:cubicBezTo>
                    <a:lnTo>
                      <a:pt x="8302" y="5"/>
                    </a:lnTo>
                    <a:cubicBezTo>
                      <a:pt x="8301" y="5"/>
                      <a:pt x="8300" y="4"/>
                      <a:pt x="8300" y="3"/>
                    </a:cubicBezTo>
                    <a:cubicBezTo>
                      <a:pt x="8300" y="2"/>
                      <a:pt x="8301" y="1"/>
                      <a:pt x="8302" y="1"/>
                    </a:cubicBezTo>
                    <a:close/>
                    <a:moveTo>
                      <a:pt x="8310" y="1"/>
                    </a:moveTo>
                    <a:lnTo>
                      <a:pt x="8310" y="1"/>
                    </a:lnTo>
                    <a:cubicBezTo>
                      <a:pt x="8311" y="1"/>
                      <a:pt x="8312" y="2"/>
                      <a:pt x="8312" y="3"/>
                    </a:cubicBezTo>
                    <a:cubicBezTo>
                      <a:pt x="8312" y="4"/>
                      <a:pt x="8311" y="5"/>
                      <a:pt x="8310" y="5"/>
                    </a:cubicBezTo>
                    <a:lnTo>
                      <a:pt x="8310" y="5"/>
                    </a:lnTo>
                    <a:cubicBezTo>
                      <a:pt x="8309" y="5"/>
                      <a:pt x="8308" y="4"/>
                      <a:pt x="8308" y="3"/>
                    </a:cubicBezTo>
                    <a:cubicBezTo>
                      <a:pt x="8308" y="2"/>
                      <a:pt x="8309" y="1"/>
                      <a:pt x="8310" y="1"/>
                    </a:cubicBezTo>
                    <a:close/>
                    <a:moveTo>
                      <a:pt x="8318" y="1"/>
                    </a:moveTo>
                    <a:lnTo>
                      <a:pt x="8318" y="1"/>
                    </a:lnTo>
                    <a:cubicBezTo>
                      <a:pt x="8319" y="1"/>
                      <a:pt x="8320" y="2"/>
                      <a:pt x="8320" y="3"/>
                    </a:cubicBezTo>
                    <a:cubicBezTo>
                      <a:pt x="8320" y="4"/>
                      <a:pt x="8319" y="5"/>
                      <a:pt x="8318" y="5"/>
                    </a:cubicBezTo>
                    <a:lnTo>
                      <a:pt x="8318" y="5"/>
                    </a:lnTo>
                    <a:cubicBezTo>
                      <a:pt x="8317" y="5"/>
                      <a:pt x="8316" y="4"/>
                      <a:pt x="8316" y="3"/>
                    </a:cubicBezTo>
                    <a:cubicBezTo>
                      <a:pt x="8316" y="2"/>
                      <a:pt x="8317" y="1"/>
                      <a:pt x="8318" y="1"/>
                    </a:cubicBezTo>
                    <a:close/>
                    <a:moveTo>
                      <a:pt x="8326" y="1"/>
                    </a:moveTo>
                    <a:lnTo>
                      <a:pt x="8326" y="1"/>
                    </a:lnTo>
                    <a:cubicBezTo>
                      <a:pt x="8327" y="1"/>
                      <a:pt x="8328" y="2"/>
                      <a:pt x="8328" y="3"/>
                    </a:cubicBezTo>
                    <a:cubicBezTo>
                      <a:pt x="8328" y="4"/>
                      <a:pt x="8327" y="5"/>
                      <a:pt x="8326" y="5"/>
                    </a:cubicBezTo>
                    <a:lnTo>
                      <a:pt x="8326" y="5"/>
                    </a:lnTo>
                    <a:cubicBezTo>
                      <a:pt x="8325" y="5"/>
                      <a:pt x="8324" y="4"/>
                      <a:pt x="8324" y="3"/>
                    </a:cubicBezTo>
                    <a:cubicBezTo>
                      <a:pt x="8324" y="2"/>
                      <a:pt x="8325" y="1"/>
                      <a:pt x="8326" y="1"/>
                    </a:cubicBezTo>
                    <a:close/>
                    <a:moveTo>
                      <a:pt x="8334" y="1"/>
                    </a:moveTo>
                    <a:lnTo>
                      <a:pt x="8334" y="1"/>
                    </a:lnTo>
                    <a:cubicBezTo>
                      <a:pt x="8335" y="1"/>
                      <a:pt x="8336" y="2"/>
                      <a:pt x="8336" y="3"/>
                    </a:cubicBezTo>
                    <a:cubicBezTo>
                      <a:pt x="8336" y="4"/>
                      <a:pt x="8335" y="5"/>
                      <a:pt x="8334" y="5"/>
                    </a:cubicBezTo>
                    <a:lnTo>
                      <a:pt x="8334" y="5"/>
                    </a:lnTo>
                    <a:cubicBezTo>
                      <a:pt x="8333" y="5"/>
                      <a:pt x="8332" y="4"/>
                      <a:pt x="8332" y="3"/>
                    </a:cubicBezTo>
                    <a:cubicBezTo>
                      <a:pt x="8332" y="2"/>
                      <a:pt x="8333" y="1"/>
                      <a:pt x="8334" y="1"/>
                    </a:cubicBezTo>
                    <a:close/>
                    <a:moveTo>
                      <a:pt x="8342" y="1"/>
                    </a:moveTo>
                    <a:lnTo>
                      <a:pt x="8342" y="1"/>
                    </a:lnTo>
                    <a:cubicBezTo>
                      <a:pt x="8343" y="1"/>
                      <a:pt x="8344" y="2"/>
                      <a:pt x="8344" y="3"/>
                    </a:cubicBezTo>
                    <a:cubicBezTo>
                      <a:pt x="8344" y="4"/>
                      <a:pt x="8343" y="5"/>
                      <a:pt x="8342" y="5"/>
                    </a:cubicBezTo>
                    <a:lnTo>
                      <a:pt x="8342" y="5"/>
                    </a:lnTo>
                    <a:cubicBezTo>
                      <a:pt x="8341" y="5"/>
                      <a:pt x="8340" y="4"/>
                      <a:pt x="8340" y="3"/>
                    </a:cubicBezTo>
                    <a:cubicBezTo>
                      <a:pt x="8340" y="2"/>
                      <a:pt x="8341" y="1"/>
                      <a:pt x="8342" y="1"/>
                    </a:cubicBezTo>
                    <a:close/>
                    <a:moveTo>
                      <a:pt x="8350" y="1"/>
                    </a:moveTo>
                    <a:lnTo>
                      <a:pt x="8350" y="1"/>
                    </a:lnTo>
                    <a:cubicBezTo>
                      <a:pt x="8351" y="1"/>
                      <a:pt x="8352" y="2"/>
                      <a:pt x="8352" y="3"/>
                    </a:cubicBezTo>
                    <a:cubicBezTo>
                      <a:pt x="8352" y="4"/>
                      <a:pt x="8351" y="5"/>
                      <a:pt x="8350" y="5"/>
                    </a:cubicBezTo>
                    <a:lnTo>
                      <a:pt x="8350" y="5"/>
                    </a:lnTo>
                    <a:cubicBezTo>
                      <a:pt x="8349" y="5"/>
                      <a:pt x="8348" y="4"/>
                      <a:pt x="8348" y="3"/>
                    </a:cubicBezTo>
                    <a:cubicBezTo>
                      <a:pt x="8348" y="2"/>
                      <a:pt x="8349" y="1"/>
                      <a:pt x="8350" y="1"/>
                    </a:cubicBezTo>
                    <a:close/>
                    <a:moveTo>
                      <a:pt x="8358" y="1"/>
                    </a:moveTo>
                    <a:lnTo>
                      <a:pt x="8358" y="1"/>
                    </a:lnTo>
                    <a:cubicBezTo>
                      <a:pt x="8359" y="1"/>
                      <a:pt x="8360" y="2"/>
                      <a:pt x="8360" y="3"/>
                    </a:cubicBezTo>
                    <a:cubicBezTo>
                      <a:pt x="8360" y="4"/>
                      <a:pt x="8359" y="5"/>
                      <a:pt x="8358" y="5"/>
                    </a:cubicBezTo>
                    <a:lnTo>
                      <a:pt x="8358" y="5"/>
                    </a:lnTo>
                    <a:cubicBezTo>
                      <a:pt x="8357" y="5"/>
                      <a:pt x="8356" y="4"/>
                      <a:pt x="8356" y="3"/>
                    </a:cubicBezTo>
                    <a:cubicBezTo>
                      <a:pt x="8356" y="2"/>
                      <a:pt x="8357" y="1"/>
                      <a:pt x="8358" y="1"/>
                    </a:cubicBezTo>
                    <a:close/>
                    <a:moveTo>
                      <a:pt x="8366" y="1"/>
                    </a:moveTo>
                    <a:lnTo>
                      <a:pt x="8366" y="1"/>
                    </a:lnTo>
                    <a:cubicBezTo>
                      <a:pt x="8367" y="1"/>
                      <a:pt x="8368" y="2"/>
                      <a:pt x="8368" y="3"/>
                    </a:cubicBezTo>
                    <a:cubicBezTo>
                      <a:pt x="8368" y="4"/>
                      <a:pt x="8367" y="5"/>
                      <a:pt x="8366" y="5"/>
                    </a:cubicBezTo>
                    <a:lnTo>
                      <a:pt x="8366" y="5"/>
                    </a:lnTo>
                    <a:cubicBezTo>
                      <a:pt x="8365" y="5"/>
                      <a:pt x="8364" y="4"/>
                      <a:pt x="8364" y="3"/>
                    </a:cubicBezTo>
                    <a:cubicBezTo>
                      <a:pt x="8364" y="2"/>
                      <a:pt x="8365" y="1"/>
                      <a:pt x="8366" y="1"/>
                    </a:cubicBezTo>
                    <a:close/>
                    <a:moveTo>
                      <a:pt x="8374" y="1"/>
                    </a:moveTo>
                    <a:lnTo>
                      <a:pt x="8374" y="1"/>
                    </a:lnTo>
                    <a:cubicBezTo>
                      <a:pt x="8375" y="1"/>
                      <a:pt x="8376" y="2"/>
                      <a:pt x="8376" y="3"/>
                    </a:cubicBezTo>
                    <a:cubicBezTo>
                      <a:pt x="8376" y="4"/>
                      <a:pt x="8375" y="5"/>
                      <a:pt x="8374" y="5"/>
                    </a:cubicBezTo>
                    <a:lnTo>
                      <a:pt x="8374" y="5"/>
                    </a:lnTo>
                    <a:cubicBezTo>
                      <a:pt x="8373" y="5"/>
                      <a:pt x="8372" y="4"/>
                      <a:pt x="8372" y="3"/>
                    </a:cubicBezTo>
                    <a:cubicBezTo>
                      <a:pt x="8372" y="2"/>
                      <a:pt x="8373" y="1"/>
                      <a:pt x="8374" y="1"/>
                    </a:cubicBezTo>
                    <a:close/>
                    <a:moveTo>
                      <a:pt x="8382" y="1"/>
                    </a:moveTo>
                    <a:lnTo>
                      <a:pt x="8382" y="1"/>
                    </a:lnTo>
                    <a:cubicBezTo>
                      <a:pt x="8383" y="1"/>
                      <a:pt x="8384" y="2"/>
                      <a:pt x="8384" y="3"/>
                    </a:cubicBezTo>
                    <a:cubicBezTo>
                      <a:pt x="8384" y="4"/>
                      <a:pt x="8383" y="5"/>
                      <a:pt x="8382" y="5"/>
                    </a:cubicBezTo>
                    <a:lnTo>
                      <a:pt x="8382" y="5"/>
                    </a:lnTo>
                    <a:cubicBezTo>
                      <a:pt x="8381" y="5"/>
                      <a:pt x="8380" y="4"/>
                      <a:pt x="8380" y="3"/>
                    </a:cubicBezTo>
                    <a:cubicBezTo>
                      <a:pt x="8380" y="2"/>
                      <a:pt x="8381" y="1"/>
                      <a:pt x="8382" y="1"/>
                    </a:cubicBezTo>
                    <a:close/>
                    <a:moveTo>
                      <a:pt x="8390" y="1"/>
                    </a:moveTo>
                    <a:lnTo>
                      <a:pt x="8390" y="1"/>
                    </a:lnTo>
                    <a:cubicBezTo>
                      <a:pt x="8391" y="1"/>
                      <a:pt x="8392" y="2"/>
                      <a:pt x="8392" y="3"/>
                    </a:cubicBezTo>
                    <a:cubicBezTo>
                      <a:pt x="8392" y="4"/>
                      <a:pt x="8391" y="5"/>
                      <a:pt x="8390" y="5"/>
                    </a:cubicBezTo>
                    <a:lnTo>
                      <a:pt x="8390" y="5"/>
                    </a:lnTo>
                    <a:cubicBezTo>
                      <a:pt x="8389" y="5"/>
                      <a:pt x="8388" y="4"/>
                      <a:pt x="8388" y="3"/>
                    </a:cubicBezTo>
                    <a:cubicBezTo>
                      <a:pt x="8388" y="2"/>
                      <a:pt x="8389" y="1"/>
                      <a:pt x="8390" y="1"/>
                    </a:cubicBezTo>
                    <a:close/>
                    <a:moveTo>
                      <a:pt x="8398" y="1"/>
                    </a:moveTo>
                    <a:lnTo>
                      <a:pt x="8398" y="1"/>
                    </a:lnTo>
                    <a:cubicBezTo>
                      <a:pt x="8399" y="1"/>
                      <a:pt x="8400" y="2"/>
                      <a:pt x="8400" y="3"/>
                    </a:cubicBezTo>
                    <a:cubicBezTo>
                      <a:pt x="8400" y="4"/>
                      <a:pt x="8399" y="5"/>
                      <a:pt x="8398" y="5"/>
                    </a:cubicBezTo>
                    <a:lnTo>
                      <a:pt x="8398" y="5"/>
                    </a:lnTo>
                    <a:cubicBezTo>
                      <a:pt x="8397" y="5"/>
                      <a:pt x="8396" y="4"/>
                      <a:pt x="8396" y="3"/>
                    </a:cubicBezTo>
                    <a:cubicBezTo>
                      <a:pt x="8396" y="2"/>
                      <a:pt x="8397" y="1"/>
                      <a:pt x="8398" y="1"/>
                    </a:cubicBezTo>
                    <a:close/>
                    <a:moveTo>
                      <a:pt x="8406" y="1"/>
                    </a:moveTo>
                    <a:lnTo>
                      <a:pt x="8406" y="1"/>
                    </a:lnTo>
                    <a:cubicBezTo>
                      <a:pt x="8407" y="1"/>
                      <a:pt x="8408" y="2"/>
                      <a:pt x="8408" y="3"/>
                    </a:cubicBezTo>
                    <a:cubicBezTo>
                      <a:pt x="8408" y="4"/>
                      <a:pt x="8407" y="5"/>
                      <a:pt x="8406" y="5"/>
                    </a:cubicBezTo>
                    <a:lnTo>
                      <a:pt x="8406" y="5"/>
                    </a:lnTo>
                    <a:cubicBezTo>
                      <a:pt x="8405" y="5"/>
                      <a:pt x="8404" y="4"/>
                      <a:pt x="8404" y="3"/>
                    </a:cubicBezTo>
                    <a:cubicBezTo>
                      <a:pt x="8404" y="2"/>
                      <a:pt x="8405" y="1"/>
                      <a:pt x="8406" y="1"/>
                    </a:cubicBezTo>
                    <a:close/>
                    <a:moveTo>
                      <a:pt x="8414" y="1"/>
                    </a:moveTo>
                    <a:lnTo>
                      <a:pt x="8414" y="1"/>
                    </a:lnTo>
                    <a:cubicBezTo>
                      <a:pt x="8415" y="1"/>
                      <a:pt x="8416" y="2"/>
                      <a:pt x="8416" y="3"/>
                    </a:cubicBezTo>
                    <a:cubicBezTo>
                      <a:pt x="8416" y="4"/>
                      <a:pt x="8415" y="5"/>
                      <a:pt x="8414" y="5"/>
                    </a:cubicBezTo>
                    <a:lnTo>
                      <a:pt x="8414" y="5"/>
                    </a:lnTo>
                    <a:cubicBezTo>
                      <a:pt x="8413" y="5"/>
                      <a:pt x="8412" y="4"/>
                      <a:pt x="8412" y="3"/>
                    </a:cubicBezTo>
                    <a:cubicBezTo>
                      <a:pt x="8412" y="2"/>
                      <a:pt x="8413" y="1"/>
                      <a:pt x="8414" y="1"/>
                    </a:cubicBezTo>
                    <a:close/>
                    <a:moveTo>
                      <a:pt x="8422" y="1"/>
                    </a:moveTo>
                    <a:lnTo>
                      <a:pt x="8422" y="1"/>
                    </a:lnTo>
                    <a:cubicBezTo>
                      <a:pt x="8423" y="1"/>
                      <a:pt x="8424" y="2"/>
                      <a:pt x="8424" y="3"/>
                    </a:cubicBezTo>
                    <a:cubicBezTo>
                      <a:pt x="8424" y="4"/>
                      <a:pt x="8423" y="5"/>
                      <a:pt x="8422" y="5"/>
                    </a:cubicBezTo>
                    <a:lnTo>
                      <a:pt x="8422" y="5"/>
                    </a:lnTo>
                    <a:cubicBezTo>
                      <a:pt x="8421" y="5"/>
                      <a:pt x="8420" y="4"/>
                      <a:pt x="8420" y="3"/>
                    </a:cubicBezTo>
                    <a:cubicBezTo>
                      <a:pt x="8420" y="2"/>
                      <a:pt x="8421" y="1"/>
                      <a:pt x="8422" y="1"/>
                    </a:cubicBezTo>
                    <a:close/>
                    <a:moveTo>
                      <a:pt x="8430" y="1"/>
                    </a:moveTo>
                    <a:lnTo>
                      <a:pt x="8430" y="1"/>
                    </a:lnTo>
                    <a:cubicBezTo>
                      <a:pt x="8431" y="1"/>
                      <a:pt x="8432" y="2"/>
                      <a:pt x="8432" y="3"/>
                    </a:cubicBezTo>
                    <a:cubicBezTo>
                      <a:pt x="8432" y="4"/>
                      <a:pt x="8431" y="5"/>
                      <a:pt x="8430" y="5"/>
                    </a:cubicBezTo>
                    <a:lnTo>
                      <a:pt x="8430" y="5"/>
                    </a:lnTo>
                    <a:cubicBezTo>
                      <a:pt x="8429" y="5"/>
                      <a:pt x="8428" y="4"/>
                      <a:pt x="8428" y="3"/>
                    </a:cubicBezTo>
                    <a:cubicBezTo>
                      <a:pt x="8428" y="2"/>
                      <a:pt x="8429" y="1"/>
                      <a:pt x="8430" y="1"/>
                    </a:cubicBezTo>
                    <a:close/>
                    <a:moveTo>
                      <a:pt x="8438" y="1"/>
                    </a:moveTo>
                    <a:lnTo>
                      <a:pt x="8438" y="1"/>
                    </a:lnTo>
                    <a:cubicBezTo>
                      <a:pt x="8439" y="1"/>
                      <a:pt x="8440" y="2"/>
                      <a:pt x="8440" y="3"/>
                    </a:cubicBezTo>
                    <a:cubicBezTo>
                      <a:pt x="8440" y="4"/>
                      <a:pt x="8439" y="5"/>
                      <a:pt x="8438" y="5"/>
                    </a:cubicBezTo>
                    <a:lnTo>
                      <a:pt x="8438" y="5"/>
                    </a:lnTo>
                    <a:cubicBezTo>
                      <a:pt x="8437" y="5"/>
                      <a:pt x="8436" y="4"/>
                      <a:pt x="8436" y="3"/>
                    </a:cubicBezTo>
                    <a:cubicBezTo>
                      <a:pt x="8436" y="2"/>
                      <a:pt x="8437" y="1"/>
                      <a:pt x="8438" y="1"/>
                    </a:cubicBezTo>
                    <a:close/>
                    <a:moveTo>
                      <a:pt x="8446" y="1"/>
                    </a:moveTo>
                    <a:lnTo>
                      <a:pt x="8446" y="1"/>
                    </a:lnTo>
                    <a:cubicBezTo>
                      <a:pt x="8447" y="1"/>
                      <a:pt x="8448" y="2"/>
                      <a:pt x="8448" y="3"/>
                    </a:cubicBezTo>
                    <a:cubicBezTo>
                      <a:pt x="8448" y="4"/>
                      <a:pt x="8447" y="5"/>
                      <a:pt x="8446" y="5"/>
                    </a:cubicBezTo>
                    <a:lnTo>
                      <a:pt x="8446" y="5"/>
                    </a:lnTo>
                    <a:cubicBezTo>
                      <a:pt x="8445" y="5"/>
                      <a:pt x="8444" y="4"/>
                      <a:pt x="8444" y="3"/>
                    </a:cubicBezTo>
                    <a:cubicBezTo>
                      <a:pt x="8444" y="2"/>
                      <a:pt x="8445" y="1"/>
                      <a:pt x="8446" y="1"/>
                    </a:cubicBezTo>
                    <a:close/>
                    <a:moveTo>
                      <a:pt x="8454" y="1"/>
                    </a:moveTo>
                    <a:lnTo>
                      <a:pt x="8454" y="1"/>
                    </a:lnTo>
                    <a:cubicBezTo>
                      <a:pt x="8455" y="1"/>
                      <a:pt x="8456" y="2"/>
                      <a:pt x="8456" y="3"/>
                    </a:cubicBezTo>
                    <a:cubicBezTo>
                      <a:pt x="8456" y="4"/>
                      <a:pt x="8455" y="5"/>
                      <a:pt x="8454" y="5"/>
                    </a:cubicBezTo>
                    <a:lnTo>
                      <a:pt x="8454" y="5"/>
                    </a:lnTo>
                    <a:cubicBezTo>
                      <a:pt x="8453" y="5"/>
                      <a:pt x="8452" y="4"/>
                      <a:pt x="8452" y="3"/>
                    </a:cubicBezTo>
                    <a:cubicBezTo>
                      <a:pt x="8452" y="2"/>
                      <a:pt x="8453" y="1"/>
                      <a:pt x="8454" y="1"/>
                    </a:cubicBezTo>
                    <a:close/>
                    <a:moveTo>
                      <a:pt x="8462" y="1"/>
                    </a:moveTo>
                    <a:lnTo>
                      <a:pt x="8462" y="1"/>
                    </a:lnTo>
                    <a:cubicBezTo>
                      <a:pt x="8463" y="1"/>
                      <a:pt x="8464" y="2"/>
                      <a:pt x="8464" y="3"/>
                    </a:cubicBezTo>
                    <a:cubicBezTo>
                      <a:pt x="8464" y="4"/>
                      <a:pt x="8463" y="5"/>
                      <a:pt x="8462" y="5"/>
                    </a:cubicBezTo>
                    <a:lnTo>
                      <a:pt x="8462" y="5"/>
                    </a:lnTo>
                    <a:cubicBezTo>
                      <a:pt x="8461" y="5"/>
                      <a:pt x="8460" y="4"/>
                      <a:pt x="8460" y="3"/>
                    </a:cubicBezTo>
                    <a:cubicBezTo>
                      <a:pt x="8460" y="2"/>
                      <a:pt x="8461" y="1"/>
                      <a:pt x="8462" y="1"/>
                    </a:cubicBezTo>
                    <a:close/>
                    <a:moveTo>
                      <a:pt x="8470" y="1"/>
                    </a:moveTo>
                    <a:lnTo>
                      <a:pt x="8470" y="1"/>
                    </a:lnTo>
                    <a:cubicBezTo>
                      <a:pt x="8471" y="1"/>
                      <a:pt x="8472" y="2"/>
                      <a:pt x="8472" y="3"/>
                    </a:cubicBezTo>
                    <a:cubicBezTo>
                      <a:pt x="8472" y="4"/>
                      <a:pt x="8471" y="5"/>
                      <a:pt x="8470" y="5"/>
                    </a:cubicBezTo>
                    <a:lnTo>
                      <a:pt x="8470" y="5"/>
                    </a:lnTo>
                    <a:cubicBezTo>
                      <a:pt x="8469" y="5"/>
                      <a:pt x="8468" y="4"/>
                      <a:pt x="8468" y="3"/>
                    </a:cubicBezTo>
                    <a:cubicBezTo>
                      <a:pt x="8468" y="2"/>
                      <a:pt x="8469" y="1"/>
                      <a:pt x="8470" y="1"/>
                    </a:cubicBezTo>
                    <a:close/>
                    <a:moveTo>
                      <a:pt x="8478" y="1"/>
                    </a:moveTo>
                    <a:lnTo>
                      <a:pt x="8478" y="1"/>
                    </a:lnTo>
                    <a:cubicBezTo>
                      <a:pt x="8479" y="1"/>
                      <a:pt x="8480" y="2"/>
                      <a:pt x="8480" y="3"/>
                    </a:cubicBezTo>
                    <a:cubicBezTo>
                      <a:pt x="8480" y="4"/>
                      <a:pt x="8479" y="5"/>
                      <a:pt x="8478" y="5"/>
                    </a:cubicBezTo>
                    <a:lnTo>
                      <a:pt x="8478" y="5"/>
                    </a:lnTo>
                    <a:cubicBezTo>
                      <a:pt x="8477" y="5"/>
                      <a:pt x="8476" y="4"/>
                      <a:pt x="8476" y="3"/>
                    </a:cubicBezTo>
                    <a:cubicBezTo>
                      <a:pt x="8476" y="2"/>
                      <a:pt x="8477" y="1"/>
                      <a:pt x="8478" y="1"/>
                    </a:cubicBezTo>
                    <a:close/>
                    <a:moveTo>
                      <a:pt x="8486" y="1"/>
                    </a:moveTo>
                    <a:lnTo>
                      <a:pt x="8486" y="1"/>
                    </a:lnTo>
                    <a:cubicBezTo>
                      <a:pt x="8487" y="1"/>
                      <a:pt x="8488" y="2"/>
                      <a:pt x="8488" y="3"/>
                    </a:cubicBezTo>
                    <a:cubicBezTo>
                      <a:pt x="8488" y="4"/>
                      <a:pt x="8487" y="5"/>
                      <a:pt x="8486" y="5"/>
                    </a:cubicBezTo>
                    <a:lnTo>
                      <a:pt x="8486" y="5"/>
                    </a:lnTo>
                    <a:cubicBezTo>
                      <a:pt x="8485" y="5"/>
                      <a:pt x="8484" y="4"/>
                      <a:pt x="8484" y="3"/>
                    </a:cubicBezTo>
                    <a:cubicBezTo>
                      <a:pt x="8484" y="2"/>
                      <a:pt x="8485" y="1"/>
                      <a:pt x="8486" y="1"/>
                    </a:cubicBezTo>
                    <a:close/>
                    <a:moveTo>
                      <a:pt x="8494" y="1"/>
                    </a:moveTo>
                    <a:lnTo>
                      <a:pt x="8494" y="1"/>
                    </a:lnTo>
                    <a:cubicBezTo>
                      <a:pt x="8495" y="1"/>
                      <a:pt x="8496" y="2"/>
                      <a:pt x="8496" y="3"/>
                    </a:cubicBezTo>
                    <a:cubicBezTo>
                      <a:pt x="8496" y="4"/>
                      <a:pt x="8495" y="5"/>
                      <a:pt x="8494" y="5"/>
                    </a:cubicBezTo>
                    <a:lnTo>
                      <a:pt x="8494" y="5"/>
                    </a:lnTo>
                    <a:cubicBezTo>
                      <a:pt x="8493" y="5"/>
                      <a:pt x="8492" y="4"/>
                      <a:pt x="8492" y="3"/>
                    </a:cubicBezTo>
                    <a:cubicBezTo>
                      <a:pt x="8492" y="2"/>
                      <a:pt x="8493" y="1"/>
                      <a:pt x="8494" y="1"/>
                    </a:cubicBezTo>
                    <a:close/>
                    <a:moveTo>
                      <a:pt x="8502" y="1"/>
                    </a:moveTo>
                    <a:lnTo>
                      <a:pt x="8502" y="1"/>
                    </a:lnTo>
                    <a:cubicBezTo>
                      <a:pt x="8503" y="1"/>
                      <a:pt x="8504" y="2"/>
                      <a:pt x="8504" y="3"/>
                    </a:cubicBezTo>
                    <a:cubicBezTo>
                      <a:pt x="8504" y="4"/>
                      <a:pt x="8503" y="5"/>
                      <a:pt x="8502" y="5"/>
                    </a:cubicBezTo>
                    <a:lnTo>
                      <a:pt x="8502" y="5"/>
                    </a:lnTo>
                    <a:cubicBezTo>
                      <a:pt x="8501" y="5"/>
                      <a:pt x="8500" y="4"/>
                      <a:pt x="8500" y="3"/>
                    </a:cubicBezTo>
                    <a:cubicBezTo>
                      <a:pt x="8500" y="2"/>
                      <a:pt x="8501" y="1"/>
                      <a:pt x="8502" y="1"/>
                    </a:cubicBezTo>
                    <a:close/>
                    <a:moveTo>
                      <a:pt x="8510" y="1"/>
                    </a:moveTo>
                    <a:lnTo>
                      <a:pt x="8510" y="1"/>
                    </a:lnTo>
                    <a:cubicBezTo>
                      <a:pt x="8511" y="1"/>
                      <a:pt x="8512" y="2"/>
                      <a:pt x="8512" y="3"/>
                    </a:cubicBezTo>
                    <a:cubicBezTo>
                      <a:pt x="8512" y="4"/>
                      <a:pt x="8511" y="5"/>
                      <a:pt x="8510" y="5"/>
                    </a:cubicBezTo>
                    <a:lnTo>
                      <a:pt x="8510" y="5"/>
                    </a:lnTo>
                    <a:cubicBezTo>
                      <a:pt x="8509" y="5"/>
                      <a:pt x="8508" y="4"/>
                      <a:pt x="8508" y="3"/>
                    </a:cubicBezTo>
                    <a:cubicBezTo>
                      <a:pt x="8508" y="2"/>
                      <a:pt x="8509" y="1"/>
                      <a:pt x="8510" y="1"/>
                    </a:cubicBezTo>
                    <a:close/>
                    <a:moveTo>
                      <a:pt x="8518" y="1"/>
                    </a:moveTo>
                    <a:lnTo>
                      <a:pt x="8518" y="1"/>
                    </a:lnTo>
                    <a:cubicBezTo>
                      <a:pt x="8519" y="1"/>
                      <a:pt x="8520" y="2"/>
                      <a:pt x="8520" y="3"/>
                    </a:cubicBezTo>
                    <a:cubicBezTo>
                      <a:pt x="8520" y="4"/>
                      <a:pt x="8519" y="5"/>
                      <a:pt x="8518" y="5"/>
                    </a:cubicBezTo>
                    <a:lnTo>
                      <a:pt x="8518" y="5"/>
                    </a:lnTo>
                    <a:cubicBezTo>
                      <a:pt x="8517" y="5"/>
                      <a:pt x="8516" y="4"/>
                      <a:pt x="8516" y="3"/>
                    </a:cubicBezTo>
                    <a:cubicBezTo>
                      <a:pt x="8516" y="2"/>
                      <a:pt x="8517" y="1"/>
                      <a:pt x="8518" y="1"/>
                    </a:cubicBezTo>
                    <a:close/>
                    <a:moveTo>
                      <a:pt x="8526" y="1"/>
                    </a:moveTo>
                    <a:lnTo>
                      <a:pt x="8526" y="1"/>
                    </a:lnTo>
                    <a:cubicBezTo>
                      <a:pt x="8527" y="1"/>
                      <a:pt x="8528" y="2"/>
                      <a:pt x="8528" y="3"/>
                    </a:cubicBezTo>
                    <a:cubicBezTo>
                      <a:pt x="8528" y="4"/>
                      <a:pt x="8527" y="5"/>
                      <a:pt x="8526" y="5"/>
                    </a:cubicBezTo>
                    <a:lnTo>
                      <a:pt x="8526" y="5"/>
                    </a:lnTo>
                    <a:cubicBezTo>
                      <a:pt x="8525" y="5"/>
                      <a:pt x="8524" y="4"/>
                      <a:pt x="8524" y="3"/>
                    </a:cubicBezTo>
                    <a:cubicBezTo>
                      <a:pt x="8524" y="2"/>
                      <a:pt x="8525" y="1"/>
                      <a:pt x="8526" y="1"/>
                    </a:cubicBezTo>
                    <a:close/>
                    <a:moveTo>
                      <a:pt x="8534" y="1"/>
                    </a:moveTo>
                    <a:lnTo>
                      <a:pt x="8534" y="1"/>
                    </a:lnTo>
                    <a:cubicBezTo>
                      <a:pt x="8535" y="1"/>
                      <a:pt x="8536" y="2"/>
                      <a:pt x="8536" y="3"/>
                    </a:cubicBezTo>
                    <a:cubicBezTo>
                      <a:pt x="8536" y="4"/>
                      <a:pt x="8535" y="5"/>
                      <a:pt x="8534" y="5"/>
                    </a:cubicBezTo>
                    <a:lnTo>
                      <a:pt x="8534" y="5"/>
                    </a:lnTo>
                    <a:cubicBezTo>
                      <a:pt x="8533" y="5"/>
                      <a:pt x="8532" y="4"/>
                      <a:pt x="8532" y="3"/>
                    </a:cubicBezTo>
                    <a:cubicBezTo>
                      <a:pt x="8532" y="2"/>
                      <a:pt x="8533" y="1"/>
                      <a:pt x="8534" y="1"/>
                    </a:cubicBezTo>
                    <a:close/>
                    <a:moveTo>
                      <a:pt x="8542" y="1"/>
                    </a:moveTo>
                    <a:lnTo>
                      <a:pt x="8542" y="1"/>
                    </a:lnTo>
                    <a:cubicBezTo>
                      <a:pt x="8543" y="1"/>
                      <a:pt x="8544" y="2"/>
                      <a:pt x="8544" y="3"/>
                    </a:cubicBezTo>
                    <a:cubicBezTo>
                      <a:pt x="8544" y="4"/>
                      <a:pt x="8543" y="5"/>
                      <a:pt x="8542" y="5"/>
                    </a:cubicBezTo>
                    <a:lnTo>
                      <a:pt x="8542" y="5"/>
                    </a:lnTo>
                    <a:cubicBezTo>
                      <a:pt x="8541" y="5"/>
                      <a:pt x="8540" y="4"/>
                      <a:pt x="8540" y="3"/>
                    </a:cubicBezTo>
                    <a:cubicBezTo>
                      <a:pt x="8540" y="2"/>
                      <a:pt x="8541" y="1"/>
                      <a:pt x="8542" y="1"/>
                    </a:cubicBezTo>
                    <a:close/>
                    <a:moveTo>
                      <a:pt x="8550" y="1"/>
                    </a:moveTo>
                    <a:lnTo>
                      <a:pt x="8550" y="1"/>
                    </a:lnTo>
                    <a:cubicBezTo>
                      <a:pt x="8551" y="1"/>
                      <a:pt x="8552" y="2"/>
                      <a:pt x="8552" y="3"/>
                    </a:cubicBezTo>
                    <a:cubicBezTo>
                      <a:pt x="8552" y="4"/>
                      <a:pt x="8551" y="5"/>
                      <a:pt x="8550" y="5"/>
                    </a:cubicBezTo>
                    <a:lnTo>
                      <a:pt x="8550" y="5"/>
                    </a:lnTo>
                    <a:cubicBezTo>
                      <a:pt x="8549" y="5"/>
                      <a:pt x="8548" y="4"/>
                      <a:pt x="8548" y="3"/>
                    </a:cubicBezTo>
                    <a:cubicBezTo>
                      <a:pt x="8548" y="2"/>
                      <a:pt x="8549" y="1"/>
                      <a:pt x="8550" y="1"/>
                    </a:cubicBezTo>
                    <a:close/>
                    <a:moveTo>
                      <a:pt x="8558" y="1"/>
                    </a:moveTo>
                    <a:lnTo>
                      <a:pt x="8558" y="1"/>
                    </a:lnTo>
                    <a:cubicBezTo>
                      <a:pt x="8559" y="1"/>
                      <a:pt x="8560" y="2"/>
                      <a:pt x="8560" y="3"/>
                    </a:cubicBezTo>
                    <a:cubicBezTo>
                      <a:pt x="8560" y="4"/>
                      <a:pt x="8559" y="5"/>
                      <a:pt x="8558" y="5"/>
                    </a:cubicBezTo>
                    <a:lnTo>
                      <a:pt x="8558" y="5"/>
                    </a:lnTo>
                    <a:cubicBezTo>
                      <a:pt x="8557" y="5"/>
                      <a:pt x="8556" y="4"/>
                      <a:pt x="8556" y="3"/>
                    </a:cubicBezTo>
                    <a:cubicBezTo>
                      <a:pt x="8556" y="2"/>
                      <a:pt x="8557" y="1"/>
                      <a:pt x="8558" y="1"/>
                    </a:cubicBezTo>
                    <a:close/>
                    <a:moveTo>
                      <a:pt x="8566" y="1"/>
                    </a:moveTo>
                    <a:lnTo>
                      <a:pt x="8566" y="1"/>
                    </a:lnTo>
                    <a:cubicBezTo>
                      <a:pt x="8567" y="1"/>
                      <a:pt x="8568" y="2"/>
                      <a:pt x="8568" y="3"/>
                    </a:cubicBezTo>
                    <a:cubicBezTo>
                      <a:pt x="8568" y="4"/>
                      <a:pt x="8567" y="5"/>
                      <a:pt x="8566" y="5"/>
                    </a:cubicBezTo>
                    <a:lnTo>
                      <a:pt x="8566" y="5"/>
                    </a:lnTo>
                    <a:cubicBezTo>
                      <a:pt x="8565" y="5"/>
                      <a:pt x="8564" y="4"/>
                      <a:pt x="8564" y="3"/>
                    </a:cubicBezTo>
                    <a:cubicBezTo>
                      <a:pt x="8564" y="2"/>
                      <a:pt x="8565" y="1"/>
                      <a:pt x="8566" y="1"/>
                    </a:cubicBezTo>
                    <a:close/>
                    <a:moveTo>
                      <a:pt x="8574" y="1"/>
                    </a:moveTo>
                    <a:lnTo>
                      <a:pt x="8574" y="1"/>
                    </a:lnTo>
                    <a:cubicBezTo>
                      <a:pt x="8575" y="1"/>
                      <a:pt x="8576" y="2"/>
                      <a:pt x="8576" y="3"/>
                    </a:cubicBezTo>
                    <a:cubicBezTo>
                      <a:pt x="8576" y="4"/>
                      <a:pt x="8575" y="5"/>
                      <a:pt x="8574" y="5"/>
                    </a:cubicBezTo>
                    <a:lnTo>
                      <a:pt x="8574" y="5"/>
                    </a:lnTo>
                    <a:cubicBezTo>
                      <a:pt x="8573" y="5"/>
                      <a:pt x="8572" y="4"/>
                      <a:pt x="8572" y="3"/>
                    </a:cubicBezTo>
                    <a:cubicBezTo>
                      <a:pt x="8572" y="2"/>
                      <a:pt x="8573" y="1"/>
                      <a:pt x="8574" y="1"/>
                    </a:cubicBezTo>
                    <a:close/>
                    <a:moveTo>
                      <a:pt x="8582" y="1"/>
                    </a:moveTo>
                    <a:lnTo>
                      <a:pt x="8582" y="1"/>
                    </a:lnTo>
                    <a:cubicBezTo>
                      <a:pt x="8583" y="1"/>
                      <a:pt x="8584" y="2"/>
                      <a:pt x="8584" y="3"/>
                    </a:cubicBezTo>
                    <a:cubicBezTo>
                      <a:pt x="8584" y="4"/>
                      <a:pt x="8583" y="5"/>
                      <a:pt x="8582" y="5"/>
                    </a:cubicBezTo>
                    <a:lnTo>
                      <a:pt x="8582" y="5"/>
                    </a:lnTo>
                    <a:cubicBezTo>
                      <a:pt x="8581" y="5"/>
                      <a:pt x="8580" y="4"/>
                      <a:pt x="8580" y="3"/>
                    </a:cubicBezTo>
                    <a:cubicBezTo>
                      <a:pt x="8580" y="2"/>
                      <a:pt x="8581" y="1"/>
                      <a:pt x="8582" y="1"/>
                    </a:cubicBezTo>
                    <a:close/>
                    <a:moveTo>
                      <a:pt x="8590" y="1"/>
                    </a:moveTo>
                    <a:lnTo>
                      <a:pt x="8590" y="1"/>
                    </a:lnTo>
                    <a:cubicBezTo>
                      <a:pt x="8591" y="1"/>
                      <a:pt x="8592" y="2"/>
                      <a:pt x="8592" y="3"/>
                    </a:cubicBezTo>
                    <a:cubicBezTo>
                      <a:pt x="8592" y="4"/>
                      <a:pt x="8591" y="5"/>
                      <a:pt x="8590" y="5"/>
                    </a:cubicBezTo>
                    <a:lnTo>
                      <a:pt x="8590" y="5"/>
                    </a:lnTo>
                    <a:cubicBezTo>
                      <a:pt x="8589" y="5"/>
                      <a:pt x="8588" y="4"/>
                      <a:pt x="8588" y="3"/>
                    </a:cubicBezTo>
                    <a:cubicBezTo>
                      <a:pt x="8588" y="2"/>
                      <a:pt x="8589" y="1"/>
                      <a:pt x="8590" y="1"/>
                    </a:cubicBezTo>
                    <a:close/>
                    <a:moveTo>
                      <a:pt x="8598" y="1"/>
                    </a:moveTo>
                    <a:lnTo>
                      <a:pt x="8598" y="1"/>
                    </a:lnTo>
                    <a:cubicBezTo>
                      <a:pt x="8599" y="1"/>
                      <a:pt x="8600" y="2"/>
                      <a:pt x="8600" y="3"/>
                    </a:cubicBezTo>
                    <a:cubicBezTo>
                      <a:pt x="8600" y="4"/>
                      <a:pt x="8599" y="5"/>
                      <a:pt x="8598" y="5"/>
                    </a:cubicBezTo>
                    <a:lnTo>
                      <a:pt x="8598" y="5"/>
                    </a:lnTo>
                    <a:cubicBezTo>
                      <a:pt x="8597" y="5"/>
                      <a:pt x="8596" y="4"/>
                      <a:pt x="8596" y="3"/>
                    </a:cubicBezTo>
                    <a:cubicBezTo>
                      <a:pt x="8596" y="2"/>
                      <a:pt x="8597" y="1"/>
                      <a:pt x="8598" y="1"/>
                    </a:cubicBezTo>
                    <a:close/>
                    <a:moveTo>
                      <a:pt x="8606" y="1"/>
                    </a:moveTo>
                    <a:lnTo>
                      <a:pt x="8606" y="1"/>
                    </a:lnTo>
                    <a:cubicBezTo>
                      <a:pt x="8607" y="1"/>
                      <a:pt x="8608" y="2"/>
                      <a:pt x="8608" y="3"/>
                    </a:cubicBezTo>
                    <a:cubicBezTo>
                      <a:pt x="8608" y="4"/>
                      <a:pt x="8607" y="5"/>
                      <a:pt x="8606" y="5"/>
                    </a:cubicBezTo>
                    <a:lnTo>
                      <a:pt x="8606" y="5"/>
                    </a:lnTo>
                    <a:cubicBezTo>
                      <a:pt x="8605" y="5"/>
                      <a:pt x="8604" y="4"/>
                      <a:pt x="8604" y="3"/>
                    </a:cubicBezTo>
                    <a:cubicBezTo>
                      <a:pt x="8604" y="2"/>
                      <a:pt x="8605" y="1"/>
                      <a:pt x="8606" y="1"/>
                    </a:cubicBezTo>
                    <a:close/>
                    <a:moveTo>
                      <a:pt x="8614" y="1"/>
                    </a:moveTo>
                    <a:lnTo>
                      <a:pt x="8614" y="1"/>
                    </a:lnTo>
                    <a:cubicBezTo>
                      <a:pt x="8615" y="1"/>
                      <a:pt x="8616" y="2"/>
                      <a:pt x="8616" y="3"/>
                    </a:cubicBezTo>
                    <a:cubicBezTo>
                      <a:pt x="8616" y="4"/>
                      <a:pt x="8615" y="5"/>
                      <a:pt x="8614" y="5"/>
                    </a:cubicBezTo>
                    <a:lnTo>
                      <a:pt x="8614" y="5"/>
                    </a:lnTo>
                    <a:cubicBezTo>
                      <a:pt x="8613" y="5"/>
                      <a:pt x="8612" y="4"/>
                      <a:pt x="8612" y="3"/>
                    </a:cubicBezTo>
                    <a:cubicBezTo>
                      <a:pt x="8612" y="2"/>
                      <a:pt x="8613" y="1"/>
                      <a:pt x="8614" y="1"/>
                    </a:cubicBezTo>
                    <a:close/>
                    <a:moveTo>
                      <a:pt x="8622" y="1"/>
                    </a:moveTo>
                    <a:lnTo>
                      <a:pt x="8622" y="1"/>
                    </a:lnTo>
                    <a:cubicBezTo>
                      <a:pt x="8623" y="1"/>
                      <a:pt x="8624" y="2"/>
                      <a:pt x="8624" y="3"/>
                    </a:cubicBezTo>
                    <a:cubicBezTo>
                      <a:pt x="8624" y="4"/>
                      <a:pt x="8623" y="5"/>
                      <a:pt x="8622" y="5"/>
                    </a:cubicBezTo>
                    <a:lnTo>
                      <a:pt x="8622" y="5"/>
                    </a:lnTo>
                    <a:cubicBezTo>
                      <a:pt x="8621" y="5"/>
                      <a:pt x="8620" y="4"/>
                      <a:pt x="8620" y="3"/>
                    </a:cubicBezTo>
                    <a:cubicBezTo>
                      <a:pt x="8620" y="2"/>
                      <a:pt x="8621" y="1"/>
                      <a:pt x="8622" y="1"/>
                    </a:cubicBezTo>
                    <a:close/>
                    <a:moveTo>
                      <a:pt x="8630" y="1"/>
                    </a:moveTo>
                    <a:lnTo>
                      <a:pt x="8630" y="1"/>
                    </a:lnTo>
                    <a:cubicBezTo>
                      <a:pt x="8631" y="1"/>
                      <a:pt x="8632" y="2"/>
                      <a:pt x="8632" y="3"/>
                    </a:cubicBezTo>
                    <a:cubicBezTo>
                      <a:pt x="8632" y="4"/>
                      <a:pt x="8631" y="5"/>
                      <a:pt x="8630" y="5"/>
                    </a:cubicBezTo>
                    <a:lnTo>
                      <a:pt x="8630" y="5"/>
                    </a:lnTo>
                    <a:cubicBezTo>
                      <a:pt x="8629" y="5"/>
                      <a:pt x="8628" y="4"/>
                      <a:pt x="8628" y="3"/>
                    </a:cubicBezTo>
                    <a:cubicBezTo>
                      <a:pt x="8628" y="2"/>
                      <a:pt x="8629" y="1"/>
                      <a:pt x="8630" y="1"/>
                    </a:cubicBezTo>
                    <a:close/>
                    <a:moveTo>
                      <a:pt x="8638" y="1"/>
                    </a:moveTo>
                    <a:lnTo>
                      <a:pt x="8638" y="1"/>
                    </a:lnTo>
                    <a:cubicBezTo>
                      <a:pt x="8639" y="1"/>
                      <a:pt x="8640" y="2"/>
                      <a:pt x="8640" y="3"/>
                    </a:cubicBezTo>
                    <a:cubicBezTo>
                      <a:pt x="8640" y="4"/>
                      <a:pt x="8639" y="5"/>
                      <a:pt x="8638" y="5"/>
                    </a:cubicBezTo>
                    <a:lnTo>
                      <a:pt x="8638" y="5"/>
                    </a:lnTo>
                    <a:cubicBezTo>
                      <a:pt x="8637" y="5"/>
                      <a:pt x="8636" y="4"/>
                      <a:pt x="8636" y="3"/>
                    </a:cubicBezTo>
                    <a:cubicBezTo>
                      <a:pt x="8636" y="2"/>
                      <a:pt x="8637" y="1"/>
                      <a:pt x="8638" y="1"/>
                    </a:cubicBezTo>
                    <a:close/>
                    <a:moveTo>
                      <a:pt x="8646" y="1"/>
                    </a:moveTo>
                    <a:lnTo>
                      <a:pt x="8646" y="1"/>
                    </a:lnTo>
                    <a:cubicBezTo>
                      <a:pt x="8647" y="1"/>
                      <a:pt x="8648" y="2"/>
                      <a:pt x="8648" y="3"/>
                    </a:cubicBezTo>
                    <a:cubicBezTo>
                      <a:pt x="8648" y="4"/>
                      <a:pt x="8647" y="5"/>
                      <a:pt x="8646" y="5"/>
                    </a:cubicBezTo>
                    <a:lnTo>
                      <a:pt x="8646" y="5"/>
                    </a:lnTo>
                    <a:cubicBezTo>
                      <a:pt x="8645" y="5"/>
                      <a:pt x="8644" y="4"/>
                      <a:pt x="8644" y="3"/>
                    </a:cubicBezTo>
                    <a:cubicBezTo>
                      <a:pt x="8644" y="2"/>
                      <a:pt x="8645" y="1"/>
                      <a:pt x="8646" y="1"/>
                    </a:cubicBezTo>
                    <a:close/>
                    <a:moveTo>
                      <a:pt x="8654" y="1"/>
                    </a:moveTo>
                    <a:lnTo>
                      <a:pt x="8654" y="1"/>
                    </a:lnTo>
                    <a:cubicBezTo>
                      <a:pt x="8655" y="1"/>
                      <a:pt x="8656" y="2"/>
                      <a:pt x="8656" y="3"/>
                    </a:cubicBezTo>
                    <a:cubicBezTo>
                      <a:pt x="8656" y="4"/>
                      <a:pt x="8655" y="5"/>
                      <a:pt x="8654" y="5"/>
                    </a:cubicBezTo>
                    <a:lnTo>
                      <a:pt x="8654" y="5"/>
                    </a:lnTo>
                    <a:cubicBezTo>
                      <a:pt x="8653" y="5"/>
                      <a:pt x="8652" y="4"/>
                      <a:pt x="8652" y="3"/>
                    </a:cubicBezTo>
                    <a:cubicBezTo>
                      <a:pt x="8652" y="2"/>
                      <a:pt x="8653" y="1"/>
                      <a:pt x="8654" y="1"/>
                    </a:cubicBezTo>
                    <a:close/>
                    <a:moveTo>
                      <a:pt x="8662" y="1"/>
                    </a:moveTo>
                    <a:lnTo>
                      <a:pt x="8662" y="1"/>
                    </a:lnTo>
                    <a:cubicBezTo>
                      <a:pt x="8663" y="1"/>
                      <a:pt x="8664" y="2"/>
                      <a:pt x="8664" y="3"/>
                    </a:cubicBezTo>
                    <a:cubicBezTo>
                      <a:pt x="8664" y="5"/>
                      <a:pt x="8663" y="5"/>
                      <a:pt x="8662" y="5"/>
                    </a:cubicBezTo>
                    <a:lnTo>
                      <a:pt x="8662" y="5"/>
                    </a:lnTo>
                    <a:cubicBezTo>
                      <a:pt x="8661" y="5"/>
                      <a:pt x="8660" y="5"/>
                      <a:pt x="8660" y="3"/>
                    </a:cubicBezTo>
                    <a:cubicBezTo>
                      <a:pt x="8660" y="2"/>
                      <a:pt x="8661" y="1"/>
                      <a:pt x="8662" y="1"/>
                    </a:cubicBezTo>
                    <a:close/>
                    <a:moveTo>
                      <a:pt x="8670" y="1"/>
                    </a:moveTo>
                    <a:lnTo>
                      <a:pt x="8670" y="1"/>
                    </a:lnTo>
                    <a:cubicBezTo>
                      <a:pt x="8671" y="1"/>
                      <a:pt x="8672" y="2"/>
                      <a:pt x="8672" y="3"/>
                    </a:cubicBezTo>
                    <a:cubicBezTo>
                      <a:pt x="8672" y="5"/>
                      <a:pt x="8671" y="5"/>
                      <a:pt x="8670" y="5"/>
                    </a:cubicBezTo>
                    <a:lnTo>
                      <a:pt x="8670" y="5"/>
                    </a:lnTo>
                    <a:cubicBezTo>
                      <a:pt x="8669" y="5"/>
                      <a:pt x="8668" y="5"/>
                      <a:pt x="8668" y="3"/>
                    </a:cubicBezTo>
                    <a:cubicBezTo>
                      <a:pt x="8668" y="2"/>
                      <a:pt x="8669" y="1"/>
                      <a:pt x="8670" y="1"/>
                    </a:cubicBezTo>
                    <a:close/>
                    <a:moveTo>
                      <a:pt x="8678" y="1"/>
                    </a:moveTo>
                    <a:lnTo>
                      <a:pt x="8678" y="1"/>
                    </a:lnTo>
                    <a:cubicBezTo>
                      <a:pt x="8679" y="1"/>
                      <a:pt x="8680" y="2"/>
                      <a:pt x="8680" y="3"/>
                    </a:cubicBezTo>
                    <a:cubicBezTo>
                      <a:pt x="8680" y="5"/>
                      <a:pt x="8679" y="5"/>
                      <a:pt x="8678" y="5"/>
                    </a:cubicBezTo>
                    <a:lnTo>
                      <a:pt x="8678" y="5"/>
                    </a:lnTo>
                    <a:cubicBezTo>
                      <a:pt x="8677" y="5"/>
                      <a:pt x="8676" y="5"/>
                      <a:pt x="8676" y="3"/>
                    </a:cubicBezTo>
                    <a:cubicBezTo>
                      <a:pt x="8676" y="2"/>
                      <a:pt x="8677" y="1"/>
                      <a:pt x="8678" y="1"/>
                    </a:cubicBezTo>
                    <a:close/>
                    <a:moveTo>
                      <a:pt x="8686" y="1"/>
                    </a:moveTo>
                    <a:lnTo>
                      <a:pt x="8686" y="1"/>
                    </a:lnTo>
                    <a:cubicBezTo>
                      <a:pt x="8687" y="1"/>
                      <a:pt x="8688" y="2"/>
                      <a:pt x="8688" y="3"/>
                    </a:cubicBezTo>
                    <a:cubicBezTo>
                      <a:pt x="8688" y="5"/>
                      <a:pt x="8687" y="5"/>
                      <a:pt x="8686" y="5"/>
                    </a:cubicBezTo>
                    <a:lnTo>
                      <a:pt x="8686" y="5"/>
                    </a:lnTo>
                    <a:cubicBezTo>
                      <a:pt x="8685" y="5"/>
                      <a:pt x="8684" y="5"/>
                      <a:pt x="8684" y="3"/>
                    </a:cubicBezTo>
                    <a:cubicBezTo>
                      <a:pt x="8684" y="2"/>
                      <a:pt x="8685" y="1"/>
                      <a:pt x="8686" y="1"/>
                    </a:cubicBezTo>
                    <a:close/>
                    <a:moveTo>
                      <a:pt x="8694" y="1"/>
                    </a:moveTo>
                    <a:lnTo>
                      <a:pt x="8694" y="1"/>
                    </a:lnTo>
                    <a:cubicBezTo>
                      <a:pt x="8695" y="1"/>
                      <a:pt x="8696" y="2"/>
                      <a:pt x="8696" y="3"/>
                    </a:cubicBezTo>
                    <a:cubicBezTo>
                      <a:pt x="8696" y="5"/>
                      <a:pt x="8695" y="5"/>
                      <a:pt x="8694" y="5"/>
                    </a:cubicBezTo>
                    <a:lnTo>
                      <a:pt x="8694" y="5"/>
                    </a:lnTo>
                    <a:cubicBezTo>
                      <a:pt x="8693" y="5"/>
                      <a:pt x="8692" y="5"/>
                      <a:pt x="8692" y="3"/>
                    </a:cubicBezTo>
                    <a:cubicBezTo>
                      <a:pt x="8692" y="2"/>
                      <a:pt x="8693" y="1"/>
                      <a:pt x="8694" y="1"/>
                    </a:cubicBezTo>
                    <a:close/>
                    <a:moveTo>
                      <a:pt x="8702" y="1"/>
                    </a:moveTo>
                    <a:lnTo>
                      <a:pt x="8702" y="1"/>
                    </a:lnTo>
                    <a:cubicBezTo>
                      <a:pt x="8703" y="1"/>
                      <a:pt x="8704" y="2"/>
                      <a:pt x="8704" y="3"/>
                    </a:cubicBezTo>
                    <a:cubicBezTo>
                      <a:pt x="8704" y="5"/>
                      <a:pt x="8703" y="5"/>
                      <a:pt x="8702" y="5"/>
                    </a:cubicBezTo>
                    <a:lnTo>
                      <a:pt x="8702" y="5"/>
                    </a:lnTo>
                    <a:cubicBezTo>
                      <a:pt x="8701" y="5"/>
                      <a:pt x="8700" y="5"/>
                      <a:pt x="8700" y="3"/>
                    </a:cubicBezTo>
                    <a:cubicBezTo>
                      <a:pt x="8700" y="2"/>
                      <a:pt x="8701" y="1"/>
                      <a:pt x="8702" y="1"/>
                    </a:cubicBezTo>
                    <a:close/>
                    <a:moveTo>
                      <a:pt x="8710" y="1"/>
                    </a:moveTo>
                    <a:lnTo>
                      <a:pt x="8710" y="1"/>
                    </a:lnTo>
                    <a:cubicBezTo>
                      <a:pt x="8711" y="1"/>
                      <a:pt x="8712" y="2"/>
                      <a:pt x="8712" y="3"/>
                    </a:cubicBezTo>
                    <a:cubicBezTo>
                      <a:pt x="8712" y="5"/>
                      <a:pt x="8711" y="5"/>
                      <a:pt x="8710" y="5"/>
                    </a:cubicBezTo>
                    <a:lnTo>
                      <a:pt x="8710" y="5"/>
                    </a:lnTo>
                    <a:cubicBezTo>
                      <a:pt x="8709" y="5"/>
                      <a:pt x="8708" y="5"/>
                      <a:pt x="8708" y="3"/>
                    </a:cubicBezTo>
                    <a:cubicBezTo>
                      <a:pt x="8708" y="2"/>
                      <a:pt x="8709" y="1"/>
                      <a:pt x="8710" y="1"/>
                    </a:cubicBezTo>
                    <a:close/>
                    <a:moveTo>
                      <a:pt x="8718" y="1"/>
                    </a:moveTo>
                    <a:lnTo>
                      <a:pt x="8718" y="1"/>
                    </a:lnTo>
                    <a:cubicBezTo>
                      <a:pt x="8719" y="1"/>
                      <a:pt x="8720" y="2"/>
                      <a:pt x="8720" y="3"/>
                    </a:cubicBezTo>
                    <a:cubicBezTo>
                      <a:pt x="8720" y="5"/>
                      <a:pt x="8719" y="5"/>
                      <a:pt x="8718" y="5"/>
                    </a:cubicBezTo>
                    <a:lnTo>
                      <a:pt x="8718" y="5"/>
                    </a:lnTo>
                    <a:cubicBezTo>
                      <a:pt x="8717" y="5"/>
                      <a:pt x="8716" y="5"/>
                      <a:pt x="8716" y="3"/>
                    </a:cubicBezTo>
                    <a:cubicBezTo>
                      <a:pt x="8716" y="2"/>
                      <a:pt x="8717" y="1"/>
                      <a:pt x="8718" y="1"/>
                    </a:cubicBezTo>
                    <a:close/>
                    <a:moveTo>
                      <a:pt x="8726" y="1"/>
                    </a:moveTo>
                    <a:lnTo>
                      <a:pt x="8726" y="1"/>
                    </a:lnTo>
                    <a:cubicBezTo>
                      <a:pt x="8727" y="1"/>
                      <a:pt x="8728" y="2"/>
                      <a:pt x="8728" y="3"/>
                    </a:cubicBezTo>
                    <a:cubicBezTo>
                      <a:pt x="8728" y="5"/>
                      <a:pt x="8727" y="5"/>
                      <a:pt x="8726" y="5"/>
                    </a:cubicBezTo>
                    <a:lnTo>
                      <a:pt x="8726" y="5"/>
                    </a:lnTo>
                    <a:cubicBezTo>
                      <a:pt x="8725" y="5"/>
                      <a:pt x="8724" y="5"/>
                      <a:pt x="8724" y="3"/>
                    </a:cubicBezTo>
                    <a:cubicBezTo>
                      <a:pt x="8724" y="2"/>
                      <a:pt x="8725" y="1"/>
                      <a:pt x="8726" y="1"/>
                    </a:cubicBezTo>
                    <a:close/>
                    <a:moveTo>
                      <a:pt x="8734" y="1"/>
                    </a:moveTo>
                    <a:lnTo>
                      <a:pt x="8734" y="1"/>
                    </a:lnTo>
                    <a:cubicBezTo>
                      <a:pt x="8735" y="1"/>
                      <a:pt x="8736" y="2"/>
                      <a:pt x="8736" y="3"/>
                    </a:cubicBezTo>
                    <a:cubicBezTo>
                      <a:pt x="8736" y="5"/>
                      <a:pt x="8735" y="5"/>
                      <a:pt x="8734" y="5"/>
                    </a:cubicBezTo>
                    <a:lnTo>
                      <a:pt x="8734" y="5"/>
                    </a:lnTo>
                    <a:cubicBezTo>
                      <a:pt x="8733" y="5"/>
                      <a:pt x="8732" y="5"/>
                      <a:pt x="8732" y="3"/>
                    </a:cubicBezTo>
                    <a:cubicBezTo>
                      <a:pt x="8732" y="2"/>
                      <a:pt x="8733" y="1"/>
                      <a:pt x="8734" y="1"/>
                    </a:cubicBezTo>
                    <a:close/>
                    <a:moveTo>
                      <a:pt x="8742" y="1"/>
                    </a:moveTo>
                    <a:lnTo>
                      <a:pt x="8742" y="1"/>
                    </a:lnTo>
                    <a:cubicBezTo>
                      <a:pt x="8743" y="1"/>
                      <a:pt x="8744" y="2"/>
                      <a:pt x="8744" y="3"/>
                    </a:cubicBezTo>
                    <a:cubicBezTo>
                      <a:pt x="8744" y="5"/>
                      <a:pt x="8743" y="5"/>
                      <a:pt x="8742" y="5"/>
                    </a:cubicBezTo>
                    <a:lnTo>
                      <a:pt x="8742" y="5"/>
                    </a:lnTo>
                    <a:cubicBezTo>
                      <a:pt x="8741" y="5"/>
                      <a:pt x="8740" y="5"/>
                      <a:pt x="8740" y="3"/>
                    </a:cubicBezTo>
                    <a:cubicBezTo>
                      <a:pt x="8740" y="2"/>
                      <a:pt x="8741" y="1"/>
                      <a:pt x="8742" y="1"/>
                    </a:cubicBezTo>
                    <a:close/>
                    <a:moveTo>
                      <a:pt x="8750" y="1"/>
                    </a:moveTo>
                    <a:lnTo>
                      <a:pt x="8750" y="1"/>
                    </a:lnTo>
                    <a:cubicBezTo>
                      <a:pt x="8751" y="1"/>
                      <a:pt x="8752" y="2"/>
                      <a:pt x="8752" y="3"/>
                    </a:cubicBezTo>
                    <a:cubicBezTo>
                      <a:pt x="8752" y="5"/>
                      <a:pt x="8751" y="5"/>
                      <a:pt x="8750" y="5"/>
                    </a:cubicBezTo>
                    <a:lnTo>
                      <a:pt x="8750" y="5"/>
                    </a:lnTo>
                    <a:cubicBezTo>
                      <a:pt x="8749" y="5"/>
                      <a:pt x="8748" y="5"/>
                      <a:pt x="8748" y="3"/>
                    </a:cubicBezTo>
                    <a:cubicBezTo>
                      <a:pt x="8748" y="2"/>
                      <a:pt x="8749" y="1"/>
                      <a:pt x="8750" y="1"/>
                    </a:cubicBezTo>
                    <a:close/>
                    <a:moveTo>
                      <a:pt x="8758" y="1"/>
                    </a:moveTo>
                    <a:lnTo>
                      <a:pt x="8758" y="1"/>
                    </a:lnTo>
                    <a:cubicBezTo>
                      <a:pt x="8759" y="1"/>
                      <a:pt x="8760" y="2"/>
                      <a:pt x="8760" y="3"/>
                    </a:cubicBezTo>
                    <a:cubicBezTo>
                      <a:pt x="8760" y="5"/>
                      <a:pt x="8759" y="5"/>
                      <a:pt x="8758" y="5"/>
                    </a:cubicBezTo>
                    <a:lnTo>
                      <a:pt x="8758" y="5"/>
                    </a:lnTo>
                    <a:cubicBezTo>
                      <a:pt x="8757" y="5"/>
                      <a:pt x="8756" y="5"/>
                      <a:pt x="8756" y="3"/>
                    </a:cubicBezTo>
                    <a:cubicBezTo>
                      <a:pt x="8756" y="2"/>
                      <a:pt x="8757" y="1"/>
                      <a:pt x="8758" y="1"/>
                    </a:cubicBezTo>
                    <a:close/>
                    <a:moveTo>
                      <a:pt x="8766" y="1"/>
                    </a:moveTo>
                    <a:lnTo>
                      <a:pt x="8766" y="1"/>
                    </a:lnTo>
                    <a:cubicBezTo>
                      <a:pt x="8767" y="1"/>
                      <a:pt x="8768" y="2"/>
                      <a:pt x="8768" y="3"/>
                    </a:cubicBezTo>
                    <a:cubicBezTo>
                      <a:pt x="8768" y="5"/>
                      <a:pt x="8767" y="5"/>
                      <a:pt x="8766" y="5"/>
                    </a:cubicBezTo>
                    <a:lnTo>
                      <a:pt x="8766" y="5"/>
                    </a:lnTo>
                    <a:cubicBezTo>
                      <a:pt x="8765" y="5"/>
                      <a:pt x="8764" y="5"/>
                      <a:pt x="8764" y="3"/>
                    </a:cubicBezTo>
                    <a:cubicBezTo>
                      <a:pt x="8764" y="2"/>
                      <a:pt x="8765" y="1"/>
                      <a:pt x="8766" y="1"/>
                    </a:cubicBezTo>
                    <a:close/>
                    <a:moveTo>
                      <a:pt x="8774" y="1"/>
                    </a:moveTo>
                    <a:lnTo>
                      <a:pt x="8774" y="1"/>
                    </a:lnTo>
                    <a:cubicBezTo>
                      <a:pt x="8775" y="1"/>
                      <a:pt x="8776" y="2"/>
                      <a:pt x="8776" y="3"/>
                    </a:cubicBezTo>
                    <a:cubicBezTo>
                      <a:pt x="8776" y="5"/>
                      <a:pt x="8775" y="5"/>
                      <a:pt x="8774" y="5"/>
                    </a:cubicBezTo>
                    <a:lnTo>
                      <a:pt x="8774" y="5"/>
                    </a:lnTo>
                    <a:cubicBezTo>
                      <a:pt x="8773" y="5"/>
                      <a:pt x="8772" y="5"/>
                      <a:pt x="8772" y="3"/>
                    </a:cubicBezTo>
                    <a:cubicBezTo>
                      <a:pt x="8772" y="2"/>
                      <a:pt x="8773" y="1"/>
                      <a:pt x="8774" y="1"/>
                    </a:cubicBezTo>
                    <a:close/>
                    <a:moveTo>
                      <a:pt x="8782" y="1"/>
                    </a:moveTo>
                    <a:lnTo>
                      <a:pt x="8782" y="1"/>
                    </a:lnTo>
                    <a:cubicBezTo>
                      <a:pt x="8783" y="1"/>
                      <a:pt x="8784" y="2"/>
                      <a:pt x="8784" y="3"/>
                    </a:cubicBezTo>
                    <a:cubicBezTo>
                      <a:pt x="8784" y="5"/>
                      <a:pt x="8783" y="5"/>
                      <a:pt x="8782" y="5"/>
                    </a:cubicBezTo>
                    <a:lnTo>
                      <a:pt x="8782" y="5"/>
                    </a:lnTo>
                    <a:cubicBezTo>
                      <a:pt x="8781" y="5"/>
                      <a:pt x="8780" y="5"/>
                      <a:pt x="8780" y="3"/>
                    </a:cubicBezTo>
                    <a:cubicBezTo>
                      <a:pt x="8780" y="2"/>
                      <a:pt x="8781" y="1"/>
                      <a:pt x="8782" y="1"/>
                    </a:cubicBezTo>
                    <a:close/>
                    <a:moveTo>
                      <a:pt x="8790" y="1"/>
                    </a:moveTo>
                    <a:lnTo>
                      <a:pt x="8790" y="1"/>
                    </a:lnTo>
                    <a:cubicBezTo>
                      <a:pt x="8791" y="1"/>
                      <a:pt x="8792" y="2"/>
                      <a:pt x="8792" y="3"/>
                    </a:cubicBezTo>
                    <a:cubicBezTo>
                      <a:pt x="8792" y="5"/>
                      <a:pt x="8791" y="5"/>
                      <a:pt x="8790" y="5"/>
                    </a:cubicBezTo>
                    <a:lnTo>
                      <a:pt x="8790" y="5"/>
                    </a:lnTo>
                    <a:cubicBezTo>
                      <a:pt x="8789" y="5"/>
                      <a:pt x="8788" y="5"/>
                      <a:pt x="8788" y="3"/>
                    </a:cubicBezTo>
                    <a:cubicBezTo>
                      <a:pt x="8788" y="2"/>
                      <a:pt x="8789" y="1"/>
                      <a:pt x="8790" y="1"/>
                    </a:cubicBezTo>
                    <a:close/>
                    <a:moveTo>
                      <a:pt x="8798" y="1"/>
                    </a:moveTo>
                    <a:lnTo>
                      <a:pt x="8798" y="1"/>
                    </a:lnTo>
                    <a:cubicBezTo>
                      <a:pt x="8799" y="1"/>
                      <a:pt x="8800" y="2"/>
                      <a:pt x="8800" y="3"/>
                    </a:cubicBezTo>
                    <a:cubicBezTo>
                      <a:pt x="8800" y="5"/>
                      <a:pt x="8799" y="5"/>
                      <a:pt x="8798" y="5"/>
                    </a:cubicBezTo>
                    <a:lnTo>
                      <a:pt x="8798" y="5"/>
                    </a:lnTo>
                    <a:cubicBezTo>
                      <a:pt x="8797" y="5"/>
                      <a:pt x="8796" y="5"/>
                      <a:pt x="8796" y="3"/>
                    </a:cubicBezTo>
                    <a:cubicBezTo>
                      <a:pt x="8796" y="2"/>
                      <a:pt x="8797" y="1"/>
                      <a:pt x="8798" y="1"/>
                    </a:cubicBezTo>
                    <a:close/>
                    <a:moveTo>
                      <a:pt x="8806" y="1"/>
                    </a:moveTo>
                    <a:lnTo>
                      <a:pt x="8806" y="1"/>
                    </a:lnTo>
                    <a:cubicBezTo>
                      <a:pt x="8807" y="1"/>
                      <a:pt x="8808" y="2"/>
                      <a:pt x="8808" y="3"/>
                    </a:cubicBezTo>
                    <a:cubicBezTo>
                      <a:pt x="8808" y="5"/>
                      <a:pt x="8807" y="5"/>
                      <a:pt x="8806" y="5"/>
                    </a:cubicBezTo>
                    <a:lnTo>
                      <a:pt x="8806" y="5"/>
                    </a:lnTo>
                    <a:cubicBezTo>
                      <a:pt x="8805" y="5"/>
                      <a:pt x="8804" y="5"/>
                      <a:pt x="8804" y="3"/>
                    </a:cubicBezTo>
                    <a:cubicBezTo>
                      <a:pt x="8804" y="2"/>
                      <a:pt x="8805" y="1"/>
                      <a:pt x="8806" y="1"/>
                    </a:cubicBezTo>
                    <a:close/>
                    <a:moveTo>
                      <a:pt x="8814" y="1"/>
                    </a:moveTo>
                    <a:lnTo>
                      <a:pt x="8814" y="1"/>
                    </a:lnTo>
                    <a:cubicBezTo>
                      <a:pt x="8815" y="1"/>
                      <a:pt x="8816" y="2"/>
                      <a:pt x="8816" y="3"/>
                    </a:cubicBezTo>
                    <a:cubicBezTo>
                      <a:pt x="8816" y="5"/>
                      <a:pt x="8815" y="5"/>
                      <a:pt x="8814" y="5"/>
                    </a:cubicBezTo>
                    <a:lnTo>
                      <a:pt x="8814" y="5"/>
                    </a:lnTo>
                    <a:cubicBezTo>
                      <a:pt x="8813" y="5"/>
                      <a:pt x="8812" y="5"/>
                      <a:pt x="8812" y="3"/>
                    </a:cubicBezTo>
                    <a:cubicBezTo>
                      <a:pt x="8812" y="2"/>
                      <a:pt x="8813" y="1"/>
                      <a:pt x="8814" y="1"/>
                    </a:cubicBezTo>
                    <a:close/>
                    <a:moveTo>
                      <a:pt x="8822" y="1"/>
                    </a:moveTo>
                    <a:lnTo>
                      <a:pt x="8822" y="1"/>
                    </a:lnTo>
                    <a:cubicBezTo>
                      <a:pt x="8823" y="1"/>
                      <a:pt x="8824" y="2"/>
                      <a:pt x="8824" y="3"/>
                    </a:cubicBezTo>
                    <a:cubicBezTo>
                      <a:pt x="8824" y="5"/>
                      <a:pt x="8823" y="5"/>
                      <a:pt x="8822" y="5"/>
                    </a:cubicBezTo>
                    <a:lnTo>
                      <a:pt x="8822" y="5"/>
                    </a:lnTo>
                    <a:cubicBezTo>
                      <a:pt x="8821" y="5"/>
                      <a:pt x="8820" y="5"/>
                      <a:pt x="8820" y="3"/>
                    </a:cubicBezTo>
                    <a:cubicBezTo>
                      <a:pt x="8820" y="2"/>
                      <a:pt x="8821" y="1"/>
                      <a:pt x="8822" y="1"/>
                    </a:cubicBezTo>
                    <a:close/>
                    <a:moveTo>
                      <a:pt x="8830" y="1"/>
                    </a:moveTo>
                    <a:lnTo>
                      <a:pt x="8830" y="1"/>
                    </a:lnTo>
                    <a:cubicBezTo>
                      <a:pt x="8831" y="1"/>
                      <a:pt x="8832" y="2"/>
                      <a:pt x="8832" y="3"/>
                    </a:cubicBezTo>
                    <a:cubicBezTo>
                      <a:pt x="8832" y="5"/>
                      <a:pt x="8831" y="5"/>
                      <a:pt x="8830" y="5"/>
                    </a:cubicBezTo>
                    <a:lnTo>
                      <a:pt x="8830" y="5"/>
                    </a:lnTo>
                    <a:cubicBezTo>
                      <a:pt x="8829" y="5"/>
                      <a:pt x="8828" y="5"/>
                      <a:pt x="8828" y="3"/>
                    </a:cubicBezTo>
                    <a:cubicBezTo>
                      <a:pt x="8828" y="2"/>
                      <a:pt x="8829" y="1"/>
                      <a:pt x="8830" y="1"/>
                    </a:cubicBezTo>
                    <a:close/>
                    <a:moveTo>
                      <a:pt x="8838" y="1"/>
                    </a:moveTo>
                    <a:lnTo>
                      <a:pt x="8838" y="1"/>
                    </a:lnTo>
                    <a:cubicBezTo>
                      <a:pt x="8839" y="1"/>
                      <a:pt x="8840" y="2"/>
                      <a:pt x="8840" y="3"/>
                    </a:cubicBezTo>
                    <a:cubicBezTo>
                      <a:pt x="8840" y="5"/>
                      <a:pt x="8839" y="5"/>
                      <a:pt x="8838" y="5"/>
                    </a:cubicBezTo>
                    <a:lnTo>
                      <a:pt x="8838" y="5"/>
                    </a:lnTo>
                    <a:cubicBezTo>
                      <a:pt x="8837" y="5"/>
                      <a:pt x="8836" y="5"/>
                      <a:pt x="8836" y="3"/>
                    </a:cubicBezTo>
                    <a:cubicBezTo>
                      <a:pt x="8836" y="2"/>
                      <a:pt x="8837" y="1"/>
                      <a:pt x="8838" y="1"/>
                    </a:cubicBezTo>
                    <a:close/>
                    <a:moveTo>
                      <a:pt x="8846" y="1"/>
                    </a:moveTo>
                    <a:lnTo>
                      <a:pt x="8846" y="1"/>
                    </a:lnTo>
                    <a:cubicBezTo>
                      <a:pt x="8847" y="1"/>
                      <a:pt x="8848" y="2"/>
                      <a:pt x="8848" y="3"/>
                    </a:cubicBezTo>
                    <a:cubicBezTo>
                      <a:pt x="8848" y="5"/>
                      <a:pt x="8847" y="5"/>
                      <a:pt x="8846" y="5"/>
                    </a:cubicBezTo>
                    <a:lnTo>
                      <a:pt x="8846" y="5"/>
                    </a:lnTo>
                    <a:cubicBezTo>
                      <a:pt x="8845" y="5"/>
                      <a:pt x="8844" y="5"/>
                      <a:pt x="8844" y="3"/>
                    </a:cubicBezTo>
                    <a:cubicBezTo>
                      <a:pt x="8844" y="2"/>
                      <a:pt x="8845" y="1"/>
                      <a:pt x="8846" y="1"/>
                    </a:cubicBezTo>
                    <a:close/>
                    <a:moveTo>
                      <a:pt x="8854" y="1"/>
                    </a:moveTo>
                    <a:lnTo>
                      <a:pt x="8854" y="1"/>
                    </a:lnTo>
                    <a:cubicBezTo>
                      <a:pt x="8855" y="1"/>
                      <a:pt x="8856" y="2"/>
                      <a:pt x="8856" y="3"/>
                    </a:cubicBezTo>
                    <a:cubicBezTo>
                      <a:pt x="8856" y="5"/>
                      <a:pt x="8855" y="5"/>
                      <a:pt x="8854" y="5"/>
                    </a:cubicBezTo>
                    <a:lnTo>
                      <a:pt x="8854" y="5"/>
                    </a:lnTo>
                    <a:cubicBezTo>
                      <a:pt x="8853" y="5"/>
                      <a:pt x="8852" y="5"/>
                      <a:pt x="8852" y="3"/>
                    </a:cubicBezTo>
                    <a:cubicBezTo>
                      <a:pt x="8852" y="2"/>
                      <a:pt x="8853" y="1"/>
                      <a:pt x="8854" y="1"/>
                    </a:cubicBezTo>
                    <a:close/>
                    <a:moveTo>
                      <a:pt x="8862" y="1"/>
                    </a:moveTo>
                    <a:lnTo>
                      <a:pt x="8862" y="1"/>
                    </a:lnTo>
                    <a:cubicBezTo>
                      <a:pt x="8863" y="1"/>
                      <a:pt x="8864" y="2"/>
                      <a:pt x="8864" y="3"/>
                    </a:cubicBezTo>
                    <a:cubicBezTo>
                      <a:pt x="8864" y="5"/>
                      <a:pt x="8863" y="5"/>
                      <a:pt x="8862" y="5"/>
                    </a:cubicBezTo>
                    <a:lnTo>
                      <a:pt x="8862" y="5"/>
                    </a:lnTo>
                    <a:cubicBezTo>
                      <a:pt x="8861" y="5"/>
                      <a:pt x="8860" y="5"/>
                      <a:pt x="8860" y="3"/>
                    </a:cubicBezTo>
                    <a:cubicBezTo>
                      <a:pt x="8860" y="2"/>
                      <a:pt x="8861" y="1"/>
                      <a:pt x="8862" y="1"/>
                    </a:cubicBezTo>
                    <a:close/>
                    <a:moveTo>
                      <a:pt x="8870" y="1"/>
                    </a:moveTo>
                    <a:lnTo>
                      <a:pt x="8870" y="1"/>
                    </a:lnTo>
                    <a:cubicBezTo>
                      <a:pt x="8871" y="1"/>
                      <a:pt x="8872" y="2"/>
                      <a:pt x="8872" y="3"/>
                    </a:cubicBezTo>
                    <a:cubicBezTo>
                      <a:pt x="8872" y="5"/>
                      <a:pt x="8871" y="5"/>
                      <a:pt x="8870" y="5"/>
                    </a:cubicBezTo>
                    <a:lnTo>
                      <a:pt x="8870" y="5"/>
                    </a:lnTo>
                    <a:cubicBezTo>
                      <a:pt x="8869" y="5"/>
                      <a:pt x="8868" y="5"/>
                      <a:pt x="8868" y="3"/>
                    </a:cubicBezTo>
                    <a:cubicBezTo>
                      <a:pt x="8868" y="2"/>
                      <a:pt x="8869" y="1"/>
                      <a:pt x="8870" y="1"/>
                    </a:cubicBezTo>
                    <a:close/>
                    <a:moveTo>
                      <a:pt x="8878" y="1"/>
                    </a:moveTo>
                    <a:lnTo>
                      <a:pt x="8878" y="1"/>
                    </a:lnTo>
                    <a:cubicBezTo>
                      <a:pt x="8879" y="1"/>
                      <a:pt x="8880" y="2"/>
                      <a:pt x="8880" y="3"/>
                    </a:cubicBezTo>
                    <a:cubicBezTo>
                      <a:pt x="8880" y="5"/>
                      <a:pt x="8879" y="5"/>
                      <a:pt x="8878" y="5"/>
                    </a:cubicBezTo>
                    <a:lnTo>
                      <a:pt x="8878" y="5"/>
                    </a:lnTo>
                    <a:cubicBezTo>
                      <a:pt x="8877" y="5"/>
                      <a:pt x="8876" y="5"/>
                      <a:pt x="8876" y="3"/>
                    </a:cubicBezTo>
                    <a:cubicBezTo>
                      <a:pt x="8876" y="2"/>
                      <a:pt x="8877" y="1"/>
                      <a:pt x="8878" y="1"/>
                    </a:cubicBezTo>
                    <a:close/>
                    <a:moveTo>
                      <a:pt x="8886" y="1"/>
                    </a:moveTo>
                    <a:lnTo>
                      <a:pt x="8886" y="1"/>
                    </a:lnTo>
                    <a:cubicBezTo>
                      <a:pt x="8887" y="1"/>
                      <a:pt x="8888" y="2"/>
                      <a:pt x="8888" y="3"/>
                    </a:cubicBezTo>
                    <a:cubicBezTo>
                      <a:pt x="8888" y="5"/>
                      <a:pt x="8887" y="5"/>
                      <a:pt x="8886" y="5"/>
                    </a:cubicBezTo>
                    <a:lnTo>
                      <a:pt x="8886" y="5"/>
                    </a:lnTo>
                    <a:cubicBezTo>
                      <a:pt x="8885" y="5"/>
                      <a:pt x="8884" y="5"/>
                      <a:pt x="8884" y="3"/>
                    </a:cubicBezTo>
                    <a:cubicBezTo>
                      <a:pt x="8884" y="2"/>
                      <a:pt x="8885" y="1"/>
                      <a:pt x="8886" y="1"/>
                    </a:cubicBezTo>
                    <a:close/>
                    <a:moveTo>
                      <a:pt x="8894" y="1"/>
                    </a:moveTo>
                    <a:lnTo>
                      <a:pt x="8894" y="1"/>
                    </a:lnTo>
                    <a:cubicBezTo>
                      <a:pt x="8895" y="1"/>
                      <a:pt x="8896" y="2"/>
                      <a:pt x="8896" y="3"/>
                    </a:cubicBezTo>
                    <a:cubicBezTo>
                      <a:pt x="8896" y="5"/>
                      <a:pt x="8895" y="5"/>
                      <a:pt x="8894" y="5"/>
                    </a:cubicBezTo>
                    <a:lnTo>
                      <a:pt x="8894" y="5"/>
                    </a:lnTo>
                    <a:cubicBezTo>
                      <a:pt x="8893" y="5"/>
                      <a:pt x="8892" y="5"/>
                      <a:pt x="8892" y="3"/>
                    </a:cubicBezTo>
                    <a:cubicBezTo>
                      <a:pt x="8892" y="2"/>
                      <a:pt x="8893" y="1"/>
                      <a:pt x="8894" y="1"/>
                    </a:cubicBezTo>
                    <a:close/>
                    <a:moveTo>
                      <a:pt x="8902" y="1"/>
                    </a:moveTo>
                    <a:lnTo>
                      <a:pt x="8902" y="1"/>
                    </a:lnTo>
                    <a:cubicBezTo>
                      <a:pt x="8903" y="1"/>
                      <a:pt x="8904" y="2"/>
                      <a:pt x="8904" y="3"/>
                    </a:cubicBezTo>
                    <a:cubicBezTo>
                      <a:pt x="8904" y="5"/>
                      <a:pt x="8903" y="5"/>
                      <a:pt x="8902" y="5"/>
                    </a:cubicBezTo>
                    <a:lnTo>
                      <a:pt x="8902" y="5"/>
                    </a:lnTo>
                    <a:cubicBezTo>
                      <a:pt x="8901" y="5"/>
                      <a:pt x="8900" y="5"/>
                      <a:pt x="8900" y="3"/>
                    </a:cubicBezTo>
                    <a:cubicBezTo>
                      <a:pt x="8900" y="2"/>
                      <a:pt x="8901" y="1"/>
                      <a:pt x="8902" y="1"/>
                    </a:cubicBezTo>
                    <a:close/>
                    <a:moveTo>
                      <a:pt x="8910" y="1"/>
                    </a:moveTo>
                    <a:lnTo>
                      <a:pt x="8910" y="1"/>
                    </a:lnTo>
                    <a:cubicBezTo>
                      <a:pt x="8911" y="1"/>
                      <a:pt x="8912" y="2"/>
                      <a:pt x="8912" y="3"/>
                    </a:cubicBezTo>
                    <a:cubicBezTo>
                      <a:pt x="8912" y="5"/>
                      <a:pt x="8911" y="5"/>
                      <a:pt x="8910" y="5"/>
                    </a:cubicBezTo>
                    <a:lnTo>
                      <a:pt x="8910" y="5"/>
                    </a:lnTo>
                    <a:cubicBezTo>
                      <a:pt x="8909" y="5"/>
                      <a:pt x="8908" y="5"/>
                      <a:pt x="8908" y="3"/>
                    </a:cubicBezTo>
                    <a:cubicBezTo>
                      <a:pt x="8908" y="2"/>
                      <a:pt x="8909" y="1"/>
                      <a:pt x="8910" y="1"/>
                    </a:cubicBezTo>
                    <a:close/>
                    <a:moveTo>
                      <a:pt x="8918" y="1"/>
                    </a:moveTo>
                    <a:lnTo>
                      <a:pt x="8918" y="1"/>
                    </a:lnTo>
                    <a:cubicBezTo>
                      <a:pt x="8919" y="1"/>
                      <a:pt x="8920" y="2"/>
                      <a:pt x="8920" y="3"/>
                    </a:cubicBezTo>
                    <a:cubicBezTo>
                      <a:pt x="8920" y="5"/>
                      <a:pt x="8919" y="5"/>
                      <a:pt x="8918" y="5"/>
                    </a:cubicBezTo>
                    <a:lnTo>
                      <a:pt x="8918" y="5"/>
                    </a:lnTo>
                    <a:cubicBezTo>
                      <a:pt x="8917" y="5"/>
                      <a:pt x="8916" y="5"/>
                      <a:pt x="8916" y="3"/>
                    </a:cubicBezTo>
                    <a:cubicBezTo>
                      <a:pt x="8916" y="2"/>
                      <a:pt x="8917" y="1"/>
                      <a:pt x="8918" y="1"/>
                    </a:cubicBezTo>
                    <a:close/>
                    <a:moveTo>
                      <a:pt x="8926" y="1"/>
                    </a:moveTo>
                    <a:lnTo>
                      <a:pt x="8926" y="1"/>
                    </a:lnTo>
                    <a:cubicBezTo>
                      <a:pt x="8927" y="1"/>
                      <a:pt x="8928" y="2"/>
                      <a:pt x="8928" y="3"/>
                    </a:cubicBezTo>
                    <a:cubicBezTo>
                      <a:pt x="8928" y="5"/>
                      <a:pt x="8927" y="5"/>
                      <a:pt x="8926" y="5"/>
                    </a:cubicBezTo>
                    <a:lnTo>
                      <a:pt x="8926" y="5"/>
                    </a:lnTo>
                    <a:cubicBezTo>
                      <a:pt x="8925" y="5"/>
                      <a:pt x="8924" y="5"/>
                      <a:pt x="8924" y="3"/>
                    </a:cubicBezTo>
                    <a:cubicBezTo>
                      <a:pt x="8924" y="2"/>
                      <a:pt x="8925" y="1"/>
                      <a:pt x="8926" y="1"/>
                    </a:cubicBezTo>
                    <a:close/>
                    <a:moveTo>
                      <a:pt x="8934" y="1"/>
                    </a:moveTo>
                    <a:lnTo>
                      <a:pt x="8934" y="1"/>
                    </a:lnTo>
                    <a:cubicBezTo>
                      <a:pt x="8935" y="1"/>
                      <a:pt x="8936" y="2"/>
                      <a:pt x="8936" y="3"/>
                    </a:cubicBezTo>
                    <a:cubicBezTo>
                      <a:pt x="8936" y="5"/>
                      <a:pt x="8935" y="5"/>
                      <a:pt x="8934" y="5"/>
                    </a:cubicBezTo>
                    <a:lnTo>
                      <a:pt x="8934" y="5"/>
                    </a:lnTo>
                    <a:cubicBezTo>
                      <a:pt x="8933" y="5"/>
                      <a:pt x="8932" y="5"/>
                      <a:pt x="8932" y="3"/>
                    </a:cubicBezTo>
                    <a:cubicBezTo>
                      <a:pt x="8932" y="2"/>
                      <a:pt x="8933" y="1"/>
                      <a:pt x="8934" y="1"/>
                    </a:cubicBezTo>
                    <a:close/>
                    <a:moveTo>
                      <a:pt x="8942" y="1"/>
                    </a:moveTo>
                    <a:lnTo>
                      <a:pt x="8942" y="1"/>
                    </a:lnTo>
                    <a:cubicBezTo>
                      <a:pt x="8943" y="1"/>
                      <a:pt x="8944" y="2"/>
                      <a:pt x="8944" y="3"/>
                    </a:cubicBezTo>
                    <a:cubicBezTo>
                      <a:pt x="8944" y="5"/>
                      <a:pt x="8943" y="5"/>
                      <a:pt x="8942" y="5"/>
                    </a:cubicBezTo>
                    <a:lnTo>
                      <a:pt x="8942" y="5"/>
                    </a:lnTo>
                    <a:cubicBezTo>
                      <a:pt x="8941" y="5"/>
                      <a:pt x="8940" y="5"/>
                      <a:pt x="8940" y="3"/>
                    </a:cubicBezTo>
                    <a:cubicBezTo>
                      <a:pt x="8940" y="2"/>
                      <a:pt x="8941" y="1"/>
                      <a:pt x="8942" y="1"/>
                    </a:cubicBezTo>
                    <a:close/>
                    <a:moveTo>
                      <a:pt x="8950" y="1"/>
                    </a:moveTo>
                    <a:lnTo>
                      <a:pt x="8950" y="1"/>
                    </a:lnTo>
                    <a:cubicBezTo>
                      <a:pt x="8951" y="1"/>
                      <a:pt x="8952" y="2"/>
                      <a:pt x="8952" y="3"/>
                    </a:cubicBezTo>
                    <a:cubicBezTo>
                      <a:pt x="8952" y="5"/>
                      <a:pt x="8951" y="5"/>
                      <a:pt x="8950" y="5"/>
                    </a:cubicBezTo>
                    <a:lnTo>
                      <a:pt x="8950" y="5"/>
                    </a:lnTo>
                    <a:cubicBezTo>
                      <a:pt x="8949" y="5"/>
                      <a:pt x="8948" y="5"/>
                      <a:pt x="8948" y="3"/>
                    </a:cubicBezTo>
                    <a:cubicBezTo>
                      <a:pt x="8948" y="2"/>
                      <a:pt x="8949" y="1"/>
                      <a:pt x="8950" y="1"/>
                    </a:cubicBezTo>
                    <a:close/>
                    <a:moveTo>
                      <a:pt x="8958" y="1"/>
                    </a:moveTo>
                    <a:lnTo>
                      <a:pt x="8958" y="1"/>
                    </a:lnTo>
                    <a:cubicBezTo>
                      <a:pt x="8959" y="1"/>
                      <a:pt x="8960" y="2"/>
                      <a:pt x="8960" y="3"/>
                    </a:cubicBezTo>
                    <a:cubicBezTo>
                      <a:pt x="8960" y="5"/>
                      <a:pt x="8959" y="5"/>
                      <a:pt x="8958" y="5"/>
                    </a:cubicBezTo>
                    <a:lnTo>
                      <a:pt x="8958" y="5"/>
                    </a:lnTo>
                    <a:cubicBezTo>
                      <a:pt x="8957" y="5"/>
                      <a:pt x="8956" y="5"/>
                      <a:pt x="8956" y="3"/>
                    </a:cubicBezTo>
                    <a:cubicBezTo>
                      <a:pt x="8956" y="2"/>
                      <a:pt x="8957" y="1"/>
                      <a:pt x="8958" y="1"/>
                    </a:cubicBezTo>
                    <a:close/>
                    <a:moveTo>
                      <a:pt x="8966" y="1"/>
                    </a:moveTo>
                    <a:lnTo>
                      <a:pt x="8966" y="1"/>
                    </a:lnTo>
                    <a:cubicBezTo>
                      <a:pt x="8967" y="1"/>
                      <a:pt x="8968" y="2"/>
                      <a:pt x="8968" y="3"/>
                    </a:cubicBezTo>
                    <a:cubicBezTo>
                      <a:pt x="8968" y="5"/>
                      <a:pt x="8967" y="5"/>
                      <a:pt x="8966" y="5"/>
                    </a:cubicBezTo>
                    <a:lnTo>
                      <a:pt x="8966" y="5"/>
                    </a:lnTo>
                    <a:cubicBezTo>
                      <a:pt x="8965" y="5"/>
                      <a:pt x="8964" y="5"/>
                      <a:pt x="8964" y="3"/>
                    </a:cubicBezTo>
                    <a:cubicBezTo>
                      <a:pt x="8964" y="2"/>
                      <a:pt x="8965" y="1"/>
                      <a:pt x="8966" y="1"/>
                    </a:cubicBezTo>
                    <a:close/>
                    <a:moveTo>
                      <a:pt x="8974" y="1"/>
                    </a:moveTo>
                    <a:lnTo>
                      <a:pt x="8974" y="1"/>
                    </a:lnTo>
                    <a:cubicBezTo>
                      <a:pt x="8975" y="1"/>
                      <a:pt x="8976" y="2"/>
                      <a:pt x="8976" y="3"/>
                    </a:cubicBezTo>
                    <a:cubicBezTo>
                      <a:pt x="8976" y="5"/>
                      <a:pt x="8975" y="5"/>
                      <a:pt x="8974" y="5"/>
                    </a:cubicBezTo>
                    <a:lnTo>
                      <a:pt x="8974" y="5"/>
                    </a:lnTo>
                    <a:cubicBezTo>
                      <a:pt x="8973" y="5"/>
                      <a:pt x="8972" y="5"/>
                      <a:pt x="8972" y="3"/>
                    </a:cubicBezTo>
                    <a:cubicBezTo>
                      <a:pt x="8972" y="2"/>
                      <a:pt x="8973" y="1"/>
                      <a:pt x="8974" y="1"/>
                    </a:cubicBezTo>
                    <a:close/>
                    <a:moveTo>
                      <a:pt x="8982" y="1"/>
                    </a:moveTo>
                    <a:lnTo>
                      <a:pt x="8982" y="1"/>
                    </a:lnTo>
                    <a:cubicBezTo>
                      <a:pt x="8983" y="1"/>
                      <a:pt x="8984" y="2"/>
                      <a:pt x="8984" y="3"/>
                    </a:cubicBezTo>
                    <a:cubicBezTo>
                      <a:pt x="8984" y="5"/>
                      <a:pt x="8983" y="5"/>
                      <a:pt x="8982" y="5"/>
                    </a:cubicBezTo>
                    <a:lnTo>
                      <a:pt x="8982" y="5"/>
                    </a:lnTo>
                    <a:cubicBezTo>
                      <a:pt x="8981" y="5"/>
                      <a:pt x="8980" y="5"/>
                      <a:pt x="8980" y="3"/>
                    </a:cubicBezTo>
                    <a:cubicBezTo>
                      <a:pt x="8980" y="2"/>
                      <a:pt x="8981" y="1"/>
                      <a:pt x="8982" y="1"/>
                    </a:cubicBezTo>
                    <a:close/>
                    <a:moveTo>
                      <a:pt x="8990" y="1"/>
                    </a:moveTo>
                    <a:lnTo>
                      <a:pt x="8990" y="1"/>
                    </a:lnTo>
                    <a:cubicBezTo>
                      <a:pt x="8991" y="1"/>
                      <a:pt x="8992" y="2"/>
                      <a:pt x="8992" y="3"/>
                    </a:cubicBezTo>
                    <a:cubicBezTo>
                      <a:pt x="8992" y="5"/>
                      <a:pt x="8991" y="5"/>
                      <a:pt x="8990" y="5"/>
                    </a:cubicBezTo>
                    <a:lnTo>
                      <a:pt x="8990" y="5"/>
                    </a:lnTo>
                    <a:cubicBezTo>
                      <a:pt x="8989" y="5"/>
                      <a:pt x="8988" y="5"/>
                      <a:pt x="8988" y="3"/>
                    </a:cubicBezTo>
                    <a:cubicBezTo>
                      <a:pt x="8988" y="2"/>
                      <a:pt x="8989" y="1"/>
                      <a:pt x="8990" y="1"/>
                    </a:cubicBezTo>
                    <a:close/>
                    <a:moveTo>
                      <a:pt x="8998" y="1"/>
                    </a:moveTo>
                    <a:lnTo>
                      <a:pt x="8998" y="1"/>
                    </a:lnTo>
                    <a:cubicBezTo>
                      <a:pt x="8999" y="1"/>
                      <a:pt x="9000" y="2"/>
                      <a:pt x="9000" y="3"/>
                    </a:cubicBezTo>
                    <a:cubicBezTo>
                      <a:pt x="9000" y="5"/>
                      <a:pt x="8999" y="5"/>
                      <a:pt x="8998" y="5"/>
                    </a:cubicBezTo>
                    <a:lnTo>
                      <a:pt x="8998" y="5"/>
                    </a:lnTo>
                    <a:cubicBezTo>
                      <a:pt x="8997" y="5"/>
                      <a:pt x="8996" y="5"/>
                      <a:pt x="8996" y="3"/>
                    </a:cubicBezTo>
                    <a:cubicBezTo>
                      <a:pt x="8996" y="2"/>
                      <a:pt x="8997" y="1"/>
                      <a:pt x="8998" y="1"/>
                    </a:cubicBezTo>
                    <a:close/>
                    <a:moveTo>
                      <a:pt x="9006" y="1"/>
                    </a:moveTo>
                    <a:lnTo>
                      <a:pt x="9006" y="1"/>
                    </a:lnTo>
                    <a:cubicBezTo>
                      <a:pt x="9007" y="1"/>
                      <a:pt x="9008" y="2"/>
                      <a:pt x="9008" y="3"/>
                    </a:cubicBezTo>
                    <a:cubicBezTo>
                      <a:pt x="9008" y="5"/>
                      <a:pt x="9007" y="5"/>
                      <a:pt x="9006" y="5"/>
                    </a:cubicBezTo>
                    <a:lnTo>
                      <a:pt x="9006" y="5"/>
                    </a:lnTo>
                    <a:cubicBezTo>
                      <a:pt x="9005" y="5"/>
                      <a:pt x="9004" y="5"/>
                      <a:pt x="9004" y="3"/>
                    </a:cubicBezTo>
                    <a:cubicBezTo>
                      <a:pt x="9004" y="2"/>
                      <a:pt x="9005" y="1"/>
                      <a:pt x="9006" y="1"/>
                    </a:cubicBezTo>
                    <a:close/>
                    <a:moveTo>
                      <a:pt x="9014" y="1"/>
                    </a:moveTo>
                    <a:lnTo>
                      <a:pt x="9014" y="1"/>
                    </a:lnTo>
                    <a:cubicBezTo>
                      <a:pt x="9015" y="1"/>
                      <a:pt x="9016" y="2"/>
                      <a:pt x="9016" y="3"/>
                    </a:cubicBezTo>
                    <a:cubicBezTo>
                      <a:pt x="9016" y="5"/>
                      <a:pt x="9015" y="5"/>
                      <a:pt x="9014" y="5"/>
                    </a:cubicBezTo>
                    <a:lnTo>
                      <a:pt x="9014" y="5"/>
                    </a:lnTo>
                    <a:cubicBezTo>
                      <a:pt x="9013" y="5"/>
                      <a:pt x="9012" y="5"/>
                      <a:pt x="9012" y="3"/>
                    </a:cubicBezTo>
                    <a:cubicBezTo>
                      <a:pt x="9012" y="2"/>
                      <a:pt x="9013" y="1"/>
                      <a:pt x="9014" y="1"/>
                    </a:cubicBezTo>
                    <a:close/>
                    <a:moveTo>
                      <a:pt x="9022" y="1"/>
                    </a:moveTo>
                    <a:lnTo>
                      <a:pt x="9022" y="1"/>
                    </a:lnTo>
                    <a:cubicBezTo>
                      <a:pt x="9023" y="1"/>
                      <a:pt x="9024" y="2"/>
                      <a:pt x="9024" y="3"/>
                    </a:cubicBezTo>
                    <a:cubicBezTo>
                      <a:pt x="9024" y="5"/>
                      <a:pt x="9023" y="5"/>
                      <a:pt x="9022" y="5"/>
                    </a:cubicBezTo>
                    <a:lnTo>
                      <a:pt x="9022" y="5"/>
                    </a:lnTo>
                    <a:cubicBezTo>
                      <a:pt x="9021" y="5"/>
                      <a:pt x="9020" y="5"/>
                      <a:pt x="9020" y="3"/>
                    </a:cubicBezTo>
                    <a:cubicBezTo>
                      <a:pt x="9020" y="2"/>
                      <a:pt x="9021" y="1"/>
                      <a:pt x="9022" y="1"/>
                    </a:cubicBezTo>
                    <a:close/>
                    <a:moveTo>
                      <a:pt x="9030" y="1"/>
                    </a:moveTo>
                    <a:lnTo>
                      <a:pt x="9030" y="1"/>
                    </a:lnTo>
                    <a:cubicBezTo>
                      <a:pt x="9031" y="1"/>
                      <a:pt x="9032" y="2"/>
                      <a:pt x="9032" y="3"/>
                    </a:cubicBezTo>
                    <a:cubicBezTo>
                      <a:pt x="9032" y="5"/>
                      <a:pt x="9031" y="5"/>
                      <a:pt x="9030" y="5"/>
                    </a:cubicBezTo>
                    <a:lnTo>
                      <a:pt x="9030" y="5"/>
                    </a:lnTo>
                    <a:cubicBezTo>
                      <a:pt x="9029" y="5"/>
                      <a:pt x="9028" y="5"/>
                      <a:pt x="9028" y="3"/>
                    </a:cubicBezTo>
                    <a:cubicBezTo>
                      <a:pt x="9028" y="2"/>
                      <a:pt x="9029" y="1"/>
                      <a:pt x="9030" y="1"/>
                    </a:cubicBezTo>
                    <a:close/>
                    <a:moveTo>
                      <a:pt x="9038" y="1"/>
                    </a:moveTo>
                    <a:lnTo>
                      <a:pt x="9038" y="1"/>
                    </a:lnTo>
                    <a:cubicBezTo>
                      <a:pt x="9039" y="1"/>
                      <a:pt x="9040" y="2"/>
                      <a:pt x="9040" y="3"/>
                    </a:cubicBezTo>
                    <a:cubicBezTo>
                      <a:pt x="9040" y="5"/>
                      <a:pt x="9039" y="5"/>
                      <a:pt x="9038" y="5"/>
                    </a:cubicBezTo>
                    <a:lnTo>
                      <a:pt x="9038" y="5"/>
                    </a:lnTo>
                    <a:cubicBezTo>
                      <a:pt x="9037" y="5"/>
                      <a:pt x="9036" y="5"/>
                      <a:pt x="9036" y="3"/>
                    </a:cubicBezTo>
                    <a:cubicBezTo>
                      <a:pt x="9036" y="2"/>
                      <a:pt x="9037" y="1"/>
                      <a:pt x="9038" y="1"/>
                    </a:cubicBezTo>
                    <a:close/>
                    <a:moveTo>
                      <a:pt x="9046" y="1"/>
                    </a:moveTo>
                    <a:lnTo>
                      <a:pt x="9046" y="1"/>
                    </a:lnTo>
                    <a:cubicBezTo>
                      <a:pt x="9047" y="1"/>
                      <a:pt x="9048" y="2"/>
                      <a:pt x="9048" y="3"/>
                    </a:cubicBezTo>
                    <a:cubicBezTo>
                      <a:pt x="9048" y="5"/>
                      <a:pt x="9047" y="5"/>
                      <a:pt x="9046" y="5"/>
                    </a:cubicBezTo>
                    <a:lnTo>
                      <a:pt x="9046" y="5"/>
                    </a:lnTo>
                    <a:cubicBezTo>
                      <a:pt x="9045" y="5"/>
                      <a:pt x="9044" y="5"/>
                      <a:pt x="9044" y="3"/>
                    </a:cubicBezTo>
                    <a:cubicBezTo>
                      <a:pt x="9044" y="2"/>
                      <a:pt x="9045" y="1"/>
                      <a:pt x="9046" y="1"/>
                    </a:cubicBezTo>
                    <a:close/>
                    <a:moveTo>
                      <a:pt x="9054" y="1"/>
                    </a:moveTo>
                    <a:lnTo>
                      <a:pt x="9054" y="1"/>
                    </a:lnTo>
                    <a:cubicBezTo>
                      <a:pt x="9055" y="1"/>
                      <a:pt x="9056" y="2"/>
                      <a:pt x="9056" y="3"/>
                    </a:cubicBezTo>
                    <a:cubicBezTo>
                      <a:pt x="9056" y="5"/>
                      <a:pt x="9055" y="5"/>
                      <a:pt x="9054" y="5"/>
                    </a:cubicBezTo>
                    <a:lnTo>
                      <a:pt x="9054" y="5"/>
                    </a:lnTo>
                    <a:cubicBezTo>
                      <a:pt x="9053" y="5"/>
                      <a:pt x="9052" y="5"/>
                      <a:pt x="9052" y="3"/>
                    </a:cubicBezTo>
                    <a:cubicBezTo>
                      <a:pt x="9052" y="2"/>
                      <a:pt x="9053" y="1"/>
                      <a:pt x="9054" y="1"/>
                    </a:cubicBezTo>
                    <a:close/>
                    <a:moveTo>
                      <a:pt x="9062" y="1"/>
                    </a:moveTo>
                    <a:lnTo>
                      <a:pt x="9062" y="1"/>
                    </a:lnTo>
                    <a:cubicBezTo>
                      <a:pt x="9063" y="1"/>
                      <a:pt x="9064" y="2"/>
                      <a:pt x="9064" y="3"/>
                    </a:cubicBezTo>
                    <a:cubicBezTo>
                      <a:pt x="9064" y="5"/>
                      <a:pt x="9063" y="5"/>
                      <a:pt x="9062" y="5"/>
                    </a:cubicBezTo>
                    <a:lnTo>
                      <a:pt x="9062" y="5"/>
                    </a:lnTo>
                    <a:cubicBezTo>
                      <a:pt x="9061" y="5"/>
                      <a:pt x="9060" y="5"/>
                      <a:pt x="9060" y="3"/>
                    </a:cubicBezTo>
                    <a:cubicBezTo>
                      <a:pt x="9060" y="2"/>
                      <a:pt x="9061" y="1"/>
                      <a:pt x="9062" y="1"/>
                    </a:cubicBezTo>
                    <a:close/>
                    <a:moveTo>
                      <a:pt x="9070" y="1"/>
                    </a:moveTo>
                    <a:lnTo>
                      <a:pt x="9070" y="1"/>
                    </a:lnTo>
                    <a:cubicBezTo>
                      <a:pt x="9071" y="1"/>
                      <a:pt x="9072" y="2"/>
                      <a:pt x="9072" y="3"/>
                    </a:cubicBezTo>
                    <a:cubicBezTo>
                      <a:pt x="9072" y="5"/>
                      <a:pt x="9071" y="5"/>
                      <a:pt x="9070" y="5"/>
                    </a:cubicBezTo>
                    <a:lnTo>
                      <a:pt x="9070" y="5"/>
                    </a:lnTo>
                    <a:cubicBezTo>
                      <a:pt x="9069" y="5"/>
                      <a:pt x="9068" y="5"/>
                      <a:pt x="9068" y="3"/>
                    </a:cubicBezTo>
                    <a:cubicBezTo>
                      <a:pt x="9068" y="2"/>
                      <a:pt x="9069" y="1"/>
                      <a:pt x="9070" y="1"/>
                    </a:cubicBezTo>
                    <a:close/>
                    <a:moveTo>
                      <a:pt x="9078" y="1"/>
                    </a:moveTo>
                    <a:lnTo>
                      <a:pt x="9078" y="1"/>
                    </a:lnTo>
                    <a:cubicBezTo>
                      <a:pt x="9079" y="1"/>
                      <a:pt x="9080" y="2"/>
                      <a:pt x="9080" y="3"/>
                    </a:cubicBezTo>
                    <a:cubicBezTo>
                      <a:pt x="9080" y="5"/>
                      <a:pt x="9079" y="5"/>
                      <a:pt x="9078" y="5"/>
                    </a:cubicBezTo>
                    <a:lnTo>
                      <a:pt x="9078" y="5"/>
                    </a:lnTo>
                    <a:cubicBezTo>
                      <a:pt x="9077" y="5"/>
                      <a:pt x="9076" y="5"/>
                      <a:pt x="9076" y="3"/>
                    </a:cubicBezTo>
                    <a:cubicBezTo>
                      <a:pt x="9076" y="2"/>
                      <a:pt x="9077" y="1"/>
                      <a:pt x="9078" y="1"/>
                    </a:cubicBezTo>
                    <a:close/>
                    <a:moveTo>
                      <a:pt x="9086" y="1"/>
                    </a:moveTo>
                    <a:lnTo>
                      <a:pt x="9086" y="1"/>
                    </a:lnTo>
                    <a:cubicBezTo>
                      <a:pt x="9087" y="1"/>
                      <a:pt x="9088" y="2"/>
                      <a:pt x="9088" y="3"/>
                    </a:cubicBezTo>
                    <a:cubicBezTo>
                      <a:pt x="9088" y="5"/>
                      <a:pt x="9087" y="5"/>
                      <a:pt x="9086" y="5"/>
                    </a:cubicBezTo>
                    <a:lnTo>
                      <a:pt x="9086" y="5"/>
                    </a:lnTo>
                    <a:cubicBezTo>
                      <a:pt x="9085" y="5"/>
                      <a:pt x="9084" y="5"/>
                      <a:pt x="9084" y="3"/>
                    </a:cubicBezTo>
                    <a:cubicBezTo>
                      <a:pt x="9084" y="2"/>
                      <a:pt x="9085" y="1"/>
                      <a:pt x="9086" y="1"/>
                    </a:cubicBezTo>
                    <a:close/>
                    <a:moveTo>
                      <a:pt x="9094" y="2"/>
                    </a:moveTo>
                    <a:lnTo>
                      <a:pt x="9094" y="2"/>
                    </a:lnTo>
                    <a:cubicBezTo>
                      <a:pt x="9095" y="2"/>
                      <a:pt x="9096" y="2"/>
                      <a:pt x="9096" y="4"/>
                    </a:cubicBezTo>
                    <a:cubicBezTo>
                      <a:pt x="9096" y="5"/>
                      <a:pt x="9095" y="6"/>
                      <a:pt x="9094" y="6"/>
                    </a:cubicBezTo>
                    <a:lnTo>
                      <a:pt x="9094" y="6"/>
                    </a:lnTo>
                    <a:cubicBezTo>
                      <a:pt x="9093" y="6"/>
                      <a:pt x="9092" y="5"/>
                      <a:pt x="9092" y="4"/>
                    </a:cubicBezTo>
                    <a:cubicBezTo>
                      <a:pt x="9092" y="2"/>
                      <a:pt x="9093" y="2"/>
                      <a:pt x="9094" y="2"/>
                    </a:cubicBezTo>
                    <a:close/>
                    <a:moveTo>
                      <a:pt x="9102" y="2"/>
                    </a:moveTo>
                    <a:lnTo>
                      <a:pt x="9102" y="2"/>
                    </a:lnTo>
                    <a:cubicBezTo>
                      <a:pt x="9103" y="2"/>
                      <a:pt x="9104" y="2"/>
                      <a:pt x="9104" y="4"/>
                    </a:cubicBezTo>
                    <a:cubicBezTo>
                      <a:pt x="9104" y="5"/>
                      <a:pt x="9103" y="6"/>
                      <a:pt x="9102" y="6"/>
                    </a:cubicBezTo>
                    <a:lnTo>
                      <a:pt x="9102" y="6"/>
                    </a:lnTo>
                    <a:cubicBezTo>
                      <a:pt x="9101" y="6"/>
                      <a:pt x="9100" y="5"/>
                      <a:pt x="9100" y="4"/>
                    </a:cubicBezTo>
                    <a:cubicBezTo>
                      <a:pt x="9100" y="2"/>
                      <a:pt x="9101" y="2"/>
                      <a:pt x="9102" y="2"/>
                    </a:cubicBezTo>
                    <a:close/>
                    <a:moveTo>
                      <a:pt x="9110" y="2"/>
                    </a:moveTo>
                    <a:lnTo>
                      <a:pt x="9110" y="2"/>
                    </a:lnTo>
                    <a:cubicBezTo>
                      <a:pt x="9111" y="2"/>
                      <a:pt x="9112" y="2"/>
                      <a:pt x="9112" y="4"/>
                    </a:cubicBezTo>
                    <a:cubicBezTo>
                      <a:pt x="9112" y="5"/>
                      <a:pt x="9111" y="6"/>
                      <a:pt x="9110" y="6"/>
                    </a:cubicBezTo>
                    <a:lnTo>
                      <a:pt x="9110" y="6"/>
                    </a:lnTo>
                    <a:cubicBezTo>
                      <a:pt x="9109" y="6"/>
                      <a:pt x="9108" y="5"/>
                      <a:pt x="9108" y="4"/>
                    </a:cubicBezTo>
                    <a:cubicBezTo>
                      <a:pt x="9108" y="2"/>
                      <a:pt x="9109" y="2"/>
                      <a:pt x="9110" y="2"/>
                    </a:cubicBezTo>
                    <a:close/>
                    <a:moveTo>
                      <a:pt x="9118" y="2"/>
                    </a:moveTo>
                    <a:lnTo>
                      <a:pt x="9118" y="2"/>
                    </a:lnTo>
                    <a:cubicBezTo>
                      <a:pt x="9119" y="2"/>
                      <a:pt x="9120" y="2"/>
                      <a:pt x="9120" y="4"/>
                    </a:cubicBezTo>
                    <a:cubicBezTo>
                      <a:pt x="9120" y="5"/>
                      <a:pt x="9119" y="6"/>
                      <a:pt x="9118" y="6"/>
                    </a:cubicBezTo>
                    <a:lnTo>
                      <a:pt x="9118" y="6"/>
                    </a:lnTo>
                    <a:cubicBezTo>
                      <a:pt x="9117" y="6"/>
                      <a:pt x="9116" y="5"/>
                      <a:pt x="9116" y="4"/>
                    </a:cubicBezTo>
                    <a:cubicBezTo>
                      <a:pt x="9116" y="2"/>
                      <a:pt x="9117" y="2"/>
                      <a:pt x="9118" y="2"/>
                    </a:cubicBezTo>
                    <a:close/>
                    <a:moveTo>
                      <a:pt x="9126" y="2"/>
                    </a:moveTo>
                    <a:lnTo>
                      <a:pt x="9126" y="2"/>
                    </a:lnTo>
                    <a:cubicBezTo>
                      <a:pt x="9127" y="2"/>
                      <a:pt x="9128" y="2"/>
                      <a:pt x="9128" y="4"/>
                    </a:cubicBezTo>
                    <a:cubicBezTo>
                      <a:pt x="9128" y="5"/>
                      <a:pt x="9127" y="6"/>
                      <a:pt x="9126" y="6"/>
                    </a:cubicBezTo>
                    <a:lnTo>
                      <a:pt x="9126" y="6"/>
                    </a:lnTo>
                    <a:cubicBezTo>
                      <a:pt x="9125" y="6"/>
                      <a:pt x="9124" y="5"/>
                      <a:pt x="9124" y="4"/>
                    </a:cubicBezTo>
                    <a:cubicBezTo>
                      <a:pt x="9124" y="2"/>
                      <a:pt x="9125" y="2"/>
                      <a:pt x="9126" y="2"/>
                    </a:cubicBezTo>
                    <a:close/>
                    <a:moveTo>
                      <a:pt x="9134" y="2"/>
                    </a:moveTo>
                    <a:lnTo>
                      <a:pt x="9134" y="2"/>
                    </a:lnTo>
                    <a:cubicBezTo>
                      <a:pt x="9135" y="2"/>
                      <a:pt x="9136" y="2"/>
                      <a:pt x="9136" y="4"/>
                    </a:cubicBezTo>
                    <a:cubicBezTo>
                      <a:pt x="9136" y="5"/>
                      <a:pt x="9135" y="6"/>
                      <a:pt x="9134" y="6"/>
                    </a:cubicBezTo>
                    <a:lnTo>
                      <a:pt x="9134" y="6"/>
                    </a:lnTo>
                    <a:cubicBezTo>
                      <a:pt x="9133" y="6"/>
                      <a:pt x="9132" y="5"/>
                      <a:pt x="9132" y="4"/>
                    </a:cubicBezTo>
                    <a:cubicBezTo>
                      <a:pt x="9132" y="2"/>
                      <a:pt x="9133" y="2"/>
                      <a:pt x="9134" y="2"/>
                    </a:cubicBezTo>
                    <a:close/>
                    <a:moveTo>
                      <a:pt x="9142" y="2"/>
                    </a:moveTo>
                    <a:lnTo>
                      <a:pt x="9142" y="2"/>
                    </a:lnTo>
                    <a:cubicBezTo>
                      <a:pt x="9143" y="2"/>
                      <a:pt x="9144" y="2"/>
                      <a:pt x="9144" y="4"/>
                    </a:cubicBezTo>
                    <a:cubicBezTo>
                      <a:pt x="9144" y="5"/>
                      <a:pt x="9143" y="6"/>
                      <a:pt x="9142" y="6"/>
                    </a:cubicBezTo>
                    <a:lnTo>
                      <a:pt x="9142" y="6"/>
                    </a:lnTo>
                    <a:cubicBezTo>
                      <a:pt x="9141" y="6"/>
                      <a:pt x="9140" y="5"/>
                      <a:pt x="9140" y="4"/>
                    </a:cubicBezTo>
                    <a:cubicBezTo>
                      <a:pt x="9140" y="2"/>
                      <a:pt x="9141" y="2"/>
                      <a:pt x="9142" y="2"/>
                    </a:cubicBezTo>
                    <a:close/>
                    <a:moveTo>
                      <a:pt x="9150" y="2"/>
                    </a:moveTo>
                    <a:lnTo>
                      <a:pt x="9150" y="2"/>
                    </a:lnTo>
                    <a:cubicBezTo>
                      <a:pt x="9152" y="2"/>
                      <a:pt x="9152" y="2"/>
                      <a:pt x="9152" y="4"/>
                    </a:cubicBezTo>
                    <a:cubicBezTo>
                      <a:pt x="9152" y="5"/>
                      <a:pt x="9152" y="6"/>
                      <a:pt x="9150" y="6"/>
                    </a:cubicBezTo>
                    <a:lnTo>
                      <a:pt x="9150" y="6"/>
                    </a:lnTo>
                    <a:cubicBezTo>
                      <a:pt x="9149" y="6"/>
                      <a:pt x="9148" y="5"/>
                      <a:pt x="9148" y="4"/>
                    </a:cubicBezTo>
                    <a:cubicBezTo>
                      <a:pt x="9148" y="2"/>
                      <a:pt x="9149" y="2"/>
                      <a:pt x="9150" y="2"/>
                    </a:cubicBezTo>
                    <a:close/>
                    <a:moveTo>
                      <a:pt x="9158" y="2"/>
                    </a:moveTo>
                    <a:lnTo>
                      <a:pt x="9158" y="2"/>
                    </a:lnTo>
                    <a:cubicBezTo>
                      <a:pt x="9160" y="2"/>
                      <a:pt x="9160" y="2"/>
                      <a:pt x="9160" y="4"/>
                    </a:cubicBezTo>
                    <a:cubicBezTo>
                      <a:pt x="9160" y="5"/>
                      <a:pt x="9160" y="6"/>
                      <a:pt x="9158" y="6"/>
                    </a:cubicBezTo>
                    <a:lnTo>
                      <a:pt x="9158" y="6"/>
                    </a:lnTo>
                    <a:cubicBezTo>
                      <a:pt x="9157" y="6"/>
                      <a:pt x="9156" y="5"/>
                      <a:pt x="9156" y="4"/>
                    </a:cubicBezTo>
                    <a:cubicBezTo>
                      <a:pt x="9156" y="2"/>
                      <a:pt x="9157" y="2"/>
                      <a:pt x="9158" y="2"/>
                    </a:cubicBezTo>
                    <a:close/>
                    <a:moveTo>
                      <a:pt x="9166" y="2"/>
                    </a:moveTo>
                    <a:lnTo>
                      <a:pt x="9166" y="2"/>
                    </a:lnTo>
                    <a:cubicBezTo>
                      <a:pt x="9168" y="2"/>
                      <a:pt x="9168" y="2"/>
                      <a:pt x="9168" y="4"/>
                    </a:cubicBezTo>
                    <a:cubicBezTo>
                      <a:pt x="9168" y="5"/>
                      <a:pt x="9168" y="6"/>
                      <a:pt x="9166" y="6"/>
                    </a:cubicBezTo>
                    <a:lnTo>
                      <a:pt x="9166" y="6"/>
                    </a:lnTo>
                    <a:cubicBezTo>
                      <a:pt x="9165" y="6"/>
                      <a:pt x="9164" y="5"/>
                      <a:pt x="9164" y="4"/>
                    </a:cubicBezTo>
                    <a:cubicBezTo>
                      <a:pt x="9164" y="2"/>
                      <a:pt x="9165" y="2"/>
                      <a:pt x="9166" y="2"/>
                    </a:cubicBezTo>
                    <a:close/>
                    <a:moveTo>
                      <a:pt x="9174" y="2"/>
                    </a:moveTo>
                    <a:lnTo>
                      <a:pt x="9174" y="2"/>
                    </a:lnTo>
                    <a:cubicBezTo>
                      <a:pt x="9176" y="2"/>
                      <a:pt x="9176" y="2"/>
                      <a:pt x="9176" y="4"/>
                    </a:cubicBezTo>
                    <a:cubicBezTo>
                      <a:pt x="9176" y="5"/>
                      <a:pt x="9176" y="6"/>
                      <a:pt x="9174" y="6"/>
                    </a:cubicBezTo>
                    <a:lnTo>
                      <a:pt x="9174" y="6"/>
                    </a:lnTo>
                    <a:cubicBezTo>
                      <a:pt x="9173" y="6"/>
                      <a:pt x="9172" y="5"/>
                      <a:pt x="9172" y="4"/>
                    </a:cubicBezTo>
                    <a:cubicBezTo>
                      <a:pt x="9172" y="2"/>
                      <a:pt x="9173" y="2"/>
                      <a:pt x="9174" y="2"/>
                    </a:cubicBezTo>
                    <a:close/>
                    <a:moveTo>
                      <a:pt x="9182" y="2"/>
                    </a:moveTo>
                    <a:lnTo>
                      <a:pt x="9182" y="2"/>
                    </a:lnTo>
                    <a:cubicBezTo>
                      <a:pt x="9184" y="2"/>
                      <a:pt x="9184" y="2"/>
                      <a:pt x="9184" y="4"/>
                    </a:cubicBezTo>
                    <a:cubicBezTo>
                      <a:pt x="9184" y="5"/>
                      <a:pt x="9184" y="6"/>
                      <a:pt x="9182" y="6"/>
                    </a:cubicBezTo>
                    <a:lnTo>
                      <a:pt x="9182" y="6"/>
                    </a:lnTo>
                    <a:cubicBezTo>
                      <a:pt x="9181" y="6"/>
                      <a:pt x="9180" y="5"/>
                      <a:pt x="9180" y="4"/>
                    </a:cubicBezTo>
                    <a:cubicBezTo>
                      <a:pt x="9180" y="2"/>
                      <a:pt x="9181" y="2"/>
                      <a:pt x="9182" y="2"/>
                    </a:cubicBezTo>
                    <a:close/>
                    <a:moveTo>
                      <a:pt x="9190" y="2"/>
                    </a:moveTo>
                    <a:lnTo>
                      <a:pt x="9190" y="2"/>
                    </a:lnTo>
                    <a:cubicBezTo>
                      <a:pt x="9192" y="2"/>
                      <a:pt x="9192" y="2"/>
                      <a:pt x="9192" y="4"/>
                    </a:cubicBezTo>
                    <a:cubicBezTo>
                      <a:pt x="9192" y="5"/>
                      <a:pt x="9192" y="6"/>
                      <a:pt x="9190" y="6"/>
                    </a:cubicBezTo>
                    <a:lnTo>
                      <a:pt x="9190" y="6"/>
                    </a:lnTo>
                    <a:cubicBezTo>
                      <a:pt x="9189" y="6"/>
                      <a:pt x="9188" y="5"/>
                      <a:pt x="9188" y="4"/>
                    </a:cubicBezTo>
                    <a:cubicBezTo>
                      <a:pt x="9188" y="2"/>
                      <a:pt x="9189" y="2"/>
                      <a:pt x="9190" y="2"/>
                    </a:cubicBezTo>
                    <a:close/>
                    <a:moveTo>
                      <a:pt x="9198" y="2"/>
                    </a:moveTo>
                    <a:lnTo>
                      <a:pt x="9198" y="2"/>
                    </a:lnTo>
                    <a:cubicBezTo>
                      <a:pt x="9200" y="2"/>
                      <a:pt x="9200" y="2"/>
                      <a:pt x="9200" y="4"/>
                    </a:cubicBezTo>
                    <a:cubicBezTo>
                      <a:pt x="9200" y="5"/>
                      <a:pt x="9200" y="6"/>
                      <a:pt x="9198" y="6"/>
                    </a:cubicBezTo>
                    <a:lnTo>
                      <a:pt x="9198" y="6"/>
                    </a:lnTo>
                    <a:cubicBezTo>
                      <a:pt x="9197" y="6"/>
                      <a:pt x="9196" y="5"/>
                      <a:pt x="9196" y="4"/>
                    </a:cubicBezTo>
                    <a:cubicBezTo>
                      <a:pt x="9196" y="2"/>
                      <a:pt x="9197" y="2"/>
                      <a:pt x="9198" y="2"/>
                    </a:cubicBezTo>
                    <a:close/>
                    <a:moveTo>
                      <a:pt x="9206" y="2"/>
                    </a:moveTo>
                    <a:lnTo>
                      <a:pt x="9206" y="2"/>
                    </a:lnTo>
                    <a:cubicBezTo>
                      <a:pt x="9208" y="2"/>
                      <a:pt x="9208" y="2"/>
                      <a:pt x="9208" y="4"/>
                    </a:cubicBezTo>
                    <a:cubicBezTo>
                      <a:pt x="9208" y="5"/>
                      <a:pt x="9208" y="6"/>
                      <a:pt x="9206" y="6"/>
                    </a:cubicBezTo>
                    <a:lnTo>
                      <a:pt x="9206" y="6"/>
                    </a:lnTo>
                    <a:cubicBezTo>
                      <a:pt x="9205" y="6"/>
                      <a:pt x="9204" y="5"/>
                      <a:pt x="9204" y="4"/>
                    </a:cubicBezTo>
                    <a:cubicBezTo>
                      <a:pt x="9204" y="2"/>
                      <a:pt x="9205" y="2"/>
                      <a:pt x="9206" y="2"/>
                    </a:cubicBezTo>
                    <a:close/>
                    <a:moveTo>
                      <a:pt x="9214" y="2"/>
                    </a:moveTo>
                    <a:lnTo>
                      <a:pt x="9214" y="2"/>
                    </a:lnTo>
                    <a:cubicBezTo>
                      <a:pt x="9216" y="2"/>
                      <a:pt x="9216" y="2"/>
                      <a:pt x="9216" y="4"/>
                    </a:cubicBezTo>
                    <a:cubicBezTo>
                      <a:pt x="9216" y="5"/>
                      <a:pt x="9216" y="6"/>
                      <a:pt x="9214" y="6"/>
                    </a:cubicBezTo>
                    <a:lnTo>
                      <a:pt x="9214" y="6"/>
                    </a:lnTo>
                    <a:cubicBezTo>
                      <a:pt x="9213" y="6"/>
                      <a:pt x="9212" y="5"/>
                      <a:pt x="9212" y="4"/>
                    </a:cubicBezTo>
                    <a:cubicBezTo>
                      <a:pt x="9212" y="2"/>
                      <a:pt x="9213" y="2"/>
                      <a:pt x="9214" y="2"/>
                    </a:cubicBezTo>
                    <a:close/>
                    <a:moveTo>
                      <a:pt x="9222" y="2"/>
                    </a:moveTo>
                    <a:lnTo>
                      <a:pt x="9222" y="2"/>
                    </a:lnTo>
                    <a:cubicBezTo>
                      <a:pt x="9224" y="2"/>
                      <a:pt x="9224" y="2"/>
                      <a:pt x="9224" y="4"/>
                    </a:cubicBezTo>
                    <a:cubicBezTo>
                      <a:pt x="9224" y="5"/>
                      <a:pt x="9224" y="6"/>
                      <a:pt x="9222" y="6"/>
                    </a:cubicBezTo>
                    <a:lnTo>
                      <a:pt x="9222" y="6"/>
                    </a:lnTo>
                    <a:cubicBezTo>
                      <a:pt x="9221" y="6"/>
                      <a:pt x="9220" y="5"/>
                      <a:pt x="9220" y="4"/>
                    </a:cubicBezTo>
                    <a:cubicBezTo>
                      <a:pt x="9220" y="2"/>
                      <a:pt x="9221" y="2"/>
                      <a:pt x="9222" y="2"/>
                    </a:cubicBezTo>
                    <a:close/>
                    <a:moveTo>
                      <a:pt x="9230" y="2"/>
                    </a:moveTo>
                    <a:lnTo>
                      <a:pt x="9230" y="2"/>
                    </a:lnTo>
                    <a:cubicBezTo>
                      <a:pt x="9232" y="2"/>
                      <a:pt x="9232" y="2"/>
                      <a:pt x="9232" y="4"/>
                    </a:cubicBezTo>
                    <a:cubicBezTo>
                      <a:pt x="9232" y="5"/>
                      <a:pt x="9232" y="6"/>
                      <a:pt x="9230" y="6"/>
                    </a:cubicBezTo>
                    <a:lnTo>
                      <a:pt x="9230" y="6"/>
                    </a:lnTo>
                    <a:cubicBezTo>
                      <a:pt x="9229" y="6"/>
                      <a:pt x="9228" y="5"/>
                      <a:pt x="9228" y="4"/>
                    </a:cubicBezTo>
                    <a:cubicBezTo>
                      <a:pt x="9228" y="2"/>
                      <a:pt x="9229" y="2"/>
                      <a:pt x="9230" y="2"/>
                    </a:cubicBezTo>
                    <a:close/>
                    <a:moveTo>
                      <a:pt x="9238" y="2"/>
                    </a:moveTo>
                    <a:lnTo>
                      <a:pt x="9238" y="2"/>
                    </a:lnTo>
                    <a:cubicBezTo>
                      <a:pt x="9240" y="2"/>
                      <a:pt x="9240" y="2"/>
                      <a:pt x="9240" y="4"/>
                    </a:cubicBezTo>
                    <a:cubicBezTo>
                      <a:pt x="9240" y="5"/>
                      <a:pt x="9240" y="6"/>
                      <a:pt x="9238" y="6"/>
                    </a:cubicBezTo>
                    <a:lnTo>
                      <a:pt x="9238" y="6"/>
                    </a:lnTo>
                    <a:cubicBezTo>
                      <a:pt x="9237" y="6"/>
                      <a:pt x="9236" y="5"/>
                      <a:pt x="9236" y="4"/>
                    </a:cubicBezTo>
                    <a:cubicBezTo>
                      <a:pt x="9236" y="2"/>
                      <a:pt x="9237" y="2"/>
                      <a:pt x="9238" y="2"/>
                    </a:cubicBezTo>
                    <a:close/>
                    <a:moveTo>
                      <a:pt x="9246" y="2"/>
                    </a:moveTo>
                    <a:lnTo>
                      <a:pt x="9246" y="2"/>
                    </a:lnTo>
                    <a:cubicBezTo>
                      <a:pt x="9248" y="2"/>
                      <a:pt x="9248" y="2"/>
                      <a:pt x="9248" y="4"/>
                    </a:cubicBezTo>
                    <a:cubicBezTo>
                      <a:pt x="9248" y="5"/>
                      <a:pt x="9248" y="6"/>
                      <a:pt x="9246" y="6"/>
                    </a:cubicBezTo>
                    <a:lnTo>
                      <a:pt x="9246" y="6"/>
                    </a:lnTo>
                    <a:cubicBezTo>
                      <a:pt x="9245" y="6"/>
                      <a:pt x="9244" y="5"/>
                      <a:pt x="9244" y="4"/>
                    </a:cubicBezTo>
                    <a:cubicBezTo>
                      <a:pt x="9244" y="2"/>
                      <a:pt x="9245" y="2"/>
                      <a:pt x="9246" y="2"/>
                    </a:cubicBezTo>
                    <a:close/>
                    <a:moveTo>
                      <a:pt x="9254" y="2"/>
                    </a:moveTo>
                    <a:lnTo>
                      <a:pt x="9254" y="2"/>
                    </a:lnTo>
                    <a:cubicBezTo>
                      <a:pt x="9256" y="2"/>
                      <a:pt x="9256" y="2"/>
                      <a:pt x="9256" y="4"/>
                    </a:cubicBezTo>
                    <a:cubicBezTo>
                      <a:pt x="9256" y="5"/>
                      <a:pt x="9256" y="6"/>
                      <a:pt x="9254" y="6"/>
                    </a:cubicBezTo>
                    <a:lnTo>
                      <a:pt x="9254" y="6"/>
                    </a:lnTo>
                    <a:cubicBezTo>
                      <a:pt x="9253" y="6"/>
                      <a:pt x="9252" y="5"/>
                      <a:pt x="9252" y="4"/>
                    </a:cubicBezTo>
                    <a:cubicBezTo>
                      <a:pt x="9252" y="2"/>
                      <a:pt x="9253" y="2"/>
                      <a:pt x="9254" y="2"/>
                    </a:cubicBezTo>
                    <a:close/>
                    <a:moveTo>
                      <a:pt x="9262" y="2"/>
                    </a:moveTo>
                    <a:lnTo>
                      <a:pt x="9262" y="2"/>
                    </a:lnTo>
                    <a:cubicBezTo>
                      <a:pt x="9264" y="2"/>
                      <a:pt x="9264" y="2"/>
                      <a:pt x="9264" y="4"/>
                    </a:cubicBezTo>
                    <a:cubicBezTo>
                      <a:pt x="9264" y="5"/>
                      <a:pt x="9264" y="6"/>
                      <a:pt x="9262" y="6"/>
                    </a:cubicBezTo>
                    <a:lnTo>
                      <a:pt x="9262" y="6"/>
                    </a:lnTo>
                    <a:cubicBezTo>
                      <a:pt x="9261" y="6"/>
                      <a:pt x="9260" y="5"/>
                      <a:pt x="9260" y="4"/>
                    </a:cubicBezTo>
                    <a:cubicBezTo>
                      <a:pt x="9260" y="2"/>
                      <a:pt x="9261" y="2"/>
                      <a:pt x="9262" y="2"/>
                    </a:cubicBezTo>
                    <a:close/>
                    <a:moveTo>
                      <a:pt x="9270" y="2"/>
                    </a:moveTo>
                    <a:lnTo>
                      <a:pt x="9270" y="2"/>
                    </a:lnTo>
                    <a:cubicBezTo>
                      <a:pt x="9272" y="2"/>
                      <a:pt x="9272" y="2"/>
                      <a:pt x="9272" y="4"/>
                    </a:cubicBezTo>
                    <a:cubicBezTo>
                      <a:pt x="9272" y="5"/>
                      <a:pt x="9272" y="6"/>
                      <a:pt x="9270" y="6"/>
                    </a:cubicBezTo>
                    <a:lnTo>
                      <a:pt x="9270" y="6"/>
                    </a:lnTo>
                    <a:cubicBezTo>
                      <a:pt x="9269" y="6"/>
                      <a:pt x="9268" y="5"/>
                      <a:pt x="9268" y="4"/>
                    </a:cubicBezTo>
                    <a:cubicBezTo>
                      <a:pt x="9268" y="2"/>
                      <a:pt x="9269" y="2"/>
                      <a:pt x="9270" y="2"/>
                    </a:cubicBezTo>
                    <a:close/>
                    <a:moveTo>
                      <a:pt x="9278" y="2"/>
                    </a:moveTo>
                    <a:lnTo>
                      <a:pt x="9278" y="2"/>
                    </a:lnTo>
                    <a:cubicBezTo>
                      <a:pt x="9280" y="2"/>
                      <a:pt x="9280" y="2"/>
                      <a:pt x="9280" y="4"/>
                    </a:cubicBezTo>
                    <a:cubicBezTo>
                      <a:pt x="9280" y="5"/>
                      <a:pt x="9280" y="6"/>
                      <a:pt x="9278" y="6"/>
                    </a:cubicBezTo>
                    <a:lnTo>
                      <a:pt x="9278" y="6"/>
                    </a:lnTo>
                    <a:cubicBezTo>
                      <a:pt x="9277" y="6"/>
                      <a:pt x="9276" y="5"/>
                      <a:pt x="9276" y="4"/>
                    </a:cubicBezTo>
                    <a:cubicBezTo>
                      <a:pt x="9276" y="2"/>
                      <a:pt x="9277" y="2"/>
                      <a:pt x="9278" y="2"/>
                    </a:cubicBezTo>
                    <a:close/>
                    <a:moveTo>
                      <a:pt x="9286" y="2"/>
                    </a:moveTo>
                    <a:lnTo>
                      <a:pt x="9286" y="2"/>
                    </a:lnTo>
                    <a:cubicBezTo>
                      <a:pt x="9288" y="2"/>
                      <a:pt x="9288" y="2"/>
                      <a:pt x="9288" y="4"/>
                    </a:cubicBezTo>
                    <a:cubicBezTo>
                      <a:pt x="9288" y="5"/>
                      <a:pt x="9288" y="6"/>
                      <a:pt x="9286" y="6"/>
                    </a:cubicBezTo>
                    <a:lnTo>
                      <a:pt x="9286" y="6"/>
                    </a:lnTo>
                    <a:cubicBezTo>
                      <a:pt x="9285" y="6"/>
                      <a:pt x="9284" y="5"/>
                      <a:pt x="9284" y="4"/>
                    </a:cubicBezTo>
                    <a:cubicBezTo>
                      <a:pt x="9284" y="2"/>
                      <a:pt x="9285" y="2"/>
                      <a:pt x="9286" y="2"/>
                    </a:cubicBezTo>
                    <a:close/>
                    <a:moveTo>
                      <a:pt x="9294" y="2"/>
                    </a:moveTo>
                    <a:lnTo>
                      <a:pt x="9294" y="2"/>
                    </a:lnTo>
                    <a:cubicBezTo>
                      <a:pt x="9296" y="2"/>
                      <a:pt x="9296" y="2"/>
                      <a:pt x="9296" y="4"/>
                    </a:cubicBezTo>
                    <a:cubicBezTo>
                      <a:pt x="9296" y="5"/>
                      <a:pt x="9296" y="6"/>
                      <a:pt x="9294" y="6"/>
                    </a:cubicBezTo>
                    <a:lnTo>
                      <a:pt x="9294" y="6"/>
                    </a:lnTo>
                    <a:cubicBezTo>
                      <a:pt x="9293" y="6"/>
                      <a:pt x="9292" y="5"/>
                      <a:pt x="9292" y="4"/>
                    </a:cubicBezTo>
                    <a:cubicBezTo>
                      <a:pt x="9292" y="2"/>
                      <a:pt x="9293" y="2"/>
                      <a:pt x="9294" y="2"/>
                    </a:cubicBezTo>
                    <a:close/>
                    <a:moveTo>
                      <a:pt x="9302" y="2"/>
                    </a:moveTo>
                    <a:lnTo>
                      <a:pt x="9302" y="2"/>
                    </a:lnTo>
                    <a:cubicBezTo>
                      <a:pt x="9304" y="2"/>
                      <a:pt x="9304" y="2"/>
                      <a:pt x="9304" y="4"/>
                    </a:cubicBezTo>
                    <a:cubicBezTo>
                      <a:pt x="9304" y="5"/>
                      <a:pt x="9304" y="6"/>
                      <a:pt x="9302" y="6"/>
                    </a:cubicBezTo>
                    <a:lnTo>
                      <a:pt x="9302" y="6"/>
                    </a:lnTo>
                    <a:cubicBezTo>
                      <a:pt x="9301" y="6"/>
                      <a:pt x="9300" y="5"/>
                      <a:pt x="9300" y="4"/>
                    </a:cubicBezTo>
                    <a:cubicBezTo>
                      <a:pt x="9300" y="2"/>
                      <a:pt x="9301" y="2"/>
                      <a:pt x="9302" y="2"/>
                    </a:cubicBezTo>
                    <a:close/>
                    <a:moveTo>
                      <a:pt x="9310" y="2"/>
                    </a:moveTo>
                    <a:lnTo>
                      <a:pt x="9310" y="2"/>
                    </a:lnTo>
                    <a:cubicBezTo>
                      <a:pt x="9312" y="2"/>
                      <a:pt x="9312" y="2"/>
                      <a:pt x="9312" y="4"/>
                    </a:cubicBezTo>
                    <a:cubicBezTo>
                      <a:pt x="9312" y="5"/>
                      <a:pt x="9312" y="6"/>
                      <a:pt x="9310" y="6"/>
                    </a:cubicBezTo>
                    <a:lnTo>
                      <a:pt x="9310" y="6"/>
                    </a:lnTo>
                    <a:cubicBezTo>
                      <a:pt x="9309" y="6"/>
                      <a:pt x="9308" y="5"/>
                      <a:pt x="9308" y="4"/>
                    </a:cubicBezTo>
                    <a:cubicBezTo>
                      <a:pt x="9308" y="2"/>
                      <a:pt x="9309" y="2"/>
                      <a:pt x="9310" y="2"/>
                    </a:cubicBezTo>
                    <a:close/>
                    <a:moveTo>
                      <a:pt x="9318" y="2"/>
                    </a:moveTo>
                    <a:lnTo>
                      <a:pt x="9319" y="2"/>
                    </a:lnTo>
                    <a:cubicBezTo>
                      <a:pt x="9320" y="2"/>
                      <a:pt x="9321" y="2"/>
                      <a:pt x="9321" y="4"/>
                    </a:cubicBezTo>
                    <a:cubicBezTo>
                      <a:pt x="9321" y="5"/>
                      <a:pt x="9320" y="6"/>
                      <a:pt x="9319" y="6"/>
                    </a:cubicBezTo>
                    <a:lnTo>
                      <a:pt x="9318" y="6"/>
                    </a:lnTo>
                    <a:cubicBezTo>
                      <a:pt x="9317" y="6"/>
                      <a:pt x="9316" y="5"/>
                      <a:pt x="9316" y="4"/>
                    </a:cubicBezTo>
                    <a:cubicBezTo>
                      <a:pt x="9316" y="2"/>
                      <a:pt x="9317" y="2"/>
                      <a:pt x="9318" y="2"/>
                    </a:cubicBezTo>
                    <a:close/>
                    <a:moveTo>
                      <a:pt x="9327" y="2"/>
                    </a:moveTo>
                    <a:lnTo>
                      <a:pt x="9327" y="2"/>
                    </a:lnTo>
                    <a:cubicBezTo>
                      <a:pt x="9328" y="2"/>
                      <a:pt x="9329" y="2"/>
                      <a:pt x="9329" y="4"/>
                    </a:cubicBezTo>
                    <a:cubicBezTo>
                      <a:pt x="9329" y="5"/>
                      <a:pt x="9328" y="6"/>
                      <a:pt x="9327" y="6"/>
                    </a:cubicBezTo>
                    <a:lnTo>
                      <a:pt x="9327" y="6"/>
                    </a:lnTo>
                    <a:cubicBezTo>
                      <a:pt x="9325" y="6"/>
                      <a:pt x="9325" y="5"/>
                      <a:pt x="9325" y="4"/>
                    </a:cubicBezTo>
                    <a:cubicBezTo>
                      <a:pt x="9325" y="2"/>
                      <a:pt x="9325" y="2"/>
                      <a:pt x="9327" y="2"/>
                    </a:cubicBezTo>
                    <a:close/>
                    <a:moveTo>
                      <a:pt x="9335" y="2"/>
                    </a:moveTo>
                    <a:lnTo>
                      <a:pt x="9335" y="2"/>
                    </a:lnTo>
                    <a:cubicBezTo>
                      <a:pt x="9336" y="2"/>
                      <a:pt x="9337" y="2"/>
                      <a:pt x="9337" y="4"/>
                    </a:cubicBezTo>
                    <a:cubicBezTo>
                      <a:pt x="9337" y="5"/>
                      <a:pt x="9336" y="6"/>
                      <a:pt x="9335" y="6"/>
                    </a:cubicBezTo>
                    <a:lnTo>
                      <a:pt x="9335" y="6"/>
                    </a:lnTo>
                    <a:cubicBezTo>
                      <a:pt x="9333" y="6"/>
                      <a:pt x="9333" y="5"/>
                      <a:pt x="9333" y="4"/>
                    </a:cubicBezTo>
                    <a:cubicBezTo>
                      <a:pt x="9333" y="2"/>
                      <a:pt x="9333" y="2"/>
                      <a:pt x="9335" y="2"/>
                    </a:cubicBezTo>
                    <a:close/>
                    <a:moveTo>
                      <a:pt x="9343" y="2"/>
                    </a:moveTo>
                    <a:lnTo>
                      <a:pt x="9343" y="2"/>
                    </a:lnTo>
                    <a:cubicBezTo>
                      <a:pt x="9344" y="2"/>
                      <a:pt x="9345" y="2"/>
                      <a:pt x="9345" y="4"/>
                    </a:cubicBezTo>
                    <a:cubicBezTo>
                      <a:pt x="9345" y="5"/>
                      <a:pt x="9344" y="6"/>
                      <a:pt x="9343" y="6"/>
                    </a:cubicBezTo>
                    <a:lnTo>
                      <a:pt x="9343" y="6"/>
                    </a:lnTo>
                    <a:cubicBezTo>
                      <a:pt x="9341" y="6"/>
                      <a:pt x="9341" y="5"/>
                      <a:pt x="9341" y="4"/>
                    </a:cubicBezTo>
                    <a:cubicBezTo>
                      <a:pt x="9341" y="2"/>
                      <a:pt x="9341" y="2"/>
                      <a:pt x="9343" y="2"/>
                    </a:cubicBezTo>
                    <a:close/>
                    <a:moveTo>
                      <a:pt x="9351" y="2"/>
                    </a:moveTo>
                    <a:lnTo>
                      <a:pt x="9351" y="2"/>
                    </a:lnTo>
                    <a:cubicBezTo>
                      <a:pt x="9352" y="2"/>
                      <a:pt x="9353" y="2"/>
                      <a:pt x="9353" y="4"/>
                    </a:cubicBezTo>
                    <a:cubicBezTo>
                      <a:pt x="9353" y="5"/>
                      <a:pt x="9352" y="6"/>
                      <a:pt x="9351" y="6"/>
                    </a:cubicBezTo>
                    <a:lnTo>
                      <a:pt x="9351" y="6"/>
                    </a:lnTo>
                    <a:cubicBezTo>
                      <a:pt x="9349" y="6"/>
                      <a:pt x="9349" y="5"/>
                      <a:pt x="9349" y="4"/>
                    </a:cubicBezTo>
                    <a:cubicBezTo>
                      <a:pt x="9349" y="2"/>
                      <a:pt x="9349" y="2"/>
                      <a:pt x="9351" y="2"/>
                    </a:cubicBezTo>
                    <a:close/>
                    <a:moveTo>
                      <a:pt x="9359" y="2"/>
                    </a:moveTo>
                    <a:lnTo>
                      <a:pt x="9359" y="2"/>
                    </a:lnTo>
                    <a:cubicBezTo>
                      <a:pt x="9360" y="2"/>
                      <a:pt x="9361" y="2"/>
                      <a:pt x="9361" y="4"/>
                    </a:cubicBezTo>
                    <a:cubicBezTo>
                      <a:pt x="9361" y="5"/>
                      <a:pt x="9360" y="6"/>
                      <a:pt x="9359" y="6"/>
                    </a:cubicBezTo>
                    <a:lnTo>
                      <a:pt x="9359" y="6"/>
                    </a:lnTo>
                    <a:cubicBezTo>
                      <a:pt x="9357" y="6"/>
                      <a:pt x="9357" y="5"/>
                      <a:pt x="9357" y="4"/>
                    </a:cubicBezTo>
                    <a:cubicBezTo>
                      <a:pt x="9357" y="2"/>
                      <a:pt x="9357" y="2"/>
                      <a:pt x="9359" y="2"/>
                    </a:cubicBezTo>
                    <a:close/>
                    <a:moveTo>
                      <a:pt x="9367" y="2"/>
                    </a:moveTo>
                    <a:lnTo>
                      <a:pt x="9367" y="2"/>
                    </a:lnTo>
                    <a:cubicBezTo>
                      <a:pt x="9368" y="2"/>
                      <a:pt x="9369" y="2"/>
                      <a:pt x="9369" y="4"/>
                    </a:cubicBezTo>
                    <a:cubicBezTo>
                      <a:pt x="9369" y="5"/>
                      <a:pt x="9368" y="6"/>
                      <a:pt x="9367" y="6"/>
                    </a:cubicBezTo>
                    <a:lnTo>
                      <a:pt x="9367" y="6"/>
                    </a:lnTo>
                    <a:cubicBezTo>
                      <a:pt x="9365" y="6"/>
                      <a:pt x="9365" y="5"/>
                      <a:pt x="9365" y="4"/>
                    </a:cubicBezTo>
                    <a:cubicBezTo>
                      <a:pt x="9365" y="2"/>
                      <a:pt x="9365" y="2"/>
                      <a:pt x="9367" y="2"/>
                    </a:cubicBezTo>
                    <a:close/>
                    <a:moveTo>
                      <a:pt x="9375" y="2"/>
                    </a:moveTo>
                    <a:lnTo>
                      <a:pt x="9375" y="2"/>
                    </a:lnTo>
                    <a:cubicBezTo>
                      <a:pt x="9376" y="2"/>
                      <a:pt x="9377" y="2"/>
                      <a:pt x="9377" y="4"/>
                    </a:cubicBezTo>
                    <a:cubicBezTo>
                      <a:pt x="9377" y="5"/>
                      <a:pt x="9376" y="6"/>
                      <a:pt x="9375" y="6"/>
                    </a:cubicBezTo>
                    <a:lnTo>
                      <a:pt x="9375" y="6"/>
                    </a:lnTo>
                    <a:cubicBezTo>
                      <a:pt x="9373" y="6"/>
                      <a:pt x="9373" y="5"/>
                      <a:pt x="9373" y="4"/>
                    </a:cubicBezTo>
                    <a:cubicBezTo>
                      <a:pt x="9373" y="2"/>
                      <a:pt x="9373" y="2"/>
                      <a:pt x="9375" y="2"/>
                    </a:cubicBezTo>
                    <a:close/>
                    <a:moveTo>
                      <a:pt x="9383" y="2"/>
                    </a:moveTo>
                    <a:lnTo>
                      <a:pt x="9383" y="2"/>
                    </a:lnTo>
                    <a:cubicBezTo>
                      <a:pt x="9384" y="2"/>
                      <a:pt x="9385" y="2"/>
                      <a:pt x="9385" y="4"/>
                    </a:cubicBezTo>
                    <a:cubicBezTo>
                      <a:pt x="9385" y="5"/>
                      <a:pt x="9384" y="6"/>
                      <a:pt x="9383" y="6"/>
                    </a:cubicBezTo>
                    <a:lnTo>
                      <a:pt x="9383" y="6"/>
                    </a:lnTo>
                    <a:cubicBezTo>
                      <a:pt x="9381" y="6"/>
                      <a:pt x="9381" y="5"/>
                      <a:pt x="9381" y="4"/>
                    </a:cubicBezTo>
                    <a:cubicBezTo>
                      <a:pt x="9381" y="2"/>
                      <a:pt x="9381" y="2"/>
                      <a:pt x="9383" y="2"/>
                    </a:cubicBezTo>
                    <a:close/>
                    <a:moveTo>
                      <a:pt x="9391" y="2"/>
                    </a:moveTo>
                    <a:lnTo>
                      <a:pt x="9391" y="2"/>
                    </a:lnTo>
                    <a:cubicBezTo>
                      <a:pt x="9392" y="2"/>
                      <a:pt x="9393" y="2"/>
                      <a:pt x="9393" y="4"/>
                    </a:cubicBezTo>
                    <a:cubicBezTo>
                      <a:pt x="9393" y="5"/>
                      <a:pt x="9392" y="6"/>
                      <a:pt x="9391" y="6"/>
                    </a:cubicBezTo>
                    <a:lnTo>
                      <a:pt x="9391" y="6"/>
                    </a:lnTo>
                    <a:cubicBezTo>
                      <a:pt x="9389" y="6"/>
                      <a:pt x="9389" y="5"/>
                      <a:pt x="9389" y="4"/>
                    </a:cubicBezTo>
                    <a:cubicBezTo>
                      <a:pt x="9389" y="2"/>
                      <a:pt x="9389" y="2"/>
                      <a:pt x="9391" y="2"/>
                    </a:cubicBezTo>
                    <a:close/>
                    <a:moveTo>
                      <a:pt x="9399" y="2"/>
                    </a:moveTo>
                    <a:lnTo>
                      <a:pt x="9399" y="2"/>
                    </a:lnTo>
                    <a:cubicBezTo>
                      <a:pt x="9400" y="2"/>
                      <a:pt x="9401" y="2"/>
                      <a:pt x="9401" y="4"/>
                    </a:cubicBezTo>
                    <a:cubicBezTo>
                      <a:pt x="9401" y="5"/>
                      <a:pt x="9400" y="6"/>
                      <a:pt x="9399" y="6"/>
                    </a:cubicBezTo>
                    <a:lnTo>
                      <a:pt x="9399" y="6"/>
                    </a:lnTo>
                    <a:cubicBezTo>
                      <a:pt x="9397" y="6"/>
                      <a:pt x="9397" y="5"/>
                      <a:pt x="9397" y="4"/>
                    </a:cubicBezTo>
                    <a:cubicBezTo>
                      <a:pt x="9397" y="2"/>
                      <a:pt x="9397" y="2"/>
                      <a:pt x="9399" y="2"/>
                    </a:cubicBezTo>
                    <a:close/>
                    <a:moveTo>
                      <a:pt x="9407" y="2"/>
                    </a:moveTo>
                    <a:lnTo>
                      <a:pt x="9407" y="2"/>
                    </a:lnTo>
                    <a:cubicBezTo>
                      <a:pt x="9408" y="2"/>
                      <a:pt x="9409" y="2"/>
                      <a:pt x="9409" y="4"/>
                    </a:cubicBezTo>
                    <a:cubicBezTo>
                      <a:pt x="9409" y="5"/>
                      <a:pt x="9408" y="6"/>
                      <a:pt x="9407" y="6"/>
                    </a:cubicBezTo>
                    <a:lnTo>
                      <a:pt x="9407" y="6"/>
                    </a:lnTo>
                    <a:cubicBezTo>
                      <a:pt x="9405" y="6"/>
                      <a:pt x="9405" y="5"/>
                      <a:pt x="9405" y="4"/>
                    </a:cubicBezTo>
                    <a:cubicBezTo>
                      <a:pt x="9405" y="2"/>
                      <a:pt x="9405" y="2"/>
                      <a:pt x="9407" y="2"/>
                    </a:cubicBezTo>
                    <a:close/>
                    <a:moveTo>
                      <a:pt x="9415" y="2"/>
                    </a:moveTo>
                    <a:lnTo>
                      <a:pt x="9415" y="2"/>
                    </a:lnTo>
                    <a:cubicBezTo>
                      <a:pt x="9416" y="2"/>
                      <a:pt x="9417" y="2"/>
                      <a:pt x="9417" y="4"/>
                    </a:cubicBezTo>
                    <a:cubicBezTo>
                      <a:pt x="9417" y="5"/>
                      <a:pt x="9416" y="6"/>
                      <a:pt x="9415" y="6"/>
                    </a:cubicBezTo>
                    <a:lnTo>
                      <a:pt x="9415" y="6"/>
                    </a:lnTo>
                    <a:cubicBezTo>
                      <a:pt x="9413" y="6"/>
                      <a:pt x="9413" y="5"/>
                      <a:pt x="9413" y="4"/>
                    </a:cubicBezTo>
                    <a:cubicBezTo>
                      <a:pt x="9413" y="2"/>
                      <a:pt x="9413" y="2"/>
                      <a:pt x="9415" y="2"/>
                    </a:cubicBezTo>
                    <a:close/>
                    <a:moveTo>
                      <a:pt x="9423" y="2"/>
                    </a:moveTo>
                    <a:lnTo>
                      <a:pt x="9423" y="2"/>
                    </a:lnTo>
                    <a:cubicBezTo>
                      <a:pt x="9424" y="2"/>
                      <a:pt x="9425" y="2"/>
                      <a:pt x="9425" y="4"/>
                    </a:cubicBezTo>
                    <a:cubicBezTo>
                      <a:pt x="9425" y="5"/>
                      <a:pt x="9424" y="6"/>
                      <a:pt x="9423" y="6"/>
                    </a:cubicBezTo>
                    <a:lnTo>
                      <a:pt x="9423" y="6"/>
                    </a:lnTo>
                    <a:cubicBezTo>
                      <a:pt x="9421" y="6"/>
                      <a:pt x="9421" y="5"/>
                      <a:pt x="9421" y="4"/>
                    </a:cubicBezTo>
                    <a:cubicBezTo>
                      <a:pt x="9421" y="2"/>
                      <a:pt x="9421" y="2"/>
                      <a:pt x="9423" y="2"/>
                    </a:cubicBezTo>
                    <a:close/>
                    <a:moveTo>
                      <a:pt x="9431" y="2"/>
                    </a:moveTo>
                    <a:lnTo>
                      <a:pt x="9431" y="2"/>
                    </a:lnTo>
                    <a:cubicBezTo>
                      <a:pt x="9432" y="2"/>
                      <a:pt x="9433" y="2"/>
                      <a:pt x="9433" y="4"/>
                    </a:cubicBezTo>
                    <a:cubicBezTo>
                      <a:pt x="9433" y="5"/>
                      <a:pt x="9432" y="6"/>
                      <a:pt x="9431" y="6"/>
                    </a:cubicBezTo>
                    <a:lnTo>
                      <a:pt x="9431" y="6"/>
                    </a:lnTo>
                    <a:cubicBezTo>
                      <a:pt x="9429" y="6"/>
                      <a:pt x="9429" y="5"/>
                      <a:pt x="9429" y="4"/>
                    </a:cubicBezTo>
                    <a:cubicBezTo>
                      <a:pt x="9429" y="2"/>
                      <a:pt x="9429" y="2"/>
                      <a:pt x="9431" y="2"/>
                    </a:cubicBezTo>
                    <a:close/>
                    <a:moveTo>
                      <a:pt x="9439" y="2"/>
                    </a:moveTo>
                    <a:lnTo>
                      <a:pt x="9439" y="2"/>
                    </a:lnTo>
                    <a:cubicBezTo>
                      <a:pt x="9440" y="2"/>
                      <a:pt x="9441" y="2"/>
                      <a:pt x="9441" y="4"/>
                    </a:cubicBezTo>
                    <a:cubicBezTo>
                      <a:pt x="9441" y="5"/>
                      <a:pt x="9440" y="6"/>
                      <a:pt x="9439" y="6"/>
                    </a:cubicBezTo>
                    <a:lnTo>
                      <a:pt x="9439" y="6"/>
                    </a:lnTo>
                    <a:cubicBezTo>
                      <a:pt x="9437" y="6"/>
                      <a:pt x="9437" y="5"/>
                      <a:pt x="9437" y="4"/>
                    </a:cubicBezTo>
                    <a:cubicBezTo>
                      <a:pt x="9437" y="2"/>
                      <a:pt x="9437" y="2"/>
                      <a:pt x="9439" y="2"/>
                    </a:cubicBezTo>
                    <a:close/>
                    <a:moveTo>
                      <a:pt x="9447" y="2"/>
                    </a:moveTo>
                    <a:lnTo>
                      <a:pt x="9447" y="2"/>
                    </a:lnTo>
                    <a:cubicBezTo>
                      <a:pt x="9448" y="2"/>
                      <a:pt x="9449" y="2"/>
                      <a:pt x="9449" y="4"/>
                    </a:cubicBezTo>
                    <a:cubicBezTo>
                      <a:pt x="9449" y="5"/>
                      <a:pt x="9448" y="6"/>
                      <a:pt x="9447" y="6"/>
                    </a:cubicBezTo>
                    <a:lnTo>
                      <a:pt x="9447" y="6"/>
                    </a:lnTo>
                    <a:cubicBezTo>
                      <a:pt x="9445" y="6"/>
                      <a:pt x="9445" y="5"/>
                      <a:pt x="9445" y="4"/>
                    </a:cubicBezTo>
                    <a:cubicBezTo>
                      <a:pt x="9445" y="2"/>
                      <a:pt x="9445" y="2"/>
                      <a:pt x="9447" y="2"/>
                    </a:cubicBezTo>
                    <a:close/>
                    <a:moveTo>
                      <a:pt x="9455" y="2"/>
                    </a:moveTo>
                    <a:lnTo>
                      <a:pt x="9455" y="2"/>
                    </a:lnTo>
                    <a:cubicBezTo>
                      <a:pt x="9456" y="2"/>
                      <a:pt x="9457" y="2"/>
                      <a:pt x="9457" y="4"/>
                    </a:cubicBezTo>
                    <a:cubicBezTo>
                      <a:pt x="9457" y="5"/>
                      <a:pt x="9456" y="6"/>
                      <a:pt x="9455" y="6"/>
                    </a:cubicBezTo>
                    <a:lnTo>
                      <a:pt x="9455" y="6"/>
                    </a:lnTo>
                    <a:cubicBezTo>
                      <a:pt x="9453" y="6"/>
                      <a:pt x="9453" y="5"/>
                      <a:pt x="9453" y="4"/>
                    </a:cubicBezTo>
                    <a:cubicBezTo>
                      <a:pt x="9453" y="2"/>
                      <a:pt x="9453" y="2"/>
                      <a:pt x="9455" y="2"/>
                    </a:cubicBezTo>
                    <a:close/>
                    <a:moveTo>
                      <a:pt x="9463" y="2"/>
                    </a:moveTo>
                    <a:lnTo>
                      <a:pt x="9463" y="2"/>
                    </a:lnTo>
                    <a:cubicBezTo>
                      <a:pt x="9464" y="2"/>
                      <a:pt x="9465" y="2"/>
                      <a:pt x="9465" y="4"/>
                    </a:cubicBezTo>
                    <a:cubicBezTo>
                      <a:pt x="9465" y="5"/>
                      <a:pt x="9464" y="6"/>
                      <a:pt x="9463" y="6"/>
                    </a:cubicBezTo>
                    <a:lnTo>
                      <a:pt x="9463" y="6"/>
                    </a:lnTo>
                    <a:cubicBezTo>
                      <a:pt x="9461" y="6"/>
                      <a:pt x="9461" y="5"/>
                      <a:pt x="9461" y="4"/>
                    </a:cubicBezTo>
                    <a:cubicBezTo>
                      <a:pt x="9461" y="2"/>
                      <a:pt x="9461" y="2"/>
                      <a:pt x="9463" y="2"/>
                    </a:cubicBezTo>
                    <a:close/>
                    <a:moveTo>
                      <a:pt x="9471" y="2"/>
                    </a:moveTo>
                    <a:lnTo>
                      <a:pt x="9471" y="2"/>
                    </a:lnTo>
                    <a:cubicBezTo>
                      <a:pt x="9472" y="2"/>
                      <a:pt x="9473" y="2"/>
                      <a:pt x="9473" y="4"/>
                    </a:cubicBezTo>
                    <a:cubicBezTo>
                      <a:pt x="9473" y="5"/>
                      <a:pt x="9472" y="6"/>
                      <a:pt x="9471" y="6"/>
                    </a:cubicBezTo>
                    <a:lnTo>
                      <a:pt x="9471" y="6"/>
                    </a:lnTo>
                    <a:cubicBezTo>
                      <a:pt x="9469" y="6"/>
                      <a:pt x="9469" y="5"/>
                      <a:pt x="9469" y="4"/>
                    </a:cubicBezTo>
                    <a:cubicBezTo>
                      <a:pt x="9469" y="2"/>
                      <a:pt x="9469" y="2"/>
                      <a:pt x="9471" y="2"/>
                    </a:cubicBezTo>
                    <a:close/>
                    <a:moveTo>
                      <a:pt x="9479" y="2"/>
                    </a:moveTo>
                    <a:lnTo>
                      <a:pt x="9479" y="2"/>
                    </a:lnTo>
                    <a:cubicBezTo>
                      <a:pt x="9480" y="2"/>
                      <a:pt x="9481" y="2"/>
                      <a:pt x="9481" y="4"/>
                    </a:cubicBezTo>
                    <a:cubicBezTo>
                      <a:pt x="9481" y="5"/>
                      <a:pt x="9480" y="6"/>
                      <a:pt x="9479" y="6"/>
                    </a:cubicBezTo>
                    <a:lnTo>
                      <a:pt x="9479" y="6"/>
                    </a:lnTo>
                    <a:cubicBezTo>
                      <a:pt x="9477" y="6"/>
                      <a:pt x="9477" y="5"/>
                      <a:pt x="9477" y="4"/>
                    </a:cubicBezTo>
                    <a:cubicBezTo>
                      <a:pt x="9477" y="2"/>
                      <a:pt x="9477" y="2"/>
                      <a:pt x="9479" y="2"/>
                    </a:cubicBezTo>
                    <a:close/>
                    <a:moveTo>
                      <a:pt x="9487" y="2"/>
                    </a:moveTo>
                    <a:lnTo>
                      <a:pt x="9487" y="2"/>
                    </a:lnTo>
                    <a:cubicBezTo>
                      <a:pt x="9488" y="2"/>
                      <a:pt x="9489" y="2"/>
                      <a:pt x="9489" y="4"/>
                    </a:cubicBezTo>
                    <a:cubicBezTo>
                      <a:pt x="9489" y="5"/>
                      <a:pt x="9488" y="6"/>
                      <a:pt x="9487" y="6"/>
                    </a:cubicBezTo>
                    <a:lnTo>
                      <a:pt x="9487" y="6"/>
                    </a:lnTo>
                    <a:cubicBezTo>
                      <a:pt x="9485" y="6"/>
                      <a:pt x="9485" y="5"/>
                      <a:pt x="9485" y="4"/>
                    </a:cubicBezTo>
                    <a:cubicBezTo>
                      <a:pt x="9485" y="2"/>
                      <a:pt x="9485" y="2"/>
                      <a:pt x="9487" y="2"/>
                    </a:cubicBezTo>
                    <a:close/>
                    <a:moveTo>
                      <a:pt x="9495" y="2"/>
                    </a:moveTo>
                    <a:lnTo>
                      <a:pt x="9495" y="2"/>
                    </a:lnTo>
                    <a:cubicBezTo>
                      <a:pt x="9496" y="2"/>
                      <a:pt x="9497" y="2"/>
                      <a:pt x="9497" y="4"/>
                    </a:cubicBezTo>
                    <a:cubicBezTo>
                      <a:pt x="9497" y="5"/>
                      <a:pt x="9496" y="6"/>
                      <a:pt x="9495" y="6"/>
                    </a:cubicBezTo>
                    <a:lnTo>
                      <a:pt x="9495" y="6"/>
                    </a:lnTo>
                    <a:cubicBezTo>
                      <a:pt x="9493" y="6"/>
                      <a:pt x="9493" y="5"/>
                      <a:pt x="9493" y="4"/>
                    </a:cubicBezTo>
                    <a:cubicBezTo>
                      <a:pt x="9493" y="2"/>
                      <a:pt x="9493" y="2"/>
                      <a:pt x="9495" y="2"/>
                    </a:cubicBezTo>
                    <a:close/>
                    <a:moveTo>
                      <a:pt x="9503" y="2"/>
                    </a:moveTo>
                    <a:lnTo>
                      <a:pt x="9503" y="2"/>
                    </a:lnTo>
                    <a:cubicBezTo>
                      <a:pt x="9504" y="2"/>
                      <a:pt x="9505" y="2"/>
                      <a:pt x="9505" y="4"/>
                    </a:cubicBezTo>
                    <a:cubicBezTo>
                      <a:pt x="9505" y="5"/>
                      <a:pt x="9504" y="6"/>
                      <a:pt x="9503" y="6"/>
                    </a:cubicBezTo>
                    <a:lnTo>
                      <a:pt x="9503" y="6"/>
                    </a:lnTo>
                    <a:cubicBezTo>
                      <a:pt x="9502" y="6"/>
                      <a:pt x="9501" y="5"/>
                      <a:pt x="9501" y="4"/>
                    </a:cubicBezTo>
                    <a:cubicBezTo>
                      <a:pt x="9501" y="2"/>
                      <a:pt x="9502" y="2"/>
                      <a:pt x="9503" y="2"/>
                    </a:cubicBezTo>
                    <a:close/>
                    <a:moveTo>
                      <a:pt x="9511" y="2"/>
                    </a:moveTo>
                    <a:lnTo>
                      <a:pt x="9511" y="2"/>
                    </a:lnTo>
                    <a:cubicBezTo>
                      <a:pt x="9512" y="2"/>
                      <a:pt x="9513" y="2"/>
                      <a:pt x="9513" y="4"/>
                    </a:cubicBezTo>
                    <a:cubicBezTo>
                      <a:pt x="9513" y="5"/>
                      <a:pt x="9512" y="6"/>
                      <a:pt x="9511" y="6"/>
                    </a:cubicBezTo>
                    <a:lnTo>
                      <a:pt x="9511" y="6"/>
                    </a:lnTo>
                    <a:cubicBezTo>
                      <a:pt x="9510" y="6"/>
                      <a:pt x="9509" y="5"/>
                      <a:pt x="9509" y="4"/>
                    </a:cubicBezTo>
                    <a:cubicBezTo>
                      <a:pt x="9509" y="2"/>
                      <a:pt x="9510" y="2"/>
                      <a:pt x="9511" y="2"/>
                    </a:cubicBezTo>
                    <a:close/>
                    <a:moveTo>
                      <a:pt x="9519" y="2"/>
                    </a:moveTo>
                    <a:lnTo>
                      <a:pt x="9519" y="2"/>
                    </a:lnTo>
                    <a:cubicBezTo>
                      <a:pt x="9520" y="2"/>
                      <a:pt x="9521" y="3"/>
                      <a:pt x="9521" y="4"/>
                    </a:cubicBezTo>
                    <a:cubicBezTo>
                      <a:pt x="9521" y="5"/>
                      <a:pt x="9520" y="6"/>
                      <a:pt x="9519" y="6"/>
                    </a:cubicBezTo>
                    <a:lnTo>
                      <a:pt x="9519" y="6"/>
                    </a:lnTo>
                    <a:cubicBezTo>
                      <a:pt x="9518" y="6"/>
                      <a:pt x="9517" y="5"/>
                      <a:pt x="9517" y="4"/>
                    </a:cubicBezTo>
                    <a:cubicBezTo>
                      <a:pt x="9517" y="3"/>
                      <a:pt x="9518" y="2"/>
                      <a:pt x="9519" y="2"/>
                    </a:cubicBezTo>
                    <a:close/>
                    <a:moveTo>
                      <a:pt x="9527" y="2"/>
                    </a:moveTo>
                    <a:lnTo>
                      <a:pt x="9527" y="2"/>
                    </a:lnTo>
                    <a:cubicBezTo>
                      <a:pt x="9528" y="2"/>
                      <a:pt x="9529" y="3"/>
                      <a:pt x="9529" y="4"/>
                    </a:cubicBezTo>
                    <a:cubicBezTo>
                      <a:pt x="9529" y="5"/>
                      <a:pt x="9528" y="6"/>
                      <a:pt x="9527" y="6"/>
                    </a:cubicBezTo>
                    <a:lnTo>
                      <a:pt x="9527" y="6"/>
                    </a:lnTo>
                    <a:cubicBezTo>
                      <a:pt x="9526" y="6"/>
                      <a:pt x="9525" y="5"/>
                      <a:pt x="9525" y="4"/>
                    </a:cubicBezTo>
                    <a:cubicBezTo>
                      <a:pt x="9525" y="3"/>
                      <a:pt x="9526" y="2"/>
                      <a:pt x="9527" y="2"/>
                    </a:cubicBezTo>
                    <a:close/>
                    <a:moveTo>
                      <a:pt x="9535" y="2"/>
                    </a:moveTo>
                    <a:lnTo>
                      <a:pt x="9535" y="2"/>
                    </a:lnTo>
                    <a:cubicBezTo>
                      <a:pt x="9536" y="2"/>
                      <a:pt x="9537" y="3"/>
                      <a:pt x="9537" y="4"/>
                    </a:cubicBezTo>
                    <a:cubicBezTo>
                      <a:pt x="9537" y="5"/>
                      <a:pt x="9536" y="6"/>
                      <a:pt x="9535" y="6"/>
                    </a:cubicBezTo>
                    <a:lnTo>
                      <a:pt x="9535" y="6"/>
                    </a:lnTo>
                    <a:cubicBezTo>
                      <a:pt x="9534" y="6"/>
                      <a:pt x="9533" y="5"/>
                      <a:pt x="9533" y="4"/>
                    </a:cubicBezTo>
                    <a:cubicBezTo>
                      <a:pt x="9533" y="3"/>
                      <a:pt x="9534" y="2"/>
                      <a:pt x="9535" y="2"/>
                    </a:cubicBezTo>
                    <a:close/>
                    <a:moveTo>
                      <a:pt x="9543" y="2"/>
                    </a:moveTo>
                    <a:lnTo>
                      <a:pt x="9543" y="2"/>
                    </a:lnTo>
                    <a:cubicBezTo>
                      <a:pt x="9544" y="2"/>
                      <a:pt x="9545" y="3"/>
                      <a:pt x="9545" y="4"/>
                    </a:cubicBezTo>
                    <a:cubicBezTo>
                      <a:pt x="9545" y="5"/>
                      <a:pt x="9544" y="6"/>
                      <a:pt x="9543" y="6"/>
                    </a:cubicBezTo>
                    <a:lnTo>
                      <a:pt x="9543" y="6"/>
                    </a:lnTo>
                    <a:cubicBezTo>
                      <a:pt x="9542" y="6"/>
                      <a:pt x="9541" y="5"/>
                      <a:pt x="9541" y="4"/>
                    </a:cubicBezTo>
                    <a:cubicBezTo>
                      <a:pt x="9541" y="3"/>
                      <a:pt x="9542" y="2"/>
                      <a:pt x="9543" y="2"/>
                    </a:cubicBezTo>
                    <a:close/>
                    <a:moveTo>
                      <a:pt x="9551" y="2"/>
                    </a:moveTo>
                    <a:lnTo>
                      <a:pt x="9551" y="2"/>
                    </a:lnTo>
                    <a:cubicBezTo>
                      <a:pt x="9552" y="2"/>
                      <a:pt x="9553" y="3"/>
                      <a:pt x="9553" y="4"/>
                    </a:cubicBezTo>
                    <a:cubicBezTo>
                      <a:pt x="9553" y="5"/>
                      <a:pt x="9552" y="6"/>
                      <a:pt x="9551" y="6"/>
                    </a:cubicBezTo>
                    <a:lnTo>
                      <a:pt x="9551" y="6"/>
                    </a:lnTo>
                    <a:cubicBezTo>
                      <a:pt x="9550" y="6"/>
                      <a:pt x="9549" y="5"/>
                      <a:pt x="9549" y="4"/>
                    </a:cubicBezTo>
                    <a:cubicBezTo>
                      <a:pt x="9549" y="3"/>
                      <a:pt x="9550" y="2"/>
                      <a:pt x="9551" y="2"/>
                    </a:cubicBezTo>
                    <a:close/>
                    <a:moveTo>
                      <a:pt x="9559" y="2"/>
                    </a:moveTo>
                    <a:lnTo>
                      <a:pt x="9559" y="2"/>
                    </a:lnTo>
                    <a:cubicBezTo>
                      <a:pt x="9560" y="2"/>
                      <a:pt x="9561" y="3"/>
                      <a:pt x="9561" y="4"/>
                    </a:cubicBezTo>
                    <a:cubicBezTo>
                      <a:pt x="9561" y="5"/>
                      <a:pt x="9560" y="6"/>
                      <a:pt x="9559" y="6"/>
                    </a:cubicBezTo>
                    <a:lnTo>
                      <a:pt x="9559" y="6"/>
                    </a:lnTo>
                    <a:cubicBezTo>
                      <a:pt x="9558" y="6"/>
                      <a:pt x="9557" y="5"/>
                      <a:pt x="9557" y="4"/>
                    </a:cubicBezTo>
                    <a:cubicBezTo>
                      <a:pt x="9557" y="3"/>
                      <a:pt x="9558" y="2"/>
                      <a:pt x="9559" y="2"/>
                    </a:cubicBezTo>
                    <a:close/>
                    <a:moveTo>
                      <a:pt x="9567" y="2"/>
                    </a:moveTo>
                    <a:lnTo>
                      <a:pt x="9567" y="2"/>
                    </a:lnTo>
                    <a:cubicBezTo>
                      <a:pt x="9568" y="2"/>
                      <a:pt x="9569" y="3"/>
                      <a:pt x="9569" y="4"/>
                    </a:cubicBezTo>
                    <a:cubicBezTo>
                      <a:pt x="9569" y="5"/>
                      <a:pt x="9568" y="6"/>
                      <a:pt x="9567" y="6"/>
                    </a:cubicBezTo>
                    <a:lnTo>
                      <a:pt x="9567" y="6"/>
                    </a:lnTo>
                    <a:cubicBezTo>
                      <a:pt x="9566" y="6"/>
                      <a:pt x="9565" y="5"/>
                      <a:pt x="9565" y="4"/>
                    </a:cubicBezTo>
                    <a:cubicBezTo>
                      <a:pt x="9565" y="3"/>
                      <a:pt x="9566" y="2"/>
                      <a:pt x="9567" y="2"/>
                    </a:cubicBezTo>
                    <a:close/>
                    <a:moveTo>
                      <a:pt x="9575" y="2"/>
                    </a:moveTo>
                    <a:lnTo>
                      <a:pt x="9575" y="2"/>
                    </a:lnTo>
                    <a:cubicBezTo>
                      <a:pt x="9576" y="2"/>
                      <a:pt x="9577" y="3"/>
                      <a:pt x="9577" y="4"/>
                    </a:cubicBezTo>
                    <a:cubicBezTo>
                      <a:pt x="9577" y="5"/>
                      <a:pt x="9576" y="6"/>
                      <a:pt x="9575" y="6"/>
                    </a:cubicBezTo>
                    <a:lnTo>
                      <a:pt x="9575" y="6"/>
                    </a:lnTo>
                    <a:cubicBezTo>
                      <a:pt x="9574" y="6"/>
                      <a:pt x="9573" y="5"/>
                      <a:pt x="9573" y="4"/>
                    </a:cubicBezTo>
                    <a:cubicBezTo>
                      <a:pt x="9573" y="3"/>
                      <a:pt x="9574" y="2"/>
                      <a:pt x="9575" y="2"/>
                    </a:cubicBezTo>
                    <a:close/>
                    <a:moveTo>
                      <a:pt x="9583" y="2"/>
                    </a:moveTo>
                    <a:lnTo>
                      <a:pt x="9583" y="2"/>
                    </a:lnTo>
                    <a:cubicBezTo>
                      <a:pt x="9584" y="2"/>
                      <a:pt x="9585" y="3"/>
                      <a:pt x="9585" y="4"/>
                    </a:cubicBezTo>
                    <a:cubicBezTo>
                      <a:pt x="9585" y="5"/>
                      <a:pt x="9584" y="6"/>
                      <a:pt x="9583" y="6"/>
                    </a:cubicBezTo>
                    <a:lnTo>
                      <a:pt x="9583" y="6"/>
                    </a:lnTo>
                    <a:cubicBezTo>
                      <a:pt x="9582" y="6"/>
                      <a:pt x="9581" y="5"/>
                      <a:pt x="9581" y="4"/>
                    </a:cubicBezTo>
                    <a:cubicBezTo>
                      <a:pt x="9581" y="3"/>
                      <a:pt x="9582" y="2"/>
                      <a:pt x="9583" y="2"/>
                    </a:cubicBezTo>
                    <a:close/>
                    <a:moveTo>
                      <a:pt x="9591" y="2"/>
                    </a:moveTo>
                    <a:lnTo>
                      <a:pt x="9591" y="2"/>
                    </a:lnTo>
                    <a:cubicBezTo>
                      <a:pt x="9592" y="2"/>
                      <a:pt x="9593" y="3"/>
                      <a:pt x="9593" y="4"/>
                    </a:cubicBezTo>
                    <a:cubicBezTo>
                      <a:pt x="9593" y="5"/>
                      <a:pt x="9592" y="6"/>
                      <a:pt x="9591" y="6"/>
                    </a:cubicBezTo>
                    <a:lnTo>
                      <a:pt x="9591" y="6"/>
                    </a:lnTo>
                    <a:cubicBezTo>
                      <a:pt x="9590" y="6"/>
                      <a:pt x="9589" y="5"/>
                      <a:pt x="9589" y="4"/>
                    </a:cubicBezTo>
                    <a:cubicBezTo>
                      <a:pt x="9589" y="3"/>
                      <a:pt x="9590" y="2"/>
                      <a:pt x="9591" y="2"/>
                    </a:cubicBezTo>
                    <a:close/>
                    <a:moveTo>
                      <a:pt x="9599" y="2"/>
                    </a:moveTo>
                    <a:lnTo>
                      <a:pt x="9599" y="2"/>
                    </a:lnTo>
                    <a:cubicBezTo>
                      <a:pt x="9600" y="2"/>
                      <a:pt x="9601" y="3"/>
                      <a:pt x="9601" y="4"/>
                    </a:cubicBezTo>
                    <a:cubicBezTo>
                      <a:pt x="9601" y="5"/>
                      <a:pt x="9600" y="6"/>
                      <a:pt x="9599" y="6"/>
                    </a:cubicBezTo>
                    <a:lnTo>
                      <a:pt x="9599" y="6"/>
                    </a:lnTo>
                    <a:cubicBezTo>
                      <a:pt x="9598" y="6"/>
                      <a:pt x="9597" y="5"/>
                      <a:pt x="9597" y="4"/>
                    </a:cubicBezTo>
                    <a:cubicBezTo>
                      <a:pt x="9597" y="3"/>
                      <a:pt x="9598" y="2"/>
                      <a:pt x="9599" y="2"/>
                    </a:cubicBezTo>
                    <a:close/>
                    <a:moveTo>
                      <a:pt x="9607" y="2"/>
                    </a:moveTo>
                    <a:lnTo>
                      <a:pt x="9607" y="2"/>
                    </a:lnTo>
                    <a:cubicBezTo>
                      <a:pt x="9608" y="2"/>
                      <a:pt x="9609" y="3"/>
                      <a:pt x="9609" y="4"/>
                    </a:cubicBezTo>
                    <a:cubicBezTo>
                      <a:pt x="9609" y="5"/>
                      <a:pt x="9608" y="6"/>
                      <a:pt x="9607" y="6"/>
                    </a:cubicBezTo>
                    <a:lnTo>
                      <a:pt x="9607" y="6"/>
                    </a:lnTo>
                    <a:cubicBezTo>
                      <a:pt x="9606" y="6"/>
                      <a:pt x="9605" y="5"/>
                      <a:pt x="9605" y="4"/>
                    </a:cubicBezTo>
                    <a:cubicBezTo>
                      <a:pt x="9605" y="3"/>
                      <a:pt x="9606" y="2"/>
                      <a:pt x="9607" y="2"/>
                    </a:cubicBezTo>
                    <a:close/>
                    <a:moveTo>
                      <a:pt x="9615" y="2"/>
                    </a:moveTo>
                    <a:lnTo>
                      <a:pt x="9615" y="2"/>
                    </a:lnTo>
                    <a:cubicBezTo>
                      <a:pt x="9616" y="2"/>
                      <a:pt x="9617" y="3"/>
                      <a:pt x="9617" y="4"/>
                    </a:cubicBezTo>
                    <a:cubicBezTo>
                      <a:pt x="9617" y="5"/>
                      <a:pt x="9616" y="6"/>
                      <a:pt x="9615" y="6"/>
                    </a:cubicBezTo>
                    <a:lnTo>
                      <a:pt x="9615" y="6"/>
                    </a:lnTo>
                    <a:cubicBezTo>
                      <a:pt x="9614" y="6"/>
                      <a:pt x="9613" y="5"/>
                      <a:pt x="9613" y="4"/>
                    </a:cubicBezTo>
                    <a:cubicBezTo>
                      <a:pt x="9613" y="3"/>
                      <a:pt x="9614" y="2"/>
                      <a:pt x="9615" y="2"/>
                    </a:cubicBezTo>
                    <a:close/>
                    <a:moveTo>
                      <a:pt x="9623" y="2"/>
                    </a:moveTo>
                    <a:lnTo>
                      <a:pt x="9623" y="2"/>
                    </a:lnTo>
                    <a:cubicBezTo>
                      <a:pt x="9624" y="2"/>
                      <a:pt x="9625" y="3"/>
                      <a:pt x="9625" y="4"/>
                    </a:cubicBezTo>
                    <a:cubicBezTo>
                      <a:pt x="9625" y="5"/>
                      <a:pt x="9624" y="6"/>
                      <a:pt x="9623" y="6"/>
                    </a:cubicBezTo>
                    <a:lnTo>
                      <a:pt x="9623" y="6"/>
                    </a:lnTo>
                    <a:cubicBezTo>
                      <a:pt x="9622" y="6"/>
                      <a:pt x="9621" y="5"/>
                      <a:pt x="9621" y="4"/>
                    </a:cubicBezTo>
                    <a:cubicBezTo>
                      <a:pt x="9621" y="3"/>
                      <a:pt x="9622" y="2"/>
                      <a:pt x="9623" y="2"/>
                    </a:cubicBezTo>
                    <a:close/>
                    <a:moveTo>
                      <a:pt x="9631" y="2"/>
                    </a:moveTo>
                    <a:lnTo>
                      <a:pt x="9631" y="2"/>
                    </a:lnTo>
                    <a:cubicBezTo>
                      <a:pt x="9632" y="2"/>
                      <a:pt x="9633" y="3"/>
                      <a:pt x="9633" y="4"/>
                    </a:cubicBezTo>
                    <a:cubicBezTo>
                      <a:pt x="9633" y="5"/>
                      <a:pt x="9632" y="6"/>
                      <a:pt x="9631" y="6"/>
                    </a:cubicBezTo>
                    <a:lnTo>
                      <a:pt x="9631" y="6"/>
                    </a:lnTo>
                    <a:cubicBezTo>
                      <a:pt x="9630" y="6"/>
                      <a:pt x="9629" y="5"/>
                      <a:pt x="9629" y="4"/>
                    </a:cubicBezTo>
                    <a:cubicBezTo>
                      <a:pt x="9629" y="3"/>
                      <a:pt x="9630" y="2"/>
                      <a:pt x="9631" y="2"/>
                    </a:cubicBezTo>
                    <a:close/>
                    <a:moveTo>
                      <a:pt x="9639" y="2"/>
                    </a:moveTo>
                    <a:lnTo>
                      <a:pt x="9639" y="2"/>
                    </a:lnTo>
                    <a:cubicBezTo>
                      <a:pt x="9640" y="2"/>
                      <a:pt x="9641" y="3"/>
                      <a:pt x="9641" y="4"/>
                    </a:cubicBezTo>
                    <a:cubicBezTo>
                      <a:pt x="9641" y="5"/>
                      <a:pt x="9640" y="6"/>
                      <a:pt x="9639" y="6"/>
                    </a:cubicBezTo>
                    <a:lnTo>
                      <a:pt x="9639" y="6"/>
                    </a:lnTo>
                    <a:cubicBezTo>
                      <a:pt x="9638" y="6"/>
                      <a:pt x="9637" y="5"/>
                      <a:pt x="9637" y="4"/>
                    </a:cubicBezTo>
                    <a:cubicBezTo>
                      <a:pt x="9637" y="3"/>
                      <a:pt x="9638" y="2"/>
                      <a:pt x="9639" y="2"/>
                    </a:cubicBezTo>
                    <a:close/>
                    <a:moveTo>
                      <a:pt x="9647" y="2"/>
                    </a:moveTo>
                    <a:lnTo>
                      <a:pt x="9647" y="2"/>
                    </a:lnTo>
                    <a:cubicBezTo>
                      <a:pt x="9648" y="2"/>
                      <a:pt x="9649" y="3"/>
                      <a:pt x="9649" y="4"/>
                    </a:cubicBezTo>
                    <a:cubicBezTo>
                      <a:pt x="9649" y="5"/>
                      <a:pt x="9648" y="6"/>
                      <a:pt x="9647" y="6"/>
                    </a:cubicBezTo>
                    <a:lnTo>
                      <a:pt x="9647" y="6"/>
                    </a:lnTo>
                    <a:cubicBezTo>
                      <a:pt x="9646" y="6"/>
                      <a:pt x="9645" y="5"/>
                      <a:pt x="9645" y="4"/>
                    </a:cubicBezTo>
                    <a:cubicBezTo>
                      <a:pt x="9645" y="3"/>
                      <a:pt x="9646" y="2"/>
                      <a:pt x="9647" y="2"/>
                    </a:cubicBezTo>
                    <a:close/>
                    <a:moveTo>
                      <a:pt x="9655" y="2"/>
                    </a:moveTo>
                    <a:lnTo>
                      <a:pt x="9655" y="2"/>
                    </a:lnTo>
                    <a:cubicBezTo>
                      <a:pt x="9656" y="2"/>
                      <a:pt x="9657" y="3"/>
                      <a:pt x="9657" y="4"/>
                    </a:cubicBezTo>
                    <a:cubicBezTo>
                      <a:pt x="9657" y="5"/>
                      <a:pt x="9656" y="6"/>
                      <a:pt x="9655" y="6"/>
                    </a:cubicBezTo>
                    <a:lnTo>
                      <a:pt x="9655" y="6"/>
                    </a:lnTo>
                    <a:cubicBezTo>
                      <a:pt x="9654" y="6"/>
                      <a:pt x="9653" y="5"/>
                      <a:pt x="9653" y="4"/>
                    </a:cubicBezTo>
                    <a:cubicBezTo>
                      <a:pt x="9653" y="3"/>
                      <a:pt x="9654" y="2"/>
                      <a:pt x="9655" y="2"/>
                    </a:cubicBezTo>
                    <a:close/>
                    <a:moveTo>
                      <a:pt x="9663" y="2"/>
                    </a:moveTo>
                    <a:lnTo>
                      <a:pt x="9663" y="2"/>
                    </a:lnTo>
                    <a:cubicBezTo>
                      <a:pt x="9664" y="2"/>
                      <a:pt x="9665" y="3"/>
                      <a:pt x="9665" y="4"/>
                    </a:cubicBezTo>
                    <a:cubicBezTo>
                      <a:pt x="9665" y="5"/>
                      <a:pt x="9664" y="6"/>
                      <a:pt x="9663" y="6"/>
                    </a:cubicBezTo>
                    <a:lnTo>
                      <a:pt x="9663" y="6"/>
                    </a:lnTo>
                    <a:cubicBezTo>
                      <a:pt x="9662" y="6"/>
                      <a:pt x="9661" y="5"/>
                      <a:pt x="9661" y="4"/>
                    </a:cubicBezTo>
                    <a:cubicBezTo>
                      <a:pt x="9661" y="3"/>
                      <a:pt x="9662" y="2"/>
                      <a:pt x="9663" y="2"/>
                    </a:cubicBezTo>
                    <a:close/>
                    <a:moveTo>
                      <a:pt x="9671" y="2"/>
                    </a:moveTo>
                    <a:lnTo>
                      <a:pt x="9671" y="2"/>
                    </a:lnTo>
                    <a:cubicBezTo>
                      <a:pt x="9672" y="2"/>
                      <a:pt x="9673" y="3"/>
                      <a:pt x="9673" y="4"/>
                    </a:cubicBezTo>
                    <a:cubicBezTo>
                      <a:pt x="9673" y="5"/>
                      <a:pt x="9672" y="6"/>
                      <a:pt x="9671" y="6"/>
                    </a:cubicBezTo>
                    <a:lnTo>
                      <a:pt x="9671" y="6"/>
                    </a:lnTo>
                    <a:cubicBezTo>
                      <a:pt x="9670" y="6"/>
                      <a:pt x="9669" y="5"/>
                      <a:pt x="9669" y="4"/>
                    </a:cubicBezTo>
                    <a:cubicBezTo>
                      <a:pt x="9669" y="3"/>
                      <a:pt x="9670" y="2"/>
                      <a:pt x="9671" y="2"/>
                    </a:cubicBezTo>
                    <a:close/>
                    <a:moveTo>
                      <a:pt x="9679" y="2"/>
                    </a:moveTo>
                    <a:lnTo>
                      <a:pt x="9679" y="2"/>
                    </a:lnTo>
                    <a:cubicBezTo>
                      <a:pt x="9680" y="2"/>
                      <a:pt x="9681" y="3"/>
                      <a:pt x="9681" y="4"/>
                    </a:cubicBezTo>
                    <a:cubicBezTo>
                      <a:pt x="9681" y="5"/>
                      <a:pt x="9680" y="6"/>
                      <a:pt x="9679" y="6"/>
                    </a:cubicBezTo>
                    <a:lnTo>
                      <a:pt x="9679" y="6"/>
                    </a:lnTo>
                    <a:cubicBezTo>
                      <a:pt x="9678" y="6"/>
                      <a:pt x="9677" y="5"/>
                      <a:pt x="9677" y="4"/>
                    </a:cubicBezTo>
                    <a:cubicBezTo>
                      <a:pt x="9677" y="3"/>
                      <a:pt x="9678" y="2"/>
                      <a:pt x="9679" y="2"/>
                    </a:cubicBezTo>
                    <a:close/>
                    <a:moveTo>
                      <a:pt x="9687" y="2"/>
                    </a:moveTo>
                    <a:lnTo>
                      <a:pt x="9687" y="2"/>
                    </a:lnTo>
                    <a:cubicBezTo>
                      <a:pt x="9688" y="2"/>
                      <a:pt x="9689" y="3"/>
                      <a:pt x="9689" y="4"/>
                    </a:cubicBezTo>
                    <a:cubicBezTo>
                      <a:pt x="9689" y="5"/>
                      <a:pt x="9688" y="6"/>
                      <a:pt x="9687" y="6"/>
                    </a:cubicBezTo>
                    <a:lnTo>
                      <a:pt x="9687" y="6"/>
                    </a:lnTo>
                    <a:cubicBezTo>
                      <a:pt x="9686" y="6"/>
                      <a:pt x="9685" y="5"/>
                      <a:pt x="9685" y="4"/>
                    </a:cubicBezTo>
                    <a:cubicBezTo>
                      <a:pt x="9685" y="3"/>
                      <a:pt x="9686" y="2"/>
                      <a:pt x="9687" y="2"/>
                    </a:cubicBezTo>
                    <a:close/>
                    <a:moveTo>
                      <a:pt x="9695" y="2"/>
                    </a:moveTo>
                    <a:lnTo>
                      <a:pt x="9695" y="2"/>
                    </a:lnTo>
                    <a:cubicBezTo>
                      <a:pt x="9696" y="2"/>
                      <a:pt x="9697" y="3"/>
                      <a:pt x="9697" y="4"/>
                    </a:cubicBezTo>
                    <a:cubicBezTo>
                      <a:pt x="9697" y="5"/>
                      <a:pt x="9696" y="6"/>
                      <a:pt x="9695" y="6"/>
                    </a:cubicBezTo>
                    <a:lnTo>
                      <a:pt x="9695" y="6"/>
                    </a:lnTo>
                    <a:cubicBezTo>
                      <a:pt x="9694" y="6"/>
                      <a:pt x="9693" y="5"/>
                      <a:pt x="9693" y="4"/>
                    </a:cubicBezTo>
                    <a:cubicBezTo>
                      <a:pt x="9693" y="3"/>
                      <a:pt x="9694" y="2"/>
                      <a:pt x="9695" y="2"/>
                    </a:cubicBezTo>
                    <a:close/>
                    <a:moveTo>
                      <a:pt x="9703" y="2"/>
                    </a:moveTo>
                    <a:lnTo>
                      <a:pt x="9703" y="2"/>
                    </a:lnTo>
                    <a:cubicBezTo>
                      <a:pt x="9704" y="2"/>
                      <a:pt x="9705" y="3"/>
                      <a:pt x="9705" y="4"/>
                    </a:cubicBezTo>
                    <a:cubicBezTo>
                      <a:pt x="9705" y="5"/>
                      <a:pt x="9704" y="6"/>
                      <a:pt x="9703" y="6"/>
                    </a:cubicBezTo>
                    <a:lnTo>
                      <a:pt x="9703" y="6"/>
                    </a:lnTo>
                    <a:cubicBezTo>
                      <a:pt x="9702" y="6"/>
                      <a:pt x="9701" y="5"/>
                      <a:pt x="9701" y="4"/>
                    </a:cubicBezTo>
                    <a:cubicBezTo>
                      <a:pt x="9701" y="3"/>
                      <a:pt x="9702" y="2"/>
                      <a:pt x="9703" y="2"/>
                    </a:cubicBezTo>
                    <a:close/>
                    <a:moveTo>
                      <a:pt x="9711" y="2"/>
                    </a:moveTo>
                    <a:lnTo>
                      <a:pt x="9711" y="2"/>
                    </a:lnTo>
                    <a:cubicBezTo>
                      <a:pt x="9712" y="2"/>
                      <a:pt x="9713" y="3"/>
                      <a:pt x="9713" y="4"/>
                    </a:cubicBezTo>
                    <a:cubicBezTo>
                      <a:pt x="9713" y="5"/>
                      <a:pt x="9712" y="6"/>
                      <a:pt x="9711" y="6"/>
                    </a:cubicBezTo>
                    <a:lnTo>
                      <a:pt x="9711" y="6"/>
                    </a:lnTo>
                    <a:cubicBezTo>
                      <a:pt x="9710" y="6"/>
                      <a:pt x="9709" y="5"/>
                      <a:pt x="9709" y="4"/>
                    </a:cubicBezTo>
                    <a:cubicBezTo>
                      <a:pt x="9709" y="3"/>
                      <a:pt x="9710" y="2"/>
                      <a:pt x="9711" y="2"/>
                    </a:cubicBezTo>
                    <a:close/>
                    <a:moveTo>
                      <a:pt x="9719" y="2"/>
                    </a:moveTo>
                    <a:lnTo>
                      <a:pt x="9719" y="2"/>
                    </a:lnTo>
                    <a:cubicBezTo>
                      <a:pt x="9720" y="2"/>
                      <a:pt x="9721" y="3"/>
                      <a:pt x="9721" y="4"/>
                    </a:cubicBezTo>
                    <a:cubicBezTo>
                      <a:pt x="9721" y="5"/>
                      <a:pt x="9720" y="6"/>
                      <a:pt x="9719" y="6"/>
                    </a:cubicBezTo>
                    <a:lnTo>
                      <a:pt x="9719" y="6"/>
                    </a:lnTo>
                    <a:cubicBezTo>
                      <a:pt x="9718" y="6"/>
                      <a:pt x="9717" y="5"/>
                      <a:pt x="9717" y="4"/>
                    </a:cubicBezTo>
                    <a:cubicBezTo>
                      <a:pt x="9717" y="3"/>
                      <a:pt x="9718" y="2"/>
                      <a:pt x="9719" y="2"/>
                    </a:cubicBezTo>
                    <a:close/>
                    <a:moveTo>
                      <a:pt x="9727" y="2"/>
                    </a:moveTo>
                    <a:lnTo>
                      <a:pt x="9727" y="2"/>
                    </a:lnTo>
                    <a:cubicBezTo>
                      <a:pt x="9728" y="2"/>
                      <a:pt x="9729" y="3"/>
                      <a:pt x="9729" y="4"/>
                    </a:cubicBezTo>
                    <a:cubicBezTo>
                      <a:pt x="9729" y="5"/>
                      <a:pt x="9728" y="6"/>
                      <a:pt x="9727" y="6"/>
                    </a:cubicBezTo>
                    <a:lnTo>
                      <a:pt x="9727" y="6"/>
                    </a:lnTo>
                    <a:cubicBezTo>
                      <a:pt x="9726" y="6"/>
                      <a:pt x="9725" y="5"/>
                      <a:pt x="9725" y="4"/>
                    </a:cubicBezTo>
                    <a:cubicBezTo>
                      <a:pt x="9725" y="3"/>
                      <a:pt x="9726" y="2"/>
                      <a:pt x="9727" y="2"/>
                    </a:cubicBezTo>
                    <a:close/>
                    <a:moveTo>
                      <a:pt x="9735" y="2"/>
                    </a:moveTo>
                    <a:lnTo>
                      <a:pt x="9735" y="2"/>
                    </a:lnTo>
                    <a:cubicBezTo>
                      <a:pt x="9736" y="2"/>
                      <a:pt x="9737" y="3"/>
                      <a:pt x="9737" y="4"/>
                    </a:cubicBezTo>
                    <a:cubicBezTo>
                      <a:pt x="9737" y="5"/>
                      <a:pt x="9736" y="6"/>
                      <a:pt x="9735" y="6"/>
                    </a:cubicBezTo>
                    <a:lnTo>
                      <a:pt x="9735" y="6"/>
                    </a:lnTo>
                    <a:cubicBezTo>
                      <a:pt x="9734" y="6"/>
                      <a:pt x="9733" y="5"/>
                      <a:pt x="9733" y="4"/>
                    </a:cubicBezTo>
                    <a:cubicBezTo>
                      <a:pt x="9733" y="3"/>
                      <a:pt x="9734" y="2"/>
                      <a:pt x="9735" y="2"/>
                    </a:cubicBezTo>
                    <a:close/>
                    <a:moveTo>
                      <a:pt x="9743" y="2"/>
                    </a:moveTo>
                    <a:lnTo>
                      <a:pt x="9743" y="2"/>
                    </a:lnTo>
                    <a:cubicBezTo>
                      <a:pt x="9744" y="2"/>
                      <a:pt x="9745" y="3"/>
                      <a:pt x="9745" y="4"/>
                    </a:cubicBezTo>
                    <a:cubicBezTo>
                      <a:pt x="9745" y="5"/>
                      <a:pt x="9744" y="6"/>
                      <a:pt x="9743" y="6"/>
                    </a:cubicBezTo>
                    <a:lnTo>
                      <a:pt x="9743" y="6"/>
                    </a:lnTo>
                    <a:cubicBezTo>
                      <a:pt x="9742" y="6"/>
                      <a:pt x="9741" y="5"/>
                      <a:pt x="9741" y="4"/>
                    </a:cubicBezTo>
                    <a:cubicBezTo>
                      <a:pt x="9741" y="3"/>
                      <a:pt x="9742" y="2"/>
                      <a:pt x="9743" y="2"/>
                    </a:cubicBezTo>
                    <a:close/>
                    <a:moveTo>
                      <a:pt x="9751" y="2"/>
                    </a:moveTo>
                    <a:lnTo>
                      <a:pt x="9751" y="2"/>
                    </a:lnTo>
                    <a:cubicBezTo>
                      <a:pt x="9752" y="2"/>
                      <a:pt x="9753" y="3"/>
                      <a:pt x="9753" y="4"/>
                    </a:cubicBezTo>
                    <a:cubicBezTo>
                      <a:pt x="9753" y="5"/>
                      <a:pt x="9752" y="6"/>
                      <a:pt x="9751" y="6"/>
                    </a:cubicBezTo>
                    <a:lnTo>
                      <a:pt x="9751" y="6"/>
                    </a:lnTo>
                    <a:cubicBezTo>
                      <a:pt x="9750" y="6"/>
                      <a:pt x="9749" y="5"/>
                      <a:pt x="9749" y="4"/>
                    </a:cubicBezTo>
                    <a:cubicBezTo>
                      <a:pt x="9749" y="3"/>
                      <a:pt x="9750" y="2"/>
                      <a:pt x="9751" y="2"/>
                    </a:cubicBezTo>
                    <a:close/>
                    <a:moveTo>
                      <a:pt x="9759" y="2"/>
                    </a:moveTo>
                    <a:lnTo>
                      <a:pt x="9759" y="2"/>
                    </a:lnTo>
                    <a:cubicBezTo>
                      <a:pt x="9760" y="2"/>
                      <a:pt x="9761" y="3"/>
                      <a:pt x="9761" y="4"/>
                    </a:cubicBezTo>
                    <a:cubicBezTo>
                      <a:pt x="9761" y="5"/>
                      <a:pt x="9760" y="6"/>
                      <a:pt x="9759" y="6"/>
                    </a:cubicBezTo>
                    <a:lnTo>
                      <a:pt x="9759" y="6"/>
                    </a:lnTo>
                    <a:cubicBezTo>
                      <a:pt x="9758" y="6"/>
                      <a:pt x="9757" y="5"/>
                      <a:pt x="9757" y="4"/>
                    </a:cubicBezTo>
                    <a:cubicBezTo>
                      <a:pt x="9757" y="3"/>
                      <a:pt x="9758" y="2"/>
                      <a:pt x="9759" y="2"/>
                    </a:cubicBezTo>
                    <a:close/>
                    <a:moveTo>
                      <a:pt x="9767" y="2"/>
                    </a:moveTo>
                    <a:lnTo>
                      <a:pt x="9767" y="2"/>
                    </a:lnTo>
                    <a:cubicBezTo>
                      <a:pt x="9768" y="2"/>
                      <a:pt x="9769" y="3"/>
                      <a:pt x="9769" y="4"/>
                    </a:cubicBezTo>
                    <a:cubicBezTo>
                      <a:pt x="9769" y="5"/>
                      <a:pt x="9768" y="6"/>
                      <a:pt x="9767" y="6"/>
                    </a:cubicBezTo>
                    <a:lnTo>
                      <a:pt x="9767" y="6"/>
                    </a:lnTo>
                    <a:cubicBezTo>
                      <a:pt x="9766" y="6"/>
                      <a:pt x="9765" y="5"/>
                      <a:pt x="9765" y="4"/>
                    </a:cubicBezTo>
                    <a:cubicBezTo>
                      <a:pt x="9765" y="3"/>
                      <a:pt x="9766" y="2"/>
                      <a:pt x="9767" y="2"/>
                    </a:cubicBezTo>
                    <a:close/>
                    <a:moveTo>
                      <a:pt x="9775" y="2"/>
                    </a:moveTo>
                    <a:lnTo>
                      <a:pt x="9775" y="2"/>
                    </a:lnTo>
                    <a:cubicBezTo>
                      <a:pt x="9776" y="2"/>
                      <a:pt x="9777" y="3"/>
                      <a:pt x="9777" y="4"/>
                    </a:cubicBezTo>
                    <a:cubicBezTo>
                      <a:pt x="9777" y="5"/>
                      <a:pt x="9776" y="6"/>
                      <a:pt x="9775" y="6"/>
                    </a:cubicBezTo>
                    <a:lnTo>
                      <a:pt x="9775" y="6"/>
                    </a:lnTo>
                    <a:cubicBezTo>
                      <a:pt x="9774" y="6"/>
                      <a:pt x="9773" y="5"/>
                      <a:pt x="9773" y="4"/>
                    </a:cubicBezTo>
                    <a:cubicBezTo>
                      <a:pt x="9773" y="3"/>
                      <a:pt x="9774" y="2"/>
                      <a:pt x="9775" y="2"/>
                    </a:cubicBezTo>
                    <a:close/>
                    <a:moveTo>
                      <a:pt x="9783" y="2"/>
                    </a:moveTo>
                    <a:lnTo>
                      <a:pt x="9783" y="2"/>
                    </a:lnTo>
                    <a:cubicBezTo>
                      <a:pt x="9784" y="2"/>
                      <a:pt x="9785" y="3"/>
                      <a:pt x="9785" y="4"/>
                    </a:cubicBezTo>
                    <a:cubicBezTo>
                      <a:pt x="9785" y="5"/>
                      <a:pt x="9784" y="6"/>
                      <a:pt x="9783" y="6"/>
                    </a:cubicBezTo>
                    <a:lnTo>
                      <a:pt x="9783" y="6"/>
                    </a:lnTo>
                    <a:cubicBezTo>
                      <a:pt x="9782" y="6"/>
                      <a:pt x="9781" y="5"/>
                      <a:pt x="9781" y="4"/>
                    </a:cubicBezTo>
                    <a:cubicBezTo>
                      <a:pt x="9781" y="3"/>
                      <a:pt x="9782" y="2"/>
                      <a:pt x="9783" y="2"/>
                    </a:cubicBezTo>
                    <a:close/>
                    <a:moveTo>
                      <a:pt x="9791" y="2"/>
                    </a:moveTo>
                    <a:lnTo>
                      <a:pt x="9791" y="2"/>
                    </a:lnTo>
                    <a:cubicBezTo>
                      <a:pt x="9792" y="2"/>
                      <a:pt x="9793" y="3"/>
                      <a:pt x="9793" y="4"/>
                    </a:cubicBezTo>
                    <a:cubicBezTo>
                      <a:pt x="9793" y="5"/>
                      <a:pt x="9792" y="6"/>
                      <a:pt x="9791" y="6"/>
                    </a:cubicBezTo>
                    <a:lnTo>
                      <a:pt x="9791" y="6"/>
                    </a:lnTo>
                    <a:cubicBezTo>
                      <a:pt x="9790" y="6"/>
                      <a:pt x="9789" y="5"/>
                      <a:pt x="9789" y="4"/>
                    </a:cubicBezTo>
                    <a:cubicBezTo>
                      <a:pt x="9789" y="3"/>
                      <a:pt x="9790" y="2"/>
                      <a:pt x="9791" y="2"/>
                    </a:cubicBezTo>
                    <a:close/>
                    <a:moveTo>
                      <a:pt x="9799" y="2"/>
                    </a:moveTo>
                    <a:lnTo>
                      <a:pt x="9799" y="2"/>
                    </a:lnTo>
                    <a:cubicBezTo>
                      <a:pt x="9800" y="2"/>
                      <a:pt x="9801" y="3"/>
                      <a:pt x="9801" y="4"/>
                    </a:cubicBezTo>
                    <a:cubicBezTo>
                      <a:pt x="9801" y="5"/>
                      <a:pt x="9800" y="6"/>
                      <a:pt x="9799" y="6"/>
                    </a:cubicBezTo>
                    <a:lnTo>
                      <a:pt x="9799" y="6"/>
                    </a:lnTo>
                    <a:cubicBezTo>
                      <a:pt x="9798" y="6"/>
                      <a:pt x="9797" y="5"/>
                      <a:pt x="9797" y="4"/>
                    </a:cubicBezTo>
                    <a:cubicBezTo>
                      <a:pt x="9797" y="3"/>
                      <a:pt x="9798" y="2"/>
                      <a:pt x="9799" y="2"/>
                    </a:cubicBezTo>
                    <a:close/>
                    <a:moveTo>
                      <a:pt x="9807" y="2"/>
                    </a:moveTo>
                    <a:lnTo>
                      <a:pt x="9807" y="2"/>
                    </a:lnTo>
                    <a:cubicBezTo>
                      <a:pt x="9808" y="2"/>
                      <a:pt x="9809" y="3"/>
                      <a:pt x="9809" y="4"/>
                    </a:cubicBezTo>
                    <a:cubicBezTo>
                      <a:pt x="9809" y="5"/>
                      <a:pt x="9808" y="6"/>
                      <a:pt x="9807" y="6"/>
                    </a:cubicBezTo>
                    <a:lnTo>
                      <a:pt x="9807" y="6"/>
                    </a:lnTo>
                    <a:cubicBezTo>
                      <a:pt x="9806" y="6"/>
                      <a:pt x="9805" y="5"/>
                      <a:pt x="9805" y="4"/>
                    </a:cubicBezTo>
                    <a:cubicBezTo>
                      <a:pt x="9805" y="3"/>
                      <a:pt x="9806" y="2"/>
                      <a:pt x="9807" y="2"/>
                    </a:cubicBezTo>
                    <a:close/>
                    <a:moveTo>
                      <a:pt x="9815" y="2"/>
                    </a:moveTo>
                    <a:lnTo>
                      <a:pt x="9815" y="2"/>
                    </a:lnTo>
                    <a:cubicBezTo>
                      <a:pt x="9816" y="2"/>
                      <a:pt x="9817" y="3"/>
                      <a:pt x="9817" y="4"/>
                    </a:cubicBezTo>
                    <a:cubicBezTo>
                      <a:pt x="9817" y="5"/>
                      <a:pt x="9816" y="6"/>
                      <a:pt x="9815" y="6"/>
                    </a:cubicBezTo>
                    <a:lnTo>
                      <a:pt x="9815" y="6"/>
                    </a:lnTo>
                    <a:cubicBezTo>
                      <a:pt x="9814" y="6"/>
                      <a:pt x="9813" y="5"/>
                      <a:pt x="9813" y="4"/>
                    </a:cubicBezTo>
                    <a:cubicBezTo>
                      <a:pt x="9813" y="3"/>
                      <a:pt x="9814" y="2"/>
                      <a:pt x="9815" y="2"/>
                    </a:cubicBezTo>
                    <a:close/>
                    <a:moveTo>
                      <a:pt x="9823" y="2"/>
                    </a:moveTo>
                    <a:lnTo>
                      <a:pt x="9823" y="2"/>
                    </a:lnTo>
                    <a:cubicBezTo>
                      <a:pt x="9824" y="2"/>
                      <a:pt x="9825" y="3"/>
                      <a:pt x="9825" y="4"/>
                    </a:cubicBezTo>
                    <a:cubicBezTo>
                      <a:pt x="9825" y="5"/>
                      <a:pt x="9824" y="6"/>
                      <a:pt x="9823" y="6"/>
                    </a:cubicBezTo>
                    <a:lnTo>
                      <a:pt x="9823" y="6"/>
                    </a:lnTo>
                    <a:cubicBezTo>
                      <a:pt x="9822" y="6"/>
                      <a:pt x="9821" y="5"/>
                      <a:pt x="9821" y="4"/>
                    </a:cubicBezTo>
                    <a:cubicBezTo>
                      <a:pt x="9821" y="3"/>
                      <a:pt x="9822" y="2"/>
                      <a:pt x="9823" y="2"/>
                    </a:cubicBezTo>
                    <a:close/>
                    <a:moveTo>
                      <a:pt x="9831" y="2"/>
                    </a:moveTo>
                    <a:lnTo>
                      <a:pt x="9831" y="2"/>
                    </a:lnTo>
                    <a:cubicBezTo>
                      <a:pt x="9832" y="2"/>
                      <a:pt x="9833" y="3"/>
                      <a:pt x="9833" y="4"/>
                    </a:cubicBezTo>
                    <a:cubicBezTo>
                      <a:pt x="9833" y="5"/>
                      <a:pt x="9832" y="6"/>
                      <a:pt x="9831" y="6"/>
                    </a:cubicBezTo>
                    <a:lnTo>
                      <a:pt x="9831" y="6"/>
                    </a:lnTo>
                    <a:cubicBezTo>
                      <a:pt x="9830" y="6"/>
                      <a:pt x="9829" y="5"/>
                      <a:pt x="9829" y="4"/>
                    </a:cubicBezTo>
                    <a:cubicBezTo>
                      <a:pt x="9829" y="3"/>
                      <a:pt x="9830" y="2"/>
                      <a:pt x="9831" y="2"/>
                    </a:cubicBezTo>
                    <a:close/>
                    <a:moveTo>
                      <a:pt x="9839" y="2"/>
                    </a:moveTo>
                    <a:lnTo>
                      <a:pt x="9839" y="2"/>
                    </a:lnTo>
                    <a:cubicBezTo>
                      <a:pt x="9840" y="2"/>
                      <a:pt x="9841" y="3"/>
                      <a:pt x="9841" y="4"/>
                    </a:cubicBezTo>
                    <a:cubicBezTo>
                      <a:pt x="9841" y="5"/>
                      <a:pt x="9840" y="6"/>
                      <a:pt x="9839" y="6"/>
                    </a:cubicBezTo>
                    <a:lnTo>
                      <a:pt x="9839" y="6"/>
                    </a:lnTo>
                    <a:cubicBezTo>
                      <a:pt x="9838" y="6"/>
                      <a:pt x="9837" y="5"/>
                      <a:pt x="9837" y="4"/>
                    </a:cubicBezTo>
                    <a:cubicBezTo>
                      <a:pt x="9837" y="3"/>
                      <a:pt x="9838" y="2"/>
                      <a:pt x="9839" y="2"/>
                    </a:cubicBezTo>
                    <a:close/>
                    <a:moveTo>
                      <a:pt x="9847" y="2"/>
                    </a:moveTo>
                    <a:lnTo>
                      <a:pt x="9847" y="2"/>
                    </a:lnTo>
                    <a:cubicBezTo>
                      <a:pt x="9848" y="2"/>
                      <a:pt x="9849" y="3"/>
                      <a:pt x="9849" y="4"/>
                    </a:cubicBezTo>
                    <a:cubicBezTo>
                      <a:pt x="9849" y="5"/>
                      <a:pt x="9848" y="6"/>
                      <a:pt x="9847" y="6"/>
                    </a:cubicBezTo>
                    <a:lnTo>
                      <a:pt x="9847" y="6"/>
                    </a:lnTo>
                    <a:cubicBezTo>
                      <a:pt x="9846" y="6"/>
                      <a:pt x="9845" y="5"/>
                      <a:pt x="9845" y="4"/>
                    </a:cubicBezTo>
                    <a:cubicBezTo>
                      <a:pt x="9845" y="3"/>
                      <a:pt x="9846" y="2"/>
                      <a:pt x="9847" y="2"/>
                    </a:cubicBezTo>
                    <a:close/>
                    <a:moveTo>
                      <a:pt x="9855" y="2"/>
                    </a:moveTo>
                    <a:lnTo>
                      <a:pt x="9855" y="2"/>
                    </a:lnTo>
                    <a:cubicBezTo>
                      <a:pt x="9856" y="2"/>
                      <a:pt x="9857" y="3"/>
                      <a:pt x="9857" y="4"/>
                    </a:cubicBezTo>
                    <a:cubicBezTo>
                      <a:pt x="9857" y="5"/>
                      <a:pt x="9856" y="6"/>
                      <a:pt x="9855" y="6"/>
                    </a:cubicBezTo>
                    <a:lnTo>
                      <a:pt x="9855" y="6"/>
                    </a:lnTo>
                    <a:cubicBezTo>
                      <a:pt x="9854" y="6"/>
                      <a:pt x="9853" y="5"/>
                      <a:pt x="9853" y="4"/>
                    </a:cubicBezTo>
                    <a:cubicBezTo>
                      <a:pt x="9853" y="3"/>
                      <a:pt x="9854" y="2"/>
                      <a:pt x="9855" y="2"/>
                    </a:cubicBezTo>
                    <a:close/>
                    <a:moveTo>
                      <a:pt x="9863" y="2"/>
                    </a:moveTo>
                    <a:lnTo>
                      <a:pt x="9863" y="2"/>
                    </a:lnTo>
                    <a:cubicBezTo>
                      <a:pt x="9864" y="2"/>
                      <a:pt x="9865" y="3"/>
                      <a:pt x="9865" y="4"/>
                    </a:cubicBezTo>
                    <a:cubicBezTo>
                      <a:pt x="9865" y="5"/>
                      <a:pt x="9864" y="6"/>
                      <a:pt x="9863" y="6"/>
                    </a:cubicBezTo>
                    <a:lnTo>
                      <a:pt x="9863" y="6"/>
                    </a:lnTo>
                    <a:cubicBezTo>
                      <a:pt x="9862" y="6"/>
                      <a:pt x="9861" y="5"/>
                      <a:pt x="9861" y="4"/>
                    </a:cubicBezTo>
                    <a:cubicBezTo>
                      <a:pt x="9861" y="3"/>
                      <a:pt x="9862" y="2"/>
                      <a:pt x="9863" y="2"/>
                    </a:cubicBezTo>
                    <a:close/>
                    <a:moveTo>
                      <a:pt x="9871" y="2"/>
                    </a:moveTo>
                    <a:lnTo>
                      <a:pt x="9871" y="2"/>
                    </a:lnTo>
                    <a:cubicBezTo>
                      <a:pt x="9872" y="2"/>
                      <a:pt x="9873" y="3"/>
                      <a:pt x="9873" y="4"/>
                    </a:cubicBezTo>
                    <a:cubicBezTo>
                      <a:pt x="9873" y="5"/>
                      <a:pt x="9872" y="6"/>
                      <a:pt x="9871" y="6"/>
                    </a:cubicBezTo>
                    <a:lnTo>
                      <a:pt x="9871" y="6"/>
                    </a:lnTo>
                    <a:cubicBezTo>
                      <a:pt x="9870" y="6"/>
                      <a:pt x="9869" y="5"/>
                      <a:pt x="9869" y="4"/>
                    </a:cubicBezTo>
                    <a:cubicBezTo>
                      <a:pt x="9869" y="3"/>
                      <a:pt x="9870" y="2"/>
                      <a:pt x="9871" y="2"/>
                    </a:cubicBezTo>
                    <a:close/>
                    <a:moveTo>
                      <a:pt x="9879" y="2"/>
                    </a:moveTo>
                    <a:lnTo>
                      <a:pt x="9879" y="2"/>
                    </a:lnTo>
                    <a:cubicBezTo>
                      <a:pt x="9880" y="2"/>
                      <a:pt x="9881" y="3"/>
                      <a:pt x="9881" y="4"/>
                    </a:cubicBezTo>
                    <a:cubicBezTo>
                      <a:pt x="9881" y="5"/>
                      <a:pt x="9880" y="6"/>
                      <a:pt x="9879" y="6"/>
                    </a:cubicBezTo>
                    <a:lnTo>
                      <a:pt x="9879" y="6"/>
                    </a:lnTo>
                    <a:cubicBezTo>
                      <a:pt x="9878" y="6"/>
                      <a:pt x="9877" y="5"/>
                      <a:pt x="9877" y="4"/>
                    </a:cubicBezTo>
                    <a:cubicBezTo>
                      <a:pt x="9877" y="3"/>
                      <a:pt x="9878" y="2"/>
                      <a:pt x="9879" y="2"/>
                    </a:cubicBezTo>
                    <a:close/>
                    <a:moveTo>
                      <a:pt x="9887" y="2"/>
                    </a:moveTo>
                    <a:lnTo>
                      <a:pt x="9887" y="2"/>
                    </a:lnTo>
                    <a:cubicBezTo>
                      <a:pt x="9888" y="2"/>
                      <a:pt x="9889" y="3"/>
                      <a:pt x="9889" y="4"/>
                    </a:cubicBezTo>
                    <a:cubicBezTo>
                      <a:pt x="9889" y="5"/>
                      <a:pt x="9888" y="6"/>
                      <a:pt x="9887" y="6"/>
                    </a:cubicBezTo>
                    <a:lnTo>
                      <a:pt x="9887" y="6"/>
                    </a:lnTo>
                    <a:cubicBezTo>
                      <a:pt x="9886" y="6"/>
                      <a:pt x="9885" y="5"/>
                      <a:pt x="9885" y="4"/>
                    </a:cubicBezTo>
                    <a:cubicBezTo>
                      <a:pt x="9885" y="3"/>
                      <a:pt x="9886" y="2"/>
                      <a:pt x="9887" y="2"/>
                    </a:cubicBezTo>
                    <a:close/>
                    <a:moveTo>
                      <a:pt x="9895" y="2"/>
                    </a:moveTo>
                    <a:lnTo>
                      <a:pt x="9895" y="2"/>
                    </a:lnTo>
                    <a:cubicBezTo>
                      <a:pt x="9896" y="2"/>
                      <a:pt x="9897" y="3"/>
                      <a:pt x="9897" y="4"/>
                    </a:cubicBezTo>
                    <a:cubicBezTo>
                      <a:pt x="9897" y="5"/>
                      <a:pt x="9896" y="6"/>
                      <a:pt x="9895" y="6"/>
                    </a:cubicBezTo>
                    <a:lnTo>
                      <a:pt x="9895" y="6"/>
                    </a:lnTo>
                    <a:cubicBezTo>
                      <a:pt x="9894" y="6"/>
                      <a:pt x="9893" y="5"/>
                      <a:pt x="9893" y="4"/>
                    </a:cubicBezTo>
                    <a:cubicBezTo>
                      <a:pt x="9893" y="3"/>
                      <a:pt x="9894" y="2"/>
                      <a:pt x="9895" y="2"/>
                    </a:cubicBezTo>
                    <a:close/>
                    <a:moveTo>
                      <a:pt x="9903" y="2"/>
                    </a:moveTo>
                    <a:lnTo>
                      <a:pt x="9903" y="2"/>
                    </a:lnTo>
                    <a:cubicBezTo>
                      <a:pt x="9904" y="2"/>
                      <a:pt x="9905" y="3"/>
                      <a:pt x="9905" y="4"/>
                    </a:cubicBezTo>
                    <a:cubicBezTo>
                      <a:pt x="9905" y="5"/>
                      <a:pt x="9904" y="6"/>
                      <a:pt x="9903" y="6"/>
                    </a:cubicBezTo>
                    <a:lnTo>
                      <a:pt x="9903" y="6"/>
                    </a:lnTo>
                    <a:cubicBezTo>
                      <a:pt x="9902" y="6"/>
                      <a:pt x="9901" y="5"/>
                      <a:pt x="9901" y="4"/>
                    </a:cubicBezTo>
                    <a:cubicBezTo>
                      <a:pt x="9901" y="3"/>
                      <a:pt x="9902" y="2"/>
                      <a:pt x="9903" y="2"/>
                    </a:cubicBezTo>
                    <a:close/>
                    <a:moveTo>
                      <a:pt x="9911" y="2"/>
                    </a:moveTo>
                    <a:lnTo>
                      <a:pt x="9911" y="2"/>
                    </a:lnTo>
                    <a:cubicBezTo>
                      <a:pt x="9912" y="2"/>
                      <a:pt x="9913" y="3"/>
                      <a:pt x="9913" y="4"/>
                    </a:cubicBezTo>
                    <a:cubicBezTo>
                      <a:pt x="9913" y="5"/>
                      <a:pt x="9912" y="6"/>
                      <a:pt x="9911" y="6"/>
                    </a:cubicBezTo>
                    <a:lnTo>
                      <a:pt x="9911" y="6"/>
                    </a:lnTo>
                    <a:cubicBezTo>
                      <a:pt x="9910" y="6"/>
                      <a:pt x="9909" y="5"/>
                      <a:pt x="9909" y="4"/>
                    </a:cubicBezTo>
                    <a:cubicBezTo>
                      <a:pt x="9909" y="3"/>
                      <a:pt x="9910" y="2"/>
                      <a:pt x="9911" y="2"/>
                    </a:cubicBezTo>
                    <a:close/>
                    <a:moveTo>
                      <a:pt x="9919" y="2"/>
                    </a:moveTo>
                    <a:lnTo>
                      <a:pt x="9919" y="2"/>
                    </a:lnTo>
                    <a:cubicBezTo>
                      <a:pt x="9920" y="2"/>
                      <a:pt x="9921" y="3"/>
                      <a:pt x="9921" y="4"/>
                    </a:cubicBezTo>
                    <a:cubicBezTo>
                      <a:pt x="9921" y="5"/>
                      <a:pt x="9920" y="6"/>
                      <a:pt x="9919" y="6"/>
                    </a:cubicBezTo>
                    <a:lnTo>
                      <a:pt x="9919" y="6"/>
                    </a:lnTo>
                    <a:cubicBezTo>
                      <a:pt x="9918" y="6"/>
                      <a:pt x="9917" y="5"/>
                      <a:pt x="9917" y="4"/>
                    </a:cubicBezTo>
                    <a:cubicBezTo>
                      <a:pt x="9917" y="3"/>
                      <a:pt x="9918" y="2"/>
                      <a:pt x="9919" y="2"/>
                    </a:cubicBezTo>
                    <a:close/>
                    <a:moveTo>
                      <a:pt x="9927" y="2"/>
                    </a:moveTo>
                    <a:lnTo>
                      <a:pt x="9927" y="2"/>
                    </a:lnTo>
                    <a:cubicBezTo>
                      <a:pt x="9928" y="2"/>
                      <a:pt x="9929" y="3"/>
                      <a:pt x="9929" y="4"/>
                    </a:cubicBezTo>
                    <a:cubicBezTo>
                      <a:pt x="9929" y="5"/>
                      <a:pt x="9928" y="6"/>
                      <a:pt x="9927" y="6"/>
                    </a:cubicBezTo>
                    <a:lnTo>
                      <a:pt x="9927" y="6"/>
                    </a:lnTo>
                    <a:cubicBezTo>
                      <a:pt x="9926" y="6"/>
                      <a:pt x="9925" y="5"/>
                      <a:pt x="9925" y="4"/>
                    </a:cubicBezTo>
                    <a:cubicBezTo>
                      <a:pt x="9925" y="3"/>
                      <a:pt x="9926" y="2"/>
                      <a:pt x="9927" y="2"/>
                    </a:cubicBezTo>
                    <a:close/>
                    <a:moveTo>
                      <a:pt x="9935" y="2"/>
                    </a:moveTo>
                    <a:lnTo>
                      <a:pt x="9935" y="2"/>
                    </a:lnTo>
                    <a:cubicBezTo>
                      <a:pt x="9936" y="2"/>
                      <a:pt x="9937" y="3"/>
                      <a:pt x="9937" y="4"/>
                    </a:cubicBezTo>
                    <a:cubicBezTo>
                      <a:pt x="9937" y="5"/>
                      <a:pt x="9936" y="6"/>
                      <a:pt x="9935" y="6"/>
                    </a:cubicBezTo>
                    <a:lnTo>
                      <a:pt x="9935" y="6"/>
                    </a:lnTo>
                    <a:cubicBezTo>
                      <a:pt x="9934" y="6"/>
                      <a:pt x="9933" y="5"/>
                      <a:pt x="9933" y="4"/>
                    </a:cubicBezTo>
                    <a:cubicBezTo>
                      <a:pt x="9933" y="3"/>
                      <a:pt x="9934" y="2"/>
                      <a:pt x="9935" y="2"/>
                    </a:cubicBezTo>
                    <a:close/>
                    <a:moveTo>
                      <a:pt x="9943" y="2"/>
                    </a:moveTo>
                    <a:lnTo>
                      <a:pt x="9943" y="2"/>
                    </a:lnTo>
                    <a:cubicBezTo>
                      <a:pt x="9944" y="2"/>
                      <a:pt x="9945" y="3"/>
                      <a:pt x="9945" y="4"/>
                    </a:cubicBezTo>
                    <a:cubicBezTo>
                      <a:pt x="9945" y="5"/>
                      <a:pt x="9944" y="6"/>
                      <a:pt x="9943" y="6"/>
                    </a:cubicBezTo>
                    <a:lnTo>
                      <a:pt x="9943" y="6"/>
                    </a:lnTo>
                    <a:cubicBezTo>
                      <a:pt x="9942" y="6"/>
                      <a:pt x="9941" y="5"/>
                      <a:pt x="9941" y="4"/>
                    </a:cubicBezTo>
                    <a:cubicBezTo>
                      <a:pt x="9941" y="3"/>
                      <a:pt x="9942" y="2"/>
                      <a:pt x="9943" y="2"/>
                    </a:cubicBezTo>
                    <a:close/>
                    <a:moveTo>
                      <a:pt x="9951" y="2"/>
                    </a:moveTo>
                    <a:lnTo>
                      <a:pt x="9951" y="2"/>
                    </a:lnTo>
                    <a:cubicBezTo>
                      <a:pt x="9952" y="2"/>
                      <a:pt x="9953" y="3"/>
                      <a:pt x="9953" y="4"/>
                    </a:cubicBezTo>
                    <a:cubicBezTo>
                      <a:pt x="9953" y="5"/>
                      <a:pt x="9952" y="6"/>
                      <a:pt x="9951" y="6"/>
                    </a:cubicBezTo>
                    <a:lnTo>
                      <a:pt x="9951" y="6"/>
                    </a:lnTo>
                    <a:cubicBezTo>
                      <a:pt x="9950" y="6"/>
                      <a:pt x="9949" y="5"/>
                      <a:pt x="9949" y="4"/>
                    </a:cubicBezTo>
                    <a:cubicBezTo>
                      <a:pt x="9949" y="3"/>
                      <a:pt x="9950" y="2"/>
                      <a:pt x="9951" y="2"/>
                    </a:cubicBezTo>
                    <a:close/>
                    <a:moveTo>
                      <a:pt x="9959" y="2"/>
                    </a:moveTo>
                    <a:lnTo>
                      <a:pt x="9959" y="2"/>
                    </a:lnTo>
                    <a:cubicBezTo>
                      <a:pt x="9960" y="2"/>
                      <a:pt x="9961" y="3"/>
                      <a:pt x="9961" y="4"/>
                    </a:cubicBezTo>
                    <a:cubicBezTo>
                      <a:pt x="9961" y="5"/>
                      <a:pt x="9960" y="6"/>
                      <a:pt x="9959" y="6"/>
                    </a:cubicBezTo>
                    <a:lnTo>
                      <a:pt x="9959" y="6"/>
                    </a:lnTo>
                    <a:cubicBezTo>
                      <a:pt x="9958" y="6"/>
                      <a:pt x="9957" y="5"/>
                      <a:pt x="9957" y="4"/>
                    </a:cubicBezTo>
                    <a:cubicBezTo>
                      <a:pt x="9957" y="3"/>
                      <a:pt x="9958" y="2"/>
                      <a:pt x="9959" y="2"/>
                    </a:cubicBezTo>
                    <a:close/>
                    <a:moveTo>
                      <a:pt x="9967" y="2"/>
                    </a:moveTo>
                    <a:lnTo>
                      <a:pt x="9967" y="2"/>
                    </a:lnTo>
                    <a:cubicBezTo>
                      <a:pt x="9968" y="2"/>
                      <a:pt x="9969" y="3"/>
                      <a:pt x="9969" y="4"/>
                    </a:cubicBezTo>
                    <a:cubicBezTo>
                      <a:pt x="9969" y="5"/>
                      <a:pt x="9968" y="6"/>
                      <a:pt x="9967" y="6"/>
                    </a:cubicBezTo>
                    <a:lnTo>
                      <a:pt x="9967" y="6"/>
                    </a:lnTo>
                    <a:cubicBezTo>
                      <a:pt x="9966" y="6"/>
                      <a:pt x="9965" y="5"/>
                      <a:pt x="9965" y="4"/>
                    </a:cubicBezTo>
                    <a:cubicBezTo>
                      <a:pt x="9965" y="3"/>
                      <a:pt x="9966" y="2"/>
                      <a:pt x="9967" y="2"/>
                    </a:cubicBezTo>
                    <a:close/>
                    <a:moveTo>
                      <a:pt x="9975" y="2"/>
                    </a:moveTo>
                    <a:lnTo>
                      <a:pt x="9975" y="2"/>
                    </a:lnTo>
                    <a:cubicBezTo>
                      <a:pt x="9976" y="2"/>
                      <a:pt x="9977" y="3"/>
                      <a:pt x="9977" y="4"/>
                    </a:cubicBezTo>
                    <a:cubicBezTo>
                      <a:pt x="9977" y="5"/>
                      <a:pt x="9976" y="6"/>
                      <a:pt x="9975" y="6"/>
                    </a:cubicBezTo>
                    <a:lnTo>
                      <a:pt x="9975" y="6"/>
                    </a:lnTo>
                    <a:cubicBezTo>
                      <a:pt x="9974" y="6"/>
                      <a:pt x="9973" y="5"/>
                      <a:pt x="9973" y="4"/>
                    </a:cubicBezTo>
                    <a:cubicBezTo>
                      <a:pt x="9973" y="3"/>
                      <a:pt x="9974" y="2"/>
                      <a:pt x="9975" y="2"/>
                    </a:cubicBezTo>
                    <a:close/>
                    <a:moveTo>
                      <a:pt x="9983" y="2"/>
                    </a:moveTo>
                    <a:lnTo>
                      <a:pt x="9983" y="2"/>
                    </a:lnTo>
                    <a:cubicBezTo>
                      <a:pt x="9984" y="2"/>
                      <a:pt x="9985" y="3"/>
                      <a:pt x="9985" y="4"/>
                    </a:cubicBezTo>
                    <a:cubicBezTo>
                      <a:pt x="9985" y="5"/>
                      <a:pt x="9984" y="6"/>
                      <a:pt x="9983" y="6"/>
                    </a:cubicBezTo>
                    <a:lnTo>
                      <a:pt x="9983" y="6"/>
                    </a:lnTo>
                    <a:cubicBezTo>
                      <a:pt x="9982" y="6"/>
                      <a:pt x="9981" y="5"/>
                      <a:pt x="9981" y="4"/>
                    </a:cubicBezTo>
                    <a:cubicBezTo>
                      <a:pt x="9981" y="3"/>
                      <a:pt x="9982" y="2"/>
                      <a:pt x="9983" y="2"/>
                    </a:cubicBezTo>
                    <a:close/>
                    <a:moveTo>
                      <a:pt x="9991" y="2"/>
                    </a:moveTo>
                    <a:lnTo>
                      <a:pt x="9991" y="2"/>
                    </a:lnTo>
                    <a:cubicBezTo>
                      <a:pt x="9992" y="2"/>
                      <a:pt x="9993" y="3"/>
                      <a:pt x="9993" y="4"/>
                    </a:cubicBezTo>
                    <a:cubicBezTo>
                      <a:pt x="9993" y="5"/>
                      <a:pt x="9992" y="6"/>
                      <a:pt x="9991" y="6"/>
                    </a:cubicBezTo>
                    <a:lnTo>
                      <a:pt x="9991" y="6"/>
                    </a:lnTo>
                    <a:cubicBezTo>
                      <a:pt x="9990" y="6"/>
                      <a:pt x="9989" y="5"/>
                      <a:pt x="9989" y="4"/>
                    </a:cubicBezTo>
                    <a:cubicBezTo>
                      <a:pt x="9989" y="3"/>
                      <a:pt x="9990" y="2"/>
                      <a:pt x="9991" y="2"/>
                    </a:cubicBezTo>
                    <a:close/>
                    <a:moveTo>
                      <a:pt x="9999" y="2"/>
                    </a:moveTo>
                    <a:lnTo>
                      <a:pt x="9999" y="2"/>
                    </a:lnTo>
                    <a:cubicBezTo>
                      <a:pt x="10000" y="2"/>
                      <a:pt x="10001" y="3"/>
                      <a:pt x="10001" y="4"/>
                    </a:cubicBezTo>
                    <a:cubicBezTo>
                      <a:pt x="10001" y="5"/>
                      <a:pt x="10000" y="6"/>
                      <a:pt x="9999" y="6"/>
                    </a:cubicBezTo>
                    <a:lnTo>
                      <a:pt x="9999" y="6"/>
                    </a:lnTo>
                    <a:cubicBezTo>
                      <a:pt x="9998" y="6"/>
                      <a:pt x="9997" y="5"/>
                      <a:pt x="9997" y="4"/>
                    </a:cubicBezTo>
                    <a:cubicBezTo>
                      <a:pt x="9997" y="3"/>
                      <a:pt x="9998" y="2"/>
                      <a:pt x="9999" y="2"/>
                    </a:cubicBezTo>
                    <a:close/>
                    <a:moveTo>
                      <a:pt x="10007" y="2"/>
                    </a:moveTo>
                    <a:lnTo>
                      <a:pt x="10007" y="2"/>
                    </a:lnTo>
                    <a:cubicBezTo>
                      <a:pt x="10008" y="2"/>
                      <a:pt x="10009" y="3"/>
                      <a:pt x="10009" y="4"/>
                    </a:cubicBezTo>
                    <a:cubicBezTo>
                      <a:pt x="10009" y="5"/>
                      <a:pt x="10008" y="6"/>
                      <a:pt x="10007" y="6"/>
                    </a:cubicBezTo>
                    <a:lnTo>
                      <a:pt x="10007" y="6"/>
                    </a:lnTo>
                    <a:cubicBezTo>
                      <a:pt x="10006" y="6"/>
                      <a:pt x="10005" y="5"/>
                      <a:pt x="10005" y="4"/>
                    </a:cubicBezTo>
                    <a:cubicBezTo>
                      <a:pt x="10005" y="3"/>
                      <a:pt x="10006" y="2"/>
                      <a:pt x="10007" y="2"/>
                    </a:cubicBezTo>
                    <a:close/>
                    <a:moveTo>
                      <a:pt x="10015" y="2"/>
                    </a:moveTo>
                    <a:lnTo>
                      <a:pt x="10015" y="2"/>
                    </a:lnTo>
                    <a:cubicBezTo>
                      <a:pt x="10016" y="2"/>
                      <a:pt x="10017" y="3"/>
                      <a:pt x="10017" y="4"/>
                    </a:cubicBezTo>
                    <a:cubicBezTo>
                      <a:pt x="10017" y="5"/>
                      <a:pt x="10016" y="6"/>
                      <a:pt x="10015" y="6"/>
                    </a:cubicBezTo>
                    <a:lnTo>
                      <a:pt x="10015" y="6"/>
                    </a:lnTo>
                    <a:cubicBezTo>
                      <a:pt x="10014" y="6"/>
                      <a:pt x="10013" y="5"/>
                      <a:pt x="10013" y="4"/>
                    </a:cubicBezTo>
                    <a:cubicBezTo>
                      <a:pt x="10013" y="3"/>
                      <a:pt x="10014" y="2"/>
                      <a:pt x="10015" y="2"/>
                    </a:cubicBezTo>
                    <a:close/>
                    <a:moveTo>
                      <a:pt x="10023" y="2"/>
                    </a:moveTo>
                    <a:lnTo>
                      <a:pt x="10023" y="2"/>
                    </a:lnTo>
                    <a:cubicBezTo>
                      <a:pt x="10024" y="2"/>
                      <a:pt x="10025" y="3"/>
                      <a:pt x="10025" y="4"/>
                    </a:cubicBezTo>
                    <a:cubicBezTo>
                      <a:pt x="10025" y="5"/>
                      <a:pt x="10024" y="6"/>
                      <a:pt x="10023" y="6"/>
                    </a:cubicBezTo>
                    <a:lnTo>
                      <a:pt x="10023" y="6"/>
                    </a:lnTo>
                    <a:cubicBezTo>
                      <a:pt x="10022" y="6"/>
                      <a:pt x="10021" y="5"/>
                      <a:pt x="10021" y="4"/>
                    </a:cubicBezTo>
                    <a:cubicBezTo>
                      <a:pt x="10021" y="3"/>
                      <a:pt x="10022" y="2"/>
                      <a:pt x="10023" y="2"/>
                    </a:cubicBezTo>
                    <a:close/>
                    <a:moveTo>
                      <a:pt x="10031" y="2"/>
                    </a:moveTo>
                    <a:lnTo>
                      <a:pt x="10031" y="2"/>
                    </a:lnTo>
                    <a:cubicBezTo>
                      <a:pt x="10032" y="2"/>
                      <a:pt x="10033" y="3"/>
                      <a:pt x="10033" y="4"/>
                    </a:cubicBezTo>
                    <a:cubicBezTo>
                      <a:pt x="10033" y="5"/>
                      <a:pt x="10032" y="6"/>
                      <a:pt x="10031" y="6"/>
                    </a:cubicBezTo>
                    <a:lnTo>
                      <a:pt x="10031" y="6"/>
                    </a:lnTo>
                    <a:cubicBezTo>
                      <a:pt x="10030" y="6"/>
                      <a:pt x="10029" y="5"/>
                      <a:pt x="10029" y="4"/>
                    </a:cubicBezTo>
                    <a:cubicBezTo>
                      <a:pt x="10029" y="3"/>
                      <a:pt x="10030" y="2"/>
                      <a:pt x="10031" y="2"/>
                    </a:cubicBezTo>
                    <a:close/>
                    <a:moveTo>
                      <a:pt x="10039" y="2"/>
                    </a:moveTo>
                    <a:lnTo>
                      <a:pt x="10039" y="2"/>
                    </a:lnTo>
                    <a:cubicBezTo>
                      <a:pt x="10040" y="2"/>
                      <a:pt x="10041" y="3"/>
                      <a:pt x="10041" y="4"/>
                    </a:cubicBezTo>
                    <a:cubicBezTo>
                      <a:pt x="10041" y="5"/>
                      <a:pt x="10040" y="6"/>
                      <a:pt x="10039" y="6"/>
                    </a:cubicBezTo>
                    <a:lnTo>
                      <a:pt x="10039" y="6"/>
                    </a:lnTo>
                    <a:cubicBezTo>
                      <a:pt x="10038" y="6"/>
                      <a:pt x="10037" y="5"/>
                      <a:pt x="10037" y="4"/>
                    </a:cubicBezTo>
                    <a:cubicBezTo>
                      <a:pt x="10037" y="3"/>
                      <a:pt x="10038" y="2"/>
                      <a:pt x="10039" y="2"/>
                    </a:cubicBezTo>
                    <a:close/>
                    <a:moveTo>
                      <a:pt x="10047" y="2"/>
                    </a:moveTo>
                    <a:lnTo>
                      <a:pt x="10047" y="2"/>
                    </a:lnTo>
                    <a:cubicBezTo>
                      <a:pt x="10048" y="2"/>
                      <a:pt x="10049" y="3"/>
                      <a:pt x="10049" y="4"/>
                    </a:cubicBezTo>
                    <a:cubicBezTo>
                      <a:pt x="10049" y="5"/>
                      <a:pt x="10048" y="6"/>
                      <a:pt x="10047" y="6"/>
                    </a:cubicBezTo>
                    <a:lnTo>
                      <a:pt x="10047" y="6"/>
                    </a:lnTo>
                    <a:cubicBezTo>
                      <a:pt x="10046" y="6"/>
                      <a:pt x="10045" y="5"/>
                      <a:pt x="10045" y="4"/>
                    </a:cubicBezTo>
                    <a:cubicBezTo>
                      <a:pt x="10045" y="3"/>
                      <a:pt x="10046" y="2"/>
                      <a:pt x="10047" y="2"/>
                    </a:cubicBezTo>
                    <a:close/>
                    <a:moveTo>
                      <a:pt x="10055" y="2"/>
                    </a:moveTo>
                    <a:lnTo>
                      <a:pt x="10055" y="2"/>
                    </a:lnTo>
                    <a:cubicBezTo>
                      <a:pt x="10056" y="2"/>
                      <a:pt x="10057" y="3"/>
                      <a:pt x="10057" y="4"/>
                    </a:cubicBezTo>
                    <a:cubicBezTo>
                      <a:pt x="10057" y="5"/>
                      <a:pt x="10056" y="6"/>
                      <a:pt x="10055" y="6"/>
                    </a:cubicBezTo>
                    <a:lnTo>
                      <a:pt x="10055" y="6"/>
                    </a:lnTo>
                    <a:cubicBezTo>
                      <a:pt x="10054" y="6"/>
                      <a:pt x="10053" y="5"/>
                      <a:pt x="10053" y="4"/>
                    </a:cubicBezTo>
                    <a:cubicBezTo>
                      <a:pt x="10053" y="3"/>
                      <a:pt x="10054" y="2"/>
                      <a:pt x="10055" y="2"/>
                    </a:cubicBezTo>
                    <a:close/>
                    <a:moveTo>
                      <a:pt x="10063" y="2"/>
                    </a:moveTo>
                    <a:lnTo>
                      <a:pt x="10063" y="2"/>
                    </a:lnTo>
                    <a:cubicBezTo>
                      <a:pt x="10064" y="2"/>
                      <a:pt x="10065" y="3"/>
                      <a:pt x="10065" y="4"/>
                    </a:cubicBezTo>
                    <a:cubicBezTo>
                      <a:pt x="10065" y="5"/>
                      <a:pt x="10064" y="6"/>
                      <a:pt x="10063" y="6"/>
                    </a:cubicBezTo>
                    <a:lnTo>
                      <a:pt x="10063" y="6"/>
                    </a:lnTo>
                    <a:cubicBezTo>
                      <a:pt x="10062" y="6"/>
                      <a:pt x="10061" y="5"/>
                      <a:pt x="10061" y="4"/>
                    </a:cubicBezTo>
                    <a:cubicBezTo>
                      <a:pt x="10061" y="3"/>
                      <a:pt x="10062" y="2"/>
                      <a:pt x="10063" y="2"/>
                    </a:cubicBezTo>
                    <a:close/>
                    <a:moveTo>
                      <a:pt x="10071" y="2"/>
                    </a:moveTo>
                    <a:lnTo>
                      <a:pt x="10071" y="2"/>
                    </a:lnTo>
                    <a:cubicBezTo>
                      <a:pt x="10072" y="2"/>
                      <a:pt x="10073" y="3"/>
                      <a:pt x="10073" y="4"/>
                    </a:cubicBezTo>
                    <a:cubicBezTo>
                      <a:pt x="10073" y="5"/>
                      <a:pt x="10072" y="6"/>
                      <a:pt x="10071" y="6"/>
                    </a:cubicBezTo>
                    <a:lnTo>
                      <a:pt x="10071" y="6"/>
                    </a:lnTo>
                    <a:cubicBezTo>
                      <a:pt x="10070" y="6"/>
                      <a:pt x="10069" y="5"/>
                      <a:pt x="10069" y="4"/>
                    </a:cubicBezTo>
                    <a:cubicBezTo>
                      <a:pt x="10069" y="3"/>
                      <a:pt x="10070" y="2"/>
                      <a:pt x="10071" y="2"/>
                    </a:cubicBezTo>
                    <a:close/>
                    <a:moveTo>
                      <a:pt x="10079" y="2"/>
                    </a:moveTo>
                    <a:lnTo>
                      <a:pt x="10079" y="2"/>
                    </a:lnTo>
                    <a:cubicBezTo>
                      <a:pt x="10080" y="2"/>
                      <a:pt x="10081" y="3"/>
                      <a:pt x="10081" y="4"/>
                    </a:cubicBezTo>
                    <a:cubicBezTo>
                      <a:pt x="10081" y="5"/>
                      <a:pt x="10080" y="6"/>
                      <a:pt x="10079" y="6"/>
                    </a:cubicBezTo>
                    <a:lnTo>
                      <a:pt x="10079" y="6"/>
                    </a:lnTo>
                    <a:cubicBezTo>
                      <a:pt x="10078" y="6"/>
                      <a:pt x="10077" y="5"/>
                      <a:pt x="10077" y="4"/>
                    </a:cubicBezTo>
                    <a:cubicBezTo>
                      <a:pt x="10077" y="3"/>
                      <a:pt x="10078" y="2"/>
                      <a:pt x="10079" y="2"/>
                    </a:cubicBezTo>
                    <a:close/>
                    <a:moveTo>
                      <a:pt x="10087" y="2"/>
                    </a:moveTo>
                    <a:lnTo>
                      <a:pt x="10087" y="2"/>
                    </a:lnTo>
                    <a:cubicBezTo>
                      <a:pt x="10088" y="2"/>
                      <a:pt x="10089" y="3"/>
                      <a:pt x="10089" y="4"/>
                    </a:cubicBezTo>
                    <a:cubicBezTo>
                      <a:pt x="10089" y="5"/>
                      <a:pt x="10088" y="6"/>
                      <a:pt x="10087" y="6"/>
                    </a:cubicBezTo>
                    <a:lnTo>
                      <a:pt x="10087" y="6"/>
                    </a:lnTo>
                    <a:cubicBezTo>
                      <a:pt x="10086" y="6"/>
                      <a:pt x="10085" y="5"/>
                      <a:pt x="10085" y="4"/>
                    </a:cubicBezTo>
                    <a:cubicBezTo>
                      <a:pt x="10085" y="3"/>
                      <a:pt x="10086" y="2"/>
                      <a:pt x="10087" y="2"/>
                    </a:cubicBezTo>
                    <a:close/>
                    <a:moveTo>
                      <a:pt x="10095" y="2"/>
                    </a:moveTo>
                    <a:lnTo>
                      <a:pt x="10095" y="2"/>
                    </a:lnTo>
                    <a:cubicBezTo>
                      <a:pt x="10096" y="2"/>
                      <a:pt x="10097" y="3"/>
                      <a:pt x="10097" y="4"/>
                    </a:cubicBezTo>
                    <a:cubicBezTo>
                      <a:pt x="10097" y="5"/>
                      <a:pt x="10096" y="6"/>
                      <a:pt x="10095" y="6"/>
                    </a:cubicBezTo>
                    <a:lnTo>
                      <a:pt x="10095" y="6"/>
                    </a:lnTo>
                    <a:cubicBezTo>
                      <a:pt x="10094" y="6"/>
                      <a:pt x="10093" y="5"/>
                      <a:pt x="10093" y="4"/>
                    </a:cubicBezTo>
                    <a:cubicBezTo>
                      <a:pt x="10093" y="3"/>
                      <a:pt x="10094" y="2"/>
                      <a:pt x="10095" y="2"/>
                    </a:cubicBezTo>
                    <a:close/>
                    <a:moveTo>
                      <a:pt x="10103" y="2"/>
                    </a:moveTo>
                    <a:lnTo>
                      <a:pt x="10103" y="2"/>
                    </a:lnTo>
                    <a:cubicBezTo>
                      <a:pt x="10104" y="2"/>
                      <a:pt x="10105" y="3"/>
                      <a:pt x="10105" y="4"/>
                    </a:cubicBezTo>
                    <a:cubicBezTo>
                      <a:pt x="10105" y="5"/>
                      <a:pt x="10104" y="6"/>
                      <a:pt x="10103" y="6"/>
                    </a:cubicBezTo>
                    <a:lnTo>
                      <a:pt x="10103" y="6"/>
                    </a:lnTo>
                    <a:cubicBezTo>
                      <a:pt x="10102" y="6"/>
                      <a:pt x="10101" y="5"/>
                      <a:pt x="10101" y="4"/>
                    </a:cubicBezTo>
                    <a:cubicBezTo>
                      <a:pt x="10101" y="3"/>
                      <a:pt x="10102" y="2"/>
                      <a:pt x="10103" y="2"/>
                    </a:cubicBezTo>
                    <a:close/>
                    <a:moveTo>
                      <a:pt x="10111" y="2"/>
                    </a:moveTo>
                    <a:lnTo>
                      <a:pt x="10111" y="2"/>
                    </a:lnTo>
                    <a:cubicBezTo>
                      <a:pt x="10112" y="2"/>
                      <a:pt x="10113" y="3"/>
                      <a:pt x="10113" y="4"/>
                    </a:cubicBezTo>
                    <a:cubicBezTo>
                      <a:pt x="10113" y="5"/>
                      <a:pt x="10112" y="6"/>
                      <a:pt x="10111" y="6"/>
                    </a:cubicBezTo>
                    <a:lnTo>
                      <a:pt x="10111" y="6"/>
                    </a:lnTo>
                    <a:cubicBezTo>
                      <a:pt x="10110" y="6"/>
                      <a:pt x="10109" y="5"/>
                      <a:pt x="10109" y="4"/>
                    </a:cubicBezTo>
                    <a:cubicBezTo>
                      <a:pt x="10109" y="3"/>
                      <a:pt x="10110" y="2"/>
                      <a:pt x="10111" y="2"/>
                    </a:cubicBezTo>
                    <a:close/>
                    <a:moveTo>
                      <a:pt x="10119" y="2"/>
                    </a:moveTo>
                    <a:lnTo>
                      <a:pt x="10119" y="2"/>
                    </a:lnTo>
                    <a:cubicBezTo>
                      <a:pt x="10120" y="2"/>
                      <a:pt x="10121" y="3"/>
                      <a:pt x="10121" y="4"/>
                    </a:cubicBezTo>
                    <a:cubicBezTo>
                      <a:pt x="10121" y="5"/>
                      <a:pt x="10120" y="6"/>
                      <a:pt x="10119" y="6"/>
                    </a:cubicBezTo>
                    <a:lnTo>
                      <a:pt x="10119" y="6"/>
                    </a:lnTo>
                    <a:cubicBezTo>
                      <a:pt x="10118" y="6"/>
                      <a:pt x="10117" y="5"/>
                      <a:pt x="10117" y="4"/>
                    </a:cubicBezTo>
                    <a:cubicBezTo>
                      <a:pt x="10117" y="3"/>
                      <a:pt x="10118" y="2"/>
                      <a:pt x="10119" y="2"/>
                    </a:cubicBezTo>
                    <a:close/>
                    <a:moveTo>
                      <a:pt x="10127" y="2"/>
                    </a:moveTo>
                    <a:lnTo>
                      <a:pt x="10127" y="2"/>
                    </a:lnTo>
                    <a:cubicBezTo>
                      <a:pt x="10128" y="2"/>
                      <a:pt x="10129" y="3"/>
                      <a:pt x="10129" y="4"/>
                    </a:cubicBezTo>
                    <a:cubicBezTo>
                      <a:pt x="10129" y="5"/>
                      <a:pt x="10128" y="6"/>
                      <a:pt x="10127" y="6"/>
                    </a:cubicBezTo>
                    <a:lnTo>
                      <a:pt x="10127" y="6"/>
                    </a:lnTo>
                    <a:cubicBezTo>
                      <a:pt x="10126" y="6"/>
                      <a:pt x="10125" y="5"/>
                      <a:pt x="10125" y="4"/>
                    </a:cubicBezTo>
                    <a:cubicBezTo>
                      <a:pt x="10125" y="3"/>
                      <a:pt x="10126" y="2"/>
                      <a:pt x="10127" y="2"/>
                    </a:cubicBezTo>
                    <a:close/>
                    <a:moveTo>
                      <a:pt x="10135" y="2"/>
                    </a:moveTo>
                    <a:lnTo>
                      <a:pt x="10135" y="2"/>
                    </a:lnTo>
                    <a:cubicBezTo>
                      <a:pt x="10136" y="2"/>
                      <a:pt x="10137" y="3"/>
                      <a:pt x="10137" y="4"/>
                    </a:cubicBezTo>
                    <a:cubicBezTo>
                      <a:pt x="10137" y="5"/>
                      <a:pt x="10136" y="6"/>
                      <a:pt x="10135" y="6"/>
                    </a:cubicBezTo>
                    <a:lnTo>
                      <a:pt x="10135" y="6"/>
                    </a:lnTo>
                    <a:cubicBezTo>
                      <a:pt x="10134" y="6"/>
                      <a:pt x="10133" y="5"/>
                      <a:pt x="10133" y="4"/>
                    </a:cubicBezTo>
                    <a:cubicBezTo>
                      <a:pt x="10133" y="3"/>
                      <a:pt x="10134" y="2"/>
                      <a:pt x="10135" y="2"/>
                    </a:cubicBezTo>
                    <a:close/>
                    <a:moveTo>
                      <a:pt x="10143" y="2"/>
                    </a:moveTo>
                    <a:lnTo>
                      <a:pt x="10143" y="2"/>
                    </a:lnTo>
                    <a:cubicBezTo>
                      <a:pt x="10144" y="2"/>
                      <a:pt x="10145" y="3"/>
                      <a:pt x="10145" y="4"/>
                    </a:cubicBezTo>
                    <a:cubicBezTo>
                      <a:pt x="10145" y="5"/>
                      <a:pt x="10144" y="6"/>
                      <a:pt x="10143" y="6"/>
                    </a:cubicBezTo>
                    <a:lnTo>
                      <a:pt x="10143" y="6"/>
                    </a:lnTo>
                    <a:cubicBezTo>
                      <a:pt x="10142" y="6"/>
                      <a:pt x="10141" y="5"/>
                      <a:pt x="10141" y="4"/>
                    </a:cubicBezTo>
                    <a:cubicBezTo>
                      <a:pt x="10141" y="3"/>
                      <a:pt x="10142" y="2"/>
                      <a:pt x="10143" y="2"/>
                    </a:cubicBezTo>
                    <a:close/>
                    <a:moveTo>
                      <a:pt x="10151" y="2"/>
                    </a:moveTo>
                    <a:lnTo>
                      <a:pt x="10151" y="2"/>
                    </a:lnTo>
                    <a:cubicBezTo>
                      <a:pt x="10152" y="2"/>
                      <a:pt x="10153" y="3"/>
                      <a:pt x="10153" y="4"/>
                    </a:cubicBezTo>
                    <a:cubicBezTo>
                      <a:pt x="10153" y="5"/>
                      <a:pt x="10152" y="6"/>
                      <a:pt x="10151" y="6"/>
                    </a:cubicBezTo>
                    <a:lnTo>
                      <a:pt x="10151" y="6"/>
                    </a:lnTo>
                    <a:cubicBezTo>
                      <a:pt x="10150" y="6"/>
                      <a:pt x="10149" y="5"/>
                      <a:pt x="10149" y="4"/>
                    </a:cubicBezTo>
                    <a:cubicBezTo>
                      <a:pt x="10149" y="3"/>
                      <a:pt x="10150" y="2"/>
                      <a:pt x="10151" y="2"/>
                    </a:cubicBezTo>
                    <a:close/>
                    <a:moveTo>
                      <a:pt x="10159" y="2"/>
                    </a:moveTo>
                    <a:lnTo>
                      <a:pt x="10159" y="2"/>
                    </a:lnTo>
                    <a:cubicBezTo>
                      <a:pt x="10160" y="2"/>
                      <a:pt x="10161" y="3"/>
                      <a:pt x="10161" y="4"/>
                    </a:cubicBezTo>
                    <a:cubicBezTo>
                      <a:pt x="10161" y="5"/>
                      <a:pt x="10160" y="6"/>
                      <a:pt x="10159" y="6"/>
                    </a:cubicBezTo>
                    <a:lnTo>
                      <a:pt x="10159" y="6"/>
                    </a:lnTo>
                    <a:cubicBezTo>
                      <a:pt x="10158" y="6"/>
                      <a:pt x="10157" y="5"/>
                      <a:pt x="10157" y="4"/>
                    </a:cubicBezTo>
                    <a:cubicBezTo>
                      <a:pt x="10157" y="3"/>
                      <a:pt x="10158" y="2"/>
                      <a:pt x="10159" y="2"/>
                    </a:cubicBezTo>
                    <a:close/>
                    <a:moveTo>
                      <a:pt x="10167" y="2"/>
                    </a:moveTo>
                    <a:lnTo>
                      <a:pt x="10167" y="2"/>
                    </a:lnTo>
                    <a:cubicBezTo>
                      <a:pt x="10168" y="2"/>
                      <a:pt x="10169" y="3"/>
                      <a:pt x="10169" y="4"/>
                    </a:cubicBezTo>
                    <a:cubicBezTo>
                      <a:pt x="10169" y="5"/>
                      <a:pt x="10168" y="6"/>
                      <a:pt x="10167" y="6"/>
                    </a:cubicBezTo>
                    <a:lnTo>
                      <a:pt x="10167" y="6"/>
                    </a:lnTo>
                    <a:cubicBezTo>
                      <a:pt x="10166" y="6"/>
                      <a:pt x="10165" y="5"/>
                      <a:pt x="10165" y="4"/>
                    </a:cubicBezTo>
                    <a:cubicBezTo>
                      <a:pt x="10165" y="3"/>
                      <a:pt x="10166" y="2"/>
                      <a:pt x="10167" y="2"/>
                    </a:cubicBezTo>
                    <a:close/>
                    <a:moveTo>
                      <a:pt x="10175" y="2"/>
                    </a:moveTo>
                    <a:lnTo>
                      <a:pt x="10175" y="2"/>
                    </a:lnTo>
                    <a:cubicBezTo>
                      <a:pt x="10176" y="2"/>
                      <a:pt x="10177" y="3"/>
                      <a:pt x="10177" y="4"/>
                    </a:cubicBezTo>
                    <a:cubicBezTo>
                      <a:pt x="10177" y="5"/>
                      <a:pt x="10176" y="6"/>
                      <a:pt x="10175" y="6"/>
                    </a:cubicBezTo>
                    <a:lnTo>
                      <a:pt x="10175" y="6"/>
                    </a:lnTo>
                    <a:cubicBezTo>
                      <a:pt x="10174" y="6"/>
                      <a:pt x="10173" y="5"/>
                      <a:pt x="10173" y="4"/>
                    </a:cubicBezTo>
                    <a:cubicBezTo>
                      <a:pt x="10173" y="3"/>
                      <a:pt x="10174" y="2"/>
                      <a:pt x="10175" y="2"/>
                    </a:cubicBezTo>
                    <a:close/>
                    <a:moveTo>
                      <a:pt x="10183" y="2"/>
                    </a:moveTo>
                    <a:lnTo>
                      <a:pt x="10183" y="2"/>
                    </a:lnTo>
                    <a:cubicBezTo>
                      <a:pt x="10184" y="2"/>
                      <a:pt x="10185" y="3"/>
                      <a:pt x="10185" y="4"/>
                    </a:cubicBezTo>
                    <a:cubicBezTo>
                      <a:pt x="10185" y="5"/>
                      <a:pt x="10184" y="6"/>
                      <a:pt x="10183" y="6"/>
                    </a:cubicBezTo>
                    <a:lnTo>
                      <a:pt x="10183" y="6"/>
                    </a:lnTo>
                    <a:cubicBezTo>
                      <a:pt x="10182" y="6"/>
                      <a:pt x="10181" y="5"/>
                      <a:pt x="10181" y="4"/>
                    </a:cubicBezTo>
                    <a:cubicBezTo>
                      <a:pt x="10181" y="3"/>
                      <a:pt x="10182" y="2"/>
                      <a:pt x="10183" y="2"/>
                    </a:cubicBezTo>
                    <a:close/>
                    <a:moveTo>
                      <a:pt x="10191" y="2"/>
                    </a:moveTo>
                    <a:lnTo>
                      <a:pt x="10191" y="2"/>
                    </a:lnTo>
                    <a:cubicBezTo>
                      <a:pt x="10192" y="2"/>
                      <a:pt x="10193" y="3"/>
                      <a:pt x="10193" y="4"/>
                    </a:cubicBezTo>
                    <a:cubicBezTo>
                      <a:pt x="10193" y="5"/>
                      <a:pt x="10192" y="6"/>
                      <a:pt x="10191" y="6"/>
                    </a:cubicBezTo>
                    <a:lnTo>
                      <a:pt x="10191" y="6"/>
                    </a:lnTo>
                    <a:cubicBezTo>
                      <a:pt x="10190" y="6"/>
                      <a:pt x="10189" y="5"/>
                      <a:pt x="10189" y="4"/>
                    </a:cubicBezTo>
                    <a:cubicBezTo>
                      <a:pt x="10189" y="3"/>
                      <a:pt x="10190" y="2"/>
                      <a:pt x="10191" y="2"/>
                    </a:cubicBezTo>
                    <a:close/>
                    <a:moveTo>
                      <a:pt x="10199" y="2"/>
                    </a:moveTo>
                    <a:lnTo>
                      <a:pt x="10199" y="2"/>
                    </a:lnTo>
                    <a:cubicBezTo>
                      <a:pt x="10200" y="2"/>
                      <a:pt x="10201" y="3"/>
                      <a:pt x="10201" y="4"/>
                    </a:cubicBezTo>
                    <a:cubicBezTo>
                      <a:pt x="10201" y="5"/>
                      <a:pt x="10200" y="6"/>
                      <a:pt x="10199" y="6"/>
                    </a:cubicBezTo>
                    <a:lnTo>
                      <a:pt x="10199" y="6"/>
                    </a:lnTo>
                    <a:cubicBezTo>
                      <a:pt x="10198" y="6"/>
                      <a:pt x="10197" y="5"/>
                      <a:pt x="10197" y="4"/>
                    </a:cubicBezTo>
                    <a:cubicBezTo>
                      <a:pt x="10197" y="3"/>
                      <a:pt x="10198" y="2"/>
                      <a:pt x="10199" y="2"/>
                    </a:cubicBezTo>
                    <a:close/>
                    <a:moveTo>
                      <a:pt x="10207" y="2"/>
                    </a:moveTo>
                    <a:lnTo>
                      <a:pt x="10207" y="2"/>
                    </a:lnTo>
                    <a:cubicBezTo>
                      <a:pt x="10208" y="2"/>
                      <a:pt x="10209" y="3"/>
                      <a:pt x="10209" y="4"/>
                    </a:cubicBezTo>
                    <a:cubicBezTo>
                      <a:pt x="10209" y="5"/>
                      <a:pt x="10208" y="6"/>
                      <a:pt x="10207" y="6"/>
                    </a:cubicBezTo>
                    <a:lnTo>
                      <a:pt x="10207" y="6"/>
                    </a:lnTo>
                    <a:cubicBezTo>
                      <a:pt x="10206" y="6"/>
                      <a:pt x="10205" y="5"/>
                      <a:pt x="10205" y="4"/>
                    </a:cubicBezTo>
                    <a:cubicBezTo>
                      <a:pt x="10205" y="3"/>
                      <a:pt x="10206" y="2"/>
                      <a:pt x="10207" y="2"/>
                    </a:cubicBezTo>
                    <a:close/>
                    <a:moveTo>
                      <a:pt x="10215" y="2"/>
                    </a:moveTo>
                    <a:lnTo>
                      <a:pt x="10215" y="2"/>
                    </a:lnTo>
                    <a:cubicBezTo>
                      <a:pt x="10216" y="2"/>
                      <a:pt x="10217" y="3"/>
                      <a:pt x="10217" y="4"/>
                    </a:cubicBezTo>
                    <a:cubicBezTo>
                      <a:pt x="10217" y="5"/>
                      <a:pt x="10216" y="6"/>
                      <a:pt x="10215" y="6"/>
                    </a:cubicBezTo>
                    <a:lnTo>
                      <a:pt x="10215" y="6"/>
                    </a:lnTo>
                    <a:cubicBezTo>
                      <a:pt x="10214" y="6"/>
                      <a:pt x="10213" y="5"/>
                      <a:pt x="10213" y="4"/>
                    </a:cubicBezTo>
                    <a:cubicBezTo>
                      <a:pt x="10213" y="3"/>
                      <a:pt x="10214" y="2"/>
                      <a:pt x="10215" y="2"/>
                    </a:cubicBezTo>
                    <a:close/>
                    <a:moveTo>
                      <a:pt x="10223" y="2"/>
                    </a:moveTo>
                    <a:lnTo>
                      <a:pt x="10223" y="2"/>
                    </a:lnTo>
                    <a:cubicBezTo>
                      <a:pt x="10224" y="2"/>
                      <a:pt x="10225" y="3"/>
                      <a:pt x="10225" y="4"/>
                    </a:cubicBezTo>
                    <a:cubicBezTo>
                      <a:pt x="10225" y="5"/>
                      <a:pt x="10224" y="6"/>
                      <a:pt x="10223" y="6"/>
                    </a:cubicBezTo>
                    <a:lnTo>
                      <a:pt x="10223" y="6"/>
                    </a:lnTo>
                    <a:cubicBezTo>
                      <a:pt x="10222" y="6"/>
                      <a:pt x="10221" y="5"/>
                      <a:pt x="10221" y="4"/>
                    </a:cubicBezTo>
                    <a:cubicBezTo>
                      <a:pt x="10221" y="3"/>
                      <a:pt x="10222" y="2"/>
                      <a:pt x="10223" y="2"/>
                    </a:cubicBezTo>
                    <a:close/>
                    <a:moveTo>
                      <a:pt x="10231" y="2"/>
                    </a:moveTo>
                    <a:lnTo>
                      <a:pt x="10231" y="2"/>
                    </a:lnTo>
                    <a:cubicBezTo>
                      <a:pt x="10232" y="2"/>
                      <a:pt x="10233" y="3"/>
                      <a:pt x="10233" y="4"/>
                    </a:cubicBezTo>
                    <a:cubicBezTo>
                      <a:pt x="10233" y="5"/>
                      <a:pt x="10232" y="6"/>
                      <a:pt x="10231" y="6"/>
                    </a:cubicBezTo>
                    <a:lnTo>
                      <a:pt x="10231" y="6"/>
                    </a:lnTo>
                    <a:cubicBezTo>
                      <a:pt x="10230" y="6"/>
                      <a:pt x="10229" y="5"/>
                      <a:pt x="10229" y="4"/>
                    </a:cubicBezTo>
                    <a:cubicBezTo>
                      <a:pt x="10229" y="3"/>
                      <a:pt x="10230" y="2"/>
                      <a:pt x="10231" y="2"/>
                    </a:cubicBezTo>
                    <a:close/>
                    <a:moveTo>
                      <a:pt x="10239" y="2"/>
                    </a:moveTo>
                    <a:lnTo>
                      <a:pt x="10239" y="2"/>
                    </a:lnTo>
                    <a:cubicBezTo>
                      <a:pt x="10240" y="2"/>
                      <a:pt x="10241" y="3"/>
                      <a:pt x="10241" y="4"/>
                    </a:cubicBezTo>
                    <a:cubicBezTo>
                      <a:pt x="10241" y="5"/>
                      <a:pt x="10240" y="6"/>
                      <a:pt x="10239" y="6"/>
                    </a:cubicBezTo>
                    <a:lnTo>
                      <a:pt x="10239" y="6"/>
                    </a:lnTo>
                    <a:cubicBezTo>
                      <a:pt x="10238" y="6"/>
                      <a:pt x="10237" y="5"/>
                      <a:pt x="10237" y="4"/>
                    </a:cubicBezTo>
                    <a:cubicBezTo>
                      <a:pt x="10237" y="3"/>
                      <a:pt x="10238" y="2"/>
                      <a:pt x="10239" y="2"/>
                    </a:cubicBezTo>
                    <a:close/>
                    <a:moveTo>
                      <a:pt x="10247" y="2"/>
                    </a:moveTo>
                    <a:lnTo>
                      <a:pt x="10247" y="2"/>
                    </a:lnTo>
                    <a:cubicBezTo>
                      <a:pt x="10248" y="2"/>
                      <a:pt x="10249" y="3"/>
                      <a:pt x="10249" y="4"/>
                    </a:cubicBezTo>
                    <a:cubicBezTo>
                      <a:pt x="10249" y="5"/>
                      <a:pt x="10248" y="6"/>
                      <a:pt x="10247" y="6"/>
                    </a:cubicBezTo>
                    <a:lnTo>
                      <a:pt x="10247" y="6"/>
                    </a:lnTo>
                    <a:cubicBezTo>
                      <a:pt x="10246" y="6"/>
                      <a:pt x="10245" y="5"/>
                      <a:pt x="10245" y="4"/>
                    </a:cubicBezTo>
                    <a:cubicBezTo>
                      <a:pt x="10245" y="3"/>
                      <a:pt x="10246" y="2"/>
                      <a:pt x="10247" y="2"/>
                    </a:cubicBezTo>
                    <a:close/>
                    <a:moveTo>
                      <a:pt x="10255" y="2"/>
                    </a:moveTo>
                    <a:lnTo>
                      <a:pt x="10255" y="2"/>
                    </a:lnTo>
                    <a:cubicBezTo>
                      <a:pt x="10256" y="2"/>
                      <a:pt x="10257" y="3"/>
                      <a:pt x="10257" y="4"/>
                    </a:cubicBezTo>
                    <a:cubicBezTo>
                      <a:pt x="10257" y="5"/>
                      <a:pt x="10256" y="6"/>
                      <a:pt x="10255" y="6"/>
                    </a:cubicBezTo>
                    <a:lnTo>
                      <a:pt x="10255" y="6"/>
                    </a:lnTo>
                    <a:cubicBezTo>
                      <a:pt x="10254" y="6"/>
                      <a:pt x="10253" y="5"/>
                      <a:pt x="10253" y="4"/>
                    </a:cubicBezTo>
                    <a:cubicBezTo>
                      <a:pt x="10253" y="3"/>
                      <a:pt x="10254" y="2"/>
                      <a:pt x="10255" y="2"/>
                    </a:cubicBezTo>
                    <a:close/>
                    <a:moveTo>
                      <a:pt x="10263" y="2"/>
                    </a:moveTo>
                    <a:lnTo>
                      <a:pt x="10263" y="2"/>
                    </a:lnTo>
                    <a:cubicBezTo>
                      <a:pt x="10264" y="2"/>
                      <a:pt x="10265" y="3"/>
                      <a:pt x="10265" y="4"/>
                    </a:cubicBezTo>
                    <a:cubicBezTo>
                      <a:pt x="10265" y="5"/>
                      <a:pt x="10264" y="6"/>
                      <a:pt x="10263" y="6"/>
                    </a:cubicBezTo>
                    <a:lnTo>
                      <a:pt x="10263" y="6"/>
                    </a:lnTo>
                    <a:cubicBezTo>
                      <a:pt x="10262" y="6"/>
                      <a:pt x="10261" y="5"/>
                      <a:pt x="10261" y="4"/>
                    </a:cubicBezTo>
                    <a:cubicBezTo>
                      <a:pt x="10261" y="3"/>
                      <a:pt x="10262" y="2"/>
                      <a:pt x="10263" y="2"/>
                    </a:cubicBezTo>
                    <a:close/>
                    <a:moveTo>
                      <a:pt x="10271" y="2"/>
                    </a:moveTo>
                    <a:lnTo>
                      <a:pt x="10271" y="2"/>
                    </a:lnTo>
                    <a:cubicBezTo>
                      <a:pt x="10272" y="2"/>
                      <a:pt x="10273" y="3"/>
                      <a:pt x="10273" y="4"/>
                    </a:cubicBezTo>
                    <a:cubicBezTo>
                      <a:pt x="10273" y="5"/>
                      <a:pt x="10272" y="6"/>
                      <a:pt x="10271" y="6"/>
                    </a:cubicBezTo>
                    <a:lnTo>
                      <a:pt x="10271" y="6"/>
                    </a:lnTo>
                    <a:cubicBezTo>
                      <a:pt x="10270" y="6"/>
                      <a:pt x="10269" y="5"/>
                      <a:pt x="10269" y="4"/>
                    </a:cubicBezTo>
                    <a:cubicBezTo>
                      <a:pt x="10269" y="3"/>
                      <a:pt x="10270" y="2"/>
                      <a:pt x="10271" y="2"/>
                    </a:cubicBezTo>
                    <a:close/>
                    <a:moveTo>
                      <a:pt x="10279" y="2"/>
                    </a:moveTo>
                    <a:lnTo>
                      <a:pt x="10279" y="2"/>
                    </a:lnTo>
                    <a:cubicBezTo>
                      <a:pt x="10280" y="2"/>
                      <a:pt x="10281" y="3"/>
                      <a:pt x="10281" y="4"/>
                    </a:cubicBezTo>
                    <a:cubicBezTo>
                      <a:pt x="10281" y="5"/>
                      <a:pt x="10280" y="6"/>
                      <a:pt x="10279" y="6"/>
                    </a:cubicBezTo>
                    <a:lnTo>
                      <a:pt x="10279" y="6"/>
                    </a:lnTo>
                    <a:cubicBezTo>
                      <a:pt x="10278" y="6"/>
                      <a:pt x="10277" y="5"/>
                      <a:pt x="10277" y="4"/>
                    </a:cubicBezTo>
                    <a:cubicBezTo>
                      <a:pt x="10277" y="3"/>
                      <a:pt x="10278" y="2"/>
                      <a:pt x="10279" y="2"/>
                    </a:cubicBezTo>
                    <a:close/>
                    <a:moveTo>
                      <a:pt x="10287" y="2"/>
                    </a:moveTo>
                    <a:lnTo>
                      <a:pt x="10287" y="2"/>
                    </a:lnTo>
                    <a:cubicBezTo>
                      <a:pt x="10288" y="2"/>
                      <a:pt x="10289" y="3"/>
                      <a:pt x="10289" y="4"/>
                    </a:cubicBezTo>
                    <a:cubicBezTo>
                      <a:pt x="10289" y="5"/>
                      <a:pt x="10288" y="6"/>
                      <a:pt x="10287" y="6"/>
                    </a:cubicBezTo>
                    <a:lnTo>
                      <a:pt x="10287" y="6"/>
                    </a:lnTo>
                    <a:cubicBezTo>
                      <a:pt x="10286" y="6"/>
                      <a:pt x="10285" y="5"/>
                      <a:pt x="10285" y="4"/>
                    </a:cubicBezTo>
                    <a:cubicBezTo>
                      <a:pt x="10285" y="3"/>
                      <a:pt x="10286" y="2"/>
                      <a:pt x="10287" y="2"/>
                    </a:cubicBezTo>
                    <a:close/>
                    <a:moveTo>
                      <a:pt x="10295" y="2"/>
                    </a:moveTo>
                    <a:lnTo>
                      <a:pt x="10295" y="2"/>
                    </a:lnTo>
                    <a:cubicBezTo>
                      <a:pt x="10296" y="2"/>
                      <a:pt x="10297" y="3"/>
                      <a:pt x="10297" y="4"/>
                    </a:cubicBezTo>
                    <a:cubicBezTo>
                      <a:pt x="10297" y="5"/>
                      <a:pt x="10296" y="6"/>
                      <a:pt x="10295" y="6"/>
                    </a:cubicBezTo>
                    <a:lnTo>
                      <a:pt x="10295" y="6"/>
                    </a:lnTo>
                    <a:cubicBezTo>
                      <a:pt x="10294" y="6"/>
                      <a:pt x="10293" y="5"/>
                      <a:pt x="10293" y="4"/>
                    </a:cubicBezTo>
                    <a:cubicBezTo>
                      <a:pt x="10293" y="3"/>
                      <a:pt x="10294" y="2"/>
                      <a:pt x="10295" y="2"/>
                    </a:cubicBezTo>
                    <a:close/>
                    <a:moveTo>
                      <a:pt x="10303" y="2"/>
                    </a:moveTo>
                    <a:lnTo>
                      <a:pt x="10303" y="2"/>
                    </a:lnTo>
                    <a:cubicBezTo>
                      <a:pt x="10304" y="2"/>
                      <a:pt x="10305" y="3"/>
                      <a:pt x="10305" y="4"/>
                    </a:cubicBezTo>
                    <a:cubicBezTo>
                      <a:pt x="10305" y="5"/>
                      <a:pt x="10304" y="6"/>
                      <a:pt x="10303" y="6"/>
                    </a:cubicBezTo>
                    <a:lnTo>
                      <a:pt x="10303" y="6"/>
                    </a:lnTo>
                    <a:cubicBezTo>
                      <a:pt x="10302" y="6"/>
                      <a:pt x="10301" y="5"/>
                      <a:pt x="10301" y="4"/>
                    </a:cubicBezTo>
                    <a:cubicBezTo>
                      <a:pt x="10301" y="3"/>
                      <a:pt x="10302" y="2"/>
                      <a:pt x="10303" y="2"/>
                    </a:cubicBezTo>
                    <a:close/>
                    <a:moveTo>
                      <a:pt x="10311" y="2"/>
                    </a:moveTo>
                    <a:lnTo>
                      <a:pt x="10311" y="2"/>
                    </a:lnTo>
                    <a:cubicBezTo>
                      <a:pt x="10312" y="2"/>
                      <a:pt x="10313" y="3"/>
                      <a:pt x="10313" y="4"/>
                    </a:cubicBezTo>
                    <a:cubicBezTo>
                      <a:pt x="10313" y="5"/>
                      <a:pt x="10312" y="6"/>
                      <a:pt x="10311" y="6"/>
                    </a:cubicBezTo>
                    <a:lnTo>
                      <a:pt x="10311" y="6"/>
                    </a:lnTo>
                    <a:cubicBezTo>
                      <a:pt x="10310" y="6"/>
                      <a:pt x="10309" y="5"/>
                      <a:pt x="10309" y="4"/>
                    </a:cubicBezTo>
                    <a:cubicBezTo>
                      <a:pt x="10309" y="3"/>
                      <a:pt x="10310" y="2"/>
                      <a:pt x="10311" y="2"/>
                    </a:cubicBezTo>
                    <a:close/>
                    <a:moveTo>
                      <a:pt x="10319" y="2"/>
                    </a:moveTo>
                    <a:lnTo>
                      <a:pt x="10319" y="2"/>
                    </a:lnTo>
                    <a:cubicBezTo>
                      <a:pt x="10320" y="2"/>
                      <a:pt x="10321" y="3"/>
                      <a:pt x="10321" y="4"/>
                    </a:cubicBezTo>
                    <a:cubicBezTo>
                      <a:pt x="10321" y="5"/>
                      <a:pt x="10320" y="6"/>
                      <a:pt x="10319" y="6"/>
                    </a:cubicBezTo>
                    <a:lnTo>
                      <a:pt x="10319" y="6"/>
                    </a:lnTo>
                    <a:cubicBezTo>
                      <a:pt x="10318" y="6"/>
                      <a:pt x="10317" y="5"/>
                      <a:pt x="10317" y="4"/>
                    </a:cubicBezTo>
                    <a:cubicBezTo>
                      <a:pt x="10317" y="3"/>
                      <a:pt x="10318" y="2"/>
                      <a:pt x="10319" y="2"/>
                    </a:cubicBezTo>
                    <a:close/>
                    <a:moveTo>
                      <a:pt x="10327" y="2"/>
                    </a:moveTo>
                    <a:lnTo>
                      <a:pt x="10327" y="2"/>
                    </a:lnTo>
                    <a:cubicBezTo>
                      <a:pt x="10328" y="2"/>
                      <a:pt x="10329" y="3"/>
                      <a:pt x="10329" y="4"/>
                    </a:cubicBezTo>
                    <a:cubicBezTo>
                      <a:pt x="10329" y="5"/>
                      <a:pt x="10328" y="6"/>
                      <a:pt x="10327" y="6"/>
                    </a:cubicBezTo>
                    <a:lnTo>
                      <a:pt x="10327" y="6"/>
                    </a:lnTo>
                    <a:cubicBezTo>
                      <a:pt x="10326" y="6"/>
                      <a:pt x="10325" y="5"/>
                      <a:pt x="10325" y="4"/>
                    </a:cubicBezTo>
                    <a:cubicBezTo>
                      <a:pt x="10325" y="3"/>
                      <a:pt x="10326" y="2"/>
                      <a:pt x="10327" y="2"/>
                    </a:cubicBezTo>
                    <a:close/>
                    <a:moveTo>
                      <a:pt x="10335" y="2"/>
                    </a:moveTo>
                    <a:lnTo>
                      <a:pt x="10335" y="2"/>
                    </a:lnTo>
                    <a:cubicBezTo>
                      <a:pt x="10336" y="2"/>
                      <a:pt x="10337" y="3"/>
                      <a:pt x="10337" y="4"/>
                    </a:cubicBezTo>
                    <a:cubicBezTo>
                      <a:pt x="10337" y="5"/>
                      <a:pt x="10336" y="6"/>
                      <a:pt x="10335" y="6"/>
                    </a:cubicBezTo>
                    <a:lnTo>
                      <a:pt x="10335" y="6"/>
                    </a:lnTo>
                    <a:cubicBezTo>
                      <a:pt x="10334" y="6"/>
                      <a:pt x="10333" y="5"/>
                      <a:pt x="10333" y="4"/>
                    </a:cubicBezTo>
                    <a:cubicBezTo>
                      <a:pt x="10333" y="3"/>
                      <a:pt x="10334" y="2"/>
                      <a:pt x="10335" y="2"/>
                    </a:cubicBezTo>
                    <a:close/>
                    <a:moveTo>
                      <a:pt x="10343" y="2"/>
                    </a:moveTo>
                    <a:lnTo>
                      <a:pt x="10343" y="2"/>
                    </a:lnTo>
                    <a:cubicBezTo>
                      <a:pt x="10344" y="2"/>
                      <a:pt x="10345" y="3"/>
                      <a:pt x="10345" y="4"/>
                    </a:cubicBezTo>
                    <a:cubicBezTo>
                      <a:pt x="10345" y="5"/>
                      <a:pt x="10344" y="6"/>
                      <a:pt x="10343" y="6"/>
                    </a:cubicBezTo>
                    <a:lnTo>
                      <a:pt x="10343" y="6"/>
                    </a:lnTo>
                    <a:cubicBezTo>
                      <a:pt x="10342" y="6"/>
                      <a:pt x="10341" y="5"/>
                      <a:pt x="10341" y="4"/>
                    </a:cubicBezTo>
                    <a:cubicBezTo>
                      <a:pt x="10341" y="3"/>
                      <a:pt x="10342" y="2"/>
                      <a:pt x="10343" y="2"/>
                    </a:cubicBezTo>
                    <a:close/>
                    <a:moveTo>
                      <a:pt x="10351" y="2"/>
                    </a:moveTo>
                    <a:lnTo>
                      <a:pt x="10351" y="2"/>
                    </a:lnTo>
                    <a:cubicBezTo>
                      <a:pt x="10352" y="2"/>
                      <a:pt x="10353" y="3"/>
                      <a:pt x="10353" y="4"/>
                    </a:cubicBezTo>
                    <a:cubicBezTo>
                      <a:pt x="10353" y="5"/>
                      <a:pt x="10352" y="6"/>
                      <a:pt x="10351" y="6"/>
                    </a:cubicBezTo>
                    <a:lnTo>
                      <a:pt x="10351" y="6"/>
                    </a:lnTo>
                    <a:cubicBezTo>
                      <a:pt x="10350" y="6"/>
                      <a:pt x="10349" y="5"/>
                      <a:pt x="10349" y="4"/>
                    </a:cubicBezTo>
                    <a:cubicBezTo>
                      <a:pt x="10349" y="3"/>
                      <a:pt x="10350" y="2"/>
                      <a:pt x="10351" y="2"/>
                    </a:cubicBezTo>
                    <a:close/>
                    <a:moveTo>
                      <a:pt x="10359" y="2"/>
                    </a:moveTo>
                    <a:lnTo>
                      <a:pt x="10359" y="2"/>
                    </a:lnTo>
                    <a:cubicBezTo>
                      <a:pt x="10360" y="2"/>
                      <a:pt x="10361" y="3"/>
                      <a:pt x="10361" y="4"/>
                    </a:cubicBezTo>
                    <a:cubicBezTo>
                      <a:pt x="10361" y="5"/>
                      <a:pt x="10360" y="6"/>
                      <a:pt x="10359" y="6"/>
                    </a:cubicBezTo>
                    <a:lnTo>
                      <a:pt x="10359" y="6"/>
                    </a:lnTo>
                    <a:cubicBezTo>
                      <a:pt x="10358" y="6"/>
                      <a:pt x="10357" y="5"/>
                      <a:pt x="10357" y="4"/>
                    </a:cubicBezTo>
                    <a:cubicBezTo>
                      <a:pt x="10357" y="3"/>
                      <a:pt x="10358" y="2"/>
                      <a:pt x="10359" y="2"/>
                    </a:cubicBezTo>
                    <a:close/>
                    <a:moveTo>
                      <a:pt x="10367" y="2"/>
                    </a:moveTo>
                    <a:lnTo>
                      <a:pt x="10367" y="2"/>
                    </a:lnTo>
                    <a:cubicBezTo>
                      <a:pt x="10368" y="2"/>
                      <a:pt x="10369" y="3"/>
                      <a:pt x="10369" y="4"/>
                    </a:cubicBezTo>
                    <a:cubicBezTo>
                      <a:pt x="10369" y="5"/>
                      <a:pt x="10368" y="6"/>
                      <a:pt x="10367" y="6"/>
                    </a:cubicBezTo>
                    <a:lnTo>
                      <a:pt x="10367" y="6"/>
                    </a:lnTo>
                    <a:cubicBezTo>
                      <a:pt x="10366" y="6"/>
                      <a:pt x="10365" y="5"/>
                      <a:pt x="10365" y="4"/>
                    </a:cubicBezTo>
                    <a:cubicBezTo>
                      <a:pt x="10365" y="3"/>
                      <a:pt x="10366" y="2"/>
                      <a:pt x="10367" y="2"/>
                    </a:cubicBezTo>
                    <a:close/>
                    <a:moveTo>
                      <a:pt x="10375" y="2"/>
                    </a:moveTo>
                    <a:lnTo>
                      <a:pt x="10375" y="2"/>
                    </a:lnTo>
                    <a:cubicBezTo>
                      <a:pt x="10376" y="2"/>
                      <a:pt x="10377" y="3"/>
                      <a:pt x="10377" y="4"/>
                    </a:cubicBezTo>
                    <a:cubicBezTo>
                      <a:pt x="10377" y="5"/>
                      <a:pt x="10376" y="6"/>
                      <a:pt x="10375" y="6"/>
                    </a:cubicBezTo>
                    <a:lnTo>
                      <a:pt x="10375" y="6"/>
                    </a:lnTo>
                    <a:cubicBezTo>
                      <a:pt x="10374" y="6"/>
                      <a:pt x="10373" y="5"/>
                      <a:pt x="10373" y="4"/>
                    </a:cubicBezTo>
                    <a:cubicBezTo>
                      <a:pt x="10373" y="3"/>
                      <a:pt x="10374" y="2"/>
                      <a:pt x="10375" y="2"/>
                    </a:cubicBezTo>
                    <a:close/>
                    <a:moveTo>
                      <a:pt x="10383" y="2"/>
                    </a:moveTo>
                    <a:lnTo>
                      <a:pt x="10383" y="2"/>
                    </a:lnTo>
                    <a:cubicBezTo>
                      <a:pt x="10384" y="2"/>
                      <a:pt x="10385" y="3"/>
                      <a:pt x="10385" y="4"/>
                    </a:cubicBezTo>
                    <a:cubicBezTo>
                      <a:pt x="10385" y="5"/>
                      <a:pt x="10384" y="6"/>
                      <a:pt x="10383" y="6"/>
                    </a:cubicBezTo>
                    <a:lnTo>
                      <a:pt x="10383" y="6"/>
                    </a:lnTo>
                    <a:cubicBezTo>
                      <a:pt x="10382" y="6"/>
                      <a:pt x="10381" y="5"/>
                      <a:pt x="10381" y="4"/>
                    </a:cubicBezTo>
                    <a:cubicBezTo>
                      <a:pt x="10381" y="3"/>
                      <a:pt x="10382" y="2"/>
                      <a:pt x="10383" y="2"/>
                    </a:cubicBezTo>
                    <a:close/>
                    <a:moveTo>
                      <a:pt x="10391" y="2"/>
                    </a:moveTo>
                    <a:lnTo>
                      <a:pt x="10391" y="2"/>
                    </a:lnTo>
                    <a:cubicBezTo>
                      <a:pt x="10392" y="2"/>
                      <a:pt x="10393" y="3"/>
                      <a:pt x="10393" y="4"/>
                    </a:cubicBezTo>
                    <a:cubicBezTo>
                      <a:pt x="10393" y="5"/>
                      <a:pt x="10392" y="6"/>
                      <a:pt x="10391" y="6"/>
                    </a:cubicBezTo>
                    <a:lnTo>
                      <a:pt x="10391" y="6"/>
                    </a:lnTo>
                    <a:cubicBezTo>
                      <a:pt x="10390" y="6"/>
                      <a:pt x="10389" y="5"/>
                      <a:pt x="10389" y="4"/>
                    </a:cubicBezTo>
                    <a:cubicBezTo>
                      <a:pt x="10389" y="3"/>
                      <a:pt x="10390" y="2"/>
                      <a:pt x="10391" y="2"/>
                    </a:cubicBezTo>
                    <a:close/>
                    <a:moveTo>
                      <a:pt x="10399" y="2"/>
                    </a:moveTo>
                    <a:lnTo>
                      <a:pt x="10399" y="2"/>
                    </a:lnTo>
                    <a:cubicBezTo>
                      <a:pt x="10400" y="2"/>
                      <a:pt x="10401" y="3"/>
                      <a:pt x="10401" y="4"/>
                    </a:cubicBezTo>
                    <a:cubicBezTo>
                      <a:pt x="10401" y="5"/>
                      <a:pt x="10400" y="6"/>
                      <a:pt x="10399" y="6"/>
                    </a:cubicBezTo>
                    <a:lnTo>
                      <a:pt x="10399" y="6"/>
                    </a:lnTo>
                    <a:cubicBezTo>
                      <a:pt x="10398" y="6"/>
                      <a:pt x="10397" y="5"/>
                      <a:pt x="10397" y="4"/>
                    </a:cubicBezTo>
                    <a:cubicBezTo>
                      <a:pt x="10397" y="3"/>
                      <a:pt x="10398" y="2"/>
                      <a:pt x="10399" y="2"/>
                    </a:cubicBezTo>
                    <a:close/>
                    <a:moveTo>
                      <a:pt x="10407" y="2"/>
                    </a:moveTo>
                    <a:lnTo>
                      <a:pt x="10407" y="2"/>
                    </a:lnTo>
                    <a:cubicBezTo>
                      <a:pt x="10408" y="2"/>
                      <a:pt x="10409" y="3"/>
                      <a:pt x="10409" y="4"/>
                    </a:cubicBezTo>
                    <a:cubicBezTo>
                      <a:pt x="10409" y="5"/>
                      <a:pt x="10408" y="6"/>
                      <a:pt x="10407" y="6"/>
                    </a:cubicBezTo>
                    <a:lnTo>
                      <a:pt x="10407" y="6"/>
                    </a:lnTo>
                    <a:cubicBezTo>
                      <a:pt x="10406" y="6"/>
                      <a:pt x="10405" y="5"/>
                      <a:pt x="10405" y="4"/>
                    </a:cubicBezTo>
                    <a:cubicBezTo>
                      <a:pt x="10405" y="3"/>
                      <a:pt x="10406" y="2"/>
                      <a:pt x="10407" y="2"/>
                    </a:cubicBezTo>
                    <a:close/>
                    <a:moveTo>
                      <a:pt x="10415" y="2"/>
                    </a:moveTo>
                    <a:lnTo>
                      <a:pt x="10415" y="2"/>
                    </a:lnTo>
                    <a:cubicBezTo>
                      <a:pt x="10416" y="2"/>
                      <a:pt x="10417" y="3"/>
                      <a:pt x="10417" y="4"/>
                    </a:cubicBezTo>
                    <a:cubicBezTo>
                      <a:pt x="10417" y="5"/>
                      <a:pt x="10416" y="6"/>
                      <a:pt x="10415" y="6"/>
                    </a:cubicBezTo>
                    <a:lnTo>
                      <a:pt x="10415" y="6"/>
                    </a:lnTo>
                    <a:cubicBezTo>
                      <a:pt x="10414" y="6"/>
                      <a:pt x="10413" y="5"/>
                      <a:pt x="10413" y="4"/>
                    </a:cubicBezTo>
                    <a:cubicBezTo>
                      <a:pt x="10413" y="3"/>
                      <a:pt x="10414" y="2"/>
                      <a:pt x="10415" y="2"/>
                    </a:cubicBezTo>
                    <a:close/>
                    <a:moveTo>
                      <a:pt x="10423" y="2"/>
                    </a:moveTo>
                    <a:lnTo>
                      <a:pt x="10423" y="2"/>
                    </a:lnTo>
                    <a:cubicBezTo>
                      <a:pt x="10424" y="2"/>
                      <a:pt x="10425" y="3"/>
                      <a:pt x="10425" y="4"/>
                    </a:cubicBezTo>
                    <a:cubicBezTo>
                      <a:pt x="10425" y="5"/>
                      <a:pt x="10424" y="6"/>
                      <a:pt x="10423" y="6"/>
                    </a:cubicBezTo>
                    <a:lnTo>
                      <a:pt x="10423" y="6"/>
                    </a:lnTo>
                    <a:cubicBezTo>
                      <a:pt x="10422" y="6"/>
                      <a:pt x="10421" y="5"/>
                      <a:pt x="10421" y="4"/>
                    </a:cubicBezTo>
                    <a:cubicBezTo>
                      <a:pt x="10421" y="3"/>
                      <a:pt x="10422" y="2"/>
                      <a:pt x="10423" y="2"/>
                    </a:cubicBezTo>
                    <a:close/>
                    <a:moveTo>
                      <a:pt x="10431" y="2"/>
                    </a:moveTo>
                    <a:lnTo>
                      <a:pt x="10431" y="2"/>
                    </a:lnTo>
                    <a:cubicBezTo>
                      <a:pt x="10432" y="2"/>
                      <a:pt x="10433" y="3"/>
                      <a:pt x="10433" y="4"/>
                    </a:cubicBezTo>
                    <a:cubicBezTo>
                      <a:pt x="10433" y="5"/>
                      <a:pt x="10432" y="6"/>
                      <a:pt x="10431" y="6"/>
                    </a:cubicBezTo>
                    <a:lnTo>
                      <a:pt x="10431" y="6"/>
                    </a:lnTo>
                    <a:cubicBezTo>
                      <a:pt x="10430" y="6"/>
                      <a:pt x="10429" y="5"/>
                      <a:pt x="10429" y="4"/>
                    </a:cubicBezTo>
                    <a:cubicBezTo>
                      <a:pt x="10429" y="3"/>
                      <a:pt x="10430" y="2"/>
                      <a:pt x="10431" y="2"/>
                    </a:cubicBezTo>
                    <a:close/>
                    <a:moveTo>
                      <a:pt x="10439" y="2"/>
                    </a:moveTo>
                    <a:lnTo>
                      <a:pt x="10439" y="2"/>
                    </a:lnTo>
                    <a:cubicBezTo>
                      <a:pt x="10440" y="2"/>
                      <a:pt x="10441" y="3"/>
                      <a:pt x="10441" y="4"/>
                    </a:cubicBezTo>
                    <a:cubicBezTo>
                      <a:pt x="10441" y="5"/>
                      <a:pt x="10440" y="6"/>
                      <a:pt x="10439" y="6"/>
                    </a:cubicBezTo>
                    <a:lnTo>
                      <a:pt x="10439" y="6"/>
                    </a:lnTo>
                    <a:cubicBezTo>
                      <a:pt x="10438" y="6"/>
                      <a:pt x="10437" y="5"/>
                      <a:pt x="10437" y="4"/>
                    </a:cubicBezTo>
                    <a:cubicBezTo>
                      <a:pt x="10437" y="3"/>
                      <a:pt x="10438" y="2"/>
                      <a:pt x="10439" y="2"/>
                    </a:cubicBezTo>
                    <a:close/>
                    <a:moveTo>
                      <a:pt x="10447" y="2"/>
                    </a:moveTo>
                    <a:lnTo>
                      <a:pt x="10447" y="2"/>
                    </a:lnTo>
                    <a:cubicBezTo>
                      <a:pt x="10448" y="2"/>
                      <a:pt x="10449" y="3"/>
                      <a:pt x="10449" y="4"/>
                    </a:cubicBezTo>
                    <a:cubicBezTo>
                      <a:pt x="10449" y="5"/>
                      <a:pt x="10448" y="6"/>
                      <a:pt x="10447" y="6"/>
                    </a:cubicBezTo>
                    <a:lnTo>
                      <a:pt x="10447" y="6"/>
                    </a:lnTo>
                    <a:cubicBezTo>
                      <a:pt x="10446" y="6"/>
                      <a:pt x="10445" y="5"/>
                      <a:pt x="10445" y="4"/>
                    </a:cubicBezTo>
                    <a:cubicBezTo>
                      <a:pt x="10445" y="3"/>
                      <a:pt x="10446" y="2"/>
                      <a:pt x="10447" y="2"/>
                    </a:cubicBezTo>
                    <a:close/>
                    <a:moveTo>
                      <a:pt x="10455" y="2"/>
                    </a:moveTo>
                    <a:lnTo>
                      <a:pt x="10455" y="2"/>
                    </a:lnTo>
                    <a:cubicBezTo>
                      <a:pt x="10456" y="2"/>
                      <a:pt x="10457" y="3"/>
                      <a:pt x="10457" y="4"/>
                    </a:cubicBezTo>
                    <a:cubicBezTo>
                      <a:pt x="10457" y="5"/>
                      <a:pt x="10456" y="6"/>
                      <a:pt x="10455" y="6"/>
                    </a:cubicBezTo>
                    <a:lnTo>
                      <a:pt x="10455" y="6"/>
                    </a:lnTo>
                    <a:cubicBezTo>
                      <a:pt x="10454" y="6"/>
                      <a:pt x="10453" y="5"/>
                      <a:pt x="10453" y="4"/>
                    </a:cubicBezTo>
                    <a:cubicBezTo>
                      <a:pt x="10453" y="3"/>
                      <a:pt x="10454" y="2"/>
                      <a:pt x="10455" y="2"/>
                    </a:cubicBezTo>
                    <a:close/>
                    <a:moveTo>
                      <a:pt x="10463" y="2"/>
                    </a:moveTo>
                    <a:lnTo>
                      <a:pt x="10463" y="2"/>
                    </a:lnTo>
                    <a:cubicBezTo>
                      <a:pt x="10464" y="2"/>
                      <a:pt x="10465" y="3"/>
                      <a:pt x="10465" y="4"/>
                    </a:cubicBezTo>
                    <a:cubicBezTo>
                      <a:pt x="10465" y="5"/>
                      <a:pt x="10464" y="6"/>
                      <a:pt x="10463" y="6"/>
                    </a:cubicBezTo>
                    <a:lnTo>
                      <a:pt x="10463" y="6"/>
                    </a:lnTo>
                    <a:cubicBezTo>
                      <a:pt x="10462" y="6"/>
                      <a:pt x="10461" y="5"/>
                      <a:pt x="10461" y="4"/>
                    </a:cubicBezTo>
                    <a:cubicBezTo>
                      <a:pt x="10461" y="3"/>
                      <a:pt x="10462" y="2"/>
                      <a:pt x="10463" y="2"/>
                    </a:cubicBezTo>
                    <a:close/>
                    <a:moveTo>
                      <a:pt x="10471" y="2"/>
                    </a:moveTo>
                    <a:lnTo>
                      <a:pt x="10471" y="2"/>
                    </a:lnTo>
                    <a:cubicBezTo>
                      <a:pt x="10472" y="2"/>
                      <a:pt x="10473" y="3"/>
                      <a:pt x="10473" y="4"/>
                    </a:cubicBezTo>
                    <a:cubicBezTo>
                      <a:pt x="10473" y="5"/>
                      <a:pt x="10472" y="6"/>
                      <a:pt x="10471" y="6"/>
                    </a:cubicBezTo>
                    <a:lnTo>
                      <a:pt x="10471" y="6"/>
                    </a:lnTo>
                    <a:cubicBezTo>
                      <a:pt x="10470" y="6"/>
                      <a:pt x="10469" y="5"/>
                      <a:pt x="10469" y="4"/>
                    </a:cubicBezTo>
                    <a:cubicBezTo>
                      <a:pt x="10469" y="3"/>
                      <a:pt x="10470" y="2"/>
                      <a:pt x="10471" y="2"/>
                    </a:cubicBezTo>
                    <a:close/>
                    <a:moveTo>
                      <a:pt x="10479" y="2"/>
                    </a:moveTo>
                    <a:lnTo>
                      <a:pt x="10479" y="2"/>
                    </a:lnTo>
                    <a:cubicBezTo>
                      <a:pt x="10480" y="2"/>
                      <a:pt x="10481" y="3"/>
                      <a:pt x="10481" y="4"/>
                    </a:cubicBezTo>
                    <a:cubicBezTo>
                      <a:pt x="10481" y="5"/>
                      <a:pt x="10480" y="6"/>
                      <a:pt x="10479" y="6"/>
                    </a:cubicBezTo>
                    <a:lnTo>
                      <a:pt x="10479" y="6"/>
                    </a:lnTo>
                    <a:cubicBezTo>
                      <a:pt x="10478" y="6"/>
                      <a:pt x="10477" y="5"/>
                      <a:pt x="10477" y="4"/>
                    </a:cubicBezTo>
                    <a:cubicBezTo>
                      <a:pt x="10477" y="3"/>
                      <a:pt x="10478" y="2"/>
                      <a:pt x="10479" y="2"/>
                    </a:cubicBezTo>
                    <a:close/>
                    <a:moveTo>
                      <a:pt x="10487" y="2"/>
                    </a:moveTo>
                    <a:lnTo>
                      <a:pt x="10487" y="2"/>
                    </a:lnTo>
                    <a:cubicBezTo>
                      <a:pt x="10488" y="2"/>
                      <a:pt x="10489" y="3"/>
                      <a:pt x="10489" y="4"/>
                    </a:cubicBezTo>
                    <a:cubicBezTo>
                      <a:pt x="10489" y="5"/>
                      <a:pt x="10488" y="6"/>
                      <a:pt x="10487" y="6"/>
                    </a:cubicBezTo>
                    <a:lnTo>
                      <a:pt x="10487" y="6"/>
                    </a:lnTo>
                    <a:cubicBezTo>
                      <a:pt x="10486" y="6"/>
                      <a:pt x="10485" y="5"/>
                      <a:pt x="10485" y="4"/>
                    </a:cubicBezTo>
                    <a:cubicBezTo>
                      <a:pt x="10485" y="3"/>
                      <a:pt x="10486" y="2"/>
                      <a:pt x="10487" y="2"/>
                    </a:cubicBezTo>
                    <a:close/>
                    <a:moveTo>
                      <a:pt x="10495" y="2"/>
                    </a:moveTo>
                    <a:lnTo>
                      <a:pt x="10495" y="2"/>
                    </a:lnTo>
                    <a:cubicBezTo>
                      <a:pt x="10496" y="2"/>
                      <a:pt x="10497" y="3"/>
                      <a:pt x="10497" y="4"/>
                    </a:cubicBezTo>
                    <a:cubicBezTo>
                      <a:pt x="10497" y="5"/>
                      <a:pt x="10496" y="6"/>
                      <a:pt x="10495" y="6"/>
                    </a:cubicBezTo>
                    <a:lnTo>
                      <a:pt x="10495" y="6"/>
                    </a:lnTo>
                    <a:cubicBezTo>
                      <a:pt x="10494" y="6"/>
                      <a:pt x="10493" y="5"/>
                      <a:pt x="10493" y="4"/>
                    </a:cubicBezTo>
                    <a:cubicBezTo>
                      <a:pt x="10493" y="3"/>
                      <a:pt x="10494" y="2"/>
                      <a:pt x="10495" y="2"/>
                    </a:cubicBezTo>
                    <a:close/>
                    <a:moveTo>
                      <a:pt x="10503" y="2"/>
                    </a:moveTo>
                    <a:lnTo>
                      <a:pt x="10503" y="2"/>
                    </a:lnTo>
                    <a:cubicBezTo>
                      <a:pt x="10504" y="2"/>
                      <a:pt x="10505" y="3"/>
                      <a:pt x="10505" y="4"/>
                    </a:cubicBezTo>
                    <a:cubicBezTo>
                      <a:pt x="10505" y="5"/>
                      <a:pt x="10504" y="6"/>
                      <a:pt x="10503" y="6"/>
                    </a:cubicBezTo>
                    <a:lnTo>
                      <a:pt x="10503" y="6"/>
                    </a:lnTo>
                    <a:cubicBezTo>
                      <a:pt x="10502" y="6"/>
                      <a:pt x="10501" y="5"/>
                      <a:pt x="10501" y="4"/>
                    </a:cubicBezTo>
                    <a:cubicBezTo>
                      <a:pt x="10501" y="3"/>
                      <a:pt x="10502" y="2"/>
                      <a:pt x="10503" y="2"/>
                    </a:cubicBezTo>
                    <a:close/>
                    <a:moveTo>
                      <a:pt x="10511" y="2"/>
                    </a:moveTo>
                    <a:lnTo>
                      <a:pt x="10511" y="2"/>
                    </a:lnTo>
                    <a:cubicBezTo>
                      <a:pt x="10512" y="2"/>
                      <a:pt x="10513" y="3"/>
                      <a:pt x="10513" y="4"/>
                    </a:cubicBezTo>
                    <a:cubicBezTo>
                      <a:pt x="10513" y="5"/>
                      <a:pt x="10512" y="6"/>
                      <a:pt x="10511" y="6"/>
                    </a:cubicBezTo>
                    <a:lnTo>
                      <a:pt x="10511" y="6"/>
                    </a:lnTo>
                    <a:cubicBezTo>
                      <a:pt x="10510" y="6"/>
                      <a:pt x="10509" y="5"/>
                      <a:pt x="10509" y="4"/>
                    </a:cubicBezTo>
                    <a:cubicBezTo>
                      <a:pt x="10509" y="3"/>
                      <a:pt x="10510" y="2"/>
                      <a:pt x="10511" y="2"/>
                    </a:cubicBezTo>
                    <a:close/>
                    <a:moveTo>
                      <a:pt x="10519" y="2"/>
                    </a:moveTo>
                    <a:lnTo>
                      <a:pt x="10519" y="2"/>
                    </a:lnTo>
                    <a:cubicBezTo>
                      <a:pt x="10520" y="2"/>
                      <a:pt x="10521" y="3"/>
                      <a:pt x="10521" y="4"/>
                    </a:cubicBezTo>
                    <a:cubicBezTo>
                      <a:pt x="10521" y="5"/>
                      <a:pt x="10520" y="6"/>
                      <a:pt x="10519" y="6"/>
                    </a:cubicBezTo>
                    <a:lnTo>
                      <a:pt x="10519" y="6"/>
                    </a:lnTo>
                    <a:cubicBezTo>
                      <a:pt x="10518" y="6"/>
                      <a:pt x="10517" y="5"/>
                      <a:pt x="10517" y="4"/>
                    </a:cubicBezTo>
                    <a:cubicBezTo>
                      <a:pt x="10517" y="3"/>
                      <a:pt x="10518" y="2"/>
                      <a:pt x="10519" y="2"/>
                    </a:cubicBezTo>
                    <a:close/>
                    <a:moveTo>
                      <a:pt x="10527" y="2"/>
                    </a:moveTo>
                    <a:lnTo>
                      <a:pt x="10527" y="2"/>
                    </a:lnTo>
                    <a:cubicBezTo>
                      <a:pt x="10528" y="2"/>
                      <a:pt x="10529" y="3"/>
                      <a:pt x="10529" y="4"/>
                    </a:cubicBezTo>
                    <a:cubicBezTo>
                      <a:pt x="10529" y="5"/>
                      <a:pt x="10528" y="6"/>
                      <a:pt x="10527" y="6"/>
                    </a:cubicBezTo>
                    <a:lnTo>
                      <a:pt x="10527" y="6"/>
                    </a:lnTo>
                    <a:cubicBezTo>
                      <a:pt x="10526" y="6"/>
                      <a:pt x="10525" y="5"/>
                      <a:pt x="10525" y="4"/>
                    </a:cubicBezTo>
                    <a:cubicBezTo>
                      <a:pt x="10525" y="3"/>
                      <a:pt x="10526" y="2"/>
                      <a:pt x="10527" y="2"/>
                    </a:cubicBezTo>
                    <a:close/>
                    <a:moveTo>
                      <a:pt x="10535" y="2"/>
                    </a:moveTo>
                    <a:lnTo>
                      <a:pt x="10535" y="2"/>
                    </a:lnTo>
                    <a:cubicBezTo>
                      <a:pt x="10536" y="2"/>
                      <a:pt x="10537" y="3"/>
                      <a:pt x="10537" y="4"/>
                    </a:cubicBezTo>
                    <a:cubicBezTo>
                      <a:pt x="10537" y="5"/>
                      <a:pt x="10536" y="6"/>
                      <a:pt x="10535" y="6"/>
                    </a:cubicBezTo>
                    <a:lnTo>
                      <a:pt x="10535" y="6"/>
                    </a:lnTo>
                    <a:cubicBezTo>
                      <a:pt x="10534" y="6"/>
                      <a:pt x="10533" y="5"/>
                      <a:pt x="10533" y="4"/>
                    </a:cubicBezTo>
                    <a:cubicBezTo>
                      <a:pt x="10533" y="3"/>
                      <a:pt x="10534" y="2"/>
                      <a:pt x="10535" y="2"/>
                    </a:cubicBezTo>
                    <a:close/>
                    <a:moveTo>
                      <a:pt x="10543" y="2"/>
                    </a:moveTo>
                    <a:lnTo>
                      <a:pt x="10543" y="2"/>
                    </a:lnTo>
                    <a:cubicBezTo>
                      <a:pt x="10544" y="2"/>
                      <a:pt x="10545" y="3"/>
                      <a:pt x="10545" y="4"/>
                    </a:cubicBezTo>
                    <a:cubicBezTo>
                      <a:pt x="10545" y="5"/>
                      <a:pt x="10544" y="6"/>
                      <a:pt x="10543" y="6"/>
                    </a:cubicBezTo>
                    <a:lnTo>
                      <a:pt x="10543" y="6"/>
                    </a:lnTo>
                    <a:cubicBezTo>
                      <a:pt x="10542" y="6"/>
                      <a:pt x="10541" y="5"/>
                      <a:pt x="10541" y="4"/>
                    </a:cubicBezTo>
                    <a:cubicBezTo>
                      <a:pt x="10541" y="3"/>
                      <a:pt x="10542" y="2"/>
                      <a:pt x="10543" y="2"/>
                    </a:cubicBezTo>
                    <a:close/>
                    <a:moveTo>
                      <a:pt x="10551" y="2"/>
                    </a:moveTo>
                    <a:lnTo>
                      <a:pt x="10551" y="2"/>
                    </a:lnTo>
                    <a:cubicBezTo>
                      <a:pt x="10552" y="2"/>
                      <a:pt x="10553" y="3"/>
                      <a:pt x="10553" y="4"/>
                    </a:cubicBezTo>
                    <a:cubicBezTo>
                      <a:pt x="10553" y="5"/>
                      <a:pt x="10552" y="6"/>
                      <a:pt x="10551" y="6"/>
                    </a:cubicBezTo>
                    <a:lnTo>
                      <a:pt x="10551" y="6"/>
                    </a:lnTo>
                    <a:cubicBezTo>
                      <a:pt x="10550" y="6"/>
                      <a:pt x="10549" y="5"/>
                      <a:pt x="10549" y="4"/>
                    </a:cubicBezTo>
                    <a:cubicBezTo>
                      <a:pt x="10549" y="3"/>
                      <a:pt x="10550" y="2"/>
                      <a:pt x="10551" y="2"/>
                    </a:cubicBezTo>
                    <a:close/>
                    <a:moveTo>
                      <a:pt x="10559" y="2"/>
                    </a:moveTo>
                    <a:lnTo>
                      <a:pt x="10559" y="2"/>
                    </a:lnTo>
                    <a:cubicBezTo>
                      <a:pt x="10560" y="2"/>
                      <a:pt x="10561" y="3"/>
                      <a:pt x="10561" y="4"/>
                    </a:cubicBezTo>
                    <a:cubicBezTo>
                      <a:pt x="10561" y="5"/>
                      <a:pt x="10560" y="6"/>
                      <a:pt x="10559" y="6"/>
                    </a:cubicBezTo>
                    <a:lnTo>
                      <a:pt x="10559" y="6"/>
                    </a:lnTo>
                    <a:cubicBezTo>
                      <a:pt x="10558" y="6"/>
                      <a:pt x="10557" y="5"/>
                      <a:pt x="10557" y="4"/>
                    </a:cubicBezTo>
                    <a:cubicBezTo>
                      <a:pt x="10557" y="3"/>
                      <a:pt x="10558" y="2"/>
                      <a:pt x="10559" y="2"/>
                    </a:cubicBezTo>
                    <a:close/>
                    <a:moveTo>
                      <a:pt x="10567" y="2"/>
                    </a:moveTo>
                    <a:lnTo>
                      <a:pt x="10567" y="2"/>
                    </a:lnTo>
                    <a:cubicBezTo>
                      <a:pt x="10568" y="2"/>
                      <a:pt x="10569" y="3"/>
                      <a:pt x="10569" y="4"/>
                    </a:cubicBezTo>
                    <a:cubicBezTo>
                      <a:pt x="10569" y="5"/>
                      <a:pt x="10568" y="6"/>
                      <a:pt x="10567" y="6"/>
                    </a:cubicBezTo>
                    <a:lnTo>
                      <a:pt x="10567" y="6"/>
                    </a:lnTo>
                    <a:cubicBezTo>
                      <a:pt x="10566" y="6"/>
                      <a:pt x="10565" y="5"/>
                      <a:pt x="10565" y="4"/>
                    </a:cubicBezTo>
                    <a:cubicBezTo>
                      <a:pt x="10565" y="3"/>
                      <a:pt x="10566" y="2"/>
                      <a:pt x="10567" y="2"/>
                    </a:cubicBezTo>
                    <a:close/>
                    <a:moveTo>
                      <a:pt x="10575" y="2"/>
                    </a:moveTo>
                    <a:lnTo>
                      <a:pt x="10575" y="2"/>
                    </a:lnTo>
                    <a:cubicBezTo>
                      <a:pt x="10576" y="2"/>
                      <a:pt x="10577" y="3"/>
                      <a:pt x="10577" y="4"/>
                    </a:cubicBezTo>
                    <a:cubicBezTo>
                      <a:pt x="10577" y="5"/>
                      <a:pt x="10576" y="6"/>
                      <a:pt x="10575" y="6"/>
                    </a:cubicBezTo>
                    <a:lnTo>
                      <a:pt x="10575" y="6"/>
                    </a:lnTo>
                    <a:cubicBezTo>
                      <a:pt x="10574" y="6"/>
                      <a:pt x="10573" y="5"/>
                      <a:pt x="10573" y="4"/>
                    </a:cubicBezTo>
                    <a:cubicBezTo>
                      <a:pt x="10573" y="3"/>
                      <a:pt x="10574" y="2"/>
                      <a:pt x="10575" y="2"/>
                    </a:cubicBezTo>
                    <a:close/>
                    <a:moveTo>
                      <a:pt x="10583" y="2"/>
                    </a:moveTo>
                    <a:lnTo>
                      <a:pt x="10583" y="2"/>
                    </a:lnTo>
                    <a:cubicBezTo>
                      <a:pt x="10584" y="2"/>
                      <a:pt x="10585" y="3"/>
                      <a:pt x="10585" y="4"/>
                    </a:cubicBezTo>
                    <a:cubicBezTo>
                      <a:pt x="10585" y="5"/>
                      <a:pt x="10584" y="6"/>
                      <a:pt x="10583" y="6"/>
                    </a:cubicBezTo>
                    <a:lnTo>
                      <a:pt x="10583" y="6"/>
                    </a:lnTo>
                    <a:cubicBezTo>
                      <a:pt x="10582" y="6"/>
                      <a:pt x="10581" y="5"/>
                      <a:pt x="10581" y="4"/>
                    </a:cubicBezTo>
                    <a:cubicBezTo>
                      <a:pt x="10581" y="3"/>
                      <a:pt x="10582" y="2"/>
                      <a:pt x="10583" y="2"/>
                    </a:cubicBezTo>
                    <a:close/>
                    <a:moveTo>
                      <a:pt x="10591" y="2"/>
                    </a:moveTo>
                    <a:lnTo>
                      <a:pt x="10591" y="2"/>
                    </a:lnTo>
                    <a:cubicBezTo>
                      <a:pt x="10592" y="2"/>
                      <a:pt x="10593" y="3"/>
                      <a:pt x="10593" y="4"/>
                    </a:cubicBezTo>
                    <a:cubicBezTo>
                      <a:pt x="10593" y="5"/>
                      <a:pt x="10592" y="6"/>
                      <a:pt x="10591" y="6"/>
                    </a:cubicBezTo>
                    <a:lnTo>
                      <a:pt x="10591" y="6"/>
                    </a:lnTo>
                    <a:cubicBezTo>
                      <a:pt x="10590" y="6"/>
                      <a:pt x="10589" y="5"/>
                      <a:pt x="10589" y="4"/>
                    </a:cubicBezTo>
                    <a:cubicBezTo>
                      <a:pt x="10589" y="3"/>
                      <a:pt x="10590" y="2"/>
                      <a:pt x="10591" y="2"/>
                    </a:cubicBezTo>
                    <a:close/>
                    <a:moveTo>
                      <a:pt x="10599" y="2"/>
                    </a:moveTo>
                    <a:lnTo>
                      <a:pt x="10599" y="2"/>
                    </a:lnTo>
                    <a:cubicBezTo>
                      <a:pt x="10600" y="2"/>
                      <a:pt x="10601" y="3"/>
                      <a:pt x="10601" y="4"/>
                    </a:cubicBezTo>
                    <a:cubicBezTo>
                      <a:pt x="10601" y="5"/>
                      <a:pt x="10600" y="6"/>
                      <a:pt x="10599" y="6"/>
                    </a:cubicBezTo>
                    <a:lnTo>
                      <a:pt x="10599" y="6"/>
                    </a:lnTo>
                    <a:cubicBezTo>
                      <a:pt x="10598" y="6"/>
                      <a:pt x="10597" y="5"/>
                      <a:pt x="10597" y="4"/>
                    </a:cubicBezTo>
                    <a:cubicBezTo>
                      <a:pt x="10597" y="3"/>
                      <a:pt x="10598" y="2"/>
                      <a:pt x="10599" y="2"/>
                    </a:cubicBezTo>
                    <a:close/>
                    <a:moveTo>
                      <a:pt x="10607" y="2"/>
                    </a:moveTo>
                    <a:lnTo>
                      <a:pt x="10607" y="2"/>
                    </a:lnTo>
                    <a:cubicBezTo>
                      <a:pt x="10608" y="2"/>
                      <a:pt x="10609" y="3"/>
                      <a:pt x="10609" y="4"/>
                    </a:cubicBezTo>
                    <a:cubicBezTo>
                      <a:pt x="10609" y="5"/>
                      <a:pt x="10608" y="6"/>
                      <a:pt x="10607" y="6"/>
                    </a:cubicBezTo>
                    <a:lnTo>
                      <a:pt x="10607" y="6"/>
                    </a:lnTo>
                    <a:cubicBezTo>
                      <a:pt x="10606" y="6"/>
                      <a:pt x="10605" y="5"/>
                      <a:pt x="10605" y="4"/>
                    </a:cubicBezTo>
                    <a:cubicBezTo>
                      <a:pt x="10605" y="3"/>
                      <a:pt x="10606" y="2"/>
                      <a:pt x="10607" y="2"/>
                    </a:cubicBezTo>
                    <a:close/>
                    <a:moveTo>
                      <a:pt x="10615" y="2"/>
                    </a:moveTo>
                    <a:lnTo>
                      <a:pt x="10615" y="2"/>
                    </a:lnTo>
                    <a:cubicBezTo>
                      <a:pt x="10616" y="2"/>
                      <a:pt x="10617" y="3"/>
                      <a:pt x="10617" y="4"/>
                    </a:cubicBezTo>
                    <a:cubicBezTo>
                      <a:pt x="10617" y="5"/>
                      <a:pt x="10616" y="6"/>
                      <a:pt x="10615" y="6"/>
                    </a:cubicBezTo>
                    <a:lnTo>
                      <a:pt x="10615" y="6"/>
                    </a:lnTo>
                    <a:cubicBezTo>
                      <a:pt x="10614" y="6"/>
                      <a:pt x="10613" y="5"/>
                      <a:pt x="10613" y="4"/>
                    </a:cubicBezTo>
                    <a:cubicBezTo>
                      <a:pt x="10613" y="3"/>
                      <a:pt x="10614" y="2"/>
                      <a:pt x="10615" y="2"/>
                    </a:cubicBezTo>
                    <a:close/>
                    <a:moveTo>
                      <a:pt x="10623" y="2"/>
                    </a:moveTo>
                    <a:lnTo>
                      <a:pt x="10623" y="2"/>
                    </a:lnTo>
                    <a:cubicBezTo>
                      <a:pt x="10624" y="2"/>
                      <a:pt x="10625" y="3"/>
                      <a:pt x="10625" y="4"/>
                    </a:cubicBezTo>
                    <a:cubicBezTo>
                      <a:pt x="10625" y="5"/>
                      <a:pt x="10624" y="6"/>
                      <a:pt x="10623" y="6"/>
                    </a:cubicBezTo>
                    <a:lnTo>
                      <a:pt x="10623" y="6"/>
                    </a:lnTo>
                    <a:cubicBezTo>
                      <a:pt x="10622" y="6"/>
                      <a:pt x="10621" y="5"/>
                      <a:pt x="10621" y="4"/>
                    </a:cubicBezTo>
                    <a:cubicBezTo>
                      <a:pt x="10621" y="3"/>
                      <a:pt x="10622" y="2"/>
                      <a:pt x="10623" y="2"/>
                    </a:cubicBezTo>
                    <a:close/>
                    <a:moveTo>
                      <a:pt x="10631" y="2"/>
                    </a:moveTo>
                    <a:lnTo>
                      <a:pt x="10631" y="2"/>
                    </a:lnTo>
                    <a:cubicBezTo>
                      <a:pt x="10632" y="2"/>
                      <a:pt x="10633" y="3"/>
                      <a:pt x="10633" y="4"/>
                    </a:cubicBezTo>
                    <a:cubicBezTo>
                      <a:pt x="10633" y="5"/>
                      <a:pt x="10632" y="6"/>
                      <a:pt x="10631" y="6"/>
                    </a:cubicBezTo>
                    <a:lnTo>
                      <a:pt x="10631" y="6"/>
                    </a:lnTo>
                    <a:cubicBezTo>
                      <a:pt x="10630" y="6"/>
                      <a:pt x="10629" y="5"/>
                      <a:pt x="10629" y="4"/>
                    </a:cubicBezTo>
                    <a:cubicBezTo>
                      <a:pt x="10629" y="3"/>
                      <a:pt x="10630" y="2"/>
                      <a:pt x="10631" y="2"/>
                    </a:cubicBezTo>
                    <a:close/>
                    <a:moveTo>
                      <a:pt x="10639" y="2"/>
                    </a:moveTo>
                    <a:lnTo>
                      <a:pt x="10639" y="2"/>
                    </a:lnTo>
                    <a:cubicBezTo>
                      <a:pt x="10640" y="2"/>
                      <a:pt x="10641" y="3"/>
                      <a:pt x="10641" y="4"/>
                    </a:cubicBezTo>
                    <a:cubicBezTo>
                      <a:pt x="10641" y="5"/>
                      <a:pt x="10640" y="6"/>
                      <a:pt x="10639" y="6"/>
                    </a:cubicBezTo>
                    <a:lnTo>
                      <a:pt x="10639" y="6"/>
                    </a:lnTo>
                    <a:cubicBezTo>
                      <a:pt x="10638" y="6"/>
                      <a:pt x="10637" y="5"/>
                      <a:pt x="10637" y="4"/>
                    </a:cubicBezTo>
                    <a:cubicBezTo>
                      <a:pt x="10637" y="3"/>
                      <a:pt x="10638" y="2"/>
                      <a:pt x="10639" y="2"/>
                    </a:cubicBezTo>
                    <a:close/>
                    <a:moveTo>
                      <a:pt x="10647" y="2"/>
                    </a:moveTo>
                    <a:lnTo>
                      <a:pt x="10647" y="2"/>
                    </a:lnTo>
                    <a:cubicBezTo>
                      <a:pt x="10648" y="2"/>
                      <a:pt x="10649" y="3"/>
                      <a:pt x="10649" y="4"/>
                    </a:cubicBezTo>
                    <a:cubicBezTo>
                      <a:pt x="10649" y="5"/>
                      <a:pt x="10648" y="6"/>
                      <a:pt x="10647" y="6"/>
                    </a:cubicBezTo>
                    <a:lnTo>
                      <a:pt x="10647" y="6"/>
                    </a:lnTo>
                    <a:cubicBezTo>
                      <a:pt x="10646" y="6"/>
                      <a:pt x="10645" y="5"/>
                      <a:pt x="10645" y="4"/>
                    </a:cubicBezTo>
                    <a:cubicBezTo>
                      <a:pt x="10645" y="3"/>
                      <a:pt x="10646" y="2"/>
                      <a:pt x="10647" y="2"/>
                    </a:cubicBezTo>
                    <a:close/>
                    <a:moveTo>
                      <a:pt x="10655" y="2"/>
                    </a:moveTo>
                    <a:lnTo>
                      <a:pt x="10655" y="2"/>
                    </a:lnTo>
                    <a:cubicBezTo>
                      <a:pt x="10656" y="2"/>
                      <a:pt x="10657" y="3"/>
                      <a:pt x="10657" y="4"/>
                    </a:cubicBezTo>
                    <a:cubicBezTo>
                      <a:pt x="10657" y="5"/>
                      <a:pt x="10656" y="6"/>
                      <a:pt x="10655" y="6"/>
                    </a:cubicBezTo>
                    <a:lnTo>
                      <a:pt x="10655" y="6"/>
                    </a:lnTo>
                    <a:cubicBezTo>
                      <a:pt x="10654" y="6"/>
                      <a:pt x="10653" y="5"/>
                      <a:pt x="10653" y="4"/>
                    </a:cubicBezTo>
                    <a:cubicBezTo>
                      <a:pt x="10653" y="3"/>
                      <a:pt x="10654" y="2"/>
                      <a:pt x="10655" y="2"/>
                    </a:cubicBezTo>
                    <a:close/>
                    <a:moveTo>
                      <a:pt x="10663" y="2"/>
                    </a:moveTo>
                    <a:lnTo>
                      <a:pt x="10663" y="2"/>
                    </a:lnTo>
                    <a:cubicBezTo>
                      <a:pt x="10664" y="2"/>
                      <a:pt x="10665" y="3"/>
                      <a:pt x="10665" y="4"/>
                    </a:cubicBezTo>
                    <a:cubicBezTo>
                      <a:pt x="10665" y="5"/>
                      <a:pt x="10664" y="6"/>
                      <a:pt x="10663" y="6"/>
                    </a:cubicBezTo>
                    <a:lnTo>
                      <a:pt x="10663" y="6"/>
                    </a:lnTo>
                    <a:cubicBezTo>
                      <a:pt x="10662" y="6"/>
                      <a:pt x="10661" y="5"/>
                      <a:pt x="10661" y="4"/>
                    </a:cubicBezTo>
                    <a:cubicBezTo>
                      <a:pt x="10661" y="3"/>
                      <a:pt x="10662" y="2"/>
                      <a:pt x="10663" y="2"/>
                    </a:cubicBezTo>
                    <a:close/>
                    <a:moveTo>
                      <a:pt x="10671" y="2"/>
                    </a:moveTo>
                    <a:lnTo>
                      <a:pt x="10671" y="2"/>
                    </a:lnTo>
                    <a:cubicBezTo>
                      <a:pt x="10672" y="2"/>
                      <a:pt x="10673" y="3"/>
                      <a:pt x="10673" y="4"/>
                    </a:cubicBezTo>
                    <a:cubicBezTo>
                      <a:pt x="10673" y="5"/>
                      <a:pt x="10672" y="6"/>
                      <a:pt x="10671" y="6"/>
                    </a:cubicBezTo>
                    <a:lnTo>
                      <a:pt x="10671" y="6"/>
                    </a:lnTo>
                    <a:cubicBezTo>
                      <a:pt x="10670" y="6"/>
                      <a:pt x="10669" y="5"/>
                      <a:pt x="10669" y="4"/>
                    </a:cubicBezTo>
                    <a:cubicBezTo>
                      <a:pt x="10669" y="3"/>
                      <a:pt x="10670" y="2"/>
                      <a:pt x="10671" y="2"/>
                    </a:cubicBezTo>
                    <a:close/>
                    <a:moveTo>
                      <a:pt x="10679" y="2"/>
                    </a:moveTo>
                    <a:lnTo>
                      <a:pt x="10679" y="2"/>
                    </a:lnTo>
                    <a:cubicBezTo>
                      <a:pt x="10680" y="2"/>
                      <a:pt x="10681" y="3"/>
                      <a:pt x="10681" y="4"/>
                    </a:cubicBezTo>
                    <a:cubicBezTo>
                      <a:pt x="10681" y="5"/>
                      <a:pt x="10680" y="6"/>
                      <a:pt x="10679" y="6"/>
                    </a:cubicBezTo>
                    <a:lnTo>
                      <a:pt x="10679" y="6"/>
                    </a:lnTo>
                    <a:cubicBezTo>
                      <a:pt x="10678" y="6"/>
                      <a:pt x="10677" y="5"/>
                      <a:pt x="10677" y="4"/>
                    </a:cubicBezTo>
                    <a:cubicBezTo>
                      <a:pt x="10677" y="3"/>
                      <a:pt x="10678" y="2"/>
                      <a:pt x="10679" y="2"/>
                    </a:cubicBezTo>
                    <a:close/>
                    <a:moveTo>
                      <a:pt x="10687" y="2"/>
                    </a:moveTo>
                    <a:lnTo>
                      <a:pt x="10687" y="2"/>
                    </a:lnTo>
                    <a:cubicBezTo>
                      <a:pt x="10688" y="2"/>
                      <a:pt x="10689" y="3"/>
                      <a:pt x="10689" y="4"/>
                    </a:cubicBezTo>
                    <a:cubicBezTo>
                      <a:pt x="10689" y="5"/>
                      <a:pt x="10688" y="6"/>
                      <a:pt x="10687" y="6"/>
                    </a:cubicBezTo>
                    <a:lnTo>
                      <a:pt x="10687" y="6"/>
                    </a:lnTo>
                    <a:cubicBezTo>
                      <a:pt x="10686" y="6"/>
                      <a:pt x="10685" y="5"/>
                      <a:pt x="10685" y="4"/>
                    </a:cubicBezTo>
                    <a:cubicBezTo>
                      <a:pt x="10685" y="3"/>
                      <a:pt x="10686" y="2"/>
                      <a:pt x="10687" y="2"/>
                    </a:cubicBezTo>
                    <a:close/>
                    <a:moveTo>
                      <a:pt x="10695" y="2"/>
                    </a:moveTo>
                    <a:lnTo>
                      <a:pt x="10695" y="2"/>
                    </a:lnTo>
                    <a:cubicBezTo>
                      <a:pt x="10696" y="2"/>
                      <a:pt x="10697" y="3"/>
                      <a:pt x="10697" y="4"/>
                    </a:cubicBezTo>
                    <a:cubicBezTo>
                      <a:pt x="10697" y="5"/>
                      <a:pt x="10696" y="6"/>
                      <a:pt x="10695" y="6"/>
                    </a:cubicBezTo>
                    <a:lnTo>
                      <a:pt x="10695" y="6"/>
                    </a:lnTo>
                    <a:cubicBezTo>
                      <a:pt x="10694" y="6"/>
                      <a:pt x="10693" y="5"/>
                      <a:pt x="10693" y="4"/>
                    </a:cubicBezTo>
                    <a:cubicBezTo>
                      <a:pt x="10693" y="3"/>
                      <a:pt x="10694" y="2"/>
                      <a:pt x="10695" y="2"/>
                    </a:cubicBezTo>
                    <a:close/>
                    <a:moveTo>
                      <a:pt x="10703" y="2"/>
                    </a:moveTo>
                    <a:lnTo>
                      <a:pt x="10703" y="2"/>
                    </a:lnTo>
                    <a:cubicBezTo>
                      <a:pt x="10704" y="2"/>
                      <a:pt x="10705" y="3"/>
                      <a:pt x="10705" y="4"/>
                    </a:cubicBezTo>
                    <a:cubicBezTo>
                      <a:pt x="10705" y="5"/>
                      <a:pt x="10704" y="6"/>
                      <a:pt x="10703" y="6"/>
                    </a:cubicBezTo>
                    <a:lnTo>
                      <a:pt x="10703" y="6"/>
                    </a:lnTo>
                    <a:cubicBezTo>
                      <a:pt x="10702" y="6"/>
                      <a:pt x="10701" y="5"/>
                      <a:pt x="10701" y="4"/>
                    </a:cubicBezTo>
                    <a:cubicBezTo>
                      <a:pt x="10701" y="3"/>
                      <a:pt x="10702" y="2"/>
                      <a:pt x="10703" y="2"/>
                    </a:cubicBezTo>
                    <a:close/>
                    <a:moveTo>
                      <a:pt x="10711" y="2"/>
                    </a:moveTo>
                    <a:lnTo>
                      <a:pt x="10711" y="2"/>
                    </a:lnTo>
                    <a:cubicBezTo>
                      <a:pt x="10712" y="2"/>
                      <a:pt x="10713" y="3"/>
                      <a:pt x="10713" y="4"/>
                    </a:cubicBezTo>
                    <a:cubicBezTo>
                      <a:pt x="10713" y="5"/>
                      <a:pt x="10712" y="6"/>
                      <a:pt x="10711" y="6"/>
                    </a:cubicBezTo>
                    <a:lnTo>
                      <a:pt x="10711" y="6"/>
                    </a:lnTo>
                    <a:cubicBezTo>
                      <a:pt x="10710" y="6"/>
                      <a:pt x="10709" y="5"/>
                      <a:pt x="10709" y="4"/>
                    </a:cubicBezTo>
                    <a:cubicBezTo>
                      <a:pt x="10709" y="3"/>
                      <a:pt x="10710" y="2"/>
                      <a:pt x="10711" y="2"/>
                    </a:cubicBezTo>
                    <a:close/>
                    <a:moveTo>
                      <a:pt x="10719" y="2"/>
                    </a:moveTo>
                    <a:lnTo>
                      <a:pt x="10719" y="2"/>
                    </a:lnTo>
                    <a:cubicBezTo>
                      <a:pt x="10720" y="2"/>
                      <a:pt x="10721" y="3"/>
                      <a:pt x="10721" y="4"/>
                    </a:cubicBezTo>
                    <a:cubicBezTo>
                      <a:pt x="10721" y="5"/>
                      <a:pt x="10720" y="6"/>
                      <a:pt x="10719" y="6"/>
                    </a:cubicBezTo>
                    <a:lnTo>
                      <a:pt x="10719" y="6"/>
                    </a:lnTo>
                    <a:cubicBezTo>
                      <a:pt x="10718" y="6"/>
                      <a:pt x="10717" y="5"/>
                      <a:pt x="10717" y="4"/>
                    </a:cubicBezTo>
                    <a:cubicBezTo>
                      <a:pt x="10717" y="3"/>
                      <a:pt x="10718" y="2"/>
                      <a:pt x="10719" y="2"/>
                    </a:cubicBezTo>
                    <a:close/>
                    <a:moveTo>
                      <a:pt x="10727" y="2"/>
                    </a:moveTo>
                    <a:lnTo>
                      <a:pt x="10727" y="2"/>
                    </a:lnTo>
                    <a:cubicBezTo>
                      <a:pt x="10728" y="2"/>
                      <a:pt x="10729" y="3"/>
                      <a:pt x="10729" y="4"/>
                    </a:cubicBezTo>
                    <a:cubicBezTo>
                      <a:pt x="10729" y="5"/>
                      <a:pt x="10728" y="6"/>
                      <a:pt x="10727" y="6"/>
                    </a:cubicBezTo>
                    <a:lnTo>
                      <a:pt x="10727" y="6"/>
                    </a:lnTo>
                    <a:cubicBezTo>
                      <a:pt x="10726" y="6"/>
                      <a:pt x="10725" y="5"/>
                      <a:pt x="10725" y="4"/>
                    </a:cubicBezTo>
                    <a:cubicBezTo>
                      <a:pt x="10725" y="3"/>
                      <a:pt x="10726" y="2"/>
                      <a:pt x="10727" y="2"/>
                    </a:cubicBezTo>
                    <a:close/>
                    <a:moveTo>
                      <a:pt x="10735" y="2"/>
                    </a:moveTo>
                    <a:lnTo>
                      <a:pt x="10735" y="2"/>
                    </a:lnTo>
                    <a:cubicBezTo>
                      <a:pt x="10736" y="2"/>
                      <a:pt x="10737" y="3"/>
                      <a:pt x="10737" y="4"/>
                    </a:cubicBezTo>
                    <a:cubicBezTo>
                      <a:pt x="10737" y="5"/>
                      <a:pt x="10736" y="6"/>
                      <a:pt x="10735" y="6"/>
                    </a:cubicBezTo>
                    <a:lnTo>
                      <a:pt x="10735" y="6"/>
                    </a:lnTo>
                    <a:cubicBezTo>
                      <a:pt x="10734" y="6"/>
                      <a:pt x="10733" y="5"/>
                      <a:pt x="10733" y="4"/>
                    </a:cubicBezTo>
                    <a:cubicBezTo>
                      <a:pt x="10733" y="3"/>
                      <a:pt x="10734" y="2"/>
                      <a:pt x="10735" y="2"/>
                    </a:cubicBezTo>
                    <a:close/>
                    <a:moveTo>
                      <a:pt x="10743" y="2"/>
                    </a:moveTo>
                    <a:lnTo>
                      <a:pt x="10743" y="2"/>
                    </a:lnTo>
                    <a:cubicBezTo>
                      <a:pt x="10744" y="2"/>
                      <a:pt x="10745" y="3"/>
                      <a:pt x="10745" y="4"/>
                    </a:cubicBezTo>
                    <a:cubicBezTo>
                      <a:pt x="10745" y="5"/>
                      <a:pt x="10744" y="6"/>
                      <a:pt x="10743" y="6"/>
                    </a:cubicBezTo>
                    <a:lnTo>
                      <a:pt x="10743" y="6"/>
                    </a:lnTo>
                    <a:cubicBezTo>
                      <a:pt x="10742" y="6"/>
                      <a:pt x="10741" y="5"/>
                      <a:pt x="10741" y="4"/>
                    </a:cubicBezTo>
                    <a:cubicBezTo>
                      <a:pt x="10741" y="3"/>
                      <a:pt x="10742" y="2"/>
                      <a:pt x="10743" y="2"/>
                    </a:cubicBezTo>
                    <a:close/>
                    <a:moveTo>
                      <a:pt x="10751" y="2"/>
                    </a:moveTo>
                    <a:lnTo>
                      <a:pt x="10751" y="2"/>
                    </a:lnTo>
                    <a:cubicBezTo>
                      <a:pt x="10752" y="2"/>
                      <a:pt x="10753" y="3"/>
                      <a:pt x="10753" y="4"/>
                    </a:cubicBezTo>
                    <a:cubicBezTo>
                      <a:pt x="10753" y="5"/>
                      <a:pt x="10752" y="6"/>
                      <a:pt x="10751" y="6"/>
                    </a:cubicBezTo>
                    <a:lnTo>
                      <a:pt x="10751" y="6"/>
                    </a:lnTo>
                    <a:cubicBezTo>
                      <a:pt x="10750" y="6"/>
                      <a:pt x="10749" y="5"/>
                      <a:pt x="10749" y="4"/>
                    </a:cubicBezTo>
                    <a:cubicBezTo>
                      <a:pt x="10749" y="3"/>
                      <a:pt x="10750" y="2"/>
                      <a:pt x="10751" y="2"/>
                    </a:cubicBezTo>
                    <a:close/>
                    <a:moveTo>
                      <a:pt x="10759" y="2"/>
                    </a:moveTo>
                    <a:lnTo>
                      <a:pt x="10759" y="2"/>
                    </a:lnTo>
                    <a:cubicBezTo>
                      <a:pt x="10760" y="2"/>
                      <a:pt x="10761" y="3"/>
                      <a:pt x="10761" y="4"/>
                    </a:cubicBezTo>
                    <a:cubicBezTo>
                      <a:pt x="10761" y="5"/>
                      <a:pt x="10760" y="6"/>
                      <a:pt x="10759" y="6"/>
                    </a:cubicBezTo>
                    <a:lnTo>
                      <a:pt x="10759" y="6"/>
                    </a:lnTo>
                    <a:cubicBezTo>
                      <a:pt x="10758" y="6"/>
                      <a:pt x="10757" y="5"/>
                      <a:pt x="10757" y="4"/>
                    </a:cubicBezTo>
                    <a:cubicBezTo>
                      <a:pt x="10757" y="3"/>
                      <a:pt x="10758" y="2"/>
                      <a:pt x="10759" y="2"/>
                    </a:cubicBezTo>
                    <a:close/>
                    <a:moveTo>
                      <a:pt x="10767" y="2"/>
                    </a:moveTo>
                    <a:lnTo>
                      <a:pt x="10767" y="2"/>
                    </a:lnTo>
                    <a:cubicBezTo>
                      <a:pt x="10768" y="2"/>
                      <a:pt x="10769" y="3"/>
                      <a:pt x="10769" y="4"/>
                    </a:cubicBezTo>
                    <a:cubicBezTo>
                      <a:pt x="10769" y="5"/>
                      <a:pt x="10768" y="6"/>
                      <a:pt x="10767" y="6"/>
                    </a:cubicBezTo>
                    <a:lnTo>
                      <a:pt x="10767" y="6"/>
                    </a:lnTo>
                    <a:cubicBezTo>
                      <a:pt x="10766" y="6"/>
                      <a:pt x="10765" y="5"/>
                      <a:pt x="10765" y="4"/>
                    </a:cubicBezTo>
                    <a:cubicBezTo>
                      <a:pt x="10765" y="3"/>
                      <a:pt x="10766" y="2"/>
                      <a:pt x="10767" y="2"/>
                    </a:cubicBezTo>
                    <a:close/>
                    <a:moveTo>
                      <a:pt x="10775" y="2"/>
                    </a:moveTo>
                    <a:lnTo>
                      <a:pt x="10775" y="2"/>
                    </a:lnTo>
                    <a:cubicBezTo>
                      <a:pt x="10776" y="2"/>
                      <a:pt x="10777" y="3"/>
                      <a:pt x="10777" y="4"/>
                    </a:cubicBezTo>
                    <a:cubicBezTo>
                      <a:pt x="10777" y="5"/>
                      <a:pt x="10776" y="6"/>
                      <a:pt x="10775" y="6"/>
                    </a:cubicBezTo>
                    <a:lnTo>
                      <a:pt x="10775" y="6"/>
                    </a:lnTo>
                    <a:cubicBezTo>
                      <a:pt x="10774" y="6"/>
                      <a:pt x="10773" y="5"/>
                      <a:pt x="10773" y="4"/>
                    </a:cubicBezTo>
                    <a:cubicBezTo>
                      <a:pt x="10773" y="3"/>
                      <a:pt x="10774" y="2"/>
                      <a:pt x="10775" y="2"/>
                    </a:cubicBezTo>
                    <a:close/>
                    <a:moveTo>
                      <a:pt x="10783" y="2"/>
                    </a:moveTo>
                    <a:lnTo>
                      <a:pt x="10783" y="2"/>
                    </a:lnTo>
                    <a:cubicBezTo>
                      <a:pt x="10784" y="2"/>
                      <a:pt x="10785" y="3"/>
                      <a:pt x="10785" y="4"/>
                    </a:cubicBezTo>
                    <a:cubicBezTo>
                      <a:pt x="10785" y="5"/>
                      <a:pt x="10784" y="6"/>
                      <a:pt x="10783" y="6"/>
                    </a:cubicBezTo>
                    <a:lnTo>
                      <a:pt x="10783" y="6"/>
                    </a:lnTo>
                    <a:cubicBezTo>
                      <a:pt x="10782" y="6"/>
                      <a:pt x="10781" y="5"/>
                      <a:pt x="10781" y="4"/>
                    </a:cubicBezTo>
                    <a:cubicBezTo>
                      <a:pt x="10781" y="3"/>
                      <a:pt x="10782" y="2"/>
                      <a:pt x="10783" y="2"/>
                    </a:cubicBezTo>
                    <a:close/>
                    <a:moveTo>
                      <a:pt x="10791" y="2"/>
                    </a:moveTo>
                    <a:lnTo>
                      <a:pt x="10791" y="2"/>
                    </a:lnTo>
                    <a:cubicBezTo>
                      <a:pt x="10793" y="2"/>
                      <a:pt x="10793" y="3"/>
                      <a:pt x="10793" y="4"/>
                    </a:cubicBezTo>
                    <a:cubicBezTo>
                      <a:pt x="10793" y="5"/>
                      <a:pt x="10793" y="6"/>
                      <a:pt x="10791" y="6"/>
                    </a:cubicBezTo>
                    <a:lnTo>
                      <a:pt x="10791" y="6"/>
                    </a:lnTo>
                    <a:cubicBezTo>
                      <a:pt x="10790" y="6"/>
                      <a:pt x="10789" y="5"/>
                      <a:pt x="10789" y="4"/>
                    </a:cubicBezTo>
                    <a:cubicBezTo>
                      <a:pt x="10789" y="3"/>
                      <a:pt x="10790" y="2"/>
                      <a:pt x="10791" y="2"/>
                    </a:cubicBezTo>
                    <a:close/>
                    <a:moveTo>
                      <a:pt x="10799" y="2"/>
                    </a:moveTo>
                    <a:lnTo>
                      <a:pt x="10799" y="2"/>
                    </a:lnTo>
                    <a:cubicBezTo>
                      <a:pt x="10801" y="2"/>
                      <a:pt x="10801" y="3"/>
                      <a:pt x="10801" y="4"/>
                    </a:cubicBezTo>
                    <a:cubicBezTo>
                      <a:pt x="10801" y="5"/>
                      <a:pt x="10801" y="6"/>
                      <a:pt x="10799" y="6"/>
                    </a:cubicBezTo>
                    <a:lnTo>
                      <a:pt x="10799" y="6"/>
                    </a:lnTo>
                    <a:cubicBezTo>
                      <a:pt x="10798" y="6"/>
                      <a:pt x="10797" y="5"/>
                      <a:pt x="10797" y="4"/>
                    </a:cubicBezTo>
                    <a:cubicBezTo>
                      <a:pt x="10797" y="3"/>
                      <a:pt x="10798" y="2"/>
                      <a:pt x="10799" y="2"/>
                    </a:cubicBezTo>
                    <a:close/>
                    <a:moveTo>
                      <a:pt x="10807" y="2"/>
                    </a:moveTo>
                    <a:lnTo>
                      <a:pt x="10807" y="2"/>
                    </a:lnTo>
                    <a:cubicBezTo>
                      <a:pt x="10809" y="2"/>
                      <a:pt x="10809" y="3"/>
                      <a:pt x="10809" y="4"/>
                    </a:cubicBezTo>
                    <a:cubicBezTo>
                      <a:pt x="10809" y="5"/>
                      <a:pt x="10809" y="6"/>
                      <a:pt x="10807" y="6"/>
                    </a:cubicBezTo>
                    <a:lnTo>
                      <a:pt x="10807" y="6"/>
                    </a:lnTo>
                    <a:cubicBezTo>
                      <a:pt x="10806" y="6"/>
                      <a:pt x="10805" y="5"/>
                      <a:pt x="10805" y="4"/>
                    </a:cubicBezTo>
                    <a:cubicBezTo>
                      <a:pt x="10805" y="3"/>
                      <a:pt x="10806" y="2"/>
                      <a:pt x="10807" y="2"/>
                    </a:cubicBezTo>
                    <a:close/>
                    <a:moveTo>
                      <a:pt x="10815" y="2"/>
                    </a:moveTo>
                    <a:lnTo>
                      <a:pt x="10815" y="2"/>
                    </a:lnTo>
                    <a:cubicBezTo>
                      <a:pt x="10817" y="2"/>
                      <a:pt x="10817" y="3"/>
                      <a:pt x="10817" y="4"/>
                    </a:cubicBezTo>
                    <a:cubicBezTo>
                      <a:pt x="10817" y="5"/>
                      <a:pt x="10817" y="6"/>
                      <a:pt x="10815" y="6"/>
                    </a:cubicBezTo>
                    <a:lnTo>
                      <a:pt x="10815" y="6"/>
                    </a:lnTo>
                    <a:cubicBezTo>
                      <a:pt x="10814" y="6"/>
                      <a:pt x="10813" y="5"/>
                      <a:pt x="10813" y="4"/>
                    </a:cubicBezTo>
                    <a:cubicBezTo>
                      <a:pt x="10813" y="3"/>
                      <a:pt x="10814" y="2"/>
                      <a:pt x="10815" y="2"/>
                    </a:cubicBezTo>
                    <a:close/>
                    <a:moveTo>
                      <a:pt x="10823" y="2"/>
                    </a:moveTo>
                    <a:lnTo>
                      <a:pt x="10823" y="2"/>
                    </a:lnTo>
                    <a:cubicBezTo>
                      <a:pt x="10825" y="2"/>
                      <a:pt x="10825" y="3"/>
                      <a:pt x="10825" y="4"/>
                    </a:cubicBezTo>
                    <a:cubicBezTo>
                      <a:pt x="10825" y="5"/>
                      <a:pt x="10825" y="6"/>
                      <a:pt x="10823" y="6"/>
                    </a:cubicBezTo>
                    <a:lnTo>
                      <a:pt x="10823" y="6"/>
                    </a:lnTo>
                    <a:cubicBezTo>
                      <a:pt x="10822" y="6"/>
                      <a:pt x="10821" y="5"/>
                      <a:pt x="10821" y="4"/>
                    </a:cubicBezTo>
                    <a:cubicBezTo>
                      <a:pt x="10821" y="3"/>
                      <a:pt x="10822" y="2"/>
                      <a:pt x="10823" y="2"/>
                    </a:cubicBezTo>
                    <a:close/>
                    <a:moveTo>
                      <a:pt x="10831" y="2"/>
                    </a:moveTo>
                    <a:lnTo>
                      <a:pt x="10831" y="2"/>
                    </a:lnTo>
                    <a:cubicBezTo>
                      <a:pt x="10833" y="2"/>
                      <a:pt x="10833" y="3"/>
                      <a:pt x="10833" y="4"/>
                    </a:cubicBezTo>
                    <a:cubicBezTo>
                      <a:pt x="10833" y="5"/>
                      <a:pt x="10833" y="6"/>
                      <a:pt x="10831" y="6"/>
                    </a:cubicBezTo>
                    <a:lnTo>
                      <a:pt x="10831" y="6"/>
                    </a:lnTo>
                    <a:cubicBezTo>
                      <a:pt x="10830" y="6"/>
                      <a:pt x="10829" y="5"/>
                      <a:pt x="10829" y="4"/>
                    </a:cubicBezTo>
                    <a:cubicBezTo>
                      <a:pt x="10829" y="3"/>
                      <a:pt x="10830" y="2"/>
                      <a:pt x="10831" y="2"/>
                    </a:cubicBezTo>
                    <a:close/>
                    <a:moveTo>
                      <a:pt x="10839" y="2"/>
                    </a:moveTo>
                    <a:lnTo>
                      <a:pt x="10839" y="2"/>
                    </a:lnTo>
                    <a:cubicBezTo>
                      <a:pt x="10841" y="2"/>
                      <a:pt x="10841" y="3"/>
                      <a:pt x="10841" y="4"/>
                    </a:cubicBezTo>
                    <a:cubicBezTo>
                      <a:pt x="10841" y="5"/>
                      <a:pt x="10841" y="6"/>
                      <a:pt x="10839" y="6"/>
                    </a:cubicBezTo>
                    <a:lnTo>
                      <a:pt x="10839" y="6"/>
                    </a:lnTo>
                    <a:cubicBezTo>
                      <a:pt x="10838" y="6"/>
                      <a:pt x="10837" y="5"/>
                      <a:pt x="10837" y="4"/>
                    </a:cubicBezTo>
                    <a:cubicBezTo>
                      <a:pt x="10837" y="3"/>
                      <a:pt x="10838" y="2"/>
                      <a:pt x="10839" y="2"/>
                    </a:cubicBezTo>
                    <a:close/>
                    <a:moveTo>
                      <a:pt x="10847" y="2"/>
                    </a:moveTo>
                    <a:lnTo>
                      <a:pt x="10847" y="2"/>
                    </a:lnTo>
                    <a:cubicBezTo>
                      <a:pt x="10849" y="2"/>
                      <a:pt x="10849" y="3"/>
                      <a:pt x="10849" y="4"/>
                    </a:cubicBezTo>
                    <a:cubicBezTo>
                      <a:pt x="10849" y="5"/>
                      <a:pt x="10849" y="6"/>
                      <a:pt x="10847" y="6"/>
                    </a:cubicBezTo>
                    <a:lnTo>
                      <a:pt x="10847" y="6"/>
                    </a:lnTo>
                    <a:cubicBezTo>
                      <a:pt x="10846" y="6"/>
                      <a:pt x="10845" y="5"/>
                      <a:pt x="10845" y="4"/>
                    </a:cubicBezTo>
                    <a:cubicBezTo>
                      <a:pt x="10845" y="3"/>
                      <a:pt x="10846" y="2"/>
                      <a:pt x="10847" y="2"/>
                    </a:cubicBezTo>
                    <a:close/>
                    <a:moveTo>
                      <a:pt x="10855" y="2"/>
                    </a:moveTo>
                    <a:lnTo>
                      <a:pt x="10855" y="2"/>
                    </a:lnTo>
                    <a:cubicBezTo>
                      <a:pt x="10857" y="2"/>
                      <a:pt x="10857" y="3"/>
                      <a:pt x="10857" y="4"/>
                    </a:cubicBezTo>
                    <a:cubicBezTo>
                      <a:pt x="10857" y="5"/>
                      <a:pt x="10857" y="6"/>
                      <a:pt x="10855" y="6"/>
                    </a:cubicBezTo>
                    <a:lnTo>
                      <a:pt x="10855" y="6"/>
                    </a:lnTo>
                    <a:cubicBezTo>
                      <a:pt x="10854" y="6"/>
                      <a:pt x="10853" y="5"/>
                      <a:pt x="10853" y="4"/>
                    </a:cubicBezTo>
                    <a:cubicBezTo>
                      <a:pt x="10853" y="3"/>
                      <a:pt x="10854" y="2"/>
                      <a:pt x="10855" y="2"/>
                    </a:cubicBezTo>
                    <a:close/>
                    <a:moveTo>
                      <a:pt x="10863" y="2"/>
                    </a:moveTo>
                    <a:lnTo>
                      <a:pt x="10863" y="2"/>
                    </a:lnTo>
                    <a:cubicBezTo>
                      <a:pt x="10865" y="2"/>
                      <a:pt x="10865" y="3"/>
                      <a:pt x="10865" y="4"/>
                    </a:cubicBezTo>
                    <a:cubicBezTo>
                      <a:pt x="10865" y="5"/>
                      <a:pt x="10865" y="6"/>
                      <a:pt x="10863" y="6"/>
                    </a:cubicBezTo>
                    <a:lnTo>
                      <a:pt x="10863" y="6"/>
                    </a:lnTo>
                    <a:cubicBezTo>
                      <a:pt x="10862" y="6"/>
                      <a:pt x="10861" y="5"/>
                      <a:pt x="10861" y="4"/>
                    </a:cubicBezTo>
                    <a:cubicBezTo>
                      <a:pt x="10861" y="3"/>
                      <a:pt x="10862" y="2"/>
                      <a:pt x="10863" y="2"/>
                    </a:cubicBezTo>
                    <a:close/>
                    <a:moveTo>
                      <a:pt x="10871" y="2"/>
                    </a:moveTo>
                    <a:lnTo>
                      <a:pt x="10871" y="2"/>
                    </a:lnTo>
                    <a:cubicBezTo>
                      <a:pt x="10873" y="2"/>
                      <a:pt x="10873" y="3"/>
                      <a:pt x="10873" y="4"/>
                    </a:cubicBezTo>
                    <a:cubicBezTo>
                      <a:pt x="10873" y="5"/>
                      <a:pt x="10873" y="6"/>
                      <a:pt x="10871" y="6"/>
                    </a:cubicBezTo>
                    <a:lnTo>
                      <a:pt x="10871" y="6"/>
                    </a:lnTo>
                    <a:cubicBezTo>
                      <a:pt x="10870" y="6"/>
                      <a:pt x="10869" y="5"/>
                      <a:pt x="10869" y="4"/>
                    </a:cubicBezTo>
                    <a:cubicBezTo>
                      <a:pt x="10869" y="3"/>
                      <a:pt x="10870" y="2"/>
                      <a:pt x="10871" y="2"/>
                    </a:cubicBezTo>
                    <a:close/>
                    <a:moveTo>
                      <a:pt x="10879" y="2"/>
                    </a:moveTo>
                    <a:lnTo>
                      <a:pt x="10879" y="2"/>
                    </a:lnTo>
                    <a:cubicBezTo>
                      <a:pt x="10881" y="2"/>
                      <a:pt x="10881" y="3"/>
                      <a:pt x="10881" y="4"/>
                    </a:cubicBezTo>
                    <a:cubicBezTo>
                      <a:pt x="10881" y="5"/>
                      <a:pt x="10881" y="6"/>
                      <a:pt x="10879" y="6"/>
                    </a:cubicBezTo>
                    <a:lnTo>
                      <a:pt x="10879" y="6"/>
                    </a:lnTo>
                    <a:cubicBezTo>
                      <a:pt x="10878" y="6"/>
                      <a:pt x="10877" y="5"/>
                      <a:pt x="10877" y="4"/>
                    </a:cubicBezTo>
                    <a:cubicBezTo>
                      <a:pt x="10877" y="3"/>
                      <a:pt x="10878" y="2"/>
                      <a:pt x="10879" y="2"/>
                    </a:cubicBezTo>
                    <a:close/>
                    <a:moveTo>
                      <a:pt x="10887" y="2"/>
                    </a:moveTo>
                    <a:lnTo>
                      <a:pt x="10887" y="2"/>
                    </a:lnTo>
                    <a:cubicBezTo>
                      <a:pt x="10889" y="2"/>
                      <a:pt x="10889" y="3"/>
                      <a:pt x="10889" y="4"/>
                    </a:cubicBezTo>
                    <a:cubicBezTo>
                      <a:pt x="10889" y="5"/>
                      <a:pt x="10889" y="6"/>
                      <a:pt x="10887" y="6"/>
                    </a:cubicBezTo>
                    <a:lnTo>
                      <a:pt x="10887" y="6"/>
                    </a:lnTo>
                    <a:cubicBezTo>
                      <a:pt x="10886" y="6"/>
                      <a:pt x="10885" y="5"/>
                      <a:pt x="10885" y="4"/>
                    </a:cubicBezTo>
                    <a:cubicBezTo>
                      <a:pt x="10885" y="3"/>
                      <a:pt x="10886" y="2"/>
                      <a:pt x="10887" y="2"/>
                    </a:cubicBezTo>
                    <a:close/>
                    <a:moveTo>
                      <a:pt x="10895" y="2"/>
                    </a:moveTo>
                    <a:lnTo>
                      <a:pt x="10895" y="2"/>
                    </a:lnTo>
                    <a:cubicBezTo>
                      <a:pt x="10897" y="2"/>
                      <a:pt x="10897" y="3"/>
                      <a:pt x="10897" y="4"/>
                    </a:cubicBezTo>
                    <a:cubicBezTo>
                      <a:pt x="10897" y="5"/>
                      <a:pt x="10897" y="6"/>
                      <a:pt x="10895" y="6"/>
                    </a:cubicBezTo>
                    <a:lnTo>
                      <a:pt x="10895" y="6"/>
                    </a:lnTo>
                    <a:cubicBezTo>
                      <a:pt x="10894" y="6"/>
                      <a:pt x="10893" y="5"/>
                      <a:pt x="10893" y="4"/>
                    </a:cubicBezTo>
                    <a:cubicBezTo>
                      <a:pt x="10893" y="3"/>
                      <a:pt x="10894" y="2"/>
                      <a:pt x="10895" y="2"/>
                    </a:cubicBezTo>
                    <a:close/>
                    <a:moveTo>
                      <a:pt x="10903" y="2"/>
                    </a:moveTo>
                    <a:lnTo>
                      <a:pt x="10903" y="2"/>
                    </a:lnTo>
                    <a:cubicBezTo>
                      <a:pt x="10905" y="2"/>
                      <a:pt x="10905" y="3"/>
                      <a:pt x="10905" y="4"/>
                    </a:cubicBezTo>
                    <a:cubicBezTo>
                      <a:pt x="10905" y="5"/>
                      <a:pt x="10905" y="6"/>
                      <a:pt x="10903" y="6"/>
                    </a:cubicBezTo>
                    <a:lnTo>
                      <a:pt x="10903" y="6"/>
                    </a:lnTo>
                    <a:cubicBezTo>
                      <a:pt x="10902" y="6"/>
                      <a:pt x="10901" y="5"/>
                      <a:pt x="10901" y="4"/>
                    </a:cubicBezTo>
                    <a:cubicBezTo>
                      <a:pt x="10901" y="3"/>
                      <a:pt x="10902" y="2"/>
                      <a:pt x="10903" y="2"/>
                    </a:cubicBezTo>
                    <a:close/>
                    <a:moveTo>
                      <a:pt x="10911" y="2"/>
                    </a:moveTo>
                    <a:lnTo>
                      <a:pt x="10911" y="2"/>
                    </a:lnTo>
                    <a:cubicBezTo>
                      <a:pt x="10913" y="2"/>
                      <a:pt x="10913" y="3"/>
                      <a:pt x="10913" y="4"/>
                    </a:cubicBezTo>
                    <a:cubicBezTo>
                      <a:pt x="10913" y="5"/>
                      <a:pt x="10913" y="6"/>
                      <a:pt x="10911" y="6"/>
                    </a:cubicBezTo>
                    <a:lnTo>
                      <a:pt x="10911" y="6"/>
                    </a:lnTo>
                    <a:cubicBezTo>
                      <a:pt x="10910" y="6"/>
                      <a:pt x="10909" y="5"/>
                      <a:pt x="10909" y="4"/>
                    </a:cubicBezTo>
                    <a:cubicBezTo>
                      <a:pt x="10909" y="3"/>
                      <a:pt x="10910" y="2"/>
                      <a:pt x="10911" y="2"/>
                    </a:cubicBezTo>
                    <a:close/>
                    <a:moveTo>
                      <a:pt x="10919" y="2"/>
                    </a:moveTo>
                    <a:lnTo>
                      <a:pt x="10919" y="2"/>
                    </a:lnTo>
                    <a:cubicBezTo>
                      <a:pt x="10921" y="2"/>
                      <a:pt x="10921" y="3"/>
                      <a:pt x="10921" y="4"/>
                    </a:cubicBezTo>
                    <a:cubicBezTo>
                      <a:pt x="10921" y="5"/>
                      <a:pt x="10921" y="6"/>
                      <a:pt x="10919" y="6"/>
                    </a:cubicBezTo>
                    <a:lnTo>
                      <a:pt x="10919" y="6"/>
                    </a:lnTo>
                    <a:cubicBezTo>
                      <a:pt x="10918" y="6"/>
                      <a:pt x="10917" y="5"/>
                      <a:pt x="10917" y="4"/>
                    </a:cubicBezTo>
                    <a:cubicBezTo>
                      <a:pt x="10917" y="3"/>
                      <a:pt x="10918" y="2"/>
                      <a:pt x="10919" y="2"/>
                    </a:cubicBezTo>
                    <a:close/>
                    <a:moveTo>
                      <a:pt x="10927" y="2"/>
                    </a:moveTo>
                    <a:lnTo>
                      <a:pt x="10927" y="2"/>
                    </a:lnTo>
                    <a:cubicBezTo>
                      <a:pt x="10929" y="2"/>
                      <a:pt x="10929" y="3"/>
                      <a:pt x="10929" y="4"/>
                    </a:cubicBezTo>
                    <a:cubicBezTo>
                      <a:pt x="10929" y="5"/>
                      <a:pt x="10929" y="6"/>
                      <a:pt x="10927" y="6"/>
                    </a:cubicBezTo>
                    <a:lnTo>
                      <a:pt x="10927" y="6"/>
                    </a:lnTo>
                    <a:cubicBezTo>
                      <a:pt x="10926" y="6"/>
                      <a:pt x="10925" y="5"/>
                      <a:pt x="10925" y="4"/>
                    </a:cubicBezTo>
                    <a:cubicBezTo>
                      <a:pt x="10925" y="3"/>
                      <a:pt x="10926" y="2"/>
                      <a:pt x="10927" y="2"/>
                    </a:cubicBezTo>
                    <a:close/>
                    <a:moveTo>
                      <a:pt x="10935" y="2"/>
                    </a:moveTo>
                    <a:lnTo>
                      <a:pt x="10935" y="2"/>
                    </a:lnTo>
                    <a:cubicBezTo>
                      <a:pt x="10937" y="2"/>
                      <a:pt x="10937" y="3"/>
                      <a:pt x="10937" y="4"/>
                    </a:cubicBezTo>
                    <a:cubicBezTo>
                      <a:pt x="10937" y="5"/>
                      <a:pt x="10937" y="6"/>
                      <a:pt x="10935" y="6"/>
                    </a:cubicBezTo>
                    <a:lnTo>
                      <a:pt x="10935" y="6"/>
                    </a:lnTo>
                    <a:cubicBezTo>
                      <a:pt x="10934" y="6"/>
                      <a:pt x="10933" y="5"/>
                      <a:pt x="10933" y="4"/>
                    </a:cubicBezTo>
                    <a:cubicBezTo>
                      <a:pt x="10933" y="3"/>
                      <a:pt x="10934" y="2"/>
                      <a:pt x="10935" y="2"/>
                    </a:cubicBezTo>
                    <a:close/>
                    <a:moveTo>
                      <a:pt x="10943" y="2"/>
                    </a:moveTo>
                    <a:lnTo>
                      <a:pt x="10943" y="2"/>
                    </a:lnTo>
                    <a:cubicBezTo>
                      <a:pt x="10945" y="2"/>
                      <a:pt x="10945" y="3"/>
                      <a:pt x="10945" y="4"/>
                    </a:cubicBezTo>
                    <a:cubicBezTo>
                      <a:pt x="10945" y="5"/>
                      <a:pt x="10945" y="6"/>
                      <a:pt x="10943" y="6"/>
                    </a:cubicBezTo>
                    <a:lnTo>
                      <a:pt x="10943" y="6"/>
                    </a:lnTo>
                    <a:cubicBezTo>
                      <a:pt x="10942" y="6"/>
                      <a:pt x="10941" y="5"/>
                      <a:pt x="10941" y="4"/>
                    </a:cubicBezTo>
                    <a:cubicBezTo>
                      <a:pt x="10941" y="3"/>
                      <a:pt x="10942" y="2"/>
                      <a:pt x="10943" y="2"/>
                    </a:cubicBezTo>
                    <a:close/>
                    <a:moveTo>
                      <a:pt x="10951" y="2"/>
                    </a:moveTo>
                    <a:lnTo>
                      <a:pt x="10951" y="2"/>
                    </a:lnTo>
                    <a:cubicBezTo>
                      <a:pt x="10953" y="2"/>
                      <a:pt x="10953" y="3"/>
                      <a:pt x="10953" y="4"/>
                    </a:cubicBezTo>
                    <a:cubicBezTo>
                      <a:pt x="10953" y="5"/>
                      <a:pt x="10953" y="6"/>
                      <a:pt x="10951" y="6"/>
                    </a:cubicBezTo>
                    <a:lnTo>
                      <a:pt x="10951" y="6"/>
                    </a:lnTo>
                    <a:cubicBezTo>
                      <a:pt x="10950" y="6"/>
                      <a:pt x="10949" y="5"/>
                      <a:pt x="10949" y="4"/>
                    </a:cubicBezTo>
                    <a:cubicBezTo>
                      <a:pt x="10949" y="3"/>
                      <a:pt x="10950" y="2"/>
                      <a:pt x="10951" y="2"/>
                    </a:cubicBezTo>
                    <a:close/>
                    <a:moveTo>
                      <a:pt x="10959" y="2"/>
                    </a:moveTo>
                    <a:lnTo>
                      <a:pt x="10960" y="2"/>
                    </a:lnTo>
                    <a:cubicBezTo>
                      <a:pt x="10961" y="2"/>
                      <a:pt x="10962" y="3"/>
                      <a:pt x="10962" y="4"/>
                    </a:cubicBezTo>
                    <a:cubicBezTo>
                      <a:pt x="10962" y="5"/>
                      <a:pt x="10961" y="6"/>
                      <a:pt x="10960" y="6"/>
                    </a:cubicBezTo>
                    <a:lnTo>
                      <a:pt x="10959" y="6"/>
                    </a:lnTo>
                    <a:cubicBezTo>
                      <a:pt x="10958" y="6"/>
                      <a:pt x="10957" y="5"/>
                      <a:pt x="10957" y="4"/>
                    </a:cubicBezTo>
                    <a:cubicBezTo>
                      <a:pt x="10957" y="3"/>
                      <a:pt x="10958" y="2"/>
                      <a:pt x="10959" y="2"/>
                    </a:cubicBezTo>
                    <a:close/>
                    <a:moveTo>
                      <a:pt x="10968" y="2"/>
                    </a:moveTo>
                    <a:lnTo>
                      <a:pt x="10968" y="2"/>
                    </a:lnTo>
                    <a:cubicBezTo>
                      <a:pt x="10969" y="2"/>
                      <a:pt x="10970" y="3"/>
                      <a:pt x="10970" y="4"/>
                    </a:cubicBezTo>
                    <a:cubicBezTo>
                      <a:pt x="10970" y="5"/>
                      <a:pt x="10969" y="6"/>
                      <a:pt x="10968" y="6"/>
                    </a:cubicBezTo>
                    <a:lnTo>
                      <a:pt x="10968" y="6"/>
                    </a:lnTo>
                    <a:cubicBezTo>
                      <a:pt x="10966" y="6"/>
                      <a:pt x="10966" y="5"/>
                      <a:pt x="10966" y="4"/>
                    </a:cubicBezTo>
                    <a:cubicBezTo>
                      <a:pt x="10966" y="3"/>
                      <a:pt x="10966" y="2"/>
                      <a:pt x="10968" y="2"/>
                    </a:cubicBezTo>
                    <a:close/>
                    <a:moveTo>
                      <a:pt x="10976" y="2"/>
                    </a:moveTo>
                    <a:lnTo>
                      <a:pt x="10976" y="2"/>
                    </a:lnTo>
                    <a:cubicBezTo>
                      <a:pt x="10977" y="2"/>
                      <a:pt x="10978" y="3"/>
                      <a:pt x="10978" y="4"/>
                    </a:cubicBezTo>
                    <a:cubicBezTo>
                      <a:pt x="10978" y="5"/>
                      <a:pt x="10977" y="6"/>
                      <a:pt x="10976" y="6"/>
                    </a:cubicBezTo>
                    <a:lnTo>
                      <a:pt x="10976" y="6"/>
                    </a:lnTo>
                    <a:cubicBezTo>
                      <a:pt x="10974" y="6"/>
                      <a:pt x="10974" y="5"/>
                      <a:pt x="10974" y="4"/>
                    </a:cubicBezTo>
                    <a:cubicBezTo>
                      <a:pt x="10974" y="3"/>
                      <a:pt x="10974" y="2"/>
                      <a:pt x="10976" y="2"/>
                    </a:cubicBezTo>
                    <a:close/>
                    <a:moveTo>
                      <a:pt x="10984" y="2"/>
                    </a:moveTo>
                    <a:lnTo>
                      <a:pt x="10984" y="2"/>
                    </a:lnTo>
                    <a:cubicBezTo>
                      <a:pt x="10985" y="2"/>
                      <a:pt x="10986" y="3"/>
                      <a:pt x="10986" y="4"/>
                    </a:cubicBezTo>
                    <a:cubicBezTo>
                      <a:pt x="10986" y="5"/>
                      <a:pt x="10985" y="6"/>
                      <a:pt x="10984" y="6"/>
                    </a:cubicBezTo>
                    <a:lnTo>
                      <a:pt x="10984" y="6"/>
                    </a:lnTo>
                    <a:cubicBezTo>
                      <a:pt x="10982" y="6"/>
                      <a:pt x="10982" y="5"/>
                      <a:pt x="10982" y="4"/>
                    </a:cubicBezTo>
                    <a:cubicBezTo>
                      <a:pt x="10982" y="3"/>
                      <a:pt x="10982" y="2"/>
                      <a:pt x="10984" y="2"/>
                    </a:cubicBezTo>
                    <a:close/>
                    <a:moveTo>
                      <a:pt x="10992" y="2"/>
                    </a:moveTo>
                    <a:lnTo>
                      <a:pt x="10992" y="2"/>
                    </a:lnTo>
                    <a:cubicBezTo>
                      <a:pt x="10993" y="2"/>
                      <a:pt x="10994" y="3"/>
                      <a:pt x="10994" y="4"/>
                    </a:cubicBezTo>
                    <a:cubicBezTo>
                      <a:pt x="10994" y="5"/>
                      <a:pt x="10993" y="6"/>
                      <a:pt x="10992" y="6"/>
                    </a:cubicBezTo>
                    <a:lnTo>
                      <a:pt x="10992" y="6"/>
                    </a:lnTo>
                    <a:cubicBezTo>
                      <a:pt x="10990" y="6"/>
                      <a:pt x="10990" y="5"/>
                      <a:pt x="10990" y="4"/>
                    </a:cubicBezTo>
                    <a:cubicBezTo>
                      <a:pt x="10990" y="3"/>
                      <a:pt x="10990" y="2"/>
                      <a:pt x="10992" y="2"/>
                    </a:cubicBezTo>
                    <a:close/>
                    <a:moveTo>
                      <a:pt x="11000" y="2"/>
                    </a:moveTo>
                    <a:lnTo>
                      <a:pt x="11000" y="2"/>
                    </a:lnTo>
                    <a:cubicBezTo>
                      <a:pt x="11001" y="2"/>
                      <a:pt x="11002" y="3"/>
                      <a:pt x="11002" y="4"/>
                    </a:cubicBezTo>
                    <a:cubicBezTo>
                      <a:pt x="11002" y="5"/>
                      <a:pt x="11001" y="6"/>
                      <a:pt x="11000" y="6"/>
                    </a:cubicBezTo>
                    <a:lnTo>
                      <a:pt x="11000" y="6"/>
                    </a:lnTo>
                    <a:cubicBezTo>
                      <a:pt x="10998" y="6"/>
                      <a:pt x="10998" y="5"/>
                      <a:pt x="10998" y="4"/>
                    </a:cubicBezTo>
                    <a:cubicBezTo>
                      <a:pt x="10998" y="3"/>
                      <a:pt x="10998" y="2"/>
                      <a:pt x="11000" y="2"/>
                    </a:cubicBezTo>
                    <a:close/>
                    <a:moveTo>
                      <a:pt x="11008" y="2"/>
                    </a:moveTo>
                    <a:lnTo>
                      <a:pt x="11008" y="2"/>
                    </a:lnTo>
                    <a:cubicBezTo>
                      <a:pt x="11009" y="2"/>
                      <a:pt x="11010" y="3"/>
                      <a:pt x="11010" y="4"/>
                    </a:cubicBezTo>
                    <a:cubicBezTo>
                      <a:pt x="11010" y="5"/>
                      <a:pt x="11009" y="6"/>
                      <a:pt x="11008" y="6"/>
                    </a:cubicBezTo>
                    <a:lnTo>
                      <a:pt x="11008" y="6"/>
                    </a:lnTo>
                    <a:cubicBezTo>
                      <a:pt x="11006" y="6"/>
                      <a:pt x="11006" y="5"/>
                      <a:pt x="11006" y="4"/>
                    </a:cubicBezTo>
                    <a:cubicBezTo>
                      <a:pt x="11006" y="3"/>
                      <a:pt x="11006" y="2"/>
                      <a:pt x="11008" y="2"/>
                    </a:cubicBezTo>
                    <a:close/>
                    <a:moveTo>
                      <a:pt x="11016" y="2"/>
                    </a:moveTo>
                    <a:lnTo>
                      <a:pt x="11016" y="2"/>
                    </a:lnTo>
                    <a:cubicBezTo>
                      <a:pt x="11017" y="2"/>
                      <a:pt x="11018" y="3"/>
                      <a:pt x="11018" y="4"/>
                    </a:cubicBezTo>
                    <a:cubicBezTo>
                      <a:pt x="11018" y="5"/>
                      <a:pt x="11017" y="6"/>
                      <a:pt x="11016" y="6"/>
                    </a:cubicBezTo>
                    <a:lnTo>
                      <a:pt x="11016" y="6"/>
                    </a:lnTo>
                    <a:cubicBezTo>
                      <a:pt x="11014" y="6"/>
                      <a:pt x="11014" y="5"/>
                      <a:pt x="11014" y="4"/>
                    </a:cubicBezTo>
                    <a:cubicBezTo>
                      <a:pt x="11014" y="3"/>
                      <a:pt x="11014" y="2"/>
                      <a:pt x="11016" y="2"/>
                    </a:cubicBezTo>
                    <a:close/>
                    <a:moveTo>
                      <a:pt x="11024" y="2"/>
                    </a:moveTo>
                    <a:lnTo>
                      <a:pt x="11024" y="2"/>
                    </a:lnTo>
                    <a:cubicBezTo>
                      <a:pt x="11025" y="2"/>
                      <a:pt x="11026" y="3"/>
                      <a:pt x="11026" y="4"/>
                    </a:cubicBezTo>
                    <a:cubicBezTo>
                      <a:pt x="11026" y="5"/>
                      <a:pt x="11025" y="6"/>
                      <a:pt x="11024" y="6"/>
                    </a:cubicBezTo>
                    <a:lnTo>
                      <a:pt x="11024" y="6"/>
                    </a:lnTo>
                    <a:cubicBezTo>
                      <a:pt x="11022" y="6"/>
                      <a:pt x="11022" y="5"/>
                      <a:pt x="11022" y="4"/>
                    </a:cubicBezTo>
                    <a:cubicBezTo>
                      <a:pt x="11022" y="3"/>
                      <a:pt x="11022" y="2"/>
                      <a:pt x="11024" y="2"/>
                    </a:cubicBezTo>
                    <a:close/>
                    <a:moveTo>
                      <a:pt x="11032" y="2"/>
                    </a:moveTo>
                    <a:lnTo>
                      <a:pt x="11032" y="2"/>
                    </a:lnTo>
                    <a:cubicBezTo>
                      <a:pt x="11033" y="2"/>
                      <a:pt x="11034" y="3"/>
                      <a:pt x="11034" y="4"/>
                    </a:cubicBezTo>
                    <a:cubicBezTo>
                      <a:pt x="11034" y="5"/>
                      <a:pt x="11033" y="6"/>
                      <a:pt x="11032" y="6"/>
                    </a:cubicBezTo>
                    <a:lnTo>
                      <a:pt x="11032" y="6"/>
                    </a:lnTo>
                    <a:cubicBezTo>
                      <a:pt x="11030" y="6"/>
                      <a:pt x="11030" y="5"/>
                      <a:pt x="11030" y="4"/>
                    </a:cubicBezTo>
                    <a:cubicBezTo>
                      <a:pt x="11030" y="3"/>
                      <a:pt x="11030" y="2"/>
                      <a:pt x="11032" y="2"/>
                    </a:cubicBezTo>
                    <a:close/>
                    <a:moveTo>
                      <a:pt x="11040" y="2"/>
                    </a:moveTo>
                    <a:lnTo>
                      <a:pt x="11040" y="2"/>
                    </a:lnTo>
                    <a:cubicBezTo>
                      <a:pt x="11041" y="2"/>
                      <a:pt x="11042" y="3"/>
                      <a:pt x="11042" y="4"/>
                    </a:cubicBezTo>
                    <a:cubicBezTo>
                      <a:pt x="11042" y="5"/>
                      <a:pt x="11041" y="6"/>
                      <a:pt x="11040" y="6"/>
                    </a:cubicBezTo>
                    <a:lnTo>
                      <a:pt x="11040" y="6"/>
                    </a:lnTo>
                    <a:cubicBezTo>
                      <a:pt x="11038" y="6"/>
                      <a:pt x="11038" y="5"/>
                      <a:pt x="11038" y="4"/>
                    </a:cubicBezTo>
                    <a:cubicBezTo>
                      <a:pt x="11038" y="3"/>
                      <a:pt x="11038" y="2"/>
                      <a:pt x="11040" y="2"/>
                    </a:cubicBezTo>
                    <a:close/>
                    <a:moveTo>
                      <a:pt x="11048" y="2"/>
                    </a:moveTo>
                    <a:lnTo>
                      <a:pt x="11048" y="2"/>
                    </a:lnTo>
                    <a:cubicBezTo>
                      <a:pt x="11049" y="2"/>
                      <a:pt x="11050" y="3"/>
                      <a:pt x="11050" y="4"/>
                    </a:cubicBezTo>
                    <a:cubicBezTo>
                      <a:pt x="11050" y="5"/>
                      <a:pt x="11049" y="6"/>
                      <a:pt x="11048" y="6"/>
                    </a:cubicBezTo>
                    <a:lnTo>
                      <a:pt x="11048" y="6"/>
                    </a:lnTo>
                    <a:cubicBezTo>
                      <a:pt x="11046" y="6"/>
                      <a:pt x="11046" y="5"/>
                      <a:pt x="11046" y="4"/>
                    </a:cubicBezTo>
                    <a:cubicBezTo>
                      <a:pt x="11046" y="3"/>
                      <a:pt x="11046" y="2"/>
                      <a:pt x="11048" y="2"/>
                    </a:cubicBezTo>
                    <a:close/>
                    <a:moveTo>
                      <a:pt x="11056" y="2"/>
                    </a:moveTo>
                    <a:lnTo>
                      <a:pt x="11056" y="2"/>
                    </a:lnTo>
                    <a:cubicBezTo>
                      <a:pt x="11057" y="2"/>
                      <a:pt x="11058" y="3"/>
                      <a:pt x="11058" y="4"/>
                    </a:cubicBezTo>
                    <a:cubicBezTo>
                      <a:pt x="11058" y="5"/>
                      <a:pt x="11057" y="6"/>
                      <a:pt x="11056" y="6"/>
                    </a:cubicBezTo>
                    <a:lnTo>
                      <a:pt x="11056" y="6"/>
                    </a:lnTo>
                    <a:cubicBezTo>
                      <a:pt x="11054" y="6"/>
                      <a:pt x="11054" y="5"/>
                      <a:pt x="11054" y="4"/>
                    </a:cubicBezTo>
                    <a:cubicBezTo>
                      <a:pt x="11054" y="3"/>
                      <a:pt x="11054" y="2"/>
                      <a:pt x="11056" y="2"/>
                    </a:cubicBezTo>
                    <a:close/>
                    <a:moveTo>
                      <a:pt x="11064" y="2"/>
                    </a:moveTo>
                    <a:lnTo>
                      <a:pt x="11064" y="2"/>
                    </a:lnTo>
                    <a:cubicBezTo>
                      <a:pt x="11065" y="2"/>
                      <a:pt x="11066" y="3"/>
                      <a:pt x="11066" y="4"/>
                    </a:cubicBezTo>
                    <a:cubicBezTo>
                      <a:pt x="11066" y="5"/>
                      <a:pt x="11065" y="6"/>
                      <a:pt x="11064" y="6"/>
                    </a:cubicBezTo>
                    <a:lnTo>
                      <a:pt x="11064" y="6"/>
                    </a:lnTo>
                    <a:cubicBezTo>
                      <a:pt x="11062" y="6"/>
                      <a:pt x="11062" y="5"/>
                      <a:pt x="11062" y="4"/>
                    </a:cubicBezTo>
                    <a:cubicBezTo>
                      <a:pt x="11062" y="3"/>
                      <a:pt x="11062" y="2"/>
                      <a:pt x="11064" y="2"/>
                    </a:cubicBezTo>
                    <a:close/>
                    <a:moveTo>
                      <a:pt x="11072" y="2"/>
                    </a:moveTo>
                    <a:lnTo>
                      <a:pt x="11072" y="2"/>
                    </a:lnTo>
                    <a:cubicBezTo>
                      <a:pt x="11073" y="2"/>
                      <a:pt x="11074" y="3"/>
                      <a:pt x="11074" y="4"/>
                    </a:cubicBezTo>
                    <a:cubicBezTo>
                      <a:pt x="11074" y="5"/>
                      <a:pt x="11073" y="6"/>
                      <a:pt x="11072" y="6"/>
                    </a:cubicBezTo>
                    <a:lnTo>
                      <a:pt x="11072" y="6"/>
                    </a:lnTo>
                    <a:cubicBezTo>
                      <a:pt x="11070" y="6"/>
                      <a:pt x="11070" y="5"/>
                      <a:pt x="11070" y="4"/>
                    </a:cubicBezTo>
                    <a:cubicBezTo>
                      <a:pt x="11070" y="3"/>
                      <a:pt x="11070" y="2"/>
                      <a:pt x="11072" y="2"/>
                    </a:cubicBezTo>
                    <a:close/>
                    <a:moveTo>
                      <a:pt x="11080" y="2"/>
                    </a:moveTo>
                    <a:lnTo>
                      <a:pt x="11080" y="2"/>
                    </a:lnTo>
                    <a:cubicBezTo>
                      <a:pt x="11081" y="2"/>
                      <a:pt x="11082" y="3"/>
                      <a:pt x="11082" y="4"/>
                    </a:cubicBezTo>
                    <a:cubicBezTo>
                      <a:pt x="11082" y="5"/>
                      <a:pt x="11081" y="6"/>
                      <a:pt x="11080" y="6"/>
                    </a:cubicBezTo>
                    <a:lnTo>
                      <a:pt x="11080" y="6"/>
                    </a:lnTo>
                    <a:cubicBezTo>
                      <a:pt x="11078" y="6"/>
                      <a:pt x="11078" y="5"/>
                      <a:pt x="11078" y="4"/>
                    </a:cubicBezTo>
                    <a:cubicBezTo>
                      <a:pt x="11078" y="3"/>
                      <a:pt x="11078" y="2"/>
                      <a:pt x="11080" y="2"/>
                    </a:cubicBezTo>
                    <a:close/>
                    <a:moveTo>
                      <a:pt x="11088" y="2"/>
                    </a:moveTo>
                    <a:lnTo>
                      <a:pt x="11088" y="2"/>
                    </a:lnTo>
                    <a:cubicBezTo>
                      <a:pt x="11089" y="2"/>
                      <a:pt x="11090" y="3"/>
                      <a:pt x="11090" y="4"/>
                    </a:cubicBezTo>
                    <a:cubicBezTo>
                      <a:pt x="11090" y="5"/>
                      <a:pt x="11089" y="6"/>
                      <a:pt x="11088" y="6"/>
                    </a:cubicBezTo>
                    <a:lnTo>
                      <a:pt x="11088" y="6"/>
                    </a:lnTo>
                    <a:cubicBezTo>
                      <a:pt x="11086" y="6"/>
                      <a:pt x="11086" y="5"/>
                      <a:pt x="11086" y="4"/>
                    </a:cubicBezTo>
                    <a:cubicBezTo>
                      <a:pt x="11086" y="3"/>
                      <a:pt x="11086" y="2"/>
                      <a:pt x="11088" y="2"/>
                    </a:cubicBezTo>
                    <a:close/>
                    <a:moveTo>
                      <a:pt x="11096" y="2"/>
                    </a:moveTo>
                    <a:lnTo>
                      <a:pt x="11096" y="2"/>
                    </a:lnTo>
                    <a:cubicBezTo>
                      <a:pt x="11097" y="2"/>
                      <a:pt x="11098" y="3"/>
                      <a:pt x="11098" y="4"/>
                    </a:cubicBezTo>
                    <a:cubicBezTo>
                      <a:pt x="11098" y="5"/>
                      <a:pt x="11097" y="6"/>
                      <a:pt x="11096" y="6"/>
                    </a:cubicBezTo>
                    <a:lnTo>
                      <a:pt x="11096" y="6"/>
                    </a:lnTo>
                    <a:cubicBezTo>
                      <a:pt x="11094" y="6"/>
                      <a:pt x="11094" y="5"/>
                      <a:pt x="11094" y="4"/>
                    </a:cubicBezTo>
                    <a:cubicBezTo>
                      <a:pt x="11094" y="3"/>
                      <a:pt x="11094" y="2"/>
                      <a:pt x="11096" y="2"/>
                    </a:cubicBezTo>
                    <a:close/>
                    <a:moveTo>
                      <a:pt x="11104" y="2"/>
                    </a:moveTo>
                    <a:lnTo>
                      <a:pt x="11104" y="2"/>
                    </a:lnTo>
                    <a:cubicBezTo>
                      <a:pt x="11105" y="2"/>
                      <a:pt x="11106" y="3"/>
                      <a:pt x="11106" y="4"/>
                    </a:cubicBezTo>
                    <a:cubicBezTo>
                      <a:pt x="11106" y="5"/>
                      <a:pt x="11105" y="6"/>
                      <a:pt x="11104" y="6"/>
                    </a:cubicBezTo>
                    <a:lnTo>
                      <a:pt x="11104" y="6"/>
                    </a:lnTo>
                    <a:cubicBezTo>
                      <a:pt x="11102" y="6"/>
                      <a:pt x="11102" y="5"/>
                      <a:pt x="11102" y="4"/>
                    </a:cubicBezTo>
                    <a:cubicBezTo>
                      <a:pt x="11102" y="3"/>
                      <a:pt x="11102" y="2"/>
                      <a:pt x="11104" y="2"/>
                    </a:cubicBezTo>
                    <a:close/>
                    <a:moveTo>
                      <a:pt x="11112" y="2"/>
                    </a:moveTo>
                    <a:lnTo>
                      <a:pt x="11112" y="2"/>
                    </a:lnTo>
                    <a:cubicBezTo>
                      <a:pt x="11113" y="2"/>
                      <a:pt x="11114" y="3"/>
                      <a:pt x="11114" y="4"/>
                    </a:cubicBezTo>
                    <a:cubicBezTo>
                      <a:pt x="11114" y="5"/>
                      <a:pt x="11113" y="6"/>
                      <a:pt x="11112" y="6"/>
                    </a:cubicBezTo>
                    <a:lnTo>
                      <a:pt x="11112" y="6"/>
                    </a:lnTo>
                    <a:cubicBezTo>
                      <a:pt x="11110" y="6"/>
                      <a:pt x="11110" y="5"/>
                      <a:pt x="11110" y="4"/>
                    </a:cubicBezTo>
                    <a:cubicBezTo>
                      <a:pt x="11110" y="3"/>
                      <a:pt x="11110" y="2"/>
                      <a:pt x="11112" y="2"/>
                    </a:cubicBezTo>
                    <a:close/>
                    <a:moveTo>
                      <a:pt x="11120" y="2"/>
                    </a:moveTo>
                    <a:lnTo>
                      <a:pt x="11120" y="2"/>
                    </a:lnTo>
                    <a:cubicBezTo>
                      <a:pt x="11121" y="2"/>
                      <a:pt x="11122" y="3"/>
                      <a:pt x="11122" y="4"/>
                    </a:cubicBezTo>
                    <a:cubicBezTo>
                      <a:pt x="11122" y="5"/>
                      <a:pt x="11121" y="6"/>
                      <a:pt x="11120" y="6"/>
                    </a:cubicBezTo>
                    <a:lnTo>
                      <a:pt x="11120" y="6"/>
                    </a:lnTo>
                    <a:cubicBezTo>
                      <a:pt x="11118" y="6"/>
                      <a:pt x="11118" y="5"/>
                      <a:pt x="11118" y="4"/>
                    </a:cubicBezTo>
                    <a:cubicBezTo>
                      <a:pt x="11118" y="3"/>
                      <a:pt x="11118" y="2"/>
                      <a:pt x="11120" y="2"/>
                    </a:cubicBezTo>
                    <a:close/>
                    <a:moveTo>
                      <a:pt x="11128" y="2"/>
                    </a:moveTo>
                    <a:lnTo>
                      <a:pt x="11128" y="2"/>
                    </a:lnTo>
                    <a:cubicBezTo>
                      <a:pt x="11129" y="2"/>
                      <a:pt x="11130" y="3"/>
                      <a:pt x="11130" y="4"/>
                    </a:cubicBezTo>
                    <a:cubicBezTo>
                      <a:pt x="11130" y="5"/>
                      <a:pt x="11129" y="6"/>
                      <a:pt x="11128" y="6"/>
                    </a:cubicBezTo>
                    <a:lnTo>
                      <a:pt x="11128" y="6"/>
                    </a:lnTo>
                    <a:cubicBezTo>
                      <a:pt x="11126" y="6"/>
                      <a:pt x="11126" y="5"/>
                      <a:pt x="11126" y="4"/>
                    </a:cubicBezTo>
                    <a:cubicBezTo>
                      <a:pt x="11126" y="3"/>
                      <a:pt x="11126" y="2"/>
                      <a:pt x="11128" y="2"/>
                    </a:cubicBezTo>
                    <a:close/>
                    <a:moveTo>
                      <a:pt x="11136" y="2"/>
                    </a:moveTo>
                    <a:lnTo>
                      <a:pt x="11136" y="2"/>
                    </a:lnTo>
                    <a:cubicBezTo>
                      <a:pt x="11137" y="2"/>
                      <a:pt x="11138" y="3"/>
                      <a:pt x="11138" y="4"/>
                    </a:cubicBezTo>
                    <a:cubicBezTo>
                      <a:pt x="11138" y="5"/>
                      <a:pt x="11137" y="6"/>
                      <a:pt x="11136" y="6"/>
                    </a:cubicBezTo>
                    <a:lnTo>
                      <a:pt x="11136" y="6"/>
                    </a:lnTo>
                    <a:cubicBezTo>
                      <a:pt x="11134" y="6"/>
                      <a:pt x="11134" y="5"/>
                      <a:pt x="11134" y="4"/>
                    </a:cubicBezTo>
                    <a:cubicBezTo>
                      <a:pt x="11134" y="3"/>
                      <a:pt x="11134" y="2"/>
                      <a:pt x="11136" y="2"/>
                    </a:cubicBezTo>
                    <a:close/>
                    <a:moveTo>
                      <a:pt x="11144" y="2"/>
                    </a:moveTo>
                    <a:lnTo>
                      <a:pt x="11144" y="2"/>
                    </a:lnTo>
                    <a:cubicBezTo>
                      <a:pt x="11145" y="2"/>
                      <a:pt x="11146" y="3"/>
                      <a:pt x="11146" y="4"/>
                    </a:cubicBezTo>
                    <a:cubicBezTo>
                      <a:pt x="11146" y="5"/>
                      <a:pt x="11145" y="6"/>
                      <a:pt x="11144" y="6"/>
                    </a:cubicBezTo>
                    <a:lnTo>
                      <a:pt x="11144" y="6"/>
                    </a:lnTo>
                    <a:cubicBezTo>
                      <a:pt x="11143" y="6"/>
                      <a:pt x="11142" y="5"/>
                      <a:pt x="11142" y="4"/>
                    </a:cubicBezTo>
                    <a:cubicBezTo>
                      <a:pt x="11142" y="3"/>
                      <a:pt x="11143" y="2"/>
                      <a:pt x="11144" y="2"/>
                    </a:cubicBezTo>
                    <a:close/>
                    <a:moveTo>
                      <a:pt x="11152" y="2"/>
                    </a:moveTo>
                    <a:lnTo>
                      <a:pt x="11152" y="2"/>
                    </a:lnTo>
                    <a:cubicBezTo>
                      <a:pt x="11153" y="2"/>
                      <a:pt x="11154" y="3"/>
                      <a:pt x="11154" y="4"/>
                    </a:cubicBezTo>
                    <a:cubicBezTo>
                      <a:pt x="11154" y="5"/>
                      <a:pt x="11153" y="6"/>
                      <a:pt x="11152" y="6"/>
                    </a:cubicBezTo>
                    <a:lnTo>
                      <a:pt x="11152" y="6"/>
                    </a:lnTo>
                    <a:cubicBezTo>
                      <a:pt x="11151" y="6"/>
                      <a:pt x="11150" y="5"/>
                      <a:pt x="11150" y="4"/>
                    </a:cubicBezTo>
                    <a:cubicBezTo>
                      <a:pt x="11150" y="3"/>
                      <a:pt x="11151" y="2"/>
                      <a:pt x="11152" y="2"/>
                    </a:cubicBezTo>
                    <a:close/>
                    <a:moveTo>
                      <a:pt x="11160" y="2"/>
                    </a:moveTo>
                    <a:lnTo>
                      <a:pt x="11160" y="2"/>
                    </a:lnTo>
                    <a:cubicBezTo>
                      <a:pt x="11161" y="2"/>
                      <a:pt x="11162" y="3"/>
                      <a:pt x="11162" y="4"/>
                    </a:cubicBezTo>
                    <a:cubicBezTo>
                      <a:pt x="11162" y="5"/>
                      <a:pt x="11161" y="6"/>
                      <a:pt x="11160" y="6"/>
                    </a:cubicBezTo>
                    <a:lnTo>
                      <a:pt x="11160" y="6"/>
                    </a:lnTo>
                    <a:cubicBezTo>
                      <a:pt x="11159" y="6"/>
                      <a:pt x="11158" y="5"/>
                      <a:pt x="11158" y="4"/>
                    </a:cubicBezTo>
                    <a:cubicBezTo>
                      <a:pt x="11158" y="3"/>
                      <a:pt x="11159" y="2"/>
                      <a:pt x="11160" y="2"/>
                    </a:cubicBezTo>
                    <a:close/>
                    <a:moveTo>
                      <a:pt x="11168" y="2"/>
                    </a:moveTo>
                    <a:lnTo>
                      <a:pt x="11168" y="2"/>
                    </a:lnTo>
                    <a:cubicBezTo>
                      <a:pt x="11169" y="2"/>
                      <a:pt x="11170" y="3"/>
                      <a:pt x="11170" y="4"/>
                    </a:cubicBezTo>
                    <a:cubicBezTo>
                      <a:pt x="11170" y="5"/>
                      <a:pt x="11169" y="6"/>
                      <a:pt x="11168" y="6"/>
                    </a:cubicBezTo>
                    <a:lnTo>
                      <a:pt x="11168" y="6"/>
                    </a:lnTo>
                    <a:cubicBezTo>
                      <a:pt x="11167" y="6"/>
                      <a:pt x="11166" y="5"/>
                      <a:pt x="11166" y="4"/>
                    </a:cubicBezTo>
                    <a:cubicBezTo>
                      <a:pt x="11166" y="3"/>
                      <a:pt x="11167" y="2"/>
                      <a:pt x="11168" y="2"/>
                    </a:cubicBezTo>
                    <a:close/>
                    <a:moveTo>
                      <a:pt x="11176" y="2"/>
                    </a:moveTo>
                    <a:lnTo>
                      <a:pt x="11176" y="2"/>
                    </a:lnTo>
                    <a:cubicBezTo>
                      <a:pt x="11177" y="2"/>
                      <a:pt x="11178" y="3"/>
                      <a:pt x="11178" y="4"/>
                    </a:cubicBezTo>
                    <a:cubicBezTo>
                      <a:pt x="11178" y="5"/>
                      <a:pt x="11177" y="6"/>
                      <a:pt x="11176" y="6"/>
                    </a:cubicBezTo>
                    <a:lnTo>
                      <a:pt x="11176" y="6"/>
                    </a:lnTo>
                    <a:cubicBezTo>
                      <a:pt x="11175" y="6"/>
                      <a:pt x="11174" y="5"/>
                      <a:pt x="11174" y="4"/>
                    </a:cubicBezTo>
                    <a:cubicBezTo>
                      <a:pt x="11174" y="3"/>
                      <a:pt x="11175" y="2"/>
                      <a:pt x="11176" y="2"/>
                    </a:cubicBezTo>
                    <a:close/>
                    <a:moveTo>
                      <a:pt x="11184" y="2"/>
                    </a:moveTo>
                    <a:lnTo>
                      <a:pt x="11184" y="2"/>
                    </a:lnTo>
                    <a:cubicBezTo>
                      <a:pt x="11185" y="2"/>
                      <a:pt x="11186" y="3"/>
                      <a:pt x="11186" y="4"/>
                    </a:cubicBezTo>
                    <a:cubicBezTo>
                      <a:pt x="11186" y="5"/>
                      <a:pt x="11185" y="6"/>
                      <a:pt x="11184" y="6"/>
                    </a:cubicBezTo>
                    <a:lnTo>
                      <a:pt x="11184" y="6"/>
                    </a:lnTo>
                    <a:cubicBezTo>
                      <a:pt x="11183" y="6"/>
                      <a:pt x="11182" y="5"/>
                      <a:pt x="11182" y="4"/>
                    </a:cubicBezTo>
                    <a:cubicBezTo>
                      <a:pt x="11182" y="3"/>
                      <a:pt x="11183" y="2"/>
                      <a:pt x="11184" y="2"/>
                    </a:cubicBezTo>
                    <a:close/>
                    <a:moveTo>
                      <a:pt x="11192" y="2"/>
                    </a:moveTo>
                    <a:lnTo>
                      <a:pt x="11192" y="2"/>
                    </a:lnTo>
                    <a:cubicBezTo>
                      <a:pt x="11193" y="2"/>
                      <a:pt x="11194" y="3"/>
                      <a:pt x="11194" y="4"/>
                    </a:cubicBezTo>
                    <a:cubicBezTo>
                      <a:pt x="11194" y="5"/>
                      <a:pt x="11193" y="6"/>
                      <a:pt x="11192" y="6"/>
                    </a:cubicBezTo>
                    <a:lnTo>
                      <a:pt x="11192" y="6"/>
                    </a:lnTo>
                    <a:cubicBezTo>
                      <a:pt x="11191" y="6"/>
                      <a:pt x="11190" y="5"/>
                      <a:pt x="11190" y="4"/>
                    </a:cubicBezTo>
                    <a:cubicBezTo>
                      <a:pt x="11190" y="3"/>
                      <a:pt x="11191" y="2"/>
                      <a:pt x="11192" y="2"/>
                    </a:cubicBezTo>
                    <a:close/>
                    <a:moveTo>
                      <a:pt x="11200" y="2"/>
                    </a:moveTo>
                    <a:lnTo>
                      <a:pt x="11200" y="2"/>
                    </a:lnTo>
                    <a:cubicBezTo>
                      <a:pt x="11201" y="2"/>
                      <a:pt x="11202" y="3"/>
                      <a:pt x="11202" y="4"/>
                    </a:cubicBezTo>
                    <a:cubicBezTo>
                      <a:pt x="11202" y="5"/>
                      <a:pt x="11201" y="6"/>
                      <a:pt x="11200" y="6"/>
                    </a:cubicBezTo>
                    <a:lnTo>
                      <a:pt x="11200" y="6"/>
                    </a:lnTo>
                    <a:cubicBezTo>
                      <a:pt x="11199" y="6"/>
                      <a:pt x="11198" y="5"/>
                      <a:pt x="11198" y="4"/>
                    </a:cubicBezTo>
                    <a:cubicBezTo>
                      <a:pt x="11198" y="3"/>
                      <a:pt x="11199" y="2"/>
                      <a:pt x="11200" y="2"/>
                    </a:cubicBezTo>
                    <a:close/>
                    <a:moveTo>
                      <a:pt x="11208" y="2"/>
                    </a:moveTo>
                    <a:lnTo>
                      <a:pt x="11208" y="2"/>
                    </a:lnTo>
                    <a:cubicBezTo>
                      <a:pt x="11209" y="2"/>
                      <a:pt x="11210" y="3"/>
                      <a:pt x="11210" y="4"/>
                    </a:cubicBezTo>
                    <a:cubicBezTo>
                      <a:pt x="11210" y="5"/>
                      <a:pt x="11209" y="6"/>
                      <a:pt x="11208" y="6"/>
                    </a:cubicBezTo>
                    <a:lnTo>
                      <a:pt x="11208" y="6"/>
                    </a:lnTo>
                    <a:cubicBezTo>
                      <a:pt x="11207" y="6"/>
                      <a:pt x="11206" y="5"/>
                      <a:pt x="11206" y="4"/>
                    </a:cubicBezTo>
                    <a:cubicBezTo>
                      <a:pt x="11206" y="3"/>
                      <a:pt x="11207" y="2"/>
                      <a:pt x="11208" y="2"/>
                    </a:cubicBezTo>
                    <a:close/>
                    <a:moveTo>
                      <a:pt x="11216" y="2"/>
                    </a:moveTo>
                    <a:lnTo>
                      <a:pt x="11216" y="2"/>
                    </a:lnTo>
                    <a:cubicBezTo>
                      <a:pt x="11217" y="2"/>
                      <a:pt x="11218" y="3"/>
                      <a:pt x="11218" y="4"/>
                    </a:cubicBezTo>
                    <a:cubicBezTo>
                      <a:pt x="11218" y="5"/>
                      <a:pt x="11217" y="6"/>
                      <a:pt x="11216" y="6"/>
                    </a:cubicBezTo>
                    <a:lnTo>
                      <a:pt x="11216" y="6"/>
                    </a:lnTo>
                    <a:cubicBezTo>
                      <a:pt x="11215" y="6"/>
                      <a:pt x="11214" y="5"/>
                      <a:pt x="11214" y="4"/>
                    </a:cubicBezTo>
                    <a:cubicBezTo>
                      <a:pt x="11214" y="3"/>
                      <a:pt x="11215" y="2"/>
                      <a:pt x="11216" y="2"/>
                    </a:cubicBezTo>
                    <a:close/>
                    <a:moveTo>
                      <a:pt x="11224" y="2"/>
                    </a:moveTo>
                    <a:lnTo>
                      <a:pt x="11224" y="2"/>
                    </a:lnTo>
                    <a:cubicBezTo>
                      <a:pt x="11225" y="2"/>
                      <a:pt x="11226" y="3"/>
                      <a:pt x="11226" y="4"/>
                    </a:cubicBezTo>
                    <a:cubicBezTo>
                      <a:pt x="11226" y="5"/>
                      <a:pt x="11225" y="6"/>
                      <a:pt x="11224" y="6"/>
                    </a:cubicBezTo>
                    <a:lnTo>
                      <a:pt x="11224" y="6"/>
                    </a:lnTo>
                    <a:cubicBezTo>
                      <a:pt x="11223" y="6"/>
                      <a:pt x="11222" y="5"/>
                      <a:pt x="11222" y="4"/>
                    </a:cubicBezTo>
                    <a:cubicBezTo>
                      <a:pt x="11222" y="3"/>
                      <a:pt x="11223" y="2"/>
                      <a:pt x="11224" y="2"/>
                    </a:cubicBezTo>
                    <a:close/>
                    <a:moveTo>
                      <a:pt x="11232" y="2"/>
                    </a:moveTo>
                    <a:lnTo>
                      <a:pt x="11232" y="2"/>
                    </a:lnTo>
                    <a:cubicBezTo>
                      <a:pt x="11233" y="2"/>
                      <a:pt x="11234" y="3"/>
                      <a:pt x="11234" y="4"/>
                    </a:cubicBezTo>
                    <a:cubicBezTo>
                      <a:pt x="11234" y="5"/>
                      <a:pt x="11233" y="6"/>
                      <a:pt x="11232" y="6"/>
                    </a:cubicBezTo>
                    <a:lnTo>
                      <a:pt x="11232" y="6"/>
                    </a:lnTo>
                    <a:cubicBezTo>
                      <a:pt x="11231" y="6"/>
                      <a:pt x="11230" y="5"/>
                      <a:pt x="11230" y="4"/>
                    </a:cubicBezTo>
                    <a:cubicBezTo>
                      <a:pt x="11230" y="3"/>
                      <a:pt x="11231" y="2"/>
                      <a:pt x="11232" y="2"/>
                    </a:cubicBezTo>
                    <a:close/>
                    <a:moveTo>
                      <a:pt x="11240" y="2"/>
                    </a:moveTo>
                    <a:lnTo>
                      <a:pt x="11240" y="2"/>
                    </a:lnTo>
                    <a:cubicBezTo>
                      <a:pt x="11241" y="2"/>
                      <a:pt x="11242" y="3"/>
                      <a:pt x="11242" y="4"/>
                    </a:cubicBezTo>
                    <a:cubicBezTo>
                      <a:pt x="11242" y="5"/>
                      <a:pt x="11241" y="6"/>
                      <a:pt x="11240" y="6"/>
                    </a:cubicBezTo>
                    <a:lnTo>
                      <a:pt x="11240" y="6"/>
                    </a:lnTo>
                    <a:cubicBezTo>
                      <a:pt x="11239" y="6"/>
                      <a:pt x="11238" y="5"/>
                      <a:pt x="11238" y="4"/>
                    </a:cubicBezTo>
                    <a:cubicBezTo>
                      <a:pt x="11238" y="3"/>
                      <a:pt x="11239" y="2"/>
                      <a:pt x="11240" y="2"/>
                    </a:cubicBezTo>
                    <a:close/>
                    <a:moveTo>
                      <a:pt x="11248" y="2"/>
                    </a:moveTo>
                    <a:lnTo>
                      <a:pt x="11248" y="2"/>
                    </a:lnTo>
                    <a:cubicBezTo>
                      <a:pt x="11249" y="2"/>
                      <a:pt x="11250" y="3"/>
                      <a:pt x="11250" y="4"/>
                    </a:cubicBezTo>
                    <a:cubicBezTo>
                      <a:pt x="11250" y="5"/>
                      <a:pt x="11249" y="6"/>
                      <a:pt x="11248" y="6"/>
                    </a:cubicBezTo>
                    <a:lnTo>
                      <a:pt x="11248" y="6"/>
                    </a:lnTo>
                    <a:cubicBezTo>
                      <a:pt x="11247" y="6"/>
                      <a:pt x="11246" y="5"/>
                      <a:pt x="11246" y="4"/>
                    </a:cubicBezTo>
                    <a:cubicBezTo>
                      <a:pt x="11246" y="3"/>
                      <a:pt x="11247" y="2"/>
                      <a:pt x="11248" y="2"/>
                    </a:cubicBezTo>
                    <a:close/>
                    <a:moveTo>
                      <a:pt x="11256" y="2"/>
                    </a:moveTo>
                    <a:lnTo>
                      <a:pt x="11256" y="2"/>
                    </a:lnTo>
                    <a:cubicBezTo>
                      <a:pt x="11257" y="2"/>
                      <a:pt x="11258" y="3"/>
                      <a:pt x="11258" y="4"/>
                    </a:cubicBezTo>
                    <a:cubicBezTo>
                      <a:pt x="11258" y="5"/>
                      <a:pt x="11257" y="6"/>
                      <a:pt x="11256" y="6"/>
                    </a:cubicBezTo>
                    <a:lnTo>
                      <a:pt x="11256" y="6"/>
                    </a:lnTo>
                    <a:cubicBezTo>
                      <a:pt x="11255" y="6"/>
                      <a:pt x="11254" y="5"/>
                      <a:pt x="11254" y="4"/>
                    </a:cubicBezTo>
                    <a:cubicBezTo>
                      <a:pt x="11254" y="3"/>
                      <a:pt x="11255" y="2"/>
                      <a:pt x="11256" y="2"/>
                    </a:cubicBezTo>
                    <a:close/>
                    <a:moveTo>
                      <a:pt x="11264" y="2"/>
                    </a:moveTo>
                    <a:lnTo>
                      <a:pt x="11264" y="2"/>
                    </a:lnTo>
                    <a:cubicBezTo>
                      <a:pt x="11265" y="2"/>
                      <a:pt x="11266" y="3"/>
                      <a:pt x="11266" y="4"/>
                    </a:cubicBezTo>
                    <a:cubicBezTo>
                      <a:pt x="11266" y="5"/>
                      <a:pt x="11265" y="6"/>
                      <a:pt x="11264" y="6"/>
                    </a:cubicBezTo>
                    <a:lnTo>
                      <a:pt x="11264" y="6"/>
                    </a:lnTo>
                    <a:cubicBezTo>
                      <a:pt x="11263" y="6"/>
                      <a:pt x="11262" y="5"/>
                      <a:pt x="11262" y="4"/>
                    </a:cubicBezTo>
                    <a:cubicBezTo>
                      <a:pt x="11262" y="3"/>
                      <a:pt x="11263" y="2"/>
                      <a:pt x="11264" y="2"/>
                    </a:cubicBezTo>
                    <a:close/>
                    <a:moveTo>
                      <a:pt x="11272" y="2"/>
                    </a:moveTo>
                    <a:lnTo>
                      <a:pt x="11272" y="2"/>
                    </a:lnTo>
                    <a:cubicBezTo>
                      <a:pt x="11273" y="2"/>
                      <a:pt x="11274" y="3"/>
                      <a:pt x="11274" y="4"/>
                    </a:cubicBezTo>
                    <a:cubicBezTo>
                      <a:pt x="11274" y="5"/>
                      <a:pt x="11273" y="6"/>
                      <a:pt x="11272" y="6"/>
                    </a:cubicBezTo>
                    <a:lnTo>
                      <a:pt x="11272" y="6"/>
                    </a:lnTo>
                    <a:cubicBezTo>
                      <a:pt x="11271" y="6"/>
                      <a:pt x="11270" y="5"/>
                      <a:pt x="11270" y="4"/>
                    </a:cubicBezTo>
                    <a:cubicBezTo>
                      <a:pt x="11270" y="3"/>
                      <a:pt x="11271" y="2"/>
                      <a:pt x="11272" y="2"/>
                    </a:cubicBezTo>
                    <a:close/>
                    <a:moveTo>
                      <a:pt x="11280" y="2"/>
                    </a:moveTo>
                    <a:lnTo>
                      <a:pt x="11280" y="2"/>
                    </a:lnTo>
                    <a:cubicBezTo>
                      <a:pt x="11281" y="2"/>
                      <a:pt x="11282" y="3"/>
                      <a:pt x="11282" y="4"/>
                    </a:cubicBezTo>
                    <a:cubicBezTo>
                      <a:pt x="11282" y="5"/>
                      <a:pt x="11281" y="6"/>
                      <a:pt x="11280" y="6"/>
                    </a:cubicBezTo>
                    <a:lnTo>
                      <a:pt x="11280" y="6"/>
                    </a:lnTo>
                    <a:cubicBezTo>
                      <a:pt x="11279" y="6"/>
                      <a:pt x="11278" y="5"/>
                      <a:pt x="11278" y="4"/>
                    </a:cubicBezTo>
                    <a:cubicBezTo>
                      <a:pt x="11278" y="3"/>
                      <a:pt x="11279" y="2"/>
                      <a:pt x="11280" y="2"/>
                    </a:cubicBezTo>
                    <a:close/>
                    <a:moveTo>
                      <a:pt x="11288" y="2"/>
                    </a:moveTo>
                    <a:lnTo>
                      <a:pt x="11288" y="2"/>
                    </a:lnTo>
                    <a:cubicBezTo>
                      <a:pt x="11289" y="2"/>
                      <a:pt x="11290" y="3"/>
                      <a:pt x="11290" y="4"/>
                    </a:cubicBezTo>
                    <a:cubicBezTo>
                      <a:pt x="11290" y="5"/>
                      <a:pt x="11289" y="6"/>
                      <a:pt x="11288" y="6"/>
                    </a:cubicBezTo>
                    <a:lnTo>
                      <a:pt x="11288" y="6"/>
                    </a:lnTo>
                    <a:cubicBezTo>
                      <a:pt x="11287" y="6"/>
                      <a:pt x="11286" y="5"/>
                      <a:pt x="11286" y="4"/>
                    </a:cubicBezTo>
                    <a:cubicBezTo>
                      <a:pt x="11286" y="3"/>
                      <a:pt x="11287" y="2"/>
                      <a:pt x="11288" y="2"/>
                    </a:cubicBezTo>
                    <a:close/>
                    <a:moveTo>
                      <a:pt x="11296" y="2"/>
                    </a:moveTo>
                    <a:lnTo>
                      <a:pt x="11296" y="2"/>
                    </a:lnTo>
                    <a:cubicBezTo>
                      <a:pt x="11297" y="2"/>
                      <a:pt x="11298" y="3"/>
                      <a:pt x="11298" y="4"/>
                    </a:cubicBezTo>
                    <a:cubicBezTo>
                      <a:pt x="11298" y="5"/>
                      <a:pt x="11297" y="6"/>
                      <a:pt x="11296" y="6"/>
                    </a:cubicBezTo>
                    <a:lnTo>
                      <a:pt x="11296" y="6"/>
                    </a:lnTo>
                    <a:cubicBezTo>
                      <a:pt x="11295" y="6"/>
                      <a:pt x="11294" y="5"/>
                      <a:pt x="11294" y="4"/>
                    </a:cubicBezTo>
                    <a:cubicBezTo>
                      <a:pt x="11294" y="3"/>
                      <a:pt x="11295" y="2"/>
                      <a:pt x="11296" y="2"/>
                    </a:cubicBezTo>
                    <a:close/>
                    <a:moveTo>
                      <a:pt x="11304" y="2"/>
                    </a:moveTo>
                    <a:lnTo>
                      <a:pt x="11304" y="2"/>
                    </a:lnTo>
                    <a:cubicBezTo>
                      <a:pt x="11305" y="2"/>
                      <a:pt x="11306" y="3"/>
                      <a:pt x="11306" y="4"/>
                    </a:cubicBezTo>
                    <a:cubicBezTo>
                      <a:pt x="11306" y="5"/>
                      <a:pt x="11305" y="6"/>
                      <a:pt x="11304" y="6"/>
                    </a:cubicBezTo>
                    <a:lnTo>
                      <a:pt x="11304" y="6"/>
                    </a:lnTo>
                    <a:cubicBezTo>
                      <a:pt x="11303" y="6"/>
                      <a:pt x="11302" y="5"/>
                      <a:pt x="11302" y="4"/>
                    </a:cubicBezTo>
                    <a:cubicBezTo>
                      <a:pt x="11302" y="3"/>
                      <a:pt x="11303" y="2"/>
                      <a:pt x="11304" y="2"/>
                    </a:cubicBezTo>
                    <a:close/>
                    <a:moveTo>
                      <a:pt x="11312" y="2"/>
                    </a:moveTo>
                    <a:lnTo>
                      <a:pt x="11312" y="2"/>
                    </a:lnTo>
                    <a:cubicBezTo>
                      <a:pt x="11313" y="2"/>
                      <a:pt x="11314" y="3"/>
                      <a:pt x="11314" y="4"/>
                    </a:cubicBezTo>
                    <a:cubicBezTo>
                      <a:pt x="11314" y="5"/>
                      <a:pt x="11313" y="6"/>
                      <a:pt x="11312" y="6"/>
                    </a:cubicBezTo>
                    <a:lnTo>
                      <a:pt x="11312" y="6"/>
                    </a:lnTo>
                    <a:cubicBezTo>
                      <a:pt x="11311" y="6"/>
                      <a:pt x="11310" y="5"/>
                      <a:pt x="11310" y="4"/>
                    </a:cubicBezTo>
                    <a:cubicBezTo>
                      <a:pt x="11310" y="3"/>
                      <a:pt x="11311" y="2"/>
                      <a:pt x="11312" y="2"/>
                    </a:cubicBezTo>
                    <a:close/>
                    <a:moveTo>
                      <a:pt x="11320" y="2"/>
                    </a:moveTo>
                    <a:lnTo>
                      <a:pt x="11320" y="2"/>
                    </a:lnTo>
                    <a:cubicBezTo>
                      <a:pt x="11321" y="2"/>
                      <a:pt x="11322" y="3"/>
                      <a:pt x="11322" y="4"/>
                    </a:cubicBezTo>
                    <a:cubicBezTo>
                      <a:pt x="11322" y="5"/>
                      <a:pt x="11321" y="6"/>
                      <a:pt x="11320" y="6"/>
                    </a:cubicBezTo>
                    <a:lnTo>
                      <a:pt x="11320" y="6"/>
                    </a:lnTo>
                    <a:cubicBezTo>
                      <a:pt x="11319" y="6"/>
                      <a:pt x="11318" y="5"/>
                      <a:pt x="11318" y="4"/>
                    </a:cubicBezTo>
                    <a:cubicBezTo>
                      <a:pt x="11318" y="3"/>
                      <a:pt x="11319" y="2"/>
                      <a:pt x="11320" y="2"/>
                    </a:cubicBezTo>
                    <a:close/>
                    <a:moveTo>
                      <a:pt x="11328" y="2"/>
                    </a:moveTo>
                    <a:lnTo>
                      <a:pt x="11328" y="2"/>
                    </a:lnTo>
                    <a:cubicBezTo>
                      <a:pt x="11329" y="2"/>
                      <a:pt x="11330" y="3"/>
                      <a:pt x="11330" y="4"/>
                    </a:cubicBezTo>
                    <a:cubicBezTo>
                      <a:pt x="11330" y="5"/>
                      <a:pt x="11329" y="6"/>
                      <a:pt x="11328" y="6"/>
                    </a:cubicBezTo>
                    <a:lnTo>
                      <a:pt x="11328" y="6"/>
                    </a:lnTo>
                    <a:cubicBezTo>
                      <a:pt x="11327" y="6"/>
                      <a:pt x="11326" y="5"/>
                      <a:pt x="11326" y="4"/>
                    </a:cubicBezTo>
                    <a:cubicBezTo>
                      <a:pt x="11326" y="3"/>
                      <a:pt x="11327" y="2"/>
                      <a:pt x="11328" y="2"/>
                    </a:cubicBezTo>
                    <a:close/>
                    <a:moveTo>
                      <a:pt x="11336" y="2"/>
                    </a:moveTo>
                    <a:lnTo>
                      <a:pt x="11336" y="2"/>
                    </a:lnTo>
                    <a:cubicBezTo>
                      <a:pt x="11337" y="2"/>
                      <a:pt x="11338" y="3"/>
                      <a:pt x="11338" y="4"/>
                    </a:cubicBezTo>
                    <a:cubicBezTo>
                      <a:pt x="11338" y="5"/>
                      <a:pt x="11337" y="6"/>
                      <a:pt x="11336" y="6"/>
                    </a:cubicBezTo>
                    <a:lnTo>
                      <a:pt x="11336" y="6"/>
                    </a:lnTo>
                    <a:cubicBezTo>
                      <a:pt x="11335" y="6"/>
                      <a:pt x="11334" y="5"/>
                      <a:pt x="11334" y="4"/>
                    </a:cubicBezTo>
                    <a:cubicBezTo>
                      <a:pt x="11334" y="3"/>
                      <a:pt x="11335" y="2"/>
                      <a:pt x="11336" y="2"/>
                    </a:cubicBezTo>
                    <a:close/>
                    <a:moveTo>
                      <a:pt x="11344" y="2"/>
                    </a:moveTo>
                    <a:lnTo>
                      <a:pt x="11344" y="2"/>
                    </a:lnTo>
                    <a:cubicBezTo>
                      <a:pt x="11345" y="2"/>
                      <a:pt x="11346" y="3"/>
                      <a:pt x="11346" y="4"/>
                    </a:cubicBezTo>
                    <a:cubicBezTo>
                      <a:pt x="11346" y="5"/>
                      <a:pt x="11345" y="6"/>
                      <a:pt x="11344" y="6"/>
                    </a:cubicBezTo>
                    <a:lnTo>
                      <a:pt x="11344" y="6"/>
                    </a:lnTo>
                    <a:cubicBezTo>
                      <a:pt x="11343" y="6"/>
                      <a:pt x="11342" y="5"/>
                      <a:pt x="11342" y="4"/>
                    </a:cubicBezTo>
                    <a:cubicBezTo>
                      <a:pt x="11342" y="3"/>
                      <a:pt x="11343" y="2"/>
                      <a:pt x="11344" y="2"/>
                    </a:cubicBezTo>
                    <a:close/>
                    <a:moveTo>
                      <a:pt x="11352" y="2"/>
                    </a:moveTo>
                    <a:lnTo>
                      <a:pt x="11352" y="2"/>
                    </a:lnTo>
                    <a:cubicBezTo>
                      <a:pt x="11353" y="2"/>
                      <a:pt x="11354" y="3"/>
                      <a:pt x="11354" y="4"/>
                    </a:cubicBezTo>
                    <a:cubicBezTo>
                      <a:pt x="11354" y="5"/>
                      <a:pt x="11353" y="6"/>
                      <a:pt x="11352" y="6"/>
                    </a:cubicBezTo>
                    <a:lnTo>
                      <a:pt x="11352" y="6"/>
                    </a:lnTo>
                    <a:cubicBezTo>
                      <a:pt x="11351" y="6"/>
                      <a:pt x="11350" y="5"/>
                      <a:pt x="11350" y="4"/>
                    </a:cubicBezTo>
                    <a:cubicBezTo>
                      <a:pt x="11350" y="3"/>
                      <a:pt x="11351" y="2"/>
                      <a:pt x="11352" y="2"/>
                    </a:cubicBezTo>
                    <a:close/>
                    <a:moveTo>
                      <a:pt x="11360" y="2"/>
                    </a:moveTo>
                    <a:lnTo>
                      <a:pt x="11360" y="2"/>
                    </a:lnTo>
                    <a:cubicBezTo>
                      <a:pt x="11361" y="2"/>
                      <a:pt x="11362" y="3"/>
                      <a:pt x="11362" y="4"/>
                    </a:cubicBezTo>
                    <a:cubicBezTo>
                      <a:pt x="11362" y="5"/>
                      <a:pt x="11361" y="6"/>
                      <a:pt x="11360" y="6"/>
                    </a:cubicBezTo>
                    <a:lnTo>
                      <a:pt x="11360" y="6"/>
                    </a:lnTo>
                    <a:cubicBezTo>
                      <a:pt x="11359" y="6"/>
                      <a:pt x="11358" y="5"/>
                      <a:pt x="11358" y="4"/>
                    </a:cubicBezTo>
                    <a:cubicBezTo>
                      <a:pt x="11358" y="3"/>
                      <a:pt x="11359" y="2"/>
                      <a:pt x="11360" y="2"/>
                    </a:cubicBezTo>
                    <a:close/>
                    <a:moveTo>
                      <a:pt x="11368" y="2"/>
                    </a:moveTo>
                    <a:lnTo>
                      <a:pt x="11368" y="2"/>
                    </a:lnTo>
                    <a:cubicBezTo>
                      <a:pt x="11369" y="2"/>
                      <a:pt x="11370" y="3"/>
                      <a:pt x="11370" y="4"/>
                    </a:cubicBezTo>
                    <a:cubicBezTo>
                      <a:pt x="11370" y="5"/>
                      <a:pt x="11369" y="6"/>
                      <a:pt x="11368" y="6"/>
                    </a:cubicBezTo>
                    <a:lnTo>
                      <a:pt x="11368" y="6"/>
                    </a:lnTo>
                    <a:cubicBezTo>
                      <a:pt x="11367" y="6"/>
                      <a:pt x="11366" y="5"/>
                      <a:pt x="11366" y="4"/>
                    </a:cubicBezTo>
                    <a:cubicBezTo>
                      <a:pt x="11366" y="3"/>
                      <a:pt x="11367" y="2"/>
                      <a:pt x="11368" y="2"/>
                    </a:cubicBezTo>
                    <a:close/>
                    <a:moveTo>
                      <a:pt x="11376" y="2"/>
                    </a:moveTo>
                    <a:lnTo>
                      <a:pt x="11376" y="2"/>
                    </a:lnTo>
                    <a:cubicBezTo>
                      <a:pt x="11377" y="2"/>
                      <a:pt x="11378" y="3"/>
                      <a:pt x="11378" y="4"/>
                    </a:cubicBezTo>
                    <a:cubicBezTo>
                      <a:pt x="11378" y="5"/>
                      <a:pt x="11377" y="6"/>
                      <a:pt x="11376" y="6"/>
                    </a:cubicBezTo>
                    <a:lnTo>
                      <a:pt x="11376" y="6"/>
                    </a:lnTo>
                    <a:cubicBezTo>
                      <a:pt x="11375" y="6"/>
                      <a:pt x="11374" y="5"/>
                      <a:pt x="11374" y="4"/>
                    </a:cubicBezTo>
                    <a:cubicBezTo>
                      <a:pt x="11374" y="3"/>
                      <a:pt x="11375" y="2"/>
                      <a:pt x="11376" y="2"/>
                    </a:cubicBezTo>
                    <a:close/>
                    <a:moveTo>
                      <a:pt x="11384" y="2"/>
                    </a:moveTo>
                    <a:lnTo>
                      <a:pt x="11384" y="2"/>
                    </a:lnTo>
                    <a:cubicBezTo>
                      <a:pt x="11385" y="2"/>
                      <a:pt x="11386" y="3"/>
                      <a:pt x="11386" y="4"/>
                    </a:cubicBezTo>
                    <a:cubicBezTo>
                      <a:pt x="11386" y="5"/>
                      <a:pt x="11385" y="6"/>
                      <a:pt x="11384" y="6"/>
                    </a:cubicBezTo>
                    <a:lnTo>
                      <a:pt x="11384" y="6"/>
                    </a:lnTo>
                    <a:cubicBezTo>
                      <a:pt x="11383" y="6"/>
                      <a:pt x="11382" y="5"/>
                      <a:pt x="11382" y="4"/>
                    </a:cubicBezTo>
                    <a:cubicBezTo>
                      <a:pt x="11382" y="3"/>
                      <a:pt x="11383" y="2"/>
                      <a:pt x="11384" y="2"/>
                    </a:cubicBezTo>
                    <a:close/>
                    <a:moveTo>
                      <a:pt x="11392" y="2"/>
                    </a:moveTo>
                    <a:lnTo>
                      <a:pt x="11392" y="2"/>
                    </a:lnTo>
                    <a:cubicBezTo>
                      <a:pt x="11393" y="2"/>
                      <a:pt x="11394" y="3"/>
                      <a:pt x="11394" y="4"/>
                    </a:cubicBezTo>
                    <a:cubicBezTo>
                      <a:pt x="11394" y="5"/>
                      <a:pt x="11393" y="6"/>
                      <a:pt x="11392" y="6"/>
                    </a:cubicBezTo>
                    <a:lnTo>
                      <a:pt x="11392" y="6"/>
                    </a:lnTo>
                    <a:cubicBezTo>
                      <a:pt x="11391" y="6"/>
                      <a:pt x="11390" y="5"/>
                      <a:pt x="11390" y="4"/>
                    </a:cubicBezTo>
                    <a:cubicBezTo>
                      <a:pt x="11390" y="3"/>
                      <a:pt x="11391" y="2"/>
                      <a:pt x="11392" y="2"/>
                    </a:cubicBezTo>
                    <a:close/>
                    <a:moveTo>
                      <a:pt x="11400" y="2"/>
                    </a:moveTo>
                    <a:lnTo>
                      <a:pt x="11400" y="2"/>
                    </a:lnTo>
                    <a:cubicBezTo>
                      <a:pt x="11401" y="2"/>
                      <a:pt x="11402" y="3"/>
                      <a:pt x="11402" y="4"/>
                    </a:cubicBezTo>
                    <a:cubicBezTo>
                      <a:pt x="11402" y="5"/>
                      <a:pt x="11401" y="6"/>
                      <a:pt x="11400" y="6"/>
                    </a:cubicBezTo>
                    <a:lnTo>
                      <a:pt x="11400" y="6"/>
                    </a:lnTo>
                    <a:cubicBezTo>
                      <a:pt x="11399" y="6"/>
                      <a:pt x="11398" y="5"/>
                      <a:pt x="11398" y="4"/>
                    </a:cubicBezTo>
                    <a:cubicBezTo>
                      <a:pt x="11398" y="3"/>
                      <a:pt x="11399" y="2"/>
                      <a:pt x="11400" y="2"/>
                    </a:cubicBezTo>
                    <a:close/>
                    <a:moveTo>
                      <a:pt x="11408" y="2"/>
                    </a:moveTo>
                    <a:lnTo>
                      <a:pt x="11408" y="2"/>
                    </a:lnTo>
                    <a:cubicBezTo>
                      <a:pt x="11409" y="2"/>
                      <a:pt x="11410" y="3"/>
                      <a:pt x="11410" y="4"/>
                    </a:cubicBezTo>
                    <a:cubicBezTo>
                      <a:pt x="11410" y="5"/>
                      <a:pt x="11409" y="6"/>
                      <a:pt x="11408" y="6"/>
                    </a:cubicBezTo>
                    <a:lnTo>
                      <a:pt x="11408" y="6"/>
                    </a:lnTo>
                    <a:cubicBezTo>
                      <a:pt x="11407" y="6"/>
                      <a:pt x="11406" y="5"/>
                      <a:pt x="11406" y="4"/>
                    </a:cubicBezTo>
                    <a:cubicBezTo>
                      <a:pt x="11406" y="3"/>
                      <a:pt x="11407" y="2"/>
                      <a:pt x="11408" y="2"/>
                    </a:cubicBezTo>
                    <a:close/>
                    <a:moveTo>
                      <a:pt x="11416" y="2"/>
                    </a:moveTo>
                    <a:lnTo>
                      <a:pt x="11416" y="2"/>
                    </a:lnTo>
                    <a:cubicBezTo>
                      <a:pt x="11417" y="2"/>
                      <a:pt x="11418" y="3"/>
                      <a:pt x="11418" y="4"/>
                    </a:cubicBezTo>
                    <a:cubicBezTo>
                      <a:pt x="11418" y="5"/>
                      <a:pt x="11417" y="6"/>
                      <a:pt x="11416" y="6"/>
                    </a:cubicBezTo>
                    <a:lnTo>
                      <a:pt x="11416" y="6"/>
                    </a:lnTo>
                    <a:cubicBezTo>
                      <a:pt x="11415" y="6"/>
                      <a:pt x="11414" y="5"/>
                      <a:pt x="11414" y="4"/>
                    </a:cubicBezTo>
                    <a:cubicBezTo>
                      <a:pt x="11414" y="3"/>
                      <a:pt x="11415" y="2"/>
                      <a:pt x="11416" y="2"/>
                    </a:cubicBezTo>
                    <a:close/>
                    <a:moveTo>
                      <a:pt x="11424" y="2"/>
                    </a:moveTo>
                    <a:lnTo>
                      <a:pt x="11424" y="2"/>
                    </a:lnTo>
                    <a:cubicBezTo>
                      <a:pt x="11425" y="2"/>
                      <a:pt x="11426" y="3"/>
                      <a:pt x="11426" y="4"/>
                    </a:cubicBezTo>
                    <a:cubicBezTo>
                      <a:pt x="11426" y="5"/>
                      <a:pt x="11425" y="6"/>
                      <a:pt x="11424" y="6"/>
                    </a:cubicBezTo>
                    <a:lnTo>
                      <a:pt x="11424" y="6"/>
                    </a:lnTo>
                    <a:cubicBezTo>
                      <a:pt x="11423" y="6"/>
                      <a:pt x="11422" y="5"/>
                      <a:pt x="11422" y="4"/>
                    </a:cubicBezTo>
                    <a:cubicBezTo>
                      <a:pt x="11422" y="3"/>
                      <a:pt x="11423" y="2"/>
                      <a:pt x="11424" y="2"/>
                    </a:cubicBezTo>
                    <a:close/>
                    <a:moveTo>
                      <a:pt x="11432" y="2"/>
                    </a:moveTo>
                    <a:lnTo>
                      <a:pt x="11432" y="2"/>
                    </a:lnTo>
                    <a:cubicBezTo>
                      <a:pt x="11433" y="2"/>
                      <a:pt x="11434" y="3"/>
                      <a:pt x="11434" y="4"/>
                    </a:cubicBezTo>
                    <a:cubicBezTo>
                      <a:pt x="11434" y="5"/>
                      <a:pt x="11433" y="6"/>
                      <a:pt x="11432" y="6"/>
                    </a:cubicBezTo>
                    <a:lnTo>
                      <a:pt x="11432" y="6"/>
                    </a:lnTo>
                    <a:cubicBezTo>
                      <a:pt x="11431" y="6"/>
                      <a:pt x="11430" y="5"/>
                      <a:pt x="11430" y="4"/>
                    </a:cubicBezTo>
                    <a:cubicBezTo>
                      <a:pt x="11430" y="3"/>
                      <a:pt x="11431" y="2"/>
                      <a:pt x="11432" y="2"/>
                    </a:cubicBezTo>
                    <a:close/>
                    <a:moveTo>
                      <a:pt x="11440" y="2"/>
                    </a:moveTo>
                    <a:lnTo>
                      <a:pt x="11440" y="2"/>
                    </a:lnTo>
                    <a:cubicBezTo>
                      <a:pt x="11441" y="2"/>
                      <a:pt x="11442" y="3"/>
                      <a:pt x="11442" y="4"/>
                    </a:cubicBezTo>
                    <a:cubicBezTo>
                      <a:pt x="11442" y="5"/>
                      <a:pt x="11441" y="6"/>
                      <a:pt x="11440" y="6"/>
                    </a:cubicBezTo>
                    <a:lnTo>
                      <a:pt x="11440" y="6"/>
                    </a:lnTo>
                    <a:cubicBezTo>
                      <a:pt x="11439" y="6"/>
                      <a:pt x="11438" y="5"/>
                      <a:pt x="11438" y="4"/>
                    </a:cubicBezTo>
                    <a:cubicBezTo>
                      <a:pt x="11438" y="3"/>
                      <a:pt x="11439" y="2"/>
                      <a:pt x="11440" y="2"/>
                    </a:cubicBezTo>
                    <a:close/>
                    <a:moveTo>
                      <a:pt x="11448" y="2"/>
                    </a:moveTo>
                    <a:lnTo>
                      <a:pt x="11448" y="2"/>
                    </a:lnTo>
                    <a:cubicBezTo>
                      <a:pt x="11449" y="2"/>
                      <a:pt x="11450" y="3"/>
                      <a:pt x="11450" y="4"/>
                    </a:cubicBezTo>
                    <a:cubicBezTo>
                      <a:pt x="11450" y="5"/>
                      <a:pt x="11449" y="6"/>
                      <a:pt x="11448" y="6"/>
                    </a:cubicBezTo>
                    <a:lnTo>
                      <a:pt x="11448" y="6"/>
                    </a:lnTo>
                    <a:cubicBezTo>
                      <a:pt x="11447" y="6"/>
                      <a:pt x="11446" y="5"/>
                      <a:pt x="11446" y="4"/>
                    </a:cubicBezTo>
                    <a:cubicBezTo>
                      <a:pt x="11446" y="3"/>
                      <a:pt x="11447" y="2"/>
                      <a:pt x="11448" y="2"/>
                    </a:cubicBezTo>
                    <a:close/>
                    <a:moveTo>
                      <a:pt x="11456" y="2"/>
                    </a:moveTo>
                    <a:lnTo>
                      <a:pt x="11456" y="2"/>
                    </a:lnTo>
                    <a:cubicBezTo>
                      <a:pt x="11457" y="2"/>
                      <a:pt x="11458" y="3"/>
                      <a:pt x="11458" y="4"/>
                    </a:cubicBezTo>
                    <a:cubicBezTo>
                      <a:pt x="11458" y="5"/>
                      <a:pt x="11457" y="6"/>
                      <a:pt x="11456" y="6"/>
                    </a:cubicBezTo>
                    <a:lnTo>
                      <a:pt x="11456" y="6"/>
                    </a:lnTo>
                    <a:cubicBezTo>
                      <a:pt x="11455" y="6"/>
                      <a:pt x="11454" y="5"/>
                      <a:pt x="11454" y="4"/>
                    </a:cubicBezTo>
                    <a:cubicBezTo>
                      <a:pt x="11454" y="3"/>
                      <a:pt x="11455" y="2"/>
                      <a:pt x="11456" y="2"/>
                    </a:cubicBezTo>
                    <a:close/>
                    <a:moveTo>
                      <a:pt x="11464" y="2"/>
                    </a:moveTo>
                    <a:lnTo>
                      <a:pt x="11464" y="2"/>
                    </a:lnTo>
                    <a:cubicBezTo>
                      <a:pt x="11465" y="2"/>
                      <a:pt x="11466" y="3"/>
                      <a:pt x="11466" y="4"/>
                    </a:cubicBezTo>
                    <a:cubicBezTo>
                      <a:pt x="11466" y="5"/>
                      <a:pt x="11465" y="6"/>
                      <a:pt x="11464" y="6"/>
                    </a:cubicBezTo>
                    <a:lnTo>
                      <a:pt x="11464" y="6"/>
                    </a:lnTo>
                    <a:cubicBezTo>
                      <a:pt x="11463" y="6"/>
                      <a:pt x="11462" y="5"/>
                      <a:pt x="11462" y="4"/>
                    </a:cubicBezTo>
                    <a:cubicBezTo>
                      <a:pt x="11462" y="3"/>
                      <a:pt x="11463" y="2"/>
                      <a:pt x="11464" y="2"/>
                    </a:cubicBezTo>
                    <a:close/>
                    <a:moveTo>
                      <a:pt x="11472" y="2"/>
                    </a:moveTo>
                    <a:lnTo>
                      <a:pt x="11472" y="2"/>
                    </a:lnTo>
                    <a:cubicBezTo>
                      <a:pt x="11473" y="2"/>
                      <a:pt x="11474" y="3"/>
                      <a:pt x="11474" y="4"/>
                    </a:cubicBezTo>
                    <a:cubicBezTo>
                      <a:pt x="11474" y="5"/>
                      <a:pt x="11473" y="6"/>
                      <a:pt x="11472" y="6"/>
                    </a:cubicBezTo>
                    <a:lnTo>
                      <a:pt x="11472" y="6"/>
                    </a:lnTo>
                    <a:cubicBezTo>
                      <a:pt x="11471" y="6"/>
                      <a:pt x="11470" y="5"/>
                      <a:pt x="11470" y="4"/>
                    </a:cubicBezTo>
                    <a:cubicBezTo>
                      <a:pt x="11470" y="3"/>
                      <a:pt x="11471" y="2"/>
                      <a:pt x="11472" y="2"/>
                    </a:cubicBezTo>
                    <a:close/>
                    <a:moveTo>
                      <a:pt x="11480" y="2"/>
                    </a:moveTo>
                    <a:lnTo>
                      <a:pt x="11480" y="2"/>
                    </a:lnTo>
                    <a:cubicBezTo>
                      <a:pt x="11481" y="2"/>
                      <a:pt x="11482" y="3"/>
                      <a:pt x="11482" y="4"/>
                    </a:cubicBezTo>
                    <a:cubicBezTo>
                      <a:pt x="11482" y="5"/>
                      <a:pt x="11481" y="6"/>
                      <a:pt x="11480" y="6"/>
                    </a:cubicBezTo>
                    <a:lnTo>
                      <a:pt x="11480" y="6"/>
                    </a:lnTo>
                    <a:cubicBezTo>
                      <a:pt x="11479" y="6"/>
                      <a:pt x="11478" y="5"/>
                      <a:pt x="11478" y="4"/>
                    </a:cubicBezTo>
                    <a:cubicBezTo>
                      <a:pt x="11478" y="3"/>
                      <a:pt x="11479" y="2"/>
                      <a:pt x="11480" y="2"/>
                    </a:cubicBezTo>
                    <a:close/>
                    <a:moveTo>
                      <a:pt x="11488" y="2"/>
                    </a:moveTo>
                    <a:lnTo>
                      <a:pt x="11488" y="2"/>
                    </a:lnTo>
                    <a:cubicBezTo>
                      <a:pt x="11489" y="2"/>
                      <a:pt x="11490" y="3"/>
                      <a:pt x="11490" y="4"/>
                    </a:cubicBezTo>
                    <a:cubicBezTo>
                      <a:pt x="11490" y="5"/>
                      <a:pt x="11489" y="6"/>
                      <a:pt x="11488" y="6"/>
                    </a:cubicBezTo>
                    <a:lnTo>
                      <a:pt x="11488" y="6"/>
                    </a:lnTo>
                    <a:cubicBezTo>
                      <a:pt x="11487" y="6"/>
                      <a:pt x="11486" y="5"/>
                      <a:pt x="11486" y="4"/>
                    </a:cubicBezTo>
                    <a:cubicBezTo>
                      <a:pt x="11486" y="3"/>
                      <a:pt x="11487" y="2"/>
                      <a:pt x="11488" y="2"/>
                    </a:cubicBezTo>
                    <a:close/>
                    <a:moveTo>
                      <a:pt x="11496" y="2"/>
                    </a:moveTo>
                    <a:lnTo>
                      <a:pt x="11496" y="2"/>
                    </a:lnTo>
                    <a:cubicBezTo>
                      <a:pt x="11497" y="2"/>
                      <a:pt x="11498" y="3"/>
                      <a:pt x="11498" y="4"/>
                    </a:cubicBezTo>
                    <a:cubicBezTo>
                      <a:pt x="11498" y="5"/>
                      <a:pt x="11497" y="6"/>
                      <a:pt x="11496" y="6"/>
                    </a:cubicBezTo>
                    <a:lnTo>
                      <a:pt x="11496" y="6"/>
                    </a:lnTo>
                    <a:cubicBezTo>
                      <a:pt x="11495" y="6"/>
                      <a:pt x="11494" y="5"/>
                      <a:pt x="11494" y="4"/>
                    </a:cubicBezTo>
                    <a:cubicBezTo>
                      <a:pt x="11494" y="3"/>
                      <a:pt x="11495" y="2"/>
                      <a:pt x="11496" y="2"/>
                    </a:cubicBezTo>
                    <a:close/>
                    <a:moveTo>
                      <a:pt x="11504" y="2"/>
                    </a:moveTo>
                    <a:lnTo>
                      <a:pt x="11504" y="2"/>
                    </a:lnTo>
                    <a:cubicBezTo>
                      <a:pt x="11505" y="2"/>
                      <a:pt x="11506" y="3"/>
                      <a:pt x="11506" y="4"/>
                    </a:cubicBezTo>
                    <a:cubicBezTo>
                      <a:pt x="11506" y="5"/>
                      <a:pt x="11505" y="6"/>
                      <a:pt x="11504" y="6"/>
                    </a:cubicBezTo>
                    <a:lnTo>
                      <a:pt x="11504" y="6"/>
                    </a:lnTo>
                    <a:cubicBezTo>
                      <a:pt x="11503" y="6"/>
                      <a:pt x="11502" y="5"/>
                      <a:pt x="11502" y="4"/>
                    </a:cubicBezTo>
                    <a:cubicBezTo>
                      <a:pt x="11502" y="3"/>
                      <a:pt x="11503" y="2"/>
                      <a:pt x="11504" y="2"/>
                    </a:cubicBezTo>
                    <a:close/>
                    <a:moveTo>
                      <a:pt x="11512" y="2"/>
                    </a:moveTo>
                    <a:lnTo>
                      <a:pt x="11512" y="2"/>
                    </a:lnTo>
                    <a:cubicBezTo>
                      <a:pt x="11513" y="2"/>
                      <a:pt x="11514" y="3"/>
                      <a:pt x="11514" y="4"/>
                    </a:cubicBezTo>
                    <a:cubicBezTo>
                      <a:pt x="11514" y="5"/>
                      <a:pt x="11513" y="6"/>
                      <a:pt x="11512" y="6"/>
                    </a:cubicBezTo>
                    <a:lnTo>
                      <a:pt x="11512" y="6"/>
                    </a:lnTo>
                    <a:cubicBezTo>
                      <a:pt x="11511" y="6"/>
                      <a:pt x="11510" y="5"/>
                      <a:pt x="11510" y="4"/>
                    </a:cubicBezTo>
                    <a:cubicBezTo>
                      <a:pt x="11510" y="3"/>
                      <a:pt x="11511" y="2"/>
                      <a:pt x="11512" y="2"/>
                    </a:cubicBezTo>
                    <a:close/>
                    <a:moveTo>
                      <a:pt x="11520" y="2"/>
                    </a:moveTo>
                    <a:lnTo>
                      <a:pt x="11520" y="2"/>
                    </a:lnTo>
                    <a:cubicBezTo>
                      <a:pt x="11521" y="2"/>
                      <a:pt x="11522" y="3"/>
                      <a:pt x="11522" y="4"/>
                    </a:cubicBezTo>
                    <a:cubicBezTo>
                      <a:pt x="11522" y="5"/>
                      <a:pt x="11521" y="6"/>
                      <a:pt x="11520" y="6"/>
                    </a:cubicBezTo>
                    <a:lnTo>
                      <a:pt x="11520" y="6"/>
                    </a:lnTo>
                    <a:cubicBezTo>
                      <a:pt x="11519" y="6"/>
                      <a:pt x="11518" y="5"/>
                      <a:pt x="11518" y="4"/>
                    </a:cubicBezTo>
                    <a:cubicBezTo>
                      <a:pt x="11518" y="3"/>
                      <a:pt x="11519" y="2"/>
                      <a:pt x="11520" y="2"/>
                    </a:cubicBezTo>
                    <a:close/>
                    <a:moveTo>
                      <a:pt x="11528" y="2"/>
                    </a:moveTo>
                    <a:lnTo>
                      <a:pt x="11528" y="2"/>
                    </a:lnTo>
                    <a:cubicBezTo>
                      <a:pt x="11529" y="2"/>
                      <a:pt x="11530" y="3"/>
                      <a:pt x="11530" y="4"/>
                    </a:cubicBezTo>
                    <a:cubicBezTo>
                      <a:pt x="11530" y="5"/>
                      <a:pt x="11529" y="6"/>
                      <a:pt x="11528" y="6"/>
                    </a:cubicBezTo>
                    <a:lnTo>
                      <a:pt x="11528" y="6"/>
                    </a:lnTo>
                    <a:cubicBezTo>
                      <a:pt x="11527" y="6"/>
                      <a:pt x="11526" y="5"/>
                      <a:pt x="11526" y="4"/>
                    </a:cubicBezTo>
                    <a:cubicBezTo>
                      <a:pt x="11526" y="3"/>
                      <a:pt x="11527" y="2"/>
                      <a:pt x="11528" y="2"/>
                    </a:cubicBezTo>
                    <a:close/>
                    <a:moveTo>
                      <a:pt x="11536" y="2"/>
                    </a:moveTo>
                    <a:lnTo>
                      <a:pt x="11536" y="2"/>
                    </a:lnTo>
                    <a:cubicBezTo>
                      <a:pt x="11537" y="2"/>
                      <a:pt x="11538" y="3"/>
                      <a:pt x="11538" y="4"/>
                    </a:cubicBezTo>
                    <a:cubicBezTo>
                      <a:pt x="11538" y="5"/>
                      <a:pt x="11537" y="6"/>
                      <a:pt x="11536" y="6"/>
                    </a:cubicBezTo>
                    <a:lnTo>
                      <a:pt x="11536" y="6"/>
                    </a:lnTo>
                    <a:cubicBezTo>
                      <a:pt x="11535" y="6"/>
                      <a:pt x="11534" y="5"/>
                      <a:pt x="11534" y="4"/>
                    </a:cubicBezTo>
                    <a:cubicBezTo>
                      <a:pt x="11534" y="3"/>
                      <a:pt x="11535" y="2"/>
                      <a:pt x="11536" y="2"/>
                    </a:cubicBezTo>
                    <a:close/>
                    <a:moveTo>
                      <a:pt x="11544" y="2"/>
                    </a:moveTo>
                    <a:lnTo>
                      <a:pt x="11544" y="2"/>
                    </a:lnTo>
                    <a:cubicBezTo>
                      <a:pt x="11545" y="2"/>
                      <a:pt x="11546" y="3"/>
                      <a:pt x="11546" y="4"/>
                    </a:cubicBezTo>
                    <a:cubicBezTo>
                      <a:pt x="11546" y="5"/>
                      <a:pt x="11545" y="6"/>
                      <a:pt x="11544" y="6"/>
                    </a:cubicBezTo>
                    <a:lnTo>
                      <a:pt x="11544" y="6"/>
                    </a:lnTo>
                    <a:cubicBezTo>
                      <a:pt x="11543" y="6"/>
                      <a:pt x="11542" y="5"/>
                      <a:pt x="11542" y="4"/>
                    </a:cubicBezTo>
                    <a:cubicBezTo>
                      <a:pt x="11542" y="3"/>
                      <a:pt x="11543" y="2"/>
                      <a:pt x="11544" y="2"/>
                    </a:cubicBezTo>
                    <a:close/>
                    <a:moveTo>
                      <a:pt x="11552" y="2"/>
                    </a:moveTo>
                    <a:lnTo>
                      <a:pt x="11552" y="2"/>
                    </a:lnTo>
                    <a:cubicBezTo>
                      <a:pt x="11553" y="2"/>
                      <a:pt x="11554" y="3"/>
                      <a:pt x="11554" y="4"/>
                    </a:cubicBezTo>
                    <a:cubicBezTo>
                      <a:pt x="11554" y="5"/>
                      <a:pt x="11553" y="6"/>
                      <a:pt x="11552" y="6"/>
                    </a:cubicBezTo>
                    <a:lnTo>
                      <a:pt x="11552" y="6"/>
                    </a:lnTo>
                    <a:cubicBezTo>
                      <a:pt x="11551" y="6"/>
                      <a:pt x="11550" y="5"/>
                      <a:pt x="11550" y="4"/>
                    </a:cubicBezTo>
                    <a:cubicBezTo>
                      <a:pt x="11550" y="3"/>
                      <a:pt x="11551" y="2"/>
                      <a:pt x="11552" y="2"/>
                    </a:cubicBezTo>
                    <a:close/>
                    <a:moveTo>
                      <a:pt x="11560" y="2"/>
                    </a:moveTo>
                    <a:lnTo>
                      <a:pt x="11560" y="2"/>
                    </a:lnTo>
                    <a:cubicBezTo>
                      <a:pt x="11561" y="2"/>
                      <a:pt x="11562" y="3"/>
                      <a:pt x="11562" y="4"/>
                    </a:cubicBezTo>
                    <a:cubicBezTo>
                      <a:pt x="11562" y="5"/>
                      <a:pt x="11561" y="6"/>
                      <a:pt x="11560" y="6"/>
                    </a:cubicBezTo>
                    <a:lnTo>
                      <a:pt x="11560" y="6"/>
                    </a:lnTo>
                    <a:cubicBezTo>
                      <a:pt x="11559" y="6"/>
                      <a:pt x="11558" y="5"/>
                      <a:pt x="11558" y="4"/>
                    </a:cubicBezTo>
                    <a:cubicBezTo>
                      <a:pt x="11558" y="3"/>
                      <a:pt x="11559" y="2"/>
                      <a:pt x="11560" y="2"/>
                    </a:cubicBezTo>
                    <a:close/>
                    <a:moveTo>
                      <a:pt x="11568" y="2"/>
                    </a:moveTo>
                    <a:lnTo>
                      <a:pt x="11568" y="2"/>
                    </a:lnTo>
                    <a:cubicBezTo>
                      <a:pt x="11569" y="2"/>
                      <a:pt x="11570" y="3"/>
                      <a:pt x="11570" y="4"/>
                    </a:cubicBezTo>
                    <a:cubicBezTo>
                      <a:pt x="11570" y="5"/>
                      <a:pt x="11569" y="6"/>
                      <a:pt x="11568" y="6"/>
                    </a:cubicBezTo>
                    <a:lnTo>
                      <a:pt x="11568" y="6"/>
                    </a:lnTo>
                    <a:cubicBezTo>
                      <a:pt x="11567" y="6"/>
                      <a:pt x="11566" y="5"/>
                      <a:pt x="11566" y="4"/>
                    </a:cubicBezTo>
                    <a:cubicBezTo>
                      <a:pt x="11566" y="3"/>
                      <a:pt x="11567" y="2"/>
                      <a:pt x="11568" y="2"/>
                    </a:cubicBezTo>
                    <a:close/>
                    <a:moveTo>
                      <a:pt x="11576" y="2"/>
                    </a:moveTo>
                    <a:lnTo>
                      <a:pt x="11576" y="2"/>
                    </a:lnTo>
                    <a:cubicBezTo>
                      <a:pt x="11577" y="2"/>
                      <a:pt x="11578" y="3"/>
                      <a:pt x="11578" y="4"/>
                    </a:cubicBezTo>
                    <a:cubicBezTo>
                      <a:pt x="11578" y="5"/>
                      <a:pt x="11577" y="6"/>
                      <a:pt x="11576" y="6"/>
                    </a:cubicBezTo>
                    <a:lnTo>
                      <a:pt x="11576" y="6"/>
                    </a:lnTo>
                    <a:cubicBezTo>
                      <a:pt x="11575" y="6"/>
                      <a:pt x="11574" y="5"/>
                      <a:pt x="11574" y="4"/>
                    </a:cubicBezTo>
                    <a:cubicBezTo>
                      <a:pt x="11574" y="3"/>
                      <a:pt x="11575" y="2"/>
                      <a:pt x="11576" y="2"/>
                    </a:cubicBezTo>
                    <a:close/>
                    <a:moveTo>
                      <a:pt x="11584" y="2"/>
                    </a:moveTo>
                    <a:lnTo>
                      <a:pt x="11584" y="2"/>
                    </a:lnTo>
                    <a:cubicBezTo>
                      <a:pt x="11585" y="2"/>
                      <a:pt x="11586" y="3"/>
                      <a:pt x="11586" y="4"/>
                    </a:cubicBezTo>
                    <a:cubicBezTo>
                      <a:pt x="11586" y="5"/>
                      <a:pt x="11585" y="6"/>
                      <a:pt x="11584" y="6"/>
                    </a:cubicBezTo>
                    <a:lnTo>
                      <a:pt x="11584" y="6"/>
                    </a:lnTo>
                    <a:cubicBezTo>
                      <a:pt x="11583" y="6"/>
                      <a:pt x="11582" y="5"/>
                      <a:pt x="11582" y="4"/>
                    </a:cubicBezTo>
                    <a:cubicBezTo>
                      <a:pt x="11582" y="3"/>
                      <a:pt x="11583" y="2"/>
                      <a:pt x="11584" y="2"/>
                    </a:cubicBezTo>
                    <a:close/>
                    <a:moveTo>
                      <a:pt x="11592" y="2"/>
                    </a:moveTo>
                    <a:lnTo>
                      <a:pt x="11592" y="2"/>
                    </a:lnTo>
                    <a:cubicBezTo>
                      <a:pt x="11593" y="2"/>
                      <a:pt x="11594" y="3"/>
                      <a:pt x="11594" y="4"/>
                    </a:cubicBezTo>
                    <a:cubicBezTo>
                      <a:pt x="11594" y="5"/>
                      <a:pt x="11593" y="6"/>
                      <a:pt x="11592" y="6"/>
                    </a:cubicBezTo>
                    <a:lnTo>
                      <a:pt x="11592" y="6"/>
                    </a:lnTo>
                    <a:cubicBezTo>
                      <a:pt x="11591" y="6"/>
                      <a:pt x="11590" y="5"/>
                      <a:pt x="11590" y="4"/>
                    </a:cubicBezTo>
                    <a:cubicBezTo>
                      <a:pt x="11590" y="3"/>
                      <a:pt x="11591" y="2"/>
                      <a:pt x="11592" y="2"/>
                    </a:cubicBezTo>
                    <a:close/>
                    <a:moveTo>
                      <a:pt x="11600" y="2"/>
                    </a:moveTo>
                    <a:lnTo>
                      <a:pt x="11600" y="2"/>
                    </a:lnTo>
                    <a:cubicBezTo>
                      <a:pt x="11601" y="2"/>
                      <a:pt x="11602" y="3"/>
                      <a:pt x="11602" y="4"/>
                    </a:cubicBezTo>
                    <a:cubicBezTo>
                      <a:pt x="11602" y="5"/>
                      <a:pt x="11601" y="6"/>
                      <a:pt x="11600" y="6"/>
                    </a:cubicBezTo>
                    <a:lnTo>
                      <a:pt x="11600" y="6"/>
                    </a:lnTo>
                    <a:cubicBezTo>
                      <a:pt x="11599" y="6"/>
                      <a:pt x="11598" y="5"/>
                      <a:pt x="11598" y="4"/>
                    </a:cubicBezTo>
                    <a:cubicBezTo>
                      <a:pt x="11598" y="3"/>
                      <a:pt x="11599" y="2"/>
                      <a:pt x="11600" y="2"/>
                    </a:cubicBezTo>
                    <a:close/>
                    <a:moveTo>
                      <a:pt x="11608" y="2"/>
                    </a:moveTo>
                    <a:lnTo>
                      <a:pt x="11608" y="2"/>
                    </a:lnTo>
                    <a:cubicBezTo>
                      <a:pt x="11609" y="2"/>
                      <a:pt x="11610" y="3"/>
                      <a:pt x="11610" y="4"/>
                    </a:cubicBezTo>
                    <a:cubicBezTo>
                      <a:pt x="11610" y="5"/>
                      <a:pt x="11609" y="6"/>
                      <a:pt x="11608" y="6"/>
                    </a:cubicBezTo>
                    <a:lnTo>
                      <a:pt x="11608" y="6"/>
                    </a:lnTo>
                    <a:cubicBezTo>
                      <a:pt x="11607" y="6"/>
                      <a:pt x="11606" y="5"/>
                      <a:pt x="11606" y="4"/>
                    </a:cubicBezTo>
                    <a:cubicBezTo>
                      <a:pt x="11606" y="3"/>
                      <a:pt x="11607" y="2"/>
                      <a:pt x="11608" y="2"/>
                    </a:cubicBezTo>
                    <a:close/>
                    <a:moveTo>
                      <a:pt x="11616" y="2"/>
                    </a:moveTo>
                    <a:lnTo>
                      <a:pt x="11616" y="2"/>
                    </a:lnTo>
                    <a:cubicBezTo>
                      <a:pt x="11617" y="2"/>
                      <a:pt x="11618" y="3"/>
                      <a:pt x="11618" y="4"/>
                    </a:cubicBezTo>
                    <a:cubicBezTo>
                      <a:pt x="11618" y="5"/>
                      <a:pt x="11617" y="6"/>
                      <a:pt x="11616" y="6"/>
                    </a:cubicBezTo>
                    <a:lnTo>
                      <a:pt x="11616" y="6"/>
                    </a:lnTo>
                    <a:cubicBezTo>
                      <a:pt x="11615" y="6"/>
                      <a:pt x="11614" y="5"/>
                      <a:pt x="11614" y="4"/>
                    </a:cubicBezTo>
                    <a:cubicBezTo>
                      <a:pt x="11614" y="3"/>
                      <a:pt x="11615" y="2"/>
                      <a:pt x="11616" y="2"/>
                    </a:cubicBezTo>
                    <a:close/>
                    <a:moveTo>
                      <a:pt x="11624" y="2"/>
                    </a:moveTo>
                    <a:lnTo>
                      <a:pt x="11624" y="2"/>
                    </a:lnTo>
                    <a:cubicBezTo>
                      <a:pt x="11625" y="2"/>
                      <a:pt x="11626" y="3"/>
                      <a:pt x="11626" y="4"/>
                    </a:cubicBezTo>
                    <a:cubicBezTo>
                      <a:pt x="11626" y="5"/>
                      <a:pt x="11625" y="6"/>
                      <a:pt x="11624" y="6"/>
                    </a:cubicBezTo>
                    <a:lnTo>
                      <a:pt x="11624" y="6"/>
                    </a:lnTo>
                    <a:cubicBezTo>
                      <a:pt x="11623" y="6"/>
                      <a:pt x="11622" y="5"/>
                      <a:pt x="11622" y="4"/>
                    </a:cubicBezTo>
                    <a:cubicBezTo>
                      <a:pt x="11622" y="3"/>
                      <a:pt x="11623" y="2"/>
                      <a:pt x="11624" y="2"/>
                    </a:cubicBezTo>
                    <a:close/>
                    <a:moveTo>
                      <a:pt x="11632" y="2"/>
                    </a:moveTo>
                    <a:lnTo>
                      <a:pt x="11632" y="2"/>
                    </a:lnTo>
                    <a:cubicBezTo>
                      <a:pt x="11633" y="2"/>
                      <a:pt x="11634" y="3"/>
                      <a:pt x="11634" y="4"/>
                    </a:cubicBezTo>
                    <a:cubicBezTo>
                      <a:pt x="11634" y="5"/>
                      <a:pt x="11633" y="6"/>
                      <a:pt x="11632" y="6"/>
                    </a:cubicBezTo>
                    <a:lnTo>
                      <a:pt x="11632" y="6"/>
                    </a:lnTo>
                    <a:cubicBezTo>
                      <a:pt x="11631" y="6"/>
                      <a:pt x="11630" y="5"/>
                      <a:pt x="11630" y="4"/>
                    </a:cubicBezTo>
                    <a:cubicBezTo>
                      <a:pt x="11630" y="3"/>
                      <a:pt x="11631" y="2"/>
                      <a:pt x="11632" y="2"/>
                    </a:cubicBezTo>
                    <a:close/>
                    <a:moveTo>
                      <a:pt x="11640" y="2"/>
                    </a:moveTo>
                    <a:lnTo>
                      <a:pt x="11640" y="2"/>
                    </a:lnTo>
                    <a:cubicBezTo>
                      <a:pt x="11641" y="2"/>
                      <a:pt x="11642" y="3"/>
                      <a:pt x="11642" y="4"/>
                    </a:cubicBezTo>
                    <a:cubicBezTo>
                      <a:pt x="11642" y="5"/>
                      <a:pt x="11641" y="6"/>
                      <a:pt x="11640" y="6"/>
                    </a:cubicBezTo>
                    <a:lnTo>
                      <a:pt x="11640" y="6"/>
                    </a:lnTo>
                    <a:cubicBezTo>
                      <a:pt x="11639" y="6"/>
                      <a:pt x="11638" y="5"/>
                      <a:pt x="11638" y="4"/>
                    </a:cubicBezTo>
                    <a:cubicBezTo>
                      <a:pt x="11638" y="3"/>
                      <a:pt x="11639" y="2"/>
                      <a:pt x="11640" y="2"/>
                    </a:cubicBezTo>
                    <a:close/>
                    <a:moveTo>
                      <a:pt x="11648" y="2"/>
                    </a:moveTo>
                    <a:lnTo>
                      <a:pt x="11648" y="2"/>
                    </a:lnTo>
                    <a:cubicBezTo>
                      <a:pt x="11649" y="2"/>
                      <a:pt x="11650" y="3"/>
                      <a:pt x="11650" y="4"/>
                    </a:cubicBezTo>
                    <a:cubicBezTo>
                      <a:pt x="11650" y="5"/>
                      <a:pt x="11649" y="6"/>
                      <a:pt x="11648" y="6"/>
                    </a:cubicBezTo>
                    <a:lnTo>
                      <a:pt x="11648" y="6"/>
                    </a:lnTo>
                    <a:cubicBezTo>
                      <a:pt x="11647" y="6"/>
                      <a:pt x="11646" y="5"/>
                      <a:pt x="11646" y="4"/>
                    </a:cubicBezTo>
                    <a:cubicBezTo>
                      <a:pt x="11646" y="3"/>
                      <a:pt x="11647" y="2"/>
                      <a:pt x="11648" y="2"/>
                    </a:cubicBezTo>
                    <a:close/>
                    <a:moveTo>
                      <a:pt x="11656" y="2"/>
                    </a:moveTo>
                    <a:lnTo>
                      <a:pt x="11656" y="2"/>
                    </a:lnTo>
                    <a:cubicBezTo>
                      <a:pt x="11657" y="2"/>
                      <a:pt x="11658" y="3"/>
                      <a:pt x="11658" y="4"/>
                    </a:cubicBezTo>
                    <a:cubicBezTo>
                      <a:pt x="11658" y="5"/>
                      <a:pt x="11657" y="6"/>
                      <a:pt x="11656" y="6"/>
                    </a:cubicBezTo>
                    <a:lnTo>
                      <a:pt x="11656" y="6"/>
                    </a:lnTo>
                    <a:cubicBezTo>
                      <a:pt x="11655" y="6"/>
                      <a:pt x="11654" y="5"/>
                      <a:pt x="11654" y="4"/>
                    </a:cubicBezTo>
                    <a:cubicBezTo>
                      <a:pt x="11654" y="3"/>
                      <a:pt x="11655" y="2"/>
                      <a:pt x="11656" y="2"/>
                    </a:cubicBezTo>
                    <a:close/>
                    <a:moveTo>
                      <a:pt x="11664" y="2"/>
                    </a:moveTo>
                    <a:lnTo>
                      <a:pt x="11664" y="2"/>
                    </a:lnTo>
                    <a:cubicBezTo>
                      <a:pt x="11665" y="2"/>
                      <a:pt x="11666" y="3"/>
                      <a:pt x="11666" y="4"/>
                    </a:cubicBezTo>
                    <a:cubicBezTo>
                      <a:pt x="11666" y="5"/>
                      <a:pt x="11665" y="6"/>
                      <a:pt x="11664" y="6"/>
                    </a:cubicBezTo>
                    <a:lnTo>
                      <a:pt x="11664" y="6"/>
                    </a:lnTo>
                    <a:cubicBezTo>
                      <a:pt x="11663" y="6"/>
                      <a:pt x="11662" y="5"/>
                      <a:pt x="11662" y="4"/>
                    </a:cubicBezTo>
                    <a:cubicBezTo>
                      <a:pt x="11662" y="3"/>
                      <a:pt x="11663" y="2"/>
                      <a:pt x="11664" y="2"/>
                    </a:cubicBezTo>
                    <a:close/>
                    <a:moveTo>
                      <a:pt x="11672" y="2"/>
                    </a:moveTo>
                    <a:lnTo>
                      <a:pt x="11672" y="2"/>
                    </a:lnTo>
                    <a:cubicBezTo>
                      <a:pt x="11673" y="2"/>
                      <a:pt x="11674" y="3"/>
                      <a:pt x="11674" y="4"/>
                    </a:cubicBezTo>
                    <a:cubicBezTo>
                      <a:pt x="11674" y="5"/>
                      <a:pt x="11673" y="6"/>
                      <a:pt x="11672" y="6"/>
                    </a:cubicBezTo>
                    <a:lnTo>
                      <a:pt x="11672" y="6"/>
                    </a:lnTo>
                    <a:cubicBezTo>
                      <a:pt x="11671" y="6"/>
                      <a:pt x="11670" y="5"/>
                      <a:pt x="11670" y="4"/>
                    </a:cubicBezTo>
                    <a:cubicBezTo>
                      <a:pt x="11670" y="3"/>
                      <a:pt x="11671" y="2"/>
                      <a:pt x="11672" y="2"/>
                    </a:cubicBezTo>
                    <a:close/>
                    <a:moveTo>
                      <a:pt x="11680" y="2"/>
                    </a:moveTo>
                    <a:lnTo>
                      <a:pt x="11680" y="2"/>
                    </a:lnTo>
                    <a:cubicBezTo>
                      <a:pt x="11681" y="2"/>
                      <a:pt x="11682" y="3"/>
                      <a:pt x="11682" y="4"/>
                    </a:cubicBezTo>
                    <a:cubicBezTo>
                      <a:pt x="11682" y="5"/>
                      <a:pt x="11681" y="6"/>
                      <a:pt x="11680" y="6"/>
                    </a:cubicBezTo>
                    <a:lnTo>
                      <a:pt x="11680" y="6"/>
                    </a:lnTo>
                    <a:cubicBezTo>
                      <a:pt x="11679" y="6"/>
                      <a:pt x="11678" y="5"/>
                      <a:pt x="11678" y="4"/>
                    </a:cubicBezTo>
                    <a:cubicBezTo>
                      <a:pt x="11678" y="3"/>
                      <a:pt x="11679" y="2"/>
                      <a:pt x="11680" y="2"/>
                    </a:cubicBezTo>
                    <a:close/>
                    <a:moveTo>
                      <a:pt x="11688" y="2"/>
                    </a:moveTo>
                    <a:lnTo>
                      <a:pt x="11688" y="2"/>
                    </a:lnTo>
                    <a:cubicBezTo>
                      <a:pt x="11689" y="2"/>
                      <a:pt x="11690" y="3"/>
                      <a:pt x="11690" y="4"/>
                    </a:cubicBezTo>
                    <a:cubicBezTo>
                      <a:pt x="11690" y="5"/>
                      <a:pt x="11689" y="6"/>
                      <a:pt x="11688" y="6"/>
                    </a:cubicBezTo>
                    <a:lnTo>
                      <a:pt x="11688" y="6"/>
                    </a:lnTo>
                    <a:cubicBezTo>
                      <a:pt x="11687" y="6"/>
                      <a:pt x="11686" y="5"/>
                      <a:pt x="11686" y="4"/>
                    </a:cubicBezTo>
                    <a:cubicBezTo>
                      <a:pt x="11686" y="3"/>
                      <a:pt x="11687" y="2"/>
                      <a:pt x="11688" y="2"/>
                    </a:cubicBezTo>
                    <a:close/>
                    <a:moveTo>
                      <a:pt x="11696" y="2"/>
                    </a:moveTo>
                    <a:lnTo>
                      <a:pt x="11696" y="2"/>
                    </a:lnTo>
                    <a:cubicBezTo>
                      <a:pt x="11697" y="2"/>
                      <a:pt x="11698" y="3"/>
                      <a:pt x="11698" y="4"/>
                    </a:cubicBezTo>
                    <a:cubicBezTo>
                      <a:pt x="11698" y="5"/>
                      <a:pt x="11697" y="6"/>
                      <a:pt x="11696" y="6"/>
                    </a:cubicBezTo>
                    <a:lnTo>
                      <a:pt x="11696" y="6"/>
                    </a:lnTo>
                    <a:cubicBezTo>
                      <a:pt x="11695" y="6"/>
                      <a:pt x="11694" y="5"/>
                      <a:pt x="11694" y="4"/>
                    </a:cubicBezTo>
                    <a:cubicBezTo>
                      <a:pt x="11694" y="3"/>
                      <a:pt x="11695" y="2"/>
                      <a:pt x="11696" y="2"/>
                    </a:cubicBezTo>
                    <a:close/>
                    <a:moveTo>
                      <a:pt x="11704" y="2"/>
                    </a:moveTo>
                    <a:lnTo>
                      <a:pt x="11704" y="2"/>
                    </a:lnTo>
                    <a:cubicBezTo>
                      <a:pt x="11705" y="2"/>
                      <a:pt x="11706" y="3"/>
                      <a:pt x="11706" y="4"/>
                    </a:cubicBezTo>
                    <a:cubicBezTo>
                      <a:pt x="11706" y="5"/>
                      <a:pt x="11705" y="6"/>
                      <a:pt x="11704" y="6"/>
                    </a:cubicBezTo>
                    <a:lnTo>
                      <a:pt x="11704" y="6"/>
                    </a:lnTo>
                    <a:cubicBezTo>
                      <a:pt x="11703" y="6"/>
                      <a:pt x="11702" y="5"/>
                      <a:pt x="11702" y="4"/>
                    </a:cubicBezTo>
                    <a:cubicBezTo>
                      <a:pt x="11702" y="3"/>
                      <a:pt x="11703" y="2"/>
                      <a:pt x="11704" y="2"/>
                    </a:cubicBezTo>
                    <a:close/>
                    <a:moveTo>
                      <a:pt x="11712" y="2"/>
                    </a:moveTo>
                    <a:lnTo>
                      <a:pt x="11712" y="2"/>
                    </a:lnTo>
                    <a:cubicBezTo>
                      <a:pt x="11713" y="2"/>
                      <a:pt x="11714" y="3"/>
                      <a:pt x="11714" y="4"/>
                    </a:cubicBezTo>
                    <a:cubicBezTo>
                      <a:pt x="11714" y="5"/>
                      <a:pt x="11713" y="6"/>
                      <a:pt x="11712" y="6"/>
                    </a:cubicBezTo>
                    <a:lnTo>
                      <a:pt x="11712" y="6"/>
                    </a:lnTo>
                    <a:cubicBezTo>
                      <a:pt x="11711" y="6"/>
                      <a:pt x="11710" y="5"/>
                      <a:pt x="11710" y="4"/>
                    </a:cubicBezTo>
                    <a:cubicBezTo>
                      <a:pt x="11710" y="3"/>
                      <a:pt x="11711" y="2"/>
                      <a:pt x="11712" y="2"/>
                    </a:cubicBezTo>
                    <a:close/>
                    <a:moveTo>
                      <a:pt x="11720" y="2"/>
                    </a:moveTo>
                    <a:lnTo>
                      <a:pt x="11720" y="2"/>
                    </a:lnTo>
                    <a:cubicBezTo>
                      <a:pt x="11721" y="2"/>
                      <a:pt x="11722" y="3"/>
                      <a:pt x="11722" y="4"/>
                    </a:cubicBezTo>
                    <a:cubicBezTo>
                      <a:pt x="11722" y="5"/>
                      <a:pt x="11721" y="6"/>
                      <a:pt x="11720" y="6"/>
                    </a:cubicBezTo>
                    <a:lnTo>
                      <a:pt x="11720" y="6"/>
                    </a:lnTo>
                    <a:cubicBezTo>
                      <a:pt x="11719" y="6"/>
                      <a:pt x="11718" y="5"/>
                      <a:pt x="11718" y="4"/>
                    </a:cubicBezTo>
                    <a:cubicBezTo>
                      <a:pt x="11718" y="3"/>
                      <a:pt x="11719" y="2"/>
                      <a:pt x="11720" y="2"/>
                    </a:cubicBezTo>
                    <a:close/>
                    <a:moveTo>
                      <a:pt x="11728" y="2"/>
                    </a:moveTo>
                    <a:lnTo>
                      <a:pt x="11728" y="2"/>
                    </a:lnTo>
                    <a:cubicBezTo>
                      <a:pt x="11729" y="2"/>
                      <a:pt x="11730" y="3"/>
                      <a:pt x="11730" y="4"/>
                    </a:cubicBezTo>
                    <a:cubicBezTo>
                      <a:pt x="11730" y="5"/>
                      <a:pt x="11729" y="6"/>
                      <a:pt x="11728" y="6"/>
                    </a:cubicBezTo>
                    <a:lnTo>
                      <a:pt x="11728" y="6"/>
                    </a:lnTo>
                    <a:cubicBezTo>
                      <a:pt x="11727" y="6"/>
                      <a:pt x="11726" y="5"/>
                      <a:pt x="11726" y="4"/>
                    </a:cubicBezTo>
                    <a:cubicBezTo>
                      <a:pt x="11726" y="3"/>
                      <a:pt x="11727" y="2"/>
                      <a:pt x="11728" y="2"/>
                    </a:cubicBezTo>
                    <a:close/>
                    <a:moveTo>
                      <a:pt x="11736" y="2"/>
                    </a:moveTo>
                    <a:lnTo>
                      <a:pt x="11736" y="2"/>
                    </a:lnTo>
                    <a:cubicBezTo>
                      <a:pt x="11737" y="2"/>
                      <a:pt x="11738" y="3"/>
                      <a:pt x="11738" y="4"/>
                    </a:cubicBezTo>
                    <a:cubicBezTo>
                      <a:pt x="11738" y="5"/>
                      <a:pt x="11737" y="6"/>
                      <a:pt x="11736" y="6"/>
                    </a:cubicBezTo>
                    <a:lnTo>
                      <a:pt x="11736" y="6"/>
                    </a:lnTo>
                    <a:cubicBezTo>
                      <a:pt x="11735" y="6"/>
                      <a:pt x="11734" y="5"/>
                      <a:pt x="11734" y="4"/>
                    </a:cubicBezTo>
                    <a:cubicBezTo>
                      <a:pt x="11734" y="3"/>
                      <a:pt x="11735" y="2"/>
                      <a:pt x="11736" y="2"/>
                    </a:cubicBezTo>
                    <a:close/>
                    <a:moveTo>
                      <a:pt x="11744" y="2"/>
                    </a:moveTo>
                    <a:lnTo>
                      <a:pt x="11744" y="2"/>
                    </a:lnTo>
                    <a:cubicBezTo>
                      <a:pt x="11745" y="2"/>
                      <a:pt x="11746" y="3"/>
                      <a:pt x="11746" y="4"/>
                    </a:cubicBezTo>
                    <a:cubicBezTo>
                      <a:pt x="11746" y="5"/>
                      <a:pt x="11745" y="6"/>
                      <a:pt x="11744" y="6"/>
                    </a:cubicBezTo>
                    <a:lnTo>
                      <a:pt x="11744" y="6"/>
                    </a:lnTo>
                    <a:cubicBezTo>
                      <a:pt x="11743" y="6"/>
                      <a:pt x="11742" y="5"/>
                      <a:pt x="11742" y="4"/>
                    </a:cubicBezTo>
                    <a:cubicBezTo>
                      <a:pt x="11742" y="3"/>
                      <a:pt x="11743" y="2"/>
                      <a:pt x="11744" y="2"/>
                    </a:cubicBezTo>
                    <a:close/>
                    <a:moveTo>
                      <a:pt x="11752" y="2"/>
                    </a:moveTo>
                    <a:lnTo>
                      <a:pt x="11752" y="2"/>
                    </a:lnTo>
                    <a:cubicBezTo>
                      <a:pt x="11753" y="2"/>
                      <a:pt x="11754" y="3"/>
                      <a:pt x="11754" y="4"/>
                    </a:cubicBezTo>
                    <a:cubicBezTo>
                      <a:pt x="11754" y="5"/>
                      <a:pt x="11753" y="6"/>
                      <a:pt x="11752" y="6"/>
                    </a:cubicBezTo>
                    <a:lnTo>
                      <a:pt x="11752" y="6"/>
                    </a:lnTo>
                    <a:cubicBezTo>
                      <a:pt x="11751" y="6"/>
                      <a:pt x="11750" y="5"/>
                      <a:pt x="11750" y="4"/>
                    </a:cubicBezTo>
                    <a:cubicBezTo>
                      <a:pt x="11750" y="3"/>
                      <a:pt x="11751" y="2"/>
                      <a:pt x="11752" y="2"/>
                    </a:cubicBezTo>
                    <a:close/>
                    <a:moveTo>
                      <a:pt x="11760" y="2"/>
                    </a:moveTo>
                    <a:lnTo>
                      <a:pt x="11760" y="2"/>
                    </a:lnTo>
                    <a:cubicBezTo>
                      <a:pt x="11761" y="2"/>
                      <a:pt x="11762" y="3"/>
                      <a:pt x="11762" y="4"/>
                    </a:cubicBezTo>
                    <a:cubicBezTo>
                      <a:pt x="11762" y="5"/>
                      <a:pt x="11761" y="6"/>
                      <a:pt x="11760" y="6"/>
                    </a:cubicBezTo>
                    <a:lnTo>
                      <a:pt x="11760" y="6"/>
                    </a:lnTo>
                    <a:cubicBezTo>
                      <a:pt x="11759" y="6"/>
                      <a:pt x="11758" y="5"/>
                      <a:pt x="11758" y="4"/>
                    </a:cubicBezTo>
                    <a:cubicBezTo>
                      <a:pt x="11758" y="3"/>
                      <a:pt x="11759" y="2"/>
                      <a:pt x="11760" y="2"/>
                    </a:cubicBezTo>
                    <a:close/>
                    <a:moveTo>
                      <a:pt x="11768" y="2"/>
                    </a:moveTo>
                    <a:lnTo>
                      <a:pt x="11768" y="2"/>
                    </a:lnTo>
                    <a:cubicBezTo>
                      <a:pt x="11769" y="2"/>
                      <a:pt x="11770" y="3"/>
                      <a:pt x="11770" y="4"/>
                    </a:cubicBezTo>
                    <a:cubicBezTo>
                      <a:pt x="11770" y="5"/>
                      <a:pt x="11769" y="6"/>
                      <a:pt x="11768" y="6"/>
                    </a:cubicBezTo>
                    <a:lnTo>
                      <a:pt x="11768" y="6"/>
                    </a:lnTo>
                    <a:cubicBezTo>
                      <a:pt x="11767" y="6"/>
                      <a:pt x="11766" y="5"/>
                      <a:pt x="11766" y="4"/>
                    </a:cubicBezTo>
                    <a:cubicBezTo>
                      <a:pt x="11766" y="3"/>
                      <a:pt x="11767" y="2"/>
                      <a:pt x="11768" y="2"/>
                    </a:cubicBezTo>
                    <a:close/>
                    <a:moveTo>
                      <a:pt x="11776" y="2"/>
                    </a:moveTo>
                    <a:lnTo>
                      <a:pt x="11776" y="2"/>
                    </a:lnTo>
                    <a:cubicBezTo>
                      <a:pt x="11777" y="2"/>
                      <a:pt x="11778" y="3"/>
                      <a:pt x="11778" y="4"/>
                    </a:cubicBezTo>
                    <a:cubicBezTo>
                      <a:pt x="11778" y="5"/>
                      <a:pt x="11777" y="6"/>
                      <a:pt x="11776" y="6"/>
                    </a:cubicBezTo>
                    <a:lnTo>
                      <a:pt x="11776" y="6"/>
                    </a:lnTo>
                    <a:cubicBezTo>
                      <a:pt x="11775" y="6"/>
                      <a:pt x="11774" y="5"/>
                      <a:pt x="11774" y="4"/>
                    </a:cubicBezTo>
                    <a:cubicBezTo>
                      <a:pt x="11774" y="3"/>
                      <a:pt x="11775" y="2"/>
                      <a:pt x="11776" y="2"/>
                    </a:cubicBezTo>
                    <a:close/>
                    <a:moveTo>
                      <a:pt x="11784" y="2"/>
                    </a:moveTo>
                    <a:lnTo>
                      <a:pt x="11784" y="2"/>
                    </a:lnTo>
                    <a:cubicBezTo>
                      <a:pt x="11785" y="2"/>
                      <a:pt x="11786" y="3"/>
                      <a:pt x="11786" y="4"/>
                    </a:cubicBezTo>
                    <a:cubicBezTo>
                      <a:pt x="11786" y="5"/>
                      <a:pt x="11785" y="6"/>
                      <a:pt x="11784" y="6"/>
                    </a:cubicBezTo>
                    <a:lnTo>
                      <a:pt x="11784" y="6"/>
                    </a:lnTo>
                    <a:cubicBezTo>
                      <a:pt x="11783" y="6"/>
                      <a:pt x="11782" y="5"/>
                      <a:pt x="11782" y="4"/>
                    </a:cubicBezTo>
                    <a:cubicBezTo>
                      <a:pt x="11782" y="3"/>
                      <a:pt x="11783" y="2"/>
                      <a:pt x="11784" y="2"/>
                    </a:cubicBezTo>
                    <a:close/>
                    <a:moveTo>
                      <a:pt x="11792" y="2"/>
                    </a:moveTo>
                    <a:lnTo>
                      <a:pt x="11792" y="2"/>
                    </a:lnTo>
                    <a:cubicBezTo>
                      <a:pt x="11793" y="2"/>
                      <a:pt x="11794" y="3"/>
                      <a:pt x="11794" y="4"/>
                    </a:cubicBezTo>
                    <a:cubicBezTo>
                      <a:pt x="11794" y="5"/>
                      <a:pt x="11793" y="6"/>
                      <a:pt x="11792" y="6"/>
                    </a:cubicBezTo>
                    <a:lnTo>
                      <a:pt x="11792" y="6"/>
                    </a:lnTo>
                    <a:cubicBezTo>
                      <a:pt x="11791" y="6"/>
                      <a:pt x="11790" y="5"/>
                      <a:pt x="11790" y="4"/>
                    </a:cubicBezTo>
                    <a:cubicBezTo>
                      <a:pt x="11790" y="3"/>
                      <a:pt x="11791" y="2"/>
                      <a:pt x="11792" y="2"/>
                    </a:cubicBezTo>
                    <a:close/>
                    <a:moveTo>
                      <a:pt x="11800" y="2"/>
                    </a:moveTo>
                    <a:lnTo>
                      <a:pt x="11800" y="2"/>
                    </a:lnTo>
                    <a:cubicBezTo>
                      <a:pt x="11801" y="2"/>
                      <a:pt x="11802" y="3"/>
                      <a:pt x="11802" y="4"/>
                    </a:cubicBezTo>
                    <a:cubicBezTo>
                      <a:pt x="11802" y="5"/>
                      <a:pt x="11801" y="6"/>
                      <a:pt x="11800" y="6"/>
                    </a:cubicBezTo>
                    <a:lnTo>
                      <a:pt x="11800" y="6"/>
                    </a:lnTo>
                    <a:cubicBezTo>
                      <a:pt x="11799" y="6"/>
                      <a:pt x="11798" y="5"/>
                      <a:pt x="11798" y="4"/>
                    </a:cubicBezTo>
                    <a:cubicBezTo>
                      <a:pt x="11798" y="3"/>
                      <a:pt x="11799" y="2"/>
                      <a:pt x="11800" y="2"/>
                    </a:cubicBezTo>
                    <a:close/>
                    <a:moveTo>
                      <a:pt x="11808" y="2"/>
                    </a:moveTo>
                    <a:lnTo>
                      <a:pt x="11808" y="2"/>
                    </a:lnTo>
                    <a:cubicBezTo>
                      <a:pt x="11809" y="2"/>
                      <a:pt x="11810" y="3"/>
                      <a:pt x="11810" y="4"/>
                    </a:cubicBezTo>
                    <a:cubicBezTo>
                      <a:pt x="11810" y="5"/>
                      <a:pt x="11809" y="6"/>
                      <a:pt x="11808" y="6"/>
                    </a:cubicBezTo>
                    <a:lnTo>
                      <a:pt x="11808" y="6"/>
                    </a:lnTo>
                    <a:cubicBezTo>
                      <a:pt x="11807" y="6"/>
                      <a:pt x="11806" y="5"/>
                      <a:pt x="11806" y="4"/>
                    </a:cubicBezTo>
                    <a:cubicBezTo>
                      <a:pt x="11806" y="3"/>
                      <a:pt x="11807" y="2"/>
                      <a:pt x="11808" y="2"/>
                    </a:cubicBezTo>
                    <a:close/>
                    <a:moveTo>
                      <a:pt x="11816" y="2"/>
                    </a:moveTo>
                    <a:lnTo>
                      <a:pt x="11816" y="2"/>
                    </a:lnTo>
                    <a:cubicBezTo>
                      <a:pt x="11817" y="2"/>
                      <a:pt x="11818" y="3"/>
                      <a:pt x="11818" y="4"/>
                    </a:cubicBezTo>
                    <a:cubicBezTo>
                      <a:pt x="11818" y="5"/>
                      <a:pt x="11817" y="6"/>
                      <a:pt x="11816" y="6"/>
                    </a:cubicBezTo>
                    <a:lnTo>
                      <a:pt x="11816" y="6"/>
                    </a:lnTo>
                    <a:cubicBezTo>
                      <a:pt x="11815" y="6"/>
                      <a:pt x="11814" y="5"/>
                      <a:pt x="11814" y="4"/>
                    </a:cubicBezTo>
                    <a:cubicBezTo>
                      <a:pt x="11814" y="3"/>
                      <a:pt x="11815" y="2"/>
                      <a:pt x="11816" y="2"/>
                    </a:cubicBezTo>
                    <a:close/>
                    <a:moveTo>
                      <a:pt x="11824" y="2"/>
                    </a:moveTo>
                    <a:lnTo>
                      <a:pt x="11824" y="2"/>
                    </a:lnTo>
                    <a:cubicBezTo>
                      <a:pt x="11825" y="2"/>
                      <a:pt x="11826" y="3"/>
                      <a:pt x="11826" y="4"/>
                    </a:cubicBezTo>
                    <a:cubicBezTo>
                      <a:pt x="11826" y="5"/>
                      <a:pt x="11825" y="6"/>
                      <a:pt x="11824" y="6"/>
                    </a:cubicBezTo>
                    <a:lnTo>
                      <a:pt x="11824" y="6"/>
                    </a:lnTo>
                    <a:cubicBezTo>
                      <a:pt x="11823" y="6"/>
                      <a:pt x="11822" y="5"/>
                      <a:pt x="11822" y="4"/>
                    </a:cubicBezTo>
                    <a:cubicBezTo>
                      <a:pt x="11822" y="3"/>
                      <a:pt x="11823" y="2"/>
                      <a:pt x="11824" y="2"/>
                    </a:cubicBezTo>
                    <a:close/>
                    <a:moveTo>
                      <a:pt x="11832" y="2"/>
                    </a:moveTo>
                    <a:lnTo>
                      <a:pt x="11832" y="2"/>
                    </a:lnTo>
                    <a:cubicBezTo>
                      <a:pt x="11833" y="2"/>
                      <a:pt x="11834" y="3"/>
                      <a:pt x="11834" y="4"/>
                    </a:cubicBezTo>
                    <a:cubicBezTo>
                      <a:pt x="11834" y="5"/>
                      <a:pt x="11833" y="6"/>
                      <a:pt x="11832" y="6"/>
                    </a:cubicBezTo>
                    <a:lnTo>
                      <a:pt x="11832" y="6"/>
                    </a:lnTo>
                    <a:cubicBezTo>
                      <a:pt x="11831" y="6"/>
                      <a:pt x="11830" y="5"/>
                      <a:pt x="11830" y="4"/>
                    </a:cubicBezTo>
                    <a:cubicBezTo>
                      <a:pt x="11830" y="3"/>
                      <a:pt x="11831" y="2"/>
                      <a:pt x="11832" y="2"/>
                    </a:cubicBezTo>
                    <a:close/>
                    <a:moveTo>
                      <a:pt x="11840" y="2"/>
                    </a:moveTo>
                    <a:lnTo>
                      <a:pt x="11840" y="2"/>
                    </a:lnTo>
                    <a:cubicBezTo>
                      <a:pt x="11841" y="2"/>
                      <a:pt x="11842" y="3"/>
                      <a:pt x="11842" y="4"/>
                    </a:cubicBezTo>
                    <a:cubicBezTo>
                      <a:pt x="11842" y="5"/>
                      <a:pt x="11841" y="6"/>
                      <a:pt x="11840" y="6"/>
                    </a:cubicBezTo>
                    <a:lnTo>
                      <a:pt x="11840" y="6"/>
                    </a:lnTo>
                    <a:cubicBezTo>
                      <a:pt x="11839" y="6"/>
                      <a:pt x="11838" y="5"/>
                      <a:pt x="11838" y="4"/>
                    </a:cubicBezTo>
                    <a:cubicBezTo>
                      <a:pt x="11838" y="3"/>
                      <a:pt x="11839" y="2"/>
                      <a:pt x="11840" y="2"/>
                    </a:cubicBezTo>
                    <a:close/>
                    <a:moveTo>
                      <a:pt x="11848" y="2"/>
                    </a:moveTo>
                    <a:lnTo>
                      <a:pt x="11848" y="2"/>
                    </a:lnTo>
                    <a:cubicBezTo>
                      <a:pt x="11849" y="2"/>
                      <a:pt x="11850" y="3"/>
                      <a:pt x="11850" y="4"/>
                    </a:cubicBezTo>
                    <a:cubicBezTo>
                      <a:pt x="11850" y="5"/>
                      <a:pt x="11849" y="6"/>
                      <a:pt x="11848" y="6"/>
                    </a:cubicBezTo>
                    <a:lnTo>
                      <a:pt x="11848" y="6"/>
                    </a:lnTo>
                    <a:cubicBezTo>
                      <a:pt x="11847" y="6"/>
                      <a:pt x="11846" y="5"/>
                      <a:pt x="11846" y="4"/>
                    </a:cubicBezTo>
                    <a:cubicBezTo>
                      <a:pt x="11846" y="3"/>
                      <a:pt x="11847" y="2"/>
                      <a:pt x="11848" y="2"/>
                    </a:cubicBezTo>
                    <a:close/>
                    <a:moveTo>
                      <a:pt x="11856" y="2"/>
                    </a:moveTo>
                    <a:lnTo>
                      <a:pt x="11856" y="2"/>
                    </a:lnTo>
                    <a:cubicBezTo>
                      <a:pt x="11857" y="2"/>
                      <a:pt x="11858" y="3"/>
                      <a:pt x="11858" y="4"/>
                    </a:cubicBezTo>
                    <a:cubicBezTo>
                      <a:pt x="11858" y="5"/>
                      <a:pt x="11857" y="6"/>
                      <a:pt x="11856" y="6"/>
                    </a:cubicBezTo>
                    <a:lnTo>
                      <a:pt x="11856" y="6"/>
                    </a:lnTo>
                    <a:cubicBezTo>
                      <a:pt x="11855" y="6"/>
                      <a:pt x="11854" y="5"/>
                      <a:pt x="11854" y="4"/>
                    </a:cubicBezTo>
                    <a:cubicBezTo>
                      <a:pt x="11854" y="3"/>
                      <a:pt x="11855" y="2"/>
                      <a:pt x="11856" y="2"/>
                    </a:cubicBezTo>
                    <a:close/>
                    <a:moveTo>
                      <a:pt x="11864" y="2"/>
                    </a:moveTo>
                    <a:lnTo>
                      <a:pt x="11864" y="2"/>
                    </a:lnTo>
                    <a:cubicBezTo>
                      <a:pt x="11865" y="2"/>
                      <a:pt x="11866" y="3"/>
                      <a:pt x="11866" y="4"/>
                    </a:cubicBezTo>
                    <a:cubicBezTo>
                      <a:pt x="11866" y="5"/>
                      <a:pt x="11865" y="6"/>
                      <a:pt x="11864" y="6"/>
                    </a:cubicBezTo>
                    <a:lnTo>
                      <a:pt x="11864" y="6"/>
                    </a:lnTo>
                    <a:cubicBezTo>
                      <a:pt x="11863" y="6"/>
                      <a:pt x="11862" y="5"/>
                      <a:pt x="11862" y="4"/>
                    </a:cubicBezTo>
                    <a:cubicBezTo>
                      <a:pt x="11862" y="3"/>
                      <a:pt x="11863" y="2"/>
                      <a:pt x="11864" y="2"/>
                    </a:cubicBezTo>
                    <a:close/>
                    <a:moveTo>
                      <a:pt x="11872" y="2"/>
                    </a:moveTo>
                    <a:lnTo>
                      <a:pt x="11872" y="2"/>
                    </a:lnTo>
                    <a:cubicBezTo>
                      <a:pt x="11873" y="2"/>
                      <a:pt x="11874" y="3"/>
                      <a:pt x="11874" y="4"/>
                    </a:cubicBezTo>
                    <a:cubicBezTo>
                      <a:pt x="11874" y="5"/>
                      <a:pt x="11873" y="6"/>
                      <a:pt x="11872" y="6"/>
                    </a:cubicBezTo>
                    <a:lnTo>
                      <a:pt x="11872" y="6"/>
                    </a:lnTo>
                    <a:cubicBezTo>
                      <a:pt x="11871" y="6"/>
                      <a:pt x="11870" y="5"/>
                      <a:pt x="11870" y="4"/>
                    </a:cubicBezTo>
                    <a:cubicBezTo>
                      <a:pt x="11870" y="3"/>
                      <a:pt x="11871" y="2"/>
                      <a:pt x="11872" y="2"/>
                    </a:cubicBezTo>
                    <a:close/>
                    <a:moveTo>
                      <a:pt x="11880" y="2"/>
                    </a:moveTo>
                    <a:lnTo>
                      <a:pt x="11880" y="2"/>
                    </a:lnTo>
                    <a:cubicBezTo>
                      <a:pt x="11881" y="2"/>
                      <a:pt x="11882" y="3"/>
                      <a:pt x="11882" y="4"/>
                    </a:cubicBezTo>
                    <a:cubicBezTo>
                      <a:pt x="11882" y="5"/>
                      <a:pt x="11881" y="6"/>
                      <a:pt x="11880" y="6"/>
                    </a:cubicBezTo>
                    <a:lnTo>
                      <a:pt x="11880" y="6"/>
                    </a:lnTo>
                    <a:cubicBezTo>
                      <a:pt x="11879" y="6"/>
                      <a:pt x="11878" y="5"/>
                      <a:pt x="11878" y="4"/>
                    </a:cubicBezTo>
                    <a:cubicBezTo>
                      <a:pt x="11878" y="3"/>
                      <a:pt x="11879" y="2"/>
                      <a:pt x="11880" y="2"/>
                    </a:cubicBezTo>
                    <a:close/>
                    <a:moveTo>
                      <a:pt x="11888" y="2"/>
                    </a:moveTo>
                    <a:lnTo>
                      <a:pt x="11888" y="2"/>
                    </a:lnTo>
                    <a:cubicBezTo>
                      <a:pt x="11889" y="2"/>
                      <a:pt x="11890" y="3"/>
                      <a:pt x="11890" y="4"/>
                    </a:cubicBezTo>
                    <a:cubicBezTo>
                      <a:pt x="11890" y="5"/>
                      <a:pt x="11889" y="6"/>
                      <a:pt x="11888" y="6"/>
                    </a:cubicBezTo>
                    <a:lnTo>
                      <a:pt x="11888" y="6"/>
                    </a:lnTo>
                    <a:cubicBezTo>
                      <a:pt x="11887" y="6"/>
                      <a:pt x="11886" y="5"/>
                      <a:pt x="11886" y="4"/>
                    </a:cubicBezTo>
                    <a:cubicBezTo>
                      <a:pt x="11886" y="3"/>
                      <a:pt x="11887" y="2"/>
                      <a:pt x="11888" y="2"/>
                    </a:cubicBezTo>
                    <a:close/>
                    <a:moveTo>
                      <a:pt x="11896" y="2"/>
                    </a:moveTo>
                    <a:lnTo>
                      <a:pt x="11896" y="2"/>
                    </a:lnTo>
                    <a:cubicBezTo>
                      <a:pt x="11897" y="2"/>
                      <a:pt x="11898" y="3"/>
                      <a:pt x="11898" y="4"/>
                    </a:cubicBezTo>
                    <a:cubicBezTo>
                      <a:pt x="11898" y="5"/>
                      <a:pt x="11897" y="6"/>
                      <a:pt x="11896" y="6"/>
                    </a:cubicBezTo>
                    <a:lnTo>
                      <a:pt x="11896" y="6"/>
                    </a:lnTo>
                    <a:cubicBezTo>
                      <a:pt x="11895" y="6"/>
                      <a:pt x="11894" y="5"/>
                      <a:pt x="11894" y="4"/>
                    </a:cubicBezTo>
                    <a:cubicBezTo>
                      <a:pt x="11894" y="3"/>
                      <a:pt x="11895" y="2"/>
                      <a:pt x="11896" y="2"/>
                    </a:cubicBezTo>
                    <a:close/>
                    <a:moveTo>
                      <a:pt x="11904" y="2"/>
                    </a:moveTo>
                    <a:lnTo>
                      <a:pt x="11904" y="2"/>
                    </a:lnTo>
                    <a:cubicBezTo>
                      <a:pt x="11905" y="2"/>
                      <a:pt x="11906" y="3"/>
                      <a:pt x="11906" y="4"/>
                    </a:cubicBezTo>
                    <a:cubicBezTo>
                      <a:pt x="11906" y="5"/>
                      <a:pt x="11905" y="6"/>
                      <a:pt x="11904" y="6"/>
                    </a:cubicBezTo>
                    <a:lnTo>
                      <a:pt x="11904" y="6"/>
                    </a:lnTo>
                    <a:cubicBezTo>
                      <a:pt x="11903" y="6"/>
                      <a:pt x="11902" y="5"/>
                      <a:pt x="11902" y="4"/>
                    </a:cubicBezTo>
                    <a:cubicBezTo>
                      <a:pt x="11902" y="3"/>
                      <a:pt x="11903" y="2"/>
                      <a:pt x="11904" y="2"/>
                    </a:cubicBezTo>
                    <a:close/>
                    <a:moveTo>
                      <a:pt x="11912" y="2"/>
                    </a:moveTo>
                    <a:lnTo>
                      <a:pt x="11912" y="2"/>
                    </a:lnTo>
                    <a:cubicBezTo>
                      <a:pt x="11913" y="2"/>
                      <a:pt x="11914" y="3"/>
                      <a:pt x="11914" y="4"/>
                    </a:cubicBezTo>
                    <a:cubicBezTo>
                      <a:pt x="11914" y="5"/>
                      <a:pt x="11913" y="6"/>
                      <a:pt x="11912" y="6"/>
                    </a:cubicBezTo>
                    <a:lnTo>
                      <a:pt x="11912" y="6"/>
                    </a:lnTo>
                    <a:cubicBezTo>
                      <a:pt x="11911" y="6"/>
                      <a:pt x="11910" y="5"/>
                      <a:pt x="11910" y="4"/>
                    </a:cubicBezTo>
                    <a:cubicBezTo>
                      <a:pt x="11910" y="3"/>
                      <a:pt x="11911" y="2"/>
                      <a:pt x="11912" y="2"/>
                    </a:cubicBezTo>
                    <a:close/>
                    <a:moveTo>
                      <a:pt x="11920" y="2"/>
                    </a:moveTo>
                    <a:lnTo>
                      <a:pt x="11920" y="2"/>
                    </a:lnTo>
                    <a:cubicBezTo>
                      <a:pt x="11921" y="2"/>
                      <a:pt x="11922" y="3"/>
                      <a:pt x="11922" y="4"/>
                    </a:cubicBezTo>
                    <a:cubicBezTo>
                      <a:pt x="11922" y="5"/>
                      <a:pt x="11921" y="6"/>
                      <a:pt x="11920" y="6"/>
                    </a:cubicBezTo>
                    <a:lnTo>
                      <a:pt x="11920" y="6"/>
                    </a:lnTo>
                    <a:cubicBezTo>
                      <a:pt x="11919" y="6"/>
                      <a:pt x="11918" y="5"/>
                      <a:pt x="11918" y="4"/>
                    </a:cubicBezTo>
                    <a:cubicBezTo>
                      <a:pt x="11918" y="3"/>
                      <a:pt x="11919" y="2"/>
                      <a:pt x="11920" y="2"/>
                    </a:cubicBezTo>
                    <a:close/>
                    <a:moveTo>
                      <a:pt x="11928" y="2"/>
                    </a:moveTo>
                    <a:lnTo>
                      <a:pt x="11928" y="2"/>
                    </a:lnTo>
                    <a:cubicBezTo>
                      <a:pt x="11929" y="2"/>
                      <a:pt x="11930" y="3"/>
                      <a:pt x="11930" y="4"/>
                    </a:cubicBezTo>
                    <a:cubicBezTo>
                      <a:pt x="11930" y="5"/>
                      <a:pt x="11929" y="6"/>
                      <a:pt x="11928" y="6"/>
                    </a:cubicBezTo>
                    <a:lnTo>
                      <a:pt x="11928" y="6"/>
                    </a:lnTo>
                    <a:cubicBezTo>
                      <a:pt x="11927" y="6"/>
                      <a:pt x="11926" y="5"/>
                      <a:pt x="11926" y="4"/>
                    </a:cubicBezTo>
                    <a:cubicBezTo>
                      <a:pt x="11926" y="3"/>
                      <a:pt x="11927" y="2"/>
                      <a:pt x="11928" y="2"/>
                    </a:cubicBezTo>
                    <a:close/>
                    <a:moveTo>
                      <a:pt x="11936" y="2"/>
                    </a:moveTo>
                    <a:lnTo>
                      <a:pt x="11936" y="2"/>
                    </a:lnTo>
                    <a:cubicBezTo>
                      <a:pt x="11937" y="2"/>
                      <a:pt x="11938" y="3"/>
                      <a:pt x="11938" y="4"/>
                    </a:cubicBezTo>
                    <a:cubicBezTo>
                      <a:pt x="11938" y="5"/>
                      <a:pt x="11937" y="6"/>
                      <a:pt x="11936" y="6"/>
                    </a:cubicBezTo>
                    <a:lnTo>
                      <a:pt x="11936" y="6"/>
                    </a:lnTo>
                    <a:cubicBezTo>
                      <a:pt x="11935" y="6"/>
                      <a:pt x="11934" y="5"/>
                      <a:pt x="11934" y="4"/>
                    </a:cubicBezTo>
                    <a:cubicBezTo>
                      <a:pt x="11934" y="3"/>
                      <a:pt x="11935" y="2"/>
                      <a:pt x="11936" y="2"/>
                    </a:cubicBezTo>
                    <a:close/>
                    <a:moveTo>
                      <a:pt x="11944" y="2"/>
                    </a:moveTo>
                    <a:lnTo>
                      <a:pt x="11944" y="2"/>
                    </a:lnTo>
                    <a:cubicBezTo>
                      <a:pt x="11945" y="2"/>
                      <a:pt x="11946" y="3"/>
                      <a:pt x="11946" y="4"/>
                    </a:cubicBezTo>
                    <a:cubicBezTo>
                      <a:pt x="11946" y="5"/>
                      <a:pt x="11945" y="6"/>
                      <a:pt x="11944" y="6"/>
                    </a:cubicBezTo>
                    <a:lnTo>
                      <a:pt x="11944" y="6"/>
                    </a:lnTo>
                    <a:cubicBezTo>
                      <a:pt x="11943" y="6"/>
                      <a:pt x="11942" y="5"/>
                      <a:pt x="11942" y="4"/>
                    </a:cubicBezTo>
                    <a:cubicBezTo>
                      <a:pt x="11942" y="3"/>
                      <a:pt x="11943" y="2"/>
                      <a:pt x="11944" y="2"/>
                    </a:cubicBezTo>
                    <a:close/>
                    <a:moveTo>
                      <a:pt x="11952" y="2"/>
                    </a:moveTo>
                    <a:lnTo>
                      <a:pt x="11952" y="2"/>
                    </a:lnTo>
                    <a:cubicBezTo>
                      <a:pt x="11953" y="2"/>
                      <a:pt x="11954" y="3"/>
                      <a:pt x="11954" y="4"/>
                    </a:cubicBezTo>
                    <a:cubicBezTo>
                      <a:pt x="11954" y="5"/>
                      <a:pt x="11953" y="6"/>
                      <a:pt x="11952" y="6"/>
                    </a:cubicBezTo>
                    <a:lnTo>
                      <a:pt x="11952" y="6"/>
                    </a:lnTo>
                    <a:cubicBezTo>
                      <a:pt x="11951" y="6"/>
                      <a:pt x="11950" y="5"/>
                      <a:pt x="11950" y="4"/>
                    </a:cubicBezTo>
                    <a:cubicBezTo>
                      <a:pt x="11950" y="3"/>
                      <a:pt x="11951" y="2"/>
                      <a:pt x="11952" y="2"/>
                    </a:cubicBezTo>
                    <a:close/>
                    <a:moveTo>
                      <a:pt x="11960" y="2"/>
                    </a:moveTo>
                    <a:lnTo>
                      <a:pt x="11960" y="2"/>
                    </a:lnTo>
                    <a:cubicBezTo>
                      <a:pt x="11961" y="2"/>
                      <a:pt x="11962" y="3"/>
                      <a:pt x="11962" y="4"/>
                    </a:cubicBezTo>
                    <a:cubicBezTo>
                      <a:pt x="11962" y="5"/>
                      <a:pt x="11961" y="6"/>
                      <a:pt x="11960" y="6"/>
                    </a:cubicBezTo>
                    <a:lnTo>
                      <a:pt x="11960" y="6"/>
                    </a:lnTo>
                    <a:cubicBezTo>
                      <a:pt x="11959" y="6"/>
                      <a:pt x="11958" y="5"/>
                      <a:pt x="11958" y="4"/>
                    </a:cubicBezTo>
                    <a:cubicBezTo>
                      <a:pt x="11958" y="3"/>
                      <a:pt x="11959" y="2"/>
                      <a:pt x="11960" y="2"/>
                    </a:cubicBezTo>
                    <a:close/>
                    <a:moveTo>
                      <a:pt x="11968" y="2"/>
                    </a:moveTo>
                    <a:lnTo>
                      <a:pt x="11968" y="2"/>
                    </a:lnTo>
                    <a:cubicBezTo>
                      <a:pt x="11969" y="2"/>
                      <a:pt x="11970" y="3"/>
                      <a:pt x="11970" y="4"/>
                    </a:cubicBezTo>
                    <a:cubicBezTo>
                      <a:pt x="11970" y="5"/>
                      <a:pt x="11969" y="6"/>
                      <a:pt x="11968" y="6"/>
                    </a:cubicBezTo>
                    <a:lnTo>
                      <a:pt x="11968" y="6"/>
                    </a:lnTo>
                    <a:cubicBezTo>
                      <a:pt x="11967" y="6"/>
                      <a:pt x="11966" y="5"/>
                      <a:pt x="11966" y="4"/>
                    </a:cubicBezTo>
                    <a:cubicBezTo>
                      <a:pt x="11966" y="3"/>
                      <a:pt x="11967" y="2"/>
                      <a:pt x="11968" y="2"/>
                    </a:cubicBezTo>
                    <a:close/>
                    <a:moveTo>
                      <a:pt x="11976" y="2"/>
                    </a:moveTo>
                    <a:lnTo>
                      <a:pt x="11976" y="2"/>
                    </a:lnTo>
                    <a:cubicBezTo>
                      <a:pt x="11977" y="2"/>
                      <a:pt x="11978" y="3"/>
                      <a:pt x="11978" y="4"/>
                    </a:cubicBezTo>
                    <a:cubicBezTo>
                      <a:pt x="11978" y="5"/>
                      <a:pt x="11977" y="6"/>
                      <a:pt x="11976" y="6"/>
                    </a:cubicBezTo>
                    <a:lnTo>
                      <a:pt x="11976" y="6"/>
                    </a:lnTo>
                    <a:cubicBezTo>
                      <a:pt x="11975" y="6"/>
                      <a:pt x="11974" y="5"/>
                      <a:pt x="11974" y="4"/>
                    </a:cubicBezTo>
                    <a:cubicBezTo>
                      <a:pt x="11974" y="3"/>
                      <a:pt x="11975" y="2"/>
                      <a:pt x="11976" y="2"/>
                    </a:cubicBezTo>
                    <a:close/>
                    <a:moveTo>
                      <a:pt x="11984" y="2"/>
                    </a:moveTo>
                    <a:lnTo>
                      <a:pt x="11984" y="2"/>
                    </a:lnTo>
                    <a:cubicBezTo>
                      <a:pt x="11985" y="2"/>
                      <a:pt x="11986" y="3"/>
                      <a:pt x="11986" y="4"/>
                    </a:cubicBezTo>
                    <a:cubicBezTo>
                      <a:pt x="11986" y="5"/>
                      <a:pt x="11985" y="6"/>
                      <a:pt x="11984" y="6"/>
                    </a:cubicBezTo>
                    <a:lnTo>
                      <a:pt x="11984" y="6"/>
                    </a:lnTo>
                    <a:cubicBezTo>
                      <a:pt x="11983" y="6"/>
                      <a:pt x="11982" y="5"/>
                      <a:pt x="11982" y="4"/>
                    </a:cubicBezTo>
                    <a:cubicBezTo>
                      <a:pt x="11982" y="3"/>
                      <a:pt x="11983" y="2"/>
                      <a:pt x="11984" y="2"/>
                    </a:cubicBezTo>
                    <a:close/>
                    <a:moveTo>
                      <a:pt x="11992" y="2"/>
                    </a:moveTo>
                    <a:lnTo>
                      <a:pt x="11992" y="2"/>
                    </a:lnTo>
                    <a:cubicBezTo>
                      <a:pt x="11993" y="2"/>
                      <a:pt x="11994" y="3"/>
                      <a:pt x="11994" y="4"/>
                    </a:cubicBezTo>
                    <a:cubicBezTo>
                      <a:pt x="11994" y="5"/>
                      <a:pt x="11993" y="6"/>
                      <a:pt x="11992" y="6"/>
                    </a:cubicBezTo>
                    <a:lnTo>
                      <a:pt x="11992" y="6"/>
                    </a:lnTo>
                    <a:cubicBezTo>
                      <a:pt x="11991" y="6"/>
                      <a:pt x="11990" y="5"/>
                      <a:pt x="11990" y="4"/>
                    </a:cubicBezTo>
                    <a:cubicBezTo>
                      <a:pt x="11990" y="3"/>
                      <a:pt x="11991" y="2"/>
                      <a:pt x="11992" y="2"/>
                    </a:cubicBezTo>
                    <a:close/>
                    <a:moveTo>
                      <a:pt x="12000" y="2"/>
                    </a:moveTo>
                    <a:lnTo>
                      <a:pt x="12000" y="2"/>
                    </a:lnTo>
                    <a:cubicBezTo>
                      <a:pt x="12001" y="2"/>
                      <a:pt x="12002" y="3"/>
                      <a:pt x="12002" y="4"/>
                    </a:cubicBezTo>
                    <a:cubicBezTo>
                      <a:pt x="12002" y="5"/>
                      <a:pt x="12001" y="6"/>
                      <a:pt x="12000" y="6"/>
                    </a:cubicBezTo>
                    <a:lnTo>
                      <a:pt x="12000" y="6"/>
                    </a:lnTo>
                    <a:cubicBezTo>
                      <a:pt x="11999" y="6"/>
                      <a:pt x="11998" y="5"/>
                      <a:pt x="11998" y="4"/>
                    </a:cubicBezTo>
                    <a:cubicBezTo>
                      <a:pt x="11998" y="3"/>
                      <a:pt x="11999" y="2"/>
                      <a:pt x="12000" y="2"/>
                    </a:cubicBezTo>
                    <a:close/>
                    <a:moveTo>
                      <a:pt x="12008" y="2"/>
                    </a:moveTo>
                    <a:lnTo>
                      <a:pt x="12008" y="2"/>
                    </a:lnTo>
                    <a:cubicBezTo>
                      <a:pt x="12009" y="2"/>
                      <a:pt x="12010" y="3"/>
                      <a:pt x="12010" y="4"/>
                    </a:cubicBezTo>
                    <a:cubicBezTo>
                      <a:pt x="12010" y="5"/>
                      <a:pt x="12009" y="6"/>
                      <a:pt x="12008" y="6"/>
                    </a:cubicBezTo>
                    <a:lnTo>
                      <a:pt x="12008" y="6"/>
                    </a:lnTo>
                    <a:cubicBezTo>
                      <a:pt x="12007" y="6"/>
                      <a:pt x="12006" y="5"/>
                      <a:pt x="12006" y="4"/>
                    </a:cubicBezTo>
                    <a:cubicBezTo>
                      <a:pt x="12006" y="3"/>
                      <a:pt x="12007" y="2"/>
                      <a:pt x="12008" y="2"/>
                    </a:cubicBezTo>
                    <a:close/>
                    <a:moveTo>
                      <a:pt x="12016" y="2"/>
                    </a:moveTo>
                    <a:lnTo>
                      <a:pt x="12016" y="2"/>
                    </a:lnTo>
                    <a:cubicBezTo>
                      <a:pt x="12017" y="2"/>
                      <a:pt x="12018" y="3"/>
                      <a:pt x="12018" y="4"/>
                    </a:cubicBezTo>
                    <a:cubicBezTo>
                      <a:pt x="12018" y="5"/>
                      <a:pt x="12017" y="6"/>
                      <a:pt x="12016" y="6"/>
                    </a:cubicBezTo>
                    <a:lnTo>
                      <a:pt x="12016" y="6"/>
                    </a:lnTo>
                    <a:cubicBezTo>
                      <a:pt x="12015" y="6"/>
                      <a:pt x="12014" y="5"/>
                      <a:pt x="12014" y="4"/>
                    </a:cubicBezTo>
                    <a:cubicBezTo>
                      <a:pt x="12014" y="3"/>
                      <a:pt x="12015" y="2"/>
                      <a:pt x="12016" y="2"/>
                    </a:cubicBezTo>
                    <a:close/>
                    <a:moveTo>
                      <a:pt x="12024" y="2"/>
                    </a:moveTo>
                    <a:lnTo>
                      <a:pt x="12024" y="2"/>
                    </a:lnTo>
                    <a:cubicBezTo>
                      <a:pt x="12025" y="2"/>
                      <a:pt x="12026" y="3"/>
                      <a:pt x="12026" y="4"/>
                    </a:cubicBezTo>
                    <a:cubicBezTo>
                      <a:pt x="12026" y="5"/>
                      <a:pt x="12025" y="6"/>
                      <a:pt x="12024" y="6"/>
                    </a:cubicBezTo>
                    <a:lnTo>
                      <a:pt x="12024" y="6"/>
                    </a:lnTo>
                    <a:cubicBezTo>
                      <a:pt x="12023" y="6"/>
                      <a:pt x="12022" y="5"/>
                      <a:pt x="12022" y="4"/>
                    </a:cubicBezTo>
                    <a:cubicBezTo>
                      <a:pt x="12022" y="3"/>
                      <a:pt x="12023" y="2"/>
                      <a:pt x="12024" y="2"/>
                    </a:cubicBezTo>
                    <a:close/>
                    <a:moveTo>
                      <a:pt x="12032" y="2"/>
                    </a:moveTo>
                    <a:lnTo>
                      <a:pt x="12032" y="2"/>
                    </a:lnTo>
                    <a:cubicBezTo>
                      <a:pt x="12033" y="2"/>
                      <a:pt x="12034" y="3"/>
                      <a:pt x="12034" y="4"/>
                    </a:cubicBezTo>
                    <a:cubicBezTo>
                      <a:pt x="12034" y="5"/>
                      <a:pt x="12033" y="6"/>
                      <a:pt x="12032" y="6"/>
                    </a:cubicBezTo>
                    <a:lnTo>
                      <a:pt x="12032" y="6"/>
                    </a:lnTo>
                    <a:cubicBezTo>
                      <a:pt x="12031" y="6"/>
                      <a:pt x="12030" y="5"/>
                      <a:pt x="12030" y="4"/>
                    </a:cubicBezTo>
                    <a:cubicBezTo>
                      <a:pt x="12030" y="3"/>
                      <a:pt x="12031" y="2"/>
                      <a:pt x="12032" y="2"/>
                    </a:cubicBezTo>
                    <a:close/>
                    <a:moveTo>
                      <a:pt x="12040" y="2"/>
                    </a:moveTo>
                    <a:lnTo>
                      <a:pt x="12040" y="2"/>
                    </a:lnTo>
                    <a:cubicBezTo>
                      <a:pt x="12041" y="2"/>
                      <a:pt x="12042" y="3"/>
                      <a:pt x="12042" y="4"/>
                    </a:cubicBezTo>
                    <a:cubicBezTo>
                      <a:pt x="12042" y="5"/>
                      <a:pt x="12041" y="6"/>
                      <a:pt x="12040" y="6"/>
                    </a:cubicBezTo>
                    <a:lnTo>
                      <a:pt x="12040" y="6"/>
                    </a:lnTo>
                    <a:cubicBezTo>
                      <a:pt x="12039" y="6"/>
                      <a:pt x="12038" y="5"/>
                      <a:pt x="12038" y="4"/>
                    </a:cubicBezTo>
                    <a:cubicBezTo>
                      <a:pt x="12038" y="3"/>
                      <a:pt x="12039" y="2"/>
                      <a:pt x="12040" y="2"/>
                    </a:cubicBezTo>
                    <a:close/>
                    <a:moveTo>
                      <a:pt x="12048" y="2"/>
                    </a:moveTo>
                    <a:lnTo>
                      <a:pt x="12048" y="2"/>
                    </a:lnTo>
                    <a:cubicBezTo>
                      <a:pt x="12049" y="2"/>
                      <a:pt x="12050" y="3"/>
                      <a:pt x="12050" y="4"/>
                    </a:cubicBezTo>
                    <a:cubicBezTo>
                      <a:pt x="12050" y="5"/>
                      <a:pt x="12049" y="6"/>
                      <a:pt x="12048" y="6"/>
                    </a:cubicBezTo>
                    <a:lnTo>
                      <a:pt x="12048" y="6"/>
                    </a:lnTo>
                    <a:cubicBezTo>
                      <a:pt x="12047" y="6"/>
                      <a:pt x="12046" y="5"/>
                      <a:pt x="12046" y="4"/>
                    </a:cubicBezTo>
                    <a:cubicBezTo>
                      <a:pt x="12046" y="3"/>
                      <a:pt x="12047" y="2"/>
                      <a:pt x="12048" y="2"/>
                    </a:cubicBezTo>
                    <a:close/>
                    <a:moveTo>
                      <a:pt x="12056" y="2"/>
                    </a:moveTo>
                    <a:lnTo>
                      <a:pt x="12056" y="2"/>
                    </a:lnTo>
                    <a:cubicBezTo>
                      <a:pt x="12057" y="2"/>
                      <a:pt x="12058" y="3"/>
                      <a:pt x="12058" y="4"/>
                    </a:cubicBezTo>
                    <a:cubicBezTo>
                      <a:pt x="12058" y="5"/>
                      <a:pt x="12057" y="6"/>
                      <a:pt x="12056" y="6"/>
                    </a:cubicBezTo>
                    <a:lnTo>
                      <a:pt x="12056" y="6"/>
                    </a:lnTo>
                    <a:cubicBezTo>
                      <a:pt x="12055" y="6"/>
                      <a:pt x="12054" y="5"/>
                      <a:pt x="12054" y="4"/>
                    </a:cubicBezTo>
                    <a:cubicBezTo>
                      <a:pt x="12054" y="3"/>
                      <a:pt x="12055" y="2"/>
                      <a:pt x="12056" y="2"/>
                    </a:cubicBezTo>
                    <a:close/>
                    <a:moveTo>
                      <a:pt x="12064" y="2"/>
                    </a:moveTo>
                    <a:lnTo>
                      <a:pt x="12064" y="2"/>
                    </a:lnTo>
                    <a:cubicBezTo>
                      <a:pt x="12065" y="2"/>
                      <a:pt x="12066" y="3"/>
                      <a:pt x="12066" y="4"/>
                    </a:cubicBezTo>
                    <a:cubicBezTo>
                      <a:pt x="12066" y="5"/>
                      <a:pt x="12065" y="6"/>
                      <a:pt x="12064" y="6"/>
                    </a:cubicBezTo>
                    <a:lnTo>
                      <a:pt x="12064" y="6"/>
                    </a:lnTo>
                    <a:cubicBezTo>
                      <a:pt x="12063" y="6"/>
                      <a:pt x="12062" y="5"/>
                      <a:pt x="12062" y="4"/>
                    </a:cubicBezTo>
                    <a:cubicBezTo>
                      <a:pt x="12062" y="3"/>
                      <a:pt x="12063" y="2"/>
                      <a:pt x="12064" y="2"/>
                    </a:cubicBezTo>
                    <a:close/>
                    <a:moveTo>
                      <a:pt x="12072" y="2"/>
                    </a:moveTo>
                    <a:lnTo>
                      <a:pt x="12072" y="2"/>
                    </a:lnTo>
                    <a:cubicBezTo>
                      <a:pt x="12073" y="2"/>
                      <a:pt x="12074" y="3"/>
                      <a:pt x="12074" y="4"/>
                    </a:cubicBezTo>
                    <a:cubicBezTo>
                      <a:pt x="12074" y="5"/>
                      <a:pt x="12073" y="6"/>
                      <a:pt x="12072" y="6"/>
                    </a:cubicBezTo>
                    <a:lnTo>
                      <a:pt x="12072" y="6"/>
                    </a:lnTo>
                    <a:cubicBezTo>
                      <a:pt x="12071" y="6"/>
                      <a:pt x="12070" y="5"/>
                      <a:pt x="12070" y="4"/>
                    </a:cubicBezTo>
                    <a:cubicBezTo>
                      <a:pt x="12070" y="3"/>
                      <a:pt x="12071" y="2"/>
                      <a:pt x="12072" y="2"/>
                    </a:cubicBezTo>
                    <a:close/>
                    <a:moveTo>
                      <a:pt x="12080" y="2"/>
                    </a:moveTo>
                    <a:lnTo>
                      <a:pt x="12080" y="2"/>
                    </a:lnTo>
                    <a:cubicBezTo>
                      <a:pt x="12081" y="2"/>
                      <a:pt x="12082" y="3"/>
                      <a:pt x="12082" y="4"/>
                    </a:cubicBezTo>
                    <a:cubicBezTo>
                      <a:pt x="12082" y="5"/>
                      <a:pt x="12081" y="6"/>
                      <a:pt x="12080" y="6"/>
                    </a:cubicBezTo>
                    <a:lnTo>
                      <a:pt x="12080" y="6"/>
                    </a:lnTo>
                    <a:cubicBezTo>
                      <a:pt x="12079" y="6"/>
                      <a:pt x="12078" y="5"/>
                      <a:pt x="12078" y="4"/>
                    </a:cubicBezTo>
                    <a:cubicBezTo>
                      <a:pt x="12078" y="3"/>
                      <a:pt x="12079" y="2"/>
                      <a:pt x="12080" y="2"/>
                    </a:cubicBezTo>
                    <a:close/>
                    <a:moveTo>
                      <a:pt x="12088" y="2"/>
                    </a:moveTo>
                    <a:lnTo>
                      <a:pt x="12088" y="2"/>
                    </a:lnTo>
                    <a:cubicBezTo>
                      <a:pt x="12089" y="2"/>
                      <a:pt x="12090" y="3"/>
                      <a:pt x="12090" y="4"/>
                    </a:cubicBezTo>
                    <a:cubicBezTo>
                      <a:pt x="12090" y="5"/>
                      <a:pt x="12089" y="6"/>
                      <a:pt x="12088" y="6"/>
                    </a:cubicBezTo>
                    <a:lnTo>
                      <a:pt x="12088" y="6"/>
                    </a:lnTo>
                    <a:cubicBezTo>
                      <a:pt x="12087" y="6"/>
                      <a:pt x="12086" y="5"/>
                      <a:pt x="12086" y="4"/>
                    </a:cubicBezTo>
                    <a:cubicBezTo>
                      <a:pt x="12086" y="3"/>
                      <a:pt x="12087" y="2"/>
                      <a:pt x="12088" y="2"/>
                    </a:cubicBezTo>
                    <a:close/>
                    <a:moveTo>
                      <a:pt x="12096" y="2"/>
                    </a:moveTo>
                    <a:lnTo>
                      <a:pt x="12096" y="2"/>
                    </a:lnTo>
                    <a:cubicBezTo>
                      <a:pt x="12097" y="2"/>
                      <a:pt x="12098" y="3"/>
                      <a:pt x="12098" y="4"/>
                    </a:cubicBezTo>
                    <a:cubicBezTo>
                      <a:pt x="12098" y="5"/>
                      <a:pt x="12097" y="6"/>
                      <a:pt x="12096" y="6"/>
                    </a:cubicBezTo>
                    <a:lnTo>
                      <a:pt x="12096" y="6"/>
                    </a:lnTo>
                    <a:cubicBezTo>
                      <a:pt x="12095" y="6"/>
                      <a:pt x="12094" y="5"/>
                      <a:pt x="12094" y="4"/>
                    </a:cubicBezTo>
                    <a:cubicBezTo>
                      <a:pt x="12094" y="3"/>
                      <a:pt x="12095" y="2"/>
                      <a:pt x="12096" y="2"/>
                    </a:cubicBezTo>
                    <a:close/>
                    <a:moveTo>
                      <a:pt x="12104" y="2"/>
                    </a:moveTo>
                    <a:lnTo>
                      <a:pt x="12104" y="2"/>
                    </a:lnTo>
                    <a:cubicBezTo>
                      <a:pt x="12105" y="2"/>
                      <a:pt x="12106" y="3"/>
                      <a:pt x="12106" y="4"/>
                    </a:cubicBezTo>
                    <a:cubicBezTo>
                      <a:pt x="12106" y="5"/>
                      <a:pt x="12105" y="6"/>
                      <a:pt x="12104" y="6"/>
                    </a:cubicBezTo>
                    <a:lnTo>
                      <a:pt x="12104" y="6"/>
                    </a:lnTo>
                    <a:cubicBezTo>
                      <a:pt x="12103" y="6"/>
                      <a:pt x="12102" y="5"/>
                      <a:pt x="12102" y="4"/>
                    </a:cubicBezTo>
                    <a:cubicBezTo>
                      <a:pt x="12102" y="3"/>
                      <a:pt x="12103" y="2"/>
                      <a:pt x="12104" y="2"/>
                    </a:cubicBezTo>
                    <a:close/>
                    <a:moveTo>
                      <a:pt x="12112" y="2"/>
                    </a:moveTo>
                    <a:lnTo>
                      <a:pt x="12112" y="2"/>
                    </a:lnTo>
                    <a:cubicBezTo>
                      <a:pt x="12113" y="2"/>
                      <a:pt x="12114" y="3"/>
                      <a:pt x="12114" y="4"/>
                    </a:cubicBezTo>
                    <a:cubicBezTo>
                      <a:pt x="12114" y="5"/>
                      <a:pt x="12113" y="6"/>
                      <a:pt x="12112" y="6"/>
                    </a:cubicBezTo>
                    <a:lnTo>
                      <a:pt x="12112" y="6"/>
                    </a:lnTo>
                    <a:cubicBezTo>
                      <a:pt x="12111" y="6"/>
                      <a:pt x="12110" y="5"/>
                      <a:pt x="12110" y="4"/>
                    </a:cubicBezTo>
                    <a:cubicBezTo>
                      <a:pt x="12110" y="3"/>
                      <a:pt x="12111" y="2"/>
                      <a:pt x="12112" y="2"/>
                    </a:cubicBezTo>
                    <a:close/>
                    <a:moveTo>
                      <a:pt x="12120" y="2"/>
                    </a:moveTo>
                    <a:lnTo>
                      <a:pt x="12120" y="2"/>
                    </a:lnTo>
                    <a:cubicBezTo>
                      <a:pt x="12121" y="2"/>
                      <a:pt x="12122" y="3"/>
                      <a:pt x="12122" y="4"/>
                    </a:cubicBezTo>
                    <a:cubicBezTo>
                      <a:pt x="12122" y="5"/>
                      <a:pt x="12121" y="6"/>
                      <a:pt x="12120" y="6"/>
                    </a:cubicBezTo>
                    <a:lnTo>
                      <a:pt x="12120" y="6"/>
                    </a:lnTo>
                    <a:cubicBezTo>
                      <a:pt x="12119" y="6"/>
                      <a:pt x="12118" y="5"/>
                      <a:pt x="12118" y="4"/>
                    </a:cubicBezTo>
                    <a:cubicBezTo>
                      <a:pt x="12118" y="3"/>
                      <a:pt x="12119" y="2"/>
                      <a:pt x="12120" y="2"/>
                    </a:cubicBezTo>
                    <a:close/>
                    <a:moveTo>
                      <a:pt x="12128" y="2"/>
                    </a:moveTo>
                    <a:lnTo>
                      <a:pt x="12128" y="2"/>
                    </a:lnTo>
                    <a:cubicBezTo>
                      <a:pt x="12129" y="2"/>
                      <a:pt x="12130" y="3"/>
                      <a:pt x="12130" y="4"/>
                    </a:cubicBezTo>
                    <a:cubicBezTo>
                      <a:pt x="12130" y="5"/>
                      <a:pt x="12129" y="6"/>
                      <a:pt x="12128" y="6"/>
                    </a:cubicBezTo>
                    <a:lnTo>
                      <a:pt x="12128" y="6"/>
                    </a:lnTo>
                    <a:cubicBezTo>
                      <a:pt x="12127" y="6"/>
                      <a:pt x="12126" y="5"/>
                      <a:pt x="12126" y="4"/>
                    </a:cubicBezTo>
                    <a:cubicBezTo>
                      <a:pt x="12126" y="3"/>
                      <a:pt x="12127" y="2"/>
                      <a:pt x="12128" y="2"/>
                    </a:cubicBezTo>
                    <a:close/>
                    <a:moveTo>
                      <a:pt x="12136" y="2"/>
                    </a:moveTo>
                    <a:lnTo>
                      <a:pt x="12136" y="2"/>
                    </a:lnTo>
                    <a:cubicBezTo>
                      <a:pt x="12137" y="2"/>
                      <a:pt x="12138" y="3"/>
                      <a:pt x="12138" y="4"/>
                    </a:cubicBezTo>
                    <a:cubicBezTo>
                      <a:pt x="12138" y="5"/>
                      <a:pt x="12137" y="6"/>
                      <a:pt x="12136" y="6"/>
                    </a:cubicBezTo>
                    <a:lnTo>
                      <a:pt x="12136" y="6"/>
                    </a:lnTo>
                    <a:cubicBezTo>
                      <a:pt x="12135" y="6"/>
                      <a:pt x="12134" y="5"/>
                      <a:pt x="12134" y="4"/>
                    </a:cubicBezTo>
                    <a:cubicBezTo>
                      <a:pt x="12134" y="3"/>
                      <a:pt x="12135" y="2"/>
                      <a:pt x="12136" y="2"/>
                    </a:cubicBezTo>
                    <a:close/>
                    <a:moveTo>
                      <a:pt x="12144" y="2"/>
                    </a:moveTo>
                    <a:lnTo>
                      <a:pt x="12144" y="2"/>
                    </a:lnTo>
                    <a:cubicBezTo>
                      <a:pt x="12145" y="2"/>
                      <a:pt x="12146" y="3"/>
                      <a:pt x="12146" y="4"/>
                    </a:cubicBezTo>
                    <a:cubicBezTo>
                      <a:pt x="12146" y="5"/>
                      <a:pt x="12145" y="6"/>
                      <a:pt x="12144" y="6"/>
                    </a:cubicBezTo>
                    <a:lnTo>
                      <a:pt x="12144" y="6"/>
                    </a:lnTo>
                    <a:cubicBezTo>
                      <a:pt x="12143" y="6"/>
                      <a:pt x="12142" y="5"/>
                      <a:pt x="12142" y="4"/>
                    </a:cubicBezTo>
                    <a:cubicBezTo>
                      <a:pt x="12142" y="3"/>
                      <a:pt x="12143" y="2"/>
                      <a:pt x="12144" y="2"/>
                    </a:cubicBezTo>
                    <a:close/>
                    <a:moveTo>
                      <a:pt x="12152" y="2"/>
                    </a:moveTo>
                    <a:lnTo>
                      <a:pt x="12152" y="2"/>
                    </a:lnTo>
                    <a:cubicBezTo>
                      <a:pt x="12153" y="2"/>
                      <a:pt x="12154" y="3"/>
                      <a:pt x="12154" y="4"/>
                    </a:cubicBezTo>
                    <a:cubicBezTo>
                      <a:pt x="12154" y="5"/>
                      <a:pt x="12153" y="6"/>
                      <a:pt x="12152" y="6"/>
                    </a:cubicBezTo>
                    <a:lnTo>
                      <a:pt x="12152" y="6"/>
                    </a:lnTo>
                    <a:cubicBezTo>
                      <a:pt x="12151" y="6"/>
                      <a:pt x="12150" y="5"/>
                      <a:pt x="12150" y="4"/>
                    </a:cubicBezTo>
                    <a:cubicBezTo>
                      <a:pt x="12150" y="3"/>
                      <a:pt x="12151" y="2"/>
                      <a:pt x="12152" y="2"/>
                    </a:cubicBezTo>
                    <a:close/>
                    <a:moveTo>
                      <a:pt x="12160" y="2"/>
                    </a:moveTo>
                    <a:lnTo>
                      <a:pt x="12160" y="2"/>
                    </a:lnTo>
                    <a:cubicBezTo>
                      <a:pt x="12161" y="2"/>
                      <a:pt x="12162" y="3"/>
                      <a:pt x="12162" y="4"/>
                    </a:cubicBezTo>
                    <a:cubicBezTo>
                      <a:pt x="12162" y="5"/>
                      <a:pt x="12161" y="6"/>
                      <a:pt x="12160" y="6"/>
                    </a:cubicBezTo>
                    <a:lnTo>
                      <a:pt x="12160" y="6"/>
                    </a:lnTo>
                    <a:cubicBezTo>
                      <a:pt x="12159" y="6"/>
                      <a:pt x="12158" y="5"/>
                      <a:pt x="12158" y="4"/>
                    </a:cubicBezTo>
                    <a:cubicBezTo>
                      <a:pt x="12158" y="3"/>
                      <a:pt x="12159" y="2"/>
                      <a:pt x="12160" y="2"/>
                    </a:cubicBezTo>
                    <a:close/>
                    <a:moveTo>
                      <a:pt x="12168" y="2"/>
                    </a:moveTo>
                    <a:lnTo>
                      <a:pt x="12168" y="2"/>
                    </a:lnTo>
                    <a:cubicBezTo>
                      <a:pt x="12169" y="2"/>
                      <a:pt x="12170" y="3"/>
                      <a:pt x="12170" y="4"/>
                    </a:cubicBezTo>
                    <a:cubicBezTo>
                      <a:pt x="12170" y="5"/>
                      <a:pt x="12169" y="6"/>
                      <a:pt x="12168" y="6"/>
                    </a:cubicBezTo>
                    <a:lnTo>
                      <a:pt x="12168" y="6"/>
                    </a:lnTo>
                    <a:cubicBezTo>
                      <a:pt x="12167" y="6"/>
                      <a:pt x="12166" y="5"/>
                      <a:pt x="12166" y="4"/>
                    </a:cubicBezTo>
                    <a:cubicBezTo>
                      <a:pt x="12166" y="3"/>
                      <a:pt x="12167" y="2"/>
                      <a:pt x="12168" y="2"/>
                    </a:cubicBezTo>
                    <a:close/>
                    <a:moveTo>
                      <a:pt x="12176" y="2"/>
                    </a:moveTo>
                    <a:lnTo>
                      <a:pt x="12176" y="2"/>
                    </a:lnTo>
                    <a:cubicBezTo>
                      <a:pt x="12177" y="2"/>
                      <a:pt x="12178" y="3"/>
                      <a:pt x="12178" y="4"/>
                    </a:cubicBezTo>
                    <a:cubicBezTo>
                      <a:pt x="12178" y="5"/>
                      <a:pt x="12177" y="6"/>
                      <a:pt x="12176" y="6"/>
                    </a:cubicBezTo>
                    <a:lnTo>
                      <a:pt x="12176" y="6"/>
                    </a:lnTo>
                    <a:cubicBezTo>
                      <a:pt x="12175" y="6"/>
                      <a:pt x="12174" y="5"/>
                      <a:pt x="12174" y="4"/>
                    </a:cubicBezTo>
                    <a:cubicBezTo>
                      <a:pt x="12174" y="3"/>
                      <a:pt x="12175" y="2"/>
                      <a:pt x="12176" y="2"/>
                    </a:cubicBezTo>
                    <a:close/>
                    <a:moveTo>
                      <a:pt x="12184" y="2"/>
                    </a:moveTo>
                    <a:lnTo>
                      <a:pt x="12184" y="2"/>
                    </a:lnTo>
                    <a:cubicBezTo>
                      <a:pt x="12185" y="2"/>
                      <a:pt x="12186" y="3"/>
                      <a:pt x="12186" y="4"/>
                    </a:cubicBezTo>
                    <a:cubicBezTo>
                      <a:pt x="12186" y="5"/>
                      <a:pt x="12185" y="6"/>
                      <a:pt x="12184" y="6"/>
                    </a:cubicBezTo>
                    <a:lnTo>
                      <a:pt x="12184" y="6"/>
                    </a:lnTo>
                    <a:cubicBezTo>
                      <a:pt x="12183" y="6"/>
                      <a:pt x="12182" y="5"/>
                      <a:pt x="12182" y="4"/>
                    </a:cubicBezTo>
                    <a:cubicBezTo>
                      <a:pt x="12182" y="3"/>
                      <a:pt x="12183" y="2"/>
                      <a:pt x="12184" y="2"/>
                    </a:cubicBezTo>
                    <a:close/>
                    <a:moveTo>
                      <a:pt x="12192" y="2"/>
                    </a:moveTo>
                    <a:lnTo>
                      <a:pt x="12192" y="2"/>
                    </a:lnTo>
                    <a:cubicBezTo>
                      <a:pt x="12193" y="2"/>
                      <a:pt x="12194" y="3"/>
                      <a:pt x="12194" y="4"/>
                    </a:cubicBezTo>
                    <a:cubicBezTo>
                      <a:pt x="12194" y="5"/>
                      <a:pt x="12193" y="6"/>
                      <a:pt x="12192" y="6"/>
                    </a:cubicBezTo>
                    <a:lnTo>
                      <a:pt x="12192" y="6"/>
                    </a:lnTo>
                    <a:cubicBezTo>
                      <a:pt x="12191" y="6"/>
                      <a:pt x="12190" y="5"/>
                      <a:pt x="12190" y="4"/>
                    </a:cubicBezTo>
                    <a:cubicBezTo>
                      <a:pt x="12190" y="3"/>
                      <a:pt x="12191" y="2"/>
                      <a:pt x="12192" y="2"/>
                    </a:cubicBezTo>
                    <a:close/>
                    <a:moveTo>
                      <a:pt x="12200" y="2"/>
                    </a:moveTo>
                    <a:lnTo>
                      <a:pt x="12200" y="2"/>
                    </a:lnTo>
                    <a:cubicBezTo>
                      <a:pt x="12201" y="2"/>
                      <a:pt x="12202" y="3"/>
                      <a:pt x="12202" y="4"/>
                    </a:cubicBezTo>
                    <a:cubicBezTo>
                      <a:pt x="12202" y="5"/>
                      <a:pt x="12201" y="6"/>
                      <a:pt x="12200" y="6"/>
                    </a:cubicBezTo>
                    <a:lnTo>
                      <a:pt x="12200" y="6"/>
                    </a:lnTo>
                    <a:cubicBezTo>
                      <a:pt x="12199" y="6"/>
                      <a:pt x="12198" y="5"/>
                      <a:pt x="12198" y="4"/>
                    </a:cubicBezTo>
                    <a:cubicBezTo>
                      <a:pt x="12198" y="3"/>
                      <a:pt x="12199" y="2"/>
                      <a:pt x="12200" y="2"/>
                    </a:cubicBezTo>
                    <a:close/>
                    <a:moveTo>
                      <a:pt x="12208" y="2"/>
                    </a:moveTo>
                    <a:lnTo>
                      <a:pt x="12208" y="2"/>
                    </a:lnTo>
                    <a:cubicBezTo>
                      <a:pt x="12209" y="2"/>
                      <a:pt x="12210" y="3"/>
                      <a:pt x="12210" y="4"/>
                    </a:cubicBezTo>
                    <a:cubicBezTo>
                      <a:pt x="12210" y="5"/>
                      <a:pt x="12209" y="6"/>
                      <a:pt x="12208" y="6"/>
                    </a:cubicBezTo>
                    <a:lnTo>
                      <a:pt x="12208" y="6"/>
                    </a:lnTo>
                    <a:cubicBezTo>
                      <a:pt x="12207" y="6"/>
                      <a:pt x="12206" y="5"/>
                      <a:pt x="12206" y="4"/>
                    </a:cubicBezTo>
                    <a:cubicBezTo>
                      <a:pt x="12206" y="3"/>
                      <a:pt x="12207" y="2"/>
                      <a:pt x="12208" y="2"/>
                    </a:cubicBezTo>
                    <a:close/>
                    <a:moveTo>
                      <a:pt x="12216" y="2"/>
                    </a:moveTo>
                    <a:lnTo>
                      <a:pt x="12216" y="2"/>
                    </a:lnTo>
                    <a:cubicBezTo>
                      <a:pt x="12217" y="2"/>
                      <a:pt x="12218" y="3"/>
                      <a:pt x="12218" y="4"/>
                    </a:cubicBezTo>
                    <a:cubicBezTo>
                      <a:pt x="12218" y="5"/>
                      <a:pt x="12217" y="6"/>
                      <a:pt x="12216" y="6"/>
                    </a:cubicBezTo>
                    <a:lnTo>
                      <a:pt x="12216" y="6"/>
                    </a:lnTo>
                    <a:cubicBezTo>
                      <a:pt x="12215" y="6"/>
                      <a:pt x="12214" y="5"/>
                      <a:pt x="12214" y="4"/>
                    </a:cubicBezTo>
                    <a:cubicBezTo>
                      <a:pt x="12214" y="3"/>
                      <a:pt x="12215" y="2"/>
                      <a:pt x="12216" y="2"/>
                    </a:cubicBezTo>
                    <a:close/>
                    <a:moveTo>
                      <a:pt x="12224" y="2"/>
                    </a:moveTo>
                    <a:lnTo>
                      <a:pt x="12224" y="2"/>
                    </a:lnTo>
                    <a:cubicBezTo>
                      <a:pt x="12225" y="2"/>
                      <a:pt x="12226" y="3"/>
                      <a:pt x="12226" y="4"/>
                    </a:cubicBezTo>
                    <a:cubicBezTo>
                      <a:pt x="12226" y="5"/>
                      <a:pt x="12225" y="6"/>
                      <a:pt x="12224" y="6"/>
                    </a:cubicBezTo>
                    <a:lnTo>
                      <a:pt x="12224" y="6"/>
                    </a:lnTo>
                    <a:cubicBezTo>
                      <a:pt x="12223" y="6"/>
                      <a:pt x="12222" y="5"/>
                      <a:pt x="12222" y="4"/>
                    </a:cubicBezTo>
                    <a:cubicBezTo>
                      <a:pt x="12222" y="3"/>
                      <a:pt x="12223" y="2"/>
                      <a:pt x="12224" y="2"/>
                    </a:cubicBezTo>
                    <a:close/>
                    <a:moveTo>
                      <a:pt x="12232" y="2"/>
                    </a:moveTo>
                    <a:lnTo>
                      <a:pt x="12232" y="2"/>
                    </a:lnTo>
                    <a:cubicBezTo>
                      <a:pt x="12233" y="2"/>
                      <a:pt x="12234" y="3"/>
                      <a:pt x="12234" y="4"/>
                    </a:cubicBezTo>
                    <a:cubicBezTo>
                      <a:pt x="12234" y="5"/>
                      <a:pt x="12233" y="6"/>
                      <a:pt x="12232" y="6"/>
                    </a:cubicBezTo>
                    <a:lnTo>
                      <a:pt x="12232" y="6"/>
                    </a:lnTo>
                    <a:cubicBezTo>
                      <a:pt x="12231" y="6"/>
                      <a:pt x="12230" y="5"/>
                      <a:pt x="12230" y="4"/>
                    </a:cubicBezTo>
                    <a:cubicBezTo>
                      <a:pt x="12230" y="3"/>
                      <a:pt x="12231" y="2"/>
                      <a:pt x="12232" y="2"/>
                    </a:cubicBezTo>
                    <a:close/>
                    <a:moveTo>
                      <a:pt x="12240" y="2"/>
                    </a:moveTo>
                    <a:lnTo>
                      <a:pt x="12240" y="2"/>
                    </a:lnTo>
                    <a:cubicBezTo>
                      <a:pt x="12241" y="2"/>
                      <a:pt x="12242" y="3"/>
                      <a:pt x="12242" y="4"/>
                    </a:cubicBezTo>
                    <a:cubicBezTo>
                      <a:pt x="12242" y="5"/>
                      <a:pt x="12241" y="6"/>
                      <a:pt x="12240" y="6"/>
                    </a:cubicBezTo>
                    <a:lnTo>
                      <a:pt x="12240" y="6"/>
                    </a:lnTo>
                    <a:cubicBezTo>
                      <a:pt x="12239" y="6"/>
                      <a:pt x="12238" y="5"/>
                      <a:pt x="12238" y="4"/>
                    </a:cubicBezTo>
                    <a:cubicBezTo>
                      <a:pt x="12238" y="3"/>
                      <a:pt x="12239" y="2"/>
                      <a:pt x="12240" y="2"/>
                    </a:cubicBezTo>
                    <a:close/>
                    <a:moveTo>
                      <a:pt x="12248" y="2"/>
                    </a:moveTo>
                    <a:lnTo>
                      <a:pt x="12248" y="2"/>
                    </a:lnTo>
                    <a:cubicBezTo>
                      <a:pt x="12249" y="2"/>
                      <a:pt x="12250" y="3"/>
                      <a:pt x="12250" y="4"/>
                    </a:cubicBezTo>
                    <a:cubicBezTo>
                      <a:pt x="12250" y="5"/>
                      <a:pt x="12249" y="6"/>
                      <a:pt x="12248" y="6"/>
                    </a:cubicBezTo>
                    <a:lnTo>
                      <a:pt x="12248" y="6"/>
                    </a:lnTo>
                    <a:cubicBezTo>
                      <a:pt x="12247" y="6"/>
                      <a:pt x="12246" y="5"/>
                      <a:pt x="12246" y="4"/>
                    </a:cubicBezTo>
                    <a:cubicBezTo>
                      <a:pt x="12246" y="3"/>
                      <a:pt x="12247" y="2"/>
                      <a:pt x="12248" y="2"/>
                    </a:cubicBezTo>
                    <a:close/>
                    <a:moveTo>
                      <a:pt x="12256" y="2"/>
                    </a:moveTo>
                    <a:lnTo>
                      <a:pt x="12256" y="2"/>
                    </a:lnTo>
                    <a:cubicBezTo>
                      <a:pt x="12257" y="2"/>
                      <a:pt x="12258" y="3"/>
                      <a:pt x="12258" y="4"/>
                    </a:cubicBezTo>
                    <a:cubicBezTo>
                      <a:pt x="12258" y="5"/>
                      <a:pt x="12257" y="6"/>
                      <a:pt x="12256" y="6"/>
                    </a:cubicBezTo>
                    <a:lnTo>
                      <a:pt x="12256" y="6"/>
                    </a:lnTo>
                    <a:cubicBezTo>
                      <a:pt x="12255" y="6"/>
                      <a:pt x="12254" y="5"/>
                      <a:pt x="12254" y="4"/>
                    </a:cubicBezTo>
                    <a:cubicBezTo>
                      <a:pt x="12254" y="3"/>
                      <a:pt x="12255" y="2"/>
                      <a:pt x="12256" y="2"/>
                    </a:cubicBezTo>
                    <a:close/>
                    <a:moveTo>
                      <a:pt x="12264" y="2"/>
                    </a:moveTo>
                    <a:lnTo>
                      <a:pt x="12264" y="2"/>
                    </a:lnTo>
                    <a:cubicBezTo>
                      <a:pt x="12265" y="2"/>
                      <a:pt x="12266" y="3"/>
                      <a:pt x="12266" y="4"/>
                    </a:cubicBezTo>
                    <a:cubicBezTo>
                      <a:pt x="12266" y="5"/>
                      <a:pt x="12265" y="6"/>
                      <a:pt x="12264" y="6"/>
                    </a:cubicBezTo>
                    <a:lnTo>
                      <a:pt x="12264" y="6"/>
                    </a:lnTo>
                    <a:cubicBezTo>
                      <a:pt x="12263" y="6"/>
                      <a:pt x="12262" y="5"/>
                      <a:pt x="12262" y="4"/>
                    </a:cubicBezTo>
                    <a:cubicBezTo>
                      <a:pt x="12262" y="3"/>
                      <a:pt x="12263" y="2"/>
                      <a:pt x="12264" y="2"/>
                    </a:cubicBezTo>
                    <a:close/>
                    <a:moveTo>
                      <a:pt x="12272" y="2"/>
                    </a:moveTo>
                    <a:lnTo>
                      <a:pt x="12272" y="2"/>
                    </a:lnTo>
                    <a:cubicBezTo>
                      <a:pt x="12273" y="2"/>
                      <a:pt x="12274" y="3"/>
                      <a:pt x="12274" y="4"/>
                    </a:cubicBezTo>
                    <a:cubicBezTo>
                      <a:pt x="12274" y="5"/>
                      <a:pt x="12273" y="6"/>
                      <a:pt x="12272" y="6"/>
                    </a:cubicBezTo>
                    <a:lnTo>
                      <a:pt x="12272" y="6"/>
                    </a:lnTo>
                    <a:cubicBezTo>
                      <a:pt x="12271" y="6"/>
                      <a:pt x="12270" y="5"/>
                      <a:pt x="12270" y="4"/>
                    </a:cubicBezTo>
                    <a:cubicBezTo>
                      <a:pt x="12270" y="3"/>
                      <a:pt x="12271" y="2"/>
                      <a:pt x="12272" y="2"/>
                    </a:cubicBezTo>
                    <a:close/>
                    <a:moveTo>
                      <a:pt x="12280" y="2"/>
                    </a:moveTo>
                    <a:lnTo>
                      <a:pt x="12280" y="2"/>
                    </a:lnTo>
                    <a:cubicBezTo>
                      <a:pt x="12281" y="2"/>
                      <a:pt x="12282" y="3"/>
                      <a:pt x="12282" y="4"/>
                    </a:cubicBezTo>
                    <a:cubicBezTo>
                      <a:pt x="12282" y="5"/>
                      <a:pt x="12281" y="6"/>
                      <a:pt x="12280" y="6"/>
                    </a:cubicBezTo>
                    <a:lnTo>
                      <a:pt x="12280" y="6"/>
                    </a:lnTo>
                    <a:cubicBezTo>
                      <a:pt x="12279" y="6"/>
                      <a:pt x="12278" y="5"/>
                      <a:pt x="12278" y="4"/>
                    </a:cubicBezTo>
                    <a:cubicBezTo>
                      <a:pt x="12278" y="3"/>
                      <a:pt x="12279" y="2"/>
                      <a:pt x="12280" y="2"/>
                    </a:cubicBezTo>
                    <a:close/>
                    <a:moveTo>
                      <a:pt x="12288" y="2"/>
                    </a:moveTo>
                    <a:lnTo>
                      <a:pt x="12288" y="2"/>
                    </a:lnTo>
                    <a:cubicBezTo>
                      <a:pt x="12289" y="2"/>
                      <a:pt x="12290" y="3"/>
                      <a:pt x="12290" y="4"/>
                    </a:cubicBezTo>
                    <a:cubicBezTo>
                      <a:pt x="12290" y="5"/>
                      <a:pt x="12289" y="6"/>
                      <a:pt x="12288" y="6"/>
                    </a:cubicBezTo>
                    <a:lnTo>
                      <a:pt x="12288" y="6"/>
                    </a:lnTo>
                    <a:cubicBezTo>
                      <a:pt x="12287" y="6"/>
                      <a:pt x="12286" y="5"/>
                      <a:pt x="12286" y="4"/>
                    </a:cubicBezTo>
                    <a:cubicBezTo>
                      <a:pt x="12286" y="3"/>
                      <a:pt x="12287" y="2"/>
                      <a:pt x="12288" y="2"/>
                    </a:cubicBezTo>
                    <a:close/>
                    <a:moveTo>
                      <a:pt x="12296" y="2"/>
                    </a:moveTo>
                    <a:lnTo>
                      <a:pt x="12296" y="2"/>
                    </a:lnTo>
                    <a:cubicBezTo>
                      <a:pt x="12297" y="2"/>
                      <a:pt x="12298" y="3"/>
                      <a:pt x="12298" y="4"/>
                    </a:cubicBezTo>
                    <a:cubicBezTo>
                      <a:pt x="12298" y="5"/>
                      <a:pt x="12297" y="6"/>
                      <a:pt x="12296" y="6"/>
                    </a:cubicBezTo>
                    <a:lnTo>
                      <a:pt x="12296" y="6"/>
                    </a:lnTo>
                    <a:cubicBezTo>
                      <a:pt x="12295" y="6"/>
                      <a:pt x="12294" y="5"/>
                      <a:pt x="12294" y="4"/>
                    </a:cubicBezTo>
                    <a:cubicBezTo>
                      <a:pt x="12294" y="3"/>
                      <a:pt x="12295" y="2"/>
                      <a:pt x="12296" y="2"/>
                    </a:cubicBezTo>
                    <a:close/>
                    <a:moveTo>
                      <a:pt x="12304" y="2"/>
                    </a:moveTo>
                    <a:lnTo>
                      <a:pt x="12304" y="2"/>
                    </a:lnTo>
                    <a:cubicBezTo>
                      <a:pt x="12305" y="2"/>
                      <a:pt x="12306" y="3"/>
                      <a:pt x="12306" y="4"/>
                    </a:cubicBezTo>
                    <a:cubicBezTo>
                      <a:pt x="12306" y="5"/>
                      <a:pt x="12305" y="6"/>
                      <a:pt x="12304" y="6"/>
                    </a:cubicBezTo>
                    <a:lnTo>
                      <a:pt x="12304" y="6"/>
                    </a:lnTo>
                    <a:cubicBezTo>
                      <a:pt x="12303" y="6"/>
                      <a:pt x="12302" y="5"/>
                      <a:pt x="12302" y="4"/>
                    </a:cubicBezTo>
                    <a:cubicBezTo>
                      <a:pt x="12302" y="3"/>
                      <a:pt x="12303" y="2"/>
                      <a:pt x="12304" y="2"/>
                    </a:cubicBezTo>
                    <a:close/>
                    <a:moveTo>
                      <a:pt x="12312" y="2"/>
                    </a:moveTo>
                    <a:lnTo>
                      <a:pt x="12312" y="2"/>
                    </a:lnTo>
                    <a:cubicBezTo>
                      <a:pt x="12313" y="2"/>
                      <a:pt x="12314" y="3"/>
                      <a:pt x="12314" y="4"/>
                    </a:cubicBezTo>
                    <a:cubicBezTo>
                      <a:pt x="12314" y="5"/>
                      <a:pt x="12313" y="6"/>
                      <a:pt x="12312" y="6"/>
                    </a:cubicBezTo>
                    <a:lnTo>
                      <a:pt x="12312" y="6"/>
                    </a:lnTo>
                    <a:cubicBezTo>
                      <a:pt x="12311" y="6"/>
                      <a:pt x="12310" y="5"/>
                      <a:pt x="12310" y="4"/>
                    </a:cubicBezTo>
                    <a:cubicBezTo>
                      <a:pt x="12310" y="3"/>
                      <a:pt x="12311" y="2"/>
                      <a:pt x="12312" y="2"/>
                    </a:cubicBezTo>
                    <a:close/>
                    <a:moveTo>
                      <a:pt x="12320" y="2"/>
                    </a:moveTo>
                    <a:lnTo>
                      <a:pt x="12320" y="2"/>
                    </a:lnTo>
                    <a:cubicBezTo>
                      <a:pt x="12321" y="2"/>
                      <a:pt x="12322" y="3"/>
                      <a:pt x="12322" y="4"/>
                    </a:cubicBezTo>
                    <a:cubicBezTo>
                      <a:pt x="12322" y="5"/>
                      <a:pt x="12321" y="6"/>
                      <a:pt x="12320" y="6"/>
                    </a:cubicBezTo>
                    <a:lnTo>
                      <a:pt x="12320" y="6"/>
                    </a:lnTo>
                    <a:cubicBezTo>
                      <a:pt x="12319" y="6"/>
                      <a:pt x="12318" y="5"/>
                      <a:pt x="12318" y="4"/>
                    </a:cubicBezTo>
                    <a:cubicBezTo>
                      <a:pt x="12318" y="3"/>
                      <a:pt x="12319" y="2"/>
                      <a:pt x="12320" y="2"/>
                    </a:cubicBezTo>
                    <a:close/>
                    <a:moveTo>
                      <a:pt x="12328" y="2"/>
                    </a:moveTo>
                    <a:lnTo>
                      <a:pt x="12328" y="2"/>
                    </a:lnTo>
                    <a:cubicBezTo>
                      <a:pt x="12329" y="2"/>
                      <a:pt x="12330" y="3"/>
                      <a:pt x="12330" y="4"/>
                    </a:cubicBezTo>
                    <a:cubicBezTo>
                      <a:pt x="12330" y="5"/>
                      <a:pt x="12329" y="6"/>
                      <a:pt x="12328" y="6"/>
                    </a:cubicBezTo>
                    <a:lnTo>
                      <a:pt x="12328" y="6"/>
                    </a:lnTo>
                    <a:cubicBezTo>
                      <a:pt x="12327" y="6"/>
                      <a:pt x="12326" y="5"/>
                      <a:pt x="12326" y="4"/>
                    </a:cubicBezTo>
                    <a:cubicBezTo>
                      <a:pt x="12326" y="3"/>
                      <a:pt x="12327" y="2"/>
                      <a:pt x="12328" y="2"/>
                    </a:cubicBezTo>
                    <a:close/>
                    <a:moveTo>
                      <a:pt x="12336" y="2"/>
                    </a:moveTo>
                    <a:lnTo>
                      <a:pt x="12336" y="2"/>
                    </a:lnTo>
                    <a:cubicBezTo>
                      <a:pt x="12337" y="2"/>
                      <a:pt x="12338" y="3"/>
                      <a:pt x="12338" y="4"/>
                    </a:cubicBezTo>
                    <a:cubicBezTo>
                      <a:pt x="12338" y="5"/>
                      <a:pt x="12337" y="6"/>
                      <a:pt x="12336" y="6"/>
                    </a:cubicBezTo>
                    <a:lnTo>
                      <a:pt x="12336" y="6"/>
                    </a:lnTo>
                    <a:cubicBezTo>
                      <a:pt x="12335" y="6"/>
                      <a:pt x="12334" y="5"/>
                      <a:pt x="12334" y="4"/>
                    </a:cubicBezTo>
                    <a:cubicBezTo>
                      <a:pt x="12334" y="3"/>
                      <a:pt x="12335" y="2"/>
                      <a:pt x="12336" y="2"/>
                    </a:cubicBezTo>
                    <a:close/>
                    <a:moveTo>
                      <a:pt x="12344" y="2"/>
                    </a:moveTo>
                    <a:lnTo>
                      <a:pt x="12344" y="2"/>
                    </a:lnTo>
                    <a:cubicBezTo>
                      <a:pt x="12345" y="2"/>
                      <a:pt x="12346" y="3"/>
                      <a:pt x="12346" y="4"/>
                    </a:cubicBezTo>
                    <a:cubicBezTo>
                      <a:pt x="12346" y="5"/>
                      <a:pt x="12345" y="6"/>
                      <a:pt x="12344" y="6"/>
                    </a:cubicBezTo>
                    <a:lnTo>
                      <a:pt x="12344" y="6"/>
                    </a:lnTo>
                    <a:cubicBezTo>
                      <a:pt x="12343" y="6"/>
                      <a:pt x="12342" y="5"/>
                      <a:pt x="12342" y="4"/>
                    </a:cubicBezTo>
                    <a:cubicBezTo>
                      <a:pt x="12342" y="3"/>
                      <a:pt x="12343" y="2"/>
                      <a:pt x="12344" y="2"/>
                    </a:cubicBezTo>
                    <a:close/>
                    <a:moveTo>
                      <a:pt x="12352" y="2"/>
                    </a:moveTo>
                    <a:lnTo>
                      <a:pt x="12352" y="2"/>
                    </a:lnTo>
                    <a:cubicBezTo>
                      <a:pt x="12353" y="2"/>
                      <a:pt x="12354" y="3"/>
                      <a:pt x="12354" y="4"/>
                    </a:cubicBezTo>
                    <a:cubicBezTo>
                      <a:pt x="12354" y="5"/>
                      <a:pt x="12353" y="6"/>
                      <a:pt x="12352" y="6"/>
                    </a:cubicBezTo>
                    <a:lnTo>
                      <a:pt x="12352" y="6"/>
                    </a:lnTo>
                    <a:cubicBezTo>
                      <a:pt x="12351" y="6"/>
                      <a:pt x="12350" y="5"/>
                      <a:pt x="12350" y="4"/>
                    </a:cubicBezTo>
                    <a:cubicBezTo>
                      <a:pt x="12350" y="3"/>
                      <a:pt x="12351" y="2"/>
                      <a:pt x="12352" y="2"/>
                    </a:cubicBezTo>
                    <a:close/>
                    <a:moveTo>
                      <a:pt x="12360" y="2"/>
                    </a:moveTo>
                    <a:lnTo>
                      <a:pt x="12360" y="2"/>
                    </a:lnTo>
                    <a:cubicBezTo>
                      <a:pt x="12361" y="2"/>
                      <a:pt x="12362" y="3"/>
                      <a:pt x="12362" y="4"/>
                    </a:cubicBezTo>
                    <a:cubicBezTo>
                      <a:pt x="12362" y="5"/>
                      <a:pt x="12361" y="6"/>
                      <a:pt x="12360" y="6"/>
                    </a:cubicBezTo>
                    <a:lnTo>
                      <a:pt x="12360" y="6"/>
                    </a:lnTo>
                    <a:cubicBezTo>
                      <a:pt x="12359" y="6"/>
                      <a:pt x="12358" y="5"/>
                      <a:pt x="12358" y="4"/>
                    </a:cubicBezTo>
                    <a:cubicBezTo>
                      <a:pt x="12358" y="3"/>
                      <a:pt x="12359" y="2"/>
                      <a:pt x="12360" y="2"/>
                    </a:cubicBezTo>
                    <a:close/>
                    <a:moveTo>
                      <a:pt x="12368" y="2"/>
                    </a:moveTo>
                    <a:lnTo>
                      <a:pt x="12368" y="2"/>
                    </a:lnTo>
                    <a:cubicBezTo>
                      <a:pt x="12369" y="2"/>
                      <a:pt x="12370" y="3"/>
                      <a:pt x="12370" y="4"/>
                    </a:cubicBezTo>
                    <a:cubicBezTo>
                      <a:pt x="12370" y="5"/>
                      <a:pt x="12369" y="6"/>
                      <a:pt x="12368" y="6"/>
                    </a:cubicBezTo>
                    <a:lnTo>
                      <a:pt x="12368" y="6"/>
                    </a:lnTo>
                    <a:cubicBezTo>
                      <a:pt x="12367" y="6"/>
                      <a:pt x="12366" y="5"/>
                      <a:pt x="12366" y="4"/>
                    </a:cubicBezTo>
                    <a:cubicBezTo>
                      <a:pt x="12366" y="3"/>
                      <a:pt x="12367" y="2"/>
                      <a:pt x="12368" y="2"/>
                    </a:cubicBezTo>
                    <a:close/>
                    <a:moveTo>
                      <a:pt x="12376" y="2"/>
                    </a:moveTo>
                    <a:lnTo>
                      <a:pt x="12376" y="2"/>
                    </a:lnTo>
                    <a:cubicBezTo>
                      <a:pt x="12377" y="2"/>
                      <a:pt x="12378" y="3"/>
                      <a:pt x="12378" y="4"/>
                    </a:cubicBezTo>
                    <a:cubicBezTo>
                      <a:pt x="12378" y="5"/>
                      <a:pt x="12377" y="6"/>
                      <a:pt x="12376" y="6"/>
                    </a:cubicBezTo>
                    <a:lnTo>
                      <a:pt x="12376" y="6"/>
                    </a:lnTo>
                    <a:cubicBezTo>
                      <a:pt x="12375" y="6"/>
                      <a:pt x="12374" y="5"/>
                      <a:pt x="12374" y="4"/>
                    </a:cubicBezTo>
                    <a:cubicBezTo>
                      <a:pt x="12374" y="3"/>
                      <a:pt x="12375" y="2"/>
                      <a:pt x="12376" y="2"/>
                    </a:cubicBezTo>
                    <a:close/>
                    <a:moveTo>
                      <a:pt x="12384" y="2"/>
                    </a:moveTo>
                    <a:lnTo>
                      <a:pt x="12384" y="2"/>
                    </a:lnTo>
                    <a:cubicBezTo>
                      <a:pt x="12385" y="2"/>
                      <a:pt x="12386" y="3"/>
                      <a:pt x="12386" y="4"/>
                    </a:cubicBezTo>
                    <a:cubicBezTo>
                      <a:pt x="12386" y="5"/>
                      <a:pt x="12385" y="6"/>
                      <a:pt x="12384" y="6"/>
                    </a:cubicBezTo>
                    <a:lnTo>
                      <a:pt x="12384" y="6"/>
                    </a:lnTo>
                    <a:cubicBezTo>
                      <a:pt x="12383" y="6"/>
                      <a:pt x="12382" y="5"/>
                      <a:pt x="12382" y="4"/>
                    </a:cubicBezTo>
                    <a:cubicBezTo>
                      <a:pt x="12382" y="3"/>
                      <a:pt x="12383" y="2"/>
                      <a:pt x="12384" y="2"/>
                    </a:cubicBezTo>
                    <a:close/>
                    <a:moveTo>
                      <a:pt x="12392" y="2"/>
                    </a:moveTo>
                    <a:lnTo>
                      <a:pt x="12392" y="2"/>
                    </a:lnTo>
                    <a:cubicBezTo>
                      <a:pt x="12393" y="2"/>
                      <a:pt x="12394" y="3"/>
                      <a:pt x="12394" y="4"/>
                    </a:cubicBezTo>
                    <a:cubicBezTo>
                      <a:pt x="12394" y="5"/>
                      <a:pt x="12393" y="6"/>
                      <a:pt x="12392" y="6"/>
                    </a:cubicBezTo>
                    <a:lnTo>
                      <a:pt x="12392" y="6"/>
                    </a:lnTo>
                    <a:cubicBezTo>
                      <a:pt x="12391" y="6"/>
                      <a:pt x="12390" y="5"/>
                      <a:pt x="12390" y="4"/>
                    </a:cubicBezTo>
                    <a:cubicBezTo>
                      <a:pt x="12390" y="3"/>
                      <a:pt x="12391" y="2"/>
                      <a:pt x="12392" y="2"/>
                    </a:cubicBezTo>
                    <a:close/>
                    <a:moveTo>
                      <a:pt x="12400" y="2"/>
                    </a:moveTo>
                    <a:lnTo>
                      <a:pt x="12400" y="2"/>
                    </a:lnTo>
                    <a:cubicBezTo>
                      <a:pt x="12401" y="2"/>
                      <a:pt x="12402" y="3"/>
                      <a:pt x="12402" y="4"/>
                    </a:cubicBezTo>
                    <a:cubicBezTo>
                      <a:pt x="12402" y="5"/>
                      <a:pt x="12401" y="6"/>
                      <a:pt x="12400" y="6"/>
                    </a:cubicBezTo>
                    <a:lnTo>
                      <a:pt x="12400" y="6"/>
                    </a:lnTo>
                    <a:cubicBezTo>
                      <a:pt x="12399" y="6"/>
                      <a:pt x="12398" y="5"/>
                      <a:pt x="12398" y="4"/>
                    </a:cubicBezTo>
                    <a:cubicBezTo>
                      <a:pt x="12398" y="3"/>
                      <a:pt x="12399" y="2"/>
                      <a:pt x="12400" y="2"/>
                    </a:cubicBezTo>
                    <a:close/>
                    <a:moveTo>
                      <a:pt x="12408" y="2"/>
                    </a:moveTo>
                    <a:lnTo>
                      <a:pt x="12408" y="2"/>
                    </a:lnTo>
                    <a:cubicBezTo>
                      <a:pt x="12409" y="2"/>
                      <a:pt x="12410" y="3"/>
                      <a:pt x="12410" y="4"/>
                    </a:cubicBezTo>
                    <a:cubicBezTo>
                      <a:pt x="12410" y="5"/>
                      <a:pt x="12409" y="6"/>
                      <a:pt x="12408" y="6"/>
                    </a:cubicBezTo>
                    <a:lnTo>
                      <a:pt x="12408" y="6"/>
                    </a:lnTo>
                    <a:cubicBezTo>
                      <a:pt x="12407" y="6"/>
                      <a:pt x="12406" y="5"/>
                      <a:pt x="12406" y="4"/>
                    </a:cubicBezTo>
                    <a:cubicBezTo>
                      <a:pt x="12406" y="3"/>
                      <a:pt x="12407" y="2"/>
                      <a:pt x="12408" y="2"/>
                    </a:cubicBezTo>
                    <a:close/>
                    <a:moveTo>
                      <a:pt x="12416" y="2"/>
                    </a:moveTo>
                    <a:lnTo>
                      <a:pt x="12416" y="2"/>
                    </a:lnTo>
                    <a:cubicBezTo>
                      <a:pt x="12417" y="2"/>
                      <a:pt x="12418" y="3"/>
                      <a:pt x="12418" y="4"/>
                    </a:cubicBezTo>
                    <a:cubicBezTo>
                      <a:pt x="12418" y="5"/>
                      <a:pt x="12417" y="6"/>
                      <a:pt x="12416" y="6"/>
                    </a:cubicBezTo>
                    <a:lnTo>
                      <a:pt x="12416" y="6"/>
                    </a:lnTo>
                    <a:cubicBezTo>
                      <a:pt x="12415" y="6"/>
                      <a:pt x="12414" y="5"/>
                      <a:pt x="12414" y="4"/>
                    </a:cubicBezTo>
                    <a:cubicBezTo>
                      <a:pt x="12414" y="3"/>
                      <a:pt x="12415" y="2"/>
                      <a:pt x="12416" y="2"/>
                    </a:cubicBezTo>
                    <a:close/>
                    <a:moveTo>
                      <a:pt x="12424" y="2"/>
                    </a:moveTo>
                    <a:lnTo>
                      <a:pt x="12424" y="2"/>
                    </a:lnTo>
                    <a:cubicBezTo>
                      <a:pt x="12425" y="2"/>
                      <a:pt x="12426" y="3"/>
                      <a:pt x="12426" y="4"/>
                    </a:cubicBezTo>
                    <a:cubicBezTo>
                      <a:pt x="12426" y="5"/>
                      <a:pt x="12425" y="6"/>
                      <a:pt x="12424" y="6"/>
                    </a:cubicBezTo>
                    <a:lnTo>
                      <a:pt x="12424" y="6"/>
                    </a:lnTo>
                    <a:cubicBezTo>
                      <a:pt x="12423" y="6"/>
                      <a:pt x="12422" y="5"/>
                      <a:pt x="12422" y="4"/>
                    </a:cubicBezTo>
                    <a:cubicBezTo>
                      <a:pt x="12422" y="3"/>
                      <a:pt x="12423" y="2"/>
                      <a:pt x="12424" y="2"/>
                    </a:cubicBezTo>
                    <a:close/>
                    <a:moveTo>
                      <a:pt x="12432" y="2"/>
                    </a:moveTo>
                    <a:lnTo>
                      <a:pt x="12432" y="2"/>
                    </a:lnTo>
                    <a:cubicBezTo>
                      <a:pt x="12434" y="2"/>
                      <a:pt x="12434" y="3"/>
                      <a:pt x="12434" y="4"/>
                    </a:cubicBezTo>
                    <a:cubicBezTo>
                      <a:pt x="12434" y="5"/>
                      <a:pt x="12434" y="6"/>
                      <a:pt x="12432" y="6"/>
                    </a:cubicBezTo>
                    <a:lnTo>
                      <a:pt x="12432" y="6"/>
                    </a:lnTo>
                    <a:cubicBezTo>
                      <a:pt x="12431" y="6"/>
                      <a:pt x="12430" y="5"/>
                      <a:pt x="12430" y="4"/>
                    </a:cubicBezTo>
                    <a:cubicBezTo>
                      <a:pt x="12430" y="3"/>
                      <a:pt x="12431" y="2"/>
                      <a:pt x="12432" y="2"/>
                    </a:cubicBezTo>
                    <a:close/>
                    <a:moveTo>
                      <a:pt x="12440" y="2"/>
                    </a:moveTo>
                    <a:lnTo>
                      <a:pt x="12440" y="2"/>
                    </a:lnTo>
                    <a:cubicBezTo>
                      <a:pt x="12442" y="2"/>
                      <a:pt x="12442" y="3"/>
                      <a:pt x="12442" y="4"/>
                    </a:cubicBezTo>
                    <a:cubicBezTo>
                      <a:pt x="12442" y="5"/>
                      <a:pt x="12442" y="6"/>
                      <a:pt x="12440" y="6"/>
                    </a:cubicBezTo>
                    <a:lnTo>
                      <a:pt x="12440" y="6"/>
                    </a:lnTo>
                    <a:cubicBezTo>
                      <a:pt x="12439" y="6"/>
                      <a:pt x="12438" y="5"/>
                      <a:pt x="12438" y="4"/>
                    </a:cubicBezTo>
                    <a:cubicBezTo>
                      <a:pt x="12438" y="3"/>
                      <a:pt x="12439" y="2"/>
                      <a:pt x="12440" y="2"/>
                    </a:cubicBezTo>
                    <a:close/>
                    <a:moveTo>
                      <a:pt x="12448" y="2"/>
                    </a:moveTo>
                    <a:lnTo>
                      <a:pt x="12448" y="2"/>
                    </a:lnTo>
                    <a:cubicBezTo>
                      <a:pt x="12450" y="2"/>
                      <a:pt x="12450" y="3"/>
                      <a:pt x="12450" y="4"/>
                    </a:cubicBezTo>
                    <a:cubicBezTo>
                      <a:pt x="12450" y="5"/>
                      <a:pt x="12450" y="6"/>
                      <a:pt x="12448" y="6"/>
                    </a:cubicBezTo>
                    <a:lnTo>
                      <a:pt x="12448" y="6"/>
                    </a:lnTo>
                    <a:cubicBezTo>
                      <a:pt x="12447" y="6"/>
                      <a:pt x="12446" y="5"/>
                      <a:pt x="12446" y="4"/>
                    </a:cubicBezTo>
                    <a:cubicBezTo>
                      <a:pt x="12446" y="3"/>
                      <a:pt x="12447" y="2"/>
                      <a:pt x="12448" y="2"/>
                    </a:cubicBezTo>
                    <a:close/>
                    <a:moveTo>
                      <a:pt x="12456" y="2"/>
                    </a:moveTo>
                    <a:lnTo>
                      <a:pt x="12456" y="2"/>
                    </a:lnTo>
                    <a:cubicBezTo>
                      <a:pt x="12458" y="2"/>
                      <a:pt x="12458" y="3"/>
                      <a:pt x="12458" y="4"/>
                    </a:cubicBezTo>
                    <a:cubicBezTo>
                      <a:pt x="12458" y="5"/>
                      <a:pt x="12458" y="6"/>
                      <a:pt x="12456" y="6"/>
                    </a:cubicBezTo>
                    <a:lnTo>
                      <a:pt x="12456" y="6"/>
                    </a:lnTo>
                    <a:cubicBezTo>
                      <a:pt x="12455" y="6"/>
                      <a:pt x="12454" y="5"/>
                      <a:pt x="12454" y="4"/>
                    </a:cubicBezTo>
                    <a:cubicBezTo>
                      <a:pt x="12454" y="3"/>
                      <a:pt x="12455" y="2"/>
                      <a:pt x="12456" y="2"/>
                    </a:cubicBezTo>
                    <a:close/>
                    <a:moveTo>
                      <a:pt x="12464" y="2"/>
                    </a:moveTo>
                    <a:lnTo>
                      <a:pt x="12464" y="2"/>
                    </a:lnTo>
                    <a:cubicBezTo>
                      <a:pt x="12466" y="2"/>
                      <a:pt x="12466" y="3"/>
                      <a:pt x="12466" y="4"/>
                    </a:cubicBezTo>
                    <a:cubicBezTo>
                      <a:pt x="12466" y="5"/>
                      <a:pt x="12466" y="6"/>
                      <a:pt x="12464" y="6"/>
                    </a:cubicBezTo>
                    <a:lnTo>
                      <a:pt x="12464" y="6"/>
                    </a:lnTo>
                    <a:cubicBezTo>
                      <a:pt x="12463" y="6"/>
                      <a:pt x="12462" y="5"/>
                      <a:pt x="12462" y="4"/>
                    </a:cubicBezTo>
                    <a:cubicBezTo>
                      <a:pt x="12462" y="3"/>
                      <a:pt x="12463" y="2"/>
                      <a:pt x="12464" y="2"/>
                    </a:cubicBezTo>
                    <a:close/>
                    <a:moveTo>
                      <a:pt x="12472" y="2"/>
                    </a:moveTo>
                    <a:lnTo>
                      <a:pt x="12472" y="2"/>
                    </a:lnTo>
                    <a:cubicBezTo>
                      <a:pt x="12474" y="2"/>
                      <a:pt x="12474" y="3"/>
                      <a:pt x="12474" y="4"/>
                    </a:cubicBezTo>
                    <a:cubicBezTo>
                      <a:pt x="12474" y="5"/>
                      <a:pt x="12474" y="6"/>
                      <a:pt x="12472" y="6"/>
                    </a:cubicBezTo>
                    <a:lnTo>
                      <a:pt x="12472" y="6"/>
                    </a:lnTo>
                    <a:cubicBezTo>
                      <a:pt x="12471" y="6"/>
                      <a:pt x="12470" y="5"/>
                      <a:pt x="12470" y="4"/>
                    </a:cubicBezTo>
                    <a:cubicBezTo>
                      <a:pt x="12470" y="3"/>
                      <a:pt x="12471" y="2"/>
                      <a:pt x="12472" y="2"/>
                    </a:cubicBezTo>
                    <a:close/>
                    <a:moveTo>
                      <a:pt x="12480" y="2"/>
                    </a:moveTo>
                    <a:lnTo>
                      <a:pt x="12480" y="2"/>
                    </a:lnTo>
                    <a:cubicBezTo>
                      <a:pt x="12482" y="2"/>
                      <a:pt x="12482" y="3"/>
                      <a:pt x="12482" y="4"/>
                    </a:cubicBezTo>
                    <a:cubicBezTo>
                      <a:pt x="12482" y="5"/>
                      <a:pt x="12482" y="6"/>
                      <a:pt x="12480" y="6"/>
                    </a:cubicBezTo>
                    <a:lnTo>
                      <a:pt x="12480" y="6"/>
                    </a:lnTo>
                    <a:cubicBezTo>
                      <a:pt x="12479" y="6"/>
                      <a:pt x="12478" y="5"/>
                      <a:pt x="12478" y="4"/>
                    </a:cubicBezTo>
                    <a:cubicBezTo>
                      <a:pt x="12478" y="3"/>
                      <a:pt x="12479" y="2"/>
                      <a:pt x="12480" y="2"/>
                    </a:cubicBezTo>
                    <a:close/>
                    <a:moveTo>
                      <a:pt x="12488" y="2"/>
                    </a:moveTo>
                    <a:lnTo>
                      <a:pt x="12488" y="2"/>
                    </a:lnTo>
                    <a:cubicBezTo>
                      <a:pt x="12490" y="2"/>
                      <a:pt x="12490" y="3"/>
                      <a:pt x="12490" y="4"/>
                    </a:cubicBezTo>
                    <a:cubicBezTo>
                      <a:pt x="12490" y="5"/>
                      <a:pt x="12490" y="6"/>
                      <a:pt x="12488" y="6"/>
                    </a:cubicBezTo>
                    <a:lnTo>
                      <a:pt x="12488" y="6"/>
                    </a:lnTo>
                    <a:cubicBezTo>
                      <a:pt x="12487" y="6"/>
                      <a:pt x="12486" y="5"/>
                      <a:pt x="12486" y="4"/>
                    </a:cubicBezTo>
                    <a:cubicBezTo>
                      <a:pt x="12486" y="3"/>
                      <a:pt x="12487" y="2"/>
                      <a:pt x="12488" y="2"/>
                    </a:cubicBezTo>
                    <a:close/>
                    <a:moveTo>
                      <a:pt x="12496" y="2"/>
                    </a:moveTo>
                    <a:lnTo>
                      <a:pt x="12496" y="2"/>
                    </a:lnTo>
                    <a:cubicBezTo>
                      <a:pt x="12498" y="2"/>
                      <a:pt x="12498" y="3"/>
                      <a:pt x="12498" y="4"/>
                    </a:cubicBezTo>
                    <a:cubicBezTo>
                      <a:pt x="12498" y="5"/>
                      <a:pt x="12498" y="6"/>
                      <a:pt x="12496" y="6"/>
                    </a:cubicBezTo>
                    <a:lnTo>
                      <a:pt x="12496" y="6"/>
                    </a:lnTo>
                    <a:cubicBezTo>
                      <a:pt x="12495" y="6"/>
                      <a:pt x="12494" y="5"/>
                      <a:pt x="12494" y="4"/>
                    </a:cubicBezTo>
                    <a:cubicBezTo>
                      <a:pt x="12494" y="3"/>
                      <a:pt x="12495" y="2"/>
                      <a:pt x="12496" y="2"/>
                    </a:cubicBezTo>
                    <a:close/>
                    <a:moveTo>
                      <a:pt x="12504" y="2"/>
                    </a:moveTo>
                    <a:lnTo>
                      <a:pt x="12504" y="2"/>
                    </a:lnTo>
                    <a:cubicBezTo>
                      <a:pt x="12506" y="2"/>
                      <a:pt x="12506" y="3"/>
                      <a:pt x="12506" y="4"/>
                    </a:cubicBezTo>
                    <a:cubicBezTo>
                      <a:pt x="12506" y="5"/>
                      <a:pt x="12506" y="6"/>
                      <a:pt x="12504" y="6"/>
                    </a:cubicBezTo>
                    <a:lnTo>
                      <a:pt x="12504" y="6"/>
                    </a:lnTo>
                    <a:cubicBezTo>
                      <a:pt x="12503" y="6"/>
                      <a:pt x="12502" y="5"/>
                      <a:pt x="12502" y="4"/>
                    </a:cubicBezTo>
                    <a:cubicBezTo>
                      <a:pt x="12502" y="3"/>
                      <a:pt x="12503" y="2"/>
                      <a:pt x="12504" y="2"/>
                    </a:cubicBezTo>
                    <a:close/>
                    <a:moveTo>
                      <a:pt x="12512" y="2"/>
                    </a:moveTo>
                    <a:lnTo>
                      <a:pt x="12512" y="2"/>
                    </a:lnTo>
                    <a:cubicBezTo>
                      <a:pt x="12514" y="2"/>
                      <a:pt x="12514" y="3"/>
                      <a:pt x="12514" y="4"/>
                    </a:cubicBezTo>
                    <a:cubicBezTo>
                      <a:pt x="12514" y="5"/>
                      <a:pt x="12514" y="6"/>
                      <a:pt x="12512" y="6"/>
                    </a:cubicBezTo>
                    <a:lnTo>
                      <a:pt x="12512" y="6"/>
                    </a:lnTo>
                    <a:cubicBezTo>
                      <a:pt x="12511" y="6"/>
                      <a:pt x="12510" y="5"/>
                      <a:pt x="12510" y="4"/>
                    </a:cubicBezTo>
                    <a:cubicBezTo>
                      <a:pt x="12510" y="3"/>
                      <a:pt x="12511" y="2"/>
                      <a:pt x="12512" y="2"/>
                    </a:cubicBezTo>
                    <a:close/>
                    <a:moveTo>
                      <a:pt x="12520" y="2"/>
                    </a:moveTo>
                    <a:lnTo>
                      <a:pt x="12520" y="2"/>
                    </a:lnTo>
                    <a:cubicBezTo>
                      <a:pt x="12522" y="2"/>
                      <a:pt x="12522" y="3"/>
                      <a:pt x="12522" y="4"/>
                    </a:cubicBezTo>
                    <a:cubicBezTo>
                      <a:pt x="12522" y="5"/>
                      <a:pt x="12522" y="6"/>
                      <a:pt x="12520" y="6"/>
                    </a:cubicBezTo>
                    <a:lnTo>
                      <a:pt x="12520" y="6"/>
                    </a:lnTo>
                    <a:cubicBezTo>
                      <a:pt x="12519" y="6"/>
                      <a:pt x="12518" y="5"/>
                      <a:pt x="12518" y="4"/>
                    </a:cubicBezTo>
                    <a:cubicBezTo>
                      <a:pt x="12518" y="3"/>
                      <a:pt x="12519" y="2"/>
                      <a:pt x="12520" y="2"/>
                    </a:cubicBezTo>
                    <a:close/>
                    <a:moveTo>
                      <a:pt x="12528" y="2"/>
                    </a:moveTo>
                    <a:lnTo>
                      <a:pt x="12528" y="2"/>
                    </a:lnTo>
                    <a:cubicBezTo>
                      <a:pt x="12530" y="2"/>
                      <a:pt x="12530" y="3"/>
                      <a:pt x="12530" y="4"/>
                    </a:cubicBezTo>
                    <a:cubicBezTo>
                      <a:pt x="12530" y="5"/>
                      <a:pt x="12530" y="6"/>
                      <a:pt x="12528" y="6"/>
                    </a:cubicBezTo>
                    <a:lnTo>
                      <a:pt x="12528" y="6"/>
                    </a:lnTo>
                    <a:cubicBezTo>
                      <a:pt x="12527" y="6"/>
                      <a:pt x="12526" y="5"/>
                      <a:pt x="12526" y="4"/>
                    </a:cubicBezTo>
                    <a:cubicBezTo>
                      <a:pt x="12526" y="3"/>
                      <a:pt x="12527" y="2"/>
                      <a:pt x="12528" y="2"/>
                    </a:cubicBezTo>
                    <a:close/>
                    <a:moveTo>
                      <a:pt x="12536" y="2"/>
                    </a:moveTo>
                    <a:lnTo>
                      <a:pt x="12536" y="2"/>
                    </a:lnTo>
                    <a:cubicBezTo>
                      <a:pt x="12538" y="2"/>
                      <a:pt x="12538" y="3"/>
                      <a:pt x="12538" y="4"/>
                    </a:cubicBezTo>
                    <a:cubicBezTo>
                      <a:pt x="12538" y="5"/>
                      <a:pt x="12538" y="6"/>
                      <a:pt x="12536" y="6"/>
                    </a:cubicBezTo>
                    <a:lnTo>
                      <a:pt x="12536" y="6"/>
                    </a:lnTo>
                    <a:cubicBezTo>
                      <a:pt x="12535" y="6"/>
                      <a:pt x="12534" y="5"/>
                      <a:pt x="12534" y="4"/>
                    </a:cubicBezTo>
                    <a:cubicBezTo>
                      <a:pt x="12534" y="3"/>
                      <a:pt x="12535" y="2"/>
                      <a:pt x="12536" y="2"/>
                    </a:cubicBezTo>
                    <a:close/>
                    <a:moveTo>
                      <a:pt x="12544" y="2"/>
                    </a:moveTo>
                    <a:lnTo>
                      <a:pt x="12544" y="2"/>
                    </a:lnTo>
                    <a:cubicBezTo>
                      <a:pt x="12546" y="2"/>
                      <a:pt x="12546" y="3"/>
                      <a:pt x="12546" y="4"/>
                    </a:cubicBezTo>
                    <a:cubicBezTo>
                      <a:pt x="12546" y="5"/>
                      <a:pt x="12546" y="6"/>
                      <a:pt x="12544" y="6"/>
                    </a:cubicBezTo>
                    <a:lnTo>
                      <a:pt x="12544" y="6"/>
                    </a:lnTo>
                    <a:cubicBezTo>
                      <a:pt x="12543" y="6"/>
                      <a:pt x="12542" y="5"/>
                      <a:pt x="12542" y="4"/>
                    </a:cubicBezTo>
                    <a:cubicBezTo>
                      <a:pt x="12542" y="3"/>
                      <a:pt x="12543" y="2"/>
                      <a:pt x="12544" y="2"/>
                    </a:cubicBezTo>
                    <a:close/>
                    <a:moveTo>
                      <a:pt x="12552" y="2"/>
                    </a:moveTo>
                    <a:lnTo>
                      <a:pt x="12552" y="2"/>
                    </a:lnTo>
                    <a:cubicBezTo>
                      <a:pt x="12554" y="2"/>
                      <a:pt x="12554" y="3"/>
                      <a:pt x="12554" y="4"/>
                    </a:cubicBezTo>
                    <a:cubicBezTo>
                      <a:pt x="12554" y="5"/>
                      <a:pt x="12554" y="6"/>
                      <a:pt x="12552" y="6"/>
                    </a:cubicBezTo>
                    <a:lnTo>
                      <a:pt x="12552" y="6"/>
                    </a:lnTo>
                    <a:cubicBezTo>
                      <a:pt x="12551" y="6"/>
                      <a:pt x="12550" y="5"/>
                      <a:pt x="12550" y="4"/>
                    </a:cubicBezTo>
                    <a:cubicBezTo>
                      <a:pt x="12550" y="3"/>
                      <a:pt x="12551" y="2"/>
                      <a:pt x="12552" y="2"/>
                    </a:cubicBezTo>
                    <a:close/>
                    <a:moveTo>
                      <a:pt x="12560" y="2"/>
                    </a:moveTo>
                    <a:lnTo>
                      <a:pt x="12560" y="2"/>
                    </a:lnTo>
                    <a:cubicBezTo>
                      <a:pt x="12562" y="2"/>
                      <a:pt x="12562" y="3"/>
                      <a:pt x="12562" y="4"/>
                    </a:cubicBezTo>
                    <a:cubicBezTo>
                      <a:pt x="12562" y="5"/>
                      <a:pt x="12562" y="6"/>
                      <a:pt x="12560" y="6"/>
                    </a:cubicBezTo>
                    <a:lnTo>
                      <a:pt x="12560" y="6"/>
                    </a:lnTo>
                    <a:cubicBezTo>
                      <a:pt x="12559" y="6"/>
                      <a:pt x="12558" y="5"/>
                      <a:pt x="12558" y="4"/>
                    </a:cubicBezTo>
                    <a:cubicBezTo>
                      <a:pt x="12558" y="3"/>
                      <a:pt x="12559" y="2"/>
                      <a:pt x="12560" y="2"/>
                    </a:cubicBezTo>
                    <a:close/>
                    <a:moveTo>
                      <a:pt x="12568" y="2"/>
                    </a:moveTo>
                    <a:lnTo>
                      <a:pt x="12568" y="2"/>
                    </a:lnTo>
                    <a:cubicBezTo>
                      <a:pt x="12570" y="2"/>
                      <a:pt x="12570" y="3"/>
                      <a:pt x="12570" y="4"/>
                    </a:cubicBezTo>
                    <a:cubicBezTo>
                      <a:pt x="12570" y="5"/>
                      <a:pt x="12570" y="6"/>
                      <a:pt x="12568" y="6"/>
                    </a:cubicBezTo>
                    <a:lnTo>
                      <a:pt x="12568" y="6"/>
                    </a:lnTo>
                    <a:cubicBezTo>
                      <a:pt x="12567" y="6"/>
                      <a:pt x="12566" y="5"/>
                      <a:pt x="12566" y="4"/>
                    </a:cubicBezTo>
                    <a:cubicBezTo>
                      <a:pt x="12566" y="3"/>
                      <a:pt x="12567" y="2"/>
                      <a:pt x="12568" y="2"/>
                    </a:cubicBezTo>
                    <a:close/>
                    <a:moveTo>
                      <a:pt x="12576" y="2"/>
                    </a:moveTo>
                    <a:lnTo>
                      <a:pt x="12576" y="2"/>
                    </a:lnTo>
                    <a:cubicBezTo>
                      <a:pt x="12578" y="2"/>
                      <a:pt x="12578" y="3"/>
                      <a:pt x="12578" y="4"/>
                    </a:cubicBezTo>
                    <a:cubicBezTo>
                      <a:pt x="12578" y="5"/>
                      <a:pt x="12578" y="6"/>
                      <a:pt x="12576" y="6"/>
                    </a:cubicBezTo>
                    <a:lnTo>
                      <a:pt x="12576" y="6"/>
                    </a:lnTo>
                    <a:cubicBezTo>
                      <a:pt x="12575" y="6"/>
                      <a:pt x="12574" y="5"/>
                      <a:pt x="12574" y="4"/>
                    </a:cubicBezTo>
                    <a:cubicBezTo>
                      <a:pt x="12574" y="3"/>
                      <a:pt x="12575" y="2"/>
                      <a:pt x="12576" y="2"/>
                    </a:cubicBezTo>
                    <a:close/>
                    <a:moveTo>
                      <a:pt x="12584" y="2"/>
                    </a:moveTo>
                    <a:lnTo>
                      <a:pt x="12584" y="2"/>
                    </a:lnTo>
                    <a:cubicBezTo>
                      <a:pt x="12586" y="2"/>
                      <a:pt x="12586" y="3"/>
                      <a:pt x="12586" y="4"/>
                    </a:cubicBezTo>
                    <a:cubicBezTo>
                      <a:pt x="12586" y="5"/>
                      <a:pt x="12586" y="6"/>
                      <a:pt x="12584" y="6"/>
                    </a:cubicBezTo>
                    <a:lnTo>
                      <a:pt x="12584" y="6"/>
                    </a:lnTo>
                    <a:cubicBezTo>
                      <a:pt x="12583" y="6"/>
                      <a:pt x="12582" y="5"/>
                      <a:pt x="12582" y="4"/>
                    </a:cubicBezTo>
                    <a:cubicBezTo>
                      <a:pt x="12582" y="3"/>
                      <a:pt x="12583" y="2"/>
                      <a:pt x="12584" y="2"/>
                    </a:cubicBezTo>
                    <a:close/>
                    <a:moveTo>
                      <a:pt x="12592" y="2"/>
                    </a:moveTo>
                    <a:lnTo>
                      <a:pt x="12592" y="2"/>
                    </a:lnTo>
                    <a:cubicBezTo>
                      <a:pt x="12594" y="2"/>
                      <a:pt x="12594" y="3"/>
                      <a:pt x="12594" y="4"/>
                    </a:cubicBezTo>
                    <a:cubicBezTo>
                      <a:pt x="12594" y="5"/>
                      <a:pt x="12594" y="6"/>
                      <a:pt x="12592" y="6"/>
                    </a:cubicBezTo>
                    <a:lnTo>
                      <a:pt x="12592" y="6"/>
                    </a:lnTo>
                    <a:cubicBezTo>
                      <a:pt x="12591" y="6"/>
                      <a:pt x="12590" y="5"/>
                      <a:pt x="12590" y="4"/>
                    </a:cubicBezTo>
                    <a:cubicBezTo>
                      <a:pt x="12590" y="3"/>
                      <a:pt x="12591" y="2"/>
                      <a:pt x="12592" y="2"/>
                    </a:cubicBezTo>
                    <a:close/>
                    <a:moveTo>
                      <a:pt x="12600" y="2"/>
                    </a:moveTo>
                    <a:lnTo>
                      <a:pt x="12601" y="2"/>
                    </a:lnTo>
                    <a:cubicBezTo>
                      <a:pt x="12602" y="2"/>
                      <a:pt x="12603" y="3"/>
                      <a:pt x="12603" y="4"/>
                    </a:cubicBezTo>
                    <a:cubicBezTo>
                      <a:pt x="12603" y="5"/>
                      <a:pt x="12602" y="6"/>
                      <a:pt x="12601" y="6"/>
                    </a:cubicBezTo>
                    <a:lnTo>
                      <a:pt x="12600" y="6"/>
                    </a:lnTo>
                    <a:cubicBezTo>
                      <a:pt x="12599" y="6"/>
                      <a:pt x="12598" y="5"/>
                      <a:pt x="12598" y="4"/>
                    </a:cubicBezTo>
                    <a:cubicBezTo>
                      <a:pt x="12598" y="3"/>
                      <a:pt x="12599" y="2"/>
                      <a:pt x="12600" y="2"/>
                    </a:cubicBezTo>
                    <a:close/>
                    <a:moveTo>
                      <a:pt x="12609" y="2"/>
                    </a:moveTo>
                    <a:lnTo>
                      <a:pt x="12609" y="2"/>
                    </a:lnTo>
                    <a:cubicBezTo>
                      <a:pt x="12610" y="2"/>
                      <a:pt x="12611" y="3"/>
                      <a:pt x="12611" y="4"/>
                    </a:cubicBezTo>
                    <a:cubicBezTo>
                      <a:pt x="12611" y="5"/>
                      <a:pt x="12610" y="6"/>
                      <a:pt x="12609" y="6"/>
                    </a:cubicBezTo>
                    <a:lnTo>
                      <a:pt x="12609" y="6"/>
                    </a:lnTo>
                    <a:cubicBezTo>
                      <a:pt x="12607" y="6"/>
                      <a:pt x="12607" y="5"/>
                      <a:pt x="12607" y="4"/>
                    </a:cubicBezTo>
                    <a:cubicBezTo>
                      <a:pt x="12607" y="3"/>
                      <a:pt x="12607" y="2"/>
                      <a:pt x="12609" y="2"/>
                    </a:cubicBezTo>
                    <a:close/>
                    <a:moveTo>
                      <a:pt x="12617" y="2"/>
                    </a:moveTo>
                    <a:lnTo>
                      <a:pt x="12617" y="2"/>
                    </a:lnTo>
                    <a:cubicBezTo>
                      <a:pt x="12618" y="2"/>
                      <a:pt x="12619" y="3"/>
                      <a:pt x="12619" y="4"/>
                    </a:cubicBezTo>
                    <a:cubicBezTo>
                      <a:pt x="12619" y="5"/>
                      <a:pt x="12618" y="6"/>
                      <a:pt x="12617" y="6"/>
                    </a:cubicBezTo>
                    <a:lnTo>
                      <a:pt x="12617" y="6"/>
                    </a:lnTo>
                    <a:cubicBezTo>
                      <a:pt x="12615" y="6"/>
                      <a:pt x="12615" y="5"/>
                      <a:pt x="12615" y="4"/>
                    </a:cubicBezTo>
                    <a:cubicBezTo>
                      <a:pt x="12615" y="3"/>
                      <a:pt x="12615" y="2"/>
                      <a:pt x="12617" y="2"/>
                    </a:cubicBezTo>
                    <a:close/>
                    <a:moveTo>
                      <a:pt x="12625" y="2"/>
                    </a:moveTo>
                    <a:lnTo>
                      <a:pt x="12625" y="2"/>
                    </a:lnTo>
                    <a:cubicBezTo>
                      <a:pt x="12626" y="2"/>
                      <a:pt x="12627" y="3"/>
                      <a:pt x="12627" y="4"/>
                    </a:cubicBezTo>
                    <a:cubicBezTo>
                      <a:pt x="12627" y="5"/>
                      <a:pt x="12626" y="6"/>
                      <a:pt x="12625" y="6"/>
                    </a:cubicBezTo>
                    <a:lnTo>
                      <a:pt x="12625" y="6"/>
                    </a:lnTo>
                    <a:cubicBezTo>
                      <a:pt x="12623" y="6"/>
                      <a:pt x="12623" y="5"/>
                      <a:pt x="12623" y="4"/>
                    </a:cubicBezTo>
                    <a:cubicBezTo>
                      <a:pt x="12623" y="3"/>
                      <a:pt x="12623" y="2"/>
                      <a:pt x="12625" y="2"/>
                    </a:cubicBezTo>
                    <a:close/>
                    <a:moveTo>
                      <a:pt x="12633" y="2"/>
                    </a:moveTo>
                    <a:lnTo>
                      <a:pt x="12633" y="2"/>
                    </a:lnTo>
                    <a:cubicBezTo>
                      <a:pt x="12634" y="2"/>
                      <a:pt x="12635" y="3"/>
                      <a:pt x="12635" y="4"/>
                    </a:cubicBezTo>
                    <a:cubicBezTo>
                      <a:pt x="12635" y="5"/>
                      <a:pt x="12634" y="6"/>
                      <a:pt x="12633" y="6"/>
                    </a:cubicBezTo>
                    <a:lnTo>
                      <a:pt x="12633" y="6"/>
                    </a:lnTo>
                    <a:cubicBezTo>
                      <a:pt x="12631" y="6"/>
                      <a:pt x="12631" y="5"/>
                      <a:pt x="12631" y="4"/>
                    </a:cubicBezTo>
                    <a:cubicBezTo>
                      <a:pt x="12631" y="3"/>
                      <a:pt x="12631" y="2"/>
                      <a:pt x="12633" y="2"/>
                    </a:cubicBezTo>
                    <a:close/>
                    <a:moveTo>
                      <a:pt x="12641" y="2"/>
                    </a:moveTo>
                    <a:lnTo>
                      <a:pt x="12641" y="2"/>
                    </a:lnTo>
                    <a:cubicBezTo>
                      <a:pt x="12642" y="2"/>
                      <a:pt x="12643" y="3"/>
                      <a:pt x="12643" y="4"/>
                    </a:cubicBezTo>
                    <a:cubicBezTo>
                      <a:pt x="12643" y="5"/>
                      <a:pt x="12642" y="6"/>
                      <a:pt x="12641" y="6"/>
                    </a:cubicBezTo>
                    <a:lnTo>
                      <a:pt x="12641" y="6"/>
                    </a:lnTo>
                    <a:cubicBezTo>
                      <a:pt x="12639" y="6"/>
                      <a:pt x="12639" y="5"/>
                      <a:pt x="12639" y="4"/>
                    </a:cubicBezTo>
                    <a:cubicBezTo>
                      <a:pt x="12639" y="3"/>
                      <a:pt x="12639" y="2"/>
                      <a:pt x="12641" y="2"/>
                    </a:cubicBezTo>
                    <a:close/>
                    <a:moveTo>
                      <a:pt x="12649" y="2"/>
                    </a:moveTo>
                    <a:lnTo>
                      <a:pt x="12649" y="2"/>
                    </a:lnTo>
                    <a:cubicBezTo>
                      <a:pt x="12650" y="2"/>
                      <a:pt x="12651" y="3"/>
                      <a:pt x="12651" y="4"/>
                    </a:cubicBezTo>
                    <a:cubicBezTo>
                      <a:pt x="12651" y="5"/>
                      <a:pt x="12650" y="6"/>
                      <a:pt x="12649" y="6"/>
                    </a:cubicBezTo>
                    <a:lnTo>
                      <a:pt x="12649" y="6"/>
                    </a:lnTo>
                    <a:cubicBezTo>
                      <a:pt x="12647" y="6"/>
                      <a:pt x="12647" y="5"/>
                      <a:pt x="12647" y="4"/>
                    </a:cubicBezTo>
                    <a:cubicBezTo>
                      <a:pt x="12647" y="3"/>
                      <a:pt x="12647" y="2"/>
                      <a:pt x="12649" y="2"/>
                    </a:cubicBezTo>
                    <a:close/>
                    <a:moveTo>
                      <a:pt x="12657" y="2"/>
                    </a:moveTo>
                    <a:lnTo>
                      <a:pt x="12657" y="2"/>
                    </a:lnTo>
                    <a:cubicBezTo>
                      <a:pt x="12658" y="2"/>
                      <a:pt x="12659" y="3"/>
                      <a:pt x="12659" y="4"/>
                    </a:cubicBezTo>
                    <a:cubicBezTo>
                      <a:pt x="12659" y="5"/>
                      <a:pt x="12658" y="6"/>
                      <a:pt x="12657" y="6"/>
                    </a:cubicBezTo>
                    <a:lnTo>
                      <a:pt x="12657" y="6"/>
                    </a:lnTo>
                    <a:cubicBezTo>
                      <a:pt x="12655" y="6"/>
                      <a:pt x="12655" y="5"/>
                      <a:pt x="12655" y="4"/>
                    </a:cubicBezTo>
                    <a:cubicBezTo>
                      <a:pt x="12655" y="3"/>
                      <a:pt x="12655" y="2"/>
                      <a:pt x="12657" y="2"/>
                    </a:cubicBezTo>
                    <a:close/>
                    <a:moveTo>
                      <a:pt x="12665" y="2"/>
                    </a:moveTo>
                    <a:lnTo>
                      <a:pt x="12665" y="2"/>
                    </a:lnTo>
                    <a:cubicBezTo>
                      <a:pt x="12666" y="2"/>
                      <a:pt x="12667" y="3"/>
                      <a:pt x="12667" y="4"/>
                    </a:cubicBezTo>
                    <a:cubicBezTo>
                      <a:pt x="12667" y="5"/>
                      <a:pt x="12666" y="6"/>
                      <a:pt x="12665" y="6"/>
                    </a:cubicBezTo>
                    <a:lnTo>
                      <a:pt x="12665" y="6"/>
                    </a:lnTo>
                    <a:cubicBezTo>
                      <a:pt x="12663" y="6"/>
                      <a:pt x="12663" y="5"/>
                      <a:pt x="12663" y="4"/>
                    </a:cubicBezTo>
                    <a:cubicBezTo>
                      <a:pt x="12663" y="3"/>
                      <a:pt x="12663" y="2"/>
                      <a:pt x="12665" y="2"/>
                    </a:cubicBezTo>
                    <a:close/>
                    <a:moveTo>
                      <a:pt x="12673" y="2"/>
                    </a:moveTo>
                    <a:lnTo>
                      <a:pt x="12673" y="2"/>
                    </a:lnTo>
                    <a:cubicBezTo>
                      <a:pt x="12674" y="2"/>
                      <a:pt x="12675" y="3"/>
                      <a:pt x="12675" y="4"/>
                    </a:cubicBezTo>
                    <a:cubicBezTo>
                      <a:pt x="12675" y="5"/>
                      <a:pt x="12674" y="6"/>
                      <a:pt x="12673" y="6"/>
                    </a:cubicBezTo>
                    <a:lnTo>
                      <a:pt x="12673" y="6"/>
                    </a:lnTo>
                    <a:cubicBezTo>
                      <a:pt x="12671" y="6"/>
                      <a:pt x="12671" y="5"/>
                      <a:pt x="12671" y="4"/>
                    </a:cubicBezTo>
                    <a:cubicBezTo>
                      <a:pt x="12671" y="3"/>
                      <a:pt x="12671" y="2"/>
                      <a:pt x="12673" y="2"/>
                    </a:cubicBezTo>
                    <a:close/>
                    <a:moveTo>
                      <a:pt x="12681" y="2"/>
                    </a:moveTo>
                    <a:lnTo>
                      <a:pt x="12681" y="2"/>
                    </a:lnTo>
                    <a:cubicBezTo>
                      <a:pt x="12682" y="2"/>
                      <a:pt x="12683" y="3"/>
                      <a:pt x="12683" y="4"/>
                    </a:cubicBezTo>
                    <a:cubicBezTo>
                      <a:pt x="12683" y="5"/>
                      <a:pt x="12682" y="6"/>
                      <a:pt x="12681" y="6"/>
                    </a:cubicBezTo>
                    <a:lnTo>
                      <a:pt x="12681" y="6"/>
                    </a:lnTo>
                    <a:cubicBezTo>
                      <a:pt x="12679" y="6"/>
                      <a:pt x="12679" y="5"/>
                      <a:pt x="12679" y="4"/>
                    </a:cubicBezTo>
                    <a:cubicBezTo>
                      <a:pt x="12679" y="3"/>
                      <a:pt x="12679" y="2"/>
                      <a:pt x="12681" y="2"/>
                    </a:cubicBezTo>
                    <a:close/>
                    <a:moveTo>
                      <a:pt x="12689" y="2"/>
                    </a:moveTo>
                    <a:lnTo>
                      <a:pt x="12689" y="2"/>
                    </a:lnTo>
                    <a:cubicBezTo>
                      <a:pt x="12690" y="2"/>
                      <a:pt x="12691" y="3"/>
                      <a:pt x="12691" y="4"/>
                    </a:cubicBezTo>
                    <a:cubicBezTo>
                      <a:pt x="12691" y="5"/>
                      <a:pt x="12690" y="6"/>
                      <a:pt x="12689" y="6"/>
                    </a:cubicBezTo>
                    <a:lnTo>
                      <a:pt x="12689" y="6"/>
                    </a:lnTo>
                    <a:cubicBezTo>
                      <a:pt x="12687" y="6"/>
                      <a:pt x="12687" y="5"/>
                      <a:pt x="12687" y="4"/>
                    </a:cubicBezTo>
                    <a:cubicBezTo>
                      <a:pt x="12687" y="3"/>
                      <a:pt x="12687" y="2"/>
                      <a:pt x="12689" y="2"/>
                    </a:cubicBezTo>
                    <a:close/>
                    <a:moveTo>
                      <a:pt x="12697" y="2"/>
                    </a:moveTo>
                    <a:lnTo>
                      <a:pt x="12697" y="2"/>
                    </a:lnTo>
                    <a:cubicBezTo>
                      <a:pt x="12698" y="2"/>
                      <a:pt x="12699" y="3"/>
                      <a:pt x="12699" y="4"/>
                    </a:cubicBezTo>
                    <a:cubicBezTo>
                      <a:pt x="12699" y="5"/>
                      <a:pt x="12698" y="6"/>
                      <a:pt x="12697" y="6"/>
                    </a:cubicBezTo>
                    <a:lnTo>
                      <a:pt x="12697" y="6"/>
                    </a:lnTo>
                    <a:cubicBezTo>
                      <a:pt x="12695" y="6"/>
                      <a:pt x="12695" y="5"/>
                      <a:pt x="12695" y="4"/>
                    </a:cubicBezTo>
                    <a:cubicBezTo>
                      <a:pt x="12695" y="3"/>
                      <a:pt x="12695" y="2"/>
                      <a:pt x="12697" y="2"/>
                    </a:cubicBezTo>
                    <a:close/>
                    <a:moveTo>
                      <a:pt x="12705" y="2"/>
                    </a:moveTo>
                    <a:lnTo>
                      <a:pt x="12705" y="2"/>
                    </a:lnTo>
                    <a:cubicBezTo>
                      <a:pt x="12706" y="2"/>
                      <a:pt x="12707" y="3"/>
                      <a:pt x="12707" y="4"/>
                    </a:cubicBezTo>
                    <a:cubicBezTo>
                      <a:pt x="12707" y="5"/>
                      <a:pt x="12706" y="6"/>
                      <a:pt x="12705" y="6"/>
                    </a:cubicBezTo>
                    <a:lnTo>
                      <a:pt x="12705" y="6"/>
                    </a:lnTo>
                    <a:cubicBezTo>
                      <a:pt x="12703" y="6"/>
                      <a:pt x="12703" y="5"/>
                      <a:pt x="12703" y="4"/>
                    </a:cubicBezTo>
                    <a:cubicBezTo>
                      <a:pt x="12703" y="3"/>
                      <a:pt x="12703" y="2"/>
                      <a:pt x="12705" y="2"/>
                    </a:cubicBezTo>
                    <a:close/>
                    <a:moveTo>
                      <a:pt x="12713" y="2"/>
                    </a:moveTo>
                    <a:lnTo>
                      <a:pt x="12713" y="2"/>
                    </a:lnTo>
                    <a:cubicBezTo>
                      <a:pt x="12714" y="2"/>
                      <a:pt x="12715" y="3"/>
                      <a:pt x="12715" y="4"/>
                    </a:cubicBezTo>
                    <a:cubicBezTo>
                      <a:pt x="12715" y="5"/>
                      <a:pt x="12714" y="6"/>
                      <a:pt x="12713" y="6"/>
                    </a:cubicBezTo>
                    <a:lnTo>
                      <a:pt x="12713" y="6"/>
                    </a:lnTo>
                    <a:cubicBezTo>
                      <a:pt x="12711" y="6"/>
                      <a:pt x="12711" y="5"/>
                      <a:pt x="12711" y="4"/>
                    </a:cubicBezTo>
                    <a:cubicBezTo>
                      <a:pt x="12711" y="3"/>
                      <a:pt x="12711" y="2"/>
                      <a:pt x="12713" y="2"/>
                    </a:cubicBezTo>
                    <a:close/>
                    <a:moveTo>
                      <a:pt x="12721" y="2"/>
                    </a:moveTo>
                    <a:lnTo>
                      <a:pt x="12721" y="2"/>
                    </a:lnTo>
                    <a:cubicBezTo>
                      <a:pt x="12722" y="2"/>
                      <a:pt x="12723" y="3"/>
                      <a:pt x="12723" y="4"/>
                    </a:cubicBezTo>
                    <a:cubicBezTo>
                      <a:pt x="12723" y="5"/>
                      <a:pt x="12722" y="6"/>
                      <a:pt x="12721" y="6"/>
                    </a:cubicBezTo>
                    <a:lnTo>
                      <a:pt x="12721" y="6"/>
                    </a:lnTo>
                    <a:cubicBezTo>
                      <a:pt x="12719" y="6"/>
                      <a:pt x="12719" y="5"/>
                      <a:pt x="12719" y="4"/>
                    </a:cubicBezTo>
                    <a:cubicBezTo>
                      <a:pt x="12719" y="3"/>
                      <a:pt x="12719" y="2"/>
                      <a:pt x="12721" y="2"/>
                    </a:cubicBezTo>
                    <a:close/>
                    <a:moveTo>
                      <a:pt x="12729" y="2"/>
                    </a:moveTo>
                    <a:lnTo>
                      <a:pt x="12729" y="2"/>
                    </a:lnTo>
                    <a:cubicBezTo>
                      <a:pt x="12730" y="2"/>
                      <a:pt x="12731" y="3"/>
                      <a:pt x="12731" y="4"/>
                    </a:cubicBezTo>
                    <a:cubicBezTo>
                      <a:pt x="12731" y="5"/>
                      <a:pt x="12730" y="6"/>
                      <a:pt x="12729" y="6"/>
                    </a:cubicBezTo>
                    <a:lnTo>
                      <a:pt x="12729" y="6"/>
                    </a:lnTo>
                    <a:cubicBezTo>
                      <a:pt x="12727" y="6"/>
                      <a:pt x="12727" y="5"/>
                      <a:pt x="12727" y="4"/>
                    </a:cubicBezTo>
                    <a:cubicBezTo>
                      <a:pt x="12727" y="3"/>
                      <a:pt x="12727" y="2"/>
                      <a:pt x="12729" y="2"/>
                    </a:cubicBezTo>
                    <a:close/>
                    <a:moveTo>
                      <a:pt x="12737" y="2"/>
                    </a:moveTo>
                    <a:lnTo>
                      <a:pt x="12737" y="2"/>
                    </a:lnTo>
                    <a:cubicBezTo>
                      <a:pt x="12738" y="2"/>
                      <a:pt x="12739" y="3"/>
                      <a:pt x="12739" y="4"/>
                    </a:cubicBezTo>
                    <a:cubicBezTo>
                      <a:pt x="12739" y="5"/>
                      <a:pt x="12738" y="6"/>
                      <a:pt x="12737" y="6"/>
                    </a:cubicBezTo>
                    <a:lnTo>
                      <a:pt x="12737" y="6"/>
                    </a:lnTo>
                    <a:cubicBezTo>
                      <a:pt x="12735" y="6"/>
                      <a:pt x="12735" y="5"/>
                      <a:pt x="12735" y="4"/>
                    </a:cubicBezTo>
                    <a:cubicBezTo>
                      <a:pt x="12735" y="3"/>
                      <a:pt x="12735" y="2"/>
                      <a:pt x="12737" y="2"/>
                    </a:cubicBezTo>
                    <a:close/>
                    <a:moveTo>
                      <a:pt x="12745" y="2"/>
                    </a:moveTo>
                    <a:lnTo>
                      <a:pt x="12745" y="2"/>
                    </a:lnTo>
                    <a:cubicBezTo>
                      <a:pt x="12746" y="2"/>
                      <a:pt x="12747" y="3"/>
                      <a:pt x="12747" y="4"/>
                    </a:cubicBezTo>
                    <a:cubicBezTo>
                      <a:pt x="12747" y="5"/>
                      <a:pt x="12746" y="6"/>
                      <a:pt x="12745" y="6"/>
                    </a:cubicBezTo>
                    <a:lnTo>
                      <a:pt x="12745" y="6"/>
                    </a:lnTo>
                    <a:cubicBezTo>
                      <a:pt x="12743" y="6"/>
                      <a:pt x="12743" y="5"/>
                      <a:pt x="12743" y="4"/>
                    </a:cubicBezTo>
                    <a:cubicBezTo>
                      <a:pt x="12743" y="3"/>
                      <a:pt x="12743" y="2"/>
                      <a:pt x="12745" y="2"/>
                    </a:cubicBezTo>
                    <a:close/>
                    <a:moveTo>
                      <a:pt x="12753" y="2"/>
                    </a:moveTo>
                    <a:lnTo>
                      <a:pt x="12753" y="2"/>
                    </a:lnTo>
                    <a:cubicBezTo>
                      <a:pt x="12754" y="2"/>
                      <a:pt x="12755" y="3"/>
                      <a:pt x="12755" y="4"/>
                    </a:cubicBezTo>
                    <a:cubicBezTo>
                      <a:pt x="12755" y="5"/>
                      <a:pt x="12754" y="6"/>
                      <a:pt x="12753" y="6"/>
                    </a:cubicBezTo>
                    <a:lnTo>
                      <a:pt x="12753" y="6"/>
                    </a:lnTo>
                    <a:cubicBezTo>
                      <a:pt x="12751" y="6"/>
                      <a:pt x="12751" y="5"/>
                      <a:pt x="12751" y="4"/>
                    </a:cubicBezTo>
                    <a:cubicBezTo>
                      <a:pt x="12751" y="3"/>
                      <a:pt x="12751" y="2"/>
                      <a:pt x="12753" y="2"/>
                    </a:cubicBezTo>
                    <a:close/>
                    <a:moveTo>
                      <a:pt x="12761" y="2"/>
                    </a:moveTo>
                    <a:lnTo>
                      <a:pt x="12761" y="2"/>
                    </a:lnTo>
                    <a:cubicBezTo>
                      <a:pt x="12762" y="2"/>
                      <a:pt x="12763" y="3"/>
                      <a:pt x="12763" y="4"/>
                    </a:cubicBezTo>
                    <a:cubicBezTo>
                      <a:pt x="12763" y="6"/>
                      <a:pt x="12762" y="6"/>
                      <a:pt x="12761" y="6"/>
                    </a:cubicBezTo>
                    <a:lnTo>
                      <a:pt x="12761" y="6"/>
                    </a:lnTo>
                    <a:cubicBezTo>
                      <a:pt x="12759" y="6"/>
                      <a:pt x="12759" y="6"/>
                      <a:pt x="12759" y="4"/>
                    </a:cubicBezTo>
                    <a:cubicBezTo>
                      <a:pt x="12759" y="3"/>
                      <a:pt x="12759" y="2"/>
                      <a:pt x="12761" y="2"/>
                    </a:cubicBezTo>
                    <a:close/>
                    <a:moveTo>
                      <a:pt x="12769" y="2"/>
                    </a:moveTo>
                    <a:lnTo>
                      <a:pt x="12769" y="2"/>
                    </a:lnTo>
                    <a:cubicBezTo>
                      <a:pt x="12770" y="2"/>
                      <a:pt x="12771" y="3"/>
                      <a:pt x="12771" y="4"/>
                    </a:cubicBezTo>
                    <a:cubicBezTo>
                      <a:pt x="12771" y="6"/>
                      <a:pt x="12770" y="6"/>
                      <a:pt x="12769" y="6"/>
                    </a:cubicBezTo>
                    <a:lnTo>
                      <a:pt x="12769" y="6"/>
                    </a:lnTo>
                    <a:cubicBezTo>
                      <a:pt x="12767" y="6"/>
                      <a:pt x="12767" y="6"/>
                      <a:pt x="12767" y="4"/>
                    </a:cubicBezTo>
                    <a:cubicBezTo>
                      <a:pt x="12767" y="3"/>
                      <a:pt x="12767" y="2"/>
                      <a:pt x="12769" y="2"/>
                    </a:cubicBezTo>
                    <a:close/>
                    <a:moveTo>
                      <a:pt x="12777" y="2"/>
                    </a:moveTo>
                    <a:lnTo>
                      <a:pt x="12777" y="2"/>
                    </a:lnTo>
                    <a:cubicBezTo>
                      <a:pt x="12778" y="2"/>
                      <a:pt x="12779" y="3"/>
                      <a:pt x="12779" y="4"/>
                    </a:cubicBezTo>
                    <a:cubicBezTo>
                      <a:pt x="12779" y="6"/>
                      <a:pt x="12778" y="6"/>
                      <a:pt x="12777" y="6"/>
                    </a:cubicBezTo>
                    <a:lnTo>
                      <a:pt x="12777" y="6"/>
                    </a:lnTo>
                    <a:cubicBezTo>
                      <a:pt x="12776" y="6"/>
                      <a:pt x="12775" y="6"/>
                      <a:pt x="12775" y="4"/>
                    </a:cubicBezTo>
                    <a:cubicBezTo>
                      <a:pt x="12775" y="3"/>
                      <a:pt x="12776" y="2"/>
                      <a:pt x="12777" y="2"/>
                    </a:cubicBezTo>
                    <a:close/>
                    <a:moveTo>
                      <a:pt x="12785" y="2"/>
                    </a:moveTo>
                    <a:lnTo>
                      <a:pt x="12785" y="2"/>
                    </a:lnTo>
                    <a:cubicBezTo>
                      <a:pt x="12786" y="2"/>
                      <a:pt x="12787" y="3"/>
                      <a:pt x="12787" y="4"/>
                    </a:cubicBezTo>
                    <a:cubicBezTo>
                      <a:pt x="12787" y="6"/>
                      <a:pt x="12786" y="6"/>
                      <a:pt x="12785" y="6"/>
                    </a:cubicBezTo>
                    <a:lnTo>
                      <a:pt x="12785" y="6"/>
                    </a:lnTo>
                    <a:cubicBezTo>
                      <a:pt x="12784" y="6"/>
                      <a:pt x="12783" y="6"/>
                      <a:pt x="12783" y="4"/>
                    </a:cubicBezTo>
                    <a:cubicBezTo>
                      <a:pt x="12783" y="3"/>
                      <a:pt x="12784" y="2"/>
                      <a:pt x="12785" y="2"/>
                    </a:cubicBezTo>
                    <a:close/>
                    <a:moveTo>
                      <a:pt x="12793" y="2"/>
                    </a:moveTo>
                    <a:lnTo>
                      <a:pt x="12793" y="2"/>
                    </a:lnTo>
                    <a:cubicBezTo>
                      <a:pt x="12794" y="2"/>
                      <a:pt x="12795" y="3"/>
                      <a:pt x="12795" y="4"/>
                    </a:cubicBezTo>
                    <a:cubicBezTo>
                      <a:pt x="12795" y="6"/>
                      <a:pt x="12794" y="6"/>
                      <a:pt x="12793" y="6"/>
                    </a:cubicBezTo>
                    <a:lnTo>
                      <a:pt x="12793" y="6"/>
                    </a:lnTo>
                    <a:cubicBezTo>
                      <a:pt x="12792" y="6"/>
                      <a:pt x="12791" y="6"/>
                      <a:pt x="12791" y="4"/>
                    </a:cubicBezTo>
                    <a:cubicBezTo>
                      <a:pt x="12791" y="3"/>
                      <a:pt x="12792" y="2"/>
                      <a:pt x="12793" y="2"/>
                    </a:cubicBezTo>
                    <a:close/>
                    <a:moveTo>
                      <a:pt x="12801" y="2"/>
                    </a:moveTo>
                    <a:lnTo>
                      <a:pt x="12801" y="2"/>
                    </a:lnTo>
                    <a:cubicBezTo>
                      <a:pt x="12802" y="2"/>
                      <a:pt x="12803" y="3"/>
                      <a:pt x="12803" y="4"/>
                    </a:cubicBezTo>
                    <a:cubicBezTo>
                      <a:pt x="12803" y="6"/>
                      <a:pt x="12802" y="6"/>
                      <a:pt x="12801" y="6"/>
                    </a:cubicBezTo>
                    <a:lnTo>
                      <a:pt x="12801" y="6"/>
                    </a:lnTo>
                    <a:cubicBezTo>
                      <a:pt x="12800" y="6"/>
                      <a:pt x="12799" y="6"/>
                      <a:pt x="12799" y="4"/>
                    </a:cubicBezTo>
                    <a:cubicBezTo>
                      <a:pt x="12799" y="3"/>
                      <a:pt x="12800" y="2"/>
                      <a:pt x="12801" y="2"/>
                    </a:cubicBezTo>
                    <a:close/>
                    <a:moveTo>
                      <a:pt x="12809" y="2"/>
                    </a:moveTo>
                    <a:lnTo>
                      <a:pt x="12809" y="2"/>
                    </a:lnTo>
                    <a:cubicBezTo>
                      <a:pt x="12810" y="2"/>
                      <a:pt x="12811" y="3"/>
                      <a:pt x="12811" y="4"/>
                    </a:cubicBezTo>
                    <a:cubicBezTo>
                      <a:pt x="12811" y="6"/>
                      <a:pt x="12810" y="6"/>
                      <a:pt x="12809" y="6"/>
                    </a:cubicBezTo>
                    <a:lnTo>
                      <a:pt x="12809" y="6"/>
                    </a:lnTo>
                    <a:cubicBezTo>
                      <a:pt x="12808" y="6"/>
                      <a:pt x="12807" y="6"/>
                      <a:pt x="12807" y="4"/>
                    </a:cubicBezTo>
                    <a:cubicBezTo>
                      <a:pt x="12807" y="3"/>
                      <a:pt x="12808" y="2"/>
                      <a:pt x="12809" y="2"/>
                    </a:cubicBezTo>
                    <a:close/>
                    <a:moveTo>
                      <a:pt x="12817" y="2"/>
                    </a:moveTo>
                    <a:lnTo>
                      <a:pt x="12817" y="2"/>
                    </a:lnTo>
                    <a:cubicBezTo>
                      <a:pt x="12818" y="2"/>
                      <a:pt x="12819" y="3"/>
                      <a:pt x="12819" y="4"/>
                    </a:cubicBezTo>
                    <a:cubicBezTo>
                      <a:pt x="12819" y="6"/>
                      <a:pt x="12818" y="6"/>
                      <a:pt x="12817" y="6"/>
                    </a:cubicBezTo>
                    <a:lnTo>
                      <a:pt x="12817" y="6"/>
                    </a:lnTo>
                    <a:cubicBezTo>
                      <a:pt x="12816" y="6"/>
                      <a:pt x="12815" y="6"/>
                      <a:pt x="12815" y="4"/>
                    </a:cubicBezTo>
                    <a:cubicBezTo>
                      <a:pt x="12815" y="3"/>
                      <a:pt x="12816" y="2"/>
                      <a:pt x="12817" y="2"/>
                    </a:cubicBezTo>
                    <a:close/>
                    <a:moveTo>
                      <a:pt x="12825" y="2"/>
                    </a:moveTo>
                    <a:lnTo>
                      <a:pt x="12825" y="2"/>
                    </a:lnTo>
                    <a:cubicBezTo>
                      <a:pt x="12826" y="2"/>
                      <a:pt x="12827" y="3"/>
                      <a:pt x="12827" y="4"/>
                    </a:cubicBezTo>
                    <a:cubicBezTo>
                      <a:pt x="12827" y="6"/>
                      <a:pt x="12826" y="6"/>
                      <a:pt x="12825" y="6"/>
                    </a:cubicBezTo>
                    <a:lnTo>
                      <a:pt x="12825" y="6"/>
                    </a:lnTo>
                    <a:cubicBezTo>
                      <a:pt x="12824" y="6"/>
                      <a:pt x="12823" y="6"/>
                      <a:pt x="12823" y="4"/>
                    </a:cubicBezTo>
                    <a:cubicBezTo>
                      <a:pt x="12823" y="3"/>
                      <a:pt x="12824" y="2"/>
                      <a:pt x="12825" y="2"/>
                    </a:cubicBezTo>
                    <a:close/>
                    <a:moveTo>
                      <a:pt x="12833" y="2"/>
                    </a:moveTo>
                    <a:lnTo>
                      <a:pt x="12833" y="2"/>
                    </a:lnTo>
                    <a:cubicBezTo>
                      <a:pt x="12834" y="2"/>
                      <a:pt x="12835" y="3"/>
                      <a:pt x="12835" y="4"/>
                    </a:cubicBezTo>
                    <a:cubicBezTo>
                      <a:pt x="12835" y="6"/>
                      <a:pt x="12834" y="6"/>
                      <a:pt x="12833" y="6"/>
                    </a:cubicBezTo>
                    <a:lnTo>
                      <a:pt x="12833" y="6"/>
                    </a:lnTo>
                    <a:cubicBezTo>
                      <a:pt x="12832" y="6"/>
                      <a:pt x="12831" y="6"/>
                      <a:pt x="12831" y="4"/>
                    </a:cubicBezTo>
                    <a:cubicBezTo>
                      <a:pt x="12831" y="3"/>
                      <a:pt x="12832" y="2"/>
                      <a:pt x="12833" y="2"/>
                    </a:cubicBezTo>
                    <a:close/>
                    <a:moveTo>
                      <a:pt x="12841" y="2"/>
                    </a:moveTo>
                    <a:lnTo>
                      <a:pt x="12841" y="2"/>
                    </a:lnTo>
                    <a:cubicBezTo>
                      <a:pt x="12842" y="2"/>
                      <a:pt x="12843" y="3"/>
                      <a:pt x="12843" y="4"/>
                    </a:cubicBezTo>
                    <a:cubicBezTo>
                      <a:pt x="12843" y="6"/>
                      <a:pt x="12842" y="6"/>
                      <a:pt x="12841" y="6"/>
                    </a:cubicBezTo>
                    <a:lnTo>
                      <a:pt x="12841" y="6"/>
                    </a:lnTo>
                    <a:cubicBezTo>
                      <a:pt x="12840" y="6"/>
                      <a:pt x="12839" y="6"/>
                      <a:pt x="12839" y="4"/>
                    </a:cubicBezTo>
                    <a:cubicBezTo>
                      <a:pt x="12839" y="3"/>
                      <a:pt x="12840" y="2"/>
                      <a:pt x="12841" y="2"/>
                    </a:cubicBezTo>
                    <a:close/>
                    <a:moveTo>
                      <a:pt x="12849" y="2"/>
                    </a:moveTo>
                    <a:lnTo>
                      <a:pt x="12849" y="2"/>
                    </a:lnTo>
                    <a:cubicBezTo>
                      <a:pt x="12850" y="2"/>
                      <a:pt x="12851" y="3"/>
                      <a:pt x="12851" y="4"/>
                    </a:cubicBezTo>
                    <a:cubicBezTo>
                      <a:pt x="12851" y="6"/>
                      <a:pt x="12850" y="6"/>
                      <a:pt x="12849" y="6"/>
                    </a:cubicBezTo>
                    <a:lnTo>
                      <a:pt x="12849" y="6"/>
                    </a:lnTo>
                    <a:cubicBezTo>
                      <a:pt x="12848" y="6"/>
                      <a:pt x="12847" y="6"/>
                      <a:pt x="12847" y="4"/>
                    </a:cubicBezTo>
                    <a:cubicBezTo>
                      <a:pt x="12847" y="3"/>
                      <a:pt x="12848" y="2"/>
                      <a:pt x="12849" y="2"/>
                    </a:cubicBezTo>
                    <a:close/>
                    <a:moveTo>
                      <a:pt x="12857" y="2"/>
                    </a:moveTo>
                    <a:lnTo>
                      <a:pt x="12857" y="2"/>
                    </a:lnTo>
                    <a:cubicBezTo>
                      <a:pt x="12858" y="2"/>
                      <a:pt x="12859" y="3"/>
                      <a:pt x="12859" y="4"/>
                    </a:cubicBezTo>
                    <a:cubicBezTo>
                      <a:pt x="12859" y="6"/>
                      <a:pt x="12858" y="6"/>
                      <a:pt x="12857" y="6"/>
                    </a:cubicBezTo>
                    <a:lnTo>
                      <a:pt x="12857" y="6"/>
                    </a:lnTo>
                    <a:cubicBezTo>
                      <a:pt x="12856" y="6"/>
                      <a:pt x="12855" y="6"/>
                      <a:pt x="12855" y="4"/>
                    </a:cubicBezTo>
                    <a:cubicBezTo>
                      <a:pt x="12855" y="3"/>
                      <a:pt x="12856" y="2"/>
                      <a:pt x="12857" y="2"/>
                    </a:cubicBezTo>
                    <a:close/>
                    <a:moveTo>
                      <a:pt x="12865" y="2"/>
                    </a:moveTo>
                    <a:lnTo>
                      <a:pt x="12865" y="2"/>
                    </a:lnTo>
                    <a:cubicBezTo>
                      <a:pt x="12866" y="2"/>
                      <a:pt x="12867" y="3"/>
                      <a:pt x="12867" y="4"/>
                    </a:cubicBezTo>
                    <a:cubicBezTo>
                      <a:pt x="12867" y="6"/>
                      <a:pt x="12866" y="6"/>
                      <a:pt x="12865" y="6"/>
                    </a:cubicBezTo>
                    <a:lnTo>
                      <a:pt x="12865" y="6"/>
                    </a:lnTo>
                    <a:cubicBezTo>
                      <a:pt x="12864" y="6"/>
                      <a:pt x="12863" y="6"/>
                      <a:pt x="12863" y="4"/>
                    </a:cubicBezTo>
                    <a:cubicBezTo>
                      <a:pt x="12863" y="3"/>
                      <a:pt x="12864" y="2"/>
                      <a:pt x="12865" y="2"/>
                    </a:cubicBezTo>
                    <a:close/>
                    <a:moveTo>
                      <a:pt x="12873" y="2"/>
                    </a:moveTo>
                    <a:lnTo>
                      <a:pt x="12873" y="2"/>
                    </a:lnTo>
                    <a:cubicBezTo>
                      <a:pt x="12874" y="2"/>
                      <a:pt x="12875" y="3"/>
                      <a:pt x="12875" y="4"/>
                    </a:cubicBezTo>
                    <a:cubicBezTo>
                      <a:pt x="12875" y="6"/>
                      <a:pt x="12874" y="6"/>
                      <a:pt x="12873" y="6"/>
                    </a:cubicBezTo>
                    <a:lnTo>
                      <a:pt x="12873" y="6"/>
                    </a:lnTo>
                    <a:cubicBezTo>
                      <a:pt x="12872" y="6"/>
                      <a:pt x="12871" y="6"/>
                      <a:pt x="12871" y="4"/>
                    </a:cubicBezTo>
                    <a:cubicBezTo>
                      <a:pt x="12871" y="3"/>
                      <a:pt x="12872" y="2"/>
                      <a:pt x="12873" y="2"/>
                    </a:cubicBezTo>
                    <a:close/>
                    <a:moveTo>
                      <a:pt x="12881" y="2"/>
                    </a:moveTo>
                    <a:lnTo>
                      <a:pt x="12881" y="2"/>
                    </a:lnTo>
                    <a:cubicBezTo>
                      <a:pt x="12882" y="2"/>
                      <a:pt x="12883" y="3"/>
                      <a:pt x="12883" y="4"/>
                    </a:cubicBezTo>
                    <a:cubicBezTo>
                      <a:pt x="12883" y="6"/>
                      <a:pt x="12882" y="6"/>
                      <a:pt x="12881" y="6"/>
                    </a:cubicBezTo>
                    <a:lnTo>
                      <a:pt x="12881" y="6"/>
                    </a:lnTo>
                    <a:cubicBezTo>
                      <a:pt x="12880" y="6"/>
                      <a:pt x="12879" y="6"/>
                      <a:pt x="12879" y="4"/>
                    </a:cubicBezTo>
                    <a:cubicBezTo>
                      <a:pt x="12879" y="3"/>
                      <a:pt x="12880" y="2"/>
                      <a:pt x="12881" y="2"/>
                    </a:cubicBezTo>
                    <a:close/>
                    <a:moveTo>
                      <a:pt x="12889" y="2"/>
                    </a:moveTo>
                    <a:lnTo>
                      <a:pt x="12889" y="2"/>
                    </a:lnTo>
                    <a:cubicBezTo>
                      <a:pt x="12890" y="2"/>
                      <a:pt x="12891" y="3"/>
                      <a:pt x="12891" y="4"/>
                    </a:cubicBezTo>
                    <a:cubicBezTo>
                      <a:pt x="12891" y="6"/>
                      <a:pt x="12890" y="6"/>
                      <a:pt x="12889" y="6"/>
                    </a:cubicBezTo>
                    <a:lnTo>
                      <a:pt x="12889" y="6"/>
                    </a:lnTo>
                    <a:cubicBezTo>
                      <a:pt x="12888" y="6"/>
                      <a:pt x="12887" y="6"/>
                      <a:pt x="12887" y="4"/>
                    </a:cubicBezTo>
                    <a:cubicBezTo>
                      <a:pt x="12887" y="3"/>
                      <a:pt x="12888" y="2"/>
                      <a:pt x="12889" y="2"/>
                    </a:cubicBezTo>
                    <a:close/>
                    <a:moveTo>
                      <a:pt x="12897" y="2"/>
                    </a:moveTo>
                    <a:lnTo>
                      <a:pt x="12897" y="2"/>
                    </a:lnTo>
                    <a:cubicBezTo>
                      <a:pt x="12898" y="2"/>
                      <a:pt x="12899" y="3"/>
                      <a:pt x="12899" y="4"/>
                    </a:cubicBezTo>
                    <a:cubicBezTo>
                      <a:pt x="12899" y="6"/>
                      <a:pt x="12898" y="6"/>
                      <a:pt x="12897" y="6"/>
                    </a:cubicBezTo>
                    <a:lnTo>
                      <a:pt x="12897" y="6"/>
                    </a:lnTo>
                    <a:cubicBezTo>
                      <a:pt x="12896" y="6"/>
                      <a:pt x="12895" y="6"/>
                      <a:pt x="12895" y="4"/>
                    </a:cubicBezTo>
                    <a:cubicBezTo>
                      <a:pt x="12895" y="3"/>
                      <a:pt x="12896" y="2"/>
                      <a:pt x="12897" y="2"/>
                    </a:cubicBezTo>
                    <a:close/>
                    <a:moveTo>
                      <a:pt x="12905" y="2"/>
                    </a:moveTo>
                    <a:lnTo>
                      <a:pt x="12905" y="2"/>
                    </a:lnTo>
                    <a:cubicBezTo>
                      <a:pt x="12906" y="2"/>
                      <a:pt x="12907" y="3"/>
                      <a:pt x="12907" y="4"/>
                    </a:cubicBezTo>
                    <a:cubicBezTo>
                      <a:pt x="12907" y="6"/>
                      <a:pt x="12906" y="6"/>
                      <a:pt x="12905" y="6"/>
                    </a:cubicBezTo>
                    <a:lnTo>
                      <a:pt x="12905" y="6"/>
                    </a:lnTo>
                    <a:cubicBezTo>
                      <a:pt x="12904" y="6"/>
                      <a:pt x="12903" y="6"/>
                      <a:pt x="12903" y="4"/>
                    </a:cubicBezTo>
                    <a:cubicBezTo>
                      <a:pt x="12903" y="3"/>
                      <a:pt x="12904" y="2"/>
                      <a:pt x="12905" y="2"/>
                    </a:cubicBezTo>
                    <a:close/>
                    <a:moveTo>
                      <a:pt x="12913" y="2"/>
                    </a:moveTo>
                    <a:lnTo>
                      <a:pt x="12913" y="2"/>
                    </a:lnTo>
                    <a:cubicBezTo>
                      <a:pt x="12914" y="2"/>
                      <a:pt x="12915" y="3"/>
                      <a:pt x="12915" y="4"/>
                    </a:cubicBezTo>
                    <a:cubicBezTo>
                      <a:pt x="12915" y="6"/>
                      <a:pt x="12914" y="6"/>
                      <a:pt x="12913" y="6"/>
                    </a:cubicBezTo>
                    <a:lnTo>
                      <a:pt x="12913" y="6"/>
                    </a:lnTo>
                    <a:cubicBezTo>
                      <a:pt x="12912" y="6"/>
                      <a:pt x="12911" y="6"/>
                      <a:pt x="12911" y="4"/>
                    </a:cubicBezTo>
                    <a:cubicBezTo>
                      <a:pt x="12911" y="3"/>
                      <a:pt x="12912" y="2"/>
                      <a:pt x="12913" y="2"/>
                    </a:cubicBezTo>
                    <a:close/>
                    <a:moveTo>
                      <a:pt x="12921" y="2"/>
                    </a:moveTo>
                    <a:lnTo>
                      <a:pt x="12921" y="2"/>
                    </a:lnTo>
                    <a:cubicBezTo>
                      <a:pt x="12922" y="2"/>
                      <a:pt x="12923" y="3"/>
                      <a:pt x="12923" y="4"/>
                    </a:cubicBezTo>
                    <a:cubicBezTo>
                      <a:pt x="12923" y="6"/>
                      <a:pt x="12922" y="6"/>
                      <a:pt x="12921" y="6"/>
                    </a:cubicBezTo>
                    <a:lnTo>
                      <a:pt x="12921" y="6"/>
                    </a:lnTo>
                    <a:cubicBezTo>
                      <a:pt x="12920" y="6"/>
                      <a:pt x="12919" y="6"/>
                      <a:pt x="12919" y="4"/>
                    </a:cubicBezTo>
                    <a:cubicBezTo>
                      <a:pt x="12919" y="3"/>
                      <a:pt x="12920" y="2"/>
                      <a:pt x="12921" y="2"/>
                    </a:cubicBezTo>
                    <a:close/>
                    <a:moveTo>
                      <a:pt x="12929" y="2"/>
                    </a:moveTo>
                    <a:lnTo>
                      <a:pt x="12929" y="2"/>
                    </a:lnTo>
                    <a:cubicBezTo>
                      <a:pt x="12930" y="2"/>
                      <a:pt x="12931" y="3"/>
                      <a:pt x="12931" y="4"/>
                    </a:cubicBezTo>
                    <a:cubicBezTo>
                      <a:pt x="12931" y="6"/>
                      <a:pt x="12930" y="6"/>
                      <a:pt x="12929" y="6"/>
                    </a:cubicBezTo>
                    <a:lnTo>
                      <a:pt x="12929" y="6"/>
                    </a:lnTo>
                    <a:cubicBezTo>
                      <a:pt x="12928" y="6"/>
                      <a:pt x="12927" y="6"/>
                      <a:pt x="12927" y="4"/>
                    </a:cubicBezTo>
                    <a:cubicBezTo>
                      <a:pt x="12927" y="3"/>
                      <a:pt x="12928" y="2"/>
                      <a:pt x="12929" y="2"/>
                    </a:cubicBezTo>
                    <a:close/>
                    <a:moveTo>
                      <a:pt x="12937" y="2"/>
                    </a:moveTo>
                    <a:lnTo>
                      <a:pt x="12937" y="2"/>
                    </a:lnTo>
                    <a:cubicBezTo>
                      <a:pt x="12938" y="2"/>
                      <a:pt x="12939" y="3"/>
                      <a:pt x="12939" y="4"/>
                    </a:cubicBezTo>
                    <a:cubicBezTo>
                      <a:pt x="12939" y="6"/>
                      <a:pt x="12938" y="6"/>
                      <a:pt x="12937" y="6"/>
                    </a:cubicBezTo>
                    <a:lnTo>
                      <a:pt x="12937" y="6"/>
                    </a:lnTo>
                    <a:cubicBezTo>
                      <a:pt x="12936" y="6"/>
                      <a:pt x="12935" y="6"/>
                      <a:pt x="12935" y="4"/>
                    </a:cubicBezTo>
                    <a:cubicBezTo>
                      <a:pt x="12935" y="3"/>
                      <a:pt x="12936" y="2"/>
                      <a:pt x="12937" y="2"/>
                    </a:cubicBezTo>
                    <a:close/>
                    <a:moveTo>
                      <a:pt x="12945" y="2"/>
                    </a:moveTo>
                    <a:lnTo>
                      <a:pt x="12945" y="2"/>
                    </a:lnTo>
                    <a:cubicBezTo>
                      <a:pt x="12946" y="2"/>
                      <a:pt x="12947" y="3"/>
                      <a:pt x="12947" y="4"/>
                    </a:cubicBezTo>
                    <a:cubicBezTo>
                      <a:pt x="12947" y="6"/>
                      <a:pt x="12946" y="6"/>
                      <a:pt x="12945" y="6"/>
                    </a:cubicBezTo>
                    <a:lnTo>
                      <a:pt x="12945" y="6"/>
                    </a:lnTo>
                    <a:cubicBezTo>
                      <a:pt x="12944" y="6"/>
                      <a:pt x="12943" y="6"/>
                      <a:pt x="12943" y="4"/>
                    </a:cubicBezTo>
                    <a:cubicBezTo>
                      <a:pt x="12943" y="3"/>
                      <a:pt x="12944" y="2"/>
                      <a:pt x="12945" y="2"/>
                    </a:cubicBezTo>
                    <a:close/>
                    <a:moveTo>
                      <a:pt x="12953" y="2"/>
                    </a:moveTo>
                    <a:lnTo>
                      <a:pt x="12953" y="2"/>
                    </a:lnTo>
                    <a:cubicBezTo>
                      <a:pt x="12954" y="2"/>
                      <a:pt x="12955" y="3"/>
                      <a:pt x="12955" y="4"/>
                    </a:cubicBezTo>
                    <a:cubicBezTo>
                      <a:pt x="12955" y="6"/>
                      <a:pt x="12954" y="6"/>
                      <a:pt x="12953" y="6"/>
                    </a:cubicBezTo>
                    <a:lnTo>
                      <a:pt x="12953" y="6"/>
                    </a:lnTo>
                    <a:cubicBezTo>
                      <a:pt x="12952" y="6"/>
                      <a:pt x="12951" y="6"/>
                      <a:pt x="12951" y="4"/>
                    </a:cubicBezTo>
                    <a:cubicBezTo>
                      <a:pt x="12951" y="3"/>
                      <a:pt x="12952" y="2"/>
                      <a:pt x="12953" y="2"/>
                    </a:cubicBezTo>
                    <a:close/>
                    <a:moveTo>
                      <a:pt x="12961" y="2"/>
                    </a:moveTo>
                    <a:lnTo>
                      <a:pt x="12961" y="2"/>
                    </a:lnTo>
                    <a:cubicBezTo>
                      <a:pt x="12962" y="2"/>
                      <a:pt x="12963" y="3"/>
                      <a:pt x="12963" y="4"/>
                    </a:cubicBezTo>
                    <a:cubicBezTo>
                      <a:pt x="12963" y="6"/>
                      <a:pt x="12962" y="6"/>
                      <a:pt x="12961" y="6"/>
                    </a:cubicBezTo>
                    <a:lnTo>
                      <a:pt x="12961" y="6"/>
                    </a:lnTo>
                    <a:cubicBezTo>
                      <a:pt x="12960" y="6"/>
                      <a:pt x="12959" y="6"/>
                      <a:pt x="12959" y="4"/>
                    </a:cubicBezTo>
                    <a:cubicBezTo>
                      <a:pt x="12959" y="3"/>
                      <a:pt x="12960" y="2"/>
                      <a:pt x="12961" y="2"/>
                    </a:cubicBezTo>
                    <a:close/>
                    <a:moveTo>
                      <a:pt x="12969" y="2"/>
                    </a:moveTo>
                    <a:lnTo>
                      <a:pt x="12969" y="2"/>
                    </a:lnTo>
                    <a:cubicBezTo>
                      <a:pt x="12970" y="2"/>
                      <a:pt x="12971" y="3"/>
                      <a:pt x="12971" y="4"/>
                    </a:cubicBezTo>
                    <a:cubicBezTo>
                      <a:pt x="12971" y="6"/>
                      <a:pt x="12970" y="6"/>
                      <a:pt x="12969" y="6"/>
                    </a:cubicBezTo>
                    <a:lnTo>
                      <a:pt x="12969" y="6"/>
                    </a:lnTo>
                    <a:cubicBezTo>
                      <a:pt x="12968" y="6"/>
                      <a:pt x="12967" y="6"/>
                      <a:pt x="12967" y="4"/>
                    </a:cubicBezTo>
                    <a:cubicBezTo>
                      <a:pt x="12967" y="3"/>
                      <a:pt x="12968" y="2"/>
                      <a:pt x="12969" y="2"/>
                    </a:cubicBezTo>
                    <a:close/>
                    <a:moveTo>
                      <a:pt x="12977" y="2"/>
                    </a:moveTo>
                    <a:lnTo>
                      <a:pt x="12977" y="2"/>
                    </a:lnTo>
                    <a:cubicBezTo>
                      <a:pt x="12978" y="2"/>
                      <a:pt x="12979" y="3"/>
                      <a:pt x="12979" y="4"/>
                    </a:cubicBezTo>
                    <a:cubicBezTo>
                      <a:pt x="12979" y="6"/>
                      <a:pt x="12978" y="6"/>
                      <a:pt x="12977" y="6"/>
                    </a:cubicBezTo>
                    <a:lnTo>
                      <a:pt x="12977" y="6"/>
                    </a:lnTo>
                    <a:cubicBezTo>
                      <a:pt x="12976" y="6"/>
                      <a:pt x="12975" y="6"/>
                      <a:pt x="12975" y="4"/>
                    </a:cubicBezTo>
                    <a:cubicBezTo>
                      <a:pt x="12975" y="3"/>
                      <a:pt x="12976" y="2"/>
                      <a:pt x="12977" y="2"/>
                    </a:cubicBezTo>
                    <a:close/>
                    <a:moveTo>
                      <a:pt x="12985" y="2"/>
                    </a:moveTo>
                    <a:lnTo>
                      <a:pt x="12985" y="2"/>
                    </a:lnTo>
                    <a:cubicBezTo>
                      <a:pt x="12986" y="2"/>
                      <a:pt x="12987" y="3"/>
                      <a:pt x="12987" y="4"/>
                    </a:cubicBezTo>
                    <a:cubicBezTo>
                      <a:pt x="12987" y="6"/>
                      <a:pt x="12986" y="6"/>
                      <a:pt x="12985" y="6"/>
                    </a:cubicBezTo>
                    <a:lnTo>
                      <a:pt x="12985" y="6"/>
                    </a:lnTo>
                    <a:cubicBezTo>
                      <a:pt x="12984" y="6"/>
                      <a:pt x="12983" y="6"/>
                      <a:pt x="12983" y="4"/>
                    </a:cubicBezTo>
                    <a:cubicBezTo>
                      <a:pt x="12983" y="3"/>
                      <a:pt x="12984" y="2"/>
                      <a:pt x="12985" y="2"/>
                    </a:cubicBezTo>
                    <a:close/>
                    <a:moveTo>
                      <a:pt x="12993" y="2"/>
                    </a:moveTo>
                    <a:lnTo>
                      <a:pt x="12993" y="2"/>
                    </a:lnTo>
                    <a:cubicBezTo>
                      <a:pt x="12994" y="2"/>
                      <a:pt x="12995" y="3"/>
                      <a:pt x="12995" y="4"/>
                    </a:cubicBezTo>
                    <a:cubicBezTo>
                      <a:pt x="12995" y="6"/>
                      <a:pt x="12994" y="6"/>
                      <a:pt x="12993" y="6"/>
                    </a:cubicBezTo>
                    <a:lnTo>
                      <a:pt x="12993" y="6"/>
                    </a:lnTo>
                    <a:cubicBezTo>
                      <a:pt x="12992" y="6"/>
                      <a:pt x="12991" y="6"/>
                      <a:pt x="12991" y="4"/>
                    </a:cubicBezTo>
                    <a:cubicBezTo>
                      <a:pt x="12991" y="3"/>
                      <a:pt x="12992" y="2"/>
                      <a:pt x="12993" y="2"/>
                    </a:cubicBezTo>
                    <a:close/>
                    <a:moveTo>
                      <a:pt x="13001" y="2"/>
                    </a:moveTo>
                    <a:lnTo>
                      <a:pt x="13001" y="2"/>
                    </a:lnTo>
                    <a:cubicBezTo>
                      <a:pt x="13002" y="2"/>
                      <a:pt x="13003" y="3"/>
                      <a:pt x="13003" y="4"/>
                    </a:cubicBezTo>
                    <a:cubicBezTo>
                      <a:pt x="13003" y="6"/>
                      <a:pt x="13002" y="6"/>
                      <a:pt x="13001" y="6"/>
                    </a:cubicBezTo>
                    <a:lnTo>
                      <a:pt x="13001" y="6"/>
                    </a:lnTo>
                    <a:cubicBezTo>
                      <a:pt x="13000" y="6"/>
                      <a:pt x="12999" y="6"/>
                      <a:pt x="12999" y="4"/>
                    </a:cubicBezTo>
                    <a:cubicBezTo>
                      <a:pt x="12999" y="3"/>
                      <a:pt x="13000" y="2"/>
                      <a:pt x="13001" y="2"/>
                    </a:cubicBezTo>
                    <a:close/>
                    <a:moveTo>
                      <a:pt x="13009" y="2"/>
                    </a:moveTo>
                    <a:lnTo>
                      <a:pt x="13009" y="2"/>
                    </a:lnTo>
                    <a:cubicBezTo>
                      <a:pt x="13010" y="2"/>
                      <a:pt x="13011" y="3"/>
                      <a:pt x="13011" y="4"/>
                    </a:cubicBezTo>
                    <a:cubicBezTo>
                      <a:pt x="13011" y="6"/>
                      <a:pt x="13010" y="6"/>
                      <a:pt x="13009" y="6"/>
                    </a:cubicBezTo>
                    <a:lnTo>
                      <a:pt x="13009" y="6"/>
                    </a:lnTo>
                    <a:cubicBezTo>
                      <a:pt x="13008" y="6"/>
                      <a:pt x="13007" y="6"/>
                      <a:pt x="13007" y="4"/>
                    </a:cubicBezTo>
                    <a:cubicBezTo>
                      <a:pt x="13007" y="3"/>
                      <a:pt x="13008" y="2"/>
                      <a:pt x="13009" y="2"/>
                    </a:cubicBezTo>
                    <a:close/>
                    <a:moveTo>
                      <a:pt x="13017" y="2"/>
                    </a:moveTo>
                    <a:lnTo>
                      <a:pt x="13017" y="2"/>
                    </a:lnTo>
                    <a:cubicBezTo>
                      <a:pt x="13018" y="2"/>
                      <a:pt x="13019" y="3"/>
                      <a:pt x="13019" y="4"/>
                    </a:cubicBezTo>
                    <a:cubicBezTo>
                      <a:pt x="13019" y="6"/>
                      <a:pt x="13018" y="6"/>
                      <a:pt x="13017" y="6"/>
                    </a:cubicBezTo>
                    <a:lnTo>
                      <a:pt x="13017" y="6"/>
                    </a:lnTo>
                    <a:cubicBezTo>
                      <a:pt x="13016" y="6"/>
                      <a:pt x="13015" y="6"/>
                      <a:pt x="13015" y="4"/>
                    </a:cubicBezTo>
                    <a:cubicBezTo>
                      <a:pt x="13015" y="3"/>
                      <a:pt x="13016" y="2"/>
                      <a:pt x="13017" y="2"/>
                    </a:cubicBezTo>
                    <a:close/>
                    <a:moveTo>
                      <a:pt x="13025" y="2"/>
                    </a:moveTo>
                    <a:lnTo>
                      <a:pt x="13025" y="2"/>
                    </a:lnTo>
                    <a:cubicBezTo>
                      <a:pt x="13026" y="2"/>
                      <a:pt x="13027" y="3"/>
                      <a:pt x="13027" y="4"/>
                    </a:cubicBezTo>
                    <a:cubicBezTo>
                      <a:pt x="13027" y="6"/>
                      <a:pt x="13026" y="6"/>
                      <a:pt x="13025" y="6"/>
                    </a:cubicBezTo>
                    <a:lnTo>
                      <a:pt x="13025" y="6"/>
                    </a:lnTo>
                    <a:cubicBezTo>
                      <a:pt x="13024" y="6"/>
                      <a:pt x="13023" y="6"/>
                      <a:pt x="13023" y="4"/>
                    </a:cubicBezTo>
                    <a:cubicBezTo>
                      <a:pt x="13023" y="3"/>
                      <a:pt x="13024" y="2"/>
                      <a:pt x="13025" y="2"/>
                    </a:cubicBezTo>
                    <a:close/>
                    <a:moveTo>
                      <a:pt x="13033" y="2"/>
                    </a:moveTo>
                    <a:lnTo>
                      <a:pt x="13033" y="2"/>
                    </a:lnTo>
                    <a:cubicBezTo>
                      <a:pt x="13034" y="2"/>
                      <a:pt x="13035" y="3"/>
                      <a:pt x="13035" y="4"/>
                    </a:cubicBezTo>
                    <a:cubicBezTo>
                      <a:pt x="13035" y="6"/>
                      <a:pt x="13034" y="6"/>
                      <a:pt x="13033" y="6"/>
                    </a:cubicBezTo>
                    <a:lnTo>
                      <a:pt x="13033" y="6"/>
                    </a:lnTo>
                    <a:cubicBezTo>
                      <a:pt x="13032" y="6"/>
                      <a:pt x="13031" y="6"/>
                      <a:pt x="13031" y="4"/>
                    </a:cubicBezTo>
                    <a:cubicBezTo>
                      <a:pt x="13031" y="3"/>
                      <a:pt x="13032" y="2"/>
                      <a:pt x="13033" y="2"/>
                    </a:cubicBezTo>
                    <a:close/>
                    <a:moveTo>
                      <a:pt x="13041" y="2"/>
                    </a:moveTo>
                    <a:lnTo>
                      <a:pt x="13041" y="2"/>
                    </a:lnTo>
                    <a:cubicBezTo>
                      <a:pt x="13042" y="2"/>
                      <a:pt x="13043" y="3"/>
                      <a:pt x="13043" y="4"/>
                    </a:cubicBezTo>
                    <a:cubicBezTo>
                      <a:pt x="13043" y="6"/>
                      <a:pt x="13042" y="6"/>
                      <a:pt x="13041" y="6"/>
                    </a:cubicBezTo>
                    <a:lnTo>
                      <a:pt x="13041" y="6"/>
                    </a:lnTo>
                    <a:cubicBezTo>
                      <a:pt x="13040" y="6"/>
                      <a:pt x="13039" y="6"/>
                      <a:pt x="13039" y="4"/>
                    </a:cubicBezTo>
                    <a:cubicBezTo>
                      <a:pt x="13039" y="3"/>
                      <a:pt x="13040" y="2"/>
                      <a:pt x="13041" y="2"/>
                    </a:cubicBezTo>
                    <a:close/>
                    <a:moveTo>
                      <a:pt x="13049" y="2"/>
                    </a:moveTo>
                    <a:lnTo>
                      <a:pt x="13049" y="2"/>
                    </a:lnTo>
                    <a:cubicBezTo>
                      <a:pt x="13050" y="2"/>
                      <a:pt x="13051" y="3"/>
                      <a:pt x="13051" y="4"/>
                    </a:cubicBezTo>
                    <a:cubicBezTo>
                      <a:pt x="13051" y="6"/>
                      <a:pt x="13050" y="6"/>
                      <a:pt x="13049" y="6"/>
                    </a:cubicBezTo>
                    <a:lnTo>
                      <a:pt x="13049" y="6"/>
                    </a:lnTo>
                    <a:cubicBezTo>
                      <a:pt x="13048" y="6"/>
                      <a:pt x="13047" y="6"/>
                      <a:pt x="13047" y="4"/>
                    </a:cubicBezTo>
                    <a:cubicBezTo>
                      <a:pt x="13047" y="3"/>
                      <a:pt x="13048" y="2"/>
                      <a:pt x="13049" y="2"/>
                    </a:cubicBezTo>
                    <a:close/>
                    <a:moveTo>
                      <a:pt x="13057" y="2"/>
                    </a:moveTo>
                    <a:lnTo>
                      <a:pt x="13057" y="2"/>
                    </a:lnTo>
                    <a:cubicBezTo>
                      <a:pt x="13058" y="2"/>
                      <a:pt x="13059" y="3"/>
                      <a:pt x="13059" y="4"/>
                    </a:cubicBezTo>
                    <a:cubicBezTo>
                      <a:pt x="13059" y="6"/>
                      <a:pt x="13058" y="6"/>
                      <a:pt x="13057" y="6"/>
                    </a:cubicBezTo>
                    <a:lnTo>
                      <a:pt x="13057" y="6"/>
                    </a:lnTo>
                    <a:cubicBezTo>
                      <a:pt x="13056" y="6"/>
                      <a:pt x="13055" y="6"/>
                      <a:pt x="13055" y="4"/>
                    </a:cubicBezTo>
                    <a:cubicBezTo>
                      <a:pt x="13055" y="3"/>
                      <a:pt x="13056" y="2"/>
                      <a:pt x="13057" y="2"/>
                    </a:cubicBezTo>
                    <a:close/>
                    <a:moveTo>
                      <a:pt x="13065" y="2"/>
                    </a:moveTo>
                    <a:lnTo>
                      <a:pt x="13065" y="2"/>
                    </a:lnTo>
                    <a:cubicBezTo>
                      <a:pt x="13066" y="2"/>
                      <a:pt x="13067" y="3"/>
                      <a:pt x="13067" y="4"/>
                    </a:cubicBezTo>
                    <a:cubicBezTo>
                      <a:pt x="13067" y="6"/>
                      <a:pt x="13066" y="6"/>
                      <a:pt x="13065" y="6"/>
                    </a:cubicBezTo>
                    <a:lnTo>
                      <a:pt x="13065" y="6"/>
                    </a:lnTo>
                    <a:cubicBezTo>
                      <a:pt x="13064" y="6"/>
                      <a:pt x="13063" y="6"/>
                      <a:pt x="13063" y="4"/>
                    </a:cubicBezTo>
                    <a:cubicBezTo>
                      <a:pt x="13063" y="3"/>
                      <a:pt x="13064" y="2"/>
                      <a:pt x="13065" y="2"/>
                    </a:cubicBezTo>
                    <a:close/>
                    <a:moveTo>
                      <a:pt x="13073" y="2"/>
                    </a:moveTo>
                    <a:lnTo>
                      <a:pt x="13073" y="2"/>
                    </a:lnTo>
                    <a:cubicBezTo>
                      <a:pt x="13074" y="2"/>
                      <a:pt x="13075" y="3"/>
                      <a:pt x="13075" y="4"/>
                    </a:cubicBezTo>
                    <a:cubicBezTo>
                      <a:pt x="13075" y="6"/>
                      <a:pt x="13074" y="6"/>
                      <a:pt x="13073" y="6"/>
                    </a:cubicBezTo>
                    <a:lnTo>
                      <a:pt x="13073" y="6"/>
                    </a:lnTo>
                    <a:cubicBezTo>
                      <a:pt x="13072" y="6"/>
                      <a:pt x="13071" y="6"/>
                      <a:pt x="13071" y="4"/>
                    </a:cubicBezTo>
                    <a:cubicBezTo>
                      <a:pt x="13071" y="3"/>
                      <a:pt x="13072" y="2"/>
                      <a:pt x="13073" y="2"/>
                    </a:cubicBezTo>
                    <a:close/>
                    <a:moveTo>
                      <a:pt x="13081" y="2"/>
                    </a:moveTo>
                    <a:lnTo>
                      <a:pt x="13081" y="2"/>
                    </a:lnTo>
                    <a:cubicBezTo>
                      <a:pt x="13082" y="2"/>
                      <a:pt x="13083" y="3"/>
                      <a:pt x="13083" y="4"/>
                    </a:cubicBezTo>
                    <a:cubicBezTo>
                      <a:pt x="13083" y="6"/>
                      <a:pt x="13082" y="6"/>
                      <a:pt x="13081" y="6"/>
                    </a:cubicBezTo>
                    <a:lnTo>
                      <a:pt x="13081" y="6"/>
                    </a:lnTo>
                    <a:cubicBezTo>
                      <a:pt x="13080" y="6"/>
                      <a:pt x="13079" y="6"/>
                      <a:pt x="13079" y="4"/>
                    </a:cubicBezTo>
                    <a:cubicBezTo>
                      <a:pt x="13079" y="3"/>
                      <a:pt x="13080" y="2"/>
                      <a:pt x="13081" y="2"/>
                    </a:cubicBezTo>
                    <a:close/>
                    <a:moveTo>
                      <a:pt x="13089" y="2"/>
                    </a:moveTo>
                    <a:lnTo>
                      <a:pt x="13089" y="2"/>
                    </a:lnTo>
                    <a:cubicBezTo>
                      <a:pt x="13090" y="2"/>
                      <a:pt x="13091" y="3"/>
                      <a:pt x="13091" y="4"/>
                    </a:cubicBezTo>
                    <a:cubicBezTo>
                      <a:pt x="13091" y="6"/>
                      <a:pt x="13090" y="6"/>
                      <a:pt x="13089" y="6"/>
                    </a:cubicBezTo>
                    <a:lnTo>
                      <a:pt x="13089" y="6"/>
                    </a:lnTo>
                    <a:cubicBezTo>
                      <a:pt x="13088" y="6"/>
                      <a:pt x="13087" y="6"/>
                      <a:pt x="13087" y="4"/>
                    </a:cubicBezTo>
                    <a:cubicBezTo>
                      <a:pt x="13087" y="3"/>
                      <a:pt x="13088" y="2"/>
                      <a:pt x="13089" y="2"/>
                    </a:cubicBezTo>
                    <a:close/>
                    <a:moveTo>
                      <a:pt x="13097" y="2"/>
                    </a:moveTo>
                    <a:lnTo>
                      <a:pt x="13097" y="2"/>
                    </a:lnTo>
                    <a:cubicBezTo>
                      <a:pt x="13098" y="2"/>
                      <a:pt x="13099" y="3"/>
                      <a:pt x="13099" y="4"/>
                    </a:cubicBezTo>
                    <a:cubicBezTo>
                      <a:pt x="13099" y="6"/>
                      <a:pt x="13098" y="6"/>
                      <a:pt x="13097" y="6"/>
                    </a:cubicBezTo>
                    <a:lnTo>
                      <a:pt x="13097" y="6"/>
                    </a:lnTo>
                    <a:cubicBezTo>
                      <a:pt x="13096" y="6"/>
                      <a:pt x="13095" y="6"/>
                      <a:pt x="13095" y="4"/>
                    </a:cubicBezTo>
                    <a:cubicBezTo>
                      <a:pt x="13095" y="3"/>
                      <a:pt x="13096" y="2"/>
                      <a:pt x="13097" y="2"/>
                    </a:cubicBezTo>
                    <a:close/>
                    <a:moveTo>
                      <a:pt x="13105" y="2"/>
                    </a:moveTo>
                    <a:lnTo>
                      <a:pt x="13105" y="2"/>
                    </a:lnTo>
                    <a:cubicBezTo>
                      <a:pt x="13106" y="2"/>
                      <a:pt x="13107" y="3"/>
                      <a:pt x="13107" y="4"/>
                    </a:cubicBezTo>
                    <a:cubicBezTo>
                      <a:pt x="13107" y="6"/>
                      <a:pt x="13106" y="6"/>
                      <a:pt x="13105" y="6"/>
                    </a:cubicBezTo>
                    <a:lnTo>
                      <a:pt x="13105" y="6"/>
                    </a:lnTo>
                    <a:cubicBezTo>
                      <a:pt x="13104" y="6"/>
                      <a:pt x="13103" y="6"/>
                      <a:pt x="13103" y="4"/>
                    </a:cubicBezTo>
                    <a:cubicBezTo>
                      <a:pt x="13103" y="3"/>
                      <a:pt x="13104" y="2"/>
                      <a:pt x="13105" y="2"/>
                    </a:cubicBezTo>
                    <a:close/>
                    <a:moveTo>
                      <a:pt x="13113" y="2"/>
                    </a:moveTo>
                    <a:lnTo>
                      <a:pt x="13113" y="2"/>
                    </a:lnTo>
                    <a:cubicBezTo>
                      <a:pt x="13114" y="2"/>
                      <a:pt x="13115" y="3"/>
                      <a:pt x="13115" y="4"/>
                    </a:cubicBezTo>
                    <a:cubicBezTo>
                      <a:pt x="13115" y="6"/>
                      <a:pt x="13114" y="6"/>
                      <a:pt x="13113" y="6"/>
                    </a:cubicBezTo>
                    <a:lnTo>
                      <a:pt x="13113" y="6"/>
                    </a:lnTo>
                    <a:cubicBezTo>
                      <a:pt x="13112" y="6"/>
                      <a:pt x="13111" y="6"/>
                      <a:pt x="13111" y="4"/>
                    </a:cubicBezTo>
                    <a:cubicBezTo>
                      <a:pt x="13111" y="3"/>
                      <a:pt x="13112" y="2"/>
                      <a:pt x="13113" y="2"/>
                    </a:cubicBezTo>
                    <a:close/>
                    <a:moveTo>
                      <a:pt x="13121" y="2"/>
                    </a:moveTo>
                    <a:lnTo>
                      <a:pt x="13121" y="2"/>
                    </a:lnTo>
                    <a:cubicBezTo>
                      <a:pt x="13122" y="2"/>
                      <a:pt x="13123" y="3"/>
                      <a:pt x="13123" y="4"/>
                    </a:cubicBezTo>
                    <a:cubicBezTo>
                      <a:pt x="13123" y="6"/>
                      <a:pt x="13122" y="6"/>
                      <a:pt x="13121" y="6"/>
                    </a:cubicBezTo>
                    <a:lnTo>
                      <a:pt x="13121" y="6"/>
                    </a:lnTo>
                    <a:cubicBezTo>
                      <a:pt x="13120" y="6"/>
                      <a:pt x="13119" y="6"/>
                      <a:pt x="13119" y="4"/>
                    </a:cubicBezTo>
                    <a:cubicBezTo>
                      <a:pt x="13119" y="3"/>
                      <a:pt x="13120" y="2"/>
                      <a:pt x="13121" y="2"/>
                    </a:cubicBezTo>
                    <a:close/>
                    <a:moveTo>
                      <a:pt x="13129" y="2"/>
                    </a:moveTo>
                    <a:lnTo>
                      <a:pt x="13129" y="2"/>
                    </a:lnTo>
                    <a:cubicBezTo>
                      <a:pt x="13130" y="2"/>
                      <a:pt x="13131" y="3"/>
                      <a:pt x="13131" y="4"/>
                    </a:cubicBezTo>
                    <a:cubicBezTo>
                      <a:pt x="13131" y="6"/>
                      <a:pt x="13130" y="6"/>
                      <a:pt x="13129" y="6"/>
                    </a:cubicBezTo>
                    <a:lnTo>
                      <a:pt x="13129" y="6"/>
                    </a:lnTo>
                    <a:cubicBezTo>
                      <a:pt x="13128" y="6"/>
                      <a:pt x="13127" y="6"/>
                      <a:pt x="13127" y="4"/>
                    </a:cubicBezTo>
                    <a:cubicBezTo>
                      <a:pt x="13127" y="3"/>
                      <a:pt x="13128" y="2"/>
                      <a:pt x="13129" y="2"/>
                    </a:cubicBezTo>
                    <a:close/>
                    <a:moveTo>
                      <a:pt x="13137" y="2"/>
                    </a:moveTo>
                    <a:lnTo>
                      <a:pt x="13137" y="2"/>
                    </a:lnTo>
                    <a:cubicBezTo>
                      <a:pt x="13138" y="2"/>
                      <a:pt x="13139" y="3"/>
                      <a:pt x="13139" y="4"/>
                    </a:cubicBezTo>
                    <a:cubicBezTo>
                      <a:pt x="13139" y="6"/>
                      <a:pt x="13138" y="6"/>
                      <a:pt x="13137" y="6"/>
                    </a:cubicBezTo>
                    <a:lnTo>
                      <a:pt x="13137" y="6"/>
                    </a:lnTo>
                    <a:cubicBezTo>
                      <a:pt x="13136" y="6"/>
                      <a:pt x="13135" y="6"/>
                      <a:pt x="13135" y="4"/>
                    </a:cubicBezTo>
                    <a:cubicBezTo>
                      <a:pt x="13135" y="3"/>
                      <a:pt x="13136" y="2"/>
                      <a:pt x="13137" y="2"/>
                    </a:cubicBezTo>
                    <a:close/>
                    <a:moveTo>
                      <a:pt x="13145" y="2"/>
                    </a:moveTo>
                    <a:lnTo>
                      <a:pt x="13145" y="2"/>
                    </a:lnTo>
                    <a:cubicBezTo>
                      <a:pt x="13146" y="2"/>
                      <a:pt x="13147" y="3"/>
                      <a:pt x="13147" y="4"/>
                    </a:cubicBezTo>
                    <a:cubicBezTo>
                      <a:pt x="13147" y="6"/>
                      <a:pt x="13146" y="6"/>
                      <a:pt x="13145" y="6"/>
                    </a:cubicBezTo>
                    <a:lnTo>
                      <a:pt x="13145" y="6"/>
                    </a:lnTo>
                    <a:cubicBezTo>
                      <a:pt x="13144" y="6"/>
                      <a:pt x="13143" y="6"/>
                      <a:pt x="13143" y="4"/>
                    </a:cubicBezTo>
                    <a:cubicBezTo>
                      <a:pt x="13143" y="3"/>
                      <a:pt x="13144" y="2"/>
                      <a:pt x="13145" y="2"/>
                    </a:cubicBezTo>
                    <a:close/>
                    <a:moveTo>
                      <a:pt x="13153" y="2"/>
                    </a:moveTo>
                    <a:lnTo>
                      <a:pt x="13153" y="2"/>
                    </a:lnTo>
                    <a:cubicBezTo>
                      <a:pt x="13154" y="2"/>
                      <a:pt x="13155" y="3"/>
                      <a:pt x="13155" y="4"/>
                    </a:cubicBezTo>
                    <a:cubicBezTo>
                      <a:pt x="13155" y="6"/>
                      <a:pt x="13154" y="6"/>
                      <a:pt x="13153" y="6"/>
                    </a:cubicBezTo>
                    <a:lnTo>
                      <a:pt x="13153" y="6"/>
                    </a:lnTo>
                    <a:cubicBezTo>
                      <a:pt x="13152" y="6"/>
                      <a:pt x="13151" y="6"/>
                      <a:pt x="13151" y="4"/>
                    </a:cubicBezTo>
                    <a:cubicBezTo>
                      <a:pt x="13151" y="3"/>
                      <a:pt x="13152" y="2"/>
                      <a:pt x="13153" y="2"/>
                    </a:cubicBezTo>
                    <a:close/>
                    <a:moveTo>
                      <a:pt x="13161" y="2"/>
                    </a:moveTo>
                    <a:lnTo>
                      <a:pt x="13161" y="2"/>
                    </a:lnTo>
                    <a:cubicBezTo>
                      <a:pt x="13162" y="2"/>
                      <a:pt x="13163" y="3"/>
                      <a:pt x="13163" y="4"/>
                    </a:cubicBezTo>
                    <a:cubicBezTo>
                      <a:pt x="13163" y="6"/>
                      <a:pt x="13162" y="6"/>
                      <a:pt x="13161" y="6"/>
                    </a:cubicBezTo>
                    <a:lnTo>
                      <a:pt x="13161" y="6"/>
                    </a:lnTo>
                    <a:cubicBezTo>
                      <a:pt x="13160" y="6"/>
                      <a:pt x="13159" y="6"/>
                      <a:pt x="13159" y="4"/>
                    </a:cubicBezTo>
                    <a:cubicBezTo>
                      <a:pt x="13159" y="3"/>
                      <a:pt x="13160" y="2"/>
                      <a:pt x="13161" y="2"/>
                    </a:cubicBezTo>
                    <a:close/>
                    <a:moveTo>
                      <a:pt x="13169" y="2"/>
                    </a:moveTo>
                    <a:lnTo>
                      <a:pt x="13169" y="2"/>
                    </a:lnTo>
                    <a:cubicBezTo>
                      <a:pt x="13170" y="2"/>
                      <a:pt x="13171" y="3"/>
                      <a:pt x="13171" y="4"/>
                    </a:cubicBezTo>
                    <a:cubicBezTo>
                      <a:pt x="13171" y="6"/>
                      <a:pt x="13170" y="6"/>
                      <a:pt x="13169" y="6"/>
                    </a:cubicBezTo>
                    <a:lnTo>
                      <a:pt x="13169" y="6"/>
                    </a:lnTo>
                    <a:cubicBezTo>
                      <a:pt x="13168" y="6"/>
                      <a:pt x="13167" y="6"/>
                      <a:pt x="13167" y="4"/>
                    </a:cubicBezTo>
                    <a:cubicBezTo>
                      <a:pt x="13167" y="3"/>
                      <a:pt x="13168" y="2"/>
                      <a:pt x="13169" y="2"/>
                    </a:cubicBezTo>
                    <a:close/>
                    <a:moveTo>
                      <a:pt x="13177" y="2"/>
                    </a:moveTo>
                    <a:lnTo>
                      <a:pt x="13177" y="2"/>
                    </a:lnTo>
                    <a:cubicBezTo>
                      <a:pt x="13178" y="2"/>
                      <a:pt x="13179" y="3"/>
                      <a:pt x="13179" y="4"/>
                    </a:cubicBezTo>
                    <a:cubicBezTo>
                      <a:pt x="13179" y="6"/>
                      <a:pt x="13178" y="6"/>
                      <a:pt x="13177" y="6"/>
                    </a:cubicBezTo>
                    <a:lnTo>
                      <a:pt x="13177" y="6"/>
                    </a:lnTo>
                    <a:cubicBezTo>
                      <a:pt x="13176" y="6"/>
                      <a:pt x="13175" y="6"/>
                      <a:pt x="13175" y="4"/>
                    </a:cubicBezTo>
                    <a:cubicBezTo>
                      <a:pt x="13175" y="3"/>
                      <a:pt x="13176" y="2"/>
                      <a:pt x="13177" y="2"/>
                    </a:cubicBezTo>
                    <a:close/>
                    <a:moveTo>
                      <a:pt x="13185" y="2"/>
                    </a:moveTo>
                    <a:lnTo>
                      <a:pt x="13185" y="2"/>
                    </a:lnTo>
                    <a:cubicBezTo>
                      <a:pt x="13186" y="2"/>
                      <a:pt x="13187" y="3"/>
                      <a:pt x="13187" y="4"/>
                    </a:cubicBezTo>
                    <a:cubicBezTo>
                      <a:pt x="13187" y="6"/>
                      <a:pt x="13186" y="6"/>
                      <a:pt x="13185" y="6"/>
                    </a:cubicBezTo>
                    <a:lnTo>
                      <a:pt x="13185" y="6"/>
                    </a:lnTo>
                    <a:cubicBezTo>
                      <a:pt x="13184" y="6"/>
                      <a:pt x="13183" y="6"/>
                      <a:pt x="13183" y="4"/>
                    </a:cubicBezTo>
                    <a:cubicBezTo>
                      <a:pt x="13183" y="3"/>
                      <a:pt x="13184" y="2"/>
                      <a:pt x="13185" y="2"/>
                    </a:cubicBezTo>
                    <a:close/>
                    <a:moveTo>
                      <a:pt x="13193" y="3"/>
                    </a:moveTo>
                    <a:lnTo>
                      <a:pt x="13193" y="3"/>
                    </a:lnTo>
                    <a:cubicBezTo>
                      <a:pt x="13194" y="3"/>
                      <a:pt x="13195" y="3"/>
                      <a:pt x="13195" y="5"/>
                    </a:cubicBezTo>
                    <a:cubicBezTo>
                      <a:pt x="13195" y="6"/>
                      <a:pt x="13194" y="7"/>
                      <a:pt x="13193" y="7"/>
                    </a:cubicBezTo>
                    <a:lnTo>
                      <a:pt x="13193" y="7"/>
                    </a:lnTo>
                    <a:cubicBezTo>
                      <a:pt x="13192" y="7"/>
                      <a:pt x="13191" y="6"/>
                      <a:pt x="13191" y="5"/>
                    </a:cubicBezTo>
                    <a:cubicBezTo>
                      <a:pt x="13191" y="3"/>
                      <a:pt x="13192" y="3"/>
                      <a:pt x="13193" y="3"/>
                    </a:cubicBezTo>
                    <a:close/>
                    <a:moveTo>
                      <a:pt x="13201" y="3"/>
                    </a:moveTo>
                    <a:lnTo>
                      <a:pt x="13201" y="3"/>
                    </a:lnTo>
                    <a:cubicBezTo>
                      <a:pt x="13202" y="3"/>
                      <a:pt x="13203" y="3"/>
                      <a:pt x="13203" y="5"/>
                    </a:cubicBezTo>
                    <a:cubicBezTo>
                      <a:pt x="13203" y="6"/>
                      <a:pt x="13202" y="7"/>
                      <a:pt x="13201" y="7"/>
                    </a:cubicBezTo>
                    <a:lnTo>
                      <a:pt x="13201" y="7"/>
                    </a:lnTo>
                    <a:cubicBezTo>
                      <a:pt x="13200" y="7"/>
                      <a:pt x="13199" y="6"/>
                      <a:pt x="13199" y="5"/>
                    </a:cubicBezTo>
                    <a:cubicBezTo>
                      <a:pt x="13199" y="3"/>
                      <a:pt x="13200" y="3"/>
                      <a:pt x="13201" y="3"/>
                    </a:cubicBezTo>
                    <a:close/>
                    <a:moveTo>
                      <a:pt x="13209" y="3"/>
                    </a:moveTo>
                    <a:lnTo>
                      <a:pt x="13209" y="3"/>
                    </a:lnTo>
                    <a:cubicBezTo>
                      <a:pt x="13210" y="3"/>
                      <a:pt x="13211" y="3"/>
                      <a:pt x="13211" y="5"/>
                    </a:cubicBezTo>
                    <a:cubicBezTo>
                      <a:pt x="13211" y="6"/>
                      <a:pt x="13210" y="7"/>
                      <a:pt x="13209" y="7"/>
                    </a:cubicBezTo>
                    <a:lnTo>
                      <a:pt x="13209" y="7"/>
                    </a:lnTo>
                    <a:cubicBezTo>
                      <a:pt x="13208" y="7"/>
                      <a:pt x="13207" y="6"/>
                      <a:pt x="13207" y="5"/>
                    </a:cubicBezTo>
                    <a:cubicBezTo>
                      <a:pt x="13207" y="3"/>
                      <a:pt x="13208" y="3"/>
                      <a:pt x="13209" y="3"/>
                    </a:cubicBezTo>
                    <a:close/>
                    <a:moveTo>
                      <a:pt x="13217" y="3"/>
                    </a:moveTo>
                    <a:lnTo>
                      <a:pt x="13217" y="3"/>
                    </a:lnTo>
                    <a:cubicBezTo>
                      <a:pt x="13218" y="3"/>
                      <a:pt x="13219" y="3"/>
                      <a:pt x="13219" y="5"/>
                    </a:cubicBezTo>
                    <a:cubicBezTo>
                      <a:pt x="13219" y="6"/>
                      <a:pt x="13218" y="7"/>
                      <a:pt x="13217" y="7"/>
                    </a:cubicBezTo>
                    <a:lnTo>
                      <a:pt x="13217" y="7"/>
                    </a:lnTo>
                    <a:cubicBezTo>
                      <a:pt x="13216" y="7"/>
                      <a:pt x="13215" y="6"/>
                      <a:pt x="13215" y="5"/>
                    </a:cubicBezTo>
                    <a:cubicBezTo>
                      <a:pt x="13215" y="3"/>
                      <a:pt x="13216" y="3"/>
                      <a:pt x="13217" y="3"/>
                    </a:cubicBezTo>
                    <a:close/>
                    <a:moveTo>
                      <a:pt x="13225" y="3"/>
                    </a:moveTo>
                    <a:lnTo>
                      <a:pt x="13225" y="3"/>
                    </a:lnTo>
                    <a:cubicBezTo>
                      <a:pt x="13226" y="3"/>
                      <a:pt x="13227" y="3"/>
                      <a:pt x="13227" y="5"/>
                    </a:cubicBezTo>
                    <a:cubicBezTo>
                      <a:pt x="13227" y="6"/>
                      <a:pt x="13226" y="7"/>
                      <a:pt x="13225" y="7"/>
                    </a:cubicBezTo>
                    <a:lnTo>
                      <a:pt x="13225" y="7"/>
                    </a:lnTo>
                    <a:cubicBezTo>
                      <a:pt x="13224" y="7"/>
                      <a:pt x="13223" y="6"/>
                      <a:pt x="13223" y="5"/>
                    </a:cubicBezTo>
                    <a:cubicBezTo>
                      <a:pt x="13223" y="3"/>
                      <a:pt x="13224" y="3"/>
                      <a:pt x="13225" y="3"/>
                    </a:cubicBezTo>
                    <a:close/>
                    <a:moveTo>
                      <a:pt x="13233" y="3"/>
                    </a:moveTo>
                    <a:lnTo>
                      <a:pt x="13233" y="3"/>
                    </a:lnTo>
                    <a:cubicBezTo>
                      <a:pt x="13234" y="3"/>
                      <a:pt x="13235" y="3"/>
                      <a:pt x="13235" y="5"/>
                    </a:cubicBezTo>
                    <a:cubicBezTo>
                      <a:pt x="13235" y="6"/>
                      <a:pt x="13234" y="7"/>
                      <a:pt x="13233" y="7"/>
                    </a:cubicBezTo>
                    <a:lnTo>
                      <a:pt x="13233" y="7"/>
                    </a:lnTo>
                    <a:cubicBezTo>
                      <a:pt x="13232" y="7"/>
                      <a:pt x="13231" y="6"/>
                      <a:pt x="13231" y="5"/>
                    </a:cubicBezTo>
                    <a:cubicBezTo>
                      <a:pt x="13231" y="3"/>
                      <a:pt x="13232" y="3"/>
                      <a:pt x="13233" y="3"/>
                    </a:cubicBezTo>
                    <a:close/>
                    <a:moveTo>
                      <a:pt x="13241" y="3"/>
                    </a:moveTo>
                    <a:lnTo>
                      <a:pt x="13241" y="3"/>
                    </a:lnTo>
                    <a:cubicBezTo>
                      <a:pt x="13242" y="3"/>
                      <a:pt x="13243" y="3"/>
                      <a:pt x="13243" y="5"/>
                    </a:cubicBezTo>
                    <a:cubicBezTo>
                      <a:pt x="13243" y="6"/>
                      <a:pt x="13242" y="7"/>
                      <a:pt x="13241" y="7"/>
                    </a:cubicBezTo>
                    <a:lnTo>
                      <a:pt x="13241" y="7"/>
                    </a:lnTo>
                    <a:cubicBezTo>
                      <a:pt x="13240" y="7"/>
                      <a:pt x="13239" y="6"/>
                      <a:pt x="13239" y="5"/>
                    </a:cubicBezTo>
                    <a:cubicBezTo>
                      <a:pt x="13239" y="3"/>
                      <a:pt x="13240" y="3"/>
                      <a:pt x="13241" y="3"/>
                    </a:cubicBezTo>
                    <a:close/>
                    <a:moveTo>
                      <a:pt x="13249" y="3"/>
                    </a:moveTo>
                    <a:lnTo>
                      <a:pt x="13249" y="3"/>
                    </a:lnTo>
                    <a:cubicBezTo>
                      <a:pt x="13250" y="3"/>
                      <a:pt x="13251" y="3"/>
                      <a:pt x="13251" y="5"/>
                    </a:cubicBezTo>
                    <a:cubicBezTo>
                      <a:pt x="13251" y="6"/>
                      <a:pt x="13250" y="7"/>
                      <a:pt x="13249" y="7"/>
                    </a:cubicBezTo>
                    <a:lnTo>
                      <a:pt x="13249" y="7"/>
                    </a:lnTo>
                    <a:cubicBezTo>
                      <a:pt x="13248" y="7"/>
                      <a:pt x="13247" y="6"/>
                      <a:pt x="13247" y="5"/>
                    </a:cubicBezTo>
                    <a:cubicBezTo>
                      <a:pt x="13247" y="3"/>
                      <a:pt x="13248" y="3"/>
                      <a:pt x="13249" y="3"/>
                    </a:cubicBezTo>
                    <a:close/>
                    <a:moveTo>
                      <a:pt x="13257" y="3"/>
                    </a:moveTo>
                    <a:lnTo>
                      <a:pt x="13257" y="3"/>
                    </a:lnTo>
                    <a:cubicBezTo>
                      <a:pt x="13258" y="3"/>
                      <a:pt x="13259" y="3"/>
                      <a:pt x="13259" y="5"/>
                    </a:cubicBezTo>
                    <a:cubicBezTo>
                      <a:pt x="13259" y="6"/>
                      <a:pt x="13258" y="7"/>
                      <a:pt x="13257" y="7"/>
                    </a:cubicBezTo>
                    <a:lnTo>
                      <a:pt x="13257" y="7"/>
                    </a:lnTo>
                    <a:cubicBezTo>
                      <a:pt x="13256" y="7"/>
                      <a:pt x="13255" y="6"/>
                      <a:pt x="13255" y="5"/>
                    </a:cubicBezTo>
                    <a:cubicBezTo>
                      <a:pt x="13255" y="3"/>
                      <a:pt x="13256" y="3"/>
                      <a:pt x="13257" y="3"/>
                    </a:cubicBezTo>
                    <a:close/>
                    <a:moveTo>
                      <a:pt x="13265" y="3"/>
                    </a:moveTo>
                    <a:lnTo>
                      <a:pt x="13265" y="3"/>
                    </a:lnTo>
                    <a:cubicBezTo>
                      <a:pt x="13266" y="3"/>
                      <a:pt x="13267" y="3"/>
                      <a:pt x="13267" y="5"/>
                    </a:cubicBezTo>
                    <a:cubicBezTo>
                      <a:pt x="13267" y="6"/>
                      <a:pt x="13266" y="7"/>
                      <a:pt x="13265" y="7"/>
                    </a:cubicBezTo>
                    <a:lnTo>
                      <a:pt x="13265" y="7"/>
                    </a:lnTo>
                    <a:cubicBezTo>
                      <a:pt x="13264" y="7"/>
                      <a:pt x="13263" y="6"/>
                      <a:pt x="13263" y="5"/>
                    </a:cubicBezTo>
                    <a:cubicBezTo>
                      <a:pt x="13263" y="3"/>
                      <a:pt x="13264" y="3"/>
                      <a:pt x="13265" y="3"/>
                    </a:cubicBezTo>
                    <a:close/>
                    <a:moveTo>
                      <a:pt x="13273" y="3"/>
                    </a:moveTo>
                    <a:lnTo>
                      <a:pt x="13273" y="3"/>
                    </a:lnTo>
                    <a:cubicBezTo>
                      <a:pt x="13274" y="3"/>
                      <a:pt x="13275" y="3"/>
                      <a:pt x="13275" y="5"/>
                    </a:cubicBezTo>
                    <a:cubicBezTo>
                      <a:pt x="13275" y="6"/>
                      <a:pt x="13274" y="7"/>
                      <a:pt x="13273" y="7"/>
                    </a:cubicBezTo>
                    <a:lnTo>
                      <a:pt x="13273" y="7"/>
                    </a:lnTo>
                    <a:cubicBezTo>
                      <a:pt x="13272" y="7"/>
                      <a:pt x="13271" y="6"/>
                      <a:pt x="13271" y="5"/>
                    </a:cubicBezTo>
                    <a:cubicBezTo>
                      <a:pt x="13271" y="3"/>
                      <a:pt x="13272" y="3"/>
                      <a:pt x="13273" y="3"/>
                    </a:cubicBezTo>
                    <a:close/>
                    <a:moveTo>
                      <a:pt x="13281" y="3"/>
                    </a:moveTo>
                    <a:lnTo>
                      <a:pt x="13281" y="3"/>
                    </a:lnTo>
                    <a:cubicBezTo>
                      <a:pt x="13282" y="3"/>
                      <a:pt x="13283" y="3"/>
                      <a:pt x="13283" y="5"/>
                    </a:cubicBezTo>
                    <a:cubicBezTo>
                      <a:pt x="13283" y="6"/>
                      <a:pt x="13282" y="7"/>
                      <a:pt x="13281" y="7"/>
                    </a:cubicBezTo>
                    <a:lnTo>
                      <a:pt x="13281" y="7"/>
                    </a:lnTo>
                    <a:cubicBezTo>
                      <a:pt x="13280" y="7"/>
                      <a:pt x="13279" y="6"/>
                      <a:pt x="13279" y="5"/>
                    </a:cubicBezTo>
                    <a:cubicBezTo>
                      <a:pt x="13279" y="3"/>
                      <a:pt x="13280" y="3"/>
                      <a:pt x="13281" y="3"/>
                    </a:cubicBezTo>
                    <a:close/>
                    <a:moveTo>
                      <a:pt x="13289" y="3"/>
                    </a:moveTo>
                    <a:lnTo>
                      <a:pt x="13289" y="3"/>
                    </a:lnTo>
                    <a:cubicBezTo>
                      <a:pt x="13290" y="3"/>
                      <a:pt x="13291" y="3"/>
                      <a:pt x="13291" y="5"/>
                    </a:cubicBezTo>
                    <a:cubicBezTo>
                      <a:pt x="13291" y="6"/>
                      <a:pt x="13290" y="7"/>
                      <a:pt x="13289" y="7"/>
                    </a:cubicBezTo>
                    <a:lnTo>
                      <a:pt x="13289" y="7"/>
                    </a:lnTo>
                    <a:cubicBezTo>
                      <a:pt x="13288" y="7"/>
                      <a:pt x="13287" y="6"/>
                      <a:pt x="13287" y="5"/>
                    </a:cubicBezTo>
                    <a:cubicBezTo>
                      <a:pt x="13287" y="3"/>
                      <a:pt x="13288" y="3"/>
                      <a:pt x="13289" y="3"/>
                    </a:cubicBezTo>
                    <a:close/>
                    <a:moveTo>
                      <a:pt x="13297" y="3"/>
                    </a:moveTo>
                    <a:lnTo>
                      <a:pt x="13297" y="3"/>
                    </a:lnTo>
                    <a:cubicBezTo>
                      <a:pt x="13298" y="3"/>
                      <a:pt x="13299" y="3"/>
                      <a:pt x="13299" y="5"/>
                    </a:cubicBezTo>
                    <a:cubicBezTo>
                      <a:pt x="13299" y="6"/>
                      <a:pt x="13298" y="7"/>
                      <a:pt x="13297" y="7"/>
                    </a:cubicBezTo>
                    <a:lnTo>
                      <a:pt x="13297" y="7"/>
                    </a:lnTo>
                    <a:cubicBezTo>
                      <a:pt x="13296" y="7"/>
                      <a:pt x="13295" y="6"/>
                      <a:pt x="13295" y="5"/>
                    </a:cubicBezTo>
                    <a:cubicBezTo>
                      <a:pt x="13295" y="3"/>
                      <a:pt x="13296" y="3"/>
                      <a:pt x="13297" y="3"/>
                    </a:cubicBezTo>
                    <a:close/>
                    <a:moveTo>
                      <a:pt x="13305" y="3"/>
                    </a:moveTo>
                    <a:lnTo>
                      <a:pt x="13305" y="3"/>
                    </a:lnTo>
                    <a:cubicBezTo>
                      <a:pt x="13306" y="3"/>
                      <a:pt x="13307" y="3"/>
                      <a:pt x="13307" y="5"/>
                    </a:cubicBezTo>
                    <a:cubicBezTo>
                      <a:pt x="13307" y="6"/>
                      <a:pt x="13306" y="7"/>
                      <a:pt x="13305" y="7"/>
                    </a:cubicBezTo>
                    <a:lnTo>
                      <a:pt x="13305" y="7"/>
                    </a:lnTo>
                    <a:cubicBezTo>
                      <a:pt x="13304" y="7"/>
                      <a:pt x="13303" y="6"/>
                      <a:pt x="13303" y="5"/>
                    </a:cubicBezTo>
                    <a:cubicBezTo>
                      <a:pt x="13303" y="3"/>
                      <a:pt x="13304" y="3"/>
                      <a:pt x="13305" y="3"/>
                    </a:cubicBezTo>
                    <a:close/>
                    <a:moveTo>
                      <a:pt x="13313" y="3"/>
                    </a:moveTo>
                    <a:lnTo>
                      <a:pt x="13313" y="3"/>
                    </a:lnTo>
                    <a:cubicBezTo>
                      <a:pt x="13314" y="3"/>
                      <a:pt x="13315" y="3"/>
                      <a:pt x="13315" y="5"/>
                    </a:cubicBezTo>
                    <a:cubicBezTo>
                      <a:pt x="13315" y="6"/>
                      <a:pt x="13314" y="7"/>
                      <a:pt x="13313" y="7"/>
                    </a:cubicBezTo>
                    <a:lnTo>
                      <a:pt x="13313" y="7"/>
                    </a:lnTo>
                    <a:cubicBezTo>
                      <a:pt x="13312" y="7"/>
                      <a:pt x="13311" y="6"/>
                      <a:pt x="13311" y="5"/>
                    </a:cubicBezTo>
                    <a:cubicBezTo>
                      <a:pt x="13311" y="3"/>
                      <a:pt x="13312" y="3"/>
                      <a:pt x="13313" y="3"/>
                    </a:cubicBezTo>
                    <a:close/>
                    <a:moveTo>
                      <a:pt x="13321" y="3"/>
                    </a:moveTo>
                    <a:lnTo>
                      <a:pt x="13321" y="3"/>
                    </a:lnTo>
                    <a:cubicBezTo>
                      <a:pt x="13322" y="3"/>
                      <a:pt x="13323" y="3"/>
                      <a:pt x="13323" y="5"/>
                    </a:cubicBezTo>
                    <a:cubicBezTo>
                      <a:pt x="13323" y="6"/>
                      <a:pt x="13322" y="7"/>
                      <a:pt x="13321" y="7"/>
                    </a:cubicBezTo>
                    <a:lnTo>
                      <a:pt x="13321" y="7"/>
                    </a:lnTo>
                    <a:cubicBezTo>
                      <a:pt x="13320" y="7"/>
                      <a:pt x="13319" y="6"/>
                      <a:pt x="13319" y="5"/>
                    </a:cubicBezTo>
                    <a:cubicBezTo>
                      <a:pt x="13319" y="3"/>
                      <a:pt x="13320" y="3"/>
                      <a:pt x="13321" y="3"/>
                    </a:cubicBezTo>
                    <a:close/>
                    <a:moveTo>
                      <a:pt x="13329" y="3"/>
                    </a:moveTo>
                    <a:lnTo>
                      <a:pt x="13329" y="3"/>
                    </a:lnTo>
                    <a:cubicBezTo>
                      <a:pt x="13330" y="3"/>
                      <a:pt x="13331" y="3"/>
                      <a:pt x="13331" y="5"/>
                    </a:cubicBezTo>
                    <a:cubicBezTo>
                      <a:pt x="13331" y="6"/>
                      <a:pt x="13330" y="7"/>
                      <a:pt x="13329" y="7"/>
                    </a:cubicBezTo>
                    <a:lnTo>
                      <a:pt x="13329" y="7"/>
                    </a:lnTo>
                    <a:cubicBezTo>
                      <a:pt x="13328" y="7"/>
                      <a:pt x="13327" y="6"/>
                      <a:pt x="13327" y="5"/>
                    </a:cubicBezTo>
                    <a:cubicBezTo>
                      <a:pt x="13327" y="3"/>
                      <a:pt x="13328" y="3"/>
                      <a:pt x="13329" y="3"/>
                    </a:cubicBezTo>
                    <a:close/>
                    <a:moveTo>
                      <a:pt x="13337" y="3"/>
                    </a:moveTo>
                    <a:lnTo>
                      <a:pt x="13337" y="3"/>
                    </a:lnTo>
                    <a:cubicBezTo>
                      <a:pt x="13338" y="3"/>
                      <a:pt x="13339" y="3"/>
                      <a:pt x="13339" y="5"/>
                    </a:cubicBezTo>
                    <a:cubicBezTo>
                      <a:pt x="13339" y="6"/>
                      <a:pt x="13338" y="7"/>
                      <a:pt x="13337" y="7"/>
                    </a:cubicBezTo>
                    <a:lnTo>
                      <a:pt x="13337" y="7"/>
                    </a:lnTo>
                    <a:cubicBezTo>
                      <a:pt x="13336" y="7"/>
                      <a:pt x="13335" y="6"/>
                      <a:pt x="13335" y="5"/>
                    </a:cubicBezTo>
                    <a:cubicBezTo>
                      <a:pt x="13335" y="3"/>
                      <a:pt x="13336" y="3"/>
                      <a:pt x="13337" y="3"/>
                    </a:cubicBezTo>
                    <a:close/>
                    <a:moveTo>
                      <a:pt x="13345" y="3"/>
                    </a:moveTo>
                    <a:lnTo>
                      <a:pt x="13345" y="3"/>
                    </a:lnTo>
                    <a:cubicBezTo>
                      <a:pt x="13346" y="3"/>
                      <a:pt x="13347" y="3"/>
                      <a:pt x="13347" y="5"/>
                    </a:cubicBezTo>
                    <a:cubicBezTo>
                      <a:pt x="13347" y="6"/>
                      <a:pt x="13346" y="7"/>
                      <a:pt x="13345" y="7"/>
                    </a:cubicBezTo>
                    <a:lnTo>
                      <a:pt x="13345" y="7"/>
                    </a:lnTo>
                    <a:cubicBezTo>
                      <a:pt x="13344" y="7"/>
                      <a:pt x="13343" y="6"/>
                      <a:pt x="13343" y="5"/>
                    </a:cubicBezTo>
                    <a:cubicBezTo>
                      <a:pt x="13343" y="3"/>
                      <a:pt x="13344" y="3"/>
                      <a:pt x="13345" y="3"/>
                    </a:cubicBezTo>
                    <a:close/>
                    <a:moveTo>
                      <a:pt x="13353" y="3"/>
                    </a:moveTo>
                    <a:lnTo>
                      <a:pt x="13353" y="3"/>
                    </a:lnTo>
                    <a:cubicBezTo>
                      <a:pt x="13354" y="3"/>
                      <a:pt x="13355" y="3"/>
                      <a:pt x="13355" y="5"/>
                    </a:cubicBezTo>
                    <a:cubicBezTo>
                      <a:pt x="13355" y="6"/>
                      <a:pt x="13354" y="7"/>
                      <a:pt x="13353" y="7"/>
                    </a:cubicBezTo>
                    <a:lnTo>
                      <a:pt x="13353" y="7"/>
                    </a:lnTo>
                    <a:cubicBezTo>
                      <a:pt x="13352" y="7"/>
                      <a:pt x="13351" y="6"/>
                      <a:pt x="13351" y="5"/>
                    </a:cubicBezTo>
                    <a:cubicBezTo>
                      <a:pt x="13351" y="3"/>
                      <a:pt x="13352" y="3"/>
                      <a:pt x="13353" y="3"/>
                    </a:cubicBezTo>
                    <a:close/>
                    <a:moveTo>
                      <a:pt x="13361" y="3"/>
                    </a:moveTo>
                    <a:lnTo>
                      <a:pt x="13361" y="3"/>
                    </a:lnTo>
                    <a:cubicBezTo>
                      <a:pt x="13362" y="3"/>
                      <a:pt x="13363" y="3"/>
                      <a:pt x="13363" y="5"/>
                    </a:cubicBezTo>
                    <a:cubicBezTo>
                      <a:pt x="13363" y="6"/>
                      <a:pt x="13362" y="7"/>
                      <a:pt x="13361" y="7"/>
                    </a:cubicBezTo>
                    <a:lnTo>
                      <a:pt x="13361" y="7"/>
                    </a:lnTo>
                    <a:cubicBezTo>
                      <a:pt x="13360" y="7"/>
                      <a:pt x="13359" y="6"/>
                      <a:pt x="13359" y="5"/>
                    </a:cubicBezTo>
                    <a:cubicBezTo>
                      <a:pt x="13359" y="3"/>
                      <a:pt x="13360" y="3"/>
                      <a:pt x="13361" y="3"/>
                    </a:cubicBezTo>
                    <a:close/>
                    <a:moveTo>
                      <a:pt x="13369" y="3"/>
                    </a:moveTo>
                    <a:lnTo>
                      <a:pt x="13369" y="3"/>
                    </a:lnTo>
                    <a:cubicBezTo>
                      <a:pt x="13370" y="3"/>
                      <a:pt x="13371" y="3"/>
                      <a:pt x="13371" y="5"/>
                    </a:cubicBezTo>
                    <a:cubicBezTo>
                      <a:pt x="13371" y="6"/>
                      <a:pt x="13370" y="7"/>
                      <a:pt x="13369" y="7"/>
                    </a:cubicBezTo>
                    <a:lnTo>
                      <a:pt x="13369" y="7"/>
                    </a:lnTo>
                    <a:cubicBezTo>
                      <a:pt x="13368" y="7"/>
                      <a:pt x="13367" y="6"/>
                      <a:pt x="13367" y="5"/>
                    </a:cubicBezTo>
                    <a:cubicBezTo>
                      <a:pt x="13367" y="3"/>
                      <a:pt x="13368" y="3"/>
                      <a:pt x="13369" y="3"/>
                    </a:cubicBezTo>
                    <a:close/>
                    <a:moveTo>
                      <a:pt x="13377" y="3"/>
                    </a:moveTo>
                    <a:lnTo>
                      <a:pt x="13377" y="3"/>
                    </a:lnTo>
                    <a:cubicBezTo>
                      <a:pt x="13378" y="3"/>
                      <a:pt x="13379" y="3"/>
                      <a:pt x="13379" y="5"/>
                    </a:cubicBezTo>
                    <a:cubicBezTo>
                      <a:pt x="13379" y="6"/>
                      <a:pt x="13378" y="7"/>
                      <a:pt x="13377" y="7"/>
                    </a:cubicBezTo>
                    <a:lnTo>
                      <a:pt x="13377" y="7"/>
                    </a:lnTo>
                    <a:cubicBezTo>
                      <a:pt x="13376" y="7"/>
                      <a:pt x="13375" y="6"/>
                      <a:pt x="13375" y="5"/>
                    </a:cubicBezTo>
                    <a:cubicBezTo>
                      <a:pt x="13375" y="3"/>
                      <a:pt x="13376" y="3"/>
                      <a:pt x="13377" y="3"/>
                    </a:cubicBezTo>
                    <a:close/>
                    <a:moveTo>
                      <a:pt x="13385" y="3"/>
                    </a:moveTo>
                    <a:lnTo>
                      <a:pt x="13385" y="3"/>
                    </a:lnTo>
                    <a:cubicBezTo>
                      <a:pt x="13386" y="3"/>
                      <a:pt x="13387" y="3"/>
                      <a:pt x="13387" y="5"/>
                    </a:cubicBezTo>
                    <a:cubicBezTo>
                      <a:pt x="13387" y="6"/>
                      <a:pt x="13386" y="7"/>
                      <a:pt x="13385" y="7"/>
                    </a:cubicBezTo>
                    <a:lnTo>
                      <a:pt x="13385" y="7"/>
                    </a:lnTo>
                    <a:cubicBezTo>
                      <a:pt x="13384" y="7"/>
                      <a:pt x="13383" y="6"/>
                      <a:pt x="13383" y="5"/>
                    </a:cubicBezTo>
                    <a:cubicBezTo>
                      <a:pt x="13383" y="3"/>
                      <a:pt x="13384" y="3"/>
                      <a:pt x="13385" y="3"/>
                    </a:cubicBezTo>
                    <a:close/>
                    <a:moveTo>
                      <a:pt x="13393" y="3"/>
                    </a:moveTo>
                    <a:lnTo>
                      <a:pt x="13393" y="3"/>
                    </a:lnTo>
                    <a:cubicBezTo>
                      <a:pt x="13394" y="3"/>
                      <a:pt x="13395" y="3"/>
                      <a:pt x="13395" y="5"/>
                    </a:cubicBezTo>
                    <a:cubicBezTo>
                      <a:pt x="13395" y="6"/>
                      <a:pt x="13394" y="7"/>
                      <a:pt x="13393" y="7"/>
                    </a:cubicBezTo>
                    <a:lnTo>
                      <a:pt x="13393" y="7"/>
                    </a:lnTo>
                    <a:cubicBezTo>
                      <a:pt x="13392" y="7"/>
                      <a:pt x="13391" y="6"/>
                      <a:pt x="13391" y="5"/>
                    </a:cubicBezTo>
                    <a:cubicBezTo>
                      <a:pt x="13391" y="3"/>
                      <a:pt x="13392" y="3"/>
                      <a:pt x="13393" y="3"/>
                    </a:cubicBezTo>
                    <a:close/>
                    <a:moveTo>
                      <a:pt x="13401" y="3"/>
                    </a:moveTo>
                    <a:lnTo>
                      <a:pt x="13401" y="3"/>
                    </a:lnTo>
                    <a:cubicBezTo>
                      <a:pt x="13402" y="3"/>
                      <a:pt x="13403" y="3"/>
                      <a:pt x="13403" y="5"/>
                    </a:cubicBezTo>
                    <a:cubicBezTo>
                      <a:pt x="13403" y="6"/>
                      <a:pt x="13402" y="7"/>
                      <a:pt x="13401" y="7"/>
                    </a:cubicBezTo>
                    <a:lnTo>
                      <a:pt x="13401" y="7"/>
                    </a:lnTo>
                    <a:cubicBezTo>
                      <a:pt x="13400" y="7"/>
                      <a:pt x="13399" y="6"/>
                      <a:pt x="13399" y="5"/>
                    </a:cubicBezTo>
                    <a:cubicBezTo>
                      <a:pt x="13399" y="3"/>
                      <a:pt x="13400" y="3"/>
                      <a:pt x="13401" y="3"/>
                    </a:cubicBezTo>
                    <a:close/>
                    <a:moveTo>
                      <a:pt x="13409" y="3"/>
                    </a:moveTo>
                    <a:lnTo>
                      <a:pt x="13409" y="3"/>
                    </a:lnTo>
                    <a:cubicBezTo>
                      <a:pt x="13410" y="3"/>
                      <a:pt x="13411" y="3"/>
                      <a:pt x="13411" y="5"/>
                    </a:cubicBezTo>
                    <a:cubicBezTo>
                      <a:pt x="13411" y="6"/>
                      <a:pt x="13410" y="7"/>
                      <a:pt x="13409" y="7"/>
                    </a:cubicBezTo>
                    <a:lnTo>
                      <a:pt x="13409" y="7"/>
                    </a:lnTo>
                    <a:cubicBezTo>
                      <a:pt x="13408" y="7"/>
                      <a:pt x="13407" y="6"/>
                      <a:pt x="13407" y="5"/>
                    </a:cubicBezTo>
                    <a:cubicBezTo>
                      <a:pt x="13407" y="3"/>
                      <a:pt x="13408" y="3"/>
                      <a:pt x="13409" y="3"/>
                    </a:cubicBezTo>
                    <a:close/>
                    <a:moveTo>
                      <a:pt x="13417" y="3"/>
                    </a:moveTo>
                    <a:lnTo>
                      <a:pt x="13417" y="3"/>
                    </a:lnTo>
                    <a:cubicBezTo>
                      <a:pt x="13418" y="3"/>
                      <a:pt x="13419" y="3"/>
                      <a:pt x="13419" y="5"/>
                    </a:cubicBezTo>
                    <a:cubicBezTo>
                      <a:pt x="13419" y="6"/>
                      <a:pt x="13418" y="7"/>
                      <a:pt x="13417" y="7"/>
                    </a:cubicBezTo>
                    <a:lnTo>
                      <a:pt x="13417" y="7"/>
                    </a:lnTo>
                    <a:cubicBezTo>
                      <a:pt x="13416" y="7"/>
                      <a:pt x="13415" y="6"/>
                      <a:pt x="13415" y="5"/>
                    </a:cubicBezTo>
                    <a:cubicBezTo>
                      <a:pt x="13415" y="3"/>
                      <a:pt x="13416" y="3"/>
                      <a:pt x="13417" y="3"/>
                    </a:cubicBezTo>
                    <a:close/>
                    <a:moveTo>
                      <a:pt x="13425" y="3"/>
                    </a:moveTo>
                    <a:lnTo>
                      <a:pt x="13425" y="3"/>
                    </a:lnTo>
                    <a:cubicBezTo>
                      <a:pt x="13426" y="3"/>
                      <a:pt x="13427" y="3"/>
                      <a:pt x="13427" y="5"/>
                    </a:cubicBezTo>
                    <a:cubicBezTo>
                      <a:pt x="13427" y="6"/>
                      <a:pt x="13426" y="7"/>
                      <a:pt x="13425" y="7"/>
                    </a:cubicBezTo>
                    <a:lnTo>
                      <a:pt x="13425" y="7"/>
                    </a:lnTo>
                    <a:cubicBezTo>
                      <a:pt x="13424" y="7"/>
                      <a:pt x="13423" y="6"/>
                      <a:pt x="13423" y="5"/>
                    </a:cubicBezTo>
                    <a:cubicBezTo>
                      <a:pt x="13423" y="3"/>
                      <a:pt x="13424" y="3"/>
                      <a:pt x="13425" y="3"/>
                    </a:cubicBezTo>
                    <a:close/>
                    <a:moveTo>
                      <a:pt x="13433" y="3"/>
                    </a:moveTo>
                    <a:lnTo>
                      <a:pt x="13433" y="3"/>
                    </a:lnTo>
                    <a:cubicBezTo>
                      <a:pt x="13434" y="3"/>
                      <a:pt x="13435" y="3"/>
                      <a:pt x="13435" y="5"/>
                    </a:cubicBezTo>
                    <a:cubicBezTo>
                      <a:pt x="13435" y="6"/>
                      <a:pt x="13434" y="7"/>
                      <a:pt x="13433" y="7"/>
                    </a:cubicBezTo>
                    <a:lnTo>
                      <a:pt x="13433" y="7"/>
                    </a:lnTo>
                    <a:cubicBezTo>
                      <a:pt x="13432" y="7"/>
                      <a:pt x="13431" y="6"/>
                      <a:pt x="13431" y="5"/>
                    </a:cubicBezTo>
                    <a:cubicBezTo>
                      <a:pt x="13431" y="3"/>
                      <a:pt x="13432" y="3"/>
                      <a:pt x="13433" y="3"/>
                    </a:cubicBezTo>
                    <a:close/>
                    <a:moveTo>
                      <a:pt x="13441" y="3"/>
                    </a:moveTo>
                    <a:lnTo>
                      <a:pt x="13441" y="3"/>
                    </a:lnTo>
                    <a:cubicBezTo>
                      <a:pt x="13442" y="3"/>
                      <a:pt x="13443" y="3"/>
                      <a:pt x="13443" y="5"/>
                    </a:cubicBezTo>
                    <a:cubicBezTo>
                      <a:pt x="13443" y="6"/>
                      <a:pt x="13442" y="7"/>
                      <a:pt x="13441" y="7"/>
                    </a:cubicBezTo>
                    <a:lnTo>
                      <a:pt x="13441" y="7"/>
                    </a:lnTo>
                    <a:cubicBezTo>
                      <a:pt x="13440" y="7"/>
                      <a:pt x="13439" y="6"/>
                      <a:pt x="13439" y="5"/>
                    </a:cubicBezTo>
                    <a:cubicBezTo>
                      <a:pt x="13439" y="3"/>
                      <a:pt x="13440" y="3"/>
                      <a:pt x="13441" y="3"/>
                    </a:cubicBezTo>
                    <a:close/>
                    <a:moveTo>
                      <a:pt x="13449" y="3"/>
                    </a:moveTo>
                    <a:lnTo>
                      <a:pt x="13449" y="3"/>
                    </a:lnTo>
                    <a:cubicBezTo>
                      <a:pt x="13450" y="3"/>
                      <a:pt x="13451" y="3"/>
                      <a:pt x="13451" y="5"/>
                    </a:cubicBezTo>
                    <a:cubicBezTo>
                      <a:pt x="13451" y="6"/>
                      <a:pt x="13450" y="7"/>
                      <a:pt x="13449" y="7"/>
                    </a:cubicBezTo>
                    <a:lnTo>
                      <a:pt x="13449" y="7"/>
                    </a:lnTo>
                    <a:cubicBezTo>
                      <a:pt x="13448" y="7"/>
                      <a:pt x="13447" y="6"/>
                      <a:pt x="13447" y="5"/>
                    </a:cubicBezTo>
                    <a:cubicBezTo>
                      <a:pt x="13447" y="3"/>
                      <a:pt x="13448" y="3"/>
                      <a:pt x="13449" y="3"/>
                    </a:cubicBezTo>
                    <a:close/>
                    <a:moveTo>
                      <a:pt x="13457" y="3"/>
                    </a:moveTo>
                    <a:lnTo>
                      <a:pt x="13457" y="3"/>
                    </a:lnTo>
                    <a:cubicBezTo>
                      <a:pt x="13458" y="3"/>
                      <a:pt x="13459" y="3"/>
                      <a:pt x="13459" y="5"/>
                    </a:cubicBezTo>
                    <a:cubicBezTo>
                      <a:pt x="13459" y="6"/>
                      <a:pt x="13458" y="7"/>
                      <a:pt x="13457" y="7"/>
                    </a:cubicBezTo>
                    <a:lnTo>
                      <a:pt x="13457" y="7"/>
                    </a:lnTo>
                    <a:cubicBezTo>
                      <a:pt x="13456" y="7"/>
                      <a:pt x="13455" y="6"/>
                      <a:pt x="13455" y="5"/>
                    </a:cubicBezTo>
                    <a:cubicBezTo>
                      <a:pt x="13455" y="3"/>
                      <a:pt x="13456" y="3"/>
                      <a:pt x="13457" y="3"/>
                    </a:cubicBezTo>
                    <a:close/>
                    <a:moveTo>
                      <a:pt x="13465" y="3"/>
                    </a:moveTo>
                    <a:lnTo>
                      <a:pt x="13465" y="3"/>
                    </a:lnTo>
                    <a:cubicBezTo>
                      <a:pt x="13466" y="3"/>
                      <a:pt x="13467" y="3"/>
                      <a:pt x="13467" y="5"/>
                    </a:cubicBezTo>
                    <a:cubicBezTo>
                      <a:pt x="13467" y="6"/>
                      <a:pt x="13466" y="7"/>
                      <a:pt x="13465" y="7"/>
                    </a:cubicBezTo>
                    <a:lnTo>
                      <a:pt x="13465" y="7"/>
                    </a:lnTo>
                    <a:cubicBezTo>
                      <a:pt x="13464" y="7"/>
                      <a:pt x="13463" y="6"/>
                      <a:pt x="13463" y="5"/>
                    </a:cubicBezTo>
                    <a:cubicBezTo>
                      <a:pt x="13463" y="3"/>
                      <a:pt x="13464" y="3"/>
                      <a:pt x="13465" y="3"/>
                    </a:cubicBezTo>
                    <a:close/>
                    <a:moveTo>
                      <a:pt x="13473" y="3"/>
                    </a:moveTo>
                    <a:lnTo>
                      <a:pt x="13473" y="3"/>
                    </a:lnTo>
                    <a:cubicBezTo>
                      <a:pt x="13474" y="3"/>
                      <a:pt x="13475" y="3"/>
                      <a:pt x="13475" y="5"/>
                    </a:cubicBezTo>
                    <a:cubicBezTo>
                      <a:pt x="13475" y="6"/>
                      <a:pt x="13474" y="7"/>
                      <a:pt x="13473" y="7"/>
                    </a:cubicBezTo>
                    <a:lnTo>
                      <a:pt x="13473" y="7"/>
                    </a:lnTo>
                    <a:cubicBezTo>
                      <a:pt x="13472" y="7"/>
                      <a:pt x="13471" y="6"/>
                      <a:pt x="13471" y="5"/>
                    </a:cubicBezTo>
                    <a:cubicBezTo>
                      <a:pt x="13471" y="3"/>
                      <a:pt x="13472" y="3"/>
                      <a:pt x="13473" y="3"/>
                    </a:cubicBezTo>
                    <a:close/>
                    <a:moveTo>
                      <a:pt x="13481" y="3"/>
                    </a:moveTo>
                    <a:lnTo>
                      <a:pt x="13481" y="3"/>
                    </a:lnTo>
                    <a:cubicBezTo>
                      <a:pt x="13482" y="3"/>
                      <a:pt x="13483" y="3"/>
                      <a:pt x="13483" y="5"/>
                    </a:cubicBezTo>
                    <a:cubicBezTo>
                      <a:pt x="13483" y="6"/>
                      <a:pt x="13482" y="7"/>
                      <a:pt x="13481" y="7"/>
                    </a:cubicBezTo>
                    <a:lnTo>
                      <a:pt x="13481" y="7"/>
                    </a:lnTo>
                    <a:cubicBezTo>
                      <a:pt x="13480" y="7"/>
                      <a:pt x="13479" y="6"/>
                      <a:pt x="13479" y="5"/>
                    </a:cubicBezTo>
                    <a:cubicBezTo>
                      <a:pt x="13479" y="3"/>
                      <a:pt x="13480" y="3"/>
                      <a:pt x="13481" y="3"/>
                    </a:cubicBezTo>
                    <a:close/>
                    <a:moveTo>
                      <a:pt x="13489" y="3"/>
                    </a:moveTo>
                    <a:lnTo>
                      <a:pt x="13489" y="3"/>
                    </a:lnTo>
                    <a:cubicBezTo>
                      <a:pt x="13490" y="3"/>
                      <a:pt x="13491" y="3"/>
                      <a:pt x="13491" y="5"/>
                    </a:cubicBezTo>
                    <a:cubicBezTo>
                      <a:pt x="13491" y="6"/>
                      <a:pt x="13490" y="7"/>
                      <a:pt x="13489" y="7"/>
                    </a:cubicBezTo>
                    <a:lnTo>
                      <a:pt x="13489" y="7"/>
                    </a:lnTo>
                    <a:cubicBezTo>
                      <a:pt x="13488" y="7"/>
                      <a:pt x="13487" y="6"/>
                      <a:pt x="13487" y="5"/>
                    </a:cubicBezTo>
                    <a:cubicBezTo>
                      <a:pt x="13487" y="3"/>
                      <a:pt x="13488" y="3"/>
                      <a:pt x="13489" y="3"/>
                    </a:cubicBezTo>
                    <a:close/>
                    <a:moveTo>
                      <a:pt x="13497" y="3"/>
                    </a:moveTo>
                    <a:lnTo>
                      <a:pt x="13497" y="3"/>
                    </a:lnTo>
                    <a:cubicBezTo>
                      <a:pt x="13498" y="3"/>
                      <a:pt x="13499" y="3"/>
                      <a:pt x="13499" y="5"/>
                    </a:cubicBezTo>
                    <a:cubicBezTo>
                      <a:pt x="13499" y="6"/>
                      <a:pt x="13498" y="7"/>
                      <a:pt x="13497" y="7"/>
                    </a:cubicBezTo>
                    <a:lnTo>
                      <a:pt x="13497" y="7"/>
                    </a:lnTo>
                    <a:cubicBezTo>
                      <a:pt x="13496" y="7"/>
                      <a:pt x="13495" y="6"/>
                      <a:pt x="13495" y="5"/>
                    </a:cubicBezTo>
                    <a:cubicBezTo>
                      <a:pt x="13495" y="3"/>
                      <a:pt x="13496" y="3"/>
                      <a:pt x="13497" y="3"/>
                    </a:cubicBezTo>
                    <a:close/>
                    <a:moveTo>
                      <a:pt x="13505" y="3"/>
                    </a:moveTo>
                    <a:lnTo>
                      <a:pt x="13505" y="3"/>
                    </a:lnTo>
                    <a:cubicBezTo>
                      <a:pt x="13506" y="3"/>
                      <a:pt x="13507" y="3"/>
                      <a:pt x="13507" y="5"/>
                    </a:cubicBezTo>
                    <a:cubicBezTo>
                      <a:pt x="13507" y="6"/>
                      <a:pt x="13506" y="7"/>
                      <a:pt x="13505" y="7"/>
                    </a:cubicBezTo>
                    <a:lnTo>
                      <a:pt x="13505" y="7"/>
                    </a:lnTo>
                    <a:cubicBezTo>
                      <a:pt x="13504" y="7"/>
                      <a:pt x="13503" y="6"/>
                      <a:pt x="13503" y="5"/>
                    </a:cubicBezTo>
                    <a:cubicBezTo>
                      <a:pt x="13503" y="3"/>
                      <a:pt x="13504" y="3"/>
                      <a:pt x="13505" y="3"/>
                    </a:cubicBezTo>
                    <a:close/>
                    <a:moveTo>
                      <a:pt x="13513" y="3"/>
                    </a:moveTo>
                    <a:lnTo>
                      <a:pt x="13513" y="3"/>
                    </a:lnTo>
                    <a:cubicBezTo>
                      <a:pt x="13514" y="3"/>
                      <a:pt x="13515" y="3"/>
                      <a:pt x="13515" y="5"/>
                    </a:cubicBezTo>
                    <a:cubicBezTo>
                      <a:pt x="13515" y="6"/>
                      <a:pt x="13514" y="7"/>
                      <a:pt x="13513" y="7"/>
                    </a:cubicBezTo>
                    <a:lnTo>
                      <a:pt x="13513" y="7"/>
                    </a:lnTo>
                    <a:cubicBezTo>
                      <a:pt x="13512" y="7"/>
                      <a:pt x="13511" y="6"/>
                      <a:pt x="13511" y="5"/>
                    </a:cubicBezTo>
                    <a:cubicBezTo>
                      <a:pt x="13511" y="3"/>
                      <a:pt x="13512" y="3"/>
                      <a:pt x="13513" y="3"/>
                    </a:cubicBezTo>
                    <a:close/>
                    <a:moveTo>
                      <a:pt x="13521" y="3"/>
                    </a:moveTo>
                    <a:lnTo>
                      <a:pt x="13521" y="3"/>
                    </a:lnTo>
                    <a:cubicBezTo>
                      <a:pt x="13522" y="3"/>
                      <a:pt x="13523" y="3"/>
                      <a:pt x="13523" y="5"/>
                    </a:cubicBezTo>
                    <a:cubicBezTo>
                      <a:pt x="13523" y="6"/>
                      <a:pt x="13522" y="7"/>
                      <a:pt x="13521" y="7"/>
                    </a:cubicBezTo>
                    <a:lnTo>
                      <a:pt x="13521" y="7"/>
                    </a:lnTo>
                    <a:cubicBezTo>
                      <a:pt x="13520" y="7"/>
                      <a:pt x="13519" y="6"/>
                      <a:pt x="13519" y="5"/>
                    </a:cubicBezTo>
                    <a:cubicBezTo>
                      <a:pt x="13519" y="3"/>
                      <a:pt x="13520" y="3"/>
                      <a:pt x="13521" y="3"/>
                    </a:cubicBezTo>
                    <a:close/>
                    <a:moveTo>
                      <a:pt x="13529" y="3"/>
                    </a:moveTo>
                    <a:lnTo>
                      <a:pt x="13529" y="3"/>
                    </a:lnTo>
                    <a:cubicBezTo>
                      <a:pt x="13530" y="3"/>
                      <a:pt x="13531" y="3"/>
                      <a:pt x="13531" y="5"/>
                    </a:cubicBezTo>
                    <a:cubicBezTo>
                      <a:pt x="13531" y="6"/>
                      <a:pt x="13530" y="7"/>
                      <a:pt x="13529" y="7"/>
                    </a:cubicBezTo>
                    <a:lnTo>
                      <a:pt x="13529" y="7"/>
                    </a:lnTo>
                    <a:cubicBezTo>
                      <a:pt x="13528" y="7"/>
                      <a:pt x="13527" y="6"/>
                      <a:pt x="13527" y="5"/>
                    </a:cubicBezTo>
                    <a:cubicBezTo>
                      <a:pt x="13527" y="3"/>
                      <a:pt x="13528" y="3"/>
                      <a:pt x="13529" y="3"/>
                    </a:cubicBezTo>
                    <a:close/>
                    <a:moveTo>
                      <a:pt x="13537" y="3"/>
                    </a:moveTo>
                    <a:lnTo>
                      <a:pt x="13537" y="3"/>
                    </a:lnTo>
                    <a:cubicBezTo>
                      <a:pt x="13538" y="3"/>
                      <a:pt x="13539" y="3"/>
                      <a:pt x="13539" y="5"/>
                    </a:cubicBezTo>
                    <a:cubicBezTo>
                      <a:pt x="13539" y="6"/>
                      <a:pt x="13538" y="7"/>
                      <a:pt x="13537" y="7"/>
                    </a:cubicBezTo>
                    <a:lnTo>
                      <a:pt x="13537" y="7"/>
                    </a:lnTo>
                    <a:cubicBezTo>
                      <a:pt x="13536" y="7"/>
                      <a:pt x="13535" y="6"/>
                      <a:pt x="13535" y="5"/>
                    </a:cubicBezTo>
                    <a:cubicBezTo>
                      <a:pt x="13535" y="3"/>
                      <a:pt x="13536" y="3"/>
                      <a:pt x="13537" y="3"/>
                    </a:cubicBezTo>
                    <a:close/>
                    <a:moveTo>
                      <a:pt x="13545" y="3"/>
                    </a:moveTo>
                    <a:lnTo>
                      <a:pt x="13545" y="3"/>
                    </a:lnTo>
                    <a:cubicBezTo>
                      <a:pt x="13546" y="3"/>
                      <a:pt x="13547" y="3"/>
                      <a:pt x="13547" y="5"/>
                    </a:cubicBezTo>
                    <a:cubicBezTo>
                      <a:pt x="13547" y="6"/>
                      <a:pt x="13546" y="7"/>
                      <a:pt x="13545" y="7"/>
                    </a:cubicBezTo>
                    <a:lnTo>
                      <a:pt x="13545" y="7"/>
                    </a:lnTo>
                    <a:cubicBezTo>
                      <a:pt x="13544" y="7"/>
                      <a:pt x="13543" y="6"/>
                      <a:pt x="13543" y="5"/>
                    </a:cubicBezTo>
                    <a:cubicBezTo>
                      <a:pt x="13543" y="3"/>
                      <a:pt x="13544" y="3"/>
                      <a:pt x="13545" y="3"/>
                    </a:cubicBezTo>
                    <a:close/>
                    <a:moveTo>
                      <a:pt x="13553" y="3"/>
                    </a:moveTo>
                    <a:lnTo>
                      <a:pt x="13553" y="3"/>
                    </a:lnTo>
                    <a:cubicBezTo>
                      <a:pt x="13554" y="3"/>
                      <a:pt x="13555" y="3"/>
                      <a:pt x="13555" y="5"/>
                    </a:cubicBezTo>
                    <a:cubicBezTo>
                      <a:pt x="13555" y="6"/>
                      <a:pt x="13554" y="7"/>
                      <a:pt x="13553" y="7"/>
                    </a:cubicBezTo>
                    <a:lnTo>
                      <a:pt x="13553" y="7"/>
                    </a:lnTo>
                    <a:cubicBezTo>
                      <a:pt x="13552" y="7"/>
                      <a:pt x="13551" y="6"/>
                      <a:pt x="13551" y="5"/>
                    </a:cubicBezTo>
                    <a:cubicBezTo>
                      <a:pt x="13551" y="3"/>
                      <a:pt x="13552" y="3"/>
                      <a:pt x="13553" y="3"/>
                    </a:cubicBezTo>
                    <a:close/>
                    <a:moveTo>
                      <a:pt x="13561" y="3"/>
                    </a:moveTo>
                    <a:lnTo>
                      <a:pt x="13561" y="3"/>
                    </a:lnTo>
                    <a:cubicBezTo>
                      <a:pt x="13562" y="3"/>
                      <a:pt x="13563" y="3"/>
                      <a:pt x="13563" y="5"/>
                    </a:cubicBezTo>
                    <a:cubicBezTo>
                      <a:pt x="13563" y="6"/>
                      <a:pt x="13562" y="7"/>
                      <a:pt x="13561" y="7"/>
                    </a:cubicBezTo>
                    <a:lnTo>
                      <a:pt x="13561" y="7"/>
                    </a:lnTo>
                    <a:cubicBezTo>
                      <a:pt x="13560" y="7"/>
                      <a:pt x="13559" y="6"/>
                      <a:pt x="13559" y="5"/>
                    </a:cubicBezTo>
                    <a:cubicBezTo>
                      <a:pt x="13559" y="3"/>
                      <a:pt x="13560" y="3"/>
                      <a:pt x="13561" y="3"/>
                    </a:cubicBezTo>
                    <a:close/>
                    <a:moveTo>
                      <a:pt x="13569" y="3"/>
                    </a:moveTo>
                    <a:lnTo>
                      <a:pt x="13569" y="3"/>
                    </a:lnTo>
                    <a:cubicBezTo>
                      <a:pt x="13570" y="3"/>
                      <a:pt x="13571" y="3"/>
                      <a:pt x="13571" y="5"/>
                    </a:cubicBezTo>
                    <a:cubicBezTo>
                      <a:pt x="13571" y="6"/>
                      <a:pt x="13570" y="7"/>
                      <a:pt x="13569" y="7"/>
                    </a:cubicBezTo>
                    <a:lnTo>
                      <a:pt x="13569" y="7"/>
                    </a:lnTo>
                    <a:cubicBezTo>
                      <a:pt x="13568" y="7"/>
                      <a:pt x="13567" y="6"/>
                      <a:pt x="13567" y="5"/>
                    </a:cubicBezTo>
                    <a:cubicBezTo>
                      <a:pt x="13567" y="3"/>
                      <a:pt x="13568" y="3"/>
                      <a:pt x="13569" y="3"/>
                    </a:cubicBezTo>
                    <a:close/>
                    <a:moveTo>
                      <a:pt x="13577" y="3"/>
                    </a:moveTo>
                    <a:lnTo>
                      <a:pt x="13577" y="3"/>
                    </a:lnTo>
                    <a:cubicBezTo>
                      <a:pt x="13578" y="3"/>
                      <a:pt x="13579" y="3"/>
                      <a:pt x="13579" y="5"/>
                    </a:cubicBezTo>
                    <a:cubicBezTo>
                      <a:pt x="13579" y="6"/>
                      <a:pt x="13578" y="7"/>
                      <a:pt x="13577" y="7"/>
                    </a:cubicBezTo>
                    <a:lnTo>
                      <a:pt x="13577" y="7"/>
                    </a:lnTo>
                    <a:cubicBezTo>
                      <a:pt x="13576" y="7"/>
                      <a:pt x="13575" y="6"/>
                      <a:pt x="13575" y="5"/>
                    </a:cubicBezTo>
                    <a:cubicBezTo>
                      <a:pt x="13575" y="3"/>
                      <a:pt x="13576" y="3"/>
                      <a:pt x="13577" y="3"/>
                    </a:cubicBezTo>
                    <a:close/>
                    <a:moveTo>
                      <a:pt x="13585" y="3"/>
                    </a:moveTo>
                    <a:lnTo>
                      <a:pt x="13585" y="3"/>
                    </a:lnTo>
                    <a:cubicBezTo>
                      <a:pt x="13586" y="3"/>
                      <a:pt x="13587" y="3"/>
                      <a:pt x="13587" y="5"/>
                    </a:cubicBezTo>
                    <a:cubicBezTo>
                      <a:pt x="13587" y="6"/>
                      <a:pt x="13586" y="7"/>
                      <a:pt x="13585" y="7"/>
                    </a:cubicBezTo>
                    <a:lnTo>
                      <a:pt x="13585" y="7"/>
                    </a:lnTo>
                    <a:cubicBezTo>
                      <a:pt x="13584" y="7"/>
                      <a:pt x="13583" y="6"/>
                      <a:pt x="13583" y="5"/>
                    </a:cubicBezTo>
                    <a:cubicBezTo>
                      <a:pt x="13583" y="3"/>
                      <a:pt x="13584" y="3"/>
                      <a:pt x="13585" y="3"/>
                    </a:cubicBezTo>
                    <a:close/>
                    <a:moveTo>
                      <a:pt x="13593" y="3"/>
                    </a:moveTo>
                    <a:lnTo>
                      <a:pt x="13593" y="3"/>
                    </a:lnTo>
                    <a:cubicBezTo>
                      <a:pt x="13594" y="3"/>
                      <a:pt x="13595" y="3"/>
                      <a:pt x="13595" y="5"/>
                    </a:cubicBezTo>
                    <a:cubicBezTo>
                      <a:pt x="13595" y="6"/>
                      <a:pt x="13594" y="7"/>
                      <a:pt x="13593" y="7"/>
                    </a:cubicBezTo>
                    <a:lnTo>
                      <a:pt x="13593" y="7"/>
                    </a:lnTo>
                    <a:cubicBezTo>
                      <a:pt x="13592" y="7"/>
                      <a:pt x="13591" y="6"/>
                      <a:pt x="13591" y="5"/>
                    </a:cubicBezTo>
                    <a:cubicBezTo>
                      <a:pt x="13591" y="3"/>
                      <a:pt x="13592" y="3"/>
                      <a:pt x="13593" y="3"/>
                    </a:cubicBezTo>
                    <a:close/>
                    <a:moveTo>
                      <a:pt x="13601" y="3"/>
                    </a:moveTo>
                    <a:lnTo>
                      <a:pt x="13601" y="3"/>
                    </a:lnTo>
                    <a:cubicBezTo>
                      <a:pt x="13602" y="3"/>
                      <a:pt x="13603" y="3"/>
                      <a:pt x="13603" y="5"/>
                    </a:cubicBezTo>
                    <a:cubicBezTo>
                      <a:pt x="13603" y="6"/>
                      <a:pt x="13602" y="7"/>
                      <a:pt x="13601" y="7"/>
                    </a:cubicBezTo>
                    <a:lnTo>
                      <a:pt x="13601" y="7"/>
                    </a:lnTo>
                    <a:cubicBezTo>
                      <a:pt x="13600" y="7"/>
                      <a:pt x="13599" y="6"/>
                      <a:pt x="13599" y="5"/>
                    </a:cubicBezTo>
                    <a:cubicBezTo>
                      <a:pt x="13599" y="3"/>
                      <a:pt x="13600" y="3"/>
                      <a:pt x="13601" y="3"/>
                    </a:cubicBezTo>
                    <a:close/>
                    <a:moveTo>
                      <a:pt x="13609" y="3"/>
                    </a:moveTo>
                    <a:lnTo>
                      <a:pt x="13609" y="3"/>
                    </a:lnTo>
                    <a:cubicBezTo>
                      <a:pt x="13610" y="3"/>
                      <a:pt x="13611" y="3"/>
                      <a:pt x="13611" y="5"/>
                    </a:cubicBezTo>
                    <a:cubicBezTo>
                      <a:pt x="13611" y="6"/>
                      <a:pt x="13610" y="7"/>
                      <a:pt x="13609" y="7"/>
                    </a:cubicBezTo>
                    <a:lnTo>
                      <a:pt x="13609" y="7"/>
                    </a:lnTo>
                    <a:cubicBezTo>
                      <a:pt x="13608" y="7"/>
                      <a:pt x="13607" y="6"/>
                      <a:pt x="13607" y="5"/>
                    </a:cubicBezTo>
                    <a:cubicBezTo>
                      <a:pt x="13607" y="3"/>
                      <a:pt x="13608" y="3"/>
                      <a:pt x="13609" y="3"/>
                    </a:cubicBezTo>
                    <a:close/>
                    <a:moveTo>
                      <a:pt x="13617" y="3"/>
                    </a:moveTo>
                    <a:lnTo>
                      <a:pt x="13617" y="3"/>
                    </a:lnTo>
                    <a:cubicBezTo>
                      <a:pt x="13618" y="3"/>
                      <a:pt x="13619" y="4"/>
                      <a:pt x="13619" y="5"/>
                    </a:cubicBezTo>
                    <a:cubicBezTo>
                      <a:pt x="13619" y="6"/>
                      <a:pt x="13618" y="7"/>
                      <a:pt x="13617" y="7"/>
                    </a:cubicBezTo>
                    <a:lnTo>
                      <a:pt x="13617" y="7"/>
                    </a:lnTo>
                    <a:cubicBezTo>
                      <a:pt x="13616" y="7"/>
                      <a:pt x="13615" y="6"/>
                      <a:pt x="13615" y="5"/>
                    </a:cubicBezTo>
                    <a:cubicBezTo>
                      <a:pt x="13615" y="4"/>
                      <a:pt x="13616" y="3"/>
                      <a:pt x="13617" y="3"/>
                    </a:cubicBezTo>
                    <a:close/>
                    <a:moveTo>
                      <a:pt x="13625" y="3"/>
                    </a:moveTo>
                    <a:lnTo>
                      <a:pt x="13625" y="3"/>
                    </a:lnTo>
                    <a:cubicBezTo>
                      <a:pt x="13626" y="3"/>
                      <a:pt x="13627" y="4"/>
                      <a:pt x="13627" y="5"/>
                    </a:cubicBezTo>
                    <a:cubicBezTo>
                      <a:pt x="13627" y="6"/>
                      <a:pt x="13626" y="7"/>
                      <a:pt x="13625" y="7"/>
                    </a:cubicBezTo>
                    <a:lnTo>
                      <a:pt x="13625" y="7"/>
                    </a:lnTo>
                    <a:cubicBezTo>
                      <a:pt x="13624" y="7"/>
                      <a:pt x="13623" y="6"/>
                      <a:pt x="13623" y="5"/>
                    </a:cubicBezTo>
                    <a:cubicBezTo>
                      <a:pt x="13623" y="4"/>
                      <a:pt x="13624" y="3"/>
                      <a:pt x="13625" y="3"/>
                    </a:cubicBezTo>
                    <a:close/>
                    <a:moveTo>
                      <a:pt x="13633" y="3"/>
                    </a:moveTo>
                    <a:lnTo>
                      <a:pt x="13633" y="3"/>
                    </a:lnTo>
                    <a:cubicBezTo>
                      <a:pt x="13634" y="3"/>
                      <a:pt x="13635" y="4"/>
                      <a:pt x="13635" y="5"/>
                    </a:cubicBezTo>
                    <a:cubicBezTo>
                      <a:pt x="13635" y="6"/>
                      <a:pt x="13634" y="7"/>
                      <a:pt x="13633" y="7"/>
                    </a:cubicBezTo>
                    <a:lnTo>
                      <a:pt x="13633" y="7"/>
                    </a:lnTo>
                    <a:cubicBezTo>
                      <a:pt x="13632" y="7"/>
                      <a:pt x="13631" y="6"/>
                      <a:pt x="13631" y="5"/>
                    </a:cubicBezTo>
                    <a:cubicBezTo>
                      <a:pt x="13631" y="4"/>
                      <a:pt x="13632" y="3"/>
                      <a:pt x="13633" y="3"/>
                    </a:cubicBezTo>
                    <a:close/>
                    <a:moveTo>
                      <a:pt x="13641" y="3"/>
                    </a:moveTo>
                    <a:lnTo>
                      <a:pt x="13641" y="3"/>
                    </a:lnTo>
                    <a:cubicBezTo>
                      <a:pt x="13642" y="3"/>
                      <a:pt x="13643" y="4"/>
                      <a:pt x="13643" y="5"/>
                    </a:cubicBezTo>
                    <a:cubicBezTo>
                      <a:pt x="13643" y="6"/>
                      <a:pt x="13642" y="7"/>
                      <a:pt x="13641" y="7"/>
                    </a:cubicBezTo>
                    <a:lnTo>
                      <a:pt x="13641" y="7"/>
                    </a:lnTo>
                    <a:cubicBezTo>
                      <a:pt x="13640" y="7"/>
                      <a:pt x="13639" y="6"/>
                      <a:pt x="13639" y="5"/>
                    </a:cubicBezTo>
                    <a:cubicBezTo>
                      <a:pt x="13639" y="4"/>
                      <a:pt x="13640" y="3"/>
                      <a:pt x="13641" y="3"/>
                    </a:cubicBezTo>
                    <a:close/>
                    <a:moveTo>
                      <a:pt x="13649" y="3"/>
                    </a:moveTo>
                    <a:lnTo>
                      <a:pt x="13649" y="3"/>
                    </a:lnTo>
                    <a:cubicBezTo>
                      <a:pt x="13650" y="3"/>
                      <a:pt x="13651" y="4"/>
                      <a:pt x="13651" y="5"/>
                    </a:cubicBezTo>
                    <a:cubicBezTo>
                      <a:pt x="13651" y="6"/>
                      <a:pt x="13650" y="7"/>
                      <a:pt x="13649" y="7"/>
                    </a:cubicBezTo>
                    <a:lnTo>
                      <a:pt x="13649" y="7"/>
                    </a:lnTo>
                    <a:cubicBezTo>
                      <a:pt x="13648" y="7"/>
                      <a:pt x="13647" y="6"/>
                      <a:pt x="13647" y="5"/>
                    </a:cubicBezTo>
                    <a:cubicBezTo>
                      <a:pt x="13647" y="4"/>
                      <a:pt x="13648" y="3"/>
                      <a:pt x="13649" y="3"/>
                    </a:cubicBezTo>
                    <a:close/>
                    <a:moveTo>
                      <a:pt x="13657" y="3"/>
                    </a:moveTo>
                    <a:lnTo>
                      <a:pt x="13657" y="3"/>
                    </a:lnTo>
                    <a:cubicBezTo>
                      <a:pt x="13658" y="3"/>
                      <a:pt x="13659" y="4"/>
                      <a:pt x="13659" y="5"/>
                    </a:cubicBezTo>
                    <a:cubicBezTo>
                      <a:pt x="13659" y="6"/>
                      <a:pt x="13658" y="7"/>
                      <a:pt x="13657" y="7"/>
                    </a:cubicBezTo>
                    <a:lnTo>
                      <a:pt x="13657" y="7"/>
                    </a:lnTo>
                    <a:cubicBezTo>
                      <a:pt x="13656" y="7"/>
                      <a:pt x="13655" y="6"/>
                      <a:pt x="13655" y="5"/>
                    </a:cubicBezTo>
                    <a:cubicBezTo>
                      <a:pt x="13655" y="4"/>
                      <a:pt x="13656" y="3"/>
                      <a:pt x="13657" y="3"/>
                    </a:cubicBezTo>
                    <a:close/>
                    <a:moveTo>
                      <a:pt x="13665" y="3"/>
                    </a:moveTo>
                    <a:lnTo>
                      <a:pt x="13665" y="3"/>
                    </a:lnTo>
                    <a:cubicBezTo>
                      <a:pt x="13666" y="3"/>
                      <a:pt x="13667" y="4"/>
                      <a:pt x="13667" y="5"/>
                    </a:cubicBezTo>
                    <a:cubicBezTo>
                      <a:pt x="13667" y="6"/>
                      <a:pt x="13666" y="7"/>
                      <a:pt x="13665" y="7"/>
                    </a:cubicBezTo>
                    <a:lnTo>
                      <a:pt x="13665" y="7"/>
                    </a:lnTo>
                    <a:cubicBezTo>
                      <a:pt x="13664" y="7"/>
                      <a:pt x="13663" y="6"/>
                      <a:pt x="13663" y="5"/>
                    </a:cubicBezTo>
                    <a:cubicBezTo>
                      <a:pt x="13663" y="4"/>
                      <a:pt x="13664" y="3"/>
                      <a:pt x="13665" y="3"/>
                    </a:cubicBezTo>
                    <a:close/>
                    <a:moveTo>
                      <a:pt x="13673" y="3"/>
                    </a:moveTo>
                    <a:lnTo>
                      <a:pt x="13673" y="3"/>
                    </a:lnTo>
                    <a:cubicBezTo>
                      <a:pt x="13674" y="3"/>
                      <a:pt x="13675" y="4"/>
                      <a:pt x="13675" y="5"/>
                    </a:cubicBezTo>
                    <a:cubicBezTo>
                      <a:pt x="13675" y="6"/>
                      <a:pt x="13674" y="7"/>
                      <a:pt x="13673" y="7"/>
                    </a:cubicBezTo>
                    <a:lnTo>
                      <a:pt x="13673" y="7"/>
                    </a:lnTo>
                    <a:cubicBezTo>
                      <a:pt x="13672" y="7"/>
                      <a:pt x="13671" y="6"/>
                      <a:pt x="13671" y="5"/>
                    </a:cubicBezTo>
                    <a:cubicBezTo>
                      <a:pt x="13671" y="4"/>
                      <a:pt x="13672" y="3"/>
                      <a:pt x="13673" y="3"/>
                    </a:cubicBezTo>
                    <a:close/>
                    <a:moveTo>
                      <a:pt x="13681" y="3"/>
                    </a:moveTo>
                    <a:lnTo>
                      <a:pt x="13681" y="3"/>
                    </a:lnTo>
                    <a:cubicBezTo>
                      <a:pt x="13682" y="3"/>
                      <a:pt x="13683" y="4"/>
                      <a:pt x="13683" y="5"/>
                    </a:cubicBezTo>
                    <a:cubicBezTo>
                      <a:pt x="13683" y="6"/>
                      <a:pt x="13682" y="7"/>
                      <a:pt x="13681" y="7"/>
                    </a:cubicBezTo>
                    <a:lnTo>
                      <a:pt x="13681" y="7"/>
                    </a:lnTo>
                    <a:cubicBezTo>
                      <a:pt x="13680" y="7"/>
                      <a:pt x="13679" y="6"/>
                      <a:pt x="13679" y="5"/>
                    </a:cubicBezTo>
                    <a:cubicBezTo>
                      <a:pt x="13679" y="4"/>
                      <a:pt x="13680" y="3"/>
                      <a:pt x="13681" y="3"/>
                    </a:cubicBezTo>
                    <a:close/>
                    <a:moveTo>
                      <a:pt x="13689" y="3"/>
                    </a:moveTo>
                    <a:lnTo>
                      <a:pt x="13689" y="3"/>
                    </a:lnTo>
                    <a:cubicBezTo>
                      <a:pt x="13690" y="3"/>
                      <a:pt x="13691" y="4"/>
                      <a:pt x="13691" y="5"/>
                    </a:cubicBezTo>
                    <a:cubicBezTo>
                      <a:pt x="13691" y="6"/>
                      <a:pt x="13690" y="7"/>
                      <a:pt x="13689" y="7"/>
                    </a:cubicBezTo>
                    <a:lnTo>
                      <a:pt x="13689" y="7"/>
                    </a:lnTo>
                    <a:cubicBezTo>
                      <a:pt x="13688" y="7"/>
                      <a:pt x="13687" y="6"/>
                      <a:pt x="13687" y="5"/>
                    </a:cubicBezTo>
                    <a:cubicBezTo>
                      <a:pt x="13687" y="4"/>
                      <a:pt x="13688" y="3"/>
                      <a:pt x="13689" y="3"/>
                    </a:cubicBezTo>
                    <a:close/>
                    <a:moveTo>
                      <a:pt x="13697" y="3"/>
                    </a:moveTo>
                    <a:lnTo>
                      <a:pt x="13697" y="3"/>
                    </a:lnTo>
                    <a:cubicBezTo>
                      <a:pt x="13698" y="3"/>
                      <a:pt x="13699" y="4"/>
                      <a:pt x="13699" y="5"/>
                    </a:cubicBezTo>
                    <a:cubicBezTo>
                      <a:pt x="13699" y="6"/>
                      <a:pt x="13698" y="7"/>
                      <a:pt x="13697" y="7"/>
                    </a:cubicBezTo>
                    <a:lnTo>
                      <a:pt x="13697" y="7"/>
                    </a:lnTo>
                    <a:cubicBezTo>
                      <a:pt x="13696" y="7"/>
                      <a:pt x="13695" y="6"/>
                      <a:pt x="13695" y="5"/>
                    </a:cubicBezTo>
                    <a:cubicBezTo>
                      <a:pt x="13695" y="4"/>
                      <a:pt x="13696" y="3"/>
                      <a:pt x="13697" y="3"/>
                    </a:cubicBezTo>
                    <a:close/>
                    <a:moveTo>
                      <a:pt x="13705" y="3"/>
                    </a:moveTo>
                    <a:lnTo>
                      <a:pt x="13705" y="3"/>
                    </a:lnTo>
                    <a:cubicBezTo>
                      <a:pt x="13706" y="3"/>
                      <a:pt x="13707" y="4"/>
                      <a:pt x="13707" y="5"/>
                    </a:cubicBezTo>
                    <a:cubicBezTo>
                      <a:pt x="13707" y="6"/>
                      <a:pt x="13706" y="7"/>
                      <a:pt x="13705" y="7"/>
                    </a:cubicBezTo>
                    <a:lnTo>
                      <a:pt x="13705" y="7"/>
                    </a:lnTo>
                    <a:cubicBezTo>
                      <a:pt x="13704" y="7"/>
                      <a:pt x="13703" y="6"/>
                      <a:pt x="13703" y="5"/>
                    </a:cubicBezTo>
                    <a:cubicBezTo>
                      <a:pt x="13703" y="4"/>
                      <a:pt x="13704" y="3"/>
                      <a:pt x="13705" y="3"/>
                    </a:cubicBezTo>
                    <a:close/>
                    <a:moveTo>
                      <a:pt x="13713" y="3"/>
                    </a:moveTo>
                    <a:lnTo>
                      <a:pt x="13713" y="3"/>
                    </a:lnTo>
                    <a:cubicBezTo>
                      <a:pt x="13714" y="3"/>
                      <a:pt x="13715" y="4"/>
                      <a:pt x="13715" y="5"/>
                    </a:cubicBezTo>
                    <a:cubicBezTo>
                      <a:pt x="13715" y="6"/>
                      <a:pt x="13714" y="7"/>
                      <a:pt x="13713" y="7"/>
                    </a:cubicBezTo>
                    <a:lnTo>
                      <a:pt x="13713" y="7"/>
                    </a:lnTo>
                    <a:cubicBezTo>
                      <a:pt x="13712" y="7"/>
                      <a:pt x="13711" y="6"/>
                      <a:pt x="13711" y="5"/>
                    </a:cubicBezTo>
                    <a:cubicBezTo>
                      <a:pt x="13711" y="4"/>
                      <a:pt x="13712" y="3"/>
                      <a:pt x="13713" y="3"/>
                    </a:cubicBezTo>
                    <a:close/>
                    <a:moveTo>
                      <a:pt x="13721" y="3"/>
                    </a:moveTo>
                    <a:lnTo>
                      <a:pt x="13721" y="3"/>
                    </a:lnTo>
                    <a:cubicBezTo>
                      <a:pt x="13722" y="3"/>
                      <a:pt x="13723" y="4"/>
                      <a:pt x="13723" y="5"/>
                    </a:cubicBezTo>
                    <a:cubicBezTo>
                      <a:pt x="13723" y="6"/>
                      <a:pt x="13722" y="7"/>
                      <a:pt x="13721" y="7"/>
                    </a:cubicBezTo>
                    <a:lnTo>
                      <a:pt x="13721" y="7"/>
                    </a:lnTo>
                    <a:cubicBezTo>
                      <a:pt x="13720" y="7"/>
                      <a:pt x="13719" y="6"/>
                      <a:pt x="13719" y="5"/>
                    </a:cubicBezTo>
                    <a:cubicBezTo>
                      <a:pt x="13719" y="4"/>
                      <a:pt x="13720" y="3"/>
                      <a:pt x="13721" y="3"/>
                    </a:cubicBezTo>
                    <a:close/>
                    <a:moveTo>
                      <a:pt x="13729" y="3"/>
                    </a:moveTo>
                    <a:lnTo>
                      <a:pt x="13729" y="3"/>
                    </a:lnTo>
                    <a:cubicBezTo>
                      <a:pt x="13730" y="3"/>
                      <a:pt x="13731" y="4"/>
                      <a:pt x="13731" y="5"/>
                    </a:cubicBezTo>
                    <a:cubicBezTo>
                      <a:pt x="13731" y="6"/>
                      <a:pt x="13730" y="7"/>
                      <a:pt x="13729" y="7"/>
                    </a:cubicBezTo>
                    <a:lnTo>
                      <a:pt x="13729" y="7"/>
                    </a:lnTo>
                    <a:cubicBezTo>
                      <a:pt x="13728" y="7"/>
                      <a:pt x="13727" y="6"/>
                      <a:pt x="13727" y="5"/>
                    </a:cubicBezTo>
                    <a:cubicBezTo>
                      <a:pt x="13727" y="4"/>
                      <a:pt x="13728" y="3"/>
                      <a:pt x="13729" y="3"/>
                    </a:cubicBezTo>
                    <a:close/>
                    <a:moveTo>
                      <a:pt x="13737" y="3"/>
                    </a:moveTo>
                    <a:lnTo>
                      <a:pt x="13737" y="3"/>
                    </a:lnTo>
                    <a:cubicBezTo>
                      <a:pt x="13738" y="3"/>
                      <a:pt x="13739" y="4"/>
                      <a:pt x="13739" y="5"/>
                    </a:cubicBezTo>
                    <a:cubicBezTo>
                      <a:pt x="13739" y="6"/>
                      <a:pt x="13738" y="7"/>
                      <a:pt x="13737" y="7"/>
                    </a:cubicBezTo>
                    <a:lnTo>
                      <a:pt x="13737" y="7"/>
                    </a:lnTo>
                    <a:cubicBezTo>
                      <a:pt x="13736" y="7"/>
                      <a:pt x="13735" y="6"/>
                      <a:pt x="13735" y="5"/>
                    </a:cubicBezTo>
                    <a:cubicBezTo>
                      <a:pt x="13735" y="4"/>
                      <a:pt x="13736" y="3"/>
                      <a:pt x="13737" y="3"/>
                    </a:cubicBezTo>
                    <a:close/>
                    <a:moveTo>
                      <a:pt x="13745" y="3"/>
                    </a:moveTo>
                    <a:lnTo>
                      <a:pt x="13745" y="3"/>
                    </a:lnTo>
                    <a:cubicBezTo>
                      <a:pt x="13746" y="3"/>
                      <a:pt x="13747" y="4"/>
                      <a:pt x="13747" y="5"/>
                    </a:cubicBezTo>
                    <a:cubicBezTo>
                      <a:pt x="13747" y="6"/>
                      <a:pt x="13746" y="7"/>
                      <a:pt x="13745" y="7"/>
                    </a:cubicBezTo>
                    <a:lnTo>
                      <a:pt x="13745" y="7"/>
                    </a:lnTo>
                    <a:cubicBezTo>
                      <a:pt x="13744" y="7"/>
                      <a:pt x="13743" y="6"/>
                      <a:pt x="13743" y="5"/>
                    </a:cubicBezTo>
                    <a:cubicBezTo>
                      <a:pt x="13743" y="4"/>
                      <a:pt x="13744" y="3"/>
                      <a:pt x="13745" y="3"/>
                    </a:cubicBezTo>
                    <a:close/>
                    <a:moveTo>
                      <a:pt x="13753" y="3"/>
                    </a:moveTo>
                    <a:lnTo>
                      <a:pt x="13753" y="3"/>
                    </a:lnTo>
                    <a:cubicBezTo>
                      <a:pt x="13754" y="3"/>
                      <a:pt x="13755" y="4"/>
                      <a:pt x="13755" y="5"/>
                    </a:cubicBezTo>
                    <a:cubicBezTo>
                      <a:pt x="13755" y="6"/>
                      <a:pt x="13754" y="7"/>
                      <a:pt x="13753" y="7"/>
                    </a:cubicBezTo>
                    <a:lnTo>
                      <a:pt x="13753" y="7"/>
                    </a:lnTo>
                    <a:cubicBezTo>
                      <a:pt x="13752" y="7"/>
                      <a:pt x="13751" y="6"/>
                      <a:pt x="13751" y="5"/>
                    </a:cubicBezTo>
                    <a:cubicBezTo>
                      <a:pt x="13751" y="4"/>
                      <a:pt x="13752" y="3"/>
                      <a:pt x="13753" y="3"/>
                    </a:cubicBezTo>
                    <a:close/>
                    <a:moveTo>
                      <a:pt x="13761" y="3"/>
                    </a:moveTo>
                    <a:lnTo>
                      <a:pt x="13761" y="3"/>
                    </a:lnTo>
                    <a:cubicBezTo>
                      <a:pt x="13762" y="3"/>
                      <a:pt x="13763" y="4"/>
                      <a:pt x="13763" y="5"/>
                    </a:cubicBezTo>
                    <a:cubicBezTo>
                      <a:pt x="13763" y="6"/>
                      <a:pt x="13762" y="7"/>
                      <a:pt x="13761" y="7"/>
                    </a:cubicBezTo>
                    <a:lnTo>
                      <a:pt x="13761" y="7"/>
                    </a:lnTo>
                    <a:cubicBezTo>
                      <a:pt x="13760" y="7"/>
                      <a:pt x="13759" y="6"/>
                      <a:pt x="13759" y="5"/>
                    </a:cubicBezTo>
                    <a:cubicBezTo>
                      <a:pt x="13759" y="4"/>
                      <a:pt x="13760" y="3"/>
                      <a:pt x="13761" y="3"/>
                    </a:cubicBezTo>
                    <a:close/>
                    <a:moveTo>
                      <a:pt x="13769" y="3"/>
                    </a:moveTo>
                    <a:lnTo>
                      <a:pt x="13769" y="3"/>
                    </a:lnTo>
                    <a:cubicBezTo>
                      <a:pt x="13770" y="3"/>
                      <a:pt x="13771" y="4"/>
                      <a:pt x="13771" y="5"/>
                    </a:cubicBezTo>
                    <a:cubicBezTo>
                      <a:pt x="13771" y="6"/>
                      <a:pt x="13770" y="7"/>
                      <a:pt x="13769" y="7"/>
                    </a:cubicBezTo>
                    <a:lnTo>
                      <a:pt x="13769" y="7"/>
                    </a:lnTo>
                    <a:cubicBezTo>
                      <a:pt x="13768" y="7"/>
                      <a:pt x="13767" y="6"/>
                      <a:pt x="13767" y="5"/>
                    </a:cubicBezTo>
                    <a:cubicBezTo>
                      <a:pt x="13767" y="4"/>
                      <a:pt x="13768" y="3"/>
                      <a:pt x="13769" y="3"/>
                    </a:cubicBezTo>
                    <a:close/>
                    <a:moveTo>
                      <a:pt x="13777" y="3"/>
                    </a:moveTo>
                    <a:lnTo>
                      <a:pt x="13777" y="3"/>
                    </a:lnTo>
                    <a:cubicBezTo>
                      <a:pt x="13778" y="3"/>
                      <a:pt x="13779" y="4"/>
                      <a:pt x="13779" y="5"/>
                    </a:cubicBezTo>
                    <a:cubicBezTo>
                      <a:pt x="13779" y="6"/>
                      <a:pt x="13778" y="7"/>
                      <a:pt x="13777" y="7"/>
                    </a:cubicBezTo>
                    <a:lnTo>
                      <a:pt x="13777" y="7"/>
                    </a:lnTo>
                    <a:cubicBezTo>
                      <a:pt x="13776" y="7"/>
                      <a:pt x="13775" y="6"/>
                      <a:pt x="13775" y="5"/>
                    </a:cubicBezTo>
                    <a:cubicBezTo>
                      <a:pt x="13775" y="4"/>
                      <a:pt x="13776" y="3"/>
                      <a:pt x="13777" y="3"/>
                    </a:cubicBezTo>
                    <a:close/>
                    <a:moveTo>
                      <a:pt x="13785" y="3"/>
                    </a:moveTo>
                    <a:lnTo>
                      <a:pt x="13785" y="3"/>
                    </a:lnTo>
                    <a:cubicBezTo>
                      <a:pt x="13786" y="3"/>
                      <a:pt x="13787" y="4"/>
                      <a:pt x="13787" y="5"/>
                    </a:cubicBezTo>
                    <a:cubicBezTo>
                      <a:pt x="13787" y="6"/>
                      <a:pt x="13786" y="7"/>
                      <a:pt x="13785" y="7"/>
                    </a:cubicBezTo>
                    <a:lnTo>
                      <a:pt x="13785" y="7"/>
                    </a:lnTo>
                    <a:cubicBezTo>
                      <a:pt x="13784" y="7"/>
                      <a:pt x="13783" y="6"/>
                      <a:pt x="13783" y="5"/>
                    </a:cubicBezTo>
                    <a:cubicBezTo>
                      <a:pt x="13783" y="4"/>
                      <a:pt x="13784" y="3"/>
                      <a:pt x="13785" y="3"/>
                    </a:cubicBezTo>
                    <a:close/>
                    <a:moveTo>
                      <a:pt x="13793" y="3"/>
                    </a:moveTo>
                    <a:lnTo>
                      <a:pt x="13793" y="3"/>
                    </a:lnTo>
                    <a:cubicBezTo>
                      <a:pt x="13794" y="3"/>
                      <a:pt x="13795" y="4"/>
                      <a:pt x="13795" y="5"/>
                    </a:cubicBezTo>
                    <a:cubicBezTo>
                      <a:pt x="13795" y="6"/>
                      <a:pt x="13794" y="7"/>
                      <a:pt x="13793" y="7"/>
                    </a:cubicBezTo>
                    <a:lnTo>
                      <a:pt x="13793" y="7"/>
                    </a:lnTo>
                    <a:cubicBezTo>
                      <a:pt x="13792" y="7"/>
                      <a:pt x="13791" y="6"/>
                      <a:pt x="13791" y="5"/>
                    </a:cubicBezTo>
                    <a:cubicBezTo>
                      <a:pt x="13791" y="4"/>
                      <a:pt x="13792" y="3"/>
                      <a:pt x="13793" y="3"/>
                    </a:cubicBezTo>
                    <a:close/>
                    <a:moveTo>
                      <a:pt x="13801" y="3"/>
                    </a:moveTo>
                    <a:lnTo>
                      <a:pt x="13801" y="3"/>
                    </a:lnTo>
                    <a:cubicBezTo>
                      <a:pt x="13802" y="3"/>
                      <a:pt x="13803" y="4"/>
                      <a:pt x="13803" y="5"/>
                    </a:cubicBezTo>
                    <a:cubicBezTo>
                      <a:pt x="13803" y="6"/>
                      <a:pt x="13802" y="7"/>
                      <a:pt x="13801" y="7"/>
                    </a:cubicBezTo>
                    <a:lnTo>
                      <a:pt x="13801" y="7"/>
                    </a:lnTo>
                    <a:cubicBezTo>
                      <a:pt x="13800" y="7"/>
                      <a:pt x="13799" y="6"/>
                      <a:pt x="13799" y="5"/>
                    </a:cubicBezTo>
                    <a:cubicBezTo>
                      <a:pt x="13799" y="4"/>
                      <a:pt x="13800" y="3"/>
                      <a:pt x="13801" y="3"/>
                    </a:cubicBezTo>
                    <a:close/>
                    <a:moveTo>
                      <a:pt x="13809" y="3"/>
                    </a:moveTo>
                    <a:lnTo>
                      <a:pt x="13809" y="3"/>
                    </a:lnTo>
                    <a:cubicBezTo>
                      <a:pt x="13810" y="3"/>
                      <a:pt x="13811" y="4"/>
                      <a:pt x="13811" y="5"/>
                    </a:cubicBezTo>
                    <a:cubicBezTo>
                      <a:pt x="13811" y="6"/>
                      <a:pt x="13810" y="7"/>
                      <a:pt x="13809" y="7"/>
                    </a:cubicBezTo>
                    <a:lnTo>
                      <a:pt x="13809" y="7"/>
                    </a:lnTo>
                    <a:cubicBezTo>
                      <a:pt x="13808" y="7"/>
                      <a:pt x="13807" y="6"/>
                      <a:pt x="13807" y="5"/>
                    </a:cubicBezTo>
                    <a:cubicBezTo>
                      <a:pt x="13807" y="4"/>
                      <a:pt x="13808" y="3"/>
                      <a:pt x="13809" y="3"/>
                    </a:cubicBezTo>
                    <a:close/>
                    <a:moveTo>
                      <a:pt x="13817" y="3"/>
                    </a:moveTo>
                    <a:lnTo>
                      <a:pt x="13817" y="3"/>
                    </a:lnTo>
                    <a:cubicBezTo>
                      <a:pt x="13818" y="3"/>
                      <a:pt x="13819" y="4"/>
                      <a:pt x="13819" y="5"/>
                    </a:cubicBezTo>
                    <a:cubicBezTo>
                      <a:pt x="13819" y="6"/>
                      <a:pt x="13818" y="7"/>
                      <a:pt x="13817" y="7"/>
                    </a:cubicBezTo>
                    <a:lnTo>
                      <a:pt x="13817" y="7"/>
                    </a:lnTo>
                    <a:cubicBezTo>
                      <a:pt x="13816" y="7"/>
                      <a:pt x="13815" y="6"/>
                      <a:pt x="13815" y="5"/>
                    </a:cubicBezTo>
                    <a:cubicBezTo>
                      <a:pt x="13815" y="4"/>
                      <a:pt x="13816" y="3"/>
                      <a:pt x="13817" y="3"/>
                    </a:cubicBezTo>
                    <a:close/>
                    <a:moveTo>
                      <a:pt x="13825" y="3"/>
                    </a:moveTo>
                    <a:lnTo>
                      <a:pt x="13825" y="3"/>
                    </a:lnTo>
                    <a:cubicBezTo>
                      <a:pt x="13826" y="3"/>
                      <a:pt x="13827" y="4"/>
                      <a:pt x="13827" y="5"/>
                    </a:cubicBezTo>
                    <a:cubicBezTo>
                      <a:pt x="13827" y="6"/>
                      <a:pt x="13826" y="7"/>
                      <a:pt x="13825" y="7"/>
                    </a:cubicBezTo>
                    <a:lnTo>
                      <a:pt x="13825" y="7"/>
                    </a:lnTo>
                    <a:cubicBezTo>
                      <a:pt x="13824" y="7"/>
                      <a:pt x="13823" y="6"/>
                      <a:pt x="13823" y="5"/>
                    </a:cubicBezTo>
                    <a:cubicBezTo>
                      <a:pt x="13823" y="4"/>
                      <a:pt x="13824" y="3"/>
                      <a:pt x="13825" y="3"/>
                    </a:cubicBezTo>
                    <a:close/>
                    <a:moveTo>
                      <a:pt x="13833" y="3"/>
                    </a:moveTo>
                    <a:lnTo>
                      <a:pt x="13833" y="3"/>
                    </a:lnTo>
                    <a:cubicBezTo>
                      <a:pt x="13834" y="3"/>
                      <a:pt x="13835" y="4"/>
                      <a:pt x="13835" y="5"/>
                    </a:cubicBezTo>
                    <a:cubicBezTo>
                      <a:pt x="13835" y="6"/>
                      <a:pt x="13834" y="7"/>
                      <a:pt x="13833" y="7"/>
                    </a:cubicBezTo>
                    <a:lnTo>
                      <a:pt x="13833" y="7"/>
                    </a:lnTo>
                    <a:cubicBezTo>
                      <a:pt x="13832" y="7"/>
                      <a:pt x="13831" y="6"/>
                      <a:pt x="13831" y="5"/>
                    </a:cubicBezTo>
                    <a:cubicBezTo>
                      <a:pt x="13831" y="4"/>
                      <a:pt x="13832" y="3"/>
                      <a:pt x="13833" y="3"/>
                    </a:cubicBezTo>
                    <a:close/>
                    <a:moveTo>
                      <a:pt x="13841" y="3"/>
                    </a:moveTo>
                    <a:lnTo>
                      <a:pt x="13841" y="3"/>
                    </a:lnTo>
                    <a:cubicBezTo>
                      <a:pt x="13842" y="3"/>
                      <a:pt x="13843" y="4"/>
                      <a:pt x="13843" y="5"/>
                    </a:cubicBezTo>
                    <a:cubicBezTo>
                      <a:pt x="13843" y="6"/>
                      <a:pt x="13842" y="7"/>
                      <a:pt x="13841" y="7"/>
                    </a:cubicBezTo>
                    <a:lnTo>
                      <a:pt x="13841" y="7"/>
                    </a:lnTo>
                    <a:cubicBezTo>
                      <a:pt x="13840" y="7"/>
                      <a:pt x="13839" y="6"/>
                      <a:pt x="13839" y="5"/>
                    </a:cubicBezTo>
                    <a:cubicBezTo>
                      <a:pt x="13839" y="4"/>
                      <a:pt x="13840" y="3"/>
                      <a:pt x="13841" y="3"/>
                    </a:cubicBezTo>
                    <a:close/>
                    <a:moveTo>
                      <a:pt x="13849" y="3"/>
                    </a:moveTo>
                    <a:lnTo>
                      <a:pt x="13849" y="3"/>
                    </a:lnTo>
                    <a:cubicBezTo>
                      <a:pt x="13850" y="3"/>
                      <a:pt x="13851" y="4"/>
                      <a:pt x="13851" y="5"/>
                    </a:cubicBezTo>
                    <a:cubicBezTo>
                      <a:pt x="13851" y="6"/>
                      <a:pt x="13850" y="7"/>
                      <a:pt x="13849" y="7"/>
                    </a:cubicBezTo>
                    <a:lnTo>
                      <a:pt x="13849" y="7"/>
                    </a:lnTo>
                    <a:cubicBezTo>
                      <a:pt x="13848" y="7"/>
                      <a:pt x="13847" y="6"/>
                      <a:pt x="13847" y="5"/>
                    </a:cubicBezTo>
                    <a:cubicBezTo>
                      <a:pt x="13847" y="4"/>
                      <a:pt x="13848" y="3"/>
                      <a:pt x="13849" y="3"/>
                    </a:cubicBezTo>
                    <a:close/>
                    <a:moveTo>
                      <a:pt x="13857" y="3"/>
                    </a:moveTo>
                    <a:lnTo>
                      <a:pt x="13857" y="3"/>
                    </a:lnTo>
                    <a:cubicBezTo>
                      <a:pt x="13858" y="3"/>
                      <a:pt x="13859" y="4"/>
                      <a:pt x="13859" y="5"/>
                    </a:cubicBezTo>
                    <a:cubicBezTo>
                      <a:pt x="13859" y="6"/>
                      <a:pt x="13858" y="7"/>
                      <a:pt x="13857" y="7"/>
                    </a:cubicBezTo>
                    <a:lnTo>
                      <a:pt x="13857" y="7"/>
                    </a:lnTo>
                    <a:cubicBezTo>
                      <a:pt x="13856" y="7"/>
                      <a:pt x="13855" y="6"/>
                      <a:pt x="13855" y="5"/>
                    </a:cubicBezTo>
                    <a:cubicBezTo>
                      <a:pt x="13855" y="4"/>
                      <a:pt x="13856" y="3"/>
                      <a:pt x="13857" y="3"/>
                    </a:cubicBezTo>
                    <a:close/>
                    <a:moveTo>
                      <a:pt x="13865" y="3"/>
                    </a:moveTo>
                    <a:lnTo>
                      <a:pt x="13865" y="3"/>
                    </a:lnTo>
                    <a:cubicBezTo>
                      <a:pt x="13866" y="3"/>
                      <a:pt x="13867" y="4"/>
                      <a:pt x="13867" y="5"/>
                    </a:cubicBezTo>
                    <a:cubicBezTo>
                      <a:pt x="13867" y="6"/>
                      <a:pt x="13866" y="7"/>
                      <a:pt x="13865" y="7"/>
                    </a:cubicBezTo>
                    <a:lnTo>
                      <a:pt x="13865" y="7"/>
                    </a:lnTo>
                    <a:cubicBezTo>
                      <a:pt x="13864" y="7"/>
                      <a:pt x="13863" y="6"/>
                      <a:pt x="13863" y="5"/>
                    </a:cubicBezTo>
                    <a:cubicBezTo>
                      <a:pt x="13863" y="4"/>
                      <a:pt x="13864" y="3"/>
                      <a:pt x="13865" y="3"/>
                    </a:cubicBezTo>
                    <a:close/>
                    <a:moveTo>
                      <a:pt x="13873" y="3"/>
                    </a:moveTo>
                    <a:lnTo>
                      <a:pt x="13873" y="3"/>
                    </a:lnTo>
                    <a:cubicBezTo>
                      <a:pt x="13874" y="3"/>
                      <a:pt x="13875" y="4"/>
                      <a:pt x="13875" y="5"/>
                    </a:cubicBezTo>
                    <a:cubicBezTo>
                      <a:pt x="13875" y="6"/>
                      <a:pt x="13874" y="7"/>
                      <a:pt x="13873" y="7"/>
                    </a:cubicBezTo>
                    <a:lnTo>
                      <a:pt x="13873" y="7"/>
                    </a:lnTo>
                    <a:cubicBezTo>
                      <a:pt x="13872" y="7"/>
                      <a:pt x="13871" y="6"/>
                      <a:pt x="13871" y="5"/>
                    </a:cubicBezTo>
                    <a:cubicBezTo>
                      <a:pt x="13871" y="4"/>
                      <a:pt x="13872" y="3"/>
                      <a:pt x="13873" y="3"/>
                    </a:cubicBezTo>
                    <a:close/>
                    <a:moveTo>
                      <a:pt x="13881" y="3"/>
                    </a:moveTo>
                    <a:lnTo>
                      <a:pt x="13881" y="3"/>
                    </a:lnTo>
                    <a:cubicBezTo>
                      <a:pt x="13882" y="3"/>
                      <a:pt x="13883" y="4"/>
                      <a:pt x="13883" y="5"/>
                    </a:cubicBezTo>
                    <a:cubicBezTo>
                      <a:pt x="13883" y="6"/>
                      <a:pt x="13882" y="7"/>
                      <a:pt x="13881" y="7"/>
                    </a:cubicBezTo>
                    <a:lnTo>
                      <a:pt x="13881" y="7"/>
                    </a:lnTo>
                    <a:cubicBezTo>
                      <a:pt x="13880" y="7"/>
                      <a:pt x="13879" y="6"/>
                      <a:pt x="13879" y="5"/>
                    </a:cubicBezTo>
                    <a:cubicBezTo>
                      <a:pt x="13879" y="4"/>
                      <a:pt x="13880" y="3"/>
                      <a:pt x="13881" y="3"/>
                    </a:cubicBezTo>
                    <a:close/>
                    <a:moveTo>
                      <a:pt x="13889" y="3"/>
                    </a:moveTo>
                    <a:lnTo>
                      <a:pt x="13889" y="3"/>
                    </a:lnTo>
                    <a:cubicBezTo>
                      <a:pt x="13890" y="3"/>
                      <a:pt x="13891" y="4"/>
                      <a:pt x="13891" y="5"/>
                    </a:cubicBezTo>
                    <a:cubicBezTo>
                      <a:pt x="13891" y="6"/>
                      <a:pt x="13890" y="7"/>
                      <a:pt x="13889" y="7"/>
                    </a:cubicBezTo>
                    <a:lnTo>
                      <a:pt x="13889" y="7"/>
                    </a:lnTo>
                    <a:cubicBezTo>
                      <a:pt x="13888" y="7"/>
                      <a:pt x="13887" y="6"/>
                      <a:pt x="13887" y="5"/>
                    </a:cubicBezTo>
                    <a:cubicBezTo>
                      <a:pt x="13887" y="4"/>
                      <a:pt x="13888" y="3"/>
                      <a:pt x="13889" y="3"/>
                    </a:cubicBezTo>
                    <a:close/>
                    <a:moveTo>
                      <a:pt x="13897" y="3"/>
                    </a:moveTo>
                    <a:lnTo>
                      <a:pt x="13897" y="3"/>
                    </a:lnTo>
                    <a:cubicBezTo>
                      <a:pt x="13898" y="3"/>
                      <a:pt x="13899" y="4"/>
                      <a:pt x="13899" y="5"/>
                    </a:cubicBezTo>
                    <a:cubicBezTo>
                      <a:pt x="13899" y="6"/>
                      <a:pt x="13898" y="7"/>
                      <a:pt x="13897" y="7"/>
                    </a:cubicBezTo>
                    <a:lnTo>
                      <a:pt x="13897" y="7"/>
                    </a:lnTo>
                    <a:cubicBezTo>
                      <a:pt x="13896" y="7"/>
                      <a:pt x="13895" y="6"/>
                      <a:pt x="13895" y="5"/>
                    </a:cubicBezTo>
                    <a:cubicBezTo>
                      <a:pt x="13895" y="4"/>
                      <a:pt x="13896" y="3"/>
                      <a:pt x="13897" y="3"/>
                    </a:cubicBezTo>
                    <a:close/>
                    <a:moveTo>
                      <a:pt x="13905" y="3"/>
                    </a:moveTo>
                    <a:lnTo>
                      <a:pt x="13905" y="3"/>
                    </a:lnTo>
                    <a:cubicBezTo>
                      <a:pt x="13906" y="3"/>
                      <a:pt x="13907" y="4"/>
                      <a:pt x="13907" y="5"/>
                    </a:cubicBezTo>
                    <a:cubicBezTo>
                      <a:pt x="13907" y="6"/>
                      <a:pt x="13906" y="7"/>
                      <a:pt x="13905" y="7"/>
                    </a:cubicBezTo>
                    <a:lnTo>
                      <a:pt x="13905" y="7"/>
                    </a:lnTo>
                    <a:cubicBezTo>
                      <a:pt x="13904" y="7"/>
                      <a:pt x="13903" y="6"/>
                      <a:pt x="13903" y="5"/>
                    </a:cubicBezTo>
                    <a:cubicBezTo>
                      <a:pt x="13903" y="4"/>
                      <a:pt x="13904" y="3"/>
                      <a:pt x="13905" y="3"/>
                    </a:cubicBezTo>
                    <a:close/>
                    <a:moveTo>
                      <a:pt x="13913" y="3"/>
                    </a:moveTo>
                    <a:lnTo>
                      <a:pt x="13913" y="3"/>
                    </a:lnTo>
                    <a:cubicBezTo>
                      <a:pt x="13914" y="3"/>
                      <a:pt x="13915" y="4"/>
                      <a:pt x="13915" y="5"/>
                    </a:cubicBezTo>
                    <a:cubicBezTo>
                      <a:pt x="13915" y="6"/>
                      <a:pt x="13914" y="7"/>
                      <a:pt x="13913" y="7"/>
                    </a:cubicBezTo>
                    <a:lnTo>
                      <a:pt x="13913" y="7"/>
                    </a:lnTo>
                    <a:cubicBezTo>
                      <a:pt x="13912" y="7"/>
                      <a:pt x="13911" y="6"/>
                      <a:pt x="13911" y="5"/>
                    </a:cubicBezTo>
                    <a:cubicBezTo>
                      <a:pt x="13911" y="4"/>
                      <a:pt x="13912" y="3"/>
                      <a:pt x="13913" y="3"/>
                    </a:cubicBezTo>
                    <a:close/>
                    <a:moveTo>
                      <a:pt x="13921" y="3"/>
                    </a:moveTo>
                    <a:lnTo>
                      <a:pt x="13921" y="3"/>
                    </a:lnTo>
                    <a:cubicBezTo>
                      <a:pt x="13922" y="3"/>
                      <a:pt x="13923" y="4"/>
                      <a:pt x="13923" y="5"/>
                    </a:cubicBezTo>
                    <a:cubicBezTo>
                      <a:pt x="13923" y="6"/>
                      <a:pt x="13922" y="7"/>
                      <a:pt x="13921" y="7"/>
                    </a:cubicBezTo>
                    <a:lnTo>
                      <a:pt x="13921" y="7"/>
                    </a:lnTo>
                    <a:cubicBezTo>
                      <a:pt x="13920" y="7"/>
                      <a:pt x="13919" y="6"/>
                      <a:pt x="13919" y="5"/>
                    </a:cubicBezTo>
                    <a:cubicBezTo>
                      <a:pt x="13919" y="4"/>
                      <a:pt x="13920" y="3"/>
                      <a:pt x="13921" y="3"/>
                    </a:cubicBezTo>
                    <a:close/>
                    <a:moveTo>
                      <a:pt x="13929" y="3"/>
                    </a:moveTo>
                    <a:lnTo>
                      <a:pt x="13929" y="3"/>
                    </a:lnTo>
                    <a:cubicBezTo>
                      <a:pt x="13930" y="3"/>
                      <a:pt x="13931" y="4"/>
                      <a:pt x="13931" y="5"/>
                    </a:cubicBezTo>
                    <a:cubicBezTo>
                      <a:pt x="13931" y="6"/>
                      <a:pt x="13930" y="7"/>
                      <a:pt x="13929" y="7"/>
                    </a:cubicBezTo>
                    <a:lnTo>
                      <a:pt x="13929" y="7"/>
                    </a:lnTo>
                    <a:cubicBezTo>
                      <a:pt x="13928" y="7"/>
                      <a:pt x="13927" y="6"/>
                      <a:pt x="13927" y="5"/>
                    </a:cubicBezTo>
                    <a:cubicBezTo>
                      <a:pt x="13927" y="4"/>
                      <a:pt x="13928" y="3"/>
                      <a:pt x="13929" y="3"/>
                    </a:cubicBezTo>
                    <a:close/>
                    <a:moveTo>
                      <a:pt x="13937" y="3"/>
                    </a:moveTo>
                    <a:lnTo>
                      <a:pt x="13937" y="3"/>
                    </a:lnTo>
                    <a:cubicBezTo>
                      <a:pt x="13938" y="3"/>
                      <a:pt x="13939" y="4"/>
                      <a:pt x="13939" y="5"/>
                    </a:cubicBezTo>
                    <a:cubicBezTo>
                      <a:pt x="13939" y="6"/>
                      <a:pt x="13938" y="7"/>
                      <a:pt x="13937" y="7"/>
                    </a:cubicBezTo>
                    <a:lnTo>
                      <a:pt x="13937" y="7"/>
                    </a:lnTo>
                    <a:cubicBezTo>
                      <a:pt x="13936" y="7"/>
                      <a:pt x="13935" y="6"/>
                      <a:pt x="13935" y="5"/>
                    </a:cubicBezTo>
                    <a:cubicBezTo>
                      <a:pt x="13935" y="4"/>
                      <a:pt x="13936" y="3"/>
                      <a:pt x="13937" y="3"/>
                    </a:cubicBezTo>
                    <a:close/>
                    <a:moveTo>
                      <a:pt x="13945" y="3"/>
                    </a:moveTo>
                    <a:lnTo>
                      <a:pt x="13945" y="3"/>
                    </a:lnTo>
                    <a:cubicBezTo>
                      <a:pt x="13946" y="3"/>
                      <a:pt x="13947" y="4"/>
                      <a:pt x="13947" y="5"/>
                    </a:cubicBezTo>
                    <a:cubicBezTo>
                      <a:pt x="13947" y="6"/>
                      <a:pt x="13946" y="7"/>
                      <a:pt x="13945" y="7"/>
                    </a:cubicBezTo>
                    <a:lnTo>
                      <a:pt x="13945" y="7"/>
                    </a:lnTo>
                    <a:cubicBezTo>
                      <a:pt x="13944" y="7"/>
                      <a:pt x="13943" y="6"/>
                      <a:pt x="13943" y="5"/>
                    </a:cubicBezTo>
                    <a:cubicBezTo>
                      <a:pt x="13943" y="4"/>
                      <a:pt x="13944" y="3"/>
                      <a:pt x="13945" y="3"/>
                    </a:cubicBezTo>
                    <a:close/>
                    <a:moveTo>
                      <a:pt x="13953" y="3"/>
                    </a:moveTo>
                    <a:lnTo>
                      <a:pt x="13953" y="3"/>
                    </a:lnTo>
                    <a:cubicBezTo>
                      <a:pt x="13954" y="3"/>
                      <a:pt x="13955" y="4"/>
                      <a:pt x="13955" y="5"/>
                    </a:cubicBezTo>
                    <a:cubicBezTo>
                      <a:pt x="13955" y="6"/>
                      <a:pt x="13954" y="7"/>
                      <a:pt x="13953" y="7"/>
                    </a:cubicBezTo>
                    <a:lnTo>
                      <a:pt x="13953" y="7"/>
                    </a:lnTo>
                    <a:cubicBezTo>
                      <a:pt x="13952" y="7"/>
                      <a:pt x="13951" y="6"/>
                      <a:pt x="13951" y="5"/>
                    </a:cubicBezTo>
                    <a:cubicBezTo>
                      <a:pt x="13951" y="4"/>
                      <a:pt x="13952" y="3"/>
                      <a:pt x="13953" y="3"/>
                    </a:cubicBezTo>
                    <a:close/>
                    <a:moveTo>
                      <a:pt x="13961" y="3"/>
                    </a:moveTo>
                    <a:lnTo>
                      <a:pt x="13961" y="3"/>
                    </a:lnTo>
                    <a:cubicBezTo>
                      <a:pt x="13962" y="3"/>
                      <a:pt x="13963" y="4"/>
                      <a:pt x="13963" y="5"/>
                    </a:cubicBezTo>
                    <a:cubicBezTo>
                      <a:pt x="13963" y="6"/>
                      <a:pt x="13962" y="7"/>
                      <a:pt x="13961" y="7"/>
                    </a:cubicBezTo>
                    <a:lnTo>
                      <a:pt x="13961" y="7"/>
                    </a:lnTo>
                    <a:cubicBezTo>
                      <a:pt x="13960" y="7"/>
                      <a:pt x="13959" y="6"/>
                      <a:pt x="13959" y="5"/>
                    </a:cubicBezTo>
                    <a:cubicBezTo>
                      <a:pt x="13959" y="4"/>
                      <a:pt x="13960" y="3"/>
                      <a:pt x="13961" y="3"/>
                    </a:cubicBezTo>
                    <a:close/>
                    <a:moveTo>
                      <a:pt x="13969" y="3"/>
                    </a:moveTo>
                    <a:lnTo>
                      <a:pt x="13969" y="3"/>
                    </a:lnTo>
                    <a:cubicBezTo>
                      <a:pt x="13970" y="3"/>
                      <a:pt x="13971" y="4"/>
                      <a:pt x="13971" y="5"/>
                    </a:cubicBezTo>
                    <a:cubicBezTo>
                      <a:pt x="13971" y="6"/>
                      <a:pt x="13970" y="7"/>
                      <a:pt x="13969" y="7"/>
                    </a:cubicBezTo>
                    <a:lnTo>
                      <a:pt x="13969" y="7"/>
                    </a:lnTo>
                    <a:cubicBezTo>
                      <a:pt x="13968" y="7"/>
                      <a:pt x="13967" y="6"/>
                      <a:pt x="13967" y="5"/>
                    </a:cubicBezTo>
                    <a:cubicBezTo>
                      <a:pt x="13967" y="4"/>
                      <a:pt x="13968" y="3"/>
                      <a:pt x="13969" y="3"/>
                    </a:cubicBezTo>
                    <a:close/>
                    <a:moveTo>
                      <a:pt x="13977" y="3"/>
                    </a:moveTo>
                    <a:lnTo>
                      <a:pt x="13977" y="3"/>
                    </a:lnTo>
                    <a:cubicBezTo>
                      <a:pt x="13978" y="3"/>
                      <a:pt x="13979" y="4"/>
                      <a:pt x="13979" y="5"/>
                    </a:cubicBezTo>
                    <a:cubicBezTo>
                      <a:pt x="13979" y="6"/>
                      <a:pt x="13978" y="7"/>
                      <a:pt x="13977" y="7"/>
                    </a:cubicBezTo>
                    <a:lnTo>
                      <a:pt x="13977" y="7"/>
                    </a:lnTo>
                    <a:cubicBezTo>
                      <a:pt x="13976" y="7"/>
                      <a:pt x="13975" y="6"/>
                      <a:pt x="13975" y="5"/>
                    </a:cubicBezTo>
                    <a:cubicBezTo>
                      <a:pt x="13975" y="4"/>
                      <a:pt x="13976" y="3"/>
                      <a:pt x="13977" y="3"/>
                    </a:cubicBezTo>
                    <a:close/>
                    <a:moveTo>
                      <a:pt x="13985" y="3"/>
                    </a:moveTo>
                    <a:lnTo>
                      <a:pt x="13985" y="3"/>
                    </a:lnTo>
                    <a:cubicBezTo>
                      <a:pt x="13986" y="3"/>
                      <a:pt x="13987" y="4"/>
                      <a:pt x="13987" y="5"/>
                    </a:cubicBezTo>
                    <a:cubicBezTo>
                      <a:pt x="13987" y="6"/>
                      <a:pt x="13986" y="7"/>
                      <a:pt x="13985" y="7"/>
                    </a:cubicBezTo>
                    <a:lnTo>
                      <a:pt x="13985" y="7"/>
                    </a:lnTo>
                    <a:cubicBezTo>
                      <a:pt x="13984" y="7"/>
                      <a:pt x="13983" y="6"/>
                      <a:pt x="13983" y="5"/>
                    </a:cubicBezTo>
                    <a:cubicBezTo>
                      <a:pt x="13983" y="4"/>
                      <a:pt x="13984" y="3"/>
                      <a:pt x="13985" y="3"/>
                    </a:cubicBezTo>
                    <a:close/>
                    <a:moveTo>
                      <a:pt x="13993" y="3"/>
                    </a:moveTo>
                    <a:lnTo>
                      <a:pt x="13993" y="3"/>
                    </a:lnTo>
                    <a:cubicBezTo>
                      <a:pt x="13994" y="3"/>
                      <a:pt x="13995" y="4"/>
                      <a:pt x="13995" y="5"/>
                    </a:cubicBezTo>
                    <a:cubicBezTo>
                      <a:pt x="13995" y="6"/>
                      <a:pt x="13994" y="7"/>
                      <a:pt x="13993" y="7"/>
                    </a:cubicBezTo>
                    <a:lnTo>
                      <a:pt x="13993" y="7"/>
                    </a:lnTo>
                    <a:cubicBezTo>
                      <a:pt x="13992" y="7"/>
                      <a:pt x="13991" y="6"/>
                      <a:pt x="13991" y="5"/>
                    </a:cubicBezTo>
                    <a:cubicBezTo>
                      <a:pt x="13991" y="4"/>
                      <a:pt x="13992" y="3"/>
                      <a:pt x="13993" y="3"/>
                    </a:cubicBezTo>
                    <a:close/>
                    <a:moveTo>
                      <a:pt x="14001" y="3"/>
                    </a:moveTo>
                    <a:lnTo>
                      <a:pt x="14001" y="3"/>
                    </a:lnTo>
                    <a:cubicBezTo>
                      <a:pt x="14002" y="3"/>
                      <a:pt x="14003" y="4"/>
                      <a:pt x="14003" y="5"/>
                    </a:cubicBezTo>
                    <a:cubicBezTo>
                      <a:pt x="14003" y="6"/>
                      <a:pt x="14002" y="7"/>
                      <a:pt x="14001" y="7"/>
                    </a:cubicBezTo>
                    <a:lnTo>
                      <a:pt x="14001" y="7"/>
                    </a:lnTo>
                    <a:cubicBezTo>
                      <a:pt x="14000" y="7"/>
                      <a:pt x="13999" y="6"/>
                      <a:pt x="13999" y="5"/>
                    </a:cubicBezTo>
                    <a:cubicBezTo>
                      <a:pt x="13999" y="4"/>
                      <a:pt x="14000" y="3"/>
                      <a:pt x="14001" y="3"/>
                    </a:cubicBezTo>
                    <a:close/>
                    <a:moveTo>
                      <a:pt x="14009" y="3"/>
                    </a:moveTo>
                    <a:lnTo>
                      <a:pt x="14009" y="3"/>
                    </a:lnTo>
                    <a:cubicBezTo>
                      <a:pt x="14010" y="3"/>
                      <a:pt x="14011" y="4"/>
                      <a:pt x="14011" y="5"/>
                    </a:cubicBezTo>
                    <a:cubicBezTo>
                      <a:pt x="14011" y="6"/>
                      <a:pt x="14010" y="7"/>
                      <a:pt x="14009" y="7"/>
                    </a:cubicBezTo>
                    <a:lnTo>
                      <a:pt x="14009" y="7"/>
                    </a:lnTo>
                    <a:cubicBezTo>
                      <a:pt x="14008" y="7"/>
                      <a:pt x="14007" y="6"/>
                      <a:pt x="14007" y="5"/>
                    </a:cubicBezTo>
                    <a:cubicBezTo>
                      <a:pt x="14007" y="4"/>
                      <a:pt x="14008" y="3"/>
                      <a:pt x="14009" y="3"/>
                    </a:cubicBezTo>
                    <a:close/>
                    <a:moveTo>
                      <a:pt x="14017" y="3"/>
                    </a:moveTo>
                    <a:lnTo>
                      <a:pt x="14017" y="3"/>
                    </a:lnTo>
                    <a:cubicBezTo>
                      <a:pt x="14018" y="3"/>
                      <a:pt x="14019" y="4"/>
                      <a:pt x="14019" y="5"/>
                    </a:cubicBezTo>
                    <a:cubicBezTo>
                      <a:pt x="14019" y="6"/>
                      <a:pt x="14018" y="7"/>
                      <a:pt x="14017" y="7"/>
                    </a:cubicBezTo>
                    <a:lnTo>
                      <a:pt x="14017" y="7"/>
                    </a:lnTo>
                    <a:cubicBezTo>
                      <a:pt x="14016" y="7"/>
                      <a:pt x="14015" y="6"/>
                      <a:pt x="14015" y="5"/>
                    </a:cubicBezTo>
                    <a:cubicBezTo>
                      <a:pt x="14015" y="4"/>
                      <a:pt x="14016" y="3"/>
                      <a:pt x="14017" y="3"/>
                    </a:cubicBezTo>
                    <a:close/>
                    <a:moveTo>
                      <a:pt x="14025" y="3"/>
                    </a:moveTo>
                    <a:lnTo>
                      <a:pt x="14025" y="3"/>
                    </a:lnTo>
                    <a:cubicBezTo>
                      <a:pt x="14026" y="3"/>
                      <a:pt x="14027" y="4"/>
                      <a:pt x="14027" y="5"/>
                    </a:cubicBezTo>
                    <a:cubicBezTo>
                      <a:pt x="14027" y="6"/>
                      <a:pt x="14026" y="7"/>
                      <a:pt x="14025" y="7"/>
                    </a:cubicBezTo>
                    <a:lnTo>
                      <a:pt x="14025" y="7"/>
                    </a:lnTo>
                    <a:cubicBezTo>
                      <a:pt x="14024" y="7"/>
                      <a:pt x="14023" y="6"/>
                      <a:pt x="14023" y="5"/>
                    </a:cubicBezTo>
                    <a:cubicBezTo>
                      <a:pt x="14023" y="4"/>
                      <a:pt x="14024" y="3"/>
                      <a:pt x="14025" y="3"/>
                    </a:cubicBezTo>
                    <a:close/>
                    <a:moveTo>
                      <a:pt x="14033" y="3"/>
                    </a:moveTo>
                    <a:lnTo>
                      <a:pt x="14033" y="3"/>
                    </a:lnTo>
                    <a:cubicBezTo>
                      <a:pt x="14034" y="3"/>
                      <a:pt x="14035" y="4"/>
                      <a:pt x="14035" y="5"/>
                    </a:cubicBezTo>
                    <a:cubicBezTo>
                      <a:pt x="14035" y="6"/>
                      <a:pt x="14034" y="7"/>
                      <a:pt x="14033" y="7"/>
                    </a:cubicBezTo>
                    <a:lnTo>
                      <a:pt x="14033" y="7"/>
                    </a:lnTo>
                    <a:cubicBezTo>
                      <a:pt x="14032" y="7"/>
                      <a:pt x="14031" y="6"/>
                      <a:pt x="14031" y="5"/>
                    </a:cubicBezTo>
                    <a:cubicBezTo>
                      <a:pt x="14031" y="4"/>
                      <a:pt x="14032" y="3"/>
                      <a:pt x="14033" y="3"/>
                    </a:cubicBezTo>
                    <a:close/>
                    <a:moveTo>
                      <a:pt x="14041" y="3"/>
                    </a:moveTo>
                    <a:lnTo>
                      <a:pt x="14041" y="3"/>
                    </a:lnTo>
                    <a:cubicBezTo>
                      <a:pt x="14042" y="3"/>
                      <a:pt x="14043" y="4"/>
                      <a:pt x="14043" y="5"/>
                    </a:cubicBezTo>
                    <a:cubicBezTo>
                      <a:pt x="14043" y="6"/>
                      <a:pt x="14042" y="7"/>
                      <a:pt x="14041" y="7"/>
                    </a:cubicBezTo>
                    <a:lnTo>
                      <a:pt x="14041" y="7"/>
                    </a:lnTo>
                    <a:cubicBezTo>
                      <a:pt x="14040" y="7"/>
                      <a:pt x="14039" y="6"/>
                      <a:pt x="14039" y="5"/>
                    </a:cubicBezTo>
                    <a:cubicBezTo>
                      <a:pt x="14039" y="4"/>
                      <a:pt x="14040" y="3"/>
                      <a:pt x="14041" y="3"/>
                    </a:cubicBezTo>
                    <a:close/>
                    <a:moveTo>
                      <a:pt x="14049" y="3"/>
                    </a:moveTo>
                    <a:lnTo>
                      <a:pt x="14049" y="3"/>
                    </a:lnTo>
                    <a:cubicBezTo>
                      <a:pt x="14050" y="3"/>
                      <a:pt x="14051" y="4"/>
                      <a:pt x="14051" y="5"/>
                    </a:cubicBezTo>
                    <a:cubicBezTo>
                      <a:pt x="14051" y="6"/>
                      <a:pt x="14050" y="7"/>
                      <a:pt x="14049" y="7"/>
                    </a:cubicBezTo>
                    <a:lnTo>
                      <a:pt x="14049" y="7"/>
                    </a:lnTo>
                    <a:cubicBezTo>
                      <a:pt x="14048" y="7"/>
                      <a:pt x="14047" y="6"/>
                      <a:pt x="14047" y="5"/>
                    </a:cubicBezTo>
                    <a:cubicBezTo>
                      <a:pt x="14047" y="4"/>
                      <a:pt x="14048" y="3"/>
                      <a:pt x="14049" y="3"/>
                    </a:cubicBezTo>
                    <a:close/>
                    <a:moveTo>
                      <a:pt x="14057" y="3"/>
                    </a:moveTo>
                    <a:lnTo>
                      <a:pt x="14057" y="3"/>
                    </a:lnTo>
                    <a:cubicBezTo>
                      <a:pt x="14058" y="3"/>
                      <a:pt x="14059" y="4"/>
                      <a:pt x="14059" y="5"/>
                    </a:cubicBezTo>
                    <a:cubicBezTo>
                      <a:pt x="14059" y="6"/>
                      <a:pt x="14058" y="7"/>
                      <a:pt x="14057" y="7"/>
                    </a:cubicBezTo>
                    <a:lnTo>
                      <a:pt x="14057" y="7"/>
                    </a:lnTo>
                    <a:cubicBezTo>
                      <a:pt x="14056" y="7"/>
                      <a:pt x="14055" y="6"/>
                      <a:pt x="14055" y="5"/>
                    </a:cubicBezTo>
                    <a:cubicBezTo>
                      <a:pt x="14055" y="4"/>
                      <a:pt x="14056" y="3"/>
                      <a:pt x="14057" y="3"/>
                    </a:cubicBezTo>
                    <a:close/>
                    <a:moveTo>
                      <a:pt x="14065" y="3"/>
                    </a:moveTo>
                    <a:lnTo>
                      <a:pt x="14065" y="3"/>
                    </a:lnTo>
                    <a:cubicBezTo>
                      <a:pt x="14066" y="3"/>
                      <a:pt x="14067" y="4"/>
                      <a:pt x="14067" y="5"/>
                    </a:cubicBezTo>
                    <a:cubicBezTo>
                      <a:pt x="14067" y="6"/>
                      <a:pt x="14066" y="7"/>
                      <a:pt x="14065" y="7"/>
                    </a:cubicBezTo>
                    <a:lnTo>
                      <a:pt x="14065" y="7"/>
                    </a:lnTo>
                    <a:cubicBezTo>
                      <a:pt x="14064" y="7"/>
                      <a:pt x="14063" y="6"/>
                      <a:pt x="14063" y="5"/>
                    </a:cubicBezTo>
                    <a:cubicBezTo>
                      <a:pt x="14063" y="4"/>
                      <a:pt x="14064" y="3"/>
                      <a:pt x="14065" y="3"/>
                    </a:cubicBezTo>
                    <a:close/>
                    <a:moveTo>
                      <a:pt x="14073" y="3"/>
                    </a:moveTo>
                    <a:lnTo>
                      <a:pt x="14073" y="3"/>
                    </a:lnTo>
                    <a:cubicBezTo>
                      <a:pt x="14074" y="3"/>
                      <a:pt x="14075" y="4"/>
                      <a:pt x="14075" y="5"/>
                    </a:cubicBezTo>
                    <a:cubicBezTo>
                      <a:pt x="14075" y="6"/>
                      <a:pt x="14074" y="7"/>
                      <a:pt x="14073" y="7"/>
                    </a:cubicBezTo>
                    <a:lnTo>
                      <a:pt x="14073" y="7"/>
                    </a:lnTo>
                    <a:cubicBezTo>
                      <a:pt x="14072" y="7"/>
                      <a:pt x="14071" y="6"/>
                      <a:pt x="14071" y="5"/>
                    </a:cubicBezTo>
                    <a:cubicBezTo>
                      <a:pt x="14071" y="4"/>
                      <a:pt x="14072" y="3"/>
                      <a:pt x="14073" y="3"/>
                    </a:cubicBezTo>
                    <a:close/>
                    <a:moveTo>
                      <a:pt x="14081" y="3"/>
                    </a:moveTo>
                    <a:lnTo>
                      <a:pt x="14081" y="3"/>
                    </a:lnTo>
                    <a:cubicBezTo>
                      <a:pt x="14082" y="3"/>
                      <a:pt x="14083" y="4"/>
                      <a:pt x="14083" y="5"/>
                    </a:cubicBezTo>
                    <a:cubicBezTo>
                      <a:pt x="14083" y="6"/>
                      <a:pt x="14082" y="7"/>
                      <a:pt x="14081" y="7"/>
                    </a:cubicBezTo>
                    <a:lnTo>
                      <a:pt x="14081" y="7"/>
                    </a:lnTo>
                    <a:cubicBezTo>
                      <a:pt x="14080" y="7"/>
                      <a:pt x="14079" y="6"/>
                      <a:pt x="14079" y="5"/>
                    </a:cubicBezTo>
                    <a:cubicBezTo>
                      <a:pt x="14079" y="4"/>
                      <a:pt x="14080" y="3"/>
                      <a:pt x="14081" y="3"/>
                    </a:cubicBezTo>
                    <a:close/>
                    <a:moveTo>
                      <a:pt x="14089" y="3"/>
                    </a:moveTo>
                    <a:lnTo>
                      <a:pt x="14089" y="3"/>
                    </a:lnTo>
                    <a:cubicBezTo>
                      <a:pt x="14090" y="3"/>
                      <a:pt x="14091" y="4"/>
                      <a:pt x="14091" y="5"/>
                    </a:cubicBezTo>
                    <a:cubicBezTo>
                      <a:pt x="14091" y="6"/>
                      <a:pt x="14090" y="7"/>
                      <a:pt x="14089" y="7"/>
                    </a:cubicBezTo>
                    <a:lnTo>
                      <a:pt x="14089" y="7"/>
                    </a:lnTo>
                    <a:cubicBezTo>
                      <a:pt x="14088" y="7"/>
                      <a:pt x="14087" y="6"/>
                      <a:pt x="14087" y="5"/>
                    </a:cubicBezTo>
                    <a:cubicBezTo>
                      <a:pt x="14087" y="4"/>
                      <a:pt x="14088" y="3"/>
                      <a:pt x="14089" y="3"/>
                    </a:cubicBezTo>
                    <a:close/>
                    <a:moveTo>
                      <a:pt x="14097" y="3"/>
                    </a:moveTo>
                    <a:lnTo>
                      <a:pt x="14097" y="3"/>
                    </a:lnTo>
                    <a:cubicBezTo>
                      <a:pt x="14098" y="3"/>
                      <a:pt x="14099" y="4"/>
                      <a:pt x="14099" y="5"/>
                    </a:cubicBezTo>
                    <a:cubicBezTo>
                      <a:pt x="14099" y="6"/>
                      <a:pt x="14098" y="7"/>
                      <a:pt x="14097" y="7"/>
                    </a:cubicBezTo>
                    <a:lnTo>
                      <a:pt x="14097" y="7"/>
                    </a:lnTo>
                    <a:cubicBezTo>
                      <a:pt x="14096" y="7"/>
                      <a:pt x="14095" y="6"/>
                      <a:pt x="14095" y="5"/>
                    </a:cubicBezTo>
                    <a:cubicBezTo>
                      <a:pt x="14095" y="4"/>
                      <a:pt x="14096" y="3"/>
                      <a:pt x="14097" y="3"/>
                    </a:cubicBezTo>
                    <a:close/>
                    <a:moveTo>
                      <a:pt x="14105" y="3"/>
                    </a:moveTo>
                    <a:lnTo>
                      <a:pt x="14105" y="3"/>
                    </a:lnTo>
                    <a:cubicBezTo>
                      <a:pt x="14106" y="3"/>
                      <a:pt x="14107" y="4"/>
                      <a:pt x="14107" y="5"/>
                    </a:cubicBezTo>
                    <a:cubicBezTo>
                      <a:pt x="14107" y="6"/>
                      <a:pt x="14106" y="7"/>
                      <a:pt x="14105" y="7"/>
                    </a:cubicBezTo>
                    <a:lnTo>
                      <a:pt x="14105" y="7"/>
                    </a:lnTo>
                    <a:cubicBezTo>
                      <a:pt x="14104" y="7"/>
                      <a:pt x="14103" y="6"/>
                      <a:pt x="14103" y="5"/>
                    </a:cubicBezTo>
                    <a:cubicBezTo>
                      <a:pt x="14103" y="4"/>
                      <a:pt x="14104" y="3"/>
                      <a:pt x="14105" y="3"/>
                    </a:cubicBezTo>
                    <a:close/>
                    <a:moveTo>
                      <a:pt x="14113" y="3"/>
                    </a:moveTo>
                    <a:lnTo>
                      <a:pt x="14113" y="3"/>
                    </a:lnTo>
                    <a:cubicBezTo>
                      <a:pt x="14114" y="3"/>
                      <a:pt x="14115" y="4"/>
                      <a:pt x="14115" y="5"/>
                    </a:cubicBezTo>
                    <a:cubicBezTo>
                      <a:pt x="14115" y="6"/>
                      <a:pt x="14114" y="7"/>
                      <a:pt x="14113" y="7"/>
                    </a:cubicBezTo>
                    <a:lnTo>
                      <a:pt x="14113" y="7"/>
                    </a:lnTo>
                    <a:cubicBezTo>
                      <a:pt x="14112" y="7"/>
                      <a:pt x="14111" y="6"/>
                      <a:pt x="14111" y="5"/>
                    </a:cubicBezTo>
                    <a:cubicBezTo>
                      <a:pt x="14111" y="4"/>
                      <a:pt x="14112" y="3"/>
                      <a:pt x="14113" y="3"/>
                    </a:cubicBezTo>
                    <a:close/>
                    <a:moveTo>
                      <a:pt x="14121" y="3"/>
                    </a:moveTo>
                    <a:lnTo>
                      <a:pt x="14121" y="3"/>
                    </a:lnTo>
                    <a:cubicBezTo>
                      <a:pt x="14122" y="3"/>
                      <a:pt x="14123" y="4"/>
                      <a:pt x="14123" y="5"/>
                    </a:cubicBezTo>
                    <a:cubicBezTo>
                      <a:pt x="14123" y="6"/>
                      <a:pt x="14122" y="7"/>
                      <a:pt x="14121" y="7"/>
                    </a:cubicBezTo>
                    <a:lnTo>
                      <a:pt x="14121" y="7"/>
                    </a:lnTo>
                    <a:cubicBezTo>
                      <a:pt x="14120" y="7"/>
                      <a:pt x="14119" y="6"/>
                      <a:pt x="14119" y="5"/>
                    </a:cubicBezTo>
                    <a:cubicBezTo>
                      <a:pt x="14119" y="4"/>
                      <a:pt x="14120" y="3"/>
                      <a:pt x="14121" y="3"/>
                    </a:cubicBezTo>
                    <a:close/>
                    <a:moveTo>
                      <a:pt x="14129" y="3"/>
                    </a:moveTo>
                    <a:lnTo>
                      <a:pt x="14129" y="3"/>
                    </a:lnTo>
                    <a:cubicBezTo>
                      <a:pt x="14130" y="3"/>
                      <a:pt x="14131" y="4"/>
                      <a:pt x="14131" y="5"/>
                    </a:cubicBezTo>
                    <a:cubicBezTo>
                      <a:pt x="14131" y="6"/>
                      <a:pt x="14130" y="7"/>
                      <a:pt x="14129" y="7"/>
                    </a:cubicBezTo>
                    <a:lnTo>
                      <a:pt x="14129" y="7"/>
                    </a:lnTo>
                    <a:cubicBezTo>
                      <a:pt x="14128" y="7"/>
                      <a:pt x="14127" y="6"/>
                      <a:pt x="14127" y="5"/>
                    </a:cubicBezTo>
                    <a:cubicBezTo>
                      <a:pt x="14127" y="4"/>
                      <a:pt x="14128" y="3"/>
                      <a:pt x="14129" y="3"/>
                    </a:cubicBezTo>
                    <a:close/>
                    <a:moveTo>
                      <a:pt x="14137" y="3"/>
                    </a:moveTo>
                    <a:lnTo>
                      <a:pt x="14137" y="3"/>
                    </a:lnTo>
                    <a:cubicBezTo>
                      <a:pt x="14138" y="3"/>
                      <a:pt x="14139" y="4"/>
                      <a:pt x="14139" y="5"/>
                    </a:cubicBezTo>
                    <a:cubicBezTo>
                      <a:pt x="14139" y="6"/>
                      <a:pt x="14138" y="7"/>
                      <a:pt x="14137" y="7"/>
                    </a:cubicBezTo>
                    <a:lnTo>
                      <a:pt x="14137" y="7"/>
                    </a:lnTo>
                    <a:cubicBezTo>
                      <a:pt x="14136" y="7"/>
                      <a:pt x="14135" y="6"/>
                      <a:pt x="14135" y="5"/>
                    </a:cubicBezTo>
                    <a:cubicBezTo>
                      <a:pt x="14135" y="4"/>
                      <a:pt x="14136" y="3"/>
                      <a:pt x="14137" y="3"/>
                    </a:cubicBezTo>
                    <a:close/>
                    <a:moveTo>
                      <a:pt x="14145" y="3"/>
                    </a:moveTo>
                    <a:lnTo>
                      <a:pt x="14145" y="3"/>
                    </a:lnTo>
                    <a:cubicBezTo>
                      <a:pt x="14146" y="3"/>
                      <a:pt x="14147" y="4"/>
                      <a:pt x="14147" y="5"/>
                    </a:cubicBezTo>
                    <a:cubicBezTo>
                      <a:pt x="14147" y="6"/>
                      <a:pt x="14146" y="7"/>
                      <a:pt x="14145" y="7"/>
                    </a:cubicBezTo>
                    <a:lnTo>
                      <a:pt x="14145" y="7"/>
                    </a:lnTo>
                    <a:cubicBezTo>
                      <a:pt x="14144" y="7"/>
                      <a:pt x="14143" y="6"/>
                      <a:pt x="14143" y="5"/>
                    </a:cubicBezTo>
                    <a:cubicBezTo>
                      <a:pt x="14143" y="4"/>
                      <a:pt x="14144" y="3"/>
                      <a:pt x="14145" y="3"/>
                    </a:cubicBezTo>
                    <a:close/>
                    <a:moveTo>
                      <a:pt x="14153" y="3"/>
                    </a:moveTo>
                    <a:lnTo>
                      <a:pt x="14153" y="3"/>
                    </a:lnTo>
                    <a:cubicBezTo>
                      <a:pt x="14154" y="3"/>
                      <a:pt x="14155" y="4"/>
                      <a:pt x="14155" y="5"/>
                    </a:cubicBezTo>
                    <a:cubicBezTo>
                      <a:pt x="14155" y="6"/>
                      <a:pt x="14154" y="7"/>
                      <a:pt x="14153" y="7"/>
                    </a:cubicBezTo>
                    <a:lnTo>
                      <a:pt x="14153" y="7"/>
                    </a:lnTo>
                    <a:cubicBezTo>
                      <a:pt x="14152" y="7"/>
                      <a:pt x="14151" y="6"/>
                      <a:pt x="14151" y="5"/>
                    </a:cubicBezTo>
                    <a:cubicBezTo>
                      <a:pt x="14151" y="4"/>
                      <a:pt x="14152" y="3"/>
                      <a:pt x="14153" y="3"/>
                    </a:cubicBezTo>
                    <a:close/>
                    <a:moveTo>
                      <a:pt x="14161" y="3"/>
                    </a:moveTo>
                    <a:lnTo>
                      <a:pt x="14161" y="3"/>
                    </a:lnTo>
                    <a:cubicBezTo>
                      <a:pt x="14162" y="3"/>
                      <a:pt x="14163" y="4"/>
                      <a:pt x="14163" y="5"/>
                    </a:cubicBezTo>
                    <a:cubicBezTo>
                      <a:pt x="14163" y="6"/>
                      <a:pt x="14162" y="7"/>
                      <a:pt x="14161" y="7"/>
                    </a:cubicBezTo>
                    <a:lnTo>
                      <a:pt x="14161" y="7"/>
                    </a:lnTo>
                    <a:cubicBezTo>
                      <a:pt x="14160" y="7"/>
                      <a:pt x="14159" y="6"/>
                      <a:pt x="14159" y="5"/>
                    </a:cubicBezTo>
                    <a:cubicBezTo>
                      <a:pt x="14159" y="4"/>
                      <a:pt x="14160" y="3"/>
                      <a:pt x="14161" y="3"/>
                    </a:cubicBezTo>
                    <a:close/>
                    <a:moveTo>
                      <a:pt x="14169" y="3"/>
                    </a:moveTo>
                    <a:lnTo>
                      <a:pt x="14169" y="3"/>
                    </a:lnTo>
                    <a:cubicBezTo>
                      <a:pt x="14171" y="3"/>
                      <a:pt x="14171" y="4"/>
                      <a:pt x="14171" y="5"/>
                    </a:cubicBezTo>
                    <a:cubicBezTo>
                      <a:pt x="14171" y="6"/>
                      <a:pt x="14171" y="7"/>
                      <a:pt x="14169" y="7"/>
                    </a:cubicBezTo>
                    <a:lnTo>
                      <a:pt x="14169" y="7"/>
                    </a:lnTo>
                    <a:cubicBezTo>
                      <a:pt x="14168" y="7"/>
                      <a:pt x="14167" y="6"/>
                      <a:pt x="14167" y="5"/>
                    </a:cubicBezTo>
                    <a:cubicBezTo>
                      <a:pt x="14167" y="4"/>
                      <a:pt x="14168" y="3"/>
                      <a:pt x="14169" y="3"/>
                    </a:cubicBezTo>
                    <a:close/>
                    <a:moveTo>
                      <a:pt x="14177" y="3"/>
                    </a:moveTo>
                    <a:lnTo>
                      <a:pt x="14177" y="3"/>
                    </a:lnTo>
                    <a:cubicBezTo>
                      <a:pt x="14179" y="3"/>
                      <a:pt x="14179" y="4"/>
                      <a:pt x="14179" y="5"/>
                    </a:cubicBezTo>
                    <a:cubicBezTo>
                      <a:pt x="14179" y="6"/>
                      <a:pt x="14179" y="7"/>
                      <a:pt x="14177" y="7"/>
                    </a:cubicBezTo>
                    <a:lnTo>
                      <a:pt x="14177" y="7"/>
                    </a:lnTo>
                    <a:cubicBezTo>
                      <a:pt x="14176" y="7"/>
                      <a:pt x="14175" y="6"/>
                      <a:pt x="14175" y="5"/>
                    </a:cubicBezTo>
                    <a:cubicBezTo>
                      <a:pt x="14175" y="4"/>
                      <a:pt x="14176" y="3"/>
                      <a:pt x="14177" y="3"/>
                    </a:cubicBezTo>
                    <a:close/>
                    <a:moveTo>
                      <a:pt x="14185" y="3"/>
                    </a:moveTo>
                    <a:lnTo>
                      <a:pt x="14185" y="3"/>
                    </a:lnTo>
                    <a:cubicBezTo>
                      <a:pt x="14187" y="3"/>
                      <a:pt x="14187" y="4"/>
                      <a:pt x="14187" y="5"/>
                    </a:cubicBezTo>
                    <a:cubicBezTo>
                      <a:pt x="14187" y="6"/>
                      <a:pt x="14187" y="7"/>
                      <a:pt x="14185" y="7"/>
                    </a:cubicBezTo>
                    <a:lnTo>
                      <a:pt x="14185" y="7"/>
                    </a:lnTo>
                    <a:cubicBezTo>
                      <a:pt x="14184" y="7"/>
                      <a:pt x="14183" y="6"/>
                      <a:pt x="14183" y="5"/>
                    </a:cubicBezTo>
                    <a:cubicBezTo>
                      <a:pt x="14183" y="4"/>
                      <a:pt x="14184" y="3"/>
                      <a:pt x="14185" y="3"/>
                    </a:cubicBezTo>
                    <a:close/>
                    <a:moveTo>
                      <a:pt x="14193" y="3"/>
                    </a:moveTo>
                    <a:lnTo>
                      <a:pt x="14193" y="3"/>
                    </a:lnTo>
                    <a:cubicBezTo>
                      <a:pt x="14195" y="3"/>
                      <a:pt x="14195" y="4"/>
                      <a:pt x="14195" y="5"/>
                    </a:cubicBezTo>
                    <a:cubicBezTo>
                      <a:pt x="14195" y="6"/>
                      <a:pt x="14195" y="7"/>
                      <a:pt x="14193" y="7"/>
                    </a:cubicBezTo>
                    <a:lnTo>
                      <a:pt x="14193" y="7"/>
                    </a:lnTo>
                    <a:cubicBezTo>
                      <a:pt x="14192" y="7"/>
                      <a:pt x="14191" y="6"/>
                      <a:pt x="14191" y="5"/>
                    </a:cubicBezTo>
                    <a:cubicBezTo>
                      <a:pt x="14191" y="4"/>
                      <a:pt x="14192" y="3"/>
                      <a:pt x="14193" y="3"/>
                    </a:cubicBezTo>
                    <a:close/>
                    <a:moveTo>
                      <a:pt x="14201" y="3"/>
                    </a:moveTo>
                    <a:lnTo>
                      <a:pt x="14201" y="3"/>
                    </a:lnTo>
                    <a:cubicBezTo>
                      <a:pt x="14203" y="3"/>
                      <a:pt x="14203" y="4"/>
                      <a:pt x="14203" y="5"/>
                    </a:cubicBezTo>
                    <a:cubicBezTo>
                      <a:pt x="14203" y="6"/>
                      <a:pt x="14203" y="7"/>
                      <a:pt x="14201" y="7"/>
                    </a:cubicBezTo>
                    <a:lnTo>
                      <a:pt x="14201" y="7"/>
                    </a:lnTo>
                    <a:cubicBezTo>
                      <a:pt x="14200" y="7"/>
                      <a:pt x="14199" y="6"/>
                      <a:pt x="14199" y="5"/>
                    </a:cubicBezTo>
                    <a:cubicBezTo>
                      <a:pt x="14199" y="4"/>
                      <a:pt x="14200" y="3"/>
                      <a:pt x="14201" y="3"/>
                    </a:cubicBezTo>
                    <a:close/>
                    <a:moveTo>
                      <a:pt x="14209" y="3"/>
                    </a:moveTo>
                    <a:lnTo>
                      <a:pt x="14209" y="3"/>
                    </a:lnTo>
                    <a:cubicBezTo>
                      <a:pt x="14211" y="3"/>
                      <a:pt x="14211" y="4"/>
                      <a:pt x="14211" y="5"/>
                    </a:cubicBezTo>
                    <a:cubicBezTo>
                      <a:pt x="14211" y="6"/>
                      <a:pt x="14211" y="7"/>
                      <a:pt x="14209" y="7"/>
                    </a:cubicBezTo>
                    <a:lnTo>
                      <a:pt x="14209" y="7"/>
                    </a:lnTo>
                    <a:cubicBezTo>
                      <a:pt x="14208" y="7"/>
                      <a:pt x="14207" y="6"/>
                      <a:pt x="14207" y="5"/>
                    </a:cubicBezTo>
                    <a:cubicBezTo>
                      <a:pt x="14207" y="4"/>
                      <a:pt x="14208" y="3"/>
                      <a:pt x="14209" y="3"/>
                    </a:cubicBezTo>
                    <a:close/>
                    <a:moveTo>
                      <a:pt x="14217" y="3"/>
                    </a:moveTo>
                    <a:lnTo>
                      <a:pt x="14217" y="3"/>
                    </a:lnTo>
                    <a:cubicBezTo>
                      <a:pt x="14219" y="3"/>
                      <a:pt x="14219" y="4"/>
                      <a:pt x="14219" y="5"/>
                    </a:cubicBezTo>
                    <a:cubicBezTo>
                      <a:pt x="14219" y="6"/>
                      <a:pt x="14219" y="7"/>
                      <a:pt x="14217" y="7"/>
                    </a:cubicBezTo>
                    <a:lnTo>
                      <a:pt x="14217" y="7"/>
                    </a:lnTo>
                    <a:cubicBezTo>
                      <a:pt x="14216" y="7"/>
                      <a:pt x="14215" y="6"/>
                      <a:pt x="14215" y="5"/>
                    </a:cubicBezTo>
                    <a:cubicBezTo>
                      <a:pt x="14215" y="4"/>
                      <a:pt x="14216" y="3"/>
                      <a:pt x="14217" y="3"/>
                    </a:cubicBezTo>
                    <a:close/>
                    <a:moveTo>
                      <a:pt x="14225" y="3"/>
                    </a:moveTo>
                    <a:lnTo>
                      <a:pt x="14225" y="3"/>
                    </a:lnTo>
                    <a:cubicBezTo>
                      <a:pt x="14227" y="3"/>
                      <a:pt x="14227" y="4"/>
                      <a:pt x="14227" y="5"/>
                    </a:cubicBezTo>
                    <a:cubicBezTo>
                      <a:pt x="14227" y="6"/>
                      <a:pt x="14227" y="7"/>
                      <a:pt x="14225" y="7"/>
                    </a:cubicBezTo>
                    <a:lnTo>
                      <a:pt x="14225" y="7"/>
                    </a:lnTo>
                    <a:cubicBezTo>
                      <a:pt x="14224" y="7"/>
                      <a:pt x="14223" y="6"/>
                      <a:pt x="14223" y="5"/>
                    </a:cubicBezTo>
                    <a:cubicBezTo>
                      <a:pt x="14223" y="4"/>
                      <a:pt x="14224" y="3"/>
                      <a:pt x="14225" y="3"/>
                    </a:cubicBezTo>
                    <a:close/>
                    <a:moveTo>
                      <a:pt x="14233" y="3"/>
                    </a:moveTo>
                    <a:lnTo>
                      <a:pt x="14233" y="3"/>
                    </a:lnTo>
                    <a:cubicBezTo>
                      <a:pt x="14235" y="3"/>
                      <a:pt x="14235" y="4"/>
                      <a:pt x="14235" y="5"/>
                    </a:cubicBezTo>
                    <a:cubicBezTo>
                      <a:pt x="14235" y="6"/>
                      <a:pt x="14235" y="7"/>
                      <a:pt x="14233" y="7"/>
                    </a:cubicBezTo>
                    <a:lnTo>
                      <a:pt x="14233" y="7"/>
                    </a:lnTo>
                    <a:cubicBezTo>
                      <a:pt x="14232" y="7"/>
                      <a:pt x="14231" y="6"/>
                      <a:pt x="14231" y="5"/>
                    </a:cubicBezTo>
                    <a:cubicBezTo>
                      <a:pt x="14231" y="4"/>
                      <a:pt x="14232" y="3"/>
                      <a:pt x="14233" y="3"/>
                    </a:cubicBezTo>
                    <a:close/>
                    <a:moveTo>
                      <a:pt x="14241" y="3"/>
                    </a:moveTo>
                    <a:lnTo>
                      <a:pt x="14241" y="3"/>
                    </a:lnTo>
                    <a:cubicBezTo>
                      <a:pt x="14243" y="3"/>
                      <a:pt x="14243" y="4"/>
                      <a:pt x="14243" y="5"/>
                    </a:cubicBezTo>
                    <a:cubicBezTo>
                      <a:pt x="14243" y="6"/>
                      <a:pt x="14243" y="7"/>
                      <a:pt x="14241" y="7"/>
                    </a:cubicBezTo>
                    <a:lnTo>
                      <a:pt x="14241" y="7"/>
                    </a:lnTo>
                    <a:cubicBezTo>
                      <a:pt x="14240" y="7"/>
                      <a:pt x="14239" y="6"/>
                      <a:pt x="14239" y="5"/>
                    </a:cubicBezTo>
                    <a:cubicBezTo>
                      <a:pt x="14239" y="4"/>
                      <a:pt x="14240" y="3"/>
                      <a:pt x="14241" y="3"/>
                    </a:cubicBezTo>
                    <a:close/>
                    <a:moveTo>
                      <a:pt x="14249" y="3"/>
                    </a:moveTo>
                    <a:lnTo>
                      <a:pt x="14249" y="3"/>
                    </a:lnTo>
                    <a:cubicBezTo>
                      <a:pt x="14251" y="3"/>
                      <a:pt x="14251" y="4"/>
                      <a:pt x="14251" y="5"/>
                    </a:cubicBezTo>
                    <a:cubicBezTo>
                      <a:pt x="14251" y="6"/>
                      <a:pt x="14251" y="7"/>
                      <a:pt x="14249" y="7"/>
                    </a:cubicBezTo>
                    <a:lnTo>
                      <a:pt x="14249" y="7"/>
                    </a:lnTo>
                    <a:cubicBezTo>
                      <a:pt x="14248" y="7"/>
                      <a:pt x="14247" y="6"/>
                      <a:pt x="14247" y="5"/>
                    </a:cubicBezTo>
                    <a:cubicBezTo>
                      <a:pt x="14247" y="4"/>
                      <a:pt x="14248" y="3"/>
                      <a:pt x="14249" y="3"/>
                    </a:cubicBezTo>
                    <a:close/>
                    <a:moveTo>
                      <a:pt x="14257" y="3"/>
                    </a:moveTo>
                    <a:lnTo>
                      <a:pt x="14257" y="3"/>
                    </a:lnTo>
                    <a:cubicBezTo>
                      <a:pt x="14259" y="3"/>
                      <a:pt x="14259" y="4"/>
                      <a:pt x="14259" y="5"/>
                    </a:cubicBezTo>
                    <a:cubicBezTo>
                      <a:pt x="14259" y="6"/>
                      <a:pt x="14259" y="7"/>
                      <a:pt x="14257" y="7"/>
                    </a:cubicBezTo>
                    <a:lnTo>
                      <a:pt x="14257" y="7"/>
                    </a:lnTo>
                    <a:cubicBezTo>
                      <a:pt x="14256" y="7"/>
                      <a:pt x="14255" y="6"/>
                      <a:pt x="14255" y="5"/>
                    </a:cubicBezTo>
                    <a:cubicBezTo>
                      <a:pt x="14255" y="4"/>
                      <a:pt x="14256" y="3"/>
                      <a:pt x="14257" y="3"/>
                    </a:cubicBezTo>
                    <a:close/>
                    <a:moveTo>
                      <a:pt x="14265" y="3"/>
                    </a:moveTo>
                    <a:lnTo>
                      <a:pt x="14265" y="3"/>
                    </a:lnTo>
                    <a:cubicBezTo>
                      <a:pt x="14267" y="3"/>
                      <a:pt x="14267" y="4"/>
                      <a:pt x="14267" y="5"/>
                    </a:cubicBezTo>
                    <a:cubicBezTo>
                      <a:pt x="14267" y="6"/>
                      <a:pt x="14267" y="7"/>
                      <a:pt x="14265" y="7"/>
                    </a:cubicBezTo>
                    <a:lnTo>
                      <a:pt x="14265" y="7"/>
                    </a:lnTo>
                    <a:cubicBezTo>
                      <a:pt x="14264" y="7"/>
                      <a:pt x="14263" y="6"/>
                      <a:pt x="14263" y="5"/>
                    </a:cubicBezTo>
                    <a:cubicBezTo>
                      <a:pt x="14263" y="4"/>
                      <a:pt x="14264" y="3"/>
                      <a:pt x="14265" y="3"/>
                    </a:cubicBezTo>
                    <a:close/>
                    <a:moveTo>
                      <a:pt x="14273" y="3"/>
                    </a:moveTo>
                    <a:lnTo>
                      <a:pt x="14273" y="3"/>
                    </a:lnTo>
                    <a:cubicBezTo>
                      <a:pt x="14275" y="3"/>
                      <a:pt x="14275" y="4"/>
                      <a:pt x="14275" y="5"/>
                    </a:cubicBezTo>
                    <a:cubicBezTo>
                      <a:pt x="14275" y="6"/>
                      <a:pt x="14275" y="7"/>
                      <a:pt x="14273" y="7"/>
                    </a:cubicBezTo>
                    <a:lnTo>
                      <a:pt x="14273" y="7"/>
                    </a:lnTo>
                    <a:cubicBezTo>
                      <a:pt x="14272" y="7"/>
                      <a:pt x="14271" y="6"/>
                      <a:pt x="14271" y="5"/>
                    </a:cubicBezTo>
                    <a:cubicBezTo>
                      <a:pt x="14271" y="4"/>
                      <a:pt x="14272" y="3"/>
                      <a:pt x="14273" y="3"/>
                    </a:cubicBezTo>
                    <a:close/>
                    <a:moveTo>
                      <a:pt x="14281" y="3"/>
                    </a:moveTo>
                    <a:lnTo>
                      <a:pt x="14281" y="3"/>
                    </a:lnTo>
                    <a:cubicBezTo>
                      <a:pt x="14283" y="3"/>
                      <a:pt x="14283" y="4"/>
                      <a:pt x="14283" y="5"/>
                    </a:cubicBezTo>
                    <a:cubicBezTo>
                      <a:pt x="14283" y="6"/>
                      <a:pt x="14283" y="7"/>
                      <a:pt x="14281" y="7"/>
                    </a:cubicBezTo>
                    <a:lnTo>
                      <a:pt x="14281" y="7"/>
                    </a:lnTo>
                    <a:cubicBezTo>
                      <a:pt x="14280" y="7"/>
                      <a:pt x="14279" y="6"/>
                      <a:pt x="14279" y="5"/>
                    </a:cubicBezTo>
                    <a:cubicBezTo>
                      <a:pt x="14279" y="4"/>
                      <a:pt x="14280" y="3"/>
                      <a:pt x="14281" y="3"/>
                    </a:cubicBezTo>
                    <a:close/>
                    <a:moveTo>
                      <a:pt x="14289" y="3"/>
                    </a:moveTo>
                    <a:lnTo>
                      <a:pt x="14289" y="3"/>
                    </a:lnTo>
                    <a:cubicBezTo>
                      <a:pt x="14291" y="3"/>
                      <a:pt x="14291" y="4"/>
                      <a:pt x="14291" y="5"/>
                    </a:cubicBezTo>
                    <a:cubicBezTo>
                      <a:pt x="14291" y="6"/>
                      <a:pt x="14291" y="7"/>
                      <a:pt x="14289" y="7"/>
                    </a:cubicBezTo>
                    <a:lnTo>
                      <a:pt x="14289" y="7"/>
                    </a:lnTo>
                    <a:cubicBezTo>
                      <a:pt x="14288" y="7"/>
                      <a:pt x="14287" y="6"/>
                      <a:pt x="14287" y="5"/>
                    </a:cubicBezTo>
                    <a:cubicBezTo>
                      <a:pt x="14287" y="4"/>
                      <a:pt x="14288" y="3"/>
                      <a:pt x="14289" y="3"/>
                    </a:cubicBezTo>
                    <a:close/>
                    <a:moveTo>
                      <a:pt x="14297" y="3"/>
                    </a:moveTo>
                    <a:lnTo>
                      <a:pt x="14297" y="3"/>
                    </a:lnTo>
                    <a:cubicBezTo>
                      <a:pt x="14299" y="3"/>
                      <a:pt x="14299" y="4"/>
                      <a:pt x="14299" y="5"/>
                    </a:cubicBezTo>
                    <a:cubicBezTo>
                      <a:pt x="14299" y="6"/>
                      <a:pt x="14299" y="7"/>
                      <a:pt x="14297" y="7"/>
                    </a:cubicBezTo>
                    <a:lnTo>
                      <a:pt x="14297" y="7"/>
                    </a:lnTo>
                    <a:cubicBezTo>
                      <a:pt x="14296" y="7"/>
                      <a:pt x="14295" y="6"/>
                      <a:pt x="14295" y="5"/>
                    </a:cubicBezTo>
                    <a:cubicBezTo>
                      <a:pt x="14295" y="4"/>
                      <a:pt x="14296" y="3"/>
                      <a:pt x="14297" y="3"/>
                    </a:cubicBezTo>
                    <a:close/>
                    <a:moveTo>
                      <a:pt x="14305" y="3"/>
                    </a:moveTo>
                    <a:lnTo>
                      <a:pt x="14306" y="3"/>
                    </a:lnTo>
                    <a:cubicBezTo>
                      <a:pt x="14307" y="3"/>
                      <a:pt x="14308" y="4"/>
                      <a:pt x="14308" y="5"/>
                    </a:cubicBezTo>
                    <a:cubicBezTo>
                      <a:pt x="14308" y="6"/>
                      <a:pt x="14307" y="7"/>
                      <a:pt x="14306" y="7"/>
                    </a:cubicBezTo>
                    <a:lnTo>
                      <a:pt x="14305" y="7"/>
                    </a:lnTo>
                    <a:cubicBezTo>
                      <a:pt x="14304" y="7"/>
                      <a:pt x="14303" y="6"/>
                      <a:pt x="14303" y="5"/>
                    </a:cubicBezTo>
                    <a:cubicBezTo>
                      <a:pt x="14303" y="4"/>
                      <a:pt x="14304" y="3"/>
                      <a:pt x="14305" y="3"/>
                    </a:cubicBezTo>
                    <a:close/>
                    <a:moveTo>
                      <a:pt x="14314" y="3"/>
                    </a:moveTo>
                    <a:lnTo>
                      <a:pt x="14314" y="3"/>
                    </a:lnTo>
                    <a:cubicBezTo>
                      <a:pt x="14315" y="3"/>
                      <a:pt x="14316" y="4"/>
                      <a:pt x="14316" y="5"/>
                    </a:cubicBezTo>
                    <a:cubicBezTo>
                      <a:pt x="14316" y="6"/>
                      <a:pt x="14315" y="7"/>
                      <a:pt x="14314" y="7"/>
                    </a:cubicBezTo>
                    <a:lnTo>
                      <a:pt x="14314" y="7"/>
                    </a:lnTo>
                    <a:cubicBezTo>
                      <a:pt x="14312" y="7"/>
                      <a:pt x="14312" y="6"/>
                      <a:pt x="14312" y="5"/>
                    </a:cubicBezTo>
                    <a:cubicBezTo>
                      <a:pt x="14312" y="4"/>
                      <a:pt x="14312" y="3"/>
                      <a:pt x="14314" y="3"/>
                    </a:cubicBezTo>
                    <a:close/>
                    <a:moveTo>
                      <a:pt x="14322" y="3"/>
                    </a:moveTo>
                    <a:lnTo>
                      <a:pt x="14322" y="3"/>
                    </a:lnTo>
                    <a:cubicBezTo>
                      <a:pt x="14323" y="3"/>
                      <a:pt x="14324" y="4"/>
                      <a:pt x="14324" y="5"/>
                    </a:cubicBezTo>
                    <a:cubicBezTo>
                      <a:pt x="14324" y="6"/>
                      <a:pt x="14323" y="7"/>
                      <a:pt x="14322" y="7"/>
                    </a:cubicBezTo>
                    <a:lnTo>
                      <a:pt x="14322" y="7"/>
                    </a:lnTo>
                    <a:cubicBezTo>
                      <a:pt x="14320" y="7"/>
                      <a:pt x="14320" y="6"/>
                      <a:pt x="14320" y="5"/>
                    </a:cubicBezTo>
                    <a:cubicBezTo>
                      <a:pt x="14320" y="4"/>
                      <a:pt x="14320" y="3"/>
                      <a:pt x="14322" y="3"/>
                    </a:cubicBezTo>
                    <a:close/>
                    <a:moveTo>
                      <a:pt x="14330" y="3"/>
                    </a:moveTo>
                    <a:lnTo>
                      <a:pt x="14330" y="3"/>
                    </a:lnTo>
                    <a:cubicBezTo>
                      <a:pt x="14331" y="3"/>
                      <a:pt x="14332" y="4"/>
                      <a:pt x="14332" y="5"/>
                    </a:cubicBezTo>
                    <a:cubicBezTo>
                      <a:pt x="14332" y="6"/>
                      <a:pt x="14331" y="7"/>
                      <a:pt x="14330" y="7"/>
                    </a:cubicBezTo>
                    <a:lnTo>
                      <a:pt x="14330" y="7"/>
                    </a:lnTo>
                    <a:cubicBezTo>
                      <a:pt x="14328" y="7"/>
                      <a:pt x="14328" y="6"/>
                      <a:pt x="14328" y="5"/>
                    </a:cubicBezTo>
                    <a:cubicBezTo>
                      <a:pt x="14328" y="4"/>
                      <a:pt x="14328" y="3"/>
                      <a:pt x="14330" y="3"/>
                    </a:cubicBezTo>
                    <a:close/>
                    <a:moveTo>
                      <a:pt x="14338" y="3"/>
                    </a:moveTo>
                    <a:lnTo>
                      <a:pt x="14338" y="3"/>
                    </a:lnTo>
                    <a:cubicBezTo>
                      <a:pt x="14339" y="3"/>
                      <a:pt x="14340" y="4"/>
                      <a:pt x="14340" y="5"/>
                    </a:cubicBezTo>
                    <a:cubicBezTo>
                      <a:pt x="14340" y="6"/>
                      <a:pt x="14339" y="7"/>
                      <a:pt x="14338" y="7"/>
                    </a:cubicBezTo>
                    <a:lnTo>
                      <a:pt x="14338" y="7"/>
                    </a:lnTo>
                    <a:cubicBezTo>
                      <a:pt x="14336" y="7"/>
                      <a:pt x="14336" y="6"/>
                      <a:pt x="14336" y="5"/>
                    </a:cubicBezTo>
                    <a:cubicBezTo>
                      <a:pt x="14336" y="4"/>
                      <a:pt x="14336" y="3"/>
                      <a:pt x="14338" y="3"/>
                    </a:cubicBezTo>
                    <a:close/>
                    <a:moveTo>
                      <a:pt x="14346" y="3"/>
                    </a:moveTo>
                    <a:lnTo>
                      <a:pt x="14346" y="3"/>
                    </a:lnTo>
                    <a:cubicBezTo>
                      <a:pt x="14347" y="3"/>
                      <a:pt x="14348" y="4"/>
                      <a:pt x="14348" y="5"/>
                    </a:cubicBezTo>
                    <a:cubicBezTo>
                      <a:pt x="14348" y="6"/>
                      <a:pt x="14347" y="7"/>
                      <a:pt x="14346" y="7"/>
                    </a:cubicBezTo>
                    <a:lnTo>
                      <a:pt x="14346" y="7"/>
                    </a:lnTo>
                    <a:cubicBezTo>
                      <a:pt x="14344" y="7"/>
                      <a:pt x="14344" y="6"/>
                      <a:pt x="14344" y="5"/>
                    </a:cubicBezTo>
                    <a:cubicBezTo>
                      <a:pt x="14344" y="4"/>
                      <a:pt x="14344" y="3"/>
                      <a:pt x="14346" y="3"/>
                    </a:cubicBezTo>
                    <a:close/>
                    <a:moveTo>
                      <a:pt x="14354" y="3"/>
                    </a:moveTo>
                    <a:lnTo>
                      <a:pt x="14354" y="3"/>
                    </a:lnTo>
                    <a:cubicBezTo>
                      <a:pt x="14355" y="3"/>
                      <a:pt x="14356" y="4"/>
                      <a:pt x="14356" y="5"/>
                    </a:cubicBezTo>
                    <a:cubicBezTo>
                      <a:pt x="14356" y="6"/>
                      <a:pt x="14355" y="7"/>
                      <a:pt x="14354" y="7"/>
                    </a:cubicBezTo>
                    <a:lnTo>
                      <a:pt x="14354" y="7"/>
                    </a:lnTo>
                    <a:cubicBezTo>
                      <a:pt x="14352" y="7"/>
                      <a:pt x="14352" y="6"/>
                      <a:pt x="14352" y="5"/>
                    </a:cubicBezTo>
                    <a:cubicBezTo>
                      <a:pt x="14352" y="4"/>
                      <a:pt x="14352" y="3"/>
                      <a:pt x="14354" y="3"/>
                    </a:cubicBezTo>
                    <a:close/>
                    <a:moveTo>
                      <a:pt x="14362" y="3"/>
                    </a:moveTo>
                    <a:lnTo>
                      <a:pt x="14362" y="3"/>
                    </a:lnTo>
                    <a:cubicBezTo>
                      <a:pt x="14363" y="3"/>
                      <a:pt x="14364" y="4"/>
                      <a:pt x="14364" y="5"/>
                    </a:cubicBezTo>
                    <a:cubicBezTo>
                      <a:pt x="14364" y="6"/>
                      <a:pt x="14363" y="7"/>
                      <a:pt x="14362" y="7"/>
                    </a:cubicBezTo>
                    <a:lnTo>
                      <a:pt x="14362" y="7"/>
                    </a:lnTo>
                    <a:cubicBezTo>
                      <a:pt x="14360" y="7"/>
                      <a:pt x="14360" y="6"/>
                      <a:pt x="14360" y="5"/>
                    </a:cubicBezTo>
                    <a:cubicBezTo>
                      <a:pt x="14360" y="4"/>
                      <a:pt x="14360" y="3"/>
                      <a:pt x="14362" y="3"/>
                    </a:cubicBezTo>
                    <a:close/>
                    <a:moveTo>
                      <a:pt x="14370" y="3"/>
                    </a:moveTo>
                    <a:lnTo>
                      <a:pt x="14370" y="3"/>
                    </a:lnTo>
                    <a:cubicBezTo>
                      <a:pt x="14371" y="3"/>
                      <a:pt x="14372" y="4"/>
                      <a:pt x="14372" y="5"/>
                    </a:cubicBezTo>
                    <a:cubicBezTo>
                      <a:pt x="14372" y="6"/>
                      <a:pt x="14371" y="7"/>
                      <a:pt x="14370" y="7"/>
                    </a:cubicBezTo>
                    <a:lnTo>
                      <a:pt x="14370" y="7"/>
                    </a:lnTo>
                    <a:cubicBezTo>
                      <a:pt x="14368" y="7"/>
                      <a:pt x="14368" y="6"/>
                      <a:pt x="14368" y="5"/>
                    </a:cubicBezTo>
                    <a:cubicBezTo>
                      <a:pt x="14368" y="4"/>
                      <a:pt x="14368" y="3"/>
                      <a:pt x="14370" y="3"/>
                    </a:cubicBezTo>
                    <a:close/>
                    <a:moveTo>
                      <a:pt x="14378" y="3"/>
                    </a:moveTo>
                    <a:lnTo>
                      <a:pt x="14378" y="3"/>
                    </a:lnTo>
                    <a:cubicBezTo>
                      <a:pt x="14379" y="3"/>
                      <a:pt x="14380" y="4"/>
                      <a:pt x="14380" y="5"/>
                    </a:cubicBezTo>
                    <a:cubicBezTo>
                      <a:pt x="14380" y="6"/>
                      <a:pt x="14379" y="7"/>
                      <a:pt x="14378" y="7"/>
                    </a:cubicBezTo>
                    <a:lnTo>
                      <a:pt x="14378" y="7"/>
                    </a:lnTo>
                    <a:cubicBezTo>
                      <a:pt x="14376" y="7"/>
                      <a:pt x="14376" y="6"/>
                      <a:pt x="14376" y="5"/>
                    </a:cubicBezTo>
                    <a:cubicBezTo>
                      <a:pt x="14376" y="4"/>
                      <a:pt x="14376" y="3"/>
                      <a:pt x="14378" y="3"/>
                    </a:cubicBezTo>
                    <a:close/>
                    <a:moveTo>
                      <a:pt x="14386" y="3"/>
                    </a:moveTo>
                    <a:lnTo>
                      <a:pt x="14386" y="3"/>
                    </a:lnTo>
                    <a:cubicBezTo>
                      <a:pt x="14387" y="3"/>
                      <a:pt x="14388" y="4"/>
                      <a:pt x="14388" y="5"/>
                    </a:cubicBezTo>
                    <a:cubicBezTo>
                      <a:pt x="14388" y="6"/>
                      <a:pt x="14387" y="7"/>
                      <a:pt x="14386" y="7"/>
                    </a:cubicBezTo>
                    <a:lnTo>
                      <a:pt x="14386" y="7"/>
                    </a:lnTo>
                    <a:cubicBezTo>
                      <a:pt x="14384" y="7"/>
                      <a:pt x="14384" y="6"/>
                      <a:pt x="14384" y="5"/>
                    </a:cubicBezTo>
                    <a:cubicBezTo>
                      <a:pt x="14384" y="4"/>
                      <a:pt x="14384" y="3"/>
                      <a:pt x="14386" y="3"/>
                    </a:cubicBezTo>
                    <a:close/>
                    <a:moveTo>
                      <a:pt x="14394" y="3"/>
                    </a:moveTo>
                    <a:lnTo>
                      <a:pt x="14394" y="3"/>
                    </a:lnTo>
                    <a:cubicBezTo>
                      <a:pt x="14395" y="3"/>
                      <a:pt x="14396" y="4"/>
                      <a:pt x="14396" y="5"/>
                    </a:cubicBezTo>
                    <a:cubicBezTo>
                      <a:pt x="14396" y="6"/>
                      <a:pt x="14395" y="7"/>
                      <a:pt x="14394" y="7"/>
                    </a:cubicBezTo>
                    <a:lnTo>
                      <a:pt x="14394" y="7"/>
                    </a:lnTo>
                    <a:cubicBezTo>
                      <a:pt x="14392" y="7"/>
                      <a:pt x="14392" y="6"/>
                      <a:pt x="14392" y="5"/>
                    </a:cubicBezTo>
                    <a:cubicBezTo>
                      <a:pt x="14392" y="4"/>
                      <a:pt x="14392" y="3"/>
                      <a:pt x="14394" y="3"/>
                    </a:cubicBezTo>
                    <a:close/>
                    <a:moveTo>
                      <a:pt x="14402" y="3"/>
                    </a:moveTo>
                    <a:lnTo>
                      <a:pt x="14402" y="3"/>
                    </a:lnTo>
                    <a:cubicBezTo>
                      <a:pt x="14403" y="3"/>
                      <a:pt x="14404" y="4"/>
                      <a:pt x="14404" y="5"/>
                    </a:cubicBezTo>
                    <a:cubicBezTo>
                      <a:pt x="14404" y="6"/>
                      <a:pt x="14403" y="7"/>
                      <a:pt x="14402" y="7"/>
                    </a:cubicBezTo>
                    <a:lnTo>
                      <a:pt x="14402" y="7"/>
                    </a:lnTo>
                    <a:cubicBezTo>
                      <a:pt x="14400" y="7"/>
                      <a:pt x="14400" y="6"/>
                      <a:pt x="14400" y="5"/>
                    </a:cubicBezTo>
                    <a:cubicBezTo>
                      <a:pt x="14400" y="4"/>
                      <a:pt x="14400" y="3"/>
                      <a:pt x="14402" y="3"/>
                    </a:cubicBezTo>
                    <a:close/>
                    <a:moveTo>
                      <a:pt x="14410" y="3"/>
                    </a:moveTo>
                    <a:lnTo>
                      <a:pt x="14410" y="3"/>
                    </a:lnTo>
                    <a:cubicBezTo>
                      <a:pt x="14411" y="3"/>
                      <a:pt x="14412" y="4"/>
                      <a:pt x="14412" y="5"/>
                    </a:cubicBezTo>
                    <a:cubicBezTo>
                      <a:pt x="14412" y="6"/>
                      <a:pt x="14411" y="7"/>
                      <a:pt x="14410" y="7"/>
                    </a:cubicBezTo>
                    <a:lnTo>
                      <a:pt x="14410" y="7"/>
                    </a:lnTo>
                    <a:cubicBezTo>
                      <a:pt x="14408" y="7"/>
                      <a:pt x="14408" y="6"/>
                      <a:pt x="14408" y="5"/>
                    </a:cubicBezTo>
                    <a:cubicBezTo>
                      <a:pt x="14408" y="4"/>
                      <a:pt x="14408" y="3"/>
                      <a:pt x="14410" y="3"/>
                    </a:cubicBezTo>
                    <a:close/>
                    <a:moveTo>
                      <a:pt x="14418" y="3"/>
                    </a:moveTo>
                    <a:lnTo>
                      <a:pt x="14418" y="3"/>
                    </a:lnTo>
                    <a:cubicBezTo>
                      <a:pt x="14419" y="3"/>
                      <a:pt x="14420" y="4"/>
                      <a:pt x="14420" y="5"/>
                    </a:cubicBezTo>
                    <a:cubicBezTo>
                      <a:pt x="14420" y="6"/>
                      <a:pt x="14419" y="7"/>
                      <a:pt x="14418" y="7"/>
                    </a:cubicBezTo>
                    <a:lnTo>
                      <a:pt x="14418" y="7"/>
                    </a:lnTo>
                    <a:cubicBezTo>
                      <a:pt x="14416" y="7"/>
                      <a:pt x="14416" y="6"/>
                      <a:pt x="14416" y="5"/>
                    </a:cubicBezTo>
                    <a:cubicBezTo>
                      <a:pt x="14416" y="4"/>
                      <a:pt x="14416" y="3"/>
                      <a:pt x="14418" y="3"/>
                    </a:cubicBezTo>
                    <a:close/>
                    <a:moveTo>
                      <a:pt x="14426" y="3"/>
                    </a:moveTo>
                    <a:lnTo>
                      <a:pt x="14426" y="3"/>
                    </a:lnTo>
                    <a:cubicBezTo>
                      <a:pt x="14427" y="3"/>
                      <a:pt x="14428" y="4"/>
                      <a:pt x="14428" y="5"/>
                    </a:cubicBezTo>
                    <a:cubicBezTo>
                      <a:pt x="14428" y="6"/>
                      <a:pt x="14427" y="7"/>
                      <a:pt x="14426" y="7"/>
                    </a:cubicBezTo>
                    <a:lnTo>
                      <a:pt x="14426" y="7"/>
                    </a:lnTo>
                    <a:cubicBezTo>
                      <a:pt x="14424" y="7"/>
                      <a:pt x="14424" y="6"/>
                      <a:pt x="14424" y="5"/>
                    </a:cubicBezTo>
                    <a:cubicBezTo>
                      <a:pt x="14424" y="4"/>
                      <a:pt x="14424" y="3"/>
                      <a:pt x="14426" y="3"/>
                    </a:cubicBezTo>
                    <a:close/>
                    <a:moveTo>
                      <a:pt x="14434" y="3"/>
                    </a:moveTo>
                    <a:lnTo>
                      <a:pt x="14434" y="3"/>
                    </a:lnTo>
                    <a:cubicBezTo>
                      <a:pt x="14435" y="3"/>
                      <a:pt x="14436" y="4"/>
                      <a:pt x="14436" y="5"/>
                    </a:cubicBezTo>
                    <a:cubicBezTo>
                      <a:pt x="14436" y="6"/>
                      <a:pt x="14435" y="7"/>
                      <a:pt x="14434" y="7"/>
                    </a:cubicBezTo>
                    <a:lnTo>
                      <a:pt x="14434" y="7"/>
                    </a:lnTo>
                    <a:cubicBezTo>
                      <a:pt x="14432" y="7"/>
                      <a:pt x="14432" y="6"/>
                      <a:pt x="14432" y="5"/>
                    </a:cubicBezTo>
                    <a:cubicBezTo>
                      <a:pt x="14432" y="4"/>
                      <a:pt x="14432" y="3"/>
                      <a:pt x="14434" y="3"/>
                    </a:cubicBezTo>
                    <a:close/>
                    <a:moveTo>
                      <a:pt x="14442" y="3"/>
                    </a:moveTo>
                    <a:lnTo>
                      <a:pt x="14442" y="3"/>
                    </a:lnTo>
                    <a:cubicBezTo>
                      <a:pt x="14443" y="3"/>
                      <a:pt x="14444" y="4"/>
                      <a:pt x="14444" y="5"/>
                    </a:cubicBezTo>
                    <a:cubicBezTo>
                      <a:pt x="14444" y="6"/>
                      <a:pt x="14443" y="7"/>
                      <a:pt x="14442" y="7"/>
                    </a:cubicBezTo>
                    <a:lnTo>
                      <a:pt x="14442" y="7"/>
                    </a:lnTo>
                    <a:cubicBezTo>
                      <a:pt x="14440" y="7"/>
                      <a:pt x="14440" y="6"/>
                      <a:pt x="14440" y="5"/>
                    </a:cubicBezTo>
                    <a:cubicBezTo>
                      <a:pt x="14440" y="4"/>
                      <a:pt x="14440" y="3"/>
                      <a:pt x="14442" y="3"/>
                    </a:cubicBezTo>
                    <a:close/>
                    <a:moveTo>
                      <a:pt x="14450" y="3"/>
                    </a:moveTo>
                    <a:lnTo>
                      <a:pt x="14450" y="3"/>
                    </a:lnTo>
                    <a:cubicBezTo>
                      <a:pt x="14451" y="3"/>
                      <a:pt x="14452" y="4"/>
                      <a:pt x="14452" y="5"/>
                    </a:cubicBezTo>
                    <a:cubicBezTo>
                      <a:pt x="14452" y="6"/>
                      <a:pt x="14451" y="7"/>
                      <a:pt x="14450" y="7"/>
                    </a:cubicBezTo>
                    <a:lnTo>
                      <a:pt x="14450" y="7"/>
                    </a:lnTo>
                    <a:cubicBezTo>
                      <a:pt x="14448" y="7"/>
                      <a:pt x="14448" y="6"/>
                      <a:pt x="14448" y="5"/>
                    </a:cubicBezTo>
                    <a:cubicBezTo>
                      <a:pt x="14448" y="4"/>
                      <a:pt x="14448" y="3"/>
                      <a:pt x="14450" y="3"/>
                    </a:cubicBezTo>
                    <a:close/>
                    <a:moveTo>
                      <a:pt x="14458" y="3"/>
                    </a:moveTo>
                    <a:lnTo>
                      <a:pt x="14458" y="3"/>
                    </a:lnTo>
                    <a:cubicBezTo>
                      <a:pt x="14459" y="3"/>
                      <a:pt x="14460" y="4"/>
                      <a:pt x="14460" y="5"/>
                    </a:cubicBezTo>
                    <a:cubicBezTo>
                      <a:pt x="14460" y="6"/>
                      <a:pt x="14459" y="7"/>
                      <a:pt x="14458" y="7"/>
                    </a:cubicBezTo>
                    <a:lnTo>
                      <a:pt x="14458" y="7"/>
                    </a:lnTo>
                    <a:cubicBezTo>
                      <a:pt x="14457" y="7"/>
                      <a:pt x="14456" y="6"/>
                      <a:pt x="14456" y="5"/>
                    </a:cubicBezTo>
                    <a:cubicBezTo>
                      <a:pt x="14456" y="4"/>
                      <a:pt x="14457" y="3"/>
                      <a:pt x="14458" y="3"/>
                    </a:cubicBezTo>
                    <a:close/>
                    <a:moveTo>
                      <a:pt x="14466" y="3"/>
                    </a:moveTo>
                    <a:lnTo>
                      <a:pt x="14466" y="3"/>
                    </a:lnTo>
                    <a:cubicBezTo>
                      <a:pt x="14467" y="3"/>
                      <a:pt x="14468" y="4"/>
                      <a:pt x="14468" y="5"/>
                    </a:cubicBezTo>
                    <a:cubicBezTo>
                      <a:pt x="14468" y="6"/>
                      <a:pt x="14467" y="7"/>
                      <a:pt x="14466" y="7"/>
                    </a:cubicBezTo>
                    <a:lnTo>
                      <a:pt x="14466" y="7"/>
                    </a:lnTo>
                    <a:cubicBezTo>
                      <a:pt x="14465" y="7"/>
                      <a:pt x="14464" y="6"/>
                      <a:pt x="14464" y="5"/>
                    </a:cubicBezTo>
                    <a:cubicBezTo>
                      <a:pt x="14464" y="4"/>
                      <a:pt x="14465" y="3"/>
                      <a:pt x="14466" y="3"/>
                    </a:cubicBezTo>
                    <a:close/>
                    <a:moveTo>
                      <a:pt x="14474" y="3"/>
                    </a:moveTo>
                    <a:lnTo>
                      <a:pt x="14474" y="3"/>
                    </a:lnTo>
                    <a:cubicBezTo>
                      <a:pt x="14475" y="3"/>
                      <a:pt x="14476" y="4"/>
                      <a:pt x="14476" y="5"/>
                    </a:cubicBezTo>
                    <a:cubicBezTo>
                      <a:pt x="14476" y="6"/>
                      <a:pt x="14475" y="7"/>
                      <a:pt x="14474" y="7"/>
                    </a:cubicBezTo>
                    <a:lnTo>
                      <a:pt x="14474" y="7"/>
                    </a:lnTo>
                    <a:cubicBezTo>
                      <a:pt x="14473" y="7"/>
                      <a:pt x="14472" y="6"/>
                      <a:pt x="14472" y="5"/>
                    </a:cubicBezTo>
                    <a:cubicBezTo>
                      <a:pt x="14472" y="4"/>
                      <a:pt x="14473" y="3"/>
                      <a:pt x="14474" y="3"/>
                    </a:cubicBezTo>
                    <a:close/>
                    <a:moveTo>
                      <a:pt x="14482" y="3"/>
                    </a:moveTo>
                    <a:lnTo>
                      <a:pt x="14482" y="3"/>
                    </a:lnTo>
                    <a:cubicBezTo>
                      <a:pt x="14483" y="3"/>
                      <a:pt x="14484" y="4"/>
                      <a:pt x="14484" y="5"/>
                    </a:cubicBezTo>
                    <a:cubicBezTo>
                      <a:pt x="14484" y="6"/>
                      <a:pt x="14483" y="7"/>
                      <a:pt x="14482" y="7"/>
                    </a:cubicBezTo>
                    <a:lnTo>
                      <a:pt x="14482" y="7"/>
                    </a:lnTo>
                    <a:cubicBezTo>
                      <a:pt x="14481" y="7"/>
                      <a:pt x="14480" y="6"/>
                      <a:pt x="14480" y="5"/>
                    </a:cubicBezTo>
                    <a:cubicBezTo>
                      <a:pt x="14480" y="4"/>
                      <a:pt x="14481" y="3"/>
                      <a:pt x="14482" y="3"/>
                    </a:cubicBezTo>
                    <a:close/>
                    <a:moveTo>
                      <a:pt x="14490" y="3"/>
                    </a:moveTo>
                    <a:lnTo>
                      <a:pt x="14490" y="3"/>
                    </a:lnTo>
                    <a:cubicBezTo>
                      <a:pt x="14491" y="3"/>
                      <a:pt x="14492" y="4"/>
                      <a:pt x="14492" y="5"/>
                    </a:cubicBezTo>
                    <a:cubicBezTo>
                      <a:pt x="14492" y="6"/>
                      <a:pt x="14491" y="7"/>
                      <a:pt x="14490" y="7"/>
                    </a:cubicBezTo>
                    <a:lnTo>
                      <a:pt x="14490" y="7"/>
                    </a:lnTo>
                    <a:cubicBezTo>
                      <a:pt x="14489" y="7"/>
                      <a:pt x="14488" y="6"/>
                      <a:pt x="14488" y="5"/>
                    </a:cubicBezTo>
                    <a:cubicBezTo>
                      <a:pt x="14488" y="4"/>
                      <a:pt x="14489" y="3"/>
                      <a:pt x="14490" y="3"/>
                    </a:cubicBezTo>
                    <a:close/>
                    <a:moveTo>
                      <a:pt x="14498" y="3"/>
                    </a:moveTo>
                    <a:lnTo>
                      <a:pt x="14498" y="3"/>
                    </a:lnTo>
                    <a:cubicBezTo>
                      <a:pt x="14499" y="3"/>
                      <a:pt x="14500" y="4"/>
                      <a:pt x="14500" y="5"/>
                    </a:cubicBezTo>
                    <a:cubicBezTo>
                      <a:pt x="14500" y="6"/>
                      <a:pt x="14499" y="7"/>
                      <a:pt x="14498" y="7"/>
                    </a:cubicBezTo>
                    <a:lnTo>
                      <a:pt x="14498" y="7"/>
                    </a:lnTo>
                    <a:cubicBezTo>
                      <a:pt x="14497" y="7"/>
                      <a:pt x="14496" y="6"/>
                      <a:pt x="14496" y="5"/>
                    </a:cubicBezTo>
                    <a:cubicBezTo>
                      <a:pt x="14496" y="4"/>
                      <a:pt x="14497" y="3"/>
                      <a:pt x="14498" y="3"/>
                    </a:cubicBezTo>
                    <a:close/>
                    <a:moveTo>
                      <a:pt x="14506" y="3"/>
                    </a:moveTo>
                    <a:lnTo>
                      <a:pt x="14506" y="3"/>
                    </a:lnTo>
                    <a:cubicBezTo>
                      <a:pt x="14507" y="3"/>
                      <a:pt x="14508" y="4"/>
                      <a:pt x="14508" y="5"/>
                    </a:cubicBezTo>
                    <a:cubicBezTo>
                      <a:pt x="14508" y="6"/>
                      <a:pt x="14507" y="7"/>
                      <a:pt x="14506" y="7"/>
                    </a:cubicBezTo>
                    <a:lnTo>
                      <a:pt x="14506" y="7"/>
                    </a:lnTo>
                    <a:cubicBezTo>
                      <a:pt x="14505" y="7"/>
                      <a:pt x="14504" y="6"/>
                      <a:pt x="14504" y="5"/>
                    </a:cubicBezTo>
                    <a:cubicBezTo>
                      <a:pt x="14504" y="4"/>
                      <a:pt x="14505" y="3"/>
                      <a:pt x="14506" y="3"/>
                    </a:cubicBezTo>
                    <a:close/>
                    <a:moveTo>
                      <a:pt x="14514" y="3"/>
                    </a:moveTo>
                    <a:lnTo>
                      <a:pt x="14514" y="3"/>
                    </a:lnTo>
                    <a:cubicBezTo>
                      <a:pt x="14515" y="3"/>
                      <a:pt x="14516" y="4"/>
                      <a:pt x="14516" y="5"/>
                    </a:cubicBezTo>
                    <a:cubicBezTo>
                      <a:pt x="14516" y="6"/>
                      <a:pt x="14515" y="7"/>
                      <a:pt x="14514" y="7"/>
                    </a:cubicBezTo>
                    <a:lnTo>
                      <a:pt x="14514" y="7"/>
                    </a:lnTo>
                    <a:cubicBezTo>
                      <a:pt x="14513" y="7"/>
                      <a:pt x="14512" y="6"/>
                      <a:pt x="14512" y="5"/>
                    </a:cubicBezTo>
                    <a:cubicBezTo>
                      <a:pt x="14512" y="4"/>
                      <a:pt x="14513" y="3"/>
                      <a:pt x="14514" y="3"/>
                    </a:cubicBezTo>
                    <a:close/>
                    <a:moveTo>
                      <a:pt x="14522" y="3"/>
                    </a:moveTo>
                    <a:lnTo>
                      <a:pt x="14522" y="3"/>
                    </a:lnTo>
                    <a:cubicBezTo>
                      <a:pt x="14523" y="3"/>
                      <a:pt x="14524" y="4"/>
                      <a:pt x="14524" y="5"/>
                    </a:cubicBezTo>
                    <a:cubicBezTo>
                      <a:pt x="14524" y="6"/>
                      <a:pt x="14523" y="7"/>
                      <a:pt x="14522" y="7"/>
                    </a:cubicBezTo>
                    <a:lnTo>
                      <a:pt x="14522" y="7"/>
                    </a:lnTo>
                    <a:cubicBezTo>
                      <a:pt x="14521" y="7"/>
                      <a:pt x="14520" y="6"/>
                      <a:pt x="14520" y="5"/>
                    </a:cubicBezTo>
                    <a:cubicBezTo>
                      <a:pt x="14520" y="4"/>
                      <a:pt x="14521" y="3"/>
                      <a:pt x="14522" y="3"/>
                    </a:cubicBezTo>
                    <a:close/>
                    <a:moveTo>
                      <a:pt x="14530" y="3"/>
                    </a:moveTo>
                    <a:lnTo>
                      <a:pt x="14530" y="3"/>
                    </a:lnTo>
                    <a:cubicBezTo>
                      <a:pt x="14531" y="3"/>
                      <a:pt x="14532" y="4"/>
                      <a:pt x="14532" y="5"/>
                    </a:cubicBezTo>
                    <a:cubicBezTo>
                      <a:pt x="14532" y="6"/>
                      <a:pt x="14531" y="7"/>
                      <a:pt x="14530" y="7"/>
                    </a:cubicBezTo>
                    <a:lnTo>
                      <a:pt x="14530" y="7"/>
                    </a:lnTo>
                    <a:cubicBezTo>
                      <a:pt x="14529" y="7"/>
                      <a:pt x="14528" y="6"/>
                      <a:pt x="14528" y="5"/>
                    </a:cubicBezTo>
                    <a:cubicBezTo>
                      <a:pt x="14528" y="4"/>
                      <a:pt x="14529" y="3"/>
                      <a:pt x="14530" y="3"/>
                    </a:cubicBezTo>
                    <a:close/>
                    <a:moveTo>
                      <a:pt x="14538" y="3"/>
                    </a:moveTo>
                    <a:lnTo>
                      <a:pt x="14538" y="3"/>
                    </a:lnTo>
                    <a:cubicBezTo>
                      <a:pt x="14539" y="3"/>
                      <a:pt x="14540" y="4"/>
                      <a:pt x="14540" y="5"/>
                    </a:cubicBezTo>
                    <a:cubicBezTo>
                      <a:pt x="14540" y="6"/>
                      <a:pt x="14539" y="7"/>
                      <a:pt x="14538" y="7"/>
                    </a:cubicBezTo>
                    <a:lnTo>
                      <a:pt x="14538" y="7"/>
                    </a:lnTo>
                    <a:cubicBezTo>
                      <a:pt x="14537" y="7"/>
                      <a:pt x="14536" y="6"/>
                      <a:pt x="14536" y="5"/>
                    </a:cubicBezTo>
                    <a:cubicBezTo>
                      <a:pt x="14536" y="4"/>
                      <a:pt x="14537" y="3"/>
                      <a:pt x="14538" y="3"/>
                    </a:cubicBezTo>
                    <a:close/>
                    <a:moveTo>
                      <a:pt x="14546" y="3"/>
                    </a:moveTo>
                    <a:lnTo>
                      <a:pt x="14546" y="3"/>
                    </a:lnTo>
                    <a:cubicBezTo>
                      <a:pt x="14547" y="3"/>
                      <a:pt x="14548" y="4"/>
                      <a:pt x="14548" y="5"/>
                    </a:cubicBezTo>
                    <a:cubicBezTo>
                      <a:pt x="14548" y="6"/>
                      <a:pt x="14547" y="7"/>
                      <a:pt x="14546" y="7"/>
                    </a:cubicBezTo>
                    <a:lnTo>
                      <a:pt x="14546" y="7"/>
                    </a:lnTo>
                    <a:cubicBezTo>
                      <a:pt x="14545" y="7"/>
                      <a:pt x="14544" y="6"/>
                      <a:pt x="14544" y="5"/>
                    </a:cubicBezTo>
                    <a:cubicBezTo>
                      <a:pt x="14544" y="4"/>
                      <a:pt x="14545" y="3"/>
                      <a:pt x="14546" y="3"/>
                    </a:cubicBezTo>
                    <a:close/>
                    <a:moveTo>
                      <a:pt x="14554" y="3"/>
                    </a:moveTo>
                    <a:lnTo>
                      <a:pt x="14554" y="3"/>
                    </a:lnTo>
                    <a:cubicBezTo>
                      <a:pt x="14555" y="3"/>
                      <a:pt x="14556" y="4"/>
                      <a:pt x="14556" y="5"/>
                    </a:cubicBezTo>
                    <a:cubicBezTo>
                      <a:pt x="14556" y="6"/>
                      <a:pt x="14555" y="7"/>
                      <a:pt x="14554" y="7"/>
                    </a:cubicBezTo>
                    <a:lnTo>
                      <a:pt x="14554" y="7"/>
                    </a:lnTo>
                    <a:cubicBezTo>
                      <a:pt x="14553" y="7"/>
                      <a:pt x="14552" y="6"/>
                      <a:pt x="14552" y="5"/>
                    </a:cubicBezTo>
                    <a:cubicBezTo>
                      <a:pt x="14552" y="4"/>
                      <a:pt x="14553" y="3"/>
                      <a:pt x="14554" y="3"/>
                    </a:cubicBezTo>
                    <a:close/>
                    <a:moveTo>
                      <a:pt x="14562" y="3"/>
                    </a:moveTo>
                    <a:lnTo>
                      <a:pt x="14562" y="3"/>
                    </a:lnTo>
                    <a:cubicBezTo>
                      <a:pt x="14563" y="3"/>
                      <a:pt x="14564" y="4"/>
                      <a:pt x="14564" y="5"/>
                    </a:cubicBezTo>
                    <a:cubicBezTo>
                      <a:pt x="14564" y="6"/>
                      <a:pt x="14563" y="7"/>
                      <a:pt x="14562" y="7"/>
                    </a:cubicBezTo>
                    <a:lnTo>
                      <a:pt x="14562" y="7"/>
                    </a:lnTo>
                    <a:cubicBezTo>
                      <a:pt x="14561" y="7"/>
                      <a:pt x="14560" y="6"/>
                      <a:pt x="14560" y="5"/>
                    </a:cubicBezTo>
                    <a:cubicBezTo>
                      <a:pt x="14560" y="4"/>
                      <a:pt x="14561" y="3"/>
                      <a:pt x="14562" y="3"/>
                    </a:cubicBezTo>
                    <a:close/>
                    <a:moveTo>
                      <a:pt x="14570" y="3"/>
                    </a:moveTo>
                    <a:lnTo>
                      <a:pt x="14570" y="3"/>
                    </a:lnTo>
                    <a:cubicBezTo>
                      <a:pt x="14571" y="3"/>
                      <a:pt x="14572" y="4"/>
                      <a:pt x="14572" y="5"/>
                    </a:cubicBezTo>
                    <a:cubicBezTo>
                      <a:pt x="14572" y="6"/>
                      <a:pt x="14571" y="7"/>
                      <a:pt x="14570" y="7"/>
                    </a:cubicBezTo>
                    <a:lnTo>
                      <a:pt x="14570" y="7"/>
                    </a:lnTo>
                    <a:cubicBezTo>
                      <a:pt x="14569" y="7"/>
                      <a:pt x="14568" y="6"/>
                      <a:pt x="14568" y="5"/>
                    </a:cubicBezTo>
                    <a:cubicBezTo>
                      <a:pt x="14568" y="4"/>
                      <a:pt x="14569" y="3"/>
                      <a:pt x="14570" y="3"/>
                    </a:cubicBezTo>
                    <a:close/>
                    <a:moveTo>
                      <a:pt x="14578" y="3"/>
                    </a:moveTo>
                    <a:lnTo>
                      <a:pt x="14578" y="3"/>
                    </a:lnTo>
                    <a:cubicBezTo>
                      <a:pt x="14579" y="3"/>
                      <a:pt x="14580" y="4"/>
                      <a:pt x="14580" y="5"/>
                    </a:cubicBezTo>
                    <a:cubicBezTo>
                      <a:pt x="14580" y="6"/>
                      <a:pt x="14579" y="7"/>
                      <a:pt x="14578" y="7"/>
                    </a:cubicBezTo>
                    <a:lnTo>
                      <a:pt x="14578" y="7"/>
                    </a:lnTo>
                    <a:cubicBezTo>
                      <a:pt x="14577" y="7"/>
                      <a:pt x="14576" y="6"/>
                      <a:pt x="14576" y="5"/>
                    </a:cubicBezTo>
                    <a:cubicBezTo>
                      <a:pt x="14576" y="4"/>
                      <a:pt x="14577" y="3"/>
                      <a:pt x="14578" y="3"/>
                    </a:cubicBezTo>
                    <a:close/>
                    <a:moveTo>
                      <a:pt x="14586" y="3"/>
                    </a:moveTo>
                    <a:lnTo>
                      <a:pt x="14586" y="3"/>
                    </a:lnTo>
                    <a:cubicBezTo>
                      <a:pt x="14587" y="3"/>
                      <a:pt x="14588" y="4"/>
                      <a:pt x="14588" y="5"/>
                    </a:cubicBezTo>
                    <a:cubicBezTo>
                      <a:pt x="14588" y="6"/>
                      <a:pt x="14587" y="7"/>
                      <a:pt x="14586" y="7"/>
                    </a:cubicBezTo>
                    <a:lnTo>
                      <a:pt x="14586" y="7"/>
                    </a:lnTo>
                    <a:cubicBezTo>
                      <a:pt x="14585" y="7"/>
                      <a:pt x="14584" y="6"/>
                      <a:pt x="14584" y="5"/>
                    </a:cubicBezTo>
                    <a:cubicBezTo>
                      <a:pt x="14584" y="4"/>
                      <a:pt x="14585" y="3"/>
                      <a:pt x="14586" y="3"/>
                    </a:cubicBezTo>
                    <a:close/>
                    <a:moveTo>
                      <a:pt x="14594" y="3"/>
                    </a:moveTo>
                    <a:lnTo>
                      <a:pt x="14594" y="3"/>
                    </a:lnTo>
                    <a:cubicBezTo>
                      <a:pt x="14595" y="3"/>
                      <a:pt x="14596" y="4"/>
                      <a:pt x="14596" y="5"/>
                    </a:cubicBezTo>
                    <a:cubicBezTo>
                      <a:pt x="14596" y="6"/>
                      <a:pt x="14595" y="7"/>
                      <a:pt x="14594" y="7"/>
                    </a:cubicBezTo>
                    <a:lnTo>
                      <a:pt x="14594" y="7"/>
                    </a:lnTo>
                    <a:cubicBezTo>
                      <a:pt x="14593" y="7"/>
                      <a:pt x="14592" y="6"/>
                      <a:pt x="14592" y="5"/>
                    </a:cubicBezTo>
                    <a:cubicBezTo>
                      <a:pt x="14592" y="4"/>
                      <a:pt x="14593" y="3"/>
                      <a:pt x="14594" y="3"/>
                    </a:cubicBezTo>
                    <a:close/>
                    <a:moveTo>
                      <a:pt x="14602" y="3"/>
                    </a:moveTo>
                    <a:lnTo>
                      <a:pt x="14602" y="3"/>
                    </a:lnTo>
                    <a:cubicBezTo>
                      <a:pt x="14603" y="3"/>
                      <a:pt x="14604" y="4"/>
                      <a:pt x="14604" y="5"/>
                    </a:cubicBezTo>
                    <a:cubicBezTo>
                      <a:pt x="14604" y="6"/>
                      <a:pt x="14603" y="7"/>
                      <a:pt x="14602" y="7"/>
                    </a:cubicBezTo>
                    <a:lnTo>
                      <a:pt x="14602" y="7"/>
                    </a:lnTo>
                    <a:cubicBezTo>
                      <a:pt x="14601" y="7"/>
                      <a:pt x="14600" y="6"/>
                      <a:pt x="14600" y="5"/>
                    </a:cubicBezTo>
                    <a:cubicBezTo>
                      <a:pt x="14600" y="4"/>
                      <a:pt x="14601" y="3"/>
                      <a:pt x="14602" y="3"/>
                    </a:cubicBezTo>
                    <a:close/>
                    <a:moveTo>
                      <a:pt x="14610" y="3"/>
                    </a:moveTo>
                    <a:lnTo>
                      <a:pt x="14610" y="3"/>
                    </a:lnTo>
                    <a:cubicBezTo>
                      <a:pt x="14611" y="3"/>
                      <a:pt x="14612" y="4"/>
                      <a:pt x="14612" y="5"/>
                    </a:cubicBezTo>
                    <a:cubicBezTo>
                      <a:pt x="14612" y="6"/>
                      <a:pt x="14611" y="7"/>
                      <a:pt x="14610" y="7"/>
                    </a:cubicBezTo>
                    <a:lnTo>
                      <a:pt x="14610" y="7"/>
                    </a:lnTo>
                    <a:cubicBezTo>
                      <a:pt x="14609" y="7"/>
                      <a:pt x="14608" y="6"/>
                      <a:pt x="14608" y="5"/>
                    </a:cubicBezTo>
                    <a:cubicBezTo>
                      <a:pt x="14608" y="4"/>
                      <a:pt x="14609" y="3"/>
                      <a:pt x="14610" y="3"/>
                    </a:cubicBezTo>
                    <a:close/>
                    <a:moveTo>
                      <a:pt x="14618" y="3"/>
                    </a:moveTo>
                    <a:lnTo>
                      <a:pt x="14618" y="3"/>
                    </a:lnTo>
                    <a:cubicBezTo>
                      <a:pt x="14619" y="3"/>
                      <a:pt x="14620" y="4"/>
                      <a:pt x="14620" y="5"/>
                    </a:cubicBezTo>
                    <a:cubicBezTo>
                      <a:pt x="14620" y="6"/>
                      <a:pt x="14619" y="7"/>
                      <a:pt x="14618" y="7"/>
                    </a:cubicBezTo>
                    <a:lnTo>
                      <a:pt x="14618" y="7"/>
                    </a:lnTo>
                    <a:cubicBezTo>
                      <a:pt x="14617" y="7"/>
                      <a:pt x="14616" y="6"/>
                      <a:pt x="14616" y="5"/>
                    </a:cubicBezTo>
                    <a:cubicBezTo>
                      <a:pt x="14616" y="4"/>
                      <a:pt x="14617" y="3"/>
                      <a:pt x="14618" y="3"/>
                    </a:cubicBezTo>
                    <a:close/>
                    <a:moveTo>
                      <a:pt x="14626" y="3"/>
                    </a:moveTo>
                    <a:lnTo>
                      <a:pt x="14626" y="3"/>
                    </a:lnTo>
                    <a:cubicBezTo>
                      <a:pt x="14627" y="3"/>
                      <a:pt x="14628" y="4"/>
                      <a:pt x="14628" y="5"/>
                    </a:cubicBezTo>
                    <a:cubicBezTo>
                      <a:pt x="14628" y="6"/>
                      <a:pt x="14627" y="7"/>
                      <a:pt x="14626" y="7"/>
                    </a:cubicBezTo>
                    <a:lnTo>
                      <a:pt x="14626" y="7"/>
                    </a:lnTo>
                    <a:cubicBezTo>
                      <a:pt x="14625" y="7"/>
                      <a:pt x="14624" y="6"/>
                      <a:pt x="14624" y="5"/>
                    </a:cubicBezTo>
                    <a:cubicBezTo>
                      <a:pt x="14624" y="4"/>
                      <a:pt x="14625" y="3"/>
                      <a:pt x="14626" y="3"/>
                    </a:cubicBezTo>
                    <a:close/>
                    <a:moveTo>
                      <a:pt x="14634" y="3"/>
                    </a:moveTo>
                    <a:lnTo>
                      <a:pt x="14634" y="3"/>
                    </a:lnTo>
                    <a:cubicBezTo>
                      <a:pt x="14635" y="3"/>
                      <a:pt x="14636" y="4"/>
                      <a:pt x="14636" y="5"/>
                    </a:cubicBezTo>
                    <a:cubicBezTo>
                      <a:pt x="14636" y="6"/>
                      <a:pt x="14635" y="7"/>
                      <a:pt x="14634" y="7"/>
                    </a:cubicBezTo>
                    <a:lnTo>
                      <a:pt x="14634" y="7"/>
                    </a:lnTo>
                    <a:cubicBezTo>
                      <a:pt x="14633" y="7"/>
                      <a:pt x="14632" y="6"/>
                      <a:pt x="14632" y="5"/>
                    </a:cubicBezTo>
                    <a:cubicBezTo>
                      <a:pt x="14632" y="4"/>
                      <a:pt x="14633" y="3"/>
                      <a:pt x="14634" y="3"/>
                    </a:cubicBezTo>
                    <a:close/>
                    <a:moveTo>
                      <a:pt x="14642" y="3"/>
                    </a:moveTo>
                    <a:lnTo>
                      <a:pt x="14642" y="3"/>
                    </a:lnTo>
                    <a:cubicBezTo>
                      <a:pt x="14643" y="3"/>
                      <a:pt x="14644" y="4"/>
                      <a:pt x="14644" y="5"/>
                    </a:cubicBezTo>
                    <a:cubicBezTo>
                      <a:pt x="14644" y="6"/>
                      <a:pt x="14643" y="7"/>
                      <a:pt x="14642" y="7"/>
                    </a:cubicBezTo>
                    <a:lnTo>
                      <a:pt x="14642" y="7"/>
                    </a:lnTo>
                    <a:cubicBezTo>
                      <a:pt x="14641" y="7"/>
                      <a:pt x="14640" y="6"/>
                      <a:pt x="14640" y="5"/>
                    </a:cubicBezTo>
                    <a:cubicBezTo>
                      <a:pt x="14640" y="4"/>
                      <a:pt x="14641" y="3"/>
                      <a:pt x="14642" y="3"/>
                    </a:cubicBezTo>
                    <a:close/>
                    <a:moveTo>
                      <a:pt x="14650" y="3"/>
                    </a:moveTo>
                    <a:lnTo>
                      <a:pt x="14650" y="3"/>
                    </a:lnTo>
                    <a:cubicBezTo>
                      <a:pt x="14651" y="3"/>
                      <a:pt x="14652" y="4"/>
                      <a:pt x="14652" y="5"/>
                    </a:cubicBezTo>
                    <a:cubicBezTo>
                      <a:pt x="14652" y="6"/>
                      <a:pt x="14651" y="7"/>
                      <a:pt x="14650" y="7"/>
                    </a:cubicBezTo>
                    <a:lnTo>
                      <a:pt x="14650" y="7"/>
                    </a:lnTo>
                    <a:cubicBezTo>
                      <a:pt x="14649" y="7"/>
                      <a:pt x="14648" y="6"/>
                      <a:pt x="14648" y="5"/>
                    </a:cubicBezTo>
                    <a:cubicBezTo>
                      <a:pt x="14648" y="4"/>
                      <a:pt x="14649" y="3"/>
                      <a:pt x="14650" y="3"/>
                    </a:cubicBezTo>
                    <a:close/>
                    <a:moveTo>
                      <a:pt x="14658" y="3"/>
                    </a:moveTo>
                    <a:lnTo>
                      <a:pt x="14658" y="3"/>
                    </a:lnTo>
                    <a:cubicBezTo>
                      <a:pt x="14659" y="3"/>
                      <a:pt x="14660" y="4"/>
                      <a:pt x="14660" y="5"/>
                    </a:cubicBezTo>
                    <a:cubicBezTo>
                      <a:pt x="14660" y="6"/>
                      <a:pt x="14659" y="7"/>
                      <a:pt x="14658" y="7"/>
                    </a:cubicBezTo>
                    <a:lnTo>
                      <a:pt x="14658" y="7"/>
                    </a:lnTo>
                    <a:cubicBezTo>
                      <a:pt x="14657" y="7"/>
                      <a:pt x="14656" y="6"/>
                      <a:pt x="14656" y="5"/>
                    </a:cubicBezTo>
                    <a:cubicBezTo>
                      <a:pt x="14656" y="4"/>
                      <a:pt x="14657" y="3"/>
                      <a:pt x="14658" y="3"/>
                    </a:cubicBezTo>
                    <a:close/>
                    <a:moveTo>
                      <a:pt x="14666" y="3"/>
                    </a:moveTo>
                    <a:lnTo>
                      <a:pt x="14666" y="3"/>
                    </a:lnTo>
                    <a:cubicBezTo>
                      <a:pt x="14667" y="3"/>
                      <a:pt x="14668" y="4"/>
                      <a:pt x="14668" y="5"/>
                    </a:cubicBezTo>
                    <a:cubicBezTo>
                      <a:pt x="14668" y="6"/>
                      <a:pt x="14667" y="7"/>
                      <a:pt x="14666" y="7"/>
                    </a:cubicBezTo>
                    <a:lnTo>
                      <a:pt x="14666" y="7"/>
                    </a:lnTo>
                    <a:cubicBezTo>
                      <a:pt x="14665" y="7"/>
                      <a:pt x="14664" y="6"/>
                      <a:pt x="14664" y="5"/>
                    </a:cubicBezTo>
                    <a:cubicBezTo>
                      <a:pt x="14664" y="4"/>
                      <a:pt x="14665" y="3"/>
                      <a:pt x="14666" y="3"/>
                    </a:cubicBezTo>
                    <a:close/>
                    <a:moveTo>
                      <a:pt x="14674" y="3"/>
                    </a:moveTo>
                    <a:lnTo>
                      <a:pt x="14674" y="3"/>
                    </a:lnTo>
                    <a:cubicBezTo>
                      <a:pt x="14675" y="3"/>
                      <a:pt x="14676" y="4"/>
                      <a:pt x="14676" y="5"/>
                    </a:cubicBezTo>
                    <a:cubicBezTo>
                      <a:pt x="14676" y="6"/>
                      <a:pt x="14675" y="7"/>
                      <a:pt x="14674" y="7"/>
                    </a:cubicBezTo>
                    <a:lnTo>
                      <a:pt x="14674" y="7"/>
                    </a:lnTo>
                    <a:cubicBezTo>
                      <a:pt x="14673" y="7"/>
                      <a:pt x="14672" y="6"/>
                      <a:pt x="14672" y="5"/>
                    </a:cubicBezTo>
                    <a:cubicBezTo>
                      <a:pt x="14672" y="4"/>
                      <a:pt x="14673" y="3"/>
                      <a:pt x="14674" y="3"/>
                    </a:cubicBezTo>
                    <a:close/>
                    <a:moveTo>
                      <a:pt x="14682" y="3"/>
                    </a:moveTo>
                    <a:lnTo>
                      <a:pt x="14682" y="3"/>
                    </a:lnTo>
                    <a:cubicBezTo>
                      <a:pt x="14683" y="3"/>
                      <a:pt x="14684" y="4"/>
                      <a:pt x="14684" y="5"/>
                    </a:cubicBezTo>
                    <a:cubicBezTo>
                      <a:pt x="14684" y="6"/>
                      <a:pt x="14683" y="7"/>
                      <a:pt x="14682" y="7"/>
                    </a:cubicBezTo>
                    <a:lnTo>
                      <a:pt x="14682" y="7"/>
                    </a:lnTo>
                    <a:cubicBezTo>
                      <a:pt x="14681" y="7"/>
                      <a:pt x="14680" y="6"/>
                      <a:pt x="14680" y="5"/>
                    </a:cubicBezTo>
                    <a:cubicBezTo>
                      <a:pt x="14680" y="4"/>
                      <a:pt x="14681" y="3"/>
                      <a:pt x="14682" y="3"/>
                    </a:cubicBezTo>
                    <a:close/>
                    <a:moveTo>
                      <a:pt x="14690" y="3"/>
                    </a:moveTo>
                    <a:lnTo>
                      <a:pt x="14690" y="3"/>
                    </a:lnTo>
                    <a:cubicBezTo>
                      <a:pt x="14691" y="3"/>
                      <a:pt x="14692" y="4"/>
                      <a:pt x="14692" y="5"/>
                    </a:cubicBezTo>
                    <a:cubicBezTo>
                      <a:pt x="14692" y="6"/>
                      <a:pt x="14691" y="7"/>
                      <a:pt x="14690" y="7"/>
                    </a:cubicBezTo>
                    <a:lnTo>
                      <a:pt x="14690" y="7"/>
                    </a:lnTo>
                    <a:cubicBezTo>
                      <a:pt x="14689" y="7"/>
                      <a:pt x="14688" y="6"/>
                      <a:pt x="14688" y="5"/>
                    </a:cubicBezTo>
                    <a:cubicBezTo>
                      <a:pt x="14688" y="4"/>
                      <a:pt x="14689" y="3"/>
                      <a:pt x="14690" y="3"/>
                    </a:cubicBezTo>
                    <a:close/>
                    <a:moveTo>
                      <a:pt x="14698" y="3"/>
                    </a:moveTo>
                    <a:lnTo>
                      <a:pt x="14698" y="3"/>
                    </a:lnTo>
                    <a:cubicBezTo>
                      <a:pt x="14699" y="3"/>
                      <a:pt x="14700" y="4"/>
                      <a:pt x="14700" y="5"/>
                    </a:cubicBezTo>
                    <a:cubicBezTo>
                      <a:pt x="14700" y="6"/>
                      <a:pt x="14699" y="7"/>
                      <a:pt x="14698" y="7"/>
                    </a:cubicBezTo>
                    <a:lnTo>
                      <a:pt x="14698" y="7"/>
                    </a:lnTo>
                    <a:cubicBezTo>
                      <a:pt x="14697" y="7"/>
                      <a:pt x="14696" y="6"/>
                      <a:pt x="14696" y="5"/>
                    </a:cubicBezTo>
                    <a:cubicBezTo>
                      <a:pt x="14696" y="4"/>
                      <a:pt x="14697" y="3"/>
                      <a:pt x="14698" y="3"/>
                    </a:cubicBezTo>
                    <a:close/>
                    <a:moveTo>
                      <a:pt x="14706" y="3"/>
                    </a:moveTo>
                    <a:lnTo>
                      <a:pt x="14706" y="3"/>
                    </a:lnTo>
                    <a:cubicBezTo>
                      <a:pt x="14707" y="3"/>
                      <a:pt x="14708" y="4"/>
                      <a:pt x="14708" y="5"/>
                    </a:cubicBezTo>
                    <a:cubicBezTo>
                      <a:pt x="14708" y="6"/>
                      <a:pt x="14707" y="7"/>
                      <a:pt x="14706" y="7"/>
                    </a:cubicBezTo>
                    <a:lnTo>
                      <a:pt x="14706" y="7"/>
                    </a:lnTo>
                    <a:cubicBezTo>
                      <a:pt x="14705" y="7"/>
                      <a:pt x="14704" y="6"/>
                      <a:pt x="14704" y="5"/>
                    </a:cubicBezTo>
                    <a:cubicBezTo>
                      <a:pt x="14704" y="4"/>
                      <a:pt x="14705" y="3"/>
                      <a:pt x="14706" y="3"/>
                    </a:cubicBezTo>
                    <a:close/>
                    <a:moveTo>
                      <a:pt x="14714" y="3"/>
                    </a:moveTo>
                    <a:lnTo>
                      <a:pt x="14714" y="3"/>
                    </a:lnTo>
                    <a:cubicBezTo>
                      <a:pt x="14715" y="3"/>
                      <a:pt x="14716" y="4"/>
                      <a:pt x="14716" y="5"/>
                    </a:cubicBezTo>
                    <a:cubicBezTo>
                      <a:pt x="14716" y="6"/>
                      <a:pt x="14715" y="7"/>
                      <a:pt x="14714" y="7"/>
                    </a:cubicBezTo>
                    <a:lnTo>
                      <a:pt x="14714" y="7"/>
                    </a:lnTo>
                    <a:cubicBezTo>
                      <a:pt x="14713" y="7"/>
                      <a:pt x="14712" y="6"/>
                      <a:pt x="14712" y="5"/>
                    </a:cubicBezTo>
                    <a:cubicBezTo>
                      <a:pt x="14712" y="4"/>
                      <a:pt x="14713" y="3"/>
                      <a:pt x="14714" y="3"/>
                    </a:cubicBezTo>
                    <a:close/>
                    <a:moveTo>
                      <a:pt x="14722" y="3"/>
                    </a:moveTo>
                    <a:lnTo>
                      <a:pt x="14722" y="3"/>
                    </a:lnTo>
                    <a:cubicBezTo>
                      <a:pt x="14723" y="3"/>
                      <a:pt x="14724" y="4"/>
                      <a:pt x="14724" y="5"/>
                    </a:cubicBezTo>
                    <a:cubicBezTo>
                      <a:pt x="14724" y="6"/>
                      <a:pt x="14723" y="7"/>
                      <a:pt x="14722" y="7"/>
                    </a:cubicBezTo>
                    <a:lnTo>
                      <a:pt x="14722" y="7"/>
                    </a:lnTo>
                    <a:cubicBezTo>
                      <a:pt x="14721" y="7"/>
                      <a:pt x="14720" y="6"/>
                      <a:pt x="14720" y="5"/>
                    </a:cubicBezTo>
                    <a:cubicBezTo>
                      <a:pt x="14720" y="4"/>
                      <a:pt x="14721" y="3"/>
                      <a:pt x="14722" y="3"/>
                    </a:cubicBezTo>
                    <a:close/>
                    <a:moveTo>
                      <a:pt x="14730" y="3"/>
                    </a:moveTo>
                    <a:lnTo>
                      <a:pt x="14730" y="3"/>
                    </a:lnTo>
                    <a:cubicBezTo>
                      <a:pt x="14731" y="3"/>
                      <a:pt x="14732" y="4"/>
                      <a:pt x="14732" y="5"/>
                    </a:cubicBezTo>
                    <a:cubicBezTo>
                      <a:pt x="14732" y="6"/>
                      <a:pt x="14731" y="7"/>
                      <a:pt x="14730" y="7"/>
                    </a:cubicBezTo>
                    <a:lnTo>
                      <a:pt x="14730" y="7"/>
                    </a:lnTo>
                    <a:cubicBezTo>
                      <a:pt x="14729" y="7"/>
                      <a:pt x="14728" y="6"/>
                      <a:pt x="14728" y="5"/>
                    </a:cubicBezTo>
                    <a:cubicBezTo>
                      <a:pt x="14728" y="4"/>
                      <a:pt x="14729" y="3"/>
                      <a:pt x="14730" y="3"/>
                    </a:cubicBezTo>
                    <a:close/>
                    <a:moveTo>
                      <a:pt x="14738" y="3"/>
                    </a:moveTo>
                    <a:lnTo>
                      <a:pt x="14738" y="3"/>
                    </a:lnTo>
                    <a:cubicBezTo>
                      <a:pt x="14739" y="3"/>
                      <a:pt x="14740" y="4"/>
                      <a:pt x="14740" y="5"/>
                    </a:cubicBezTo>
                    <a:cubicBezTo>
                      <a:pt x="14740" y="6"/>
                      <a:pt x="14739" y="7"/>
                      <a:pt x="14738" y="7"/>
                    </a:cubicBezTo>
                    <a:lnTo>
                      <a:pt x="14738" y="7"/>
                    </a:lnTo>
                    <a:cubicBezTo>
                      <a:pt x="14737" y="7"/>
                      <a:pt x="14736" y="6"/>
                      <a:pt x="14736" y="5"/>
                    </a:cubicBezTo>
                    <a:cubicBezTo>
                      <a:pt x="14736" y="4"/>
                      <a:pt x="14737" y="3"/>
                      <a:pt x="14738" y="3"/>
                    </a:cubicBezTo>
                    <a:close/>
                    <a:moveTo>
                      <a:pt x="14746" y="3"/>
                    </a:moveTo>
                    <a:lnTo>
                      <a:pt x="14746" y="3"/>
                    </a:lnTo>
                    <a:cubicBezTo>
                      <a:pt x="14747" y="3"/>
                      <a:pt x="14748" y="4"/>
                      <a:pt x="14748" y="5"/>
                    </a:cubicBezTo>
                    <a:cubicBezTo>
                      <a:pt x="14748" y="6"/>
                      <a:pt x="14747" y="7"/>
                      <a:pt x="14746" y="7"/>
                    </a:cubicBezTo>
                    <a:lnTo>
                      <a:pt x="14746" y="7"/>
                    </a:lnTo>
                    <a:cubicBezTo>
                      <a:pt x="14745" y="7"/>
                      <a:pt x="14744" y="6"/>
                      <a:pt x="14744" y="5"/>
                    </a:cubicBezTo>
                    <a:cubicBezTo>
                      <a:pt x="14744" y="4"/>
                      <a:pt x="14745" y="3"/>
                      <a:pt x="14746" y="3"/>
                    </a:cubicBezTo>
                    <a:close/>
                    <a:moveTo>
                      <a:pt x="14754" y="3"/>
                    </a:moveTo>
                    <a:lnTo>
                      <a:pt x="14754" y="3"/>
                    </a:lnTo>
                    <a:cubicBezTo>
                      <a:pt x="14755" y="3"/>
                      <a:pt x="14756" y="4"/>
                      <a:pt x="14756" y="5"/>
                    </a:cubicBezTo>
                    <a:cubicBezTo>
                      <a:pt x="14756" y="6"/>
                      <a:pt x="14755" y="7"/>
                      <a:pt x="14754" y="7"/>
                    </a:cubicBezTo>
                    <a:lnTo>
                      <a:pt x="14754" y="7"/>
                    </a:lnTo>
                    <a:cubicBezTo>
                      <a:pt x="14753" y="7"/>
                      <a:pt x="14752" y="6"/>
                      <a:pt x="14752" y="5"/>
                    </a:cubicBezTo>
                    <a:cubicBezTo>
                      <a:pt x="14752" y="4"/>
                      <a:pt x="14753" y="3"/>
                      <a:pt x="14754" y="3"/>
                    </a:cubicBezTo>
                    <a:close/>
                    <a:moveTo>
                      <a:pt x="14762" y="3"/>
                    </a:moveTo>
                    <a:lnTo>
                      <a:pt x="14762" y="3"/>
                    </a:lnTo>
                    <a:cubicBezTo>
                      <a:pt x="14763" y="3"/>
                      <a:pt x="14764" y="4"/>
                      <a:pt x="14764" y="5"/>
                    </a:cubicBezTo>
                    <a:cubicBezTo>
                      <a:pt x="14764" y="6"/>
                      <a:pt x="14763" y="7"/>
                      <a:pt x="14762" y="7"/>
                    </a:cubicBezTo>
                    <a:lnTo>
                      <a:pt x="14762" y="7"/>
                    </a:lnTo>
                    <a:cubicBezTo>
                      <a:pt x="14761" y="7"/>
                      <a:pt x="14760" y="6"/>
                      <a:pt x="14760" y="5"/>
                    </a:cubicBezTo>
                    <a:cubicBezTo>
                      <a:pt x="14760" y="4"/>
                      <a:pt x="14761" y="3"/>
                      <a:pt x="14762" y="3"/>
                    </a:cubicBezTo>
                    <a:close/>
                    <a:moveTo>
                      <a:pt x="14770" y="3"/>
                    </a:moveTo>
                    <a:lnTo>
                      <a:pt x="14770" y="3"/>
                    </a:lnTo>
                    <a:cubicBezTo>
                      <a:pt x="14771" y="3"/>
                      <a:pt x="14772" y="4"/>
                      <a:pt x="14772" y="5"/>
                    </a:cubicBezTo>
                    <a:cubicBezTo>
                      <a:pt x="14772" y="6"/>
                      <a:pt x="14771" y="7"/>
                      <a:pt x="14770" y="7"/>
                    </a:cubicBezTo>
                    <a:lnTo>
                      <a:pt x="14770" y="7"/>
                    </a:lnTo>
                    <a:cubicBezTo>
                      <a:pt x="14769" y="7"/>
                      <a:pt x="14768" y="6"/>
                      <a:pt x="14768" y="5"/>
                    </a:cubicBezTo>
                    <a:cubicBezTo>
                      <a:pt x="14768" y="4"/>
                      <a:pt x="14769" y="3"/>
                      <a:pt x="14770" y="3"/>
                    </a:cubicBezTo>
                    <a:close/>
                    <a:moveTo>
                      <a:pt x="14778" y="3"/>
                    </a:moveTo>
                    <a:lnTo>
                      <a:pt x="14778" y="3"/>
                    </a:lnTo>
                    <a:cubicBezTo>
                      <a:pt x="14779" y="3"/>
                      <a:pt x="14780" y="4"/>
                      <a:pt x="14780" y="5"/>
                    </a:cubicBezTo>
                    <a:cubicBezTo>
                      <a:pt x="14780" y="6"/>
                      <a:pt x="14779" y="7"/>
                      <a:pt x="14778" y="7"/>
                    </a:cubicBezTo>
                    <a:lnTo>
                      <a:pt x="14778" y="7"/>
                    </a:lnTo>
                    <a:cubicBezTo>
                      <a:pt x="14777" y="7"/>
                      <a:pt x="14776" y="6"/>
                      <a:pt x="14776" y="5"/>
                    </a:cubicBezTo>
                    <a:cubicBezTo>
                      <a:pt x="14776" y="4"/>
                      <a:pt x="14777" y="3"/>
                      <a:pt x="14778" y="3"/>
                    </a:cubicBezTo>
                    <a:close/>
                    <a:moveTo>
                      <a:pt x="14786" y="3"/>
                    </a:moveTo>
                    <a:lnTo>
                      <a:pt x="14786" y="3"/>
                    </a:lnTo>
                    <a:cubicBezTo>
                      <a:pt x="14787" y="3"/>
                      <a:pt x="14788" y="4"/>
                      <a:pt x="14788" y="5"/>
                    </a:cubicBezTo>
                    <a:cubicBezTo>
                      <a:pt x="14788" y="6"/>
                      <a:pt x="14787" y="7"/>
                      <a:pt x="14786" y="7"/>
                    </a:cubicBezTo>
                    <a:lnTo>
                      <a:pt x="14786" y="7"/>
                    </a:lnTo>
                    <a:cubicBezTo>
                      <a:pt x="14785" y="7"/>
                      <a:pt x="14784" y="6"/>
                      <a:pt x="14784" y="5"/>
                    </a:cubicBezTo>
                    <a:cubicBezTo>
                      <a:pt x="14784" y="4"/>
                      <a:pt x="14785" y="3"/>
                      <a:pt x="14786" y="3"/>
                    </a:cubicBezTo>
                    <a:close/>
                    <a:moveTo>
                      <a:pt x="14794" y="3"/>
                    </a:moveTo>
                    <a:lnTo>
                      <a:pt x="14794" y="3"/>
                    </a:lnTo>
                    <a:cubicBezTo>
                      <a:pt x="14795" y="3"/>
                      <a:pt x="14796" y="4"/>
                      <a:pt x="14796" y="5"/>
                    </a:cubicBezTo>
                    <a:cubicBezTo>
                      <a:pt x="14796" y="6"/>
                      <a:pt x="14795" y="7"/>
                      <a:pt x="14794" y="7"/>
                    </a:cubicBezTo>
                    <a:lnTo>
                      <a:pt x="14794" y="7"/>
                    </a:lnTo>
                    <a:cubicBezTo>
                      <a:pt x="14793" y="7"/>
                      <a:pt x="14792" y="6"/>
                      <a:pt x="14792" y="5"/>
                    </a:cubicBezTo>
                    <a:cubicBezTo>
                      <a:pt x="14792" y="4"/>
                      <a:pt x="14793" y="3"/>
                      <a:pt x="14794" y="3"/>
                    </a:cubicBezTo>
                    <a:close/>
                    <a:moveTo>
                      <a:pt x="14802" y="3"/>
                    </a:moveTo>
                    <a:lnTo>
                      <a:pt x="14802" y="3"/>
                    </a:lnTo>
                    <a:cubicBezTo>
                      <a:pt x="14803" y="3"/>
                      <a:pt x="14804" y="4"/>
                      <a:pt x="14804" y="5"/>
                    </a:cubicBezTo>
                    <a:cubicBezTo>
                      <a:pt x="14804" y="6"/>
                      <a:pt x="14803" y="7"/>
                      <a:pt x="14802" y="7"/>
                    </a:cubicBezTo>
                    <a:lnTo>
                      <a:pt x="14802" y="7"/>
                    </a:lnTo>
                    <a:cubicBezTo>
                      <a:pt x="14801" y="7"/>
                      <a:pt x="14800" y="6"/>
                      <a:pt x="14800" y="5"/>
                    </a:cubicBezTo>
                    <a:cubicBezTo>
                      <a:pt x="14800" y="4"/>
                      <a:pt x="14801" y="3"/>
                      <a:pt x="14802" y="3"/>
                    </a:cubicBezTo>
                    <a:close/>
                    <a:moveTo>
                      <a:pt x="14810" y="3"/>
                    </a:moveTo>
                    <a:lnTo>
                      <a:pt x="14810" y="3"/>
                    </a:lnTo>
                    <a:cubicBezTo>
                      <a:pt x="14811" y="3"/>
                      <a:pt x="14812" y="4"/>
                      <a:pt x="14812" y="5"/>
                    </a:cubicBezTo>
                    <a:cubicBezTo>
                      <a:pt x="14812" y="6"/>
                      <a:pt x="14811" y="7"/>
                      <a:pt x="14810" y="7"/>
                    </a:cubicBezTo>
                    <a:lnTo>
                      <a:pt x="14810" y="7"/>
                    </a:lnTo>
                    <a:cubicBezTo>
                      <a:pt x="14809" y="7"/>
                      <a:pt x="14808" y="6"/>
                      <a:pt x="14808" y="5"/>
                    </a:cubicBezTo>
                    <a:cubicBezTo>
                      <a:pt x="14808" y="4"/>
                      <a:pt x="14809" y="3"/>
                      <a:pt x="14810" y="3"/>
                    </a:cubicBezTo>
                    <a:close/>
                    <a:moveTo>
                      <a:pt x="14818" y="3"/>
                    </a:moveTo>
                    <a:lnTo>
                      <a:pt x="14818" y="3"/>
                    </a:lnTo>
                    <a:cubicBezTo>
                      <a:pt x="14819" y="3"/>
                      <a:pt x="14820" y="4"/>
                      <a:pt x="14820" y="5"/>
                    </a:cubicBezTo>
                    <a:cubicBezTo>
                      <a:pt x="14820" y="6"/>
                      <a:pt x="14819" y="7"/>
                      <a:pt x="14818" y="7"/>
                    </a:cubicBezTo>
                    <a:lnTo>
                      <a:pt x="14818" y="7"/>
                    </a:lnTo>
                    <a:cubicBezTo>
                      <a:pt x="14817" y="7"/>
                      <a:pt x="14816" y="6"/>
                      <a:pt x="14816" y="5"/>
                    </a:cubicBezTo>
                    <a:cubicBezTo>
                      <a:pt x="14816" y="4"/>
                      <a:pt x="14817" y="3"/>
                      <a:pt x="14818" y="3"/>
                    </a:cubicBezTo>
                    <a:close/>
                    <a:moveTo>
                      <a:pt x="14826" y="3"/>
                    </a:moveTo>
                    <a:lnTo>
                      <a:pt x="14826" y="3"/>
                    </a:lnTo>
                    <a:cubicBezTo>
                      <a:pt x="14827" y="3"/>
                      <a:pt x="14828" y="4"/>
                      <a:pt x="14828" y="5"/>
                    </a:cubicBezTo>
                    <a:cubicBezTo>
                      <a:pt x="14828" y="6"/>
                      <a:pt x="14827" y="7"/>
                      <a:pt x="14826" y="7"/>
                    </a:cubicBezTo>
                    <a:lnTo>
                      <a:pt x="14826" y="7"/>
                    </a:lnTo>
                    <a:cubicBezTo>
                      <a:pt x="14825" y="7"/>
                      <a:pt x="14824" y="6"/>
                      <a:pt x="14824" y="5"/>
                    </a:cubicBezTo>
                    <a:cubicBezTo>
                      <a:pt x="14824" y="4"/>
                      <a:pt x="14825" y="3"/>
                      <a:pt x="14826" y="3"/>
                    </a:cubicBezTo>
                    <a:close/>
                    <a:moveTo>
                      <a:pt x="14834" y="3"/>
                    </a:moveTo>
                    <a:lnTo>
                      <a:pt x="14834" y="3"/>
                    </a:lnTo>
                    <a:cubicBezTo>
                      <a:pt x="14835" y="3"/>
                      <a:pt x="14836" y="4"/>
                      <a:pt x="14836" y="5"/>
                    </a:cubicBezTo>
                    <a:cubicBezTo>
                      <a:pt x="14836" y="6"/>
                      <a:pt x="14835" y="7"/>
                      <a:pt x="14834" y="7"/>
                    </a:cubicBezTo>
                    <a:lnTo>
                      <a:pt x="14834" y="7"/>
                    </a:lnTo>
                    <a:cubicBezTo>
                      <a:pt x="14833" y="7"/>
                      <a:pt x="14832" y="6"/>
                      <a:pt x="14832" y="5"/>
                    </a:cubicBezTo>
                    <a:cubicBezTo>
                      <a:pt x="14832" y="4"/>
                      <a:pt x="14833" y="3"/>
                      <a:pt x="14834" y="3"/>
                    </a:cubicBezTo>
                    <a:close/>
                    <a:moveTo>
                      <a:pt x="14842" y="3"/>
                    </a:moveTo>
                    <a:lnTo>
                      <a:pt x="14842" y="3"/>
                    </a:lnTo>
                    <a:cubicBezTo>
                      <a:pt x="14843" y="3"/>
                      <a:pt x="14844" y="4"/>
                      <a:pt x="14844" y="5"/>
                    </a:cubicBezTo>
                    <a:cubicBezTo>
                      <a:pt x="14844" y="6"/>
                      <a:pt x="14843" y="7"/>
                      <a:pt x="14842" y="7"/>
                    </a:cubicBezTo>
                    <a:lnTo>
                      <a:pt x="14842" y="7"/>
                    </a:lnTo>
                    <a:cubicBezTo>
                      <a:pt x="14841" y="7"/>
                      <a:pt x="14840" y="6"/>
                      <a:pt x="14840" y="5"/>
                    </a:cubicBezTo>
                    <a:cubicBezTo>
                      <a:pt x="14840" y="4"/>
                      <a:pt x="14841" y="3"/>
                      <a:pt x="14842" y="3"/>
                    </a:cubicBezTo>
                    <a:close/>
                    <a:moveTo>
                      <a:pt x="14850" y="3"/>
                    </a:moveTo>
                    <a:lnTo>
                      <a:pt x="14850" y="3"/>
                    </a:lnTo>
                    <a:cubicBezTo>
                      <a:pt x="14851" y="3"/>
                      <a:pt x="14852" y="4"/>
                      <a:pt x="14852" y="5"/>
                    </a:cubicBezTo>
                    <a:cubicBezTo>
                      <a:pt x="14852" y="6"/>
                      <a:pt x="14851" y="7"/>
                      <a:pt x="14850" y="7"/>
                    </a:cubicBezTo>
                    <a:lnTo>
                      <a:pt x="14850" y="7"/>
                    </a:lnTo>
                    <a:cubicBezTo>
                      <a:pt x="14849" y="7"/>
                      <a:pt x="14848" y="6"/>
                      <a:pt x="14848" y="5"/>
                    </a:cubicBezTo>
                    <a:cubicBezTo>
                      <a:pt x="14848" y="4"/>
                      <a:pt x="14849" y="3"/>
                      <a:pt x="14850" y="3"/>
                    </a:cubicBezTo>
                    <a:close/>
                    <a:moveTo>
                      <a:pt x="14858" y="3"/>
                    </a:moveTo>
                    <a:lnTo>
                      <a:pt x="14858" y="3"/>
                    </a:lnTo>
                    <a:cubicBezTo>
                      <a:pt x="14859" y="3"/>
                      <a:pt x="14860" y="4"/>
                      <a:pt x="14860" y="5"/>
                    </a:cubicBezTo>
                    <a:cubicBezTo>
                      <a:pt x="14860" y="6"/>
                      <a:pt x="14859" y="7"/>
                      <a:pt x="14858" y="7"/>
                    </a:cubicBezTo>
                    <a:lnTo>
                      <a:pt x="14858" y="7"/>
                    </a:lnTo>
                    <a:cubicBezTo>
                      <a:pt x="14857" y="7"/>
                      <a:pt x="14856" y="6"/>
                      <a:pt x="14856" y="5"/>
                    </a:cubicBezTo>
                    <a:cubicBezTo>
                      <a:pt x="14856" y="4"/>
                      <a:pt x="14857" y="3"/>
                      <a:pt x="14858" y="3"/>
                    </a:cubicBezTo>
                    <a:close/>
                    <a:moveTo>
                      <a:pt x="14866" y="3"/>
                    </a:moveTo>
                    <a:lnTo>
                      <a:pt x="14866" y="3"/>
                    </a:lnTo>
                    <a:cubicBezTo>
                      <a:pt x="14867" y="3"/>
                      <a:pt x="14868" y="4"/>
                      <a:pt x="14868" y="5"/>
                    </a:cubicBezTo>
                    <a:cubicBezTo>
                      <a:pt x="14868" y="6"/>
                      <a:pt x="14867" y="7"/>
                      <a:pt x="14866" y="7"/>
                    </a:cubicBezTo>
                    <a:lnTo>
                      <a:pt x="14866" y="7"/>
                    </a:lnTo>
                    <a:cubicBezTo>
                      <a:pt x="14865" y="7"/>
                      <a:pt x="14864" y="6"/>
                      <a:pt x="14864" y="5"/>
                    </a:cubicBezTo>
                    <a:cubicBezTo>
                      <a:pt x="14864" y="4"/>
                      <a:pt x="14865" y="3"/>
                      <a:pt x="14866" y="3"/>
                    </a:cubicBezTo>
                    <a:close/>
                    <a:moveTo>
                      <a:pt x="14874" y="3"/>
                    </a:moveTo>
                    <a:lnTo>
                      <a:pt x="14874" y="3"/>
                    </a:lnTo>
                    <a:cubicBezTo>
                      <a:pt x="14875" y="3"/>
                      <a:pt x="14876" y="4"/>
                      <a:pt x="14876" y="5"/>
                    </a:cubicBezTo>
                    <a:cubicBezTo>
                      <a:pt x="14876" y="6"/>
                      <a:pt x="14875" y="7"/>
                      <a:pt x="14874" y="7"/>
                    </a:cubicBezTo>
                    <a:lnTo>
                      <a:pt x="14874" y="7"/>
                    </a:lnTo>
                    <a:cubicBezTo>
                      <a:pt x="14873" y="7"/>
                      <a:pt x="14872" y="6"/>
                      <a:pt x="14872" y="5"/>
                    </a:cubicBezTo>
                    <a:cubicBezTo>
                      <a:pt x="14872" y="4"/>
                      <a:pt x="14873" y="3"/>
                      <a:pt x="14874" y="3"/>
                    </a:cubicBezTo>
                    <a:close/>
                    <a:moveTo>
                      <a:pt x="14882" y="3"/>
                    </a:moveTo>
                    <a:lnTo>
                      <a:pt x="14882" y="3"/>
                    </a:lnTo>
                    <a:cubicBezTo>
                      <a:pt x="14883" y="3"/>
                      <a:pt x="14884" y="4"/>
                      <a:pt x="14884" y="5"/>
                    </a:cubicBezTo>
                    <a:cubicBezTo>
                      <a:pt x="14884" y="6"/>
                      <a:pt x="14883" y="7"/>
                      <a:pt x="14882" y="7"/>
                    </a:cubicBezTo>
                    <a:lnTo>
                      <a:pt x="14882" y="7"/>
                    </a:lnTo>
                    <a:cubicBezTo>
                      <a:pt x="14881" y="7"/>
                      <a:pt x="14880" y="6"/>
                      <a:pt x="14880" y="5"/>
                    </a:cubicBezTo>
                    <a:cubicBezTo>
                      <a:pt x="14880" y="4"/>
                      <a:pt x="14881" y="3"/>
                      <a:pt x="14882" y="3"/>
                    </a:cubicBezTo>
                    <a:close/>
                    <a:moveTo>
                      <a:pt x="14890" y="3"/>
                    </a:moveTo>
                    <a:lnTo>
                      <a:pt x="14890" y="3"/>
                    </a:lnTo>
                    <a:cubicBezTo>
                      <a:pt x="14891" y="3"/>
                      <a:pt x="14892" y="4"/>
                      <a:pt x="14892" y="5"/>
                    </a:cubicBezTo>
                    <a:cubicBezTo>
                      <a:pt x="14892" y="6"/>
                      <a:pt x="14891" y="7"/>
                      <a:pt x="14890" y="7"/>
                    </a:cubicBezTo>
                    <a:lnTo>
                      <a:pt x="14890" y="7"/>
                    </a:lnTo>
                    <a:cubicBezTo>
                      <a:pt x="14889" y="7"/>
                      <a:pt x="14888" y="6"/>
                      <a:pt x="14888" y="5"/>
                    </a:cubicBezTo>
                    <a:cubicBezTo>
                      <a:pt x="14888" y="4"/>
                      <a:pt x="14889" y="3"/>
                      <a:pt x="14890" y="3"/>
                    </a:cubicBezTo>
                    <a:close/>
                    <a:moveTo>
                      <a:pt x="14898" y="3"/>
                    </a:moveTo>
                    <a:lnTo>
                      <a:pt x="14898" y="3"/>
                    </a:lnTo>
                    <a:cubicBezTo>
                      <a:pt x="14899" y="3"/>
                      <a:pt x="14900" y="4"/>
                      <a:pt x="14900" y="5"/>
                    </a:cubicBezTo>
                    <a:cubicBezTo>
                      <a:pt x="14900" y="6"/>
                      <a:pt x="14899" y="7"/>
                      <a:pt x="14898" y="7"/>
                    </a:cubicBezTo>
                    <a:lnTo>
                      <a:pt x="14898" y="7"/>
                    </a:lnTo>
                    <a:cubicBezTo>
                      <a:pt x="14897" y="7"/>
                      <a:pt x="14896" y="6"/>
                      <a:pt x="14896" y="5"/>
                    </a:cubicBezTo>
                    <a:cubicBezTo>
                      <a:pt x="14896" y="4"/>
                      <a:pt x="14897" y="3"/>
                      <a:pt x="14898" y="3"/>
                    </a:cubicBezTo>
                    <a:close/>
                    <a:moveTo>
                      <a:pt x="14906" y="3"/>
                    </a:moveTo>
                    <a:lnTo>
                      <a:pt x="14906" y="3"/>
                    </a:lnTo>
                    <a:cubicBezTo>
                      <a:pt x="14907" y="3"/>
                      <a:pt x="14908" y="4"/>
                      <a:pt x="14908" y="5"/>
                    </a:cubicBezTo>
                    <a:cubicBezTo>
                      <a:pt x="14908" y="6"/>
                      <a:pt x="14907" y="7"/>
                      <a:pt x="14906" y="7"/>
                    </a:cubicBezTo>
                    <a:lnTo>
                      <a:pt x="14906" y="7"/>
                    </a:lnTo>
                    <a:cubicBezTo>
                      <a:pt x="14905" y="7"/>
                      <a:pt x="14904" y="6"/>
                      <a:pt x="14904" y="5"/>
                    </a:cubicBezTo>
                    <a:cubicBezTo>
                      <a:pt x="14904" y="4"/>
                      <a:pt x="14905" y="3"/>
                      <a:pt x="14906" y="3"/>
                    </a:cubicBezTo>
                    <a:close/>
                    <a:moveTo>
                      <a:pt x="14914" y="3"/>
                    </a:moveTo>
                    <a:lnTo>
                      <a:pt x="14914" y="3"/>
                    </a:lnTo>
                    <a:cubicBezTo>
                      <a:pt x="14915" y="3"/>
                      <a:pt x="14916" y="4"/>
                      <a:pt x="14916" y="5"/>
                    </a:cubicBezTo>
                    <a:cubicBezTo>
                      <a:pt x="14916" y="6"/>
                      <a:pt x="14915" y="7"/>
                      <a:pt x="14914" y="7"/>
                    </a:cubicBezTo>
                    <a:lnTo>
                      <a:pt x="14914" y="7"/>
                    </a:lnTo>
                    <a:cubicBezTo>
                      <a:pt x="14913" y="7"/>
                      <a:pt x="14912" y="6"/>
                      <a:pt x="14912" y="5"/>
                    </a:cubicBezTo>
                    <a:cubicBezTo>
                      <a:pt x="14912" y="4"/>
                      <a:pt x="14913" y="3"/>
                      <a:pt x="14914" y="3"/>
                    </a:cubicBezTo>
                    <a:close/>
                    <a:moveTo>
                      <a:pt x="14922" y="3"/>
                    </a:moveTo>
                    <a:lnTo>
                      <a:pt x="14922" y="3"/>
                    </a:lnTo>
                    <a:cubicBezTo>
                      <a:pt x="14923" y="3"/>
                      <a:pt x="14924" y="4"/>
                      <a:pt x="14924" y="5"/>
                    </a:cubicBezTo>
                    <a:cubicBezTo>
                      <a:pt x="14924" y="6"/>
                      <a:pt x="14923" y="7"/>
                      <a:pt x="14922" y="7"/>
                    </a:cubicBezTo>
                    <a:lnTo>
                      <a:pt x="14922" y="7"/>
                    </a:lnTo>
                    <a:cubicBezTo>
                      <a:pt x="14921" y="7"/>
                      <a:pt x="14920" y="6"/>
                      <a:pt x="14920" y="5"/>
                    </a:cubicBezTo>
                    <a:cubicBezTo>
                      <a:pt x="14920" y="4"/>
                      <a:pt x="14921" y="3"/>
                      <a:pt x="14922" y="3"/>
                    </a:cubicBezTo>
                    <a:close/>
                    <a:moveTo>
                      <a:pt x="14930" y="3"/>
                    </a:moveTo>
                    <a:lnTo>
                      <a:pt x="14930" y="3"/>
                    </a:lnTo>
                    <a:cubicBezTo>
                      <a:pt x="14931" y="3"/>
                      <a:pt x="14932" y="4"/>
                      <a:pt x="14932" y="5"/>
                    </a:cubicBezTo>
                    <a:cubicBezTo>
                      <a:pt x="14932" y="6"/>
                      <a:pt x="14931" y="7"/>
                      <a:pt x="14930" y="7"/>
                    </a:cubicBezTo>
                    <a:lnTo>
                      <a:pt x="14930" y="7"/>
                    </a:lnTo>
                    <a:cubicBezTo>
                      <a:pt x="14929" y="7"/>
                      <a:pt x="14928" y="6"/>
                      <a:pt x="14928" y="5"/>
                    </a:cubicBezTo>
                    <a:cubicBezTo>
                      <a:pt x="14928" y="4"/>
                      <a:pt x="14929" y="3"/>
                      <a:pt x="14930" y="3"/>
                    </a:cubicBezTo>
                    <a:close/>
                    <a:moveTo>
                      <a:pt x="14938" y="3"/>
                    </a:moveTo>
                    <a:lnTo>
                      <a:pt x="14938" y="3"/>
                    </a:lnTo>
                    <a:cubicBezTo>
                      <a:pt x="14939" y="3"/>
                      <a:pt x="14940" y="4"/>
                      <a:pt x="14940" y="5"/>
                    </a:cubicBezTo>
                    <a:cubicBezTo>
                      <a:pt x="14940" y="6"/>
                      <a:pt x="14939" y="7"/>
                      <a:pt x="14938" y="7"/>
                    </a:cubicBezTo>
                    <a:lnTo>
                      <a:pt x="14938" y="7"/>
                    </a:lnTo>
                    <a:cubicBezTo>
                      <a:pt x="14937" y="7"/>
                      <a:pt x="14936" y="6"/>
                      <a:pt x="14936" y="5"/>
                    </a:cubicBezTo>
                    <a:cubicBezTo>
                      <a:pt x="14936" y="4"/>
                      <a:pt x="14937" y="3"/>
                      <a:pt x="14938" y="3"/>
                    </a:cubicBezTo>
                    <a:close/>
                    <a:moveTo>
                      <a:pt x="14946" y="3"/>
                    </a:moveTo>
                    <a:lnTo>
                      <a:pt x="14946" y="3"/>
                    </a:lnTo>
                    <a:cubicBezTo>
                      <a:pt x="14947" y="3"/>
                      <a:pt x="14948" y="4"/>
                      <a:pt x="14948" y="5"/>
                    </a:cubicBezTo>
                    <a:cubicBezTo>
                      <a:pt x="14948" y="6"/>
                      <a:pt x="14947" y="7"/>
                      <a:pt x="14946" y="7"/>
                    </a:cubicBezTo>
                    <a:lnTo>
                      <a:pt x="14946" y="7"/>
                    </a:lnTo>
                    <a:cubicBezTo>
                      <a:pt x="14945" y="7"/>
                      <a:pt x="14944" y="6"/>
                      <a:pt x="14944" y="5"/>
                    </a:cubicBezTo>
                    <a:cubicBezTo>
                      <a:pt x="14944" y="4"/>
                      <a:pt x="14945" y="3"/>
                      <a:pt x="14946" y="3"/>
                    </a:cubicBezTo>
                    <a:close/>
                    <a:moveTo>
                      <a:pt x="14954" y="3"/>
                    </a:moveTo>
                    <a:lnTo>
                      <a:pt x="14954" y="3"/>
                    </a:lnTo>
                    <a:cubicBezTo>
                      <a:pt x="14955" y="3"/>
                      <a:pt x="14956" y="4"/>
                      <a:pt x="14956" y="5"/>
                    </a:cubicBezTo>
                    <a:cubicBezTo>
                      <a:pt x="14956" y="6"/>
                      <a:pt x="14955" y="7"/>
                      <a:pt x="14954" y="7"/>
                    </a:cubicBezTo>
                    <a:lnTo>
                      <a:pt x="14954" y="7"/>
                    </a:lnTo>
                    <a:cubicBezTo>
                      <a:pt x="14953" y="7"/>
                      <a:pt x="14952" y="6"/>
                      <a:pt x="14952" y="5"/>
                    </a:cubicBezTo>
                    <a:cubicBezTo>
                      <a:pt x="14952" y="4"/>
                      <a:pt x="14953" y="3"/>
                      <a:pt x="14954" y="3"/>
                    </a:cubicBezTo>
                    <a:close/>
                    <a:moveTo>
                      <a:pt x="14962" y="3"/>
                    </a:moveTo>
                    <a:lnTo>
                      <a:pt x="14962" y="3"/>
                    </a:lnTo>
                    <a:cubicBezTo>
                      <a:pt x="14963" y="3"/>
                      <a:pt x="14964" y="4"/>
                      <a:pt x="14964" y="5"/>
                    </a:cubicBezTo>
                    <a:cubicBezTo>
                      <a:pt x="14964" y="6"/>
                      <a:pt x="14963" y="7"/>
                      <a:pt x="14962" y="7"/>
                    </a:cubicBezTo>
                    <a:lnTo>
                      <a:pt x="14962" y="7"/>
                    </a:lnTo>
                    <a:cubicBezTo>
                      <a:pt x="14961" y="7"/>
                      <a:pt x="14960" y="6"/>
                      <a:pt x="14960" y="5"/>
                    </a:cubicBezTo>
                    <a:cubicBezTo>
                      <a:pt x="14960" y="4"/>
                      <a:pt x="14961" y="3"/>
                      <a:pt x="14962" y="3"/>
                    </a:cubicBezTo>
                    <a:close/>
                    <a:moveTo>
                      <a:pt x="14970" y="3"/>
                    </a:moveTo>
                    <a:lnTo>
                      <a:pt x="14970" y="3"/>
                    </a:lnTo>
                    <a:cubicBezTo>
                      <a:pt x="14971" y="3"/>
                      <a:pt x="14972" y="4"/>
                      <a:pt x="14972" y="5"/>
                    </a:cubicBezTo>
                    <a:cubicBezTo>
                      <a:pt x="14972" y="6"/>
                      <a:pt x="14971" y="7"/>
                      <a:pt x="14970" y="7"/>
                    </a:cubicBezTo>
                    <a:lnTo>
                      <a:pt x="14970" y="7"/>
                    </a:lnTo>
                    <a:cubicBezTo>
                      <a:pt x="14969" y="7"/>
                      <a:pt x="14968" y="6"/>
                      <a:pt x="14968" y="5"/>
                    </a:cubicBezTo>
                    <a:cubicBezTo>
                      <a:pt x="14968" y="4"/>
                      <a:pt x="14969" y="3"/>
                      <a:pt x="14970" y="3"/>
                    </a:cubicBezTo>
                    <a:close/>
                    <a:moveTo>
                      <a:pt x="14978" y="3"/>
                    </a:moveTo>
                    <a:lnTo>
                      <a:pt x="14978" y="3"/>
                    </a:lnTo>
                    <a:cubicBezTo>
                      <a:pt x="14979" y="3"/>
                      <a:pt x="14980" y="4"/>
                      <a:pt x="14980" y="5"/>
                    </a:cubicBezTo>
                    <a:cubicBezTo>
                      <a:pt x="14980" y="6"/>
                      <a:pt x="14979" y="7"/>
                      <a:pt x="14978" y="7"/>
                    </a:cubicBezTo>
                    <a:lnTo>
                      <a:pt x="14978" y="7"/>
                    </a:lnTo>
                    <a:cubicBezTo>
                      <a:pt x="14977" y="7"/>
                      <a:pt x="14976" y="6"/>
                      <a:pt x="14976" y="5"/>
                    </a:cubicBezTo>
                    <a:cubicBezTo>
                      <a:pt x="14976" y="4"/>
                      <a:pt x="14977" y="3"/>
                      <a:pt x="14978" y="3"/>
                    </a:cubicBezTo>
                    <a:close/>
                    <a:moveTo>
                      <a:pt x="14986" y="3"/>
                    </a:moveTo>
                    <a:lnTo>
                      <a:pt x="14986" y="3"/>
                    </a:lnTo>
                    <a:cubicBezTo>
                      <a:pt x="14987" y="3"/>
                      <a:pt x="14988" y="4"/>
                      <a:pt x="14988" y="5"/>
                    </a:cubicBezTo>
                    <a:cubicBezTo>
                      <a:pt x="14988" y="6"/>
                      <a:pt x="14987" y="7"/>
                      <a:pt x="14986" y="7"/>
                    </a:cubicBezTo>
                    <a:lnTo>
                      <a:pt x="14986" y="7"/>
                    </a:lnTo>
                    <a:cubicBezTo>
                      <a:pt x="14985" y="7"/>
                      <a:pt x="14984" y="6"/>
                      <a:pt x="14984" y="5"/>
                    </a:cubicBezTo>
                    <a:cubicBezTo>
                      <a:pt x="14984" y="4"/>
                      <a:pt x="14985" y="3"/>
                      <a:pt x="14986" y="3"/>
                    </a:cubicBezTo>
                    <a:close/>
                    <a:moveTo>
                      <a:pt x="14994" y="3"/>
                    </a:moveTo>
                    <a:lnTo>
                      <a:pt x="14994" y="3"/>
                    </a:lnTo>
                    <a:cubicBezTo>
                      <a:pt x="14995" y="3"/>
                      <a:pt x="14996" y="4"/>
                      <a:pt x="14996" y="5"/>
                    </a:cubicBezTo>
                    <a:cubicBezTo>
                      <a:pt x="14996" y="6"/>
                      <a:pt x="14995" y="7"/>
                      <a:pt x="14994" y="7"/>
                    </a:cubicBezTo>
                    <a:lnTo>
                      <a:pt x="14994" y="7"/>
                    </a:lnTo>
                    <a:cubicBezTo>
                      <a:pt x="14993" y="7"/>
                      <a:pt x="14992" y="6"/>
                      <a:pt x="14992" y="5"/>
                    </a:cubicBezTo>
                    <a:cubicBezTo>
                      <a:pt x="14992" y="4"/>
                      <a:pt x="14993" y="3"/>
                      <a:pt x="14994" y="3"/>
                    </a:cubicBezTo>
                    <a:close/>
                    <a:moveTo>
                      <a:pt x="15002" y="3"/>
                    </a:moveTo>
                    <a:lnTo>
                      <a:pt x="15002" y="3"/>
                    </a:lnTo>
                    <a:cubicBezTo>
                      <a:pt x="15003" y="3"/>
                      <a:pt x="15004" y="4"/>
                      <a:pt x="15004" y="5"/>
                    </a:cubicBezTo>
                    <a:cubicBezTo>
                      <a:pt x="15004" y="6"/>
                      <a:pt x="15003" y="7"/>
                      <a:pt x="15002" y="7"/>
                    </a:cubicBezTo>
                    <a:lnTo>
                      <a:pt x="15002" y="7"/>
                    </a:lnTo>
                    <a:cubicBezTo>
                      <a:pt x="15001" y="7"/>
                      <a:pt x="15000" y="6"/>
                      <a:pt x="15000" y="5"/>
                    </a:cubicBezTo>
                    <a:cubicBezTo>
                      <a:pt x="15000" y="4"/>
                      <a:pt x="15001" y="3"/>
                      <a:pt x="15002" y="3"/>
                    </a:cubicBezTo>
                    <a:close/>
                    <a:moveTo>
                      <a:pt x="15010" y="3"/>
                    </a:moveTo>
                    <a:lnTo>
                      <a:pt x="15010" y="3"/>
                    </a:lnTo>
                    <a:cubicBezTo>
                      <a:pt x="15011" y="3"/>
                      <a:pt x="15012" y="4"/>
                      <a:pt x="15012" y="5"/>
                    </a:cubicBezTo>
                    <a:cubicBezTo>
                      <a:pt x="15012" y="6"/>
                      <a:pt x="15011" y="7"/>
                      <a:pt x="15010" y="7"/>
                    </a:cubicBezTo>
                    <a:lnTo>
                      <a:pt x="15010" y="7"/>
                    </a:lnTo>
                    <a:cubicBezTo>
                      <a:pt x="15009" y="7"/>
                      <a:pt x="15008" y="6"/>
                      <a:pt x="15008" y="5"/>
                    </a:cubicBezTo>
                    <a:cubicBezTo>
                      <a:pt x="15008" y="4"/>
                      <a:pt x="15009" y="3"/>
                      <a:pt x="15010" y="3"/>
                    </a:cubicBezTo>
                    <a:close/>
                    <a:moveTo>
                      <a:pt x="15018" y="3"/>
                    </a:moveTo>
                    <a:lnTo>
                      <a:pt x="15018" y="3"/>
                    </a:lnTo>
                    <a:cubicBezTo>
                      <a:pt x="15019" y="3"/>
                      <a:pt x="15020" y="4"/>
                      <a:pt x="15020" y="5"/>
                    </a:cubicBezTo>
                    <a:cubicBezTo>
                      <a:pt x="15020" y="6"/>
                      <a:pt x="15019" y="7"/>
                      <a:pt x="15018" y="7"/>
                    </a:cubicBezTo>
                    <a:lnTo>
                      <a:pt x="15018" y="7"/>
                    </a:lnTo>
                    <a:cubicBezTo>
                      <a:pt x="15017" y="7"/>
                      <a:pt x="15016" y="6"/>
                      <a:pt x="15016" y="5"/>
                    </a:cubicBezTo>
                    <a:cubicBezTo>
                      <a:pt x="15016" y="4"/>
                      <a:pt x="15017" y="3"/>
                      <a:pt x="15018" y="3"/>
                    </a:cubicBezTo>
                    <a:close/>
                    <a:moveTo>
                      <a:pt x="15026" y="3"/>
                    </a:moveTo>
                    <a:lnTo>
                      <a:pt x="15026" y="3"/>
                    </a:lnTo>
                    <a:cubicBezTo>
                      <a:pt x="15027" y="3"/>
                      <a:pt x="15028" y="4"/>
                      <a:pt x="15028" y="5"/>
                    </a:cubicBezTo>
                    <a:cubicBezTo>
                      <a:pt x="15028" y="6"/>
                      <a:pt x="15027" y="7"/>
                      <a:pt x="15026" y="7"/>
                    </a:cubicBezTo>
                    <a:lnTo>
                      <a:pt x="15026" y="7"/>
                    </a:lnTo>
                    <a:cubicBezTo>
                      <a:pt x="15025" y="7"/>
                      <a:pt x="15024" y="6"/>
                      <a:pt x="15024" y="5"/>
                    </a:cubicBezTo>
                    <a:cubicBezTo>
                      <a:pt x="15024" y="4"/>
                      <a:pt x="15025" y="3"/>
                      <a:pt x="15026" y="3"/>
                    </a:cubicBezTo>
                    <a:close/>
                    <a:moveTo>
                      <a:pt x="15034" y="3"/>
                    </a:moveTo>
                    <a:lnTo>
                      <a:pt x="15034" y="3"/>
                    </a:lnTo>
                    <a:cubicBezTo>
                      <a:pt x="15035" y="3"/>
                      <a:pt x="15036" y="4"/>
                      <a:pt x="15036" y="5"/>
                    </a:cubicBezTo>
                    <a:cubicBezTo>
                      <a:pt x="15036" y="6"/>
                      <a:pt x="15035" y="7"/>
                      <a:pt x="15034" y="7"/>
                    </a:cubicBezTo>
                    <a:lnTo>
                      <a:pt x="15034" y="7"/>
                    </a:lnTo>
                    <a:cubicBezTo>
                      <a:pt x="15033" y="7"/>
                      <a:pt x="15032" y="6"/>
                      <a:pt x="15032" y="5"/>
                    </a:cubicBezTo>
                    <a:cubicBezTo>
                      <a:pt x="15032" y="4"/>
                      <a:pt x="15033" y="3"/>
                      <a:pt x="15034" y="3"/>
                    </a:cubicBezTo>
                    <a:close/>
                    <a:moveTo>
                      <a:pt x="15042" y="3"/>
                    </a:moveTo>
                    <a:lnTo>
                      <a:pt x="15042" y="3"/>
                    </a:lnTo>
                    <a:cubicBezTo>
                      <a:pt x="15043" y="3"/>
                      <a:pt x="15044" y="4"/>
                      <a:pt x="15044" y="5"/>
                    </a:cubicBezTo>
                    <a:cubicBezTo>
                      <a:pt x="15044" y="6"/>
                      <a:pt x="15043" y="7"/>
                      <a:pt x="15042" y="7"/>
                    </a:cubicBezTo>
                    <a:lnTo>
                      <a:pt x="15042" y="7"/>
                    </a:lnTo>
                    <a:cubicBezTo>
                      <a:pt x="15041" y="7"/>
                      <a:pt x="15040" y="6"/>
                      <a:pt x="15040" y="5"/>
                    </a:cubicBezTo>
                    <a:cubicBezTo>
                      <a:pt x="15040" y="4"/>
                      <a:pt x="15041" y="3"/>
                      <a:pt x="15042" y="3"/>
                    </a:cubicBezTo>
                    <a:close/>
                    <a:moveTo>
                      <a:pt x="15050" y="3"/>
                    </a:moveTo>
                    <a:lnTo>
                      <a:pt x="15050" y="3"/>
                    </a:lnTo>
                    <a:cubicBezTo>
                      <a:pt x="15051" y="3"/>
                      <a:pt x="15052" y="4"/>
                      <a:pt x="15052" y="5"/>
                    </a:cubicBezTo>
                    <a:cubicBezTo>
                      <a:pt x="15052" y="6"/>
                      <a:pt x="15051" y="7"/>
                      <a:pt x="15050" y="7"/>
                    </a:cubicBezTo>
                    <a:lnTo>
                      <a:pt x="15050" y="7"/>
                    </a:lnTo>
                    <a:cubicBezTo>
                      <a:pt x="15049" y="7"/>
                      <a:pt x="15048" y="6"/>
                      <a:pt x="15048" y="5"/>
                    </a:cubicBezTo>
                    <a:cubicBezTo>
                      <a:pt x="15048" y="4"/>
                      <a:pt x="15049" y="3"/>
                      <a:pt x="15050" y="3"/>
                    </a:cubicBezTo>
                    <a:close/>
                    <a:moveTo>
                      <a:pt x="15058" y="3"/>
                    </a:moveTo>
                    <a:lnTo>
                      <a:pt x="15058" y="3"/>
                    </a:lnTo>
                    <a:cubicBezTo>
                      <a:pt x="15059" y="3"/>
                      <a:pt x="15060" y="4"/>
                      <a:pt x="15060" y="5"/>
                    </a:cubicBezTo>
                    <a:cubicBezTo>
                      <a:pt x="15060" y="6"/>
                      <a:pt x="15059" y="7"/>
                      <a:pt x="15058" y="7"/>
                    </a:cubicBezTo>
                    <a:lnTo>
                      <a:pt x="15058" y="7"/>
                    </a:lnTo>
                    <a:cubicBezTo>
                      <a:pt x="15057" y="7"/>
                      <a:pt x="15056" y="6"/>
                      <a:pt x="15056" y="5"/>
                    </a:cubicBezTo>
                    <a:cubicBezTo>
                      <a:pt x="15056" y="4"/>
                      <a:pt x="15057" y="3"/>
                      <a:pt x="15058" y="3"/>
                    </a:cubicBezTo>
                    <a:close/>
                    <a:moveTo>
                      <a:pt x="15066" y="3"/>
                    </a:moveTo>
                    <a:lnTo>
                      <a:pt x="15066" y="3"/>
                    </a:lnTo>
                    <a:cubicBezTo>
                      <a:pt x="15067" y="3"/>
                      <a:pt x="15068" y="4"/>
                      <a:pt x="15068" y="5"/>
                    </a:cubicBezTo>
                    <a:cubicBezTo>
                      <a:pt x="15068" y="6"/>
                      <a:pt x="15067" y="7"/>
                      <a:pt x="15066" y="7"/>
                    </a:cubicBezTo>
                    <a:lnTo>
                      <a:pt x="15066" y="7"/>
                    </a:lnTo>
                    <a:cubicBezTo>
                      <a:pt x="15065" y="7"/>
                      <a:pt x="15064" y="6"/>
                      <a:pt x="15064" y="5"/>
                    </a:cubicBezTo>
                    <a:cubicBezTo>
                      <a:pt x="15064" y="4"/>
                      <a:pt x="15065" y="3"/>
                      <a:pt x="15066" y="3"/>
                    </a:cubicBezTo>
                    <a:close/>
                    <a:moveTo>
                      <a:pt x="15074" y="3"/>
                    </a:moveTo>
                    <a:lnTo>
                      <a:pt x="15074" y="3"/>
                    </a:lnTo>
                    <a:cubicBezTo>
                      <a:pt x="15075" y="3"/>
                      <a:pt x="15076" y="4"/>
                      <a:pt x="15076" y="5"/>
                    </a:cubicBezTo>
                    <a:cubicBezTo>
                      <a:pt x="15076" y="6"/>
                      <a:pt x="15075" y="7"/>
                      <a:pt x="15074" y="7"/>
                    </a:cubicBezTo>
                    <a:lnTo>
                      <a:pt x="15074" y="7"/>
                    </a:lnTo>
                    <a:cubicBezTo>
                      <a:pt x="15073" y="7"/>
                      <a:pt x="15072" y="6"/>
                      <a:pt x="15072" y="5"/>
                    </a:cubicBezTo>
                    <a:cubicBezTo>
                      <a:pt x="15072" y="4"/>
                      <a:pt x="15073" y="3"/>
                      <a:pt x="15074" y="3"/>
                    </a:cubicBezTo>
                    <a:close/>
                    <a:moveTo>
                      <a:pt x="15082" y="3"/>
                    </a:moveTo>
                    <a:lnTo>
                      <a:pt x="15082" y="3"/>
                    </a:lnTo>
                    <a:cubicBezTo>
                      <a:pt x="15083" y="3"/>
                      <a:pt x="15084" y="4"/>
                      <a:pt x="15084" y="5"/>
                    </a:cubicBezTo>
                    <a:cubicBezTo>
                      <a:pt x="15084" y="6"/>
                      <a:pt x="15083" y="7"/>
                      <a:pt x="15082" y="7"/>
                    </a:cubicBezTo>
                    <a:lnTo>
                      <a:pt x="15082" y="7"/>
                    </a:lnTo>
                    <a:cubicBezTo>
                      <a:pt x="15081" y="7"/>
                      <a:pt x="15080" y="6"/>
                      <a:pt x="15080" y="5"/>
                    </a:cubicBezTo>
                    <a:cubicBezTo>
                      <a:pt x="15080" y="4"/>
                      <a:pt x="15081" y="3"/>
                      <a:pt x="15082" y="3"/>
                    </a:cubicBezTo>
                    <a:close/>
                    <a:moveTo>
                      <a:pt x="15090" y="3"/>
                    </a:moveTo>
                    <a:lnTo>
                      <a:pt x="15090" y="3"/>
                    </a:lnTo>
                    <a:cubicBezTo>
                      <a:pt x="15091" y="3"/>
                      <a:pt x="15092" y="4"/>
                      <a:pt x="15092" y="5"/>
                    </a:cubicBezTo>
                    <a:cubicBezTo>
                      <a:pt x="15092" y="6"/>
                      <a:pt x="15091" y="7"/>
                      <a:pt x="15090" y="7"/>
                    </a:cubicBezTo>
                    <a:lnTo>
                      <a:pt x="15090" y="7"/>
                    </a:lnTo>
                    <a:cubicBezTo>
                      <a:pt x="15089" y="7"/>
                      <a:pt x="15088" y="6"/>
                      <a:pt x="15088" y="5"/>
                    </a:cubicBezTo>
                    <a:cubicBezTo>
                      <a:pt x="15088" y="4"/>
                      <a:pt x="15089" y="3"/>
                      <a:pt x="15090" y="3"/>
                    </a:cubicBezTo>
                    <a:close/>
                    <a:moveTo>
                      <a:pt x="15098" y="3"/>
                    </a:moveTo>
                    <a:lnTo>
                      <a:pt x="15098" y="3"/>
                    </a:lnTo>
                    <a:cubicBezTo>
                      <a:pt x="15099" y="3"/>
                      <a:pt x="15100" y="4"/>
                      <a:pt x="15100" y="5"/>
                    </a:cubicBezTo>
                    <a:cubicBezTo>
                      <a:pt x="15100" y="6"/>
                      <a:pt x="15099" y="7"/>
                      <a:pt x="15098" y="7"/>
                    </a:cubicBezTo>
                    <a:lnTo>
                      <a:pt x="15098" y="7"/>
                    </a:lnTo>
                    <a:cubicBezTo>
                      <a:pt x="15097" y="7"/>
                      <a:pt x="15096" y="6"/>
                      <a:pt x="15096" y="5"/>
                    </a:cubicBezTo>
                    <a:cubicBezTo>
                      <a:pt x="15096" y="4"/>
                      <a:pt x="15097" y="3"/>
                      <a:pt x="15098" y="3"/>
                    </a:cubicBezTo>
                    <a:close/>
                    <a:moveTo>
                      <a:pt x="15106" y="3"/>
                    </a:moveTo>
                    <a:lnTo>
                      <a:pt x="15106" y="3"/>
                    </a:lnTo>
                    <a:cubicBezTo>
                      <a:pt x="15107" y="3"/>
                      <a:pt x="15108" y="4"/>
                      <a:pt x="15108" y="5"/>
                    </a:cubicBezTo>
                    <a:cubicBezTo>
                      <a:pt x="15108" y="6"/>
                      <a:pt x="15107" y="7"/>
                      <a:pt x="15106" y="7"/>
                    </a:cubicBezTo>
                    <a:lnTo>
                      <a:pt x="15106" y="7"/>
                    </a:lnTo>
                    <a:cubicBezTo>
                      <a:pt x="15105" y="7"/>
                      <a:pt x="15104" y="6"/>
                      <a:pt x="15104" y="5"/>
                    </a:cubicBezTo>
                    <a:cubicBezTo>
                      <a:pt x="15104" y="4"/>
                      <a:pt x="15105" y="3"/>
                      <a:pt x="15106" y="3"/>
                    </a:cubicBezTo>
                    <a:close/>
                    <a:moveTo>
                      <a:pt x="15114" y="3"/>
                    </a:moveTo>
                    <a:lnTo>
                      <a:pt x="15114" y="3"/>
                    </a:lnTo>
                    <a:cubicBezTo>
                      <a:pt x="15115" y="3"/>
                      <a:pt x="15116" y="4"/>
                      <a:pt x="15116" y="5"/>
                    </a:cubicBezTo>
                    <a:cubicBezTo>
                      <a:pt x="15116" y="6"/>
                      <a:pt x="15115" y="7"/>
                      <a:pt x="15114" y="7"/>
                    </a:cubicBezTo>
                    <a:lnTo>
                      <a:pt x="15114" y="7"/>
                    </a:lnTo>
                    <a:cubicBezTo>
                      <a:pt x="15113" y="7"/>
                      <a:pt x="15112" y="6"/>
                      <a:pt x="15112" y="5"/>
                    </a:cubicBezTo>
                    <a:cubicBezTo>
                      <a:pt x="15112" y="4"/>
                      <a:pt x="15113" y="3"/>
                      <a:pt x="15114" y="3"/>
                    </a:cubicBezTo>
                    <a:close/>
                    <a:moveTo>
                      <a:pt x="15122" y="3"/>
                    </a:moveTo>
                    <a:lnTo>
                      <a:pt x="15122" y="3"/>
                    </a:lnTo>
                    <a:cubicBezTo>
                      <a:pt x="15123" y="3"/>
                      <a:pt x="15124" y="4"/>
                      <a:pt x="15124" y="5"/>
                    </a:cubicBezTo>
                    <a:cubicBezTo>
                      <a:pt x="15124" y="6"/>
                      <a:pt x="15123" y="7"/>
                      <a:pt x="15122" y="7"/>
                    </a:cubicBezTo>
                    <a:lnTo>
                      <a:pt x="15122" y="7"/>
                    </a:lnTo>
                    <a:cubicBezTo>
                      <a:pt x="15121" y="7"/>
                      <a:pt x="15120" y="6"/>
                      <a:pt x="15120" y="5"/>
                    </a:cubicBezTo>
                    <a:cubicBezTo>
                      <a:pt x="15120" y="4"/>
                      <a:pt x="15121" y="3"/>
                      <a:pt x="15122" y="3"/>
                    </a:cubicBezTo>
                    <a:close/>
                    <a:moveTo>
                      <a:pt x="15130" y="3"/>
                    </a:moveTo>
                    <a:lnTo>
                      <a:pt x="15130" y="3"/>
                    </a:lnTo>
                    <a:cubicBezTo>
                      <a:pt x="15131" y="3"/>
                      <a:pt x="15132" y="4"/>
                      <a:pt x="15132" y="5"/>
                    </a:cubicBezTo>
                    <a:cubicBezTo>
                      <a:pt x="15132" y="6"/>
                      <a:pt x="15131" y="7"/>
                      <a:pt x="15130" y="7"/>
                    </a:cubicBezTo>
                    <a:lnTo>
                      <a:pt x="15130" y="7"/>
                    </a:lnTo>
                    <a:cubicBezTo>
                      <a:pt x="15129" y="7"/>
                      <a:pt x="15128" y="6"/>
                      <a:pt x="15128" y="5"/>
                    </a:cubicBezTo>
                    <a:cubicBezTo>
                      <a:pt x="15128" y="4"/>
                      <a:pt x="15129" y="3"/>
                      <a:pt x="15130" y="3"/>
                    </a:cubicBezTo>
                    <a:close/>
                    <a:moveTo>
                      <a:pt x="15138" y="3"/>
                    </a:moveTo>
                    <a:lnTo>
                      <a:pt x="15138" y="3"/>
                    </a:lnTo>
                    <a:cubicBezTo>
                      <a:pt x="15139" y="3"/>
                      <a:pt x="15140" y="4"/>
                      <a:pt x="15140" y="5"/>
                    </a:cubicBezTo>
                    <a:cubicBezTo>
                      <a:pt x="15140" y="6"/>
                      <a:pt x="15139" y="7"/>
                      <a:pt x="15138" y="7"/>
                    </a:cubicBezTo>
                    <a:lnTo>
                      <a:pt x="15138" y="7"/>
                    </a:lnTo>
                    <a:cubicBezTo>
                      <a:pt x="15137" y="7"/>
                      <a:pt x="15136" y="6"/>
                      <a:pt x="15136" y="5"/>
                    </a:cubicBezTo>
                    <a:cubicBezTo>
                      <a:pt x="15136" y="4"/>
                      <a:pt x="15137" y="3"/>
                      <a:pt x="15138" y="3"/>
                    </a:cubicBezTo>
                    <a:close/>
                    <a:moveTo>
                      <a:pt x="15146" y="3"/>
                    </a:moveTo>
                    <a:lnTo>
                      <a:pt x="15146" y="3"/>
                    </a:lnTo>
                    <a:cubicBezTo>
                      <a:pt x="15147" y="3"/>
                      <a:pt x="15148" y="4"/>
                      <a:pt x="15148" y="5"/>
                    </a:cubicBezTo>
                    <a:cubicBezTo>
                      <a:pt x="15148" y="6"/>
                      <a:pt x="15147" y="7"/>
                      <a:pt x="15146" y="7"/>
                    </a:cubicBezTo>
                    <a:lnTo>
                      <a:pt x="15146" y="7"/>
                    </a:lnTo>
                    <a:cubicBezTo>
                      <a:pt x="15145" y="7"/>
                      <a:pt x="15144" y="6"/>
                      <a:pt x="15144" y="5"/>
                    </a:cubicBezTo>
                    <a:cubicBezTo>
                      <a:pt x="15144" y="4"/>
                      <a:pt x="15145" y="3"/>
                      <a:pt x="15146" y="3"/>
                    </a:cubicBezTo>
                    <a:close/>
                    <a:moveTo>
                      <a:pt x="15154" y="3"/>
                    </a:moveTo>
                    <a:lnTo>
                      <a:pt x="15154" y="3"/>
                    </a:lnTo>
                    <a:cubicBezTo>
                      <a:pt x="15155" y="3"/>
                      <a:pt x="15156" y="4"/>
                      <a:pt x="15156" y="5"/>
                    </a:cubicBezTo>
                    <a:cubicBezTo>
                      <a:pt x="15156" y="6"/>
                      <a:pt x="15155" y="7"/>
                      <a:pt x="15154" y="7"/>
                    </a:cubicBezTo>
                    <a:lnTo>
                      <a:pt x="15154" y="7"/>
                    </a:lnTo>
                    <a:cubicBezTo>
                      <a:pt x="15153" y="7"/>
                      <a:pt x="15152" y="6"/>
                      <a:pt x="15152" y="5"/>
                    </a:cubicBezTo>
                    <a:cubicBezTo>
                      <a:pt x="15152" y="4"/>
                      <a:pt x="15153" y="3"/>
                      <a:pt x="15154" y="3"/>
                    </a:cubicBezTo>
                    <a:close/>
                    <a:moveTo>
                      <a:pt x="15162" y="3"/>
                    </a:moveTo>
                    <a:lnTo>
                      <a:pt x="15162" y="3"/>
                    </a:lnTo>
                    <a:cubicBezTo>
                      <a:pt x="15163" y="3"/>
                      <a:pt x="15164" y="4"/>
                      <a:pt x="15164" y="5"/>
                    </a:cubicBezTo>
                    <a:cubicBezTo>
                      <a:pt x="15164" y="6"/>
                      <a:pt x="15163" y="7"/>
                      <a:pt x="15162" y="7"/>
                    </a:cubicBezTo>
                    <a:lnTo>
                      <a:pt x="15162" y="7"/>
                    </a:lnTo>
                    <a:cubicBezTo>
                      <a:pt x="15161" y="7"/>
                      <a:pt x="15160" y="6"/>
                      <a:pt x="15160" y="5"/>
                    </a:cubicBezTo>
                    <a:cubicBezTo>
                      <a:pt x="15160" y="4"/>
                      <a:pt x="15161" y="3"/>
                      <a:pt x="15162" y="3"/>
                    </a:cubicBezTo>
                    <a:close/>
                    <a:moveTo>
                      <a:pt x="15170" y="3"/>
                    </a:moveTo>
                    <a:lnTo>
                      <a:pt x="15170" y="3"/>
                    </a:lnTo>
                    <a:cubicBezTo>
                      <a:pt x="15171" y="3"/>
                      <a:pt x="15172" y="4"/>
                      <a:pt x="15172" y="5"/>
                    </a:cubicBezTo>
                    <a:cubicBezTo>
                      <a:pt x="15172" y="6"/>
                      <a:pt x="15171" y="7"/>
                      <a:pt x="15170" y="7"/>
                    </a:cubicBezTo>
                    <a:lnTo>
                      <a:pt x="15170" y="7"/>
                    </a:lnTo>
                    <a:cubicBezTo>
                      <a:pt x="15169" y="7"/>
                      <a:pt x="15168" y="6"/>
                      <a:pt x="15168" y="5"/>
                    </a:cubicBezTo>
                    <a:cubicBezTo>
                      <a:pt x="15168" y="4"/>
                      <a:pt x="15169" y="3"/>
                      <a:pt x="15170" y="3"/>
                    </a:cubicBezTo>
                    <a:close/>
                    <a:moveTo>
                      <a:pt x="15178" y="3"/>
                    </a:moveTo>
                    <a:lnTo>
                      <a:pt x="15178" y="3"/>
                    </a:lnTo>
                    <a:cubicBezTo>
                      <a:pt x="15179" y="3"/>
                      <a:pt x="15180" y="4"/>
                      <a:pt x="15180" y="5"/>
                    </a:cubicBezTo>
                    <a:cubicBezTo>
                      <a:pt x="15180" y="6"/>
                      <a:pt x="15179" y="7"/>
                      <a:pt x="15178" y="7"/>
                    </a:cubicBezTo>
                    <a:lnTo>
                      <a:pt x="15178" y="7"/>
                    </a:lnTo>
                    <a:cubicBezTo>
                      <a:pt x="15177" y="7"/>
                      <a:pt x="15176" y="6"/>
                      <a:pt x="15176" y="5"/>
                    </a:cubicBezTo>
                    <a:cubicBezTo>
                      <a:pt x="15176" y="4"/>
                      <a:pt x="15177" y="3"/>
                      <a:pt x="15178" y="3"/>
                    </a:cubicBezTo>
                    <a:close/>
                    <a:moveTo>
                      <a:pt x="15186" y="3"/>
                    </a:moveTo>
                    <a:lnTo>
                      <a:pt x="15186" y="3"/>
                    </a:lnTo>
                    <a:cubicBezTo>
                      <a:pt x="15187" y="3"/>
                      <a:pt x="15188" y="4"/>
                      <a:pt x="15188" y="5"/>
                    </a:cubicBezTo>
                    <a:cubicBezTo>
                      <a:pt x="15188" y="6"/>
                      <a:pt x="15187" y="7"/>
                      <a:pt x="15186" y="7"/>
                    </a:cubicBezTo>
                    <a:lnTo>
                      <a:pt x="15186" y="7"/>
                    </a:lnTo>
                    <a:cubicBezTo>
                      <a:pt x="15185" y="7"/>
                      <a:pt x="15184" y="6"/>
                      <a:pt x="15184" y="5"/>
                    </a:cubicBezTo>
                    <a:cubicBezTo>
                      <a:pt x="15184" y="4"/>
                      <a:pt x="15185" y="3"/>
                      <a:pt x="15186" y="3"/>
                    </a:cubicBezTo>
                    <a:close/>
                    <a:moveTo>
                      <a:pt x="15194" y="3"/>
                    </a:moveTo>
                    <a:lnTo>
                      <a:pt x="15194" y="3"/>
                    </a:lnTo>
                    <a:cubicBezTo>
                      <a:pt x="15195" y="3"/>
                      <a:pt x="15196" y="4"/>
                      <a:pt x="15196" y="5"/>
                    </a:cubicBezTo>
                    <a:cubicBezTo>
                      <a:pt x="15196" y="6"/>
                      <a:pt x="15195" y="7"/>
                      <a:pt x="15194" y="7"/>
                    </a:cubicBezTo>
                    <a:lnTo>
                      <a:pt x="15194" y="7"/>
                    </a:lnTo>
                    <a:cubicBezTo>
                      <a:pt x="15193" y="7"/>
                      <a:pt x="15192" y="6"/>
                      <a:pt x="15192" y="5"/>
                    </a:cubicBezTo>
                    <a:cubicBezTo>
                      <a:pt x="15192" y="4"/>
                      <a:pt x="15193" y="3"/>
                      <a:pt x="15194" y="3"/>
                    </a:cubicBezTo>
                    <a:close/>
                    <a:moveTo>
                      <a:pt x="15202" y="3"/>
                    </a:moveTo>
                    <a:lnTo>
                      <a:pt x="15202" y="3"/>
                    </a:lnTo>
                    <a:cubicBezTo>
                      <a:pt x="15203" y="3"/>
                      <a:pt x="15204" y="4"/>
                      <a:pt x="15204" y="5"/>
                    </a:cubicBezTo>
                    <a:cubicBezTo>
                      <a:pt x="15204" y="6"/>
                      <a:pt x="15203" y="7"/>
                      <a:pt x="15202" y="7"/>
                    </a:cubicBezTo>
                    <a:lnTo>
                      <a:pt x="15202" y="7"/>
                    </a:lnTo>
                    <a:cubicBezTo>
                      <a:pt x="15201" y="7"/>
                      <a:pt x="15200" y="6"/>
                      <a:pt x="15200" y="5"/>
                    </a:cubicBezTo>
                    <a:cubicBezTo>
                      <a:pt x="15200" y="4"/>
                      <a:pt x="15201" y="3"/>
                      <a:pt x="15202" y="3"/>
                    </a:cubicBezTo>
                    <a:close/>
                    <a:moveTo>
                      <a:pt x="15210" y="3"/>
                    </a:moveTo>
                    <a:lnTo>
                      <a:pt x="15210" y="3"/>
                    </a:lnTo>
                    <a:cubicBezTo>
                      <a:pt x="15211" y="3"/>
                      <a:pt x="15212" y="4"/>
                      <a:pt x="15212" y="5"/>
                    </a:cubicBezTo>
                    <a:cubicBezTo>
                      <a:pt x="15212" y="6"/>
                      <a:pt x="15211" y="7"/>
                      <a:pt x="15210" y="7"/>
                    </a:cubicBezTo>
                    <a:lnTo>
                      <a:pt x="15210" y="7"/>
                    </a:lnTo>
                    <a:cubicBezTo>
                      <a:pt x="15209" y="7"/>
                      <a:pt x="15208" y="6"/>
                      <a:pt x="15208" y="5"/>
                    </a:cubicBezTo>
                    <a:cubicBezTo>
                      <a:pt x="15208" y="4"/>
                      <a:pt x="15209" y="3"/>
                      <a:pt x="15210" y="3"/>
                    </a:cubicBezTo>
                    <a:close/>
                    <a:moveTo>
                      <a:pt x="15218" y="3"/>
                    </a:moveTo>
                    <a:lnTo>
                      <a:pt x="15218" y="3"/>
                    </a:lnTo>
                    <a:cubicBezTo>
                      <a:pt x="15219" y="3"/>
                      <a:pt x="15220" y="4"/>
                      <a:pt x="15220" y="5"/>
                    </a:cubicBezTo>
                    <a:cubicBezTo>
                      <a:pt x="15220" y="6"/>
                      <a:pt x="15219" y="7"/>
                      <a:pt x="15218" y="7"/>
                    </a:cubicBezTo>
                    <a:lnTo>
                      <a:pt x="15218" y="7"/>
                    </a:lnTo>
                    <a:cubicBezTo>
                      <a:pt x="15217" y="7"/>
                      <a:pt x="15216" y="6"/>
                      <a:pt x="15216" y="5"/>
                    </a:cubicBezTo>
                    <a:cubicBezTo>
                      <a:pt x="15216" y="4"/>
                      <a:pt x="15217" y="3"/>
                      <a:pt x="15218" y="3"/>
                    </a:cubicBezTo>
                    <a:close/>
                    <a:moveTo>
                      <a:pt x="15226" y="3"/>
                    </a:moveTo>
                    <a:lnTo>
                      <a:pt x="15226" y="3"/>
                    </a:lnTo>
                    <a:cubicBezTo>
                      <a:pt x="15227" y="3"/>
                      <a:pt x="15228" y="4"/>
                      <a:pt x="15228" y="5"/>
                    </a:cubicBezTo>
                    <a:cubicBezTo>
                      <a:pt x="15228" y="6"/>
                      <a:pt x="15227" y="7"/>
                      <a:pt x="15226" y="7"/>
                    </a:cubicBezTo>
                    <a:lnTo>
                      <a:pt x="15226" y="7"/>
                    </a:lnTo>
                    <a:cubicBezTo>
                      <a:pt x="15225" y="7"/>
                      <a:pt x="15224" y="6"/>
                      <a:pt x="15224" y="5"/>
                    </a:cubicBezTo>
                    <a:cubicBezTo>
                      <a:pt x="15224" y="4"/>
                      <a:pt x="15225" y="3"/>
                      <a:pt x="15226" y="3"/>
                    </a:cubicBezTo>
                    <a:close/>
                    <a:moveTo>
                      <a:pt x="15234" y="3"/>
                    </a:moveTo>
                    <a:lnTo>
                      <a:pt x="15234" y="3"/>
                    </a:lnTo>
                    <a:cubicBezTo>
                      <a:pt x="15235" y="3"/>
                      <a:pt x="15236" y="4"/>
                      <a:pt x="15236" y="5"/>
                    </a:cubicBezTo>
                    <a:cubicBezTo>
                      <a:pt x="15236" y="6"/>
                      <a:pt x="15235" y="7"/>
                      <a:pt x="15234" y="7"/>
                    </a:cubicBezTo>
                    <a:lnTo>
                      <a:pt x="15234" y="7"/>
                    </a:lnTo>
                    <a:cubicBezTo>
                      <a:pt x="15233" y="7"/>
                      <a:pt x="15232" y="6"/>
                      <a:pt x="15232" y="5"/>
                    </a:cubicBezTo>
                    <a:cubicBezTo>
                      <a:pt x="15232" y="4"/>
                      <a:pt x="15233" y="3"/>
                      <a:pt x="15234" y="3"/>
                    </a:cubicBezTo>
                    <a:close/>
                    <a:moveTo>
                      <a:pt x="15242" y="3"/>
                    </a:moveTo>
                    <a:lnTo>
                      <a:pt x="15242" y="3"/>
                    </a:lnTo>
                    <a:cubicBezTo>
                      <a:pt x="15243" y="3"/>
                      <a:pt x="15244" y="4"/>
                      <a:pt x="15244" y="5"/>
                    </a:cubicBezTo>
                    <a:cubicBezTo>
                      <a:pt x="15244" y="6"/>
                      <a:pt x="15243" y="7"/>
                      <a:pt x="15242" y="7"/>
                    </a:cubicBezTo>
                    <a:lnTo>
                      <a:pt x="15242" y="7"/>
                    </a:lnTo>
                    <a:cubicBezTo>
                      <a:pt x="15241" y="7"/>
                      <a:pt x="15240" y="6"/>
                      <a:pt x="15240" y="5"/>
                    </a:cubicBezTo>
                    <a:cubicBezTo>
                      <a:pt x="15240" y="4"/>
                      <a:pt x="15241" y="3"/>
                      <a:pt x="15242" y="3"/>
                    </a:cubicBezTo>
                    <a:close/>
                    <a:moveTo>
                      <a:pt x="15250" y="3"/>
                    </a:moveTo>
                    <a:lnTo>
                      <a:pt x="15250" y="3"/>
                    </a:lnTo>
                    <a:cubicBezTo>
                      <a:pt x="15251" y="3"/>
                      <a:pt x="15252" y="4"/>
                      <a:pt x="15252" y="5"/>
                    </a:cubicBezTo>
                    <a:cubicBezTo>
                      <a:pt x="15252" y="6"/>
                      <a:pt x="15251" y="7"/>
                      <a:pt x="15250" y="7"/>
                    </a:cubicBezTo>
                    <a:lnTo>
                      <a:pt x="15250" y="7"/>
                    </a:lnTo>
                    <a:cubicBezTo>
                      <a:pt x="15249" y="7"/>
                      <a:pt x="15248" y="6"/>
                      <a:pt x="15248" y="5"/>
                    </a:cubicBezTo>
                    <a:cubicBezTo>
                      <a:pt x="15248" y="4"/>
                      <a:pt x="15249" y="3"/>
                      <a:pt x="15250" y="3"/>
                    </a:cubicBezTo>
                    <a:close/>
                    <a:moveTo>
                      <a:pt x="15258" y="3"/>
                    </a:moveTo>
                    <a:lnTo>
                      <a:pt x="15258" y="3"/>
                    </a:lnTo>
                    <a:cubicBezTo>
                      <a:pt x="15259" y="3"/>
                      <a:pt x="15260" y="4"/>
                      <a:pt x="15260" y="5"/>
                    </a:cubicBezTo>
                    <a:cubicBezTo>
                      <a:pt x="15260" y="6"/>
                      <a:pt x="15259" y="7"/>
                      <a:pt x="15258" y="7"/>
                    </a:cubicBezTo>
                    <a:lnTo>
                      <a:pt x="15258" y="7"/>
                    </a:lnTo>
                    <a:cubicBezTo>
                      <a:pt x="15257" y="7"/>
                      <a:pt x="15256" y="6"/>
                      <a:pt x="15256" y="5"/>
                    </a:cubicBezTo>
                    <a:cubicBezTo>
                      <a:pt x="15256" y="4"/>
                      <a:pt x="15257" y="3"/>
                      <a:pt x="15258" y="3"/>
                    </a:cubicBezTo>
                    <a:close/>
                    <a:moveTo>
                      <a:pt x="15266" y="3"/>
                    </a:moveTo>
                    <a:lnTo>
                      <a:pt x="15266" y="3"/>
                    </a:lnTo>
                    <a:cubicBezTo>
                      <a:pt x="15267" y="3"/>
                      <a:pt x="15268" y="4"/>
                      <a:pt x="15268" y="5"/>
                    </a:cubicBezTo>
                    <a:cubicBezTo>
                      <a:pt x="15268" y="6"/>
                      <a:pt x="15267" y="7"/>
                      <a:pt x="15266" y="7"/>
                    </a:cubicBezTo>
                    <a:lnTo>
                      <a:pt x="15266" y="7"/>
                    </a:lnTo>
                    <a:cubicBezTo>
                      <a:pt x="15265" y="7"/>
                      <a:pt x="15264" y="6"/>
                      <a:pt x="15264" y="5"/>
                    </a:cubicBezTo>
                    <a:cubicBezTo>
                      <a:pt x="15264" y="4"/>
                      <a:pt x="15265" y="3"/>
                      <a:pt x="15266" y="3"/>
                    </a:cubicBezTo>
                    <a:close/>
                    <a:moveTo>
                      <a:pt x="15274" y="3"/>
                    </a:moveTo>
                    <a:lnTo>
                      <a:pt x="15274" y="3"/>
                    </a:lnTo>
                    <a:cubicBezTo>
                      <a:pt x="15275" y="3"/>
                      <a:pt x="15276" y="4"/>
                      <a:pt x="15276" y="5"/>
                    </a:cubicBezTo>
                    <a:cubicBezTo>
                      <a:pt x="15276" y="6"/>
                      <a:pt x="15275" y="7"/>
                      <a:pt x="15274" y="7"/>
                    </a:cubicBezTo>
                    <a:lnTo>
                      <a:pt x="15274" y="7"/>
                    </a:lnTo>
                    <a:cubicBezTo>
                      <a:pt x="15273" y="7"/>
                      <a:pt x="15272" y="6"/>
                      <a:pt x="15272" y="5"/>
                    </a:cubicBezTo>
                    <a:cubicBezTo>
                      <a:pt x="15272" y="4"/>
                      <a:pt x="15273" y="3"/>
                      <a:pt x="15274" y="3"/>
                    </a:cubicBezTo>
                    <a:close/>
                    <a:moveTo>
                      <a:pt x="15282" y="3"/>
                    </a:moveTo>
                    <a:lnTo>
                      <a:pt x="15282" y="3"/>
                    </a:lnTo>
                    <a:cubicBezTo>
                      <a:pt x="15283" y="3"/>
                      <a:pt x="15284" y="4"/>
                      <a:pt x="15284" y="5"/>
                    </a:cubicBezTo>
                    <a:cubicBezTo>
                      <a:pt x="15284" y="6"/>
                      <a:pt x="15283" y="7"/>
                      <a:pt x="15282" y="7"/>
                    </a:cubicBezTo>
                    <a:lnTo>
                      <a:pt x="15282" y="7"/>
                    </a:lnTo>
                    <a:cubicBezTo>
                      <a:pt x="15281" y="7"/>
                      <a:pt x="15280" y="6"/>
                      <a:pt x="15280" y="5"/>
                    </a:cubicBezTo>
                    <a:cubicBezTo>
                      <a:pt x="15280" y="4"/>
                      <a:pt x="15281" y="3"/>
                      <a:pt x="15282" y="3"/>
                    </a:cubicBezTo>
                    <a:close/>
                    <a:moveTo>
                      <a:pt x="15290" y="3"/>
                    </a:moveTo>
                    <a:lnTo>
                      <a:pt x="15290" y="3"/>
                    </a:lnTo>
                    <a:cubicBezTo>
                      <a:pt x="15291" y="3"/>
                      <a:pt x="15292" y="4"/>
                      <a:pt x="15292" y="5"/>
                    </a:cubicBezTo>
                    <a:cubicBezTo>
                      <a:pt x="15292" y="6"/>
                      <a:pt x="15291" y="7"/>
                      <a:pt x="15290" y="7"/>
                    </a:cubicBezTo>
                    <a:lnTo>
                      <a:pt x="15290" y="7"/>
                    </a:lnTo>
                    <a:cubicBezTo>
                      <a:pt x="15289" y="7"/>
                      <a:pt x="15288" y="6"/>
                      <a:pt x="15288" y="5"/>
                    </a:cubicBezTo>
                    <a:cubicBezTo>
                      <a:pt x="15288" y="4"/>
                      <a:pt x="15289" y="3"/>
                      <a:pt x="15290" y="3"/>
                    </a:cubicBezTo>
                    <a:close/>
                    <a:moveTo>
                      <a:pt x="15298" y="3"/>
                    </a:moveTo>
                    <a:lnTo>
                      <a:pt x="15298" y="3"/>
                    </a:lnTo>
                    <a:cubicBezTo>
                      <a:pt x="15299" y="3"/>
                      <a:pt x="15300" y="4"/>
                      <a:pt x="15300" y="5"/>
                    </a:cubicBezTo>
                    <a:cubicBezTo>
                      <a:pt x="15300" y="6"/>
                      <a:pt x="15299" y="7"/>
                      <a:pt x="15298" y="7"/>
                    </a:cubicBezTo>
                    <a:lnTo>
                      <a:pt x="15298" y="7"/>
                    </a:lnTo>
                    <a:cubicBezTo>
                      <a:pt x="15297" y="7"/>
                      <a:pt x="15296" y="6"/>
                      <a:pt x="15296" y="5"/>
                    </a:cubicBezTo>
                    <a:cubicBezTo>
                      <a:pt x="15296" y="4"/>
                      <a:pt x="15297" y="3"/>
                      <a:pt x="15298" y="3"/>
                    </a:cubicBezTo>
                    <a:close/>
                    <a:moveTo>
                      <a:pt x="15306" y="3"/>
                    </a:moveTo>
                    <a:lnTo>
                      <a:pt x="15306" y="3"/>
                    </a:lnTo>
                    <a:cubicBezTo>
                      <a:pt x="15307" y="3"/>
                      <a:pt x="15308" y="4"/>
                      <a:pt x="15308" y="5"/>
                    </a:cubicBezTo>
                    <a:cubicBezTo>
                      <a:pt x="15308" y="6"/>
                      <a:pt x="15307" y="7"/>
                      <a:pt x="15306" y="7"/>
                    </a:cubicBezTo>
                    <a:lnTo>
                      <a:pt x="15306" y="7"/>
                    </a:lnTo>
                    <a:cubicBezTo>
                      <a:pt x="15305" y="7"/>
                      <a:pt x="15304" y="6"/>
                      <a:pt x="15304" y="5"/>
                    </a:cubicBezTo>
                    <a:cubicBezTo>
                      <a:pt x="15304" y="4"/>
                      <a:pt x="15305" y="3"/>
                      <a:pt x="15306" y="3"/>
                    </a:cubicBezTo>
                    <a:close/>
                    <a:moveTo>
                      <a:pt x="15314" y="3"/>
                    </a:moveTo>
                    <a:lnTo>
                      <a:pt x="15314" y="3"/>
                    </a:lnTo>
                    <a:cubicBezTo>
                      <a:pt x="15315" y="3"/>
                      <a:pt x="15316" y="4"/>
                      <a:pt x="15316" y="5"/>
                    </a:cubicBezTo>
                    <a:cubicBezTo>
                      <a:pt x="15316" y="6"/>
                      <a:pt x="15315" y="7"/>
                      <a:pt x="15314" y="7"/>
                    </a:cubicBezTo>
                    <a:lnTo>
                      <a:pt x="15314" y="7"/>
                    </a:lnTo>
                    <a:cubicBezTo>
                      <a:pt x="15313" y="7"/>
                      <a:pt x="15312" y="6"/>
                      <a:pt x="15312" y="5"/>
                    </a:cubicBezTo>
                    <a:cubicBezTo>
                      <a:pt x="15312" y="4"/>
                      <a:pt x="15313" y="3"/>
                      <a:pt x="15314" y="3"/>
                    </a:cubicBezTo>
                    <a:close/>
                    <a:moveTo>
                      <a:pt x="15322" y="3"/>
                    </a:moveTo>
                    <a:lnTo>
                      <a:pt x="15322" y="3"/>
                    </a:lnTo>
                    <a:cubicBezTo>
                      <a:pt x="15323" y="3"/>
                      <a:pt x="15324" y="4"/>
                      <a:pt x="15324" y="5"/>
                    </a:cubicBezTo>
                    <a:cubicBezTo>
                      <a:pt x="15324" y="6"/>
                      <a:pt x="15323" y="7"/>
                      <a:pt x="15322" y="7"/>
                    </a:cubicBezTo>
                    <a:lnTo>
                      <a:pt x="15322" y="7"/>
                    </a:lnTo>
                    <a:cubicBezTo>
                      <a:pt x="15321" y="7"/>
                      <a:pt x="15320" y="6"/>
                      <a:pt x="15320" y="5"/>
                    </a:cubicBezTo>
                    <a:cubicBezTo>
                      <a:pt x="15320" y="4"/>
                      <a:pt x="15321" y="3"/>
                      <a:pt x="15322" y="3"/>
                    </a:cubicBezTo>
                    <a:close/>
                    <a:moveTo>
                      <a:pt x="15330" y="3"/>
                    </a:moveTo>
                    <a:lnTo>
                      <a:pt x="15330" y="3"/>
                    </a:lnTo>
                    <a:cubicBezTo>
                      <a:pt x="15331" y="3"/>
                      <a:pt x="15332" y="4"/>
                      <a:pt x="15332" y="5"/>
                    </a:cubicBezTo>
                    <a:cubicBezTo>
                      <a:pt x="15332" y="6"/>
                      <a:pt x="15331" y="7"/>
                      <a:pt x="15330" y="7"/>
                    </a:cubicBezTo>
                    <a:lnTo>
                      <a:pt x="15330" y="7"/>
                    </a:lnTo>
                    <a:cubicBezTo>
                      <a:pt x="15329" y="7"/>
                      <a:pt x="15328" y="6"/>
                      <a:pt x="15328" y="5"/>
                    </a:cubicBezTo>
                    <a:cubicBezTo>
                      <a:pt x="15328" y="4"/>
                      <a:pt x="15329" y="3"/>
                      <a:pt x="15330" y="3"/>
                    </a:cubicBezTo>
                    <a:close/>
                    <a:moveTo>
                      <a:pt x="15338" y="3"/>
                    </a:moveTo>
                    <a:lnTo>
                      <a:pt x="15338" y="3"/>
                    </a:lnTo>
                    <a:cubicBezTo>
                      <a:pt x="15339" y="3"/>
                      <a:pt x="15340" y="4"/>
                      <a:pt x="15340" y="5"/>
                    </a:cubicBezTo>
                    <a:cubicBezTo>
                      <a:pt x="15340" y="6"/>
                      <a:pt x="15339" y="7"/>
                      <a:pt x="15338" y="7"/>
                    </a:cubicBezTo>
                    <a:lnTo>
                      <a:pt x="15338" y="7"/>
                    </a:lnTo>
                    <a:cubicBezTo>
                      <a:pt x="15337" y="7"/>
                      <a:pt x="15336" y="6"/>
                      <a:pt x="15336" y="5"/>
                    </a:cubicBezTo>
                    <a:cubicBezTo>
                      <a:pt x="15336" y="4"/>
                      <a:pt x="15337" y="3"/>
                      <a:pt x="15338" y="3"/>
                    </a:cubicBezTo>
                    <a:close/>
                    <a:moveTo>
                      <a:pt x="15346" y="3"/>
                    </a:moveTo>
                    <a:lnTo>
                      <a:pt x="15346" y="3"/>
                    </a:lnTo>
                    <a:cubicBezTo>
                      <a:pt x="15347" y="3"/>
                      <a:pt x="15348" y="4"/>
                      <a:pt x="15348" y="5"/>
                    </a:cubicBezTo>
                    <a:cubicBezTo>
                      <a:pt x="15348" y="6"/>
                      <a:pt x="15347" y="7"/>
                      <a:pt x="15346" y="7"/>
                    </a:cubicBezTo>
                    <a:lnTo>
                      <a:pt x="15346" y="7"/>
                    </a:lnTo>
                    <a:cubicBezTo>
                      <a:pt x="15345" y="7"/>
                      <a:pt x="15344" y="6"/>
                      <a:pt x="15344" y="5"/>
                    </a:cubicBezTo>
                    <a:cubicBezTo>
                      <a:pt x="15344" y="4"/>
                      <a:pt x="15345" y="3"/>
                      <a:pt x="15346" y="3"/>
                    </a:cubicBezTo>
                    <a:close/>
                    <a:moveTo>
                      <a:pt x="15354" y="3"/>
                    </a:moveTo>
                    <a:lnTo>
                      <a:pt x="15354" y="3"/>
                    </a:lnTo>
                    <a:cubicBezTo>
                      <a:pt x="15355" y="3"/>
                      <a:pt x="15356" y="4"/>
                      <a:pt x="15356" y="5"/>
                    </a:cubicBezTo>
                    <a:cubicBezTo>
                      <a:pt x="15356" y="6"/>
                      <a:pt x="15355" y="7"/>
                      <a:pt x="15354" y="7"/>
                    </a:cubicBezTo>
                    <a:lnTo>
                      <a:pt x="15354" y="7"/>
                    </a:lnTo>
                    <a:cubicBezTo>
                      <a:pt x="15353" y="7"/>
                      <a:pt x="15352" y="6"/>
                      <a:pt x="15352" y="5"/>
                    </a:cubicBezTo>
                    <a:cubicBezTo>
                      <a:pt x="15352" y="4"/>
                      <a:pt x="15353" y="3"/>
                      <a:pt x="15354" y="3"/>
                    </a:cubicBezTo>
                    <a:close/>
                    <a:moveTo>
                      <a:pt x="15362" y="3"/>
                    </a:moveTo>
                    <a:lnTo>
                      <a:pt x="15362" y="3"/>
                    </a:lnTo>
                    <a:cubicBezTo>
                      <a:pt x="15363" y="3"/>
                      <a:pt x="15364" y="4"/>
                      <a:pt x="15364" y="5"/>
                    </a:cubicBezTo>
                    <a:cubicBezTo>
                      <a:pt x="15364" y="6"/>
                      <a:pt x="15363" y="7"/>
                      <a:pt x="15362" y="7"/>
                    </a:cubicBezTo>
                    <a:lnTo>
                      <a:pt x="15362" y="7"/>
                    </a:lnTo>
                    <a:cubicBezTo>
                      <a:pt x="15361" y="7"/>
                      <a:pt x="15360" y="6"/>
                      <a:pt x="15360" y="5"/>
                    </a:cubicBezTo>
                    <a:cubicBezTo>
                      <a:pt x="15360" y="4"/>
                      <a:pt x="15361" y="3"/>
                      <a:pt x="15362" y="3"/>
                    </a:cubicBezTo>
                    <a:close/>
                    <a:moveTo>
                      <a:pt x="15370" y="3"/>
                    </a:moveTo>
                    <a:lnTo>
                      <a:pt x="15370" y="3"/>
                    </a:lnTo>
                    <a:cubicBezTo>
                      <a:pt x="15371" y="3"/>
                      <a:pt x="15372" y="4"/>
                      <a:pt x="15372" y="5"/>
                    </a:cubicBezTo>
                    <a:cubicBezTo>
                      <a:pt x="15372" y="6"/>
                      <a:pt x="15371" y="7"/>
                      <a:pt x="15370" y="7"/>
                    </a:cubicBezTo>
                    <a:lnTo>
                      <a:pt x="15370" y="7"/>
                    </a:lnTo>
                    <a:cubicBezTo>
                      <a:pt x="15369" y="7"/>
                      <a:pt x="15368" y="6"/>
                      <a:pt x="15368" y="5"/>
                    </a:cubicBezTo>
                    <a:cubicBezTo>
                      <a:pt x="15368" y="4"/>
                      <a:pt x="15369" y="3"/>
                      <a:pt x="15370" y="3"/>
                    </a:cubicBezTo>
                    <a:close/>
                    <a:moveTo>
                      <a:pt x="15378" y="3"/>
                    </a:moveTo>
                    <a:lnTo>
                      <a:pt x="15378" y="3"/>
                    </a:lnTo>
                    <a:cubicBezTo>
                      <a:pt x="15379" y="3"/>
                      <a:pt x="15380" y="4"/>
                      <a:pt x="15380" y="5"/>
                    </a:cubicBezTo>
                    <a:cubicBezTo>
                      <a:pt x="15380" y="6"/>
                      <a:pt x="15379" y="7"/>
                      <a:pt x="15378" y="7"/>
                    </a:cubicBezTo>
                    <a:lnTo>
                      <a:pt x="15378" y="7"/>
                    </a:lnTo>
                    <a:cubicBezTo>
                      <a:pt x="15377" y="7"/>
                      <a:pt x="15376" y="6"/>
                      <a:pt x="15376" y="5"/>
                    </a:cubicBezTo>
                    <a:cubicBezTo>
                      <a:pt x="15376" y="4"/>
                      <a:pt x="15377" y="3"/>
                      <a:pt x="15378" y="3"/>
                    </a:cubicBezTo>
                    <a:close/>
                    <a:moveTo>
                      <a:pt x="15386" y="3"/>
                    </a:moveTo>
                    <a:lnTo>
                      <a:pt x="15386" y="3"/>
                    </a:lnTo>
                    <a:cubicBezTo>
                      <a:pt x="15387" y="3"/>
                      <a:pt x="15388" y="4"/>
                      <a:pt x="15388" y="5"/>
                    </a:cubicBezTo>
                    <a:cubicBezTo>
                      <a:pt x="15388" y="6"/>
                      <a:pt x="15387" y="7"/>
                      <a:pt x="15386" y="7"/>
                    </a:cubicBezTo>
                    <a:lnTo>
                      <a:pt x="15386" y="7"/>
                    </a:lnTo>
                    <a:cubicBezTo>
                      <a:pt x="15385" y="7"/>
                      <a:pt x="15384" y="6"/>
                      <a:pt x="15384" y="5"/>
                    </a:cubicBezTo>
                    <a:cubicBezTo>
                      <a:pt x="15384" y="4"/>
                      <a:pt x="15385" y="3"/>
                      <a:pt x="15386" y="3"/>
                    </a:cubicBezTo>
                    <a:close/>
                    <a:moveTo>
                      <a:pt x="15394" y="3"/>
                    </a:moveTo>
                    <a:lnTo>
                      <a:pt x="15394" y="3"/>
                    </a:lnTo>
                    <a:cubicBezTo>
                      <a:pt x="15395" y="3"/>
                      <a:pt x="15396" y="4"/>
                      <a:pt x="15396" y="5"/>
                    </a:cubicBezTo>
                    <a:cubicBezTo>
                      <a:pt x="15396" y="6"/>
                      <a:pt x="15395" y="7"/>
                      <a:pt x="15394" y="7"/>
                    </a:cubicBezTo>
                    <a:lnTo>
                      <a:pt x="15394" y="7"/>
                    </a:lnTo>
                    <a:cubicBezTo>
                      <a:pt x="15393" y="7"/>
                      <a:pt x="15392" y="6"/>
                      <a:pt x="15392" y="5"/>
                    </a:cubicBezTo>
                    <a:cubicBezTo>
                      <a:pt x="15392" y="4"/>
                      <a:pt x="15393" y="3"/>
                      <a:pt x="15394" y="3"/>
                    </a:cubicBezTo>
                    <a:close/>
                    <a:moveTo>
                      <a:pt x="15402" y="3"/>
                    </a:moveTo>
                    <a:lnTo>
                      <a:pt x="15402" y="3"/>
                    </a:lnTo>
                    <a:cubicBezTo>
                      <a:pt x="15403" y="3"/>
                      <a:pt x="15404" y="4"/>
                      <a:pt x="15404" y="5"/>
                    </a:cubicBezTo>
                    <a:cubicBezTo>
                      <a:pt x="15404" y="6"/>
                      <a:pt x="15403" y="7"/>
                      <a:pt x="15402" y="7"/>
                    </a:cubicBezTo>
                    <a:lnTo>
                      <a:pt x="15402" y="7"/>
                    </a:lnTo>
                    <a:cubicBezTo>
                      <a:pt x="15401" y="7"/>
                      <a:pt x="15400" y="6"/>
                      <a:pt x="15400" y="5"/>
                    </a:cubicBezTo>
                    <a:cubicBezTo>
                      <a:pt x="15400" y="4"/>
                      <a:pt x="15401" y="3"/>
                      <a:pt x="15402" y="3"/>
                    </a:cubicBezTo>
                    <a:close/>
                    <a:moveTo>
                      <a:pt x="15410" y="3"/>
                    </a:moveTo>
                    <a:lnTo>
                      <a:pt x="15410" y="3"/>
                    </a:lnTo>
                    <a:cubicBezTo>
                      <a:pt x="15411" y="3"/>
                      <a:pt x="15412" y="4"/>
                      <a:pt x="15412" y="5"/>
                    </a:cubicBezTo>
                    <a:cubicBezTo>
                      <a:pt x="15412" y="6"/>
                      <a:pt x="15411" y="7"/>
                      <a:pt x="15410" y="7"/>
                    </a:cubicBezTo>
                    <a:lnTo>
                      <a:pt x="15410" y="7"/>
                    </a:lnTo>
                    <a:cubicBezTo>
                      <a:pt x="15409" y="7"/>
                      <a:pt x="15408" y="6"/>
                      <a:pt x="15408" y="5"/>
                    </a:cubicBezTo>
                    <a:cubicBezTo>
                      <a:pt x="15408" y="4"/>
                      <a:pt x="15409" y="3"/>
                      <a:pt x="15410" y="3"/>
                    </a:cubicBezTo>
                    <a:close/>
                    <a:moveTo>
                      <a:pt x="15418" y="3"/>
                    </a:moveTo>
                    <a:lnTo>
                      <a:pt x="15418" y="3"/>
                    </a:lnTo>
                    <a:cubicBezTo>
                      <a:pt x="15419" y="3"/>
                      <a:pt x="15420" y="4"/>
                      <a:pt x="15420" y="5"/>
                    </a:cubicBezTo>
                    <a:cubicBezTo>
                      <a:pt x="15420" y="6"/>
                      <a:pt x="15419" y="7"/>
                      <a:pt x="15418" y="7"/>
                    </a:cubicBezTo>
                    <a:lnTo>
                      <a:pt x="15418" y="7"/>
                    </a:lnTo>
                    <a:cubicBezTo>
                      <a:pt x="15417" y="7"/>
                      <a:pt x="15416" y="6"/>
                      <a:pt x="15416" y="5"/>
                    </a:cubicBezTo>
                    <a:cubicBezTo>
                      <a:pt x="15416" y="4"/>
                      <a:pt x="15417" y="3"/>
                      <a:pt x="15418" y="3"/>
                    </a:cubicBezTo>
                    <a:close/>
                    <a:moveTo>
                      <a:pt x="15426" y="3"/>
                    </a:moveTo>
                    <a:lnTo>
                      <a:pt x="15426" y="3"/>
                    </a:lnTo>
                    <a:cubicBezTo>
                      <a:pt x="15427" y="3"/>
                      <a:pt x="15428" y="4"/>
                      <a:pt x="15428" y="5"/>
                    </a:cubicBezTo>
                    <a:cubicBezTo>
                      <a:pt x="15428" y="6"/>
                      <a:pt x="15427" y="7"/>
                      <a:pt x="15426" y="7"/>
                    </a:cubicBezTo>
                    <a:lnTo>
                      <a:pt x="15426" y="7"/>
                    </a:lnTo>
                    <a:cubicBezTo>
                      <a:pt x="15425" y="7"/>
                      <a:pt x="15424" y="6"/>
                      <a:pt x="15424" y="5"/>
                    </a:cubicBezTo>
                    <a:cubicBezTo>
                      <a:pt x="15424" y="4"/>
                      <a:pt x="15425" y="3"/>
                      <a:pt x="15426" y="3"/>
                    </a:cubicBezTo>
                    <a:close/>
                    <a:moveTo>
                      <a:pt x="15434" y="3"/>
                    </a:moveTo>
                    <a:lnTo>
                      <a:pt x="15434" y="3"/>
                    </a:lnTo>
                    <a:cubicBezTo>
                      <a:pt x="15435" y="3"/>
                      <a:pt x="15436" y="4"/>
                      <a:pt x="15436" y="5"/>
                    </a:cubicBezTo>
                    <a:cubicBezTo>
                      <a:pt x="15436" y="6"/>
                      <a:pt x="15435" y="7"/>
                      <a:pt x="15434" y="7"/>
                    </a:cubicBezTo>
                    <a:lnTo>
                      <a:pt x="15434" y="7"/>
                    </a:lnTo>
                    <a:cubicBezTo>
                      <a:pt x="15433" y="7"/>
                      <a:pt x="15432" y="6"/>
                      <a:pt x="15432" y="5"/>
                    </a:cubicBezTo>
                    <a:cubicBezTo>
                      <a:pt x="15432" y="4"/>
                      <a:pt x="15433" y="3"/>
                      <a:pt x="15434" y="3"/>
                    </a:cubicBezTo>
                    <a:close/>
                    <a:moveTo>
                      <a:pt x="15442" y="3"/>
                    </a:moveTo>
                    <a:lnTo>
                      <a:pt x="15442" y="3"/>
                    </a:lnTo>
                    <a:cubicBezTo>
                      <a:pt x="15443" y="3"/>
                      <a:pt x="15444" y="4"/>
                      <a:pt x="15444" y="5"/>
                    </a:cubicBezTo>
                    <a:cubicBezTo>
                      <a:pt x="15444" y="6"/>
                      <a:pt x="15443" y="7"/>
                      <a:pt x="15442" y="7"/>
                    </a:cubicBezTo>
                    <a:lnTo>
                      <a:pt x="15442" y="7"/>
                    </a:lnTo>
                    <a:cubicBezTo>
                      <a:pt x="15441" y="7"/>
                      <a:pt x="15440" y="6"/>
                      <a:pt x="15440" y="5"/>
                    </a:cubicBezTo>
                    <a:cubicBezTo>
                      <a:pt x="15440" y="4"/>
                      <a:pt x="15441" y="3"/>
                      <a:pt x="15442" y="3"/>
                    </a:cubicBezTo>
                    <a:close/>
                    <a:moveTo>
                      <a:pt x="15450" y="3"/>
                    </a:moveTo>
                    <a:lnTo>
                      <a:pt x="15450" y="3"/>
                    </a:lnTo>
                    <a:cubicBezTo>
                      <a:pt x="15451" y="3"/>
                      <a:pt x="15452" y="4"/>
                      <a:pt x="15452" y="5"/>
                    </a:cubicBezTo>
                    <a:cubicBezTo>
                      <a:pt x="15452" y="6"/>
                      <a:pt x="15451" y="7"/>
                      <a:pt x="15450" y="7"/>
                    </a:cubicBezTo>
                    <a:lnTo>
                      <a:pt x="15450" y="7"/>
                    </a:lnTo>
                    <a:cubicBezTo>
                      <a:pt x="15449" y="7"/>
                      <a:pt x="15448" y="6"/>
                      <a:pt x="15448" y="5"/>
                    </a:cubicBezTo>
                    <a:cubicBezTo>
                      <a:pt x="15448" y="4"/>
                      <a:pt x="15449" y="3"/>
                      <a:pt x="15450" y="3"/>
                    </a:cubicBezTo>
                    <a:close/>
                    <a:moveTo>
                      <a:pt x="15458" y="3"/>
                    </a:moveTo>
                    <a:lnTo>
                      <a:pt x="15458" y="3"/>
                    </a:lnTo>
                    <a:cubicBezTo>
                      <a:pt x="15459" y="3"/>
                      <a:pt x="15460" y="4"/>
                      <a:pt x="15460" y="5"/>
                    </a:cubicBezTo>
                    <a:cubicBezTo>
                      <a:pt x="15460" y="6"/>
                      <a:pt x="15459" y="7"/>
                      <a:pt x="15458" y="7"/>
                    </a:cubicBezTo>
                    <a:lnTo>
                      <a:pt x="15458" y="7"/>
                    </a:lnTo>
                    <a:cubicBezTo>
                      <a:pt x="15457" y="7"/>
                      <a:pt x="15456" y="6"/>
                      <a:pt x="15456" y="5"/>
                    </a:cubicBezTo>
                    <a:cubicBezTo>
                      <a:pt x="15456" y="4"/>
                      <a:pt x="15457" y="3"/>
                      <a:pt x="15458" y="3"/>
                    </a:cubicBezTo>
                    <a:close/>
                    <a:moveTo>
                      <a:pt x="15466" y="3"/>
                    </a:moveTo>
                    <a:lnTo>
                      <a:pt x="15466" y="3"/>
                    </a:lnTo>
                    <a:cubicBezTo>
                      <a:pt x="15467" y="3"/>
                      <a:pt x="15468" y="4"/>
                      <a:pt x="15468" y="5"/>
                    </a:cubicBezTo>
                    <a:cubicBezTo>
                      <a:pt x="15468" y="6"/>
                      <a:pt x="15467" y="7"/>
                      <a:pt x="15466" y="7"/>
                    </a:cubicBezTo>
                    <a:lnTo>
                      <a:pt x="15466" y="7"/>
                    </a:lnTo>
                    <a:cubicBezTo>
                      <a:pt x="15465" y="7"/>
                      <a:pt x="15464" y="6"/>
                      <a:pt x="15464" y="5"/>
                    </a:cubicBezTo>
                    <a:cubicBezTo>
                      <a:pt x="15464" y="4"/>
                      <a:pt x="15465" y="3"/>
                      <a:pt x="15466" y="3"/>
                    </a:cubicBezTo>
                    <a:close/>
                    <a:moveTo>
                      <a:pt x="15474" y="3"/>
                    </a:moveTo>
                    <a:lnTo>
                      <a:pt x="15474" y="3"/>
                    </a:lnTo>
                    <a:cubicBezTo>
                      <a:pt x="15475" y="3"/>
                      <a:pt x="15476" y="4"/>
                      <a:pt x="15476" y="5"/>
                    </a:cubicBezTo>
                    <a:cubicBezTo>
                      <a:pt x="15476" y="6"/>
                      <a:pt x="15475" y="7"/>
                      <a:pt x="15474" y="7"/>
                    </a:cubicBezTo>
                    <a:lnTo>
                      <a:pt x="15474" y="7"/>
                    </a:lnTo>
                    <a:cubicBezTo>
                      <a:pt x="15473" y="7"/>
                      <a:pt x="15472" y="6"/>
                      <a:pt x="15472" y="5"/>
                    </a:cubicBezTo>
                    <a:cubicBezTo>
                      <a:pt x="15472" y="4"/>
                      <a:pt x="15473" y="3"/>
                      <a:pt x="15474" y="3"/>
                    </a:cubicBezTo>
                    <a:close/>
                    <a:moveTo>
                      <a:pt x="15482" y="3"/>
                    </a:moveTo>
                    <a:lnTo>
                      <a:pt x="15482" y="3"/>
                    </a:lnTo>
                    <a:cubicBezTo>
                      <a:pt x="15483" y="3"/>
                      <a:pt x="15484" y="4"/>
                      <a:pt x="15484" y="5"/>
                    </a:cubicBezTo>
                    <a:cubicBezTo>
                      <a:pt x="15484" y="6"/>
                      <a:pt x="15483" y="7"/>
                      <a:pt x="15482" y="7"/>
                    </a:cubicBezTo>
                    <a:lnTo>
                      <a:pt x="15482" y="7"/>
                    </a:lnTo>
                    <a:cubicBezTo>
                      <a:pt x="15481" y="7"/>
                      <a:pt x="15480" y="6"/>
                      <a:pt x="15480" y="5"/>
                    </a:cubicBezTo>
                    <a:cubicBezTo>
                      <a:pt x="15480" y="4"/>
                      <a:pt x="15481" y="3"/>
                      <a:pt x="15482" y="3"/>
                    </a:cubicBezTo>
                    <a:close/>
                    <a:moveTo>
                      <a:pt x="15490" y="3"/>
                    </a:moveTo>
                    <a:lnTo>
                      <a:pt x="15490" y="3"/>
                    </a:lnTo>
                    <a:cubicBezTo>
                      <a:pt x="15491" y="3"/>
                      <a:pt x="15492" y="4"/>
                      <a:pt x="15492" y="5"/>
                    </a:cubicBezTo>
                    <a:cubicBezTo>
                      <a:pt x="15492" y="6"/>
                      <a:pt x="15491" y="7"/>
                      <a:pt x="15490" y="7"/>
                    </a:cubicBezTo>
                    <a:lnTo>
                      <a:pt x="15490" y="7"/>
                    </a:lnTo>
                    <a:cubicBezTo>
                      <a:pt x="15489" y="7"/>
                      <a:pt x="15488" y="6"/>
                      <a:pt x="15488" y="5"/>
                    </a:cubicBezTo>
                    <a:cubicBezTo>
                      <a:pt x="15488" y="4"/>
                      <a:pt x="15489" y="3"/>
                      <a:pt x="15490" y="3"/>
                    </a:cubicBezTo>
                    <a:close/>
                    <a:moveTo>
                      <a:pt x="15498" y="3"/>
                    </a:moveTo>
                    <a:lnTo>
                      <a:pt x="15498" y="3"/>
                    </a:lnTo>
                    <a:cubicBezTo>
                      <a:pt x="15499" y="3"/>
                      <a:pt x="15500" y="4"/>
                      <a:pt x="15500" y="5"/>
                    </a:cubicBezTo>
                    <a:cubicBezTo>
                      <a:pt x="15500" y="6"/>
                      <a:pt x="15499" y="7"/>
                      <a:pt x="15498" y="7"/>
                    </a:cubicBezTo>
                    <a:lnTo>
                      <a:pt x="15498" y="7"/>
                    </a:lnTo>
                    <a:cubicBezTo>
                      <a:pt x="15497" y="7"/>
                      <a:pt x="15496" y="6"/>
                      <a:pt x="15496" y="5"/>
                    </a:cubicBezTo>
                    <a:cubicBezTo>
                      <a:pt x="15496" y="4"/>
                      <a:pt x="15497" y="3"/>
                      <a:pt x="15498" y="3"/>
                    </a:cubicBezTo>
                    <a:close/>
                    <a:moveTo>
                      <a:pt x="15506" y="3"/>
                    </a:moveTo>
                    <a:lnTo>
                      <a:pt x="15506" y="3"/>
                    </a:lnTo>
                    <a:cubicBezTo>
                      <a:pt x="15507" y="3"/>
                      <a:pt x="15508" y="4"/>
                      <a:pt x="15508" y="5"/>
                    </a:cubicBezTo>
                    <a:cubicBezTo>
                      <a:pt x="15508" y="6"/>
                      <a:pt x="15507" y="7"/>
                      <a:pt x="15506" y="7"/>
                    </a:cubicBezTo>
                    <a:lnTo>
                      <a:pt x="15506" y="7"/>
                    </a:lnTo>
                    <a:cubicBezTo>
                      <a:pt x="15505" y="7"/>
                      <a:pt x="15504" y="6"/>
                      <a:pt x="15504" y="5"/>
                    </a:cubicBezTo>
                    <a:cubicBezTo>
                      <a:pt x="15504" y="4"/>
                      <a:pt x="15505" y="3"/>
                      <a:pt x="15506" y="3"/>
                    </a:cubicBezTo>
                    <a:close/>
                    <a:moveTo>
                      <a:pt x="15514" y="3"/>
                    </a:moveTo>
                    <a:lnTo>
                      <a:pt x="15514" y="3"/>
                    </a:lnTo>
                    <a:cubicBezTo>
                      <a:pt x="15515" y="3"/>
                      <a:pt x="15516" y="4"/>
                      <a:pt x="15516" y="5"/>
                    </a:cubicBezTo>
                    <a:cubicBezTo>
                      <a:pt x="15516" y="6"/>
                      <a:pt x="15515" y="7"/>
                      <a:pt x="15514" y="7"/>
                    </a:cubicBezTo>
                    <a:lnTo>
                      <a:pt x="15514" y="7"/>
                    </a:lnTo>
                    <a:cubicBezTo>
                      <a:pt x="15513" y="7"/>
                      <a:pt x="15512" y="6"/>
                      <a:pt x="15512" y="5"/>
                    </a:cubicBezTo>
                    <a:cubicBezTo>
                      <a:pt x="15512" y="4"/>
                      <a:pt x="15513" y="3"/>
                      <a:pt x="15514" y="3"/>
                    </a:cubicBezTo>
                    <a:close/>
                    <a:moveTo>
                      <a:pt x="15522" y="3"/>
                    </a:moveTo>
                    <a:lnTo>
                      <a:pt x="15522" y="3"/>
                    </a:lnTo>
                    <a:cubicBezTo>
                      <a:pt x="15523" y="3"/>
                      <a:pt x="15524" y="4"/>
                      <a:pt x="15524" y="5"/>
                    </a:cubicBezTo>
                    <a:cubicBezTo>
                      <a:pt x="15524" y="6"/>
                      <a:pt x="15523" y="7"/>
                      <a:pt x="15522" y="7"/>
                    </a:cubicBezTo>
                    <a:lnTo>
                      <a:pt x="15522" y="7"/>
                    </a:lnTo>
                    <a:cubicBezTo>
                      <a:pt x="15521" y="7"/>
                      <a:pt x="15520" y="6"/>
                      <a:pt x="15520" y="5"/>
                    </a:cubicBezTo>
                    <a:cubicBezTo>
                      <a:pt x="15520" y="4"/>
                      <a:pt x="15521" y="3"/>
                      <a:pt x="15522" y="3"/>
                    </a:cubicBezTo>
                    <a:close/>
                    <a:moveTo>
                      <a:pt x="15530" y="3"/>
                    </a:moveTo>
                    <a:lnTo>
                      <a:pt x="15530" y="3"/>
                    </a:lnTo>
                    <a:cubicBezTo>
                      <a:pt x="15532" y="3"/>
                      <a:pt x="15532" y="4"/>
                      <a:pt x="15532" y="5"/>
                    </a:cubicBezTo>
                    <a:cubicBezTo>
                      <a:pt x="15532" y="6"/>
                      <a:pt x="15532" y="7"/>
                      <a:pt x="15530" y="7"/>
                    </a:cubicBezTo>
                    <a:lnTo>
                      <a:pt x="15530" y="7"/>
                    </a:lnTo>
                    <a:cubicBezTo>
                      <a:pt x="15529" y="7"/>
                      <a:pt x="15528" y="6"/>
                      <a:pt x="15528" y="5"/>
                    </a:cubicBezTo>
                    <a:cubicBezTo>
                      <a:pt x="15528" y="4"/>
                      <a:pt x="15529" y="3"/>
                      <a:pt x="15530" y="3"/>
                    </a:cubicBezTo>
                    <a:close/>
                    <a:moveTo>
                      <a:pt x="15538" y="3"/>
                    </a:moveTo>
                    <a:lnTo>
                      <a:pt x="15538" y="3"/>
                    </a:lnTo>
                    <a:cubicBezTo>
                      <a:pt x="15540" y="3"/>
                      <a:pt x="15540" y="4"/>
                      <a:pt x="15540" y="5"/>
                    </a:cubicBezTo>
                    <a:cubicBezTo>
                      <a:pt x="15540" y="6"/>
                      <a:pt x="15540" y="7"/>
                      <a:pt x="15538" y="7"/>
                    </a:cubicBezTo>
                    <a:lnTo>
                      <a:pt x="15538" y="7"/>
                    </a:lnTo>
                    <a:cubicBezTo>
                      <a:pt x="15537" y="7"/>
                      <a:pt x="15536" y="6"/>
                      <a:pt x="15536" y="5"/>
                    </a:cubicBezTo>
                    <a:cubicBezTo>
                      <a:pt x="15536" y="4"/>
                      <a:pt x="15537" y="3"/>
                      <a:pt x="15538" y="3"/>
                    </a:cubicBezTo>
                    <a:close/>
                    <a:moveTo>
                      <a:pt x="15546" y="3"/>
                    </a:moveTo>
                    <a:lnTo>
                      <a:pt x="15546" y="3"/>
                    </a:lnTo>
                    <a:cubicBezTo>
                      <a:pt x="15548" y="3"/>
                      <a:pt x="15548" y="4"/>
                      <a:pt x="15548" y="5"/>
                    </a:cubicBezTo>
                    <a:cubicBezTo>
                      <a:pt x="15548" y="6"/>
                      <a:pt x="15548" y="7"/>
                      <a:pt x="15546" y="7"/>
                    </a:cubicBezTo>
                    <a:lnTo>
                      <a:pt x="15546" y="7"/>
                    </a:lnTo>
                    <a:cubicBezTo>
                      <a:pt x="15545" y="7"/>
                      <a:pt x="15544" y="6"/>
                      <a:pt x="15544" y="5"/>
                    </a:cubicBezTo>
                    <a:cubicBezTo>
                      <a:pt x="15544" y="4"/>
                      <a:pt x="15545" y="3"/>
                      <a:pt x="15546" y="3"/>
                    </a:cubicBezTo>
                    <a:close/>
                    <a:moveTo>
                      <a:pt x="15554" y="3"/>
                    </a:moveTo>
                    <a:lnTo>
                      <a:pt x="15554" y="3"/>
                    </a:lnTo>
                    <a:cubicBezTo>
                      <a:pt x="15556" y="3"/>
                      <a:pt x="15556" y="4"/>
                      <a:pt x="15556" y="5"/>
                    </a:cubicBezTo>
                    <a:cubicBezTo>
                      <a:pt x="15556" y="6"/>
                      <a:pt x="15556" y="7"/>
                      <a:pt x="15554" y="7"/>
                    </a:cubicBezTo>
                    <a:lnTo>
                      <a:pt x="15554" y="7"/>
                    </a:lnTo>
                    <a:cubicBezTo>
                      <a:pt x="15553" y="7"/>
                      <a:pt x="15552" y="6"/>
                      <a:pt x="15552" y="5"/>
                    </a:cubicBezTo>
                    <a:cubicBezTo>
                      <a:pt x="15552" y="4"/>
                      <a:pt x="15553" y="3"/>
                      <a:pt x="15554" y="3"/>
                    </a:cubicBezTo>
                    <a:close/>
                    <a:moveTo>
                      <a:pt x="15562" y="3"/>
                    </a:moveTo>
                    <a:lnTo>
                      <a:pt x="15562" y="3"/>
                    </a:lnTo>
                    <a:cubicBezTo>
                      <a:pt x="15564" y="3"/>
                      <a:pt x="15564" y="4"/>
                      <a:pt x="15564" y="5"/>
                    </a:cubicBezTo>
                    <a:cubicBezTo>
                      <a:pt x="15564" y="6"/>
                      <a:pt x="15564" y="7"/>
                      <a:pt x="15562" y="7"/>
                    </a:cubicBezTo>
                    <a:lnTo>
                      <a:pt x="15562" y="7"/>
                    </a:lnTo>
                    <a:cubicBezTo>
                      <a:pt x="15561" y="7"/>
                      <a:pt x="15560" y="6"/>
                      <a:pt x="15560" y="5"/>
                    </a:cubicBezTo>
                    <a:cubicBezTo>
                      <a:pt x="15560" y="4"/>
                      <a:pt x="15561" y="3"/>
                      <a:pt x="15562" y="3"/>
                    </a:cubicBezTo>
                    <a:close/>
                    <a:moveTo>
                      <a:pt x="15570" y="3"/>
                    </a:moveTo>
                    <a:lnTo>
                      <a:pt x="15570" y="3"/>
                    </a:lnTo>
                    <a:cubicBezTo>
                      <a:pt x="15572" y="3"/>
                      <a:pt x="15572" y="4"/>
                      <a:pt x="15572" y="5"/>
                    </a:cubicBezTo>
                    <a:cubicBezTo>
                      <a:pt x="15572" y="6"/>
                      <a:pt x="15572" y="7"/>
                      <a:pt x="15570" y="7"/>
                    </a:cubicBezTo>
                    <a:lnTo>
                      <a:pt x="15570" y="7"/>
                    </a:lnTo>
                    <a:cubicBezTo>
                      <a:pt x="15569" y="7"/>
                      <a:pt x="15568" y="6"/>
                      <a:pt x="15568" y="5"/>
                    </a:cubicBezTo>
                    <a:cubicBezTo>
                      <a:pt x="15568" y="4"/>
                      <a:pt x="15569" y="3"/>
                      <a:pt x="15570" y="3"/>
                    </a:cubicBezTo>
                    <a:close/>
                    <a:moveTo>
                      <a:pt x="15578" y="3"/>
                    </a:moveTo>
                    <a:lnTo>
                      <a:pt x="15578" y="3"/>
                    </a:lnTo>
                    <a:cubicBezTo>
                      <a:pt x="15580" y="3"/>
                      <a:pt x="15580" y="4"/>
                      <a:pt x="15580" y="5"/>
                    </a:cubicBezTo>
                    <a:cubicBezTo>
                      <a:pt x="15580" y="6"/>
                      <a:pt x="15580" y="7"/>
                      <a:pt x="15578" y="7"/>
                    </a:cubicBezTo>
                    <a:lnTo>
                      <a:pt x="15578" y="7"/>
                    </a:lnTo>
                    <a:cubicBezTo>
                      <a:pt x="15577" y="7"/>
                      <a:pt x="15576" y="6"/>
                      <a:pt x="15576" y="5"/>
                    </a:cubicBezTo>
                    <a:cubicBezTo>
                      <a:pt x="15576" y="4"/>
                      <a:pt x="15577" y="3"/>
                      <a:pt x="15578" y="3"/>
                    </a:cubicBezTo>
                    <a:close/>
                    <a:moveTo>
                      <a:pt x="15586" y="3"/>
                    </a:moveTo>
                    <a:lnTo>
                      <a:pt x="15586" y="3"/>
                    </a:lnTo>
                    <a:cubicBezTo>
                      <a:pt x="15588" y="3"/>
                      <a:pt x="15588" y="4"/>
                      <a:pt x="15588" y="5"/>
                    </a:cubicBezTo>
                    <a:cubicBezTo>
                      <a:pt x="15588" y="6"/>
                      <a:pt x="15588" y="7"/>
                      <a:pt x="15586" y="7"/>
                    </a:cubicBezTo>
                    <a:lnTo>
                      <a:pt x="15586" y="7"/>
                    </a:lnTo>
                    <a:cubicBezTo>
                      <a:pt x="15585" y="7"/>
                      <a:pt x="15584" y="6"/>
                      <a:pt x="15584" y="5"/>
                    </a:cubicBezTo>
                    <a:cubicBezTo>
                      <a:pt x="15584" y="4"/>
                      <a:pt x="15585" y="3"/>
                      <a:pt x="15586" y="3"/>
                    </a:cubicBezTo>
                    <a:close/>
                    <a:moveTo>
                      <a:pt x="15594" y="3"/>
                    </a:moveTo>
                    <a:lnTo>
                      <a:pt x="15594" y="3"/>
                    </a:lnTo>
                    <a:cubicBezTo>
                      <a:pt x="15596" y="3"/>
                      <a:pt x="15596" y="4"/>
                      <a:pt x="15596" y="5"/>
                    </a:cubicBezTo>
                    <a:cubicBezTo>
                      <a:pt x="15596" y="6"/>
                      <a:pt x="15596" y="7"/>
                      <a:pt x="15594" y="7"/>
                    </a:cubicBezTo>
                    <a:lnTo>
                      <a:pt x="15594" y="7"/>
                    </a:lnTo>
                    <a:cubicBezTo>
                      <a:pt x="15593" y="7"/>
                      <a:pt x="15592" y="6"/>
                      <a:pt x="15592" y="5"/>
                    </a:cubicBezTo>
                    <a:cubicBezTo>
                      <a:pt x="15592" y="4"/>
                      <a:pt x="15593" y="3"/>
                      <a:pt x="15594" y="3"/>
                    </a:cubicBezTo>
                    <a:close/>
                    <a:moveTo>
                      <a:pt x="15602" y="3"/>
                    </a:moveTo>
                    <a:lnTo>
                      <a:pt x="15602" y="3"/>
                    </a:lnTo>
                    <a:cubicBezTo>
                      <a:pt x="15604" y="3"/>
                      <a:pt x="15604" y="4"/>
                      <a:pt x="15604" y="5"/>
                    </a:cubicBezTo>
                    <a:cubicBezTo>
                      <a:pt x="15604" y="6"/>
                      <a:pt x="15604" y="7"/>
                      <a:pt x="15602" y="7"/>
                    </a:cubicBezTo>
                    <a:lnTo>
                      <a:pt x="15602" y="7"/>
                    </a:lnTo>
                    <a:cubicBezTo>
                      <a:pt x="15601" y="7"/>
                      <a:pt x="15600" y="6"/>
                      <a:pt x="15600" y="5"/>
                    </a:cubicBezTo>
                    <a:cubicBezTo>
                      <a:pt x="15600" y="4"/>
                      <a:pt x="15601" y="3"/>
                      <a:pt x="15602" y="3"/>
                    </a:cubicBezTo>
                    <a:close/>
                    <a:moveTo>
                      <a:pt x="15610" y="3"/>
                    </a:moveTo>
                    <a:lnTo>
                      <a:pt x="15610" y="3"/>
                    </a:lnTo>
                    <a:cubicBezTo>
                      <a:pt x="15612" y="3"/>
                      <a:pt x="15612" y="4"/>
                      <a:pt x="15612" y="5"/>
                    </a:cubicBezTo>
                    <a:cubicBezTo>
                      <a:pt x="15612" y="6"/>
                      <a:pt x="15612" y="7"/>
                      <a:pt x="15610" y="7"/>
                    </a:cubicBezTo>
                    <a:lnTo>
                      <a:pt x="15610" y="7"/>
                    </a:lnTo>
                    <a:cubicBezTo>
                      <a:pt x="15609" y="7"/>
                      <a:pt x="15608" y="6"/>
                      <a:pt x="15608" y="5"/>
                    </a:cubicBezTo>
                    <a:cubicBezTo>
                      <a:pt x="15608" y="4"/>
                      <a:pt x="15609" y="3"/>
                      <a:pt x="15610" y="3"/>
                    </a:cubicBezTo>
                    <a:close/>
                    <a:moveTo>
                      <a:pt x="15618" y="3"/>
                    </a:moveTo>
                    <a:lnTo>
                      <a:pt x="15618" y="3"/>
                    </a:lnTo>
                    <a:cubicBezTo>
                      <a:pt x="15620" y="3"/>
                      <a:pt x="15620" y="4"/>
                      <a:pt x="15620" y="5"/>
                    </a:cubicBezTo>
                    <a:cubicBezTo>
                      <a:pt x="15620" y="6"/>
                      <a:pt x="15620" y="7"/>
                      <a:pt x="15618" y="7"/>
                    </a:cubicBezTo>
                    <a:lnTo>
                      <a:pt x="15618" y="7"/>
                    </a:lnTo>
                    <a:cubicBezTo>
                      <a:pt x="15617" y="7"/>
                      <a:pt x="15616" y="6"/>
                      <a:pt x="15616" y="5"/>
                    </a:cubicBezTo>
                    <a:cubicBezTo>
                      <a:pt x="15616" y="4"/>
                      <a:pt x="15617" y="3"/>
                      <a:pt x="15618" y="3"/>
                    </a:cubicBezTo>
                    <a:close/>
                    <a:moveTo>
                      <a:pt x="15626" y="3"/>
                    </a:moveTo>
                    <a:lnTo>
                      <a:pt x="15626" y="3"/>
                    </a:lnTo>
                    <a:cubicBezTo>
                      <a:pt x="15628" y="3"/>
                      <a:pt x="15628" y="4"/>
                      <a:pt x="15628" y="5"/>
                    </a:cubicBezTo>
                    <a:cubicBezTo>
                      <a:pt x="15628" y="6"/>
                      <a:pt x="15628" y="7"/>
                      <a:pt x="15626" y="7"/>
                    </a:cubicBezTo>
                    <a:lnTo>
                      <a:pt x="15626" y="7"/>
                    </a:lnTo>
                    <a:cubicBezTo>
                      <a:pt x="15625" y="7"/>
                      <a:pt x="15624" y="6"/>
                      <a:pt x="15624" y="5"/>
                    </a:cubicBezTo>
                    <a:cubicBezTo>
                      <a:pt x="15624" y="4"/>
                      <a:pt x="15625" y="3"/>
                      <a:pt x="15626" y="3"/>
                    </a:cubicBezTo>
                    <a:close/>
                    <a:moveTo>
                      <a:pt x="15634" y="3"/>
                    </a:moveTo>
                    <a:lnTo>
                      <a:pt x="15634" y="3"/>
                    </a:lnTo>
                    <a:cubicBezTo>
                      <a:pt x="15636" y="3"/>
                      <a:pt x="15636" y="4"/>
                      <a:pt x="15636" y="5"/>
                    </a:cubicBezTo>
                    <a:cubicBezTo>
                      <a:pt x="15636" y="6"/>
                      <a:pt x="15636" y="7"/>
                      <a:pt x="15634" y="7"/>
                    </a:cubicBezTo>
                    <a:lnTo>
                      <a:pt x="15634" y="7"/>
                    </a:lnTo>
                    <a:cubicBezTo>
                      <a:pt x="15633" y="7"/>
                      <a:pt x="15632" y="6"/>
                      <a:pt x="15632" y="5"/>
                    </a:cubicBezTo>
                    <a:cubicBezTo>
                      <a:pt x="15632" y="4"/>
                      <a:pt x="15633" y="3"/>
                      <a:pt x="15634" y="3"/>
                    </a:cubicBezTo>
                    <a:close/>
                    <a:moveTo>
                      <a:pt x="15642" y="3"/>
                    </a:moveTo>
                    <a:lnTo>
                      <a:pt x="15642" y="3"/>
                    </a:lnTo>
                    <a:cubicBezTo>
                      <a:pt x="15644" y="3"/>
                      <a:pt x="15644" y="4"/>
                      <a:pt x="15644" y="5"/>
                    </a:cubicBezTo>
                    <a:cubicBezTo>
                      <a:pt x="15644" y="6"/>
                      <a:pt x="15644" y="7"/>
                      <a:pt x="15642" y="7"/>
                    </a:cubicBezTo>
                    <a:lnTo>
                      <a:pt x="15642" y="7"/>
                    </a:lnTo>
                    <a:cubicBezTo>
                      <a:pt x="15641" y="7"/>
                      <a:pt x="15640" y="6"/>
                      <a:pt x="15640" y="5"/>
                    </a:cubicBezTo>
                    <a:cubicBezTo>
                      <a:pt x="15640" y="4"/>
                      <a:pt x="15641" y="3"/>
                      <a:pt x="15642" y="3"/>
                    </a:cubicBezTo>
                    <a:close/>
                    <a:moveTo>
                      <a:pt x="15650" y="3"/>
                    </a:moveTo>
                    <a:lnTo>
                      <a:pt x="15650" y="3"/>
                    </a:lnTo>
                    <a:cubicBezTo>
                      <a:pt x="15652" y="3"/>
                      <a:pt x="15652" y="4"/>
                      <a:pt x="15652" y="5"/>
                    </a:cubicBezTo>
                    <a:cubicBezTo>
                      <a:pt x="15652" y="6"/>
                      <a:pt x="15652" y="7"/>
                      <a:pt x="15650" y="7"/>
                    </a:cubicBezTo>
                    <a:lnTo>
                      <a:pt x="15650" y="7"/>
                    </a:lnTo>
                    <a:cubicBezTo>
                      <a:pt x="15649" y="7"/>
                      <a:pt x="15648" y="6"/>
                      <a:pt x="15648" y="5"/>
                    </a:cubicBezTo>
                    <a:cubicBezTo>
                      <a:pt x="15648" y="4"/>
                      <a:pt x="15649" y="3"/>
                      <a:pt x="15650" y="3"/>
                    </a:cubicBezTo>
                    <a:close/>
                    <a:moveTo>
                      <a:pt x="15658" y="3"/>
                    </a:moveTo>
                    <a:lnTo>
                      <a:pt x="15658" y="3"/>
                    </a:lnTo>
                    <a:cubicBezTo>
                      <a:pt x="15660" y="3"/>
                      <a:pt x="15660" y="4"/>
                      <a:pt x="15660" y="5"/>
                    </a:cubicBezTo>
                    <a:cubicBezTo>
                      <a:pt x="15660" y="6"/>
                      <a:pt x="15660" y="7"/>
                      <a:pt x="15658" y="7"/>
                    </a:cubicBezTo>
                    <a:lnTo>
                      <a:pt x="15658" y="7"/>
                    </a:lnTo>
                    <a:cubicBezTo>
                      <a:pt x="15657" y="7"/>
                      <a:pt x="15656" y="6"/>
                      <a:pt x="15656" y="5"/>
                    </a:cubicBezTo>
                    <a:cubicBezTo>
                      <a:pt x="15656" y="4"/>
                      <a:pt x="15657" y="3"/>
                      <a:pt x="15658" y="3"/>
                    </a:cubicBezTo>
                    <a:close/>
                    <a:moveTo>
                      <a:pt x="15666" y="3"/>
                    </a:moveTo>
                    <a:lnTo>
                      <a:pt x="15666" y="3"/>
                    </a:lnTo>
                    <a:cubicBezTo>
                      <a:pt x="15668" y="3"/>
                      <a:pt x="15668" y="4"/>
                      <a:pt x="15668" y="5"/>
                    </a:cubicBezTo>
                    <a:cubicBezTo>
                      <a:pt x="15668" y="6"/>
                      <a:pt x="15668" y="7"/>
                      <a:pt x="15666" y="7"/>
                    </a:cubicBezTo>
                    <a:lnTo>
                      <a:pt x="15666" y="7"/>
                    </a:lnTo>
                    <a:cubicBezTo>
                      <a:pt x="15665" y="7"/>
                      <a:pt x="15664" y="6"/>
                      <a:pt x="15664" y="5"/>
                    </a:cubicBezTo>
                    <a:cubicBezTo>
                      <a:pt x="15664" y="4"/>
                      <a:pt x="15665" y="3"/>
                      <a:pt x="15666" y="3"/>
                    </a:cubicBezTo>
                    <a:close/>
                    <a:moveTo>
                      <a:pt x="15674" y="3"/>
                    </a:moveTo>
                    <a:lnTo>
                      <a:pt x="15675" y="3"/>
                    </a:lnTo>
                    <a:cubicBezTo>
                      <a:pt x="15676" y="3"/>
                      <a:pt x="15677" y="4"/>
                      <a:pt x="15677" y="5"/>
                    </a:cubicBezTo>
                    <a:cubicBezTo>
                      <a:pt x="15677" y="6"/>
                      <a:pt x="15676" y="7"/>
                      <a:pt x="15675" y="7"/>
                    </a:cubicBezTo>
                    <a:lnTo>
                      <a:pt x="15674" y="7"/>
                    </a:lnTo>
                    <a:cubicBezTo>
                      <a:pt x="15673" y="7"/>
                      <a:pt x="15672" y="6"/>
                      <a:pt x="15672" y="5"/>
                    </a:cubicBezTo>
                    <a:cubicBezTo>
                      <a:pt x="15672" y="4"/>
                      <a:pt x="15673" y="3"/>
                      <a:pt x="15674" y="3"/>
                    </a:cubicBezTo>
                    <a:close/>
                    <a:moveTo>
                      <a:pt x="15683" y="3"/>
                    </a:moveTo>
                    <a:lnTo>
                      <a:pt x="15683" y="3"/>
                    </a:lnTo>
                    <a:cubicBezTo>
                      <a:pt x="15684" y="3"/>
                      <a:pt x="15685" y="4"/>
                      <a:pt x="15685" y="5"/>
                    </a:cubicBezTo>
                    <a:cubicBezTo>
                      <a:pt x="15685" y="6"/>
                      <a:pt x="15684" y="7"/>
                      <a:pt x="15683" y="7"/>
                    </a:cubicBezTo>
                    <a:lnTo>
                      <a:pt x="15683" y="7"/>
                    </a:lnTo>
                    <a:cubicBezTo>
                      <a:pt x="15681" y="7"/>
                      <a:pt x="15681" y="6"/>
                      <a:pt x="15681" y="5"/>
                    </a:cubicBezTo>
                    <a:cubicBezTo>
                      <a:pt x="15681" y="4"/>
                      <a:pt x="15681" y="3"/>
                      <a:pt x="15683" y="3"/>
                    </a:cubicBezTo>
                    <a:close/>
                    <a:moveTo>
                      <a:pt x="15691" y="3"/>
                    </a:moveTo>
                    <a:lnTo>
                      <a:pt x="15691" y="3"/>
                    </a:lnTo>
                    <a:cubicBezTo>
                      <a:pt x="15692" y="3"/>
                      <a:pt x="15693" y="4"/>
                      <a:pt x="15693" y="5"/>
                    </a:cubicBezTo>
                    <a:cubicBezTo>
                      <a:pt x="15693" y="6"/>
                      <a:pt x="15692" y="7"/>
                      <a:pt x="15691" y="7"/>
                    </a:cubicBezTo>
                    <a:lnTo>
                      <a:pt x="15691" y="7"/>
                    </a:lnTo>
                    <a:cubicBezTo>
                      <a:pt x="15689" y="7"/>
                      <a:pt x="15689" y="6"/>
                      <a:pt x="15689" y="5"/>
                    </a:cubicBezTo>
                    <a:cubicBezTo>
                      <a:pt x="15689" y="4"/>
                      <a:pt x="15689" y="3"/>
                      <a:pt x="15691" y="3"/>
                    </a:cubicBezTo>
                    <a:close/>
                    <a:moveTo>
                      <a:pt x="15699" y="3"/>
                    </a:moveTo>
                    <a:lnTo>
                      <a:pt x="15699" y="3"/>
                    </a:lnTo>
                    <a:cubicBezTo>
                      <a:pt x="15700" y="3"/>
                      <a:pt x="15701" y="4"/>
                      <a:pt x="15701" y="5"/>
                    </a:cubicBezTo>
                    <a:cubicBezTo>
                      <a:pt x="15701" y="6"/>
                      <a:pt x="15700" y="7"/>
                      <a:pt x="15699" y="7"/>
                    </a:cubicBezTo>
                    <a:lnTo>
                      <a:pt x="15699" y="7"/>
                    </a:lnTo>
                    <a:cubicBezTo>
                      <a:pt x="15697" y="7"/>
                      <a:pt x="15697" y="6"/>
                      <a:pt x="15697" y="5"/>
                    </a:cubicBezTo>
                    <a:cubicBezTo>
                      <a:pt x="15697" y="4"/>
                      <a:pt x="15697" y="3"/>
                      <a:pt x="15699" y="3"/>
                    </a:cubicBezTo>
                    <a:close/>
                    <a:moveTo>
                      <a:pt x="15707" y="3"/>
                    </a:moveTo>
                    <a:lnTo>
                      <a:pt x="15707" y="3"/>
                    </a:lnTo>
                    <a:cubicBezTo>
                      <a:pt x="15708" y="3"/>
                      <a:pt x="15709" y="4"/>
                      <a:pt x="15709" y="5"/>
                    </a:cubicBezTo>
                    <a:cubicBezTo>
                      <a:pt x="15709" y="6"/>
                      <a:pt x="15708" y="7"/>
                      <a:pt x="15707" y="7"/>
                    </a:cubicBezTo>
                    <a:lnTo>
                      <a:pt x="15707" y="7"/>
                    </a:lnTo>
                    <a:cubicBezTo>
                      <a:pt x="15705" y="7"/>
                      <a:pt x="15705" y="6"/>
                      <a:pt x="15705" y="5"/>
                    </a:cubicBezTo>
                    <a:cubicBezTo>
                      <a:pt x="15705" y="4"/>
                      <a:pt x="15705" y="3"/>
                      <a:pt x="15707" y="3"/>
                    </a:cubicBezTo>
                    <a:close/>
                    <a:moveTo>
                      <a:pt x="15715" y="3"/>
                    </a:moveTo>
                    <a:lnTo>
                      <a:pt x="15715" y="3"/>
                    </a:lnTo>
                    <a:cubicBezTo>
                      <a:pt x="15716" y="3"/>
                      <a:pt x="15717" y="4"/>
                      <a:pt x="15717" y="5"/>
                    </a:cubicBezTo>
                    <a:cubicBezTo>
                      <a:pt x="15717" y="6"/>
                      <a:pt x="15716" y="7"/>
                      <a:pt x="15715" y="7"/>
                    </a:cubicBezTo>
                    <a:lnTo>
                      <a:pt x="15715" y="7"/>
                    </a:lnTo>
                    <a:cubicBezTo>
                      <a:pt x="15713" y="7"/>
                      <a:pt x="15713" y="6"/>
                      <a:pt x="15713" y="5"/>
                    </a:cubicBezTo>
                    <a:cubicBezTo>
                      <a:pt x="15713" y="4"/>
                      <a:pt x="15713" y="3"/>
                      <a:pt x="15715" y="3"/>
                    </a:cubicBezTo>
                    <a:close/>
                    <a:moveTo>
                      <a:pt x="15723" y="3"/>
                    </a:moveTo>
                    <a:lnTo>
                      <a:pt x="15723" y="3"/>
                    </a:lnTo>
                    <a:cubicBezTo>
                      <a:pt x="15724" y="3"/>
                      <a:pt x="15725" y="4"/>
                      <a:pt x="15725" y="5"/>
                    </a:cubicBezTo>
                    <a:cubicBezTo>
                      <a:pt x="15725" y="6"/>
                      <a:pt x="15724" y="7"/>
                      <a:pt x="15723" y="7"/>
                    </a:cubicBezTo>
                    <a:lnTo>
                      <a:pt x="15723" y="7"/>
                    </a:lnTo>
                    <a:cubicBezTo>
                      <a:pt x="15721" y="7"/>
                      <a:pt x="15721" y="6"/>
                      <a:pt x="15721" y="5"/>
                    </a:cubicBezTo>
                    <a:cubicBezTo>
                      <a:pt x="15721" y="4"/>
                      <a:pt x="15721" y="3"/>
                      <a:pt x="15723" y="3"/>
                    </a:cubicBezTo>
                    <a:close/>
                    <a:moveTo>
                      <a:pt x="15731" y="3"/>
                    </a:moveTo>
                    <a:lnTo>
                      <a:pt x="15731" y="3"/>
                    </a:lnTo>
                    <a:cubicBezTo>
                      <a:pt x="15732" y="3"/>
                      <a:pt x="15733" y="4"/>
                      <a:pt x="15733" y="5"/>
                    </a:cubicBezTo>
                    <a:cubicBezTo>
                      <a:pt x="15733" y="6"/>
                      <a:pt x="15732" y="7"/>
                      <a:pt x="15731" y="7"/>
                    </a:cubicBezTo>
                    <a:lnTo>
                      <a:pt x="15731" y="7"/>
                    </a:lnTo>
                    <a:cubicBezTo>
                      <a:pt x="15729" y="7"/>
                      <a:pt x="15729" y="6"/>
                      <a:pt x="15729" y="5"/>
                    </a:cubicBezTo>
                    <a:cubicBezTo>
                      <a:pt x="15729" y="4"/>
                      <a:pt x="15729" y="3"/>
                      <a:pt x="15731" y="3"/>
                    </a:cubicBezTo>
                    <a:close/>
                    <a:moveTo>
                      <a:pt x="15739" y="3"/>
                    </a:moveTo>
                    <a:lnTo>
                      <a:pt x="15739" y="3"/>
                    </a:lnTo>
                    <a:cubicBezTo>
                      <a:pt x="15740" y="3"/>
                      <a:pt x="15741" y="4"/>
                      <a:pt x="15741" y="5"/>
                    </a:cubicBezTo>
                    <a:cubicBezTo>
                      <a:pt x="15741" y="6"/>
                      <a:pt x="15740" y="7"/>
                      <a:pt x="15739" y="7"/>
                    </a:cubicBezTo>
                    <a:lnTo>
                      <a:pt x="15739" y="7"/>
                    </a:lnTo>
                    <a:cubicBezTo>
                      <a:pt x="15737" y="7"/>
                      <a:pt x="15737" y="6"/>
                      <a:pt x="15737" y="5"/>
                    </a:cubicBezTo>
                    <a:cubicBezTo>
                      <a:pt x="15737" y="4"/>
                      <a:pt x="15737" y="3"/>
                      <a:pt x="15739" y="3"/>
                    </a:cubicBezTo>
                    <a:close/>
                    <a:moveTo>
                      <a:pt x="15747" y="3"/>
                    </a:moveTo>
                    <a:lnTo>
                      <a:pt x="15747" y="3"/>
                    </a:lnTo>
                    <a:cubicBezTo>
                      <a:pt x="15748" y="3"/>
                      <a:pt x="15749" y="4"/>
                      <a:pt x="15749" y="5"/>
                    </a:cubicBezTo>
                    <a:cubicBezTo>
                      <a:pt x="15749" y="6"/>
                      <a:pt x="15748" y="7"/>
                      <a:pt x="15747" y="7"/>
                    </a:cubicBezTo>
                    <a:lnTo>
                      <a:pt x="15747" y="7"/>
                    </a:lnTo>
                    <a:cubicBezTo>
                      <a:pt x="15745" y="7"/>
                      <a:pt x="15745" y="6"/>
                      <a:pt x="15745" y="5"/>
                    </a:cubicBezTo>
                    <a:cubicBezTo>
                      <a:pt x="15745" y="4"/>
                      <a:pt x="15745" y="3"/>
                      <a:pt x="15747" y="3"/>
                    </a:cubicBezTo>
                    <a:close/>
                    <a:moveTo>
                      <a:pt x="15755" y="3"/>
                    </a:moveTo>
                    <a:lnTo>
                      <a:pt x="15755" y="3"/>
                    </a:lnTo>
                    <a:cubicBezTo>
                      <a:pt x="15756" y="3"/>
                      <a:pt x="15757" y="4"/>
                      <a:pt x="15757" y="5"/>
                    </a:cubicBezTo>
                    <a:cubicBezTo>
                      <a:pt x="15757" y="6"/>
                      <a:pt x="15756" y="7"/>
                      <a:pt x="15755" y="7"/>
                    </a:cubicBezTo>
                    <a:lnTo>
                      <a:pt x="15755" y="7"/>
                    </a:lnTo>
                    <a:cubicBezTo>
                      <a:pt x="15753" y="7"/>
                      <a:pt x="15753" y="6"/>
                      <a:pt x="15753" y="5"/>
                    </a:cubicBezTo>
                    <a:cubicBezTo>
                      <a:pt x="15753" y="4"/>
                      <a:pt x="15753" y="3"/>
                      <a:pt x="15755" y="3"/>
                    </a:cubicBezTo>
                    <a:close/>
                    <a:moveTo>
                      <a:pt x="15763" y="3"/>
                    </a:moveTo>
                    <a:lnTo>
                      <a:pt x="15763" y="3"/>
                    </a:lnTo>
                    <a:cubicBezTo>
                      <a:pt x="15764" y="3"/>
                      <a:pt x="15765" y="4"/>
                      <a:pt x="15765" y="5"/>
                    </a:cubicBezTo>
                    <a:cubicBezTo>
                      <a:pt x="15765" y="6"/>
                      <a:pt x="15764" y="7"/>
                      <a:pt x="15763" y="7"/>
                    </a:cubicBezTo>
                    <a:lnTo>
                      <a:pt x="15763" y="7"/>
                    </a:lnTo>
                    <a:cubicBezTo>
                      <a:pt x="15761" y="7"/>
                      <a:pt x="15761" y="6"/>
                      <a:pt x="15761" y="5"/>
                    </a:cubicBezTo>
                    <a:cubicBezTo>
                      <a:pt x="15761" y="4"/>
                      <a:pt x="15761" y="3"/>
                      <a:pt x="15763" y="3"/>
                    </a:cubicBezTo>
                    <a:close/>
                    <a:moveTo>
                      <a:pt x="15771" y="3"/>
                    </a:moveTo>
                    <a:lnTo>
                      <a:pt x="15771" y="3"/>
                    </a:lnTo>
                    <a:cubicBezTo>
                      <a:pt x="15772" y="3"/>
                      <a:pt x="15773" y="4"/>
                      <a:pt x="15773" y="5"/>
                    </a:cubicBezTo>
                    <a:cubicBezTo>
                      <a:pt x="15773" y="6"/>
                      <a:pt x="15772" y="7"/>
                      <a:pt x="15771" y="7"/>
                    </a:cubicBezTo>
                    <a:lnTo>
                      <a:pt x="15771" y="7"/>
                    </a:lnTo>
                    <a:cubicBezTo>
                      <a:pt x="15769" y="7"/>
                      <a:pt x="15769" y="6"/>
                      <a:pt x="15769" y="5"/>
                    </a:cubicBezTo>
                    <a:cubicBezTo>
                      <a:pt x="15769" y="4"/>
                      <a:pt x="15769" y="3"/>
                      <a:pt x="15771" y="3"/>
                    </a:cubicBezTo>
                    <a:close/>
                    <a:moveTo>
                      <a:pt x="15779" y="3"/>
                    </a:moveTo>
                    <a:lnTo>
                      <a:pt x="15779" y="3"/>
                    </a:lnTo>
                    <a:cubicBezTo>
                      <a:pt x="15780" y="3"/>
                      <a:pt x="15781" y="4"/>
                      <a:pt x="15781" y="5"/>
                    </a:cubicBezTo>
                    <a:cubicBezTo>
                      <a:pt x="15781" y="6"/>
                      <a:pt x="15780" y="7"/>
                      <a:pt x="15779" y="7"/>
                    </a:cubicBezTo>
                    <a:lnTo>
                      <a:pt x="15779" y="7"/>
                    </a:lnTo>
                    <a:cubicBezTo>
                      <a:pt x="15777" y="7"/>
                      <a:pt x="15777" y="6"/>
                      <a:pt x="15777" y="5"/>
                    </a:cubicBezTo>
                    <a:cubicBezTo>
                      <a:pt x="15777" y="4"/>
                      <a:pt x="15777" y="3"/>
                      <a:pt x="15779" y="3"/>
                    </a:cubicBezTo>
                    <a:close/>
                    <a:moveTo>
                      <a:pt x="15787" y="3"/>
                    </a:moveTo>
                    <a:lnTo>
                      <a:pt x="15787" y="3"/>
                    </a:lnTo>
                    <a:cubicBezTo>
                      <a:pt x="15788" y="3"/>
                      <a:pt x="15789" y="4"/>
                      <a:pt x="15789" y="5"/>
                    </a:cubicBezTo>
                    <a:cubicBezTo>
                      <a:pt x="15789" y="6"/>
                      <a:pt x="15788" y="7"/>
                      <a:pt x="15787" y="7"/>
                    </a:cubicBezTo>
                    <a:lnTo>
                      <a:pt x="15787" y="7"/>
                    </a:lnTo>
                    <a:cubicBezTo>
                      <a:pt x="15785" y="7"/>
                      <a:pt x="15785" y="6"/>
                      <a:pt x="15785" y="5"/>
                    </a:cubicBezTo>
                    <a:cubicBezTo>
                      <a:pt x="15785" y="4"/>
                      <a:pt x="15785" y="3"/>
                      <a:pt x="15787" y="3"/>
                    </a:cubicBezTo>
                    <a:close/>
                    <a:moveTo>
                      <a:pt x="15795" y="3"/>
                    </a:moveTo>
                    <a:lnTo>
                      <a:pt x="15795" y="3"/>
                    </a:lnTo>
                    <a:cubicBezTo>
                      <a:pt x="15796" y="3"/>
                      <a:pt x="15797" y="4"/>
                      <a:pt x="15797" y="5"/>
                    </a:cubicBezTo>
                    <a:cubicBezTo>
                      <a:pt x="15797" y="6"/>
                      <a:pt x="15796" y="7"/>
                      <a:pt x="15795" y="7"/>
                    </a:cubicBezTo>
                    <a:lnTo>
                      <a:pt x="15795" y="7"/>
                    </a:lnTo>
                    <a:cubicBezTo>
                      <a:pt x="15793" y="7"/>
                      <a:pt x="15793" y="6"/>
                      <a:pt x="15793" y="5"/>
                    </a:cubicBezTo>
                    <a:cubicBezTo>
                      <a:pt x="15793" y="4"/>
                      <a:pt x="15793" y="3"/>
                      <a:pt x="15795" y="3"/>
                    </a:cubicBezTo>
                    <a:close/>
                    <a:moveTo>
                      <a:pt x="15803" y="3"/>
                    </a:moveTo>
                    <a:lnTo>
                      <a:pt x="15803" y="3"/>
                    </a:lnTo>
                    <a:cubicBezTo>
                      <a:pt x="15804" y="3"/>
                      <a:pt x="15805" y="4"/>
                      <a:pt x="15805" y="5"/>
                    </a:cubicBezTo>
                    <a:cubicBezTo>
                      <a:pt x="15805" y="6"/>
                      <a:pt x="15804" y="7"/>
                      <a:pt x="15803" y="7"/>
                    </a:cubicBezTo>
                    <a:lnTo>
                      <a:pt x="15803" y="7"/>
                    </a:lnTo>
                    <a:cubicBezTo>
                      <a:pt x="15801" y="7"/>
                      <a:pt x="15801" y="6"/>
                      <a:pt x="15801" y="5"/>
                    </a:cubicBezTo>
                    <a:cubicBezTo>
                      <a:pt x="15801" y="4"/>
                      <a:pt x="15801" y="3"/>
                      <a:pt x="15803" y="3"/>
                    </a:cubicBezTo>
                    <a:close/>
                    <a:moveTo>
                      <a:pt x="15811" y="3"/>
                    </a:moveTo>
                    <a:lnTo>
                      <a:pt x="15811" y="3"/>
                    </a:lnTo>
                    <a:cubicBezTo>
                      <a:pt x="15812" y="3"/>
                      <a:pt x="15813" y="4"/>
                      <a:pt x="15813" y="5"/>
                    </a:cubicBezTo>
                    <a:cubicBezTo>
                      <a:pt x="15813" y="6"/>
                      <a:pt x="15812" y="7"/>
                      <a:pt x="15811" y="7"/>
                    </a:cubicBezTo>
                    <a:lnTo>
                      <a:pt x="15811" y="7"/>
                    </a:lnTo>
                    <a:cubicBezTo>
                      <a:pt x="15809" y="7"/>
                      <a:pt x="15809" y="6"/>
                      <a:pt x="15809" y="5"/>
                    </a:cubicBezTo>
                    <a:cubicBezTo>
                      <a:pt x="15809" y="4"/>
                      <a:pt x="15809" y="3"/>
                      <a:pt x="15811" y="3"/>
                    </a:cubicBezTo>
                    <a:close/>
                    <a:moveTo>
                      <a:pt x="15819" y="3"/>
                    </a:moveTo>
                    <a:lnTo>
                      <a:pt x="15819" y="3"/>
                    </a:lnTo>
                    <a:cubicBezTo>
                      <a:pt x="15820" y="3"/>
                      <a:pt x="15821" y="4"/>
                      <a:pt x="15821" y="5"/>
                    </a:cubicBezTo>
                    <a:cubicBezTo>
                      <a:pt x="15821" y="6"/>
                      <a:pt x="15820" y="7"/>
                      <a:pt x="15819" y="7"/>
                    </a:cubicBezTo>
                    <a:lnTo>
                      <a:pt x="15819" y="7"/>
                    </a:lnTo>
                    <a:cubicBezTo>
                      <a:pt x="15817" y="7"/>
                      <a:pt x="15817" y="6"/>
                      <a:pt x="15817" y="5"/>
                    </a:cubicBezTo>
                    <a:cubicBezTo>
                      <a:pt x="15817" y="4"/>
                      <a:pt x="15817" y="3"/>
                      <a:pt x="15819" y="3"/>
                    </a:cubicBezTo>
                    <a:close/>
                    <a:moveTo>
                      <a:pt x="15827" y="3"/>
                    </a:moveTo>
                    <a:lnTo>
                      <a:pt x="15827" y="3"/>
                    </a:lnTo>
                    <a:cubicBezTo>
                      <a:pt x="15828" y="3"/>
                      <a:pt x="15829" y="4"/>
                      <a:pt x="15829" y="5"/>
                    </a:cubicBezTo>
                    <a:cubicBezTo>
                      <a:pt x="15829" y="6"/>
                      <a:pt x="15828" y="7"/>
                      <a:pt x="15827" y="7"/>
                    </a:cubicBezTo>
                    <a:lnTo>
                      <a:pt x="15827" y="7"/>
                    </a:lnTo>
                    <a:cubicBezTo>
                      <a:pt x="15826" y="7"/>
                      <a:pt x="15825" y="6"/>
                      <a:pt x="15825" y="5"/>
                    </a:cubicBezTo>
                    <a:cubicBezTo>
                      <a:pt x="15825" y="4"/>
                      <a:pt x="15826" y="3"/>
                      <a:pt x="15827" y="3"/>
                    </a:cubicBezTo>
                    <a:close/>
                    <a:moveTo>
                      <a:pt x="15835" y="3"/>
                    </a:moveTo>
                    <a:lnTo>
                      <a:pt x="15835" y="3"/>
                    </a:lnTo>
                    <a:cubicBezTo>
                      <a:pt x="15836" y="3"/>
                      <a:pt x="15837" y="4"/>
                      <a:pt x="15837" y="5"/>
                    </a:cubicBezTo>
                    <a:cubicBezTo>
                      <a:pt x="15837" y="6"/>
                      <a:pt x="15836" y="7"/>
                      <a:pt x="15835" y="7"/>
                    </a:cubicBezTo>
                    <a:lnTo>
                      <a:pt x="15835" y="7"/>
                    </a:lnTo>
                    <a:cubicBezTo>
                      <a:pt x="15834" y="7"/>
                      <a:pt x="15833" y="6"/>
                      <a:pt x="15833" y="5"/>
                    </a:cubicBezTo>
                    <a:cubicBezTo>
                      <a:pt x="15833" y="4"/>
                      <a:pt x="15834" y="3"/>
                      <a:pt x="15835" y="3"/>
                    </a:cubicBezTo>
                    <a:close/>
                    <a:moveTo>
                      <a:pt x="15843" y="3"/>
                    </a:moveTo>
                    <a:lnTo>
                      <a:pt x="15843" y="3"/>
                    </a:lnTo>
                    <a:cubicBezTo>
                      <a:pt x="15844" y="3"/>
                      <a:pt x="15845" y="4"/>
                      <a:pt x="15845" y="5"/>
                    </a:cubicBezTo>
                    <a:cubicBezTo>
                      <a:pt x="15845" y="6"/>
                      <a:pt x="15844" y="7"/>
                      <a:pt x="15843" y="7"/>
                    </a:cubicBezTo>
                    <a:lnTo>
                      <a:pt x="15843" y="7"/>
                    </a:lnTo>
                    <a:cubicBezTo>
                      <a:pt x="15842" y="7"/>
                      <a:pt x="15841" y="6"/>
                      <a:pt x="15841" y="5"/>
                    </a:cubicBezTo>
                    <a:cubicBezTo>
                      <a:pt x="15841" y="4"/>
                      <a:pt x="15842" y="3"/>
                      <a:pt x="15843" y="3"/>
                    </a:cubicBezTo>
                    <a:close/>
                    <a:moveTo>
                      <a:pt x="15851" y="3"/>
                    </a:moveTo>
                    <a:lnTo>
                      <a:pt x="15851" y="3"/>
                    </a:lnTo>
                    <a:cubicBezTo>
                      <a:pt x="15852" y="3"/>
                      <a:pt x="15853" y="4"/>
                      <a:pt x="15853" y="5"/>
                    </a:cubicBezTo>
                    <a:cubicBezTo>
                      <a:pt x="15853" y="6"/>
                      <a:pt x="15852" y="7"/>
                      <a:pt x="15851" y="7"/>
                    </a:cubicBezTo>
                    <a:lnTo>
                      <a:pt x="15851" y="7"/>
                    </a:lnTo>
                    <a:cubicBezTo>
                      <a:pt x="15850" y="7"/>
                      <a:pt x="15849" y="6"/>
                      <a:pt x="15849" y="5"/>
                    </a:cubicBezTo>
                    <a:cubicBezTo>
                      <a:pt x="15849" y="4"/>
                      <a:pt x="15850" y="3"/>
                      <a:pt x="15851" y="3"/>
                    </a:cubicBezTo>
                    <a:close/>
                    <a:moveTo>
                      <a:pt x="15859" y="3"/>
                    </a:moveTo>
                    <a:lnTo>
                      <a:pt x="15859" y="3"/>
                    </a:lnTo>
                    <a:cubicBezTo>
                      <a:pt x="15860" y="3"/>
                      <a:pt x="15861" y="4"/>
                      <a:pt x="15861" y="5"/>
                    </a:cubicBezTo>
                    <a:cubicBezTo>
                      <a:pt x="15861" y="6"/>
                      <a:pt x="15860" y="7"/>
                      <a:pt x="15859" y="7"/>
                    </a:cubicBezTo>
                    <a:lnTo>
                      <a:pt x="15859" y="7"/>
                    </a:lnTo>
                    <a:cubicBezTo>
                      <a:pt x="15858" y="7"/>
                      <a:pt x="15857" y="6"/>
                      <a:pt x="15857" y="5"/>
                    </a:cubicBezTo>
                    <a:cubicBezTo>
                      <a:pt x="15857" y="4"/>
                      <a:pt x="15858" y="3"/>
                      <a:pt x="15859" y="3"/>
                    </a:cubicBezTo>
                    <a:close/>
                    <a:moveTo>
                      <a:pt x="15867" y="3"/>
                    </a:moveTo>
                    <a:lnTo>
                      <a:pt x="15867" y="3"/>
                    </a:lnTo>
                    <a:cubicBezTo>
                      <a:pt x="15868" y="3"/>
                      <a:pt x="15869" y="4"/>
                      <a:pt x="15869" y="5"/>
                    </a:cubicBezTo>
                    <a:cubicBezTo>
                      <a:pt x="15869" y="6"/>
                      <a:pt x="15868" y="7"/>
                      <a:pt x="15867" y="7"/>
                    </a:cubicBezTo>
                    <a:lnTo>
                      <a:pt x="15867" y="7"/>
                    </a:lnTo>
                    <a:cubicBezTo>
                      <a:pt x="15866" y="7"/>
                      <a:pt x="15865" y="6"/>
                      <a:pt x="15865" y="5"/>
                    </a:cubicBezTo>
                    <a:cubicBezTo>
                      <a:pt x="15865" y="4"/>
                      <a:pt x="15866" y="3"/>
                      <a:pt x="15867" y="3"/>
                    </a:cubicBezTo>
                    <a:close/>
                    <a:moveTo>
                      <a:pt x="15875" y="3"/>
                    </a:moveTo>
                    <a:lnTo>
                      <a:pt x="15875" y="3"/>
                    </a:lnTo>
                    <a:cubicBezTo>
                      <a:pt x="15876" y="3"/>
                      <a:pt x="15877" y="4"/>
                      <a:pt x="15877" y="5"/>
                    </a:cubicBezTo>
                    <a:cubicBezTo>
                      <a:pt x="15877" y="6"/>
                      <a:pt x="15876" y="7"/>
                      <a:pt x="15875" y="7"/>
                    </a:cubicBezTo>
                    <a:lnTo>
                      <a:pt x="15875" y="7"/>
                    </a:lnTo>
                    <a:cubicBezTo>
                      <a:pt x="15874" y="7"/>
                      <a:pt x="15873" y="6"/>
                      <a:pt x="15873" y="5"/>
                    </a:cubicBezTo>
                    <a:cubicBezTo>
                      <a:pt x="15873" y="4"/>
                      <a:pt x="15874" y="3"/>
                      <a:pt x="15875" y="3"/>
                    </a:cubicBezTo>
                    <a:close/>
                    <a:moveTo>
                      <a:pt x="15883" y="3"/>
                    </a:moveTo>
                    <a:lnTo>
                      <a:pt x="15883" y="3"/>
                    </a:lnTo>
                    <a:cubicBezTo>
                      <a:pt x="15884" y="3"/>
                      <a:pt x="15885" y="4"/>
                      <a:pt x="15885" y="5"/>
                    </a:cubicBezTo>
                    <a:cubicBezTo>
                      <a:pt x="15885" y="6"/>
                      <a:pt x="15884" y="7"/>
                      <a:pt x="15883" y="7"/>
                    </a:cubicBezTo>
                    <a:lnTo>
                      <a:pt x="15883" y="7"/>
                    </a:lnTo>
                    <a:cubicBezTo>
                      <a:pt x="15882" y="7"/>
                      <a:pt x="15881" y="6"/>
                      <a:pt x="15881" y="5"/>
                    </a:cubicBezTo>
                    <a:cubicBezTo>
                      <a:pt x="15881" y="4"/>
                      <a:pt x="15882" y="3"/>
                      <a:pt x="15883" y="3"/>
                    </a:cubicBezTo>
                    <a:close/>
                    <a:moveTo>
                      <a:pt x="15891" y="3"/>
                    </a:moveTo>
                    <a:lnTo>
                      <a:pt x="15891" y="3"/>
                    </a:lnTo>
                    <a:cubicBezTo>
                      <a:pt x="15892" y="3"/>
                      <a:pt x="15893" y="4"/>
                      <a:pt x="15893" y="5"/>
                    </a:cubicBezTo>
                    <a:cubicBezTo>
                      <a:pt x="15893" y="6"/>
                      <a:pt x="15892" y="7"/>
                      <a:pt x="15891" y="7"/>
                    </a:cubicBezTo>
                    <a:lnTo>
                      <a:pt x="15891" y="7"/>
                    </a:lnTo>
                    <a:cubicBezTo>
                      <a:pt x="15890" y="7"/>
                      <a:pt x="15889" y="6"/>
                      <a:pt x="15889" y="5"/>
                    </a:cubicBezTo>
                    <a:cubicBezTo>
                      <a:pt x="15889" y="4"/>
                      <a:pt x="15890" y="3"/>
                      <a:pt x="15891" y="3"/>
                    </a:cubicBezTo>
                    <a:close/>
                    <a:moveTo>
                      <a:pt x="15899" y="3"/>
                    </a:moveTo>
                    <a:lnTo>
                      <a:pt x="15899" y="3"/>
                    </a:lnTo>
                    <a:cubicBezTo>
                      <a:pt x="15900" y="3"/>
                      <a:pt x="15901" y="4"/>
                      <a:pt x="15901" y="5"/>
                    </a:cubicBezTo>
                    <a:cubicBezTo>
                      <a:pt x="15901" y="6"/>
                      <a:pt x="15900" y="7"/>
                      <a:pt x="15899" y="7"/>
                    </a:cubicBezTo>
                    <a:lnTo>
                      <a:pt x="15899" y="7"/>
                    </a:lnTo>
                    <a:cubicBezTo>
                      <a:pt x="15898" y="7"/>
                      <a:pt x="15897" y="6"/>
                      <a:pt x="15897" y="5"/>
                    </a:cubicBezTo>
                    <a:cubicBezTo>
                      <a:pt x="15897" y="4"/>
                      <a:pt x="15898" y="3"/>
                      <a:pt x="15899" y="3"/>
                    </a:cubicBezTo>
                    <a:close/>
                    <a:moveTo>
                      <a:pt x="15907" y="3"/>
                    </a:moveTo>
                    <a:lnTo>
                      <a:pt x="15907" y="3"/>
                    </a:lnTo>
                    <a:cubicBezTo>
                      <a:pt x="15908" y="3"/>
                      <a:pt x="15909" y="4"/>
                      <a:pt x="15909" y="5"/>
                    </a:cubicBezTo>
                    <a:cubicBezTo>
                      <a:pt x="15909" y="6"/>
                      <a:pt x="15908" y="7"/>
                      <a:pt x="15907" y="7"/>
                    </a:cubicBezTo>
                    <a:lnTo>
                      <a:pt x="15907" y="7"/>
                    </a:lnTo>
                    <a:cubicBezTo>
                      <a:pt x="15906" y="7"/>
                      <a:pt x="15905" y="6"/>
                      <a:pt x="15905" y="5"/>
                    </a:cubicBezTo>
                    <a:cubicBezTo>
                      <a:pt x="15905" y="4"/>
                      <a:pt x="15906" y="3"/>
                      <a:pt x="15907" y="3"/>
                    </a:cubicBezTo>
                    <a:close/>
                    <a:moveTo>
                      <a:pt x="15915" y="3"/>
                    </a:moveTo>
                    <a:lnTo>
                      <a:pt x="15915" y="3"/>
                    </a:lnTo>
                    <a:cubicBezTo>
                      <a:pt x="15916" y="3"/>
                      <a:pt x="15917" y="4"/>
                      <a:pt x="15917" y="5"/>
                    </a:cubicBezTo>
                    <a:cubicBezTo>
                      <a:pt x="15917" y="6"/>
                      <a:pt x="15916" y="7"/>
                      <a:pt x="15915" y="7"/>
                    </a:cubicBezTo>
                    <a:lnTo>
                      <a:pt x="15915" y="7"/>
                    </a:lnTo>
                    <a:cubicBezTo>
                      <a:pt x="15914" y="7"/>
                      <a:pt x="15913" y="6"/>
                      <a:pt x="15913" y="5"/>
                    </a:cubicBezTo>
                    <a:cubicBezTo>
                      <a:pt x="15913" y="4"/>
                      <a:pt x="15914" y="3"/>
                      <a:pt x="15915" y="3"/>
                    </a:cubicBezTo>
                    <a:close/>
                    <a:moveTo>
                      <a:pt x="15923" y="3"/>
                    </a:moveTo>
                    <a:lnTo>
                      <a:pt x="15923" y="3"/>
                    </a:lnTo>
                    <a:cubicBezTo>
                      <a:pt x="15924" y="3"/>
                      <a:pt x="15925" y="4"/>
                      <a:pt x="15925" y="5"/>
                    </a:cubicBezTo>
                    <a:cubicBezTo>
                      <a:pt x="15925" y="6"/>
                      <a:pt x="15924" y="7"/>
                      <a:pt x="15923" y="7"/>
                    </a:cubicBezTo>
                    <a:lnTo>
                      <a:pt x="15923" y="7"/>
                    </a:lnTo>
                    <a:cubicBezTo>
                      <a:pt x="15922" y="7"/>
                      <a:pt x="15921" y="6"/>
                      <a:pt x="15921" y="5"/>
                    </a:cubicBezTo>
                    <a:cubicBezTo>
                      <a:pt x="15921" y="4"/>
                      <a:pt x="15922" y="3"/>
                      <a:pt x="15923" y="3"/>
                    </a:cubicBezTo>
                    <a:close/>
                    <a:moveTo>
                      <a:pt x="15931" y="3"/>
                    </a:moveTo>
                    <a:lnTo>
                      <a:pt x="15931" y="3"/>
                    </a:lnTo>
                    <a:cubicBezTo>
                      <a:pt x="15932" y="3"/>
                      <a:pt x="15933" y="4"/>
                      <a:pt x="15933" y="5"/>
                    </a:cubicBezTo>
                    <a:cubicBezTo>
                      <a:pt x="15933" y="6"/>
                      <a:pt x="15932" y="7"/>
                      <a:pt x="15931" y="7"/>
                    </a:cubicBezTo>
                    <a:lnTo>
                      <a:pt x="15931" y="7"/>
                    </a:lnTo>
                    <a:cubicBezTo>
                      <a:pt x="15930" y="7"/>
                      <a:pt x="15929" y="6"/>
                      <a:pt x="15929" y="5"/>
                    </a:cubicBezTo>
                    <a:cubicBezTo>
                      <a:pt x="15929" y="4"/>
                      <a:pt x="15930" y="3"/>
                      <a:pt x="15931" y="3"/>
                    </a:cubicBezTo>
                    <a:close/>
                    <a:moveTo>
                      <a:pt x="15939" y="3"/>
                    </a:moveTo>
                    <a:lnTo>
                      <a:pt x="15939" y="3"/>
                    </a:lnTo>
                    <a:cubicBezTo>
                      <a:pt x="15940" y="3"/>
                      <a:pt x="15941" y="4"/>
                      <a:pt x="15941" y="5"/>
                    </a:cubicBezTo>
                    <a:cubicBezTo>
                      <a:pt x="15941" y="6"/>
                      <a:pt x="15940" y="7"/>
                      <a:pt x="15939" y="7"/>
                    </a:cubicBezTo>
                    <a:lnTo>
                      <a:pt x="15939" y="7"/>
                    </a:lnTo>
                    <a:cubicBezTo>
                      <a:pt x="15938" y="7"/>
                      <a:pt x="15937" y="6"/>
                      <a:pt x="15937" y="5"/>
                    </a:cubicBezTo>
                    <a:cubicBezTo>
                      <a:pt x="15937" y="4"/>
                      <a:pt x="15938" y="3"/>
                      <a:pt x="15939" y="3"/>
                    </a:cubicBezTo>
                    <a:close/>
                    <a:moveTo>
                      <a:pt x="15947" y="3"/>
                    </a:moveTo>
                    <a:lnTo>
                      <a:pt x="15947" y="3"/>
                    </a:lnTo>
                    <a:cubicBezTo>
                      <a:pt x="15948" y="3"/>
                      <a:pt x="15949" y="4"/>
                      <a:pt x="15949" y="5"/>
                    </a:cubicBezTo>
                    <a:cubicBezTo>
                      <a:pt x="15949" y="6"/>
                      <a:pt x="15948" y="7"/>
                      <a:pt x="15947" y="7"/>
                    </a:cubicBezTo>
                    <a:lnTo>
                      <a:pt x="15947" y="7"/>
                    </a:lnTo>
                    <a:cubicBezTo>
                      <a:pt x="15946" y="7"/>
                      <a:pt x="15945" y="6"/>
                      <a:pt x="15945" y="5"/>
                    </a:cubicBezTo>
                    <a:cubicBezTo>
                      <a:pt x="15945" y="4"/>
                      <a:pt x="15946" y="3"/>
                      <a:pt x="15947" y="3"/>
                    </a:cubicBezTo>
                    <a:close/>
                    <a:moveTo>
                      <a:pt x="15955" y="3"/>
                    </a:moveTo>
                    <a:lnTo>
                      <a:pt x="15955" y="3"/>
                    </a:lnTo>
                    <a:cubicBezTo>
                      <a:pt x="15956" y="3"/>
                      <a:pt x="15957" y="4"/>
                      <a:pt x="15957" y="5"/>
                    </a:cubicBezTo>
                    <a:cubicBezTo>
                      <a:pt x="15957" y="6"/>
                      <a:pt x="15956" y="7"/>
                      <a:pt x="15955" y="7"/>
                    </a:cubicBezTo>
                    <a:lnTo>
                      <a:pt x="15955" y="7"/>
                    </a:lnTo>
                    <a:cubicBezTo>
                      <a:pt x="15954" y="7"/>
                      <a:pt x="15953" y="6"/>
                      <a:pt x="15953" y="5"/>
                    </a:cubicBezTo>
                    <a:cubicBezTo>
                      <a:pt x="15953" y="4"/>
                      <a:pt x="15954" y="3"/>
                      <a:pt x="15955" y="3"/>
                    </a:cubicBezTo>
                    <a:close/>
                    <a:moveTo>
                      <a:pt x="15963" y="3"/>
                    </a:moveTo>
                    <a:lnTo>
                      <a:pt x="15963" y="3"/>
                    </a:lnTo>
                    <a:cubicBezTo>
                      <a:pt x="15964" y="3"/>
                      <a:pt x="15965" y="4"/>
                      <a:pt x="15965" y="5"/>
                    </a:cubicBezTo>
                    <a:cubicBezTo>
                      <a:pt x="15965" y="6"/>
                      <a:pt x="15964" y="7"/>
                      <a:pt x="15963" y="7"/>
                    </a:cubicBezTo>
                    <a:lnTo>
                      <a:pt x="15963" y="7"/>
                    </a:lnTo>
                    <a:cubicBezTo>
                      <a:pt x="15962" y="7"/>
                      <a:pt x="15961" y="6"/>
                      <a:pt x="15961" y="5"/>
                    </a:cubicBezTo>
                    <a:cubicBezTo>
                      <a:pt x="15961" y="4"/>
                      <a:pt x="15962" y="3"/>
                      <a:pt x="15963" y="3"/>
                    </a:cubicBezTo>
                    <a:close/>
                    <a:moveTo>
                      <a:pt x="15971" y="3"/>
                    </a:moveTo>
                    <a:lnTo>
                      <a:pt x="15971" y="3"/>
                    </a:lnTo>
                    <a:cubicBezTo>
                      <a:pt x="15972" y="3"/>
                      <a:pt x="15973" y="4"/>
                      <a:pt x="15973" y="5"/>
                    </a:cubicBezTo>
                    <a:cubicBezTo>
                      <a:pt x="15973" y="6"/>
                      <a:pt x="15972" y="7"/>
                      <a:pt x="15971" y="7"/>
                    </a:cubicBezTo>
                    <a:lnTo>
                      <a:pt x="15971" y="7"/>
                    </a:lnTo>
                    <a:cubicBezTo>
                      <a:pt x="15970" y="7"/>
                      <a:pt x="15969" y="6"/>
                      <a:pt x="15969" y="5"/>
                    </a:cubicBezTo>
                    <a:cubicBezTo>
                      <a:pt x="15969" y="4"/>
                      <a:pt x="15970" y="3"/>
                      <a:pt x="15971" y="3"/>
                    </a:cubicBezTo>
                    <a:close/>
                    <a:moveTo>
                      <a:pt x="15979" y="3"/>
                    </a:moveTo>
                    <a:lnTo>
                      <a:pt x="15979" y="3"/>
                    </a:lnTo>
                    <a:cubicBezTo>
                      <a:pt x="15980" y="3"/>
                      <a:pt x="15981" y="4"/>
                      <a:pt x="15981" y="5"/>
                    </a:cubicBezTo>
                    <a:cubicBezTo>
                      <a:pt x="15981" y="6"/>
                      <a:pt x="15980" y="7"/>
                      <a:pt x="15979" y="7"/>
                    </a:cubicBezTo>
                    <a:lnTo>
                      <a:pt x="15979" y="7"/>
                    </a:lnTo>
                    <a:cubicBezTo>
                      <a:pt x="15978" y="7"/>
                      <a:pt x="15977" y="6"/>
                      <a:pt x="15977" y="5"/>
                    </a:cubicBezTo>
                    <a:cubicBezTo>
                      <a:pt x="15977" y="4"/>
                      <a:pt x="15978" y="3"/>
                      <a:pt x="15979" y="3"/>
                    </a:cubicBezTo>
                    <a:close/>
                    <a:moveTo>
                      <a:pt x="15987" y="3"/>
                    </a:moveTo>
                    <a:lnTo>
                      <a:pt x="15987" y="3"/>
                    </a:lnTo>
                    <a:cubicBezTo>
                      <a:pt x="15988" y="3"/>
                      <a:pt x="15989" y="4"/>
                      <a:pt x="15989" y="5"/>
                    </a:cubicBezTo>
                    <a:cubicBezTo>
                      <a:pt x="15989" y="6"/>
                      <a:pt x="15988" y="7"/>
                      <a:pt x="15987" y="7"/>
                    </a:cubicBezTo>
                    <a:lnTo>
                      <a:pt x="15987" y="7"/>
                    </a:lnTo>
                    <a:cubicBezTo>
                      <a:pt x="15986" y="7"/>
                      <a:pt x="15985" y="6"/>
                      <a:pt x="15985" y="5"/>
                    </a:cubicBezTo>
                    <a:cubicBezTo>
                      <a:pt x="15985" y="4"/>
                      <a:pt x="15986" y="3"/>
                      <a:pt x="15987" y="3"/>
                    </a:cubicBezTo>
                    <a:close/>
                    <a:moveTo>
                      <a:pt x="15995" y="3"/>
                    </a:moveTo>
                    <a:lnTo>
                      <a:pt x="15995" y="3"/>
                    </a:lnTo>
                    <a:cubicBezTo>
                      <a:pt x="15996" y="3"/>
                      <a:pt x="15997" y="4"/>
                      <a:pt x="15997" y="5"/>
                    </a:cubicBezTo>
                    <a:cubicBezTo>
                      <a:pt x="15997" y="6"/>
                      <a:pt x="15996" y="7"/>
                      <a:pt x="15995" y="7"/>
                    </a:cubicBezTo>
                    <a:lnTo>
                      <a:pt x="15995" y="7"/>
                    </a:lnTo>
                    <a:cubicBezTo>
                      <a:pt x="15994" y="7"/>
                      <a:pt x="15993" y="6"/>
                      <a:pt x="15993" y="5"/>
                    </a:cubicBezTo>
                    <a:cubicBezTo>
                      <a:pt x="15993" y="4"/>
                      <a:pt x="15994" y="3"/>
                      <a:pt x="15995" y="3"/>
                    </a:cubicBezTo>
                    <a:close/>
                    <a:moveTo>
                      <a:pt x="16003" y="3"/>
                    </a:moveTo>
                    <a:lnTo>
                      <a:pt x="16003" y="3"/>
                    </a:lnTo>
                    <a:cubicBezTo>
                      <a:pt x="16004" y="3"/>
                      <a:pt x="16005" y="4"/>
                      <a:pt x="16005" y="5"/>
                    </a:cubicBezTo>
                    <a:cubicBezTo>
                      <a:pt x="16005" y="6"/>
                      <a:pt x="16004" y="7"/>
                      <a:pt x="16003" y="7"/>
                    </a:cubicBezTo>
                    <a:lnTo>
                      <a:pt x="16003" y="7"/>
                    </a:lnTo>
                    <a:cubicBezTo>
                      <a:pt x="16002" y="7"/>
                      <a:pt x="16001" y="6"/>
                      <a:pt x="16001" y="5"/>
                    </a:cubicBezTo>
                    <a:cubicBezTo>
                      <a:pt x="16001" y="4"/>
                      <a:pt x="16002" y="3"/>
                      <a:pt x="16003" y="3"/>
                    </a:cubicBezTo>
                    <a:close/>
                    <a:moveTo>
                      <a:pt x="16011" y="3"/>
                    </a:moveTo>
                    <a:lnTo>
                      <a:pt x="16011" y="3"/>
                    </a:lnTo>
                    <a:cubicBezTo>
                      <a:pt x="16012" y="3"/>
                      <a:pt x="16013" y="4"/>
                      <a:pt x="16013" y="5"/>
                    </a:cubicBezTo>
                    <a:cubicBezTo>
                      <a:pt x="16013" y="6"/>
                      <a:pt x="16012" y="7"/>
                      <a:pt x="16011" y="7"/>
                    </a:cubicBezTo>
                    <a:lnTo>
                      <a:pt x="16011" y="7"/>
                    </a:lnTo>
                    <a:cubicBezTo>
                      <a:pt x="16010" y="7"/>
                      <a:pt x="16009" y="6"/>
                      <a:pt x="16009" y="5"/>
                    </a:cubicBezTo>
                    <a:cubicBezTo>
                      <a:pt x="16009" y="4"/>
                      <a:pt x="16010" y="3"/>
                      <a:pt x="16011" y="3"/>
                    </a:cubicBezTo>
                    <a:close/>
                    <a:moveTo>
                      <a:pt x="16019" y="3"/>
                    </a:moveTo>
                    <a:lnTo>
                      <a:pt x="16019" y="3"/>
                    </a:lnTo>
                    <a:cubicBezTo>
                      <a:pt x="16020" y="3"/>
                      <a:pt x="16021" y="4"/>
                      <a:pt x="16021" y="5"/>
                    </a:cubicBezTo>
                    <a:cubicBezTo>
                      <a:pt x="16021" y="6"/>
                      <a:pt x="16020" y="7"/>
                      <a:pt x="16019" y="7"/>
                    </a:cubicBezTo>
                    <a:lnTo>
                      <a:pt x="16019" y="7"/>
                    </a:lnTo>
                    <a:cubicBezTo>
                      <a:pt x="16018" y="7"/>
                      <a:pt x="16017" y="6"/>
                      <a:pt x="16017" y="5"/>
                    </a:cubicBezTo>
                    <a:cubicBezTo>
                      <a:pt x="16017" y="4"/>
                      <a:pt x="16018" y="3"/>
                      <a:pt x="16019" y="3"/>
                    </a:cubicBezTo>
                    <a:close/>
                    <a:moveTo>
                      <a:pt x="16027" y="3"/>
                    </a:moveTo>
                    <a:lnTo>
                      <a:pt x="16027" y="3"/>
                    </a:lnTo>
                    <a:cubicBezTo>
                      <a:pt x="16028" y="3"/>
                      <a:pt x="16029" y="4"/>
                      <a:pt x="16029" y="5"/>
                    </a:cubicBezTo>
                    <a:cubicBezTo>
                      <a:pt x="16029" y="6"/>
                      <a:pt x="16028" y="7"/>
                      <a:pt x="16027" y="7"/>
                    </a:cubicBezTo>
                    <a:lnTo>
                      <a:pt x="16027" y="7"/>
                    </a:lnTo>
                    <a:cubicBezTo>
                      <a:pt x="16026" y="7"/>
                      <a:pt x="16025" y="6"/>
                      <a:pt x="16025" y="5"/>
                    </a:cubicBezTo>
                    <a:cubicBezTo>
                      <a:pt x="16025" y="4"/>
                      <a:pt x="16026" y="3"/>
                      <a:pt x="16027" y="3"/>
                    </a:cubicBezTo>
                    <a:close/>
                    <a:moveTo>
                      <a:pt x="16035" y="3"/>
                    </a:moveTo>
                    <a:lnTo>
                      <a:pt x="16035" y="3"/>
                    </a:lnTo>
                    <a:cubicBezTo>
                      <a:pt x="16036" y="3"/>
                      <a:pt x="16037" y="4"/>
                      <a:pt x="16037" y="5"/>
                    </a:cubicBezTo>
                    <a:cubicBezTo>
                      <a:pt x="16037" y="6"/>
                      <a:pt x="16036" y="7"/>
                      <a:pt x="16035" y="7"/>
                    </a:cubicBezTo>
                    <a:lnTo>
                      <a:pt x="16035" y="7"/>
                    </a:lnTo>
                    <a:cubicBezTo>
                      <a:pt x="16034" y="7"/>
                      <a:pt x="16033" y="6"/>
                      <a:pt x="16033" y="5"/>
                    </a:cubicBezTo>
                    <a:cubicBezTo>
                      <a:pt x="16033" y="4"/>
                      <a:pt x="16034" y="3"/>
                      <a:pt x="16035" y="3"/>
                    </a:cubicBezTo>
                    <a:close/>
                    <a:moveTo>
                      <a:pt x="16043" y="3"/>
                    </a:moveTo>
                    <a:lnTo>
                      <a:pt x="16043" y="3"/>
                    </a:lnTo>
                    <a:cubicBezTo>
                      <a:pt x="16044" y="3"/>
                      <a:pt x="16045" y="4"/>
                      <a:pt x="16045" y="5"/>
                    </a:cubicBezTo>
                    <a:cubicBezTo>
                      <a:pt x="16045" y="6"/>
                      <a:pt x="16044" y="7"/>
                      <a:pt x="16043" y="7"/>
                    </a:cubicBezTo>
                    <a:lnTo>
                      <a:pt x="16043" y="7"/>
                    </a:lnTo>
                    <a:cubicBezTo>
                      <a:pt x="16042" y="7"/>
                      <a:pt x="16041" y="6"/>
                      <a:pt x="16041" y="5"/>
                    </a:cubicBezTo>
                    <a:cubicBezTo>
                      <a:pt x="16041" y="4"/>
                      <a:pt x="16042" y="3"/>
                      <a:pt x="16043" y="3"/>
                    </a:cubicBezTo>
                    <a:close/>
                    <a:moveTo>
                      <a:pt x="16051" y="3"/>
                    </a:moveTo>
                    <a:lnTo>
                      <a:pt x="16051" y="3"/>
                    </a:lnTo>
                    <a:cubicBezTo>
                      <a:pt x="16052" y="3"/>
                      <a:pt x="16053" y="4"/>
                      <a:pt x="16053" y="5"/>
                    </a:cubicBezTo>
                    <a:cubicBezTo>
                      <a:pt x="16053" y="6"/>
                      <a:pt x="16052" y="7"/>
                      <a:pt x="16051" y="7"/>
                    </a:cubicBezTo>
                    <a:lnTo>
                      <a:pt x="16051" y="7"/>
                    </a:lnTo>
                    <a:cubicBezTo>
                      <a:pt x="16050" y="7"/>
                      <a:pt x="16049" y="6"/>
                      <a:pt x="16049" y="5"/>
                    </a:cubicBezTo>
                    <a:cubicBezTo>
                      <a:pt x="16049" y="4"/>
                      <a:pt x="16050" y="3"/>
                      <a:pt x="16051" y="3"/>
                    </a:cubicBezTo>
                    <a:close/>
                    <a:moveTo>
                      <a:pt x="16059" y="3"/>
                    </a:moveTo>
                    <a:lnTo>
                      <a:pt x="16059" y="3"/>
                    </a:lnTo>
                    <a:cubicBezTo>
                      <a:pt x="16060" y="3"/>
                      <a:pt x="16061" y="4"/>
                      <a:pt x="16061" y="5"/>
                    </a:cubicBezTo>
                    <a:cubicBezTo>
                      <a:pt x="16061" y="6"/>
                      <a:pt x="16060" y="7"/>
                      <a:pt x="16059" y="7"/>
                    </a:cubicBezTo>
                    <a:lnTo>
                      <a:pt x="16059" y="7"/>
                    </a:lnTo>
                    <a:cubicBezTo>
                      <a:pt x="16058" y="7"/>
                      <a:pt x="16057" y="6"/>
                      <a:pt x="16057" y="5"/>
                    </a:cubicBezTo>
                    <a:cubicBezTo>
                      <a:pt x="16057" y="4"/>
                      <a:pt x="16058" y="3"/>
                      <a:pt x="16059" y="3"/>
                    </a:cubicBezTo>
                    <a:close/>
                    <a:moveTo>
                      <a:pt x="16067" y="3"/>
                    </a:moveTo>
                    <a:lnTo>
                      <a:pt x="16067" y="3"/>
                    </a:lnTo>
                    <a:cubicBezTo>
                      <a:pt x="16068" y="3"/>
                      <a:pt x="16069" y="4"/>
                      <a:pt x="16069" y="5"/>
                    </a:cubicBezTo>
                    <a:cubicBezTo>
                      <a:pt x="16069" y="6"/>
                      <a:pt x="16068" y="7"/>
                      <a:pt x="16067" y="7"/>
                    </a:cubicBezTo>
                    <a:lnTo>
                      <a:pt x="16067" y="7"/>
                    </a:lnTo>
                    <a:cubicBezTo>
                      <a:pt x="16066" y="7"/>
                      <a:pt x="16065" y="6"/>
                      <a:pt x="16065" y="5"/>
                    </a:cubicBezTo>
                    <a:cubicBezTo>
                      <a:pt x="16065" y="4"/>
                      <a:pt x="16066" y="3"/>
                      <a:pt x="16067" y="3"/>
                    </a:cubicBezTo>
                    <a:close/>
                    <a:moveTo>
                      <a:pt x="16075" y="3"/>
                    </a:moveTo>
                    <a:lnTo>
                      <a:pt x="16075" y="3"/>
                    </a:lnTo>
                    <a:cubicBezTo>
                      <a:pt x="16076" y="3"/>
                      <a:pt x="16077" y="4"/>
                      <a:pt x="16077" y="5"/>
                    </a:cubicBezTo>
                    <a:cubicBezTo>
                      <a:pt x="16077" y="6"/>
                      <a:pt x="16076" y="7"/>
                      <a:pt x="16075" y="7"/>
                    </a:cubicBezTo>
                    <a:lnTo>
                      <a:pt x="16075" y="7"/>
                    </a:lnTo>
                    <a:cubicBezTo>
                      <a:pt x="16074" y="7"/>
                      <a:pt x="16073" y="6"/>
                      <a:pt x="16073" y="5"/>
                    </a:cubicBezTo>
                    <a:cubicBezTo>
                      <a:pt x="16073" y="4"/>
                      <a:pt x="16074" y="3"/>
                      <a:pt x="16075" y="3"/>
                    </a:cubicBezTo>
                    <a:close/>
                    <a:moveTo>
                      <a:pt x="16083" y="3"/>
                    </a:moveTo>
                    <a:lnTo>
                      <a:pt x="16083" y="3"/>
                    </a:lnTo>
                    <a:cubicBezTo>
                      <a:pt x="16084" y="3"/>
                      <a:pt x="16085" y="4"/>
                      <a:pt x="16085" y="5"/>
                    </a:cubicBezTo>
                    <a:cubicBezTo>
                      <a:pt x="16085" y="6"/>
                      <a:pt x="16084" y="7"/>
                      <a:pt x="16083" y="7"/>
                    </a:cubicBezTo>
                    <a:lnTo>
                      <a:pt x="16083" y="7"/>
                    </a:lnTo>
                    <a:cubicBezTo>
                      <a:pt x="16082" y="7"/>
                      <a:pt x="16081" y="6"/>
                      <a:pt x="16081" y="5"/>
                    </a:cubicBezTo>
                    <a:cubicBezTo>
                      <a:pt x="16081" y="4"/>
                      <a:pt x="16082" y="3"/>
                      <a:pt x="16083" y="3"/>
                    </a:cubicBezTo>
                    <a:close/>
                    <a:moveTo>
                      <a:pt x="16091" y="3"/>
                    </a:moveTo>
                    <a:lnTo>
                      <a:pt x="16091" y="3"/>
                    </a:lnTo>
                    <a:cubicBezTo>
                      <a:pt x="16092" y="3"/>
                      <a:pt x="16093" y="4"/>
                      <a:pt x="16093" y="5"/>
                    </a:cubicBezTo>
                    <a:cubicBezTo>
                      <a:pt x="16093" y="6"/>
                      <a:pt x="16092" y="7"/>
                      <a:pt x="16091" y="7"/>
                    </a:cubicBezTo>
                    <a:lnTo>
                      <a:pt x="16091" y="7"/>
                    </a:lnTo>
                    <a:cubicBezTo>
                      <a:pt x="16090" y="7"/>
                      <a:pt x="16089" y="6"/>
                      <a:pt x="16089" y="5"/>
                    </a:cubicBezTo>
                    <a:cubicBezTo>
                      <a:pt x="16089" y="4"/>
                      <a:pt x="16090" y="3"/>
                      <a:pt x="16091" y="3"/>
                    </a:cubicBezTo>
                    <a:close/>
                    <a:moveTo>
                      <a:pt x="16099" y="3"/>
                    </a:moveTo>
                    <a:lnTo>
                      <a:pt x="16099" y="3"/>
                    </a:lnTo>
                    <a:cubicBezTo>
                      <a:pt x="16100" y="3"/>
                      <a:pt x="16101" y="4"/>
                      <a:pt x="16101" y="5"/>
                    </a:cubicBezTo>
                    <a:cubicBezTo>
                      <a:pt x="16101" y="6"/>
                      <a:pt x="16100" y="7"/>
                      <a:pt x="16099" y="7"/>
                    </a:cubicBezTo>
                    <a:lnTo>
                      <a:pt x="16099" y="7"/>
                    </a:lnTo>
                    <a:cubicBezTo>
                      <a:pt x="16098" y="7"/>
                      <a:pt x="16097" y="6"/>
                      <a:pt x="16097" y="5"/>
                    </a:cubicBezTo>
                    <a:cubicBezTo>
                      <a:pt x="16097" y="4"/>
                      <a:pt x="16098" y="3"/>
                      <a:pt x="16099" y="3"/>
                    </a:cubicBezTo>
                    <a:close/>
                    <a:moveTo>
                      <a:pt x="16107" y="3"/>
                    </a:moveTo>
                    <a:lnTo>
                      <a:pt x="16107" y="3"/>
                    </a:lnTo>
                    <a:cubicBezTo>
                      <a:pt x="16108" y="3"/>
                      <a:pt x="16109" y="4"/>
                      <a:pt x="16109" y="5"/>
                    </a:cubicBezTo>
                    <a:cubicBezTo>
                      <a:pt x="16109" y="6"/>
                      <a:pt x="16108" y="7"/>
                      <a:pt x="16107" y="7"/>
                    </a:cubicBezTo>
                    <a:lnTo>
                      <a:pt x="16107" y="7"/>
                    </a:lnTo>
                    <a:cubicBezTo>
                      <a:pt x="16106" y="7"/>
                      <a:pt x="16105" y="6"/>
                      <a:pt x="16105" y="5"/>
                    </a:cubicBezTo>
                    <a:cubicBezTo>
                      <a:pt x="16105" y="4"/>
                      <a:pt x="16106" y="3"/>
                      <a:pt x="16107" y="3"/>
                    </a:cubicBezTo>
                    <a:close/>
                    <a:moveTo>
                      <a:pt x="16115" y="3"/>
                    </a:moveTo>
                    <a:lnTo>
                      <a:pt x="16115" y="3"/>
                    </a:lnTo>
                    <a:cubicBezTo>
                      <a:pt x="16116" y="3"/>
                      <a:pt x="16117" y="4"/>
                      <a:pt x="16117" y="5"/>
                    </a:cubicBezTo>
                    <a:cubicBezTo>
                      <a:pt x="16117" y="6"/>
                      <a:pt x="16116" y="7"/>
                      <a:pt x="16115" y="7"/>
                    </a:cubicBezTo>
                    <a:lnTo>
                      <a:pt x="16115" y="7"/>
                    </a:lnTo>
                    <a:cubicBezTo>
                      <a:pt x="16114" y="7"/>
                      <a:pt x="16113" y="6"/>
                      <a:pt x="16113" y="5"/>
                    </a:cubicBezTo>
                    <a:cubicBezTo>
                      <a:pt x="16113" y="4"/>
                      <a:pt x="16114" y="3"/>
                      <a:pt x="16115" y="3"/>
                    </a:cubicBezTo>
                    <a:close/>
                    <a:moveTo>
                      <a:pt x="16123" y="3"/>
                    </a:moveTo>
                    <a:lnTo>
                      <a:pt x="16123" y="3"/>
                    </a:lnTo>
                    <a:cubicBezTo>
                      <a:pt x="16124" y="3"/>
                      <a:pt x="16125" y="4"/>
                      <a:pt x="16125" y="5"/>
                    </a:cubicBezTo>
                    <a:cubicBezTo>
                      <a:pt x="16125" y="6"/>
                      <a:pt x="16124" y="7"/>
                      <a:pt x="16123" y="7"/>
                    </a:cubicBezTo>
                    <a:lnTo>
                      <a:pt x="16123" y="7"/>
                    </a:lnTo>
                    <a:cubicBezTo>
                      <a:pt x="16122" y="7"/>
                      <a:pt x="16121" y="6"/>
                      <a:pt x="16121" y="5"/>
                    </a:cubicBezTo>
                    <a:cubicBezTo>
                      <a:pt x="16121" y="4"/>
                      <a:pt x="16122" y="3"/>
                      <a:pt x="16123" y="3"/>
                    </a:cubicBezTo>
                    <a:close/>
                    <a:moveTo>
                      <a:pt x="16131" y="3"/>
                    </a:moveTo>
                    <a:lnTo>
                      <a:pt x="16131" y="3"/>
                    </a:lnTo>
                    <a:cubicBezTo>
                      <a:pt x="16132" y="3"/>
                      <a:pt x="16133" y="4"/>
                      <a:pt x="16133" y="5"/>
                    </a:cubicBezTo>
                    <a:cubicBezTo>
                      <a:pt x="16133" y="6"/>
                      <a:pt x="16132" y="7"/>
                      <a:pt x="16131" y="7"/>
                    </a:cubicBezTo>
                    <a:lnTo>
                      <a:pt x="16131" y="7"/>
                    </a:lnTo>
                    <a:cubicBezTo>
                      <a:pt x="16130" y="7"/>
                      <a:pt x="16129" y="6"/>
                      <a:pt x="16129" y="5"/>
                    </a:cubicBezTo>
                    <a:cubicBezTo>
                      <a:pt x="16129" y="4"/>
                      <a:pt x="16130" y="3"/>
                      <a:pt x="16131" y="3"/>
                    </a:cubicBezTo>
                    <a:close/>
                    <a:moveTo>
                      <a:pt x="16139" y="3"/>
                    </a:moveTo>
                    <a:lnTo>
                      <a:pt x="16139" y="3"/>
                    </a:lnTo>
                    <a:cubicBezTo>
                      <a:pt x="16140" y="3"/>
                      <a:pt x="16141" y="4"/>
                      <a:pt x="16141" y="5"/>
                    </a:cubicBezTo>
                    <a:cubicBezTo>
                      <a:pt x="16141" y="6"/>
                      <a:pt x="16140" y="7"/>
                      <a:pt x="16139" y="7"/>
                    </a:cubicBezTo>
                    <a:lnTo>
                      <a:pt x="16139" y="7"/>
                    </a:lnTo>
                    <a:cubicBezTo>
                      <a:pt x="16138" y="7"/>
                      <a:pt x="16137" y="6"/>
                      <a:pt x="16137" y="5"/>
                    </a:cubicBezTo>
                    <a:cubicBezTo>
                      <a:pt x="16137" y="4"/>
                      <a:pt x="16138" y="3"/>
                      <a:pt x="16139" y="3"/>
                    </a:cubicBezTo>
                    <a:close/>
                    <a:moveTo>
                      <a:pt x="16147" y="3"/>
                    </a:moveTo>
                    <a:lnTo>
                      <a:pt x="16147" y="3"/>
                    </a:lnTo>
                    <a:cubicBezTo>
                      <a:pt x="16148" y="3"/>
                      <a:pt x="16149" y="4"/>
                      <a:pt x="16149" y="5"/>
                    </a:cubicBezTo>
                    <a:cubicBezTo>
                      <a:pt x="16149" y="6"/>
                      <a:pt x="16148" y="7"/>
                      <a:pt x="16147" y="7"/>
                    </a:cubicBezTo>
                    <a:lnTo>
                      <a:pt x="16147" y="7"/>
                    </a:lnTo>
                    <a:cubicBezTo>
                      <a:pt x="16146" y="7"/>
                      <a:pt x="16145" y="6"/>
                      <a:pt x="16145" y="5"/>
                    </a:cubicBezTo>
                    <a:cubicBezTo>
                      <a:pt x="16145" y="4"/>
                      <a:pt x="16146" y="3"/>
                      <a:pt x="16147" y="3"/>
                    </a:cubicBezTo>
                    <a:close/>
                    <a:moveTo>
                      <a:pt x="16155" y="3"/>
                    </a:moveTo>
                    <a:lnTo>
                      <a:pt x="16155" y="3"/>
                    </a:lnTo>
                    <a:cubicBezTo>
                      <a:pt x="16156" y="3"/>
                      <a:pt x="16157" y="4"/>
                      <a:pt x="16157" y="5"/>
                    </a:cubicBezTo>
                    <a:cubicBezTo>
                      <a:pt x="16157" y="6"/>
                      <a:pt x="16156" y="7"/>
                      <a:pt x="16155" y="7"/>
                    </a:cubicBezTo>
                    <a:lnTo>
                      <a:pt x="16155" y="7"/>
                    </a:lnTo>
                    <a:cubicBezTo>
                      <a:pt x="16154" y="7"/>
                      <a:pt x="16153" y="6"/>
                      <a:pt x="16153" y="5"/>
                    </a:cubicBezTo>
                    <a:cubicBezTo>
                      <a:pt x="16153" y="4"/>
                      <a:pt x="16154" y="3"/>
                      <a:pt x="16155" y="3"/>
                    </a:cubicBezTo>
                    <a:close/>
                    <a:moveTo>
                      <a:pt x="16163" y="3"/>
                    </a:moveTo>
                    <a:lnTo>
                      <a:pt x="16163" y="3"/>
                    </a:lnTo>
                    <a:cubicBezTo>
                      <a:pt x="16164" y="3"/>
                      <a:pt x="16165" y="4"/>
                      <a:pt x="16165" y="5"/>
                    </a:cubicBezTo>
                    <a:cubicBezTo>
                      <a:pt x="16165" y="6"/>
                      <a:pt x="16164" y="7"/>
                      <a:pt x="16163" y="7"/>
                    </a:cubicBezTo>
                    <a:lnTo>
                      <a:pt x="16163" y="7"/>
                    </a:lnTo>
                    <a:cubicBezTo>
                      <a:pt x="16162" y="7"/>
                      <a:pt x="16161" y="6"/>
                      <a:pt x="16161" y="5"/>
                    </a:cubicBezTo>
                    <a:cubicBezTo>
                      <a:pt x="16161" y="4"/>
                      <a:pt x="16162" y="3"/>
                      <a:pt x="16163" y="3"/>
                    </a:cubicBezTo>
                    <a:close/>
                    <a:moveTo>
                      <a:pt x="16171" y="3"/>
                    </a:moveTo>
                    <a:lnTo>
                      <a:pt x="16171" y="3"/>
                    </a:lnTo>
                    <a:cubicBezTo>
                      <a:pt x="16172" y="3"/>
                      <a:pt x="16173" y="4"/>
                      <a:pt x="16173" y="5"/>
                    </a:cubicBezTo>
                    <a:cubicBezTo>
                      <a:pt x="16173" y="6"/>
                      <a:pt x="16172" y="7"/>
                      <a:pt x="16171" y="7"/>
                    </a:cubicBezTo>
                    <a:lnTo>
                      <a:pt x="16171" y="7"/>
                    </a:lnTo>
                    <a:cubicBezTo>
                      <a:pt x="16170" y="7"/>
                      <a:pt x="16169" y="6"/>
                      <a:pt x="16169" y="5"/>
                    </a:cubicBezTo>
                    <a:cubicBezTo>
                      <a:pt x="16169" y="4"/>
                      <a:pt x="16170" y="3"/>
                      <a:pt x="16171" y="3"/>
                    </a:cubicBezTo>
                    <a:close/>
                    <a:moveTo>
                      <a:pt x="16179" y="3"/>
                    </a:moveTo>
                    <a:lnTo>
                      <a:pt x="16179" y="3"/>
                    </a:lnTo>
                    <a:cubicBezTo>
                      <a:pt x="16180" y="3"/>
                      <a:pt x="16181" y="4"/>
                      <a:pt x="16181" y="5"/>
                    </a:cubicBezTo>
                    <a:cubicBezTo>
                      <a:pt x="16181" y="6"/>
                      <a:pt x="16180" y="7"/>
                      <a:pt x="16179" y="7"/>
                    </a:cubicBezTo>
                    <a:lnTo>
                      <a:pt x="16179" y="7"/>
                    </a:lnTo>
                    <a:cubicBezTo>
                      <a:pt x="16178" y="7"/>
                      <a:pt x="16177" y="6"/>
                      <a:pt x="16177" y="5"/>
                    </a:cubicBezTo>
                    <a:cubicBezTo>
                      <a:pt x="16177" y="4"/>
                      <a:pt x="16178" y="3"/>
                      <a:pt x="16179" y="3"/>
                    </a:cubicBezTo>
                    <a:close/>
                    <a:moveTo>
                      <a:pt x="16187" y="3"/>
                    </a:moveTo>
                    <a:lnTo>
                      <a:pt x="16187" y="3"/>
                    </a:lnTo>
                    <a:cubicBezTo>
                      <a:pt x="16188" y="3"/>
                      <a:pt x="16189" y="4"/>
                      <a:pt x="16189" y="5"/>
                    </a:cubicBezTo>
                    <a:cubicBezTo>
                      <a:pt x="16189" y="6"/>
                      <a:pt x="16188" y="7"/>
                      <a:pt x="16187" y="7"/>
                    </a:cubicBezTo>
                    <a:lnTo>
                      <a:pt x="16187" y="7"/>
                    </a:lnTo>
                    <a:cubicBezTo>
                      <a:pt x="16186" y="7"/>
                      <a:pt x="16185" y="6"/>
                      <a:pt x="16185" y="5"/>
                    </a:cubicBezTo>
                    <a:cubicBezTo>
                      <a:pt x="16185" y="4"/>
                      <a:pt x="16186" y="3"/>
                      <a:pt x="16187" y="3"/>
                    </a:cubicBezTo>
                    <a:close/>
                    <a:moveTo>
                      <a:pt x="16195" y="3"/>
                    </a:moveTo>
                    <a:lnTo>
                      <a:pt x="16195" y="3"/>
                    </a:lnTo>
                    <a:cubicBezTo>
                      <a:pt x="16196" y="3"/>
                      <a:pt x="16197" y="4"/>
                      <a:pt x="16197" y="5"/>
                    </a:cubicBezTo>
                    <a:cubicBezTo>
                      <a:pt x="16197" y="6"/>
                      <a:pt x="16196" y="7"/>
                      <a:pt x="16195" y="7"/>
                    </a:cubicBezTo>
                    <a:lnTo>
                      <a:pt x="16195" y="7"/>
                    </a:lnTo>
                    <a:cubicBezTo>
                      <a:pt x="16194" y="7"/>
                      <a:pt x="16193" y="6"/>
                      <a:pt x="16193" y="5"/>
                    </a:cubicBezTo>
                    <a:cubicBezTo>
                      <a:pt x="16193" y="4"/>
                      <a:pt x="16194" y="3"/>
                      <a:pt x="16195" y="3"/>
                    </a:cubicBezTo>
                    <a:close/>
                    <a:moveTo>
                      <a:pt x="16203" y="3"/>
                    </a:moveTo>
                    <a:lnTo>
                      <a:pt x="16203" y="3"/>
                    </a:lnTo>
                    <a:cubicBezTo>
                      <a:pt x="16204" y="3"/>
                      <a:pt x="16205" y="4"/>
                      <a:pt x="16205" y="5"/>
                    </a:cubicBezTo>
                    <a:cubicBezTo>
                      <a:pt x="16205" y="6"/>
                      <a:pt x="16204" y="7"/>
                      <a:pt x="16203" y="7"/>
                    </a:cubicBezTo>
                    <a:lnTo>
                      <a:pt x="16203" y="7"/>
                    </a:lnTo>
                    <a:cubicBezTo>
                      <a:pt x="16202" y="7"/>
                      <a:pt x="16201" y="6"/>
                      <a:pt x="16201" y="5"/>
                    </a:cubicBezTo>
                    <a:cubicBezTo>
                      <a:pt x="16201" y="4"/>
                      <a:pt x="16202" y="3"/>
                      <a:pt x="16203" y="3"/>
                    </a:cubicBezTo>
                    <a:close/>
                    <a:moveTo>
                      <a:pt x="16211" y="3"/>
                    </a:moveTo>
                    <a:lnTo>
                      <a:pt x="16211" y="3"/>
                    </a:lnTo>
                    <a:cubicBezTo>
                      <a:pt x="16212" y="3"/>
                      <a:pt x="16213" y="4"/>
                      <a:pt x="16213" y="5"/>
                    </a:cubicBezTo>
                    <a:cubicBezTo>
                      <a:pt x="16213" y="6"/>
                      <a:pt x="16212" y="7"/>
                      <a:pt x="16211" y="7"/>
                    </a:cubicBezTo>
                    <a:lnTo>
                      <a:pt x="16211" y="7"/>
                    </a:lnTo>
                    <a:cubicBezTo>
                      <a:pt x="16210" y="7"/>
                      <a:pt x="16209" y="6"/>
                      <a:pt x="16209" y="5"/>
                    </a:cubicBezTo>
                    <a:cubicBezTo>
                      <a:pt x="16209" y="4"/>
                      <a:pt x="16210" y="3"/>
                      <a:pt x="16211" y="3"/>
                    </a:cubicBezTo>
                    <a:close/>
                    <a:moveTo>
                      <a:pt x="16219" y="3"/>
                    </a:moveTo>
                    <a:lnTo>
                      <a:pt x="16219" y="3"/>
                    </a:lnTo>
                    <a:cubicBezTo>
                      <a:pt x="16220" y="3"/>
                      <a:pt x="16221" y="4"/>
                      <a:pt x="16221" y="5"/>
                    </a:cubicBezTo>
                    <a:cubicBezTo>
                      <a:pt x="16221" y="6"/>
                      <a:pt x="16220" y="7"/>
                      <a:pt x="16219" y="7"/>
                    </a:cubicBezTo>
                    <a:lnTo>
                      <a:pt x="16219" y="7"/>
                    </a:lnTo>
                    <a:cubicBezTo>
                      <a:pt x="16218" y="7"/>
                      <a:pt x="16217" y="6"/>
                      <a:pt x="16217" y="5"/>
                    </a:cubicBezTo>
                    <a:cubicBezTo>
                      <a:pt x="16217" y="4"/>
                      <a:pt x="16218" y="3"/>
                      <a:pt x="16219" y="3"/>
                    </a:cubicBezTo>
                    <a:close/>
                    <a:moveTo>
                      <a:pt x="16227" y="3"/>
                    </a:moveTo>
                    <a:lnTo>
                      <a:pt x="16227" y="3"/>
                    </a:lnTo>
                    <a:cubicBezTo>
                      <a:pt x="16228" y="3"/>
                      <a:pt x="16229" y="4"/>
                      <a:pt x="16229" y="5"/>
                    </a:cubicBezTo>
                    <a:cubicBezTo>
                      <a:pt x="16229" y="6"/>
                      <a:pt x="16228" y="7"/>
                      <a:pt x="16227" y="7"/>
                    </a:cubicBezTo>
                    <a:lnTo>
                      <a:pt x="16227" y="7"/>
                    </a:lnTo>
                    <a:cubicBezTo>
                      <a:pt x="16226" y="7"/>
                      <a:pt x="16225" y="6"/>
                      <a:pt x="16225" y="5"/>
                    </a:cubicBezTo>
                    <a:cubicBezTo>
                      <a:pt x="16225" y="4"/>
                      <a:pt x="16226" y="3"/>
                      <a:pt x="16227" y="3"/>
                    </a:cubicBezTo>
                    <a:close/>
                    <a:moveTo>
                      <a:pt x="16235" y="3"/>
                    </a:moveTo>
                    <a:lnTo>
                      <a:pt x="16235" y="3"/>
                    </a:lnTo>
                    <a:cubicBezTo>
                      <a:pt x="16236" y="3"/>
                      <a:pt x="16237" y="4"/>
                      <a:pt x="16237" y="5"/>
                    </a:cubicBezTo>
                    <a:cubicBezTo>
                      <a:pt x="16237" y="6"/>
                      <a:pt x="16236" y="7"/>
                      <a:pt x="16235" y="7"/>
                    </a:cubicBezTo>
                    <a:lnTo>
                      <a:pt x="16235" y="7"/>
                    </a:lnTo>
                    <a:cubicBezTo>
                      <a:pt x="16234" y="7"/>
                      <a:pt x="16233" y="6"/>
                      <a:pt x="16233" y="5"/>
                    </a:cubicBezTo>
                    <a:cubicBezTo>
                      <a:pt x="16233" y="4"/>
                      <a:pt x="16234" y="3"/>
                      <a:pt x="16235" y="3"/>
                    </a:cubicBezTo>
                    <a:close/>
                    <a:moveTo>
                      <a:pt x="16243" y="3"/>
                    </a:moveTo>
                    <a:lnTo>
                      <a:pt x="16243" y="3"/>
                    </a:lnTo>
                    <a:cubicBezTo>
                      <a:pt x="16244" y="3"/>
                      <a:pt x="16245" y="4"/>
                      <a:pt x="16245" y="5"/>
                    </a:cubicBezTo>
                    <a:cubicBezTo>
                      <a:pt x="16245" y="6"/>
                      <a:pt x="16244" y="7"/>
                      <a:pt x="16243" y="7"/>
                    </a:cubicBezTo>
                    <a:lnTo>
                      <a:pt x="16243" y="7"/>
                    </a:lnTo>
                    <a:cubicBezTo>
                      <a:pt x="16242" y="7"/>
                      <a:pt x="16241" y="6"/>
                      <a:pt x="16241" y="5"/>
                    </a:cubicBezTo>
                    <a:cubicBezTo>
                      <a:pt x="16241" y="4"/>
                      <a:pt x="16242" y="3"/>
                      <a:pt x="16243" y="3"/>
                    </a:cubicBezTo>
                    <a:close/>
                    <a:moveTo>
                      <a:pt x="16251" y="3"/>
                    </a:moveTo>
                    <a:lnTo>
                      <a:pt x="16251" y="3"/>
                    </a:lnTo>
                    <a:cubicBezTo>
                      <a:pt x="16252" y="3"/>
                      <a:pt x="16253" y="4"/>
                      <a:pt x="16253" y="5"/>
                    </a:cubicBezTo>
                    <a:cubicBezTo>
                      <a:pt x="16253" y="6"/>
                      <a:pt x="16252" y="7"/>
                      <a:pt x="16251" y="7"/>
                    </a:cubicBezTo>
                    <a:lnTo>
                      <a:pt x="16251" y="7"/>
                    </a:lnTo>
                    <a:cubicBezTo>
                      <a:pt x="16250" y="7"/>
                      <a:pt x="16249" y="6"/>
                      <a:pt x="16249" y="5"/>
                    </a:cubicBezTo>
                    <a:cubicBezTo>
                      <a:pt x="16249" y="4"/>
                      <a:pt x="16250" y="3"/>
                      <a:pt x="16251" y="3"/>
                    </a:cubicBezTo>
                    <a:close/>
                    <a:moveTo>
                      <a:pt x="16259" y="3"/>
                    </a:moveTo>
                    <a:lnTo>
                      <a:pt x="16259" y="3"/>
                    </a:lnTo>
                    <a:cubicBezTo>
                      <a:pt x="16260" y="3"/>
                      <a:pt x="16261" y="4"/>
                      <a:pt x="16261" y="5"/>
                    </a:cubicBezTo>
                    <a:cubicBezTo>
                      <a:pt x="16261" y="6"/>
                      <a:pt x="16260" y="7"/>
                      <a:pt x="16259" y="7"/>
                    </a:cubicBezTo>
                    <a:lnTo>
                      <a:pt x="16259" y="7"/>
                    </a:lnTo>
                    <a:cubicBezTo>
                      <a:pt x="16258" y="7"/>
                      <a:pt x="16257" y="6"/>
                      <a:pt x="16257" y="5"/>
                    </a:cubicBezTo>
                    <a:cubicBezTo>
                      <a:pt x="16257" y="4"/>
                      <a:pt x="16258" y="3"/>
                      <a:pt x="16259" y="3"/>
                    </a:cubicBezTo>
                    <a:close/>
                    <a:moveTo>
                      <a:pt x="16267" y="3"/>
                    </a:moveTo>
                    <a:lnTo>
                      <a:pt x="16267" y="3"/>
                    </a:lnTo>
                    <a:cubicBezTo>
                      <a:pt x="16268" y="3"/>
                      <a:pt x="16269" y="4"/>
                      <a:pt x="16269" y="5"/>
                    </a:cubicBezTo>
                    <a:cubicBezTo>
                      <a:pt x="16269" y="6"/>
                      <a:pt x="16268" y="7"/>
                      <a:pt x="16267" y="7"/>
                    </a:cubicBezTo>
                    <a:lnTo>
                      <a:pt x="16267" y="7"/>
                    </a:lnTo>
                    <a:cubicBezTo>
                      <a:pt x="16266" y="7"/>
                      <a:pt x="16265" y="6"/>
                      <a:pt x="16265" y="5"/>
                    </a:cubicBezTo>
                    <a:cubicBezTo>
                      <a:pt x="16265" y="4"/>
                      <a:pt x="16266" y="3"/>
                      <a:pt x="16267" y="3"/>
                    </a:cubicBezTo>
                    <a:close/>
                    <a:moveTo>
                      <a:pt x="16275" y="3"/>
                    </a:moveTo>
                    <a:lnTo>
                      <a:pt x="16275" y="3"/>
                    </a:lnTo>
                    <a:cubicBezTo>
                      <a:pt x="16276" y="3"/>
                      <a:pt x="16277" y="4"/>
                      <a:pt x="16277" y="5"/>
                    </a:cubicBezTo>
                    <a:cubicBezTo>
                      <a:pt x="16277" y="6"/>
                      <a:pt x="16276" y="7"/>
                      <a:pt x="16275" y="7"/>
                    </a:cubicBezTo>
                    <a:lnTo>
                      <a:pt x="16275" y="7"/>
                    </a:lnTo>
                    <a:cubicBezTo>
                      <a:pt x="16274" y="7"/>
                      <a:pt x="16273" y="6"/>
                      <a:pt x="16273" y="5"/>
                    </a:cubicBezTo>
                    <a:cubicBezTo>
                      <a:pt x="16273" y="4"/>
                      <a:pt x="16274" y="3"/>
                      <a:pt x="16275" y="3"/>
                    </a:cubicBezTo>
                    <a:close/>
                    <a:moveTo>
                      <a:pt x="16283" y="3"/>
                    </a:moveTo>
                    <a:lnTo>
                      <a:pt x="16283" y="3"/>
                    </a:lnTo>
                    <a:cubicBezTo>
                      <a:pt x="16284" y="3"/>
                      <a:pt x="16285" y="4"/>
                      <a:pt x="16285" y="5"/>
                    </a:cubicBezTo>
                    <a:cubicBezTo>
                      <a:pt x="16285" y="6"/>
                      <a:pt x="16284" y="7"/>
                      <a:pt x="16283" y="7"/>
                    </a:cubicBezTo>
                    <a:lnTo>
                      <a:pt x="16283" y="7"/>
                    </a:lnTo>
                    <a:cubicBezTo>
                      <a:pt x="16282" y="7"/>
                      <a:pt x="16281" y="6"/>
                      <a:pt x="16281" y="5"/>
                    </a:cubicBezTo>
                    <a:cubicBezTo>
                      <a:pt x="16281" y="4"/>
                      <a:pt x="16282" y="3"/>
                      <a:pt x="16283" y="3"/>
                    </a:cubicBezTo>
                    <a:close/>
                    <a:moveTo>
                      <a:pt x="16291" y="3"/>
                    </a:moveTo>
                    <a:lnTo>
                      <a:pt x="16291" y="3"/>
                    </a:lnTo>
                    <a:cubicBezTo>
                      <a:pt x="16292" y="3"/>
                      <a:pt x="16293" y="4"/>
                      <a:pt x="16293" y="5"/>
                    </a:cubicBezTo>
                    <a:cubicBezTo>
                      <a:pt x="16293" y="6"/>
                      <a:pt x="16292" y="7"/>
                      <a:pt x="16291" y="7"/>
                    </a:cubicBezTo>
                    <a:lnTo>
                      <a:pt x="16291" y="7"/>
                    </a:lnTo>
                    <a:cubicBezTo>
                      <a:pt x="16290" y="7"/>
                      <a:pt x="16289" y="6"/>
                      <a:pt x="16289" y="5"/>
                    </a:cubicBezTo>
                    <a:cubicBezTo>
                      <a:pt x="16289" y="4"/>
                      <a:pt x="16290" y="3"/>
                      <a:pt x="16291" y="3"/>
                    </a:cubicBezTo>
                    <a:close/>
                    <a:moveTo>
                      <a:pt x="16299" y="3"/>
                    </a:moveTo>
                    <a:lnTo>
                      <a:pt x="16299" y="3"/>
                    </a:lnTo>
                    <a:cubicBezTo>
                      <a:pt x="16300" y="3"/>
                      <a:pt x="16301" y="4"/>
                      <a:pt x="16301" y="5"/>
                    </a:cubicBezTo>
                    <a:cubicBezTo>
                      <a:pt x="16301" y="6"/>
                      <a:pt x="16300" y="7"/>
                      <a:pt x="16299" y="7"/>
                    </a:cubicBezTo>
                    <a:lnTo>
                      <a:pt x="16299" y="7"/>
                    </a:lnTo>
                    <a:cubicBezTo>
                      <a:pt x="16298" y="7"/>
                      <a:pt x="16297" y="6"/>
                      <a:pt x="16297" y="5"/>
                    </a:cubicBezTo>
                    <a:cubicBezTo>
                      <a:pt x="16297" y="4"/>
                      <a:pt x="16298" y="3"/>
                      <a:pt x="16299" y="3"/>
                    </a:cubicBezTo>
                    <a:close/>
                    <a:moveTo>
                      <a:pt x="16307" y="3"/>
                    </a:moveTo>
                    <a:lnTo>
                      <a:pt x="16307" y="3"/>
                    </a:lnTo>
                    <a:cubicBezTo>
                      <a:pt x="16308" y="3"/>
                      <a:pt x="16309" y="4"/>
                      <a:pt x="16309" y="5"/>
                    </a:cubicBezTo>
                    <a:cubicBezTo>
                      <a:pt x="16309" y="6"/>
                      <a:pt x="16308" y="7"/>
                      <a:pt x="16307" y="7"/>
                    </a:cubicBezTo>
                    <a:lnTo>
                      <a:pt x="16307" y="7"/>
                    </a:lnTo>
                    <a:cubicBezTo>
                      <a:pt x="16306" y="7"/>
                      <a:pt x="16305" y="6"/>
                      <a:pt x="16305" y="5"/>
                    </a:cubicBezTo>
                    <a:cubicBezTo>
                      <a:pt x="16305" y="4"/>
                      <a:pt x="16306" y="3"/>
                      <a:pt x="16307" y="3"/>
                    </a:cubicBezTo>
                    <a:close/>
                    <a:moveTo>
                      <a:pt x="16315" y="3"/>
                    </a:moveTo>
                    <a:lnTo>
                      <a:pt x="16315" y="3"/>
                    </a:lnTo>
                    <a:cubicBezTo>
                      <a:pt x="16316" y="3"/>
                      <a:pt x="16317" y="4"/>
                      <a:pt x="16317" y="5"/>
                    </a:cubicBezTo>
                    <a:cubicBezTo>
                      <a:pt x="16317" y="6"/>
                      <a:pt x="16316" y="7"/>
                      <a:pt x="16315" y="7"/>
                    </a:cubicBezTo>
                    <a:lnTo>
                      <a:pt x="16315" y="7"/>
                    </a:lnTo>
                    <a:cubicBezTo>
                      <a:pt x="16314" y="7"/>
                      <a:pt x="16313" y="6"/>
                      <a:pt x="16313" y="5"/>
                    </a:cubicBezTo>
                    <a:cubicBezTo>
                      <a:pt x="16313" y="4"/>
                      <a:pt x="16314" y="3"/>
                      <a:pt x="16315" y="3"/>
                    </a:cubicBezTo>
                    <a:close/>
                    <a:moveTo>
                      <a:pt x="16323" y="3"/>
                    </a:moveTo>
                    <a:lnTo>
                      <a:pt x="16323" y="3"/>
                    </a:lnTo>
                    <a:cubicBezTo>
                      <a:pt x="16324" y="3"/>
                      <a:pt x="16325" y="4"/>
                      <a:pt x="16325" y="5"/>
                    </a:cubicBezTo>
                    <a:cubicBezTo>
                      <a:pt x="16325" y="6"/>
                      <a:pt x="16324" y="7"/>
                      <a:pt x="16323" y="7"/>
                    </a:cubicBezTo>
                    <a:lnTo>
                      <a:pt x="16323" y="7"/>
                    </a:lnTo>
                    <a:cubicBezTo>
                      <a:pt x="16322" y="7"/>
                      <a:pt x="16321" y="6"/>
                      <a:pt x="16321" y="5"/>
                    </a:cubicBezTo>
                    <a:cubicBezTo>
                      <a:pt x="16321" y="4"/>
                      <a:pt x="16322" y="3"/>
                      <a:pt x="16323" y="3"/>
                    </a:cubicBezTo>
                    <a:close/>
                    <a:moveTo>
                      <a:pt x="16331" y="3"/>
                    </a:moveTo>
                    <a:lnTo>
                      <a:pt x="16331" y="3"/>
                    </a:lnTo>
                    <a:cubicBezTo>
                      <a:pt x="16332" y="3"/>
                      <a:pt x="16333" y="4"/>
                      <a:pt x="16333" y="5"/>
                    </a:cubicBezTo>
                    <a:cubicBezTo>
                      <a:pt x="16333" y="6"/>
                      <a:pt x="16332" y="7"/>
                      <a:pt x="16331" y="7"/>
                    </a:cubicBezTo>
                    <a:lnTo>
                      <a:pt x="16331" y="7"/>
                    </a:lnTo>
                    <a:cubicBezTo>
                      <a:pt x="16330" y="7"/>
                      <a:pt x="16329" y="6"/>
                      <a:pt x="16329" y="5"/>
                    </a:cubicBezTo>
                    <a:cubicBezTo>
                      <a:pt x="16329" y="4"/>
                      <a:pt x="16330" y="3"/>
                      <a:pt x="16331" y="3"/>
                    </a:cubicBezTo>
                    <a:close/>
                    <a:moveTo>
                      <a:pt x="16339" y="3"/>
                    </a:moveTo>
                    <a:lnTo>
                      <a:pt x="16339" y="3"/>
                    </a:lnTo>
                    <a:cubicBezTo>
                      <a:pt x="16340" y="3"/>
                      <a:pt x="16341" y="4"/>
                      <a:pt x="16341" y="5"/>
                    </a:cubicBezTo>
                    <a:cubicBezTo>
                      <a:pt x="16341" y="6"/>
                      <a:pt x="16340" y="7"/>
                      <a:pt x="16339" y="7"/>
                    </a:cubicBezTo>
                    <a:lnTo>
                      <a:pt x="16339" y="7"/>
                    </a:lnTo>
                    <a:cubicBezTo>
                      <a:pt x="16338" y="7"/>
                      <a:pt x="16337" y="6"/>
                      <a:pt x="16337" y="5"/>
                    </a:cubicBezTo>
                    <a:cubicBezTo>
                      <a:pt x="16337" y="4"/>
                      <a:pt x="16338" y="3"/>
                      <a:pt x="16339" y="3"/>
                    </a:cubicBezTo>
                    <a:close/>
                    <a:moveTo>
                      <a:pt x="16347" y="3"/>
                    </a:moveTo>
                    <a:lnTo>
                      <a:pt x="16347" y="3"/>
                    </a:lnTo>
                    <a:cubicBezTo>
                      <a:pt x="16348" y="3"/>
                      <a:pt x="16349" y="4"/>
                      <a:pt x="16349" y="5"/>
                    </a:cubicBezTo>
                    <a:cubicBezTo>
                      <a:pt x="16349" y="6"/>
                      <a:pt x="16348" y="7"/>
                      <a:pt x="16347" y="7"/>
                    </a:cubicBezTo>
                    <a:lnTo>
                      <a:pt x="16347" y="7"/>
                    </a:lnTo>
                    <a:cubicBezTo>
                      <a:pt x="16346" y="7"/>
                      <a:pt x="16345" y="6"/>
                      <a:pt x="16345" y="5"/>
                    </a:cubicBezTo>
                    <a:cubicBezTo>
                      <a:pt x="16345" y="4"/>
                      <a:pt x="16346" y="3"/>
                      <a:pt x="16347" y="3"/>
                    </a:cubicBezTo>
                    <a:close/>
                    <a:moveTo>
                      <a:pt x="16355" y="3"/>
                    </a:moveTo>
                    <a:lnTo>
                      <a:pt x="16355" y="3"/>
                    </a:lnTo>
                    <a:cubicBezTo>
                      <a:pt x="16356" y="3"/>
                      <a:pt x="16357" y="4"/>
                      <a:pt x="16357" y="5"/>
                    </a:cubicBezTo>
                    <a:cubicBezTo>
                      <a:pt x="16357" y="6"/>
                      <a:pt x="16356" y="7"/>
                      <a:pt x="16355" y="7"/>
                    </a:cubicBezTo>
                    <a:lnTo>
                      <a:pt x="16355" y="7"/>
                    </a:lnTo>
                    <a:cubicBezTo>
                      <a:pt x="16354" y="7"/>
                      <a:pt x="16353" y="6"/>
                      <a:pt x="16353" y="5"/>
                    </a:cubicBezTo>
                    <a:cubicBezTo>
                      <a:pt x="16353" y="4"/>
                      <a:pt x="16354" y="3"/>
                      <a:pt x="16355" y="3"/>
                    </a:cubicBezTo>
                    <a:close/>
                    <a:moveTo>
                      <a:pt x="16363" y="3"/>
                    </a:moveTo>
                    <a:lnTo>
                      <a:pt x="16363" y="3"/>
                    </a:lnTo>
                    <a:cubicBezTo>
                      <a:pt x="16364" y="3"/>
                      <a:pt x="16365" y="4"/>
                      <a:pt x="16365" y="5"/>
                    </a:cubicBezTo>
                    <a:cubicBezTo>
                      <a:pt x="16365" y="6"/>
                      <a:pt x="16364" y="7"/>
                      <a:pt x="16363" y="7"/>
                    </a:cubicBezTo>
                    <a:lnTo>
                      <a:pt x="16363" y="7"/>
                    </a:lnTo>
                    <a:cubicBezTo>
                      <a:pt x="16362" y="7"/>
                      <a:pt x="16361" y="6"/>
                      <a:pt x="16361" y="5"/>
                    </a:cubicBezTo>
                    <a:cubicBezTo>
                      <a:pt x="16361" y="4"/>
                      <a:pt x="16362" y="3"/>
                      <a:pt x="16363" y="3"/>
                    </a:cubicBezTo>
                    <a:close/>
                    <a:moveTo>
                      <a:pt x="16371" y="3"/>
                    </a:moveTo>
                    <a:lnTo>
                      <a:pt x="16371" y="3"/>
                    </a:lnTo>
                    <a:cubicBezTo>
                      <a:pt x="16372" y="3"/>
                      <a:pt x="16373" y="4"/>
                      <a:pt x="16373" y="5"/>
                    </a:cubicBezTo>
                    <a:cubicBezTo>
                      <a:pt x="16373" y="6"/>
                      <a:pt x="16372" y="7"/>
                      <a:pt x="16371" y="7"/>
                    </a:cubicBezTo>
                    <a:lnTo>
                      <a:pt x="16371" y="7"/>
                    </a:lnTo>
                    <a:cubicBezTo>
                      <a:pt x="16370" y="7"/>
                      <a:pt x="16369" y="6"/>
                      <a:pt x="16369" y="5"/>
                    </a:cubicBezTo>
                    <a:cubicBezTo>
                      <a:pt x="16369" y="4"/>
                      <a:pt x="16370" y="3"/>
                      <a:pt x="16371" y="3"/>
                    </a:cubicBezTo>
                    <a:close/>
                    <a:moveTo>
                      <a:pt x="16379" y="3"/>
                    </a:moveTo>
                    <a:lnTo>
                      <a:pt x="16379" y="3"/>
                    </a:lnTo>
                    <a:cubicBezTo>
                      <a:pt x="16380" y="3"/>
                      <a:pt x="16381" y="4"/>
                      <a:pt x="16381" y="5"/>
                    </a:cubicBezTo>
                    <a:cubicBezTo>
                      <a:pt x="16381" y="6"/>
                      <a:pt x="16380" y="7"/>
                      <a:pt x="16379" y="7"/>
                    </a:cubicBezTo>
                    <a:lnTo>
                      <a:pt x="16379" y="7"/>
                    </a:lnTo>
                    <a:cubicBezTo>
                      <a:pt x="16378" y="7"/>
                      <a:pt x="16377" y="6"/>
                      <a:pt x="16377" y="5"/>
                    </a:cubicBezTo>
                    <a:cubicBezTo>
                      <a:pt x="16377" y="4"/>
                      <a:pt x="16378" y="3"/>
                      <a:pt x="16379" y="3"/>
                    </a:cubicBezTo>
                    <a:close/>
                    <a:moveTo>
                      <a:pt x="16387" y="3"/>
                    </a:moveTo>
                    <a:lnTo>
                      <a:pt x="16387" y="3"/>
                    </a:lnTo>
                    <a:cubicBezTo>
                      <a:pt x="16388" y="3"/>
                      <a:pt x="16389" y="4"/>
                      <a:pt x="16389" y="5"/>
                    </a:cubicBezTo>
                    <a:cubicBezTo>
                      <a:pt x="16389" y="6"/>
                      <a:pt x="16388" y="7"/>
                      <a:pt x="16387" y="7"/>
                    </a:cubicBezTo>
                    <a:lnTo>
                      <a:pt x="16387" y="7"/>
                    </a:lnTo>
                    <a:cubicBezTo>
                      <a:pt x="16386" y="7"/>
                      <a:pt x="16385" y="6"/>
                      <a:pt x="16385" y="5"/>
                    </a:cubicBezTo>
                    <a:cubicBezTo>
                      <a:pt x="16385" y="4"/>
                      <a:pt x="16386" y="3"/>
                      <a:pt x="16387" y="3"/>
                    </a:cubicBezTo>
                    <a:close/>
                    <a:moveTo>
                      <a:pt x="16395" y="3"/>
                    </a:moveTo>
                    <a:lnTo>
                      <a:pt x="16395" y="3"/>
                    </a:lnTo>
                    <a:cubicBezTo>
                      <a:pt x="16396" y="3"/>
                      <a:pt x="16397" y="4"/>
                      <a:pt x="16397" y="5"/>
                    </a:cubicBezTo>
                    <a:cubicBezTo>
                      <a:pt x="16397" y="6"/>
                      <a:pt x="16396" y="7"/>
                      <a:pt x="16395" y="7"/>
                    </a:cubicBezTo>
                    <a:lnTo>
                      <a:pt x="16395" y="7"/>
                    </a:lnTo>
                    <a:cubicBezTo>
                      <a:pt x="16394" y="7"/>
                      <a:pt x="16393" y="6"/>
                      <a:pt x="16393" y="5"/>
                    </a:cubicBezTo>
                    <a:cubicBezTo>
                      <a:pt x="16393" y="4"/>
                      <a:pt x="16394" y="3"/>
                      <a:pt x="16395" y="3"/>
                    </a:cubicBezTo>
                    <a:close/>
                    <a:moveTo>
                      <a:pt x="16403" y="3"/>
                    </a:moveTo>
                    <a:lnTo>
                      <a:pt x="16403" y="3"/>
                    </a:lnTo>
                    <a:cubicBezTo>
                      <a:pt x="16404" y="3"/>
                      <a:pt x="16405" y="4"/>
                      <a:pt x="16405" y="5"/>
                    </a:cubicBezTo>
                    <a:cubicBezTo>
                      <a:pt x="16405" y="6"/>
                      <a:pt x="16404" y="7"/>
                      <a:pt x="16403" y="7"/>
                    </a:cubicBezTo>
                    <a:lnTo>
                      <a:pt x="16403" y="7"/>
                    </a:lnTo>
                    <a:cubicBezTo>
                      <a:pt x="16402" y="7"/>
                      <a:pt x="16401" y="6"/>
                      <a:pt x="16401" y="5"/>
                    </a:cubicBezTo>
                    <a:cubicBezTo>
                      <a:pt x="16401" y="4"/>
                      <a:pt x="16402" y="3"/>
                      <a:pt x="16403" y="3"/>
                    </a:cubicBezTo>
                    <a:close/>
                    <a:moveTo>
                      <a:pt x="16411" y="3"/>
                    </a:moveTo>
                    <a:lnTo>
                      <a:pt x="16411" y="3"/>
                    </a:lnTo>
                    <a:cubicBezTo>
                      <a:pt x="16412" y="3"/>
                      <a:pt x="16413" y="4"/>
                      <a:pt x="16413" y="5"/>
                    </a:cubicBezTo>
                    <a:cubicBezTo>
                      <a:pt x="16413" y="6"/>
                      <a:pt x="16412" y="7"/>
                      <a:pt x="16411" y="7"/>
                    </a:cubicBezTo>
                    <a:lnTo>
                      <a:pt x="16411" y="7"/>
                    </a:lnTo>
                    <a:cubicBezTo>
                      <a:pt x="16410" y="7"/>
                      <a:pt x="16409" y="6"/>
                      <a:pt x="16409" y="5"/>
                    </a:cubicBezTo>
                    <a:cubicBezTo>
                      <a:pt x="16409" y="4"/>
                      <a:pt x="16410" y="3"/>
                      <a:pt x="16411" y="3"/>
                    </a:cubicBezTo>
                    <a:close/>
                    <a:moveTo>
                      <a:pt x="16419" y="3"/>
                    </a:moveTo>
                    <a:lnTo>
                      <a:pt x="16419" y="3"/>
                    </a:lnTo>
                    <a:cubicBezTo>
                      <a:pt x="16420" y="3"/>
                      <a:pt x="16421" y="4"/>
                      <a:pt x="16421" y="5"/>
                    </a:cubicBezTo>
                    <a:cubicBezTo>
                      <a:pt x="16421" y="6"/>
                      <a:pt x="16420" y="7"/>
                      <a:pt x="16419" y="7"/>
                    </a:cubicBezTo>
                    <a:lnTo>
                      <a:pt x="16419" y="7"/>
                    </a:lnTo>
                    <a:cubicBezTo>
                      <a:pt x="16418" y="7"/>
                      <a:pt x="16417" y="6"/>
                      <a:pt x="16417" y="5"/>
                    </a:cubicBezTo>
                    <a:cubicBezTo>
                      <a:pt x="16417" y="4"/>
                      <a:pt x="16418" y="3"/>
                      <a:pt x="16419" y="3"/>
                    </a:cubicBezTo>
                    <a:close/>
                    <a:moveTo>
                      <a:pt x="16427" y="3"/>
                    </a:moveTo>
                    <a:lnTo>
                      <a:pt x="16427" y="3"/>
                    </a:lnTo>
                    <a:cubicBezTo>
                      <a:pt x="16428" y="3"/>
                      <a:pt x="16429" y="4"/>
                      <a:pt x="16429" y="5"/>
                    </a:cubicBezTo>
                    <a:cubicBezTo>
                      <a:pt x="16429" y="6"/>
                      <a:pt x="16428" y="7"/>
                      <a:pt x="16427" y="7"/>
                    </a:cubicBezTo>
                    <a:lnTo>
                      <a:pt x="16427" y="7"/>
                    </a:lnTo>
                    <a:cubicBezTo>
                      <a:pt x="16426" y="7"/>
                      <a:pt x="16425" y="6"/>
                      <a:pt x="16425" y="5"/>
                    </a:cubicBezTo>
                    <a:cubicBezTo>
                      <a:pt x="16425" y="4"/>
                      <a:pt x="16426" y="3"/>
                      <a:pt x="16427" y="3"/>
                    </a:cubicBezTo>
                    <a:close/>
                    <a:moveTo>
                      <a:pt x="16435" y="3"/>
                    </a:moveTo>
                    <a:lnTo>
                      <a:pt x="16435" y="3"/>
                    </a:lnTo>
                    <a:cubicBezTo>
                      <a:pt x="16436" y="3"/>
                      <a:pt x="16437" y="4"/>
                      <a:pt x="16437" y="5"/>
                    </a:cubicBezTo>
                    <a:cubicBezTo>
                      <a:pt x="16437" y="6"/>
                      <a:pt x="16436" y="7"/>
                      <a:pt x="16435" y="7"/>
                    </a:cubicBezTo>
                    <a:lnTo>
                      <a:pt x="16435" y="7"/>
                    </a:lnTo>
                    <a:cubicBezTo>
                      <a:pt x="16434" y="7"/>
                      <a:pt x="16433" y="6"/>
                      <a:pt x="16433" y="5"/>
                    </a:cubicBezTo>
                    <a:cubicBezTo>
                      <a:pt x="16433" y="4"/>
                      <a:pt x="16434" y="3"/>
                      <a:pt x="16435" y="3"/>
                    </a:cubicBezTo>
                    <a:close/>
                    <a:moveTo>
                      <a:pt x="16443" y="3"/>
                    </a:moveTo>
                    <a:lnTo>
                      <a:pt x="16443" y="3"/>
                    </a:lnTo>
                    <a:cubicBezTo>
                      <a:pt x="16444" y="3"/>
                      <a:pt x="16445" y="4"/>
                      <a:pt x="16445" y="5"/>
                    </a:cubicBezTo>
                    <a:cubicBezTo>
                      <a:pt x="16445" y="6"/>
                      <a:pt x="16444" y="7"/>
                      <a:pt x="16443" y="7"/>
                    </a:cubicBezTo>
                    <a:lnTo>
                      <a:pt x="16443" y="7"/>
                    </a:lnTo>
                    <a:cubicBezTo>
                      <a:pt x="16442" y="7"/>
                      <a:pt x="16441" y="6"/>
                      <a:pt x="16441" y="5"/>
                    </a:cubicBezTo>
                    <a:cubicBezTo>
                      <a:pt x="16441" y="4"/>
                      <a:pt x="16442" y="3"/>
                      <a:pt x="16443" y="3"/>
                    </a:cubicBezTo>
                    <a:close/>
                    <a:moveTo>
                      <a:pt x="16451" y="3"/>
                    </a:moveTo>
                    <a:lnTo>
                      <a:pt x="16451" y="3"/>
                    </a:lnTo>
                    <a:cubicBezTo>
                      <a:pt x="16452" y="3"/>
                      <a:pt x="16453" y="4"/>
                      <a:pt x="16453" y="5"/>
                    </a:cubicBezTo>
                    <a:cubicBezTo>
                      <a:pt x="16453" y="6"/>
                      <a:pt x="16452" y="7"/>
                      <a:pt x="16451" y="7"/>
                    </a:cubicBezTo>
                    <a:lnTo>
                      <a:pt x="16451" y="7"/>
                    </a:lnTo>
                    <a:cubicBezTo>
                      <a:pt x="16450" y="7"/>
                      <a:pt x="16449" y="6"/>
                      <a:pt x="16449" y="5"/>
                    </a:cubicBezTo>
                    <a:cubicBezTo>
                      <a:pt x="16449" y="4"/>
                      <a:pt x="16450" y="3"/>
                      <a:pt x="16451" y="3"/>
                    </a:cubicBezTo>
                    <a:close/>
                    <a:moveTo>
                      <a:pt x="16459" y="3"/>
                    </a:moveTo>
                    <a:lnTo>
                      <a:pt x="16459" y="3"/>
                    </a:lnTo>
                    <a:cubicBezTo>
                      <a:pt x="16460" y="3"/>
                      <a:pt x="16461" y="4"/>
                      <a:pt x="16461" y="5"/>
                    </a:cubicBezTo>
                    <a:cubicBezTo>
                      <a:pt x="16461" y="6"/>
                      <a:pt x="16460" y="7"/>
                      <a:pt x="16459" y="7"/>
                    </a:cubicBezTo>
                    <a:lnTo>
                      <a:pt x="16459" y="7"/>
                    </a:lnTo>
                    <a:cubicBezTo>
                      <a:pt x="16458" y="7"/>
                      <a:pt x="16457" y="6"/>
                      <a:pt x="16457" y="5"/>
                    </a:cubicBezTo>
                    <a:cubicBezTo>
                      <a:pt x="16457" y="4"/>
                      <a:pt x="16458" y="3"/>
                      <a:pt x="16459" y="3"/>
                    </a:cubicBezTo>
                    <a:close/>
                    <a:moveTo>
                      <a:pt x="16467" y="3"/>
                    </a:moveTo>
                    <a:lnTo>
                      <a:pt x="16467" y="3"/>
                    </a:lnTo>
                    <a:cubicBezTo>
                      <a:pt x="16468" y="3"/>
                      <a:pt x="16469" y="4"/>
                      <a:pt x="16469" y="5"/>
                    </a:cubicBezTo>
                    <a:cubicBezTo>
                      <a:pt x="16469" y="6"/>
                      <a:pt x="16468" y="7"/>
                      <a:pt x="16467" y="7"/>
                    </a:cubicBezTo>
                    <a:lnTo>
                      <a:pt x="16467" y="7"/>
                    </a:lnTo>
                    <a:cubicBezTo>
                      <a:pt x="16466" y="7"/>
                      <a:pt x="16465" y="6"/>
                      <a:pt x="16465" y="5"/>
                    </a:cubicBezTo>
                    <a:cubicBezTo>
                      <a:pt x="16465" y="4"/>
                      <a:pt x="16466" y="3"/>
                      <a:pt x="16467" y="3"/>
                    </a:cubicBezTo>
                    <a:close/>
                    <a:moveTo>
                      <a:pt x="16475" y="3"/>
                    </a:moveTo>
                    <a:lnTo>
                      <a:pt x="16475" y="3"/>
                    </a:lnTo>
                    <a:cubicBezTo>
                      <a:pt x="16476" y="3"/>
                      <a:pt x="16477" y="4"/>
                      <a:pt x="16477" y="5"/>
                    </a:cubicBezTo>
                    <a:cubicBezTo>
                      <a:pt x="16477" y="6"/>
                      <a:pt x="16476" y="7"/>
                      <a:pt x="16475" y="7"/>
                    </a:cubicBezTo>
                    <a:lnTo>
                      <a:pt x="16475" y="7"/>
                    </a:lnTo>
                    <a:cubicBezTo>
                      <a:pt x="16474" y="7"/>
                      <a:pt x="16473" y="6"/>
                      <a:pt x="16473" y="5"/>
                    </a:cubicBezTo>
                    <a:cubicBezTo>
                      <a:pt x="16473" y="4"/>
                      <a:pt x="16474" y="3"/>
                      <a:pt x="16475" y="3"/>
                    </a:cubicBezTo>
                    <a:close/>
                    <a:moveTo>
                      <a:pt x="16483" y="3"/>
                    </a:moveTo>
                    <a:lnTo>
                      <a:pt x="16483" y="3"/>
                    </a:lnTo>
                    <a:cubicBezTo>
                      <a:pt x="16484" y="3"/>
                      <a:pt x="16485" y="4"/>
                      <a:pt x="16485" y="5"/>
                    </a:cubicBezTo>
                    <a:cubicBezTo>
                      <a:pt x="16485" y="6"/>
                      <a:pt x="16484" y="7"/>
                      <a:pt x="16483" y="7"/>
                    </a:cubicBezTo>
                    <a:lnTo>
                      <a:pt x="16483" y="7"/>
                    </a:lnTo>
                    <a:cubicBezTo>
                      <a:pt x="16482" y="7"/>
                      <a:pt x="16481" y="6"/>
                      <a:pt x="16481" y="5"/>
                    </a:cubicBezTo>
                    <a:cubicBezTo>
                      <a:pt x="16481" y="4"/>
                      <a:pt x="16482" y="3"/>
                      <a:pt x="16483" y="3"/>
                    </a:cubicBezTo>
                    <a:close/>
                    <a:moveTo>
                      <a:pt x="16491" y="3"/>
                    </a:moveTo>
                    <a:lnTo>
                      <a:pt x="16491" y="3"/>
                    </a:lnTo>
                    <a:cubicBezTo>
                      <a:pt x="16492" y="3"/>
                      <a:pt x="16493" y="4"/>
                      <a:pt x="16493" y="5"/>
                    </a:cubicBezTo>
                    <a:cubicBezTo>
                      <a:pt x="16493" y="6"/>
                      <a:pt x="16492" y="7"/>
                      <a:pt x="16491" y="7"/>
                    </a:cubicBezTo>
                    <a:lnTo>
                      <a:pt x="16491" y="7"/>
                    </a:lnTo>
                    <a:cubicBezTo>
                      <a:pt x="16490" y="7"/>
                      <a:pt x="16489" y="6"/>
                      <a:pt x="16489" y="5"/>
                    </a:cubicBezTo>
                    <a:cubicBezTo>
                      <a:pt x="16489" y="4"/>
                      <a:pt x="16490" y="3"/>
                      <a:pt x="16491" y="3"/>
                    </a:cubicBezTo>
                    <a:close/>
                    <a:moveTo>
                      <a:pt x="16499" y="3"/>
                    </a:moveTo>
                    <a:lnTo>
                      <a:pt x="16499" y="3"/>
                    </a:lnTo>
                    <a:cubicBezTo>
                      <a:pt x="16500" y="3"/>
                      <a:pt x="16501" y="4"/>
                      <a:pt x="16501" y="5"/>
                    </a:cubicBezTo>
                    <a:cubicBezTo>
                      <a:pt x="16501" y="6"/>
                      <a:pt x="16500" y="7"/>
                      <a:pt x="16499" y="7"/>
                    </a:cubicBezTo>
                    <a:lnTo>
                      <a:pt x="16499" y="7"/>
                    </a:lnTo>
                    <a:cubicBezTo>
                      <a:pt x="16498" y="7"/>
                      <a:pt x="16497" y="6"/>
                      <a:pt x="16497" y="5"/>
                    </a:cubicBezTo>
                    <a:cubicBezTo>
                      <a:pt x="16497" y="4"/>
                      <a:pt x="16498" y="3"/>
                      <a:pt x="16499" y="3"/>
                    </a:cubicBezTo>
                    <a:close/>
                    <a:moveTo>
                      <a:pt x="16507" y="3"/>
                    </a:moveTo>
                    <a:lnTo>
                      <a:pt x="16507" y="3"/>
                    </a:lnTo>
                    <a:cubicBezTo>
                      <a:pt x="16508" y="3"/>
                      <a:pt x="16509" y="4"/>
                      <a:pt x="16509" y="5"/>
                    </a:cubicBezTo>
                    <a:cubicBezTo>
                      <a:pt x="16509" y="6"/>
                      <a:pt x="16508" y="7"/>
                      <a:pt x="16507" y="7"/>
                    </a:cubicBezTo>
                    <a:lnTo>
                      <a:pt x="16507" y="7"/>
                    </a:lnTo>
                    <a:cubicBezTo>
                      <a:pt x="16506" y="7"/>
                      <a:pt x="16505" y="6"/>
                      <a:pt x="16505" y="5"/>
                    </a:cubicBezTo>
                    <a:cubicBezTo>
                      <a:pt x="16505" y="4"/>
                      <a:pt x="16506" y="3"/>
                      <a:pt x="16507" y="3"/>
                    </a:cubicBezTo>
                    <a:close/>
                    <a:moveTo>
                      <a:pt x="16515" y="3"/>
                    </a:moveTo>
                    <a:lnTo>
                      <a:pt x="16515" y="3"/>
                    </a:lnTo>
                    <a:cubicBezTo>
                      <a:pt x="16516" y="3"/>
                      <a:pt x="16517" y="4"/>
                      <a:pt x="16517" y="5"/>
                    </a:cubicBezTo>
                    <a:cubicBezTo>
                      <a:pt x="16517" y="6"/>
                      <a:pt x="16516" y="7"/>
                      <a:pt x="16515" y="7"/>
                    </a:cubicBezTo>
                    <a:lnTo>
                      <a:pt x="16515" y="7"/>
                    </a:lnTo>
                    <a:cubicBezTo>
                      <a:pt x="16514" y="7"/>
                      <a:pt x="16513" y="6"/>
                      <a:pt x="16513" y="5"/>
                    </a:cubicBezTo>
                    <a:cubicBezTo>
                      <a:pt x="16513" y="4"/>
                      <a:pt x="16514" y="3"/>
                      <a:pt x="16515" y="3"/>
                    </a:cubicBezTo>
                    <a:close/>
                    <a:moveTo>
                      <a:pt x="16523" y="3"/>
                    </a:moveTo>
                    <a:lnTo>
                      <a:pt x="16523" y="3"/>
                    </a:lnTo>
                    <a:cubicBezTo>
                      <a:pt x="16524" y="3"/>
                      <a:pt x="16525" y="4"/>
                      <a:pt x="16525" y="5"/>
                    </a:cubicBezTo>
                    <a:cubicBezTo>
                      <a:pt x="16525" y="6"/>
                      <a:pt x="16524" y="7"/>
                      <a:pt x="16523" y="7"/>
                    </a:cubicBezTo>
                    <a:lnTo>
                      <a:pt x="16523" y="7"/>
                    </a:lnTo>
                    <a:cubicBezTo>
                      <a:pt x="16522" y="7"/>
                      <a:pt x="16521" y="6"/>
                      <a:pt x="16521" y="5"/>
                    </a:cubicBezTo>
                    <a:cubicBezTo>
                      <a:pt x="16521" y="4"/>
                      <a:pt x="16522" y="3"/>
                      <a:pt x="16523" y="3"/>
                    </a:cubicBezTo>
                    <a:close/>
                    <a:moveTo>
                      <a:pt x="16531" y="3"/>
                    </a:moveTo>
                    <a:lnTo>
                      <a:pt x="16531" y="3"/>
                    </a:lnTo>
                    <a:cubicBezTo>
                      <a:pt x="16532" y="3"/>
                      <a:pt x="16533" y="4"/>
                      <a:pt x="16533" y="5"/>
                    </a:cubicBezTo>
                    <a:cubicBezTo>
                      <a:pt x="16533" y="6"/>
                      <a:pt x="16532" y="7"/>
                      <a:pt x="16531" y="7"/>
                    </a:cubicBezTo>
                    <a:lnTo>
                      <a:pt x="16531" y="7"/>
                    </a:lnTo>
                    <a:cubicBezTo>
                      <a:pt x="16530" y="7"/>
                      <a:pt x="16529" y="6"/>
                      <a:pt x="16529" y="5"/>
                    </a:cubicBezTo>
                    <a:cubicBezTo>
                      <a:pt x="16529" y="4"/>
                      <a:pt x="16530" y="3"/>
                      <a:pt x="16531" y="3"/>
                    </a:cubicBezTo>
                    <a:close/>
                    <a:moveTo>
                      <a:pt x="16539" y="3"/>
                    </a:moveTo>
                    <a:lnTo>
                      <a:pt x="16539" y="3"/>
                    </a:lnTo>
                    <a:cubicBezTo>
                      <a:pt x="16540" y="3"/>
                      <a:pt x="16541" y="4"/>
                      <a:pt x="16541" y="5"/>
                    </a:cubicBezTo>
                    <a:cubicBezTo>
                      <a:pt x="16541" y="6"/>
                      <a:pt x="16540" y="7"/>
                      <a:pt x="16539" y="7"/>
                    </a:cubicBezTo>
                    <a:lnTo>
                      <a:pt x="16539" y="7"/>
                    </a:lnTo>
                    <a:cubicBezTo>
                      <a:pt x="16538" y="7"/>
                      <a:pt x="16537" y="6"/>
                      <a:pt x="16537" y="5"/>
                    </a:cubicBezTo>
                    <a:cubicBezTo>
                      <a:pt x="16537" y="4"/>
                      <a:pt x="16538" y="3"/>
                      <a:pt x="16539" y="3"/>
                    </a:cubicBezTo>
                    <a:close/>
                    <a:moveTo>
                      <a:pt x="16547" y="3"/>
                    </a:moveTo>
                    <a:lnTo>
                      <a:pt x="16547" y="3"/>
                    </a:lnTo>
                    <a:cubicBezTo>
                      <a:pt x="16548" y="3"/>
                      <a:pt x="16549" y="4"/>
                      <a:pt x="16549" y="5"/>
                    </a:cubicBezTo>
                    <a:cubicBezTo>
                      <a:pt x="16549" y="6"/>
                      <a:pt x="16548" y="7"/>
                      <a:pt x="16547" y="7"/>
                    </a:cubicBezTo>
                    <a:lnTo>
                      <a:pt x="16547" y="7"/>
                    </a:lnTo>
                    <a:cubicBezTo>
                      <a:pt x="16546" y="7"/>
                      <a:pt x="16545" y="6"/>
                      <a:pt x="16545" y="5"/>
                    </a:cubicBezTo>
                    <a:cubicBezTo>
                      <a:pt x="16545" y="4"/>
                      <a:pt x="16546" y="3"/>
                      <a:pt x="16547" y="3"/>
                    </a:cubicBezTo>
                    <a:close/>
                    <a:moveTo>
                      <a:pt x="16555" y="3"/>
                    </a:moveTo>
                    <a:lnTo>
                      <a:pt x="16555" y="3"/>
                    </a:lnTo>
                    <a:cubicBezTo>
                      <a:pt x="16556" y="3"/>
                      <a:pt x="16557" y="4"/>
                      <a:pt x="16557" y="5"/>
                    </a:cubicBezTo>
                    <a:cubicBezTo>
                      <a:pt x="16557" y="6"/>
                      <a:pt x="16556" y="7"/>
                      <a:pt x="16555" y="7"/>
                    </a:cubicBezTo>
                    <a:lnTo>
                      <a:pt x="16555" y="7"/>
                    </a:lnTo>
                    <a:cubicBezTo>
                      <a:pt x="16554" y="7"/>
                      <a:pt x="16553" y="6"/>
                      <a:pt x="16553" y="5"/>
                    </a:cubicBezTo>
                    <a:cubicBezTo>
                      <a:pt x="16553" y="4"/>
                      <a:pt x="16554" y="3"/>
                      <a:pt x="16555" y="3"/>
                    </a:cubicBezTo>
                    <a:close/>
                    <a:moveTo>
                      <a:pt x="16563" y="3"/>
                    </a:moveTo>
                    <a:lnTo>
                      <a:pt x="16563" y="3"/>
                    </a:lnTo>
                    <a:cubicBezTo>
                      <a:pt x="16564" y="3"/>
                      <a:pt x="16565" y="4"/>
                      <a:pt x="16565" y="5"/>
                    </a:cubicBezTo>
                    <a:cubicBezTo>
                      <a:pt x="16565" y="6"/>
                      <a:pt x="16564" y="7"/>
                      <a:pt x="16563" y="7"/>
                    </a:cubicBezTo>
                    <a:lnTo>
                      <a:pt x="16563" y="7"/>
                    </a:lnTo>
                    <a:cubicBezTo>
                      <a:pt x="16562" y="7"/>
                      <a:pt x="16561" y="6"/>
                      <a:pt x="16561" y="5"/>
                    </a:cubicBezTo>
                    <a:cubicBezTo>
                      <a:pt x="16561" y="4"/>
                      <a:pt x="16562" y="3"/>
                      <a:pt x="16563" y="3"/>
                    </a:cubicBezTo>
                    <a:close/>
                    <a:moveTo>
                      <a:pt x="16571" y="3"/>
                    </a:moveTo>
                    <a:lnTo>
                      <a:pt x="16571" y="3"/>
                    </a:lnTo>
                    <a:cubicBezTo>
                      <a:pt x="16572" y="3"/>
                      <a:pt x="16573" y="4"/>
                      <a:pt x="16573" y="5"/>
                    </a:cubicBezTo>
                    <a:cubicBezTo>
                      <a:pt x="16573" y="6"/>
                      <a:pt x="16572" y="7"/>
                      <a:pt x="16571" y="7"/>
                    </a:cubicBezTo>
                    <a:lnTo>
                      <a:pt x="16571" y="7"/>
                    </a:lnTo>
                    <a:cubicBezTo>
                      <a:pt x="16570" y="7"/>
                      <a:pt x="16569" y="6"/>
                      <a:pt x="16569" y="5"/>
                    </a:cubicBezTo>
                    <a:cubicBezTo>
                      <a:pt x="16569" y="4"/>
                      <a:pt x="16570" y="3"/>
                      <a:pt x="16571" y="3"/>
                    </a:cubicBezTo>
                    <a:close/>
                    <a:moveTo>
                      <a:pt x="16579" y="3"/>
                    </a:moveTo>
                    <a:lnTo>
                      <a:pt x="16579" y="3"/>
                    </a:lnTo>
                    <a:cubicBezTo>
                      <a:pt x="16580" y="3"/>
                      <a:pt x="16581" y="4"/>
                      <a:pt x="16581" y="5"/>
                    </a:cubicBezTo>
                    <a:cubicBezTo>
                      <a:pt x="16581" y="6"/>
                      <a:pt x="16580" y="7"/>
                      <a:pt x="16579" y="7"/>
                    </a:cubicBezTo>
                    <a:lnTo>
                      <a:pt x="16579" y="7"/>
                    </a:lnTo>
                    <a:cubicBezTo>
                      <a:pt x="16578" y="7"/>
                      <a:pt x="16577" y="6"/>
                      <a:pt x="16577" y="5"/>
                    </a:cubicBezTo>
                    <a:cubicBezTo>
                      <a:pt x="16577" y="4"/>
                      <a:pt x="16578" y="3"/>
                      <a:pt x="16579" y="3"/>
                    </a:cubicBezTo>
                    <a:close/>
                    <a:moveTo>
                      <a:pt x="16587" y="3"/>
                    </a:moveTo>
                    <a:lnTo>
                      <a:pt x="16587" y="3"/>
                    </a:lnTo>
                    <a:cubicBezTo>
                      <a:pt x="16588" y="3"/>
                      <a:pt x="16589" y="4"/>
                      <a:pt x="16589" y="5"/>
                    </a:cubicBezTo>
                    <a:cubicBezTo>
                      <a:pt x="16589" y="6"/>
                      <a:pt x="16588" y="7"/>
                      <a:pt x="16587" y="7"/>
                    </a:cubicBezTo>
                    <a:lnTo>
                      <a:pt x="16587" y="7"/>
                    </a:lnTo>
                    <a:cubicBezTo>
                      <a:pt x="16586" y="7"/>
                      <a:pt x="16585" y="6"/>
                      <a:pt x="16585" y="5"/>
                    </a:cubicBezTo>
                    <a:cubicBezTo>
                      <a:pt x="16585" y="4"/>
                      <a:pt x="16586" y="3"/>
                      <a:pt x="16587" y="3"/>
                    </a:cubicBezTo>
                    <a:close/>
                    <a:moveTo>
                      <a:pt x="16595" y="3"/>
                    </a:moveTo>
                    <a:lnTo>
                      <a:pt x="16595" y="3"/>
                    </a:lnTo>
                    <a:cubicBezTo>
                      <a:pt x="16596" y="3"/>
                      <a:pt x="16597" y="4"/>
                      <a:pt x="16597" y="5"/>
                    </a:cubicBezTo>
                    <a:cubicBezTo>
                      <a:pt x="16597" y="6"/>
                      <a:pt x="16596" y="7"/>
                      <a:pt x="16595" y="7"/>
                    </a:cubicBezTo>
                    <a:lnTo>
                      <a:pt x="16595" y="7"/>
                    </a:lnTo>
                    <a:cubicBezTo>
                      <a:pt x="16594" y="7"/>
                      <a:pt x="16593" y="6"/>
                      <a:pt x="16593" y="5"/>
                    </a:cubicBezTo>
                    <a:cubicBezTo>
                      <a:pt x="16593" y="4"/>
                      <a:pt x="16594" y="3"/>
                      <a:pt x="16595" y="3"/>
                    </a:cubicBezTo>
                    <a:close/>
                    <a:moveTo>
                      <a:pt x="16603" y="3"/>
                    </a:moveTo>
                    <a:lnTo>
                      <a:pt x="16603" y="3"/>
                    </a:lnTo>
                    <a:cubicBezTo>
                      <a:pt x="16604" y="3"/>
                      <a:pt x="16605" y="4"/>
                      <a:pt x="16605" y="5"/>
                    </a:cubicBezTo>
                    <a:cubicBezTo>
                      <a:pt x="16605" y="6"/>
                      <a:pt x="16604" y="7"/>
                      <a:pt x="16603" y="7"/>
                    </a:cubicBezTo>
                    <a:lnTo>
                      <a:pt x="16603" y="7"/>
                    </a:lnTo>
                    <a:cubicBezTo>
                      <a:pt x="16602" y="7"/>
                      <a:pt x="16601" y="6"/>
                      <a:pt x="16601" y="5"/>
                    </a:cubicBezTo>
                    <a:cubicBezTo>
                      <a:pt x="16601" y="4"/>
                      <a:pt x="16602" y="3"/>
                      <a:pt x="16603" y="3"/>
                    </a:cubicBezTo>
                    <a:close/>
                    <a:moveTo>
                      <a:pt x="16611" y="3"/>
                    </a:moveTo>
                    <a:lnTo>
                      <a:pt x="16611" y="3"/>
                    </a:lnTo>
                    <a:cubicBezTo>
                      <a:pt x="16612" y="3"/>
                      <a:pt x="16613" y="4"/>
                      <a:pt x="16613" y="5"/>
                    </a:cubicBezTo>
                    <a:cubicBezTo>
                      <a:pt x="16613" y="6"/>
                      <a:pt x="16612" y="7"/>
                      <a:pt x="16611" y="7"/>
                    </a:cubicBezTo>
                    <a:lnTo>
                      <a:pt x="16611" y="7"/>
                    </a:lnTo>
                    <a:cubicBezTo>
                      <a:pt x="16610" y="7"/>
                      <a:pt x="16609" y="6"/>
                      <a:pt x="16609" y="5"/>
                    </a:cubicBezTo>
                    <a:cubicBezTo>
                      <a:pt x="16609" y="4"/>
                      <a:pt x="16610" y="3"/>
                      <a:pt x="16611" y="3"/>
                    </a:cubicBezTo>
                    <a:close/>
                    <a:moveTo>
                      <a:pt x="16619" y="3"/>
                    </a:moveTo>
                    <a:lnTo>
                      <a:pt x="16619" y="3"/>
                    </a:lnTo>
                    <a:cubicBezTo>
                      <a:pt x="16620" y="3"/>
                      <a:pt x="16621" y="4"/>
                      <a:pt x="16621" y="5"/>
                    </a:cubicBezTo>
                    <a:cubicBezTo>
                      <a:pt x="16621" y="6"/>
                      <a:pt x="16620" y="7"/>
                      <a:pt x="16619" y="7"/>
                    </a:cubicBezTo>
                    <a:lnTo>
                      <a:pt x="16619" y="7"/>
                    </a:lnTo>
                    <a:cubicBezTo>
                      <a:pt x="16618" y="7"/>
                      <a:pt x="16617" y="6"/>
                      <a:pt x="16617" y="5"/>
                    </a:cubicBezTo>
                    <a:cubicBezTo>
                      <a:pt x="16617" y="4"/>
                      <a:pt x="16618" y="3"/>
                      <a:pt x="16619" y="3"/>
                    </a:cubicBezTo>
                    <a:close/>
                    <a:moveTo>
                      <a:pt x="16627" y="3"/>
                    </a:moveTo>
                    <a:lnTo>
                      <a:pt x="16627" y="3"/>
                    </a:lnTo>
                    <a:cubicBezTo>
                      <a:pt x="16628" y="3"/>
                      <a:pt x="16629" y="4"/>
                      <a:pt x="16629" y="5"/>
                    </a:cubicBezTo>
                    <a:cubicBezTo>
                      <a:pt x="16629" y="6"/>
                      <a:pt x="16628" y="7"/>
                      <a:pt x="16627" y="7"/>
                    </a:cubicBezTo>
                    <a:lnTo>
                      <a:pt x="16627" y="7"/>
                    </a:lnTo>
                    <a:cubicBezTo>
                      <a:pt x="16626" y="7"/>
                      <a:pt x="16625" y="6"/>
                      <a:pt x="16625" y="5"/>
                    </a:cubicBezTo>
                    <a:cubicBezTo>
                      <a:pt x="16625" y="4"/>
                      <a:pt x="16626" y="3"/>
                      <a:pt x="16627" y="3"/>
                    </a:cubicBezTo>
                    <a:close/>
                    <a:moveTo>
                      <a:pt x="16635" y="3"/>
                    </a:moveTo>
                    <a:lnTo>
                      <a:pt x="16635" y="3"/>
                    </a:lnTo>
                    <a:cubicBezTo>
                      <a:pt x="16636" y="3"/>
                      <a:pt x="16637" y="4"/>
                      <a:pt x="16637" y="5"/>
                    </a:cubicBezTo>
                    <a:cubicBezTo>
                      <a:pt x="16637" y="6"/>
                      <a:pt x="16636" y="7"/>
                      <a:pt x="16635" y="7"/>
                    </a:cubicBezTo>
                    <a:lnTo>
                      <a:pt x="16635" y="7"/>
                    </a:lnTo>
                    <a:cubicBezTo>
                      <a:pt x="16634" y="7"/>
                      <a:pt x="16633" y="6"/>
                      <a:pt x="16633" y="5"/>
                    </a:cubicBezTo>
                    <a:cubicBezTo>
                      <a:pt x="16633" y="4"/>
                      <a:pt x="16634" y="3"/>
                      <a:pt x="16635" y="3"/>
                    </a:cubicBezTo>
                    <a:close/>
                    <a:moveTo>
                      <a:pt x="16643" y="3"/>
                    </a:moveTo>
                    <a:lnTo>
                      <a:pt x="16643" y="3"/>
                    </a:lnTo>
                    <a:cubicBezTo>
                      <a:pt x="16644" y="3"/>
                      <a:pt x="16645" y="4"/>
                      <a:pt x="16645" y="5"/>
                    </a:cubicBezTo>
                    <a:cubicBezTo>
                      <a:pt x="16645" y="6"/>
                      <a:pt x="16644" y="7"/>
                      <a:pt x="16643" y="7"/>
                    </a:cubicBezTo>
                    <a:lnTo>
                      <a:pt x="16643" y="7"/>
                    </a:lnTo>
                    <a:cubicBezTo>
                      <a:pt x="16642" y="7"/>
                      <a:pt x="16641" y="6"/>
                      <a:pt x="16641" y="5"/>
                    </a:cubicBezTo>
                    <a:cubicBezTo>
                      <a:pt x="16641" y="4"/>
                      <a:pt x="16642" y="3"/>
                      <a:pt x="16643" y="3"/>
                    </a:cubicBezTo>
                    <a:close/>
                    <a:moveTo>
                      <a:pt x="16651" y="3"/>
                    </a:moveTo>
                    <a:lnTo>
                      <a:pt x="16651" y="3"/>
                    </a:lnTo>
                    <a:cubicBezTo>
                      <a:pt x="16652" y="3"/>
                      <a:pt x="16653" y="4"/>
                      <a:pt x="16653" y="5"/>
                    </a:cubicBezTo>
                    <a:cubicBezTo>
                      <a:pt x="16653" y="6"/>
                      <a:pt x="16652" y="7"/>
                      <a:pt x="16651" y="7"/>
                    </a:cubicBezTo>
                    <a:lnTo>
                      <a:pt x="16651" y="7"/>
                    </a:lnTo>
                    <a:cubicBezTo>
                      <a:pt x="16650" y="7"/>
                      <a:pt x="16649" y="6"/>
                      <a:pt x="16649" y="5"/>
                    </a:cubicBezTo>
                    <a:cubicBezTo>
                      <a:pt x="16649" y="4"/>
                      <a:pt x="16650" y="3"/>
                      <a:pt x="16651" y="3"/>
                    </a:cubicBezTo>
                    <a:close/>
                    <a:moveTo>
                      <a:pt x="16659" y="3"/>
                    </a:moveTo>
                    <a:lnTo>
                      <a:pt x="16659" y="3"/>
                    </a:lnTo>
                    <a:cubicBezTo>
                      <a:pt x="16660" y="3"/>
                      <a:pt x="16661" y="4"/>
                      <a:pt x="16661" y="5"/>
                    </a:cubicBezTo>
                    <a:cubicBezTo>
                      <a:pt x="16661" y="6"/>
                      <a:pt x="16660" y="7"/>
                      <a:pt x="16659" y="7"/>
                    </a:cubicBezTo>
                    <a:lnTo>
                      <a:pt x="16659" y="7"/>
                    </a:lnTo>
                    <a:cubicBezTo>
                      <a:pt x="16658" y="7"/>
                      <a:pt x="16657" y="6"/>
                      <a:pt x="16657" y="5"/>
                    </a:cubicBezTo>
                    <a:cubicBezTo>
                      <a:pt x="16657" y="4"/>
                      <a:pt x="16658" y="3"/>
                      <a:pt x="16659" y="3"/>
                    </a:cubicBezTo>
                    <a:close/>
                    <a:moveTo>
                      <a:pt x="16667" y="3"/>
                    </a:moveTo>
                    <a:lnTo>
                      <a:pt x="16667" y="3"/>
                    </a:lnTo>
                    <a:cubicBezTo>
                      <a:pt x="16668" y="3"/>
                      <a:pt x="16669" y="4"/>
                      <a:pt x="16669" y="5"/>
                    </a:cubicBezTo>
                    <a:cubicBezTo>
                      <a:pt x="16669" y="6"/>
                      <a:pt x="16668" y="7"/>
                      <a:pt x="16667" y="7"/>
                    </a:cubicBezTo>
                    <a:lnTo>
                      <a:pt x="16667" y="7"/>
                    </a:lnTo>
                    <a:cubicBezTo>
                      <a:pt x="16666" y="7"/>
                      <a:pt x="16665" y="6"/>
                      <a:pt x="16665" y="5"/>
                    </a:cubicBezTo>
                    <a:cubicBezTo>
                      <a:pt x="16665" y="4"/>
                      <a:pt x="16666" y="3"/>
                      <a:pt x="16667" y="3"/>
                    </a:cubicBezTo>
                    <a:close/>
                    <a:moveTo>
                      <a:pt x="16675" y="3"/>
                    </a:moveTo>
                    <a:lnTo>
                      <a:pt x="16675" y="3"/>
                    </a:lnTo>
                    <a:cubicBezTo>
                      <a:pt x="16676" y="3"/>
                      <a:pt x="16677" y="4"/>
                      <a:pt x="16677" y="5"/>
                    </a:cubicBezTo>
                    <a:cubicBezTo>
                      <a:pt x="16677" y="6"/>
                      <a:pt x="16676" y="7"/>
                      <a:pt x="16675" y="7"/>
                    </a:cubicBezTo>
                    <a:lnTo>
                      <a:pt x="16675" y="7"/>
                    </a:lnTo>
                    <a:cubicBezTo>
                      <a:pt x="16674" y="7"/>
                      <a:pt x="16673" y="6"/>
                      <a:pt x="16673" y="5"/>
                    </a:cubicBezTo>
                    <a:cubicBezTo>
                      <a:pt x="16673" y="4"/>
                      <a:pt x="16674" y="3"/>
                      <a:pt x="16675" y="3"/>
                    </a:cubicBezTo>
                    <a:close/>
                    <a:moveTo>
                      <a:pt x="16683" y="3"/>
                    </a:moveTo>
                    <a:lnTo>
                      <a:pt x="16683" y="3"/>
                    </a:lnTo>
                    <a:cubicBezTo>
                      <a:pt x="16684" y="3"/>
                      <a:pt x="16685" y="4"/>
                      <a:pt x="16685" y="5"/>
                    </a:cubicBezTo>
                    <a:cubicBezTo>
                      <a:pt x="16685" y="6"/>
                      <a:pt x="16684" y="7"/>
                      <a:pt x="16683" y="7"/>
                    </a:cubicBezTo>
                    <a:lnTo>
                      <a:pt x="16683" y="7"/>
                    </a:lnTo>
                    <a:cubicBezTo>
                      <a:pt x="16682" y="7"/>
                      <a:pt x="16681" y="6"/>
                      <a:pt x="16681" y="5"/>
                    </a:cubicBezTo>
                    <a:cubicBezTo>
                      <a:pt x="16681" y="4"/>
                      <a:pt x="16682" y="3"/>
                      <a:pt x="16683" y="3"/>
                    </a:cubicBezTo>
                    <a:close/>
                    <a:moveTo>
                      <a:pt x="16691" y="3"/>
                    </a:moveTo>
                    <a:lnTo>
                      <a:pt x="16691" y="3"/>
                    </a:lnTo>
                    <a:cubicBezTo>
                      <a:pt x="16692" y="3"/>
                      <a:pt x="16693" y="4"/>
                      <a:pt x="16693" y="5"/>
                    </a:cubicBezTo>
                    <a:cubicBezTo>
                      <a:pt x="16693" y="6"/>
                      <a:pt x="16692" y="7"/>
                      <a:pt x="16691" y="7"/>
                    </a:cubicBezTo>
                    <a:lnTo>
                      <a:pt x="16691" y="7"/>
                    </a:lnTo>
                    <a:cubicBezTo>
                      <a:pt x="16690" y="7"/>
                      <a:pt x="16689" y="6"/>
                      <a:pt x="16689" y="5"/>
                    </a:cubicBezTo>
                    <a:cubicBezTo>
                      <a:pt x="16689" y="4"/>
                      <a:pt x="16690" y="3"/>
                      <a:pt x="16691" y="3"/>
                    </a:cubicBezTo>
                    <a:close/>
                    <a:moveTo>
                      <a:pt x="16699" y="3"/>
                    </a:moveTo>
                    <a:lnTo>
                      <a:pt x="16699" y="3"/>
                    </a:lnTo>
                    <a:cubicBezTo>
                      <a:pt x="16700" y="3"/>
                      <a:pt x="16701" y="4"/>
                      <a:pt x="16701" y="5"/>
                    </a:cubicBezTo>
                    <a:cubicBezTo>
                      <a:pt x="16701" y="6"/>
                      <a:pt x="16700" y="7"/>
                      <a:pt x="16699" y="7"/>
                    </a:cubicBezTo>
                    <a:lnTo>
                      <a:pt x="16699" y="7"/>
                    </a:lnTo>
                    <a:cubicBezTo>
                      <a:pt x="16698" y="7"/>
                      <a:pt x="16697" y="6"/>
                      <a:pt x="16697" y="5"/>
                    </a:cubicBezTo>
                    <a:cubicBezTo>
                      <a:pt x="16697" y="4"/>
                      <a:pt x="16698" y="3"/>
                      <a:pt x="16699" y="3"/>
                    </a:cubicBezTo>
                    <a:close/>
                    <a:moveTo>
                      <a:pt x="16707" y="3"/>
                    </a:moveTo>
                    <a:lnTo>
                      <a:pt x="16707" y="3"/>
                    </a:lnTo>
                    <a:cubicBezTo>
                      <a:pt x="16708" y="3"/>
                      <a:pt x="16709" y="4"/>
                      <a:pt x="16709" y="5"/>
                    </a:cubicBezTo>
                    <a:cubicBezTo>
                      <a:pt x="16709" y="6"/>
                      <a:pt x="16708" y="7"/>
                      <a:pt x="16707" y="7"/>
                    </a:cubicBezTo>
                    <a:lnTo>
                      <a:pt x="16707" y="7"/>
                    </a:lnTo>
                    <a:cubicBezTo>
                      <a:pt x="16706" y="7"/>
                      <a:pt x="16705" y="6"/>
                      <a:pt x="16705" y="5"/>
                    </a:cubicBezTo>
                    <a:cubicBezTo>
                      <a:pt x="16705" y="4"/>
                      <a:pt x="16706" y="3"/>
                      <a:pt x="16707" y="3"/>
                    </a:cubicBezTo>
                    <a:close/>
                    <a:moveTo>
                      <a:pt x="16715" y="3"/>
                    </a:moveTo>
                    <a:lnTo>
                      <a:pt x="16715" y="3"/>
                    </a:lnTo>
                    <a:cubicBezTo>
                      <a:pt x="16716" y="3"/>
                      <a:pt x="16717" y="4"/>
                      <a:pt x="16717" y="5"/>
                    </a:cubicBezTo>
                    <a:cubicBezTo>
                      <a:pt x="16717" y="6"/>
                      <a:pt x="16716" y="7"/>
                      <a:pt x="16715" y="7"/>
                    </a:cubicBezTo>
                    <a:lnTo>
                      <a:pt x="16715" y="7"/>
                    </a:lnTo>
                    <a:cubicBezTo>
                      <a:pt x="16714" y="7"/>
                      <a:pt x="16713" y="6"/>
                      <a:pt x="16713" y="5"/>
                    </a:cubicBezTo>
                    <a:cubicBezTo>
                      <a:pt x="16713" y="4"/>
                      <a:pt x="16714" y="3"/>
                      <a:pt x="16715" y="3"/>
                    </a:cubicBezTo>
                    <a:close/>
                    <a:moveTo>
                      <a:pt x="16723" y="3"/>
                    </a:moveTo>
                    <a:lnTo>
                      <a:pt x="16723" y="3"/>
                    </a:lnTo>
                    <a:cubicBezTo>
                      <a:pt x="16724" y="3"/>
                      <a:pt x="16725" y="4"/>
                      <a:pt x="16725" y="5"/>
                    </a:cubicBezTo>
                    <a:cubicBezTo>
                      <a:pt x="16725" y="6"/>
                      <a:pt x="16724" y="7"/>
                      <a:pt x="16723" y="7"/>
                    </a:cubicBezTo>
                    <a:lnTo>
                      <a:pt x="16723" y="7"/>
                    </a:lnTo>
                    <a:cubicBezTo>
                      <a:pt x="16722" y="7"/>
                      <a:pt x="16721" y="6"/>
                      <a:pt x="16721" y="5"/>
                    </a:cubicBezTo>
                    <a:cubicBezTo>
                      <a:pt x="16721" y="4"/>
                      <a:pt x="16722" y="3"/>
                      <a:pt x="16723" y="3"/>
                    </a:cubicBezTo>
                    <a:close/>
                    <a:moveTo>
                      <a:pt x="16731" y="3"/>
                    </a:moveTo>
                    <a:lnTo>
                      <a:pt x="16731" y="3"/>
                    </a:lnTo>
                    <a:cubicBezTo>
                      <a:pt x="16732" y="3"/>
                      <a:pt x="16733" y="4"/>
                      <a:pt x="16733" y="5"/>
                    </a:cubicBezTo>
                    <a:cubicBezTo>
                      <a:pt x="16733" y="6"/>
                      <a:pt x="16732" y="7"/>
                      <a:pt x="16731" y="7"/>
                    </a:cubicBezTo>
                    <a:lnTo>
                      <a:pt x="16731" y="7"/>
                    </a:lnTo>
                    <a:cubicBezTo>
                      <a:pt x="16730" y="7"/>
                      <a:pt x="16729" y="6"/>
                      <a:pt x="16729" y="5"/>
                    </a:cubicBezTo>
                    <a:cubicBezTo>
                      <a:pt x="16729" y="4"/>
                      <a:pt x="16730" y="3"/>
                      <a:pt x="16731" y="3"/>
                    </a:cubicBezTo>
                    <a:close/>
                    <a:moveTo>
                      <a:pt x="16739" y="3"/>
                    </a:moveTo>
                    <a:lnTo>
                      <a:pt x="16739" y="3"/>
                    </a:lnTo>
                    <a:cubicBezTo>
                      <a:pt x="16740" y="3"/>
                      <a:pt x="16741" y="4"/>
                      <a:pt x="16741" y="5"/>
                    </a:cubicBezTo>
                    <a:cubicBezTo>
                      <a:pt x="16741" y="6"/>
                      <a:pt x="16740" y="7"/>
                      <a:pt x="16739" y="7"/>
                    </a:cubicBezTo>
                    <a:lnTo>
                      <a:pt x="16739" y="7"/>
                    </a:lnTo>
                    <a:cubicBezTo>
                      <a:pt x="16738" y="7"/>
                      <a:pt x="16737" y="6"/>
                      <a:pt x="16737" y="5"/>
                    </a:cubicBezTo>
                    <a:cubicBezTo>
                      <a:pt x="16737" y="4"/>
                      <a:pt x="16738" y="3"/>
                      <a:pt x="16739" y="3"/>
                    </a:cubicBezTo>
                    <a:close/>
                    <a:moveTo>
                      <a:pt x="16747" y="3"/>
                    </a:moveTo>
                    <a:lnTo>
                      <a:pt x="16747" y="3"/>
                    </a:lnTo>
                    <a:cubicBezTo>
                      <a:pt x="16748" y="3"/>
                      <a:pt x="16749" y="4"/>
                      <a:pt x="16749" y="5"/>
                    </a:cubicBezTo>
                    <a:cubicBezTo>
                      <a:pt x="16749" y="6"/>
                      <a:pt x="16748" y="7"/>
                      <a:pt x="16747" y="7"/>
                    </a:cubicBezTo>
                    <a:lnTo>
                      <a:pt x="16747" y="7"/>
                    </a:lnTo>
                    <a:cubicBezTo>
                      <a:pt x="16746" y="7"/>
                      <a:pt x="16745" y="6"/>
                      <a:pt x="16745" y="5"/>
                    </a:cubicBezTo>
                    <a:cubicBezTo>
                      <a:pt x="16745" y="4"/>
                      <a:pt x="16746" y="3"/>
                      <a:pt x="16747" y="3"/>
                    </a:cubicBezTo>
                    <a:close/>
                    <a:moveTo>
                      <a:pt x="16755" y="3"/>
                    </a:moveTo>
                    <a:lnTo>
                      <a:pt x="16755" y="3"/>
                    </a:lnTo>
                    <a:cubicBezTo>
                      <a:pt x="16756" y="3"/>
                      <a:pt x="16757" y="4"/>
                      <a:pt x="16757" y="5"/>
                    </a:cubicBezTo>
                    <a:cubicBezTo>
                      <a:pt x="16757" y="6"/>
                      <a:pt x="16756" y="7"/>
                      <a:pt x="16755" y="7"/>
                    </a:cubicBezTo>
                    <a:lnTo>
                      <a:pt x="16755" y="7"/>
                    </a:lnTo>
                    <a:cubicBezTo>
                      <a:pt x="16754" y="7"/>
                      <a:pt x="16753" y="6"/>
                      <a:pt x="16753" y="5"/>
                    </a:cubicBezTo>
                    <a:cubicBezTo>
                      <a:pt x="16753" y="4"/>
                      <a:pt x="16754" y="3"/>
                      <a:pt x="16755" y="3"/>
                    </a:cubicBezTo>
                    <a:close/>
                    <a:moveTo>
                      <a:pt x="16763" y="3"/>
                    </a:moveTo>
                    <a:lnTo>
                      <a:pt x="16763" y="3"/>
                    </a:lnTo>
                    <a:cubicBezTo>
                      <a:pt x="16764" y="3"/>
                      <a:pt x="16765" y="4"/>
                      <a:pt x="16765" y="5"/>
                    </a:cubicBezTo>
                    <a:cubicBezTo>
                      <a:pt x="16765" y="6"/>
                      <a:pt x="16764" y="7"/>
                      <a:pt x="16763" y="7"/>
                    </a:cubicBezTo>
                    <a:lnTo>
                      <a:pt x="16763" y="7"/>
                    </a:lnTo>
                    <a:cubicBezTo>
                      <a:pt x="16762" y="7"/>
                      <a:pt x="16761" y="6"/>
                      <a:pt x="16761" y="5"/>
                    </a:cubicBezTo>
                    <a:cubicBezTo>
                      <a:pt x="16761" y="4"/>
                      <a:pt x="16762" y="3"/>
                      <a:pt x="16763" y="3"/>
                    </a:cubicBezTo>
                    <a:close/>
                    <a:moveTo>
                      <a:pt x="16771" y="3"/>
                    </a:moveTo>
                    <a:lnTo>
                      <a:pt x="16771" y="3"/>
                    </a:lnTo>
                    <a:cubicBezTo>
                      <a:pt x="16772" y="3"/>
                      <a:pt x="16773" y="4"/>
                      <a:pt x="16773" y="5"/>
                    </a:cubicBezTo>
                    <a:cubicBezTo>
                      <a:pt x="16773" y="6"/>
                      <a:pt x="16772" y="7"/>
                      <a:pt x="16771" y="7"/>
                    </a:cubicBezTo>
                    <a:lnTo>
                      <a:pt x="16771" y="7"/>
                    </a:lnTo>
                    <a:cubicBezTo>
                      <a:pt x="16770" y="7"/>
                      <a:pt x="16769" y="6"/>
                      <a:pt x="16769" y="5"/>
                    </a:cubicBezTo>
                    <a:cubicBezTo>
                      <a:pt x="16769" y="4"/>
                      <a:pt x="16770" y="3"/>
                      <a:pt x="16771" y="3"/>
                    </a:cubicBezTo>
                    <a:close/>
                    <a:moveTo>
                      <a:pt x="16779" y="3"/>
                    </a:moveTo>
                    <a:lnTo>
                      <a:pt x="16779" y="3"/>
                    </a:lnTo>
                    <a:cubicBezTo>
                      <a:pt x="16780" y="3"/>
                      <a:pt x="16781" y="4"/>
                      <a:pt x="16781" y="5"/>
                    </a:cubicBezTo>
                    <a:cubicBezTo>
                      <a:pt x="16781" y="6"/>
                      <a:pt x="16780" y="7"/>
                      <a:pt x="16779" y="7"/>
                    </a:cubicBezTo>
                    <a:lnTo>
                      <a:pt x="16779" y="7"/>
                    </a:lnTo>
                    <a:cubicBezTo>
                      <a:pt x="16778" y="7"/>
                      <a:pt x="16777" y="6"/>
                      <a:pt x="16777" y="5"/>
                    </a:cubicBezTo>
                    <a:cubicBezTo>
                      <a:pt x="16777" y="4"/>
                      <a:pt x="16778" y="3"/>
                      <a:pt x="16779" y="3"/>
                    </a:cubicBezTo>
                    <a:close/>
                    <a:moveTo>
                      <a:pt x="16787" y="3"/>
                    </a:moveTo>
                    <a:lnTo>
                      <a:pt x="16787" y="3"/>
                    </a:lnTo>
                    <a:cubicBezTo>
                      <a:pt x="16788" y="3"/>
                      <a:pt x="16789" y="4"/>
                      <a:pt x="16789" y="5"/>
                    </a:cubicBezTo>
                    <a:cubicBezTo>
                      <a:pt x="16789" y="6"/>
                      <a:pt x="16788" y="7"/>
                      <a:pt x="16787" y="7"/>
                    </a:cubicBezTo>
                    <a:lnTo>
                      <a:pt x="16787" y="7"/>
                    </a:lnTo>
                    <a:cubicBezTo>
                      <a:pt x="16786" y="7"/>
                      <a:pt x="16785" y="6"/>
                      <a:pt x="16785" y="5"/>
                    </a:cubicBezTo>
                    <a:cubicBezTo>
                      <a:pt x="16785" y="4"/>
                      <a:pt x="16786" y="3"/>
                      <a:pt x="16787" y="3"/>
                    </a:cubicBezTo>
                    <a:close/>
                    <a:moveTo>
                      <a:pt x="16795" y="3"/>
                    </a:moveTo>
                    <a:lnTo>
                      <a:pt x="16795" y="3"/>
                    </a:lnTo>
                    <a:cubicBezTo>
                      <a:pt x="16796" y="3"/>
                      <a:pt x="16797" y="4"/>
                      <a:pt x="16797" y="5"/>
                    </a:cubicBezTo>
                    <a:cubicBezTo>
                      <a:pt x="16797" y="6"/>
                      <a:pt x="16796" y="7"/>
                      <a:pt x="16795" y="7"/>
                    </a:cubicBezTo>
                    <a:lnTo>
                      <a:pt x="16795" y="7"/>
                    </a:lnTo>
                    <a:cubicBezTo>
                      <a:pt x="16794" y="7"/>
                      <a:pt x="16793" y="6"/>
                      <a:pt x="16793" y="5"/>
                    </a:cubicBezTo>
                    <a:cubicBezTo>
                      <a:pt x="16793" y="4"/>
                      <a:pt x="16794" y="3"/>
                      <a:pt x="16795" y="3"/>
                    </a:cubicBezTo>
                    <a:close/>
                    <a:moveTo>
                      <a:pt x="16803" y="3"/>
                    </a:moveTo>
                    <a:lnTo>
                      <a:pt x="16803" y="3"/>
                    </a:lnTo>
                    <a:cubicBezTo>
                      <a:pt x="16804" y="3"/>
                      <a:pt x="16805" y="4"/>
                      <a:pt x="16805" y="5"/>
                    </a:cubicBezTo>
                    <a:cubicBezTo>
                      <a:pt x="16805" y="6"/>
                      <a:pt x="16804" y="7"/>
                      <a:pt x="16803" y="7"/>
                    </a:cubicBezTo>
                    <a:lnTo>
                      <a:pt x="16803" y="7"/>
                    </a:lnTo>
                    <a:cubicBezTo>
                      <a:pt x="16802" y="7"/>
                      <a:pt x="16801" y="6"/>
                      <a:pt x="16801" y="5"/>
                    </a:cubicBezTo>
                    <a:cubicBezTo>
                      <a:pt x="16801" y="4"/>
                      <a:pt x="16802" y="3"/>
                      <a:pt x="16803" y="3"/>
                    </a:cubicBezTo>
                    <a:close/>
                    <a:moveTo>
                      <a:pt x="16811" y="3"/>
                    </a:moveTo>
                    <a:lnTo>
                      <a:pt x="16811" y="3"/>
                    </a:lnTo>
                    <a:cubicBezTo>
                      <a:pt x="16812" y="3"/>
                      <a:pt x="16813" y="4"/>
                      <a:pt x="16813" y="5"/>
                    </a:cubicBezTo>
                    <a:cubicBezTo>
                      <a:pt x="16813" y="6"/>
                      <a:pt x="16812" y="7"/>
                      <a:pt x="16811" y="7"/>
                    </a:cubicBezTo>
                    <a:lnTo>
                      <a:pt x="16811" y="7"/>
                    </a:lnTo>
                    <a:cubicBezTo>
                      <a:pt x="16810" y="7"/>
                      <a:pt x="16809" y="6"/>
                      <a:pt x="16809" y="5"/>
                    </a:cubicBezTo>
                    <a:cubicBezTo>
                      <a:pt x="16809" y="4"/>
                      <a:pt x="16810" y="3"/>
                      <a:pt x="16811" y="3"/>
                    </a:cubicBezTo>
                    <a:close/>
                    <a:moveTo>
                      <a:pt x="16819" y="3"/>
                    </a:moveTo>
                    <a:lnTo>
                      <a:pt x="16819" y="3"/>
                    </a:lnTo>
                    <a:cubicBezTo>
                      <a:pt x="16820" y="3"/>
                      <a:pt x="16821" y="4"/>
                      <a:pt x="16821" y="5"/>
                    </a:cubicBezTo>
                    <a:cubicBezTo>
                      <a:pt x="16821" y="6"/>
                      <a:pt x="16820" y="7"/>
                      <a:pt x="16819" y="7"/>
                    </a:cubicBezTo>
                    <a:lnTo>
                      <a:pt x="16819" y="7"/>
                    </a:lnTo>
                    <a:cubicBezTo>
                      <a:pt x="16818" y="7"/>
                      <a:pt x="16817" y="6"/>
                      <a:pt x="16817" y="5"/>
                    </a:cubicBezTo>
                    <a:cubicBezTo>
                      <a:pt x="16817" y="4"/>
                      <a:pt x="16818" y="3"/>
                      <a:pt x="16819" y="3"/>
                    </a:cubicBezTo>
                    <a:close/>
                    <a:moveTo>
                      <a:pt x="16827" y="3"/>
                    </a:moveTo>
                    <a:lnTo>
                      <a:pt x="16827" y="3"/>
                    </a:lnTo>
                    <a:cubicBezTo>
                      <a:pt x="16828" y="3"/>
                      <a:pt x="16829" y="4"/>
                      <a:pt x="16829" y="5"/>
                    </a:cubicBezTo>
                    <a:cubicBezTo>
                      <a:pt x="16829" y="6"/>
                      <a:pt x="16828" y="7"/>
                      <a:pt x="16827" y="7"/>
                    </a:cubicBezTo>
                    <a:lnTo>
                      <a:pt x="16827" y="7"/>
                    </a:lnTo>
                    <a:cubicBezTo>
                      <a:pt x="16826" y="7"/>
                      <a:pt x="16825" y="6"/>
                      <a:pt x="16825" y="5"/>
                    </a:cubicBezTo>
                    <a:cubicBezTo>
                      <a:pt x="16825" y="4"/>
                      <a:pt x="16826" y="3"/>
                      <a:pt x="16827" y="3"/>
                    </a:cubicBezTo>
                    <a:close/>
                    <a:moveTo>
                      <a:pt x="16835" y="3"/>
                    </a:moveTo>
                    <a:lnTo>
                      <a:pt x="16835" y="3"/>
                    </a:lnTo>
                    <a:cubicBezTo>
                      <a:pt x="16836" y="3"/>
                      <a:pt x="16837" y="4"/>
                      <a:pt x="16837" y="5"/>
                    </a:cubicBezTo>
                    <a:cubicBezTo>
                      <a:pt x="16837" y="6"/>
                      <a:pt x="16836" y="7"/>
                      <a:pt x="16835" y="7"/>
                    </a:cubicBezTo>
                    <a:lnTo>
                      <a:pt x="16835" y="7"/>
                    </a:lnTo>
                    <a:cubicBezTo>
                      <a:pt x="16834" y="7"/>
                      <a:pt x="16833" y="6"/>
                      <a:pt x="16833" y="5"/>
                    </a:cubicBezTo>
                    <a:cubicBezTo>
                      <a:pt x="16833" y="4"/>
                      <a:pt x="16834" y="3"/>
                      <a:pt x="16835" y="3"/>
                    </a:cubicBezTo>
                    <a:close/>
                    <a:moveTo>
                      <a:pt x="16843" y="3"/>
                    </a:moveTo>
                    <a:lnTo>
                      <a:pt x="16843" y="3"/>
                    </a:lnTo>
                    <a:cubicBezTo>
                      <a:pt x="16844" y="3"/>
                      <a:pt x="16845" y="4"/>
                      <a:pt x="16845" y="5"/>
                    </a:cubicBezTo>
                    <a:cubicBezTo>
                      <a:pt x="16845" y="6"/>
                      <a:pt x="16844" y="7"/>
                      <a:pt x="16843" y="7"/>
                    </a:cubicBezTo>
                    <a:lnTo>
                      <a:pt x="16843" y="7"/>
                    </a:lnTo>
                    <a:cubicBezTo>
                      <a:pt x="16842" y="7"/>
                      <a:pt x="16841" y="6"/>
                      <a:pt x="16841" y="5"/>
                    </a:cubicBezTo>
                    <a:cubicBezTo>
                      <a:pt x="16841" y="4"/>
                      <a:pt x="16842" y="3"/>
                      <a:pt x="16843" y="3"/>
                    </a:cubicBezTo>
                    <a:close/>
                    <a:moveTo>
                      <a:pt x="16851" y="3"/>
                    </a:moveTo>
                    <a:lnTo>
                      <a:pt x="16851" y="3"/>
                    </a:lnTo>
                    <a:cubicBezTo>
                      <a:pt x="16852" y="3"/>
                      <a:pt x="16853" y="4"/>
                      <a:pt x="16853" y="5"/>
                    </a:cubicBezTo>
                    <a:cubicBezTo>
                      <a:pt x="16853" y="6"/>
                      <a:pt x="16852" y="7"/>
                      <a:pt x="16851" y="7"/>
                    </a:cubicBezTo>
                    <a:lnTo>
                      <a:pt x="16851" y="7"/>
                    </a:lnTo>
                    <a:cubicBezTo>
                      <a:pt x="16850" y="7"/>
                      <a:pt x="16849" y="6"/>
                      <a:pt x="16849" y="5"/>
                    </a:cubicBezTo>
                    <a:cubicBezTo>
                      <a:pt x="16849" y="4"/>
                      <a:pt x="16850" y="3"/>
                      <a:pt x="16851" y="3"/>
                    </a:cubicBezTo>
                    <a:close/>
                    <a:moveTo>
                      <a:pt x="16859" y="3"/>
                    </a:moveTo>
                    <a:lnTo>
                      <a:pt x="16859" y="3"/>
                    </a:lnTo>
                    <a:cubicBezTo>
                      <a:pt x="16860" y="3"/>
                      <a:pt x="16861" y="4"/>
                      <a:pt x="16861" y="5"/>
                    </a:cubicBezTo>
                    <a:cubicBezTo>
                      <a:pt x="16861" y="7"/>
                      <a:pt x="16860" y="7"/>
                      <a:pt x="16859" y="7"/>
                    </a:cubicBezTo>
                    <a:lnTo>
                      <a:pt x="16859" y="7"/>
                    </a:lnTo>
                    <a:cubicBezTo>
                      <a:pt x="16858" y="7"/>
                      <a:pt x="16857" y="7"/>
                      <a:pt x="16857" y="5"/>
                    </a:cubicBezTo>
                    <a:cubicBezTo>
                      <a:pt x="16857" y="4"/>
                      <a:pt x="16858" y="3"/>
                      <a:pt x="16859" y="3"/>
                    </a:cubicBezTo>
                    <a:close/>
                    <a:moveTo>
                      <a:pt x="16867" y="3"/>
                    </a:moveTo>
                    <a:lnTo>
                      <a:pt x="16867" y="3"/>
                    </a:lnTo>
                    <a:cubicBezTo>
                      <a:pt x="16868" y="3"/>
                      <a:pt x="16869" y="4"/>
                      <a:pt x="16869" y="5"/>
                    </a:cubicBezTo>
                    <a:cubicBezTo>
                      <a:pt x="16869" y="7"/>
                      <a:pt x="16868" y="7"/>
                      <a:pt x="16867" y="7"/>
                    </a:cubicBezTo>
                    <a:lnTo>
                      <a:pt x="16867" y="7"/>
                    </a:lnTo>
                    <a:cubicBezTo>
                      <a:pt x="16866" y="7"/>
                      <a:pt x="16865" y="7"/>
                      <a:pt x="16865" y="5"/>
                    </a:cubicBezTo>
                    <a:cubicBezTo>
                      <a:pt x="16865" y="4"/>
                      <a:pt x="16866" y="3"/>
                      <a:pt x="16867" y="3"/>
                    </a:cubicBezTo>
                    <a:close/>
                    <a:moveTo>
                      <a:pt x="16875" y="3"/>
                    </a:moveTo>
                    <a:lnTo>
                      <a:pt x="16875" y="3"/>
                    </a:lnTo>
                    <a:cubicBezTo>
                      <a:pt x="16876" y="3"/>
                      <a:pt x="16877" y="4"/>
                      <a:pt x="16877" y="5"/>
                    </a:cubicBezTo>
                    <a:cubicBezTo>
                      <a:pt x="16877" y="7"/>
                      <a:pt x="16876" y="7"/>
                      <a:pt x="16875" y="7"/>
                    </a:cubicBezTo>
                    <a:lnTo>
                      <a:pt x="16875" y="7"/>
                    </a:lnTo>
                    <a:cubicBezTo>
                      <a:pt x="16874" y="7"/>
                      <a:pt x="16873" y="7"/>
                      <a:pt x="16873" y="5"/>
                    </a:cubicBezTo>
                    <a:cubicBezTo>
                      <a:pt x="16873" y="4"/>
                      <a:pt x="16874" y="3"/>
                      <a:pt x="16875" y="3"/>
                    </a:cubicBezTo>
                    <a:close/>
                    <a:moveTo>
                      <a:pt x="16883" y="3"/>
                    </a:moveTo>
                    <a:lnTo>
                      <a:pt x="16883" y="3"/>
                    </a:lnTo>
                    <a:cubicBezTo>
                      <a:pt x="16884" y="3"/>
                      <a:pt x="16885" y="4"/>
                      <a:pt x="16885" y="5"/>
                    </a:cubicBezTo>
                    <a:cubicBezTo>
                      <a:pt x="16885" y="7"/>
                      <a:pt x="16884" y="7"/>
                      <a:pt x="16883" y="7"/>
                    </a:cubicBezTo>
                    <a:lnTo>
                      <a:pt x="16883" y="7"/>
                    </a:lnTo>
                    <a:cubicBezTo>
                      <a:pt x="16882" y="7"/>
                      <a:pt x="16881" y="7"/>
                      <a:pt x="16881" y="5"/>
                    </a:cubicBezTo>
                    <a:cubicBezTo>
                      <a:pt x="16881" y="4"/>
                      <a:pt x="16882" y="3"/>
                      <a:pt x="16883" y="3"/>
                    </a:cubicBezTo>
                    <a:close/>
                    <a:moveTo>
                      <a:pt x="16891" y="3"/>
                    </a:moveTo>
                    <a:lnTo>
                      <a:pt x="16891" y="3"/>
                    </a:lnTo>
                    <a:cubicBezTo>
                      <a:pt x="16892" y="3"/>
                      <a:pt x="16893" y="4"/>
                      <a:pt x="16893" y="5"/>
                    </a:cubicBezTo>
                    <a:cubicBezTo>
                      <a:pt x="16893" y="7"/>
                      <a:pt x="16892" y="7"/>
                      <a:pt x="16891" y="7"/>
                    </a:cubicBezTo>
                    <a:lnTo>
                      <a:pt x="16891" y="7"/>
                    </a:lnTo>
                    <a:cubicBezTo>
                      <a:pt x="16890" y="7"/>
                      <a:pt x="16889" y="7"/>
                      <a:pt x="16889" y="5"/>
                    </a:cubicBezTo>
                    <a:cubicBezTo>
                      <a:pt x="16889" y="4"/>
                      <a:pt x="16890" y="3"/>
                      <a:pt x="16891" y="3"/>
                    </a:cubicBezTo>
                    <a:close/>
                    <a:moveTo>
                      <a:pt x="16899" y="3"/>
                    </a:moveTo>
                    <a:lnTo>
                      <a:pt x="16899" y="3"/>
                    </a:lnTo>
                    <a:cubicBezTo>
                      <a:pt x="16901" y="3"/>
                      <a:pt x="16901" y="4"/>
                      <a:pt x="16901" y="5"/>
                    </a:cubicBezTo>
                    <a:cubicBezTo>
                      <a:pt x="16901" y="7"/>
                      <a:pt x="16901" y="7"/>
                      <a:pt x="16899" y="7"/>
                    </a:cubicBezTo>
                    <a:lnTo>
                      <a:pt x="16899" y="7"/>
                    </a:lnTo>
                    <a:cubicBezTo>
                      <a:pt x="16898" y="7"/>
                      <a:pt x="16897" y="7"/>
                      <a:pt x="16897" y="5"/>
                    </a:cubicBezTo>
                    <a:cubicBezTo>
                      <a:pt x="16897" y="4"/>
                      <a:pt x="16898" y="3"/>
                      <a:pt x="16899" y="3"/>
                    </a:cubicBezTo>
                    <a:close/>
                    <a:moveTo>
                      <a:pt x="16907" y="3"/>
                    </a:moveTo>
                    <a:lnTo>
                      <a:pt x="16907" y="3"/>
                    </a:lnTo>
                    <a:cubicBezTo>
                      <a:pt x="16909" y="3"/>
                      <a:pt x="16909" y="4"/>
                      <a:pt x="16909" y="5"/>
                    </a:cubicBezTo>
                    <a:cubicBezTo>
                      <a:pt x="16909" y="7"/>
                      <a:pt x="16909" y="7"/>
                      <a:pt x="16907" y="7"/>
                    </a:cubicBezTo>
                    <a:lnTo>
                      <a:pt x="16907" y="7"/>
                    </a:lnTo>
                    <a:cubicBezTo>
                      <a:pt x="16906" y="7"/>
                      <a:pt x="16905" y="7"/>
                      <a:pt x="16905" y="5"/>
                    </a:cubicBezTo>
                    <a:cubicBezTo>
                      <a:pt x="16905" y="4"/>
                      <a:pt x="16906" y="3"/>
                      <a:pt x="16907" y="3"/>
                    </a:cubicBezTo>
                    <a:close/>
                    <a:moveTo>
                      <a:pt x="16915" y="3"/>
                    </a:moveTo>
                    <a:lnTo>
                      <a:pt x="16915" y="3"/>
                    </a:lnTo>
                    <a:cubicBezTo>
                      <a:pt x="16917" y="3"/>
                      <a:pt x="16917" y="4"/>
                      <a:pt x="16917" y="5"/>
                    </a:cubicBezTo>
                    <a:cubicBezTo>
                      <a:pt x="16917" y="7"/>
                      <a:pt x="16917" y="7"/>
                      <a:pt x="16915" y="7"/>
                    </a:cubicBezTo>
                    <a:lnTo>
                      <a:pt x="16915" y="7"/>
                    </a:lnTo>
                    <a:cubicBezTo>
                      <a:pt x="16914" y="7"/>
                      <a:pt x="16913" y="7"/>
                      <a:pt x="16913" y="5"/>
                    </a:cubicBezTo>
                    <a:cubicBezTo>
                      <a:pt x="16913" y="4"/>
                      <a:pt x="16914" y="3"/>
                      <a:pt x="16915" y="3"/>
                    </a:cubicBezTo>
                    <a:close/>
                    <a:moveTo>
                      <a:pt x="16923" y="3"/>
                    </a:moveTo>
                    <a:lnTo>
                      <a:pt x="16923" y="3"/>
                    </a:lnTo>
                    <a:cubicBezTo>
                      <a:pt x="16925" y="3"/>
                      <a:pt x="16925" y="4"/>
                      <a:pt x="16925" y="5"/>
                    </a:cubicBezTo>
                    <a:cubicBezTo>
                      <a:pt x="16925" y="7"/>
                      <a:pt x="16925" y="7"/>
                      <a:pt x="16923" y="7"/>
                    </a:cubicBezTo>
                    <a:lnTo>
                      <a:pt x="16923" y="7"/>
                    </a:lnTo>
                    <a:cubicBezTo>
                      <a:pt x="16922" y="7"/>
                      <a:pt x="16921" y="7"/>
                      <a:pt x="16921" y="5"/>
                    </a:cubicBezTo>
                    <a:cubicBezTo>
                      <a:pt x="16921" y="4"/>
                      <a:pt x="16922" y="3"/>
                      <a:pt x="16923" y="3"/>
                    </a:cubicBezTo>
                    <a:close/>
                    <a:moveTo>
                      <a:pt x="16931" y="3"/>
                    </a:moveTo>
                    <a:lnTo>
                      <a:pt x="16931" y="3"/>
                    </a:lnTo>
                    <a:cubicBezTo>
                      <a:pt x="16933" y="3"/>
                      <a:pt x="16933" y="4"/>
                      <a:pt x="16933" y="5"/>
                    </a:cubicBezTo>
                    <a:cubicBezTo>
                      <a:pt x="16933" y="7"/>
                      <a:pt x="16933" y="7"/>
                      <a:pt x="16931" y="7"/>
                    </a:cubicBezTo>
                    <a:lnTo>
                      <a:pt x="16931" y="7"/>
                    </a:lnTo>
                    <a:cubicBezTo>
                      <a:pt x="16930" y="7"/>
                      <a:pt x="16929" y="7"/>
                      <a:pt x="16929" y="5"/>
                    </a:cubicBezTo>
                    <a:cubicBezTo>
                      <a:pt x="16929" y="4"/>
                      <a:pt x="16930" y="3"/>
                      <a:pt x="16931" y="3"/>
                    </a:cubicBezTo>
                    <a:close/>
                    <a:moveTo>
                      <a:pt x="16939" y="3"/>
                    </a:moveTo>
                    <a:lnTo>
                      <a:pt x="16939" y="3"/>
                    </a:lnTo>
                    <a:cubicBezTo>
                      <a:pt x="16941" y="3"/>
                      <a:pt x="16941" y="4"/>
                      <a:pt x="16941" y="5"/>
                    </a:cubicBezTo>
                    <a:cubicBezTo>
                      <a:pt x="16941" y="7"/>
                      <a:pt x="16941" y="7"/>
                      <a:pt x="16939" y="7"/>
                    </a:cubicBezTo>
                    <a:lnTo>
                      <a:pt x="16939" y="7"/>
                    </a:lnTo>
                    <a:cubicBezTo>
                      <a:pt x="16938" y="7"/>
                      <a:pt x="16937" y="7"/>
                      <a:pt x="16937" y="5"/>
                    </a:cubicBezTo>
                    <a:cubicBezTo>
                      <a:pt x="16937" y="4"/>
                      <a:pt x="16938" y="3"/>
                      <a:pt x="16939" y="3"/>
                    </a:cubicBezTo>
                    <a:close/>
                    <a:moveTo>
                      <a:pt x="16947" y="3"/>
                    </a:moveTo>
                    <a:lnTo>
                      <a:pt x="16947" y="3"/>
                    </a:lnTo>
                    <a:cubicBezTo>
                      <a:pt x="16949" y="3"/>
                      <a:pt x="16949" y="4"/>
                      <a:pt x="16949" y="5"/>
                    </a:cubicBezTo>
                    <a:cubicBezTo>
                      <a:pt x="16949" y="7"/>
                      <a:pt x="16949" y="7"/>
                      <a:pt x="16947" y="7"/>
                    </a:cubicBezTo>
                    <a:lnTo>
                      <a:pt x="16947" y="7"/>
                    </a:lnTo>
                    <a:cubicBezTo>
                      <a:pt x="16946" y="7"/>
                      <a:pt x="16945" y="7"/>
                      <a:pt x="16945" y="5"/>
                    </a:cubicBezTo>
                    <a:cubicBezTo>
                      <a:pt x="16945" y="4"/>
                      <a:pt x="16946" y="3"/>
                      <a:pt x="16947" y="3"/>
                    </a:cubicBezTo>
                    <a:close/>
                    <a:moveTo>
                      <a:pt x="16955" y="3"/>
                    </a:moveTo>
                    <a:lnTo>
                      <a:pt x="16955" y="3"/>
                    </a:lnTo>
                    <a:cubicBezTo>
                      <a:pt x="16957" y="3"/>
                      <a:pt x="16957" y="4"/>
                      <a:pt x="16957" y="5"/>
                    </a:cubicBezTo>
                    <a:cubicBezTo>
                      <a:pt x="16957" y="7"/>
                      <a:pt x="16957" y="7"/>
                      <a:pt x="16955" y="7"/>
                    </a:cubicBezTo>
                    <a:lnTo>
                      <a:pt x="16955" y="7"/>
                    </a:lnTo>
                    <a:cubicBezTo>
                      <a:pt x="16954" y="7"/>
                      <a:pt x="16953" y="7"/>
                      <a:pt x="16953" y="5"/>
                    </a:cubicBezTo>
                    <a:cubicBezTo>
                      <a:pt x="16953" y="4"/>
                      <a:pt x="16954" y="3"/>
                      <a:pt x="16955" y="3"/>
                    </a:cubicBezTo>
                    <a:close/>
                    <a:moveTo>
                      <a:pt x="16963" y="3"/>
                    </a:moveTo>
                    <a:lnTo>
                      <a:pt x="16963" y="3"/>
                    </a:lnTo>
                    <a:cubicBezTo>
                      <a:pt x="16965" y="3"/>
                      <a:pt x="16965" y="4"/>
                      <a:pt x="16965" y="5"/>
                    </a:cubicBezTo>
                    <a:cubicBezTo>
                      <a:pt x="16965" y="7"/>
                      <a:pt x="16965" y="7"/>
                      <a:pt x="16963" y="7"/>
                    </a:cubicBezTo>
                    <a:lnTo>
                      <a:pt x="16963" y="7"/>
                    </a:lnTo>
                    <a:cubicBezTo>
                      <a:pt x="16962" y="7"/>
                      <a:pt x="16961" y="7"/>
                      <a:pt x="16961" y="5"/>
                    </a:cubicBezTo>
                    <a:cubicBezTo>
                      <a:pt x="16961" y="4"/>
                      <a:pt x="16962" y="3"/>
                      <a:pt x="16963" y="3"/>
                    </a:cubicBezTo>
                    <a:close/>
                    <a:moveTo>
                      <a:pt x="16971" y="3"/>
                    </a:moveTo>
                    <a:lnTo>
                      <a:pt x="16971" y="3"/>
                    </a:lnTo>
                    <a:cubicBezTo>
                      <a:pt x="16973" y="3"/>
                      <a:pt x="16973" y="4"/>
                      <a:pt x="16973" y="5"/>
                    </a:cubicBezTo>
                    <a:cubicBezTo>
                      <a:pt x="16973" y="7"/>
                      <a:pt x="16973" y="7"/>
                      <a:pt x="16971" y="7"/>
                    </a:cubicBezTo>
                    <a:lnTo>
                      <a:pt x="16971" y="7"/>
                    </a:lnTo>
                    <a:cubicBezTo>
                      <a:pt x="16970" y="7"/>
                      <a:pt x="16969" y="7"/>
                      <a:pt x="16969" y="5"/>
                    </a:cubicBezTo>
                    <a:cubicBezTo>
                      <a:pt x="16969" y="4"/>
                      <a:pt x="16970" y="3"/>
                      <a:pt x="16971" y="3"/>
                    </a:cubicBezTo>
                    <a:close/>
                    <a:moveTo>
                      <a:pt x="16979" y="3"/>
                    </a:moveTo>
                    <a:lnTo>
                      <a:pt x="16979" y="3"/>
                    </a:lnTo>
                    <a:cubicBezTo>
                      <a:pt x="16981" y="3"/>
                      <a:pt x="16981" y="4"/>
                      <a:pt x="16981" y="5"/>
                    </a:cubicBezTo>
                    <a:cubicBezTo>
                      <a:pt x="16981" y="7"/>
                      <a:pt x="16981" y="7"/>
                      <a:pt x="16979" y="7"/>
                    </a:cubicBezTo>
                    <a:lnTo>
                      <a:pt x="16979" y="7"/>
                    </a:lnTo>
                    <a:cubicBezTo>
                      <a:pt x="16978" y="7"/>
                      <a:pt x="16977" y="7"/>
                      <a:pt x="16977" y="5"/>
                    </a:cubicBezTo>
                    <a:cubicBezTo>
                      <a:pt x="16977" y="4"/>
                      <a:pt x="16978" y="3"/>
                      <a:pt x="16979" y="3"/>
                    </a:cubicBezTo>
                    <a:close/>
                    <a:moveTo>
                      <a:pt x="16987" y="3"/>
                    </a:moveTo>
                    <a:lnTo>
                      <a:pt x="16987" y="3"/>
                    </a:lnTo>
                    <a:cubicBezTo>
                      <a:pt x="16989" y="3"/>
                      <a:pt x="16989" y="4"/>
                      <a:pt x="16989" y="5"/>
                    </a:cubicBezTo>
                    <a:cubicBezTo>
                      <a:pt x="16989" y="7"/>
                      <a:pt x="16989" y="7"/>
                      <a:pt x="16987" y="7"/>
                    </a:cubicBezTo>
                    <a:lnTo>
                      <a:pt x="16987" y="7"/>
                    </a:lnTo>
                    <a:cubicBezTo>
                      <a:pt x="16986" y="7"/>
                      <a:pt x="16985" y="7"/>
                      <a:pt x="16985" y="5"/>
                    </a:cubicBezTo>
                    <a:cubicBezTo>
                      <a:pt x="16985" y="4"/>
                      <a:pt x="16986" y="3"/>
                      <a:pt x="16987" y="3"/>
                    </a:cubicBezTo>
                    <a:close/>
                    <a:moveTo>
                      <a:pt x="16995" y="3"/>
                    </a:moveTo>
                    <a:lnTo>
                      <a:pt x="16995" y="3"/>
                    </a:lnTo>
                    <a:cubicBezTo>
                      <a:pt x="16997" y="3"/>
                      <a:pt x="16997" y="4"/>
                      <a:pt x="16997" y="5"/>
                    </a:cubicBezTo>
                    <a:cubicBezTo>
                      <a:pt x="16997" y="7"/>
                      <a:pt x="16997" y="7"/>
                      <a:pt x="16995" y="7"/>
                    </a:cubicBezTo>
                    <a:lnTo>
                      <a:pt x="16995" y="7"/>
                    </a:lnTo>
                    <a:cubicBezTo>
                      <a:pt x="16994" y="7"/>
                      <a:pt x="16993" y="7"/>
                      <a:pt x="16993" y="5"/>
                    </a:cubicBezTo>
                    <a:cubicBezTo>
                      <a:pt x="16993" y="4"/>
                      <a:pt x="16994" y="3"/>
                      <a:pt x="16995" y="3"/>
                    </a:cubicBezTo>
                    <a:close/>
                    <a:moveTo>
                      <a:pt x="17003" y="3"/>
                    </a:moveTo>
                    <a:lnTo>
                      <a:pt x="17003" y="3"/>
                    </a:lnTo>
                    <a:cubicBezTo>
                      <a:pt x="17005" y="3"/>
                      <a:pt x="17005" y="4"/>
                      <a:pt x="17005" y="5"/>
                    </a:cubicBezTo>
                    <a:cubicBezTo>
                      <a:pt x="17005" y="7"/>
                      <a:pt x="17005" y="7"/>
                      <a:pt x="17003" y="7"/>
                    </a:cubicBezTo>
                    <a:lnTo>
                      <a:pt x="17003" y="7"/>
                    </a:lnTo>
                    <a:cubicBezTo>
                      <a:pt x="17002" y="7"/>
                      <a:pt x="17001" y="7"/>
                      <a:pt x="17001" y="5"/>
                    </a:cubicBezTo>
                    <a:cubicBezTo>
                      <a:pt x="17001" y="4"/>
                      <a:pt x="17002" y="3"/>
                      <a:pt x="17003" y="3"/>
                    </a:cubicBezTo>
                    <a:close/>
                    <a:moveTo>
                      <a:pt x="17011" y="3"/>
                    </a:moveTo>
                    <a:lnTo>
                      <a:pt x="17011" y="3"/>
                    </a:lnTo>
                    <a:cubicBezTo>
                      <a:pt x="17013" y="3"/>
                      <a:pt x="17013" y="4"/>
                      <a:pt x="17013" y="5"/>
                    </a:cubicBezTo>
                    <a:cubicBezTo>
                      <a:pt x="17013" y="7"/>
                      <a:pt x="17013" y="7"/>
                      <a:pt x="17011" y="7"/>
                    </a:cubicBezTo>
                    <a:lnTo>
                      <a:pt x="17011" y="7"/>
                    </a:lnTo>
                    <a:cubicBezTo>
                      <a:pt x="17010" y="7"/>
                      <a:pt x="17009" y="7"/>
                      <a:pt x="17009" y="5"/>
                    </a:cubicBezTo>
                    <a:cubicBezTo>
                      <a:pt x="17009" y="4"/>
                      <a:pt x="17010" y="3"/>
                      <a:pt x="17011" y="3"/>
                    </a:cubicBezTo>
                    <a:close/>
                    <a:moveTo>
                      <a:pt x="17019" y="3"/>
                    </a:moveTo>
                    <a:lnTo>
                      <a:pt x="17019" y="3"/>
                    </a:lnTo>
                    <a:cubicBezTo>
                      <a:pt x="17021" y="3"/>
                      <a:pt x="17021" y="4"/>
                      <a:pt x="17021" y="5"/>
                    </a:cubicBezTo>
                    <a:cubicBezTo>
                      <a:pt x="17021" y="7"/>
                      <a:pt x="17021" y="7"/>
                      <a:pt x="17019" y="7"/>
                    </a:cubicBezTo>
                    <a:lnTo>
                      <a:pt x="17019" y="7"/>
                    </a:lnTo>
                    <a:cubicBezTo>
                      <a:pt x="17018" y="7"/>
                      <a:pt x="17017" y="7"/>
                      <a:pt x="17017" y="5"/>
                    </a:cubicBezTo>
                    <a:cubicBezTo>
                      <a:pt x="17017" y="4"/>
                      <a:pt x="17018" y="3"/>
                      <a:pt x="17019" y="3"/>
                    </a:cubicBezTo>
                    <a:close/>
                    <a:moveTo>
                      <a:pt x="17027" y="3"/>
                    </a:moveTo>
                    <a:lnTo>
                      <a:pt x="17027" y="3"/>
                    </a:lnTo>
                    <a:cubicBezTo>
                      <a:pt x="17029" y="3"/>
                      <a:pt x="17029" y="4"/>
                      <a:pt x="17029" y="5"/>
                    </a:cubicBezTo>
                    <a:cubicBezTo>
                      <a:pt x="17029" y="7"/>
                      <a:pt x="17029" y="7"/>
                      <a:pt x="17027" y="7"/>
                    </a:cubicBezTo>
                    <a:lnTo>
                      <a:pt x="17027" y="7"/>
                    </a:lnTo>
                    <a:cubicBezTo>
                      <a:pt x="17026" y="7"/>
                      <a:pt x="17025" y="7"/>
                      <a:pt x="17025" y="5"/>
                    </a:cubicBezTo>
                    <a:cubicBezTo>
                      <a:pt x="17025" y="4"/>
                      <a:pt x="17026" y="3"/>
                      <a:pt x="17027" y="3"/>
                    </a:cubicBezTo>
                    <a:close/>
                    <a:moveTo>
                      <a:pt x="17035" y="3"/>
                    </a:moveTo>
                    <a:lnTo>
                      <a:pt x="17035" y="3"/>
                    </a:lnTo>
                    <a:cubicBezTo>
                      <a:pt x="17037" y="3"/>
                      <a:pt x="17037" y="4"/>
                      <a:pt x="17037" y="5"/>
                    </a:cubicBezTo>
                    <a:cubicBezTo>
                      <a:pt x="17037" y="7"/>
                      <a:pt x="17037" y="7"/>
                      <a:pt x="17035" y="7"/>
                    </a:cubicBezTo>
                    <a:lnTo>
                      <a:pt x="17035" y="7"/>
                    </a:lnTo>
                    <a:cubicBezTo>
                      <a:pt x="17034" y="7"/>
                      <a:pt x="17033" y="7"/>
                      <a:pt x="17033" y="5"/>
                    </a:cubicBezTo>
                    <a:cubicBezTo>
                      <a:pt x="17033" y="4"/>
                      <a:pt x="17034" y="3"/>
                      <a:pt x="17035" y="3"/>
                    </a:cubicBezTo>
                    <a:close/>
                    <a:moveTo>
                      <a:pt x="17044" y="3"/>
                    </a:moveTo>
                    <a:lnTo>
                      <a:pt x="17044" y="3"/>
                    </a:lnTo>
                    <a:cubicBezTo>
                      <a:pt x="17045" y="3"/>
                      <a:pt x="17046" y="4"/>
                      <a:pt x="17046" y="5"/>
                    </a:cubicBezTo>
                    <a:cubicBezTo>
                      <a:pt x="17046" y="7"/>
                      <a:pt x="17045" y="7"/>
                      <a:pt x="17044" y="7"/>
                    </a:cubicBezTo>
                    <a:lnTo>
                      <a:pt x="17044" y="7"/>
                    </a:lnTo>
                    <a:cubicBezTo>
                      <a:pt x="17042" y="7"/>
                      <a:pt x="17041" y="7"/>
                      <a:pt x="17041" y="5"/>
                    </a:cubicBezTo>
                    <a:cubicBezTo>
                      <a:pt x="17041" y="4"/>
                      <a:pt x="17042" y="3"/>
                      <a:pt x="17044" y="3"/>
                    </a:cubicBezTo>
                    <a:close/>
                    <a:moveTo>
                      <a:pt x="17052" y="3"/>
                    </a:moveTo>
                    <a:lnTo>
                      <a:pt x="17052" y="3"/>
                    </a:lnTo>
                    <a:cubicBezTo>
                      <a:pt x="17053" y="3"/>
                      <a:pt x="17054" y="4"/>
                      <a:pt x="17054" y="5"/>
                    </a:cubicBezTo>
                    <a:cubicBezTo>
                      <a:pt x="17054" y="7"/>
                      <a:pt x="17053" y="7"/>
                      <a:pt x="17052" y="7"/>
                    </a:cubicBezTo>
                    <a:lnTo>
                      <a:pt x="17052" y="7"/>
                    </a:lnTo>
                    <a:cubicBezTo>
                      <a:pt x="17050" y="7"/>
                      <a:pt x="17050" y="7"/>
                      <a:pt x="17050" y="5"/>
                    </a:cubicBezTo>
                    <a:cubicBezTo>
                      <a:pt x="17050" y="4"/>
                      <a:pt x="17050" y="3"/>
                      <a:pt x="17052" y="3"/>
                    </a:cubicBezTo>
                    <a:close/>
                    <a:moveTo>
                      <a:pt x="17060" y="3"/>
                    </a:moveTo>
                    <a:lnTo>
                      <a:pt x="17060" y="3"/>
                    </a:lnTo>
                    <a:cubicBezTo>
                      <a:pt x="17061" y="3"/>
                      <a:pt x="17062" y="4"/>
                      <a:pt x="17062" y="5"/>
                    </a:cubicBezTo>
                    <a:cubicBezTo>
                      <a:pt x="17062" y="7"/>
                      <a:pt x="17061" y="7"/>
                      <a:pt x="17060" y="7"/>
                    </a:cubicBezTo>
                    <a:lnTo>
                      <a:pt x="17060" y="7"/>
                    </a:lnTo>
                    <a:cubicBezTo>
                      <a:pt x="17058" y="7"/>
                      <a:pt x="17058" y="7"/>
                      <a:pt x="17058" y="5"/>
                    </a:cubicBezTo>
                    <a:cubicBezTo>
                      <a:pt x="17058" y="4"/>
                      <a:pt x="17058" y="3"/>
                      <a:pt x="17060" y="3"/>
                    </a:cubicBezTo>
                    <a:close/>
                    <a:moveTo>
                      <a:pt x="17068" y="3"/>
                    </a:moveTo>
                    <a:lnTo>
                      <a:pt x="17068" y="3"/>
                    </a:lnTo>
                    <a:cubicBezTo>
                      <a:pt x="17069" y="3"/>
                      <a:pt x="17070" y="4"/>
                      <a:pt x="17070" y="5"/>
                    </a:cubicBezTo>
                    <a:cubicBezTo>
                      <a:pt x="17070" y="7"/>
                      <a:pt x="17069" y="7"/>
                      <a:pt x="17068" y="7"/>
                    </a:cubicBezTo>
                    <a:lnTo>
                      <a:pt x="17068" y="7"/>
                    </a:lnTo>
                    <a:cubicBezTo>
                      <a:pt x="17066" y="7"/>
                      <a:pt x="17066" y="7"/>
                      <a:pt x="17066" y="5"/>
                    </a:cubicBezTo>
                    <a:cubicBezTo>
                      <a:pt x="17066" y="4"/>
                      <a:pt x="17066" y="3"/>
                      <a:pt x="17068" y="3"/>
                    </a:cubicBezTo>
                    <a:close/>
                    <a:moveTo>
                      <a:pt x="17076" y="3"/>
                    </a:moveTo>
                    <a:lnTo>
                      <a:pt x="17076" y="3"/>
                    </a:lnTo>
                    <a:cubicBezTo>
                      <a:pt x="17077" y="3"/>
                      <a:pt x="17078" y="4"/>
                      <a:pt x="17078" y="5"/>
                    </a:cubicBezTo>
                    <a:cubicBezTo>
                      <a:pt x="17078" y="7"/>
                      <a:pt x="17077" y="7"/>
                      <a:pt x="17076" y="7"/>
                    </a:cubicBezTo>
                    <a:lnTo>
                      <a:pt x="17076" y="7"/>
                    </a:lnTo>
                    <a:cubicBezTo>
                      <a:pt x="17074" y="7"/>
                      <a:pt x="17074" y="7"/>
                      <a:pt x="17074" y="5"/>
                    </a:cubicBezTo>
                    <a:cubicBezTo>
                      <a:pt x="17074" y="4"/>
                      <a:pt x="17074" y="3"/>
                      <a:pt x="17076" y="3"/>
                    </a:cubicBezTo>
                    <a:close/>
                    <a:moveTo>
                      <a:pt x="17084" y="3"/>
                    </a:moveTo>
                    <a:lnTo>
                      <a:pt x="17084" y="3"/>
                    </a:lnTo>
                    <a:cubicBezTo>
                      <a:pt x="17085" y="3"/>
                      <a:pt x="17086" y="4"/>
                      <a:pt x="17086" y="5"/>
                    </a:cubicBezTo>
                    <a:cubicBezTo>
                      <a:pt x="17086" y="7"/>
                      <a:pt x="17085" y="7"/>
                      <a:pt x="17084" y="7"/>
                    </a:cubicBezTo>
                    <a:lnTo>
                      <a:pt x="17084" y="7"/>
                    </a:lnTo>
                    <a:cubicBezTo>
                      <a:pt x="17082" y="7"/>
                      <a:pt x="17082" y="7"/>
                      <a:pt x="17082" y="5"/>
                    </a:cubicBezTo>
                    <a:cubicBezTo>
                      <a:pt x="17082" y="4"/>
                      <a:pt x="17082" y="3"/>
                      <a:pt x="17084" y="3"/>
                    </a:cubicBezTo>
                    <a:close/>
                    <a:moveTo>
                      <a:pt x="17092" y="3"/>
                    </a:moveTo>
                    <a:lnTo>
                      <a:pt x="17092" y="3"/>
                    </a:lnTo>
                    <a:cubicBezTo>
                      <a:pt x="17093" y="3"/>
                      <a:pt x="17094" y="4"/>
                      <a:pt x="17094" y="5"/>
                    </a:cubicBezTo>
                    <a:cubicBezTo>
                      <a:pt x="17094" y="7"/>
                      <a:pt x="17093" y="7"/>
                      <a:pt x="17092" y="7"/>
                    </a:cubicBezTo>
                    <a:lnTo>
                      <a:pt x="17092" y="7"/>
                    </a:lnTo>
                    <a:cubicBezTo>
                      <a:pt x="17090" y="7"/>
                      <a:pt x="17090" y="7"/>
                      <a:pt x="17090" y="5"/>
                    </a:cubicBezTo>
                    <a:cubicBezTo>
                      <a:pt x="17090" y="4"/>
                      <a:pt x="17090" y="3"/>
                      <a:pt x="17092" y="3"/>
                    </a:cubicBezTo>
                    <a:close/>
                    <a:moveTo>
                      <a:pt x="17100" y="3"/>
                    </a:moveTo>
                    <a:lnTo>
                      <a:pt x="17100" y="3"/>
                    </a:lnTo>
                    <a:cubicBezTo>
                      <a:pt x="17101" y="3"/>
                      <a:pt x="17102" y="4"/>
                      <a:pt x="17102" y="5"/>
                    </a:cubicBezTo>
                    <a:cubicBezTo>
                      <a:pt x="17102" y="7"/>
                      <a:pt x="17101" y="7"/>
                      <a:pt x="17100" y="7"/>
                    </a:cubicBezTo>
                    <a:lnTo>
                      <a:pt x="17100" y="7"/>
                    </a:lnTo>
                    <a:cubicBezTo>
                      <a:pt x="17098" y="7"/>
                      <a:pt x="17098" y="7"/>
                      <a:pt x="17098" y="5"/>
                    </a:cubicBezTo>
                    <a:cubicBezTo>
                      <a:pt x="17098" y="4"/>
                      <a:pt x="17098" y="3"/>
                      <a:pt x="17100" y="3"/>
                    </a:cubicBezTo>
                    <a:close/>
                    <a:moveTo>
                      <a:pt x="17108" y="3"/>
                    </a:moveTo>
                    <a:lnTo>
                      <a:pt x="17108" y="3"/>
                    </a:lnTo>
                    <a:cubicBezTo>
                      <a:pt x="17109" y="3"/>
                      <a:pt x="17110" y="4"/>
                      <a:pt x="17110" y="5"/>
                    </a:cubicBezTo>
                    <a:cubicBezTo>
                      <a:pt x="17110" y="7"/>
                      <a:pt x="17109" y="7"/>
                      <a:pt x="17108" y="7"/>
                    </a:cubicBezTo>
                    <a:lnTo>
                      <a:pt x="17108" y="7"/>
                    </a:lnTo>
                    <a:cubicBezTo>
                      <a:pt x="17106" y="7"/>
                      <a:pt x="17106" y="7"/>
                      <a:pt x="17106" y="5"/>
                    </a:cubicBezTo>
                    <a:cubicBezTo>
                      <a:pt x="17106" y="4"/>
                      <a:pt x="17106" y="3"/>
                      <a:pt x="17108" y="3"/>
                    </a:cubicBezTo>
                    <a:close/>
                    <a:moveTo>
                      <a:pt x="17116" y="3"/>
                    </a:moveTo>
                    <a:lnTo>
                      <a:pt x="17116" y="3"/>
                    </a:lnTo>
                    <a:cubicBezTo>
                      <a:pt x="17117" y="3"/>
                      <a:pt x="17118" y="4"/>
                      <a:pt x="17118" y="5"/>
                    </a:cubicBezTo>
                    <a:cubicBezTo>
                      <a:pt x="17118" y="7"/>
                      <a:pt x="17117" y="7"/>
                      <a:pt x="17116" y="7"/>
                    </a:cubicBezTo>
                    <a:lnTo>
                      <a:pt x="17116" y="7"/>
                    </a:lnTo>
                    <a:cubicBezTo>
                      <a:pt x="17114" y="7"/>
                      <a:pt x="17114" y="7"/>
                      <a:pt x="17114" y="5"/>
                    </a:cubicBezTo>
                    <a:cubicBezTo>
                      <a:pt x="17114" y="4"/>
                      <a:pt x="17114" y="3"/>
                      <a:pt x="17116" y="3"/>
                    </a:cubicBezTo>
                    <a:close/>
                    <a:moveTo>
                      <a:pt x="17124" y="3"/>
                    </a:moveTo>
                    <a:lnTo>
                      <a:pt x="17124" y="3"/>
                    </a:lnTo>
                    <a:cubicBezTo>
                      <a:pt x="17125" y="3"/>
                      <a:pt x="17126" y="4"/>
                      <a:pt x="17126" y="5"/>
                    </a:cubicBezTo>
                    <a:cubicBezTo>
                      <a:pt x="17126" y="7"/>
                      <a:pt x="17125" y="7"/>
                      <a:pt x="17124" y="7"/>
                    </a:cubicBezTo>
                    <a:lnTo>
                      <a:pt x="17124" y="7"/>
                    </a:lnTo>
                    <a:cubicBezTo>
                      <a:pt x="17122" y="7"/>
                      <a:pt x="17122" y="7"/>
                      <a:pt x="17122" y="5"/>
                    </a:cubicBezTo>
                    <a:cubicBezTo>
                      <a:pt x="17122" y="4"/>
                      <a:pt x="17122" y="3"/>
                      <a:pt x="17124" y="3"/>
                    </a:cubicBezTo>
                    <a:close/>
                    <a:moveTo>
                      <a:pt x="17132" y="3"/>
                    </a:moveTo>
                    <a:lnTo>
                      <a:pt x="17132" y="3"/>
                    </a:lnTo>
                    <a:cubicBezTo>
                      <a:pt x="17133" y="3"/>
                      <a:pt x="17134" y="4"/>
                      <a:pt x="17134" y="5"/>
                    </a:cubicBezTo>
                    <a:cubicBezTo>
                      <a:pt x="17134" y="7"/>
                      <a:pt x="17133" y="7"/>
                      <a:pt x="17132" y="7"/>
                    </a:cubicBezTo>
                    <a:lnTo>
                      <a:pt x="17132" y="7"/>
                    </a:lnTo>
                    <a:cubicBezTo>
                      <a:pt x="17130" y="7"/>
                      <a:pt x="17130" y="7"/>
                      <a:pt x="17130" y="5"/>
                    </a:cubicBezTo>
                    <a:cubicBezTo>
                      <a:pt x="17130" y="4"/>
                      <a:pt x="17130" y="3"/>
                      <a:pt x="17132" y="3"/>
                    </a:cubicBezTo>
                    <a:close/>
                    <a:moveTo>
                      <a:pt x="17140" y="3"/>
                    </a:moveTo>
                    <a:lnTo>
                      <a:pt x="17140" y="3"/>
                    </a:lnTo>
                    <a:cubicBezTo>
                      <a:pt x="17141" y="3"/>
                      <a:pt x="17142" y="4"/>
                      <a:pt x="17142" y="5"/>
                    </a:cubicBezTo>
                    <a:cubicBezTo>
                      <a:pt x="17142" y="7"/>
                      <a:pt x="17141" y="7"/>
                      <a:pt x="17140" y="7"/>
                    </a:cubicBezTo>
                    <a:lnTo>
                      <a:pt x="17140" y="7"/>
                    </a:lnTo>
                    <a:cubicBezTo>
                      <a:pt x="17138" y="7"/>
                      <a:pt x="17138" y="7"/>
                      <a:pt x="17138" y="5"/>
                    </a:cubicBezTo>
                    <a:cubicBezTo>
                      <a:pt x="17138" y="4"/>
                      <a:pt x="17138" y="3"/>
                      <a:pt x="17140" y="3"/>
                    </a:cubicBezTo>
                    <a:close/>
                    <a:moveTo>
                      <a:pt x="17148" y="3"/>
                    </a:moveTo>
                    <a:lnTo>
                      <a:pt x="17148" y="3"/>
                    </a:lnTo>
                    <a:cubicBezTo>
                      <a:pt x="17149" y="3"/>
                      <a:pt x="17150" y="4"/>
                      <a:pt x="17150" y="5"/>
                    </a:cubicBezTo>
                    <a:cubicBezTo>
                      <a:pt x="17150" y="7"/>
                      <a:pt x="17149" y="7"/>
                      <a:pt x="17148" y="7"/>
                    </a:cubicBezTo>
                    <a:lnTo>
                      <a:pt x="17148" y="7"/>
                    </a:lnTo>
                    <a:cubicBezTo>
                      <a:pt x="17146" y="7"/>
                      <a:pt x="17146" y="7"/>
                      <a:pt x="17146" y="5"/>
                    </a:cubicBezTo>
                    <a:cubicBezTo>
                      <a:pt x="17146" y="4"/>
                      <a:pt x="17146" y="3"/>
                      <a:pt x="17148" y="3"/>
                    </a:cubicBezTo>
                    <a:close/>
                    <a:moveTo>
                      <a:pt x="17156" y="3"/>
                    </a:moveTo>
                    <a:lnTo>
                      <a:pt x="17156" y="3"/>
                    </a:lnTo>
                    <a:cubicBezTo>
                      <a:pt x="17157" y="3"/>
                      <a:pt x="17158" y="4"/>
                      <a:pt x="17158" y="5"/>
                    </a:cubicBezTo>
                    <a:cubicBezTo>
                      <a:pt x="17158" y="7"/>
                      <a:pt x="17157" y="7"/>
                      <a:pt x="17156" y="7"/>
                    </a:cubicBezTo>
                    <a:lnTo>
                      <a:pt x="17156" y="7"/>
                    </a:lnTo>
                    <a:cubicBezTo>
                      <a:pt x="17154" y="7"/>
                      <a:pt x="17154" y="7"/>
                      <a:pt x="17154" y="5"/>
                    </a:cubicBezTo>
                    <a:cubicBezTo>
                      <a:pt x="17154" y="4"/>
                      <a:pt x="17154" y="3"/>
                      <a:pt x="17156" y="3"/>
                    </a:cubicBezTo>
                    <a:close/>
                    <a:moveTo>
                      <a:pt x="17164" y="3"/>
                    </a:moveTo>
                    <a:lnTo>
                      <a:pt x="17164" y="3"/>
                    </a:lnTo>
                    <a:cubicBezTo>
                      <a:pt x="17165" y="3"/>
                      <a:pt x="17166" y="4"/>
                      <a:pt x="17166" y="5"/>
                    </a:cubicBezTo>
                    <a:cubicBezTo>
                      <a:pt x="17166" y="7"/>
                      <a:pt x="17165" y="7"/>
                      <a:pt x="17164" y="7"/>
                    </a:cubicBezTo>
                    <a:lnTo>
                      <a:pt x="17164" y="7"/>
                    </a:lnTo>
                    <a:cubicBezTo>
                      <a:pt x="17162" y="7"/>
                      <a:pt x="17162" y="7"/>
                      <a:pt x="17162" y="5"/>
                    </a:cubicBezTo>
                    <a:cubicBezTo>
                      <a:pt x="17162" y="4"/>
                      <a:pt x="17162" y="3"/>
                      <a:pt x="17164" y="3"/>
                    </a:cubicBezTo>
                    <a:close/>
                    <a:moveTo>
                      <a:pt x="17172" y="3"/>
                    </a:moveTo>
                    <a:lnTo>
                      <a:pt x="17172" y="3"/>
                    </a:lnTo>
                    <a:cubicBezTo>
                      <a:pt x="17173" y="3"/>
                      <a:pt x="17174" y="4"/>
                      <a:pt x="17174" y="5"/>
                    </a:cubicBezTo>
                    <a:cubicBezTo>
                      <a:pt x="17174" y="7"/>
                      <a:pt x="17173" y="7"/>
                      <a:pt x="17172" y="7"/>
                    </a:cubicBezTo>
                    <a:lnTo>
                      <a:pt x="17172" y="7"/>
                    </a:lnTo>
                    <a:cubicBezTo>
                      <a:pt x="17170" y="7"/>
                      <a:pt x="17170" y="7"/>
                      <a:pt x="17170" y="5"/>
                    </a:cubicBezTo>
                    <a:cubicBezTo>
                      <a:pt x="17170" y="4"/>
                      <a:pt x="17170" y="3"/>
                      <a:pt x="17172" y="3"/>
                    </a:cubicBezTo>
                    <a:close/>
                    <a:moveTo>
                      <a:pt x="17180" y="3"/>
                    </a:moveTo>
                    <a:lnTo>
                      <a:pt x="17180" y="3"/>
                    </a:lnTo>
                    <a:cubicBezTo>
                      <a:pt x="17181" y="3"/>
                      <a:pt x="17182" y="4"/>
                      <a:pt x="17182" y="5"/>
                    </a:cubicBezTo>
                    <a:cubicBezTo>
                      <a:pt x="17182" y="7"/>
                      <a:pt x="17181" y="7"/>
                      <a:pt x="17180" y="7"/>
                    </a:cubicBezTo>
                    <a:lnTo>
                      <a:pt x="17180" y="7"/>
                    </a:lnTo>
                    <a:cubicBezTo>
                      <a:pt x="17178" y="7"/>
                      <a:pt x="17178" y="7"/>
                      <a:pt x="17178" y="5"/>
                    </a:cubicBezTo>
                    <a:cubicBezTo>
                      <a:pt x="17178" y="4"/>
                      <a:pt x="17178" y="3"/>
                      <a:pt x="17180" y="3"/>
                    </a:cubicBezTo>
                    <a:close/>
                    <a:moveTo>
                      <a:pt x="17188" y="3"/>
                    </a:moveTo>
                    <a:lnTo>
                      <a:pt x="17188" y="3"/>
                    </a:lnTo>
                    <a:cubicBezTo>
                      <a:pt x="17189" y="3"/>
                      <a:pt x="17190" y="4"/>
                      <a:pt x="17190" y="5"/>
                    </a:cubicBezTo>
                    <a:cubicBezTo>
                      <a:pt x="17190" y="7"/>
                      <a:pt x="17189" y="7"/>
                      <a:pt x="17188" y="7"/>
                    </a:cubicBezTo>
                    <a:lnTo>
                      <a:pt x="17188" y="7"/>
                    </a:lnTo>
                    <a:cubicBezTo>
                      <a:pt x="17187" y="7"/>
                      <a:pt x="17186" y="7"/>
                      <a:pt x="17186" y="5"/>
                    </a:cubicBezTo>
                    <a:cubicBezTo>
                      <a:pt x="17186" y="4"/>
                      <a:pt x="17187" y="3"/>
                      <a:pt x="17188" y="3"/>
                    </a:cubicBezTo>
                    <a:close/>
                    <a:moveTo>
                      <a:pt x="17196" y="3"/>
                    </a:moveTo>
                    <a:lnTo>
                      <a:pt x="17196" y="3"/>
                    </a:lnTo>
                    <a:cubicBezTo>
                      <a:pt x="17197" y="3"/>
                      <a:pt x="17198" y="4"/>
                      <a:pt x="17198" y="5"/>
                    </a:cubicBezTo>
                    <a:cubicBezTo>
                      <a:pt x="17198" y="7"/>
                      <a:pt x="17197" y="7"/>
                      <a:pt x="17196" y="7"/>
                    </a:cubicBezTo>
                    <a:lnTo>
                      <a:pt x="17196" y="7"/>
                    </a:lnTo>
                    <a:cubicBezTo>
                      <a:pt x="17195" y="7"/>
                      <a:pt x="17194" y="7"/>
                      <a:pt x="17194" y="5"/>
                    </a:cubicBezTo>
                    <a:cubicBezTo>
                      <a:pt x="17194" y="4"/>
                      <a:pt x="17195" y="3"/>
                      <a:pt x="17196" y="3"/>
                    </a:cubicBezTo>
                    <a:close/>
                    <a:moveTo>
                      <a:pt x="17204" y="3"/>
                    </a:moveTo>
                    <a:lnTo>
                      <a:pt x="17204" y="3"/>
                    </a:lnTo>
                    <a:cubicBezTo>
                      <a:pt x="17205" y="3"/>
                      <a:pt x="17206" y="4"/>
                      <a:pt x="17206" y="5"/>
                    </a:cubicBezTo>
                    <a:cubicBezTo>
                      <a:pt x="17206" y="7"/>
                      <a:pt x="17205" y="7"/>
                      <a:pt x="17204" y="7"/>
                    </a:cubicBezTo>
                    <a:lnTo>
                      <a:pt x="17204" y="7"/>
                    </a:lnTo>
                    <a:cubicBezTo>
                      <a:pt x="17203" y="7"/>
                      <a:pt x="17202" y="7"/>
                      <a:pt x="17202" y="5"/>
                    </a:cubicBezTo>
                    <a:cubicBezTo>
                      <a:pt x="17202" y="4"/>
                      <a:pt x="17203" y="3"/>
                      <a:pt x="17204" y="3"/>
                    </a:cubicBezTo>
                    <a:close/>
                    <a:moveTo>
                      <a:pt x="17212" y="3"/>
                    </a:moveTo>
                    <a:lnTo>
                      <a:pt x="17212" y="3"/>
                    </a:lnTo>
                    <a:cubicBezTo>
                      <a:pt x="17213" y="3"/>
                      <a:pt x="17214" y="4"/>
                      <a:pt x="17214" y="5"/>
                    </a:cubicBezTo>
                    <a:cubicBezTo>
                      <a:pt x="17214" y="7"/>
                      <a:pt x="17213" y="7"/>
                      <a:pt x="17212" y="7"/>
                    </a:cubicBezTo>
                    <a:lnTo>
                      <a:pt x="17212" y="7"/>
                    </a:lnTo>
                    <a:cubicBezTo>
                      <a:pt x="17211" y="7"/>
                      <a:pt x="17210" y="7"/>
                      <a:pt x="17210" y="5"/>
                    </a:cubicBezTo>
                    <a:cubicBezTo>
                      <a:pt x="17210" y="4"/>
                      <a:pt x="17211" y="3"/>
                      <a:pt x="17212" y="3"/>
                    </a:cubicBezTo>
                    <a:close/>
                    <a:moveTo>
                      <a:pt x="17220" y="3"/>
                    </a:moveTo>
                    <a:lnTo>
                      <a:pt x="17220" y="3"/>
                    </a:lnTo>
                    <a:cubicBezTo>
                      <a:pt x="17221" y="3"/>
                      <a:pt x="17222" y="4"/>
                      <a:pt x="17222" y="5"/>
                    </a:cubicBezTo>
                    <a:cubicBezTo>
                      <a:pt x="17222" y="7"/>
                      <a:pt x="17221" y="7"/>
                      <a:pt x="17220" y="7"/>
                    </a:cubicBezTo>
                    <a:lnTo>
                      <a:pt x="17220" y="7"/>
                    </a:lnTo>
                    <a:cubicBezTo>
                      <a:pt x="17219" y="7"/>
                      <a:pt x="17218" y="7"/>
                      <a:pt x="17218" y="5"/>
                    </a:cubicBezTo>
                    <a:cubicBezTo>
                      <a:pt x="17218" y="4"/>
                      <a:pt x="17219" y="3"/>
                      <a:pt x="17220" y="3"/>
                    </a:cubicBezTo>
                    <a:close/>
                    <a:moveTo>
                      <a:pt x="17228" y="3"/>
                    </a:moveTo>
                    <a:lnTo>
                      <a:pt x="17228" y="3"/>
                    </a:lnTo>
                    <a:cubicBezTo>
                      <a:pt x="17229" y="3"/>
                      <a:pt x="17230" y="4"/>
                      <a:pt x="17230" y="5"/>
                    </a:cubicBezTo>
                    <a:cubicBezTo>
                      <a:pt x="17230" y="7"/>
                      <a:pt x="17229" y="7"/>
                      <a:pt x="17228" y="7"/>
                    </a:cubicBezTo>
                    <a:lnTo>
                      <a:pt x="17228" y="7"/>
                    </a:lnTo>
                    <a:cubicBezTo>
                      <a:pt x="17227" y="7"/>
                      <a:pt x="17226" y="7"/>
                      <a:pt x="17226" y="5"/>
                    </a:cubicBezTo>
                    <a:cubicBezTo>
                      <a:pt x="17226" y="4"/>
                      <a:pt x="17227" y="3"/>
                      <a:pt x="17228" y="3"/>
                    </a:cubicBezTo>
                    <a:close/>
                    <a:moveTo>
                      <a:pt x="17236" y="3"/>
                    </a:moveTo>
                    <a:lnTo>
                      <a:pt x="17236" y="3"/>
                    </a:lnTo>
                    <a:cubicBezTo>
                      <a:pt x="17237" y="3"/>
                      <a:pt x="17238" y="4"/>
                      <a:pt x="17238" y="5"/>
                    </a:cubicBezTo>
                    <a:cubicBezTo>
                      <a:pt x="17238" y="7"/>
                      <a:pt x="17237" y="7"/>
                      <a:pt x="17236" y="7"/>
                    </a:cubicBezTo>
                    <a:lnTo>
                      <a:pt x="17236" y="7"/>
                    </a:lnTo>
                    <a:cubicBezTo>
                      <a:pt x="17235" y="7"/>
                      <a:pt x="17234" y="7"/>
                      <a:pt x="17234" y="5"/>
                    </a:cubicBezTo>
                    <a:cubicBezTo>
                      <a:pt x="17234" y="4"/>
                      <a:pt x="17235" y="3"/>
                      <a:pt x="17236" y="3"/>
                    </a:cubicBezTo>
                    <a:close/>
                    <a:moveTo>
                      <a:pt x="17244" y="3"/>
                    </a:moveTo>
                    <a:lnTo>
                      <a:pt x="17244" y="3"/>
                    </a:lnTo>
                    <a:cubicBezTo>
                      <a:pt x="17245" y="3"/>
                      <a:pt x="17246" y="4"/>
                      <a:pt x="17246" y="5"/>
                    </a:cubicBezTo>
                    <a:cubicBezTo>
                      <a:pt x="17246" y="7"/>
                      <a:pt x="17245" y="7"/>
                      <a:pt x="17244" y="7"/>
                    </a:cubicBezTo>
                    <a:lnTo>
                      <a:pt x="17244" y="7"/>
                    </a:lnTo>
                    <a:cubicBezTo>
                      <a:pt x="17243" y="7"/>
                      <a:pt x="17242" y="7"/>
                      <a:pt x="17242" y="5"/>
                    </a:cubicBezTo>
                    <a:cubicBezTo>
                      <a:pt x="17242" y="4"/>
                      <a:pt x="17243" y="3"/>
                      <a:pt x="17244" y="3"/>
                    </a:cubicBezTo>
                    <a:close/>
                    <a:moveTo>
                      <a:pt x="17252" y="3"/>
                    </a:moveTo>
                    <a:lnTo>
                      <a:pt x="17252" y="3"/>
                    </a:lnTo>
                    <a:cubicBezTo>
                      <a:pt x="17253" y="3"/>
                      <a:pt x="17254" y="4"/>
                      <a:pt x="17254" y="5"/>
                    </a:cubicBezTo>
                    <a:cubicBezTo>
                      <a:pt x="17254" y="7"/>
                      <a:pt x="17253" y="7"/>
                      <a:pt x="17252" y="7"/>
                    </a:cubicBezTo>
                    <a:lnTo>
                      <a:pt x="17252" y="7"/>
                    </a:lnTo>
                    <a:cubicBezTo>
                      <a:pt x="17251" y="7"/>
                      <a:pt x="17250" y="7"/>
                      <a:pt x="17250" y="5"/>
                    </a:cubicBezTo>
                    <a:cubicBezTo>
                      <a:pt x="17250" y="4"/>
                      <a:pt x="17251" y="3"/>
                      <a:pt x="17252" y="3"/>
                    </a:cubicBezTo>
                    <a:close/>
                    <a:moveTo>
                      <a:pt x="17260" y="3"/>
                    </a:moveTo>
                    <a:lnTo>
                      <a:pt x="17260" y="3"/>
                    </a:lnTo>
                    <a:cubicBezTo>
                      <a:pt x="17261" y="3"/>
                      <a:pt x="17262" y="4"/>
                      <a:pt x="17262" y="5"/>
                    </a:cubicBezTo>
                    <a:cubicBezTo>
                      <a:pt x="17262" y="7"/>
                      <a:pt x="17261" y="7"/>
                      <a:pt x="17260" y="7"/>
                    </a:cubicBezTo>
                    <a:lnTo>
                      <a:pt x="17260" y="7"/>
                    </a:lnTo>
                    <a:cubicBezTo>
                      <a:pt x="17259" y="7"/>
                      <a:pt x="17258" y="7"/>
                      <a:pt x="17258" y="5"/>
                    </a:cubicBezTo>
                    <a:cubicBezTo>
                      <a:pt x="17258" y="4"/>
                      <a:pt x="17259" y="3"/>
                      <a:pt x="17260" y="3"/>
                    </a:cubicBezTo>
                    <a:close/>
                    <a:moveTo>
                      <a:pt x="17268" y="3"/>
                    </a:moveTo>
                    <a:lnTo>
                      <a:pt x="17268" y="3"/>
                    </a:lnTo>
                    <a:cubicBezTo>
                      <a:pt x="17269" y="3"/>
                      <a:pt x="17270" y="4"/>
                      <a:pt x="17270" y="5"/>
                    </a:cubicBezTo>
                    <a:cubicBezTo>
                      <a:pt x="17270" y="7"/>
                      <a:pt x="17269" y="7"/>
                      <a:pt x="17268" y="7"/>
                    </a:cubicBezTo>
                    <a:lnTo>
                      <a:pt x="17268" y="7"/>
                    </a:lnTo>
                    <a:cubicBezTo>
                      <a:pt x="17267" y="7"/>
                      <a:pt x="17266" y="7"/>
                      <a:pt x="17266" y="5"/>
                    </a:cubicBezTo>
                    <a:cubicBezTo>
                      <a:pt x="17266" y="4"/>
                      <a:pt x="17267" y="3"/>
                      <a:pt x="17268" y="3"/>
                    </a:cubicBezTo>
                    <a:close/>
                    <a:moveTo>
                      <a:pt x="17276" y="3"/>
                    </a:moveTo>
                    <a:lnTo>
                      <a:pt x="17276" y="3"/>
                    </a:lnTo>
                    <a:cubicBezTo>
                      <a:pt x="17277" y="3"/>
                      <a:pt x="17278" y="4"/>
                      <a:pt x="17278" y="5"/>
                    </a:cubicBezTo>
                    <a:cubicBezTo>
                      <a:pt x="17278" y="7"/>
                      <a:pt x="17277" y="7"/>
                      <a:pt x="17276" y="7"/>
                    </a:cubicBezTo>
                    <a:lnTo>
                      <a:pt x="17276" y="7"/>
                    </a:lnTo>
                    <a:cubicBezTo>
                      <a:pt x="17275" y="7"/>
                      <a:pt x="17274" y="7"/>
                      <a:pt x="17274" y="5"/>
                    </a:cubicBezTo>
                    <a:cubicBezTo>
                      <a:pt x="17274" y="4"/>
                      <a:pt x="17275" y="3"/>
                      <a:pt x="17276" y="3"/>
                    </a:cubicBezTo>
                    <a:close/>
                    <a:moveTo>
                      <a:pt x="17284" y="3"/>
                    </a:moveTo>
                    <a:lnTo>
                      <a:pt x="17284" y="3"/>
                    </a:lnTo>
                    <a:cubicBezTo>
                      <a:pt x="17285" y="3"/>
                      <a:pt x="17286" y="4"/>
                      <a:pt x="17286" y="5"/>
                    </a:cubicBezTo>
                    <a:cubicBezTo>
                      <a:pt x="17286" y="7"/>
                      <a:pt x="17285" y="7"/>
                      <a:pt x="17284" y="7"/>
                    </a:cubicBezTo>
                    <a:lnTo>
                      <a:pt x="17284" y="7"/>
                    </a:lnTo>
                    <a:cubicBezTo>
                      <a:pt x="17283" y="7"/>
                      <a:pt x="17282" y="7"/>
                      <a:pt x="17282" y="5"/>
                    </a:cubicBezTo>
                    <a:cubicBezTo>
                      <a:pt x="17282" y="4"/>
                      <a:pt x="17283" y="3"/>
                      <a:pt x="17284" y="3"/>
                    </a:cubicBezTo>
                    <a:close/>
                    <a:moveTo>
                      <a:pt x="17292" y="4"/>
                    </a:moveTo>
                    <a:lnTo>
                      <a:pt x="17292" y="4"/>
                    </a:lnTo>
                    <a:cubicBezTo>
                      <a:pt x="17293" y="4"/>
                      <a:pt x="17294" y="4"/>
                      <a:pt x="17294" y="6"/>
                    </a:cubicBezTo>
                    <a:cubicBezTo>
                      <a:pt x="17294" y="7"/>
                      <a:pt x="17293" y="8"/>
                      <a:pt x="17292" y="8"/>
                    </a:cubicBezTo>
                    <a:lnTo>
                      <a:pt x="17292" y="8"/>
                    </a:lnTo>
                    <a:cubicBezTo>
                      <a:pt x="17291" y="8"/>
                      <a:pt x="17290" y="7"/>
                      <a:pt x="17290" y="6"/>
                    </a:cubicBezTo>
                    <a:cubicBezTo>
                      <a:pt x="17290" y="4"/>
                      <a:pt x="17291" y="4"/>
                      <a:pt x="17292" y="4"/>
                    </a:cubicBezTo>
                    <a:close/>
                    <a:moveTo>
                      <a:pt x="17300" y="4"/>
                    </a:moveTo>
                    <a:lnTo>
                      <a:pt x="17300" y="4"/>
                    </a:lnTo>
                    <a:cubicBezTo>
                      <a:pt x="17301" y="4"/>
                      <a:pt x="17302" y="4"/>
                      <a:pt x="17302" y="6"/>
                    </a:cubicBezTo>
                    <a:cubicBezTo>
                      <a:pt x="17302" y="7"/>
                      <a:pt x="17301" y="8"/>
                      <a:pt x="17300" y="8"/>
                    </a:cubicBezTo>
                    <a:lnTo>
                      <a:pt x="17300" y="8"/>
                    </a:lnTo>
                    <a:cubicBezTo>
                      <a:pt x="17299" y="8"/>
                      <a:pt x="17298" y="7"/>
                      <a:pt x="17298" y="6"/>
                    </a:cubicBezTo>
                    <a:cubicBezTo>
                      <a:pt x="17298" y="4"/>
                      <a:pt x="17299" y="4"/>
                      <a:pt x="17300" y="4"/>
                    </a:cubicBezTo>
                    <a:close/>
                    <a:moveTo>
                      <a:pt x="17308" y="4"/>
                    </a:moveTo>
                    <a:lnTo>
                      <a:pt x="17308" y="4"/>
                    </a:lnTo>
                    <a:cubicBezTo>
                      <a:pt x="17309" y="4"/>
                      <a:pt x="17310" y="4"/>
                      <a:pt x="17310" y="6"/>
                    </a:cubicBezTo>
                    <a:cubicBezTo>
                      <a:pt x="17310" y="7"/>
                      <a:pt x="17309" y="8"/>
                      <a:pt x="17308" y="8"/>
                    </a:cubicBezTo>
                    <a:lnTo>
                      <a:pt x="17308" y="8"/>
                    </a:lnTo>
                    <a:cubicBezTo>
                      <a:pt x="17307" y="8"/>
                      <a:pt x="17306" y="7"/>
                      <a:pt x="17306" y="6"/>
                    </a:cubicBezTo>
                    <a:cubicBezTo>
                      <a:pt x="17306" y="4"/>
                      <a:pt x="17307" y="4"/>
                      <a:pt x="17308" y="4"/>
                    </a:cubicBezTo>
                    <a:close/>
                    <a:moveTo>
                      <a:pt x="17316" y="4"/>
                    </a:moveTo>
                    <a:lnTo>
                      <a:pt x="17316" y="4"/>
                    </a:lnTo>
                    <a:cubicBezTo>
                      <a:pt x="17317" y="4"/>
                      <a:pt x="17318" y="4"/>
                      <a:pt x="17318" y="6"/>
                    </a:cubicBezTo>
                    <a:cubicBezTo>
                      <a:pt x="17318" y="7"/>
                      <a:pt x="17317" y="8"/>
                      <a:pt x="17316" y="8"/>
                    </a:cubicBezTo>
                    <a:lnTo>
                      <a:pt x="17316" y="8"/>
                    </a:lnTo>
                    <a:cubicBezTo>
                      <a:pt x="17315" y="8"/>
                      <a:pt x="17314" y="7"/>
                      <a:pt x="17314" y="6"/>
                    </a:cubicBezTo>
                    <a:cubicBezTo>
                      <a:pt x="17314" y="4"/>
                      <a:pt x="17315" y="4"/>
                      <a:pt x="17316" y="4"/>
                    </a:cubicBezTo>
                    <a:close/>
                    <a:moveTo>
                      <a:pt x="17324" y="4"/>
                    </a:moveTo>
                    <a:lnTo>
                      <a:pt x="17324" y="4"/>
                    </a:lnTo>
                    <a:cubicBezTo>
                      <a:pt x="17325" y="4"/>
                      <a:pt x="17326" y="4"/>
                      <a:pt x="17326" y="6"/>
                    </a:cubicBezTo>
                    <a:cubicBezTo>
                      <a:pt x="17326" y="7"/>
                      <a:pt x="17325" y="8"/>
                      <a:pt x="17324" y="8"/>
                    </a:cubicBezTo>
                    <a:lnTo>
                      <a:pt x="17324" y="8"/>
                    </a:lnTo>
                    <a:cubicBezTo>
                      <a:pt x="17323" y="8"/>
                      <a:pt x="17322" y="7"/>
                      <a:pt x="17322" y="6"/>
                    </a:cubicBezTo>
                    <a:cubicBezTo>
                      <a:pt x="17322" y="4"/>
                      <a:pt x="17323" y="4"/>
                      <a:pt x="17324" y="4"/>
                    </a:cubicBezTo>
                    <a:close/>
                    <a:moveTo>
                      <a:pt x="17332" y="4"/>
                    </a:moveTo>
                    <a:lnTo>
                      <a:pt x="17332" y="4"/>
                    </a:lnTo>
                    <a:cubicBezTo>
                      <a:pt x="17333" y="4"/>
                      <a:pt x="17334" y="4"/>
                      <a:pt x="17334" y="6"/>
                    </a:cubicBezTo>
                    <a:cubicBezTo>
                      <a:pt x="17334" y="7"/>
                      <a:pt x="17333" y="8"/>
                      <a:pt x="17332" y="8"/>
                    </a:cubicBezTo>
                    <a:lnTo>
                      <a:pt x="17332" y="8"/>
                    </a:lnTo>
                    <a:cubicBezTo>
                      <a:pt x="17331" y="8"/>
                      <a:pt x="17330" y="7"/>
                      <a:pt x="17330" y="6"/>
                    </a:cubicBezTo>
                    <a:cubicBezTo>
                      <a:pt x="17330" y="4"/>
                      <a:pt x="17331" y="4"/>
                      <a:pt x="17332" y="4"/>
                    </a:cubicBezTo>
                    <a:close/>
                    <a:moveTo>
                      <a:pt x="17340" y="4"/>
                    </a:moveTo>
                    <a:lnTo>
                      <a:pt x="17340" y="4"/>
                    </a:lnTo>
                    <a:cubicBezTo>
                      <a:pt x="17341" y="4"/>
                      <a:pt x="17342" y="4"/>
                      <a:pt x="17342" y="6"/>
                    </a:cubicBezTo>
                    <a:cubicBezTo>
                      <a:pt x="17342" y="7"/>
                      <a:pt x="17341" y="8"/>
                      <a:pt x="17340" y="8"/>
                    </a:cubicBezTo>
                    <a:lnTo>
                      <a:pt x="17340" y="8"/>
                    </a:lnTo>
                    <a:cubicBezTo>
                      <a:pt x="17339" y="8"/>
                      <a:pt x="17338" y="7"/>
                      <a:pt x="17338" y="6"/>
                    </a:cubicBezTo>
                    <a:cubicBezTo>
                      <a:pt x="17338" y="4"/>
                      <a:pt x="17339" y="4"/>
                      <a:pt x="17340" y="4"/>
                    </a:cubicBezTo>
                    <a:close/>
                    <a:moveTo>
                      <a:pt x="17348" y="4"/>
                    </a:moveTo>
                    <a:lnTo>
                      <a:pt x="17348" y="4"/>
                    </a:lnTo>
                    <a:cubicBezTo>
                      <a:pt x="17349" y="4"/>
                      <a:pt x="17350" y="4"/>
                      <a:pt x="17350" y="6"/>
                    </a:cubicBezTo>
                    <a:cubicBezTo>
                      <a:pt x="17350" y="7"/>
                      <a:pt x="17349" y="8"/>
                      <a:pt x="17348" y="8"/>
                    </a:cubicBezTo>
                    <a:lnTo>
                      <a:pt x="17348" y="8"/>
                    </a:lnTo>
                    <a:cubicBezTo>
                      <a:pt x="17347" y="8"/>
                      <a:pt x="17346" y="7"/>
                      <a:pt x="17346" y="6"/>
                    </a:cubicBezTo>
                    <a:cubicBezTo>
                      <a:pt x="17346" y="4"/>
                      <a:pt x="17347" y="4"/>
                      <a:pt x="17348" y="4"/>
                    </a:cubicBezTo>
                    <a:close/>
                    <a:moveTo>
                      <a:pt x="17356" y="4"/>
                    </a:moveTo>
                    <a:lnTo>
                      <a:pt x="17356" y="4"/>
                    </a:lnTo>
                    <a:cubicBezTo>
                      <a:pt x="17357" y="4"/>
                      <a:pt x="17358" y="4"/>
                      <a:pt x="17358" y="6"/>
                    </a:cubicBezTo>
                    <a:cubicBezTo>
                      <a:pt x="17358" y="7"/>
                      <a:pt x="17357" y="8"/>
                      <a:pt x="17356" y="8"/>
                    </a:cubicBezTo>
                    <a:lnTo>
                      <a:pt x="17356" y="8"/>
                    </a:lnTo>
                    <a:cubicBezTo>
                      <a:pt x="17355" y="8"/>
                      <a:pt x="17354" y="7"/>
                      <a:pt x="17354" y="6"/>
                    </a:cubicBezTo>
                    <a:cubicBezTo>
                      <a:pt x="17354" y="4"/>
                      <a:pt x="17355" y="4"/>
                      <a:pt x="17356" y="4"/>
                    </a:cubicBezTo>
                    <a:close/>
                    <a:moveTo>
                      <a:pt x="17364" y="4"/>
                    </a:moveTo>
                    <a:lnTo>
                      <a:pt x="17364" y="4"/>
                    </a:lnTo>
                    <a:cubicBezTo>
                      <a:pt x="17365" y="4"/>
                      <a:pt x="17366" y="4"/>
                      <a:pt x="17366" y="6"/>
                    </a:cubicBezTo>
                    <a:cubicBezTo>
                      <a:pt x="17366" y="7"/>
                      <a:pt x="17365" y="8"/>
                      <a:pt x="17364" y="8"/>
                    </a:cubicBezTo>
                    <a:lnTo>
                      <a:pt x="17364" y="8"/>
                    </a:lnTo>
                    <a:cubicBezTo>
                      <a:pt x="17363" y="8"/>
                      <a:pt x="17362" y="7"/>
                      <a:pt x="17362" y="6"/>
                    </a:cubicBezTo>
                    <a:cubicBezTo>
                      <a:pt x="17362" y="4"/>
                      <a:pt x="17363" y="4"/>
                      <a:pt x="17364" y="4"/>
                    </a:cubicBezTo>
                    <a:close/>
                    <a:moveTo>
                      <a:pt x="17372" y="4"/>
                    </a:moveTo>
                    <a:lnTo>
                      <a:pt x="17372" y="4"/>
                    </a:lnTo>
                    <a:cubicBezTo>
                      <a:pt x="17373" y="4"/>
                      <a:pt x="17374" y="4"/>
                      <a:pt x="17374" y="6"/>
                    </a:cubicBezTo>
                    <a:cubicBezTo>
                      <a:pt x="17374" y="7"/>
                      <a:pt x="17373" y="8"/>
                      <a:pt x="17372" y="8"/>
                    </a:cubicBezTo>
                    <a:lnTo>
                      <a:pt x="17372" y="8"/>
                    </a:lnTo>
                    <a:cubicBezTo>
                      <a:pt x="17371" y="8"/>
                      <a:pt x="17370" y="7"/>
                      <a:pt x="17370" y="6"/>
                    </a:cubicBezTo>
                    <a:cubicBezTo>
                      <a:pt x="17370" y="4"/>
                      <a:pt x="17371" y="4"/>
                      <a:pt x="17372" y="4"/>
                    </a:cubicBezTo>
                    <a:close/>
                    <a:moveTo>
                      <a:pt x="17380" y="4"/>
                    </a:moveTo>
                    <a:lnTo>
                      <a:pt x="17380" y="4"/>
                    </a:lnTo>
                    <a:cubicBezTo>
                      <a:pt x="17381" y="4"/>
                      <a:pt x="17382" y="4"/>
                      <a:pt x="17382" y="6"/>
                    </a:cubicBezTo>
                    <a:cubicBezTo>
                      <a:pt x="17382" y="7"/>
                      <a:pt x="17381" y="8"/>
                      <a:pt x="17380" y="8"/>
                    </a:cubicBezTo>
                    <a:lnTo>
                      <a:pt x="17380" y="8"/>
                    </a:lnTo>
                    <a:cubicBezTo>
                      <a:pt x="17379" y="8"/>
                      <a:pt x="17378" y="7"/>
                      <a:pt x="17378" y="6"/>
                    </a:cubicBezTo>
                    <a:cubicBezTo>
                      <a:pt x="17378" y="4"/>
                      <a:pt x="17379" y="4"/>
                      <a:pt x="17380" y="4"/>
                    </a:cubicBezTo>
                    <a:close/>
                    <a:moveTo>
                      <a:pt x="17388" y="4"/>
                    </a:moveTo>
                    <a:lnTo>
                      <a:pt x="17388" y="4"/>
                    </a:lnTo>
                    <a:cubicBezTo>
                      <a:pt x="17389" y="4"/>
                      <a:pt x="17390" y="4"/>
                      <a:pt x="17390" y="6"/>
                    </a:cubicBezTo>
                    <a:cubicBezTo>
                      <a:pt x="17390" y="7"/>
                      <a:pt x="17389" y="8"/>
                      <a:pt x="17388" y="8"/>
                    </a:cubicBezTo>
                    <a:lnTo>
                      <a:pt x="17388" y="8"/>
                    </a:lnTo>
                    <a:cubicBezTo>
                      <a:pt x="17387" y="8"/>
                      <a:pt x="17386" y="7"/>
                      <a:pt x="17386" y="6"/>
                    </a:cubicBezTo>
                    <a:cubicBezTo>
                      <a:pt x="17386" y="4"/>
                      <a:pt x="17387" y="4"/>
                      <a:pt x="17388" y="4"/>
                    </a:cubicBezTo>
                    <a:close/>
                    <a:moveTo>
                      <a:pt x="17396" y="4"/>
                    </a:moveTo>
                    <a:lnTo>
                      <a:pt x="17396" y="4"/>
                    </a:lnTo>
                    <a:cubicBezTo>
                      <a:pt x="17397" y="4"/>
                      <a:pt x="17398" y="4"/>
                      <a:pt x="17398" y="6"/>
                    </a:cubicBezTo>
                    <a:cubicBezTo>
                      <a:pt x="17398" y="7"/>
                      <a:pt x="17397" y="8"/>
                      <a:pt x="17396" y="8"/>
                    </a:cubicBezTo>
                    <a:lnTo>
                      <a:pt x="17396" y="8"/>
                    </a:lnTo>
                    <a:cubicBezTo>
                      <a:pt x="17395" y="8"/>
                      <a:pt x="17394" y="7"/>
                      <a:pt x="17394" y="6"/>
                    </a:cubicBezTo>
                    <a:cubicBezTo>
                      <a:pt x="17394" y="4"/>
                      <a:pt x="17395" y="4"/>
                      <a:pt x="17396" y="4"/>
                    </a:cubicBezTo>
                    <a:close/>
                    <a:moveTo>
                      <a:pt x="17404" y="4"/>
                    </a:moveTo>
                    <a:lnTo>
                      <a:pt x="17404" y="4"/>
                    </a:lnTo>
                    <a:cubicBezTo>
                      <a:pt x="17405" y="4"/>
                      <a:pt x="17406" y="4"/>
                      <a:pt x="17406" y="6"/>
                    </a:cubicBezTo>
                    <a:cubicBezTo>
                      <a:pt x="17406" y="7"/>
                      <a:pt x="17405" y="8"/>
                      <a:pt x="17404" y="8"/>
                    </a:cubicBezTo>
                    <a:lnTo>
                      <a:pt x="17404" y="8"/>
                    </a:lnTo>
                    <a:cubicBezTo>
                      <a:pt x="17403" y="8"/>
                      <a:pt x="17402" y="7"/>
                      <a:pt x="17402" y="6"/>
                    </a:cubicBezTo>
                    <a:cubicBezTo>
                      <a:pt x="17402" y="4"/>
                      <a:pt x="17403" y="4"/>
                      <a:pt x="17404" y="4"/>
                    </a:cubicBezTo>
                    <a:close/>
                    <a:moveTo>
                      <a:pt x="17412" y="4"/>
                    </a:moveTo>
                    <a:lnTo>
                      <a:pt x="17412" y="4"/>
                    </a:lnTo>
                    <a:cubicBezTo>
                      <a:pt x="17413" y="4"/>
                      <a:pt x="17414" y="4"/>
                      <a:pt x="17414" y="6"/>
                    </a:cubicBezTo>
                    <a:cubicBezTo>
                      <a:pt x="17414" y="7"/>
                      <a:pt x="17413" y="8"/>
                      <a:pt x="17412" y="8"/>
                    </a:cubicBezTo>
                    <a:lnTo>
                      <a:pt x="17412" y="8"/>
                    </a:lnTo>
                    <a:cubicBezTo>
                      <a:pt x="17411" y="8"/>
                      <a:pt x="17410" y="7"/>
                      <a:pt x="17410" y="6"/>
                    </a:cubicBezTo>
                    <a:cubicBezTo>
                      <a:pt x="17410" y="4"/>
                      <a:pt x="17411" y="4"/>
                      <a:pt x="17412" y="4"/>
                    </a:cubicBezTo>
                    <a:close/>
                    <a:moveTo>
                      <a:pt x="17420" y="4"/>
                    </a:moveTo>
                    <a:lnTo>
                      <a:pt x="17420" y="4"/>
                    </a:lnTo>
                    <a:cubicBezTo>
                      <a:pt x="17421" y="4"/>
                      <a:pt x="17422" y="4"/>
                      <a:pt x="17422" y="6"/>
                    </a:cubicBezTo>
                    <a:cubicBezTo>
                      <a:pt x="17422" y="7"/>
                      <a:pt x="17421" y="8"/>
                      <a:pt x="17420" y="8"/>
                    </a:cubicBezTo>
                    <a:lnTo>
                      <a:pt x="17420" y="8"/>
                    </a:lnTo>
                    <a:cubicBezTo>
                      <a:pt x="17419" y="8"/>
                      <a:pt x="17418" y="7"/>
                      <a:pt x="17418" y="6"/>
                    </a:cubicBezTo>
                    <a:cubicBezTo>
                      <a:pt x="17418" y="4"/>
                      <a:pt x="17419" y="4"/>
                      <a:pt x="17420" y="4"/>
                    </a:cubicBezTo>
                    <a:close/>
                    <a:moveTo>
                      <a:pt x="17428" y="4"/>
                    </a:moveTo>
                    <a:lnTo>
                      <a:pt x="17428" y="4"/>
                    </a:lnTo>
                    <a:cubicBezTo>
                      <a:pt x="17429" y="4"/>
                      <a:pt x="17430" y="4"/>
                      <a:pt x="17430" y="6"/>
                    </a:cubicBezTo>
                    <a:cubicBezTo>
                      <a:pt x="17430" y="7"/>
                      <a:pt x="17429" y="8"/>
                      <a:pt x="17428" y="8"/>
                    </a:cubicBezTo>
                    <a:lnTo>
                      <a:pt x="17428" y="8"/>
                    </a:lnTo>
                    <a:cubicBezTo>
                      <a:pt x="17427" y="8"/>
                      <a:pt x="17426" y="7"/>
                      <a:pt x="17426" y="6"/>
                    </a:cubicBezTo>
                    <a:cubicBezTo>
                      <a:pt x="17426" y="4"/>
                      <a:pt x="17427" y="4"/>
                      <a:pt x="17428" y="4"/>
                    </a:cubicBezTo>
                    <a:close/>
                    <a:moveTo>
                      <a:pt x="17436" y="4"/>
                    </a:moveTo>
                    <a:lnTo>
                      <a:pt x="17436" y="4"/>
                    </a:lnTo>
                    <a:cubicBezTo>
                      <a:pt x="17437" y="4"/>
                      <a:pt x="17438" y="4"/>
                      <a:pt x="17438" y="6"/>
                    </a:cubicBezTo>
                    <a:cubicBezTo>
                      <a:pt x="17438" y="7"/>
                      <a:pt x="17437" y="8"/>
                      <a:pt x="17436" y="8"/>
                    </a:cubicBezTo>
                    <a:lnTo>
                      <a:pt x="17436" y="8"/>
                    </a:lnTo>
                    <a:cubicBezTo>
                      <a:pt x="17435" y="8"/>
                      <a:pt x="17434" y="7"/>
                      <a:pt x="17434" y="6"/>
                    </a:cubicBezTo>
                    <a:cubicBezTo>
                      <a:pt x="17434" y="4"/>
                      <a:pt x="17435" y="4"/>
                      <a:pt x="17436" y="4"/>
                    </a:cubicBezTo>
                    <a:close/>
                    <a:moveTo>
                      <a:pt x="17444" y="4"/>
                    </a:moveTo>
                    <a:lnTo>
                      <a:pt x="17444" y="4"/>
                    </a:lnTo>
                    <a:cubicBezTo>
                      <a:pt x="17445" y="4"/>
                      <a:pt x="17446" y="4"/>
                      <a:pt x="17446" y="6"/>
                    </a:cubicBezTo>
                    <a:cubicBezTo>
                      <a:pt x="17446" y="7"/>
                      <a:pt x="17445" y="8"/>
                      <a:pt x="17444" y="8"/>
                    </a:cubicBezTo>
                    <a:lnTo>
                      <a:pt x="17444" y="8"/>
                    </a:lnTo>
                    <a:cubicBezTo>
                      <a:pt x="17443" y="8"/>
                      <a:pt x="17442" y="7"/>
                      <a:pt x="17442" y="6"/>
                    </a:cubicBezTo>
                    <a:cubicBezTo>
                      <a:pt x="17442" y="4"/>
                      <a:pt x="17443" y="4"/>
                      <a:pt x="17444" y="4"/>
                    </a:cubicBezTo>
                    <a:close/>
                    <a:moveTo>
                      <a:pt x="17452" y="4"/>
                    </a:moveTo>
                    <a:lnTo>
                      <a:pt x="17452" y="4"/>
                    </a:lnTo>
                    <a:cubicBezTo>
                      <a:pt x="17453" y="4"/>
                      <a:pt x="17454" y="4"/>
                      <a:pt x="17454" y="6"/>
                    </a:cubicBezTo>
                    <a:cubicBezTo>
                      <a:pt x="17454" y="7"/>
                      <a:pt x="17453" y="8"/>
                      <a:pt x="17452" y="8"/>
                    </a:cubicBezTo>
                    <a:lnTo>
                      <a:pt x="17452" y="8"/>
                    </a:lnTo>
                    <a:cubicBezTo>
                      <a:pt x="17451" y="8"/>
                      <a:pt x="17450" y="7"/>
                      <a:pt x="17450" y="6"/>
                    </a:cubicBezTo>
                    <a:cubicBezTo>
                      <a:pt x="17450" y="4"/>
                      <a:pt x="17451" y="4"/>
                      <a:pt x="17452" y="4"/>
                    </a:cubicBezTo>
                    <a:close/>
                    <a:moveTo>
                      <a:pt x="17460" y="4"/>
                    </a:moveTo>
                    <a:lnTo>
                      <a:pt x="17460" y="4"/>
                    </a:lnTo>
                    <a:cubicBezTo>
                      <a:pt x="17461" y="4"/>
                      <a:pt x="17462" y="4"/>
                      <a:pt x="17462" y="6"/>
                    </a:cubicBezTo>
                    <a:cubicBezTo>
                      <a:pt x="17462" y="7"/>
                      <a:pt x="17461" y="8"/>
                      <a:pt x="17460" y="8"/>
                    </a:cubicBezTo>
                    <a:lnTo>
                      <a:pt x="17460" y="8"/>
                    </a:lnTo>
                    <a:cubicBezTo>
                      <a:pt x="17459" y="8"/>
                      <a:pt x="17458" y="7"/>
                      <a:pt x="17458" y="6"/>
                    </a:cubicBezTo>
                    <a:cubicBezTo>
                      <a:pt x="17458" y="4"/>
                      <a:pt x="17459" y="4"/>
                      <a:pt x="17460" y="4"/>
                    </a:cubicBezTo>
                    <a:close/>
                    <a:moveTo>
                      <a:pt x="17468" y="4"/>
                    </a:moveTo>
                    <a:lnTo>
                      <a:pt x="17468" y="4"/>
                    </a:lnTo>
                    <a:cubicBezTo>
                      <a:pt x="17469" y="4"/>
                      <a:pt x="17470" y="4"/>
                      <a:pt x="17470" y="6"/>
                    </a:cubicBezTo>
                    <a:cubicBezTo>
                      <a:pt x="17470" y="7"/>
                      <a:pt x="17469" y="8"/>
                      <a:pt x="17468" y="8"/>
                    </a:cubicBezTo>
                    <a:lnTo>
                      <a:pt x="17468" y="8"/>
                    </a:lnTo>
                    <a:cubicBezTo>
                      <a:pt x="17467" y="8"/>
                      <a:pt x="17466" y="7"/>
                      <a:pt x="17466" y="6"/>
                    </a:cubicBezTo>
                    <a:cubicBezTo>
                      <a:pt x="17466" y="4"/>
                      <a:pt x="17467" y="4"/>
                      <a:pt x="17468" y="4"/>
                    </a:cubicBezTo>
                    <a:close/>
                    <a:moveTo>
                      <a:pt x="17476" y="4"/>
                    </a:moveTo>
                    <a:lnTo>
                      <a:pt x="17476" y="4"/>
                    </a:lnTo>
                    <a:cubicBezTo>
                      <a:pt x="17477" y="4"/>
                      <a:pt x="17478" y="4"/>
                      <a:pt x="17478" y="6"/>
                    </a:cubicBezTo>
                    <a:cubicBezTo>
                      <a:pt x="17478" y="7"/>
                      <a:pt x="17477" y="8"/>
                      <a:pt x="17476" y="8"/>
                    </a:cubicBezTo>
                    <a:lnTo>
                      <a:pt x="17476" y="8"/>
                    </a:lnTo>
                    <a:cubicBezTo>
                      <a:pt x="17475" y="8"/>
                      <a:pt x="17474" y="7"/>
                      <a:pt x="17474" y="6"/>
                    </a:cubicBezTo>
                    <a:cubicBezTo>
                      <a:pt x="17474" y="4"/>
                      <a:pt x="17475" y="4"/>
                      <a:pt x="17476" y="4"/>
                    </a:cubicBezTo>
                    <a:close/>
                    <a:moveTo>
                      <a:pt x="17484" y="4"/>
                    </a:moveTo>
                    <a:lnTo>
                      <a:pt x="17484" y="4"/>
                    </a:lnTo>
                    <a:cubicBezTo>
                      <a:pt x="17485" y="4"/>
                      <a:pt x="17486" y="4"/>
                      <a:pt x="17486" y="6"/>
                    </a:cubicBezTo>
                    <a:cubicBezTo>
                      <a:pt x="17486" y="7"/>
                      <a:pt x="17485" y="8"/>
                      <a:pt x="17484" y="8"/>
                    </a:cubicBezTo>
                    <a:lnTo>
                      <a:pt x="17484" y="8"/>
                    </a:lnTo>
                    <a:cubicBezTo>
                      <a:pt x="17483" y="8"/>
                      <a:pt x="17482" y="7"/>
                      <a:pt x="17482" y="6"/>
                    </a:cubicBezTo>
                    <a:cubicBezTo>
                      <a:pt x="17482" y="4"/>
                      <a:pt x="17483" y="4"/>
                      <a:pt x="17484" y="4"/>
                    </a:cubicBezTo>
                    <a:close/>
                    <a:moveTo>
                      <a:pt x="17492" y="4"/>
                    </a:moveTo>
                    <a:lnTo>
                      <a:pt x="17492" y="4"/>
                    </a:lnTo>
                    <a:cubicBezTo>
                      <a:pt x="17493" y="4"/>
                      <a:pt x="17494" y="4"/>
                      <a:pt x="17494" y="6"/>
                    </a:cubicBezTo>
                    <a:cubicBezTo>
                      <a:pt x="17494" y="7"/>
                      <a:pt x="17493" y="8"/>
                      <a:pt x="17492" y="8"/>
                    </a:cubicBezTo>
                    <a:lnTo>
                      <a:pt x="17492" y="8"/>
                    </a:lnTo>
                    <a:cubicBezTo>
                      <a:pt x="17491" y="8"/>
                      <a:pt x="17490" y="7"/>
                      <a:pt x="17490" y="6"/>
                    </a:cubicBezTo>
                    <a:cubicBezTo>
                      <a:pt x="17490" y="4"/>
                      <a:pt x="17491" y="4"/>
                      <a:pt x="17492" y="4"/>
                    </a:cubicBezTo>
                    <a:close/>
                    <a:moveTo>
                      <a:pt x="17500" y="4"/>
                    </a:moveTo>
                    <a:lnTo>
                      <a:pt x="17500" y="4"/>
                    </a:lnTo>
                    <a:cubicBezTo>
                      <a:pt x="17501" y="4"/>
                      <a:pt x="17502" y="4"/>
                      <a:pt x="17502" y="6"/>
                    </a:cubicBezTo>
                    <a:cubicBezTo>
                      <a:pt x="17502" y="7"/>
                      <a:pt x="17501" y="8"/>
                      <a:pt x="17500" y="8"/>
                    </a:cubicBezTo>
                    <a:lnTo>
                      <a:pt x="17500" y="8"/>
                    </a:lnTo>
                    <a:cubicBezTo>
                      <a:pt x="17499" y="8"/>
                      <a:pt x="17498" y="7"/>
                      <a:pt x="17498" y="6"/>
                    </a:cubicBezTo>
                    <a:cubicBezTo>
                      <a:pt x="17498" y="4"/>
                      <a:pt x="17499" y="4"/>
                      <a:pt x="17500" y="4"/>
                    </a:cubicBezTo>
                    <a:close/>
                    <a:moveTo>
                      <a:pt x="17508" y="4"/>
                    </a:moveTo>
                    <a:lnTo>
                      <a:pt x="17508" y="4"/>
                    </a:lnTo>
                    <a:cubicBezTo>
                      <a:pt x="17509" y="4"/>
                      <a:pt x="17510" y="4"/>
                      <a:pt x="17510" y="6"/>
                    </a:cubicBezTo>
                    <a:cubicBezTo>
                      <a:pt x="17510" y="7"/>
                      <a:pt x="17509" y="8"/>
                      <a:pt x="17508" y="8"/>
                    </a:cubicBezTo>
                    <a:lnTo>
                      <a:pt x="17508" y="8"/>
                    </a:lnTo>
                    <a:cubicBezTo>
                      <a:pt x="17507" y="8"/>
                      <a:pt x="17506" y="7"/>
                      <a:pt x="17506" y="6"/>
                    </a:cubicBezTo>
                    <a:cubicBezTo>
                      <a:pt x="17506" y="4"/>
                      <a:pt x="17507" y="4"/>
                      <a:pt x="17508" y="4"/>
                    </a:cubicBezTo>
                    <a:close/>
                    <a:moveTo>
                      <a:pt x="17516" y="4"/>
                    </a:moveTo>
                    <a:lnTo>
                      <a:pt x="17516" y="4"/>
                    </a:lnTo>
                    <a:cubicBezTo>
                      <a:pt x="17517" y="4"/>
                      <a:pt x="17518" y="4"/>
                      <a:pt x="17518" y="6"/>
                    </a:cubicBezTo>
                    <a:cubicBezTo>
                      <a:pt x="17518" y="7"/>
                      <a:pt x="17517" y="8"/>
                      <a:pt x="17516" y="8"/>
                    </a:cubicBezTo>
                    <a:lnTo>
                      <a:pt x="17516" y="8"/>
                    </a:lnTo>
                    <a:cubicBezTo>
                      <a:pt x="17515" y="8"/>
                      <a:pt x="17514" y="7"/>
                      <a:pt x="17514" y="6"/>
                    </a:cubicBezTo>
                    <a:cubicBezTo>
                      <a:pt x="17514" y="4"/>
                      <a:pt x="17515" y="4"/>
                      <a:pt x="17516" y="4"/>
                    </a:cubicBezTo>
                    <a:close/>
                    <a:moveTo>
                      <a:pt x="17524" y="4"/>
                    </a:moveTo>
                    <a:lnTo>
                      <a:pt x="17524" y="4"/>
                    </a:lnTo>
                    <a:cubicBezTo>
                      <a:pt x="17525" y="4"/>
                      <a:pt x="17526" y="4"/>
                      <a:pt x="17526" y="6"/>
                    </a:cubicBezTo>
                    <a:cubicBezTo>
                      <a:pt x="17526" y="7"/>
                      <a:pt x="17525" y="8"/>
                      <a:pt x="17524" y="8"/>
                    </a:cubicBezTo>
                    <a:lnTo>
                      <a:pt x="17524" y="8"/>
                    </a:lnTo>
                    <a:cubicBezTo>
                      <a:pt x="17523" y="8"/>
                      <a:pt x="17522" y="7"/>
                      <a:pt x="17522" y="6"/>
                    </a:cubicBezTo>
                    <a:cubicBezTo>
                      <a:pt x="17522" y="4"/>
                      <a:pt x="17523" y="4"/>
                      <a:pt x="17524" y="4"/>
                    </a:cubicBezTo>
                    <a:close/>
                    <a:moveTo>
                      <a:pt x="17532" y="4"/>
                    </a:moveTo>
                    <a:lnTo>
                      <a:pt x="17532" y="4"/>
                    </a:lnTo>
                    <a:cubicBezTo>
                      <a:pt x="17533" y="4"/>
                      <a:pt x="17534" y="4"/>
                      <a:pt x="17534" y="6"/>
                    </a:cubicBezTo>
                    <a:cubicBezTo>
                      <a:pt x="17534" y="7"/>
                      <a:pt x="17533" y="8"/>
                      <a:pt x="17532" y="8"/>
                    </a:cubicBezTo>
                    <a:lnTo>
                      <a:pt x="17532" y="8"/>
                    </a:lnTo>
                    <a:cubicBezTo>
                      <a:pt x="17531" y="8"/>
                      <a:pt x="17530" y="7"/>
                      <a:pt x="17530" y="6"/>
                    </a:cubicBezTo>
                    <a:cubicBezTo>
                      <a:pt x="17530" y="4"/>
                      <a:pt x="17531" y="4"/>
                      <a:pt x="17532" y="4"/>
                    </a:cubicBezTo>
                    <a:close/>
                    <a:moveTo>
                      <a:pt x="17540" y="4"/>
                    </a:moveTo>
                    <a:lnTo>
                      <a:pt x="17540" y="4"/>
                    </a:lnTo>
                    <a:cubicBezTo>
                      <a:pt x="17541" y="4"/>
                      <a:pt x="17542" y="4"/>
                      <a:pt x="17542" y="6"/>
                    </a:cubicBezTo>
                    <a:cubicBezTo>
                      <a:pt x="17542" y="7"/>
                      <a:pt x="17541" y="8"/>
                      <a:pt x="17540" y="8"/>
                    </a:cubicBezTo>
                    <a:lnTo>
                      <a:pt x="17540" y="8"/>
                    </a:lnTo>
                    <a:cubicBezTo>
                      <a:pt x="17539" y="8"/>
                      <a:pt x="17538" y="7"/>
                      <a:pt x="17538" y="6"/>
                    </a:cubicBezTo>
                    <a:cubicBezTo>
                      <a:pt x="17538" y="4"/>
                      <a:pt x="17539" y="4"/>
                      <a:pt x="17540" y="4"/>
                    </a:cubicBezTo>
                    <a:close/>
                    <a:moveTo>
                      <a:pt x="17548" y="4"/>
                    </a:moveTo>
                    <a:lnTo>
                      <a:pt x="17548" y="4"/>
                    </a:lnTo>
                    <a:cubicBezTo>
                      <a:pt x="17549" y="4"/>
                      <a:pt x="17550" y="4"/>
                      <a:pt x="17550" y="6"/>
                    </a:cubicBezTo>
                    <a:cubicBezTo>
                      <a:pt x="17550" y="7"/>
                      <a:pt x="17549" y="8"/>
                      <a:pt x="17548" y="8"/>
                    </a:cubicBezTo>
                    <a:lnTo>
                      <a:pt x="17548" y="8"/>
                    </a:lnTo>
                    <a:cubicBezTo>
                      <a:pt x="17547" y="8"/>
                      <a:pt x="17546" y="7"/>
                      <a:pt x="17546" y="6"/>
                    </a:cubicBezTo>
                    <a:cubicBezTo>
                      <a:pt x="17546" y="4"/>
                      <a:pt x="17547" y="4"/>
                      <a:pt x="17548" y="4"/>
                    </a:cubicBezTo>
                    <a:close/>
                    <a:moveTo>
                      <a:pt x="17556" y="4"/>
                    </a:moveTo>
                    <a:lnTo>
                      <a:pt x="17556" y="4"/>
                    </a:lnTo>
                    <a:cubicBezTo>
                      <a:pt x="17557" y="4"/>
                      <a:pt x="17558" y="4"/>
                      <a:pt x="17558" y="6"/>
                    </a:cubicBezTo>
                    <a:cubicBezTo>
                      <a:pt x="17558" y="7"/>
                      <a:pt x="17557" y="8"/>
                      <a:pt x="17556" y="8"/>
                    </a:cubicBezTo>
                    <a:lnTo>
                      <a:pt x="17556" y="8"/>
                    </a:lnTo>
                    <a:cubicBezTo>
                      <a:pt x="17555" y="8"/>
                      <a:pt x="17554" y="7"/>
                      <a:pt x="17554" y="6"/>
                    </a:cubicBezTo>
                    <a:cubicBezTo>
                      <a:pt x="17554" y="4"/>
                      <a:pt x="17555" y="4"/>
                      <a:pt x="17556" y="4"/>
                    </a:cubicBezTo>
                    <a:close/>
                    <a:moveTo>
                      <a:pt x="17564" y="4"/>
                    </a:moveTo>
                    <a:lnTo>
                      <a:pt x="17564" y="4"/>
                    </a:lnTo>
                    <a:cubicBezTo>
                      <a:pt x="17565" y="4"/>
                      <a:pt x="17566" y="4"/>
                      <a:pt x="17566" y="6"/>
                    </a:cubicBezTo>
                    <a:cubicBezTo>
                      <a:pt x="17566" y="7"/>
                      <a:pt x="17565" y="8"/>
                      <a:pt x="17564" y="8"/>
                    </a:cubicBezTo>
                    <a:lnTo>
                      <a:pt x="17564" y="8"/>
                    </a:lnTo>
                    <a:cubicBezTo>
                      <a:pt x="17563" y="8"/>
                      <a:pt x="17562" y="7"/>
                      <a:pt x="17562" y="6"/>
                    </a:cubicBezTo>
                    <a:cubicBezTo>
                      <a:pt x="17562" y="4"/>
                      <a:pt x="17563" y="4"/>
                      <a:pt x="17564" y="4"/>
                    </a:cubicBezTo>
                    <a:close/>
                    <a:moveTo>
                      <a:pt x="17572" y="4"/>
                    </a:moveTo>
                    <a:lnTo>
                      <a:pt x="17572" y="4"/>
                    </a:lnTo>
                    <a:cubicBezTo>
                      <a:pt x="17573" y="4"/>
                      <a:pt x="17574" y="4"/>
                      <a:pt x="17574" y="6"/>
                    </a:cubicBezTo>
                    <a:cubicBezTo>
                      <a:pt x="17574" y="7"/>
                      <a:pt x="17573" y="8"/>
                      <a:pt x="17572" y="8"/>
                    </a:cubicBezTo>
                    <a:lnTo>
                      <a:pt x="17572" y="8"/>
                    </a:lnTo>
                    <a:cubicBezTo>
                      <a:pt x="17571" y="8"/>
                      <a:pt x="17570" y="7"/>
                      <a:pt x="17570" y="6"/>
                    </a:cubicBezTo>
                    <a:cubicBezTo>
                      <a:pt x="17570" y="4"/>
                      <a:pt x="17571" y="4"/>
                      <a:pt x="17572" y="4"/>
                    </a:cubicBezTo>
                    <a:close/>
                    <a:moveTo>
                      <a:pt x="17580" y="4"/>
                    </a:moveTo>
                    <a:lnTo>
                      <a:pt x="17580" y="4"/>
                    </a:lnTo>
                    <a:cubicBezTo>
                      <a:pt x="17581" y="4"/>
                      <a:pt x="17582" y="4"/>
                      <a:pt x="17582" y="6"/>
                    </a:cubicBezTo>
                    <a:cubicBezTo>
                      <a:pt x="17582" y="7"/>
                      <a:pt x="17581" y="8"/>
                      <a:pt x="17580" y="8"/>
                    </a:cubicBezTo>
                    <a:lnTo>
                      <a:pt x="17580" y="8"/>
                    </a:lnTo>
                    <a:cubicBezTo>
                      <a:pt x="17579" y="8"/>
                      <a:pt x="17578" y="7"/>
                      <a:pt x="17578" y="6"/>
                    </a:cubicBezTo>
                    <a:cubicBezTo>
                      <a:pt x="17578" y="4"/>
                      <a:pt x="17579" y="4"/>
                      <a:pt x="17580" y="4"/>
                    </a:cubicBezTo>
                    <a:close/>
                    <a:moveTo>
                      <a:pt x="17588" y="4"/>
                    </a:moveTo>
                    <a:lnTo>
                      <a:pt x="17588" y="4"/>
                    </a:lnTo>
                    <a:cubicBezTo>
                      <a:pt x="17589" y="4"/>
                      <a:pt x="17590" y="4"/>
                      <a:pt x="17590" y="6"/>
                    </a:cubicBezTo>
                    <a:cubicBezTo>
                      <a:pt x="17590" y="7"/>
                      <a:pt x="17589" y="8"/>
                      <a:pt x="17588" y="8"/>
                    </a:cubicBezTo>
                    <a:lnTo>
                      <a:pt x="17588" y="8"/>
                    </a:lnTo>
                    <a:cubicBezTo>
                      <a:pt x="17587" y="8"/>
                      <a:pt x="17586" y="7"/>
                      <a:pt x="17586" y="6"/>
                    </a:cubicBezTo>
                    <a:cubicBezTo>
                      <a:pt x="17586" y="4"/>
                      <a:pt x="17587" y="4"/>
                      <a:pt x="17588" y="4"/>
                    </a:cubicBezTo>
                    <a:close/>
                    <a:moveTo>
                      <a:pt x="17596" y="4"/>
                    </a:moveTo>
                    <a:lnTo>
                      <a:pt x="17596" y="4"/>
                    </a:lnTo>
                    <a:cubicBezTo>
                      <a:pt x="17597" y="4"/>
                      <a:pt x="17598" y="4"/>
                      <a:pt x="17598" y="6"/>
                    </a:cubicBezTo>
                    <a:cubicBezTo>
                      <a:pt x="17598" y="7"/>
                      <a:pt x="17597" y="8"/>
                      <a:pt x="17596" y="8"/>
                    </a:cubicBezTo>
                    <a:lnTo>
                      <a:pt x="17596" y="8"/>
                    </a:lnTo>
                    <a:cubicBezTo>
                      <a:pt x="17595" y="8"/>
                      <a:pt x="17594" y="7"/>
                      <a:pt x="17594" y="6"/>
                    </a:cubicBezTo>
                    <a:cubicBezTo>
                      <a:pt x="17594" y="4"/>
                      <a:pt x="17595" y="4"/>
                      <a:pt x="17596" y="4"/>
                    </a:cubicBezTo>
                    <a:close/>
                    <a:moveTo>
                      <a:pt x="17604" y="4"/>
                    </a:moveTo>
                    <a:lnTo>
                      <a:pt x="17604" y="4"/>
                    </a:lnTo>
                    <a:cubicBezTo>
                      <a:pt x="17605" y="4"/>
                      <a:pt x="17606" y="4"/>
                      <a:pt x="17606" y="6"/>
                    </a:cubicBezTo>
                    <a:cubicBezTo>
                      <a:pt x="17606" y="7"/>
                      <a:pt x="17605" y="8"/>
                      <a:pt x="17604" y="8"/>
                    </a:cubicBezTo>
                    <a:lnTo>
                      <a:pt x="17604" y="8"/>
                    </a:lnTo>
                    <a:cubicBezTo>
                      <a:pt x="17603" y="8"/>
                      <a:pt x="17602" y="7"/>
                      <a:pt x="17602" y="6"/>
                    </a:cubicBezTo>
                    <a:cubicBezTo>
                      <a:pt x="17602" y="4"/>
                      <a:pt x="17603" y="4"/>
                      <a:pt x="17604" y="4"/>
                    </a:cubicBezTo>
                    <a:close/>
                    <a:moveTo>
                      <a:pt x="17612" y="4"/>
                    </a:moveTo>
                    <a:lnTo>
                      <a:pt x="17612" y="4"/>
                    </a:lnTo>
                    <a:cubicBezTo>
                      <a:pt x="17613" y="4"/>
                      <a:pt x="17614" y="4"/>
                      <a:pt x="17614" y="6"/>
                    </a:cubicBezTo>
                    <a:cubicBezTo>
                      <a:pt x="17614" y="7"/>
                      <a:pt x="17613" y="8"/>
                      <a:pt x="17612" y="8"/>
                    </a:cubicBezTo>
                    <a:lnTo>
                      <a:pt x="17612" y="8"/>
                    </a:lnTo>
                    <a:cubicBezTo>
                      <a:pt x="17611" y="8"/>
                      <a:pt x="17610" y="7"/>
                      <a:pt x="17610" y="6"/>
                    </a:cubicBezTo>
                    <a:cubicBezTo>
                      <a:pt x="17610" y="4"/>
                      <a:pt x="17611" y="4"/>
                      <a:pt x="17612" y="4"/>
                    </a:cubicBezTo>
                    <a:close/>
                    <a:moveTo>
                      <a:pt x="17620" y="4"/>
                    </a:moveTo>
                    <a:lnTo>
                      <a:pt x="17620" y="4"/>
                    </a:lnTo>
                    <a:cubicBezTo>
                      <a:pt x="17621" y="4"/>
                      <a:pt x="17622" y="4"/>
                      <a:pt x="17622" y="6"/>
                    </a:cubicBezTo>
                    <a:cubicBezTo>
                      <a:pt x="17622" y="7"/>
                      <a:pt x="17621" y="8"/>
                      <a:pt x="17620" y="8"/>
                    </a:cubicBezTo>
                    <a:lnTo>
                      <a:pt x="17620" y="8"/>
                    </a:lnTo>
                    <a:cubicBezTo>
                      <a:pt x="17619" y="8"/>
                      <a:pt x="17618" y="7"/>
                      <a:pt x="17618" y="6"/>
                    </a:cubicBezTo>
                    <a:cubicBezTo>
                      <a:pt x="17618" y="4"/>
                      <a:pt x="17619" y="4"/>
                      <a:pt x="17620" y="4"/>
                    </a:cubicBezTo>
                    <a:close/>
                    <a:moveTo>
                      <a:pt x="17628" y="4"/>
                    </a:moveTo>
                    <a:lnTo>
                      <a:pt x="17628" y="4"/>
                    </a:lnTo>
                    <a:cubicBezTo>
                      <a:pt x="17629" y="4"/>
                      <a:pt x="17630" y="4"/>
                      <a:pt x="17630" y="6"/>
                    </a:cubicBezTo>
                    <a:cubicBezTo>
                      <a:pt x="17630" y="7"/>
                      <a:pt x="17629" y="8"/>
                      <a:pt x="17628" y="8"/>
                    </a:cubicBezTo>
                    <a:lnTo>
                      <a:pt x="17628" y="8"/>
                    </a:lnTo>
                    <a:cubicBezTo>
                      <a:pt x="17627" y="8"/>
                      <a:pt x="17626" y="7"/>
                      <a:pt x="17626" y="6"/>
                    </a:cubicBezTo>
                    <a:cubicBezTo>
                      <a:pt x="17626" y="4"/>
                      <a:pt x="17627" y="4"/>
                      <a:pt x="17628" y="4"/>
                    </a:cubicBezTo>
                    <a:close/>
                    <a:moveTo>
                      <a:pt x="17636" y="4"/>
                    </a:moveTo>
                    <a:lnTo>
                      <a:pt x="17636" y="4"/>
                    </a:lnTo>
                    <a:cubicBezTo>
                      <a:pt x="17637" y="4"/>
                      <a:pt x="17638" y="4"/>
                      <a:pt x="17638" y="6"/>
                    </a:cubicBezTo>
                    <a:cubicBezTo>
                      <a:pt x="17638" y="7"/>
                      <a:pt x="17637" y="8"/>
                      <a:pt x="17636" y="8"/>
                    </a:cubicBezTo>
                    <a:lnTo>
                      <a:pt x="17636" y="8"/>
                    </a:lnTo>
                    <a:cubicBezTo>
                      <a:pt x="17635" y="8"/>
                      <a:pt x="17634" y="7"/>
                      <a:pt x="17634" y="6"/>
                    </a:cubicBezTo>
                    <a:cubicBezTo>
                      <a:pt x="17634" y="4"/>
                      <a:pt x="17635" y="4"/>
                      <a:pt x="17636" y="4"/>
                    </a:cubicBezTo>
                    <a:close/>
                    <a:moveTo>
                      <a:pt x="17644" y="4"/>
                    </a:moveTo>
                    <a:lnTo>
                      <a:pt x="17644" y="4"/>
                    </a:lnTo>
                    <a:cubicBezTo>
                      <a:pt x="17645" y="4"/>
                      <a:pt x="17646" y="4"/>
                      <a:pt x="17646" y="6"/>
                    </a:cubicBezTo>
                    <a:cubicBezTo>
                      <a:pt x="17646" y="7"/>
                      <a:pt x="17645" y="8"/>
                      <a:pt x="17644" y="8"/>
                    </a:cubicBezTo>
                    <a:lnTo>
                      <a:pt x="17644" y="8"/>
                    </a:lnTo>
                    <a:cubicBezTo>
                      <a:pt x="17643" y="8"/>
                      <a:pt x="17642" y="7"/>
                      <a:pt x="17642" y="6"/>
                    </a:cubicBezTo>
                    <a:cubicBezTo>
                      <a:pt x="17642" y="4"/>
                      <a:pt x="17643" y="4"/>
                      <a:pt x="17644" y="4"/>
                    </a:cubicBezTo>
                    <a:close/>
                    <a:moveTo>
                      <a:pt x="17652" y="4"/>
                    </a:moveTo>
                    <a:lnTo>
                      <a:pt x="17652" y="4"/>
                    </a:lnTo>
                    <a:cubicBezTo>
                      <a:pt x="17653" y="4"/>
                      <a:pt x="17654" y="4"/>
                      <a:pt x="17654" y="6"/>
                    </a:cubicBezTo>
                    <a:cubicBezTo>
                      <a:pt x="17654" y="7"/>
                      <a:pt x="17653" y="8"/>
                      <a:pt x="17652" y="8"/>
                    </a:cubicBezTo>
                    <a:lnTo>
                      <a:pt x="17652" y="8"/>
                    </a:lnTo>
                    <a:cubicBezTo>
                      <a:pt x="17651" y="8"/>
                      <a:pt x="17650" y="7"/>
                      <a:pt x="17650" y="6"/>
                    </a:cubicBezTo>
                    <a:cubicBezTo>
                      <a:pt x="17650" y="4"/>
                      <a:pt x="17651" y="4"/>
                      <a:pt x="17652" y="4"/>
                    </a:cubicBezTo>
                    <a:close/>
                    <a:moveTo>
                      <a:pt x="17660" y="4"/>
                    </a:moveTo>
                    <a:lnTo>
                      <a:pt x="17660" y="4"/>
                    </a:lnTo>
                    <a:cubicBezTo>
                      <a:pt x="17661" y="4"/>
                      <a:pt x="17662" y="4"/>
                      <a:pt x="17662" y="6"/>
                    </a:cubicBezTo>
                    <a:cubicBezTo>
                      <a:pt x="17662" y="7"/>
                      <a:pt x="17661" y="8"/>
                      <a:pt x="17660" y="8"/>
                    </a:cubicBezTo>
                    <a:lnTo>
                      <a:pt x="17660" y="8"/>
                    </a:lnTo>
                    <a:cubicBezTo>
                      <a:pt x="17659" y="8"/>
                      <a:pt x="17658" y="7"/>
                      <a:pt x="17658" y="6"/>
                    </a:cubicBezTo>
                    <a:cubicBezTo>
                      <a:pt x="17658" y="4"/>
                      <a:pt x="17659" y="4"/>
                      <a:pt x="17660" y="4"/>
                    </a:cubicBezTo>
                    <a:close/>
                    <a:moveTo>
                      <a:pt x="17668" y="4"/>
                    </a:moveTo>
                    <a:lnTo>
                      <a:pt x="17668" y="4"/>
                    </a:lnTo>
                    <a:cubicBezTo>
                      <a:pt x="17669" y="4"/>
                      <a:pt x="17670" y="4"/>
                      <a:pt x="17670" y="6"/>
                    </a:cubicBezTo>
                    <a:cubicBezTo>
                      <a:pt x="17670" y="7"/>
                      <a:pt x="17669" y="8"/>
                      <a:pt x="17668" y="8"/>
                    </a:cubicBezTo>
                    <a:lnTo>
                      <a:pt x="17668" y="8"/>
                    </a:lnTo>
                    <a:cubicBezTo>
                      <a:pt x="17667" y="8"/>
                      <a:pt x="17666" y="7"/>
                      <a:pt x="17666" y="6"/>
                    </a:cubicBezTo>
                    <a:cubicBezTo>
                      <a:pt x="17666" y="4"/>
                      <a:pt x="17667" y="4"/>
                      <a:pt x="17668" y="4"/>
                    </a:cubicBezTo>
                    <a:close/>
                    <a:moveTo>
                      <a:pt x="17676" y="4"/>
                    </a:moveTo>
                    <a:lnTo>
                      <a:pt x="17676" y="4"/>
                    </a:lnTo>
                    <a:cubicBezTo>
                      <a:pt x="17677" y="4"/>
                      <a:pt x="17678" y="4"/>
                      <a:pt x="17678" y="6"/>
                    </a:cubicBezTo>
                    <a:cubicBezTo>
                      <a:pt x="17678" y="7"/>
                      <a:pt x="17677" y="8"/>
                      <a:pt x="17676" y="8"/>
                    </a:cubicBezTo>
                    <a:lnTo>
                      <a:pt x="17676" y="8"/>
                    </a:lnTo>
                    <a:cubicBezTo>
                      <a:pt x="17675" y="8"/>
                      <a:pt x="17674" y="7"/>
                      <a:pt x="17674" y="6"/>
                    </a:cubicBezTo>
                    <a:cubicBezTo>
                      <a:pt x="17674" y="4"/>
                      <a:pt x="17675" y="4"/>
                      <a:pt x="17676" y="4"/>
                    </a:cubicBezTo>
                    <a:close/>
                    <a:moveTo>
                      <a:pt x="17684" y="4"/>
                    </a:moveTo>
                    <a:lnTo>
                      <a:pt x="17684" y="4"/>
                    </a:lnTo>
                    <a:cubicBezTo>
                      <a:pt x="17685" y="4"/>
                      <a:pt x="17686" y="4"/>
                      <a:pt x="17686" y="6"/>
                    </a:cubicBezTo>
                    <a:cubicBezTo>
                      <a:pt x="17686" y="7"/>
                      <a:pt x="17685" y="8"/>
                      <a:pt x="17684" y="8"/>
                    </a:cubicBezTo>
                    <a:lnTo>
                      <a:pt x="17684" y="8"/>
                    </a:lnTo>
                    <a:cubicBezTo>
                      <a:pt x="17683" y="8"/>
                      <a:pt x="17682" y="7"/>
                      <a:pt x="17682" y="6"/>
                    </a:cubicBezTo>
                    <a:cubicBezTo>
                      <a:pt x="17682" y="4"/>
                      <a:pt x="17683" y="4"/>
                      <a:pt x="17684" y="4"/>
                    </a:cubicBezTo>
                    <a:close/>
                    <a:moveTo>
                      <a:pt x="17692" y="4"/>
                    </a:moveTo>
                    <a:lnTo>
                      <a:pt x="17692" y="4"/>
                    </a:lnTo>
                    <a:cubicBezTo>
                      <a:pt x="17693" y="4"/>
                      <a:pt x="17694" y="4"/>
                      <a:pt x="17694" y="6"/>
                    </a:cubicBezTo>
                    <a:cubicBezTo>
                      <a:pt x="17694" y="7"/>
                      <a:pt x="17693" y="8"/>
                      <a:pt x="17692" y="8"/>
                    </a:cubicBezTo>
                    <a:lnTo>
                      <a:pt x="17692" y="8"/>
                    </a:lnTo>
                    <a:cubicBezTo>
                      <a:pt x="17691" y="8"/>
                      <a:pt x="17690" y="7"/>
                      <a:pt x="17690" y="6"/>
                    </a:cubicBezTo>
                    <a:cubicBezTo>
                      <a:pt x="17690" y="4"/>
                      <a:pt x="17691" y="4"/>
                      <a:pt x="17692" y="4"/>
                    </a:cubicBezTo>
                    <a:close/>
                    <a:moveTo>
                      <a:pt x="17700" y="4"/>
                    </a:moveTo>
                    <a:lnTo>
                      <a:pt x="17700" y="4"/>
                    </a:lnTo>
                    <a:cubicBezTo>
                      <a:pt x="17701" y="4"/>
                      <a:pt x="17702" y="4"/>
                      <a:pt x="17702" y="6"/>
                    </a:cubicBezTo>
                    <a:cubicBezTo>
                      <a:pt x="17702" y="7"/>
                      <a:pt x="17701" y="8"/>
                      <a:pt x="17700" y="8"/>
                    </a:cubicBezTo>
                    <a:lnTo>
                      <a:pt x="17700" y="8"/>
                    </a:lnTo>
                    <a:cubicBezTo>
                      <a:pt x="17699" y="8"/>
                      <a:pt x="17698" y="7"/>
                      <a:pt x="17698" y="6"/>
                    </a:cubicBezTo>
                    <a:cubicBezTo>
                      <a:pt x="17698" y="4"/>
                      <a:pt x="17699" y="4"/>
                      <a:pt x="17700" y="4"/>
                    </a:cubicBezTo>
                    <a:close/>
                    <a:moveTo>
                      <a:pt x="17708" y="4"/>
                    </a:moveTo>
                    <a:lnTo>
                      <a:pt x="17708" y="4"/>
                    </a:lnTo>
                    <a:cubicBezTo>
                      <a:pt x="17709" y="4"/>
                      <a:pt x="17710" y="4"/>
                      <a:pt x="17710" y="6"/>
                    </a:cubicBezTo>
                    <a:cubicBezTo>
                      <a:pt x="17710" y="7"/>
                      <a:pt x="17709" y="8"/>
                      <a:pt x="17708" y="8"/>
                    </a:cubicBezTo>
                    <a:lnTo>
                      <a:pt x="17708" y="8"/>
                    </a:lnTo>
                    <a:cubicBezTo>
                      <a:pt x="17707" y="8"/>
                      <a:pt x="17706" y="7"/>
                      <a:pt x="17706" y="6"/>
                    </a:cubicBezTo>
                    <a:cubicBezTo>
                      <a:pt x="17706" y="4"/>
                      <a:pt x="17707" y="4"/>
                      <a:pt x="17708" y="4"/>
                    </a:cubicBezTo>
                    <a:close/>
                    <a:moveTo>
                      <a:pt x="17716" y="4"/>
                    </a:moveTo>
                    <a:lnTo>
                      <a:pt x="17716" y="4"/>
                    </a:lnTo>
                    <a:cubicBezTo>
                      <a:pt x="17717" y="4"/>
                      <a:pt x="17718" y="5"/>
                      <a:pt x="17718" y="6"/>
                    </a:cubicBezTo>
                    <a:cubicBezTo>
                      <a:pt x="17718" y="7"/>
                      <a:pt x="17717" y="8"/>
                      <a:pt x="17716" y="8"/>
                    </a:cubicBezTo>
                    <a:lnTo>
                      <a:pt x="17716" y="8"/>
                    </a:lnTo>
                    <a:cubicBezTo>
                      <a:pt x="17715" y="8"/>
                      <a:pt x="17714" y="7"/>
                      <a:pt x="17714" y="6"/>
                    </a:cubicBezTo>
                    <a:cubicBezTo>
                      <a:pt x="17714" y="5"/>
                      <a:pt x="17715" y="4"/>
                      <a:pt x="17716" y="4"/>
                    </a:cubicBezTo>
                    <a:close/>
                    <a:moveTo>
                      <a:pt x="17724" y="4"/>
                    </a:moveTo>
                    <a:lnTo>
                      <a:pt x="17724" y="4"/>
                    </a:lnTo>
                    <a:cubicBezTo>
                      <a:pt x="17725" y="4"/>
                      <a:pt x="17726" y="5"/>
                      <a:pt x="17726" y="6"/>
                    </a:cubicBezTo>
                    <a:cubicBezTo>
                      <a:pt x="17726" y="7"/>
                      <a:pt x="17725" y="8"/>
                      <a:pt x="17724" y="8"/>
                    </a:cubicBezTo>
                    <a:lnTo>
                      <a:pt x="17724" y="8"/>
                    </a:lnTo>
                    <a:cubicBezTo>
                      <a:pt x="17723" y="8"/>
                      <a:pt x="17722" y="7"/>
                      <a:pt x="17722" y="6"/>
                    </a:cubicBezTo>
                    <a:cubicBezTo>
                      <a:pt x="17722" y="5"/>
                      <a:pt x="17723" y="4"/>
                      <a:pt x="17724" y="4"/>
                    </a:cubicBezTo>
                    <a:close/>
                    <a:moveTo>
                      <a:pt x="17732" y="4"/>
                    </a:moveTo>
                    <a:lnTo>
                      <a:pt x="17732" y="4"/>
                    </a:lnTo>
                    <a:cubicBezTo>
                      <a:pt x="17733" y="4"/>
                      <a:pt x="17734" y="5"/>
                      <a:pt x="17734" y="6"/>
                    </a:cubicBezTo>
                    <a:cubicBezTo>
                      <a:pt x="17734" y="7"/>
                      <a:pt x="17733" y="8"/>
                      <a:pt x="17732" y="8"/>
                    </a:cubicBezTo>
                    <a:lnTo>
                      <a:pt x="17732" y="8"/>
                    </a:lnTo>
                    <a:cubicBezTo>
                      <a:pt x="17731" y="8"/>
                      <a:pt x="17730" y="7"/>
                      <a:pt x="17730" y="6"/>
                    </a:cubicBezTo>
                    <a:cubicBezTo>
                      <a:pt x="17730" y="5"/>
                      <a:pt x="17731" y="4"/>
                      <a:pt x="17732" y="4"/>
                    </a:cubicBezTo>
                    <a:close/>
                    <a:moveTo>
                      <a:pt x="17740" y="4"/>
                    </a:moveTo>
                    <a:lnTo>
                      <a:pt x="17740" y="4"/>
                    </a:lnTo>
                    <a:cubicBezTo>
                      <a:pt x="17741" y="4"/>
                      <a:pt x="17742" y="5"/>
                      <a:pt x="17742" y="6"/>
                    </a:cubicBezTo>
                    <a:cubicBezTo>
                      <a:pt x="17742" y="7"/>
                      <a:pt x="17741" y="8"/>
                      <a:pt x="17740" y="8"/>
                    </a:cubicBezTo>
                    <a:lnTo>
                      <a:pt x="17740" y="8"/>
                    </a:lnTo>
                    <a:cubicBezTo>
                      <a:pt x="17739" y="8"/>
                      <a:pt x="17738" y="7"/>
                      <a:pt x="17738" y="6"/>
                    </a:cubicBezTo>
                    <a:cubicBezTo>
                      <a:pt x="17738" y="5"/>
                      <a:pt x="17739" y="4"/>
                      <a:pt x="17740" y="4"/>
                    </a:cubicBezTo>
                    <a:close/>
                    <a:moveTo>
                      <a:pt x="17748" y="4"/>
                    </a:moveTo>
                    <a:lnTo>
                      <a:pt x="17748" y="4"/>
                    </a:lnTo>
                    <a:cubicBezTo>
                      <a:pt x="17749" y="4"/>
                      <a:pt x="17750" y="5"/>
                      <a:pt x="17750" y="6"/>
                    </a:cubicBezTo>
                    <a:cubicBezTo>
                      <a:pt x="17750" y="7"/>
                      <a:pt x="17749" y="8"/>
                      <a:pt x="17748" y="8"/>
                    </a:cubicBezTo>
                    <a:lnTo>
                      <a:pt x="17748" y="8"/>
                    </a:lnTo>
                    <a:cubicBezTo>
                      <a:pt x="17747" y="8"/>
                      <a:pt x="17746" y="7"/>
                      <a:pt x="17746" y="6"/>
                    </a:cubicBezTo>
                    <a:cubicBezTo>
                      <a:pt x="17746" y="5"/>
                      <a:pt x="17747" y="4"/>
                      <a:pt x="17748" y="4"/>
                    </a:cubicBezTo>
                    <a:close/>
                    <a:moveTo>
                      <a:pt x="17756" y="4"/>
                    </a:moveTo>
                    <a:lnTo>
                      <a:pt x="17756" y="4"/>
                    </a:lnTo>
                    <a:cubicBezTo>
                      <a:pt x="17757" y="4"/>
                      <a:pt x="17758" y="5"/>
                      <a:pt x="17758" y="6"/>
                    </a:cubicBezTo>
                    <a:cubicBezTo>
                      <a:pt x="17758" y="7"/>
                      <a:pt x="17757" y="8"/>
                      <a:pt x="17756" y="8"/>
                    </a:cubicBezTo>
                    <a:lnTo>
                      <a:pt x="17756" y="8"/>
                    </a:lnTo>
                    <a:cubicBezTo>
                      <a:pt x="17755" y="8"/>
                      <a:pt x="17754" y="7"/>
                      <a:pt x="17754" y="6"/>
                    </a:cubicBezTo>
                    <a:cubicBezTo>
                      <a:pt x="17754" y="5"/>
                      <a:pt x="17755" y="4"/>
                      <a:pt x="17756" y="4"/>
                    </a:cubicBezTo>
                    <a:close/>
                    <a:moveTo>
                      <a:pt x="17764" y="4"/>
                    </a:moveTo>
                    <a:lnTo>
                      <a:pt x="17764" y="4"/>
                    </a:lnTo>
                    <a:cubicBezTo>
                      <a:pt x="17765" y="4"/>
                      <a:pt x="17766" y="5"/>
                      <a:pt x="17766" y="6"/>
                    </a:cubicBezTo>
                    <a:cubicBezTo>
                      <a:pt x="17766" y="7"/>
                      <a:pt x="17765" y="8"/>
                      <a:pt x="17764" y="8"/>
                    </a:cubicBezTo>
                    <a:lnTo>
                      <a:pt x="17764" y="8"/>
                    </a:lnTo>
                    <a:cubicBezTo>
                      <a:pt x="17763" y="8"/>
                      <a:pt x="17762" y="7"/>
                      <a:pt x="17762" y="6"/>
                    </a:cubicBezTo>
                    <a:cubicBezTo>
                      <a:pt x="17762" y="5"/>
                      <a:pt x="17763" y="4"/>
                      <a:pt x="17764" y="4"/>
                    </a:cubicBezTo>
                    <a:close/>
                    <a:moveTo>
                      <a:pt x="17772" y="4"/>
                    </a:moveTo>
                    <a:lnTo>
                      <a:pt x="17772" y="4"/>
                    </a:lnTo>
                    <a:cubicBezTo>
                      <a:pt x="17773" y="4"/>
                      <a:pt x="17774" y="5"/>
                      <a:pt x="17774" y="6"/>
                    </a:cubicBezTo>
                    <a:cubicBezTo>
                      <a:pt x="17774" y="7"/>
                      <a:pt x="17773" y="8"/>
                      <a:pt x="17772" y="8"/>
                    </a:cubicBezTo>
                    <a:lnTo>
                      <a:pt x="17772" y="8"/>
                    </a:lnTo>
                    <a:cubicBezTo>
                      <a:pt x="17771" y="8"/>
                      <a:pt x="17770" y="7"/>
                      <a:pt x="17770" y="6"/>
                    </a:cubicBezTo>
                    <a:cubicBezTo>
                      <a:pt x="17770" y="5"/>
                      <a:pt x="17771" y="4"/>
                      <a:pt x="17772" y="4"/>
                    </a:cubicBezTo>
                    <a:close/>
                    <a:moveTo>
                      <a:pt x="17780" y="4"/>
                    </a:moveTo>
                    <a:lnTo>
                      <a:pt x="17780" y="4"/>
                    </a:lnTo>
                    <a:cubicBezTo>
                      <a:pt x="17781" y="4"/>
                      <a:pt x="17782" y="5"/>
                      <a:pt x="17782" y="6"/>
                    </a:cubicBezTo>
                    <a:cubicBezTo>
                      <a:pt x="17782" y="7"/>
                      <a:pt x="17781" y="8"/>
                      <a:pt x="17780" y="8"/>
                    </a:cubicBezTo>
                    <a:lnTo>
                      <a:pt x="17780" y="8"/>
                    </a:lnTo>
                    <a:cubicBezTo>
                      <a:pt x="17779" y="8"/>
                      <a:pt x="17778" y="7"/>
                      <a:pt x="17778" y="6"/>
                    </a:cubicBezTo>
                    <a:cubicBezTo>
                      <a:pt x="17778" y="5"/>
                      <a:pt x="17779" y="4"/>
                      <a:pt x="17780" y="4"/>
                    </a:cubicBezTo>
                    <a:close/>
                    <a:moveTo>
                      <a:pt x="17788" y="4"/>
                    </a:moveTo>
                    <a:lnTo>
                      <a:pt x="17788" y="4"/>
                    </a:lnTo>
                    <a:cubicBezTo>
                      <a:pt x="17789" y="4"/>
                      <a:pt x="17790" y="5"/>
                      <a:pt x="17790" y="6"/>
                    </a:cubicBezTo>
                    <a:cubicBezTo>
                      <a:pt x="17790" y="7"/>
                      <a:pt x="17789" y="8"/>
                      <a:pt x="17788" y="8"/>
                    </a:cubicBezTo>
                    <a:lnTo>
                      <a:pt x="17788" y="8"/>
                    </a:lnTo>
                    <a:cubicBezTo>
                      <a:pt x="17787" y="8"/>
                      <a:pt x="17786" y="7"/>
                      <a:pt x="17786" y="6"/>
                    </a:cubicBezTo>
                    <a:cubicBezTo>
                      <a:pt x="17786" y="5"/>
                      <a:pt x="17787" y="4"/>
                      <a:pt x="17788" y="4"/>
                    </a:cubicBezTo>
                    <a:close/>
                    <a:moveTo>
                      <a:pt x="17796" y="4"/>
                    </a:moveTo>
                    <a:lnTo>
                      <a:pt x="17796" y="4"/>
                    </a:lnTo>
                    <a:cubicBezTo>
                      <a:pt x="17797" y="4"/>
                      <a:pt x="17798" y="5"/>
                      <a:pt x="17798" y="6"/>
                    </a:cubicBezTo>
                    <a:cubicBezTo>
                      <a:pt x="17798" y="7"/>
                      <a:pt x="17797" y="8"/>
                      <a:pt x="17796" y="8"/>
                    </a:cubicBezTo>
                    <a:lnTo>
                      <a:pt x="17796" y="8"/>
                    </a:lnTo>
                    <a:cubicBezTo>
                      <a:pt x="17795" y="8"/>
                      <a:pt x="17794" y="7"/>
                      <a:pt x="17794" y="6"/>
                    </a:cubicBezTo>
                    <a:cubicBezTo>
                      <a:pt x="17794" y="5"/>
                      <a:pt x="17795" y="4"/>
                      <a:pt x="17796" y="4"/>
                    </a:cubicBezTo>
                    <a:close/>
                    <a:moveTo>
                      <a:pt x="17804" y="4"/>
                    </a:moveTo>
                    <a:lnTo>
                      <a:pt x="17804" y="4"/>
                    </a:lnTo>
                    <a:cubicBezTo>
                      <a:pt x="17805" y="4"/>
                      <a:pt x="17806" y="5"/>
                      <a:pt x="17806" y="6"/>
                    </a:cubicBezTo>
                    <a:cubicBezTo>
                      <a:pt x="17806" y="7"/>
                      <a:pt x="17805" y="8"/>
                      <a:pt x="17804" y="8"/>
                    </a:cubicBezTo>
                    <a:lnTo>
                      <a:pt x="17804" y="8"/>
                    </a:lnTo>
                    <a:cubicBezTo>
                      <a:pt x="17803" y="8"/>
                      <a:pt x="17802" y="7"/>
                      <a:pt x="17802" y="6"/>
                    </a:cubicBezTo>
                    <a:cubicBezTo>
                      <a:pt x="17802" y="5"/>
                      <a:pt x="17803" y="4"/>
                      <a:pt x="17804" y="4"/>
                    </a:cubicBezTo>
                    <a:close/>
                    <a:moveTo>
                      <a:pt x="17812" y="4"/>
                    </a:moveTo>
                    <a:lnTo>
                      <a:pt x="17812" y="4"/>
                    </a:lnTo>
                    <a:cubicBezTo>
                      <a:pt x="17813" y="4"/>
                      <a:pt x="17814" y="5"/>
                      <a:pt x="17814" y="6"/>
                    </a:cubicBezTo>
                    <a:cubicBezTo>
                      <a:pt x="17814" y="7"/>
                      <a:pt x="17813" y="8"/>
                      <a:pt x="17812" y="8"/>
                    </a:cubicBezTo>
                    <a:lnTo>
                      <a:pt x="17812" y="8"/>
                    </a:lnTo>
                    <a:cubicBezTo>
                      <a:pt x="17811" y="8"/>
                      <a:pt x="17810" y="7"/>
                      <a:pt x="17810" y="6"/>
                    </a:cubicBezTo>
                    <a:cubicBezTo>
                      <a:pt x="17810" y="5"/>
                      <a:pt x="17811" y="4"/>
                      <a:pt x="17812" y="4"/>
                    </a:cubicBezTo>
                    <a:close/>
                    <a:moveTo>
                      <a:pt x="17820" y="4"/>
                    </a:moveTo>
                    <a:lnTo>
                      <a:pt x="17820" y="4"/>
                    </a:lnTo>
                    <a:cubicBezTo>
                      <a:pt x="17821" y="4"/>
                      <a:pt x="17822" y="5"/>
                      <a:pt x="17822" y="6"/>
                    </a:cubicBezTo>
                    <a:cubicBezTo>
                      <a:pt x="17822" y="7"/>
                      <a:pt x="17821" y="8"/>
                      <a:pt x="17820" y="8"/>
                    </a:cubicBezTo>
                    <a:lnTo>
                      <a:pt x="17820" y="8"/>
                    </a:lnTo>
                    <a:cubicBezTo>
                      <a:pt x="17819" y="8"/>
                      <a:pt x="17818" y="7"/>
                      <a:pt x="17818" y="6"/>
                    </a:cubicBezTo>
                    <a:cubicBezTo>
                      <a:pt x="17818" y="5"/>
                      <a:pt x="17819" y="4"/>
                      <a:pt x="17820" y="4"/>
                    </a:cubicBezTo>
                    <a:close/>
                    <a:moveTo>
                      <a:pt x="17828" y="4"/>
                    </a:moveTo>
                    <a:lnTo>
                      <a:pt x="17828" y="4"/>
                    </a:lnTo>
                    <a:cubicBezTo>
                      <a:pt x="17829" y="4"/>
                      <a:pt x="17830" y="5"/>
                      <a:pt x="17830" y="6"/>
                    </a:cubicBezTo>
                    <a:cubicBezTo>
                      <a:pt x="17830" y="7"/>
                      <a:pt x="17829" y="8"/>
                      <a:pt x="17828" y="8"/>
                    </a:cubicBezTo>
                    <a:lnTo>
                      <a:pt x="17828" y="8"/>
                    </a:lnTo>
                    <a:cubicBezTo>
                      <a:pt x="17827" y="8"/>
                      <a:pt x="17826" y="7"/>
                      <a:pt x="17826" y="6"/>
                    </a:cubicBezTo>
                    <a:cubicBezTo>
                      <a:pt x="17826" y="5"/>
                      <a:pt x="17827" y="4"/>
                      <a:pt x="17828" y="4"/>
                    </a:cubicBezTo>
                    <a:close/>
                    <a:moveTo>
                      <a:pt x="17836" y="4"/>
                    </a:moveTo>
                    <a:lnTo>
                      <a:pt x="17836" y="4"/>
                    </a:lnTo>
                    <a:cubicBezTo>
                      <a:pt x="17837" y="4"/>
                      <a:pt x="17838" y="5"/>
                      <a:pt x="17838" y="6"/>
                    </a:cubicBezTo>
                    <a:cubicBezTo>
                      <a:pt x="17838" y="7"/>
                      <a:pt x="17837" y="8"/>
                      <a:pt x="17836" y="8"/>
                    </a:cubicBezTo>
                    <a:lnTo>
                      <a:pt x="17836" y="8"/>
                    </a:lnTo>
                    <a:cubicBezTo>
                      <a:pt x="17835" y="8"/>
                      <a:pt x="17834" y="7"/>
                      <a:pt x="17834" y="6"/>
                    </a:cubicBezTo>
                    <a:cubicBezTo>
                      <a:pt x="17834" y="5"/>
                      <a:pt x="17835" y="4"/>
                      <a:pt x="17836" y="4"/>
                    </a:cubicBezTo>
                    <a:close/>
                    <a:moveTo>
                      <a:pt x="17844" y="4"/>
                    </a:moveTo>
                    <a:lnTo>
                      <a:pt x="17844" y="4"/>
                    </a:lnTo>
                    <a:cubicBezTo>
                      <a:pt x="17845" y="4"/>
                      <a:pt x="17846" y="5"/>
                      <a:pt x="17846" y="6"/>
                    </a:cubicBezTo>
                    <a:cubicBezTo>
                      <a:pt x="17846" y="7"/>
                      <a:pt x="17845" y="8"/>
                      <a:pt x="17844" y="8"/>
                    </a:cubicBezTo>
                    <a:lnTo>
                      <a:pt x="17844" y="8"/>
                    </a:lnTo>
                    <a:cubicBezTo>
                      <a:pt x="17843" y="8"/>
                      <a:pt x="17842" y="7"/>
                      <a:pt x="17842" y="6"/>
                    </a:cubicBezTo>
                    <a:cubicBezTo>
                      <a:pt x="17842" y="5"/>
                      <a:pt x="17843" y="4"/>
                      <a:pt x="17844" y="4"/>
                    </a:cubicBezTo>
                    <a:close/>
                    <a:moveTo>
                      <a:pt x="17852" y="4"/>
                    </a:moveTo>
                    <a:lnTo>
                      <a:pt x="17852" y="4"/>
                    </a:lnTo>
                    <a:cubicBezTo>
                      <a:pt x="17853" y="4"/>
                      <a:pt x="17854" y="5"/>
                      <a:pt x="17854" y="6"/>
                    </a:cubicBezTo>
                    <a:cubicBezTo>
                      <a:pt x="17854" y="7"/>
                      <a:pt x="17853" y="8"/>
                      <a:pt x="17852" y="8"/>
                    </a:cubicBezTo>
                    <a:lnTo>
                      <a:pt x="17852" y="8"/>
                    </a:lnTo>
                    <a:cubicBezTo>
                      <a:pt x="17851" y="8"/>
                      <a:pt x="17850" y="7"/>
                      <a:pt x="17850" y="6"/>
                    </a:cubicBezTo>
                    <a:cubicBezTo>
                      <a:pt x="17850" y="5"/>
                      <a:pt x="17851" y="4"/>
                      <a:pt x="17852" y="4"/>
                    </a:cubicBezTo>
                    <a:close/>
                    <a:moveTo>
                      <a:pt x="17860" y="4"/>
                    </a:moveTo>
                    <a:lnTo>
                      <a:pt x="17860" y="4"/>
                    </a:lnTo>
                    <a:cubicBezTo>
                      <a:pt x="17861" y="4"/>
                      <a:pt x="17862" y="5"/>
                      <a:pt x="17862" y="6"/>
                    </a:cubicBezTo>
                    <a:cubicBezTo>
                      <a:pt x="17862" y="7"/>
                      <a:pt x="17861" y="8"/>
                      <a:pt x="17860" y="8"/>
                    </a:cubicBezTo>
                    <a:lnTo>
                      <a:pt x="17860" y="8"/>
                    </a:lnTo>
                    <a:cubicBezTo>
                      <a:pt x="17859" y="8"/>
                      <a:pt x="17858" y="7"/>
                      <a:pt x="17858" y="6"/>
                    </a:cubicBezTo>
                    <a:cubicBezTo>
                      <a:pt x="17858" y="5"/>
                      <a:pt x="17859" y="4"/>
                      <a:pt x="17860" y="4"/>
                    </a:cubicBezTo>
                    <a:close/>
                    <a:moveTo>
                      <a:pt x="17868" y="4"/>
                    </a:moveTo>
                    <a:lnTo>
                      <a:pt x="17868" y="4"/>
                    </a:lnTo>
                    <a:cubicBezTo>
                      <a:pt x="17869" y="4"/>
                      <a:pt x="17870" y="5"/>
                      <a:pt x="17870" y="6"/>
                    </a:cubicBezTo>
                    <a:cubicBezTo>
                      <a:pt x="17870" y="7"/>
                      <a:pt x="17869" y="8"/>
                      <a:pt x="17868" y="8"/>
                    </a:cubicBezTo>
                    <a:lnTo>
                      <a:pt x="17868" y="8"/>
                    </a:lnTo>
                    <a:cubicBezTo>
                      <a:pt x="17867" y="8"/>
                      <a:pt x="17866" y="7"/>
                      <a:pt x="17866" y="6"/>
                    </a:cubicBezTo>
                    <a:cubicBezTo>
                      <a:pt x="17866" y="5"/>
                      <a:pt x="17867" y="4"/>
                      <a:pt x="17868" y="4"/>
                    </a:cubicBezTo>
                    <a:close/>
                    <a:moveTo>
                      <a:pt x="17876" y="4"/>
                    </a:moveTo>
                    <a:lnTo>
                      <a:pt x="17876" y="4"/>
                    </a:lnTo>
                    <a:cubicBezTo>
                      <a:pt x="17877" y="4"/>
                      <a:pt x="17878" y="5"/>
                      <a:pt x="17878" y="6"/>
                    </a:cubicBezTo>
                    <a:cubicBezTo>
                      <a:pt x="17878" y="7"/>
                      <a:pt x="17877" y="8"/>
                      <a:pt x="17876" y="8"/>
                    </a:cubicBezTo>
                    <a:lnTo>
                      <a:pt x="17876" y="8"/>
                    </a:lnTo>
                    <a:cubicBezTo>
                      <a:pt x="17875" y="8"/>
                      <a:pt x="17874" y="7"/>
                      <a:pt x="17874" y="6"/>
                    </a:cubicBezTo>
                    <a:cubicBezTo>
                      <a:pt x="17874" y="5"/>
                      <a:pt x="17875" y="4"/>
                      <a:pt x="17876" y="4"/>
                    </a:cubicBezTo>
                    <a:close/>
                    <a:moveTo>
                      <a:pt x="17884" y="4"/>
                    </a:moveTo>
                    <a:lnTo>
                      <a:pt x="17884" y="4"/>
                    </a:lnTo>
                    <a:cubicBezTo>
                      <a:pt x="17885" y="4"/>
                      <a:pt x="17886" y="5"/>
                      <a:pt x="17886" y="6"/>
                    </a:cubicBezTo>
                    <a:cubicBezTo>
                      <a:pt x="17886" y="7"/>
                      <a:pt x="17885" y="8"/>
                      <a:pt x="17884" y="8"/>
                    </a:cubicBezTo>
                    <a:lnTo>
                      <a:pt x="17884" y="8"/>
                    </a:lnTo>
                    <a:cubicBezTo>
                      <a:pt x="17883" y="8"/>
                      <a:pt x="17882" y="7"/>
                      <a:pt x="17882" y="6"/>
                    </a:cubicBezTo>
                    <a:cubicBezTo>
                      <a:pt x="17882" y="5"/>
                      <a:pt x="17883" y="4"/>
                      <a:pt x="17884" y="4"/>
                    </a:cubicBezTo>
                    <a:close/>
                    <a:moveTo>
                      <a:pt x="17892" y="4"/>
                    </a:moveTo>
                    <a:lnTo>
                      <a:pt x="17892" y="4"/>
                    </a:lnTo>
                    <a:cubicBezTo>
                      <a:pt x="17893" y="4"/>
                      <a:pt x="17894" y="5"/>
                      <a:pt x="17894" y="6"/>
                    </a:cubicBezTo>
                    <a:cubicBezTo>
                      <a:pt x="17894" y="7"/>
                      <a:pt x="17893" y="8"/>
                      <a:pt x="17892" y="8"/>
                    </a:cubicBezTo>
                    <a:lnTo>
                      <a:pt x="17892" y="8"/>
                    </a:lnTo>
                    <a:cubicBezTo>
                      <a:pt x="17891" y="8"/>
                      <a:pt x="17890" y="7"/>
                      <a:pt x="17890" y="6"/>
                    </a:cubicBezTo>
                    <a:cubicBezTo>
                      <a:pt x="17890" y="5"/>
                      <a:pt x="17891" y="4"/>
                      <a:pt x="17892" y="4"/>
                    </a:cubicBezTo>
                    <a:close/>
                    <a:moveTo>
                      <a:pt x="17900" y="4"/>
                    </a:moveTo>
                    <a:lnTo>
                      <a:pt x="17900" y="4"/>
                    </a:lnTo>
                    <a:cubicBezTo>
                      <a:pt x="17901" y="4"/>
                      <a:pt x="17902" y="5"/>
                      <a:pt x="17902" y="6"/>
                    </a:cubicBezTo>
                    <a:cubicBezTo>
                      <a:pt x="17902" y="7"/>
                      <a:pt x="17901" y="8"/>
                      <a:pt x="17900" y="8"/>
                    </a:cubicBezTo>
                    <a:lnTo>
                      <a:pt x="17900" y="8"/>
                    </a:lnTo>
                    <a:cubicBezTo>
                      <a:pt x="17899" y="8"/>
                      <a:pt x="17898" y="7"/>
                      <a:pt x="17898" y="6"/>
                    </a:cubicBezTo>
                    <a:cubicBezTo>
                      <a:pt x="17898" y="5"/>
                      <a:pt x="17899" y="4"/>
                      <a:pt x="17900" y="4"/>
                    </a:cubicBezTo>
                    <a:close/>
                    <a:moveTo>
                      <a:pt x="17908" y="4"/>
                    </a:moveTo>
                    <a:lnTo>
                      <a:pt x="17908" y="4"/>
                    </a:lnTo>
                    <a:cubicBezTo>
                      <a:pt x="17909" y="4"/>
                      <a:pt x="17910" y="5"/>
                      <a:pt x="17910" y="6"/>
                    </a:cubicBezTo>
                    <a:cubicBezTo>
                      <a:pt x="17910" y="7"/>
                      <a:pt x="17909" y="8"/>
                      <a:pt x="17908" y="8"/>
                    </a:cubicBezTo>
                    <a:lnTo>
                      <a:pt x="17908" y="8"/>
                    </a:lnTo>
                    <a:cubicBezTo>
                      <a:pt x="17907" y="8"/>
                      <a:pt x="17906" y="7"/>
                      <a:pt x="17906" y="6"/>
                    </a:cubicBezTo>
                    <a:cubicBezTo>
                      <a:pt x="17906" y="5"/>
                      <a:pt x="17907" y="4"/>
                      <a:pt x="17908" y="4"/>
                    </a:cubicBezTo>
                    <a:close/>
                    <a:moveTo>
                      <a:pt x="17916" y="4"/>
                    </a:moveTo>
                    <a:lnTo>
                      <a:pt x="17916" y="4"/>
                    </a:lnTo>
                    <a:cubicBezTo>
                      <a:pt x="17917" y="4"/>
                      <a:pt x="17918" y="5"/>
                      <a:pt x="17918" y="6"/>
                    </a:cubicBezTo>
                    <a:cubicBezTo>
                      <a:pt x="17918" y="7"/>
                      <a:pt x="17917" y="8"/>
                      <a:pt x="17916" y="8"/>
                    </a:cubicBezTo>
                    <a:lnTo>
                      <a:pt x="17916" y="8"/>
                    </a:lnTo>
                    <a:cubicBezTo>
                      <a:pt x="17915" y="8"/>
                      <a:pt x="17914" y="7"/>
                      <a:pt x="17914" y="6"/>
                    </a:cubicBezTo>
                    <a:cubicBezTo>
                      <a:pt x="17914" y="5"/>
                      <a:pt x="17915" y="4"/>
                      <a:pt x="17916" y="4"/>
                    </a:cubicBezTo>
                    <a:close/>
                    <a:moveTo>
                      <a:pt x="17924" y="4"/>
                    </a:moveTo>
                    <a:lnTo>
                      <a:pt x="17924" y="4"/>
                    </a:lnTo>
                    <a:cubicBezTo>
                      <a:pt x="17925" y="4"/>
                      <a:pt x="17926" y="5"/>
                      <a:pt x="17926" y="6"/>
                    </a:cubicBezTo>
                    <a:cubicBezTo>
                      <a:pt x="17926" y="7"/>
                      <a:pt x="17925" y="8"/>
                      <a:pt x="17924" y="8"/>
                    </a:cubicBezTo>
                    <a:lnTo>
                      <a:pt x="17924" y="8"/>
                    </a:lnTo>
                    <a:cubicBezTo>
                      <a:pt x="17923" y="8"/>
                      <a:pt x="17922" y="7"/>
                      <a:pt x="17922" y="6"/>
                    </a:cubicBezTo>
                    <a:cubicBezTo>
                      <a:pt x="17922" y="5"/>
                      <a:pt x="17923" y="4"/>
                      <a:pt x="17924" y="4"/>
                    </a:cubicBezTo>
                    <a:close/>
                    <a:moveTo>
                      <a:pt x="17932" y="4"/>
                    </a:moveTo>
                    <a:lnTo>
                      <a:pt x="17932" y="4"/>
                    </a:lnTo>
                    <a:cubicBezTo>
                      <a:pt x="17933" y="4"/>
                      <a:pt x="17934" y="5"/>
                      <a:pt x="17934" y="6"/>
                    </a:cubicBezTo>
                    <a:cubicBezTo>
                      <a:pt x="17934" y="7"/>
                      <a:pt x="17933" y="8"/>
                      <a:pt x="17932" y="8"/>
                    </a:cubicBezTo>
                    <a:lnTo>
                      <a:pt x="17932" y="8"/>
                    </a:lnTo>
                    <a:cubicBezTo>
                      <a:pt x="17931" y="8"/>
                      <a:pt x="17930" y="7"/>
                      <a:pt x="17930" y="6"/>
                    </a:cubicBezTo>
                    <a:cubicBezTo>
                      <a:pt x="17930" y="5"/>
                      <a:pt x="17931" y="4"/>
                      <a:pt x="17932" y="4"/>
                    </a:cubicBezTo>
                    <a:close/>
                    <a:moveTo>
                      <a:pt x="17940" y="4"/>
                    </a:moveTo>
                    <a:lnTo>
                      <a:pt x="17940" y="4"/>
                    </a:lnTo>
                    <a:cubicBezTo>
                      <a:pt x="17941" y="4"/>
                      <a:pt x="17942" y="5"/>
                      <a:pt x="17942" y="6"/>
                    </a:cubicBezTo>
                    <a:cubicBezTo>
                      <a:pt x="17942" y="7"/>
                      <a:pt x="17941" y="8"/>
                      <a:pt x="17940" y="8"/>
                    </a:cubicBezTo>
                    <a:lnTo>
                      <a:pt x="17940" y="8"/>
                    </a:lnTo>
                    <a:cubicBezTo>
                      <a:pt x="17939" y="8"/>
                      <a:pt x="17938" y="7"/>
                      <a:pt x="17938" y="6"/>
                    </a:cubicBezTo>
                    <a:cubicBezTo>
                      <a:pt x="17938" y="5"/>
                      <a:pt x="17939" y="4"/>
                      <a:pt x="17940" y="4"/>
                    </a:cubicBezTo>
                    <a:close/>
                    <a:moveTo>
                      <a:pt x="17948" y="4"/>
                    </a:moveTo>
                    <a:lnTo>
                      <a:pt x="17948" y="4"/>
                    </a:lnTo>
                    <a:cubicBezTo>
                      <a:pt x="17949" y="4"/>
                      <a:pt x="17950" y="5"/>
                      <a:pt x="17950" y="6"/>
                    </a:cubicBezTo>
                    <a:cubicBezTo>
                      <a:pt x="17950" y="7"/>
                      <a:pt x="17949" y="8"/>
                      <a:pt x="17948" y="8"/>
                    </a:cubicBezTo>
                    <a:lnTo>
                      <a:pt x="17948" y="8"/>
                    </a:lnTo>
                    <a:cubicBezTo>
                      <a:pt x="17947" y="8"/>
                      <a:pt x="17946" y="7"/>
                      <a:pt x="17946" y="6"/>
                    </a:cubicBezTo>
                    <a:cubicBezTo>
                      <a:pt x="17946" y="5"/>
                      <a:pt x="17947" y="4"/>
                      <a:pt x="17948" y="4"/>
                    </a:cubicBezTo>
                    <a:close/>
                    <a:moveTo>
                      <a:pt x="17956" y="4"/>
                    </a:moveTo>
                    <a:lnTo>
                      <a:pt x="17956" y="4"/>
                    </a:lnTo>
                    <a:cubicBezTo>
                      <a:pt x="17957" y="4"/>
                      <a:pt x="17958" y="5"/>
                      <a:pt x="17958" y="6"/>
                    </a:cubicBezTo>
                    <a:cubicBezTo>
                      <a:pt x="17958" y="7"/>
                      <a:pt x="17957" y="8"/>
                      <a:pt x="17956" y="8"/>
                    </a:cubicBezTo>
                    <a:lnTo>
                      <a:pt x="17956" y="8"/>
                    </a:lnTo>
                    <a:cubicBezTo>
                      <a:pt x="17955" y="8"/>
                      <a:pt x="17954" y="7"/>
                      <a:pt x="17954" y="6"/>
                    </a:cubicBezTo>
                    <a:cubicBezTo>
                      <a:pt x="17954" y="5"/>
                      <a:pt x="17955" y="4"/>
                      <a:pt x="17956" y="4"/>
                    </a:cubicBezTo>
                    <a:close/>
                    <a:moveTo>
                      <a:pt x="17964" y="4"/>
                    </a:moveTo>
                    <a:lnTo>
                      <a:pt x="17964" y="4"/>
                    </a:lnTo>
                    <a:cubicBezTo>
                      <a:pt x="17965" y="4"/>
                      <a:pt x="17966" y="5"/>
                      <a:pt x="17966" y="6"/>
                    </a:cubicBezTo>
                    <a:cubicBezTo>
                      <a:pt x="17966" y="7"/>
                      <a:pt x="17965" y="8"/>
                      <a:pt x="17964" y="8"/>
                    </a:cubicBezTo>
                    <a:lnTo>
                      <a:pt x="17964" y="8"/>
                    </a:lnTo>
                    <a:cubicBezTo>
                      <a:pt x="17963" y="8"/>
                      <a:pt x="17962" y="7"/>
                      <a:pt x="17962" y="6"/>
                    </a:cubicBezTo>
                    <a:cubicBezTo>
                      <a:pt x="17962" y="5"/>
                      <a:pt x="17963" y="4"/>
                      <a:pt x="17964" y="4"/>
                    </a:cubicBezTo>
                    <a:close/>
                    <a:moveTo>
                      <a:pt x="17972" y="4"/>
                    </a:moveTo>
                    <a:lnTo>
                      <a:pt x="17972" y="4"/>
                    </a:lnTo>
                    <a:cubicBezTo>
                      <a:pt x="17973" y="4"/>
                      <a:pt x="17974" y="5"/>
                      <a:pt x="17974" y="6"/>
                    </a:cubicBezTo>
                    <a:cubicBezTo>
                      <a:pt x="17974" y="7"/>
                      <a:pt x="17973" y="8"/>
                      <a:pt x="17972" y="8"/>
                    </a:cubicBezTo>
                    <a:lnTo>
                      <a:pt x="17972" y="8"/>
                    </a:lnTo>
                    <a:cubicBezTo>
                      <a:pt x="17971" y="8"/>
                      <a:pt x="17970" y="7"/>
                      <a:pt x="17970" y="6"/>
                    </a:cubicBezTo>
                    <a:cubicBezTo>
                      <a:pt x="17970" y="5"/>
                      <a:pt x="17971" y="4"/>
                      <a:pt x="17972" y="4"/>
                    </a:cubicBezTo>
                    <a:close/>
                    <a:moveTo>
                      <a:pt x="17980" y="4"/>
                    </a:moveTo>
                    <a:lnTo>
                      <a:pt x="17980" y="4"/>
                    </a:lnTo>
                    <a:cubicBezTo>
                      <a:pt x="17981" y="4"/>
                      <a:pt x="17982" y="5"/>
                      <a:pt x="17982" y="6"/>
                    </a:cubicBezTo>
                    <a:cubicBezTo>
                      <a:pt x="17982" y="7"/>
                      <a:pt x="17981" y="8"/>
                      <a:pt x="17980" y="8"/>
                    </a:cubicBezTo>
                    <a:lnTo>
                      <a:pt x="17980" y="8"/>
                    </a:lnTo>
                    <a:cubicBezTo>
                      <a:pt x="17979" y="8"/>
                      <a:pt x="17978" y="7"/>
                      <a:pt x="17978" y="6"/>
                    </a:cubicBezTo>
                    <a:cubicBezTo>
                      <a:pt x="17978" y="5"/>
                      <a:pt x="17979" y="4"/>
                      <a:pt x="17980" y="4"/>
                    </a:cubicBezTo>
                    <a:close/>
                    <a:moveTo>
                      <a:pt x="17988" y="4"/>
                    </a:moveTo>
                    <a:lnTo>
                      <a:pt x="17988" y="4"/>
                    </a:lnTo>
                    <a:cubicBezTo>
                      <a:pt x="17989" y="4"/>
                      <a:pt x="17990" y="5"/>
                      <a:pt x="17990" y="6"/>
                    </a:cubicBezTo>
                    <a:cubicBezTo>
                      <a:pt x="17990" y="7"/>
                      <a:pt x="17989" y="8"/>
                      <a:pt x="17988" y="8"/>
                    </a:cubicBezTo>
                    <a:lnTo>
                      <a:pt x="17988" y="8"/>
                    </a:lnTo>
                    <a:cubicBezTo>
                      <a:pt x="17987" y="8"/>
                      <a:pt x="17986" y="7"/>
                      <a:pt x="17986" y="6"/>
                    </a:cubicBezTo>
                    <a:cubicBezTo>
                      <a:pt x="17986" y="5"/>
                      <a:pt x="17987" y="4"/>
                      <a:pt x="17988" y="4"/>
                    </a:cubicBezTo>
                    <a:close/>
                    <a:moveTo>
                      <a:pt x="17996" y="4"/>
                    </a:moveTo>
                    <a:lnTo>
                      <a:pt x="17996" y="4"/>
                    </a:lnTo>
                    <a:cubicBezTo>
                      <a:pt x="17997" y="4"/>
                      <a:pt x="17998" y="5"/>
                      <a:pt x="17998" y="6"/>
                    </a:cubicBezTo>
                    <a:cubicBezTo>
                      <a:pt x="17998" y="7"/>
                      <a:pt x="17997" y="8"/>
                      <a:pt x="17996" y="8"/>
                    </a:cubicBezTo>
                    <a:lnTo>
                      <a:pt x="17996" y="8"/>
                    </a:lnTo>
                    <a:cubicBezTo>
                      <a:pt x="17995" y="8"/>
                      <a:pt x="17994" y="7"/>
                      <a:pt x="17994" y="6"/>
                    </a:cubicBezTo>
                    <a:cubicBezTo>
                      <a:pt x="17994" y="5"/>
                      <a:pt x="17995" y="4"/>
                      <a:pt x="17996" y="4"/>
                    </a:cubicBezTo>
                    <a:close/>
                    <a:moveTo>
                      <a:pt x="18004" y="4"/>
                    </a:moveTo>
                    <a:lnTo>
                      <a:pt x="18004" y="4"/>
                    </a:lnTo>
                    <a:cubicBezTo>
                      <a:pt x="18005" y="4"/>
                      <a:pt x="18006" y="5"/>
                      <a:pt x="18006" y="6"/>
                    </a:cubicBezTo>
                    <a:cubicBezTo>
                      <a:pt x="18006" y="7"/>
                      <a:pt x="18005" y="8"/>
                      <a:pt x="18004" y="8"/>
                    </a:cubicBezTo>
                    <a:lnTo>
                      <a:pt x="18004" y="8"/>
                    </a:lnTo>
                    <a:cubicBezTo>
                      <a:pt x="18003" y="8"/>
                      <a:pt x="18002" y="7"/>
                      <a:pt x="18002" y="6"/>
                    </a:cubicBezTo>
                    <a:cubicBezTo>
                      <a:pt x="18002" y="5"/>
                      <a:pt x="18003" y="4"/>
                      <a:pt x="18004" y="4"/>
                    </a:cubicBezTo>
                    <a:close/>
                    <a:moveTo>
                      <a:pt x="18012" y="4"/>
                    </a:moveTo>
                    <a:lnTo>
                      <a:pt x="18012" y="4"/>
                    </a:lnTo>
                    <a:cubicBezTo>
                      <a:pt x="18013" y="4"/>
                      <a:pt x="18014" y="5"/>
                      <a:pt x="18014" y="6"/>
                    </a:cubicBezTo>
                    <a:cubicBezTo>
                      <a:pt x="18014" y="7"/>
                      <a:pt x="18013" y="8"/>
                      <a:pt x="18012" y="8"/>
                    </a:cubicBezTo>
                    <a:lnTo>
                      <a:pt x="18012" y="8"/>
                    </a:lnTo>
                    <a:cubicBezTo>
                      <a:pt x="18011" y="8"/>
                      <a:pt x="18010" y="7"/>
                      <a:pt x="18010" y="6"/>
                    </a:cubicBezTo>
                    <a:cubicBezTo>
                      <a:pt x="18010" y="5"/>
                      <a:pt x="18011" y="4"/>
                      <a:pt x="18012" y="4"/>
                    </a:cubicBezTo>
                    <a:close/>
                    <a:moveTo>
                      <a:pt x="18020" y="4"/>
                    </a:moveTo>
                    <a:lnTo>
                      <a:pt x="18020" y="4"/>
                    </a:lnTo>
                    <a:cubicBezTo>
                      <a:pt x="18021" y="4"/>
                      <a:pt x="18022" y="5"/>
                      <a:pt x="18022" y="6"/>
                    </a:cubicBezTo>
                    <a:cubicBezTo>
                      <a:pt x="18022" y="7"/>
                      <a:pt x="18021" y="8"/>
                      <a:pt x="18020" y="8"/>
                    </a:cubicBezTo>
                    <a:lnTo>
                      <a:pt x="18020" y="8"/>
                    </a:lnTo>
                    <a:cubicBezTo>
                      <a:pt x="18019" y="8"/>
                      <a:pt x="18018" y="7"/>
                      <a:pt x="18018" y="6"/>
                    </a:cubicBezTo>
                    <a:cubicBezTo>
                      <a:pt x="18018" y="5"/>
                      <a:pt x="18019" y="4"/>
                      <a:pt x="18020" y="4"/>
                    </a:cubicBezTo>
                    <a:close/>
                    <a:moveTo>
                      <a:pt x="18028" y="4"/>
                    </a:moveTo>
                    <a:lnTo>
                      <a:pt x="18028" y="4"/>
                    </a:lnTo>
                    <a:cubicBezTo>
                      <a:pt x="18029" y="4"/>
                      <a:pt x="18030" y="5"/>
                      <a:pt x="18030" y="6"/>
                    </a:cubicBezTo>
                    <a:cubicBezTo>
                      <a:pt x="18030" y="7"/>
                      <a:pt x="18029" y="8"/>
                      <a:pt x="18028" y="8"/>
                    </a:cubicBezTo>
                    <a:lnTo>
                      <a:pt x="18028" y="8"/>
                    </a:lnTo>
                    <a:cubicBezTo>
                      <a:pt x="18027" y="8"/>
                      <a:pt x="18026" y="7"/>
                      <a:pt x="18026" y="6"/>
                    </a:cubicBezTo>
                    <a:cubicBezTo>
                      <a:pt x="18026" y="5"/>
                      <a:pt x="18027" y="4"/>
                      <a:pt x="18028" y="4"/>
                    </a:cubicBezTo>
                    <a:close/>
                    <a:moveTo>
                      <a:pt x="18036" y="4"/>
                    </a:moveTo>
                    <a:lnTo>
                      <a:pt x="18036" y="4"/>
                    </a:lnTo>
                    <a:cubicBezTo>
                      <a:pt x="18037" y="4"/>
                      <a:pt x="18038" y="5"/>
                      <a:pt x="18038" y="6"/>
                    </a:cubicBezTo>
                    <a:cubicBezTo>
                      <a:pt x="18038" y="7"/>
                      <a:pt x="18037" y="8"/>
                      <a:pt x="18036" y="8"/>
                    </a:cubicBezTo>
                    <a:lnTo>
                      <a:pt x="18036" y="8"/>
                    </a:lnTo>
                    <a:cubicBezTo>
                      <a:pt x="18035" y="8"/>
                      <a:pt x="18034" y="7"/>
                      <a:pt x="18034" y="6"/>
                    </a:cubicBezTo>
                    <a:cubicBezTo>
                      <a:pt x="18034" y="5"/>
                      <a:pt x="18035" y="4"/>
                      <a:pt x="18036" y="4"/>
                    </a:cubicBezTo>
                    <a:close/>
                    <a:moveTo>
                      <a:pt x="18044" y="4"/>
                    </a:moveTo>
                    <a:lnTo>
                      <a:pt x="18044" y="4"/>
                    </a:lnTo>
                    <a:cubicBezTo>
                      <a:pt x="18045" y="4"/>
                      <a:pt x="18046" y="5"/>
                      <a:pt x="18046" y="6"/>
                    </a:cubicBezTo>
                    <a:cubicBezTo>
                      <a:pt x="18046" y="7"/>
                      <a:pt x="18045" y="8"/>
                      <a:pt x="18044" y="8"/>
                    </a:cubicBezTo>
                    <a:lnTo>
                      <a:pt x="18044" y="8"/>
                    </a:lnTo>
                    <a:cubicBezTo>
                      <a:pt x="18043" y="8"/>
                      <a:pt x="18042" y="7"/>
                      <a:pt x="18042" y="6"/>
                    </a:cubicBezTo>
                    <a:cubicBezTo>
                      <a:pt x="18042" y="5"/>
                      <a:pt x="18043" y="4"/>
                      <a:pt x="18044" y="4"/>
                    </a:cubicBezTo>
                    <a:close/>
                    <a:moveTo>
                      <a:pt x="18052" y="4"/>
                    </a:moveTo>
                    <a:lnTo>
                      <a:pt x="18052" y="4"/>
                    </a:lnTo>
                    <a:cubicBezTo>
                      <a:pt x="18053" y="4"/>
                      <a:pt x="18054" y="5"/>
                      <a:pt x="18054" y="6"/>
                    </a:cubicBezTo>
                    <a:cubicBezTo>
                      <a:pt x="18054" y="7"/>
                      <a:pt x="18053" y="8"/>
                      <a:pt x="18052" y="8"/>
                    </a:cubicBezTo>
                    <a:lnTo>
                      <a:pt x="18052" y="8"/>
                    </a:lnTo>
                    <a:cubicBezTo>
                      <a:pt x="18051" y="8"/>
                      <a:pt x="18050" y="7"/>
                      <a:pt x="18050" y="6"/>
                    </a:cubicBezTo>
                    <a:cubicBezTo>
                      <a:pt x="18050" y="5"/>
                      <a:pt x="18051" y="4"/>
                      <a:pt x="18052" y="4"/>
                    </a:cubicBezTo>
                    <a:close/>
                    <a:moveTo>
                      <a:pt x="18060" y="4"/>
                    </a:moveTo>
                    <a:lnTo>
                      <a:pt x="18060" y="4"/>
                    </a:lnTo>
                    <a:cubicBezTo>
                      <a:pt x="18061" y="4"/>
                      <a:pt x="18062" y="5"/>
                      <a:pt x="18062" y="6"/>
                    </a:cubicBezTo>
                    <a:cubicBezTo>
                      <a:pt x="18062" y="7"/>
                      <a:pt x="18061" y="8"/>
                      <a:pt x="18060" y="8"/>
                    </a:cubicBezTo>
                    <a:lnTo>
                      <a:pt x="18060" y="8"/>
                    </a:lnTo>
                    <a:cubicBezTo>
                      <a:pt x="18059" y="8"/>
                      <a:pt x="18058" y="7"/>
                      <a:pt x="18058" y="6"/>
                    </a:cubicBezTo>
                    <a:cubicBezTo>
                      <a:pt x="18058" y="5"/>
                      <a:pt x="18059" y="4"/>
                      <a:pt x="18060" y="4"/>
                    </a:cubicBezTo>
                    <a:close/>
                    <a:moveTo>
                      <a:pt x="18068" y="4"/>
                    </a:moveTo>
                    <a:lnTo>
                      <a:pt x="18068" y="4"/>
                    </a:lnTo>
                    <a:cubicBezTo>
                      <a:pt x="18069" y="4"/>
                      <a:pt x="18070" y="5"/>
                      <a:pt x="18070" y="6"/>
                    </a:cubicBezTo>
                    <a:cubicBezTo>
                      <a:pt x="18070" y="7"/>
                      <a:pt x="18069" y="8"/>
                      <a:pt x="18068" y="8"/>
                    </a:cubicBezTo>
                    <a:lnTo>
                      <a:pt x="18068" y="8"/>
                    </a:lnTo>
                    <a:cubicBezTo>
                      <a:pt x="18067" y="8"/>
                      <a:pt x="18066" y="7"/>
                      <a:pt x="18066" y="6"/>
                    </a:cubicBezTo>
                    <a:cubicBezTo>
                      <a:pt x="18066" y="5"/>
                      <a:pt x="18067" y="4"/>
                      <a:pt x="18068" y="4"/>
                    </a:cubicBezTo>
                    <a:close/>
                    <a:moveTo>
                      <a:pt x="18076" y="4"/>
                    </a:moveTo>
                    <a:lnTo>
                      <a:pt x="18076" y="4"/>
                    </a:lnTo>
                    <a:cubicBezTo>
                      <a:pt x="18077" y="4"/>
                      <a:pt x="18078" y="5"/>
                      <a:pt x="18078" y="6"/>
                    </a:cubicBezTo>
                    <a:cubicBezTo>
                      <a:pt x="18078" y="7"/>
                      <a:pt x="18077" y="8"/>
                      <a:pt x="18076" y="8"/>
                    </a:cubicBezTo>
                    <a:lnTo>
                      <a:pt x="18076" y="8"/>
                    </a:lnTo>
                    <a:cubicBezTo>
                      <a:pt x="18075" y="8"/>
                      <a:pt x="18074" y="7"/>
                      <a:pt x="18074" y="6"/>
                    </a:cubicBezTo>
                    <a:cubicBezTo>
                      <a:pt x="18074" y="5"/>
                      <a:pt x="18075" y="4"/>
                      <a:pt x="18076" y="4"/>
                    </a:cubicBezTo>
                    <a:close/>
                    <a:moveTo>
                      <a:pt x="18084" y="4"/>
                    </a:moveTo>
                    <a:lnTo>
                      <a:pt x="18084" y="4"/>
                    </a:lnTo>
                    <a:cubicBezTo>
                      <a:pt x="18085" y="4"/>
                      <a:pt x="18086" y="5"/>
                      <a:pt x="18086" y="6"/>
                    </a:cubicBezTo>
                    <a:cubicBezTo>
                      <a:pt x="18086" y="7"/>
                      <a:pt x="18085" y="8"/>
                      <a:pt x="18084" y="8"/>
                    </a:cubicBezTo>
                    <a:lnTo>
                      <a:pt x="18084" y="8"/>
                    </a:lnTo>
                    <a:cubicBezTo>
                      <a:pt x="18083" y="8"/>
                      <a:pt x="18082" y="7"/>
                      <a:pt x="18082" y="6"/>
                    </a:cubicBezTo>
                    <a:cubicBezTo>
                      <a:pt x="18082" y="5"/>
                      <a:pt x="18083" y="4"/>
                      <a:pt x="18084" y="4"/>
                    </a:cubicBezTo>
                    <a:close/>
                    <a:moveTo>
                      <a:pt x="18092" y="4"/>
                    </a:moveTo>
                    <a:lnTo>
                      <a:pt x="18092" y="4"/>
                    </a:lnTo>
                    <a:cubicBezTo>
                      <a:pt x="18093" y="4"/>
                      <a:pt x="18094" y="5"/>
                      <a:pt x="18094" y="6"/>
                    </a:cubicBezTo>
                    <a:cubicBezTo>
                      <a:pt x="18094" y="7"/>
                      <a:pt x="18093" y="8"/>
                      <a:pt x="18092" y="8"/>
                    </a:cubicBezTo>
                    <a:lnTo>
                      <a:pt x="18092" y="8"/>
                    </a:lnTo>
                    <a:cubicBezTo>
                      <a:pt x="18091" y="8"/>
                      <a:pt x="18090" y="7"/>
                      <a:pt x="18090" y="6"/>
                    </a:cubicBezTo>
                    <a:cubicBezTo>
                      <a:pt x="18090" y="5"/>
                      <a:pt x="18091" y="4"/>
                      <a:pt x="18092" y="4"/>
                    </a:cubicBezTo>
                    <a:close/>
                    <a:moveTo>
                      <a:pt x="18100" y="4"/>
                    </a:moveTo>
                    <a:lnTo>
                      <a:pt x="18100" y="4"/>
                    </a:lnTo>
                    <a:cubicBezTo>
                      <a:pt x="18101" y="4"/>
                      <a:pt x="18102" y="5"/>
                      <a:pt x="18102" y="6"/>
                    </a:cubicBezTo>
                    <a:cubicBezTo>
                      <a:pt x="18102" y="7"/>
                      <a:pt x="18101" y="8"/>
                      <a:pt x="18100" y="8"/>
                    </a:cubicBezTo>
                    <a:lnTo>
                      <a:pt x="18100" y="8"/>
                    </a:lnTo>
                    <a:cubicBezTo>
                      <a:pt x="18099" y="8"/>
                      <a:pt x="18098" y="7"/>
                      <a:pt x="18098" y="6"/>
                    </a:cubicBezTo>
                    <a:cubicBezTo>
                      <a:pt x="18098" y="5"/>
                      <a:pt x="18099" y="4"/>
                      <a:pt x="18100" y="4"/>
                    </a:cubicBezTo>
                    <a:close/>
                    <a:moveTo>
                      <a:pt x="18108" y="4"/>
                    </a:moveTo>
                    <a:lnTo>
                      <a:pt x="18108" y="4"/>
                    </a:lnTo>
                    <a:cubicBezTo>
                      <a:pt x="18109" y="4"/>
                      <a:pt x="18110" y="5"/>
                      <a:pt x="18110" y="6"/>
                    </a:cubicBezTo>
                    <a:cubicBezTo>
                      <a:pt x="18110" y="7"/>
                      <a:pt x="18109" y="8"/>
                      <a:pt x="18108" y="8"/>
                    </a:cubicBezTo>
                    <a:lnTo>
                      <a:pt x="18108" y="8"/>
                    </a:lnTo>
                    <a:cubicBezTo>
                      <a:pt x="18107" y="8"/>
                      <a:pt x="18106" y="7"/>
                      <a:pt x="18106" y="6"/>
                    </a:cubicBezTo>
                    <a:cubicBezTo>
                      <a:pt x="18106" y="5"/>
                      <a:pt x="18107" y="4"/>
                      <a:pt x="18108" y="4"/>
                    </a:cubicBezTo>
                    <a:close/>
                    <a:moveTo>
                      <a:pt x="18116" y="4"/>
                    </a:moveTo>
                    <a:lnTo>
                      <a:pt x="18116" y="4"/>
                    </a:lnTo>
                    <a:cubicBezTo>
                      <a:pt x="18117" y="4"/>
                      <a:pt x="18118" y="5"/>
                      <a:pt x="18118" y="6"/>
                    </a:cubicBezTo>
                    <a:cubicBezTo>
                      <a:pt x="18118" y="7"/>
                      <a:pt x="18117" y="8"/>
                      <a:pt x="18116" y="8"/>
                    </a:cubicBezTo>
                    <a:lnTo>
                      <a:pt x="18116" y="8"/>
                    </a:lnTo>
                    <a:cubicBezTo>
                      <a:pt x="18115" y="8"/>
                      <a:pt x="18114" y="7"/>
                      <a:pt x="18114" y="6"/>
                    </a:cubicBezTo>
                    <a:cubicBezTo>
                      <a:pt x="18114" y="5"/>
                      <a:pt x="18115" y="4"/>
                      <a:pt x="18116" y="4"/>
                    </a:cubicBezTo>
                    <a:close/>
                    <a:moveTo>
                      <a:pt x="18124" y="4"/>
                    </a:moveTo>
                    <a:lnTo>
                      <a:pt x="18124" y="4"/>
                    </a:lnTo>
                    <a:cubicBezTo>
                      <a:pt x="18125" y="4"/>
                      <a:pt x="18126" y="5"/>
                      <a:pt x="18126" y="6"/>
                    </a:cubicBezTo>
                    <a:cubicBezTo>
                      <a:pt x="18126" y="7"/>
                      <a:pt x="18125" y="8"/>
                      <a:pt x="18124" y="8"/>
                    </a:cubicBezTo>
                    <a:lnTo>
                      <a:pt x="18124" y="8"/>
                    </a:lnTo>
                    <a:cubicBezTo>
                      <a:pt x="18123" y="8"/>
                      <a:pt x="18122" y="7"/>
                      <a:pt x="18122" y="6"/>
                    </a:cubicBezTo>
                    <a:cubicBezTo>
                      <a:pt x="18122" y="5"/>
                      <a:pt x="18123" y="4"/>
                      <a:pt x="18124" y="4"/>
                    </a:cubicBezTo>
                    <a:close/>
                    <a:moveTo>
                      <a:pt x="18132" y="4"/>
                    </a:moveTo>
                    <a:lnTo>
                      <a:pt x="18132" y="4"/>
                    </a:lnTo>
                    <a:cubicBezTo>
                      <a:pt x="18133" y="4"/>
                      <a:pt x="18134" y="5"/>
                      <a:pt x="18134" y="6"/>
                    </a:cubicBezTo>
                    <a:cubicBezTo>
                      <a:pt x="18134" y="7"/>
                      <a:pt x="18133" y="8"/>
                      <a:pt x="18132" y="8"/>
                    </a:cubicBezTo>
                    <a:lnTo>
                      <a:pt x="18132" y="8"/>
                    </a:lnTo>
                    <a:cubicBezTo>
                      <a:pt x="18131" y="8"/>
                      <a:pt x="18130" y="7"/>
                      <a:pt x="18130" y="6"/>
                    </a:cubicBezTo>
                    <a:cubicBezTo>
                      <a:pt x="18130" y="5"/>
                      <a:pt x="18131" y="4"/>
                      <a:pt x="18132" y="4"/>
                    </a:cubicBezTo>
                    <a:close/>
                    <a:moveTo>
                      <a:pt x="18140" y="4"/>
                    </a:moveTo>
                    <a:lnTo>
                      <a:pt x="18140" y="4"/>
                    </a:lnTo>
                    <a:cubicBezTo>
                      <a:pt x="18141" y="4"/>
                      <a:pt x="18142" y="5"/>
                      <a:pt x="18142" y="6"/>
                    </a:cubicBezTo>
                    <a:cubicBezTo>
                      <a:pt x="18142" y="7"/>
                      <a:pt x="18141" y="8"/>
                      <a:pt x="18140" y="8"/>
                    </a:cubicBezTo>
                    <a:lnTo>
                      <a:pt x="18140" y="8"/>
                    </a:lnTo>
                    <a:cubicBezTo>
                      <a:pt x="18139" y="8"/>
                      <a:pt x="18138" y="7"/>
                      <a:pt x="18138" y="6"/>
                    </a:cubicBezTo>
                    <a:cubicBezTo>
                      <a:pt x="18138" y="5"/>
                      <a:pt x="18139" y="4"/>
                      <a:pt x="18140" y="4"/>
                    </a:cubicBezTo>
                    <a:close/>
                    <a:moveTo>
                      <a:pt x="18148" y="4"/>
                    </a:moveTo>
                    <a:lnTo>
                      <a:pt x="18148" y="4"/>
                    </a:lnTo>
                    <a:cubicBezTo>
                      <a:pt x="18149" y="4"/>
                      <a:pt x="18150" y="5"/>
                      <a:pt x="18150" y="6"/>
                    </a:cubicBezTo>
                    <a:cubicBezTo>
                      <a:pt x="18150" y="7"/>
                      <a:pt x="18149" y="8"/>
                      <a:pt x="18148" y="8"/>
                    </a:cubicBezTo>
                    <a:lnTo>
                      <a:pt x="18148" y="8"/>
                    </a:lnTo>
                    <a:cubicBezTo>
                      <a:pt x="18147" y="8"/>
                      <a:pt x="18146" y="7"/>
                      <a:pt x="18146" y="6"/>
                    </a:cubicBezTo>
                    <a:cubicBezTo>
                      <a:pt x="18146" y="5"/>
                      <a:pt x="18147" y="4"/>
                      <a:pt x="18148" y="4"/>
                    </a:cubicBezTo>
                    <a:close/>
                    <a:moveTo>
                      <a:pt x="18156" y="4"/>
                    </a:moveTo>
                    <a:lnTo>
                      <a:pt x="18156" y="4"/>
                    </a:lnTo>
                    <a:cubicBezTo>
                      <a:pt x="18157" y="4"/>
                      <a:pt x="18158" y="5"/>
                      <a:pt x="18158" y="6"/>
                    </a:cubicBezTo>
                    <a:cubicBezTo>
                      <a:pt x="18158" y="7"/>
                      <a:pt x="18157" y="8"/>
                      <a:pt x="18156" y="8"/>
                    </a:cubicBezTo>
                    <a:lnTo>
                      <a:pt x="18156" y="8"/>
                    </a:lnTo>
                    <a:cubicBezTo>
                      <a:pt x="18155" y="8"/>
                      <a:pt x="18154" y="7"/>
                      <a:pt x="18154" y="6"/>
                    </a:cubicBezTo>
                    <a:cubicBezTo>
                      <a:pt x="18154" y="5"/>
                      <a:pt x="18155" y="4"/>
                      <a:pt x="18156" y="4"/>
                    </a:cubicBezTo>
                    <a:close/>
                    <a:moveTo>
                      <a:pt x="18164" y="4"/>
                    </a:moveTo>
                    <a:lnTo>
                      <a:pt x="18164" y="4"/>
                    </a:lnTo>
                    <a:cubicBezTo>
                      <a:pt x="18165" y="4"/>
                      <a:pt x="18166" y="5"/>
                      <a:pt x="18166" y="6"/>
                    </a:cubicBezTo>
                    <a:cubicBezTo>
                      <a:pt x="18166" y="7"/>
                      <a:pt x="18165" y="8"/>
                      <a:pt x="18164" y="8"/>
                    </a:cubicBezTo>
                    <a:lnTo>
                      <a:pt x="18164" y="8"/>
                    </a:lnTo>
                    <a:cubicBezTo>
                      <a:pt x="18163" y="8"/>
                      <a:pt x="18162" y="7"/>
                      <a:pt x="18162" y="6"/>
                    </a:cubicBezTo>
                    <a:cubicBezTo>
                      <a:pt x="18162" y="5"/>
                      <a:pt x="18163" y="4"/>
                      <a:pt x="18164" y="4"/>
                    </a:cubicBezTo>
                    <a:close/>
                    <a:moveTo>
                      <a:pt x="18172" y="4"/>
                    </a:moveTo>
                    <a:lnTo>
                      <a:pt x="18172" y="4"/>
                    </a:lnTo>
                    <a:cubicBezTo>
                      <a:pt x="18173" y="4"/>
                      <a:pt x="18174" y="5"/>
                      <a:pt x="18174" y="6"/>
                    </a:cubicBezTo>
                    <a:cubicBezTo>
                      <a:pt x="18174" y="7"/>
                      <a:pt x="18173" y="8"/>
                      <a:pt x="18172" y="8"/>
                    </a:cubicBezTo>
                    <a:lnTo>
                      <a:pt x="18172" y="8"/>
                    </a:lnTo>
                    <a:cubicBezTo>
                      <a:pt x="18171" y="8"/>
                      <a:pt x="18170" y="7"/>
                      <a:pt x="18170" y="6"/>
                    </a:cubicBezTo>
                    <a:cubicBezTo>
                      <a:pt x="18170" y="5"/>
                      <a:pt x="18171" y="4"/>
                      <a:pt x="18172" y="4"/>
                    </a:cubicBezTo>
                    <a:close/>
                    <a:moveTo>
                      <a:pt x="18180" y="4"/>
                    </a:moveTo>
                    <a:lnTo>
                      <a:pt x="18180" y="4"/>
                    </a:lnTo>
                    <a:cubicBezTo>
                      <a:pt x="18181" y="4"/>
                      <a:pt x="18182" y="5"/>
                      <a:pt x="18182" y="6"/>
                    </a:cubicBezTo>
                    <a:cubicBezTo>
                      <a:pt x="18182" y="7"/>
                      <a:pt x="18181" y="8"/>
                      <a:pt x="18180" y="8"/>
                    </a:cubicBezTo>
                    <a:lnTo>
                      <a:pt x="18180" y="8"/>
                    </a:lnTo>
                    <a:cubicBezTo>
                      <a:pt x="18179" y="8"/>
                      <a:pt x="18178" y="7"/>
                      <a:pt x="18178" y="6"/>
                    </a:cubicBezTo>
                    <a:cubicBezTo>
                      <a:pt x="18178" y="5"/>
                      <a:pt x="18179" y="4"/>
                      <a:pt x="18180" y="4"/>
                    </a:cubicBezTo>
                    <a:close/>
                    <a:moveTo>
                      <a:pt x="18188" y="4"/>
                    </a:moveTo>
                    <a:lnTo>
                      <a:pt x="18188" y="4"/>
                    </a:lnTo>
                    <a:cubicBezTo>
                      <a:pt x="18189" y="4"/>
                      <a:pt x="18190" y="5"/>
                      <a:pt x="18190" y="6"/>
                    </a:cubicBezTo>
                    <a:cubicBezTo>
                      <a:pt x="18190" y="7"/>
                      <a:pt x="18189" y="8"/>
                      <a:pt x="18188" y="8"/>
                    </a:cubicBezTo>
                    <a:lnTo>
                      <a:pt x="18188" y="8"/>
                    </a:lnTo>
                    <a:cubicBezTo>
                      <a:pt x="18187" y="8"/>
                      <a:pt x="18186" y="7"/>
                      <a:pt x="18186" y="6"/>
                    </a:cubicBezTo>
                    <a:cubicBezTo>
                      <a:pt x="18186" y="5"/>
                      <a:pt x="18187" y="4"/>
                      <a:pt x="18188" y="4"/>
                    </a:cubicBezTo>
                    <a:close/>
                    <a:moveTo>
                      <a:pt x="18196" y="4"/>
                    </a:moveTo>
                    <a:lnTo>
                      <a:pt x="18196" y="4"/>
                    </a:lnTo>
                    <a:cubicBezTo>
                      <a:pt x="18197" y="4"/>
                      <a:pt x="18198" y="5"/>
                      <a:pt x="18198" y="6"/>
                    </a:cubicBezTo>
                    <a:cubicBezTo>
                      <a:pt x="18198" y="7"/>
                      <a:pt x="18197" y="8"/>
                      <a:pt x="18196" y="8"/>
                    </a:cubicBezTo>
                    <a:lnTo>
                      <a:pt x="18196" y="8"/>
                    </a:lnTo>
                    <a:cubicBezTo>
                      <a:pt x="18195" y="8"/>
                      <a:pt x="18194" y="7"/>
                      <a:pt x="18194" y="6"/>
                    </a:cubicBezTo>
                    <a:cubicBezTo>
                      <a:pt x="18194" y="5"/>
                      <a:pt x="18195" y="4"/>
                      <a:pt x="18196" y="4"/>
                    </a:cubicBezTo>
                    <a:close/>
                    <a:moveTo>
                      <a:pt x="18204" y="4"/>
                    </a:moveTo>
                    <a:lnTo>
                      <a:pt x="18204" y="4"/>
                    </a:lnTo>
                    <a:cubicBezTo>
                      <a:pt x="18205" y="4"/>
                      <a:pt x="18206" y="5"/>
                      <a:pt x="18206" y="6"/>
                    </a:cubicBezTo>
                    <a:cubicBezTo>
                      <a:pt x="18206" y="7"/>
                      <a:pt x="18205" y="8"/>
                      <a:pt x="18204" y="8"/>
                    </a:cubicBezTo>
                    <a:lnTo>
                      <a:pt x="18204" y="8"/>
                    </a:lnTo>
                    <a:cubicBezTo>
                      <a:pt x="18203" y="8"/>
                      <a:pt x="18202" y="7"/>
                      <a:pt x="18202" y="6"/>
                    </a:cubicBezTo>
                    <a:cubicBezTo>
                      <a:pt x="18202" y="5"/>
                      <a:pt x="18203" y="4"/>
                      <a:pt x="18204" y="4"/>
                    </a:cubicBezTo>
                    <a:close/>
                    <a:moveTo>
                      <a:pt x="18212" y="4"/>
                    </a:moveTo>
                    <a:lnTo>
                      <a:pt x="18212" y="4"/>
                    </a:lnTo>
                    <a:cubicBezTo>
                      <a:pt x="18214" y="4"/>
                      <a:pt x="18214" y="5"/>
                      <a:pt x="18214" y="6"/>
                    </a:cubicBezTo>
                    <a:cubicBezTo>
                      <a:pt x="18214" y="7"/>
                      <a:pt x="18214" y="8"/>
                      <a:pt x="18212" y="8"/>
                    </a:cubicBezTo>
                    <a:lnTo>
                      <a:pt x="18212" y="8"/>
                    </a:lnTo>
                    <a:cubicBezTo>
                      <a:pt x="18211" y="8"/>
                      <a:pt x="18210" y="7"/>
                      <a:pt x="18210" y="6"/>
                    </a:cubicBezTo>
                    <a:cubicBezTo>
                      <a:pt x="18210" y="5"/>
                      <a:pt x="18211" y="4"/>
                      <a:pt x="18212" y="4"/>
                    </a:cubicBezTo>
                    <a:close/>
                    <a:moveTo>
                      <a:pt x="18220" y="4"/>
                    </a:moveTo>
                    <a:lnTo>
                      <a:pt x="18220" y="4"/>
                    </a:lnTo>
                    <a:cubicBezTo>
                      <a:pt x="18222" y="4"/>
                      <a:pt x="18222" y="5"/>
                      <a:pt x="18222" y="6"/>
                    </a:cubicBezTo>
                    <a:cubicBezTo>
                      <a:pt x="18222" y="7"/>
                      <a:pt x="18222" y="8"/>
                      <a:pt x="18220" y="8"/>
                    </a:cubicBezTo>
                    <a:lnTo>
                      <a:pt x="18220" y="8"/>
                    </a:lnTo>
                    <a:cubicBezTo>
                      <a:pt x="18219" y="8"/>
                      <a:pt x="18218" y="7"/>
                      <a:pt x="18218" y="6"/>
                    </a:cubicBezTo>
                    <a:cubicBezTo>
                      <a:pt x="18218" y="5"/>
                      <a:pt x="18219" y="4"/>
                      <a:pt x="18220" y="4"/>
                    </a:cubicBezTo>
                    <a:close/>
                    <a:moveTo>
                      <a:pt x="18228" y="4"/>
                    </a:moveTo>
                    <a:lnTo>
                      <a:pt x="18228" y="4"/>
                    </a:lnTo>
                    <a:cubicBezTo>
                      <a:pt x="18230" y="4"/>
                      <a:pt x="18230" y="5"/>
                      <a:pt x="18230" y="6"/>
                    </a:cubicBezTo>
                    <a:cubicBezTo>
                      <a:pt x="18230" y="7"/>
                      <a:pt x="18230" y="8"/>
                      <a:pt x="18228" y="8"/>
                    </a:cubicBezTo>
                    <a:lnTo>
                      <a:pt x="18228" y="8"/>
                    </a:lnTo>
                    <a:cubicBezTo>
                      <a:pt x="18227" y="8"/>
                      <a:pt x="18226" y="7"/>
                      <a:pt x="18226" y="6"/>
                    </a:cubicBezTo>
                    <a:cubicBezTo>
                      <a:pt x="18226" y="5"/>
                      <a:pt x="18227" y="4"/>
                      <a:pt x="18228" y="4"/>
                    </a:cubicBezTo>
                    <a:close/>
                    <a:moveTo>
                      <a:pt x="18236" y="4"/>
                    </a:moveTo>
                    <a:lnTo>
                      <a:pt x="18236" y="4"/>
                    </a:lnTo>
                    <a:cubicBezTo>
                      <a:pt x="18238" y="4"/>
                      <a:pt x="18238" y="5"/>
                      <a:pt x="18238" y="6"/>
                    </a:cubicBezTo>
                    <a:cubicBezTo>
                      <a:pt x="18238" y="7"/>
                      <a:pt x="18238" y="8"/>
                      <a:pt x="18236" y="8"/>
                    </a:cubicBezTo>
                    <a:lnTo>
                      <a:pt x="18236" y="8"/>
                    </a:lnTo>
                    <a:cubicBezTo>
                      <a:pt x="18235" y="8"/>
                      <a:pt x="18234" y="7"/>
                      <a:pt x="18234" y="6"/>
                    </a:cubicBezTo>
                    <a:cubicBezTo>
                      <a:pt x="18234" y="5"/>
                      <a:pt x="18235" y="4"/>
                      <a:pt x="18236" y="4"/>
                    </a:cubicBezTo>
                    <a:close/>
                    <a:moveTo>
                      <a:pt x="18244" y="4"/>
                    </a:moveTo>
                    <a:lnTo>
                      <a:pt x="18244" y="4"/>
                    </a:lnTo>
                    <a:cubicBezTo>
                      <a:pt x="18246" y="4"/>
                      <a:pt x="18246" y="5"/>
                      <a:pt x="18246" y="6"/>
                    </a:cubicBezTo>
                    <a:cubicBezTo>
                      <a:pt x="18246" y="7"/>
                      <a:pt x="18246" y="8"/>
                      <a:pt x="18244" y="8"/>
                    </a:cubicBezTo>
                    <a:lnTo>
                      <a:pt x="18244" y="8"/>
                    </a:lnTo>
                    <a:cubicBezTo>
                      <a:pt x="18243" y="8"/>
                      <a:pt x="18242" y="7"/>
                      <a:pt x="18242" y="6"/>
                    </a:cubicBezTo>
                    <a:cubicBezTo>
                      <a:pt x="18242" y="5"/>
                      <a:pt x="18243" y="4"/>
                      <a:pt x="18244" y="4"/>
                    </a:cubicBezTo>
                    <a:close/>
                    <a:moveTo>
                      <a:pt x="18252" y="4"/>
                    </a:moveTo>
                    <a:lnTo>
                      <a:pt x="18252" y="4"/>
                    </a:lnTo>
                    <a:cubicBezTo>
                      <a:pt x="18254" y="4"/>
                      <a:pt x="18254" y="5"/>
                      <a:pt x="18254" y="6"/>
                    </a:cubicBezTo>
                    <a:cubicBezTo>
                      <a:pt x="18254" y="7"/>
                      <a:pt x="18254" y="8"/>
                      <a:pt x="18252" y="8"/>
                    </a:cubicBezTo>
                    <a:lnTo>
                      <a:pt x="18252" y="8"/>
                    </a:lnTo>
                    <a:cubicBezTo>
                      <a:pt x="18251" y="8"/>
                      <a:pt x="18250" y="7"/>
                      <a:pt x="18250" y="6"/>
                    </a:cubicBezTo>
                    <a:cubicBezTo>
                      <a:pt x="18250" y="5"/>
                      <a:pt x="18251" y="4"/>
                      <a:pt x="18252" y="4"/>
                    </a:cubicBezTo>
                    <a:close/>
                    <a:moveTo>
                      <a:pt x="18260" y="4"/>
                    </a:moveTo>
                    <a:lnTo>
                      <a:pt x="18260" y="4"/>
                    </a:lnTo>
                    <a:cubicBezTo>
                      <a:pt x="18262" y="4"/>
                      <a:pt x="18262" y="5"/>
                      <a:pt x="18262" y="6"/>
                    </a:cubicBezTo>
                    <a:cubicBezTo>
                      <a:pt x="18262" y="7"/>
                      <a:pt x="18262" y="8"/>
                      <a:pt x="18260" y="8"/>
                    </a:cubicBezTo>
                    <a:lnTo>
                      <a:pt x="18260" y="8"/>
                    </a:lnTo>
                    <a:cubicBezTo>
                      <a:pt x="18259" y="8"/>
                      <a:pt x="18258" y="7"/>
                      <a:pt x="18258" y="6"/>
                    </a:cubicBezTo>
                    <a:cubicBezTo>
                      <a:pt x="18258" y="5"/>
                      <a:pt x="18259" y="4"/>
                      <a:pt x="18260" y="4"/>
                    </a:cubicBezTo>
                    <a:close/>
                    <a:moveTo>
                      <a:pt x="18268" y="4"/>
                    </a:moveTo>
                    <a:lnTo>
                      <a:pt x="18268" y="4"/>
                    </a:lnTo>
                    <a:cubicBezTo>
                      <a:pt x="18270" y="4"/>
                      <a:pt x="18270" y="5"/>
                      <a:pt x="18270" y="6"/>
                    </a:cubicBezTo>
                    <a:cubicBezTo>
                      <a:pt x="18270" y="7"/>
                      <a:pt x="18270" y="8"/>
                      <a:pt x="18268" y="8"/>
                    </a:cubicBezTo>
                    <a:lnTo>
                      <a:pt x="18268" y="8"/>
                    </a:lnTo>
                    <a:cubicBezTo>
                      <a:pt x="18267" y="8"/>
                      <a:pt x="18266" y="7"/>
                      <a:pt x="18266" y="6"/>
                    </a:cubicBezTo>
                    <a:cubicBezTo>
                      <a:pt x="18266" y="5"/>
                      <a:pt x="18267" y="4"/>
                      <a:pt x="18268" y="4"/>
                    </a:cubicBezTo>
                    <a:close/>
                    <a:moveTo>
                      <a:pt x="18276" y="4"/>
                    </a:moveTo>
                    <a:lnTo>
                      <a:pt x="18276" y="4"/>
                    </a:lnTo>
                    <a:cubicBezTo>
                      <a:pt x="18278" y="4"/>
                      <a:pt x="18278" y="5"/>
                      <a:pt x="18278" y="6"/>
                    </a:cubicBezTo>
                    <a:cubicBezTo>
                      <a:pt x="18278" y="7"/>
                      <a:pt x="18278" y="8"/>
                      <a:pt x="18276" y="8"/>
                    </a:cubicBezTo>
                    <a:lnTo>
                      <a:pt x="18276" y="8"/>
                    </a:lnTo>
                    <a:cubicBezTo>
                      <a:pt x="18275" y="8"/>
                      <a:pt x="18274" y="7"/>
                      <a:pt x="18274" y="6"/>
                    </a:cubicBezTo>
                    <a:cubicBezTo>
                      <a:pt x="18274" y="5"/>
                      <a:pt x="18275" y="4"/>
                      <a:pt x="18276" y="4"/>
                    </a:cubicBezTo>
                    <a:close/>
                    <a:moveTo>
                      <a:pt x="18284" y="4"/>
                    </a:moveTo>
                    <a:lnTo>
                      <a:pt x="18284" y="4"/>
                    </a:lnTo>
                    <a:cubicBezTo>
                      <a:pt x="18286" y="4"/>
                      <a:pt x="18286" y="5"/>
                      <a:pt x="18286" y="6"/>
                    </a:cubicBezTo>
                    <a:cubicBezTo>
                      <a:pt x="18286" y="7"/>
                      <a:pt x="18286" y="8"/>
                      <a:pt x="18284" y="8"/>
                    </a:cubicBezTo>
                    <a:lnTo>
                      <a:pt x="18284" y="8"/>
                    </a:lnTo>
                    <a:cubicBezTo>
                      <a:pt x="18283" y="8"/>
                      <a:pt x="18282" y="7"/>
                      <a:pt x="18282" y="6"/>
                    </a:cubicBezTo>
                    <a:cubicBezTo>
                      <a:pt x="18282" y="5"/>
                      <a:pt x="18283" y="4"/>
                      <a:pt x="18284" y="4"/>
                    </a:cubicBezTo>
                    <a:close/>
                    <a:moveTo>
                      <a:pt x="18292" y="4"/>
                    </a:moveTo>
                    <a:lnTo>
                      <a:pt x="18292" y="4"/>
                    </a:lnTo>
                    <a:cubicBezTo>
                      <a:pt x="18294" y="4"/>
                      <a:pt x="18294" y="5"/>
                      <a:pt x="18294" y="6"/>
                    </a:cubicBezTo>
                    <a:cubicBezTo>
                      <a:pt x="18294" y="7"/>
                      <a:pt x="18294" y="8"/>
                      <a:pt x="18292" y="8"/>
                    </a:cubicBezTo>
                    <a:lnTo>
                      <a:pt x="18292" y="8"/>
                    </a:lnTo>
                    <a:cubicBezTo>
                      <a:pt x="18291" y="8"/>
                      <a:pt x="18290" y="7"/>
                      <a:pt x="18290" y="6"/>
                    </a:cubicBezTo>
                    <a:cubicBezTo>
                      <a:pt x="18290" y="5"/>
                      <a:pt x="18291" y="4"/>
                      <a:pt x="18292" y="4"/>
                    </a:cubicBezTo>
                    <a:close/>
                    <a:moveTo>
                      <a:pt x="18300" y="4"/>
                    </a:moveTo>
                    <a:lnTo>
                      <a:pt x="18300" y="4"/>
                    </a:lnTo>
                    <a:cubicBezTo>
                      <a:pt x="18302" y="4"/>
                      <a:pt x="18302" y="5"/>
                      <a:pt x="18302" y="6"/>
                    </a:cubicBezTo>
                    <a:cubicBezTo>
                      <a:pt x="18302" y="7"/>
                      <a:pt x="18302" y="8"/>
                      <a:pt x="18300" y="8"/>
                    </a:cubicBezTo>
                    <a:lnTo>
                      <a:pt x="18300" y="8"/>
                    </a:lnTo>
                    <a:cubicBezTo>
                      <a:pt x="18299" y="8"/>
                      <a:pt x="18298" y="7"/>
                      <a:pt x="18298" y="6"/>
                    </a:cubicBezTo>
                    <a:cubicBezTo>
                      <a:pt x="18298" y="5"/>
                      <a:pt x="18299" y="4"/>
                      <a:pt x="18300" y="4"/>
                    </a:cubicBezTo>
                    <a:close/>
                    <a:moveTo>
                      <a:pt x="18308" y="4"/>
                    </a:moveTo>
                    <a:lnTo>
                      <a:pt x="18308" y="4"/>
                    </a:lnTo>
                    <a:cubicBezTo>
                      <a:pt x="18310" y="4"/>
                      <a:pt x="18310" y="5"/>
                      <a:pt x="18310" y="6"/>
                    </a:cubicBezTo>
                    <a:cubicBezTo>
                      <a:pt x="18310" y="7"/>
                      <a:pt x="18310" y="8"/>
                      <a:pt x="18308" y="8"/>
                    </a:cubicBezTo>
                    <a:lnTo>
                      <a:pt x="18308" y="8"/>
                    </a:lnTo>
                    <a:cubicBezTo>
                      <a:pt x="18307" y="8"/>
                      <a:pt x="18306" y="7"/>
                      <a:pt x="18306" y="6"/>
                    </a:cubicBezTo>
                    <a:cubicBezTo>
                      <a:pt x="18306" y="5"/>
                      <a:pt x="18307" y="4"/>
                      <a:pt x="18308" y="4"/>
                    </a:cubicBezTo>
                    <a:close/>
                    <a:moveTo>
                      <a:pt x="18316" y="4"/>
                    </a:moveTo>
                    <a:lnTo>
                      <a:pt x="18317" y="4"/>
                    </a:lnTo>
                    <a:cubicBezTo>
                      <a:pt x="18318" y="4"/>
                      <a:pt x="18319" y="5"/>
                      <a:pt x="18319" y="6"/>
                    </a:cubicBezTo>
                    <a:cubicBezTo>
                      <a:pt x="18319" y="7"/>
                      <a:pt x="18318" y="8"/>
                      <a:pt x="18317" y="8"/>
                    </a:cubicBezTo>
                    <a:lnTo>
                      <a:pt x="18316" y="8"/>
                    </a:lnTo>
                    <a:cubicBezTo>
                      <a:pt x="18315" y="8"/>
                      <a:pt x="18314" y="7"/>
                      <a:pt x="18314" y="6"/>
                    </a:cubicBezTo>
                    <a:cubicBezTo>
                      <a:pt x="18314" y="5"/>
                      <a:pt x="18315" y="4"/>
                      <a:pt x="18316" y="4"/>
                    </a:cubicBezTo>
                    <a:close/>
                    <a:moveTo>
                      <a:pt x="18325" y="4"/>
                    </a:moveTo>
                    <a:lnTo>
                      <a:pt x="18325" y="4"/>
                    </a:lnTo>
                    <a:cubicBezTo>
                      <a:pt x="18326" y="4"/>
                      <a:pt x="18327" y="5"/>
                      <a:pt x="18327" y="6"/>
                    </a:cubicBezTo>
                    <a:cubicBezTo>
                      <a:pt x="18327" y="7"/>
                      <a:pt x="18326" y="8"/>
                      <a:pt x="18325" y="8"/>
                    </a:cubicBezTo>
                    <a:lnTo>
                      <a:pt x="18325" y="8"/>
                    </a:lnTo>
                    <a:cubicBezTo>
                      <a:pt x="18323" y="8"/>
                      <a:pt x="18323" y="7"/>
                      <a:pt x="18323" y="6"/>
                    </a:cubicBezTo>
                    <a:cubicBezTo>
                      <a:pt x="18323" y="5"/>
                      <a:pt x="18323" y="4"/>
                      <a:pt x="18325" y="4"/>
                    </a:cubicBezTo>
                    <a:close/>
                    <a:moveTo>
                      <a:pt x="18333" y="4"/>
                    </a:moveTo>
                    <a:lnTo>
                      <a:pt x="18333" y="4"/>
                    </a:lnTo>
                    <a:cubicBezTo>
                      <a:pt x="18334" y="4"/>
                      <a:pt x="18335" y="5"/>
                      <a:pt x="18335" y="6"/>
                    </a:cubicBezTo>
                    <a:cubicBezTo>
                      <a:pt x="18335" y="7"/>
                      <a:pt x="18334" y="8"/>
                      <a:pt x="18333" y="8"/>
                    </a:cubicBezTo>
                    <a:lnTo>
                      <a:pt x="18333" y="8"/>
                    </a:lnTo>
                    <a:cubicBezTo>
                      <a:pt x="18331" y="8"/>
                      <a:pt x="18331" y="7"/>
                      <a:pt x="18331" y="6"/>
                    </a:cubicBezTo>
                    <a:cubicBezTo>
                      <a:pt x="18331" y="5"/>
                      <a:pt x="18331" y="4"/>
                      <a:pt x="18333" y="4"/>
                    </a:cubicBezTo>
                    <a:close/>
                    <a:moveTo>
                      <a:pt x="18341" y="4"/>
                    </a:moveTo>
                    <a:lnTo>
                      <a:pt x="18341" y="4"/>
                    </a:lnTo>
                    <a:cubicBezTo>
                      <a:pt x="18342" y="4"/>
                      <a:pt x="18343" y="5"/>
                      <a:pt x="18343" y="6"/>
                    </a:cubicBezTo>
                    <a:cubicBezTo>
                      <a:pt x="18343" y="7"/>
                      <a:pt x="18342" y="8"/>
                      <a:pt x="18341" y="8"/>
                    </a:cubicBezTo>
                    <a:lnTo>
                      <a:pt x="18341" y="8"/>
                    </a:lnTo>
                    <a:cubicBezTo>
                      <a:pt x="18339" y="8"/>
                      <a:pt x="18339" y="7"/>
                      <a:pt x="18339" y="6"/>
                    </a:cubicBezTo>
                    <a:cubicBezTo>
                      <a:pt x="18339" y="5"/>
                      <a:pt x="18339" y="4"/>
                      <a:pt x="18341" y="4"/>
                    </a:cubicBezTo>
                    <a:close/>
                    <a:moveTo>
                      <a:pt x="18349" y="4"/>
                    </a:moveTo>
                    <a:lnTo>
                      <a:pt x="18349" y="4"/>
                    </a:lnTo>
                    <a:cubicBezTo>
                      <a:pt x="18350" y="4"/>
                      <a:pt x="18351" y="5"/>
                      <a:pt x="18351" y="6"/>
                    </a:cubicBezTo>
                    <a:cubicBezTo>
                      <a:pt x="18351" y="7"/>
                      <a:pt x="18350" y="8"/>
                      <a:pt x="18349" y="8"/>
                    </a:cubicBezTo>
                    <a:lnTo>
                      <a:pt x="18349" y="8"/>
                    </a:lnTo>
                    <a:cubicBezTo>
                      <a:pt x="18347" y="8"/>
                      <a:pt x="18347" y="7"/>
                      <a:pt x="18347" y="6"/>
                    </a:cubicBezTo>
                    <a:cubicBezTo>
                      <a:pt x="18347" y="5"/>
                      <a:pt x="18347" y="4"/>
                      <a:pt x="18349" y="4"/>
                    </a:cubicBezTo>
                    <a:close/>
                    <a:moveTo>
                      <a:pt x="18357" y="4"/>
                    </a:moveTo>
                    <a:lnTo>
                      <a:pt x="18357" y="4"/>
                    </a:lnTo>
                    <a:cubicBezTo>
                      <a:pt x="18358" y="4"/>
                      <a:pt x="18359" y="5"/>
                      <a:pt x="18359" y="6"/>
                    </a:cubicBezTo>
                    <a:cubicBezTo>
                      <a:pt x="18359" y="7"/>
                      <a:pt x="18358" y="8"/>
                      <a:pt x="18357" y="8"/>
                    </a:cubicBezTo>
                    <a:lnTo>
                      <a:pt x="18357" y="8"/>
                    </a:lnTo>
                    <a:cubicBezTo>
                      <a:pt x="18355" y="8"/>
                      <a:pt x="18355" y="7"/>
                      <a:pt x="18355" y="6"/>
                    </a:cubicBezTo>
                    <a:cubicBezTo>
                      <a:pt x="18355" y="5"/>
                      <a:pt x="18355" y="4"/>
                      <a:pt x="18357" y="4"/>
                    </a:cubicBezTo>
                    <a:close/>
                    <a:moveTo>
                      <a:pt x="18365" y="4"/>
                    </a:moveTo>
                    <a:lnTo>
                      <a:pt x="18365" y="4"/>
                    </a:lnTo>
                    <a:cubicBezTo>
                      <a:pt x="18366" y="4"/>
                      <a:pt x="18367" y="5"/>
                      <a:pt x="18367" y="6"/>
                    </a:cubicBezTo>
                    <a:cubicBezTo>
                      <a:pt x="18367" y="7"/>
                      <a:pt x="18366" y="8"/>
                      <a:pt x="18365" y="8"/>
                    </a:cubicBezTo>
                    <a:lnTo>
                      <a:pt x="18365" y="8"/>
                    </a:lnTo>
                    <a:cubicBezTo>
                      <a:pt x="18363" y="8"/>
                      <a:pt x="18363" y="7"/>
                      <a:pt x="18363" y="6"/>
                    </a:cubicBezTo>
                    <a:cubicBezTo>
                      <a:pt x="18363" y="5"/>
                      <a:pt x="18363" y="4"/>
                      <a:pt x="18365" y="4"/>
                    </a:cubicBezTo>
                    <a:close/>
                    <a:moveTo>
                      <a:pt x="18373" y="4"/>
                    </a:moveTo>
                    <a:lnTo>
                      <a:pt x="18373" y="4"/>
                    </a:lnTo>
                    <a:cubicBezTo>
                      <a:pt x="18374" y="4"/>
                      <a:pt x="18375" y="5"/>
                      <a:pt x="18375" y="6"/>
                    </a:cubicBezTo>
                    <a:cubicBezTo>
                      <a:pt x="18375" y="7"/>
                      <a:pt x="18374" y="8"/>
                      <a:pt x="18373" y="8"/>
                    </a:cubicBezTo>
                    <a:lnTo>
                      <a:pt x="18373" y="8"/>
                    </a:lnTo>
                    <a:cubicBezTo>
                      <a:pt x="18371" y="8"/>
                      <a:pt x="18371" y="7"/>
                      <a:pt x="18371" y="6"/>
                    </a:cubicBezTo>
                    <a:cubicBezTo>
                      <a:pt x="18371" y="5"/>
                      <a:pt x="18371" y="4"/>
                      <a:pt x="18373" y="4"/>
                    </a:cubicBezTo>
                    <a:close/>
                    <a:moveTo>
                      <a:pt x="18381" y="4"/>
                    </a:moveTo>
                    <a:lnTo>
                      <a:pt x="18381" y="4"/>
                    </a:lnTo>
                    <a:cubicBezTo>
                      <a:pt x="18382" y="4"/>
                      <a:pt x="18383" y="5"/>
                      <a:pt x="18383" y="6"/>
                    </a:cubicBezTo>
                    <a:cubicBezTo>
                      <a:pt x="18383" y="7"/>
                      <a:pt x="18382" y="8"/>
                      <a:pt x="18381" y="8"/>
                    </a:cubicBezTo>
                    <a:lnTo>
                      <a:pt x="18381" y="8"/>
                    </a:lnTo>
                    <a:cubicBezTo>
                      <a:pt x="18379" y="8"/>
                      <a:pt x="18379" y="7"/>
                      <a:pt x="18379" y="6"/>
                    </a:cubicBezTo>
                    <a:cubicBezTo>
                      <a:pt x="18379" y="5"/>
                      <a:pt x="18379" y="4"/>
                      <a:pt x="18381" y="4"/>
                    </a:cubicBezTo>
                    <a:close/>
                    <a:moveTo>
                      <a:pt x="18389" y="4"/>
                    </a:moveTo>
                    <a:lnTo>
                      <a:pt x="18389" y="4"/>
                    </a:lnTo>
                    <a:cubicBezTo>
                      <a:pt x="18390" y="4"/>
                      <a:pt x="18391" y="5"/>
                      <a:pt x="18391" y="6"/>
                    </a:cubicBezTo>
                    <a:cubicBezTo>
                      <a:pt x="18391" y="7"/>
                      <a:pt x="18390" y="8"/>
                      <a:pt x="18389" y="8"/>
                    </a:cubicBezTo>
                    <a:lnTo>
                      <a:pt x="18389" y="8"/>
                    </a:lnTo>
                    <a:cubicBezTo>
                      <a:pt x="18387" y="8"/>
                      <a:pt x="18387" y="7"/>
                      <a:pt x="18387" y="6"/>
                    </a:cubicBezTo>
                    <a:cubicBezTo>
                      <a:pt x="18387" y="5"/>
                      <a:pt x="18387" y="4"/>
                      <a:pt x="18389" y="4"/>
                    </a:cubicBezTo>
                    <a:close/>
                    <a:moveTo>
                      <a:pt x="18397" y="4"/>
                    </a:moveTo>
                    <a:lnTo>
                      <a:pt x="18397" y="4"/>
                    </a:lnTo>
                    <a:cubicBezTo>
                      <a:pt x="18398" y="4"/>
                      <a:pt x="18399" y="5"/>
                      <a:pt x="18399" y="6"/>
                    </a:cubicBezTo>
                    <a:cubicBezTo>
                      <a:pt x="18399" y="7"/>
                      <a:pt x="18398" y="8"/>
                      <a:pt x="18397" y="8"/>
                    </a:cubicBezTo>
                    <a:lnTo>
                      <a:pt x="18397" y="8"/>
                    </a:lnTo>
                    <a:cubicBezTo>
                      <a:pt x="18395" y="8"/>
                      <a:pt x="18395" y="7"/>
                      <a:pt x="18395" y="6"/>
                    </a:cubicBezTo>
                    <a:cubicBezTo>
                      <a:pt x="18395" y="5"/>
                      <a:pt x="18395" y="4"/>
                      <a:pt x="18397" y="4"/>
                    </a:cubicBezTo>
                    <a:close/>
                    <a:moveTo>
                      <a:pt x="18405" y="4"/>
                    </a:moveTo>
                    <a:lnTo>
                      <a:pt x="18405" y="4"/>
                    </a:lnTo>
                    <a:cubicBezTo>
                      <a:pt x="18406" y="4"/>
                      <a:pt x="18407" y="5"/>
                      <a:pt x="18407" y="6"/>
                    </a:cubicBezTo>
                    <a:cubicBezTo>
                      <a:pt x="18407" y="7"/>
                      <a:pt x="18406" y="8"/>
                      <a:pt x="18405" y="8"/>
                    </a:cubicBezTo>
                    <a:lnTo>
                      <a:pt x="18405" y="8"/>
                    </a:lnTo>
                    <a:cubicBezTo>
                      <a:pt x="18403" y="8"/>
                      <a:pt x="18403" y="7"/>
                      <a:pt x="18403" y="6"/>
                    </a:cubicBezTo>
                    <a:cubicBezTo>
                      <a:pt x="18403" y="5"/>
                      <a:pt x="18403" y="4"/>
                      <a:pt x="18405" y="4"/>
                    </a:cubicBezTo>
                    <a:close/>
                    <a:moveTo>
                      <a:pt x="18413" y="4"/>
                    </a:moveTo>
                    <a:lnTo>
                      <a:pt x="18413" y="4"/>
                    </a:lnTo>
                    <a:cubicBezTo>
                      <a:pt x="18414" y="4"/>
                      <a:pt x="18415" y="5"/>
                      <a:pt x="18415" y="6"/>
                    </a:cubicBezTo>
                    <a:cubicBezTo>
                      <a:pt x="18415" y="7"/>
                      <a:pt x="18414" y="8"/>
                      <a:pt x="18413" y="8"/>
                    </a:cubicBezTo>
                    <a:lnTo>
                      <a:pt x="18413" y="8"/>
                    </a:lnTo>
                    <a:cubicBezTo>
                      <a:pt x="18411" y="8"/>
                      <a:pt x="18411" y="7"/>
                      <a:pt x="18411" y="6"/>
                    </a:cubicBezTo>
                    <a:cubicBezTo>
                      <a:pt x="18411" y="5"/>
                      <a:pt x="18411" y="4"/>
                      <a:pt x="18413" y="4"/>
                    </a:cubicBezTo>
                    <a:close/>
                    <a:moveTo>
                      <a:pt x="18421" y="4"/>
                    </a:moveTo>
                    <a:lnTo>
                      <a:pt x="18421" y="4"/>
                    </a:lnTo>
                    <a:cubicBezTo>
                      <a:pt x="18422" y="4"/>
                      <a:pt x="18423" y="5"/>
                      <a:pt x="18423" y="6"/>
                    </a:cubicBezTo>
                    <a:cubicBezTo>
                      <a:pt x="18423" y="7"/>
                      <a:pt x="18422" y="8"/>
                      <a:pt x="18421" y="8"/>
                    </a:cubicBezTo>
                    <a:lnTo>
                      <a:pt x="18421" y="8"/>
                    </a:lnTo>
                    <a:cubicBezTo>
                      <a:pt x="18419" y="8"/>
                      <a:pt x="18419" y="7"/>
                      <a:pt x="18419" y="6"/>
                    </a:cubicBezTo>
                    <a:cubicBezTo>
                      <a:pt x="18419" y="5"/>
                      <a:pt x="18419" y="4"/>
                      <a:pt x="18421" y="4"/>
                    </a:cubicBezTo>
                    <a:close/>
                    <a:moveTo>
                      <a:pt x="18429" y="4"/>
                    </a:moveTo>
                    <a:lnTo>
                      <a:pt x="18429" y="4"/>
                    </a:lnTo>
                    <a:cubicBezTo>
                      <a:pt x="18430" y="4"/>
                      <a:pt x="18431" y="5"/>
                      <a:pt x="18431" y="6"/>
                    </a:cubicBezTo>
                    <a:cubicBezTo>
                      <a:pt x="18431" y="7"/>
                      <a:pt x="18430" y="8"/>
                      <a:pt x="18429" y="8"/>
                    </a:cubicBezTo>
                    <a:lnTo>
                      <a:pt x="18429" y="8"/>
                    </a:lnTo>
                    <a:cubicBezTo>
                      <a:pt x="18428" y="8"/>
                      <a:pt x="18427" y="7"/>
                      <a:pt x="18427" y="6"/>
                    </a:cubicBezTo>
                    <a:cubicBezTo>
                      <a:pt x="18427" y="5"/>
                      <a:pt x="18428" y="4"/>
                      <a:pt x="18429" y="4"/>
                    </a:cubicBezTo>
                    <a:close/>
                    <a:moveTo>
                      <a:pt x="18437" y="4"/>
                    </a:moveTo>
                    <a:lnTo>
                      <a:pt x="18437" y="4"/>
                    </a:lnTo>
                    <a:cubicBezTo>
                      <a:pt x="18438" y="4"/>
                      <a:pt x="18439" y="5"/>
                      <a:pt x="18439" y="6"/>
                    </a:cubicBezTo>
                    <a:cubicBezTo>
                      <a:pt x="18439" y="7"/>
                      <a:pt x="18438" y="8"/>
                      <a:pt x="18437" y="8"/>
                    </a:cubicBezTo>
                    <a:lnTo>
                      <a:pt x="18437" y="8"/>
                    </a:lnTo>
                    <a:cubicBezTo>
                      <a:pt x="18436" y="8"/>
                      <a:pt x="18435" y="7"/>
                      <a:pt x="18435" y="6"/>
                    </a:cubicBezTo>
                    <a:cubicBezTo>
                      <a:pt x="18435" y="5"/>
                      <a:pt x="18436" y="4"/>
                      <a:pt x="18437" y="4"/>
                    </a:cubicBezTo>
                    <a:close/>
                    <a:moveTo>
                      <a:pt x="18445" y="4"/>
                    </a:moveTo>
                    <a:lnTo>
                      <a:pt x="18445" y="4"/>
                    </a:lnTo>
                    <a:cubicBezTo>
                      <a:pt x="18446" y="4"/>
                      <a:pt x="18447" y="5"/>
                      <a:pt x="18447" y="6"/>
                    </a:cubicBezTo>
                    <a:cubicBezTo>
                      <a:pt x="18447" y="7"/>
                      <a:pt x="18446" y="8"/>
                      <a:pt x="18445" y="8"/>
                    </a:cubicBezTo>
                    <a:lnTo>
                      <a:pt x="18445" y="8"/>
                    </a:lnTo>
                    <a:cubicBezTo>
                      <a:pt x="18444" y="8"/>
                      <a:pt x="18443" y="7"/>
                      <a:pt x="18443" y="6"/>
                    </a:cubicBezTo>
                    <a:cubicBezTo>
                      <a:pt x="18443" y="5"/>
                      <a:pt x="18444" y="4"/>
                      <a:pt x="18445" y="4"/>
                    </a:cubicBezTo>
                    <a:close/>
                    <a:moveTo>
                      <a:pt x="18453" y="4"/>
                    </a:moveTo>
                    <a:lnTo>
                      <a:pt x="18453" y="4"/>
                    </a:lnTo>
                    <a:cubicBezTo>
                      <a:pt x="18454" y="4"/>
                      <a:pt x="18455" y="5"/>
                      <a:pt x="18455" y="6"/>
                    </a:cubicBezTo>
                    <a:cubicBezTo>
                      <a:pt x="18455" y="7"/>
                      <a:pt x="18454" y="8"/>
                      <a:pt x="18453" y="8"/>
                    </a:cubicBezTo>
                    <a:lnTo>
                      <a:pt x="18453" y="8"/>
                    </a:lnTo>
                    <a:cubicBezTo>
                      <a:pt x="18452" y="8"/>
                      <a:pt x="18451" y="7"/>
                      <a:pt x="18451" y="6"/>
                    </a:cubicBezTo>
                    <a:cubicBezTo>
                      <a:pt x="18451" y="5"/>
                      <a:pt x="18452" y="4"/>
                      <a:pt x="18453" y="4"/>
                    </a:cubicBezTo>
                    <a:close/>
                    <a:moveTo>
                      <a:pt x="18461" y="4"/>
                    </a:moveTo>
                    <a:lnTo>
                      <a:pt x="18461" y="4"/>
                    </a:lnTo>
                    <a:cubicBezTo>
                      <a:pt x="18462" y="4"/>
                      <a:pt x="18463" y="5"/>
                      <a:pt x="18463" y="6"/>
                    </a:cubicBezTo>
                    <a:cubicBezTo>
                      <a:pt x="18463" y="7"/>
                      <a:pt x="18462" y="8"/>
                      <a:pt x="18461" y="8"/>
                    </a:cubicBezTo>
                    <a:lnTo>
                      <a:pt x="18461" y="8"/>
                    </a:lnTo>
                    <a:cubicBezTo>
                      <a:pt x="18460" y="8"/>
                      <a:pt x="18459" y="7"/>
                      <a:pt x="18459" y="6"/>
                    </a:cubicBezTo>
                    <a:cubicBezTo>
                      <a:pt x="18459" y="5"/>
                      <a:pt x="18460" y="4"/>
                      <a:pt x="18461" y="4"/>
                    </a:cubicBezTo>
                    <a:close/>
                    <a:moveTo>
                      <a:pt x="18469" y="4"/>
                    </a:moveTo>
                    <a:lnTo>
                      <a:pt x="18469" y="4"/>
                    </a:lnTo>
                    <a:cubicBezTo>
                      <a:pt x="18470" y="4"/>
                      <a:pt x="18471" y="5"/>
                      <a:pt x="18471" y="6"/>
                    </a:cubicBezTo>
                    <a:cubicBezTo>
                      <a:pt x="18471" y="7"/>
                      <a:pt x="18470" y="8"/>
                      <a:pt x="18469" y="8"/>
                    </a:cubicBezTo>
                    <a:lnTo>
                      <a:pt x="18469" y="8"/>
                    </a:lnTo>
                    <a:cubicBezTo>
                      <a:pt x="18468" y="8"/>
                      <a:pt x="18467" y="7"/>
                      <a:pt x="18467" y="6"/>
                    </a:cubicBezTo>
                    <a:cubicBezTo>
                      <a:pt x="18467" y="5"/>
                      <a:pt x="18468" y="4"/>
                      <a:pt x="18469" y="4"/>
                    </a:cubicBezTo>
                    <a:close/>
                    <a:moveTo>
                      <a:pt x="18477" y="4"/>
                    </a:moveTo>
                    <a:lnTo>
                      <a:pt x="18477" y="4"/>
                    </a:lnTo>
                    <a:cubicBezTo>
                      <a:pt x="18478" y="4"/>
                      <a:pt x="18479" y="5"/>
                      <a:pt x="18479" y="6"/>
                    </a:cubicBezTo>
                    <a:cubicBezTo>
                      <a:pt x="18479" y="7"/>
                      <a:pt x="18478" y="8"/>
                      <a:pt x="18477" y="8"/>
                    </a:cubicBezTo>
                    <a:lnTo>
                      <a:pt x="18477" y="8"/>
                    </a:lnTo>
                    <a:cubicBezTo>
                      <a:pt x="18476" y="8"/>
                      <a:pt x="18475" y="7"/>
                      <a:pt x="18475" y="6"/>
                    </a:cubicBezTo>
                    <a:cubicBezTo>
                      <a:pt x="18475" y="5"/>
                      <a:pt x="18476" y="4"/>
                      <a:pt x="18477" y="4"/>
                    </a:cubicBezTo>
                    <a:close/>
                    <a:moveTo>
                      <a:pt x="18485" y="4"/>
                    </a:moveTo>
                    <a:lnTo>
                      <a:pt x="18485" y="4"/>
                    </a:lnTo>
                    <a:cubicBezTo>
                      <a:pt x="18486" y="4"/>
                      <a:pt x="18487" y="5"/>
                      <a:pt x="18487" y="6"/>
                    </a:cubicBezTo>
                    <a:cubicBezTo>
                      <a:pt x="18487" y="7"/>
                      <a:pt x="18486" y="8"/>
                      <a:pt x="18485" y="8"/>
                    </a:cubicBezTo>
                    <a:lnTo>
                      <a:pt x="18485" y="8"/>
                    </a:lnTo>
                    <a:cubicBezTo>
                      <a:pt x="18484" y="8"/>
                      <a:pt x="18483" y="7"/>
                      <a:pt x="18483" y="6"/>
                    </a:cubicBezTo>
                    <a:cubicBezTo>
                      <a:pt x="18483" y="5"/>
                      <a:pt x="18484" y="4"/>
                      <a:pt x="18485" y="4"/>
                    </a:cubicBezTo>
                    <a:close/>
                    <a:moveTo>
                      <a:pt x="18493" y="4"/>
                    </a:moveTo>
                    <a:lnTo>
                      <a:pt x="18493" y="4"/>
                    </a:lnTo>
                    <a:cubicBezTo>
                      <a:pt x="18494" y="4"/>
                      <a:pt x="18495" y="5"/>
                      <a:pt x="18495" y="6"/>
                    </a:cubicBezTo>
                    <a:cubicBezTo>
                      <a:pt x="18495" y="7"/>
                      <a:pt x="18494" y="8"/>
                      <a:pt x="18493" y="8"/>
                    </a:cubicBezTo>
                    <a:lnTo>
                      <a:pt x="18493" y="8"/>
                    </a:lnTo>
                    <a:cubicBezTo>
                      <a:pt x="18492" y="8"/>
                      <a:pt x="18491" y="7"/>
                      <a:pt x="18491" y="6"/>
                    </a:cubicBezTo>
                    <a:cubicBezTo>
                      <a:pt x="18491" y="5"/>
                      <a:pt x="18492" y="4"/>
                      <a:pt x="18493" y="4"/>
                    </a:cubicBezTo>
                    <a:close/>
                    <a:moveTo>
                      <a:pt x="18501" y="4"/>
                    </a:moveTo>
                    <a:lnTo>
                      <a:pt x="18501" y="4"/>
                    </a:lnTo>
                    <a:cubicBezTo>
                      <a:pt x="18502" y="4"/>
                      <a:pt x="18503" y="5"/>
                      <a:pt x="18503" y="6"/>
                    </a:cubicBezTo>
                    <a:cubicBezTo>
                      <a:pt x="18503" y="7"/>
                      <a:pt x="18502" y="8"/>
                      <a:pt x="18501" y="8"/>
                    </a:cubicBezTo>
                    <a:lnTo>
                      <a:pt x="18501" y="8"/>
                    </a:lnTo>
                    <a:cubicBezTo>
                      <a:pt x="18500" y="8"/>
                      <a:pt x="18499" y="7"/>
                      <a:pt x="18499" y="6"/>
                    </a:cubicBezTo>
                    <a:cubicBezTo>
                      <a:pt x="18499" y="5"/>
                      <a:pt x="18500" y="4"/>
                      <a:pt x="18501" y="4"/>
                    </a:cubicBezTo>
                    <a:close/>
                    <a:moveTo>
                      <a:pt x="18509" y="4"/>
                    </a:moveTo>
                    <a:lnTo>
                      <a:pt x="18509" y="4"/>
                    </a:lnTo>
                    <a:cubicBezTo>
                      <a:pt x="18510" y="4"/>
                      <a:pt x="18511" y="5"/>
                      <a:pt x="18511" y="6"/>
                    </a:cubicBezTo>
                    <a:cubicBezTo>
                      <a:pt x="18511" y="7"/>
                      <a:pt x="18510" y="8"/>
                      <a:pt x="18509" y="8"/>
                    </a:cubicBezTo>
                    <a:lnTo>
                      <a:pt x="18509" y="8"/>
                    </a:lnTo>
                    <a:cubicBezTo>
                      <a:pt x="18508" y="8"/>
                      <a:pt x="18507" y="7"/>
                      <a:pt x="18507" y="6"/>
                    </a:cubicBezTo>
                    <a:cubicBezTo>
                      <a:pt x="18507" y="5"/>
                      <a:pt x="18508" y="4"/>
                      <a:pt x="18509" y="4"/>
                    </a:cubicBez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563840" y="2550960"/>
                <a:ext cx="6075360" cy="2889360"/>
              </a:xfrm>
              <a:prstGeom prst="rect">
                <a:avLst/>
              </a:prstGeom>
              <a:noFill/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525680" y="5440320"/>
                <a:ext cx="58680" cy="1800"/>
              </a:xfrm>
              <a:prstGeom prst="line">
                <a:avLst/>
              </a:prstGeom>
              <a:ln cap="rnd"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525680" y="4959360"/>
                <a:ext cx="58680" cy="1440"/>
              </a:xfrm>
              <a:prstGeom prst="line">
                <a:avLst/>
              </a:prstGeom>
              <a:ln cap="rnd"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525680" y="4478400"/>
                <a:ext cx="58680" cy="1440"/>
              </a:xfrm>
              <a:prstGeom prst="line">
                <a:avLst/>
              </a:prstGeom>
              <a:ln cap="rnd"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525680" y="3984480"/>
                <a:ext cx="58680" cy="1800"/>
              </a:xfrm>
              <a:prstGeom prst="line">
                <a:avLst/>
              </a:prstGeom>
              <a:ln cap="rnd"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523880" y="3503520"/>
                <a:ext cx="60480" cy="1800"/>
              </a:xfrm>
              <a:prstGeom prst="line">
                <a:avLst/>
              </a:prstGeom>
              <a:ln cap="rnd"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523880" y="3021120"/>
                <a:ext cx="60480" cy="1440"/>
              </a:xfrm>
              <a:prstGeom prst="line">
                <a:avLst/>
              </a:prstGeom>
              <a:ln cap="rnd"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523880" y="2549520"/>
                <a:ext cx="60480" cy="1440"/>
              </a:xfrm>
              <a:prstGeom prst="line">
                <a:avLst/>
              </a:prstGeom>
              <a:ln cap="rnd"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>
                <a:off x="1584360" y="5440320"/>
                <a:ext cx="1440" cy="60480"/>
              </a:xfrm>
              <a:prstGeom prst="line">
                <a:avLst/>
              </a:prstGeom>
              <a:ln cap="rnd"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V="1">
                <a:off x="1790640" y="5440320"/>
                <a:ext cx="0" cy="60480"/>
              </a:xfrm>
              <a:prstGeom prst="line">
                <a:avLst/>
              </a:prstGeom>
              <a:ln cap="rnd"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1982880" y="5440320"/>
                <a:ext cx="1440" cy="60480"/>
              </a:xfrm>
              <a:prstGeom prst="line">
                <a:avLst/>
              </a:prstGeom>
              <a:ln cap="rnd"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V="1">
                <a:off x="2187720" y="5440320"/>
                <a:ext cx="1440" cy="60480"/>
              </a:xfrm>
              <a:prstGeom prst="line">
                <a:avLst/>
              </a:prstGeom>
              <a:ln cap="rnd"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V="1">
                <a:off x="2392200" y="5440320"/>
                <a:ext cx="1800" cy="60480"/>
              </a:xfrm>
              <a:prstGeom prst="line">
                <a:avLst/>
              </a:prstGeom>
              <a:ln cap="rnd"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V="1">
                <a:off x="2598840" y="5440320"/>
                <a:ext cx="1440" cy="60480"/>
              </a:xfrm>
              <a:prstGeom prst="line">
                <a:avLst/>
              </a:prstGeom>
              <a:ln cap="rnd"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V="1">
                <a:off x="2790720" y="5440320"/>
                <a:ext cx="1800" cy="60480"/>
              </a:xfrm>
              <a:prstGeom prst="line">
                <a:avLst/>
              </a:prstGeom>
              <a:ln cap="rnd"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V="1">
                <a:off x="2995560" y="5440320"/>
                <a:ext cx="1800" cy="60480"/>
              </a:xfrm>
              <a:prstGeom prst="line">
                <a:avLst/>
              </a:prstGeom>
              <a:ln cap="rnd"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V="1">
                <a:off x="3200400" y="5440320"/>
                <a:ext cx="1440" cy="60480"/>
              </a:xfrm>
              <a:prstGeom prst="line">
                <a:avLst/>
              </a:prstGeom>
              <a:ln cap="rnd"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3406680" y="5440320"/>
                <a:ext cx="1800" cy="60480"/>
              </a:xfrm>
              <a:prstGeom prst="line">
                <a:avLst/>
              </a:prstGeom>
              <a:ln cap="rnd"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V="1">
                <a:off x="3598920" y="5440320"/>
                <a:ext cx="1440" cy="60480"/>
              </a:xfrm>
              <a:prstGeom prst="line">
                <a:avLst/>
              </a:prstGeom>
              <a:ln cap="rnd"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V="1">
                <a:off x="3803760" y="5440320"/>
                <a:ext cx="1440" cy="60480"/>
              </a:xfrm>
              <a:prstGeom prst="line">
                <a:avLst/>
              </a:prstGeom>
              <a:ln cap="rnd"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V="1">
                <a:off x="4010040" y="5440320"/>
                <a:ext cx="0" cy="60480"/>
              </a:xfrm>
              <a:prstGeom prst="line">
                <a:avLst/>
              </a:prstGeom>
              <a:ln cap="rnd"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4214880" y="5440320"/>
                <a:ext cx="1440" cy="60480"/>
              </a:xfrm>
              <a:prstGeom prst="line">
                <a:avLst/>
              </a:prstGeom>
              <a:ln cap="rnd"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4406760" y="5440320"/>
                <a:ext cx="1800" cy="60480"/>
              </a:xfrm>
              <a:prstGeom prst="line">
                <a:avLst/>
              </a:prstGeom>
              <a:ln cap="rnd"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4611600" y="5440320"/>
                <a:ext cx="1800" cy="60480"/>
              </a:xfrm>
              <a:prstGeom prst="line">
                <a:avLst/>
              </a:prstGeom>
              <a:ln cap="rnd"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4818240" y="5440320"/>
                <a:ext cx="1440" cy="60480"/>
              </a:xfrm>
              <a:prstGeom prst="line">
                <a:avLst/>
              </a:prstGeom>
              <a:ln cap="rnd"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5010120" y="5440320"/>
                <a:ext cx="1440" cy="60480"/>
              </a:xfrm>
              <a:prstGeom prst="line">
                <a:avLst/>
              </a:prstGeom>
              <a:ln cap="rnd"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5214960" y="5440320"/>
                <a:ext cx="1440" cy="60480"/>
              </a:xfrm>
              <a:prstGeom prst="line">
                <a:avLst/>
              </a:prstGeom>
              <a:ln cap="rnd"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V="1">
                <a:off x="5419800" y="5440320"/>
                <a:ext cx="1440" cy="60480"/>
              </a:xfrm>
              <a:prstGeom prst="line">
                <a:avLst/>
              </a:prstGeom>
              <a:ln cap="rnd"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V="1">
                <a:off x="5624640" y="5440320"/>
                <a:ext cx="1440" cy="60480"/>
              </a:xfrm>
              <a:prstGeom prst="line">
                <a:avLst/>
              </a:prstGeom>
              <a:ln cap="rnd"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V="1">
                <a:off x="5816520" y="5440320"/>
                <a:ext cx="1800" cy="60480"/>
              </a:xfrm>
              <a:prstGeom prst="line">
                <a:avLst/>
              </a:prstGeom>
              <a:ln cap="rnd"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V="1">
                <a:off x="6022800" y="5440320"/>
                <a:ext cx="0" cy="60480"/>
              </a:xfrm>
              <a:prstGeom prst="line">
                <a:avLst/>
              </a:prstGeom>
              <a:ln cap="rnd"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6227640" y="5440320"/>
                <a:ext cx="1800" cy="60480"/>
              </a:xfrm>
              <a:prstGeom prst="line">
                <a:avLst/>
              </a:prstGeom>
              <a:ln cap="rnd"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V="1">
                <a:off x="6432480" y="5440320"/>
                <a:ext cx="1800" cy="60480"/>
              </a:xfrm>
              <a:prstGeom prst="line">
                <a:avLst/>
              </a:prstGeom>
              <a:ln cap="rnd"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V="1">
                <a:off x="6626160" y="5440320"/>
                <a:ext cx="0" cy="60480"/>
              </a:xfrm>
              <a:prstGeom prst="line">
                <a:avLst/>
              </a:prstGeom>
              <a:ln cap="rnd"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6831000" y="5440320"/>
                <a:ext cx="1440" cy="60480"/>
              </a:xfrm>
              <a:prstGeom prst="line">
                <a:avLst/>
              </a:prstGeom>
              <a:ln cap="rnd"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V="1">
                <a:off x="7035840" y="5440320"/>
                <a:ext cx="1440" cy="60480"/>
              </a:xfrm>
              <a:prstGeom prst="line">
                <a:avLst/>
              </a:prstGeom>
              <a:ln cap="rnd"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V="1">
                <a:off x="7240680" y="5440320"/>
                <a:ext cx="1440" cy="60480"/>
              </a:xfrm>
              <a:prstGeom prst="line">
                <a:avLst/>
              </a:prstGeom>
              <a:ln cap="rnd"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V="1">
                <a:off x="7432560" y="5440320"/>
                <a:ext cx="1800" cy="60480"/>
              </a:xfrm>
              <a:prstGeom prst="line">
                <a:avLst/>
              </a:prstGeom>
              <a:ln cap="rnd"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V="1">
                <a:off x="7639200" y="5440320"/>
                <a:ext cx="1440" cy="60480"/>
              </a:xfrm>
              <a:prstGeom prst="line">
                <a:avLst/>
              </a:prstGeom>
              <a:ln cap="rnd"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660680" y="3032280"/>
                <a:ext cx="5881680" cy="2396880"/>
              </a:xfrm>
              <a:custGeom>
                <a:avLst/>
                <a:gdLst/>
                <a:ahLst/>
                <a:rect l="l" t="t" r="r" b="b"/>
                <a:pathLst>
                  <a:path w="3705" h="1510">
                    <a:moveTo>
                      <a:pt x="0" y="989"/>
                    </a:moveTo>
                    <a:lnTo>
                      <a:pt x="129" y="861"/>
                    </a:lnTo>
                    <a:lnTo>
                      <a:pt x="259" y="906"/>
                    </a:lnTo>
                    <a:lnTo>
                      <a:pt x="389" y="951"/>
                    </a:lnTo>
                    <a:lnTo>
                      <a:pt x="511" y="921"/>
                    </a:lnTo>
                    <a:lnTo>
                      <a:pt x="640" y="951"/>
                    </a:lnTo>
                    <a:lnTo>
                      <a:pt x="770" y="672"/>
                    </a:lnTo>
                    <a:lnTo>
                      <a:pt x="899" y="695"/>
                    </a:lnTo>
                    <a:lnTo>
                      <a:pt x="1021" y="596"/>
                    </a:lnTo>
                    <a:lnTo>
                      <a:pt x="1151" y="619"/>
                    </a:lnTo>
                    <a:lnTo>
                      <a:pt x="1280" y="680"/>
                    </a:lnTo>
                    <a:lnTo>
                      <a:pt x="1402" y="755"/>
                    </a:lnTo>
                    <a:lnTo>
                      <a:pt x="1532" y="883"/>
                    </a:lnTo>
                    <a:lnTo>
                      <a:pt x="1662" y="815"/>
                    </a:lnTo>
                    <a:lnTo>
                      <a:pt x="1791" y="483"/>
                    </a:lnTo>
                    <a:lnTo>
                      <a:pt x="1913" y="581"/>
                    </a:lnTo>
                    <a:lnTo>
                      <a:pt x="2043" y="747"/>
                    </a:lnTo>
                    <a:lnTo>
                      <a:pt x="2172" y="385"/>
                    </a:lnTo>
                    <a:lnTo>
                      <a:pt x="2302" y="212"/>
                    </a:lnTo>
                    <a:lnTo>
                      <a:pt x="2424" y="0"/>
                    </a:lnTo>
                    <a:lnTo>
                      <a:pt x="2553" y="151"/>
                    </a:lnTo>
                    <a:lnTo>
                      <a:pt x="2683" y="408"/>
                    </a:lnTo>
                    <a:lnTo>
                      <a:pt x="2813" y="657"/>
                    </a:lnTo>
                    <a:lnTo>
                      <a:pt x="2935" y="808"/>
                    </a:lnTo>
                    <a:lnTo>
                      <a:pt x="3064" y="966"/>
                    </a:lnTo>
                    <a:lnTo>
                      <a:pt x="3194" y="1208"/>
                    </a:lnTo>
                    <a:lnTo>
                      <a:pt x="3316" y="1336"/>
                    </a:lnTo>
                    <a:lnTo>
                      <a:pt x="3445" y="1396"/>
                    </a:lnTo>
                    <a:lnTo>
                      <a:pt x="3575" y="1464"/>
                    </a:lnTo>
                    <a:lnTo>
                      <a:pt x="3705" y="1510"/>
                    </a:lnTo>
                  </a:path>
                </a:pathLst>
              </a:custGeom>
              <a:noFill/>
              <a:ln w="36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660680" y="3032280"/>
                <a:ext cx="5881680" cy="2360520"/>
              </a:xfrm>
              <a:custGeom>
                <a:avLst/>
                <a:gdLst/>
                <a:ahLst/>
                <a:rect l="l" t="t" r="r" b="b"/>
                <a:pathLst>
                  <a:path w="3705" h="1487">
                    <a:moveTo>
                      <a:pt x="0" y="0"/>
                    </a:moveTo>
                    <a:lnTo>
                      <a:pt x="129" y="0"/>
                    </a:lnTo>
                    <a:lnTo>
                      <a:pt x="259" y="0"/>
                    </a:lnTo>
                    <a:lnTo>
                      <a:pt x="389" y="0"/>
                    </a:lnTo>
                    <a:lnTo>
                      <a:pt x="511" y="8"/>
                    </a:lnTo>
                    <a:lnTo>
                      <a:pt x="640" y="0"/>
                    </a:lnTo>
                    <a:lnTo>
                      <a:pt x="770" y="23"/>
                    </a:lnTo>
                    <a:lnTo>
                      <a:pt x="899" y="23"/>
                    </a:lnTo>
                    <a:lnTo>
                      <a:pt x="1021" y="30"/>
                    </a:lnTo>
                    <a:lnTo>
                      <a:pt x="1151" y="8"/>
                    </a:lnTo>
                    <a:lnTo>
                      <a:pt x="1280" y="227"/>
                    </a:lnTo>
                    <a:lnTo>
                      <a:pt x="1402" y="317"/>
                    </a:lnTo>
                    <a:lnTo>
                      <a:pt x="1532" y="15"/>
                    </a:lnTo>
                    <a:lnTo>
                      <a:pt x="1662" y="234"/>
                    </a:lnTo>
                    <a:lnTo>
                      <a:pt x="1791" y="332"/>
                    </a:lnTo>
                    <a:lnTo>
                      <a:pt x="1913" y="317"/>
                    </a:lnTo>
                    <a:lnTo>
                      <a:pt x="2043" y="347"/>
                    </a:lnTo>
                    <a:lnTo>
                      <a:pt x="2172" y="325"/>
                    </a:lnTo>
                    <a:lnTo>
                      <a:pt x="2302" y="325"/>
                    </a:lnTo>
                    <a:lnTo>
                      <a:pt x="2424" y="317"/>
                    </a:lnTo>
                    <a:lnTo>
                      <a:pt x="2553" y="325"/>
                    </a:lnTo>
                    <a:lnTo>
                      <a:pt x="2683" y="332"/>
                    </a:lnTo>
                    <a:lnTo>
                      <a:pt x="2813" y="325"/>
                    </a:lnTo>
                    <a:lnTo>
                      <a:pt x="2935" y="446"/>
                    </a:lnTo>
                    <a:lnTo>
                      <a:pt x="3064" y="649"/>
                    </a:lnTo>
                    <a:lnTo>
                      <a:pt x="3194" y="755"/>
                    </a:lnTo>
                    <a:lnTo>
                      <a:pt x="3316" y="725"/>
                    </a:lnTo>
                    <a:lnTo>
                      <a:pt x="3445" y="747"/>
                    </a:lnTo>
                    <a:lnTo>
                      <a:pt x="3575" y="1480"/>
                    </a:lnTo>
                    <a:lnTo>
                      <a:pt x="3705" y="1487"/>
                    </a:lnTo>
                  </a:path>
                </a:pathLst>
              </a:custGeom>
              <a:noFill/>
              <a:ln w="36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660680" y="3032280"/>
                <a:ext cx="5881680" cy="2384280"/>
              </a:xfrm>
              <a:custGeom>
                <a:avLst/>
                <a:gdLst/>
                <a:ahLst/>
                <a:rect l="l" t="t" r="r" b="b"/>
                <a:pathLst>
                  <a:path w="3705" h="1502">
                    <a:moveTo>
                      <a:pt x="0" y="1434"/>
                    </a:moveTo>
                    <a:lnTo>
                      <a:pt x="129" y="1404"/>
                    </a:lnTo>
                    <a:lnTo>
                      <a:pt x="259" y="1389"/>
                    </a:lnTo>
                    <a:lnTo>
                      <a:pt x="389" y="1442"/>
                    </a:lnTo>
                    <a:lnTo>
                      <a:pt x="511" y="1351"/>
                    </a:lnTo>
                    <a:lnTo>
                      <a:pt x="640" y="1404"/>
                    </a:lnTo>
                    <a:lnTo>
                      <a:pt x="770" y="1374"/>
                    </a:lnTo>
                    <a:lnTo>
                      <a:pt x="899" y="1268"/>
                    </a:lnTo>
                    <a:lnTo>
                      <a:pt x="1021" y="1193"/>
                    </a:lnTo>
                    <a:lnTo>
                      <a:pt x="1151" y="1200"/>
                    </a:lnTo>
                    <a:lnTo>
                      <a:pt x="1280" y="974"/>
                    </a:lnTo>
                    <a:lnTo>
                      <a:pt x="1402" y="732"/>
                    </a:lnTo>
                    <a:lnTo>
                      <a:pt x="1532" y="1185"/>
                    </a:lnTo>
                    <a:lnTo>
                      <a:pt x="1662" y="1057"/>
                    </a:lnTo>
                    <a:lnTo>
                      <a:pt x="1791" y="830"/>
                    </a:lnTo>
                    <a:lnTo>
                      <a:pt x="1913" y="808"/>
                    </a:lnTo>
                    <a:lnTo>
                      <a:pt x="2043" y="710"/>
                    </a:lnTo>
                    <a:lnTo>
                      <a:pt x="2172" y="0"/>
                    </a:lnTo>
                    <a:lnTo>
                      <a:pt x="2302" y="1079"/>
                    </a:lnTo>
                    <a:lnTo>
                      <a:pt x="2424" y="1042"/>
                    </a:lnTo>
                    <a:lnTo>
                      <a:pt x="2553" y="815"/>
                    </a:lnTo>
                    <a:lnTo>
                      <a:pt x="2683" y="861"/>
                    </a:lnTo>
                    <a:lnTo>
                      <a:pt x="2813" y="1110"/>
                    </a:lnTo>
                    <a:lnTo>
                      <a:pt x="2935" y="1087"/>
                    </a:lnTo>
                    <a:lnTo>
                      <a:pt x="3064" y="891"/>
                    </a:lnTo>
                    <a:lnTo>
                      <a:pt x="3194" y="1170"/>
                    </a:lnTo>
                    <a:lnTo>
                      <a:pt x="3316" y="1358"/>
                    </a:lnTo>
                    <a:lnTo>
                      <a:pt x="3445" y="1411"/>
                    </a:lnTo>
                    <a:lnTo>
                      <a:pt x="3575" y="1502"/>
                    </a:lnTo>
                    <a:lnTo>
                      <a:pt x="3705" y="1502"/>
                    </a:lnTo>
                  </a:path>
                </a:pathLst>
              </a:custGeom>
              <a:noFill/>
              <a:ln w="363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429280" y="2022480"/>
                <a:ext cx="194220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Arial"/>
                  </a:rPr>
                  <a:t>Sweater Sport  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273560" y="2022480"/>
                <a:ext cx="1440" cy="36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638600" y="2022480"/>
                <a:ext cx="1800" cy="36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979960" y="2022480"/>
                <a:ext cx="1800" cy="36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365480" y="5343480"/>
                <a:ext cx="113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207800" y="4861080"/>
                <a:ext cx="2826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207800" y="4378320"/>
                <a:ext cx="2826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0.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207800" y="3884760"/>
                <a:ext cx="2826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0.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207800" y="3403440"/>
                <a:ext cx="2826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217520" y="2922480"/>
                <a:ext cx="2826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679760" y="5618160"/>
                <a:ext cx="113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629080" y="5618160"/>
                <a:ext cx="22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643560" y="5618160"/>
                <a:ext cx="22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17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645080" y="5618160"/>
                <a:ext cx="22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2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656320" y="5618160"/>
                <a:ext cx="22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27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669360" y="5618160"/>
                <a:ext cx="22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3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437640" y="5937120"/>
                <a:ext cx="2567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emana (Temporada 2002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H="1">
                <a:off x="2066400" y="3867120"/>
                <a:ext cx="181080" cy="50184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019240" y="4321080"/>
                <a:ext cx="120600" cy="144720"/>
              </a:xfrm>
              <a:custGeom>
                <a:avLst/>
                <a:gdLst/>
                <a:ahLst/>
                <a:rect l="l" t="t" r="r" b="b"/>
                <a:pathLst>
                  <a:path w="76" h="91">
                    <a:moveTo>
                      <a:pt x="0" y="0"/>
                    </a:moveTo>
                    <a:lnTo>
                      <a:pt x="8" y="91"/>
                    </a:lnTo>
                    <a:lnTo>
                      <a:pt x="76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787400" y="3624120"/>
                <a:ext cx="544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80"/>
                    </a:solidFill>
                    <a:latin typeface="Arial"/>
                  </a:rPr>
                  <a:t>Stock /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321280" y="3624120"/>
                <a:ext cx="30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80"/>
                    </a:solidFill>
                    <a:latin typeface="Arial"/>
                  </a:rPr>
                  <a:t>ma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674440" y="3624120"/>
                <a:ext cx="416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80"/>
                    </a:solidFill>
                    <a:latin typeface="Arial"/>
                  </a:rPr>
                  <a:t>Stoc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 flipV="1">
                <a:off x="3368160" y="5032440"/>
                <a:ext cx="217800" cy="21600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309840" y="4971960"/>
                <a:ext cx="144720" cy="144720"/>
              </a:xfrm>
              <a:custGeom>
                <a:avLst/>
                <a:gdLst/>
                <a:ahLst/>
                <a:rect l="l" t="t" r="r" b="b"/>
                <a:pathLst>
                  <a:path w="91" h="91">
                    <a:moveTo>
                      <a:pt x="91" y="30"/>
                    </a:moveTo>
                    <a:lnTo>
                      <a:pt x="0" y="0"/>
                    </a:lnTo>
                    <a:lnTo>
                      <a:pt x="31" y="91"/>
                    </a:lnTo>
                    <a:lnTo>
                      <a:pt x="91" y="3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2333520" y="2768760"/>
                <a:ext cx="157320" cy="1555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73400" y="2852640"/>
                <a:ext cx="144360" cy="144720"/>
              </a:xfrm>
              <a:custGeom>
                <a:avLst/>
                <a:gdLst/>
                <a:ahLst/>
                <a:rect l="l" t="t" r="r" b="b"/>
                <a:pathLst>
                  <a:path w="91" h="91">
                    <a:moveTo>
                      <a:pt x="30" y="0"/>
                    </a:moveTo>
                    <a:lnTo>
                      <a:pt x="0" y="91"/>
                    </a:lnTo>
                    <a:lnTo>
                      <a:pt x="91" y="6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634120" y="2662200"/>
                <a:ext cx="1218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Arial"/>
                  </a:rPr>
                  <a:t>Precio / P. Inici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745080" y="517680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8000"/>
                    </a:solidFill>
                    <a:latin typeface="Arial"/>
                  </a:rPr>
                  <a:t>Ventas /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359600" y="5176800"/>
                <a:ext cx="30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8000"/>
                    </a:solidFill>
                    <a:latin typeface="Arial"/>
                  </a:rPr>
                  <a:t>ma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717800" y="5176800"/>
                <a:ext cx="502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8000"/>
                    </a:solidFill>
                    <a:latin typeface="Arial"/>
                  </a:rPr>
                  <a:t>Venta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6076800" y="2627280"/>
                <a:ext cx="1536840" cy="706320"/>
                <a:chOff x="6076800" y="2627280"/>
                <a:chExt cx="1536840" cy="70632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6076800" y="2627280"/>
                  <a:ext cx="1536840" cy="706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076800" y="2627280"/>
                  <a:ext cx="1536840" cy="706320"/>
                </a:xfrm>
                <a:prstGeom prst="rect">
                  <a:avLst/>
                </a:pr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6210360" y="2638440"/>
                <a:ext cx="1351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Arial"/>
                  </a:rPr>
                  <a:t>P. Inicial = $18.99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175080" y="2843280"/>
                <a:ext cx="459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80"/>
                    </a:solidFill>
                    <a:latin typeface="Arial"/>
                  </a:rPr>
                  <a:t>Stock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625440" y="2843280"/>
                <a:ext cx="298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80"/>
                    </a:solidFill>
                    <a:latin typeface="Arial"/>
                  </a:rPr>
                  <a:t>Ma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6927480" y="2843280"/>
                <a:ext cx="430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80"/>
                    </a:solidFill>
                    <a:latin typeface="Arial"/>
                  </a:rPr>
                  <a:t>.= 5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175080" y="3046320"/>
                <a:ext cx="459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8000"/>
                    </a:solidFill>
                    <a:latin typeface="Arial"/>
                  </a:rPr>
                  <a:t>Venta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625440" y="3046320"/>
                <a:ext cx="298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8000"/>
                    </a:solidFill>
                    <a:latin typeface="Arial"/>
                  </a:rPr>
                  <a:t>Ma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929280" y="3046320"/>
                <a:ext cx="473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8000"/>
                    </a:solidFill>
                    <a:latin typeface="Arial"/>
                  </a:rPr>
                  <a:t>. = 51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1562040" y="4957920"/>
                <a:ext cx="6075360" cy="2880"/>
              </a:xfrm>
              <a:custGeom>
                <a:avLst/>
                <a:gdLst/>
                <a:ahLst/>
                <a:rect l="l" t="t" r="r" b="b"/>
                <a:pathLst>
                  <a:path w="18511" h="8">
                    <a:moveTo>
                      <a:pt x="2" y="0"/>
                    </a:moveTo>
                    <a:lnTo>
                      <a:pt x="2" y="0"/>
                    </a:lnTo>
                    <a:cubicBezTo>
                      <a:pt x="3" y="0"/>
                      <a:pt x="4" y="1"/>
                      <a:pt x="4" y="2"/>
                    </a:cubicBezTo>
                    <a:cubicBezTo>
                      <a:pt x="4" y="3"/>
                      <a:pt x="3" y="4"/>
                      <a:pt x="2" y="4"/>
                    </a:cubicBezTo>
                    <a:lnTo>
                      <a:pt x="2" y="4"/>
                    </a:lnTo>
                    <a:cubicBezTo>
                      <a:pt x="1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0"/>
                    </a:cubicBezTo>
                    <a:close/>
                    <a:moveTo>
                      <a:pt x="10" y="0"/>
                    </a:moveTo>
                    <a:lnTo>
                      <a:pt x="10" y="0"/>
                    </a:lnTo>
                    <a:cubicBezTo>
                      <a:pt x="11" y="0"/>
                      <a:pt x="12" y="1"/>
                      <a:pt x="12" y="2"/>
                    </a:cubicBezTo>
                    <a:cubicBezTo>
                      <a:pt x="12" y="3"/>
                      <a:pt x="11" y="4"/>
                      <a:pt x="10" y="4"/>
                    </a:cubicBezTo>
                    <a:lnTo>
                      <a:pt x="10" y="4"/>
                    </a:lnTo>
                    <a:cubicBezTo>
                      <a:pt x="9" y="4"/>
                      <a:pt x="8" y="3"/>
                      <a:pt x="8" y="2"/>
                    </a:cubicBezTo>
                    <a:cubicBezTo>
                      <a:pt x="8" y="1"/>
                      <a:pt x="9" y="0"/>
                      <a:pt x="10" y="0"/>
                    </a:cubicBezTo>
                    <a:close/>
                    <a:moveTo>
                      <a:pt x="18" y="0"/>
                    </a:moveTo>
                    <a:lnTo>
                      <a:pt x="18" y="0"/>
                    </a:lnTo>
                    <a:cubicBezTo>
                      <a:pt x="19" y="0"/>
                      <a:pt x="20" y="1"/>
                      <a:pt x="20" y="2"/>
                    </a:cubicBezTo>
                    <a:cubicBezTo>
                      <a:pt x="20" y="3"/>
                      <a:pt x="19" y="4"/>
                      <a:pt x="18" y="4"/>
                    </a:cubicBezTo>
                    <a:lnTo>
                      <a:pt x="18" y="4"/>
                    </a:lnTo>
                    <a:cubicBezTo>
                      <a:pt x="17" y="4"/>
                      <a:pt x="16" y="3"/>
                      <a:pt x="16" y="2"/>
                    </a:cubicBezTo>
                    <a:cubicBezTo>
                      <a:pt x="16" y="1"/>
                      <a:pt x="17" y="0"/>
                      <a:pt x="18" y="0"/>
                    </a:cubicBezTo>
                    <a:close/>
                    <a:moveTo>
                      <a:pt x="26" y="0"/>
                    </a:moveTo>
                    <a:lnTo>
                      <a:pt x="26" y="0"/>
                    </a:lnTo>
                    <a:cubicBezTo>
                      <a:pt x="27" y="0"/>
                      <a:pt x="28" y="1"/>
                      <a:pt x="28" y="2"/>
                    </a:cubicBezTo>
                    <a:cubicBezTo>
                      <a:pt x="28" y="3"/>
                      <a:pt x="27" y="4"/>
                      <a:pt x="26" y="4"/>
                    </a:cubicBezTo>
                    <a:lnTo>
                      <a:pt x="26" y="4"/>
                    </a:lnTo>
                    <a:cubicBezTo>
                      <a:pt x="25" y="4"/>
                      <a:pt x="24" y="3"/>
                      <a:pt x="24" y="2"/>
                    </a:cubicBezTo>
                    <a:cubicBezTo>
                      <a:pt x="24" y="1"/>
                      <a:pt x="25" y="0"/>
                      <a:pt x="26" y="0"/>
                    </a:cubicBezTo>
                    <a:close/>
                    <a:moveTo>
                      <a:pt x="34" y="0"/>
                    </a:moveTo>
                    <a:lnTo>
                      <a:pt x="34" y="0"/>
                    </a:lnTo>
                    <a:cubicBezTo>
                      <a:pt x="35" y="0"/>
                      <a:pt x="36" y="1"/>
                      <a:pt x="36" y="2"/>
                    </a:cubicBezTo>
                    <a:cubicBezTo>
                      <a:pt x="36" y="3"/>
                      <a:pt x="35" y="4"/>
                      <a:pt x="34" y="4"/>
                    </a:cubicBezTo>
                    <a:lnTo>
                      <a:pt x="34" y="4"/>
                    </a:lnTo>
                    <a:cubicBezTo>
                      <a:pt x="33" y="4"/>
                      <a:pt x="32" y="3"/>
                      <a:pt x="32" y="2"/>
                    </a:cubicBezTo>
                    <a:cubicBezTo>
                      <a:pt x="32" y="1"/>
                      <a:pt x="33" y="0"/>
                      <a:pt x="34" y="0"/>
                    </a:cubicBezTo>
                    <a:close/>
                    <a:moveTo>
                      <a:pt x="42" y="0"/>
                    </a:moveTo>
                    <a:lnTo>
                      <a:pt x="42" y="0"/>
                    </a:lnTo>
                    <a:cubicBezTo>
                      <a:pt x="43" y="0"/>
                      <a:pt x="44" y="1"/>
                      <a:pt x="44" y="2"/>
                    </a:cubicBezTo>
                    <a:cubicBezTo>
                      <a:pt x="44" y="3"/>
                      <a:pt x="43" y="4"/>
                      <a:pt x="42" y="4"/>
                    </a:cubicBezTo>
                    <a:lnTo>
                      <a:pt x="42" y="4"/>
                    </a:lnTo>
                    <a:cubicBezTo>
                      <a:pt x="41" y="4"/>
                      <a:pt x="40" y="3"/>
                      <a:pt x="40" y="2"/>
                    </a:cubicBezTo>
                    <a:cubicBezTo>
                      <a:pt x="40" y="1"/>
                      <a:pt x="41" y="0"/>
                      <a:pt x="42" y="0"/>
                    </a:cubicBezTo>
                    <a:close/>
                    <a:moveTo>
                      <a:pt x="50" y="0"/>
                    </a:moveTo>
                    <a:lnTo>
                      <a:pt x="50" y="0"/>
                    </a:lnTo>
                    <a:cubicBezTo>
                      <a:pt x="51" y="0"/>
                      <a:pt x="52" y="1"/>
                      <a:pt x="52" y="2"/>
                    </a:cubicBezTo>
                    <a:cubicBezTo>
                      <a:pt x="52" y="3"/>
                      <a:pt x="51" y="4"/>
                      <a:pt x="50" y="4"/>
                    </a:cubicBezTo>
                    <a:lnTo>
                      <a:pt x="50" y="4"/>
                    </a:lnTo>
                    <a:cubicBezTo>
                      <a:pt x="49" y="4"/>
                      <a:pt x="48" y="3"/>
                      <a:pt x="48" y="2"/>
                    </a:cubicBezTo>
                    <a:cubicBezTo>
                      <a:pt x="48" y="1"/>
                      <a:pt x="49" y="0"/>
                      <a:pt x="50" y="0"/>
                    </a:cubicBezTo>
                    <a:close/>
                    <a:moveTo>
                      <a:pt x="58" y="0"/>
                    </a:moveTo>
                    <a:lnTo>
                      <a:pt x="58" y="0"/>
                    </a:lnTo>
                    <a:cubicBezTo>
                      <a:pt x="59" y="0"/>
                      <a:pt x="60" y="1"/>
                      <a:pt x="60" y="2"/>
                    </a:cubicBezTo>
                    <a:cubicBezTo>
                      <a:pt x="60" y="3"/>
                      <a:pt x="59" y="4"/>
                      <a:pt x="58" y="4"/>
                    </a:cubicBezTo>
                    <a:lnTo>
                      <a:pt x="58" y="4"/>
                    </a:lnTo>
                    <a:cubicBezTo>
                      <a:pt x="57" y="4"/>
                      <a:pt x="56" y="3"/>
                      <a:pt x="56" y="2"/>
                    </a:cubicBezTo>
                    <a:cubicBezTo>
                      <a:pt x="56" y="1"/>
                      <a:pt x="57" y="0"/>
                      <a:pt x="58" y="0"/>
                    </a:cubicBezTo>
                    <a:close/>
                    <a:moveTo>
                      <a:pt x="66" y="0"/>
                    </a:moveTo>
                    <a:lnTo>
                      <a:pt x="66" y="0"/>
                    </a:lnTo>
                    <a:cubicBezTo>
                      <a:pt x="67" y="0"/>
                      <a:pt x="68" y="1"/>
                      <a:pt x="68" y="2"/>
                    </a:cubicBezTo>
                    <a:cubicBezTo>
                      <a:pt x="68" y="3"/>
                      <a:pt x="67" y="4"/>
                      <a:pt x="66" y="4"/>
                    </a:cubicBezTo>
                    <a:lnTo>
                      <a:pt x="66" y="4"/>
                    </a:lnTo>
                    <a:cubicBezTo>
                      <a:pt x="65" y="4"/>
                      <a:pt x="64" y="3"/>
                      <a:pt x="64" y="2"/>
                    </a:cubicBezTo>
                    <a:cubicBezTo>
                      <a:pt x="64" y="1"/>
                      <a:pt x="65" y="0"/>
                      <a:pt x="66" y="0"/>
                    </a:cubicBezTo>
                    <a:close/>
                    <a:moveTo>
                      <a:pt x="74" y="0"/>
                    </a:moveTo>
                    <a:lnTo>
                      <a:pt x="74" y="0"/>
                    </a:lnTo>
                    <a:cubicBezTo>
                      <a:pt x="75" y="0"/>
                      <a:pt x="76" y="1"/>
                      <a:pt x="76" y="2"/>
                    </a:cubicBezTo>
                    <a:cubicBezTo>
                      <a:pt x="76" y="3"/>
                      <a:pt x="75" y="4"/>
                      <a:pt x="74" y="4"/>
                    </a:cubicBezTo>
                    <a:lnTo>
                      <a:pt x="74" y="4"/>
                    </a:lnTo>
                    <a:cubicBezTo>
                      <a:pt x="73" y="4"/>
                      <a:pt x="72" y="3"/>
                      <a:pt x="72" y="2"/>
                    </a:cubicBezTo>
                    <a:cubicBezTo>
                      <a:pt x="72" y="1"/>
                      <a:pt x="73" y="0"/>
                      <a:pt x="74" y="0"/>
                    </a:cubicBezTo>
                    <a:close/>
                    <a:moveTo>
                      <a:pt x="82" y="0"/>
                    </a:moveTo>
                    <a:lnTo>
                      <a:pt x="82" y="0"/>
                    </a:lnTo>
                    <a:cubicBezTo>
                      <a:pt x="83" y="0"/>
                      <a:pt x="84" y="1"/>
                      <a:pt x="84" y="2"/>
                    </a:cubicBezTo>
                    <a:cubicBezTo>
                      <a:pt x="84" y="3"/>
                      <a:pt x="83" y="4"/>
                      <a:pt x="82" y="4"/>
                    </a:cubicBezTo>
                    <a:lnTo>
                      <a:pt x="82" y="4"/>
                    </a:lnTo>
                    <a:cubicBezTo>
                      <a:pt x="81" y="4"/>
                      <a:pt x="80" y="3"/>
                      <a:pt x="80" y="2"/>
                    </a:cubicBezTo>
                    <a:cubicBezTo>
                      <a:pt x="80" y="1"/>
                      <a:pt x="81" y="0"/>
                      <a:pt x="82" y="0"/>
                    </a:cubicBezTo>
                    <a:close/>
                    <a:moveTo>
                      <a:pt x="90" y="0"/>
                    </a:moveTo>
                    <a:lnTo>
                      <a:pt x="90" y="0"/>
                    </a:lnTo>
                    <a:cubicBezTo>
                      <a:pt x="91" y="0"/>
                      <a:pt x="92" y="1"/>
                      <a:pt x="92" y="2"/>
                    </a:cubicBezTo>
                    <a:cubicBezTo>
                      <a:pt x="92" y="3"/>
                      <a:pt x="91" y="4"/>
                      <a:pt x="90" y="4"/>
                    </a:cubicBezTo>
                    <a:lnTo>
                      <a:pt x="90" y="4"/>
                    </a:lnTo>
                    <a:cubicBezTo>
                      <a:pt x="89" y="4"/>
                      <a:pt x="88" y="3"/>
                      <a:pt x="88" y="2"/>
                    </a:cubicBezTo>
                    <a:cubicBezTo>
                      <a:pt x="88" y="1"/>
                      <a:pt x="89" y="0"/>
                      <a:pt x="90" y="0"/>
                    </a:cubicBezTo>
                    <a:close/>
                    <a:moveTo>
                      <a:pt x="98" y="0"/>
                    </a:moveTo>
                    <a:lnTo>
                      <a:pt x="98" y="0"/>
                    </a:lnTo>
                    <a:cubicBezTo>
                      <a:pt x="99" y="0"/>
                      <a:pt x="100" y="1"/>
                      <a:pt x="100" y="2"/>
                    </a:cubicBezTo>
                    <a:cubicBezTo>
                      <a:pt x="100" y="3"/>
                      <a:pt x="99" y="4"/>
                      <a:pt x="98" y="4"/>
                    </a:cubicBezTo>
                    <a:lnTo>
                      <a:pt x="98" y="4"/>
                    </a:lnTo>
                    <a:cubicBezTo>
                      <a:pt x="97" y="4"/>
                      <a:pt x="96" y="3"/>
                      <a:pt x="96" y="2"/>
                    </a:cubicBezTo>
                    <a:cubicBezTo>
                      <a:pt x="96" y="1"/>
                      <a:pt x="97" y="0"/>
                      <a:pt x="98" y="0"/>
                    </a:cubicBezTo>
                    <a:close/>
                    <a:moveTo>
                      <a:pt x="106" y="0"/>
                    </a:moveTo>
                    <a:lnTo>
                      <a:pt x="106" y="0"/>
                    </a:lnTo>
                    <a:cubicBezTo>
                      <a:pt x="107" y="0"/>
                      <a:pt x="108" y="1"/>
                      <a:pt x="108" y="2"/>
                    </a:cubicBezTo>
                    <a:cubicBezTo>
                      <a:pt x="108" y="3"/>
                      <a:pt x="107" y="4"/>
                      <a:pt x="106" y="4"/>
                    </a:cubicBezTo>
                    <a:lnTo>
                      <a:pt x="106" y="4"/>
                    </a:lnTo>
                    <a:cubicBezTo>
                      <a:pt x="105" y="4"/>
                      <a:pt x="104" y="3"/>
                      <a:pt x="104" y="2"/>
                    </a:cubicBezTo>
                    <a:cubicBezTo>
                      <a:pt x="104" y="1"/>
                      <a:pt x="105" y="0"/>
                      <a:pt x="106" y="0"/>
                    </a:cubicBezTo>
                    <a:close/>
                    <a:moveTo>
                      <a:pt x="114" y="0"/>
                    </a:moveTo>
                    <a:lnTo>
                      <a:pt x="114" y="0"/>
                    </a:lnTo>
                    <a:cubicBezTo>
                      <a:pt x="115" y="0"/>
                      <a:pt x="116" y="1"/>
                      <a:pt x="116" y="2"/>
                    </a:cubicBezTo>
                    <a:cubicBezTo>
                      <a:pt x="116" y="3"/>
                      <a:pt x="115" y="4"/>
                      <a:pt x="114" y="4"/>
                    </a:cubicBezTo>
                    <a:lnTo>
                      <a:pt x="114" y="4"/>
                    </a:lnTo>
                    <a:cubicBezTo>
                      <a:pt x="113" y="4"/>
                      <a:pt x="112" y="3"/>
                      <a:pt x="112" y="2"/>
                    </a:cubicBezTo>
                    <a:cubicBezTo>
                      <a:pt x="112" y="1"/>
                      <a:pt x="113" y="0"/>
                      <a:pt x="114" y="0"/>
                    </a:cubicBezTo>
                    <a:close/>
                    <a:moveTo>
                      <a:pt x="122" y="0"/>
                    </a:moveTo>
                    <a:lnTo>
                      <a:pt x="122" y="0"/>
                    </a:lnTo>
                    <a:cubicBezTo>
                      <a:pt x="123" y="0"/>
                      <a:pt x="124" y="1"/>
                      <a:pt x="124" y="2"/>
                    </a:cubicBezTo>
                    <a:cubicBezTo>
                      <a:pt x="124" y="3"/>
                      <a:pt x="123" y="4"/>
                      <a:pt x="122" y="4"/>
                    </a:cubicBezTo>
                    <a:lnTo>
                      <a:pt x="122" y="4"/>
                    </a:lnTo>
                    <a:cubicBezTo>
                      <a:pt x="121" y="4"/>
                      <a:pt x="120" y="3"/>
                      <a:pt x="120" y="2"/>
                    </a:cubicBezTo>
                    <a:cubicBezTo>
                      <a:pt x="120" y="1"/>
                      <a:pt x="121" y="0"/>
                      <a:pt x="122" y="0"/>
                    </a:cubicBezTo>
                    <a:close/>
                    <a:moveTo>
                      <a:pt x="130" y="0"/>
                    </a:moveTo>
                    <a:lnTo>
                      <a:pt x="130" y="0"/>
                    </a:lnTo>
                    <a:cubicBezTo>
                      <a:pt x="131" y="0"/>
                      <a:pt x="132" y="1"/>
                      <a:pt x="132" y="2"/>
                    </a:cubicBezTo>
                    <a:cubicBezTo>
                      <a:pt x="132" y="3"/>
                      <a:pt x="131" y="4"/>
                      <a:pt x="130" y="4"/>
                    </a:cubicBezTo>
                    <a:lnTo>
                      <a:pt x="130" y="4"/>
                    </a:lnTo>
                    <a:cubicBezTo>
                      <a:pt x="129" y="4"/>
                      <a:pt x="128" y="3"/>
                      <a:pt x="128" y="2"/>
                    </a:cubicBezTo>
                    <a:cubicBezTo>
                      <a:pt x="128" y="1"/>
                      <a:pt x="129" y="0"/>
                      <a:pt x="130" y="0"/>
                    </a:cubicBezTo>
                    <a:close/>
                    <a:moveTo>
                      <a:pt x="138" y="0"/>
                    </a:moveTo>
                    <a:lnTo>
                      <a:pt x="138" y="0"/>
                    </a:lnTo>
                    <a:cubicBezTo>
                      <a:pt x="139" y="0"/>
                      <a:pt x="140" y="1"/>
                      <a:pt x="140" y="2"/>
                    </a:cubicBezTo>
                    <a:cubicBezTo>
                      <a:pt x="140" y="3"/>
                      <a:pt x="139" y="4"/>
                      <a:pt x="138" y="4"/>
                    </a:cubicBezTo>
                    <a:lnTo>
                      <a:pt x="138" y="4"/>
                    </a:lnTo>
                    <a:cubicBezTo>
                      <a:pt x="137" y="4"/>
                      <a:pt x="136" y="3"/>
                      <a:pt x="136" y="2"/>
                    </a:cubicBezTo>
                    <a:cubicBezTo>
                      <a:pt x="136" y="1"/>
                      <a:pt x="137" y="0"/>
                      <a:pt x="138" y="0"/>
                    </a:cubicBezTo>
                    <a:close/>
                    <a:moveTo>
                      <a:pt x="146" y="0"/>
                    </a:moveTo>
                    <a:lnTo>
                      <a:pt x="146" y="0"/>
                    </a:lnTo>
                    <a:cubicBezTo>
                      <a:pt x="147" y="0"/>
                      <a:pt x="148" y="1"/>
                      <a:pt x="148" y="2"/>
                    </a:cubicBezTo>
                    <a:cubicBezTo>
                      <a:pt x="148" y="3"/>
                      <a:pt x="147" y="4"/>
                      <a:pt x="146" y="4"/>
                    </a:cubicBezTo>
                    <a:lnTo>
                      <a:pt x="146" y="4"/>
                    </a:lnTo>
                    <a:cubicBezTo>
                      <a:pt x="145" y="4"/>
                      <a:pt x="144" y="3"/>
                      <a:pt x="144" y="2"/>
                    </a:cubicBezTo>
                    <a:cubicBezTo>
                      <a:pt x="144" y="1"/>
                      <a:pt x="145" y="0"/>
                      <a:pt x="146" y="0"/>
                    </a:cubicBezTo>
                    <a:close/>
                    <a:moveTo>
                      <a:pt x="154" y="0"/>
                    </a:moveTo>
                    <a:lnTo>
                      <a:pt x="154" y="0"/>
                    </a:lnTo>
                    <a:cubicBezTo>
                      <a:pt x="155" y="0"/>
                      <a:pt x="156" y="1"/>
                      <a:pt x="156" y="2"/>
                    </a:cubicBezTo>
                    <a:cubicBezTo>
                      <a:pt x="156" y="3"/>
                      <a:pt x="155" y="4"/>
                      <a:pt x="154" y="4"/>
                    </a:cubicBezTo>
                    <a:lnTo>
                      <a:pt x="154" y="4"/>
                    </a:lnTo>
                    <a:cubicBezTo>
                      <a:pt x="153" y="4"/>
                      <a:pt x="152" y="3"/>
                      <a:pt x="152" y="2"/>
                    </a:cubicBezTo>
                    <a:cubicBezTo>
                      <a:pt x="152" y="1"/>
                      <a:pt x="153" y="0"/>
                      <a:pt x="154" y="0"/>
                    </a:cubicBezTo>
                    <a:close/>
                    <a:moveTo>
                      <a:pt x="162" y="0"/>
                    </a:moveTo>
                    <a:lnTo>
                      <a:pt x="162" y="0"/>
                    </a:lnTo>
                    <a:cubicBezTo>
                      <a:pt x="163" y="0"/>
                      <a:pt x="164" y="1"/>
                      <a:pt x="164" y="2"/>
                    </a:cubicBezTo>
                    <a:cubicBezTo>
                      <a:pt x="164" y="3"/>
                      <a:pt x="163" y="4"/>
                      <a:pt x="162" y="4"/>
                    </a:cubicBezTo>
                    <a:lnTo>
                      <a:pt x="162" y="4"/>
                    </a:lnTo>
                    <a:cubicBezTo>
                      <a:pt x="161" y="4"/>
                      <a:pt x="160" y="3"/>
                      <a:pt x="160" y="2"/>
                    </a:cubicBezTo>
                    <a:cubicBezTo>
                      <a:pt x="160" y="1"/>
                      <a:pt x="161" y="0"/>
                      <a:pt x="162" y="0"/>
                    </a:cubicBezTo>
                    <a:close/>
                    <a:moveTo>
                      <a:pt x="170" y="0"/>
                    </a:moveTo>
                    <a:lnTo>
                      <a:pt x="170" y="0"/>
                    </a:lnTo>
                    <a:cubicBezTo>
                      <a:pt x="171" y="0"/>
                      <a:pt x="172" y="1"/>
                      <a:pt x="172" y="2"/>
                    </a:cubicBezTo>
                    <a:cubicBezTo>
                      <a:pt x="172" y="3"/>
                      <a:pt x="171" y="4"/>
                      <a:pt x="170" y="4"/>
                    </a:cubicBezTo>
                    <a:lnTo>
                      <a:pt x="170" y="4"/>
                    </a:lnTo>
                    <a:cubicBezTo>
                      <a:pt x="169" y="4"/>
                      <a:pt x="168" y="3"/>
                      <a:pt x="168" y="2"/>
                    </a:cubicBezTo>
                    <a:cubicBezTo>
                      <a:pt x="168" y="1"/>
                      <a:pt x="169" y="0"/>
                      <a:pt x="170" y="0"/>
                    </a:cubicBezTo>
                    <a:close/>
                    <a:moveTo>
                      <a:pt x="178" y="0"/>
                    </a:moveTo>
                    <a:lnTo>
                      <a:pt x="178" y="0"/>
                    </a:lnTo>
                    <a:cubicBezTo>
                      <a:pt x="179" y="0"/>
                      <a:pt x="180" y="1"/>
                      <a:pt x="180" y="2"/>
                    </a:cubicBezTo>
                    <a:cubicBezTo>
                      <a:pt x="180" y="3"/>
                      <a:pt x="179" y="4"/>
                      <a:pt x="178" y="4"/>
                    </a:cubicBezTo>
                    <a:lnTo>
                      <a:pt x="178" y="4"/>
                    </a:lnTo>
                    <a:cubicBezTo>
                      <a:pt x="177" y="4"/>
                      <a:pt x="176" y="3"/>
                      <a:pt x="176" y="2"/>
                    </a:cubicBezTo>
                    <a:cubicBezTo>
                      <a:pt x="176" y="1"/>
                      <a:pt x="177" y="0"/>
                      <a:pt x="178" y="0"/>
                    </a:cubicBezTo>
                    <a:close/>
                    <a:moveTo>
                      <a:pt x="186" y="0"/>
                    </a:moveTo>
                    <a:lnTo>
                      <a:pt x="186" y="0"/>
                    </a:lnTo>
                    <a:cubicBezTo>
                      <a:pt x="187" y="0"/>
                      <a:pt x="188" y="1"/>
                      <a:pt x="188" y="2"/>
                    </a:cubicBezTo>
                    <a:cubicBezTo>
                      <a:pt x="188" y="3"/>
                      <a:pt x="187" y="4"/>
                      <a:pt x="186" y="4"/>
                    </a:cubicBezTo>
                    <a:lnTo>
                      <a:pt x="186" y="4"/>
                    </a:lnTo>
                    <a:cubicBezTo>
                      <a:pt x="185" y="4"/>
                      <a:pt x="184" y="3"/>
                      <a:pt x="184" y="2"/>
                    </a:cubicBezTo>
                    <a:cubicBezTo>
                      <a:pt x="184" y="1"/>
                      <a:pt x="185" y="0"/>
                      <a:pt x="186" y="0"/>
                    </a:cubicBezTo>
                    <a:close/>
                    <a:moveTo>
                      <a:pt x="194" y="0"/>
                    </a:moveTo>
                    <a:lnTo>
                      <a:pt x="194" y="0"/>
                    </a:lnTo>
                    <a:cubicBezTo>
                      <a:pt x="195" y="0"/>
                      <a:pt x="196" y="1"/>
                      <a:pt x="196" y="2"/>
                    </a:cubicBezTo>
                    <a:cubicBezTo>
                      <a:pt x="196" y="3"/>
                      <a:pt x="195" y="4"/>
                      <a:pt x="194" y="4"/>
                    </a:cubicBezTo>
                    <a:lnTo>
                      <a:pt x="194" y="4"/>
                    </a:lnTo>
                    <a:cubicBezTo>
                      <a:pt x="193" y="4"/>
                      <a:pt x="192" y="3"/>
                      <a:pt x="192" y="2"/>
                    </a:cubicBezTo>
                    <a:cubicBezTo>
                      <a:pt x="192" y="1"/>
                      <a:pt x="193" y="0"/>
                      <a:pt x="194" y="0"/>
                    </a:cubicBezTo>
                    <a:close/>
                    <a:moveTo>
                      <a:pt x="202" y="0"/>
                    </a:moveTo>
                    <a:lnTo>
                      <a:pt x="202" y="0"/>
                    </a:lnTo>
                    <a:cubicBezTo>
                      <a:pt x="203" y="0"/>
                      <a:pt x="204" y="1"/>
                      <a:pt x="204" y="2"/>
                    </a:cubicBezTo>
                    <a:cubicBezTo>
                      <a:pt x="204" y="3"/>
                      <a:pt x="203" y="4"/>
                      <a:pt x="202" y="4"/>
                    </a:cubicBezTo>
                    <a:lnTo>
                      <a:pt x="202" y="4"/>
                    </a:lnTo>
                    <a:cubicBezTo>
                      <a:pt x="201" y="4"/>
                      <a:pt x="200" y="3"/>
                      <a:pt x="200" y="2"/>
                    </a:cubicBezTo>
                    <a:cubicBezTo>
                      <a:pt x="200" y="1"/>
                      <a:pt x="201" y="0"/>
                      <a:pt x="202" y="0"/>
                    </a:cubicBezTo>
                    <a:close/>
                    <a:moveTo>
                      <a:pt x="210" y="0"/>
                    </a:moveTo>
                    <a:lnTo>
                      <a:pt x="210" y="0"/>
                    </a:lnTo>
                    <a:cubicBezTo>
                      <a:pt x="211" y="0"/>
                      <a:pt x="212" y="1"/>
                      <a:pt x="212" y="2"/>
                    </a:cubicBezTo>
                    <a:cubicBezTo>
                      <a:pt x="212" y="3"/>
                      <a:pt x="211" y="4"/>
                      <a:pt x="210" y="4"/>
                    </a:cubicBezTo>
                    <a:lnTo>
                      <a:pt x="210" y="4"/>
                    </a:lnTo>
                    <a:cubicBezTo>
                      <a:pt x="209" y="4"/>
                      <a:pt x="208" y="3"/>
                      <a:pt x="208" y="2"/>
                    </a:cubicBezTo>
                    <a:cubicBezTo>
                      <a:pt x="208" y="1"/>
                      <a:pt x="209" y="0"/>
                      <a:pt x="210" y="0"/>
                    </a:cubicBezTo>
                    <a:close/>
                    <a:moveTo>
                      <a:pt x="218" y="0"/>
                    </a:moveTo>
                    <a:lnTo>
                      <a:pt x="218" y="0"/>
                    </a:lnTo>
                    <a:cubicBezTo>
                      <a:pt x="219" y="0"/>
                      <a:pt x="220" y="1"/>
                      <a:pt x="220" y="2"/>
                    </a:cubicBezTo>
                    <a:cubicBezTo>
                      <a:pt x="220" y="3"/>
                      <a:pt x="219" y="4"/>
                      <a:pt x="218" y="4"/>
                    </a:cubicBezTo>
                    <a:lnTo>
                      <a:pt x="218" y="4"/>
                    </a:lnTo>
                    <a:cubicBezTo>
                      <a:pt x="217" y="4"/>
                      <a:pt x="216" y="3"/>
                      <a:pt x="216" y="2"/>
                    </a:cubicBezTo>
                    <a:cubicBezTo>
                      <a:pt x="216" y="1"/>
                      <a:pt x="217" y="0"/>
                      <a:pt x="218" y="0"/>
                    </a:cubicBezTo>
                    <a:close/>
                    <a:moveTo>
                      <a:pt x="226" y="0"/>
                    </a:moveTo>
                    <a:lnTo>
                      <a:pt x="226" y="0"/>
                    </a:lnTo>
                    <a:cubicBezTo>
                      <a:pt x="227" y="0"/>
                      <a:pt x="228" y="1"/>
                      <a:pt x="228" y="2"/>
                    </a:cubicBezTo>
                    <a:cubicBezTo>
                      <a:pt x="228" y="3"/>
                      <a:pt x="227" y="4"/>
                      <a:pt x="226" y="4"/>
                    </a:cubicBezTo>
                    <a:lnTo>
                      <a:pt x="226" y="4"/>
                    </a:lnTo>
                    <a:cubicBezTo>
                      <a:pt x="225" y="4"/>
                      <a:pt x="224" y="3"/>
                      <a:pt x="224" y="2"/>
                    </a:cubicBezTo>
                    <a:cubicBezTo>
                      <a:pt x="224" y="1"/>
                      <a:pt x="225" y="0"/>
                      <a:pt x="226" y="0"/>
                    </a:cubicBezTo>
                    <a:close/>
                    <a:moveTo>
                      <a:pt x="234" y="0"/>
                    </a:moveTo>
                    <a:lnTo>
                      <a:pt x="234" y="0"/>
                    </a:lnTo>
                    <a:cubicBezTo>
                      <a:pt x="235" y="0"/>
                      <a:pt x="236" y="1"/>
                      <a:pt x="236" y="2"/>
                    </a:cubicBezTo>
                    <a:cubicBezTo>
                      <a:pt x="236" y="3"/>
                      <a:pt x="235" y="4"/>
                      <a:pt x="234" y="4"/>
                    </a:cubicBezTo>
                    <a:lnTo>
                      <a:pt x="234" y="4"/>
                    </a:lnTo>
                    <a:cubicBezTo>
                      <a:pt x="233" y="4"/>
                      <a:pt x="232" y="3"/>
                      <a:pt x="232" y="2"/>
                    </a:cubicBezTo>
                    <a:cubicBezTo>
                      <a:pt x="232" y="1"/>
                      <a:pt x="233" y="0"/>
                      <a:pt x="234" y="0"/>
                    </a:cubicBezTo>
                    <a:close/>
                    <a:moveTo>
                      <a:pt x="242" y="0"/>
                    </a:moveTo>
                    <a:lnTo>
                      <a:pt x="242" y="0"/>
                    </a:lnTo>
                    <a:cubicBezTo>
                      <a:pt x="243" y="0"/>
                      <a:pt x="244" y="1"/>
                      <a:pt x="244" y="2"/>
                    </a:cubicBezTo>
                    <a:cubicBezTo>
                      <a:pt x="244" y="3"/>
                      <a:pt x="243" y="4"/>
                      <a:pt x="242" y="4"/>
                    </a:cubicBezTo>
                    <a:lnTo>
                      <a:pt x="242" y="4"/>
                    </a:lnTo>
                    <a:cubicBezTo>
                      <a:pt x="241" y="4"/>
                      <a:pt x="240" y="3"/>
                      <a:pt x="240" y="2"/>
                    </a:cubicBezTo>
                    <a:cubicBezTo>
                      <a:pt x="240" y="1"/>
                      <a:pt x="241" y="0"/>
                      <a:pt x="242" y="0"/>
                    </a:cubicBezTo>
                    <a:close/>
                    <a:moveTo>
                      <a:pt x="250" y="0"/>
                    </a:moveTo>
                    <a:lnTo>
                      <a:pt x="250" y="0"/>
                    </a:lnTo>
                    <a:cubicBezTo>
                      <a:pt x="251" y="0"/>
                      <a:pt x="252" y="1"/>
                      <a:pt x="252" y="2"/>
                    </a:cubicBezTo>
                    <a:cubicBezTo>
                      <a:pt x="252" y="3"/>
                      <a:pt x="251" y="4"/>
                      <a:pt x="250" y="4"/>
                    </a:cubicBezTo>
                    <a:lnTo>
                      <a:pt x="250" y="4"/>
                    </a:lnTo>
                    <a:cubicBezTo>
                      <a:pt x="249" y="4"/>
                      <a:pt x="248" y="3"/>
                      <a:pt x="248" y="2"/>
                    </a:cubicBezTo>
                    <a:cubicBezTo>
                      <a:pt x="248" y="1"/>
                      <a:pt x="249" y="0"/>
                      <a:pt x="250" y="0"/>
                    </a:cubicBezTo>
                    <a:close/>
                    <a:moveTo>
                      <a:pt x="258" y="0"/>
                    </a:moveTo>
                    <a:lnTo>
                      <a:pt x="258" y="0"/>
                    </a:lnTo>
                    <a:cubicBezTo>
                      <a:pt x="259" y="0"/>
                      <a:pt x="260" y="1"/>
                      <a:pt x="260" y="2"/>
                    </a:cubicBezTo>
                    <a:cubicBezTo>
                      <a:pt x="260" y="3"/>
                      <a:pt x="259" y="4"/>
                      <a:pt x="258" y="4"/>
                    </a:cubicBezTo>
                    <a:lnTo>
                      <a:pt x="258" y="4"/>
                    </a:lnTo>
                    <a:cubicBezTo>
                      <a:pt x="257" y="4"/>
                      <a:pt x="256" y="3"/>
                      <a:pt x="256" y="2"/>
                    </a:cubicBezTo>
                    <a:cubicBezTo>
                      <a:pt x="256" y="1"/>
                      <a:pt x="257" y="0"/>
                      <a:pt x="258" y="0"/>
                    </a:cubicBezTo>
                    <a:close/>
                    <a:moveTo>
                      <a:pt x="266" y="0"/>
                    </a:moveTo>
                    <a:lnTo>
                      <a:pt x="266" y="0"/>
                    </a:lnTo>
                    <a:cubicBezTo>
                      <a:pt x="267" y="0"/>
                      <a:pt x="268" y="1"/>
                      <a:pt x="268" y="2"/>
                    </a:cubicBezTo>
                    <a:cubicBezTo>
                      <a:pt x="268" y="3"/>
                      <a:pt x="267" y="4"/>
                      <a:pt x="266" y="4"/>
                    </a:cubicBezTo>
                    <a:lnTo>
                      <a:pt x="266" y="4"/>
                    </a:lnTo>
                    <a:cubicBezTo>
                      <a:pt x="265" y="4"/>
                      <a:pt x="264" y="3"/>
                      <a:pt x="264" y="2"/>
                    </a:cubicBezTo>
                    <a:cubicBezTo>
                      <a:pt x="264" y="1"/>
                      <a:pt x="265" y="0"/>
                      <a:pt x="266" y="0"/>
                    </a:cubicBezTo>
                    <a:close/>
                    <a:moveTo>
                      <a:pt x="274" y="0"/>
                    </a:moveTo>
                    <a:lnTo>
                      <a:pt x="274" y="0"/>
                    </a:lnTo>
                    <a:cubicBezTo>
                      <a:pt x="275" y="0"/>
                      <a:pt x="276" y="1"/>
                      <a:pt x="276" y="2"/>
                    </a:cubicBezTo>
                    <a:cubicBezTo>
                      <a:pt x="276" y="3"/>
                      <a:pt x="275" y="4"/>
                      <a:pt x="274" y="4"/>
                    </a:cubicBezTo>
                    <a:lnTo>
                      <a:pt x="274" y="4"/>
                    </a:lnTo>
                    <a:cubicBezTo>
                      <a:pt x="273" y="4"/>
                      <a:pt x="272" y="3"/>
                      <a:pt x="272" y="2"/>
                    </a:cubicBezTo>
                    <a:cubicBezTo>
                      <a:pt x="272" y="1"/>
                      <a:pt x="273" y="0"/>
                      <a:pt x="274" y="0"/>
                    </a:cubicBezTo>
                    <a:close/>
                    <a:moveTo>
                      <a:pt x="282" y="0"/>
                    </a:moveTo>
                    <a:lnTo>
                      <a:pt x="282" y="0"/>
                    </a:lnTo>
                    <a:cubicBezTo>
                      <a:pt x="283" y="0"/>
                      <a:pt x="284" y="1"/>
                      <a:pt x="284" y="2"/>
                    </a:cubicBezTo>
                    <a:cubicBezTo>
                      <a:pt x="284" y="3"/>
                      <a:pt x="283" y="4"/>
                      <a:pt x="282" y="4"/>
                    </a:cubicBezTo>
                    <a:lnTo>
                      <a:pt x="282" y="4"/>
                    </a:lnTo>
                    <a:cubicBezTo>
                      <a:pt x="281" y="4"/>
                      <a:pt x="280" y="3"/>
                      <a:pt x="280" y="2"/>
                    </a:cubicBezTo>
                    <a:cubicBezTo>
                      <a:pt x="280" y="1"/>
                      <a:pt x="281" y="0"/>
                      <a:pt x="282" y="0"/>
                    </a:cubicBezTo>
                    <a:close/>
                    <a:moveTo>
                      <a:pt x="290" y="0"/>
                    </a:moveTo>
                    <a:lnTo>
                      <a:pt x="290" y="0"/>
                    </a:lnTo>
                    <a:cubicBezTo>
                      <a:pt x="291" y="0"/>
                      <a:pt x="292" y="1"/>
                      <a:pt x="292" y="2"/>
                    </a:cubicBezTo>
                    <a:cubicBezTo>
                      <a:pt x="292" y="3"/>
                      <a:pt x="291" y="4"/>
                      <a:pt x="290" y="4"/>
                    </a:cubicBezTo>
                    <a:lnTo>
                      <a:pt x="290" y="4"/>
                    </a:lnTo>
                    <a:cubicBezTo>
                      <a:pt x="289" y="4"/>
                      <a:pt x="288" y="3"/>
                      <a:pt x="288" y="2"/>
                    </a:cubicBezTo>
                    <a:cubicBezTo>
                      <a:pt x="288" y="1"/>
                      <a:pt x="289" y="0"/>
                      <a:pt x="290" y="0"/>
                    </a:cubicBezTo>
                    <a:close/>
                    <a:moveTo>
                      <a:pt x="298" y="0"/>
                    </a:moveTo>
                    <a:lnTo>
                      <a:pt x="298" y="0"/>
                    </a:lnTo>
                    <a:cubicBezTo>
                      <a:pt x="299" y="0"/>
                      <a:pt x="300" y="1"/>
                      <a:pt x="300" y="2"/>
                    </a:cubicBezTo>
                    <a:cubicBezTo>
                      <a:pt x="300" y="3"/>
                      <a:pt x="299" y="4"/>
                      <a:pt x="298" y="4"/>
                    </a:cubicBezTo>
                    <a:lnTo>
                      <a:pt x="298" y="4"/>
                    </a:lnTo>
                    <a:cubicBezTo>
                      <a:pt x="297" y="4"/>
                      <a:pt x="296" y="3"/>
                      <a:pt x="296" y="2"/>
                    </a:cubicBezTo>
                    <a:cubicBezTo>
                      <a:pt x="296" y="1"/>
                      <a:pt x="297" y="0"/>
                      <a:pt x="298" y="0"/>
                    </a:cubicBezTo>
                    <a:close/>
                    <a:moveTo>
                      <a:pt x="306" y="0"/>
                    </a:moveTo>
                    <a:lnTo>
                      <a:pt x="306" y="0"/>
                    </a:lnTo>
                    <a:cubicBezTo>
                      <a:pt x="307" y="0"/>
                      <a:pt x="308" y="1"/>
                      <a:pt x="308" y="2"/>
                    </a:cubicBezTo>
                    <a:cubicBezTo>
                      <a:pt x="308" y="3"/>
                      <a:pt x="307" y="4"/>
                      <a:pt x="306" y="4"/>
                    </a:cubicBezTo>
                    <a:lnTo>
                      <a:pt x="306" y="4"/>
                    </a:lnTo>
                    <a:cubicBezTo>
                      <a:pt x="305" y="4"/>
                      <a:pt x="304" y="3"/>
                      <a:pt x="304" y="2"/>
                    </a:cubicBezTo>
                    <a:cubicBezTo>
                      <a:pt x="304" y="1"/>
                      <a:pt x="305" y="0"/>
                      <a:pt x="306" y="0"/>
                    </a:cubicBezTo>
                    <a:close/>
                    <a:moveTo>
                      <a:pt x="314" y="0"/>
                    </a:moveTo>
                    <a:lnTo>
                      <a:pt x="314" y="0"/>
                    </a:lnTo>
                    <a:cubicBezTo>
                      <a:pt x="315" y="0"/>
                      <a:pt x="316" y="1"/>
                      <a:pt x="316" y="2"/>
                    </a:cubicBezTo>
                    <a:cubicBezTo>
                      <a:pt x="316" y="3"/>
                      <a:pt x="315" y="4"/>
                      <a:pt x="314" y="4"/>
                    </a:cubicBezTo>
                    <a:lnTo>
                      <a:pt x="314" y="4"/>
                    </a:lnTo>
                    <a:cubicBezTo>
                      <a:pt x="313" y="4"/>
                      <a:pt x="312" y="3"/>
                      <a:pt x="312" y="2"/>
                    </a:cubicBezTo>
                    <a:cubicBezTo>
                      <a:pt x="312" y="1"/>
                      <a:pt x="313" y="0"/>
                      <a:pt x="314" y="0"/>
                    </a:cubicBezTo>
                    <a:close/>
                    <a:moveTo>
                      <a:pt x="322" y="0"/>
                    </a:moveTo>
                    <a:lnTo>
                      <a:pt x="322" y="0"/>
                    </a:lnTo>
                    <a:cubicBezTo>
                      <a:pt x="323" y="0"/>
                      <a:pt x="324" y="1"/>
                      <a:pt x="324" y="2"/>
                    </a:cubicBezTo>
                    <a:cubicBezTo>
                      <a:pt x="324" y="3"/>
                      <a:pt x="323" y="4"/>
                      <a:pt x="322" y="4"/>
                    </a:cubicBezTo>
                    <a:lnTo>
                      <a:pt x="322" y="4"/>
                    </a:lnTo>
                    <a:cubicBezTo>
                      <a:pt x="321" y="4"/>
                      <a:pt x="320" y="3"/>
                      <a:pt x="320" y="2"/>
                    </a:cubicBezTo>
                    <a:cubicBezTo>
                      <a:pt x="320" y="1"/>
                      <a:pt x="321" y="0"/>
                      <a:pt x="322" y="0"/>
                    </a:cubicBezTo>
                    <a:close/>
                    <a:moveTo>
                      <a:pt x="330" y="0"/>
                    </a:moveTo>
                    <a:lnTo>
                      <a:pt x="330" y="0"/>
                    </a:lnTo>
                    <a:cubicBezTo>
                      <a:pt x="331" y="0"/>
                      <a:pt x="332" y="1"/>
                      <a:pt x="332" y="2"/>
                    </a:cubicBezTo>
                    <a:cubicBezTo>
                      <a:pt x="332" y="3"/>
                      <a:pt x="331" y="4"/>
                      <a:pt x="330" y="4"/>
                    </a:cubicBezTo>
                    <a:lnTo>
                      <a:pt x="330" y="4"/>
                    </a:lnTo>
                    <a:cubicBezTo>
                      <a:pt x="329" y="4"/>
                      <a:pt x="328" y="3"/>
                      <a:pt x="328" y="2"/>
                    </a:cubicBezTo>
                    <a:cubicBezTo>
                      <a:pt x="328" y="1"/>
                      <a:pt x="329" y="0"/>
                      <a:pt x="330" y="0"/>
                    </a:cubicBezTo>
                    <a:close/>
                    <a:moveTo>
                      <a:pt x="338" y="0"/>
                    </a:moveTo>
                    <a:lnTo>
                      <a:pt x="338" y="0"/>
                    </a:lnTo>
                    <a:cubicBezTo>
                      <a:pt x="339" y="0"/>
                      <a:pt x="340" y="1"/>
                      <a:pt x="340" y="2"/>
                    </a:cubicBezTo>
                    <a:cubicBezTo>
                      <a:pt x="340" y="3"/>
                      <a:pt x="339" y="4"/>
                      <a:pt x="338" y="4"/>
                    </a:cubicBezTo>
                    <a:lnTo>
                      <a:pt x="338" y="4"/>
                    </a:lnTo>
                    <a:cubicBezTo>
                      <a:pt x="337" y="4"/>
                      <a:pt x="336" y="3"/>
                      <a:pt x="336" y="2"/>
                    </a:cubicBezTo>
                    <a:cubicBezTo>
                      <a:pt x="336" y="1"/>
                      <a:pt x="337" y="0"/>
                      <a:pt x="338" y="0"/>
                    </a:cubicBezTo>
                    <a:close/>
                    <a:moveTo>
                      <a:pt x="346" y="0"/>
                    </a:moveTo>
                    <a:lnTo>
                      <a:pt x="346" y="0"/>
                    </a:lnTo>
                    <a:cubicBezTo>
                      <a:pt x="347" y="0"/>
                      <a:pt x="348" y="1"/>
                      <a:pt x="348" y="2"/>
                    </a:cubicBezTo>
                    <a:cubicBezTo>
                      <a:pt x="348" y="3"/>
                      <a:pt x="347" y="4"/>
                      <a:pt x="346" y="4"/>
                    </a:cubicBezTo>
                    <a:lnTo>
                      <a:pt x="346" y="4"/>
                    </a:lnTo>
                    <a:cubicBezTo>
                      <a:pt x="345" y="4"/>
                      <a:pt x="344" y="3"/>
                      <a:pt x="344" y="2"/>
                    </a:cubicBezTo>
                    <a:cubicBezTo>
                      <a:pt x="344" y="1"/>
                      <a:pt x="345" y="0"/>
                      <a:pt x="346" y="0"/>
                    </a:cubicBezTo>
                    <a:close/>
                    <a:moveTo>
                      <a:pt x="354" y="0"/>
                    </a:moveTo>
                    <a:lnTo>
                      <a:pt x="354" y="0"/>
                    </a:lnTo>
                    <a:cubicBezTo>
                      <a:pt x="355" y="0"/>
                      <a:pt x="356" y="1"/>
                      <a:pt x="356" y="2"/>
                    </a:cubicBezTo>
                    <a:cubicBezTo>
                      <a:pt x="356" y="3"/>
                      <a:pt x="355" y="4"/>
                      <a:pt x="354" y="4"/>
                    </a:cubicBezTo>
                    <a:lnTo>
                      <a:pt x="354" y="4"/>
                    </a:lnTo>
                    <a:cubicBezTo>
                      <a:pt x="353" y="4"/>
                      <a:pt x="352" y="3"/>
                      <a:pt x="352" y="2"/>
                    </a:cubicBezTo>
                    <a:cubicBezTo>
                      <a:pt x="352" y="1"/>
                      <a:pt x="353" y="0"/>
                      <a:pt x="354" y="0"/>
                    </a:cubicBezTo>
                    <a:close/>
                    <a:moveTo>
                      <a:pt x="362" y="0"/>
                    </a:moveTo>
                    <a:lnTo>
                      <a:pt x="362" y="0"/>
                    </a:lnTo>
                    <a:cubicBezTo>
                      <a:pt x="363" y="0"/>
                      <a:pt x="364" y="1"/>
                      <a:pt x="364" y="2"/>
                    </a:cubicBezTo>
                    <a:cubicBezTo>
                      <a:pt x="364" y="3"/>
                      <a:pt x="363" y="4"/>
                      <a:pt x="362" y="4"/>
                    </a:cubicBezTo>
                    <a:lnTo>
                      <a:pt x="362" y="4"/>
                    </a:lnTo>
                    <a:cubicBezTo>
                      <a:pt x="361" y="4"/>
                      <a:pt x="360" y="3"/>
                      <a:pt x="360" y="2"/>
                    </a:cubicBezTo>
                    <a:cubicBezTo>
                      <a:pt x="360" y="1"/>
                      <a:pt x="361" y="0"/>
                      <a:pt x="362" y="0"/>
                    </a:cubicBezTo>
                    <a:close/>
                    <a:moveTo>
                      <a:pt x="370" y="0"/>
                    </a:moveTo>
                    <a:lnTo>
                      <a:pt x="370" y="0"/>
                    </a:lnTo>
                    <a:cubicBezTo>
                      <a:pt x="371" y="0"/>
                      <a:pt x="372" y="1"/>
                      <a:pt x="372" y="2"/>
                    </a:cubicBezTo>
                    <a:cubicBezTo>
                      <a:pt x="372" y="3"/>
                      <a:pt x="371" y="4"/>
                      <a:pt x="370" y="4"/>
                    </a:cubicBezTo>
                    <a:lnTo>
                      <a:pt x="370" y="4"/>
                    </a:lnTo>
                    <a:cubicBezTo>
                      <a:pt x="369" y="4"/>
                      <a:pt x="368" y="3"/>
                      <a:pt x="368" y="2"/>
                    </a:cubicBezTo>
                    <a:cubicBezTo>
                      <a:pt x="368" y="1"/>
                      <a:pt x="369" y="0"/>
                      <a:pt x="370" y="0"/>
                    </a:cubicBezTo>
                    <a:close/>
                    <a:moveTo>
                      <a:pt x="378" y="0"/>
                    </a:moveTo>
                    <a:lnTo>
                      <a:pt x="378" y="0"/>
                    </a:lnTo>
                    <a:cubicBezTo>
                      <a:pt x="379" y="0"/>
                      <a:pt x="380" y="1"/>
                      <a:pt x="380" y="2"/>
                    </a:cubicBezTo>
                    <a:cubicBezTo>
                      <a:pt x="380" y="3"/>
                      <a:pt x="379" y="4"/>
                      <a:pt x="378" y="4"/>
                    </a:cubicBezTo>
                    <a:lnTo>
                      <a:pt x="378" y="4"/>
                    </a:lnTo>
                    <a:cubicBezTo>
                      <a:pt x="377" y="4"/>
                      <a:pt x="376" y="3"/>
                      <a:pt x="376" y="2"/>
                    </a:cubicBezTo>
                    <a:cubicBezTo>
                      <a:pt x="376" y="1"/>
                      <a:pt x="377" y="0"/>
                      <a:pt x="378" y="0"/>
                    </a:cubicBezTo>
                    <a:close/>
                    <a:moveTo>
                      <a:pt x="386" y="0"/>
                    </a:moveTo>
                    <a:lnTo>
                      <a:pt x="386" y="0"/>
                    </a:lnTo>
                    <a:cubicBezTo>
                      <a:pt x="387" y="0"/>
                      <a:pt x="388" y="1"/>
                      <a:pt x="388" y="2"/>
                    </a:cubicBezTo>
                    <a:cubicBezTo>
                      <a:pt x="388" y="3"/>
                      <a:pt x="387" y="4"/>
                      <a:pt x="386" y="4"/>
                    </a:cubicBezTo>
                    <a:lnTo>
                      <a:pt x="386" y="4"/>
                    </a:lnTo>
                    <a:cubicBezTo>
                      <a:pt x="385" y="4"/>
                      <a:pt x="384" y="3"/>
                      <a:pt x="384" y="2"/>
                    </a:cubicBezTo>
                    <a:cubicBezTo>
                      <a:pt x="384" y="1"/>
                      <a:pt x="385" y="0"/>
                      <a:pt x="386" y="0"/>
                    </a:cubicBezTo>
                    <a:close/>
                    <a:moveTo>
                      <a:pt x="394" y="0"/>
                    </a:moveTo>
                    <a:lnTo>
                      <a:pt x="394" y="0"/>
                    </a:lnTo>
                    <a:cubicBezTo>
                      <a:pt x="395" y="0"/>
                      <a:pt x="396" y="1"/>
                      <a:pt x="396" y="2"/>
                    </a:cubicBezTo>
                    <a:cubicBezTo>
                      <a:pt x="396" y="3"/>
                      <a:pt x="395" y="4"/>
                      <a:pt x="394" y="4"/>
                    </a:cubicBezTo>
                    <a:lnTo>
                      <a:pt x="394" y="4"/>
                    </a:lnTo>
                    <a:cubicBezTo>
                      <a:pt x="393" y="4"/>
                      <a:pt x="392" y="3"/>
                      <a:pt x="392" y="2"/>
                    </a:cubicBezTo>
                    <a:cubicBezTo>
                      <a:pt x="392" y="1"/>
                      <a:pt x="393" y="0"/>
                      <a:pt x="394" y="0"/>
                    </a:cubicBezTo>
                    <a:close/>
                    <a:moveTo>
                      <a:pt x="402" y="0"/>
                    </a:moveTo>
                    <a:lnTo>
                      <a:pt x="402" y="0"/>
                    </a:lnTo>
                    <a:cubicBezTo>
                      <a:pt x="403" y="0"/>
                      <a:pt x="404" y="1"/>
                      <a:pt x="404" y="2"/>
                    </a:cubicBezTo>
                    <a:cubicBezTo>
                      <a:pt x="404" y="3"/>
                      <a:pt x="403" y="4"/>
                      <a:pt x="402" y="4"/>
                    </a:cubicBezTo>
                    <a:lnTo>
                      <a:pt x="402" y="4"/>
                    </a:lnTo>
                    <a:cubicBezTo>
                      <a:pt x="401" y="4"/>
                      <a:pt x="400" y="3"/>
                      <a:pt x="400" y="2"/>
                    </a:cubicBezTo>
                    <a:cubicBezTo>
                      <a:pt x="400" y="1"/>
                      <a:pt x="401" y="0"/>
                      <a:pt x="402" y="0"/>
                    </a:cubicBezTo>
                    <a:close/>
                    <a:moveTo>
                      <a:pt x="410" y="0"/>
                    </a:moveTo>
                    <a:lnTo>
                      <a:pt x="410" y="0"/>
                    </a:lnTo>
                    <a:cubicBezTo>
                      <a:pt x="411" y="0"/>
                      <a:pt x="412" y="1"/>
                      <a:pt x="412" y="2"/>
                    </a:cubicBezTo>
                    <a:cubicBezTo>
                      <a:pt x="412" y="3"/>
                      <a:pt x="411" y="4"/>
                      <a:pt x="410" y="4"/>
                    </a:cubicBezTo>
                    <a:lnTo>
                      <a:pt x="410" y="4"/>
                    </a:lnTo>
                    <a:cubicBezTo>
                      <a:pt x="409" y="4"/>
                      <a:pt x="408" y="3"/>
                      <a:pt x="408" y="2"/>
                    </a:cubicBezTo>
                    <a:cubicBezTo>
                      <a:pt x="408" y="1"/>
                      <a:pt x="409" y="0"/>
                      <a:pt x="410" y="0"/>
                    </a:cubicBezTo>
                    <a:close/>
                    <a:moveTo>
                      <a:pt x="418" y="0"/>
                    </a:moveTo>
                    <a:lnTo>
                      <a:pt x="418" y="0"/>
                    </a:lnTo>
                    <a:cubicBezTo>
                      <a:pt x="419" y="0"/>
                      <a:pt x="420" y="1"/>
                      <a:pt x="420" y="2"/>
                    </a:cubicBezTo>
                    <a:cubicBezTo>
                      <a:pt x="420" y="3"/>
                      <a:pt x="419" y="4"/>
                      <a:pt x="418" y="4"/>
                    </a:cubicBezTo>
                    <a:lnTo>
                      <a:pt x="418" y="4"/>
                    </a:lnTo>
                    <a:cubicBezTo>
                      <a:pt x="417" y="4"/>
                      <a:pt x="416" y="3"/>
                      <a:pt x="416" y="2"/>
                    </a:cubicBezTo>
                    <a:cubicBezTo>
                      <a:pt x="416" y="1"/>
                      <a:pt x="417" y="0"/>
                      <a:pt x="418" y="0"/>
                    </a:cubicBezTo>
                    <a:close/>
                    <a:moveTo>
                      <a:pt x="426" y="0"/>
                    </a:moveTo>
                    <a:lnTo>
                      <a:pt x="426" y="0"/>
                    </a:lnTo>
                    <a:cubicBezTo>
                      <a:pt x="427" y="0"/>
                      <a:pt x="428" y="1"/>
                      <a:pt x="428" y="2"/>
                    </a:cubicBezTo>
                    <a:cubicBezTo>
                      <a:pt x="428" y="3"/>
                      <a:pt x="427" y="4"/>
                      <a:pt x="426" y="4"/>
                    </a:cubicBezTo>
                    <a:lnTo>
                      <a:pt x="426" y="4"/>
                    </a:lnTo>
                    <a:cubicBezTo>
                      <a:pt x="425" y="4"/>
                      <a:pt x="424" y="3"/>
                      <a:pt x="424" y="2"/>
                    </a:cubicBezTo>
                    <a:cubicBezTo>
                      <a:pt x="424" y="1"/>
                      <a:pt x="425" y="0"/>
                      <a:pt x="426" y="0"/>
                    </a:cubicBezTo>
                    <a:close/>
                    <a:moveTo>
                      <a:pt x="434" y="0"/>
                    </a:moveTo>
                    <a:lnTo>
                      <a:pt x="434" y="0"/>
                    </a:lnTo>
                    <a:cubicBezTo>
                      <a:pt x="435" y="0"/>
                      <a:pt x="436" y="1"/>
                      <a:pt x="436" y="2"/>
                    </a:cubicBezTo>
                    <a:cubicBezTo>
                      <a:pt x="436" y="3"/>
                      <a:pt x="435" y="4"/>
                      <a:pt x="434" y="4"/>
                    </a:cubicBezTo>
                    <a:lnTo>
                      <a:pt x="434" y="4"/>
                    </a:lnTo>
                    <a:cubicBezTo>
                      <a:pt x="433" y="4"/>
                      <a:pt x="432" y="3"/>
                      <a:pt x="432" y="2"/>
                    </a:cubicBezTo>
                    <a:cubicBezTo>
                      <a:pt x="432" y="1"/>
                      <a:pt x="433" y="0"/>
                      <a:pt x="434" y="0"/>
                    </a:cubicBezTo>
                    <a:close/>
                    <a:moveTo>
                      <a:pt x="442" y="0"/>
                    </a:moveTo>
                    <a:lnTo>
                      <a:pt x="442" y="0"/>
                    </a:lnTo>
                    <a:cubicBezTo>
                      <a:pt x="443" y="0"/>
                      <a:pt x="444" y="1"/>
                      <a:pt x="444" y="2"/>
                    </a:cubicBezTo>
                    <a:cubicBezTo>
                      <a:pt x="444" y="3"/>
                      <a:pt x="443" y="4"/>
                      <a:pt x="442" y="4"/>
                    </a:cubicBezTo>
                    <a:lnTo>
                      <a:pt x="442" y="4"/>
                    </a:lnTo>
                    <a:cubicBezTo>
                      <a:pt x="441" y="4"/>
                      <a:pt x="440" y="3"/>
                      <a:pt x="440" y="2"/>
                    </a:cubicBezTo>
                    <a:cubicBezTo>
                      <a:pt x="440" y="1"/>
                      <a:pt x="441" y="0"/>
                      <a:pt x="442" y="0"/>
                    </a:cubicBezTo>
                    <a:close/>
                    <a:moveTo>
                      <a:pt x="450" y="0"/>
                    </a:moveTo>
                    <a:lnTo>
                      <a:pt x="450" y="0"/>
                    </a:lnTo>
                    <a:cubicBezTo>
                      <a:pt x="451" y="0"/>
                      <a:pt x="452" y="1"/>
                      <a:pt x="452" y="2"/>
                    </a:cubicBezTo>
                    <a:cubicBezTo>
                      <a:pt x="452" y="3"/>
                      <a:pt x="451" y="4"/>
                      <a:pt x="450" y="4"/>
                    </a:cubicBezTo>
                    <a:lnTo>
                      <a:pt x="450" y="4"/>
                    </a:lnTo>
                    <a:cubicBezTo>
                      <a:pt x="449" y="4"/>
                      <a:pt x="448" y="3"/>
                      <a:pt x="448" y="2"/>
                    </a:cubicBezTo>
                    <a:cubicBezTo>
                      <a:pt x="448" y="1"/>
                      <a:pt x="449" y="0"/>
                      <a:pt x="450" y="0"/>
                    </a:cubicBezTo>
                    <a:close/>
                    <a:moveTo>
                      <a:pt x="458" y="0"/>
                    </a:moveTo>
                    <a:lnTo>
                      <a:pt x="458" y="0"/>
                    </a:lnTo>
                    <a:cubicBezTo>
                      <a:pt x="459" y="0"/>
                      <a:pt x="460" y="1"/>
                      <a:pt x="460" y="2"/>
                    </a:cubicBezTo>
                    <a:cubicBezTo>
                      <a:pt x="460" y="3"/>
                      <a:pt x="459" y="4"/>
                      <a:pt x="458" y="4"/>
                    </a:cubicBezTo>
                    <a:lnTo>
                      <a:pt x="458" y="4"/>
                    </a:lnTo>
                    <a:cubicBezTo>
                      <a:pt x="457" y="4"/>
                      <a:pt x="456" y="3"/>
                      <a:pt x="456" y="2"/>
                    </a:cubicBezTo>
                    <a:cubicBezTo>
                      <a:pt x="456" y="1"/>
                      <a:pt x="457" y="0"/>
                      <a:pt x="458" y="0"/>
                    </a:cubicBezTo>
                    <a:close/>
                    <a:moveTo>
                      <a:pt x="466" y="0"/>
                    </a:moveTo>
                    <a:lnTo>
                      <a:pt x="466" y="0"/>
                    </a:lnTo>
                    <a:cubicBezTo>
                      <a:pt x="467" y="0"/>
                      <a:pt x="468" y="1"/>
                      <a:pt x="468" y="2"/>
                    </a:cubicBezTo>
                    <a:cubicBezTo>
                      <a:pt x="468" y="3"/>
                      <a:pt x="467" y="4"/>
                      <a:pt x="466" y="4"/>
                    </a:cubicBezTo>
                    <a:lnTo>
                      <a:pt x="466" y="4"/>
                    </a:lnTo>
                    <a:cubicBezTo>
                      <a:pt x="465" y="4"/>
                      <a:pt x="464" y="3"/>
                      <a:pt x="464" y="2"/>
                    </a:cubicBezTo>
                    <a:cubicBezTo>
                      <a:pt x="464" y="1"/>
                      <a:pt x="465" y="0"/>
                      <a:pt x="466" y="0"/>
                    </a:cubicBezTo>
                    <a:close/>
                    <a:moveTo>
                      <a:pt x="474" y="0"/>
                    </a:moveTo>
                    <a:lnTo>
                      <a:pt x="474" y="0"/>
                    </a:lnTo>
                    <a:cubicBezTo>
                      <a:pt x="475" y="0"/>
                      <a:pt x="476" y="1"/>
                      <a:pt x="476" y="2"/>
                    </a:cubicBezTo>
                    <a:cubicBezTo>
                      <a:pt x="476" y="3"/>
                      <a:pt x="475" y="4"/>
                      <a:pt x="474" y="4"/>
                    </a:cubicBezTo>
                    <a:lnTo>
                      <a:pt x="474" y="4"/>
                    </a:lnTo>
                    <a:cubicBezTo>
                      <a:pt x="473" y="4"/>
                      <a:pt x="472" y="3"/>
                      <a:pt x="472" y="2"/>
                    </a:cubicBezTo>
                    <a:cubicBezTo>
                      <a:pt x="472" y="1"/>
                      <a:pt x="473" y="0"/>
                      <a:pt x="474" y="0"/>
                    </a:cubicBezTo>
                    <a:close/>
                    <a:moveTo>
                      <a:pt x="482" y="0"/>
                    </a:moveTo>
                    <a:lnTo>
                      <a:pt x="482" y="0"/>
                    </a:lnTo>
                    <a:cubicBezTo>
                      <a:pt x="483" y="0"/>
                      <a:pt x="484" y="1"/>
                      <a:pt x="484" y="2"/>
                    </a:cubicBezTo>
                    <a:cubicBezTo>
                      <a:pt x="484" y="3"/>
                      <a:pt x="483" y="4"/>
                      <a:pt x="482" y="4"/>
                    </a:cubicBezTo>
                    <a:lnTo>
                      <a:pt x="482" y="4"/>
                    </a:lnTo>
                    <a:cubicBezTo>
                      <a:pt x="481" y="4"/>
                      <a:pt x="480" y="3"/>
                      <a:pt x="480" y="2"/>
                    </a:cubicBezTo>
                    <a:cubicBezTo>
                      <a:pt x="480" y="1"/>
                      <a:pt x="481" y="0"/>
                      <a:pt x="482" y="0"/>
                    </a:cubicBezTo>
                    <a:close/>
                    <a:moveTo>
                      <a:pt x="490" y="0"/>
                    </a:moveTo>
                    <a:lnTo>
                      <a:pt x="490" y="0"/>
                    </a:lnTo>
                    <a:cubicBezTo>
                      <a:pt x="491" y="0"/>
                      <a:pt x="492" y="1"/>
                      <a:pt x="492" y="2"/>
                    </a:cubicBezTo>
                    <a:cubicBezTo>
                      <a:pt x="492" y="3"/>
                      <a:pt x="491" y="4"/>
                      <a:pt x="490" y="4"/>
                    </a:cubicBezTo>
                    <a:lnTo>
                      <a:pt x="490" y="4"/>
                    </a:lnTo>
                    <a:cubicBezTo>
                      <a:pt x="489" y="4"/>
                      <a:pt x="488" y="3"/>
                      <a:pt x="488" y="2"/>
                    </a:cubicBezTo>
                    <a:cubicBezTo>
                      <a:pt x="488" y="1"/>
                      <a:pt x="489" y="0"/>
                      <a:pt x="490" y="0"/>
                    </a:cubicBezTo>
                    <a:close/>
                    <a:moveTo>
                      <a:pt x="498" y="0"/>
                    </a:moveTo>
                    <a:lnTo>
                      <a:pt x="498" y="0"/>
                    </a:lnTo>
                    <a:cubicBezTo>
                      <a:pt x="499" y="0"/>
                      <a:pt x="500" y="1"/>
                      <a:pt x="500" y="2"/>
                    </a:cubicBezTo>
                    <a:cubicBezTo>
                      <a:pt x="500" y="3"/>
                      <a:pt x="499" y="4"/>
                      <a:pt x="498" y="4"/>
                    </a:cubicBezTo>
                    <a:lnTo>
                      <a:pt x="498" y="4"/>
                    </a:lnTo>
                    <a:cubicBezTo>
                      <a:pt x="497" y="4"/>
                      <a:pt x="496" y="3"/>
                      <a:pt x="496" y="2"/>
                    </a:cubicBezTo>
                    <a:cubicBezTo>
                      <a:pt x="496" y="1"/>
                      <a:pt x="497" y="0"/>
                      <a:pt x="498" y="0"/>
                    </a:cubicBezTo>
                    <a:close/>
                    <a:moveTo>
                      <a:pt x="506" y="0"/>
                    </a:moveTo>
                    <a:lnTo>
                      <a:pt x="506" y="0"/>
                    </a:lnTo>
                    <a:cubicBezTo>
                      <a:pt x="507" y="0"/>
                      <a:pt x="508" y="1"/>
                      <a:pt x="508" y="2"/>
                    </a:cubicBezTo>
                    <a:cubicBezTo>
                      <a:pt x="508" y="3"/>
                      <a:pt x="507" y="4"/>
                      <a:pt x="506" y="4"/>
                    </a:cubicBezTo>
                    <a:lnTo>
                      <a:pt x="506" y="4"/>
                    </a:lnTo>
                    <a:cubicBezTo>
                      <a:pt x="505" y="4"/>
                      <a:pt x="504" y="3"/>
                      <a:pt x="504" y="2"/>
                    </a:cubicBezTo>
                    <a:cubicBezTo>
                      <a:pt x="504" y="1"/>
                      <a:pt x="505" y="0"/>
                      <a:pt x="506" y="0"/>
                    </a:cubicBezTo>
                    <a:close/>
                    <a:moveTo>
                      <a:pt x="514" y="0"/>
                    </a:moveTo>
                    <a:lnTo>
                      <a:pt x="514" y="0"/>
                    </a:lnTo>
                    <a:cubicBezTo>
                      <a:pt x="515" y="0"/>
                      <a:pt x="516" y="1"/>
                      <a:pt x="516" y="2"/>
                    </a:cubicBezTo>
                    <a:cubicBezTo>
                      <a:pt x="516" y="3"/>
                      <a:pt x="515" y="4"/>
                      <a:pt x="514" y="4"/>
                    </a:cubicBezTo>
                    <a:lnTo>
                      <a:pt x="514" y="4"/>
                    </a:lnTo>
                    <a:cubicBezTo>
                      <a:pt x="513" y="4"/>
                      <a:pt x="512" y="3"/>
                      <a:pt x="512" y="2"/>
                    </a:cubicBezTo>
                    <a:cubicBezTo>
                      <a:pt x="512" y="1"/>
                      <a:pt x="513" y="0"/>
                      <a:pt x="514" y="0"/>
                    </a:cubicBezTo>
                    <a:close/>
                    <a:moveTo>
                      <a:pt x="522" y="0"/>
                    </a:moveTo>
                    <a:lnTo>
                      <a:pt x="522" y="0"/>
                    </a:lnTo>
                    <a:cubicBezTo>
                      <a:pt x="523" y="0"/>
                      <a:pt x="524" y="1"/>
                      <a:pt x="524" y="2"/>
                    </a:cubicBezTo>
                    <a:cubicBezTo>
                      <a:pt x="524" y="3"/>
                      <a:pt x="523" y="4"/>
                      <a:pt x="522" y="4"/>
                    </a:cubicBezTo>
                    <a:lnTo>
                      <a:pt x="522" y="4"/>
                    </a:lnTo>
                    <a:cubicBezTo>
                      <a:pt x="521" y="4"/>
                      <a:pt x="520" y="3"/>
                      <a:pt x="520" y="2"/>
                    </a:cubicBezTo>
                    <a:cubicBezTo>
                      <a:pt x="520" y="1"/>
                      <a:pt x="521" y="0"/>
                      <a:pt x="522" y="0"/>
                    </a:cubicBezTo>
                    <a:close/>
                    <a:moveTo>
                      <a:pt x="530" y="0"/>
                    </a:moveTo>
                    <a:lnTo>
                      <a:pt x="530" y="0"/>
                    </a:lnTo>
                    <a:cubicBezTo>
                      <a:pt x="531" y="0"/>
                      <a:pt x="532" y="1"/>
                      <a:pt x="532" y="2"/>
                    </a:cubicBezTo>
                    <a:cubicBezTo>
                      <a:pt x="532" y="3"/>
                      <a:pt x="531" y="4"/>
                      <a:pt x="530" y="4"/>
                    </a:cubicBezTo>
                    <a:lnTo>
                      <a:pt x="530" y="4"/>
                    </a:lnTo>
                    <a:cubicBezTo>
                      <a:pt x="529" y="4"/>
                      <a:pt x="528" y="3"/>
                      <a:pt x="528" y="2"/>
                    </a:cubicBezTo>
                    <a:cubicBezTo>
                      <a:pt x="528" y="1"/>
                      <a:pt x="529" y="0"/>
                      <a:pt x="530" y="0"/>
                    </a:cubicBezTo>
                    <a:close/>
                    <a:moveTo>
                      <a:pt x="538" y="0"/>
                    </a:moveTo>
                    <a:lnTo>
                      <a:pt x="538" y="0"/>
                    </a:lnTo>
                    <a:cubicBezTo>
                      <a:pt x="539" y="0"/>
                      <a:pt x="540" y="1"/>
                      <a:pt x="540" y="2"/>
                    </a:cubicBezTo>
                    <a:cubicBezTo>
                      <a:pt x="540" y="3"/>
                      <a:pt x="539" y="4"/>
                      <a:pt x="538" y="4"/>
                    </a:cubicBezTo>
                    <a:lnTo>
                      <a:pt x="538" y="4"/>
                    </a:lnTo>
                    <a:cubicBezTo>
                      <a:pt x="537" y="4"/>
                      <a:pt x="536" y="3"/>
                      <a:pt x="536" y="2"/>
                    </a:cubicBezTo>
                    <a:cubicBezTo>
                      <a:pt x="536" y="1"/>
                      <a:pt x="537" y="0"/>
                      <a:pt x="538" y="0"/>
                    </a:cubicBezTo>
                    <a:close/>
                    <a:moveTo>
                      <a:pt x="546" y="0"/>
                    </a:moveTo>
                    <a:lnTo>
                      <a:pt x="546" y="0"/>
                    </a:lnTo>
                    <a:cubicBezTo>
                      <a:pt x="547" y="0"/>
                      <a:pt x="548" y="1"/>
                      <a:pt x="548" y="2"/>
                    </a:cubicBezTo>
                    <a:cubicBezTo>
                      <a:pt x="548" y="3"/>
                      <a:pt x="547" y="4"/>
                      <a:pt x="546" y="4"/>
                    </a:cubicBezTo>
                    <a:lnTo>
                      <a:pt x="546" y="4"/>
                    </a:lnTo>
                    <a:cubicBezTo>
                      <a:pt x="545" y="4"/>
                      <a:pt x="544" y="3"/>
                      <a:pt x="544" y="2"/>
                    </a:cubicBezTo>
                    <a:cubicBezTo>
                      <a:pt x="544" y="1"/>
                      <a:pt x="545" y="0"/>
                      <a:pt x="546" y="0"/>
                    </a:cubicBezTo>
                    <a:close/>
                    <a:moveTo>
                      <a:pt x="554" y="0"/>
                    </a:moveTo>
                    <a:lnTo>
                      <a:pt x="554" y="0"/>
                    </a:lnTo>
                    <a:cubicBezTo>
                      <a:pt x="555" y="0"/>
                      <a:pt x="556" y="1"/>
                      <a:pt x="556" y="2"/>
                    </a:cubicBezTo>
                    <a:cubicBezTo>
                      <a:pt x="556" y="3"/>
                      <a:pt x="555" y="4"/>
                      <a:pt x="554" y="4"/>
                    </a:cubicBezTo>
                    <a:lnTo>
                      <a:pt x="554" y="4"/>
                    </a:lnTo>
                    <a:cubicBezTo>
                      <a:pt x="553" y="4"/>
                      <a:pt x="552" y="3"/>
                      <a:pt x="552" y="2"/>
                    </a:cubicBezTo>
                    <a:cubicBezTo>
                      <a:pt x="552" y="1"/>
                      <a:pt x="553" y="0"/>
                      <a:pt x="554" y="0"/>
                    </a:cubicBezTo>
                    <a:close/>
                    <a:moveTo>
                      <a:pt x="562" y="0"/>
                    </a:moveTo>
                    <a:lnTo>
                      <a:pt x="562" y="0"/>
                    </a:lnTo>
                    <a:cubicBezTo>
                      <a:pt x="563" y="0"/>
                      <a:pt x="564" y="1"/>
                      <a:pt x="564" y="2"/>
                    </a:cubicBezTo>
                    <a:cubicBezTo>
                      <a:pt x="564" y="3"/>
                      <a:pt x="563" y="4"/>
                      <a:pt x="562" y="4"/>
                    </a:cubicBezTo>
                    <a:lnTo>
                      <a:pt x="562" y="4"/>
                    </a:lnTo>
                    <a:cubicBezTo>
                      <a:pt x="561" y="4"/>
                      <a:pt x="560" y="3"/>
                      <a:pt x="560" y="2"/>
                    </a:cubicBezTo>
                    <a:cubicBezTo>
                      <a:pt x="560" y="1"/>
                      <a:pt x="561" y="0"/>
                      <a:pt x="562" y="0"/>
                    </a:cubicBezTo>
                    <a:close/>
                    <a:moveTo>
                      <a:pt x="570" y="0"/>
                    </a:moveTo>
                    <a:lnTo>
                      <a:pt x="570" y="0"/>
                    </a:lnTo>
                    <a:cubicBezTo>
                      <a:pt x="571" y="0"/>
                      <a:pt x="572" y="1"/>
                      <a:pt x="572" y="2"/>
                    </a:cubicBezTo>
                    <a:cubicBezTo>
                      <a:pt x="572" y="3"/>
                      <a:pt x="571" y="4"/>
                      <a:pt x="570" y="4"/>
                    </a:cubicBezTo>
                    <a:lnTo>
                      <a:pt x="570" y="4"/>
                    </a:lnTo>
                    <a:cubicBezTo>
                      <a:pt x="569" y="4"/>
                      <a:pt x="568" y="3"/>
                      <a:pt x="568" y="2"/>
                    </a:cubicBezTo>
                    <a:cubicBezTo>
                      <a:pt x="568" y="1"/>
                      <a:pt x="569" y="0"/>
                      <a:pt x="570" y="0"/>
                    </a:cubicBezTo>
                    <a:close/>
                    <a:moveTo>
                      <a:pt x="578" y="0"/>
                    </a:moveTo>
                    <a:lnTo>
                      <a:pt x="578" y="0"/>
                    </a:lnTo>
                    <a:cubicBezTo>
                      <a:pt x="579" y="0"/>
                      <a:pt x="580" y="1"/>
                      <a:pt x="580" y="2"/>
                    </a:cubicBezTo>
                    <a:cubicBezTo>
                      <a:pt x="580" y="3"/>
                      <a:pt x="579" y="4"/>
                      <a:pt x="578" y="4"/>
                    </a:cubicBezTo>
                    <a:lnTo>
                      <a:pt x="578" y="4"/>
                    </a:lnTo>
                    <a:cubicBezTo>
                      <a:pt x="577" y="4"/>
                      <a:pt x="576" y="3"/>
                      <a:pt x="576" y="2"/>
                    </a:cubicBezTo>
                    <a:cubicBezTo>
                      <a:pt x="576" y="1"/>
                      <a:pt x="577" y="0"/>
                      <a:pt x="578" y="0"/>
                    </a:cubicBezTo>
                    <a:close/>
                    <a:moveTo>
                      <a:pt x="586" y="0"/>
                    </a:moveTo>
                    <a:lnTo>
                      <a:pt x="586" y="0"/>
                    </a:lnTo>
                    <a:cubicBezTo>
                      <a:pt x="587" y="0"/>
                      <a:pt x="588" y="1"/>
                      <a:pt x="588" y="2"/>
                    </a:cubicBezTo>
                    <a:cubicBezTo>
                      <a:pt x="588" y="3"/>
                      <a:pt x="587" y="4"/>
                      <a:pt x="586" y="4"/>
                    </a:cubicBezTo>
                    <a:lnTo>
                      <a:pt x="586" y="4"/>
                    </a:lnTo>
                    <a:cubicBezTo>
                      <a:pt x="585" y="4"/>
                      <a:pt x="584" y="3"/>
                      <a:pt x="584" y="2"/>
                    </a:cubicBezTo>
                    <a:cubicBezTo>
                      <a:pt x="584" y="1"/>
                      <a:pt x="585" y="0"/>
                      <a:pt x="586" y="0"/>
                    </a:cubicBezTo>
                    <a:close/>
                    <a:moveTo>
                      <a:pt x="594" y="0"/>
                    </a:moveTo>
                    <a:lnTo>
                      <a:pt x="594" y="0"/>
                    </a:lnTo>
                    <a:cubicBezTo>
                      <a:pt x="595" y="0"/>
                      <a:pt x="596" y="1"/>
                      <a:pt x="596" y="2"/>
                    </a:cubicBezTo>
                    <a:cubicBezTo>
                      <a:pt x="596" y="3"/>
                      <a:pt x="595" y="4"/>
                      <a:pt x="594" y="4"/>
                    </a:cubicBezTo>
                    <a:lnTo>
                      <a:pt x="594" y="4"/>
                    </a:lnTo>
                    <a:cubicBezTo>
                      <a:pt x="593" y="4"/>
                      <a:pt x="592" y="3"/>
                      <a:pt x="592" y="2"/>
                    </a:cubicBezTo>
                    <a:cubicBezTo>
                      <a:pt x="592" y="1"/>
                      <a:pt x="593" y="0"/>
                      <a:pt x="594" y="0"/>
                    </a:cubicBezTo>
                    <a:close/>
                    <a:moveTo>
                      <a:pt x="602" y="0"/>
                    </a:moveTo>
                    <a:lnTo>
                      <a:pt x="602" y="0"/>
                    </a:lnTo>
                    <a:cubicBezTo>
                      <a:pt x="603" y="0"/>
                      <a:pt x="604" y="1"/>
                      <a:pt x="604" y="2"/>
                    </a:cubicBezTo>
                    <a:cubicBezTo>
                      <a:pt x="604" y="3"/>
                      <a:pt x="603" y="4"/>
                      <a:pt x="602" y="4"/>
                    </a:cubicBezTo>
                    <a:lnTo>
                      <a:pt x="602" y="4"/>
                    </a:lnTo>
                    <a:cubicBezTo>
                      <a:pt x="601" y="4"/>
                      <a:pt x="600" y="3"/>
                      <a:pt x="600" y="2"/>
                    </a:cubicBezTo>
                    <a:cubicBezTo>
                      <a:pt x="600" y="1"/>
                      <a:pt x="601" y="0"/>
                      <a:pt x="602" y="0"/>
                    </a:cubicBezTo>
                    <a:close/>
                    <a:moveTo>
                      <a:pt x="610" y="0"/>
                    </a:moveTo>
                    <a:lnTo>
                      <a:pt x="610" y="0"/>
                    </a:lnTo>
                    <a:cubicBezTo>
                      <a:pt x="611" y="0"/>
                      <a:pt x="612" y="1"/>
                      <a:pt x="612" y="2"/>
                    </a:cubicBezTo>
                    <a:cubicBezTo>
                      <a:pt x="612" y="3"/>
                      <a:pt x="611" y="4"/>
                      <a:pt x="610" y="4"/>
                    </a:cubicBezTo>
                    <a:lnTo>
                      <a:pt x="610" y="4"/>
                    </a:lnTo>
                    <a:cubicBezTo>
                      <a:pt x="609" y="4"/>
                      <a:pt x="608" y="3"/>
                      <a:pt x="608" y="2"/>
                    </a:cubicBezTo>
                    <a:cubicBezTo>
                      <a:pt x="608" y="1"/>
                      <a:pt x="609" y="0"/>
                      <a:pt x="610" y="0"/>
                    </a:cubicBezTo>
                    <a:close/>
                    <a:moveTo>
                      <a:pt x="618" y="0"/>
                    </a:moveTo>
                    <a:lnTo>
                      <a:pt x="618" y="0"/>
                    </a:lnTo>
                    <a:cubicBezTo>
                      <a:pt x="619" y="0"/>
                      <a:pt x="620" y="1"/>
                      <a:pt x="620" y="2"/>
                    </a:cubicBezTo>
                    <a:cubicBezTo>
                      <a:pt x="620" y="3"/>
                      <a:pt x="619" y="4"/>
                      <a:pt x="618" y="4"/>
                    </a:cubicBezTo>
                    <a:lnTo>
                      <a:pt x="618" y="4"/>
                    </a:lnTo>
                    <a:cubicBezTo>
                      <a:pt x="617" y="4"/>
                      <a:pt x="616" y="3"/>
                      <a:pt x="616" y="2"/>
                    </a:cubicBezTo>
                    <a:cubicBezTo>
                      <a:pt x="616" y="1"/>
                      <a:pt x="617" y="0"/>
                      <a:pt x="618" y="0"/>
                    </a:cubicBezTo>
                    <a:close/>
                    <a:moveTo>
                      <a:pt x="626" y="0"/>
                    </a:moveTo>
                    <a:lnTo>
                      <a:pt x="626" y="0"/>
                    </a:lnTo>
                    <a:cubicBezTo>
                      <a:pt x="627" y="0"/>
                      <a:pt x="628" y="1"/>
                      <a:pt x="628" y="2"/>
                    </a:cubicBezTo>
                    <a:cubicBezTo>
                      <a:pt x="628" y="3"/>
                      <a:pt x="627" y="4"/>
                      <a:pt x="626" y="4"/>
                    </a:cubicBezTo>
                    <a:lnTo>
                      <a:pt x="626" y="4"/>
                    </a:lnTo>
                    <a:cubicBezTo>
                      <a:pt x="625" y="4"/>
                      <a:pt x="624" y="3"/>
                      <a:pt x="624" y="2"/>
                    </a:cubicBezTo>
                    <a:cubicBezTo>
                      <a:pt x="624" y="1"/>
                      <a:pt x="625" y="0"/>
                      <a:pt x="626" y="0"/>
                    </a:cubicBezTo>
                    <a:close/>
                    <a:moveTo>
                      <a:pt x="634" y="0"/>
                    </a:moveTo>
                    <a:lnTo>
                      <a:pt x="634" y="0"/>
                    </a:lnTo>
                    <a:cubicBezTo>
                      <a:pt x="635" y="0"/>
                      <a:pt x="636" y="1"/>
                      <a:pt x="636" y="2"/>
                    </a:cubicBezTo>
                    <a:cubicBezTo>
                      <a:pt x="636" y="3"/>
                      <a:pt x="635" y="4"/>
                      <a:pt x="634" y="4"/>
                    </a:cubicBezTo>
                    <a:lnTo>
                      <a:pt x="634" y="4"/>
                    </a:lnTo>
                    <a:cubicBezTo>
                      <a:pt x="633" y="4"/>
                      <a:pt x="632" y="3"/>
                      <a:pt x="632" y="2"/>
                    </a:cubicBezTo>
                    <a:cubicBezTo>
                      <a:pt x="632" y="1"/>
                      <a:pt x="633" y="0"/>
                      <a:pt x="634" y="0"/>
                    </a:cubicBezTo>
                    <a:close/>
                    <a:moveTo>
                      <a:pt x="642" y="0"/>
                    </a:moveTo>
                    <a:lnTo>
                      <a:pt x="642" y="0"/>
                    </a:lnTo>
                    <a:cubicBezTo>
                      <a:pt x="643" y="0"/>
                      <a:pt x="644" y="1"/>
                      <a:pt x="644" y="2"/>
                    </a:cubicBezTo>
                    <a:cubicBezTo>
                      <a:pt x="644" y="3"/>
                      <a:pt x="643" y="4"/>
                      <a:pt x="642" y="4"/>
                    </a:cubicBezTo>
                    <a:lnTo>
                      <a:pt x="642" y="4"/>
                    </a:lnTo>
                    <a:cubicBezTo>
                      <a:pt x="641" y="4"/>
                      <a:pt x="640" y="3"/>
                      <a:pt x="640" y="2"/>
                    </a:cubicBezTo>
                    <a:cubicBezTo>
                      <a:pt x="640" y="1"/>
                      <a:pt x="641" y="0"/>
                      <a:pt x="642" y="0"/>
                    </a:cubicBezTo>
                    <a:close/>
                    <a:moveTo>
                      <a:pt x="650" y="0"/>
                    </a:moveTo>
                    <a:lnTo>
                      <a:pt x="650" y="0"/>
                    </a:lnTo>
                    <a:cubicBezTo>
                      <a:pt x="651" y="0"/>
                      <a:pt x="652" y="1"/>
                      <a:pt x="652" y="2"/>
                    </a:cubicBezTo>
                    <a:cubicBezTo>
                      <a:pt x="652" y="3"/>
                      <a:pt x="651" y="4"/>
                      <a:pt x="650" y="4"/>
                    </a:cubicBezTo>
                    <a:lnTo>
                      <a:pt x="650" y="4"/>
                    </a:lnTo>
                    <a:cubicBezTo>
                      <a:pt x="649" y="4"/>
                      <a:pt x="648" y="3"/>
                      <a:pt x="648" y="2"/>
                    </a:cubicBezTo>
                    <a:cubicBezTo>
                      <a:pt x="648" y="1"/>
                      <a:pt x="649" y="0"/>
                      <a:pt x="650" y="0"/>
                    </a:cubicBezTo>
                    <a:close/>
                    <a:moveTo>
                      <a:pt x="658" y="0"/>
                    </a:moveTo>
                    <a:lnTo>
                      <a:pt x="658" y="0"/>
                    </a:lnTo>
                    <a:cubicBezTo>
                      <a:pt x="659" y="0"/>
                      <a:pt x="660" y="1"/>
                      <a:pt x="660" y="2"/>
                    </a:cubicBezTo>
                    <a:cubicBezTo>
                      <a:pt x="660" y="3"/>
                      <a:pt x="659" y="4"/>
                      <a:pt x="658" y="4"/>
                    </a:cubicBezTo>
                    <a:lnTo>
                      <a:pt x="658" y="4"/>
                    </a:lnTo>
                    <a:cubicBezTo>
                      <a:pt x="657" y="4"/>
                      <a:pt x="656" y="3"/>
                      <a:pt x="656" y="2"/>
                    </a:cubicBezTo>
                    <a:cubicBezTo>
                      <a:pt x="656" y="1"/>
                      <a:pt x="657" y="0"/>
                      <a:pt x="658" y="0"/>
                    </a:cubicBezTo>
                    <a:close/>
                    <a:moveTo>
                      <a:pt x="666" y="0"/>
                    </a:moveTo>
                    <a:lnTo>
                      <a:pt x="666" y="0"/>
                    </a:lnTo>
                    <a:cubicBezTo>
                      <a:pt x="667" y="0"/>
                      <a:pt x="668" y="1"/>
                      <a:pt x="668" y="2"/>
                    </a:cubicBezTo>
                    <a:cubicBezTo>
                      <a:pt x="668" y="3"/>
                      <a:pt x="667" y="4"/>
                      <a:pt x="666" y="4"/>
                    </a:cubicBezTo>
                    <a:lnTo>
                      <a:pt x="666" y="4"/>
                    </a:lnTo>
                    <a:cubicBezTo>
                      <a:pt x="665" y="4"/>
                      <a:pt x="664" y="3"/>
                      <a:pt x="664" y="2"/>
                    </a:cubicBezTo>
                    <a:cubicBezTo>
                      <a:pt x="664" y="1"/>
                      <a:pt x="665" y="0"/>
                      <a:pt x="666" y="0"/>
                    </a:cubicBezTo>
                    <a:close/>
                    <a:moveTo>
                      <a:pt x="674" y="0"/>
                    </a:moveTo>
                    <a:lnTo>
                      <a:pt x="674" y="0"/>
                    </a:lnTo>
                    <a:cubicBezTo>
                      <a:pt x="675" y="0"/>
                      <a:pt x="676" y="1"/>
                      <a:pt x="676" y="2"/>
                    </a:cubicBezTo>
                    <a:cubicBezTo>
                      <a:pt x="676" y="3"/>
                      <a:pt x="675" y="4"/>
                      <a:pt x="674" y="4"/>
                    </a:cubicBezTo>
                    <a:lnTo>
                      <a:pt x="674" y="4"/>
                    </a:lnTo>
                    <a:cubicBezTo>
                      <a:pt x="673" y="4"/>
                      <a:pt x="672" y="3"/>
                      <a:pt x="672" y="2"/>
                    </a:cubicBezTo>
                    <a:cubicBezTo>
                      <a:pt x="672" y="1"/>
                      <a:pt x="673" y="0"/>
                      <a:pt x="674" y="0"/>
                    </a:cubicBezTo>
                    <a:close/>
                    <a:moveTo>
                      <a:pt x="682" y="0"/>
                    </a:moveTo>
                    <a:lnTo>
                      <a:pt x="682" y="0"/>
                    </a:lnTo>
                    <a:cubicBezTo>
                      <a:pt x="683" y="0"/>
                      <a:pt x="684" y="1"/>
                      <a:pt x="684" y="2"/>
                    </a:cubicBezTo>
                    <a:cubicBezTo>
                      <a:pt x="684" y="3"/>
                      <a:pt x="683" y="4"/>
                      <a:pt x="682" y="4"/>
                    </a:cubicBezTo>
                    <a:lnTo>
                      <a:pt x="682" y="4"/>
                    </a:lnTo>
                    <a:cubicBezTo>
                      <a:pt x="681" y="4"/>
                      <a:pt x="680" y="3"/>
                      <a:pt x="680" y="2"/>
                    </a:cubicBezTo>
                    <a:cubicBezTo>
                      <a:pt x="680" y="1"/>
                      <a:pt x="681" y="0"/>
                      <a:pt x="682" y="0"/>
                    </a:cubicBezTo>
                    <a:close/>
                    <a:moveTo>
                      <a:pt x="690" y="0"/>
                    </a:moveTo>
                    <a:lnTo>
                      <a:pt x="690" y="0"/>
                    </a:lnTo>
                    <a:cubicBezTo>
                      <a:pt x="691" y="0"/>
                      <a:pt x="692" y="1"/>
                      <a:pt x="692" y="2"/>
                    </a:cubicBezTo>
                    <a:cubicBezTo>
                      <a:pt x="692" y="3"/>
                      <a:pt x="691" y="4"/>
                      <a:pt x="690" y="4"/>
                    </a:cubicBezTo>
                    <a:lnTo>
                      <a:pt x="690" y="4"/>
                    </a:lnTo>
                    <a:cubicBezTo>
                      <a:pt x="689" y="4"/>
                      <a:pt x="688" y="3"/>
                      <a:pt x="688" y="2"/>
                    </a:cubicBezTo>
                    <a:cubicBezTo>
                      <a:pt x="688" y="1"/>
                      <a:pt x="689" y="0"/>
                      <a:pt x="690" y="0"/>
                    </a:cubicBezTo>
                    <a:close/>
                    <a:moveTo>
                      <a:pt x="698" y="0"/>
                    </a:moveTo>
                    <a:lnTo>
                      <a:pt x="698" y="0"/>
                    </a:lnTo>
                    <a:cubicBezTo>
                      <a:pt x="699" y="0"/>
                      <a:pt x="700" y="1"/>
                      <a:pt x="700" y="2"/>
                    </a:cubicBezTo>
                    <a:cubicBezTo>
                      <a:pt x="700" y="3"/>
                      <a:pt x="699" y="4"/>
                      <a:pt x="698" y="4"/>
                    </a:cubicBezTo>
                    <a:lnTo>
                      <a:pt x="698" y="4"/>
                    </a:lnTo>
                    <a:cubicBezTo>
                      <a:pt x="697" y="4"/>
                      <a:pt x="696" y="3"/>
                      <a:pt x="696" y="2"/>
                    </a:cubicBezTo>
                    <a:cubicBezTo>
                      <a:pt x="696" y="1"/>
                      <a:pt x="697" y="0"/>
                      <a:pt x="698" y="0"/>
                    </a:cubicBezTo>
                    <a:close/>
                    <a:moveTo>
                      <a:pt x="706" y="0"/>
                    </a:moveTo>
                    <a:lnTo>
                      <a:pt x="706" y="0"/>
                    </a:lnTo>
                    <a:cubicBezTo>
                      <a:pt x="707" y="0"/>
                      <a:pt x="708" y="1"/>
                      <a:pt x="708" y="2"/>
                    </a:cubicBezTo>
                    <a:cubicBezTo>
                      <a:pt x="708" y="3"/>
                      <a:pt x="707" y="4"/>
                      <a:pt x="706" y="4"/>
                    </a:cubicBezTo>
                    <a:lnTo>
                      <a:pt x="706" y="4"/>
                    </a:lnTo>
                    <a:cubicBezTo>
                      <a:pt x="705" y="4"/>
                      <a:pt x="704" y="3"/>
                      <a:pt x="704" y="2"/>
                    </a:cubicBezTo>
                    <a:cubicBezTo>
                      <a:pt x="704" y="1"/>
                      <a:pt x="705" y="0"/>
                      <a:pt x="706" y="0"/>
                    </a:cubicBezTo>
                    <a:close/>
                    <a:moveTo>
                      <a:pt x="714" y="0"/>
                    </a:moveTo>
                    <a:lnTo>
                      <a:pt x="714" y="0"/>
                    </a:lnTo>
                    <a:cubicBezTo>
                      <a:pt x="715" y="0"/>
                      <a:pt x="716" y="1"/>
                      <a:pt x="716" y="2"/>
                    </a:cubicBezTo>
                    <a:cubicBezTo>
                      <a:pt x="716" y="3"/>
                      <a:pt x="715" y="4"/>
                      <a:pt x="714" y="4"/>
                    </a:cubicBezTo>
                    <a:lnTo>
                      <a:pt x="714" y="4"/>
                    </a:lnTo>
                    <a:cubicBezTo>
                      <a:pt x="713" y="4"/>
                      <a:pt x="712" y="3"/>
                      <a:pt x="712" y="2"/>
                    </a:cubicBezTo>
                    <a:cubicBezTo>
                      <a:pt x="712" y="1"/>
                      <a:pt x="713" y="0"/>
                      <a:pt x="714" y="0"/>
                    </a:cubicBezTo>
                    <a:close/>
                    <a:moveTo>
                      <a:pt x="722" y="0"/>
                    </a:moveTo>
                    <a:lnTo>
                      <a:pt x="722" y="0"/>
                    </a:lnTo>
                    <a:cubicBezTo>
                      <a:pt x="723" y="0"/>
                      <a:pt x="724" y="1"/>
                      <a:pt x="724" y="2"/>
                    </a:cubicBezTo>
                    <a:cubicBezTo>
                      <a:pt x="724" y="3"/>
                      <a:pt x="723" y="4"/>
                      <a:pt x="722" y="4"/>
                    </a:cubicBezTo>
                    <a:lnTo>
                      <a:pt x="722" y="4"/>
                    </a:lnTo>
                    <a:cubicBezTo>
                      <a:pt x="721" y="4"/>
                      <a:pt x="720" y="3"/>
                      <a:pt x="720" y="2"/>
                    </a:cubicBezTo>
                    <a:cubicBezTo>
                      <a:pt x="720" y="1"/>
                      <a:pt x="721" y="0"/>
                      <a:pt x="722" y="0"/>
                    </a:cubicBezTo>
                    <a:close/>
                    <a:moveTo>
                      <a:pt x="730" y="0"/>
                    </a:moveTo>
                    <a:lnTo>
                      <a:pt x="730" y="0"/>
                    </a:lnTo>
                    <a:cubicBezTo>
                      <a:pt x="731" y="0"/>
                      <a:pt x="732" y="1"/>
                      <a:pt x="732" y="2"/>
                    </a:cubicBezTo>
                    <a:cubicBezTo>
                      <a:pt x="732" y="3"/>
                      <a:pt x="731" y="4"/>
                      <a:pt x="730" y="4"/>
                    </a:cubicBezTo>
                    <a:lnTo>
                      <a:pt x="730" y="4"/>
                    </a:lnTo>
                    <a:cubicBezTo>
                      <a:pt x="729" y="4"/>
                      <a:pt x="728" y="3"/>
                      <a:pt x="728" y="2"/>
                    </a:cubicBezTo>
                    <a:cubicBezTo>
                      <a:pt x="728" y="1"/>
                      <a:pt x="729" y="0"/>
                      <a:pt x="730" y="0"/>
                    </a:cubicBezTo>
                    <a:close/>
                    <a:moveTo>
                      <a:pt x="738" y="0"/>
                    </a:moveTo>
                    <a:lnTo>
                      <a:pt x="738" y="0"/>
                    </a:lnTo>
                    <a:cubicBezTo>
                      <a:pt x="739" y="0"/>
                      <a:pt x="740" y="1"/>
                      <a:pt x="740" y="2"/>
                    </a:cubicBezTo>
                    <a:cubicBezTo>
                      <a:pt x="740" y="3"/>
                      <a:pt x="739" y="4"/>
                      <a:pt x="738" y="4"/>
                    </a:cubicBezTo>
                    <a:lnTo>
                      <a:pt x="738" y="4"/>
                    </a:lnTo>
                    <a:cubicBezTo>
                      <a:pt x="737" y="4"/>
                      <a:pt x="736" y="3"/>
                      <a:pt x="736" y="2"/>
                    </a:cubicBezTo>
                    <a:cubicBezTo>
                      <a:pt x="736" y="1"/>
                      <a:pt x="737" y="0"/>
                      <a:pt x="738" y="0"/>
                    </a:cubicBezTo>
                    <a:close/>
                    <a:moveTo>
                      <a:pt x="746" y="0"/>
                    </a:moveTo>
                    <a:lnTo>
                      <a:pt x="746" y="0"/>
                    </a:lnTo>
                    <a:cubicBezTo>
                      <a:pt x="747" y="0"/>
                      <a:pt x="748" y="1"/>
                      <a:pt x="748" y="2"/>
                    </a:cubicBezTo>
                    <a:cubicBezTo>
                      <a:pt x="748" y="3"/>
                      <a:pt x="747" y="4"/>
                      <a:pt x="746" y="4"/>
                    </a:cubicBezTo>
                    <a:lnTo>
                      <a:pt x="746" y="4"/>
                    </a:lnTo>
                    <a:cubicBezTo>
                      <a:pt x="745" y="4"/>
                      <a:pt x="744" y="3"/>
                      <a:pt x="744" y="2"/>
                    </a:cubicBezTo>
                    <a:cubicBezTo>
                      <a:pt x="744" y="1"/>
                      <a:pt x="745" y="0"/>
                      <a:pt x="746" y="0"/>
                    </a:cubicBezTo>
                    <a:close/>
                    <a:moveTo>
                      <a:pt x="754" y="0"/>
                    </a:moveTo>
                    <a:lnTo>
                      <a:pt x="754" y="0"/>
                    </a:lnTo>
                    <a:cubicBezTo>
                      <a:pt x="755" y="0"/>
                      <a:pt x="756" y="1"/>
                      <a:pt x="756" y="2"/>
                    </a:cubicBezTo>
                    <a:cubicBezTo>
                      <a:pt x="756" y="3"/>
                      <a:pt x="755" y="4"/>
                      <a:pt x="754" y="4"/>
                    </a:cubicBezTo>
                    <a:lnTo>
                      <a:pt x="754" y="4"/>
                    </a:lnTo>
                    <a:cubicBezTo>
                      <a:pt x="753" y="4"/>
                      <a:pt x="752" y="3"/>
                      <a:pt x="752" y="2"/>
                    </a:cubicBezTo>
                    <a:cubicBezTo>
                      <a:pt x="752" y="1"/>
                      <a:pt x="753" y="0"/>
                      <a:pt x="754" y="0"/>
                    </a:cubicBezTo>
                    <a:close/>
                    <a:moveTo>
                      <a:pt x="762" y="0"/>
                    </a:moveTo>
                    <a:lnTo>
                      <a:pt x="762" y="0"/>
                    </a:lnTo>
                    <a:cubicBezTo>
                      <a:pt x="763" y="0"/>
                      <a:pt x="764" y="1"/>
                      <a:pt x="764" y="2"/>
                    </a:cubicBezTo>
                    <a:cubicBezTo>
                      <a:pt x="764" y="3"/>
                      <a:pt x="763" y="4"/>
                      <a:pt x="762" y="4"/>
                    </a:cubicBezTo>
                    <a:lnTo>
                      <a:pt x="762" y="4"/>
                    </a:lnTo>
                    <a:cubicBezTo>
                      <a:pt x="761" y="4"/>
                      <a:pt x="760" y="3"/>
                      <a:pt x="760" y="2"/>
                    </a:cubicBezTo>
                    <a:cubicBezTo>
                      <a:pt x="760" y="1"/>
                      <a:pt x="761" y="0"/>
                      <a:pt x="762" y="0"/>
                    </a:cubicBezTo>
                    <a:close/>
                    <a:moveTo>
                      <a:pt x="770" y="0"/>
                    </a:moveTo>
                    <a:lnTo>
                      <a:pt x="770" y="0"/>
                    </a:lnTo>
                    <a:cubicBezTo>
                      <a:pt x="771" y="0"/>
                      <a:pt x="772" y="1"/>
                      <a:pt x="772" y="2"/>
                    </a:cubicBezTo>
                    <a:cubicBezTo>
                      <a:pt x="772" y="3"/>
                      <a:pt x="771" y="4"/>
                      <a:pt x="770" y="4"/>
                    </a:cubicBezTo>
                    <a:lnTo>
                      <a:pt x="770" y="4"/>
                    </a:lnTo>
                    <a:cubicBezTo>
                      <a:pt x="769" y="4"/>
                      <a:pt x="768" y="3"/>
                      <a:pt x="768" y="2"/>
                    </a:cubicBezTo>
                    <a:cubicBezTo>
                      <a:pt x="768" y="1"/>
                      <a:pt x="769" y="0"/>
                      <a:pt x="770" y="0"/>
                    </a:cubicBezTo>
                    <a:close/>
                    <a:moveTo>
                      <a:pt x="778" y="0"/>
                    </a:moveTo>
                    <a:lnTo>
                      <a:pt x="778" y="0"/>
                    </a:lnTo>
                    <a:cubicBezTo>
                      <a:pt x="779" y="0"/>
                      <a:pt x="780" y="1"/>
                      <a:pt x="780" y="2"/>
                    </a:cubicBezTo>
                    <a:cubicBezTo>
                      <a:pt x="780" y="3"/>
                      <a:pt x="779" y="4"/>
                      <a:pt x="778" y="4"/>
                    </a:cubicBezTo>
                    <a:lnTo>
                      <a:pt x="778" y="4"/>
                    </a:lnTo>
                    <a:cubicBezTo>
                      <a:pt x="777" y="4"/>
                      <a:pt x="776" y="3"/>
                      <a:pt x="776" y="2"/>
                    </a:cubicBezTo>
                    <a:cubicBezTo>
                      <a:pt x="776" y="1"/>
                      <a:pt x="777" y="0"/>
                      <a:pt x="778" y="0"/>
                    </a:cubicBezTo>
                    <a:close/>
                    <a:moveTo>
                      <a:pt x="786" y="0"/>
                    </a:moveTo>
                    <a:lnTo>
                      <a:pt x="786" y="0"/>
                    </a:lnTo>
                    <a:cubicBezTo>
                      <a:pt x="787" y="0"/>
                      <a:pt x="788" y="1"/>
                      <a:pt x="788" y="2"/>
                    </a:cubicBezTo>
                    <a:cubicBezTo>
                      <a:pt x="788" y="3"/>
                      <a:pt x="787" y="4"/>
                      <a:pt x="786" y="4"/>
                    </a:cubicBezTo>
                    <a:lnTo>
                      <a:pt x="786" y="4"/>
                    </a:lnTo>
                    <a:cubicBezTo>
                      <a:pt x="785" y="4"/>
                      <a:pt x="784" y="3"/>
                      <a:pt x="784" y="2"/>
                    </a:cubicBezTo>
                    <a:cubicBezTo>
                      <a:pt x="784" y="1"/>
                      <a:pt x="785" y="0"/>
                      <a:pt x="786" y="0"/>
                    </a:cubicBezTo>
                    <a:close/>
                    <a:moveTo>
                      <a:pt x="794" y="0"/>
                    </a:moveTo>
                    <a:lnTo>
                      <a:pt x="794" y="0"/>
                    </a:lnTo>
                    <a:cubicBezTo>
                      <a:pt x="795" y="0"/>
                      <a:pt x="796" y="1"/>
                      <a:pt x="796" y="2"/>
                    </a:cubicBezTo>
                    <a:cubicBezTo>
                      <a:pt x="796" y="3"/>
                      <a:pt x="795" y="4"/>
                      <a:pt x="794" y="4"/>
                    </a:cubicBezTo>
                    <a:lnTo>
                      <a:pt x="794" y="4"/>
                    </a:lnTo>
                    <a:cubicBezTo>
                      <a:pt x="793" y="4"/>
                      <a:pt x="792" y="3"/>
                      <a:pt x="792" y="2"/>
                    </a:cubicBezTo>
                    <a:cubicBezTo>
                      <a:pt x="792" y="1"/>
                      <a:pt x="793" y="0"/>
                      <a:pt x="794" y="0"/>
                    </a:cubicBezTo>
                    <a:close/>
                    <a:moveTo>
                      <a:pt x="802" y="0"/>
                    </a:moveTo>
                    <a:lnTo>
                      <a:pt x="802" y="0"/>
                    </a:lnTo>
                    <a:cubicBezTo>
                      <a:pt x="803" y="0"/>
                      <a:pt x="804" y="1"/>
                      <a:pt x="804" y="2"/>
                    </a:cubicBezTo>
                    <a:cubicBezTo>
                      <a:pt x="804" y="3"/>
                      <a:pt x="803" y="4"/>
                      <a:pt x="802" y="4"/>
                    </a:cubicBezTo>
                    <a:lnTo>
                      <a:pt x="802" y="4"/>
                    </a:lnTo>
                    <a:cubicBezTo>
                      <a:pt x="801" y="4"/>
                      <a:pt x="800" y="3"/>
                      <a:pt x="800" y="2"/>
                    </a:cubicBezTo>
                    <a:cubicBezTo>
                      <a:pt x="800" y="1"/>
                      <a:pt x="801" y="0"/>
                      <a:pt x="802" y="0"/>
                    </a:cubicBezTo>
                    <a:close/>
                    <a:moveTo>
                      <a:pt x="810" y="0"/>
                    </a:moveTo>
                    <a:lnTo>
                      <a:pt x="810" y="0"/>
                    </a:lnTo>
                    <a:cubicBezTo>
                      <a:pt x="811" y="0"/>
                      <a:pt x="812" y="1"/>
                      <a:pt x="812" y="2"/>
                    </a:cubicBezTo>
                    <a:cubicBezTo>
                      <a:pt x="812" y="3"/>
                      <a:pt x="811" y="4"/>
                      <a:pt x="810" y="4"/>
                    </a:cubicBezTo>
                    <a:lnTo>
                      <a:pt x="810" y="4"/>
                    </a:lnTo>
                    <a:cubicBezTo>
                      <a:pt x="809" y="4"/>
                      <a:pt x="808" y="3"/>
                      <a:pt x="808" y="2"/>
                    </a:cubicBezTo>
                    <a:cubicBezTo>
                      <a:pt x="808" y="1"/>
                      <a:pt x="809" y="0"/>
                      <a:pt x="810" y="0"/>
                    </a:cubicBezTo>
                    <a:close/>
                    <a:moveTo>
                      <a:pt x="818" y="0"/>
                    </a:moveTo>
                    <a:lnTo>
                      <a:pt x="818" y="0"/>
                    </a:lnTo>
                    <a:cubicBezTo>
                      <a:pt x="819" y="0"/>
                      <a:pt x="820" y="1"/>
                      <a:pt x="820" y="2"/>
                    </a:cubicBezTo>
                    <a:cubicBezTo>
                      <a:pt x="820" y="3"/>
                      <a:pt x="819" y="4"/>
                      <a:pt x="818" y="4"/>
                    </a:cubicBezTo>
                    <a:lnTo>
                      <a:pt x="818" y="4"/>
                    </a:lnTo>
                    <a:cubicBezTo>
                      <a:pt x="817" y="4"/>
                      <a:pt x="816" y="3"/>
                      <a:pt x="816" y="2"/>
                    </a:cubicBezTo>
                    <a:cubicBezTo>
                      <a:pt x="816" y="1"/>
                      <a:pt x="817" y="0"/>
                      <a:pt x="818" y="0"/>
                    </a:cubicBezTo>
                    <a:close/>
                    <a:moveTo>
                      <a:pt x="826" y="0"/>
                    </a:moveTo>
                    <a:lnTo>
                      <a:pt x="826" y="0"/>
                    </a:lnTo>
                    <a:cubicBezTo>
                      <a:pt x="827" y="0"/>
                      <a:pt x="828" y="1"/>
                      <a:pt x="828" y="2"/>
                    </a:cubicBezTo>
                    <a:cubicBezTo>
                      <a:pt x="828" y="3"/>
                      <a:pt x="827" y="4"/>
                      <a:pt x="826" y="4"/>
                    </a:cubicBezTo>
                    <a:lnTo>
                      <a:pt x="826" y="4"/>
                    </a:lnTo>
                    <a:cubicBezTo>
                      <a:pt x="825" y="4"/>
                      <a:pt x="824" y="3"/>
                      <a:pt x="824" y="2"/>
                    </a:cubicBezTo>
                    <a:cubicBezTo>
                      <a:pt x="824" y="1"/>
                      <a:pt x="825" y="0"/>
                      <a:pt x="826" y="0"/>
                    </a:cubicBezTo>
                    <a:close/>
                    <a:moveTo>
                      <a:pt x="834" y="0"/>
                    </a:moveTo>
                    <a:lnTo>
                      <a:pt x="834" y="0"/>
                    </a:lnTo>
                    <a:cubicBezTo>
                      <a:pt x="835" y="0"/>
                      <a:pt x="836" y="1"/>
                      <a:pt x="836" y="2"/>
                    </a:cubicBezTo>
                    <a:cubicBezTo>
                      <a:pt x="836" y="3"/>
                      <a:pt x="835" y="4"/>
                      <a:pt x="834" y="4"/>
                    </a:cubicBezTo>
                    <a:lnTo>
                      <a:pt x="834" y="4"/>
                    </a:lnTo>
                    <a:cubicBezTo>
                      <a:pt x="833" y="4"/>
                      <a:pt x="832" y="3"/>
                      <a:pt x="832" y="2"/>
                    </a:cubicBezTo>
                    <a:cubicBezTo>
                      <a:pt x="832" y="1"/>
                      <a:pt x="833" y="0"/>
                      <a:pt x="834" y="0"/>
                    </a:cubicBezTo>
                    <a:close/>
                    <a:moveTo>
                      <a:pt x="842" y="0"/>
                    </a:moveTo>
                    <a:lnTo>
                      <a:pt x="842" y="0"/>
                    </a:lnTo>
                    <a:cubicBezTo>
                      <a:pt x="843" y="0"/>
                      <a:pt x="844" y="1"/>
                      <a:pt x="844" y="2"/>
                    </a:cubicBezTo>
                    <a:cubicBezTo>
                      <a:pt x="844" y="3"/>
                      <a:pt x="843" y="4"/>
                      <a:pt x="842" y="4"/>
                    </a:cubicBezTo>
                    <a:lnTo>
                      <a:pt x="842" y="4"/>
                    </a:lnTo>
                    <a:cubicBezTo>
                      <a:pt x="841" y="4"/>
                      <a:pt x="840" y="3"/>
                      <a:pt x="840" y="2"/>
                    </a:cubicBezTo>
                    <a:cubicBezTo>
                      <a:pt x="840" y="1"/>
                      <a:pt x="841" y="0"/>
                      <a:pt x="842" y="0"/>
                    </a:cubicBezTo>
                    <a:close/>
                    <a:moveTo>
                      <a:pt x="850" y="0"/>
                    </a:moveTo>
                    <a:lnTo>
                      <a:pt x="850" y="0"/>
                    </a:lnTo>
                    <a:cubicBezTo>
                      <a:pt x="851" y="0"/>
                      <a:pt x="852" y="1"/>
                      <a:pt x="852" y="2"/>
                    </a:cubicBezTo>
                    <a:cubicBezTo>
                      <a:pt x="852" y="3"/>
                      <a:pt x="851" y="4"/>
                      <a:pt x="850" y="4"/>
                    </a:cubicBezTo>
                    <a:lnTo>
                      <a:pt x="850" y="4"/>
                    </a:lnTo>
                    <a:cubicBezTo>
                      <a:pt x="849" y="4"/>
                      <a:pt x="848" y="3"/>
                      <a:pt x="848" y="2"/>
                    </a:cubicBezTo>
                    <a:cubicBezTo>
                      <a:pt x="848" y="1"/>
                      <a:pt x="849" y="0"/>
                      <a:pt x="850" y="0"/>
                    </a:cubicBezTo>
                    <a:close/>
                    <a:moveTo>
                      <a:pt x="858" y="0"/>
                    </a:moveTo>
                    <a:lnTo>
                      <a:pt x="858" y="0"/>
                    </a:lnTo>
                    <a:cubicBezTo>
                      <a:pt x="859" y="0"/>
                      <a:pt x="860" y="1"/>
                      <a:pt x="860" y="2"/>
                    </a:cubicBezTo>
                    <a:cubicBezTo>
                      <a:pt x="860" y="3"/>
                      <a:pt x="859" y="4"/>
                      <a:pt x="858" y="4"/>
                    </a:cubicBezTo>
                    <a:lnTo>
                      <a:pt x="858" y="4"/>
                    </a:lnTo>
                    <a:cubicBezTo>
                      <a:pt x="857" y="4"/>
                      <a:pt x="856" y="3"/>
                      <a:pt x="856" y="2"/>
                    </a:cubicBezTo>
                    <a:cubicBezTo>
                      <a:pt x="856" y="1"/>
                      <a:pt x="857" y="0"/>
                      <a:pt x="858" y="0"/>
                    </a:cubicBezTo>
                    <a:close/>
                    <a:moveTo>
                      <a:pt x="866" y="0"/>
                    </a:moveTo>
                    <a:lnTo>
                      <a:pt x="866" y="0"/>
                    </a:lnTo>
                    <a:cubicBezTo>
                      <a:pt x="867" y="0"/>
                      <a:pt x="868" y="1"/>
                      <a:pt x="868" y="2"/>
                    </a:cubicBezTo>
                    <a:cubicBezTo>
                      <a:pt x="868" y="3"/>
                      <a:pt x="867" y="4"/>
                      <a:pt x="866" y="4"/>
                    </a:cubicBezTo>
                    <a:lnTo>
                      <a:pt x="866" y="4"/>
                    </a:lnTo>
                    <a:cubicBezTo>
                      <a:pt x="865" y="4"/>
                      <a:pt x="864" y="3"/>
                      <a:pt x="864" y="2"/>
                    </a:cubicBezTo>
                    <a:cubicBezTo>
                      <a:pt x="864" y="1"/>
                      <a:pt x="865" y="0"/>
                      <a:pt x="866" y="0"/>
                    </a:cubicBezTo>
                    <a:close/>
                    <a:moveTo>
                      <a:pt x="874" y="0"/>
                    </a:moveTo>
                    <a:lnTo>
                      <a:pt x="874" y="0"/>
                    </a:lnTo>
                    <a:cubicBezTo>
                      <a:pt x="875" y="0"/>
                      <a:pt x="876" y="1"/>
                      <a:pt x="876" y="2"/>
                    </a:cubicBezTo>
                    <a:cubicBezTo>
                      <a:pt x="876" y="3"/>
                      <a:pt x="875" y="4"/>
                      <a:pt x="874" y="4"/>
                    </a:cubicBezTo>
                    <a:lnTo>
                      <a:pt x="874" y="4"/>
                    </a:lnTo>
                    <a:cubicBezTo>
                      <a:pt x="873" y="4"/>
                      <a:pt x="872" y="3"/>
                      <a:pt x="872" y="2"/>
                    </a:cubicBezTo>
                    <a:cubicBezTo>
                      <a:pt x="872" y="1"/>
                      <a:pt x="873" y="0"/>
                      <a:pt x="874" y="0"/>
                    </a:cubicBezTo>
                    <a:close/>
                    <a:moveTo>
                      <a:pt x="882" y="0"/>
                    </a:moveTo>
                    <a:lnTo>
                      <a:pt x="882" y="0"/>
                    </a:lnTo>
                    <a:cubicBezTo>
                      <a:pt x="883" y="0"/>
                      <a:pt x="884" y="1"/>
                      <a:pt x="884" y="2"/>
                    </a:cubicBezTo>
                    <a:cubicBezTo>
                      <a:pt x="884" y="3"/>
                      <a:pt x="883" y="4"/>
                      <a:pt x="882" y="4"/>
                    </a:cubicBezTo>
                    <a:lnTo>
                      <a:pt x="882" y="4"/>
                    </a:lnTo>
                    <a:cubicBezTo>
                      <a:pt x="881" y="4"/>
                      <a:pt x="880" y="3"/>
                      <a:pt x="880" y="2"/>
                    </a:cubicBezTo>
                    <a:cubicBezTo>
                      <a:pt x="880" y="1"/>
                      <a:pt x="881" y="0"/>
                      <a:pt x="882" y="0"/>
                    </a:cubicBezTo>
                    <a:close/>
                    <a:moveTo>
                      <a:pt x="890" y="0"/>
                    </a:moveTo>
                    <a:lnTo>
                      <a:pt x="890" y="0"/>
                    </a:lnTo>
                    <a:cubicBezTo>
                      <a:pt x="891" y="0"/>
                      <a:pt x="892" y="1"/>
                      <a:pt x="892" y="2"/>
                    </a:cubicBezTo>
                    <a:cubicBezTo>
                      <a:pt x="892" y="3"/>
                      <a:pt x="891" y="4"/>
                      <a:pt x="890" y="4"/>
                    </a:cubicBezTo>
                    <a:lnTo>
                      <a:pt x="890" y="4"/>
                    </a:lnTo>
                    <a:cubicBezTo>
                      <a:pt x="889" y="4"/>
                      <a:pt x="888" y="3"/>
                      <a:pt x="888" y="2"/>
                    </a:cubicBezTo>
                    <a:cubicBezTo>
                      <a:pt x="888" y="1"/>
                      <a:pt x="889" y="0"/>
                      <a:pt x="890" y="0"/>
                    </a:cubicBezTo>
                    <a:close/>
                    <a:moveTo>
                      <a:pt x="898" y="0"/>
                    </a:moveTo>
                    <a:lnTo>
                      <a:pt x="898" y="0"/>
                    </a:lnTo>
                    <a:cubicBezTo>
                      <a:pt x="899" y="0"/>
                      <a:pt x="900" y="1"/>
                      <a:pt x="900" y="2"/>
                    </a:cubicBezTo>
                    <a:cubicBezTo>
                      <a:pt x="900" y="3"/>
                      <a:pt x="899" y="4"/>
                      <a:pt x="898" y="4"/>
                    </a:cubicBezTo>
                    <a:lnTo>
                      <a:pt x="898" y="4"/>
                    </a:lnTo>
                    <a:cubicBezTo>
                      <a:pt x="897" y="4"/>
                      <a:pt x="896" y="3"/>
                      <a:pt x="896" y="2"/>
                    </a:cubicBezTo>
                    <a:cubicBezTo>
                      <a:pt x="896" y="1"/>
                      <a:pt x="897" y="0"/>
                      <a:pt x="898" y="0"/>
                    </a:cubicBezTo>
                    <a:close/>
                    <a:moveTo>
                      <a:pt x="906" y="0"/>
                    </a:moveTo>
                    <a:lnTo>
                      <a:pt x="906" y="0"/>
                    </a:lnTo>
                    <a:cubicBezTo>
                      <a:pt x="907" y="0"/>
                      <a:pt x="908" y="1"/>
                      <a:pt x="908" y="2"/>
                    </a:cubicBezTo>
                    <a:cubicBezTo>
                      <a:pt x="908" y="3"/>
                      <a:pt x="907" y="4"/>
                      <a:pt x="906" y="4"/>
                    </a:cubicBezTo>
                    <a:lnTo>
                      <a:pt x="906" y="4"/>
                    </a:lnTo>
                    <a:cubicBezTo>
                      <a:pt x="905" y="4"/>
                      <a:pt x="904" y="3"/>
                      <a:pt x="904" y="2"/>
                    </a:cubicBezTo>
                    <a:cubicBezTo>
                      <a:pt x="904" y="1"/>
                      <a:pt x="905" y="0"/>
                      <a:pt x="906" y="0"/>
                    </a:cubicBezTo>
                    <a:close/>
                    <a:moveTo>
                      <a:pt x="914" y="0"/>
                    </a:moveTo>
                    <a:lnTo>
                      <a:pt x="914" y="0"/>
                    </a:lnTo>
                    <a:cubicBezTo>
                      <a:pt x="915" y="0"/>
                      <a:pt x="916" y="1"/>
                      <a:pt x="916" y="2"/>
                    </a:cubicBezTo>
                    <a:cubicBezTo>
                      <a:pt x="916" y="3"/>
                      <a:pt x="915" y="4"/>
                      <a:pt x="914" y="4"/>
                    </a:cubicBezTo>
                    <a:lnTo>
                      <a:pt x="914" y="4"/>
                    </a:lnTo>
                    <a:cubicBezTo>
                      <a:pt x="913" y="4"/>
                      <a:pt x="912" y="3"/>
                      <a:pt x="912" y="2"/>
                    </a:cubicBezTo>
                    <a:cubicBezTo>
                      <a:pt x="912" y="1"/>
                      <a:pt x="913" y="0"/>
                      <a:pt x="914" y="0"/>
                    </a:cubicBezTo>
                    <a:close/>
                    <a:moveTo>
                      <a:pt x="922" y="0"/>
                    </a:moveTo>
                    <a:lnTo>
                      <a:pt x="922" y="0"/>
                    </a:lnTo>
                    <a:cubicBezTo>
                      <a:pt x="923" y="0"/>
                      <a:pt x="924" y="1"/>
                      <a:pt x="924" y="2"/>
                    </a:cubicBezTo>
                    <a:cubicBezTo>
                      <a:pt x="924" y="3"/>
                      <a:pt x="923" y="4"/>
                      <a:pt x="922" y="4"/>
                    </a:cubicBezTo>
                    <a:lnTo>
                      <a:pt x="922" y="4"/>
                    </a:lnTo>
                    <a:cubicBezTo>
                      <a:pt x="921" y="4"/>
                      <a:pt x="920" y="3"/>
                      <a:pt x="920" y="2"/>
                    </a:cubicBezTo>
                    <a:cubicBezTo>
                      <a:pt x="920" y="1"/>
                      <a:pt x="921" y="0"/>
                      <a:pt x="922" y="0"/>
                    </a:cubicBezTo>
                    <a:close/>
                    <a:moveTo>
                      <a:pt x="930" y="0"/>
                    </a:moveTo>
                    <a:lnTo>
                      <a:pt x="930" y="0"/>
                    </a:lnTo>
                    <a:cubicBezTo>
                      <a:pt x="931" y="0"/>
                      <a:pt x="932" y="1"/>
                      <a:pt x="932" y="2"/>
                    </a:cubicBezTo>
                    <a:cubicBezTo>
                      <a:pt x="932" y="3"/>
                      <a:pt x="931" y="4"/>
                      <a:pt x="930" y="4"/>
                    </a:cubicBezTo>
                    <a:lnTo>
                      <a:pt x="930" y="4"/>
                    </a:lnTo>
                    <a:cubicBezTo>
                      <a:pt x="929" y="4"/>
                      <a:pt x="928" y="3"/>
                      <a:pt x="928" y="2"/>
                    </a:cubicBezTo>
                    <a:cubicBezTo>
                      <a:pt x="928" y="1"/>
                      <a:pt x="929" y="0"/>
                      <a:pt x="930" y="0"/>
                    </a:cubicBezTo>
                    <a:close/>
                    <a:moveTo>
                      <a:pt x="938" y="0"/>
                    </a:moveTo>
                    <a:lnTo>
                      <a:pt x="938" y="0"/>
                    </a:lnTo>
                    <a:cubicBezTo>
                      <a:pt x="939" y="0"/>
                      <a:pt x="940" y="1"/>
                      <a:pt x="940" y="2"/>
                    </a:cubicBezTo>
                    <a:cubicBezTo>
                      <a:pt x="940" y="3"/>
                      <a:pt x="939" y="4"/>
                      <a:pt x="938" y="4"/>
                    </a:cubicBezTo>
                    <a:lnTo>
                      <a:pt x="938" y="4"/>
                    </a:lnTo>
                    <a:cubicBezTo>
                      <a:pt x="937" y="4"/>
                      <a:pt x="936" y="3"/>
                      <a:pt x="936" y="2"/>
                    </a:cubicBezTo>
                    <a:cubicBezTo>
                      <a:pt x="936" y="1"/>
                      <a:pt x="937" y="0"/>
                      <a:pt x="938" y="0"/>
                    </a:cubicBezTo>
                    <a:close/>
                    <a:moveTo>
                      <a:pt x="946" y="0"/>
                    </a:moveTo>
                    <a:lnTo>
                      <a:pt x="946" y="0"/>
                    </a:lnTo>
                    <a:cubicBezTo>
                      <a:pt x="947" y="0"/>
                      <a:pt x="948" y="1"/>
                      <a:pt x="948" y="2"/>
                    </a:cubicBezTo>
                    <a:cubicBezTo>
                      <a:pt x="948" y="3"/>
                      <a:pt x="947" y="4"/>
                      <a:pt x="946" y="4"/>
                    </a:cubicBezTo>
                    <a:lnTo>
                      <a:pt x="946" y="4"/>
                    </a:lnTo>
                    <a:cubicBezTo>
                      <a:pt x="945" y="4"/>
                      <a:pt x="944" y="3"/>
                      <a:pt x="944" y="2"/>
                    </a:cubicBezTo>
                    <a:cubicBezTo>
                      <a:pt x="944" y="1"/>
                      <a:pt x="945" y="0"/>
                      <a:pt x="946" y="0"/>
                    </a:cubicBezTo>
                    <a:close/>
                    <a:moveTo>
                      <a:pt x="954" y="0"/>
                    </a:moveTo>
                    <a:lnTo>
                      <a:pt x="954" y="0"/>
                    </a:lnTo>
                    <a:cubicBezTo>
                      <a:pt x="955" y="0"/>
                      <a:pt x="956" y="1"/>
                      <a:pt x="956" y="2"/>
                    </a:cubicBezTo>
                    <a:cubicBezTo>
                      <a:pt x="956" y="3"/>
                      <a:pt x="955" y="4"/>
                      <a:pt x="954" y="4"/>
                    </a:cubicBezTo>
                    <a:lnTo>
                      <a:pt x="954" y="4"/>
                    </a:lnTo>
                    <a:cubicBezTo>
                      <a:pt x="953" y="4"/>
                      <a:pt x="952" y="3"/>
                      <a:pt x="952" y="2"/>
                    </a:cubicBezTo>
                    <a:cubicBezTo>
                      <a:pt x="952" y="1"/>
                      <a:pt x="953" y="0"/>
                      <a:pt x="954" y="0"/>
                    </a:cubicBezTo>
                    <a:close/>
                    <a:moveTo>
                      <a:pt x="962" y="0"/>
                    </a:moveTo>
                    <a:lnTo>
                      <a:pt x="962" y="0"/>
                    </a:lnTo>
                    <a:cubicBezTo>
                      <a:pt x="963" y="0"/>
                      <a:pt x="964" y="1"/>
                      <a:pt x="964" y="2"/>
                    </a:cubicBezTo>
                    <a:cubicBezTo>
                      <a:pt x="964" y="3"/>
                      <a:pt x="963" y="4"/>
                      <a:pt x="962" y="4"/>
                    </a:cubicBezTo>
                    <a:lnTo>
                      <a:pt x="962" y="4"/>
                    </a:lnTo>
                    <a:cubicBezTo>
                      <a:pt x="961" y="4"/>
                      <a:pt x="960" y="3"/>
                      <a:pt x="960" y="2"/>
                    </a:cubicBezTo>
                    <a:cubicBezTo>
                      <a:pt x="960" y="1"/>
                      <a:pt x="961" y="0"/>
                      <a:pt x="962" y="0"/>
                    </a:cubicBezTo>
                    <a:close/>
                    <a:moveTo>
                      <a:pt x="970" y="0"/>
                    </a:moveTo>
                    <a:lnTo>
                      <a:pt x="970" y="0"/>
                    </a:lnTo>
                    <a:cubicBezTo>
                      <a:pt x="971" y="0"/>
                      <a:pt x="972" y="1"/>
                      <a:pt x="972" y="2"/>
                    </a:cubicBezTo>
                    <a:cubicBezTo>
                      <a:pt x="972" y="3"/>
                      <a:pt x="971" y="4"/>
                      <a:pt x="970" y="4"/>
                    </a:cubicBezTo>
                    <a:lnTo>
                      <a:pt x="970" y="4"/>
                    </a:lnTo>
                    <a:cubicBezTo>
                      <a:pt x="969" y="4"/>
                      <a:pt x="968" y="3"/>
                      <a:pt x="968" y="2"/>
                    </a:cubicBezTo>
                    <a:cubicBezTo>
                      <a:pt x="968" y="1"/>
                      <a:pt x="969" y="0"/>
                      <a:pt x="970" y="0"/>
                    </a:cubicBezTo>
                    <a:close/>
                    <a:moveTo>
                      <a:pt x="978" y="0"/>
                    </a:moveTo>
                    <a:lnTo>
                      <a:pt x="978" y="0"/>
                    </a:lnTo>
                    <a:cubicBezTo>
                      <a:pt x="979" y="0"/>
                      <a:pt x="980" y="1"/>
                      <a:pt x="980" y="2"/>
                    </a:cubicBezTo>
                    <a:cubicBezTo>
                      <a:pt x="980" y="3"/>
                      <a:pt x="979" y="4"/>
                      <a:pt x="978" y="4"/>
                    </a:cubicBezTo>
                    <a:lnTo>
                      <a:pt x="978" y="4"/>
                    </a:lnTo>
                    <a:cubicBezTo>
                      <a:pt x="977" y="4"/>
                      <a:pt x="976" y="3"/>
                      <a:pt x="976" y="2"/>
                    </a:cubicBezTo>
                    <a:cubicBezTo>
                      <a:pt x="976" y="1"/>
                      <a:pt x="977" y="0"/>
                      <a:pt x="978" y="0"/>
                    </a:cubicBezTo>
                    <a:close/>
                    <a:moveTo>
                      <a:pt x="986" y="0"/>
                    </a:moveTo>
                    <a:lnTo>
                      <a:pt x="986" y="0"/>
                    </a:lnTo>
                    <a:cubicBezTo>
                      <a:pt x="987" y="0"/>
                      <a:pt x="988" y="1"/>
                      <a:pt x="988" y="2"/>
                    </a:cubicBezTo>
                    <a:cubicBezTo>
                      <a:pt x="988" y="3"/>
                      <a:pt x="987" y="4"/>
                      <a:pt x="986" y="4"/>
                    </a:cubicBezTo>
                    <a:lnTo>
                      <a:pt x="986" y="4"/>
                    </a:lnTo>
                    <a:cubicBezTo>
                      <a:pt x="985" y="4"/>
                      <a:pt x="984" y="3"/>
                      <a:pt x="984" y="2"/>
                    </a:cubicBezTo>
                    <a:cubicBezTo>
                      <a:pt x="984" y="1"/>
                      <a:pt x="985" y="0"/>
                      <a:pt x="986" y="0"/>
                    </a:cubicBezTo>
                    <a:close/>
                    <a:moveTo>
                      <a:pt x="994" y="0"/>
                    </a:moveTo>
                    <a:lnTo>
                      <a:pt x="994" y="0"/>
                    </a:lnTo>
                    <a:cubicBezTo>
                      <a:pt x="995" y="0"/>
                      <a:pt x="996" y="1"/>
                      <a:pt x="996" y="2"/>
                    </a:cubicBezTo>
                    <a:cubicBezTo>
                      <a:pt x="996" y="3"/>
                      <a:pt x="995" y="4"/>
                      <a:pt x="994" y="4"/>
                    </a:cubicBezTo>
                    <a:lnTo>
                      <a:pt x="994" y="4"/>
                    </a:lnTo>
                    <a:cubicBezTo>
                      <a:pt x="993" y="4"/>
                      <a:pt x="992" y="3"/>
                      <a:pt x="992" y="2"/>
                    </a:cubicBezTo>
                    <a:cubicBezTo>
                      <a:pt x="992" y="1"/>
                      <a:pt x="993" y="0"/>
                      <a:pt x="994" y="0"/>
                    </a:cubicBezTo>
                    <a:close/>
                    <a:moveTo>
                      <a:pt x="1002" y="0"/>
                    </a:moveTo>
                    <a:lnTo>
                      <a:pt x="1002" y="0"/>
                    </a:lnTo>
                    <a:cubicBezTo>
                      <a:pt x="1003" y="0"/>
                      <a:pt x="1004" y="1"/>
                      <a:pt x="1004" y="2"/>
                    </a:cubicBezTo>
                    <a:cubicBezTo>
                      <a:pt x="1004" y="3"/>
                      <a:pt x="1003" y="4"/>
                      <a:pt x="1002" y="4"/>
                    </a:cubicBezTo>
                    <a:lnTo>
                      <a:pt x="1002" y="4"/>
                    </a:lnTo>
                    <a:cubicBezTo>
                      <a:pt x="1001" y="4"/>
                      <a:pt x="1000" y="3"/>
                      <a:pt x="1000" y="2"/>
                    </a:cubicBezTo>
                    <a:cubicBezTo>
                      <a:pt x="1000" y="1"/>
                      <a:pt x="1001" y="0"/>
                      <a:pt x="1002" y="0"/>
                    </a:cubicBezTo>
                    <a:close/>
                    <a:moveTo>
                      <a:pt x="1010" y="0"/>
                    </a:moveTo>
                    <a:lnTo>
                      <a:pt x="1010" y="0"/>
                    </a:lnTo>
                    <a:cubicBezTo>
                      <a:pt x="1011" y="0"/>
                      <a:pt x="1012" y="1"/>
                      <a:pt x="1012" y="2"/>
                    </a:cubicBezTo>
                    <a:cubicBezTo>
                      <a:pt x="1012" y="3"/>
                      <a:pt x="1011" y="4"/>
                      <a:pt x="1010" y="4"/>
                    </a:cubicBezTo>
                    <a:lnTo>
                      <a:pt x="1010" y="4"/>
                    </a:lnTo>
                    <a:cubicBezTo>
                      <a:pt x="1009" y="4"/>
                      <a:pt x="1008" y="3"/>
                      <a:pt x="1008" y="2"/>
                    </a:cubicBezTo>
                    <a:cubicBezTo>
                      <a:pt x="1008" y="1"/>
                      <a:pt x="1009" y="0"/>
                      <a:pt x="1010" y="0"/>
                    </a:cubicBezTo>
                    <a:close/>
                    <a:moveTo>
                      <a:pt x="1018" y="0"/>
                    </a:moveTo>
                    <a:lnTo>
                      <a:pt x="1018" y="0"/>
                    </a:lnTo>
                    <a:cubicBezTo>
                      <a:pt x="1019" y="0"/>
                      <a:pt x="1020" y="1"/>
                      <a:pt x="1020" y="2"/>
                    </a:cubicBezTo>
                    <a:cubicBezTo>
                      <a:pt x="1020" y="3"/>
                      <a:pt x="1019" y="4"/>
                      <a:pt x="1018" y="4"/>
                    </a:cubicBezTo>
                    <a:lnTo>
                      <a:pt x="1018" y="4"/>
                    </a:lnTo>
                    <a:cubicBezTo>
                      <a:pt x="1017" y="4"/>
                      <a:pt x="1016" y="3"/>
                      <a:pt x="1016" y="2"/>
                    </a:cubicBezTo>
                    <a:cubicBezTo>
                      <a:pt x="1016" y="1"/>
                      <a:pt x="1017" y="0"/>
                      <a:pt x="1018" y="0"/>
                    </a:cubicBezTo>
                    <a:close/>
                    <a:moveTo>
                      <a:pt x="1026" y="0"/>
                    </a:moveTo>
                    <a:lnTo>
                      <a:pt x="1026" y="0"/>
                    </a:lnTo>
                    <a:cubicBezTo>
                      <a:pt x="1027" y="0"/>
                      <a:pt x="1028" y="1"/>
                      <a:pt x="1028" y="2"/>
                    </a:cubicBezTo>
                    <a:cubicBezTo>
                      <a:pt x="1028" y="3"/>
                      <a:pt x="1027" y="4"/>
                      <a:pt x="1026" y="4"/>
                    </a:cubicBezTo>
                    <a:lnTo>
                      <a:pt x="1026" y="4"/>
                    </a:lnTo>
                    <a:cubicBezTo>
                      <a:pt x="1025" y="4"/>
                      <a:pt x="1024" y="3"/>
                      <a:pt x="1024" y="2"/>
                    </a:cubicBezTo>
                    <a:cubicBezTo>
                      <a:pt x="1024" y="1"/>
                      <a:pt x="1025" y="0"/>
                      <a:pt x="1026" y="0"/>
                    </a:cubicBezTo>
                    <a:close/>
                    <a:moveTo>
                      <a:pt x="1034" y="0"/>
                    </a:moveTo>
                    <a:lnTo>
                      <a:pt x="1034" y="0"/>
                    </a:lnTo>
                    <a:cubicBezTo>
                      <a:pt x="1035" y="0"/>
                      <a:pt x="1036" y="1"/>
                      <a:pt x="1036" y="2"/>
                    </a:cubicBezTo>
                    <a:cubicBezTo>
                      <a:pt x="1036" y="3"/>
                      <a:pt x="1035" y="4"/>
                      <a:pt x="1034" y="4"/>
                    </a:cubicBezTo>
                    <a:lnTo>
                      <a:pt x="1034" y="4"/>
                    </a:lnTo>
                    <a:cubicBezTo>
                      <a:pt x="1033" y="4"/>
                      <a:pt x="1032" y="3"/>
                      <a:pt x="1032" y="2"/>
                    </a:cubicBezTo>
                    <a:cubicBezTo>
                      <a:pt x="1032" y="1"/>
                      <a:pt x="1033" y="0"/>
                      <a:pt x="1034" y="0"/>
                    </a:cubicBezTo>
                    <a:close/>
                    <a:moveTo>
                      <a:pt x="1042" y="0"/>
                    </a:moveTo>
                    <a:lnTo>
                      <a:pt x="1042" y="0"/>
                    </a:lnTo>
                    <a:cubicBezTo>
                      <a:pt x="1043" y="0"/>
                      <a:pt x="1044" y="1"/>
                      <a:pt x="1044" y="2"/>
                    </a:cubicBezTo>
                    <a:cubicBezTo>
                      <a:pt x="1044" y="3"/>
                      <a:pt x="1043" y="4"/>
                      <a:pt x="1042" y="4"/>
                    </a:cubicBezTo>
                    <a:lnTo>
                      <a:pt x="1042" y="4"/>
                    </a:lnTo>
                    <a:cubicBezTo>
                      <a:pt x="1041" y="4"/>
                      <a:pt x="1040" y="3"/>
                      <a:pt x="1040" y="2"/>
                    </a:cubicBezTo>
                    <a:cubicBezTo>
                      <a:pt x="1040" y="1"/>
                      <a:pt x="1041" y="0"/>
                      <a:pt x="1042" y="0"/>
                    </a:cubicBezTo>
                    <a:close/>
                    <a:moveTo>
                      <a:pt x="1050" y="0"/>
                    </a:moveTo>
                    <a:lnTo>
                      <a:pt x="1050" y="0"/>
                    </a:lnTo>
                    <a:cubicBezTo>
                      <a:pt x="1051" y="0"/>
                      <a:pt x="1052" y="1"/>
                      <a:pt x="1052" y="2"/>
                    </a:cubicBezTo>
                    <a:cubicBezTo>
                      <a:pt x="1052" y="3"/>
                      <a:pt x="1051" y="4"/>
                      <a:pt x="1050" y="4"/>
                    </a:cubicBezTo>
                    <a:lnTo>
                      <a:pt x="1050" y="4"/>
                    </a:lnTo>
                    <a:cubicBezTo>
                      <a:pt x="1049" y="4"/>
                      <a:pt x="1048" y="3"/>
                      <a:pt x="1048" y="2"/>
                    </a:cubicBezTo>
                    <a:cubicBezTo>
                      <a:pt x="1048" y="1"/>
                      <a:pt x="1049" y="0"/>
                      <a:pt x="1050" y="0"/>
                    </a:cubicBezTo>
                    <a:close/>
                    <a:moveTo>
                      <a:pt x="1058" y="0"/>
                    </a:moveTo>
                    <a:lnTo>
                      <a:pt x="1058" y="0"/>
                    </a:lnTo>
                    <a:cubicBezTo>
                      <a:pt x="1059" y="0"/>
                      <a:pt x="1060" y="1"/>
                      <a:pt x="1060" y="2"/>
                    </a:cubicBezTo>
                    <a:cubicBezTo>
                      <a:pt x="1060" y="3"/>
                      <a:pt x="1059" y="4"/>
                      <a:pt x="1058" y="4"/>
                    </a:cubicBezTo>
                    <a:lnTo>
                      <a:pt x="1058" y="4"/>
                    </a:lnTo>
                    <a:cubicBezTo>
                      <a:pt x="1057" y="4"/>
                      <a:pt x="1056" y="3"/>
                      <a:pt x="1056" y="2"/>
                    </a:cubicBezTo>
                    <a:cubicBezTo>
                      <a:pt x="1056" y="1"/>
                      <a:pt x="1057" y="0"/>
                      <a:pt x="1058" y="0"/>
                    </a:cubicBezTo>
                    <a:close/>
                    <a:moveTo>
                      <a:pt x="1066" y="0"/>
                    </a:moveTo>
                    <a:lnTo>
                      <a:pt x="1066" y="0"/>
                    </a:lnTo>
                    <a:cubicBezTo>
                      <a:pt x="1067" y="0"/>
                      <a:pt x="1068" y="1"/>
                      <a:pt x="1068" y="2"/>
                    </a:cubicBezTo>
                    <a:cubicBezTo>
                      <a:pt x="1068" y="3"/>
                      <a:pt x="1067" y="4"/>
                      <a:pt x="1066" y="4"/>
                    </a:cubicBezTo>
                    <a:lnTo>
                      <a:pt x="1066" y="4"/>
                    </a:lnTo>
                    <a:cubicBezTo>
                      <a:pt x="1065" y="4"/>
                      <a:pt x="1064" y="3"/>
                      <a:pt x="1064" y="2"/>
                    </a:cubicBezTo>
                    <a:cubicBezTo>
                      <a:pt x="1064" y="1"/>
                      <a:pt x="1065" y="0"/>
                      <a:pt x="1066" y="0"/>
                    </a:cubicBezTo>
                    <a:close/>
                    <a:moveTo>
                      <a:pt x="1074" y="0"/>
                    </a:moveTo>
                    <a:lnTo>
                      <a:pt x="1074" y="0"/>
                    </a:lnTo>
                    <a:cubicBezTo>
                      <a:pt x="1075" y="0"/>
                      <a:pt x="1076" y="1"/>
                      <a:pt x="1076" y="2"/>
                    </a:cubicBezTo>
                    <a:cubicBezTo>
                      <a:pt x="1076" y="3"/>
                      <a:pt x="1075" y="4"/>
                      <a:pt x="1074" y="4"/>
                    </a:cubicBezTo>
                    <a:lnTo>
                      <a:pt x="1074" y="4"/>
                    </a:lnTo>
                    <a:cubicBezTo>
                      <a:pt x="1073" y="4"/>
                      <a:pt x="1072" y="3"/>
                      <a:pt x="1072" y="2"/>
                    </a:cubicBezTo>
                    <a:cubicBezTo>
                      <a:pt x="1072" y="1"/>
                      <a:pt x="1073" y="0"/>
                      <a:pt x="1074" y="0"/>
                    </a:cubicBezTo>
                    <a:close/>
                    <a:moveTo>
                      <a:pt x="1082" y="0"/>
                    </a:moveTo>
                    <a:lnTo>
                      <a:pt x="1082" y="0"/>
                    </a:lnTo>
                    <a:cubicBezTo>
                      <a:pt x="1083" y="0"/>
                      <a:pt x="1084" y="1"/>
                      <a:pt x="1084" y="2"/>
                    </a:cubicBezTo>
                    <a:cubicBezTo>
                      <a:pt x="1084" y="3"/>
                      <a:pt x="1083" y="4"/>
                      <a:pt x="1082" y="4"/>
                    </a:cubicBezTo>
                    <a:lnTo>
                      <a:pt x="1082" y="4"/>
                    </a:lnTo>
                    <a:cubicBezTo>
                      <a:pt x="1081" y="4"/>
                      <a:pt x="1080" y="3"/>
                      <a:pt x="1080" y="2"/>
                    </a:cubicBezTo>
                    <a:cubicBezTo>
                      <a:pt x="1080" y="1"/>
                      <a:pt x="1081" y="0"/>
                      <a:pt x="1082" y="0"/>
                    </a:cubicBezTo>
                    <a:close/>
                    <a:moveTo>
                      <a:pt x="1090" y="0"/>
                    </a:moveTo>
                    <a:lnTo>
                      <a:pt x="1090" y="0"/>
                    </a:lnTo>
                    <a:cubicBezTo>
                      <a:pt x="1091" y="0"/>
                      <a:pt x="1092" y="1"/>
                      <a:pt x="1092" y="2"/>
                    </a:cubicBezTo>
                    <a:cubicBezTo>
                      <a:pt x="1092" y="3"/>
                      <a:pt x="1091" y="4"/>
                      <a:pt x="1090" y="4"/>
                    </a:cubicBezTo>
                    <a:lnTo>
                      <a:pt x="1090" y="4"/>
                    </a:lnTo>
                    <a:cubicBezTo>
                      <a:pt x="1089" y="4"/>
                      <a:pt x="1088" y="3"/>
                      <a:pt x="1088" y="2"/>
                    </a:cubicBezTo>
                    <a:cubicBezTo>
                      <a:pt x="1088" y="1"/>
                      <a:pt x="1089" y="0"/>
                      <a:pt x="1090" y="0"/>
                    </a:cubicBezTo>
                    <a:close/>
                    <a:moveTo>
                      <a:pt x="1098" y="0"/>
                    </a:moveTo>
                    <a:lnTo>
                      <a:pt x="1098" y="0"/>
                    </a:lnTo>
                    <a:cubicBezTo>
                      <a:pt x="1099" y="0"/>
                      <a:pt x="1100" y="1"/>
                      <a:pt x="1100" y="2"/>
                    </a:cubicBezTo>
                    <a:cubicBezTo>
                      <a:pt x="1100" y="3"/>
                      <a:pt x="1099" y="4"/>
                      <a:pt x="1098" y="4"/>
                    </a:cubicBezTo>
                    <a:lnTo>
                      <a:pt x="1098" y="4"/>
                    </a:lnTo>
                    <a:cubicBezTo>
                      <a:pt x="1097" y="4"/>
                      <a:pt x="1096" y="3"/>
                      <a:pt x="1096" y="2"/>
                    </a:cubicBezTo>
                    <a:cubicBezTo>
                      <a:pt x="1096" y="1"/>
                      <a:pt x="1097" y="0"/>
                      <a:pt x="1098" y="0"/>
                    </a:cubicBezTo>
                    <a:close/>
                    <a:moveTo>
                      <a:pt x="1106" y="0"/>
                    </a:moveTo>
                    <a:lnTo>
                      <a:pt x="1106" y="0"/>
                    </a:lnTo>
                    <a:cubicBezTo>
                      <a:pt x="1107" y="0"/>
                      <a:pt x="1108" y="1"/>
                      <a:pt x="1108" y="2"/>
                    </a:cubicBezTo>
                    <a:cubicBezTo>
                      <a:pt x="1108" y="3"/>
                      <a:pt x="1107" y="4"/>
                      <a:pt x="1106" y="4"/>
                    </a:cubicBezTo>
                    <a:lnTo>
                      <a:pt x="1106" y="4"/>
                    </a:lnTo>
                    <a:cubicBezTo>
                      <a:pt x="1105" y="4"/>
                      <a:pt x="1104" y="3"/>
                      <a:pt x="1104" y="2"/>
                    </a:cubicBezTo>
                    <a:cubicBezTo>
                      <a:pt x="1104" y="1"/>
                      <a:pt x="1105" y="0"/>
                      <a:pt x="1106" y="0"/>
                    </a:cubicBezTo>
                    <a:close/>
                    <a:moveTo>
                      <a:pt x="1114" y="0"/>
                    </a:moveTo>
                    <a:lnTo>
                      <a:pt x="1114" y="0"/>
                    </a:lnTo>
                    <a:cubicBezTo>
                      <a:pt x="1115" y="0"/>
                      <a:pt x="1116" y="1"/>
                      <a:pt x="1116" y="2"/>
                    </a:cubicBezTo>
                    <a:cubicBezTo>
                      <a:pt x="1116" y="3"/>
                      <a:pt x="1115" y="4"/>
                      <a:pt x="1114" y="4"/>
                    </a:cubicBezTo>
                    <a:lnTo>
                      <a:pt x="1114" y="4"/>
                    </a:lnTo>
                    <a:cubicBezTo>
                      <a:pt x="1113" y="4"/>
                      <a:pt x="1112" y="3"/>
                      <a:pt x="1112" y="2"/>
                    </a:cubicBezTo>
                    <a:cubicBezTo>
                      <a:pt x="1112" y="1"/>
                      <a:pt x="1113" y="0"/>
                      <a:pt x="1114" y="0"/>
                    </a:cubicBezTo>
                    <a:close/>
                    <a:moveTo>
                      <a:pt x="1122" y="0"/>
                    </a:moveTo>
                    <a:lnTo>
                      <a:pt x="1122" y="0"/>
                    </a:lnTo>
                    <a:cubicBezTo>
                      <a:pt x="1123" y="0"/>
                      <a:pt x="1124" y="1"/>
                      <a:pt x="1124" y="2"/>
                    </a:cubicBezTo>
                    <a:cubicBezTo>
                      <a:pt x="1124" y="3"/>
                      <a:pt x="1123" y="4"/>
                      <a:pt x="1122" y="4"/>
                    </a:cubicBezTo>
                    <a:lnTo>
                      <a:pt x="1122" y="4"/>
                    </a:lnTo>
                    <a:cubicBezTo>
                      <a:pt x="1121" y="4"/>
                      <a:pt x="1120" y="3"/>
                      <a:pt x="1120" y="2"/>
                    </a:cubicBezTo>
                    <a:cubicBezTo>
                      <a:pt x="1120" y="1"/>
                      <a:pt x="1121" y="0"/>
                      <a:pt x="1122" y="0"/>
                    </a:cubicBezTo>
                    <a:close/>
                    <a:moveTo>
                      <a:pt x="1130" y="0"/>
                    </a:moveTo>
                    <a:lnTo>
                      <a:pt x="1130" y="0"/>
                    </a:lnTo>
                    <a:cubicBezTo>
                      <a:pt x="1131" y="0"/>
                      <a:pt x="1132" y="1"/>
                      <a:pt x="1132" y="2"/>
                    </a:cubicBezTo>
                    <a:cubicBezTo>
                      <a:pt x="1132" y="3"/>
                      <a:pt x="1131" y="4"/>
                      <a:pt x="1130" y="4"/>
                    </a:cubicBezTo>
                    <a:lnTo>
                      <a:pt x="1130" y="4"/>
                    </a:lnTo>
                    <a:cubicBezTo>
                      <a:pt x="1129" y="4"/>
                      <a:pt x="1128" y="3"/>
                      <a:pt x="1128" y="2"/>
                    </a:cubicBezTo>
                    <a:cubicBezTo>
                      <a:pt x="1128" y="1"/>
                      <a:pt x="1129" y="0"/>
                      <a:pt x="1130" y="0"/>
                    </a:cubicBezTo>
                    <a:close/>
                    <a:moveTo>
                      <a:pt x="1138" y="0"/>
                    </a:moveTo>
                    <a:lnTo>
                      <a:pt x="1138" y="0"/>
                    </a:lnTo>
                    <a:cubicBezTo>
                      <a:pt x="1139" y="0"/>
                      <a:pt x="1140" y="1"/>
                      <a:pt x="1140" y="2"/>
                    </a:cubicBezTo>
                    <a:cubicBezTo>
                      <a:pt x="1140" y="3"/>
                      <a:pt x="1139" y="4"/>
                      <a:pt x="1138" y="4"/>
                    </a:cubicBezTo>
                    <a:lnTo>
                      <a:pt x="1138" y="4"/>
                    </a:lnTo>
                    <a:cubicBezTo>
                      <a:pt x="1137" y="4"/>
                      <a:pt x="1136" y="3"/>
                      <a:pt x="1136" y="2"/>
                    </a:cubicBezTo>
                    <a:cubicBezTo>
                      <a:pt x="1136" y="1"/>
                      <a:pt x="1137" y="0"/>
                      <a:pt x="1138" y="0"/>
                    </a:cubicBezTo>
                    <a:close/>
                    <a:moveTo>
                      <a:pt x="1146" y="0"/>
                    </a:moveTo>
                    <a:lnTo>
                      <a:pt x="1146" y="0"/>
                    </a:lnTo>
                    <a:cubicBezTo>
                      <a:pt x="1147" y="0"/>
                      <a:pt x="1148" y="1"/>
                      <a:pt x="1148" y="2"/>
                    </a:cubicBezTo>
                    <a:cubicBezTo>
                      <a:pt x="1148" y="3"/>
                      <a:pt x="1147" y="4"/>
                      <a:pt x="1146" y="4"/>
                    </a:cubicBezTo>
                    <a:lnTo>
                      <a:pt x="1146" y="4"/>
                    </a:lnTo>
                    <a:cubicBezTo>
                      <a:pt x="1145" y="4"/>
                      <a:pt x="1144" y="3"/>
                      <a:pt x="1144" y="2"/>
                    </a:cubicBezTo>
                    <a:cubicBezTo>
                      <a:pt x="1144" y="1"/>
                      <a:pt x="1145" y="0"/>
                      <a:pt x="1146" y="0"/>
                    </a:cubicBezTo>
                    <a:close/>
                    <a:moveTo>
                      <a:pt x="1154" y="0"/>
                    </a:moveTo>
                    <a:lnTo>
                      <a:pt x="1154" y="0"/>
                    </a:lnTo>
                    <a:cubicBezTo>
                      <a:pt x="1155" y="0"/>
                      <a:pt x="1156" y="1"/>
                      <a:pt x="1156" y="2"/>
                    </a:cubicBezTo>
                    <a:cubicBezTo>
                      <a:pt x="1156" y="3"/>
                      <a:pt x="1155" y="4"/>
                      <a:pt x="1154" y="4"/>
                    </a:cubicBezTo>
                    <a:lnTo>
                      <a:pt x="1154" y="4"/>
                    </a:lnTo>
                    <a:cubicBezTo>
                      <a:pt x="1153" y="4"/>
                      <a:pt x="1152" y="3"/>
                      <a:pt x="1152" y="2"/>
                    </a:cubicBezTo>
                    <a:cubicBezTo>
                      <a:pt x="1152" y="1"/>
                      <a:pt x="1153" y="0"/>
                      <a:pt x="1154" y="0"/>
                    </a:cubicBezTo>
                    <a:close/>
                    <a:moveTo>
                      <a:pt x="1162" y="0"/>
                    </a:moveTo>
                    <a:lnTo>
                      <a:pt x="1162" y="0"/>
                    </a:lnTo>
                    <a:cubicBezTo>
                      <a:pt x="1163" y="0"/>
                      <a:pt x="1164" y="1"/>
                      <a:pt x="1164" y="2"/>
                    </a:cubicBezTo>
                    <a:cubicBezTo>
                      <a:pt x="1164" y="3"/>
                      <a:pt x="1163" y="4"/>
                      <a:pt x="1162" y="4"/>
                    </a:cubicBezTo>
                    <a:lnTo>
                      <a:pt x="1162" y="4"/>
                    </a:lnTo>
                    <a:cubicBezTo>
                      <a:pt x="1161" y="4"/>
                      <a:pt x="1160" y="3"/>
                      <a:pt x="1160" y="2"/>
                    </a:cubicBezTo>
                    <a:cubicBezTo>
                      <a:pt x="1160" y="1"/>
                      <a:pt x="1161" y="0"/>
                      <a:pt x="1162" y="0"/>
                    </a:cubicBezTo>
                    <a:close/>
                    <a:moveTo>
                      <a:pt x="1170" y="0"/>
                    </a:moveTo>
                    <a:lnTo>
                      <a:pt x="1170" y="0"/>
                    </a:lnTo>
                    <a:cubicBezTo>
                      <a:pt x="1171" y="0"/>
                      <a:pt x="1172" y="1"/>
                      <a:pt x="1172" y="2"/>
                    </a:cubicBezTo>
                    <a:cubicBezTo>
                      <a:pt x="1172" y="3"/>
                      <a:pt x="1171" y="4"/>
                      <a:pt x="1170" y="4"/>
                    </a:cubicBezTo>
                    <a:lnTo>
                      <a:pt x="1170" y="4"/>
                    </a:lnTo>
                    <a:cubicBezTo>
                      <a:pt x="1169" y="4"/>
                      <a:pt x="1168" y="3"/>
                      <a:pt x="1168" y="2"/>
                    </a:cubicBezTo>
                    <a:cubicBezTo>
                      <a:pt x="1168" y="1"/>
                      <a:pt x="1169" y="0"/>
                      <a:pt x="1170" y="0"/>
                    </a:cubicBezTo>
                    <a:close/>
                    <a:moveTo>
                      <a:pt x="1178" y="0"/>
                    </a:moveTo>
                    <a:lnTo>
                      <a:pt x="1178" y="0"/>
                    </a:lnTo>
                    <a:cubicBezTo>
                      <a:pt x="1179" y="0"/>
                      <a:pt x="1180" y="1"/>
                      <a:pt x="1180" y="2"/>
                    </a:cubicBezTo>
                    <a:cubicBezTo>
                      <a:pt x="1180" y="3"/>
                      <a:pt x="1179" y="4"/>
                      <a:pt x="1178" y="4"/>
                    </a:cubicBezTo>
                    <a:lnTo>
                      <a:pt x="1178" y="4"/>
                    </a:lnTo>
                    <a:cubicBezTo>
                      <a:pt x="1177" y="4"/>
                      <a:pt x="1176" y="3"/>
                      <a:pt x="1176" y="2"/>
                    </a:cubicBezTo>
                    <a:cubicBezTo>
                      <a:pt x="1176" y="1"/>
                      <a:pt x="1177" y="0"/>
                      <a:pt x="1178" y="0"/>
                    </a:cubicBezTo>
                    <a:close/>
                    <a:moveTo>
                      <a:pt x="1186" y="0"/>
                    </a:moveTo>
                    <a:lnTo>
                      <a:pt x="1186" y="0"/>
                    </a:lnTo>
                    <a:cubicBezTo>
                      <a:pt x="1187" y="0"/>
                      <a:pt x="1188" y="1"/>
                      <a:pt x="1188" y="2"/>
                    </a:cubicBezTo>
                    <a:cubicBezTo>
                      <a:pt x="1188" y="3"/>
                      <a:pt x="1187" y="4"/>
                      <a:pt x="1186" y="4"/>
                    </a:cubicBezTo>
                    <a:lnTo>
                      <a:pt x="1186" y="4"/>
                    </a:lnTo>
                    <a:cubicBezTo>
                      <a:pt x="1185" y="4"/>
                      <a:pt x="1184" y="3"/>
                      <a:pt x="1184" y="2"/>
                    </a:cubicBezTo>
                    <a:cubicBezTo>
                      <a:pt x="1184" y="1"/>
                      <a:pt x="1185" y="0"/>
                      <a:pt x="1186" y="0"/>
                    </a:cubicBezTo>
                    <a:close/>
                    <a:moveTo>
                      <a:pt x="1194" y="0"/>
                    </a:moveTo>
                    <a:lnTo>
                      <a:pt x="1194" y="0"/>
                    </a:lnTo>
                    <a:cubicBezTo>
                      <a:pt x="1195" y="0"/>
                      <a:pt x="1196" y="1"/>
                      <a:pt x="1196" y="2"/>
                    </a:cubicBezTo>
                    <a:cubicBezTo>
                      <a:pt x="1196" y="3"/>
                      <a:pt x="1195" y="4"/>
                      <a:pt x="1194" y="4"/>
                    </a:cubicBezTo>
                    <a:lnTo>
                      <a:pt x="1194" y="4"/>
                    </a:lnTo>
                    <a:cubicBezTo>
                      <a:pt x="1193" y="4"/>
                      <a:pt x="1192" y="3"/>
                      <a:pt x="1192" y="2"/>
                    </a:cubicBezTo>
                    <a:cubicBezTo>
                      <a:pt x="1192" y="1"/>
                      <a:pt x="1193" y="0"/>
                      <a:pt x="1194" y="0"/>
                    </a:cubicBezTo>
                    <a:close/>
                    <a:moveTo>
                      <a:pt x="1202" y="0"/>
                    </a:moveTo>
                    <a:lnTo>
                      <a:pt x="1202" y="0"/>
                    </a:lnTo>
                    <a:cubicBezTo>
                      <a:pt x="1203" y="0"/>
                      <a:pt x="1204" y="1"/>
                      <a:pt x="1204" y="2"/>
                    </a:cubicBezTo>
                    <a:cubicBezTo>
                      <a:pt x="1204" y="3"/>
                      <a:pt x="1203" y="4"/>
                      <a:pt x="1202" y="4"/>
                    </a:cubicBezTo>
                    <a:lnTo>
                      <a:pt x="1202" y="4"/>
                    </a:lnTo>
                    <a:cubicBezTo>
                      <a:pt x="1201" y="4"/>
                      <a:pt x="1200" y="3"/>
                      <a:pt x="1200" y="2"/>
                    </a:cubicBezTo>
                    <a:cubicBezTo>
                      <a:pt x="1200" y="1"/>
                      <a:pt x="1201" y="0"/>
                      <a:pt x="1202" y="0"/>
                    </a:cubicBezTo>
                    <a:close/>
                    <a:moveTo>
                      <a:pt x="1210" y="0"/>
                    </a:moveTo>
                    <a:lnTo>
                      <a:pt x="1210" y="0"/>
                    </a:lnTo>
                    <a:cubicBezTo>
                      <a:pt x="1212" y="0"/>
                      <a:pt x="1212" y="1"/>
                      <a:pt x="1212" y="2"/>
                    </a:cubicBezTo>
                    <a:cubicBezTo>
                      <a:pt x="1212" y="3"/>
                      <a:pt x="1212" y="4"/>
                      <a:pt x="1210" y="4"/>
                    </a:cubicBezTo>
                    <a:lnTo>
                      <a:pt x="1210" y="4"/>
                    </a:lnTo>
                    <a:cubicBezTo>
                      <a:pt x="1209" y="4"/>
                      <a:pt x="1208" y="3"/>
                      <a:pt x="1208" y="2"/>
                    </a:cubicBezTo>
                    <a:cubicBezTo>
                      <a:pt x="1208" y="1"/>
                      <a:pt x="1209" y="0"/>
                      <a:pt x="1210" y="0"/>
                    </a:cubicBezTo>
                    <a:close/>
                    <a:moveTo>
                      <a:pt x="1218" y="0"/>
                    </a:moveTo>
                    <a:lnTo>
                      <a:pt x="1218" y="0"/>
                    </a:lnTo>
                    <a:cubicBezTo>
                      <a:pt x="1220" y="0"/>
                      <a:pt x="1220" y="1"/>
                      <a:pt x="1220" y="2"/>
                    </a:cubicBezTo>
                    <a:cubicBezTo>
                      <a:pt x="1220" y="3"/>
                      <a:pt x="1220" y="4"/>
                      <a:pt x="1218" y="4"/>
                    </a:cubicBezTo>
                    <a:lnTo>
                      <a:pt x="1218" y="4"/>
                    </a:lnTo>
                    <a:cubicBezTo>
                      <a:pt x="1217" y="4"/>
                      <a:pt x="1216" y="3"/>
                      <a:pt x="1216" y="2"/>
                    </a:cubicBezTo>
                    <a:cubicBezTo>
                      <a:pt x="1216" y="1"/>
                      <a:pt x="1217" y="0"/>
                      <a:pt x="1218" y="0"/>
                    </a:cubicBezTo>
                    <a:close/>
                    <a:moveTo>
                      <a:pt x="1226" y="0"/>
                    </a:moveTo>
                    <a:lnTo>
                      <a:pt x="1226" y="0"/>
                    </a:lnTo>
                    <a:cubicBezTo>
                      <a:pt x="1228" y="0"/>
                      <a:pt x="1228" y="1"/>
                      <a:pt x="1228" y="2"/>
                    </a:cubicBezTo>
                    <a:cubicBezTo>
                      <a:pt x="1228" y="3"/>
                      <a:pt x="1228" y="4"/>
                      <a:pt x="1226" y="4"/>
                    </a:cubicBezTo>
                    <a:lnTo>
                      <a:pt x="1226" y="4"/>
                    </a:lnTo>
                    <a:cubicBezTo>
                      <a:pt x="1225" y="4"/>
                      <a:pt x="1224" y="3"/>
                      <a:pt x="1224" y="2"/>
                    </a:cubicBezTo>
                    <a:cubicBezTo>
                      <a:pt x="1224" y="1"/>
                      <a:pt x="1225" y="0"/>
                      <a:pt x="1226" y="0"/>
                    </a:cubicBezTo>
                    <a:close/>
                    <a:moveTo>
                      <a:pt x="1234" y="0"/>
                    </a:moveTo>
                    <a:lnTo>
                      <a:pt x="1234" y="0"/>
                    </a:lnTo>
                    <a:cubicBezTo>
                      <a:pt x="1236" y="0"/>
                      <a:pt x="1236" y="1"/>
                      <a:pt x="1236" y="2"/>
                    </a:cubicBezTo>
                    <a:cubicBezTo>
                      <a:pt x="1236" y="3"/>
                      <a:pt x="1236" y="4"/>
                      <a:pt x="1234" y="4"/>
                    </a:cubicBezTo>
                    <a:lnTo>
                      <a:pt x="1234" y="4"/>
                    </a:lnTo>
                    <a:cubicBezTo>
                      <a:pt x="1233" y="4"/>
                      <a:pt x="1232" y="3"/>
                      <a:pt x="1232" y="2"/>
                    </a:cubicBezTo>
                    <a:cubicBezTo>
                      <a:pt x="1232" y="1"/>
                      <a:pt x="1233" y="0"/>
                      <a:pt x="1234" y="0"/>
                    </a:cubicBezTo>
                    <a:close/>
                    <a:moveTo>
                      <a:pt x="1242" y="0"/>
                    </a:moveTo>
                    <a:lnTo>
                      <a:pt x="1242" y="0"/>
                    </a:lnTo>
                    <a:cubicBezTo>
                      <a:pt x="1244" y="0"/>
                      <a:pt x="1244" y="1"/>
                      <a:pt x="1244" y="2"/>
                    </a:cubicBezTo>
                    <a:cubicBezTo>
                      <a:pt x="1244" y="3"/>
                      <a:pt x="1244" y="4"/>
                      <a:pt x="1242" y="4"/>
                    </a:cubicBezTo>
                    <a:lnTo>
                      <a:pt x="1242" y="4"/>
                    </a:lnTo>
                    <a:cubicBezTo>
                      <a:pt x="1241" y="4"/>
                      <a:pt x="1240" y="3"/>
                      <a:pt x="1240" y="2"/>
                    </a:cubicBezTo>
                    <a:cubicBezTo>
                      <a:pt x="1240" y="1"/>
                      <a:pt x="1241" y="0"/>
                      <a:pt x="1242" y="0"/>
                    </a:cubicBezTo>
                    <a:close/>
                    <a:moveTo>
                      <a:pt x="1250" y="0"/>
                    </a:moveTo>
                    <a:lnTo>
                      <a:pt x="1250" y="0"/>
                    </a:lnTo>
                    <a:cubicBezTo>
                      <a:pt x="1252" y="0"/>
                      <a:pt x="1252" y="1"/>
                      <a:pt x="1252" y="2"/>
                    </a:cubicBezTo>
                    <a:cubicBezTo>
                      <a:pt x="1252" y="3"/>
                      <a:pt x="1252" y="4"/>
                      <a:pt x="1250" y="4"/>
                    </a:cubicBezTo>
                    <a:lnTo>
                      <a:pt x="1250" y="4"/>
                    </a:lnTo>
                    <a:cubicBezTo>
                      <a:pt x="1249" y="4"/>
                      <a:pt x="1248" y="3"/>
                      <a:pt x="1248" y="2"/>
                    </a:cubicBezTo>
                    <a:cubicBezTo>
                      <a:pt x="1248" y="1"/>
                      <a:pt x="1249" y="0"/>
                      <a:pt x="1250" y="0"/>
                    </a:cubicBezTo>
                    <a:close/>
                    <a:moveTo>
                      <a:pt x="1258" y="0"/>
                    </a:moveTo>
                    <a:lnTo>
                      <a:pt x="1258" y="0"/>
                    </a:lnTo>
                    <a:cubicBezTo>
                      <a:pt x="1260" y="0"/>
                      <a:pt x="1260" y="1"/>
                      <a:pt x="1260" y="2"/>
                    </a:cubicBezTo>
                    <a:cubicBezTo>
                      <a:pt x="1260" y="3"/>
                      <a:pt x="1260" y="4"/>
                      <a:pt x="1258" y="4"/>
                    </a:cubicBezTo>
                    <a:lnTo>
                      <a:pt x="1258" y="4"/>
                    </a:lnTo>
                    <a:cubicBezTo>
                      <a:pt x="1257" y="4"/>
                      <a:pt x="1256" y="3"/>
                      <a:pt x="1256" y="2"/>
                    </a:cubicBezTo>
                    <a:cubicBezTo>
                      <a:pt x="1256" y="1"/>
                      <a:pt x="1257" y="0"/>
                      <a:pt x="1258" y="0"/>
                    </a:cubicBezTo>
                    <a:close/>
                    <a:moveTo>
                      <a:pt x="1266" y="0"/>
                    </a:moveTo>
                    <a:lnTo>
                      <a:pt x="1266" y="0"/>
                    </a:lnTo>
                    <a:cubicBezTo>
                      <a:pt x="1268" y="0"/>
                      <a:pt x="1268" y="1"/>
                      <a:pt x="1268" y="2"/>
                    </a:cubicBezTo>
                    <a:cubicBezTo>
                      <a:pt x="1268" y="3"/>
                      <a:pt x="1268" y="4"/>
                      <a:pt x="1266" y="4"/>
                    </a:cubicBezTo>
                    <a:lnTo>
                      <a:pt x="1266" y="4"/>
                    </a:lnTo>
                    <a:cubicBezTo>
                      <a:pt x="1265" y="4"/>
                      <a:pt x="1264" y="3"/>
                      <a:pt x="1264" y="2"/>
                    </a:cubicBezTo>
                    <a:cubicBezTo>
                      <a:pt x="1264" y="1"/>
                      <a:pt x="1265" y="0"/>
                      <a:pt x="1266" y="0"/>
                    </a:cubicBezTo>
                    <a:close/>
                    <a:moveTo>
                      <a:pt x="1274" y="0"/>
                    </a:moveTo>
                    <a:lnTo>
                      <a:pt x="1274" y="0"/>
                    </a:lnTo>
                    <a:cubicBezTo>
                      <a:pt x="1276" y="0"/>
                      <a:pt x="1276" y="1"/>
                      <a:pt x="1276" y="2"/>
                    </a:cubicBezTo>
                    <a:cubicBezTo>
                      <a:pt x="1276" y="3"/>
                      <a:pt x="1276" y="4"/>
                      <a:pt x="1274" y="4"/>
                    </a:cubicBezTo>
                    <a:lnTo>
                      <a:pt x="1274" y="4"/>
                    </a:lnTo>
                    <a:cubicBezTo>
                      <a:pt x="1273" y="4"/>
                      <a:pt x="1272" y="3"/>
                      <a:pt x="1272" y="2"/>
                    </a:cubicBezTo>
                    <a:cubicBezTo>
                      <a:pt x="1272" y="1"/>
                      <a:pt x="1273" y="0"/>
                      <a:pt x="1274" y="0"/>
                    </a:cubicBezTo>
                    <a:close/>
                    <a:moveTo>
                      <a:pt x="1282" y="0"/>
                    </a:moveTo>
                    <a:lnTo>
                      <a:pt x="1282" y="0"/>
                    </a:lnTo>
                    <a:cubicBezTo>
                      <a:pt x="1284" y="0"/>
                      <a:pt x="1284" y="1"/>
                      <a:pt x="1284" y="2"/>
                    </a:cubicBezTo>
                    <a:cubicBezTo>
                      <a:pt x="1284" y="3"/>
                      <a:pt x="1284" y="4"/>
                      <a:pt x="1282" y="4"/>
                    </a:cubicBezTo>
                    <a:lnTo>
                      <a:pt x="1282" y="4"/>
                    </a:lnTo>
                    <a:cubicBezTo>
                      <a:pt x="1281" y="4"/>
                      <a:pt x="1280" y="3"/>
                      <a:pt x="1280" y="2"/>
                    </a:cubicBezTo>
                    <a:cubicBezTo>
                      <a:pt x="1280" y="1"/>
                      <a:pt x="1281" y="0"/>
                      <a:pt x="1282" y="0"/>
                    </a:cubicBezTo>
                    <a:close/>
                    <a:moveTo>
                      <a:pt x="1290" y="0"/>
                    </a:moveTo>
                    <a:lnTo>
                      <a:pt x="1290" y="0"/>
                    </a:lnTo>
                    <a:cubicBezTo>
                      <a:pt x="1292" y="0"/>
                      <a:pt x="1292" y="1"/>
                      <a:pt x="1292" y="2"/>
                    </a:cubicBezTo>
                    <a:cubicBezTo>
                      <a:pt x="1292" y="3"/>
                      <a:pt x="1292" y="4"/>
                      <a:pt x="1290" y="4"/>
                    </a:cubicBezTo>
                    <a:lnTo>
                      <a:pt x="1290" y="4"/>
                    </a:lnTo>
                    <a:cubicBezTo>
                      <a:pt x="1289" y="4"/>
                      <a:pt x="1288" y="3"/>
                      <a:pt x="1288" y="2"/>
                    </a:cubicBezTo>
                    <a:cubicBezTo>
                      <a:pt x="1288" y="1"/>
                      <a:pt x="1289" y="0"/>
                      <a:pt x="1290" y="0"/>
                    </a:cubicBezTo>
                    <a:close/>
                    <a:moveTo>
                      <a:pt x="1298" y="0"/>
                    </a:moveTo>
                    <a:lnTo>
                      <a:pt x="1298" y="0"/>
                    </a:lnTo>
                    <a:cubicBezTo>
                      <a:pt x="1300" y="0"/>
                      <a:pt x="1300" y="1"/>
                      <a:pt x="1300" y="2"/>
                    </a:cubicBezTo>
                    <a:cubicBezTo>
                      <a:pt x="1300" y="3"/>
                      <a:pt x="1300" y="4"/>
                      <a:pt x="1298" y="4"/>
                    </a:cubicBezTo>
                    <a:lnTo>
                      <a:pt x="1298" y="4"/>
                    </a:lnTo>
                    <a:cubicBezTo>
                      <a:pt x="1297" y="4"/>
                      <a:pt x="1296" y="3"/>
                      <a:pt x="1296" y="2"/>
                    </a:cubicBezTo>
                    <a:cubicBezTo>
                      <a:pt x="1296" y="1"/>
                      <a:pt x="1297" y="0"/>
                      <a:pt x="1298" y="0"/>
                    </a:cubicBezTo>
                    <a:close/>
                    <a:moveTo>
                      <a:pt x="1306" y="0"/>
                    </a:moveTo>
                    <a:lnTo>
                      <a:pt x="1306" y="0"/>
                    </a:lnTo>
                    <a:cubicBezTo>
                      <a:pt x="1308" y="0"/>
                      <a:pt x="1308" y="1"/>
                      <a:pt x="1308" y="2"/>
                    </a:cubicBezTo>
                    <a:cubicBezTo>
                      <a:pt x="1308" y="3"/>
                      <a:pt x="1308" y="4"/>
                      <a:pt x="1306" y="4"/>
                    </a:cubicBezTo>
                    <a:lnTo>
                      <a:pt x="1306" y="4"/>
                    </a:lnTo>
                    <a:cubicBezTo>
                      <a:pt x="1305" y="4"/>
                      <a:pt x="1304" y="3"/>
                      <a:pt x="1304" y="2"/>
                    </a:cubicBezTo>
                    <a:cubicBezTo>
                      <a:pt x="1304" y="1"/>
                      <a:pt x="1305" y="0"/>
                      <a:pt x="1306" y="0"/>
                    </a:cubicBezTo>
                    <a:close/>
                    <a:moveTo>
                      <a:pt x="1314" y="0"/>
                    </a:moveTo>
                    <a:lnTo>
                      <a:pt x="1314" y="0"/>
                    </a:lnTo>
                    <a:cubicBezTo>
                      <a:pt x="1316" y="0"/>
                      <a:pt x="1316" y="1"/>
                      <a:pt x="1316" y="2"/>
                    </a:cubicBezTo>
                    <a:cubicBezTo>
                      <a:pt x="1316" y="3"/>
                      <a:pt x="1316" y="4"/>
                      <a:pt x="1314" y="4"/>
                    </a:cubicBezTo>
                    <a:lnTo>
                      <a:pt x="1314" y="4"/>
                    </a:lnTo>
                    <a:cubicBezTo>
                      <a:pt x="1313" y="4"/>
                      <a:pt x="1312" y="3"/>
                      <a:pt x="1312" y="2"/>
                    </a:cubicBezTo>
                    <a:cubicBezTo>
                      <a:pt x="1312" y="1"/>
                      <a:pt x="1313" y="0"/>
                      <a:pt x="1314" y="0"/>
                    </a:cubicBezTo>
                    <a:close/>
                    <a:moveTo>
                      <a:pt x="1322" y="0"/>
                    </a:moveTo>
                    <a:lnTo>
                      <a:pt x="1322" y="0"/>
                    </a:lnTo>
                    <a:cubicBezTo>
                      <a:pt x="1324" y="0"/>
                      <a:pt x="1324" y="1"/>
                      <a:pt x="1324" y="2"/>
                    </a:cubicBezTo>
                    <a:cubicBezTo>
                      <a:pt x="1324" y="3"/>
                      <a:pt x="1324" y="4"/>
                      <a:pt x="1322" y="4"/>
                    </a:cubicBezTo>
                    <a:lnTo>
                      <a:pt x="1322" y="4"/>
                    </a:lnTo>
                    <a:cubicBezTo>
                      <a:pt x="1321" y="4"/>
                      <a:pt x="1320" y="3"/>
                      <a:pt x="1320" y="2"/>
                    </a:cubicBezTo>
                    <a:cubicBezTo>
                      <a:pt x="1320" y="1"/>
                      <a:pt x="1321" y="0"/>
                      <a:pt x="1322" y="0"/>
                    </a:cubicBezTo>
                    <a:close/>
                    <a:moveTo>
                      <a:pt x="1330" y="0"/>
                    </a:moveTo>
                    <a:lnTo>
                      <a:pt x="1330" y="0"/>
                    </a:lnTo>
                    <a:cubicBezTo>
                      <a:pt x="1332" y="0"/>
                      <a:pt x="1332" y="1"/>
                      <a:pt x="1332" y="2"/>
                    </a:cubicBezTo>
                    <a:cubicBezTo>
                      <a:pt x="1332" y="3"/>
                      <a:pt x="1332" y="4"/>
                      <a:pt x="1330" y="4"/>
                    </a:cubicBezTo>
                    <a:lnTo>
                      <a:pt x="1330" y="4"/>
                    </a:lnTo>
                    <a:cubicBezTo>
                      <a:pt x="1329" y="4"/>
                      <a:pt x="1328" y="3"/>
                      <a:pt x="1328" y="2"/>
                    </a:cubicBezTo>
                    <a:cubicBezTo>
                      <a:pt x="1328" y="1"/>
                      <a:pt x="1329" y="0"/>
                      <a:pt x="1330" y="0"/>
                    </a:cubicBezTo>
                    <a:close/>
                    <a:moveTo>
                      <a:pt x="1338" y="0"/>
                    </a:moveTo>
                    <a:lnTo>
                      <a:pt x="1338" y="0"/>
                    </a:lnTo>
                    <a:cubicBezTo>
                      <a:pt x="1340" y="0"/>
                      <a:pt x="1340" y="1"/>
                      <a:pt x="1340" y="2"/>
                    </a:cubicBezTo>
                    <a:cubicBezTo>
                      <a:pt x="1340" y="3"/>
                      <a:pt x="1340" y="4"/>
                      <a:pt x="1338" y="4"/>
                    </a:cubicBezTo>
                    <a:lnTo>
                      <a:pt x="1338" y="4"/>
                    </a:lnTo>
                    <a:cubicBezTo>
                      <a:pt x="1337" y="4"/>
                      <a:pt x="1336" y="3"/>
                      <a:pt x="1336" y="2"/>
                    </a:cubicBezTo>
                    <a:cubicBezTo>
                      <a:pt x="1336" y="1"/>
                      <a:pt x="1337" y="0"/>
                      <a:pt x="1338" y="0"/>
                    </a:cubicBezTo>
                    <a:close/>
                    <a:moveTo>
                      <a:pt x="1346" y="0"/>
                    </a:moveTo>
                    <a:lnTo>
                      <a:pt x="1346" y="0"/>
                    </a:lnTo>
                    <a:cubicBezTo>
                      <a:pt x="1348" y="0"/>
                      <a:pt x="1348" y="1"/>
                      <a:pt x="1348" y="2"/>
                    </a:cubicBezTo>
                    <a:cubicBezTo>
                      <a:pt x="1348" y="3"/>
                      <a:pt x="1348" y="4"/>
                      <a:pt x="1346" y="4"/>
                    </a:cubicBezTo>
                    <a:lnTo>
                      <a:pt x="1346" y="4"/>
                    </a:lnTo>
                    <a:cubicBezTo>
                      <a:pt x="1345" y="4"/>
                      <a:pt x="1344" y="3"/>
                      <a:pt x="1344" y="2"/>
                    </a:cubicBezTo>
                    <a:cubicBezTo>
                      <a:pt x="1344" y="1"/>
                      <a:pt x="1345" y="0"/>
                      <a:pt x="1346" y="0"/>
                    </a:cubicBezTo>
                    <a:close/>
                    <a:moveTo>
                      <a:pt x="1354" y="0"/>
                    </a:moveTo>
                    <a:lnTo>
                      <a:pt x="1354" y="0"/>
                    </a:lnTo>
                    <a:cubicBezTo>
                      <a:pt x="1356" y="0"/>
                      <a:pt x="1356" y="1"/>
                      <a:pt x="1356" y="2"/>
                    </a:cubicBezTo>
                    <a:cubicBezTo>
                      <a:pt x="1356" y="3"/>
                      <a:pt x="1356" y="4"/>
                      <a:pt x="1354" y="4"/>
                    </a:cubicBezTo>
                    <a:lnTo>
                      <a:pt x="1354" y="4"/>
                    </a:lnTo>
                    <a:cubicBezTo>
                      <a:pt x="1353" y="4"/>
                      <a:pt x="1352" y="3"/>
                      <a:pt x="1352" y="2"/>
                    </a:cubicBezTo>
                    <a:cubicBezTo>
                      <a:pt x="1352" y="1"/>
                      <a:pt x="1353" y="0"/>
                      <a:pt x="1354" y="0"/>
                    </a:cubicBezTo>
                    <a:close/>
                    <a:moveTo>
                      <a:pt x="1362" y="0"/>
                    </a:moveTo>
                    <a:lnTo>
                      <a:pt x="1362" y="0"/>
                    </a:lnTo>
                    <a:cubicBezTo>
                      <a:pt x="1364" y="0"/>
                      <a:pt x="1364" y="1"/>
                      <a:pt x="1364" y="2"/>
                    </a:cubicBezTo>
                    <a:cubicBezTo>
                      <a:pt x="1364" y="3"/>
                      <a:pt x="1364" y="4"/>
                      <a:pt x="1362" y="4"/>
                    </a:cubicBezTo>
                    <a:lnTo>
                      <a:pt x="1362" y="4"/>
                    </a:lnTo>
                    <a:cubicBezTo>
                      <a:pt x="1361" y="4"/>
                      <a:pt x="1360" y="3"/>
                      <a:pt x="1360" y="2"/>
                    </a:cubicBezTo>
                    <a:cubicBezTo>
                      <a:pt x="1360" y="1"/>
                      <a:pt x="1361" y="0"/>
                      <a:pt x="1362" y="0"/>
                    </a:cubicBezTo>
                    <a:close/>
                    <a:moveTo>
                      <a:pt x="1370" y="0"/>
                    </a:moveTo>
                    <a:lnTo>
                      <a:pt x="1370" y="0"/>
                    </a:lnTo>
                    <a:cubicBezTo>
                      <a:pt x="1372" y="0"/>
                      <a:pt x="1372" y="1"/>
                      <a:pt x="1372" y="2"/>
                    </a:cubicBezTo>
                    <a:cubicBezTo>
                      <a:pt x="1372" y="3"/>
                      <a:pt x="1372" y="4"/>
                      <a:pt x="1370" y="4"/>
                    </a:cubicBezTo>
                    <a:lnTo>
                      <a:pt x="1370" y="4"/>
                    </a:lnTo>
                    <a:cubicBezTo>
                      <a:pt x="1369" y="4"/>
                      <a:pt x="1368" y="3"/>
                      <a:pt x="1368" y="2"/>
                    </a:cubicBezTo>
                    <a:cubicBezTo>
                      <a:pt x="1368" y="1"/>
                      <a:pt x="1369" y="0"/>
                      <a:pt x="1370" y="0"/>
                    </a:cubicBezTo>
                    <a:close/>
                    <a:moveTo>
                      <a:pt x="1378" y="0"/>
                    </a:moveTo>
                    <a:lnTo>
                      <a:pt x="1378" y="0"/>
                    </a:lnTo>
                    <a:cubicBezTo>
                      <a:pt x="1380" y="0"/>
                      <a:pt x="1380" y="1"/>
                      <a:pt x="1380" y="2"/>
                    </a:cubicBezTo>
                    <a:cubicBezTo>
                      <a:pt x="1380" y="3"/>
                      <a:pt x="1380" y="4"/>
                      <a:pt x="1378" y="4"/>
                    </a:cubicBezTo>
                    <a:lnTo>
                      <a:pt x="1378" y="4"/>
                    </a:lnTo>
                    <a:cubicBezTo>
                      <a:pt x="1377" y="4"/>
                      <a:pt x="1376" y="3"/>
                      <a:pt x="1376" y="2"/>
                    </a:cubicBezTo>
                    <a:cubicBezTo>
                      <a:pt x="1376" y="1"/>
                      <a:pt x="1377" y="0"/>
                      <a:pt x="1378" y="0"/>
                    </a:cubicBezTo>
                    <a:close/>
                    <a:moveTo>
                      <a:pt x="1386" y="0"/>
                    </a:moveTo>
                    <a:lnTo>
                      <a:pt x="1386" y="0"/>
                    </a:lnTo>
                    <a:cubicBezTo>
                      <a:pt x="1388" y="0"/>
                      <a:pt x="1388" y="1"/>
                      <a:pt x="1388" y="2"/>
                    </a:cubicBezTo>
                    <a:cubicBezTo>
                      <a:pt x="1388" y="3"/>
                      <a:pt x="1388" y="4"/>
                      <a:pt x="1386" y="4"/>
                    </a:cubicBezTo>
                    <a:lnTo>
                      <a:pt x="1386" y="4"/>
                    </a:lnTo>
                    <a:cubicBezTo>
                      <a:pt x="1385" y="4"/>
                      <a:pt x="1384" y="3"/>
                      <a:pt x="1384" y="2"/>
                    </a:cubicBezTo>
                    <a:cubicBezTo>
                      <a:pt x="1384" y="1"/>
                      <a:pt x="1385" y="0"/>
                      <a:pt x="1386" y="0"/>
                    </a:cubicBezTo>
                    <a:close/>
                    <a:moveTo>
                      <a:pt x="1394" y="0"/>
                    </a:moveTo>
                    <a:lnTo>
                      <a:pt x="1394" y="0"/>
                    </a:lnTo>
                    <a:cubicBezTo>
                      <a:pt x="1396" y="0"/>
                      <a:pt x="1396" y="1"/>
                      <a:pt x="1396" y="2"/>
                    </a:cubicBezTo>
                    <a:cubicBezTo>
                      <a:pt x="1396" y="3"/>
                      <a:pt x="1396" y="4"/>
                      <a:pt x="1394" y="4"/>
                    </a:cubicBezTo>
                    <a:lnTo>
                      <a:pt x="1394" y="4"/>
                    </a:lnTo>
                    <a:cubicBezTo>
                      <a:pt x="1393" y="4"/>
                      <a:pt x="1392" y="3"/>
                      <a:pt x="1392" y="2"/>
                    </a:cubicBezTo>
                    <a:cubicBezTo>
                      <a:pt x="1392" y="1"/>
                      <a:pt x="1393" y="0"/>
                      <a:pt x="1394" y="0"/>
                    </a:cubicBezTo>
                    <a:close/>
                    <a:moveTo>
                      <a:pt x="1402" y="0"/>
                    </a:moveTo>
                    <a:lnTo>
                      <a:pt x="1402" y="0"/>
                    </a:lnTo>
                    <a:cubicBezTo>
                      <a:pt x="1404" y="0"/>
                      <a:pt x="1404" y="1"/>
                      <a:pt x="1404" y="2"/>
                    </a:cubicBezTo>
                    <a:cubicBezTo>
                      <a:pt x="1404" y="3"/>
                      <a:pt x="1404" y="4"/>
                      <a:pt x="1402" y="4"/>
                    </a:cubicBezTo>
                    <a:lnTo>
                      <a:pt x="1402" y="4"/>
                    </a:lnTo>
                    <a:cubicBezTo>
                      <a:pt x="1401" y="4"/>
                      <a:pt x="1400" y="3"/>
                      <a:pt x="1400" y="2"/>
                    </a:cubicBezTo>
                    <a:cubicBezTo>
                      <a:pt x="1400" y="1"/>
                      <a:pt x="1401" y="0"/>
                      <a:pt x="1402" y="0"/>
                    </a:cubicBezTo>
                    <a:close/>
                    <a:moveTo>
                      <a:pt x="1410" y="0"/>
                    </a:moveTo>
                    <a:lnTo>
                      <a:pt x="1410" y="0"/>
                    </a:lnTo>
                    <a:cubicBezTo>
                      <a:pt x="1412" y="0"/>
                      <a:pt x="1412" y="1"/>
                      <a:pt x="1412" y="2"/>
                    </a:cubicBezTo>
                    <a:cubicBezTo>
                      <a:pt x="1412" y="3"/>
                      <a:pt x="1412" y="4"/>
                      <a:pt x="1410" y="4"/>
                    </a:cubicBezTo>
                    <a:lnTo>
                      <a:pt x="1410" y="4"/>
                    </a:lnTo>
                    <a:cubicBezTo>
                      <a:pt x="1409" y="4"/>
                      <a:pt x="1408" y="3"/>
                      <a:pt x="1408" y="2"/>
                    </a:cubicBezTo>
                    <a:cubicBezTo>
                      <a:pt x="1408" y="1"/>
                      <a:pt x="1409" y="0"/>
                      <a:pt x="1410" y="0"/>
                    </a:cubicBezTo>
                    <a:close/>
                    <a:moveTo>
                      <a:pt x="1418" y="0"/>
                    </a:moveTo>
                    <a:lnTo>
                      <a:pt x="1418" y="0"/>
                    </a:lnTo>
                    <a:cubicBezTo>
                      <a:pt x="1420" y="0"/>
                      <a:pt x="1420" y="1"/>
                      <a:pt x="1420" y="2"/>
                    </a:cubicBezTo>
                    <a:cubicBezTo>
                      <a:pt x="1420" y="3"/>
                      <a:pt x="1420" y="4"/>
                      <a:pt x="1418" y="4"/>
                    </a:cubicBezTo>
                    <a:lnTo>
                      <a:pt x="1418" y="4"/>
                    </a:lnTo>
                    <a:cubicBezTo>
                      <a:pt x="1417" y="4"/>
                      <a:pt x="1416" y="3"/>
                      <a:pt x="1416" y="2"/>
                    </a:cubicBezTo>
                    <a:cubicBezTo>
                      <a:pt x="1416" y="1"/>
                      <a:pt x="1417" y="0"/>
                      <a:pt x="1418" y="0"/>
                    </a:cubicBezTo>
                    <a:close/>
                    <a:moveTo>
                      <a:pt x="1426" y="0"/>
                    </a:moveTo>
                    <a:lnTo>
                      <a:pt x="1427" y="0"/>
                    </a:lnTo>
                    <a:cubicBezTo>
                      <a:pt x="1428" y="0"/>
                      <a:pt x="1429" y="1"/>
                      <a:pt x="1429" y="2"/>
                    </a:cubicBezTo>
                    <a:cubicBezTo>
                      <a:pt x="1429" y="3"/>
                      <a:pt x="1428" y="4"/>
                      <a:pt x="1427" y="4"/>
                    </a:cubicBezTo>
                    <a:lnTo>
                      <a:pt x="1426" y="4"/>
                    </a:lnTo>
                    <a:cubicBezTo>
                      <a:pt x="1425" y="4"/>
                      <a:pt x="1424" y="3"/>
                      <a:pt x="1424" y="2"/>
                    </a:cubicBezTo>
                    <a:cubicBezTo>
                      <a:pt x="1424" y="1"/>
                      <a:pt x="1425" y="0"/>
                      <a:pt x="1426" y="0"/>
                    </a:cubicBezTo>
                    <a:close/>
                    <a:moveTo>
                      <a:pt x="1435" y="0"/>
                    </a:moveTo>
                    <a:lnTo>
                      <a:pt x="1435" y="0"/>
                    </a:lnTo>
                    <a:cubicBezTo>
                      <a:pt x="1436" y="0"/>
                      <a:pt x="1437" y="1"/>
                      <a:pt x="1437" y="2"/>
                    </a:cubicBezTo>
                    <a:cubicBezTo>
                      <a:pt x="1437" y="3"/>
                      <a:pt x="1436" y="4"/>
                      <a:pt x="1435" y="4"/>
                    </a:cubicBezTo>
                    <a:lnTo>
                      <a:pt x="1435" y="4"/>
                    </a:lnTo>
                    <a:cubicBezTo>
                      <a:pt x="1433" y="4"/>
                      <a:pt x="1433" y="3"/>
                      <a:pt x="1433" y="2"/>
                    </a:cubicBezTo>
                    <a:cubicBezTo>
                      <a:pt x="1433" y="1"/>
                      <a:pt x="1433" y="0"/>
                      <a:pt x="1435" y="0"/>
                    </a:cubicBezTo>
                    <a:close/>
                    <a:moveTo>
                      <a:pt x="1443" y="0"/>
                    </a:moveTo>
                    <a:lnTo>
                      <a:pt x="1443" y="0"/>
                    </a:lnTo>
                    <a:cubicBezTo>
                      <a:pt x="1444" y="0"/>
                      <a:pt x="1445" y="1"/>
                      <a:pt x="1445" y="2"/>
                    </a:cubicBezTo>
                    <a:cubicBezTo>
                      <a:pt x="1445" y="3"/>
                      <a:pt x="1444" y="4"/>
                      <a:pt x="1443" y="4"/>
                    </a:cubicBezTo>
                    <a:lnTo>
                      <a:pt x="1443" y="4"/>
                    </a:lnTo>
                    <a:cubicBezTo>
                      <a:pt x="1441" y="4"/>
                      <a:pt x="1441" y="3"/>
                      <a:pt x="1441" y="2"/>
                    </a:cubicBezTo>
                    <a:cubicBezTo>
                      <a:pt x="1441" y="1"/>
                      <a:pt x="1441" y="0"/>
                      <a:pt x="1443" y="0"/>
                    </a:cubicBezTo>
                    <a:close/>
                    <a:moveTo>
                      <a:pt x="1451" y="0"/>
                    </a:moveTo>
                    <a:lnTo>
                      <a:pt x="1451" y="0"/>
                    </a:lnTo>
                    <a:cubicBezTo>
                      <a:pt x="1452" y="0"/>
                      <a:pt x="1453" y="1"/>
                      <a:pt x="1453" y="2"/>
                    </a:cubicBezTo>
                    <a:cubicBezTo>
                      <a:pt x="1453" y="3"/>
                      <a:pt x="1452" y="4"/>
                      <a:pt x="1451" y="4"/>
                    </a:cubicBezTo>
                    <a:lnTo>
                      <a:pt x="1451" y="4"/>
                    </a:lnTo>
                    <a:cubicBezTo>
                      <a:pt x="1449" y="4"/>
                      <a:pt x="1449" y="3"/>
                      <a:pt x="1449" y="2"/>
                    </a:cubicBezTo>
                    <a:cubicBezTo>
                      <a:pt x="1449" y="1"/>
                      <a:pt x="1449" y="0"/>
                      <a:pt x="1451" y="0"/>
                    </a:cubicBezTo>
                    <a:close/>
                    <a:moveTo>
                      <a:pt x="1459" y="0"/>
                    </a:moveTo>
                    <a:lnTo>
                      <a:pt x="1459" y="0"/>
                    </a:lnTo>
                    <a:cubicBezTo>
                      <a:pt x="1460" y="0"/>
                      <a:pt x="1461" y="1"/>
                      <a:pt x="1461" y="2"/>
                    </a:cubicBezTo>
                    <a:cubicBezTo>
                      <a:pt x="1461" y="3"/>
                      <a:pt x="1460" y="4"/>
                      <a:pt x="1459" y="4"/>
                    </a:cubicBezTo>
                    <a:lnTo>
                      <a:pt x="1459" y="4"/>
                    </a:lnTo>
                    <a:cubicBezTo>
                      <a:pt x="1457" y="4"/>
                      <a:pt x="1457" y="3"/>
                      <a:pt x="1457" y="2"/>
                    </a:cubicBezTo>
                    <a:cubicBezTo>
                      <a:pt x="1457" y="1"/>
                      <a:pt x="1457" y="0"/>
                      <a:pt x="1459" y="0"/>
                    </a:cubicBezTo>
                    <a:close/>
                    <a:moveTo>
                      <a:pt x="1467" y="0"/>
                    </a:moveTo>
                    <a:lnTo>
                      <a:pt x="1467" y="0"/>
                    </a:lnTo>
                    <a:cubicBezTo>
                      <a:pt x="1468" y="0"/>
                      <a:pt x="1469" y="1"/>
                      <a:pt x="1469" y="2"/>
                    </a:cubicBezTo>
                    <a:cubicBezTo>
                      <a:pt x="1469" y="3"/>
                      <a:pt x="1468" y="4"/>
                      <a:pt x="1467" y="4"/>
                    </a:cubicBezTo>
                    <a:lnTo>
                      <a:pt x="1467" y="4"/>
                    </a:lnTo>
                    <a:cubicBezTo>
                      <a:pt x="1465" y="4"/>
                      <a:pt x="1465" y="3"/>
                      <a:pt x="1465" y="2"/>
                    </a:cubicBezTo>
                    <a:cubicBezTo>
                      <a:pt x="1465" y="1"/>
                      <a:pt x="1465" y="0"/>
                      <a:pt x="1467" y="0"/>
                    </a:cubicBezTo>
                    <a:close/>
                    <a:moveTo>
                      <a:pt x="1475" y="0"/>
                    </a:moveTo>
                    <a:lnTo>
                      <a:pt x="1475" y="0"/>
                    </a:lnTo>
                    <a:cubicBezTo>
                      <a:pt x="1476" y="0"/>
                      <a:pt x="1477" y="1"/>
                      <a:pt x="1477" y="2"/>
                    </a:cubicBezTo>
                    <a:cubicBezTo>
                      <a:pt x="1477" y="3"/>
                      <a:pt x="1476" y="4"/>
                      <a:pt x="1475" y="4"/>
                    </a:cubicBezTo>
                    <a:lnTo>
                      <a:pt x="1475" y="4"/>
                    </a:lnTo>
                    <a:cubicBezTo>
                      <a:pt x="1473" y="4"/>
                      <a:pt x="1473" y="3"/>
                      <a:pt x="1473" y="2"/>
                    </a:cubicBezTo>
                    <a:cubicBezTo>
                      <a:pt x="1473" y="1"/>
                      <a:pt x="1473" y="0"/>
                      <a:pt x="1475" y="0"/>
                    </a:cubicBezTo>
                    <a:close/>
                    <a:moveTo>
                      <a:pt x="1483" y="0"/>
                    </a:moveTo>
                    <a:lnTo>
                      <a:pt x="1483" y="0"/>
                    </a:lnTo>
                    <a:cubicBezTo>
                      <a:pt x="1484" y="0"/>
                      <a:pt x="1485" y="1"/>
                      <a:pt x="1485" y="2"/>
                    </a:cubicBezTo>
                    <a:cubicBezTo>
                      <a:pt x="1485" y="3"/>
                      <a:pt x="1484" y="4"/>
                      <a:pt x="1483" y="4"/>
                    </a:cubicBezTo>
                    <a:lnTo>
                      <a:pt x="1483" y="4"/>
                    </a:lnTo>
                    <a:cubicBezTo>
                      <a:pt x="1481" y="4"/>
                      <a:pt x="1481" y="3"/>
                      <a:pt x="1481" y="2"/>
                    </a:cubicBezTo>
                    <a:cubicBezTo>
                      <a:pt x="1481" y="1"/>
                      <a:pt x="1481" y="0"/>
                      <a:pt x="1483" y="0"/>
                    </a:cubicBezTo>
                    <a:close/>
                    <a:moveTo>
                      <a:pt x="1491" y="0"/>
                    </a:moveTo>
                    <a:lnTo>
                      <a:pt x="1491" y="0"/>
                    </a:lnTo>
                    <a:cubicBezTo>
                      <a:pt x="1492" y="0"/>
                      <a:pt x="1493" y="1"/>
                      <a:pt x="1493" y="2"/>
                    </a:cubicBezTo>
                    <a:cubicBezTo>
                      <a:pt x="1493" y="3"/>
                      <a:pt x="1492" y="4"/>
                      <a:pt x="1491" y="4"/>
                    </a:cubicBezTo>
                    <a:lnTo>
                      <a:pt x="1491" y="4"/>
                    </a:lnTo>
                    <a:cubicBezTo>
                      <a:pt x="1489" y="4"/>
                      <a:pt x="1489" y="3"/>
                      <a:pt x="1489" y="2"/>
                    </a:cubicBezTo>
                    <a:cubicBezTo>
                      <a:pt x="1489" y="1"/>
                      <a:pt x="1489" y="0"/>
                      <a:pt x="1491" y="0"/>
                    </a:cubicBezTo>
                    <a:close/>
                    <a:moveTo>
                      <a:pt x="1499" y="0"/>
                    </a:moveTo>
                    <a:lnTo>
                      <a:pt x="1499" y="0"/>
                    </a:lnTo>
                    <a:cubicBezTo>
                      <a:pt x="1500" y="0"/>
                      <a:pt x="1501" y="1"/>
                      <a:pt x="1501" y="2"/>
                    </a:cubicBezTo>
                    <a:cubicBezTo>
                      <a:pt x="1501" y="3"/>
                      <a:pt x="1500" y="4"/>
                      <a:pt x="1499" y="4"/>
                    </a:cubicBezTo>
                    <a:lnTo>
                      <a:pt x="1499" y="4"/>
                    </a:lnTo>
                    <a:cubicBezTo>
                      <a:pt x="1497" y="4"/>
                      <a:pt x="1497" y="3"/>
                      <a:pt x="1497" y="2"/>
                    </a:cubicBezTo>
                    <a:cubicBezTo>
                      <a:pt x="1497" y="1"/>
                      <a:pt x="1497" y="0"/>
                      <a:pt x="1499" y="0"/>
                    </a:cubicBezTo>
                    <a:close/>
                    <a:moveTo>
                      <a:pt x="1507" y="0"/>
                    </a:moveTo>
                    <a:lnTo>
                      <a:pt x="1507" y="0"/>
                    </a:lnTo>
                    <a:cubicBezTo>
                      <a:pt x="1508" y="0"/>
                      <a:pt x="1509" y="1"/>
                      <a:pt x="1509" y="2"/>
                    </a:cubicBezTo>
                    <a:cubicBezTo>
                      <a:pt x="1509" y="3"/>
                      <a:pt x="1508" y="4"/>
                      <a:pt x="1507" y="4"/>
                    </a:cubicBezTo>
                    <a:lnTo>
                      <a:pt x="1507" y="4"/>
                    </a:lnTo>
                    <a:cubicBezTo>
                      <a:pt x="1505" y="4"/>
                      <a:pt x="1505" y="3"/>
                      <a:pt x="1505" y="2"/>
                    </a:cubicBezTo>
                    <a:cubicBezTo>
                      <a:pt x="1505" y="1"/>
                      <a:pt x="1505" y="0"/>
                      <a:pt x="1507" y="0"/>
                    </a:cubicBezTo>
                    <a:close/>
                    <a:moveTo>
                      <a:pt x="1515" y="0"/>
                    </a:moveTo>
                    <a:lnTo>
                      <a:pt x="1515" y="0"/>
                    </a:lnTo>
                    <a:cubicBezTo>
                      <a:pt x="1516" y="0"/>
                      <a:pt x="1517" y="1"/>
                      <a:pt x="1517" y="2"/>
                    </a:cubicBezTo>
                    <a:cubicBezTo>
                      <a:pt x="1517" y="3"/>
                      <a:pt x="1516" y="4"/>
                      <a:pt x="1515" y="4"/>
                    </a:cubicBezTo>
                    <a:lnTo>
                      <a:pt x="1515" y="4"/>
                    </a:lnTo>
                    <a:cubicBezTo>
                      <a:pt x="1513" y="4"/>
                      <a:pt x="1513" y="3"/>
                      <a:pt x="1513" y="2"/>
                    </a:cubicBezTo>
                    <a:cubicBezTo>
                      <a:pt x="1513" y="1"/>
                      <a:pt x="1513" y="0"/>
                      <a:pt x="1515" y="0"/>
                    </a:cubicBezTo>
                    <a:close/>
                    <a:moveTo>
                      <a:pt x="1523" y="0"/>
                    </a:moveTo>
                    <a:lnTo>
                      <a:pt x="1523" y="0"/>
                    </a:lnTo>
                    <a:cubicBezTo>
                      <a:pt x="1524" y="0"/>
                      <a:pt x="1525" y="1"/>
                      <a:pt x="1525" y="2"/>
                    </a:cubicBezTo>
                    <a:cubicBezTo>
                      <a:pt x="1525" y="3"/>
                      <a:pt x="1524" y="4"/>
                      <a:pt x="1523" y="4"/>
                    </a:cubicBezTo>
                    <a:lnTo>
                      <a:pt x="1523" y="4"/>
                    </a:lnTo>
                    <a:cubicBezTo>
                      <a:pt x="1521" y="4"/>
                      <a:pt x="1521" y="3"/>
                      <a:pt x="1521" y="2"/>
                    </a:cubicBezTo>
                    <a:cubicBezTo>
                      <a:pt x="1521" y="1"/>
                      <a:pt x="1521" y="0"/>
                      <a:pt x="1523" y="0"/>
                    </a:cubicBezTo>
                    <a:close/>
                    <a:moveTo>
                      <a:pt x="1531" y="0"/>
                    </a:moveTo>
                    <a:lnTo>
                      <a:pt x="1531" y="0"/>
                    </a:lnTo>
                    <a:cubicBezTo>
                      <a:pt x="1532" y="0"/>
                      <a:pt x="1533" y="1"/>
                      <a:pt x="1533" y="2"/>
                    </a:cubicBezTo>
                    <a:cubicBezTo>
                      <a:pt x="1533" y="3"/>
                      <a:pt x="1532" y="4"/>
                      <a:pt x="1531" y="4"/>
                    </a:cubicBezTo>
                    <a:lnTo>
                      <a:pt x="1531" y="4"/>
                    </a:lnTo>
                    <a:cubicBezTo>
                      <a:pt x="1529" y="4"/>
                      <a:pt x="1529" y="3"/>
                      <a:pt x="1529" y="2"/>
                    </a:cubicBezTo>
                    <a:cubicBezTo>
                      <a:pt x="1529" y="1"/>
                      <a:pt x="1529" y="0"/>
                      <a:pt x="1531" y="0"/>
                    </a:cubicBezTo>
                    <a:close/>
                    <a:moveTo>
                      <a:pt x="1539" y="0"/>
                    </a:moveTo>
                    <a:lnTo>
                      <a:pt x="1539" y="0"/>
                    </a:lnTo>
                    <a:cubicBezTo>
                      <a:pt x="1540" y="0"/>
                      <a:pt x="1541" y="1"/>
                      <a:pt x="1541" y="2"/>
                    </a:cubicBezTo>
                    <a:cubicBezTo>
                      <a:pt x="1541" y="3"/>
                      <a:pt x="1540" y="4"/>
                      <a:pt x="1539" y="4"/>
                    </a:cubicBezTo>
                    <a:lnTo>
                      <a:pt x="1539" y="4"/>
                    </a:lnTo>
                    <a:cubicBezTo>
                      <a:pt x="1537" y="4"/>
                      <a:pt x="1537" y="3"/>
                      <a:pt x="1537" y="2"/>
                    </a:cubicBezTo>
                    <a:cubicBezTo>
                      <a:pt x="1537" y="1"/>
                      <a:pt x="1537" y="0"/>
                      <a:pt x="1539" y="0"/>
                    </a:cubicBezTo>
                    <a:close/>
                    <a:moveTo>
                      <a:pt x="1547" y="0"/>
                    </a:moveTo>
                    <a:lnTo>
                      <a:pt x="1547" y="0"/>
                    </a:lnTo>
                    <a:cubicBezTo>
                      <a:pt x="1548" y="0"/>
                      <a:pt x="1549" y="1"/>
                      <a:pt x="1549" y="2"/>
                    </a:cubicBezTo>
                    <a:cubicBezTo>
                      <a:pt x="1549" y="3"/>
                      <a:pt x="1548" y="4"/>
                      <a:pt x="1547" y="4"/>
                    </a:cubicBezTo>
                    <a:lnTo>
                      <a:pt x="1547" y="4"/>
                    </a:lnTo>
                    <a:cubicBezTo>
                      <a:pt x="1545" y="4"/>
                      <a:pt x="1545" y="3"/>
                      <a:pt x="1545" y="2"/>
                    </a:cubicBezTo>
                    <a:cubicBezTo>
                      <a:pt x="1545" y="1"/>
                      <a:pt x="1545" y="0"/>
                      <a:pt x="1547" y="0"/>
                    </a:cubicBezTo>
                    <a:close/>
                    <a:moveTo>
                      <a:pt x="1555" y="0"/>
                    </a:moveTo>
                    <a:lnTo>
                      <a:pt x="1555" y="0"/>
                    </a:lnTo>
                    <a:cubicBezTo>
                      <a:pt x="1556" y="0"/>
                      <a:pt x="1557" y="1"/>
                      <a:pt x="1557" y="2"/>
                    </a:cubicBezTo>
                    <a:cubicBezTo>
                      <a:pt x="1557" y="3"/>
                      <a:pt x="1556" y="4"/>
                      <a:pt x="1555" y="4"/>
                    </a:cubicBezTo>
                    <a:lnTo>
                      <a:pt x="1555" y="4"/>
                    </a:lnTo>
                    <a:cubicBezTo>
                      <a:pt x="1553" y="4"/>
                      <a:pt x="1553" y="3"/>
                      <a:pt x="1553" y="2"/>
                    </a:cubicBezTo>
                    <a:cubicBezTo>
                      <a:pt x="1553" y="1"/>
                      <a:pt x="1553" y="0"/>
                      <a:pt x="1555" y="0"/>
                    </a:cubicBezTo>
                    <a:close/>
                    <a:moveTo>
                      <a:pt x="1563" y="0"/>
                    </a:moveTo>
                    <a:lnTo>
                      <a:pt x="1563" y="0"/>
                    </a:lnTo>
                    <a:cubicBezTo>
                      <a:pt x="1564" y="0"/>
                      <a:pt x="1565" y="1"/>
                      <a:pt x="1565" y="2"/>
                    </a:cubicBezTo>
                    <a:cubicBezTo>
                      <a:pt x="1565" y="3"/>
                      <a:pt x="1564" y="4"/>
                      <a:pt x="1563" y="4"/>
                    </a:cubicBezTo>
                    <a:lnTo>
                      <a:pt x="1563" y="4"/>
                    </a:lnTo>
                    <a:cubicBezTo>
                      <a:pt x="1561" y="4"/>
                      <a:pt x="1561" y="3"/>
                      <a:pt x="1561" y="2"/>
                    </a:cubicBezTo>
                    <a:cubicBezTo>
                      <a:pt x="1561" y="1"/>
                      <a:pt x="1561" y="0"/>
                      <a:pt x="1563" y="0"/>
                    </a:cubicBezTo>
                    <a:close/>
                    <a:moveTo>
                      <a:pt x="1571" y="0"/>
                    </a:moveTo>
                    <a:lnTo>
                      <a:pt x="1571" y="0"/>
                    </a:lnTo>
                    <a:cubicBezTo>
                      <a:pt x="1572" y="0"/>
                      <a:pt x="1573" y="1"/>
                      <a:pt x="1573" y="2"/>
                    </a:cubicBezTo>
                    <a:cubicBezTo>
                      <a:pt x="1573" y="3"/>
                      <a:pt x="1572" y="4"/>
                      <a:pt x="1571" y="4"/>
                    </a:cubicBezTo>
                    <a:lnTo>
                      <a:pt x="1571" y="4"/>
                    </a:lnTo>
                    <a:cubicBezTo>
                      <a:pt x="1569" y="4"/>
                      <a:pt x="1569" y="3"/>
                      <a:pt x="1569" y="2"/>
                    </a:cubicBezTo>
                    <a:cubicBezTo>
                      <a:pt x="1569" y="1"/>
                      <a:pt x="1569" y="0"/>
                      <a:pt x="1571" y="0"/>
                    </a:cubicBezTo>
                    <a:close/>
                    <a:moveTo>
                      <a:pt x="1579" y="0"/>
                    </a:moveTo>
                    <a:lnTo>
                      <a:pt x="1579" y="0"/>
                    </a:lnTo>
                    <a:cubicBezTo>
                      <a:pt x="1580" y="0"/>
                      <a:pt x="1581" y="1"/>
                      <a:pt x="1581" y="2"/>
                    </a:cubicBezTo>
                    <a:cubicBezTo>
                      <a:pt x="1581" y="3"/>
                      <a:pt x="1580" y="4"/>
                      <a:pt x="1579" y="4"/>
                    </a:cubicBezTo>
                    <a:lnTo>
                      <a:pt x="1579" y="4"/>
                    </a:lnTo>
                    <a:cubicBezTo>
                      <a:pt x="1577" y="4"/>
                      <a:pt x="1577" y="3"/>
                      <a:pt x="1577" y="2"/>
                    </a:cubicBezTo>
                    <a:cubicBezTo>
                      <a:pt x="1577" y="1"/>
                      <a:pt x="1577" y="0"/>
                      <a:pt x="1579" y="0"/>
                    </a:cubicBezTo>
                    <a:close/>
                    <a:moveTo>
                      <a:pt x="1587" y="0"/>
                    </a:moveTo>
                    <a:lnTo>
                      <a:pt x="1587" y="0"/>
                    </a:lnTo>
                    <a:cubicBezTo>
                      <a:pt x="1588" y="0"/>
                      <a:pt x="1589" y="1"/>
                      <a:pt x="1589" y="2"/>
                    </a:cubicBezTo>
                    <a:cubicBezTo>
                      <a:pt x="1589" y="3"/>
                      <a:pt x="1588" y="4"/>
                      <a:pt x="1587" y="4"/>
                    </a:cubicBezTo>
                    <a:lnTo>
                      <a:pt x="1587" y="4"/>
                    </a:lnTo>
                    <a:cubicBezTo>
                      <a:pt x="1585" y="4"/>
                      <a:pt x="1585" y="3"/>
                      <a:pt x="1585" y="2"/>
                    </a:cubicBezTo>
                    <a:cubicBezTo>
                      <a:pt x="1585" y="1"/>
                      <a:pt x="1585" y="0"/>
                      <a:pt x="1587" y="0"/>
                    </a:cubicBezTo>
                    <a:close/>
                    <a:moveTo>
                      <a:pt x="1595" y="0"/>
                    </a:moveTo>
                    <a:lnTo>
                      <a:pt x="1595" y="0"/>
                    </a:lnTo>
                    <a:cubicBezTo>
                      <a:pt x="1596" y="0"/>
                      <a:pt x="1597" y="1"/>
                      <a:pt x="1597" y="2"/>
                    </a:cubicBezTo>
                    <a:cubicBezTo>
                      <a:pt x="1597" y="3"/>
                      <a:pt x="1596" y="4"/>
                      <a:pt x="1595" y="4"/>
                    </a:cubicBezTo>
                    <a:lnTo>
                      <a:pt x="1595" y="4"/>
                    </a:lnTo>
                    <a:cubicBezTo>
                      <a:pt x="1593" y="4"/>
                      <a:pt x="1593" y="3"/>
                      <a:pt x="1593" y="2"/>
                    </a:cubicBezTo>
                    <a:cubicBezTo>
                      <a:pt x="1593" y="1"/>
                      <a:pt x="1593" y="0"/>
                      <a:pt x="1595" y="0"/>
                    </a:cubicBezTo>
                    <a:close/>
                    <a:moveTo>
                      <a:pt x="1603" y="0"/>
                    </a:moveTo>
                    <a:lnTo>
                      <a:pt x="1603" y="0"/>
                    </a:lnTo>
                    <a:cubicBezTo>
                      <a:pt x="1604" y="0"/>
                      <a:pt x="1605" y="1"/>
                      <a:pt x="1605" y="2"/>
                    </a:cubicBezTo>
                    <a:cubicBezTo>
                      <a:pt x="1605" y="3"/>
                      <a:pt x="1604" y="4"/>
                      <a:pt x="1603" y="4"/>
                    </a:cubicBezTo>
                    <a:lnTo>
                      <a:pt x="1603" y="4"/>
                    </a:lnTo>
                    <a:cubicBezTo>
                      <a:pt x="1601" y="4"/>
                      <a:pt x="1601" y="3"/>
                      <a:pt x="1601" y="2"/>
                    </a:cubicBezTo>
                    <a:cubicBezTo>
                      <a:pt x="1601" y="1"/>
                      <a:pt x="1601" y="0"/>
                      <a:pt x="1603" y="0"/>
                    </a:cubicBezTo>
                    <a:close/>
                    <a:moveTo>
                      <a:pt x="1611" y="0"/>
                    </a:moveTo>
                    <a:lnTo>
                      <a:pt x="1611" y="0"/>
                    </a:lnTo>
                    <a:cubicBezTo>
                      <a:pt x="1612" y="0"/>
                      <a:pt x="1613" y="1"/>
                      <a:pt x="1613" y="2"/>
                    </a:cubicBezTo>
                    <a:cubicBezTo>
                      <a:pt x="1613" y="3"/>
                      <a:pt x="1612" y="4"/>
                      <a:pt x="1611" y="4"/>
                    </a:cubicBezTo>
                    <a:lnTo>
                      <a:pt x="1611" y="4"/>
                    </a:lnTo>
                    <a:cubicBezTo>
                      <a:pt x="1609" y="4"/>
                      <a:pt x="1609" y="3"/>
                      <a:pt x="1609" y="2"/>
                    </a:cubicBezTo>
                    <a:cubicBezTo>
                      <a:pt x="1609" y="1"/>
                      <a:pt x="1609" y="0"/>
                      <a:pt x="1611" y="0"/>
                    </a:cubicBezTo>
                    <a:close/>
                    <a:moveTo>
                      <a:pt x="1619" y="0"/>
                    </a:moveTo>
                    <a:lnTo>
                      <a:pt x="1619" y="0"/>
                    </a:lnTo>
                    <a:cubicBezTo>
                      <a:pt x="1620" y="0"/>
                      <a:pt x="1621" y="1"/>
                      <a:pt x="1621" y="2"/>
                    </a:cubicBezTo>
                    <a:cubicBezTo>
                      <a:pt x="1621" y="3"/>
                      <a:pt x="1620" y="4"/>
                      <a:pt x="1619" y="4"/>
                    </a:cubicBezTo>
                    <a:lnTo>
                      <a:pt x="1619" y="4"/>
                    </a:lnTo>
                    <a:cubicBezTo>
                      <a:pt x="1617" y="4"/>
                      <a:pt x="1617" y="3"/>
                      <a:pt x="1617" y="2"/>
                    </a:cubicBezTo>
                    <a:cubicBezTo>
                      <a:pt x="1617" y="1"/>
                      <a:pt x="1617" y="0"/>
                      <a:pt x="1619" y="0"/>
                    </a:cubicBezTo>
                    <a:close/>
                    <a:moveTo>
                      <a:pt x="1627" y="0"/>
                    </a:moveTo>
                    <a:lnTo>
                      <a:pt x="1627" y="0"/>
                    </a:lnTo>
                    <a:cubicBezTo>
                      <a:pt x="1628" y="0"/>
                      <a:pt x="1629" y="1"/>
                      <a:pt x="1629" y="2"/>
                    </a:cubicBezTo>
                    <a:cubicBezTo>
                      <a:pt x="1629" y="3"/>
                      <a:pt x="1628" y="4"/>
                      <a:pt x="1627" y="4"/>
                    </a:cubicBezTo>
                    <a:lnTo>
                      <a:pt x="1627" y="4"/>
                    </a:lnTo>
                    <a:cubicBezTo>
                      <a:pt x="1625" y="4"/>
                      <a:pt x="1625" y="3"/>
                      <a:pt x="1625" y="2"/>
                    </a:cubicBezTo>
                    <a:cubicBezTo>
                      <a:pt x="1625" y="1"/>
                      <a:pt x="1625" y="0"/>
                      <a:pt x="1627" y="0"/>
                    </a:cubicBezTo>
                    <a:close/>
                    <a:moveTo>
                      <a:pt x="1635" y="0"/>
                    </a:moveTo>
                    <a:lnTo>
                      <a:pt x="1635" y="0"/>
                    </a:lnTo>
                    <a:cubicBezTo>
                      <a:pt x="1636" y="0"/>
                      <a:pt x="1637" y="1"/>
                      <a:pt x="1637" y="2"/>
                    </a:cubicBezTo>
                    <a:cubicBezTo>
                      <a:pt x="1637" y="3"/>
                      <a:pt x="1636" y="4"/>
                      <a:pt x="1635" y="4"/>
                    </a:cubicBezTo>
                    <a:lnTo>
                      <a:pt x="1635" y="4"/>
                    </a:lnTo>
                    <a:cubicBezTo>
                      <a:pt x="1633" y="4"/>
                      <a:pt x="1633" y="3"/>
                      <a:pt x="1633" y="2"/>
                    </a:cubicBezTo>
                    <a:cubicBezTo>
                      <a:pt x="1633" y="1"/>
                      <a:pt x="1633" y="0"/>
                      <a:pt x="1635" y="0"/>
                    </a:cubicBezTo>
                    <a:close/>
                    <a:moveTo>
                      <a:pt x="1643" y="0"/>
                    </a:moveTo>
                    <a:lnTo>
                      <a:pt x="1643" y="0"/>
                    </a:lnTo>
                    <a:cubicBezTo>
                      <a:pt x="1644" y="0"/>
                      <a:pt x="1645" y="1"/>
                      <a:pt x="1645" y="2"/>
                    </a:cubicBezTo>
                    <a:cubicBezTo>
                      <a:pt x="1645" y="3"/>
                      <a:pt x="1644" y="4"/>
                      <a:pt x="1643" y="4"/>
                    </a:cubicBezTo>
                    <a:lnTo>
                      <a:pt x="1643" y="4"/>
                    </a:lnTo>
                    <a:cubicBezTo>
                      <a:pt x="1641" y="4"/>
                      <a:pt x="1641" y="3"/>
                      <a:pt x="1641" y="2"/>
                    </a:cubicBezTo>
                    <a:cubicBezTo>
                      <a:pt x="1641" y="1"/>
                      <a:pt x="1641" y="0"/>
                      <a:pt x="1643" y="0"/>
                    </a:cubicBezTo>
                    <a:close/>
                    <a:moveTo>
                      <a:pt x="1651" y="0"/>
                    </a:moveTo>
                    <a:lnTo>
                      <a:pt x="1651" y="0"/>
                    </a:lnTo>
                    <a:cubicBezTo>
                      <a:pt x="1652" y="0"/>
                      <a:pt x="1653" y="1"/>
                      <a:pt x="1653" y="2"/>
                    </a:cubicBezTo>
                    <a:cubicBezTo>
                      <a:pt x="1653" y="3"/>
                      <a:pt x="1652" y="4"/>
                      <a:pt x="1651" y="4"/>
                    </a:cubicBezTo>
                    <a:lnTo>
                      <a:pt x="1651" y="4"/>
                    </a:lnTo>
                    <a:cubicBezTo>
                      <a:pt x="1650" y="4"/>
                      <a:pt x="1649" y="3"/>
                      <a:pt x="1649" y="2"/>
                    </a:cubicBezTo>
                    <a:cubicBezTo>
                      <a:pt x="1649" y="1"/>
                      <a:pt x="1650" y="0"/>
                      <a:pt x="1651" y="0"/>
                    </a:cubicBezTo>
                    <a:close/>
                    <a:moveTo>
                      <a:pt x="1659" y="0"/>
                    </a:moveTo>
                    <a:lnTo>
                      <a:pt x="1659" y="0"/>
                    </a:lnTo>
                    <a:cubicBezTo>
                      <a:pt x="1660" y="0"/>
                      <a:pt x="1661" y="1"/>
                      <a:pt x="1661" y="2"/>
                    </a:cubicBezTo>
                    <a:cubicBezTo>
                      <a:pt x="1661" y="3"/>
                      <a:pt x="1660" y="4"/>
                      <a:pt x="1659" y="4"/>
                    </a:cubicBezTo>
                    <a:lnTo>
                      <a:pt x="1659" y="4"/>
                    </a:lnTo>
                    <a:cubicBezTo>
                      <a:pt x="1658" y="4"/>
                      <a:pt x="1657" y="3"/>
                      <a:pt x="1657" y="2"/>
                    </a:cubicBezTo>
                    <a:cubicBezTo>
                      <a:pt x="1657" y="1"/>
                      <a:pt x="1658" y="0"/>
                      <a:pt x="1659" y="0"/>
                    </a:cubicBezTo>
                    <a:close/>
                    <a:moveTo>
                      <a:pt x="1667" y="0"/>
                    </a:moveTo>
                    <a:lnTo>
                      <a:pt x="1667" y="0"/>
                    </a:lnTo>
                    <a:cubicBezTo>
                      <a:pt x="1668" y="0"/>
                      <a:pt x="1669" y="1"/>
                      <a:pt x="1669" y="2"/>
                    </a:cubicBezTo>
                    <a:cubicBezTo>
                      <a:pt x="1669" y="3"/>
                      <a:pt x="1668" y="4"/>
                      <a:pt x="1667" y="4"/>
                    </a:cubicBezTo>
                    <a:lnTo>
                      <a:pt x="1667" y="4"/>
                    </a:lnTo>
                    <a:cubicBezTo>
                      <a:pt x="1666" y="4"/>
                      <a:pt x="1665" y="3"/>
                      <a:pt x="1665" y="2"/>
                    </a:cubicBezTo>
                    <a:cubicBezTo>
                      <a:pt x="1665" y="1"/>
                      <a:pt x="1666" y="0"/>
                      <a:pt x="1667" y="0"/>
                    </a:cubicBezTo>
                    <a:close/>
                    <a:moveTo>
                      <a:pt x="1675" y="0"/>
                    </a:moveTo>
                    <a:lnTo>
                      <a:pt x="1675" y="0"/>
                    </a:lnTo>
                    <a:cubicBezTo>
                      <a:pt x="1676" y="0"/>
                      <a:pt x="1677" y="1"/>
                      <a:pt x="1677" y="2"/>
                    </a:cubicBezTo>
                    <a:cubicBezTo>
                      <a:pt x="1677" y="3"/>
                      <a:pt x="1676" y="4"/>
                      <a:pt x="1675" y="4"/>
                    </a:cubicBezTo>
                    <a:lnTo>
                      <a:pt x="1675" y="4"/>
                    </a:lnTo>
                    <a:cubicBezTo>
                      <a:pt x="1674" y="4"/>
                      <a:pt x="1673" y="3"/>
                      <a:pt x="1673" y="2"/>
                    </a:cubicBezTo>
                    <a:cubicBezTo>
                      <a:pt x="1673" y="1"/>
                      <a:pt x="1674" y="0"/>
                      <a:pt x="1675" y="0"/>
                    </a:cubicBezTo>
                    <a:close/>
                    <a:moveTo>
                      <a:pt x="1683" y="0"/>
                    </a:moveTo>
                    <a:lnTo>
                      <a:pt x="1683" y="0"/>
                    </a:lnTo>
                    <a:cubicBezTo>
                      <a:pt x="1684" y="0"/>
                      <a:pt x="1685" y="1"/>
                      <a:pt x="1685" y="2"/>
                    </a:cubicBezTo>
                    <a:cubicBezTo>
                      <a:pt x="1685" y="3"/>
                      <a:pt x="1684" y="4"/>
                      <a:pt x="1683" y="4"/>
                    </a:cubicBezTo>
                    <a:lnTo>
                      <a:pt x="1683" y="4"/>
                    </a:lnTo>
                    <a:cubicBezTo>
                      <a:pt x="1682" y="4"/>
                      <a:pt x="1681" y="3"/>
                      <a:pt x="1681" y="2"/>
                    </a:cubicBezTo>
                    <a:cubicBezTo>
                      <a:pt x="1681" y="1"/>
                      <a:pt x="1682" y="0"/>
                      <a:pt x="1683" y="0"/>
                    </a:cubicBezTo>
                    <a:close/>
                    <a:moveTo>
                      <a:pt x="1691" y="0"/>
                    </a:moveTo>
                    <a:lnTo>
                      <a:pt x="1691" y="0"/>
                    </a:lnTo>
                    <a:cubicBezTo>
                      <a:pt x="1692" y="0"/>
                      <a:pt x="1693" y="1"/>
                      <a:pt x="1693" y="2"/>
                    </a:cubicBezTo>
                    <a:cubicBezTo>
                      <a:pt x="1693" y="3"/>
                      <a:pt x="1692" y="4"/>
                      <a:pt x="1691" y="4"/>
                    </a:cubicBezTo>
                    <a:lnTo>
                      <a:pt x="1691" y="4"/>
                    </a:lnTo>
                    <a:cubicBezTo>
                      <a:pt x="1690" y="4"/>
                      <a:pt x="1689" y="3"/>
                      <a:pt x="1689" y="2"/>
                    </a:cubicBezTo>
                    <a:cubicBezTo>
                      <a:pt x="1689" y="1"/>
                      <a:pt x="1690" y="0"/>
                      <a:pt x="1691" y="0"/>
                    </a:cubicBezTo>
                    <a:close/>
                    <a:moveTo>
                      <a:pt x="1699" y="0"/>
                    </a:moveTo>
                    <a:lnTo>
                      <a:pt x="1699" y="0"/>
                    </a:lnTo>
                    <a:cubicBezTo>
                      <a:pt x="1700" y="0"/>
                      <a:pt x="1701" y="1"/>
                      <a:pt x="1701" y="2"/>
                    </a:cubicBezTo>
                    <a:cubicBezTo>
                      <a:pt x="1701" y="3"/>
                      <a:pt x="1700" y="4"/>
                      <a:pt x="1699" y="4"/>
                    </a:cubicBezTo>
                    <a:lnTo>
                      <a:pt x="1699" y="4"/>
                    </a:lnTo>
                    <a:cubicBezTo>
                      <a:pt x="1698" y="4"/>
                      <a:pt x="1697" y="3"/>
                      <a:pt x="1697" y="2"/>
                    </a:cubicBezTo>
                    <a:cubicBezTo>
                      <a:pt x="1697" y="1"/>
                      <a:pt x="1698" y="0"/>
                      <a:pt x="1699" y="0"/>
                    </a:cubicBezTo>
                    <a:close/>
                    <a:moveTo>
                      <a:pt x="1707" y="0"/>
                    </a:moveTo>
                    <a:lnTo>
                      <a:pt x="1707" y="0"/>
                    </a:lnTo>
                    <a:cubicBezTo>
                      <a:pt x="1708" y="0"/>
                      <a:pt x="1709" y="1"/>
                      <a:pt x="1709" y="2"/>
                    </a:cubicBezTo>
                    <a:cubicBezTo>
                      <a:pt x="1709" y="3"/>
                      <a:pt x="1708" y="4"/>
                      <a:pt x="1707" y="4"/>
                    </a:cubicBezTo>
                    <a:lnTo>
                      <a:pt x="1707" y="4"/>
                    </a:lnTo>
                    <a:cubicBezTo>
                      <a:pt x="1706" y="4"/>
                      <a:pt x="1705" y="3"/>
                      <a:pt x="1705" y="2"/>
                    </a:cubicBezTo>
                    <a:cubicBezTo>
                      <a:pt x="1705" y="1"/>
                      <a:pt x="1706" y="0"/>
                      <a:pt x="1707" y="0"/>
                    </a:cubicBezTo>
                    <a:close/>
                    <a:moveTo>
                      <a:pt x="1715" y="0"/>
                    </a:moveTo>
                    <a:lnTo>
                      <a:pt x="1715" y="0"/>
                    </a:lnTo>
                    <a:cubicBezTo>
                      <a:pt x="1716" y="0"/>
                      <a:pt x="1717" y="1"/>
                      <a:pt x="1717" y="2"/>
                    </a:cubicBezTo>
                    <a:cubicBezTo>
                      <a:pt x="1717" y="3"/>
                      <a:pt x="1716" y="4"/>
                      <a:pt x="1715" y="4"/>
                    </a:cubicBezTo>
                    <a:lnTo>
                      <a:pt x="1715" y="4"/>
                    </a:lnTo>
                    <a:cubicBezTo>
                      <a:pt x="1714" y="4"/>
                      <a:pt x="1713" y="3"/>
                      <a:pt x="1713" y="2"/>
                    </a:cubicBezTo>
                    <a:cubicBezTo>
                      <a:pt x="1713" y="1"/>
                      <a:pt x="1714" y="0"/>
                      <a:pt x="1715" y="0"/>
                    </a:cubicBezTo>
                    <a:close/>
                    <a:moveTo>
                      <a:pt x="1723" y="0"/>
                    </a:moveTo>
                    <a:lnTo>
                      <a:pt x="1723" y="0"/>
                    </a:lnTo>
                    <a:cubicBezTo>
                      <a:pt x="1724" y="0"/>
                      <a:pt x="1725" y="1"/>
                      <a:pt x="1725" y="2"/>
                    </a:cubicBezTo>
                    <a:cubicBezTo>
                      <a:pt x="1725" y="3"/>
                      <a:pt x="1724" y="4"/>
                      <a:pt x="1723" y="4"/>
                    </a:cubicBezTo>
                    <a:lnTo>
                      <a:pt x="1723" y="4"/>
                    </a:lnTo>
                    <a:cubicBezTo>
                      <a:pt x="1722" y="4"/>
                      <a:pt x="1721" y="3"/>
                      <a:pt x="1721" y="2"/>
                    </a:cubicBezTo>
                    <a:cubicBezTo>
                      <a:pt x="1721" y="1"/>
                      <a:pt x="1722" y="0"/>
                      <a:pt x="1723" y="0"/>
                    </a:cubicBezTo>
                    <a:close/>
                    <a:moveTo>
                      <a:pt x="1731" y="0"/>
                    </a:moveTo>
                    <a:lnTo>
                      <a:pt x="1731" y="0"/>
                    </a:lnTo>
                    <a:cubicBezTo>
                      <a:pt x="1732" y="0"/>
                      <a:pt x="1733" y="1"/>
                      <a:pt x="1733" y="2"/>
                    </a:cubicBezTo>
                    <a:cubicBezTo>
                      <a:pt x="1733" y="3"/>
                      <a:pt x="1732" y="4"/>
                      <a:pt x="1731" y="4"/>
                    </a:cubicBezTo>
                    <a:lnTo>
                      <a:pt x="1731" y="4"/>
                    </a:lnTo>
                    <a:cubicBezTo>
                      <a:pt x="1730" y="4"/>
                      <a:pt x="1729" y="3"/>
                      <a:pt x="1729" y="2"/>
                    </a:cubicBezTo>
                    <a:cubicBezTo>
                      <a:pt x="1729" y="1"/>
                      <a:pt x="1730" y="0"/>
                      <a:pt x="1731" y="0"/>
                    </a:cubicBezTo>
                    <a:close/>
                    <a:moveTo>
                      <a:pt x="1739" y="0"/>
                    </a:moveTo>
                    <a:lnTo>
                      <a:pt x="1739" y="0"/>
                    </a:lnTo>
                    <a:cubicBezTo>
                      <a:pt x="1740" y="0"/>
                      <a:pt x="1741" y="1"/>
                      <a:pt x="1741" y="2"/>
                    </a:cubicBezTo>
                    <a:cubicBezTo>
                      <a:pt x="1741" y="3"/>
                      <a:pt x="1740" y="4"/>
                      <a:pt x="1739" y="4"/>
                    </a:cubicBezTo>
                    <a:lnTo>
                      <a:pt x="1739" y="4"/>
                    </a:lnTo>
                    <a:cubicBezTo>
                      <a:pt x="1738" y="4"/>
                      <a:pt x="1737" y="3"/>
                      <a:pt x="1737" y="2"/>
                    </a:cubicBezTo>
                    <a:cubicBezTo>
                      <a:pt x="1737" y="1"/>
                      <a:pt x="1738" y="0"/>
                      <a:pt x="1739" y="0"/>
                    </a:cubicBezTo>
                    <a:close/>
                    <a:moveTo>
                      <a:pt x="1747" y="0"/>
                    </a:moveTo>
                    <a:lnTo>
                      <a:pt x="1747" y="0"/>
                    </a:lnTo>
                    <a:cubicBezTo>
                      <a:pt x="1748" y="0"/>
                      <a:pt x="1749" y="1"/>
                      <a:pt x="1749" y="2"/>
                    </a:cubicBezTo>
                    <a:cubicBezTo>
                      <a:pt x="1749" y="3"/>
                      <a:pt x="1748" y="4"/>
                      <a:pt x="1747" y="4"/>
                    </a:cubicBezTo>
                    <a:lnTo>
                      <a:pt x="1747" y="4"/>
                    </a:lnTo>
                    <a:cubicBezTo>
                      <a:pt x="1746" y="4"/>
                      <a:pt x="1745" y="3"/>
                      <a:pt x="1745" y="2"/>
                    </a:cubicBezTo>
                    <a:cubicBezTo>
                      <a:pt x="1745" y="1"/>
                      <a:pt x="1746" y="0"/>
                      <a:pt x="1747" y="0"/>
                    </a:cubicBezTo>
                    <a:close/>
                    <a:moveTo>
                      <a:pt x="1755" y="0"/>
                    </a:moveTo>
                    <a:lnTo>
                      <a:pt x="1755" y="0"/>
                    </a:lnTo>
                    <a:cubicBezTo>
                      <a:pt x="1756" y="0"/>
                      <a:pt x="1757" y="1"/>
                      <a:pt x="1757" y="2"/>
                    </a:cubicBezTo>
                    <a:cubicBezTo>
                      <a:pt x="1757" y="3"/>
                      <a:pt x="1756" y="4"/>
                      <a:pt x="1755" y="4"/>
                    </a:cubicBezTo>
                    <a:lnTo>
                      <a:pt x="1755" y="4"/>
                    </a:lnTo>
                    <a:cubicBezTo>
                      <a:pt x="1754" y="4"/>
                      <a:pt x="1753" y="3"/>
                      <a:pt x="1753" y="2"/>
                    </a:cubicBezTo>
                    <a:cubicBezTo>
                      <a:pt x="1753" y="1"/>
                      <a:pt x="1754" y="0"/>
                      <a:pt x="1755" y="0"/>
                    </a:cubicBezTo>
                    <a:close/>
                    <a:moveTo>
                      <a:pt x="1763" y="0"/>
                    </a:moveTo>
                    <a:lnTo>
                      <a:pt x="1763" y="0"/>
                    </a:lnTo>
                    <a:cubicBezTo>
                      <a:pt x="1764" y="0"/>
                      <a:pt x="1765" y="1"/>
                      <a:pt x="1765" y="2"/>
                    </a:cubicBezTo>
                    <a:cubicBezTo>
                      <a:pt x="1765" y="3"/>
                      <a:pt x="1764" y="4"/>
                      <a:pt x="1763" y="4"/>
                    </a:cubicBezTo>
                    <a:lnTo>
                      <a:pt x="1763" y="4"/>
                    </a:lnTo>
                    <a:cubicBezTo>
                      <a:pt x="1762" y="4"/>
                      <a:pt x="1761" y="3"/>
                      <a:pt x="1761" y="2"/>
                    </a:cubicBezTo>
                    <a:cubicBezTo>
                      <a:pt x="1761" y="1"/>
                      <a:pt x="1762" y="0"/>
                      <a:pt x="1763" y="0"/>
                    </a:cubicBezTo>
                    <a:close/>
                    <a:moveTo>
                      <a:pt x="1771" y="0"/>
                    </a:moveTo>
                    <a:lnTo>
                      <a:pt x="1771" y="0"/>
                    </a:lnTo>
                    <a:cubicBezTo>
                      <a:pt x="1772" y="0"/>
                      <a:pt x="1773" y="1"/>
                      <a:pt x="1773" y="2"/>
                    </a:cubicBezTo>
                    <a:cubicBezTo>
                      <a:pt x="1773" y="3"/>
                      <a:pt x="1772" y="4"/>
                      <a:pt x="1771" y="4"/>
                    </a:cubicBezTo>
                    <a:lnTo>
                      <a:pt x="1771" y="4"/>
                    </a:lnTo>
                    <a:cubicBezTo>
                      <a:pt x="1770" y="4"/>
                      <a:pt x="1769" y="3"/>
                      <a:pt x="1769" y="2"/>
                    </a:cubicBezTo>
                    <a:cubicBezTo>
                      <a:pt x="1769" y="1"/>
                      <a:pt x="1770" y="0"/>
                      <a:pt x="1771" y="0"/>
                    </a:cubicBezTo>
                    <a:close/>
                    <a:moveTo>
                      <a:pt x="1779" y="0"/>
                    </a:moveTo>
                    <a:lnTo>
                      <a:pt x="1779" y="0"/>
                    </a:lnTo>
                    <a:cubicBezTo>
                      <a:pt x="1780" y="0"/>
                      <a:pt x="1781" y="1"/>
                      <a:pt x="1781" y="2"/>
                    </a:cubicBezTo>
                    <a:cubicBezTo>
                      <a:pt x="1781" y="3"/>
                      <a:pt x="1780" y="4"/>
                      <a:pt x="1779" y="4"/>
                    </a:cubicBezTo>
                    <a:lnTo>
                      <a:pt x="1779" y="4"/>
                    </a:lnTo>
                    <a:cubicBezTo>
                      <a:pt x="1778" y="4"/>
                      <a:pt x="1777" y="3"/>
                      <a:pt x="1777" y="2"/>
                    </a:cubicBezTo>
                    <a:cubicBezTo>
                      <a:pt x="1777" y="1"/>
                      <a:pt x="1778" y="0"/>
                      <a:pt x="1779" y="0"/>
                    </a:cubicBezTo>
                    <a:close/>
                    <a:moveTo>
                      <a:pt x="1787" y="0"/>
                    </a:moveTo>
                    <a:lnTo>
                      <a:pt x="1787" y="0"/>
                    </a:lnTo>
                    <a:cubicBezTo>
                      <a:pt x="1788" y="0"/>
                      <a:pt x="1789" y="1"/>
                      <a:pt x="1789" y="2"/>
                    </a:cubicBezTo>
                    <a:cubicBezTo>
                      <a:pt x="1789" y="3"/>
                      <a:pt x="1788" y="4"/>
                      <a:pt x="1787" y="4"/>
                    </a:cubicBezTo>
                    <a:lnTo>
                      <a:pt x="1787" y="4"/>
                    </a:lnTo>
                    <a:cubicBezTo>
                      <a:pt x="1786" y="4"/>
                      <a:pt x="1785" y="3"/>
                      <a:pt x="1785" y="2"/>
                    </a:cubicBezTo>
                    <a:cubicBezTo>
                      <a:pt x="1785" y="1"/>
                      <a:pt x="1786" y="0"/>
                      <a:pt x="1787" y="0"/>
                    </a:cubicBezTo>
                    <a:close/>
                    <a:moveTo>
                      <a:pt x="1795" y="0"/>
                    </a:moveTo>
                    <a:lnTo>
                      <a:pt x="1795" y="0"/>
                    </a:lnTo>
                    <a:cubicBezTo>
                      <a:pt x="1796" y="0"/>
                      <a:pt x="1797" y="1"/>
                      <a:pt x="1797" y="2"/>
                    </a:cubicBezTo>
                    <a:cubicBezTo>
                      <a:pt x="1797" y="3"/>
                      <a:pt x="1796" y="4"/>
                      <a:pt x="1795" y="4"/>
                    </a:cubicBezTo>
                    <a:lnTo>
                      <a:pt x="1795" y="4"/>
                    </a:lnTo>
                    <a:cubicBezTo>
                      <a:pt x="1794" y="4"/>
                      <a:pt x="1793" y="3"/>
                      <a:pt x="1793" y="2"/>
                    </a:cubicBezTo>
                    <a:cubicBezTo>
                      <a:pt x="1793" y="1"/>
                      <a:pt x="1794" y="0"/>
                      <a:pt x="1795" y="0"/>
                    </a:cubicBezTo>
                    <a:close/>
                    <a:moveTo>
                      <a:pt x="1803" y="0"/>
                    </a:moveTo>
                    <a:lnTo>
                      <a:pt x="1803" y="0"/>
                    </a:lnTo>
                    <a:cubicBezTo>
                      <a:pt x="1804" y="0"/>
                      <a:pt x="1805" y="1"/>
                      <a:pt x="1805" y="2"/>
                    </a:cubicBezTo>
                    <a:cubicBezTo>
                      <a:pt x="1805" y="3"/>
                      <a:pt x="1804" y="4"/>
                      <a:pt x="1803" y="4"/>
                    </a:cubicBezTo>
                    <a:lnTo>
                      <a:pt x="1803" y="4"/>
                    </a:lnTo>
                    <a:cubicBezTo>
                      <a:pt x="1802" y="4"/>
                      <a:pt x="1801" y="3"/>
                      <a:pt x="1801" y="2"/>
                    </a:cubicBezTo>
                    <a:cubicBezTo>
                      <a:pt x="1801" y="1"/>
                      <a:pt x="1802" y="0"/>
                      <a:pt x="1803" y="0"/>
                    </a:cubicBezTo>
                    <a:close/>
                    <a:moveTo>
                      <a:pt x="1811" y="0"/>
                    </a:moveTo>
                    <a:lnTo>
                      <a:pt x="1811" y="0"/>
                    </a:lnTo>
                    <a:cubicBezTo>
                      <a:pt x="1812" y="0"/>
                      <a:pt x="1813" y="1"/>
                      <a:pt x="1813" y="2"/>
                    </a:cubicBezTo>
                    <a:cubicBezTo>
                      <a:pt x="1813" y="3"/>
                      <a:pt x="1812" y="4"/>
                      <a:pt x="1811" y="4"/>
                    </a:cubicBezTo>
                    <a:lnTo>
                      <a:pt x="1811" y="4"/>
                    </a:lnTo>
                    <a:cubicBezTo>
                      <a:pt x="1810" y="4"/>
                      <a:pt x="1809" y="3"/>
                      <a:pt x="1809" y="2"/>
                    </a:cubicBezTo>
                    <a:cubicBezTo>
                      <a:pt x="1809" y="1"/>
                      <a:pt x="1810" y="0"/>
                      <a:pt x="1811" y="0"/>
                    </a:cubicBezTo>
                    <a:close/>
                    <a:moveTo>
                      <a:pt x="1819" y="0"/>
                    </a:moveTo>
                    <a:lnTo>
                      <a:pt x="1819" y="0"/>
                    </a:lnTo>
                    <a:cubicBezTo>
                      <a:pt x="1820" y="0"/>
                      <a:pt x="1821" y="1"/>
                      <a:pt x="1821" y="2"/>
                    </a:cubicBezTo>
                    <a:cubicBezTo>
                      <a:pt x="1821" y="3"/>
                      <a:pt x="1820" y="4"/>
                      <a:pt x="1819" y="4"/>
                    </a:cubicBezTo>
                    <a:lnTo>
                      <a:pt x="1819" y="4"/>
                    </a:lnTo>
                    <a:cubicBezTo>
                      <a:pt x="1818" y="4"/>
                      <a:pt x="1817" y="3"/>
                      <a:pt x="1817" y="2"/>
                    </a:cubicBezTo>
                    <a:cubicBezTo>
                      <a:pt x="1817" y="1"/>
                      <a:pt x="1818" y="0"/>
                      <a:pt x="1819" y="0"/>
                    </a:cubicBezTo>
                    <a:close/>
                    <a:moveTo>
                      <a:pt x="1827" y="0"/>
                    </a:moveTo>
                    <a:lnTo>
                      <a:pt x="1827" y="0"/>
                    </a:lnTo>
                    <a:cubicBezTo>
                      <a:pt x="1828" y="0"/>
                      <a:pt x="1829" y="1"/>
                      <a:pt x="1829" y="2"/>
                    </a:cubicBezTo>
                    <a:cubicBezTo>
                      <a:pt x="1829" y="3"/>
                      <a:pt x="1828" y="4"/>
                      <a:pt x="1827" y="4"/>
                    </a:cubicBezTo>
                    <a:lnTo>
                      <a:pt x="1827" y="4"/>
                    </a:lnTo>
                    <a:cubicBezTo>
                      <a:pt x="1826" y="4"/>
                      <a:pt x="1825" y="3"/>
                      <a:pt x="1825" y="2"/>
                    </a:cubicBezTo>
                    <a:cubicBezTo>
                      <a:pt x="1825" y="1"/>
                      <a:pt x="1826" y="0"/>
                      <a:pt x="1827" y="0"/>
                    </a:cubicBezTo>
                    <a:close/>
                    <a:moveTo>
                      <a:pt x="1835" y="0"/>
                    </a:moveTo>
                    <a:lnTo>
                      <a:pt x="1835" y="0"/>
                    </a:lnTo>
                    <a:cubicBezTo>
                      <a:pt x="1836" y="0"/>
                      <a:pt x="1837" y="1"/>
                      <a:pt x="1837" y="2"/>
                    </a:cubicBezTo>
                    <a:cubicBezTo>
                      <a:pt x="1837" y="3"/>
                      <a:pt x="1836" y="4"/>
                      <a:pt x="1835" y="4"/>
                    </a:cubicBezTo>
                    <a:lnTo>
                      <a:pt x="1835" y="4"/>
                    </a:lnTo>
                    <a:cubicBezTo>
                      <a:pt x="1834" y="4"/>
                      <a:pt x="1833" y="3"/>
                      <a:pt x="1833" y="2"/>
                    </a:cubicBezTo>
                    <a:cubicBezTo>
                      <a:pt x="1833" y="1"/>
                      <a:pt x="1834" y="0"/>
                      <a:pt x="1835" y="0"/>
                    </a:cubicBezTo>
                    <a:close/>
                    <a:moveTo>
                      <a:pt x="1843" y="0"/>
                    </a:moveTo>
                    <a:lnTo>
                      <a:pt x="1843" y="0"/>
                    </a:lnTo>
                    <a:cubicBezTo>
                      <a:pt x="1844" y="0"/>
                      <a:pt x="1845" y="1"/>
                      <a:pt x="1845" y="2"/>
                    </a:cubicBezTo>
                    <a:cubicBezTo>
                      <a:pt x="1845" y="3"/>
                      <a:pt x="1844" y="4"/>
                      <a:pt x="1843" y="4"/>
                    </a:cubicBezTo>
                    <a:lnTo>
                      <a:pt x="1843" y="4"/>
                    </a:lnTo>
                    <a:cubicBezTo>
                      <a:pt x="1842" y="4"/>
                      <a:pt x="1841" y="3"/>
                      <a:pt x="1841" y="2"/>
                    </a:cubicBezTo>
                    <a:cubicBezTo>
                      <a:pt x="1841" y="1"/>
                      <a:pt x="1842" y="0"/>
                      <a:pt x="1843" y="0"/>
                    </a:cubicBezTo>
                    <a:close/>
                    <a:moveTo>
                      <a:pt x="1851" y="0"/>
                    </a:moveTo>
                    <a:lnTo>
                      <a:pt x="1851" y="0"/>
                    </a:lnTo>
                    <a:cubicBezTo>
                      <a:pt x="1852" y="0"/>
                      <a:pt x="1853" y="1"/>
                      <a:pt x="1853" y="2"/>
                    </a:cubicBezTo>
                    <a:cubicBezTo>
                      <a:pt x="1853" y="3"/>
                      <a:pt x="1852" y="4"/>
                      <a:pt x="1851" y="4"/>
                    </a:cubicBezTo>
                    <a:lnTo>
                      <a:pt x="1851" y="4"/>
                    </a:lnTo>
                    <a:cubicBezTo>
                      <a:pt x="1850" y="4"/>
                      <a:pt x="1849" y="3"/>
                      <a:pt x="1849" y="2"/>
                    </a:cubicBezTo>
                    <a:cubicBezTo>
                      <a:pt x="1849" y="1"/>
                      <a:pt x="1850" y="0"/>
                      <a:pt x="1851" y="0"/>
                    </a:cubicBezTo>
                    <a:close/>
                    <a:moveTo>
                      <a:pt x="1859" y="0"/>
                    </a:moveTo>
                    <a:lnTo>
                      <a:pt x="1859" y="0"/>
                    </a:lnTo>
                    <a:cubicBezTo>
                      <a:pt x="1860" y="0"/>
                      <a:pt x="1861" y="1"/>
                      <a:pt x="1861" y="2"/>
                    </a:cubicBezTo>
                    <a:cubicBezTo>
                      <a:pt x="1861" y="3"/>
                      <a:pt x="1860" y="4"/>
                      <a:pt x="1859" y="4"/>
                    </a:cubicBezTo>
                    <a:lnTo>
                      <a:pt x="1859" y="4"/>
                    </a:lnTo>
                    <a:cubicBezTo>
                      <a:pt x="1858" y="4"/>
                      <a:pt x="1857" y="3"/>
                      <a:pt x="1857" y="2"/>
                    </a:cubicBezTo>
                    <a:cubicBezTo>
                      <a:pt x="1857" y="1"/>
                      <a:pt x="1858" y="0"/>
                      <a:pt x="1859" y="0"/>
                    </a:cubicBezTo>
                    <a:close/>
                    <a:moveTo>
                      <a:pt x="1867" y="0"/>
                    </a:moveTo>
                    <a:lnTo>
                      <a:pt x="1867" y="0"/>
                    </a:lnTo>
                    <a:cubicBezTo>
                      <a:pt x="1868" y="0"/>
                      <a:pt x="1869" y="1"/>
                      <a:pt x="1869" y="2"/>
                    </a:cubicBezTo>
                    <a:cubicBezTo>
                      <a:pt x="1869" y="3"/>
                      <a:pt x="1868" y="4"/>
                      <a:pt x="1867" y="4"/>
                    </a:cubicBezTo>
                    <a:lnTo>
                      <a:pt x="1867" y="4"/>
                    </a:lnTo>
                    <a:cubicBezTo>
                      <a:pt x="1866" y="4"/>
                      <a:pt x="1865" y="3"/>
                      <a:pt x="1865" y="2"/>
                    </a:cubicBezTo>
                    <a:cubicBezTo>
                      <a:pt x="1865" y="1"/>
                      <a:pt x="1866" y="0"/>
                      <a:pt x="1867" y="0"/>
                    </a:cubicBezTo>
                    <a:close/>
                    <a:moveTo>
                      <a:pt x="1875" y="0"/>
                    </a:moveTo>
                    <a:lnTo>
                      <a:pt x="1875" y="0"/>
                    </a:lnTo>
                    <a:cubicBezTo>
                      <a:pt x="1876" y="0"/>
                      <a:pt x="1877" y="1"/>
                      <a:pt x="1877" y="2"/>
                    </a:cubicBezTo>
                    <a:cubicBezTo>
                      <a:pt x="1877" y="3"/>
                      <a:pt x="1876" y="4"/>
                      <a:pt x="1875" y="4"/>
                    </a:cubicBezTo>
                    <a:lnTo>
                      <a:pt x="1875" y="4"/>
                    </a:lnTo>
                    <a:cubicBezTo>
                      <a:pt x="1874" y="4"/>
                      <a:pt x="1873" y="3"/>
                      <a:pt x="1873" y="2"/>
                    </a:cubicBezTo>
                    <a:cubicBezTo>
                      <a:pt x="1873" y="1"/>
                      <a:pt x="1874" y="0"/>
                      <a:pt x="1875" y="0"/>
                    </a:cubicBezTo>
                    <a:close/>
                    <a:moveTo>
                      <a:pt x="1883" y="0"/>
                    </a:moveTo>
                    <a:lnTo>
                      <a:pt x="1883" y="0"/>
                    </a:lnTo>
                    <a:cubicBezTo>
                      <a:pt x="1884" y="0"/>
                      <a:pt x="1885" y="1"/>
                      <a:pt x="1885" y="2"/>
                    </a:cubicBezTo>
                    <a:cubicBezTo>
                      <a:pt x="1885" y="3"/>
                      <a:pt x="1884" y="4"/>
                      <a:pt x="1883" y="4"/>
                    </a:cubicBezTo>
                    <a:lnTo>
                      <a:pt x="1883" y="4"/>
                    </a:lnTo>
                    <a:cubicBezTo>
                      <a:pt x="1882" y="4"/>
                      <a:pt x="1881" y="3"/>
                      <a:pt x="1881" y="2"/>
                    </a:cubicBezTo>
                    <a:cubicBezTo>
                      <a:pt x="1881" y="1"/>
                      <a:pt x="1882" y="0"/>
                      <a:pt x="1883" y="0"/>
                    </a:cubicBezTo>
                    <a:close/>
                    <a:moveTo>
                      <a:pt x="1891" y="0"/>
                    </a:moveTo>
                    <a:lnTo>
                      <a:pt x="1891" y="0"/>
                    </a:lnTo>
                    <a:cubicBezTo>
                      <a:pt x="1892" y="0"/>
                      <a:pt x="1893" y="1"/>
                      <a:pt x="1893" y="2"/>
                    </a:cubicBezTo>
                    <a:cubicBezTo>
                      <a:pt x="1893" y="3"/>
                      <a:pt x="1892" y="4"/>
                      <a:pt x="1891" y="4"/>
                    </a:cubicBezTo>
                    <a:lnTo>
                      <a:pt x="1891" y="4"/>
                    </a:lnTo>
                    <a:cubicBezTo>
                      <a:pt x="1890" y="4"/>
                      <a:pt x="1889" y="3"/>
                      <a:pt x="1889" y="2"/>
                    </a:cubicBezTo>
                    <a:cubicBezTo>
                      <a:pt x="1889" y="1"/>
                      <a:pt x="1890" y="0"/>
                      <a:pt x="1891" y="0"/>
                    </a:cubicBezTo>
                    <a:close/>
                    <a:moveTo>
                      <a:pt x="1899" y="0"/>
                    </a:moveTo>
                    <a:lnTo>
                      <a:pt x="1899" y="0"/>
                    </a:lnTo>
                    <a:cubicBezTo>
                      <a:pt x="1900" y="0"/>
                      <a:pt x="1901" y="1"/>
                      <a:pt x="1901" y="2"/>
                    </a:cubicBezTo>
                    <a:cubicBezTo>
                      <a:pt x="1901" y="3"/>
                      <a:pt x="1900" y="4"/>
                      <a:pt x="1899" y="4"/>
                    </a:cubicBezTo>
                    <a:lnTo>
                      <a:pt x="1899" y="4"/>
                    </a:lnTo>
                    <a:cubicBezTo>
                      <a:pt x="1898" y="4"/>
                      <a:pt x="1897" y="3"/>
                      <a:pt x="1897" y="2"/>
                    </a:cubicBezTo>
                    <a:cubicBezTo>
                      <a:pt x="1897" y="1"/>
                      <a:pt x="1898" y="0"/>
                      <a:pt x="1899" y="0"/>
                    </a:cubicBezTo>
                    <a:close/>
                    <a:moveTo>
                      <a:pt x="1907" y="0"/>
                    </a:moveTo>
                    <a:lnTo>
                      <a:pt x="1907" y="0"/>
                    </a:lnTo>
                    <a:cubicBezTo>
                      <a:pt x="1908" y="0"/>
                      <a:pt x="1909" y="1"/>
                      <a:pt x="1909" y="2"/>
                    </a:cubicBezTo>
                    <a:cubicBezTo>
                      <a:pt x="1909" y="3"/>
                      <a:pt x="1908" y="4"/>
                      <a:pt x="1907" y="4"/>
                    </a:cubicBezTo>
                    <a:lnTo>
                      <a:pt x="1907" y="4"/>
                    </a:lnTo>
                    <a:cubicBezTo>
                      <a:pt x="1906" y="4"/>
                      <a:pt x="1905" y="3"/>
                      <a:pt x="1905" y="2"/>
                    </a:cubicBezTo>
                    <a:cubicBezTo>
                      <a:pt x="1905" y="1"/>
                      <a:pt x="1906" y="0"/>
                      <a:pt x="1907" y="0"/>
                    </a:cubicBezTo>
                    <a:close/>
                    <a:moveTo>
                      <a:pt x="1915" y="0"/>
                    </a:moveTo>
                    <a:lnTo>
                      <a:pt x="1915" y="0"/>
                    </a:lnTo>
                    <a:cubicBezTo>
                      <a:pt x="1916" y="0"/>
                      <a:pt x="1917" y="1"/>
                      <a:pt x="1917" y="2"/>
                    </a:cubicBezTo>
                    <a:cubicBezTo>
                      <a:pt x="1917" y="3"/>
                      <a:pt x="1916" y="4"/>
                      <a:pt x="1915" y="4"/>
                    </a:cubicBezTo>
                    <a:lnTo>
                      <a:pt x="1915" y="4"/>
                    </a:lnTo>
                    <a:cubicBezTo>
                      <a:pt x="1914" y="4"/>
                      <a:pt x="1913" y="3"/>
                      <a:pt x="1913" y="2"/>
                    </a:cubicBezTo>
                    <a:cubicBezTo>
                      <a:pt x="1913" y="1"/>
                      <a:pt x="1914" y="0"/>
                      <a:pt x="1915" y="0"/>
                    </a:cubicBezTo>
                    <a:close/>
                    <a:moveTo>
                      <a:pt x="1923" y="0"/>
                    </a:moveTo>
                    <a:lnTo>
                      <a:pt x="1923" y="0"/>
                    </a:lnTo>
                    <a:cubicBezTo>
                      <a:pt x="1924" y="0"/>
                      <a:pt x="1925" y="1"/>
                      <a:pt x="1925" y="2"/>
                    </a:cubicBezTo>
                    <a:cubicBezTo>
                      <a:pt x="1925" y="3"/>
                      <a:pt x="1924" y="4"/>
                      <a:pt x="1923" y="4"/>
                    </a:cubicBezTo>
                    <a:lnTo>
                      <a:pt x="1923" y="4"/>
                    </a:lnTo>
                    <a:cubicBezTo>
                      <a:pt x="1922" y="4"/>
                      <a:pt x="1921" y="3"/>
                      <a:pt x="1921" y="2"/>
                    </a:cubicBezTo>
                    <a:cubicBezTo>
                      <a:pt x="1921" y="1"/>
                      <a:pt x="1922" y="0"/>
                      <a:pt x="1923" y="0"/>
                    </a:cubicBezTo>
                    <a:close/>
                    <a:moveTo>
                      <a:pt x="1931" y="0"/>
                    </a:moveTo>
                    <a:lnTo>
                      <a:pt x="1931" y="0"/>
                    </a:lnTo>
                    <a:cubicBezTo>
                      <a:pt x="1932" y="0"/>
                      <a:pt x="1933" y="1"/>
                      <a:pt x="1933" y="2"/>
                    </a:cubicBezTo>
                    <a:cubicBezTo>
                      <a:pt x="1933" y="3"/>
                      <a:pt x="1932" y="4"/>
                      <a:pt x="1931" y="4"/>
                    </a:cubicBezTo>
                    <a:lnTo>
                      <a:pt x="1931" y="4"/>
                    </a:lnTo>
                    <a:cubicBezTo>
                      <a:pt x="1930" y="4"/>
                      <a:pt x="1929" y="3"/>
                      <a:pt x="1929" y="2"/>
                    </a:cubicBezTo>
                    <a:cubicBezTo>
                      <a:pt x="1929" y="1"/>
                      <a:pt x="1930" y="0"/>
                      <a:pt x="1931" y="0"/>
                    </a:cubicBezTo>
                    <a:close/>
                    <a:moveTo>
                      <a:pt x="1939" y="0"/>
                    </a:moveTo>
                    <a:lnTo>
                      <a:pt x="1939" y="0"/>
                    </a:lnTo>
                    <a:cubicBezTo>
                      <a:pt x="1940" y="0"/>
                      <a:pt x="1941" y="1"/>
                      <a:pt x="1941" y="2"/>
                    </a:cubicBezTo>
                    <a:cubicBezTo>
                      <a:pt x="1941" y="3"/>
                      <a:pt x="1940" y="4"/>
                      <a:pt x="1939" y="4"/>
                    </a:cubicBezTo>
                    <a:lnTo>
                      <a:pt x="1939" y="4"/>
                    </a:lnTo>
                    <a:cubicBezTo>
                      <a:pt x="1938" y="4"/>
                      <a:pt x="1937" y="3"/>
                      <a:pt x="1937" y="2"/>
                    </a:cubicBezTo>
                    <a:cubicBezTo>
                      <a:pt x="1937" y="1"/>
                      <a:pt x="1938" y="0"/>
                      <a:pt x="1939" y="0"/>
                    </a:cubicBezTo>
                    <a:close/>
                    <a:moveTo>
                      <a:pt x="1947" y="0"/>
                    </a:moveTo>
                    <a:lnTo>
                      <a:pt x="1947" y="0"/>
                    </a:lnTo>
                    <a:cubicBezTo>
                      <a:pt x="1948" y="0"/>
                      <a:pt x="1949" y="1"/>
                      <a:pt x="1949" y="2"/>
                    </a:cubicBezTo>
                    <a:cubicBezTo>
                      <a:pt x="1949" y="3"/>
                      <a:pt x="1948" y="4"/>
                      <a:pt x="1947" y="4"/>
                    </a:cubicBezTo>
                    <a:lnTo>
                      <a:pt x="1947" y="4"/>
                    </a:lnTo>
                    <a:cubicBezTo>
                      <a:pt x="1946" y="4"/>
                      <a:pt x="1945" y="3"/>
                      <a:pt x="1945" y="2"/>
                    </a:cubicBezTo>
                    <a:cubicBezTo>
                      <a:pt x="1945" y="1"/>
                      <a:pt x="1946" y="0"/>
                      <a:pt x="1947" y="0"/>
                    </a:cubicBezTo>
                    <a:close/>
                    <a:moveTo>
                      <a:pt x="1955" y="0"/>
                    </a:moveTo>
                    <a:lnTo>
                      <a:pt x="1955" y="0"/>
                    </a:lnTo>
                    <a:cubicBezTo>
                      <a:pt x="1956" y="0"/>
                      <a:pt x="1957" y="1"/>
                      <a:pt x="1957" y="2"/>
                    </a:cubicBezTo>
                    <a:cubicBezTo>
                      <a:pt x="1957" y="3"/>
                      <a:pt x="1956" y="4"/>
                      <a:pt x="1955" y="4"/>
                    </a:cubicBezTo>
                    <a:lnTo>
                      <a:pt x="1955" y="4"/>
                    </a:lnTo>
                    <a:cubicBezTo>
                      <a:pt x="1954" y="4"/>
                      <a:pt x="1953" y="3"/>
                      <a:pt x="1953" y="2"/>
                    </a:cubicBezTo>
                    <a:cubicBezTo>
                      <a:pt x="1953" y="1"/>
                      <a:pt x="1954" y="0"/>
                      <a:pt x="1955" y="0"/>
                    </a:cubicBezTo>
                    <a:close/>
                    <a:moveTo>
                      <a:pt x="1963" y="0"/>
                    </a:moveTo>
                    <a:lnTo>
                      <a:pt x="1963" y="0"/>
                    </a:lnTo>
                    <a:cubicBezTo>
                      <a:pt x="1964" y="0"/>
                      <a:pt x="1965" y="1"/>
                      <a:pt x="1965" y="2"/>
                    </a:cubicBezTo>
                    <a:cubicBezTo>
                      <a:pt x="1965" y="3"/>
                      <a:pt x="1964" y="4"/>
                      <a:pt x="1963" y="4"/>
                    </a:cubicBezTo>
                    <a:lnTo>
                      <a:pt x="1963" y="4"/>
                    </a:lnTo>
                    <a:cubicBezTo>
                      <a:pt x="1962" y="4"/>
                      <a:pt x="1961" y="3"/>
                      <a:pt x="1961" y="2"/>
                    </a:cubicBezTo>
                    <a:cubicBezTo>
                      <a:pt x="1961" y="1"/>
                      <a:pt x="1962" y="0"/>
                      <a:pt x="1963" y="0"/>
                    </a:cubicBezTo>
                    <a:close/>
                    <a:moveTo>
                      <a:pt x="1971" y="0"/>
                    </a:moveTo>
                    <a:lnTo>
                      <a:pt x="1971" y="0"/>
                    </a:lnTo>
                    <a:cubicBezTo>
                      <a:pt x="1972" y="0"/>
                      <a:pt x="1973" y="1"/>
                      <a:pt x="1973" y="2"/>
                    </a:cubicBezTo>
                    <a:cubicBezTo>
                      <a:pt x="1973" y="3"/>
                      <a:pt x="1972" y="4"/>
                      <a:pt x="1971" y="4"/>
                    </a:cubicBezTo>
                    <a:lnTo>
                      <a:pt x="1971" y="4"/>
                    </a:lnTo>
                    <a:cubicBezTo>
                      <a:pt x="1970" y="4"/>
                      <a:pt x="1969" y="3"/>
                      <a:pt x="1969" y="2"/>
                    </a:cubicBezTo>
                    <a:cubicBezTo>
                      <a:pt x="1969" y="1"/>
                      <a:pt x="1970" y="0"/>
                      <a:pt x="1971" y="0"/>
                    </a:cubicBezTo>
                    <a:close/>
                    <a:moveTo>
                      <a:pt x="1979" y="0"/>
                    </a:moveTo>
                    <a:lnTo>
                      <a:pt x="1979" y="0"/>
                    </a:lnTo>
                    <a:cubicBezTo>
                      <a:pt x="1980" y="0"/>
                      <a:pt x="1981" y="1"/>
                      <a:pt x="1981" y="2"/>
                    </a:cubicBezTo>
                    <a:cubicBezTo>
                      <a:pt x="1981" y="3"/>
                      <a:pt x="1980" y="4"/>
                      <a:pt x="1979" y="4"/>
                    </a:cubicBezTo>
                    <a:lnTo>
                      <a:pt x="1979" y="4"/>
                    </a:lnTo>
                    <a:cubicBezTo>
                      <a:pt x="1978" y="4"/>
                      <a:pt x="1977" y="3"/>
                      <a:pt x="1977" y="2"/>
                    </a:cubicBezTo>
                    <a:cubicBezTo>
                      <a:pt x="1977" y="1"/>
                      <a:pt x="1978" y="0"/>
                      <a:pt x="1979" y="0"/>
                    </a:cubicBezTo>
                    <a:close/>
                    <a:moveTo>
                      <a:pt x="1987" y="0"/>
                    </a:moveTo>
                    <a:lnTo>
                      <a:pt x="1987" y="0"/>
                    </a:lnTo>
                    <a:cubicBezTo>
                      <a:pt x="1988" y="0"/>
                      <a:pt x="1989" y="1"/>
                      <a:pt x="1989" y="2"/>
                    </a:cubicBezTo>
                    <a:cubicBezTo>
                      <a:pt x="1989" y="3"/>
                      <a:pt x="1988" y="4"/>
                      <a:pt x="1987" y="4"/>
                    </a:cubicBezTo>
                    <a:lnTo>
                      <a:pt x="1987" y="4"/>
                    </a:lnTo>
                    <a:cubicBezTo>
                      <a:pt x="1986" y="4"/>
                      <a:pt x="1985" y="3"/>
                      <a:pt x="1985" y="2"/>
                    </a:cubicBezTo>
                    <a:cubicBezTo>
                      <a:pt x="1985" y="1"/>
                      <a:pt x="1986" y="0"/>
                      <a:pt x="1987" y="0"/>
                    </a:cubicBezTo>
                    <a:close/>
                    <a:moveTo>
                      <a:pt x="1995" y="0"/>
                    </a:moveTo>
                    <a:lnTo>
                      <a:pt x="1995" y="0"/>
                    </a:lnTo>
                    <a:cubicBezTo>
                      <a:pt x="1996" y="0"/>
                      <a:pt x="1997" y="1"/>
                      <a:pt x="1997" y="2"/>
                    </a:cubicBezTo>
                    <a:cubicBezTo>
                      <a:pt x="1997" y="3"/>
                      <a:pt x="1996" y="4"/>
                      <a:pt x="1995" y="4"/>
                    </a:cubicBezTo>
                    <a:lnTo>
                      <a:pt x="1995" y="4"/>
                    </a:lnTo>
                    <a:cubicBezTo>
                      <a:pt x="1994" y="4"/>
                      <a:pt x="1993" y="3"/>
                      <a:pt x="1993" y="2"/>
                    </a:cubicBezTo>
                    <a:cubicBezTo>
                      <a:pt x="1993" y="1"/>
                      <a:pt x="1994" y="0"/>
                      <a:pt x="1995" y="0"/>
                    </a:cubicBezTo>
                    <a:close/>
                    <a:moveTo>
                      <a:pt x="2003" y="0"/>
                    </a:moveTo>
                    <a:lnTo>
                      <a:pt x="2003" y="0"/>
                    </a:lnTo>
                    <a:cubicBezTo>
                      <a:pt x="2004" y="0"/>
                      <a:pt x="2005" y="1"/>
                      <a:pt x="2005" y="2"/>
                    </a:cubicBezTo>
                    <a:cubicBezTo>
                      <a:pt x="2005" y="3"/>
                      <a:pt x="2004" y="4"/>
                      <a:pt x="2003" y="4"/>
                    </a:cubicBezTo>
                    <a:lnTo>
                      <a:pt x="2003" y="4"/>
                    </a:lnTo>
                    <a:cubicBezTo>
                      <a:pt x="2002" y="4"/>
                      <a:pt x="2001" y="3"/>
                      <a:pt x="2001" y="2"/>
                    </a:cubicBezTo>
                    <a:cubicBezTo>
                      <a:pt x="2001" y="1"/>
                      <a:pt x="2002" y="0"/>
                      <a:pt x="2003" y="0"/>
                    </a:cubicBezTo>
                    <a:close/>
                    <a:moveTo>
                      <a:pt x="2011" y="0"/>
                    </a:moveTo>
                    <a:lnTo>
                      <a:pt x="2011" y="0"/>
                    </a:lnTo>
                    <a:cubicBezTo>
                      <a:pt x="2012" y="0"/>
                      <a:pt x="2013" y="1"/>
                      <a:pt x="2013" y="2"/>
                    </a:cubicBezTo>
                    <a:cubicBezTo>
                      <a:pt x="2013" y="3"/>
                      <a:pt x="2012" y="4"/>
                      <a:pt x="2011" y="4"/>
                    </a:cubicBezTo>
                    <a:lnTo>
                      <a:pt x="2011" y="4"/>
                    </a:lnTo>
                    <a:cubicBezTo>
                      <a:pt x="2010" y="4"/>
                      <a:pt x="2009" y="3"/>
                      <a:pt x="2009" y="2"/>
                    </a:cubicBezTo>
                    <a:cubicBezTo>
                      <a:pt x="2009" y="1"/>
                      <a:pt x="2010" y="0"/>
                      <a:pt x="2011" y="0"/>
                    </a:cubicBezTo>
                    <a:close/>
                    <a:moveTo>
                      <a:pt x="2019" y="0"/>
                    </a:moveTo>
                    <a:lnTo>
                      <a:pt x="2019" y="0"/>
                    </a:lnTo>
                    <a:cubicBezTo>
                      <a:pt x="2020" y="0"/>
                      <a:pt x="2021" y="1"/>
                      <a:pt x="2021" y="2"/>
                    </a:cubicBezTo>
                    <a:cubicBezTo>
                      <a:pt x="2021" y="3"/>
                      <a:pt x="2020" y="4"/>
                      <a:pt x="2019" y="4"/>
                    </a:cubicBezTo>
                    <a:lnTo>
                      <a:pt x="2019" y="4"/>
                    </a:lnTo>
                    <a:cubicBezTo>
                      <a:pt x="2018" y="4"/>
                      <a:pt x="2017" y="3"/>
                      <a:pt x="2017" y="2"/>
                    </a:cubicBezTo>
                    <a:cubicBezTo>
                      <a:pt x="2017" y="1"/>
                      <a:pt x="2018" y="0"/>
                      <a:pt x="2019" y="0"/>
                    </a:cubicBezTo>
                    <a:close/>
                    <a:moveTo>
                      <a:pt x="2027" y="0"/>
                    </a:moveTo>
                    <a:lnTo>
                      <a:pt x="2027" y="0"/>
                    </a:lnTo>
                    <a:cubicBezTo>
                      <a:pt x="2028" y="0"/>
                      <a:pt x="2029" y="1"/>
                      <a:pt x="2029" y="2"/>
                    </a:cubicBezTo>
                    <a:cubicBezTo>
                      <a:pt x="2029" y="3"/>
                      <a:pt x="2028" y="4"/>
                      <a:pt x="2027" y="4"/>
                    </a:cubicBezTo>
                    <a:lnTo>
                      <a:pt x="2027" y="4"/>
                    </a:lnTo>
                    <a:cubicBezTo>
                      <a:pt x="2026" y="4"/>
                      <a:pt x="2025" y="3"/>
                      <a:pt x="2025" y="2"/>
                    </a:cubicBezTo>
                    <a:cubicBezTo>
                      <a:pt x="2025" y="1"/>
                      <a:pt x="2026" y="0"/>
                      <a:pt x="2027" y="0"/>
                    </a:cubicBezTo>
                    <a:close/>
                    <a:moveTo>
                      <a:pt x="2035" y="0"/>
                    </a:moveTo>
                    <a:lnTo>
                      <a:pt x="2035" y="0"/>
                    </a:lnTo>
                    <a:cubicBezTo>
                      <a:pt x="2036" y="0"/>
                      <a:pt x="2037" y="1"/>
                      <a:pt x="2037" y="2"/>
                    </a:cubicBezTo>
                    <a:cubicBezTo>
                      <a:pt x="2037" y="3"/>
                      <a:pt x="2036" y="4"/>
                      <a:pt x="2035" y="4"/>
                    </a:cubicBezTo>
                    <a:lnTo>
                      <a:pt x="2035" y="4"/>
                    </a:lnTo>
                    <a:cubicBezTo>
                      <a:pt x="2034" y="4"/>
                      <a:pt x="2033" y="3"/>
                      <a:pt x="2033" y="2"/>
                    </a:cubicBezTo>
                    <a:cubicBezTo>
                      <a:pt x="2033" y="1"/>
                      <a:pt x="2034" y="0"/>
                      <a:pt x="2035" y="0"/>
                    </a:cubicBezTo>
                    <a:close/>
                    <a:moveTo>
                      <a:pt x="2043" y="0"/>
                    </a:moveTo>
                    <a:lnTo>
                      <a:pt x="2043" y="0"/>
                    </a:lnTo>
                    <a:cubicBezTo>
                      <a:pt x="2044" y="0"/>
                      <a:pt x="2045" y="1"/>
                      <a:pt x="2045" y="2"/>
                    </a:cubicBezTo>
                    <a:cubicBezTo>
                      <a:pt x="2045" y="3"/>
                      <a:pt x="2044" y="4"/>
                      <a:pt x="2043" y="4"/>
                    </a:cubicBezTo>
                    <a:lnTo>
                      <a:pt x="2043" y="4"/>
                    </a:lnTo>
                    <a:cubicBezTo>
                      <a:pt x="2042" y="4"/>
                      <a:pt x="2041" y="3"/>
                      <a:pt x="2041" y="2"/>
                    </a:cubicBezTo>
                    <a:cubicBezTo>
                      <a:pt x="2041" y="1"/>
                      <a:pt x="2042" y="0"/>
                      <a:pt x="2043" y="0"/>
                    </a:cubicBezTo>
                    <a:close/>
                    <a:moveTo>
                      <a:pt x="2051" y="0"/>
                    </a:moveTo>
                    <a:lnTo>
                      <a:pt x="2051" y="0"/>
                    </a:lnTo>
                    <a:cubicBezTo>
                      <a:pt x="2052" y="0"/>
                      <a:pt x="2053" y="1"/>
                      <a:pt x="2053" y="2"/>
                    </a:cubicBezTo>
                    <a:cubicBezTo>
                      <a:pt x="2053" y="3"/>
                      <a:pt x="2052" y="4"/>
                      <a:pt x="2051" y="4"/>
                    </a:cubicBezTo>
                    <a:lnTo>
                      <a:pt x="2051" y="4"/>
                    </a:lnTo>
                    <a:cubicBezTo>
                      <a:pt x="2050" y="4"/>
                      <a:pt x="2049" y="3"/>
                      <a:pt x="2049" y="2"/>
                    </a:cubicBezTo>
                    <a:cubicBezTo>
                      <a:pt x="2049" y="1"/>
                      <a:pt x="2050" y="0"/>
                      <a:pt x="2051" y="0"/>
                    </a:cubicBezTo>
                    <a:close/>
                    <a:moveTo>
                      <a:pt x="2059" y="0"/>
                    </a:moveTo>
                    <a:lnTo>
                      <a:pt x="2059" y="0"/>
                    </a:lnTo>
                    <a:cubicBezTo>
                      <a:pt x="2060" y="0"/>
                      <a:pt x="2061" y="1"/>
                      <a:pt x="2061" y="2"/>
                    </a:cubicBezTo>
                    <a:cubicBezTo>
                      <a:pt x="2061" y="3"/>
                      <a:pt x="2060" y="4"/>
                      <a:pt x="2059" y="4"/>
                    </a:cubicBezTo>
                    <a:lnTo>
                      <a:pt x="2059" y="4"/>
                    </a:lnTo>
                    <a:cubicBezTo>
                      <a:pt x="2058" y="4"/>
                      <a:pt x="2057" y="3"/>
                      <a:pt x="2057" y="2"/>
                    </a:cubicBezTo>
                    <a:cubicBezTo>
                      <a:pt x="2057" y="1"/>
                      <a:pt x="2058" y="0"/>
                      <a:pt x="2059" y="0"/>
                    </a:cubicBezTo>
                    <a:close/>
                    <a:moveTo>
                      <a:pt x="2067" y="0"/>
                    </a:moveTo>
                    <a:lnTo>
                      <a:pt x="2067" y="0"/>
                    </a:lnTo>
                    <a:cubicBezTo>
                      <a:pt x="2068" y="0"/>
                      <a:pt x="2069" y="1"/>
                      <a:pt x="2069" y="2"/>
                    </a:cubicBezTo>
                    <a:cubicBezTo>
                      <a:pt x="2069" y="3"/>
                      <a:pt x="2068" y="4"/>
                      <a:pt x="2067" y="4"/>
                    </a:cubicBezTo>
                    <a:lnTo>
                      <a:pt x="2067" y="4"/>
                    </a:lnTo>
                    <a:cubicBezTo>
                      <a:pt x="2066" y="4"/>
                      <a:pt x="2065" y="3"/>
                      <a:pt x="2065" y="2"/>
                    </a:cubicBezTo>
                    <a:cubicBezTo>
                      <a:pt x="2065" y="1"/>
                      <a:pt x="2066" y="0"/>
                      <a:pt x="2067" y="0"/>
                    </a:cubicBezTo>
                    <a:close/>
                    <a:moveTo>
                      <a:pt x="2075" y="0"/>
                    </a:moveTo>
                    <a:lnTo>
                      <a:pt x="2075" y="0"/>
                    </a:lnTo>
                    <a:cubicBezTo>
                      <a:pt x="2076" y="0"/>
                      <a:pt x="2077" y="1"/>
                      <a:pt x="2077" y="2"/>
                    </a:cubicBezTo>
                    <a:cubicBezTo>
                      <a:pt x="2077" y="3"/>
                      <a:pt x="2076" y="4"/>
                      <a:pt x="2075" y="4"/>
                    </a:cubicBezTo>
                    <a:lnTo>
                      <a:pt x="2075" y="4"/>
                    </a:lnTo>
                    <a:cubicBezTo>
                      <a:pt x="2074" y="4"/>
                      <a:pt x="2073" y="3"/>
                      <a:pt x="2073" y="2"/>
                    </a:cubicBezTo>
                    <a:cubicBezTo>
                      <a:pt x="2073" y="1"/>
                      <a:pt x="2074" y="0"/>
                      <a:pt x="2075" y="0"/>
                    </a:cubicBezTo>
                    <a:close/>
                    <a:moveTo>
                      <a:pt x="2083" y="0"/>
                    </a:moveTo>
                    <a:lnTo>
                      <a:pt x="2083" y="0"/>
                    </a:lnTo>
                    <a:cubicBezTo>
                      <a:pt x="2084" y="0"/>
                      <a:pt x="2085" y="1"/>
                      <a:pt x="2085" y="2"/>
                    </a:cubicBezTo>
                    <a:cubicBezTo>
                      <a:pt x="2085" y="3"/>
                      <a:pt x="2084" y="4"/>
                      <a:pt x="2083" y="4"/>
                    </a:cubicBezTo>
                    <a:lnTo>
                      <a:pt x="2083" y="4"/>
                    </a:lnTo>
                    <a:cubicBezTo>
                      <a:pt x="2082" y="4"/>
                      <a:pt x="2081" y="3"/>
                      <a:pt x="2081" y="2"/>
                    </a:cubicBezTo>
                    <a:cubicBezTo>
                      <a:pt x="2081" y="1"/>
                      <a:pt x="2082" y="0"/>
                      <a:pt x="2083" y="0"/>
                    </a:cubicBezTo>
                    <a:close/>
                    <a:moveTo>
                      <a:pt x="2091" y="0"/>
                    </a:moveTo>
                    <a:lnTo>
                      <a:pt x="2091" y="0"/>
                    </a:lnTo>
                    <a:cubicBezTo>
                      <a:pt x="2092" y="0"/>
                      <a:pt x="2093" y="1"/>
                      <a:pt x="2093" y="2"/>
                    </a:cubicBezTo>
                    <a:cubicBezTo>
                      <a:pt x="2093" y="3"/>
                      <a:pt x="2092" y="4"/>
                      <a:pt x="2091" y="4"/>
                    </a:cubicBezTo>
                    <a:lnTo>
                      <a:pt x="2091" y="4"/>
                    </a:lnTo>
                    <a:cubicBezTo>
                      <a:pt x="2090" y="4"/>
                      <a:pt x="2089" y="3"/>
                      <a:pt x="2089" y="2"/>
                    </a:cubicBezTo>
                    <a:cubicBezTo>
                      <a:pt x="2089" y="1"/>
                      <a:pt x="2090" y="0"/>
                      <a:pt x="2091" y="0"/>
                    </a:cubicBezTo>
                    <a:close/>
                    <a:moveTo>
                      <a:pt x="2099" y="0"/>
                    </a:moveTo>
                    <a:lnTo>
                      <a:pt x="2099" y="0"/>
                    </a:lnTo>
                    <a:cubicBezTo>
                      <a:pt x="2100" y="0"/>
                      <a:pt x="2101" y="1"/>
                      <a:pt x="2101" y="2"/>
                    </a:cubicBezTo>
                    <a:cubicBezTo>
                      <a:pt x="2101" y="3"/>
                      <a:pt x="2100" y="4"/>
                      <a:pt x="2099" y="4"/>
                    </a:cubicBezTo>
                    <a:lnTo>
                      <a:pt x="2099" y="4"/>
                    </a:lnTo>
                    <a:cubicBezTo>
                      <a:pt x="2098" y="4"/>
                      <a:pt x="2097" y="3"/>
                      <a:pt x="2097" y="2"/>
                    </a:cubicBezTo>
                    <a:cubicBezTo>
                      <a:pt x="2097" y="1"/>
                      <a:pt x="2098" y="0"/>
                      <a:pt x="2099" y="0"/>
                    </a:cubicBezTo>
                    <a:close/>
                    <a:moveTo>
                      <a:pt x="2107" y="0"/>
                    </a:moveTo>
                    <a:lnTo>
                      <a:pt x="2107" y="0"/>
                    </a:lnTo>
                    <a:cubicBezTo>
                      <a:pt x="2108" y="0"/>
                      <a:pt x="2109" y="1"/>
                      <a:pt x="2109" y="2"/>
                    </a:cubicBezTo>
                    <a:cubicBezTo>
                      <a:pt x="2109" y="3"/>
                      <a:pt x="2108" y="4"/>
                      <a:pt x="2107" y="4"/>
                    </a:cubicBezTo>
                    <a:lnTo>
                      <a:pt x="2107" y="4"/>
                    </a:lnTo>
                    <a:cubicBezTo>
                      <a:pt x="2106" y="4"/>
                      <a:pt x="2105" y="3"/>
                      <a:pt x="2105" y="2"/>
                    </a:cubicBezTo>
                    <a:cubicBezTo>
                      <a:pt x="2105" y="1"/>
                      <a:pt x="2106" y="0"/>
                      <a:pt x="2107" y="0"/>
                    </a:cubicBezTo>
                    <a:close/>
                    <a:moveTo>
                      <a:pt x="2115" y="0"/>
                    </a:moveTo>
                    <a:lnTo>
                      <a:pt x="2115" y="0"/>
                    </a:lnTo>
                    <a:cubicBezTo>
                      <a:pt x="2116" y="0"/>
                      <a:pt x="2117" y="1"/>
                      <a:pt x="2117" y="2"/>
                    </a:cubicBezTo>
                    <a:cubicBezTo>
                      <a:pt x="2117" y="3"/>
                      <a:pt x="2116" y="4"/>
                      <a:pt x="2115" y="4"/>
                    </a:cubicBezTo>
                    <a:lnTo>
                      <a:pt x="2115" y="4"/>
                    </a:lnTo>
                    <a:cubicBezTo>
                      <a:pt x="2114" y="4"/>
                      <a:pt x="2113" y="3"/>
                      <a:pt x="2113" y="2"/>
                    </a:cubicBezTo>
                    <a:cubicBezTo>
                      <a:pt x="2113" y="1"/>
                      <a:pt x="2114" y="0"/>
                      <a:pt x="2115" y="0"/>
                    </a:cubicBezTo>
                    <a:close/>
                    <a:moveTo>
                      <a:pt x="2123" y="0"/>
                    </a:moveTo>
                    <a:lnTo>
                      <a:pt x="2123" y="0"/>
                    </a:lnTo>
                    <a:cubicBezTo>
                      <a:pt x="2124" y="0"/>
                      <a:pt x="2125" y="1"/>
                      <a:pt x="2125" y="2"/>
                    </a:cubicBezTo>
                    <a:cubicBezTo>
                      <a:pt x="2125" y="3"/>
                      <a:pt x="2124" y="4"/>
                      <a:pt x="2123" y="4"/>
                    </a:cubicBezTo>
                    <a:lnTo>
                      <a:pt x="2123" y="4"/>
                    </a:lnTo>
                    <a:cubicBezTo>
                      <a:pt x="2122" y="4"/>
                      <a:pt x="2121" y="3"/>
                      <a:pt x="2121" y="2"/>
                    </a:cubicBezTo>
                    <a:cubicBezTo>
                      <a:pt x="2121" y="1"/>
                      <a:pt x="2122" y="0"/>
                      <a:pt x="2123" y="0"/>
                    </a:cubicBezTo>
                    <a:close/>
                    <a:moveTo>
                      <a:pt x="2131" y="0"/>
                    </a:moveTo>
                    <a:lnTo>
                      <a:pt x="2131" y="0"/>
                    </a:lnTo>
                    <a:cubicBezTo>
                      <a:pt x="2132" y="0"/>
                      <a:pt x="2133" y="1"/>
                      <a:pt x="2133" y="2"/>
                    </a:cubicBezTo>
                    <a:cubicBezTo>
                      <a:pt x="2133" y="4"/>
                      <a:pt x="2132" y="4"/>
                      <a:pt x="2131" y="4"/>
                    </a:cubicBezTo>
                    <a:lnTo>
                      <a:pt x="2131" y="4"/>
                    </a:lnTo>
                    <a:cubicBezTo>
                      <a:pt x="2130" y="4"/>
                      <a:pt x="2129" y="4"/>
                      <a:pt x="2129" y="2"/>
                    </a:cubicBezTo>
                    <a:cubicBezTo>
                      <a:pt x="2129" y="1"/>
                      <a:pt x="2130" y="0"/>
                      <a:pt x="2131" y="0"/>
                    </a:cubicBezTo>
                    <a:close/>
                    <a:moveTo>
                      <a:pt x="2139" y="0"/>
                    </a:moveTo>
                    <a:lnTo>
                      <a:pt x="2139" y="0"/>
                    </a:lnTo>
                    <a:cubicBezTo>
                      <a:pt x="2140" y="0"/>
                      <a:pt x="2141" y="1"/>
                      <a:pt x="2141" y="2"/>
                    </a:cubicBezTo>
                    <a:cubicBezTo>
                      <a:pt x="2141" y="4"/>
                      <a:pt x="2140" y="4"/>
                      <a:pt x="2139" y="4"/>
                    </a:cubicBezTo>
                    <a:lnTo>
                      <a:pt x="2139" y="4"/>
                    </a:lnTo>
                    <a:cubicBezTo>
                      <a:pt x="2138" y="4"/>
                      <a:pt x="2137" y="4"/>
                      <a:pt x="2137" y="2"/>
                    </a:cubicBezTo>
                    <a:cubicBezTo>
                      <a:pt x="2137" y="1"/>
                      <a:pt x="2138" y="0"/>
                      <a:pt x="2139" y="0"/>
                    </a:cubicBezTo>
                    <a:close/>
                    <a:moveTo>
                      <a:pt x="2147" y="0"/>
                    </a:moveTo>
                    <a:lnTo>
                      <a:pt x="2147" y="0"/>
                    </a:lnTo>
                    <a:cubicBezTo>
                      <a:pt x="2148" y="0"/>
                      <a:pt x="2149" y="1"/>
                      <a:pt x="2149" y="2"/>
                    </a:cubicBezTo>
                    <a:cubicBezTo>
                      <a:pt x="2149" y="4"/>
                      <a:pt x="2148" y="4"/>
                      <a:pt x="2147" y="4"/>
                    </a:cubicBezTo>
                    <a:lnTo>
                      <a:pt x="2147" y="4"/>
                    </a:lnTo>
                    <a:cubicBezTo>
                      <a:pt x="2146" y="4"/>
                      <a:pt x="2145" y="4"/>
                      <a:pt x="2145" y="2"/>
                    </a:cubicBezTo>
                    <a:cubicBezTo>
                      <a:pt x="2145" y="1"/>
                      <a:pt x="2146" y="0"/>
                      <a:pt x="2147" y="0"/>
                    </a:cubicBezTo>
                    <a:close/>
                    <a:moveTo>
                      <a:pt x="2155" y="0"/>
                    </a:moveTo>
                    <a:lnTo>
                      <a:pt x="2155" y="0"/>
                    </a:lnTo>
                    <a:cubicBezTo>
                      <a:pt x="2156" y="0"/>
                      <a:pt x="2157" y="1"/>
                      <a:pt x="2157" y="2"/>
                    </a:cubicBezTo>
                    <a:cubicBezTo>
                      <a:pt x="2157" y="4"/>
                      <a:pt x="2156" y="4"/>
                      <a:pt x="2155" y="4"/>
                    </a:cubicBezTo>
                    <a:lnTo>
                      <a:pt x="2155" y="4"/>
                    </a:lnTo>
                    <a:cubicBezTo>
                      <a:pt x="2154" y="4"/>
                      <a:pt x="2153" y="4"/>
                      <a:pt x="2153" y="2"/>
                    </a:cubicBezTo>
                    <a:cubicBezTo>
                      <a:pt x="2153" y="1"/>
                      <a:pt x="2154" y="0"/>
                      <a:pt x="2155" y="0"/>
                    </a:cubicBezTo>
                    <a:close/>
                    <a:moveTo>
                      <a:pt x="2163" y="0"/>
                    </a:moveTo>
                    <a:lnTo>
                      <a:pt x="2163" y="0"/>
                    </a:lnTo>
                    <a:cubicBezTo>
                      <a:pt x="2164" y="0"/>
                      <a:pt x="2165" y="1"/>
                      <a:pt x="2165" y="2"/>
                    </a:cubicBezTo>
                    <a:cubicBezTo>
                      <a:pt x="2165" y="4"/>
                      <a:pt x="2164" y="4"/>
                      <a:pt x="2163" y="4"/>
                    </a:cubicBezTo>
                    <a:lnTo>
                      <a:pt x="2163" y="4"/>
                    </a:lnTo>
                    <a:cubicBezTo>
                      <a:pt x="2162" y="4"/>
                      <a:pt x="2161" y="4"/>
                      <a:pt x="2161" y="2"/>
                    </a:cubicBezTo>
                    <a:cubicBezTo>
                      <a:pt x="2161" y="1"/>
                      <a:pt x="2162" y="0"/>
                      <a:pt x="2163" y="0"/>
                    </a:cubicBezTo>
                    <a:close/>
                    <a:moveTo>
                      <a:pt x="2171" y="0"/>
                    </a:moveTo>
                    <a:lnTo>
                      <a:pt x="2171" y="0"/>
                    </a:lnTo>
                    <a:cubicBezTo>
                      <a:pt x="2172" y="0"/>
                      <a:pt x="2173" y="1"/>
                      <a:pt x="2173" y="2"/>
                    </a:cubicBezTo>
                    <a:cubicBezTo>
                      <a:pt x="2173" y="4"/>
                      <a:pt x="2172" y="4"/>
                      <a:pt x="2171" y="4"/>
                    </a:cubicBezTo>
                    <a:lnTo>
                      <a:pt x="2171" y="4"/>
                    </a:lnTo>
                    <a:cubicBezTo>
                      <a:pt x="2170" y="4"/>
                      <a:pt x="2169" y="4"/>
                      <a:pt x="2169" y="2"/>
                    </a:cubicBezTo>
                    <a:cubicBezTo>
                      <a:pt x="2169" y="1"/>
                      <a:pt x="2170" y="0"/>
                      <a:pt x="2171" y="0"/>
                    </a:cubicBezTo>
                    <a:close/>
                    <a:moveTo>
                      <a:pt x="2179" y="0"/>
                    </a:moveTo>
                    <a:lnTo>
                      <a:pt x="2179" y="0"/>
                    </a:lnTo>
                    <a:cubicBezTo>
                      <a:pt x="2180" y="0"/>
                      <a:pt x="2181" y="1"/>
                      <a:pt x="2181" y="2"/>
                    </a:cubicBezTo>
                    <a:cubicBezTo>
                      <a:pt x="2181" y="4"/>
                      <a:pt x="2180" y="4"/>
                      <a:pt x="2179" y="4"/>
                    </a:cubicBezTo>
                    <a:lnTo>
                      <a:pt x="2179" y="4"/>
                    </a:lnTo>
                    <a:cubicBezTo>
                      <a:pt x="2178" y="4"/>
                      <a:pt x="2177" y="4"/>
                      <a:pt x="2177" y="2"/>
                    </a:cubicBezTo>
                    <a:cubicBezTo>
                      <a:pt x="2177" y="1"/>
                      <a:pt x="2178" y="0"/>
                      <a:pt x="2179" y="0"/>
                    </a:cubicBezTo>
                    <a:close/>
                    <a:moveTo>
                      <a:pt x="2187" y="0"/>
                    </a:moveTo>
                    <a:lnTo>
                      <a:pt x="2187" y="0"/>
                    </a:lnTo>
                    <a:cubicBezTo>
                      <a:pt x="2188" y="0"/>
                      <a:pt x="2189" y="1"/>
                      <a:pt x="2189" y="2"/>
                    </a:cubicBezTo>
                    <a:cubicBezTo>
                      <a:pt x="2189" y="4"/>
                      <a:pt x="2188" y="4"/>
                      <a:pt x="2187" y="4"/>
                    </a:cubicBezTo>
                    <a:lnTo>
                      <a:pt x="2187" y="4"/>
                    </a:lnTo>
                    <a:cubicBezTo>
                      <a:pt x="2186" y="4"/>
                      <a:pt x="2185" y="4"/>
                      <a:pt x="2185" y="2"/>
                    </a:cubicBezTo>
                    <a:cubicBezTo>
                      <a:pt x="2185" y="1"/>
                      <a:pt x="2186" y="0"/>
                      <a:pt x="2187" y="0"/>
                    </a:cubicBezTo>
                    <a:close/>
                    <a:moveTo>
                      <a:pt x="2195" y="0"/>
                    </a:moveTo>
                    <a:lnTo>
                      <a:pt x="2195" y="0"/>
                    </a:lnTo>
                    <a:cubicBezTo>
                      <a:pt x="2196" y="0"/>
                      <a:pt x="2197" y="1"/>
                      <a:pt x="2197" y="2"/>
                    </a:cubicBezTo>
                    <a:cubicBezTo>
                      <a:pt x="2197" y="4"/>
                      <a:pt x="2196" y="4"/>
                      <a:pt x="2195" y="4"/>
                    </a:cubicBezTo>
                    <a:lnTo>
                      <a:pt x="2195" y="4"/>
                    </a:lnTo>
                    <a:cubicBezTo>
                      <a:pt x="2194" y="4"/>
                      <a:pt x="2193" y="4"/>
                      <a:pt x="2193" y="2"/>
                    </a:cubicBezTo>
                    <a:cubicBezTo>
                      <a:pt x="2193" y="1"/>
                      <a:pt x="2194" y="0"/>
                      <a:pt x="2195" y="0"/>
                    </a:cubicBezTo>
                    <a:close/>
                    <a:moveTo>
                      <a:pt x="2203" y="0"/>
                    </a:moveTo>
                    <a:lnTo>
                      <a:pt x="2203" y="0"/>
                    </a:lnTo>
                    <a:cubicBezTo>
                      <a:pt x="2204" y="0"/>
                      <a:pt x="2205" y="1"/>
                      <a:pt x="2205" y="2"/>
                    </a:cubicBezTo>
                    <a:cubicBezTo>
                      <a:pt x="2205" y="4"/>
                      <a:pt x="2204" y="4"/>
                      <a:pt x="2203" y="4"/>
                    </a:cubicBezTo>
                    <a:lnTo>
                      <a:pt x="2203" y="4"/>
                    </a:lnTo>
                    <a:cubicBezTo>
                      <a:pt x="2202" y="4"/>
                      <a:pt x="2201" y="4"/>
                      <a:pt x="2201" y="2"/>
                    </a:cubicBezTo>
                    <a:cubicBezTo>
                      <a:pt x="2201" y="1"/>
                      <a:pt x="2202" y="0"/>
                      <a:pt x="2203" y="0"/>
                    </a:cubicBezTo>
                    <a:close/>
                    <a:moveTo>
                      <a:pt x="2211" y="0"/>
                    </a:moveTo>
                    <a:lnTo>
                      <a:pt x="2211" y="0"/>
                    </a:lnTo>
                    <a:cubicBezTo>
                      <a:pt x="2212" y="0"/>
                      <a:pt x="2213" y="1"/>
                      <a:pt x="2213" y="2"/>
                    </a:cubicBezTo>
                    <a:cubicBezTo>
                      <a:pt x="2213" y="4"/>
                      <a:pt x="2212" y="4"/>
                      <a:pt x="2211" y="4"/>
                    </a:cubicBezTo>
                    <a:lnTo>
                      <a:pt x="2211" y="4"/>
                    </a:lnTo>
                    <a:cubicBezTo>
                      <a:pt x="2210" y="4"/>
                      <a:pt x="2209" y="4"/>
                      <a:pt x="2209" y="2"/>
                    </a:cubicBezTo>
                    <a:cubicBezTo>
                      <a:pt x="2209" y="1"/>
                      <a:pt x="2210" y="0"/>
                      <a:pt x="2211" y="0"/>
                    </a:cubicBezTo>
                    <a:close/>
                    <a:moveTo>
                      <a:pt x="2219" y="0"/>
                    </a:moveTo>
                    <a:lnTo>
                      <a:pt x="2219" y="0"/>
                    </a:lnTo>
                    <a:cubicBezTo>
                      <a:pt x="2220" y="0"/>
                      <a:pt x="2221" y="1"/>
                      <a:pt x="2221" y="2"/>
                    </a:cubicBezTo>
                    <a:cubicBezTo>
                      <a:pt x="2221" y="4"/>
                      <a:pt x="2220" y="4"/>
                      <a:pt x="2219" y="4"/>
                    </a:cubicBezTo>
                    <a:lnTo>
                      <a:pt x="2219" y="4"/>
                    </a:lnTo>
                    <a:cubicBezTo>
                      <a:pt x="2218" y="4"/>
                      <a:pt x="2217" y="4"/>
                      <a:pt x="2217" y="2"/>
                    </a:cubicBezTo>
                    <a:cubicBezTo>
                      <a:pt x="2217" y="1"/>
                      <a:pt x="2218" y="0"/>
                      <a:pt x="2219" y="0"/>
                    </a:cubicBezTo>
                    <a:close/>
                    <a:moveTo>
                      <a:pt x="2227" y="0"/>
                    </a:moveTo>
                    <a:lnTo>
                      <a:pt x="2227" y="0"/>
                    </a:lnTo>
                    <a:cubicBezTo>
                      <a:pt x="2228" y="0"/>
                      <a:pt x="2229" y="1"/>
                      <a:pt x="2229" y="2"/>
                    </a:cubicBezTo>
                    <a:cubicBezTo>
                      <a:pt x="2229" y="4"/>
                      <a:pt x="2228" y="4"/>
                      <a:pt x="2227" y="4"/>
                    </a:cubicBezTo>
                    <a:lnTo>
                      <a:pt x="2227" y="4"/>
                    </a:lnTo>
                    <a:cubicBezTo>
                      <a:pt x="2226" y="4"/>
                      <a:pt x="2225" y="4"/>
                      <a:pt x="2225" y="2"/>
                    </a:cubicBezTo>
                    <a:cubicBezTo>
                      <a:pt x="2225" y="1"/>
                      <a:pt x="2226" y="0"/>
                      <a:pt x="2227" y="0"/>
                    </a:cubicBezTo>
                    <a:close/>
                    <a:moveTo>
                      <a:pt x="2235" y="0"/>
                    </a:moveTo>
                    <a:lnTo>
                      <a:pt x="2235" y="0"/>
                    </a:lnTo>
                    <a:cubicBezTo>
                      <a:pt x="2236" y="0"/>
                      <a:pt x="2237" y="1"/>
                      <a:pt x="2237" y="2"/>
                    </a:cubicBezTo>
                    <a:cubicBezTo>
                      <a:pt x="2237" y="4"/>
                      <a:pt x="2236" y="4"/>
                      <a:pt x="2235" y="4"/>
                    </a:cubicBezTo>
                    <a:lnTo>
                      <a:pt x="2235" y="4"/>
                    </a:lnTo>
                    <a:cubicBezTo>
                      <a:pt x="2234" y="4"/>
                      <a:pt x="2233" y="4"/>
                      <a:pt x="2233" y="2"/>
                    </a:cubicBezTo>
                    <a:cubicBezTo>
                      <a:pt x="2233" y="1"/>
                      <a:pt x="2234" y="0"/>
                      <a:pt x="2235" y="0"/>
                    </a:cubicBezTo>
                    <a:close/>
                    <a:moveTo>
                      <a:pt x="2243" y="0"/>
                    </a:moveTo>
                    <a:lnTo>
                      <a:pt x="2243" y="0"/>
                    </a:lnTo>
                    <a:cubicBezTo>
                      <a:pt x="2244" y="0"/>
                      <a:pt x="2245" y="1"/>
                      <a:pt x="2245" y="2"/>
                    </a:cubicBezTo>
                    <a:cubicBezTo>
                      <a:pt x="2245" y="4"/>
                      <a:pt x="2244" y="4"/>
                      <a:pt x="2243" y="4"/>
                    </a:cubicBezTo>
                    <a:lnTo>
                      <a:pt x="2243" y="4"/>
                    </a:lnTo>
                    <a:cubicBezTo>
                      <a:pt x="2242" y="4"/>
                      <a:pt x="2241" y="4"/>
                      <a:pt x="2241" y="2"/>
                    </a:cubicBezTo>
                    <a:cubicBezTo>
                      <a:pt x="2241" y="1"/>
                      <a:pt x="2242" y="0"/>
                      <a:pt x="2243" y="0"/>
                    </a:cubicBezTo>
                    <a:close/>
                    <a:moveTo>
                      <a:pt x="2251" y="0"/>
                    </a:moveTo>
                    <a:lnTo>
                      <a:pt x="2251" y="0"/>
                    </a:lnTo>
                    <a:cubicBezTo>
                      <a:pt x="2252" y="0"/>
                      <a:pt x="2253" y="1"/>
                      <a:pt x="2253" y="2"/>
                    </a:cubicBezTo>
                    <a:cubicBezTo>
                      <a:pt x="2253" y="4"/>
                      <a:pt x="2252" y="4"/>
                      <a:pt x="2251" y="4"/>
                    </a:cubicBezTo>
                    <a:lnTo>
                      <a:pt x="2251" y="4"/>
                    </a:lnTo>
                    <a:cubicBezTo>
                      <a:pt x="2250" y="4"/>
                      <a:pt x="2249" y="4"/>
                      <a:pt x="2249" y="2"/>
                    </a:cubicBezTo>
                    <a:cubicBezTo>
                      <a:pt x="2249" y="1"/>
                      <a:pt x="2250" y="0"/>
                      <a:pt x="2251" y="0"/>
                    </a:cubicBezTo>
                    <a:close/>
                    <a:moveTo>
                      <a:pt x="2259" y="0"/>
                    </a:moveTo>
                    <a:lnTo>
                      <a:pt x="2259" y="0"/>
                    </a:lnTo>
                    <a:cubicBezTo>
                      <a:pt x="2260" y="0"/>
                      <a:pt x="2261" y="1"/>
                      <a:pt x="2261" y="2"/>
                    </a:cubicBezTo>
                    <a:cubicBezTo>
                      <a:pt x="2261" y="4"/>
                      <a:pt x="2260" y="4"/>
                      <a:pt x="2259" y="4"/>
                    </a:cubicBezTo>
                    <a:lnTo>
                      <a:pt x="2259" y="4"/>
                    </a:lnTo>
                    <a:cubicBezTo>
                      <a:pt x="2258" y="4"/>
                      <a:pt x="2257" y="4"/>
                      <a:pt x="2257" y="2"/>
                    </a:cubicBezTo>
                    <a:cubicBezTo>
                      <a:pt x="2257" y="1"/>
                      <a:pt x="2258" y="0"/>
                      <a:pt x="2259" y="0"/>
                    </a:cubicBezTo>
                    <a:close/>
                    <a:moveTo>
                      <a:pt x="2267" y="0"/>
                    </a:moveTo>
                    <a:lnTo>
                      <a:pt x="2267" y="0"/>
                    </a:lnTo>
                    <a:cubicBezTo>
                      <a:pt x="2268" y="0"/>
                      <a:pt x="2269" y="1"/>
                      <a:pt x="2269" y="2"/>
                    </a:cubicBezTo>
                    <a:cubicBezTo>
                      <a:pt x="2269" y="4"/>
                      <a:pt x="2268" y="4"/>
                      <a:pt x="2267" y="4"/>
                    </a:cubicBezTo>
                    <a:lnTo>
                      <a:pt x="2267" y="4"/>
                    </a:lnTo>
                    <a:cubicBezTo>
                      <a:pt x="2266" y="4"/>
                      <a:pt x="2265" y="4"/>
                      <a:pt x="2265" y="2"/>
                    </a:cubicBezTo>
                    <a:cubicBezTo>
                      <a:pt x="2265" y="1"/>
                      <a:pt x="2266" y="0"/>
                      <a:pt x="2267" y="0"/>
                    </a:cubicBezTo>
                    <a:close/>
                    <a:moveTo>
                      <a:pt x="2275" y="0"/>
                    </a:moveTo>
                    <a:lnTo>
                      <a:pt x="2275" y="0"/>
                    </a:lnTo>
                    <a:cubicBezTo>
                      <a:pt x="2276" y="0"/>
                      <a:pt x="2277" y="1"/>
                      <a:pt x="2277" y="2"/>
                    </a:cubicBezTo>
                    <a:cubicBezTo>
                      <a:pt x="2277" y="4"/>
                      <a:pt x="2276" y="4"/>
                      <a:pt x="2275" y="4"/>
                    </a:cubicBezTo>
                    <a:lnTo>
                      <a:pt x="2275" y="4"/>
                    </a:lnTo>
                    <a:cubicBezTo>
                      <a:pt x="2274" y="4"/>
                      <a:pt x="2273" y="4"/>
                      <a:pt x="2273" y="2"/>
                    </a:cubicBezTo>
                    <a:cubicBezTo>
                      <a:pt x="2273" y="1"/>
                      <a:pt x="2274" y="0"/>
                      <a:pt x="2275" y="0"/>
                    </a:cubicBezTo>
                    <a:close/>
                    <a:moveTo>
                      <a:pt x="2283" y="0"/>
                    </a:moveTo>
                    <a:lnTo>
                      <a:pt x="2283" y="0"/>
                    </a:lnTo>
                    <a:cubicBezTo>
                      <a:pt x="2284" y="0"/>
                      <a:pt x="2285" y="1"/>
                      <a:pt x="2285" y="2"/>
                    </a:cubicBezTo>
                    <a:cubicBezTo>
                      <a:pt x="2285" y="4"/>
                      <a:pt x="2284" y="4"/>
                      <a:pt x="2283" y="4"/>
                    </a:cubicBezTo>
                    <a:lnTo>
                      <a:pt x="2283" y="4"/>
                    </a:lnTo>
                    <a:cubicBezTo>
                      <a:pt x="2282" y="4"/>
                      <a:pt x="2281" y="4"/>
                      <a:pt x="2281" y="2"/>
                    </a:cubicBezTo>
                    <a:cubicBezTo>
                      <a:pt x="2281" y="1"/>
                      <a:pt x="2282" y="0"/>
                      <a:pt x="2283" y="0"/>
                    </a:cubicBezTo>
                    <a:close/>
                    <a:moveTo>
                      <a:pt x="2291" y="0"/>
                    </a:moveTo>
                    <a:lnTo>
                      <a:pt x="2291" y="0"/>
                    </a:lnTo>
                    <a:cubicBezTo>
                      <a:pt x="2292" y="0"/>
                      <a:pt x="2293" y="1"/>
                      <a:pt x="2293" y="2"/>
                    </a:cubicBezTo>
                    <a:cubicBezTo>
                      <a:pt x="2293" y="4"/>
                      <a:pt x="2292" y="4"/>
                      <a:pt x="2291" y="4"/>
                    </a:cubicBezTo>
                    <a:lnTo>
                      <a:pt x="2291" y="4"/>
                    </a:lnTo>
                    <a:cubicBezTo>
                      <a:pt x="2290" y="4"/>
                      <a:pt x="2289" y="4"/>
                      <a:pt x="2289" y="2"/>
                    </a:cubicBezTo>
                    <a:cubicBezTo>
                      <a:pt x="2289" y="1"/>
                      <a:pt x="2290" y="0"/>
                      <a:pt x="2291" y="0"/>
                    </a:cubicBezTo>
                    <a:close/>
                    <a:moveTo>
                      <a:pt x="2299" y="0"/>
                    </a:moveTo>
                    <a:lnTo>
                      <a:pt x="2299" y="0"/>
                    </a:lnTo>
                    <a:cubicBezTo>
                      <a:pt x="2300" y="0"/>
                      <a:pt x="2301" y="1"/>
                      <a:pt x="2301" y="2"/>
                    </a:cubicBezTo>
                    <a:cubicBezTo>
                      <a:pt x="2301" y="4"/>
                      <a:pt x="2300" y="4"/>
                      <a:pt x="2299" y="4"/>
                    </a:cubicBezTo>
                    <a:lnTo>
                      <a:pt x="2299" y="4"/>
                    </a:lnTo>
                    <a:cubicBezTo>
                      <a:pt x="2298" y="4"/>
                      <a:pt x="2297" y="4"/>
                      <a:pt x="2297" y="2"/>
                    </a:cubicBezTo>
                    <a:cubicBezTo>
                      <a:pt x="2297" y="1"/>
                      <a:pt x="2298" y="0"/>
                      <a:pt x="2299" y="0"/>
                    </a:cubicBezTo>
                    <a:close/>
                    <a:moveTo>
                      <a:pt x="2307" y="0"/>
                    </a:moveTo>
                    <a:lnTo>
                      <a:pt x="2307" y="0"/>
                    </a:lnTo>
                    <a:cubicBezTo>
                      <a:pt x="2308" y="0"/>
                      <a:pt x="2309" y="1"/>
                      <a:pt x="2309" y="2"/>
                    </a:cubicBezTo>
                    <a:cubicBezTo>
                      <a:pt x="2309" y="4"/>
                      <a:pt x="2308" y="4"/>
                      <a:pt x="2307" y="4"/>
                    </a:cubicBezTo>
                    <a:lnTo>
                      <a:pt x="2307" y="4"/>
                    </a:lnTo>
                    <a:cubicBezTo>
                      <a:pt x="2306" y="4"/>
                      <a:pt x="2305" y="4"/>
                      <a:pt x="2305" y="2"/>
                    </a:cubicBezTo>
                    <a:cubicBezTo>
                      <a:pt x="2305" y="1"/>
                      <a:pt x="2306" y="0"/>
                      <a:pt x="2307" y="0"/>
                    </a:cubicBezTo>
                    <a:close/>
                    <a:moveTo>
                      <a:pt x="2315" y="0"/>
                    </a:moveTo>
                    <a:lnTo>
                      <a:pt x="2315" y="0"/>
                    </a:lnTo>
                    <a:cubicBezTo>
                      <a:pt x="2316" y="0"/>
                      <a:pt x="2317" y="1"/>
                      <a:pt x="2317" y="2"/>
                    </a:cubicBezTo>
                    <a:cubicBezTo>
                      <a:pt x="2317" y="4"/>
                      <a:pt x="2316" y="4"/>
                      <a:pt x="2315" y="4"/>
                    </a:cubicBezTo>
                    <a:lnTo>
                      <a:pt x="2315" y="4"/>
                    </a:lnTo>
                    <a:cubicBezTo>
                      <a:pt x="2314" y="4"/>
                      <a:pt x="2313" y="4"/>
                      <a:pt x="2313" y="2"/>
                    </a:cubicBezTo>
                    <a:cubicBezTo>
                      <a:pt x="2313" y="1"/>
                      <a:pt x="2314" y="0"/>
                      <a:pt x="2315" y="0"/>
                    </a:cubicBezTo>
                    <a:close/>
                    <a:moveTo>
                      <a:pt x="2323" y="0"/>
                    </a:moveTo>
                    <a:lnTo>
                      <a:pt x="2323" y="0"/>
                    </a:lnTo>
                    <a:cubicBezTo>
                      <a:pt x="2324" y="0"/>
                      <a:pt x="2325" y="1"/>
                      <a:pt x="2325" y="2"/>
                    </a:cubicBezTo>
                    <a:cubicBezTo>
                      <a:pt x="2325" y="4"/>
                      <a:pt x="2324" y="4"/>
                      <a:pt x="2323" y="4"/>
                    </a:cubicBezTo>
                    <a:lnTo>
                      <a:pt x="2323" y="4"/>
                    </a:lnTo>
                    <a:cubicBezTo>
                      <a:pt x="2322" y="4"/>
                      <a:pt x="2321" y="4"/>
                      <a:pt x="2321" y="2"/>
                    </a:cubicBezTo>
                    <a:cubicBezTo>
                      <a:pt x="2321" y="1"/>
                      <a:pt x="2322" y="0"/>
                      <a:pt x="2323" y="0"/>
                    </a:cubicBezTo>
                    <a:close/>
                    <a:moveTo>
                      <a:pt x="2331" y="0"/>
                    </a:moveTo>
                    <a:lnTo>
                      <a:pt x="2331" y="0"/>
                    </a:lnTo>
                    <a:cubicBezTo>
                      <a:pt x="2332" y="0"/>
                      <a:pt x="2333" y="1"/>
                      <a:pt x="2333" y="2"/>
                    </a:cubicBezTo>
                    <a:cubicBezTo>
                      <a:pt x="2333" y="4"/>
                      <a:pt x="2332" y="4"/>
                      <a:pt x="2331" y="4"/>
                    </a:cubicBezTo>
                    <a:lnTo>
                      <a:pt x="2331" y="4"/>
                    </a:lnTo>
                    <a:cubicBezTo>
                      <a:pt x="2330" y="4"/>
                      <a:pt x="2329" y="4"/>
                      <a:pt x="2329" y="2"/>
                    </a:cubicBezTo>
                    <a:cubicBezTo>
                      <a:pt x="2329" y="1"/>
                      <a:pt x="2330" y="0"/>
                      <a:pt x="2331" y="0"/>
                    </a:cubicBezTo>
                    <a:close/>
                    <a:moveTo>
                      <a:pt x="2339" y="0"/>
                    </a:moveTo>
                    <a:lnTo>
                      <a:pt x="2339" y="0"/>
                    </a:lnTo>
                    <a:cubicBezTo>
                      <a:pt x="2340" y="0"/>
                      <a:pt x="2341" y="1"/>
                      <a:pt x="2341" y="2"/>
                    </a:cubicBezTo>
                    <a:cubicBezTo>
                      <a:pt x="2341" y="4"/>
                      <a:pt x="2340" y="4"/>
                      <a:pt x="2339" y="4"/>
                    </a:cubicBezTo>
                    <a:lnTo>
                      <a:pt x="2339" y="4"/>
                    </a:lnTo>
                    <a:cubicBezTo>
                      <a:pt x="2338" y="4"/>
                      <a:pt x="2337" y="4"/>
                      <a:pt x="2337" y="2"/>
                    </a:cubicBezTo>
                    <a:cubicBezTo>
                      <a:pt x="2337" y="1"/>
                      <a:pt x="2338" y="0"/>
                      <a:pt x="2339" y="0"/>
                    </a:cubicBezTo>
                    <a:close/>
                    <a:moveTo>
                      <a:pt x="2347" y="0"/>
                    </a:moveTo>
                    <a:lnTo>
                      <a:pt x="2347" y="0"/>
                    </a:lnTo>
                    <a:cubicBezTo>
                      <a:pt x="2348" y="0"/>
                      <a:pt x="2349" y="1"/>
                      <a:pt x="2349" y="2"/>
                    </a:cubicBezTo>
                    <a:cubicBezTo>
                      <a:pt x="2349" y="4"/>
                      <a:pt x="2348" y="4"/>
                      <a:pt x="2347" y="4"/>
                    </a:cubicBezTo>
                    <a:lnTo>
                      <a:pt x="2347" y="4"/>
                    </a:lnTo>
                    <a:cubicBezTo>
                      <a:pt x="2346" y="4"/>
                      <a:pt x="2345" y="4"/>
                      <a:pt x="2345" y="2"/>
                    </a:cubicBezTo>
                    <a:cubicBezTo>
                      <a:pt x="2345" y="1"/>
                      <a:pt x="2346" y="0"/>
                      <a:pt x="2347" y="0"/>
                    </a:cubicBezTo>
                    <a:close/>
                    <a:moveTo>
                      <a:pt x="2355" y="0"/>
                    </a:moveTo>
                    <a:lnTo>
                      <a:pt x="2355" y="0"/>
                    </a:lnTo>
                    <a:cubicBezTo>
                      <a:pt x="2356" y="0"/>
                      <a:pt x="2357" y="1"/>
                      <a:pt x="2357" y="2"/>
                    </a:cubicBezTo>
                    <a:cubicBezTo>
                      <a:pt x="2357" y="4"/>
                      <a:pt x="2356" y="4"/>
                      <a:pt x="2355" y="4"/>
                    </a:cubicBezTo>
                    <a:lnTo>
                      <a:pt x="2355" y="4"/>
                    </a:lnTo>
                    <a:cubicBezTo>
                      <a:pt x="2354" y="4"/>
                      <a:pt x="2353" y="4"/>
                      <a:pt x="2353" y="2"/>
                    </a:cubicBezTo>
                    <a:cubicBezTo>
                      <a:pt x="2353" y="1"/>
                      <a:pt x="2354" y="0"/>
                      <a:pt x="2355" y="0"/>
                    </a:cubicBezTo>
                    <a:close/>
                    <a:moveTo>
                      <a:pt x="2363" y="0"/>
                    </a:moveTo>
                    <a:lnTo>
                      <a:pt x="2363" y="0"/>
                    </a:lnTo>
                    <a:cubicBezTo>
                      <a:pt x="2364" y="0"/>
                      <a:pt x="2365" y="1"/>
                      <a:pt x="2365" y="2"/>
                    </a:cubicBezTo>
                    <a:cubicBezTo>
                      <a:pt x="2365" y="4"/>
                      <a:pt x="2364" y="4"/>
                      <a:pt x="2363" y="4"/>
                    </a:cubicBezTo>
                    <a:lnTo>
                      <a:pt x="2363" y="4"/>
                    </a:lnTo>
                    <a:cubicBezTo>
                      <a:pt x="2362" y="4"/>
                      <a:pt x="2361" y="4"/>
                      <a:pt x="2361" y="2"/>
                    </a:cubicBezTo>
                    <a:cubicBezTo>
                      <a:pt x="2361" y="1"/>
                      <a:pt x="2362" y="0"/>
                      <a:pt x="2363" y="0"/>
                    </a:cubicBezTo>
                    <a:close/>
                    <a:moveTo>
                      <a:pt x="2371" y="0"/>
                    </a:moveTo>
                    <a:lnTo>
                      <a:pt x="2371" y="0"/>
                    </a:lnTo>
                    <a:cubicBezTo>
                      <a:pt x="2372" y="0"/>
                      <a:pt x="2373" y="1"/>
                      <a:pt x="2373" y="2"/>
                    </a:cubicBezTo>
                    <a:cubicBezTo>
                      <a:pt x="2373" y="4"/>
                      <a:pt x="2372" y="4"/>
                      <a:pt x="2371" y="4"/>
                    </a:cubicBezTo>
                    <a:lnTo>
                      <a:pt x="2371" y="4"/>
                    </a:lnTo>
                    <a:cubicBezTo>
                      <a:pt x="2370" y="4"/>
                      <a:pt x="2369" y="4"/>
                      <a:pt x="2369" y="2"/>
                    </a:cubicBezTo>
                    <a:cubicBezTo>
                      <a:pt x="2369" y="1"/>
                      <a:pt x="2370" y="0"/>
                      <a:pt x="2371" y="0"/>
                    </a:cubicBezTo>
                    <a:close/>
                    <a:moveTo>
                      <a:pt x="2379" y="0"/>
                    </a:moveTo>
                    <a:lnTo>
                      <a:pt x="2379" y="0"/>
                    </a:lnTo>
                    <a:cubicBezTo>
                      <a:pt x="2380" y="0"/>
                      <a:pt x="2381" y="1"/>
                      <a:pt x="2381" y="2"/>
                    </a:cubicBezTo>
                    <a:cubicBezTo>
                      <a:pt x="2381" y="4"/>
                      <a:pt x="2380" y="4"/>
                      <a:pt x="2379" y="4"/>
                    </a:cubicBezTo>
                    <a:lnTo>
                      <a:pt x="2379" y="4"/>
                    </a:lnTo>
                    <a:cubicBezTo>
                      <a:pt x="2378" y="4"/>
                      <a:pt x="2377" y="4"/>
                      <a:pt x="2377" y="2"/>
                    </a:cubicBezTo>
                    <a:cubicBezTo>
                      <a:pt x="2377" y="1"/>
                      <a:pt x="2378" y="0"/>
                      <a:pt x="2379" y="0"/>
                    </a:cubicBezTo>
                    <a:close/>
                    <a:moveTo>
                      <a:pt x="2387" y="0"/>
                    </a:moveTo>
                    <a:lnTo>
                      <a:pt x="2387" y="0"/>
                    </a:lnTo>
                    <a:cubicBezTo>
                      <a:pt x="2388" y="0"/>
                      <a:pt x="2389" y="1"/>
                      <a:pt x="2389" y="2"/>
                    </a:cubicBezTo>
                    <a:cubicBezTo>
                      <a:pt x="2389" y="4"/>
                      <a:pt x="2388" y="4"/>
                      <a:pt x="2387" y="4"/>
                    </a:cubicBezTo>
                    <a:lnTo>
                      <a:pt x="2387" y="4"/>
                    </a:lnTo>
                    <a:cubicBezTo>
                      <a:pt x="2386" y="4"/>
                      <a:pt x="2385" y="4"/>
                      <a:pt x="2385" y="2"/>
                    </a:cubicBezTo>
                    <a:cubicBezTo>
                      <a:pt x="2385" y="1"/>
                      <a:pt x="2386" y="0"/>
                      <a:pt x="2387" y="0"/>
                    </a:cubicBezTo>
                    <a:close/>
                    <a:moveTo>
                      <a:pt x="2395" y="0"/>
                    </a:moveTo>
                    <a:lnTo>
                      <a:pt x="2395" y="0"/>
                    </a:lnTo>
                    <a:cubicBezTo>
                      <a:pt x="2396" y="0"/>
                      <a:pt x="2397" y="1"/>
                      <a:pt x="2397" y="2"/>
                    </a:cubicBezTo>
                    <a:cubicBezTo>
                      <a:pt x="2397" y="4"/>
                      <a:pt x="2396" y="4"/>
                      <a:pt x="2395" y="4"/>
                    </a:cubicBezTo>
                    <a:lnTo>
                      <a:pt x="2395" y="4"/>
                    </a:lnTo>
                    <a:cubicBezTo>
                      <a:pt x="2394" y="4"/>
                      <a:pt x="2393" y="4"/>
                      <a:pt x="2393" y="2"/>
                    </a:cubicBezTo>
                    <a:cubicBezTo>
                      <a:pt x="2393" y="1"/>
                      <a:pt x="2394" y="0"/>
                      <a:pt x="2395" y="0"/>
                    </a:cubicBezTo>
                    <a:close/>
                    <a:moveTo>
                      <a:pt x="2403" y="0"/>
                    </a:moveTo>
                    <a:lnTo>
                      <a:pt x="2403" y="0"/>
                    </a:lnTo>
                    <a:cubicBezTo>
                      <a:pt x="2404" y="0"/>
                      <a:pt x="2405" y="1"/>
                      <a:pt x="2405" y="2"/>
                    </a:cubicBezTo>
                    <a:cubicBezTo>
                      <a:pt x="2405" y="4"/>
                      <a:pt x="2404" y="4"/>
                      <a:pt x="2403" y="4"/>
                    </a:cubicBezTo>
                    <a:lnTo>
                      <a:pt x="2403" y="4"/>
                    </a:lnTo>
                    <a:cubicBezTo>
                      <a:pt x="2402" y="4"/>
                      <a:pt x="2401" y="4"/>
                      <a:pt x="2401" y="2"/>
                    </a:cubicBezTo>
                    <a:cubicBezTo>
                      <a:pt x="2401" y="1"/>
                      <a:pt x="2402" y="0"/>
                      <a:pt x="2403" y="0"/>
                    </a:cubicBezTo>
                    <a:close/>
                    <a:moveTo>
                      <a:pt x="2411" y="0"/>
                    </a:moveTo>
                    <a:lnTo>
                      <a:pt x="2411" y="0"/>
                    </a:lnTo>
                    <a:cubicBezTo>
                      <a:pt x="2412" y="0"/>
                      <a:pt x="2413" y="1"/>
                      <a:pt x="2413" y="2"/>
                    </a:cubicBezTo>
                    <a:cubicBezTo>
                      <a:pt x="2413" y="4"/>
                      <a:pt x="2412" y="4"/>
                      <a:pt x="2411" y="4"/>
                    </a:cubicBezTo>
                    <a:lnTo>
                      <a:pt x="2411" y="4"/>
                    </a:lnTo>
                    <a:cubicBezTo>
                      <a:pt x="2410" y="4"/>
                      <a:pt x="2409" y="4"/>
                      <a:pt x="2409" y="2"/>
                    </a:cubicBezTo>
                    <a:cubicBezTo>
                      <a:pt x="2409" y="1"/>
                      <a:pt x="2410" y="0"/>
                      <a:pt x="2411" y="0"/>
                    </a:cubicBezTo>
                    <a:close/>
                    <a:moveTo>
                      <a:pt x="2419" y="0"/>
                    </a:moveTo>
                    <a:lnTo>
                      <a:pt x="2419" y="0"/>
                    </a:lnTo>
                    <a:cubicBezTo>
                      <a:pt x="2420" y="0"/>
                      <a:pt x="2421" y="1"/>
                      <a:pt x="2421" y="2"/>
                    </a:cubicBezTo>
                    <a:cubicBezTo>
                      <a:pt x="2421" y="4"/>
                      <a:pt x="2420" y="4"/>
                      <a:pt x="2419" y="4"/>
                    </a:cubicBezTo>
                    <a:lnTo>
                      <a:pt x="2419" y="4"/>
                    </a:lnTo>
                    <a:cubicBezTo>
                      <a:pt x="2418" y="4"/>
                      <a:pt x="2417" y="4"/>
                      <a:pt x="2417" y="2"/>
                    </a:cubicBezTo>
                    <a:cubicBezTo>
                      <a:pt x="2417" y="1"/>
                      <a:pt x="2418" y="0"/>
                      <a:pt x="2419" y="0"/>
                    </a:cubicBezTo>
                    <a:close/>
                    <a:moveTo>
                      <a:pt x="2427" y="0"/>
                    </a:moveTo>
                    <a:lnTo>
                      <a:pt x="2427" y="0"/>
                    </a:lnTo>
                    <a:cubicBezTo>
                      <a:pt x="2428" y="0"/>
                      <a:pt x="2429" y="1"/>
                      <a:pt x="2429" y="2"/>
                    </a:cubicBezTo>
                    <a:cubicBezTo>
                      <a:pt x="2429" y="4"/>
                      <a:pt x="2428" y="4"/>
                      <a:pt x="2427" y="4"/>
                    </a:cubicBezTo>
                    <a:lnTo>
                      <a:pt x="2427" y="4"/>
                    </a:lnTo>
                    <a:cubicBezTo>
                      <a:pt x="2426" y="4"/>
                      <a:pt x="2425" y="4"/>
                      <a:pt x="2425" y="2"/>
                    </a:cubicBezTo>
                    <a:cubicBezTo>
                      <a:pt x="2425" y="1"/>
                      <a:pt x="2426" y="0"/>
                      <a:pt x="2427" y="0"/>
                    </a:cubicBezTo>
                    <a:close/>
                    <a:moveTo>
                      <a:pt x="2435" y="0"/>
                    </a:moveTo>
                    <a:lnTo>
                      <a:pt x="2435" y="0"/>
                    </a:lnTo>
                    <a:cubicBezTo>
                      <a:pt x="2436" y="0"/>
                      <a:pt x="2437" y="1"/>
                      <a:pt x="2437" y="2"/>
                    </a:cubicBezTo>
                    <a:cubicBezTo>
                      <a:pt x="2437" y="4"/>
                      <a:pt x="2436" y="4"/>
                      <a:pt x="2435" y="4"/>
                    </a:cubicBezTo>
                    <a:lnTo>
                      <a:pt x="2435" y="4"/>
                    </a:lnTo>
                    <a:cubicBezTo>
                      <a:pt x="2434" y="4"/>
                      <a:pt x="2433" y="4"/>
                      <a:pt x="2433" y="2"/>
                    </a:cubicBezTo>
                    <a:cubicBezTo>
                      <a:pt x="2433" y="1"/>
                      <a:pt x="2434" y="0"/>
                      <a:pt x="2435" y="0"/>
                    </a:cubicBezTo>
                    <a:close/>
                    <a:moveTo>
                      <a:pt x="2443" y="0"/>
                    </a:moveTo>
                    <a:lnTo>
                      <a:pt x="2443" y="0"/>
                    </a:lnTo>
                    <a:cubicBezTo>
                      <a:pt x="2444" y="0"/>
                      <a:pt x="2445" y="1"/>
                      <a:pt x="2445" y="2"/>
                    </a:cubicBezTo>
                    <a:cubicBezTo>
                      <a:pt x="2445" y="4"/>
                      <a:pt x="2444" y="4"/>
                      <a:pt x="2443" y="4"/>
                    </a:cubicBezTo>
                    <a:lnTo>
                      <a:pt x="2443" y="4"/>
                    </a:lnTo>
                    <a:cubicBezTo>
                      <a:pt x="2442" y="4"/>
                      <a:pt x="2441" y="4"/>
                      <a:pt x="2441" y="2"/>
                    </a:cubicBezTo>
                    <a:cubicBezTo>
                      <a:pt x="2441" y="1"/>
                      <a:pt x="2442" y="0"/>
                      <a:pt x="2443" y="0"/>
                    </a:cubicBezTo>
                    <a:close/>
                    <a:moveTo>
                      <a:pt x="2451" y="0"/>
                    </a:moveTo>
                    <a:lnTo>
                      <a:pt x="2451" y="0"/>
                    </a:lnTo>
                    <a:cubicBezTo>
                      <a:pt x="2452" y="0"/>
                      <a:pt x="2453" y="1"/>
                      <a:pt x="2453" y="2"/>
                    </a:cubicBezTo>
                    <a:cubicBezTo>
                      <a:pt x="2453" y="4"/>
                      <a:pt x="2452" y="4"/>
                      <a:pt x="2451" y="4"/>
                    </a:cubicBezTo>
                    <a:lnTo>
                      <a:pt x="2451" y="4"/>
                    </a:lnTo>
                    <a:cubicBezTo>
                      <a:pt x="2450" y="4"/>
                      <a:pt x="2449" y="4"/>
                      <a:pt x="2449" y="2"/>
                    </a:cubicBezTo>
                    <a:cubicBezTo>
                      <a:pt x="2449" y="1"/>
                      <a:pt x="2450" y="0"/>
                      <a:pt x="2451" y="0"/>
                    </a:cubicBezTo>
                    <a:close/>
                    <a:moveTo>
                      <a:pt x="2459" y="0"/>
                    </a:moveTo>
                    <a:lnTo>
                      <a:pt x="2459" y="0"/>
                    </a:lnTo>
                    <a:cubicBezTo>
                      <a:pt x="2460" y="0"/>
                      <a:pt x="2461" y="1"/>
                      <a:pt x="2461" y="2"/>
                    </a:cubicBezTo>
                    <a:cubicBezTo>
                      <a:pt x="2461" y="4"/>
                      <a:pt x="2460" y="4"/>
                      <a:pt x="2459" y="4"/>
                    </a:cubicBezTo>
                    <a:lnTo>
                      <a:pt x="2459" y="4"/>
                    </a:lnTo>
                    <a:cubicBezTo>
                      <a:pt x="2458" y="4"/>
                      <a:pt x="2457" y="4"/>
                      <a:pt x="2457" y="2"/>
                    </a:cubicBezTo>
                    <a:cubicBezTo>
                      <a:pt x="2457" y="1"/>
                      <a:pt x="2458" y="0"/>
                      <a:pt x="2459" y="0"/>
                    </a:cubicBezTo>
                    <a:close/>
                    <a:moveTo>
                      <a:pt x="2467" y="0"/>
                    </a:moveTo>
                    <a:lnTo>
                      <a:pt x="2467" y="0"/>
                    </a:lnTo>
                    <a:cubicBezTo>
                      <a:pt x="2468" y="0"/>
                      <a:pt x="2469" y="1"/>
                      <a:pt x="2469" y="2"/>
                    </a:cubicBezTo>
                    <a:cubicBezTo>
                      <a:pt x="2469" y="4"/>
                      <a:pt x="2468" y="4"/>
                      <a:pt x="2467" y="4"/>
                    </a:cubicBezTo>
                    <a:lnTo>
                      <a:pt x="2467" y="4"/>
                    </a:lnTo>
                    <a:cubicBezTo>
                      <a:pt x="2466" y="4"/>
                      <a:pt x="2465" y="4"/>
                      <a:pt x="2465" y="2"/>
                    </a:cubicBezTo>
                    <a:cubicBezTo>
                      <a:pt x="2465" y="1"/>
                      <a:pt x="2466" y="0"/>
                      <a:pt x="2467" y="0"/>
                    </a:cubicBezTo>
                    <a:close/>
                    <a:moveTo>
                      <a:pt x="2475" y="0"/>
                    </a:moveTo>
                    <a:lnTo>
                      <a:pt x="2475" y="0"/>
                    </a:lnTo>
                    <a:cubicBezTo>
                      <a:pt x="2476" y="0"/>
                      <a:pt x="2477" y="1"/>
                      <a:pt x="2477" y="2"/>
                    </a:cubicBezTo>
                    <a:cubicBezTo>
                      <a:pt x="2477" y="4"/>
                      <a:pt x="2476" y="4"/>
                      <a:pt x="2475" y="4"/>
                    </a:cubicBezTo>
                    <a:lnTo>
                      <a:pt x="2475" y="4"/>
                    </a:lnTo>
                    <a:cubicBezTo>
                      <a:pt x="2474" y="4"/>
                      <a:pt x="2473" y="4"/>
                      <a:pt x="2473" y="2"/>
                    </a:cubicBezTo>
                    <a:cubicBezTo>
                      <a:pt x="2473" y="1"/>
                      <a:pt x="2474" y="0"/>
                      <a:pt x="2475" y="0"/>
                    </a:cubicBezTo>
                    <a:close/>
                    <a:moveTo>
                      <a:pt x="2483" y="0"/>
                    </a:moveTo>
                    <a:lnTo>
                      <a:pt x="2483" y="0"/>
                    </a:lnTo>
                    <a:cubicBezTo>
                      <a:pt x="2484" y="0"/>
                      <a:pt x="2485" y="1"/>
                      <a:pt x="2485" y="2"/>
                    </a:cubicBezTo>
                    <a:cubicBezTo>
                      <a:pt x="2485" y="4"/>
                      <a:pt x="2484" y="4"/>
                      <a:pt x="2483" y="4"/>
                    </a:cubicBezTo>
                    <a:lnTo>
                      <a:pt x="2483" y="4"/>
                    </a:lnTo>
                    <a:cubicBezTo>
                      <a:pt x="2482" y="4"/>
                      <a:pt x="2481" y="4"/>
                      <a:pt x="2481" y="2"/>
                    </a:cubicBezTo>
                    <a:cubicBezTo>
                      <a:pt x="2481" y="1"/>
                      <a:pt x="2482" y="0"/>
                      <a:pt x="2483" y="0"/>
                    </a:cubicBezTo>
                    <a:close/>
                    <a:moveTo>
                      <a:pt x="2491" y="0"/>
                    </a:moveTo>
                    <a:lnTo>
                      <a:pt x="2491" y="0"/>
                    </a:lnTo>
                    <a:cubicBezTo>
                      <a:pt x="2492" y="0"/>
                      <a:pt x="2493" y="1"/>
                      <a:pt x="2493" y="2"/>
                    </a:cubicBezTo>
                    <a:cubicBezTo>
                      <a:pt x="2493" y="4"/>
                      <a:pt x="2492" y="4"/>
                      <a:pt x="2491" y="4"/>
                    </a:cubicBezTo>
                    <a:lnTo>
                      <a:pt x="2491" y="4"/>
                    </a:lnTo>
                    <a:cubicBezTo>
                      <a:pt x="2490" y="4"/>
                      <a:pt x="2489" y="4"/>
                      <a:pt x="2489" y="2"/>
                    </a:cubicBezTo>
                    <a:cubicBezTo>
                      <a:pt x="2489" y="1"/>
                      <a:pt x="2490" y="0"/>
                      <a:pt x="2491" y="0"/>
                    </a:cubicBezTo>
                    <a:close/>
                    <a:moveTo>
                      <a:pt x="2499" y="0"/>
                    </a:moveTo>
                    <a:lnTo>
                      <a:pt x="2499" y="0"/>
                    </a:lnTo>
                    <a:cubicBezTo>
                      <a:pt x="2500" y="0"/>
                      <a:pt x="2501" y="1"/>
                      <a:pt x="2501" y="2"/>
                    </a:cubicBezTo>
                    <a:cubicBezTo>
                      <a:pt x="2501" y="4"/>
                      <a:pt x="2500" y="4"/>
                      <a:pt x="2499" y="4"/>
                    </a:cubicBezTo>
                    <a:lnTo>
                      <a:pt x="2499" y="4"/>
                    </a:lnTo>
                    <a:cubicBezTo>
                      <a:pt x="2498" y="4"/>
                      <a:pt x="2497" y="4"/>
                      <a:pt x="2497" y="2"/>
                    </a:cubicBezTo>
                    <a:cubicBezTo>
                      <a:pt x="2497" y="1"/>
                      <a:pt x="2498" y="0"/>
                      <a:pt x="2499" y="0"/>
                    </a:cubicBezTo>
                    <a:close/>
                    <a:moveTo>
                      <a:pt x="2507" y="0"/>
                    </a:moveTo>
                    <a:lnTo>
                      <a:pt x="2507" y="0"/>
                    </a:lnTo>
                    <a:cubicBezTo>
                      <a:pt x="2508" y="0"/>
                      <a:pt x="2509" y="1"/>
                      <a:pt x="2509" y="2"/>
                    </a:cubicBezTo>
                    <a:cubicBezTo>
                      <a:pt x="2509" y="4"/>
                      <a:pt x="2508" y="4"/>
                      <a:pt x="2507" y="4"/>
                    </a:cubicBezTo>
                    <a:lnTo>
                      <a:pt x="2507" y="4"/>
                    </a:lnTo>
                    <a:cubicBezTo>
                      <a:pt x="2506" y="4"/>
                      <a:pt x="2505" y="4"/>
                      <a:pt x="2505" y="2"/>
                    </a:cubicBezTo>
                    <a:cubicBezTo>
                      <a:pt x="2505" y="1"/>
                      <a:pt x="2506" y="0"/>
                      <a:pt x="2507" y="0"/>
                    </a:cubicBezTo>
                    <a:close/>
                    <a:moveTo>
                      <a:pt x="2515" y="0"/>
                    </a:moveTo>
                    <a:lnTo>
                      <a:pt x="2515" y="0"/>
                    </a:lnTo>
                    <a:cubicBezTo>
                      <a:pt x="2516" y="0"/>
                      <a:pt x="2517" y="1"/>
                      <a:pt x="2517" y="2"/>
                    </a:cubicBezTo>
                    <a:cubicBezTo>
                      <a:pt x="2517" y="4"/>
                      <a:pt x="2516" y="4"/>
                      <a:pt x="2515" y="4"/>
                    </a:cubicBezTo>
                    <a:lnTo>
                      <a:pt x="2515" y="4"/>
                    </a:lnTo>
                    <a:cubicBezTo>
                      <a:pt x="2514" y="4"/>
                      <a:pt x="2513" y="4"/>
                      <a:pt x="2513" y="2"/>
                    </a:cubicBezTo>
                    <a:cubicBezTo>
                      <a:pt x="2513" y="1"/>
                      <a:pt x="2514" y="0"/>
                      <a:pt x="2515" y="0"/>
                    </a:cubicBezTo>
                    <a:close/>
                    <a:moveTo>
                      <a:pt x="2523" y="0"/>
                    </a:moveTo>
                    <a:lnTo>
                      <a:pt x="2523" y="0"/>
                    </a:lnTo>
                    <a:cubicBezTo>
                      <a:pt x="2524" y="0"/>
                      <a:pt x="2525" y="1"/>
                      <a:pt x="2525" y="2"/>
                    </a:cubicBezTo>
                    <a:cubicBezTo>
                      <a:pt x="2525" y="4"/>
                      <a:pt x="2524" y="4"/>
                      <a:pt x="2523" y="4"/>
                    </a:cubicBezTo>
                    <a:lnTo>
                      <a:pt x="2523" y="4"/>
                    </a:lnTo>
                    <a:cubicBezTo>
                      <a:pt x="2522" y="4"/>
                      <a:pt x="2521" y="4"/>
                      <a:pt x="2521" y="2"/>
                    </a:cubicBezTo>
                    <a:cubicBezTo>
                      <a:pt x="2521" y="1"/>
                      <a:pt x="2522" y="0"/>
                      <a:pt x="2523" y="0"/>
                    </a:cubicBezTo>
                    <a:close/>
                    <a:moveTo>
                      <a:pt x="2531" y="0"/>
                    </a:moveTo>
                    <a:lnTo>
                      <a:pt x="2531" y="0"/>
                    </a:lnTo>
                    <a:cubicBezTo>
                      <a:pt x="2532" y="0"/>
                      <a:pt x="2533" y="1"/>
                      <a:pt x="2533" y="2"/>
                    </a:cubicBezTo>
                    <a:cubicBezTo>
                      <a:pt x="2533" y="4"/>
                      <a:pt x="2532" y="4"/>
                      <a:pt x="2531" y="4"/>
                    </a:cubicBezTo>
                    <a:lnTo>
                      <a:pt x="2531" y="4"/>
                    </a:lnTo>
                    <a:cubicBezTo>
                      <a:pt x="2530" y="4"/>
                      <a:pt x="2529" y="4"/>
                      <a:pt x="2529" y="2"/>
                    </a:cubicBezTo>
                    <a:cubicBezTo>
                      <a:pt x="2529" y="1"/>
                      <a:pt x="2530" y="0"/>
                      <a:pt x="2531" y="0"/>
                    </a:cubicBezTo>
                    <a:close/>
                    <a:moveTo>
                      <a:pt x="2539" y="0"/>
                    </a:moveTo>
                    <a:lnTo>
                      <a:pt x="2539" y="0"/>
                    </a:lnTo>
                    <a:cubicBezTo>
                      <a:pt x="2540" y="0"/>
                      <a:pt x="2541" y="1"/>
                      <a:pt x="2541" y="2"/>
                    </a:cubicBezTo>
                    <a:cubicBezTo>
                      <a:pt x="2541" y="4"/>
                      <a:pt x="2540" y="4"/>
                      <a:pt x="2539" y="4"/>
                    </a:cubicBezTo>
                    <a:lnTo>
                      <a:pt x="2539" y="4"/>
                    </a:lnTo>
                    <a:cubicBezTo>
                      <a:pt x="2538" y="4"/>
                      <a:pt x="2537" y="4"/>
                      <a:pt x="2537" y="2"/>
                    </a:cubicBezTo>
                    <a:cubicBezTo>
                      <a:pt x="2537" y="1"/>
                      <a:pt x="2538" y="0"/>
                      <a:pt x="2539" y="0"/>
                    </a:cubicBezTo>
                    <a:close/>
                    <a:moveTo>
                      <a:pt x="2547" y="0"/>
                    </a:moveTo>
                    <a:lnTo>
                      <a:pt x="2547" y="0"/>
                    </a:lnTo>
                    <a:cubicBezTo>
                      <a:pt x="2548" y="0"/>
                      <a:pt x="2549" y="1"/>
                      <a:pt x="2549" y="2"/>
                    </a:cubicBezTo>
                    <a:cubicBezTo>
                      <a:pt x="2549" y="4"/>
                      <a:pt x="2548" y="4"/>
                      <a:pt x="2547" y="4"/>
                    </a:cubicBezTo>
                    <a:lnTo>
                      <a:pt x="2547" y="4"/>
                    </a:lnTo>
                    <a:cubicBezTo>
                      <a:pt x="2546" y="4"/>
                      <a:pt x="2545" y="4"/>
                      <a:pt x="2545" y="2"/>
                    </a:cubicBezTo>
                    <a:cubicBezTo>
                      <a:pt x="2545" y="1"/>
                      <a:pt x="2546" y="0"/>
                      <a:pt x="2547" y="0"/>
                    </a:cubicBezTo>
                    <a:close/>
                    <a:moveTo>
                      <a:pt x="2555" y="0"/>
                    </a:moveTo>
                    <a:lnTo>
                      <a:pt x="2555" y="0"/>
                    </a:lnTo>
                    <a:cubicBezTo>
                      <a:pt x="2556" y="0"/>
                      <a:pt x="2557" y="1"/>
                      <a:pt x="2557" y="2"/>
                    </a:cubicBezTo>
                    <a:cubicBezTo>
                      <a:pt x="2557" y="4"/>
                      <a:pt x="2556" y="4"/>
                      <a:pt x="2555" y="4"/>
                    </a:cubicBezTo>
                    <a:lnTo>
                      <a:pt x="2555" y="4"/>
                    </a:lnTo>
                    <a:cubicBezTo>
                      <a:pt x="2554" y="4"/>
                      <a:pt x="2553" y="4"/>
                      <a:pt x="2553" y="2"/>
                    </a:cubicBezTo>
                    <a:cubicBezTo>
                      <a:pt x="2553" y="1"/>
                      <a:pt x="2554" y="0"/>
                      <a:pt x="2555" y="0"/>
                    </a:cubicBezTo>
                    <a:close/>
                    <a:moveTo>
                      <a:pt x="2563" y="0"/>
                    </a:moveTo>
                    <a:lnTo>
                      <a:pt x="2563" y="0"/>
                    </a:lnTo>
                    <a:cubicBezTo>
                      <a:pt x="2564" y="0"/>
                      <a:pt x="2565" y="1"/>
                      <a:pt x="2565" y="2"/>
                    </a:cubicBezTo>
                    <a:cubicBezTo>
                      <a:pt x="2565" y="4"/>
                      <a:pt x="2564" y="4"/>
                      <a:pt x="2563" y="4"/>
                    </a:cubicBezTo>
                    <a:lnTo>
                      <a:pt x="2563" y="4"/>
                    </a:lnTo>
                    <a:cubicBezTo>
                      <a:pt x="2562" y="4"/>
                      <a:pt x="2561" y="4"/>
                      <a:pt x="2561" y="2"/>
                    </a:cubicBezTo>
                    <a:cubicBezTo>
                      <a:pt x="2561" y="1"/>
                      <a:pt x="2562" y="0"/>
                      <a:pt x="2563" y="0"/>
                    </a:cubicBezTo>
                    <a:close/>
                    <a:moveTo>
                      <a:pt x="2571" y="0"/>
                    </a:moveTo>
                    <a:lnTo>
                      <a:pt x="2571" y="0"/>
                    </a:lnTo>
                    <a:cubicBezTo>
                      <a:pt x="2572" y="0"/>
                      <a:pt x="2573" y="1"/>
                      <a:pt x="2573" y="2"/>
                    </a:cubicBezTo>
                    <a:cubicBezTo>
                      <a:pt x="2573" y="4"/>
                      <a:pt x="2572" y="4"/>
                      <a:pt x="2571" y="4"/>
                    </a:cubicBezTo>
                    <a:lnTo>
                      <a:pt x="2571" y="4"/>
                    </a:lnTo>
                    <a:cubicBezTo>
                      <a:pt x="2570" y="4"/>
                      <a:pt x="2569" y="4"/>
                      <a:pt x="2569" y="2"/>
                    </a:cubicBezTo>
                    <a:cubicBezTo>
                      <a:pt x="2569" y="1"/>
                      <a:pt x="2570" y="0"/>
                      <a:pt x="2571" y="0"/>
                    </a:cubicBezTo>
                    <a:close/>
                    <a:moveTo>
                      <a:pt x="2579" y="0"/>
                    </a:moveTo>
                    <a:lnTo>
                      <a:pt x="2579" y="0"/>
                    </a:lnTo>
                    <a:cubicBezTo>
                      <a:pt x="2580" y="0"/>
                      <a:pt x="2581" y="1"/>
                      <a:pt x="2581" y="2"/>
                    </a:cubicBezTo>
                    <a:cubicBezTo>
                      <a:pt x="2581" y="4"/>
                      <a:pt x="2580" y="4"/>
                      <a:pt x="2579" y="4"/>
                    </a:cubicBezTo>
                    <a:lnTo>
                      <a:pt x="2579" y="4"/>
                    </a:lnTo>
                    <a:cubicBezTo>
                      <a:pt x="2578" y="4"/>
                      <a:pt x="2577" y="4"/>
                      <a:pt x="2577" y="2"/>
                    </a:cubicBezTo>
                    <a:cubicBezTo>
                      <a:pt x="2577" y="1"/>
                      <a:pt x="2578" y="0"/>
                      <a:pt x="2579" y="0"/>
                    </a:cubicBezTo>
                    <a:close/>
                    <a:moveTo>
                      <a:pt x="2587" y="0"/>
                    </a:moveTo>
                    <a:lnTo>
                      <a:pt x="2587" y="0"/>
                    </a:lnTo>
                    <a:cubicBezTo>
                      <a:pt x="2588" y="0"/>
                      <a:pt x="2589" y="1"/>
                      <a:pt x="2589" y="2"/>
                    </a:cubicBezTo>
                    <a:cubicBezTo>
                      <a:pt x="2589" y="4"/>
                      <a:pt x="2588" y="4"/>
                      <a:pt x="2587" y="4"/>
                    </a:cubicBezTo>
                    <a:lnTo>
                      <a:pt x="2587" y="4"/>
                    </a:lnTo>
                    <a:cubicBezTo>
                      <a:pt x="2586" y="4"/>
                      <a:pt x="2585" y="4"/>
                      <a:pt x="2585" y="2"/>
                    </a:cubicBezTo>
                    <a:cubicBezTo>
                      <a:pt x="2585" y="1"/>
                      <a:pt x="2586" y="0"/>
                      <a:pt x="2587" y="0"/>
                    </a:cubicBezTo>
                    <a:close/>
                    <a:moveTo>
                      <a:pt x="2595" y="0"/>
                    </a:moveTo>
                    <a:lnTo>
                      <a:pt x="2595" y="0"/>
                    </a:lnTo>
                    <a:cubicBezTo>
                      <a:pt x="2596" y="0"/>
                      <a:pt x="2597" y="1"/>
                      <a:pt x="2597" y="2"/>
                    </a:cubicBezTo>
                    <a:cubicBezTo>
                      <a:pt x="2597" y="4"/>
                      <a:pt x="2596" y="4"/>
                      <a:pt x="2595" y="4"/>
                    </a:cubicBezTo>
                    <a:lnTo>
                      <a:pt x="2595" y="4"/>
                    </a:lnTo>
                    <a:cubicBezTo>
                      <a:pt x="2594" y="4"/>
                      <a:pt x="2593" y="4"/>
                      <a:pt x="2593" y="2"/>
                    </a:cubicBezTo>
                    <a:cubicBezTo>
                      <a:pt x="2593" y="1"/>
                      <a:pt x="2594" y="0"/>
                      <a:pt x="2595" y="0"/>
                    </a:cubicBezTo>
                    <a:close/>
                    <a:moveTo>
                      <a:pt x="2603" y="0"/>
                    </a:moveTo>
                    <a:lnTo>
                      <a:pt x="2603" y="0"/>
                    </a:lnTo>
                    <a:cubicBezTo>
                      <a:pt x="2604" y="0"/>
                      <a:pt x="2605" y="1"/>
                      <a:pt x="2605" y="2"/>
                    </a:cubicBezTo>
                    <a:cubicBezTo>
                      <a:pt x="2605" y="4"/>
                      <a:pt x="2604" y="4"/>
                      <a:pt x="2603" y="4"/>
                    </a:cubicBezTo>
                    <a:lnTo>
                      <a:pt x="2603" y="4"/>
                    </a:lnTo>
                    <a:cubicBezTo>
                      <a:pt x="2602" y="4"/>
                      <a:pt x="2601" y="4"/>
                      <a:pt x="2601" y="2"/>
                    </a:cubicBezTo>
                    <a:cubicBezTo>
                      <a:pt x="2601" y="1"/>
                      <a:pt x="2602" y="0"/>
                      <a:pt x="2603" y="0"/>
                    </a:cubicBezTo>
                    <a:close/>
                    <a:moveTo>
                      <a:pt x="2611" y="0"/>
                    </a:moveTo>
                    <a:lnTo>
                      <a:pt x="2611" y="0"/>
                    </a:lnTo>
                    <a:cubicBezTo>
                      <a:pt x="2612" y="0"/>
                      <a:pt x="2613" y="1"/>
                      <a:pt x="2613" y="2"/>
                    </a:cubicBezTo>
                    <a:cubicBezTo>
                      <a:pt x="2613" y="4"/>
                      <a:pt x="2612" y="4"/>
                      <a:pt x="2611" y="4"/>
                    </a:cubicBezTo>
                    <a:lnTo>
                      <a:pt x="2611" y="4"/>
                    </a:lnTo>
                    <a:cubicBezTo>
                      <a:pt x="2610" y="4"/>
                      <a:pt x="2609" y="4"/>
                      <a:pt x="2609" y="2"/>
                    </a:cubicBezTo>
                    <a:cubicBezTo>
                      <a:pt x="2609" y="1"/>
                      <a:pt x="2610" y="0"/>
                      <a:pt x="2611" y="0"/>
                    </a:cubicBezTo>
                    <a:close/>
                    <a:moveTo>
                      <a:pt x="2619" y="0"/>
                    </a:moveTo>
                    <a:lnTo>
                      <a:pt x="2619" y="0"/>
                    </a:lnTo>
                    <a:cubicBezTo>
                      <a:pt x="2620" y="0"/>
                      <a:pt x="2621" y="1"/>
                      <a:pt x="2621" y="2"/>
                    </a:cubicBezTo>
                    <a:cubicBezTo>
                      <a:pt x="2621" y="4"/>
                      <a:pt x="2620" y="4"/>
                      <a:pt x="2619" y="4"/>
                    </a:cubicBezTo>
                    <a:lnTo>
                      <a:pt x="2619" y="4"/>
                    </a:lnTo>
                    <a:cubicBezTo>
                      <a:pt x="2618" y="4"/>
                      <a:pt x="2617" y="4"/>
                      <a:pt x="2617" y="2"/>
                    </a:cubicBezTo>
                    <a:cubicBezTo>
                      <a:pt x="2617" y="1"/>
                      <a:pt x="2618" y="0"/>
                      <a:pt x="2619" y="0"/>
                    </a:cubicBezTo>
                    <a:close/>
                    <a:moveTo>
                      <a:pt x="2627" y="0"/>
                    </a:moveTo>
                    <a:lnTo>
                      <a:pt x="2627" y="0"/>
                    </a:lnTo>
                    <a:cubicBezTo>
                      <a:pt x="2628" y="0"/>
                      <a:pt x="2629" y="1"/>
                      <a:pt x="2629" y="2"/>
                    </a:cubicBezTo>
                    <a:cubicBezTo>
                      <a:pt x="2629" y="4"/>
                      <a:pt x="2628" y="4"/>
                      <a:pt x="2627" y="4"/>
                    </a:cubicBezTo>
                    <a:lnTo>
                      <a:pt x="2627" y="4"/>
                    </a:lnTo>
                    <a:cubicBezTo>
                      <a:pt x="2626" y="4"/>
                      <a:pt x="2625" y="4"/>
                      <a:pt x="2625" y="2"/>
                    </a:cubicBezTo>
                    <a:cubicBezTo>
                      <a:pt x="2625" y="1"/>
                      <a:pt x="2626" y="0"/>
                      <a:pt x="2627" y="0"/>
                    </a:cubicBezTo>
                    <a:close/>
                    <a:moveTo>
                      <a:pt x="2635" y="0"/>
                    </a:moveTo>
                    <a:lnTo>
                      <a:pt x="2635" y="0"/>
                    </a:lnTo>
                    <a:cubicBezTo>
                      <a:pt x="2636" y="0"/>
                      <a:pt x="2637" y="1"/>
                      <a:pt x="2637" y="2"/>
                    </a:cubicBezTo>
                    <a:cubicBezTo>
                      <a:pt x="2637" y="4"/>
                      <a:pt x="2636" y="4"/>
                      <a:pt x="2635" y="4"/>
                    </a:cubicBezTo>
                    <a:lnTo>
                      <a:pt x="2635" y="4"/>
                    </a:lnTo>
                    <a:cubicBezTo>
                      <a:pt x="2634" y="4"/>
                      <a:pt x="2633" y="4"/>
                      <a:pt x="2633" y="2"/>
                    </a:cubicBezTo>
                    <a:cubicBezTo>
                      <a:pt x="2633" y="1"/>
                      <a:pt x="2634" y="0"/>
                      <a:pt x="2635" y="0"/>
                    </a:cubicBezTo>
                    <a:close/>
                    <a:moveTo>
                      <a:pt x="2643" y="0"/>
                    </a:moveTo>
                    <a:lnTo>
                      <a:pt x="2643" y="0"/>
                    </a:lnTo>
                    <a:cubicBezTo>
                      <a:pt x="2644" y="0"/>
                      <a:pt x="2645" y="1"/>
                      <a:pt x="2645" y="2"/>
                    </a:cubicBezTo>
                    <a:cubicBezTo>
                      <a:pt x="2645" y="4"/>
                      <a:pt x="2644" y="4"/>
                      <a:pt x="2643" y="4"/>
                    </a:cubicBezTo>
                    <a:lnTo>
                      <a:pt x="2643" y="4"/>
                    </a:lnTo>
                    <a:cubicBezTo>
                      <a:pt x="2642" y="4"/>
                      <a:pt x="2641" y="4"/>
                      <a:pt x="2641" y="2"/>
                    </a:cubicBezTo>
                    <a:cubicBezTo>
                      <a:pt x="2641" y="1"/>
                      <a:pt x="2642" y="0"/>
                      <a:pt x="2643" y="0"/>
                    </a:cubicBezTo>
                    <a:close/>
                    <a:moveTo>
                      <a:pt x="2651" y="0"/>
                    </a:moveTo>
                    <a:lnTo>
                      <a:pt x="2651" y="0"/>
                    </a:lnTo>
                    <a:cubicBezTo>
                      <a:pt x="2652" y="0"/>
                      <a:pt x="2653" y="1"/>
                      <a:pt x="2653" y="2"/>
                    </a:cubicBezTo>
                    <a:cubicBezTo>
                      <a:pt x="2653" y="4"/>
                      <a:pt x="2652" y="4"/>
                      <a:pt x="2651" y="4"/>
                    </a:cubicBezTo>
                    <a:lnTo>
                      <a:pt x="2651" y="4"/>
                    </a:lnTo>
                    <a:cubicBezTo>
                      <a:pt x="2650" y="4"/>
                      <a:pt x="2649" y="4"/>
                      <a:pt x="2649" y="2"/>
                    </a:cubicBezTo>
                    <a:cubicBezTo>
                      <a:pt x="2649" y="1"/>
                      <a:pt x="2650" y="0"/>
                      <a:pt x="2651" y="0"/>
                    </a:cubicBezTo>
                    <a:close/>
                    <a:moveTo>
                      <a:pt x="2659" y="0"/>
                    </a:moveTo>
                    <a:lnTo>
                      <a:pt x="2659" y="0"/>
                    </a:lnTo>
                    <a:cubicBezTo>
                      <a:pt x="2660" y="0"/>
                      <a:pt x="2661" y="1"/>
                      <a:pt x="2661" y="2"/>
                    </a:cubicBezTo>
                    <a:cubicBezTo>
                      <a:pt x="2661" y="4"/>
                      <a:pt x="2660" y="4"/>
                      <a:pt x="2659" y="4"/>
                    </a:cubicBezTo>
                    <a:lnTo>
                      <a:pt x="2659" y="4"/>
                    </a:lnTo>
                    <a:cubicBezTo>
                      <a:pt x="2658" y="4"/>
                      <a:pt x="2657" y="4"/>
                      <a:pt x="2657" y="2"/>
                    </a:cubicBezTo>
                    <a:cubicBezTo>
                      <a:pt x="2657" y="1"/>
                      <a:pt x="2658" y="0"/>
                      <a:pt x="2659" y="0"/>
                    </a:cubicBezTo>
                    <a:close/>
                    <a:moveTo>
                      <a:pt x="2667" y="0"/>
                    </a:moveTo>
                    <a:lnTo>
                      <a:pt x="2667" y="0"/>
                    </a:lnTo>
                    <a:cubicBezTo>
                      <a:pt x="2668" y="0"/>
                      <a:pt x="2669" y="1"/>
                      <a:pt x="2669" y="2"/>
                    </a:cubicBezTo>
                    <a:cubicBezTo>
                      <a:pt x="2669" y="4"/>
                      <a:pt x="2668" y="4"/>
                      <a:pt x="2667" y="4"/>
                    </a:cubicBezTo>
                    <a:lnTo>
                      <a:pt x="2667" y="4"/>
                    </a:lnTo>
                    <a:cubicBezTo>
                      <a:pt x="2666" y="4"/>
                      <a:pt x="2665" y="4"/>
                      <a:pt x="2665" y="2"/>
                    </a:cubicBezTo>
                    <a:cubicBezTo>
                      <a:pt x="2665" y="1"/>
                      <a:pt x="2666" y="0"/>
                      <a:pt x="2667" y="0"/>
                    </a:cubicBezTo>
                    <a:close/>
                    <a:moveTo>
                      <a:pt x="2675" y="0"/>
                    </a:moveTo>
                    <a:lnTo>
                      <a:pt x="2675" y="0"/>
                    </a:lnTo>
                    <a:cubicBezTo>
                      <a:pt x="2676" y="0"/>
                      <a:pt x="2677" y="1"/>
                      <a:pt x="2677" y="2"/>
                    </a:cubicBezTo>
                    <a:cubicBezTo>
                      <a:pt x="2677" y="4"/>
                      <a:pt x="2676" y="4"/>
                      <a:pt x="2675" y="4"/>
                    </a:cubicBezTo>
                    <a:lnTo>
                      <a:pt x="2675" y="4"/>
                    </a:lnTo>
                    <a:cubicBezTo>
                      <a:pt x="2674" y="4"/>
                      <a:pt x="2673" y="4"/>
                      <a:pt x="2673" y="2"/>
                    </a:cubicBezTo>
                    <a:cubicBezTo>
                      <a:pt x="2673" y="1"/>
                      <a:pt x="2674" y="0"/>
                      <a:pt x="2675" y="0"/>
                    </a:cubicBezTo>
                    <a:close/>
                    <a:moveTo>
                      <a:pt x="2683" y="0"/>
                    </a:moveTo>
                    <a:lnTo>
                      <a:pt x="2683" y="0"/>
                    </a:lnTo>
                    <a:cubicBezTo>
                      <a:pt x="2684" y="0"/>
                      <a:pt x="2685" y="1"/>
                      <a:pt x="2685" y="2"/>
                    </a:cubicBezTo>
                    <a:cubicBezTo>
                      <a:pt x="2685" y="4"/>
                      <a:pt x="2684" y="4"/>
                      <a:pt x="2683" y="4"/>
                    </a:cubicBezTo>
                    <a:lnTo>
                      <a:pt x="2683" y="4"/>
                    </a:lnTo>
                    <a:cubicBezTo>
                      <a:pt x="2682" y="4"/>
                      <a:pt x="2681" y="4"/>
                      <a:pt x="2681" y="2"/>
                    </a:cubicBezTo>
                    <a:cubicBezTo>
                      <a:pt x="2681" y="1"/>
                      <a:pt x="2682" y="0"/>
                      <a:pt x="2683" y="0"/>
                    </a:cubicBezTo>
                    <a:close/>
                    <a:moveTo>
                      <a:pt x="2691" y="0"/>
                    </a:moveTo>
                    <a:lnTo>
                      <a:pt x="2691" y="0"/>
                    </a:lnTo>
                    <a:cubicBezTo>
                      <a:pt x="2692" y="0"/>
                      <a:pt x="2693" y="1"/>
                      <a:pt x="2693" y="2"/>
                    </a:cubicBezTo>
                    <a:cubicBezTo>
                      <a:pt x="2693" y="4"/>
                      <a:pt x="2692" y="4"/>
                      <a:pt x="2691" y="4"/>
                    </a:cubicBezTo>
                    <a:lnTo>
                      <a:pt x="2691" y="4"/>
                    </a:lnTo>
                    <a:cubicBezTo>
                      <a:pt x="2690" y="4"/>
                      <a:pt x="2689" y="4"/>
                      <a:pt x="2689" y="2"/>
                    </a:cubicBezTo>
                    <a:cubicBezTo>
                      <a:pt x="2689" y="1"/>
                      <a:pt x="2690" y="0"/>
                      <a:pt x="2691" y="0"/>
                    </a:cubicBezTo>
                    <a:close/>
                    <a:moveTo>
                      <a:pt x="2699" y="0"/>
                    </a:moveTo>
                    <a:lnTo>
                      <a:pt x="2699" y="0"/>
                    </a:lnTo>
                    <a:cubicBezTo>
                      <a:pt x="2700" y="0"/>
                      <a:pt x="2701" y="1"/>
                      <a:pt x="2701" y="2"/>
                    </a:cubicBezTo>
                    <a:cubicBezTo>
                      <a:pt x="2701" y="4"/>
                      <a:pt x="2700" y="4"/>
                      <a:pt x="2699" y="4"/>
                    </a:cubicBezTo>
                    <a:lnTo>
                      <a:pt x="2699" y="4"/>
                    </a:lnTo>
                    <a:cubicBezTo>
                      <a:pt x="2698" y="4"/>
                      <a:pt x="2697" y="4"/>
                      <a:pt x="2697" y="2"/>
                    </a:cubicBezTo>
                    <a:cubicBezTo>
                      <a:pt x="2697" y="1"/>
                      <a:pt x="2698" y="0"/>
                      <a:pt x="2699" y="0"/>
                    </a:cubicBezTo>
                    <a:close/>
                    <a:moveTo>
                      <a:pt x="2707" y="0"/>
                    </a:moveTo>
                    <a:lnTo>
                      <a:pt x="2707" y="0"/>
                    </a:lnTo>
                    <a:cubicBezTo>
                      <a:pt x="2708" y="0"/>
                      <a:pt x="2709" y="1"/>
                      <a:pt x="2709" y="2"/>
                    </a:cubicBezTo>
                    <a:cubicBezTo>
                      <a:pt x="2709" y="4"/>
                      <a:pt x="2708" y="4"/>
                      <a:pt x="2707" y="4"/>
                    </a:cubicBezTo>
                    <a:lnTo>
                      <a:pt x="2707" y="4"/>
                    </a:lnTo>
                    <a:cubicBezTo>
                      <a:pt x="2706" y="4"/>
                      <a:pt x="2705" y="4"/>
                      <a:pt x="2705" y="2"/>
                    </a:cubicBezTo>
                    <a:cubicBezTo>
                      <a:pt x="2705" y="1"/>
                      <a:pt x="2706" y="0"/>
                      <a:pt x="2707" y="0"/>
                    </a:cubicBezTo>
                    <a:close/>
                    <a:moveTo>
                      <a:pt x="2715" y="0"/>
                    </a:moveTo>
                    <a:lnTo>
                      <a:pt x="2715" y="0"/>
                    </a:lnTo>
                    <a:cubicBezTo>
                      <a:pt x="2716" y="0"/>
                      <a:pt x="2717" y="1"/>
                      <a:pt x="2717" y="2"/>
                    </a:cubicBezTo>
                    <a:cubicBezTo>
                      <a:pt x="2717" y="4"/>
                      <a:pt x="2716" y="4"/>
                      <a:pt x="2715" y="4"/>
                    </a:cubicBezTo>
                    <a:lnTo>
                      <a:pt x="2715" y="4"/>
                    </a:lnTo>
                    <a:cubicBezTo>
                      <a:pt x="2714" y="4"/>
                      <a:pt x="2713" y="4"/>
                      <a:pt x="2713" y="2"/>
                    </a:cubicBezTo>
                    <a:cubicBezTo>
                      <a:pt x="2713" y="1"/>
                      <a:pt x="2714" y="0"/>
                      <a:pt x="2715" y="0"/>
                    </a:cubicBezTo>
                    <a:close/>
                    <a:moveTo>
                      <a:pt x="2723" y="0"/>
                    </a:moveTo>
                    <a:lnTo>
                      <a:pt x="2723" y="0"/>
                    </a:lnTo>
                    <a:cubicBezTo>
                      <a:pt x="2724" y="0"/>
                      <a:pt x="2725" y="1"/>
                      <a:pt x="2725" y="2"/>
                    </a:cubicBezTo>
                    <a:cubicBezTo>
                      <a:pt x="2725" y="4"/>
                      <a:pt x="2724" y="4"/>
                      <a:pt x="2723" y="4"/>
                    </a:cubicBezTo>
                    <a:lnTo>
                      <a:pt x="2723" y="4"/>
                    </a:lnTo>
                    <a:cubicBezTo>
                      <a:pt x="2722" y="4"/>
                      <a:pt x="2721" y="4"/>
                      <a:pt x="2721" y="2"/>
                    </a:cubicBezTo>
                    <a:cubicBezTo>
                      <a:pt x="2721" y="1"/>
                      <a:pt x="2722" y="0"/>
                      <a:pt x="2723" y="0"/>
                    </a:cubicBezTo>
                    <a:close/>
                    <a:moveTo>
                      <a:pt x="2731" y="0"/>
                    </a:moveTo>
                    <a:lnTo>
                      <a:pt x="2731" y="0"/>
                    </a:lnTo>
                    <a:cubicBezTo>
                      <a:pt x="2732" y="0"/>
                      <a:pt x="2733" y="1"/>
                      <a:pt x="2733" y="2"/>
                    </a:cubicBezTo>
                    <a:cubicBezTo>
                      <a:pt x="2733" y="4"/>
                      <a:pt x="2732" y="4"/>
                      <a:pt x="2731" y="4"/>
                    </a:cubicBezTo>
                    <a:lnTo>
                      <a:pt x="2731" y="4"/>
                    </a:lnTo>
                    <a:cubicBezTo>
                      <a:pt x="2730" y="4"/>
                      <a:pt x="2729" y="4"/>
                      <a:pt x="2729" y="2"/>
                    </a:cubicBezTo>
                    <a:cubicBezTo>
                      <a:pt x="2729" y="1"/>
                      <a:pt x="2730" y="0"/>
                      <a:pt x="2731" y="0"/>
                    </a:cubicBezTo>
                    <a:close/>
                    <a:moveTo>
                      <a:pt x="2739" y="0"/>
                    </a:moveTo>
                    <a:lnTo>
                      <a:pt x="2739" y="0"/>
                    </a:lnTo>
                    <a:cubicBezTo>
                      <a:pt x="2740" y="0"/>
                      <a:pt x="2741" y="1"/>
                      <a:pt x="2741" y="2"/>
                    </a:cubicBezTo>
                    <a:cubicBezTo>
                      <a:pt x="2741" y="4"/>
                      <a:pt x="2740" y="4"/>
                      <a:pt x="2739" y="4"/>
                    </a:cubicBezTo>
                    <a:lnTo>
                      <a:pt x="2739" y="4"/>
                    </a:lnTo>
                    <a:cubicBezTo>
                      <a:pt x="2738" y="4"/>
                      <a:pt x="2737" y="4"/>
                      <a:pt x="2737" y="2"/>
                    </a:cubicBezTo>
                    <a:cubicBezTo>
                      <a:pt x="2737" y="1"/>
                      <a:pt x="2738" y="0"/>
                      <a:pt x="2739" y="0"/>
                    </a:cubicBezTo>
                    <a:close/>
                    <a:moveTo>
                      <a:pt x="2747" y="0"/>
                    </a:moveTo>
                    <a:lnTo>
                      <a:pt x="2747" y="0"/>
                    </a:lnTo>
                    <a:cubicBezTo>
                      <a:pt x="2748" y="0"/>
                      <a:pt x="2749" y="1"/>
                      <a:pt x="2749" y="2"/>
                    </a:cubicBezTo>
                    <a:cubicBezTo>
                      <a:pt x="2749" y="4"/>
                      <a:pt x="2748" y="4"/>
                      <a:pt x="2747" y="4"/>
                    </a:cubicBezTo>
                    <a:lnTo>
                      <a:pt x="2747" y="4"/>
                    </a:lnTo>
                    <a:cubicBezTo>
                      <a:pt x="2746" y="4"/>
                      <a:pt x="2745" y="4"/>
                      <a:pt x="2745" y="2"/>
                    </a:cubicBezTo>
                    <a:cubicBezTo>
                      <a:pt x="2745" y="1"/>
                      <a:pt x="2746" y="0"/>
                      <a:pt x="2747" y="0"/>
                    </a:cubicBezTo>
                    <a:close/>
                    <a:moveTo>
                      <a:pt x="2755" y="0"/>
                    </a:moveTo>
                    <a:lnTo>
                      <a:pt x="2755" y="0"/>
                    </a:lnTo>
                    <a:cubicBezTo>
                      <a:pt x="2756" y="0"/>
                      <a:pt x="2757" y="1"/>
                      <a:pt x="2757" y="2"/>
                    </a:cubicBezTo>
                    <a:cubicBezTo>
                      <a:pt x="2757" y="4"/>
                      <a:pt x="2756" y="4"/>
                      <a:pt x="2755" y="4"/>
                    </a:cubicBezTo>
                    <a:lnTo>
                      <a:pt x="2755" y="4"/>
                    </a:lnTo>
                    <a:cubicBezTo>
                      <a:pt x="2754" y="4"/>
                      <a:pt x="2753" y="4"/>
                      <a:pt x="2753" y="2"/>
                    </a:cubicBezTo>
                    <a:cubicBezTo>
                      <a:pt x="2753" y="1"/>
                      <a:pt x="2754" y="0"/>
                      <a:pt x="2755" y="0"/>
                    </a:cubicBezTo>
                    <a:close/>
                    <a:moveTo>
                      <a:pt x="2763" y="0"/>
                    </a:moveTo>
                    <a:lnTo>
                      <a:pt x="2763" y="0"/>
                    </a:lnTo>
                    <a:cubicBezTo>
                      <a:pt x="2764" y="0"/>
                      <a:pt x="2765" y="1"/>
                      <a:pt x="2765" y="2"/>
                    </a:cubicBezTo>
                    <a:cubicBezTo>
                      <a:pt x="2765" y="4"/>
                      <a:pt x="2764" y="4"/>
                      <a:pt x="2763" y="4"/>
                    </a:cubicBezTo>
                    <a:lnTo>
                      <a:pt x="2763" y="4"/>
                    </a:lnTo>
                    <a:cubicBezTo>
                      <a:pt x="2762" y="4"/>
                      <a:pt x="2761" y="4"/>
                      <a:pt x="2761" y="2"/>
                    </a:cubicBezTo>
                    <a:cubicBezTo>
                      <a:pt x="2761" y="1"/>
                      <a:pt x="2762" y="0"/>
                      <a:pt x="2763" y="0"/>
                    </a:cubicBezTo>
                    <a:close/>
                    <a:moveTo>
                      <a:pt x="2771" y="0"/>
                    </a:moveTo>
                    <a:lnTo>
                      <a:pt x="2771" y="0"/>
                    </a:lnTo>
                    <a:cubicBezTo>
                      <a:pt x="2772" y="0"/>
                      <a:pt x="2773" y="1"/>
                      <a:pt x="2773" y="2"/>
                    </a:cubicBezTo>
                    <a:cubicBezTo>
                      <a:pt x="2773" y="4"/>
                      <a:pt x="2772" y="4"/>
                      <a:pt x="2771" y="4"/>
                    </a:cubicBezTo>
                    <a:lnTo>
                      <a:pt x="2771" y="4"/>
                    </a:lnTo>
                    <a:cubicBezTo>
                      <a:pt x="2770" y="4"/>
                      <a:pt x="2769" y="4"/>
                      <a:pt x="2769" y="2"/>
                    </a:cubicBezTo>
                    <a:cubicBezTo>
                      <a:pt x="2769" y="1"/>
                      <a:pt x="2770" y="0"/>
                      <a:pt x="2771" y="0"/>
                    </a:cubicBezTo>
                    <a:close/>
                    <a:moveTo>
                      <a:pt x="2779" y="0"/>
                    </a:moveTo>
                    <a:lnTo>
                      <a:pt x="2779" y="0"/>
                    </a:lnTo>
                    <a:cubicBezTo>
                      <a:pt x="2780" y="0"/>
                      <a:pt x="2781" y="1"/>
                      <a:pt x="2781" y="2"/>
                    </a:cubicBezTo>
                    <a:cubicBezTo>
                      <a:pt x="2781" y="4"/>
                      <a:pt x="2780" y="4"/>
                      <a:pt x="2779" y="4"/>
                    </a:cubicBezTo>
                    <a:lnTo>
                      <a:pt x="2779" y="4"/>
                    </a:lnTo>
                    <a:cubicBezTo>
                      <a:pt x="2778" y="4"/>
                      <a:pt x="2777" y="4"/>
                      <a:pt x="2777" y="2"/>
                    </a:cubicBezTo>
                    <a:cubicBezTo>
                      <a:pt x="2777" y="1"/>
                      <a:pt x="2778" y="0"/>
                      <a:pt x="2779" y="0"/>
                    </a:cubicBezTo>
                    <a:close/>
                    <a:moveTo>
                      <a:pt x="2787" y="0"/>
                    </a:moveTo>
                    <a:lnTo>
                      <a:pt x="2787" y="0"/>
                    </a:lnTo>
                    <a:cubicBezTo>
                      <a:pt x="2788" y="0"/>
                      <a:pt x="2789" y="1"/>
                      <a:pt x="2789" y="2"/>
                    </a:cubicBezTo>
                    <a:cubicBezTo>
                      <a:pt x="2789" y="4"/>
                      <a:pt x="2788" y="4"/>
                      <a:pt x="2787" y="4"/>
                    </a:cubicBezTo>
                    <a:lnTo>
                      <a:pt x="2787" y="4"/>
                    </a:lnTo>
                    <a:cubicBezTo>
                      <a:pt x="2786" y="4"/>
                      <a:pt x="2785" y="4"/>
                      <a:pt x="2785" y="2"/>
                    </a:cubicBezTo>
                    <a:cubicBezTo>
                      <a:pt x="2785" y="1"/>
                      <a:pt x="2786" y="0"/>
                      <a:pt x="2787" y="0"/>
                    </a:cubicBezTo>
                    <a:close/>
                    <a:moveTo>
                      <a:pt x="2795" y="0"/>
                    </a:moveTo>
                    <a:lnTo>
                      <a:pt x="2795" y="0"/>
                    </a:lnTo>
                    <a:cubicBezTo>
                      <a:pt x="2796" y="0"/>
                      <a:pt x="2797" y="1"/>
                      <a:pt x="2797" y="2"/>
                    </a:cubicBezTo>
                    <a:cubicBezTo>
                      <a:pt x="2797" y="4"/>
                      <a:pt x="2796" y="4"/>
                      <a:pt x="2795" y="4"/>
                    </a:cubicBezTo>
                    <a:lnTo>
                      <a:pt x="2795" y="4"/>
                    </a:lnTo>
                    <a:cubicBezTo>
                      <a:pt x="2794" y="4"/>
                      <a:pt x="2793" y="4"/>
                      <a:pt x="2793" y="2"/>
                    </a:cubicBezTo>
                    <a:cubicBezTo>
                      <a:pt x="2793" y="1"/>
                      <a:pt x="2794" y="0"/>
                      <a:pt x="2795" y="0"/>
                    </a:cubicBezTo>
                    <a:close/>
                    <a:moveTo>
                      <a:pt x="2803" y="0"/>
                    </a:moveTo>
                    <a:lnTo>
                      <a:pt x="2803" y="0"/>
                    </a:lnTo>
                    <a:cubicBezTo>
                      <a:pt x="2804" y="0"/>
                      <a:pt x="2805" y="1"/>
                      <a:pt x="2805" y="2"/>
                    </a:cubicBezTo>
                    <a:cubicBezTo>
                      <a:pt x="2805" y="4"/>
                      <a:pt x="2804" y="4"/>
                      <a:pt x="2803" y="4"/>
                    </a:cubicBezTo>
                    <a:lnTo>
                      <a:pt x="2803" y="4"/>
                    </a:lnTo>
                    <a:cubicBezTo>
                      <a:pt x="2802" y="4"/>
                      <a:pt x="2801" y="4"/>
                      <a:pt x="2801" y="2"/>
                    </a:cubicBezTo>
                    <a:cubicBezTo>
                      <a:pt x="2801" y="1"/>
                      <a:pt x="2802" y="0"/>
                      <a:pt x="2803" y="0"/>
                    </a:cubicBezTo>
                    <a:close/>
                    <a:moveTo>
                      <a:pt x="2811" y="0"/>
                    </a:moveTo>
                    <a:lnTo>
                      <a:pt x="2811" y="0"/>
                    </a:lnTo>
                    <a:cubicBezTo>
                      <a:pt x="2812" y="0"/>
                      <a:pt x="2813" y="1"/>
                      <a:pt x="2813" y="2"/>
                    </a:cubicBezTo>
                    <a:cubicBezTo>
                      <a:pt x="2813" y="4"/>
                      <a:pt x="2812" y="4"/>
                      <a:pt x="2811" y="4"/>
                    </a:cubicBezTo>
                    <a:lnTo>
                      <a:pt x="2811" y="4"/>
                    </a:lnTo>
                    <a:cubicBezTo>
                      <a:pt x="2810" y="4"/>
                      <a:pt x="2809" y="4"/>
                      <a:pt x="2809" y="2"/>
                    </a:cubicBezTo>
                    <a:cubicBezTo>
                      <a:pt x="2809" y="1"/>
                      <a:pt x="2810" y="0"/>
                      <a:pt x="2811" y="0"/>
                    </a:cubicBezTo>
                    <a:close/>
                    <a:moveTo>
                      <a:pt x="2819" y="0"/>
                    </a:moveTo>
                    <a:lnTo>
                      <a:pt x="2819" y="0"/>
                    </a:lnTo>
                    <a:cubicBezTo>
                      <a:pt x="2820" y="0"/>
                      <a:pt x="2821" y="1"/>
                      <a:pt x="2821" y="2"/>
                    </a:cubicBezTo>
                    <a:cubicBezTo>
                      <a:pt x="2821" y="4"/>
                      <a:pt x="2820" y="4"/>
                      <a:pt x="2819" y="4"/>
                    </a:cubicBezTo>
                    <a:lnTo>
                      <a:pt x="2819" y="4"/>
                    </a:lnTo>
                    <a:cubicBezTo>
                      <a:pt x="2818" y="4"/>
                      <a:pt x="2817" y="4"/>
                      <a:pt x="2817" y="2"/>
                    </a:cubicBezTo>
                    <a:cubicBezTo>
                      <a:pt x="2817" y="1"/>
                      <a:pt x="2818" y="0"/>
                      <a:pt x="2819" y="0"/>
                    </a:cubicBezTo>
                    <a:close/>
                    <a:moveTo>
                      <a:pt x="2827" y="0"/>
                    </a:moveTo>
                    <a:lnTo>
                      <a:pt x="2827" y="0"/>
                    </a:lnTo>
                    <a:cubicBezTo>
                      <a:pt x="2828" y="0"/>
                      <a:pt x="2829" y="1"/>
                      <a:pt x="2829" y="2"/>
                    </a:cubicBezTo>
                    <a:cubicBezTo>
                      <a:pt x="2829" y="4"/>
                      <a:pt x="2828" y="4"/>
                      <a:pt x="2827" y="4"/>
                    </a:cubicBezTo>
                    <a:lnTo>
                      <a:pt x="2827" y="4"/>
                    </a:lnTo>
                    <a:cubicBezTo>
                      <a:pt x="2826" y="4"/>
                      <a:pt x="2825" y="4"/>
                      <a:pt x="2825" y="2"/>
                    </a:cubicBezTo>
                    <a:cubicBezTo>
                      <a:pt x="2825" y="1"/>
                      <a:pt x="2826" y="0"/>
                      <a:pt x="2827" y="0"/>
                    </a:cubicBezTo>
                    <a:close/>
                    <a:moveTo>
                      <a:pt x="2835" y="0"/>
                    </a:moveTo>
                    <a:lnTo>
                      <a:pt x="2835" y="0"/>
                    </a:lnTo>
                    <a:cubicBezTo>
                      <a:pt x="2836" y="0"/>
                      <a:pt x="2837" y="1"/>
                      <a:pt x="2837" y="2"/>
                    </a:cubicBezTo>
                    <a:cubicBezTo>
                      <a:pt x="2837" y="4"/>
                      <a:pt x="2836" y="4"/>
                      <a:pt x="2835" y="4"/>
                    </a:cubicBezTo>
                    <a:lnTo>
                      <a:pt x="2835" y="4"/>
                    </a:lnTo>
                    <a:cubicBezTo>
                      <a:pt x="2834" y="4"/>
                      <a:pt x="2833" y="4"/>
                      <a:pt x="2833" y="2"/>
                    </a:cubicBezTo>
                    <a:cubicBezTo>
                      <a:pt x="2833" y="1"/>
                      <a:pt x="2834" y="0"/>
                      <a:pt x="2835" y="0"/>
                    </a:cubicBezTo>
                    <a:close/>
                    <a:moveTo>
                      <a:pt x="2843" y="0"/>
                    </a:moveTo>
                    <a:lnTo>
                      <a:pt x="2843" y="0"/>
                    </a:lnTo>
                    <a:cubicBezTo>
                      <a:pt x="2844" y="0"/>
                      <a:pt x="2845" y="1"/>
                      <a:pt x="2845" y="2"/>
                    </a:cubicBezTo>
                    <a:cubicBezTo>
                      <a:pt x="2845" y="4"/>
                      <a:pt x="2844" y="4"/>
                      <a:pt x="2843" y="4"/>
                    </a:cubicBezTo>
                    <a:lnTo>
                      <a:pt x="2843" y="4"/>
                    </a:lnTo>
                    <a:cubicBezTo>
                      <a:pt x="2842" y="4"/>
                      <a:pt x="2841" y="4"/>
                      <a:pt x="2841" y="2"/>
                    </a:cubicBezTo>
                    <a:cubicBezTo>
                      <a:pt x="2841" y="1"/>
                      <a:pt x="2842" y="0"/>
                      <a:pt x="2843" y="0"/>
                    </a:cubicBezTo>
                    <a:close/>
                    <a:moveTo>
                      <a:pt x="2851" y="0"/>
                    </a:moveTo>
                    <a:lnTo>
                      <a:pt x="2851" y="0"/>
                    </a:lnTo>
                    <a:cubicBezTo>
                      <a:pt x="2852" y="0"/>
                      <a:pt x="2853" y="1"/>
                      <a:pt x="2853" y="2"/>
                    </a:cubicBezTo>
                    <a:cubicBezTo>
                      <a:pt x="2853" y="4"/>
                      <a:pt x="2852" y="4"/>
                      <a:pt x="2851" y="4"/>
                    </a:cubicBezTo>
                    <a:lnTo>
                      <a:pt x="2851" y="4"/>
                    </a:lnTo>
                    <a:cubicBezTo>
                      <a:pt x="2850" y="4"/>
                      <a:pt x="2849" y="4"/>
                      <a:pt x="2849" y="2"/>
                    </a:cubicBezTo>
                    <a:cubicBezTo>
                      <a:pt x="2849" y="1"/>
                      <a:pt x="2850" y="0"/>
                      <a:pt x="2851" y="0"/>
                    </a:cubicBezTo>
                    <a:close/>
                    <a:moveTo>
                      <a:pt x="2859" y="0"/>
                    </a:moveTo>
                    <a:lnTo>
                      <a:pt x="2859" y="0"/>
                    </a:lnTo>
                    <a:cubicBezTo>
                      <a:pt x="2860" y="0"/>
                      <a:pt x="2861" y="1"/>
                      <a:pt x="2861" y="2"/>
                    </a:cubicBezTo>
                    <a:cubicBezTo>
                      <a:pt x="2861" y="4"/>
                      <a:pt x="2860" y="4"/>
                      <a:pt x="2859" y="4"/>
                    </a:cubicBezTo>
                    <a:lnTo>
                      <a:pt x="2859" y="4"/>
                    </a:lnTo>
                    <a:cubicBezTo>
                      <a:pt x="2858" y="4"/>
                      <a:pt x="2857" y="4"/>
                      <a:pt x="2857" y="2"/>
                    </a:cubicBezTo>
                    <a:cubicBezTo>
                      <a:pt x="2857" y="1"/>
                      <a:pt x="2858" y="0"/>
                      <a:pt x="2859" y="0"/>
                    </a:cubicBezTo>
                    <a:close/>
                    <a:moveTo>
                      <a:pt x="2867" y="0"/>
                    </a:moveTo>
                    <a:lnTo>
                      <a:pt x="2867" y="0"/>
                    </a:lnTo>
                    <a:cubicBezTo>
                      <a:pt x="2868" y="0"/>
                      <a:pt x="2869" y="1"/>
                      <a:pt x="2869" y="2"/>
                    </a:cubicBezTo>
                    <a:cubicBezTo>
                      <a:pt x="2869" y="4"/>
                      <a:pt x="2868" y="4"/>
                      <a:pt x="2867" y="4"/>
                    </a:cubicBezTo>
                    <a:lnTo>
                      <a:pt x="2867" y="4"/>
                    </a:lnTo>
                    <a:cubicBezTo>
                      <a:pt x="2866" y="4"/>
                      <a:pt x="2865" y="4"/>
                      <a:pt x="2865" y="2"/>
                    </a:cubicBezTo>
                    <a:cubicBezTo>
                      <a:pt x="2865" y="1"/>
                      <a:pt x="2866" y="0"/>
                      <a:pt x="2867" y="0"/>
                    </a:cubicBezTo>
                    <a:close/>
                    <a:moveTo>
                      <a:pt x="2875" y="0"/>
                    </a:moveTo>
                    <a:lnTo>
                      <a:pt x="2875" y="0"/>
                    </a:lnTo>
                    <a:cubicBezTo>
                      <a:pt x="2876" y="0"/>
                      <a:pt x="2877" y="1"/>
                      <a:pt x="2877" y="2"/>
                    </a:cubicBezTo>
                    <a:cubicBezTo>
                      <a:pt x="2877" y="4"/>
                      <a:pt x="2876" y="4"/>
                      <a:pt x="2875" y="4"/>
                    </a:cubicBezTo>
                    <a:lnTo>
                      <a:pt x="2875" y="4"/>
                    </a:lnTo>
                    <a:cubicBezTo>
                      <a:pt x="2874" y="4"/>
                      <a:pt x="2873" y="4"/>
                      <a:pt x="2873" y="2"/>
                    </a:cubicBezTo>
                    <a:cubicBezTo>
                      <a:pt x="2873" y="1"/>
                      <a:pt x="2874" y="0"/>
                      <a:pt x="2875" y="0"/>
                    </a:cubicBezTo>
                    <a:close/>
                    <a:moveTo>
                      <a:pt x="2883" y="0"/>
                    </a:moveTo>
                    <a:lnTo>
                      <a:pt x="2883" y="0"/>
                    </a:lnTo>
                    <a:cubicBezTo>
                      <a:pt x="2884" y="0"/>
                      <a:pt x="2885" y="1"/>
                      <a:pt x="2885" y="2"/>
                    </a:cubicBezTo>
                    <a:cubicBezTo>
                      <a:pt x="2885" y="4"/>
                      <a:pt x="2884" y="4"/>
                      <a:pt x="2883" y="4"/>
                    </a:cubicBezTo>
                    <a:lnTo>
                      <a:pt x="2883" y="4"/>
                    </a:lnTo>
                    <a:cubicBezTo>
                      <a:pt x="2882" y="4"/>
                      <a:pt x="2881" y="4"/>
                      <a:pt x="2881" y="2"/>
                    </a:cubicBezTo>
                    <a:cubicBezTo>
                      <a:pt x="2881" y="1"/>
                      <a:pt x="2882" y="0"/>
                      <a:pt x="2883" y="0"/>
                    </a:cubicBezTo>
                    <a:close/>
                    <a:moveTo>
                      <a:pt x="2891" y="0"/>
                    </a:moveTo>
                    <a:lnTo>
                      <a:pt x="2891" y="0"/>
                    </a:lnTo>
                    <a:cubicBezTo>
                      <a:pt x="2892" y="0"/>
                      <a:pt x="2893" y="1"/>
                      <a:pt x="2893" y="2"/>
                    </a:cubicBezTo>
                    <a:cubicBezTo>
                      <a:pt x="2893" y="4"/>
                      <a:pt x="2892" y="4"/>
                      <a:pt x="2891" y="4"/>
                    </a:cubicBezTo>
                    <a:lnTo>
                      <a:pt x="2891" y="4"/>
                    </a:lnTo>
                    <a:cubicBezTo>
                      <a:pt x="2890" y="4"/>
                      <a:pt x="2889" y="4"/>
                      <a:pt x="2889" y="2"/>
                    </a:cubicBezTo>
                    <a:cubicBezTo>
                      <a:pt x="2889" y="1"/>
                      <a:pt x="2890" y="0"/>
                      <a:pt x="2891" y="0"/>
                    </a:cubicBezTo>
                    <a:close/>
                    <a:moveTo>
                      <a:pt x="2899" y="0"/>
                    </a:moveTo>
                    <a:lnTo>
                      <a:pt x="2899" y="0"/>
                    </a:lnTo>
                    <a:cubicBezTo>
                      <a:pt x="2900" y="0"/>
                      <a:pt x="2901" y="1"/>
                      <a:pt x="2901" y="2"/>
                    </a:cubicBezTo>
                    <a:cubicBezTo>
                      <a:pt x="2901" y="4"/>
                      <a:pt x="2900" y="4"/>
                      <a:pt x="2899" y="4"/>
                    </a:cubicBezTo>
                    <a:lnTo>
                      <a:pt x="2899" y="4"/>
                    </a:lnTo>
                    <a:cubicBezTo>
                      <a:pt x="2898" y="4"/>
                      <a:pt x="2897" y="4"/>
                      <a:pt x="2897" y="2"/>
                    </a:cubicBezTo>
                    <a:cubicBezTo>
                      <a:pt x="2897" y="1"/>
                      <a:pt x="2898" y="0"/>
                      <a:pt x="2899" y="0"/>
                    </a:cubicBezTo>
                    <a:close/>
                    <a:moveTo>
                      <a:pt x="2907" y="0"/>
                    </a:moveTo>
                    <a:lnTo>
                      <a:pt x="2907" y="0"/>
                    </a:lnTo>
                    <a:cubicBezTo>
                      <a:pt x="2908" y="0"/>
                      <a:pt x="2909" y="1"/>
                      <a:pt x="2909" y="2"/>
                    </a:cubicBezTo>
                    <a:cubicBezTo>
                      <a:pt x="2909" y="4"/>
                      <a:pt x="2908" y="4"/>
                      <a:pt x="2907" y="4"/>
                    </a:cubicBezTo>
                    <a:lnTo>
                      <a:pt x="2907" y="4"/>
                    </a:lnTo>
                    <a:cubicBezTo>
                      <a:pt x="2906" y="4"/>
                      <a:pt x="2905" y="4"/>
                      <a:pt x="2905" y="2"/>
                    </a:cubicBezTo>
                    <a:cubicBezTo>
                      <a:pt x="2905" y="1"/>
                      <a:pt x="2906" y="0"/>
                      <a:pt x="2907" y="0"/>
                    </a:cubicBezTo>
                    <a:close/>
                    <a:moveTo>
                      <a:pt x="2915" y="0"/>
                    </a:moveTo>
                    <a:lnTo>
                      <a:pt x="2915" y="0"/>
                    </a:lnTo>
                    <a:cubicBezTo>
                      <a:pt x="2916" y="0"/>
                      <a:pt x="2917" y="1"/>
                      <a:pt x="2917" y="2"/>
                    </a:cubicBezTo>
                    <a:cubicBezTo>
                      <a:pt x="2917" y="4"/>
                      <a:pt x="2916" y="4"/>
                      <a:pt x="2915" y="4"/>
                    </a:cubicBezTo>
                    <a:lnTo>
                      <a:pt x="2915" y="4"/>
                    </a:lnTo>
                    <a:cubicBezTo>
                      <a:pt x="2914" y="4"/>
                      <a:pt x="2913" y="4"/>
                      <a:pt x="2913" y="2"/>
                    </a:cubicBezTo>
                    <a:cubicBezTo>
                      <a:pt x="2913" y="1"/>
                      <a:pt x="2914" y="0"/>
                      <a:pt x="2915" y="0"/>
                    </a:cubicBezTo>
                    <a:close/>
                    <a:moveTo>
                      <a:pt x="2923" y="0"/>
                    </a:moveTo>
                    <a:lnTo>
                      <a:pt x="2923" y="0"/>
                    </a:lnTo>
                    <a:cubicBezTo>
                      <a:pt x="2924" y="0"/>
                      <a:pt x="2925" y="1"/>
                      <a:pt x="2925" y="2"/>
                    </a:cubicBezTo>
                    <a:cubicBezTo>
                      <a:pt x="2925" y="4"/>
                      <a:pt x="2924" y="4"/>
                      <a:pt x="2923" y="4"/>
                    </a:cubicBezTo>
                    <a:lnTo>
                      <a:pt x="2923" y="4"/>
                    </a:lnTo>
                    <a:cubicBezTo>
                      <a:pt x="2922" y="4"/>
                      <a:pt x="2921" y="4"/>
                      <a:pt x="2921" y="2"/>
                    </a:cubicBezTo>
                    <a:cubicBezTo>
                      <a:pt x="2921" y="1"/>
                      <a:pt x="2922" y="0"/>
                      <a:pt x="2923" y="0"/>
                    </a:cubicBezTo>
                    <a:close/>
                    <a:moveTo>
                      <a:pt x="2931" y="0"/>
                    </a:moveTo>
                    <a:lnTo>
                      <a:pt x="2931" y="0"/>
                    </a:lnTo>
                    <a:cubicBezTo>
                      <a:pt x="2932" y="0"/>
                      <a:pt x="2933" y="1"/>
                      <a:pt x="2933" y="2"/>
                    </a:cubicBezTo>
                    <a:cubicBezTo>
                      <a:pt x="2933" y="4"/>
                      <a:pt x="2932" y="4"/>
                      <a:pt x="2931" y="4"/>
                    </a:cubicBezTo>
                    <a:lnTo>
                      <a:pt x="2931" y="4"/>
                    </a:lnTo>
                    <a:cubicBezTo>
                      <a:pt x="2930" y="4"/>
                      <a:pt x="2929" y="4"/>
                      <a:pt x="2929" y="2"/>
                    </a:cubicBezTo>
                    <a:cubicBezTo>
                      <a:pt x="2929" y="1"/>
                      <a:pt x="2930" y="0"/>
                      <a:pt x="2931" y="0"/>
                    </a:cubicBezTo>
                    <a:close/>
                    <a:moveTo>
                      <a:pt x="2939" y="0"/>
                    </a:moveTo>
                    <a:lnTo>
                      <a:pt x="2939" y="0"/>
                    </a:lnTo>
                    <a:cubicBezTo>
                      <a:pt x="2940" y="0"/>
                      <a:pt x="2941" y="1"/>
                      <a:pt x="2941" y="3"/>
                    </a:cubicBezTo>
                    <a:cubicBezTo>
                      <a:pt x="2941" y="4"/>
                      <a:pt x="2940" y="5"/>
                      <a:pt x="2939" y="5"/>
                    </a:cubicBezTo>
                    <a:lnTo>
                      <a:pt x="2939" y="5"/>
                    </a:lnTo>
                    <a:cubicBezTo>
                      <a:pt x="2938" y="5"/>
                      <a:pt x="2937" y="4"/>
                      <a:pt x="2937" y="3"/>
                    </a:cubicBezTo>
                    <a:cubicBezTo>
                      <a:pt x="2937" y="1"/>
                      <a:pt x="2938" y="0"/>
                      <a:pt x="2939" y="0"/>
                    </a:cubicBezTo>
                    <a:close/>
                    <a:moveTo>
                      <a:pt x="2947" y="1"/>
                    </a:moveTo>
                    <a:lnTo>
                      <a:pt x="2947" y="1"/>
                    </a:lnTo>
                    <a:cubicBezTo>
                      <a:pt x="2948" y="1"/>
                      <a:pt x="2949" y="1"/>
                      <a:pt x="2949" y="3"/>
                    </a:cubicBezTo>
                    <a:cubicBezTo>
                      <a:pt x="2949" y="4"/>
                      <a:pt x="2948" y="5"/>
                      <a:pt x="2947" y="5"/>
                    </a:cubicBezTo>
                    <a:lnTo>
                      <a:pt x="2947" y="5"/>
                    </a:lnTo>
                    <a:cubicBezTo>
                      <a:pt x="2946" y="5"/>
                      <a:pt x="2945" y="4"/>
                      <a:pt x="2945" y="3"/>
                    </a:cubicBezTo>
                    <a:cubicBezTo>
                      <a:pt x="2945" y="1"/>
                      <a:pt x="2946" y="1"/>
                      <a:pt x="2947" y="1"/>
                    </a:cubicBezTo>
                    <a:close/>
                    <a:moveTo>
                      <a:pt x="2955" y="1"/>
                    </a:moveTo>
                    <a:lnTo>
                      <a:pt x="2955" y="1"/>
                    </a:lnTo>
                    <a:cubicBezTo>
                      <a:pt x="2956" y="1"/>
                      <a:pt x="2957" y="1"/>
                      <a:pt x="2957" y="3"/>
                    </a:cubicBezTo>
                    <a:cubicBezTo>
                      <a:pt x="2957" y="4"/>
                      <a:pt x="2956" y="5"/>
                      <a:pt x="2955" y="5"/>
                    </a:cubicBezTo>
                    <a:lnTo>
                      <a:pt x="2955" y="5"/>
                    </a:lnTo>
                    <a:cubicBezTo>
                      <a:pt x="2954" y="5"/>
                      <a:pt x="2953" y="4"/>
                      <a:pt x="2953" y="3"/>
                    </a:cubicBezTo>
                    <a:cubicBezTo>
                      <a:pt x="2953" y="1"/>
                      <a:pt x="2954" y="1"/>
                      <a:pt x="2955" y="1"/>
                    </a:cubicBezTo>
                    <a:close/>
                    <a:moveTo>
                      <a:pt x="2963" y="1"/>
                    </a:moveTo>
                    <a:lnTo>
                      <a:pt x="2963" y="1"/>
                    </a:lnTo>
                    <a:cubicBezTo>
                      <a:pt x="2964" y="1"/>
                      <a:pt x="2965" y="1"/>
                      <a:pt x="2965" y="3"/>
                    </a:cubicBezTo>
                    <a:cubicBezTo>
                      <a:pt x="2965" y="4"/>
                      <a:pt x="2964" y="5"/>
                      <a:pt x="2963" y="5"/>
                    </a:cubicBezTo>
                    <a:lnTo>
                      <a:pt x="2963" y="5"/>
                    </a:lnTo>
                    <a:cubicBezTo>
                      <a:pt x="2962" y="5"/>
                      <a:pt x="2961" y="4"/>
                      <a:pt x="2961" y="3"/>
                    </a:cubicBezTo>
                    <a:cubicBezTo>
                      <a:pt x="2961" y="1"/>
                      <a:pt x="2962" y="1"/>
                      <a:pt x="2963" y="1"/>
                    </a:cubicBezTo>
                    <a:close/>
                    <a:moveTo>
                      <a:pt x="2971" y="1"/>
                    </a:moveTo>
                    <a:lnTo>
                      <a:pt x="2971" y="1"/>
                    </a:lnTo>
                    <a:cubicBezTo>
                      <a:pt x="2972" y="1"/>
                      <a:pt x="2973" y="1"/>
                      <a:pt x="2973" y="3"/>
                    </a:cubicBezTo>
                    <a:cubicBezTo>
                      <a:pt x="2973" y="4"/>
                      <a:pt x="2972" y="5"/>
                      <a:pt x="2971" y="5"/>
                    </a:cubicBezTo>
                    <a:lnTo>
                      <a:pt x="2971" y="5"/>
                    </a:lnTo>
                    <a:cubicBezTo>
                      <a:pt x="2970" y="5"/>
                      <a:pt x="2969" y="4"/>
                      <a:pt x="2969" y="3"/>
                    </a:cubicBezTo>
                    <a:cubicBezTo>
                      <a:pt x="2969" y="1"/>
                      <a:pt x="2970" y="1"/>
                      <a:pt x="2971" y="1"/>
                    </a:cubicBezTo>
                    <a:close/>
                    <a:moveTo>
                      <a:pt x="2979" y="1"/>
                    </a:moveTo>
                    <a:lnTo>
                      <a:pt x="2979" y="1"/>
                    </a:lnTo>
                    <a:cubicBezTo>
                      <a:pt x="2980" y="1"/>
                      <a:pt x="2981" y="1"/>
                      <a:pt x="2981" y="3"/>
                    </a:cubicBezTo>
                    <a:cubicBezTo>
                      <a:pt x="2981" y="4"/>
                      <a:pt x="2980" y="5"/>
                      <a:pt x="2979" y="5"/>
                    </a:cubicBezTo>
                    <a:lnTo>
                      <a:pt x="2979" y="5"/>
                    </a:lnTo>
                    <a:cubicBezTo>
                      <a:pt x="2978" y="5"/>
                      <a:pt x="2977" y="4"/>
                      <a:pt x="2977" y="3"/>
                    </a:cubicBezTo>
                    <a:cubicBezTo>
                      <a:pt x="2977" y="1"/>
                      <a:pt x="2978" y="1"/>
                      <a:pt x="2979" y="1"/>
                    </a:cubicBezTo>
                    <a:close/>
                    <a:moveTo>
                      <a:pt x="2987" y="1"/>
                    </a:moveTo>
                    <a:lnTo>
                      <a:pt x="2987" y="1"/>
                    </a:lnTo>
                    <a:cubicBezTo>
                      <a:pt x="2988" y="1"/>
                      <a:pt x="2989" y="1"/>
                      <a:pt x="2989" y="3"/>
                    </a:cubicBezTo>
                    <a:cubicBezTo>
                      <a:pt x="2989" y="4"/>
                      <a:pt x="2988" y="5"/>
                      <a:pt x="2987" y="5"/>
                    </a:cubicBezTo>
                    <a:lnTo>
                      <a:pt x="2987" y="5"/>
                    </a:lnTo>
                    <a:cubicBezTo>
                      <a:pt x="2986" y="5"/>
                      <a:pt x="2985" y="4"/>
                      <a:pt x="2985" y="3"/>
                    </a:cubicBezTo>
                    <a:cubicBezTo>
                      <a:pt x="2985" y="1"/>
                      <a:pt x="2986" y="1"/>
                      <a:pt x="2987" y="1"/>
                    </a:cubicBezTo>
                    <a:close/>
                    <a:moveTo>
                      <a:pt x="2995" y="1"/>
                    </a:moveTo>
                    <a:lnTo>
                      <a:pt x="2995" y="1"/>
                    </a:lnTo>
                    <a:cubicBezTo>
                      <a:pt x="2996" y="1"/>
                      <a:pt x="2997" y="1"/>
                      <a:pt x="2997" y="3"/>
                    </a:cubicBezTo>
                    <a:cubicBezTo>
                      <a:pt x="2997" y="4"/>
                      <a:pt x="2996" y="5"/>
                      <a:pt x="2995" y="5"/>
                    </a:cubicBezTo>
                    <a:lnTo>
                      <a:pt x="2995" y="5"/>
                    </a:lnTo>
                    <a:cubicBezTo>
                      <a:pt x="2994" y="5"/>
                      <a:pt x="2993" y="4"/>
                      <a:pt x="2993" y="3"/>
                    </a:cubicBezTo>
                    <a:cubicBezTo>
                      <a:pt x="2993" y="1"/>
                      <a:pt x="2994" y="1"/>
                      <a:pt x="2995" y="1"/>
                    </a:cubicBezTo>
                    <a:close/>
                    <a:moveTo>
                      <a:pt x="3003" y="1"/>
                    </a:moveTo>
                    <a:lnTo>
                      <a:pt x="3003" y="1"/>
                    </a:lnTo>
                    <a:cubicBezTo>
                      <a:pt x="3004" y="1"/>
                      <a:pt x="3005" y="1"/>
                      <a:pt x="3005" y="3"/>
                    </a:cubicBezTo>
                    <a:cubicBezTo>
                      <a:pt x="3005" y="4"/>
                      <a:pt x="3004" y="5"/>
                      <a:pt x="3003" y="5"/>
                    </a:cubicBezTo>
                    <a:lnTo>
                      <a:pt x="3003" y="5"/>
                    </a:lnTo>
                    <a:cubicBezTo>
                      <a:pt x="3002" y="5"/>
                      <a:pt x="3001" y="4"/>
                      <a:pt x="3001" y="3"/>
                    </a:cubicBezTo>
                    <a:cubicBezTo>
                      <a:pt x="3001" y="1"/>
                      <a:pt x="3002" y="1"/>
                      <a:pt x="3003" y="1"/>
                    </a:cubicBezTo>
                    <a:close/>
                    <a:moveTo>
                      <a:pt x="3011" y="1"/>
                    </a:moveTo>
                    <a:lnTo>
                      <a:pt x="3011" y="1"/>
                    </a:lnTo>
                    <a:cubicBezTo>
                      <a:pt x="3012" y="1"/>
                      <a:pt x="3013" y="1"/>
                      <a:pt x="3013" y="3"/>
                    </a:cubicBezTo>
                    <a:cubicBezTo>
                      <a:pt x="3013" y="4"/>
                      <a:pt x="3012" y="5"/>
                      <a:pt x="3011" y="5"/>
                    </a:cubicBezTo>
                    <a:lnTo>
                      <a:pt x="3011" y="5"/>
                    </a:lnTo>
                    <a:cubicBezTo>
                      <a:pt x="3010" y="5"/>
                      <a:pt x="3009" y="4"/>
                      <a:pt x="3009" y="3"/>
                    </a:cubicBezTo>
                    <a:cubicBezTo>
                      <a:pt x="3009" y="1"/>
                      <a:pt x="3010" y="1"/>
                      <a:pt x="3011" y="1"/>
                    </a:cubicBezTo>
                    <a:close/>
                    <a:moveTo>
                      <a:pt x="3019" y="1"/>
                    </a:moveTo>
                    <a:lnTo>
                      <a:pt x="3019" y="1"/>
                    </a:lnTo>
                    <a:cubicBezTo>
                      <a:pt x="3020" y="1"/>
                      <a:pt x="3021" y="1"/>
                      <a:pt x="3021" y="3"/>
                    </a:cubicBezTo>
                    <a:cubicBezTo>
                      <a:pt x="3021" y="4"/>
                      <a:pt x="3020" y="5"/>
                      <a:pt x="3019" y="5"/>
                    </a:cubicBezTo>
                    <a:lnTo>
                      <a:pt x="3019" y="5"/>
                    </a:lnTo>
                    <a:cubicBezTo>
                      <a:pt x="3018" y="5"/>
                      <a:pt x="3017" y="4"/>
                      <a:pt x="3017" y="3"/>
                    </a:cubicBezTo>
                    <a:cubicBezTo>
                      <a:pt x="3017" y="1"/>
                      <a:pt x="3018" y="1"/>
                      <a:pt x="3019" y="1"/>
                    </a:cubicBezTo>
                    <a:close/>
                    <a:moveTo>
                      <a:pt x="3027" y="1"/>
                    </a:moveTo>
                    <a:lnTo>
                      <a:pt x="3027" y="1"/>
                    </a:lnTo>
                    <a:cubicBezTo>
                      <a:pt x="3028" y="1"/>
                      <a:pt x="3029" y="1"/>
                      <a:pt x="3029" y="3"/>
                    </a:cubicBezTo>
                    <a:cubicBezTo>
                      <a:pt x="3029" y="4"/>
                      <a:pt x="3028" y="5"/>
                      <a:pt x="3027" y="5"/>
                    </a:cubicBezTo>
                    <a:lnTo>
                      <a:pt x="3027" y="5"/>
                    </a:lnTo>
                    <a:cubicBezTo>
                      <a:pt x="3026" y="5"/>
                      <a:pt x="3025" y="4"/>
                      <a:pt x="3025" y="3"/>
                    </a:cubicBezTo>
                    <a:cubicBezTo>
                      <a:pt x="3025" y="1"/>
                      <a:pt x="3026" y="1"/>
                      <a:pt x="3027" y="1"/>
                    </a:cubicBezTo>
                    <a:close/>
                    <a:moveTo>
                      <a:pt x="3035" y="1"/>
                    </a:moveTo>
                    <a:lnTo>
                      <a:pt x="3035" y="1"/>
                    </a:lnTo>
                    <a:cubicBezTo>
                      <a:pt x="3036" y="1"/>
                      <a:pt x="3037" y="1"/>
                      <a:pt x="3037" y="3"/>
                    </a:cubicBezTo>
                    <a:cubicBezTo>
                      <a:pt x="3037" y="4"/>
                      <a:pt x="3036" y="5"/>
                      <a:pt x="3035" y="5"/>
                    </a:cubicBezTo>
                    <a:lnTo>
                      <a:pt x="3035" y="5"/>
                    </a:lnTo>
                    <a:cubicBezTo>
                      <a:pt x="3034" y="5"/>
                      <a:pt x="3033" y="4"/>
                      <a:pt x="3033" y="3"/>
                    </a:cubicBezTo>
                    <a:cubicBezTo>
                      <a:pt x="3033" y="1"/>
                      <a:pt x="3034" y="1"/>
                      <a:pt x="3035" y="1"/>
                    </a:cubicBezTo>
                    <a:close/>
                    <a:moveTo>
                      <a:pt x="3043" y="1"/>
                    </a:moveTo>
                    <a:lnTo>
                      <a:pt x="3043" y="1"/>
                    </a:lnTo>
                    <a:cubicBezTo>
                      <a:pt x="3044" y="1"/>
                      <a:pt x="3045" y="1"/>
                      <a:pt x="3045" y="3"/>
                    </a:cubicBezTo>
                    <a:cubicBezTo>
                      <a:pt x="3045" y="4"/>
                      <a:pt x="3044" y="5"/>
                      <a:pt x="3043" y="5"/>
                    </a:cubicBezTo>
                    <a:lnTo>
                      <a:pt x="3043" y="5"/>
                    </a:lnTo>
                    <a:cubicBezTo>
                      <a:pt x="3042" y="5"/>
                      <a:pt x="3041" y="4"/>
                      <a:pt x="3041" y="3"/>
                    </a:cubicBezTo>
                    <a:cubicBezTo>
                      <a:pt x="3041" y="1"/>
                      <a:pt x="3042" y="1"/>
                      <a:pt x="3043" y="1"/>
                    </a:cubicBezTo>
                    <a:close/>
                    <a:moveTo>
                      <a:pt x="3051" y="1"/>
                    </a:moveTo>
                    <a:lnTo>
                      <a:pt x="3051" y="1"/>
                    </a:lnTo>
                    <a:cubicBezTo>
                      <a:pt x="3052" y="1"/>
                      <a:pt x="3053" y="1"/>
                      <a:pt x="3053" y="3"/>
                    </a:cubicBezTo>
                    <a:cubicBezTo>
                      <a:pt x="3053" y="4"/>
                      <a:pt x="3052" y="5"/>
                      <a:pt x="3051" y="5"/>
                    </a:cubicBezTo>
                    <a:lnTo>
                      <a:pt x="3051" y="5"/>
                    </a:lnTo>
                    <a:cubicBezTo>
                      <a:pt x="3050" y="5"/>
                      <a:pt x="3049" y="4"/>
                      <a:pt x="3049" y="3"/>
                    </a:cubicBezTo>
                    <a:cubicBezTo>
                      <a:pt x="3049" y="1"/>
                      <a:pt x="3050" y="1"/>
                      <a:pt x="3051" y="1"/>
                    </a:cubicBezTo>
                    <a:close/>
                    <a:moveTo>
                      <a:pt x="3059" y="1"/>
                    </a:moveTo>
                    <a:lnTo>
                      <a:pt x="3059" y="1"/>
                    </a:lnTo>
                    <a:cubicBezTo>
                      <a:pt x="3060" y="1"/>
                      <a:pt x="3061" y="1"/>
                      <a:pt x="3061" y="3"/>
                    </a:cubicBezTo>
                    <a:cubicBezTo>
                      <a:pt x="3061" y="4"/>
                      <a:pt x="3060" y="5"/>
                      <a:pt x="3059" y="5"/>
                    </a:cubicBezTo>
                    <a:lnTo>
                      <a:pt x="3059" y="5"/>
                    </a:lnTo>
                    <a:cubicBezTo>
                      <a:pt x="3058" y="5"/>
                      <a:pt x="3057" y="4"/>
                      <a:pt x="3057" y="3"/>
                    </a:cubicBezTo>
                    <a:cubicBezTo>
                      <a:pt x="3057" y="1"/>
                      <a:pt x="3058" y="1"/>
                      <a:pt x="3059" y="1"/>
                    </a:cubicBezTo>
                    <a:close/>
                    <a:moveTo>
                      <a:pt x="3067" y="1"/>
                    </a:moveTo>
                    <a:lnTo>
                      <a:pt x="3067" y="1"/>
                    </a:lnTo>
                    <a:cubicBezTo>
                      <a:pt x="3068" y="1"/>
                      <a:pt x="3069" y="1"/>
                      <a:pt x="3069" y="3"/>
                    </a:cubicBezTo>
                    <a:cubicBezTo>
                      <a:pt x="3069" y="4"/>
                      <a:pt x="3068" y="5"/>
                      <a:pt x="3067" y="5"/>
                    </a:cubicBezTo>
                    <a:lnTo>
                      <a:pt x="3067" y="5"/>
                    </a:lnTo>
                    <a:cubicBezTo>
                      <a:pt x="3066" y="5"/>
                      <a:pt x="3065" y="4"/>
                      <a:pt x="3065" y="3"/>
                    </a:cubicBezTo>
                    <a:cubicBezTo>
                      <a:pt x="3065" y="1"/>
                      <a:pt x="3066" y="1"/>
                      <a:pt x="3067" y="1"/>
                    </a:cubicBezTo>
                    <a:close/>
                    <a:moveTo>
                      <a:pt x="3075" y="1"/>
                    </a:moveTo>
                    <a:lnTo>
                      <a:pt x="3075" y="1"/>
                    </a:lnTo>
                    <a:cubicBezTo>
                      <a:pt x="3076" y="1"/>
                      <a:pt x="3077" y="1"/>
                      <a:pt x="3077" y="3"/>
                    </a:cubicBezTo>
                    <a:cubicBezTo>
                      <a:pt x="3077" y="4"/>
                      <a:pt x="3076" y="5"/>
                      <a:pt x="3075" y="5"/>
                    </a:cubicBezTo>
                    <a:lnTo>
                      <a:pt x="3075" y="5"/>
                    </a:lnTo>
                    <a:cubicBezTo>
                      <a:pt x="3074" y="5"/>
                      <a:pt x="3073" y="4"/>
                      <a:pt x="3073" y="3"/>
                    </a:cubicBezTo>
                    <a:cubicBezTo>
                      <a:pt x="3073" y="1"/>
                      <a:pt x="3074" y="1"/>
                      <a:pt x="3075" y="1"/>
                    </a:cubicBezTo>
                    <a:close/>
                    <a:moveTo>
                      <a:pt x="3083" y="1"/>
                    </a:moveTo>
                    <a:lnTo>
                      <a:pt x="3083" y="1"/>
                    </a:lnTo>
                    <a:cubicBezTo>
                      <a:pt x="3084" y="1"/>
                      <a:pt x="3085" y="1"/>
                      <a:pt x="3085" y="3"/>
                    </a:cubicBezTo>
                    <a:cubicBezTo>
                      <a:pt x="3085" y="4"/>
                      <a:pt x="3084" y="5"/>
                      <a:pt x="3083" y="5"/>
                    </a:cubicBezTo>
                    <a:lnTo>
                      <a:pt x="3083" y="5"/>
                    </a:lnTo>
                    <a:cubicBezTo>
                      <a:pt x="3082" y="5"/>
                      <a:pt x="3081" y="4"/>
                      <a:pt x="3081" y="3"/>
                    </a:cubicBezTo>
                    <a:cubicBezTo>
                      <a:pt x="3081" y="1"/>
                      <a:pt x="3082" y="1"/>
                      <a:pt x="3083" y="1"/>
                    </a:cubicBezTo>
                    <a:close/>
                    <a:moveTo>
                      <a:pt x="3091" y="1"/>
                    </a:moveTo>
                    <a:lnTo>
                      <a:pt x="3091" y="1"/>
                    </a:lnTo>
                    <a:cubicBezTo>
                      <a:pt x="3092" y="1"/>
                      <a:pt x="3093" y="1"/>
                      <a:pt x="3093" y="3"/>
                    </a:cubicBezTo>
                    <a:cubicBezTo>
                      <a:pt x="3093" y="4"/>
                      <a:pt x="3092" y="5"/>
                      <a:pt x="3091" y="5"/>
                    </a:cubicBezTo>
                    <a:lnTo>
                      <a:pt x="3091" y="5"/>
                    </a:lnTo>
                    <a:cubicBezTo>
                      <a:pt x="3090" y="5"/>
                      <a:pt x="3089" y="4"/>
                      <a:pt x="3089" y="3"/>
                    </a:cubicBezTo>
                    <a:cubicBezTo>
                      <a:pt x="3089" y="1"/>
                      <a:pt x="3090" y="1"/>
                      <a:pt x="3091" y="1"/>
                    </a:cubicBezTo>
                    <a:close/>
                    <a:moveTo>
                      <a:pt x="3099" y="1"/>
                    </a:moveTo>
                    <a:lnTo>
                      <a:pt x="3099" y="1"/>
                    </a:lnTo>
                    <a:cubicBezTo>
                      <a:pt x="3100" y="1"/>
                      <a:pt x="3101" y="1"/>
                      <a:pt x="3101" y="3"/>
                    </a:cubicBezTo>
                    <a:cubicBezTo>
                      <a:pt x="3101" y="4"/>
                      <a:pt x="3100" y="5"/>
                      <a:pt x="3099" y="5"/>
                    </a:cubicBezTo>
                    <a:lnTo>
                      <a:pt x="3099" y="5"/>
                    </a:lnTo>
                    <a:cubicBezTo>
                      <a:pt x="3098" y="5"/>
                      <a:pt x="3097" y="4"/>
                      <a:pt x="3097" y="3"/>
                    </a:cubicBezTo>
                    <a:cubicBezTo>
                      <a:pt x="3097" y="1"/>
                      <a:pt x="3098" y="1"/>
                      <a:pt x="3099" y="1"/>
                    </a:cubicBezTo>
                    <a:close/>
                    <a:moveTo>
                      <a:pt x="3107" y="1"/>
                    </a:moveTo>
                    <a:lnTo>
                      <a:pt x="3107" y="1"/>
                    </a:lnTo>
                    <a:cubicBezTo>
                      <a:pt x="3108" y="1"/>
                      <a:pt x="3109" y="1"/>
                      <a:pt x="3109" y="3"/>
                    </a:cubicBezTo>
                    <a:cubicBezTo>
                      <a:pt x="3109" y="4"/>
                      <a:pt x="3108" y="5"/>
                      <a:pt x="3107" y="5"/>
                    </a:cubicBezTo>
                    <a:lnTo>
                      <a:pt x="3107" y="5"/>
                    </a:lnTo>
                    <a:cubicBezTo>
                      <a:pt x="3106" y="5"/>
                      <a:pt x="3105" y="4"/>
                      <a:pt x="3105" y="3"/>
                    </a:cubicBezTo>
                    <a:cubicBezTo>
                      <a:pt x="3105" y="1"/>
                      <a:pt x="3106" y="1"/>
                      <a:pt x="3107" y="1"/>
                    </a:cubicBezTo>
                    <a:close/>
                    <a:moveTo>
                      <a:pt x="3115" y="1"/>
                    </a:moveTo>
                    <a:lnTo>
                      <a:pt x="3115" y="1"/>
                    </a:lnTo>
                    <a:cubicBezTo>
                      <a:pt x="3116" y="1"/>
                      <a:pt x="3117" y="1"/>
                      <a:pt x="3117" y="3"/>
                    </a:cubicBezTo>
                    <a:cubicBezTo>
                      <a:pt x="3117" y="4"/>
                      <a:pt x="3116" y="5"/>
                      <a:pt x="3115" y="5"/>
                    </a:cubicBezTo>
                    <a:lnTo>
                      <a:pt x="3115" y="5"/>
                    </a:lnTo>
                    <a:cubicBezTo>
                      <a:pt x="3114" y="5"/>
                      <a:pt x="3113" y="4"/>
                      <a:pt x="3113" y="3"/>
                    </a:cubicBezTo>
                    <a:cubicBezTo>
                      <a:pt x="3113" y="1"/>
                      <a:pt x="3114" y="1"/>
                      <a:pt x="3115" y="1"/>
                    </a:cubicBezTo>
                    <a:close/>
                    <a:moveTo>
                      <a:pt x="3123" y="1"/>
                    </a:moveTo>
                    <a:lnTo>
                      <a:pt x="3123" y="1"/>
                    </a:lnTo>
                    <a:cubicBezTo>
                      <a:pt x="3124" y="1"/>
                      <a:pt x="3125" y="1"/>
                      <a:pt x="3125" y="3"/>
                    </a:cubicBezTo>
                    <a:cubicBezTo>
                      <a:pt x="3125" y="4"/>
                      <a:pt x="3124" y="5"/>
                      <a:pt x="3123" y="5"/>
                    </a:cubicBezTo>
                    <a:lnTo>
                      <a:pt x="3123" y="5"/>
                    </a:lnTo>
                    <a:cubicBezTo>
                      <a:pt x="3122" y="5"/>
                      <a:pt x="3121" y="4"/>
                      <a:pt x="3121" y="3"/>
                    </a:cubicBezTo>
                    <a:cubicBezTo>
                      <a:pt x="3121" y="1"/>
                      <a:pt x="3122" y="1"/>
                      <a:pt x="3123" y="1"/>
                    </a:cubicBezTo>
                    <a:close/>
                    <a:moveTo>
                      <a:pt x="3131" y="1"/>
                    </a:moveTo>
                    <a:lnTo>
                      <a:pt x="3131" y="1"/>
                    </a:lnTo>
                    <a:cubicBezTo>
                      <a:pt x="3132" y="1"/>
                      <a:pt x="3133" y="1"/>
                      <a:pt x="3133" y="3"/>
                    </a:cubicBezTo>
                    <a:cubicBezTo>
                      <a:pt x="3133" y="4"/>
                      <a:pt x="3132" y="5"/>
                      <a:pt x="3131" y="5"/>
                    </a:cubicBezTo>
                    <a:lnTo>
                      <a:pt x="3131" y="5"/>
                    </a:lnTo>
                    <a:cubicBezTo>
                      <a:pt x="3130" y="5"/>
                      <a:pt x="3129" y="4"/>
                      <a:pt x="3129" y="3"/>
                    </a:cubicBezTo>
                    <a:cubicBezTo>
                      <a:pt x="3129" y="1"/>
                      <a:pt x="3130" y="1"/>
                      <a:pt x="3131" y="1"/>
                    </a:cubicBezTo>
                    <a:close/>
                    <a:moveTo>
                      <a:pt x="3139" y="1"/>
                    </a:moveTo>
                    <a:lnTo>
                      <a:pt x="3139" y="1"/>
                    </a:lnTo>
                    <a:cubicBezTo>
                      <a:pt x="3140" y="1"/>
                      <a:pt x="3141" y="1"/>
                      <a:pt x="3141" y="3"/>
                    </a:cubicBezTo>
                    <a:cubicBezTo>
                      <a:pt x="3141" y="4"/>
                      <a:pt x="3140" y="5"/>
                      <a:pt x="3139" y="5"/>
                    </a:cubicBezTo>
                    <a:lnTo>
                      <a:pt x="3139" y="5"/>
                    </a:lnTo>
                    <a:cubicBezTo>
                      <a:pt x="3138" y="5"/>
                      <a:pt x="3137" y="4"/>
                      <a:pt x="3137" y="3"/>
                    </a:cubicBezTo>
                    <a:cubicBezTo>
                      <a:pt x="3137" y="1"/>
                      <a:pt x="3138" y="1"/>
                      <a:pt x="3139" y="1"/>
                    </a:cubicBezTo>
                    <a:close/>
                    <a:moveTo>
                      <a:pt x="3147" y="1"/>
                    </a:moveTo>
                    <a:lnTo>
                      <a:pt x="3147" y="1"/>
                    </a:lnTo>
                    <a:cubicBezTo>
                      <a:pt x="3148" y="1"/>
                      <a:pt x="3149" y="1"/>
                      <a:pt x="3149" y="3"/>
                    </a:cubicBezTo>
                    <a:cubicBezTo>
                      <a:pt x="3149" y="4"/>
                      <a:pt x="3148" y="5"/>
                      <a:pt x="3147" y="5"/>
                    </a:cubicBezTo>
                    <a:lnTo>
                      <a:pt x="3147" y="5"/>
                    </a:lnTo>
                    <a:cubicBezTo>
                      <a:pt x="3146" y="5"/>
                      <a:pt x="3145" y="4"/>
                      <a:pt x="3145" y="3"/>
                    </a:cubicBezTo>
                    <a:cubicBezTo>
                      <a:pt x="3145" y="1"/>
                      <a:pt x="3146" y="1"/>
                      <a:pt x="3147" y="1"/>
                    </a:cubicBezTo>
                    <a:close/>
                    <a:moveTo>
                      <a:pt x="3155" y="1"/>
                    </a:moveTo>
                    <a:lnTo>
                      <a:pt x="3155" y="1"/>
                    </a:lnTo>
                    <a:cubicBezTo>
                      <a:pt x="3156" y="1"/>
                      <a:pt x="3157" y="1"/>
                      <a:pt x="3157" y="3"/>
                    </a:cubicBezTo>
                    <a:cubicBezTo>
                      <a:pt x="3157" y="4"/>
                      <a:pt x="3156" y="5"/>
                      <a:pt x="3155" y="5"/>
                    </a:cubicBezTo>
                    <a:lnTo>
                      <a:pt x="3155" y="5"/>
                    </a:lnTo>
                    <a:cubicBezTo>
                      <a:pt x="3154" y="5"/>
                      <a:pt x="3153" y="4"/>
                      <a:pt x="3153" y="3"/>
                    </a:cubicBezTo>
                    <a:cubicBezTo>
                      <a:pt x="3153" y="1"/>
                      <a:pt x="3154" y="1"/>
                      <a:pt x="3155" y="1"/>
                    </a:cubicBezTo>
                    <a:close/>
                    <a:moveTo>
                      <a:pt x="3163" y="1"/>
                    </a:moveTo>
                    <a:lnTo>
                      <a:pt x="3163" y="1"/>
                    </a:lnTo>
                    <a:cubicBezTo>
                      <a:pt x="3164" y="1"/>
                      <a:pt x="3165" y="1"/>
                      <a:pt x="3165" y="3"/>
                    </a:cubicBezTo>
                    <a:cubicBezTo>
                      <a:pt x="3165" y="4"/>
                      <a:pt x="3164" y="5"/>
                      <a:pt x="3163" y="5"/>
                    </a:cubicBezTo>
                    <a:lnTo>
                      <a:pt x="3163" y="5"/>
                    </a:lnTo>
                    <a:cubicBezTo>
                      <a:pt x="3162" y="5"/>
                      <a:pt x="3161" y="4"/>
                      <a:pt x="3161" y="3"/>
                    </a:cubicBezTo>
                    <a:cubicBezTo>
                      <a:pt x="3161" y="1"/>
                      <a:pt x="3162" y="1"/>
                      <a:pt x="3163" y="1"/>
                    </a:cubicBezTo>
                    <a:close/>
                    <a:moveTo>
                      <a:pt x="3171" y="1"/>
                    </a:moveTo>
                    <a:lnTo>
                      <a:pt x="3171" y="1"/>
                    </a:lnTo>
                    <a:cubicBezTo>
                      <a:pt x="3172" y="1"/>
                      <a:pt x="3173" y="1"/>
                      <a:pt x="3173" y="3"/>
                    </a:cubicBezTo>
                    <a:cubicBezTo>
                      <a:pt x="3173" y="4"/>
                      <a:pt x="3172" y="5"/>
                      <a:pt x="3171" y="5"/>
                    </a:cubicBezTo>
                    <a:lnTo>
                      <a:pt x="3171" y="5"/>
                    </a:lnTo>
                    <a:cubicBezTo>
                      <a:pt x="3170" y="5"/>
                      <a:pt x="3169" y="4"/>
                      <a:pt x="3169" y="3"/>
                    </a:cubicBezTo>
                    <a:cubicBezTo>
                      <a:pt x="3169" y="1"/>
                      <a:pt x="3170" y="1"/>
                      <a:pt x="3171" y="1"/>
                    </a:cubicBezTo>
                    <a:close/>
                    <a:moveTo>
                      <a:pt x="3179" y="1"/>
                    </a:moveTo>
                    <a:lnTo>
                      <a:pt x="3179" y="1"/>
                    </a:lnTo>
                    <a:cubicBezTo>
                      <a:pt x="3180" y="1"/>
                      <a:pt x="3181" y="1"/>
                      <a:pt x="3181" y="3"/>
                    </a:cubicBezTo>
                    <a:cubicBezTo>
                      <a:pt x="3181" y="4"/>
                      <a:pt x="3180" y="5"/>
                      <a:pt x="3179" y="5"/>
                    </a:cubicBezTo>
                    <a:lnTo>
                      <a:pt x="3179" y="5"/>
                    </a:lnTo>
                    <a:cubicBezTo>
                      <a:pt x="3178" y="5"/>
                      <a:pt x="3177" y="4"/>
                      <a:pt x="3177" y="3"/>
                    </a:cubicBezTo>
                    <a:cubicBezTo>
                      <a:pt x="3177" y="1"/>
                      <a:pt x="3178" y="1"/>
                      <a:pt x="3179" y="1"/>
                    </a:cubicBezTo>
                    <a:close/>
                    <a:moveTo>
                      <a:pt x="3187" y="1"/>
                    </a:moveTo>
                    <a:lnTo>
                      <a:pt x="3187" y="1"/>
                    </a:lnTo>
                    <a:cubicBezTo>
                      <a:pt x="3188" y="1"/>
                      <a:pt x="3189" y="1"/>
                      <a:pt x="3189" y="3"/>
                    </a:cubicBezTo>
                    <a:cubicBezTo>
                      <a:pt x="3189" y="4"/>
                      <a:pt x="3188" y="5"/>
                      <a:pt x="3187" y="5"/>
                    </a:cubicBezTo>
                    <a:lnTo>
                      <a:pt x="3187" y="5"/>
                    </a:lnTo>
                    <a:cubicBezTo>
                      <a:pt x="3186" y="5"/>
                      <a:pt x="3185" y="4"/>
                      <a:pt x="3185" y="3"/>
                    </a:cubicBezTo>
                    <a:cubicBezTo>
                      <a:pt x="3185" y="1"/>
                      <a:pt x="3186" y="1"/>
                      <a:pt x="3187" y="1"/>
                    </a:cubicBezTo>
                    <a:close/>
                    <a:moveTo>
                      <a:pt x="3195" y="1"/>
                    </a:moveTo>
                    <a:lnTo>
                      <a:pt x="3195" y="1"/>
                    </a:lnTo>
                    <a:cubicBezTo>
                      <a:pt x="3196" y="1"/>
                      <a:pt x="3197" y="1"/>
                      <a:pt x="3197" y="3"/>
                    </a:cubicBezTo>
                    <a:cubicBezTo>
                      <a:pt x="3197" y="4"/>
                      <a:pt x="3196" y="5"/>
                      <a:pt x="3195" y="5"/>
                    </a:cubicBezTo>
                    <a:lnTo>
                      <a:pt x="3195" y="5"/>
                    </a:lnTo>
                    <a:cubicBezTo>
                      <a:pt x="3194" y="5"/>
                      <a:pt x="3193" y="4"/>
                      <a:pt x="3193" y="3"/>
                    </a:cubicBezTo>
                    <a:cubicBezTo>
                      <a:pt x="3193" y="1"/>
                      <a:pt x="3194" y="1"/>
                      <a:pt x="3195" y="1"/>
                    </a:cubicBezTo>
                    <a:close/>
                    <a:moveTo>
                      <a:pt x="3203" y="1"/>
                    </a:moveTo>
                    <a:lnTo>
                      <a:pt x="3203" y="1"/>
                    </a:lnTo>
                    <a:cubicBezTo>
                      <a:pt x="3204" y="1"/>
                      <a:pt x="3205" y="1"/>
                      <a:pt x="3205" y="3"/>
                    </a:cubicBezTo>
                    <a:cubicBezTo>
                      <a:pt x="3205" y="4"/>
                      <a:pt x="3204" y="5"/>
                      <a:pt x="3203" y="5"/>
                    </a:cubicBezTo>
                    <a:lnTo>
                      <a:pt x="3203" y="5"/>
                    </a:lnTo>
                    <a:cubicBezTo>
                      <a:pt x="3202" y="5"/>
                      <a:pt x="3201" y="4"/>
                      <a:pt x="3201" y="3"/>
                    </a:cubicBezTo>
                    <a:cubicBezTo>
                      <a:pt x="3201" y="1"/>
                      <a:pt x="3202" y="1"/>
                      <a:pt x="3203" y="1"/>
                    </a:cubicBezTo>
                    <a:close/>
                    <a:moveTo>
                      <a:pt x="3211" y="1"/>
                    </a:moveTo>
                    <a:lnTo>
                      <a:pt x="3211" y="1"/>
                    </a:lnTo>
                    <a:cubicBezTo>
                      <a:pt x="3212" y="1"/>
                      <a:pt x="3213" y="1"/>
                      <a:pt x="3213" y="3"/>
                    </a:cubicBezTo>
                    <a:cubicBezTo>
                      <a:pt x="3213" y="4"/>
                      <a:pt x="3212" y="5"/>
                      <a:pt x="3211" y="5"/>
                    </a:cubicBezTo>
                    <a:lnTo>
                      <a:pt x="3211" y="5"/>
                    </a:lnTo>
                    <a:cubicBezTo>
                      <a:pt x="3210" y="5"/>
                      <a:pt x="3209" y="4"/>
                      <a:pt x="3209" y="3"/>
                    </a:cubicBezTo>
                    <a:cubicBezTo>
                      <a:pt x="3209" y="1"/>
                      <a:pt x="3210" y="1"/>
                      <a:pt x="3211" y="1"/>
                    </a:cubicBezTo>
                    <a:close/>
                    <a:moveTo>
                      <a:pt x="3219" y="1"/>
                    </a:moveTo>
                    <a:lnTo>
                      <a:pt x="3219" y="1"/>
                    </a:lnTo>
                    <a:cubicBezTo>
                      <a:pt x="3220" y="1"/>
                      <a:pt x="3221" y="1"/>
                      <a:pt x="3221" y="3"/>
                    </a:cubicBezTo>
                    <a:cubicBezTo>
                      <a:pt x="3221" y="4"/>
                      <a:pt x="3220" y="5"/>
                      <a:pt x="3219" y="5"/>
                    </a:cubicBezTo>
                    <a:lnTo>
                      <a:pt x="3219" y="5"/>
                    </a:lnTo>
                    <a:cubicBezTo>
                      <a:pt x="3218" y="5"/>
                      <a:pt x="3217" y="4"/>
                      <a:pt x="3217" y="3"/>
                    </a:cubicBezTo>
                    <a:cubicBezTo>
                      <a:pt x="3217" y="1"/>
                      <a:pt x="3218" y="1"/>
                      <a:pt x="3219" y="1"/>
                    </a:cubicBezTo>
                    <a:close/>
                    <a:moveTo>
                      <a:pt x="3227" y="1"/>
                    </a:moveTo>
                    <a:lnTo>
                      <a:pt x="3227" y="1"/>
                    </a:lnTo>
                    <a:cubicBezTo>
                      <a:pt x="3228" y="1"/>
                      <a:pt x="3229" y="1"/>
                      <a:pt x="3229" y="3"/>
                    </a:cubicBezTo>
                    <a:cubicBezTo>
                      <a:pt x="3229" y="4"/>
                      <a:pt x="3228" y="5"/>
                      <a:pt x="3227" y="5"/>
                    </a:cubicBezTo>
                    <a:lnTo>
                      <a:pt x="3227" y="5"/>
                    </a:lnTo>
                    <a:cubicBezTo>
                      <a:pt x="3226" y="5"/>
                      <a:pt x="3225" y="4"/>
                      <a:pt x="3225" y="3"/>
                    </a:cubicBezTo>
                    <a:cubicBezTo>
                      <a:pt x="3225" y="1"/>
                      <a:pt x="3226" y="1"/>
                      <a:pt x="3227" y="1"/>
                    </a:cubicBezTo>
                    <a:close/>
                    <a:moveTo>
                      <a:pt x="3235" y="1"/>
                    </a:moveTo>
                    <a:lnTo>
                      <a:pt x="3235" y="1"/>
                    </a:lnTo>
                    <a:cubicBezTo>
                      <a:pt x="3236" y="1"/>
                      <a:pt x="3237" y="1"/>
                      <a:pt x="3237" y="3"/>
                    </a:cubicBezTo>
                    <a:cubicBezTo>
                      <a:pt x="3237" y="4"/>
                      <a:pt x="3236" y="5"/>
                      <a:pt x="3235" y="5"/>
                    </a:cubicBezTo>
                    <a:lnTo>
                      <a:pt x="3235" y="5"/>
                    </a:lnTo>
                    <a:cubicBezTo>
                      <a:pt x="3234" y="5"/>
                      <a:pt x="3233" y="4"/>
                      <a:pt x="3233" y="3"/>
                    </a:cubicBezTo>
                    <a:cubicBezTo>
                      <a:pt x="3233" y="1"/>
                      <a:pt x="3234" y="1"/>
                      <a:pt x="3235" y="1"/>
                    </a:cubicBezTo>
                    <a:close/>
                    <a:moveTo>
                      <a:pt x="3243" y="1"/>
                    </a:moveTo>
                    <a:lnTo>
                      <a:pt x="3243" y="1"/>
                    </a:lnTo>
                    <a:cubicBezTo>
                      <a:pt x="3244" y="1"/>
                      <a:pt x="3245" y="1"/>
                      <a:pt x="3245" y="3"/>
                    </a:cubicBezTo>
                    <a:cubicBezTo>
                      <a:pt x="3245" y="4"/>
                      <a:pt x="3244" y="5"/>
                      <a:pt x="3243" y="5"/>
                    </a:cubicBezTo>
                    <a:lnTo>
                      <a:pt x="3243" y="5"/>
                    </a:lnTo>
                    <a:cubicBezTo>
                      <a:pt x="3242" y="5"/>
                      <a:pt x="3241" y="4"/>
                      <a:pt x="3241" y="3"/>
                    </a:cubicBezTo>
                    <a:cubicBezTo>
                      <a:pt x="3241" y="1"/>
                      <a:pt x="3242" y="1"/>
                      <a:pt x="3243" y="1"/>
                    </a:cubicBezTo>
                    <a:close/>
                    <a:moveTo>
                      <a:pt x="3251" y="1"/>
                    </a:moveTo>
                    <a:lnTo>
                      <a:pt x="3251" y="1"/>
                    </a:lnTo>
                    <a:cubicBezTo>
                      <a:pt x="3252" y="1"/>
                      <a:pt x="3253" y="1"/>
                      <a:pt x="3253" y="3"/>
                    </a:cubicBezTo>
                    <a:cubicBezTo>
                      <a:pt x="3253" y="4"/>
                      <a:pt x="3252" y="5"/>
                      <a:pt x="3251" y="5"/>
                    </a:cubicBezTo>
                    <a:lnTo>
                      <a:pt x="3251" y="5"/>
                    </a:lnTo>
                    <a:cubicBezTo>
                      <a:pt x="3250" y="5"/>
                      <a:pt x="3249" y="4"/>
                      <a:pt x="3249" y="3"/>
                    </a:cubicBezTo>
                    <a:cubicBezTo>
                      <a:pt x="3249" y="1"/>
                      <a:pt x="3250" y="1"/>
                      <a:pt x="3251" y="1"/>
                    </a:cubicBezTo>
                    <a:close/>
                    <a:moveTo>
                      <a:pt x="3259" y="1"/>
                    </a:moveTo>
                    <a:lnTo>
                      <a:pt x="3259" y="1"/>
                    </a:lnTo>
                    <a:cubicBezTo>
                      <a:pt x="3261" y="1"/>
                      <a:pt x="3261" y="1"/>
                      <a:pt x="3261" y="3"/>
                    </a:cubicBezTo>
                    <a:cubicBezTo>
                      <a:pt x="3261" y="4"/>
                      <a:pt x="3261" y="5"/>
                      <a:pt x="3259" y="5"/>
                    </a:cubicBezTo>
                    <a:lnTo>
                      <a:pt x="3259" y="5"/>
                    </a:lnTo>
                    <a:cubicBezTo>
                      <a:pt x="3258" y="5"/>
                      <a:pt x="3257" y="4"/>
                      <a:pt x="3257" y="3"/>
                    </a:cubicBezTo>
                    <a:cubicBezTo>
                      <a:pt x="3257" y="1"/>
                      <a:pt x="3258" y="1"/>
                      <a:pt x="3259" y="1"/>
                    </a:cubicBezTo>
                    <a:close/>
                    <a:moveTo>
                      <a:pt x="3267" y="1"/>
                    </a:moveTo>
                    <a:lnTo>
                      <a:pt x="3267" y="1"/>
                    </a:lnTo>
                    <a:cubicBezTo>
                      <a:pt x="3269" y="1"/>
                      <a:pt x="3269" y="1"/>
                      <a:pt x="3269" y="3"/>
                    </a:cubicBezTo>
                    <a:cubicBezTo>
                      <a:pt x="3269" y="4"/>
                      <a:pt x="3269" y="5"/>
                      <a:pt x="3267" y="5"/>
                    </a:cubicBezTo>
                    <a:lnTo>
                      <a:pt x="3267" y="5"/>
                    </a:lnTo>
                    <a:cubicBezTo>
                      <a:pt x="3266" y="5"/>
                      <a:pt x="3265" y="4"/>
                      <a:pt x="3265" y="3"/>
                    </a:cubicBezTo>
                    <a:cubicBezTo>
                      <a:pt x="3265" y="1"/>
                      <a:pt x="3266" y="1"/>
                      <a:pt x="3267" y="1"/>
                    </a:cubicBezTo>
                    <a:close/>
                    <a:moveTo>
                      <a:pt x="3275" y="1"/>
                    </a:moveTo>
                    <a:lnTo>
                      <a:pt x="3275" y="1"/>
                    </a:lnTo>
                    <a:cubicBezTo>
                      <a:pt x="3277" y="1"/>
                      <a:pt x="3277" y="1"/>
                      <a:pt x="3277" y="3"/>
                    </a:cubicBezTo>
                    <a:cubicBezTo>
                      <a:pt x="3277" y="4"/>
                      <a:pt x="3277" y="5"/>
                      <a:pt x="3275" y="5"/>
                    </a:cubicBezTo>
                    <a:lnTo>
                      <a:pt x="3275" y="5"/>
                    </a:lnTo>
                    <a:cubicBezTo>
                      <a:pt x="3274" y="5"/>
                      <a:pt x="3273" y="4"/>
                      <a:pt x="3273" y="3"/>
                    </a:cubicBezTo>
                    <a:cubicBezTo>
                      <a:pt x="3273" y="1"/>
                      <a:pt x="3274" y="1"/>
                      <a:pt x="3275" y="1"/>
                    </a:cubicBezTo>
                    <a:close/>
                    <a:moveTo>
                      <a:pt x="3283" y="1"/>
                    </a:moveTo>
                    <a:lnTo>
                      <a:pt x="3283" y="1"/>
                    </a:lnTo>
                    <a:cubicBezTo>
                      <a:pt x="3285" y="1"/>
                      <a:pt x="3285" y="1"/>
                      <a:pt x="3285" y="3"/>
                    </a:cubicBezTo>
                    <a:cubicBezTo>
                      <a:pt x="3285" y="4"/>
                      <a:pt x="3285" y="5"/>
                      <a:pt x="3283" y="5"/>
                    </a:cubicBezTo>
                    <a:lnTo>
                      <a:pt x="3283" y="5"/>
                    </a:lnTo>
                    <a:cubicBezTo>
                      <a:pt x="3282" y="5"/>
                      <a:pt x="3281" y="4"/>
                      <a:pt x="3281" y="3"/>
                    </a:cubicBezTo>
                    <a:cubicBezTo>
                      <a:pt x="3281" y="1"/>
                      <a:pt x="3282" y="1"/>
                      <a:pt x="3283" y="1"/>
                    </a:cubicBezTo>
                    <a:close/>
                    <a:moveTo>
                      <a:pt x="3291" y="1"/>
                    </a:moveTo>
                    <a:lnTo>
                      <a:pt x="3291" y="1"/>
                    </a:lnTo>
                    <a:cubicBezTo>
                      <a:pt x="3293" y="1"/>
                      <a:pt x="3293" y="1"/>
                      <a:pt x="3293" y="3"/>
                    </a:cubicBezTo>
                    <a:cubicBezTo>
                      <a:pt x="3293" y="4"/>
                      <a:pt x="3293" y="5"/>
                      <a:pt x="3291" y="5"/>
                    </a:cubicBezTo>
                    <a:lnTo>
                      <a:pt x="3291" y="5"/>
                    </a:lnTo>
                    <a:cubicBezTo>
                      <a:pt x="3290" y="5"/>
                      <a:pt x="3289" y="4"/>
                      <a:pt x="3289" y="3"/>
                    </a:cubicBezTo>
                    <a:cubicBezTo>
                      <a:pt x="3289" y="1"/>
                      <a:pt x="3290" y="1"/>
                      <a:pt x="3291" y="1"/>
                    </a:cubicBezTo>
                    <a:close/>
                    <a:moveTo>
                      <a:pt x="3299" y="1"/>
                    </a:moveTo>
                    <a:lnTo>
                      <a:pt x="3299" y="1"/>
                    </a:lnTo>
                    <a:cubicBezTo>
                      <a:pt x="3301" y="1"/>
                      <a:pt x="3301" y="1"/>
                      <a:pt x="3301" y="3"/>
                    </a:cubicBezTo>
                    <a:cubicBezTo>
                      <a:pt x="3301" y="4"/>
                      <a:pt x="3301" y="5"/>
                      <a:pt x="3299" y="5"/>
                    </a:cubicBezTo>
                    <a:lnTo>
                      <a:pt x="3299" y="5"/>
                    </a:lnTo>
                    <a:cubicBezTo>
                      <a:pt x="3298" y="5"/>
                      <a:pt x="3297" y="4"/>
                      <a:pt x="3297" y="3"/>
                    </a:cubicBezTo>
                    <a:cubicBezTo>
                      <a:pt x="3297" y="1"/>
                      <a:pt x="3298" y="1"/>
                      <a:pt x="3299" y="1"/>
                    </a:cubicBezTo>
                    <a:close/>
                    <a:moveTo>
                      <a:pt x="3307" y="1"/>
                    </a:moveTo>
                    <a:lnTo>
                      <a:pt x="3307" y="1"/>
                    </a:lnTo>
                    <a:cubicBezTo>
                      <a:pt x="3309" y="1"/>
                      <a:pt x="3309" y="1"/>
                      <a:pt x="3309" y="3"/>
                    </a:cubicBezTo>
                    <a:cubicBezTo>
                      <a:pt x="3309" y="4"/>
                      <a:pt x="3309" y="5"/>
                      <a:pt x="3307" y="5"/>
                    </a:cubicBezTo>
                    <a:lnTo>
                      <a:pt x="3307" y="5"/>
                    </a:lnTo>
                    <a:cubicBezTo>
                      <a:pt x="3306" y="5"/>
                      <a:pt x="3305" y="4"/>
                      <a:pt x="3305" y="3"/>
                    </a:cubicBezTo>
                    <a:cubicBezTo>
                      <a:pt x="3305" y="1"/>
                      <a:pt x="3306" y="1"/>
                      <a:pt x="3307" y="1"/>
                    </a:cubicBezTo>
                    <a:close/>
                    <a:moveTo>
                      <a:pt x="3315" y="1"/>
                    </a:moveTo>
                    <a:lnTo>
                      <a:pt x="3315" y="1"/>
                    </a:lnTo>
                    <a:cubicBezTo>
                      <a:pt x="3317" y="1"/>
                      <a:pt x="3317" y="1"/>
                      <a:pt x="3317" y="3"/>
                    </a:cubicBezTo>
                    <a:cubicBezTo>
                      <a:pt x="3317" y="4"/>
                      <a:pt x="3317" y="5"/>
                      <a:pt x="3315" y="5"/>
                    </a:cubicBezTo>
                    <a:lnTo>
                      <a:pt x="3315" y="5"/>
                    </a:lnTo>
                    <a:cubicBezTo>
                      <a:pt x="3314" y="5"/>
                      <a:pt x="3313" y="4"/>
                      <a:pt x="3313" y="3"/>
                    </a:cubicBezTo>
                    <a:cubicBezTo>
                      <a:pt x="3313" y="1"/>
                      <a:pt x="3314" y="1"/>
                      <a:pt x="3315" y="1"/>
                    </a:cubicBezTo>
                    <a:close/>
                    <a:moveTo>
                      <a:pt x="3323" y="1"/>
                    </a:moveTo>
                    <a:lnTo>
                      <a:pt x="3323" y="1"/>
                    </a:lnTo>
                    <a:cubicBezTo>
                      <a:pt x="3325" y="1"/>
                      <a:pt x="3325" y="1"/>
                      <a:pt x="3325" y="3"/>
                    </a:cubicBezTo>
                    <a:cubicBezTo>
                      <a:pt x="3325" y="4"/>
                      <a:pt x="3325" y="5"/>
                      <a:pt x="3323" y="5"/>
                    </a:cubicBezTo>
                    <a:lnTo>
                      <a:pt x="3323" y="5"/>
                    </a:lnTo>
                    <a:cubicBezTo>
                      <a:pt x="3322" y="5"/>
                      <a:pt x="3321" y="4"/>
                      <a:pt x="3321" y="3"/>
                    </a:cubicBezTo>
                    <a:cubicBezTo>
                      <a:pt x="3321" y="1"/>
                      <a:pt x="3322" y="1"/>
                      <a:pt x="3323" y="1"/>
                    </a:cubicBezTo>
                    <a:close/>
                    <a:moveTo>
                      <a:pt x="3331" y="1"/>
                    </a:moveTo>
                    <a:lnTo>
                      <a:pt x="3331" y="1"/>
                    </a:lnTo>
                    <a:cubicBezTo>
                      <a:pt x="3333" y="1"/>
                      <a:pt x="3333" y="1"/>
                      <a:pt x="3333" y="3"/>
                    </a:cubicBezTo>
                    <a:cubicBezTo>
                      <a:pt x="3333" y="4"/>
                      <a:pt x="3333" y="5"/>
                      <a:pt x="3331" y="5"/>
                    </a:cubicBezTo>
                    <a:lnTo>
                      <a:pt x="3331" y="5"/>
                    </a:lnTo>
                    <a:cubicBezTo>
                      <a:pt x="3330" y="5"/>
                      <a:pt x="3329" y="4"/>
                      <a:pt x="3329" y="3"/>
                    </a:cubicBezTo>
                    <a:cubicBezTo>
                      <a:pt x="3329" y="1"/>
                      <a:pt x="3330" y="1"/>
                      <a:pt x="3331" y="1"/>
                    </a:cubicBezTo>
                    <a:close/>
                    <a:moveTo>
                      <a:pt x="3339" y="1"/>
                    </a:moveTo>
                    <a:lnTo>
                      <a:pt x="3339" y="1"/>
                    </a:lnTo>
                    <a:cubicBezTo>
                      <a:pt x="3341" y="1"/>
                      <a:pt x="3341" y="1"/>
                      <a:pt x="3341" y="3"/>
                    </a:cubicBezTo>
                    <a:cubicBezTo>
                      <a:pt x="3341" y="4"/>
                      <a:pt x="3341" y="5"/>
                      <a:pt x="3339" y="5"/>
                    </a:cubicBezTo>
                    <a:lnTo>
                      <a:pt x="3339" y="5"/>
                    </a:lnTo>
                    <a:cubicBezTo>
                      <a:pt x="3338" y="5"/>
                      <a:pt x="3337" y="4"/>
                      <a:pt x="3337" y="3"/>
                    </a:cubicBezTo>
                    <a:cubicBezTo>
                      <a:pt x="3337" y="1"/>
                      <a:pt x="3338" y="1"/>
                      <a:pt x="3339" y="1"/>
                    </a:cubicBezTo>
                    <a:close/>
                    <a:moveTo>
                      <a:pt x="3347" y="1"/>
                    </a:moveTo>
                    <a:lnTo>
                      <a:pt x="3347" y="1"/>
                    </a:lnTo>
                    <a:cubicBezTo>
                      <a:pt x="3349" y="1"/>
                      <a:pt x="3349" y="1"/>
                      <a:pt x="3349" y="3"/>
                    </a:cubicBezTo>
                    <a:cubicBezTo>
                      <a:pt x="3349" y="4"/>
                      <a:pt x="3349" y="5"/>
                      <a:pt x="3347" y="5"/>
                    </a:cubicBezTo>
                    <a:lnTo>
                      <a:pt x="3347" y="5"/>
                    </a:lnTo>
                    <a:cubicBezTo>
                      <a:pt x="3346" y="5"/>
                      <a:pt x="3345" y="4"/>
                      <a:pt x="3345" y="3"/>
                    </a:cubicBezTo>
                    <a:cubicBezTo>
                      <a:pt x="3345" y="1"/>
                      <a:pt x="3346" y="1"/>
                      <a:pt x="3347" y="1"/>
                    </a:cubicBezTo>
                    <a:close/>
                    <a:moveTo>
                      <a:pt x="3355" y="1"/>
                    </a:moveTo>
                    <a:lnTo>
                      <a:pt x="3355" y="1"/>
                    </a:lnTo>
                    <a:cubicBezTo>
                      <a:pt x="3357" y="1"/>
                      <a:pt x="3357" y="1"/>
                      <a:pt x="3357" y="3"/>
                    </a:cubicBezTo>
                    <a:cubicBezTo>
                      <a:pt x="3357" y="4"/>
                      <a:pt x="3357" y="5"/>
                      <a:pt x="3355" y="5"/>
                    </a:cubicBezTo>
                    <a:lnTo>
                      <a:pt x="3355" y="5"/>
                    </a:lnTo>
                    <a:cubicBezTo>
                      <a:pt x="3354" y="5"/>
                      <a:pt x="3353" y="4"/>
                      <a:pt x="3353" y="3"/>
                    </a:cubicBezTo>
                    <a:cubicBezTo>
                      <a:pt x="3353" y="1"/>
                      <a:pt x="3354" y="1"/>
                      <a:pt x="3355" y="1"/>
                    </a:cubicBezTo>
                    <a:close/>
                    <a:moveTo>
                      <a:pt x="3363" y="1"/>
                    </a:moveTo>
                    <a:lnTo>
                      <a:pt x="3363" y="1"/>
                    </a:lnTo>
                    <a:cubicBezTo>
                      <a:pt x="3365" y="1"/>
                      <a:pt x="3365" y="1"/>
                      <a:pt x="3365" y="3"/>
                    </a:cubicBezTo>
                    <a:cubicBezTo>
                      <a:pt x="3365" y="4"/>
                      <a:pt x="3365" y="5"/>
                      <a:pt x="3363" y="5"/>
                    </a:cubicBezTo>
                    <a:lnTo>
                      <a:pt x="3363" y="5"/>
                    </a:lnTo>
                    <a:cubicBezTo>
                      <a:pt x="3362" y="5"/>
                      <a:pt x="3361" y="4"/>
                      <a:pt x="3361" y="3"/>
                    </a:cubicBezTo>
                    <a:cubicBezTo>
                      <a:pt x="3361" y="1"/>
                      <a:pt x="3362" y="1"/>
                      <a:pt x="3363" y="1"/>
                    </a:cubicBezTo>
                    <a:close/>
                    <a:moveTo>
                      <a:pt x="3371" y="1"/>
                    </a:moveTo>
                    <a:lnTo>
                      <a:pt x="3371" y="1"/>
                    </a:lnTo>
                    <a:cubicBezTo>
                      <a:pt x="3373" y="1"/>
                      <a:pt x="3373" y="2"/>
                      <a:pt x="3373" y="3"/>
                    </a:cubicBezTo>
                    <a:cubicBezTo>
                      <a:pt x="3373" y="4"/>
                      <a:pt x="3373" y="5"/>
                      <a:pt x="3371" y="5"/>
                    </a:cubicBezTo>
                    <a:lnTo>
                      <a:pt x="3371" y="5"/>
                    </a:lnTo>
                    <a:cubicBezTo>
                      <a:pt x="3370" y="5"/>
                      <a:pt x="3369" y="4"/>
                      <a:pt x="3369" y="3"/>
                    </a:cubicBezTo>
                    <a:cubicBezTo>
                      <a:pt x="3369" y="2"/>
                      <a:pt x="3370" y="1"/>
                      <a:pt x="3371" y="1"/>
                    </a:cubicBezTo>
                    <a:close/>
                    <a:moveTo>
                      <a:pt x="3379" y="1"/>
                    </a:moveTo>
                    <a:lnTo>
                      <a:pt x="3379" y="1"/>
                    </a:lnTo>
                    <a:cubicBezTo>
                      <a:pt x="3381" y="1"/>
                      <a:pt x="3381" y="2"/>
                      <a:pt x="3381" y="3"/>
                    </a:cubicBezTo>
                    <a:cubicBezTo>
                      <a:pt x="3381" y="4"/>
                      <a:pt x="3381" y="5"/>
                      <a:pt x="3379" y="5"/>
                    </a:cubicBezTo>
                    <a:lnTo>
                      <a:pt x="3379" y="5"/>
                    </a:lnTo>
                    <a:cubicBezTo>
                      <a:pt x="3378" y="5"/>
                      <a:pt x="3377" y="4"/>
                      <a:pt x="3377" y="3"/>
                    </a:cubicBezTo>
                    <a:cubicBezTo>
                      <a:pt x="3377" y="2"/>
                      <a:pt x="3378" y="1"/>
                      <a:pt x="3379" y="1"/>
                    </a:cubicBezTo>
                    <a:close/>
                    <a:moveTo>
                      <a:pt x="3387" y="1"/>
                    </a:moveTo>
                    <a:lnTo>
                      <a:pt x="3387" y="1"/>
                    </a:lnTo>
                    <a:cubicBezTo>
                      <a:pt x="3389" y="1"/>
                      <a:pt x="3389" y="2"/>
                      <a:pt x="3389" y="3"/>
                    </a:cubicBezTo>
                    <a:cubicBezTo>
                      <a:pt x="3389" y="4"/>
                      <a:pt x="3389" y="5"/>
                      <a:pt x="3387" y="5"/>
                    </a:cubicBezTo>
                    <a:lnTo>
                      <a:pt x="3387" y="5"/>
                    </a:lnTo>
                    <a:cubicBezTo>
                      <a:pt x="3386" y="5"/>
                      <a:pt x="3385" y="4"/>
                      <a:pt x="3385" y="3"/>
                    </a:cubicBezTo>
                    <a:cubicBezTo>
                      <a:pt x="3385" y="2"/>
                      <a:pt x="3386" y="1"/>
                      <a:pt x="3387" y="1"/>
                    </a:cubicBezTo>
                    <a:close/>
                    <a:moveTo>
                      <a:pt x="3395" y="1"/>
                    </a:moveTo>
                    <a:lnTo>
                      <a:pt x="3395" y="1"/>
                    </a:lnTo>
                    <a:cubicBezTo>
                      <a:pt x="3397" y="1"/>
                      <a:pt x="3397" y="2"/>
                      <a:pt x="3397" y="3"/>
                    </a:cubicBezTo>
                    <a:cubicBezTo>
                      <a:pt x="3397" y="4"/>
                      <a:pt x="3397" y="5"/>
                      <a:pt x="3395" y="5"/>
                    </a:cubicBezTo>
                    <a:lnTo>
                      <a:pt x="3395" y="5"/>
                    </a:lnTo>
                    <a:cubicBezTo>
                      <a:pt x="3394" y="5"/>
                      <a:pt x="3393" y="4"/>
                      <a:pt x="3393" y="3"/>
                    </a:cubicBezTo>
                    <a:cubicBezTo>
                      <a:pt x="3393" y="2"/>
                      <a:pt x="3394" y="1"/>
                      <a:pt x="3395" y="1"/>
                    </a:cubicBezTo>
                    <a:close/>
                    <a:moveTo>
                      <a:pt x="3403" y="1"/>
                    </a:moveTo>
                    <a:lnTo>
                      <a:pt x="3403" y="1"/>
                    </a:lnTo>
                    <a:cubicBezTo>
                      <a:pt x="3405" y="1"/>
                      <a:pt x="3405" y="2"/>
                      <a:pt x="3405" y="3"/>
                    </a:cubicBezTo>
                    <a:cubicBezTo>
                      <a:pt x="3405" y="4"/>
                      <a:pt x="3405" y="5"/>
                      <a:pt x="3403" y="5"/>
                    </a:cubicBezTo>
                    <a:lnTo>
                      <a:pt x="3403" y="5"/>
                    </a:lnTo>
                    <a:cubicBezTo>
                      <a:pt x="3402" y="5"/>
                      <a:pt x="3401" y="4"/>
                      <a:pt x="3401" y="3"/>
                    </a:cubicBezTo>
                    <a:cubicBezTo>
                      <a:pt x="3401" y="2"/>
                      <a:pt x="3402" y="1"/>
                      <a:pt x="3403" y="1"/>
                    </a:cubicBezTo>
                    <a:close/>
                    <a:moveTo>
                      <a:pt x="3411" y="1"/>
                    </a:moveTo>
                    <a:lnTo>
                      <a:pt x="3411" y="1"/>
                    </a:lnTo>
                    <a:cubicBezTo>
                      <a:pt x="3413" y="1"/>
                      <a:pt x="3413" y="2"/>
                      <a:pt x="3413" y="3"/>
                    </a:cubicBezTo>
                    <a:cubicBezTo>
                      <a:pt x="3413" y="4"/>
                      <a:pt x="3413" y="5"/>
                      <a:pt x="3411" y="5"/>
                    </a:cubicBezTo>
                    <a:lnTo>
                      <a:pt x="3411" y="5"/>
                    </a:lnTo>
                    <a:cubicBezTo>
                      <a:pt x="3410" y="5"/>
                      <a:pt x="3409" y="4"/>
                      <a:pt x="3409" y="3"/>
                    </a:cubicBezTo>
                    <a:cubicBezTo>
                      <a:pt x="3409" y="2"/>
                      <a:pt x="3410" y="1"/>
                      <a:pt x="3411" y="1"/>
                    </a:cubicBezTo>
                    <a:close/>
                    <a:moveTo>
                      <a:pt x="3419" y="1"/>
                    </a:moveTo>
                    <a:lnTo>
                      <a:pt x="3419" y="1"/>
                    </a:lnTo>
                    <a:cubicBezTo>
                      <a:pt x="3421" y="1"/>
                      <a:pt x="3421" y="2"/>
                      <a:pt x="3421" y="3"/>
                    </a:cubicBezTo>
                    <a:cubicBezTo>
                      <a:pt x="3421" y="4"/>
                      <a:pt x="3421" y="5"/>
                      <a:pt x="3419" y="5"/>
                    </a:cubicBezTo>
                    <a:lnTo>
                      <a:pt x="3419" y="5"/>
                    </a:lnTo>
                    <a:cubicBezTo>
                      <a:pt x="3418" y="5"/>
                      <a:pt x="3417" y="4"/>
                      <a:pt x="3417" y="3"/>
                    </a:cubicBezTo>
                    <a:cubicBezTo>
                      <a:pt x="3417" y="2"/>
                      <a:pt x="3418" y="1"/>
                      <a:pt x="3419" y="1"/>
                    </a:cubicBezTo>
                    <a:close/>
                    <a:moveTo>
                      <a:pt x="3427" y="1"/>
                    </a:moveTo>
                    <a:lnTo>
                      <a:pt x="3427" y="1"/>
                    </a:lnTo>
                    <a:cubicBezTo>
                      <a:pt x="3429" y="1"/>
                      <a:pt x="3429" y="2"/>
                      <a:pt x="3429" y="3"/>
                    </a:cubicBezTo>
                    <a:cubicBezTo>
                      <a:pt x="3429" y="4"/>
                      <a:pt x="3429" y="5"/>
                      <a:pt x="3427" y="5"/>
                    </a:cubicBezTo>
                    <a:lnTo>
                      <a:pt x="3427" y="5"/>
                    </a:lnTo>
                    <a:cubicBezTo>
                      <a:pt x="3426" y="5"/>
                      <a:pt x="3425" y="4"/>
                      <a:pt x="3425" y="3"/>
                    </a:cubicBezTo>
                    <a:cubicBezTo>
                      <a:pt x="3425" y="2"/>
                      <a:pt x="3426" y="1"/>
                      <a:pt x="3427" y="1"/>
                    </a:cubicBezTo>
                    <a:close/>
                    <a:moveTo>
                      <a:pt x="3435" y="1"/>
                    </a:moveTo>
                    <a:lnTo>
                      <a:pt x="3435" y="1"/>
                    </a:lnTo>
                    <a:cubicBezTo>
                      <a:pt x="3437" y="1"/>
                      <a:pt x="3437" y="2"/>
                      <a:pt x="3437" y="3"/>
                    </a:cubicBezTo>
                    <a:cubicBezTo>
                      <a:pt x="3437" y="4"/>
                      <a:pt x="3437" y="5"/>
                      <a:pt x="3435" y="5"/>
                    </a:cubicBezTo>
                    <a:lnTo>
                      <a:pt x="3435" y="5"/>
                    </a:lnTo>
                    <a:cubicBezTo>
                      <a:pt x="3434" y="5"/>
                      <a:pt x="3433" y="4"/>
                      <a:pt x="3433" y="3"/>
                    </a:cubicBezTo>
                    <a:cubicBezTo>
                      <a:pt x="3433" y="2"/>
                      <a:pt x="3434" y="1"/>
                      <a:pt x="3435" y="1"/>
                    </a:cubicBezTo>
                    <a:close/>
                    <a:moveTo>
                      <a:pt x="3443" y="1"/>
                    </a:moveTo>
                    <a:lnTo>
                      <a:pt x="3443" y="1"/>
                    </a:lnTo>
                    <a:cubicBezTo>
                      <a:pt x="3445" y="1"/>
                      <a:pt x="3445" y="2"/>
                      <a:pt x="3445" y="3"/>
                    </a:cubicBezTo>
                    <a:cubicBezTo>
                      <a:pt x="3445" y="4"/>
                      <a:pt x="3445" y="5"/>
                      <a:pt x="3443" y="5"/>
                    </a:cubicBezTo>
                    <a:lnTo>
                      <a:pt x="3443" y="5"/>
                    </a:lnTo>
                    <a:cubicBezTo>
                      <a:pt x="3442" y="5"/>
                      <a:pt x="3441" y="4"/>
                      <a:pt x="3441" y="3"/>
                    </a:cubicBezTo>
                    <a:cubicBezTo>
                      <a:pt x="3441" y="2"/>
                      <a:pt x="3442" y="1"/>
                      <a:pt x="3443" y="1"/>
                    </a:cubicBezTo>
                    <a:close/>
                    <a:moveTo>
                      <a:pt x="3451" y="1"/>
                    </a:moveTo>
                    <a:lnTo>
                      <a:pt x="3451" y="1"/>
                    </a:lnTo>
                    <a:cubicBezTo>
                      <a:pt x="3453" y="1"/>
                      <a:pt x="3453" y="2"/>
                      <a:pt x="3453" y="3"/>
                    </a:cubicBezTo>
                    <a:cubicBezTo>
                      <a:pt x="3453" y="4"/>
                      <a:pt x="3453" y="5"/>
                      <a:pt x="3451" y="5"/>
                    </a:cubicBezTo>
                    <a:lnTo>
                      <a:pt x="3451" y="5"/>
                    </a:lnTo>
                    <a:cubicBezTo>
                      <a:pt x="3450" y="5"/>
                      <a:pt x="3449" y="4"/>
                      <a:pt x="3449" y="3"/>
                    </a:cubicBezTo>
                    <a:cubicBezTo>
                      <a:pt x="3449" y="2"/>
                      <a:pt x="3450" y="1"/>
                      <a:pt x="3451" y="1"/>
                    </a:cubicBezTo>
                    <a:close/>
                    <a:moveTo>
                      <a:pt x="3459" y="1"/>
                    </a:moveTo>
                    <a:lnTo>
                      <a:pt x="3459" y="1"/>
                    </a:lnTo>
                    <a:cubicBezTo>
                      <a:pt x="3461" y="1"/>
                      <a:pt x="3461" y="2"/>
                      <a:pt x="3461" y="3"/>
                    </a:cubicBezTo>
                    <a:cubicBezTo>
                      <a:pt x="3461" y="4"/>
                      <a:pt x="3461" y="5"/>
                      <a:pt x="3459" y="5"/>
                    </a:cubicBezTo>
                    <a:lnTo>
                      <a:pt x="3459" y="5"/>
                    </a:lnTo>
                    <a:cubicBezTo>
                      <a:pt x="3458" y="5"/>
                      <a:pt x="3457" y="4"/>
                      <a:pt x="3457" y="3"/>
                    </a:cubicBezTo>
                    <a:cubicBezTo>
                      <a:pt x="3457" y="2"/>
                      <a:pt x="3458" y="1"/>
                      <a:pt x="3459" y="1"/>
                    </a:cubicBezTo>
                    <a:close/>
                    <a:moveTo>
                      <a:pt x="3467" y="1"/>
                    </a:moveTo>
                    <a:lnTo>
                      <a:pt x="3467" y="1"/>
                    </a:lnTo>
                    <a:cubicBezTo>
                      <a:pt x="3469" y="1"/>
                      <a:pt x="3469" y="2"/>
                      <a:pt x="3469" y="3"/>
                    </a:cubicBezTo>
                    <a:cubicBezTo>
                      <a:pt x="3469" y="4"/>
                      <a:pt x="3469" y="5"/>
                      <a:pt x="3467" y="5"/>
                    </a:cubicBezTo>
                    <a:lnTo>
                      <a:pt x="3467" y="5"/>
                    </a:lnTo>
                    <a:cubicBezTo>
                      <a:pt x="3466" y="5"/>
                      <a:pt x="3465" y="4"/>
                      <a:pt x="3465" y="3"/>
                    </a:cubicBezTo>
                    <a:cubicBezTo>
                      <a:pt x="3465" y="2"/>
                      <a:pt x="3466" y="1"/>
                      <a:pt x="3467" y="1"/>
                    </a:cubicBezTo>
                    <a:close/>
                    <a:moveTo>
                      <a:pt x="3475" y="1"/>
                    </a:moveTo>
                    <a:lnTo>
                      <a:pt x="3476" y="1"/>
                    </a:lnTo>
                    <a:cubicBezTo>
                      <a:pt x="3477" y="1"/>
                      <a:pt x="3478" y="2"/>
                      <a:pt x="3478" y="3"/>
                    </a:cubicBezTo>
                    <a:cubicBezTo>
                      <a:pt x="3478" y="4"/>
                      <a:pt x="3477" y="5"/>
                      <a:pt x="3476" y="5"/>
                    </a:cubicBezTo>
                    <a:lnTo>
                      <a:pt x="3475" y="5"/>
                    </a:lnTo>
                    <a:cubicBezTo>
                      <a:pt x="3474" y="5"/>
                      <a:pt x="3473" y="4"/>
                      <a:pt x="3473" y="3"/>
                    </a:cubicBezTo>
                    <a:cubicBezTo>
                      <a:pt x="3473" y="2"/>
                      <a:pt x="3474" y="1"/>
                      <a:pt x="3475" y="1"/>
                    </a:cubicBezTo>
                    <a:close/>
                    <a:moveTo>
                      <a:pt x="3484" y="1"/>
                    </a:moveTo>
                    <a:lnTo>
                      <a:pt x="3484" y="1"/>
                    </a:lnTo>
                    <a:cubicBezTo>
                      <a:pt x="3485" y="1"/>
                      <a:pt x="3486" y="2"/>
                      <a:pt x="3486" y="3"/>
                    </a:cubicBezTo>
                    <a:cubicBezTo>
                      <a:pt x="3486" y="4"/>
                      <a:pt x="3485" y="5"/>
                      <a:pt x="3484" y="5"/>
                    </a:cubicBezTo>
                    <a:lnTo>
                      <a:pt x="3484" y="5"/>
                    </a:lnTo>
                    <a:cubicBezTo>
                      <a:pt x="3482" y="5"/>
                      <a:pt x="3482" y="4"/>
                      <a:pt x="3482" y="3"/>
                    </a:cubicBezTo>
                    <a:cubicBezTo>
                      <a:pt x="3482" y="2"/>
                      <a:pt x="3482" y="1"/>
                      <a:pt x="3484" y="1"/>
                    </a:cubicBezTo>
                    <a:close/>
                    <a:moveTo>
                      <a:pt x="3492" y="1"/>
                    </a:moveTo>
                    <a:lnTo>
                      <a:pt x="3492" y="1"/>
                    </a:lnTo>
                    <a:cubicBezTo>
                      <a:pt x="3493" y="1"/>
                      <a:pt x="3494" y="2"/>
                      <a:pt x="3494" y="3"/>
                    </a:cubicBezTo>
                    <a:cubicBezTo>
                      <a:pt x="3494" y="4"/>
                      <a:pt x="3493" y="5"/>
                      <a:pt x="3492" y="5"/>
                    </a:cubicBezTo>
                    <a:lnTo>
                      <a:pt x="3492" y="5"/>
                    </a:lnTo>
                    <a:cubicBezTo>
                      <a:pt x="3490" y="5"/>
                      <a:pt x="3490" y="4"/>
                      <a:pt x="3490" y="3"/>
                    </a:cubicBezTo>
                    <a:cubicBezTo>
                      <a:pt x="3490" y="2"/>
                      <a:pt x="3490" y="1"/>
                      <a:pt x="3492" y="1"/>
                    </a:cubicBezTo>
                    <a:close/>
                    <a:moveTo>
                      <a:pt x="3500" y="1"/>
                    </a:moveTo>
                    <a:lnTo>
                      <a:pt x="3500" y="1"/>
                    </a:lnTo>
                    <a:cubicBezTo>
                      <a:pt x="3501" y="1"/>
                      <a:pt x="3502" y="2"/>
                      <a:pt x="3502" y="3"/>
                    </a:cubicBezTo>
                    <a:cubicBezTo>
                      <a:pt x="3502" y="4"/>
                      <a:pt x="3501" y="5"/>
                      <a:pt x="3500" y="5"/>
                    </a:cubicBezTo>
                    <a:lnTo>
                      <a:pt x="3500" y="5"/>
                    </a:lnTo>
                    <a:cubicBezTo>
                      <a:pt x="3498" y="5"/>
                      <a:pt x="3498" y="4"/>
                      <a:pt x="3498" y="3"/>
                    </a:cubicBezTo>
                    <a:cubicBezTo>
                      <a:pt x="3498" y="2"/>
                      <a:pt x="3498" y="1"/>
                      <a:pt x="3500" y="1"/>
                    </a:cubicBezTo>
                    <a:close/>
                    <a:moveTo>
                      <a:pt x="3508" y="1"/>
                    </a:moveTo>
                    <a:lnTo>
                      <a:pt x="3508" y="1"/>
                    </a:lnTo>
                    <a:cubicBezTo>
                      <a:pt x="3509" y="1"/>
                      <a:pt x="3510" y="2"/>
                      <a:pt x="3510" y="3"/>
                    </a:cubicBezTo>
                    <a:cubicBezTo>
                      <a:pt x="3510" y="4"/>
                      <a:pt x="3509" y="5"/>
                      <a:pt x="3508" y="5"/>
                    </a:cubicBezTo>
                    <a:lnTo>
                      <a:pt x="3508" y="5"/>
                    </a:lnTo>
                    <a:cubicBezTo>
                      <a:pt x="3506" y="5"/>
                      <a:pt x="3506" y="4"/>
                      <a:pt x="3506" y="3"/>
                    </a:cubicBezTo>
                    <a:cubicBezTo>
                      <a:pt x="3506" y="2"/>
                      <a:pt x="3506" y="1"/>
                      <a:pt x="3508" y="1"/>
                    </a:cubicBezTo>
                    <a:close/>
                    <a:moveTo>
                      <a:pt x="3516" y="1"/>
                    </a:moveTo>
                    <a:lnTo>
                      <a:pt x="3516" y="1"/>
                    </a:lnTo>
                    <a:cubicBezTo>
                      <a:pt x="3517" y="1"/>
                      <a:pt x="3518" y="2"/>
                      <a:pt x="3518" y="3"/>
                    </a:cubicBezTo>
                    <a:cubicBezTo>
                      <a:pt x="3518" y="4"/>
                      <a:pt x="3517" y="5"/>
                      <a:pt x="3516" y="5"/>
                    </a:cubicBezTo>
                    <a:lnTo>
                      <a:pt x="3516" y="5"/>
                    </a:lnTo>
                    <a:cubicBezTo>
                      <a:pt x="3514" y="5"/>
                      <a:pt x="3514" y="4"/>
                      <a:pt x="3514" y="3"/>
                    </a:cubicBezTo>
                    <a:cubicBezTo>
                      <a:pt x="3514" y="2"/>
                      <a:pt x="3514" y="1"/>
                      <a:pt x="3516" y="1"/>
                    </a:cubicBezTo>
                    <a:close/>
                    <a:moveTo>
                      <a:pt x="3524" y="1"/>
                    </a:moveTo>
                    <a:lnTo>
                      <a:pt x="3524" y="1"/>
                    </a:lnTo>
                    <a:cubicBezTo>
                      <a:pt x="3525" y="1"/>
                      <a:pt x="3526" y="2"/>
                      <a:pt x="3526" y="3"/>
                    </a:cubicBezTo>
                    <a:cubicBezTo>
                      <a:pt x="3526" y="4"/>
                      <a:pt x="3525" y="5"/>
                      <a:pt x="3524" y="5"/>
                    </a:cubicBezTo>
                    <a:lnTo>
                      <a:pt x="3524" y="5"/>
                    </a:lnTo>
                    <a:cubicBezTo>
                      <a:pt x="3522" y="5"/>
                      <a:pt x="3522" y="4"/>
                      <a:pt x="3522" y="3"/>
                    </a:cubicBezTo>
                    <a:cubicBezTo>
                      <a:pt x="3522" y="2"/>
                      <a:pt x="3522" y="1"/>
                      <a:pt x="3524" y="1"/>
                    </a:cubicBezTo>
                    <a:close/>
                    <a:moveTo>
                      <a:pt x="3532" y="1"/>
                    </a:moveTo>
                    <a:lnTo>
                      <a:pt x="3532" y="1"/>
                    </a:lnTo>
                    <a:cubicBezTo>
                      <a:pt x="3533" y="1"/>
                      <a:pt x="3534" y="2"/>
                      <a:pt x="3534" y="3"/>
                    </a:cubicBezTo>
                    <a:cubicBezTo>
                      <a:pt x="3534" y="4"/>
                      <a:pt x="3533" y="5"/>
                      <a:pt x="3532" y="5"/>
                    </a:cubicBezTo>
                    <a:lnTo>
                      <a:pt x="3532" y="5"/>
                    </a:lnTo>
                    <a:cubicBezTo>
                      <a:pt x="3530" y="5"/>
                      <a:pt x="3530" y="4"/>
                      <a:pt x="3530" y="3"/>
                    </a:cubicBezTo>
                    <a:cubicBezTo>
                      <a:pt x="3530" y="2"/>
                      <a:pt x="3530" y="1"/>
                      <a:pt x="3532" y="1"/>
                    </a:cubicBezTo>
                    <a:close/>
                    <a:moveTo>
                      <a:pt x="3540" y="1"/>
                    </a:moveTo>
                    <a:lnTo>
                      <a:pt x="3540" y="1"/>
                    </a:lnTo>
                    <a:cubicBezTo>
                      <a:pt x="3541" y="1"/>
                      <a:pt x="3542" y="2"/>
                      <a:pt x="3542" y="3"/>
                    </a:cubicBezTo>
                    <a:cubicBezTo>
                      <a:pt x="3542" y="4"/>
                      <a:pt x="3541" y="5"/>
                      <a:pt x="3540" y="5"/>
                    </a:cubicBezTo>
                    <a:lnTo>
                      <a:pt x="3540" y="5"/>
                    </a:lnTo>
                    <a:cubicBezTo>
                      <a:pt x="3538" y="5"/>
                      <a:pt x="3538" y="4"/>
                      <a:pt x="3538" y="3"/>
                    </a:cubicBezTo>
                    <a:cubicBezTo>
                      <a:pt x="3538" y="2"/>
                      <a:pt x="3538" y="1"/>
                      <a:pt x="3540" y="1"/>
                    </a:cubicBezTo>
                    <a:close/>
                    <a:moveTo>
                      <a:pt x="3548" y="1"/>
                    </a:moveTo>
                    <a:lnTo>
                      <a:pt x="3548" y="1"/>
                    </a:lnTo>
                    <a:cubicBezTo>
                      <a:pt x="3549" y="1"/>
                      <a:pt x="3550" y="2"/>
                      <a:pt x="3550" y="3"/>
                    </a:cubicBezTo>
                    <a:cubicBezTo>
                      <a:pt x="3550" y="4"/>
                      <a:pt x="3549" y="5"/>
                      <a:pt x="3548" y="5"/>
                    </a:cubicBezTo>
                    <a:lnTo>
                      <a:pt x="3548" y="5"/>
                    </a:lnTo>
                    <a:cubicBezTo>
                      <a:pt x="3546" y="5"/>
                      <a:pt x="3546" y="4"/>
                      <a:pt x="3546" y="3"/>
                    </a:cubicBezTo>
                    <a:cubicBezTo>
                      <a:pt x="3546" y="2"/>
                      <a:pt x="3546" y="1"/>
                      <a:pt x="3548" y="1"/>
                    </a:cubicBezTo>
                    <a:close/>
                    <a:moveTo>
                      <a:pt x="3556" y="1"/>
                    </a:moveTo>
                    <a:lnTo>
                      <a:pt x="3556" y="1"/>
                    </a:lnTo>
                    <a:cubicBezTo>
                      <a:pt x="3557" y="1"/>
                      <a:pt x="3558" y="2"/>
                      <a:pt x="3558" y="3"/>
                    </a:cubicBezTo>
                    <a:cubicBezTo>
                      <a:pt x="3558" y="4"/>
                      <a:pt x="3557" y="5"/>
                      <a:pt x="3556" y="5"/>
                    </a:cubicBezTo>
                    <a:lnTo>
                      <a:pt x="3556" y="5"/>
                    </a:lnTo>
                    <a:cubicBezTo>
                      <a:pt x="3554" y="5"/>
                      <a:pt x="3554" y="4"/>
                      <a:pt x="3554" y="3"/>
                    </a:cubicBezTo>
                    <a:cubicBezTo>
                      <a:pt x="3554" y="2"/>
                      <a:pt x="3554" y="1"/>
                      <a:pt x="3556" y="1"/>
                    </a:cubicBezTo>
                    <a:close/>
                    <a:moveTo>
                      <a:pt x="3564" y="1"/>
                    </a:moveTo>
                    <a:lnTo>
                      <a:pt x="3564" y="1"/>
                    </a:lnTo>
                    <a:cubicBezTo>
                      <a:pt x="3565" y="1"/>
                      <a:pt x="3566" y="2"/>
                      <a:pt x="3566" y="3"/>
                    </a:cubicBezTo>
                    <a:cubicBezTo>
                      <a:pt x="3566" y="4"/>
                      <a:pt x="3565" y="5"/>
                      <a:pt x="3564" y="5"/>
                    </a:cubicBezTo>
                    <a:lnTo>
                      <a:pt x="3564" y="5"/>
                    </a:lnTo>
                    <a:cubicBezTo>
                      <a:pt x="3562" y="5"/>
                      <a:pt x="3562" y="4"/>
                      <a:pt x="3562" y="3"/>
                    </a:cubicBezTo>
                    <a:cubicBezTo>
                      <a:pt x="3562" y="2"/>
                      <a:pt x="3562" y="1"/>
                      <a:pt x="3564" y="1"/>
                    </a:cubicBezTo>
                    <a:close/>
                    <a:moveTo>
                      <a:pt x="3572" y="1"/>
                    </a:moveTo>
                    <a:lnTo>
                      <a:pt x="3572" y="1"/>
                    </a:lnTo>
                    <a:cubicBezTo>
                      <a:pt x="3573" y="1"/>
                      <a:pt x="3574" y="2"/>
                      <a:pt x="3574" y="3"/>
                    </a:cubicBezTo>
                    <a:cubicBezTo>
                      <a:pt x="3574" y="4"/>
                      <a:pt x="3573" y="5"/>
                      <a:pt x="3572" y="5"/>
                    </a:cubicBezTo>
                    <a:lnTo>
                      <a:pt x="3572" y="5"/>
                    </a:lnTo>
                    <a:cubicBezTo>
                      <a:pt x="3570" y="5"/>
                      <a:pt x="3570" y="4"/>
                      <a:pt x="3570" y="3"/>
                    </a:cubicBezTo>
                    <a:cubicBezTo>
                      <a:pt x="3570" y="2"/>
                      <a:pt x="3570" y="1"/>
                      <a:pt x="3572" y="1"/>
                    </a:cubicBezTo>
                    <a:close/>
                    <a:moveTo>
                      <a:pt x="3580" y="1"/>
                    </a:moveTo>
                    <a:lnTo>
                      <a:pt x="3580" y="1"/>
                    </a:lnTo>
                    <a:cubicBezTo>
                      <a:pt x="3581" y="1"/>
                      <a:pt x="3582" y="2"/>
                      <a:pt x="3582" y="3"/>
                    </a:cubicBezTo>
                    <a:cubicBezTo>
                      <a:pt x="3582" y="4"/>
                      <a:pt x="3581" y="5"/>
                      <a:pt x="3580" y="5"/>
                    </a:cubicBezTo>
                    <a:lnTo>
                      <a:pt x="3580" y="5"/>
                    </a:lnTo>
                    <a:cubicBezTo>
                      <a:pt x="3578" y="5"/>
                      <a:pt x="3578" y="4"/>
                      <a:pt x="3578" y="3"/>
                    </a:cubicBezTo>
                    <a:cubicBezTo>
                      <a:pt x="3578" y="2"/>
                      <a:pt x="3578" y="1"/>
                      <a:pt x="3580" y="1"/>
                    </a:cubicBezTo>
                    <a:close/>
                    <a:moveTo>
                      <a:pt x="3588" y="1"/>
                    </a:moveTo>
                    <a:lnTo>
                      <a:pt x="3588" y="1"/>
                    </a:lnTo>
                    <a:cubicBezTo>
                      <a:pt x="3589" y="1"/>
                      <a:pt x="3590" y="2"/>
                      <a:pt x="3590" y="3"/>
                    </a:cubicBezTo>
                    <a:cubicBezTo>
                      <a:pt x="3590" y="4"/>
                      <a:pt x="3589" y="5"/>
                      <a:pt x="3588" y="5"/>
                    </a:cubicBezTo>
                    <a:lnTo>
                      <a:pt x="3588" y="5"/>
                    </a:lnTo>
                    <a:cubicBezTo>
                      <a:pt x="3586" y="5"/>
                      <a:pt x="3586" y="4"/>
                      <a:pt x="3586" y="3"/>
                    </a:cubicBezTo>
                    <a:cubicBezTo>
                      <a:pt x="3586" y="2"/>
                      <a:pt x="3586" y="1"/>
                      <a:pt x="3588" y="1"/>
                    </a:cubicBezTo>
                    <a:close/>
                    <a:moveTo>
                      <a:pt x="3596" y="1"/>
                    </a:moveTo>
                    <a:lnTo>
                      <a:pt x="3596" y="1"/>
                    </a:lnTo>
                    <a:cubicBezTo>
                      <a:pt x="3597" y="1"/>
                      <a:pt x="3598" y="2"/>
                      <a:pt x="3598" y="3"/>
                    </a:cubicBezTo>
                    <a:cubicBezTo>
                      <a:pt x="3598" y="4"/>
                      <a:pt x="3597" y="5"/>
                      <a:pt x="3596" y="5"/>
                    </a:cubicBezTo>
                    <a:lnTo>
                      <a:pt x="3596" y="5"/>
                    </a:lnTo>
                    <a:cubicBezTo>
                      <a:pt x="3594" y="5"/>
                      <a:pt x="3594" y="4"/>
                      <a:pt x="3594" y="3"/>
                    </a:cubicBezTo>
                    <a:cubicBezTo>
                      <a:pt x="3594" y="2"/>
                      <a:pt x="3594" y="1"/>
                      <a:pt x="3596" y="1"/>
                    </a:cubicBezTo>
                    <a:close/>
                    <a:moveTo>
                      <a:pt x="3604" y="1"/>
                    </a:moveTo>
                    <a:lnTo>
                      <a:pt x="3604" y="1"/>
                    </a:lnTo>
                    <a:cubicBezTo>
                      <a:pt x="3605" y="1"/>
                      <a:pt x="3606" y="2"/>
                      <a:pt x="3606" y="3"/>
                    </a:cubicBezTo>
                    <a:cubicBezTo>
                      <a:pt x="3606" y="4"/>
                      <a:pt x="3605" y="5"/>
                      <a:pt x="3604" y="5"/>
                    </a:cubicBezTo>
                    <a:lnTo>
                      <a:pt x="3604" y="5"/>
                    </a:lnTo>
                    <a:cubicBezTo>
                      <a:pt x="3602" y="5"/>
                      <a:pt x="3602" y="4"/>
                      <a:pt x="3602" y="3"/>
                    </a:cubicBezTo>
                    <a:cubicBezTo>
                      <a:pt x="3602" y="2"/>
                      <a:pt x="3602" y="1"/>
                      <a:pt x="3604" y="1"/>
                    </a:cubicBezTo>
                    <a:close/>
                    <a:moveTo>
                      <a:pt x="3612" y="1"/>
                    </a:moveTo>
                    <a:lnTo>
                      <a:pt x="3612" y="1"/>
                    </a:lnTo>
                    <a:cubicBezTo>
                      <a:pt x="3613" y="1"/>
                      <a:pt x="3614" y="2"/>
                      <a:pt x="3614" y="3"/>
                    </a:cubicBezTo>
                    <a:cubicBezTo>
                      <a:pt x="3614" y="4"/>
                      <a:pt x="3613" y="5"/>
                      <a:pt x="3612" y="5"/>
                    </a:cubicBezTo>
                    <a:lnTo>
                      <a:pt x="3612" y="5"/>
                    </a:lnTo>
                    <a:cubicBezTo>
                      <a:pt x="3610" y="5"/>
                      <a:pt x="3610" y="4"/>
                      <a:pt x="3610" y="3"/>
                    </a:cubicBezTo>
                    <a:cubicBezTo>
                      <a:pt x="3610" y="2"/>
                      <a:pt x="3610" y="1"/>
                      <a:pt x="3612" y="1"/>
                    </a:cubicBezTo>
                    <a:close/>
                    <a:moveTo>
                      <a:pt x="3620" y="1"/>
                    </a:moveTo>
                    <a:lnTo>
                      <a:pt x="3620" y="1"/>
                    </a:lnTo>
                    <a:cubicBezTo>
                      <a:pt x="3621" y="1"/>
                      <a:pt x="3622" y="2"/>
                      <a:pt x="3622" y="3"/>
                    </a:cubicBezTo>
                    <a:cubicBezTo>
                      <a:pt x="3622" y="4"/>
                      <a:pt x="3621" y="5"/>
                      <a:pt x="3620" y="5"/>
                    </a:cubicBezTo>
                    <a:lnTo>
                      <a:pt x="3620" y="5"/>
                    </a:lnTo>
                    <a:cubicBezTo>
                      <a:pt x="3618" y="5"/>
                      <a:pt x="3618" y="4"/>
                      <a:pt x="3618" y="3"/>
                    </a:cubicBezTo>
                    <a:cubicBezTo>
                      <a:pt x="3618" y="2"/>
                      <a:pt x="3618" y="1"/>
                      <a:pt x="3620" y="1"/>
                    </a:cubicBezTo>
                    <a:close/>
                    <a:moveTo>
                      <a:pt x="3628" y="1"/>
                    </a:moveTo>
                    <a:lnTo>
                      <a:pt x="3628" y="1"/>
                    </a:lnTo>
                    <a:cubicBezTo>
                      <a:pt x="3629" y="1"/>
                      <a:pt x="3630" y="2"/>
                      <a:pt x="3630" y="3"/>
                    </a:cubicBezTo>
                    <a:cubicBezTo>
                      <a:pt x="3630" y="4"/>
                      <a:pt x="3629" y="5"/>
                      <a:pt x="3628" y="5"/>
                    </a:cubicBezTo>
                    <a:lnTo>
                      <a:pt x="3628" y="5"/>
                    </a:lnTo>
                    <a:cubicBezTo>
                      <a:pt x="3626" y="5"/>
                      <a:pt x="3626" y="4"/>
                      <a:pt x="3626" y="3"/>
                    </a:cubicBezTo>
                    <a:cubicBezTo>
                      <a:pt x="3626" y="2"/>
                      <a:pt x="3626" y="1"/>
                      <a:pt x="3628" y="1"/>
                    </a:cubicBezTo>
                    <a:close/>
                    <a:moveTo>
                      <a:pt x="3636" y="1"/>
                    </a:moveTo>
                    <a:lnTo>
                      <a:pt x="3636" y="1"/>
                    </a:lnTo>
                    <a:cubicBezTo>
                      <a:pt x="3637" y="1"/>
                      <a:pt x="3638" y="2"/>
                      <a:pt x="3638" y="3"/>
                    </a:cubicBezTo>
                    <a:cubicBezTo>
                      <a:pt x="3638" y="4"/>
                      <a:pt x="3637" y="5"/>
                      <a:pt x="3636" y="5"/>
                    </a:cubicBezTo>
                    <a:lnTo>
                      <a:pt x="3636" y="5"/>
                    </a:lnTo>
                    <a:cubicBezTo>
                      <a:pt x="3634" y="5"/>
                      <a:pt x="3634" y="4"/>
                      <a:pt x="3634" y="3"/>
                    </a:cubicBezTo>
                    <a:cubicBezTo>
                      <a:pt x="3634" y="2"/>
                      <a:pt x="3634" y="1"/>
                      <a:pt x="3636" y="1"/>
                    </a:cubicBezTo>
                    <a:close/>
                    <a:moveTo>
                      <a:pt x="3644" y="1"/>
                    </a:moveTo>
                    <a:lnTo>
                      <a:pt x="3644" y="1"/>
                    </a:lnTo>
                    <a:cubicBezTo>
                      <a:pt x="3645" y="1"/>
                      <a:pt x="3646" y="2"/>
                      <a:pt x="3646" y="3"/>
                    </a:cubicBezTo>
                    <a:cubicBezTo>
                      <a:pt x="3646" y="4"/>
                      <a:pt x="3645" y="5"/>
                      <a:pt x="3644" y="5"/>
                    </a:cubicBezTo>
                    <a:lnTo>
                      <a:pt x="3644" y="5"/>
                    </a:lnTo>
                    <a:cubicBezTo>
                      <a:pt x="3642" y="5"/>
                      <a:pt x="3642" y="4"/>
                      <a:pt x="3642" y="3"/>
                    </a:cubicBezTo>
                    <a:cubicBezTo>
                      <a:pt x="3642" y="2"/>
                      <a:pt x="3642" y="1"/>
                      <a:pt x="3644" y="1"/>
                    </a:cubicBezTo>
                    <a:close/>
                    <a:moveTo>
                      <a:pt x="3652" y="1"/>
                    </a:moveTo>
                    <a:lnTo>
                      <a:pt x="3652" y="1"/>
                    </a:lnTo>
                    <a:cubicBezTo>
                      <a:pt x="3653" y="1"/>
                      <a:pt x="3654" y="2"/>
                      <a:pt x="3654" y="3"/>
                    </a:cubicBezTo>
                    <a:cubicBezTo>
                      <a:pt x="3654" y="4"/>
                      <a:pt x="3653" y="5"/>
                      <a:pt x="3652" y="5"/>
                    </a:cubicBezTo>
                    <a:lnTo>
                      <a:pt x="3652" y="5"/>
                    </a:lnTo>
                    <a:cubicBezTo>
                      <a:pt x="3650" y="5"/>
                      <a:pt x="3650" y="4"/>
                      <a:pt x="3650" y="3"/>
                    </a:cubicBezTo>
                    <a:cubicBezTo>
                      <a:pt x="3650" y="2"/>
                      <a:pt x="3650" y="1"/>
                      <a:pt x="3652" y="1"/>
                    </a:cubicBezTo>
                    <a:close/>
                    <a:moveTo>
                      <a:pt x="3660" y="1"/>
                    </a:moveTo>
                    <a:lnTo>
                      <a:pt x="3660" y="1"/>
                    </a:lnTo>
                    <a:cubicBezTo>
                      <a:pt x="3661" y="1"/>
                      <a:pt x="3662" y="2"/>
                      <a:pt x="3662" y="3"/>
                    </a:cubicBezTo>
                    <a:cubicBezTo>
                      <a:pt x="3662" y="4"/>
                      <a:pt x="3661" y="5"/>
                      <a:pt x="3660" y="5"/>
                    </a:cubicBezTo>
                    <a:lnTo>
                      <a:pt x="3660" y="5"/>
                    </a:lnTo>
                    <a:cubicBezTo>
                      <a:pt x="3658" y="5"/>
                      <a:pt x="3658" y="4"/>
                      <a:pt x="3658" y="3"/>
                    </a:cubicBezTo>
                    <a:cubicBezTo>
                      <a:pt x="3658" y="2"/>
                      <a:pt x="3658" y="1"/>
                      <a:pt x="3660" y="1"/>
                    </a:cubicBezTo>
                    <a:close/>
                    <a:moveTo>
                      <a:pt x="3668" y="1"/>
                    </a:moveTo>
                    <a:lnTo>
                      <a:pt x="3668" y="1"/>
                    </a:lnTo>
                    <a:cubicBezTo>
                      <a:pt x="3669" y="1"/>
                      <a:pt x="3670" y="2"/>
                      <a:pt x="3670" y="3"/>
                    </a:cubicBezTo>
                    <a:cubicBezTo>
                      <a:pt x="3670" y="4"/>
                      <a:pt x="3669" y="5"/>
                      <a:pt x="3668" y="5"/>
                    </a:cubicBezTo>
                    <a:lnTo>
                      <a:pt x="3668" y="5"/>
                    </a:lnTo>
                    <a:cubicBezTo>
                      <a:pt x="3666" y="5"/>
                      <a:pt x="3666" y="4"/>
                      <a:pt x="3666" y="3"/>
                    </a:cubicBezTo>
                    <a:cubicBezTo>
                      <a:pt x="3666" y="2"/>
                      <a:pt x="3666" y="1"/>
                      <a:pt x="3668" y="1"/>
                    </a:cubicBezTo>
                    <a:close/>
                    <a:moveTo>
                      <a:pt x="3676" y="1"/>
                    </a:moveTo>
                    <a:lnTo>
                      <a:pt x="3676" y="1"/>
                    </a:lnTo>
                    <a:cubicBezTo>
                      <a:pt x="3677" y="1"/>
                      <a:pt x="3678" y="2"/>
                      <a:pt x="3678" y="3"/>
                    </a:cubicBezTo>
                    <a:cubicBezTo>
                      <a:pt x="3678" y="4"/>
                      <a:pt x="3677" y="5"/>
                      <a:pt x="3676" y="5"/>
                    </a:cubicBezTo>
                    <a:lnTo>
                      <a:pt x="3676" y="5"/>
                    </a:lnTo>
                    <a:cubicBezTo>
                      <a:pt x="3674" y="5"/>
                      <a:pt x="3674" y="4"/>
                      <a:pt x="3674" y="3"/>
                    </a:cubicBezTo>
                    <a:cubicBezTo>
                      <a:pt x="3674" y="2"/>
                      <a:pt x="3674" y="1"/>
                      <a:pt x="3676" y="1"/>
                    </a:cubicBezTo>
                    <a:close/>
                    <a:moveTo>
                      <a:pt x="3684" y="1"/>
                    </a:moveTo>
                    <a:lnTo>
                      <a:pt x="3684" y="1"/>
                    </a:lnTo>
                    <a:cubicBezTo>
                      <a:pt x="3685" y="1"/>
                      <a:pt x="3686" y="2"/>
                      <a:pt x="3686" y="3"/>
                    </a:cubicBezTo>
                    <a:cubicBezTo>
                      <a:pt x="3686" y="4"/>
                      <a:pt x="3685" y="5"/>
                      <a:pt x="3684" y="5"/>
                    </a:cubicBezTo>
                    <a:lnTo>
                      <a:pt x="3684" y="5"/>
                    </a:lnTo>
                    <a:cubicBezTo>
                      <a:pt x="3682" y="5"/>
                      <a:pt x="3682" y="4"/>
                      <a:pt x="3682" y="3"/>
                    </a:cubicBezTo>
                    <a:cubicBezTo>
                      <a:pt x="3682" y="2"/>
                      <a:pt x="3682" y="1"/>
                      <a:pt x="3684" y="1"/>
                    </a:cubicBezTo>
                    <a:close/>
                    <a:moveTo>
                      <a:pt x="3692" y="1"/>
                    </a:moveTo>
                    <a:lnTo>
                      <a:pt x="3692" y="1"/>
                    </a:lnTo>
                    <a:cubicBezTo>
                      <a:pt x="3693" y="1"/>
                      <a:pt x="3694" y="2"/>
                      <a:pt x="3694" y="3"/>
                    </a:cubicBezTo>
                    <a:cubicBezTo>
                      <a:pt x="3694" y="4"/>
                      <a:pt x="3693" y="5"/>
                      <a:pt x="3692" y="5"/>
                    </a:cubicBezTo>
                    <a:lnTo>
                      <a:pt x="3692" y="5"/>
                    </a:lnTo>
                    <a:cubicBezTo>
                      <a:pt x="3690" y="5"/>
                      <a:pt x="3690" y="4"/>
                      <a:pt x="3690" y="3"/>
                    </a:cubicBezTo>
                    <a:cubicBezTo>
                      <a:pt x="3690" y="2"/>
                      <a:pt x="3690" y="1"/>
                      <a:pt x="3692" y="1"/>
                    </a:cubicBezTo>
                    <a:close/>
                    <a:moveTo>
                      <a:pt x="3700" y="1"/>
                    </a:moveTo>
                    <a:lnTo>
                      <a:pt x="3700" y="1"/>
                    </a:lnTo>
                    <a:cubicBezTo>
                      <a:pt x="3701" y="1"/>
                      <a:pt x="3702" y="2"/>
                      <a:pt x="3702" y="3"/>
                    </a:cubicBezTo>
                    <a:cubicBezTo>
                      <a:pt x="3702" y="4"/>
                      <a:pt x="3701" y="5"/>
                      <a:pt x="3700" y="5"/>
                    </a:cubicBezTo>
                    <a:lnTo>
                      <a:pt x="3700" y="5"/>
                    </a:lnTo>
                    <a:cubicBezTo>
                      <a:pt x="3699" y="5"/>
                      <a:pt x="3698" y="4"/>
                      <a:pt x="3698" y="3"/>
                    </a:cubicBezTo>
                    <a:cubicBezTo>
                      <a:pt x="3698" y="2"/>
                      <a:pt x="3699" y="1"/>
                      <a:pt x="3700" y="1"/>
                    </a:cubicBezTo>
                    <a:close/>
                    <a:moveTo>
                      <a:pt x="3708" y="1"/>
                    </a:moveTo>
                    <a:lnTo>
                      <a:pt x="3708" y="1"/>
                    </a:lnTo>
                    <a:cubicBezTo>
                      <a:pt x="3709" y="1"/>
                      <a:pt x="3710" y="2"/>
                      <a:pt x="3710" y="3"/>
                    </a:cubicBezTo>
                    <a:cubicBezTo>
                      <a:pt x="3710" y="4"/>
                      <a:pt x="3709" y="5"/>
                      <a:pt x="3708" y="5"/>
                    </a:cubicBezTo>
                    <a:lnTo>
                      <a:pt x="3708" y="5"/>
                    </a:lnTo>
                    <a:cubicBezTo>
                      <a:pt x="3707" y="5"/>
                      <a:pt x="3706" y="4"/>
                      <a:pt x="3706" y="3"/>
                    </a:cubicBezTo>
                    <a:cubicBezTo>
                      <a:pt x="3706" y="2"/>
                      <a:pt x="3707" y="1"/>
                      <a:pt x="3708" y="1"/>
                    </a:cubicBezTo>
                    <a:close/>
                    <a:moveTo>
                      <a:pt x="3716" y="1"/>
                    </a:moveTo>
                    <a:lnTo>
                      <a:pt x="3716" y="1"/>
                    </a:lnTo>
                    <a:cubicBezTo>
                      <a:pt x="3717" y="1"/>
                      <a:pt x="3718" y="2"/>
                      <a:pt x="3718" y="3"/>
                    </a:cubicBezTo>
                    <a:cubicBezTo>
                      <a:pt x="3718" y="4"/>
                      <a:pt x="3717" y="5"/>
                      <a:pt x="3716" y="5"/>
                    </a:cubicBezTo>
                    <a:lnTo>
                      <a:pt x="3716" y="5"/>
                    </a:lnTo>
                    <a:cubicBezTo>
                      <a:pt x="3715" y="5"/>
                      <a:pt x="3714" y="4"/>
                      <a:pt x="3714" y="3"/>
                    </a:cubicBezTo>
                    <a:cubicBezTo>
                      <a:pt x="3714" y="2"/>
                      <a:pt x="3715" y="1"/>
                      <a:pt x="3716" y="1"/>
                    </a:cubicBezTo>
                    <a:close/>
                    <a:moveTo>
                      <a:pt x="3724" y="1"/>
                    </a:moveTo>
                    <a:lnTo>
                      <a:pt x="3724" y="1"/>
                    </a:lnTo>
                    <a:cubicBezTo>
                      <a:pt x="3725" y="1"/>
                      <a:pt x="3726" y="2"/>
                      <a:pt x="3726" y="3"/>
                    </a:cubicBezTo>
                    <a:cubicBezTo>
                      <a:pt x="3726" y="4"/>
                      <a:pt x="3725" y="5"/>
                      <a:pt x="3724" y="5"/>
                    </a:cubicBezTo>
                    <a:lnTo>
                      <a:pt x="3724" y="5"/>
                    </a:lnTo>
                    <a:cubicBezTo>
                      <a:pt x="3723" y="5"/>
                      <a:pt x="3722" y="4"/>
                      <a:pt x="3722" y="3"/>
                    </a:cubicBezTo>
                    <a:cubicBezTo>
                      <a:pt x="3722" y="2"/>
                      <a:pt x="3723" y="1"/>
                      <a:pt x="3724" y="1"/>
                    </a:cubicBezTo>
                    <a:close/>
                    <a:moveTo>
                      <a:pt x="3732" y="1"/>
                    </a:moveTo>
                    <a:lnTo>
                      <a:pt x="3732" y="1"/>
                    </a:lnTo>
                    <a:cubicBezTo>
                      <a:pt x="3733" y="1"/>
                      <a:pt x="3734" y="2"/>
                      <a:pt x="3734" y="3"/>
                    </a:cubicBezTo>
                    <a:cubicBezTo>
                      <a:pt x="3734" y="4"/>
                      <a:pt x="3733" y="5"/>
                      <a:pt x="3732" y="5"/>
                    </a:cubicBezTo>
                    <a:lnTo>
                      <a:pt x="3732" y="5"/>
                    </a:lnTo>
                    <a:cubicBezTo>
                      <a:pt x="3731" y="5"/>
                      <a:pt x="3730" y="4"/>
                      <a:pt x="3730" y="3"/>
                    </a:cubicBezTo>
                    <a:cubicBezTo>
                      <a:pt x="3730" y="2"/>
                      <a:pt x="3731" y="1"/>
                      <a:pt x="3732" y="1"/>
                    </a:cubicBezTo>
                    <a:close/>
                    <a:moveTo>
                      <a:pt x="3740" y="1"/>
                    </a:moveTo>
                    <a:lnTo>
                      <a:pt x="3740" y="1"/>
                    </a:lnTo>
                    <a:cubicBezTo>
                      <a:pt x="3741" y="1"/>
                      <a:pt x="3742" y="2"/>
                      <a:pt x="3742" y="3"/>
                    </a:cubicBezTo>
                    <a:cubicBezTo>
                      <a:pt x="3742" y="4"/>
                      <a:pt x="3741" y="5"/>
                      <a:pt x="3740" y="5"/>
                    </a:cubicBezTo>
                    <a:lnTo>
                      <a:pt x="3740" y="5"/>
                    </a:lnTo>
                    <a:cubicBezTo>
                      <a:pt x="3739" y="5"/>
                      <a:pt x="3738" y="4"/>
                      <a:pt x="3738" y="3"/>
                    </a:cubicBezTo>
                    <a:cubicBezTo>
                      <a:pt x="3738" y="2"/>
                      <a:pt x="3739" y="1"/>
                      <a:pt x="3740" y="1"/>
                    </a:cubicBezTo>
                    <a:close/>
                    <a:moveTo>
                      <a:pt x="3748" y="1"/>
                    </a:moveTo>
                    <a:lnTo>
                      <a:pt x="3748" y="1"/>
                    </a:lnTo>
                    <a:cubicBezTo>
                      <a:pt x="3749" y="1"/>
                      <a:pt x="3750" y="2"/>
                      <a:pt x="3750" y="3"/>
                    </a:cubicBezTo>
                    <a:cubicBezTo>
                      <a:pt x="3750" y="4"/>
                      <a:pt x="3749" y="5"/>
                      <a:pt x="3748" y="5"/>
                    </a:cubicBezTo>
                    <a:lnTo>
                      <a:pt x="3748" y="5"/>
                    </a:lnTo>
                    <a:cubicBezTo>
                      <a:pt x="3747" y="5"/>
                      <a:pt x="3746" y="4"/>
                      <a:pt x="3746" y="3"/>
                    </a:cubicBezTo>
                    <a:cubicBezTo>
                      <a:pt x="3746" y="2"/>
                      <a:pt x="3747" y="1"/>
                      <a:pt x="3748" y="1"/>
                    </a:cubicBezTo>
                    <a:close/>
                    <a:moveTo>
                      <a:pt x="3756" y="1"/>
                    </a:moveTo>
                    <a:lnTo>
                      <a:pt x="3756" y="1"/>
                    </a:lnTo>
                    <a:cubicBezTo>
                      <a:pt x="3757" y="1"/>
                      <a:pt x="3758" y="2"/>
                      <a:pt x="3758" y="3"/>
                    </a:cubicBezTo>
                    <a:cubicBezTo>
                      <a:pt x="3758" y="4"/>
                      <a:pt x="3757" y="5"/>
                      <a:pt x="3756" y="5"/>
                    </a:cubicBezTo>
                    <a:lnTo>
                      <a:pt x="3756" y="5"/>
                    </a:lnTo>
                    <a:cubicBezTo>
                      <a:pt x="3755" y="5"/>
                      <a:pt x="3754" y="4"/>
                      <a:pt x="3754" y="3"/>
                    </a:cubicBezTo>
                    <a:cubicBezTo>
                      <a:pt x="3754" y="2"/>
                      <a:pt x="3755" y="1"/>
                      <a:pt x="3756" y="1"/>
                    </a:cubicBezTo>
                    <a:close/>
                    <a:moveTo>
                      <a:pt x="3764" y="1"/>
                    </a:moveTo>
                    <a:lnTo>
                      <a:pt x="3764" y="1"/>
                    </a:lnTo>
                    <a:cubicBezTo>
                      <a:pt x="3765" y="1"/>
                      <a:pt x="3766" y="2"/>
                      <a:pt x="3766" y="3"/>
                    </a:cubicBezTo>
                    <a:cubicBezTo>
                      <a:pt x="3766" y="4"/>
                      <a:pt x="3765" y="5"/>
                      <a:pt x="3764" y="5"/>
                    </a:cubicBezTo>
                    <a:lnTo>
                      <a:pt x="3764" y="5"/>
                    </a:lnTo>
                    <a:cubicBezTo>
                      <a:pt x="3763" y="5"/>
                      <a:pt x="3762" y="4"/>
                      <a:pt x="3762" y="3"/>
                    </a:cubicBezTo>
                    <a:cubicBezTo>
                      <a:pt x="3762" y="2"/>
                      <a:pt x="3763" y="1"/>
                      <a:pt x="3764" y="1"/>
                    </a:cubicBezTo>
                    <a:close/>
                    <a:moveTo>
                      <a:pt x="3772" y="1"/>
                    </a:moveTo>
                    <a:lnTo>
                      <a:pt x="3772" y="1"/>
                    </a:lnTo>
                    <a:cubicBezTo>
                      <a:pt x="3773" y="1"/>
                      <a:pt x="3774" y="2"/>
                      <a:pt x="3774" y="3"/>
                    </a:cubicBezTo>
                    <a:cubicBezTo>
                      <a:pt x="3774" y="4"/>
                      <a:pt x="3773" y="5"/>
                      <a:pt x="3772" y="5"/>
                    </a:cubicBezTo>
                    <a:lnTo>
                      <a:pt x="3772" y="5"/>
                    </a:lnTo>
                    <a:cubicBezTo>
                      <a:pt x="3771" y="5"/>
                      <a:pt x="3770" y="4"/>
                      <a:pt x="3770" y="3"/>
                    </a:cubicBezTo>
                    <a:cubicBezTo>
                      <a:pt x="3770" y="2"/>
                      <a:pt x="3771" y="1"/>
                      <a:pt x="3772" y="1"/>
                    </a:cubicBezTo>
                    <a:close/>
                    <a:moveTo>
                      <a:pt x="3780" y="1"/>
                    </a:moveTo>
                    <a:lnTo>
                      <a:pt x="3780" y="1"/>
                    </a:lnTo>
                    <a:cubicBezTo>
                      <a:pt x="3781" y="1"/>
                      <a:pt x="3782" y="2"/>
                      <a:pt x="3782" y="3"/>
                    </a:cubicBezTo>
                    <a:cubicBezTo>
                      <a:pt x="3782" y="4"/>
                      <a:pt x="3781" y="5"/>
                      <a:pt x="3780" y="5"/>
                    </a:cubicBezTo>
                    <a:lnTo>
                      <a:pt x="3780" y="5"/>
                    </a:lnTo>
                    <a:cubicBezTo>
                      <a:pt x="3779" y="5"/>
                      <a:pt x="3778" y="4"/>
                      <a:pt x="3778" y="3"/>
                    </a:cubicBezTo>
                    <a:cubicBezTo>
                      <a:pt x="3778" y="2"/>
                      <a:pt x="3779" y="1"/>
                      <a:pt x="3780" y="1"/>
                    </a:cubicBezTo>
                    <a:close/>
                    <a:moveTo>
                      <a:pt x="3788" y="1"/>
                    </a:moveTo>
                    <a:lnTo>
                      <a:pt x="3788" y="1"/>
                    </a:lnTo>
                    <a:cubicBezTo>
                      <a:pt x="3789" y="1"/>
                      <a:pt x="3790" y="2"/>
                      <a:pt x="3790" y="3"/>
                    </a:cubicBezTo>
                    <a:cubicBezTo>
                      <a:pt x="3790" y="4"/>
                      <a:pt x="3789" y="5"/>
                      <a:pt x="3788" y="5"/>
                    </a:cubicBezTo>
                    <a:lnTo>
                      <a:pt x="3788" y="5"/>
                    </a:lnTo>
                    <a:cubicBezTo>
                      <a:pt x="3787" y="5"/>
                      <a:pt x="3786" y="4"/>
                      <a:pt x="3786" y="3"/>
                    </a:cubicBezTo>
                    <a:cubicBezTo>
                      <a:pt x="3786" y="2"/>
                      <a:pt x="3787" y="1"/>
                      <a:pt x="3788" y="1"/>
                    </a:cubicBezTo>
                    <a:close/>
                    <a:moveTo>
                      <a:pt x="3796" y="1"/>
                    </a:moveTo>
                    <a:lnTo>
                      <a:pt x="3796" y="1"/>
                    </a:lnTo>
                    <a:cubicBezTo>
                      <a:pt x="3797" y="1"/>
                      <a:pt x="3798" y="2"/>
                      <a:pt x="3798" y="3"/>
                    </a:cubicBezTo>
                    <a:cubicBezTo>
                      <a:pt x="3798" y="4"/>
                      <a:pt x="3797" y="5"/>
                      <a:pt x="3796" y="5"/>
                    </a:cubicBezTo>
                    <a:lnTo>
                      <a:pt x="3796" y="5"/>
                    </a:lnTo>
                    <a:cubicBezTo>
                      <a:pt x="3795" y="5"/>
                      <a:pt x="3794" y="4"/>
                      <a:pt x="3794" y="3"/>
                    </a:cubicBezTo>
                    <a:cubicBezTo>
                      <a:pt x="3794" y="2"/>
                      <a:pt x="3795" y="1"/>
                      <a:pt x="3796" y="1"/>
                    </a:cubicBezTo>
                    <a:close/>
                    <a:moveTo>
                      <a:pt x="3804" y="1"/>
                    </a:moveTo>
                    <a:lnTo>
                      <a:pt x="3804" y="1"/>
                    </a:lnTo>
                    <a:cubicBezTo>
                      <a:pt x="3805" y="1"/>
                      <a:pt x="3806" y="2"/>
                      <a:pt x="3806" y="3"/>
                    </a:cubicBezTo>
                    <a:cubicBezTo>
                      <a:pt x="3806" y="4"/>
                      <a:pt x="3805" y="5"/>
                      <a:pt x="3804" y="5"/>
                    </a:cubicBezTo>
                    <a:lnTo>
                      <a:pt x="3804" y="5"/>
                    </a:lnTo>
                    <a:cubicBezTo>
                      <a:pt x="3803" y="5"/>
                      <a:pt x="3802" y="4"/>
                      <a:pt x="3802" y="3"/>
                    </a:cubicBezTo>
                    <a:cubicBezTo>
                      <a:pt x="3802" y="2"/>
                      <a:pt x="3803" y="1"/>
                      <a:pt x="3804" y="1"/>
                    </a:cubicBezTo>
                    <a:close/>
                    <a:moveTo>
                      <a:pt x="3812" y="1"/>
                    </a:moveTo>
                    <a:lnTo>
                      <a:pt x="3812" y="1"/>
                    </a:lnTo>
                    <a:cubicBezTo>
                      <a:pt x="3813" y="1"/>
                      <a:pt x="3814" y="2"/>
                      <a:pt x="3814" y="3"/>
                    </a:cubicBezTo>
                    <a:cubicBezTo>
                      <a:pt x="3814" y="4"/>
                      <a:pt x="3813" y="5"/>
                      <a:pt x="3812" y="5"/>
                    </a:cubicBezTo>
                    <a:lnTo>
                      <a:pt x="3812" y="5"/>
                    </a:lnTo>
                    <a:cubicBezTo>
                      <a:pt x="3811" y="5"/>
                      <a:pt x="3810" y="4"/>
                      <a:pt x="3810" y="3"/>
                    </a:cubicBezTo>
                    <a:cubicBezTo>
                      <a:pt x="3810" y="2"/>
                      <a:pt x="3811" y="1"/>
                      <a:pt x="3812" y="1"/>
                    </a:cubicBezTo>
                    <a:close/>
                    <a:moveTo>
                      <a:pt x="3820" y="1"/>
                    </a:moveTo>
                    <a:lnTo>
                      <a:pt x="3820" y="1"/>
                    </a:lnTo>
                    <a:cubicBezTo>
                      <a:pt x="3821" y="1"/>
                      <a:pt x="3822" y="2"/>
                      <a:pt x="3822" y="3"/>
                    </a:cubicBezTo>
                    <a:cubicBezTo>
                      <a:pt x="3822" y="4"/>
                      <a:pt x="3821" y="5"/>
                      <a:pt x="3820" y="5"/>
                    </a:cubicBezTo>
                    <a:lnTo>
                      <a:pt x="3820" y="5"/>
                    </a:lnTo>
                    <a:cubicBezTo>
                      <a:pt x="3819" y="5"/>
                      <a:pt x="3818" y="4"/>
                      <a:pt x="3818" y="3"/>
                    </a:cubicBezTo>
                    <a:cubicBezTo>
                      <a:pt x="3818" y="2"/>
                      <a:pt x="3819" y="1"/>
                      <a:pt x="3820" y="1"/>
                    </a:cubicBezTo>
                    <a:close/>
                    <a:moveTo>
                      <a:pt x="3828" y="1"/>
                    </a:moveTo>
                    <a:lnTo>
                      <a:pt x="3828" y="1"/>
                    </a:lnTo>
                    <a:cubicBezTo>
                      <a:pt x="3829" y="1"/>
                      <a:pt x="3830" y="2"/>
                      <a:pt x="3830" y="3"/>
                    </a:cubicBezTo>
                    <a:cubicBezTo>
                      <a:pt x="3830" y="4"/>
                      <a:pt x="3829" y="5"/>
                      <a:pt x="3828" y="5"/>
                    </a:cubicBezTo>
                    <a:lnTo>
                      <a:pt x="3828" y="5"/>
                    </a:lnTo>
                    <a:cubicBezTo>
                      <a:pt x="3827" y="5"/>
                      <a:pt x="3826" y="4"/>
                      <a:pt x="3826" y="3"/>
                    </a:cubicBezTo>
                    <a:cubicBezTo>
                      <a:pt x="3826" y="2"/>
                      <a:pt x="3827" y="1"/>
                      <a:pt x="3828" y="1"/>
                    </a:cubicBezTo>
                    <a:close/>
                    <a:moveTo>
                      <a:pt x="3836" y="1"/>
                    </a:moveTo>
                    <a:lnTo>
                      <a:pt x="3836" y="1"/>
                    </a:lnTo>
                    <a:cubicBezTo>
                      <a:pt x="3837" y="1"/>
                      <a:pt x="3838" y="2"/>
                      <a:pt x="3838" y="3"/>
                    </a:cubicBezTo>
                    <a:cubicBezTo>
                      <a:pt x="3838" y="4"/>
                      <a:pt x="3837" y="5"/>
                      <a:pt x="3836" y="5"/>
                    </a:cubicBezTo>
                    <a:lnTo>
                      <a:pt x="3836" y="5"/>
                    </a:lnTo>
                    <a:cubicBezTo>
                      <a:pt x="3835" y="5"/>
                      <a:pt x="3834" y="4"/>
                      <a:pt x="3834" y="3"/>
                    </a:cubicBezTo>
                    <a:cubicBezTo>
                      <a:pt x="3834" y="2"/>
                      <a:pt x="3835" y="1"/>
                      <a:pt x="3836" y="1"/>
                    </a:cubicBezTo>
                    <a:close/>
                    <a:moveTo>
                      <a:pt x="3844" y="1"/>
                    </a:moveTo>
                    <a:lnTo>
                      <a:pt x="3844" y="1"/>
                    </a:lnTo>
                    <a:cubicBezTo>
                      <a:pt x="3845" y="1"/>
                      <a:pt x="3846" y="2"/>
                      <a:pt x="3846" y="3"/>
                    </a:cubicBezTo>
                    <a:cubicBezTo>
                      <a:pt x="3846" y="4"/>
                      <a:pt x="3845" y="5"/>
                      <a:pt x="3844" y="5"/>
                    </a:cubicBezTo>
                    <a:lnTo>
                      <a:pt x="3844" y="5"/>
                    </a:lnTo>
                    <a:cubicBezTo>
                      <a:pt x="3843" y="5"/>
                      <a:pt x="3842" y="4"/>
                      <a:pt x="3842" y="3"/>
                    </a:cubicBezTo>
                    <a:cubicBezTo>
                      <a:pt x="3842" y="2"/>
                      <a:pt x="3843" y="1"/>
                      <a:pt x="3844" y="1"/>
                    </a:cubicBezTo>
                    <a:close/>
                    <a:moveTo>
                      <a:pt x="3852" y="1"/>
                    </a:moveTo>
                    <a:lnTo>
                      <a:pt x="3852" y="1"/>
                    </a:lnTo>
                    <a:cubicBezTo>
                      <a:pt x="3853" y="1"/>
                      <a:pt x="3854" y="2"/>
                      <a:pt x="3854" y="3"/>
                    </a:cubicBezTo>
                    <a:cubicBezTo>
                      <a:pt x="3854" y="4"/>
                      <a:pt x="3853" y="5"/>
                      <a:pt x="3852" y="5"/>
                    </a:cubicBezTo>
                    <a:lnTo>
                      <a:pt x="3852" y="5"/>
                    </a:lnTo>
                    <a:cubicBezTo>
                      <a:pt x="3851" y="5"/>
                      <a:pt x="3850" y="4"/>
                      <a:pt x="3850" y="3"/>
                    </a:cubicBezTo>
                    <a:cubicBezTo>
                      <a:pt x="3850" y="2"/>
                      <a:pt x="3851" y="1"/>
                      <a:pt x="3852" y="1"/>
                    </a:cubicBezTo>
                    <a:close/>
                    <a:moveTo>
                      <a:pt x="3860" y="1"/>
                    </a:moveTo>
                    <a:lnTo>
                      <a:pt x="3860" y="1"/>
                    </a:lnTo>
                    <a:cubicBezTo>
                      <a:pt x="3861" y="1"/>
                      <a:pt x="3862" y="2"/>
                      <a:pt x="3862" y="3"/>
                    </a:cubicBezTo>
                    <a:cubicBezTo>
                      <a:pt x="3862" y="4"/>
                      <a:pt x="3861" y="5"/>
                      <a:pt x="3860" y="5"/>
                    </a:cubicBezTo>
                    <a:lnTo>
                      <a:pt x="3860" y="5"/>
                    </a:lnTo>
                    <a:cubicBezTo>
                      <a:pt x="3859" y="5"/>
                      <a:pt x="3858" y="4"/>
                      <a:pt x="3858" y="3"/>
                    </a:cubicBezTo>
                    <a:cubicBezTo>
                      <a:pt x="3858" y="2"/>
                      <a:pt x="3859" y="1"/>
                      <a:pt x="3860" y="1"/>
                    </a:cubicBezTo>
                    <a:close/>
                    <a:moveTo>
                      <a:pt x="3868" y="1"/>
                    </a:moveTo>
                    <a:lnTo>
                      <a:pt x="3868" y="1"/>
                    </a:lnTo>
                    <a:cubicBezTo>
                      <a:pt x="3869" y="1"/>
                      <a:pt x="3870" y="2"/>
                      <a:pt x="3870" y="3"/>
                    </a:cubicBezTo>
                    <a:cubicBezTo>
                      <a:pt x="3870" y="4"/>
                      <a:pt x="3869" y="5"/>
                      <a:pt x="3868" y="5"/>
                    </a:cubicBezTo>
                    <a:lnTo>
                      <a:pt x="3868" y="5"/>
                    </a:lnTo>
                    <a:cubicBezTo>
                      <a:pt x="3867" y="5"/>
                      <a:pt x="3866" y="4"/>
                      <a:pt x="3866" y="3"/>
                    </a:cubicBezTo>
                    <a:cubicBezTo>
                      <a:pt x="3866" y="2"/>
                      <a:pt x="3867" y="1"/>
                      <a:pt x="3868" y="1"/>
                    </a:cubicBezTo>
                    <a:close/>
                    <a:moveTo>
                      <a:pt x="3876" y="1"/>
                    </a:moveTo>
                    <a:lnTo>
                      <a:pt x="3876" y="1"/>
                    </a:lnTo>
                    <a:cubicBezTo>
                      <a:pt x="3877" y="1"/>
                      <a:pt x="3878" y="2"/>
                      <a:pt x="3878" y="3"/>
                    </a:cubicBezTo>
                    <a:cubicBezTo>
                      <a:pt x="3878" y="4"/>
                      <a:pt x="3877" y="5"/>
                      <a:pt x="3876" y="5"/>
                    </a:cubicBezTo>
                    <a:lnTo>
                      <a:pt x="3876" y="5"/>
                    </a:lnTo>
                    <a:cubicBezTo>
                      <a:pt x="3875" y="5"/>
                      <a:pt x="3874" y="4"/>
                      <a:pt x="3874" y="3"/>
                    </a:cubicBezTo>
                    <a:cubicBezTo>
                      <a:pt x="3874" y="2"/>
                      <a:pt x="3875" y="1"/>
                      <a:pt x="3876" y="1"/>
                    </a:cubicBezTo>
                    <a:close/>
                    <a:moveTo>
                      <a:pt x="3884" y="1"/>
                    </a:moveTo>
                    <a:lnTo>
                      <a:pt x="3884" y="1"/>
                    </a:lnTo>
                    <a:cubicBezTo>
                      <a:pt x="3885" y="1"/>
                      <a:pt x="3886" y="2"/>
                      <a:pt x="3886" y="3"/>
                    </a:cubicBezTo>
                    <a:cubicBezTo>
                      <a:pt x="3886" y="4"/>
                      <a:pt x="3885" y="5"/>
                      <a:pt x="3884" y="5"/>
                    </a:cubicBezTo>
                    <a:lnTo>
                      <a:pt x="3884" y="5"/>
                    </a:lnTo>
                    <a:cubicBezTo>
                      <a:pt x="3883" y="5"/>
                      <a:pt x="3882" y="4"/>
                      <a:pt x="3882" y="3"/>
                    </a:cubicBezTo>
                    <a:cubicBezTo>
                      <a:pt x="3882" y="2"/>
                      <a:pt x="3883" y="1"/>
                      <a:pt x="3884" y="1"/>
                    </a:cubicBezTo>
                    <a:close/>
                    <a:moveTo>
                      <a:pt x="3892" y="1"/>
                    </a:moveTo>
                    <a:lnTo>
                      <a:pt x="3892" y="1"/>
                    </a:lnTo>
                    <a:cubicBezTo>
                      <a:pt x="3893" y="1"/>
                      <a:pt x="3894" y="2"/>
                      <a:pt x="3894" y="3"/>
                    </a:cubicBezTo>
                    <a:cubicBezTo>
                      <a:pt x="3894" y="4"/>
                      <a:pt x="3893" y="5"/>
                      <a:pt x="3892" y="5"/>
                    </a:cubicBezTo>
                    <a:lnTo>
                      <a:pt x="3892" y="5"/>
                    </a:lnTo>
                    <a:cubicBezTo>
                      <a:pt x="3891" y="5"/>
                      <a:pt x="3890" y="4"/>
                      <a:pt x="3890" y="3"/>
                    </a:cubicBezTo>
                    <a:cubicBezTo>
                      <a:pt x="3890" y="2"/>
                      <a:pt x="3891" y="1"/>
                      <a:pt x="3892" y="1"/>
                    </a:cubicBezTo>
                    <a:close/>
                    <a:moveTo>
                      <a:pt x="3900" y="1"/>
                    </a:moveTo>
                    <a:lnTo>
                      <a:pt x="3900" y="1"/>
                    </a:lnTo>
                    <a:cubicBezTo>
                      <a:pt x="3901" y="1"/>
                      <a:pt x="3902" y="2"/>
                      <a:pt x="3902" y="3"/>
                    </a:cubicBezTo>
                    <a:cubicBezTo>
                      <a:pt x="3902" y="4"/>
                      <a:pt x="3901" y="5"/>
                      <a:pt x="3900" y="5"/>
                    </a:cubicBezTo>
                    <a:lnTo>
                      <a:pt x="3900" y="5"/>
                    </a:lnTo>
                    <a:cubicBezTo>
                      <a:pt x="3899" y="5"/>
                      <a:pt x="3898" y="4"/>
                      <a:pt x="3898" y="3"/>
                    </a:cubicBezTo>
                    <a:cubicBezTo>
                      <a:pt x="3898" y="2"/>
                      <a:pt x="3899" y="1"/>
                      <a:pt x="3900" y="1"/>
                    </a:cubicBezTo>
                    <a:close/>
                    <a:moveTo>
                      <a:pt x="3908" y="1"/>
                    </a:moveTo>
                    <a:lnTo>
                      <a:pt x="3908" y="1"/>
                    </a:lnTo>
                    <a:cubicBezTo>
                      <a:pt x="3909" y="1"/>
                      <a:pt x="3910" y="2"/>
                      <a:pt x="3910" y="3"/>
                    </a:cubicBezTo>
                    <a:cubicBezTo>
                      <a:pt x="3910" y="4"/>
                      <a:pt x="3909" y="5"/>
                      <a:pt x="3908" y="5"/>
                    </a:cubicBezTo>
                    <a:lnTo>
                      <a:pt x="3908" y="5"/>
                    </a:lnTo>
                    <a:cubicBezTo>
                      <a:pt x="3907" y="5"/>
                      <a:pt x="3906" y="4"/>
                      <a:pt x="3906" y="3"/>
                    </a:cubicBezTo>
                    <a:cubicBezTo>
                      <a:pt x="3906" y="2"/>
                      <a:pt x="3907" y="1"/>
                      <a:pt x="3908" y="1"/>
                    </a:cubicBezTo>
                    <a:close/>
                    <a:moveTo>
                      <a:pt x="3916" y="1"/>
                    </a:moveTo>
                    <a:lnTo>
                      <a:pt x="3916" y="1"/>
                    </a:lnTo>
                    <a:cubicBezTo>
                      <a:pt x="3917" y="1"/>
                      <a:pt x="3918" y="2"/>
                      <a:pt x="3918" y="3"/>
                    </a:cubicBezTo>
                    <a:cubicBezTo>
                      <a:pt x="3918" y="4"/>
                      <a:pt x="3917" y="5"/>
                      <a:pt x="3916" y="5"/>
                    </a:cubicBezTo>
                    <a:lnTo>
                      <a:pt x="3916" y="5"/>
                    </a:lnTo>
                    <a:cubicBezTo>
                      <a:pt x="3915" y="5"/>
                      <a:pt x="3914" y="4"/>
                      <a:pt x="3914" y="3"/>
                    </a:cubicBezTo>
                    <a:cubicBezTo>
                      <a:pt x="3914" y="2"/>
                      <a:pt x="3915" y="1"/>
                      <a:pt x="3916" y="1"/>
                    </a:cubicBezTo>
                    <a:close/>
                    <a:moveTo>
                      <a:pt x="3924" y="1"/>
                    </a:moveTo>
                    <a:lnTo>
                      <a:pt x="3924" y="1"/>
                    </a:lnTo>
                    <a:cubicBezTo>
                      <a:pt x="3925" y="1"/>
                      <a:pt x="3926" y="2"/>
                      <a:pt x="3926" y="3"/>
                    </a:cubicBezTo>
                    <a:cubicBezTo>
                      <a:pt x="3926" y="4"/>
                      <a:pt x="3925" y="5"/>
                      <a:pt x="3924" y="5"/>
                    </a:cubicBezTo>
                    <a:lnTo>
                      <a:pt x="3924" y="5"/>
                    </a:lnTo>
                    <a:cubicBezTo>
                      <a:pt x="3923" y="5"/>
                      <a:pt x="3922" y="4"/>
                      <a:pt x="3922" y="3"/>
                    </a:cubicBezTo>
                    <a:cubicBezTo>
                      <a:pt x="3922" y="2"/>
                      <a:pt x="3923" y="1"/>
                      <a:pt x="3924" y="1"/>
                    </a:cubicBezTo>
                    <a:close/>
                    <a:moveTo>
                      <a:pt x="3932" y="1"/>
                    </a:moveTo>
                    <a:lnTo>
                      <a:pt x="3932" y="1"/>
                    </a:lnTo>
                    <a:cubicBezTo>
                      <a:pt x="3933" y="1"/>
                      <a:pt x="3934" y="2"/>
                      <a:pt x="3934" y="3"/>
                    </a:cubicBezTo>
                    <a:cubicBezTo>
                      <a:pt x="3934" y="4"/>
                      <a:pt x="3933" y="5"/>
                      <a:pt x="3932" y="5"/>
                    </a:cubicBezTo>
                    <a:lnTo>
                      <a:pt x="3932" y="5"/>
                    </a:lnTo>
                    <a:cubicBezTo>
                      <a:pt x="3931" y="5"/>
                      <a:pt x="3930" y="4"/>
                      <a:pt x="3930" y="3"/>
                    </a:cubicBezTo>
                    <a:cubicBezTo>
                      <a:pt x="3930" y="2"/>
                      <a:pt x="3931" y="1"/>
                      <a:pt x="3932" y="1"/>
                    </a:cubicBezTo>
                    <a:close/>
                    <a:moveTo>
                      <a:pt x="3940" y="1"/>
                    </a:moveTo>
                    <a:lnTo>
                      <a:pt x="3940" y="1"/>
                    </a:lnTo>
                    <a:cubicBezTo>
                      <a:pt x="3941" y="1"/>
                      <a:pt x="3942" y="2"/>
                      <a:pt x="3942" y="3"/>
                    </a:cubicBezTo>
                    <a:cubicBezTo>
                      <a:pt x="3942" y="4"/>
                      <a:pt x="3941" y="5"/>
                      <a:pt x="3940" y="5"/>
                    </a:cubicBezTo>
                    <a:lnTo>
                      <a:pt x="3940" y="5"/>
                    </a:lnTo>
                    <a:cubicBezTo>
                      <a:pt x="3939" y="5"/>
                      <a:pt x="3938" y="4"/>
                      <a:pt x="3938" y="3"/>
                    </a:cubicBezTo>
                    <a:cubicBezTo>
                      <a:pt x="3938" y="2"/>
                      <a:pt x="3939" y="1"/>
                      <a:pt x="3940" y="1"/>
                    </a:cubicBezTo>
                    <a:close/>
                    <a:moveTo>
                      <a:pt x="3948" y="1"/>
                    </a:moveTo>
                    <a:lnTo>
                      <a:pt x="3948" y="1"/>
                    </a:lnTo>
                    <a:cubicBezTo>
                      <a:pt x="3949" y="1"/>
                      <a:pt x="3950" y="2"/>
                      <a:pt x="3950" y="3"/>
                    </a:cubicBezTo>
                    <a:cubicBezTo>
                      <a:pt x="3950" y="4"/>
                      <a:pt x="3949" y="5"/>
                      <a:pt x="3948" y="5"/>
                    </a:cubicBezTo>
                    <a:lnTo>
                      <a:pt x="3948" y="5"/>
                    </a:lnTo>
                    <a:cubicBezTo>
                      <a:pt x="3947" y="5"/>
                      <a:pt x="3946" y="4"/>
                      <a:pt x="3946" y="3"/>
                    </a:cubicBezTo>
                    <a:cubicBezTo>
                      <a:pt x="3946" y="2"/>
                      <a:pt x="3947" y="1"/>
                      <a:pt x="3948" y="1"/>
                    </a:cubicBezTo>
                    <a:close/>
                    <a:moveTo>
                      <a:pt x="3956" y="1"/>
                    </a:moveTo>
                    <a:lnTo>
                      <a:pt x="3956" y="1"/>
                    </a:lnTo>
                    <a:cubicBezTo>
                      <a:pt x="3957" y="1"/>
                      <a:pt x="3958" y="2"/>
                      <a:pt x="3958" y="3"/>
                    </a:cubicBezTo>
                    <a:cubicBezTo>
                      <a:pt x="3958" y="4"/>
                      <a:pt x="3957" y="5"/>
                      <a:pt x="3956" y="5"/>
                    </a:cubicBezTo>
                    <a:lnTo>
                      <a:pt x="3956" y="5"/>
                    </a:lnTo>
                    <a:cubicBezTo>
                      <a:pt x="3955" y="5"/>
                      <a:pt x="3954" y="4"/>
                      <a:pt x="3954" y="3"/>
                    </a:cubicBezTo>
                    <a:cubicBezTo>
                      <a:pt x="3954" y="2"/>
                      <a:pt x="3955" y="1"/>
                      <a:pt x="3956" y="1"/>
                    </a:cubicBezTo>
                    <a:close/>
                    <a:moveTo>
                      <a:pt x="3964" y="1"/>
                    </a:moveTo>
                    <a:lnTo>
                      <a:pt x="3964" y="1"/>
                    </a:lnTo>
                    <a:cubicBezTo>
                      <a:pt x="3965" y="1"/>
                      <a:pt x="3966" y="2"/>
                      <a:pt x="3966" y="3"/>
                    </a:cubicBezTo>
                    <a:cubicBezTo>
                      <a:pt x="3966" y="4"/>
                      <a:pt x="3965" y="5"/>
                      <a:pt x="3964" y="5"/>
                    </a:cubicBezTo>
                    <a:lnTo>
                      <a:pt x="3964" y="5"/>
                    </a:lnTo>
                    <a:cubicBezTo>
                      <a:pt x="3963" y="5"/>
                      <a:pt x="3962" y="4"/>
                      <a:pt x="3962" y="3"/>
                    </a:cubicBezTo>
                    <a:cubicBezTo>
                      <a:pt x="3962" y="2"/>
                      <a:pt x="3963" y="1"/>
                      <a:pt x="3964" y="1"/>
                    </a:cubicBezTo>
                    <a:close/>
                    <a:moveTo>
                      <a:pt x="3972" y="1"/>
                    </a:moveTo>
                    <a:lnTo>
                      <a:pt x="3972" y="1"/>
                    </a:lnTo>
                    <a:cubicBezTo>
                      <a:pt x="3973" y="1"/>
                      <a:pt x="3974" y="2"/>
                      <a:pt x="3974" y="3"/>
                    </a:cubicBezTo>
                    <a:cubicBezTo>
                      <a:pt x="3974" y="4"/>
                      <a:pt x="3973" y="5"/>
                      <a:pt x="3972" y="5"/>
                    </a:cubicBezTo>
                    <a:lnTo>
                      <a:pt x="3972" y="5"/>
                    </a:lnTo>
                    <a:cubicBezTo>
                      <a:pt x="3971" y="5"/>
                      <a:pt x="3970" y="4"/>
                      <a:pt x="3970" y="3"/>
                    </a:cubicBezTo>
                    <a:cubicBezTo>
                      <a:pt x="3970" y="2"/>
                      <a:pt x="3971" y="1"/>
                      <a:pt x="3972" y="1"/>
                    </a:cubicBezTo>
                    <a:close/>
                    <a:moveTo>
                      <a:pt x="3980" y="1"/>
                    </a:moveTo>
                    <a:lnTo>
                      <a:pt x="3980" y="1"/>
                    </a:lnTo>
                    <a:cubicBezTo>
                      <a:pt x="3981" y="1"/>
                      <a:pt x="3982" y="2"/>
                      <a:pt x="3982" y="3"/>
                    </a:cubicBezTo>
                    <a:cubicBezTo>
                      <a:pt x="3982" y="4"/>
                      <a:pt x="3981" y="5"/>
                      <a:pt x="3980" y="5"/>
                    </a:cubicBezTo>
                    <a:lnTo>
                      <a:pt x="3980" y="5"/>
                    </a:lnTo>
                    <a:cubicBezTo>
                      <a:pt x="3979" y="5"/>
                      <a:pt x="3978" y="4"/>
                      <a:pt x="3978" y="3"/>
                    </a:cubicBezTo>
                    <a:cubicBezTo>
                      <a:pt x="3978" y="2"/>
                      <a:pt x="3979" y="1"/>
                      <a:pt x="3980" y="1"/>
                    </a:cubicBezTo>
                    <a:close/>
                    <a:moveTo>
                      <a:pt x="3988" y="1"/>
                    </a:moveTo>
                    <a:lnTo>
                      <a:pt x="3988" y="1"/>
                    </a:lnTo>
                    <a:cubicBezTo>
                      <a:pt x="3989" y="1"/>
                      <a:pt x="3990" y="2"/>
                      <a:pt x="3990" y="3"/>
                    </a:cubicBezTo>
                    <a:cubicBezTo>
                      <a:pt x="3990" y="4"/>
                      <a:pt x="3989" y="5"/>
                      <a:pt x="3988" y="5"/>
                    </a:cubicBezTo>
                    <a:lnTo>
                      <a:pt x="3988" y="5"/>
                    </a:lnTo>
                    <a:cubicBezTo>
                      <a:pt x="3987" y="5"/>
                      <a:pt x="3986" y="4"/>
                      <a:pt x="3986" y="3"/>
                    </a:cubicBezTo>
                    <a:cubicBezTo>
                      <a:pt x="3986" y="2"/>
                      <a:pt x="3987" y="1"/>
                      <a:pt x="3988" y="1"/>
                    </a:cubicBezTo>
                    <a:close/>
                    <a:moveTo>
                      <a:pt x="3996" y="1"/>
                    </a:moveTo>
                    <a:lnTo>
                      <a:pt x="3996" y="1"/>
                    </a:lnTo>
                    <a:cubicBezTo>
                      <a:pt x="3997" y="1"/>
                      <a:pt x="3998" y="2"/>
                      <a:pt x="3998" y="3"/>
                    </a:cubicBezTo>
                    <a:cubicBezTo>
                      <a:pt x="3998" y="4"/>
                      <a:pt x="3997" y="5"/>
                      <a:pt x="3996" y="5"/>
                    </a:cubicBezTo>
                    <a:lnTo>
                      <a:pt x="3996" y="5"/>
                    </a:lnTo>
                    <a:cubicBezTo>
                      <a:pt x="3995" y="5"/>
                      <a:pt x="3994" y="4"/>
                      <a:pt x="3994" y="3"/>
                    </a:cubicBezTo>
                    <a:cubicBezTo>
                      <a:pt x="3994" y="2"/>
                      <a:pt x="3995" y="1"/>
                      <a:pt x="3996" y="1"/>
                    </a:cubicBezTo>
                    <a:close/>
                    <a:moveTo>
                      <a:pt x="4004" y="1"/>
                    </a:moveTo>
                    <a:lnTo>
                      <a:pt x="4004" y="1"/>
                    </a:lnTo>
                    <a:cubicBezTo>
                      <a:pt x="4005" y="1"/>
                      <a:pt x="4006" y="2"/>
                      <a:pt x="4006" y="3"/>
                    </a:cubicBezTo>
                    <a:cubicBezTo>
                      <a:pt x="4006" y="4"/>
                      <a:pt x="4005" y="5"/>
                      <a:pt x="4004" y="5"/>
                    </a:cubicBezTo>
                    <a:lnTo>
                      <a:pt x="4004" y="5"/>
                    </a:lnTo>
                    <a:cubicBezTo>
                      <a:pt x="4003" y="5"/>
                      <a:pt x="4002" y="4"/>
                      <a:pt x="4002" y="3"/>
                    </a:cubicBezTo>
                    <a:cubicBezTo>
                      <a:pt x="4002" y="2"/>
                      <a:pt x="4003" y="1"/>
                      <a:pt x="4004" y="1"/>
                    </a:cubicBezTo>
                    <a:close/>
                    <a:moveTo>
                      <a:pt x="4012" y="1"/>
                    </a:moveTo>
                    <a:lnTo>
                      <a:pt x="4012" y="1"/>
                    </a:lnTo>
                    <a:cubicBezTo>
                      <a:pt x="4013" y="1"/>
                      <a:pt x="4014" y="2"/>
                      <a:pt x="4014" y="3"/>
                    </a:cubicBezTo>
                    <a:cubicBezTo>
                      <a:pt x="4014" y="4"/>
                      <a:pt x="4013" y="5"/>
                      <a:pt x="4012" y="5"/>
                    </a:cubicBezTo>
                    <a:lnTo>
                      <a:pt x="4012" y="5"/>
                    </a:lnTo>
                    <a:cubicBezTo>
                      <a:pt x="4011" y="5"/>
                      <a:pt x="4010" y="4"/>
                      <a:pt x="4010" y="3"/>
                    </a:cubicBezTo>
                    <a:cubicBezTo>
                      <a:pt x="4010" y="2"/>
                      <a:pt x="4011" y="1"/>
                      <a:pt x="4012" y="1"/>
                    </a:cubicBezTo>
                    <a:close/>
                    <a:moveTo>
                      <a:pt x="4020" y="1"/>
                    </a:moveTo>
                    <a:lnTo>
                      <a:pt x="4020" y="1"/>
                    </a:lnTo>
                    <a:cubicBezTo>
                      <a:pt x="4021" y="1"/>
                      <a:pt x="4022" y="2"/>
                      <a:pt x="4022" y="3"/>
                    </a:cubicBezTo>
                    <a:cubicBezTo>
                      <a:pt x="4022" y="4"/>
                      <a:pt x="4021" y="5"/>
                      <a:pt x="4020" y="5"/>
                    </a:cubicBezTo>
                    <a:lnTo>
                      <a:pt x="4020" y="5"/>
                    </a:lnTo>
                    <a:cubicBezTo>
                      <a:pt x="4019" y="5"/>
                      <a:pt x="4018" y="4"/>
                      <a:pt x="4018" y="3"/>
                    </a:cubicBezTo>
                    <a:cubicBezTo>
                      <a:pt x="4018" y="2"/>
                      <a:pt x="4019" y="1"/>
                      <a:pt x="4020" y="1"/>
                    </a:cubicBezTo>
                    <a:close/>
                    <a:moveTo>
                      <a:pt x="4028" y="1"/>
                    </a:moveTo>
                    <a:lnTo>
                      <a:pt x="4028" y="1"/>
                    </a:lnTo>
                    <a:cubicBezTo>
                      <a:pt x="4029" y="1"/>
                      <a:pt x="4030" y="2"/>
                      <a:pt x="4030" y="3"/>
                    </a:cubicBezTo>
                    <a:cubicBezTo>
                      <a:pt x="4030" y="4"/>
                      <a:pt x="4029" y="5"/>
                      <a:pt x="4028" y="5"/>
                    </a:cubicBezTo>
                    <a:lnTo>
                      <a:pt x="4028" y="5"/>
                    </a:lnTo>
                    <a:cubicBezTo>
                      <a:pt x="4027" y="5"/>
                      <a:pt x="4026" y="4"/>
                      <a:pt x="4026" y="3"/>
                    </a:cubicBezTo>
                    <a:cubicBezTo>
                      <a:pt x="4026" y="2"/>
                      <a:pt x="4027" y="1"/>
                      <a:pt x="4028" y="1"/>
                    </a:cubicBezTo>
                    <a:close/>
                    <a:moveTo>
                      <a:pt x="4036" y="1"/>
                    </a:moveTo>
                    <a:lnTo>
                      <a:pt x="4036" y="1"/>
                    </a:lnTo>
                    <a:cubicBezTo>
                      <a:pt x="4037" y="1"/>
                      <a:pt x="4038" y="2"/>
                      <a:pt x="4038" y="3"/>
                    </a:cubicBezTo>
                    <a:cubicBezTo>
                      <a:pt x="4038" y="4"/>
                      <a:pt x="4037" y="5"/>
                      <a:pt x="4036" y="5"/>
                    </a:cubicBezTo>
                    <a:lnTo>
                      <a:pt x="4036" y="5"/>
                    </a:lnTo>
                    <a:cubicBezTo>
                      <a:pt x="4035" y="5"/>
                      <a:pt x="4034" y="4"/>
                      <a:pt x="4034" y="3"/>
                    </a:cubicBezTo>
                    <a:cubicBezTo>
                      <a:pt x="4034" y="2"/>
                      <a:pt x="4035" y="1"/>
                      <a:pt x="4036" y="1"/>
                    </a:cubicBezTo>
                    <a:close/>
                    <a:moveTo>
                      <a:pt x="4044" y="1"/>
                    </a:moveTo>
                    <a:lnTo>
                      <a:pt x="4044" y="1"/>
                    </a:lnTo>
                    <a:cubicBezTo>
                      <a:pt x="4045" y="1"/>
                      <a:pt x="4046" y="2"/>
                      <a:pt x="4046" y="3"/>
                    </a:cubicBezTo>
                    <a:cubicBezTo>
                      <a:pt x="4046" y="4"/>
                      <a:pt x="4045" y="5"/>
                      <a:pt x="4044" y="5"/>
                    </a:cubicBezTo>
                    <a:lnTo>
                      <a:pt x="4044" y="5"/>
                    </a:lnTo>
                    <a:cubicBezTo>
                      <a:pt x="4043" y="5"/>
                      <a:pt x="4042" y="4"/>
                      <a:pt x="4042" y="3"/>
                    </a:cubicBezTo>
                    <a:cubicBezTo>
                      <a:pt x="4042" y="2"/>
                      <a:pt x="4043" y="1"/>
                      <a:pt x="4044" y="1"/>
                    </a:cubicBezTo>
                    <a:close/>
                    <a:moveTo>
                      <a:pt x="4052" y="1"/>
                    </a:moveTo>
                    <a:lnTo>
                      <a:pt x="4052" y="1"/>
                    </a:lnTo>
                    <a:cubicBezTo>
                      <a:pt x="4053" y="1"/>
                      <a:pt x="4054" y="2"/>
                      <a:pt x="4054" y="3"/>
                    </a:cubicBezTo>
                    <a:cubicBezTo>
                      <a:pt x="4054" y="4"/>
                      <a:pt x="4053" y="5"/>
                      <a:pt x="4052" y="5"/>
                    </a:cubicBezTo>
                    <a:lnTo>
                      <a:pt x="4052" y="5"/>
                    </a:lnTo>
                    <a:cubicBezTo>
                      <a:pt x="4051" y="5"/>
                      <a:pt x="4050" y="4"/>
                      <a:pt x="4050" y="3"/>
                    </a:cubicBezTo>
                    <a:cubicBezTo>
                      <a:pt x="4050" y="2"/>
                      <a:pt x="4051" y="1"/>
                      <a:pt x="4052" y="1"/>
                    </a:cubicBezTo>
                    <a:close/>
                    <a:moveTo>
                      <a:pt x="4060" y="1"/>
                    </a:moveTo>
                    <a:lnTo>
                      <a:pt x="4060" y="1"/>
                    </a:lnTo>
                    <a:cubicBezTo>
                      <a:pt x="4061" y="1"/>
                      <a:pt x="4062" y="2"/>
                      <a:pt x="4062" y="3"/>
                    </a:cubicBezTo>
                    <a:cubicBezTo>
                      <a:pt x="4062" y="4"/>
                      <a:pt x="4061" y="5"/>
                      <a:pt x="4060" y="5"/>
                    </a:cubicBezTo>
                    <a:lnTo>
                      <a:pt x="4060" y="5"/>
                    </a:lnTo>
                    <a:cubicBezTo>
                      <a:pt x="4059" y="5"/>
                      <a:pt x="4058" y="4"/>
                      <a:pt x="4058" y="3"/>
                    </a:cubicBezTo>
                    <a:cubicBezTo>
                      <a:pt x="4058" y="2"/>
                      <a:pt x="4059" y="1"/>
                      <a:pt x="4060" y="1"/>
                    </a:cubicBezTo>
                    <a:close/>
                    <a:moveTo>
                      <a:pt x="4068" y="1"/>
                    </a:moveTo>
                    <a:lnTo>
                      <a:pt x="4068" y="1"/>
                    </a:lnTo>
                    <a:cubicBezTo>
                      <a:pt x="4069" y="1"/>
                      <a:pt x="4070" y="2"/>
                      <a:pt x="4070" y="3"/>
                    </a:cubicBezTo>
                    <a:cubicBezTo>
                      <a:pt x="4070" y="4"/>
                      <a:pt x="4069" y="5"/>
                      <a:pt x="4068" y="5"/>
                    </a:cubicBezTo>
                    <a:lnTo>
                      <a:pt x="4068" y="5"/>
                    </a:lnTo>
                    <a:cubicBezTo>
                      <a:pt x="4067" y="5"/>
                      <a:pt x="4066" y="4"/>
                      <a:pt x="4066" y="3"/>
                    </a:cubicBezTo>
                    <a:cubicBezTo>
                      <a:pt x="4066" y="2"/>
                      <a:pt x="4067" y="1"/>
                      <a:pt x="4068" y="1"/>
                    </a:cubicBezTo>
                    <a:close/>
                    <a:moveTo>
                      <a:pt x="4076" y="1"/>
                    </a:moveTo>
                    <a:lnTo>
                      <a:pt x="4076" y="1"/>
                    </a:lnTo>
                    <a:cubicBezTo>
                      <a:pt x="4077" y="1"/>
                      <a:pt x="4078" y="2"/>
                      <a:pt x="4078" y="3"/>
                    </a:cubicBezTo>
                    <a:cubicBezTo>
                      <a:pt x="4078" y="4"/>
                      <a:pt x="4077" y="5"/>
                      <a:pt x="4076" y="5"/>
                    </a:cubicBezTo>
                    <a:lnTo>
                      <a:pt x="4076" y="5"/>
                    </a:lnTo>
                    <a:cubicBezTo>
                      <a:pt x="4075" y="5"/>
                      <a:pt x="4074" y="4"/>
                      <a:pt x="4074" y="3"/>
                    </a:cubicBezTo>
                    <a:cubicBezTo>
                      <a:pt x="4074" y="2"/>
                      <a:pt x="4075" y="1"/>
                      <a:pt x="4076" y="1"/>
                    </a:cubicBezTo>
                    <a:close/>
                    <a:moveTo>
                      <a:pt x="4084" y="1"/>
                    </a:moveTo>
                    <a:lnTo>
                      <a:pt x="4084" y="1"/>
                    </a:lnTo>
                    <a:cubicBezTo>
                      <a:pt x="4085" y="1"/>
                      <a:pt x="4086" y="2"/>
                      <a:pt x="4086" y="3"/>
                    </a:cubicBezTo>
                    <a:cubicBezTo>
                      <a:pt x="4086" y="4"/>
                      <a:pt x="4085" y="5"/>
                      <a:pt x="4084" y="5"/>
                    </a:cubicBezTo>
                    <a:lnTo>
                      <a:pt x="4084" y="5"/>
                    </a:lnTo>
                    <a:cubicBezTo>
                      <a:pt x="4083" y="5"/>
                      <a:pt x="4082" y="4"/>
                      <a:pt x="4082" y="3"/>
                    </a:cubicBezTo>
                    <a:cubicBezTo>
                      <a:pt x="4082" y="2"/>
                      <a:pt x="4083" y="1"/>
                      <a:pt x="4084" y="1"/>
                    </a:cubicBezTo>
                    <a:close/>
                    <a:moveTo>
                      <a:pt x="4092" y="1"/>
                    </a:moveTo>
                    <a:lnTo>
                      <a:pt x="4092" y="1"/>
                    </a:lnTo>
                    <a:cubicBezTo>
                      <a:pt x="4093" y="1"/>
                      <a:pt x="4094" y="2"/>
                      <a:pt x="4094" y="3"/>
                    </a:cubicBezTo>
                    <a:cubicBezTo>
                      <a:pt x="4094" y="4"/>
                      <a:pt x="4093" y="5"/>
                      <a:pt x="4092" y="5"/>
                    </a:cubicBezTo>
                    <a:lnTo>
                      <a:pt x="4092" y="5"/>
                    </a:lnTo>
                    <a:cubicBezTo>
                      <a:pt x="4091" y="5"/>
                      <a:pt x="4090" y="4"/>
                      <a:pt x="4090" y="3"/>
                    </a:cubicBezTo>
                    <a:cubicBezTo>
                      <a:pt x="4090" y="2"/>
                      <a:pt x="4091" y="1"/>
                      <a:pt x="4092" y="1"/>
                    </a:cubicBezTo>
                    <a:close/>
                    <a:moveTo>
                      <a:pt x="4100" y="1"/>
                    </a:moveTo>
                    <a:lnTo>
                      <a:pt x="4100" y="1"/>
                    </a:lnTo>
                    <a:cubicBezTo>
                      <a:pt x="4101" y="1"/>
                      <a:pt x="4102" y="2"/>
                      <a:pt x="4102" y="3"/>
                    </a:cubicBezTo>
                    <a:cubicBezTo>
                      <a:pt x="4102" y="4"/>
                      <a:pt x="4101" y="5"/>
                      <a:pt x="4100" y="5"/>
                    </a:cubicBezTo>
                    <a:lnTo>
                      <a:pt x="4100" y="5"/>
                    </a:lnTo>
                    <a:cubicBezTo>
                      <a:pt x="4099" y="5"/>
                      <a:pt x="4098" y="4"/>
                      <a:pt x="4098" y="3"/>
                    </a:cubicBezTo>
                    <a:cubicBezTo>
                      <a:pt x="4098" y="2"/>
                      <a:pt x="4099" y="1"/>
                      <a:pt x="4100" y="1"/>
                    </a:cubicBezTo>
                    <a:close/>
                    <a:moveTo>
                      <a:pt x="4108" y="1"/>
                    </a:moveTo>
                    <a:lnTo>
                      <a:pt x="4108" y="1"/>
                    </a:lnTo>
                    <a:cubicBezTo>
                      <a:pt x="4109" y="1"/>
                      <a:pt x="4110" y="2"/>
                      <a:pt x="4110" y="3"/>
                    </a:cubicBezTo>
                    <a:cubicBezTo>
                      <a:pt x="4110" y="4"/>
                      <a:pt x="4109" y="5"/>
                      <a:pt x="4108" y="5"/>
                    </a:cubicBezTo>
                    <a:lnTo>
                      <a:pt x="4108" y="5"/>
                    </a:lnTo>
                    <a:cubicBezTo>
                      <a:pt x="4107" y="5"/>
                      <a:pt x="4106" y="4"/>
                      <a:pt x="4106" y="3"/>
                    </a:cubicBezTo>
                    <a:cubicBezTo>
                      <a:pt x="4106" y="2"/>
                      <a:pt x="4107" y="1"/>
                      <a:pt x="4108" y="1"/>
                    </a:cubicBezTo>
                    <a:close/>
                    <a:moveTo>
                      <a:pt x="4116" y="1"/>
                    </a:moveTo>
                    <a:lnTo>
                      <a:pt x="4116" y="1"/>
                    </a:lnTo>
                    <a:cubicBezTo>
                      <a:pt x="4117" y="1"/>
                      <a:pt x="4118" y="2"/>
                      <a:pt x="4118" y="3"/>
                    </a:cubicBezTo>
                    <a:cubicBezTo>
                      <a:pt x="4118" y="4"/>
                      <a:pt x="4117" y="5"/>
                      <a:pt x="4116" y="5"/>
                    </a:cubicBezTo>
                    <a:lnTo>
                      <a:pt x="4116" y="5"/>
                    </a:lnTo>
                    <a:cubicBezTo>
                      <a:pt x="4115" y="5"/>
                      <a:pt x="4114" y="4"/>
                      <a:pt x="4114" y="3"/>
                    </a:cubicBezTo>
                    <a:cubicBezTo>
                      <a:pt x="4114" y="2"/>
                      <a:pt x="4115" y="1"/>
                      <a:pt x="4116" y="1"/>
                    </a:cubicBezTo>
                    <a:close/>
                    <a:moveTo>
                      <a:pt x="4124" y="1"/>
                    </a:moveTo>
                    <a:lnTo>
                      <a:pt x="4124" y="1"/>
                    </a:lnTo>
                    <a:cubicBezTo>
                      <a:pt x="4125" y="1"/>
                      <a:pt x="4126" y="2"/>
                      <a:pt x="4126" y="3"/>
                    </a:cubicBezTo>
                    <a:cubicBezTo>
                      <a:pt x="4126" y="4"/>
                      <a:pt x="4125" y="5"/>
                      <a:pt x="4124" y="5"/>
                    </a:cubicBezTo>
                    <a:lnTo>
                      <a:pt x="4124" y="5"/>
                    </a:lnTo>
                    <a:cubicBezTo>
                      <a:pt x="4123" y="5"/>
                      <a:pt x="4122" y="4"/>
                      <a:pt x="4122" y="3"/>
                    </a:cubicBezTo>
                    <a:cubicBezTo>
                      <a:pt x="4122" y="2"/>
                      <a:pt x="4123" y="1"/>
                      <a:pt x="4124" y="1"/>
                    </a:cubicBezTo>
                    <a:close/>
                    <a:moveTo>
                      <a:pt x="4132" y="1"/>
                    </a:moveTo>
                    <a:lnTo>
                      <a:pt x="4132" y="1"/>
                    </a:lnTo>
                    <a:cubicBezTo>
                      <a:pt x="4133" y="1"/>
                      <a:pt x="4134" y="2"/>
                      <a:pt x="4134" y="3"/>
                    </a:cubicBezTo>
                    <a:cubicBezTo>
                      <a:pt x="4134" y="4"/>
                      <a:pt x="4133" y="5"/>
                      <a:pt x="4132" y="5"/>
                    </a:cubicBezTo>
                    <a:lnTo>
                      <a:pt x="4132" y="5"/>
                    </a:lnTo>
                    <a:cubicBezTo>
                      <a:pt x="4131" y="5"/>
                      <a:pt x="4130" y="4"/>
                      <a:pt x="4130" y="3"/>
                    </a:cubicBezTo>
                    <a:cubicBezTo>
                      <a:pt x="4130" y="2"/>
                      <a:pt x="4131" y="1"/>
                      <a:pt x="4132" y="1"/>
                    </a:cubicBezTo>
                    <a:close/>
                    <a:moveTo>
                      <a:pt x="4140" y="1"/>
                    </a:moveTo>
                    <a:lnTo>
                      <a:pt x="4140" y="1"/>
                    </a:lnTo>
                    <a:cubicBezTo>
                      <a:pt x="4141" y="1"/>
                      <a:pt x="4142" y="2"/>
                      <a:pt x="4142" y="3"/>
                    </a:cubicBezTo>
                    <a:cubicBezTo>
                      <a:pt x="4142" y="4"/>
                      <a:pt x="4141" y="5"/>
                      <a:pt x="4140" y="5"/>
                    </a:cubicBezTo>
                    <a:lnTo>
                      <a:pt x="4140" y="5"/>
                    </a:lnTo>
                    <a:cubicBezTo>
                      <a:pt x="4139" y="5"/>
                      <a:pt x="4138" y="4"/>
                      <a:pt x="4138" y="3"/>
                    </a:cubicBezTo>
                    <a:cubicBezTo>
                      <a:pt x="4138" y="2"/>
                      <a:pt x="4139" y="1"/>
                      <a:pt x="4140" y="1"/>
                    </a:cubicBezTo>
                    <a:close/>
                    <a:moveTo>
                      <a:pt x="4148" y="1"/>
                    </a:moveTo>
                    <a:lnTo>
                      <a:pt x="4148" y="1"/>
                    </a:lnTo>
                    <a:cubicBezTo>
                      <a:pt x="4149" y="1"/>
                      <a:pt x="4150" y="2"/>
                      <a:pt x="4150" y="3"/>
                    </a:cubicBezTo>
                    <a:cubicBezTo>
                      <a:pt x="4150" y="4"/>
                      <a:pt x="4149" y="5"/>
                      <a:pt x="4148" y="5"/>
                    </a:cubicBezTo>
                    <a:lnTo>
                      <a:pt x="4148" y="5"/>
                    </a:lnTo>
                    <a:cubicBezTo>
                      <a:pt x="4147" y="5"/>
                      <a:pt x="4146" y="4"/>
                      <a:pt x="4146" y="3"/>
                    </a:cubicBezTo>
                    <a:cubicBezTo>
                      <a:pt x="4146" y="2"/>
                      <a:pt x="4147" y="1"/>
                      <a:pt x="4148" y="1"/>
                    </a:cubicBezTo>
                    <a:close/>
                    <a:moveTo>
                      <a:pt x="4156" y="1"/>
                    </a:moveTo>
                    <a:lnTo>
                      <a:pt x="4156" y="1"/>
                    </a:lnTo>
                    <a:cubicBezTo>
                      <a:pt x="4157" y="1"/>
                      <a:pt x="4158" y="2"/>
                      <a:pt x="4158" y="3"/>
                    </a:cubicBezTo>
                    <a:cubicBezTo>
                      <a:pt x="4158" y="4"/>
                      <a:pt x="4157" y="5"/>
                      <a:pt x="4156" y="5"/>
                    </a:cubicBezTo>
                    <a:lnTo>
                      <a:pt x="4156" y="5"/>
                    </a:lnTo>
                    <a:cubicBezTo>
                      <a:pt x="4155" y="5"/>
                      <a:pt x="4154" y="4"/>
                      <a:pt x="4154" y="3"/>
                    </a:cubicBezTo>
                    <a:cubicBezTo>
                      <a:pt x="4154" y="2"/>
                      <a:pt x="4155" y="1"/>
                      <a:pt x="4156" y="1"/>
                    </a:cubicBezTo>
                    <a:close/>
                    <a:moveTo>
                      <a:pt x="4164" y="1"/>
                    </a:moveTo>
                    <a:lnTo>
                      <a:pt x="4164" y="1"/>
                    </a:lnTo>
                    <a:cubicBezTo>
                      <a:pt x="4165" y="1"/>
                      <a:pt x="4166" y="2"/>
                      <a:pt x="4166" y="3"/>
                    </a:cubicBezTo>
                    <a:cubicBezTo>
                      <a:pt x="4166" y="4"/>
                      <a:pt x="4165" y="5"/>
                      <a:pt x="4164" y="5"/>
                    </a:cubicBezTo>
                    <a:lnTo>
                      <a:pt x="4164" y="5"/>
                    </a:lnTo>
                    <a:cubicBezTo>
                      <a:pt x="4163" y="5"/>
                      <a:pt x="4162" y="4"/>
                      <a:pt x="4162" y="3"/>
                    </a:cubicBezTo>
                    <a:cubicBezTo>
                      <a:pt x="4162" y="2"/>
                      <a:pt x="4163" y="1"/>
                      <a:pt x="4164" y="1"/>
                    </a:cubicBezTo>
                    <a:close/>
                    <a:moveTo>
                      <a:pt x="4172" y="1"/>
                    </a:moveTo>
                    <a:lnTo>
                      <a:pt x="4172" y="1"/>
                    </a:lnTo>
                    <a:cubicBezTo>
                      <a:pt x="4173" y="1"/>
                      <a:pt x="4174" y="2"/>
                      <a:pt x="4174" y="3"/>
                    </a:cubicBezTo>
                    <a:cubicBezTo>
                      <a:pt x="4174" y="4"/>
                      <a:pt x="4173" y="5"/>
                      <a:pt x="4172" y="5"/>
                    </a:cubicBezTo>
                    <a:lnTo>
                      <a:pt x="4172" y="5"/>
                    </a:lnTo>
                    <a:cubicBezTo>
                      <a:pt x="4171" y="5"/>
                      <a:pt x="4170" y="4"/>
                      <a:pt x="4170" y="3"/>
                    </a:cubicBezTo>
                    <a:cubicBezTo>
                      <a:pt x="4170" y="2"/>
                      <a:pt x="4171" y="1"/>
                      <a:pt x="4172" y="1"/>
                    </a:cubicBezTo>
                    <a:close/>
                    <a:moveTo>
                      <a:pt x="4180" y="1"/>
                    </a:moveTo>
                    <a:lnTo>
                      <a:pt x="4180" y="1"/>
                    </a:lnTo>
                    <a:cubicBezTo>
                      <a:pt x="4181" y="1"/>
                      <a:pt x="4182" y="2"/>
                      <a:pt x="4182" y="3"/>
                    </a:cubicBezTo>
                    <a:cubicBezTo>
                      <a:pt x="4182" y="4"/>
                      <a:pt x="4181" y="5"/>
                      <a:pt x="4180" y="5"/>
                    </a:cubicBezTo>
                    <a:lnTo>
                      <a:pt x="4180" y="5"/>
                    </a:lnTo>
                    <a:cubicBezTo>
                      <a:pt x="4179" y="5"/>
                      <a:pt x="4178" y="4"/>
                      <a:pt x="4178" y="3"/>
                    </a:cubicBezTo>
                    <a:cubicBezTo>
                      <a:pt x="4178" y="2"/>
                      <a:pt x="4179" y="1"/>
                      <a:pt x="4180" y="1"/>
                    </a:cubicBezTo>
                    <a:close/>
                    <a:moveTo>
                      <a:pt x="4188" y="1"/>
                    </a:moveTo>
                    <a:lnTo>
                      <a:pt x="4188" y="1"/>
                    </a:lnTo>
                    <a:cubicBezTo>
                      <a:pt x="4189" y="1"/>
                      <a:pt x="4190" y="2"/>
                      <a:pt x="4190" y="3"/>
                    </a:cubicBezTo>
                    <a:cubicBezTo>
                      <a:pt x="4190" y="4"/>
                      <a:pt x="4189" y="5"/>
                      <a:pt x="4188" y="5"/>
                    </a:cubicBezTo>
                    <a:lnTo>
                      <a:pt x="4188" y="5"/>
                    </a:lnTo>
                    <a:cubicBezTo>
                      <a:pt x="4187" y="5"/>
                      <a:pt x="4186" y="4"/>
                      <a:pt x="4186" y="3"/>
                    </a:cubicBezTo>
                    <a:cubicBezTo>
                      <a:pt x="4186" y="2"/>
                      <a:pt x="4187" y="1"/>
                      <a:pt x="4188" y="1"/>
                    </a:cubicBezTo>
                    <a:close/>
                    <a:moveTo>
                      <a:pt x="4196" y="1"/>
                    </a:moveTo>
                    <a:lnTo>
                      <a:pt x="4196" y="1"/>
                    </a:lnTo>
                    <a:cubicBezTo>
                      <a:pt x="4197" y="1"/>
                      <a:pt x="4198" y="2"/>
                      <a:pt x="4198" y="3"/>
                    </a:cubicBezTo>
                    <a:cubicBezTo>
                      <a:pt x="4198" y="4"/>
                      <a:pt x="4197" y="5"/>
                      <a:pt x="4196" y="5"/>
                    </a:cubicBezTo>
                    <a:lnTo>
                      <a:pt x="4196" y="5"/>
                    </a:lnTo>
                    <a:cubicBezTo>
                      <a:pt x="4195" y="5"/>
                      <a:pt x="4194" y="4"/>
                      <a:pt x="4194" y="3"/>
                    </a:cubicBezTo>
                    <a:cubicBezTo>
                      <a:pt x="4194" y="2"/>
                      <a:pt x="4195" y="1"/>
                      <a:pt x="4196" y="1"/>
                    </a:cubicBezTo>
                    <a:close/>
                    <a:moveTo>
                      <a:pt x="4204" y="1"/>
                    </a:moveTo>
                    <a:lnTo>
                      <a:pt x="4204" y="1"/>
                    </a:lnTo>
                    <a:cubicBezTo>
                      <a:pt x="4205" y="1"/>
                      <a:pt x="4206" y="2"/>
                      <a:pt x="4206" y="3"/>
                    </a:cubicBezTo>
                    <a:cubicBezTo>
                      <a:pt x="4206" y="4"/>
                      <a:pt x="4205" y="5"/>
                      <a:pt x="4204" y="5"/>
                    </a:cubicBezTo>
                    <a:lnTo>
                      <a:pt x="4204" y="5"/>
                    </a:lnTo>
                    <a:cubicBezTo>
                      <a:pt x="4203" y="5"/>
                      <a:pt x="4202" y="4"/>
                      <a:pt x="4202" y="3"/>
                    </a:cubicBezTo>
                    <a:cubicBezTo>
                      <a:pt x="4202" y="2"/>
                      <a:pt x="4203" y="1"/>
                      <a:pt x="4204" y="1"/>
                    </a:cubicBezTo>
                    <a:close/>
                    <a:moveTo>
                      <a:pt x="4212" y="1"/>
                    </a:moveTo>
                    <a:lnTo>
                      <a:pt x="4212" y="1"/>
                    </a:lnTo>
                    <a:cubicBezTo>
                      <a:pt x="4213" y="1"/>
                      <a:pt x="4214" y="2"/>
                      <a:pt x="4214" y="3"/>
                    </a:cubicBezTo>
                    <a:cubicBezTo>
                      <a:pt x="4214" y="4"/>
                      <a:pt x="4213" y="5"/>
                      <a:pt x="4212" y="5"/>
                    </a:cubicBezTo>
                    <a:lnTo>
                      <a:pt x="4212" y="5"/>
                    </a:lnTo>
                    <a:cubicBezTo>
                      <a:pt x="4211" y="5"/>
                      <a:pt x="4210" y="4"/>
                      <a:pt x="4210" y="3"/>
                    </a:cubicBezTo>
                    <a:cubicBezTo>
                      <a:pt x="4210" y="2"/>
                      <a:pt x="4211" y="1"/>
                      <a:pt x="4212" y="1"/>
                    </a:cubicBezTo>
                    <a:close/>
                    <a:moveTo>
                      <a:pt x="4220" y="1"/>
                    </a:moveTo>
                    <a:lnTo>
                      <a:pt x="4220" y="1"/>
                    </a:lnTo>
                    <a:cubicBezTo>
                      <a:pt x="4221" y="1"/>
                      <a:pt x="4222" y="2"/>
                      <a:pt x="4222" y="3"/>
                    </a:cubicBezTo>
                    <a:cubicBezTo>
                      <a:pt x="4222" y="4"/>
                      <a:pt x="4221" y="5"/>
                      <a:pt x="4220" y="5"/>
                    </a:cubicBezTo>
                    <a:lnTo>
                      <a:pt x="4220" y="5"/>
                    </a:lnTo>
                    <a:cubicBezTo>
                      <a:pt x="4219" y="5"/>
                      <a:pt x="4218" y="4"/>
                      <a:pt x="4218" y="3"/>
                    </a:cubicBezTo>
                    <a:cubicBezTo>
                      <a:pt x="4218" y="2"/>
                      <a:pt x="4219" y="1"/>
                      <a:pt x="4220" y="1"/>
                    </a:cubicBezTo>
                    <a:close/>
                    <a:moveTo>
                      <a:pt x="4228" y="1"/>
                    </a:moveTo>
                    <a:lnTo>
                      <a:pt x="4228" y="1"/>
                    </a:lnTo>
                    <a:cubicBezTo>
                      <a:pt x="4229" y="1"/>
                      <a:pt x="4230" y="2"/>
                      <a:pt x="4230" y="3"/>
                    </a:cubicBezTo>
                    <a:cubicBezTo>
                      <a:pt x="4230" y="4"/>
                      <a:pt x="4229" y="5"/>
                      <a:pt x="4228" y="5"/>
                    </a:cubicBezTo>
                    <a:lnTo>
                      <a:pt x="4228" y="5"/>
                    </a:lnTo>
                    <a:cubicBezTo>
                      <a:pt x="4227" y="5"/>
                      <a:pt x="4226" y="4"/>
                      <a:pt x="4226" y="3"/>
                    </a:cubicBezTo>
                    <a:cubicBezTo>
                      <a:pt x="4226" y="2"/>
                      <a:pt x="4227" y="1"/>
                      <a:pt x="4228" y="1"/>
                    </a:cubicBezTo>
                    <a:close/>
                    <a:moveTo>
                      <a:pt x="4236" y="1"/>
                    </a:moveTo>
                    <a:lnTo>
                      <a:pt x="4236" y="1"/>
                    </a:lnTo>
                    <a:cubicBezTo>
                      <a:pt x="4237" y="1"/>
                      <a:pt x="4238" y="2"/>
                      <a:pt x="4238" y="3"/>
                    </a:cubicBezTo>
                    <a:cubicBezTo>
                      <a:pt x="4238" y="4"/>
                      <a:pt x="4237" y="5"/>
                      <a:pt x="4236" y="5"/>
                    </a:cubicBezTo>
                    <a:lnTo>
                      <a:pt x="4236" y="5"/>
                    </a:lnTo>
                    <a:cubicBezTo>
                      <a:pt x="4235" y="5"/>
                      <a:pt x="4234" y="4"/>
                      <a:pt x="4234" y="3"/>
                    </a:cubicBezTo>
                    <a:cubicBezTo>
                      <a:pt x="4234" y="2"/>
                      <a:pt x="4235" y="1"/>
                      <a:pt x="4236" y="1"/>
                    </a:cubicBezTo>
                    <a:close/>
                    <a:moveTo>
                      <a:pt x="4244" y="1"/>
                    </a:moveTo>
                    <a:lnTo>
                      <a:pt x="4244" y="1"/>
                    </a:lnTo>
                    <a:cubicBezTo>
                      <a:pt x="4245" y="1"/>
                      <a:pt x="4246" y="2"/>
                      <a:pt x="4246" y="3"/>
                    </a:cubicBezTo>
                    <a:cubicBezTo>
                      <a:pt x="4246" y="4"/>
                      <a:pt x="4245" y="5"/>
                      <a:pt x="4244" y="5"/>
                    </a:cubicBezTo>
                    <a:lnTo>
                      <a:pt x="4244" y="5"/>
                    </a:lnTo>
                    <a:cubicBezTo>
                      <a:pt x="4243" y="5"/>
                      <a:pt x="4242" y="4"/>
                      <a:pt x="4242" y="3"/>
                    </a:cubicBezTo>
                    <a:cubicBezTo>
                      <a:pt x="4242" y="2"/>
                      <a:pt x="4243" y="1"/>
                      <a:pt x="4244" y="1"/>
                    </a:cubicBezTo>
                    <a:close/>
                    <a:moveTo>
                      <a:pt x="4252" y="1"/>
                    </a:moveTo>
                    <a:lnTo>
                      <a:pt x="4252" y="1"/>
                    </a:lnTo>
                    <a:cubicBezTo>
                      <a:pt x="4253" y="1"/>
                      <a:pt x="4254" y="2"/>
                      <a:pt x="4254" y="3"/>
                    </a:cubicBezTo>
                    <a:cubicBezTo>
                      <a:pt x="4254" y="4"/>
                      <a:pt x="4253" y="5"/>
                      <a:pt x="4252" y="5"/>
                    </a:cubicBezTo>
                    <a:lnTo>
                      <a:pt x="4252" y="5"/>
                    </a:lnTo>
                    <a:cubicBezTo>
                      <a:pt x="4251" y="5"/>
                      <a:pt x="4250" y="4"/>
                      <a:pt x="4250" y="3"/>
                    </a:cubicBezTo>
                    <a:cubicBezTo>
                      <a:pt x="4250" y="2"/>
                      <a:pt x="4251" y="1"/>
                      <a:pt x="4252" y="1"/>
                    </a:cubicBezTo>
                    <a:close/>
                    <a:moveTo>
                      <a:pt x="4260" y="1"/>
                    </a:moveTo>
                    <a:lnTo>
                      <a:pt x="4260" y="1"/>
                    </a:lnTo>
                    <a:cubicBezTo>
                      <a:pt x="4261" y="1"/>
                      <a:pt x="4262" y="2"/>
                      <a:pt x="4262" y="3"/>
                    </a:cubicBezTo>
                    <a:cubicBezTo>
                      <a:pt x="4262" y="4"/>
                      <a:pt x="4261" y="5"/>
                      <a:pt x="4260" y="5"/>
                    </a:cubicBezTo>
                    <a:lnTo>
                      <a:pt x="4260" y="5"/>
                    </a:lnTo>
                    <a:cubicBezTo>
                      <a:pt x="4259" y="5"/>
                      <a:pt x="4258" y="4"/>
                      <a:pt x="4258" y="3"/>
                    </a:cubicBezTo>
                    <a:cubicBezTo>
                      <a:pt x="4258" y="2"/>
                      <a:pt x="4259" y="1"/>
                      <a:pt x="4260" y="1"/>
                    </a:cubicBezTo>
                    <a:close/>
                    <a:moveTo>
                      <a:pt x="4268" y="1"/>
                    </a:moveTo>
                    <a:lnTo>
                      <a:pt x="4268" y="1"/>
                    </a:lnTo>
                    <a:cubicBezTo>
                      <a:pt x="4269" y="1"/>
                      <a:pt x="4270" y="2"/>
                      <a:pt x="4270" y="3"/>
                    </a:cubicBezTo>
                    <a:cubicBezTo>
                      <a:pt x="4270" y="4"/>
                      <a:pt x="4269" y="5"/>
                      <a:pt x="4268" y="5"/>
                    </a:cubicBezTo>
                    <a:lnTo>
                      <a:pt x="4268" y="5"/>
                    </a:lnTo>
                    <a:cubicBezTo>
                      <a:pt x="4267" y="5"/>
                      <a:pt x="4266" y="4"/>
                      <a:pt x="4266" y="3"/>
                    </a:cubicBezTo>
                    <a:cubicBezTo>
                      <a:pt x="4266" y="2"/>
                      <a:pt x="4267" y="1"/>
                      <a:pt x="4268" y="1"/>
                    </a:cubicBezTo>
                    <a:close/>
                    <a:moveTo>
                      <a:pt x="4276" y="1"/>
                    </a:moveTo>
                    <a:lnTo>
                      <a:pt x="4276" y="1"/>
                    </a:lnTo>
                    <a:cubicBezTo>
                      <a:pt x="4277" y="1"/>
                      <a:pt x="4278" y="2"/>
                      <a:pt x="4278" y="3"/>
                    </a:cubicBezTo>
                    <a:cubicBezTo>
                      <a:pt x="4278" y="4"/>
                      <a:pt x="4277" y="5"/>
                      <a:pt x="4276" y="5"/>
                    </a:cubicBezTo>
                    <a:lnTo>
                      <a:pt x="4276" y="5"/>
                    </a:lnTo>
                    <a:cubicBezTo>
                      <a:pt x="4275" y="5"/>
                      <a:pt x="4274" y="4"/>
                      <a:pt x="4274" y="3"/>
                    </a:cubicBezTo>
                    <a:cubicBezTo>
                      <a:pt x="4274" y="2"/>
                      <a:pt x="4275" y="1"/>
                      <a:pt x="4276" y="1"/>
                    </a:cubicBezTo>
                    <a:close/>
                    <a:moveTo>
                      <a:pt x="4284" y="1"/>
                    </a:moveTo>
                    <a:lnTo>
                      <a:pt x="4284" y="1"/>
                    </a:lnTo>
                    <a:cubicBezTo>
                      <a:pt x="4285" y="1"/>
                      <a:pt x="4286" y="2"/>
                      <a:pt x="4286" y="3"/>
                    </a:cubicBezTo>
                    <a:cubicBezTo>
                      <a:pt x="4286" y="4"/>
                      <a:pt x="4285" y="5"/>
                      <a:pt x="4284" y="5"/>
                    </a:cubicBezTo>
                    <a:lnTo>
                      <a:pt x="4284" y="5"/>
                    </a:lnTo>
                    <a:cubicBezTo>
                      <a:pt x="4283" y="5"/>
                      <a:pt x="4282" y="4"/>
                      <a:pt x="4282" y="3"/>
                    </a:cubicBezTo>
                    <a:cubicBezTo>
                      <a:pt x="4282" y="2"/>
                      <a:pt x="4283" y="1"/>
                      <a:pt x="4284" y="1"/>
                    </a:cubicBezTo>
                    <a:close/>
                    <a:moveTo>
                      <a:pt x="4292" y="1"/>
                    </a:moveTo>
                    <a:lnTo>
                      <a:pt x="4292" y="1"/>
                    </a:lnTo>
                    <a:cubicBezTo>
                      <a:pt x="4293" y="1"/>
                      <a:pt x="4294" y="2"/>
                      <a:pt x="4294" y="3"/>
                    </a:cubicBezTo>
                    <a:cubicBezTo>
                      <a:pt x="4294" y="4"/>
                      <a:pt x="4293" y="5"/>
                      <a:pt x="4292" y="5"/>
                    </a:cubicBezTo>
                    <a:lnTo>
                      <a:pt x="4292" y="5"/>
                    </a:lnTo>
                    <a:cubicBezTo>
                      <a:pt x="4291" y="5"/>
                      <a:pt x="4290" y="4"/>
                      <a:pt x="4290" y="3"/>
                    </a:cubicBezTo>
                    <a:cubicBezTo>
                      <a:pt x="4290" y="2"/>
                      <a:pt x="4291" y="1"/>
                      <a:pt x="4292" y="1"/>
                    </a:cubicBezTo>
                    <a:close/>
                    <a:moveTo>
                      <a:pt x="4300" y="1"/>
                    </a:moveTo>
                    <a:lnTo>
                      <a:pt x="4300" y="1"/>
                    </a:lnTo>
                    <a:cubicBezTo>
                      <a:pt x="4301" y="1"/>
                      <a:pt x="4302" y="2"/>
                      <a:pt x="4302" y="3"/>
                    </a:cubicBezTo>
                    <a:cubicBezTo>
                      <a:pt x="4302" y="4"/>
                      <a:pt x="4301" y="5"/>
                      <a:pt x="4300" y="5"/>
                    </a:cubicBezTo>
                    <a:lnTo>
                      <a:pt x="4300" y="5"/>
                    </a:lnTo>
                    <a:cubicBezTo>
                      <a:pt x="4299" y="5"/>
                      <a:pt x="4298" y="4"/>
                      <a:pt x="4298" y="3"/>
                    </a:cubicBezTo>
                    <a:cubicBezTo>
                      <a:pt x="4298" y="2"/>
                      <a:pt x="4299" y="1"/>
                      <a:pt x="4300" y="1"/>
                    </a:cubicBezTo>
                    <a:close/>
                    <a:moveTo>
                      <a:pt x="4308" y="1"/>
                    </a:moveTo>
                    <a:lnTo>
                      <a:pt x="4308" y="1"/>
                    </a:lnTo>
                    <a:cubicBezTo>
                      <a:pt x="4309" y="1"/>
                      <a:pt x="4310" y="2"/>
                      <a:pt x="4310" y="3"/>
                    </a:cubicBezTo>
                    <a:cubicBezTo>
                      <a:pt x="4310" y="4"/>
                      <a:pt x="4309" y="5"/>
                      <a:pt x="4308" y="5"/>
                    </a:cubicBezTo>
                    <a:lnTo>
                      <a:pt x="4308" y="5"/>
                    </a:lnTo>
                    <a:cubicBezTo>
                      <a:pt x="4307" y="5"/>
                      <a:pt x="4306" y="4"/>
                      <a:pt x="4306" y="3"/>
                    </a:cubicBezTo>
                    <a:cubicBezTo>
                      <a:pt x="4306" y="2"/>
                      <a:pt x="4307" y="1"/>
                      <a:pt x="4308" y="1"/>
                    </a:cubicBezTo>
                    <a:close/>
                    <a:moveTo>
                      <a:pt x="4316" y="1"/>
                    </a:moveTo>
                    <a:lnTo>
                      <a:pt x="4316" y="1"/>
                    </a:lnTo>
                    <a:cubicBezTo>
                      <a:pt x="4317" y="1"/>
                      <a:pt x="4318" y="2"/>
                      <a:pt x="4318" y="3"/>
                    </a:cubicBezTo>
                    <a:cubicBezTo>
                      <a:pt x="4318" y="4"/>
                      <a:pt x="4317" y="5"/>
                      <a:pt x="4316" y="5"/>
                    </a:cubicBezTo>
                    <a:lnTo>
                      <a:pt x="4316" y="5"/>
                    </a:lnTo>
                    <a:cubicBezTo>
                      <a:pt x="4315" y="5"/>
                      <a:pt x="4314" y="4"/>
                      <a:pt x="4314" y="3"/>
                    </a:cubicBezTo>
                    <a:cubicBezTo>
                      <a:pt x="4314" y="2"/>
                      <a:pt x="4315" y="1"/>
                      <a:pt x="4316" y="1"/>
                    </a:cubicBezTo>
                    <a:close/>
                    <a:moveTo>
                      <a:pt x="4324" y="1"/>
                    </a:moveTo>
                    <a:lnTo>
                      <a:pt x="4324" y="1"/>
                    </a:lnTo>
                    <a:cubicBezTo>
                      <a:pt x="4325" y="1"/>
                      <a:pt x="4326" y="2"/>
                      <a:pt x="4326" y="3"/>
                    </a:cubicBezTo>
                    <a:cubicBezTo>
                      <a:pt x="4326" y="4"/>
                      <a:pt x="4325" y="5"/>
                      <a:pt x="4324" y="5"/>
                    </a:cubicBezTo>
                    <a:lnTo>
                      <a:pt x="4324" y="5"/>
                    </a:lnTo>
                    <a:cubicBezTo>
                      <a:pt x="4323" y="5"/>
                      <a:pt x="4322" y="4"/>
                      <a:pt x="4322" y="3"/>
                    </a:cubicBezTo>
                    <a:cubicBezTo>
                      <a:pt x="4322" y="2"/>
                      <a:pt x="4323" y="1"/>
                      <a:pt x="4324" y="1"/>
                    </a:cubicBezTo>
                    <a:close/>
                    <a:moveTo>
                      <a:pt x="4332" y="1"/>
                    </a:moveTo>
                    <a:lnTo>
                      <a:pt x="4332" y="1"/>
                    </a:lnTo>
                    <a:cubicBezTo>
                      <a:pt x="4333" y="1"/>
                      <a:pt x="4334" y="2"/>
                      <a:pt x="4334" y="3"/>
                    </a:cubicBezTo>
                    <a:cubicBezTo>
                      <a:pt x="4334" y="4"/>
                      <a:pt x="4333" y="5"/>
                      <a:pt x="4332" y="5"/>
                    </a:cubicBezTo>
                    <a:lnTo>
                      <a:pt x="4332" y="5"/>
                    </a:lnTo>
                    <a:cubicBezTo>
                      <a:pt x="4331" y="5"/>
                      <a:pt x="4330" y="4"/>
                      <a:pt x="4330" y="3"/>
                    </a:cubicBezTo>
                    <a:cubicBezTo>
                      <a:pt x="4330" y="2"/>
                      <a:pt x="4331" y="1"/>
                      <a:pt x="4332" y="1"/>
                    </a:cubicBezTo>
                    <a:close/>
                    <a:moveTo>
                      <a:pt x="4340" y="1"/>
                    </a:moveTo>
                    <a:lnTo>
                      <a:pt x="4340" y="1"/>
                    </a:lnTo>
                    <a:cubicBezTo>
                      <a:pt x="4341" y="1"/>
                      <a:pt x="4342" y="2"/>
                      <a:pt x="4342" y="3"/>
                    </a:cubicBezTo>
                    <a:cubicBezTo>
                      <a:pt x="4342" y="4"/>
                      <a:pt x="4341" y="5"/>
                      <a:pt x="4340" y="5"/>
                    </a:cubicBezTo>
                    <a:lnTo>
                      <a:pt x="4340" y="5"/>
                    </a:lnTo>
                    <a:cubicBezTo>
                      <a:pt x="4339" y="5"/>
                      <a:pt x="4338" y="4"/>
                      <a:pt x="4338" y="3"/>
                    </a:cubicBezTo>
                    <a:cubicBezTo>
                      <a:pt x="4338" y="2"/>
                      <a:pt x="4339" y="1"/>
                      <a:pt x="4340" y="1"/>
                    </a:cubicBezTo>
                    <a:close/>
                    <a:moveTo>
                      <a:pt x="4348" y="1"/>
                    </a:moveTo>
                    <a:lnTo>
                      <a:pt x="4348" y="1"/>
                    </a:lnTo>
                    <a:cubicBezTo>
                      <a:pt x="4349" y="1"/>
                      <a:pt x="4350" y="2"/>
                      <a:pt x="4350" y="3"/>
                    </a:cubicBezTo>
                    <a:cubicBezTo>
                      <a:pt x="4350" y="4"/>
                      <a:pt x="4349" y="5"/>
                      <a:pt x="4348" y="5"/>
                    </a:cubicBezTo>
                    <a:lnTo>
                      <a:pt x="4348" y="5"/>
                    </a:lnTo>
                    <a:cubicBezTo>
                      <a:pt x="4347" y="5"/>
                      <a:pt x="4346" y="4"/>
                      <a:pt x="4346" y="3"/>
                    </a:cubicBezTo>
                    <a:cubicBezTo>
                      <a:pt x="4346" y="2"/>
                      <a:pt x="4347" y="1"/>
                      <a:pt x="4348" y="1"/>
                    </a:cubicBezTo>
                    <a:close/>
                    <a:moveTo>
                      <a:pt x="4356" y="1"/>
                    </a:moveTo>
                    <a:lnTo>
                      <a:pt x="4356" y="1"/>
                    </a:lnTo>
                    <a:cubicBezTo>
                      <a:pt x="4357" y="1"/>
                      <a:pt x="4358" y="2"/>
                      <a:pt x="4358" y="3"/>
                    </a:cubicBezTo>
                    <a:cubicBezTo>
                      <a:pt x="4358" y="4"/>
                      <a:pt x="4357" y="5"/>
                      <a:pt x="4356" y="5"/>
                    </a:cubicBezTo>
                    <a:lnTo>
                      <a:pt x="4356" y="5"/>
                    </a:lnTo>
                    <a:cubicBezTo>
                      <a:pt x="4355" y="5"/>
                      <a:pt x="4354" y="4"/>
                      <a:pt x="4354" y="3"/>
                    </a:cubicBezTo>
                    <a:cubicBezTo>
                      <a:pt x="4354" y="2"/>
                      <a:pt x="4355" y="1"/>
                      <a:pt x="4356" y="1"/>
                    </a:cubicBezTo>
                    <a:close/>
                    <a:moveTo>
                      <a:pt x="4364" y="1"/>
                    </a:moveTo>
                    <a:lnTo>
                      <a:pt x="4364" y="1"/>
                    </a:lnTo>
                    <a:cubicBezTo>
                      <a:pt x="4365" y="1"/>
                      <a:pt x="4366" y="2"/>
                      <a:pt x="4366" y="3"/>
                    </a:cubicBezTo>
                    <a:cubicBezTo>
                      <a:pt x="4366" y="4"/>
                      <a:pt x="4365" y="5"/>
                      <a:pt x="4364" y="5"/>
                    </a:cubicBezTo>
                    <a:lnTo>
                      <a:pt x="4364" y="5"/>
                    </a:lnTo>
                    <a:cubicBezTo>
                      <a:pt x="4363" y="5"/>
                      <a:pt x="4362" y="4"/>
                      <a:pt x="4362" y="3"/>
                    </a:cubicBezTo>
                    <a:cubicBezTo>
                      <a:pt x="4362" y="2"/>
                      <a:pt x="4363" y="1"/>
                      <a:pt x="4364" y="1"/>
                    </a:cubicBezTo>
                    <a:close/>
                    <a:moveTo>
                      <a:pt x="4372" y="1"/>
                    </a:moveTo>
                    <a:lnTo>
                      <a:pt x="4372" y="1"/>
                    </a:lnTo>
                    <a:cubicBezTo>
                      <a:pt x="4373" y="1"/>
                      <a:pt x="4374" y="2"/>
                      <a:pt x="4374" y="3"/>
                    </a:cubicBezTo>
                    <a:cubicBezTo>
                      <a:pt x="4374" y="4"/>
                      <a:pt x="4373" y="5"/>
                      <a:pt x="4372" y="5"/>
                    </a:cubicBezTo>
                    <a:lnTo>
                      <a:pt x="4372" y="5"/>
                    </a:lnTo>
                    <a:cubicBezTo>
                      <a:pt x="4371" y="5"/>
                      <a:pt x="4370" y="4"/>
                      <a:pt x="4370" y="3"/>
                    </a:cubicBezTo>
                    <a:cubicBezTo>
                      <a:pt x="4370" y="2"/>
                      <a:pt x="4371" y="1"/>
                      <a:pt x="4372" y="1"/>
                    </a:cubicBezTo>
                    <a:close/>
                    <a:moveTo>
                      <a:pt x="4380" y="1"/>
                    </a:moveTo>
                    <a:lnTo>
                      <a:pt x="4380" y="1"/>
                    </a:lnTo>
                    <a:cubicBezTo>
                      <a:pt x="4381" y="1"/>
                      <a:pt x="4382" y="2"/>
                      <a:pt x="4382" y="3"/>
                    </a:cubicBezTo>
                    <a:cubicBezTo>
                      <a:pt x="4382" y="4"/>
                      <a:pt x="4381" y="5"/>
                      <a:pt x="4380" y="5"/>
                    </a:cubicBezTo>
                    <a:lnTo>
                      <a:pt x="4380" y="5"/>
                    </a:lnTo>
                    <a:cubicBezTo>
                      <a:pt x="4379" y="5"/>
                      <a:pt x="4378" y="4"/>
                      <a:pt x="4378" y="3"/>
                    </a:cubicBezTo>
                    <a:cubicBezTo>
                      <a:pt x="4378" y="2"/>
                      <a:pt x="4379" y="1"/>
                      <a:pt x="4380" y="1"/>
                    </a:cubicBezTo>
                    <a:close/>
                    <a:moveTo>
                      <a:pt x="4388" y="1"/>
                    </a:moveTo>
                    <a:lnTo>
                      <a:pt x="4388" y="1"/>
                    </a:lnTo>
                    <a:cubicBezTo>
                      <a:pt x="4389" y="1"/>
                      <a:pt x="4390" y="2"/>
                      <a:pt x="4390" y="3"/>
                    </a:cubicBezTo>
                    <a:cubicBezTo>
                      <a:pt x="4390" y="4"/>
                      <a:pt x="4389" y="5"/>
                      <a:pt x="4388" y="5"/>
                    </a:cubicBezTo>
                    <a:lnTo>
                      <a:pt x="4388" y="5"/>
                    </a:lnTo>
                    <a:cubicBezTo>
                      <a:pt x="4387" y="5"/>
                      <a:pt x="4386" y="4"/>
                      <a:pt x="4386" y="3"/>
                    </a:cubicBezTo>
                    <a:cubicBezTo>
                      <a:pt x="4386" y="2"/>
                      <a:pt x="4387" y="1"/>
                      <a:pt x="4388" y="1"/>
                    </a:cubicBezTo>
                    <a:close/>
                    <a:moveTo>
                      <a:pt x="4396" y="1"/>
                    </a:moveTo>
                    <a:lnTo>
                      <a:pt x="4396" y="1"/>
                    </a:lnTo>
                    <a:cubicBezTo>
                      <a:pt x="4397" y="1"/>
                      <a:pt x="4398" y="2"/>
                      <a:pt x="4398" y="3"/>
                    </a:cubicBezTo>
                    <a:cubicBezTo>
                      <a:pt x="4398" y="4"/>
                      <a:pt x="4397" y="5"/>
                      <a:pt x="4396" y="5"/>
                    </a:cubicBezTo>
                    <a:lnTo>
                      <a:pt x="4396" y="5"/>
                    </a:lnTo>
                    <a:cubicBezTo>
                      <a:pt x="4395" y="5"/>
                      <a:pt x="4394" y="4"/>
                      <a:pt x="4394" y="3"/>
                    </a:cubicBezTo>
                    <a:cubicBezTo>
                      <a:pt x="4394" y="2"/>
                      <a:pt x="4395" y="1"/>
                      <a:pt x="4396" y="1"/>
                    </a:cubicBezTo>
                    <a:close/>
                    <a:moveTo>
                      <a:pt x="4404" y="1"/>
                    </a:moveTo>
                    <a:lnTo>
                      <a:pt x="4404" y="1"/>
                    </a:lnTo>
                    <a:cubicBezTo>
                      <a:pt x="4405" y="1"/>
                      <a:pt x="4406" y="2"/>
                      <a:pt x="4406" y="3"/>
                    </a:cubicBezTo>
                    <a:cubicBezTo>
                      <a:pt x="4406" y="4"/>
                      <a:pt x="4405" y="5"/>
                      <a:pt x="4404" y="5"/>
                    </a:cubicBezTo>
                    <a:lnTo>
                      <a:pt x="4404" y="5"/>
                    </a:lnTo>
                    <a:cubicBezTo>
                      <a:pt x="4403" y="5"/>
                      <a:pt x="4402" y="4"/>
                      <a:pt x="4402" y="3"/>
                    </a:cubicBezTo>
                    <a:cubicBezTo>
                      <a:pt x="4402" y="2"/>
                      <a:pt x="4403" y="1"/>
                      <a:pt x="4404" y="1"/>
                    </a:cubicBezTo>
                    <a:close/>
                    <a:moveTo>
                      <a:pt x="4412" y="1"/>
                    </a:moveTo>
                    <a:lnTo>
                      <a:pt x="4412" y="1"/>
                    </a:lnTo>
                    <a:cubicBezTo>
                      <a:pt x="4413" y="1"/>
                      <a:pt x="4414" y="2"/>
                      <a:pt x="4414" y="3"/>
                    </a:cubicBezTo>
                    <a:cubicBezTo>
                      <a:pt x="4414" y="4"/>
                      <a:pt x="4413" y="5"/>
                      <a:pt x="4412" y="5"/>
                    </a:cubicBezTo>
                    <a:lnTo>
                      <a:pt x="4412" y="5"/>
                    </a:lnTo>
                    <a:cubicBezTo>
                      <a:pt x="4411" y="5"/>
                      <a:pt x="4410" y="4"/>
                      <a:pt x="4410" y="3"/>
                    </a:cubicBezTo>
                    <a:cubicBezTo>
                      <a:pt x="4410" y="2"/>
                      <a:pt x="4411" y="1"/>
                      <a:pt x="4412" y="1"/>
                    </a:cubicBezTo>
                    <a:close/>
                    <a:moveTo>
                      <a:pt x="4420" y="1"/>
                    </a:moveTo>
                    <a:lnTo>
                      <a:pt x="4420" y="1"/>
                    </a:lnTo>
                    <a:cubicBezTo>
                      <a:pt x="4421" y="1"/>
                      <a:pt x="4422" y="2"/>
                      <a:pt x="4422" y="3"/>
                    </a:cubicBezTo>
                    <a:cubicBezTo>
                      <a:pt x="4422" y="4"/>
                      <a:pt x="4421" y="5"/>
                      <a:pt x="4420" y="5"/>
                    </a:cubicBezTo>
                    <a:lnTo>
                      <a:pt x="4420" y="5"/>
                    </a:lnTo>
                    <a:cubicBezTo>
                      <a:pt x="4419" y="5"/>
                      <a:pt x="4418" y="4"/>
                      <a:pt x="4418" y="3"/>
                    </a:cubicBezTo>
                    <a:cubicBezTo>
                      <a:pt x="4418" y="2"/>
                      <a:pt x="4419" y="1"/>
                      <a:pt x="4420" y="1"/>
                    </a:cubicBezTo>
                    <a:close/>
                    <a:moveTo>
                      <a:pt x="4428" y="1"/>
                    </a:moveTo>
                    <a:lnTo>
                      <a:pt x="4428" y="1"/>
                    </a:lnTo>
                    <a:cubicBezTo>
                      <a:pt x="4429" y="1"/>
                      <a:pt x="4430" y="2"/>
                      <a:pt x="4430" y="3"/>
                    </a:cubicBezTo>
                    <a:cubicBezTo>
                      <a:pt x="4430" y="4"/>
                      <a:pt x="4429" y="5"/>
                      <a:pt x="4428" y="5"/>
                    </a:cubicBezTo>
                    <a:lnTo>
                      <a:pt x="4428" y="5"/>
                    </a:lnTo>
                    <a:cubicBezTo>
                      <a:pt x="4427" y="5"/>
                      <a:pt x="4426" y="4"/>
                      <a:pt x="4426" y="3"/>
                    </a:cubicBezTo>
                    <a:cubicBezTo>
                      <a:pt x="4426" y="2"/>
                      <a:pt x="4427" y="1"/>
                      <a:pt x="4428" y="1"/>
                    </a:cubicBezTo>
                    <a:close/>
                    <a:moveTo>
                      <a:pt x="4436" y="1"/>
                    </a:moveTo>
                    <a:lnTo>
                      <a:pt x="4436" y="1"/>
                    </a:lnTo>
                    <a:cubicBezTo>
                      <a:pt x="4437" y="1"/>
                      <a:pt x="4438" y="2"/>
                      <a:pt x="4438" y="3"/>
                    </a:cubicBezTo>
                    <a:cubicBezTo>
                      <a:pt x="4438" y="4"/>
                      <a:pt x="4437" y="5"/>
                      <a:pt x="4436" y="5"/>
                    </a:cubicBezTo>
                    <a:lnTo>
                      <a:pt x="4436" y="5"/>
                    </a:lnTo>
                    <a:cubicBezTo>
                      <a:pt x="4435" y="5"/>
                      <a:pt x="4434" y="4"/>
                      <a:pt x="4434" y="3"/>
                    </a:cubicBezTo>
                    <a:cubicBezTo>
                      <a:pt x="4434" y="2"/>
                      <a:pt x="4435" y="1"/>
                      <a:pt x="4436" y="1"/>
                    </a:cubicBezTo>
                    <a:close/>
                    <a:moveTo>
                      <a:pt x="4444" y="1"/>
                    </a:moveTo>
                    <a:lnTo>
                      <a:pt x="4444" y="1"/>
                    </a:lnTo>
                    <a:cubicBezTo>
                      <a:pt x="4445" y="1"/>
                      <a:pt x="4446" y="2"/>
                      <a:pt x="4446" y="3"/>
                    </a:cubicBezTo>
                    <a:cubicBezTo>
                      <a:pt x="4446" y="4"/>
                      <a:pt x="4445" y="5"/>
                      <a:pt x="4444" y="5"/>
                    </a:cubicBezTo>
                    <a:lnTo>
                      <a:pt x="4444" y="5"/>
                    </a:lnTo>
                    <a:cubicBezTo>
                      <a:pt x="4443" y="5"/>
                      <a:pt x="4442" y="4"/>
                      <a:pt x="4442" y="3"/>
                    </a:cubicBezTo>
                    <a:cubicBezTo>
                      <a:pt x="4442" y="2"/>
                      <a:pt x="4443" y="1"/>
                      <a:pt x="4444" y="1"/>
                    </a:cubicBezTo>
                    <a:close/>
                    <a:moveTo>
                      <a:pt x="4452" y="1"/>
                    </a:moveTo>
                    <a:lnTo>
                      <a:pt x="4452" y="1"/>
                    </a:lnTo>
                    <a:cubicBezTo>
                      <a:pt x="4453" y="1"/>
                      <a:pt x="4454" y="2"/>
                      <a:pt x="4454" y="3"/>
                    </a:cubicBezTo>
                    <a:cubicBezTo>
                      <a:pt x="4454" y="4"/>
                      <a:pt x="4453" y="5"/>
                      <a:pt x="4452" y="5"/>
                    </a:cubicBezTo>
                    <a:lnTo>
                      <a:pt x="4452" y="5"/>
                    </a:lnTo>
                    <a:cubicBezTo>
                      <a:pt x="4451" y="5"/>
                      <a:pt x="4450" y="4"/>
                      <a:pt x="4450" y="3"/>
                    </a:cubicBezTo>
                    <a:cubicBezTo>
                      <a:pt x="4450" y="2"/>
                      <a:pt x="4451" y="1"/>
                      <a:pt x="4452" y="1"/>
                    </a:cubicBezTo>
                    <a:close/>
                    <a:moveTo>
                      <a:pt x="4460" y="1"/>
                    </a:moveTo>
                    <a:lnTo>
                      <a:pt x="4460" y="1"/>
                    </a:lnTo>
                    <a:cubicBezTo>
                      <a:pt x="4461" y="1"/>
                      <a:pt x="4462" y="2"/>
                      <a:pt x="4462" y="3"/>
                    </a:cubicBezTo>
                    <a:cubicBezTo>
                      <a:pt x="4462" y="4"/>
                      <a:pt x="4461" y="5"/>
                      <a:pt x="4460" y="5"/>
                    </a:cubicBezTo>
                    <a:lnTo>
                      <a:pt x="4460" y="5"/>
                    </a:lnTo>
                    <a:cubicBezTo>
                      <a:pt x="4459" y="5"/>
                      <a:pt x="4458" y="4"/>
                      <a:pt x="4458" y="3"/>
                    </a:cubicBezTo>
                    <a:cubicBezTo>
                      <a:pt x="4458" y="2"/>
                      <a:pt x="4459" y="1"/>
                      <a:pt x="4460" y="1"/>
                    </a:cubicBezTo>
                    <a:close/>
                    <a:moveTo>
                      <a:pt x="4468" y="1"/>
                    </a:moveTo>
                    <a:lnTo>
                      <a:pt x="4468" y="1"/>
                    </a:lnTo>
                    <a:cubicBezTo>
                      <a:pt x="4469" y="1"/>
                      <a:pt x="4470" y="2"/>
                      <a:pt x="4470" y="3"/>
                    </a:cubicBezTo>
                    <a:cubicBezTo>
                      <a:pt x="4470" y="4"/>
                      <a:pt x="4469" y="5"/>
                      <a:pt x="4468" y="5"/>
                    </a:cubicBezTo>
                    <a:lnTo>
                      <a:pt x="4468" y="5"/>
                    </a:lnTo>
                    <a:cubicBezTo>
                      <a:pt x="4467" y="5"/>
                      <a:pt x="4466" y="4"/>
                      <a:pt x="4466" y="3"/>
                    </a:cubicBezTo>
                    <a:cubicBezTo>
                      <a:pt x="4466" y="2"/>
                      <a:pt x="4467" y="1"/>
                      <a:pt x="4468" y="1"/>
                    </a:cubicBezTo>
                    <a:close/>
                    <a:moveTo>
                      <a:pt x="4476" y="1"/>
                    </a:moveTo>
                    <a:lnTo>
                      <a:pt x="4476" y="1"/>
                    </a:lnTo>
                    <a:cubicBezTo>
                      <a:pt x="4477" y="1"/>
                      <a:pt x="4478" y="2"/>
                      <a:pt x="4478" y="3"/>
                    </a:cubicBezTo>
                    <a:cubicBezTo>
                      <a:pt x="4478" y="4"/>
                      <a:pt x="4477" y="5"/>
                      <a:pt x="4476" y="5"/>
                    </a:cubicBezTo>
                    <a:lnTo>
                      <a:pt x="4476" y="5"/>
                    </a:lnTo>
                    <a:cubicBezTo>
                      <a:pt x="4475" y="5"/>
                      <a:pt x="4474" y="4"/>
                      <a:pt x="4474" y="3"/>
                    </a:cubicBezTo>
                    <a:cubicBezTo>
                      <a:pt x="4474" y="2"/>
                      <a:pt x="4475" y="1"/>
                      <a:pt x="4476" y="1"/>
                    </a:cubicBezTo>
                    <a:close/>
                    <a:moveTo>
                      <a:pt x="4484" y="1"/>
                    </a:moveTo>
                    <a:lnTo>
                      <a:pt x="4484" y="1"/>
                    </a:lnTo>
                    <a:cubicBezTo>
                      <a:pt x="4485" y="1"/>
                      <a:pt x="4486" y="2"/>
                      <a:pt x="4486" y="3"/>
                    </a:cubicBezTo>
                    <a:cubicBezTo>
                      <a:pt x="4486" y="4"/>
                      <a:pt x="4485" y="5"/>
                      <a:pt x="4484" y="5"/>
                    </a:cubicBezTo>
                    <a:lnTo>
                      <a:pt x="4484" y="5"/>
                    </a:lnTo>
                    <a:cubicBezTo>
                      <a:pt x="4483" y="5"/>
                      <a:pt x="4482" y="4"/>
                      <a:pt x="4482" y="3"/>
                    </a:cubicBezTo>
                    <a:cubicBezTo>
                      <a:pt x="4482" y="2"/>
                      <a:pt x="4483" y="1"/>
                      <a:pt x="4484" y="1"/>
                    </a:cubicBezTo>
                    <a:close/>
                    <a:moveTo>
                      <a:pt x="4492" y="1"/>
                    </a:moveTo>
                    <a:lnTo>
                      <a:pt x="4492" y="1"/>
                    </a:lnTo>
                    <a:cubicBezTo>
                      <a:pt x="4493" y="1"/>
                      <a:pt x="4494" y="2"/>
                      <a:pt x="4494" y="3"/>
                    </a:cubicBezTo>
                    <a:cubicBezTo>
                      <a:pt x="4494" y="4"/>
                      <a:pt x="4493" y="5"/>
                      <a:pt x="4492" y="5"/>
                    </a:cubicBezTo>
                    <a:lnTo>
                      <a:pt x="4492" y="5"/>
                    </a:lnTo>
                    <a:cubicBezTo>
                      <a:pt x="4491" y="5"/>
                      <a:pt x="4490" y="4"/>
                      <a:pt x="4490" y="3"/>
                    </a:cubicBezTo>
                    <a:cubicBezTo>
                      <a:pt x="4490" y="2"/>
                      <a:pt x="4491" y="1"/>
                      <a:pt x="4492" y="1"/>
                    </a:cubicBezTo>
                    <a:close/>
                    <a:moveTo>
                      <a:pt x="4500" y="1"/>
                    </a:moveTo>
                    <a:lnTo>
                      <a:pt x="4500" y="1"/>
                    </a:lnTo>
                    <a:cubicBezTo>
                      <a:pt x="4501" y="1"/>
                      <a:pt x="4502" y="2"/>
                      <a:pt x="4502" y="3"/>
                    </a:cubicBezTo>
                    <a:cubicBezTo>
                      <a:pt x="4502" y="4"/>
                      <a:pt x="4501" y="5"/>
                      <a:pt x="4500" y="5"/>
                    </a:cubicBezTo>
                    <a:lnTo>
                      <a:pt x="4500" y="5"/>
                    </a:lnTo>
                    <a:cubicBezTo>
                      <a:pt x="4499" y="5"/>
                      <a:pt x="4498" y="4"/>
                      <a:pt x="4498" y="3"/>
                    </a:cubicBezTo>
                    <a:cubicBezTo>
                      <a:pt x="4498" y="2"/>
                      <a:pt x="4499" y="1"/>
                      <a:pt x="4500" y="1"/>
                    </a:cubicBezTo>
                    <a:close/>
                    <a:moveTo>
                      <a:pt x="4508" y="1"/>
                    </a:moveTo>
                    <a:lnTo>
                      <a:pt x="4508" y="1"/>
                    </a:lnTo>
                    <a:cubicBezTo>
                      <a:pt x="4509" y="1"/>
                      <a:pt x="4510" y="2"/>
                      <a:pt x="4510" y="3"/>
                    </a:cubicBezTo>
                    <a:cubicBezTo>
                      <a:pt x="4510" y="4"/>
                      <a:pt x="4509" y="5"/>
                      <a:pt x="4508" y="5"/>
                    </a:cubicBezTo>
                    <a:lnTo>
                      <a:pt x="4508" y="5"/>
                    </a:lnTo>
                    <a:cubicBezTo>
                      <a:pt x="4507" y="5"/>
                      <a:pt x="4506" y="4"/>
                      <a:pt x="4506" y="3"/>
                    </a:cubicBezTo>
                    <a:cubicBezTo>
                      <a:pt x="4506" y="2"/>
                      <a:pt x="4507" y="1"/>
                      <a:pt x="4508" y="1"/>
                    </a:cubicBezTo>
                    <a:close/>
                    <a:moveTo>
                      <a:pt x="4516" y="1"/>
                    </a:moveTo>
                    <a:lnTo>
                      <a:pt x="4516" y="1"/>
                    </a:lnTo>
                    <a:cubicBezTo>
                      <a:pt x="4517" y="1"/>
                      <a:pt x="4518" y="2"/>
                      <a:pt x="4518" y="3"/>
                    </a:cubicBezTo>
                    <a:cubicBezTo>
                      <a:pt x="4518" y="4"/>
                      <a:pt x="4517" y="5"/>
                      <a:pt x="4516" y="5"/>
                    </a:cubicBezTo>
                    <a:lnTo>
                      <a:pt x="4516" y="5"/>
                    </a:lnTo>
                    <a:cubicBezTo>
                      <a:pt x="4515" y="5"/>
                      <a:pt x="4514" y="4"/>
                      <a:pt x="4514" y="3"/>
                    </a:cubicBezTo>
                    <a:cubicBezTo>
                      <a:pt x="4514" y="2"/>
                      <a:pt x="4515" y="1"/>
                      <a:pt x="4516" y="1"/>
                    </a:cubicBezTo>
                    <a:close/>
                    <a:moveTo>
                      <a:pt x="4524" y="1"/>
                    </a:moveTo>
                    <a:lnTo>
                      <a:pt x="4524" y="1"/>
                    </a:lnTo>
                    <a:cubicBezTo>
                      <a:pt x="4525" y="1"/>
                      <a:pt x="4526" y="2"/>
                      <a:pt x="4526" y="3"/>
                    </a:cubicBezTo>
                    <a:cubicBezTo>
                      <a:pt x="4526" y="4"/>
                      <a:pt x="4525" y="5"/>
                      <a:pt x="4524" y="5"/>
                    </a:cubicBezTo>
                    <a:lnTo>
                      <a:pt x="4524" y="5"/>
                    </a:lnTo>
                    <a:cubicBezTo>
                      <a:pt x="4523" y="5"/>
                      <a:pt x="4522" y="4"/>
                      <a:pt x="4522" y="3"/>
                    </a:cubicBezTo>
                    <a:cubicBezTo>
                      <a:pt x="4522" y="2"/>
                      <a:pt x="4523" y="1"/>
                      <a:pt x="4524" y="1"/>
                    </a:cubicBezTo>
                    <a:close/>
                    <a:moveTo>
                      <a:pt x="4532" y="1"/>
                    </a:moveTo>
                    <a:lnTo>
                      <a:pt x="4532" y="1"/>
                    </a:lnTo>
                    <a:cubicBezTo>
                      <a:pt x="4533" y="1"/>
                      <a:pt x="4534" y="2"/>
                      <a:pt x="4534" y="3"/>
                    </a:cubicBezTo>
                    <a:cubicBezTo>
                      <a:pt x="4534" y="4"/>
                      <a:pt x="4533" y="5"/>
                      <a:pt x="4532" y="5"/>
                    </a:cubicBezTo>
                    <a:lnTo>
                      <a:pt x="4532" y="5"/>
                    </a:lnTo>
                    <a:cubicBezTo>
                      <a:pt x="4531" y="5"/>
                      <a:pt x="4530" y="4"/>
                      <a:pt x="4530" y="3"/>
                    </a:cubicBezTo>
                    <a:cubicBezTo>
                      <a:pt x="4530" y="2"/>
                      <a:pt x="4531" y="1"/>
                      <a:pt x="4532" y="1"/>
                    </a:cubicBezTo>
                    <a:close/>
                    <a:moveTo>
                      <a:pt x="4540" y="1"/>
                    </a:moveTo>
                    <a:lnTo>
                      <a:pt x="4540" y="1"/>
                    </a:lnTo>
                    <a:cubicBezTo>
                      <a:pt x="4541" y="1"/>
                      <a:pt x="4542" y="2"/>
                      <a:pt x="4542" y="3"/>
                    </a:cubicBezTo>
                    <a:cubicBezTo>
                      <a:pt x="4542" y="4"/>
                      <a:pt x="4541" y="5"/>
                      <a:pt x="4540" y="5"/>
                    </a:cubicBezTo>
                    <a:lnTo>
                      <a:pt x="4540" y="5"/>
                    </a:lnTo>
                    <a:cubicBezTo>
                      <a:pt x="4539" y="5"/>
                      <a:pt x="4538" y="4"/>
                      <a:pt x="4538" y="3"/>
                    </a:cubicBezTo>
                    <a:cubicBezTo>
                      <a:pt x="4538" y="2"/>
                      <a:pt x="4539" y="1"/>
                      <a:pt x="4540" y="1"/>
                    </a:cubicBezTo>
                    <a:close/>
                    <a:moveTo>
                      <a:pt x="4548" y="1"/>
                    </a:moveTo>
                    <a:lnTo>
                      <a:pt x="4548" y="1"/>
                    </a:lnTo>
                    <a:cubicBezTo>
                      <a:pt x="4549" y="1"/>
                      <a:pt x="4550" y="2"/>
                      <a:pt x="4550" y="3"/>
                    </a:cubicBezTo>
                    <a:cubicBezTo>
                      <a:pt x="4550" y="4"/>
                      <a:pt x="4549" y="5"/>
                      <a:pt x="4548" y="5"/>
                    </a:cubicBezTo>
                    <a:lnTo>
                      <a:pt x="4548" y="5"/>
                    </a:lnTo>
                    <a:cubicBezTo>
                      <a:pt x="4547" y="5"/>
                      <a:pt x="4546" y="4"/>
                      <a:pt x="4546" y="3"/>
                    </a:cubicBezTo>
                    <a:cubicBezTo>
                      <a:pt x="4546" y="2"/>
                      <a:pt x="4547" y="1"/>
                      <a:pt x="4548" y="1"/>
                    </a:cubicBezTo>
                    <a:close/>
                    <a:moveTo>
                      <a:pt x="4556" y="1"/>
                    </a:moveTo>
                    <a:lnTo>
                      <a:pt x="4556" y="1"/>
                    </a:lnTo>
                    <a:cubicBezTo>
                      <a:pt x="4557" y="1"/>
                      <a:pt x="4558" y="2"/>
                      <a:pt x="4558" y="3"/>
                    </a:cubicBezTo>
                    <a:cubicBezTo>
                      <a:pt x="4558" y="4"/>
                      <a:pt x="4557" y="5"/>
                      <a:pt x="4556" y="5"/>
                    </a:cubicBezTo>
                    <a:lnTo>
                      <a:pt x="4556" y="5"/>
                    </a:lnTo>
                    <a:cubicBezTo>
                      <a:pt x="4555" y="5"/>
                      <a:pt x="4554" y="4"/>
                      <a:pt x="4554" y="3"/>
                    </a:cubicBezTo>
                    <a:cubicBezTo>
                      <a:pt x="4554" y="2"/>
                      <a:pt x="4555" y="1"/>
                      <a:pt x="4556" y="1"/>
                    </a:cubicBezTo>
                    <a:close/>
                    <a:moveTo>
                      <a:pt x="4564" y="1"/>
                    </a:moveTo>
                    <a:lnTo>
                      <a:pt x="4564" y="1"/>
                    </a:lnTo>
                    <a:cubicBezTo>
                      <a:pt x="4565" y="1"/>
                      <a:pt x="4566" y="2"/>
                      <a:pt x="4566" y="3"/>
                    </a:cubicBezTo>
                    <a:cubicBezTo>
                      <a:pt x="4566" y="4"/>
                      <a:pt x="4565" y="5"/>
                      <a:pt x="4564" y="5"/>
                    </a:cubicBezTo>
                    <a:lnTo>
                      <a:pt x="4564" y="5"/>
                    </a:lnTo>
                    <a:cubicBezTo>
                      <a:pt x="4563" y="5"/>
                      <a:pt x="4562" y="4"/>
                      <a:pt x="4562" y="3"/>
                    </a:cubicBezTo>
                    <a:cubicBezTo>
                      <a:pt x="4562" y="2"/>
                      <a:pt x="4563" y="1"/>
                      <a:pt x="4564" y="1"/>
                    </a:cubicBezTo>
                    <a:close/>
                    <a:moveTo>
                      <a:pt x="4572" y="1"/>
                    </a:moveTo>
                    <a:lnTo>
                      <a:pt x="4572" y="1"/>
                    </a:lnTo>
                    <a:cubicBezTo>
                      <a:pt x="4573" y="1"/>
                      <a:pt x="4574" y="2"/>
                      <a:pt x="4574" y="3"/>
                    </a:cubicBezTo>
                    <a:cubicBezTo>
                      <a:pt x="4574" y="4"/>
                      <a:pt x="4573" y="5"/>
                      <a:pt x="4572" y="5"/>
                    </a:cubicBezTo>
                    <a:lnTo>
                      <a:pt x="4572" y="5"/>
                    </a:lnTo>
                    <a:cubicBezTo>
                      <a:pt x="4571" y="5"/>
                      <a:pt x="4570" y="4"/>
                      <a:pt x="4570" y="3"/>
                    </a:cubicBezTo>
                    <a:cubicBezTo>
                      <a:pt x="4570" y="2"/>
                      <a:pt x="4571" y="1"/>
                      <a:pt x="4572" y="1"/>
                    </a:cubicBezTo>
                    <a:close/>
                    <a:moveTo>
                      <a:pt x="4580" y="1"/>
                    </a:moveTo>
                    <a:lnTo>
                      <a:pt x="4580" y="1"/>
                    </a:lnTo>
                    <a:cubicBezTo>
                      <a:pt x="4581" y="1"/>
                      <a:pt x="4582" y="2"/>
                      <a:pt x="4582" y="3"/>
                    </a:cubicBezTo>
                    <a:cubicBezTo>
                      <a:pt x="4582" y="4"/>
                      <a:pt x="4581" y="5"/>
                      <a:pt x="4580" y="5"/>
                    </a:cubicBezTo>
                    <a:lnTo>
                      <a:pt x="4580" y="5"/>
                    </a:lnTo>
                    <a:cubicBezTo>
                      <a:pt x="4579" y="5"/>
                      <a:pt x="4578" y="4"/>
                      <a:pt x="4578" y="3"/>
                    </a:cubicBezTo>
                    <a:cubicBezTo>
                      <a:pt x="4578" y="2"/>
                      <a:pt x="4579" y="1"/>
                      <a:pt x="4580" y="1"/>
                    </a:cubicBezTo>
                    <a:close/>
                    <a:moveTo>
                      <a:pt x="4588" y="1"/>
                    </a:moveTo>
                    <a:lnTo>
                      <a:pt x="4588" y="1"/>
                    </a:lnTo>
                    <a:cubicBezTo>
                      <a:pt x="4589" y="1"/>
                      <a:pt x="4590" y="2"/>
                      <a:pt x="4590" y="3"/>
                    </a:cubicBezTo>
                    <a:cubicBezTo>
                      <a:pt x="4590" y="4"/>
                      <a:pt x="4589" y="5"/>
                      <a:pt x="4588" y="5"/>
                    </a:cubicBezTo>
                    <a:lnTo>
                      <a:pt x="4588" y="5"/>
                    </a:lnTo>
                    <a:cubicBezTo>
                      <a:pt x="4587" y="5"/>
                      <a:pt x="4586" y="4"/>
                      <a:pt x="4586" y="3"/>
                    </a:cubicBezTo>
                    <a:cubicBezTo>
                      <a:pt x="4586" y="2"/>
                      <a:pt x="4587" y="1"/>
                      <a:pt x="4588" y="1"/>
                    </a:cubicBezTo>
                    <a:close/>
                    <a:moveTo>
                      <a:pt x="4596" y="1"/>
                    </a:moveTo>
                    <a:lnTo>
                      <a:pt x="4596" y="1"/>
                    </a:lnTo>
                    <a:cubicBezTo>
                      <a:pt x="4597" y="1"/>
                      <a:pt x="4598" y="2"/>
                      <a:pt x="4598" y="3"/>
                    </a:cubicBezTo>
                    <a:cubicBezTo>
                      <a:pt x="4598" y="4"/>
                      <a:pt x="4597" y="5"/>
                      <a:pt x="4596" y="5"/>
                    </a:cubicBezTo>
                    <a:lnTo>
                      <a:pt x="4596" y="5"/>
                    </a:lnTo>
                    <a:cubicBezTo>
                      <a:pt x="4595" y="5"/>
                      <a:pt x="4594" y="4"/>
                      <a:pt x="4594" y="3"/>
                    </a:cubicBezTo>
                    <a:cubicBezTo>
                      <a:pt x="4594" y="2"/>
                      <a:pt x="4595" y="1"/>
                      <a:pt x="4596" y="1"/>
                    </a:cubicBezTo>
                    <a:close/>
                    <a:moveTo>
                      <a:pt x="4604" y="1"/>
                    </a:moveTo>
                    <a:lnTo>
                      <a:pt x="4604" y="1"/>
                    </a:lnTo>
                    <a:cubicBezTo>
                      <a:pt x="4605" y="1"/>
                      <a:pt x="4606" y="2"/>
                      <a:pt x="4606" y="3"/>
                    </a:cubicBezTo>
                    <a:cubicBezTo>
                      <a:pt x="4606" y="4"/>
                      <a:pt x="4605" y="5"/>
                      <a:pt x="4604" y="5"/>
                    </a:cubicBezTo>
                    <a:lnTo>
                      <a:pt x="4604" y="5"/>
                    </a:lnTo>
                    <a:cubicBezTo>
                      <a:pt x="4603" y="5"/>
                      <a:pt x="4602" y="4"/>
                      <a:pt x="4602" y="3"/>
                    </a:cubicBezTo>
                    <a:cubicBezTo>
                      <a:pt x="4602" y="2"/>
                      <a:pt x="4603" y="1"/>
                      <a:pt x="4604" y="1"/>
                    </a:cubicBezTo>
                    <a:close/>
                    <a:moveTo>
                      <a:pt x="4612" y="1"/>
                    </a:moveTo>
                    <a:lnTo>
                      <a:pt x="4612" y="1"/>
                    </a:lnTo>
                    <a:cubicBezTo>
                      <a:pt x="4613" y="1"/>
                      <a:pt x="4614" y="2"/>
                      <a:pt x="4614" y="3"/>
                    </a:cubicBezTo>
                    <a:cubicBezTo>
                      <a:pt x="4614" y="4"/>
                      <a:pt x="4613" y="5"/>
                      <a:pt x="4612" y="5"/>
                    </a:cubicBezTo>
                    <a:lnTo>
                      <a:pt x="4612" y="5"/>
                    </a:lnTo>
                    <a:cubicBezTo>
                      <a:pt x="4611" y="5"/>
                      <a:pt x="4610" y="4"/>
                      <a:pt x="4610" y="3"/>
                    </a:cubicBezTo>
                    <a:cubicBezTo>
                      <a:pt x="4610" y="2"/>
                      <a:pt x="4611" y="1"/>
                      <a:pt x="4612" y="1"/>
                    </a:cubicBezTo>
                    <a:close/>
                    <a:moveTo>
                      <a:pt x="4620" y="1"/>
                    </a:moveTo>
                    <a:lnTo>
                      <a:pt x="4620" y="1"/>
                    </a:lnTo>
                    <a:cubicBezTo>
                      <a:pt x="4621" y="1"/>
                      <a:pt x="4622" y="2"/>
                      <a:pt x="4622" y="3"/>
                    </a:cubicBezTo>
                    <a:cubicBezTo>
                      <a:pt x="4622" y="4"/>
                      <a:pt x="4621" y="5"/>
                      <a:pt x="4620" y="5"/>
                    </a:cubicBezTo>
                    <a:lnTo>
                      <a:pt x="4620" y="5"/>
                    </a:lnTo>
                    <a:cubicBezTo>
                      <a:pt x="4619" y="5"/>
                      <a:pt x="4618" y="4"/>
                      <a:pt x="4618" y="3"/>
                    </a:cubicBezTo>
                    <a:cubicBezTo>
                      <a:pt x="4618" y="2"/>
                      <a:pt x="4619" y="1"/>
                      <a:pt x="4620" y="1"/>
                    </a:cubicBezTo>
                    <a:close/>
                    <a:moveTo>
                      <a:pt x="4628" y="1"/>
                    </a:moveTo>
                    <a:lnTo>
                      <a:pt x="4628" y="1"/>
                    </a:lnTo>
                    <a:cubicBezTo>
                      <a:pt x="4629" y="1"/>
                      <a:pt x="4630" y="2"/>
                      <a:pt x="4630" y="3"/>
                    </a:cubicBezTo>
                    <a:cubicBezTo>
                      <a:pt x="4630" y="4"/>
                      <a:pt x="4629" y="5"/>
                      <a:pt x="4628" y="5"/>
                    </a:cubicBezTo>
                    <a:lnTo>
                      <a:pt x="4628" y="5"/>
                    </a:lnTo>
                    <a:cubicBezTo>
                      <a:pt x="4627" y="5"/>
                      <a:pt x="4626" y="4"/>
                      <a:pt x="4626" y="3"/>
                    </a:cubicBezTo>
                    <a:cubicBezTo>
                      <a:pt x="4626" y="2"/>
                      <a:pt x="4627" y="1"/>
                      <a:pt x="4628" y="1"/>
                    </a:cubicBezTo>
                    <a:close/>
                    <a:moveTo>
                      <a:pt x="4636" y="1"/>
                    </a:moveTo>
                    <a:lnTo>
                      <a:pt x="4636" y="1"/>
                    </a:lnTo>
                    <a:cubicBezTo>
                      <a:pt x="4637" y="1"/>
                      <a:pt x="4638" y="2"/>
                      <a:pt x="4638" y="3"/>
                    </a:cubicBezTo>
                    <a:cubicBezTo>
                      <a:pt x="4638" y="4"/>
                      <a:pt x="4637" y="5"/>
                      <a:pt x="4636" y="5"/>
                    </a:cubicBezTo>
                    <a:lnTo>
                      <a:pt x="4636" y="5"/>
                    </a:lnTo>
                    <a:cubicBezTo>
                      <a:pt x="4635" y="5"/>
                      <a:pt x="4634" y="4"/>
                      <a:pt x="4634" y="3"/>
                    </a:cubicBezTo>
                    <a:cubicBezTo>
                      <a:pt x="4634" y="2"/>
                      <a:pt x="4635" y="1"/>
                      <a:pt x="4636" y="1"/>
                    </a:cubicBezTo>
                    <a:close/>
                    <a:moveTo>
                      <a:pt x="4644" y="1"/>
                    </a:moveTo>
                    <a:lnTo>
                      <a:pt x="4644" y="1"/>
                    </a:lnTo>
                    <a:cubicBezTo>
                      <a:pt x="4645" y="1"/>
                      <a:pt x="4646" y="2"/>
                      <a:pt x="4646" y="3"/>
                    </a:cubicBezTo>
                    <a:cubicBezTo>
                      <a:pt x="4646" y="4"/>
                      <a:pt x="4645" y="5"/>
                      <a:pt x="4644" y="5"/>
                    </a:cubicBezTo>
                    <a:lnTo>
                      <a:pt x="4644" y="5"/>
                    </a:lnTo>
                    <a:cubicBezTo>
                      <a:pt x="4643" y="5"/>
                      <a:pt x="4642" y="4"/>
                      <a:pt x="4642" y="3"/>
                    </a:cubicBezTo>
                    <a:cubicBezTo>
                      <a:pt x="4642" y="2"/>
                      <a:pt x="4643" y="1"/>
                      <a:pt x="4644" y="1"/>
                    </a:cubicBezTo>
                    <a:close/>
                    <a:moveTo>
                      <a:pt x="4652" y="1"/>
                    </a:moveTo>
                    <a:lnTo>
                      <a:pt x="4652" y="1"/>
                    </a:lnTo>
                    <a:cubicBezTo>
                      <a:pt x="4653" y="1"/>
                      <a:pt x="4654" y="2"/>
                      <a:pt x="4654" y="3"/>
                    </a:cubicBezTo>
                    <a:cubicBezTo>
                      <a:pt x="4654" y="4"/>
                      <a:pt x="4653" y="5"/>
                      <a:pt x="4652" y="5"/>
                    </a:cubicBezTo>
                    <a:lnTo>
                      <a:pt x="4652" y="5"/>
                    </a:lnTo>
                    <a:cubicBezTo>
                      <a:pt x="4651" y="5"/>
                      <a:pt x="4650" y="4"/>
                      <a:pt x="4650" y="3"/>
                    </a:cubicBezTo>
                    <a:cubicBezTo>
                      <a:pt x="4650" y="2"/>
                      <a:pt x="4651" y="1"/>
                      <a:pt x="4652" y="1"/>
                    </a:cubicBezTo>
                    <a:close/>
                    <a:moveTo>
                      <a:pt x="4660" y="1"/>
                    </a:moveTo>
                    <a:lnTo>
                      <a:pt x="4660" y="1"/>
                    </a:lnTo>
                    <a:cubicBezTo>
                      <a:pt x="4661" y="1"/>
                      <a:pt x="4662" y="2"/>
                      <a:pt x="4662" y="3"/>
                    </a:cubicBezTo>
                    <a:cubicBezTo>
                      <a:pt x="4662" y="4"/>
                      <a:pt x="4661" y="5"/>
                      <a:pt x="4660" y="5"/>
                    </a:cubicBezTo>
                    <a:lnTo>
                      <a:pt x="4660" y="5"/>
                    </a:lnTo>
                    <a:cubicBezTo>
                      <a:pt x="4659" y="5"/>
                      <a:pt x="4658" y="4"/>
                      <a:pt x="4658" y="3"/>
                    </a:cubicBezTo>
                    <a:cubicBezTo>
                      <a:pt x="4658" y="2"/>
                      <a:pt x="4659" y="1"/>
                      <a:pt x="4660" y="1"/>
                    </a:cubicBezTo>
                    <a:close/>
                    <a:moveTo>
                      <a:pt x="4668" y="1"/>
                    </a:moveTo>
                    <a:lnTo>
                      <a:pt x="4668" y="1"/>
                    </a:lnTo>
                    <a:cubicBezTo>
                      <a:pt x="4669" y="1"/>
                      <a:pt x="4670" y="2"/>
                      <a:pt x="4670" y="3"/>
                    </a:cubicBezTo>
                    <a:cubicBezTo>
                      <a:pt x="4670" y="4"/>
                      <a:pt x="4669" y="5"/>
                      <a:pt x="4668" y="5"/>
                    </a:cubicBezTo>
                    <a:lnTo>
                      <a:pt x="4668" y="5"/>
                    </a:lnTo>
                    <a:cubicBezTo>
                      <a:pt x="4667" y="5"/>
                      <a:pt x="4666" y="4"/>
                      <a:pt x="4666" y="3"/>
                    </a:cubicBezTo>
                    <a:cubicBezTo>
                      <a:pt x="4666" y="2"/>
                      <a:pt x="4667" y="1"/>
                      <a:pt x="4668" y="1"/>
                    </a:cubicBezTo>
                    <a:close/>
                    <a:moveTo>
                      <a:pt x="4676" y="1"/>
                    </a:moveTo>
                    <a:lnTo>
                      <a:pt x="4676" y="1"/>
                    </a:lnTo>
                    <a:cubicBezTo>
                      <a:pt x="4677" y="1"/>
                      <a:pt x="4678" y="2"/>
                      <a:pt x="4678" y="3"/>
                    </a:cubicBezTo>
                    <a:cubicBezTo>
                      <a:pt x="4678" y="4"/>
                      <a:pt x="4677" y="5"/>
                      <a:pt x="4676" y="5"/>
                    </a:cubicBezTo>
                    <a:lnTo>
                      <a:pt x="4676" y="5"/>
                    </a:lnTo>
                    <a:cubicBezTo>
                      <a:pt x="4675" y="5"/>
                      <a:pt x="4674" y="4"/>
                      <a:pt x="4674" y="3"/>
                    </a:cubicBezTo>
                    <a:cubicBezTo>
                      <a:pt x="4674" y="2"/>
                      <a:pt x="4675" y="1"/>
                      <a:pt x="4676" y="1"/>
                    </a:cubicBezTo>
                    <a:close/>
                    <a:moveTo>
                      <a:pt x="4684" y="1"/>
                    </a:moveTo>
                    <a:lnTo>
                      <a:pt x="4684" y="1"/>
                    </a:lnTo>
                    <a:cubicBezTo>
                      <a:pt x="4685" y="1"/>
                      <a:pt x="4686" y="2"/>
                      <a:pt x="4686" y="3"/>
                    </a:cubicBezTo>
                    <a:cubicBezTo>
                      <a:pt x="4686" y="4"/>
                      <a:pt x="4685" y="5"/>
                      <a:pt x="4684" y="5"/>
                    </a:cubicBezTo>
                    <a:lnTo>
                      <a:pt x="4684" y="5"/>
                    </a:lnTo>
                    <a:cubicBezTo>
                      <a:pt x="4683" y="5"/>
                      <a:pt x="4682" y="4"/>
                      <a:pt x="4682" y="3"/>
                    </a:cubicBezTo>
                    <a:cubicBezTo>
                      <a:pt x="4682" y="2"/>
                      <a:pt x="4683" y="1"/>
                      <a:pt x="4684" y="1"/>
                    </a:cubicBezTo>
                    <a:close/>
                    <a:moveTo>
                      <a:pt x="4692" y="1"/>
                    </a:moveTo>
                    <a:lnTo>
                      <a:pt x="4692" y="1"/>
                    </a:lnTo>
                    <a:cubicBezTo>
                      <a:pt x="4693" y="1"/>
                      <a:pt x="4694" y="2"/>
                      <a:pt x="4694" y="3"/>
                    </a:cubicBezTo>
                    <a:cubicBezTo>
                      <a:pt x="4694" y="4"/>
                      <a:pt x="4693" y="5"/>
                      <a:pt x="4692" y="5"/>
                    </a:cubicBezTo>
                    <a:lnTo>
                      <a:pt x="4692" y="5"/>
                    </a:lnTo>
                    <a:cubicBezTo>
                      <a:pt x="4691" y="5"/>
                      <a:pt x="4690" y="4"/>
                      <a:pt x="4690" y="3"/>
                    </a:cubicBezTo>
                    <a:cubicBezTo>
                      <a:pt x="4690" y="2"/>
                      <a:pt x="4691" y="1"/>
                      <a:pt x="4692" y="1"/>
                    </a:cubicBezTo>
                    <a:close/>
                    <a:moveTo>
                      <a:pt x="4700" y="1"/>
                    </a:moveTo>
                    <a:lnTo>
                      <a:pt x="4700" y="1"/>
                    </a:lnTo>
                    <a:cubicBezTo>
                      <a:pt x="4701" y="1"/>
                      <a:pt x="4702" y="2"/>
                      <a:pt x="4702" y="3"/>
                    </a:cubicBezTo>
                    <a:cubicBezTo>
                      <a:pt x="4702" y="4"/>
                      <a:pt x="4701" y="5"/>
                      <a:pt x="4700" y="5"/>
                    </a:cubicBezTo>
                    <a:lnTo>
                      <a:pt x="4700" y="5"/>
                    </a:lnTo>
                    <a:cubicBezTo>
                      <a:pt x="4699" y="5"/>
                      <a:pt x="4698" y="4"/>
                      <a:pt x="4698" y="3"/>
                    </a:cubicBezTo>
                    <a:cubicBezTo>
                      <a:pt x="4698" y="2"/>
                      <a:pt x="4699" y="1"/>
                      <a:pt x="4700" y="1"/>
                    </a:cubicBezTo>
                    <a:close/>
                    <a:moveTo>
                      <a:pt x="4708" y="1"/>
                    </a:moveTo>
                    <a:lnTo>
                      <a:pt x="4708" y="1"/>
                    </a:lnTo>
                    <a:cubicBezTo>
                      <a:pt x="4709" y="1"/>
                      <a:pt x="4710" y="2"/>
                      <a:pt x="4710" y="3"/>
                    </a:cubicBezTo>
                    <a:cubicBezTo>
                      <a:pt x="4710" y="4"/>
                      <a:pt x="4709" y="5"/>
                      <a:pt x="4708" y="5"/>
                    </a:cubicBezTo>
                    <a:lnTo>
                      <a:pt x="4708" y="5"/>
                    </a:lnTo>
                    <a:cubicBezTo>
                      <a:pt x="4707" y="5"/>
                      <a:pt x="4706" y="4"/>
                      <a:pt x="4706" y="3"/>
                    </a:cubicBezTo>
                    <a:cubicBezTo>
                      <a:pt x="4706" y="2"/>
                      <a:pt x="4707" y="1"/>
                      <a:pt x="4708" y="1"/>
                    </a:cubicBezTo>
                    <a:close/>
                    <a:moveTo>
                      <a:pt x="4716" y="1"/>
                    </a:moveTo>
                    <a:lnTo>
                      <a:pt x="4716" y="1"/>
                    </a:lnTo>
                    <a:cubicBezTo>
                      <a:pt x="4717" y="1"/>
                      <a:pt x="4718" y="2"/>
                      <a:pt x="4718" y="3"/>
                    </a:cubicBezTo>
                    <a:cubicBezTo>
                      <a:pt x="4718" y="4"/>
                      <a:pt x="4717" y="5"/>
                      <a:pt x="4716" y="5"/>
                    </a:cubicBezTo>
                    <a:lnTo>
                      <a:pt x="4716" y="5"/>
                    </a:lnTo>
                    <a:cubicBezTo>
                      <a:pt x="4715" y="5"/>
                      <a:pt x="4714" y="4"/>
                      <a:pt x="4714" y="3"/>
                    </a:cubicBezTo>
                    <a:cubicBezTo>
                      <a:pt x="4714" y="2"/>
                      <a:pt x="4715" y="1"/>
                      <a:pt x="4716" y="1"/>
                    </a:cubicBezTo>
                    <a:close/>
                    <a:moveTo>
                      <a:pt x="4724" y="1"/>
                    </a:moveTo>
                    <a:lnTo>
                      <a:pt x="4724" y="1"/>
                    </a:lnTo>
                    <a:cubicBezTo>
                      <a:pt x="4725" y="1"/>
                      <a:pt x="4726" y="2"/>
                      <a:pt x="4726" y="3"/>
                    </a:cubicBezTo>
                    <a:cubicBezTo>
                      <a:pt x="4726" y="4"/>
                      <a:pt x="4725" y="5"/>
                      <a:pt x="4724" y="5"/>
                    </a:cubicBezTo>
                    <a:lnTo>
                      <a:pt x="4724" y="5"/>
                    </a:lnTo>
                    <a:cubicBezTo>
                      <a:pt x="4723" y="5"/>
                      <a:pt x="4722" y="4"/>
                      <a:pt x="4722" y="3"/>
                    </a:cubicBezTo>
                    <a:cubicBezTo>
                      <a:pt x="4722" y="2"/>
                      <a:pt x="4723" y="1"/>
                      <a:pt x="4724" y="1"/>
                    </a:cubicBezTo>
                    <a:close/>
                    <a:moveTo>
                      <a:pt x="4732" y="1"/>
                    </a:moveTo>
                    <a:lnTo>
                      <a:pt x="4732" y="1"/>
                    </a:lnTo>
                    <a:cubicBezTo>
                      <a:pt x="4733" y="1"/>
                      <a:pt x="4734" y="2"/>
                      <a:pt x="4734" y="3"/>
                    </a:cubicBezTo>
                    <a:cubicBezTo>
                      <a:pt x="4734" y="4"/>
                      <a:pt x="4733" y="5"/>
                      <a:pt x="4732" y="5"/>
                    </a:cubicBezTo>
                    <a:lnTo>
                      <a:pt x="4732" y="5"/>
                    </a:lnTo>
                    <a:cubicBezTo>
                      <a:pt x="4731" y="5"/>
                      <a:pt x="4730" y="4"/>
                      <a:pt x="4730" y="3"/>
                    </a:cubicBezTo>
                    <a:cubicBezTo>
                      <a:pt x="4730" y="2"/>
                      <a:pt x="4731" y="1"/>
                      <a:pt x="4732" y="1"/>
                    </a:cubicBezTo>
                    <a:close/>
                    <a:moveTo>
                      <a:pt x="4740" y="1"/>
                    </a:moveTo>
                    <a:lnTo>
                      <a:pt x="4740" y="1"/>
                    </a:lnTo>
                    <a:cubicBezTo>
                      <a:pt x="4741" y="1"/>
                      <a:pt x="4742" y="2"/>
                      <a:pt x="4742" y="3"/>
                    </a:cubicBezTo>
                    <a:cubicBezTo>
                      <a:pt x="4742" y="4"/>
                      <a:pt x="4741" y="5"/>
                      <a:pt x="4740" y="5"/>
                    </a:cubicBezTo>
                    <a:lnTo>
                      <a:pt x="4740" y="5"/>
                    </a:lnTo>
                    <a:cubicBezTo>
                      <a:pt x="4739" y="5"/>
                      <a:pt x="4738" y="4"/>
                      <a:pt x="4738" y="3"/>
                    </a:cubicBezTo>
                    <a:cubicBezTo>
                      <a:pt x="4738" y="2"/>
                      <a:pt x="4739" y="1"/>
                      <a:pt x="4740" y="1"/>
                    </a:cubicBezTo>
                    <a:close/>
                    <a:moveTo>
                      <a:pt x="4748" y="1"/>
                    </a:moveTo>
                    <a:lnTo>
                      <a:pt x="4748" y="1"/>
                    </a:lnTo>
                    <a:cubicBezTo>
                      <a:pt x="4749" y="1"/>
                      <a:pt x="4750" y="2"/>
                      <a:pt x="4750" y="3"/>
                    </a:cubicBezTo>
                    <a:cubicBezTo>
                      <a:pt x="4750" y="4"/>
                      <a:pt x="4749" y="5"/>
                      <a:pt x="4748" y="5"/>
                    </a:cubicBezTo>
                    <a:lnTo>
                      <a:pt x="4748" y="5"/>
                    </a:lnTo>
                    <a:cubicBezTo>
                      <a:pt x="4747" y="5"/>
                      <a:pt x="4746" y="4"/>
                      <a:pt x="4746" y="3"/>
                    </a:cubicBezTo>
                    <a:cubicBezTo>
                      <a:pt x="4746" y="2"/>
                      <a:pt x="4747" y="1"/>
                      <a:pt x="4748" y="1"/>
                    </a:cubicBezTo>
                    <a:close/>
                    <a:moveTo>
                      <a:pt x="4756" y="1"/>
                    </a:moveTo>
                    <a:lnTo>
                      <a:pt x="4756" y="1"/>
                    </a:lnTo>
                    <a:cubicBezTo>
                      <a:pt x="4757" y="1"/>
                      <a:pt x="4758" y="2"/>
                      <a:pt x="4758" y="3"/>
                    </a:cubicBezTo>
                    <a:cubicBezTo>
                      <a:pt x="4758" y="4"/>
                      <a:pt x="4757" y="5"/>
                      <a:pt x="4756" y="5"/>
                    </a:cubicBezTo>
                    <a:lnTo>
                      <a:pt x="4756" y="5"/>
                    </a:lnTo>
                    <a:cubicBezTo>
                      <a:pt x="4755" y="5"/>
                      <a:pt x="4754" y="4"/>
                      <a:pt x="4754" y="3"/>
                    </a:cubicBezTo>
                    <a:cubicBezTo>
                      <a:pt x="4754" y="2"/>
                      <a:pt x="4755" y="1"/>
                      <a:pt x="4756" y="1"/>
                    </a:cubicBezTo>
                    <a:close/>
                    <a:moveTo>
                      <a:pt x="4764" y="1"/>
                    </a:moveTo>
                    <a:lnTo>
                      <a:pt x="4764" y="1"/>
                    </a:lnTo>
                    <a:cubicBezTo>
                      <a:pt x="4765" y="1"/>
                      <a:pt x="4766" y="2"/>
                      <a:pt x="4766" y="3"/>
                    </a:cubicBezTo>
                    <a:cubicBezTo>
                      <a:pt x="4766" y="4"/>
                      <a:pt x="4765" y="5"/>
                      <a:pt x="4764" y="5"/>
                    </a:cubicBezTo>
                    <a:lnTo>
                      <a:pt x="4764" y="5"/>
                    </a:lnTo>
                    <a:cubicBezTo>
                      <a:pt x="4763" y="5"/>
                      <a:pt x="4762" y="4"/>
                      <a:pt x="4762" y="3"/>
                    </a:cubicBezTo>
                    <a:cubicBezTo>
                      <a:pt x="4762" y="2"/>
                      <a:pt x="4763" y="1"/>
                      <a:pt x="4764" y="1"/>
                    </a:cubicBezTo>
                    <a:close/>
                    <a:moveTo>
                      <a:pt x="4772" y="1"/>
                    </a:moveTo>
                    <a:lnTo>
                      <a:pt x="4772" y="1"/>
                    </a:lnTo>
                    <a:cubicBezTo>
                      <a:pt x="4773" y="1"/>
                      <a:pt x="4774" y="2"/>
                      <a:pt x="4774" y="3"/>
                    </a:cubicBezTo>
                    <a:cubicBezTo>
                      <a:pt x="4774" y="4"/>
                      <a:pt x="4773" y="5"/>
                      <a:pt x="4772" y="5"/>
                    </a:cubicBezTo>
                    <a:lnTo>
                      <a:pt x="4772" y="5"/>
                    </a:lnTo>
                    <a:cubicBezTo>
                      <a:pt x="4771" y="5"/>
                      <a:pt x="4770" y="4"/>
                      <a:pt x="4770" y="3"/>
                    </a:cubicBezTo>
                    <a:cubicBezTo>
                      <a:pt x="4770" y="2"/>
                      <a:pt x="4771" y="1"/>
                      <a:pt x="4772" y="1"/>
                    </a:cubicBezTo>
                    <a:close/>
                    <a:moveTo>
                      <a:pt x="4780" y="1"/>
                    </a:moveTo>
                    <a:lnTo>
                      <a:pt x="4780" y="1"/>
                    </a:lnTo>
                    <a:cubicBezTo>
                      <a:pt x="4781" y="1"/>
                      <a:pt x="4782" y="2"/>
                      <a:pt x="4782" y="3"/>
                    </a:cubicBezTo>
                    <a:cubicBezTo>
                      <a:pt x="4782" y="4"/>
                      <a:pt x="4781" y="5"/>
                      <a:pt x="4780" y="5"/>
                    </a:cubicBezTo>
                    <a:lnTo>
                      <a:pt x="4780" y="5"/>
                    </a:lnTo>
                    <a:cubicBezTo>
                      <a:pt x="4779" y="5"/>
                      <a:pt x="4778" y="4"/>
                      <a:pt x="4778" y="3"/>
                    </a:cubicBezTo>
                    <a:cubicBezTo>
                      <a:pt x="4778" y="2"/>
                      <a:pt x="4779" y="1"/>
                      <a:pt x="4780" y="1"/>
                    </a:cubicBezTo>
                    <a:close/>
                    <a:moveTo>
                      <a:pt x="4788" y="1"/>
                    </a:moveTo>
                    <a:lnTo>
                      <a:pt x="4788" y="1"/>
                    </a:lnTo>
                    <a:cubicBezTo>
                      <a:pt x="4789" y="1"/>
                      <a:pt x="4790" y="2"/>
                      <a:pt x="4790" y="3"/>
                    </a:cubicBezTo>
                    <a:cubicBezTo>
                      <a:pt x="4790" y="4"/>
                      <a:pt x="4789" y="5"/>
                      <a:pt x="4788" y="5"/>
                    </a:cubicBezTo>
                    <a:lnTo>
                      <a:pt x="4788" y="5"/>
                    </a:lnTo>
                    <a:cubicBezTo>
                      <a:pt x="4787" y="5"/>
                      <a:pt x="4786" y="4"/>
                      <a:pt x="4786" y="3"/>
                    </a:cubicBezTo>
                    <a:cubicBezTo>
                      <a:pt x="4786" y="2"/>
                      <a:pt x="4787" y="1"/>
                      <a:pt x="4788" y="1"/>
                    </a:cubicBezTo>
                    <a:close/>
                    <a:moveTo>
                      <a:pt x="4796" y="1"/>
                    </a:moveTo>
                    <a:lnTo>
                      <a:pt x="4796" y="1"/>
                    </a:lnTo>
                    <a:cubicBezTo>
                      <a:pt x="4797" y="1"/>
                      <a:pt x="4798" y="2"/>
                      <a:pt x="4798" y="3"/>
                    </a:cubicBezTo>
                    <a:cubicBezTo>
                      <a:pt x="4798" y="4"/>
                      <a:pt x="4797" y="5"/>
                      <a:pt x="4796" y="5"/>
                    </a:cubicBezTo>
                    <a:lnTo>
                      <a:pt x="4796" y="5"/>
                    </a:lnTo>
                    <a:cubicBezTo>
                      <a:pt x="4795" y="5"/>
                      <a:pt x="4794" y="4"/>
                      <a:pt x="4794" y="3"/>
                    </a:cubicBezTo>
                    <a:cubicBezTo>
                      <a:pt x="4794" y="2"/>
                      <a:pt x="4795" y="1"/>
                      <a:pt x="4796" y="1"/>
                    </a:cubicBezTo>
                    <a:close/>
                    <a:moveTo>
                      <a:pt x="4804" y="1"/>
                    </a:moveTo>
                    <a:lnTo>
                      <a:pt x="4804" y="1"/>
                    </a:lnTo>
                    <a:cubicBezTo>
                      <a:pt x="4805" y="1"/>
                      <a:pt x="4806" y="2"/>
                      <a:pt x="4806" y="3"/>
                    </a:cubicBezTo>
                    <a:cubicBezTo>
                      <a:pt x="4806" y="4"/>
                      <a:pt x="4805" y="5"/>
                      <a:pt x="4804" y="5"/>
                    </a:cubicBezTo>
                    <a:lnTo>
                      <a:pt x="4804" y="5"/>
                    </a:lnTo>
                    <a:cubicBezTo>
                      <a:pt x="4803" y="5"/>
                      <a:pt x="4802" y="4"/>
                      <a:pt x="4802" y="3"/>
                    </a:cubicBezTo>
                    <a:cubicBezTo>
                      <a:pt x="4802" y="2"/>
                      <a:pt x="4803" y="1"/>
                      <a:pt x="4804" y="1"/>
                    </a:cubicBezTo>
                    <a:close/>
                    <a:moveTo>
                      <a:pt x="4812" y="1"/>
                    </a:moveTo>
                    <a:lnTo>
                      <a:pt x="4812" y="1"/>
                    </a:lnTo>
                    <a:cubicBezTo>
                      <a:pt x="4813" y="1"/>
                      <a:pt x="4814" y="2"/>
                      <a:pt x="4814" y="3"/>
                    </a:cubicBezTo>
                    <a:cubicBezTo>
                      <a:pt x="4814" y="4"/>
                      <a:pt x="4813" y="5"/>
                      <a:pt x="4812" y="5"/>
                    </a:cubicBezTo>
                    <a:lnTo>
                      <a:pt x="4812" y="5"/>
                    </a:lnTo>
                    <a:cubicBezTo>
                      <a:pt x="4811" y="5"/>
                      <a:pt x="4810" y="4"/>
                      <a:pt x="4810" y="3"/>
                    </a:cubicBezTo>
                    <a:cubicBezTo>
                      <a:pt x="4810" y="2"/>
                      <a:pt x="4811" y="1"/>
                      <a:pt x="4812" y="1"/>
                    </a:cubicBezTo>
                    <a:close/>
                    <a:moveTo>
                      <a:pt x="4820" y="1"/>
                    </a:moveTo>
                    <a:lnTo>
                      <a:pt x="4820" y="1"/>
                    </a:lnTo>
                    <a:cubicBezTo>
                      <a:pt x="4821" y="1"/>
                      <a:pt x="4822" y="2"/>
                      <a:pt x="4822" y="3"/>
                    </a:cubicBezTo>
                    <a:cubicBezTo>
                      <a:pt x="4822" y="4"/>
                      <a:pt x="4821" y="5"/>
                      <a:pt x="4820" y="5"/>
                    </a:cubicBezTo>
                    <a:lnTo>
                      <a:pt x="4820" y="5"/>
                    </a:lnTo>
                    <a:cubicBezTo>
                      <a:pt x="4819" y="5"/>
                      <a:pt x="4818" y="4"/>
                      <a:pt x="4818" y="3"/>
                    </a:cubicBezTo>
                    <a:cubicBezTo>
                      <a:pt x="4818" y="2"/>
                      <a:pt x="4819" y="1"/>
                      <a:pt x="4820" y="1"/>
                    </a:cubicBezTo>
                    <a:close/>
                    <a:moveTo>
                      <a:pt x="4828" y="1"/>
                    </a:moveTo>
                    <a:lnTo>
                      <a:pt x="4828" y="1"/>
                    </a:lnTo>
                    <a:cubicBezTo>
                      <a:pt x="4829" y="1"/>
                      <a:pt x="4830" y="2"/>
                      <a:pt x="4830" y="3"/>
                    </a:cubicBezTo>
                    <a:cubicBezTo>
                      <a:pt x="4830" y="4"/>
                      <a:pt x="4829" y="5"/>
                      <a:pt x="4828" y="5"/>
                    </a:cubicBezTo>
                    <a:lnTo>
                      <a:pt x="4828" y="5"/>
                    </a:lnTo>
                    <a:cubicBezTo>
                      <a:pt x="4827" y="5"/>
                      <a:pt x="4826" y="4"/>
                      <a:pt x="4826" y="3"/>
                    </a:cubicBezTo>
                    <a:cubicBezTo>
                      <a:pt x="4826" y="2"/>
                      <a:pt x="4827" y="1"/>
                      <a:pt x="4828" y="1"/>
                    </a:cubicBezTo>
                    <a:close/>
                    <a:moveTo>
                      <a:pt x="4836" y="1"/>
                    </a:moveTo>
                    <a:lnTo>
                      <a:pt x="4836" y="1"/>
                    </a:lnTo>
                    <a:cubicBezTo>
                      <a:pt x="4837" y="1"/>
                      <a:pt x="4838" y="2"/>
                      <a:pt x="4838" y="3"/>
                    </a:cubicBezTo>
                    <a:cubicBezTo>
                      <a:pt x="4838" y="4"/>
                      <a:pt x="4837" y="5"/>
                      <a:pt x="4836" y="5"/>
                    </a:cubicBezTo>
                    <a:lnTo>
                      <a:pt x="4836" y="5"/>
                    </a:lnTo>
                    <a:cubicBezTo>
                      <a:pt x="4835" y="5"/>
                      <a:pt x="4834" y="4"/>
                      <a:pt x="4834" y="3"/>
                    </a:cubicBezTo>
                    <a:cubicBezTo>
                      <a:pt x="4834" y="2"/>
                      <a:pt x="4835" y="1"/>
                      <a:pt x="4836" y="1"/>
                    </a:cubicBezTo>
                    <a:close/>
                    <a:moveTo>
                      <a:pt x="4844" y="1"/>
                    </a:moveTo>
                    <a:lnTo>
                      <a:pt x="4844" y="1"/>
                    </a:lnTo>
                    <a:cubicBezTo>
                      <a:pt x="4845" y="1"/>
                      <a:pt x="4846" y="2"/>
                      <a:pt x="4846" y="3"/>
                    </a:cubicBezTo>
                    <a:cubicBezTo>
                      <a:pt x="4846" y="4"/>
                      <a:pt x="4845" y="5"/>
                      <a:pt x="4844" y="5"/>
                    </a:cubicBezTo>
                    <a:lnTo>
                      <a:pt x="4844" y="5"/>
                    </a:lnTo>
                    <a:cubicBezTo>
                      <a:pt x="4843" y="5"/>
                      <a:pt x="4842" y="4"/>
                      <a:pt x="4842" y="3"/>
                    </a:cubicBezTo>
                    <a:cubicBezTo>
                      <a:pt x="4842" y="2"/>
                      <a:pt x="4843" y="1"/>
                      <a:pt x="4844" y="1"/>
                    </a:cubicBezTo>
                    <a:close/>
                    <a:moveTo>
                      <a:pt x="4852" y="1"/>
                    </a:moveTo>
                    <a:lnTo>
                      <a:pt x="4852" y="1"/>
                    </a:lnTo>
                    <a:cubicBezTo>
                      <a:pt x="4853" y="1"/>
                      <a:pt x="4854" y="2"/>
                      <a:pt x="4854" y="3"/>
                    </a:cubicBezTo>
                    <a:cubicBezTo>
                      <a:pt x="4854" y="4"/>
                      <a:pt x="4853" y="5"/>
                      <a:pt x="4852" y="5"/>
                    </a:cubicBezTo>
                    <a:lnTo>
                      <a:pt x="4852" y="5"/>
                    </a:lnTo>
                    <a:cubicBezTo>
                      <a:pt x="4851" y="5"/>
                      <a:pt x="4850" y="4"/>
                      <a:pt x="4850" y="3"/>
                    </a:cubicBezTo>
                    <a:cubicBezTo>
                      <a:pt x="4850" y="2"/>
                      <a:pt x="4851" y="1"/>
                      <a:pt x="4852" y="1"/>
                    </a:cubicBezTo>
                    <a:close/>
                    <a:moveTo>
                      <a:pt x="4860" y="1"/>
                    </a:moveTo>
                    <a:lnTo>
                      <a:pt x="4860" y="1"/>
                    </a:lnTo>
                    <a:cubicBezTo>
                      <a:pt x="4861" y="1"/>
                      <a:pt x="4862" y="2"/>
                      <a:pt x="4862" y="3"/>
                    </a:cubicBezTo>
                    <a:cubicBezTo>
                      <a:pt x="4862" y="4"/>
                      <a:pt x="4861" y="5"/>
                      <a:pt x="4860" y="5"/>
                    </a:cubicBezTo>
                    <a:lnTo>
                      <a:pt x="4860" y="5"/>
                    </a:lnTo>
                    <a:cubicBezTo>
                      <a:pt x="4859" y="5"/>
                      <a:pt x="4858" y="4"/>
                      <a:pt x="4858" y="3"/>
                    </a:cubicBezTo>
                    <a:cubicBezTo>
                      <a:pt x="4858" y="2"/>
                      <a:pt x="4859" y="1"/>
                      <a:pt x="4860" y="1"/>
                    </a:cubicBezTo>
                    <a:close/>
                    <a:moveTo>
                      <a:pt x="4868" y="1"/>
                    </a:moveTo>
                    <a:lnTo>
                      <a:pt x="4868" y="1"/>
                    </a:lnTo>
                    <a:cubicBezTo>
                      <a:pt x="4869" y="1"/>
                      <a:pt x="4870" y="2"/>
                      <a:pt x="4870" y="3"/>
                    </a:cubicBezTo>
                    <a:cubicBezTo>
                      <a:pt x="4870" y="4"/>
                      <a:pt x="4869" y="5"/>
                      <a:pt x="4868" y="5"/>
                    </a:cubicBezTo>
                    <a:lnTo>
                      <a:pt x="4868" y="5"/>
                    </a:lnTo>
                    <a:cubicBezTo>
                      <a:pt x="4867" y="5"/>
                      <a:pt x="4866" y="4"/>
                      <a:pt x="4866" y="3"/>
                    </a:cubicBezTo>
                    <a:cubicBezTo>
                      <a:pt x="4866" y="2"/>
                      <a:pt x="4867" y="1"/>
                      <a:pt x="4868" y="1"/>
                    </a:cubicBezTo>
                    <a:close/>
                    <a:moveTo>
                      <a:pt x="4876" y="1"/>
                    </a:moveTo>
                    <a:lnTo>
                      <a:pt x="4876" y="1"/>
                    </a:lnTo>
                    <a:cubicBezTo>
                      <a:pt x="4877" y="1"/>
                      <a:pt x="4878" y="2"/>
                      <a:pt x="4878" y="3"/>
                    </a:cubicBezTo>
                    <a:cubicBezTo>
                      <a:pt x="4878" y="4"/>
                      <a:pt x="4877" y="5"/>
                      <a:pt x="4876" y="5"/>
                    </a:cubicBezTo>
                    <a:lnTo>
                      <a:pt x="4876" y="5"/>
                    </a:lnTo>
                    <a:cubicBezTo>
                      <a:pt x="4875" y="5"/>
                      <a:pt x="4874" y="4"/>
                      <a:pt x="4874" y="3"/>
                    </a:cubicBezTo>
                    <a:cubicBezTo>
                      <a:pt x="4874" y="2"/>
                      <a:pt x="4875" y="1"/>
                      <a:pt x="4876" y="1"/>
                    </a:cubicBezTo>
                    <a:close/>
                    <a:moveTo>
                      <a:pt x="4884" y="1"/>
                    </a:moveTo>
                    <a:lnTo>
                      <a:pt x="4884" y="1"/>
                    </a:lnTo>
                    <a:cubicBezTo>
                      <a:pt x="4885" y="1"/>
                      <a:pt x="4886" y="2"/>
                      <a:pt x="4886" y="3"/>
                    </a:cubicBezTo>
                    <a:cubicBezTo>
                      <a:pt x="4886" y="4"/>
                      <a:pt x="4885" y="5"/>
                      <a:pt x="4884" y="5"/>
                    </a:cubicBezTo>
                    <a:lnTo>
                      <a:pt x="4884" y="5"/>
                    </a:lnTo>
                    <a:cubicBezTo>
                      <a:pt x="4883" y="5"/>
                      <a:pt x="4882" y="4"/>
                      <a:pt x="4882" y="3"/>
                    </a:cubicBezTo>
                    <a:cubicBezTo>
                      <a:pt x="4882" y="2"/>
                      <a:pt x="4883" y="1"/>
                      <a:pt x="4884" y="1"/>
                    </a:cubicBezTo>
                    <a:close/>
                    <a:moveTo>
                      <a:pt x="4892" y="1"/>
                    </a:moveTo>
                    <a:lnTo>
                      <a:pt x="4892" y="1"/>
                    </a:lnTo>
                    <a:cubicBezTo>
                      <a:pt x="4893" y="1"/>
                      <a:pt x="4894" y="2"/>
                      <a:pt x="4894" y="3"/>
                    </a:cubicBezTo>
                    <a:cubicBezTo>
                      <a:pt x="4894" y="4"/>
                      <a:pt x="4893" y="5"/>
                      <a:pt x="4892" y="5"/>
                    </a:cubicBezTo>
                    <a:lnTo>
                      <a:pt x="4892" y="5"/>
                    </a:lnTo>
                    <a:cubicBezTo>
                      <a:pt x="4891" y="5"/>
                      <a:pt x="4890" y="4"/>
                      <a:pt x="4890" y="3"/>
                    </a:cubicBezTo>
                    <a:cubicBezTo>
                      <a:pt x="4890" y="2"/>
                      <a:pt x="4891" y="1"/>
                      <a:pt x="4892" y="1"/>
                    </a:cubicBezTo>
                    <a:close/>
                    <a:moveTo>
                      <a:pt x="4900" y="1"/>
                    </a:moveTo>
                    <a:lnTo>
                      <a:pt x="4900" y="1"/>
                    </a:lnTo>
                    <a:cubicBezTo>
                      <a:pt x="4901" y="1"/>
                      <a:pt x="4902" y="2"/>
                      <a:pt x="4902" y="3"/>
                    </a:cubicBezTo>
                    <a:cubicBezTo>
                      <a:pt x="4902" y="4"/>
                      <a:pt x="4901" y="5"/>
                      <a:pt x="4900" y="5"/>
                    </a:cubicBezTo>
                    <a:lnTo>
                      <a:pt x="4900" y="5"/>
                    </a:lnTo>
                    <a:cubicBezTo>
                      <a:pt x="4899" y="5"/>
                      <a:pt x="4898" y="4"/>
                      <a:pt x="4898" y="3"/>
                    </a:cubicBezTo>
                    <a:cubicBezTo>
                      <a:pt x="4898" y="2"/>
                      <a:pt x="4899" y="1"/>
                      <a:pt x="4900" y="1"/>
                    </a:cubicBezTo>
                    <a:close/>
                    <a:moveTo>
                      <a:pt x="4908" y="1"/>
                    </a:moveTo>
                    <a:lnTo>
                      <a:pt x="4908" y="1"/>
                    </a:lnTo>
                    <a:cubicBezTo>
                      <a:pt x="4909" y="1"/>
                      <a:pt x="4910" y="2"/>
                      <a:pt x="4910" y="3"/>
                    </a:cubicBezTo>
                    <a:cubicBezTo>
                      <a:pt x="4910" y="4"/>
                      <a:pt x="4909" y="5"/>
                      <a:pt x="4908" y="5"/>
                    </a:cubicBezTo>
                    <a:lnTo>
                      <a:pt x="4908" y="5"/>
                    </a:lnTo>
                    <a:cubicBezTo>
                      <a:pt x="4907" y="5"/>
                      <a:pt x="4906" y="4"/>
                      <a:pt x="4906" y="3"/>
                    </a:cubicBezTo>
                    <a:cubicBezTo>
                      <a:pt x="4906" y="2"/>
                      <a:pt x="4907" y="1"/>
                      <a:pt x="4908" y="1"/>
                    </a:cubicBezTo>
                    <a:close/>
                    <a:moveTo>
                      <a:pt x="4916" y="1"/>
                    </a:moveTo>
                    <a:lnTo>
                      <a:pt x="4916" y="1"/>
                    </a:lnTo>
                    <a:cubicBezTo>
                      <a:pt x="4917" y="1"/>
                      <a:pt x="4918" y="2"/>
                      <a:pt x="4918" y="3"/>
                    </a:cubicBezTo>
                    <a:cubicBezTo>
                      <a:pt x="4918" y="4"/>
                      <a:pt x="4917" y="5"/>
                      <a:pt x="4916" y="5"/>
                    </a:cubicBezTo>
                    <a:lnTo>
                      <a:pt x="4916" y="5"/>
                    </a:lnTo>
                    <a:cubicBezTo>
                      <a:pt x="4915" y="5"/>
                      <a:pt x="4914" y="4"/>
                      <a:pt x="4914" y="3"/>
                    </a:cubicBezTo>
                    <a:cubicBezTo>
                      <a:pt x="4914" y="2"/>
                      <a:pt x="4915" y="1"/>
                      <a:pt x="4916" y="1"/>
                    </a:cubicBezTo>
                    <a:close/>
                    <a:moveTo>
                      <a:pt x="4924" y="1"/>
                    </a:moveTo>
                    <a:lnTo>
                      <a:pt x="4924" y="1"/>
                    </a:lnTo>
                    <a:cubicBezTo>
                      <a:pt x="4925" y="1"/>
                      <a:pt x="4926" y="2"/>
                      <a:pt x="4926" y="3"/>
                    </a:cubicBezTo>
                    <a:cubicBezTo>
                      <a:pt x="4926" y="4"/>
                      <a:pt x="4925" y="5"/>
                      <a:pt x="4924" y="5"/>
                    </a:cubicBezTo>
                    <a:lnTo>
                      <a:pt x="4924" y="5"/>
                    </a:lnTo>
                    <a:cubicBezTo>
                      <a:pt x="4923" y="5"/>
                      <a:pt x="4922" y="4"/>
                      <a:pt x="4922" y="3"/>
                    </a:cubicBezTo>
                    <a:cubicBezTo>
                      <a:pt x="4922" y="2"/>
                      <a:pt x="4923" y="1"/>
                      <a:pt x="4924" y="1"/>
                    </a:cubicBezTo>
                    <a:close/>
                    <a:moveTo>
                      <a:pt x="4932" y="1"/>
                    </a:moveTo>
                    <a:lnTo>
                      <a:pt x="4932" y="1"/>
                    </a:lnTo>
                    <a:cubicBezTo>
                      <a:pt x="4933" y="1"/>
                      <a:pt x="4934" y="2"/>
                      <a:pt x="4934" y="3"/>
                    </a:cubicBezTo>
                    <a:cubicBezTo>
                      <a:pt x="4934" y="4"/>
                      <a:pt x="4933" y="5"/>
                      <a:pt x="4932" y="5"/>
                    </a:cubicBezTo>
                    <a:lnTo>
                      <a:pt x="4932" y="5"/>
                    </a:lnTo>
                    <a:cubicBezTo>
                      <a:pt x="4931" y="5"/>
                      <a:pt x="4930" y="4"/>
                      <a:pt x="4930" y="3"/>
                    </a:cubicBezTo>
                    <a:cubicBezTo>
                      <a:pt x="4930" y="2"/>
                      <a:pt x="4931" y="1"/>
                      <a:pt x="4932" y="1"/>
                    </a:cubicBezTo>
                    <a:close/>
                    <a:moveTo>
                      <a:pt x="4940" y="1"/>
                    </a:moveTo>
                    <a:lnTo>
                      <a:pt x="4940" y="1"/>
                    </a:lnTo>
                    <a:cubicBezTo>
                      <a:pt x="4941" y="1"/>
                      <a:pt x="4942" y="2"/>
                      <a:pt x="4942" y="3"/>
                    </a:cubicBezTo>
                    <a:cubicBezTo>
                      <a:pt x="4942" y="4"/>
                      <a:pt x="4941" y="5"/>
                      <a:pt x="4940" y="5"/>
                    </a:cubicBezTo>
                    <a:lnTo>
                      <a:pt x="4940" y="5"/>
                    </a:lnTo>
                    <a:cubicBezTo>
                      <a:pt x="4939" y="5"/>
                      <a:pt x="4938" y="4"/>
                      <a:pt x="4938" y="3"/>
                    </a:cubicBezTo>
                    <a:cubicBezTo>
                      <a:pt x="4938" y="2"/>
                      <a:pt x="4939" y="1"/>
                      <a:pt x="4940" y="1"/>
                    </a:cubicBezTo>
                    <a:close/>
                    <a:moveTo>
                      <a:pt x="4948" y="1"/>
                    </a:moveTo>
                    <a:lnTo>
                      <a:pt x="4948" y="1"/>
                    </a:lnTo>
                    <a:cubicBezTo>
                      <a:pt x="4949" y="1"/>
                      <a:pt x="4950" y="2"/>
                      <a:pt x="4950" y="3"/>
                    </a:cubicBezTo>
                    <a:cubicBezTo>
                      <a:pt x="4950" y="4"/>
                      <a:pt x="4949" y="5"/>
                      <a:pt x="4948" y="5"/>
                    </a:cubicBezTo>
                    <a:lnTo>
                      <a:pt x="4948" y="5"/>
                    </a:lnTo>
                    <a:cubicBezTo>
                      <a:pt x="4947" y="5"/>
                      <a:pt x="4946" y="4"/>
                      <a:pt x="4946" y="3"/>
                    </a:cubicBezTo>
                    <a:cubicBezTo>
                      <a:pt x="4946" y="2"/>
                      <a:pt x="4947" y="1"/>
                      <a:pt x="4948" y="1"/>
                    </a:cubicBezTo>
                    <a:close/>
                    <a:moveTo>
                      <a:pt x="4956" y="1"/>
                    </a:moveTo>
                    <a:lnTo>
                      <a:pt x="4956" y="1"/>
                    </a:lnTo>
                    <a:cubicBezTo>
                      <a:pt x="4957" y="1"/>
                      <a:pt x="4958" y="2"/>
                      <a:pt x="4958" y="3"/>
                    </a:cubicBezTo>
                    <a:cubicBezTo>
                      <a:pt x="4958" y="4"/>
                      <a:pt x="4957" y="5"/>
                      <a:pt x="4956" y="5"/>
                    </a:cubicBezTo>
                    <a:lnTo>
                      <a:pt x="4956" y="5"/>
                    </a:lnTo>
                    <a:cubicBezTo>
                      <a:pt x="4955" y="5"/>
                      <a:pt x="4954" y="4"/>
                      <a:pt x="4954" y="3"/>
                    </a:cubicBezTo>
                    <a:cubicBezTo>
                      <a:pt x="4954" y="2"/>
                      <a:pt x="4955" y="1"/>
                      <a:pt x="4956" y="1"/>
                    </a:cubicBezTo>
                    <a:close/>
                    <a:moveTo>
                      <a:pt x="4964" y="1"/>
                    </a:moveTo>
                    <a:lnTo>
                      <a:pt x="4964" y="1"/>
                    </a:lnTo>
                    <a:cubicBezTo>
                      <a:pt x="4965" y="1"/>
                      <a:pt x="4966" y="2"/>
                      <a:pt x="4966" y="3"/>
                    </a:cubicBezTo>
                    <a:cubicBezTo>
                      <a:pt x="4966" y="4"/>
                      <a:pt x="4965" y="5"/>
                      <a:pt x="4964" y="5"/>
                    </a:cubicBezTo>
                    <a:lnTo>
                      <a:pt x="4964" y="5"/>
                    </a:lnTo>
                    <a:cubicBezTo>
                      <a:pt x="4963" y="5"/>
                      <a:pt x="4962" y="4"/>
                      <a:pt x="4962" y="3"/>
                    </a:cubicBezTo>
                    <a:cubicBezTo>
                      <a:pt x="4962" y="2"/>
                      <a:pt x="4963" y="1"/>
                      <a:pt x="4964" y="1"/>
                    </a:cubicBezTo>
                    <a:close/>
                    <a:moveTo>
                      <a:pt x="4972" y="1"/>
                    </a:moveTo>
                    <a:lnTo>
                      <a:pt x="4972" y="1"/>
                    </a:lnTo>
                    <a:cubicBezTo>
                      <a:pt x="4973" y="1"/>
                      <a:pt x="4974" y="2"/>
                      <a:pt x="4974" y="3"/>
                    </a:cubicBezTo>
                    <a:cubicBezTo>
                      <a:pt x="4974" y="4"/>
                      <a:pt x="4973" y="5"/>
                      <a:pt x="4972" y="5"/>
                    </a:cubicBezTo>
                    <a:lnTo>
                      <a:pt x="4972" y="5"/>
                    </a:lnTo>
                    <a:cubicBezTo>
                      <a:pt x="4971" y="5"/>
                      <a:pt x="4970" y="4"/>
                      <a:pt x="4970" y="3"/>
                    </a:cubicBezTo>
                    <a:cubicBezTo>
                      <a:pt x="4970" y="2"/>
                      <a:pt x="4971" y="1"/>
                      <a:pt x="4972" y="1"/>
                    </a:cubicBezTo>
                    <a:close/>
                    <a:moveTo>
                      <a:pt x="4980" y="1"/>
                    </a:moveTo>
                    <a:lnTo>
                      <a:pt x="4980" y="1"/>
                    </a:lnTo>
                    <a:cubicBezTo>
                      <a:pt x="4981" y="1"/>
                      <a:pt x="4982" y="2"/>
                      <a:pt x="4982" y="3"/>
                    </a:cubicBezTo>
                    <a:cubicBezTo>
                      <a:pt x="4982" y="4"/>
                      <a:pt x="4981" y="5"/>
                      <a:pt x="4980" y="5"/>
                    </a:cubicBezTo>
                    <a:lnTo>
                      <a:pt x="4980" y="5"/>
                    </a:lnTo>
                    <a:cubicBezTo>
                      <a:pt x="4979" y="5"/>
                      <a:pt x="4978" y="4"/>
                      <a:pt x="4978" y="3"/>
                    </a:cubicBezTo>
                    <a:cubicBezTo>
                      <a:pt x="4978" y="2"/>
                      <a:pt x="4979" y="1"/>
                      <a:pt x="4980" y="1"/>
                    </a:cubicBezTo>
                    <a:close/>
                    <a:moveTo>
                      <a:pt x="4988" y="1"/>
                    </a:moveTo>
                    <a:lnTo>
                      <a:pt x="4988" y="1"/>
                    </a:lnTo>
                    <a:cubicBezTo>
                      <a:pt x="4989" y="1"/>
                      <a:pt x="4990" y="2"/>
                      <a:pt x="4990" y="3"/>
                    </a:cubicBezTo>
                    <a:cubicBezTo>
                      <a:pt x="4990" y="4"/>
                      <a:pt x="4989" y="5"/>
                      <a:pt x="4988" y="5"/>
                    </a:cubicBezTo>
                    <a:lnTo>
                      <a:pt x="4988" y="5"/>
                    </a:lnTo>
                    <a:cubicBezTo>
                      <a:pt x="4987" y="5"/>
                      <a:pt x="4986" y="4"/>
                      <a:pt x="4986" y="3"/>
                    </a:cubicBezTo>
                    <a:cubicBezTo>
                      <a:pt x="4986" y="2"/>
                      <a:pt x="4987" y="1"/>
                      <a:pt x="4988" y="1"/>
                    </a:cubicBezTo>
                    <a:close/>
                    <a:moveTo>
                      <a:pt x="4996" y="1"/>
                    </a:moveTo>
                    <a:lnTo>
                      <a:pt x="4996" y="1"/>
                    </a:lnTo>
                    <a:cubicBezTo>
                      <a:pt x="4997" y="1"/>
                      <a:pt x="4998" y="2"/>
                      <a:pt x="4998" y="3"/>
                    </a:cubicBezTo>
                    <a:cubicBezTo>
                      <a:pt x="4998" y="4"/>
                      <a:pt x="4997" y="5"/>
                      <a:pt x="4996" y="5"/>
                    </a:cubicBezTo>
                    <a:lnTo>
                      <a:pt x="4996" y="5"/>
                    </a:lnTo>
                    <a:cubicBezTo>
                      <a:pt x="4995" y="5"/>
                      <a:pt x="4994" y="4"/>
                      <a:pt x="4994" y="3"/>
                    </a:cubicBezTo>
                    <a:cubicBezTo>
                      <a:pt x="4994" y="2"/>
                      <a:pt x="4995" y="1"/>
                      <a:pt x="4996" y="1"/>
                    </a:cubicBezTo>
                    <a:close/>
                    <a:moveTo>
                      <a:pt x="5004" y="1"/>
                    </a:moveTo>
                    <a:lnTo>
                      <a:pt x="5004" y="1"/>
                    </a:lnTo>
                    <a:cubicBezTo>
                      <a:pt x="5005" y="1"/>
                      <a:pt x="5006" y="2"/>
                      <a:pt x="5006" y="3"/>
                    </a:cubicBezTo>
                    <a:cubicBezTo>
                      <a:pt x="5006" y="4"/>
                      <a:pt x="5005" y="5"/>
                      <a:pt x="5004" y="5"/>
                    </a:cubicBezTo>
                    <a:lnTo>
                      <a:pt x="5004" y="5"/>
                    </a:lnTo>
                    <a:cubicBezTo>
                      <a:pt x="5003" y="5"/>
                      <a:pt x="5002" y="4"/>
                      <a:pt x="5002" y="3"/>
                    </a:cubicBezTo>
                    <a:cubicBezTo>
                      <a:pt x="5002" y="2"/>
                      <a:pt x="5003" y="1"/>
                      <a:pt x="5004" y="1"/>
                    </a:cubicBezTo>
                    <a:close/>
                    <a:moveTo>
                      <a:pt x="5012" y="1"/>
                    </a:moveTo>
                    <a:lnTo>
                      <a:pt x="5012" y="1"/>
                    </a:lnTo>
                    <a:cubicBezTo>
                      <a:pt x="5013" y="1"/>
                      <a:pt x="5014" y="2"/>
                      <a:pt x="5014" y="3"/>
                    </a:cubicBezTo>
                    <a:cubicBezTo>
                      <a:pt x="5014" y="4"/>
                      <a:pt x="5013" y="5"/>
                      <a:pt x="5012" y="5"/>
                    </a:cubicBezTo>
                    <a:lnTo>
                      <a:pt x="5012" y="5"/>
                    </a:lnTo>
                    <a:cubicBezTo>
                      <a:pt x="5011" y="5"/>
                      <a:pt x="5010" y="4"/>
                      <a:pt x="5010" y="3"/>
                    </a:cubicBezTo>
                    <a:cubicBezTo>
                      <a:pt x="5010" y="2"/>
                      <a:pt x="5011" y="1"/>
                      <a:pt x="5012" y="1"/>
                    </a:cubicBezTo>
                    <a:close/>
                    <a:moveTo>
                      <a:pt x="5020" y="1"/>
                    </a:moveTo>
                    <a:lnTo>
                      <a:pt x="5020" y="1"/>
                    </a:lnTo>
                    <a:cubicBezTo>
                      <a:pt x="5021" y="1"/>
                      <a:pt x="5022" y="2"/>
                      <a:pt x="5022" y="3"/>
                    </a:cubicBezTo>
                    <a:cubicBezTo>
                      <a:pt x="5022" y="4"/>
                      <a:pt x="5021" y="5"/>
                      <a:pt x="5020" y="5"/>
                    </a:cubicBezTo>
                    <a:lnTo>
                      <a:pt x="5020" y="5"/>
                    </a:lnTo>
                    <a:cubicBezTo>
                      <a:pt x="5019" y="5"/>
                      <a:pt x="5018" y="4"/>
                      <a:pt x="5018" y="3"/>
                    </a:cubicBezTo>
                    <a:cubicBezTo>
                      <a:pt x="5018" y="2"/>
                      <a:pt x="5019" y="1"/>
                      <a:pt x="5020" y="1"/>
                    </a:cubicBezTo>
                    <a:close/>
                    <a:moveTo>
                      <a:pt x="5028" y="1"/>
                    </a:moveTo>
                    <a:lnTo>
                      <a:pt x="5028" y="1"/>
                    </a:lnTo>
                    <a:cubicBezTo>
                      <a:pt x="5029" y="1"/>
                      <a:pt x="5030" y="2"/>
                      <a:pt x="5030" y="3"/>
                    </a:cubicBezTo>
                    <a:cubicBezTo>
                      <a:pt x="5030" y="4"/>
                      <a:pt x="5029" y="5"/>
                      <a:pt x="5028" y="5"/>
                    </a:cubicBezTo>
                    <a:lnTo>
                      <a:pt x="5028" y="5"/>
                    </a:lnTo>
                    <a:cubicBezTo>
                      <a:pt x="5027" y="5"/>
                      <a:pt x="5026" y="4"/>
                      <a:pt x="5026" y="3"/>
                    </a:cubicBezTo>
                    <a:cubicBezTo>
                      <a:pt x="5026" y="2"/>
                      <a:pt x="5027" y="1"/>
                      <a:pt x="5028" y="1"/>
                    </a:cubicBezTo>
                    <a:close/>
                    <a:moveTo>
                      <a:pt x="5036" y="1"/>
                    </a:moveTo>
                    <a:lnTo>
                      <a:pt x="5036" y="1"/>
                    </a:lnTo>
                    <a:cubicBezTo>
                      <a:pt x="5037" y="1"/>
                      <a:pt x="5038" y="2"/>
                      <a:pt x="5038" y="3"/>
                    </a:cubicBezTo>
                    <a:cubicBezTo>
                      <a:pt x="5038" y="4"/>
                      <a:pt x="5037" y="5"/>
                      <a:pt x="5036" y="5"/>
                    </a:cubicBezTo>
                    <a:lnTo>
                      <a:pt x="5036" y="5"/>
                    </a:lnTo>
                    <a:cubicBezTo>
                      <a:pt x="5035" y="5"/>
                      <a:pt x="5034" y="4"/>
                      <a:pt x="5034" y="3"/>
                    </a:cubicBezTo>
                    <a:cubicBezTo>
                      <a:pt x="5034" y="2"/>
                      <a:pt x="5035" y="1"/>
                      <a:pt x="5036" y="1"/>
                    </a:cubicBezTo>
                    <a:close/>
                    <a:moveTo>
                      <a:pt x="5044" y="1"/>
                    </a:moveTo>
                    <a:lnTo>
                      <a:pt x="5044" y="1"/>
                    </a:lnTo>
                    <a:cubicBezTo>
                      <a:pt x="5045" y="1"/>
                      <a:pt x="5046" y="2"/>
                      <a:pt x="5046" y="3"/>
                    </a:cubicBezTo>
                    <a:cubicBezTo>
                      <a:pt x="5046" y="4"/>
                      <a:pt x="5045" y="5"/>
                      <a:pt x="5044" y="5"/>
                    </a:cubicBezTo>
                    <a:lnTo>
                      <a:pt x="5044" y="5"/>
                    </a:lnTo>
                    <a:cubicBezTo>
                      <a:pt x="5043" y="5"/>
                      <a:pt x="5042" y="4"/>
                      <a:pt x="5042" y="3"/>
                    </a:cubicBezTo>
                    <a:cubicBezTo>
                      <a:pt x="5042" y="2"/>
                      <a:pt x="5043" y="1"/>
                      <a:pt x="5044" y="1"/>
                    </a:cubicBezTo>
                    <a:close/>
                    <a:moveTo>
                      <a:pt x="5052" y="1"/>
                    </a:moveTo>
                    <a:lnTo>
                      <a:pt x="5052" y="1"/>
                    </a:lnTo>
                    <a:cubicBezTo>
                      <a:pt x="5053" y="1"/>
                      <a:pt x="5054" y="2"/>
                      <a:pt x="5054" y="3"/>
                    </a:cubicBezTo>
                    <a:cubicBezTo>
                      <a:pt x="5054" y="4"/>
                      <a:pt x="5053" y="5"/>
                      <a:pt x="5052" y="5"/>
                    </a:cubicBezTo>
                    <a:lnTo>
                      <a:pt x="5052" y="5"/>
                    </a:lnTo>
                    <a:cubicBezTo>
                      <a:pt x="5051" y="5"/>
                      <a:pt x="5050" y="4"/>
                      <a:pt x="5050" y="3"/>
                    </a:cubicBezTo>
                    <a:cubicBezTo>
                      <a:pt x="5050" y="2"/>
                      <a:pt x="5051" y="1"/>
                      <a:pt x="5052" y="1"/>
                    </a:cubicBezTo>
                    <a:close/>
                    <a:moveTo>
                      <a:pt x="5060" y="1"/>
                    </a:moveTo>
                    <a:lnTo>
                      <a:pt x="5060" y="1"/>
                    </a:lnTo>
                    <a:cubicBezTo>
                      <a:pt x="5061" y="1"/>
                      <a:pt x="5062" y="2"/>
                      <a:pt x="5062" y="3"/>
                    </a:cubicBezTo>
                    <a:cubicBezTo>
                      <a:pt x="5062" y="4"/>
                      <a:pt x="5061" y="5"/>
                      <a:pt x="5060" y="5"/>
                    </a:cubicBezTo>
                    <a:lnTo>
                      <a:pt x="5060" y="5"/>
                    </a:lnTo>
                    <a:cubicBezTo>
                      <a:pt x="5059" y="5"/>
                      <a:pt x="5058" y="4"/>
                      <a:pt x="5058" y="3"/>
                    </a:cubicBezTo>
                    <a:cubicBezTo>
                      <a:pt x="5058" y="2"/>
                      <a:pt x="5059" y="1"/>
                      <a:pt x="5060" y="1"/>
                    </a:cubicBezTo>
                    <a:close/>
                    <a:moveTo>
                      <a:pt x="5068" y="1"/>
                    </a:moveTo>
                    <a:lnTo>
                      <a:pt x="5068" y="1"/>
                    </a:lnTo>
                    <a:cubicBezTo>
                      <a:pt x="5069" y="1"/>
                      <a:pt x="5070" y="2"/>
                      <a:pt x="5070" y="3"/>
                    </a:cubicBezTo>
                    <a:cubicBezTo>
                      <a:pt x="5070" y="4"/>
                      <a:pt x="5069" y="5"/>
                      <a:pt x="5068" y="5"/>
                    </a:cubicBezTo>
                    <a:lnTo>
                      <a:pt x="5068" y="5"/>
                    </a:lnTo>
                    <a:cubicBezTo>
                      <a:pt x="5067" y="5"/>
                      <a:pt x="5066" y="4"/>
                      <a:pt x="5066" y="3"/>
                    </a:cubicBezTo>
                    <a:cubicBezTo>
                      <a:pt x="5066" y="2"/>
                      <a:pt x="5067" y="1"/>
                      <a:pt x="5068" y="1"/>
                    </a:cubicBezTo>
                    <a:close/>
                    <a:moveTo>
                      <a:pt x="5076" y="1"/>
                    </a:moveTo>
                    <a:lnTo>
                      <a:pt x="5076" y="1"/>
                    </a:lnTo>
                    <a:cubicBezTo>
                      <a:pt x="5077" y="1"/>
                      <a:pt x="5078" y="2"/>
                      <a:pt x="5078" y="3"/>
                    </a:cubicBezTo>
                    <a:cubicBezTo>
                      <a:pt x="5078" y="4"/>
                      <a:pt x="5077" y="5"/>
                      <a:pt x="5076" y="5"/>
                    </a:cubicBezTo>
                    <a:lnTo>
                      <a:pt x="5076" y="5"/>
                    </a:lnTo>
                    <a:cubicBezTo>
                      <a:pt x="5075" y="5"/>
                      <a:pt x="5074" y="4"/>
                      <a:pt x="5074" y="3"/>
                    </a:cubicBezTo>
                    <a:cubicBezTo>
                      <a:pt x="5074" y="2"/>
                      <a:pt x="5075" y="1"/>
                      <a:pt x="5076" y="1"/>
                    </a:cubicBezTo>
                    <a:close/>
                    <a:moveTo>
                      <a:pt x="5084" y="1"/>
                    </a:moveTo>
                    <a:lnTo>
                      <a:pt x="5084" y="1"/>
                    </a:lnTo>
                    <a:cubicBezTo>
                      <a:pt x="5085" y="1"/>
                      <a:pt x="5086" y="2"/>
                      <a:pt x="5086" y="3"/>
                    </a:cubicBezTo>
                    <a:cubicBezTo>
                      <a:pt x="5086" y="4"/>
                      <a:pt x="5085" y="5"/>
                      <a:pt x="5084" y="5"/>
                    </a:cubicBezTo>
                    <a:lnTo>
                      <a:pt x="5084" y="5"/>
                    </a:lnTo>
                    <a:cubicBezTo>
                      <a:pt x="5083" y="5"/>
                      <a:pt x="5082" y="4"/>
                      <a:pt x="5082" y="3"/>
                    </a:cubicBezTo>
                    <a:cubicBezTo>
                      <a:pt x="5082" y="2"/>
                      <a:pt x="5083" y="1"/>
                      <a:pt x="5084" y="1"/>
                    </a:cubicBezTo>
                    <a:close/>
                    <a:moveTo>
                      <a:pt x="5092" y="1"/>
                    </a:moveTo>
                    <a:lnTo>
                      <a:pt x="5092" y="1"/>
                    </a:lnTo>
                    <a:cubicBezTo>
                      <a:pt x="5093" y="1"/>
                      <a:pt x="5094" y="2"/>
                      <a:pt x="5094" y="3"/>
                    </a:cubicBezTo>
                    <a:cubicBezTo>
                      <a:pt x="5094" y="4"/>
                      <a:pt x="5093" y="5"/>
                      <a:pt x="5092" y="5"/>
                    </a:cubicBezTo>
                    <a:lnTo>
                      <a:pt x="5092" y="5"/>
                    </a:lnTo>
                    <a:cubicBezTo>
                      <a:pt x="5091" y="5"/>
                      <a:pt x="5090" y="4"/>
                      <a:pt x="5090" y="3"/>
                    </a:cubicBezTo>
                    <a:cubicBezTo>
                      <a:pt x="5090" y="2"/>
                      <a:pt x="5091" y="1"/>
                      <a:pt x="5092" y="1"/>
                    </a:cubicBezTo>
                    <a:close/>
                    <a:moveTo>
                      <a:pt x="5100" y="1"/>
                    </a:moveTo>
                    <a:lnTo>
                      <a:pt x="5100" y="1"/>
                    </a:lnTo>
                    <a:cubicBezTo>
                      <a:pt x="5101" y="1"/>
                      <a:pt x="5102" y="2"/>
                      <a:pt x="5102" y="3"/>
                    </a:cubicBezTo>
                    <a:cubicBezTo>
                      <a:pt x="5102" y="4"/>
                      <a:pt x="5101" y="5"/>
                      <a:pt x="5100" y="5"/>
                    </a:cubicBezTo>
                    <a:lnTo>
                      <a:pt x="5100" y="5"/>
                    </a:lnTo>
                    <a:cubicBezTo>
                      <a:pt x="5099" y="5"/>
                      <a:pt x="5098" y="4"/>
                      <a:pt x="5098" y="3"/>
                    </a:cubicBezTo>
                    <a:cubicBezTo>
                      <a:pt x="5098" y="2"/>
                      <a:pt x="5099" y="1"/>
                      <a:pt x="5100" y="1"/>
                    </a:cubicBezTo>
                    <a:close/>
                    <a:moveTo>
                      <a:pt x="5108" y="1"/>
                    </a:moveTo>
                    <a:lnTo>
                      <a:pt x="5108" y="1"/>
                    </a:lnTo>
                    <a:cubicBezTo>
                      <a:pt x="5109" y="1"/>
                      <a:pt x="5110" y="2"/>
                      <a:pt x="5110" y="3"/>
                    </a:cubicBezTo>
                    <a:cubicBezTo>
                      <a:pt x="5110" y="4"/>
                      <a:pt x="5109" y="5"/>
                      <a:pt x="5108" y="5"/>
                    </a:cubicBezTo>
                    <a:lnTo>
                      <a:pt x="5108" y="5"/>
                    </a:lnTo>
                    <a:cubicBezTo>
                      <a:pt x="5107" y="5"/>
                      <a:pt x="5106" y="4"/>
                      <a:pt x="5106" y="3"/>
                    </a:cubicBezTo>
                    <a:cubicBezTo>
                      <a:pt x="5106" y="2"/>
                      <a:pt x="5107" y="1"/>
                      <a:pt x="5108" y="1"/>
                    </a:cubicBezTo>
                    <a:close/>
                    <a:moveTo>
                      <a:pt x="5116" y="1"/>
                    </a:moveTo>
                    <a:lnTo>
                      <a:pt x="5116" y="1"/>
                    </a:lnTo>
                    <a:cubicBezTo>
                      <a:pt x="5117" y="1"/>
                      <a:pt x="5118" y="2"/>
                      <a:pt x="5118" y="3"/>
                    </a:cubicBezTo>
                    <a:cubicBezTo>
                      <a:pt x="5118" y="4"/>
                      <a:pt x="5117" y="5"/>
                      <a:pt x="5116" y="5"/>
                    </a:cubicBezTo>
                    <a:lnTo>
                      <a:pt x="5116" y="5"/>
                    </a:lnTo>
                    <a:cubicBezTo>
                      <a:pt x="5115" y="5"/>
                      <a:pt x="5114" y="4"/>
                      <a:pt x="5114" y="3"/>
                    </a:cubicBezTo>
                    <a:cubicBezTo>
                      <a:pt x="5114" y="2"/>
                      <a:pt x="5115" y="1"/>
                      <a:pt x="5116" y="1"/>
                    </a:cubicBezTo>
                    <a:close/>
                    <a:moveTo>
                      <a:pt x="5124" y="1"/>
                    </a:moveTo>
                    <a:lnTo>
                      <a:pt x="5124" y="1"/>
                    </a:lnTo>
                    <a:cubicBezTo>
                      <a:pt x="5125" y="1"/>
                      <a:pt x="5126" y="2"/>
                      <a:pt x="5126" y="3"/>
                    </a:cubicBezTo>
                    <a:cubicBezTo>
                      <a:pt x="5126" y="4"/>
                      <a:pt x="5125" y="5"/>
                      <a:pt x="5124" y="5"/>
                    </a:cubicBezTo>
                    <a:lnTo>
                      <a:pt x="5124" y="5"/>
                    </a:lnTo>
                    <a:cubicBezTo>
                      <a:pt x="5123" y="5"/>
                      <a:pt x="5122" y="4"/>
                      <a:pt x="5122" y="3"/>
                    </a:cubicBezTo>
                    <a:cubicBezTo>
                      <a:pt x="5122" y="2"/>
                      <a:pt x="5123" y="1"/>
                      <a:pt x="5124" y="1"/>
                    </a:cubicBezTo>
                    <a:close/>
                    <a:moveTo>
                      <a:pt x="5132" y="1"/>
                    </a:moveTo>
                    <a:lnTo>
                      <a:pt x="5132" y="1"/>
                    </a:lnTo>
                    <a:cubicBezTo>
                      <a:pt x="5133" y="1"/>
                      <a:pt x="5134" y="2"/>
                      <a:pt x="5134" y="3"/>
                    </a:cubicBezTo>
                    <a:cubicBezTo>
                      <a:pt x="5134" y="4"/>
                      <a:pt x="5133" y="5"/>
                      <a:pt x="5132" y="5"/>
                    </a:cubicBezTo>
                    <a:lnTo>
                      <a:pt x="5132" y="5"/>
                    </a:lnTo>
                    <a:cubicBezTo>
                      <a:pt x="5131" y="5"/>
                      <a:pt x="5130" y="4"/>
                      <a:pt x="5130" y="3"/>
                    </a:cubicBezTo>
                    <a:cubicBezTo>
                      <a:pt x="5130" y="2"/>
                      <a:pt x="5131" y="1"/>
                      <a:pt x="5132" y="1"/>
                    </a:cubicBezTo>
                    <a:close/>
                    <a:moveTo>
                      <a:pt x="5140" y="1"/>
                    </a:moveTo>
                    <a:lnTo>
                      <a:pt x="5140" y="1"/>
                    </a:lnTo>
                    <a:cubicBezTo>
                      <a:pt x="5141" y="1"/>
                      <a:pt x="5142" y="2"/>
                      <a:pt x="5142" y="3"/>
                    </a:cubicBezTo>
                    <a:cubicBezTo>
                      <a:pt x="5142" y="4"/>
                      <a:pt x="5141" y="5"/>
                      <a:pt x="5140" y="5"/>
                    </a:cubicBezTo>
                    <a:lnTo>
                      <a:pt x="5140" y="5"/>
                    </a:lnTo>
                    <a:cubicBezTo>
                      <a:pt x="5139" y="5"/>
                      <a:pt x="5138" y="4"/>
                      <a:pt x="5138" y="3"/>
                    </a:cubicBezTo>
                    <a:cubicBezTo>
                      <a:pt x="5138" y="2"/>
                      <a:pt x="5139" y="1"/>
                      <a:pt x="5140" y="1"/>
                    </a:cubicBezTo>
                    <a:close/>
                    <a:moveTo>
                      <a:pt x="5148" y="1"/>
                    </a:moveTo>
                    <a:lnTo>
                      <a:pt x="5148" y="1"/>
                    </a:lnTo>
                    <a:cubicBezTo>
                      <a:pt x="5149" y="1"/>
                      <a:pt x="5150" y="2"/>
                      <a:pt x="5150" y="3"/>
                    </a:cubicBezTo>
                    <a:cubicBezTo>
                      <a:pt x="5150" y="4"/>
                      <a:pt x="5149" y="5"/>
                      <a:pt x="5148" y="5"/>
                    </a:cubicBezTo>
                    <a:lnTo>
                      <a:pt x="5148" y="5"/>
                    </a:lnTo>
                    <a:cubicBezTo>
                      <a:pt x="5147" y="5"/>
                      <a:pt x="5146" y="4"/>
                      <a:pt x="5146" y="3"/>
                    </a:cubicBezTo>
                    <a:cubicBezTo>
                      <a:pt x="5146" y="2"/>
                      <a:pt x="5147" y="1"/>
                      <a:pt x="5148" y="1"/>
                    </a:cubicBezTo>
                    <a:close/>
                    <a:moveTo>
                      <a:pt x="5156" y="1"/>
                    </a:moveTo>
                    <a:lnTo>
                      <a:pt x="5156" y="1"/>
                    </a:lnTo>
                    <a:cubicBezTo>
                      <a:pt x="5157" y="1"/>
                      <a:pt x="5158" y="2"/>
                      <a:pt x="5158" y="3"/>
                    </a:cubicBezTo>
                    <a:cubicBezTo>
                      <a:pt x="5158" y="4"/>
                      <a:pt x="5157" y="5"/>
                      <a:pt x="5156" y="5"/>
                    </a:cubicBezTo>
                    <a:lnTo>
                      <a:pt x="5156" y="5"/>
                    </a:lnTo>
                    <a:cubicBezTo>
                      <a:pt x="5155" y="5"/>
                      <a:pt x="5154" y="4"/>
                      <a:pt x="5154" y="3"/>
                    </a:cubicBezTo>
                    <a:cubicBezTo>
                      <a:pt x="5154" y="2"/>
                      <a:pt x="5155" y="1"/>
                      <a:pt x="5156" y="1"/>
                    </a:cubicBezTo>
                    <a:close/>
                    <a:moveTo>
                      <a:pt x="5164" y="1"/>
                    </a:moveTo>
                    <a:lnTo>
                      <a:pt x="5164" y="1"/>
                    </a:lnTo>
                    <a:cubicBezTo>
                      <a:pt x="5165" y="1"/>
                      <a:pt x="5166" y="2"/>
                      <a:pt x="5166" y="3"/>
                    </a:cubicBezTo>
                    <a:cubicBezTo>
                      <a:pt x="5166" y="4"/>
                      <a:pt x="5165" y="5"/>
                      <a:pt x="5164" y="5"/>
                    </a:cubicBezTo>
                    <a:lnTo>
                      <a:pt x="5164" y="5"/>
                    </a:lnTo>
                    <a:cubicBezTo>
                      <a:pt x="5163" y="5"/>
                      <a:pt x="5162" y="4"/>
                      <a:pt x="5162" y="3"/>
                    </a:cubicBezTo>
                    <a:cubicBezTo>
                      <a:pt x="5162" y="2"/>
                      <a:pt x="5163" y="1"/>
                      <a:pt x="5164" y="1"/>
                    </a:cubicBezTo>
                    <a:close/>
                    <a:moveTo>
                      <a:pt x="5172" y="1"/>
                    </a:moveTo>
                    <a:lnTo>
                      <a:pt x="5172" y="1"/>
                    </a:lnTo>
                    <a:cubicBezTo>
                      <a:pt x="5173" y="1"/>
                      <a:pt x="5174" y="2"/>
                      <a:pt x="5174" y="3"/>
                    </a:cubicBezTo>
                    <a:cubicBezTo>
                      <a:pt x="5174" y="4"/>
                      <a:pt x="5173" y="5"/>
                      <a:pt x="5172" y="5"/>
                    </a:cubicBezTo>
                    <a:lnTo>
                      <a:pt x="5172" y="5"/>
                    </a:lnTo>
                    <a:cubicBezTo>
                      <a:pt x="5171" y="5"/>
                      <a:pt x="5170" y="4"/>
                      <a:pt x="5170" y="3"/>
                    </a:cubicBezTo>
                    <a:cubicBezTo>
                      <a:pt x="5170" y="2"/>
                      <a:pt x="5171" y="1"/>
                      <a:pt x="5172" y="1"/>
                    </a:cubicBezTo>
                    <a:close/>
                    <a:moveTo>
                      <a:pt x="5180" y="1"/>
                    </a:moveTo>
                    <a:lnTo>
                      <a:pt x="5180" y="1"/>
                    </a:lnTo>
                    <a:cubicBezTo>
                      <a:pt x="5181" y="1"/>
                      <a:pt x="5182" y="2"/>
                      <a:pt x="5182" y="3"/>
                    </a:cubicBezTo>
                    <a:cubicBezTo>
                      <a:pt x="5182" y="4"/>
                      <a:pt x="5181" y="5"/>
                      <a:pt x="5180" y="5"/>
                    </a:cubicBezTo>
                    <a:lnTo>
                      <a:pt x="5180" y="5"/>
                    </a:lnTo>
                    <a:cubicBezTo>
                      <a:pt x="5179" y="5"/>
                      <a:pt x="5178" y="4"/>
                      <a:pt x="5178" y="3"/>
                    </a:cubicBezTo>
                    <a:cubicBezTo>
                      <a:pt x="5178" y="2"/>
                      <a:pt x="5179" y="1"/>
                      <a:pt x="5180" y="1"/>
                    </a:cubicBezTo>
                    <a:close/>
                    <a:moveTo>
                      <a:pt x="5188" y="1"/>
                    </a:moveTo>
                    <a:lnTo>
                      <a:pt x="5188" y="1"/>
                    </a:lnTo>
                    <a:cubicBezTo>
                      <a:pt x="5189" y="1"/>
                      <a:pt x="5190" y="2"/>
                      <a:pt x="5190" y="3"/>
                    </a:cubicBezTo>
                    <a:cubicBezTo>
                      <a:pt x="5190" y="4"/>
                      <a:pt x="5189" y="5"/>
                      <a:pt x="5188" y="5"/>
                    </a:cubicBezTo>
                    <a:lnTo>
                      <a:pt x="5188" y="5"/>
                    </a:lnTo>
                    <a:cubicBezTo>
                      <a:pt x="5187" y="5"/>
                      <a:pt x="5186" y="4"/>
                      <a:pt x="5186" y="3"/>
                    </a:cubicBezTo>
                    <a:cubicBezTo>
                      <a:pt x="5186" y="2"/>
                      <a:pt x="5187" y="1"/>
                      <a:pt x="5188" y="1"/>
                    </a:cubicBezTo>
                    <a:close/>
                    <a:moveTo>
                      <a:pt x="5196" y="1"/>
                    </a:moveTo>
                    <a:lnTo>
                      <a:pt x="5196" y="1"/>
                    </a:lnTo>
                    <a:cubicBezTo>
                      <a:pt x="5197" y="1"/>
                      <a:pt x="5198" y="2"/>
                      <a:pt x="5198" y="3"/>
                    </a:cubicBezTo>
                    <a:cubicBezTo>
                      <a:pt x="5198" y="4"/>
                      <a:pt x="5197" y="5"/>
                      <a:pt x="5196" y="5"/>
                    </a:cubicBezTo>
                    <a:lnTo>
                      <a:pt x="5196" y="5"/>
                    </a:lnTo>
                    <a:cubicBezTo>
                      <a:pt x="5195" y="5"/>
                      <a:pt x="5194" y="4"/>
                      <a:pt x="5194" y="3"/>
                    </a:cubicBezTo>
                    <a:cubicBezTo>
                      <a:pt x="5194" y="2"/>
                      <a:pt x="5195" y="1"/>
                      <a:pt x="5196" y="1"/>
                    </a:cubicBezTo>
                    <a:close/>
                    <a:moveTo>
                      <a:pt x="5204" y="1"/>
                    </a:moveTo>
                    <a:lnTo>
                      <a:pt x="5204" y="1"/>
                    </a:lnTo>
                    <a:cubicBezTo>
                      <a:pt x="5205" y="1"/>
                      <a:pt x="5206" y="2"/>
                      <a:pt x="5206" y="3"/>
                    </a:cubicBezTo>
                    <a:cubicBezTo>
                      <a:pt x="5206" y="4"/>
                      <a:pt x="5205" y="5"/>
                      <a:pt x="5204" y="5"/>
                    </a:cubicBezTo>
                    <a:lnTo>
                      <a:pt x="5204" y="5"/>
                    </a:lnTo>
                    <a:cubicBezTo>
                      <a:pt x="5203" y="5"/>
                      <a:pt x="5202" y="4"/>
                      <a:pt x="5202" y="3"/>
                    </a:cubicBezTo>
                    <a:cubicBezTo>
                      <a:pt x="5202" y="2"/>
                      <a:pt x="5203" y="1"/>
                      <a:pt x="5204" y="1"/>
                    </a:cubicBezTo>
                    <a:close/>
                    <a:moveTo>
                      <a:pt x="5212" y="1"/>
                    </a:moveTo>
                    <a:lnTo>
                      <a:pt x="5212" y="1"/>
                    </a:lnTo>
                    <a:cubicBezTo>
                      <a:pt x="5213" y="1"/>
                      <a:pt x="5214" y="2"/>
                      <a:pt x="5214" y="3"/>
                    </a:cubicBezTo>
                    <a:cubicBezTo>
                      <a:pt x="5214" y="4"/>
                      <a:pt x="5213" y="5"/>
                      <a:pt x="5212" y="5"/>
                    </a:cubicBezTo>
                    <a:lnTo>
                      <a:pt x="5212" y="5"/>
                    </a:lnTo>
                    <a:cubicBezTo>
                      <a:pt x="5211" y="5"/>
                      <a:pt x="5210" y="4"/>
                      <a:pt x="5210" y="3"/>
                    </a:cubicBezTo>
                    <a:cubicBezTo>
                      <a:pt x="5210" y="2"/>
                      <a:pt x="5211" y="1"/>
                      <a:pt x="5212" y="1"/>
                    </a:cubicBezTo>
                    <a:close/>
                    <a:moveTo>
                      <a:pt x="5220" y="1"/>
                    </a:moveTo>
                    <a:lnTo>
                      <a:pt x="5220" y="1"/>
                    </a:lnTo>
                    <a:cubicBezTo>
                      <a:pt x="5221" y="1"/>
                      <a:pt x="5222" y="2"/>
                      <a:pt x="5222" y="3"/>
                    </a:cubicBezTo>
                    <a:cubicBezTo>
                      <a:pt x="5222" y="4"/>
                      <a:pt x="5221" y="5"/>
                      <a:pt x="5220" y="5"/>
                    </a:cubicBezTo>
                    <a:lnTo>
                      <a:pt x="5220" y="5"/>
                    </a:lnTo>
                    <a:cubicBezTo>
                      <a:pt x="5219" y="5"/>
                      <a:pt x="5218" y="4"/>
                      <a:pt x="5218" y="3"/>
                    </a:cubicBezTo>
                    <a:cubicBezTo>
                      <a:pt x="5218" y="2"/>
                      <a:pt x="5219" y="1"/>
                      <a:pt x="5220" y="1"/>
                    </a:cubicBezTo>
                    <a:close/>
                    <a:moveTo>
                      <a:pt x="5228" y="1"/>
                    </a:moveTo>
                    <a:lnTo>
                      <a:pt x="5228" y="1"/>
                    </a:lnTo>
                    <a:cubicBezTo>
                      <a:pt x="5229" y="1"/>
                      <a:pt x="5230" y="2"/>
                      <a:pt x="5230" y="3"/>
                    </a:cubicBezTo>
                    <a:cubicBezTo>
                      <a:pt x="5230" y="4"/>
                      <a:pt x="5229" y="5"/>
                      <a:pt x="5228" y="5"/>
                    </a:cubicBezTo>
                    <a:lnTo>
                      <a:pt x="5228" y="5"/>
                    </a:lnTo>
                    <a:cubicBezTo>
                      <a:pt x="5227" y="5"/>
                      <a:pt x="5226" y="4"/>
                      <a:pt x="5226" y="3"/>
                    </a:cubicBezTo>
                    <a:cubicBezTo>
                      <a:pt x="5226" y="2"/>
                      <a:pt x="5227" y="1"/>
                      <a:pt x="5228" y="1"/>
                    </a:cubicBezTo>
                    <a:close/>
                    <a:moveTo>
                      <a:pt x="5236" y="1"/>
                    </a:moveTo>
                    <a:lnTo>
                      <a:pt x="5236" y="1"/>
                    </a:lnTo>
                    <a:cubicBezTo>
                      <a:pt x="5237" y="1"/>
                      <a:pt x="5238" y="2"/>
                      <a:pt x="5238" y="3"/>
                    </a:cubicBezTo>
                    <a:cubicBezTo>
                      <a:pt x="5238" y="4"/>
                      <a:pt x="5237" y="5"/>
                      <a:pt x="5236" y="5"/>
                    </a:cubicBezTo>
                    <a:lnTo>
                      <a:pt x="5236" y="5"/>
                    </a:lnTo>
                    <a:cubicBezTo>
                      <a:pt x="5235" y="5"/>
                      <a:pt x="5234" y="4"/>
                      <a:pt x="5234" y="3"/>
                    </a:cubicBezTo>
                    <a:cubicBezTo>
                      <a:pt x="5234" y="2"/>
                      <a:pt x="5235" y="1"/>
                      <a:pt x="5236" y="1"/>
                    </a:cubicBezTo>
                    <a:close/>
                    <a:moveTo>
                      <a:pt x="5244" y="1"/>
                    </a:moveTo>
                    <a:lnTo>
                      <a:pt x="5244" y="1"/>
                    </a:lnTo>
                    <a:cubicBezTo>
                      <a:pt x="5245" y="1"/>
                      <a:pt x="5246" y="2"/>
                      <a:pt x="5246" y="3"/>
                    </a:cubicBezTo>
                    <a:cubicBezTo>
                      <a:pt x="5246" y="4"/>
                      <a:pt x="5245" y="5"/>
                      <a:pt x="5244" y="5"/>
                    </a:cubicBezTo>
                    <a:lnTo>
                      <a:pt x="5244" y="5"/>
                    </a:lnTo>
                    <a:cubicBezTo>
                      <a:pt x="5243" y="5"/>
                      <a:pt x="5242" y="4"/>
                      <a:pt x="5242" y="3"/>
                    </a:cubicBezTo>
                    <a:cubicBezTo>
                      <a:pt x="5242" y="2"/>
                      <a:pt x="5243" y="1"/>
                      <a:pt x="5244" y="1"/>
                    </a:cubicBezTo>
                    <a:close/>
                    <a:moveTo>
                      <a:pt x="5252" y="1"/>
                    </a:moveTo>
                    <a:lnTo>
                      <a:pt x="5252" y="1"/>
                    </a:lnTo>
                    <a:cubicBezTo>
                      <a:pt x="5253" y="1"/>
                      <a:pt x="5254" y="2"/>
                      <a:pt x="5254" y="3"/>
                    </a:cubicBezTo>
                    <a:cubicBezTo>
                      <a:pt x="5254" y="4"/>
                      <a:pt x="5253" y="5"/>
                      <a:pt x="5252" y="5"/>
                    </a:cubicBezTo>
                    <a:lnTo>
                      <a:pt x="5252" y="5"/>
                    </a:lnTo>
                    <a:cubicBezTo>
                      <a:pt x="5251" y="5"/>
                      <a:pt x="5250" y="4"/>
                      <a:pt x="5250" y="3"/>
                    </a:cubicBezTo>
                    <a:cubicBezTo>
                      <a:pt x="5250" y="2"/>
                      <a:pt x="5251" y="1"/>
                      <a:pt x="5252" y="1"/>
                    </a:cubicBezTo>
                    <a:close/>
                    <a:moveTo>
                      <a:pt x="5260" y="1"/>
                    </a:moveTo>
                    <a:lnTo>
                      <a:pt x="5260" y="1"/>
                    </a:lnTo>
                    <a:cubicBezTo>
                      <a:pt x="5261" y="1"/>
                      <a:pt x="5262" y="2"/>
                      <a:pt x="5262" y="3"/>
                    </a:cubicBezTo>
                    <a:cubicBezTo>
                      <a:pt x="5262" y="4"/>
                      <a:pt x="5261" y="5"/>
                      <a:pt x="5260" y="5"/>
                    </a:cubicBezTo>
                    <a:lnTo>
                      <a:pt x="5260" y="5"/>
                    </a:lnTo>
                    <a:cubicBezTo>
                      <a:pt x="5259" y="5"/>
                      <a:pt x="5258" y="4"/>
                      <a:pt x="5258" y="3"/>
                    </a:cubicBezTo>
                    <a:cubicBezTo>
                      <a:pt x="5258" y="2"/>
                      <a:pt x="5259" y="1"/>
                      <a:pt x="5260" y="1"/>
                    </a:cubicBezTo>
                    <a:close/>
                    <a:moveTo>
                      <a:pt x="5268" y="1"/>
                    </a:moveTo>
                    <a:lnTo>
                      <a:pt x="5268" y="1"/>
                    </a:lnTo>
                    <a:cubicBezTo>
                      <a:pt x="5270" y="1"/>
                      <a:pt x="5270" y="2"/>
                      <a:pt x="5270" y="3"/>
                    </a:cubicBezTo>
                    <a:cubicBezTo>
                      <a:pt x="5270" y="4"/>
                      <a:pt x="5270" y="5"/>
                      <a:pt x="5268" y="5"/>
                    </a:cubicBezTo>
                    <a:lnTo>
                      <a:pt x="5268" y="5"/>
                    </a:lnTo>
                    <a:cubicBezTo>
                      <a:pt x="5267" y="5"/>
                      <a:pt x="5266" y="4"/>
                      <a:pt x="5266" y="3"/>
                    </a:cubicBezTo>
                    <a:cubicBezTo>
                      <a:pt x="5266" y="2"/>
                      <a:pt x="5267" y="1"/>
                      <a:pt x="5268" y="1"/>
                    </a:cubicBezTo>
                    <a:close/>
                    <a:moveTo>
                      <a:pt x="5276" y="1"/>
                    </a:moveTo>
                    <a:lnTo>
                      <a:pt x="5276" y="1"/>
                    </a:lnTo>
                    <a:cubicBezTo>
                      <a:pt x="5278" y="1"/>
                      <a:pt x="5278" y="2"/>
                      <a:pt x="5278" y="3"/>
                    </a:cubicBezTo>
                    <a:cubicBezTo>
                      <a:pt x="5278" y="4"/>
                      <a:pt x="5278" y="5"/>
                      <a:pt x="5276" y="5"/>
                    </a:cubicBezTo>
                    <a:lnTo>
                      <a:pt x="5276" y="5"/>
                    </a:lnTo>
                    <a:cubicBezTo>
                      <a:pt x="5275" y="5"/>
                      <a:pt x="5274" y="4"/>
                      <a:pt x="5274" y="3"/>
                    </a:cubicBezTo>
                    <a:cubicBezTo>
                      <a:pt x="5274" y="2"/>
                      <a:pt x="5275" y="1"/>
                      <a:pt x="5276" y="1"/>
                    </a:cubicBezTo>
                    <a:close/>
                    <a:moveTo>
                      <a:pt x="5284" y="1"/>
                    </a:moveTo>
                    <a:lnTo>
                      <a:pt x="5284" y="1"/>
                    </a:lnTo>
                    <a:cubicBezTo>
                      <a:pt x="5286" y="1"/>
                      <a:pt x="5286" y="2"/>
                      <a:pt x="5286" y="3"/>
                    </a:cubicBezTo>
                    <a:cubicBezTo>
                      <a:pt x="5286" y="4"/>
                      <a:pt x="5286" y="5"/>
                      <a:pt x="5284" y="5"/>
                    </a:cubicBezTo>
                    <a:lnTo>
                      <a:pt x="5284" y="5"/>
                    </a:lnTo>
                    <a:cubicBezTo>
                      <a:pt x="5283" y="5"/>
                      <a:pt x="5282" y="4"/>
                      <a:pt x="5282" y="3"/>
                    </a:cubicBezTo>
                    <a:cubicBezTo>
                      <a:pt x="5282" y="2"/>
                      <a:pt x="5283" y="1"/>
                      <a:pt x="5284" y="1"/>
                    </a:cubicBezTo>
                    <a:close/>
                    <a:moveTo>
                      <a:pt x="5292" y="1"/>
                    </a:moveTo>
                    <a:lnTo>
                      <a:pt x="5292" y="1"/>
                    </a:lnTo>
                    <a:cubicBezTo>
                      <a:pt x="5294" y="1"/>
                      <a:pt x="5294" y="2"/>
                      <a:pt x="5294" y="3"/>
                    </a:cubicBezTo>
                    <a:cubicBezTo>
                      <a:pt x="5294" y="4"/>
                      <a:pt x="5294" y="5"/>
                      <a:pt x="5292" y="5"/>
                    </a:cubicBezTo>
                    <a:lnTo>
                      <a:pt x="5292" y="5"/>
                    </a:lnTo>
                    <a:cubicBezTo>
                      <a:pt x="5291" y="5"/>
                      <a:pt x="5290" y="4"/>
                      <a:pt x="5290" y="3"/>
                    </a:cubicBezTo>
                    <a:cubicBezTo>
                      <a:pt x="5290" y="2"/>
                      <a:pt x="5291" y="1"/>
                      <a:pt x="5292" y="1"/>
                    </a:cubicBezTo>
                    <a:close/>
                    <a:moveTo>
                      <a:pt x="5300" y="1"/>
                    </a:moveTo>
                    <a:lnTo>
                      <a:pt x="5300" y="1"/>
                    </a:lnTo>
                    <a:cubicBezTo>
                      <a:pt x="5302" y="1"/>
                      <a:pt x="5302" y="2"/>
                      <a:pt x="5302" y="3"/>
                    </a:cubicBezTo>
                    <a:cubicBezTo>
                      <a:pt x="5302" y="4"/>
                      <a:pt x="5302" y="5"/>
                      <a:pt x="5300" y="5"/>
                    </a:cubicBezTo>
                    <a:lnTo>
                      <a:pt x="5300" y="5"/>
                    </a:lnTo>
                    <a:cubicBezTo>
                      <a:pt x="5299" y="5"/>
                      <a:pt x="5298" y="4"/>
                      <a:pt x="5298" y="3"/>
                    </a:cubicBezTo>
                    <a:cubicBezTo>
                      <a:pt x="5298" y="2"/>
                      <a:pt x="5299" y="1"/>
                      <a:pt x="5300" y="1"/>
                    </a:cubicBezTo>
                    <a:close/>
                    <a:moveTo>
                      <a:pt x="5308" y="1"/>
                    </a:moveTo>
                    <a:lnTo>
                      <a:pt x="5308" y="1"/>
                    </a:lnTo>
                    <a:cubicBezTo>
                      <a:pt x="5310" y="1"/>
                      <a:pt x="5310" y="2"/>
                      <a:pt x="5310" y="3"/>
                    </a:cubicBezTo>
                    <a:cubicBezTo>
                      <a:pt x="5310" y="4"/>
                      <a:pt x="5310" y="5"/>
                      <a:pt x="5308" y="5"/>
                    </a:cubicBezTo>
                    <a:lnTo>
                      <a:pt x="5308" y="5"/>
                    </a:lnTo>
                    <a:cubicBezTo>
                      <a:pt x="5307" y="5"/>
                      <a:pt x="5306" y="4"/>
                      <a:pt x="5306" y="3"/>
                    </a:cubicBezTo>
                    <a:cubicBezTo>
                      <a:pt x="5306" y="2"/>
                      <a:pt x="5307" y="1"/>
                      <a:pt x="5308" y="1"/>
                    </a:cubicBezTo>
                    <a:close/>
                    <a:moveTo>
                      <a:pt x="5316" y="1"/>
                    </a:moveTo>
                    <a:lnTo>
                      <a:pt x="5316" y="1"/>
                    </a:lnTo>
                    <a:cubicBezTo>
                      <a:pt x="5318" y="1"/>
                      <a:pt x="5318" y="2"/>
                      <a:pt x="5318" y="3"/>
                    </a:cubicBezTo>
                    <a:cubicBezTo>
                      <a:pt x="5318" y="4"/>
                      <a:pt x="5318" y="5"/>
                      <a:pt x="5316" y="5"/>
                    </a:cubicBezTo>
                    <a:lnTo>
                      <a:pt x="5316" y="5"/>
                    </a:lnTo>
                    <a:cubicBezTo>
                      <a:pt x="5315" y="5"/>
                      <a:pt x="5314" y="4"/>
                      <a:pt x="5314" y="3"/>
                    </a:cubicBezTo>
                    <a:cubicBezTo>
                      <a:pt x="5314" y="2"/>
                      <a:pt x="5315" y="1"/>
                      <a:pt x="5316" y="1"/>
                    </a:cubicBezTo>
                    <a:close/>
                    <a:moveTo>
                      <a:pt x="5324" y="1"/>
                    </a:moveTo>
                    <a:lnTo>
                      <a:pt x="5324" y="1"/>
                    </a:lnTo>
                    <a:cubicBezTo>
                      <a:pt x="5326" y="1"/>
                      <a:pt x="5326" y="2"/>
                      <a:pt x="5326" y="3"/>
                    </a:cubicBezTo>
                    <a:cubicBezTo>
                      <a:pt x="5326" y="4"/>
                      <a:pt x="5326" y="5"/>
                      <a:pt x="5324" y="5"/>
                    </a:cubicBezTo>
                    <a:lnTo>
                      <a:pt x="5324" y="5"/>
                    </a:lnTo>
                    <a:cubicBezTo>
                      <a:pt x="5323" y="5"/>
                      <a:pt x="5322" y="4"/>
                      <a:pt x="5322" y="3"/>
                    </a:cubicBezTo>
                    <a:cubicBezTo>
                      <a:pt x="5322" y="2"/>
                      <a:pt x="5323" y="1"/>
                      <a:pt x="5324" y="1"/>
                    </a:cubicBezTo>
                    <a:close/>
                    <a:moveTo>
                      <a:pt x="5332" y="1"/>
                    </a:moveTo>
                    <a:lnTo>
                      <a:pt x="5332" y="1"/>
                    </a:lnTo>
                    <a:cubicBezTo>
                      <a:pt x="5334" y="1"/>
                      <a:pt x="5334" y="2"/>
                      <a:pt x="5334" y="3"/>
                    </a:cubicBezTo>
                    <a:cubicBezTo>
                      <a:pt x="5334" y="4"/>
                      <a:pt x="5334" y="5"/>
                      <a:pt x="5332" y="5"/>
                    </a:cubicBezTo>
                    <a:lnTo>
                      <a:pt x="5332" y="5"/>
                    </a:lnTo>
                    <a:cubicBezTo>
                      <a:pt x="5331" y="5"/>
                      <a:pt x="5330" y="4"/>
                      <a:pt x="5330" y="3"/>
                    </a:cubicBezTo>
                    <a:cubicBezTo>
                      <a:pt x="5330" y="2"/>
                      <a:pt x="5331" y="1"/>
                      <a:pt x="5332" y="1"/>
                    </a:cubicBezTo>
                    <a:close/>
                    <a:moveTo>
                      <a:pt x="5340" y="1"/>
                    </a:moveTo>
                    <a:lnTo>
                      <a:pt x="5340" y="1"/>
                    </a:lnTo>
                    <a:cubicBezTo>
                      <a:pt x="5342" y="1"/>
                      <a:pt x="5342" y="2"/>
                      <a:pt x="5342" y="3"/>
                    </a:cubicBezTo>
                    <a:cubicBezTo>
                      <a:pt x="5342" y="4"/>
                      <a:pt x="5342" y="5"/>
                      <a:pt x="5340" y="5"/>
                    </a:cubicBezTo>
                    <a:lnTo>
                      <a:pt x="5340" y="5"/>
                    </a:lnTo>
                    <a:cubicBezTo>
                      <a:pt x="5339" y="5"/>
                      <a:pt x="5338" y="4"/>
                      <a:pt x="5338" y="3"/>
                    </a:cubicBezTo>
                    <a:cubicBezTo>
                      <a:pt x="5338" y="2"/>
                      <a:pt x="5339" y="1"/>
                      <a:pt x="5340" y="1"/>
                    </a:cubicBezTo>
                    <a:close/>
                    <a:moveTo>
                      <a:pt x="5348" y="1"/>
                    </a:moveTo>
                    <a:lnTo>
                      <a:pt x="5348" y="1"/>
                    </a:lnTo>
                    <a:cubicBezTo>
                      <a:pt x="5350" y="1"/>
                      <a:pt x="5350" y="2"/>
                      <a:pt x="5350" y="3"/>
                    </a:cubicBezTo>
                    <a:cubicBezTo>
                      <a:pt x="5350" y="4"/>
                      <a:pt x="5350" y="5"/>
                      <a:pt x="5348" y="5"/>
                    </a:cubicBezTo>
                    <a:lnTo>
                      <a:pt x="5348" y="5"/>
                    </a:lnTo>
                    <a:cubicBezTo>
                      <a:pt x="5347" y="5"/>
                      <a:pt x="5346" y="4"/>
                      <a:pt x="5346" y="3"/>
                    </a:cubicBezTo>
                    <a:cubicBezTo>
                      <a:pt x="5346" y="2"/>
                      <a:pt x="5347" y="1"/>
                      <a:pt x="5348" y="1"/>
                    </a:cubicBezTo>
                    <a:close/>
                    <a:moveTo>
                      <a:pt x="5356" y="1"/>
                    </a:moveTo>
                    <a:lnTo>
                      <a:pt x="5356" y="1"/>
                    </a:lnTo>
                    <a:cubicBezTo>
                      <a:pt x="5358" y="1"/>
                      <a:pt x="5358" y="2"/>
                      <a:pt x="5358" y="3"/>
                    </a:cubicBezTo>
                    <a:cubicBezTo>
                      <a:pt x="5358" y="4"/>
                      <a:pt x="5358" y="5"/>
                      <a:pt x="5356" y="5"/>
                    </a:cubicBezTo>
                    <a:lnTo>
                      <a:pt x="5356" y="5"/>
                    </a:lnTo>
                    <a:cubicBezTo>
                      <a:pt x="5355" y="5"/>
                      <a:pt x="5354" y="4"/>
                      <a:pt x="5354" y="3"/>
                    </a:cubicBezTo>
                    <a:cubicBezTo>
                      <a:pt x="5354" y="2"/>
                      <a:pt x="5355" y="1"/>
                      <a:pt x="5356" y="1"/>
                    </a:cubicBezTo>
                    <a:close/>
                    <a:moveTo>
                      <a:pt x="5364" y="1"/>
                    </a:moveTo>
                    <a:lnTo>
                      <a:pt x="5364" y="1"/>
                    </a:lnTo>
                    <a:cubicBezTo>
                      <a:pt x="5366" y="1"/>
                      <a:pt x="5366" y="2"/>
                      <a:pt x="5366" y="3"/>
                    </a:cubicBezTo>
                    <a:cubicBezTo>
                      <a:pt x="5366" y="4"/>
                      <a:pt x="5366" y="5"/>
                      <a:pt x="5364" y="5"/>
                    </a:cubicBezTo>
                    <a:lnTo>
                      <a:pt x="5364" y="5"/>
                    </a:lnTo>
                    <a:cubicBezTo>
                      <a:pt x="5363" y="5"/>
                      <a:pt x="5362" y="4"/>
                      <a:pt x="5362" y="3"/>
                    </a:cubicBezTo>
                    <a:cubicBezTo>
                      <a:pt x="5362" y="2"/>
                      <a:pt x="5363" y="1"/>
                      <a:pt x="5364" y="1"/>
                    </a:cubicBezTo>
                    <a:close/>
                    <a:moveTo>
                      <a:pt x="5372" y="1"/>
                    </a:moveTo>
                    <a:lnTo>
                      <a:pt x="5372" y="1"/>
                    </a:lnTo>
                    <a:cubicBezTo>
                      <a:pt x="5374" y="1"/>
                      <a:pt x="5374" y="2"/>
                      <a:pt x="5374" y="3"/>
                    </a:cubicBezTo>
                    <a:cubicBezTo>
                      <a:pt x="5374" y="4"/>
                      <a:pt x="5374" y="5"/>
                      <a:pt x="5372" y="5"/>
                    </a:cubicBezTo>
                    <a:lnTo>
                      <a:pt x="5372" y="5"/>
                    </a:lnTo>
                    <a:cubicBezTo>
                      <a:pt x="5371" y="5"/>
                      <a:pt x="5370" y="4"/>
                      <a:pt x="5370" y="3"/>
                    </a:cubicBezTo>
                    <a:cubicBezTo>
                      <a:pt x="5370" y="2"/>
                      <a:pt x="5371" y="1"/>
                      <a:pt x="5372" y="1"/>
                    </a:cubicBezTo>
                    <a:close/>
                    <a:moveTo>
                      <a:pt x="5380" y="1"/>
                    </a:moveTo>
                    <a:lnTo>
                      <a:pt x="5380" y="1"/>
                    </a:lnTo>
                    <a:cubicBezTo>
                      <a:pt x="5382" y="1"/>
                      <a:pt x="5382" y="2"/>
                      <a:pt x="5382" y="3"/>
                    </a:cubicBezTo>
                    <a:cubicBezTo>
                      <a:pt x="5382" y="4"/>
                      <a:pt x="5382" y="5"/>
                      <a:pt x="5380" y="5"/>
                    </a:cubicBezTo>
                    <a:lnTo>
                      <a:pt x="5380" y="5"/>
                    </a:lnTo>
                    <a:cubicBezTo>
                      <a:pt x="5379" y="5"/>
                      <a:pt x="5378" y="4"/>
                      <a:pt x="5378" y="3"/>
                    </a:cubicBezTo>
                    <a:cubicBezTo>
                      <a:pt x="5378" y="2"/>
                      <a:pt x="5379" y="1"/>
                      <a:pt x="5380" y="1"/>
                    </a:cubicBezTo>
                    <a:close/>
                    <a:moveTo>
                      <a:pt x="5388" y="1"/>
                    </a:moveTo>
                    <a:lnTo>
                      <a:pt x="5388" y="1"/>
                    </a:lnTo>
                    <a:cubicBezTo>
                      <a:pt x="5390" y="1"/>
                      <a:pt x="5390" y="2"/>
                      <a:pt x="5390" y="3"/>
                    </a:cubicBezTo>
                    <a:cubicBezTo>
                      <a:pt x="5390" y="4"/>
                      <a:pt x="5390" y="5"/>
                      <a:pt x="5388" y="5"/>
                    </a:cubicBezTo>
                    <a:lnTo>
                      <a:pt x="5388" y="5"/>
                    </a:lnTo>
                    <a:cubicBezTo>
                      <a:pt x="5387" y="5"/>
                      <a:pt x="5386" y="4"/>
                      <a:pt x="5386" y="3"/>
                    </a:cubicBezTo>
                    <a:cubicBezTo>
                      <a:pt x="5386" y="2"/>
                      <a:pt x="5387" y="1"/>
                      <a:pt x="5388" y="1"/>
                    </a:cubicBezTo>
                    <a:close/>
                    <a:moveTo>
                      <a:pt x="5396" y="1"/>
                    </a:moveTo>
                    <a:lnTo>
                      <a:pt x="5396" y="1"/>
                    </a:lnTo>
                    <a:cubicBezTo>
                      <a:pt x="5398" y="1"/>
                      <a:pt x="5398" y="2"/>
                      <a:pt x="5398" y="3"/>
                    </a:cubicBezTo>
                    <a:cubicBezTo>
                      <a:pt x="5398" y="4"/>
                      <a:pt x="5398" y="5"/>
                      <a:pt x="5396" y="5"/>
                    </a:cubicBezTo>
                    <a:lnTo>
                      <a:pt x="5396" y="5"/>
                    </a:lnTo>
                    <a:cubicBezTo>
                      <a:pt x="5395" y="5"/>
                      <a:pt x="5394" y="4"/>
                      <a:pt x="5394" y="3"/>
                    </a:cubicBezTo>
                    <a:cubicBezTo>
                      <a:pt x="5394" y="2"/>
                      <a:pt x="5395" y="1"/>
                      <a:pt x="5396" y="1"/>
                    </a:cubicBezTo>
                    <a:close/>
                    <a:moveTo>
                      <a:pt x="5404" y="1"/>
                    </a:moveTo>
                    <a:lnTo>
                      <a:pt x="5404" y="1"/>
                    </a:lnTo>
                    <a:cubicBezTo>
                      <a:pt x="5406" y="1"/>
                      <a:pt x="5406" y="2"/>
                      <a:pt x="5406" y="3"/>
                    </a:cubicBezTo>
                    <a:cubicBezTo>
                      <a:pt x="5406" y="4"/>
                      <a:pt x="5406" y="5"/>
                      <a:pt x="5404" y="5"/>
                    </a:cubicBezTo>
                    <a:lnTo>
                      <a:pt x="5404" y="5"/>
                    </a:lnTo>
                    <a:cubicBezTo>
                      <a:pt x="5403" y="5"/>
                      <a:pt x="5402" y="4"/>
                      <a:pt x="5402" y="3"/>
                    </a:cubicBezTo>
                    <a:cubicBezTo>
                      <a:pt x="5402" y="2"/>
                      <a:pt x="5403" y="1"/>
                      <a:pt x="5404" y="1"/>
                    </a:cubicBezTo>
                    <a:close/>
                    <a:moveTo>
                      <a:pt x="5412" y="1"/>
                    </a:moveTo>
                    <a:lnTo>
                      <a:pt x="5412" y="1"/>
                    </a:lnTo>
                    <a:cubicBezTo>
                      <a:pt x="5414" y="1"/>
                      <a:pt x="5414" y="2"/>
                      <a:pt x="5414" y="3"/>
                    </a:cubicBezTo>
                    <a:cubicBezTo>
                      <a:pt x="5414" y="4"/>
                      <a:pt x="5414" y="5"/>
                      <a:pt x="5412" y="5"/>
                    </a:cubicBezTo>
                    <a:lnTo>
                      <a:pt x="5412" y="5"/>
                    </a:lnTo>
                    <a:cubicBezTo>
                      <a:pt x="5411" y="5"/>
                      <a:pt x="5410" y="4"/>
                      <a:pt x="5410" y="3"/>
                    </a:cubicBezTo>
                    <a:cubicBezTo>
                      <a:pt x="5410" y="2"/>
                      <a:pt x="5411" y="1"/>
                      <a:pt x="5412" y="1"/>
                    </a:cubicBezTo>
                    <a:close/>
                    <a:moveTo>
                      <a:pt x="5420" y="1"/>
                    </a:moveTo>
                    <a:lnTo>
                      <a:pt x="5420" y="1"/>
                    </a:lnTo>
                    <a:cubicBezTo>
                      <a:pt x="5422" y="1"/>
                      <a:pt x="5422" y="2"/>
                      <a:pt x="5422" y="3"/>
                    </a:cubicBezTo>
                    <a:cubicBezTo>
                      <a:pt x="5422" y="4"/>
                      <a:pt x="5422" y="5"/>
                      <a:pt x="5420" y="5"/>
                    </a:cubicBezTo>
                    <a:lnTo>
                      <a:pt x="5420" y="5"/>
                    </a:lnTo>
                    <a:cubicBezTo>
                      <a:pt x="5419" y="5"/>
                      <a:pt x="5418" y="4"/>
                      <a:pt x="5418" y="3"/>
                    </a:cubicBezTo>
                    <a:cubicBezTo>
                      <a:pt x="5418" y="2"/>
                      <a:pt x="5419" y="1"/>
                      <a:pt x="5420" y="1"/>
                    </a:cubicBezTo>
                    <a:close/>
                    <a:moveTo>
                      <a:pt x="5428" y="1"/>
                    </a:moveTo>
                    <a:lnTo>
                      <a:pt x="5428" y="1"/>
                    </a:lnTo>
                    <a:cubicBezTo>
                      <a:pt x="5430" y="1"/>
                      <a:pt x="5430" y="2"/>
                      <a:pt x="5430" y="3"/>
                    </a:cubicBezTo>
                    <a:cubicBezTo>
                      <a:pt x="5430" y="4"/>
                      <a:pt x="5430" y="5"/>
                      <a:pt x="5428" y="5"/>
                    </a:cubicBezTo>
                    <a:lnTo>
                      <a:pt x="5428" y="5"/>
                    </a:lnTo>
                    <a:cubicBezTo>
                      <a:pt x="5427" y="5"/>
                      <a:pt x="5426" y="4"/>
                      <a:pt x="5426" y="3"/>
                    </a:cubicBezTo>
                    <a:cubicBezTo>
                      <a:pt x="5426" y="2"/>
                      <a:pt x="5427" y="1"/>
                      <a:pt x="5428" y="1"/>
                    </a:cubicBezTo>
                    <a:close/>
                    <a:moveTo>
                      <a:pt x="5436" y="1"/>
                    </a:moveTo>
                    <a:lnTo>
                      <a:pt x="5436" y="1"/>
                    </a:lnTo>
                    <a:cubicBezTo>
                      <a:pt x="5438" y="1"/>
                      <a:pt x="5438" y="2"/>
                      <a:pt x="5438" y="3"/>
                    </a:cubicBezTo>
                    <a:cubicBezTo>
                      <a:pt x="5438" y="4"/>
                      <a:pt x="5438" y="5"/>
                      <a:pt x="5436" y="5"/>
                    </a:cubicBezTo>
                    <a:lnTo>
                      <a:pt x="5436" y="5"/>
                    </a:lnTo>
                    <a:cubicBezTo>
                      <a:pt x="5435" y="5"/>
                      <a:pt x="5434" y="4"/>
                      <a:pt x="5434" y="3"/>
                    </a:cubicBezTo>
                    <a:cubicBezTo>
                      <a:pt x="5434" y="2"/>
                      <a:pt x="5435" y="1"/>
                      <a:pt x="5436" y="1"/>
                    </a:cubicBezTo>
                    <a:close/>
                    <a:moveTo>
                      <a:pt x="5444" y="1"/>
                    </a:moveTo>
                    <a:lnTo>
                      <a:pt x="5444" y="1"/>
                    </a:lnTo>
                    <a:cubicBezTo>
                      <a:pt x="5446" y="1"/>
                      <a:pt x="5446" y="2"/>
                      <a:pt x="5446" y="3"/>
                    </a:cubicBezTo>
                    <a:cubicBezTo>
                      <a:pt x="5446" y="4"/>
                      <a:pt x="5446" y="5"/>
                      <a:pt x="5444" y="5"/>
                    </a:cubicBezTo>
                    <a:lnTo>
                      <a:pt x="5444" y="5"/>
                    </a:lnTo>
                    <a:cubicBezTo>
                      <a:pt x="5443" y="5"/>
                      <a:pt x="5442" y="4"/>
                      <a:pt x="5442" y="3"/>
                    </a:cubicBezTo>
                    <a:cubicBezTo>
                      <a:pt x="5442" y="2"/>
                      <a:pt x="5443" y="1"/>
                      <a:pt x="5444" y="1"/>
                    </a:cubicBezTo>
                    <a:close/>
                    <a:moveTo>
                      <a:pt x="5452" y="1"/>
                    </a:moveTo>
                    <a:lnTo>
                      <a:pt x="5452" y="1"/>
                    </a:lnTo>
                    <a:cubicBezTo>
                      <a:pt x="5454" y="1"/>
                      <a:pt x="5454" y="2"/>
                      <a:pt x="5454" y="3"/>
                    </a:cubicBezTo>
                    <a:cubicBezTo>
                      <a:pt x="5454" y="4"/>
                      <a:pt x="5454" y="5"/>
                      <a:pt x="5452" y="5"/>
                    </a:cubicBezTo>
                    <a:lnTo>
                      <a:pt x="5452" y="5"/>
                    </a:lnTo>
                    <a:cubicBezTo>
                      <a:pt x="5451" y="5"/>
                      <a:pt x="5450" y="4"/>
                      <a:pt x="5450" y="3"/>
                    </a:cubicBezTo>
                    <a:cubicBezTo>
                      <a:pt x="5450" y="2"/>
                      <a:pt x="5451" y="1"/>
                      <a:pt x="5452" y="1"/>
                    </a:cubicBezTo>
                    <a:close/>
                    <a:moveTo>
                      <a:pt x="5460" y="1"/>
                    </a:moveTo>
                    <a:lnTo>
                      <a:pt x="5460" y="1"/>
                    </a:lnTo>
                    <a:cubicBezTo>
                      <a:pt x="5462" y="1"/>
                      <a:pt x="5462" y="2"/>
                      <a:pt x="5462" y="3"/>
                    </a:cubicBezTo>
                    <a:cubicBezTo>
                      <a:pt x="5462" y="4"/>
                      <a:pt x="5462" y="5"/>
                      <a:pt x="5460" y="5"/>
                    </a:cubicBezTo>
                    <a:lnTo>
                      <a:pt x="5460" y="5"/>
                    </a:lnTo>
                    <a:cubicBezTo>
                      <a:pt x="5459" y="5"/>
                      <a:pt x="5458" y="4"/>
                      <a:pt x="5458" y="3"/>
                    </a:cubicBezTo>
                    <a:cubicBezTo>
                      <a:pt x="5458" y="2"/>
                      <a:pt x="5459" y="1"/>
                      <a:pt x="5460" y="1"/>
                    </a:cubicBezTo>
                    <a:close/>
                    <a:moveTo>
                      <a:pt x="5468" y="1"/>
                    </a:moveTo>
                    <a:lnTo>
                      <a:pt x="5468" y="1"/>
                    </a:lnTo>
                    <a:cubicBezTo>
                      <a:pt x="5470" y="1"/>
                      <a:pt x="5470" y="2"/>
                      <a:pt x="5470" y="3"/>
                    </a:cubicBezTo>
                    <a:cubicBezTo>
                      <a:pt x="5470" y="4"/>
                      <a:pt x="5470" y="5"/>
                      <a:pt x="5468" y="5"/>
                    </a:cubicBezTo>
                    <a:lnTo>
                      <a:pt x="5468" y="5"/>
                    </a:lnTo>
                    <a:cubicBezTo>
                      <a:pt x="5467" y="5"/>
                      <a:pt x="5466" y="4"/>
                      <a:pt x="5466" y="3"/>
                    </a:cubicBezTo>
                    <a:cubicBezTo>
                      <a:pt x="5466" y="2"/>
                      <a:pt x="5467" y="1"/>
                      <a:pt x="5468" y="1"/>
                    </a:cubicBezTo>
                    <a:close/>
                    <a:moveTo>
                      <a:pt x="5476" y="1"/>
                    </a:moveTo>
                    <a:lnTo>
                      <a:pt x="5476" y="1"/>
                    </a:lnTo>
                    <a:cubicBezTo>
                      <a:pt x="5478" y="1"/>
                      <a:pt x="5478" y="2"/>
                      <a:pt x="5478" y="3"/>
                    </a:cubicBezTo>
                    <a:cubicBezTo>
                      <a:pt x="5478" y="4"/>
                      <a:pt x="5478" y="5"/>
                      <a:pt x="5476" y="5"/>
                    </a:cubicBezTo>
                    <a:lnTo>
                      <a:pt x="5476" y="5"/>
                    </a:lnTo>
                    <a:cubicBezTo>
                      <a:pt x="5475" y="5"/>
                      <a:pt x="5474" y="4"/>
                      <a:pt x="5474" y="3"/>
                    </a:cubicBezTo>
                    <a:cubicBezTo>
                      <a:pt x="5474" y="2"/>
                      <a:pt x="5475" y="1"/>
                      <a:pt x="5476" y="1"/>
                    </a:cubicBezTo>
                    <a:close/>
                    <a:moveTo>
                      <a:pt x="5484" y="1"/>
                    </a:moveTo>
                    <a:lnTo>
                      <a:pt x="5485" y="1"/>
                    </a:lnTo>
                    <a:cubicBezTo>
                      <a:pt x="5486" y="1"/>
                      <a:pt x="5487" y="2"/>
                      <a:pt x="5487" y="3"/>
                    </a:cubicBezTo>
                    <a:cubicBezTo>
                      <a:pt x="5487" y="4"/>
                      <a:pt x="5486" y="5"/>
                      <a:pt x="5485" y="5"/>
                    </a:cubicBezTo>
                    <a:lnTo>
                      <a:pt x="5484" y="5"/>
                    </a:lnTo>
                    <a:cubicBezTo>
                      <a:pt x="5483" y="5"/>
                      <a:pt x="5482" y="4"/>
                      <a:pt x="5482" y="3"/>
                    </a:cubicBezTo>
                    <a:cubicBezTo>
                      <a:pt x="5482" y="2"/>
                      <a:pt x="5483" y="1"/>
                      <a:pt x="5484" y="1"/>
                    </a:cubicBezTo>
                    <a:close/>
                    <a:moveTo>
                      <a:pt x="5493" y="1"/>
                    </a:moveTo>
                    <a:lnTo>
                      <a:pt x="5493" y="1"/>
                    </a:lnTo>
                    <a:cubicBezTo>
                      <a:pt x="5494" y="1"/>
                      <a:pt x="5495" y="2"/>
                      <a:pt x="5495" y="3"/>
                    </a:cubicBezTo>
                    <a:cubicBezTo>
                      <a:pt x="5495" y="4"/>
                      <a:pt x="5494" y="5"/>
                      <a:pt x="5493" y="5"/>
                    </a:cubicBezTo>
                    <a:lnTo>
                      <a:pt x="5493" y="5"/>
                    </a:lnTo>
                    <a:cubicBezTo>
                      <a:pt x="5491" y="5"/>
                      <a:pt x="5491" y="4"/>
                      <a:pt x="5491" y="3"/>
                    </a:cubicBezTo>
                    <a:cubicBezTo>
                      <a:pt x="5491" y="2"/>
                      <a:pt x="5491" y="1"/>
                      <a:pt x="5493" y="1"/>
                    </a:cubicBezTo>
                    <a:close/>
                    <a:moveTo>
                      <a:pt x="5501" y="1"/>
                    </a:moveTo>
                    <a:lnTo>
                      <a:pt x="5501" y="1"/>
                    </a:lnTo>
                    <a:cubicBezTo>
                      <a:pt x="5502" y="1"/>
                      <a:pt x="5503" y="2"/>
                      <a:pt x="5503" y="3"/>
                    </a:cubicBezTo>
                    <a:cubicBezTo>
                      <a:pt x="5503" y="4"/>
                      <a:pt x="5502" y="5"/>
                      <a:pt x="5501" y="5"/>
                    </a:cubicBezTo>
                    <a:lnTo>
                      <a:pt x="5501" y="5"/>
                    </a:lnTo>
                    <a:cubicBezTo>
                      <a:pt x="5499" y="5"/>
                      <a:pt x="5499" y="4"/>
                      <a:pt x="5499" y="3"/>
                    </a:cubicBezTo>
                    <a:cubicBezTo>
                      <a:pt x="5499" y="2"/>
                      <a:pt x="5499" y="1"/>
                      <a:pt x="5501" y="1"/>
                    </a:cubicBezTo>
                    <a:close/>
                    <a:moveTo>
                      <a:pt x="5509" y="1"/>
                    </a:moveTo>
                    <a:lnTo>
                      <a:pt x="5509" y="1"/>
                    </a:lnTo>
                    <a:cubicBezTo>
                      <a:pt x="5510" y="1"/>
                      <a:pt x="5511" y="2"/>
                      <a:pt x="5511" y="3"/>
                    </a:cubicBezTo>
                    <a:cubicBezTo>
                      <a:pt x="5511" y="4"/>
                      <a:pt x="5510" y="5"/>
                      <a:pt x="5509" y="5"/>
                    </a:cubicBezTo>
                    <a:lnTo>
                      <a:pt x="5509" y="5"/>
                    </a:lnTo>
                    <a:cubicBezTo>
                      <a:pt x="5507" y="5"/>
                      <a:pt x="5507" y="4"/>
                      <a:pt x="5507" y="3"/>
                    </a:cubicBezTo>
                    <a:cubicBezTo>
                      <a:pt x="5507" y="2"/>
                      <a:pt x="5507" y="1"/>
                      <a:pt x="5509" y="1"/>
                    </a:cubicBezTo>
                    <a:close/>
                    <a:moveTo>
                      <a:pt x="5517" y="1"/>
                    </a:moveTo>
                    <a:lnTo>
                      <a:pt x="5517" y="1"/>
                    </a:lnTo>
                    <a:cubicBezTo>
                      <a:pt x="5518" y="1"/>
                      <a:pt x="5519" y="2"/>
                      <a:pt x="5519" y="3"/>
                    </a:cubicBezTo>
                    <a:cubicBezTo>
                      <a:pt x="5519" y="4"/>
                      <a:pt x="5518" y="5"/>
                      <a:pt x="5517" y="5"/>
                    </a:cubicBezTo>
                    <a:lnTo>
                      <a:pt x="5517" y="5"/>
                    </a:lnTo>
                    <a:cubicBezTo>
                      <a:pt x="5515" y="5"/>
                      <a:pt x="5515" y="4"/>
                      <a:pt x="5515" y="3"/>
                    </a:cubicBezTo>
                    <a:cubicBezTo>
                      <a:pt x="5515" y="2"/>
                      <a:pt x="5515" y="1"/>
                      <a:pt x="5517" y="1"/>
                    </a:cubicBezTo>
                    <a:close/>
                    <a:moveTo>
                      <a:pt x="5525" y="1"/>
                    </a:moveTo>
                    <a:lnTo>
                      <a:pt x="5525" y="1"/>
                    </a:lnTo>
                    <a:cubicBezTo>
                      <a:pt x="5526" y="1"/>
                      <a:pt x="5527" y="2"/>
                      <a:pt x="5527" y="3"/>
                    </a:cubicBezTo>
                    <a:cubicBezTo>
                      <a:pt x="5527" y="4"/>
                      <a:pt x="5526" y="5"/>
                      <a:pt x="5525" y="5"/>
                    </a:cubicBezTo>
                    <a:lnTo>
                      <a:pt x="5525" y="5"/>
                    </a:lnTo>
                    <a:cubicBezTo>
                      <a:pt x="5523" y="5"/>
                      <a:pt x="5523" y="4"/>
                      <a:pt x="5523" y="3"/>
                    </a:cubicBezTo>
                    <a:cubicBezTo>
                      <a:pt x="5523" y="2"/>
                      <a:pt x="5523" y="1"/>
                      <a:pt x="5525" y="1"/>
                    </a:cubicBezTo>
                    <a:close/>
                    <a:moveTo>
                      <a:pt x="5533" y="1"/>
                    </a:moveTo>
                    <a:lnTo>
                      <a:pt x="5533" y="1"/>
                    </a:lnTo>
                    <a:cubicBezTo>
                      <a:pt x="5534" y="1"/>
                      <a:pt x="5535" y="2"/>
                      <a:pt x="5535" y="3"/>
                    </a:cubicBezTo>
                    <a:cubicBezTo>
                      <a:pt x="5535" y="4"/>
                      <a:pt x="5534" y="5"/>
                      <a:pt x="5533" y="5"/>
                    </a:cubicBezTo>
                    <a:lnTo>
                      <a:pt x="5533" y="5"/>
                    </a:lnTo>
                    <a:cubicBezTo>
                      <a:pt x="5531" y="5"/>
                      <a:pt x="5531" y="4"/>
                      <a:pt x="5531" y="3"/>
                    </a:cubicBezTo>
                    <a:cubicBezTo>
                      <a:pt x="5531" y="2"/>
                      <a:pt x="5531" y="1"/>
                      <a:pt x="5533" y="1"/>
                    </a:cubicBezTo>
                    <a:close/>
                    <a:moveTo>
                      <a:pt x="5541" y="1"/>
                    </a:moveTo>
                    <a:lnTo>
                      <a:pt x="5541" y="1"/>
                    </a:lnTo>
                    <a:cubicBezTo>
                      <a:pt x="5542" y="1"/>
                      <a:pt x="5543" y="2"/>
                      <a:pt x="5543" y="3"/>
                    </a:cubicBezTo>
                    <a:cubicBezTo>
                      <a:pt x="5543" y="4"/>
                      <a:pt x="5542" y="5"/>
                      <a:pt x="5541" y="5"/>
                    </a:cubicBezTo>
                    <a:lnTo>
                      <a:pt x="5541" y="5"/>
                    </a:lnTo>
                    <a:cubicBezTo>
                      <a:pt x="5539" y="5"/>
                      <a:pt x="5539" y="4"/>
                      <a:pt x="5539" y="3"/>
                    </a:cubicBezTo>
                    <a:cubicBezTo>
                      <a:pt x="5539" y="2"/>
                      <a:pt x="5539" y="1"/>
                      <a:pt x="5541" y="1"/>
                    </a:cubicBezTo>
                    <a:close/>
                    <a:moveTo>
                      <a:pt x="5549" y="1"/>
                    </a:moveTo>
                    <a:lnTo>
                      <a:pt x="5549" y="1"/>
                    </a:lnTo>
                    <a:cubicBezTo>
                      <a:pt x="5550" y="1"/>
                      <a:pt x="5551" y="2"/>
                      <a:pt x="5551" y="3"/>
                    </a:cubicBezTo>
                    <a:cubicBezTo>
                      <a:pt x="5551" y="4"/>
                      <a:pt x="5550" y="5"/>
                      <a:pt x="5549" y="5"/>
                    </a:cubicBezTo>
                    <a:lnTo>
                      <a:pt x="5549" y="5"/>
                    </a:lnTo>
                    <a:cubicBezTo>
                      <a:pt x="5547" y="5"/>
                      <a:pt x="5547" y="4"/>
                      <a:pt x="5547" y="3"/>
                    </a:cubicBezTo>
                    <a:cubicBezTo>
                      <a:pt x="5547" y="2"/>
                      <a:pt x="5547" y="1"/>
                      <a:pt x="5549" y="1"/>
                    </a:cubicBezTo>
                    <a:close/>
                    <a:moveTo>
                      <a:pt x="5557" y="1"/>
                    </a:moveTo>
                    <a:lnTo>
                      <a:pt x="5557" y="1"/>
                    </a:lnTo>
                    <a:cubicBezTo>
                      <a:pt x="5558" y="1"/>
                      <a:pt x="5559" y="2"/>
                      <a:pt x="5559" y="3"/>
                    </a:cubicBezTo>
                    <a:cubicBezTo>
                      <a:pt x="5559" y="4"/>
                      <a:pt x="5558" y="5"/>
                      <a:pt x="5557" y="5"/>
                    </a:cubicBezTo>
                    <a:lnTo>
                      <a:pt x="5557" y="5"/>
                    </a:lnTo>
                    <a:cubicBezTo>
                      <a:pt x="5555" y="5"/>
                      <a:pt x="5555" y="4"/>
                      <a:pt x="5555" y="3"/>
                    </a:cubicBezTo>
                    <a:cubicBezTo>
                      <a:pt x="5555" y="2"/>
                      <a:pt x="5555" y="1"/>
                      <a:pt x="5557" y="1"/>
                    </a:cubicBezTo>
                    <a:close/>
                    <a:moveTo>
                      <a:pt x="5565" y="1"/>
                    </a:moveTo>
                    <a:lnTo>
                      <a:pt x="5565" y="1"/>
                    </a:lnTo>
                    <a:cubicBezTo>
                      <a:pt x="5566" y="1"/>
                      <a:pt x="5567" y="2"/>
                      <a:pt x="5567" y="3"/>
                    </a:cubicBezTo>
                    <a:cubicBezTo>
                      <a:pt x="5567" y="4"/>
                      <a:pt x="5566" y="5"/>
                      <a:pt x="5565" y="5"/>
                    </a:cubicBezTo>
                    <a:lnTo>
                      <a:pt x="5565" y="5"/>
                    </a:lnTo>
                    <a:cubicBezTo>
                      <a:pt x="5563" y="5"/>
                      <a:pt x="5563" y="4"/>
                      <a:pt x="5563" y="3"/>
                    </a:cubicBezTo>
                    <a:cubicBezTo>
                      <a:pt x="5563" y="2"/>
                      <a:pt x="5563" y="1"/>
                      <a:pt x="5565" y="1"/>
                    </a:cubicBezTo>
                    <a:close/>
                    <a:moveTo>
                      <a:pt x="5573" y="1"/>
                    </a:moveTo>
                    <a:lnTo>
                      <a:pt x="5573" y="1"/>
                    </a:lnTo>
                    <a:cubicBezTo>
                      <a:pt x="5574" y="1"/>
                      <a:pt x="5575" y="2"/>
                      <a:pt x="5575" y="3"/>
                    </a:cubicBezTo>
                    <a:cubicBezTo>
                      <a:pt x="5575" y="4"/>
                      <a:pt x="5574" y="5"/>
                      <a:pt x="5573" y="5"/>
                    </a:cubicBezTo>
                    <a:lnTo>
                      <a:pt x="5573" y="5"/>
                    </a:lnTo>
                    <a:cubicBezTo>
                      <a:pt x="5571" y="5"/>
                      <a:pt x="5571" y="4"/>
                      <a:pt x="5571" y="3"/>
                    </a:cubicBezTo>
                    <a:cubicBezTo>
                      <a:pt x="5571" y="2"/>
                      <a:pt x="5571" y="1"/>
                      <a:pt x="5573" y="1"/>
                    </a:cubicBezTo>
                    <a:close/>
                    <a:moveTo>
                      <a:pt x="5581" y="1"/>
                    </a:moveTo>
                    <a:lnTo>
                      <a:pt x="5581" y="1"/>
                    </a:lnTo>
                    <a:cubicBezTo>
                      <a:pt x="5582" y="1"/>
                      <a:pt x="5583" y="2"/>
                      <a:pt x="5583" y="3"/>
                    </a:cubicBezTo>
                    <a:cubicBezTo>
                      <a:pt x="5583" y="4"/>
                      <a:pt x="5582" y="5"/>
                      <a:pt x="5581" y="5"/>
                    </a:cubicBezTo>
                    <a:lnTo>
                      <a:pt x="5581" y="5"/>
                    </a:lnTo>
                    <a:cubicBezTo>
                      <a:pt x="5579" y="5"/>
                      <a:pt x="5579" y="4"/>
                      <a:pt x="5579" y="3"/>
                    </a:cubicBezTo>
                    <a:cubicBezTo>
                      <a:pt x="5579" y="2"/>
                      <a:pt x="5579" y="1"/>
                      <a:pt x="5581" y="1"/>
                    </a:cubicBezTo>
                    <a:close/>
                    <a:moveTo>
                      <a:pt x="5589" y="1"/>
                    </a:moveTo>
                    <a:lnTo>
                      <a:pt x="5589" y="1"/>
                    </a:lnTo>
                    <a:cubicBezTo>
                      <a:pt x="5590" y="1"/>
                      <a:pt x="5591" y="2"/>
                      <a:pt x="5591" y="3"/>
                    </a:cubicBezTo>
                    <a:cubicBezTo>
                      <a:pt x="5591" y="4"/>
                      <a:pt x="5590" y="5"/>
                      <a:pt x="5589" y="5"/>
                    </a:cubicBezTo>
                    <a:lnTo>
                      <a:pt x="5589" y="5"/>
                    </a:lnTo>
                    <a:cubicBezTo>
                      <a:pt x="5587" y="5"/>
                      <a:pt x="5587" y="4"/>
                      <a:pt x="5587" y="3"/>
                    </a:cubicBezTo>
                    <a:cubicBezTo>
                      <a:pt x="5587" y="2"/>
                      <a:pt x="5587" y="1"/>
                      <a:pt x="5589" y="1"/>
                    </a:cubicBezTo>
                    <a:close/>
                    <a:moveTo>
                      <a:pt x="5597" y="1"/>
                    </a:moveTo>
                    <a:lnTo>
                      <a:pt x="5597" y="1"/>
                    </a:lnTo>
                    <a:cubicBezTo>
                      <a:pt x="5598" y="1"/>
                      <a:pt x="5599" y="2"/>
                      <a:pt x="5599" y="3"/>
                    </a:cubicBezTo>
                    <a:cubicBezTo>
                      <a:pt x="5599" y="4"/>
                      <a:pt x="5598" y="5"/>
                      <a:pt x="5597" y="5"/>
                    </a:cubicBezTo>
                    <a:lnTo>
                      <a:pt x="5597" y="5"/>
                    </a:lnTo>
                    <a:cubicBezTo>
                      <a:pt x="5595" y="5"/>
                      <a:pt x="5595" y="4"/>
                      <a:pt x="5595" y="3"/>
                    </a:cubicBezTo>
                    <a:cubicBezTo>
                      <a:pt x="5595" y="2"/>
                      <a:pt x="5595" y="1"/>
                      <a:pt x="5597" y="1"/>
                    </a:cubicBezTo>
                    <a:close/>
                    <a:moveTo>
                      <a:pt x="5605" y="1"/>
                    </a:moveTo>
                    <a:lnTo>
                      <a:pt x="5605" y="1"/>
                    </a:lnTo>
                    <a:cubicBezTo>
                      <a:pt x="5606" y="1"/>
                      <a:pt x="5607" y="2"/>
                      <a:pt x="5607" y="3"/>
                    </a:cubicBezTo>
                    <a:cubicBezTo>
                      <a:pt x="5607" y="4"/>
                      <a:pt x="5606" y="5"/>
                      <a:pt x="5605" y="5"/>
                    </a:cubicBezTo>
                    <a:lnTo>
                      <a:pt x="5605" y="5"/>
                    </a:lnTo>
                    <a:cubicBezTo>
                      <a:pt x="5603" y="5"/>
                      <a:pt x="5603" y="4"/>
                      <a:pt x="5603" y="3"/>
                    </a:cubicBezTo>
                    <a:cubicBezTo>
                      <a:pt x="5603" y="2"/>
                      <a:pt x="5603" y="1"/>
                      <a:pt x="5605" y="1"/>
                    </a:cubicBezTo>
                    <a:close/>
                    <a:moveTo>
                      <a:pt x="5613" y="1"/>
                    </a:moveTo>
                    <a:lnTo>
                      <a:pt x="5613" y="1"/>
                    </a:lnTo>
                    <a:cubicBezTo>
                      <a:pt x="5614" y="1"/>
                      <a:pt x="5615" y="2"/>
                      <a:pt x="5615" y="3"/>
                    </a:cubicBezTo>
                    <a:cubicBezTo>
                      <a:pt x="5615" y="4"/>
                      <a:pt x="5614" y="5"/>
                      <a:pt x="5613" y="5"/>
                    </a:cubicBezTo>
                    <a:lnTo>
                      <a:pt x="5613" y="5"/>
                    </a:lnTo>
                    <a:cubicBezTo>
                      <a:pt x="5611" y="5"/>
                      <a:pt x="5611" y="4"/>
                      <a:pt x="5611" y="3"/>
                    </a:cubicBezTo>
                    <a:cubicBezTo>
                      <a:pt x="5611" y="2"/>
                      <a:pt x="5611" y="1"/>
                      <a:pt x="5613" y="1"/>
                    </a:cubicBezTo>
                    <a:close/>
                    <a:moveTo>
                      <a:pt x="5621" y="1"/>
                    </a:moveTo>
                    <a:lnTo>
                      <a:pt x="5621" y="1"/>
                    </a:lnTo>
                    <a:cubicBezTo>
                      <a:pt x="5622" y="1"/>
                      <a:pt x="5623" y="2"/>
                      <a:pt x="5623" y="3"/>
                    </a:cubicBezTo>
                    <a:cubicBezTo>
                      <a:pt x="5623" y="4"/>
                      <a:pt x="5622" y="5"/>
                      <a:pt x="5621" y="5"/>
                    </a:cubicBezTo>
                    <a:lnTo>
                      <a:pt x="5621" y="5"/>
                    </a:lnTo>
                    <a:cubicBezTo>
                      <a:pt x="5619" y="5"/>
                      <a:pt x="5619" y="4"/>
                      <a:pt x="5619" y="3"/>
                    </a:cubicBezTo>
                    <a:cubicBezTo>
                      <a:pt x="5619" y="2"/>
                      <a:pt x="5619" y="1"/>
                      <a:pt x="5621" y="1"/>
                    </a:cubicBezTo>
                    <a:close/>
                    <a:moveTo>
                      <a:pt x="5629" y="1"/>
                    </a:moveTo>
                    <a:lnTo>
                      <a:pt x="5629" y="1"/>
                    </a:lnTo>
                    <a:cubicBezTo>
                      <a:pt x="5630" y="1"/>
                      <a:pt x="5631" y="2"/>
                      <a:pt x="5631" y="3"/>
                    </a:cubicBezTo>
                    <a:cubicBezTo>
                      <a:pt x="5631" y="4"/>
                      <a:pt x="5630" y="5"/>
                      <a:pt x="5629" y="5"/>
                    </a:cubicBezTo>
                    <a:lnTo>
                      <a:pt x="5629" y="5"/>
                    </a:lnTo>
                    <a:cubicBezTo>
                      <a:pt x="5627" y="5"/>
                      <a:pt x="5627" y="4"/>
                      <a:pt x="5627" y="3"/>
                    </a:cubicBezTo>
                    <a:cubicBezTo>
                      <a:pt x="5627" y="2"/>
                      <a:pt x="5627" y="1"/>
                      <a:pt x="5629" y="1"/>
                    </a:cubicBezTo>
                    <a:close/>
                    <a:moveTo>
                      <a:pt x="5637" y="1"/>
                    </a:moveTo>
                    <a:lnTo>
                      <a:pt x="5637" y="1"/>
                    </a:lnTo>
                    <a:cubicBezTo>
                      <a:pt x="5638" y="1"/>
                      <a:pt x="5639" y="2"/>
                      <a:pt x="5639" y="3"/>
                    </a:cubicBezTo>
                    <a:cubicBezTo>
                      <a:pt x="5639" y="4"/>
                      <a:pt x="5638" y="5"/>
                      <a:pt x="5637" y="5"/>
                    </a:cubicBezTo>
                    <a:lnTo>
                      <a:pt x="5637" y="5"/>
                    </a:lnTo>
                    <a:cubicBezTo>
                      <a:pt x="5635" y="5"/>
                      <a:pt x="5635" y="4"/>
                      <a:pt x="5635" y="3"/>
                    </a:cubicBezTo>
                    <a:cubicBezTo>
                      <a:pt x="5635" y="2"/>
                      <a:pt x="5635" y="1"/>
                      <a:pt x="5637" y="1"/>
                    </a:cubicBezTo>
                    <a:close/>
                    <a:moveTo>
                      <a:pt x="5645" y="1"/>
                    </a:moveTo>
                    <a:lnTo>
                      <a:pt x="5645" y="1"/>
                    </a:lnTo>
                    <a:cubicBezTo>
                      <a:pt x="5646" y="1"/>
                      <a:pt x="5647" y="2"/>
                      <a:pt x="5647" y="3"/>
                    </a:cubicBezTo>
                    <a:cubicBezTo>
                      <a:pt x="5647" y="4"/>
                      <a:pt x="5646" y="5"/>
                      <a:pt x="5645" y="5"/>
                    </a:cubicBezTo>
                    <a:lnTo>
                      <a:pt x="5645" y="5"/>
                    </a:lnTo>
                    <a:cubicBezTo>
                      <a:pt x="5643" y="5"/>
                      <a:pt x="5643" y="4"/>
                      <a:pt x="5643" y="3"/>
                    </a:cubicBezTo>
                    <a:cubicBezTo>
                      <a:pt x="5643" y="2"/>
                      <a:pt x="5643" y="1"/>
                      <a:pt x="5645" y="1"/>
                    </a:cubicBezTo>
                    <a:close/>
                    <a:moveTo>
                      <a:pt x="5653" y="1"/>
                    </a:moveTo>
                    <a:lnTo>
                      <a:pt x="5653" y="1"/>
                    </a:lnTo>
                    <a:cubicBezTo>
                      <a:pt x="5654" y="1"/>
                      <a:pt x="5655" y="2"/>
                      <a:pt x="5655" y="3"/>
                    </a:cubicBezTo>
                    <a:cubicBezTo>
                      <a:pt x="5655" y="4"/>
                      <a:pt x="5654" y="5"/>
                      <a:pt x="5653" y="5"/>
                    </a:cubicBezTo>
                    <a:lnTo>
                      <a:pt x="5653" y="5"/>
                    </a:lnTo>
                    <a:cubicBezTo>
                      <a:pt x="5651" y="5"/>
                      <a:pt x="5651" y="4"/>
                      <a:pt x="5651" y="3"/>
                    </a:cubicBezTo>
                    <a:cubicBezTo>
                      <a:pt x="5651" y="2"/>
                      <a:pt x="5651" y="1"/>
                      <a:pt x="5653" y="1"/>
                    </a:cubicBezTo>
                    <a:close/>
                    <a:moveTo>
                      <a:pt x="5661" y="1"/>
                    </a:moveTo>
                    <a:lnTo>
                      <a:pt x="5661" y="1"/>
                    </a:lnTo>
                    <a:cubicBezTo>
                      <a:pt x="5662" y="1"/>
                      <a:pt x="5663" y="2"/>
                      <a:pt x="5663" y="3"/>
                    </a:cubicBezTo>
                    <a:cubicBezTo>
                      <a:pt x="5663" y="4"/>
                      <a:pt x="5662" y="5"/>
                      <a:pt x="5661" y="5"/>
                    </a:cubicBezTo>
                    <a:lnTo>
                      <a:pt x="5661" y="5"/>
                    </a:lnTo>
                    <a:cubicBezTo>
                      <a:pt x="5659" y="5"/>
                      <a:pt x="5659" y="4"/>
                      <a:pt x="5659" y="3"/>
                    </a:cubicBezTo>
                    <a:cubicBezTo>
                      <a:pt x="5659" y="2"/>
                      <a:pt x="5659" y="1"/>
                      <a:pt x="5661" y="1"/>
                    </a:cubicBezTo>
                    <a:close/>
                    <a:moveTo>
                      <a:pt x="5669" y="1"/>
                    </a:moveTo>
                    <a:lnTo>
                      <a:pt x="5669" y="1"/>
                    </a:lnTo>
                    <a:cubicBezTo>
                      <a:pt x="5670" y="1"/>
                      <a:pt x="5671" y="2"/>
                      <a:pt x="5671" y="3"/>
                    </a:cubicBezTo>
                    <a:cubicBezTo>
                      <a:pt x="5671" y="4"/>
                      <a:pt x="5670" y="5"/>
                      <a:pt x="5669" y="5"/>
                    </a:cubicBezTo>
                    <a:lnTo>
                      <a:pt x="5669" y="5"/>
                    </a:lnTo>
                    <a:cubicBezTo>
                      <a:pt x="5667" y="5"/>
                      <a:pt x="5667" y="4"/>
                      <a:pt x="5667" y="3"/>
                    </a:cubicBezTo>
                    <a:cubicBezTo>
                      <a:pt x="5667" y="2"/>
                      <a:pt x="5667" y="1"/>
                      <a:pt x="5669" y="1"/>
                    </a:cubicBezTo>
                    <a:close/>
                    <a:moveTo>
                      <a:pt x="5677" y="1"/>
                    </a:moveTo>
                    <a:lnTo>
                      <a:pt x="5677" y="1"/>
                    </a:lnTo>
                    <a:cubicBezTo>
                      <a:pt x="5678" y="1"/>
                      <a:pt x="5679" y="2"/>
                      <a:pt x="5679" y="3"/>
                    </a:cubicBezTo>
                    <a:cubicBezTo>
                      <a:pt x="5679" y="4"/>
                      <a:pt x="5678" y="5"/>
                      <a:pt x="5677" y="5"/>
                    </a:cubicBezTo>
                    <a:lnTo>
                      <a:pt x="5677" y="5"/>
                    </a:lnTo>
                    <a:cubicBezTo>
                      <a:pt x="5675" y="5"/>
                      <a:pt x="5675" y="4"/>
                      <a:pt x="5675" y="3"/>
                    </a:cubicBezTo>
                    <a:cubicBezTo>
                      <a:pt x="5675" y="2"/>
                      <a:pt x="5675" y="1"/>
                      <a:pt x="5677" y="1"/>
                    </a:cubicBezTo>
                    <a:close/>
                    <a:moveTo>
                      <a:pt x="5685" y="1"/>
                    </a:moveTo>
                    <a:lnTo>
                      <a:pt x="5685" y="1"/>
                    </a:lnTo>
                    <a:cubicBezTo>
                      <a:pt x="5686" y="1"/>
                      <a:pt x="5687" y="2"/>
                      <a:pt x="5687" y="3"/>
                    </a:cubicBezTo>
                    <a:cubicBezTo>
                      <a:pt x="5687" y="4"/>
                      <a:pt x="5686" y="5"/>
                      <a:pt x="5685" y="5"/>
                    </a:cubicBezTo>
                    <a:lnTo>
                      <a:pt x="5685" y="5"/>
                    </a:lnTo>
                    <a:cubicBezTo>
                      <a:pt x="5683" y="5"/>
                      <a:pt x="5683" y="4"/>
                      <a:pt x="5683" y="3"/>
                    </a:cubicBezTo>
                    <a:cubicBezTo>
                      <a:pt x="5683" y="2"/>
                      <a:pt x="5683" y="1"/>
                      <a:pt x="5685" y="1"/>
                    </a:cubicBezTo>
                    <a:close/>
                    <a:moveTo>
                      <a:pt x="5693" y="1"/>
                    </a:moveTo>
                    <a:lnTo>
                      <a:pt x="5693" y="1"/>
                    </a:lnTo>
                    <a:cubicBezTo>
                      <a:pt x="5694" y="1"/>
                      <a:pt x="5695" y="2"/>
                      <a:pt x="5695" y="3"/>
                    </a:cubicBezTo>
                    <a:cubicBezTo>
                      <a:pt x="5695" y="4"/>
                      <a:pt x="5694" y="5"/>
                      <a:pt x="5693" y="5"/>
                    </a:cubicBezTo>
                    <a:lnTo>
                      <a:pt x="5693" y="5"/>
                    </a:lnTo>
                    <a:cubicBezTo>
                      <a:pt x="5691" y="5"/>
                      <a:pt x="5691" y="4"/>
                      <a:pt x="5691" y="3"/>
                    </a:cubicBezTo>
                    <a:cubicBezTo>
                      <a:pt x="5691" y="2"/>
                      <a:pt x="5691" y="1"/>
                      <a:pt x="5693" y="1"/>
                    </a:cubicBezTo>
                    <a:close/>
                    <a:moveTo>
                      <a:pt x="5701" y="1"/>
                    </a:moveTo>
                    <a:lnTo>
                      <a:pt x="5701" y="1"/>
                    </a:lnTo>
                    <a:cubicBezTo>
                      <a:pt x="5702" y="1"/>
                      <a:pt x="5703" y="2"/>
                      <a:pt x="5703" y="3"/>
                    </a:cubicBezTo>
                    <a:cubicBezTo>
                      <a:pt x="5703" y="4"/>
                      <a:pt x="5702" y="5"/>
                      <a:pt x="5701" y="5"/>
                    </a:cubicBezTo>
                    <a:lnTo>
                      <a:pt x="5701" y="5"/>
                    </a:lnTo>
                    <a:cubicBezTo>
                      <a:pt x="5699" y="5"/>
                      <a:pt x="5699" y="4"/>
                      <a:pt x="5699" y="3"/>
                    </a:cubicBezTo>
                    <a:cubicBezTo>
                      <a:pt x="5699" y="2"/>
                      <a:pt x="5699" y="1"/>
                      <a:pt x="5701" y="1"/>
                    </a:cubicBezTo>
                    <a:close/>
                    <a:moveTo>
                      <a:pt x="5709" y="1"/>
                    </a:moveTo>
                    <a:lnTo>
                      <a:pt x="5709" y="1"/>
                    </a:lnTo>
                    <a:cubicBezTo>
                      <a:pt x="5710" y="1"/>
                      <a:pt x="5711" y="2"/>
                      <a:pt x="5711" y="3"/>
                    </a:cubicBezTo>
                    <a:cubicBezTo>
                      <a:pt x="5711" y="4"/>
                      <a:pt x="5710" y="5"/>
                      <a:pt x="5709" y="5"/>
                    </a:cubicBezTo>
                    <a:lnTo>
                      <a:pt x="5709" y="5"/>
                    </a:lnTo>
                    <a:cubicBezTo>
                      <a:pt x="5708" y="5"/>
                      <a:pt x="5707" y="4"/>
                      <a:pt x="5707" y="3"/>
                    </a:cubicBezTo>
                    <a:cubicBezTo>
                      <a:pt x="5707" y="2"/>
                      <a:pt x="5708" y="1"/>
                      <a:pt x="5709" y="1"/>
                    </a:cubicBezTo>
                    <a:close/>
                    <a:moveTo>
                      <a:pt x="5717" y="1"/>
                    </a:moveTo>
                    <a:lnTo>
                      <a:pt x="5717" y="1"/>
                    </a:lnTo>
                    <a:cubicBezTo>
                      <a:pt x="5718" y="1"/>
                      <a:pt x="5719" y="2"/>
                      <a:pt x="5719" y="3"/>
                    </a:cubicBezTo>
                    <a:cubicBezTo>
                      <a:pt x="5719" y="4"/>
                      <a:pt x="5718" y="5"/>
                      <a:pt x="5717" y="5"/>
                    </a:cubicBezTo>
                    <a:lnTo>
                      <a:pt x="5717" y="5"/>
                    </a:lnTo>
                    <a:cubicBezTo>
                      <a:pt x="5716" y="5"/>
                      <a:pt x="5715" y="4"/>
                      <a:pt x="5715" y="3"/>
                    </a:cubicBezTo>
                    <a:cubicBezTo>
                      <a:pt x="5715" y="2"/>
                      <a:pt x="5716" y="1"/>
                      <a:pt x="5717" y="1"/>
                    </a:cubicBezTo>
                    <a:close/>
                    <a:moveTo>
                      <a:pt x="5725" y="1"/>
                    </a:moveTo>
                    <a:lnTo>
                      <a:pt x="5725" y="1"/>
                    </a:lnTo>
                    <a:cubicBezTo>
                      <a:pt x="5726" y="1"/>
                      <a:pt x="5727" y="2"/>
                      <a:pt x="5727" y="3"/>
                    </a:cubicBezTo>
                    <a:cubicBezTo>
                      <a:pt x="5727" y="4"/>
                      <a:pt x="5726" y="5"/>
                      <a:pt x="5725" y="5"/>
                    </a:cubicBezTo>
                    <a:lnTo>
                      <a:pt x="5725" y="5"/>
                    </a:lnTo>
                    <a:cubicBezTo>
                      <a:pt x="5724" y="5"/>
                      <a:pt x="5723" y="4"/>
                      <a:pt x="5723" y="3"/>
                    </a:cubicBezTo>
                    <a:cubicBezTo>
                      <a:pt x="5723" y="2"/>
                      <a:pt x="5724" y="1"/>
                      <a:pt x="5725" y="1"/>
                    </a:cubicBezTo>
                    <a:close/>
                    <a:moveTo>
                      <a:pt x="5733" y="1"/>
                    </a:moveTo>
                    <a:lnTo>
                      <a:pt x="5733" y="1"/>
                    </a:lnTo>
                    <a:cubicBezTo>
                      <a:pt x="5734" y="1"/>
                      <a:pt x="5735" y="2"/>
                      <a:pt x="5735" y="3"/>
                    </a:cubicBezTo>
                    <a:cubicBezTo>
                      <a:pt x="5735" y="4"/>
                      <a:pt x="5734" y="5"/>
                      <a:pt x="5733" y="5"/>
                    </a:cubicBezTo>
                    <a:lnTo>
                      <a:pt x="5733" y="5"/>
                    </a:lnTo>
                    <a:cubicBezTo>
                      <a:pt x="5732" y="5"/>
                      <a:pt x="5731" y="4"/>
                      <a:pt x="5731" y="3"/>
                    </a:cubicBezTo>
                    <a:cubicBezTo>
                      <a:pt x="5731" y="2"/>
                      <a:pt x="5732" y="1"/>
                      <a:pt x="5733" y="1"/>
                    </a:cubicBezTo>
                    <a:close/>
                    <a:moveTo>
                      <a:pt x="5741" y="1"/>
                    </a:moveTo>
                    <a:lnTo>
                      <a:pt x="5741" y="1"/>
                    </a:lnTo>
                    <a:cubicBezTo>
                      <a:pt x="5742" y="1"/>
                      <a:pt x="5743" y="2"/>
                      <a:pt x="5743" y="3"/>
                    </a:cubicBezTo>
                    <a:cubicBezTo>
                      <a:pt x="5743" y="4"/>
                      <a:pt x="5742" y="5"/>
                      <a:pt x="5741" y="5"/>
                    </a:cubicBezTo>
                    <a:lnTo>
                      <a:pt x="5741" y="5"/>
                    </a:lnTo>
                    <a:cubicBezTo>
                      <a:pt x="5740" y="5"/>
                      <a:pt x="5739" y="4"/>
                      <a:pt x="5739" y="3"/>
                    </a:cubicBezTo>
                    <a:cubicBezTo>
                      <a:pt x="5739" y="2"/>
                      <a:pt x="5740" y="1"/>
                      <a:pt x="5741" y="1"/>
                    </a:cubicBezTo>
                    <a:close/>
                    <a:moveTo>
                      <a:pt x="5749" y="1"/>
                    </a:moveTo>
                    <a:lnTo>
                      <a:pt x="5749" y="1"/>
                    </a:lnTo>
                    <a:cubicBezTo>
                      <a:pt x="5750" y="1"/>
                      <a:pt x="5751" y="2"/>
                      <a:pt x="5751" y="3"/>
                    </a:cubicBezTo>
                    <a:cubicBezTo>
                      <a:pt x="5751" y="4"/>
                      <a:pt x="5750" y="5"/>
                      <a:pt x="5749" y="5"/>
                    </a:cubicBezTo>
                    <a:lnTo>
                      <a:pt x="5749" y="5"/>
                    </a:lnTo>
                    <a:cubicBezTo>
                      <a:pt x="5748" y="5"/>
                      <a:pt x="5747" y="4"/>
                      <a:pt x="5747" y="3"/>
                    </a:cubicBezTo>
                    <a:cubicBezTo>
                      <a:pt x="5747" y="2"/>
                      <a:pt x="5748" y="1"/>
                      <a:pt x="5749" y="1"/>
                    </a:cubicBezTo>
                    <a:close/>
                    <a:moveTo>
                      <a:pt x="5757" y="1"/>
                    </a:moveTo>
                    <a:lnTo>
                      <a:pt x="5757" y="1"/>
                    </a:lnTo>
                    <a:cubicBezTo>
                      <a:pt x="5758" y="1"/>
                      <a:pt x="5759" y="2"/>
                      <a:pt x="5759" y="3"/>
                    </a:cubicBezTo>
                    <a:cubicBezTo>
                      <a:pt x="5759" y="4"/>
                      <a:pt x="5758" y="5"/>
                      <a:pt x="5757" y="5"/>
                    </a:cubicBezTo>
                    <a:lnTo>
                      <a:pt x="5757" y="5"/>
                    </a:lnTo>
                    <a:cubicBezTo>
                      <a:pt x="5756" y="5"/>
                      <a:pt x="5755" y="4"/>
                      <a:pt x="5755" y="3"/>
                    </a:cubicBezTo>
                    <a:cubicBezTo>
                      <a:pt x="5755" y="2"/>
                      <a:pt x="5756" y="1"/>
                      <a:pt x="5757" y="1"/>
                    </a:cubicBezTo>
                    <a:close/>
                    <a:moveTo>
                      <a:pt x="5765" y="1"/>
                    </a:moveTo>
                    <a:lnTo>
                      <a:pt x="5765" y="1"/>
                    </a:lnTo>
                    <a:cubicBezTo>
                      <a:pt x="5766" y="1"/>
                      <a:pt x="5767" y="2"/>
                      <a:pt x="5767" y="3"/>
                    </a:cubicBezTo>
                    <a:cubicBezTo>
                      <a:pt x="5767" y="4"/>
                      <a:pt x="5766" y="5"/>
                      <a:pt x="5765" y="5"/>
                    </a:cubicBezTo>
                    <a:lnTo>
                      <a:pt x="5765" y="5"/>
                    </a:lnTo>
                    <a:cubicBezTo>
                      <a:pt x="5764" y="5"/>
                      <a:pt x="5763" y="4"/>
                      <a:pt x="5763" y="3"/>
                    </a:cubicBezTo>
                    <a:cubicBezTo>
                      <a:pt x="5763" y="2"/>
                      <a:pt x="5764" y="1"/>
                      <a:pt x="5765" y="1"/>
                    </a:cubicBezTo>
                    <a:close/>
                    <a:moveTo>
                      <a:pt x="5773" y="1"/>
                    </a:moveTo>
                    <a:lnTo>
                      <a:pt x="5773" y="1"/>
                    </a:lnTo>
                    <a:cubicBezTo>
                      <a:pt x="5774" y="1"/>
                      <a:pt x="5775" y="2"/>
                      <a:pt x="5775" y="3"/>
                    </a:cubicBezTo>
                    <a:cubicBezTo>
                      <a:pt x="5775" y="4"/>
                      <a:pt x="5774" y="5"/>
                      <a:pt x="5773" y="5"/>
                    </a:cubicBezTo>
                    <a:lnTo>
                      <a:pt x="5773" y="5"/>
                    </a:lnTo>
                    <a:cubicBezTo>
                      <a:pt x="5772" y="5"/>
                      <a:pt x="5771" y="4"/>
                      <a:pt x="5771" y="3"/>
                    </a:cubicBezTo>
                    <a:cubicBezTo>
                      <a:pt x="5771" y="2"/>
                      <a:pt x="5772" y="1"/>
                      <a:pt x="5773" y="1"/>
                    </a:cubicBezTo>
                    <a:close/>
                    <a:moveTo>
                      <a:pt x="5781" y="1"/>
                    </a:moveTo>
                    <a:lnTo>
                      <a:pt x="5781" y="1"/>
                    </a:lnTo>
                    <a:cubicBezTo>
                      <a:pt x="5782" y="1"/>
                      <a:pt x="5783" y="2"/>
                      <a:pt x="5783" y="3"/>
                    </a:cubicBezTo>
                    <a:cubicBezTo>
                      <a:pt x="5783" y="4"/>
                      <a:pt x="5782" y="5"/>
                      <a:pt x="5781" y="5"/>
                    </a:cubicBezTo>
                    <a:lnTo>
                      <a:pt x="5781" y="5"/>
                    </a:lnTo>
                    <a:cubicBezTo>
                      <a:pt x="5780" y="5"/>
                      <a:pt x="5779" y="4"/>
                      <a:pt x="5779" y="3"/>
                    </a:cubicBezTo>
                    <a:cubicBezTo>
                      <a:pt x="5779" y="2"/>
                      <a:pt x="5780" y="1"/>
                      <a:pt x="5781" y="1"/>
                    </a:cubicBezTo>
                    <a:close/>
                    <a:moveTo>
                      <a:pt x="5789" y="1"/>
                    </a:moveTo>
                    <a:lnTo>
                      <a:pt x="5789" y="1"/>
                    </a:lnTo>
                    <a:cubicBezTo>
                      <a:pt x="5790" y="1"/>
                      <a:pt x="5791" y="2"/>
                      <a:pt x="5791" y="3"/>
                    </a:cubicBezTo>
                    <a:cubicBezTo>
                      <a:pt x="5791" y="4"/>
                      <a:pt x="5790" y="5"/>
                      <a:pt x="5789" y="5"/>
                    </a:cubicBezTo>
                    <a:lnTo>
                      <a:pt x="5789" y="5"/>
                    </a:lnTo>
                    <a:cubicBezTo>
                      <a:pt x="5788" y="5"/>
                      <a:pt x="5787" y="4"/>
                      <a:pt x="5787" y="3"/>
                    </a:cubicBezTo>
                    <a:cubicBezTo>
                      <a:pt x="5787" y="2"/>
                      <a:pt x="5788" y="1"/>
                      <a:pt x="5789" y="1"/>
                    </a:cubicBezTo>
                    <a:close/>
                    <a:moveTo>
                      <a:pt x="5797" y="1"/>
                    </a:moveTo>
                    <a:lnTo>
                      <a:pt x="5797" y="1"/>
                    </a:lnTo>
                    <a:cubicBezTo>
                      <a:pt x="5798" y="1"/>
                      <a:pt x="5799" y="2"/>
                      <a:pt x="5799" y="3"/>
                    </a:cubicBezTo>
                    <a:cubicBezTo>
                      <a:pt x="5799" y="4"/>
                      <a:pt x="5798" y="5"/>
                      <a:pt x="5797" y="5"/>
                    </a:cubicBezTo>
                    <a:lnTo>
                      <a:pt x="5797" y="5"/>
                    </a:lnTo>
                    <a:cubicBezTo>
                      <a:pt x="5796" y="5"/>
                      <a:pt x="5795" y="4"/>
                      <a:pt x="5795" y="3"/>
                    </a:cubicBezTo>
                    <a:cubicBezTo>
                      <a:pt x="5795" y="2"/>
                      <a:pt x="5796" y="1"/>
                      <a:pt x="5797" y="1"/>
                    </a:cubicBezTo>
                    <a:close/>
                    <a:moveTo>
                      <a:pt x="5805" y="1"/>
                    </a:moveTo>
                    <a:lnTo>
                      <a:pt x="5805" y="1"/>
                    </a:lnTo>
                    <a:cubicBezTo>
                      <a:pt x="5806" y="1"/>
                      <a:pt x="5807" y="2"/>
                      <a:pt x="5807" y="3"/>
                    </a:cubicBezTo>
                    <a:cubicBezTo>
                      <a:pt x="5807" y="4"/>
                      <a:pt x="5806" y="5"/>
                      <a:pt x="5805" y="5"/>
                    </a:cubicBezTo>
                    <a:lnTo>
                      <a:pt x="5805" y="5"/>
                    </a:lnTo>
                    <a:cubicBezTo>
                      <a:pt x="5804" y="5"/>
                      <a:pt x="5803" y="4"/>
                      <a:pt x="5803" y="3"/>
                    </a:cubicBezTo>
                    <a:cubicBezTo>
                      <a:pt x="5803" y="2"/>
                      <a:pt x="5804" y="1"/>
                      <a:pt x="5805" y="1"/>
                    </a:cubicBezTo>
                    <a:close/>
                    <a:moveTo>
                      <a:pt x="5813" y="1"/>
                    </a:moveTo>
                    <a:lnTo>
                      <a:pt x="5813" y="1"/>
                    </a:lnTo>
                    <a:cubicBezTo>
                      <a:pt x="5814" y="1"/>
                      <a:pt x="5815" y="2"/>
                      <a:pt x="5815" y="3"/>
                    </a:cubicBezTo>
                    <a:cubicBezTo>
                      <a:pt x="5815" y="4"/>
                      <a:pt x="5814" y="5"/>
                      <a:pt x="5813" y="5"/>
                    </a:cubicBezTo>
                    <a:lnTo>
                      <a:pt x="5813" y="5"/>
                    </a:lnTo>
                    <a:cubicBezTo>
                      <a:pt x="5812" y="5"/>
                      <a:pt x="5811" y="4"/>
                      <a:pt x="5811" y="3"/>
                    </a:cubicBezTo>
                    <a:cubicBezTo>
                      <a:pt x="5811" y="2"/>
                      <a:pt x="5812" y="1"/>
                      <a:pt x="5813" y="1"/>
                    </a:cubicBezTo>
                    <a:close/>
                    <a:moveTo>
                      <a:pt x="5821" y="1"/>
                    </a:moveTo>
                    <a:lnTo>
                      <a:pt x="5821" y="1"/>
                    </a:lnTo>
                    <a:cubicBezTo>
                      <a:pt x="5822" y="1"/>
                      <a:pt x="5823" y="2"/>
                      <a:pt x="5823" y="3"/>
                    </a:cubicBezTo>
                    <a:cubicBezTo>
                      <a:pt x="5823" y="4"/>
                      <a:pt x="5822" y="5"/>
                      <a:pt x="5821" y="5"/>
                    </a:cubicBezTo>
                    <a:lnTo>
                      <a:pt x="5821" y="5"/>
                    </a:lnTo>
                    <a:cubicBezTo>
                      <a:pt x="5820" y="5"/>
                      <a:pt x="5819" y="4"/>
                      <a:pt x="5819" y="3"/>
                    </a:cubicBezTo>
                    <a:cubicBezTo>
                      <a:pt x="5819" y="2"/>
                      <a:pt x="5820" y="1"/>
                      <a:pt x="5821" y="1"/>
                    </a:cubicBezTo>
                    <a:close/>
                    <a:moveTo>
                      <a:pt x="5829" y="1"/>
                    </a:moveTo>
                    <a:lnTo>
                      <a:pt x="5829" y="1"/>
                    </a:lnTo>
                    <a:cubicBezTo>
                      <a:pt x="5830" y="1"/>
                      <a:pt x="5831" y="2"/>
                      <a:pt x="5831" y="3"/>
                    </a:cubicBezTo>
                    <a:cubicBezTo>
                      <a:pt x="5831" y="4"/>
                      <a:pt x="5830" y="5"/>
                      <a:pt x="5829" y="5"/>
                    </a:cubicBezTo>
                    <a:lnTo>
                      <a:pt x="5829" y="5"/>
                    </a:lnTo>
                    <a:cubicBezTo>
                      <a:pt x="5828" y="5"/>
                      <a:pt x="5827" y="4"/>
                      <a:pt x="5827" y="3"/>
                    </a:cubicBezTo>
                    <a:cubicBezTo>
                      <a:pt x="5827" y="2"/>
                      <a:pt x="5828" y="1"/>
                      <a:pt x="5829" y="1"/>
                    </a:cubicBezTo>
                    <a:close/>
                    <a:moveTo>
                      <a:pt x="5837" y="1"/>
                    </a:moveTo>
                    <a:lnTo>
                      <a:pt x="5837" y="1"/>
                    </a:lnTo>
                    <a:cubicBezTo>
                      <a:pt x="5838" y="1"/>
                      <a:pt x="5839" y="2"/>
                      <a:pt x="5839" y="3"/>
                    </a:cubicBezTo>
                    <a:cubicBezTo>
                      <a:pt x="5839" y="4"/>
                      <a:pt x="5838" y="5"/>
                      <a:pt x="5837" y="5"/>
                    </a:cubicBezTo>
                    <a:lnTo>
                      <a:pt x="5837" y="5"/>
                    </a:lnTo>
                    <a:cubicBezTo>
                      <a:pt x="5836" y="5"/>
                      <a:pt x="5835" y="4"/>
                      <a:pt x="5835" y="3"/>
                    </a:cubicBezTo>
                    <a:cubicBezTo>
                      <a:pt x="5835" y="2"/>
                      <a:pt x="5836" y="1"/>
                      <a:pt x="5837" y="1"/>
                    </a:cubicBezTo>
                    <a:close/>
                    <a:moveTo>
                      <a:pt x="5845" y="1"/>
                    </a:moveTo>
                    <a:lnTo>
                      <a:pt x="5845" y="1"/>
                    </a:lnTo>
                    <a:cubicBezTo>
                      <a:pt x="5846" y="1"/>
                      <a:pt x="5847" y="2"/>
                      <a:pt x="5847" y="3"/>
                    </a:cubicBezTo>
                    <a:cubicBezTo>
                      <a:pt x="5847" y="4"/>
                      <a:pt x="5846" y="5"/>
                      <a:pt x="5845" y="5"/>
                    </a:cubicBezTo>
                    <a:lnTo>
                      <a:pt x="5845" y="5"/>
                    </a:lnTo>
                    <a:cubicBezTo>
                      <a:pt x="5844" y="5"/>
                      <a:pt x="5843" y="4"/>
                      <a:pt x="5843" y="3"/>
                    </a:cubicBezTo>
                    <a:cubicBezTo>
                      <a:pt x="5843" y="2"/>
                      <a:pt x="5844" y="1"/>
                      <a:pt x="5845" y="1"/>
                    </a:cubicBezTo>
                    <a:close/>
                    <a:moveTo>
                      <a:pt x="5853" y="1"/>
                    </a:moveTo>
                    <a:lnTo>
                      <a:pt x="5853" y="1"/>
                    </a:lnTo>
                    <a:cubicBezTo>
                      <a:pt x="5854" y="1"/>
                      <a:pt x="5855" y="2"/>
                      <a:pt x="5855" y="3"/>
                    </a:cubicBezTo>
                    <a:cubicBezTo>
                      <a:pt x="5855" y="4"/>
                      <a:pt x="5854" y="5"/>
                      <a:pt x="5853" y="5"/>
                    </a:cubicBezTo>
                    <a:lnTo>
                      <a:pt x="5853" y="5"/>
                    </a:lnTo>
                    <a:cubicBezTo>
                      <a:pt x="5852" y="5"/>
                      <a:pt x="5851" y="4"/>
                      <a:pt x="5851" y="3"/>
                    </a:cubicBezTo>
                    <a:cubicBezTo>
                      <a:pt x="5851" y="2"/>
                      <a:pt x="5852" y="1"/>
                      <a:pt x="5853" y="1"/>
                    </a:cubicBezTo>
                    <a:close/>
                    <a:moveTo>
                      <a:pt x="5861" y="1"/>
                    </a:moveTo>
                    <a:lnTo>
                      <a:pt x="5861" y="1"/>
                    </a:lnTo>
                    <a:cubicBezTo>
                      <a:pt x="5862" y="1"/>
                      <a:pt x="5863" y="2"/>
                      <a:pt x="5863" y="3"/>
                    </a:cubicBezTo>
                    <a:cubicBezTo>
                      <a:pt x="5863" y="4"/>
                      <a:pt x="5862" y="5"/>
                      <a:pt x="5861" y="5"/>
                    </a:cubicBezTo>
                    <a:lnTo>
                      <a:pt x="5861" y="5"/>
                    </a:lnTo>
                    <a:cubicBezTo>
                      <a:pt x="5860" y="5"/>
                      <a:pt x="5859" y="4"/>
                      <a:pt x="5859" y="3"/>
                    </a:cubicBezTo>
                    <a:cubicBezTo>
                      <a:pt x="5859" y="2"/>
                      <a:pt x="5860" y="1"/>
                      <a:pt x="5861" y="1"/>
                    </a:cubicBezTo>
                    <a:close/>
                    <a:moveTo>
                      <a:pt x="5869" y="1"/>
                    </a:moveTo>
                    <a:lnTo>
                      <a:pt x="5869" y="1"/>
                    </a:lnTo>
                    <a:cubicBezTo>
                      <a:pt x="5870" y="1"/>
                      <a:pt x="5871" y="2"/>
                      <a:pt x="5871" y="3"/>
                    </a:cubicBezTo>
                    <a:cubicBezTo>
                      <a:pt x="5871" y="4"/>
                      <a:pt x="5870" y="5"/>
                      <a:pt x="5869" y="5"/>
                    </a:cubicBezTo>
                    <a:lnTo>
                      <a:pt x="5869" y="5"/>
                    </a:lnTo>
                    <a:cubicBezTo>
                      <a:pt x="5868" y="5"/>
                      <a:pt x="5867" y="4"/>
                      <a:pt x="5867" y="3"/>
                    </a:cubicBezTo>
                    <a:cubicBezTo>
                      <a:pt x="5867" y="2"/>
                      <a:pt x="5868" y="1"/>
                      <a:pt x="5869" y="1"/>
                    </a:cubicBezTo>
                    <a:close/>
                    <a:moveTo>
                      <a:pt x="5877" y="1"/>
                    </a:moveTo>
                    <a:lnTo>
                      <a:pt x="5877" y="1"/>
                    </a:lnTo>
                    <a:cubicBezTo>
                      <a:pt x="5878" y="1"/>
                      <a:pt x="5879" y="2"/>
                      <a:pt x="5879" y="3"/>
                    </a:cubicBezTo>
                    <a:cubicBezTo>
                      <a:pt x="5879" y="4"/>
                      <a:pt x="5878" y="5"/>
                      <a:pt x="5877" y="5"/>
                    </a:cubicBezTo>
                    <a:lnTo>
                      <a:pt x="5877" y="5"/>
                    </a:lnTo>
                    <a:cubicBezTo>
                      <a:pt x="5876" y="5"/>
                      <a:pt x="5875" y="4"/>
                      <a:pt x="5875" y="3"/>
                    </a:cubicBezTo>
                    <a:cubicBezTo>
                      <a:pt x="5875" y="2"/>
                      <a:pt x="5876" y="1"/>
                      <a:pt x="5877" y="1"/>
                    </a:cubicBezTo>
                    <a:close/>
                    <a:moveTo>
                      <a:pt x="5885" y="1"/>
                    </a:moveTo>
                    <a:lnTo>
                      <a:pt x="5885" y="1"/>
                    </a:lnTo>
                    <a:cubicBezTo>
                      <a:pt x="5886" y="1"/>
                      <a:pt x="5887" y="2"/>
                      <a:pt x="5887" y="3"/>
                    </a:cubicBezTo>
                    <a:cubicBezTo>
                      <a:pt x="5887" y="4"/>
                      <a:pt x="5886" y="5"/>
                      <a:pt x="5885" y="5"/>
                    </a:cubicBezTo>
                    <a:lnTo>
                      <a:pt x="5885" y="5"/>
                    </a:lnTo>
                    <a:cubicBezTo>
                      <a:pt x="5884" y="5"/>
                      <a:pt x="5883" y="4"/>
                      <a:pt x="5883" y="3"/>
                    </a:cubicBezTo>
                    <a:cubicBezTo>
                      <a:pt x="5883" y="2"/>
                      <a:pt x="5884" y="1"/>
                      <a:pt x="5885" y="1"/>
                    </a:cubicBezTo>
                    <a:close/>
                    <a:moveTo>
                      <a:pt x="5893" y="1"/>
                    </a:moveTo>
                    <a:lnTo>
                      <a:pt x="5893" y="1"/>
                    </a:lnTo>
                    <a:cubicBezTo>
                      <a:pt x="5894" y="1"/>
                      <a:pt x="5895" y="2"/>
                      <a:pt x="5895" y="3"/>
                    </a:cubicBezTo>
                    <a:cubicBezTo>
                      <a:pt x="5895" y="4"/>
                      <a:pt x="5894" y="5"/>
                      <a:pt x="5893" y="5"/>
                    </a:cubicBezTo>
                    <a:lnTo>
                      <a:pt x="5893" y="5"/>
                    </a:lnTo>
                    <a:cubicBezTo>
                      <a:pt x="5892" y="5"/>
                      <a:pt x="5891" y="4"/>
                      <a:pt x="5891" y="3"/>
                    </a:cubicBezTo>
                    <a:cubicBezTo>
                      <a:pt x="5891" y="2"/>
                      <a:pt x="5892" y="1"/>
                      <a:pt x="5893" y="1"/>
                    </a:cubicBezTo>
                    <a:close/>
                    <a:moveTo>
                      <a:pt x="5901" y="1"/>
                    </a:moveTo>
                    <a:lnTo>
                      <a:pt x="5901" y="1"/>
                    </a:lnTo>
                    <a:cubicBezTo>
                      <a:pt x="5902" y="1"/>
                      <a:pt x="5903" y="2"/>
                      <a:pt x="5903" y="3"/>
                    </a:cubicBezTo>
                    <a:cubicBezTo>
                      <a:pt x="5903" y="4"/>
                      <a:pt x="5902" y="5"/>
                      <a:pt x="5901" y="5"/>
                    </a:cubicBezTo>
                    <a:lnTo>
                      <a:pt x="5901" y="5"/>
                    </a:lnTo>
                    <a:cubicBezTo>
                      <a:pt x="5900" y="5"/>
                      <a:pt x="5899" y="4"/>
                      <a:pt x="5899" y="3"/>
                    </a:cubicBezTo>
                    <a:cubicBezTo>
                      <a:pt x="5899" y="2"/>
                      <a:pt x="5900" y="1"/>
                      <a:pt x="5901" y="1"/>
                    </a:cubicBezTo>
                    <a:close/>
                    <a:moveTo>
                      <a:pt x="5909" y="1"/>
                    </a:moveTo>
                    <a:lnTo>
                      <a:pt x="5909" y="1"/>
                    </a:lnTo>
                    <a:cubicBezTo>
                      <a:pt x="5910" y="1"/>
                      <a:pt x="5911" y="2"/>
                      <a:pt x="5911" y="3"/>
                    </a:cubicBezTo>
                    <a:cubicBezTo>
                      <a:pt x="5911" y="4"/>
                      <a:pt x="5910" y="5"/>
                      <a:pt x="5909" y="5"/>
                    </a:cubicBezTo>
                    <a:lnTo>
                      <a:pt x="5909" y="5"/>
                    </a:lnTo>
                    <a:cubicBezTo>
                      <a:pt x="5908" y="5"/>
                      <a:pt x="5907" y="4"/>
                      <a:pt x="5907" y="3"/>
                    </a:cubicBezTo>
                    <a:cubicBezTo>
                      <a:pt x="5907" y="2"/>
                      <a:pt x="5908" y="1"/>
                      <a:pt x="5909" y="1"/>
                    </a:cubicBezTo>
                    <a:close/>
                    <a:moveTo>
                      <a:pt x="5917" y="1"/>
                    </a:moveTo>
                    <a:lnTo>
                      <a:pt x="5917" y="1"/>
                    </a:lnTo>
                    <a:cubicBezTo>
                      <a:pt x="5918" y="1"/>
                      <a:pt x="5919" y="2"/>
                      <a:pt x="5919" y="3"/>
                    </a:cubicBezTo>
                    <a:cubicBezTo>
                      <a:pt x="5919" y="4"/>
                      <a:pt x="5918" y="5"/>
                      <a:pt x="5917" y="5"/>
                    </a:cubicBezTo>
                    <a:lnTo>
                      <a:pt x="5917" y="5"/>
                    </a:lnTo>
                    <a:cubicBezTo>
                      <a:pt x="5916" y="5"/>
                      <a:pt x="5915" y="4"/>
                      <a:pt x="5915" y="3"/>
                    </a:cubicBezTo>
                    <a:cubicBezTo>
                      <a:pt x="5915" y="2"/>
                      <a:pt x="5916" y="1"/>
                      <a:pt x="5917" y="1"/>
                    </a:cubicBezTo>
                    <a:close/>
                    <a:moveTo>
                      <a:pt x="5925" y="1"/>
                    </a:moveTo>
                    <a:lnTo>
                      <a:pt x="5925" y="1"/>
                    </a:lnTo>
                    <a:cubicBezTo>
                      <a:pt x="5926" y="1"/>
                      <a:pt x="5927" y="2"/>
                      <a:pt x="5927" y="3"/>
                    </a:cubicBezTo>
                    <a:cubicBezTo>
                      <a:pt x="5927" y="4"/>
                      <a:pt x="5926" y="5"/>
                      <a:pt x="5925" y="5"/>
                    </a:cubicBezTo>
                    <a:lnTo>
                      <a:pt x="5925" y="5"/>
                    </a:lnTo>
                    <a:cubicBezTo>
                      <a:pt x="5924" y="5"/>
                      <a:pt x="5923" y="4"/>
                      <a:pt x="5923" y="3"/>
                    </a:cubicBezTo>
                    <a:cubicBezTo>
                      <a:pt x="5923" y="2"/>
                      <a:pt x="5924" y="1"/>
                      <a:pt x="5925" y="1"/>
                    </a:cubicBezTo>
                    <a:close/>
                    <a:moveTo>
                      <a:pt x="5933" y="1"/>
                    </a:moveTo>
                    <a:lnTo>
                      <a:pt x="5933" y="1"/>
                    </a:lnTo>
                    <a:cubicBezTo>
                      <a:pt x="5934" y="1"/>
                      <a:pt x="5935" y="2"/>
                      <a:pt x="5935" y="3"/>
                    </a:cubicBezTo>
                    <a:cubicBezTo>
                      <a:pt x="5935" y="4"/>
                      <a:pt x="5934" y="5"/>
                      <a:pt x="5933" y="5"/>
                    </a:cubicBezTo>
                    <a:lnTo>
                      <a:pt x="5933" y="5"/>
                    </a:lnTo>
                    <a:cubicBezTo>
                      <a:pt x="5932" y="5"/>
                      <a:pt x="5931" y="4"/>
                      <a:pt x="5931" y="3"/>
                    </a:cubicBezTo>
                    <a:cubicBezTo>
                      <a:pt x="5931" y="2"/>
                      <a:pt x="5932" y="1"/>
                      <a:pt x="5933" y="1"/>
                    </a:cubicBezTo>
                    <a:close/>
                    <a:moveTo>
                      <a:pt x="5941" y="1"/>
                    </a:moveTo>
                    <a:lnTo>
                      <a:pt x="5941" y="1"/>
                    </a:lnTo>
                    <a:cubicBezTo>
                      <a:pt x="5942" y="1"/>
                      <a:pt x="5943" y="2"/>
                      <a:pt x="5943" y="3"/>
                    </a:cubicBezTo>
                    <a:cubicBezTo>
                      <a:pt x="5943" y="4"/>
                      <a:pt x="5942" y="5"/>
                      <a:pt x="5941" y="5"/>
                    </a:cubicBezTo>
                    <a:lnTo>
                      <a:pt x="5941" y="5"/>
                    </a:lnTo>
                    <a:cubicBezTo>
                      <a:pt x="5940" y="5"/>
                      <a:pt x="5939" y="4"/>
                      <a:pt x="5939" y="3"/>
                    </a:cubicBezTo>
                    <a:cubicBezTo>
                      <a:pt x="5939" y="2"/>
                      <a:pt x="5940" y="1"/>
                      <a:pt x="5941" y="1"/>
                    </a:cubicBezTo>
                    <a:close/>
                    <a:moveTo>
                      <a:pt x="5949" y="1"/>
                    </a:moveTo>
                    <a:lnTo>
                      <a:pt x="5949" y="1"/>
                    </a:lnTo>
                    <a:cubicBezTo>
                      <a:pt x="5950" y="1"/>
                      <a:pt x="5951" y="2"/>
                      <a:pt x="5951" y="3"/>
                    </a:cubicBezTo>
                    <a:cubicBezTo>
                      <a:pt x="5951" y="4"/>
                      <a:pt x="5950" y="5"/>
                      <a:pt x="5949" y="5"/>
                    </a:cubicBezTo>
                    <a:lnTo>
                      <a:pt x="5949" y="5"/>
                    </a:lnTo>
                    <a:cubicBezTo>
                      <a:pt x="5948" y="5"/>
                      <a:pt x="5947" y="4"/>
                      <a:pt x="5947" y="3"/>
                    </a:cubicBezTo>
                    <a:cubicBezTo>
                      <a:pt x="5947" y="2"/>
                      <a:pt x="5948" y="1"/>
                      <a:pt x="5949" y="1"/>
                    </a:cubicBezTo>
                    <a:close/>
                    <a:moveTo>
                      <a:pt x="5957" y="1"/>
                    </a:moveTo>
                    <a:lnTo>
                      <a:pt x="5957" y="1"/>
                    </a:lnTo>
                    <a:cubicBezTo>
                      <a:pt x="5958" y="1"/>
                      <a:pt x="5959" y="2"/>
                      <a:pt x="5959" y="3"/>
                    </a:cubicBezTo>
                    <a:cubicBezTo>
                      <a:pt x="5959" y="4"/>
                      <a:pt x="5958" y="5"/>
                      <a:pt x="5957" y="5"/>
                    </a:cubicBezTo>
                    <a:lnTo>
                      <a:pt x="5957" y="5"/>
                    </a:lnTo>
                    <a:cubicBezTo>
                      <a:pt x="5956" y="5"/>
                      <a:pt x="5955" y="4"/>
                      <a:pt x="5955" y="3"/>
                    </a:cubicBezTo>
                    <a:cubicBezTo>
                      <a:pt x="5955" y="2"/>
                      <a:pt x="5956" y="1"/>
                      <a:pt x="5957" y="1"/>
                    </a:cubicBezTo>
                    <a:close/>
                    <a:moveTo>
                      <a:pt x="5965" y="1"/>
                    </a:moveTo>
                    <a:lnTo>
                      <a:pt x="5965" y="1"/>
                    </a:lnTo>
                    <a:cubicBezTo>
                      <a:pt x="5966" y="1"/>
                      <a:pt x="5967" y="2"/>
                      <a:pt x="5967" y="3"/>
                    </a:cubicBezTo>
                    <a:cubicBezTo>
                      <a:pt x="5967" y="4"/>
                      <a:pt x="5966" y="5"/>
                      <a:pt x="5965" y="5"/>
                    </a:cubicBezTo>
                    <a:lnTo>
                      <a:pt x="5965" y="5"/>
                    </a:lnTo>
                    <a:cubicBezTo>
                      <a:pt x="5964" y="5"/>
                      <a:pt x="5963" y="4"/>
                      <a:pt x="5963" y="3"/>
                    </a:cubicBezTo>
                    <a:cubicBezTo>
                      <a:pt x="5963" y="2"/>
                      <a:pt x="5964" y="1"/>
                      <a:pt x="5965" y="1"/>
                    </a:cubicBezTo>
                    <a:close/>
                    <a:moveTo>
                      <a:pt x="5973" y="1"/>
                    </a:moveTo>
                    <a:lnTo>
                      <a:pt x="5973" y="1"/>
                    </a:lnTo>
                    <a:cubicBezTo>
                      <a:pt x="5974" y="1"/>
                      <a:pt x="5975" y="2"/>
                      <a:pt x="5975" y="3"/>
                    </a:cubicBezTo>
                    <a:cubicBezTo>
                      <a:pt x="5975" y="4"/>
                      <a:pt x="5974" y="5"/>
                      <a:pt x="5973" y="5"/>
                    </a:cubicBezTo>
                    <a:lnTo>
                      <a:pt x="5973" y="5"/>
                    </a:lnTo>
                    <a:cubicBezTo>
                      <a:pt x="5972" y="5"/>
                      <a:pt x="5971" y="4"/>
                      <a:pt x="5971" y="3"/>
                    </a:cubicBezTo>
                    <a:cubicBezTo>
                      <a:pt x="5971" y="2"/>
                      <a:pt x="5972" y="1"/>
                      <a:pt x="5973" y="1"/>
                    </a:cubicBezTo>
                    <a:close/>
                    <a:moveTo>
                      <a:pt x="5981" y="1"/>
                    </a:moveTo>
                    <a:lnTo>
                      <a:pt x="5981" y="1"/>
                    </a:lnTo>
                    <a:cubicBezTo>
                      <a:pt x="5982" y="1"/>
                      <a:pt x="5983" y="2"/>
                      <a:pt x="5983" y="3"/>
                    </a:cubicBezTo>
                    <a:cubicBezTo>
                      <a:pt x="5983" y="4"/>
                      <a:pt x="5982" y="5"/>
                      <a:pt x="5981" y="5"/>
                    </a:cubicBezTo>
                    <a:lnTo>
                      <a:pt x="5981" y="5"/>
                    </a:lnTo>
                    <a:cubicBezTo>
                      <a:pt x="5980" y="5"/>
                      <a:pt x="5979" y="4"/>
                      <a:pt x="5979" y="3"/>
                    </a:cubicBezTo>
                    <a:cubicBezTo>
                      <a:pt x="5979" y="2"/>
                      <a:pt x="5980" y="1"/>
                      <a:pt x="5981" y="1"/>
                    </a:cubicBezTo>
                    <a:close/>
                    <a:moveTo>
                      <a:pt x="5989" y="1"/>
                    </a:moveTo>
                    <a:lnTo>
                      <a:pt x="5989" y="1"/>
                    </a:lnTo>
                    <a:cubicBezTo>
                      <a:pt x="5990" y="1"/>
                      <a:pt x="5991" y="2"/>
                      <a:pt x="5991" y="3"/>
                    </a:cubicBezTo>
                    <a:cubicBezTo>
                      <a:pt x="5991" y="4"/>
                      <a:pt x="5990" y="5"/>
                      <a:pt x="5989" y="5"/>
                    </a:cubicBezTo>
                    <a:lnTo>
                      <a:pt x="5989" y="5"/>
                    </a:lnTo>
                    <a:cubicBezTo>
                      <a:pt x="5988" y="5"/>
                      <a:pt x="5987" y="4"/>
                      <a:pt x="5987" y="3"/>
                    </a:cubicBezTo>
                    <a:cubicBezTo>
                      <a:pt x="5987" y="2"/>
                      <a:pt x="5988" y="1"/>
                      <a:pt x="5989" y="1"/>
                    </a:cubicBezTo>
                    <a:close/>
                    <a:moveTo>
                      <a:pt x="5997" y="1"/>
                    </a:moveTo>
                    <a:lnTo>
                      <a:pt x="5997" y="1"/>
                    </a:lnTo>
                    <a:cubicBezTo>
                      <a:pt x="5998" y="1"/>
                      <a:pt x="5999" y="2"/>
                      <a:pt x="5999" y="3"/>
                    </a:cubicBezTo>
                    <a:cubicBezTo>
                      <a:pt x="5999" y="4"/>
                      <a:pt x="5998" y="5"/>
                      <a:pt x="5997" y="5"/>
                    </a:cubicBezTo>
                    <a:lnTo>
                      <a:pt x="5997" y="5"/>
                    </a:lnTo>
                    <a:cubicBezTo>
                      <a:pt x="5996" y="5"/>
                      <a:pt x="5995" y="4"/>
                      <a:pt x="5995" y="3"/>
                    </a:cubicBezTo>
                    <a:cubicBezTo>
                      <a:pt x="5995" y="2"/>
                      <a:pt x="5996" y="1"/>
                      <a:pt x="5997" y="1"/>
                    </a:cubicBezTo>
                    <a:close/>
                    <a:moveTo>
                      <a:pt x="6005" y="1"/>
                    </a:moveTo>
                    <a:lnTo>
                      <a:pt x="6005" y="1"/>
                    </a:lnTo>
                    <a:cubicBezTo>
                      <a:pt x="6006" y="1"/>
                      <a:pt x="6007" y="2"/>
                      <a:pt x="6007" y="3"/>
                    </a:cubicBezTo>
                    <a:cubicBezTo>
                      <a:pt x="6007" y="4"/>
                      <a:pt x="6006" y="5"/>
                      <a:pt x="6005" y="5"/>
                    </a:cubicBezTo>
                    <a:lnTo>
                      <a:pt x="6005" y="5"/>
                    </a:lnTo>
                    <a:cubicBezTo>
                      <a:pt x="6004" y="5"/>
                      <a:pt x="6003" y="4"/>
                      <a:pt x="6003" y="3"/>
                    </a:cubicBezTo>
                    <a:cubicBezTo>
                      <a:pt x="6003" y="2"/>
                      <a:pt x="6004" y="1"/>
                      <a:pt x="6005" y="1"/>
                    </a:cubicBezTo>
                    <a:close/>
                    <a:moveTo>
                      <a:pt x="6013" y="1"/>
                    </a:moveTo>
                    <a:lnTo>
                      <a:pt x="6013" y="1"/>
                    </a:lnTo>
                    <a:cubicBezTo>
                      <a:pt x="6014" y="1"/>
                      <a:pt x="6015" y="2"/>
                      <a:pt x="6015" y="3"/>
                    </a:cubicBezTo>
                    <a:cubicBezTo>
                      <a:pt x="6015" y="4"/>
                      <a:pt x="6014" y="5"/>
                      <a:pt x="6013" y="5"/>
                    </a:cubicBezTo>
                    <a:lnTo>
                      <a:pt x="6013" y="5"/>
                    </a:lnTo>
                    <a:cubicBezTo>
                      <a:pt x="6012" y="5"/>
                      <a:pt x="6011" y="4"/>
                      <a:pt x="6011" y="3"/>
                    </a:cubicBezTo>
                    <a:cubicBezTo>
                      <a:pt x="6011" y="2"/>
                      <a:pt x="6012" y="1"/>
                      <a:pt x="6013" y="1"/>
                    </a:cubicBezTo>
                    <a:close/>
                    <a:moveTo>
                      <a:pt x="6021" y="1"/>
                    </a:moveTo>
                    <a:lnTo>
                      <a:pt x="6021" y="1"/>
                    </a:lnTo>
                    <a:cubicBezTo>
                      <a:pt x="6022" y="1"/>
                      <a:pt x="6023" y="2"/>
                      <a:pt x="6023" y="3"/>
                    </a:cubicBezTo>
                    <a:cubicBezTo>
                      <a:pt x="6023" y="4"/>
                      <a:pt x="6022" y="5"/>
                      <a:pt x="6021" y="5"/>
                    </a:cubicBezTo>
                    <a:lnTo>
                      <a:pt x="6021" y="5"/>
                    </a:lnTo>
                    <a:cubicBezTo>
                      <a:pt x="6020" y="5"/>
                      <a:pt x="6019" y="4"/>
                      <a:pt x="6019" y="3"/>
                    </a:cubicBezTo>
                    <a:cubicBezTo>
                      <a:pt x="6019" y="2"/>
                      <a:pt x="6020" y="1"/>
                      <a:pt x="6021" y="1"/>
                    </a:cubicBezTo>
                    <a:close/>
                    <a:moveTo>
                      <a:pt x="6029" y="1"/>
                    </a:moveTo>
                    <a:lnTo>
                      <a:pt x="6029" y="1"/>
                    </a:lnTo>
                    <a:cubicBezTo>
                      <a:pt x="6030" y="1"/>
                      <a:pt x="6031" y="2"/>
                      <a:pt x="6031" y="3"/>
                    </a:cubicBezTo>
                    <a:cubicBezTo>
                      <a:pt x="6031" y="4"/>
                      <a:pt x="6030" y="5"/>
                      <a:pt x="6029" y="5"/>
                    </a:cubicBezTo>
                    <a:lnTo>
                      <a:pt x="6029" y="5"/>
                    </a:lnTo>
                    <a:cubicBezTo>
                      <a:pt x="6028" y="5"/>
                      <a:pt x="6027" y="4"/>
                      <a:pt x="6027" y="3"/>
                    </a:cubicBezTo>
                    <a:cubicBezTo>
                      <a:pt x="6027" y="2"/>
                      <a:pt x="6028" y="1"/>
                      <a:pt x="6029" y="1"/>
                    </a:cubicBezTo>
                    <a:close/>
                    <a:moveTo>
                      <a:pt x="6037" y="1"/>
                    </a:moveTo>
                    <a:lnTo>
                      <a:pt x="6037" y="1"/>
                    </a:lnTo>
                    <a:cubicBezTo>
                      <a:pt x="6038" y="1"/>
                      <a:pt x="6039" y="2"/>
                      <a:pt x="6039" y="3"/>
                    </a:cubicBezTo>
                    <a:cubicBezTo>
                      <a:pt x="6039" y="4"/>
                      <a:pt x="6038" y="5"/>
                      <a:pt x="6037" y="5"/>
                    </a:cubicBezTo>
                    <a:lnTo>
                      <a:pt x="6037" y="5"/>
                    </a:lnTo>
                    <a:cubicBezTo>
                      <a:pt x="6036" y="5"/>
                      <a:pt x="6035" y="4"/>
                      <a:pt x="6035" y="3"/>
                    </a:cubicBezTo>
                    <a:cubicBezTo>
                      <a:pt x="6035" y="2"/>
                      <a:pt x="6036" y="1"/>
                      <a:pt x="6037" y="1"/>
                    </a:cubicBezTo>
                    <a:close/>
                    <a:moveTo>
                      <a:pt x="6045" y="1"/>
                    </a:moveTo>
                    <a:lnTo>
                      <a:pt x="6045" y="1"/>
                    </a:lnTo>
                    <a:cubicBezTo>
                      <a:pt x="6046" y="1"/>
                      <a:pt x="6047" y="2"/>
                      <a:pt x="6047" y="3"/>
                    </a:cubicBezTo>
                    <a:cubicBezTo>
                      <a:pt x="6047" y="4"/>
                      <a:pt x="6046" y="5"/>
                      <a:pt x="6045" y="5"/>
                    </a:cubicBezTo>
                    <a:lnTo>
                      <a:pt x="6045" y="5"/>
                    </a:lnTo>
                    <a:cubicBezTo>
                      <a:pt x="6044" y="5"/>
                      <a:pt x="6043" y="4"/>
                      <a:pt x="6043" y="3"/>
                    </a:cubicBezTo>
                    <a:cubicBezTo>
                      <a:pt x="6043" y="2"/>
                      <a:pt x="6044" y="1"/>
                      <a:pt x="6045" y="1"/>
                    </a:cubicBezTo>
                    <a:close/>
                    <a:moveTo>
                      <a:pt x="6053" y="1"/>
                    </a:moveTo>
                    <a:lnTo>
                      <a:pt x="6053" y="1"/>
                    </a:lnTo>
                    <a:cubicBezTo>
                      <a:pt x="6054" y="1"/>
                      <a:pt x="6055" y="2"/>
                      <a:pt x="6055" y="3"/>
                    </a:cubicBezTo>
                    <a:cubicBezTo>
                      <a:pt x="6055" y="4"/>
                      <a:pt x="6054" y="5"/>
                      <a:pt x="6053" y="5"/>
                    </a:cubicBezTo>
                    <a:lnTo>
                      <a:pt x="6053" y="5"/>
                    </a:lnTo>
                    <a:cubicBezTo>
                      <a:pt x="6052" y="5"/>
                      <a:pt x="6051" y="4"/>
                      <a:pt x="6051" y="3"/>
                    </a:cubicBezTo>
                    <a:cubicBezTo>
                      <a:pt x="6051" y="2"/>
                      <a:pt x="6052" y="1"/>
                      <a:pt x="6053" y="1"/>
                    </a:cubicBezTo>
                    <a:close/>
                    <a:moveTo>
                      <a:pt x="6061" y="1"/>
                    </a:moveTo>
                    <a:lnTo>
                      <a:pt x="6061" y="1"/>
                    </a:lnTo>
                    <a:cubicBezTo>
                      <a:pt x="6062" y="1"/>
                      <a:pt x="6063" y="2"/>
                      <a:pt x="6063" y="3"/>
                    </a:cubicBezTo>
                    <a:cubicBezTo>
                      <a:pt x="6063" y="4"/>
                      <a:pt x="6062" y="5"/>
                      <a:pt x="6061" y="5"/>
                    </a:cubicBezTo>
                    <a:lnTo>
                      <a:pt x="6061" y="5"/>
                    </a:lnTo>
                    <a:cubicBezTo>
                      <a:pt x="6060" y="5"/>
                      <a:pt x="6059" y="4"/>
                      <a:pt x="6059" y="3"/>
                    </a:cubicBezTo>
                    <a:cubicBezTo>
                      <a:pt x="6059" y="2"/>
                      <a:pt x="6060" y="1"/>
                      <a:pt x="6061" y="1"/>
                    </a:cubicBezTo>
                    <a:close/>
                    <a:moveTo>
                      <a:pt x="6069" y="1"/>
                    </a:moveTo>
                    <a:lnTo>
                      <a:pt x="6069" y="1"/>
                    </a:lnTo>
                    <a:cubicBezTo>
                      <a:pt x="6070" y="1"/>
                      <a:pt x="6071" y="2"/>
                      <a:pt x="6071" y="3"/>
                    </a:cubicBezTo>
                    <a:cubicBezTo>
                      <a:pt x="6071" y="4"/>
                      <a:pt x="6070" y="5"/>
                      <a:pt x="6069" y="5"/>
                    </a:cubicBezTo>
                    <a:lnTo>
                      <a:pt x="6069" y="5"/>
                    </a:lnTo>
                    <a:cubicBezTo>
                      <a:pt x="6068" y="5"/>
                      <a:pt x="6067" y="4"/>
                      <a:pt x="6067" y="3"/>
                    </a:cubicBezTo>
                    <a:cubicBezTo>
                      <a:pt x="6067" y="2"/>
                      <a:pt x="6068" y="1"/>
                      <a:pt x="6069" y="1"/>
                    </a:cubicBezTo>
                    <a:close/>
                    <a:moveTo>
                      <a:pt x="6077" y="1"/>
                    </a:moveTo>
                    <a:lnTo>
                      <a:pt x="6077" y="1"/>
                    </a:lnTo>
                    <a:cubicBezTo>
                      <a:pt x="6078" y="1"/>
                      <a:pt x="6079" y="2"/>
                      <a:pt x="6079" y="3"/>
                    </a:cubicBezTo>
                    <a:cubicBezTo>
                      <a:pt x="6079" y="4"/>
                      <a:pt x="6078" y="5"/>
                      <a:pt x="6077" y="5"/>
                    </a:cubicBezTo>
                    <a:lnTo>
                      <a:pt x="6077" y="5"/>
                    </a:lnTo>
                    <a:cubicBezTo>
                      <a:pt x="6076" y="5"/>
                      <a:pt x="6075" y="4"/>
                      <a:pt x="6075" y="3"/>
                    </a:cubicBezTo>
                    <a:cubicBezTo>
                      <a:pt x="6075" y="2"/>
                      <a:pt x="6076" y="1"/>
                      <a:pt x="6077" y="1"/>
                    </a:cubicBezTo>
                    <a:close/>
                    <a:moveTo>
                      <a:pt x="6085" y="1"/>
                    </a:moveTo>
                    <a:lnTo>
                      <a:pt x="6085" y="1"/>
                    </a:lnTo>
                    <a:cubicBezTo>
                      <a:pt x="6086" y="1"/>
                      <a:pt x="6087" y="2"/>
                      <a:pt x="6087" y="3"/>
                    </a:cubicBezTo>
                    <a:cubicBezTo>
                      <a:pt x="6087" y="4"/>
                      <a:pt x="6086" y="5"/>
                      <a:pt x="6085" y="5"/>
                    </a:cubicBezTo>
                    <a:lnTo>
                      <a:pt x="6085" y="5"/>
                    </a:lnTo>
                    <a:cubicBezTo>
                      <a:pt x="6084" y="5"/>
                      <a:pt x="6083" y="4"/>
                      <a:pt x="6083" y="3"/>
                    </a:cubicBezTo>
                    <a:cubicBezTo>
                      <a:pt x="6083" y="2"/>
                      <a:pt x="6084" y="1"/>
                      <a:pt x="6085" y="1"/>
                    </a:cubicBezTo>
                    <a:close/>
                    <a:moveTo>
                      <a:pt x="6093" y="1"/>
                    </a:moveTo>
                    <a:lnTo>
                      <a:pt x="6093" y="1"/>
                    </a:lnTo>
                    <a:cubicBezTo>
                      <a:pt x="6094" y="1"/>
                      <a:pt x="6095" y="2"/>
                      <a:pt x="6095" y="3"/>
                    </a:cubicBezTo>
                    <a:cubicBezTo>
                      <a:pt x="6095" y="4"/>
                      <a:pt x="6094" y="5"/>
                      <a:pt x="6093" y="5"/>
                    </a:cubicBezTo>
                    <a:lnTo>
                      <a:pt x="6093" y="5"/>
                    </a:lnTo>
                    <a:cubicBezTo>
                      <a:pt x="6092" y="5"/>
                      <a:pt x="6091" y="4"/>
                      <a:pt x="6091" y="3"/>
                    </a:cubicBezTo>
                    <a:cubicBezTo>
                      <a:pt x="6091" y="2"/>
                      <a:pt x="6092" y="1"/>
                      <a:pt x="6093" y="1"/>
                    </a:cubicBezTo>
                    <a:close/>
                    <a:moveTo>
                      <a:pt x="6101" y="1"/>
                    </a:moveTo>
                    <a:lnTo>
                      <a:pt x="6101" y="1"/>
                    </a:lnTo>
                    <a:cubicBezTo>
                      <a:pt x="6102" y="1"/>
                      <a:pt x="6103" y="2"/>
                      <a:pt x="6103" y="3"/>
                    </a:cubicBezTo>
                    <a:cubicBezTo>
                      <a:pt x="6103" y="4"/>
                      <a:pt x="6102" y="5"/>
                      <a:pt x="6101" y="5"/>
                    </a:cubicBezTo>
                    <a:lnTo>
                      <a:pt x="6101" y="5"/>
                    </a:lnTo>
                    <a:cubicBezTo>
                      <a:pt x="6100" y="5"/>
                      <a:pt x="6099" y="4"/>
                      <a:pt x="6099" y="3"/>
                    </a:cubicBezTo>
                    <a:cubicBezTo>
                      <a:pt x="6099" y="2"/>
                      <a:pt x="6100" y="1"/>
                      <a:pt x="6101" y="1"/>
                    </a:cubicBezTo>
                    <a:close/>
                    <a:moveTo>
                      <a:pt x="6109" y="1"/>
                    </a:moveTo>
                    <a:lnTo>
                      <a:pt x="6109" y="1"/>
                    </a:lnTo>
                    <a:cubicBezTo>
                      <a:pt x="6110" y="1"/>
                      <a:pt x="6111" y="2"/>
                      <a:pt x="6111" y="3"/>
                    </a:cubicBezTo>
                    <a:cubicBezTo>
                      <a:pt x="6111" y="4"/>
                      <a:pt x="6110" y="5"/>
                      <a:pt x="6109" y="5"/>
                    </a:cubicBezTo>
                    <a:lnTo>
                      <a:pt x="6109" y="5"/>
                    </a:lnTo>
                    <a:cubicBezTo>
                      <a:pt x="6108" y="5"/>
                      <a:pt x="6107" y="4"/>
                      <a:pt x="6107" y="3"/>
                    </a:cubicBezTo>
                    <a:cubicBezTo>
                      <a:pt x="6107" y="2"/>
                      <a:pt x="6108" y="1"/>
                      <a:pt x="6109" y="1"/>
                    </a:cubicBezTo>
                    <a:close/>
                    <a:moveTo>
                      <a:pt x="6117" y="1"/>
                    </a:moveTo>
                    <a:lnTo>
                      <a:pt x="6117" y="1"/>
                    </a:lnTo>
                    <a:cubicBezTo>
                      <a:pt x="6118" y="1"/>
                      <a:pt x="6119" y="2"/>
                      <a:pt x="6119" y="3"/>
                    </a:cubicBezTo>
                    <a:cubicBezTo>
                      <a:pt x="6119" y="4"/>
                      <a:pt x="6118" y="5"/>
                      <a:pt x="6117" y="5"/>
                    </a:cubicBezTo>
                    <a:lnTo>
                      <a:pt x="6117" y="5"/>
                    </a:lnTo>
                    <a:cubicBezTo>
                      <a:pt x="6116" y="5"/>
                      <a:pt x="6115" y="4"/>
                      <a:pt x="6115" y="3"/>
                    </a:cubicBezTo>
                    <a:cubicBezTo>
                      <a:pt x="6115" y="2"/>
                      <a:pt x="6116" y="1"/>
                      <a:pt x="6117" y="1"/>
                    </a:cubicBezTo>
                    <a:close/>
                    <a:moveTo>
                      <a:pt x="6125" y="1"/>
                    </a:moveTo>
                    <a:lnTo>
                      <a:pt x="6125" y="1"/>
                    </a:lnTo>
                    <a:cubicBezTo>
                      <a:pt x="6126" y="1"/>
                      <a:pt x="6127" y="2"/>
                      <a:pt x="6127" y="3"/>
                    </a:cubicBezTo>
                    <a:cubicBezTo>
                      <a:pt x="6127" y="4"/>
                      <a:pt x="6126" y="5"/>
                      <a:pt x="6125" y="5"/>
                    </a:cubicBezTo>
                    <a:lnTo>
                      <a:pt x="6125" y="5"/>
                    </a:lnTo>
                    <a:cubicBezTo>
                      <a:pt x="6124" y="5"/>
                      <a:pt x="6123" y="4"/>
                      <a:pt x="6123" y="3"/>
                    </a:cubicBezTo>
                    <a:cubicBezTo>
                      <a:pt x="6123" y="2"/>
                      <a:pt x="6124" y="1"/>
                      <a:pt x="6125" y="1"/>
                    </a:cubicBezTo>
                    <a:close/>
                    <a:moveTo>
                      <a:pt x="6133" y="1"/>
                    </a:moveTo>
                    <a:lnTo>
                      <a:pt x="6133" y="1"/>
                    </a:lnTo>
                    <a:cubicBezTo>
                      <a:pt x="6134" y="1"/>
                      <a:pt x="6135" y="2"/>
                      <a:pt x="6135" y="3"/>
                    </a:cubicBezTo>
                    <a:cubicBezTo>
                      <a:pt x="6135" y="4"/>
                      <a:pt x="6134" y="5"/>
                      <a:pt x="6133" y="5"/>
                    </a:cubicBezTo>
                    <a:lnTo>
                      <a:pt x="6133" y="5"/>
                    </a:lnTo>
                    <a:cubicBezTo>
                      <a:pt x="6132" y="5"/>
                      <a:pt x="6131" y="4"/>
                      <a:pt x="6131" y="3"/>
                    </a:cubicBezTo>
                    <a:cubicBezTo>
                      <a:pt x="6131" y="2"/>
                      <a:pt x="6132" y="1"/>
                      <a:pt x="6133" y="1"/>
                    </a:cubicBezTo>
                    <a:close/>
                    <a:moveTo>
                      <a:pt x="6141" y="1"/>
                    </a:moveTo>
                    <a:lnTo>
                      <a:pt x="6141" y="1"/>
                    </a:lnTo>
                    <a:cubicBezTo>
                      <a:pt x="6142" y="1"/>
                      <a:pt x="6143" y="2"/>
                      <a:pt x="6143" y="3"/>
                    </a:cubicBezTo>
                    <a:cubicBezTo>
                      <a:pt x="6143" y="4"/>
                      <a:pt x="6142" y="5"/>
                      <a:pt x="6141" y="5"/>
                    </a:cubicBezTo>
                    <a:lnTo>
                      <a:pt x="6141" y="5"/>
                    </a:lnTo>
                    <a:cubicBezTo>
                      <a:pt x="6140" y="5"/>
                      <a:pt x="6139" y="4"/>
                      <a:pt x="6139" y="3"/>
                    </a:cubicBezTo>
                    <a:cubicBezTo>
                      <a:pt x="6139" y="2"/>
                      <a:pt x="6140" y="1"/>
                      <a:pt x="6141" y="1"/>
                    </a:cubicBezTo>
                    <a:close/>
                    <a:moveTo>
                      <a:pt x="6149" y="1"/>
                    </a:moveTo>
                    <a:lnTo>
                      <a:pt x="6149" y="1"/>
                    </a:lnTo>
                    <a:cubicBezTo>
                      <a:pt x="6150" y="1"/>
                      <a:pt x="6151" y="2"/>
                      <a:pt x="6151" y="3"/>
                    </a:cubicBezTo>
                    <a:cubicBezTo>
                      <a:pt x="6151" y="4"/>
                      <a:pt x="6150" y="5"/>
                      <a:pt x="6149" y="5"/>
                    </a:cubicBezTo>
                    <a:lnTo>
                      <a:pt x="6149" y="5"/>
                    </a:lnTo>
                    <a:cubicBezTo>
                      <a:pt x="6148" y="5"/>
                      <a:pt x="6147" y="4"/>
                      <a:pt x="6147" y="3"/>
                    </a:cubicBezTo>
                    <a:cubicBezTo>
                      <a:pt x="6147" y="2"/>
                      <a:pt x="6148" y="1"/>
                      <a:pt x="6149" y="1"/>
                    </a:cubicBezTo>
                    <a:close/>
                    <a:moveTo>
                      <a:pt x="6157" y="1"/>
                    </a:moveTo>
                    <a:lnTo>
                      <a:pt x="6157" y="1"/>
                    </a:lnTo>
                    <a:cubicBezTo>
                      <a:pt x="6158" y="1"/>
                      <a:pt x="6159" y="2"/>
                      <a:pt x="6159" y="3"/>
                    </a:cubicBezTo>
                    <a:cubicBezTo>
                      <a:pt x="6159" y="4"/>
                      <a:pt x="6158" y="5"/>
                      <a:pt x="6157" y="5"/>
                    </a:cubicBezTo>
                    <a:lnTo>
                      <a:pt x="6157" y="5"/>
                    </a:lnTo>
                    <a:cubicBezTo>
                      <a:pt x="6156" y="5"/>
                      <a:pt x="6155" y="4"/>
                      <a:pt x="6155" y="3"/>
                    </a:cubicBezTo>
                    <a:cubicBezTo>
                      <a:pt x="6155" y="2"/>
                      <a:pt x="6156" y="1"/>
                      <a:pt x="6157" y="1"/>
                    </a:cubicBezTo>
                    <a:close/>
                    <a:moveTo>
                      <a:pt x="6165" y="1"/>
                    </a:moveTo>
                    <a:lnTo>
                      <a:pt x="6165" y="1"/>
                    </a:lnTo>
                    <a:cubicBezTo>
                      <a:pt x="6166" y="1"/>
                      <a:pt x="6167" y="2"/>
                      <a:pt x="6167" y="3"/>
                    </a:cubicBezTo>
                    <a:cubicBezTo>
                      <a:pt x="6167" y="4"/>
                      <a:pt x="6166" y="5"/>
                      <a:pt x="6165" y="5"/>
                    </a:cubicBezTo>
                    <a:lnTo>
                      <a:pt x="6165" y="5"/>
                    </a:lnTo>
                    <a:cubicBezTo>
                      <a:pt x="6164" y="5"/>
                      <a:pt x="6163" y="4"/>
                      <a:pt x="6163" y="3"/>
                    </a:cubicBezTo>
                    <a:cubicBezTo>
                      <a:pt x="6163" y="2"/>
                      <a:pt x="6164" y="1"/>
                      <a:pt x="6165" y="1"/>
                    </a:cubicBezTo>
                    <a:close/>
                    <a:moveTo>
                      <a:pt x="6173" y="1"/>
                    </a:moveTo>
                    <a:lnTo>
                      <a:pt x="6173" y="1"/>
                    </a:lnTo>
                    <a:cubicBezTo>
                      <a:pt x="6174" y="1"/>
                      <a:pt x="6175" y="2"/>
                      <a:pt x="6175" y="3"/>
                    </a:cubicBezTo>
                    <a:cubicBezTo>
                      <a:pt x="6175" y="4"/>
                      <a:pt x="6174" y="5"/>
                      <a:pt x="6173" y="5"/>
                    </a:cubicBezTo>
                    <a:lnTo>
                      <a:pt x="6173" y="5"/>
                    </a:lnTo>
                    <a:cubicBezTo>
                      <a:pt x="6172" y="5"/>
                      <a:pt x="6171" y="4"/>
                      <a:pt x="6171" y="3"/>
                    </a:cubicBezTo>
                    <a:cubicBezTo>
                      <a:pt x="6171" y="2"/>
                      <a:pt x="6172" y="1"/>
                      <a:pt x="6173" y="1"/>
                    </a:cubicBezTo>
                    <a:close/>
                    <a:moveTo>
                      <a:pt x="6181" y="1"/>
                    </a:moveTo>
                    <a:lnTo>
                      <a:pt x="6181" y="1"/>
                    </a:lnTo>
                    <a:cubicBezTo>
                      <a:pt x="6182" y="1"/>
                      <a:pt x="6183" y="2"/>
                      <a:pt x="6183" y="3"/>
                    </a:cubicBezTo>
                    <a:cubicBezTo>
                      <a:pt x="6183" y="4"/>
                      <a:pt x="6182" y="5"/>
                      <a:pt x="6181" y="5"/>
                    </a:cubicBezTo>
                    <a:lnTo>
                      <a:pt x="6181" y="5"/>
                    </a:lnTo>
                    <a:cubicBezTo>
                      <a:pt x="6180" y="5"/>
                      <a:pt x="6179" y="4"/>
                      <a:pt x="6179" y="3"/>
                    </a:cubicBezTo>
                    <a:cubicBezTo>
                      <a:pt x="6179" y="2"/>
                      <a:pt x="6180" y="1"/>
                      <a:pt x="6181" y="1"/>
                    </a:cubicBezTo>
                    <a:close/>
                    <a:moveTo>
                      <a:pt x="6189" y="1"/>
                    </a:moveTo>
                    <a:lnTo>
                      <a:pt x="6189" y="1"/>
                    </a:lnTo>
                    <a:cubicBezTo>
                      <a:pt x="6190" y="1"/>
                      <a:pt x="6191" y="2"/>
                      <a:pt x="6191" y="3"/>
                    </a:cubicBezTo>
                    <a:cubicBezTo>
                      <a:pt x="6191" y="4"/>
                      <a:pt x="6190" y="5"/>
                      <a:pt x="6189" y="5"/>
                    </a:cubicBezTo>
                    <a:lnTo>
                      <a:pt x="6189" y="5"/>
                    </a:lnTo>
                    <a:cubicBezTo>
                      <a:pt x="6188" y="5"/>
                      <a:pt x="6187" y="4"/>
                      <a:pt x="6187" y="3"/>
                    </a:cubicBezTo>
                    <a:cubicBezTo>
                      <a:pt x="6187" y="2"/>
                      <a:pt x="6188" y="1"/>
                      <a:pt x="6189" y="1"/>
                    </a:cubicBezTo>
                    <a:close/>
                    <a:moveTo>
                      <a:pt x="6197" y="1"/>
                    </a:moveTo>
                    <a:lnTo>
                      <a:pt x="6197" y="1"/>
                    </a:lnTo>
                    <a:cubicBezTo>
                      <a:pt x="6198" y="1"/>
                      <a:pt x="6199" y="2"/>
                      <a:pt x="6199" y="3"/>
                    </a:cubicBezTo>
                    <a:cubicBezTo>
                      <a:pt x="6199" y="4"/>
                      <a:pt x="6198" y="5"/>
                      <a:pt x="6197" y="5"/>
                    </a:cubicBezTo>
                    <a:lnTo>
                      <a:pt x="6197" y="5"/>
                    </a:lnTo>
                    <a:cubicBezTo>
                      <a:pt x="6196" y="5"/>
                      <a:pt x="6195" y="4"/>
                      <a:pt x="6195" y="3"/>
                    </a:cubicBezTo>
                    <a:cubicBezTo>
                      <a:pt x="6195" y="2"/>
                      <a:pt x="6196" y="1"/>
                      <a:pt x="6197" y="1"/>
                    </a:cubicBezTo>
                    <a:close/>
                    <a:moveTo>
                      <a:pt x="6205" y="1"/>
                    </a:moveTo>
                    <a:lnTo>
                      <a:pt x="6205" y="1"/>
                    </a:lnTo>
                    <a:cubicBezTo>
                      <a:pt x="6206" y="1"/>
                      <a:pt x="6207" y="2"/>
                      <a:pt x="6207" y="3"/>
                    </a:cubicBezTo>
                    <a:cubicBezTo>
                      <a:pt x="6207" y="4"/>
                      <a:pt x="6206" y="5"/>
                      <a:pt x="6205" y="5"/>
                    </a:cubicBezTo>
                    <a:lnTo>
                      <a:pt x="6205" y="5"/>
                    </a:lnTo>
                    <a:cubicBezTo>
                      <a:pt x="6204" y="5"/>
                      <a:pt x="6203" y="4"/>
                      <a:pt x="6203" y="3"/>
                    </a:cubicBezTo>
                    <a:cubicBezTo>
                      <a:pt x="6203" y="2"/>
                      <a:pt x="6204" y="1"/>
                      <a:pt x="6205" y="1"/>
                    </a:cubicBezTo>
                    <a:close/>
                    <a:moveTo>
                      <a:pt x="6213" y="1"/>
                    </a:moveTo>
                    <a:lnTo>
                      <a:pt x="6213" y="1"/>
                    </a:lnTo>
                    <a:cubicBezTo>
                      <a:pt x="6214" y="1"/>
                      <a:pt x="6215" y="2"/>
                      <a:pt x="6215" y="3"/>
                    </a:cubicBezTo>
                    <a:cubicBezTo>
                      <a:pt x="6215" y="4"/>
                      <a:pt x="6214" y="5"/>
                      <a:pt x="6213" y="5"/>
                    </a:cubicBezTo>
                    <a:lnTo>
                      <a:pt x="6213" y="5"/>
                    </a:lnTo>
                    <a:cubicBezTo>
                      <a:pt x="6212" y="5"/>
                      <a:pt x="6211" y="4"/>
                      <a:pt x="6211" y="3"/>
                    </a:cubicBezTo>
                    <a:cubicBezTo>
                      <a:pt x="6211" y="2"/>
                      <a:pt x="6212" y="1"/>
                      <a:pt x="6213" y="1"/>
                    </a:cubicBezTo>
                    <a:close/>
                    <a:moveTo>
                      <a:pt x="6221" y="1"/>
                    </a:moveTo>
                    <a:lnTo>
                      <a:pt x="6221" y="1"/>
                    </a:lnTo>
                    <a:cubicBezTo>
                      <a:pt x="6222" y="1"/>
                      <a:pt x="6223" y="2"/>
                      <a:pt x="6223" y="3"/>
                    </a:cubicBezTo>
                    <a:cubicBezTo>
                      <a:pt x="6223" y="4"/>
                      <a:pt x="6222" y="5"/>
                      <a:pt x="6221" y="5"/>
                    </a:cubicBezTo>
                    <a:lnTo>
                      <a:pt x="6221" y="5"/>
                    </a:lnTo>
                    <a:cubicBezTo>
                      <a:pt x="6220" y="5"/>
                      <a:pt x="6219" y="4"/>
                      <a:pt x="6219" y="3"/>
                    </a:cubicBezTo>
                    <a:cubicBezTo>
                      <a:pt x="6219" y="2"/>
                      <a:pt x="6220" y="1"/>
                      <a:pt x="6221" y="1"/>
                    </a:cubicBezTo>
                    <a:close/>
                    <a:moveTo>
                      <a:pt x="6229" y="1"/>
                    </a:moveTo>
                    <a:lnTo>
                      <a:pt x="6229" y="1"/>
                    </a:lnTo>
                    <a:cubicBezTo>
                      <a:pt x="6230" y="1"/>
                      <a:pt x="6231" y="2"/>
                      <a:pt x="6231" y="3"/>
                    </a:cubicBezTo>
                    <a:cubicBezTo>
                      <a:pt x="6231" y="4"/>
                      <a:pt x="6230" y="5"/>
                      <a:pt x="6229" y="5"/>
                    </a:cubicBezTo>
                    <a:lnTo>
                      <a:pt x="6229" y="5"/>
                    </a:lnTo>
                    <a:cubicBezTo>
                      <a:pt x="6228" y="5"/>
                      <a:pt x="6227" y="4"/>
                      <a:pt x="6227" y="3"/>
                    </a:cubicBezTo>
                    <a:cubicBezTo>
                      <a:pt x="6227" y="2"/>
                      <a:pt x="6228" y="1"/>
                      <a:pt x="6229" y="1"/>
                    </a:cubicBezTo>
                    <a:close/>
                    <a:moveTo>
                      <a:pt x="6237" y="1"/>
                    </a:moveTo>
                    <a:lnTo>
                      <a:pt x="6237" y="1"/>
                    </a:lnTo>
                    <a:cubicBezTo>
                      <a:pt x="6238" y="1"/>
                      <a:pt x="6239" y="2"/>
                      <a:pt x="6239" y="3"/>
                    </a:cubicBezTo>
                    <a:cubicBezTo>
                      <a:pt x="6239" y="4"/>
                      <a:pt x="6238" y="5"/>
                      <a:pt x="6237" y="5"/>
                    </a:cubicBezTo>
                    <a:lnTo>
                      <a:pt x="6237" y="5"/>
                    </a:lnTo>
                    <a:cubicBezTo>
                      <a:pt x="6236" y="5"/>
                      <a:pt x="6235" y="4"/>
                      <a:pt x="6235" y="3"/>
                    </a:cubicBezTo>
                    <a:cubicBezTo>
                      <a:pt x="6235" y="2"/>
                      <a:pt x="6236" y="1"/>
                      <a:pt x="6237" y="1"/>
                    </a:cubicBezTo>
                    <a:close/>
                    <a:moveTo>
                      <a:pt x="6245" y="1"/>
                    </a:moveTo>
                    <a:lnTo>
                      <a:pt x="6245" y="1"/>
                    </a:lnTo>
                    <a:cubicBezTo>
                      <a:pt x="6246" y="1"/>
                      <a:pt x="6247" y="2"/>
                      <a:pt x="6247" y="3"/>
                    </a:cubicBezTo>
                    <a:cubicBezTo>
                      <a:pt x="6247" y="4"/>
                      <a:pt x="6246" y="5"/>
                      <a:pt x="6245" y="5"/>
                    </a:cubicBezTo>
                    <a:lnTo>
                      <a:pt x="6245" y="5"/>
                    </a:lnTo>
                    <a:cubicBezTo>
                      <a:pt x="6244" y="5"/>
                      <a:pt x="6243" y="4"/>
                      <a:pt x="6243" y="3"/>
                    </a:cubicBezTo>
                    <a:cubicBezTo>
                      <a:pt x="6243" y="2"/>
                      <a:pt x="6244" y="1"/>
                      <a:pt x="6245" y="1"/>
                    </a:cubicBezTo>
                    <a:close/>
                    <a:moveTo>
                      <a:pt x="6253" y="1"/>
                    </a:moveTo>
                    <a:lnTo>
                      <a:pt x="6253" y="1"/>
                    </a:lnTo>
                    <a:cubicBezTo>
                      <a:pt x="6254" y="1"/>
                      <a:pt x="6255" y="2"/>
                      <a:pt x="6255" y="3"/>
                    </a:cubicBezTo>
                    <a:cubicBezTo>
                      <a:pt x="6255" y="4"/>
                      <a:pt x="6254" y="5"/>
                      <a:pt x="6253" y="5"/>
                    </a:cubicBezTo>
                    <a:lnTo>
                      <a:pt x="6253" y="5"/>
                    </a:lnTo>
                    <a:cubicBezTo>
                      <a:pt x="6252" y="5"/>
                      <a:pt x="6251" y="4"/>
                      <a:pt x="6251" y="3"/>
                    </a:cubicBezTo>
                    <a:cubicBezTo>
                      <a:pt x="6251" y="2"/>
                      <a:pt x="6252" y="1"/>
                      <a:pt x="6253" y="1"/>
                    </a:cubicBezTo>
                    <a:close/>
                    <a:moveTo>
                      <a:pt x="6261" y="1"/>
                    </a:moveTo>
                    <a:lnTo>
                      <a:pt x="6261" y="1"/>
                    </a:lnTo>
                    <a:cubicBezTo>
                      <a:pt x="6262" y="1"/>
                      <a:pt x="6263" y="2"/>
                      <a:pt x="6263" y="3"/>
                    </a:cubicBezTo>
                    <a:cubicBezTo>
                      <a:pt x="6263" y="4"/>
                      <a:pt x="6262" y="5"/>
                      <a:pt x="6261" y="5"/>
                    </a:cubicBezTo>
                    <a:lnTo>
                      <a:pt x="6261" y="5"/>
                    </a:lnTo>
                    <a:cubicBezTo>
                      <a:pt x="6260" y="5"/>
                      <a:pt x="6259" y="4"/>
                      <a:pt x="6259" y="3"/>
                    </a:cubicBezTo>
                    <a:cubicBezTo>
                      <a:pt x="6259" y="2"/>
                      <a:pt x="6260" y="1"/>
                      <a:pt x="6261" y="1"/>
                    </a:cubicBezTo>
                    <a:close/>
                    <a:moveTo>
                      <a:pt x="6269" y="1"/>
                    </a:moveTo>
                    <a:lnTo>
                      <a:pt x="6269" y="1"/>
                    </a:lnTo>
                    <a:cubicBezTo>
                      <a:pt x="6270" y="1"/>
                      <a:pt x="6271" y="2"/>
                      <a:pt x="6271" y="3"/>
                    </a:cubicBezTo>
                    <a:cubicBezTo>
                      <a:pt x="6271" y="4"/>
                      <a:pt x="6270" y="5"/>
                      <a:pt x="6269" y="5"/>
                    </a:cubicBezTo>
                    <a:lnTo>
                      <a:pt x="6269" y="5"/>
                    </a:lnTo>
                    <a:cubicBezTo>
                      <a:pt x="6268" y="5"/>
                      <a:pt x="6267" y="4"/>
                      <a:pt x="6267" y="3"/>
                    </a:cubicBezTo>
                    <a:cubicBezTo>
                      <a:pt x="6267" y="2"/>
                      <a:pt x="6268" y="1"/>
                      <a:pt x="6269" y="1"/>
                    </a:cubicBezTo>
                    <a:close/>
                    <a:moveTo>
                      <a:pt x="6277" y="1"/>
                    </a:moveTo>
                    <a:lnTo>
                      <a:pt x="6277" y="1"/>
                    </a:lnTo>
                    <a:cubicBezTo>
                      <a:pt x="6278" y="1"/>
                      <a:pt x="6279" y="2"/>
                      <a:pt x="6279" y="3"/>
                    </a:cubicBezTo>
                    <a:cubicBezTo>
                      <a:pt x="6279" y="4"/>
                      <a:pt x="6278" y="5"/>
                      <a:pt x="6277" y="5"/>
                    </a:cubicBezTo>
                    <a:lnTo>
                      <a:pt x="6277" y="5"/>
                    </a:lnTo>
                    <a:cubicBezTo>
                      <a:pt x="6276" y="5"/>
                      <a:pt x="6275" y="4"/>
                      <a:pt x="6275" y="3"/>
                    </a:cubicBezTo>
                    <a:cubicBezTo>
                      <a:pt x="6275" y="2"/>
                      <a:pt x="6276" y="1"/>
                      <a:pt x="6277" y="1"/>
                    </a:cubicBezTo>
                    <a:close/>
                    <a:moveTo>
                      <a:pt x="6285" y="1"/>
                    </a:moveTo>
                    <a:lnTo>
                      <a:pt x="6285" y="1"/>
                    </a:lnTo>
                    <a:cubicBezTo>
                      <a:pt x="6286" y="1"/>
                      <a:pt x="6287" y="2"/>
                      <a:pt x="6287" y="3"/>
                    </a:cubicBezTo>
                    <a:cubicBezTo>
                      <a:pt x="6287" y="4"/>
                      <a:pt x="6286" y="5"/>
                      <a:pt x="6285" y="5"/>
                    </a:cubicBezTo>
                    <a:lnTo>
                      <a:pt x="6285" y="5"/>
                    </a:lnTo>
                    <a:cubicBezTo>
                      <a:pt x="6284" y="5"/>
                      <a:pt x="6283" y="4"/>
                      <a:pt x="6283" y="3"/>
                    </a:cubicBezTo>
                    <a:cubicBezTo>
                      <a:pt x="6283" y="2"/>
                      <a:pt x="6284" y="1"/>
                      <a:pt x="6285" y="1"/>
                    </a:cubicBezTo>
                    <a:close/>
                    <a:moveTo>
                      <a:pt x="6293" y="1"/>
                    </a:moveTo>
                    <a:lnTo>
                      <a:pt x="6293" y="1"/>
                    </a:lnTo>
                    <a:cubicBezTo>
                      <a:pt x="6294" y="1"/>
                      <a:pt x="6295" y="2"/>
                      <a:pt x="6295" y="3"/>
                    </a:cubicBezTo>
                    <a:cubicBezTo>
                      <a:pt x="6295" y="4"/>
                      <a:pt x="6294" y="5"/>
                      <a:pt x="6293" y="5"/>
                    </a:cubicBezTo>
                    <a:lnTo>
                      <a:pt x="6293" y="5"/>
                    </a:lnTo>
                    <a:cubicBezTo>
                      <a:pt x="6292" y="5"/>
                      <a:pt x="6291" y="4"/>
                      <a:pt x="6291" y="3"/>
                    </a:cubicBezTo>
                    <a:cubicBezTo>
                      <a:pt x="6291" y="2"/>
                      <a:pt x="6292" y="1"/>
                      <a:pt x="6293" y="1"/>
                    </a:cubicBezTo>
                    <a:close/>
                    <a:moveTo>
                      <a:pt x="6301" y="1"/>
                    </a:moveTo>
                    <a:lnTo>
                      <a:pt x="6301" y="1"/>
                    </a:lnTo>
                    <a:cubicBezTo>
                      <a:pt x="6302" y="1"/>
                      <a:pt x="6303" y="2"/>
                      <a:pt x="6303" y="3"/>
                    </a:cubicBezTo>
                    <a:cubicBezTo>
                      <a:pt x="6303" y="4"/>
                      <a:pt x="6302" y="5"/>
                      <a:pt x="6301" y="5"/>
                    </a:cubicBezTo>
                    <a:lnTo>
                      <a:pt x="6301" y="5"/>
                    </a:lnTo>
                    <a:cubicBezTo>
                      <a:pt x="6300" y="5"/>
                      <a:pt x="6299" y="4"/>
                      <a:pt x="6299" y="3"/>
                    </a:cubicBezTo>
                    <a:cubicBezTo>
                      <a:pt x="6299" y="2"/>
                      <a:pt x="6300" y="1"/>
                      <a:pt x="6301" y="1"/>
                    </a:cubicBezTo>
                    <a:close/>
                    <a:moveTo>
                      <a:pt x="6309" y="1"/>
                    </a:moveTo>
                    <a:lnTo>
                      <a:pt x="6309" y="1"/>
                    </a:lnTo>
                    <a:cubicBezTo>
                      <a:pt x="6310" y="1"/>
                      <a:pt x="6311" y="2"/>
                      <a:pt x="6311" y="3"/>
                    </a:cubicBezTo>
                    <a:cubicBezTo>
                      <a:pt x="6311" y="4"/>
                      <a:pt x="6310" y="5"/>
                      <a:pt x="6309" y="5"/>
                    </a:cubicBezTo>
                    <a:lnTo>
                      <a:pt x="6309" y="5"/>
                    </a:lnTo>
                    <a:cubicBezTo>
                      <a:pt x="6308" y="5"/>
                      <a:pt x="6307" y="4"/>
                      <a:pt x="6307" y="3"/>
                    </a:cubicBezTo>
                    <a:cubicBezTo>
                      <a:pt x="6307" y="2"/>
                      <a:pt x="6308" y="1"/>
                      <a:pt x="6309" y="1"/>
                    </a:cubicBezTo>
                    <a:close/>
                    <a:moveTo>
                      <a:pt x="6317" y="1"/>
                    </a:moveTo>
                    <a:lnTo>
                      <a:pt x="6317" y="1"/>
                    </a:lnTo>
                    <a:cubicBezTo>
                      <a:pt x="6318" y="1"/>
                      <a:pt x="6319" y="2"/>
                      <a:pt x="6319" y="3"/>
                    </a:cubicBezTo>
                    <a:cubicBezTo>
                      <a:pt x="6319" y="4"/>
                      <a:pt x="6318" y="5"/>
                      <a:pt x="6317" y="5"/>
                    </a:cubicBezTo>
                    <a:lnTo>
                      <a:pt x="6317" y="5"/>
                    </a:lnTo>
                    <a:cubicBezTo>
                      <a:pt x="6316" y="5"/>
                      <a:pt x="6315" y="4"/>
                      <a:pt x="6315" y="3"/>
                    </a:cubicBezTo>
                    <a:cubicBezTo>
                      <a:pt x="6315" y="2"/>
                      <a:pt x="6316" y="1"/>
                      <a:pt x="6317" y="1"/>
                    </a:cubicBezTo>
                    <a:close/>
                    <a:moveTo>
                      <a:pt x="6325" y="1"/>
                    </a:moveTo>
                    <a:lnTo>
                      <a:pt x="6325" y="1"/>
                    </a:lnTo>
                    <a:cubicBezTo>
                      <a:pt x="6326" y="1"/>
                      <a:pt x="6327" y="2"/>
                      <a:pt x="6327" y="3"/>
                    </a:cubicBezTo>
                    <a:cubicBezTo>
                      <a:pt x="6327" y="4"/>
                      <a:pt x="6326" y="5"/>
                      <a:pt x="6325" y="5"/>
                    </a:cubicBezTo>
                    <a:lnTo>
                      <a:pt x="6325" y="5"/>
                    </a:lnTo>
                    <a:cubicBezTo>
                      <a:pt x="6324" y="5"/>
                      <a:pt x="6323" y="4"/>
                      <a:pt x="6323" y="3"/>
                    </a:cubicBezTo>
                    <a:cubicBezTo>
                      <a:pt x="6323" y="2"/>
                      <a:pt x="6324" y="1"/>
                      <a:pt x="6325" y="1"/>
                    </a:cubicBezTo>
                    <a:close/>
                    <a:moveTo>
                      <a:pt x="6333" y="1"/>
                    </a:moveTo>
                    <a:lnTo>
                      <a:pt x="6333" y="1"/>
                    </a:lnTo>
                    <a:cubicBezTo>
                      <a:pt x="6334" y="1"/>
                      <a:pt x="6335" y="2"/>
                      <a:pt x="6335" y="3"/>
                    </a:cubicBezTo>
                    <a:cubicBezTo>
                      <a:pt x="6335" y="4"/>
                      <a:pt x="6334" y="5"/>
                      <a:pt x="6333" y="5"/>
                    </a:cubicBezTo>
                    <a:lnTo>
                      <a:pt x="6333" y="5"/>
                    </a:lnTo>
                    <a:cubicBezTo>
                      <a:pt x="6332" y="5"/>
                      <a:pt x="6331" y="4"/>
                      <a:pt x="6331" y="3"/>
                    </a:cubicBezTo>
                    <a:cubicBezTo>
                      <a:pt x="6331" y="2"/>
                      <a:pt x="6332" y="1"/>
                      <a:pt x="6333" y="1"/>
                    </a:cubicBezTo>
                    <a:close/>
                    <a:moveTo>
                      <a:pt x="6341" y="1"/>
                    </a:moveTo>
                    <a:lnTo>
                      <a:pt x="6341" y="1"/>
                    </a:lnTo>
                    <a:cubicBezTo>
                      <a:pt x="6342" y="1"/>
                      <a:pt x="6343" y="2"/>
                      <a:pt x="6343" y="3"/>
                    </a:cubicBezTo>
                    <a:cubicBezTo>
                      <a:pt x="6343" y="4"/>
                      <a:pt x="6342" y="5"/>
                      <a:pt x="6341" y="5"/>
                    </a:cubicBezTo>
                    <a:lnTo>
                      <a:pt x="6341" y="5"/>
                    </a:lnTo>
                    <a:cubicBezTo>
                      <a:pt x="6340" y="5"/>
                      <a:pt x="6339" y="4"/>
                      <a:pt x="6339" y="3"/>
                    </a:cubicBezTo>
                    <a:cubicBezTo>
                      <a:pt x="6339" y="2"/>
                      <a:pt x="6340" y="1"/>
                      <a:pt x="6341" y="1"/>
                    </a:cubicBezTo>
                    <a:close/>
                    <a:moveTo>
                      <a:pt x="6349" y="1"/>
                    </a:moveTo>
                    <a:lnTo>
                      <a:pt x="6349" y="1"/>
                    </a:lnTo>
                    <a:cubicBezTo>
                      <a:pt x="6350" y="1"/>
                      <a:pt x="6351" y="2"/>
                      <a:pt x="6351" y="3"/>
                    </a:cubicBezTo>
                    <a:cubicBezTo>
                      <a:pt x="6351" y="4"/>
                      <a:pt x="6350" y="5"/>
                      <a:pt x="6349" y="5"/>
                    </a:cubicBezTo>
                    <a:lnTo>
                      <a:pt x="6349" y="5"/>
                    </a:lnTo>
                    <a:cubicBezTo>
                      <a:pt x="6348" y="5"/>
                      <a:pt x="6347" y="4"/>
                      <a:pt x="6347" y="3"/>
                    </a:cubicBezTo>
                    <a:cubicBezTo>
                      <a:pt x="6347" y="2"/>
                      <a:pt x="6348" y="1"/>
                      <a:pt x="6349" y="1"/>
                    </a:cubicBezTo>
                    <a:close/>
                    <a:moveTo>
                      <a:pt x="6357" y="1"/>
                    </a:moveTo>
                    <a:lnTo>
                      <a:pt x="6357" y="1"/>
                    </a:lnTo>
                    <a:cubicBezTo>
                      <a:pt x="6358" y="1"/>
                      <a:pt x="6359" y="2"/>
                      <a:pt x="6359" y="3"/>
                    </a:cubicBezTo>
                    <a:cubicBezTo>
                      <a:pt x="6359" y="4"/>
                      <a:pt x="6358" y="5"/>
                      <a:pt x="6357" y="5"/>
                    </a:cubicBezTo>
                    <a:lnTo>
                      <a:pt x="6357" y="5"/>
                    </a:lnTo>
                    <a:cubicBezTo>
                      <a:pt x="6356" y="5"/>
                      <a:pt x="6355" y="4"/>
                      <a:pt x="6355" y="3"/>
                    </a:cubicBezTo>
                    <a:cubicBezTo>
                      <a:pt x="6355" y="2"/>
                      <a:pt x="6356" y="1"/>
                      <a:pt x="6357" y="1"/>
                    </a:cubicBezTo>
                    <a:close/>
                    <a:moveTo>
                      <a:pt x="6365" y="1"/>
                    </a:moveTo>
                    <a:lnTo>
                      <a:pt x="6365" y="1"/>
                    </a:lnTo>
                    <a:cubicBezTo>
                      <a:pt x="6366" y="1"/>
                      <a:pt x="6367" y="2"/>
                      <a:pt x="6367" y="3"/>
                    </a:cubicBezTo>
                    <a:cubicBezTo>
                      <a:pt x="6367" y="4"/>
                      <a:pt x="6366" y="5"/>
                      <a:pt x="6365" y="5"/>
                    </a:cubicBezTo>
                    <a:lnTo>
                      <a:pt x="6365" y="5"/>
                    </a:lnTo>
                    <a:cubicBezTo>
                      <a:pt x="6364" y="5"/>
                      <a:pt x="6363" y="4"/>
                      <a:pt x="6363" y="3"/>
                    </a:cubicBezTo>
                    <a:cubicBezTo>
                      <a:pt x="6363" y="2"/>
                      <a:pt x="6364" y="1"/>
                      <a:pt x="6365" y="1"/>
                    </a:cubicBezTo>
                    <a:close/>
                    <a:moveTo>
                      <a:pt x="6373" y="1"/>
                    </a:moveTo>
                    <a:lnTo>
                      <a:pt x="6373" y="1"/>
                    </a:lnTo>
                    <a:cubicBezTo>
                      <a:pt x="6374" y="1"/>
                      <a:pt x="6375" y="2"/>
                      <a:pt x="6375" y="3"/>
                    </a:cubicBezTo>
                    <a:cubicBezTo>
                      <a:pt x="6375" y="4"/>
                      <a:pt x="6374" y="5"/>
                      <a:pt x="6373" y="5"/>
                    </a:cubicBezTo>
                    <a:lnTo>
                      <a:pt x="6373" y="5"/>
                    </a:lnTo>
                    <a:cubicBezTo>
                      <a:pt x="6372" y="5"/>
                      <a:pt x="6371" y="4"/>
                      <a:pt x="6371" y="3"/>
                    </a:cubicBezTo>
                    <a:cubicBezTo>
                      <a:pt x="6371" y="2"/>
                      <a:pt x="6372" y="1"/>
                      <a:pt x="6373" y="1"/>
                    </a:cubicBezTo>
                    <a:close/>
                    <a:moveTo>
                      <a:pt x="6381" y="1"/>
                    </a:moveTo>
                    <a:lnTo>
                      <a:pt x="6381" y="1"/>
                    </a:lnTo>
                    <a:cubicBezTo>
                      <a:pt x="6382" y="1"/>
                      <a:pt x="6383" y="2"/>
                      <a:pt x="6383" y="3"/>
                    </a:cubicBezTo>
                    <a:cubicBezTo>
                      <a:pt x="6383" y="4"/>
                      <a:pt x="6382" y="5"/>
                      <a:pt x="6381" y="5"/>
                    </a:cubicBezTo>
                    <a:lnTo>
                      <a:pt x="6381" y="5"/>
                    </a:lnTo>
                    <a:cubicBezTo>
                      <a:pt x="6380" y="5"/>
                      <a:pt x="6379" y="4"/>
                      <a:pt x="6379" y="3"/>
                    </a:cubicBezTo>
                    <a:cubicBezTo>
                      <a:pt x="6379" y="2"/>
                      <a:pt x="6380" y="1"/>
                      <a:pt x="6381" y="1"/>
                    </a:cubicBezTo>
                    <a:close/>
                    <a:moveTo>
                      <a:pt x="6389" y="1"/>
                    </a:moveTo>
                    <a:lnTo>
                      <a:pt x="6389" y="1"/>
                    </a:lnTo>
                    <a:cubicBezTo>
                      <a:pt x="6390" y="1"/>
                      <a:pt x="6391" y="2"/>
                      <a:pt x="6391" y="3"/>
                    </a:cubicBezTo>
                    <a:cubicBezTo>
                      <a:pt x="6391" y="4"/>
                      <a:pt x="6390" y="5"/>
                      <a:pt x="6389" y="5"/>
                    </a:cubicBezTo>
                    <a:lnTo>
                      <a:pt x="6389" y="5"/>
                    </a:lnTo>
                    <a:cubicBezTo>
                      <a:pt x="6388" y="5"/>
                      <a:pt x="6387" y="4"/>
                      <a:pt x="6387" y="3"/>
                    </a:cubicBezTo>
                    <a:cubicBezTo>
                      <a:pt x="6387" y="2"/>
                      <a:pt x="6388" y="1"/>
                      <a:pt x="6389" y="1"/>
                    </a:cubicBezTo>
                    <a:close/>
                    <a:moveTo>
                      <a:pt x="6397" y="1"/>
                    </a:moveTo>
                    <a:lnTo>
                      <a:pt x="6397" y="1"/>
                    </a:lnTo>
                    <a:cubicBezTo>
                      <a:pt x="6398" y="1"/>
                      <a:pt x="6399" y="2"/>
                      <a:pt x="6399" y="3"/>
                    </a:cubicBezTo>
                    <a:cubicBezTo>
                      <a:pt x="6399" y="4"/>
                      <a:pt x="6398" y="5"/>
                      <a:pt x="6397" y="5"/>
                    </a:cubicBezTo>
                    <a:lnTo>
                      <a:pt x="6397" y="5"/>
                    </a:lnTo>
                    <a:cubicBezTo>
                      <a:pt x="6396" y="5"/>
                      <a:pt x="6395" y="4"/>
                      <a:pt x="6395" y="3"/>
                    </a:cubicBezTo>
                    <a:cubicBezTo>
                      <a:pt x="6395" y="2"/>
                      <a:pt x="6396" y="1"/>
                      <a:pt x="6397" y="1"/>
                    </a:cubicBezTo>
                    <a:close/>
                    <a:moveTo>
                      <a:pt x="6405" y="1"/>
                    </a:moveTo>
                    <a:lnTo>
                      <a:pt x="6405" y="1"/>
                    </a:lnTo>
                    <a:cubicBezTo>
                      <a:pt x="6406" y="1"/>
                      <a:pt x="6407" y="2"/>
                      <a:pt x="6407" y="3"/>
                    </a:cubicBezTo>
                    <a:cubicBezTo>
                      <a:pt x="6407" y="4"/>
                      <a:pt x="6406" y="5"/>
                      <a:pt x="6405" y="5"/>
                    </a:cubicBezTo>
                    <a:lnTo>
                      <a:pt x="6405" y="5"/>
                    </a:lnTo>
                    <a:cubicBezTo>
                      <a:pt x="6404" y="5"/>
                      <a:pt x="6403" y="4"/>
                      <a:pt x="6403" y="3"/>
                    </a:cubicBezTo>
                    <a:cubicBezTo>
                      <a:pt x="6403" y="2"/>
                      <a:pt x="6404" y="1"/>
                      <a:pt x="6405" y="1"/>
                    </a:cubicBezTo>
                    <a:close/>
                    <a:moveTo>
                      <a:pt x="6413" y="1"/>
                    </a:moveTo>
                    <a:lnTo>
                      <a:pt x="6413" y="1"/>
                    </a:lnTo>
                    <a:cubicBezTo>
                      <a:pt x="6414" y="1"/>
                      <a:pt x="6415" y="2"/>
                      <a:pt x="6415" y="3"/>
                    </a:cubicBezTo>
                    <a:cubicBezTo>
                      <a:pt x="6415" y="4"/>
                      <a:pt x="6414" y="5"/>
                      <a:pt x="6413" y="5"/>
                    </a:cubicBezTo>
                    <a:lnTo>
                      <a:pt x="6413" y="5"/>
                    </a:lnTo>
                    <a:cubicBezTo>
                      <a:pt x="6412" y="5"/>
                      <a:pt x="6411" y="4"/>
                      <a:pt x="6411" y="3"/>
                    </a:cubicBezTo>
                    <a:cubicBezTo>
                      <a:pt x="6411" y="2"/>
                      <a:pt x="6412" y="1"/>
                      <a:pt x="6413" y="1"/>
                    </a:cubicBezTo>
                    <a:close/>
                    <a:moveTo>
                      <a:pt x="6421" y="1"/>
                    </a:moveTo>
                    <a:lnTo>
                      <a:pt x="6421" y="1"/>
                    </a:lnTo>
                    <a:cubicBezTo>
                      <a:pt x="6422" y="1"/>
                      <a:pt x="6423" y="2"/>
                      <a:pt x="6423" y="3"/>
                    </a:cubicBezTo>
                    <a:cubicBezTo>
                      <a:pt x="6423" y="4"/>
                      <a:pt x="6422" y="5"/>
                      <a:pt x="6421" y="5"/>
                    </a:cubicBezTo>
                    <a:lnTo>
                      <a:pt x="6421" y="5"/>
                    </a:lnTo>
                    <a:cubicBezTo>
                      <a:pt x="6420" y="5"/>
                      <a:pt x="6419" y="4"/>
                      <a:pt x="6419" y="3"/>
                    </a:cubicBezTo>
                    <a:cubicBezTo>
                      <a:pt x="6419" y="2"/>
                      <a:pt x="6420" y="1"/>
                      <a:pt x="6421" y="1"/>
                    </a:cubicBezTo>
                    <a:close/>
                    <a:moveTo>
                      <a:pt x="6429" y="1"/>
                    </a:moveTo>
                    <a:lnTo>
                      <a:pt x="6429" y="1"/>
                    </a:lnTo>
                    <a:cubicBezTo>
                      <a:pt x="6430" y="1"/>
                      <a:pt x="6431" y="2"/>
                      <a:pt x="6431" y="3"/>
                    </a:cubicBezTo>
                    <a:cubicBezTo>
                      <a:pt x="6431" y="4"/>
                      <a:pt x="6430" y="5"/>
                      <a:pt x="6429" y="5"/>
                    </a:cubicBezTo>
                    <a:lnTo>
                      <a:pt x="6429" y="5"/>
                    </a:lnTo>
                    <a:cubicBezTo>
                      <a:pt x="6428" y="5"/>
                      <a:pt x="6427" y="4"/>
                      <a:pt x="6427" y="3"/>
                    </a:cubicBezTo>
                    <a:cubicBezTo>
                      <a:pt x="6427" y="2"/>
                      <a:pt x="6428" y="1"/>
                      <a:pt x="6429" y="1"/>
                    </a:cubicBezTo>
                    <a:close/>
                    <a:moveTo>
                      <a:pt x="6437" y="1"/>
                    </a:moveTo>
                    <a:lnTo>
                      <a:pt x="6437" y="1"/>
                    </a:lnTo>
                    <a:cubicBezTo>
                      <a:pt x="6438" y="1"/>
                      <a:pt x="6439" y="2"/>
                      <a:pt x="6439" y="3"/>
                    </a:cubicBezTo>
                    <a:cubicBezTo>
                      <a:pt x="6439" y="4"/>
                      <a:pt x="6438" y="5"/>
                      <a:pt x="6437" y="5"/>
                    </a:cubicBezTo>
                    <a:lnTo>
                      <a:pt x="6437" y="5"/>
                    </a:lnTo>
                    <a:cubicBezTo>
                      <a:pt x="6436" y="5"/>
                      <a:pt x="6435" y="4"/>
                      <a:pt x="6435" y="3"/>
                    </a:cubicBezTo>
                    <a:cubicBezTo>
                      <a:pt x="6435" y="2"/>
                      <a:pt x="6436" y="1"/>
                      <a:pt x="6437" y="1"/>
                    </a:cubicBezTo>
                    <a:close/>
                    <a:moveTo>
                      <a:pt x="6445" y="1"/>
                    </a:moveTo>
                    <a:lnTo>
                      <a:pt x="6445" y="1"/>
                    </a:lnTo>
                    <a:cubicBezTo>
                      <a:pt x="6446" y="1"/>
                      <a:pt x="6447" y="2"/>
                      <a:pt x="6447" y="3"/>
                    </a:cubicBezTo>
                    <a:cubicBezTo>
                      <a:pt x="6447" y="4"/>
                      <a:pt x="6446" y="5"/>
                      <a:pt x="6445" y="5"/>
                    </a:cubicBezTo>
                    <a:lnTo>
                      <a:pt x="6445" y="5"/>
                    </a:lnTo>
                    <a:cubicBezTo>
                      <a:pt x="6444" y="5"/>
                      <a:pt x="6443" y="4"/>
                      <a:pt x="6443" y="3"/>
                    </a:cubicBezTo>
                    <a:cubicBezTo>
                      <a:pt x="6443" y="2"/>
                      <a:pt x="6444" y="1"/>
                      <a:pt x="6445" y="1"/>
                    </a:cubicBezTo>
                    <a:close/>
                    <a:moveTo>
                      <a:pt x="6453" y="1"/>
                    </a:moveTo>
                    <a:lnTo>
                      <a:pt x="6453" y="1"/>
                    </a:lnTo>
                    <a:cubicBezTo>
                      <a:pt x="6454" y="1"/>
                      <a:pt x="6455" y="2"/>
                      <a:pt x="6455" y="3"/>
                    </a:cubicBezTo>
                    <a:cubicBezTo>
                      <a:pt x="6455" y="4"/>
                      <a:pt x="6454" y="5"/>
                      <a:pt x="6453" y="5"/>
                    </a:cubicBezTo>
                    <a:lnTo>
                      <a:pt x="6453" y="5"/>
                    </a:lnTo>
                    <a:cubicBezTo>
                      <a:pt x="6452" y="5"/>
                      <a:pt x="6451" y="4"/>
                      <a:pt x="6451" y="3"/>
                    </a:cubicBezTo>
                    <a:cubicBezTo>
                      <a:pt x="6451" y="2"/>
                      <a:pt x="6452" y="1"/>
                      <a:pt x="6453" y="1"/>
                    </a:cubicBezTo>
                    <a:close/>
                    <a:moveTo>
                      <a:pt x="6461" y="1"/>
                    </a:moveTo>
                    <a:lnTo>
                      <a:pt x="6461" y="1"/>
                    </a:lnTo>
                    <a:cubicBezTo>
                      <a:pt x="6462" y="1"/>
                      <a:pt x="6463" y="2"/>
                      <a:pt x="6463" y="3"/>
                    </a:cubicBezTo>
                    <a:cubicBezTo>
                      <a:pt x="6463" y="4"/>
                      <a:pt x="6462" y="5"/>
                      <a:pt x="6461" y="5"/>
                    </a:cubicBezTo>
                    <a:lnTo>
                      <a:pt x="6461" y="5"/>
                    </a:lnTo>
                    <a:cubicBezTo>
                      <a:pt x="6460" y="5"/>
                      <a:pt x="6459" y="4"/>
                      <a:pt x="6459" y="3"/>
                    </a:cubicBezTo>
                    <a:cubicBezTo>
                      <a:pt x="6459" y="2"/>
                      <a:pt x="6460" y="1"/>
                      <a:pt x="6461" y="1"/>
                    </a:cubicBezTo>
                    <a:close/>
                    <a:moveTo>
                      <a:pt x="6469" y="1"/>
                    </a:moveTo>
                    <a:lnTo>
                      <a:pt x="6469" y="1"/>
                    </a:lnTo>
                    <a:cubicBezTo>
                      <a:pt x="6470" y="1"/>
                      <a:pt x="6471" y="2"/>
                      <a:pt x="6471" y="3"/>
                    </a:cubicBezTo>
                    <a:cubicBezTo>
                      <a:pt x="6471" y="4"/>
                      <a:pt x="6470" y="5"/>
                      <a:pt x="6469" y="5"/>
                    </a:cubicBezTo>
                    <a:lnTo>
                      <a:pt x="6469" y="5"/>
                    </a:lnTo>
                    <a:cubicBezTo>
                      <a:pt x="6468" y="5"/>
                      <a:pt x="6467" y="4"/>
                      <a:pt x="6467" y="3"/>
                    </a:cubicBezTo>
                    <a:cubicBezTo>
                      <a:pt x="6467" y="2"/>
                      <a:pt x="6468" y="1"/>
                      <a:pt x="6469" y="1"/>
                    </a:cubicBezTo>
                    <a:close/>
                    <a:moveTo>
                      <a:pt x="6477" y="1"/>
                    </a:moveTo>
                    <a:lnTo>
                      <a:pt x="6477" y="1"/>
                    </a:lnTo>
                    <a:cubicBezTo>
                      <a:pt x="6478" y="1"/>
                      <a:pt x="6479" y="2"/>
                      <a:pt x="6479" y="3"/>
                    </a:cubicBezTo>
                    <a:cubicBezTo>
                      <a:pt x="6479" y="4"/>
                      <a:pt x="6478" y="5"/>
                      <a:pt x="6477" y="5"/>
                    </a:cubicBezTo>
                    <a:lnTo>
                      <a:pt x="6477" y="5"/>
                    </a:lnTo>
                    <a:cubicBezTo>
                      <a:pt x="6476" y="5"/>
                      <a:pt x="6475" y="4"/>
                      <a:pt x="6475" y="3"/>
                    </a:cubicBezTo>
                    <a:cubicBezTo>
                      <a:pt x="6475" y="2"/>
                      <a:pt x="6476" y="1"/>
                      <a:pt x="6477" y="1"/>
                    </a:cubicBezTo>
                    <a:close/>
                    <a:moveTo>
                      <a:pt x="6485" y="1"/>
                    </a:moveTo>
                    <a:lnTo>
                      <a:pt x="6485" y="1"/>
                    </a:lnTo>
                    <a:cubicBezTo>
                      <a:pt x="6486" y="1"/>
                      <a:pt x="6487" y="2"/>
                      <a:pt x="6487" y="3"/>
                    </a:cubicBezTo>
                    <a:cubicBezTo>
                      <a:pt x="6487" y="4"/>
                      <a:pt x="6486" y="5"/>
                      <a:pt x="6485" y="5"/>
                    </a:cubicBezTo>
                    <a:lnTo>
                      <a:pt x="6485" y="5"/>
                    </a:lnTo>
                    <a:cubicBezTo>
                      <a:pt x="6484" y="5"/>
                      <a:pt x="6483" y="4"/>
                      <a:pt x="6483" y="3"/>
                    </a:cubicBezTo>
                    <a:cubicBezTo>
                      <a:pt x="6483" y="2"/>
                      <a:pt x="6484" y="1"/>
                      <a:pt x="6485" y="1"/>
                    </a:cubicBezTo>
                    <a:close/>
                    <a:moveTo>
                      <a:pt x="6493" y="1"/>
                    </a:moveTo>
                    <a:lnTo>
                      <a:pt x="6493" y="1"/>
                    </a:lnTo>
                    <a:cubicBezTo>
                      <a:pt x="6494" y="1"/>
                      <a:pt x="6495" y="2"/>
                      <a:pt x="6495" y="3"/>
                    </a:cubicBezTo>
                    <a:cubicBezTo>
                      <a:pt x="6495" y="4"/>
                      <a:pt x="6494" y="5"/>
                      <a:pt x="6493" y="5"/>
                    </a:cubicBezTo>
                    <a:lnTo>
                      <a:pt x="6493" y="5"/>
                    </a:lnTo>
                    <a:cubicBezTo>
                      <a:pt x="6492" y="5"/>
                      <a:pt x="6491" y="4"/>
                      <a:pt x="6491" y="3"/>
                    </a:cubicBezTo>
                    <a:cubicBezTo>
                      <a:pt x="6491" y="2"/>
                      <a:pt x="6492" y="1"/>
                      <a:pt x="6493" y="1"/>
                    </a:cubicBezTo>
                    <a:close/>
                    <a:moveTo>
                      <a:pt x="6501" y="1"/>
                    </a:moveTo>
                    <a:lnTo>
                      <a:pt x="6501" y="1"/>
                    </a:lnTo>
                    <a:cubicBezTo>
                      <a:pt x="6502" y="1"/>
                      <a:pt x="6503" y="2"/>
                      <a:pt x="6503" y="3"/>
                    </a:cubicBezTo>
                    <a:cubicBezTo>
                      <a:pt x="6503" y="4"/>
                      <a:pt x="6502" y="5"/>
                      <a:pt x="6501" y="5"/>
                    </a:cubicBezTo>
                    <a:lnTo>
                      <a:pt x="6501" y="5"/>
                    </a:lnTo>
                    <a:cubicBezTo>
                      <a:pt x="6500" y="5"/>
                      <a:pt x="6499" y="4"/>
                      <a:pt x="6499" y="3"/>
                    </a:cubicBezTo>
                    <a:cubicBezTo>
                      <a:pt x="6499" y="2"/>
                      <a:pt x="6500" y="1"/>
                      <a:pt x="6501" y="1"/>
                    </a:cubicBezTo>
                    <a:close/>
                    <a:moveTo>
                      <a:pt x="6509" y="1"/>
                    </a:moveTo>
                    <a:lnTo>
                      <a:pt x="6509" y="1"/>
                    </a:lnTo>
                    <a:cubicBezTo>
                      <a:pt x="6510" y="1"/>
                      <a:pt x="6511" y="2"/>
                      <a:pt x="6511" y="3"/>
                    </a:cubicBezTo>
                    <a:cubicBezTo>
                      <a:pt x="6511" y="4"/>
                      <a:pt x="6510" y="5"/>
                      <a:pt x="6509" y="5"/>
                    </a:cubicBezTo>
                    <a:lnTo>
                      <a:pt x="6509" y="5"/>
                    </a:lnTo>
                    <a:cubicBezTo>
                      <a:pt x="6508" y="5"/>
                      <a:pt x="6507" y="4"/>
                      <a:pt x="6507" y="3"/>
                    </a:cubicBezTo>
                    <a:cubicBezTo>
                      <a:pt x="6507" y="2"/>
                      <a:pt x="6508" y="1"/>
                      <a:pt x="6509" y="1"/>
                    </a:cubicBezTo>
                    <a:close/>
                    <a:moveTo>
                      <a:pt x="6517" y="1"/>
                    </a:moveTo>
                    <a:lnTo>
                      <a:pt x="6517" y="1"/>
                    </a:lnTo>
                    <a:cubicBezTo>
                      <a:pt x="6518" y="1"/>
                      <a:pt x="6519" y="2"/>
                      <a:pt x="6519" y="3"/>
                    </a:cubicBezTo>
                    <a:cubicBezTo>
                      <a:pt x="6519" y="4"/>
                      <a:pt x="6518" y="5"/>
                      <a:pt x="6517" y="5"/>
                    </a:cubicBezTo>
                    <a:lnTo>
                      <a:pt x="6517" y="5"/>
                    </a:lnTo>
                    <a:cubicBezTo>
                      <a:pt x="6516" y="5"/>
                      <a:pt x="6515" y="4"/>
                      <a:pt x="6515" y="3"/>
                    </a:cubicBezTo>
                    <a:cubicBezTo>
                      <a:pt x="6515" y="2"/>
                      <a:pt x="6516" y="1"/>
                      <a:pt x="6517" y="1"/>
                    </a:cubicBezTo>
                    <a:close/>
                    <a:moveTo>
                      <a:pt x="6525" y="1"/>
                    </a:moveTo>
                    <a:lnTo>
                      <a:pt x="6525" y="1"/>
                    </a:lnTo>
                    <a:cubicBezTo>
                      <a:pt x="6526" y="1"/>
                      <a:pt x="6527" y="2"/>
                      <a:pt x="6527" y="3"/>
                    </a:cubicBezTo>
                    <a:cubicBezTo>
                      <a:pt x="6527" y="4"/>
                      <a:pt x="6526" y="5"/>
                      <a:pt x="6525" y="5"/>
                    </a:cubicBezTo>
                    <a:lnTo>
                      <a:pt x="6525" y="5"/>
                    </a:lnTo>
                    <a:cubicBezTo>
                      <a:pt x="6524" y="5"/>
                      <a:pt x="6523" y="4"/>
                      <a:pt x="6523" y="3"/>
                    </a:cubicBezTo>
                    <a:cubicBezTo>
                      <a:pt x="6523" y="2"/>
                      <a:pt x="6524" y="1"/>
                      <a:pt x="6525" y="1"/>
                    </a:cubicBezTo>
                    <a:close/>
                    <a:moveTo>
                      <a:pt x="6533" y="1"/>
                    </a:moveTo>
                    <a:lnTo>
                      <a:pt x="6533" y="1"/>
                    </a:lnTo>
                    <a:cubicBezTo>
                      <a:pt x="6534" y="1"/>
                      <a:pt x="6535" y="2"/>
                      <a:pt x="6535" y="3"/>
                    </a:cubicBezTo>
                    <a:cubicBezTo>
                      <a:pt x="6535" y="4"/>
                      <a:pt x="6534" y="5"/>
                      <a:pt x="6533" y="5"/>
                    </a:cubicBezTo>
                    <a:lnTo>
                      <a:pt x="6533" y="5"/>
                    </a:lnTo>
                    <a:cubicBezTo>
                      <a:pt x="6532" y="5"/>
                      <a:pt x="6531" y="4"/>
                      <a:pt x="6531" y="3"/>
                    </a:cubicBezTo>
                    <a:cubicBezTo>
                      <a:pt x="6531" y="2"/>
                      <a:pt x="6532" y="1"/>
                      <a:pt x="6533" y="1"/>
                    </a:cubicBezTo>
                    <a:close/>
                    <a:moveTo>
                      <a:pt x="6541" y="1"/>
                    </a:moveTo>
                    <a:lnTo>
                      <a:pt x="6541" y="1"/>
                    </a:lnTo>
                    <a:cubicBezTo>
                      <a:pt x="6542" y="1"/>
                      <a:pt x="6543" y="2"/>
                      <a:pt x="6543" y="3"/>
                    </a:cubicBezTo>
                    <a:cubicBezTo>
                      <a:pt x="6543" y="4"/>
                      <a:pt x="6542" y="5"/>
                      <a:pt x="6541" y="5"/>
                    </a:cubicBezTo>
                    <a:lnTo>
                      <a:pt x="6541" y="5"/>
                    </a:lnTo>
                    <a:cubicBezTo>
                      <a:pt x="6540" y="5"/>
                      <a:pt x="6539" y="4"/>
                      <a:pt x="6539" y="3"/>
                    </a:cubicBezTo>
                    <a:cubicBezTo>
                      <a:pt x="6539" y="2"/>
                      <a:pt x="6540" y="1"/>
                      <a:pt x="6541" y="1"/>
                    </a:cubicBezTo>
                    <a:close/>
                    <a:moveTo>
                      <a:pt x="6549" y="1"/>
                    </a:moveTo>
                    <a:lnTo>
                      <a:pt x="6549" y="1"/>
                    </a:lnTo>
                    <a:cubicBezTo>
                      <a:pt x="6550" y="1"/>
                      <a:pt x="6551" y="2"/>
                      <a:pt x="6551" y="3"/>
                    </a:cubicBezTo>
                    <a:cubicBezTo>
                      <a:pt x="6551" y="4"/>
                      <a:pt x="6550" y="5"/>
                      <a:pt x="6549" y="5"/>
                    </a:cubicBezTo>
                    <a:lnTo>
                      <a:pt x="6549" y="5"/>
                    </a:lnTo>
                    <a:cubicBezTo>
                      <a:pt x="6548" y="5"/>
                      <a:pt x="6547" y="4"/>
                      <a:pt x="6547" y="3"/>
                    </a:cubicBezTo>
                    <a:cubicBezTo>
                      <a:pt x="6547" y="2"/>
                      <a:pt x="6548" y="1"/>
                      <a:pt x="6549" y="1"/>
                    </a:cubicBezTo>
                    <a:close/>
                    <a:moveTo>
                      <a:pt x="6557" y="1"/>
                    </a:moveTo>
                    <a:lnTo>
                      <a:pt x="6557" y="1"/>
                    </a:lnTo>
                    <a:cubicBezTo>
                      <a:pt x="6558" y="1"/>
                      <a:pt x="6559" y="2"/>
                      <a:pt x="6559" y="3"/>
                    </a:cubicBezTo>
                    <a:cubicBezTo>
                      <a:pt x="6559" y="4"/>
                      <a:pt x="6558" y="5"/>
                      <a:pt x="6557" y="5"/>
                    </a:cubicBezTo>
                    <a:lnTo>
                      <a:pt x="6557" y="5"/>
                    </a:lnTo>
                    <a:cubicBezTo>
                      <a:pt x="6556" y="5"/>
                      <a:pt x="6555" y="4"/>
                      <a:pt x="6555" y="3"/>
                    </a:cubicBezTo>
                    <a:cubicBezTo>
                      <a:pt x="6555" y="2"/>
                      <a:pt x="6556" y="1"/>
                      <a:pt x="6557" y="1"/>
                    </a:cubicBezTo>
                    <a:close/>
                    <a:moveTo>
                      <a:pt x="6565" y="1"/>
                    </a:moveTo>
                    <a:lnTo>
                      <a:pt x="6565" y="1"/>
                    </a:lnTo>
                    <a:cubicBezTo>
                      <a:pt x="6566" y="1"/>
                      <a:pt x="6567" y="2"/>
                      <a:pt x="6567" y="3"/>
                    </a:cubicBezTo>
                    <a:cubicBezTo>
                      <a:pt x="6567" y="4"/>
                      <a:pt x="6566" y="5"/>
                      <a:pt x="6565" y="5"/>
                    </a:cubicBezTo>
                    <a:lnTo>
                      <a:pt x="6565" y="5"/>
                    </a:lnTo>
                    <a:cubicBezTo>
                      <a:pt x="6564" y="5"/>
                      <a:pt x="6563" y="4"/>
                      <a:pt x="6563" y="3"/>
                    </a:cubicBezTo>
                    <a:cubicBezTo>
                      <a:pt x="6563" y="2"/>
                      <a:pt x="6564" y="1"/>
                      <a:pt x="6565" y="1"/>
                    </a:cubicBezTo>
                    <a:close/>
                    <a:moveTo>
                      <a:pt x="6573" y="1"/>
                    </a:moveTo>
                    <a:lnTo>
                      <a:pt x="6573" y="1"/>
                    </a:lnTo>
                    <a:cubicBezTo>
                      <a:pt x="6574" y="1"/>
                      <a:pt x="6575" y="2"/>
                      <a:pt x="6575" y="3"/>
                    </a:cubicBezTo>
                    <a:cubicBezTo>
                      <a:pt x="6575" y="4"/>
                      <a:pt x="6574" y="5"/>
                      <a:pt x="6573" y="5"/>
                    </a:cubicBezTo>
                    <a:lnTo>
                      <a:pt x="6573" y="5"/>
                    </a:lnTo>
                    <a:cubicBezTo>
                      <a:pt x="6572" y="5"/>
                      <a:pt x="6571" y="4"/>
                      <a:pt x="6571" y="3"/>
                    </a:cubicBezTo>
                    <a:cubicBezTo>
                      <a:pt x="6571" y="2"/>
                      <a:pt x="6572" y="1"/>
                      <a:pt x="6573" y="1"/>
                    </a:cubicBezTo>
                    <a:close/>
                    <a:moveTo>
                      <a:pt x="6581" y="1"/>
                    </a:moveTo>
                    <a:lnTo>
                      <a:pt x="6581" y="1"/>
                    </a:lnTo>
                    <a:cubicBezTo>
                      <a:pt x="6582" y="1"/>
                      <a:pt x="6583" y="2"/>
                      <a:pt x="6583" y="3"/>
                    </a:cubicBezTo>
                    <a:cubicBezTo>
                      <a:pt x="6583" y="4"/>
                      <a:pt x="6582" y="5"/>
                      <a:pt x="6581" y="5"/>
                    </a:cubicBezTo>
                    <a:lnTo>
                      <a:pt x="6581" y="5"/>
                    </a:lnTo>
                    <a:cubicBezTo>
                      <a:pt x="6580" y="5"/>
                      <a:pt x="6579" y="4"/>
                      <a:pt x="6579" y="3"/>
                    </a:cubicBezTo>
                    <a:cubicBezTo>
                      <a:pt x="6579" y="2"/>
                      <a:pt x="6580" y="1"/>
                      <a:pt x="6581" y="1"/>
                    </a:cubicBezTo>
                    <a:close/>
                    <a:moveTo>
                      <a:pt x="6589" y="1"/>
                    </a:moveTo>
                    <a:lnTo>
                      <a:pt x="6589" y="1"/>
                    </a:lnTo>
                    <a:cubicBezTo>
                      <a:pt x="6590" y="1"/>
                      <a:pt x="6591" y="2"/>
                      <a:pt x="6591" y="3"/>
                    </a:cubicBezTo>
                    <a:cubicBezTo>
                      <a:pt x="6591" y="4"/>
                      <a:pt x="6590" y="5"/>
                      <a:pt x="6589" y="5"/>
                    </a:cubicBezTo>
                    <a:lnTo>
                      <a:pt x="6589" y="5"/>
                    </a:lnTo>
                    <a:cubicBezTo>
                      <a:pt x="6588" y="5"/>
                      <a:pt x="6587" y="4"/>
                      <a:pt x="6587" y="3"/>
                    </a:cubicBezTo>
                    <a:cubicBezTo>
                      <a:pt x="6587" y="2"/>
                      <a:pt x="6588" y="1"/>
                      <a:pt x="6589" y="1"/>
                    </a:cubicBezTo>
                    <a:close/>
                    <a:moveTo>
                      <a:pt x="6597" y="1"/>
                    </a:moveTo>
                    <a:lnTo>
                      <a:pt x="6597" y="1"/>
                    </a:lnTo>
                    <a:cubicBezTo>
                      <a:pt x="6598" y="1"/>
                      <a:pt x="6599" y="2"/>
                      <a:pt x="6599" y="3"/>
                    </a:cubicBezTo>
                    <a:cubicBezTo>
                      <a:pt x="6599" y="4"/>
                      <a:pt x="6598" y="5"/>
                      <a:pt x="6597" y="5"/>
                    </a:cubicBezTo>
                    <a:lnTo>
                      <a:pt x="6597" y="5"/>
                    </a:lnTo>
                    <a:cubicBezTo>
                      <a:pt x="6596" y="5"/>
                      <a:pt x="6595" y="4"/>
                      <a:pt x="6595" y="3"/>
                    </a:cubicBezTo>
                    <a:cubicBezTo>
                      <a:pt x="6595" y="2"/>
                      <a:pt x="6596" y="1"/>
                      <a:pt x="6597" y="1"/>
                    </a:cubicBezTo>
                    <a:close/>
                    <a:moveTo>
                      <a:pt x="6605" y="1"/>
                    </a:moveTo>
                    <a:lnTo>
                      <a:pt x="6605" y="1"/>
                    </a:lnTo>
                    <a:cubicBezTo>
                      <a:pt x="6606" y="1"/>
                      <a:pt x="6607" y="2"/>
                      <a:pt x="6607" y="3"/>
                    </a:cubicBezTo>
                    <a:cubicBezTo>
                      <a:pt x="6607" y="4"/>
                      <a:pt x="6606" y="5"/>
                      <a:pt x="6605" y="5"/>
                    </a:cubicBezTo>
                    <a:lnTo>
                      <a:pt x="6605" y="5"/>
                    </a:lnTo>
                    <a:cubicBezTo>
                      <a:pt x="6604" y="5"/>
                      <a:pt x="6603" y="4"/>
                      <a:pt x="6603" y="3"/>
                    </a:cubicBezTo>
                    <a:cubicBezTo>
                      <a:pt x="6603" y="2"/>
                      <a:pt x="6604" y="1"/>
                      <a:pt x="6605" y="1"/>
                    </a:cubicBezTo>
                    <a:close/>
                    <a:moveTo>
                      <a:pt x="6613" y="1"/>
                    </a:moveTo>
                    <a:lnTo>
                      <a:pt x="6613" y="1"/>
                    </a:lnTo>
                    <a:cubicBezTo>
                      <a:pt x="6614" y="1"/>
                      <a:pt x="6615" y="2"/>
                      <a:pt x="6615" y="3"/>
                    </a:cubicBezTo>
                    <a:cubicBezTo>
                      <a:pt x="6615" y="5"/>
                      <a:pt x="6614" y="5"/>
                      <a:pt x="6613" y="5"/>
                    </a:cubicBezTo>
                    <a:lnTo>
                      <a:pt x="6613" y="5"/>
                    </a:lnTo>
                    <a:cubicBezTo>
                      <a:pt x="6612" y="5"/>
                      <a:pt x="6611" y="5"/>
                      <a:pt x="6611" y="3"/>
                    </a:cubicBezTo>
                    <a:cubicBezTo>
                      <a:pt x="6611" y="2"/>
                      <a:pt x="6612" y="1"/>
                      <a:pt x="6613" y="1"/>
                    </a:cubicBezTo>
                    <a:close/>
                    <a:moveTo>
                      <a:pt x="6621" y="1"/>
                    </a:moveTo>
                    <a:lnTo>
                      <a:pt x="6621" y="1"/>
                    </a:lnTo>
                    <a:cubicBezTo>
                      <a:pt x="6622" y="1"/>
                      <a:pt x="6623" y="2"/>
                      <a:pt x="6623" y="3"/>
                    </a:cubicBezTo>
                    <a:cubicBezTo>
                      <a:pt x="6623" y="5"/>
                      <a:pt x="6622" y="5"/>
                      <a:pt x="6621" y="5"/>
                    </a:cubicBezTo>
                    <a:lnTo>
                      <a:pt x="6621" y="5"/>
                    </a:lnTo>
                    <a:cubicBezTo>
                      <a:pt x="6620" y="5"/>
                      <a:pt x="6619" y="5"/>
                      <a:pt x="6619" y="3"/>
                    </a:cubicBezTo>
                    <a:cubicBezTo>
                      <a:pt x="6619" y="2"/>
                      <a:pt x="6620" y="1"/>
                      <a:pt x="6621" y="1"/>
                    </a:cubicBezTo>
                    <a:close/>
                    <a:moveTo>
                      <a:pt x="6629" y="1"/>
                    </a:moveTo>
                    <a:lnTo>
                      <a:pt x="6629" y="1"/>
                    </a:lnTo>
                    <a:cubicBezTo>
                      <a:pt x="6630" y="1"/>
                      <a:pt x="6631" y="2"/>
                      <a:pt x="6631" y="3"/>
                    </a:cubicBezTo>
                    <a:cubicBezTo>
                      <a:pt x="6631" y="5"/>
                      <a:pt x="6630" y="5"/>
                      <a:pt x="6629" y="5"/>
                    </a:cubicBezTo>
                    <a:lnTo>
                      <a:pt x="6629" y="5"/>
                    </a:lnTo>
                    <a:cubicBezTo>
                      <a:pt x="6628" y="5"/>
                      <a:pt x="6627" y="5"/>
                      <a:pt x="6627" y="3"/>
                    </a:cubicBezTo>
                    <a:cubicBezTo>
                      <a:pt x="6627" y="2"/>
                      <a:pt x="6628" y="1"/>
                      <a:pt x="6629" y="1"/>
                    </a:cubicBezTo>
                    <a:close/>
                    <a:moveTo>
                      <a:pt x="6637" y="1"/>
                    </a:moveTo>
                    <a:lnTo>
                      <a:pt x="6637" y="1"/>
                    </a:lnTo>
                    <a:cubicBezTo>
                      <a:pt x="6638" y="1"/>
                      <a:pt x="6639" y="2"/>
                      <a:pt x="6639" y="3"/>
                    </a:cubicBezTo>
                    <a:cubicBezTo>
                      <a:pt x="6639" y="5"/>
                      <a:pt x="6638" y="5"/>
                      <a:pt x="6637" y="5"/>
                    </a:cubicBezTo>
                    <a:lnTo>
                      <a:pt x="6637" y="5"/>
                    </a:lnTo>
                    <a:cubicBezTo>
                      <a:pt x="6636" y="5"/>
                      <a:pt x="6635" y="5"/>
                      <a:pt x="6635" y="3"/>
                    </a:cubicBezTo>
                    <a:cubicBezTo>
                      <a:pt x="6635" y="2"/>
                      <a:pt x="6636" y="1"/>
                      <a:pt x="6637" y="1"/>
                    </a:cubicBezTo>
                    <a:close/>
                    <a:moveTo>
                      <a:pt x="6645" y="1"/>
                    </a:moveTo>
                    <a:lnTo>
                      <a:pt x="6645" y="1"/>
                    </a:lnTo>
                    <a:cubicBezTo>
                      <a:pt x="6646" y="1"/>
                      <a:pt x="6647" y="2"/>
                      <a:pt x="6647" y="3"/>
                    </a:cubicBezTo>
                    <a:cubicBezTo>
                      <a:pt x="6647" y="5"/>
                      <a:pt x="6646" y="5"/>
                      <a:pt x="6645" y="5"/>
                    </a:cubicBezTo>
                    <a:lnTo>
                      <a:pt x="6645" y="5"/>
                    </a:lnTo>
                    <a:cubicBezTo>
                      <a:pt x="6644" y="5"/>
                      <a:pt x="6643" y="5"/>
                      <a:pt x="6643" y="3"/>
                    </a:cubicBezTo>
                    <a:cubicBezTo>
                      <a:pt x="6643" y="2"/>
                      <a:pt x="6644" y="1"/>
                      <a:pt x="6645" y="1"/>
                    </a:cubicBezTo>
                    <a:close/>
                    <a:moveTo>
                      <a:pt x="6653" y="1"/>
                    </a:moveTo>
                    <a:lnTo>
                      <a:pt x="6653" y="1"/>
                    </a:lnTo>
                    <a:cubicBezTo>
                      <a:pt x="6654" y="1"/>
                      <a:pt x="6655" y="2"/>
                      <a:pt x="6655" y="3"/>
                    </a:cubicBezTo>
                    <a:cubicBezTo>
                      <a:pt x="6655" y="5"/>
                      <a:pt x="6654" y="5"/>
                      <a:pt x="6653" y="5"/>
                    </a:cubicBezTo>
                    <a:lnTo>
                      <a:pt x="6653" y="5"/>
                    </a:lnTo>
                    <a:cubicBezTo>
                      <a:pt x="6652" y="5"/>
                      <a:pt x="6651" y="5"/>
                      <a:pt x="6651" y="3"/>
                    </a:cubicBezTo>
                    <a:cubicBezTo>
                      <a:pt x="6651" y="2"/>
                      <a:pt x="6652" y="1"/>
                      <a:pt x="6653" y="1"/>
                    </a:cubicBezTo>
                    <a:close/>
                    <a:moveTo>
                      <a:pt x="6661" y="1"/>
                    </a:moveTo>
                    <a:lnTo>
                      <a:pt x="6661" y="1"/>
                    </a:lnTo>
                    <a:cubicBezTo>
                      <a:pt x="6662" y="1"/>
                      <a:pt x="6663" y="2"/>
                      <a:pt x="6663" y="3"/>
                    </a:cubicBezTo>
                    <a:cubicBezTo>
                      <a:pt x="6663" y="5"/>
                      <a:pt x="6662" y="5"/>
                      <a:pt x="6661" y="5"/>
                    </a:cubicBezTo>
                    <a:lnTo>
                      <a:pt x="6661" y="5"/>
                    </a:lnTo>
                    <a:cubicBezTo>
                      <a:pt x="6660" y="5"/>
                      <a:pt x="6659" y="5"/>
                      <a:pt x="6659" y="3"/>
                    </a:cubicBezTo>
                    <a:cubicBezTo>
                      <a:pt x="6659" y="2"/>
                      <a:pt x="6660" y="1"/>
                      <a:pt x="6661" y="1"/>
                    </a:cubicBezTo>
                    <a:close/>
                    <a:moveTo>
                      <a:pt x="6669" y="1"/>
                    </a:moveTo>
                    <a:lnTo>
                      <a:pt x="6669" y="1"/>
                    </a:lnTo>
                    <a:cubicBezTo>
                      <a:pt x="6670" y="1"/>
                      <a:pt x="6671" y="2"/>
                      <a:pt x="6671" y="3"/>
                    </a:cubicBezTo>
                    <a:cubicBezTo>
                      <a:pt x="6671" y="5"/>
                      <a:pt x="6670" y="5"/>
                      <a:pt x="6669" y="5"/>
                    </a:cubicBezTo>
                    <a:lnTo>
                      <a:pt x="6669" y="5"/>
                    </a:lnTo>
                    <a:cubicBezTo>
                      <a:pt x="6668" y="5"/>
                      <a:pt x="6667" y="5"/>
                      <a:pt x="6667" y="3"/>
                    </a:cubicBezTo>
                    <a:cubicBezTo>
                      <a:pt x="6667" y="2"/>
                      <a:pt x="6668" y="1"/>
                      <a:pt x="6669" y="1"/>
                    </a:cubicBezTo>
                    <a:close/>
                    <a:moveTo>
                      <a:pt x="6677" y="1"/>
                    </a:moveTo>
                    <a:lnTo>
                      <a:pt x="6677" y="1"/>
                    </a:lnTo>
                    <a:cubicBezTo>
                      <a:pt x="6678" y="1"/>
                      <a:pt x="6679" y="2"/>
                      <a:pt x="6679" y="3"/>
                    </a:cubicBezTo>
                    <a:cubicBezTo>
                      <a:pt x="6679" y="5"/>
                      <a:pt x="6678" y="5"/>
                      <a:pt x="6677" y="5"/>
                    </a:cubicBezTo>
                    <a:lnTo>
                      <a:pt x="6677" y="5"/>
                    </a:lnTo>
                    <a:cubicBezTo>
                      <a:pt x="6676" y="5"/>
                      <a:pt x="6675" y="5"/>
                      <a:pt x="6675" y="3"/>
                    </a:cubicBezTo>
                    <a:cubicBezTo>
                      <a:pt x="6675" y="2"/>
                      <a:pt x="6676" y="1"/>
                      <a:pt x="6677" y="1"/>
                    </a:cubicBezTo>
                    <a:close/>
                    <a:moveTo>
                      <a:pt x="6685" y="1"/>
                    </a:moveTo>
                    <a:lnTo>
                      <a:pt x="6685" y="1"/>
                    </a:lnTo>
                    <a:cubicBezTo>
                      <a:pt x="6686" y="1"/>
                      <a:pt x="6687" y="2"/>
                      <a:pt x="6687" y="3"/>
                    </a:cubicBezTo>
                    <a:cubicBezTo>
                      <a:pt x="6687" y="5"/>
                      <a:pt x="6686" y="5"/>
                      <a:pt x="6685" y="5"/>
                    </a:cubicBezTo>
                    <a:lnTo>
                      <a:pt x="6685" y="5"/>
                    </a:lnTo>
                    <a:cubicBezTo>
                      <a:pt x="6684" y="5"/>
                      <a:pt x="6683" y="5"/>
                      <a:pt x="6683" y="3"/>
                    </a:cubicBezTo>
                    <a:cubicBezTo>
                      <a:pt x="6683" y="2"/>
                      <a:pt x="6684" y="1"/>
                      <a:pt x="6685" y="1"/>
                    </a:cubicBezTo>
                    <a:close/>
                    <a:moveTo>
                      <a:pt x="6693" y="1"/>
                    </a:moveTo>
                    <a:lnTo>
                      <a:pt x="6693" y="1"/>
                    </a:lnTo>
                    <a:cubicBezTo>
                      <a:pt x="6694" y="1"/>
                      <a:pt x="6695" y="2"/>
                      <a:pt x="6695" y="3"/>
                    </a:cubicBezTo>
                    <a:cubicBezTo>
                      <a:pt x="6695" y="5"/>
                      <a:pt x="6694" y="5"/>
                      <a:pt x="6693" y="5"/>
                    </a:cubicBezTo>
                    <a:lnTo>
                      <a:pt x="6693" y="5"/>
                    </a:lnTo>
                    <a:cubicBezTo>
                      <a:pt x="6692" y="5"/>
                      <a:pt x="6691" y="5"/>
                      <a:pt x="6691" y="3"/>
                    </a:cubicBezTo>
                    <a:cubicBezTo>
                      <a:pt x="6691" y="2"/>
                      <a:pt x="6692" y="1"/>
                      <a:pt x="6693" y="1"/>
                    </a:cubicBezTo>
                    <a:close/>
                    <a:moveTo>
                      <a:pt x="6701" y="1"/>
                    </a:moveTo>
                    <a:lnTo>
                      <a:pt x="6701" y="1"/>
                    </a:lnTo>
                    <a:cubicBezTo>
                      <a:pt x="6702" y="1"/>
                      <a:pt x="6703" y="2"/>
                      <a:pt x="6703" y="3"/>
                    </a:cubicBezTo>
                    <a:cubicBezTo>
                      <a:pt x="6703" y="5"/>
                      <a:pt x="6702" y="5"/>
                      <a:pt x="6701" y="5"/>
                    </a:cubicBezTo>
                    <a:lnTo>
                      <a:pt x="6701" y="5"/>
                    </a:lnTo>
                    <a:cubicBezTo>
                      <a:pt x="6700" y="5"/>
                      <a:pt x="6699" y="5"/>
                      <a:pt x="6699" y="3"/>
                    </a:cubicBezTo>
                    <a:cubicBezTo>
                      <a:pt x="6699" y="2"/>
                      <a:pt x="6700" y="1"/>
                      <a:pt x="6701" y="1"/>
                    </a:cubicBezTo>
                    <a:close/>
                    <a:moveTo>
                      <a:pt x="6709" y="1"/>
                    </a:moveTo>
                    <a:lnTo>
                      <a:pt x="6709" y="1"/>
                    </a:lnTo>
                    <a:cubicBezTo>
                      <a:pt x="6710" y="1"/>
                      <a:pt x="6711" y="2"/>
                      <a:pt x="6711" y="3"/>
                    </a:cubicBezTo>
                    <a:cubicBezTo>
                      <a:pt x="6711" y="5"/>
                      <a:pt x="6710" y="5"/>
                      <a:pt x="6709" y="5"/>
                    </a:cubicBezTo>
                    <a:lnTo>
                      <a:pt x="6709" y="5"/>
                    </a:lnTo>
                    <a:cubicBezTo>
                      <a:pt x="6708" y="5"/>
                      <a:pt x="6707" y="5"/>
                      <a:pt x="6707" y="3"/>
                    </a:cubicBezTo>
                    <a:cubicBezTo>
                      <a:pt x="6707" y="2"/>
                      <a:pt x="6708" y="1"/>
                      <a:pt x="6709" y="1"/>
                    </a:cubicBezTo>
                    <a:close/>
                    <a:moveTo>
                      <a:pt x="6717" y="1"/>
                    </a:moveTo>
                    <a:lnTo>
                      <a:pt x="6717" y="1"/>
                    </a:lnTo>
                    <a:cubicBezTo>
                      <a:pt x="6718" y="1"/>
                      <a:pt x="6719" y="2"/>
                      <a:pt x="6719" y="3"/>
                    </a:cubicBezTo>
                    <a:cubicBezTo>
                      <a:pt x="6719" y="5"/>
                      <a:pt x="6718" y="5"/>
                      <a:pt x="6717" y="5"/>
                    </a:cubicBezTo>
                    <a:lnTo>
                      <a:pt x="6717" y="5"/>
                    </a:lnTo>
                    <a:cubicBezTo>
                      <a:pt x="6716" y="5"/>
                      <a:pt x="6715" y="5"/>
                      <a:pt x="6715" y="3"/>
                    </a:cubicBezTo>
                    <a:cubicBezTo>
                      <a:pt x="6715" y="2"/>
                      <a:pt x="6716" y="1"/>
                      <a:pt x="6717" y="1"/>
                    </a:cubicBezTo>
                    <a:close/>
                    <a:moveTo>
                      <a:pt x="6725" y="1"/>
                    </a:moveTo>
                    <a:lnTo>
                      <a:pt x="6725" y="1"/>
                    </a:lnTo>
                    <a:cubicBezTo>
                      <a:pt x="6726" y="1"/>
                      <a:pt x="6727" y="2"/>
                      <a:pt x="6727" y="3"/>
                    </a:cubicBezTo>
                    <a:cubicBezTo>
                      <a:pt x="6727" y="5"/>
                      <a:pt x="6726" y="5"/>
                      <a:pt x="6725" y="5"/>
                    </a:cubicBezTo>
                    <a:lnTo>
                      <a:pt x="6725" y="5"/>
                    </a:lnTo>
                    <a:cubicBezTo>
                      <a:pt x="6724" y="5"/>
                      <a:pt x="6723" y="5"/>
                      <a:pt x="6723" y="3"/>
                    </a:cubicBezTo>
                    <a:cubicBezTo>
                      <a:pt x="6723" y="2"/>
                      <a:pt x="6724" y="1"/>
                      <a:pt x="6725" y="1"/>
                    </a:cubicBezTo>
                    <a:close/>
                    <a:moveTo>
                      <a:pt x="6733" y="1"/>
                    </a:moveTo>
                    <a:lnTo>
                      <a:pt x="6733" y="1"/>
                    </a:lnTo>
                    <a:cubicBezTo>
                      <a:pt x="6734" y="1"/>
                      <a:pt x="6735" y="2"/>
                      <a:pt x="6735" y="3"/>
                    </a:cubicBezTo>
                    <a:cubicBezTo>
                      <a:pt x="6735" y="5"/>
                      <a:pt x="6734" y="5"/>
                      <a:pt x="6733" y="5"/>
                    </a:cubicBezTo>
                    <a:lnTo>
                      <a:pt x="6733" y="5"/>
                    </a:lnTo>
                    <a:cubicBezTo>
                      <a:pt x="6732" y="5"/>
                      <a:pt x="6731" y="5"/>
                      <a:pt x="6731" y="3"/>
                    </a:cubicBezTo>
                    <a:cubicBezTo>
                      <a:pt x="6731" y="2"/>
                      <a:pt x="6732" y="1"/>
                      <a:pt x="6733" y="1"/>
                    </a:cubicBezTo>
                    <a:close/>
                    <a:moveTo>
                      <a:pt x="6741" y="1"/>
                    </a:moveTo>
                    <a:lnTo>
                      <a:pt x="6741" y="1"/>
                    </a:lnTo>
                    <a:cubicBezTo>
                      <a:pt x="6742" y="1"/>
                      <a:pt x="6743" y="2"/>
                      <a:pt x="6743" y="3"/>
                    </a:cubicBezTo>
                    <a:cubicBezTo>
                      <a:pt x="6743" y="5"/>
                      <a:pt x="6742" y="5"/>
                      <a:pt x="6741" y="5"/>
                    </a:cubicBezTo>
                    <a:lnTo>
                      <a:pt x="6741" y="5"/>
                    </a:lnTo>
                    <a:cubicBezTo>
                      <a:pt x="6740" y="5"/>
                      <a:pt x="6739" y="5"/>
                      <a:pt x="6739" y="3"/>
                    </a:cubicBezTo>
                    <a:cubicBezTo>
                      <a:pt x="6739" y="2"/>
                      <a:pt x="6740" y="1"/>
                      <a:pt x="6741" y="1"/>
                    </a:cubicBezTo>
                    <a:close/>
                    <a:moveTo>
                      <a:pt x="6749" y="1"/>
                    </a:moveTo>
                    <a:lnTo>
                      <a:pt x="6749" y="1"/>
                    </a:lnTo>
                    <a:cubicBezTo>
                      <a:pt x="6750" y="1"/>
                      <a:pt x="6751" y="2"/>
                      <a:pt x="6751" y="3"/>
                    </a:cubicBezTo>
                    <a:cubicBezTo>
                      <a:pt x="6751" y="5"/>
                      <a:pt x="6750" y="5"/>
                      <a:pt x="6749" y="5"/>
                    </a:cubicBezTo>
                    <a:lnTo>
                      <a:pt x="6749" y="5"/>
                    </a:lnTo>
                    <a:cubicBezTo>
                      <a:pt x="6748" y="5"/>
                      <a:pt x="6747" y="5"/>
                      <a:pt x="6747" y="3"/>
                    </a:cubicBezTo>
                    <a:cubicBezTo>
                      <a:pt x="6747" y="2"/>
                      <a:pt x="6748" y="1"/>
                      <a:pt x="6749" y="1"/>
                    </a:cubicBezTo>
                    <a:close/>
                    <a:moveTo>
                      <a:pt x="6757" y="1"/>
                    </a:moveTo>
                    <a:lnTo>
                      <a:pt x="6757" y="1"/>
                    </a:lnTo>
                    <a:cubicBezTo>
                      <a:pt x="6758" y="1"/>
                      <a:pt x="6759" y="2"/>
                      <a:pt x="6759" y="3"/>
                    </a:cubicBezTo>
                    <a:cubicBezTo>
                      <a:pt x="6759" y="5"/>
                      <a:pt x="6758" y="5"/>
                      <a:pt x="6757" y="5"/>
                    </a:cubicBezTo>
                    <a:lnTo>
                      <a:pt x="6757" y="5"/>
                    </a:lnTo>
                    <a:cubicBezTo>
                      <a:pt x="6756" y="5"/>
                      <a:pt x="6755" y="5"/>
                      <a:pt x="6755" y="3"/>
                    </a:cubicBezTo>
                    <a:cubicBezTo>
                      <a:pt x="6755" y="2"/>
                      <a:pt x="6756" y="1"/>
                      <a:pt x="6757" y="1"/>
                    </a:cubicBezTo>
                    <a:close/>
                    <a:moveTo>
                      <a:pt x="6765" y="1"/>
                    </a:moveTo>
                    <a:lnTo>
                      <a:pt x="6765" y="1"/>
                    </a:lnTo>
                    <a:cubicBezTo>
                      <a:pt x="6766" y="1"/>
                      <a:pt x="6767" y="2"/>
                      <a:pt x="6767" y="3"/>
                    </a:cubicBezTo>
                    <a:cubicBezTo>
                      <a:pt x="6767" y="5"/>
                      <a:pt x="6766" y="5"/>
                      <a:pt x="6765" y="5"/>
                    </a:cubicBezTo>
                    <a:lnTo>
                      <a:pt x="6765" y="5"/>
                    </a:lnTo>
                    <a:cubicBezTo>
                      <a:pt x="6764" y="5"/>
                      <a:pt x="6763" y="5"/>
                      <a:pt x="6763" y="3"/>
                    </a:cubicBezTo>
                    <a:cubicBezTo>
                      <a:pt x="6763" y="2"/>
                      <a:pt x="6764" y="1"/>
                      <a:pt x="6765" y="1"/>
                    </a:cubicBezTo>
                    <a:close/>
                    <a:moveTo>
                      <a:pt x="6773" y="1"/>
                    </a:moveTo>
                    <a:lnTo>
                      <a:pt x="6773" y="1"/>
                    </a:lnTo>
                    <a:cubicBezTo>
                      <a:pt x="6774" y="1"/>
                      <a:pt x="6775" y="2"/>
                      <a:pt x="6775" y="3"/>
                    </a:cubicBezTo>
                    <a:cubicBezTo>
                      <a:pt x="6775" y="5"/>
                      <a:pt x="6774" y="5"/>
                      <a:pt x="6773" y="5"/>
                    </a:cubicBezTo>
                    <a:lnTo>
                      <a:pt x="6773" y="5"/>
                    </a:lnTo>
                    <a:cubicBezTo>
                      <a:pt x="6772" y="5"/>
                      <a:pt x="6771" y="5"/>
                      <a:pt x="6771" y="3"/>
                    </a:cubicBezTo>
                    <a:cubicBezTo>
                      <a:pt x="6771" y="2"/>
                      <a:pt x="6772" y="1"/>
                      <a:pt x="6773" y="1"/>
                    </a:cubicBezTo>
                    <a:close/>
                    <a:moveTo>
                      <a:pt x="6781" y="1"/>
                    </a:moveTo>
                    <a:lnTo>
                      <a:pt x="6781" y="1"/>
                    </a:lnTo>
                    <a:cubicBezTo>
                      <a:pt x="6782" y="1"/>
                      <a:pt x="6783" y="2"/>
                      <a:pt x="6783" y="3"/>
                    </a:cubicBezTo>
                    <a:cubicBezTo>
                      <a:pt x="6783" y="5"/>
                      <a:pt x="6782" y="5"/>
                      <a:pt x="6781" y="5"/>
                    </a:cubicBezTo>
                    <a:lnTo>
                      <a:pt x="6781" y="5"/>
                    </a:lnTo>
                    <a:cubicBezTo>
                      <a:pt x="6780" y="5"/>
                      <a:pt x="6779" y="5"/>
                      <a:pt x="6779" y="3"/>
                    </a:cubicBezTo>
                    <a:cubicBezTo>
                      <a:pt x="6779" y="2"/>
                      <a:pt x="6780" y="1"/>
                      <a:pt x="6781" y="1"/>
                    </a:cubicBezTo>
                    <a:close/>
                    <a:moveTo>
                      <a:pt x="6789" y="1"/>
                    </a:moveTo>
                    <a:lnTo>
                      <a:pt x="6789" y="1"/>
                    </a:lnTo>
                    <a:cubicBezTo>
                      <a:pt x="6790" y="1"/>
                      <a:pt x="6791" y="2"/>
                      <a:pt x="6791" y="3"/>
                    </a:cubicBezTo>
                    <a:cubicBezTo>
                      <a:pt x="6791" y="5"/>
                      <a:pt x="6790" y="5"/>
                      <a:pt x="6789" y="5"/>
                    </a:cubicBezTo>
                    <a:lnTo>
                      <a:pt x="6789" y="5"/>
                    </a:lnTo>
                    <a:cubicBezTo>
                      <a:pt x="6788" y="5"/>
                      <a:pt x="6787" y="5"/>
                      <a:pt x="6787" y="3"/>
                    </a:cubicBezTo>
                    <a:cubicBezTo>
                      <a:pt x="6787" y="2"/>
                      <a:pt x="6788" y="1"/>
                      <a:pt x="6789" y="1"/>
                    </a:cubicBezTo>
                    <a:close/>
                    <a:moveTo>
                      <a:pt x="6797" y="1"/>
                    </a:moveTo>
                    <a:lnTo>
                      <a:pt x="6797" y="1"/>
                    </a:lnTo>
                    <a:cubicBezTo>
                      <a:pt x="6798" y="1"/>
                      <a:pt x="6799" y="2"/>
                      <a:pt x="6799" y="3"/>
                    </a:cubicBezTo>
                    <a:cubicBezTo>
                      <a:pt x="6799" y="5"/>
                      <a:pt x="6798" y="5"/>
                      <a:pt x="6797" y="5"/>
                    </a:cubicBezTo>
                    <a:lnTo>
                      <a:pt x="6797" y="5"/>
                    </a:lnTo>
                    <a:cubicBezTo>
                      <a:pt x="6796" y="5"/>
                      <a:pt x="6795" y="5"/>
                      <a:pt x="6795" y="3"/>
                    </a:cubicBezTo>
                    <a:cubicBezTo>
                      <a:pt x="6795" y="2"/>
                      <a:pt x="6796" y="1"/>
                      <a:pt x="6797" y="1"/>
                    </a:cubicBezTo>
                    <a:close/>
                    <a:moveTo>
                      <a:pt x="6805" y="1"/>
                    </a:moveTo>
                    <a:lnTo>
                      <a:pt x="6805" y="1"/>
                    </a:lnTo>
                    <a:cubicBezTo>
                      <a:pt x="6806" y="1"/>
                      <a:pt x="6807" y="2"/>
                      <a:pt x="6807" y="3"/>
                    </a:cubicBezTo>
                    <a:cubicBezTo>
                      <a:pt x="6807" y="5"/>
                      <a:pt x="6806" y="5"/>
                      <a:pt x="6805" y="5"/>
                    </a:cubicBezTo>
                    <a:lnTo>
                      <a:pt x="6805" y="5"/>
                    </a:lnTo>
                    <a:cubicBezTo>
                      <a:pt x="6804" y="5"/>
                      <a:pt x="6803" y="5"/>
                      <a:pt x="6803" y="3"/>
                    </a:cubicBezTo>
                    <a:cubicBezTo>
                      <a:pt x="6803" y="2"/>
                      <a:pt x="6804" y="1"/>
                      <a:pt x="6805" y="1"/>
                    </a:cubicBezTo>
                    <a:close/>
                    <a:moveTo>
                      <a:pt x="6813" y="1"/>
                    </a:moveTo>
                    <a:lnTo>
                      <a:pt x="6813" y="1"/>
                    </a:lnTo>
                    <a:cubicBezTo>
                      <a:pt x="6814" y="1"/>
                      <a:pt x="6815" y="2"/>
                      <a:pt x="6815" y="3"/>
                    </a:cubicBezTo>
                    <a:cubicBezTo>
                      <a:pt x="6815" y="5"/>
                      <a:pt x="6814" y="5"/>
                      <a:pt x="6813" y="5"/>
                    </a:cubicBezTo>
                    <a:lnTo>
                      <a:pt x="6813" y="5"/>
                    </a:lnTo>
                    <a:cubicBezTo>
                      <a:pt x="6812" y="5"/>
                      <a:pt x="6811" y="5"/>
                      <a:pt x="6811" y="3"/>
                    </a:cubicBezTo>
                    <a:cubicBezTo>
                      <a:pt x="6811" y="2"/>
                      <a:pt x="6812" y="1"/>
                      <a:pt x="6813" y="1"/>
                    </a:cubicBezTo>
                    <a:close/>
                    <a:moveTo>
                      <a:pt x="6821" y="1"/>
                    </a:moveTo>
                    <a:lnTo>
                      <a:pt x="6821" y="1"/>
                    </a:lnTo>
                    <a:cubicBezTo>
                      <a:pt x="6822" y="1"/>
                      <a:pt x="6823" y="2"/>
                      <a:pt x="6823" y="3"/>
                    </a:cubicBezTo>
                    <a:cubicBezTo>
                      <a:pt x="6823" y="5"/>
                      <a:pt x="6822" y="5"/>
                      <a:pt x="6821" y="5"/>
                    </a:cubicBezTo>
                    <a:lnTo>
                      <a:pt x="6821" y="5"/>
                    </a:lnTo>
                    <a:cubicBezTo>
                      <a:pt x="6820" y="5"/>
                      <a:pt x="6819" y="5"/>
                      <a:pt x="6819" y="3"/>
                    </a:cubicBezTo>
                    <a:cubicBezTo>
                      <a:pt x="6819" y="2"/>
                      <a:pt x="6820" y="1"/>
                      <a:pt x="6821" y="1"/>
                    </a:cubicBezTo>
                    <a:close/>
                    <a:moveTo>
                      <a:pt x="6829" y="1"/>
                    </a:moveTo>
                    <a:lnTo>
                      <a:pt x="6829" y="1"/>
                    </a:lnTo>
                    <a:cubicBezTo>
                      <a:pt x="6830" y="1"/>
                      <a:pt x="6831" y="2"/>
                      <a:pt x="6831" y="3"/>
                    </a:cubicBezTo>
                    <a:cubicBezTo>
                      <a:pt x="6831" y="5"/>
                      <a:pt x="6830" y="5"/>
                      <a:pt x="6829" y="5"/>
                    </a:cubicBezTo>
                    <a:lnTo>
                      <a:pt x="6829" y="5"/>
                    </a:lnTo>
                    <a:cubicBezTo>
                      <a:pt x="6828" y="5"/>
                      <a:pt x="6827" y="5"/>
                      <a:pt x="6827" y="3"/>
                    </a:cubicBezTo>
                    <a:cubicBezTo>
                      <a:pt x="6827" y="2"/>
                      <a:pt x="6828" y="1"/>
                      <a:pt x="6829" y="1"/>
                    </a:cubicBezTo>
                    <a:close/>
                    <a:moveTo>
                      <a:pt x="6837" y="1"/>
                    </a:moveTo>
                    <a:lnTo>
                      <a:pt x="6837" y="1"/>
                    </a:lnTo>
                    <a:cubicBezTo>
                      <a:pt x="6838" y="1"/>
                      <a:pt x="6839" y="2"/>
                      <a:pt x="6839" y="3"/>
                    </a:cubicBezTo>
                    <a:cubicBezTo>
                      <a:pt x="6839" y="5"/>
                      <a:pt x="6838" y="5"/>
                      <a:pt x="6837" y="5"/>
                    </a:cubicBezTo>
                    <a:lnTo>
                      <a:pt x="6837" y="5"/>
                    </a:lnTo>
                    <a:cubicBezTo>
                      <a:pt x="6836" y="5"/>
                      <a:pt x="6835" y="5"/>
                      <a:pt x="6835" y="3"/>
                    </a:cubicBezTo>
                    <a:cubicBezTo>
                      <a:pt x="6835" y="2"/>
                      <a:pt x="6836" y="1"/>
                      <a:pt x="6837" y="1"/>
                    </a:cubicBezTo>
                    <a:close/>
                    <a:moveTo>
                      <a:pt x="6845" y="1"/>
                    </a:moveTo>
                    <a:lnTo>
                      <a:pt x="6845" y="1"/>
                    </a:lnTo>
                    <a:cubicBezTo>
                      <a:pt x="6846" y="1"/>
                      <a:pt x="6847" y="2"/>
                      <a:pt x="6847" y="3"/>
                    </a:cubicBezTo>
                    <a:cubicBezTo>
                      <a:pt x="6847" y="5"/>
                      <a:pt x="6846" y="5"/>
                      <a:pt x="6845" y="5"/>
                    </a:cubicBezTo>
                    <a:lnTo>
                      <a:pt x="6845" y="5"/>
                    </a:lnTo>
                    <a:cubicBezTo>
                      <a:pt x="6844" y="5"/>
                      <a:pt x="6843" y="5"/>
                      <a:pt x="6843" y="3"/>
                    </a:cubicBezTo>
                    <a:cubicBezTo>
                      <a:pt x="6843" y="2"/>
                      <a:pt x="6844" y="1"/>
                      <a:pt x="6845" y="1"/>
                    </a:cubicBezTo>
                    <a:close/>
                    <a:moveTo>
                      <a:pt x="6853" y="1"/>
                    </a:moveTo>
                    <a:lnTo>
                      <a:pt x="6853" y="1"/>
                    </a:lnTo>
                    <a:cubicBezTo>
                      <a:pt x="6854" y="1"/>
                      <a:pt x="6855" y="2"/>
                      <a:pt x="6855" y="3"/>
                    </a:cubicBezTo>
                    <a:cubicBezTo>
                      <a:pt x="6855" y="5"/>
                      <a:pt x="6854" y="5"/>
                      <a:pt x="6853" y="5"/>
                    </a:cubicBezTo>
                    <a:lnTo>
                      <a:pt x="6853" y="5"/>
                    </a:lnTo>
                    <a:cubicBezTo>
                      <a:pt x="6852" y="5"/>
                      <a:pt x="6851" y="5"/>
                      <a:pt x="6851" y="3"/>
                    </a:cubicBezTo>
                    <a:cubicBezTo>
                      <a:pt x="6851" y="2"/>
                      <a:pt x="6852" y="1"/>
                      <a:pt x="6853" y="1"/>
                    </a:cubicBezTo>
                    <a:close/>
                    <a:moveTo>
                      <a:pt x="6861" y="1"/>
                    </a:moveTo>
                    <a:lnTo>
                      <a:pt x="6861" y="1"/>
                    </a:lnTo>
                    <a:cubicBezTo>
                      <a:pt x="6862" y="1"/>
                      <a:pt x="6863" y="2"/>
                      <a:pt x="6863" y="3"/>
                    </a:cubicBezTo>
                    <a:cubicBezTo>
                      <a:pt x="6863" y="5"/>
                      <a:pt x="6862" y="5"/>
                      <a:pt x="6861" y="5"/>
                    </a:cubicBezTo>
                    <a:lnTo>
                      <a:pt x="6861" y="5"/>
                    </a:lnTo>
                    <a:cubicBezTo>
                      <a:pt x="6860" y="5"/>
                      <a:pt x="6859" y="5"/>
                      <a:pt x="6859" y="3"/>
                    </a:cubicBezTo>
                    <a:cubicBezTo>
                      <a:pt x="6859" y="2"/>
                      <a:pt x="6860" y="1"/>
                      <a:pt x="6861" y="1"/>
                    </a:cubicBezTo>
                    <a:close/>
                    <a:moveTo>
                      <a:pt x="6869" y="1"/>
                    </a:moveTo>
                    <a:lnTo>
                      <a:pt x="6869" y="1"/>
                    </a:lnTo>
                    <a:cubicBezTo>
                      <a:pt x="6870" y="1"/>
                      <a:pt x="6871" y="2"/>
                      <a:pt x="6871" y="3"/>
                    </a:cubicBezTo>
                    <a:cubicBezTo>
                      <a:pt x="6871" y="5"/>
                      <a:pt x="6870" y="5"/>
                      <a:pt x="6869" y="5"/>
                    </a:cubicBezTo>
                    <a:lnTo>
                      <a:pt x="6869" y="5"/>
                    </a:lnTo>
                    <a:cubicBezTo>
                      <a:pt x="6868" y="5"/>
                      <a:pt x="6867" y="5"/>
                      <a:pt x="6867" y="3"/>
                    </a:cubicBezTo>
                    <a:cubicBezTo>
                      <a:pt x="6867" y="2"/>
                      <a:pt x="6868" y="1"/>
                      <a:pt x="6869" y="1"/>
                    </a:cubicBezTo>
                    <a:close/>
                    <a:moveTo>
                      <a:pt x="6877" y="1"/>
                    </a:moveTo>
                    <a:lnTo>
                      <a:pt x="6877" y="1"/>
                    </a:lnTo>
                    <a:cubicBezTo>
                      <a:pt x="6878" y="1"/>
                      <a:pt x="6879" y="2"/>
                      <a:pt x="6879" y="3"/>
                    </a:cubicBezTo>
                    <a:cubicBezTo>
                      <a:pt x="6879" y="5"/>
                      <a:pt x="6878" y="5"/>
                      <a:pt x="6877" y="5"/>
                    </a:cubicBezTo>
                    <a:lnTo>
                      <a:pt x="6877" y="5"/>
                    </a:lnTo>
                    <a:cubicBezTo>
                      <a:pt x="6876" y="5"/>
                      <a:pt x="6875" y="5"/>
                      <a:pt x="6875" y="3"/>
                    </a:cubicBezTo>
                    <a:cubicBezTo>
                      <a:pt x="6875" y="2"/>
                      <a:pt x="6876" y="1"/>
                      <a:pt x="6877" y="1"/>
                    </a:cubicBezTo>
                    <a:close/>
                    <a:moveTo>
                      <a:pt x="6885" y="1"/>
                    </a:moveTo>
                    <a:lnTo>
                      <a:pt x="6885" y="1"/>
                    </a:lnTo>
                    <a:cubicBezTo>
                      <a:pt x="6886" y="1"/>
                      <a:pt x="6887" y="2"/>
                      <a:pt x="6887" y="3"/>
                    </a:cubicBezTo>
                    <a:cubicBezTo>
                      <a:pt x="6887" y="5"/>
                      <a:pt x="6886" y="5"/>
                      <a:pt x="6885" y="5"/>
                    </a:cubicBezTo>
                    <a:lnTo>
                      <a:pt x="6885" y="5"/>
                    </a:lnTo>
                    <a:cubicBezTo>
                      <a:pt x="6884" y="5"/>
                      <a:pt x="6883" y="5"/>
                      <a:pt x="6883" y="3"/>
                    </a:cubicBezTo>
                    <a:cubicBezTo>
                      <a:pt x="6883" y="2"/>
                      <a:pt x="6884" y="1"/>
                      <a:pt x="6885" y="1"/>
                    </a:cubicBezTo>
                    <a:close/>
                    <a:moveTo>
                      <a:pt x="6893" y="1"/>
                    </a:moveTo>
                    <a:lnTo>
                      <a:pt x="6893" y="1"/>
                    </a:lnTo>
                    <a:cubicBezTo>
                      <a:pt x="6894" y="1"/>
                      <a:pt x="6895" y="2"/>
                      <a:pt x="6895" y="3"/>
                    </a:cubicBezTo>
                    <a:cubicBezTo>
                      <a:pt x="6895" y="5"/>
                      <a:pt x="6894" y="5"/>
                      <a:pt x="6893" y="5"/>
                    </a:cubicBezTo>
                    <a:lnTo>
                      <a:pt x="6893" y="5"/>
                    </a:lnTo>
                    <a:cubicBezTo>
                      <a:pt x="6892" y="5"/>
                      <a:pt x="6891" y="5"/>
                      <a:pt x="6891" y="3"/>
                    </a:cubicBezTo>
                    <a:cubicBezTo>
                      <a:pt x="6891" y="2"/>
                      <a:pt x="6892" y="1"/>
                      <a:pt x="6893" y="1"/>
                    </a:cubicBezTo>
                    <a:close/>
                    <a:moveTo>
                      <a:pt x="6901" y="1"/>
                    </a:moveTo>
                    <a:lnTo>
                      <a:pt x="6901" y="1"/>
                    </a:lnTo>
                    <a:cubicBezTo>
                      <a:pt x="6902" y="1"/>
                      <a:pt x="6903" y="2"/>
                      <a:pt x="6903" y="3"/>
                    </a:cubicBezTo>
                    <a:cubicBezTo>
                      <a:pt x="6903" y="5"/>
                      <a:pt x="6902" y="5"/>
                      <a:pt x="6901" y="5"/>
                    </a:cubicBezTo>
                    <a:lnTo>
                      <a:pt x="6901" y="5"/>
                    </a:lnTo>
                    <a:cubicBezTo>
                      <a:pt x="6900" y="5"/>
                      <a:pt x="6899" y="5"/>
                      <a:pt x="6899" y="3"/>
                    </a:cubicBezTo>
                    <a:cubicBezTo>
                      <a:pt x="6899" y="2"/>
                      <a:pt x="6900" y="1"/>
                      <a:pt x="6901" y="1"/>
                    </a:cubicBezTo>
                    <a:close/>
                    <a:moveTo>
                      <a:pt x="6909" y="1"/>
                    </a:moveTo>
                    <a:lnTo>
                      <a:pt x="6909" y="1"/>
                    </a:lnTo>
                    <a:cubicBezTo>
                      <a:pt x="6910" y="1"/>
                      <a:pt x="6911" y="2"/>
                      <a:pt x="6911" y="3"/>
                    </a:cubicBezTo>
                    <a:cubicBezTo>
                      <a:pt x="6911" y="5"/>
                      <a:pt x="6910" y="5"/>
                      <a:pt x="6909" y="5"/>
                    </a:cubicBezTo>
                    <a:lnTo>
                      <a:pt x="6909" y="5"/>
                    </a:lnTo>
                    <a:cubicBezTo>
                      <a:pt x="6908" y="5"/>
                      <a:pt x="6907" y="5"/>
                      <a:pt x="6907" y="3"/>
                    </a:cubicBezTo>
                    <a:cubicBezTo>
                      <a:pt x="6907" y="2"/>
                      <a:pt x="6908" y="1"/>
                      <a:pt x="6909" y="1"/>
                    </a:cubicBezTo>
                    <a:close/>
                    <a:moveTo>
                      <a:pt x="6917" y="1"/>
                    </a:moveTo>
                    <a:lnTo>
                      <a:pt x="6917" y="1"/>
                    </a:lnTo>
                    <a:cubicBezTo>
                      <a:pt x="6918" y="1"/>
                      <a:pt x="6919" y="2"/>
                      <a:pt x="6919" y="3"/>
                    </a:cubicBezTo>
                    <a:cubicBezTo>
                      <a:pt x="6919" y="5"/>
                      <a:pt x="6918" y="5"/>
                      <a:pt x="6917" y="5"/>
                    </a:cubicBezTo>
                    <a:lnTo>
                      <a:pt x="6917" y="5"/>
                    </a:lnTo>
                    <a:cubicBezTo>
                      <a:pt x="6916" y="5"/>
                      <a:pt x="6915" y="5"/>
                      <a:pt x="6915" y="3"/>
                    </a:cubicBezTo>
                    <a:cubicBezTo>
                      <a:pt x="6915" y="2"/>
                      <a:pt x="6916" y="1"/>
                      <a:pt x="6917" y="1"/>
                    </a:cubicBezTo>
                    <a:close/>
                    <a:moveTo>
                      <a:pt x="6925" y="1"/>
                    </a:moveTo>
                    <a:lnTo>
                      <a:pt x="6925" y="1"/>
                    </a:lnTo>
                    <a:cubicBezTo>
                      <a:pt x="6926" y="1"/>
                      <a:pt x="6927" y="2"/>
                      <a:pt x="6927" y="3"/>
                    </a:cubicBezTo>
                    <a:cubicBezTo>
                      <a:pt x="6927" y="5"/>
                      <a:pt x="6926" y="5"/>
                      <a:pt x="6925" y="5"/>
                    </a:cubicBezTo>
                    <a:lnTo>
                      <a:pt x="6925" y="5"/>
                    </a:lnTo>
                    <a:cubicBezTo>
                      <a:pt x="6924" y="5"/>
                      <a:pt x="6923" y="5"/>
                      <a:pt x="6923" y="3"/>
                    </a:cubicBezTo>
                    <a:cubicBezTo>
                      <a:pt x="6923" y="2"/>
                      <a:pt x="6924" y="1"/>
                      <a:pt x="6925" y="1"/>
                    </a:cubicBezTo>
                    <a:close/>
                    <a:moveTo>
                      <a:pt x="6933" y="1"/>
                    </a:moveTo>
                    <a:lnTo>
                      <a:pt x="6933" y="1"/>
                    </a:lnTo>
                    <a:cubicBezTo>
                      <a:pt x="6934" y="1"/>
                      <a:pt x="6935" y="2"/>
                      <a:pt x="6935" y="3"/>
                    </a:cubicBezTo>
                    <a:cubicBezTo>
                      <a:pt x="6935" y="5"/>
                      <a:pt x="6934" y="5"/>
                      <a:pt x="6933" y="5"/>
                    </a:cubicBezTo>
                    <a:lnTo>
                      <a:pt x="6933" y="5"/>
                    </a:lnTo>
                    <a:cubicBezTo>
                      <a:pt x="6932" y="5"/>
                      <a:pt x="6931" y="5"/>
                      <a:pt x="6931" y="3"/>
                    </a:cubicBezTo>
                    <a:cubicBezTo>
                      <a:pt x="6931" y="2"/>
                      <a:pt x="6932" y="1"/>
                      <a:pt x="6933" y="1"/>
                    </a:cubicBezTo>
                    <a:close/>
                    <a:moveTo>
                      <a:pt x="6941" y="1"/>
                    </a:moveTo>
                    <a:lnTo>
                      <a:pt x="6941" y="1"/>
                    </a:lnTo>
                    <a:cubicBezTo>
                      <a:pt x="6942" y="1"/>
                      <a:pt x="6943" y="2"/>
                      <a:pt x="6943" y="3"/>
                    </a:cubicBezTo>
                    <a:cubicBezTo>
                      <a:pt x="6943" y="5"/>
                      <a:pt x="6942" y="5"/>
                      <a:pt x="6941" y="5"/>
                    </a:cubicBezTo>
                    <a:lnTo>
                      <a:pt x="6941" y="5"/>
                    </a:lnTo>
                    <a:cubicBezTo>
                      <a:pt x="6940" y="5"/>
                      <a:pt x="6939" y="5"/>
                      <a:pt x="6939" y="3"/>
                    </a:cubicBezTo>
                    <a:cubicBezTo>
                      <a:pt x="6939" y="2"/>
                      <a:pt x="6940" y="1"/>
                      <a:pt x="6941" y="1"/>
                    </a:cubicBezTo>
                    <a:close/>
                    <a:moveTo>
                      <a:pt x="6949" y="1"/>
                    </a:moveTo>
                    <a:lnTo>
                      <a:pt x="6949" y="1"/>
                    </a:lnTo>
                    <a:cubicBezTo>
                      <a:pt x="6950" y="1"/>
                      <a:pt x="6951" y="2"/>
                      <a:pt x="6951" y="3"/>
                    </a:cubicBezTo>
                    <a:cubicBezTo>
                      <a:pt x="6951" y="5"/>
                      <a:pt x="6950" y="5"/>
                      <a:pt x="6949" y="5"/>
                    </a:cubicBezTo>
                    <a:lnTo>
                      <a:pt x="6949" y="5"/>
                    </a:lnTo>
                    <a:cubicBezTo>
                      <a:pt x="6948" y="5"/>
                      <a:pt x="6947" y="5"/>
                      <a:pt x="6947" y="3"/>
                    </a:cubicBezTo>
                    <a:cubicBezTo>
                      <a:pt x="6947" y="2"/>
                      <a:pt x="6948" y="1"/>
                      <a:pt x="6949" y="1"/>
                    </a:cubicBezTo>
                    <a:close/>
                    <a:moveTo>
                      <a:pt x="6957" y="1"/>
                    </a:moveTo>
                    <a:lnTo>
                      <a:pt x="6957" y="1"/>
                    </a:lnTo>
                    <a:cubicBezTo>
                      <a:pt x="6958" y="1"/>
                      <a:pt x="6959" y="2"/>
                      <a:pt x="6959" y="3"/>
                    </a:cubicBezTo>
                    <a:cubicBezTo>
                      <a:pt x="6959" y="5"/>
                      <a:pt x="6958" y="5"/>
                      <a:pt x="6957" y="5"/>
                    </a:cubicBezTo>
                    <a:lnTo>
                      <a:pt x="6957" y="5"/>
                    </a:lnTo>
                    <a:cubicBezTo>
                      <a:pt x="6956" y="5"/>
                      <a:pt x="6955" y="5"/>
                      <a:pt x="6955" y="3"/>
                    </a:cubicBezTo>
                    <a:cubicBezTo>
                      <a:pt x="6955" y="2"/>
                      <a:pt x="6956" y="1"/>
                      <a:pt x="6957" y="1"/>
                    </a:cubicBezTo>
                    <a:close/>
                    <a:moveTo>
                      <a:pt x="6965" y="1"/>
                    </a:moveTo>
                    <a:lnTo>
                      <a:pt x="6965" y="1"/>
                    </a:lnTo>
                    <a:cubicBezTo>
                      <a:pt x="6966" y="1"/>
                      <a:pt x="6967" y="2"/>
                      <a:pt x="6967" y="3"/>
                    </a:cubicBezTo>
                    <a:cubicBezTo>
                      <a:pt x="6967" y="5"/>
                      <a:pt x="6966" y="5"/>
                      <a:pt x="6965" y="5"/>
                    </a:cubicBezTo>
                    <a:lnTo>
                      <a:pt x="6965" y="5"/>
                    </a:lnTo>
                    <a:cubicBezTo>
                      <a:pt x="6964" y="5"/>
                      <a:pt x="6963" y="5"/>
                      <a:pt x="6963" y="3"/>
                    </a:cubicBezTo>
                    <a:cubicBezTo>
                      <a:pt x="6963" y="2"/>
                      <a:pt x="6964" y="1"/>
                      <a:pt x="6965" y="1"/>
                    </a:cubicBezTo>
                    <a:close/>
                    <a:moveTo>
                      <a:pt x="6973" y="1"/>
                    </a:moveTo>
                    <a:lnTo>
                      <a:pt x="6973" y="1"/>
                    </a:lnTo>
                    <a:cubicBezTo>
                      <a:pt x="6974" y="1"/>
                      <a:pt x="6975" y="2"/>
                      <a:pt x="6975" y="3"/>
                    </a:cubicBezTo>
                    <a:cubicBezTo>
                      <a:pt x="6975" y="5"/>
                      <a:pt x="6974" y="5"/>
                      <a:pt x="6973" y="5"/>
                    </a:cubicBezTo>
                    <a:lnTo>
                      <a:pt x="6973" y="5"/>
                    </a:lnTo>
                    <a:cubicBezTo>
                      <a:pt x="6972" y="5"/>
                      <a:pt x="6971" y="5"/>
                      <a:pt x="6971" y="3"/>
                    </a:cubicBezTo>
                    <a:cubicBezTo>
                      <a:pt x="6971" y="2"/>
                      <a:pt x="6972" y="1"/>
                      <a:pt x="6973" y="1"/>
                    </a:cubicBezTo>
                    <a:close/>
                    <a:moveTo>
                      <a:pt x="6981" y="1"/>
                    </a:moveTo>
                    <a:lnTo>
                      <a:pt x="6981" y="1"/>
                    </a:lnTo>
                    <a:cubicBezTo>
                      <a:pt x="6982" y="1"/>
                      <a:pt x="6983" y="2"/>
                      <a:pt x="6983" y="3"/>
                    </a:cubicBezTo>
                    <a:cubicBezTo>
                      <a:pt x="6983" y="5"/>
                      <a:pt x="6982" y="5"/>
                      <a:pt x="6981" y="5"/>
                    </a:cubicBezTo>
                    <a:lnTo>
                      <a:pt x="6981" y="5"/>
                    </a:lnTo>
                    <a:cubicBezTo>
                      <a:pt x="6980" y="5"/>
                      <a:pt x="6979" y="5"/>
                      <a:pt x="6979" y="3"/>
                    </a:cubicBezTo>
                    <a:cubicBezTo>
                      <a:pt x="6979" y="2"/>
                      <a:pt x="6980" y="1"/>
                      <a:pt x="6981" y="1"/>
                    </a:cubicBezTo>
                    <a:close/>
                    <a:moveTo>
                      <a:pt x="6989" y="1"/>
                    </a:moveTo>
                    <a:lnTo>
                      <a:pt x="6989" y="1"/>
                    </a:lnTo>
                    <a:cubicBezTo>
                      <a:pt x="6990" y="1"/>
                      <a:pt x="6991" y="2"/>
                      <a:pt x="6991" y="3"/>
                    </a:cubicBezTo>
                    <a:cubicBezTo>
                      <a:pt x="6991" y="5"/>
                      <a:pt x="6990" y="5"/>
                      <a:pt x="6989" y="5"/>
                    </a:cubicBezTo>
                    <a:lnTo>
                      <a:pt x="6989" y="5"/>
                    </a:lnTo>
                    <a:cubicBezTo>
                      <a:pt x="6988" y="5"/>
                      <a:pt x="6987" y="5"/>
                      <a:pt x="6987" y="3"/>
                    </a:cubicBezTo>
                    <a:cubicBezTo>
                      <a:pt x="6987" y="2"/>
                      <a:pt x="6988" y="1"/>
                      <a:pt x="6989" y="1"/>
                    </a:cubicBezTo>
                    <a:close/>
                    <a:moveTo>
                      <a:pt x="6997" y="1"/>
                    </a:moveTo>
                    <a:lnTo>
                      <a:pt x="6997" y="1"/>
                    </a:lnTo>
                    <a:cubicBezTo>
                      <a:pt x="6998" y="1"/>
                      <a:pt x="6999" y="2"/>
                      <a:pt x="6999" y="3"/>
                    </a:cubicBezTo>
                    <a:cubicBezTo>
                      <a:pt x="6999" y="5"/>
                      <a:pt x="6998" y="5"/>
                      <a:pt x="6997" y="5"/>
                    </a:cubicBezTo>
                    <a:lnTo>
                      <a:pt x="6997" y="5"/>
                    </a:lnTo>
                    <a:cubicBezTo>
                      <a:pt x="6996" y="5"/>
                      <a:pt x="6995" y="5"/>
                      <a:pt x="6995" y="3"/>
                    </a:cubicBezTo>
                    <a:cubicBezTo>
                      <a:pt x="6995" y="2"/>
                      <a:pt x="6996" y="1"/>
                      <a:pt x="6997" y="1"/>
                    </a:cubicBezTo>
                    <a:close/>
                    <a:moveTo>
                      <a:pt x="7005" y="1"/>
                    </a:moveTo>
                    <a:lnTo>
                      <a:pt x="7005" y="1"/>
                    </a:lnTo>
                    <a:cubicBezTo>
                      <a:pt x="7006" y="1"/>
                      <a:pt x="7007" y="2"/>
                      <a:pt x="7007" y="3"/>
                    </a:cubicBezTo>
                    <a:cubicBezTo>
                      <a:pt x="7007" y="5"/>
                      <a:pt x="7006" y="5"/>
                      <a:pt x="7005" y="5"/>
                    </a:cubicBezTo>
                    <a:lnTo>
                      <a:pt x="7005" y="5"/>
                    </a:lnTo>
                    <a:cubicBezTo>
                      <a:pt x="7004" y="5"/>
                      <a:pt x="7003" y="5"/>
                      <a:pt x="7003" y="3"/>
                    </a:cubicBezTo>
                    <a:cubicBezTo>
                      <a:pt x="7003" y="2"/>
                      <a:pt x="7004" y="1"/>
                      <a:pt x="7005" y="1"/>
                    </a:cubicBezTo>
                    <a:close/>
                    <a:moveTo>
                      <a:pt x="7013" y="1"/>
                    </a:moveTo>
                    <a:lnTo>
                      <a:pt x="7013" y="1"/>
                    </a:lnTo>
                    <a:cubicBezTo>
                      <a:pt x="7014" y="1"/>
                      <a:pt x="7015" y="2"/>
                      <a:pt x="7015" y="3"/>
                    </a:cubicBezTo>
                    <a:cubicBezTo>
                      <a:pt x="7015" y="5"/>
                      <a:pt x="7014" y="5"/>
                      <a:pt x="7013" y="5"/>
                    </a:cubicBezTo>
                    <a:lnTo>
                      <a:pt x="7013" y="5"/>
                    </a:lnTo>
                    <a:cubicBezTo>
                      <a:pt x="7012" y="5"/>
                      <a:pt x="7011" y="5"/>
                      <a:pt x="7011" y="3"/>
                    </a:cubicBezTo>
                    <a:cubicBezTo>
                      <a:pt x="7011" y="2"/>
                      <a:pt x="7012" y="1"/>
                      <a:pt x="7013" y="1"/>
                    </a:cubicBezTo>
                    <a:close/>
                    <a:moveTo>
                      <a:pt x="7021" y="1"/>
                    </a:moveTo>
                    <a:lnTo>
                      <a:pt x="7021" y="1"/>
                    </a:lnTo>
                    <a:cubicBezTo>
                      <a:pt x="7022" y="1"/>
                      <a:pt x="7023" y="2"/>
                      <a:pt x="7023" y="3"/>
                    </a:cubicBezTo>
                    <a:cubicBezTo>
                      <a:pt x="7023" y="5"/>
                      <a:pt x="7022" y="5"/>
                      <a:pt x="7021" y="5"/>
                    </a:cubicBezTo>
                    <a:lnTo>
                      <a:pt x="7021" y="5"/>
                    </a:lnTo>
                    <a:cubicBezTo>
                      <a:pt x="7020" y="5"/>
                      <a:pt x="7019" y="5"/>
                      <a:pt x="7019" y="3"/>
                    </a:cubicBezTo>
                    <a:cubicBezTo>
                      <a:pt x="7019" y="2"/>
                      <a:pt x="7020" y="1"/>
                      <a:pt x="7021" y="1"/>
                    </a:cubicBezTo>
                    <a:close/>
                    <a:moveTo>
                      <a:pt x="7029" y="1"/>
                    </a:moveTo>
                    <a:lnTo>
                      <a:pt x="7029" y="1"/>
                    </a:lnTo>
                    <a:cubicBezTo>
                      <a:pt x="7030" y="1"/>
                      <a:pt x="7031" y="2"/>
                      <a:pt x="7031" y="3"/>
                    </a:cubicBezTo>
                    <a:cubicBezTo>
                      <a:pt x="7031" y="5"/>
                      <a:pt x="7030" y="5"/>
                      <a:pt x="7029" y="5"/>
                    </a:cubicBezTo>
                    <a:lnTo>
                      <a:pt x="7029" y="5"/>
                    </a:lnTo>
                    <a:cubicBezTo>
                      <a:pt x="7028" y="5"/>
                      <a:pt x="7027" y="5"/>
                      <a:pt x="7027" y="3"/>
                    </a:cubicBezTo>
                    <a:cubicBezTo>
                      <a:pt x="7027" y="2"/>
                      <a:pt x="7028" y="1"/>
                      <a:pt x="7029" y="1"/>
                    </a:cubicBezTo>
                    <a:close/>
                    <a:moveTo>
                      <a:pt x="7037" y="1"/>
                    </a:moveTo>
                    <a:lnTo>
                      <a:pt x="7037" y="1"/>
                    </a:lnTo>
                    <a:cubicBezTo>
                      <a:pt x="7038" y="1"/>
                      <a:pt x="7039" y="2"/>
                      <a:pt x="7039" y="4"/>
                    </a:cubicBezTo>
                    <a:cubicBezTo>
                      <a:pt x="7039" y="5"/>
                      <a:pt x="7038" y="6"/>
                      <a:pt x="7037" y="6"/>
                    </a:cubicBezTo>
                    <a:lnTo>
                      <a:pt x="7037" y="6"/>
                    </a:lnTo>
                    <a:cubicBezTo>
                      <a:pt x="7036" y="6"/>
                      <a:pt x="7035" y="5"/>
                      <a:pt x="7035" y="4"/>
                    </a:cubicBezTo>
                    <a:cubicBezTo>
                      <a:pt x="7035" y="2"/>
                      <a:pt x="7036" y="1"/>
                      <a:pt x="7037" y="1"/>
                    </a:cubicBezTo>
                    <a:close/>
                    <a:moveTo>
                      <a:pt x="7045" y="2"/>
                    </a:moveTo>
                    <a:lnTo>
                      <a:pt x="7045" y="2"/>
                    </a:lnTo>
                    <a:cubicBezTo>
                      <a:pt x="7046" y="2"/>
                      <a:pt x="7047" y="2"/>
                      <a:pt x="7047" y="4"/>
                    </a:cubicBezTo>
                    <a:cubicBezTo>
                      <a:pt x="7047" y="5"/>
                      <a:pt x="7046" y="6"/>
                      <a:pt x="7045" y="6"/>
                    </a:cubicBezTo>
                    <a:lnTo>
                      <a:pt x="7045" y="6"/>
                    </a:lnTo>
                    <a:cubicBezTo>
                      <a:pt x="7044" y="6"/>
                      <a:pt x="7043" y="5"/>
                      <a:pt x="7043" y="4"/>
                    </a:cubicBezTo>
                    <a:cubicBezTo>
                      <a:pt x="7043" y="2"/>
                      <a:pt x="7044" y="2"/>
                      <a:pt x="7045" y="2"/>
                    </a:cubicBezTo>
                    <a:close/>
                    <a:moveTo>
                      <a:pt x="7053" y="2"/>
                    </a:moveTo>
                    <a:lnTo>
                      <a:pt x="7053" y="2"/>
                    </a:lnTo>
                    <a:cubicBezTo>
                      <a:pt x="7054" y="2"/>
                      <a:pt x="7055" y="2"/>
                      <a:pt x="7055" y="4"/>
                    </a:cubicBezTo>
                    <a:cubicBezTo>
                      <a:pt x="7055" y="5"/>
                      <a:pt x="7054" y="6"/>
                      <a:pt x="7053" y="6"/>
                    </a:cubicBezTo>
                    <a:lnTo>
                      <a:pt x="7053" y="6"/>
                    </a:lnTo>
                    <a:cubicBezTo>
                      <a:pt x="7052" y="6"/>
                      <a:pt x="7051" y="5"/>
                      <a:pt x="7051" y="4"/>
                    </a:cubicBezTo>
                    <a:cubicBezTo>
                      <a:pt x="7051" y="2"/>
                      <a:pt x="7052" y="2"/>
                      <a:pt x="7053" y="2"/>
                    </a:cubicBezTo>
                    <a:close/>
                    <a:moveTo>
                      <a:pt x="7061" y="2"/>
                    </a:moveTo>
                    <a:lnTo>
                      <a:pt x="7061" y="2"/>
                    </a:lnTo>
                    <a:cubicBezTo>
                      <a:pt x="7062" y="2"/>
                      <a:pt x="7063" y="2"/>
                      <a:pt x="7063" y="4"/>
                    </a:cubicBezTo>
                    <a:cubicBezTo>
                      <a:pt x="7063" y="5"/>
                      <a:pt x="7062" y="6"/>
                      <a:pt x="7061" y="6"/>
                    </a:cubicBezTo>
                    <a:lnTo>
                      <a:pt x="7061" y="6"/>
                    </a:lnTo>
                    <a:cubicBezTo>
                      <a:pt x="7060" y="6"/>
                      <a:pt x="7059" y="5"/>
                      <a:pt x="7059" y="4"/>
                    </a:cubicBezTo>
                    <a:cubicBezTo>
                      <a:pt x="7059" y="2"/>
                      <a:pt x="7060" y="2"/>
                      <a:pt x="7061" y="2"/>
                    </a:cubicBezTo>
                    <a:close/>
                    <a:moveTo>
                      <a:pt x="7069" y="2"/>
                    </a:moveTo>
                    <a:lnTo>
                      <a:pt x="7069" y="2"/>
                    </a:lnTo>
                    <a:cubicBezTo>
                      <a:pt x="7070" y="2"/>
                      <a:pt x="7071" y="2"/>
                      <a:pt x="7071" y="4"/>
                    </a:cubicBezTo>
                    <a:cubicBezTo>
                      <a:pt x="7071" y="5"/>
                      <a:pt x="7070" y="6"/>
                      <a:pt x="7069" y="6"/>
                    </a:cubicBezTo>
                    <a:lnTo>
                      <a:pt x="7069" y="6"/>
                    </a:lnTo>
                    <a:cubicBezTo>
                      <a:pt x="7068" y="6"/>
                      <a:pt x="7067" y="5"/>
                      <a:pt x="7067" y="4"/>
                    </a:cubicBezTo>
                    <a:cubicBezTo>
                      <a:pt x="7067" y="2"/>
                      <a:pt x="7068" y="2"/>
                      <a:pt x="7069" y="2"/>
                    </a:cubicBezTo>
                    <a:close/>
                    <a:moveTo>
                      <a:pt x="7077" y="2"/>
                    </a:moveTo>
                    <a:lnTo>
                      <a:pt x="7077" y="2"/>
                    </a:lnTo>
                    <a:cubicBezTo>
                      <a:pt x="7078" y="2"/>
                      <a:pt x="7079" y="2"/>
                      <a:pt x="7079" y="4"/>
                    </a:cubicBezTo>
                    <a:cubicBezTo>
                      <a:pt x="7079" y="5"/>
                      <a:pt x="7078" y="6"/>
                      <a:pt x="7077" y="6"/>
                    </a:cubicBezTo>
                    <a:lnTo>
                      <a:pt x="7077" y="6"/>
                    </a:lnTo>
                    <a:cubicBezTo>
                      <a:pt x="7076" y="6"/>
                      <a:pt x="7075" y="5"/>
                      <a:pt x="7075" y="4"/>
                    </a:cubicBezTo>
                    <a:cubicBezTo>
                      <a:pt x="7075" y="2"/>
                      <a:pt x="7076" y="2"/>
                      <a:pt x="7077" y="2"/>
                    </a:cubicBezTo>
                    <a:close/>
                    <a:moveTo>
                      <a:pt x="7085" y="2"/>
                    </a:moveTo>
                    <a:lnTo>
                      <a:pt x="7085" y="2"/>
                    </a:lnTo>
                    <a:cubicBezTo>
                      <a:pt x="7086" y="2"/>
                      <a:pt x="7087" y="2"/>
                      <a:pt x="7087" y="4"/>
                    </a:cubicBezTo>
                    <a:cubicBezTo>
                      <a:pt x="7087" y="5"/>
                      <a:pt x="7086" y="6"/>
                      <a:pt x="7085" y="6"/>
                    </a:cubicBezTo>
                    <a:lnTo>
                      <a:pt x="7085" y="6"/>
                    </a:lnTo>
                    <a:cubicBezTo>
                      <a:pt x="7084" y="6"/>
                      <a:pt x="7083" y="5"/>
                      <a:pt x="7083" y="4"/>
                    </a:cubicBezTo>
                    <a:cubicBezTo>
                      <a:pt x="7083" y="2"/>
                      <a:pt x="7084" y="2"/>
                      <a:pt x="7085" y="2"/>
                    </a:cubicBezTo>
                    <a:close/>
                    <a:moveTo>
                      <a:pt x="7093" y="2"/>
                    </a:moveTo>
                    <a:lnTo>
                      <a:pt x="7093" y="2"/>
                    </a:lnTo>
                    <a:cubicBezTo>
                      <a:pt x="7094" y="2"/>
                      <a:pt x="7095" y="2"/>
                      <a:pt x="7095" y="4"/>
                    </a:cubicBezTo>
                    <a:cubicBezTo>
                      <a:pt x="7095" y="5"/>
                      <a:pt x="7094" y="6"/>
                      <a:pt x="7093" y="6"/>
                    </a:cubicBezTo>
                    <a:lnTo>
                      <a:pt x="7093" y="6"/>
                    </a:lnTo>
                    <a:cubicBezTo>
                      <a:pt x="7092" y="6"/>
                      <a:pt x="7091" y="5"/>
                      <a:pt x="7091" y="4"/>
                    </a:cubicBezTo>
                    <a:cubicBezTo>
                      <a:pt x="7091" y="2"/>
                      <a:pt x="7092" y="2"/>
                      <a:pt x="7093" y="2"/>
                    </a:cubicBezTo>
                    <a:close/>
                    <a:moveTo>
                      <a:pt x="7101" y="2"/>
                    </a:moveTo>
                    <a:lnTo>
                      <a:pt x="7101" y="2"/>
                    </a:lnTo>
                    <a:cubicBezTo>
                      <a:pt x="7102" y="2"/>
                      <a:pt x="7103" y="2"/>
                      <a:pt x="7103" y="4"/>
                    </a:cubicBezTo>
                    <a:cubicBezTo>
                      <a:pt x="7103" y="5"/>
                      <a:pt x="7102" y="6"/>
                      <a:pt x="7101" y="6"/>
                    </a:cubicBezTo>
                    <a:lnTo>
                      <a:pt x="7101" y="6"/>
                    </a:lnTo>
                    <a:cubicBezTo>
                      <a:pt x="7100" y="6"/>
                      <a:pt x="7099" y="5"/>
                      <a:pt x="7099" y="4"/>
                    </a:cubicBezTo>
                    <a:cubicBezTo>
                      <a:pt x="7099" y="2"/>
                      <a:pt x="7100" y="2"/>
                      <a:pt x="7101" y="2"/>
                    </a:cubicBezTo>
                    <a:close/>
                    <a:moveTo>
                      <a:pt x="7109" y="2"/>
                    </a:moveTo>
                    <a:lnTo>
                      <a:pt x="7109" y="2"/>
                    </a:lnTo>
                    <a:cubicBezTo>
                      <a:pt x="7110" y="2"/>
                      <a:pt x="7111" y="2"/>
                      <a:pt x="7111" y="4"/>
                    </a:cubicBezTo>
                    <a:cubicBezTo>
                      <a:pt x="7111" y="5"/>
                      <a:pt x="7110" y="6"/>
                      <a:pt x="7109" y="6"/>
                    </a:cubicBezTo>
                    <a:lnTo>
                      <a:pt x="7109" y="6"/>
                    </a:lnTo>
                    <a:cubicBezTo>
                      <a:pt x="7108" y="6"/>
                      <a:pt x="7107" y="5"/>
                      <a:pt x="7107" y="4"/>
                    </a:cubicBezTo>
                    <a:cubicBezTo>
                      <a:pt x="7107" y="2"/>
                      <a:pt x="7108" y="2"/>
                      <a:pt x="7109" y="2"/>
                    </a:cubicBezTo>
                    <a:close/>
                    <a:moveTo>
                      <a:pt x="7117" y="2"/>
                    </a:moveTo>
                    <a:lnTo>
                      <a:pt x="7117" y="2"/>
                    </a:lnTo>
                    <a:cubicBezTo>
                      <a:pt x="7118" y="2"/>
                      <a:pt x="7119" y="2"/>
                      <a:pt x="7119" y="4"/>
                    </a:cubicBezTo>
                    <a:cubicBezTo>
                      <a:pt x="7119" y="5"/>
                      <a:pt x="7118" y="6"/>
                      <a:pt x="7117" y="6"/>
                    </a:cubicBezTo>
                    <a:lnTo>
                      <a:pt x="7117" y="6"/>
                    </a:lnTo>
                    <a:cubicBezTo>
                      <a:pt x="7116" y="6"/>
                      <a:pt x="7115" y="5"/>
                      <a:pt x="7115" y="4"/>
                    </a:cubicBezTo>
                    <a:cubicBezTo>
                      <a:pt x="7115" y="2"/>
                      <a:pt x="7116" y="2"/>
                      <a:pt x="7117" y="2"/>
                    </a:cubicBezTo>
                    <a:close/>
                    <a:moveTo>
                      <a:pt x="7125" y="2"/>
                    </a:moveTo>
                    <a:lnTo>
                      <a:pt x="7125" y="2"/>
                    </a:lnTo>
                    <a:cubicBezTo>
                      <a:pt x="7126" y="2"/>
                      <a:pt x="7127" y="2"/>
                      <a:pt x="7127" y="4"/>
                    </a:cubicBezTo>
                    <a:cubicBezTo>
                      <a:pt x="7127" y="5"/>
                      <a:pt x="7126" y="6"/>
                      <a:pt x="7125" y="6"/>
                    </a:cubicBezTo>
                    <a:lnTo>
                      <a:pt x="7125" y="6"/>
                    </a:lnTo>
                    <a:cubicBezTo>
                      <a:pt x="7124" y="6"/>
                      <a:pt x="7123" y="5"/>
                      <a:pt x="7123" y="4"/>
                    </a:cubicBezTo>
                    <a:cubicBezTo>
                      <a:pt x="7123" y="2"/>
                      <a:pt x="7124" y="2"/>
                      <a:pt x="7125" y="2"/>
                    </a:cubicBezTo>
                    <a:close/>
                    <a:moveTo>
                      <a:pt x="7133" y="2"/>
                    </a:moveTo>
                    <a:lnTo>
                      <a:pt x="7133" y="2"/>
                    </a:lnTo>
                    <a:cubicBezTo>
                      <a:pt x="7134" y="2"/>
                      <a:pt x="7135" y="2"/>
                      <a:pt x="7135" y="4"/>
                    </a:cubicBezTo>
                    <a:cubicBezTo>
                      <a:pt x="7135" y="5"/>
                      <a:pt x="7134" y="6"/>
                      <a:pt x="7133" y="6"/>
                    </a:cubicBezTo>
                    <a:lnTo>
                      <a:pt x="7133" y="6"/>
                    </a:lnTo>
                    <a:cubicBezTo>
                      <a:pt x="7132" y="6"/>
                      <a:pt x="7131" y="5"/>
                      <a:pt x="7131" y="4"/>
                    </a:cubicBezTo>
                    <a:cubicBezTo>
                      <a:pt x="7131" y="2"/>
                      <a:pt x="7132" y="2"/>
                      <a:pt x="7133" y="2"/>
                    </a:cubicBezTo>
                    <a:close/>
                    <a:moveTo>
                      <a:pt x="7141" y="2"/>
                    </a:moveTo>
                    <a:lnTo>
                      <a:pt x="7141" y="2"/>
                    </a:lnTo>
                    <a:cubicBezTo>
                      <a:pt x="7142" y="2"/>
                      <a:pt x="7143" y="2"/>
                      <a:pt x="7143" y="4"/>
                    </a:cubicBezTo>
                    <a:cubicBezTo>
                      <a:pt x="7143" y="5"/>
                      <a:pt x="7142" y="6"/>
                      <a:pt x="7141" y="6"/>
                    </a:cubicBezTo>
                    <a:lnTo>
                      <a:pt x="7141" y="6"/>
                    </a:lnTo>
                    <a:cubicBezTo>
                      <a:pt x="7140" y="6"/>
                      <a:pt x="7139" y="5"/>
                      <a:pt x="7139" y="4"/>
                    </a:cubicBezTo>
                    <a:cubicBezTo>
                      <a:pt x="7139" y="2"/>
                      <a:pt x="7140" y="2"/>
                      <a:pt x="7141" y="2"/>
                    </a:cubicBezTo>
                    <a:close/>
                    <a:moveTo>
                      <a:pt x="7149" y="2"/>
                    </a:moveTo>
                    <a:lnTo>
                      <a:pt x="7149" y="2"/>
                    </a:lnTo>
                    <a:cubicBezTo>
                      <a:pt x="7150" y="2"/>
                      <a:pt x="7151" y="2"/>
                      <a:pt x="7151" y="4"/>
                    </a:cubicBezTo>
                    <a:cubicBezTo>
                      <a:pt x="7151" y="5"/>
                      <a:pt x="7150" y="6"/>
                      <a:pt x="7149" y="6"/>
                    </a:cubicBezTo>
                    <a:lnTo>
                      <a:pt x="7149" y="6"/>
                    </a:lnTo>
                    <a:cubicBezTo>
                      <a:pt x="7148" y="6"/>
                      <a:pt x="7147" y="5"/>
                      <a:pt x="7147" y="4"/>
                    </a:cubicBezTo>
                    <a:cubicBezTo>
                      <a:pt x="7147" y="2"/>
                      <a:pt x="7148" y="2"/>
                      <a:pt x="7149" y="2"/>
                    </a:cubicBezTo>
                    <a:close/>
                    <a:moveTo>
                      <a:pt x="7157" y="2"/>
                    </a:moveTo>
                    <a:lnTo>
                      <a:pt x="7157" y="2"/>
                    </a:lnTo>
                    <a:cubicBezTo>
                      <a:pt x="7158" y="2"/>
                      <a:pt x="7159" y="2"/>
                      <a:pt x="7159" y="4"/>
                    </a:cubicBezTo>
                    <a:cubicBezTo>
                      <a:pt x="7159" y="5"/>
                      <a:pt x="7158" y="6"/>
                      <a:pt x="7157" y="6"/>
                    </a:cubicBezTo>
                    <a:lnTo>
                      <a:pt x="7157" y="6"/>
                    </a:lnTo>
                    <a:cubicBezTo>
                      <a:pt x="7156" y="6"/>
                      <a:pt x="7155" y="5"/>
                      <a:pt x="7155" y="4"/>
                    </a:cubicBezTo>
                    <a:cubicBezTo>
                      <a:pt x="7155" y="2"/>
                      <a:pt x="7156" y="2"/>
                      <a:pt x="7157" y="2"/>
                    </a:cubicBezTo>
                    <a:close/>
                    <a:moveTo>
                      <a:pt x="7165" y="2"/>
                    </a:moveTo>
                    <a:lnTo>
                      <a:pt x="7165" y="2"/>
                    </a:lnTo>
                    <a:cubicBezTo>
                      <a:pt x="7166" y="2"/>
                      <a:pt x="7167" y="2"/>
                      <a:pt x="7167" y="4"/>
                    </a:cubicBezTo>
                    <a:cubicBezTo>
                      <a:pt x="7167" y="5"/>
                      <a:pt x="7166" y="6"/>
                      <a:pt x="7165" y="6"/>
                    </a:cubicBezTo>
                    <a:lnTo>
                      <a:pt x="7165" y="6"/>
                    </a:lnTo>
                    <a:cubicBezTo>
                      <a:pt x="7164" y="6"/>
                      <a:pt x="7163" y="5"/>
                      <a:pt x="7163" y="4"/>
                    </a:cubicBezTo>
                    <a:cubicBezTo>
                      <a:pt x="7163" y="2"/>
                      <a:pt x="7164" y="2"/>
                      <a:pt x="7165" y="2"/>
                    </a:cubicBezTo>
                    <a:close/>
                    <a:moveTo>
                      <a:pt x="7173" y="2"/>
                    </a:moveTo>
                    <a:lnTo>
                      <a:pt x="7173" y="2"/>
                    </a:lnTo>
                    <a:cubicBezTo>
                      <a:pt x="7174" y="2"/>
                      <a:pt x="7175" y="2"/>
                      <a:pt x="7175" y="4"/>
                    </a:cubicBezTo>
                    <a:cubicBezTo>
                      <a:pt x="7175" y="5"/>
                      <a:pt x="7174" y="6"/>
                      <a:pt x="7173" y="6"/>
                    </a:cubicBezTo>
                    <a:lnTo>
                      <a:pt x="7173" y="6"/>
                    </a:lnTo>
                    <a:cubicBezTo>
                      <a:pt x="7172" y="6"/>
                      <a:pt x="7171" y="5"/>
                      <a:pt x="7171" y="4"/>
                    </a:cubicBezTo>
                    <a:cubicBezTo>
                      <a:pt x="7171" y="2"/>
                      <a:pt x="7172" y="2"/>
                      <a:pt x="7173" y="2"/>
                    </a:cubicBezTo>
                    <a:close/>
                    <a:moveTo>
                      <a:pt x="7181" y="2"/>
                    </a:moveTo>
                    <a:lnTo>
                      <a:pt x="7181" y="2"/>
                    </a:lnTo>
                    <a:cubicBezTo>
                      <a:pt x="7182" y="2"/>
                      <a:pt x="7183" y="2"/>
                      <a:pt x="7183" y="4"/>
                    </a:cubicBezTo>
                    <a:cubicBezTo>
                      <a:pt x="7183" y="5"/>
                      <a:pt x="7182" y="6"/>
                      <a:pt x="7181" y="6"/>
                    </a:cubicBezTo>
                    <a:lnTo>
                      <a:pt x="7181" y="6"/>
                    </a:lnTo>
                    <a:cubicBezTo>
                      <a:pt x="7180" y="6"/>
                      <a:pt x="7179" y="5"/>
                      <a:pt x="7179" y="4"/>
                    </a:cubicBezTo>
                    <a:cubicBezTo>
                      <a:pt x="7179" y="2"/>
                      <a:pt x="7180" y="2"/>
                      <a:pt x="7181" y="2"/>
                    </a:cubicBezTo>
                    <a:close/>
                    <a:moveTo>
                      <a:pt x="7189" y="2"/>
                    </a:moveTo>
                    <a:lnTo>
                      <a:pt x="7189" y="2"/>
                    </a:lnTo>
                    <a:cubicBezTo>
                      <a:pt x="7190" y="2"/>
                      <a:pt x="7191" y="2"/>
                      <a:pt x="7191" y="4"/>
                    </a:cubicBezTo>
                    <a:cubicBezTo>
                      <a:pt x="7191" y="5"/>
                      <a:pt x="7190" y="6"/>
                      <a:pt x="7189" y="6"/>
                    </a:cubicBezTo>
                    <a:lnTo>
                      <a:pt x="7189" y="6"/>
                    </a:lnTo>
                    <a:cubicBezTo>
                      <a:pt x="7188" y="6"/>
                      <a:pt x="7187" y="5"/>
                      <a:pt x="7187" y="4"/>
                    </a:cubicBezTo>
                    <a:cubicBezTo>
                      <a:pt x="7187" y="2"/>
                      <a:pt x="7188" y="2"/>
                      <a:pt x="7189" y="2"/>
                    </a:cubicBezTo>
                    <a:close/>
                    <a:moveTo>
                      <a:pt x="7197" y="2"/>
                    </a:moveTo>
                    <a:lnTo>
                      <a:pt x="7197" y="2"/>
                    </a:lnTo>
                    <a:cubicBezTo>
                      <a:pt x="7198" y="2"/>
                      <a:pt x="7199" y="2"/>
                      <a:pt x="7199" y="4"/>
                    </a:cubicBezTo>
                    <a:cubicBezTo>
                      <a:pt x="7199" y="5"/>
                      <a:pt x="7198" y="6"/>
                      <a:pt x="7197" y="6"/>
                    </a:cubicBezTo>
                    <a:lnTo>
                      <a:pt x="7197" y="6"/>
                    </a:lnTo>
                    <a:cubicBezTo>
                      <a:pt x="7196" y="6"/>
                      <a:pt x="7195" y="5"/>
                      <a:pt x="7195" y="4"/>
                    </a:cubicBezTo>
                    <a:cubicBezTo>
                      <a:pt x="7195" y="2"/>
                      <a:pt x="7196" y="2"/>
                      <a:pt x="7197" y="2"/>
                    </a:cubicBezTo>
                    <a:close/>
                    <a:moveTo>
                      <a:pt x="7205" y="2"/>
                    </a:moveTo>
                    <a:lnTo>
                      <a:pt x="7205" y="2"/>
                    </a:lnTo>
                    <a:cubicBezTo>
                      <a:pt x="7206" y="2"/>
                      <a:pt x="7207" y="2"/>
                      <a:pt x="7207" y="4"/>
                    </a:cubicBezTo>
                    <a:cubicBezTo>
                      <a:pt x="7207" y="5"/>
                      <a:pt x="7206" y="6"/>
                      <a:pt x="7205" y="6"/>
                    </a:cubicBezTo>
                    <a:lnTo>
                      <a:pt x="7205" y="6"/>
                    </a:lnTo>
                    <a:cubicBezTo>
                      <a:pt x="7204" y="6"/>
                      <a:pt x="7203" y="5"/>
                      <a:pt x="7203" y="4"/>
                    </a:cubicBezTo>
                    <a:cubicBezTo>
                      <a:pt x="7203" y="2"/>
                      <a:pt x="7204" y="2"/>
                      <a:pt x="7205" y="2"/>
                    </a:cubicBezTo>
                    <a:close/>
                    <a:moveTo>
                      <a:pt x="7213" y="2"/>
                    </a:moveTo>
                    <a:lnTo>
                      <a:pt x="7213" y="2"/>
                    </a:lnTo>
                    <a:cubicBezTo>
                      <a:pt x="7214" y="2"/>
                      <a:pt x="7215" y="2"/>
                      <a:pt x="7215" y="4"/>
                    </a:cubicBezTo>
                    <a:cubicBezTo>
                      <a:pt x="7215" y="5"/>
                      <a:pt x="7214" y="6"/>
                      <a:pt x="7213" y="6"/>
                    </a:cubicBezTo>
                    <a:lnTo>
                      <a:pt x="7213" y="6"/>
                    </a:lnTo>
                    <a:cubicBezTo>
                      <a:pt x="7212" y="6"/>
                      <a:pt x="7211" y="5"/>
                      <a:pt x="7211" y="4"/>
                    </a:cubicBezTo>
                    <a:cubicBezTo>
                      <a:pt x="7211" y="2"/>
                      <a:pt x="7212" y="2"/>
                      <a:pt x="7213" y="2"/>
                    </a:cubicBezTo>
                    <a:close/>
                    <a:moveTo>
                      <a:pt x="7221" y="2"/>
                    </a:moveTo>
                    <a:lnTo>
                      <a:pt x="7221" y="2"/>
                    </a:lnTo>
                    <a:cubicBezTo>
                      <a:pt x="7222" y="2"/>
                      <a:pt x="7223" y="2"/>
                      <a:pt x="7223" y="4"/>
                    </a:cubicBezTo>
                    <a:cubicBezTo>
                      <a:pt x="7223" y="5"/>
                      <a:pt x="7222" y="6"/>
                      <a:pt x="7221" y="6"/>
                    </a:cubicBezTo>
                    <a:lnTo>
                      <a:pt x="7221" y="6"/>
                    </a:lnTo>
                    <a:cubicBezTo>
                      <a:pt x="7220" y="6"/>
                      <a:pt x="7219" y="5"/>
                      <a:pt x="7219" y="4"/>
                    </a:cubicBezTo>
                    <a:cubicBezTo>
                      <a:pt x="7219" y="2"/>
                      <a:pt x="7220" y="2"/>
                      <a:pt x="7221" y="2"/>
                    </a:cubicBezTo>
                    <a:close/>
                    <a:moveTo>
                      <a:pt x="7229" y="2"/>
                    </a:moveTo>
                    <a:lnTo>
                      <a:pt x="7229" y="2"/>
                    </a:lnTo>
                    <a:cubicBezTo>
                      <a:pt x="7230" y="2"/>
                      <a:pt x="7231" y="2"/>
                      <a:pt x="7231" y="4"/>
                    </a:cubicBezTo>
                    <a:cubicBezTo>
                      <a:pt x="7231" y="5"/>
                      <a:pt x="7230" y="6"/>
                      <a:pt x="7229" y="6"/>
                    </a:cubicBezTo>
                    <a:lnTo>
                      <a:pt x="7229" y="6"/>
                    </a:lnTo>
                    <a:cubicBezTo>
                      <a:pt x="7228" y="6"/>
                      <a:pt x="7227" y="5"/>
                      <a:pt x="7227" y="4"/>
                    </a:cubicBezTo>
                    <a:cubicBezTo>
                      <a:pt x="7227" y="2"/>
                      <a:pt x="7228" y="2"/>
                      <a:pt x="7229" y="2"/>
                    </a:cubicBezTo>
                    <a:close/>
                    <a:moveTo>
                      <a:pt x="7237" y="2"/>
                    </a:moveTo>
                    <a:lnTo>
                      <a:pt x="7237" y="2"/>
                    </a:lnTo>
                    <a:cubicBezTo>
                      <a:pt x="7238" y="2"/>
                      <a:pt x="7239" y="2"/>
                      <a:pt x="7239" y="4"/>
                    </a:cubicBezTo>
                    <a:cubicBezTo>
                      <a:pt x="7239" y="5"/>
                      <a:pt x="7238" y="6"/>
                      <a:pt x="7237" y="6"/>
                    </a:cubicBezTo>
                    <a:lnTo>
                      <a:pt x="7237" y="6"/>
                    </a:lnTo>
                    <a:cubicBezTo>
                      <a:pt x="7236" y="6"/>
                      <a:pt x="7235" y="5"/>
                      <a:pt x="7235" y="4"/>
                    </a:cubicBezTo>
                    <a:cubicBezTo>
                      <a:pt x="7235" y="2"/>
                      <a:pt x="7236" y="2"/>
                      <a:pt x="7237" y="2"/>
                    </a:cubicBezTo>
                    <a:close/>
                    <a:moveTo>
                      <a:pt x="7245" y="2"/>
                    </a:moveTo>
                    <a:lnTo>
                      <a:pt x="7245" y="2"/>
                    </a:lnTo>
                    <a:cubicBezTo>
                      <a:pt x="7246" y="2"/>
                      <a:pt x="7247" y="2"/>
                      <a:pt x="7247" y="4"/>
                    </a:cubicBezTo>
                    <a:cubicBezTo>
                      <a:pt x="7247" y="5"/>
                      <a:pt x="7246" y="6"/>
                      <a:pt x="7245" y="6"/>
                    </a:cubicBezTo>
                    <a:lnTo>
                      <a:pt x="7245" y="6"/>
                    </a:lnTo>
                    <a:cubicBezTo>
                      <a:pt x="7244" y="6"/>
                      <a:pt x="7243" y="5"/>
                      <a:pt x="7243" y="4"/>
                    </a:cubicBezTo>
                    <a:cubicBezTo>
                      <a:pt x="7243" y="2"/>
                      <a:pt x="7244" y="2"/>
                      <a:pt x="7245" y="2"/>
                    </a:cubicBezTo>
                    <a:close/>
                    <a:moveTo>
                      <a:pt x="7253" y="2"/>
                    </a:moveTo>
                    <a:lnTo>
                      <a:pt x="7253" y="2"/>
                    </a:lnTo>
                    <a:cubicBezTo>
                      <a:pt x="7254" y="2"/>
                      <a:pt x="7255" y="2"/>
                      <a:pt x="7255" y="4"/>
                    </a:cubicBezTo>
                    <a:cubicBezTo>
                      <a:pt x="7255" y="5"/>
                      <a:pt x="7254" y="6"/>
                      <a:pt x="7253" y="6"/>
                    </a:cubicBezTo>
                    <a:lnTo>
                      <a:pt x="7253" y="6"/>
                    </a:lnTo>
                    <a:cubicBezTo>
                      <a:pt x="7252" y="6"/>
                      <a:pt x="7251" y="5"/>
                      <a:pt x="7251" y="4"/>
                    </a:cubicBezTo>
                    <a:cubicBezTo>
                      <a:pt x="7251" y="2"/>
                      <a:pt x="7252" y="2"/>
                      <a:pt x="7253" y="2"/>
                    </a:cubicBezTo>
                    <a:close/>
                    <a:moveTo>
                      <a:pt x="7261" y="2"/>
                    </a:moveTo>
                    <a:lnTo>
                      <a:pt x="7261" y="2"/>
                    </a:lnTo>
                    <a:cubicBezTo>
                      <a:pt x="7262" y="2"/>
                      <a:pt x="7263" y="2"/>
                      <a:pt x="7263" y="4"/>
                    </a:cubicBezTo>
                    <a:cubicBezTo>
                      <a:pt x="7263" y="5"/>
                      <a:pt x="7262" y="6"/>
                      <a:pt x="7261" y="6"/>
                    </a:cubicBezTo>
                    <a:lnTo>
                      <a:pt x="7261" y="6"/>
                    </a:lnTo>
                    <a:cubicBezTo>
                      <a:pt x="7260" y="6"/>
                      <a:pt x="7259" y="5"/>
                      <a:pt x="7259" y="4"/>
                    </a:cubicBezTo>
                    <a:cubicBezTo>
                      <a:pt x="7259" y="2"/>
                      <a:pt x="7260" y="2"/>
                      <a:pt x="7261" y="2"/>
                    </a:cubicBezTo>
                    <a:close/>
                    <a:moveTo>
                      <a:pt x="7269" y="2"/>
                    </a:moveTo>
                    <a:lnTo>
                      <a:pt x="7269" y="2"/>
                    </a:lnTo>
                    <a:cubicBezTo>
                      <a:pt x="7270" y="2"/>
                      <a:pt x="7271" y="2"/>
                      <a:pt x="7271" y="4"/>
                    </a:cubicBezTo>
                    <a:cubicBezTo>
                      <a:pt x="7271" y="5"/>
                      <a:pt x="7270" y="6"/>
                      <a:pt x="7269" y="6"/>
                    </a:cubicBezTo>
                    <a:lnTo>
                      <a:pt x="7269" y="6"/>
                    </a:lnTo>
                    <a:cubicBezTo>
                      <a:pt x="7268" y="6"/>
                      <a:pt x="7267" y="5"/>
                      <a:pt x="7267" y="4"/>
                    </a:cubicBezTo>
                    <a:cubicBezTo>
                      <a:pt x="7267" y="2"/>
                      <a:pt x="7268" y="2"/>
                      <a:pt x="7269" y="2"/>
                    </a:cubicBezTo>
                    <a:close/>
                    <a:moveTo>
                      <a:pt x="7277" y="2"/>
                    </a:moveTo>
                    <a:lnTo>
                      <a:pt x="7277" y="2"/>
                    </a:lnTo>
                    <a:cubicBezTo>
                      <a:pt x="7278" y="2"/>
                      <a:pt x="7279" y="2"/>
                      <a:pt x="7279" y="4"/>
                    </a:cubicBezTo>
                    <a:cubicBezTo>
                      <a:pt x="7279" y="5"/>
                      <a:pt x="7278" y="6"/>
                      <a:pt x="7277" y="6"/>
                    </a:cubicBezTo>
                    <a:lnTo>
                      <a:pt x="7277" y="6"/>
                    </a:lnTo>
                    <a:cubicBezTo>
                      <a:pt x="7276" y="6"/>
                      <a:pt x="7275" y="5"/>
                      <a:pt x="7275" y="4"/>
                    </a:cubicBezTo>
                    <a:cubicBezTo>
                      <a:pt x="7275" y="2"/>
                      <a:pt x="7276" y="2"/>
                      <a:pt x="7277" y="2"/>
                    </a:cubicBezTo>
                    <a:close/>
                    <a:moveTo>
                      <a:pt x="7285" y="2"/>
                    </a:moveTo>
                    <a:lnTo>
                      <a:pt x="7285" y="2"/>
                    </a:lnTo>
                    <a:cubicBezTo>
                      <a:pt x="7286" y="2"/>
                      <a:pt x="7287" y="2"/>
                      <a:pt x="7287" y="4"/>
                    </a:cubicBezTo>
                    <a:cubicBezTo>
                      <a:pt x="7287" y="5"/>
                      <a:pt x="7286" y="6"/>
                      <a:pt x="7285" y="6"/>
                    </a:cubicBezTo>
                    <a:lnTo>
                      <a:pt x="7285" y="6"/>
                    </a:lnTo>
                    <a:cubicBezTo>
                      <a:pt x="7284" y="6"/>
                      <a:pt x="7283" y="5"/>
                      <a:pt x="7283" y="4"/>
                    </a:cubicBezTo>
                    <a:cubicBezTo>
                      <a:pt x="7283" y="2"/>
                      <a:pt x="7284" y="2"/>
                      <a:pt x="7285" y="2"/>
                    </a:cubicBezTo>
                    <a:close/>
                    <a:moveTo>
                      <a:pt x="7293" y="2"/>
                    </a:moveTo>
                    <a:lnTo>
                      <a:pt x="7293" y="2"/>
                    </a:lnTo>
                    <a:cubicBezTo>
                      <a:pt x="7294" y="2"/>
                      <a:pt x="7295" y="2"/>
                      <a:pt x="7295" y="4"/>
                    </a:cubicBezTo>
                    <a:cubicBezTo>
                      <a:pt x="7295" y="5"/>
                      <a:pt x="7294" y="6"/>
                      <a:pt x="7293" y="6"/>
                    </a:cubicBezTo>
                    <a:lnTo>
                      <a:pt x="7293" y="6"/>
                    </a:lnTo>
                    <a:cubicBezTo>
                      <a:pt x="7292" y="6"/>
                      <a:pt x="7291" y="5"/>
                      <a:pt x="7291" y="4"/>
                    </a:cubicBezTo>
                    <a:cubicBezTo>
                      <a:pt x="7291" y="2"/>
                      <a:pt x="7292" y="2"/>
                      <a:pt x="7293" y="2"/>
                    </a:cubicBezTo>
                    <a:close/>
                    <a:moveTo>
                      <a:pt x="7301" y="2"/>
                    </a:moveTo>
                    <a:lnTo>
                      <a:pt x="7301" y="2"/>
                    </a:lnTo>
                    <a:cubicBezTo>
                      <a:pt x="7302" y="2"/>
                      <a:pt x="7303" y="2"/>
                      <a:pt x="7303" y="4"/>
                    </a:cubicBezTo>
                    <a:cubicBezTo>
                      <a:pt x="7303" y="5"/>
                      <a:pt x="7302" y="6"/>
                      <a:pt x="7301" y="6"/>
                    </a:cubicBezTo>
                    <a:lnTo>
                      <a:pt x="7301" y="6"/>
                    </a:lnTo>
                    <a:cubicBezTo>
                      <a:pt x="7300" y="6"/>
                      <a:pt x="7299" y="5"/>
                      <a:pt x="7299" y="4"/>
                    </a:cubicBezTo>
                    <a:cubicBezTo>
                      <a:pt x="7299" y="2"/>
                      <a:pt x="7300" y="2"/>
                      <a:pt x="7301" y="2"/>
                    </a:cubicBezTo>
                    <a:close/>
                    <a:moveTo>
                      <a:pt x="7309" y="2"/>
                    </a:moveTo>
                    <a:lnTo>
                      <a:pt x="7309" y="2"/>
                    </a:lnTo>
                    <a:cubicBezTo>
                      <a:pt x="7310" y="2"/>
                      <a:pt x="7311" y="2"/>
                      <a:pt x="7311" y="4"/>
                    </a:cubicBezTo>
                    <a:cubicBezTo>
                      <a:pt x="7311" y="5"/>
                      <a:pt x="7310" y="6"/>
                      <a:pt x="7309" y="6"/>
                    </a:cubicBezTo>
                    <a:lnTo>
                      <a:pt x="7309" y="6"/>
                    </a:lnTo>
                    <a:cubicBezTo>
                      <a:pt x="7308" y="6"/>
                      <a:pt x="7307" y="5"/>
                      <a:pt x="7307" y="4"/>
                    </a:cubicBezTo>
                    <a:cubicBezTo>
                      <a:pt x="7307" y="2"/>
                      <a:pt x="7308" y="2"/>
                      <a:pt x="7309" y="2"/>
                    </a:cubicBezTo>
                    <a:close/>
                    <a:moveTo>
                      <a:pt x="7317" y="2"/>
                    </a:moveTo>
                    <a:lnTo>
                      <a:pt x="7317" y="2"/>
                    </a:lnTo>
                    <a:cubicBezTo>
                      <a:pt x="7319" y="2"/>
                      <a:pt x="7319" y="2"/>
                      <a:pt x="7319" y="4"/>
                    </a:cubicBezTo>
                    <a:cubicBezTo>
                      <a:pt x="7319" y="5"/>
                      <a:pt x="7319" y="6"/>
                      <a:pt x="7317" y="6"/>
                    </a:cubicBezTo>
                    <a:lnTo>
                      <a:pt x="7317" y="6"/>
                    </a:lnTo>
                    <a:cubicBezTo>
                      <a:pt x="7316" y="6"/>
                      <a:pt x="7315" y="5"/>
                      <a:pt x="7315" y="4"/>
                    </a:cubicBezTo>
                    <a:cubicBezTo>
                      <a:pt x="7315" y="2"/>
                      <a:pt x="7316" y="2"/>
                      <a:pt x="7317" y="2"/>
                    </a:cubicBezTo>
                    <a:close/>
                    <a:moveTo>
                      <a:pt x="7325" y="2"/>
                    </a:moveTo>
                    <a:lnTo>
                      <a:pt x="7325" y="2"/>
                    </a:lnTo>
                    <a:cubicBezTo>
                      <a:pt x="7327" y="2"/>
                      <a:pt x="7327" y="2"/>
                      <a:pt x="7327" y="4"/>
                    </a:cubicBezTo>
                    <a:cubicBezTo>
                      <a:pt x="7327" y="5"/>
                      <a:pt x="7327" y="6"/>
                      <a:pt x="7325" y="6"/>
                    </a:cubicBezTo>
                    <a:lnTo>
                      <a:pt x="7325" y="6"/>
                    </a:lnTo>
                    <a:cubicBezTo>
                      <a:pt x="7324" y="6"/>
                      <a:pt x="7323" y="5"/>
                      <a:pt x="7323" y="4"/>
                    </a:cubicBezTo>
                    <a:cubicBezTo>
                      <a:pt x="7323" y="2"/>
                      <a:pt x="7324" y="2"/>
                      <a:pt x="7325" y="2"/>
                    </a:cubicBezTo>
                    <a:close/>
                    <a:moveTo>
                      <a:pt x="7333" y="2"/>
                    </a:moveTo>
                    <a:lnTo>
                      <a:pt x="7333" y="2"/>
                    </a:lnTo>
                    <a:cubicBezTo>
                      <a:pt x="7335" y="2"/>
                      <a:pt x="7335" y="2"/>
                      <a:pt x="7335" y="4"/>
                    </a:cubicBezTo>
                    <a:cubicBezTo>
                      <a:pt x="7335" y="5"/>
                      <a:pt x="7335" y="6"/>
                      <a:pt x="7333" y="6"/>
                    </a:cubicBezTo>
                    <a:lnTo>
                      <a:pt x="7333" y="6"/>
                    </a:lnTo>
                    <a:cubicBezTo>
                      <a:pt x="7332" y="6"/>
                      <a:pt x="7331" y="5"/>
                      <a:pt x="7331" y="4"/>
                    </a:cubicBezTo>
                    <a:cubicBezTo>
                      <a:pt x="7331" y="2"/>
                      <a:pt x="7332" y="2"/>
                      <a:pt x="7333" y="2"/>
                    </a:cubicBezTo>
                    <a:close/>
                    <a:moveTo>
                      <a:pt x="7341" y="2"/>
                    </a:moveTo>
                    <a:lnTo>
                      <a:pt x="7341" y="2"/>
                    </a:lnTo>
                    <a:cubicBezTo>
                      <a:pt x="7343" y="2"/>
                      <a:pt x="7343" y="2"/>
                      <a:pt x="7343" y="4"/>
                    </a:cubicBezTo>
                    <a:cubicBezTo>
                      <a:pt x="7343" y="5"/>
                      <a:pt x="7343" y="6"/>
                      <a:pt x="7341" y="6"/>
                    </a:cubicBezTo>
                    <a:lnTo>
                      <a:pt x="7341" y="6"/>
                    </a:lnTo>
                    <a:cubicBezTo>
                      <a:pt x="7340" y="6"/>
                      <a:pt x="7339" y="5"/>
                      <a:pt x="7339" y="4"/>
                    </a:cubicBezTo>
                    <a:cubicBezTo>
                      <a:pt x="7339" y="2"/>
                      <a:pt x="7340" y="2"/>
                      <a:pt x="7341" y="2"/>
                    </a:cubicBezTo>
                    <a:close/>
                    <a:moveTo>
                      <a:pt x="7349" y="2"/>
                    </a:moveTo>
                    <a:lnTo>
                      <a:pt x="7349" y="2"/>
                    </a:lnTo>
                    <a:cubicBezTo>
                      <a:pt x="7351" y="2"/>
                      <a:pt x="7351" y="2"/>
                      <a:pt x="7351" y="4"/>
                    </a:cubicBezTo>
                    <a:cubicBezTo>
                      <a:pt x="7351" y="5"/>
                      <a:pt x="7351" y="6"/>
                      <a:pt x="7349" y="6"/>
                    </a:cubicBezTo>
                    <a:lnTo>
                      <a:pt x="7349" y="6"/>
                    </a:lnTo>
                    <a:cubicBezTo>
                      <a:pt x="7348" y="6"/>
                      <a:pt x="7347" y="5"/>
                      <a:pt x="7347" y="4"/>
                    </a:cubicBezTo>
                    <a:cubicBezTo>
                      <a:pt x="7347" y="2"/>
                      <a:pt x="7348" y="2"/>
                      <a:pt x="7349" y="2"/>
                    </a:cubicBezTo>
                    <a:close/>
                    <a:moveTo>
                      <a:pt x="7357" y="2"/>
                    </a:moveTo>
                    <a:lnTo>
                      <a:pt x="7357" y="2"/>
                    </a:lnTo>
                    <a:cubicBezTo>
                      <a:pt x="7359" y="2"/>
                      <a:pt x="7359" y="2"/>
                      <a:pt x="7359" y="4"/>
                    </a:cubicBezTo>
                    <a:cubicBezTo>
                      <a:pt x="7359" y="5"/>
                      <a:pt x="7359" y="6"/>
                      <a:pt x="7357" y="6"/>
                    </a:cubicBezTo>
                    <a:lnTo>
                      <a:pt x="7357" y="6"/>
                    </a:lnTo>
                    <a:cubicBezTo>
                      <a:pt x="7356" y="6"/>
                      <a:pt x="7355" y="5"/>
                      <a:pt x="7355" y="4"/>
                    </a:cubicBezTo>
                    <a:cubicBezTo>
                      <a:pt x="7355" y="2"/>
                      <a:pt x="7356" y="2"/>
                      <a:pt x="7357" y="2"/>
                    </a:cubicBezTo>
                    <a:close/>
                    <a:moveTo>
                      <a:pt x="7365" y="2"/>
                    </a:moveTo>
                    <a:lnTo>
                      <a:pt x="7365" y="2"/>
                    </a:lnTo>
                    <a:cubicBezTo>
                      <a:pt x="7367" y="2"/>
                      <a:pt x="7367" y="2"/>
                      <a:pt x="7367" y="4"/>
                    </a:cubicBezTo>
                    <a:cubicBezTo>
                      <a:pt x="7367" y="5"/>
                      <a:pt x="7367" y="6"/>
                      <a:pt x="7365" y="6"/>
                    </a:cubicBezTo>
                    <a:lnTo>
                      <a:pt x="7365" y="6"/>
                    </a:lnTo>
                    <a:cubicBezTo>
                      <a:pt x="7364" y="6"/>
                      <a:pt x="7363" y="5"/>
                      <a:pt x="7363" y="4"/>
                    </a:cubicBezTo>
                    <a:cubicBezTo>
                      <a:pt x="7363" y="2"/>
                      <a:pt x="7364" y="2"/>
                      <a:pt x="7365" y="2"/>
                    </a:cubicBezTo>
                    <a:close/>
                    <a:moveTo>
                      <a:pt x="7373" y="2"/>
                    </a:moveTo>
                    <a:lnTo>
                      <a:pt x="7373" y="2"/>
                    </a:lnTo>
                    <a:cubicBezTo>
                      <a:pt x="7375" y="2"/>
                      <a:pt x="7375" y="2"/>
                      <a:pt x="7375" y="4"/>
                    </a:cubicBezTo>
                    <a:cubicBezTo>
                      <a:pt x="7375" y="5"/>
                      <a:pt x="7375" y="6"/>
                      <a:pt x="7373" y="6"/>
                    </a:cubicBezTo>
                    <a:lnTo>
                      <a:pt x="7373" y="6"/>
                    </a:lnTo>
                    <a:cubicBezTo>
                      <a:pt x="7372" y="6"/>
                      <a:pt x="7371" y="5"/>
                      <a:pt x="7371" y="4"/>
                    </a:cubicBezTo>
                    <a:cubicBezTo>
                      <a:pt x="7371" y="2"/>
                      <a:pt x="7372" y="2"/>
                      <a:pt x="7373" y="2"/>
                    </a:cubicBezTo>
                    <a:close/>
                    <a:moveTo>
                      <a:pt x="7381" y="2"/>
                    </a:moveTo>
                    <a:lnTo>
                      <a:pt x="7381" y="2"/>
                    </a:lnTo>
                    <a:cubicBezTo>
                      <a:pt x="7383" y="2"/>
                      <a:pt x="7383" y="2"/>
                      <a:pt x="7383" y="4"/>
                    </a:cubicBezTo>
                    <a:cubicBezTo>
                      <a:pt x="7383" y="5"/>
                      <a:pt x="7383" y="6"/>
                      <a:pt x="7381" y="6"/>
                    </a:cubicBezTo>
                    <a:lnTo>
                      <a:pt x="7381" y="6"/>
                    </a:lnTo>
                    <a:cubicBezTo>
                      <a:pt x="7380" y="6"/>
                      <a:pt x="7379" y="5"/>
                      <a:pt x="7379" y="4"/>
                    </a:cubicBezTo>
                    <a:cubicBezTo>
                      <a:pt x="7379" y="2"/>
                      <a:pt x="7380" y="2"/>
                      <a:pt x="7381" y="2"/>
                    </a:cubicBezTo>
                    <a:close/>
                    <a:moveTo>
                      <a:pt x="7389" y="2"/>
                    </a:moveTo>
                    <a:lnTo>
                      <a:pt x="7389" y="2"/>
                    </a:lnTo>
                    <a:cubicBezTo>
                      <a:pt x="7391" y="2"/>
                      <a:pt x="7391" y="2"/>
                      <a:pt x="7391" y="4"/>
                    </a:cubicBezTo>
                    <a:cubicBezTo>
                      <a:pt x="7391" y="5"/>
                      <a:pt x="7391" y="6"/>
                      <a:pt x="7389" y="6"/>
                    </a:cubicBezTo>
                    <a:lnTo>
                      <a:pt x="7389" y="6"/>
                    </a:lnTo>
                    <a:cubicBezTo>
                      <a:pt x="7388" y="6"/>
                      <a:pt x="7387" y="5"/>
                      <a:pt x="7387" y="4"/>
                    </a:cubicBezTo>
                    <a:cubicBezTo>
                      <a:pt x="7387" y="2"/>
                      <a:pt x="7388" y="2"/>
                      <a:pt x="7389" y="2"/>
                    </a:cubicBezTo>
                    <a:close/>
                    <a:moveTo>
                      <a:pt x="7397" y="2"/>
                    </a:moveTo>
                    <a:lnTo>
                      <a:pt x="7397" y="2"/>
                    </a:lnTo>
                    <a:cubicBezTo>
                      <a:pt x="7399" y="2"/>
                      <a:pt x="7399" y="2"/>
                      <a:pt x="7399" y="4"/>
                    </a:cubicBezTo>
                    <a:cubicBezTo>
                      <a:pt x="7399" y="5"/>
                      <a:pt x="7399" y="6"/>
                      <a:pt x="7397" y="6"/>
                    </a:cubicBezTo>
                    <a:lnTo>
                      <a:pt x="7397" y="6"/>
                    </a:lnTo>
                    <a:cubicBezTo>
                      <a:pt x="7396" y="6"/>
                      <a:pt x="7395" y="5"/>
                      <a:pt x="7395" y="4"/>
                    </a:cubicBezTo>
                    <a:cubicBezTo>
                      <a:pt x="7395" y="2"/>
                      <a:pt x="7396" y="2"/>
                      <a:pt x="7397" y="2"/>
                    </a:cubicBezTo>
                    <a:close/>
                    <a:moveTo>
                      <a:pt x="7405" y="2"/>
                    </a:moveTo>
                    <a:lnTo>
                      <a:pt x="7405" y="2"/>
                    </a:lnTo>
                    <a:cubicBezTo>
                      <a:pt x="7407" y="2"/>
                      <a:pt x="7407" y="2"/>
                      <a:pt x="7407" y="4"/>
                    </a:cubicBezTo>
                    <a:cubicBezTo>
                      <a:pt x="7407" y="5"/>
                      <a:pt x="7407" y="6"/>
                      <a:pt x="7405" y="6"/>
                    </a:cubicBezTo>
                    <a:lnTo>
                      <a:pt x="7405" y="6"/>
                    </a:lnTo>
                    <a:cubicBezTo>
                      <a:pt x="7404" y="6"/>
                      <a:pt x="7403" y="5"/>
                      <a:pt x="7403" y="4"/>
                    </a:cubicBezTo>
                    <a:cubicBezTo>
                      <a:pt x="7403" y="2"/>
                      <a:pt x="7404" y="2"/>
                      <a:pt x="7405" y="2"/>
                    </a:cubicBezTo>
                    <a:close/>
                    <a:moveTo>
                      <a:pt x="7413" y="2"/>
                    </a:moveTo>
                    <a:lnTo>
                      <a:pt x="7413" y="2"/>
                    </a:lnTo>
                    <a:cubicBezTo>
                      <a:pt x="7415" y="2"/>
                      <a:pt x="7415" y="2"/>
                      <a:pt x="7415" y="4"/>
                    </a:cubicBezTo>
                    <a:cubicBezTo>
                      <a:pt x="7415" y="5"/>
                      <a:pt x="7415" y="6"/>
                      <a:pt x="7413" y="6"/>
                    </a:cubicBezTo>
                    <a:lnTo>
                      <a:pt x="7413" y="6"/>
                    </a:lnTo>
                    <a:cubicBezTo>
                      <a:pt x="7412" y="6"/>
                      <a:pt x="7411" y="5"/>
                      <a:pt x="7411" y="4"/>
                    </a:cubicBezTo>
                    <a:cubicBezTo>
                      <a:pt x="7411" y="2"/>
                      <a:pt x="7412" y="2"/>
                      <a:pt x="7413" y="2"/>
                    </a:cubicBezTo>
                    <a:close/>
                    <a:moveTo>
                      <a:pt x="7421" y="2"/>
                    </a:moveTo>
                    <a:lnTo>
                      <a:pt x="7421" y="2"/>
                    </a:lnTo>
                    <a:cubicBezTo>
                      <a:pt x="7423" y="2"/>
                      <a:pt x="7423" y="2"/>
                      <a:pt x="7423" y="4"/>
                    </a:cubicBezTo>
                    <a:cubicBezTo>
                      <a:pt x="7423" y="5"/>
                      <a:pt x="7423" y="6"/>
                      <a:pt x="7421" y="6"/>
                    </a:cubicBezTo>
                    <a:lnTo>
                      <a:pt x="7421" y="6"/>
                    </a:lnTo>
                    <a:cubicBezTo>
                      <a:pt x="7420" y="6"/>
                      <a:pt x="7419" y="5"/>
                      <a:pt x="7419" y="4"/>
                    </a:cubicBezTo>
                    <a:cubicBezTo>
                      <a:pt x="7419" y="2"/>
                      <a:pt x="7420" y="2"/>
                      <a:pt x="7421" y="2"/>
                    </a:cubicBezTo>
                    <a:close/>
                    <a:moveTo>
                      <a:pt x="7429" y="2"/>
                    </a:moveTo>
                    <a:lnTo>
                      <a:pt x="7429" y="2"/>
                    </a:lnTo>
                    <a:cubicBezTo>
                      <a:pt x="7431" y="2"/>
                      <a:pt x="7431" y="2"/>
                      <a:pt x="7431" y="4"/>
                    </a:cubicBezTo>
                    <a:cubicBezTo>
                      <a:pt x="7431" y="5"/>
                      <a:pt x="7431" y="6"/>
                      <a:pt x="7429" y="6"/>
                    </a:cubicBezTo>
                    <a:lnTo>
                      <a:pt x="7429" y="6"/>
                    </a:lnTo>
                    <a:cubicBezTo>
                      <a:pt x="7428" y="6"/>
                      <a:pt x="7427" y="5"/>
                      <a:pt x="7427" y="4"/>
                    </a:cubicBezTo>
                    <a:cubicBezTo>
                      <a:pt x="7427" y="2"/>
                      <a:pt x="7428" y="2"/>
                      <a:pt x="7429" y="2"/>
                    </a:cubicBezTo>
                    <a:close/>
                    <a:moveTo>
                      <a:pt x="7437" y="2"/>
                    </a:moveTo>
                    <a:lnTo>
                      <a:pt x="7437" y="2"/>
                    </a:lnTo>
                    <a:cubicBezTo>
                      <a:pt x="7439" y="2"/>
                      <a:pt x="7439" y="2"/>
                      <a:pt x="7439" y="4"/>
                    </a:cubicBezTo>
                    <a:cubicBezTo>
                      <a:pt x="7439" y="5"/>
                      <a:pt x="7439" y="6"/>
                      <a:pt x="7437" y="6"/>
                    </a:cubicBezTo>
                    <a:lnTo>
                      <a:pt x="7437" y="6"/>
                    </a:lnTo>
                    <a:cubicBezTo>
                      <a:pt x="7436" y="6"/>
                      <a:pt x="7435" y="5"/>
                      <a:pt x="7435" y="4"/>
                    </a:cubicBezTo>
                    <a:cubicBezTo>
                      <a:pt x="7435" y="2"/>
                      <a:pt x="7436" y="2"/>
                      <a:pt x="7437" y="2"/>
                    </a:cubicBezTo>
                    <a:close/>
                    <a:moveTo>
                      <a:pt x="7445" y="2"/>
                    </a:moveTo>
                    <a:lnTo>
                      <a:pt x="7445" y="2"/>
                    </a:lnTo>
                    <a:cubicBezTo>
                      <a:pt x="7447" y="2"/>
                      <a:pt x="7447" y="2"/>
                      <a:pt x="7447" y="4"/>
                    </a:cubicBezTo>
                    <a:cubicBezTo>
                      <a:pt x="7447" y="5"/>
                      <a:pt x="7447" y="6"/>
                      <a:pt x="7445" y="6"/>
                    </a:cubicBezTo>
                    <a:lnTo>
                      <a:pt x="7445" y="6"/>
                    </a:lnTo>
                    <a:cubicBezTo>
                      <a:pt x="7444" y="6"/>
                      <a:pt x="7443" y="5"/>
                      <a:pt x="7443" y="4"/>
                    </a:cubicBezTo>
                    <a:cubicBezTo>
                      <a:pt x="7443" y="2"/>
                      <a:pt x="7444" y="2"/>
                      <a:pt x="7445" y="2"/>
                    </a:cubicBezTo>
                    <a:close/>
                    <a:moveTo>
                      <a:pt x="7453" y="2"/>
                    </a:moveTo>
                    <a:lnTo>
                      <a:pt x="7453" y="2"/>
                    </a:lnTo>
                    <a:cubicBezTo>
                      <a:pt x="7455" y="2"/>
                      <a:pt x="7455" y="2"/>
                      <a:pt x="7455" y="4"/>
                    </a:cubicBezTo>
                    <a:cubicBezTo>
                      <a:pt x="7455" y="5"/>
                      <a:pt x="7455" y="6"/>
                      <a:pt x="7453" y="6"/>
                    </a:cubicBezTo>
                    <a:lnTo>
                      <a:pt x="7453" y="6"/>
                    </a:lnTo>
                    <a:cubicBezTo>
                      <a:pt x="7452" y="6"/>
                      <a:pt x="7451" y="5"/>
                      <a:pt x="7451" y="4"/>
                    </a:cubicBezTo>
                    <a:cubicBezTo>
                      <a:pt x="7451" y="2"/>
                      <a:pt x="7452" y="2"/>
                      <a:pt x="7453" y="2"/>
                    </a:cubicBezTo>
                    <a:close/>
                    <a:moveTo>
                      <a:pt x="7461" y="2"/>
                    </a:moveTo>
                    <a:lnTo>
                      <a:pt x="7461" y="2"/>
                    </a:lnTo>
                    <a:cubicBezTo>
                      <a:pt x="7463" y="2"/>
                      <a:pt x="7463" y="2"/>
                      <a:pt x="7463" y="4"/>
                    </a:cubicBezTo>
                    <a:cubicBezTo>
                      <a:pt x="7463" y="5"/>
                      <a:pt x="7463" y="6"/>
                      <a:pt x="7461" y="6"/>
                    </a:cubicBezTo>
                    <a:lnTo>
                      <a:pt x="7461" y="6"/>
                    </a:lnTo>
                    <a:cubicBezTo>
                      <a:pt x="7460" y="6"/>
                      <a:pt x="7459" y="5"/>
                      <a:pt x="7459" y="4"/>
                    </a:cubicBezTo>
                    <a:cubicBezTo>
                      <a:pt x="7459" y="2"/>
                      <a:pt x="7460" y="2"/>
                      <a:pt x="7461" y="2"/>
                    </a:cubicBezTo>
                    <a:close/>
                    <a:moveTo>
                      <a:pt x="7469" y="2"/>
                    </a:moveTo>
                    <a:lnTo>
                      <a:pt x="7469" y="2"/>
                    </a:lnTo>
                    <a:cubicBezTo>
                      <a:pt x="7471" y="2"/>
                      <a:pt x="7471" y="3"/>
                      <a:pt x="7471" y="4"/>
                    </a:cubicBezTo>
                    <a:cubicBezTo>
                      <a:pt x="7471" y="5"/>
                      <a:pt x="7471" y="6"/>
                      <a:pt x="7469" y="6"/>
                    </a:cubicBezTo>
                    <a:lnTo>
                      <a:pt x="7469" y="6"/>
                    </a:lnTo>
                    <a:cubicBezTo>
                      <a:pt x="7468" y="6"/>
                      <a:pt x="7467" y="5"/>
                      <a:pt x="7467" y="4"/>
                    </a:cubicBezTo>
                    <a:cubicBezTo>
                      <a:pt x="7467" y="3"/>
                      <a:pt x="7468" y="2"/>
                      <a:pt x="7469" y="2"/>
                    </a:cubicBezTo>
                    <a:close/>
                    <a:moveTo>
                      <a:pt x="7477" y="2"/>
                    </a:moveTo>
                    <a:lnTo>
                      <a:pt x="7477" y="2"/>
                    </a:lnTo>
                    <a:cubicBezTo>
                      <a:pt x="7479" y="2"/>
                      <a:pt x="7479" y="3"/>
                      <a:pt x="7479" y="4"/>
                    </a:cubicBezTo>
                    <a:cubicBezTo>
                      <a:pt x="7479" y="5"/>
                      <a:pt x="7479" y="6"/>
                      <a:pt x="7477" y="6"/>
                    </a:cubicBezTo>
                    <a:lnTo>
                      <a:pt x="7477" y="6"/>
                    </a:lnTo>
                    <a:cubicBezTo>
                      <a:pt x="7476" y="6"/>
                      <a:pt x="7475" y="5"/>
                      <a:pt x="7475" y="4"/>
                    </a:cubicBezTo>
                    <a:cubicBezTo>
                      <a:pt x="7475" y="3"/>
                      <a:pt x="7476" y="2"/>
                      <a:pt x="7477" y="2"/>
                    </a:cubicBezTo>
                    <a:close/>
                    <a:moveTo>
                      <a:pt x="7485" y="2"/>
                    </a:moveTo>
                    <a:lnTo>
                      <a:pt x="7485" y="2"/>
                    </a:lnTo>
                    <a:cubicBezTo>
                      <a:pt x="7487" y="2"/>
                      <a:pt x="7487" y="3"/>
                      <a:pt x="7487" y="4"/>
                    </a:cubicBezTo>
                    <a:cubicBezTo>
                      <a:pt x="7487" y="5"/>
                      <a:pt x="7487" y="6"/>
                      <a:pt x="7485" y="6"/>
                    </a:cubicBezTo>
                    <a:lnTo>
                      <a:pt x="7485" y="6"/>
                    </a:lnTo>
                    <a:cubicBezTo>
                      <a:pt x="7484" y="6"/>
                      <a:pt x="7483" y="5"/>
                      <a:pt x="7483" y="4"/>
                    </a:cubicBezTo>
                    <a:cubicBezTo>
                      <a:pt x="7483" y="3"/>
                      <a:pt x="7484" y="2"/>
                      <a:pt x="7485" y="2"/>
                    </a:cubicBezTo>
                    <a:close/>
                    <a:moveTo>
                      <a:pt x="7493" y="2"/>
                    </a:moveTo>
                    <a:lnTo>
                      <a:pt x="7493" y="2"/>
                    </a:lnTo>
                    <a:cubicBezTo>
                      <a:pt x="7495" y="2"/>
                      <a:pt x="7495" y="3"/>
                      <a:pt x="7495" y="4"/>
                    </a:cubicBezTo>
                    <a:cubicBezTo>
                      <a:pt x="7495" y="5"/>
                      <a:pt x="7495" y="6"/>
                      <a:pt x="7493" y="6"/>
                    </a:cubicBezTo>
                    <a:lnTo>
                      <a:pt x="7493" y="6"/>
                    </a:lnTo>
                    <a:cubicBezTo>
                      <a:pt x="7492" y="6"/>
                      <a:pt x="7491" y="5"/>
                      <a:pt x="7491" y="4"/>
                    </a:cubicBezTo>
                    <a:cubicBezTo>
                      <a:pt x="7491" y="3"/>
                      <a:pt x="7492" y="2"/>
                      <a:pt x="7493" y="2"/>
                    </a:cubicBezTo>
                    <a:close/>
                    <a:moveTo>
                      <a:pt x="7501" y="2"/>
                    </a:moveTo>
                    <a:lnTo>
                      <a:pt x="7501" y="2"/>
                    </a:lnTo>
                    <a:cubicBezTo>
                      <a:pt x="7503" y="2"/>
                      <a:pt x="7503" y="3"/>
                      <a:pt x="7503" y="4"/>
                    </a:cubicBezTo>
                    <a:cubicBezTo>
                      <a:pt x="7503" y="5"/>
                      <a:pt x="7503" y="6"/>
                      <a:pt x="7501" y="6"/>
                    </a:cubicBezTo>
                    <a:lnTo>
                      <a:pt x="7501" y="6"/>
                    </a:lnTo>
                    <a:cubicBezTo>
                      <a:pt x="7500" y="6"/>
                      <a:pt x="7499" y="5"/>
                      <a:pt x="7499" y="4"/>
                    </a:cubicBezTo>
                    <a:cubicBezTo>
                      <a:pt x="7499" y="3"/>
                      <a:pt x="7500" y="2"/>
                      <a:pt x="7501" y="2"/>
                    </a:cubicBezTo>
                    <a:close/>
                    <a:moveTo>
                      <a:pt x="7509" y="2"/>
                    </a:moveTo>
                    <a:lnTo>
                      <a:pt x="7509" y="2"/>
                    </a:lnTo>
                    <a:cubicBezTo>
                      <a:pt x="7511" y="2"/>
                      <a:pt x="7511" y="3"/>
                      <a:pt x="7511" y="4"/>
                    </a:cubicBezTo>
                    <a:cubicBezTo>
                      <a:pt x="7511" y="5"/>
                      <a:pt x="7511" y="6"/>
                      <a:pt x="7509" y="6"/>
                    </a:cubicBezTo>
                    <a:lnTo>
                      <a:pt x="7509" y="6"/>
                    </a:lnTo>
                    <a:cubicBezTo>
                      <a:pt x="7508" y="6"/>
                      <a:pt x="7507" y="5"/>
                      <a:pt x="7507" y="4"/>
                    </a:cubicBezTo>
                    <a:cubicBezTo>
                      <a:pt x="7507" y="3"/>
                      <a:pt x="7508" y="2"/>
                      <a:pt x="7509" y="2"/>
                    </a:cubicBezTo>
                    <a:close/>
                    <a:moveTo>
                      <a:pt x="7517" y="2"/>
                    </a:moveTo>
                    <a:lnTo>
                      <a:pt x="7517" y="2"/>
                    </a:lnTo>
                    <a:cubicBezTo>
                      <a:pt x="7519" y="2"/>
                      <a:pt x="7519" y="3"/>
                      <a:pt x="7519" y="4"/>
                    </a:cubicBezTo>
                    <a:cubicBezTo>
                      <a:pt x="7519" y="5"/>
                      <a:pt x="7519" y="6"/>
                      <a:pt x="7517" y="6"/>
                    </a:cubicBezTo>
                    <a:lnTo>
                      <a:pt x="7517" y="6"/>
                    </a:lnTo>
                    <a:cubicBezTo>
                      <a:pt x="7516" y="6"/>
                      <a:pt x="7515" y="5"/>
                      <a:pt x="7515" y="4"/>
                    </a:cubicBezTo>
                    <a:cubicBezTo>
                      <a:pt x="7515" y="3"/>
                      <a:pt x="7516" y="2"/>
                      <a:pt x="7517" y="2"/>
                    </a:cubicBezTo>
                    <a:close/>
                    <a:moveTo>
                      <a:pt x="7525" y="2"/>
                    </a:moveTo>
                    <a:lnTo>
                      <a:pt x="7525" y="2"/>
                    </a:lnTo>
                    <a:cubicBezTo>
                      <a:pt x="7527" y="2"/>
                      <a:pt x="7527" y="3"/>
                      <a:pt x="7527" y="4"/>
                    </a:cubicBezTo>
                    <a:cubicBezTo>
                      <a:pt x="7527" y="5"/>
                      <a:pt x="7527" y="6"/>
                      <a:pt x="7525" y="6"/>
                    </a:cubicBezTo>
                    <a:lnTo>
                      <a:pt x="7525" y="6"/>
                    </a:lnTo>
                    <a:cubicBezTo>
                      <a:pt x="7524" y="6"/>
                      <a:pt x="7523" y="5"/>
                      <a:pt x="7523" y="4"/>
                    </a:cubicBezTo>
                    <a:cubicBezTo>
                      <a:pt x="7523" y="3"/>
                      <a:pt x="7524" y="2"/>
                      <a:pt x="7525" y="2"/>
                    </a:cubicBezTo>
                    <a:close/>
                    <a:moveTo>
                      <a:pt x="7533" y="2"/>
                    </a:moveTo>
                    <a:lnTo>
                      <a:pt x="7534" y="2"/>
                    </a:lnTo>
                    <a:cubicBezTo>
                      <a:pt x="7535" y="2"/>
                      <a:pt x="7536" y="3"/>
                      <a:pt x="7536" y="4"/>
                    </a:cubicBezTo>
                    <a:cubicBezTo>
                      <a:pt x="7536" y="5"/>
                      <a:pt x="7535" y="6"/>
                      <a:pt x="7534" y="6"/>
                    </a:cubicBezTo>
                    <a:lnTo>
                      <a:pt x="7533" y="6"/>
                    </a:lnTo>
                    <a:cubicBezTo>
                      <a:pt x="7532" y="6"/>
                      <a:pt x="7531" y="5"/>
                      <a:pt x="7531" y="4"/>
                    </a:cubicBezTo>
                    <a:cubicBezTo>
                      <a:pt x="7531" y="3"/>
                      <a:pt x="7532" y="2"/>
                      <a:pt x="7533" y="2"/>
                    </a:cubicBezTo>
                    <a:close/>
                    <a:moveTo>
                      <a:pt x="7542" y="2"/>
                    </a:moveTo>
                    <a:lnTo>
                      <a:pt x="7542" y="2"/>
                    </a:lnTo>
                    <a:cubicBezTo>
                      <a:pt x="7543" y="2"/>
                      <a:pt x="7544" y="3"/>
                      <a:pt x="7544" y="4"/>
                    </a:cubicBezTo>
                    <a:cubicBezTo>
                      <a:pt x="7544" y="5"/>
                      <a:pt x="7543" y="6"/>
                      <a:pt x="7542" y="6"/>
                    </a:cubicBezTo>
                    <a:lnTo>
                      <a:pt x="7542" y="6"/>
                    </a:lnTo>
                    <a:cubicBezTo>
                      <a:pt x="7540" y="6"/>
                      <a:pt x="7540" y="5"/>
                      <a:pt x="7540" y="4"/>
                    </a:cubicBezTo>
                    <a:cubicBezTo>
                      <a:pt x="7540" y="3"/>
                      <a:pt x="7540" y="2"/>
                      <a:pt x="7542" y="2"/>
                    </a:cubicBezTo>
                    <a:close/>
                    <a:moveTo>
                      <a:pt x="7550" y="2"/>
                    </a:moveTo>
                    <a:lnTo>
                      <a:pt x="7550" y="2"/>
                    </a:lnTo>
                    <a:cubicBezTo>
                      <a:pt x="7551" y="2"/>
                      <a:pt x="7552" y="3"/>
                      <a:pt x="7552" y="4"/>
                    </a:cubicBezTo>
                    <a:cubicBezTo>
                      <a:pt x="7552" y="5"/>
                      <a:pt x="7551" y="6"/>
                      <a:pt x="7550" y="6"/>
                    </a:cubicBezTo>
                    <a:lnTo>
                      <a:pt x="7550" y="6"/>
                    </a:lnTo>
                    <a:cubicBezTo>
                      <a:pt x="7548" y="6"/>
                      <a:pt x="7548" y="5"/>
                      <a:pt x="7548" y="4"/>
                    </a:cubicBezTo>
                    <a:cubicBezTo>
                      <a:pt x="7548" y="3"/>
                      <a:pt x="7548" y="2"/>
                      <a:pt x="7550" y="2"/>
                    </a:cubicBezTo>
                    <a:close/>
                    <a:moveTo>
                      <a:pt x="7558" y="2"/>
                    </a:moveTo>
                    <a:lnTo>
                      <a:pt x="7558" y="2"/>
                    </a:lnTo>
                    <a:cubicBezTo>
                      <a:pt x="7559" y="2"/>
                      <a:pt x="7560" y="3"/>
                      <a:pt x="7560" y="4"/>
                    </a:cubicBezTo>
                    <a:cubicBezTo>
                      <a:pt x="7560" y="5"/>
                      <a:pt x="7559" y="6"/>
                      <a:pt x="7558" y="6"/>
                    </a:cubicBezTo>
                    <a:lnTo>
                      <a:pt x="7558" y="6"/>
                    </a:lnTo>
                    <a:cubicBezTo>
                      <a:pt x="7556" y="6"/>
                      <a:pt x="7556" y="5"/>
                      <a:pt x="7556" y="4"/>
                    </a:cubicBezTo>
                    <a:cubicBezTo>
                      <a:pt x="7556" y="3"/>
                      <a:pt x="7556" y="2"/>
                      <a:pt x="7558" y="2"/>
                    </a:cubicBezTo>
                    <a:close/>
                    <a:moveTo>
                      <a:pt x="7566" y="2"/>
                    </a:moveTo>
                    <a:lnTo>
                      <a:pt x="7566" y="2"/>
                    </a:lnTo>
                    <a:cubicBezTo>
                      <a:pt x="7567" y="2"/>
                      <a:pt x="7568" y="3"/>
                      <a:pt x="7568" y="4"/>
                    </a:cubicBezTo>
                    <a:cubicBezTo>
                      <a:pt x="7568" y="5"/>
                      <a:pt x="7567" y="6"/>
                      <a:pt x="7566" y="6"/>
                    </a:cubicBezTo>
                    <a:lnTo>
                      <a:pt x="7566" y="6"/>
                    </a:lnTo>
                    <a:cubicBezTo>
                      <a:pt x="7564" y="6"/>
                      <a:pt x="7564" y="5"/>
                      <a:pt x="7564" y="4"/>
                    </a:cubicBezTo>
                    <a:cubicBezTo>
                      <a:pt x="7564" y="3"/>
                      <a:pt x="7564" y="2"/>
                      <a:pt x="7566" y="2"/>
                    </a:cubicBezTo>
                    <a:close/>
                    <a:moveTo>
                      <a:pt x="7574" y="2"/>
                    </a:moveTo>
                    <a:lnTo>
                      <a:pt x="7574" y="2"/>
                    </a:lnTo>
                    <a:cubicBezTo>
                      <a:pt x="7575" y="2"/>
                      <a:pt x="7576" y="3"/>
                      <a:pt x="7576" y="4"/>
                    </a:cubicBezTo>
                    <a:cubicBezTo>
                      <a:pt x="7576" y="5"/>
                      <a:pt x="7575" y="6"/>
                      <a:pt x="7574" y="6"/>
                    </a:cubicBezTo>
                    <a:lnTo>
                      <a:pt x="7574" y="6"/>
                    </a:lnTo>
                    <a:cubicBezTo>
                      <a:pt x="7572" y="6"/>
                      <a:pt x="7572" y="5"/>
                      <a:pt x="7572" y="4"/>
                    </a:cubicBezTo>
                    <a:cubicBezTo>
                      <a:pt x="7572" y="3"/>
                      <a:pt x="7572" y="2"/>
                      <a:pt x="7574" y="2"/>
                    </a:cubicBezTo>
                    <a:close/>
                    <a:moveTo>
                      <a:pt x="7582" y="2"/>
                    </a:moveTo>
                    <a:lnTo>
                      <a:pt x="7582" y="2"/>
                    </a:lnTo>
                    <a:cubicBezTo>
                      <a:pt x="7583" y="2"/>
                      <a:pt x="7584" y="3"/>
                      <a:pt x="7584" y="4"/>
                    </a:cubicBezTo>
                    <a:cubicBezTo>
                      <a:pt x="7584" y="5"/>
                      <a:pt x="7583" y="6"/>
                      <a:pt x="7582" y="6"/>
                    </a:cubicBezTo>
                    <a:lnTo>
                      <a:pt x="7582" y="6"/>
                    </a:lnTo>
                    <a:cubicBezTo>
                      <a:pt x="7580" y="6"/>
                      <a:pt x="7580" y="5"/>
                      <a:pt x="7580" y="4"/>
                    </a:cubicBezTo>
                    <a:cubicBezTo>
                      <a:pt x="7580" y="3"/>
                      <a:pt x="7580" y="2"/>
                      <a:pt x="7582" y="2"/>
                    </a:cubicBezTo>
                    <a:close/>
                    <a:moveTo>
                      <a:pt x="7590" y="2"/>
                    </a:moveTo>
                    <a:lnTo>
                      <a:pt x="7590" y="2"/>
                    </a:lnTo>
                    <a:cubicBezTo>
                      <a:pt x="7591" y="2"/>
                      <a:pt x="7592" y="3"/>
                      <a:pt x="7592" y="4"/>
                    </a:cubicBezTo>
                    <a:cubicBezTo>
                      <a:pt x="7592" y="5"/>
                      <a:pt x="7591" y="6"/>
                      <a:pt x="7590" y="6"/>
                    </a:cubicBezTo>
                    <a:lnTo>
                      <a:pt x="7590" y="6"/>
                    </a:lnTo>
                    <a:cubicBezTo>
                      <a:pt x="7588" y="6"/>
                      <a:pt x="7588" y="5"/>
                      <a:pt x="7588" y="4"/>
                    </a:cubicBezTo>
                    <a:cubicBezTo>
                      <a:pt x="7588" y="3"/>
                      <a:pt x="7588" y="2"/>
                      <a:pt x="7590" y="2"/>
                    </a:cubicBezTo>
                    <a:close/>
                    <a:moveTo>
                      <a:pt x="7598" y="2"/>
                    </a:moveTo>
                    <a:lnTo>
                      <a:pt x="7598" y="2"/>
                    </a:lnTo>
                    <a:cubicBezTo>
                      <a:pt x="7599" y="2"/>
                      <a:pt x="7600" y="3"/>
                      <a:pt x="7600" y="4"/>
                    </a:cubicBezTo>
                    <a:cubicBezTo>
                      <a:pt x="7600" y="5"/>
                      <a:pt x="7599" y="6"/>
                      <a:pt x="7598" y="6"/>
                    </a:cubicBezTo>
                    <a:lnTo>
                      <a:pt x="7598" y="6"/>
                    </a:lnTo>
                    <a:cubicBezTo>
                      <a:pt x="7596" y="6"/>
                      <a:pt x="7596" y="5"/>
                      <a:pt x="7596" y="4"/>
                    </a:cubicBezTo>
                    <a:cubicBezTo>
                      <a:pt x="7596" y="3"/>
                      <a:pt x="7596" y="2"/>
                      <a:pt x="7598" y="2"/>
                    </a:cubicBezTo>
                    <a:close/>
                    <a:moveTo>
                      <a:pt x="7606" y="2"/>
                    </a:moveTo>
                    <a:lnTo>
                      <a:pt x="7606" y="2"/>
                    </a:lnTo>
                    <a:cubicBezTo>
                      <a:pt x="7607" y="2"/>
                      <a:pt x="7608" y="3"/>
                      <a:pt x="7608" y="4"/>
                    </a:cubicBezTo>
                    <a:cubicBezTo>
                      <a:pt x="7608" y="5"/>
                      <a:pt x="7607" y="6"/>
                      <a:pt x="7606" y="6"/>
                    </a:cubicBezTo>
                    <a:lnTo>
                      <a:pt x="7606" y="6"/>
                    </a:lnTo>
                    <a:cubicBezTo>
                      <a:pt x="7604" y="6"/>
                      <a:pt x="7604" y="5"/>
                      <a:pt x="7604" y="4"/>
                    </a:cubicBezTo>
                    <a:cubicBezTo>
                      <a:pt x="7604" y="3"/>
                      <a:pt x="7604" y="2"/>
                      <a:pt x="7606" y="2"/>
                    </a:cubicBezTo>
                    <a:close/>
                    <a:moveTo>
                      <a:pt x="7614" y="2"/>
                    </a:moveTo>
                    <a:lnTo>
                      <a:pt x="7614" y="2"/>
                    </a:lnTo>
                    <a:cubicBezTo>
                      <a:pt x="7615" y="2"/>
                      <a:pt x="7616" y="3"/>
                      <a:pt x="7616" y="4"/>
                    </a:cubicBezTo>
                    <a:cubicBezTo>
                      <a:pt x="7616" y="5"/>
                      <a:pt x="7615" y="6"/>
                      <a:pt x="7614" y="6"/>
                    </a:cubicBezTo>
                    <a:lnTo>
                      <a:pt x="7614" y="6"/>
                    </a:lnTo>
                    <a:cubicBezTo>
                      <a:pt x="7612" y="6"/>
                      <a:pt x="7612" y="5"/>
                      <a:pt x="7612" y="4"/>
                    </a:cubicBezTo>
                    <a:cubicBezTo>
                      <a:pt x="7612" y="3"/>
                      <a:pt x="7612" y="2"/>
                      <a:pt x="7614" y="2"/>
                    </a:cubicBezTo>
                    <a:close/>
                    <a:moveTo>
                      <a:pt x="7622" y="2"/>
                    </a:moveTo>
                    <a:lnTo>
                      <a:pt x="7622" y="2"/>
                    </a:lnTo>
                    <a:cubicBezTo>
                      <a:pt x="7623" y="2"/>
                      <a:pt x="7624" y="3"/>
                      <a:pt x="7624" y="4"/>
                    </a:cubicBezTo>
                    <a:cubicBezTo>
                      <a:pt x="7624" y="5"/>
                      <a:pt x="7623" y="6"/>
                      <a:pt x="7622" y="6"/>
                    </a:cubicBezTo>
                    <a:lnTo>
                      <a:pt x="7622" y="6"/>
                    </a:lnTo>
                    <a:cubicBezTo>
                      <a:pt x="7620" y="6"/>
                      <a:pt x="7620" y="5"/>
                      <a:pt x="7620" y="4"/>
                    </a:cubicBezTo>
                    <a:cubicBezTo>
                      <a:pt x="7620" y="3"/>
                      <a:pt x="7620" y="2"/>
                      <a:pt x="7622" y="2"/>
                    </a:cubicBezTo>
                    <a:close/>
                    <a:moveTo>
                      <a:pt x="7630" y="2"/>
                    </a:moveTo>
                    <a:lnTo>
                      <a:pt x="7630" y="2"/>
                    </a:lnTo>
                    <a:cubicBezTo>
                      <a:pt x="7631" y="2"/>
                      <a:pt x="7632" y="3"/>
                      <a:pt x="7632" y="4"/>
                    </a:cubicBezTo>
                    <a:cubicBezTo>
                      <a:pt x="7632" y="5"/>
                      <a:pt x="7631" y="6"/>
                      <a:pt x="7630" y="6"/>
                    </a:cubicBezTo>
                    <a:lnTo>
                      <a:pt x="7630" y="6"/>
                    </a:lnTo>
                    <a:cubicBezTo>
                      <a:pt x="7628" y="6"/>
                      <a:pt x="7628" y="5"/>
                      <a:pt x="7628" y="4"/>
                    </a:cubicBezTo>
                    <a:cubicBezTo>
                      <a:pt x="7628" y="3"/>
                      <a:pt x="7628" y="2"/>
                      <a:pt x="7630" y="2"/>
                    </a:cubicBezTo>
                    <a:close/>
                    <a:moveTo>
                      <a:pt x="7638" y="2"/>
                    </a:moveTo>
                    <a:lnTo>
                      <a:pt x="7638" y="2"/>
                    </a:lnTo>
                    <a:cubicBezTo>
                      <a:pt x="7639" y="2"/>
                      <a:pt x="7640" y="3"/>
                      <a:pt x="7640" y="4"/>
                    </a:cubicBezTo>
                    <a:cubicBezTo>
                      <a:pt x="7640" y="5"/>
                      <a:pt x="7639" y="6"/>
                      <a:pt x="7638" y="6"/>
                    </a:cubicBezTo>
                    <a:lnTo>
                      <a:pt x="7638" y="6"/>
                    </a:lnTo>
                    <a:cubicBezTo>
                      <a:pt x="7636" y="6"/>
                      <a:pt x="7636" y="5"/>
                      <a:pt x="7636" y="4"/>
                    </a:cubicBezTo>
                    <a:cubicBezTo>
                      <a:pt x="7636" y="3"/>
                      <a:pt x="7636" y="2"/>
                      <a:pt x="7638" y="2"/>
                    </a:cubicBezTo>
                    <a:close/>
                    <a:moveTo>
                      <a:pt x="7646" y="2"/>
                    </a:moveTo>
                    <a:lnTo>
                      <a:pt x="7646" y="2"/>
                    </a:lnTo>
                    <a:cubicBezTo>
                      <a:pt x="7647" y="2"/>
                      <a:pt x="7648" y="3"/>
                      <a:pt x="7648" y="4"/>
                    </a:cubicBezTo>
                    <a:cubicBezTo>
                      <a:pt x="7648" y="5"/>
                      <a:pt x="7647" y="6"/>
                      <a:pt x="7646" y="6"/>
                    </a:cubicBezTo>
                    <a:lnTo>
                      <a:pt x="7646" y="6"/>
                    </a:lnTo>
                    <a:cubicBezTo>
                      <a:pt x="7644" y="6"/>
                      <a:pt x="7644" y="5"/>
                      <a:pt x="7644" y="4"/>
                    </a:cubicBezTo>
                    <a:cubicBezTo>
                      <a:pt x="7644" y="3"/>
                      <a:pt x="7644" y="2"/>
                      <a:pt x="7646" y="2"/>
                    </a:cubicBezTo>
                    <a:close/>
                    <a:moveTo>
                      <a:pt x="7654" y="2"/>
                    </a:moveTo>
                    <a:lnTo>
                      <a:pt x="7654" y="2"/>
                    </a:lnTo>
                    <a:cubicBezTo>
                      <a:pt x="7655" y="2"/>
                      <a:pt x="7656" y="3"/>
                      <a:pt x="7656" y="4"/>
                    </a:cubicBezTo>
                    <a:cubicBezTo>
                      <a:pt x="7656" y="5"/>
                      <a:pt x="7655" y="6"/>
                      <a:pt x="7654" y="6"/>
                    </a:cubicBezTo>
                    <a:lnTo>
                      <a:pt x="7654" y="6"/>
                    </a:lnTo>
                    <a:cubicBezTo>
                      <a:pt x="7652" y="6"/>
                      <a:pt x="7652" y="5"/>
                      <a:pt x="7652" y="4"/>
                    </a:cubicBezTo>
                    <a:cubicBezTo>
                      <a:pt x="7652" y="3"/>
                      <a:pt x="7652" y="2"/>
                      <a:pt x="7654" y="2"/>
                    </a:cubicBezTo>
                    <a:close/>
                    <a:moveTo>
                      <a:pt x="7662" y="2"/>
                    </a:moveTo>
                    <a:lnTo>
                      <a:pt x="7662" y="2"/>
                    </a:lnTo>
                    <a:cubicBezTo>
                      <a:pt x="7663" y="2"/>
                      <a:pt x="7664" y="3"/>
                      <a:pt x="7664" y="4"/>
                    </a:cubicBezTo>
                    <a:cubicBezTo>
                      <a:pt x="7664" y="5"/>
                      <a:pt x="7663" y="6"/>
                      <a:pt x="7662" y="6"/>
                    </a:cubicBezTo>
                    <a:lnTo>
                      <a:pt x="7662" y="6"/>
                    </a:lnTo>
                    <a:cubicBezTo>
                      <a:pt x="7660" y="6"/>
                      <a:pt x="7660" y="5"/>
                      <a:pt x="7660" y="4"/>
                    </a:cubicBezTo>
                    <a:cubicBezTo>
                      <a:pt x="7660" y="3"/>
                      <a:pt x="7660" y="2"/>
                      <a:pt x="7662" y="2"/>
                    </a:cubicBezTo>
                    <a:close/>
                    <a:moveTo>
                      <a:pt x="7670" y="2"/>
                    </a:moveTo>
                    <a:lnTo>
                      <a:pt x="7670" y="2"/>
                    </a:lnTo>
                    <a:cubicBezTo>
                      <a:pt x="7671" y="2"/>
                      <a:pt x="7672" y="3"/>
                      <a:pt x="7672" y="4"/>
                    </a:cubicBezTo>
                    <a:cubicBezTo>
                      <a:pt x="7672" y="5"/>
                      <a:pt x="7671" y="6"/>
                      <a:pt x="7670" y="6"/>
                    </a:cubicBezTo>
                    <a:lnTo>
                      <a:pt x="7670" y="6"/>
                    </a:lnTo>
                    <a:cubicBezTo>
                      <a:pt x="7668" y="6"/>
                      <a:pt x="7668" y="5"/>
                      <a:pt x="7668" y="4"/>
                    </a:cubicBezTo>
                    <a:cubicBezTo>
                      <a:pt x="7668" y="3"/>
                      <a:pt x="7668" y="2"/>
                      <a:pt x="7670" y="2"/>
                    </a:cubicBezTo>
                    <a:close/>
                    <a:moveTo>
                      <a:pt x="7678" y="2"/>
                    </a:moveTo>
                    <a:lnTo>
                      <a:pt x="7678" y="2"/>
                    </a:lnTo>
                    <a:cubicBezTo>
                      <a:pt x="7679" y="2"/>
                      <a:pt x="7680" y="3"/>
                      <a:pt x="7680" y="4"/>
                    </a:cubicBezTo>
                    <a:cubicBezTo>
                      <a:pt x="7680" y="5"/>
                      <a:pt x="7679" y="6"/>
                      <a:pt x="7678" y="6"/>
                    </a:cubicBezTo>
                    <a:lnTo>
                      <a:pt x="7678" y="6"/>
                    </a:lnTo>
                    <a:cubicBezTo>
                      <a:pt x="7676" y="6"/>
                      <a:pt x="7676" y="5"/>
                      <a:pt x="7676" y="4"/>
                    </a:cubicBezTo>
                    <a:cubicBezTo>
                      <a:pt x="7676" y="3"/>
                      <a:pt x="7676" y="2"/>
                      <a:pt x="7678" y="2"/>
                    </a:cubicBezTo>
                    <a:close/>
                    <a:moveTo>
                      <a:pt x="7686" y="2"/>
                    </a:moveTo>
                    <a:lnTo>
                      <a:pt x="7686" y="2"/>
                    </a:lnTo>
                    <a:cubicBezTo>
                      <a:pt x="7687" y="2"/>
                      <a:pt x="7688" y="3"/>
                      <a:pt x="7688" y="4"/>
                    </a:cubicBezTo>
                    <a:cubicBezTo>
                      <a:pt x="7688" y="5"/>
                      <a:pt x="7687" y="6"/>
                      <a:pt x="7686" y="6"/>
                    </a:cubicBezTo>
                    <a:lnTo>
                      <a:pt x="7686" y="6"/>
                    </a:lnTo>
                    <a:cubicBezTo>
                      <a:pt x="7684" y="6"/>
                      <a:pt x="7684" y="5"/>
                      <a:pt x="7684" y="4"/>
                    </a:cubicBezTo>
                    <a:cubicBezTo>
                      <a:pt x="7684" y="3"/>
                      <a:pt x="7684" y="2"/>
                      <a:pt x="7686" y="2"/>
                    </a:cubicBezTo>
                    <a:close/>
                    <a:moveTo>
                      <a:pt x="7694" y="2"/>
                    </a:moveTo>
                    <a:lnTo>
                      <a:pt x="7694" y="2"/>
                    </a:lnTo>
                    <a:cubicBezTo>
                      <a:pt x="7695" y="2"/>
                      <a:pt x="7696" y="3"/>
                      <a:pt x="7696" y="4"/>
                    </a:cubicBezTo>
                    <a:cubicBezTo>
                      <a:pt x="7696" y="5"/>
                      <a:pt x="7695" y="6"/>
                      <a:pt x="7694" y="6"/>
                    </a:cubicBezTo>
                    <a:lnTo>
                      <a:pt x="7694" y="6"/>
                    </a:lnTo>
                    <a:cubicBezTo>
                      <a:pt x="7692" y="6"/>
                      <a:pt x="7692" y="5"/>
                      <a:pt x="7692" y="4"/>
                    </a:cubicBezTo>
                    <a:cubicBezTo>
                      <a:pt x="7692" y="3"/>
                      <a:pt x="7692" y="2"/>
                      <a:pt x="7694" y="2"/>
                    </a:cubicBezTo>
                    <a:close/>
                    <a:moveTo>
                      <a:pt x="7702" y="2"/>
                    </a:moveTo>
                    <a:lnTo>
                      <a:pt x="7702" y="2"/>
                    </a:lnTo>
                    <a:cubicBezTo>
                      <a:pt x="7703" y="2"/>
                      <a:pt x="7704" y="3"/>
                      <a:pt x="7704" y="4"/>
                    </a:cubicBezTo>
                    <a:cubicBezTo>
                      <a:pt x="7704" y="5"/>
                      <a:pt x="7703" y="6"/>
                      <a:pt x="7702" y="6"/>
                    </a:cubicBezTo>
                    <a:lnTo>
                      <a:pt x="7702" y="6"/>
                    </a:lnTo>
                    <a:cubicBezTo>
                      <a:pt x="7700" y="6"/>
                      <a:pt x="7700" y="5"/>
                      <a:pt x="7700" y="4"/>
                    </a:cubicBezTo>
                    <a:cubicBezTo>
                      <a:pt x="7700" y="3"/>
                      <a:pt x="7700" y="2"/>
                      <a:pt x="7702" y="2"/>
                    </a:cubicBezTo>
                    <a:close/>
                    <a:moveTo>
                      <a:pt x="7710" y="2"/>
                    </a:moveTo>
                    <a:lnTo>
                      <a:pt x="7710" y="2"/>
                    </a:lnTo>
                    <a:cubicBezTo>
                      <a:pt x="7711" y="2"/>
                      <a:pt x="7712" y="3"/>
                      <a:pt x="7712" y="4"/>
                    </a:cubicBezTo>
                    <a:cubicBezTo>
                      <a:pt x="7712" y="5"/>
                      <a:pt x="7711" y="6"/>
                      <a:pt x="7710" y="6"/>
                    </a:cubicBezTo>
                    <a:lnTo>
                      <a:pt x="7710" y="6"/>
                    </a:lnTo>
                    <a:cubicBezTo>
                      <a:pt x="7708" y="6"/>
                      <a:pt x="7708" y="5"/>
                      <a:pt x="7708" y="4"/>
                    </a:cubicBezTo>
                    <a:cubicBezTo>
                      <a:pt x="7708" y="3"/>
                      <a:pt x="7708" y="2"/>
                      <a:pt x="7710" y="2"/>
                    </a:cubicBezTo>
                    <a:close/>
                    <a:moveTo>
                      <a:pt x="7718" y="2"/>
                    </a:moveTo>
                    <a:lnTo>
                      <a:pt x="7718" y="2"/>
                    </a:lnTo>
                    <a:cubicBezTo>
                      <a:pt x="7719" y="2"/>
                      <a:pt x="7720" y="3"/>
                      <a:pt x="7720" y="4"/>
                    </a:cubicBezTo>
                    <a:cubicBezTo>
                      <a:pt x="7720" y="5"/>
                      <a:pt x="7719" y="6"/>
                      <a:pt x="7718" y="6"/>
                    </a:cubicBezTo>
                    <a:lnTo>
                      <a:pt x="7718" y="6"/>
                    </a:lnTo>
                    <a:cubicBezTo>
                      <a:pt x="7716" y="6"/>
                      <a:pt x="7716" y="5"/>
                      <a:pt x="7716" y="4"/>
                    </a:cubicBezTo>
                    <a:cubicBezTo>
                      <a:pt x="7716" y="3"/>
                      <a:pt x="7716" y="2"/>
                      <a:pt x="7718" y="2"/>
                    </a:cubicBezTo>
                    <a:close/>
                    <a:moveTo>
                      <a:pt x="7726" y="2"/>
                    </a:moveTo>
                    <a:lnTo>
                      <a:pt x="7726" y="2"/>
                    </a:lnTo>
                    <a:cubicBezTo>
                      <a:pt x="7727" y="2"/>
                      <a:pt x="7728" y="3"/>
                      <a:pt x="7728" y="4"/>
                    </a:cubicBezTo>
                    <a:cubicBezTo>
                      <a:pt x="7728" y="5"/>
                      <a:pt x="7727" y="6"/>
                      <a:pt x="7726" y="6"/>
                    </a:cubicBezTo>
                    <a:lnTo>
                      <a:pt x="7726" y="6"/>
                    </a:lnTo>
                    <a:cubicBezTo>
                      <a:pt x="7724" y="6"/>
                      <a:pt x="7724" y="5"/>
                      <a:pt x="7724" y="4"/>
                    </a:cubicBezTo>
                    <a:cubicBezTo>
                      <a:pt x="7724" y="3"/>
                      <a:pt x="7724" y="2"/>
                      <a:pt x="7726" y="2"/>
                    </a:cubicBezTo>
                    <a:close/>
                    <a:moveTo>
                      <a:pt x="7734" y="2"/>
                    </a:moveTo>
                    <a:lnTo>
                      <a:pt x="7734" y="2"/>
                    </a:lnTo>
                    <a:cubicBezTo>
                      <a:pt x="7735" y="2"/>
                      <a:pt x="7736" y="3"/>
                      <a:pt x="7736" y="4"/>
                    </a:cubicBezTo>
                    <a:cubicBezTo>
                      <a:pt x="7736" y="5"/>
                      <a:pt x="7735" y="6"/>
                      <a:pt x="7734" y="6"/>
                    </a:cubicBezTo>
                    <a:lnTo>
                      <a:pt x="7734" y="6"/>
                    </a:lnTo>
                    <a:cubicBezTo>
                      <a:pt x="7732" y="6"/>
                      <a:pt x="7732" y="5"/>
                      <a:pt x="7732" y="4"/>
                    </a:cubicBezTo>
                    <a:cubicBezTo>
                      <a:pt x="7732" y="3"/>
                      <a:pt x="7732" y="2"/>
                      <a:pt x="7734" y="2"/>
                    </a:cubicBezTo>
                    <a:close/>
                    <a:moveTo>
                      <a:pt x="7742" y="2"/>
                    </a:moveTo>
                    <a:lnTo>
                      <a:pt x="7742" y="2"/>
                    </a:lnTo>
                    <a:cubicBezTo>
                      <a:pt x="7743" y="2"/>
                      <a:pt x="7744" y="3"/>
                      <a:pt x="7744" y="4"/>
                    </a:cubicBezTo>
                    <a:cubicBezTo>
                      <a:pt x="7744" y="5"/>
                      <a:pt x="7743" y="6"/>
                      <a:pt x="7742" y="6"/>
                    </a:cubicBezTo>
                    <a:lnTo>
                      <a:pt x="7742" y="6"/>
                    </a:lnTo>
                    <a:cubicBezTo>
                      <a:pt x="7740" y="6"/>
                      <a:pt x="7740" y="5"/>
                      <a:pt x="7740" y="4"/>
                    </a:cubicBezTo>
                    <a:cubicBezTo>
                      <a:pt x="7740" y="3"/>
                      <a:pt x="7740" y="2"/>
                      <a:pt x="7742" y="2"/>
                    </a:cubicBezTo>
                    <a:close/>
                    <a:moveTo>
                      <a:pt x="7750" y="2"/>
                    </a:moveTo>
                    <a:lnTo>
                      <a:pt x="7750" y="2"/>
                    </a:lnTo>
                    <a:cubicBezTo>
                      <a:pt x="7751" y="2"/>
                      <a:pt x="7752" y="3"/>
                      <a:pt x="7752" y="4"/>
                    </a:cubicBezTo>
                    <a:cubicBezTo>
                      <a:pt x="7752" y="5"/>
                      <a:pt x="7751" y="6"/>
                      <a:pt x="7750" y="6"/>
                    </a:cubicBezTo>
                    <a:lnTo>
                      <a:pt x="7750" y="6"/>
                    </a:lnTo>
                    <a:cubicBezTo>
                      <a:pt x="7748" y="6"/>
                      <a:pt x="7748" y="5"/>
                      <a:pt x="7748" y="4"/>
                    </a:cubicBezTo>
                    <a:cubicBezTo>
                      <a:pt x="7748" y="3"/>
                      <a:pt x="7748" y="2"/>
                      <a:pt x="7750" y="2"/>
                    </a:cubicBezTo>
                    <a:close/>
                    <a:moveTo>
                      <a:pt x="7758" y="2"/>
                    </a:moveTo>
                    <a:lnTo>
                      <a:pt x="7758" y="2"/>
                    </a:lnTo>
                    <a:cubicBezTo>
                      <a:pt x="7759" y="2"/>
                      <a:pt x="7760" y="3"/>
                      <a:pt x="7760" y="4"/>
                    </a:cubicBezTo>
                    <a:cubicBezTo>
                      <a:pt x="7760" y="5"/>
                      <a:pt x="7759" y="6"/>
                      <a:pt x="7758" y="6"/>
                    </a:cubicBezTo>
                    <a:lnTo>
                      <a:pt x="7758" y="6"/>
                    </a:lnTo>
                    <a:cubicBezTo>
                      <a:pt x="7757" y="6"/>
                      <a:pt x="7756" y="5"/>
                      <a:pt x="7756" y="4"/>
                    </a:cubicBezTo>
                    <a:cubicBezTo>
                      <a:pt x="7756" y="3"/>
                      <a:pt x="7757" y="2"/>
                      <a:pt x="7758" y="2"/>
                    </a:cubicBezTo>
                    <a:close/>
                    <a:moveTo>
                      <a:pt x="7766" y="2"/>
                    </a:moveTo>
                    <a:lnTo>
                      <a:pt x="7766" y="2"/>
                    </a:lnTo>
                    <a:cubicBezTo>
                      <a:pt x="7767" y="2"/>
                      <a:pt x="7768" y="3"/>
                      <a:pt x="7768" y="4"/>
                    </a:cubicBezTo>
                    <a:cubicBezTo>
                      <a:pt x="7768" y="5"/>
                      <a:pt x="7767" y="6"/>
                      <a:pt x="7766" y="6"/>
                    </a:cubicBezTo>
                    <a:lnTo>
                      <a:pt x="7766" y="6"/>
                    </a:lnTo>
                    <a:cubicBezTo>
                      <a:pt x="7765" y="6"/>
                      <a:pt x="7764" y="5"/>
                      <a:pt x="7764" y="4"/>
                    </a:cubicBezTo>
                    <a:cubicBezTo>
                      <a:pt x="7764" y="3"/>
                      <a:pt x="7765" y="2"/>
                      <a:pt x="7766" y="2"/>
                    </a:cubicBezTo>
                    <a:close/>
                    <a:moveTo>
                      <a:pt x="7774" y="2"/>
                    </a:moveTo>
                    <a:lnTo>
                      <a:pt x="7774" y="2"/>
                    </a:lnTo>
                    <a:cubicBezTo>
                      <a:pt x="7775" y="2"/>
                      <a:pt x="7776" y="3"/>
                      <a:pt x="7776" y="4"/>
                    </a:cubicBezTo>
                    <a:cubicBezTo>
                      <a:pt x="7776" y="5"/>
                      <a:pt x="7775" y="6"/>
                      <a:pt x="7774" y="6"/>
                    </a:cubicBezTo>
                    <a:lnTo>
                      <a:pt x="7774" y="6"/>
                    </a:lnTo>
                    <a:cubicBezTo>
                      <a:pt x="7773" y="6"/>
                      <a:pt x="7772" y="5"/>
                      <a:pt x="7772" y="4"/>
                    </a:cubicBezTo>
                    <a:cubicBezTo>
                      <a:pt x="7772" y="3"/>
                      <a:pt x="7773" y="2"/>
                      <a:pt x="7774" y="2"/>
                    </a:cubicBezTo>
                    <a:close/>
                    <a:moveTo>
                      <a:pt x="7782" y="2"/>
                    </a:moveTo>
                    <a:lnTo>
                      <a:pt x="7782" y="2"/>
                    </a:lnTo>
                    <a:cubicBezTo>
                      <a:pt x="7783" y="2"/>
                      <a:pt x="7784" y="3"/>
                      <a:pt x="7784" y="4"/>
                    </a:cubicBezTo>
                    <a:cubicBezTo>
                      <a:pt x="7784" y="5"/>
                      <a:pt x="7783" y="6"/>
                      <a:pt x="7782" y="6"/>
                    </a:cubicBezTo>
                    <a:lnTo>
                      <a:pt x="7782" y="6"/>
                    </a:lnTo>
                    <a:cubicBezTo>
                      <a:pt x="7781" y="6"/>
                      <a:pt x="7780" y="5"/>
                      <a:pt x="7780" y="4"/>
                    </a:cubicBezTo>
                    <a:cubicBezTo>
                      <a:pt x="7780" y="3"/>
                      <a:pt x="7781" y="2"/>
                      <a:pt x="7782" y="2"/>
                    </a:cubicBezTo>
                    <a:close/>
                    <a:moveTo>
                      <a:pt x="7790" y="2"/>
                    </a:moveTo>
                    <a:lnTo>
                      <a:pt x="7790" y="2"/>
                    </a:lnTo>
                    <a:cubicBezTo>
                      <a:pt x="7791" y="2"/>
                      <a:pt x="7792" y="3"/>
                      <a:pt x="7792" y="4"/>
                    </a:cubicBezTo>
                    <a:cubicBezTo>
                      <a:pt x="7792" y="5"/>
                      <a:pt x="7791" y="6"/>
                      <a:pt x="7790" y="6"/>
                    </a:cubicBezTo>
                    <a:lnTo>
                      <a:pt x="7790" y="6"/>
                    </a:lnTo>
                    <a:cubicBezTo>
                      <a:pt x="7789" y="6"/>
                      <a:pt x="7788" y="5"/>
                      <a:pt x="7788" y="4"/>
                    </a:cubicBezTo>
                    <a:cubicBezTo>
                      <a:pt x="7788" y="3"/>
                      <a:pt x="7789" y="2"/>
                      <a:pt x="7790" y="2"/>
                    </a:cubicBezTo>
                    <a:close/>
                    <a:moveTo>
                      <a:pt x="7798" y="2"/>
                    </a:moveTo>
                    <a:lnTo>
                      <a:pt x="7798" y="2"/>
                    </a:lnTo>
                    <a:cubicBezTo>
                      <a:pt x="7799" y="2"/>
                      <a:pt x="7800" y="3"/>
                      <a:pt x="7800" y="4"/>
                    </a:cubicBezTo>
                    <a:cubicBezTo>
                      <a:pt x="7800" y="5"/>
                      <a:pt x="7799" y="6"/>
                      <a:pt x="7798" y="6"/>
                    </a:cubicBezTo>
                    <a:lnTo>
                      <a:pt x="7798" y="6"/>
                    </a:lnTo>
                    <a:cubicBezTo>
                      <a:pt x="7797" y="6"/>
                      <a:pt x="7796" y="5"/>
                      <a:pt x="7796" y="4"/>
                    </a:cubicBezTo>
                    <a:cubicBezTo>
                      <a:pt x="7796" y="3"/>
                      <a:pt x="7797" y="2"/>
                      <a:pt x="7798" y="2"/>
                    </a:cubicBezTo>
                    <a:close/>
                    <a:moveTo>
                      <a:pt x="7806" y="2"/>
                    </a:moveTo>
                    <a:lnTo>
                      <a:pt x="7806" y="2"/>
                    </a:lnTo>
                    <a:cubicBezTo>
                      <a:pt x="7807" y="2"/>
                      <a:pt x="7808" y="3"/>
                      <a:pt x="7808" y="4"/>
                    </a:cubicBezTo>
                    <a:cubicBezTo>
                      <a:pt x="7808" y="5"/>
                      <a:pt x="7807" y="6"/>
                      <a:pt x="7806" y="6"/>
                    </a:cubicBezTo>
                    <a:lnTo>
                      <a:pt x="7806" y="6"/>
                    </a:lnTo>
                    <a:cubicBezTo>
                      <a:pt x="7805" y="6"/>
                      <a:pt x="7804" y="5"/>
                      <a:pt x="7804" y="4"/>
                    </a:cubicBezTo>
                    <a:cubicBezTo>
                      <a:pt x="7804" y="3"/>
                      <a:pt x="7805" y="2"/>
                      <a:pt x="7806" y="2"/>
                    </a:cubicBezTo>
                    <a:close/>
                    <a:moveTo>
                      <a:pt x="7814" y="2"/>
                    </a:moveTo>
                    <a:lnTo>
                      <a:pt x="7814" y="2"/>
                    </a:lnTo>
                    <a:cubicBezTo>
                      <a:pt x="7815" y="2"/>
                      <a:pt x="7816" y="3"/>
                      <a:pt x="7816" y="4"/>
                    </a:cubicBezTo>
                    <a:cubicBezTo>
                      <a:pt x="7816" y="5"/>
                      <a:pt x="7815" y="6"/>
                      <a:pt x="7814" y="6"/>
                    </a:cubicBezTo>
                    <a:lnTo>
                      <a:pt x="7814" y="6"/>
                    </a:lnTo>
                    <a:cubicBezTo>
                      <a:pt x="7813" y="6"/>
                      <a:pt x="7812" y="5"/>
                      <a:pt x="7812" y="4"/>
                    </a:cubicBezTo>
                    <a:cubicBezTo>
                      <a:pt x="7812" y="3"/>
                      <a:pt x="7813" y="2"/>
                      <a:pt x="7814" y="2"/>
                    </a:cubicBezTo>
                    <a:close/>
                    <a:moveTo>
                      <a:pt x="7822" y="2"/>
                    </a:moveTo>
                    <a:lnTo>
                      <a:pt x="7822" y="2"/>
                    </a:lnTo>
                    <a:cubicBezTo>
                      <a:pt x="7823" y="2"/>
                      <a:pt x="7824" y="3"/>
                      <a:pt x="7824" y="4"/>
                    </a:cubicBezTo>
                    <a:cubicBezTo>
                      <a:pt x="7824" y="5"/>
                      <a:pt x="7823" y="6"/>
                      <a:pt x="7822" y="6"/>
                    </a:cubicBezTo>
                    <a:lnTo>
                      <a:pt x="7822" y="6"/>
                    </a:lnTo>
                    <a:cubicBezTo>
                      <a:pt x="7821" y="6"/>
                      <a:pt x="7820" y="5"/>
                      <a:pt x="7820" y="4"/>
                    </a:cubicBezTo>
                    <a:cubicBezTo>
                      <a:pt x="7820" y="3"/>
                      <a:pt x="7821" y="2"/>
                      <a:pt x="7822" y="2"/>
                    </a:cubicBezTo>
                    <a:close/>
                    <a:moveTo>
                      <a:pt x="7830" y="2"/>
                    </a:moveTo>
                    <a:lnTo>
                      <a:pt x="7830" y="2"/>
                    </a:lnTo>
                    <a:cubicBezTo>
                      <a:pt x="7831" y="2"/>
                      <a:pt x="7832" y="3"/>
                      <a:pt x="7832" y="4"/>
                    </a:cubicBezTo>
                    <a:cubicBezTo>
                      <a:pt x="7832" y="5"/>
                      <a:pt x="7831" y="6"/>
                      <a:pt x="7830" y="6"/>
                    </a:cubicBezTo>
                    <a:lnTo>
                      <a:pt x="7830" y="6"/>
                    </a:lnTo>
                    <a:cubicBezTo>
                      <a:pt x="7829" y="6"/>
                      <a:pt x="7828" y="5"/>
                      <a:pt x="7828" y="4"/>
                    </a:cubicBezTo>
                    <a:cubicBezTo>
                      <a:pt x="7828" y="3"/>
                      <a:pt x="7829" y="2"/>
                      <a:pt x="7830" y="2"/>
                    </a:cubicBezTo>
                    <a:close/>
                    <a:moveTo>
                      <a:pt x="7838" y="2"/>
                    </a:moveTo>
                    <a:lnTo>
                      <a:pt x="7838" y="2"/>
                    </a:lnTo>
                    <a:cubicBezTo>
                      <a:pt x="7839" y="2"/>
                      <a:pt x="7840" y="3"/>
                      <a:pt x="7840" y="4"/>
                    </a:cubicBezTo>
                    <a:cubicBezTo>
                      <a:pt x="7840" y="5"/>
                      <a:pt x="7839" y="6"/>
                      <a:pt x="7838" y="6"/>
                    </a:cubicBezTo>
                    <a:lnTo>
                      <a:pt x="7838" y="6"/>
                    </a:lnTo>
                    <a:cubicBezTo>
                      <a:pt x="7837" y="6"/>
                      <a:pt x="7836" y="5"/>
                      <a:pt x="7836" y="4"/>
                    </a:cubicBezTo>
                    <a:cubicBezTo>
                      <a:pt x="7836" y="3"/>
                      <a:pt x="7837" y="2"/>
                      <a:pt x="7838" y="2"/>
                    </a:cubicBezTo>
                    <a:close/>
                    <a:moveTo>
                      <a:pt x="7846" y="2"/>
                    </a:moveTo>
                    <a:lnTo>
                      <a:pt x="7846" y="2"/>
                    </a:lnTo>
                    <a:cubicBezTo>
                      <a:pt x="7847" y="2"/>
                      <a:pt x="7848" y="3"/>
                      <a:pt x="7848" y="4"/>
                    </a:cubicBezTo>
                    <a:cubicBezTo>
                      <a:pt x="7848" y="5"/>
                      <a:pt x="7847" y="6"/>
                      <a:pt x="7846" y="6"/>
                    </a:cubicBezTo>
                    <a:lnTo>
                      <a:pt x="7846" y="6"/>
                    </a:lnTo>
                    <a:cubicBezTo>
                      <a:pt x="7845" y="6"/>
                      <a:pt x="7844" y="5"/>
                      <a:pt x="7844" y="4"/>
                    </a:cubicBezTo>
                    <a:cubicBezTo>
                      <a:pt x="7844" y="3"/>
                      <a:pt x="7845" y="2"/>
                      <a:pt x="7846" y="2"/>
                    </a:cubicBezTo>
                    <a:close/>
                    <a:moveTo>
                      <a:pt x="7854" y="2"/>
                    </a:moveTo>
                    <a:lnTo>
                      <a:pt x="7854" y="2"/>
                    </a:lnTo>
                    <a:cubicBezTo>
                      <a:pt x="7855" y="2"/>
                      <a:pt x="7856" y="3"/>
                      <a:pt x="7856" y="4"/>
                    </a:cubicBezTo>
                    <a:cubicBezTo>
                      <a:pt x="7856" y="5"/>
                      <a:pt x="7855" y="6"/>
                      <a:pt x="7854" y="6"/>
                    </a:cubicBezTo>
                    <a:lnTo>
                      <a:pt x="7854" y="6"/>
                    </a:lnTo>
                    <a:cubicBezTo>
                      <a:pt x="7853" y="6"/>
                      <a:pt x="7852" y="5"/>
                      <a:pt x="7852" y="4"/>
                    </a:cubicBezTo>
                    <a:cubicBezTo>
                      <a:pt x="7852" y="3"/>
                      <a:pt x="7853" y="2"/>
                      <a:pt x="7854" y="2"/>
                    </a:cubicBezTo>
                    <a:close/>
                    <a:moveTo>
                      <a:pt x="7862" y="2"/>
                    </a:moveTo>
                    <a:lnTo>
                      <a:pt x="7862" y="2"/>
                    </a:lnTo>
                    <a:cubicBezTo>
                      <a:pt x="7863" y="2"/>
                      <a:pt x="7864" y="3"/>
                      <a:pt x="7864" y="4"/>
                    </a:cubicBezTo>
                    <a:cubicBezTo>
                      <a:pt x="7864" y="5"/>
                      <a:pt x="7863" y="6"/>
                      <a:pt x="7862" y="6"/>
                    </a:cubicBezTo>
                    <a:lnTo>
                      <a:pt x="7862" y="6"/>
                    </a:lnTo>
                    <a:cubicBezTo>
                      <a:pt x="7861" y="6"/>
                      <a:pt x="7860" y="5"/>
                      <a:pt x="7860" y="4"/>
                    </a:cubicBezTo>
                    <a:cubicBezTo>
                      <a:pt x="7860" y="3"/>
                      <a:pt x="7861" y="2"/>
                      <a:pt x="7862" y="2"/>
                    </a:cubicBezTo>
                    <a:close/>
                    <a:moveTo>
                      <a:pt x="7870" y="2"/>
                    </a:moveTo>
                    <a:lnTo>
                      <a:pt x="7870" y="2"/>
                    </a:lnTo>
                    <a:cubicBezTo>
                      <a:pt x="7871" y="2"/>
                      <a:pt x="7872" y="3"/>
                      <a:pt x="7872" y="4"/>
                    </a:cubicBezTo>
                    <a:cubicBezTo>
                      <a:pt x="7872" y="5"/>
                      <a:pt x="7871" y="6"/>
                      <a:pt x="7870" y="6"/>
                    </a:cubicBezTo>
                    <a:lnTo>
                      <a:pt x="7870" y="6"/>
                    </a:lnTo>
                    <a:cubicBezTo>
                      <a:pt x="7869" y="6"/>
                      <a:pt x="7868" y="5"/>
                      <a:pt x="7868" y="4"/>
                    </a:cubicBezTo>
                    <a:cubicBezTo>
                      <a:pt x="7868" y="3"/>
                      <a:pt x="7869" y="2"/>
                      <a:pt x="7870" y="2"/>
                    </a:cubicBezTo>
                    <a:close/>
                    <a:moveTo>
                      <a:pt x="7878" y="2"/>
                    </a:moveTo>
                    <a:lnTo>
                      <a:pt x="7878" y="2"/>
                    </a:lnTo>
                    <a:cubicBezTo>
                      <a:pt x="7879" y="2"/>
                      <a:pt x="7880" y="3"/>
                      <a:pt x="7880" y="4"/>
                    </a:cubicBezTo>
                    <a:cubicBezTo>
                      <a:pt x="7880" y="5"/>
                      <a:pt x="7879" y="6"/>
                      <a:pt x="7878" y="6"/>
                    </a:cubicBezTo>
                    <a:lnTo>
                      <a:pt x="7878" y="6"/>
                    </a:lnTo>
                    <a:cubicBezTo>
                      <a:pt x="7877" y="6"/>
                      <a:pt x="7876" y="5"/>
                      <a:pt x="7876" y="4"/>
                    </a:cubicBezTo>
                    <a:cubicBezTo>
                      <a:pt x="7876" y="3"/>
                      <a:pt x="7877" y="2"/>
                      <a:pt x="7878" y="2"/>
                    </a:cubicBezTo>
                    <a:close/>
                    <a:moveTo>
                      <a:pt x="7886" y="2"/>
                    </a:moveTo>
                    <a:lnTo>
                      <a:pt x="7886" y="2"/>
                    </a:lnTo>
                    <a:cubicBezTo>
                      <a:pt x="7887" y="2"/>
                      <a:pt x="7888" y="3"/>
                      <a:pt x="7888" y="4"/>
                    </a:cubicBezTo>
                    <a:cubicBezTo>
                      <a:pt x="7888" y="5"/>
                      <a:pt x="7887" y="6"/>
                      <a:pt x="7886" y="6"/>
                    </a:cubicBezTo>
                    <a:lnTo>
                      <a:pt x="7886" y="6"/>
                    </a:lnTo>
                    <a:cubicBezTo>
                      <a:pt x="7885" y="6"/>
                      <a:pt x="7884" y="5"/>
                      <a:pt x="7884" y="4"/>
                    </a:cubicBezTo>
                    <a:cubicBezTo>
                      <a:pt x="7884" y="3"/>
                      <a:pt x="7885" y="2"/>
                      <a:pt x="7886" y="2"/>
                    </a:cubicBezTo>
                    <a:close/>
                    <a:moveTo>
                      <a:pt x="7894" y="2"/>
                    </a:moveTo>
                    <a:lnTo>
                      <a:pt x="7894" y="2"/>
                    </a:lnTo>
                    <a:cubicBezTo>
                      <a:pt x="7895" y="2"/>
                      <a:pt x="7896" y="3"/>
                      <a:pt x="7896" y="4"/>
                    </a:cubicBezTo>
                    <a:cubicBezTo>
                      <a:pt x="7896" y="5"/>
                      <a:pt x="7895" y="6"/>
                      <a:pt x="7894" y="6"/>
                    </a:cubicBezTo>
                    <a:lnTo>
                      <a:pt x="7894" y="6"/>
                    </a:lnTo>
                    <a:cubicBezTo>
                      <a:pt x="7893" y="6"/>
                      <a:pt x="7892" y="5"/>
                      <a:pt x="7892" y="4"/>
                    </a:cubicBezTo>
                    <a:cubicBezTo>
                      <a:pt x="7892" y="3"/>
                      <a:pt x="7893" y="2"/>
                      <a:pt x="7894" y="2"/>
                    </a:cubicBezTo>
                    <a:close/>
                    <a:moveTo>
                      <a:pt x="7902" y="2"/>
                    </a:moveTo>
                    <a:lnTo>
                      <a:pt x="7902" y="2"/>
                    </a:lnTo>
                    <a:cubicBezTo>
                      <a:pt x="7903" y="2"/>
                      <a:pt x="7904" y="3"/>
                      <a:pt x="7904" y="4"/>
                    </a:cubicBezTo>
                    <a:cubicBezTo>
                      <a:pt x="7904" y="5"/>
                      <a:pt x="7903" y="6"/>
                      <a:pt x="7902" y="6"/>
                    </a:cubicBezTo>
                    <a:lnTo>
                      <a:pt x="7902" y="6"/>
                    </a:lnTo>
                    <a:cubicBezTo>
                      <a:pt x="7901" y="6"/>
                      <a:pt x="7900" y="5"/>
                      <a:pt x="7900" y="4"/>
                    </a:cubicBezTo>
                    <a:cubicBezTo>
                      <a:pt x="7900" y="3"/>
                      <a:pt x="7901" y="2"/>
                      <a:pt x="7902" y="2"/>
                    </a:cubicBezTo>
                    <a:close/>
                    <a:moveTo>
                      <a:pt x="7910" y="2"/>
                    </a:moveTo>
                    <a:lnTo>
                      <a:pt x="7910" y="2"/>
                    </a:lnTo>
                    <a:cubicBezTo>
                      <a:pt x="7911" y="2"/>
                      <a:pt x="7912" y="3"/>
                      <a:pt x="7912" y="4"/>
                    </a:cubicBezTo>
                    <a:cubicBezTo>
                      <a:pt x="7912" y="5"/>
                      <a:pt x="7911" y="6"/>
                      <a:pt x="7910" y="6"/>
                    </a:cubicBezTo>
                    <a:lnTo>
                      <a:pt x="7910" y="6"/>
                    </a:lnTo>
                    <a:cubicBezTo>
                      <a:pt x="7909" y="6"/>
                      <a:pt x="7908" y="5"/>
                      <a:pt x="7908" y="4"/>
                    </a:cubicBezTo>
                    <a:cubicBezTo>
                      <a:pt x="7908" y="3"/>
                      <a:pt x="7909" y="2"/>
                      <a:pt x="7910" y="2"/>
                    </a:cubicBezTo>
                    <a:close/>
                    <a:moveTo>
                      <a:pt x="7918" y="2"/>
                    </a:moveTo>
                    <a:lnTo>
                      <a:pt x="7918" y="2"/>
                    </a:lnTo>
                    <a:cubicBezTo>
                      <a:pt x="7919" y="2"/>
                      <a:pt x="7920" y="3"/>
                      <a:pt x="7920" y="4"/>
                    </a:cubicBezTo>
                    <a:cubicBezTo>
                      <a:pt x="7920" y="5"/>
                      <a:pt x="7919" y="6"/>
                      <a:pt x="7918" y="6"/>
                    </a:cubicBezTo>
                    <a:lnTo>
                      <a:pt x="7918" y="6"/>
                    </a:lnTo>
                    <a:cubicBezTo>
                      <a:pt x="7917" y="6"/>
                      <a:pt x="7916" y="5"/>
                      <a:pt x="7916" y="4"/>
                    </a:cubicBezTo>
                    <a:cubicBezTo>
                      <a:pt x="7916" y="3"/>
                      <a:pt x="7917" y="2"/>
                      <a:pt x="7918" y="2"/>
                    </a:cubicBezTo>
                    <a:close/>
                    <a:moveTo>
                      <a:pt x="7926" y="2"/>
                    </a:moveTo>
                    <a:lnTo>
                      <a:pt x="7926" y="2"/>
                    </a:lnTo>
                    <a:cubicBezTo>
                      <a:pt x="7927" y="2"/>
                      <a:pt x="7928" y="3"/>
                      <a:pt x="7928" y="4"/>
                    </a:cubicBezTo>
                    <a:cubicBezTo>
                      <a:pt x="7928" y="5"/>
                      <a:pt x="7927" y="6"/>
                      <a:pt x="7926" y="6"/>
                    </a:cubicBezTo>
                    <a:lnTo>
                      <a:pt x="7926" y="6"/>
                    </a:lnTo>
                    <a:cubicBezTo>
                      <a:pt x="7925" y="6"/>
                      <a:pt x="7924" y="5"/>
                      <a:pt x="7924" y="4"/>
                    </a:cubicBezTo>
                    <a:cubicBezTo>
                      <a:pt x="7924" y="3"/>
                      <a:pt x="7925" y="2"/>
                      <a:pt x="7926" y="2"/>
                    </a:cubicBezTo>
                    <a:close/>
                    <a:moveTo>
                      <a:pt x="7934" y="2"/>
                    </a:moveTo>
                    <a:lnTo>
                      <a:pt x="7934" y="2"/>
                    </a:lnTo>
                    <a:cubicBezTo>
                      <a:pt x="7935" y="2"/>
                      <a:pt x="7936" y="3"/>
                      <a:pt x="7936" y="4"/>
                    </a:cubicBezTo>
                    <a:cubicBezTo>
                      <a:pt x="7936" y="5"/>
                      <a:pt x="7935" y="6"/>
                      <a:pt x="7934" y="6"/>
                    </a:cubicBezTo>
                    <a:lnTo>
                      <a:pt x="7934" y="6"/>
                    </a:lnTo>
                    <a:cubicBezTo>
                      <a:pt x="7933" y="6"/>
                      <a:pt x="7932" y="5"/>
                      <a:pt x="7932" y="4"/>
                    </a:cubicBezTo>
                    <a:cubicBezTo>
                      <a:pt x="7932" y="3"/>
                      <a:pt x="7933" y="2"/>
                      <a:pt x="7934" y="2"/>
                    </a:cubicBezTo>
                    <a:close/>
                    <a:moveTo>
                      <a:pt x="7942" y="2"/>
                    </a:moveTo>
                    <a:lnTo>
                      <a:pt x="7942" y="2"/>
                    </a:lnTo>
                    <a:cubicBezTo>
                      <a:pt x="7943" y="2"/>
                      <a:pt x="7944" y="3"/>
                      <a:pt x="7944" y="4"/>
                    </a:cubicBezTo>
                    <a:cubicBezTo>
                      <a:pt x="7944" y="5"/>
                      <a:pt x="7943" y="6"/>
                      <a:pt x="7942" y="6"/>
                    </a:cubicBezTo>
                    <a:lnTo>
                      <a:pt x="7942" y="6"/>
                    </a:lnTo>
                    <a:cubicBezTo>
                      <a:pt x="7941" y="6"/>
                      <a:pt x="7940" y="5"/>
                      <a:pt x="7940" y="4"/>
                    </a:cubicBezTo>
                    <a:cubicBezTo>
                      <a:pt x="7940" y="3"/>
                      <a:pt x="7941" y="2"/>
                      <a:pt x="7942" y="2"/>
                    </a:cubicBezTo>
                    <a:close/>
                    <a:moveTo>
                      <a:pt x="7950" y="2"/>
                    </a:moveTo>
                    <a:lnTo>
                      <a:pt x="7950" y="2"/>
                    </a:lnTo>
                    <a:cubicBezTo>
                      <a:pt x="7951" y="2"/>
                      <a:pt x="7952" y="3"/>
                      <a:pt x="7952" y="4"/>
                    </a:cubicBezTo>
                    <a:cubicBezTo>
                      <a:pt x="7952" y="5"/>
                      <a:pt x="7951" y="6"/>
                      <a:pt x="7950" y="6"/>
                    </a:cubicBezTo>
                    <a:lnTo>
                      <a:pt x="7950" y="6"/>
                    </a:lnTo>
                    <a:cubicBezTo>
                      <a:pt x="7949" y="6"/>
                      <a:pt x="7948" y="5"/>
                      <a:pt x="7948" y="4"/>
                    </a:cubicBezTo>
                    <a:cubicBezTo>
                      <a:pt x="7948" y="3"/>
                      <a:pt x="7949" y="2"/>
                      <a:pt x="7950" y="2"/>
                    </a:cubicBezTo>
                    <a:close/>
                    <a:moveTo>
                      <a:pt x="7958" y="2"/>
                    </a:moveTo>
                    <a:lnTo>
                      <a:pt x="7958" y="2"/>
                    </a:lnTo>
                    <a:cubicBezTo>
                      <a:pt x="7959" y="2"/>
                      <a:pt x="7960" y="3"/>
                      <a:pt x="7960" y="4"/>
                    </a:cubicBezTo>
                    <a:cubicBezTo>
                      <a:pt x="7960" y="5"/>
                      <a:pt x="7959" y="6"/>
                      <a:pt x="7958" y="6"/>
                    </a:cubicBezTo>
                    <a:lnTo>
                      <a:pt x="7958" y="6"/>
                    </a:lnTo>
                    <a:cubicBezTo>
                      <a:pt x="7957" y="6"/>
                      <a:pt x="7956" y="5"/>
                      <a:pt x="7956" y="4"/>
                    </a:cubicBezTo>
                    <a:cubicBezTo>
                      <a:pt x="7956" y="3"/>
                      <a:pt x="7957" y="2"/>
                      <a:pt x="7958" y="2"/>
                    </a:cubicBezTo>
                    <a:close/>
                    <a:moveTo>
                      <a:pt x="7966" y="2"/>
                    </a:moveTo>
                    <a:lnTo>
                      <a:pt x="7966" y="2"/>
                    </a:lnTo>
                    <a:cubicBezTo>
                      <a:pt x="7967" y="2"/>
                      <a:pt x="7968" y="3"/>
                      <a:pt x="7968" y="4"/>
                    </a:cubicBezTo>
                    <a:cubicBezTo>
                      <a:pt x="7968" y="5"/>
                      <a:pt x="7967" y="6"/>
                      <a:pt x="7966" y="6"/>
                    </a:cubicBezTo>
                    <a:lnTo>
                      <a:pt x="7966" y="6"/>
                    </a:lnTo>
                    <a:cubicBezTo>
                      <a:pt x="7965" y="6"/>
                      <a:pt x="7964" y="5"/>
                      <a:pt x="7964" y="4"/>
                    </a:cubicBezTo>
                    <a:cubicBezTo>
                      <a:pt x="7964" y="3"/>
                      <a:pt x="7965" y="2"/>
                      <a:pt x="7966" y="2"/>
                    </a:cubicBezTo>
                    <a:close/>
                    <a:moveTo>
                      <a:pt x="7974" y="2"/>
                    </a:moveTo>
                    <a:lnTo>
                      <a:pt x="7974" y="2"/>
                    </a:lnTo>
                    <a:cubicBezTo>
                      <a:pt x="7975" y="2"/>
                      <a:pt x="7976" y="3"/>
                      <a:pt x="7976" y="4"/>
                    </a:cubicBezTo>
                    <a:cubicBezTo>
                      <a:pt x="7976" y="5"/>
                      <a:pt x="7975" y="6"/>
                      <a:pt x="7974" y="6"/>
                    </a:cubicBezTo>
                    <a:lnTo>
                      <a:pt x="7974" y="6"/>
                    </a:lnTo>
                    <a:cubicBezTo>
                      <a:pt x="7973" y="6"/>
                      <a:pt x="7972" y="5"/>
                      <a:pt x="7972" y="4"/>
                    </a:cubicBezTo>
                    <a:cubicBezTo>
                      <a:pt x="7972" y="3"/>
                      <a:pt x="7973" y="2"/>
                      <a:pt x="7974" y="2"/>
                    </a:cubicBezTo>
                    <a:close/>
                    <a:moveTo>
                      <a:pt x="7982" y="2"/>
                    </a:moveTo>
                    <a:lnTo>
                      <a:pt x="7982" y="2"/>
                    </a:lnTo>
                    <a:cubicBezTo>
                      <a:pt x="7983" y="2"/>
                      <a:pt x="7984" y="3"/>
                      <a:pt x="7984" y="4"/>
                    </a:cubicBezTo>
                    <a:cubicBezTo>
                      <a:pt x="7984" y="5"/>
                      <a:pt x="7983" y="6"/>
                      <a:pt x="7982" y="6"/>
                    </a:cubicBezTo>
                    <a:lnTo>
                      <a:pt x="7982" y="6"/>
                    </a:lnTo>
                    <a:cubicBezTo>
                      <a:pt x="7981" y="6"/>
                      <a:pt x="7980" y="5"/>
                      <a:pt x="7980" y="4"/>
                    </a:cubicBezTo>
                    <a:cubicBezTo>
                      <a:pt x="7980" y="3"/>
                      <a:pt x="7981" y="2"/>
                      <a:pt x="7982" y="2"/>
                    </a:cubicBezTo>
                    <a:close/>
                    <a:moveTo>
                      <a:pt x="7990" y="2"/>
                    </a:moveTo>
                    <a:lnTo>
                      <a:pt x="7990" y="2"/>
                    </a:lnTo>
                    <a:cubicBezTo>
                      <a:pt x="7991" y="2"/>
                      <a:pt x="7992" y="3"/>
                      <a:pt x="7992" y="4"/>
                    </a:cubicBezTo>
                    <a:cubicBezTo>
                      <a:pt x="7992" y="5"/>
                      <a:pt x="7991" y="6"/>
                      <a:pt x="7990" y="6"/>
                    </a:cubicBezTo>
                    <a:lnTo>
                      <a:pt x="7990" y="6"/>
                    </a:lnTo>
                    <a:cubicBezTo>
                      <a:pt x="7989" y="6"/>
                      <a:pt x="7988" y="5"/>
                      <a:pt x="7988" y="4"/>
                    </a:cubicBezTo>
                    <a:cubicBezTo>
                      <a:pt x="7988" y="3"/>
                      <a:pt x="7989" y="2"/>
                      <a:pt x="7990" y="2"/>
                    </a:cubicBezTo>
                    <a:close/>
                    <a:moveTo>
                      <a:pt x="7998" y="2"/>
                    </a:moveTo>
                    <a:lnTo>
                      <a:pt x="7998" y="2"/>
                    </a:lnTo>
                    <a:cubicBezTo>
                      <a:pt x="7999" y="2"/>
                      <a:pt x="8000" y="3"/>
                      <a:pt x="8000" y="4"/>
                    </a:cubicBezTo>
                    <a:cubicBezTo>
                      <a:pt x="8000" y="5"/>
                      <a:pt x="7999" y="6"/>
                      <a:pt x="7998" y="6"/>
                    </a:cubicBezTo>
                    <a:lnTo>
                      <a:pt x="7998" y="6"/>
                    </a:lnTo>
                    <a:cubicBezTo>
                      <a:pt x="7997" y="6"/>
                      <a:pt x="7996" y="5"/>
                      <a:pt x="7996" y="4"/>
                    </a:cubicBezTo>
                    <a:cubicBezTo>
                      <a:pt x="7996" y="3"/>
                      <a:pt x="7997" y="2"/>
                      <a:pt x="7998" y="2"/>
                    </a:cubicBezTo>
                    <a:close/>
                    <a:moveTo>
                      <a:pt x="8006" y="2"/>
                    </a:moveTo>
                    <a:lnTo>
                      <a:pt x="8006" y="2"/>
                    </a:lnTo>
                    <a:cubicBezTo>
                      <a:pt x="8007" y="2"/>
                      <a:pt x="8008" y="3"/>
                      <a:pt x="8008" y="4"/>
                    </a:cubicBezTo>
                    <a:cubicBezTo>
                      <a:pt x="8008" y="5"/>
                      <a:pt x="8007" y="6"/>
                      <a:pt x="8006" y="6"/>
                    </a:cubicBezTo>
                    <a:lnTo>
                      <a:pt x="8006" y="6"/>
                    </a:lnTo>
                    <a:cubicBezTo>
                      <a:pt x="8005" y="6"/>
                      <a:pt x="8004" y="5"/>
                      <a:pt x="8004" y="4"/>
                    </a:cubicBezTo>
                    <a:cubicBezTo>
                      <a:pt x="8004" y="3"/>
                      <a:pt x="8005" y="2"/>
                      <a:pt x="8006" y="2"/>
                    </a:cubicBezTo>
                    <a:close/>
                    <a:moveTo>
                      <a:pt x="8014" y="2"/>
                    </a:moveTo>
                    <a:lnTo>
                      <a:pt x="8014" y="2"/>
                    </a:lnTo>
                    <a:cubicBezTo>
                      <a:pt x="8015" y="2"/>
                      <a:pt x="8016" y="3"/>
                      <a:pt x="8016" y="4"/>
                    </a:cubicBezTo>
                    <a:cubicBezTo>
                      <a:pt x="8016" y="5"/>
                      <a:pt x="8015" y="6"/>
                      <a:pt x="8014" y="6"/>
                    </a:cubicBezTo>
                    <a:lnTo>
                      <a:pt x="8014" y="6"/>
                    </a:lnTo>
                    <a:cubicBezTo>
                      <a:pt x="8013" y="6"/>
                      <a:pt x="8012" y="5"/>
                      <a:pt x="8012" y="4"/>
                    </a:cubicBezTo>
                    <a:cubicBezTo>
                      <a:pt x="8012" y="3"/>
                      <a:pt x="8013" y="2"/>
                      <a:pt x="8014" y="2"/>
                    </a:cubicBezTo>
                    <a:close/>
                    <a:moveTo>
                      <a:pt x="8022" y="2"/>
                    </a:moveTo>
                    <a:lnTo>
                      <a:pt x="8022" y="2"/>
                    </a:lnTo>
                    <a:cubicBezTo>
                      <a:pt x="8023" y="2"/>
                      <a:pt x="8024" y="3"/>
                      <a:pt x="8024" y="4"/>
                    </a:cubicBezTo>
                    <a:cubicBezTo>
                      <a:pt x="8024" y="5"/>
                      <a:pt x="8023" y="6"/>
                      <a:pt x="8022" y="6"/>
                    </a:cubicBezTo>
                    <a:lnTo>
                      <a:pt x="8022" y="6"/>
                    </a:lnTo>
                    <a:cubicBezTo>
                      <a:pt x="8021" y="6"/>
                      <a:pt x="8020" y="5"/>
                      <a:pt x="8020" y="4"/>
                    </a:cubicBezTo>
                    <a:cubicBezTo>
                      <a:pt x="8020" y="3"/>
                      <a:pt x="8021" y="2"/>
                      <a:pt x="8022" y="2"/>
                    </a:cubicBezTo>
                    <a:close/>
                    <a:moveTo>
                      <a:pt x="8030" y="2"/>
                    </a:moveTo>
                    <a:lnTo>
                      <a:pt x="8030" y="2"/>
                    </a:lnTo>
                    <a:cubicBezTo>
                      <a:pt x="8031" y="2"/>
                      <a:pt x="8032" y="3"/>
                      <a:pt x="8032" y="4"/>
                    </a:cubicBezTo>
                    <a:cubicBezTo>
                      <a:pt x="8032" y="5"/>
                      <a:pt x="8031" y="6"/>
                      <a:pt x="8030" y="6"/>
                    </a:cubicBezTo>
                    <a:lnTo>
                      <a:pt x="8030" y="6"/>
                    </a:lnTo>
                    <a:cubicBezTo>
                      <a:pt x="8029" y="6"/>
                      <a:pt x="8028" y="5"/>
                      <a:pt x="8028" y="4"/>
                    </a:cubicBezTo>
                    <a:cubicBezTo>
                      <a:pt x="8028" y="3"/>
                      <a:pt x="8029" y="2"/>
                      <a:pt x="8030" y="2"/>
                    </a:cubicBezTo>
                    <a:close/>
                    <a:moveTo>
                      <a:pt x="8038" y="2"/>
                    </a:moveTo>
                    <a:lnTo>
                      <a:pt x="8038" y="2"/>
                    </a:lnTo>
                    <a:cubicBezTo>
                      <a:pt x="8039" y="2"/>
                      <a:pt x="8040" y="3"/>
                      <a:pt x="8040" y="4"/>
                    </a:cubicBezTo>
                    <a:cubicBezTo>
                      <a:pt x="8040" y="5"/>
                      <a:pt x="8039" y="6"/>
                      <a:pt x="8038" y="6"/>
                    </a:cubicBezTo>
                    <a:lnTo>
                      <a:pt x="8038" y="6"/>
                    </a:lnTo>
                    <a:cubicBezTo>
                      <a:pt x="8037" y="6"/>
                      <a:pt x="8036" y="5"/>
                      <a:pt x="8036" y="4"/>
                    </a:cubicBezTo>
                    <a:cubicBezTo>
                      <a:pt x="8036" y="3"/>
                      <a:pt x="8037" y="2"/>
                      <a:pt x="8038" y="2"/>
                    </a:cubicBezTo>
                    <a:close/>
                    <a:moveTo>
                      <a:pt x="8046" y="2"/>
                    </a:moveTo>
                    <a:lnTo>
                      <a:pt x="8046" y="2"/>
                    </a:lnTo>
                    <a:cubicBezTo>
                      <a:pt x="8047" y="2"/>
                      <a:pt x="8048" y="3"/>
                      <a:pt x="8048" y="4"/>
                    </a:cubicBezTo>
                    <a:cubicBezTo>
                      <a:pt x="8048" y="5"/>
                      <a:pt x="8047" y="6"/>
                      <a:pt x="8046" y="6"/>
                    </a:cubicBezTo>
                    <a:lnTo>
                      <a:pt x="8046" y="6"/>
                    </a:lnTo>
                    <a:cubicBezTo>
                      <a:pt x="8045" y="6"/>
                      <a:pt x="8044" y="5"/>
                      <a:pt x="8044" y="4"/>
                    </a:cubicBezTo>
                    <a:cubicBezTo>
                      <a:pt x="8044" y="3"/>
                      <a:pt x="8045" y="2"/>
                      <a:pt x="8046" y="2"/>
                    </a:cubicBezTo>
                    <a:close/>
                    <a:moveTo>
                      <a:pt x="8054" y="2"/>
                    </a:moveTo>
                    <a:lnTo>
                      <a:pt x="8054" y="2"/>
                    </a:lnTo>
                    <a:cubicBezTo>
                      <a:pt x="8055" y="2"/>
                      <a:pt x="8056" y="3"/>
                      <a:pt x="8056" y="4"/>
                    </a:cubicBezTo>
                    <a:cubicBezTo>
                      <a:pt x="8056" y="5"/>
                      <a:pt x="8055" y="6"/>
                      <a:pt x="8054" y="6"/>
                    </a:cubicBezTo>
                    <a:lnTo>
                      <a:pt x="8054" y="6"/>
                    </a:lnTo>
                    <a:cubicBezTo>
                      <a:pt x="8053" y="6"/>
                      <a:pt x="8052" y="5"/>
                      <a:pt x="8052" y="4"/>
                    </a:cubicBezTo>
                    <a:cubicBezTo>
                      <a:pt x="8052" y="3"/>
                      <a:pt x="8053" y="2"/>
                      <a:pt x="8054" y="2"/>
                    </a:cubicBezTo>
                    <a:close/>
                    <a:moveTo>
                      <a:pt x="8062" y="2"/>
                    </a:moveTo>
                    <a:lnTo>
                      <a:pt x="8062" y="2"/>
                    </a:lnTo>
                    <a:cubicBezTo>
                      <a:pt x="8063" y="2"/>
                      <a:pt x="8064" y="3"/>
                      <a:pt x="8064" y="4"/>
                    </a:cubicBezTo>
                    <a:cubicBezTo>
                      <a:pt x="8064" y="5"/>
                      <a:pt x="8063" y="6"/>
                      <a:pt x="8062" y="6"/>
                    </a:cubicBezTo>
                    <a:lnTo>
                      <a:pt x="8062" y="6"/>
                    </a:lnTo>
                    <a:cubicBezTo>
                      <a:pt x="8061" y="6"/>
                      <a:pt x="8060" y="5"/>
                      <a:pt x="8060" y="4"/>
                    </a:cubicBezTo>
                    <a:cubicBezTo>
                      <a:pt x="8060" y="3"/>
                      <a:pt x="8061" y="2"/>
                      <a:pt x="8062" y="2"/>
                    </a:cubicBezTo>
                    <a:close/>
                    <a:moveTo>
                      <a:pt x="8070" y="2"/>
                    </a:moveTo>
                    <a:lnTo>
                      <a:pt x="8070" y="2"/>
                    </a:lnTo>
                    <a:cubicBezTo>
                      <a:pt x="8071" y="2"/>
                      <a:pt x="8072" y="3"/>
                      <a:pt x="8072" y="4"/>
                    </a:cubicBezTo>
                    <a:cubicBezTo>
                      <a:pt x="8072" y="5"/>
                      <a:pt x="8071" y="6"/>
                      <a:pt x="8070" y="6"/>
                    </a:cubicBezTo>
                    <a:lnTo>
                      <a:pt x="8070" y="6"/>
                    </a:lnTo>
                    <a:cubicBezTo>
                      <a:pt x="8069" y="6"/>
                      <a:pt x="8068" y="5"/>
                      <a:pt x="8068" y="4"/>
                    </a:cubicBezTo>
                    <a:cubicBezTo>
                      <a:pt x="8068" y="3"/>
                      <a:pt x="8069" y="2"/>
                      <a:pt x="8070" y="2"/>
                    </a:cubicBezTo>
                    <a:close/>
                    <a:moveTo>
                      <a:pt x="8078" y="2"/>
                    </a:moveTo>
                    <a:lnTo>
                      <a:pt x="8078" y="2"/>
                    </a:lnTo>
                    <a:cubicBezTo>
                      <a:pt x="8079" y="2"/>
                      <a:pt x="8080" y="3"/>
                      <a:pt x="8080" y="4"/>
                    </a:cubicBezTo>
                    <a:cubicBezTo>
                      <a:pt x="8080" y="5"/>
                      <a:pt x="8079" y="6"/>
                      <a:pt x="8078" y="6"/>
                    </a:cubicBezTo>
                    <a:lnTo>
                      <a:pt x="8078" y="6"/>
                    </a:lnTo>
                    <a:cubicBezTo>
                      <a:pt x="8077" y="6"/>
                      <a:pt x="8076" y="5"/>
                      <a:pt x="8076" y="4"/>
                    </a:cubicBezTo>
                    <a:cubicBezTo>
                      <a:pt x="8076" y="3"/>
                      <a:pt x="8077" y="2"/>
                      <a:pt x="8078" y="2"/>
                    </a:cubicBezTo>
                    <a:close/>
                    <a:moveTo>
                      <a:pt x="8086" y="2"/>
                    </a:moveTo>
                    <a:lnTo>
                      <a:pt x="8086" y="2"/>
                    </a:lnTo>
                    <a:cubicBezTo>
                      <a:pt x="8087" y="2"/>
                      <a:pt x="8088" y="3"/>
                      <a:pt x="8088" y="4"/>
                    </a:cubicBezTo>
                    <a:cubicBezTo>
                      <a:pt x="8088" y="5"/>
                      <a:pt x="8087" y="6"/>
                      <a:pt x="8086" y="6"/>
                    </a:cubicBezTo>
                    <a:lnTo>
                      <a:pt x="8086" y="6"/>
                    </a:lnTo>
                    <a:cubicBezTo>
                      <a:pt x="8085" y="6"/>
                      <a:pt x="8084" y="5"/>
                      <a:pt x="8084" y="4"/>
                    </a:cubicBezTo>
                    <a:cubicBezTo>
                      <a:pt x="8084" y="3"/>
                      <a:pt x="8085" y="2"/>
                      <a:pt x="8086" y="2"/>
                    </a:cubicBezTo>
                    <a:close/>
                    <a:moveTo>
                      <a:pt x="8094" y="2"/>
                    </a:moveTo>
                    <a:lnTo>
                      <a:pt x="8094" y="2"/>
                    </a:lnTo>
                    <a:cubicBezTo>
                      <a:pt x="8095" y="2"/>
                      <a:pt x="8096" y="3"/>
                      <a:pt x="8096" y="4"/>
                    </a:cubicBezTo>
                    <a:cubicBezTo>
                      <a:pt x="8096" y="5"/>
                      <a:pt x="8095" y="6"/>
                      <a:pt x="8094" y="6"/>
                    </a:cubicBezTo>
                    <a:lnTo>
                      <a:pt x="8094" y="6"/>
                    </a:lnTo>
                    <a:cubicBezTo>
                      <a:pt x="8093" y="6"/>
                      <a:pt x="8092" y="5"/>
                      <a:pt x="8092" y="4"/>
                    </a:cubicBezTo>
                    <a:cubicBezTo>
                      <a:pt x="8092" y="3"/>
                      <a:pt x="8093" y="2"/>
                      <a:pt x="8094" y="2"/>
                    </a:cubicBezTo>
                    <a:close/>
                    <a:moveTo>
                      <a:pt x="8102" y="2"/>
                    </a:moveTo>
                    <a:lnTo>
                      <a:pt x="8102" y="2"/>
                    </a:lnTo>
                    <a:cubicBezTo>
                      <a:pt x="8103" y="2"/>
                      <a:pt x="8104" y="3"/>
                      <a:pt x="8104" y="4"/>
                    </a:cubicBezTo>
                    <a:cubicBezTo>
                      <a:pt x="8104" y="5"/>
                      <a:pt x="8103" y="6"/>
                      <a:pt x="8102" y="6"/>
                    </a:cubicBezTo>
                    <a:lnTo>
                      <a:pt x="8102" y="6"/>
                    </a:lnTo>
                    <a:cubicBezTo>
                      <a:pt x="8101" y="6"/>
                      <a:pt x="8100" y="5"/>
                      <a:pt x="8100" y="4"/>
                    </a:cubicBezTo>
                    <a:cubicBezTo>
                      <a:pt x="8100" y="3"/>
                      <a:pt x="8101" y="2"/>
                      <a:pt x="8102" y="2"/>
                    </a:cubicBezTo>
                    <a:close/>
                    <a:moveTo>
                      <a:pt x="8110" y="2"/>
                    </a:moveTo>
                    <a:lnTo>
                      <a:pt x="8110" y="2"/>
                    </a:lnTo>
                    <a:cubicBezTo>
                      <a:pt x="8111" y="2"/>
                      <a:pt x="8112" y="3"/>
                      <a:pt x="8112" y="4"/>
                    </a:cubicBezTo>
                    <a:cubicBezTo>
                      <a:pt x="8112" y="5"/>
                      <a:pt x="8111" y="6"/>
                      <a:pt x="8110" y="6"/>
                    </a:cubicBezTo>
                    <a:lnTo>
                      <a:pt x="8110" y="6"/>
                    </a:lnTo>
                    <a:cubicBezTo>
                      <a:pt x="8109" y="6"/>
                      <a:pt x="8108" y="5"/>
                      <a:pt x="8108" y="4"/>
                    </a:cubicBezTo>
                    <a:cubicBezTo>
                      <a:pt x="8108" y="3"/>
                      <a:pt x="8109" y="2"/>
                      <a:pt x="8110" y="2"/>
                    </a:cubicBezTo>
                    <a:close/>
                    <a:moveTo>
                      <a:pt x="8118" y="2"/>
                    </a:moveTo>
                    <a:lnTo>
                      <a:pt x="8118" y="2"/>
                    </a:lnTo>
                    <a:cubicBezTo>
                      <a:pt x="8119" y="2"/>
                      <a:pt x="8120" y="3"/>
                      <a:pt x="8120" y="4"/>
                    </a:cubicBezTo>
                    <a:cubicBezTo>
                      <a:pt x="8120" y="5"/>
                      <a:pt x="8119" y="6"/>
                      <a:pt x="8118" y="6"/>
                    </a:cubicBezTo>
                    <a:lnTo>
                      <a:pt x="8118" y="6"/>
                    </a:lnTo>
                    <a:cubicBezTo>
                      <a:pt x="8117" y="6"/>
                      <a:pt x="8116" y="5"/>
                      <a:pt x="8116" y="4"/>
                    </a:cubicBezTo>
                    <a:cubicBezTo>
                      <a:pt x="8116" y="3"/>
                      <a:pt x="8117" y="2"/>
                      <a:pt x="8118" y="2"/>
                    </a:cubicBezTo>
                    <a:close/>
                    <a:moveTo>
                      <a:pt x="8126" y="2"/>
                    </a:moveTo>
                    <a:lnTo>
                      <a:pt x="8126" y="2"/>
                    </a:lnTo>
                    <a:cubicBezTo>
                      <a:pt x="8127" y="2"/>
                      <a:pt x="8128" y="3"/>
                      <a:pt x="8128" y="4"/>
                    </a:cubicBezTo>
                    <a:cubicBezTo>
                      <a:pt x="8128" y="5"/>
                      <a:pt x="8127" y="6"/>
                      <a:pt x="8126" y="6"/>
                    </a:cubicBezTo>
                    <a:lnTo>
                      <a:pt x="8126" y="6"/>
                    </a:lnTo>
                    <a:cubicBezTo>
                      <a:pt x="8125" y="6"/>
                      <a:pt x="8124" y="5"/>
                      <a:pt x="8124" y="4"/>
                    </a:cubicBezTo>
                    <a:cubicBezTo>
                      <a:pt x="8124" y="3"/>
                      <a:pt x="8125" y="2"/>
                      <a:pt x="8126" y="2"/>
                    </a:cubicBezTo>
                    <a:close/>
                    <a:moveTo>
                      <a:pt x="8134" y="2"/>
                    </a:moveTo>
                    <a:lnTo>
                      <a:pt x="8134" y="2"/>
                    </a:lnTo>
                    <a:cubicBezTo>
                      <a:pt x="8135" y="2"/>
                      <a:pt x="8136" y="3"/>
                      <a:pt x="8136" y="4"/>
                    </a:cubicBezTo>
                    <a:cubicBezTo>
                      <a:pt x="8136" y="5"/>
                      <a:pt x="8135" y="6"/>
                      <a:pt x="8134" y="6"/>
                    </a:cubicBezTo>
                    <a:lnTo>
                      <a:pt x="8134" y="6"/>
                    </a:lnTo>
                    <a:cubicBezTo>
                      <a:pt x="8133" y="6"/>
                      <a:pt x="8132" y="5"/>
                      <a:pt x="8132" y="4"/>
                    </a:cubicBezTo>
                    <a:cubicBezTo>
                      <a:pt x="8132" y="3"/>
                      <a:pt x="8133" y="2"/>
                      <a:pt x="8134" y="2"/>
                    </a:cubicBezTo>
                    <a:close/>
                    <a:moveTo>
                      <a:pt x="8142" y="2"/>
                    </a:moveTo>
                    <a:lnTo>
                      <a:pt x="8142" y="2"/>
                    </a:lnTo>
                    <a:cubicBezTo>
                      <a:pt x="8143" y="2"/>
                      <a:pt x="8144" y="3"/>
                      <a:pt x="8144" y="4"/>
                    </a:cubicBezTo>
                    <a:cubicBezTo>
                      <a:pt x="8144" y="5"/>
                      <a:pt x="8143" y="6"/>
                      <a:pt x="8142" y="6"/>
                    </a:cubicBezTo>
                    <a:lnTo>
                      <a:pt x="8142" y="6"/>
                    </a:lnTo>
                    <a:cubicBezTo>
                      <a:pt x="8141" y="6"/>
                      <a:pt x="8140" y="5"/>
                      <a:pt x="8140" y="4"/>
                    </a:cubicBezTo>
                    <a:cubicBezTo>
                      <a:pt x="8140" y="3"/>
                      <a:pt x="8141" y="2"/>
                      <a:pt x="8142" y="2"/>
                    </a:cubicBezTo>
                    <a:close/>
                    <a:moveTo>
                      <a:pt x="8150" y="2"/>
                    </a:moveTo>
                    <a:lnTo>
                      <a:pt x="8150" y="2"/>
                    </a:lnTo>
                    <a:cubicBezTo>
                      <a:pt x="8151" y="2"/>
                      <a:pt x="8152" y="3"/>
                      <a:pt x="8152" y="4"/>
                    </a:cubicBezTo>
                    <a:cubicBezTo>
                      <a:pt x="8152" y="5"/>
                      <a:pt x="8151" y="6"/>
                      <a:pt x="8150" y="6"/>
                    </a:cubicBezTo>
                    <a:lnTo>
                      <a:pt x="8150" y="6"/>
                    </a:lnTo>
                    <a:cubicBezTo>
                      <a:pt x="8149" y="6"/>
                      <a:pt x="8148" y="5"/>
                      <a:pt x="8148" y="4"/>
                    </a:cubicBezTo>
                    <a:cubicBezTo>
                      <a:pt x="8148" y="3"/>
                      <a:pt x="8149" y="2"/>
                      <a:pt x="8150" y="2"/>
                    </a:cubicBezTo>
                    <a:close/>
                    <a:moveTo>
                      <a:pt x="8158" y="2"/>
                    </a:moveTo>
                    <a:lnTo>
                      <a:pt x="8158" y="2"/>
                    </a:lnTo>
                    <a:cubicBezTo>
                      <a:pt x="8159" y="2"/>
                      <a:pt x="8160" y="3"/>
                      <a:pt x="8160" y="4"/>
                    </a:cubicBezTo>
                    <a:cubicBezTo>
                      <a:pt x="8160" y="5"/>
                      <a:pt x="8159" y="6"/>
                      <a:pt x="8158" y="6"/>
                    </a:cubicBezTo>
                    <a:lnTo>
                      <a:pt x="8158" y="6"/>
                    </a:lnTo>
                    <a:cubicBezTo>
                      <a:pt x="8157" y="6"/>
                      <a:pt x="8156" y="5"/>
                      <a:pt x="8156" y="4"/>
                    </a:cubicBezTo>
                    <a:cubicBezTo>
                      <a:pt x="8156" y="3"/>
                      <a:pt x="8157" y="2"/>
                      <a:pt x="8158" y="2"/>
                    </a:cubicBezTo>
                    <a:close/>
                    <a:moveTo>
                      <a:pt x="8166" y="2"/>
                    </a:moveTo>
                    <a:lnTo>
                      <a:pt x="8166" y="2"/>
                    </a:lnTo>
                    <a:cubicBezTo>
                      <a:pt x="8167" y="2"/>
                      <a:pt x="8168" y="3"/>
                      <a:pt x="8168" y="4"/>
                    </a:cubicBezTo>
                    <a:cubicBezTo>
                      <a:pt x="8168" y="5"/>
                      <a:pt x="8167" y="6"/>
                      <a:pt x="8166" y="6"/>
                    </a:cubicBezTo>
                    <a:lnTo>
                      <a:pt x="8166" y="6"/>
                    </a:lnTo>
                    <a:cubicBezTo>
                      <a:pt x="8165" y="6"/>
                      <a:pt x="8164" y="5"/>
                      <a:pt x="8164" y="4"/>
                    </a:cubicBezTo>
                    <a:cubicBezTo>
                      <a:pt x="8164" y="3"/>
                      <a:pt x="8165" y="2"/>
                      <a:pt x="8166" y="2"/>
                    </a:cubicBezTo>
                    <a:close/>
                    <a:moveTo>
                      <a:pt x="8174" y="2"/>
                    </a:moveTo>
                    <a:lnTo>
                      <a:pt x="8174" y="2"/>
                    </a:lnTo>
                    <a:cubicBezTo>
                      <a:pt x="8175" y="2"/>
                      <a:pt x="8176" y="3"/>
                      <a:pt x="8176" y="4"/>
                    </a:cubicBezTo>
                    <a:cubicBezTo>
                      <a:pt x="8176" y="5"/>
                      <a:pt x="8175" y="6"/>
                      <a:pt x="8174" y="6"/>
                    </a:cubicBezTo>
                    <a:lnTo>
                      <a:pt x="8174" y="6"/>
                    </a:lnTo>
                    <a:cubicBezTo>
                      <a:pt x="8173" y="6"/>
                      <a:pt x="8172" y="5"/>
                      <a:pt x="8172" y="4"/>
                    </a:cubicBezTo>
                    <a:cubicBezTo>
                      <a:pt x="8172" y="3"/>
                      <a:pt x="8173" y="2"/>
                      <a:pt x="8174" y="2"/>
                    </a:cubicBezTo>
                    <a:close/>
                    <a:moveTo>
                      <a:pt x="8182" y="2"/>
                    </a:moveTo>
                    <a:lnTo>
                      <a:pt x="8182" y="2"/>
                    </a:lnTo>
                    <a:cubicBezTo>
                      <a:pt x="8183" y="2"/>
                      <a:pt x="8184" y="3"/>
                      <a:pt x="8184" y="4"/>
                    </a:cubicBezTo>
                    <a:cubicBezTo>
                      <a:pt x="8184" y="5"/>
                      <a:pt x="8183" y="6"/>
                      <a:pt x="8182" y="6"/>
                    </a:cubicBezTo>
                    <a:lnTo>
                      <a:pt x="8182" y="6"/>
                    </a:lnTo>
                    <a:cubicBezTo>
                      <a:pt x="8181" y="6"/>
                      <a:pt x="8180" y="5"/>
                      <a:pt x="8180" y="4"/>
                    </a:cubicBezTo>
                    <a:cubicBezTo>
                      <a:pt x="8180" y="3"/>
                      <a:pt x="8181" y="2"/>
                      <a:pt x="8182" y="2"/>
                    </a:cubicBezTo>
                    <a:close/>
                    <a:moveTo>
                      <a:pt x="8190" y="2"/>
                    </a:moveTo>
                    <a:lnTo>
                      <a:pt x="8190" y="2"/>
                    </a:lnTo>
                    <a:cubicBezTo>
                      <a:pt x="8191" y="2"/>
                      <a:pt x="8192" y="3"/>
                      <a:pt x="8192" y="4"/>
                    </a:cubicBezTo>
                    <a:cubicBezTo>
                      <a:pt x="8192" y="5"/>
                      <a:pt x="8191" y="6"/>
                      <a:pt x="8190" y="6"/>
                    </a:cubicBezTo>
                    <a:lnTo>
                      <a:pt x="8190" y="6"/>
                    </a:lnTo>
                    <a:cubicBezTo>
                      <a:pt x="8189" y="6"/>
                      <a:pt x="8188" y="5"/>
                      <a:pt x="8188" y="4"/>
                    </a:cubicBezTo>
                    <a:cubicBezTo>
                      <a:pt x="8188" y="3"/>
                      <a:pt x="8189" y="2"/>
                      <a:pt x="8190" y="2"/>
                    </a:cubicBezTo>
                    <a:close/>
                    <a:moveTo>
                      <a:pt x="8198" y="2"/>
                    </a:moveTo>
                    <a:lnTo>
                      <a:pt x="8198" y="2"/>
                    </a:lnTo>
                    <a:cubicBezTo>
                      <a:pt x="8199" y="2"/>
                      <a:pt x="8200" y="3"/>
                      <a:pt x="8200" y="4"/>
                    </a:cubicBezTo>
                    <a:cubicBezTo>
                      <a:pt x="8200" y="5"/>
                      <a:pt x="8199" y="6"/>
                      <a:pt x="8198" y="6"/>
                    </a:cubicBezTo>
                    <a:lnTo>
                      <a:pt x="8198" y="6"/>
                    </a:lnTo>
                    <a:cubicBezTo>
                      <a:pt x="8197" y="6"/>
                      <a:pt x="8196" y="5"/>
                      <a:pt x="8196" y="4"/>
                    </a:cubicBezTo>
                    <a:cubicBezTo>
                      <a:pt x="8196" y="3"/>
                      <a:pt x="8197" y="2"/>
                      <a:pt x="8198" y="2"/>
                    </a:cubicBezTo>
                    <a:close/>
                    <a:moveTo>
                      <a:pt x="8206" y="2"/>
                    </a:moveTo>
                    <a:lnTo>
                      <a:pt x="8206" y="2"/>
                    </a:lnTo>
                    <a:cubicBezTo>
                      <a:pt x="8207" y="2"/>
                      <a:pt x="8208" y="3"/>
                      <a:pt x="8208" y="4"/>
                    </a:cubicBezTo>
                    <a:cubicBezTo>
                      <a:pt x="8208" y="5"/>
                      <a:pt x="8207" y="6"/>
                      <a:pt x="8206" y="6"/>
                    </a:cubicBezTo>
                    <a:lnTo>
                      <a:pt x="8206" y="6"/>
                    </a:lnTo>
                    <a:cubicBezTo>
                      <a:pt x="8205" y="6"/>
                      <a:pt x="8204" y="5"/>
                      <a:pt x="8204" y="4"/>
                    </a:cubicBezTo>
                    <a:cubicBezTo>
                      <a:pt x="8204" y="3"/>
                      <a:pt x="8205" y="2"/>
                      <a:pt x="8206" y="2"/>
                    </a:cubicBezTo>
                    <a:close/>
                    <a:moveTo>
                      <a:pt x="8214" y="2"/>
                    </a:moveTo>
                    <a:lnTo>
                      <a:pt x="8214" y="2"/>
                    </a:lnTo>
                    <a:cubicBezTo>
                      <a:pt x="8215" y="2"/>
                      <a:pt x="8216" y="3"/>
                      <a:pt x="8216" y="4"/>
                    </a:cubicBezTo>
                    <a:cubicBezTo>
                      <a:pt x="8216" y="5"/>
                      <a:pt x="8215" y="6"/>
                      <a:pt x="8214" y="6"/>
                    </a:cubicBezTo>
                    <a:lnTo>
                      <a:pt x="8214" y="6"/>
                    </a:lnTo>
                    <a:cubicBezTo>
                      <a:pt x="8213" y="6"/>
                      <a:pt x="8212" y="5"/>
                      <a:pt x="8212" y="4"/>
                    </a:cubicBezTo>
                    <a:cubicBezTo>
                      <a:pt x="8212" y="3"/>
                      <a:pt x="8213" y="2"/>
                      <a:pt x="8214" y="2"/>
                    </a:cubicBezTo>
                    <a:close/>
                    <a:moveTo>
                      <a:pt x="8222" y="2"/>
                    </a:moveTo>
                    <a:lnTo>
                      <a:pt x="8222" y="2"/>
                    </a:lnTo>
                    <a:cubicBezTo>
                      <a:pt x="8223" y="2"/>
                      <a:pt x="8224" y="3"/>
                      <a:pt x="8224" y="4"/>
                    </a:cubicBezTo>
                    <a:cubicBezTo>
                      <a:pt x="8224" y="5"/>
                      <a:pt x="8223" y="6"/>
                      <a:pt x="8222" y="6"/>
                    </a:cubicBezTo>
                    <a:lnTo>
                      <a:pt x="8222" y="6"/>
                    </a:lnTo>
                    <a:cubicBezTo>
                      <a:pt x="8221" y="6"/>
                      <a:pt x="8220" y="5"/>
                      <a:pt x="8220" y="4"/>
                    </a:cubicBezTo>
                    <a:cubicBezTo>
                      <a:pt x="8220" y="3"/>
                      <a:pt x="8221" y="2"/>
                      <a:pt x="8222" y="2"/>
                    </a:cubicBezTo>
                    <a:close/>
                    <a:moveTo>
                      <a:pt x="8230" y="2"/>
                    </a:moveTo>
                    <a:lnTo>
                      <a:pt x="8230" y="2"/>
                    </a:lnTo>
                    <a:cubicBezTo>
                      <a:pt x="8231" y="2"/>
                      <a:pt x="8232" y="3"/>
                      <a:pt x="8232" y="4"/>
                    </a:cubicBezTo>
                    <a:cubicBezTo>
                      <a:pt x="8232" y="5"/>
                      <a:pt x="8231" y="6"/>
                      <a:pt x="8230" y="6"/>
                    </a:cubicBezTo>
                    <a:lnTo>
                      <a:pt x="8230" y="6"/>
                    </a:lnTo>
                    <a:cubicBezTo>
                      <a:pt x="8229" y="6"/>
                      <a:pt x="8228" y="5"/>
                      <a:pt x="8228" y="4"/>
                    </a:cubicBezTo>
                    <a:cubicBezTo>
                      <a:pt x="8228" y="3"/>
                      <a:pt x="8229" y="2"/>
                      <a:pt x="8230" y="2"/>
                    </a:cubicBezTo>
                    <a:close/>
                    <a:moveTo>
                      <a:pt x="8238" y="2"/>
                    </a:moveTo>
                    <a:lnTo>
                      <a:pt x="8238" y="2"/>
                    </a:lnTo>
                    <a:cubicBezTo>
                      <a:pt x="8239" y="2"/>
                      <a:pt x="8240" y="3"/>
                      <a:pt x="8240" y="4"/>
                    </a:cubicBezTo>
                    <a:cubicBezTo>
                      <a:pt x="8240" y="5"/>
                      <a:pt x="8239" y="6"/>
                      <a:pt x="8238" y="6"/>
                    </a:cubicBezTo>
                    <a:lnTo>
                      <a:pt x="8238" y="6"/>
                    </a:lnTo>
                    <a:cubicBezTo>
                      <a:pt x="8237" y="6"/>
                      <a:pt x="8236" y="5"/>
                      <a:pt x="8236" y="4"/>
                    </a:cubicBezTo>
                    <a:cubicBezTo>
                      <a:pt x="8236" y="3"/>
                      <a:pt x="8237" y="2"/>
                      <a:pt x="8238" y="2"/>
                    </a:cubicBezTo>
                    <a:close/>
                    <a:moveTo>
                      <a:pt x="8246" y="2"/>
                    </a:moveTo>
                    <a:lnTo>
                      <a:pt x="8246" y="2"/>
                    </a:lnTo>
                    <a:cubicBezTo>
                      <a:pt x="8247" y="2"/>
                      <a:pt x="8248" y="3"/>
                      <a:pt x="8248" y="4"/>
                    </a:cubicBezTo>
                    <a:cubicBezTo>
                      <a:pt x="8248" y="5"/>
                      <a:pt x="8247" y="6"/>
                      <a:pt x="8246" y="6"/>
                    </a:cubicBezTo>
                    <a:lnTo>
                      <a:pt x="8246" y="6"/>
                    </a:lnTo>
                    <a:cubicBezTo>
                      <a:pt x="8245" y="6"/>
                      <a:pt x="8244" y="5"/>
                      <a:pt x="8244" y="4"/>
                    </a:cubicBezTo>
                    <a:cubicBezTo>
                      <a:pt x="8244" y="3"/>
                      <a:pt x="8245" y="2"/>
                      <a:pt x="8246" y="2"/>
                    </a:cubicBezTo>
                    <a:close/>
                    <a:moveTo>
                      <a:pt x="8254" y="2"/>
                    </a:moveTo>
                    <a:lnTo>
                      <a:pt x="8254" y="2"/>
                    </a:lnTo>
                    <a:cubicBezTo>
                      <a:pt x="8255" y="2"/>
                      <a:pt x="8256" y="3"/>
                      <a:pt x="8256" y="4"/>
                    </a:cubicBezTo>
                    <a:cubicBezTo>
                      <a:pt x="8256" y="5"/>
                      <a:pt x="8255" y="6"/>
                      <a:pt x="8254" y="6"/>
                    </a:cubicBezTo>
                    <a:lnTo>
                      <a:pt x="8254" y="6"/>
                    </a:lnTo>
                    <a:cubicBezTo>
                      <a:pt x="8253" y="6"/>
                      <a:pt x="8252" y="5"/>
                      <a:pt x="8252" y="4"/>
                    </a:cubicBezTo>
                    <a:cubicBezTo>
                      <a:pt x="8252" y="3"/>
                      <a:pt x="8253" y="2"/>
                      <a:pt x="8254" y="2"/>
                    </a:cubicBezTo>
                    <a:close/>
                    <a:moveTo>
                      <a:pt x="8262" y="2"/>
                    </a:moveTo>
                    <a:lnTo>
                      <a:pt x="8262" y="2"/>
                    </a:lnTo>
                    <a:cubicBezTo>
                      <a:pt x="8263" y="2"/>
                      <a:pt x="8264" y="3"/>
                      <a:pt x="8264" y="4"/>
                    </a:cubicBezTo>
                    <a:cubicBezTo>
                      <a:pt x="8264" y="5"/>
                      <a:pt x="8263" y="6"/>
                      <a:pt x="8262" y="6"/>
                    </a:cubicBezTo>
                    <a:lnTo>
                      <a:pt x="8262" y="6"/>
                    </a:lnTo>
                    <a:cubicBezTo>
                      <a:pt x="8261" y="6"/>
                      <a:pt x="8260" y="5"/>
                      <a:pt x="8260" y="4"/>
                    </a:cubicBezTo>
                    <a:cubicBezTo>
                      <a:pt x="8260" y="3"/>
                      <a:pt x="8261" y="2"/>
                      <a:pt x="8262" y="2"/>
                    </a:cubicBezTo>
                    <a:close/>
                    <a:moveTo>
                      <a:pt x="8270" y="2"/>
                    </a:moveTo>
                    <a:lnTo>
                      <a:pt x="8270" y="2"/>
                    </a:lnTo>
                    <a:cubicBezTo>
                      <a:pt x="8271" y="2"/>
                      <a:pt x="8272" y="3"/>
                      <a:pt x="8272" y="4"/>
                    </a:cubicBezTo>
                    <a:cubicBezTo>
                      <a:pt x="8272" y="5"/>
                      <a:pt x="8271" y="6"/>
                      <a:pt x="8270" y="6"/>
                    </a:cubicBezTo>
                    <a:lnTo>
                      <a:pt x="8270" y="6"/>
                    </a:lnTo>
                    <a:cubicBezTo>
                      <a:pt x="8269" y="6"/>
                      <a:pt x="8268" y="5"/>
                      <a:pt x="8268" y="4"/>
                    </a:cubicBezTo>
                    <a:cubicBezTo>
                      <a:pt x="8268" y="3"/>
                      <a:pt x="8269" y="2"/>
                      <a:pt x="8270" y="2"/>
                    </a:cubicBezTo>
                    <a:close/>
                    <a:moveTo>
                      <a:pt x="8278" y="2"/>
                    </a:moveTo>
                    <a:lnTo>
                      <a:pt x="8278" y="2"/>
                    </a:lnTo>
                    <a:cubicBezTo>
                      <a:pt x="8279" y="2"/>
                      <a:pt x="8280" y="3"/>
                      <a:pt x="8280" y="4"/>
                    </a:cubicBezTo>
                    <a:cubicBezTo>
                      <a:pt x="8280" y="5"/>
                      <a:pt x="8279" y="6"/>
                      <a:pt x="8278" y="6"/>
                    </a:cubicBezTo>
                    <a:lnTo>
                      <a:pt x="8278" y="6"/>
                    </a:lnTo>
                    <a:cubicBezTo>
                      <a:pt x="8277" y="6"/>
                      <a:pt x="8276" y="5"/>
                      <a:pt x="8276" y="4"/>
                    </a:cubicBezTo>
                    <a:cubicBezTo>
                      <a:pt x="8276" y="3"/>
                      <a:pt x="8277" y="2"/>
                      <a:pt x="8278" y="2"/>
                    </a:cubicBezTo>
                    <a:close/>
                    <a:moveTo>
                      <a:pt x="8286" y="2"/>
                    </a:moveTo>
                    <a:lnTo>
                      <a:pt x="8286" y="2"/>
                    </a:lnTo>
                    <a:cubicBezTo>
                      <a:pt x="8287" y="2"/>
                      <a:pt x="8288" y="3"/>
                      <a:pt x="8288" y="4"/>
                    </a:cubicBezTo>
                    <a:cubicBezTo>
                      <a:pt x="8288" y="5"/>
                      <a:pt x="8287" y="6"/>
                      <a:pt x="8286" y="6"/>
                    </a:cubicBezTo>
                    <a:lnTo>
                      <a:pt x="8286" y="6"/>
                    </a:lnTo>
                    <a:cubicBezTo>
                      <a:pt x="8285" y="6"/>
                      <a:pt x="8284" y="5"/>
                      <a:pt x="8284" y="4"/>
                    </a:cubicBezTo>
                    <a:cubicBezTo>
                      <a:pt x="8284" y="3"/>
                      <a:pt x="8285" y="2"/>
                      <a:pt x="8286" y="2"/>
                    </a:cubicBezTo>
                    <a:close/>
                    <a:moveTo>
                      <a:pt x="8294" y="2"/>
                    </a:moveTo>
                    <a:lnTo>
                      <a:pt x="8294" y="2"/>
                    </a:lnTo>
                    <a:cubicBezTo>
                      <a:pt x="8295" y="2"/>
                      <a:pt x="8296" y="3"/>
                      <a:pt x="8296" y="4"/>
                    </a:cubicBezTo>
                    <a:cubicBezTo>
                      <a:pt x="8296" y="5"/>
                      <a:pt x="8295" y="6"/>
                      <a:pt x="8294" y="6"/>
                    </a:cubicBezTo>
                    <a:lnTo>
                      <a:pt x="8294" y="6"/>
                    </a:lnTo>
                    <a:cubicBezTo>
                      <a:pt x="8293" y="6"/>
                      <a:pt x="8292" y="5"/>
                      <a:pt x="8292" y="4"/>
                    </a:cubicBezTo>
                    <a:cubicBezTo>
                      <a:pt x="8292" y="3"/>
                      <a:pt x="8293" y="2"/>
                      <a:pt x="8294" y="2"/>
                    </a:cubicBezTo>
                    <a:close/>
                    <a:moveTo>
                      <a:pt x="8302" y="2"/>
                    </a:moveTo>
                    <a:lnTo>
                      <a:pt x="8302" y="2"/>
                    </a:lnTo>
                    <a:cubicBezTo>
                      <a:pt x="8303" y="2"/>
                      <a:pt x="8304" y="3"/>
                      <a:pt x="8304" y="4"/>
                    </a:cubicBezTo>
                    <a:cubicBezTo>
                      <a:pt x="8304" y="5"/>
                      <a:pt x="8303" y="6"/>
                      <a:pt x="8302" y="6"/>
                    </a:cubicBezTo>
                    <a:lnTo>
                      <a:pt x="8302" y="6"/>
                    </a:lnTo>
                    <a:cubicBezTo>
                      <a:pt x="8301" y="6"/>
                      <a:pt x="8300" y="5"/>
                      <a:pt x="8300" y="4"/>
                    </a:cubicBezTo>
                    <a:cubicBezTo>
                      <a:pt x="8300" y="3"/>
                      <a:pt x="8301" y="2"/>
                      <a:pt x="8302" y="2"/>
                    </a:cubicBezTo>
                    <a:close/>
                    <a:moveTo>
                      <a:pt x="8310" y="2"/>
                    </a:moveTo>
                    <a:lnTo>
                      <a:pt x="8310" y="2"/>
                    </a:lnTo>
                    <a:cubicBezTo>
                      <a:pt x="8311" y="2"/>
                      <a:pt x="8312" y="3"/>
                      <a:pt x="8312" y="4"/>
                    </a:cubicBezTo>
                    <a:cubicBezTo>
                      <a:pt x="8312" y="5"/>
                      <a:pt x="8311" y="6"/>
                      <a:pt x="8310" y="6"/>
                    </a:cubicBezTo>
                    <a:lnTo>
                      <a:pt x="8310" y="6"/>
                    </a:lnTo>
                    <a:cubicBezTo>
                      <a:pt x="8309" y="6"/>
                      <a:pt x="8308" y="5"/>
                      <a:pt x="8308" y="4"/>
                    </a:cubicBezTo>
                    <a:cubicBezTo>
                      <a:pt x="8308" y="3"/>
                      <a:pt x="8309" y="2"/>
                      <a:pt x="8310" y="2"/>
                    </a:cubicBezTo>
                    <a:close/>
                    <a:moveTo>
                      <a:pt x="8318" y="2"/>
                    </a:moveTo>
                    <a:lnTo>
                      <a:pt x="8318" y="2"/>
                    </a:lnTo>
                    <a:cubicBezTo>
                      <a:pt x="8319" y="2"/>
                      <a:pt x="8320" y="3"/>
                      <a:pt x="8320" y="4"/>
                    </a:cubicBezTo>
                    <a:cubicBezTo>
                      <a:pt x="8320" y="5"/>
                      <a:pt x="8319" y="6"/>
                      <a:pt x="8318" y="6"/>
                    </a:cubicBezTo>
                    <a:lnTo>
                      <a:pt x="8318" y="6"/>
                    </a:lnTo>
                    <a:cubicBezTo>
                      <a:pt x="8317" y="6"/>
                      <a:pt x="8316" y="5"/>
                      <a:pt x="8316" y="4"/>
                    </a:cubicBezTo>
                    <a:cubicBezTo>
                      <a:pt x="8316" y="3"/>
                      <a:pt x="8317" y="2"/>
                      <a:pt x="8318" y="2"/>
                    </a:cubicBezTo>
                    <a:close/>
                    <a:moveTo>
                      <a:pt x="8326" y="2"/>
                    </a:moveTo>
                    <a:lnTo>
                      <a:pt x="8326" y="2"/>
                    </a:lnTo>
                    <a:cubicBezTo>
                      <a:pt x="8327" y="2"/>
                      <a:pt x="8328" y="3"/>
                      <a:pt x="8328" y="4"/>
                    </a:cubicBezTo>
                    <a:cubicBezTo>
                      <a:pt x="8328" y="5"/>
                      <a:pt x="8327" y="6"/>
                      <a:pt x="8326" y="6"/>
                    </a:cubicBezTo>
                    <a:lnTo>
                      <a:pt x="8326" y="6"/>
                    </a:lnTo>
                    <a:cubicBezTo>
                      <a:pt x="8325" y="6"/>
                      <a:pt x="8324" y="5"/>
                      <a:pt x="8324" y="4"/>
                    </a:cubicBezTo>
                    <a:cubicBezTo>
                      <a:pt x="8324" y="3"/>
                      <a:pt x="8325" y="2"/>
                      <a:pt x="8326" y="2"/>
                    </a:cubicBezTo>
                    <a:close/>
                    <a:moveTo>
                      <a:pt x="8334" y="2"/>
                    </a:moveTo>
                    <a:lnTo>
                      <a:pt x="8334" y="2"/>
                    </a:lnTo>
                    <a:cubicBezTo>
                      <a:pt x="8335" y="2"/>
                      <a:pt x="8336" y="3"/>
                      <a:pt x="8336" y="4"/>
                    </a:cubicBezTo>
                    <a:cubicBezTo>
                      <a:pt x="8336" y="5"/>
                      <a:pt x="8335" y="6"/>
                      <a:pt x="8334" y="6"/>
                    </a:cubicBezTo>
                    <a:lnTo>
                      <a:pt x="8334" y="6"/>
                    </a:lnTo>
                    <a:cubicBezTo>
                      <a:pt x="8333" y="6"/>
                      <a:pt x="8332" y="5"/>
                      <a:pt x="8332" y="4"/>
                    </a:cubicBezTo>
                    <a:cubicBezTo>
                      <a:pt x="8332" y="3"/>
                      <a:pt x="8333" y="2"/>
                      <a:pt x="8334" y="2"/>
                    </a:cubicBezTo>
                    <a:close/>
                    <a:moveTo>
                      <a:pt x="8342" y="2"/>
                    </a:moveTo>
                    <a:lnTo>
                      <a:pt x="8342" y="2"/>
                    </a:lnTo>
                    <a:cubicBezTo>
                      <a:pt x="8343" y="2"/>
                      <a:pt x="8344" y="3"/>
                      <a:pt x="8344" y="4"/>
                    </a:cubicBezTo>
                    <a:cubicBezTo>
                      <a:pt x="8344" y="5"/>
                      <a:pt x="8343" y="6"/>
                      <a:pt x="8342" y="6"/>
                    </a:cubicBezTo>
                    <a:lnTo>
                      <a:pt x="8342" y="6"/>
                    </a:lnTo>
                    <a:cubicBezTo>
                      <a:pt x="8341" y="6"/>
                      <a:pt x="8340" y="5"/>
                      <a:pt x="8340" y="4"/>
                    </a:cubicBezTo>
                    <a:cubicBezTo>
                      <a:pt x="8340" y="3"/>
                      <a:pt x="8341" y="2"/>
                      <a:pt x="8342" y="2"/>
                    </a:cubicBezTo>
                    <a:close/>
                    <a:moveTo>
                      <a:pt x="8350" y="2"/>
                    </a:moveTo>
                    <a:lnTo>
                      <a:pt x="8350" y="2"/>
                    </a:lnTo>
                    <a:cubicBezTo>
                      <a:pt x="8351" y="2"/>
                      <a:pt x="8352" y="3"/>
                      <a:pt x="8352" y="4"/>
                    </a:cubicBezTo>
                    <a:cubicBezTo>
                      <a:pt x="8352" y="5"/>
                      <a:pt x="8351" y="6"/>
                      <a:pt x="8350" y="6"/>
                    </a:cubicBezTo>
                    <a:lnTo>
                      <a:pt x="8350" y="6"/>
                    </a:lnTo>
                    <a:cubicBezTo>
                      <a:pt x="8349" y="6"/>
                      <a:pt x="8348" y="5"/>
                      <a:pt x="8348" y="4"/>
                    </a:cubicBezTo>
                    <a:cubicBezTo>
                      <a:pt x="8348" y="3"/>
                      <a:pt x="8349" y="2"/>
                      <a:pt x="8350" y="2"/>
                    </a:cubicBezTo>
                    <a:close/>
                    <a:moveTo>
                      <a:pt x="8358" y="2"/>
                    </a:moveTo>
                    <a:lnTo>
                      <a:pt x="8358" y="2"/>
                    </a:lnTo>
                    <a:cubicBezTo>
                      <a:pt x="8359" y="2"/>
                      <a:pt x="8360" y="3"/>
                      <a:pt x="8360" y="4"/>
                    </a:cubicBezTo>
                    <a:cubicBezTo>
                      <a:pt x="8360" y="5"/>
                      <a:pt x="8359" y="6"/>
                      <a:pt x="8358" y="6"/>
                    </a:cubicBezTo>
                    <a:lnTo>
                      <a:pt x="8358" y="6"/>
                    </a:lnTo>
                    <a:cubicBezTo>
                      <a:pt x="8357" y="6"/>
                      <a:pt x="8356" y="5"/>
                      <a:pt x="8356" y="4"/>
                    </a:cubicBezTo>
                    <a:cubicBezTo>
                      <a:pt x="8356" y="3"/>
                      <a:pt x="8357" y="2"/>
                      <a:pt x="8358" y="2"/>
                    </a:cubicBezTo>
                    <a:close/>
                    <a:moveTo>
                      <a:pt x="8366" y="2"/>
                    </a:moveTo>
                    <a:lnTo>
                      <a:pt x="8366" y="2"/>
                    </a:lnTo>
                    <a:cubicBezTo>
                      <a:pt x="8367" y="2"/>
                      <a:pt x="8368" y="3"/>
                      <a:pt x="8368" y="4"/>
                    </a:cubicBezTo>
                    <a:cubicBezTo>
                      <a:pt x="8368" y="5"/>
                      <a:pt x="8367" y="6"/>
                      <a:pt x="8366" y="6"/>
                    </a:cubicBezTo>
                    <a:lnTo>
                      <a:pt x="8366" y="6"/>
                    </a:lnTo>
                    <a:cubicBezTo>
                      <a:pt x="8365" y="6"/>
                      <a:pt x="8364" y="5"/>
                      <a:pt x="8364" y="4"/>
                    </a:cubicBezTo>
                    <a:cubicBezTo>
                      <a:pt x="8364" y="3"/>
                      <a:pt x="8365" y="2"/>
                      <a:pt x="8366" y="2"/>
                    </a:cubicBezTo>
                    <a:close/>
                    <a:moveTo>
                      <a:pt x="8374" y="2"/>
                    </a:moveTo>
                    <a:lnTo>
                      <a:pt x="8374" y="2"/>
                    </a:lnTo>
                    <a:cubicBezTo>
                      <a:pt x="8375" y="2"/>
                      <a:pt x="8376" y="3"/>
                      <a:pt x="8376" y="4"/>
                    </a:cubicBezTo>
                    <a:cubicBezTo>
                      <a:pt x="8376" y="5"/>
                      <a:pt x="8375" y="6"/>
                      <a:pt x="8374" y="6"/>
                    </a:cubicBezTo>
                    <a:lnTo>
                      <a:pt x="8374" y="6"/>
                    </a:lnTo>
                    <a:cubicBezTo>
                      <a:pt x="8373" y="6"/>
                      <a:pt x="8372" y="5"/>
                      <a:pt x="8372" y="4"/>
                    </a:cubicBezTo>
                    <a:cubicBezTo>
                      <a:pt x="8372" y="3"/>
                      <a:pt x="8373" y="2"/>
                      <a:pt x="8374" y="2"/>
                    </a:cubicBezTo>
                    <a:close/>
                    <a:moveTo>
                      <a:pt x="8382" y="2"/>
                    </a:moveTo>
                    <a:lnTo>
                      <a:pt x="8382" y="2"/>
                    </a:lnTo>
                    <a:cubicBezTo>
                      <a:pt x="8383" y="2"/>
                      <a:pt x="8384" y="3"/>
                      <a:pt x="8384" y="4"/>
                    </a:cubicBezTo>
                    <a:cubicBezTo>
                      <a:pt x="8384" y="5"/>
                      <a:pt x="8383" y="6"/>
                      <a:pt x="8382" y="6"/>
                    </a:cubicBezTo>
                    <a:lnTo>
                      <a:pt x="8382" y="6"/>
                    </a:lnTo>
                    <a:cubicBezTo>
                      <a:pt x="8381" y="6"/>
                      <a:pt x="8380" y="5"/>
                      <a:pt x="8380" y="4"/>
                    </a:cubicBezTo>
                    <a:cubicBezTo>
                      <a:pt x="8380" y="3"/>
                      <a:pt x="8381" y="2"/>
                      <a:pt x="8382" y="2"/>
                    </a:cubicBezTo>
                    <a:close/>
                    <a:moveTo>
                      <a:pt x="8390" y="2"/>
                    </a:moveTo>
                    <a:lnTo>
                      <a:pt x="8390" y="2"/>
                    </a:lnTo>
                    <a:cubicBezTo>
                      <a:pt x="8391" y="2"/>
                      <a:pt x="8392" y="3"/>
                      <a:pt x="8392" y="4"/>
                    </a:cubicBezTo>
                    <a:cubicBezTo>
                      <a:pt x="8392" y="5"/>
                      <a:pt x="8391" y="6"/>
                      <a:pt x="8390" y="6"/>
                    </a:cubicBezTo>
                    <a:lnTo>
                      <a:pt x="8390" y="6"/>
                    </a:lnTo>
                    <a:cubicBezTo>
                      <a:pt x="8389" y="6"/>
                      <a:pt x="8388" y="5"/>
                      <a:pt x="8388" y="4"/>
                    </a:cubicBezTo>
                    <a:cubicBezTo>
                      <a:pt x="8388" y="3"/>
                      <a:pt x="8389" y="2"/>
                      <a:pt x="8390" y="2"/>
                    </a:cubicBezTo>
                    <a:close/>
                    <a:moveTo>
                      <a:pt x="8398" y="2"/>
                    </a:moveTo>
                    <a:lnTo>
                      <a:pt x="8398" y="2"/>
                    </a:lnTo>
                    <a:cubicBezTo>
                      <a:pt x="8399" y="2"/>
                      <a:pt x="8400" y="3"/>
                      <a:pt x="8400" y="4"/>
                    </a:cubicBezTo>
                    <a:cubicBezTo>
                      <a:pt x="8400" y="5"/>
                      <a:pt x="8399" y="6"/>
                      <a:pt x="8398" y="6"/>
                    </a:cubicBezTo>
                    <a:lnTo>
                      <a:pt x="8398" y="6"/>
                    </a:lnTo>
                    <a:cubicBezTo>
                      <a:pt x="8397" y="6"/>
                      <a:pt x="8396" y="5"/>
                      <a:pt x="8396" y="4"/>
                    </a:cubicBezTo>
                    <a:cubicBezTo>
                      <a:pt x="8396" y="3"/>
                      <a:pt x="8397" y="2"/>
                      <a:pt x="8398" y="2"/>
                    </a:cubicBezTo>
                    <a:close/>
                    <a:moveTo>
                      <a:pt x="8406" y="2"/>
                    </a:moveTo>
                    <a:lnTo>
                      <a:pt x="8406" y="2"/>
                    </a:lnTo>
                    <a:cubicBezTo>
                      <a:pt x="8407" y="2"/>
                      <a:pt x="8408" y="3"/>
                      <a:pt x="8408" y="4"/>
                    </a:cubicBezTo>
                    <a:cubicBezTo>
                      <a:pt x="8408" y="5"/>
                      <a:pt x="8407" y="6"/>
                      <a:pt x="8406" y="6"/>
                    </a:cubicBezTo>
                    <a:lnTo>
                      <a:pt x="8406" y="6"/>
                    </a:lnTo>
                    <a:cubicBezTo>
                      <a:pt x="8405" y="6"/>
                      <a:pt x="8404" y="5"/>
                      <a:pt x="8404" y="4"/>
                    </a:cubicBezTo>
                    <a:cubicBezTo>
                      <a:pt x="8404" y="3"/>
                      <a:pt x="8405" y="2"/>
                      <a:pt x="8406" y="2"/>
                    </a:cubicBezTo>
                    <a:close/>
                    <a:moveTo>
                      <a:pt x="8414" y="2"/>
                    </a:moveTo>
                    <a:lnTo>
                      <a:pt x="8414" y="2"/>
                    </a:lnTo>
                    <a:cubicBezTo>
                      <a:pt x="8415" y="2"/>
                      <a:pt x="8416" y="3"/>
                      <a:pt x="8416" y="4"/>
                    </a:cubicBezTo>
                    <a:cubicBezTo>
                      <a:pt x="8416" y="5"/>
                      <a:pt x="8415" y="6"/>
                      <a:pt x="8414" y="6"/>
                    </a:cubicBezTo>
                    <a:lnTo>
                      <a:pt x="8414" y="6"/>
                    </a:lnTo>
                    <a:cubicBezTo>
                      <a:pt x="8413" y="6"/>
                      <a:pt x="8412" y="5"/>
                      <a:pt x="8412" y="4"/>
                    </a:cubicBezTo>
                    <a:cubicBezTo>
                      <a:pt x="8412" y="3"/>
                      <a:pt x="8413" y="2"/>
                      <a:pt x="8414" y="2"/>
                    </a:cubicBezTo>
                    <a:close/>
                    <a:moveTo>
                      <a:pt x="8422" y="2"/>
                    </a:moveTo>
                    <a:lnTo>
                      <a:pt x="8422" y="2"/>
                    </a:lnTo>
                    <a:cubicBezTo>
                      <a:pt x="8423" y="2"/>
                      <a:pt x="8424" y="3"/>
                      <a:pt x="8424" y="4"/>
                    </a:cubicBezTo>
                    <a:cubicBezTo>
                      <a:pt x="8424" y="5"/>
                      <a:pt x="8423" y="6"/>
                      <a:pt x="8422" y="6"/>
                    </a:cubicBezTo>
                    <a:lnTo>
                      <a:pt x="8422" y="6"/>
                    </a:lnTo>
                    <a:cubicBezTo>
                      <a:pt x="8421" y="6"/>
                      <a:pt x="8420" y="5"/>
                      <a:pt x="8420" y="4"/>
                    </a:cubicBezTo>
                    <a:cubicBezTo>
                      <a:pt x="8420" y="3"/>
                      <a:pt x="8421" y="2"/>
                      <a:pt x="8422" y="2"/>
                    </a:cubicBezTo>
                    <a:close/>
                    <a:moveTo>
                      <a:pt x="8430" y="2"/>
                    </a:moveTo>
                    <a:lnTo>
                      <a:pt x="8430" y="2"/>
                    </a:lnTo>
                    <a:cubicBezTo>
                      <a:pt x="8431" y="2"/>
                      <a:pt x="8432" y="3"/>
                      <a:pt x="8432" y="4"/>
                    </a:cubicBezTo>
                    <a:cubicBezTo>
                      <a:pt x="8432" y="5"/>
                      <a:pt x="8431" y="6"/>
                      <a:pt x="8430" y="6"/>
                    </a:cubicBezTo>
                    <a:lnTo>
                      <a:pt x="8430" y="6"/>
                    </a:lnTo>
                    <a:cubicBezTo>
                      <a:pt x="8429" y="6"/>
                      <a:pt x="8428" y="5"/>
                      <a:pt x="8428" y="4"/>
                    </a:cubicBezTo>
                    <a:cubicBezTo>
                      <a:pt x="8428" y="3"/>
                      <a:pt x="8429" y="2"/>
                      <a:pt x="8430" y="2"/>
                    </a:cubicBezTo>
                    <a:close/>
                    <a:moveTo>
                      <a:pt x="8438" y="2"/>
                    </a:moveTo>
                    <a:lnTo>
                      <a:pt x="8438" y="2"/>
                    </a:lnTo>
                    <a:cubicBezTo>
                      <a:pt x="8439" y="2"/>
                      <a:pt x="8440" y="3"/>
                      <a:pt x="8440" y="4"/>
                    </a:cubicBezTo>
                    <a:cubicBezTo>
                      <a:pt x="8440" y="5"/>
                      <a:pt x="8439" y="6"/>
                      <a:pt x="8438" y="6"/>
                    </a:cubicBezTo>
                    <a:lnTo>
                      <a:pt x="8438" y="6"/>
                    </a:lnTo>
                    <a:cubicBezTo>
                      <a:pt x="8437" y="6"/>
                      <a:pt x="8436" y="5"/>
                      <a:pt x="8436" y="4"/>
                    </a:cubicBezTo>
                    <a:cubicBezTo>
                      <a:pt x="8436" y="3"/>
                      <a:pt x="8437" y="2"/>
                      <a:pt x="8438" y="2"/>
                    </a:cubicBezTo>
                    <a:close/>
                    <a:moveTo>
                      <a:pt x="8446" y="2"/>
                    </a:moveTo>
                    <a:lnTo>
                      <a:pt x="8446" y="2"/>
                    </a:lnTo>
                    <a:cubicBezTo>
                      <a:pt x="8447" y="2"/>
                      <a:pt x="8448" y="3"/>
                      <a:pt x="8448" y="4"/>
                    </a:cubicBezTo>
                    <a:cubicBezTo>
                      <a:pt x="8448" y="5"/>
                      <a:pt x="8447" y="6"/>
                      <a:pt x="8446" y="6"/>
                    </a:cubicBezTo>
                    <a:lnTo>
                      <a:pt x="8446" y="6"/>
                    </a:lnTo>
                    <a:cubicBezTo>
                      <a:pt x="8445" y="6"/>
                      <a:pt x="8444" y="5"/>
                      <a:pt x="8444" y="4"/>
                    </a:cubicBezTo>
                    <a:cubicBezTo>
                      <a:pt x="8444" y="3"/>
                      <a:pt x="8445" y="2"/>
                      <a:pt x="8446" y="2"/>
                    </a:cubicBezTo>
                    <a:close/>
                    <a:moveTo>
                      <a:pt x="8454" y="2"/>
                    </a:moveTo>
                    <a:lnTo>
                      <a:pt x="8454" y="2"/>
                    </a:lnTo>
                    <a:cubicBezTo>
                      <a:pt x="8455" y="2"/>
                      <a:pt x="8456" y="3"/>
                      <a:pt x="8456" y="4"/>
                    </a:cubicBezTo>
                    <a:cubicBezTo>
                      <a:pt x="8456" y="5"/>
                      <a:pt x="8455" y="6"/>
                      <a:pt x="8454" y="6"/>
                    </a:cubicBezTo>
                    <a:lnTo>
                      <a:pt x="8454" y="6"/>
                    </a:lnTo>
                    <a:cubicBezTo>
                      <a:pt x="8453" y="6"/>
                      <a:pt x="8452" y="5"/>
                      <a:pt x="8452" y="4"/>
                    </a:cubicBezTo>
                    <a:cubicBezTo>
                      <a:pt x="8452" y="3"/>
                      <a:pt x="8453" y="2"/>
                      <a:pt x="8454" y="2"/>
                    </a:cubicBezTo>
                    <a:close/>
                    <a:moveTo>
                      <a:pt x="8462" y="2"/>
                    </a:moveTo>
                    <a:lnTo>
                      <a:pt x="8462" y="2"/>
                    </a:lnTo>
                    <a:cubicBezTo>
                      <a:pt x="8463" y="2"/>
                      <a:pt x="8464" y="3"/>
                      <a:pt x="8464" y="4"/>
                    </a:cubicBezTo>
                    <a:cubicBezTo>
                      <a:pt x="8464" y="5"/>
                      <a:pt x="8463" y="6"/>
                      <a:pt x="8462" y="6"/>
                    </a:cubicBezTo>
                    <a:lnTo>
                      <a:pt x="8462" y="6"/>
                    </a:lnTo>
                    <a:cubicBezTo>
                      <a:pt x="8461" y="6"/>
                      <a:pt x="8460" y="5"/>
                      <a:pt x="8460" y="4"/>
                    </a:cubicBezTo>
                    <a:cubicBezTo>
                      <a:pt x="8460" y="3"/>
                      <a:pt x="8461" y="2"/>
                      <a:pt x="8462" y="2"/>
                    </a:cubicBezTo>
                    <a:close/>
                    <a:moveTo>
                      <a:pt x="8470" y="2"/>
                    </a:moveTo>
                    <a:lnTo>
                      <a:pt x="8470" y="2"/>
                    </a:lnTo>
                    <a:cubicBezTo>
                      <a:pt x="8471" y="2"/>
                      <a:pt x="8472" y="3"/>
                      <a:pt x="8472" y="4"/>
                    </a:cubicBezTo>
                    <a:cubicBezTo>
                      <a:pt x="8472" y="5"/>
                      <a:pt x="8471" y="6"/>
                      <a:pt x="8470" y="6"/>
                    </a:cubicBezTo>
                    <a:lnTo>
                      <a:pt x="8470" y="6"/>
                    </a:lnTo>
                    <a:cubicBezTo>
                      <a:pt x="8469" y="6"/>
                      <a:pt x="8468" y="5"/>
                      <a:pt x="8468" y="4"/>
                    </a:cubicBezTo>
                    <a:cubicBezTo>
                      <a:pt x="8468" y="3"/>
                      <a:pt x="8469" y="2"/>
                      <a:pt x="8470" y="2"/>
                    </a:cubicBezTo>
                    <a:close/>
                    <a:moveTo>
                      <a:pt x="8478" y="2"/>
                    </a:moveTo>
                    <a:lnTo>
                      <a:pt x="8478" y="2"/>
                    </a:lnTo>
                    <a:cubicBezTo>
                      <a:pt x="8479" y="2"/>
                      <a:pt x="8480" y="3"/>
                      <a:pt x="8480" y="4"/>
                    </a:cubicBezTo>
                    <a:cubicBezTo>
                      <a:pt x="8480" y="5"/>
                      <a:pt x="8479" y="6"/>
                      <a:pt x="8478" y="6"/>
                    </a:cubicBezTo>
                    <a:lnTo>
                      <a:pt x="8478" y="6"/>
                    </a:lnTo>
                    <a:cubicBezTo>
                      <a:pt x="8477" y="6"/>
                      <a:pt x="8476" y="5"/>
                      <a:pt x="8476" y="4"/>
                    </a:cubicBezTo>
                    <a:cubicBezTo>
                      <a:pt x="8476" y="3"/>
                      <a:pt x="8477" y="2"/>
                      <a:pt x="8478" y="2"/>
                    </a:cubicBezTo>
                    <a:close/>
                    <a:moveTo>
                      <a:pt x="8486" y="2"/>
                    </a:moveTo>
                    <a:lnTo>
                      <a:pt x="8486" y="2"/>
                    </a:lnTo>
                    <a:cubicBezTo>
                      <a:pt x="8487" y="2"/>
                      <a:pt x="8488" y="3"/>
                      <a:pt x="8488" y="4"/>
                    </a:cubicBezTo>
                    <a:cubicBezTo>
                      <a:pt x="8488" y="5"/>
                      <a:pt x="8487" y="6"/>
                      <a:pt x="8486" y="6"/>
                    </a:cubicBezTo>
                    <a:lnTo>
                      <a:pt x="8486" y="6"/>
                    </a:lnTo>
                    <a:cubicBezTo>
                      <a:pt x="8485" y="6"/>
                      <a:pt x="8484" y="5"/>
                      <a:pt x="8484" y="4"/>
                    </a:cubicBezTo>
                    <a:cubicBezTo>
                      <a:pt x="8484" y="3"/>
                      <a:pt x="8485" y="2"/>
                      <a:pt x="8486" y="2"/>
                    </a:cubicBezTo>
                    <a:close/>
                    <a:moveTo>
                      <a:pt x="8494" y="2"/>
                    </a:moveTo>
                    <a:lnTo>
                      <a:pt x="8494" y="2"/>
                    </a:lnTo>
                    <a:cubicBezTo>
                      <a:pt x="8495" y="2"/>
                      <a:pt x="8496" y="3"/>
                      <a:pt x="8496" y="4"/>
                    </a:cubicBezTo>
                    <a:cubicBezTo>
                      <a:pt x="8496" y="5"/>
                      <a:pt x="8495" y="6"/>
                      <a:pt x="8494" y="6"/>
                    </a:cubicBezTo>
                    <a:lnTo>
                      <a:pt x="8494" y="6"/>
                    </a:lnTo>
                    <a:cubicBezTo>
                      <a:pt x="8493" y="6"/>
                      <a:pt x="8492" y="5"/>
                      <a:pt x="8492" y="4"/>
                    </a:cubicBezTo>
                    <a:cubicBezTo>
                      <a:pt x="8492" y="3"/>
                      <a:pt x="8493" y="2"/>
                      <a:pt x="8494" y="2"/>
                    </a:cubicBezTo>
                    <a:close/>
                    <a:moveTo>
                      <a:pt x="8502" y="2"/>
                    </a:moveTo>
                    <a:lnTo>
                      <a:pt x="8502" y="2"/>
                    </a:lnTo>
                    <a:cubicBezTo>
                      <a:pt x="8503" y="2"/>
                      <a:pt x="8504" y="3"/>
                      <a:pt x="8504" y="4"/>
                    </a:cubicBezTo>
                    <a:cubicBezTo>
                      <a:pt x="8504" y="5"/>
                      <a:pt x="8503" y="6"/>
                      <a:pt x="8502" y="6"/>
                    </a:cubicBezTo>
                    <a:lnTo>
                      <a:pt x="8502" y="6"/>
                    </a:lnTo>
                    <a:cubicBezTo>
                      <a:pt x="8501" y="6"/>
                      <a:pt x="8500" y="5"/>
                      <a:pt x="8500" y="4"/>
                    </a:cubicBezTo>
                    <a:cubicBezTo>
                      <a:pt x="8500" y="3"/>
                      <a:pt x="8501" y="2"/>
                      <a:pt x="8502" y="2"/>
                    </a:cubicBezTo>
                    <a:close/>
                    <a:moveTo>
                      <a:pt x="8510" y="2"/>
                    </a:moveTo>
                    <a:lnTo>
                      <a:pt x="8510" y="2"/>
                    </a:lnTo>
                    <a:cubicBezTo>
                      <a:pt x="8511" y="2"/>
                      <a:pt x="8512" y="3"/>
                      <a:pt x="8512" y="4"/>
                    </a:cubicBezTo>
                    <a:cubicBezTo>
                      <a:pt x="8512" y="5"/>
                      <a:pt x="8511" y="6"/>
                      <a:pt x="8510" y="6"/>
                    </a:cubicBezTo>
                    <a:lnTo>
                      <a:pt x="8510" y="6"/>
                    </a:lnTo>
                    <a:cubicBezTo>
                      <a:pt x="8509" y="6"/>
                      <a:pt x="8508" y="5"/>
                      <a:pt x="8508" y="4"/>
                    </a:cubicBezTo>
                    <a:cubicBezTo>
                      <a:pt x="8508" y="3"/>
                      <a:pt x="8509" y="2"/>
                      <a:pt x="8510" y="2"/>
                    </a:cubicBezTo>
                    <a:close/>
                    <a:moveTo>
                      <a:pt x="8518" y="2"/>
                    </a:moveTo>
                    <a:lnTo>
                      <a:pt x="8518" y="2"/>
                    </a:lnTo>
                    <a:cubicBezTo>
                      <a:pt x="8519" y="2"/>
                      <a:pt x="8520" y="3"/>
                      <a:pt x="8520" y="4"/>
                    </a:cubicBezTo>
                    <a:cubicBezTo>
                      <a:pt x="8520" y="5"/>
                      <a:pt x="8519" y="6"/>
                      <a:pt x="8518" y="6"/>
                    </a:cubicBezTo>
                    <a:lnTo>
                      <a:pt x="8518" y="6"/>
                    </a:lnTo>
                    <a:cubicBezTo>
                      <a:pt x="8517" y="6"/>
                      <a:pt x="8516" y="5"/>
                      <a:pt x="8516" y="4"/>
                    </a:cubicBezTo>
                    <a:cubicBezTo>
                      <a:pt x="8516" y="3"/>
                      <a:pt x="8517" y="2"/>
                      <a:pt x="8518" y="2"/>
                    </a:cubicBezTo>
                    <a:close/>
                    <a:moveTo>
                      <a:pt x="8526" y="2"/>
                    </a:moveTo>
                    <a:lnTo>
                      <a:pt x="8526" y="2"/>
                    </a:lnTo>
                    <a:cubicBezTo>
                      <a:pt x="8527" y="2"/>
                      <a:pt x="8528" y="3"/>
                      <a:pt x="8528" y="4"/>
                    </a:cubicBezTo>
                    <a:cubicBezTo>
                      <a:pt x="8528" y="5"/>
                      <a:pt x="8527" y="6"/>
                      <a:pt x="8526" y="6"/>
                    </a:cubicBezTo>
                    <a:lnTo>
                      <a:pt x="8526" y="6"/>
                    </a:lnTo>
                    <a:cubicBezTo>
                      <a:pt x="8525" y="6"/>
                      <a:pt x="8524" y="5"/>
                      <a:pt x="8524" y="4"/>
                    </a:cubicBezTo>
                    <a:cubicBezTo>
                      <a:pt x="8524" y="3"/>
                      <a:pt x="8525" y="2"/>
                      <a:pt x="8526" y="2"/>
                    </a:cubicBezTo>
                    <a:close/>
                    <a:moveTo>
                      <a:pt x="8534" y="2"/>
                    </a:moveTo>
                    <a:lnTo>
                      <a:pt x="8534" y="2"/>
                    </a:lnTo>
                    <a:cubicBezTo>
                      <a:pt x="8535" y="2"/>
                      <a:pt x="8536" y="3"/>
                      <a:pt x="8536" y="4"/>
                    </a:cubicBezTo>
                    <a:cubicBezTo>
                      <a:pt x="8536" y="5"/>
                      <a:pt x="8535" y="6"/>
                      <a:pt x="8534" y="6"/>
                    </a:cubicBezTo>
                    <a:lnTo>
                      <a:pt x="8534" y="6"/>
                    </a:lnTo>
                    <a:cubicBezTo>
                      <a:pt x="8533" y="6"/>
                      <a:pt x="8532" y="5"/>
                      <a:pt x="8532" y="4"/>
                    </a:cubicBezTo>
                    <a:cubicBezTo>
                      <a:pt x="8532" y="3"/>
                      <a:pt x="8533" y="2"/>
                      <a:pt x="8534" y="2"/>
                    </a:cubicBezTo>
                    <a:close/>
                    <a:moveTo>
                      <a:pt x="8542" y="2"/>
                    </a:moveTo>
                    <a:lnTo>
                      <a:pt x="8542" y="2"/>
                    </a:lnTo>
                    <a:cubicBezTo>
                      <a:pt x="8543" y="2"/>
                      <a:pt x="8544" y="3"/>
                      <a:pt x="8544" y="4"/>
                    </a:cubicBezTo>
                    <a:cubicBezTo>
                      <a:pt x="8544" y="5"/>
                      <a:pt x="8543" y="6"/>
                      <a:pt x="8542" y="6"/>
                    </a:cubicBezTo>
                    <a:lnTo>
                      <a:pt x="8542" y="6"/>
                    </a:lnTo>
                    <a:cubicBezTo>
                      <a:pt x="8541" y="6"/>
                      <a:pt x="8540" y="5"/>
                      <a:pt x="8540" y="4"/>
                    </a:cubicBezTo>
                    <a:cubicBezTo>
                      <a:pt x="8540" y="3"/>
                      <a:pt x="8541" y="2"/>
                      <a:pt x="8542" y="2"/>
                    </a:cubicBezTo>
                    <a:close/>
                    <a:moveTo>
                      <a:pt x="8550" y="2"/>
                    </a:moveTo>
                    <a:lnTo>
                      <a:pt x="8550" y="2"/>
                    </a:lnTo>
                    <a:cubicBezTo>
                      <a:pt x="8551" y="2"/>
                      <a:pt x="8552" y="3"/>
                      <a:pt x="8552" y="4"/>
                    </a:cubicBezTo>
                    <a:cubicBezTo>
                      <a:pt x="8552" y="5"/>
                      <a:pt x="8551" y="6"/>
                      <a:pt x="8550" y="6"/>
                    </a:cubicBezTo>
                    <a:lnTo>
                      <a:pt x="8550" y="6"/>
                    </a:lnTo>
                    <a:cubicBezTo>
                      <a:pt x="8549" y="6"/>
                      <a:pt x="8548" y="5"/>
                      <a:pt x="8548" y="4"/>
                    </a:cubicBezTo>
                    <a:cubicBezTo>
                      <a:pt x="8548" y="3"/>
                      <a:pt x="8549" y="2"/>
                      <a:pt x="8550" y="2"/>
                    </a:cubicBezTo>
                    <a:close/>
                    <a:moveTo>
                      <a:pt x="8558" y="2"/>
                    </a:moveTo>
                    <a:lnTo>
                      <a:pt x="8558" y="2"/>
                    </a:lnTo>
                    <a:cubicBezTo>
                      <a:pt x="8559" y="2"/>
                      <a:pt x="8560" y="3"/>
                      <a:pt x="8560" y="4"/>
                    </a:cubicBezTo>
                    <a:cubicBezTo>
                      <a:pt x="8560" y="5"/>
                      <a:pt x="8559" y="6"/>
                      <a:pt x="8558" y="6"/>
                    </a:cubicBezTo>
                    <a:lnTo>
                      <a:pt x="8558" y="6"/>
                    </a:lnTo>
                    <a:cubicBezTo>
                      <a:pt x="8557" y="6"/>
                      <a:pt x="8556" y="5"/>
                      <a:pt x="8556" y="4"/>
                    </a:cubicBezTo>
                    <a:cubicBezTo>
                      <a:pt x="8556" y="3"/>
                      <a:pt x="8557" y="2"/>
                      <a:pt x="8558" y="2"/>
                    </a:cubicBezTo>
                    <a:close/>
                    <a:moveTo>
                      <a:pt x="8566" y="2"/>
                    </a:moveTo>
                    <a:lnTo>
                      <a:pt x="8566" y="2"/>
                    </a:lnTo>
                    <a:cubicBezTo>
                      <a:pt x="8567" y="2"/>
                      <a:pt x="8568" y="3"/>
                      <a:pt x="8568" y="4"/>
                    </a:cubicBezTo>
                    <a:cubicBezTo>
                      <a:pt x="8568" y="5"/>
                      <a:pt x="8567" y="6"/>
                      <a:pt x="8566" y="6"/>
                    </a:cubicBezTo>
                    <a:lnTo>
                      <a:pt x="8566" y="6"/>
                    </a:lnTo>
                    <a:cubicBezTo>
                      <a:pt x="8565" y="6"/>
                      <a:pt x="8564" y="5"/>
                      <a:pt x="8564" y="4"/>
                    </a:cubicBezTo>
                    <a:cubicBezTo>
                      <a:pt x="8564" y="3"/>
                      <a:pt x="8565" y="2"/>
                      <a:pt x="8566" y="2"/>
                    </a:cubicBezTo>
                    <a:close/>
                    <a:moveTo>
                      <a:pt x="8574" y="2"/>
                    </a:moveTo>
                    <a:lnTo>
                      <a:pt x="8574" y="2"/>
                    </a:lnTo>
                    <a:cubicBezTo>
                      <a:pt x="8575" y="2"/>
                      <a:pt x="8576" y="3"/>
                      <a:pt x="8576" y="4"/>
                    </a:cubicBezTo>
                    <a:cubicBezTo>
                      <a:pt x="8576" y="5"/>
                      <a:pt x="8575" y="6"/>
                      <a:pt x="8574" y="6"/>
                    </a:cubicBezTo>
                    <a:lnTo>
                      <a:pt x="8574" y="6"/>
                    </a:lnTo>
                    <a:cubicBezTo>
                      <a:pt x="8573" y="6"/>
                      <a:pt x="8572" y="5"/>
                      <a:pt x="8572" y="4"/>
                    </a:cubicBezTo>
                    <a:cubicBezTo>
                      <a:pt x="8572" y="3"/>
                      <a:pt x="8573" y="2"/>
                      <a:pt x="8574" y="2"/>
                    </a:cubicBezTo>
                    <a:close/>
                    <a:moveTo>
                      <a:pt x="8582" y="2"/>
                    </a:moveTo>
                    <a:lnTo>
                      <a:pt x="8582" y="2"/>
                    </a:lnTo>
                    <a:cubicBezTo>
                      <a:pt x="8583" y="2"/>
                      <a:pt x="8584" y="3"/>
                      <a:pt x="8584" y="4"/>
                    </a:cubicBezTo>
                    <a:cubicBezTo>
                      <a:pt x="8584" y="5"/>
                      <a:pt x="8583" y="6"/>
                      <a:pt x="8582" y="6"/>
                    </a:cubicBezTo>
                    <a:lnTo>
                      <a:pt x="8582" y="6"/>
                    </a:lnTo>
                    <a:cubicBezTo>
                      <a:pt x="8581" y="6"/>
                      <a:pt x="8580" y="5"/>
                      <a:pt x="8580" y="4"/>
                    </a:cubicBezTo>
                    <a:cubicBezTo>
                      <a:pt x="8580" y="3"/>
                      <a:pt x="8581" y="2"/>
                      <a:pt x="8582" y="2"/>
                    </a:cubicBezTo>
                    <a:close/>
                    <a:moveTo>
                      <a:pt x="8590" y="2"/>
                    </a:moveTo>
                    <a:lnTo>
                      <a:pt x="8590" y="2"/>
                    </a:lnTo>
                    <a:cubicBezTo>
                      <a:pt x="8591" y="2"/>
                      <a:pt x="8592" y="3"/>
                      <a:pt x="8592" y="4"/>
                    </a:cubicBezTo>
                    <a:cubicBezTo>
                      <a:pt x="8592" y="5"/>
                      <a:pt x="8591" y="6"/>
                      <a:pt x="8590" y="6"/>
                    </a:cubicBezTo>
                    <a:lnTo>
                      <a:pt x="8590" y="6"/>
                    </a:lnTo>
                    <a:cubicBezTo>
                      <a:pt x="8589" y="6"/>
                      <a:pt x="8588" y="5"/>
                      <a:pt x="8588" y="4"/>
                    </a:cubicBezTo>
                    <a:cubicBezTo>
                      <a:pt x="8588" y="3"/>
                      <a:pt x="8589" y="2"/>
                      <a:pt x="8590" y="2"/>
                    </a:cubicBezTo>
                    <a:close/>
                    <a:moveTo>
                      <a:pt x="8598" y="2"/>
                    </a:moveTo>
                    <a:lnTo>
                      <a:pt x="8598" y="2"/>
                    </a:lnTo>
                    <a:cubicBezTo>
                      <a:pt x="8599" y="2"/>
                      <a:pt x="8600" y="3"/>
                      <a:pt x="8600" y="4"/>
                    </a:cubicBezTo>
                    <a:cubicBezTo>
                      <a:pt x="8600" y="5"/>
                      <a:pt x="8599" y="6"/>
                      <a:pt x="8598" y="6"/>
                    </a:cubicBezTo>
                    <a:lnTo>
                      <a:pt x="8598" y="6"/>
                    </a:lnTo>
                    <a:cubicBezTo>
                      <a:pt x="8597" y="6"/>
                      <a:pt x="8596" y="5"/>
                      <a:pt x="8596" y="4"/>
                    </a:cubicBezTo>
                    <a:cubicBezTo>
                      <a:pt x="8596" y="3"/>
                      <a:pt x="8597" y="2"/>
                      <a:pt x="8598" y="2"/>
                    </a:cubicBezTo>
                    <a:close/>
                    <a:moveTo>
                      <a:pt x="8606" y="2"/>
                    </a:moveTo>
                    <a:lnTo>
                      <a:pt x="8606" y="2"/>
                    </a:lnTo>
                    <a:cubicBezTo>
                      <a:pt x="8607" y="2"/>
                      <a:pt x="8608" y="3"/>
                      <a:pt x="8608" y="4"/>
                    </a:cubicBezTo>
                    <a:cubicBezTo>
                      <a:pt x="8608" y="5"/>
                      <a:pt x="8607" y="6"/>
                      <a:pt x="8606" y="6"/>
                    </a:cubicBezTo>
                    <a:lnTo>
                      <a:pt x="8606" y="6"/>
                    </a:lnTo>
                    <a:cubicBezTo>
                      <a:pt x="8605" y="6"/>
                      <a:pt x="8604" y="5"/>
                      <a:pt x="8604" y="4"/>
                    </a:cubicBezTo>
                    <a:cubicBezTo>
                      <a:pt x="8604" y="3"/>
                      <a:pt x="8605" y="2"/>
                      <a:pt x="8606" y="2"/>
                    </a:cubicBezTo>
                    <a:close/>
                    <a:moveTo>
                      <a:pt x="8614" y="2"/>
                    </a:moveTo>
                    <a:lnTo>
                      <a:pt x="8614" y="2"/>
                    </a:lnTo>
                    <a:cubicBezTo>
                      <a:pt x="8615" y="2"/>
                      <a:pt x="8616" y="3"/>
                      <a:pt x="8616" y="4"/>
                    </a:cubicBezTo>
                    <a:cubicBezTo>
                      <a:pt x="8616" y="5"/>
                      <a:pt x="8615" y="6"/>
                      <a:pt x="8614" y="6"/>
                    </a:cubicBezTo>
                    <a:lnTo>
                      <a:pt x="8614" y="6"/>
                    </a:lnTo>
                    <a:cubicBezTo>
                      <a:pt x="8613" y="6"/>
                      <a:pt x="8612" y="5"/>
                      <a:pt x="8612" y="4"/>
                    </a:cubicBezTo>
                    <a:cubicBezTo>
                      <a:pt x="8612" y="3"/>
                      <a:pt x="8613" y="2"/>
                      <a:pt x="8614" y="2"/>
                    </a:cubicBezTo>
                    <a:close/>
                    <a:moveTo>
                      <a:pt x="8622" y="2"/>
                    </a:moveTo>
                    <a:lnTo>
                      <a:pt x="8622" y="2"/>
                    </a:lnTo>
                    <a:cubicBezTo>
                      <a:pt x="8623" y="2"/>
                      <a:pt x="8624" y="3"/>
                      <a:pt x="8624" y="4"/>
                    </a:cubicBezTo>
                    <a:cubicBezTo>
                      <a:pt x="8624" y="5"/>
                      <a:pt x="8623" y="6"/>
                      <a:pt x="8622" y="6"/>
                    </a:cubicBezTo>
                    <a:lnTo>
                      <a:pt x="8622" y="6"/>
                    </a:lnTo>
                    <a:cubicBezTo>
                      <a:pt x="8621" y="6"/>
                      <a:pt x="8620" y="5"/>
                      <a:pt x="8620" y="4"/>
                    </a:cubicBezTo>
                    <a:cubicBezTo>
                      <a:pt x="8620" y="3"/>
                      <a:pt x="8621" y="2"/>
                      <a:pt x="8622" y="2"/>
                    </a:cubicBezTo>
                    <a:close/>
                    <a:moveTo>
                      <a:pt x="8630" y="2"/>
                    </a:moveTo>
                    <a:lnTo>
                      <a:pt x="8630" y="2"/>
                    </a:lnTo>
                    <a:cubicBezTo>
                      <a:pt x="8631" y="2"/>
                      <a:pt x="8632" y="3"/>
                      <a:pt x="8632" y="4"/>
                    </a:cubicBezTo>
                    <a:cubicBezTo>
                      <a:pt x="8632" y="5"/>
                      <a:pt x="8631" y="6"/>
                      <a:pt x="8630" y="6"/>
                    </a:cubicBezTo>
                    <a:lnTo>
                      <a:pt x="8630" y="6"/>
                    </a:lnTo>
                    <a:cubicBezTo>
                      <a:pt x="8629" y="6"/>
                      <a:pt x="8628" y="5"/>
                      <a:pt x="8628" y="4"/>
                    </a:cubicBezTo>
                    <a:cubicBezTo>
                      <a:pt x="8628" y="3"/>
                      <a:pt x="8629" y="2"/>
                      <a:pt x="8630" y="2"/>
                    </a:cubicBezTo>
                    <a:close/>
                    <a:moveTo>
                      <a:pt x="8638" y="2"/>
                    </a:moveTo>
                    <a:lnTo>
                      <a:pt x="8638" y="2"/>
                    </a:lnTo>
                    <a:cubicBezTo>
                      <a:pt x="8639" y="2"/>
                      <a:pt x="8640" y="3"/>
                      <a:pt x="8640" y="4"/>
                    </a:cubicBezTo>
                    <a:cubicBezTo>
                      <a:pt x="8640" y="5"/>
                      <a:pt x="8639" y="6"/>
                      <a:pt x="8638" y="6"/>
                    </a:cubicBezTo>
                    <a:lnTo>
                      <a:pt x="8638" y="6"/>
                    </a:lnTo>
                    <a:cubicBezTo>
                      <a:pt x="8637" y="6"/>
                      <a:pt x="8636" y="5"/>
                      <a:pt x="8636" y="4"/>
                    </a:cubicBezTo>
                    <a:cubicBezTo>
                      <a:pt x="8636" y="3"/>
                      <a:pt x="8637" y="2"/>
                      <a:pt x="8638" y="2"/>
                    </a:cubicBezTo>
                    <a:close/>
                    <a:moveTo>
                      <a:pt x="8646" y="2"/>
                    </a:moveTo>
                    <a:lnTo>
                      <a:pt x="8646" y="2"/>
                    </a:lnTo>
                    <a:cubicBezTo>
                      <a:pt x="8647" y="2"/>
                      <a:pt x="8648" y="3"/>
                      <a:pt x="8648" y="4"/>
                    </a:cubicBezTo>
                    <a:cubicBezTo>
                      <a:pt x="8648" y="5"/>
                      <a:pt x="8647" y="6"/>
                      <a:pt x="8646" y="6"/>
                    </a:cubicBezTo>
                    <a:lnTo>
                      <a:pt x="8646" y="6"/>
                    </a:lnTo>
                    <a:cubicBezTo>
                      <a:pt x="8645" y="6"/>
                      <a:pt x="8644" y="5"/>
                      <a:pt x="8644" y="4"/>
                    </a:cubicBezTo>
                    <a:cubicBezTo>
                      <a:pt x="8644" y="3"/>
                      <a:pt x="8645" y="2"/>
                      <a:pt x="8646" y="2"/>
                    </a:cubicBezTo>
                    <a:close/>
                    <a:moveTo>
                      <a:pt x="8654" y="2"/>
                    </a:moveTo>
                    <a:lnTo>
                      <a:pt x="8654" y="2"/>
                    </a:lnTo>
                    <a:cubicBezTo>
                      <a:pt x="8655" y="2"/>
                      <a:pt x="8656" y="3"/>
                      <a:pt x="8656" y="4"/>
                    </a:cubicBezTo>
                    <a:cubicBezTo>
                      <a:pt x="8656" y="5"/>
                      <a:pt x="8655" y="6"/>
                      <a:pt x="8654" y="6"/>
                    </a:cubicBezTo>
                    <a:lnTo>
                      <a:pt x="8654" y="6"/>
                    </a:lnTo>
                    <a:cubicBezTo>
                      <a:pt x="8653" y="6"/>
                      <a:pt x="8652" y="5"/>
                      <a:pt x="8652" y="4"/>
                    </a:cubicBezTo>
                    <a:cubicBezTo>
                      <a:pt x="8652" y="3"/>
                      <a:pt x="8653" y="2"/>
                      <a:pt x="8654" y="2"/>
                    </a:cubicBezTo>
                    <a:close/>
                    <a:moveTo>
                      <a:pt x="8662" y="2"/>
                    </a:moveTo>
                    <a:lnTo>
                      <a:pt x="8662" y="2"/>
                    </a:lnTo>
                    <a:cubicBezTo>
                      <a:pt x="8663" y="2"/>
                      <a:pt x="8664" y="3"/>
                      <a:pt x="8664" y="4"/>
                    </a:cubicBezTo>
                    <a:cubicBezTo>
                      <a:pt x="8664" y="5"/>
                      <a:pt x="8663" y="6"/>
                      <a:pt x="8662" y="6"/>
                    </a:cubicBezTo>
                    <a:lnTo>
                      <a:pt x="8662" y="6"/>
                    </a:lnTo>
                    <a:cubicBezTo>
                      <a:pt x="8661" y="6"/>
                      <a:pt x="8660" y="5"/>
                      <a:pt x="8660" y="4"/>
                    </a:cubicBezTo>
                    <a:cubicBezTo>
                      <a:pt x="8660" y="3"/>
                      <a:pt x="8661" y="2"/>
                      <a:pt x="8662" y="2"/>
                    </a:cubicBezTo>
                    <a:close/>
                    <a:moveTo>
                      <a:pt x="8670" y="2"/>
                    </a:moveTo>
                    <a:lnTo>
                      <a:pt x="8670" y="2"/>
                    </a:lnTo>
                    <a:cubicBezTo>
                      <a:pt x="8671" y="2"/>
                      <a:pt x="8672" y="3"/>
                      <a:pt x="8672" y="4"/>
                    </a:cubicBezTo>
                    <a:cubicBezTo>
                      <a:pt x="8672" y="5"/>
                      <a:pt x="8671" y="6"/>
                      <a:pt x="8670" y="6"/>
                    </a:cubicBezTo>
                    <a:lnTo>
                      <a:pt x="8670" y="6"/>
                    </a:lnTo>
                    <a:cubicBezTo>
                      <a:pt x="8669" y="6"/>
                      <a:pt x="8668" y="5"/>
                      <a:pt x="8668" y="4"/>
                    </a:cubicBezTo>
                    <a:cubicBezTo>
                      <a:pt x="8668" y="3"/>
                      <a:pt x="8669" y="2"/>
                      <a:pt x="8670" y="2"/>
                    </a:cubicBezTo>
                    <a:close/>
                    <a:moveTo>
                      <a:pt x="8678" y="2"/>
                    </a:moveTo>
                    <a:lnTo>
                      <a:pt x="8678" y="2"/>
                    </a:lnTo>
                    <a:cubicBezTo>
                      <a:pt x="8679" y="2"/>
                      <a:pt x="8680" y="3"/>
                      <a:pt x="8680" y="4"/>
                    </a:cubicBezTo>
                    <a:cubicBezTo>
                      <a:pt x="8680" y="5"/>
                      <a:pt x="8679" y="6"/>
                      <a:pt x="8678" y="6"/>
                    </a:cubicBezTo>
                    <a:lnTo>
                      <a:pt x="8678" y="6"/>
                    </a:lnTo>
                    <a:cubicBezTo>
                      <a:pt x="8677" y="6"/>
                      <a:pt x="8676" y="5"/>
                      <a:pt x="8676" y="4"/>
                    </a:cubicBezTo>
                    <a:cubicBezTo>
                      <a:pt x="8676" y="3"/>
                      <a:pt x="8677" y="2"/>
                      <a:pt x="8678" y="2"/>
                    </a:cubicBezTo>
                    <a:close/>
                    <a:moveTo>
                      <a:pt x="8686" y="2"/>
                    </a:moveTo>
                    <a:lnTo>
                      <a:pt x="8686" y="2"/>
                    </a:lnTo>
                    <a:cubicBezTo>
                      <a:pt x="8687" y="2"/>
                      <a:pt x="8688" y="3"/>
                      <a:pt x="8688" y="4"/>
                    </a:cubicBezTo>
                    <a:cubicBezTo>
                      <a:pt x="8688" y="5"/>
                      <a:pt x="8687" y="6"/>
                      <a:pt x="8686" y="6"/>
                    </a:cubicBezTo>
                    <a:lnTo>
                      <a:pt x="8686" y="6"/>
                    </a:lnTo>
                    <a:cubicBezTo>
                      <a:pt x="8685" y="6"/>
                      <a:pt x="8684" y="5"/>
                      <a:pt x="8684" y="4"/>
                    </a:cubicBezTo>
                    <a:cubicBezTo>
                      <a:pt x="8684" y="3"/>
                      <a:pt x="8685" y="2"/>
                      <a:pt x="8686" y="2"/>
                    </a:cubicBezTo>
                    <a:close/>
                    <a:moveTo>
                      <a:pt x="8694" y="2"/>
                    </a:moveTo>
                    <a:lnTo>
                      <a:pt x="8694" y="2"/>
                    </a:lnTo>
                    <a:cubicBezTo>
                      <a:pt x="8695" y="2"/>
                      <a:pt x="8696" y="3"/>
                      <a:pt x="8696" y="4"/>
                    </a:cubicBezTo>
                    <a:cubicBezTo>
                      <a:pt x="8696" y="5"/>
                      <a:pt x="8695" y="6"/>
                      <a:pt x="8694" y="6"/>
                    </a:cubicBezTo>
                    <a:lnTo>
                      <a:pt x="8694" y="6"/>
                    </a:lnTo>
                    <a:cubicBezTo>
                      <a:pt x="8693" y="6"/>
                      <a:pt x="8692" y="5"/>
                      <a:pt x="8692" y="4"/>
                    </a:cubicBezTo>
                    <a:cubicBezTo>
                      <a:pt x="8692" y="3"/>
                      <a:pt x="8693" y="2"/>
                      <a:pt x="8694" y="2"/>
                    </a:cubicBezTo>
                    <a:close/>
                    <a:moveTo>
                      <a:pt x="8702" y="2"/>
                    </a:moveTo>
                    <a:lnTo>
                      <a:pt x="8702" y="2"/>
                    </a:lnTo>
                    <a:cubicBezTo>
                      <a:pt x="8703" y="2"/>
                      <a:pt x="8704" y="3"/>
                      <a:pt x="8704" y="4"/>
                    </a:cubicBezTo>
                    <a:cubicBezTo>
                      <a:pt x="8704" y="5"/>
                      <a:pt x="8703" y="6"/>
                      <a:pt x="8702" y="6"/>
                    </a:cubicBezTo>
                    <a:lnTo>
                      <a:pt x="8702" y="6"/>
                    </a:lnTo>
                    <a:cubicBezTo>
                      <a:pt x="8701" y="6"/>
                      <a:pt x="8700" y="5"/>
                      <a:pt x="8700" y="4"/>
                    </a:cubicBezTo>
                    <a:cubicBezTo>
                      <a:pt x="8700" y="3"/>
                      <a:pt x="8701" y="2"/>
                      <a:pt x="8702" y="2"/>
                    </a:cubicBezTo>
                    <a:close/>
                    <a:moveTo>
                      <a:pt x="8710" y="2"/>
                    </a:moveTo>
                    <a:lnTo>
                      <a:pt x="8710" y="2"/>
                    </a:lnTo>
                    <a:cubicBezTo>
                      <a:pt x="8711" y="2"/>
                      <a:pt x="8712" y="3"/>
                      <a:pt x="8712" y="4"/>
                    </a:cubicBezTo>
                    <a:cubicBezTo>
                      <a:pt x="8712" y="5"/>
                      <a:pt x="8711" y="6"/>
                      <a:pt x="8710" y="6"/>
                    </a:cubicBezTo>
                    <a:lnTo>
                      <a:pt x="8710" y="6"/>
                    </a:lnTo>
                    <a:cubicBezTo>
                      <a:pt x="8709" y="6"/>
                      <a:pt x="8708" y="5"/>
                      <a:pt x="8708" y="4"/>
                    </a:cubicBezTo>
                    <a:cubicBezTo>
                      <a:pt x="8708" y="3"/>
                      <a:pt x="8709" y="2"/>
                      <a:pt x="8710" y="2"/>
                    </a:cubicBezTo>
                    <a:close/>
                    <a:moveTo>
                      <a:pt x="8718" y="2"/>
                    </a:moveTo>
                    <a:lnTo>
                      <a:pt x="8718" y="2"/>
                    </a:lnTo>
                    <a:cubicBezTo>
                      <a:pt x="8719" y="2"/>
                      <a:pt x="8720" y="3"/>
                      <a:pt x="8720" y="4"/>
                    </a:cubicBezTo>
                    <a:cubicBezTo>
                      <a:pt x="8720" y="5"/>
                      <a:pt x="8719" y="6"/>
                      <a:pt x="8718" y="6"/>
                    </a:cubicBezTo>
                    <a:lnTo>
                      <a:pt x="8718" y="6"/>
                    </a:lnTo>
                    <a:cubicBezTo>
                      <a:pt x="8717" y="6"/>
                      <a:pt x="8716" y="5"/>
                      <a:pt x="8716" y="4"/>
                    </a:cubicBezTo>
                    <a:cubicBezTo>
                      <a:pt x="8716" y="3"/>
                      <a:pt x="8717" y="2"/>
                      <a:pt x="8718" y="2"/>
                    </a:cubicBezTo>
                    <a:close/>
                    <a:moveTo>
                      <a:pt x="8726" y="2"/>
                    </a:moveTo>
                    <a:lnTo>
                      <a:pt x="8726" y="2"/>
                    </a:lnTo>
                    <a:cubicBezTo>
                      <a:pt x="8727" y="2"/>
                      <a:pt x="8728" y="3"/>
                      <a:pt x="8728" y="4"/>
                    </a:cubicBezTo>
                    <a:cubicBezTo>
                      <a:pt x="8728" y="5"/>
                      <a:pt x="8727" y="6"/>
                      <a:pt x="8726" y="6"/>
                    </a:cubicBezTo>
                    <a:lnTo>
                      <a:pt x="8726" y="6"/>
                    </a:lnTo>
                    <a:cubicBezTo>
                      <a:pt x="8725" y="6"/>
                      <a:pt x="8724" y="5"/>
                      <a:pt x="8724" y="4"/>
                    </a:cubicBezTo>
                    <a:cubicBezTo>
                      <a:pt x="8724" y="3"/>
                      <a:pt x="8725" y="2"/>
                      <a:pt x="8726" y="2"/>
                    </a:cubicBezTo>
                    <a:close/>
                    <a:moveTo>
                      <a:pt x="8734" y="2"/>
                    </a:moveTo>
                    <a:lnTo>
                      <a:pt x="8734" y="2"/>
                    </a:lnTo>
                    <a:cubicBezTo>
                      <a:pt x="8735" y="2"/>
                      <a:pt x="8736" y="3"/>
                      <a:pt x="8736" y="4"/>
                    </a:cubicBezTo>
                    <a:cubicBezTo>
                      <a:pt x="8736" y="5"/>
                      <a:pt x="8735" y="6"/>
                      <a:pt x="8734" y="6"/>
                    </a:cubicBezTo>
                    <a:lnTo>
                      <a:pt x="8734" y="6"/>
                    </a:lnTo>
                    <a:cubicBezTo>
                      <a:pt x="8733" y="6"/>
                      <a:pt x="8732" y="5"/>
                      <a:pt x="8732" y="4"/>
                    </a:cubicBezTo>
                    <a:cubicBezTo>
                      <a:pt x="8732" y="3"/>
                      <a:pt x="8733" y="2"/>
                      <a:pt x="8734" y="2"/>
                    </a:cubicBezTo>
                    <a:close/>
                    <a:moveTo>
                      <a:pt x="8742" y="2"/>
                    </a:moveTo>
                    <a:lnTo>
                      <a:pt x="8742" y="2"/>
                    </a:lnTo>
                    <a:cubicBezTo>
                      <a:pt x="8743" y="2"/>
                      <a:pt x="8744" y="3"/>
                      <a:pt x="8744" y="4"/>
                    </a:cubicBezTo>
                    <a:cubicBezTo>
                      <a:pt x="8744" y="5"/>
                      <a:pt x="8743" y="6"/>
                      <a:pt x="8742" y="6"/>
                    </a:cubicBezTo>
                    <a:lnTo>
                      <a:pt x="8742" y="6"/>
                    </a:lnTo>
                    <a:cubicBezTo>
                      <a:pt x="8741" y="6"/>
                      <a:pt x="8740" y="5"/>
                      <a:pt x="8740" y="4"/>
                    </a:cubicBezTo>
                    <a:cubicBezTo>
                      <a:pt x="8740" y="3"/>
                      <a:pt x="8741" y="2"/>
                      <a:pt x="8742" y="2"/>
                    </a:cubicBezTo>
                    <a:close/>
                    <a:moveTo>
                      <a:pt x="8750" y="2"/>
                    </a:moveTo>
                    <a:lnTo>
                      <a:pt x="8750" y="2"/>
                    </a:lnTo>
                    <a:cubicBezTo>
                      <a:pt x="8751" y="2"/>
                      <a:pt x="8752" y="3"/>
                      <a:pt x="8752" y="4"/>
                    </a:cubicBezTo>
                    <a:cubicBezTo>
                      <a:pt x="8752" y="5"/>
                      <a:pt x="8751" y="6"/>
                      <a:pt x="8750" y="6"/>
                    </a:cubicBezTo>
                    <a:lnTo>
                      <a:pt x="8750" y="6"/>
                    </a:lnTo>
                    <a:cubicBezTo>
                      <a:pt x="8749" y="6"/>
                      <a:pt x="8748" y="5"/>
                      <a:pt x="8748" y="4"/>
                    </a:cubicBezTo>
                    <a:cubicBezTo>
                      <a:pt x="8748" y="3"/>
                      <a:pt x="8749" y="2"/>
                      <a:pt x="8750" y="2"/>
                    </a:cubicBezTo>
                    <a:close/>
                    <a:moveTo>
                      <a:pt x="8758" y="2"/>
                    </a:moveTo>
                    <a:lnTo>
                      <a:pt x="8758" y="2"/>
                    </a:lnTo>
                    <a:cubicBezTo>
                      <a:pt x="8759" y="2"/>
                      <a:pt x="8760" y="3"/>
                      <a:pt x="8760" y="4"/>
                    </a:cubicBezTo>
                    <a:cubicBezTo>
                      <a:pt x="8760" y="5"/>
                      <a:pt x="8759" y="6"/>
                      <a:pt x="8758" y="6"/>
                    </a:cubicBezTo>
                    <a:lnTo>
                      <a:pt x="8758" y="6"/>
                    </a:lnTo>
                    <a:cubicBezTo>
                      <a:pt x="8757" y="6"/>
                      <a:pt x="8756" y="5"/>
                      <a:pt x="8756" y="4"/>
                    </a:cubicBezTo>
                    <a:cubicBezTo>
                      <a:pt x="8756" y="3"/>
                      <a:pt x="8757" y="2"/>
                      <a:pt x="8758" y="2"/>
                    </a:cubicBezTo>
                    <a:close/>
                    <a:moveTo>
                      <a:pt x="8766" y="2"/>
                    </a:moveTo>
                    <a:lnTo>
                      <a:pt x="8766" y="2"/>
                    </a:lnTo>
                    <a:cubicBezTo>
                      <a:pt x="8767" y="2"/>
                      <a:pt x="8768" y="3"/>
                      <a:pt x="8768" y="4"/>
                    </a:cubicBezTo>
                    <a:cubicBezTo>
                      <a:pt x="8768" y="5"/>
                      <a:pt x="8767" y="6"/>
                      <a:pt x="8766" y="6"/>
                    </a:cubicBezTo>
                    <a:lnTo>
                      <a:pt x="8766" y="6"/>
                    </a:lnTo>
                    <a:cubicBezTo>
                      <a:pt x="8765" y="6"/>
                      <a:pt x="8764" y="5"/>
                      <a:pt x="8764" y="4"/>
                    </a:cubicBezTo>
                    <a:cubicBezTo>
                      <a:pt x="8764" y="3"/>
                      <a:pt x="8765" y="2"/>
                      <a:pt x="8766" y="2"/>
                    </a:cubicBezTo>
                    <a:close/>
                    <a:moveTo>
                      <a:pt x="8774" y="2"/>
                    </a:moveTo>
                    <a:lnTo>
                      <a:pt x="8774" y="2"/>
                    </a:lnTo>
                    <a:cubicBezTo>
                      <a:pt x="8775" y="2"/>
                      <a:pt x="8776" y="3"/>
                      <a:pt x="8776" y="4"/>
                    </a:cubicBezTo>
                    <a:cubicBezTo>
                      <a:pt x="8776" y="5"/>
                      <a:pt x="8775" y="6"/>
                      <a:pt x="8774" y="6"/>
                    </a:cubicBezTo>
                    <a:lnTo>
                      <a:pt x="8774" y="6"/>
                    </a:lnTo>
                    <a:cubicBezTo>
                      <a:pt x="8773" y="6"/>
                      <a:pt x="8772" y="5"/>
                      <a:pt x="8772" y="4"/>
                    </a:cubicBezTo>
                    <a:cubicBezTo>
                      <a:pt x="8772" y="3"/>
                      <a:pt x="8773" y="2"/>
                      <a:pt x="8774" y="2"/>
                    </a:cubicBezTo>
                    <a:close/>
                    <a:moveTo>
                      <a:pt x="8782" y="2"/>
                    </a:moveTo>
                    <a:lnTo>
                      <a:pt x="8782" y="2"/>
                    </a:lnTo>
                    <a:cubicBezTo>
                      <a:pt x="8783" y="2"/>
                      <a:pt x="8784" y="3"/>
                      <a:pt x="8784" y="4"/>
                    </a:cubicBezTo>
                    <a:cubicBezTo>
                      <a:pt x="8784" y="5"/>
                      <a:pt x="8783" y="6"/>
                      <a:pt x="8782" y="6"/>
                    </a:cubicBezTo>
                    <a:lnTo>
                      <a:pt x="8782" y="6"/>
                    </a:lnTo>
                    <a:cubicBezTo>
                      <a:pt x="8781" y="6"/>
                      <a:pt x="8780" y="5"/>
                      <a:pt x="8780" y="4"/>
                    </a:cubicBezTo>
                    <a:cubicBezTo>
                      <a:pt x="8780" y="3"/>
                      <a:pt x="8781" y="2"/>
                      <a:pt x="8782" y="2"/>
                    </a:cubicBezTo>
                    <a:close/>
                    <a:moveTo>
                      <a:pt x="8790" y="2"/>
                    </a:moveTo>
                    <a:lnTo>
                      <a:pt x="8790" y="2"/>
                    </a:lnTo>
                    <a:cubicBezTo>
                      <a:pt x="8791" y="2"/>
                      <a:pt x="8792" y="3"/>
                      <a:pt x="8792" y="4"/>
                    </a:cubicBezTo>
                    <a:cubicBezTo>
                      <a:pt x="8792" y="5"/>
                      <a:pt x="8791" y="6"/>
                      <a:pt x="8790" y="6"/>
                    </a:cubicBezTo>
                    <a:lnTo>
                      <a:pt x="8790" y="6"/>
                    </a:lnTo>
                    <a:cubicBezTo>
                      <a:pt x="8789" y="6"/>
                      <a:pt x="8788" y="5"/>
                      <a:pt x="8788" y="4"/>
                    </a:cubicBezTo>
                    <a:cubicBezTo>
                      <a:pt x="8788" y="3"/>
                      <a:pt x="8789" y="2"/>
                      <a:pt x="8790" y="2"/>
                    </a:cubicBezTo>
                    <a:close/>
                    <a:moveTo>
                      <a:pt x="8798" y="2"/>
                    </a:moveTo>
                    <a:lnTo>
                      <a:pt x="8798" y="2"/>
                    </a:lnTo>
                    <a:cubicBezTo>
                      <a:pt x="8799" y="2"/>
                      <a:pt x="8800" y="3"/>
                      <a:pt x="8800" y="4"/>
                    </a:cubicBezTo>
                    <a:cubicBezTo>
                      <a:pt x="8800" y="5"/>
                      <a:pt x="8799" y="6"/>
                      <a:pt x="8798" y="6"/>
                    </a:cubicBezTo>
                    <a:lnTo>
                      <a:pt x="8798" y="6"/>
                    </a:lnTo>
                    <a:cubicBezTo>
                      <a:pt x="8797" y="6"/>
                      <a:pt x="8796" y="5"/>
                      <a:pt x="8796" y="4"/>
                    </a:cubicBezTo>
                    <a:cubicBezTo>
                      <a:pt x="8796" y="3"/>
                      <a:pt x="8797" y="2"/>
                      <a:pt x="8798" y="2"/>
                    </a:cubicBezTo>
                    <a:close/>
                    <a:moveTo>
                      <a:pt x="8806" y="2"/>
                    </a:moveTo>
                    <a:lnTo>
                      <a:pt x="8806" y="2"/>
                    </a:lnTo>
                    <a:cubicBezTo>
                      <a:pt x="8807" y="2"/>
                      <a:pt x="8808" y="3"/>
                      <a:pt x="8808" y="4"/>
                    </a:cubicBezTo>
                    <a:cubicBezTo>
                      <a:pt x="8808" y="5"/>
                      <a:pt x="8807" y="6"/>
                      <a:pt x="8806" y="6"/>
                    </a:cubicBezTo>
                    <a:lnTo>
                      <a:pt x="8806" y="6"/>
                    </a:lnTo>
                    <a:cubicBezTo>
                      <a:pt x="8805" y="6"/>
                      <a:pt x="8804" y="5"/>
                      <a:pt x="8804" y="4"/>
                    </a:cubicBezTo>
                    <a:cubicBezTo>
                      <a:pt x="8804" y="3"/>
                      <a:pt x="8805" y="2"/>
                      <a:pt x="8806" y="2"/>
                    </a:cubicBezTo>
                    <a:close/>
                    <a:moveTo>
                      <a:pt x="8814" y="2"/>
                    </a:moveTo>
                    <a:lnTo>
                      <a:pt x="8814" y="2"/>
                    </a:lnTo>
                    <a:cubicBezTo>
                      <a:pt x="8815" y="2"/>
                      <a:pt x="8816" y="3"/>
                      <a:pt x="8816" y="4"/>
                    </a:cubicBezTo>
                    <a:cubicBezTo>
                      <a:pt x="8816" y="5"/>
                      <a:pt x="8815" y="6"/>
                      <a:pt x="8814" y="6"/>
                    </a:cubicBezTo>
                    <a:lnTo>
                      <a:pt x="8814" y="6"/>
                    </a:lnTo>
                    <a:cubicBezTo>
                      <a:pt x="8813" y="6"/>
                      <a:pt x="8812" y="5"/>
                      <a:pt x="8812" y="4"/>
                    </a:cubicBezTo>
                    <a:cubicBezTo>
                      <a:pt x="8812" y="3"/>
                      <a:pt x="8813" y="2"/>
                      <a:pt x="8814" y="2"/>
                    </a:cubicBezTo>
                    <a:close/>
                    <a:moveTo>
                      <a:pt x="8822" y="2"/>
                    </a:moveTo>
                    <a:lnTo>
                      <a:pt x="8822" y="2"/>
                    </a:lnTo>
                    <a:cubicBezTo>
                      <a:pt x="8823" y="2"/>
                      <a:pt x="8824" y="3"/>
                      <a:pt x="8824" y="4"/>
                    </a:cubicBezTo>
                    <a:cubicBezTo>
                      <a:pt x="8824" y="5"/>
                      <a:pt x="8823" y="6"/>
                      <a:pt x="8822" y="6"/>
                    </a:cubicBezTo>
                    <a:lnTo>
                      <a:pt x="8822" y="6"/>
                    </a:lnTo>
                    <a:cubicBezTo>
                      <a:pt x="8821" y="6"/>
                      <a:pt x="8820" y="5"/>
                      <a:pt x="8820" y="4"/>
                    </a:cubicBezTo>
                    <a:cubicBezTo>
                      <a:pt x="8820" y="3"/>
                      <a:pt x="8821" y="2"/>
                      <a:pt x="8822" y="2"/>
                    </a:cubicBezTo>
                    <a:close/>
                    <a:moveTo>
                      <a:pt x="8830" y="2"/>
                    </a:moveTo>
                    <a:lnTo>
                      <a:pt x="8830" y="2"/>
                    </a:lnTo>
                    <a:cubicBezTo>
                      <a:pt x="8831" y="2"/>
                      <a:pt x="8832" y="3"/>
                      <a:pt x="8832" y="4"/>
                    </a:cubicBezTo>
                    <a:cubicBezTo>
                      <a:pt x="8832" y="5"/>
                      <a:pt x="8831" y="6"/>
                      <a:pt x="8830" y="6"/>
                    </a:cubicBezTo>
                    <a:lnTo>
                      <a:pt x="8830" y="6"/>
                    </a:lnTo>
                    <a:cubicBezTo>
                      <a:pt x="8829" y="6"/>
                      <a:pt x="8828" y="5"/>
                      <a:pt x="8828" y="4"/>
                    </a:cubicBezTo>
                    <a:cubicBezTo>
                      <a:pt x="8828" y="3"/>
                      <a:pt x="8829" y="2"/>
                      <a:pt x="8830" y="2"/>
                    </a:cubicBezTo>
                    <a:close/>
                    <a:moveTo>
                      <a:pt x="8838" y="2"/>
                    </a:moveTo>
                    <a:lnTo>
                      <a:pt x="8838" y="2"/>
                    </a:lnTo>
                    <a:cubicBezTo>
                      <a:pt x="8839" y="2"/>
                      <a:pt x="8840" y="3"/>
                      <a:pt x="8840" y="4"/>
                    </a:cubicBezTo>
                    <a:cubicBezTo>
                      <a:pt x="8840" y="5"/>
                      <a:pt x="8839" y="6"/>
                      <a:pt x="8838" y="6"/>
                    </a:cubicBezTo>
                    <a:lnTo>
                      <a:pt x="8838" y="6"/>
                    </a:lnTo>
                    <a:cubicBezTo>
                      <a:pt x="8837" y="6"/>
                      <a:pt x="8836" y="5"/>
                      <a:pt x="8836" y="4"/>
                    </a:cubicBezTo>
                    <a:cubicBezTo>
                      <a:pt x="8836" y="3"/>
                      <a:pt x="8837" y="2"/>
                      <a:pt x="8838" y="2"/>
                    </a:cubicBezTo>
                    <a:close/>
                    <a:moveTo>
                      <a:pt x="8846" y="2"/>
                    </a:moveTo>
                    <a:lnTo>
                      <a:pt x="8846" y="2"/>
                    </a:lnTo>
                    <a:cubicBezTo>
                      <a:pt x="8847" y="2"/>
                      <a:pt x="8848" y="3"/>
                      <a:pt x="8848" y="4"/>
                    </a:cubicBezTo>
                    <a:cubicBezTo>
                      <a:pt x="8848" y="5"/>
                      <a:pt x="8847" y="6"/>
                      <a:pt x="8846" y="6"/>
                    </a:cubicBezTo>
                    <a:lnTo>
                      <a:pt x="8846" y="6"/>
                    </a:lnTo>
                    <a:cubicBezTo>
                      <a:pt x="8845" y="6"/>
                      <a:pt x="8844" y="5"/>
                      <a:pt x="8844" y="4"/>
                    </a:cubicBezTo>
                    <a:cubicBezTo>
                      <a:pt x="8844" y="3"/>
                      <a:pt x="8845" y="2"/>
                      <a:pt x="8846" y="2"/>
                    </a:cubicBezTo>
                    <a:close/>
                    <a:moveTo>
                      <a:pt x="8854" y="2"/>
                    </a:moveTo>
                    <a:lnTo>
                      <a:pt x="8854" y="2"/>
                    </a:lnTo>
                    <a:cubicBezTo>
                      <a:pt x="8855" y="2"/>
                      <a:pt x="8856" y="3"/>
                      <a:pt x="8856" y="4"/>
                    </a:cubicBezTo>
                    <a:cubicBezTo>
                      <a:pt x="8856" y="5"/>
                      <a:pt x="8855" y="6"/>
                      <a:pt x="8854" y="6"/>
                    </a:cubicBezTo>
                    <a:lnTo>
                      <a:pt x="8854" y="6"/>
                    </a:lnTo>
                    <a:cubicBezTo>
                      <a:pt x="8853" y="6"/>
                      <a:pt x="8852" y="5"/>
                      <a:pt x="8852" y="4"/>
                    </a:cubicBezTo>
                    <a:cubicBezTo>
                      <a:pt x="8852" y="3"/>
                      <a:pt x="8853" y="2"/>
                      <a:pt x="8854" y="2"/>
                    </a:cubicBezTo>
                    <a:close/>
                    <a:moveTo>
                      <a:pt x="8862" y="2"/>
                    </a:moveTo>
                    <a:lnTo>
                      <a:pt x="8862" y="2"/>
                    </a:lnTo>
                    <a:cubicBezTo>
                      <a:pt x="8863" y="2"/>
                      <a:pt x="8864" y="3"/>
                      <a:pt x="8864" y="4"/>
                    </a:cubicBezTo>
                    <a:cubicBezTo>
                      <a:pt x="8864" y="5"/>
                      <a:pt x="8863" y="6"/>
                      <a:pt x="8862" y="6"/>
                    </a:cubicBezTo>
                    <a:lnTo>
                      <a:pt x="8862" y="6"/>
                    </a:lnTo>
                    <a:cubicBezTo>
                      <a:pt x="8861" y="6"/>
                      <a:pt x="8860" y="5"/>
                      <a:pt x="8860" y="4"/>
                    </a:cubicBezTo>
                    <a:cubicBezTo>
                      <a:pt x="8860" y="3"/>
                      <a:pt x="8861" y="2"/>
                      <a:pt x="8862" y="2"/>
                    </a:cubicBezTo>
                    <a:close/>
                    <a:moveTo>
                      <a:pt x="8870" y="2"/>
                    </a:moveTo>
                    <a:lnTo>
                      <a:pt x="8870" y="2"/>
                    </a:lnTo>
                    <a:cubicBezTo>
                      <a:pt x="8871" y="2"/>
                      <a:pt x="8872" y="3"/>
                      <a:pt x="8872" y="4"/>
                    </a:cubicBezTo>
                    <a:cubicBezTo>
                      <a:pt x="8872" y="5"/>
                      <a:pt x="8871" y="6"/>
                      <a:pt x="8870" y="6"/>
                    </a:cubicBezTo>
                    <a:lnTo>
                      <a:pt x="8870" y="6"/>
                    </a:lnTo>
                    <a:cubicBezTo>
                      <a:pt x="8869" y="6"/>
                      <a:pt x="8868" y="5"/>
                      <a:pt x="8868" y="4"/>
                    </a:cubicBezTo>
                    <a:cubicBezTo>
                      <a:pt x="8868" y="3"/>
                      <a:pt x="8869" y="2"/>
                      <a:pt x="8870" y="2"/>
                    </a:cubicBezTo>
                    <a:close/>
                    <a:moveTo>
                      <a:pt x="8878" y="2"/>
                    </a:moveTo>
                    <a:lnTo>
                      <a:pt x="8878" y="2"/>
                    </a:lnTo>
                    <a:cubicBezTo>
                      <a:pt x="8879" y="2"/>
                      <a:pt x="8880" y="3"/>
                      <a:pt x="8880" y="4"/>
                    </a:cubicBezTo>
                    <a:cubicBezTo>
                      <a:pt x="8880" y="5"/>
                      <a:pt x="8879" y="6"/>
                      <a:pt x="8878" y="6"/>
                    </a:cubicBezTo>
                    <a:lnTo>
                      <a:pt x="8878" y="6"/>
                    </a:lnTo>
                    <a:cubicBezTo>
                      <a:pt x="8877" y="6"/>
                      <a:pt x="8876" y="5"/>
                      <a:pt x="8876" y="4"/>
                    </a:cubicBezTo>
                    <a:cubicBezTo>
                      <a:pt x="8876" y="3"/>
                      <a:pt x="8877" y="2"/>
                      <a:pt x="8878" y="2"/>
                    </a:cubicBezTo>
                    <a:close/>
                    <a:moveTo>
                      <a:pt x="8886" y="2"/>
                    </a:moveTo>
                    <a:lnTo>
                      <a:pt x="8886" y="2"/>
                    </a:lnTo>
                    <a:cubicBezTo>
                      <a:pt x="8887" y="2"/>
                      <a:pt x="8888" y="3"/>
                      <a:pt x="8888" y="4"/>
                    </a:cubicBezTo>
                    <a:cubicBezTo>
                      <a:pt x="8888" y="5"/>
                      <a:pt x="8887" y="6"/>
                      <a:pt x="8886" y="6"/>
                    </a:cubicBezTo>
                    <a:lnTo>
                      <a:pt x="8886" y="6"/>
                    </a:lnTo>
                    <a:cubicBezTo>
                      <a:pt x="8885" y="6"/>
                      <a:pt x="8884" y="5"/>
                      <a:pt x="8884" y="4"/>
                    </a:cubicBezTo>
                    <a:cubicBezTo>
                      <a:pt x="8884" y="3"/>
                      <a:pt x="8885" y="2"/>
                      <a:pt x="8886" y="2"/>
                    </a:cubicBezTo>
                    <a:close/>
                    <a:moveTo>
                      <a:pt x="8894" y="2"/>
                    </a:moveTo>
                    <a:lnTo>
                      <a:pt x="8894" y="2"/>
                    </a:lnTo>
                    <a:cubicBezTo>
                      <a:pt x="8895" y="2"/>
                      <a:pt x="8896" y="3"/>
                      <a:pt x="8896" y="4"/>
                    </a:cubicBezTo>
                    <a:cubicBezTo>
                      <a:pt x="8896" y="5"/>
                      <a:pt x="8895" y="6"/>
                      <a:pt x="8894" y="6"/>
                    </a:cubicBezTo>
                    <a:lnTo>
                      <a:pt x="8894" y="6"/>
                    </a:lnTo>
                    <a:cubicBezTo>
                      <a:pt x="8893" y="6"/>
                      <a:pt x="8892" y="5"/>
                      <a:pt x="8892" y="4"/>
                    </a:cubicBezTo>
                    <a:cubicBezTo>
                      <a:pt x="8892" y="3"/>
                      <a:pt x="8893" y="2"/>
                      <a:pt x="8894" y="2"/>
                    </a:cubicBezTo>
                    <a:close/>
                    <a:moveTo>
                      <a:pt x="8902" y="2"/>
                    </a:moveTo>
                    <a:lnTo>
                      <a:pt x="8902" y="2"/>
                    </a:lnTo>
                    <a:cubicBezTo>
                      <a:pt x="8903" y="2"/>
                      <a:pt x="8904" y="3"/>
                      <a:pt x="8904" y="4"/>
                    </a:cubicBezTo>
                    <a:cubicBezTo>
                      <a:pt x="8904" y="5"/>
                      <a:pt x="8903" y="6"/>
                      <a:pt x="8902" y="6"/>
                    </a:cubicBezTo>
                    <a:lnTo>
                      <a:pt x="8902" y="6"/>
                    </a:lnTo>
                    <a:cubicBezTo>
                      <a:pt x="8901" y="6"/>
                      <a:pt x="8900" y="5"/>
                      <a:pt x="8900" y="4"/>
                    </a:cubicBezTo>
                    <a:cubicBezTo>
                      <a:pt x="8900" y="3"/>
                      <a:pt x="8901" y="2"/>
                      <a:pt x="8902" y="2"/>
                    </a:cubicBezTo>
                    <a:close/>
                    <a:moveTo>
                      <a:pt x="8910" y="2"/>
                    </a:moveTo>
                    <a:lnTo>
                      <a:pt x="8910" y="2"/>
                    </a:lnTo>
                    <a:cubicBezTo>
                      <a:pt x="8911" y="2"/>
                      <a:pt x="8912" y="3"/>
                      <a:pt x="8912" y="4"/>
                    </a:cubicBezTo>
                    <a:cubicBezTo>
                      <a:pt x="8912" y="5"/>
                      <a:pt x="8911" y="6"/>
                      <a:pt x="8910" y="6"/>
                    </a:cubicBezTo>
                    <a:lnTo>
                      <a:pt x="8910" y="6"/>
                    </a:lnTo>
                    <a:cubicBezTo>
                      <a:pt x="8909" y="6"/>
                      <a:pt x="8908" y="5"/>
                      <a:pt x="8908" y="4"/>
                    </a:cubicBezTo>
                    <a:cubicBezTo>
                      <a:pt x="8908" y="3"/>
                      <a:pt x="8909" y="2"/>
                      <a:pt x="8910" y="2"/>
                    </a:cubicBezTo>
                    <a:close/>
                    <a:moveTo>
                      <a:pt x="8918" y="2"/>
                    </a:moveTo>
                    <a:lnTo>
                      <a:pt x="8918" y="2"/>
                    </a:lnTo>
                    <a:cubicBezTo>
                      <a:pt x="8919" y="2"/>
                      <a:pt x="8920" y="3"/>
                      <a:pt x="8920" y="4"/>
                    </a:cubicBezTo>
                    <a:cubicBezTo>
                      <a:pt x="8920" y="5"/>
                      <a:pt x="8919" y="6"/>
                      <a:pt x="8918" y="6"/>
                    </a:cubicBezTo>
                    <a:lnTo>
                      <a:pt x="8918" y="6"/>
                    </a:lnTo>
                    <a:cubicBezTo>
                      <a:pt x="8917" y="6"/>
                      <a:pt x="8916" y="5"/>
                      <a:pt x="8916" y="4"/>
                    </a:cubicBezTo>
                    <a:cubicBezTo>
                      <a:pt x="8916" y="3"/>
                      <a:pt x="8917" y="2"/>
                      <a:pt x="8918" y="2"/>
                    </a:cubicBezTo>
                    <a:close/>
                    <a:moveTo>
                      <a:pt x="8926" y="2"/>
                    </a:moveTo>
                    <a:lnTo>
                      <a:pt x="8926" y="2"/>
                    </a:lnTo>
                    <a:cubicBezTo>
                      <a:pt x="8927" y="2"/>
                      <a:pt x="8928" y="3"/>
                      <a:pt x="8928" y="4"/>
                    </a:cubicBezTo>
                    <a:cubicBezTo>
                      <a:pt x="8928" y="5"/>
                      <a:pt x="8927" y="6"/>
                      <a:pt x="8926" y="6"/>
                    </a:cubicBezTo>
                    <a:lnTo>
                      <a:pt x="8926" y="6"/>
                    </a:lnTo>
                    <a:cubicBezTo>
                      <a:pt x="8925" y="6"/>
                      <a:pt x="8924" y="5"/>
                      <a:pt x="8924" y="4"/>
                    </a:cubicBezTo>
                    <a:cubicBezTo>
                      <a:pt x="8924" y="3"/>
                      <a:pt x="8925" y="2"/>
                      <a:pt x="8926" y="2"/>
                    </a:cubicBezTo>
                    <a:close/>
                    <a:moveTo>
                      <a:pt x="8934" y="2"/>
                    </a:moveTo>
                    <a:lnTo>
                      <a:pt x="8934" y="2"/>
                    </a:lnTo>
                    <a:cubicBezTo>
                      <a:pt x="8935" y="2"/>
                      <a:pt x="8936" y="3"/>
                      <a:pt x="8936" y="4"/>
                    </a:cubicBezTo>
                    <a:cubicBezTo>
                      <a:pt x="8936" y="5"/>
                      <a:pt x="8935" y="6"/>
                      <a:pt x="8934" y="6"/>
                    </a:cubicBezTo>
                    <a:lnTo>
                      <a:pt x="8934" y="6"/>
                    </a:lnTo>
                    <a:cubicBezTo>
                      <a:pt x="8933" y="6"/>
                      <a:pt x="8932" y="5"/>
                      <a:pt x="8932" y="4"/>
                    </a:cubicBezTo>
                    <a:cubicBezTo>
                      <a:pt x="8932" y="3"/>
                      <a:pt x="8933" y="2"/>
                      <a:pt x="8934" y="2"/>
                    </a:cubicBezTo>
                    <a:close/>
                    <a:moveTo>
                      <a:pt x="8942" y="2"/>
                    </a:moveTo>
                    <a:lnTo>
                      <a:pt x="8942" y="2"/>
                    </a:lnTo>
                    <a:cubicBezTo>
                      <a:pt x="8943" y="2"/>
                      <a:pt x="8944" y="3"/>
                      <a:pt x="8944" y="4"/>
                    </a:cubicBezTo>
                    <a:cubicBezTo>
                      <a:pt x="8944" y="5"/>
                      <a:pt x="8943" y="6"/>
                      <a:pt x="8942" y="6"/>
                    </a:cubicBezTo>
                    <a:lnTo>
                      <a:pt x="8942" y="6"/>
                    </a:lnTo>
                    <a:cubicBezTo>
                      <a:pt x="8941" y="6"/>
                      <a:pt x="8940" y="5"/>
                      <a:pt x="8940" y="4"/>
                    </a:cubicBezTo>
                    <a:cubicBezTo>
                      <a:pt x="8940" y="3"/>
                      <a:pt x="8941" y="2"/>
                      <a:pt x="8942" y="2"/>
                    </a:cubicBezTo>
                    <a:close/>
                    <a:moveTo>
                      <a:pt x="8950" y="2"/>
                    </a:moveTo>
                    <a:lnTo>
                      <a:pt x="8950" y="2"/>
                    </a:lnTo>
                    <a:cubicBezTo>
                      <a:pt x="8951" y="2"/>
                      <a:pt x="8952" y="3"/>
                      <a:pt x="8952" y="4"/>
                    </a:cubicBezTo>
                    <a:cubicBezTo>
                      <a:pt x="8952" y="5"/>
                      <a:pt x="8951" y="6"/>
                      <a:pt x="8950" y="6"/>
                    </a:cubicBezTo>
                    <a:lnTo>
                      <a:pt x="8950" y="6"/>
                    </a:lnTo>
                    <a:cubicBezTo>
                      <a:pt x="8949" y="6"/>
                      <a:pt x="8948" y="5"/>
                      <a:pt x="8948" y="4"/>
                    </a:cubicBezTo>
                    <a:cubicBezTo>
                      <a:pt x="8948" y="3"/>
                      <a:pt x="8949" y="2"/>
                      <a:pt x="8950" y="2"/>
                    </a:cubicBezTo>
                    <a:close/>
                    <a:moveTo>
                      <a:pt x="8958" y="2"/>
                    </a:moveTo>
                    <a:lnTo>
                      <a:pt x="8958" y="2"/>
                    </a:lnTo>
                    <a:cubicBezTo>
                      <a:pt x="8959" y="2"/>
                      <a:pt x="8960" y="3"/>
                      <a:pt x="8960" y="4"/>
                    </a:cubicBezTo>
                    <a:cubicBezTo>
                      <a:pt x="8960" y="5"/>
                      <a:pt x="8959" y="6"/>
                      <a:pt x="8958" y="6"/>
                    </a:cubicBezTo>
                    <a:lnTo>
                      <a:pt x="8958" y="6"/>
                    </a:lnTo>
                    <a:cubicBezTo>
                      <a:pt x="8957" y="6"/>
                      <a:pt x="8956" y="5"/>
                      <a:pt x="8956" y="4"/>
                    </a:cubicBezTo>
                    <a:cubicBezTo>
                      <a:pt x="8956" y="3"/>
                      <a:pt x="8957" y="2"/>
                      <a:pt x="8958" y="2"/>
                    </a:cubicBezTo>
                    <a:close/>
                    <a:moveTo>
                      <a:pt x="8966" y="2"/>
                    </a:moveTo>
                    <a:lnTo>
                      <a:pt x="8966" y="2"/>
                    </a:lnTo>
                    <a:cubicBezTo>
                      <a:pt x="8967" y="2"/>
                      <a:pt x="8968" y="3"/>
                      <a:pt x="8968" y="4"/>
                    </a:cubicBezTo>
                    <a:cubicBezTo>
                      <a:pt x="8968" y="5"/>
                      <a:pt x="8967" y="6"/>
                      <a:pt x="8966" y="6"/>
                    </a:cubicBezTo>
                    <a:lnTo>
                      <a:pt x="8966" y="6"/>
                    </a:lnTo>
                    <a:cubicBezTo>
                      <a:pt x="8965" y="6"/>
                      <a:pt x="8964" y="5"/>
                      <a:pt x="8964" y="4"/>
                    </a:cubicBezTo>
                    <a:cubicBezTo>
                      <a:pt x="8964" y="3"/>
                      <a:pt x="8965" y="2"/>
                      <a:pt x="8966" y="2"/>
                    </a:cubicBezTo>
                    <a:close/>
                    <a:moveTo>
                      <a:pt x="8974" y="2"/>
                    </a:moveTo>
                    <a:lnTo>
                      <a:pt x="8974" y="2"/>
                    </a:lnTo>
                    <a:cubicBezTo>
                      <a:pt x="8975" y="2"/>
                      <a:pt x="8976" y="3"/>
                      <a:pt x="8976" y="4"/>
                    </a:cubicBezTo>
                    <a:cubicBezTo>
                      <a:pt x="8976" y="5"/>
                      <a:pt x="8975" y="6"/>
                      <a:pt x="8974" y="6"/>
                    </a:cubicBezTo>
                    <a:lnTo>
                      <a:pt x="8974" y="6"/>
                    </a:lnTo>
                    <a:cubicBezTo>
                      <a:pt x="8973" y="6"/>
                      <a:pt x="8972" y="5"/>
                      <a:pt x="8972" y="4"/>
                    </a:cubicBezTo>
                    <a:cubicBezTo>
                      <a:pt x="8972" y="3"/>
                      <a:pt x="8973" y="2"/>
                      <a:pt x="8974" y="2"/>
                    </a:cubicBezTo>
                    <a:close/>
                    <a:moveTo>
                      <a:pt x="8982" y="2"/>
                    </a:moveTo>
                    <a:lnTo>
                      <a:pt x="8982" y="2"/>
                    </a:lnTo>
                    <a:cubicBezTo>
                      <a:pt x="8983" y="2"/>
                      <a:pt x="8984" y="3"/>
                      <a:pt x="8984" y="4"/>
                    </a:cubicBezTo>
                    <a:cubicBezTo>
                      <a:pt x="8984" y="5"/>
                      <a:pt x="8983" y="6"/>
                      <a:pt x="8982" y="6"/>
                    </a:cubicBezTo>
                    <a:lnTo>
                      <a:pt x="8982" y="6"/>
                    </a:lnTo>
                    <a:cubicBezTo>
                      <a:pt x="8981" y="6"/>
                      <a:pt x="8980" y="5"/>
                      <a:pt x="8980" y="4"/>
                    </a:cubicBezTo>
                    <a:cubicBezTo>
                      <a:pt x="8980" y="3"/>
                      <a:pt x="8981" y="2"/>
                      <a:pt x="8982" y="2"/>
                    </a:cubicBezTo>
                    <a:close/>
                    <a:moveTo>
                      <a:pt x="8990" y="2"/>
                    </a:moveTo>
                    <a:lnTo>
                      <a:pt x="8990" y="2"/>
                    </a:lnTo>
                    <a:cubicBezTo>
                      <a:pt x="8991" y="2"/>
                      <a:pt x="8992" y="3"/>
                      <a:pt x="8992" y="4"/>
                    </a:cubicBezTo>
                    <a:cubicBezTo>
                      <a:pt x="8992" y="5"/>
                      <a:pt x="8991" y="6"/>
                      <a:pt x="8990" y="6"/>
                    </a:cubicBezTo>
                    <a:lnTo>
                      <a:pt x="8990" y="6"/>
                    </a:lnTo>
                    <a:cubicBezTo>
                      <a:pt x="8989" y="6"/>
                      <a:pt x="8988" y="5"/>
                      <a:pt x="8988" y="4"/>
                    </a:cubicBezTo>
                    <a:cubicBezTo>
                      <a:pt x="8988" y="3"/>
                      <a:pt x="8989" y="2"/>
                      <a:pt x="8990" y="2"/>
                    </a:cubicBezTo>
                    <a:close/>
                    <a:moveTo>
                      <a:pt x="8998" y="2"/>
                    </a:moveTo>
                    <a:lnTo>
                      <a:pt x="8998" y="2"/>
                    </a:lnTo>
                    <a:cubicBezTo>
                      <a:pt x="8999" y="2"/>
                      <a:pt x="9000" y="3"/>
                      <a:pt x="9000" y="4"/>
                    </a:cubicBezTo>
                    <a:cubicBezTo>
                      <a:pt x="9000" y="5"/>
                      <a:pt x="8999" y="6"/>
                      <a:pt x="8998" y="6"/>
                    </a:cubicBezTo>
                    <a:lnTo>
                      <a:pt x="8998" y="6"/>
                    </a:lnTo>
                    <a:cubicBezTo>
                      <a:pt x="8997" y="6"/>
                      <a:pt x="8996" y="5"/>
                      <a:pt x="8996" y="4"/>
                    </a:cubicBezTo>
                    <a:cubicBezTo>
                      <a:pt x="8996" y="3"/>
                      <a:pt x="8997" y="2"/>
                      <a:pt x="8998" y="2"/>
                    </a:cubicBezTo>
                    <a:close/>
                    <a:moveTo>
                      <a:pt x="9006" y="2"/>
                    </a:moveTo>
                    <a:lnTo>
                      <a:pt x="9006" y="2"/>
                    </a:lnTo>
                    <a:cubicBezTo>
                      <a:pt x="9007" y="2"/>
                      <a:pt x="9008" y="3"/>
                      <a:pt x="9008" y="4"/>
                    </a:cubicBezTo>
                    <a:cubicBezTo>
                      <a:pt x="9008" y="5"/>
                      <a:pt x="9007" y="6"/>
                      <a:pt x="9006" y="6"/>
                    </a:cubicBezTo>
                    <a:lnTo>
                      <a:pt x="9006" y="6"/>
                    </a:lnTo>
                    <a:cubicBezTo>
                      <a:pt x="9005" y="6"/>
                      <a:pt x="9004" y="5"/>
                      <a:pt x="9004" y="4"/>
                    </a:cubicBezTo>
                    <a:cubicBezTo>
                      <a:pt x="9004" y="3"/>
                      <a:pt x="9005" y="2"/>
                      <a:pt x="9006" y="2"/>
                    </a:cubicBezTo>
                    <a:close/>
                    <a:moveTo>
                      <a:pt x="9014" y="2"/>
                    </a:moveTo>
                    <a:lnTo>
                      <a:pt x="9014" y="2"/>
                    </a:lnTo>
                    <a:cubicBezTo>
                      <a:pt x="9015" y="2"/>
                      <a:pt x="9016" y="3"/>
                      <a:pt x="9016" y="4"/>
                    </a:cubicBezTo>
                    <a:cubicBezTo>
                      <a:pt x="9016" y="5"/>
                      <a:pt x="9015" y="6"/>
                      <a:pt x="9014" y="6"/>
                    </a:cubicBezTo>
                    <a:lnTo>
                      <a:pt x="9014" y="6"/>
                    </a:lnTo>
                    <a:cubicBezTo>
                      <a:pt x="9013" y="6"/>
                      <a:pt x="9012" y="5"/>
                      <a:pt x="9012" y="4"/>
                    </a:cubicBezTo>
                    <a:cubicBezTo>
                      <a:pt x="9012" y="3"/>
                      <a:pt x="9013" y="2"/>
                      <a:pt x="9014" y="2"/>
                    </a:cubicBezTo>
                    <a:close/>
                    <a:moveTo>
                      <a:pt x="9022" y="2"/>
                    </a:moveTo>
                    <a:lnTo>
                      <a:pt x="9022" y="2"/>
                    </a:lnTo>
                    <a:cubicBezTo>
                      <a:pt x="9023" y="2"/>
                      <a:pt x="9024" y="3"/>
                      <a:pt x="9024" y="4"/>
                    </a:cubicBezTo>
                    <a:cubicBezTo>
                      <a:pt x="9024" y="5"/>
                      <a:pt x="9023" y="6"/>
                      <a:pt x="9022" y="6"/>
                    </a:cubicBezTo>
                    <a:lnTo>
                      <a:pt x="9022" y="6"/>
                    </a:lnTo>
                    <a:cubicBezTo>
                      <a:pt x="9021" y="6"/>
                      <a:pt x="9020" y="5"/>
                      <a:pt x="9020" y="4"/>
                    </a:cubicBezTo>
                    <a:cubicBezTo>
                      <a:pt x="9020" y="3"/>
                      <a:pt x="9021" y="2"/>
                      <a:pt x="9022" y="2"/>
                    </a:cubicBezTo>
                    <a:close/>
                    <a:moveTo>
                      <a:pt x="9030" y="2"/>
                    </a:moveTo>
                    <a:lnTo>
                      <a:pt x="9030" y="2"/>
                    </a:lnTo>
                    <a:cubicBezTo>
                      <a:pt x="9031" y="2"/>
                      <a:pt x="9032" y="3"/>
                      <a:pt x="9032" y="4"/>
                    </a:cubicBezTo>
                    <a:cubicBezTo>
                      <a:pt x="9032" y="5"/>
                      <a:pt x="9031" y="6"/>
                      <a:pt x="9030" y="6"/>
                    </a:cubicBezTo>
                    <a:lnTo>
                      <a:pt x="9030" y="6"/>
                    </a:lnTo>
                    <a:cubicBezTo>
                      <a:pt x="9029" y="6"/>
                      <a:pt x="9028" y="5"/>
                      <a:pt x="9028" y="4"/>
                    </a:cubicBezTo>
                    <a:cubicBezTo>
                      <a:pt x="9028" y="3"/>
                      <a:pt x="9029" y="2"/>
                      <a:pt x="9030" y="2"/>
                    </a:cubicBezTo>
                    <a:close/>
                    <a:moveTo>
                      <a:pt x="9038" y="2"/>
                    </a:moveTo>
                    <a:lnTo>
                      <a:pt x="9038" y="2"/>
                    </a:lnTo>
                    <a:cubicBezTo>
                      <a:pt x="9039" y="2"/>
                      <a:pt x="9040" y="3"/>
                      <a:pt x="9040" y="4"/>
                    </a:cubicBezTo>
                    <a:cubicBezTo>
                      <a:pt x="9040" y="5"/>
                      <a:pt x="9039" y="6"/>
                      <a:pt x="9038" y="6"/>
                    </a:cubicBezTo>
                    <a:lnTo>
                      <a:pt x="9038" y="6"/>
                    </a:lnTo>
                    <a:cubicBezTo>
                      <a:pt x="9037" y="6"/>
                      <a:pt x="9036" y="5"/>
                      <a:pt x="9036" y="4"/>
                    </a:cubicBezTo>
                    <a:cubicBezTo>
                      <a:pt x="9036" y="3"/>
                      <a:pt x="9037" y="2"/>
                      <a:pt x="9038" y="2"/>
                    </a:cubicBezTo>
                    <a:close/>
                    <a:moveTo>
                      <a:pt x="9046" y="2"/>
                    </a:moveTo>
                    <a:lnTo>
                      <a:pt x="9046" y="2"/>
                    </a:lnTo>
                    <a:cubicBezTo>
                      <a:pt x="9047" y="2"/>
                      <a:pt x="9048" y="3"/>
                      <a:pt x="9048" y="4"/>
                    </a:cubicBezTo>
                    <a:cubicBezTo>
                      <a:pt x="9048" y="5"/>
                      <a:pt x="9047" y="6"/>
                      <a:pt x="9046" y="6"/>
                    </a:cubicBezTo>
                    <a:lnTo>
                      <a:pt x="9046" y="6"/>
                    </a:lnTo>
                    <a:cubicBezTo>
                      <a:pt x="9045" y="6"/>
                      <a:pt x="9044" y="5"/>
                      <a:pt x="9044" y="4"/>
                    </a:cubicBezTo>
                    <a:cubicBezTo>
                      <a:pt x="9044" y="3"/>
                      <a:pt x="9045" y="2"/>
                      <a:pt x="9046" y="2"/>
                    </a:cubicBezTo>
                    <a:close/>
                    <a:moveTo>
                      <a:pt x="9054" y="2"/>
                    </a:moveTo>
                    <a:lnTo>
                      <a:pt x="9054" y="2"/>
                    </a:lnTo>
                    <a:cubicBezTo>
                      <a:pt x="9055" y="2"/>
                      <a:pt x="9056" y="3"/>
                      <a:pt x="9056" y="4"/>
                    </a:cubicBezTo>
                    <a:cubicBezTo>
                      <a:pt x="9056" y="5"/>
                      <a:pt x="9055" y="6"/>
                      <a:pt x="9054" y="6"/>
                    </a:cubicBezTo>
                    <a:lnTo>
                      <a:pt x="9054" y="6"/>
                    </a:lnTo>
                    <a:cubicBezTo>
                      <a:pt x="9053" y="6"/>
                      <a:pt x="9052" y="5"/>
                      <a:pt x="9052" y="4"/>
                    </a:cubicBezTo>
                    <a:cubicBezTo>
                      <a:pt x="9052" y="3"/>
                      <a:pt x="9053" y="2"/>
                      <a:pt x="9054" y="2"/>
                    </a:cubicBezTo>
                    <a:close/>
                    <a:moveTo>
                      <a:pt x="9062" y="2"/>
                    </a:moveTo>
                    <a:lnTo>
                      <a:pt x="9062" y="2"/>
                    </a:lnTo>
                    <a:cubicBezTo>
                      <a:pt x="9063" y="2"/>
                      <a:pt x="9064" y="3"/>
                      <a:pt x="9064" y="4"/>
                    </a:cubicBezTo>
                    <a:cubicBezTo>
                      <a:pt x="9064" y="5"/>
                      <a:pt x="9063" y="6"/>
                      <a:pt x="9062" y="6"/>
                    </a:cubicBezTo>
                    <a:lnTo>
                      <a:pt x="9062" y="6"/>
                    </a:lnTo>
                    <a:cubicBezTo>
                      <a:pt x="9061" y="6"/>
                      <a:pt x="9060" y="5"/>
                      <a:pt x="9060" y="4"/>
                    </a:cubicBezTo>
                    <a:cubicBezTo>
                      <a:pt x="9060" y="3"/>
                      <a:pt x="9061" y="2"/>
                      <a:pt x="9062" y="2"/>
                    </a:cubicBezTo>
                    <a:close/>
                    <a:moveTo>
                      <a:pt x="9070" y="2"/>
                    </a:moveTo>
                    <a:lnTo>
                      <a:pt x="9070" y="2"/>
                    </a:lnTo>
                    <a:cubicBezTo>
                      <a:pt x="9071" y="2"/>
                      <a:pt x="9072" y="3"/>
                      <a:pt x="9072" y="4"/>
                    </a:cubicBezTo>
                    <a:cubicBezTo>
                      <a:pt x="9072" y="5"/>
                      <a:pt x="9071" y="6"/>
                      <a:pt x="9070" y="6"/>
                    </a:cubicBezTo>
                    <a:lnTo>
                      <a:pt x="9070" y="6"/>
                    </a:lnTo>
                    <a:cubicBezTo>
                      <a:pt x="9069" y="6"/>
                      <a:pt x="9068" y="5"/>
                      <a:pt x="9068" y="4"/>
                    </a:cubicBezTo>
                    <a:cubicBezTo>
                      <a:pt x="9068" y="3"/>
                      <a:pt x="9069" y="2"/>
                      <a:pt x="9070" y="2"/>
                    </a:cubicBezTo>
                    <a:close/>
                    <a:moveTo>
                      <a:pt x="9078" y="2"/>
                    </a:moveTo>
                    <a:lnTo>
                      <a:pt x="9078" y="2"/>
                    </a:lnTo>
                    <a:cubicBezTo>
                      <a:pt x="9079" y="2"/>
                      <a:pt x="9080" y="3"/>
                      <a:pt x="9080" y="4"/>
                    </a:cubicBezTo>
                    <a:cubicBezTo>
                      <a:pt x="9080" y="5"/>
                      <a:pt x="9079" y="6"/>
                      <a:pt x="9078" y="6"/>
                    </a:cubicBezTo>
                    <a:lnTo>
                      <a:pt x="9078" y="6"/>
                    </a:lnTo>
                    <a:cubicBezTo>
                      <a:pt x="9077" y="6"/>
                      <a:pt x="9076" y="5"/>
                      <a:pt x="9076" y="4"/>
                    </a:cubicBezTo>
                    <a:cubicBezTo>
                      <a:pt x="9076" y="3"/>
                      <a:pt x="9077" y="2"/>
                      <a:pt x="9078" y="2"/>
                    </a:cubicBezTo>
                    <a:close/>
                    <a:moveTo>
                      <a:pt x="9086" y="2"/>
                    </a:moveTo>
                    <a:lnTo>
                      <a:pt x="9086" y="2"/>
                    </a:lnTo>
                    <a:cubicBezTo>
                      <a:pt x="9087" y="2"/>
                      <a:pt x="9088" y="3"/>
                      <a:pt x="9088" y="4"/>
                    </a:cubicBezTo>
                    <a:cubicBezTo>
                      <a:pt x="9088" y="5"/>
                      <a:pt x="9087" y="6"/>
                      <a:pt x="9086" y="6"/>
                    </a:cubicBezTo>
                    <a:lnTo>
                      <a:pt x="9086" y="6"/>
                    </a:lnTo>
                    <a:cubicBezTo>
                      <a:pt x="9085" y="6"/>
                      <a:pt x="9084" y="5"/>
                      <a:pt x="9084" y="4"/>
                    </a:cubicBezTo>
                    <a:cubicBezTo>
                      <a:pt x="9084" y="3"/>
                      <a:pt x="9085" y="2"/>
                      <a:pt x="9086" y="2"/>
                    </a:cubicBezTo>
                    <a:close/>
                    <a:moveTo>
                      <a:pt x="9094" y="2"/>
                    </a:moveTo>
                    <a:lnTo>
                      <a:pt x="9094" y="2"/>
                    </a:lnTo>
                    <a:cubicBezTo>
                      <a:pt x="9095" y="2"/>
                      <a:pt x="9096" y="3"/>
                      <a:pt x="9096" y="4"/>
                    </a:cubicBezTo>
                    <a:cubicBezTo>
                      <a:pt x="9096" y="5"/>
                      <a:pt x="9095" y="6"/>
                      <a:pt x="9094" y="6"/>
                    </a:cubicBezTo>
                    <a:lnTo>
                      <a:pt x="9094" y="6"/>
                    </a:lnTo>
                    <a:cubicBezTo>
                      <a:pt x="9093" y="6"/>
                      <a:pt x="9092" y="5"/>
                      <a:pt x="9092" y="4"/>
                    </a:cubicBezTo>
                    <a:cubicBezTo>
                      <a:pt x="9092" y="3"/>
                      <a:pt x="9093" y="2"/>
                      <a:pt x="9094" y="2"/>
                    </a:cubicBezTo>
                    <a:close/>
                    <a:moveTo>
                      <a:pt x="9102" y="2"/>
                    </a:moveTo>
                    <a:lnTo>
                      <a:pt x="9102" y="2"/>
                    </a:lnTo>
                    <a:cubicBezTo>
                      <a:pt x="9103" y="2"/>
                      <a:pt x="9104" y="3"/>
                      <a:pt x="9104" y="4"/>
                    </a:cubicBezTo>
                    <a:cubicBezTo>
                      <a:pt x="9104" y="5"/>
                      <a:pt x="9103" y="6"/>
                      <a:pt x="9102" y="6"/>
                    </a:cubicBezTo>
                    <a:lnTo>
                      <a:pt x="9102" y="6"/>
                    </a:lnTo>
                    <a:cubicBezTo>
                      <a:pt x="9101" y="6"/>
                      <a:pt x="9100" y="5"/>
                      <a:pt x="9100" y="4"/>
                    </a:cubicBezTo>
                    <a:cubicBezTo>
                      <a:pt x="9100" y="3"/>
                      <a:pt x="9101" y="2"/>
                      <a:pt x="9102" y="2"/>
                    </a:cubicBezTo>
                    <a:close/>
                    <a:moveTo>
                      <a:pt x="9110" y="2"/>
                    </a:moveTo>
                    <a:lnTo>
                      <a:pt x="9110" y="2"/>
                    </a:lnTo>
                    <a:cubicBezTo>
                      <a:pt x="9111" y="2"/>
                      <a:pt x="9112" y="3"/>
                      <a:pt x="9112" y="4"/>
                    </a:cubicBezTo>
                    <a:cubicBezTo>
                      <a:pt x="9112" y="5"/>
                      <a:pt x="9111" y="6"/>
                      <a:pt x="9110" y="6"/>
                    </a:cubicBezTo>
                    <a:lnTo>
                      <a:pt x="9110" y="6"/>
                    </a:lnTo>
                    <a:cubicBezTo>
                      <a:pt x="9109" y="6"/>
                      <a:pt x="9108" y="5"/>
                      <a:pt x="9108" y="4"/>
                    </a:cubicBezTo>
                    <a:cubicBezTo>
                      <a:pt x="9108" y="3"/>
                      <a:pt x="9109" y="2"/>
                      <a:pt x="9110" y="2"/>
                    </a:cubicBezTo>
                    <a:close/>
                    <a:moveTo>
                      <a:pt x="9118" y="2"/>
                    </a:moveTo>
                    <a:lnTo>
                      <a:pt x="9118" y="2"/>
                    </a:lnTo>
                    <a:cubicBezTo>
                      <a:pt x="9119" y="2"/>
                      <a:pt x="9120" y="3"/>
                      <a:pt x="9120" y="4"/>
                    </a:cubicBezTo>
                    <a:cubicBezTo>
                      <a:pt x="9120" y="5"/>
                      <a:pt x="9119" y="6"/>
                      <a:pt x="9118" y="6"/>
                    </a:cubicBezTo>
                    <a:lnTo>
                      <a:pt x="9118" y="6"/>
                    </a:lnTo>
                    <a:cubicBezTo>
                      <a:pt x="9117" y="6"/>
                      <a:pt x="9116" y="5"/>
                      <a:pt x="9116" y="4"/>
                    </a:cubicBezTo>
                    <a:cubicBezTo>
                      <a:pt x="9116" y="3"/>
                      <a:pt x="9117" y="2"/>
                      <a:pt x="9118" y="2"/>
                    </a:cubicBezTo>
                    <a:close/>
                    <a:moveTo>
                      <a:pt x="9126" y="2"/>
                    </a:moveTo>
                    <a:lnTo>
                      <a:pt x="9126" y="2"/>
                    </a:lnTo>
                    <a:cubicBezTo>
                      <a:pt x="9127" y="2"/>
                      <a:pt x="9128" y="3"/>
                      <a:pt x="9128" y="4"/>
                    </a:cubicBezTo>
                    <a:cubicBezTo>
                      <a:pt x="9128" y="5"/>
                      <a:pt x="9127" y="6"/>
                      <a:pt x="9126" y="6"/>
                    </a:cubicBezTo>
                    <a:lnTo>
                      <a:pt x="9126" y="6"/>
                    </a:lnTo>
                    <a:cubicBezTo>
                      <a:pt x="9125" y="6"/>
                      <a:pt x="9124" y="5"/>
                      <a:pt x="9124" y="4"/>
                    </a:cubicBezTo>
                    <a:cubicBezTo>
                      <a:pt x="9124" y="3"/>
                      <a:pt x="9125" y="2"/>
                      <a:pt x="9126" y="2"/>
                    </a:cubicBezTo>
                    <a:close/>
                    <a:moveTo>
                      <a:pt x="9134" y="2"/>
                    </a:moveTo>
                    <a:lnTo>
                      <a:pt x="9134" y="2"/>
                    </a:lnTo>
                    <a:cubicBezTo>
                      <a:pt x="9135" y="2"/>
                      <a:pt x="9136" y="3"/>
                      <a:pt x="9136" y="4"/>
                    </a:cubicBezTo>
                    <a:cubicBezTo>
                      <a:pt x="9136" y="5"/>
                      <a:pt x="9135" y="6"/>
                      <a:pt x="9134" y="6"/>
                    </a:cubicBezTo>
                    <a:lnTo>
                      <a:pt x="9134" y="6"/>
                    </a:lnTo>
                    <a:cubicBezTo>
                      <a:pt x="9133" y="6"/>
                      <a:pt x="9132" y="5"/>
                      <a:pt x="9132" y="4"/>
                    </a:cubicBezTo>
                    <a:cubicBezTo>
                      <a:pt x="9132" y="3"/>
                      <a:pt x="9133" y="2"/>
                      <a:pt x="9134" y="2"/>
                    </a:cubicBezTo>
                    <a:close/>
                    <a:moveTo>
                      <a:pt x="9142" y="2"/>
                    </a:moveTo>
                    <a:lnTo>
                      <a:pt x="9142" y="2"/>
                    </a:lnTo>
                    <a:cubicBezTo>
                      <a:pt x="9143" y="2"/>
                      <a:pt x="9144" y="3"/>
                      <a:pt x="9144" y="4"/>
                    </a:cubicBezTo>
                    <a:cubicBezTo>
                      <a:pt x="9144" y="5"/>
                      <a:pt x="9143" y="6"/>
                      <a:pt x="9142" y="6"/>
                    </a:cubicBezTo>
                    <a:lnTo>
                      <a:pt x="9142" y="6"/>
                    </a:lnTo>
                    <a:cubicBezTo>
                      <a:pt x="9141" y="6"/>
                      <a:pt x="9140" y="5"/>
                      <a:pt x="9140" y="4"/>
                    </a:cubicBezTo>
                    <a:cubicBezTo>
                      <a:pt x="9140" y="3"/>
                      <a:pt x="9141" y="2"/>
                      <a:pt x="9142" y="2"/>
                    </a:cubicBezTo>
                    <a:close/>
                    <a:moveTo>
                      <a:pt x="9150" y="2"/>
                    </a:moveTo>
                    <a:lnTo>
                      <a:pt x="9150" y="2"/>
                    </a:lnTo>
                    <a:cubicBezTo>
                      <a:pt x="9152" y="2"/>
                      <a:pt x="9152" y="3"/>
                      <a:pt x="9152" y="4"/>
                    </a:cubicBezTo>
                    <a:cubicBezTo>
                      <a:pt x="9152" y="5"/>
                      <a:pt x="9152" y="6"/>
                      <a:pt x="9150" y="6"/>
                    </a:cubicBezTo>
                    <a:lnTo>
                      <a:pt x="9150" y="6"/>
                    </a:lnTo>
                    <a:cubicBezTo>
                      <a:pt x="9149" y="6"/>
                      <a:pt x="9148" y="5"/>
                      <a:pt x="9148" y="4"/>
                    </a:cubicBezTo>
                    <a:cubicBezTo>
                      <a:pt x="9148" y="3"/>
                      <a:pt x="9149" y="2"/>
                      <a:pt x="9150" y="2"/>
                    </a:cubicBezTo>
                    <a:close/>
                    <a:moveTo>
                      <a:pt x="9158" y="2"/>
                    </a:moveTo>
                    <a:lnTo>
                      <a:pt x="9158" y="2"/>
                    </a:lnTo>
                    <a:cubicBezTo>
                      <a:pt x="9160" y="2"/>
                      <a:pt x="9160" y="3"/>
                      <a:pt x="9160" y="4"/>
                    </a:cubicBezTo>
                    <a:cubicBezTo>
                      <a:pt x="9160" y="5"/>
                      <a:pt x="9160" y="6"/>
                      <a:pt x="9158" y="6"/>
                    </a:cubicBezTo>
                    <a:lnTo>
                      <a:pt x="9158" y="6"/>
                    </a:lnTo>
                    <a:cubicBezTo>
                      <a:pt x="9157" y="6"/>
                      <a:pt x="9156" y="5"/>
                      <a:pt x="9156" y="4"/>
                    </a:cubicBezTo>
                    <a:cubicBezTo>
                      <a:pt x="9156" y="3"/>
                      <a:pt x="9157" y="2"/>
                      <a:pt x="9158" y="2"/>
                    </a:cubicBezTo>
                    <a:close/>
                    <a:moveTo>
                      <a:pt x="9166" y="2"/>
                    </a:moveTo>
                    <a:lnTo>
                      <a:pt x="9166" y="2"/>
                    </a:lnTo>
                    <a:cubicBezTo>
                      <a:pt x="9168" y="2"/>
                      <a:pt x="9168" y="3"/>
                      <a:pt x="9168" y="4"/>
                    </a:cubicBezTo>
                    <a:cubicBezTo>
                      <a:pt x="9168" y="5"/>
                      <a:pt x="9168" y="6"/>
                      <a:pt x="9166" y="6"/>
                    </a:cubicBezTo>
                    <a:lnTo>
                      <a:pt x="9166" y="6"/>
                    </a:lnTo>
                    <a:cubicBezTo>
                      <a:pt x="9165" y="6"/>
                      <a:pt x="9164" y="5"/>
                      <a:pt x="9164" y="4"/>
                    </a:cubicBezTo>
                    <a:cubicBezTo>
                      <a:pt x="9164" y="3"/>
                      <a:pt x="9165" y="2"/>
                      <a:pt x="9166" y="2"/>
                    </a:cubicBezTo>
                    <a:close/>
                    <a:moveTo>
                      <a:pt x="9174" y="2"/>
                    </a:moveTo>
                    <a:lnTo>
                      <a:pt x="9174" y="2"/>
                    </a:lnTo>
                    <a:cubicBezTo>
                      <a:pt x="9176" y="2"/>
                      <a:pt x="9176" y="3"/>
                      <a:pt x="9176" y="4"/>
                    </a:cubicBezTo>
                    <a:cubicBezTo>
                      <a:pt x="9176" y="5"/>
                      <a:pt x="9176" y="6"/>
                      <a:pt x="9174" y="6"/>
                    </a:cubicBezTo>
                    <a:lnTo>
                      <a:pt x="9174" y="6"/>
                    </a:lnTo>
                    <a:cubicBezTo>
                      <a:pt x="9173" y="6"/>
                      <a:pt x="9172" y="5"/>
                      <a:pt x="9172" y="4"/>
                    </a:cubicBezTo>
                    <a:cubicBezTo>
                      <a:pt x="9172" y="3"/>
                      <a:pt x="9173" y="2"/>
                      <a:pt x="9174" y="2"/>
                    </a:cubicBezTo>
                    <a:close/>
                    <a:moveTo>
                      <a:pt x="9182" y="2"/>
                    </a:moveTo>
                    <a:lnTo>
                      <a:pt x="9182" y="2"/>
                    </a:lnTo>
                    <a:cubicBezTo>
                      <a:pt x="9184" y="2"/>
                      <a:pt x="9184" y="3"/>
                      <a:pt x="9184" y="4"/>
                    </a:cubicBezTo>
                    <a:cubicBezTo>
                      <a:pt x="9184" y="5"/>
                      <a:pt x="9184" y="6"/>
                      <a:pt x="9182" y="6"/>
                    </a:cubicBezTo>
                    <a:lnTo>
                      <a:pt x="9182" y="6"/>
                    </a:lnTo>
                    <a:cubicBezTo>
                      <a:pt x="9181" y="6"/>
                      <a:pt x="9180" y="5"/>
                      <a:pt x="9180" y="4"/>
                    </a:cubicBezTo>
                    <a:cubicBezTo>
                      <a:pt x="9180" y="3"/>
                      <a:pt x="9181" y="2"/>
                      <a:pt x="9182" y="2"/>
                    </a:cubicBezTo>
                    <a:close/>
                    <a:moveTo>
                      <a:pt x="9190" y="2"/>
                    </a:moveTo>
                    <a:lnTo>
                      <a:pt x="9190" y="2"/>
                    </a:lnTo>
                    <a:cubicBezTo>
                      <a:pt x="9192" y="2"/>
                      <a:pt x="9192" y="3"/>
                      <a:pt x="9192" y="4"/>
                    </a:cubicBezTo>
                    <a:cubicBezTo>
                      <a:pt x="9192" y="5"/>
                      <a:pt x="9192" y="6"/>
                      <a:pt x="9190" y="6"/>
                    </a:cubicBezTo>
                    <a:lnTo>
                      <a:pt x="9190" y="6"/>
                    </a:lnTo>
                    <a:cubicBezTo>
                      <a:pt x="9189" y="6"/>
                      <a:pt x="9188" y="5"/>
                      <a:pt x="9188" y="4"/>
                    </a:cubicBezTo>
                    <a:cubicBezTo>
                      <a:pt x="9188" y="3"/>
                      <a:pt x="9189" y="2"/>
                      <a:pt x="9190" y="2"/>
                    </a:cubicBezTo>
                    <a:close/>
                    <a:moveTo>
                      <a:pt x="9198" y="2"/>
                    </a:moveTo>
                    <a:lnTo>
                      <a:pt x="9198" y="2"/>
                    </a:lnTo>
                    <a:cubicBezTo>
                      <a:pt x="9200" y="2"/>
                      <a:pt x="9200" y="3"/>
                      <a:pt x="9200" y="4"/>
                    </a:cubicBezTo>
                    <a:cubicBezTo>
                      <a:pt x="9200" y="5"/>
                      <a:pt x="9200" y="6"/>
                      <a:pt x="9198" y="6"/>
                    </a:cubicBezTo>
                    <a:lnTo>
                      <a:pt x="9198" y="6"/>
                    </a:lnTo>
                    <a:cubicBezTo>
                      <a:pt x="9197" y="6"/>
                      <a:pt x="9196" y="5"/>
                      <a:pt x="9196" y="4"/>
                    </a:cubicBezTo>
                    <a:cubicBezTo>
                      <a:pt x="9196" y="3"/>
                      <a:pt x="9197" y="2"/>
                      <a:pt x="9198" y="2"/>
                    </a:cubicBezTo>
                    <a:close/>
                    <a:moveTo>
                      <a:pt x="9206" y="2"/>
                    </a:moveTo>
                    <a:lnTo>
                      <a:pt x="9206" y="2"/>
                    </a:lnTo>
                    <a:cubicBezTo>
                      <a:pt x="9208" y="2"/>
                      <a:pt x="9208" y="3"/>
                      <a:pt x="9208" y="4"/>
                    </a:cubicBezTo>
                    <a:cubicBezTo>
                      <a:pt x="9208" y="5"/>
                      <a:pt x="9208" y="6"/>
                      <a:pt x="9206" y="6"/>
                    </a:cubicBezTo>
                    <a:lnTo>
                      <a:pt x="9206" y="6"/>
                    </a:lnTo>
                    <a:cubicBezTo>
                      <a:pt x="9205" y="6"/>
                      <a:pt x="9204" y="5"/>
                      <a:pt x="9204" y="4"/>
                    </a:cubicBezTo>
                    <a:cubicBezTo>
                      <a:pt x="9204" y="3"/>
                      <a:pt x="9205" y="2"/>
                      <a:pt x="9206" y="2"/>
                    </a:cubicBezTo>
                    <a:close/>
                    <a:moveTo>
                      <a:pt x="9214" y="2"/>
                    </a:moveTo>
                    <a:lnTo>
                      <a:pt x="9214" y="2"/>
                    </a:lnTo>
                    <a:cubicBezTo>
                      <a:pt x="9216" y="2"/>
                      <a:pt x="9216" y="3"/>
                      <a:pt x="9216" y="4"/>
                    </a:cubicBezTo>
                    <a:cubicBezTo>
                      <a:pt x="9216" y="5"/>
                      <a:pt x="9216" y="6"/>
                      <a:pt x="9214" y="6"/>
                    </a:cubicBezTo>
                    <a:lnTo>
                      <a:pt x="9214" y="6"/>
                    </a:lnTo>
                    <a:cubicBezTo>
                      <a:pt x="9213" y="6"/>
                      <a:pt x="9212" y="5"/>
                      <a:pt x="9212" y="4"/>
                    </a:cubicBezTo>
                    <a:cubicBezTo>
                      <a:pt x="9212" y="3"/>
                      <a:pt x="9213" y="2"/>
                      <a:pt x="9214" y="2"/>
                    </a:cubicBezTo>
                    <a:close/>
                    <a:moveTo>
                      <a:pt x="9222" y="2"/>
                    </a:moveTo>
                    <a:lnTo>
                      <a:pt x="9222" y="2"/>
                    </a:lnTo>
                    <a:cubicBezTo>
                      <a:pt x="9224" y="2"/>
                      <a:pt x="9224" y="3"/>
                      <a:pt x="9224" y="4"/>
                    </a:cubicBezTo>
                    <a:cubicBezTo>
                      <a:pt x="9224" y="5"/>
                      <a:pt x="9224" y="6"/>
                      <a:pt x="9222" y="6"/>
                    </a:cubicBezTo>
                    <a:lnTo>
                      <a:pt x="9222" y="6"/>
                    </a:lnTo>
                    <a:cubicBezTo>
                      <a:pt x="9221" y="6"/>
                      <a:pt x="9220" y="5"/>
                      <a:pt x="9220" y="4"/>
                    </a:cubicBezTo>
                    <a:cubicBezTo>
                      <a:pt x="9220" y="3"/>
                      <a:pt x="9221" y="2"/>
                      <a:pt x="9222" y="2"/>
                    </a:cubicBezTo>
                    <a:close/>
                    <a:moveTo>
                      <a:pt x="9230" y="2"/>
                    </a:moveTo>
                    <a:lnTo>
                      <a:pt x="9230" y="2"/>
                    </a:lnTo>
                    <a:cubicBezTo>
                      <a:pt x="9232" y="2"/>
                      <a:pt x="9232" y="3"/>
                      <a:pt x="9232" y="4"/>
                    </a:cubicBezTo>
                    <a:cubicBezTo>
                      <a:pt x="9232" y="5"/>
                      <a:pt x="9232" y="6"/>
                      <a:pt x="9230" y="6"/>
                    </a:cubicBezTo>
                    <a:lnTo>
                      <a:pt x="9230" y="6"/>
                    </a:lnTo>
                    <a:cubicBezTo>
                      <a:pt x="9229" y="6"/>
                      <a:pt x="9228" y="5"/>
                      <a:pt x="9228" y="4"/>
                    </a:cubicBezTo>
                    <a:cubicBezTo>
                      <a:pt x="9228" y="3"/>
                      <a:pt x="9229" y="2"/>
                      <a:pt x="9230" y="2"/>
                    </a:cubicBezTo>
                    <a:close/>
                    <a:moveTo>
                      <a:pt x="9238" y="2"/>
                    </a:moveTo>
                    <a:lnTo>
                      <a:pt x="9238" y="2"/>
                    </a:lnTo>
                    <a:cubicBezTo>
                      <a:pt x="9240" y="2"/>
                      <a:pt x="9240" y="3"/>
                      <a:pt x="9240" y="4"/>
                    </a:cubicBezTo>
                    <a:cubicBezTo>
                      <a:pt x="9240" y="5"/>
                      <a:pt x="9240" y="6"/>
                      <a:pt x="9238" y="6"/>
                    </a:cubicBezTo>
                    <a:lnTo>
                      <a:pt x="9238" y="6"/>
                    </a:lnTo>
                    <a:cubicBezTo>
                      <a:pt x="9237" y="6"/>
                      <a:pt x="9236" y="5"/>
                      <a:pt x="9236" y="4"/>
                    </a:cubicBezTo>
                    <a:cubicBezTo>
                      <a:pt x="9236" y="3"/>
                      <a:pt x="9237" y="2"/>
                      <a:pt x="9238" y="2"/>
                    </a:cubicBezTo>
                    <a:close/>
                    <a:moveTo>
                      <a:pt x="9246" y="2"/>
                    </a:moveTo>
                    <a:lnTo>
                      <a:pt x="9246" y="2"/>
                    </a:lnTo>
                    <a:cubicBezTo>
                      <a:pt x="9248" y="2"/>
                      <a:pt x="9248" y="3"/>
                      <a:pt x="9248" y="4"/>
                    </a:cubicBezTo>
                    <a:cubicBezTo>
                      <a:pt x="9248" y="5"/>
                      <a:pt x="9248" y="6"/>
                      <a:pt x="9246" y="6"/>
                    </a:cubicBezTo>
                    <a:lnTo>
                      <a:pt x="9246" y="6"/>
                    </a:lnTo>
                    <a:cubicBezTo>
                      <a:pt x="9245" y="6"/>
                      <a:pt x="9244" y="5"/>
                      <a:pt x="9244" y="4"/>
                    </a:cubicBezTo>
                    <a:cubicBezTo>
                      <a:pt x="9244" y="3"/>
                      <a:pt x="9245" y="2"/>
                      <a:pt x="9246" y="2"/>
                    </a:cubicBezTo>
                    <a:close/>
                    <a:moveTo>
                      <a:pt x="9254" y="2"/>
                    </a:moveTo>
                    <a:lnTo>
                      <a:pt x="9254" y="2"/>
                    </a:lnTo>
                    <a:cubicBezTo>
                      <a:pt x="9256" y="2"/>
                      <a:pt x="9256" y="3"/>
                      <a:pt x="9256" y="4"/>
                    </a:cubicBezTo>
                    <a:cubicBezTo>
                      <a:pt x="9256" y="5"/>
                      <a:pt x="9256" y="6"/>
                      <a:pt x="9254" y="6"/>
                    </a:cubicBezTo>
                    <a:lnTo>
                      <a:pt x="9254" y="6"/>
                    </a:lnTo>
                    <a:cubicBezTo>
                      <a:pt x="9253" y="6"/>
                      <a:pt x="9252" y="5"/>
                      <a:pt x="9252" y="4"/>
                    </a:cubicBezTo>
                    <a:cubicBezTo>
                      <a:pt x="9252" y="3"/>
                      <a:pt x="9253" y="2"/>
                      <a:pt x="9254" y="2"/>
                    </a:cubicBezTo>
                    <a:close/>
                    <a:moveTo>
                      <a:pt x="9262" y="2"/>
                    </a:moveTo>
                    <a:lnTo>
                      <a:pt x="9262" y="2"/>
                    </a:lnTo>
                    <a:cubicBezTo>
                      <a:pt x="9264" y="2"/>
                      <a:pt x="9264" y="3"/>
                      <a:pt x="9264" y="4"/>
                    </a:cubicBezTo>
                    <a:cubicBezTo>
                      <a:pt x="9264" y="5"/>
                      <a:pt x="9264" y="6"/>
                      <a:pt x="9262" y="6"/>
                    </a:cubicBezTo>
                    <a:lnTo>
                      <a:pt x="9262" y="6"/>
                    </a:lnTo>
                    <a:cubicBezTo>
                      <a:pt x="9261" y="6"/>
                      <a:pt x="9260" y="5"/>
                      <a:pt x="9260" y="4"/>
                    </a:cubicBezTo>
                    <a:cubicBezTo>
                      <a:pt x="9260" y="3"/>
                      <a:pt x="9261" y="2"/>
                      <a:pt x="9262" y="2"/>
                    </a:cubicBezTo>
                    <a:close/>
                    <a:moveTo>
                      <a:pt x="9270" y="2"/>
                    </a:moveTo>
                    <a:lnTo>
                      <a:pt x="9270" y="2"/>
                    </a:lnTo>
                    <a:cubicBezTo>
                      <a:pt x="9272" y="2"/>
                      <a:pt x="9272" y="3"/>
                      <a:pt x="9272" y="4"/>
                    </a:cubicBezTo>
                    <a:cubicBezTo>
                      <a:pt x="9272" y="5"/>
                      <a:pt x="9272" y="6"/>
                      <a:pt x="9270" y="6"/>
                    </a:cubicBezTo>
                    <a:lnTo>
                      <a:pt x="9270" y="6"/>
                    </a:lnTo>
                    <a:cubicBezTo>
                      <a:pt x="9269" y="6"/>
                      <a:pt x="9268" y="5"/>
                      <a:pt x="9268" y="4"/>
                    </a:cubicBezTo>
                    <a:cubicBezTo>
                      <a:pt x="9268" y="3"/>
                      <a:pt x="9269" y="2"/>
                      <a:pt x="9270" y="2"/>
                    </a:cubicBezTo>
                    <a:close/>
                    <a:moveTo>
                      <a:pt x="9278" y="2"/>
                    </a:moveTo>
                    <a:lnTo>
                      <a:pt x="9278" y="2"/>
                    </a:lnTo>
                    <a:cubicBezTo>
                      <a:pt x="9280" y="2"/>
                      <a:pt x="9280" y="3"/>
                      <a:pt x="9280" y="4"/>
                    </a:cubicBezTo>
                    <a:cubicBezTo>
                      <a:pt x="9280" y="5"/>
                      <a:pt x="9280" y="6"/>
                      <a:pt x="9278" y="6"/>
                    </a:cubicBezTo>
                    <a:lnTo>
                      <a:pt x="9278" y="6"/>
                    </a:lnTo>
                    <a:cubicBezTo>
                      <a:pt x="9277" y="6"/>
                      <a:pt x="9276" y="5"/>
                      <a:pt x="9276" y="4"/>
                    </a:cubicBezTo>
                    <a:cubicBezTo>
                      <a:pt x="9276" y="3"/>
                      <a:pt x="9277" y="2"/>
                      <a:pt x="9278" y="2"/>
                    </a:cubicBezTo>
                    <a:close/>
                    <a:moveTo>
                      <a:pt x="9286" y="2"/>
                    </a:moveTo>
                    <a:lnTo>
                      <a:pt x="9286" y="2"/>
                    </a:lnTo>
                    <a:cubicBezTo>
                      <a:pt x="9288" y="2"/>
                      <a:pt x="9288" y="3"/>
                      <a:pt x="9288" y="4"/>
                    </a:cubicBezTo>
                    <a:cubicBezTo>
                      <a:pt x="9288" y="5"/>
                      <a:pt x="9288" y="6"/>
                      <a:pt x="9286" y="6"/>
                    </a:cubicBezTo>
                    <a:lnTo>
                      <a:pt x="9286" y="6"/>
                    </a:lnTo>
                    <a:cubicBezTo>
                      <a:pt x="9285" y="6"/>
                      <a:pt x="9284" y="5"/>
                      <a:pt x="9284" y="4"/>
                    </a:cubicBezTo>
                    <a:cubicBezTo>
                      <a:pt x="9284" y="3"/>
                      <a:pt x="9285" y="2"/>
                      <a:pt x="9286" y="2"/>
                    </a:cubicBezTo>
                    <a:close/>
                    <a:moveTo>
                      <a:pt x="9294" y="2"/>
                    </a:moveTo>
                    <a:lnTo>
                      <a:pt x="9294" y="2"/>
                    </a:lnTo>
                    <a:cubicBezTo>
                      <a:pt x="9296" y="2"/>
                      <a:pt x="9296" y="3"/>
                      <a:pt x="9296" y="4"/>
                    </a:cubicBezTo>
                    <a:cubicBezTo>
                      <a:pt x="9296" y="5"/>
                      <a:pt x="9296" y="6"/>
                      <a:pt x="9294" y="6"/>
                    </a:cubicBezTo>
                    <a:lnTo>
                      <a:pt x="9294" y="6"/>
                    </a:lnTo>
                    <a:cubicBezTo>
                      <a:pt x="9293" y="6"/>
                      <a:pt x="9292" y="5"/>
                      <a:pt x="9292" y="4"/>
                    </a:cubicBezTo>
                    <a:cubicBezTo>
                      <a:pt x="9292" y="3"/>
                      <a:pt x="9293" y="2"/>
                      <a:pt x="9294" y="2"/>
                    </a:cubicBezTo>
                    <a:close/>
                    <a:moveTo>
                      <a:pt x="9302" y="2"/>
                    </a:moveTo>
                    <a:lnTo>
                      <a:pt x="9302" y="2"/>
                    </a:lnTo>
                    <a:cubicBezTo>
                      <a:pt x="9304" y="2"/>
                      <a:pt x="9304" y="3"/>
                      <a:pt x="9304" y="4"/>
                    </a:cubicBezTo>
                    <a:cubicBezTo>
                      <a:pt x="9304" y="5"/>
                      <a:pt x="9304" y="6"/>
                      <a:pt x="9302" y="6"/>
                    </a:cubicBezTo>
                    <a:lnTo>
                      <a:pt x="9302" y="6"/>
                    </a:lnTo>
                    <a:cubicBezTo>
                      <a:pt x="9301" y="6"/>
                      <a:pt x="9300" y="5"/>
                      <a:pt x="9300" y="4"/>
                    </a:cubicBezTo>
                    <a:cubicBezTo>
                      <a:pt x="9300" y="3"/>
                      <a:pt x="9301" y="2"/>
                      <a:pt x="9302" y="2"/>
                    </a:cubicBezTo>
                    <a:close/>
                    <a:moveTo>
                      <a:pt x="9310" y="2"/>
                    </a:moveTo>
                    <a:lnTo>
                      <a:pt x="9310" y="2"/>
                    </a:lnTo>
                    <a:cubicBezTo>
                      <a:pt x="9312" y="2"/>
                      <a:pt x="9312" y="3"/>
                      <a:pt x="9312" y="4"/>
                    </a:cubicBezTo>
                    <a:cubicBezTo>
                      <a:pt x="9312" y="5"/>
                      <a:pt x="9312" y="6"/>
                      <a:pt x="9310" y="6"/>
                    </a:cubicBezTo>
                    <a:lnTo>
                      <a:pt x="9310" y="6"/>
                    </a:lnTo>
                    <a:cubicBezTo>
                      <a:pt x="9309" y="6"/>
                      <a:pt x="9308" y="5"/>
                      <a:pt x="9308" y="4"/>
                    </a:cubicBezTo>
                    <a:cubicBezTo>
                      <a:pt x="9308" y="3"/>
                      <a:pt x="9309" y="2"/>
                      <a:pt x="9310" y="2"/>
                    </a:cubicBezTo>
                    <a:close/>
                    <a:moveTo>
                      <a:pt x="9318" y="2"/>
                    </a:moveTo>
                    <a:lnTo>
                      <a:pt x="9319" y="2"/>
                    </a:lnTo>
                    <a:cubicBezTo>
                      <a:pt x="9320" y="2"/>
                      <a:pt x="9321" y="3"/>
                      <a:pt x="9321" y="4"/>
                    </a:cubicBezTo>
                    <a:cubicBezTo>
                      <a:pt x="9321" y="5"/>
                      <a:pt x="9320" y="6"/>
                      <a:pt x="9319" y="6"/>
                    </a:cubicBezTo>
                    <a:lnTo>
                      <a:pt x="9318" y="6"/>
                    </a:lnTo>
                    <a:cubicBezTo>
                      <a:pt x="9317" y="6"/>
                      <a:pt x="9316" y="5"/>
                      <a:pt x="9316" y="4"/>
                    </a:cubicBezTo>
                    <a:cubicBezTo>
                      <a:pt x="9316" y="3"/>
                      <a:pt x="9317" y="2"/>
                      <a:pt x="9318" y="2"/>
                    </a:cubicBezTo>
                    <a:close/>
                    <a:moveTo>
                      <a:pt x="9327" y="2"/>
                    </a:moveTo>
                    <a:lnTo>
                      <a:pt x="9327" y="2"/>
                    </a:lnTo>
                    <a:cubicBezTo>
                      <a:pt x="9328" y="2"/>
                      <a:pt x="9329" y="3"/>
                      <a:pt x="9329" y="4"/>
                    </a:cubicBezTo>
                    <a:cubicBezTo>
                      <a:pt x="9329" y="5"/>
                      <a:pt x="9328" y="6"/>
                      <a:pt x="9327" y="6"/>
                    </a:cubicBezTo>
                    <a:lnTo>
                      <a:pt x="9327" y="6"/>
                    </a:lnTo>
                    <a:cubicBezTo>
                      <a:pt x="9325" y="6"/>
                      <a:pt x="9325" y="5"/>
                      <a:pt x="9325" y="4"/>
                    </a:cubicBezTo>
                    <a:cubicBezTo>
                      <a:pt x="9325" y="3"/>
                      <a:pt x="9325" y="2"/>
                      <a:pt x="9327" y="2"/>
                    </a:cubicBezTo>
                    <a:close/>
                    <a:moveTo>
                      <a:pt x="9335" y="2"/>
                    </a:moveTo>
                    <a:lnTo>
                      <a:pt x="9335" y="2"/>
                    </a:lnTo>
                    <a:cubicBezTo>
                      <a:pt x="9336" y="2"/>
                      <a:pt x="9337" y="3"/>
                      <a:pt x="9337" y="4"/>
                    </a:cubicBezTo>
                    <a:cubicBezTo>
                      <a:pt x="9337" y="5"/>
                      <a:pt x="9336" y="6"/>
                      <a:pt x="9335" y="6"/>
                    </a:cubicBezTo>
                    <a:lnTo>
                      <a:pt x="9335" y="6"/>
                    </a:lnTo>
                    <a:cubicBezTo>
                      <a:pt x="9333" y="6"/>
                      <a:pt x="9333" y="5"/>
                      <a:pt x="9333" y="4"/>
                    </a:cubicBezTo>
                    <a:cubicBezTo>
                      <a:pt x="9333" y="3"/>
                      <a:pt x="9333" y="2"/>
                      <a:pt x="9335" y="2"/>
                    </a:cubicBezTo>
                    <a:close/>
                    <a:moveTo>
                      <a:pt x="9343" y="2"/>
                    </a:moveTo>
                    <a:lnTo>
                      <a:pt x="9343" y="2"/>
                    </a:lnTo>
                    <a:cubicBezTo>
                      <a:pt x="9344" y="2"/>
                      <a:pt x="9345" y="3"/>
                      <a:pt x="9345" y="4"/>
                    </a:cubicBezTo>
                    <a:cubicBezTo>
                      <a:pt x="9345" y="5"/>
                      <a:pt x="9344" y="6"/>
                      <a:pt x="9343" y="6"/>
                    </a:cubicBezTo>
                    <a:lnTo>
                      <a:pt x="9343" y="6"/>
                    </a:lnTo>
                    <a:cubicBezTo>
                      <a:pt x="9341" y="6"/>
                      <a:pt x="9341" y="5"/>
                      <a:pt x="9341" y="4"/>
                    </a:cubicBezTo>
                    <a:cubicBezTo>
                      <a:pt x="9341" y="3"/>
                      <a:pt x="9341" y="2"/>
                      <a:pt x="9343" y="2"/>
                    </a:cubicBezTo>
                    <a:close/>
                    <a:moveTo>
                      <a:pt x="9351" y="2"/>
                    </a:moveTo>
                    <a:lnTo>
                      <a:pt x="9351" y="2"/>
                    </a:lnTo>
                    <a:cubicBezTo>
                      <a:pt x="9352" y="2"/>
                      <a:pt x="9353" y="3"/>
                      <a:pt x="9353" y="4"/>
                    </a:cubicBezTo>
                    <a:cubicBezTo>
                      <a:pt x="9353" y="5"/>
                      <a:pt x="9352" y="6"/>
                      <a:pt x="9351" y="6"/>
                    </a:cubicBezTo>
                    <a:lnTo>
                      <a:pt x="9351" y="6"/>
                    </a:lnTo>
                    <a:cubicBezTo>
                      <a:pt x="9349" y="6"/>
                      <a:pt x="9349" y="5"/>
                      <a:pt x="9349" y="4"/>
                    </a:cubicBezTo>
                    <a:cubicBezTo>
                      <a:pt x="9349" y="3"/>
                      <a:pt x="9349" y="2"/>
                      <a:pt x="9351" y="2"/>
                    </a:cubicBezTo>
                    <a:close/>
                    <a:moveTo>
                      <a:pt x="9359" y="2"/>
                    </a:moveTo>
                    <a:lnTo>
                      <a:pt x="9359" y="2"/>
                    </a:lnTo>
                    <a:cubicBezTo>
                      <a:pt x="9360" y="2"/>
                      <a:pt x="9361" y="3"/>
                      <a:pt x="9361" y="4"/>
                    </a:cubicBezTo>
                    <a:cubicBezTo>
                      <a:pt x="9361" y="5"/>
                      <a:pt x="9360" y="6"/>
                      <a:pt x="9359" y="6"/>
                    </a:cubicBezTo>
                    <a:lnTo>
                      <a:pt x="9359" y="6"/>
                    </a:lnTo>
                    <a:cubicBezTo>
                      <a:pt x="9357" y="6"/>
                      <a:pt x="9357" y="5"/>
                      <a:pt x="9357" y="4"/>
                    </a:cubicBezTo>
                    <a:cubicBezTo>
                      <a:pt x="9357" y="3"/>
                      <a:pt x="9357" y="2"/>
                      <a:pt x="9359" y="2"/>
                    </a:cubicBezTo>
                    <a:close/>
                    <a:moveTo>
                      <a:pt x="9367" y="2"/>
                    </a:moveTo>
                    <a:lnTo>
                      <a:pt x="9367" y="2"/>
                    </a:lnTo>
                    <a:cubicBezTo>
                      <a:pt x="9368" y="2"/>
                      <a:pt x="9369" y="3"/>
                      <a:pt x="9369" y="4"/>
                    </a:cubicBezTo>
                    <a:cubicBezTo>
                      <a:pt x="9369" y="5"/>
                      <a:pt x="9368" y="6"/>
                      <a:pt x="9367" y="6"/>
                    </a:cubicBezTo>
                    <a:lnTo>
                      <a:pt x="9367" y="6"/>
                    </a:lnTo>
                    <a:cubicBezTo>
                      <a:pt x="9365" y="6"/>
                      <a:pt x="9365" y="5"/>
                      <a:pt x="9365" y="4"/>
                    </a:cubicBezTo>
                    <a:cubicBezTo>
                      <a:pt x="9365" y="3"/>
                      <a:pt x="9365" y="2"/>
                      <a:pt x="9367" y="2"/>
                    </a:cubicBezTo>
                    <a:close/>
                    <a:moveTo>
                      <a:pt x="9375" y="2"/>
                    </a:moveTo>
                    <a:lnTo>
                      <a:pt x="9375" y="2"/>
                    </a:lnTo>
                    <a:cubicBezTo>
                      <a:pt x="9376" y="2"/>
                      <a:pt x="9377" y="3"/>
                      <a:pt x="9377" y="4"/>
                    </a:cubicBezTo>
                    <a:cubicBezTo>
                      <a:pt x="9377" y="5"/>
                      <a:pt x="9376" y="6"/>
                      <a:pt x="9375" y="6"/>
                    </a:cubicBezTo>
                    <a:lnTo>
                      <a:pt x="9375" y="6"/>
                    </a:lnTo>
                    <a:cubicBezTo>
                      <a:pt x="9373" y="6"/>
                      <a:pt x="9373" y="5"/>
                      <a:pt x="9373" y="4"/>
                    </a:cubicBezTo>
                    <a:cubicBezTo>
                      <a:pt x="9373" y="3"/>
                      <a:pt x="9373" y="2"/>
                      <a:pt x="9375" y="2"/>
                    </a:cubicBezTo>
                    <a:close/>
                    <a:moveTo>
                      <a:pt x="9383" y="2"/>
                    </a:moveTo>
                    <a:lnTo>
                      <a:pt x="9383" y="2"/>
                    </a:lnTo>
                    <a:cubicBezTo>
                      <a:pt x="9384" y="2"/>
                      <a:pt x="9385" y="3"/>
                      <a:pt x="9385" y="4"/>
                    </a:cubicBezTo>
                    <a:cubicBezTo>
                      <a:pt x="9385" y="5"/>
                      <a:pt x="9384" y="6"/>
                      <a:pt x="9383" y="6"/>
                    </a:cubicBezTo>
                    <a:lnTo>
                      <a:pt x="9383" y="6"/>
                    </a:lnTo>
                    <a:cubicBezTo>
                      <a:pt x="9381" y="6"/>
                      <a:pt x="9381" y="5"/>
                      <a:pt x="9381" y="4"/>
                    </a:cubicBezTo>
                    <a:cubicBezTo>
                      <a:pt x="9381" y="3"/>
                      <a:pt x="9381" y="2"/>
                      <a:pt x="9383" y="2"/>
                    </a:cubicBezTo>
                    <a:close/>
                    <a:moveTo>
                      <a:pt x="9391" y="2"/>
                    </a:moveTo>
                    <a:lnTo>
                      <a:pt x="9391" y="2"/>
                    </a:lnTo>
                    <a:cubicBezTo>
                      <a:pt x="9392" y="2"/>
                      <a:pt x="9393" y="3"/>
                      <a:pt x="9393" y="4"/>
                    </a:cubicBezTo>
                    <a:cubicBezTo>
                      <a:pt x="9393" y="5"/>
                      <a:pt x="9392" y="6"/>
                      <a:pt x="9391" y="6"/>
                    </a:cubicBezTo>
                    <a:lnTo>
                      <a:pt x="9391" y="6"/>
                    </a:lnTo>
                    <a:cubicBezTo>
                      <a:pt x="9389" y="6"/>
                      <a:pt x="9389" y="5"/>
                      <a:pt x="9389" y="4"/>
                    </a:cubicBezTo>
                    <a:cubicBezTo>
                      <a:pt x="9389" y="3"/>
                      <a:pt x="9389" y="2"/>
                      <a:pt x="9391" y="2"/>
                    </a:cubicBezTo>
                    <a:close/>
                    <a:moveTo>
                      <a:pt x="9399" y="2"/>
                    </a:moveTo>
                    <a:lnTo>
                      <a:pt x="9399" y="2"/>
                    </a:lnTo>
                    <a:cubicBezTo>
                      <a:pt x="9400" y="2"/>
                      <a:pt x="9401" y="3"/>
                      <a:pt x="9401" y="4"/>
                    </a:cubicBezTo>
                    <a:cubicBezTo>
                      <a:pt x="9401" y="5"/>
                      <a:pt x="9400" y="6"/>
                      <a:pt x="9399" y="6"/>
                    </a:cubicBezTo>
                    <a:lnTo>
                      <a:pt x="9399" y="6"/>
                    </a:lnTo>
                    <a:cubicBezTo>
                      <a:pt x="9397" y="6"/>
                      <a:pt x="9397" y="5"/>
                      <a:pt x="9397" y="4"/>
                    </a:cubicBezTo>
                    <a:cubicBezTo>
                      <a:pt x="9397" y="3"/>
                      <a:pt x="9397" y="2"/>
                      <a:pt x="9399" y="2"/>
                    </a:cubicBezTo>
                    <a:close/>
                    <a:moveTo>
                      <a:pt x="9407" y="2"/>
                    </a:moveTo>
                    <a:lnTo>
                      <a:pt x="9407" y="2"/>
                    </a:lnTo>
                    <a:cubicBezTo>
                      <a:pt x="9408" y="2"/>
                      <a:pt x="9409" y="3"/>
                      <a:pt x="9409" y="4"/>
                    </a:cubicBezTo>
                    <a:cubicBezTo>
                      <a:pt x="9409" y="5"/>
                      <a:pt x="9408" y="6"/>
                      <a:pt x="9407" y="6"/>
                    </a:cubicBezTo>
                    <a:lnTo>
                      <a:pt x="9407" y="6"/>
                    </a:lnTo>
                    <a:cubicBezTo>
                      <a:pt x="9405" y="6"/>
                      <a:pt x="9405" y="5"/>
                      <a:pt x="9405" y="4"/>
                    </a:cubicBezTo>
                    <a:cubicBezTo>
                      <a:pt x="9405" y="3"/>
                      <a:pt x="9405" y="2"/>
                      <a:pt x="9407" y="2"/>
                    </a:cubicBezTo>
                    <a:close/>
                    <a:moveTo>
                      <a:pt x="9415" y="2"/>
                    </a:moveTo>
                    <a:lnTo>
                      <a:pt x="9415" y="2"/>
                    </a:lnTo>
                    <a:cubicBezTo>
                      <a:pt x="9416" y="2"/>
                      <a:pt x="9417" y="3"/>
                      <a:pt x="9417" y="4"/>
                    </a:cubicBezTo>
                    <a:cubicBezTo>
                      <a:pt x="9417" y="5"/>
                      <a:pt x="9416" y="6"/>
                      <a:pt x="9415" y="6"/>
                    </a:cubicBezTo>
                    <a:lnTo>
                      <a:pt x="9415" y="6"/>
                    </a:lnTo>
                    <a:cubicBezTo>
                      <a:pt x="9413" y="6"/>
                      <a:pt x="9413" y="5"/>
                      <a:pt x="9413" y="4"/>
                    </a:cubicBezTo>
                    <a:cubicBezTo>
                      <a:pt x="9413" y="3"/>
                      <a:pt x="9413" y="2"/>
                      <a:pt x="9415" y="2"/>
                    </a:cubicBezTo>
                    <a:close/>
                    <a:moveTo>
                      <a:pt x="9423" y="2"/>
                    </a:moveTo>
                    <a:lnTo>
                      <a:pt x="9423" y="2"/>
                    </a:lnTo>
                    <a:cubicBezTo>
                      <a:pt x="9424" y="2"/>
                      <a:pt x="9425" y="3"/>
                      <a:pt x="9425" y="4"/>
                    </a:cubicBezTo>
                    <a:cubicBezTo>
                      <a:pt x="9425" y="5"/>
                      <a:pt x="9424" y="6"/>
                      <a:pt x="9423" y="6"/>
                    </a:cubicBezTo>
                    <a:lnTo>
                      <a:pt x="9423" y="6"/>
                    </a:lnTo>
                    <a:cubicBezTo>
                      <a:pt x="9421" y="6"/>
                      <a:pt x="9421" y="5"/>
                      <a:pt x="9421" y="4"/>
                    </a:cubicBezTo>
                    <a:cubicBezTo>
                      <a:pt x="9421" y="3"/>
                      <a:pt x="9421" y="2"/>
                      <a:pt x="9423" y="2"/>
                    </a:cubicBezTo>
                    <a:close/>
                    <a:moveTo>
                      <a:pt x="9431" y="2"/>
                    </a:moveTo>
                    <a:lnTo>
                      <a:pt x="9431" y="2"/>
                    </a:lnTo>
                    <a:cubicBezTo>
                      <a:pt x="9432" y="2"/>
                      <a:pt x="9433" y="3"/>
                      <a:pt x="9433" y="4"/>
                    </a:cubicBezTo>
                    <a:cubicBezTo>
                      <a:pt x="9433" y="5"/>
                      <a:pt x="9432" y="6"/>
                      <a:pt x="9431" y="6"/>
                    </a:cubicBezTo>
                    <a:lnTo>
                      <a:pt x="9431" y="6"/>
                    </a:lnTo>
                    <a:cubicBezTo>
                      <a:pt x="9429" y="6"/>
                      <a:pt x="9429" y="5"/>
                      <a:pt x="9429" y="4"/>
                    </a:cubicBezTo>
                    <a:cubicBezTo>
                      <a:pt x="9429" y="3"/>
                      <a:pt x="9429" y="2"/>
                      <a:pt x="9431" y="2"/>
                    </a:cubicBezTo>
                    <a:close/>
                    <a:moveTo>
                      <a:pt x="9439" y="2"/>
                    </a:moveTo>
                    <a:lnTo>
                      <a:pt x="9439" y="2"/>
                    </a:lnTo>
                    <a:cubicBezTo>
                      <a:pt x="9440" y="2"/>
                      <a:pt x="9441" y="3"/>
                      <a:pt x="9441" y="4"/>
                    </a:cubicBezTo>
                    <a:cubicBezTo>
                      <a:pt x="9441" y="5"/>
                      <a:pt x="9440" y="6"/>
                      <a:pt x="9439" y="6"/>
                    </a:cubicBezTo>
                    <a:lnTo>
                      <a:pt x="9439" y="6"/>
                    </a:lnTo>
                    <a:cubicBezTo>
                      <a:pt x="9437" y="6"/>
                      <a:pt x="9437" y="5"/>
                      <a:pt x="9437" y="4"/>
                    </a:cubicBezTo>
                    <a:cubicBezTo>
                      <a:pt x="9437" y="3"/>
                      <a:pt x="9437" y="2"/>
                      <a:pt x="9439" y="2"/>
                    </a:cubicBezTo>
                    <a:close/>
                    <a:moveTo>
                      <a:pt x="9447" y="2"/>
                    </a:moveTo>
                    <a:lnTo>
                      <a:pt x="9447" y="2"/>
                    </a:lnTo>
                    <a:cubicBezTo>
                      <a:pt x="9448" y="2"/>
                      <a:pt x="9449" y="3"/>
                      <a:pt x="9449" y="4"/>
                    </a:cubicBezTo>
                    <a:cubicBezTo>
                      <a:pt x="9449" y="5"/>
                      <a:pt x="9448" y="6"/>
                      <a:pt x="9447" y="6"/>
                    </a:cubicBezTo>
                    <a:lnTo>
                      <a:pt x="9447" y="6"/>
                    </a:lnTo>
                    <a:cubicBezTo>
                      <a:pt x="9445" y="6"/>
                      <a:pt x="9445" y="5"/>
                      <a:pt x="9445" y="4"/>
                    </a:cubicBezTo>
                    <a:cubicBezTo>
                      <a:pt x="9445" y="3"/>
                      <a:pt x="9445" y="2"/>
                      <a:pt x="9447" y="2"/>
                    </a:cubicBezTo>
                    <a:close/>
                    <a:moveTo>
                      <a:pt x="9455" y="2"/>
                    </a:moveTo>
                    <a:lnTo>
                      <a:pt x="9455" y="2"/>
                    </a:lnTo>
                    <a:cubicBezTo>
                      <a:pt x="9456" y="2"/>
                      <a:pt x="9457" y="3"/>
                      <a:pt x="9457" y="4"/>
                    </a:cubicBezTo>
                    <a:cubicBezTo>
                      <a:pt x="9457" y="5"/>
                      <a:pt x="9456" y="6"/>
                      <a:pt x="9455" y="6"/>
                    </a:cubicBezTo>
                    <a:lnTo>
                      <a:pt x="9455" y="6"/>
                    </a:lnTo>
                    <a:cubicBezTo>
                      <a:pt x="9453" y="6"/>
                      <a:pt x="9453" y="5"/>
                      <a:pt x="9453" y="4"/>
                    </a:cubicBezTo>
                    <a:cubicBezTo>
                      <a:pt x="9453" y="3"/>
                      <a:pt x="9453" y="2"/>
                      <a:pt x="9455" y="2"/>
                    </a:cubicBezTo>
                    <a:close/>
                    <a:moveTo>
                      <a:pt x="9463" y="2"/>
                    </a:moveTo>
                    <a:lnTo>
                      <a:pt x="9463" y="2"/>
                    </a:lnTo>
                    <a:cubicBezTo>
                      <a:pt x="9464" y="2"/>
                      <a:pt x="9465" y="3"/>
                      <a:pt x="9465" y="4"/>
                    </a:cubicBezTo>
                    <a:cubicBezTo>
                      <a:pt x="9465" y="5"/>
                      <a:pt x="9464" y="6"/>
                      <a:pt x="9463" y="6"/>
                    </a:cubicBezTo>
                    <a:lnTo>
                      <a:pt x="9463" y="6"/>
                    </a:lnTo>
                    <a:cubicBezTo>
                      <a:pt x="9461" y="6"/>
                      <a:pt x="9461" y="5"/>
                      <a:pt x="9461" y="4"/>
                    </a:cubicBezTo>
                    <a:cubicBezTo>
                      <a:pt x="9461" y="3"/>
                      <a:pt x="9461" y="2"/>
                      <a:pt x="9463" y="2"/>
                    </a:cubicBezTo>
                    <a:close/>
                    <a:moveTo>
                      <a:pt x="9471" y="2"/>
                    </a:moveTo>
                    <a:lnTo>
                      <a:pt x="9471" y="2"/>
                    </a:lnTo>
                    <a:cubicBezTo>
                      <a:pt x="9472" y="2"/>
                      <a:pt x="9473" y="3"/>
                      <a:pt x="9473" y="4"/>
                    </a:cubicBezTo>
                    <a:cubicBezTo>
                      <a:pt x="9473" y="5"/>
                      <a:pt x="9472" y="6"/>
                      <a:pt x="9471" y="6"/>
                    </a:cubicBezTo>
                    <a:lnTo>
                      <a:pt x="9471" y="6"/>
                    </a:lnTo>
                    <a:cubicBezTo>
                      <a:pt x="9469" y="6"/>
                      <a:pt x="9469" y="5"/>
                      <a:pt x="9469" y="4"/>
                    </a:cubicBezTo>
                    <a:cubicBezTo>
                      <a:pt x="9469" y="3"/>
                      <a:pt x="9469" y="2"/>
                      <a:pt x="9471" y="2"/>
                    </a:cubicBezTo>
                    <a:close/>
                    <a:moveTo>
                      <a:pt x="9479" y="2"/>
                    </a:moveTo>
                    <a:lnTo>
                      <a:pt x="9479" y="2"/>
                    </a:lnTo>
                    <a:cubicBezTo>
                      <a:pt x="9480" y="2"/>
                      <a:pt x="9481" y="3"/>
                      <a:pt x="9481" y="4"/>
                    </a:cubicBezTo>
                    <a:cubicBezTo>
                      <a:pt x="9481" y="5"/>
                      <a:pt x="9480" y="6"/>
                      <a:pt x="9479" y="6"/>
                    </a:cubicBezTo>
                    <a:lnTo>
                      <a:pt x="9479" y="6"/>
                    </a:lnTo>
                    <a:cubicBezTo>
                      <a:pt x="9477" y="6"/>
                      <a:pt x="9477" y="5"/>
                      <a:pt x="9477" y="4"/>
                    </a:cubicBezTo>
                    <a:cubicBezTo>
                      <a:pt x="9477" y="3"/>
                      <a:pt x="9477" y="2"/>
                      <a:pt x="9479" y="2"/>
                    </a:cubicBezTo>
                    <a:close/>
                    <a:moveTo>
                      <a:pt x="9487" y="2"/>
                    </a:moveTo>
                    <a:lnTo>
                      <a:pt x="9487" y="2"/>
                    </a:lnTo>
                    <a:cubicBezTo>
                      <a:pt x="9488" y="2"/>
                      <a:pt x="9489" y="3"/>
                      <a:pt x="9489" y="4"/>
                    </a:cubicBezTo>
                    <a:cubicBezTo>
                      <a:pt x="9489" y="5"/>
                      <a:pt x="9488" y="6"/>
                      <a:pt x="9487" y="6"/>
                    </a:cubicBezTo>
                    <a:lnTo>
                      <a:pt x="9487" y="6"/>
                    </a:lnTo>
                    <a:cubicBezTo>
                      <a:pt x="9485" y="6"/>
                      <a:pt x="9485" y="5"/>
                      <a:pt x="9485" y="4"/>
                    </a:cubicBezTo>
                    <a:cubicBezTo>
                      <a:pt x="9485" y="3"/>
                      <a:pt x="9485" y="2"/>
                      <a:pt x="9487" y="2"/>
                    </a:cubicBezTo>
                    <a:close/>
                    <a:moveTo>
                      <a:pt x="9495" y="2"/>
                    </a:moveTo>
                    <a:lnTo>
                      <a:pt x="9495" y="2"/>
                    </a:lnTo>
                    <a:cubicBezTo>
                      <a:pt x="9496" y="2"/>
                      <a:pt x="9497" y="3"/>
                      <a:pt x="9497" y="4"/>
                    </a:cubicBezTo>
                    <a:cubicBezTo>
                      <a:pt x="9497" y="5"/>
                      <a:pt x="9496" y="6"/>
                      <a:pt x="9495" y="6"/>
                    </a:cubicBezTo>
                    <a:lnTo>
                      <a:pt x="9495" y="6"/>
                    </a:lnTo>
                    <a:cubicBezTo>
                      <a:pt x="9493" y="6"/>
                      <a:pt x="9493" y="5"/>
                      <a:pt x="9493" y="4"/>
                    </a:cubicBezTo>
                    <a:cubicBezTo>
                      <a:pt x="9493" y="3"/>
                      <a:pt x="9493" y="2"/>
                      <a:pt x="9495" y="2"/>
                    </a:cubicBezTo>
                    <a:close/>
                    <a:moveTo>
                      <a:pt x="9503" y="2"/>
                    </a:moveTo>
                    <a:lnTo>
                      <a:pt x="9503" y="2"/>
                    </a:lnTo>
                    <a:cubicBezTo>
                      <a:pt x="9504" y="2"/>
                      <a:pt x="9505" y="3"/>
                      <a:pt x="9505" y="4"/>
                    </a:cubicBezTo>
                    <a:cubicBezTo>
                      <a:pt x="9505" y="5"/>
                      <a:pt x="9504" y="6"/>
                      <a:pt x="9503" y="6"/>
                    </a:cubicBezTo>
                    <a:lnTo>
                      <a:pt x="9503" y="6"/>
                    </a:lnTo>
                    <a:cubicBezTo>
                      <a:pt x="9502" y="6"/>
                      <a:pt x="9501" y="5"/>
                      <a:pt x="9501" y="4"/>
                    </a:cubicBezTo>
                    <a:cubicBezTo>
                      <a:pt x="9501" y="3"/>
                      <a:pt x="9502" y="2"/>
                      <a:pt x="9503" y="2"/>
                    </a:cubicBezTo>
                    <a:close/>
                    <a:moveTo>
                      <a:pt x="9511" y="2"/>
                    </a:moveTo>
                    <a:lnTo>
                      <a:pt x="9511" y="2"/>
                    </a:lnTo>
                    <a:cubicBezTo>
                      <a:pt x="9512" y="2"/>
                      <a:pt x="9513" y="3"/>
                      <a:pt x="9513" y="4"/>
                    </a:cubicBezTo>
                    <a:cubicBezTo>
                      <a:pt x="9513" y="5"/>
                      <a:pt x="9512" y="6"/>
                      <a:pt x="9511" y="6"/>
                    </a:cubicBezTo>
                    <a:lnTo>
                      <a:pt x="9511" y="6"/>
                    </a:lnTo>
                    <a:cubicBezTo>
                      <a:pt x="9510" y="6"/>
                      <a:pt x="9509" y="5"/>
                      <a:pt x="9509" y="4"/>
                    </a:cubicBezTo>
                    <a:cubicBezTo>
                      <a:pt x="9509" y="3"/>
                      <a:pt x="9510" y="2"/>
                      <a:pt x="9511" y="2"/>
                    </a:cubicBezTo>
                    <a:close/>
                    <a:moveTo>
                      <a:pt x="9519" y="2"/>
                    </a:moveTo>
                    <a:lnTo>
                      <a:pt x="9519" y="2"/>
                    </a:lnTo>
                    <a:cubicBezTo>
                      <a:pt x="9520" y="2"/>
                      <a:pt x="9521" y="3"/>
                      <a:pt x="9521" y="4"/>
                    </a:cubicBezTo>
                    <a:cubicBezTo>
                      <a:pt x="9521" y="5"/>
                      <a:pt x="9520" y="6"/>
                      <a:pt x="9519" y="6"/>
                    </a:cubicBezTo>
                    <a:lnTo>
                      <a:pt x="9519" y="6"/>
                    </a:lnTo>
                    <a:cubicBezTo>
                      <a:pt x="9518" y="6"/>
                      <a:pt x="9517" y="5"/>
                      <a:pt x="9517" y="4"/>
                    </a:cubicBezTo>
                    <a:cubicBezTo>
                      <a:pt x="9517" y="3"/>
                      <a:pt x="9518" y="2"/>
                      <a:pt x="9519" y="2"/>
                    </a:cubicBezTo>
                    <a:close/>
                    <a:moveTo>
                      <a:pt x="9527" y="2"/>
                    </a:moveTo>
                    <a:lnTo>
                      <a:pt x="9527" y="2"/>
                    </a:lnTo>
                    <a:cubicBezTo>
                      <a:pt x="9528" y="2"/>
                      <a:pt x="9529" y="3"/>
                      <a:pt x="9529" y="4"/>
                    </a:cubicBezTo>
                    <a:cubicBezTo>
                      <a:pt x="9529" y="5"/>
                      <a:pt x="9528" y="6"/>
                      <a:pt x="9527" y="6"/>
                    </a:cubicBezTo>
                    <a:lnTo>
                      <a:pt x="9527" y="6"/>
                    </a:lnTo>
                    <a:cubicBezTo>
                      <a:pt x="9526" y="6"/>
                      <a:pt x="9525" y="5"/>
                      <a:pt x="9525" y="4"/>
                    </a:cubicBezTo>
                    <a:cubicBezTo>
                      <a:pt x="9525" y="3"/>
                      <a:pt x="9526" y="2"/>
                      <a:pt x="9527" y="2"/>
                    </a:cubicBezTo>
                    <a:close/>
                    <a:moveTo>
                      <a:pt x="9535" y="2"/>
                    </a:moveTo>
                    <a:lnTo>
                      <a:pt x="9535" y="2"/>
                    </a:lnTo>
                    <a:cubicBezTo>
                      <a:pt x="9536" y="2"/>
                      <a:pt x="9537" y="3"/>
                      <a:pt x="9537" y="4"/>
                    </a:cubicBezTo>
                    <a:cubicBezTo>
                      <a:pt x="9537" y="5"/>
                      <a:pt x="9536" y="6"/>
                      <a:pt x="9535" y="6"/>
                    </a:cubicBezTo>
                    <a:lnTo>
                      <a:pt x="9535" y="6"/>
                    </a:lnTo>
                    <a:cubicBezTo>
                      <a:pt x="9534" y="6"/>
                      <a:pt x="9533" y="5"/>
                      <a:pt x="9533" y="4"/>
                    </a:cubicBezTo>
                    <a:cubicBezTo>
                      <a:pt x="9533" y="3"/>
                      <a:pt x="9534" y="2"/>
                      <a:pt x="9535" y="2"/>
                    </a:cubicBezTo>
                    <a:close/>
                    <a:moveTo>
                      <a:pt x="9543" y="2"/>
                    </a:moveTo>
                    <a:lnTo>
                      <a:pt x="9543" y="2"/>
                    </a:lnTo>
                    <a:cubicBezTo>
                      <a:pt x="9544" y="2"/>
                      <a:pt x="9545" y="3"/>
                      <a:pt x="9545" y="4"/>
                    </a:cubicBezTo>
                    <a:cubicBezTo>
                      <a:pt x="9545" y="5"/>
                      <a:pt x="9544" y="6"/>
                      <a:pt x="9543" y="6"/>
                    </a:cubicBezTo>
                    <a:lnTo>
                      <a:pt x="9543" y="6"/>
                    </a:lnTo>
                    <a:cubicBezTo>
                      <a:pt x="9542" y="6"/>
                      <a:pt x="9541" y="5"/>
                      <a:pt x="9541" y="4"/>
                    </a:cubicBezTo>
                    <a:cubicBezTo>
                      <a:pt x="9541" y="3"/>
                      <a:pt x="9542" y="2"/>
                      <a:pt x="9543" y="2"/>
                    </a:cubicBezTo>
                    <a:close/>
                    <a:moveTo>
                      <a:pt x="9551" y="2"/>
                    </a:moveTo>
                    <a:lnTo>
                      <a:pt x="9551" y="2"/>
                    </a:lnTo>
                    <a:cubicBezTo>
                      <a:pt x="9552" y="2"/>
                      <a:pt x="9553" y="3"/>
                      <a:pt x="9553" y="4"/>
                    </a:cubicBezTo>
                    <a:cubicBezTo>
                      <a:pt x="9553" y="5"/>
                      <a:pt x="9552" y="6"/>
                      <a:pt x="9551" y="6"/>
                    </a:cubicBezTo>
                    <a:lnTo>
                      <a:pt x="9551" y="6"/>
                    </a:lnTo>
                    <a:cubicBezTo>
                      <a:pt x="9550" y="6"/>
                      <a:pt x="9549" y="5"/>
                      <a:pt x="9549" y="4"/>
                    </a:cubicBezTo>
                    <a:cubicBezTo>
                      <a:pt x="9549" y="3"/>
                      <a:pt x="9550" y="2"/>
                      <a:pt x="9551" y="2"/>
                    </a:cubicBezTo>
                    <a:close/>
                    <a:moveTo>
                      <a:pt x="9559" y="2"/>
                    </a:moveTo>
                    <a:lnTo>
                      <a:pt x="9559" y="2"/>
                    </a:lnTo>
                    <a:cubicBezTo>
                      <a:pt x="9560" y="2"/>
                      <a:pt x="9561" y="3"/>
                      <a:pt x="9561" y="4"/>
                    </a:cubicBezTo>
                    <a:cubicBezTo>
                      <a:pt x="9561" y="5"/>
                      <a:pt x="9560" y="6"/>
                      <a:pt x="9559" y="6"/>
                    </a:cubicBezTo>
                    <a:lnTo>
                      <a:pt x="9559" y="6"/>
                    </a:lnTo>
                    <a:cubicBezTo>
                      <a:pt x="9558" y="6"/>
                      <a:pt x="9557" y="5"/>
                      <a:pt x="9557" y="4"/>
                    </a:cubicBezTo>
                    <a:cubicBezTo>
                      <a:pt x="9557" y="3"/>
                      <a:pt x="9558" y="2"/>
                      <a:pt x="9559" y="2"/>
                    </a:cubicBezTo>
                    <a:close/>
                    <a:moveTo>
                      <a:pt x="9567" y="2"/>
                    </a:moveTo>
                    <a:lnTo>
                      <a:pt x="9567" y="2"/>
                    </a:lnTo>
                    <a:cubicBezTo>
                      <a:pt x="9568" y="2"/>
                      <a:pt x="9569" y="3"/>
                      <a:pt x="9569" y="4"/>
                    </a:cubicBezTo>
                    <a:cubicBezTo>
                      <a:pt x="9569" y="5"/>
                      <a:pt x="9568" y="6"/>
                      <a:pt x="9567" y="6"/>
                    </a:cubicBezTo>
                    <a:lnTo>
                      <a:pt x="9567" y="6"/>
                    </a:lnTo>
                    <a:cubicBezTo>
                      <a:pt x="9566" y="6"/>
                      <a:pt x="9565" y="5"/>
                      <a:pt x="9565" y="4"/>
                    </a:cubicBezTo>
                    <a:cubicBezTo>
                      <a:pt x="9565" y="3"/>
                      <a:pt x="9566" y="2"/>
                      <a:pt x="9567" y="2"/>
                    </a:cubicBezTo>
                    <a:close/>
                    <a:moveTo>
                      <a:pt x="9575" y="2"/>
                    </a:moveTo>
                    <a:lnTo>
                      <a:pt x="9575" y="2"/>
                    </a:lnTo>
                    <a:cubicBezTo>
                      <a:pt x="9576" y="2"/>
                      <a:pt x="9577" y="3"/>
                      <a:pt x="9577" y="4"/>
                    </a:cubicBezTo>
                    <a:cubicBezTo>
                      <a:pt x="9577" y="5"/>
                      <a:pt x="9576" y="6"/>
                      <a:pt x="9575" y="6"/>
                    </a:cubicBezTo>
                    <a:lnTo>
                      <a:pt x="9575" y="6"/>
                    </a:lnTo>
                    <a:cubicBezTo>
                      <a:pt x="9574" y="6"/>
                      <a:pt x="9573" y="5"/>
                      <a:pt x="9573" y="4"/>
                    </a:cubicBezTo>
                    <a:cubicBezTo>
                      <a:pt x="9573" y="3"/>
                      <a:pt x="9574" y="2"/>
                      <a:pt x="9575" y="2"/>
                    </a:cubicBezTo>
                    <a:close/>
                    <a:moveTo>
                      <a:pt x="9583" y="2"/>
                    </a:moveTo>
                    <a:lnTo>
                      <a:pt x="9583" y="2"/>
                    </a:lnTo>
                    <a:cubicBezTo>
                      <a:pt x="9584" y="2"/>
                      <a:pt x="9585" y="3"/>
                      <a:pt x="9585" y="4"/>
                    </a:cubicBezTo>
                    <a:cubicBezTo>
                      <a:pt x="9585" y="5"/>
                      <a:pt x="9584" y="6"/>
                      <a:pt x="9583" y="6"/>
                    </a:cubicBezTo>
                    <a:lnTo>
                      <a:pt x="9583" y="6"/>
                    </a:lnTo>
                    <a:cubicBezTo>
                      <a:pt x="9582" y="6"/>
                      <a:pt x="9581" y="5"/>
                      <a:pt x="9581" y="4"/>
                    </a:cubicBezTo>
                    <a:cubicBezTo>
                      <a:pt x="9581" y="3"/>
                      <a:pt x="9582" y="2"/>
                      <a:pt x="9583" y="2"/>
                    </a:cubicBezTo>
                    <a:close/>
                    <a:moveTo>
                      <a:pt x="9591" y="2"/>
                    </a:moveTo>
                    <a:lnTo>
                      <a:pt x="9591" y="2"/>
                    </a:lnTo>
                    <a:cubicBezTo>
                      <a:pt x="9592" y="2"/>
                      <a:pt x="9593" y="3"/>
                      <a:pt x="9593" y="4"/>
                    </a:cubicBezTo>
                    <a:cubicBezTo>
                      <a:pt x="9593" y="5"/>
                      <a:pt x="9592" y="6"/>
                      <a:pt x="9591" y="6"/>
                    </a:cubicBezTo>
                    <a:lnTo>
                      <a:pt x="9591" y="6"/>
                    </a:lnTo>
                    <a:cubicBezTo>
                      <a:pt x="9590" y="6"/>
                      <a:pt x="9589" y="5"/>
                      <a:pt x="9589" y="4"/>
                    </a:cubicBezTo>
                    <a:cubicBezTo>
                      <a:pt x="9589" y="3"/>
                      <a:pt x="9590" y="2"/>
                      <a:pt x="9591" y="2"/>
                    </a:cubicBezTo>
                    <a:close/>
                    <a:moveTo>
                      <a:pt x="9599" y="2"/>
                    </a:moveTo>
                    <a:lnTo>
                      <a:pt x="9599" y="2"/>
                    </a:lnTo>
                    <a:cubicBezTo>
                      <a:pt x="9600" y="2"/>
                      <a:pt x="9601" y="3"/>
                      <a:pt x="9601" y="4"/>
                    </a:cubicBezTo>
                    <a:cubicBezTo>
                      <a:pt x="9601" y="5"/>
                      <a:pt x="9600" y="6"/>
                      <a:pt x="9599" y="6"/>
                    </a:cubicBezTo>
                    <a:lnTo>
                      <a:pt x="9599" y="6"/>
                    </a:lnTo>
                    <a:cubicBezTo>
                      <a:pt x="9598" y="6"/>
                      <a:pt x="9597" y="5"/>
                      <a:pt x="9597" y="4"/>
                    </a:cubicBezTo>
                    <a:cubicBezTo>
                      <a:pt x="9597" y="3"/>
                      <a:pt x="9598" y="2"/>
                      <a:pt x="9599" y="2"/>
                    </a:cubicBezTo>
                    <a:close/>
                    <a:moveTo>
                      <a:pt x="9607" y="2"/>
                    </a:moveTo>
                    <a:lnTo>
                      <a:pt x="9607" y="2"/>
                    </a:lnTo>
                    <a:cubicBezTo>
                      <a:pt x="9608" y="2"/>
                      <a:pt x="9609" y="3"/>
                      <a:pt x="9609" y="4"/>
                    </a:cubicBezTo>
                    <a:cubicBezTo>
                      <a:pt x="9609" y="5"/>
                      <a:pt x="9608" y="6"/>
                      <a:pt x="9607" y="6"/>
                    </a:cubicBezTo>
                    <a:lnTo>
                      <a:pt x="9607" y="6"/>
                    </a:lnTo>
                    <a:cubicBezTo>
                      <a:pt x="9606" y="6"/>
                      <a:pt x="9605" y="5"/>
                      <a:pt x="9605" y="4"/>
                    </a:cubicBezTo>
                    <a:cubicBezTo>
                      <a:pt x="9605" y="3"/>
                      <a:pt x="9606" y="2"/>
                      <a:pt x="9607" y="2"/>
                    </a:cubicBezTo>
                    <a:close/>
                    <a:moveTo>
                      <a:pt x="9615" y="2"/>
                    </a:moveTo>
                    <a:lnTo>
                      <a:pt x="9615" y="2"/>
                    </a:lnTo>
                    <a:cubicBezTo>
                      <a:pt x="9616" y="2"/>
                      <a:pt x="9617" y="3"/>
                      <a:pt x="9617" y="4"/>
                    </a:cubicBezTo>
                    <a:cubicBezTo>
                      <a:pt x="9617" y="5"/>
                      <a:pt x="9616" y="6"/>
                      <a:pt x="9615" y="6"/>
                    </a:cubicBezTo>
                    <a:lnTo>
                      <a:pt x="9615" y="6"/>
                    </a:lnTo>
                    <a:cubicBezTo>
                      <a:pt x="9614" y="6"/>
                      <a:pt x="9613" y="5"/>
                      <a:pt x="9613" y="4"/>
                    </a:cubicBezTo>
                    <a:cubicBezTo>
                      <a:pt x="9613" y="3"/>
                      <a:pt x="9614" y="2"/>
                      <a:pt x="9615" y="2"/>
                    </a:cubicBezTo>
                    <a:close/>
                    <a:moveTo>
                      <a:pt x="9623" y="2"/>
                    </a:moveTo>
                    <a:lnTo>
                      <a:pt x="9623" y="2"/>
                    </a:lnTo>
                    <a:cubicBezTo>
                      <a:pt x="9624" y="2"/>
                      <a:pt x="9625" y="3"/>
                      <a:pt x="9625" y="4"/>
                    </a:cubicBezTo>
                    <a:cubicBezTo>
                      <a:pt x="9625" y="5"/>
                      <a:pt x="9624" y="6"/>
                      <a:pt x="9623" y="6"/>
                    </a:cubicBezTo>
                    <a:lnTo>
                      <a:pt x="9623" y="6"/>
                    </a:lnTo>
                    <a:cubicBezTo>
                      <a:pt x="9622" y="6"/>
                      <a:pt x="9621" y="5"/>
                      <a:pt x="9621" y="4"/>
                    </a:cubicBezTo>
                    <a:cubicBezTo>
                      <a:pt x="9621" y="3"/>
                      <a:pt x="9622" y="2"/>
                      <a:pt x="9623" y="2"/>
                    </a:cubicBezTo>
                    <a:close/>
                    <a:moveTo>
                      <a:pt x="9631" y="2"/>
                    </a:moveTo>
                    <a:lnTo>
                      <a:pt x="9631" y="2"/>
                    </a:lnTo>
                    <a:cubicBezTo>
                      <a:pt x="9632" y="2"/>
                      <a:pt x="9633" y="3"/>
                      <a:pt x="9633" y="4"/>
                    </a:cubicBezTo>
                    <a:cubicBezTo>
                      <a:pt x="9633" y="5"/>
                      <a:pt x="9632" y="6"/>
                      <a:pt x="9631" y="6"/>
                    </a:cubicBezTo>
                    <a:lnTo>
                      <a:pt x="9631" y="6"/>
                    </a:lnTo>
                    <a:cubicBezTo>
                      <a:pt x="9630" y="6"/>
                      <a:pt x="9629" y="5"/>
                      <a:pt x="9629" y="4"/>
                    </a:cubicBezTo>
                    <a:cubicBezTo>
                      <a:pt x="9629" y="3"/>
                      <a:pt x="9630" y="2"/>
                      <a:pt x="9631" y="2"/>
                    </a:cubicBezTo>
                    <a:close/>
                    <a:moveTo>
                      <a:pt x="9639" y="2"/>
                    </a:moveTo>
                    <a:lnTo>
                      <a:pt x="9639" y="2"/>
                    </a:lnTo>
                    <a:cubicBezTo>
                      <a:pt x="9640" y="2"/>
                      <a:pt x="9641" y="3"/>
                      <a:pt x="9641" y="4"/>
                    </a:cubicBezTo>
                    <a:cubicBezTo>
                      <a:pt x="9641" y="5"/>
                      <a:pt x="9640" y="6"/>
                      <a:pt x="9639" y="6"/>
                    </a:cubicBezTo>
                    <a:lnTo>
                      <a:pt x="9639" y="6"/>
                    </a:lnTo>
                    <a:cubicBezTo>
                      <a:pt x="9638" y="6"/>
                      <a:pt x="9637" y="5"/>
                      <a:pt x="9637" y="4"/>
                    </a:cubicBezTo>
                    <a:cubicBezTo>
                      <a:pt x="9637" y="3"/>
                      <a:pt x="9638" y="2"/>
                      <a:pt x="9639" y="2"/>
                    </a:cubicBezTo>
                    <a:close/>
                    <a:moveTo>
                      <a:pt x="9647" y="2"/>
                    </a:moveTo>
                    <a:lnTo>
                      <a:pt x="9647" y="2"/>
                    </a:lnTo>
                    <a:cubicBezTo>
                      <a:pt x="9648" y="2"/>
                      <a:pt x="9649" y="3"/>
                      <a:pt x="9649" y="4"/>
                    </a:cubicBezTo>
                    <a:cubicBezTo>
                      <a:pt x="9649" y="5"/>
                      <a:pt x="9648" y="6"/>
                      <a:pt x="9647" y="6"/>
                    </a:cubicBezTo>
                    <a:lnTo>
                      <a:pt x="9647" y="6"/>
                    </a:lnTo>
                    <a:cubicBezTo>
                      <a:pt x="9646" y="6"/>
                      <a:pt x="9645" y="5"/>
                      <a:pt x="9645" y="4"/>
                    </a:cubicBezTo>
                    <a:cubicBezTo>
                      <a:pt x="9645" y="3"/>
                      <a:pt x="9646" y="2"/>
                      <a:pt x="9647" y="2"/>
                    </a:cubicBezTo>
                    <a:close/>
                    <a:moveTo>
                      <a:pt x="9655" y="2"/>
                    </a:moveTo>
                    <a:lnTo>
                      <a:pt x="9655" y="2"/>
                    </a:lnTo>
                    <a:cubicBezTo>
                      <a:pt x="9656" y="2"/>
                      <a:pt x="9657" y="3"/>
                      <a:pt x="9657" y="4"/>
                    </a:cubicBezTo>
                    <a:cubicBezTo>
                      <a:pt x="9657" y="5"/>
                      <a:pt x="9656" y="6"/>
                      <a:pt x="9655" y="6"/>
                    </a:cubicBezTo>
                    <a:lnTo>
                      <a:pt x="9655" y="6"/>
                    </a:lnTo>
                    <a:cubicBezTo>
                      <a:pt x="9654" y="6"/>
                      <a:pt x="9653" y="5"/>
                      <a:pt x="9653" y="4"/>
                    </a:cubicBezTo>
                    <a:cubicBezTo>
                      <a:pt x="9653" y="3"/>
                      <a:pt x="9654" y="2"/>
                      <a:pt x="9655" y="2"/>
                    </a:cubicBezTo>
                    <a:close/>
                    <a:moveTo>
                      <a:pt x="9663" y="2"/>
                    </a:moveTo>
                    <a:lnTo>
                      <a:pt x="9663" y="2"/>
                    </a:lnTo>
                    <a:cubicBezTo>
                      <a:pt x="9664" y="2"/>
                      <a:pt x="9665" y="3"/>
                      <a:pt x="9665" y="4"/>
                    </a:cubicBezTo>
                    <a:cubicBezTo>
                      <a:pt x="9665" y="5"/>
                      <a:pt x="9664" y="6"/>
                      <a:pt x="9663" y="6"/>
                    </a:cubicBezTo>
                    <a:lnTo>
                      <a:pt x="9663" y="6"/>
                    </a:lnTo>
                    <a:cubicBezTo>
                      <a:pt x="9662" y="6"/>
                      <a:pt x="9661" y="5"/>
                      <a:pt x="9661" y="4"/>
                    </a:cubicBezTo>
                    <a:cubicBezTo>
                      <a:pt x="9661" y="3"/>
                      <a:pt x="9662" y="2"/>
                      <a:pt x="9663" y="2"/>
                    </a:cubicBezTo>
                    <a:close/>
                    <a:moveTo>
                      <a:pt x="9671" y="2"/>
                    </a:moveTo>
                    <a:lnTo>
                      <a:pt x="9671" y="2"/>
                    </a:lnTo>
                    <a:cubicBezTo>
                      <a:pt x="9672" y="2"/>
                      <a:pt x="9673" y="3"/>
                      <a:pt x="9673" y="4"/>
                    </a:cubicBezTo>
                    <a:cubicBezTo>
                      <a:pt x="9673" y="5"/>
                      <a:pt x="9672" y="6"/>
                      <a:pt x="9671" y="6"/>
                    </a:cubicBezTo>
                    <a:lnTo>
                      <a:pt x="9671" y="6"/>
                    </a:lnTo>
                    <a:cubicBezTo>
                      <a:pt x="9670" y="6"/>
                      <a:pt x="9669" y="5"/>
                      <a:pt x="9669" y="4"/>
                    </a:cubicBezTo>
                    <a:cubicBezTo>
                      <a:pt x="9669" y="3"/>
                      <a:pt x="9670" y="2"/>
                      <a:pt x="9671" y="2"/>
                    </a:cubicBezTo>
                    <a:close/>
                    <a:moveTo>
                      <a:pt x="9679" y="2"/>
                    </a:moveTo>
                    <a:lnTo>
                      <a:pt x="9679" y="2"/>
                    </a:lnTo>
                    <a:cubicBezTo>
                      <a:pt x="9680" y="2"/>
                      <a:pt x="9681" y="3"/>
                      <a:pt x="9681" y="4"/>
                    </a:cubicBezTo>
                    <a:cubicBezTo>
                      <a:pt x="9681" y="5"/>
                      <a:pt x="9680" y="6"/>
                      <a:pt x="9679" y="6"/>
                    </a:cubicBezTo>
                    <a:lnTo>
                      <a:pt x="9679" y="6"/>
                    </a:lnTo>
                    <a:cubicBezTo>
                      <a:pt x="9678" y="6"/>
                      <a:pt x="9677" y="5"/>
                      <a:pt x="9677" y="4"/>
                    </a:cubicBezTo>
                    <a:cubicBezTo>
                      <a:pt x="9677" y="3"/>
                      <a:pt x="9678" y="2"/>
                      <a:pt x="9679" y="2"/>
                    </a:cubicBezTo>
                    <a:close/>
                    <a:moveTo>
                      <a:pt x="9687" y="2"/>
                    </a:moveTo>
                    <a:lnTo>
                      <a:pt x="9687" y="2"/>
                    </a:lnTo>
                    <a:cubicBezTo>
                      <a:pt x="9688" y="2"/>
                      <a:pt x="9689" y="3"/>
                      <a:pt x="9689" y="4"/>
                    </a:cubicBezTo>
                    <a:cubicBezTo>
                      <a:pt x="9689" y="5"/>
                      <a:pt x="9688" y="6"/>
                      <a:pt x="9687" y="6"/>
                    </a:cubicBezTo>
                    <a:lnTo>
                      <a:pt x="9687" y="6"/>
                    </a:lnTo>
                    <a:cubicBezTo>
                      <a:pt x="9686" y="6"/>
                      <a:pt x="9685" y="5"/>
                      <a:pt x="9685" y="4"/>
                    </a:cubicBezTo>
                    <a:cubicBezTo>
                      <a:pt x="9685" y="3"/>
                      <a:pt x="9686" y="2"/>
                      <a:pt x="9687" y="2"/>
                    </a:cubicBezTo>
                    <a:close/>
                    <a:moveTo>
                      <a:pt x="9695" y="2"/>
                    </a:moveTo>
                    <a:lnTo>
                      <a:pt x="9695" y="2"/>
                    </a:lnTo>
                    <a:cubicBezTo>
                      <a:pt x="9696" y="2"/>
                      <a:pt x="9697" y="3"/>
                      <a:pt x="9697" y="4"/>
                    </a:cubicBezTo>
                    <a:cubicBezTo>
                      <a:pt x="9697" y="5"/>
                      <a:pt x="9696" y="6"/>
                      <a:pt x="9695" y="6"/>
                    </a:cubicBezTo>
                    <a:lnTo>
                      <a:pt x="9695" y="6"/>
                    </a:lnTo>
                    <a:cubicBezTo>
                      <a:pt x="9694" y="6"/>
                      <a:pt x="9693" y="5"/>
                      <a:pt x="9693" y="4"/>
                    </a:cubicBezTo>
                    <a:cubicBezTo>
                      <a:pt x="9693" y="3"/>
                      <a:pt x="9694" y="2"/>
                      <a:pt x="9695" y="2"/>
                    </a:cubicBezTo>
                    <a:close/>
                    <a:moveTo>
                      <a:pt x="9703" y="2"/>
                    </a:moveTo>
                    <a:lnTo>
                      <a:pt x="9703" y="2"/>
                    </a:lnTo>
                    <a:cubicBezTo>
                      <a:pt x="9704" y="2"/>
                      <a:pt x="9705" y="3"/>
                      <a:pt x="9705" y="4"/>
                    </a:cubicBezTo>
                    <a:cubicBezTo>
                      <a:pt x="9705" y="5"/>
                      <a:pt x="9704" y="6"/>
                      <a:pt x="9703" y="6"/>
                    </a:cubicBezTo>
                    <a:lnTo>
                      <a:pt x="9703" y="6"/>
                    </a:lnTo>
                    <a:cubicBezTo>
                      <a:pt x="9702" y="6"/>
                      <a:pt x="9701" y="5"/>
                      <a:pt x="9701" y="4"/>
                    </a:cubicBezTo>
                    <a:cubicBezTo>
                      <a:pt x="9701" y="3"/>
                      <a:pt x="9702" y="2"/>
                      <a:pt x="9703" y="2"/>
                    </a:cubicBezTo>
                    <a:close/>
                    <a:moveTo>
                      <a:pt x="9711" y="2"/>
                    </a:moveTo>
                    <a:lnTo>
                      <a:pt x="9711" y="2"/>
                    </a:lnTo>
                    <a:cubicBezTo>
                      <a:pt x="9712" y="2"/>
                      <a:pt x="9713" y="3"/>
                      <a:pt x="9713" y="4"/>
                    </a:cubicBezTo>
                    <a:cubicBezTo>
                      <a:pt x="9713" y="5"/>
                      <a:pt x="9712" y="6"/>
                      <a:pt x="9711" y="6"/>
                    </a:cubicBezTo>
                    <a:lnTo>
                      <a:pt x="9711" y="6"/>
                    </a:lnTo>
                    <a:cubicBezTo>
                      <a:pt x="9710" y="6"/>
                      <a:pt x="9709" y="5"/>
                      <a:pt x="9709" y="4"/>
                    </a:cubicBezTo>
                    <a:cubicBezTo>
                      <a:pt x="9709" y="3"/>
                      <a:pt x="9710" y="2"/>
                      <a:pt x="9711" y="2"/>
                    </a:cubicBezTo>
                    <a:close/>
                    <a:moveTo>
                      <a:pt x="9719" y="2"/>
                    </a:moveTo>
                    <a:lnTo>
                      <a:pt x="9719" y="2"/>
                    </a:lnTo>
                    <a:cubicBezTo>
                      <a:pt x="9720" y="2"/>
                      <a:pt x="9721" y="3"/>
                      <a:pt x="9721" y="4"/>
                    </a:cubicBezTo>
                    <a:cubicBezTo>
                      <a:pt x="9721" y="5"/>
                      <a:pt x="9720" y="6"/>
                      <a:pt x="9719" y="6"/>
                    </a:cubicBezTo>
                    <a:lnTo>
                      <a:pt x="9719" y="6"/>
                    </a:lnTo>
                    <a:cubicBezTo>
                      <a:pt x="9718" y="6"/>
                      <a:pt x="9717" y="5"/>
                      <a:pt x="9717" y="4"/>
                    </a:cubicBezTo>
                    <a:cubicBezTo>
                      <a:pt x="9717" y="3"/>
                      <a:pt x="9718" y="2"/>
                      <a:pt x="9719" y="2"/>
                    </a:cubicBezTo>
                    <a:close/>
                    <a:moveTo>
                      <a:pt x="9727" y="2"/>
                    </a:moveTo>
                    <a:lnTo>
                      <a:pt x="9727" y="2"/>
                    </a:lnTo>
                    <a:cubicBezTo>
                      <a:pt x="9728" y="2"/>
                      <a:pt x="9729" y="3"/>
                      <a:pt x="9729" y="4"/>
                    </a:cubicBezTo>
                    <a:cubicBezTo>
                      <a:pt x="9729" y="5"/>
                      <a:pt x="9728" y="6"/>
                      <a:pt x="9727" y="6"/>
                    </a:cubicBezTo>
                    <a:lnTo>
                      <a:pt x="9727" y="6"/>
                    </a:lnTo>
                    <a:cubicBezTo>
                      <a:pt x="9726" y="6"/>
                      <a:pt x="9725" y="5"/>
                      <a:pt x="9725" y="4"/>
                    </a:cubicBezTo>
                    <a:cubicBezTo>
                      <a:pt x="9725" y="3"/>
                      <a:pt x="9726" y="2"/>
                      <a:pt x="9727" y="2"/>
                    </a:cubicBezTo>
                    <a:close/>
                    <a:moveTo>
                      <a:pt x="9735" y="2"/>
                    </a:moveTo>
                    <a:lnTo>
                      <a:pt x="9735" y="2"/>
                    </a:lnTo>
                    <a:cubicBezTo>
                      <a:pt x="9736" y="2"/>
                      <a:pt x="9737" y="3"/>
                      <a:pt x="9737" y="4"/>
                    </a:cubicBezTo>
                    <a:cubicBezTo>
                      <a:pt x="9737" y="5"/>
                      <a:pt x="9736" y="6"/>
                      <a:pt x="9735" y="6"/>
                    </a:cubicBezTo>
                    <a:lnTo>
                      <a:pt x="9735" y="6"/>
                    </a:lnTo>
                    <a:cubicBezTo>
                      <a:pt x="9734" y="6"/>
                      <a:pt x="9733" y="5"/>
                      <a:pt x="9733" y="4"/>
                    </a:cubicBezTo>
                    <a:cubicBezTo>
                      <a:pt x="9733" y="3"/>
                      <a:pt x="9734" y="2"/>
                      <a:pt x="9735" y="2"/>
                    </a:cubicBezTo>
                    <a:close/>
                    <a:moveTo>
                      <a:pt x="9743" y="2"/>
                    </a:moveTo>
                    <a:lnTo>
                      <a:pt x="9743" y="2"/>
                    </a:lnTo>
                    <a:cubicBezTo>
                      <a:pt x="9744" y="2"/>
                      <a:pt x="9745" y="3"/>
                      <a:pt x="9745" y="4"/>
                    </a:cubicBezTo>
                    <a:cubicBezTo>
                      <a:pt x="9745" y="5"/>
                      <a:pt x="9744" y="6"/>
                      <a:pt x="9743" y="6"/>
                    </a:cubicBezTo>
                    <a:lnTo>
                      <a:pt x="9743" y="6"/>
                    </a:lnTo>
                    <a:cubicBezTo>
                      <a:pt x="9742" y="6"/>
                      <a:pt x="9741" y="5"/>
                      <a:pt x="9741" y="4"/>
                    </a:cubicBezTo>
                    <a:cubicBezTo>
                      <a:pt x="9741" y="3"/>
                      <a:pt x="9742" y="2"/>
                      <a:pt x="9743" y="2"/>
                    </a:cubicBezTo>
                    <a:close/>
                    <a:moveTo>
                      <a:pt x="9751" y="2"/>
                    </a:moveTo>
                    <a:lnTo>
                      <a:pt x="9751" y="2"/>
                    </a:lnTo>
                    <a:cubicBezTo>
                      <a:pt x="9752" y="2"/>
                      <a:pt x="9753" y="3"/>
                      <a:pt x="9753" y="4"/>
                    </a:cubicBezTo>
                    <a:cubicBezTo>
                      <a:pt x="9753" y="5"/>
                      <a:pt x="9752" y="6"/>
                      <a:pt x="9751" y="6"/>
                    </a:cubicBezTo>
                    <a:lnTo>
                      <a:pt x="9751" y="6"/>
                    </a:lnTo>
                    <a:cubicBezTo>
                      <a:pt x="9750" y="6"/>
                      <a:pt x="9749" y="5"/>
                      <a:pt x="9749" y="4"/>
                    </a:cubicBezTo>
                    <a:cubicBezTo>
                      <a:pt x="9749" y="3"/>
                      <a:pt x="9750" y="2"/>
                      <a:pt x="9751" y="2"/>
                    </a:cubicBezTo>
                    <a:close/>
                    <a:moveTo>
                      <a:pt x="9759" y="2"/>
                    </a:moveTo>
                    <a:lnTo>
                      <a:pt x="9759" y="2"/>
                    </a:lnTo>
                    <a:cubicBezTo>
                      <a:pt x="9760" y="2"/>
                      <a:pt x="9761" y="3"/>
                      <a:pt x="9761" y="4"/>
                    </a:cubicBezTo>
                    <a:cubicBezTo>
                      <a:pt x="9761" y="5"/>
                      <a:pt x="9760" y="6"/>
                      <a:pt x="9759" y="6"/>
                    </a:cubicBezTo>
                    <a:lnTo>
                      <a:pt x="9759" y="6"/>
                    </a:lnTo>
                    <a:cubicBezTo>
                      <a:pt x="9758" y="6"/>
                      <a:pt x="9757" y="5"/>
                      <a:pt x="9757" y="4"/>
                    </a:cubicBezTo>
                    <a:cubicBezTo>
                      <a:pt x="9757" y="3"/>
                      <a:pt x="9758" y="2"/>
                      <a:pt x="9759" y="2"/>
                    </a:cubicBezTo>
                    <a:close/>
                    <a:moveTo>
                      <a:pt x="9767" y="2"/>
                    </a:moveTo>
                    <a:lnTo>
                      <a:pt x="9767" y="2"/>
                    </a:lnTo>
                    <a:cubicBezTo>
                      <a:pt x="9768" y="2"/>
                      <a:pt x="9769" y="3"/>
                      <a:pt x="9769" y="4"/>
                    </a:cubicBezTo>
                    <a:cubicBezTo>
                      <a:pt x="9769" y="5"/>
                      <a:pt x="9768" y="6"/>
                      <a:pt x="9767" y="6"/>
                    </a:cubicBezTo>
                    <a:lnTo>
                      <a:pt x="9767" y="6"/>
                    </a:lnTo>
                    <a:cubicBezTo>
                      <a:pt x="9766" y="6"/>
                      <a:pt x="9765" y="5"/>
                      <a:pt x="9765" y="4"/>
                    </a:cubicBezTo>
                    <a:cubicBezTo>
                      <a:pt x="9765" y="3"/>
                      <a:pt x="9766" y="2"/>
                      <a:pt x="9767" y="2"/>
                    </a:cubicBezTo>
                    <a:close/>
                    <a:moveTo>
                      <a:pt x="9775" y="2"/>
                    </a:moveTo>
                    <a:lnTo>
                      <a:pt x="9775" y="2"/>
                    </a:lnTo>
                    <a:cubicBezTo>
                      <a:pt x="9776" y="2"/>
                      <a:pt x="9777" y="3"/>
                      <a:pt x="9777" y="4"/>
                    </a:cubicBezTo>
                    <a:cubicBezTo>
                      <a:pt x="9777" y="5"/>
                      <a:pt x="9776" y="6"/>
                      <a:pt x="9775" y="6"/>
                    </a:cubicBezTo>
                    <a:lnTo>
                      <a:pt x="9775" y="6"/>
                    </a:lnTo>
                    <a:cubicBezTo>
                      <a:pt x="9774" y="6"/>
                      <a:pt x="9773" y="5"/>
                      <a:pt x="9773" y="4"/>
                    </a:cubicBezTo>
                    <a:cubicBezTo>
                      <a:pt x="9773" y="3"/>
                      <a:pt x="9774" y="2"/>
                      <a:pt x="9775" y="2"/>
                    </a:cubicBezTo>
                    <a:close/>
                    <a:moveTo>
                      <a:pt x="9783" y="2"/>
                    </a:moveTo>
                    <a:lnTo>
                      <a:pt x="9783" y="2"/>
                    </a:lnTo>
                    <a:cubicBezTo>
                      <a:pt x="9784" y="2"/>
                      <a:pt x="9785" y="3"/>
                      <a:pt x="9785" y="4"/>
                    </a:cubicBezTo>
                    <a:cubicBezTo>
                      <a:pt x="9785" y="5"/>
                      <a:pt x="9784" y="6"/>
                      <a:pt x="9783" y="6"/>
                    </a:cubicBezTo>
                    <a:lnTo>
                      <a:pt x="9783" y="6"/>
                    </a:lnTo>
                    <a:cubicBezTo>
                      <a:pt x="9782" y="6"/>
                      <a:pt x="9781" y="5"/>
                      <a:pt x="9781" y="4"/>
                    </a:cubicBezTo>
                    <a:cubicBezTo>
                      <a:pt x="9781" y="3"/>
                      <a:pt x="9782" y="2"/>
                      <a:pt x="9783" y="2"/>
                    </a:cubicBezTo>
                    <a:close/>
                    <a:moveTo>
                      <a:pt x="9791" y="2"/>
                    </a:moveTo>
                    <a:lnTo>
                      <a:pt x="9791" y="2"/>
                    </a:lnTo>
                    <a:cubicBezTo>
                      <a:pt x="9792" y="2"/>
                      <a:pt x="9793" y="3"/>
                      <a:pt x="9793" y="4"/>
                    </a:cubicBezTo>
                    <a:cubicBezTo>
                      <a:pt x="9793" y="5"/>
                      <a:pt x="9792" y="6"/>
                      <a:pt x="9791" y="6"/>
                    </a:cubicBezTo>
                    <a:lnTo>
                      <a:pt x="9791" y="6"/>
                    </a:lnTo>
                    <a:cubicBezTo>
                      <a:pt x="9790" y="6"/>
                      <a:pt x="9789" y="5"/>
                      <a:pt x="9789" y="4"/>
                    </a:cubicBezTo>
                    <a:cubicBezTo>
                      <a:pt x="9789" y="3"/>
                      <a:pt x="9790" y="2"/>
                      <a:pt x="9791" y="2"/>
                    </a:cubicBezTo>
                    <a:close/>
                    <a:moveTo>
                      <a:pt x="9799" y="2"/>
                    </a:moveTo>
                    <a:lnTo>
                      <a:pt x="9799" y="2"/>
                    </a:lnTo>
                    <a:cubicBezTo>
                      <a:pt x="9800" y="2"/>
                      <a:pt x="9801" y="3"/>
                      <a:pt x="9801" y="4"/>
                    </a:cubicBezTo>
                    <a:cubicBezTo>
                      <a:pt x="9801" y="5"/>
                      <a:pt x="9800" y="6"/>
                      <a:pt x="9799" y="6"/>
                    </a:cubicBezTo>
                    <a:lnTo>
                      <a:pt x="9799" y="6"/>
                    </a:lnTo>
                    <a:cubicBezTo>
                      <a:pt x="9798" y="6"/>
                      <a:pt x="9797" y="5"/>
                      <a:pt x="9797" y="4"/>
                    </a:cubicBezTo>
                    <a:cubicBezTo>
                      <a:pt x="9797" y="3"/>
                      <a:pt x="9798" y="2"/>
                      <a:pt x="9799" y="2"/>
                    </a:cubicBezTo>
                    <a:close/>
                    <a:moveTo>
                      <a:pt x="9807" y="2"/>
                    </a:moveTo>
                    <a:lnTo>
                      <a:pt x="9807" y="2"/>
                    </a:lnTo>
                    <a:cubicBezTo>
                      <a:pt x="9808" y="2"/>
                      <a:pt x="9809" y="3"/>
                      <a:pt x="9809" y="4"/>
                    </a:cubicBezTo>
                    <a:cubicBezTo>
                      <a:pt x="9809" y="5"/>
                      <a:pt x="9808" y="6"/>
                      <a:pt x="9807" y="6"/>
                    </a:cubicBezTo>
                    <a:lnTo>
                      <a:pt x="9807" y="6"/>
                    </a:lnTo>
                    <a:cubicBezTo>
                      <a:pt x="9806" y="6"/>
                      <a:pt x="9805" y="5"/>
                      <a:pt x="9805" y="4"/>
                    </a:cubicBezTo>
                    <a:cubicBezTo>
                      <a:pt x="9805" y="3"/>
                      <a:pt x="9806" y="2"/>
                      <a:pt x="9807" y="2"/>
                    </a:cubicBezTo>
                    <a:close/>
                    <a:moveTo>
                      <a:pt x="9815" y="2"/>
                    </a:moveTo>
                    <a:lnTo>
                      <a:pt x="9815" y="2"/>
                    </a:lnTo>
                    <a:cubicBezTo>
                      <a:pt x="9816" y="2"/>
                      <a:pt x="9817" y="3"/>
                      <a:pt x="9817" y="4"/>
                    </a:cubicBezTo>
                    <a:cubicBezTo>
                      <a:pt x="9817" y="5"/>
                      <a:pt x="9816" y="6"/>
                      <a:pt x="9815" y="6"/>
                    </a:cubicBezTo>
                    <a:lnTo>
                      <a:pt x="9815" y="6"/>
                    </a:lnTo>
                    <a:cubicBezTo>
                      <a:pt x="9814" y="6"/>
                      <a:pt x="9813" y="5"/>
                      <a:pt x="9813" y="4"/>
                    </a:cubicBezTo>
                    <a:cubicBezTo>
                      <a:pt x="9813" y="3"/>
                      <a:pt x="9814" y="2"/>
                      <a:pt x="9815" y="2"/>
                    </a:cubicBezTo>
                    <a:close/>
                    <a:moveTo>
                      <a:pt x="9823" y="2"/>
                    </a:moveTo>
                    <a:lnTo>
                      <a:pt x="9823" y="2"/>
                    </a:lnTo>
                    <a:cubicBezTo>
                      <a:pt x="9824" y="2"/>
                      <a:pt x="9825" y="3"/>
                      <a:pt x="9825" y="4"/>
                    </a:cubicBezTo>
                    <a:cubicBezTo>
                      <a:pt x="9825" y="5"/>
                      <a:pt x="9824" y="6"/>
                      <a:pt x="9823" y="6"/>
                    </a:cubicBezTo>
                    <a:lnTo>
                      <a:pt x="9823" y="6"/>
                    </a:lnTo>
                    <a:cubicBezTo>
                      <a:pt x="9822" y="6"/>
                      <a:pt x="9821" y="5"/>
                      <a:pt x="9821" y="4"/>
                    </a:cubicBezTo>
                    <a:cubicBezTo>
                      <a:pt x="9821" y="3"/>
                      <a:pt x="9822" y="2"/>
                      <a:pt x="9823" y="2"/>
                    </a:cubicBezTo>
                    <a:close/>
                    <a:moveTo>
                      <a:pt x="9831" y="2"/>
                    </a:moveTo>
                    <a:lnTo>
                      <a:pt x="9831" y="2"/>
                    </a:lnTo>
                    <a:cubicBezTo>
                      <a:pt x="9832" y="2"/>
                      <a:pt x="9833" y="3"/>
                      <a:pt x="9833" y="4"/>
                    </a:cubicBezTo>
                    <a:cubicBezTo>
                      <a:pt x="9833" y="5"/>
                      <a:pt x="9832" y="6"/>
                      <a:pt x="9831" y="6"/>
                    </a:cubicBezTo>
                    <a:lnTo>
                      <a:pt x="9831" y="6"/>
                    </a:lnTo>
                    <a:cubicBezTo>
                      <a:pt x="9830" y="6"/>
                      <a:pt x="9829" y="5"/>
                      <a:pt x="9829" y="4"/>
                    </a:cubicBezTo>
                    <a:cubicBezTo>
                      <a:pt x="9829" y="3"/>
                      <a:pt x="9830" y="2"/>
                      <a:pt x="9831" y="2"/>
                    </a:cubicBezTo>
                    <a:close/>
                    <a:moveTo>
                      <a:pt x="9839" y="2"/>
                    </a:moveTo>
                    <a:lnTo>
                      <a:pt x="9839" y="2"/>
                    </a:lnTo>
                    <a:cubicBezTo>
                      <a:pt x="9840" y="2"/>
                      <a:pt x="9841" y="3"/>
                      <a:pt x="9841" y="4"/>
                    </a:cubicBezTo>
                    <a:cubicBezTo>
                      <a:pt x="9841" y="5"/>
                      <a:pt x="9840" y="6"/>
                      <a:pt x="9839" y="6"/>
                    </a:cubicBezTo>
                    <a:lnTo>
                      <a:pt x="9839" y="6"/>
                    </a:lnTo>
                    <a:cubicBezTo>
                      <a:pt x="9838" y="6"/>
                      <a:pt x="9837" y="5"/>
                      <a:pt x="9837" y="4"/>
                    </a:cubicBezTo>
                    <a:cubicBezTo>
                      <a:pt x="9837" y="3"/>
                      <a:pt x="9838" y="2"/>
                      <a:pt x="9839" y="2"/>
                    </a:cubicBezTo>
                    <a:close/>
                    <a:moveTo>
                      <a:pt x="9847" y="2"/>
                    </a:moveTo>
                    <a:lnTo>
                      <a:pt x="9847" y="2"/>
                    </a:lnTo>
                    <a:cubicBezTo>
                      <a:pt x="9848" y="2"/>
                      <a:pt x="9849" y="3"/>
                      <a:pt x="9849" y="4"/>
                    </a:cubicBezTo>
                    <a:cubicBezTo>
                      <a:pt x="9849" y="5"/>
                      <a:pt x="9848" y="6"/>
                      <a:pt x="9847" y="6"/>
                    </a:cubicBezTo>
                    <a:lnTo>
                      <a:pt x="9847" y="6"/>
                    </a:lnTo>
                    <a:cubicBezTo>
                      <a:pt x="9846" y="6"/>
                      <a:pt x="9845" y="5"/>
                      <a:pt x="9845" y="4"/>
                    </a:cubicBezTo>
                    <a:cubicBezTo>
                      <a:pt x="9845" y="3"/>
                      <a:pt x="9846" y="2"/>
                      <a:pt x="9847" y="2"/>
                    </a:cubicBezTo>
                    <a:close/>
                    <a:moveTo>
                      <a:pt x="9855" y="2"/>
                    </a:moveTo>
                    <a:lnTo>
                      <a:pt x="9855" y="2"/>
                    </a:lnTo>
                    <a:cubicBezTo>
                      <a:pt x="9856" y="2"/>
                      <a:pt x="9857" y="3"/>
                      <a:pt x="9857" y="4"/>
                    </a:cubicBezTo>
                    <a:cubicBezTo>
                      <a:pt x="9857" y="5"/>
                      <a:pt x="9856" y="6"/>
                      <a:pt x="9855" y="6"/>
                    </a:cubicBezTo>
                    <a:lnTo>
                      <a:pt x="9855" y="6"/>
                    </a:lnTo>
                    <a:cubicBezTo>
                      <a:pt x="9854" y="6"/>
                      <a:pt x="9853" y="5"/>
                      <a:pt x="9853" y="4"/>
                    </a:cubicBezTo>
                    <a:cubicBezTo>
                      <a:pt x="9853" y="3"/>
                      <a:pt x="9854" y="2"/>
                      <a:pt x="9855" y="2"/>
                    </a:cubicBezTo>
                    <a:close/>
                    <a:moveTo>
                      <a:pt x="9863" y="2"/>
                    </a:moveTo>
                    <a:lnTo>
                      <a:pt x="9863" y="2"/>
                    </a:lnTo>
                    <a:cubicBezTo>
                      <a:pt x="9864" y="2"/>
                      <a:pt x="9865" y="3"/>
                      <a:pt x="9865" y="4"/>
                    </a:cubicBezTo>
                    <a:cubicBezTo>
                      <a:pt x="9865" y="5"/>
                      <a:pt x="9864" y="6"/>
                      <a:pt x="9863" y="6"/>
                    </a:cubicBezTo>
                    <a:lnTo>
                      <a:pt x="9863" y="6"/>
                    </a:lnTo>
                    <a:cubicBezTo>
                      <a:pt x="9862" y="6"/>
                      <a:pt x="9861" y="5"/>
                      <a:pt x="9861" y="4"/>
                    </a:cubicBezTo>
                    <a:cubicBezTo>
                      <a:pt x="9861" y="3"/>
                      <a:pt x="9862" y="2"/>
                      <a:pt x="9863" y="2"/>
                    </a:cubicBezTo>
                    <a:close/>
                    <a:moveTo>
                      <a:pt x="9871" y="2"/>
                    </a:moveTo>
                    <a:lnTo>
                      <a:pt x="9871" y="2"/>
                    </a:lnTo>
                    <a:cubicBezTo>
                      <a:pt x="9872" y="2"/>
                      <a:pt x="9873" y="3"/>
                      <a:pt x="9873" y="4"/>
                    </a:cubicBezTo>
                    <a:cubicBezTo>
                      <a:pt x="9873" y="5"/>
                      <a:pt x="9872" y="6"/>
                      <a:pt x="9871" y="6"/>
                    </a:cubicBezTo>
                    <a:lnTo>
                      <a:pt x="9871" y="6"/>
                    </a:lnTo>
                    <a:cubicBezTo>
                      <a:pt x="9870" y="6"/>
                      <a:pt x="9869" y="5"/>
                      <a:pt x="9869" y="4"/>
                    </a:cubicBezTo>
                    <a:cubicBezTo>
                      <a:pt x="9869" y="3"/>
                      <a:pt x="9870" y="2"/>
                      <a:pt x="9871" y="2"/>
                    </a:cubicBezTo>
                    <a:close/>
                    <a:moveTo>
                      <a:pt x="9879" y="2"/>
                    </a:moveTo>
                    <a:lnTo>
                      <a:pt x="9879" y="2"/>
                    </a:lnTo>
                    <a:cubicBezTo>
                      <a:pt x="9880" y="2"/>
                      <a:pt x="9881" y="3"/>
                      <a:pt x="9881" y="4"/>
                    </a:cubicBezTo>
                    <a:cubicBezTo>
                      <a:pt x="9881" y="5"/>
                      <a:pt x="9880" y="6"/>
                      <a:pt x="9879" y="6"/>
                    </a:cubicBezTo>
                    <a:lnTo>
                      <a:pt x="9879" y="6"/>
                    </a:lnTo>
                    <a:cubicBezTo>
                      <a:pt x="9878" y="6"/>
                      <a:pt x="9877" y="5"/>
                      <a:pt x="9877" y="4"/>
                    </a:cubicBezTo>
                    <a:cubicBezTo>
                      <a:pt x="9877" y="3"/>
                      <a:pt x="9878" y="2"/>
                      <a:pt x="9879" y="2"/>
                    </a:cubicBezTo>
                    <a:close/>
                    <a:moveTo>
                      <a:pt x="9887" y="2"/>
                    </a:moveTo>
                    <a:lnTo>
                      <a:pt x="9887" y="2"/>
                    </a:lnTo>
                    <a:cubicBezTo>
                      <a:pt x="9888" y="2"/>
                      <a:pt x="9889" y="3"/>
                      <a:pt x="9889" y="4"/>
                    </a:cubicBezTo>
                    <a:cubicBezTo>
                      <a:pt x="9889" y="5"/>
                      <a:pt x="9888" y="6"/>
                      <a:pt x="9887" y="6"/>
                    </a:cubicBezTo>
                    <a:lnTo>
                      <a:pt x="9887" y="6"/>
                    </a:lnTo>
                    <a:cubicBezTo>
                      <a:pt x="9886" y="6"/>
                      <a:pt x="9885" y="5"/>
                      <a:pt x="9885" y="4"/>
                    </a:cubicBezTo>
                    <a:cubicBezTo>
                      <a:pt x="9885" y="3"/>
                      <a:pt x="9886" y="2"/>
                      <a:pt x="9887" y="2"/>
                    </a:cubicBezTo>
                    <a:close/>
                    <a:moveTo>
                      <a:pt x="9895" y="2"/>
                    </a:moveTo>
                    <a:lnTo>
                      <a:pt x="9895" y="2"/>
                    </a:lnTo>
                    <a:cubicBezTo>
                      <a:pt x="9896" y="2"/>
                      <a:pt x="9897" y="3"/>
                      <a:pt x="9897" y="4"/>
                    </a:cubicBezTo>
                    <a:cubicBezTo>
                      <a:pt x="9897" y="5"/>
                      <a:pt x="9896" y="6"/>
                      <a:pt x="9895" y="6"/>
                    </a:cubicBezTo>
                    <a:lnTo>
                      <a:pt x="9895" y="6"/>
                    </a:lnTo>
                    <a:cubicBezTo>
                      <a:pt x="9894" y="6"/>
                      <a:pt x="9893" y="5"/>
                      <a:pt x="9893" y="4"/>
                    </a:cubicBezTo>
                    <a:cubicBezTo>
                      <a:pt x="9893" y="3"/>
                      <a:pt x="9894" y="2"/>
                      <a:pt x="9895" y="2"/>
                    </a:cubicBezTo>
                    <a:close/>
                    <a:moveTo>
                      <a:pt x="9903" y="2"/>
                    </a:moveTo>
                    <a:lnTo>
                      <a:pt x="9903" y="2"/>
                    </a:lnTo>
                    <a:cubicBezTo>
                      <a:pt x="9904" y="2"/>
                      <a:pt x="9905" y="3"/>
                      <a:pt x="9905" y="4"/>
                    </a:cubicBezTo>
                    <a:cubicBezTo>
                      <a:pt x="9905" y="5"/>
                      <a:pt x="9904" y="6"/>
                      <a:pt x="9903" y="6"/>
                    </a:cubicBezTo>
                    <a:lnTo>
                      <a:pt x="9903" y="6"/>
                    </a:lnTo>
                    <a:cubicBezTo>
                      <a:pt x="9902" y="6"/>
                      <a:pt x="9901" y="5"/>
                      <a:pt x="9901" y="4"/>
                    </a:cubicBezTo>
                    <a:cubicBezTo>
                      <a:pt x="9901" y="3"/>
                      <a:pt x="9902" y="2"/>
                      <a:pt x="9903" y="2"/>
                    </a:cubicBezTo>
                    <a:close/>
                    <a:moveTo>
                      <a:pt x="9911" y="2"/>
                    </a:moveTo>
                    <a:lnTo>
                      <a:pt x="9911" y="2"/>
                    </a:lnTo>
                    <a:cubicBezTo>
                      <a:pt x="9912" y="2"/>
                      <a:pt x="9913" y="3"/>
                      <a:pt x="9913" y="4"/>
                    </a:cubicBezTo>
                    <a:cubicBezTo>
                      <a:pt x="9913" y="5"/>
                      <a:pt x="9912" y="6"/>
                      <a:pt x="9911" y="6"/>
                    </a:cubicBezTo>
                    <a:lnTo>
                      <a:pt x="9911" y="6"/>
                    </a:lnTo>
                    <a:cubicBezTo>
                      <a:pt x="9910" y="6"/>
                      <a:pt x="9909" y="5"/>
                      <a:pt x="9909" y="4"/>
                    </a:cubicBezTo>
                    <a:cubicBezTo>
                      <a:pt x="9909" y="3"/>
                      <a:pt x="9910" y="2"/>
                      <a:pt x="9911" y="2"/>
                    </a:cubicBezTo>
                    <a:close/>
                    <a:moveTo>
                      <a:pt x="9919" y="2"/>
                    </a:moveTo>
                    <a:lnTo>
                      <a:pt x="9919" y="2"/>
                    </a:lnTo>
                    <a:cubicBezTo>
                      <a:pt x="9920" y="2"/>
                      <a:pt x="9921" y="3"/>
                      <a:pt x="9921" y="4"/>
                    </a:cubicBezTo>
                    <a:cubicBezTo>
                      <a:pt x="9921" y="5"/>
                      <a:pt x="9920" y="6"/>
                      <a:pt x="9919" y="6"/>
                    </a:cubicBezTo>
                    <a:lnTo>
                      <a:pt x="9919" y="6"/>
                    </a:lnTo>
                    <a:cubicBezTo>
                      <a:pt x="9918" y="6"/>
                      <a:pt x="9917" y="5"/>
                      <a:pt x="9917" y="4"/>
                    </a:cubicBezTo>
                    <a:cubicBezTo>
                      <a:pt x="9917" y="3"/>
                      <a:pt x="9918" y="2"/>
                      <a:pt x="9919" y="2"/>
                    </a:cubicBezTo>
                    <a:close/>
                    <a:moveTo>
                      <a:pt x="9927" y="2"/>
                    </a:moveTo>
                    <a:lnTo>
                      <a:pt x="9927" y="2"/>
                    </a:lnTo>
                    <a:cubicBezTo>
                      <a:pt x="9928" y="2"/>
                      <a:pt x="9929" y="3"/>
                      <a:pt x="9929" y="4"/>
                    </a:cubicBezTo>
                    <a:cubicBezTo>
                      <a:pt x="9929" y="5"/>
                      <a:pt x="9928" y="6"/>
                      <a:pt x="9927" y="6"/>
                    </a:cubicBezTo>
                    <a:lnTo>
                      <a:pt x="9927" y="6"/>
                    </a:lnTo>
                    <a:cubicBezTo>
                      <a:pt x="9926" y="6"/>
                      <a:pt x="9925" y="5"/>
                      <a:pt x="9925" y="4"/>
                    </a:cubicBezTo>
                    <a:cubicBezTo>
                      <a:pt x="9925" y="3"/>
                      <a:pt x="9926" y="2"/>
                      <a:pt x="9927" y="2"/>
                    </a:cubicBezTo>
                    <a:close/>
                    <a:moveTo>
                      <a:pt x="9935" y="2"/>
                    </a:moveTo>
                    <a:lnTo>
                      <a:pt x="9935" y="2"/>
                    </a:lnTo>
                    <a:cubicBezTo>
                      <a:pt x="9936" y="2"/>
                      <a:pt x="9937" y="3"/>
                      <a:pt x="9937" y="4"/>
                    </a:cubicBezTo>
                    <a:cubicBezTo>
                      <a:pt x="9937" y="5"/>
                      <a:pt x="9936" y="6"/>
                      <a:pt x="9935" y="6"/>
                    </a:cubicBezTo>
                    <a:lnTo>
                      <a:pt x="9935" y="6"/>
                    </a:lnTo>
                    <a:cubicBezTo>
                      <a:pt x="9934" y="6"/>
                      <a:pt x="9933" y="5"/>
                      <a:pt x="9933" y="4"/>
                    </a:cubicBezTo>
                    <a:cubicBezTo>
                      <a:pt x="9933" y="3"/>
                      <a:pt x="9934" y="2"/>
                      <a:pt x="9935" y="2"/>
                    </a:cubicBezTo>
                    <a:close/>
                    <a:moveTo>
                      <a:pt x="9943" y="2"/>
                    </a:moveTo>
                    <a:lnTo>
                      <a:pt x="9943" y="2"/>
                    </a:lnTo>
                    <a:cubicBezTo>
                      <a:pt x="9944" y="2"/>
                      <a:pt x="9945" y="3"/>
                      <a:pt x="9945" y="4"/>
                    </a:cubicBezTo>
                    <a:cubicBezTo>
                      <a:pt x="9945" y="5"/>
                      <a:pt x="9944" y="6"/>
                      <a:pt x="9943" y="6"/>
                    </a:cubicBezTo>
                    <a:lnTo>
                      <a:pt x="9943" y="6"/>
                    </a:lnTo>
                    <a:cubicBezTo>
                      <a:pt x="9942" y="6"/>
                      <a:pt x="9941" y="5"/>
                      <a:pt x="9941" y="4"/>
                    </a:cubicBezTo>
                    <a:cubicBezTo>
                      <a:pt x="9941" y="3"/>
                      <a:pt x="9942" y="2"/>
                      <a:pt x="9943" y="2"/>
                    </a:cubicBezTo>
                    <a:close/>
                    <a:moveTo>
                      <a:pt x="9951" y="2"/>
                    </a:moveTo>
                    <a:lnTo>
                      <a:pt x="9951" y="2"/>
                    </a:lnTo>
                    <a:cubicBezTo>
                      <a:pt x="9952" y="2"/>
                      <a:pt x="9953" y="3"/>
                      <a:pt x="9953" y="4"/>
                    </a:cubicBezTo>
                    <a:cubicBezTo>
                      <a:pt x="9953" y="5"/>
                      <a:pt x="9952" y="6"/>
                      <a:pt x="9951" y="6"/>
                    </a:cubicBezTo>
                    <a:lnTo>
                      <a:pt x="9951" y="6"/>
                    </a:lnTo>
                    <a:cubicBezTo>
                      <a:pt x="9950" y="6"/>
                      <a:pt x="9949" y="5"/>
                      <a:pt x="9949" y="4"/>
                    </a:cubicBezTo>
                    <a:cubicBezTo>
                      <a:pt x="9949" y="3"/>
                      <a:pt x="9950" y="2"/>
                      <a:pt x="9951" y="2"/>
                    </a:cubicBezTo>
                    <a:close/>
                    <a:moveTo>
                      <a:pt x="9959" y="2"/>
                    </a:moveTo>
                    <a:lnTo>
                      <a:pt x="9959" y="2"/>
                    </a:lnTo>
                    <a:cubicBezTo>
                      <a:pt x="9960" y="2"/>
                      <a:pt x="9961" y="3"/>
                      <a:pt x="9961" y="4"/>
                    </a:cubicBezTo>
                    <a:cubicBezTo>
                      <a:pt x="9961" y="5"/>
                      <a:pt x="9960" y="6"/>
                      <a:pt x="9959" y="6"/>
                    </a:cubicBezTo>
                    <a:lnTo>
                      <a:pt x="9959" y="6"/>
                    </a:lnTo>
                    <a:cubicBezTo>
                      <a:pt x="9958" y="6"/>
                      <a:pt x="9957" y="5"/>
                      <a:pt x="9957" y="4"/>
                    </a:cubicBezTo>
                    <a:cubicBezTo>
                      <a:pt x="9957" y="3"/>
                      <a:pt x="9958" y="2"/>
                      <a:pt x="9959" y="2"/>
                    </a:cubicBezTo>
                    <a:close/>
                    <a:moveTo>
                      <a:pt x="9967" y="2"/>
                    </a:moveTo>
                    <a:lnTo>
                      <a:pt x="9967" y="2"/>
                    </a:lnTo>
                    <a:cubicBezTo>
                      <a:pt x="9968" y="2"/>
                      <a:pt x="9969" y="3"/>
                      <a:pt x="9969" y="4"/>
                    </a:cubicBezTo>
                    <a:cubicBezTo>
                      <a:pt x="9969" y="5"/>
                      <a:pt x="9968" y="6"/>
                      <a:pt x="9967" y="6"/>
                    </a:cubicBezTo>
                    <a:lnTo>
                      <a:pt x="9967" y="6"/>
                    </a:lnTo>
                    <a:cubicBezTo>
                      <a:pt x="9966" y="6"/>
                      <a:pt x="9965" y="5"/>
                      <a:pt x="9965" y="4"/>
                    </a:cubicBezTo>
                    <a:cubicBezTo>
                      <a:pt x="9965" y="3"/>
                      <a:pt x="9966" y="2"/>
                      <a:pt x="9967" y="2"/>
                    </a:cubicBezTo>
                    <a:close/>
                    <a:moveTo>
                      <a:pt x="9975" y="2"/>
                    </a:moveTo>
                    <a:lnTo>
                      <a:pt x="9975" y="2"/>
                    </a:lnTo>
                    <a:cubicBezTo>
                      <a:pt x="9976" y="2"/>
                      <a:pt x="9977" y="3"/>
                      <a:pt x="9977" y="4"/>
                    </a:cubicBezTo>
                    <a:cubicBezTo>
                      <a:pt x="9977" y="5"/>
                      <a:pt x="9976" y="6"/>
                      <a:pt x="9975" y="6"/>
                    </a:cubicBezTo>
                    <a:lnTo>
                      <a:pt x="9975" y="6"/>
                    </a:lnTo>
                    <a:cubicBezTo>
                      <a:pt x="9974" y="6"/>
                      <a:pt x="9973" y="5"/>
                      <a:pt x="9973" y="4"/>
                    </a:cubicBezTo>
                    <a:cubicBezTo>
                      <a:pt x="9973" y="3"/>
                      <a:pt x="9974" y="2"/>
                      <a:pt x="9975" y="2"/>
                    </a:cubicBezTo>
                    <a:close/>
                    <a:moveTo>
                      <a:pt x="9983" y="2"/>
                    </a:moveTo>
                    <a:lnTo>
                      <a:pt x="9983" y="2"/>
                    </a:lnTo>
                    <a:cubicBezTo>
                      <a:pt x="9984" y="2"/>
                      <a:pt x="9985" y="3"/>
                      <a:pt x="9985" y="4"/>
                    </a:cubicBezTo>
                    <a:cubicBezTo>
                      <a:pt x="9985" y="5"/>
                      <a:pt x="9984" y="6"/>
                      <a:pt x="9983" y="6"/>
                    </a:cubicBezTo>
                    <a:lnTo>
                      <a:pt x="9983" y="6"/>
                    </a:lnTo>
                    <a:cubicBezTo>
                      <a:pt x="9982" y="6"/>
                      <a:pt x="9981" y="5"/>
                      <a:pt x="9981" y="4"/>
                    </a:cubicBezTo>
                    <a:cubicBezTo>
                      <a:pt x="9981" y="3"/>
                      <a:pt x="9982" y="2"/>
                      <a:pt x="9983" y="2"/>
                    </a:cubicBezTo>
                    <a:close/>
                    <a:moveTo>
                      <a:pt x="9991" y="2"/>
                    </a:moveTo>
                    <a:lnTo>
                      <a:pt x="9991" y="2"/>
                    </a:lnTo>
                    <a:cubicBezTo>
                      <a:pt x="9992" y="2"/>
                      <a:pt x="9993" y="3"/>
                      <a:pt x="9993" y="4"/>
                    </a:cubicBezTo>
                    <a:cubicBezTo>
                      <a:pt x="9993" y="5"/>
                      <a:pt x="9992" y="6"/>
                      <a:pt x="9991" y="6"/>
                    </a:cubicBezTo>
                    <a:lnTo>
                      <a:pt x="9991" y="6"/>
                    </a:lnTo>
                    <a:cubicBezTo>
                      <a:pt x="9990" y="6"/>
                      <a:pt x="9989" y="5"/>
                      <a:pt x="9989" y="4"/>
                    </a:cubicBezTo>
                    <a:cubicBezTo>
                      <a:pt x="9989" y="3"/>
                      <a:pt x="9990" y="2"/>
                      <a:pt x="9991" y="2"/>
                    </a:cubicBezTo>
                    <a:close/>
                    <a:moveTo>
                      <a:pt x="9999" y="2"/>
                    </a:moveTo>
                    <a:lnTo>
                      <a:pt x="9999" y="2"/>
                    </a:lnTo>
                    <a:cubicBezTo>
                      <a:pt x="10000" y="2"/>
                      <a:pt x="10001" y="3"/>
                      <a:pt x="10001" y="4"/>
                    </a:cubicBezTo>
                    <a:cubicBezTo>
                      <a:pt x="10001" y="5"/>
                      <a:pt x="10000" y="6"/>
                      <a:pt x="9999" y="6"/>
                    </a:cubicBezTo>
                    <a:lnTo>
                      <a:pt x="9999" y="6"/>
                    </a:lnTo>
                    <a:cubicBezTo>
                      <a:pt x="9998" y="6"/>
                      <a:pt x="9997" y="5"/>
                      <a:pt x="9997" y="4"/>
                    </a:cubicBezTo>
                    <a:cubicBezTo>
                      <a:pt x="9997" y="3"/>
                      <a:pt x="9998" y="2"/>
                      <a:pt x="9999" y="2"/>
                    </a:cubicBezTo>
                    <a:close/>
                    <a:moveTo>
                      <a:pt x="10007" y="2"/>
                    </a:moveTo>
                    <a:lnTo>
                      <a:pt x="10007" y="2"/>
                    </a:lnTo>
                    <a:cubicBezTo>
                      <a:pt x="10008" y="2"/>
                      <a:pt x="10009" y="3"/>
                      <a:pt x="10009" y="4"/>
                    </a:cubicBezTo>
                    <a:cubicBezTo>
                      <a:pt x="10009" y="5"/>
                      <a:pt x="10008" y="6"/>
                      <a:pt x="10007" y="6"/>
                    </a:cubicBezTo>
                    <a:lnTo>
                      <a:pt x="10007" y="6"/>
                    </a:lnTo>
                    <a:cubicBezTo>
                      <a:pt x="10006" y="6"/>
                      <a:pt x="10005" y="5"/>
                      <a:pt x="10005" y="4"/>
                    </a:cubicBezTo>
                    <a:cubicBezTo>
                      <a:pt x="10005" y="3"/>
                      <a:pt x="10006" y="2"/>
                      <a:pt x="10007" y="2"/>
                    </a:cubicBezTo>
                    <a:close/>
                    <a:moveTo>
                      <a:pt x="10015" y="2"/>
                    </a:moveTo>
                    <a:lnTo>
                      <a:pt x="10015" y="2"/>
                    </a:lnTo>
                    <a:cubicBezTo>
                      <a:pt x="10016" y="2"/>
                      <a:pt x="10017" y="3"/>
                      <a:pt x="10017" y="4"/>
                    </a:cubicBezTo>
                    <a:cubicBezTo>
                      <a:pt x="10017" y="5"/>
                      <a:pt x="10016" y="6"/>
                      <a:pt x="10015" y="6"/>
                    </a:cubicBezTo>
                    <a:lnTo>
                      <a:pt x="10015" y="6"/>
                    </a:lnTo>
                    <a:cubicBezTo>
                      <a:pt x="10014" y="6"/>
                      <a:pt x="10013" y="5"/>
                      <a:pt x="10013" y="4"/>
                    </a:cubicBezTo>
                    <a:cubicBezTo>
                      <a:pt x="10013" y="3"/>
                      <a:pt x="10014" y="2"/>
                      <a:pt x="10015" y="2"/>
                    </a:cubicBezTo>
                    <a:close/>
                    <a:moveTo>
                      <a:pt x="10023" y="2"/>
                    </a:moveTo>
                    <a:lnTo>
                      <a:pt x="10023" y="2"/>
                    </a:lnTo>
                    <a:cubicBezTo>
                      <a:pt x="10024" y="2"/>
                      <a:pt x="10025" y="3"/>
                      <a:pt x="10025" y="4"/>
                    </a:cubicBezTo>
                    <a:cubicBezTo>
                      <a:pt x="10025" y="5"/>
                      <a:pt x="10024" y="6"/>
                      <a:pt x="10023" y="6"/>
                    </a:cubicBezTo>
                    <a:lnTo>
                      <a:pt x="10023" y="6"/>
                    </a:lnTo>
                    <a:cubicBezTo>
                      <a:pt x="10022" y="6"/>
                      <a:pt x="10021" y="5"/>
                      <a:pt x="10021" y="4"/>
                    </a:cubicBezTo>
                    <a:cubicBezTo>
                      <a:pt x="10021" y="3"/>
                      <a:pt x="10022" y="2"/>
                      <a:pt x="10023" y="2"/>
                    </a:cubicBezTo>
                    <a:close/>
                    <a:moveTo>
                      <a:pt x="10031" y="2"/>
                    </a:moveTo>
                    <a:lnTo>
                      <a:pt x="10031" y="2"/>
                    </a:lnTo>
                    <a:cubicBezTo>
                      <a:pt x="10032" y="2"/>
                      <a:pt x="10033" y="3"/>
                      <a:pt x="10033" y="4"/>
                    </a:cubicBezTo>
                    <a:cubicBezTo>
                      <a:pt x="10033" y="5"/>
                      <a:pt x="10032" y="6"/>
                      <a:pt x="10031" y="6"/>
                    </a:cubicBezTo>
                    <a:lnTo>
                      <a:pt x="10031" y="6"/>
                    </a:lnTo>
                    <a:cubicBezTo>
                      <a:pt x="10030" y="6"/>
                      <a:pt x="10029" y="5"/>
                      <a:pt x="10029" y="4"/>
                    </a:cubicBezTo>
                    <a:cubicBezTo>
                      <a:pt x="10029" y="3"/>
                      <a:pt x="10030" y="2"/>
                      <a:pt x="10031" y="2"/>
                    </a:cubicBezTo>
                    <a:close/>
                    <a:moveTo>
                      <a:pt x="10039" y="2"/>
                    </a:moveTo>
                    <a:lnTo>
                      <a:pt x="10039" y="2"/>
                    </a:lnTo>
                    <a:cubicBezTo>
                      <a:pt x="10040" y="2"/>
                      <a:pt x="10041" y="3"/>
                      <a:pt x="10041" y="4"/>
                    </a:cubicBezTo>
                    <a:cubicBezTo>
                      <a:pt x="10041" y="5"/>
                      <a:pt x="10040" y="6"/>
                      <a:pt x="10039" y="6"/>
                    </a:cubicBezTo>
                    <a:lnTo>
                      <a:pt x="10039" y="6"/>
                    </a:lnTo>
                    <a:cubicBezTo>
                      <a:pt x="10038" y="6"/>
                      <a:pt x="10037" y="5"/>
                      <a:pt x="10037" y="4"/>
                    </a:cubicBezTo>
                    <a:cubicBezTo>
                      <a:pt x="10037" y="3"/>
                      <a:pt x="10038" y="2"/>
                      <a:pt x="10039" y="2"/>
                    </a:cubicBezTo>
                    <a:close/>
                    <a:moveTo>
                      <a:pt x="10047" y="2"/>
                    </a:moveTo>
                    <a:lnTo>
                      <a:pt x="10047" y="2"/>
                    </a:lnTo>
                    <a:cubicBezTo>
                      <a:pt x="10048" y="2"/>
                      <a:pt x="10049" y="3"/>
                      <a:pt x="10049" y="4"/>
                    </a:cubicBezTo>
                    <a:cubicBezTo>
                      <a:pt x="10049" y="5"/>
                      <a:pt x="10048" y="6"/>
                      <a:pt x="10047" y="6"/>
                    </a:cubicBezTo>
                    <a:lnTo>
                      <a:pt x="10047" y="6"/>
                    </a:lnTo>
                    <a:cubicBezTo>
                      <a:pt x="10046" y="6"/>
                      <a:pt x="10045" y="5"/>
                      <a:pt x="10045" y="4"/>
                    </a:cubicBezTo>
                    <a:cubicBezTo>
                      <a:pt x="10045" y="3"/>
                      <a:pt x="10046" y="2"/>
                      <a:pt x="10047" y="2"/>
                    </a:cubicBezTo>
                    <a:close/>
                    <a:moveTo>
                      <a:pt x="10055" y="2"/>
                    </a:moveTo>
                    <a:lnTo>
                      <a:pt x="10055" y="2"/>
                    </a:lnTo>
                    <a:cubicBezTo>
                      <a:pt x="10056" y="2"/>
                      <a:pt x="10057" y="3"/>
                      <a:pt x="10057" y="4"/>
                    </a:cubicBezTo>
                    <a:cubicBezTo>
                      <a:pt x="10057" y="5"/>
                      <a:pt x="10056" y="6"/>
                      <a:pt x="10055" y="6"/>
                    </a:cubicBezTo>
                    <a:lnTo>
                      <a:pt x="10055" y="6"/>
                    </a:lnTo>
                    <a:cubicBezTo>
                      <a:pt x="10054" y="6"/>
                      <a:pt x="10053" y="5"/>
                      <a:pt x="10053" y="4"/>
                    </a:cubicBezTo>
                    <a:cubicBezTo>
                      <a:pt x="10053" y="3"/>
                      <a:pt x="10054" y="2"/>
                      <a:pt x="10055" y="2"/>
                    </a:cubicBezTo>
                    <a:close/>
                    <a:moveTo>
                      <a:pt x="10063" y="2"/>
                    </a:moveTo>
                    <a:lnTo>
                      <a:pt x="10063" y="2"/>
                    </a:lnTo>
                    <a:cubicBezTo>
                      <a:pt x="10064" y="2"/>
                      <a:pt x="10065" y="3"/>
                      <a:pt x="10065" y="4"/>
                    </a:cubicBezTo>
                    <a:cubicBezTo>
                      <a:pt x="10065" y="5"/>
                      <a:pt x="10064" y="6"/>
                      <a:pt x="10063" y="6"/>
                    </a:cubicBezTo>
                    <a:lnTo>
                      <a:pt x="10063" y="6"/>
                    </a:lnTo>
                    <a:cubicBezTo>
                      <a:pt x="10062" y="6"/>
                      <a:pt x="10061" y="5"/>
                      <a:pt x="10061" y="4"/>
                    </a:cubicBezTo>
                    <a:cubicBezTo>
                      <a:pt x="10061" y="3"/>
                      <a:pt x="10062" y="2"/>
                      <a:pt x="10063" y="2"/>
                    </a:cubicBezTo>
                    <a:close/>
                    <a:moveTo>
                      <a:pt x="10071" y="2"/>
                    </a:moveTo>
                    <a:lnTo>
                      <a:pt x="10071" y="2"/>
                    </a:lnTo>
                    <a:cubicBezTo>
                      <a:pt x="10072" y="2"/>
                      <a:pt x="10073" y="3"/>
                      <a:pt x="10073" y="4"/>
                    </a:cubicBezTo>
                    <a:cubicBezTo>
                      <a:pt x="10073" y="5"/>
                      <a:pt x="10072" y="6"/>
                      <a:pt x="10071" y="6"/>
                    </a:cubicBezTo>
                    <a:lnTo>
                      <a:pt x="10071" y="6"/>
                    </a:lnTo>
                    <a:cubicBezTo>
                      <a:pt x="10070" y="6"/>
                      <a:pt x="10069" y="5"/>
                      <a:pt x="10069" y="4"/>
                    </a:cubicBezTo>
                    <a:cubicBezTo>
                      <a:pt x="10069" y="3"/>
                      <a:pt x="10070" y="2"/>
                      <a:pt x="10071" y="2"/>
                    </a:cubicBezTo>
                    <a:close/>
                    <a:moveTo>
                      <a:pt x="10079" y="2"/>
                    </a:moveTo>
                    <a:lnTo>
                      <a:pt x="10079" y="2"/>
                    </a:lnTo>
                    <a:cubicBezTo>
                      <a:pt x="10080" y="2"/>
                      <a:pt x="10081" y="3"/>
                      <a:pt x="10081" y="4"/>
                    </a:cubicBezTo>
                    <a:cubicBezTo>
                      <a:pt x="10081" y="5"/>
                      <a:pt x="10080" y="6"/>
                      <a:pt x="10079" y="6"/>
                    </a:cubicBezTo>
                    <a:lnTo>
                      <a:pt x="10079" y="6"/>
                    </a:lnTo>
                    <a:cubicBezTo>
                      <a:pt x="10078" y="6"/>
                      <a:pt x="10077" y="5"/>
                      <a:pt x="10077" y="4"/>
                    </a:cubicBezTo>
                    <a:cubicBezTo>
                      <a:pt x="10077" y="3"/>
                      <a:pt x="10078" y="2"/>
                      <a:pt x="10079" y="2"/>
                    </a:cubicBezTo>
                    <a:close/>
                    <a:moveTo>
                      <a:pt x="10087" y="2"/>
                    </a:moveTo>
                    <a:lnTo>
                      <a:pt x="10087" y="2"/>
                    </a:lnTo>
                    <a:cubicBezTo>
                      <a:pt x="10088" y="2"/>
                      <a:pt x="10089" y="3"/>
                      <a:pt x="10089" y="4"/>
                    </a:cubicBezTo>
                    <a:cubicBezTo>
                      <a:pt x="10089" y="5"/>
                      <a:pt x="10088" y="6"/>
                      <a:pt x="10087" y="6"/>
                    </a:cubicBezTo>
                    <a:lnTo>
                      <a:pt x="10087" y="6"/>
                    </a:lnTo>
                    <a:cubicBezTo>
                      <a:pt x="10086" y="6"/>
                      <a:pt x="10085" y="5"/>
                      <a:pt x="10085" y="4"/>
                    </a:cubicBezTo>
                    <a:cubicBezTo>
                      <a:pt x="10085" y="3"/>
                      <a:pt x="10086" y="2"/>
                      <a:pt x="10087" y="2"/>
                    </a:cubicBezTo>
                    <a:close/>
                    <a:moveTo>
                      <a:pt x="10095" y="2"/>
                    </a:moveTo>
                    <a:lnTo>
                      <a:pt x="10095" y="2"/>
                    </a:lnTo>
                    <a:cubicBezTo>
                      <a:pt x="10096" y="2"/>
                      <a:pt x="10097" y="3"/>
                      <a:pt x="10097" y="4"/>
                    </a:cubicBezTo>
                    <a:cubicBezTo>
                      <a:pt x="10097" y="5"/>
                      <a:pt x="10096" y="6"/>
                      <a:pt x="10095" y="6"/>
                    </a:cubicBezTo>
                    <a:lnTo>
                      <a:pt x="10095" y="6"/>
                    </a:lnTo>
                    <a:cubicBezTo>
                      <a:pt x="10094" y="6"/>
                      <a:pt x="10093" y="5"/>
                      <a:pt x="10093" y="4"/>
                    </a:cubicBezTo>
                    <a:cubicBezTo>
                      <a:pt x="10093" y="3"/>
                      <a:pt x="10094" y="2"/>
                      <a:pt x="10095" y="2"/>
                    </a:cubicBezTo>
                    <a:close/>
                    <a:moveTo>
                      <a:pt x="10103" y="2"/>
                    </a:moveTo>
                    <a:lnTo>
                      <a:pt x="10103" y="2"/>
                    </a:lnTo>
                    <a:cubicBezTo>
                      <a:pt x="10104" y="2"/>
                      <a:pt x="10105" y="3"/>
                      <a:pt x="10105" y="4"/>
                    </a:cubicBezTo>
                    <a:cubicBezTo>
                      <a:pt x="10105" y="5"/>
                      <a:pt x="10104" y="6"/>
                      <a:pt x="10103" y="6"/>
                    </a:cubicBezTo>
                    <a:lnTo>
                      <a:pt x="10103" y="6"/>
                    </a:lnTo>
                    <a:cubicBezTo>
                      <a:pt x="10102" y="6"/>
                      <a:pt x="10101" y="5"/>
                      <a:pt x="10101" y="4"/>
                    </a:cubicBezTo>
                    <a:cubicBezTo>
                      <a:pt x="10101" y="3"/>
                      <a:pt x="10102" y="2"/>
                      <a:pt x="10103" y="2"/>
                    </a:cubicBezTo>
                    <a:close/>
                    <a:moveTo>
                      <a:pt x="10111" y="2"/>
                    </a:moveTo>
                    <a:lnTo>
                      <a:pt x="10111" y="2"/>
                    </a:lnTo>
                    <a:cubicBezTo>
                      <a:pt x="10112" y="2"/>
                      <a:pt x="10113" y="3"/>
                      <a:pt x="10113" y="4"/>
                    </a:cubicBezTo>
                    <a:cubicBezTo>
                      <a:pt x="10113" y="5"/>
                      <a:pt x="10112" y="6"/>
                      <a:pt x="10111" y="6"/>
                    </a:cubicBezTo>
                    <a:lnTo>
                      <a:pt x="10111" y="6"/>
                    </a:lnTo>
                    <a:cubicBezTo>
                      <a:pt x="10110" y="6"/>
                      <a:pt x="10109" y="5"/>
                      <a:pt x="10109" y="4"/>
                    </a:cubicBezTo>
                    <a:cubicBezTo>
                      <a:pt x="10109" y="3"/>
                      <a:pt x="10110" y="2"/>
                      <a:pt x="10111" y="2"/>
                    </a:cubicBezTo>
                    <a:close/>
                    <a:moveTo>
                      <a:pt x="10119" y="2"/>
                    </a:moveTo>
                    <a:lnTo>
                      <a:pt x="10119" y="2"/>
                    </a:lnTo>
                    <a:cubicBezTo>
                      <a:pt x="10120" y="2"/>
                      <a:pt x="10121" y="3"/>
                      <a:pt x="10121" y="4"/>
                    </a:cubicBezTo>
                    <a:cubicBezTo>
                      <a:pt x="10121" y="5"/>
                      <a:pt x="10120" y="6"/>
                      <a:pt x="10119" y="6"/>
                    </a:cubicBezTo>
                    <a:lnTo>
                      <a:pt x="10119" y="6"/>
                    </a:lnTo>
                    <a:cubicBezTo>
                      <a:pt x="10118" y="6"/>
                      <a:pt x="10117" y="5"/>
                      <a:pt x="10117" y="4"/>
                    </a:cubicBezTo>
                    <a:cubicBezTo>
                      <a:pt x="10117" y="3"/>
                      <a:pt x="10118" y="2"/>
                      <a:pt x="10119" y="2"/>
                    </a:cubicBezTo>
                    <a:close/>
                    <a:moveTo>
                      <a:pt x="10127" y="2"/>
                    </a:moveTo>
                    <a:lnTo>
                      <a:pt x="10127" y="2"/>
                    </a:lnTo>
                    <a:cubicBezTo>
                      <a:pt x="10128" y="2"/>
                      <a:pt x="10129" y="3"/>
                      <a:pt x="10129" y="4"/>
                    </a:cubicBezTo>
                    <a:cubicBezTo>
                      <a:pt x="10129" y="5"/>
                      <a:pt x="10128" y="6"/>
                      <a:pt x="10127" y="6"/>
                    </a:cubicBezTo>
                    <a:lnTo>
                      <a:pt x="10127" y="6"/>
                    </a:lnTo>
                    <a:cubicBezTo>
                      <a:pt x="10126" y="6"/>
                      <a:pt x="10125" y="5"/>
                      <a:pt x="10125" y="4"/>
                    </a:cubicBezTo>
                    <a:cubicBezTo>
                      <a:pt x="10125" y="3"/>
                      <a:pt x="10126" y="2"/>
                      <a:pt x="10127" y="2"/>
                    </a:cubicBezTo>
                    <a:close/>
                    <a:moveTo>
                      <a:pt x="10135" y="2"/>
                    </a:moveTo>
                    <a:lnTo>
                      <a:pt x="10135" y="2"/>
                    </a:lnTo>
                    <a:cubicBezTo>
                      <a:pt x="10136" y="2"/>
                      <a:pt x="10137" y="3"/>
                      <a:pt x="10137" y="4"/>
                    </a:cubicBezTo>
                    <a:cubicBezTo>
                      <a:pt x="10137" y="5"/>
                      <a:pt x="10136" y="6"/>
                      <a:pt x="10135" y="6"/>
                    </a:cubicBezTo>
                    <a:lnTo>
                      <a:pt x="10135" y="6"/>
                    </a:lnTo>
                    <a:cubicBezTo>
                      <a:pt x="10134" y="6"/>
                      <a:pt x="10133" y="5"/>
                      <a:pt x="10133" y="4"/>
                    </a:cubicBezTo>
                    <a:cubicBezTo>
                      <a:pt x="10133" y="3"/>
                      <a:pt x="10134" y="2"/>
                      <a:pt x="10135" y="2"/>
                    </a:cubicBezTo>
                    <a:close/>
                    <a:moveTo>
                      <a:pt x="10143" y="2"/>
                    </a:moveTo>
                    <a:lnTo>
                      <a:pt x="10143" y="2"/>
                    </a:lnTo>
                    <a:cubicBezTo>
                      <a:pt x="10144" y="2"/>
                      <a:pt x="10145" y="3"/>
                      <a:pt x="10145" y="4"/>
                    </a:cubicBezTo>
                    <a:cubicBezTo>
                      <a:pt x="10145" y="5"/>
                      <a:pt x="10144" y="6"/>
                      <a:pt x="10143" y="6"/>
                    </a:cubicBezTo>
                    <a:lnTo>
                      <a:pt x="10143" y="6"/>
                    </a:lnTo>
                    <a:cubicBezTo>
                      <a:pt x="10142" y="6"/>
                      <a:pt x="10141" y="5"/>
                      <a:pt x="10141" y="4"/>
                    </a:cubicBezTo>
                    <a:cubicBezTo>
                      <a:pt x="10141" y="3"/>
                      <a:pt x="10142" y="2"/>
                      <a:pt x="10143" y="2"/>
                    </a:cubicBezTo>
                    <a:close/>
                    <a:moveTo>
                      <a:pt x="10151" y="2"/>
                    </a:moveTo>
                    <a:lnTo>
                      <a:pt x="10151" y="2"/>
                    </a:lnTo>
                    <a:cubicBezTo>
                      <a:pt x="10152" y="2"/>
                      <a:pt x="10153" y="3"/>
                      <a:pt x="10153" y="4"/>
                    </a:cubicBezTo>
                    <a:cubicBezTo>
                      <a:pt x="10153" y="5"/>
                      <a:pt x="10152" y="6"/>
                      <a:pt x="10151" y="6"/>
                    </a:cubicBezTo>
                    <a:lnTo>
                      <a:pt x="10151" y="6"/>
                    </a:lnTo>
                    <a:cubicBezTo>
                      <a:pt x="10150" y="6"/>
                      <a:pt x="10149" y="5"/>
                      <a:pt x="10149" y="4"/>
                    </a:cubicBezTo>
                    <a:cubicBezTo>
                      <a:pt x="10149" y="3"/>
                      <a:pt x="10150" y="2"/>
                      <a:pt x="10151" y="2"/>
                    </a:cubicBezTo>
                    <a:close/>
                    <a:moveTo>
                      <a:pt x="10159" y="2"/>
                    </a:moveTo>
                    <a:lnTo>
                      <a:pt x="10159" y="2"/>
                    </a:lnTo>
                    <a:cubicBezTo>
                      <a:pt x="10160" y="2"/>
                      <a:pt x="10161" y="3"/>
                      <a:pt x="10161" y="4"/>
                    </a:cubicBezTo>
                    <a:cubicBezTo>
                      <a:pt x="10161" y="5"/>
                      <a:pt x="10160" y="6"/>
                      <a:pt x="10159" y="6"/>
                    </a:cubicBezTo>
                    <a:lnTo>
                      <a:pt x="10159" y="6"/>
                    </a:lnTo>
                    <a:cubicBezTo>
                      <a:pt x="10158" y="6"/>
                      <a:pt x="10157" y="5"/>
                      <a:pt x="10157" y="4"/>
                    </a:cubicBezTo>
                    <a:cubicBezTo>
                      <a:pt x="10157" y="3"/>
                      <a:pt x="10158" y="2"/>
                      <a:pt x="10159" y="2"/>
                    </a:cubicBezTo>
                    <a:close/>
                    <a:moveTo>
                      <a:pt x="10167" y="2"/>
                    </a:moveTo>
                    <a:lnTo>
                      <a:pt x="10167" y="2"/>
                    </a:lnTo>
                    <a:cubicBezTo>
                      <a:pt x="10168" y="2"/>
                      <a:pt x="10169" y="3"/>
                      <a:pt x="10169" y="4"/>
                    </a:cubicBezTo>
                    <a:cubicBezTo>
                      <a:pt x="10169" y="5"/>
                      <a:pt x="10168" y="6"/>
                      <a:pt x="10167" y="6"/>
                    </a:cubicBezTo>
                    <a:lnTo>
                      <a:pt x="10167" y="6"/>
                    </a:lnTo>
                    <a:cubicBezTo>
                      <a:pt x="10166" y="6"/>
                      <a:pt x="10165" y="5"/>
                      <a:pt x="10165" y="4"/>
                    </a:cubicBezTo>
                    <a:cubicBezTo>
                      <a:pt x="10165" y="3"/>
                      <a:pt x="10166" y="2"/>
                      <a:pt x="10167" y="2"/>
                    </a:cubicBezTo>
                    <a:close/>
                    <a:moveTo>
                      <a:pt x="10175" y="2"/>
                    </a:moveTo>
                    <a:lnTo>
                      <a:pt x="10175" y="2"/>
                    </a:lnTo>
                    <a:cubicBezTo>
                      <a:pt x="10176" y="2"/>
                      <a:pt x="10177" y="3"/>
                      <a:pt x="10177" y="4"/>
                    </a:cubicBezTo>
                    <a:cubicBezTo>
                      <a:pt x="10177" y="5"/>
                      <a:pt x="10176" y="6"/>
                      <a:pt x="10175" y="6"/>
                    </a:cubicBezTo>
                    <a:lnTo>
                      <a:pt x="10175" y="6"/>
                    </a:lnTo>
                    <a:cubicBezTo>
                      <a:pt x="10174" y="6"/>
                      <a:pt x="10173" y="5"/>
                      <a:pt x="10173" y="4"/>
                    </a:cubicBezTo>
                    <a:cubicBezTo>
                      <a:pt x="10173" y="3"/>
                      <a:pt x="10174" y="2"/>
                      <a:pt x="10175" y="2"/>
                    </a:cubicBezTo>
                    <a:close/>
                    <a:moveTo>
                      <a:pt x="10183" y="2"/>
                    </a:moveTo>
                    <a:lnTo>
                      <a:pt x="10183" y="2"/>
                    </a:lnTo>
                    <a:cubicBezTo>
                      <a:pt x="10184" y="2"/>
                      <a:pt x="10185" y="3"/>
                      <a:pt x="10185" y="4"/>
                    </a:cubicBezTo>
                    <a:cubicBezTo>
                      <a:pt x="10185" y="5"/>
                      <a:pt x="10184" y="6"/>
                      <a:pt x="10183" y="6"/>
                    </a:cubicBezTo>
                    <a:lnTo>
                      <a:pt x="10183" y="6"/>
                    </a:lnTo>
                    <a:cubicBezTo>
                      <a:pt x="10182" y="6"/>
                      <a:pt x="10181" y="5"/>
                      <a:pt x="10181" y="4"/>
                    </a:cubicBezTo>
                    <a:cubicBezTo>
                      <a:pt x="10181" y="3"/>
                      <a:pt x="10182" y="2"/>
                      <a:pt x="10183" y="2"/>
                    </a:cubicBezTo>
                    <a:close/>
                    <a:moveTo>
                      <a:pt x="10191" y="2"/>
                    </a:moveTo>
                    <a:lnTo>
                      <a:pt x="10191" y="2"/>
                    </a:lnTo>
                    <a:cubicBezTo>
                      <a:pt x="10192" y="2"/>
                      <a:pt x="10193" y="3"/>
                      <a:pt x="10193" y="4"/>
                    </a:cubicBezTo>
                    <a:cubicBezTo>
                      <a:pt x="10193" y="5"/>
                      <a:pt x="10192" y="6"/>
                      <a:pt x="10191" y="6"/>
                    </a:cubicBezTo>
                    <a:lnTo>
                      <a:pt x="10191" y="6"/>
                    </a:lnTo>
                    <a:cubicBezTo>
                      <a:pt x="10190" y="6"/>
                      <a:pt x="10189" y="5"/>
                      <a:pt x="10189" y="4"/>
                    </a:cubicBezTo>
                    <a:cubicBezTo>
                      <a:pt x="10189" y="3"/>
                      <a:pt x="10190" y="2"/>
                      <a:pt x="10191" y="2"/>
                    </a:cubicBezTo>
                    <a:close/>
                    <a:moveTo>
                      <a:pt x="10199" y="2"/>
                    </a:moveTo>
                    <a:lnTo>
                      <a:pt x="10199" y="2"/>
                    </a:lnTo>
                    <a:cubicBezTo>
                      <a:pt x="10200" y="2"/>
                      <a:pt x="10201" y="3"/>
                      <a:pt x="10201" y="4"/>
                    </a:cubicBezTo>
                    <a:cubicBezTo>
                      <a:pt x="10201" y="5"/>
                      <a:pt x="10200" y="6"/>
                      <a:pt x="10199" y="6"/>
                    </a:cubicBezTo>
                    <a:lnTo>
                      <a:pt x="10199" y="6"/>
                    </a:lnTo>
                    <a:cubicBezTo>
                      <a:pt x="10198" y="6"/>
                      <a:pt x="10197" y="5"/>
                      <a:pt x="10197" y="4"/>
                    </a:cubicBezTo>
                    <a:cubicBezTo>
                      <a:pt x="10197" y="3"/>
                      <a:pt x="10198" y="2"/>
                      <a:pt x="10199" y="2"/>
                    </a:cubicBezTo>
                    <a:close/>
                    <a:moveTo>
                      <a:pt x="10207" y="2"/>
                    </a:moveTo>
                    <a:lnTo>
                      <a:pt x="10207" y="2"/>
                    </a:lnTo>
                    <a:cubicBezTo>
                      <a:pt x="10208" y="2"/>
                      <a:pt x="10209" y="3"/>
                      <a:pt x="10209" y="4"/>
                    </a:cubicBezTo>
                    <a:cubicBezTo>
                      <a:pt x="10209" y="5"/>
                      <a:pt x="10208" y="6"/>
                      <a:pt x="10207" y="6"/>
                    </a:cubicBezTo>
                    <a:lnTo>
                      <a:pt x="10207" y="6"/>
                    </a:lnTo>
                    <a:cubicBezTo>
                      <a:pt x="10206" y="6"/>
                      <a:pt x="10205" y="5"/>
                      <a:pt x="10205" y="4"/>
                    </a:cubicBezTo>
                    <a:cubicBezTo>
                      <a:pt x="10205" y="3"/>
                      <a:pt x="10206" y="2"/>
                      <a:pt x="10207" y="2"/>
                    </a:cubicBezTo>
                    <a:close/>
                    <a:moveTo>
                      <a:pt x="10215" y="2"/>
                    </a:moveTo>
                    <a:lnTo>
                      <a:pt x="10215" y="2"/>
                    </a:lnTo>
                    <a:cubicBezTo>
                      <a:pt x="10216" y="2"/>
                      <a:pt x="10217" y="3"/>
                      <a:pt x="10217" y="4"/>
                    </a:cubicBezTo>
                    <a:cubicBezTo>
                      <a:pt x="10217" y="5"/>
                      <a:pt x="10216" y="6"/>
                      <a:pt x="10215" y="6"/>
                    </a:cubicBezTo>
                    <a:lnTo>
                      <a:pt x="10215" y="6"/>
                    </a:lnTo>
                    <a:cubicBezTo>
                      <a:pt x="10214" y="6"/>
                      <a:pt x="10213" y="5"/>
                      <a:pt x="10213" y="4"/>
                    </a:cubicBezTo>
                    <a:cubicBezTo>
                      <a:pt x="10213" y="3"/>
                      <a:pt x="10214" y="2"/>
                      <a:pt x="10215" y="2"/>
                    </a:cubicBezTo>
                    <a:close/>
                    <a:moveTo>
                      <a:pt x="10223" y="2"/>
                    </a:moveTo>
                    <a:lnTo>
                      <a:pt x="10223" y="2"/>
                    </a:lnTo>
                    <a:cubicBezTo>
                      <a:pt x="10224" y="2"/>
                      <a:pt x="10225" y="3"/>
                      <a:pt x="10225" y="4"/>
                    </a:cubicBezTo>
                    <a:cubicBezTo>
                      <a:pt x="10225" y="5"/>
                      <a:pt x="10224" y="6"/>
                      <a:pt x="10223" y="6"/>
                    </a:cubicBezTo>
                    <a:lnTo>
                      <a:pt x="10223" y="6"/>
                    </a:lnTo>
                    <a:cubicBezTo>
                      <a:pt x="10222" y="6"/>
                      <a:pt x="10221" y="5"/>
                      <a:pt x="10221" y="4"/>
                    </a:cubicBezTo>
                    <a:cubicBezTo>
                      <a:pt x="10221" y="3"/>
                      <a:pt x="10222" y="2"/>
                      <a:pt x="10223" y="2"/>
                    </a:cubicBezTo>
                    <a:close/>
                    <a:moveTo>
                      <a:pt x="10231" y="2"/>
                    </a:moveTo>
                    <a:lnTo>
                      <a:pt x="10231" y="2"/>
                    </a:lnTo>
                    <a:cubicBezTo>
                      <a:pt x="10232" y="2"/>
                      <a:pt x="10233" y="3"/>
                      <a:pt x="10233" y="4"/>
                    </a:cubicBezTo>
                    <a:cubicBezTo>
                      <a:pt x="10233" y="5"/>
                      <a:pt x="10232" y="6"/>
                      <a:pt x="10231" y="6"/>
                    </a:cubicBezTo>
                    <a:lnTo>
                      <a:pt x="10231" y="6"/>
                    </a:lnTo>
                    <a:cubicBezTo>
                      <a:pt x="10230" y="6"/>
                      <a:pt x="10229" y="5"/>
                      <a:pt x="10229" y="4"/>
                    </a:cubicBezTo>
                    <a:cubicBezTo>
                      <a:pt x="10229" y="3"/>
                      <a:pt x="10230" y="2"/>
                      <a:pt x="10231" y="2"/>
                    </a:cubicBezTo>
                    <a:close/>
                    <a:moveTo>
                      <a:pt x="10239" y="2"/>
                    </a:moveTo>
                    <a:lnTo>
                      <a:pt x="10239" y="2"/>
                    </a:lnTo>
                    <a:cubicBezTo>
                      <a:pt x="10240" y="2"/>
                      <a:pt x="10241" y="3"/>
                      <a:pt x="10241" y="4"/>
                    </a:cubicBezTo>
                    <a:cubicBezTo>
                      <a:pt x="10241" y="5"/>
                      <a:pt x="10240" y="6"/>
                      <a:pt x="10239" y="6"/>
                    </a:cubicBezTo>
                    <a:lnTo>
                      <a:pt x="10239" y="6"/>
                    </a:lnTo>
                    <a:cubicBezTo>
                      <a:pt x="10238" y="6"/>
                      <a:pt x="10237" y="5"/>
                      <a:pt x="10237" y="4"/>
                    </a:cubicBezTo>
                    <a:cubicBezTo>
                      <a:pt x="10237" y="3"/>
                      <a:pt x="10238" y="2"/>
                      <a:pt x="10239" y="2"/>
                    </a:cubicBezTo>
                    <a:close/>
                    <a:moveTo>
                      <a:pt x="10247" y="2"/>
                    </a:moveTo>
                    <a:lnTo>
                      <a:pt x="10247" y="2"/>
                    </a:lnTo>
                    <a:cubicBezTo>
                      <a:pt x="10248" y="2"/>
                      <a:pt x="10249" y="3"/>
                      <a:pt x="10249" y="4"/>
                    </a:cubicBezTo>
                    <a:cubicBezTo>
                      <a:pt x="10249" y="5"/>
                      <a:pt x="10248" y="6"/>
                      <a:pt x="10247" y="6"/>
                    </a:cubicBezTo>
                    <a:lnTo>
                      <a:pt x="10247" y="6"/>
                    </a:lnTo>
                    <a:cubicBezTo>
                      <a:pt x="10246" y="6"/>
                      <a:pt x="10245" y="5"/>
                      <a:pt x="10245" y="4"/>
                    </a:cubicBezTo>
                    <a:cubicBezTo>
                      <a:pt x="10245" y="3"/>
                      <a:pt x="10246" y="2"/>
                      <a:pt x="10247" y="2"/>
                    </a:cubicBezTo>
                    <a:close/>
                    <a:moveTo>
                      <a:pt x="10255" y="2"/>
                    </a:moveTo>
                    <a:lnTo>
                      <a:pt x="10255" y="2"/>
                    </a:lnTo>
                    <a:cubicBezTo>
                      <a:pt x="10256" y="2"/>
                      <a:pt x="10257" y="3"/>
                      <a:pt x="10257" y="4"/>
                    </a:cubicBezTo>
                    <a:cubicBezTo>
                      <a:pt x="10257" y="5"/>
                      <a:pt x="10256" y="6"/>
                      <a:pt x="10255" y="6"/>
                    </a:cubicBezTo>
                    <a:lnTo>
                      <a:pt x="10255" y="6"/>
                    </a:lnTo>
                    <a:cubicBezTo>
                      <a:pt x="10254" y="6"/>
                      <a:pt x="10253" y="5"/>
                      <a:pt x="10253" y="4"/>
                    </a:cubicBezTo>
                    <a:cubicBezTo>
                      <a:pt x="10253" y="3"/>
                      <a:pt x="10254" y="2"/>
                      <a:pt x="10255" y="2"/>
                    </a:cubicBezTo>
                    <a:close/>
                    <a:moveTo>
                      <a:pt x="10263" y="2"/>
                    </a:moveTo>
                    <a:lnTo>
                      <a:pt x="10263" y="2"/>
                    </a:lnTo>
                    <a:cubicBezTo>
                      <a:pt x="10264" y="2"/>
                      <a:pt x="10265" y="3"/>
                      <a:pt x="10265" y="4"/>
                    </a:cubicBezTo>
                    <a:cubicBezTo>
                      <a:pt x="10265" y="5"/>
                      <a:pt x="10264" y="6"/>
                      <a:pt x="10263" y="6"/>
                    </a:cubicBezTo>
                    <a:lnTo>
                      <a:pt x="10263" y="6"/>
                    </a:lnTo>
                    <a:cubicBezTo>
                      <a:pt x="10262" y="6"/>
                      <a:pt x="10261" y="5"/>
                      <a:pt x="10261" y="4"/>
                    </a:cubicBezTo>
                    <a:cubicBezTo>
                      <a:pt x="10261" y="3"/>
                      <a:pt x="10262" y="2"/>
                      <a:pt x="10263" y="2"/>
                    </a:cubicBezTo>
                    <a:close/>
                    <a:moveTo>
                      <a:pt x="10271" y="2"/>
                    </a:moveTo>
                    <a:lnTo>
                      <a:pt x="10271" y="2"/>
                    </a:lnTo>
                    <a:cubicBezTo>
                      <a:pt x="10272" y="2"/>
                      <a:pt x="10273" y="3"/>
                      <a:pt x="10273" y="4"/>
                    </a:cubicBezTo>
                    <a:cubicBezTo>
                      <a:pt x="10273" y="5"/>
                      <a:pt x="10272" y="6"/>
                      <a:pt x="10271" y="6"/>
                    </a:cubicBezTo>
                    <a:lnTo>
                      <a:pt x="10271" y="6"/>
                    </a:lnTo>
                    <a:cubicBezTo>
                      <a:pt x="10270" y="6"/>
                      <a:pt x="10269" y="5"/>
                      <a:pt x="10269" y="4"/>
                    </a:cubicBezTo>
                    <a:cubicBezTo>
                      <a:pt x="10269" y="3"/>
                      <a:pt x="10270" y="2"/>
                      <a:pt x="10271" y="2"/>
                    </a:cubicBezTo>
                    <a:close/>
                    <a:moveTo>
                      <a:pt x="10279" y="2"/>
                    </a:moveTo>
                    <a:lnTo>
                      <a:pt x="10279" y="2"/>
                    </a:lnTo>
                    <a:cubicBezTo>
                      <a:pt x="10280" y="2"/>
                      <a:pt x="10281" y="3"/>
                      <a:pt x="10281" y="4"/>
                    </a:cubicBezTo>
                    <a:cubicBezTo>
                      <a:pt x="10281" y="5"/>
                      <a:pt x="10280" y="6"/>
                      <a:pt x="10279" y="6"/>
                    </a:cubicBezTo>
                    <a:lnTo>
                      <a:pt x="10279" y="6"/>
                    </a:lnTo>
                    <a:cubicBezTo>
                      <a:pt x="10278" y="6"/>
                      <a:pt x="10277" y="5"/>
                      <a:pt x="10277" y="4"/>
                    </a:cubicBezTo>
                    <a:cubicBezTo>
                      <a:pt x="10277" y="3"/>
                      <a:pt x="10278" y="2"/>
                      <a:pt x="10279" y="2"/>
                    </a:cubicBezTo>
                    <a:close/>
                    <a:moveTo>
                      <a:pt x="10287" y="2"/>
                    </a:moveTo>
                    <a:lnTo>
                      <a:pt x="10287" y="2"/>
                    </a:lnTo>
                    <a:cubicBezTo>
                      <a:pt x="10288" y="2"/>
                      <a:pt x="10289" y="3"/>
                      <a:pt x="10289" y="4"/>
                    </a:cubicBezTo>
                    <a:cubicBezTo>
                      <a:pt x="10289" y="5"/>
                      <a:pt x="10288" y="6"/>
                      <a:pt x="10287" y="6"/>
                    </a:cubicBezTo>
                    <a:lnTo>
                      <a:pt x="10287" y="6"/>
                    </a:lnTo>
                    <a:cubicBezTo>
                      <a:pt x="10286" y="6"/>
                      <a:pt x="10285" y="5"/>
                      <a:pt x="10285" y="4"/>
                    </a:cubicBezTo>
                    <a:cubicBezTo>
                      <a:pt x="10285" y="3"/>
                      <a:pt x="10286" y="2"/>
                      <a:pt x="10287" y="2"/>
                    </a:cubicBezTo>
                    <a:close/>
                    <a:moveTo>
                      <a:pt x="10295" y="2"/>
                    </a:moveTo>
                    <a:lnTo>
                      <a:pt x="10295" y="2"/>
                    </a:lnTo>
                    <a:cubicBezTo>
                      <a:pt x="10296" y="2"/>
                      <a:pt x="10297" y="3"/>
                      <a:pt x="10297" y="4"/>
                    </a:cubicBezTo>
                    <a:cubicBezTo>
                      <a:pt x="10297" y="5"/>
                      <a:pt x="10296" y="6"/>
                      <a:pt x="10295" y="6"/>
                    </a:cubicBezTo>
                    <a:lnTo>
                      <a:pt x="10295" y="6"/>
                    </a:lnTo>
                    <a:cubicBezTo>
                      <a:pt x="10294" y="6"/>
                      <a:pt x="10293" y="5"/>
                      <a:pt x="10293" y="4"/>
                    </a:cubicBezTo>
                    <a:cubicBezTo>
                      <a:pt x="10293" y="3"/>
                      <a:pt x="10294" y="2"/>
                      <a:pt x="10295" y="2"/>
                    </a:cubicBezTo>
                    <a:close/>
                    <a:moveTo>
                      <a:pt x="10303" y="2"/>
                    </a:moveTo>
                    <a:lnTo>
                      <a:pt x="10303" y="2"/>
                    </a:lnTo>
                    <a:cubicBezTo>
                      <a:pt x="10304" y="2"/>
                      <a:pt x="10305" y="3"/>
                      <a:pt x="10305" y="4"/>
                    </a:cubicBezTo>
                    <a:cubicBezTo>
                      <a:pt x="10305" y="5"/>
                      <a:pt x="10304" y="6"/>
                      <a:pt x="10303" y="6"/>
                    </a:cubicBezTo>
                    <a:lnTo>
                      <a:pt x="10303" y="6"/>
                    </a:lnTo>
                    <a:cubicBezTo>
                      <a:pt x="10302" y="6"/>
                      <a:pt x="10301" y="5"/>
                      <a:pt x="10301" y="4"/>
                    </a:cubicBezTo>
                    <a:cubicBezTo>
                      <a:pt x="10301" y="3"/>
                      <a:pt x="10302" y="2"/>
                      <a:pt x="10303" y="2"/>
                    </a:cubicBezTo>
                    <a:close/>
                    <a:moveTo>
                      <a:pt x="10311" y="2"/>
                    </a:moveTo>
                    <a:lnTo>
                      <a:pt x="10311" y="2"/>
                    </a:lnTo>
                    <a:cubicBezTo>
                      <a:pt x="10312" y="2"/>
                      <a:pt x="10313" y="3"/>
                      <a:pt x="10313" y="4"/>
                    </a:cubicBezTo>
                    <a:cubicBezTo>
                      <a:pt x="10313" y="5"/>
                      <a:pt x="10312" y="6"/>
                      <a:pt x="10311" y="6"/>
                    </a:cubicBezTo>
                    <a:lnTo>
                      <a:pt x="10311" y="6"/>
                    </a:lnTo>
                    <a:cubicBezTo>
                      <a:pt x="10310" y="6"/>
                      <a:pt x="10309" y="5"/>
                      <a:pt x="10309" y="4"/>
                    </a:cubicBezTo>
                    <a:cubicBezTo>
                      <a:pt x="10309" y="3"/>
                      <a:pt x="10310" y="2"/>
                      <a:pt x="10311" y="2"/>
                    </a:cubicBezTo>
                    <a:close/>
                    <a:moveTo>
                      <a:pt x="10319" y="2"/>
                    </a:moveTo>
                    <a:lnTo>
                      <a:pt x="10319" y="2"/>
                    </a:lnTo>
                    <a:cubicBezTo>
                      <a:pt x="10320" y="2"/>
                      <a:pt x="10321" y="3"/>
                      <a:pt x="10321" y="4"/>
                    </a:cubicBezTo>
                    <a:cubicBezTo>
                      <a:pt x="10321" y="5"/>
                      <a:pt x="10320" y="6"/>
                      <a:pt x="10319" y="6"/>
                    </a:cubicBezTo>
                    <a:lnTo>
                      <a:pt x="10319" y="6"/>
                    </a:lnTo>
                    <a:cubicBezTo>
                      <a:pt x="10318" y="6"/>
                      <a:pt x="10317" y="5"/>
                      <a:pt x="10317" y="4"/>
                    </a:cubicBezTo>
                    <a:cubicBezTo>
                      <a:pt x="10317" y="3"/>
                      <a:pt x="10318" y="2"/>
                      <a:pt x="10319" y="2"/>
                    </a:cubicBezTo>
                    <a:close/>
                    <a:moveTo>
                      <a:pt x="10327" y="2"/>
                    </a:moveTo>
                    <a:lnTo>
                      <a:pt x="10327" y="2"/>
                    </a:lnTo>
                    <a:cubicBezTo>
                      <a:pt x="10328" y="2"/>
                      <a:pt x="10329" y="3"/>
                      <a:pt x="10329" y="4"/>
                    </a:cubicBezTo>
                    <a:cubicBezTo>
                      <a:pt x="10329" y="5"/>
                      <a:pt x="10328" y="6"/>
                      <a:pt x="10327" y="6"/>
                    </a:cubicBezTo>
                    <a:lnTo>
                      <a:pt x="10327" y="6"/>
                    </a:lnTo>
                    <a:cubicBezTo>
                      <a:pt x="10326" y="6"/>
                      <a:pt x="10325" y="5"/>
                      <a:pt x="10325" y="4"/>
                    </a:cubicBezTo>
                    <a:cubicBezTo>
                      <a:pt x="10325" y="3"/>
                      <a:pt x="10326" y="2"/>
                      <a:pt x="10327" y="2"/>
                    </a:cubicBezTo>
                    <a:close/>
                    <a:moveTo>
                      <a:pt x="10335" y="2"/>
                    </a:moveTo>
                    <a:lnTo>
                      <a:pt x="10335" y="2"/>
                    </a:lnTo>
                    <a:cubicBezTo>
                      <a:pt x="10336" y="2"/>
                      <a:pt x="10337" y="3"/>
                      <a:pt x="10337" y="4"/>
                    </a:cubicBezTo>
                    <a:cubicBezTo>
                      <a:pt x="10337" y="5"/>
                      <a:pt x="10336" y="6"/>
                      <a:pt x="10335" y="6"/>
                    </a:cubicBezTo>
                    <a:lnTo>
                      <a:pt x="10335" y="6"/>
                    </a:lnTo>
                    <a:cubicBezTo>
                      <a:pt x="10334" y="6"/>
                      <a:pt x="10333" y="5"/>
                      <a:pt x="10333" y="4"/>
                    </a:cubicBezTo>
                    <a:cubicBezTo>
                      <a:pt x="10333" y="3"/>
                      <a:pt x="10334" y="2"/>
                      <a:pt x="10335" y="2"/>
                    </a:cubicBezTo>
                    <a:close/>
                    <a:moveTo>
                      <a:pt x="10343" y="2"/>
                    </a:moveTo>
                    <a:lnTo>
                      <a:pt x="10343" y="2"/>
                    </a:lnTo>
                    <a:cubicBezTo>
                      <a:pt x="10344" y="2"/>
                      <a:pt x="10345" y="3"/>
                      <a:pt x="10345" y="4"/>
                    </a:cubicBezTo>
                    <a:cubicBezTo>
                      <a:pt x="10345" y="5"/>
                      <a:pt x="10344" y="6"/>
                      <a:pt x="10343" y="6"/>
                    </a:cubicBezTo>
                    <a:lnTo>
                      <a:pt x="10343" y="6"/>
                    </a:lnTo>
                    <a:cubicBezTo>
                      <a:pt x="10342" y="6"/>
                      <a:pt x="10341" y="5"/>
                      <a:pt x="10341" y="4"/>
                    </a:cubicBezTo>
                    <a:cubicBezTo>
                      <a:pt x="10341" y="3"/>
                      <a:pt x="10342" y="2"/>
                      <a:pt x="10343" y="2"/>
                    </a:cubicBezTo>
                    <a:close/>
                    <a:moveTo>
                      <a:pt x="10351" y="2"/>
                    </a:moveTo>
                    <a:lnTo>
                      <a:pt x="10351" y="2"/>
                    </a:lnTo>
                    <a:cubicBezTo>
                      <a:pt x="10352" y="2"/>
                      <a:pt x="10353" y="3"/>
                      <a:pt x="10353" y="4"/>
                    </a:cubicBezTo>
                    <a:cubicBezTo>
                      <a:pt x="10353" y="5"/>
                      <a:pt x="10352" y="6"/>
                      <a:pt x="10351" y="6"/>
                    </a:cubicBezTo>
                    <a:lnTo>
                      <a:pt x="10351" y="6"/>
                    </a:lnTo>
                    <a:cubicBezTo>
                      <a:pt x="10350" y="6"/>
                      <a:pt x="10349" y="5"/>
                      <a:pt x="10349" y="4"/>
                    </a:cubicBezTo>
                    <a:cubicBezTo>
                      <a:pt x="10349" y="3"/>
                      <a:pt x="10350" y="2"/>
                      <a:pt x="10351" y="2"/>
                    </a:cubicBezTo>
                    <a:close/>
                    <a:moveTo>
                      <a:pt x="10359" y="2"/>
                    </a:moveTo>
                    <a:lnTo>
                      <a:pt x="10359" y="2"/>
                    </a:lnTo>
                    <a:cubicBezTo>
                      <a:pt x="10360" y="2"/>
                      <a:pt x="10361" y="3"/>
                      <a:pt x="10361" y="4"/>
                    </a:cubicBezTo>
                    <a:cubicBezTo>
                      <a:pt x="10361" y="5"/>
                      <a:pt x="10360" y="6"/>
                      <a:pt x="10359" y="6"/>
                    </a:cubicBezTo>
                    <a:lnTo>
                      <a:pt x="10359" y="6"/>
                    </a:lnTo>
                    <a:cubicBezTo>
                      <a:pt x="10358" y="6"/>
                      <a:pt x="10357" y="5"/>
                      <a:pt x="10357" y="4"/>
                    </a:cubicBezTo>
                    <a:cubicBezTo>
                      <a:pt x="10357" y="3"/>
                      <a:pt x="10358" y="2"/>
                      <a:pt x="10359" y="2"/>
                    </a:cubicBezTo>
                    <a:close/>
                    <a:moveTo>
                      <a:pt x="10367" y="2"/>
                    </a:moveTo>
                    <a:lnTo>
                      <a:pt x="10367" y="2"/>
                    </a:lnTo>
                    <a:cubicBezTo>
                      <a:pt x="10368" y="2"/>
                      <a:pt x="10369" y="3"/>
                      <a:pt x="10369" y="4"/>
                    </a:cubicBezTo>
                    <a:cubicBezTo>
                      <a:pt x="10369" y="5"/>
                      <a:pt x="10368" y="6"/>
                      <a:pt x="10367" y="6"/>
                    </a:cubicBezTo>
                    <a:lnTo>
                      <a:pt x="10367" y="6"/>
                    </a:lnTo>
                    <a:cubicBezTo>
                      <a:pt x="10366" y="6"/>
                      <a:pt x="10365" y="5"/>
                      <a:pt x="10365" y="4"/>
                    </a:cubicBezTo>
                    <a:cubicBezTo>
                      <a:pt x="10365" y="3"/>
                      <a:pt x="10366" y="2"/>
                      <a:pt x="10367" y="2"/>
                    </a:cubicBezTo>
                    <a:close/>
                    <a:moveTo>
                      <a:pt x="10375" y="2"/>
                    </a:moveTo>
                    <a:lnTo>
                      <a:pt x="10375" y="2"/>
                    </a:lnTo>
                    <a:cubicBezTo>
                      <a:pt x="10376" y="2"/>
                      <a:pt x="10377" y="3"/>
                      <a:pt x="10377" y="4"/>
                    </a:cubicBezTo>
                    <a:cubicBezTo>
                      <a:pt x="10377" y="5"/>
                      <a:pt x="10376" y="6"/>
                      <a:pt x="10375" y="6"/>
                    </a:cubicBezTo>
                    <a:lnTo>
                      <a:pt x="10375" y="6"/>
                    </a:lnTo>
                    <a:cubicBezTo>
                      <a:pt x="10374" y="6"/>
                      <a:pt x="10373" y="5"/>
                      <a:pt x="10373" y="4"/>
                    </a:cubicBezTo>
                    <a:cubicBezTo>
                      <a:pt x="10373" y="3"/>
                      <a:pt x="10374" y="2"/>
                      <a:pt x="10375" y="2"/>
                    </a:cubicBezTo>
                    <a:close/>
                    <a:moveTo>
                      <a:pt x="10383" y="2"/>
                    </a:moveTo>
                    <a:lnTo>
                      <a:pt x="10383" y="2"/>
                    </a:lnTo>
                    <a:cubicBezTo>
                      <a:pt x="10384" y="2"/>
                      <a:pt x="10385" y="3"/>
                      <a:pt x="10385" y="4"/>
                    </a:cubicBezTo>
                    <a:cubicBezTo>
                      <a:pt x="10385" y="5"/>
                      <a:pt x="10384" y="6"/>
                      <a:pt x="10383" y="6"/>
                    </a:cubicBezTo>
                    <a:lnTo>
                      <a:pt x="10383" y="6"/>
                    </a:lnTo>
                    <a:cubicBezTo>
                      <a:pt x="10382" y="6"/>
                      <a:pt x="10381" y="5"/>
                      <a:pt x="10381" y="4"/>
                    </a:cubicBezTo>
                    <a:cubicBezTo>
                      <a:pt x="10381" y="3"/>
                      <a:pt x="10382" y="2"/>
                      <a:pt x="10383" y="2"/>
                    </a:cubicBezTo>
                    <a:close/>
                    <a:moveTo>
                      <a:pt x="10391" y="2"/>
                    </a:moveTo>
                    <a:lnTo>
                      <a:pt x="10391" y="2"/>
                    </a:lnTo>
                    <a:cubicBezTo>
                      <a:pt x="10392" y="2"/>
                      <a:pt x="10393" y="3"/>
                      <a:pt x="10393" y="4"/>
                    </a:cubicBezTo>
                    <a:cubicBezTo>
                      <a:pt x="10393" y="5"/>
                      <a:pt x="10392" y="6"/>
                      <a:pt x="10391" y="6"/>
                    </a:cubicBezTo>
                    <a:lnTo>
                      <a:pt x="10391" y="6"/>
                    </a:lnTo>
                    <a:cubicBezTo>
                      <a:pt x="10390" y="6"/>
                      <a:pt x="10389" y="5"/>
                      <a:pt x="10389" y="4"/>
                    </a:cubicBezTo>
                    <a:cubicBezTo>
                      <a:pt x="10389" y="3"/>
                      <a:pt x="10390" y="2"/>
                      <a:pt x="10391" y="2"/>
                    </a:cubicBezTo>
                    <a:close/>
                    <a:moveTo>
                      <a:pt x="10399" y="2"/>
                    </a:moveTo>
                    <a:lnTo>
                      <a:pt x="10399" y="2"/>
                    </a:lnTo>
                    <a:cubicBezTo>
                      <a:pt x="10400" y="2"/>
                      <a:pt x="10401" y="3"/>
                      <a:pt x="10401" y="4"/>
                    </a:cubicBezTo>
                    <a:cubicBezTo>
                      <a:pt x="10401" y="5"/>
                      <a:pt x="10400" y="6"/>
                      <a:pt x="10399" y="6"/>
                    </a:cubicBezTo>
                    <a:lnTo>
                      <a:pt x="10399" y="6"/>
                    </a:lnTo>
                    <a:cubicBezTo>
                      <a:pt x="10398" y="6"/>
                      <a:pt x="10397" y="5"/>
                      <a:pt x="10397" y="4"/>
                    </a:cubicBezTo>
                    <a:cubicBezTo>
                      <a:pt x="10397" y="3"/>
                      <a:pt x="10398" y="2"/>
                      <a:pt x="10399" y="2"/>
                    </a:cubicBezTo>
                    <a:close/>
                    <a:moveTo>
                      <a:pt x="10407" y="2"/>
                    </a:moveTo>
                    <a:lnTo>
                      <a:pt x="10407" y="2"/>
                    </a:lnTo>
                    <a:cubicBezTo>
                      <a:pt x="10408" y="2"/>
                      <a:pt x="10409" y="3"/>
                      <a:pt x="10409" y="4"/>
                    </a:cubicBezTo>
                    <a:cubicBezTo>
                      <a:pt x="10409" y="5"/>
                      <a:pt x="10408" y="6"/>
                      <a:pt x="10407" y="6"/>
                    </a:cubicBezTo>
                    <a:lnTo>
                      <a:pt x="10407" y="6"/>
                    </a:lnTo>
                    <a:cubicBezTo>
                      <a:pt x="10406" y="6"/>
                      <a:pt x="10405" y="5"/>
                      <a:pt x="10405" y="4"/>
                    </a:cubicBezTo>
                    <a:cubicBezTo>
                      <a:pt x="10405" y="3"/>
                      <a:pt x="10406" y="2"/>
                      <a:pt x="10407" y="2"/>
                    </a:cubicBezTo>
                    <a:close/>
                    <a:moveTo>
                      <a:pt x="10415" y="2"/>
                    </a:moveTo>
                    <a:lnTo>
                      <a:pt x="10415" y="2"/>
                    </a:lnTo>
                    <a:cubicBezTo>
                      <a:pt x="10416" y="2"/>
                      <a:pt x="10417" y="3"/>
                      <a:pt x="10417" y="4"/>
                    </a:cubicBezTo>
                    <a:cubicBezTo>
                      <a:pt x="10417" y="5"/>
                      <a:pt x="10416" y="6"/>
                      <a:pt x="10415" y="6"/>
                    </a:cubicBezTo>
                    <a:lnTo>
                      <a:pt x="10415" y="6"/>
                    </a:lnTo>
                    <a:cubicBezTo>
                      <a:pt x="10414" y="6"/>
                      <a:pt x="10413" y="5"/>
                      <a:pt x="10413" y="4"/>
                    </a:cubicBezTo>
                    <a:cubicBezTo>
                      <a:pt x="10413" y="3"/>
                      <a:pt x="10414" y="2"/>
                      <a:pt x="10415" y="2"/>
                    </a:cubicBezTo>
                    <a:close/>
                    <a:moveTo>
                      <a:pt x="10423" y="2"/>
                    </a:moveTo>
                    <a:lnTo>
                      <a:pt x="10423" y="2"/>
                    </a:lnTo>
                    <a:cubicBezTo>
                      <a:pt x="10424" y="2"/>
                      <a:pt x="10425" y="3"/>
                      <a:pt x="10425" y="4"/>
                    </a:cubicBezTo>
                    <a:cubicBezTo>
                      <a:pt x="10425" y="5"/>
                      <a:pt x="10424" y="6"/>
                      <a:pt x="10423" y="6"/>
                    </a:cubicBezTo>
                    <a:lnTo>
                      <a:pt x="10423" y="6"/>
                    </a:lnTo>
                    <a:cubicBezTo>
                      <a:pt x="10422" y="6"/>
                      <a:pt x="10421" y="5"/>
                      <a:pt x="10421" y="4"/>
                    </a:cubicBezTo>
                    <a:cubicBezTo>
                      <a:pt x="10421" y="3"/>
                      <a:pt x="10422" y="2"/>
                      <a:pt x="10423" y="2"/>
                    </a:cubicBezTo>
                    <a:close/>
                    <a:moveTo>
                      <a:pt x="10431" y="2"/>
                    </a:moveTo>
                    <a:lnTo>
                      <a:pt x="10431" y="2"/>
                    </a:lnTo>
                    <a:cubicBezTo>
                      <a:pt x="10432" y="2"/>
                      <a:pt x="10433" y="3"/>
                      <a:pt x="10433" y="4"/>
                    </a:cubicBezTo>
                    <a:cubicBezTo>
                      <a:pt x="10433" y="5"/>
                      <a:pt x="10432" y="6"/>
                      <a:pt x="10431" y="6"/>
                    </a:cubicBezTo>
                    <a:lnTo>
                      <a:pt x="10431" y="6"/>
                    </a:lnTo>
                    <a:cubicBezTo>
                      <a:pt x="10430" y="6"/>
                      <a:pt x="10429" y="5"/>
                      <a:pt x="10429" y="4"/>
                    </a:cubicBezTo>
                    <a:cubicBezTo>
                      <a:pt x="10429" y="3"/>
                      <a:pt x="10430" y="2"/>
                      <a:pt x="10431" y="2"/>
                    </a:cubicBezTo>
                    <a:close/>
                    <a:moveTo>
                      <a:pt x="10439" y="2"/>
                    </a:moveTo>
                    <a:lnTo>
                      <a:pt x="10439" y="2"/>
                    </a:lnTo>
                    <a:cubicBezTo>
                      <a:pt x="10440" y="2"/>
                      <a:pt x="10441" y="3"/>
                      <a:pt x="10441" y="4"/>
                    </a:cubicBezTo>
                    <a:cubicBezTo>
                      <a:pt x="10441" y="5"/>
                      <a:pt x="10440" y="6"/>
                      <a:pt x="10439" y="6"/>
                    </a:cubicBezTo>
                    <a:lnTo>
                      <a:pt x="10439" y="6"/>
                    </a:lnTo>
                    <a:cubicBezTo>
                      <a:pt x="10438" y="6"/>
                      <a:pt x="10437" y="5"/>
                      <a:pt x="10437" y="4"/>
                    </a:cubicBezTo>
                    <a:cubicBezTo>
                      <a:pt x="10437" y="3"/>
                      <a:pt x="10438" y="2"/>
                      <a:pt x="10439" y="2"/>
                    </a:cubicBezTo>
                    <a:close/>
                    <a:moveTo>
                      <a:pt x="10447" y="2"/>
                    </a:moveTo>
                    <a:lnTo>
                      <a:pt x="10447" y="2"/>
                    </a:lnTo>
                    <a:cubicBezTo>
                      <a:pt x="10448" y="2"/>
                      <a:pt x="10449" y="3"/>
                      <a:pt x="10449" y="4"/>
                    </a:cubicBezTo>
                    <a:cubicBezTo>
                      <a:pt x="10449" y="5"/>
                      <a:pt x="10448" y="6"/>
                      <a:pt x="10447" y="6"/>
                    </a:cubicBezTo>
                    <a:lnTo>
                      <a:pt x="10447" y="6"/>
                    </a:lnTo>
                    <a:cubicBezTo>
                      <a:pt x="10446" y="6"/>
                      <a:pt x="10445" y="5"/>
                      <a:pt x="10445" y="4"/>
                    </a:cubicBezTo>
                    <a:cubicBezTo>
                      <a:pt x="10445" y="3"/>
                      <a:pt x="10446" y="2"/>
                      <a:pt x="10447" y="2"/>
                    </a:cubicBezTo>
                    <a:close/>
                    <a:moveTo>
                      <a:pt x="10455" y="2"/>
                    </a:moveTo>
                    <a:lnTo>
                      <a:pt x="10455" y="2"/>
                    </a:lnTo>
                    <a:cubicBezTo>
                      <a:pt x="10456" y="2"/>
                      <a:pt x="10457" y="3"/>
                      <a:pt x="10457" y="4"/>
                    </a:cubicBezTo>
                    <a:cubicBezTo>
                      <a:pt x="10457" y="5"/>
                      <a:pt x="10456" y="6"/>
                      <a:pt x="10455" y="6"/>
                    </a:cubicBezTo>
                    <a:lnTo>
                      <a:pt x="10455" y="6"/>
                    </a:lnTo>
                    <a:cubicBezTo>
                      <a:pt x="10454" y="6"/>
                      <a:pt x="10453" y="5"/>
                      <a:pt x="10453" y="4"/>
                    </a:cubicBezTo>
                    <a:cubicBezTo>
                      <a:pt x="10453" y="3"/>
                      <a:pt x="10454" y="2"/>
                      <a:pt x="10455" y="2"/>
                    </a:cubicBezTo>
                    <a:close/>
                    <a:moveTo>
                      <a:pt x="10463" y="2"/>
                    </a:moveTo>
                    <a:lnTo>
                      <a:pt x="10463" y="2"/>
                    </a:lnTo>
                    <a:cubicBezTo>
                      <a:pt x="10464" y="2"/>
                      <a:pt x="10465" y="3"/>
                      <a:pt x="10465" y="4"/>
                    </a:cubicBezTo>
                    <a:cubicBezTo>
                      <a:pt x="10465" y="5"/>
                      <a:pt x="10464" y="6"/>
                      <a:pt x="10463" y="6"/>
                    </a:cubicBezTo>
                    <a:lnTo>
                      <a:pt x="10463" y="6"/>
                    </a:lnTo>
                    <a:cubicBezTo>
                      <a:pt x="10462" y="6"/>
                      <a:pt x="10461" y="5"/>
                      <a:pt x="10461" y="4"/>
                    </a:cubicBezTo>
                    <a:cubicBezTo>
                      <a:pt x="10461" y="3"/>
                      <a:pt x="10462" y="2"/>
                      <a:pt x="10463" y="2"/>
                    </a:cubicBezTo>
                    <a:close/>
                    <a:moveTo>
                      <a:pt x="10471" y="2"/>
                    </a:moveTo>
                    <a:lnTo>
                      <a:pt x="10471" y="2"/>
                    </a:lnTo>
                    <a:cubicBezTo>
                      <a:pt x="10472" y="2"/>
                      <a:pt x="10473" y="3"/>
                      <a:pt x="10473" y="4"/>
                    </a:cubicBezTo>
                    <a:cubicBezTo>
                      <a:pt x="10473" y="5"/>
                      <a:pt x="10472" y="6"/>
                      <a:pt x="10471" y="6"/>
                    </a:cubicBezTo>
                    <a:lnTo>
                      <a:pt x="10471" y="6"/>
                    </a:lnTo>
                    <a:cubicBezTo>
                      <a:pt x="10470" y="6"/>
                      <a:pt x="10469" y="5"/>
                      <a:pt x="10469" y="4"/>
                    </a:cubicBezTo>
                    <a:cubicBezTo>
                      <a:pt x="10469" y="3"/>
                      <a:pt x="10470" y="2"/>
                      <a:pt x="10471" y="2"/>
                    </a:cubicBezTo>
                    <a:close/>
                    <a:moveTo>
                      <a:pt x="10479" y="2"/>
                    </a:moveTo>
                    <a:lnTo>
                      <a:pt x="10479" y="2"/>
                    </a:lnTo>
                    <a:cubicBezTo>
                      <a:pt x="10480" y="2"/>
                      <a:pt x="10481" y="3"/>
                      <a:pt x="10481" y="4"/>
                    </a:cubicBezTo>
                    <a:cubicBezTo>
                      <a:pt x="10481" y="5"/>
                      <a:pt x="10480" y="6"/>
                      <a:pt x="10479" y="6"/>
                    </a:cubicBezTo>
                    <a:lnTo>
                      <a:pt x="10479" y="6"/>
                    </a:lnTo>
                    <a:cubicBezTo>
                      <a:pt x="10478" y="6"/>
                      <a:pt x="10477" y="5"/>
                      <a:pt x="10477" y="4"/>
                    </a:cubicBezTo>
                    <a:cubicBezTo>
                      <a:pt x="10477" y="3"/>
                      <a:pt x="10478" y="2"/>
                      <a:pt x="10479" y="2"/>
                    </a:cubicBezTo>
                    <a:close/>
                    <a:moveTo>
                      <a:pt x="10487" y="2"/>
                    </a:moveTo>
                    <a:lnTo>
                      <a:pt x="10487" y="2"/>
                    </a:lnTo>
                    <a:cubicBezTo>
                      <a:pt x="10488" y="2"/>
                      <a:pt x="10489" y="3"/>
                      <a:pt x="10489" y="4"/>
                    </a:cubicBezTo>
                    <a:cubicBezTo>
                      <a:pt x="10489" y="5"/>
                      <a:pt x="10488" y="6"/>
                      <a:pt x="10487" y="6"/>
                    </a:cubicBezTo>
                    <a:lnTo>
                      <a:pt x="10487" y="6"/>
                    </a:lnTo>
                    <a:cubicBezTo>
                      <a:pt x="10486" y="6"/>
                      <a:pt x="10485" y="5"/>
                      <a:pt x="10485" y="4"/>
                    </a:cubicBezTo>
                    <a:cubicBezTo>
                      <a:pt x="10485" y="3"/>
                      <a:pt x="10486" y="2"/>
                      <a:pt x="10487" y="2"/>
                    </a:cubicBezTo>
                    <a:close/>
                    <a:moveTo>
                      <a:pt x="10495" y="2"/>
                    </a:moveTo>
                    <a:lnTo>
                      <a:pt x="10495" y="2"/>
                    </a:lnTo>
                    <a:cubicBezTo>
                      <a:pt x="10496" y="2"/>
                      <a:pt x="10497" y="3"/>
                      <a:pt x="10497" y="4"/>
                    </a:cubicBezTo>
                    <a:cubicBezTo>
                      <a:pt x="10497" y="5"/>
                      <a:pt x="10496" y="6"/>
                      <a:pt x="10495" y="6"/>
                    </a:cubicBezTo>
                    <a:lnTo>
                      <a:pt x="10495" y="6"/>
                    </a:lnTo>
                    <a:cubicBezTo>
                      <a:pt x="10494" y="6"/>
                      <a:pt x="10493" y="5"/>
                      <a:pt x="10493" y="4"/>
                    </a:cubicBezTo>
                    <a:cubicBezTo>
                      <a:pt x="10493" y="3"/>
                      <a:pt x="10494" y="2"/>
                      <a:pt x="10495" y="2"/>
                    </a:cubicBezTo>
                    <a:close/>
                    <a:moveTo>
                      <a:pt x="10503" y="2"/>
                    </a:moveTo>
                    <a:lnTo>
                      <a:pt x="10503" y="2"/>
                    </a:lnTo>
                    <a:cubicBezTo>
                      <a:pt x="10504" y="2"/>
                      <a:pt x="10505" y="3"/>
                      <a:pt x="10505" y="4"/>
                    </a:cubicBezTo>
                    <a:cubicBezTo>
                      <a:pt x="10505" y="5"/>
                      <a:pt x="10504" y="6"/>
                      <a:pt x="10503" y="6"/>
                    </a:cubicBezTo>
                    <a:lnTo>
                      <a:pt x="10503" y="6"/>
                    </a:lnTo>
                    <a:cubicBezTo>
                      <a:pt x="10502" y="6"/>
                      <a:pt x="10501" y="5"/>
                      <a:pt x="10501" y="4"/>
                    </a:cubicBezTo>
                    <a:cubicBezTo>
                      <a:pt x="10501" y="3"/>
                      <a:pt x="10502" y="2"/>
                      <a:pt x="10503" y="2"/>
                    </a:cubicBezTo>
                    <a:close/>
                    <a:moveTo>
                      <a:pt x="10511" y="2"/>
                    </a:moveTo>
                    <a:lnTo>
                      <a:pt x="10511" y="2"/>
                    </a:lnTo>
                    <a:cubicBezTo>
                      <a:pt x="10512" y="2"/>
                      <a:pt x="10513" y="3"/>
                      <a:pt x="10513" y="4"/>
                    </a:cubicBezTo>
                    <a:cubicBezTo>
                      <a:pt x="10513" y="5"/>
                      <a:pt x="10512" y="6"/>
                      <a:pt x="10511" y="6"/>
                    </a:cubicBezTo>
                    <a:lnTo>
                      <a:pt x="10511" y="6"/>
                    </a:lnTo>
                    <a:cubicBezTo>
                      <a:pt x="10510" y="6"/>
                      <a:pt x="10509" y="5"/>
                      <a:pt x="10509" y="4"/>
                    </a:cubicBezTo>
                    <a:cubicBezTo>
                      <a:pt x="10509" y="3"/>
                      <a:pt x="10510" y="2"/>
                      <a:pt x="10511" y="2"/>
                    </a:cubicBezTo>
                    <a:close/>
                    <a:moveTo>
                      <a:pt x="10519" y="2"/>
                    </a:moveTo>
                    <a:lnTo>
                      <a:pt x="10519" y="2"/>
                    </a:lnTo>
                    <a:cubicBezTo>
                      <a:pt x="10520" y="2"/>
                      <a:pt x="10521" y="3"/>
                      <a:pt x="10521" y="4"/>
                    </a:cubicBezTo>
                    <a:cubicBezTo>
                      <a:pt x="10521" y="5"/>
                      <a:pt x="10520" y="6"/>
                      <a:pt x="10519" y="6"/>
                    </a:cubicBezTo>
                    <a:lnTo>
                      <a:pt x="10519" y="6"/>
                    </a:lnTo>
                    <a:cubicBezTo>
                      <a:pt x="10518" y="6"/>
                      <a:pt x="10517" y="5"/>
                      <a:pt x="10517" y="4"/>
                    </a:cubicBezTo>
                    <a:cubicBezTo>
                      <a:pt x="10517" y="3"/>
                      <a:pt x="10518" y="2"/>
                      <a:pt x="10519" y="2"/>
                    </a:cubicBezTo>
                    <a:close/>
                    <a:moveTo>
                      <a:pt x="10527" y="2"/>
                    </a:moveTo>
                    <a:lnTo>
                      <a:pt x="10527" y="2"/>
                    </a:lnTo>
                    <a:cubicBezTo>
                      <a:pt x="10528" y="2"/>
                      <a:pt x="10529" y="3"/>
                      <a:pt x="10529" y="4"/>
                    </a:cubicBezTo>
                    <a:cubicBezTo>
                      <a:pt x="10529" y="5"/>
                      <a:pt x="10528" y="6"/>
                      <a:pt x="10527" y="6"/>
                    </a:cubicBezTo>
                    <a:lnTo>
                      <a:pt x="10527" y="6"/>
                    </a:lnTo>
                    <a:cubicBezTo>
                      <a:pt x="10526" y="6"/>
                      <a:pt x="10525" y="5"/>
                      <a:pt x="10525" y="4"/>
                    </a:cubicBezTo>
                    <a:cubicBezTo>
                      <a:pt x="10525" y="3"/>
                      <a:pt x="10526" y="2"/>
                      <a:pt x="10527" y="2"/>
                    </a:cubicBezTo>
                    <a:close/>
                    <a:moveTo>
                      <a:pt x="10535" y="2"/>
                    </a:moveTo>
                    <a:lnTo>
                      <a:pt x="10535" y="2"/>
                    </a:lnTo>
                    <a:cubicBezTo>
                      <a:pt x="10536" y="2"/>
                      <a:pt x="10537" y="3"/>
                      <a:pt x="10537" y="4"/>
                    </a:cubicBezTo>
                    <a:cubicBezTo>
                      <a:pt x="10537" y="5"/>
                      <a:pt x="10536" y="6"/>
                      <a:pt x="10535" y="6"/>
                    </a:cubicBezTo>
                    <a:lnTo>
                      <a:pt x="10535" y="6"/>
                    </a:lnTo>
                    <a:cubicBezTo>
                      <a:pt x="10534" y="6"/>
                      <a:pt x="10533" y="5"/>
                      <a:pt x="10533" y="4"/>
                    </a:cubicBezTo>
                    <a:cubicBezTo>
                      <a:pt x="10533" y="3"/>
                      <a:pt x="10534" y="2"/>
                      <a:pt x="10535" y="2"/>
                    </a:cubicBezTo>
                    <a:close/>
                    <a:moveTo>
                      <a:pt x="10543" y="2"/>
                    </a:moveTo>
                    <a:lnTo>
                      <a:pt x="10543" y="2"/>
                    </a:lnTo>
                    <a:cubicBezTo>
                      <a:pt x="10544" y="2"/>
                      <a:pt x="10545" y="3"/>
                      <a:pt x="10545" y="4"/>
                    </a:cubicBezTo>
                    <a:cubicBezTo>
                      <a:pt x="10545" y="5"/>
                      <a:pt x="10544" y="6"/>
                      <a:pt x="10543" y="6"/>
                    </a:cubicBezTo>
                    <a:lnTo>
                      <a:pt x="10543" y="6"/>
                    </a:lnTo>
                    <a:cubicBezTo>
                      <a:pt x="10542" y="6"/>
                      <a:pt x="10541" y="5"/>
                      <a:pt x="10541" y="4"/>
                    </a:cubicBezTo>
                    <a:cubicBezTo>
                      <a:pt x="10541" y="3"/>
                      <a:pt x="10542" y="2"/>
                      <a:pt x="10543" y="2"/>
                    </a:cubicBezTo>
                    <a:close/>
                    <a:moveTo>
                      <a:pt x="10551" y="2"/>
                    </a:moveTo>
                    <a:lnTo>
                      <a:pt x="10551" y="2"/>
                    </a:lnTo>
                    <a:cubicBezTo>
                      <a:pt x="10552" y="2"/>
                      <a:pt x="10553" y="3"/>
                      <a:pt x="10553" y="4"/>
                    </a:cubicBezTo>
                    <a:cubicBezTo>
                      <a:pt x="10553" y="5"/>
                      <a:pt x="10552" y="6"/>
                      <a:pt x="10551" y="6"/>
                    </a:cubicBezTo>
                    <a:lnTo>
                      <a:pt x="10551" y="6"/>
                    </a:lnTo>
                    <a:cubicBezTo>
                      <a:pt x="10550" y="6"/>
                      <a:pt x="10549" y="5"/>
                      <a:pt x="10549" y="4"/>
                    </a:cubicBezTo>
                    <a:cubicBezTo>
                      <a:pt x="10549" y="3"/>
                      <a:pt x="10550" y="2"/>
                      <a:pt x="10551" y="2"/>
                    </a:cubicBezTo>
                    <a:close/>
                    <a:moveTo>
                      <a:pt x="10559" y="2"/>
                    </a:moveTo>
                    <a:lnTo>
                      <a:pt x="10559" y="2"/>
                    </a:lnTo>
                    <a:cubicBezTo>
                      <a:pt x="10560" y="2"/>
                      <a:pt x="10561" y="3"/>
                      <a:pt x="10561" y="4"/>
                    </a:cubicBezTo>
                    <a:cubicBezTo>
                      <a:pt x="10561" y="5"/>
                      <a:pt x="10560" y="6"/>
                      <a:pt x="10559" y="6"/>
                    </a:cubicBezTo>
                    <a:lnTo>
                      <a:pt x="10559" y="6"/>
                    </a:lnTo>
                    <a:cubicBezTo>
                      <a:pt x="10558" y="6"/>
                      <a:pt x="10557" y="5"/>
                      <a:pt x="10557" y="4"/>
                    </a:cubicBezTo>
                    <a:cubicBezTo>
                      <a:pt x="10557" y="3"/>
                      <a:pt x="10558" y="2"/>
                      <a:pt x="10559" y="2"/>
                    </a:cubicBezTo>
                    <a:close/>
                    <a:moveTo>
                      <a:pt x="10567" y="2"/>
                    </a:moveTo>
                    <a:lnTo>
                      <a:pt x="10567" y="2"/>
                    </a:lnTo>
                    <a:cubicBezTo>
                      <a:pt x="10568" y="2"/>
                      <a:pt x="10569" y="3"/>
                      <a:pt x="10569" y="4"/>
                    </a:cubicBezTo>
                    <a:cubicBezTo>
                      <a:pt x="10569" y="5"/>
                      <a:pt x="10568" y="6"/>
                      <a:pt x="10567" y="6"/>
                    </a:cubicBezTo>
                    <a:lnTo>
                      <a:pt x="10567" y="6"/>
                    </a:lnTo>
                    <a:cubicBezTo>
                      <a:pt x="10566" y="6"/>
                      <a:pt x="10565" y="5"/>
                      <a:pt x="10565" y="4"/>
                    </a:cubicBezTo>
                    <a:cubicBezTo>
                      <a:pt x="10565" y="3"/>
                      <a:pt x="10566" y="2"/>
                      <a:pt x="10567" y="2"/>
                    </a:cubicBezTo>
                    <a:close/>
                    <a:moveTo>
                      <a:pt x="10575" y="2"/>
                    </a:moveTo>
                    <a:lnTo>
                      <a:pt x="10575" y="2"/>
                    </a:lnTo>
                    <a:cubicBezTo>
                      <a:pt x="10576" y="2"/>
                      <a:pt x="10577" y="3"/>
                      <a:pt x="10577" y="4"/>
                    </a:cubicBezTo>
                    <a:cubicBezTo>
                      <a:pt x="10577" y="5"/>
                      <a:pt x="10576" y="6"/>
                      <a:pt x="10575" y="6"/>
                    </a:cubicBezTo>
                    <a:lnTo>
                      <a:pt x="10575" y="6"/>
                    </a:lnTo>
                    <a:cubicBezTo>
                      <a:pt x="10574" y="6"/>
                      <a:pt x="10573" y="5"/>
                      <a:pt x="10573" y="4"/>
                    </a:cubicBezTo>
                    <a:cubicBezTo>
                      <a:pt x="10573" y="3"/>
                      <a:pt x="10574" y="2"/>
                      <a:pt x="10575" y="2"/>
                    </a:cubicBezTo>
                    <a:close/>
                    <a:moveTo>
                      <a:pt x="10583" y="2"/>
                    </a:moveTo>
                    <a:lnTo>
                      <a:pt x="10583" y="2"/>
                    </a:lnTo>
                    <a:cubicBezTo>
                      <a:pt x="10584" y="2"/>
                      <a:pt x="10585" y="3"/>
                      <a:pt x="10585" y="4"/>
                    </a:cubicBezTo>
                    <a:cubicBezTo>
                      <a:pt x="10585" y="5"/>
                      <a:pt x="10584" y="6"/>
                      <a:pt x="10583" y="6"/>
                    </a:cubicBezTo>
                    <a:lnTo>
                      <a:pt x="10583" y="6"/>
                    </a:lnTo>
                    <a:cubicBezTo>
                      <a:pt x="10582" y="6"/>
                      <a:pt x="10581" y="5"/>
                      <a:pt x="10581" y="4"/>
                    </a:cubicBezTo>
                    <a:cubicBezTo>
                      <a:pt x="10581" y="3"/>
                      <a:pt x="10582" y="2"/>
                      <a:pt x="10583" y="2"/>
                    </a:cubicBezTo>
                    <a:close/>
                    <a:moveTo>
                      <a:pt x="10591" y="2"/>
                    </a:moveTo>
                    <a:lnTo>
                      <a:pt x="10591" y="2"/>
                    </a:lnTo>
                    <a:cubicBezTo>
                      <a:pt x="10592" y="2"/>
                      <a:pt x="10593" y="3"/>
                      <a:pt x="10593" y="4"/>
                    </a:cubicBezTo>
                    <a:cubicBezTo>
                      <a:pt x="10593" y="5"/>
                      <a:pt x="10592" y="6"/>
                      <a:pt x="10591" y="6"/>
                    </a:cubicBezTo>
                    <a:lnTo>
                      <a:pt x="10591" y="6"/>
                    </a:lnTo>
                    <a:cubicBezTo>
                      <a:pt x="10590" y="6"/>
                      <a:pt x="10589" y="5"/>
                      <a:pt x="10589" y="4"/>
                    </a:cubicBezTo>
                    <a:cubicBezTo>
                      <a:pt x="10589" y="3"/>
                      <a:pt x="10590" y="2"/>
                      <a:pt x="10591" y="2"/>
                    </a:cubicBezTo>
                    <a:close/>
                    <a:moveTo>
                      <a:pt x="10599" y="2"/>
                    </a:moveTo>
                    <a:lnTo>
                      <a:pt x="10599" y="2"/>
                    </a:lnTo>
                    <a:cubicBezTo>
                      <a:pt x="10600" y="2"/>
                      <a:pt x="10601" y="3"/>
                      <a:pt x="10601" y="4"/>
                    </a:cubicBezTo>
                    <a:cubicBezTo>
                      <a:pt x="10601" y="5"/>
                      <a:pt x="10600" y="6"/>
                      <a:pt x="10599" y="6"/>
                    </a:cubicBezTo>
                    <a:lnTo>
                      <a:pt x="10599" y="6"/>
                    </a:lnTo>
                    <a:cubicBezTo>
                      <a:pt x="10598" y="6"/>
                      <a:pt x="10597" y="5"/>
                      <a:pt x="10597" y="4"/>
                    </a:cubicBezTo>
                    <a:cubicBezTo>
                      <a:pt x="10597" y="3"/>
                      <a:pt x="10598" y="2"/>
                      <a:pt x="10599" y="2"/>
                    </a:cubicBezTo>
                    <a:close/>
                    <a:moveTo>
                      <a:pt x="10607" y="2"/>
                    </a:moveTo>
                    <a:lnTo>
                      <a:pt x="10607" y="2"/>
                    </a:lnTo>
                    <a:cubicBezTo>
                      <a:pt x="10608" y="2"/>
                      <a:pt x="10609" y="3"/>
                      <a:pt x="10609" y="4"/>
                    </a:cubicBezTo>
                    <a:cubicBezTo>
                      <a:pt x="10609" y="5"/>
                      <a:pt x="10608" y="6"/>
                      <a:pt x="10607" y="6"/>
                    </a:cubicBezTo>
                    <a:lnTo>
                      <a:pt x="10607" y="6"/>
                    </a:lnTo>
                    <a:cubicBezTo>
                      <a:pt x="10606" y="6"/>
                      <a:pt x="10605" y="5"/>
                      <a:pt x="10605" y="4"/>
                    </a:cubicBezTo>
                    <a:cubicBezTo>
                      <a:pt x="10605" y="3"/>
                      <a:pt x="10606" y="2"/>
                      <a:pt x="10607" y="2"/>
                    </a:cubicBezTo>
                    <a:close/>
                    <a:moveTo>
                      <a:pt x="10615" y="2"/>
                    </a:moveTo>
                    <a:lnTo>
                      <a:pt x="10615" y="2"/>
                    </a:lnTo>
                    <a:cubicBezTo>
                      <a:pt x="10616" y="2"/>
                      <a:pt x="10617" y="3"/>
                      <a:pt x="10617" y="4"/>
                    </a:cubicBezTo>
                    <a:cubicBezTo>
                      <a:pt x="10617" y="5"/>
                      <a:pt x="10616" y="6"/>
                      <a:pt x="10615" y="6"/>
                    </a:cubicBezTo>
                    <a:lnTo>
                      <a:pt x="10615" y="6"/>
                    </a:lnTo>
                    <a:cubicBezTo>
                      <a:pt x="10614" y="6"/>
                      <a:pt x="10613" y="5"/>
                      <a:pt x="10613" y="4"/>
                    </a:cubicBezTo>
                    <a:cubicBezTo>
                      <a:pt x="10613" y="3"/>
                      <a:pt x="10614" y="2"/>
                      <a:pt x="10615" y="2"/>
                    </a:cubicBezTo>
                    <a:close/>
                    <a:moveTo>
                      <a:pt x="10623" y="2"/>
                    </a:moveTo>
                    <a:lnTo>
                      <a:pt x="10623" y="2"/>
                    </a:lnTo>
                    <a:cubicBezTo>
                      <a:pt x="10624" y="2"/>
                      <a:pt x="10625" y="3"/>
                      <a:pt x="10625" y="4"/>
                    </a:cubicBezTo>
                    <a:cubicBezTo>
                      <a:pt x="10625" y="5"/>
                      <a:pt x="10624" y="6"/>
                      <a:pt x="10623" y="6"/>
                    </a:cubicBezTo>
                    <a:lnTo>
                      <a:pt x="10623" y="6"/>
                    </a:lnTo>
                    <a:cubicBezTo>
                      <a:pt x="10622" y="6"/>
                      <a:pt x="10621" y="5"/>
                      <a:pt x="10621" y="4"/>
                    </a:cubicBezTo>
                    <a:cubicBezTo>
                      <a:pt x="10621" y="3"/>
                      <a:pt x="10622" y="2"/>
                      <a:pt x="10623" y="2"/>
                    </a:cubicBezTo>
                    <a:close/>
                    <a:moveTo>
                      <a:pt x="10631" y="2"/>
                    </a:moveTo>
                    <a:lnTo>
                      <a:pt x="10631" y="2"/>
                    </a:lnTo>
                    <a:cubicBezTo>
                      <a:pt x="10632" y="2"/>
                      <a:pt x="10633" y="3"/>
                      <a:pt x="10633" y="4"/>
                    </a:cubicBezTo>
                    <a:cubicBezTo>
                      <a:pt x="10633" y="5"/>
                      <a:pt x="10632" y="6"/>
                      <a:pt x="10631" y="6"/>
                    </a:cubicBezTo>
                    <a:lnTo>
                      <a:pt x="10631" y="6"/>
                    </a:lnTo>
                    <a:cubicBezTo>
                      <a:pt x="10630" y="6"/>
                      <a:pt x="10629" y="5"/>
                      <a:pt x="10629" y="4"/>
                    </a:cubicBezTo>
                    <a:cubicBezTo>
                      <a:pt x="10629" y="3"/>
                      <a:pt x="10630" y="2"/>
                      <a:pt x="10631" y="2"/>
                    </a:cubicBezTo>
                    <a:close/>
                    <a:moveTo>
                      <a:pt x="10639" y="2"/>
                    </a:moveTo>
                    <a:lnTo>
                      <a:pt x="10639" y="2"/>
                    </a:lnTo>
                    <a:cubicBezTo>
                      <a:pt x="10640" y="2"/>
                      <a:pt x="10641" y="3"/>
                      <a:pt x="10641" y="4"/>
                    </a:cubicBezTo>
                    <a:cubicBezTo>
                      <a:pt x="10641" y="5"/>
                      <a:pt x="10640" y="6"/>
                      <a:pt x="10639" y="6"/>
                    </a:cubicBezTo>
                    <a:lnTo>
                      <a:pt x="10639" y="6"/>
                    </a:lnTo>
                    <a:cubicBezTo>
                      <a:pt x="10638" y="6"/>
                      <a:pt x="10637" y="5"/>
                      <a:pt x="10637" y="4"/>
                    </a:cubicBezTo>
                    <a:cubicBezTo>
                      <a:pt x="10637" y="3"/>
                      <a:pt x="10638" y="2"/>
                      <a:pt x="10639" y="2"/>
                    </a:cubicBezTo>
                    <a:close/>
                    <a:moveTo>
                      <a:pt x="10647" y="2"/>
                    </a:moveTo>
                    <a:lnTo>
                      <a:pt x="10647" y="2"/>
                    </a:lnTo>
                    <a:cubicBezTo>
                      <a:pt x="10648" y="2"/>
                      <a:pt x="10649" y="3"/>
                      <a:pt x="10649" y="4"/>
                    </a:cubicBezTo>
                    <a:cubicBezTo>
                      <a:pt x="10649" y="5"/>
                      <a:pt x="10648" y="6"/>
                      <a:pt x="10647" y="6"/>
                    </a:cubicBezTo>
                    <a:lnTo>
                      <a:pt x="10647" y="6"/>
                    </a:lnTo>
                    <a:cubicBezTo>
                      <a:pt x="10646" y="6"/>
                      <a:pt x="10645" y="5"/>
                      <a:pt x="10645" y="4"/>
                    </a:cubicBezTo>
                    <a:cubicBezTo>
                      <a:pt x="10645" y="3"/>
                      <a:pt x="10646" y="2"/>
                      <a:pt x="10647" y="2"/>
                    </a:cubicBezTo>
                    <a:close/>
                    <a:moveTo>
                      <a:pt x="10655" y="2"/>
                    </a:moveTo>
                    <a:lnTo>
                      <a:pt x="10655" y="2"/>
                    </a:lnTo>
                    <a:cubicBezTo>
                      <a:pt x="10656" y="2"/>
                      <a:pt x="10657" y="3"/>
                      <a:pt x="10657" y="4"/>
                    </a:cubicBezTo>
                    <a:cubicBezTo>
                      <a:pt x="10657" y="5"/>
                      <a:pt x="10656" y="6"/>
                      <a:pt x="10655" y="6"/>
                    </a:cubicBezTo>
                    <a:lnTo>
                      <a:pt x="10655" y="6"/>
                    </a:lnTo>
                    <a:cubicBezTo>
                      <a:pt x="10654" y="6"/>
                      <a:pt x="10653" y="5"/>
                      <a:pt x="10653" y="4"/>
                    </a:cubicBezTo>
                    <a:cubicBezTo>
                      <a:pt x="10653" y="3"/>
                      <a:pt x="10654" y="2"/>
                      <a:pt x="10655" y="2"/>
                    </a:cubicBezTo>
                    <a:close/>
                    <a:moveTo>
                      <a:pt x="10663" y="2"/>
                    </a:moveTo>
                    <a:lnTo>
                      <a:pt x="10663" y="2"/>
                    </a:lnTo>
                    <a:cubicBezTo>
                      <a:pt x="10664" y="2"/>
                      <a:pt x="10665" y="3"/>
                      <a:pt x="10665" y="4"/>
                    </a:cubicBezTo>
                    <a:cubicBezTo>
                      <a:pt x="10665" y="5"/>
                      <a:pt x="10664" y="6"/>
                      <a:pt x="10663" y="6"/>
                    </a:cubicBezTo>
                    <a:lnTo>
                      <a:pt x="10663" y="6"/>
                    </a:lnTo>
                    <a:cubicBezTo>
                      <a:pt x="10662" y="6"/>
                      <a:pt x="10661" y="5"/>
                      <a:pt x="10661" y="4"/>
                    </a:cubicBezTo>
                    <a:cubicBezTo>
                      <a:pt x="10661" y="3"/>
                      <a:pt x="10662" y="2"/>
                      <a:pt x="10663" y="2"/>
                    </a:cubicBezTo>
                    <a:close/>
                    <a:moveTo>
                      <a:pt x="10671" y="2"/>
                    </a:moveTo>
                    <a:lnTo>
                      <a:pt x="10671" y="2"/>
                    </a:lnTo>
                    <a:cubicBezTo>
                      <a:pt x="10672" y="2"/>
                      <a:pt x="10673" y="3"/>
                      <a:pt x="10673" y="4"/>
                    </a:cubicBezTo>
                    <a:cubicBezTo>
                      <a:pt x="10673" y="5"/>
                      <a:pt x="10672" y="6"/>
                      <a:pt x="10671" y="6"/>
                    </a:cubicBezTo>
                    <a:lnTo>
                      <a:pt x="10671" y="6"/>
                    </a:lnTo>
                    <a:cubicBezTo>
                      <a:pt x="10670" y="6"/>
                      <a:pt x="10669" y="5"/>
                      <a:pt x="10669" y="4"/>
                    </a:cubicBezTo>
                    <a:cubicBezTo>
                      <a:pt x="10669" y="3"/>
                      <a:pt x="10670" y="2"/>
                      <a:pt x="10671" y="2"/>
                    </a:cubicBezTo>
                    <a:close/>
                    <a:moveTo>
                      <a:pt x="10679" y="2"/>
                    </a:moveTo>
                    <a:lnTo>
                      <a:pt x="10679" y="2"/>
                    </a:lnTo>
                    <a:cubicBezTo>
                      <a:pt x="10680" y="2"/>
                      <a:pt x="10681" y="3"/>
                      <a:pt x="10681" y="4"/>
                    </a:cubicBezTo>
                    <a:cubicBezTo>
                      <a:pt x="10681" y="5"/>
                      <a:pt x="10680" y="6"/>
                      <a:pt x="10679" y="6"/>
                    </a:cubicBezTo>
                    <a:lnTo>
                      <a:pt x="10679" y="6"/>
                    </a:lnTo>
                    <a:cubicBezTo>
                      <a:pt x="10678" y="6"/>
                      <a:pt x="10677" y="5"/>
                      <a:pt x="10677" y="4"/>
                    </a:cubicBezTo>
                    <a:cubicBezTo>
                      <a:pt x="10677" y="3"/>
                      <a:pt x="10678" y="2"/>
                      <a:pt x="10679" y="2"/>
                    </a:cubicBezTo>
                    <a:close/>
                    <a:moveTo>
                      <a:pt x="10687" y="2"/>
                    </a:moveTo>
                    <a:lnTo>
                      <a:pt x="10687" y="2"/>
                    </a:lnTo>
                    <a:cubicBezTo>
                      <a:pt x="10688" y="2"/>
                      <a:pt x="10689" y="3"/>
                      <a:pt x="10689" y="4"/>
                    </a:cubicBezTo>
                    <a:cubicBezTo>
                      <a:pt x="10689" y="5"/>
                      <a:pt x="10688" y="6"/>
                      <a:pt x="10687" y="6"/>
                    </a:cubicBezTo>
                    <a:lnTo>
                      <a:pt x="10687" y="6"/>
                    </a:lnTo>
                    <a:cubicBezTo>
                      <a:pt x="10686" y="6"/>
                      <a:pt x="10685" y="5"/>
                      <a:pt x="10685" y="4"/>
                    </a:cubicBezTo>
                    <a:cubicBezTo>
                      <a:pt x="10685" y="3"/>
                      <a:pt x="10686" y="2"/>
                      <a:pt x="10687" y="2"/>
                    </a:cubicBezTo>
                    <a:close/>
                    <a:moveTo>
                      <a:pt x="10695" y="2"/>
                    </a:moveTo>
                    <a:lnTo>
                      <a:pt x="10695" y="2"/>
                    </a:lnTo>
                    <a:cubicBezTo>
                      <a:pt x="10696" y="2"/>
                      <a:pt x="10697" y="3"/>
                      <a:pt x="10697" y="4"/>
                    </a:cubicBezTo>
                    <a:cubicBezTo>
                      <a:pt x="10697" y="5"/>
                      <a:pt x="10696" y="6"/>
                      <a:pt x="10695" y="6"/>
                    </a:cubicBezTo>
                    <a:lnTo>
                      <a:pt x="10695" y="6"/>
                    </a:lnTo>
                    <a:cubicBezTo>
                      <a:pt x="10694" y="6"/>
                      <a:pt x="10693" y="5"/>
                      <a:pt x="10693" y="4"/>
                    </a:cubicBezTo>
                    <a:cubicBezTo>
                      <a:pt x="10693" y="3"/>
                      <a:pt x="10694" y="2"/>
                      <a:pt x="10695" y="2"/>
                    </a:cubicBezTo>
                    <a:close/>
                    <a:moveTo>
                      <a:pt x="10703" y="2"/>
                    </a:moveTo>
                    <a:lnTo>
                      <a:pt x="10703" y="2"/>
                    </a:lnTo>
                    <a:cubicBezTo>
                      <a:pt x="10704" y="2"/>
                      <a:pt x="10705" y="3"/>
                      <a:pt x="10705" y="4"/>
                    </a:cubicBezTo>
                    <a:cubicBezTo>
                      <a:pt x="10705" y="5"/>
                      <a:pt x="10704" y="6"/>
                      <a:pt x="10703" y="6"/>
                    </a:cubicBezTo>
                    <a:lnTo>
                      <a:pt x="10703" y="6"/>
                    </a:lnTo>
                    <a:cubicBezTo>
                      <a:pt x="10702" y="6"/>
                      <a:pt x="10701" y="5"/>
                      <a:pt x="10701" y="4"/>
                    </a:cubicBezTo>
                    <a:cubicBezTo>
                      <a:pt x="10701" y="3"/>
                      <a:pt x="10702" y="2"/>
                      <a:pt x="10703" y="2"/>
                    </a:cubicBezTo>
                    <a:close/>
                    <a:moveTo>
                      <a:pt x="10711" y="2"/>
                    </a:moveTo>
                    <a:lnTo>
                      <a:pt x="10711" y="2"/>
                    </a:lnTo>
                    <a:cubicBezTo>
                      <a:pt x="10712" y="2"/>
                      <a:pt x="10713" y="3"/>
                      <a:pt x="10713" y="4"/>
                    </a:cubicBezTo>
                    <a:cubicBezTo>
                      <a:pt x="10713" y="6"/>
                      <a:pt x="10712" y="6"/>
                      <a:pt x="10711" y="6"/>
                    </a:cubicBezTo>
                    <a:lnTo>
                      <a:pt x="10711" y="6"/>
                    </a:lnTo>
                    <a:cubicBezTo>
                      <a:pt x="10710" y="6"/>
                      <a:pt x="10709" y="6"/>
                      <a:pt x="10709" y="4"/>
                    </a:cubicBezTo>
                    <a:cubicBezTo>
                      <a:pt x="10709" y="3"/>
                      <a:pt x="10710" y="2"/>
                      <a:pt x="10711" y="2"/>
                    </a:cubicBezTo>
                    <a:close/>
                    <a:moveTo>
                      <a:pt x="10719" y="2"/>
                    </a:moveTo>
                    <a:lnTo>
                      <a:pt x="10719" y="2"/>
                    </a:lnTo>
                    <a:cubicBezTo>
                      <a:pt x="10720" y="2"/>
                      <a:pt x="10721" y="3"/>
                      <a:pt x="10721" y="4"/>
                    </a:cubicBezTo>
                    <a:cubicBezTo>
                      <a:pt x="10721" y="6"/>
                      <a:pt x="10720" y="6"/>
                      <a:pt x="10719" y="6"/>
                    </a:cubicBezTo>
                    <a:lnTo>
                      <a:pt x="10719" y="6"/>
                    </a:lnTo>
                    <a:cubicBezTo>
                      <a:pt x="10718" y="6"/>
                      <a:pt x="10717" y="6"/>
                      <a:pt x="10717" y="4"/>
                    </a:cubicBezTo>
                    <a:cubicBezTo>
                      <a:pt x="10717" y="3"/>
                      <a:pt x="10718" y="2"/>
                      <a:pt x="10719" y="2"/>
                    </a:cubicBezTo>
                    <a:close/>
                    <a:moveTo>
                      <a:pt x="10727" y="2"/>
                    </a:moveTo>
                    <a:lnTo>
                      <a:pt x="10727" y="2"/>
                    </a:lnTo>
                    <a:cubicBezTo>
                      <a:pt x="10728" y="2"/>
                      <a:pt x="10729" y="3"/>
                      <a:pt x="10729" y="4"/>
                    </a:cubicBezTo>
                    <a:cubicBezTo>
                      <a:pt x="10729" y="6"/>
                      <a:pt x="10728" y="6"/>
                      <a:pt x="10727" y="6"/>
                    </a:cubicBezTo>
                    <a:lnTo>
                      <a:pt x="10727" y="6"/>
                    </a:lnTo>
                    <a:cubicBezTo>
                      <a:pt x="10726" y="6"/>
                      <a:pt x="10725" y="6"/>
                      <a:pt x="10725" y="4"/>
                    </a:cubicBezTo>
                    <a:cubicBezTo>
                      <a:pt x="10725" y="3"/>
                      <a:pt x="10726" y="2"/>
                      <a:pt x="10727" y="2"/>
                    </a:cubicBezTo>
                    <a:close/>
                    <a:moveTo>
                      <a:pt x="10735" y="2"/>
                    </a:moveTo>
                    <a:lnTo>
                      <a:pt x="10735" y="2"/>
                    </a:lnTo>
                    <a:cubicBezTo>
                      <a:pt x="10736" y="2"/>
                      <a:pt x="10737" y="3"/>
                      <a:pt x="10737" y="4"/>
                    </a:cubicBezTo>
                    <a:cubicBezTo>
                      <a:pt x="10737" y="6"/>
                      <a:pt x="10736" y="6"/>
                      <a:pt x="10735" y="6"/>
                    </a:cubicBezTo>
                    <a:lnTo>
                      <a:pt x="10735" y="6"/>
                    </a:lnTo>
                    <a:cubicBezTo>
                      <a:pt x="10734" y="6"/>
                      <a:pt x="10733" y="6"/>
                      <a:pt x="10733" y="4"/>
                    </a:cubicBezTo>
                    <a:cubicBezTo>
                      <a:pt x="10733" y="3"/>
                      <a:pt x="10734" y="2"/>
                      <a:pt x="10735" y="2"/>
                    </a:cubicBezTo>
                    <a:close/>
                    <a:moveTo>
                      <a:pt x="10743" y="2"/>
                    </a:moveTo>
                    <a:lnTo>
                      <a:pt x="10743" y="2"/>
                    </a:lnTo>
                    <a:cubicBezTo>
                      <a:pt x="10744" y="2"/>
                      <a:pt x="10745" y="3"/>
                      <a:pt x="10745" y="4"/>
                    </a:cubicBezTo>
                    <a:cubicBezTo>
                      <a:pt x="10745" y="6"/>
                      <a:pt x="10744" y="6"/>
                      <a:pt x="10743" y="6"/>
                    </a:cubicBezTo>
                    <a:lnTo>
                      <a:pt x="10743" y="6"/>
                    </a:lnTo>
                    <a:cubicBezTo>
                      <a:pt x="10742" y="6"/>
                      <a:pt x="10741" y="6"/>
                      <a:pt x="10741" y="4"/>
                    </a:cubicBezTo>
                    <a:cubicBezTo>
                      <a:pt x="10741" y="3"/>
                      <a:pt x="10742" y="2"/>
                      <a:pt x="10743" y="2"/>
                    </a:cubicBezTo>
                    <a:close/>
                    <a:moveTo>
                      <a:pt x="10751" y="2"/>
                    </a:moveTo>
                    <a:lnTo>
                      <a:pt x="10751" y="2"/>
                    </a:lnTo>
                    <a:cubicBezTo>
                      <a:pt x="10752" y="2"/>
                      <a:pt x="10753" y="3"/>
                      <a:pt x="10753" y="4"/>
                    </a:cubicBezTo>
                    <a:cubicBezTo>
                      <a:pt x="10753" y="6"/>
                      <a:pt x="10752" y="6"/>
                      <a:pt x="10751" y="6"/>
                    </a:cubicBezTo>
                    <a:lnTo>
                      <a:pt x="10751" y="6"/>
                    </a:lnTo>
                    <a:cubicBezTo>
                      <a:pt x="10750" y="6"/>
                      <a:pt x="10749" y="6"/>
                      <a:pt x="10749" y="4"/>
                    </a:cubicBezTo>
                    <a:cubicBezTo>
                      <a:pt x="10749" y="3"/>
                      <a:pt x="10750" y="2"/>
                      <a:pt x="10751" y="2"/>
                    </a:cubicBezTo>
                    <a:close/>
                    <a:moveTo>
                      <a:pt x="10759" y="2"/>
                    </a:moveTo>
                    <a:lnTo>
                      <a:pt x="10759" y="2"/>
                    </a:lnTo>
                    <a:cubicBezTo>
                      <a:pt x="10760" y="2"/>
                      <a:pt x="10761" y="3"/>
                      <a:pt x="10761" y="4"/>
                    </a:cubicBezTo>
                    <a:cubicBezTo>
                      <a:pt x="10761" y="6"/>
                      <a:pt x="10760" y="6"/>
                      <a:pt x="10759" y="6"/>
                    </a:cubicBezTo>
                    <a:lnTo>
                      <a:pt x="10759" y="6"/>
                    </a:lnTo>
                    <a:cubicBezTo>
                      <a:pt x="10758" y="6"/>
                      <a:pt x="10757" y="6"/>
                      <a:pt x="10757" y="4"/>
                    </a:cubicBezTo>
                    <a:cubicBezTo>
                      <a:pt x="10757" y="3"/>
                      <a:pt x="10758" y="2"/>
                      <a:pt x="10759" y="2"/>
                    </a:cubicBezTo>
                    <a:close/>
                    <a:moveTo>
                      <a:pt x="10767" y="2"/>
                    </a:moveTo>
                    <a:lnTo>
                      <a:pt x="10767" y="2"/>
                    </a:lnTo>
                    <a:cubicBezTo>
                      <a:pt x="10768" y="2"/>
                      <a:pt x="10769" y="3"/>
                      <a:pt x="10769" y="4"/>
                    </a:cubicBezTo>
                    <a:cubicBezTo>
                      <a:pt x="10769" y="6"/>
                      <a:pt x="10768" y="6"/>
                      <a:pt x="10767" y="6"/>
                    </a:cubicBezTo>
                    <a:lnTo>
                      <a:pt x="10767" y="6"/>
                    </a:lnTo>
                    <a:cubicBezTo>
                      <a:pt x="10766" y="6"/>
                      <a:pt x="10765" y="6"/>
                      <a:pt x="10765" y="4"/>
                    </a:cubicBezTo>
                    <a:cubicBezTo>
                      <a:pt x="10765" y="3"/>
                      <a:pt x="10766" y="2"/>
                      <a:pt x="10767" y="2"/>
                    </a:cubicBezTo>
                    <a:close/>
                    <a:moveTo>
                      <a:pt x="10775" y="2"/>
                    </a:moveTo>
                    <a:lnTo>
                      <a:pt x="10775" y="2"/>
                    </a:lnTo>
                    <a:cubicBezTo>
                      <a:pt x="10776" y="2"/>
                      <a:pt x="10777" y="3"/>
                      <a:pt x="10777" y="4"/>
                    </a:cubicBezTo>
                    <a:cubicBezTo>
                      <a:pt x="10777" y="6"/>
                      <a:pt x="10776" y="6"/>
                      <a:pt x="10775" y="6"/>
                    </a:cubicBezTo>
                    <a:lnTo>
                      <a:pt x="10775" y="6"/>
                    </a:lnTo>
                    <a:cubicBezTo>
                      <a:pt x="10774" y="6"/>
                      <a:pt x="10773" y="6"/>
                      <a:pt x="10773" y="4"/>
                    </a:cubicBezTo>
                    <a:cubicBezTo>
                      <a:pt x="10773" y="3"/>
                      <a:pt x="10774" y="2"/>
                      <a:pt x="10775" y="2"/>
                    </a:cubicBezTo>
                    <a:close/>
                    <a:moveTo>
                      <a:pt x="10783" y="2"/>
                    </a:moveTo>
                    <a:lnTo>
                      <a:pt x="10783" y="2"/>
                    </a:lnTo>
                    <a:cubicBezTo>
                      <a:pt x="10784" y="2"/>
                      <a:pt x="10785" y="3"/>
                      <a:pt x="10785" y="4"/>
                    </a:cubicBezTo>
                    <a:cubicBezTo>
                      <a:pt x="10785" y="6"/>
                      <a:pt x="10784" y="6"/>
                      <a:pt x="10783" y="6"/>
                    </a:cubicBezTo>
                    <a:lnTo>
                      <a:pt x="10783" y="6"/>
                    </a:lnTo>
                    <a:cubicBezTo>
                      <a:pt x="10782" y="6"/>
                      <a:pt x="10781" y="6"/>
                      <a:pt x="10781" y="4"/>
                    </a:cubicBezTo>
                    <a:cubicBezTo>
                      <a:pt x="10781" y="3"/>
                      <a:pt x="10782" y="2"/>
                      <a:pt x="10783" y="2"/>
                    </a:cubicBezTo>
                    <a:close/>
                    <a:moveTo>
                      <a:pt x="10791" y="2"/>
                    </a:moveTo>
                    <a:lnTo>
                      <a:pt x="10791" y="2"/>
                    </a:lnTo>
                    <a:cubicBezTo>
                      <a:pt x="10793" y="2"/>
                      <a:pt x="10793" y="3"/>
                      <a:pt x="10793" y="4"/>
                    </a:cubicBezTo>
                    <a:cubicBezTo>
                      <a:pt x="10793" y="6"/>
                      <a:pt x="10793" y="6"/>
                      <a:pt x="10791" y="6"/>
                    </a:cubicBezTo>
                    <a:lnTo>
                      <a:pt x="10791" y="6"/>
                    </a:lnTo>
                    <a:cubicBezTo>
                      <a:pt x="10790" y="6"/>
                      <a:pt x="10789" y="6"/>
                      <a:pt x="10789" y="4"/>
                    </a:cubicBezTo>
                    <a:cubicBezTo>
                      <a:pt x="10789" y="3"/>
                      <a:pt x="10790" y="2"/>
                      <a:pt x="10791" y="2"/>
                    </a:cubicBezTo>
                    <a:close/>
                    <a:moveTo>
                      <a:pt x="10799" y="2"/>
                    </a:moveTo>
                    <a:lnTo>
                      <a:pt x="10799" y="2"/>
                    </a:lnTo>
                    <a:cubicBezTo>
                      <a:pt x="10801" y="2"/>
                      <a:pt x="10801" y="3"/>
                      <a:pt x="10801" y="4"/>
                    </a:cubicBezTo>
                    <a:cubicBezTo>
                      <a:pt x="10801" y="6"/>
                      <a:pt x="10801" y="6"/>
                      <a:pt x="10799" y="6"/>
                    </a:cubicBezTo>
                    <a:lnTo>
                      <a:pt x="10799" y="6"/>
                    </a:lnTo>
                    <a:cubicBezTo>
                      <a:pt x="10798" y="6"/>
                      <a:pt x="10797" y="6"/>
                      <a:pt x="10797" y="4"/>
                    </a:cubicBezTo>
                    <a:cubicBezTo>
                      <a:pt x="10797" y="3"/>
                      <a:pt x="10798" y="2"/>
                      <a:pt x="10799" y="2"/>
                    </a:cubicBezTo>
                    <a:close/>
                    <a:moveTo>
                      <a:pt x="10807" y="2"/>
                    </a:moveTo>
                    <a:lnTo>
                      <a:pt x="10807" y="2"/>
                    </a:lnTo>
                    <a:cubicBezTo>
                      <a:pt x="10809" y="2"/>
                      <a:pt x="10809" y="3"/>
                      <a:pt x="10809" y="4"/>
                    </a:cubicBezTo>
                    <a:cubicBezTo>
                      <a:pt x="10809" y="6"/>
                      <a:pt x="10809" y="6"/>
                      <a:pt x="10807" y="6"/>
                    </a:cubicBezTo>
                    <a:lnTo>
                      <a:pt x="10807" y="6"/>
                    </a:lnTo>
                    <a:cubicBezTo>
                      <a:pt x="10806" y="6"/>
                      <a:pt x="10805" y="6"/>
                      <a:pt x="10805" y="4"/>
                    </a:cubicBezTo>
                    <a:cubicBezTo>
                      <a:pt x="10805" y="3"/>
                      <a:pt x="10806" y="2"/>
                      <a:pt x="10807" y="2"/>
                    </a:cubicBezTo>
                    <a:close/>
                    <a:moveTo>
                      <a:pt x="10815" y="2"/>
                    </a:moveTo>
                    <a:lnTo>
                      <a:pt x="10815" y="2"/>
                    </a:lnTo>
                    <a:cubicBezTo>
                      <a:pt x="10817" y="2"/>
                      <a:pt x="10817" y="3"/>
                      <a:pt x="10817" y="4"/>
                    </a:cubicBezTo>
                    <a:cubicBezTo>
                      <a:pt x="10817" y="6"/>
                      <a:pt x="10817" y="6"/>
                      <a:pt x="10815" y="6"/>
                    </a:cubicBezTo>
                    <a:lnTo>
                      <a:pt x="10815" y="6"/>
                    </a:lnTo>
                    <a:cubicBezTo>
                      <a:pt x="10814" y="6"/>
                      <a:pt x="10813" y="6"/>
                      <a:pt x="10813" y="4"/>
                    </a:cubicBezTo>
                    <a:cubicBezTo>
                      <a:pt x="10813" y="3"/>
                      <a:pt x="10814" y="2"/>
                      <a:pt x="10815" y="2"/>
                    </a:cubicBezTo>
                    <a:close/>
                    <a:moveTo>
                      <a:pt x="10823" y="2"/>
                    </a:moveTo>
                    <a:lnTo>
                      <a:pt x="10823" y="2"/>
                    </a:lnTo>
                    <a:cubicBezTo>
                      <a:pt x="10825" y="2"/>
                      <a:pt x="10825" y="3"/>
                      <a:pt x="10825" y="4"/>
                    </a:cubicBezTo>
                    <a:cubicBezTo>
                      <a:pt x="10825" y="6"/>
                      <a:pt x="10825" y="6"/>
                      <a:pt x="10823" y="6"/>
                    </a:cubicBezTo>
                    <a:lnTo>
                      <a:pt x="10823" y="6"/>
                    </a:lnTo>
                    <a:cubicBezTo>
                      <a:pt x="10822" y="6"/>
                      <a:pt x="10821" y="6"/>
                      <a:pt x="10821" y="4"/>
                    </a:cubicBezTo>
                    <a:cubicBezTo>
                      <a:pt x="10821" y="3"/>
                      <a:pt x="10822" y="2"/>
                      <a:pt x="10823" y="2"/>
                    </a:cubicBezTo>
                    <a:close/>
                    <a:moveTo>
                      <a:pt x="10831" y="2"/>
                    </a:moveTo>
                    <a:lnTo>
                      <a:pt x="10831" y="2"/>
                    </a:lnTo>
                    <a:cubicBezTo>
                      <a:pt x="10833" y="2"/>
                      <a:pt x="10833" y="3"/>
                      <a:pt x="10833" y="4"/>
                    </a:cubicBezTo>
                    <a:cubicBezTo>
                      <a:pt x="10833" y="6"/>
                      <a:pt x="10833" y="6"/>
                      <a:pt x="10831" y="6"/>
                    </a:cubicBezTo>
                    <a:lnTo>
                      <a:pt x="10831" y="6"/>
                    </a:lnTo>
                    <a:cubicBezTo>
                      <a:pt x="10830" y="6"/>
                      <a:pt x="10829" y="6"/>
                      <a:pt x="10829" y="4"/>
                    </a:cubicBezTo>
                    <a:cubicBezTo>
                      <a:pt x="10829" y="3"/>
                      <a:pt x="10830" y="2"/>
                      <a:pt x="10831" y="2"/>
                    </a:cubicBezTo>
                    <a:close/>
                    <a:moveTo>
                      <a:pt x="10839" y="2"/>
                    </a:moveTo>
                    <a:lnTo>
                      <a:pt x="10839" y="2"/>
                    </a:lnTo>
                    <a:cubicBezTo>
                      <a:pt x="10841" y="2"/>
                      <a:pt x="10841" y="3"/>
                      <a:pt x="10841" y="4"/>
                    </a:cubicBezTo>
                    <a:cubicBezTo>
                      <a:pt x="10841" y="6"/>
                      <a:pt x="10841" y="6"/>
                      <a:pt x="10839" y="6"/>
                    </a:cubicBezTo>
                    <a:lnTo>
                      <a:pt x="10839" y="6"/>
                    </a:lnTo>
                    <a:cubicBezTo>
                      <a:pt x="10838" y="6"/>
                      <a:pt x="10837" y="6"/>
                      <a:pt x="10837" y="4"/>
                    </a:cubicBezTo>
                    <a:cubicBezTo>
                      <a:pt x="10837" y="3"/>
                      <a:pt x="10838" y="2"/>
                      <a:pt x="10839" y="2"/>
                    </a:cubicBezTo>
                    <a:close/>
                    <a:moveTo>
                      <a:pt x="10847" y="2"/>
                    </a:moveTo>
                    <a:lnTo>
                      <a:pt x="10847" y="2"/>
                    </a:lnTo>
                    <a:cubicBezTo>
                      <a:pt x="10849" y="2"/>
                      <a:pt x="10849" y="3"/>
                      <a:pt x="10849" y="4"/>
                    </a:cubicBezTo>
                    <a:cubicBezTo>
                      <a:pt x="10849" y="6"/>
                      <a:pt x="10849" y="6"/>
                      <a:pt x="10847" y="6"/>
                    </a:cubicBezTo>
                    <a:lnTo>
                      <a:pt x="10847" y="6"/>
                    </a:lnTo>
                    <a:cubicBezTo>
                      <a:pt x="10846" y="6"/>
                      <a:pt x="10845" y="6"/>
                      <a:pt x="10845" y="4"/>
                    </a:cubicBezTo>
                    <a:cubicBezTo>
                      <a:pt x="10845" y="3"/>
                      <a:pt x="10846" y="2"/>
                      <a:pt x="10847" y="2"/>
                    </a:cubicBezTo>
                    <a:close/>
                    <a:moveTo>
                      <a:pt x="10855" y="2"/>
                    </a:moveTo>
                    <a:lnTo>
                      <a:pt x="10855" y="2"/>
                    </a:lnTo>
                    <a:cubicBezTo>
                      <a:pt x="10857" y="2"/>
                      <a:pt x="10857" y="3"/>
                      <a:pt x="10857" y="4"/>
                    </a:cubicBezTo>
                    <a:cubicBezTo>
                      <a:pt x="10857" y="6"/>
                      <a:pt x="10857" y="6"/>
                      <a:pt x="10855" y="6"/>
                    </a:cubicBezTo>
                    <a:lnTo>
                      <a:pt x="10855" y="6"/>
                    </a:lnTo>
                    <a:cubicBezTo>
                      <a:pt x="10854" y="6"/>
                      <a:pt x="10853" y="6"/>
                      <a:pt x="10853" y="4"/>
                    </a:cubicBezTo>
                    <a:cubicBezTo>
                      <a:pt x="10853" y="3"/>
                      <a:pt x="10854" y="2"/>
                      <a:pt x="10855" y="2"/>
                    </a:cubicBezTo>
                    <a:close/>
                    <a:moveTo>
                      <a:pt x="10863" y="2"/>
                    </a:moveTo>
                    <a:lnTo>
                      <a:pt x="10863" y="2"/>
                    </a:lnTo>
                    <a:cubicBezTo>
                      <a:pt x="10865" y="2"/>
                      <a:pt x="10865" y="3"/>
                      <a:pt x="10865" y="4"/>
                    </a:cubicBezTo>
                    <a:cubicBezTo>
                      <a:pt x="10865" y="6"/>
                      <a:pt x="10865" y="6"/>
                      <a:pt x="10863" y="6"/>
                    </a:cubicBezTo>
                    <a:lnTo>
                      <a:pt x="10863" y="6"/>
                    </a:lnTo>
                    <a:cubicBezTo>
                      <a:pt x="10862" y="6"/>
                      <a:pt x="10861" y="6"/>
                      <a:pt x="10861" y="4"/>
                    </a:cubicBezTo>
                    <a:cubicBezTo>
                      <a:pt x="10861" y="3"/>
                      <a:pt x="10862" y="2"/>
                      <a:pt x="10863" y="2"/>
                    </a:cubicBezTo>
                    <a:close/>
                    <a:moveTo>
                      <a:pt x="10871" y="2"/>
                    </a:moveTo>
                    <a:lnTo>
                      <a:pt x="10871" y="2"/>
                    </a:lnTo>
                    <a:cubicBezTo>
                      <a:pt x="10873" y="2"/>
                      <a:pt x="10873" y="3"/>
                      <a:pt x="10873" y="4"/>
                    </a:cubicBezTo>
                    <a:cubicBezTo>
                      <a:pt x="10873" y="6"/>
                      <a:pt x="10873" y="6"/>
                      <a:pt x="10871" y="6"/>
                    </a:cubicBezTo>
                    <a:lnTo>
                      <a:pt x="10871" y="6"/>
                    </a:lnTo>
                    <a:cubicBezTo>
                      <a:pt x="10870" y="6"/>
                      <a:pt x="10869" y="6"/>
                      <a:pt x="10869" y="4"/>
                    </a:cubicBezTo>
                    <a:cubicBezTo>
                      <a:pt x="10869" y="3"/>
                      <a:pt x="10870" y="2"/>
                      <a:pt x="10871" y="2"/>
                    </a:cubicBezTo>
                    <a:close/>
                    <a:moveTo>
                      <a:pt x="10879" y="2"/>
                    </a:moveTo>
                    <a:lnTo>
                      <a:pt x="10879" y="2"/>
                    </a:lnTo>
                    <a:cubicBezTo>
                      <a:pt x="10881" y="2"/>
                      <a:pt x="10881" y="3"/>
                      <a:pt x="10881" y="4"/>
                    </a:cubicBezTo>
                    <a:cubicBezTo>
                      <a:pt x="10881" y="6"/>
                      <a:pt x="10881" y="6"/>
                      <a:pt x="10879" y="6"/>
                    </a:cubicBezTo>
                    <a:lnTo>
                      <a:pt x="10879" y="6"/>
                    </a:lnTo>
                    <a:cubicBezTo>
                      <a:pt x="10878" y="6"/>
                      <a:pt x="10877" y="6"/>
                      <a:pt x="10877" y="4"/>
                    </a:cubicBezTo>
                    <a:cubicBezTo>
                      <a:pt x="10877" y="3"/>
                      <a:pt x="10878" y="2"/>
                      <a:pt x="10879" y="2"/>
                    </a:cubicBezTo>
                    <a:close/>
                    <a:moveTo>
                      <a:pt x="10887" y="2"/>
                    </a:moveTo>
                    <a:lnTo>
                      <a:pt x="10887" y="2"/>
                    </a:lnTo>
                    <a:cubicBezTo>
                      <a:pt x="10889" y="2"/>
                      <a:pt x="10889" y="3"/>
                      <a:pt x="10889" y="4"/>
                    </a:cubicBezTo>
                    <a:cubicBezTo>
                      <a:pt x="10889" y="6"/>
                      <a:pt x="10889" y="6"/>
                      <a:pt x="10887" y="6"/>
                    </a:cubicBezTo>
                    <a:lnTo>
                      <a:pt x="10887" y="6"/>
                    </a:lnTo>
                    <a:cubicBezTo>
                      <a:pt x="10886" y="6"/>
                      <a:pt x="10885" y="6"/>
                      <a:pt x="10885" y="4"/>
                    </a:cubicBezTo>
                    <a:cubicBezTo>
                      <a:pt x="10885" y="3"/>
                      <a:pt x="10886" y="2"/>
                      <a:pt x="10887" y="2"/>
                    </a:cubicBezTo>
                    <a:close/>
                    <a:moveTo>
                      <a:pt x="10895" y="2"/>
                    </a:moveTo>
                    <a:lnTo>
                      <a:pt x="10895" y="2"/>
                    </a:lnTo>
                    <a:cubicBezTo>
                      <a:pt x="10897" y="2"/>
                      <a:pt x="10897" y="3"/>
                      <a:pt x="10897" y="4"/>
                    </a:cubicBezTo>
                    <a:cubicBezTo>
                      <a:pt x="10897" y="6"/>
                      <a:pt x="10897" y="6"/>
                      <a:pt x="10895" y="6"/>
                    </a:cubicBezTo>
                    <a:lnTo>
                      <a:pt x="10895" y="6"/>
                    </a:lnTo>
                    <a:cubicBezTo>
                      <a:pt x="10894" y="6"/>
                      <a:pt x="10893" y="6"/>
                      <a:pt x="10893" y="4"/>
                    </a:cubicBezTo>
                    <a:cubicBezTo>
                      <a:pt x="10893" y="3"/>
                      <a:pt x="10894" y="2"/>
                      <a:pt x="10895" y="2"/>
                    </a:cubicBezTo>
                    <a:close/>
                    <a:moveTo>
                      <a:pt x="10903" y="2"/>
                    </a:moveTo>
                    <a:lnTo>
                      <a:pt x="10903" y="2"/>
                    </a:lnTo>
                    <a:cubicBezTo>
                      <a:pt x="10905" y="2"/>
                      <a:pt x="10905" y="3"/>
                      <a:pt x="10905" y="4"/>
                    </a:cubicBezTo>
                    <a:cubicBezTo>
                      <a:pt x="10905" y="6"/>
                      <a:pt x="10905" y="6"/>
                      <a:pt x="10903" y="6"/>
                    </a:cubicBezTo>
                    <a:lnTo>
                      <a:pt x="10903" y="6"/>
                    </a:lnTo>
                    <a:cubicBezTo>
                      <a:pt x="10902" y="6"/>
                      <a:pt x="10901" y="6"/>
                      <a:pt x="10901" y="4"/>
                    </a:cubicBezTo>
                    <a:cubicBezTo>
                      <a:pt x="10901" y="3"/>
                      <a:pt x="10902" y="2"/>
                      <a:pt x="10903" y="2"/>
                    </a:cubicBezTo>
                    <a:close/>
                    <a:moveTo>
                      <a:pt x="10911" y="2"/>
                    </a:moveTo>
                    <a:lnTo>
                      <a:pt x="10911" y="2"/>
                    </a:lnTo>
                    <a:cubicBezTo>
                      <a:pt x="10913" y="2"/>
                      <a:pt x="10913" y="3"/>
                      <a:pt x="10913" y="4"/>
                    </a:cubicBezTo>
                    <a:cubicBezTo>
                      <a:pt x="10913" y="6"/>
                      <a:pt x="10913" y="6"/>
                      <a:pt x="10911" y="6"/>
                    </a:cubicBezTo>
                    <a:lnTo>
                      <a:pt x="10911" y="6"/>
                    </a:lnTo>
                    <a:cubicBezTo>
                      <a:pt x="10910" y="6"/>
                      <a:pt x="10909" y="6"/>
                      <a:pt x="10909" y="4"/>
                    </a:cubicBezTo>
                    <a:cubicBezTo>
                      <a:pt x="10909" y="3"/>
                      <a:pt x="10910" y="2"/>
                      <a:pt x="10911" y="2"/>
                    </a:cubicBezTo>
                    <a:close/>
                    <a:moveTo>
                      <a:pt x="10919" y="2"/>
                    </a:moveTo>
                    <a:lnTo>
                      <a:pt x="10919" y="2"/>
                    </a:lnTo>
                    <a:cubicBezTo>
                      <a:pt x="10921" y="2"/>
                      <a:pt x="10921" y="3"/>
                      <a:pt x="10921" y="4"/>
                    </a:cubicBezTo>
                    <a:cubicBezTo>
                      <a:pt x="10921" y="6"/>
                      <a:pt x="10921" y="6"/>
                      <a:pt x="10919" y="6"/>
                    </a:cubicBezTo>
                    <a:lnTo>
                      <a:pt x="10919" y="6"/>
                    </a:lnTo>
                    <a:cubicBezTo>
                      <a:pt x="10918" y="6"/>
                      <a:pt x="10917" y="6"/>
                      <a:pt x="10917" y="4"/>
                    </a:cubicBezTo>
                    <a:cubicBezTo>
                      <a:pt x="10917" y="3"/>
                      <a:pt x="10918" y="2"/>
                      <a:pt x="10919" y="2"/>
                    </a:cubicBezTo>
                    <a:close/>
                    <a:moveTo>
                      <a:pt x="10927" y="2"/>
                    </a:moveTo>
                    <a:lnTo>
                      <a:pt x="10927" y="2"/>
                    </a:lnTo>
                    <a:cubicBezTo>
                      <a:pt x="10929" y="2"/>
                      <a:pt x="10929" y="3"/>
                      <a:pt x="10929" y="4"/>
                    </a:cubicBezTo>
                    <a:cubicBezTo>
                      <a:pt x="10929" y="6"/>
                      <a:pt x="10929" y="6"/>
                      <a:pt x="10927" y="6"/>
                    </a:cubicBezTo>
                    <a:lnTo>
                      <a:pt x="10927" y="6"/>
                    </a:lnTo>
                    <a:cubicBezTo>
                      <a:pt x="10926" y="6"/>
                      <a:pt x="10925" y="6"/>
                      <a:pt x="10925" y="4"/>
                    </a:cubicBezTo>
                    <a:cubicBezTo>
                      <a:pt x="10925" y="3"/>
                      <a:pt x="10926" y="2"/>
                      <a:pt x="10927" y="2"/>
                    </a:cubicBezTo>
                    <a:close/>
                    <a:moveTo>
                      <a:pt x="10935" y="2"/>
                    </a:moveTo>
                    <a:lnTo>
                      <a:pt x="10935" y="2"/>
                    </a:lnTo>
                    <a:cubicBezTo>
                      <a:pt x="10937" y="2"/>
                      <a:pt x="10937" y="3"/>
                      <a:pt x="10937" y="4"/>
                    </a:cubicBezTo>
                    <a:cubicBezTo>
                      <a:pt x="10937" y="6"/>
                      <a:pt x="10937" y="6"/>
                      <a:pt x="10935" y="6"/>
                    </a:cubicBezTo>
                    <a:lnTo>
                      <a:pt x="10935" y="6"/>
                    </a:lnTo>
                    <a:cubicBezTo>
                      <a:pt x="10934" y="6"/>
                      <a:pt x="10933" y="6"/>
                      <a:pt x="10933" y="4"/>
                    </a:cubicBezTo>
                    <a:cubicBezTo>
                      <a:pt x="10933" y="3"/>
                      <a:pt x="10934" y="2"/>
                      <a:pt x="10935" y="2"/>
                    </a:cubicBezTo>
                    <a:close/>
                    <a:moveTo>
                      <a:pt x="10943" y="2"/>
                    </a:moveTo>
                    <a:lnTo>
                      <a:pt x="10943" y="2"/>
                    </a:lnTo>
                    <a:cubicBezTo>
                      <a:pt x="10945" y="2"/>
                      <a:pt x="10945" y="3"/>
                      <a:pt x="10945" y="4"/>
                    </a:cubicBezTo>
                    <a:cubicBezTo>
                      <a:pt x="10945" y="6"/>
                      <a:pt x="10945" y="6"/>
                      <a:pt x="10943" y="6"/>
                    </a:cubicBezTo>
                    <a:lnTo>
                      <a:pt x="10943" y="6"/>
                    </a:lnTo>
                    <a:cubicBezTo>
                      <a:pt x="10942" y="6"/>
                      <a:pt x="10941" y="6"/>
                      <a:pt x="10941" y="4"/>
                    </a:cubicBezTo>
                    <a:cubicBezTo>
                      <a:pt x="10941" y="3"/>
                      <a:pt x="10942" y="2"/>
                      <a:pt x="10943" y="2"/>
                    </a:cubicBezTo>
                    <a:close/>
                    <a:moveTo>
                      <a:pt x="10951" y="2"/>
                    </a:moveTo>
                    <a:lnTo>
                      <a:pt x="10951" y="2"/>
                    </a:lnTo>
                    <a:cubicBezTo>
                      <a:pt x="10953" y="2"/>
                      <a:pt x="10953" y="3"/>
                      <a:pt x="10953" y="4"/>
                    </a:cubicBezTo>
                    <a:cubicBezTo>
                      <a:pt x="10953" y="6"/>
                      <a:pt x="10953" y="6"/>
                      <a:pt x="10951" y="6"/>
                    </a:cubicBezTo>
                    <a:lnTo>
                      <a:pt x="10951" y="6"/>
                    </a:lnTo>
                    <a:cubicBezTo>
                      <a:pt x="10950" y="6"/>
                      <a:pt x="10949" y="6"/>
                      <a:pt x="10949" y="4"/>
                    </a:cubicBezTo>
                    <a:cubicBezTo>
                      <a:pt x="10949" y="3"/>
                      <a:pt x="10950" y="2"/>
                      <a:pt x="10951" y="2"/>
                    </a:cubicBezTo>
                    <a:close/>
                    <a:moveTo>
                      <a:pt x="10959" y="2"/>
                    </a:moveTo>
                    <a:lnTo>
                      <a:pt x="10960" y="2"/>
                    </a:lnTo>
                    <a:cubicBezTo>
                      <a:pt x="10961" y="2"/>
                      <a:pt x="10962" y="3"/>
                      <a:pt x="10962" y="4"/>
                    </a:cubicBezTo>
                    <a:cubicBezTo>
                      <a:pt x="10962" y="6"/>
                      <a:pt x="10961" y="6"/>
                      <a:pt x="10960" y="6"/>
                    </a:cubicBezTo>
                    <a:lnTo>
                      <a:pt x="10959" y="6"/>
                    </a:lnTo>
                    <a:cubicBezTo>
                      <a:pt x="10958" y="6"/>
                      <a:pt x="10957" y="6"/>
                      <a:pt x="10957" y="4"/>
                    </a:cubicBezTo>
                    <a:cubicBezTo>
                      <a:pt x="10957" y="3"/>
                      <a:pt x="10958" y="2"/>
                      <a:pt x="10959" y="2"/>
                    </a:cubicBezTo>
                    <a:close/>
                    <a:moveTo>
                      <a:pt x="10968" y="2"/>
                    </a:moveTo>
                    <a:lnTo>
                      <a:pt x="10968" y="2"/>
                    </a:lnTo>
                    <a:cubicBezTo>
                      <a:pt x="10969" y="2"/>
                      <a:pt x="10970" y="3"/>
                      <a:pt x="10970" y="4"/>
                    </a:cubicBezTo>
                    <a:cubicBezTo>
                      <a:pt x="10970" y="6"/>
                      <a:pt x="10969" y="6"/>
                      <a:pt x="10968" y="6"/>
                    </a:cubicBezTo>
                    <a:lnTo>
                      <a:pt x="10968" y="6"/>
                    </a:lnTo>
                    <a:cubicBezTo>
                      <a:pt x="10966" y="6"/>
                      <a:pt x="10966" y="6"/>
                      <a:pt x="10966" y="4"/>
                    </a:cubicBezTo>
                    <a:cubicBezTo>
                      <a:pt x="10966" y="3"/>
                      <a:pt x="10966" y="2"/>
                      <a:pt x="10968" y="2"/>
                    </a:cubicBezTo>
                    <a:close/>
                    <a:moveTo>
                      <a:pt x="10976" y="2"/>
                    </a:moveTo>
                    <a:lnTo>
                      <a:pt x="10976" y="2"/>
                    </a:lnTo>
                    <a:cubicBezTo>
                      <a:pt x="10977" y="2"/>
                      <a:pt x="10978" y="3"/>
                      <a:pt x="10978" y="4"/>
                    </a:cubicBezTo>
                    <a:cubicBezTo>
                      <a:pt x="10978" y="6"/>
                      <a:pt x="10977" y="6"/>
                      <a:pt x="10976" y="6"/>
                    </a:cubicBezTo>
                    <a:lnTo>
                      <a:pt x="10976" y="6"/>
                    </a:lnTo>
                    <a:cubicBezTo>
                      <a:pt x="10974" y="6"/>
                      <a:pt x="10974" y="6"/>
                      <a:pt x="10974" y="4"/>
                    </a:cubicBezTo>
                    <a:cubicBezTo>
                      <a:pt x="10974" y="3"/>
                      <a:pt x="10974" y="2"/>
                      <a:pt x="10976" y="2"/>
                    </a:cubicBezTo>
                    <a:close/>
                    <a:moveTo>
                      <a:pt x="10984" y="2"/>
                    </a:moveTo>
                    <a:lnTo>
                      <a:pt x="10984" y="2"/>
                    </a:lnTo>
                    <a:cubicBezTo>
                      <a:pt x="10985" y="2"/>
                      <a:pt x="10986" y="3"/>
                      <a:pt x="10986" y="4"/>
                    </a:cubicBezTo>
                    <a:cubicBezTo>
                      <a:pt x="10986" y="6"/>
                      <a:pt x="10985" y="6"/>
                      <a:pt x="10984" y="6"/>
                    </a:cubicBezTo>
                    <a:lnTo>
                      <a:pt x="10984" y="6"/>
                    </a:lnTo>
                    <a:cubicBezTo>
                      <a:pt x="10982" y="6"/>
                      <a:pt x="10982" y="6"/>
                      <a:pt x="10982" y="4"/>
                    </a:cubicBezTo>
                    <a:cubicBezTo>
                      <a:pt x="10982" y="3"/>
                      <a:pt x="10982" y="2"/>
                      <a:pt x="10984" y="2"/>
                    </a:cubicBezTo>
                    <a:close/>
                    <a:moveTo>
                      <a:pt x="10992" y="2"/>
                    </a:moveTo>
                    <a:lnTo>
                      <a:pt x="10992" y="2"/>
                    </a:lnTo>
                    <a:cubicBezTo>
                      <a:pt x="10993" y="2"/>
                      <a:pt x="10994" y="3"/>
                      <a:pt x="10994" y="4"/>
                    </a:cubicBezTo>
                    <a:cubicBezTo>
                      <a:pt x="10994" y="6"/>
                      <a:pt x="10993" y="6"/>
                      <a:pt x="10992" y="6"/>
                    </a:cubicBezTo>
                    <a:lnTo>
                      <a:pt x="10992" y="6"/>
                    </a:lnTo>
                    <a:cubicBezTo>
                      <a:pt x="10990" y="6"/>
                      <a:pt x="10990" y="6"/>
                      <a:pt x="10990" y="4"/>
                    </a:cubicBezTo>
                    <a:cubicBezTo>
                      <a:pt x="10990" y="3"/>
                      <a:pt x="10990" y="2"/>
                      <a:pt x="10992" y="2"/>
                    </a:cubicBezTo>
                    <a:close/>
                    <a:moveTo>
                      <a:pt x="11000" y="2"/>
                    </a:moveTo>
                    <a:lnTo>
                      <a:pt x="11000" y="2"/>
                    </a:lnTo>
                    <a:cubicBezTo>
                      <a:pt x="11001" y="2"/>
                      <a:pt x="11002" y="3"/>
                      <a:pt x="11002" y="4"/>
                    </a:cubicBezTo>
                    <a:cubicBezTo>
                      <a:pt x="11002" y="6"/>
                      <a:pt x="11001" y="6"/>
                      <a:pt x="11000" y="6"/>
                    </a:cubicBezTo>
                    <a:lnTo>
                      <a:pt x="11000" y="6"/>
                    </a:lnTo>
                    <a:cubicBezTo>
                      <a:pt x="10998" y="6"/>
                      <a:pt x="10998" y="6"/>
                      <a:pt x="10998" y="4"/>
                    </a:cubicBezTo>
                    <a:cubicBezTo>
                      <a:pt x="10998" y="3"/>
                      <a:pt x="10998" y="2"/>
                      <a:pt x="11000" y="2"/>
                    </a:cubicBezTo>
                    <a:close/>
                    <a:moveTo>
                      <a:pt x="11008" y="2"/>
                    </a:moveTo>
                    <a:lnTo>
                      <a:pt x="11008" y="2"/>
                    </a:lnTo>
                    <a:cubicBezTo>
                      <a:pt x="11009" y="2"/>
                      <a:pt x="11010" y="3"/>
                      <a:pt x="11010" y="4"/>
                    </a:cubicBezTo>
                    <a:cubicBezTo>
                      <a:pt x="11010" y="6"/>
                      <a:pt x="11009" y="6"/>
                      <a:pt x="11008" y="6"/>
                    </a:cubicBezTo>
                    <a:lnTo>
                      <a:pt x="11008" y="6"/>
                    </a:lnTo>
                    <a:cubicBezTo>
                      <a:pt x="11006" y="6"/>
                      <a:pt x="11006" y="6"/>
                      <a:pt x="11006" y="4"/>
                    </a:cubicBezTo>
                    <a:cubicBezTo>
                      <a:pt x="11006" y="3"/>
                      <a:pt x="11006" y="2"/>
                      <a:pt x="11008" y="2"/>
                    </a:cubicBezTo>
                    <a:close/>
                    <a:moveTo>
                      <a:pt x="11016" y="2"/>
                    </a:moveTo>
                    <a:lnTo>
                      <a:pt x="11016" y="2"/>
                    </a:lnTo>
                    <a:cubicBezTo>
                      <a:pt x="11017" y="2"/>
                      <a:pt x="11018" y="3"/>
                      <a:pt x="11018" y="4"/>
                    </a:cubicBezTo>
                    <a:cubicBezTo>
                      <a:pt x="11018" y="6"/>
                      <a:pt x="11017" y="6"/>
                      <a:pt x="11016" y="6"/>
                    </a:cubicBezTo>
                    <a:lnTo>
                      <a:pt x="11016" y="6"/>
                    </a:lnTo>
                    <a:cubicBezTo>
                      <a:pt x="11014" y="6"/>
                      <a:pt x="11014" y="6"/>
                      <a:pt x="11014" y="4"/>
                    </a:cubicBezTo>
                    <a:cubicBezTo>
                      <a:pt x="11014" y="3"/>
                      <a:pt x="11014" y="2"/>
                      <a:pt x="11016" y="2"/>
                    </a:cubicBezTo>
                    <a:close/>
                    <a:moveTo>
                      <a:pt x="11024" y="2"/>
                    </a:moveTo>
                    <a:lnTo>
                      <a:pt x="11024" y="2"/>
                    </a:lnTo>
                    <a:cubicBezTo>
                      <a:pt x="11025" y="2"/>
                      <a:pt x="11026" y="3"/>
                      <a:pt x="11026" y="4"/>
                    </a:cubicBezTo>
                    <a:cubicBezTo>
                      <a:pt x="11026" y="6"/>
                      <a:pt x="11025" y="6"/>
                      <a:pt x="11024" y="6"/>
                    </a:cubicBezTo>
                    <a:lnTo>
                      <a:pt x="11024" y="6"/>
                    </a:lnTo>
                    <a:cubicBezTo>
                      <a:pt x="11022" y="6"/>
                      <a:pt x="11022" y="6"/>
                      <a:pt x="11022" y="4"/>
                    </a:cubicBezTo>
                    <a:cubicBezTo>
                      <a:pt x="11022" y="3"/>
                      <a:pt x="11022" y="2"/>
                      <a:pt x="11024" y="2"/>
                    </a:cubicBezTo>
                    <a:close/>
                    <a:moveTo>
                      <a:pt x="11032" y="2"/>
                    </a:moveTo>
                    <a:lnTo>
                      <a:pt x="11032" y="2"/>
                    </a:lnTo>
                    <a:cubicBezTo>
                      <a:pt x="11033" y="2"/>
                      <a:pt x="11034" y="3"/>
                      <a:pt x="11034" y="4"/>
                    </a:cubicBezTo>
                    <a:cubicBezTo>
                      <a:pt x="11034" y="6"/>
                      <a:pt x="11033" y="6"/>
                      <a:pt x="11032" y="6"/>
                    </a:cubicBezTo>
                    <a:lnTo>
                      <a:pt x="11032" y="6"/>
                    </a:lnTo>
                    <a:cubicBezTo>
                      <a:pt x="11030" y="6"/>
                      <a:pt x="11030" y="6"/>
                      <a:pt x="11030" y="4"/>
                    </a:cubicBezTo>
                    <a:cubicBezTo>
                      <a:pt x="11030" y="3"/>
                      <a:pt x="11030" y="2"/>
                      <a:pt x="11032" y="2"/>
                    </a:cubicBezTo>
                    <a:close/>
                    <a:moveTo>
                      <a:pt x="11040" y="2"/>
                    </a:moveTo>
                    <a:lnTo>
                      <a:pt x="11040" y="2"/>
                    </a:lnTo>
                    <a:cubicBezTo>
                      <a:pt x="11041" y="2"/>
                      <a:pt x="11042" y="3"/>
                      <a:pt x="11042" y="4"/>
                    </a:cubicBezTo>
                    <a:cubicBezTo>
                      <a:pt x="11042" y="6"/>
                      <a:pt x="11041" y="6"/>
                      <a:pt x="11040" y="6"/>
                    </a:cubicBezTo>
                    <a:lnTo>
                      <a:pt x="11040" y="6"/>
                    </a:lnTo>
                    <a:cubicBezTo>
                      <a:pt x="11038" y="6"/>
                      <a:pt x="11038" y="6"/>
                      <a:pt x="11038" y="4"/>
                    </a:cubicBezTo>
                    <a:cubicBezTo>
                      <a:pt x="11038" y="3"/>
                      <a:pt x="11038" y="2"/>
                      <a:pt x="11040" y="2"/>
                    </a:cubicBezTo>
                    <a:close/>
                    <a:moveTo>
                      <a:pt x="11048" y="2"/>
                    </a:moveTo>
                    <a:lnTo>
                      <a:pt x="11048" y="2"/>
                    </a:lnTo>
                    <a:cubicBezTo>
                      <a:pt x="11049" y="2"/>
                      <a:pt x="11050" y="3"/>
                      <a:pt x="11050" y="4"/>
                    </a:cubicBezTo>
                    <a:cubicBezTo>
                      <a:pt x="11050" y="6"/>
                      <a:pt x="11049" y="6"/>
                      <a:pt x="11048" y="6"/>
                    </a:cubicBezTo>
                    <a:lnTo>
                      <a:pt x="11048" y="6"/>
                    </a:lnTo>
                    <a:cubicBezTo>
                      <a:pt x="11046" y="6"/>
                      <a:pt x="11046" y="6"/>
                      <a:pt x="11046" y="4"/>
                    </a:cubicBezTo>
                    <a:cubicBezTo>
                      <a:pt x="11046" y="3"/>
                      <a:pt x="11046" y="2"/>
                      <a:pt x="11048" y="2"/>
                    </a:cubicBezTo>
                    <a:close/>
                    <a:moveTo>
                      <a:pt x="11056" y="2"/>
                    </a:moveTo>
                    <a:lnTo>
                      <a:pt x="11056" y="2"/>
                    </a:lnTo>
                    <a:cubicBezTo>
                      <a:pt x="11057" y="2"/>
                      <a:pt x="11058" y="3"/>
                      <a:pt x="11058" y="4"/>
                    </a:cubicBezTo>
                    <a:cubicBezTo>
                      <a:pt x="11058" y="6"/>
                      <a:pt x="11057" y="6"/>
                      <a:pt x="11056" y="6"/>
                    </a:cubicBezTo>
                    <a:lnTo>
                      <a:pt x="11056" y="6"/>
                    </a:lnTo>
                    <a:cubicBezTo>
                      <a:pt x="11054" y="6"/>
                      <a:pt x="11054" y="6"/>
                      <a:pt x="11054" y="4"/>
                    </a:cubicBezTo>
                    <a:cubicBezTo>
                      <a:pt x="11054" y="3"/>
                      <a:pt x="11054" y="2"/>
                      <a:pt x="11056" y="2"/>
                    </a:cubicBezTo>
                    <a:close/>
                    <a:moveTo>
                      <a:pt x="11064" y="2"/>
                    </a:moveTo>
                    <a:lnTo>
                      <a:pt x="11064" y="2"/>
                    </a:lnTo>
                    <a:cubicBezTo>
                      <a:pt x="11065" y="2"/>
                      <a:pt x="11066" y="3"/>
                      <a:pt x="11066" y="4"/>
                    </a:cubicBezTo>
                    <a:cubicBezTo>
                      <a:pt x="11066" y="6"/>
                      <a:pt x="11065" y="6"/>
                      <a:pt x="11064" y="6"/>
                    </a:cubicBezTo>
                    <a:lnTo>
                      <a:pt x="11064" y="6"/>
                    </a:lnTo>
                    <a:cubicBezTo>
                      <a:pt x="11062" y="6"/>
                      <a:pt x="11062" y="6"/>
                      <a:pt x="11062" y="4"/>
                    </a:cubicBezTo>
                    <a:cubicBezTo>
                      <a:pt x="11062" y="3"/>
                      <a:pt x="11062" y="2"/>
                      <a:pt x="11064" y="2"/>
                    </a:cubicBezTo>
                    <a:close/>
                    <a:moveTo>
                      <a:pt x="11072" y="2"/>
                    </a:moveTo>
                    <a:lnTo>
                      <a:pt x="11072" y="2"/>
                    </a:lnTo>
                    <a:cubicBezTo>
                      <a:pt x="11073" y="2"/>
                      <a:pt x="11074" y="3"/>
                      <a:pt x="11074" y="4"/>
                    </a:cubicBezTo>
                    <a:cubicBezTo>
                      <a:pt x="11074" y="6"/>
                      <a:pt x="11073" y="6"/>
                      <a:pt x="11072" y="6"/>
                    </a:cubicBezTo>
                    <a:lnTo>
                      <a:pt x="11072" y="6"/>
                    </a:lnTo>
                    <a:cubicBezTo>
                      <a:pt x="11070" y="6"/>
                      <a:pt x="11070" y="6"/>
                      <a:pt x="11070" y="4"/>
                    </a:cubicBezTo>
                    <a:cubicBezTo>
                      <a:pt x="11070" y="3"/>
                      <a:pt x="11070" y="2"/>
                      <a:pt x="11072" y="2"/>
                    </a:cubicBezTo>
                    <a:close/>
                    <a:moveTo>
                      <a:pt x="11080" y="2"/>
                    </a:moveTo>
                    <a:lnTo>
                      <a:pt x="11080" y="2"/>
                    </a:lnTo>
                    <a:cubicBezTo>
                      <a:pt x="11081" y="2"/>
                      <a:pt x="11082" y="3"/>
                      <a:pt x="11082" y="4"/>
                    </a:cubicBezTo>
                    <a:cubicBezTo>
                      <a:pt x="11082" y="6"/>
                      <a:pt x="11081" y="6"/>
                      <a:pt x="11080" y="6"/>
                    </a:cubicBezTo>
                    <a:lnTo>
                      <a:pt x="11080" y="6"/>
                    </a:lnTo>
                    <a:cubicBezTo>
                      <a:pt x="11078" y="6"/>
                      <a:pt x="11078" y="6"/>
                      <a:pt x="11078" y="4"/>
                    </a:cubicBezTo>
                    <a:cubicBezTo>
                      <a:pt x="11078" y="3"/>
                      <a:pt x="11078" y="2"/>
                      <a:pt x="11080" y="2"/>
                    </a:cubicBezTo>
                    <a:close/>
                    <a:moveTo>
                      <a:pt x="11088" y="2"/>
                    </a:moveTo>
                    <a:lnTo>
                      <a:pt x="11088" y="2"/>
                    </a:lnTo>
                    <a:cubicBezTo>
                      <a:pt x="11089" y="2"/>
                      <a:pt x="11090" y="3"/>
                      <a:pt x="11090" y="4"/>
                    </a:cubicBezTo>
                    <a:cubicBezTo>
                      <a:pt x="11090" y="6"/>
                      <a:pt x="11089" y="6"/>
                      <a:pt x="11088" y="6"/>
                    </a:cubicBezTo>
                    <a:lnTo>
                      <a:pt x="11088" y="6"/>
                    </a:lnTo>
                    <a:cubicBezTo>
                      <a:pt x="11086" y="6"/>
                      <a:pt x="11086" y="6"/>
                      <a:pt x="11086" y="4"/>
                    </a:cubicBezTo>
                    <a:cubicBezTo>
                      <a:pt x="11086" y="3"/>
                      <a:pt x="11086" y="2"/>
                      <a:pt x="11088" y="2"/>
                    </a:cubicBezTo>
                    <a:close/>
                    <a:moveTo>
                      <a:pt x="11096" y="2"/>
                    </a:moveTo>
                    <a:lnTo>
                      <a:pt x="11096" y="2"/>
                    </a:lnTo>
                    <a:cubicBezTo>
                      <a:pt x="11097" y="2"/>
                      <a:pt x="11098" y="3"/>
                      <a:pt x="11098" y="4"/>
                    </a:cubicBezTo>
                    <a:cubicBezTo>
                      <a:pt x="11098" y="6"/>
                      <a:pt x="11097" y="6"/>
                      <a:pt x="11096" y="6"/>
                    </a:cubicBezTo>
                    <a:lnTo>
                      <a:pt x="11096" y="6"/>
                    </a:lnTo>
                    <a:cubicBezTo>
                      <a:pt x="11094" y="6"/>
                      <a:pt x="11094" y="6"/>
                      <a:pt x="11094" y="4"/>
                    </a:cubicBezTo>
                    <a:cubicBezTo>
                      <a:pt x="11094" y="3"/>
                      <a:pt x="11094" y="2"/>
                      <a:pt x="11096" y="2"/>
                    </a:cubicBezTo>
                    <a:close/>
                    <a:moveTo>
                      <a:pt x="11104" y="2"/>
                    </a:moveTo>
                    <a:lnTo>
                      <a:pt x="11104" y="2"/>
                    </a:lnTo>
                    <a:cubicBezTo>
                      <a:pt x="11105" y="2"/>
                      <a:pt x="11106" y="3"/>
                      <a:pt x="11106" y="4"/>
                    </a:cubicBezTo>
                    <a:cubicBezTo>
                      <a:pt x="11106" y="6"/>
                      <a:pt x="11105" y="6"/>
                      <a:pt x="11104" y="6"/>
                    </a:cubicBezTo>
                    <a:lnTo>
                      <a:pt x="11104" y="6"/>
                    </a:lnTo>
                    <a:cubicBezTo>
                      <a:pt x="11102" y="6"/>
                      <a:pt x="11102" y="6"/>
                      <a:pt x="11102" y="4"/>
                    </a:cubicBezTo>
                    <a:cubicBezTo>
                      <a:pt x="11102" y="3"/>
                      <a:pt x="11102" y="2"/>
                      <a:pt x="11104" y="2"/>
                    </a:cubicBezTo>
                    <a:close/>
                    <a:moveTo>
                      <a:pt x="11112" y="2"/>
                    </a:moveTo>
                    <a:lnTo>
                      <a:pt x="11112" y="2"/>
                    </a:lnTo>
                    <a:cubicBezTo>
                      <a:pt x="11113" y="2"/>
                      <a:pt x="11114" y="3"/>
                      <a:pt x="11114" y="4"/>
                    </a:cubicBezTo>
                    <a:cubicBezTo>
                      <a:pt x="11114" y="6"/>
                      <a:pt x="11113" y="6"/>
                      <a:pt x="11112" y="6"/>
                    </a:cubicBezTo>
                    <a:lnTo>
                      <a:pt x="11112" y="6"/>
                    </a:lnTo>
                    <a:cubicBezTo>
                      <a:pt x="11110" y="6"/>
                      <a:pt x="11110" y="6"/>
                      <a:pt x="11110" y="4"/>
                    </a:cubicBezTo>
                    <a:cubicBezTo>
                      <a:pt x="11110" y="3"/>
                      <a:pt x="11110" y="2"/>
                      <a:pt x="11112" y="2"/>
                    </a:cubicBezTo>
                    <a:close/>
                    <a:moveTo>
                      <a:pt x="11120" y="2"/>
                    </a:moveTo>
                    <a:lnTo>
                      <a:pt x="11120" y="2"/>
                    </a:lnTo>
                    <a:cubicBezTo>
                      <a:pt x="11121" y="2"/>
                      <a:pt x="11122" y="3"/>
                      <a:pt x="11122" y="4"/>
                    </a:cubicBezTo>
                    <a:cubicBezTo>
                      <a:pt x="11122" y="6"/>
                      <a:pt x="11121" y="6"/>
                      <a:pt x="11120" y="6"/>
                    </a:cubicBezTo>
                    <a:lnTo>
                      <a:pt x="11120" y="6"/>
                    </a:lnTo>
                    <a:cubicBezTo>
                      <a:pt x="11118" y="6"/>
                      <a:pt x="11118" y="6"/>
                      <a:pt x="11118" y="4"/>
                    </a:cubicBezTo>
                    <a:cubicBezTo>
                      <a:pt x="11118" y="3"/>
                      <a:pt x="11118" y="2"/>
                      <a:pt x="11120" y="2"/>
                    </a:cubicBezTo>
                    <a:close/>
                    <a:moveTo>
                      <a:pt x="11128" y="2"/>
                    </a:moveTo>
                    <a:lnTo>
                      <a:pt x="11128" y="2"/>
                    </a:lnTo>
                    <a:cubicBezTo>
                      <a:pt x="11129" y="2"/>
                      <a:pt x="11130" y="3"/>
                      <a:pt x="11130" y="4"/>
                    </a:cubicBezTo>
                    <a:cubicBezTo>
                      <a:pt x="11130" y="6"/>
                      <a:pt x="11129" y="6"/>
                      <a:pt x="11128" y="6"/>
                    </a:cubicBezTo>
                    <a:lnTo>
                      <a:pt x="11128" y="6"/>
                    </a:lnTo>
                    <a:cubicBezTo>
                      <a:pt x="11126" y="6"/>
                      <a:pt x="11126" y="6"/>
                      <a:pt x="11126" y="4"/>
                    </a:cubicBezTo>
                    <a:cubicBezTo>
                      <a:pt x="11126" y="3"/>
                      <a:pt x="11126" y="2"/>
                      <a:pt x="11128" y="2"/>
                    </a:cubicBezTo>
                    <a:close/>
                    <a:moveTo>
                      <a:pt x="11136" y="2"/>
                    </a:moveTo>
                    <a:lnTo>
                      <a:pt x="11136" y="2"/>
                    </a:lnTo>
                    <a:cubicBezTo>
                      <a:pt x="11137" y="2"/>
                      <a:pt x="11138" y="3"/>
                      <a:pt x="11138" y="5"/>
                    </a:cubicBezTo>
                    <a:cubicBezTo>
                      <a:pt x="11138" y="6"/>
                      <a:pt x="11137" y="7"/>
                      <a:pt x="11136" y="7"/>
                    </a:cubicBezTo>
                    <a:lnTo>
                      <a:pt x="11136" y="7"/>
                    </a:lnTo>
                    <a:cubicBezTo>
                      <a:pt x="11134" y="7"/>
                      <a:pt x="11134" y="6"/>
                      <a:pt x="11134" y="5"/>
                    </a:cubicBezTo>
                    <a:cubicBezTo>
                      <a:pt x="11134" y="3"/>
                      <a:pt x="11134" y="2"/>
                      <a:pt x="11136" y="2"/>
                    </a:cubicBezTo>
                    <a:close/>
                    <a:moveTo>
                      <a:pt x="11144" y="3"/>
                    </a:moveTo>
                    <a:lnTo>
                      <a:pt x="11144" y="3"/>
                    </a:lnTo>
                    <a:cubicBezTo>
                      <a:pt x="11145" y="3"/>
                      <a:pt x="11146" y="3"/>
                      <a:pt x="11146" y="5"/>
                    </a:cubicBezTo>
                    <a:cubicBezTo>
                      <a:pt x="11146" y="6"/>
                      <a:pt x="11145" y="7"/>
                      <a:pt x="11144" y="7"/>
                    </a:cubicBezTo>
                    <a:lnTo>
                      <a:pt x="11144" y="7"/>
                    </a:lnTo>
                    <a:cubicBezTo>
                      <a:pt x="11143" y="7"/>
                      <a:pt x="11142" y="6"/>
                      <a:pt x="11142" y="5"/>
                    </a:cubicBezTo>
                    <a:cubicBezTo>
                      <a:pt x="11142" y="3"/>
                      <a:pt x="11143" y="3"/>
                      <a:pt x="11144" y="3"/>
                    </a:cubicBezTo>
                    <a:close/>
                    <a:moveTo>
                      <a:pt x="11152" y="3"/>
                    </a:moveTo>
                    <a:lnTo>
                      <a:pt x="11152" y="3"/>
                    </a:lnTo>
                    <a:cubicBezTo>
                      <a:pt x="11153" y="3"/>
                      <a:pt x="11154" y="3"/>
                      <a:pt x="11154" y="5"/>
                    </a:cubicBezTo>
                    <a:cubicBezTo>
                      <a:pt x="11154" y="6"/>
                      <a:pt x="11153" y="7"/>
                      <a:pt x="11152" y="7"/>
                    </a:cubicBezTo>
                    <a:lnTo>
                      <a:pt x="11152" y="7"/>
                    </a:lnTo>
                    <a:cubicBezTo>
                      <a:pt x="11151" y="7"/>
                      <a:pt x="11150" y="6"/>
                      <a:pt x="11150" y="5"/>
                    </a:cubicBezTo>
                    <a:cubicBezTo>
                      <a:pt x="11150" y="3"/>
                      <a:pt x="11151" y="3"/>
                      <a:pt x="11152" y="3"/>
                    </a:cubicBezTo>
                    <a:close/>
                    <a:moveTo>
                      <a:pt x="11160" y="3"/>
                    </a:moveTo>
                    <a:lnTo>
                      <a:pt x="11160" y="3"/>
                    </a:lnTo>
                    <a:cubicBezTo>
                      <a:pt x="11161" y="3"/>
                      <a:pt x="11162" y="3"/>
                      <a:pt x="11162" y="5"/>
                    </a:cubicBezTo>
                    <a:cubicBezTo>
                      <a:pt x="11162" y="6"/>
                      <a:pt x="11161" y="7"/>
                      <a:pt x="11160" y="7"/>
                    </a:cubicBezTo>
                    <a:lnTo>
                      <a:pt x="11160" y="7"/>
                    </a:lnTo>
                    <a:cubicBezTo>
                      <a:pt x="11159" y="7"/>
                      <a:pt x="11158" y="6"/>
                      <a:pt x="11158" y="5"/>
                    </a:cubicBezTo>
                    <a:cubicBezTo>
                      <a:pt x="11158" y="3"/>
                      <a:pt x="11159" y="3"/>
                      <a:pt x="11160" y="3"/>
                    </a:cubicBezTo>
                    <a:close/>
                    <a:moveTo>
                      <a:pt x="11168" y="3"/>
                    </a:moveTo>
                    <a:lnTo>
                      <a:pt x="11168" y="3"/>
                    </a:lnTo>
                    <a:cubicBezTo>
                      <a:pt x="11169" y="3"/>
                      <a:pt x="11170" y="3"/>
                      <a:pt x="11170" y="5"/>
                    </a:cubicBezTo>
                    <a:cubicBezTo>
                      <a:pt x="11170" y="6"/>
                      <a:pt x="11169" y="7"/>
                      <a:pt x="11168" y="7"/>
                    </a:cubicBezTo>
                    <a:lnTo>
                      <a:pt x="11168" y="7"/>
                    </a:lnTo>
                    <a:cubicBezTo>
                      <a:pt x="11167" y="7"/>
                      <a:pt x="11166" y="6"/>
                      <a:pt x="11166" y="5"/>
                    </a:cubicBezTo>
                    <a:cubicBezTo>
                      <a:pt x="11166" y="3"/>
                      <a:pt x="11167" y="3"/>
                      <a:pt x="11168" y="3"/>
                    </a:cubicBezTo>
                    <a:close/>
                    <a:moveTo>
                      <a:pt x="11176" y="3"/>
                    </a:moveTo>
                    <a:lnTo>
                      <a:pt x="11176" y="3"/>
                    </a:lnTo>
                    <a:cubicBezTo>
                      <a:pt x="11177" y="3"/>
                      <a:pt x="11178" y="3"/>
                      <a:pt x="11178" y="5"/>
                    </a:cubicBezTo>
                    <a:cubicBezTo>
                      <a:pt x="11178" y="6"/>
                      <a:pt x="11177" y="7"/>
                      <a:pt x="11176" y="7"/>
                    </a:cubicBezTo>
                    <a:lnTo>
                      <a:pt x="11176" y="7"/>
                    </a:lnTo>
                    <a:cubicBezTo>
                      <a:pt x="11175" y="7"/>
                      <a:pt x="11174" y="6"/>
                      <a:pt x="11174" y="5"/>
                    </a:cubicBezTo>
                    <a:cubicBezTo>
                      <a:pt x="11174" y="3"/>
                      <a:pt x="11175" y="3"/>
                      <a:pt x="11176" y="3"/>
                    </a:cubicBezTo>
                    <a:close/>
                    <a:moveTo>
                      <a:pt x="11184" y="3"/>
                    </a:moveTo>
                    <a:lnTo>
                      <a:pt x="11184" y="3"/>
                    </a:lnTo>
                    <a:cubicBezTo>
                      <a:pt x="11185" y="3"/>
                      <a:pt x="11186" y="3"/>
                      <a:pt x="11186" y="5"/>
                    </a:cubicBezTo>
                    <a:cubicBezTo>
                      <a:pt x="11186" y="6"/>
                      <a:pt x="11185" y="7"/>
                      <a:pt x="11184" y="7"/>
                    </a:cubicBezTo>
                    <a:lnTo>
                      <a:pt x="11184" y="7"/>
                    </a:lnTo>
                    <a:cubicBezTo>
                      <a:pt x="11183" y="7"/>
                      <a:pt x="11182" y="6"/>
                      <a:pt x="11182" y="5"/>
                    </a:cubicBezTo>
                    <a:cubicBezTo>
                      <a:pt x="11182" y="3"/>
                      <a:pt x="11183" y="3"/>
                      <a:pt x="11184" y="3"/>
                    </a:cubicBezTo>
                    <a:close/>
                    <a:moveTo>
                      <a:pt x="11192" y="3"/>
                    </a:moveTo>
                    <a:lnTo>
                      <a:pt x="11192" y="3"/>
                    </a:lnTo>
                    <a:cubicBezTo>
                      <a:pt x="11193" y="3"/>
                      <a:pt x="11194" y="3"/>
                      <a:pt x="11194" y="5"/>
                    </a:cubicBezTo>
                    <a:cubicBezTo>
                      <a:pt x="11194" y="6"/>
                      <a:pt x="11193" y="7"/>
                      <a:pt x="11192" y="7"/>
                    </a:cubicBezTo>
                    <a:lnTo>
                      <a:pt x="11192" y="7"/>
                    </a:lnTo>
                    <a:cubicBezTo>
                      <a:pt x="11191" y="7"/>
                      <a:pt x="11190" y="6"/>
                      <a:pt x="11190" y="5"/>
                    </a:cubicBezTo>
                    <a:cubicBezTo>
                      <a:pt x="11190" y="3"/>
                      <a:pt x="11191" y="3"/>
                      <a:pt x="11192" y="3"/>
                    </a:cubicBezTo>
                    <a:close/>
                    <a:moveTo>
                      <a:pt x="11200" y="3"/>
                    </a:moveTo>
                    <a:lnTo>
                      <a:pt x="11200" y="3"/>
                    </a:lnTo>
                    <a:cubicBezTo>
                      <a:pt x="11201" y="3"/>
                      <a:pt x="11202" y="3"/>
                      <a:pt x="11202" y="5"/>
                    </a:cubicBezTo>
                    <a:cubicBezTo>
                      <a:pt x="11202" y="6"/>
                      <a:pt x="11201" y="7"/>
                      <a:pt x="11200" y="7"/>
                    </a:cubicBezTo>
                    <a:lnTo>
                      <a:pt x="11200" y="7"/>
                    </a:lnTo>
                    <a:cubicBezTo>
                      <a:pt x="11199" y="7"/>
                      <a:pt x="11198" y="6"/>
                      <a:pt x="11198" y="5"/>
                    </a:cubicBezTo>
                    <a:cubicBezTo>
                      <a:pt x="11198" y="3"/>
                      <a:pt x="11199" y="3"/>
                      <a:pt x="11200" y="3"/>
                    </a:cubicBezTo>
                    <a:close/>
                    <a:moveTo>
                      <a:pt x="11208" y="3"/>
                    </a:moveTo>
                    <a:lnTo>
                      <a:pt x="11208" y="3"/>
                    </a:lnTo>
                    <a:cubicBezTo>
                      <a:pt x="11209" y="3"/>
                      <a:pt x="11210" y="3"/>
                      <a:pt x="11210" y="5"/>
                    </a:cubicBezTo>
                    <a:cubicBezTo>
                      <a:pt x="11210" y="6"/>
                      <a:pt x="11209" y="7"/>
                      <a:pt x="11208" y="7"/>
                    </a:cubicBezTo>
                    <a:lnTo>
                      <a:pt x="11208" y="7"/>
                    </a:lnTo>
                    <a:cubicBezTo>
                      <a:pt x="11207" y="7"/>
                      <a:pt x="11206" y="6"/>
                      <a:pt x="11206" y="5"/>
                    </a:cubicBezTo>
                    <a:cubicBezTo>
                      <a:pt x="11206" y="3"/>
                      <a:pt x="11207" y="3"/>
                      <a:pt x="11208" y="3"/>
                    </a:cubicBezTo>
                    <a:close/>
                    <a:moveTo>
                      <a:pt x="11216" y="3"/>
                    </a:moveTo>
                    <a:lnTo>
                      <a:pt x="11216" y="3"/>
                    </a:lnTo>
                    <a:cubicBezTo>
                      <a:pt x="11217" y="3"/>
                      <a:pt x="11218" y="3"/>
                      <a:pt x="11218" y="5"/>
                    </a:cubicBezTo>
                    <a:cubicBezTo>
                      <a:pt x="11218" y="6"/>
                      <a:pt x="11217" y="7"/>
                      <a:pt x="11216" y="7"/>
                    </a:cubicBezTo>
                    <a:lnTo>
                      <a:pt x="11216" y="7"/>
                    </a:lnTo>
                    <a:cubicBezTo>
                      <a:pt x="11215" y="7"/>
                      <a:pt x="11214" y="6"/>
                      <a:pt x="11214" y="5"/>
                    </a:cubicBezTo>
                    <a:cubicBezTo>
                      <a:pt x="11214" y="3"/>
                      <a:pt x="11215" y="3"/>
                      <a:pt x="11216" y="3"/>
                    </a:cubicBezTo>
                    <a:close/>
                    <a:moveTo>
                      <a:pt x="11224" y="3"/>
                    </a:moveTo>
                    <a:lnTo>
                      <a:pt x="11224" y="3"/>
                    </a:lnTo>
                    <a:cubicBezTo>
                      <a:pt x="11225" y="3"/>
                      <a:pt x="11226" y="3"/>
                      <a:pt x="11226" y="5"/>
                    </a:cubicBezTo>
                    <a:cubicBezTo>
                      <a:pt x="11226" y="6"/>
                      <a:pt x="11225" y="7"/>
                      <a:pt x="11224" y="7"/>
                    </a:cubicBezTo>
                    <a:lnTo>
                      <a:pt x="11224" y="7"/>
                    </a:lnTo>
                    <a:cubicBezTo>
                      <a:pt x="11223" y="7"/>
                      <a:pt x="11222" y="6"/>
                      <a:pt x="11222" y="5"/>
                    </a:cubicBezTo>
                    <a:cubicBezTo>
                      <a:pt x="11222" y="3"/>
                      <a:pt x="11223" y="3"/>
                      <a:pt x="11224" y="3"/>
                    </a:cubicBezTo>
                    <a:close/>
                    <a:moveTo>
                      <a:pt x="11232" y="3"/>
                    </a:moveTo>
                    <a:lnTo>
                      <a:pt x="11232" y="3"/>
                    </a:lnTo>
                    <a:cubicBezTo>
                      <a:pt x="11233" y="3"/>
                      <a:pt x="11234" y="3"/>
                      <a:pt x="11234" y="5"/>
                    </a:cubicBezTo>
                    <a:cubicBezTo>
                      <a:pt x="11234" y="6"/>
                      <a:pt x="11233" y="7"/>
                      <a:pt x="11232" y="7"/>
                    </a:cubicBezTo>
                    <a:lnTo>
                      <a:pt x="11232" y="7"/>
                    </a:lnTo>
                    <a:cubicBezTo>
                      <a:pt x="11231" y="7"/>
                      <a:pt x="11230" y="6"/>
                      <a:pt x="11230" y="5"/>
                    </a:cubicBezTo>
                    <a:cubicBezTo>
                      <a:pt x="11230" y="3"/>
                      <a:pt x="11231" y="3"/>
                      <a:pt x="11232" y="3"/>
                    </a:cubicBezTo>
                    <a:close/>
                    <a:moveTo>
                      <a:pt x="11240" y="3"/>
                    </a:moveTo>
                    <a:lnTo>
                      <a:pt x="11240" y="3"/>
                    </a:lnTo>
                    <a:cubicBezTo>
                      <a:pt x="11241" y="3"/>
                      <a:pt x="11242" y="3"/>
                      <a:pt x="11242" y="5"/>
                    </a:cubicBezTo>
                    <a:cubicBezTo>
                      <a:pt x="11242" y="6"/>
                      <a:pt x="11241" y="7"/>
                      <a:pt x="11240" y="7"/>
                    </a:cubicBezTo>
                    <a:lnTo>
                      <a:pt x="11240" y="7"/>
                    </a:lnTo>
                    <a:cubicBezTo>
                      <a:pt x="11239" y="7"/>
                      <a:pt x="11238" y="6"/>
                      <a:pt x="11238" y="5"/>
                    </a:cubicBezTo>
                    <a:cubicBezTo>
                      <a:pt x="11238" y="3"/>
                      <a:pt x="11239" y="3"/>
                      <a:pt x="11240" y="3"/>
                    </a:cubicBezTo>
                    <a:close/>
                    <a:moveTo>
                      <a:pt x="11248" y="3"/>
                    </a:moveTo>
                    <a:lnTo>
                      <a:pt x="11248" y="3"/>
                    </a:lnTo>
                    <a:cubicBezTo>
                      <a:pt x="11249" y="3"/>
                      <a:pt x="11250" y="3"/>
                      <a:pt x="11250" y="5"/>
                    </a:cubicBezTo>
                    <a:cubicBezTo>
                      <a:pt x="11250" y="6"/>
                      <a:pt x="11249" y="7"/>
                      <a:pt x="11248" y="7"/>
                    </a:cubicBezTo>
                    <a:lnTo>
                      <a:pt x="11248" y="7"/>
                    </a:lnTo>
                    <a:cubicBezTo>
                      <a:pt x="11247" y="7"/>
                      <a:pt x="11246" y="6"/>
                      <a:pt x="11246" y="5"/>
                    </a:cubicBezTo>
                    <a:cubicBezTo>
                      <a:pt x="11246" y="3"/>
                      <a:pt x="11247" y="3"/>
                      <a:pt x="11248" y="3"/>
                    </a:cubicBezTo>
                    <a:close/>
                    <a:moveTo>
                      <a:pt x="11256" y="3"/>
                    </a:moveTo>
                    <a:lnTo>
                      <a:pt x="11256" y="3"/>
                    </a:lnTo>
                    <a:cubicBezTo>
                      <a:pt x="11257" y="3"/>
                      <a:pt x="11258" y="3"/>
                      <a:pt x="11258" y="5"/>
                    </a:cubicBezTo>
                    <a:cubicBezTo>
                      <a:pt x="11258" y="6"/>
                      <a:pt x="11257" y="7"/>
                      <a:pt x="11256" y="7"/>
                    </a:cubicBezTo>
                    <a:lnTo>
                      <a:pt x="11256" y="7"/>
                    </a:lnTo>
                    <a:cubicBezTo>
                      <a:pt x="11255" y="7"/>
                      <a:pt x="11254" y="6"/>
                      <a:pt x="11254" y="5"/>
                    </a:cubicBezTo>
                    <a:cubicBezTo>
                      <a:pt x="11254" y="3"/>
                      <a:pt x="11255" y="3"/>
                      <a:pt x="11256" y="3"/>
                    </a:cubicBezTo>
                    <a:close/>
                    <a:moveTo>
                      <a:pt x="11264" y="3"/>
                    </a:moveTo>
                    <a:lnTo>
                      <a:pt x="11264" y="3"/>
                    </a:lnTo>
                    <a:cubicBezTo>
                      <a:pt x="11265" y="3"/>
                      <a:pt x="11266" y="3"/>
                      <a:pt x="11266" y="5"/>
                    </a:cubicBezTo>
                    <a:cubicBezTo>
                      <a:pt x="11266" y="6"/>
                      <a:pt x="11265" y="7"/>
                      <a:pt x="11264" y="7"/>
                    </a:cubicBezTo>
                    <a:lnTo>
                      <a:pt x="11264" y="7"/>
                    </a:lnTo>
                    <a:cubicBezTo>
                      <a:pt x="11263" y="7"/>
                      <a:pt x="11262" y="6"/>
                      <a:pt x="11262" y="5"/>
                    </a:cubicBezTo>
                    <a:cubicBezTo>
                      <a:pt x="11262" y="3"/>
                      <a:pt x="11263" y="3"/>
                      <a:pt x="11264" y="3"/>
                    </a:cubicBezTo>
                    <a:close/>
                    <a:moveTo>
                      <a:pt x="11272" y="3"/>
                    </a:moveTo>
                    <a:lnTo>
                      <a:pt x="11272" y="3"/>
                    </a:lnTo>
                    <a:cubicBezTo>
                      <a:pt x="11273" y="3"/>
                      <a:pt x="11274" y="3"/>
                      <a:pt x="11274" y="5"/>
                    </a:cubicBezTo>
                    <a:cubicBezTo>
                      <a:pt x="11274" y="6"/>
                      <a:pt x="11273" y="7"/>
                      <a:pt x="11272" y="7"/>
                    </a:cubicBezTo>
                    <a:lnTo>
                      <a:pt x="11272" y="7"/>
                    </a:lnTo>
                    <a:cubicBezTo>
                      <a:pt x="11271" y="7"/>
                      <a:pt x="11270" y="6"/>
                      <a:pt x="11270" y="5"/>
                    </a:cubicBezTo>
                    <a:cubicBezTo>
                      <a:pt x="11270" y="3"/>
                      <a:pt x="11271" y="3"/>
                      <a:pt x="11272" y="3"/>
                    </a:cubicBezTo>
                    <a:close/>
                    <a:moveTo>
                      <a:pt x="11280" y="3"/>
                    </a:moveTo>
                    <a:lnTo>
                      <a:pt x="11280" y="3"/>
                    </a:lnTo>
                    <a:cubicBezTo>
                      <a:pt x="11281" y="3"/>
                      <a:pt x="11282" y="3"/>
                      <a:pt x="11282" y="5"/>
                    </a:cubicBezTo>
                    <a:cubicBezTo>
                      <a:pt x="11282" y="6"/>
                      <a:pt x="11281" y="7"/>
                      <a:pt x="11280" y="7"/>
                    </a:cubicBezTo>
                    <a:lnTo>
                      <a:pt x="11280" y="7"/>
                    </a:lnTo>
                    <a:cubicBezTo>
                      <a:pt x="11279" y="7"/>
                      <a:pt x="11278" y="6"/>
                      <a:pt x="11278" y="5"/>
                    </a:cubicBezTo>
                    <a:cubicBezTo>
                      <a:pt x="11278" y="3"/>
                      <a:pt x="11279" y="3"/>
                      <a:pt x="11280" y="3"/>
                    </a:cubicBezTo>
                    <a:close/>
                    <a:moveTo>
                      <a:pt x="11288" y="3"/>
                    </a:moveTo>
                    <a:lnTo>
                      <a:pt x="11288" y="3"/>
                    </a:lnTo>
                    <a:cubicBezTo>
                      <a:pt x="11289" y="3"/>
                      <a:pt x="11290" y="3"/>
                      <a:pt x="11290" y="5"/>
                    </a:cubicBezTo>
                    <a:cubicBezTo>
                      <a:pt x="11290" y="6"/>
                      <a:pt x="11289" y="7"/>
                      <a:pt x="11288" y="7"/>
                    </a:cubicBezTo>
                    <a:lnTo>
                      <a:pt x="11288" y="7"/>
                    </a:lnTo>
                    <a:cubicBezTo>
                      <a:pt x="11287" y="7"/>
                      <a:pt x="11286" y="6"/>
                      <a:pt x="11286" y="5"/>
                    </a:cubicBezTo>
                    <a:cubicBezTo>
                      <a:pt x="11286" y="3"/>
                      <a:pt x="11287" y="3"/>
                      <a:pt x="11288" y="3"/>
                    </a:cubicBezTo>
                    <a:close/>
                    <a:moveTo>
                      <a:pt x="11296" y="3"/>
                    </a:moveTo>
                    <a:lnTo>
                      <a:pt x="11296" y="3"/>
                    </a:lnTo>
                    <a:cubicBezTo>
                      <a:pt x="11297" y="3"/>
                      <a:pt x="11298" y="3"/>
                      <a:pt x="11298" y="5"/>
                    </a:cubicBezTo>
                    <a:cubicBezTo>
                      <a:pt x="11298" y="6"/>
                      <a:pt x="11297" y="7"/>
                      <a:pt x="11296" y="7"/>
                    </a:cubicBezTo>
                    <a:lnTo>
                      <a:pt x="11296" y="7"/>
                    </a:lnTo>
                    <a:cubicBezTo>
                      <a:pt x="11295" y="7"/>
                      <a:pt x="11294" y="6"/>
                      <a:pt x="11294" y="5"/>
                    </a:cubicBezTo>
                    <a:cubicBezTo>
                      <a:pt x="11294" y="3"/>
                      <a:pt x="11295" y="3"/>
                      <a:pt x="11296" y="3"/>
                    </a:cubicBezTo>
                    <a:close/>
                    <a:moveTo>
                      <a:pt x="11304" y="3"/>
                    </a:moveTo>
                    <a:lnTo>
                      <a:pt x="11304" y="3"/>
                    </a:lnTo>
                    <a:cubicBezTo>
                      <a:pt x="11305" y="3"/>
                      <a:pt x="11306" y="3"/>
                      <a:pt x="11306" y="5"/>
                    </a:cubicBezTo>
                    <a:cubicBezTo>
                      <a:pt x="11306" y="6"/>
                      <a:pt x="11305" y="7"/>
                      <a:pt x="11304" y="7"/>
                    </a:cubicBezTo>
                    <a:lnTo>
                      <a:pt x="11304" y="7"/>
                    </a:lnTo>
                    <a:cubicBezTo>
                      <a:pt x="11303" y="7"/>
                      <a:pt x="11302" y="6"/>
                      <a:pt x="11302" y="5"/>
                    </a:cubicBezTo>
                    <a:cubicBezTo>
                      <a:pt x="11302" y="3"/>
                      <a:pt x="11303" y="3"/>
                      <a:pt x="11304" y="3"/>
                    </a:cubicBezTo>
                    <a:close/>
                    <a:moveTo>
                      <a:pt x="11312" y="3"/>
                    </a:moveTo>
                    <a:lnTo>
                      <a:pt x="11312" y="3"/>
                    </a:lnTo>
                    <a:cubicBezTo>
                      <a:pt x="11313" y="3"/>
                      <a:pt x="11314" y="3"/>
                      <a:pt x="11314" y="5"/>
                    </a:cubicBezTo>
                    <a:cubicBezTo>
                      <a:pt x="11314" y="6"/>
                      <a:pt x="11313" y="7"/>
                      <a:pt x="11312" y="7"/>
                    </a:cubicBezTo>
                    <a:lnTo>
                      <a:pt x="11312" y="7"/>
                    </a:lnTo>
                    <a:cubicBezTo>
                      <a:pt x="11311" y="7"/>
                      <a:pt x="11310" y="6"/>
                      <a:pt x="11310" y="5"/>
                    </a:cubicBezTo>
                    <a:cubicBezTo>
                      <a:pt x="11310" y="3"/>
                      <a:pt x="11311" y="3"/>
                      <a:pt x="11312" y="3"/>
                    </a:cubicBezTo>
                    <a:close/>
                    <a:moveTo>
                      <a:pt x="11320" y="3"/>
                    </a:moveTo>
                    <a:lnTo>
                      <a:pt x="11320" y="3"/>
                    </a:lnTo>
                    <a:cubicBezTo>
                      <a:pt x="11321" y="3"/>
                      <a:pt x="11322" y="3"/>
                      <a:pt x="11322" y="5"/>
                    </a:cubicBezTo>
                    <a:cubicBezTo>
                      <a:pt x="11322" y="6"/>
                      <a:pt x="11321" y="7"/>
                      <a:pt x="11320" y="7"/>
                    </a:cubicBezTo>
                    <a:lnTo>
                      <a:pt x="11320" y="7"/>
                    </a:lnTo>
                    <a:cubicBezTo>
                      <a:pt x="11319" y="7"/>
                      <a:pt x="11318" y="6"/>
                      <a:pt x="11318" y="5"/>
                    </a:cubicBezTo>
                    <a:cubicBezTo>
                      <a:pt x="11318" y="3"/>
                      <a:pt x="11319" y="3"/>
                      <a:pt x="11320" y="3"/>
                    </a:cubicBezTo>
                    <a:close/>
                    <a:moveTo>
                      <a:pt x="11328" y="3"/>
                    </a:moveTo>
                    <a:lnTo>
                      <a:pt x="11328" y="3"/>
                    </a:lnTo>
                    <a:cubicBezTo>
                      <a:pt x="11329" y="3"/>
                      <a:pt x="11330" y="3"/>
                      <a:pt x="11330" y="5"/>
                    </a:cubicBezTo>
                    <a:cubicBezTo>
                      <a:pt x="11330" y="6"/>
                      <a:pt x="11329" y="7"/>
                      <a:pt x="11328" y="7"/>
                    </a:cubicBezTo>
                    <a:lnTo>
                      <a:pt x="11328" y="7"/>
                    </a:lnTo>
                    <a:cubicBezTo>
                      <a:pt x="11327" y="7"/>
                      <a:pt x="11326" y="6"/>
                      <a:pt x="11326" y="5"/>
                    </a:cubicBezTo>
                    <a:cubicBezTo>
                      <a:pt x="11326" y="3"/>
                      <a:pt x="11327" y="3"/>
                      <a:pt x="11328" y="3"/>
                    </a:cubicBezTo>
                    <a:close/>
                    <a:moveTo>
                      <a:pt x="11336" y="3"/>
                    </a:moveTo>
                    <a:lnTo>
                      <a:pt x="11336" y="3"/>
                    </a:lnTo>
                    <a:cubicBezTo>
                      <a:pt x="11337" y="3"/>
                      <a:pt x="11338" y="3"/>
                      <a:pt x="11338" y="5"/>
                    </a:cubicBezTo>
                    <a:cubicBezTo>
                      <a:pt x="11338" y="6"/>
                      <a:pt x="11337" y="7"/>
                      <a:pt x="11336" y="7"/>
                    </a:cubicBezTo>
                    <a:lnTo>
                      <a:pt x="11336" y="7"/>
                    </a:lnTo>
                    <a:cubicBezTo>
                      <a:pt x="11335" y="7"/>
                      <a:pt x="11334" y="6"/>
                      <a:pt x="11334" y="5"/>
                    </a:cubicBezTo>
                    <a:cubicBezTo>
                      <a:pt x="11334" y="3"/>
                      <a:pt x="11335" y="3"/>
                      <a:pt x="11336" y="3"/>
                    </a:cubicBezTo>
                    <a:close/>
                    <a:moveTo>
                      <a:pt x="11344" y="3"/>
                    </a:moveTo>
                    <a:lnTo>
                      <a:pt x="11344" y="3"/>
                    </a:lnTo>
                    <a:cubicBezTo>
                      <a:pt x="11345" y="3"/>
                      <a:pt x="11346" y="3"/>
                      <a:pt x="11346" y="5"/>
                    </a:cubicBezTo>
                    <a:cubicBezTo>
                      <a:pt x="11346" y="6"/>
                      <a:pt x="11345" y="7"/>
                      <a:pt x="11344" y="7"/>
                    </a:cubicBezTo>
                    <a:lnTo>
                      <a:pt x="11344" y="7"/>
                    </a:lnTo>
                    <a:cubicBezTo>
                      <a:pt x="11343" y="7"/>
                      <a:pt x="11342" y="6"/>
                      <a:pt x="11342" y="5"/>
                    </a:cubicBezTo>
                    <a:cubicBezTo>
                      <a:pt x="11342" y="3"/>
                      <a:pt x="11343" y="3"/>
                      <a:pt x="11344" y="3"/>
                    </a:cubicBezTo>
                    <a:close/>
                    <a:moveTo>
                      <a:pt x="11352" y="3"/>
                    </a:moveTo>
                    <a:lnTo>
                      <a:pt x="11352" y="3"/>
                    </a:lnTo>
                    <a:cubicBezTo>
                      <a:pt x="11353" y="3"/>
                      <a:pt x="11354" y="3"/>
                      <a:pt x="11354" y="5"/>
                    </a:cubicBezTo>
                    <a:cubicBezTo>
                      <a:pt x="11354" y="6"/>
                      <a:pt x="11353" y="7"/>
                      <a:pt x="11352" y="7"/>
                    </a:cubicBezTo>
                    <a:lnTo>
                      <a:pt x="11352" y="7"/>
                    </a:lnTo>
                    <a:cubicBezTo>
                      <a:pt x="11351" y="7"/>
                      <a:pt x="11350" y="6"/>
                      <a:pt x="11350" y="5"/>
                    </a:cubicBezTo>
                    <a:cubicBezTo>
                      <a:pt x="11350" y="3"/>
                      <a:pt x="11351" y="3"/>
                      <a:pt x="11352" y="3"/>
                    </a:cubicBezTo>
                    <a:close/>
                    <a:moveTo>
                      <a:pt x="11360" y="3"/>
                    </a:moveTo>
                    <a:lnTo>
                      <a:pt x="11360" y="3"/>
                    </a:lnTo>
                    <a:cubicBezTo>
                      <a:pt x="11361" y="3"/>
                      <a:pt x="11362" y="3"/>
                      <a:pt x="11362" y="5"/>
                    </a:cubicBezTo>
                    <a:cubicBezTo>
                      <a:pt x="11362" y="6"/>
                      <a:pt x="11361" y="7"/>
                      <a:pt x="11360" y="7"/>
                    </a:cubicBezTo>
                    <a:lnTo>
                      <a:pt x="11360" y="7"/>
                    </a:lnTo>
                    <a:cubicBezTo>
                      <a:pt x="11359" y="7"/>
                      <a:pt x="11358" y="6"/>
                      <a:pt x="11358" y="5"/>
                    </a:cubicBezTo>
                    <a:cubicBezTo>
                      <a:pt x="11358" y="3"/>
                      <a:pt x="11359" y="3"/>
                      <a:pt x="11360" y="3"/>
                    </a:cubicBezTo>
                    <a:close/>
                    <a:moveTo>
                      <a:pt x="11368" y="3"/>
                    </a:moveTo>
                    <a:lnTo>
                      <a:pt x="11368" y="3"/>
                    </a:lnTo>
                    <a:cubicBezTo>
                      <a:pt x="11369" y="3"/>
                      <a:pt x="11370" y="3"/>
                      <a:pt x="11370" y="5"/>
                    </a:cubicBezTo>
                    <a:cubicBezTo>
                      <a:pt x="11370" y="6"/>
                      <a:pt x="11369" y="7"/>
                      <a:pt x="11368" y="7"/>
                    </a:cubicBezTo>
                    <a:lnTo>
                      <a:pt x="11368" y="7"/>
                    </a:lnTo>
                    <a:cubicBezTo>
                      <a:pt x="11367" y="7"/>
                      <a:pt x="11366" y="6"/>
                      <a:pt x="11366" y="5"/>
                    </a:cubicBezTo>
                    <a:cubicBezTo>
                      <a:pt x="11366" y="3"/>
                      <a:pt x="11367" y="3"/>
                      <a:pt x="11368" y="3"/>
                    </a:cubicBezTo>
                    <a:close/>
                    <a:moveTo>
                      <a:pt x="11376" y="3"/>
                    </a:moveTo>
                    <a:lnTo>
                      <a:pt x="11376" y="3"/>
                    </a:lnTo>
                    <a:cubicBezTo>
                      <a:pt x="11377" y="3"/>
                      <a:pt x="11378" y="3"/>
                      <a:pt x="11378" y="5"/>
                    </a:cubicBezTo>
                    <a:cubicBezTo>
                      <a:pt x="11378" y="6"/>
                      <a:pt x="11377" y="7"/>
                      <a:pt x="11376" y="7"/>
                    </a:cubicBezTo>
                    <a:lnTo>
                      <a:pt x="11376" y="7"/>
                    </a:lnTo>
                    <a:cubicBezTo>
                      <a:pt x="11375" y="7"/>
                      <a:pt x="11374" y="6"/>
                      <a:pt x="11374" y="5"/>
                    </a:cubicBezTo>
                    <a:cubicBezTo>
                      <a:pt x="11374" y="3"/>
                      <a:pt x="11375" y="3"/>
                      <a:pt x="11376" y="3"/>
                    </a:cubicBezTo>
                    <a:close/>
                    <a:moveTo>
                      <a:pt x="11384" y="3"/>
                    </a:moveTo>
                    <a:lnTo>
                      <a:pt x="11384" y="3"/>
                    </a:lnTo>
                    <a:cubicBezTo>
                      <a:pt x="11385" y="3"/>
                      <a:pt x="11386" y="3"/>
                      <a:pt x="11386" y="5"/>
                    </a:cubicBezTo>
                    <a:cubicBezTo>
                      <a:pt x="11386" y="6"/>
                      <a:pt x="11385" y="7"/>
                      <a:pt x="11384" y="7"/>
                    </a:cubicBezTo>
                    <a:lnTo>
                      <a:pt x="11384" y="7"/>
                    </a:lnTo>
                    <a:cubicBezTo>
                      <a:pt x="11383" y="7"/>
                      <a:pt x="11382" y="6"/>
                      <a:pt x="11382" y="5"/>
                    </a:cubicBezTo>
                    <a:cubicBezTo>
                      <a:pt x="11382" y="3"/>
                      <a:pt x="11383" y="3"/>
                      <a:pt x="11384" y="3"/>
                    </a:cubicBezTo>
                    <a:close/>
                    <a:moveTo>
                      <a:pt x="11392" y="3"/>
                    </a:moveTo>
                    <a:lnTo>
                      <a:pt x="11392" y="3"/>
                    </a:lnTo>
                    <a:cubicBezTo>
                      <a:pt x="11393" y="3"/>
                      <a:pt x="11394" y="3"/>
                      <a:pt x="11394" y="5"/>
                    </a:cubicBezTo>
                    <a:cubicBezTo>
                      <a:pt x="11394" y="6"/>
                      <a:pt x="11393" y="7"/>
                      <a:pt x="11392" y="7"/>
                    </a:cubicBezTo>
                    <a:lnTo>
                      <a:pt x="11392" y="7"/>
                    </a:lnTo>
                    <a:cubicBezTo>
                      <a:pt x="11391" y="7"/>
                      <a:pt x="11390" y="6"/>
                      <a:pt x="11390" y="5"/>
                    </a:cubicBezTo>
                    <a:cubicBezTo>
                      <a:pt x="11390" y="3"/>
                      <a:pt x="11391" y="3"/>
                      <a:pt x="11392" y="3"/>
                    </a:cubicBezTo>
                    <a:close/>
                    <a:moveTo>
                      <a:pt x="11400" y="3"/>
                    </a:moveTo>
                    <a:lnTo>
                      <a:pt x="11400" y="3"/>
                    </a:lnTo>
                    <a:cubicBezTo>
                      <a:pt x="11401" y="3"/>
                      <a:pt x="11402" y="3"/>
                      <a:pt x="11402" y="5"/>
                    </a:cubicBezTo>
                    <a:cubicBezTo>
                      <a:pt x="11402" y="6"/>
                      <a:pt x="11401" y="7"/>
                      <a:pt x="11400" y="7"/>
                    </a:cubicBezTo>
                    <a:lnTo>
                      <a:pt x="11400" y="7"/>
                    </a:lnTo>
                    <a:cubicBezTo>
                      <a:pt x="11399" y="7"/>
                      <a:pt x="11398" y="6"/>
                      <a:pt x="11398" y="5"/>
                    </a:cubicBezTo>
                    <a:cubicBezTo>
                      <a:pt x="11398" y="3"/>
                      <a:pt x="11399" y="3"/>
                      <a:pt x="11400" y="3"/>
                    </a:cubicBezTo>
                    <a:close/>
                    <a:moveTo>
                      <a:pt x="11408" y="3"/>
                    </a:moveTo>
                    <a:lnTo>
                      <a:pt x="11408" y="3"/>
                    </a:lnTo>
                    <a:cubicBezTo>
                      <a:pt x="11409" y="3"/>
                      <a:pt x="11410" y="3"/>
                      <a:pt x="11410" y="5"/>
                    </a:cubicBezTo>
                    <a:cubicBezTo>
                      <a:pt x="11410" y="6"/>
                      <a:pt x="11409" y="7"/>
                      <a:pt x="11408" y="7"/>
                    </a:cubicBezTo>
                    <a:lnTo>
                      <a:pt x="11408" y="7"/>
                    </a:lnTo>
                    <a:cubicBezTo>
                      <a:pt x="11407" y="7"/>
                      <a:pt x="11406" y="6"/>
                      <a:pt x="11406" y="5"/>
                    </a:cubicBezTo>
                    <a:cubicBezTo>
                      <a:pt x="11406" y="3"/>
                      <a:pt x="11407" y="3"/>
                      <a:pt x="11408" y="3"/>
                    </a:cubicBezTo>
                    <a:close/>
                    <a:moveTo>
                      <a:pt x="11416" y="3"/>
                    </a:moveTo>
                    <a:lnTo>
                      <a:pt x="11416" y="3"/>
                    </a:lnTo>
                    <a:cubicBezTo>
                      <a:pt x="11417" y="3"/>
                      <a:pt x="11418" y="3"/>
                      <a:pt x="11418" y="5"/>
                    </a:cubicBezTo>
                    <a:cubicBezTo>
                      <a:pt x="11418" y="6"/>
                      <a:pt x="11417" y="7"/>
                      <a:pt x="11416" y="7"/>
                    </a:cubicBezTo>
                    <a:lnTo>
                      <a:pt x="11416" y="7"/>
                    </a:lnTo>
                    <a:cubicBezTo>
                      <a:pt x="11415" y="7"/>
                      <a:pt x="11414" y="6"/>
                      <a:pt x="11414" y="5"/>
                    </a:cubicBezTo>
                    <a:cubicBezTo>
                      <a:pt x="11414" y="3"/>
                      <a:pt x="11415" y="3"/>
                      <a:pt x="11416" y="3"/>
                    </a:cubicBezTo>
                    <a:close/>
                    <a:moveTo>
                      <a:pt x="11424" y="3"/>
                    </a:moveTo>
                    <a:lnTo>
                      <a:pt x="11424" y="3"/>
                    </a:lnTo>
                    <a:cubicBezTo>
                      <a:pt x="11425" y="3"/>
                      <a:pt x="11426" y="3"/>
                      <a:pt x="11426" y="5"/>
                    </a:cubicBezTo>
                    <a:cubicBezTo>
                      <a:pt x="11426" y="6"/>
                      <a:pt x="11425" y="7"/>
                      <a:pt x="11424" y="7"/>
                    </a:cubicBezTo>
                    <a:lnTo>
                      <a:pt x="11424" y="7"/>
                    </a:lnTo>
                    <a:cubicBezTo>
                      <a:pt x="11423" y="7"/>
                      <a:pt x="11422" y="6"/>
                      <a:pt x="11422" y="5"/>
                    </a:cubicBezTo>
                    <a:cubicBezTo>
                      <a:pt x="11422" y="3"/>
                      <a:pt x="11423" y="3"/>
                      <a:pt x="11424" y="3"/>
                    </a:cubicBezTo>
                    <a:close/>
                    <a:moveTo>
                      <a:pt x="11432" y="3"/>
                    </a:moveTo>
                    <a:lnTo>
                      <a:pt x="11432" y="3"/>
                    </a:lnTo>
                    <a:cubicBezTo>
                      <a:pt x="11433" y="3"/>
                      <a:pt x="11434" y="3"/>
                      <a:pt x="11434" y="5"/>
                    </a:cubicBezTo>
                    <a:cubicBezTo>
                      <a:pt x="11434" y="6"/>
                      <a:pt x="11433" y="7"/>
                      <a:pt x="11432" y="7"/>
                    </a:cubicBezTo>
                    <a:lnTo>
                      <a:pt x="11432" y="7"/>
                    </a:lnTo>
                    <a:cubicBezTo>
                      <a:pt x="11431" y="7"/>
                      <a:pt x="11430" y="6"/>
                      <a:pt x="11430" y="5"/>
                    </a:cubicBezTo>
                    <a:cubicBezTo>
                      <a:pt x="11430" y="3"/>
                      <a:pt x="11431" y="3"/>
                      <a:pt x="11432" y="3"/>
                    </a:cubicBezTo>
                    <a:close/>
                    <a:moveTo>
                      <a:pt x="11440" y="3"/>
                    </a:moveTo>
                    <a:lnTo>
                      <a:pt x="11440" y="3"/>
                    </a:lnTo>
                    <a:cubicBezTo>
                      <a:pt x="11441" y="3"/>
                      <a:pt x="11442" y="3"/>
                      <a:pt x="11442" y="5"/>
                    </a:cubicBezTo>
                    <a:cubicBezTo>
                      <a:pt x="11442" y="6"/>
                      <a:pt x="11441" y="7"/>
                      <a:pt x="11440" y="7"/>
                    </a:cubicBezTo>
                    <a:lnTo>
                      <a:pt x="11440" y="7"/>
                    </a:lnTo>
                    <a:cubicBezTo>
                      <a:pt x="11439" y="7"/>
                      <a:pt x="11438" y="6"/>
                      <a:pt x="11438" y="5"/>
                    </a:cubicBezTo>
                    <a:cubicBezTo>
                      <a:pt x="11438" y="3"/>
                      <a:pt x="11439" y="3"/>
                      <a:pt x="11440" y="3"/>
                    </a:cubicBezTo>
                    <a:close/>
                    <a:moveTo>
                      <a:pt x="11448" y="3"/>
                    </a:moveTo>
                    <a:lnTo>
                      <a:pt x="11448" y="3"/>
                    </a:lnTo>
                    <a:cubicBezTo>
                      <a:pt x="11449" y="3"/>
                      <a:pt x="11450" y="3"/>
                      <a:pt x="11450" y="5"/>
                    </a:cubicBezTo>
                    <a:cubicBezTo>
                      <a:pt x="11450" y="6"/>
                      <a:pt x="11449" y="7"/>
                      <a:pt x="11448" y="7"/>
                    </a:cubicBezTo>
                    <a:lnTo>
                      <a:pt x="11448" y="7"/>
                    </a:lnTo>
                    <a:cubicBezTo>
                      <a:pt x="11447" y="7"/>
                      <a:pt x="11446" y="6"/>
                      <a:pt x="11446" y="5"/>
                    </a:cubicBezTo>
                    <a:cubicBezTo>
                      <a:pt x="11446" y="3"/>
                      <a:pt x="11447" y="3"/>
                      <a:pt x="11448" y="3"/>
                    </a:cubicBezTo>
                    <a:close/>
                    <a:moveTo>
                      <a:pt x="11456" y="3"/>
                    </a:moveTo>
                    <a:lnTo>
                      <a:pt x="11456" y="3"/>
                    </a:lnTo>
                    <a:cubicBezTo>
                      <a:pt x="11457" y="3"/>
                      <a:pt x="11458" y="3"/>
                      <a:pt x="11458" y="5"/>
                    </a:cubicBezTo>
                    <a:cubicBezTo>
                      <a:pt x="11458" y="6"/>
                      <a:pt x="11457" y="7"/>
                      <a:pt x="11456" y="7"/>
                    </a:cubicBezTo>
                    <a:lnTo>
                      <a:pt x="11456" y="7"/>
                    </a:lnTo>
                    <a:cubicBezTo>
                      <a:pt x="11455" y="7"/>
                      <a:pt x="11454" y="6"/>
                      <a:pt x="11454" y="5"/>
                    </a:cubicBezTo>
                    <a:cubicBezTo>
                      <a:pt x="11454" y="3"/>
                      <a:pt x="11455" y="3"/>
                      <a:pt x="11456" y="3"/>
                    </a:cubicBezTo>
                    <a:close/>
                    <a:moveTo>
                      <a:pt x="11464" y="3"/>
                    </a:moveTo>
                    <a:lnTo>
                      <a:pt x="11464" y="3"/>
                    </a:lnTo>
                    <a:cubicBezTo>
                      <a:pt x="11465" y="3"/>
                      <a:pt x="11466" y="3"/>
                      <a:pt x="11466" y="5"/>
                    </a:cubicBezTo>
                    <a:cubicBezTo>
                      <a:pt x="11466" y="6"/>
                      <a:pt x="11465" y="7"/>
                      <a:pt x="11464" y="7"/>
                    </a:cubicBezTo>
                    <a:lnTo>
                      <a:pt x="11464" y="7"/>
                    </a:lnTo>
                    <a:cubicBezTo>
                      <a:pt x="11463" y="7"/>
                      <a:pt x="11462" y="6"/>
                      <a:pt x="11462" y="5"/>
                    </a:cubicBezTo>
                    <a:cubicBezTo>
                      <a:pt x="11462" y="3"/>
                      <a:pt x="11463" y="3"/>
                      <a:pt x="11464" y="3"/>
                    </a:cubicBezTo>
                    <a:close/>
                    <a:moveTo>
                      <a:pt x="11472" y="3"/>
                    </a:moveTo>
                    <a:lnTo>
                      <a:pt x="11472" y="3"/>
                    </a:lnTo>
                    <a:cubicBezTo>
                      <a:pt x="11473" y="3"/>
                      <a:pt x="11474" y="3"/>
                      <a:pt x="11474" y="5"/>
                    </a:cubicBezTo>
                    <a:cubicBezTo>
                      <a:pt x="11474" y="6"/>
                      <a:pt x="11473" y="7"/>
                      <a:pt x="11472" y="7"/>
                    </a:cubicBezTo>
                    <a:lnTo>
                      <a:pt x="11472" y="7"/>
                    </a:lnTo>
                    <a:cubicBezTo>
                      <a:pt x="11471" y="7"/>
                      <a:pt x="11470" y="6"/>
                      <a:pt x="11470" y="5"/>
                    </a:cubicBezTo>
                    <a:cubicBezTo>
                      <a:pt x="11470" y="3"/>
                      <a:pt x="11471" y="3"/>
                      <a:pt x="11472" y="3"/>
                    </a:cubicBezTo>
                    <a:close/>
                    <a:moveTo>
                      <a:pt x="11480" y="3"/>
                    </a:moveTo>
                    <a:lnTo>
                      <a:pt x="11480" y="3"/>
                    </a:lnTo>
                    <a:cubicBezTo>
                      <a:pt x="11481" y="3"/>
                      <a:pt x="11482" y="3"/>
                      <a:pt x="11482" y="5"/>
                    </a:cubicBezTo>
                    <a:cubicBezTo>
                      <a:pt x="11482" y="6"/>
                      <a:pt x="11481" y="7"/>
                      <a:pt x="11480" y="7"/>
                    </a:cubicBezTo>
                    <a:lnTo>
                      <a:pt x="11480" y="7"/>
                    </a:lnTo>
                    <a:cubicBezTo>
                      <a:pt x="11479" y="7"/>
                      <a:pt x="11478" y="6"/>
                      <a:pt x="11478" y="5"/>
                    </a:cubicBezTo>
                    <a:cubicBezTo>
                      <a:pt x="11478" y="3"/>
                      <a:pt x="11479" y="3"/>
                      <a:pt x="11480" y="3"/>
                    </a:cubicBezTo>
                    <a:close/>
                    <a:moveTo>
                      <a:pt x="11488" y="3"/>
                    </a:moveTo>
                    <a:lnTo>
                      <a:pt x="11488" y="3"/>
                    </a:lnTo>
                    <a:cubicBezTo>
                      <a:pt x="11489" y="3"/>
                      <a:pt x="11490" y="3"/>
                      <a:pt x="11490" y="5"/>
                    </a:cubicBezTo>
                    <a:cubicBezTo>
                      <a:pt x="11490" y="6"/>
                      <a:pt x="11489" y="7"/>
                      <a:pt x="11488" y="7"/>
                    </a:cubicBezTo>
                    <a:lnTo>
                      <a:pt x="11488" y="7"/>
                    </a:lnTo>
                    <a:cubicBezTo>
                      <a:pt x="11487" y="7"/>
                      <a:pt x="11486" y="6"/>
                      <a:pt x="11486" y="5"/>
                    </a:cubicBezTo>
                    <a:cubicBezTo>
                      <a:pt x="11486" y="3"/>
                      <a:pt x="11487" y="3"/>
                      <a:pt x="11488" y="3"/>
                    </a:cubicBezTo>
                    <a:close/>
                    <a:moveTo>
                      <a:pt x="11496" y="3"/>
                    </a:moveTo>
                    <a:lnTo>
                      <a:pt x="11496" y="3"/>
                    </a:lnTo>
                    <a:cubicBezTo>
                      <a:pt x="11497" y="3"/>
                      <a:pt x="11498" y="3"/>
                      <a:pt x="11498" y="5"/>
                    </a:cubicBezTo>
                    <a:cubicBezTo>
                      <a:pt x="11498" y="6"/>
                      <a:pt x="11497" y="7"/>
                      <a:pt x="11496" y="7"/>
                    </a:cubicBezTo>
                    <a:lnTo>
                      <a:pt x="11496" y="7"/>
                    </a:lnTo>
                    <a:cubicBezTo>
                      <a:pt x="11495" y="7"/>
                      <a:pt x="11494" y="6"/>
                      <a:pt x="11494" y="5"/>
                    </a:cubicBezTo>
                    <a:cubicBezTo>
                      <a:pt x="11494" y="3"/>
                      <a:pt x="11495" y="3"/>
                      <a:pt x="11496" y="3"/>
                    </a:cubicBezTo>
                    <a:close/>
                    <a:moveTo>
                      <a:pt x="11504" y="3"/>
                    </a:moveTo>
                    <a:lnTo>
                      <a:pt x="11504" y="3"/>
                    </a:lnTo>
                    <a:cubicBezTo>
                      <a:pt x="11505" y="3"/>
                      <a:pt x="11506" y="3"/>
                      <a:pt x="11506" y="5"/>
                    </a:cubicBezTo>
                    <a:cubicBezTo>
                      <a:pt x="11506" y="6"/>
                      <a:pt x="11505" y="7"/>
                      <a:pt x="11504" y="7"/>
                    </a:cubicBezTo>
                    <a:lnTo>
                      <a:pt x="11504" y="7"/>
                    </a:lnTo>
                    <a:cubicBezTo>
                      <a:pt x="11503" y="7"/>
                      <a:pt x="11502" y="6"/>
                      <a:pt x="11502" y="5"/>
                    </a:cubicBezTo>
                    <a:cubicBezTo>
                      <a:pt x="11502" y="3"/>
                      <a:pt x="11503" y="3"/>
                      <a:pt x="11504" y="3"/>
                    </a:cubicBezTo>
                    <a:close/>
                    <a:moveTo>
                      <a:pt x="11512" y="3"/>
                    </a:moveTo>
                    <a:lnTo>
                      <a:pt x="11512" y="3"/>
                    </a:lnTo>
                    <a:cubicBezTo>
                      <a:pt x="11513" y="3"/>
                      <a:pt x="11514" y="3"/>
                      <a:pt x="11514" y="5"/>
                    </a:cubicBezTo>
                    <a:cubicBezTo>
                      <a:pt x="11514" y="6"/>
                      <a:pt x="11513" y="7"/>
                      <a:pt x="11512" y="7"/>
                    </a:cubicBezTo>
                    <a:lnTo>
                      <a:pt x="11512" y="7"/>
                    </a:lnTo>
                    <a:cubicBezTo>
                      <a:pt x="11511" y="7"/>
                      <a:pt x="11510" y="6"/>
                      <a:pt x="11510" y="5"/>
                    </a:cubicBezTo>
                    <a:cubicBezTo>
                      <a:pt x="11510" y="3"/>
                      <a:pt x="11511" y="3"/>
                      <a:pt x="11512" y="3"/>
                    </a:cubicBezTo>
                    <a:close/>
                    <a:moveTo>
                      <a:pt x="11520" y="3"/>
                    </a:moveTo>
                    <a:lnTo>
                      <a:pt x="11520" y="3"/>
                    </a:lnTo>
                    <a:cubicBezTo>
                      <a:pt x="11521" y="3"/>
                      <a:pt x="11522" y="3"/>
                      <a:pt x="11522" y="5"/>
                    </a:cubicBezTo>
                    <a:cubicBezTo>
                      <a:pt x="11522" y="6"/>
                      <a:pt x="11521" y="7"/>
                      <a:pt x="11520" y="7"/>
                    </a:cubicBezTo>
                    <a:lnTo>
                      <a:pt x="11520" y="7"/>
                    </a:lnTo>
                    <a:cubicBezTo>
                      <a:pt x="11519" y="7"/>
                      <a:pt x="11518" y="6"/>
                      <a:pt x="11518" y="5"/>
                    </a:cubicBezTo>
                    <a:cubicBezTo>
                      <a:pt x="11518" y="3"/>
                      <a:pt x="11519" y="3"/>
                      <a:pt x="11520" y="3"/>
                    </a:cubicBezTo>
                    <a:close/>
                    <a:moveTo>
                      <a:pt x="11528" y="3"/>
                    </a:moveTo>
                    <a:lnTo>
                      <a:pt x="11528" y="3"/>
                    </a:lnTo>
                    <a:cubicBezTo>
                      <a:pt x="11529" y="3"/>
                      <a:pt x="11530" y="3"/>
                      <a:pt x="11530" y="5"/>
                    </a:cubicBezTo>
                    <a:cubicBezTo>
                      <a:pt x="11530" y="6"/>
                      <a:pt x="11529" y="7"/>
                      <a:pt x="11528" y="7"/>
                    </a:cubicBezTo>
                    <a:lnTo>
                      <a:pt x="11528" y="7"/>
                    </a:lnTo>
                    <a:cubicBezTo>
                      <a:pt x="11527" y="7"/>
                      <a:pt x="11526" y="6"/>
                      <a:pt x="11526" y="5"/>
                    </a:cubicBezTo>
                    <a:cubicBezTo>
                      <a:pt x="11526" y="3"/>
                      <a:pt x="11527" y="3"/>
                      <a:pt x="11528" y="3"/>
                    </a:cubicBezTo>
                    <a:close/>
                    <a:moveTo>
                      <a:pt x="11536" y="3"/>
                    </a:moveTo>
                    <a:lnTo>
                      <a:pt x="11536" y="3"/>
                    </a:lnTo>
                    <a:cubicBezTo>
                      <a:pt x="11537" y="3"/>
                      <a:pt x="11538" y="3"/>
                      <a:pt x="11538" y="5"/>
                    </a:cubicBezTo>
                    <a:cubicBezTo>
                      <a:pt x="11538" y="6"/>
                      <a:pt x="11537" y="7"/>
                      <a:pt x="11536" y="7"/>
                    </a:cubicBezTo>
                    <a:lnTo>
                      <a:pt x="11536" y="7"/>
                    </a:lnTo>
                    <a:cubicBezTo>
                      <a:pt x="11535" y="7"/>
                      <a:pt x="11534" y="6"/>
                      <a:pt x="11534" y="5"/>
                    </a:cubicBezTo>
                    <a:cubicBezTo>
                      <a:pt x="11534" y="3"/>
                      <a:pt x="11535" y="3"/>
                      <a:pt x="11536" y="3"/>
                    </a:cubicBezTo>
                    <a:close/>
                    <a:moveTo>
                      <a:pt x="11544" y="3"/>
                    </a:moveTo>
                    <a:lnTo>
                      <a:pt x="11544" y="3"/>
                    </a:lnTo>
                    <a:cubicBezTo>
                      <a:pt x="11545" y="3"/>
                      <a:pt x="11546" y="3"/>
                      <a:pt x="11546" y="5"/>
                    </a:cubicBezTo>
                    <a:cubicBezTo>
                      <a:pt x="11546" y="6"/>
                      <a:pt x="11545" y="7"/>
                      <a:pt x="11544" y="7"/>
                    </a:cubicBezTo>
                    <a:lnTo>
                      <a:pt x="11544" y="7"/>
                    </a:lnTo>
                    <a:cubicBezTo>
                      <a:pt x="11543" y="7"/>
                      <a:pt x="11542" y="6"/>
                      <a:pt x="11542" y="5"/>
                    </a:cubicBezTo>
                    <a:cubicBezTo>
                      <a:pt x="11542" y="3"/>
                      <a:pt x="11543" y="3"/>
                      <a:pt x="11544" y="3"/>
                    </a:cubicBezTo>
                    <a:close/>
                    <a:moveTo>
                      <a:pt x="11552" y="3"/>
                    </a:moveTo>
                    <a:lnTo>
                      <a:pt x="11552" y="3"/>
                    </a:lnTo>
                    <a:cubicBezTo>
                      <a:pt x="11553" y="3"/>
                      <a:pt x="11554" y="3"/>
                      <a:pt x="11554" y="5"/>
                    </a:cubicBezTo>
                    <a:cubicBezTo>
                      <a:pt x="11554" y="6"/>
                      <a:pt x="11553" y="7"/>
                      <a:pt x="11552" y="7"/>
                    </a:cubicBezTo>
                    <a:lnTo>
                      <a:pt x="11552" y="7"/>
                    </a:lnTo>
                    <a:cubicBezTo>
                      <a:pt x="11551" y="7"/>
                      <a:pt x="11550" y="6"/>
                      <a:pt x="11550" y="5"/>
                    </a:cubicBezTo>
                    <a:cubicBezTo>
                      <a:pt x="11550" y="3"/>
                      <a:pt x="11551" y="3"/>
                      <a:pt x="11552" y="3"/>
                    </a:cubicBezTo>
                    <a:close/>
                    <a:moveTo>
                      <a:pt x="11560" y="3"/>
                    </a:moveTo>
                    <a:lnTo>
                      <a:pt x="11560" y="3"/>
                    </a:lnTo>
                    <a:cubicBezTo>
                      <a:pt x="11561" y="3"/>
                      <a:pt x="11562" y="3"/>
                      <a:pt x="11562" y="5"/>
                    </a:cubicBezTo>
                    <a:cubicBezTo>
                      <a:pt x="11562" y="6"/>
                      <a:pt x="11561" y="7"/>
                      <a:pt x="11560" y="7"/>
                    </a:cubicBezTo>
                    <a:lnTo>
                      <a:pt x="11560" y="7"/>
                    </a:lnTo>
                    <a:cubicBezTo>
                      <a:pt x="11559" y="7"/>
                      <a:pt x="11558" y="6"/>
                      <a:pt x="11558" y="5"/>
                    </a:cubicBezTo>
                    <a:cubicBezTo>
                      <a:pt x="11558" y="3"/>
                      <a:pt x="11559" y="3"/>
                      <a:pt x="11560" y="3"/>
                    </a:cubicBezTo>
                    <a:close/>
                    <a:moveTo>
                      <a:pt x="11568" y="3"/>
                    </a:moveTo>
                    <a:lnTo>
                      <a:pt x="11568" y="3"/>
                    </a:lnTo>
                    <a:cubicBezTo>
                      <a:pt x="11569" y="3"/>
                      <a:pt x="11570" y="4"/>
                      <a:pt x="11570" y="5"/>
                    </a:cubicBezTo>
                    <a:cubicBezTo>
                      <a:pt x="11570" y="6"/>
                      <a:pt x="11569" y="7"/>
                      <a:pt x="11568" y="7"/>
                    </a:cubicBezTo>
                    <a:lnTo>
                      <a:pt x="11568" y="7"/>
                    </a:lnTo>
                    <a:cubicBezTo>
                      <a:pt x="11567" y="7"/>
                      <a:pt x="11566" y="6"/>
                      <a:pt x="11566" y="5"/>
                    </a:cubicBezTo>
                    <a:cubicBezTo>
                      <a:pt x="11566" y="4"/>
                      <a:pt x="11567" y="3"/>
                      <a:pt x="11568" y="3"/>
                    </a:cubicBezTo>
                    <a:close/>
                    <a:moveTo>
                      <a:pt x="11576" y="3"/>
                    </a:moveTo>
                    <a:lnTo>
                      <a:pt x="11576" y="3"/>
                    </a:lnTo>
                    <a:cubicBezTo>
                      <a:pt x="11577" y="3"/>
                      <a:pt x="11578" y="4"/>
                      <a:pt x="11578" y="5"/>
                    </a:cubicBezTo>
                    <a:cubicBezTo>
                      <a:pt x="11578" y="6"/>
                      <a:pt x="11577" y="7"/>
                      <a:pt x="11576" y="7"/>
                    </a:cubicBezTo>
                    <a:lnTo>
                      <a:pt x="11576" y="7"/>
                    </a:lnTo>
                    <a:cubicBezTo>
                      <a:pt x="11575" y="7"/>
                      <a:pt x="11574" y="6"/>
                      <a:pt x="11574" y="5"/>
                    </a:cubicBezTo>
                    <a:cubicBezTo>
                      <a:pt x="11574" y="4"/>
                      <a:pt x="11575" y="3"/>
                      <a:pt x="11576" y="3"/>
                    </a:cubicBezTo>
                    <a:close/>
                    <a:moveTo>
                      <a:pt x="11584" y="3"/>
                    </a:moveTo>
                    <a:lnTo>
                      <a:pt x="11584" y="3"/>
                    </a:lnTo>
                    <a:cubicBezTo>
                      <a:pt x="11585" y="3"/>
                      <a:pt x="11586" y="4"/>
                      <a:pt x="11586" y="5"/>
                    </a:cubicBezTo>
                    <a:cubicBezTo>
                      <a:pt x="11586" y="6"/>
                      <a:pt x="11585" y="7"/>
                      <a:pt x="11584" y="7"/>
                    </a:cubicBezTo>
                    <a:lnTo>
                      <a:pt x="11584" y="7"/>
                    </a:lnTo>
                    <a:cubicBezTo>
                      <a:pt x="11583" y="7"/>
                      <a:pt x="11582" y="6"/>
                      <a:pt x="11582" y="5"/>
                    </a:cubicBezTo>
                    <a:cubicBezTo>
                      <a:pt x="11582" y="4"/>
                      <a:pt x="11583" y="3"/>
                      <a:pt x="11584" y="3"/>
                    </a:cubicBezTo>
                    <a:close/>
                    <a:moveTo>
                      <a:pt x="11592" y="3"/>
                    </a:moveTo>
                    <a:lnTo>
                      <a:pt x="11592" y="3"/>
                    </a:lnTo>
                    <a:cubicBezTo>
                      <a:pt x="11593" y="3"/>
                      <a:pt x="11594" y="4"/>
                      <a:pt x="11594" y="5"/>
                    </a:cubicBezTo>
                    <a:cubicBezTo>
                      <a:pt x="11594" y="6"/>
                      <a:pt x="11593" y="7"/>
                      <a:pt x="11592" y="7"/>
                    </a:cubicBezTo>
                    <a:lnTo>
                      <a:pt x="11592" y="7"/>
                    </a:lnTo>
                    <a:cubicBezTo>
                      <a:pt x="11591" y="7"/>
                      <a:pt x="11590" y="6"/>
                      <a:pt x="11590" y="5"/>
                    </a:cubicBezTo>
                    <a:cubicBezTo>
                      <a:pt x="11590" y="4"/>
                      <a:pt x="11591" y="3"/>
                      <a:pt x="11592" y="3"/>
                    </a:cubicBezTo>
                    <a:close/>
                    <a:moveTo>
                      <a:pt x="11600" y="3"/>
                    </a:moveTo>
                    <a:lnTo>
                      <a:pt x="11600" y="3"/>
                    </a:lnTo>
                    <a:cubicBezTo>
                      <a:pt x="11601" y="3"/>
                      <a:pt x="11602" y="4"/>
                      <a:pt x="11602" y="5"/>
                    </a:cubicBezTo>
                    <a:cubicBezTo>
                      <a:pt x="11602" y="6"/>
                      <a:pt x="11601" y="7"/>
                      <a:pt x="11600" y="7"/>
                    </a:cubicBezTo>
                    <a:lnTo>
                      <a:pt x="11600" y="7"/>
                    </a:lnTo>
                    <a:cubicBezTo>
                      <a:pt x="11599" y="7"/>
                      <a:pt x="11598" y="6"/>
                      <a:pt x="11598" y="5"/>
                    </a:cubicBezTo>
                    <a:cubicBezTo>
                      <a:pt x="11598" y="4"/>
                      <a:pt x="11599" y="3"/>
                      <a:pt x="11600" y="3"/>
                    </a:cubicBezTo>
                    <a:close/>
                    <a:moveTo>
                      <a:pt x="11608" y="3"/>
                    </a:moveTo>
                    <a:lnTo>
                      <a:pt x="11608" y="3"/>
                    </a:lnTo>
                    <a:cubicBezTo>
                      <a:pt x="11609" y="3"/>
                      <a:pt x="11610" y="4"/>
                      <a:pt x="11610" y="5"/>
                    </a:cubicBezTo>
                    <a:cubicBezTo>
                      <a:pt x="11610" y="6"/>
                      <a:pt x="11609" y="7"/>
                      <a:pt x="11608" y="7"/>
                    </a:cubicBezTo>
                    <a:lnTo>
                      <a:pt x="11608" y="7"/>
                    </a:lnTo>
                    <a:cubicBezTo>
                      <a:pt x="11607" y="7"/>
                      <a:pt x="11606" y="6"/>
                      <a:pt x="11606" y="5"/>
                    </a:cubicBezTo>
                    <a:cubicBezTo>
                      <a:pt x="11606" y="4"/>
                      <a:pt x="11607" y="3"/>
                      <a:pt x="11608" y="3"/>
                    </a:cubicBezTo>
                    <a:close/>
                    <a:moveTo>
                      <a:pt x="11616" y="3"/>
                    </a:moveTo>
                    <a:lnTo>
                      <a:pt x="11616" y="3"/>
                    </a:lnTo>
                    <a:cubicBezTo>
                      <a:pt x="11617" y="3"/>
                      <a:pt x="11618" y="4"/>
                      <a:pt x="11618" y="5"/>
                    </a:cubicBezTo>
                    <a:cubicBezTo>
                      <a:pt x="11618" y="6"/>
                      <a:pt x="11617" y="7"/>
                      <a:pt x="11616" y="7"/>
                    </a:cubicBezTo>
                    <a:lnTo>
                      <a:pt x="11616" y="7"/>
                    </a:lnTo>
                    <a:cubicBezTo>
                      <a:pt x="11615" y="7"/>
                      <a:pt x="11614" y="6"/>
                      <a:pt x="11614" y="5"/>
                    </a:cubicBezTo>
                    <a:cubicBezTo>
                      <a:pt x="11614" y="4"/>
                      <a:pt x="11615" y="3"/>
                      <a:pt x="11616" y="3"/>
                    </a:cubicBezTo>
                    <a:close/>
                    <a:moveTo>
                      <a:pt x="11624" y="3"/>
                    </a:moveTo>
                    <a:lnTo>
                      <a:pt x="11624" y="3"/>
                    </a:lnTo>
                    <a:cubicBezTo>
                      <a:pt x="11625" y="3"/>
                      <a:pt x="11626" y="4"/>
                      <a:pt x="11626" y="5"/>
                    </a:cubicBezTo>
                    <a:cubicBezTo>
                      <a:pt x="11626" y="6"/>
                      <a:pt x="11625" y="7"/>
                      <a:pt x="11624" y="7"/>
                    </a:cubicBezTo>
                    <a:lnTo>
                      <a:pt x="11624" y="7"/>
                    </a:lnTo>
                    <a:cubicBezTo>
                      <a:pt x="11623" y="7"/>
                      <a:pt x="11622" y="6"/>
                      <a:pt x="11622" y="5"/>
                    </a:cubicBezTo>
                    <a:cubicBezTo>
                      <a:pt x="11622" y="4"/>
                      <a:pt x="11623" y="3"/>
                      <a:pt x="11624" y="3"/>
                    </a:cubicBezTo>
                    <a:close/>
                    <a:moveTo>
                      <a:pt x="11632" y="3"/>
                    </a:moveTo>
                    <a:lnTo>
                      <a:pt x="11632" y="3"/>
                    </a:lnTo>
                    <a:cubicBezTo>
                      <a:pt x="11633" y="3"/>
                      <a:pt x="11634" y="4"/>
                      <a:pt x="11634" y="5"/>
                    </a:cubicBezTo>
                    <a:cubicBezTo>
                      <a:pt x="11634" y="6"/>
                      <a:pt x="11633" y="7"/>
                      <a:pt x="11632" y="7"/>
                    </a:cubicBezTo>
                    <a:lnTo>
                      <a:pt x="11632" y="7"/>
                    </a:lnTo>
                    <a:cubicBezTo>
                      <a:pt x="11631" y="7"/>
                      <a:pt x="11630" y="6"/>
                      <a:pt x="11630" y="5"/>
                    </a:cubicBezTo>
                    <a:cubicBezTo>
                      <a:pt x="11630" y="4"/>
                      <a:pt x="11631" y="3"/>
                      <a:pt x="11632" y="3"/>
                    </a:cubicBezTo>
                    <a:close/>
                    <a:moveTo>
                      <a:pt x="11640" y="3"/>
                    </a:moveTo>
                    <a:lnTo>
                      <a:pt x="11640" y="3"/>
                    </a:lnTo>
                    <a:cubicBezTo>
                      <a:pt x="11641" y="3"/>
                      <a:pt x="11642" y="4"/>
                      <a:pt x="11642" y="5"/>
                    </a:cubicBezTo>
                    <a:cubicBezTo>
                      <a:pt x="11642" y="6"/>
                      <a:pt x="11641" y="7"/>
                      <a:pt x="11640" y="7"/>
                    </a:cubicBezTo>
                    <a:lnTo>
                      <a:pt x="11640" y="7"/>
                    </a:lnTo>
                    <a:cubicBezTo>
                      <a:pt x="11639" y="7"/>
                      <a:pt x="11638" y="6"/>
                      <a:pt x="11638" y="5"/>
                    </a:cubicBezTo>
                    <a:cubicBezTo>
                      <a:pt x="11638" y="4"/>
                      <a:pt x="11639" y="3"/>
                      <a:pt x="11640" y="3"/>
                    </a:cubicBezTo>
                    <a:close/>
                    <a:moveTo>
                      <a:pt x="11648" y="3"/>
                    </a:moveTo>
                    <a:lnTo>
                      <a:pt x="11648" y="3"/>
                    </a:lnTo>
                    <a:cubicBezTo>
                      <a:pt x="11649" y="3"/>
                      <a:pt x="11650" y="4"/>
                      <a:pt x="11650" y="5"/>
                    </a:cubicBezTo>
                    <a:cubicBezTo>
                      <a:pt x="11650" y="6"/>
                      <a:pt x="11649" y="7"/>
                      <a:pt x="11648" y="7"/>
                    </a:cubicBezTo>
                    <a:lnTo>
                      <a:pt x="11648" y="7"/>
                    </a:lnTo>
                    <a:cubicBezTo>
                      <a:pt x="11647" y="7"/>
                      <a:pt x="11646" y="6"/>
                      <a:pt x="11646" y="5"/>
                    </a:cubicBezTo>
                    <a:cubicBezTo>
                      <a:pt x="11646" y="4"/>
                      <a:pt x="11647" y="3"/>
                      <a:pt x="11648" y="3"/>
                    </a:cubicBezTo>
                    <a:close/>
                    <a:moveTo>
                      <a:pt x="11656" y="3"/>
                    </a:moveTo>
                    <a:lnTo>
                      <a:pt x="11656" y="3"/>
                    </a:lnTo>
                    <a:cubicBezTo>
                      <a:pt x="11657" y="3"/>
                      <a:pt x="11658" y="4"/>
                      <a:pt x="11658" y="5"/>
                    </a:cubicBezTo>
                    <a:cubicBezTo>
                      <a:pt x="11658" y="6"/>
                      <a:pt x="11657" y="7"/>
                      <a:pt x="11656" y="7"/>
                    </a:cubicBezTo>
                    <a:lnTo>
                      <a:pt x="11656" y="7"/>
                    </a:lnTo>
                    <a:cubicBezTo>
                      <a:pt x="11655" y="7"/>
                      <a:pt x="11654" y="6"/>
                      <a:pt x="11654" y="5"/>
                    </a:cubicBezTo>
                    <a:cubicBezTo>
                      <a:pt x="11654" y="4"/>
                      <a:pt x="11655" y="3"/>
                      <a:pt x="11656" y="3"/>
                    </a:cubicBezTo>
                    <a:close/>
                    <a:moveTo>
                      <a:pt x="11664" y="3"/>
                    </a:moveTo>
                    <a:lnTo>
                      <a:pt x="11664" y="3"/>
                    </a:lnTo>
                    <a:cubicBezTo>
                      <a:pt x="11665" y="3"/>
                      <a:pt x="11666" y="4"/>
                      <a:pt x="11666" y="5"/>
                    </a:cubicBezTo>
                    <a:cubicBezTo>
                      <a:pt x="11666" y="6"/>
                      <a:pt x="11665" y="7"/>
                      <a:pt x="11664" y="7"/>
                    </a:cubicBezTo>
                    <a:lnTo>
                      <a:pt x="11664" y="7"/>
                    </a:lnTo>
                    <a:cubicBezTo>
                      <a:pt x="11663" y="7"/>
                      <a:pt x="11662" y="6"/>
                      <a:pt x="11662" y="5"/>
                    </a:cubicBezTo>
                    <a:cubicBezTo>
                      <a:pt x="11662" y="4"/>
                      <a:pt x="11663" y="3"/>
                      <a:pt x="11664" y="3"/>
                    </a:cubicBezTo>
                    <a:close/>
                    <a:moveTo>
                      <a:pt x="11672" y="3"/>
                    </a:moveTo>
                    <a:lnTo>
                      <a:pt x="11672" y="3"/>
                    </a:lnTo>
                    <a:cubicBezTo>
                      <a:pt x="11673" y="3"/>
                      <a:pt x="11674" y="4"/>
                      <a:pt x="11674" y="5"/>
                    </a:cubicBezTo>
                    <a:cubicBezTo>
                      <a:pt x="11674" y="6"/>
                      <a:pt x="11673" y="7"/>
                      <a:pt x="11672" y="7"/>
                    </a:cubicBezTo>
                    <a:lnTo>
                      <a:pt x="11672" y="7"/>
                    </a:lnTo>
                    <a:cubicBezTo>
                      <a:pt x="11671" y="7"/>
                      <a:pt x="11670" y="6"/>
                      <a:pt x="11670" y="5"/>
                    </a:cubicBezTo>
                    <a:cubicBezTo>
                      <a:pt x="11670" y="4"/>
                      <a:pt x="11671" y="3"/>
                      <a:pt x="11672" y="3"/>
                    </a:cubicBezTo>
                    <a:close/>
                    <a:moveTo>
                      <a:pt x="11680" y="3"/>
                    </a:moveTo>
                    <a:lnTo>
                      <a:pt x="11680" y="3"/>
                    </a:lnTo>
                    <a:cubicBezTo>
                      <a:pt x="11681" y="3"/>
                      <a:pt x="11682" y="4"/>
                      <a:pt x="11682" y="5"/>
                    </a:cubicBezTo>
                    <a:cubicBezTo>
                      <a:pt x="11682" y="6"/>
                      <a:pt x="11681" y="7"/>
                      <a:pt x="11680" y="7"/>
                    </a:cubicBezTo>
                    <a:lnTo>
                      <a:pt x="11680" y="7"/>
                    </a:lnTo>
                    <a:cubicBezTo>
                      <a:pt x="11679" y="7"/>
                      <a:pt x="11678" y="6"/>
                      <a:pt x="11678" y="5"/>
                    </a:cubicBezTo>
                    <a:cubicBezTo>
                      <a:pt x="11678" y="4"/>
                      <a:pt x="11679" y="3"/>
                      <a:pt x="11680" y="3"/>
                    </a:cubicBezTo>
                    <a:close/>
                    <a:moveTo>
                      <a:pt x="11688" y="3"/>
                    </a:moveTo>
                    <a:lnTo>
                      <a:pt x="11688" y="3"/>
                    </a:lnTo>
                    <a:cubicBezTo>
                      <a:pt x="11689" y="3"/>
                      <a:pt x="11690" y="4"/>
                      <a:pt x="11690" y="5"/>
                    </a:cubicBezTo>
                    <a:cubicBezTo>
                      <a:pt x="11690" y="6"/>
                      <a:pt x="11689" y="7"/>
                      <a:pt x="11688" y="7"/>
                    </a:cubicBezTo>
                    <a:lnTo>
                      <a:pt x="11688" y="7"/>
                    </a:lnTo>
                    <a:cubicBezTo>
                      <a:pt x="11687" y="7"/>
                      <a:pt x="11686" y="6"/>
                      <a:pt x="11686" y="5"/>
                    </a:cubicBezTo>
                    <a:cubicBezTo>
                      <a:pt x="11686" y="4"/>
                      <a:pt x="11687" y="3"/>
                      <a:pt x="11688" y="3"/>
                    </a:cubicBezTo>
                    <a:close/>
                    <a:moveTo>
                      <a:pt x="11696" y="3"/>
                    </a:moveTo>
                    <a:lnTo>
                      <a:pt x="11696" y="3"/>
                    </a:lnTo>
                    <a:cubicBezTo>
                      <a:pt x="11697" y="3"/>
                      <a:pt x="11698" y="4"/>
                      <a:pt x="11698" y="5"/>
                    </a:cubicBezTo>
                    <a:cubicBezTo>
                      <a:pt x="11698" y="6"/>
                      <a:pt x="11697" y="7"/>
                      <a:pt x="11696" y="7"/>
                    </a:cubicBezTo>
                    <a:lnTo>
                      <a:pt x="11696" y="7"/>
                    </a:lnTo>
                    <a:cubicBezTo>
                      <a:pt x="11695" y="7"/>
                      <a:pt x="11694" y="6"/>
                      <a:pt x="11694" y="5"/>
                    </a:cubicBezTo>
                    <a:cubicBezTo>
                      <a:pt x="11694" y="4"/>
                      <a:pt x="11695" y="3"/>
                      <a:pt x="11696" y="3"/>
                    </a:cubicBezTo>
                    <a:close/>
                    <a:moveTo>
                      <a:pt x="11704" y="3"/>
                    </a:moveTo>
                    <a:lnTo>
                      <a:pt x="11704" y="3"/>
                    </a:lnTo>
                    <a:cubicBezTo>
                      <a:pt x="11705" y="3"/>
                      <a:pt x="11706" y="4"/>
                      <a:pt x="11706" y="5"/>
                    </a:cubicBezTo>
                    <a:cubicBezTo>
                      <a:pt x="11706" y="6"/>
                      <a:pt x="11705" y="7"/>
                      <a:pt x="11704" y="7"/>
                    </a:cubicBezTo>
                    <a:lnTo>
                      <a:pt x="11704" y="7"/>
                    </a:lnTo>
                    <a:cubicBezTo>
                      <a:pt x="11703" y="7"/>
                      <a:pt x="11702" y="6"/>
                      <a:pt x="11702" y="5"/>
                    </a:cubicBezTo>
                    <a:cubicBezTo>
                      <a:pt x="11702" y="4"/>
                      <a:pt x="11703" y="3"/>
                      <a:pt x="11704" y="3"/>
                    </a:cubicBezTo>
                    <a:close/>
                    <a:moveTo>
                      <a:pt x="11712" y="3"/>
                    </a:moveTo>
                    <a:lnTo>
                      <a:pt x="11712" y="3"/>
                    </a:lnTo>
                    <a:cubicBezTo>
                      <a:pt x="11713" y="3"/>
                      <a:pt x="11714" y="4"/>
                      <a:pt x="11714" y="5"/>
                    </a:cubicBezTo>
                    <a:cubicBezTo>
                      <a:pt x="11714" y="6"/>
                      <a:pt x="11713" y="7"/>
                      <a:pt x="11712" y="7"/>
                    </a:cubicBezTo>
                    <a:lnTo>
                      <a:pt x="11712" y="7"/>
                    </a:lnTo>
                    <a:cubicBezTo>
                      <a:pt x="11711" y="7"/>
                      <a:pt x="11710" y="6"/>
                      <a:pt x="11710" y="5"/>
                    </a:cubicBezTo>
                    <a:cubicBezTo>
                      <a:pt x="11710" y="4"/>
                      <a:pt x="11711" y="3"/>
                      <a:pt x="11712" y="3"/>
                    </a:cubicBezTo>
                    <a:close/>
                    <a:moveTo>
                      <a:pt x="11720" y="3"/>
                    </a:moveTo>
                    <a:lnTo>
                      <a:pt x="11720" y="3"/>
                    </a:lnTo>
                    <a:cubicBezTo>
                      <a:pt x="11721" y="3"/>
                      <a:pt x="11722" y="4"/>
                      <a:pt x="11722" y="5"/>
                    </a:cubicBezTo>
                    <a:cubicBezTo>
                      <a:pt x="11722" y="6"/>
                      <a:pt x="11721" y="7"/>
                      <a:pt x="11720" y="7"/>
                    </a:cubicBezTo>
                    <a:lnTo>
                      <a:pt x="11720" y="7"/>
                    </a:lnTo>
                    <a:cubicBezTo>
                      <a:pt x="11719" y="7"/>
                      <a:pt x="11718" y="6"/>
                      <a:pt x="11718" y="5"/>
                    </a:cubicBezTo>
                    <a:cubicBezTo>
                      <a:pt x="11718" y="4"/>
                      <a:pt x="11719" y="3"/>
                      <a:pt x="11720" y="3"/>
                    </a:cubicBezTo>
                    <a:close/>
                    <a:moveTo>
                      <a:pt x="11728" y="3"/>
                    </a:moveTo>
                    <a:lnTo>
                      <a:pt x="11728" y="3"/>
                    </a:lnTo>
                    <a:cubicBezTo>
                      <a:pt x="11729" y="3"/>
                      <a:pt x="11730" y="4"/>
                      <a:pt x="11730" y="5"/>
                    </a:cubicBezTo>
                    <a:cubicBezTo>
                      <a:pt x="11730" y="6"/>
                      <a:pt x="11729" y="7"/>
                      <a:pt x="11728" y="7"/>
                    </a:cubicBezTo>
                    <a:lnTo>
                      <a:pt x="11728" y="7"/>
                    </a:lnTo>
                    <a:cubicBezTo>
                      <a:pt x="11727" y="7"/>
                      <a:pt x="11726" y="6"/>
                      <a:pt x="11726" y="5"/>
                    </a:cubicBezTo>
                    <a:cubicBezTo>
                      <a:pt x="11726" y="4"/>
                      <a:pt x="11727" y="3"/>
                      <a:pt x="11728" y="3"/>
                    </a:cubicBezTo>
                    <a:close/>
                    <a:moveTo>
                      <a:pt x="11736" y="3"/>
                    </a:moveTo>
                    <a:lnTo>
                      <a:pt x="11736" y="3"/>
                    </a:lnTo>
                    <a:cubicBezTo>
                      <a:pt x="11737" y="3"/>
                      <a:pt x="11738" y="4"/>
                      <a:pt x="11738" y="5"/>
                    </a:cubicBezTo>
                    <a:cubicBezTo>
                      <a:pt x="11738" y="6"/>
                      <a:pt x="11737" y="7"/>
                      <a:pt x="11736" y="7"/>
                    </a:cubicBezTo>
                    <a:lnTo>
                      <a:pt x="11736" y="7"/>
                    </a:lnTo>
                    <a:cubicBezTo>
                      <a:pt x="11735" y="7"/>
                      <a:pt x="11734" y="6"/>
                      <a:pt x="11734" y="5"/>
                    </a:cubicBezTo>
                    <a:cubicBezTo>
                      <a:pt x="11734" y="4"/>
                      <a:pt x="11735" y="3"/>
                      <a:pt x="11736" y="3"/>
                    </a:cubicBezTo>
                    <a:close/>
                    <a:moveTo>
                      <a:pt x="11744" y="3"/>
                    </a:moveTo>
                    <a:lnTo>
                      <a:pt x="11744" y="3"/>
                    </a:lnTo>
                    <a:cubicBezTo>
                      <a:pt x="11745" y="3"/>
                      <a:pt x="11746" y="4"/>
                      <a:pt x="11746" y="5"/>
                    </a:cubicBezTo>
                    <a:cubicBezTo>
                      <a:pt x="11746" y="6"/>
                      <a:pt x="11745" y="7"/>
                      <a:pt x="11744" y="7"/>
                    </a:cubicBezTo>
                    <a:lnTo>
                      <a:pt x="11744" y="7"/>
                    </a:lnTo>
                    <a:cubicBezTo>
                      <a:pt x="11743" y="7"/>
                      <a:pt x="11742" y="6"/>
                      <a:pt x="11742" y="5"/>
                    </a:cubicBezTo>
                    <a:cubicBezTo>
                      <a:pt x="11742" y="4"/>
                      <a:pt x="11743" y="3"/>
                      <a:pt x="11744" y="3"/>
                    </a:cubicBezTo>
                    <a:close/>
                    <a:moveTo>
                      <a:pt x="11752" y="3"/>
                    </a:moveTo>
                    <a:lnTo>
                      <a:pt x="11752" y="3"/>
                    </a:lnTo>
                    <a:cubicBezTo>
                      <a:pt x="11753" y="3"/>
                      <a:pt x="11754" y="4"/>
                      <a:pt x="11754" y="5"/>
                    </a:cubicBezTo>
                    <a:cubicBezTo>
                      <a:pt x="11754" y="6"/>
                      <a:pt x="11753" y="7"/>
                      <a:pt x="11752" y="7"/>
                    </a:cubicBezTo>
                    <a:lnTo>
                      <a:pt x="11752" y="7"/>
                    </a:lnTo>
                    <a:cubicBezTo>
                      <a:pt x="11751" y="7"/>
                      <a:pt x="11750" y="6"/>
                      <a:pt x="11750" y="5"/>
                    </a:cubicBezTo>
                    <a:cubicBezTo>
                      <a:pt x="11750" y="4"/>
                      <a:pt x="11751" y="3"/>
                      <a:pt x="11752" y="3"/>
                    </a:cubicBezTo>
                    <a:close/>
                    <a:moveTo>
                      <a:pt x="11760" y="3"/>
                    </a:moveTo>
                    <a:lnTo>
                      <a:pt x="11760" y="3"/>
                    </a:lnTo>
                    <a:cubicBezTo>
                      <a:pt x="11761" y="3"/>
                      <a:pt x="11762" y="4"/>
                      <a:pt x="11762" y="5"/>
                    </a:cubicBezTo>
                    <a:cubicBezTo>
                      <a:pt x="11762" y="6"/>
                      <a:pt x="11761" y="7"/>
                      <a:pt x="11760" y="7"/>
                    </a:cubicBezTo>
                    <a:lnTo>
                      <a:pt x="11760" y="7"/>
                    </a:lnTo>
                    <a:cubicBezTo>
                      <a:pt x="11759" y="7"/>
                      <a:pt x="11758" y="6"/>
                      <a:pt x="11758" y="5"/>
                    </a:cubicBezTo>
                    <a:cubicBezTo>
                      <a:pt x="11758" y="4"/>
                      <a:pt x="11759" y="3"/>
                      <a:pt x="11760" y="3"/>
                    </a:cubicBezTo>
                    <a:close/>
                    <a:moveTo>
                      <a:pt x="11768" y="3"/>
                    </a:moveTo>
                    <a:lnTo>
                      <a:pt x="11768" y="3"/>
                    </a:lnTo>
                    <a:cubicBezTo>
                      <a:pt x="11769" y="3"/>
                      <a:pt x="11770" y="4"/>
                      <a:pt x="11770" y="5"/>
                    </a:cubicBezTo>
                    <a:cubicBezTo>
                      <a:pt x="11770" y="6"/>
                      <a:pt x="11769" y="7"/>
                      <a:pt x="11768" y="7"/>
                    </a:cubicBezTo>
                    <a:lnTo>
                      <a:pt x="11768" y="7"/>
                    </a:lnTo>
                    <a:cubicBezTo>
                      <a:pt x="11767" y="7"/>
                      <a:pt x="11766" y="6"/>
                      <a:pt x="11766" y="5"/>
                    </a:cubicBezTo>
                    <a:cubicBezTo>
                      <a:pt x="11766" y="4"/>
                      <a:pt x="11767" y="3"/>
                      <a:pt x="11768" y="3"/>
                    </a:cubicBezTo>
                    <a:close/>
                    <a:moveTo>
                      <a:pt x="11776" y="3"/>
                    </a:moveTo>
                    <a:lnTo>
                      <a:pt x="11776" y="3"/>
                    </a:lnTo>
                    <a:cubicBezTo>
                      <a:pt x="11777" y="3"/>
                      <a:pt x="11778" y="4"/>
                      <a:pt x="11778" y="5"/>
                    </a:cubicBezTo>
                    <a:cubicBezTo>
                      <a:pt x="11778" y="6"/>
                      <a:pt x="11777" y="7"/>
                      <a:pt x="11776" y="7"/>
                    </a:cubicBezTo>
                    <a:lnTo>
                      <a:pt x="11776" y="7"/>
                    </a:lnTo>
                    <a:cubicBezTo>
                      <a:pt x="11775" y="7"/>
                      <a:pt x="11774" y="6"/>
                      <a:pt x="11774" y="5"/>
                    </a:cubicBezTo>
                    <a:cubicBezTo>
                      <a:pt x="11774" y="4"/>
                      <a:pt x="11775" y="3"/>
                      <a:pt x="11776" y="3"/>
                    </a:cubicBezTo>
                    <a:close/>
                    <a:moveTo>
                      <a:pt x="11784" y="3"/>
                    </a:moveTo>
                    <a:lnTo>
                      <a:pt x="11784" y="3"/>
                    </a:lnTo>
                    <a:cubicBezTo>
                      <a:pt x="11785" y="3"/>
                      <a:pt x="11786" y="4"/>
                      <a:pt x="11786" y="5"/>
                    </a:cubicBezTo>
                    <a:cubicBezTo>
                      <a:pt x="11786" y="6"/>
                      <a:pt x="11785" y="7"/>
                      <a:pt x="11784" y="7"/>
                    </a:cubicBezTo>
                    <a:lnTo>
                      <a:pt x="11784" y="7"/>
                    </a:lnTo>
                    <a:cubicBezTo>
                      <a:pt x="11783" y="7"/>
                      <a:pt x="11782" y="6"/>
                      <a:pt x="11782" y="5"/>
                    </a:cubicBezTo>
                    <a:cubicBezTo>
                      <a:pt x="11782" y="4"/>
                      <a:pt x="11783" y="3"/>
                      <a:pt x="11784" y="3"/>
                    </a:cubicBezTo>
                    <a:close/>
                    <a:moveTo>
                      <a:pt x="11792" y="3"/>
                    </a:moveTo>
                    <a:lnTo>
                      <a:pt x="11792" y="3"/>
                    </a:lnTo>
                    <a:cubicBezTo>
                      <a:pt x="11793" y="3"/>
                      <a:pt x="11794" y="4"/>
                      <a:pt x="11794" y="5"/>
                    </a:cubicBezTo>
                    <a:cubicBezTo>
                      <a:pt x="11794" y="6"/>
                      <a:pt x="11793" y="7"/>
                      <a:pt x="11792" y="7"/>
                    </a:cubicBezTo>
                    <a:lnTo>
                      <a:pt x="11792" y="7"/>
                    </a:lnTo>
                    <a:cubicBezTo>
                      <a:pt x="11791" y="7"/>
                      <a:pt x="11790" y="6"/>
                      <a:pt x="11790" y="5"/>
                    </a:cubicBezTo>
                    <a:cubicBezTo>
                      <a:pt x="11790" y="4"/>
                      <a:pt x="11791" y="3"/>
                      <a:pt x="11792" y="3"/>
                    </a:cubicBezTo>
                    <a:close/>
                    <a:moveTo>
                      <a:pt x="11800" y="3"/>
                    </a:moveTo>
                    <a:lnTo>
                      <a:pt x="11800" y="3"/>
                    </a:lnTo>
                    <a:cubicBezTo>
                      <a:pt x="11801" y="3"/>
                      <a:pt x="11802" y="4"/>
                      <a:pt x="11802" y="5"/>
                    </a:cubicBezTo>
                    <a:cubicBezTo>
                      <a:pt x="11802" y="6"/>
                      <a:pt x="11801" y="7"/>
                      <a:pt x="11800" y="7"/>
                    </a:cubicBezTo>
                    <a:lnTo>
                      <a:pt x="11800" y="7"/>
                    </a:lnTo>
                    <a:cubicBezTo>
                      <a:pt x="11799" y="7"/>
                      <a:pt x="11798" y="6"/>
                      <a:pt x="11798" y="5"/>
                    </a:cubicBezTo>
                    <a:cubicBezTo>
                      <a:pt x="11798" y="4"/>
                      <a:pt x="11799" y="3"/>
                      <a:pt x="11800" y="3"/>
                    </a:cubicBezTo>
                    <a:close/>
                    <a:moveTo>
                      <a:pt x="11808" y="3"/>
                    </a:moveTo>
                    <a:lnTo>
                      <a:pt x="11808" y="3"/>
                    </a:lnTo>
                    <a:cubicBezTo>
                      <a:pt x="11809" y="3"/>
                      <a:pt x="11810" y="4"/>
                      <a:pt x="11810" y="5"/>
                    </a:cubicBezTo>
                    <a:cubicBezTo>
                      <a:pt x="11810" y="6"/>
                      <a:pt x="11809" y="7"/>
                      <a:pt x="11808" y="7"/>
                    </a:cubicBezTo>
                    <a:lnTo>
                      <a:pt x="11808" y="7"/>
                    </a:lnTo>
                    <a:cubicBezTo>
                      <a:pt x="11807" y="7"/>
                      <a:pt x="11806" y="6"/>
                      <a:pt x="11806" y="5"/>
                    </a:cubicBezTo>
                    <a:cubicBezTo>
                      <a:pt x="11806" y="4"/>
                      <a:pt x="11807" y="3"/>
                      <a:pt x="11808" y="3"/>
                    </a:cubicBezTo>
                    <a:close/>
                    <a:moveTo>
                      <a:pt x="11816" y="3"/>
                    </a:moveTo>
                    <a:lnTo>
                      <a:pt x="11816" y="3"/>
                    </a:lnTo>
                    <a:cubicBezTo>
                      <a:pt x="11817" y="3"/>
                      <a:pt x="11818" y="4"/>
                      <a:pt x="11818" y="5"/>
                    </a:cubicBezTo>
                    <a:cubicBezTo>
                      <a:pt x="11818" y="6"/>
                      <a:pt x="11817" y="7"/>
                      <a:pt x="11816" y="7"/>
                    </a:cubicBezTo>
                    <a:lnTo>
                      <a:pt x="11816" y="7"/>
                    </a:lnTo>
                    <a:cubicBezTo>
                      <a:pt x="11815" y="7"/>
                      <a:pt x="11814" y="6"/>
                      <a:pt x="11814" y="5"/>
                    </a:cubicBezTo>
                    <a:cubicBezTo>
                      <a:pt x="11814" y="4"/>
                      <a:pt x="11815" y="3"/>
                      <a:pt x="11816" y="3"/>
                    </a:cubicBezTo>
                    <a:close/>
                    <a:moveTo>
                      <a:pt x="11824" y="3"/>
                    </a:moveTo>
                    <a:lnTo>
                      <a:pt x="11824" y="3"/>
                    </a:lnTo>
                    <a:cubicBezTo>
                      <a:pt x="11825" y="3"/>
                      <a:pt x="11826" y="4"/>
                      <a:pt x="11826" y="5"/>
                    </a:cubicBezTo>
                    <a:cubicBezTo>
                      <a:pt x="11826" y="6"/>
                      <a:pt x="11825" y="7"/>
                      <a:pt x="11824" y="7"/>
                    </a:cubicBezTo>
                    <a:lnTo>
                      <a:pt x="11824" y="7"/>
                    </a:lnTo>
                    <a:cubicBezTo>
                      <a:pt x="11823" y="7"/>
                      <a:pt x="11822" y="6"/>
                      <a:pt x="11822" y="5"/>
                    </a:cubicBezTo>
                    <a:cubicBezTo>
                      <a:pt x="11822" y="4"/>
                      <a:pt x="11823" y="3"/>
                      <a:pt x="11824" y="3"/>
                    </a:cubicBezTo>
                    <a:close/>
                    <a:moveTo>
                      <a:pt x="11832" y="3"/>
                    </a:moveTo>
                    <a:lnTo>
                      <a:pt x="11832" y="3"/>
                    </a:lnTo>
                    <a:cubicBezTo>
                      <a:pt x="11833" y="3"/>
                      <a:pt x="11834" y="4"/>
                      <a:pt x="11834" y="5"/>
                    </a:cubicBezTo>
                    <a:cubicBezTo>
                      <a:pt x="11834" y="6"/>
                      <a:pt x="11833" y="7"/>
                      <a:pt x="11832" y="7"/>
                    </a:cubicBezTo>
                    <a:lnTo>
                      <a:pt x="11832" y="7"/>
                    </a:lnTo>
                    <a:cubicBezTo>
                      <a:pt x="11831" y="7"/>
                      <a:pt x="11830" y="6"/>
                      <a:pt x="11830" y="5"/>
                    </a:cubicBezTo>
                    <a:cubicBezTo>
                      <a:pt x="11830" y="4"/>
                      <a:pt x="11831" y="3"/>
                      <a:pt x="11832" y="3"/>
                    </a:cubicBezTo>
                    <a:close/>
                    <a:moveTo>
                      <a:pt x="11840" y="3"/>
                    </a:moveTo>
                    <a:lnTo>
                      <a:pt x="11840" y="3"/>
                    </a:lnTo>
                    <a:cubicBezTo>
                      <a:pt x="11841" y="3"/>
                      <a:pt x="11842" y="4"/>
                      <a:pt x="11842" y="5"/>
                    </a:cubicBezTo>
                    <a:cubicBezTo>
                      <a:pt x="11842" y="6"/>
                      <a:pt x="11841" y="7"/>
                      <a:pt x="11840" y="7"/>
                    </a:cubicBezTo>
                    <a:lnTo>
                      <a:pt x="11840" y="7"/>
                    </a:lnTo>
                    <a:cubicBezTo>
                      <a:pt x="11839" y="7"/>
                      <a:pt x="11838" y="6"/>
                      <a:pt x="11838" y="5"/>
                    </a:cubicBezTo>
                    <a:cubicBezTo>
                      <a:pt x="11838" y="4"/>
                      <a:pt x="11839" y="3"/>
                      <a:pt x="11840" y="3"/>
                    </a:cubicBezTo>
                    <a:close/>
                    <a:moveTo>
                      <a:pt x="11848" y="3"/>
                    </a:moveTo>
                    <a:lnTo>
                      <a:pt x="11848" y="3"/>
                    </a:lnTo>
                    <a:cubicBezTo>
                      <a:pt x="11849" y="3"/>
                      <a:pt x="11850" y="4"/>
                      <a:pt x="11850" y="5"/>
                    </a:cubicBezTo>
                    <a:cubicBezTo>
                      <a:pt x="11850" y="6"/>
                      <a:pt x="11849" y="7"/>
                      <a:pt x="11848" y="7"/>
                    </a:cubicBezTo>
                    <a:lnTo>
                      <a:pt x="11848" y="7"/>
                    </a:lnTo>
                    <a:cubicBezTo>
                      <a:pt x="11847" y="7"/>
                      <a:pt x="11846" y="6"/>
                      <a:pt x="11846" y="5"/>
                    </a:cubicBezTo>
                    <a:cubicBezTo>
                      <a:pt x="11846" y="4"/>
                      <a:pt x="11847" y="3"/>
                      <a:pt x="11848" y="3"/>
                    </a:cubicBezTo>
                    <a:close/>
                    <a:moveTo>
                      <a:pt x="11856" y="3"/>
                    </a:moveTo>
                    <a:lnTo>
                      <a:pt x="11856" y="3"/>
                    </a:lnTo>
                    <a:cubicBezTo>
                      <a:pt x="11857" y="3"/>
                      <a:pt x="11858" y="4"/>
                      <a:pt x="11858" y="5"/>
                    </a:cubicBezTo>
                    <a:cubicBezTo>
                      <a:pt x="11858" y="6"/>
                      <a:pt x="11857" y="7"/>
                      <a:pt x="11856" y="7"/>
                    </a:cubicBezTo>
                    <a:lnTo>
                      <a:pt x="11856" y="7"/>
                    </a:lnTo>
                    <a:cubicBezTo>
                      <a:pt x="11855" y="7"/>
                      <a:pt x="11854" y="6"/>
                      <a:pt x="11854" y="5"/>
                    </a:cubicBezTo>
                    <a:cubicBezTo>
                      <a:pt x="11854" y="4"/>
                      <a:pt x="11855" y="3"/>
                      <a:pt x="11856" y="3"/>
                    </a:cubicBezTo>
                    <a:close/>
                    <a:moveTo>
                      <a:pt x="11864" y="3"/>
                    </a:moveTo>
                    <a:lnTo>
                      <a:pt x="11864" y="3"/>
                    </a:lnTo>
                    <a:cubicBezTo>
                      <a:pt x="11865" y="3"/>
                      <a:pt x="11866" y="4"/>
                      <a:pt x="11866" y="5"/>
                    </a:cubicBezTo>
                    <a:cubicBezTo>
                      <a:pt x="11866" y="6"/>
                      <a:pt x="11865" y="7"/>
                      <a:pt x="11864" y="7"/>
                    </a:cubicBezTo>
                    <a:lnTo>
                      <a:pt x="11864" y="7"/>
                    </a:lnTo>
                    <a:cubicBezTo>
                      <a:pt x="11863" y="7"/>
                      <a:pt x="11862" y="6"/>
                      <a:pt x="11862" y="5"/>
                    </a:cubicBezTo>
                    <a:cubicBezTo>
                      <a:pt x="11862" y="4"/>
                      <a:pt x="11863" y="3"/>
                      <a:pt x="11864" y="3"/>
                    </a:cubicBezTo>
                    <a:close/>
                    <a:moveTo>
                      <a:pt x="11872" y="3"/>
                    </a:moveTo>
                    <a:lnTo>
                      <a:pt x="11872" y="3"/>
                    </a:lnTo>
                    <a:cubicBezTo>
                      <a:pt x="11873" y="3"/>
                      <a:pt x="11874" y="4"/>
                      <a:pt x="11874" y="5"/>
                    </a:cubicBezTo>
                    <a:cubicBezTo>
                      <a:pt x="11874" y="6"/>
                      <a:pt x="11873" y="7"/>
                      <a:pt x="11872" y="7"/>
                    </a:cubicBezTo>
                    <a:lnTo>
                      <a:pt x="11872" y="7"/>
                    </a:lnTo>
                    <a:cubicBezTo>
                      <a:pt x="11871" y="7"/>
                      <a:pt x="11870" y="6"/>
                      <a:pt x="11870" y="5"/>
                    </a:cubicBezTo>
                    <a:cubicBezTo>
                      <a:pt x="11870" y="4"/>
                      <a:pt x="11871" y="3"/>
                      <a:pt x="11872" y="3"/>
                    </a:cubicBezTo>
                    <a:close/>
                    <a:moveTo>
                      <a:pt x="11880" y="3"/>
                    </a:moveTo>
                    <a:lnTo>
                      <a:pt x="11880" y="3"/>
                    </a:lnTo>
                    <a:cubicBezTo>
                      <a:pt x="11881" y="3"/>
                      <a:pt x="11882" y="4"/>
                      <a:pt x="11882" y="5"/>
                    </a:cubicBezTo>
                    <a:cubicBezTo>
                      <a:pt x="11882" y="6"/>
                      <a:pt x="11881" y="7"/>
                      <a:pt x="11880" y="7"/>
                    </a:cubicBezTo>
                    <a:lnTo>
                      <a:pt x="11880" y="7"/>
                    </a:lnTo>
                    <a:cubicBezTo>
                      <a:pt x="11879" y="7"/>
                      <a:pt x="11878" y="6"/>
                      <a:pt x="11878" y="5"/>
                    </a:cubicBezTo>
                    <a:cubicBezTo>
                      <a:pt x="11878" y="4"/>
                      <a:pt x="11879" y="3"/>
                      <a:pt x="11880" y="3"/>
                    </a:cubicBezTo>
                    <a:close/>
                    <a:moveTo>
                      <a:pt x="11888" y="3"/>
                    </a:moveTo>
                    <a:lnTo>
                      <a:pt x="11888" y="3"/>
                    </a:lnTo>
                    <a:cubicBezTo>
                      <a:pt x="11889" y="3"/>
                      <a:pt x="11890" y="4"/>
                      <a:pt x="11890" y="5"/>
                    </a:cubicBezTo>
                    <a:cubicBezTo>
                      <a:pt x="11890" y="6"/>
                      <a:pt x="11889" y="7"/>
                      <a:pt x="11888" y="7"/>
                    </a:cubicBezTo>
                    <a:lnTo>
                      <a:pt x="11888" y="7"/>
                    </a:lnTo>
                    <a:cubicBezTo>
                      <a:pt x="11887" y="7"/>
                      <a:pt x="11886" y="6"/>
                      <a:pt x="11886" y="5"/>
                    </a:cubicBezTo>
                    <a:cubicBezTo>
                      <a:pt x="11886" y="4"/>
                      <a:pt x="11887" y="3"/>
                      <a:pt x="11888" y="3"/>
                    </a:cubicBezTo>
                    <a:close/>
                    <a:moveTo>
                      <a:pt x="11896" y="3"/>
                    </a:moveTo>
                    <a:lnTo>
                      <a:pt x="11896" y="3"/>
                    </a:lnTo>
                    <a:cubicBezTo>
                      <a:pt x="11897" y="3"/>
                      <a:pt x="11898" y="4"/>
                      <a:pt x="11898" y="5"/>
                    </a:cubicBezTo>
                    <a:cubicBezTo>
                      <a:pt x="11898" y="6"/>
                      <a:pt x="11897" y="7"/>
                      <a:pt x="11896" y="7"/>
                    </a:cubicBezTo>
                    <a:lnTo>
                      <a:pt x="11896" y="7"/>
                    </a:lnTo>
                    <a:cubicBezTo>
                      <a:pt x="11895" y="7"/>
                      <a:pt x="11894" y="6"/>
                      <a:pt x="11894" y="5"/>
                    </a:cubicBezTo>
                    <a:cubicBezTo>
                      <a:pt x="11894" y="4"/>
                      <a:pt x="11895" y="3"/>
                      <a:pt x="11896" y="3"/>
                    </a:cubicBezTo>
                    <a:close/>
                    <a:moveTo>
                      <a:pt x="11904" y="3"/>
                    </a:moveTo>
                    <a:lnTo>
                      <a:pt x="11904" y="3"/>
                    </a:lnTo>
                    <a:cubicBezTo>
                      <a:pt x="11905" y="3"/>
                      <a:pt x="11906" y="4"/>
                      <a:pt x="11906" y="5"/>
                    </a:cubicBezTo>
                    <a:cubicBezTo>
                      <a:pt x="11906" y="6"/>
                      <a:pt x="11905" y="7"/>
                      <a:pt x="11904" y="7"/>
                    </a:cubicBezTo>
                    <a:lnTo>
                      <a:pt x="11904" y="7"/>
                    </a:lnTo>
                    <a:cubicBezTo>
                      <a:pt x="11903" y="7"/>
                      <a:pt x="11902" y="6"/>
                      <a:pt x="11902" y="5"/>
                    </a:cubicBezTo>
                    <a:cubicBezTo>
                      <a:pt x="11902" y="4"/>
                      <a:pt x="11903" y="3"/>
                      <a:pt x="11904" y="3"/>
                    </a:cubicBezTo>
                    <a:close/>
                    <a:moveTo>
                      <a:pt x="11912" y="3"/>
                    </a:moveTo>
                    <a:lnTo>
                      <a:pt x="11912" y="3"/>
                    </a:lnTo>
                    <a:cubicBezTo>
                      <a:pt x="11913" y="3"/>
                      <a:pt x="11914" y="4"/>
                      <a:pt x="11914" y="5"/>
                    </a:cubicBezTo>
                    <a:cubicBezTo>
                      <a:pt x="11914" y="6"/>
                      <a:pt x="11913" y="7"/>
                      <a:pt x="11912" y="7"/>
                    </a:cubicBezTo>
                    <a:lnTo>
                      <a:pt x="11912" y="7"/>
                    </a:lnTo>
                    <a:cubicBezTo>
                      <a:pt x="11911" y="7"/>
                      <a:pt x="11910" y="6"/>
                      <a:pt x="11910" y="5"/>
                    </a:cubicBezTo>
                    <a:cubicBezTo>
                      <a:pt x="11910" y="4"/>
                      <a:pt x="11911" y="3"/>
                      <a:pt x="11912" y="3"/>
                    </a:cubicBezTo>
                    <a:close/>
                    <a:moveTo>
                      <a:pt x="11920" y="3"/>
                    </a:moveTo>
                    <a:lnTo>
                      <a:pt x="11920" y="3"/>
                    </a:lnTo>
                    <a:cubicBezTo>
                      <a:pt x="11921" y="3"/>
                      <a:pt x="11922" y="4"/>
                      <a:pt x="11922" y="5"/>
                    </a:cubicBezTo>
                    <a:cubicBezTo>
                      <a:pt x="11922" y="6"/>
                      <a:pt x="11921" y="7"/>
                      <a:pt x="11920" y="7"/>
                    </a:cubicBezTo>
                    <a:lnTo>
                      <a:pt x="11920" y="7"/>
                    </a:lnTo>
                    <a:cubicBezTo>
                      <a:pt x="11919" y="7"/>
                      <a:pt x="11918" y="6"/>
                      <a:pt x="11918" y="5"/>
                    </a:cubicBezTo>
                    <a:cubicBezTo>
                      <a:pt x="11918" y="4"/>
                      <a:pt x="11919" y="3"/>
                      <a:pt x="11920" y="3"/>
                    </a:cubicBezTo>
                    <a:close/>
                    <a:moveTo>
                      <a:pt x="11928" y="3"/>
                    </a:moveTo>
                    <a:lnTo>
                      <a:pt x="11928" y="3"/>
                    </a:lnTo>
                    <a:cubicBezTo>
                      <a:pt x="11929" y="3"/>
                      <a:pt x="11930" y="4"/>
                      <a:pt x="11930" y="5"/>
                    </a:cubicBezTo>
                    <a:cubicBezTo>
                      <a:pt x="11930" y="6"/>
                      <a:pt x="11929" y="7"/>
                      <a:pt x="11928" y="7"/>
                    </a:cubicBezTo>
                    <a:lnTo>
                      <a:pt x="11928" y="7"/>
                    </a:lnTo>
                    <a:cubicBezTo>
                      <a:pt x="11927" y="7"/>
                      <a:pt x="11926" y="6"/>
                      <a:pt x="11926" y="5"/>
                    </a:cubicBezTo>
                    <a:cubicBezTo>
                      <a:pt x="11926" y="4"/>
                      <a:pt x="11927" y="3"/>
                      <a:pt x="11928" y="3"/>
                    </a:cubicBezTo>
                    <a:close/>
                    <a:moveTo>
                      <a:pt x="11936" y="3"/>
                    </a:moveTo>
                    <a:lnTo>
                      <a:pt x="11936" y="3"/>
                    </a:lnTo>
                    <a:cubicBezTo>
                      <a:pt x="11937" y="3"/>
                      <a:pt x="11938" y="4"/>
                      <a:pt x="11938" y="5"/>
                    </a:cubicBezTo>
                    <a:cubicBezTo>
                      <a:pt x="11938" y="6"/>
                      <a:pt x="11937" y="7"/>
                      <a:pt x="11936" y="7"/>
                    </a:cubicBezTo>
                    <a:lnTo>
                      <a:pt x="11936" y="7"/>
                    </a:lnTo>
                    <a:cubicBezTo>
                      <a:pt x="11935" y="7"/>
                      <a:pt x="11934" y="6"/>
                      <a:pt x="11934" y="5"/>
                    </a:cubicBezTo>
                    <a:cubicBezTo>
                      <a:pt x="11934" y="4"/>
                      <a:pt x="11935" y="3"/>
                      <a:pt x="11936" y="3"/>
                    </a:cubicBezTo>
                    <a:close/>
                    <a:moveTo>
                      <a:pt x="11944" y="3"/>
                    </a:moveTo>
                    <a:lnTo>
                      <a:pt x="11944" y="3"/>
                    </a:lnTo>
                    <a:cubicBezTo>
                      <a:pt x="11945" y="3"/>
                      <a:pt x="11946" y="4"/>
                      <a:pt x="11946" y="5"/>
                    </a:cubicBezTo>
                    <a:cubicBezTo>
                      <a:pt x="11946" y="6"/>
                      <a:pt x="11945" y="7"/>
                      <a:pt x="11944" y="7"/>
                    </a:cubicBezTo>
                    <a:lnTo>
                      <a:pt x="11944" y="7"/>
                    </a:lnTo>
                    <a:cubicBezTo>
                      <a:pt x="11943" y="7"/>
                      <a:pt x="11942" y="6"/>
                      <a:pt x="11942" y="5"/>
                    </a:cubicBezTo>
                    <a:cubicBezTo>
                      <a:pt x="11942" y="4"/>
                      <a:pt x="11943" y="3"/>
                      <a:pt x="11944" y="3"/>
                    </a:cubicBezTo>
                    <a:close/>
                    <a:moveTo>
                      <a:pt x="11952" y="3"/>
                    </a:moveTo>
                    <a:lnTo>
                      <a:pt x="11952" y="3"/>
                    </a:lnTo>
                    <a:cubicBezTo>
                      <a:pt x="11953" y="3"/>
                      <a:pt x="11954" y="4"/>
                      <a:pt x="11954" y="5"/>
                    </a:cubicBezTo>
                    <a:cubicBezTo>
                      <a:pt x="11954" y="6"/>
                      <a:pt x="11953" y="7"/>
                      <a:pt x="11952" y="7"/>
                    </a:cubicBezTo>
                    <a:lnTo>
                      <a:pt x="11952" y="7"/>
                    </a:lnTo>
                    <a:cubicBezTo>
                      <a:pt x="11951" y="7"/>
                      <a:pt x="11950" y="6"/>
                      <a:pt x="11950" y="5"/>
                    </a:cubicBezTo>
                    <a:cubicBezTo>
                      <a:pt x="11950" y="4"/>
                      <a:pt x="11951" y="3"/>
                      <a:pt x="11952" y="3"/>
                    </a:cubicBezTo>
                    <a:close/>
                    <a:moveTo>
                      <a:pt x="11960" y="3"/>
                    </a:moveTo>
                    <a:lnTo>
                      <a:pt x="11960" y="3"/>
                    </a:lnTo>
                    <a:cubicBezTo>
                      <a:pt x="11961" y="3"/>
                      <a:pt x="11962" y="4"/>
                      <a:pt x="11962" y="5"/>
                    </a:cubicBezTo>
                    <a:cubicBezTo>
                      <a:pt x="11962" y="6"/>
                      <a:pt x="11961" y="7"/>
                      <a:pt x="11960" y="7"/>
                    </a:cubicBezTo>
                    <a:lnTo>
                      <a:pt x="11960" y="7"/>
                    </a:lnTo>
                    <a:cubicBezTo>
                      <a:pt x="11959" y="7"/>
                      <a:pt x="11958" y="6"/>
                      <a:pt x="11958" y="5"/>
                    </a:cubicBezTo>
                    <a:cubicBezTo>
                      <a:pt x="11958" y="4"/>
                      <a:pt x="11959" y="3"/>
                      <a:pt x="11960" y="3"/>
                    </a:cubicBezTo>
                    <a:close/>
                    <a:moveTo>
                      <a:pt x="11968" y="3"/>
                    </a:moveTo>
                    <a:lnTo>
                      <a:pt x="11968" y="3"/>
                    </a:lnTo>
                    <a:cubicBezTo>
                      <a:pt x="11969" y="3"/>
                      <a:pt x="11970" y="4"/>
                      <a:pt x="11970" y="5"/>
                    </a:cubicBezTo>
                    <a:cubicBezTo>
                      <a:pt x="11970" y="6"/>
                      <a:pt x="11969" y="7"/>
                      <a:pt x="11968" y="7"/>
                    </a:cubicBezTo>
                    <a:lnTo>
                      <a:pt x="11968" y="7"/>
                    </a:lnTo>
                    <a:cubicBezTo>
                      <a:pt x="11967" y="7"/>
                      <a:pt x="11966" y="6"/>
                      <a:pt x="11966" y="5"/>
                    </a:cubicBezTo>
                    <a:cubicBezTo>
                      <a:pt x="11966" y="4"/>
                      <a:pt x="11967" y="3"/>
                      <a:pt x="11968" y="3"/>
                    </a:cubicBezTo>
                    <a:close/>
                    <a:moveTo>
                      <a:pt x="11976" y="3"/>
                    </a:moveTo>
                    <a:lnTo>
                      <a:pt x="11976" y="3"/>
                    </a:lnTo>
                    <a:cubicBezTo>
                      <a:pt x="11977" y="3"/>
                      <a:pt x="11978" y="4"/>
                      <a:pt x="11978" y="5"/>
                    </a:cubicBezTo>
                    <a:cubicBezTo>
                      <a:pt x="11978" y="6"/>
                      <a:pt x="11977" y="7"/>
                      <a:pt x="11976" y="7"/>
                    </a:cubicBezTo>
                    <a:lnTo>
                      <a:pt x="11976" y="7"/>
                    </a:lnTo>
                    <a:cubicBezTo>
                      <a:pt x="11975" y="7"/>
                      <a:pt x="11974" y="6"/>
                      <a:pt x="11974" y="5"/>
                    </a:cubicBezTo>
                    <a:cubicBezTo>
                      <a:pt x="11974" y="4"/>
                      <a:pt x="11975" y="3"/>
                      <a:pt x="11976" y="3"/>
                    </a:cubicBezTo>
                    <a:close/>
                    <a:moveTo>
                      <a:pt x="11984" y="3"/>
                    </a:moveTo>
                    <a:lnTo>
                      <a:pt x="11984" y="3"/>
                    </a:lnTo>
                    <a:cubicBezTo>
                      <a:pt x="11985" y="3"/>
                      <a:pt x="11986" y="4"/>
                      <a:pt x="11986" y="5"/>
                    </a:cubicBezTo>
                    <a:cubicBezTo>
                      <a:pt x="11986" y="6"/>
                      <a:pt x="11985" y="7"/>
                      <a:pt x="11984" y="7"/>
                    </a:cubicBezTo>
                    <a:lnTo>
                      <a:pt x="11984" y="7"/>
                    </a:lnTo>
                    <a:cubicBezTo>
                      <a:pt x="11983" y="7"/>
                      <a:pt x="11982" y="6"/>
                      <a:pt x="11982" y="5"/>
                    </a:cubicBezTo>
                    <a:cubicBezTo>
                      <a:pt x="11982" y="4"/>
                      <a:pt x="11983" y="3"/>
                      <a:pt x="11984" y="3"/>
                    </a:cubicBezTo>
                    <a:close/>
                    <a:moveTo>
                      <a:pt x="11992" y="3"/>
                    </a:moveTo>
                    <a:lnTo>
                      <a:pt x="11992" y="3"/>
                    </a:lnTo>
                    <a:cubicBezTo>
                      <a:pt x="11993" y="3"/>
                      <a:pt x="11994" y="4"/>
                      <a:pt x="11994" y="5"/>
                    </a:cubicBezTo>
                    <a:cubicBezTo>
                      <a:pt x="11994" y="6"/>
                      <a:pt x="11993" y="7"/>
                      <a:pt x="11992" y="7"/>
                    </a:cubicBezTo>
                    <a:lnTo>
                      <a:pt x="11992" y="7"/>
                    </a:lnTo>
                    <a:cubicBezTo>
                      <a:pt x="11991" y="7"/>
                      <a:pt x="11990" y="6"/>
                      <a:pt x="11990" y="5"/>
                    </a:cubicBezTo>
                    <a:cubicBezTo>
                      <a:pt x="11990" y="4"/>
                      <a:pt x="11991" y="3"/>
                      <a:pt x="11992" y="3"/>
                    </a:cubicBezTo>
                    <a:close/>
                    <a:moveTo>
                      <a:pt x="12000" y="3"/>
                    </a:moveTo>
                    <a:lnTo>
                      <a:pt x="12000" y="3"/>
                    </a:lnTo>
                    <a:cubicBezTo>
                      <a:pt x="12001" y="3"/>
                      <a:pt x="12002" y="4"/>
                      <a:pt x="12002" y="5"/>
                    </a:cubicBezTo>
                    <a:cubicBezTo>
                      <a:pt x="12002" y="6"/>
                      <a:pt x="12001" y="7"/>
                      <a:pt x="12000" y="7"/>
                    </a:cubicBezTo>
                    <a:lnTo>
                      <a:pt x="12000" y="7"/>
                    </a:lnTo>
                    <a:cubicBezTo>
                      <a:pt x="11999" y="7"/>
                      <a:pt x="11998" y="6"/>
                      <a:pt x="11998" y="5"/>
                    </a:cubicBezTo>
                    <a:cubicBezTo>
                      <a:pt x="11998" y="4"/>
                      <a:pt x="11999" y="3"/>
                      <a:pt x="12000" y="3"/>
                    </a:cubicBezTo>
                    <a:close/>
                    <a:moveTo>
                      <a:pt x="12008" y="3"/>
                    </a:moveTo>
                    <a:lnTo>
                      <a:pt x="12008" y="3"/>
                    </a:lnTo>
                    <a:cubicBezTo>
                      <a:pt x="12009" y="3"/>
                      <a:pt x="12010" y="4"/>
                      <a:pt x="12010" y="5"/>
                    </a:cubicBezTo>
                    <a:cubicBezTo>
                      <a:pt x="12010" y="6"/>
                      <a:pt x="12009" y="7"/>
                      <a:pt x="12008" y="7"/>
                    </a:cubicBezTo>
                    <a:lnTo>
                      <a:pt x="12008" y="7"/>
                    </a:lnTo>
                    <a:cubicBezTo>
                      <a:pt x="12007" y="7"/>
                      <a:pt x="12006" y="6"/>
                      <a:pt x="12006" y="5"/>
                    </a:cubicBezTo>
                    <a:cubicBezTo>
                      <a:pt x="12006" y="4"/>
                      <a:pt x="12007" y="3"/>
                      <a:pt x="12008" y="3"/>
                    </a:cubicBezTo>
                    <a:close/>
                    <a:moveTo>
                      <a:pt x="12016" y="3"/>
                    </a:moveTo>
                    <a:lnTo>
                      <a:pt x="12016" y="3"/>
                    </a:lnTo>
                    <a:cubicBezTo>
                      <a:pt x="12017" y="3"/>
                      <a:pt x="12018" y="4"/>
                      <a:pt x="12018" y="5"/>
                    </a:cubicBezTo>
                    <a:cubicBezTo>
                      <a:pt x="12018" y="6"/>
                      <a:pt x="12017" y="7"/>
                      <a:pt x="12016" y="7"/>
                    </a:cubicBezTo>
                    <a:lnTo>
                      <a:pt x="12016" y="7"/>
                    </a:lnTo>
                    <a:cubicBezTo>
                      <a:pt x="12015" y="7"/>
                      <a:pt x="12014" y="6"/>
                      <a:pt x="12014" y="5"/>
                    </a:cubicBezTo>
                    <a:cubicBezTo>
                      <a:pt x="12014" y="4"/>
                      <a:pt x="12015" y="3"/>
                      <a:pt x="12016" y="3"/>
                    </a:cubicBezTo>
                    <a:close/>
                    <a:moveTo>
                      <a:pt x="12024" y="3"/>
                    </a:moveTo>
                    <a:lnTo>
                      <a:pt x="12024" y="3"/>
                    </a:lnTo>
                    <a:cubicBezTo>
                      <a:pt x="12025" y="3"/>
                      <a:pt x="12026" y="4"/>
                      <a:pt x="12026" y="5"/>
                    </a:cubicBezTo>
                    <a:cubicBezTo>
                      <a:pt x="12026" y="6"/>
                      <a:pt x="12025" y="7"/>
                      <a:pt x="12024" y="7"/>
                    </a:cubicBezTo>
                    <a:lnTo>
                      <a:pt x="12024" y="7"/>
                    </a:lnTo>
                    <a:cubicBezTo>
                      <a:pt x="12023" y="7"/>
                      <a:pt x="12022" y="6"/>
                      <a:pt x="12022" y="5"/>
                    </a:cubicBezTo>
                    <a:cubicBezTo>
                      <a:pt x="12022" y="4"/>
                      <a:pt x="12023" y="3"/>
                      <a:pt x="12024" y="3"/>
                    </a:cubicBezTo>
                    <a:close/>
                    <a:moveTo>
                      <a:pt x="12032" y="3"/>
                    </a:moveTo>
                    <a:lnTo>
                      <a:pt x="12032" y="3"/>
                    </a:lnTo>
                    <a:cubicBezTo>
                      <a:pt x="12033" y="3"/>
                      <a:pt x="12034" y="4"/>
                      <a:pt x="12034" y="5"/>
                    </a:cubicBezTo>
                    <a:cubicBezTo>
                      <a:pt x="12034" y="6"/>
                      <a:pt x="12033" y="7"/>
                      <a:pt x="12032" y="7"/>
                    </a:cubicBezTo>
                    <a:lnTo>
                      <a:pt x="12032" y="7"/>
                    </a:lnTo>
                    <a:cubicBezTo>
                      <a:pt x="12031" y="7"/>
                      <a:pt x="12030" y="6"/>
                      <a:pt x="12030" y="5"/>
                    </a:cubicBezTo>
                    <a:cubicBezTo>
                      <a:pt x="12030" y="4"/>
                      <a:pt x="12031" y="3"/>
                      <a:pt x="12032" y="3"/>
                    </a:cubicBezTo>
                    <a:close/>
                    <a:moveTo>
                      <a:pt x="12040" y="3"/>
                    </a:moveTo>
                    <a:lnTo>
                      <a:pt x="12040" y="3"/>
                    </a:lnTo>
                    <a:cubicBezTo>
                      <a:pt x="12041" y="3"/>
                      <a:pt x="12042" y="4"/>
                      <a:pt x="12042" y="5"/>
                    </a:cubicBezTo>
                    <a:cubicBezTo>
                      <a:pt x="12042" y="6"/>
                      <a:pt x="12041" y="7"/>
                      <a:pt x="12040" y="7"/>
                    </a:cubicBezTo>
                    <a:lnTo>
                      <a:pt x="12040" y="7"/>
                    </a:lnTo>
                    <a:cubicBezTo>
                      <a:pt x="12039" y="7"/>
                      <a:pt x="12038" y="6"/>
                      <a:pt x="12038" y="5"/>
                    </a:cubicBezTo>
                    <a:cubicBezTo>
                      <a:pt x="12038" y="4"/>
                      <a:pt x="12039" y="3"/>
                      <a:pt x="12040" y="3"/>
                    </a:cubicBezTo>
                    <a:close/>
                    <a:moveTo>
                      <a:pt x="12048" y="3"/>
                    </a:moveTo>
                    <a:lnTo>
                      <a:pt x="12048" y="3"/>
                    </a:lnTo>
                    <a:cubicBezTo>
                      <a:pt x="12049" y="3"/>
                      <a:pt x="12050" y="4"/>
                      <a:pt x="12050" y="5"/>
                    </a:cubicBezTo>
                    <a:cubicBezTo>
                      <a:pt x="12050" y="6"/>
                      <a:pt x="12049" y="7"/>
                      <a:pt x="12048" y="7"/>
                    </a:cubicBezTo>
                    <a:lnTo>
                      <a:pt x="12048" y="7"/>
                    </a:lnTo>
                    <a:cubicBezTo>
                      <a:pt x="12047" y="7"/>
                      <a:pt x="12046" y="6"/>
                      <a:pt x="12046" y="5"/>
                    </a:cubicBezTo>
                    <a:cubicBezTo>
                      <a:pt x="12046" y="4"/>
                      <a:pt x="12047" y="3"/>
                      <a:pt x="12048" y="3"/>
                    </a:cubicBezTo>
                    <a:close/>
                    <a:moveTo>
                      <a:pt x="12056" y="3"/>
                    </a:moveTo>
                    <a:lnTo>
                      <a:pt x="12056" y="3"/>
                    </a:lnTo>
                    <a:cubicBezTo>
                      <a:pt x="12057" y="3"/>
                      <a:pt x="12058" y="4"/>
                      <a:pt x="12058" y="5"/>
                    </a:cubicBezTo>
                    <a:cubicBezTo>
                      <a:pt x="12058" y="6"/>
                      <a:pt x="12057" y="7"/>
                      <a:pt x="12056" y="7"/>
                    </a:cubicBezTo>
                    <a:lnTo>
                      <a:pt x="12056" y="7"/>
                    </a:lnTo>
                    <a:cubicBezTo>
                      <a:pt x="12055" y="7"/>
                      <a:pt x="12054" y="6"/>
                      <a:pt x="12054" y="5"/>
                    </a:cubicBezTo>
                    <a:cubicBezTo>
                      <a:pt x="12054" y="4"/>
                      <a:pt x="12055" y="3"/>
                      <a:pt x="12056" y="3"/>
                    </a:cubicBezTo>
                    <a:close/>
                    <a:moveTo>
                      <a:pt x="12064" y="3"/>
                    </a:moveTo>
                    <a:lnTo>
                      <a:pt x="12064" y="3"/>
                    </a:lnTo>
                    <a:cubicBezTo>
                      <a:pt x="12065" y="3"/>
                      <a:pt x="12066" y="4"/>
                      <a:pt x="12066" y="5"/>
                    </a:cubicBezTo>
                    <a:cubicBezTo>
                      <a:pt x="12066" y="6"/>
                      <a:pt x="12065" y="7"/>
                      <a:pt x="12064" y="7"/>
                    </a:cubicBezTo>
                    <a:lnTo>
                      <a:pt x="12064" y="7"/>
                    </a:lnTo>
                    <a:cubicBezTo>
                      <a:pt x="12063" y="7"/>
                      <a:pt x="12062" y="6"/>
                      <a:pt x="12062" y="5"/>
                    </a:cubicBezTo>
                    <a:cubicBezTo>
                      <a:pt x="12062" y="4"/>
                      <a:pt x="12063" y="3"/>
                      <a:pt x="12064" y="3"/>
                    </a:cubicBezTo>
                    <a:close/>
                    <a:moveTo>
                      <a:pt x="12072" y="3"/>
                    </a:moveTo>
                    <a:lnTo>
                      <a:pt x="12072" y="3"/>
                    </a:lnTo>
                    <a:cubicBezTo>
                      <a:pt x="12073" y="3"/>
                      <a:pt x="12074" y="4"/>
                      <a:pt x="12074" y="5"/>
                    </a:cubicBezTo>
                    <a:cubicBezTo>
                      <a:pt x="12074" y="6"/>
                      <a:pt x="12073" y="7"/>
                      <a:pt x="12072" y="7"/>
                    </a:cubicBezTo>
                    <a:lnTo>
                      <a:pt x="12072" y="7"/>
                    </a:lnTo>
                    <a:cubicBezTo>
                      <a:pt x="12071" y="7"/>
                      <a:pt x="12070" y="6"/>
                      <a:pt x="12070" y="5"/>
                    </a:cubicBezTo>
                    <a:cubicBezTo>
                      <a:pt x="12070" y="4"/>
                      <a:pt x="12071" y="3"/>
                      <a:pt x="12072" y="3"/>
                    </a:cubicBezTo>
                    <a:close/>
                    <a:moveTo>
                      <a:pt x="12080" y="3"/>
                    </a:moveTo>
                    <a:lnTo>
                      <a:pt x="12080" y="3"/>
                    </a:lnTo>
                    <a:cubicBezTo>
                      <a:pt x="12081" y="3"/>
                      <a:pt x="12082" y="4"/>
                      <a:pt x="12082" y="5"/>
                    </a:cubicBezTo>
                    <a:cubicBezTo>
                      <a:pt x="12082" y="6"/>
                      <a:pt x="12081" y="7"/>
                      <a:pt x="12080" y="7"/>
                    </a:cubicBezTo>
                    <a:lnTo>
                      <a:pt x="12080" y="7"/>
                    </a:lnTo>
                    <a:cubicBezTo>
                      <a:pt x="12079" y="7"/>
                      <a:pt x="12078" y="6"/>
                      <a:pt x="12078" y="5"/>
                    </a:cubicBezTo>
                    <a:cubicBezTo>
                      <a:pt x="12078" y="4"/>
                      <a:pt x="12079" y="3"/>
                      <a:pt x="12080" y="3"/>
                    </a:cubicBezTo>
                    <a:close/>
                    <a:moveTo>
                      <a:pt x="12088" y="3"/>
                    </a:moveTo>
                    <a:lnTo>
                      <a:pt x="12088" y="3"/>
                    </a:lnTo>
                    <a:cubicBezTo>
                      <a:pt x="12089" y="3"/>
                      <a:pt x="12090" y="4"/>
                      <a:pt x="12090" y="5"/>
                    </a:cubicBezTo>
                    <a:cubicBezTo>
                      <a:pt x="12090" y="6"/>
                      <a:pt x="12089" y="7"/>
                      <a:pt x="12088" y="7"/>
                    </a:cubicBezTo>
                    <a:lnTo>
                      <a:pt x="12088" y="7"/>
                    </a:lnTo>
                    <a:cubicBezTo>
                      <a:pt x="12087" y="7"/>
                      <a:pt x="12086" y="6"/>
                      <a:pt x="12086" y="5"/>
                    </a:cubicBezTo>
                    <a:cubicBezTo>
                      <a:pt x="12086" y="4"/>
                      <a:pt x="12087" y="3"/>
                      <a:pt x="12088" y="3"/>
                    </a:cubicBezTo>
                    <a:close/>
                    <a:moveTo>
                      <a:pt x="12096" y="3"/>
                    </a:moveTo>
                    <a:lnTo>
                      <a:pt x="12096" y="3"/>
                    </a:lnTo>
                    <a:cubicBezTo>
                      <a:pt x="12097" y="3"/>
                      <a:pt x="12098" y="4"/>
                      <a:pt x="12098" y="5"/>
                    </a:cubicBezTo>
                    <a:cubicBezTo>
                      <a:pt x="12098" y="6"/>
                      <a:pt x="12097" y="7"/>
                      <a:pt x="12096" y="7"/>
                    </a:cubicBezTo>
                    <a:lnTo>
                      <a:pt x="12096" y="7"/>
                    </a:lnTo>
                    <a:cubicBezTo>
                      <a:pt x="12095" y="7"/>
                      <a:pt x="12094" y="6"/>
                      <a:pt x="12094" y="5"/>
                    </a:cubicBezTo>
                    <a:cubicBezTo>
                      <a:pt x="12094" y="4"/>
                      <a:pt x="12095" y="3"/>
                      <a:pt x="12096" y="3"/>
                    </a:cubicBezTo>
                    <a:close/>
                    <a:moveTo>
                      <a:pt x="12104" y="3"/>
                    </a:moveTo>
                    <a:lnTo>
                      <a:pt x="12104" y="3"/>
                    </a:lnTo>
                    <a:cubicBezTo>
                      <a:pt x="12105" y="3"/>
                      <a:pt x="12106" y="4"/>
                      <a:pt x="12106" y="5"/>
                    </a:cubicBezTo>
                    <a:cubicBezTo>
                      <a:pt x="12106" y="6"/>
                      <a:pt x="12105" y="7"/>
                      <a:pt x="12104" y="7"/>
                    </a:cubicBezTo>
                    <a:lnTo>
                      <a:pt x="12104" y="7"/>
                    </a:lnTo>
                    <a:cubicBezTo>
                      <a:pt x="12103" y="7"/>
                      <a:pt x="12102" y="6"/>
                      <a:pt x="12102" y="5"/>
                    </a:cubicBezTo>
                    <a:cubicBezTo>
                      <a:pt x="12102" y="4"/>
                      <a:pt x="12103" y="3"/>
                      <a:pt x="12104" y="3"/>
                    </a:cubicBezTo>
                    <a:close/>
                    <a:moveTo>
                      <a:pt x="12112" y="3"/>
                    </a:moveTo>
                    <a:lnTo>
                      <a:pt x="12112" y="3"/>
                    </a:lnTo>
                    <a:cubicBezTo>
                      <a:pt x="12113" y="3"/>
                      <a:pt x="12114" y="4"/>
                      <a:pt x="12114" y="5"/>
                    </a:cubicBezTo>
                    <a:cubicBezTo>
                      <a:pt x="12114" y="6"/>
                      <a:pt x="12113" y="7"/>
                      <a:pt x="12112" y="7"/>
                    </a:cubicBezTo>
                    <a:lnTo>
                      <a:pt x="12112" y="7"/>
                    </a:lnTo>
                    <a:cubicBezTo>
                      <a:pt x="12111" y="7"/>
                      <a:pt x="12110" y="6"/>
                      <a:pt x="12110" y="5"/>
                    </a:cubicBezTo>
                    <a:cubicBezTo>
                      <a:pt x="12110" y="4"/>
                      <a:pt x="12111" y="3"/>
                      <a:pt x="12112" y="3"/>
                    </a:cubicBezTo>
                    <a:close/>
                    <a:moveTo>
                      <a:pt x="12120" y="3"/>
                    </a:moveTo>
                    <a:lnTo>
                      <a:pt x="12120" y="3"/>
                    </a:lnTo>
                    <a:cubicBezTo>
                      <a:pt x="12121" y="3"/>
                      <a:pt x="12122" y="4"/>
                      <a:pt x="12122" y="5"/>
                    </a:cubicBezTo>
                    <a:cubicBezTo>
                      <a:pt x="12122" y="6"/>
                      <a:pt x="12121" y="7"/>
                      <a:pt x="12120" y="7"/>
                    </a:cubicBezTo>
                    <a:lnTo>
                      <a:pt x="12120" y="7"/>
                    </a:lnTo>
                    <a:cubicBezTo>
                      <a:pt x="12119" y="7"/>
                      <a:pt x="12118" y="6"/>
                      <a:pt x="12118" y="5"/>
                    </a:cubicBezTo>
                    <a:cubicBezTo>
                      <a:pt x="12118" y="4"/>
                      <a:pt x="12119" y="3"/>
                      <a:pt x="12120" y="3"/>
                    </a:cubicBezTo>
                    <a:close/>
                    <a:moveTo>
                      <a:pt x="12128" y="3"/>
                    </a:moveTo>
                    <a:lnTo>
                      <a:pt x="12128" y="3"/>
                    </a:lnTo>
                    <a:cubicBezTo>
                      <a:pt x="12129" y="3"/>
                      <a:pt x="12130" y="4"/>
                      <a:pt x="12130" y="5"/>
                    </a:cubicBezTo>
                    <a:cubicBezTo>
                      <a:pt x="12130" y="6"/>
                      <a:pt x="12129" y="7"/>
                      <a:pt x="12128" y="7"/>
                    </a:cubicBezTo>
                    <a:lnTo>
                      <a:pt x="12128" y="7"/>
                    </a:lnTo>
                    <a:cubicBezTo>
                      <a:pt x="12127" y="7"/>
                      <a:pt x="12126" y="6"/>
                      <a:pt x="12126" y="5"/>
                    </a:cubicBezTo>
                    <a:cubicBezTo>
                      <a:pt x="12126" y="4"/>
                      <a:pt x="12127" y="3"/>
                      <a:pt x="12128" y="3"/>
                    </a:cubicBezTo>
                    <a:close/>
                    <a:moveTo>
                      <a:pt x="12136" y="3"/>
                    </a:moveTo>
                    <a:lnTo>
                      <a:pt x="12136" y="3"/>
                    </a:lnTo>
                    <a:cubicBezTo>
                      <a:pt x="12137" y="3"/>
                      <a:pt x="12138" y="4"/>
                      <a:pt x="12138" y="5"/>
                    </a:cubicBezTo>
                    <a:cubicBezTo>
                      <a:pt x="12138" y="6"/>
                      <a:pt x="12137" y="7"/>
                      <a:pt x="12136" y="7"/>
                    </a:cubicBezTo>
                    <a:lnTo>
                      <a:pt x="12136" y="7"/>
                    </a:lnTo>
                    <a:cubicBezTo>
                      <a:pt x="12135" y="7"/>
                      <a:pt x="12134" y="6"/>
                      <a:pt x="12134" y="5"/>
                    </a:cubicBezTo>
                    <a:cubicBezTo>
                      <a:pt x="12134" y="4"/>
                      <a:pt x="12135" y="3"/>
                      <a:pt x="12136" y="3"/>
                    </a:cubicBezTo>
                    <a:close/>
                    <a:moveTo>
                      <a:pt x="12144" y="3"/>
                    </a:moveTo>
                    <a:lnTo>
                      <a:pt x="12144" y="3"/>
                    </a:lnTo>
                    <a:cubicBezTo>
                      <a:pt x="12145" y="3"/>
                      <a:pt x="12146" y="4"/>
                      <a:pt x="12146" y="5"/>
                    </a:cubicBezTo>
                    <a:cubicBezTo>
                      <a:pt x="12146" y="6"/>
                      <a:pt x="12145" y="7"/>
                      <a:pt x="12144" y="7"/>
                    </a:cubicBezTo>
                    <a:lnTo>
                      <a:pt x="12144" y="7"/>
                    </a:lnTo>
                    <a:cubicBezTo>
                      <a:pt x="12143" y="7"/>
                      <a:pt x="12142" y="6"/>
                      <a:pt x="12142" y="5"/>
                    </a:cubicBezTo>
                    <a:cubicBezTo>
                      <a:pt x="12142" y="4"/>
                      <a:pt x="12143" y="3"/>
                      <a:pt x="12144" y="3"/>
                    </a:cubicBezTo>
                    <a:close/>
                    <a:moveTo>
                      <a:pt x="12152" y="3"/>
                    </a:moveTo>
                    <a:lnTo>
                      <a:pt x="12152" y="3"/>
                    </a:lnTo>
                    <a:cubicBezTo>
                      <a:pt x="12153" y="3"/>
                      <a:pt x="12154" y="4"/>
                      <a:pt x="12154" y="5"/>
                    </a:cubicBezTo>
                    <a:cubicBezTo>
                      <a:pt x="12154" y="6"/>
                      <a:pt x="12153" y="7"/>
                      <a:pt x="12152" y="7"/>
                    </a:cubicBezTo>
                    <a:lnTo>
                      <a:pt x="12152" y="7"/>
                    </a:lnTo>
                    <a:cubicBezTo>
                      <a:pt x="12151" y="7"/>
                      <a:pt x="12150" y="6"/>
                      <a:pt x="12150" y="5"/>
                    </a:cubicBezTo>
                    <a:cubicBezTo>
                      <a:pt x="12150" y="4"/>
                      <a:pt x="12151" y="3"/>
                      <a:pt x="12152" y="3"/>
                    </a:cubicBezTo>
                    <a:close/>
                    <a:moveTo>
                      <a:pt x="12160" y="3"/>
                    </a:moveTo>
                    <a:lnTo>
                      <a:pt x="12160" y="3"/>
                    </a:lnTo>
                    <a:cubicBezTo>
                      <a:pt x="12161" y="3"/>
                      <a:pt x="12162" y="4"/>
                      <a:pt x="12162" y="5"/>
                    </a:cubicBezTo>
                    <a:cubicBezTo>
                      <a:pt x="12162" y="6"/>
                      <a:pt x="12161" y="7"/>
                      <a:pt x="12160" y="7"/>
                    </a:cubicBezTo>
                    <a:lnTo>
                      <a:pt x="12160" y="7"/>
                    </a:lnTo>
                    <a:cubicBezTo>
                      <a:pt x="12159" y="7"/>
                      <a:pt x="12158" y="6"/>
                      <a:pt x="12158" y="5"/>
                    </a:cubicBezTo>
                    <a:cubicBezTo>
                      <a:pt x="12158" y="4"/>
                      <a:pt x="12159" y="3"/>
                      <a:pt x="12160" y="3"/>
                    </a:cubicBezTo>
                    <a:close/>
                    <a:moveTo>
                      <a:pt x="12168" y="3"/>
                    </a:moveTo>
                    <a:lnTo>
                      <a:pt x="12168" y="3"/>
                    </a:lnTo>
                    <a:cubicBezTo>
                      <a:pt x="12169" y="3"/>
                      <a:pt x="12170" y="4"/>
                      <a:pt x="12170" y="5"/>
                    </a:cubicBezTo>
                    <a:cubicBezTo>
                      <a:pt x="12170" y="6"/>
                      <a:pt x="12169" y="7"/>
                      <a:pt x="12168" y="7"/>
                    </a:cubicBezTo>
                    <a:lnTo>
                      <a:pt x="12168" y="7"/>
                    </a:lnTo>
                    <a:cubicBezTo>
                      <a:pt x="12167" y="7"/>
                      <a:pt x="12166" y="6"/>
                      <a:pt x="12166" y="5"/>
                    </a:cubicBezTo>
                    <a:cubicBezTo>
                      <a:pt x="12166" y="4"/>
                      <a:pt x="12167" y="3"/>
                      <a:pt x="12168" y="3"/>
                    </a:cubicBezTo>
                    <a:close/>
                    <a:moveTo>
                      <a:pt x="12176" y="3"/>
                    </a:moveTo>
                    <a:lnTo>
                      <a:pt x="12176" y="3"/>
                    </a:lnTo>
                    <a:cubicBezTo>
                      <a:pt x="12177" y="3"/>
                      <a:pt x="12178" y="4"/>
                      <a:pt x="12178" y="5"/>
                    </a:cubicBezTo>
                    <a:cubicBezTo>
                      <a:pt x="12178" y="6"/>
                      <a:pt x="12177" y="7"/>
                      <a:pt x="12176" y="7"/>
                    </a:cubicBezTo>
                    <a:lnTo>
                      <a:pt x="12176" y="7"/>
                    </a:lnTo>
                    <a:cubicBezTo>
                      <a:pt x="12175" y="7"/>
                      <a:pt x="12174" y="6"/>
                      <a:pt x="12174" y="5"/>
                    </a:cubicBezTo>
                    <a:cubicBezTo>
                      <a:pt x="12174" y="4"/>
                      <a:pt x="12175" y="3"/>
                      <a:pt x="12176" y="3"/>
                    </a:cubicBezTo>
                    <a:close/>
                    <a:moveTo>
                      <a:pt x="12184" y="3"/>
                    </a:moveTo>
                    <a:lnTo>
                      <a:pt x="12184" y="3"/>
                    </a:lnTo>
                    <a:cubicBezTo>
                      <a:pt x="12185" y="3"/>
                      <a:pt x="12186" y="4"/>
                      <a:pt x="12186" y="5"/>
                    </a:cubicBezTo>
                    <a:cubicBezTo>
                      <a:pt x="12186" y="6"/>
                      <a:pt x="12185" y="7"/>
                      <a:pt x="12184" y="7"/>
                    </a:cubicBezTo>
                    <a:lnTo>
                      <a:pt x="12184" y="7"/>
                    </a:lnTo>
                    <a:cubicBezTo>
                      <a:pt x="12183" y="7"/>
                      <a:pt x="12182" y="6"/>
                      <a:pt x="12182" y="5"/>
                    </a:cubicBezTo>
                    <a:cubicBezTo>
                      <a:pt x="12182" y="4"/>
                      <a:pt x="12183" y="3"/>
                      <a:pt x="12184" y="3"/>
                    </a:cubicBezTo>
                    <a:close/>
                    <a:moveTo>
                      <a:pt x="12192" y="3"/>
                    </a:moveTo>
                    <a:lnTo>
                      <a:pt x="12192" y="3"/>
                    </a:lnTo>
                    <a:cubicBezTo>
                      <a:pt x="12193" y="3"/>
                      <a:pt x="12194" y="4"/>
                      <a:pt x="12194" y="5"/>
                    </a:cubicBezTo>
                    <a:cubicBezTo>
                      <a:pt x="12194" y="6"/>
                      <a:pt x="12193" y="7"/>
                      <a:pt x="12192" y="7"/>
                    </a:cubicBezTo>
                    <a:lnTo>
                      <a:pt x="12192" y="7"/>
                    </a:lnTo>
                    <a:cubicBezTo>
                      <a:pt x="12191" y="7"/>
                      <a:pt x="12190" y="6"/>
                      <a:pt x="12190" y="5"/>
                    </a:cubicBezTo>
                    <a:cubicBezTo>
                      <a:pt x="12190" y="4"/>
                      <a:pt x="12191" y="3"/>
                      <a:pt x="12192" y="3"/>
                    </a:cubicBezTo>
                    <a:close/>
                    <a:moveTo>
                      <a:pt x="12200" y="3"/>
                    </a:moveTo>
                    <a:lnTo>
                      <a:pt x="12200" y="3"/>
                    </a:lnTo>
                    <a:cubicBezTo>
                      <a:pt x="12201" y="3"/>
                      <a:pt x="12202" y="4"/>
                      <a:pt x="12202" y="5"/>
                    </a:cubicBezTo>
                    <a:cubicBezTo>
                      <a:pt x="12202" y="6"/>
                      <a:pt x="12201" y="7"/>
                      <a:pt x="12200" y="7"/>
                    </a:cubicBezTo>
                    <a:lnTo>
                      <a:pt x="12200" y="7"/>
                    </a:lnTo>
                    <a:cubicBezTo>
                      <a:pt x="12199" y="7"/>
                      <a:pt x="12198" y="6"/>
                      <a:pt x="12198" y="5"/>
                    </a:cubicBezTo>
                    <a:cubicBezTo>
                      <a:pt x="12198" y="4"/>
                      <a:pt x="12199" y="3"/>
                      <a:pt x="12200" y="3"/>
                    </a:cubicBezTo>
                    <a:close/>
                    <a:moveTo>
                      <a:pt x="12208" y="3"/>
                    </a:moveTo>
                    <a:lnTo>
                      <a:pt x="12208" y="3"/>
                    </a:lnTo>
                    <a:cubicBezTo>
                      <a:pt x="12209" y="3"/>
                      <a:pt x="12210" y="4"/>
                      <a:pt x="12210" y="5"/>
                    </a:cubicBezTo>
                    <a:cubicBezTo>
                      <a:pt x="12210" y="6"/>
                      <a:pt x="12209" y="7"/>
                      <a:pt x="12208" y="7"/>
                    </a:cubicBezTo>
                    <a:lnTo>
                      <a:pt x="12208" y="7"/>
                    </a:lnTo>
                    <a:cubicBezTo>
                      <a:pt x="12207" y="7"/>
                      <a:pt x="12206" y="6"/>
                      <a:pt x="12206" y="5"/>
                    </a:cubicBezTo>
                    <a:cubicBezTo>
                      <a:pt x="12206" y="4"/>
                      <a:pt x="12207" y="3"/>
                      <a:pt x="12208" y="3"/>
                    </a:cubicBezTo>
                    <a:close/>
                    <a:moveTo>
                      <a:pt x="12216" y="3"/>
                    </a:moveTo>
                    <a:lnTo>
                      <a:pt x="12216" y="3"/>
                    </a:lnTo>
                    <a:cubicBezTo>
                      <a:pt x="12217" y="3"/>
                      <a:pt x="12218" y="4"/>
                      <a:pt x="12218" y="5"/>
                    </a:cubicBezTo>
                    <a:cubicBezTo>
                      <a:pt x="12218" y="6"/>
                      <a:pt x="12217" y="7"/>
                      <a:pt x="12216" y="7"/>
                    </a:cubicBezTo>
                    <a:lnTo>
                      <a:pt x="12216" y="7"/>
                    </a:lnTo>
                    <a:cubicBezTo>
                      <a:pt x="12215" y="7"/>
                      <a:pt x="12214" y="6"/>
                      <a:pt x="12214" y="5"/>
                    </a:cubicBezTo>
                    <a:cubicBezTo>
                      <a:pt x="12214" y="4"/>
                      <a:pt x="12215" y="3"/>
                      <a:pt x="12216" y="3"/>
                    </a:cubicBezTo>
                    <a:close/>
                    <a:moveTo>
                      <a:pt x="12224" y="3"/>
                    </a:moveTo>
                    <a:lnTo>
                      <a:pt x="12224" y="3"/>
                    </a:lnTo>
                    <a:cubicBezTo>
                      <a:pt x="12225" y="3"/>
                      <a:pt x="12226" y="4"/>
                      <a:pt x="12226" y="5"/>
                    </a:cubicBezTo>
                    <a:cubicBezTo>
                      <a:pt x="12226" y="6"/>
                      <a:pt x="12225" y="7"/>
                      <a:pt x="12224" y="7"/>
                    </a:cubicBezTo>
                    <a:lnTo>
                      <a:pt x="12224" y="7"/>
                    </a:lnTo>
                    <a:cubicBezTo>
                      <a:pt x="12223" y="7"/>
                      <a:pt x="12222" y="6"/>
                      <a:pt x="12222" y="5"/>
                    </a:cubicBezTo>
                    <a:cubicBezTo>
                      <a:pt x="12222" y="4"/>
                      <a:pt x="12223" y="3"/>
                      <a:pt x="12224" y="3"/>
                    </a:cubicBezTo>
                    <a:close/>
                    <a:moveTo>
                      <a:pt x="12232" y="3"/>
                    </a:moveTo>
                    <a:lnTo>
                      <a:pt x="12232" y="3"/>
                    </a:lnTo>
                    <a:cubicBezTo>
                      <a:pt x="12233" y="3"/>
                      <a:pt x="12234" y="4"/>
                      <a:pt x="12234" y="5"/>
                    </a:cubicBezTo>
                    <a:cubicBezTo>
                      <a:pt x="12234" y="6"/>
                      <a:pt x="12233" y="7"/>
                      <a:pt x="12232" y="7"/>
                    </a:cubicBezTo>
                    <a:lnTo>
                      <a:pt x="12232" y="7"/>
                    </a:lnTo>
                    <a:cubicBezTo>
                      <a:pt x="12231" y="7"/>
                      <a:pt x="12230" y="6"/>
                      <a:pt x="12230" y="5"/>
                    </a:cubicBezTo>
                    <a:cubicBezTo>
                      <a:pt x="12230" y="4"/>
                      <a:pt x="12231" y="3"/>
                      <a:pt x="12232" y="3"/>
                    </a:cubicBezTo>
                    <a:close/>
                    <a:moveTo>
                      <a:pt x="12240" y="3"/>
                    </a:moveTo>
                    <a:lnTo>
                      <a:pt x="12240" y="3"/>
                    </a:lnTo>
                    <a:cubicBezTo>
                      <a:pt x="12241" y="3"/>
                      <a:pt x="12242" y="4"/>
                      <a:pt x="12242" y="5"/>
                    </a:cubicBezTo>
                    <a:cubicBezTo>
                      <a:pt x="12242" y="6"/>
                      <a:pt x="12241" y="7"/>
                      <a:pt x="12240" y="7"/>
                    </a:cubicBezTo>
                    <a:lnTo>
                      <a:pt x="12240" y="7"/>
                    </a:lnTo>
                    <a:cubicBezTo>
                      <a:pt x="12239" y="7"/>
                      <a:pt x="12238" y="6"/>
                      <a:pt x="12238" y="5"/>
                    </a:cubicBezTo>
                    <a:cubicBezTo>
                      <a:pt x="12238" y="4"/>
                      <a:pt x="12239" y="3"/>
                      <a:pt x="12240" y="3"/>
                    </a:cubicBezTo>
                    <a:close/>
                    <a:moveTo>
                      <a:pt x="12248" y="3"/>
                    </a:moveTo>
                    <a:lnTo>
                      <a:pt x="12248" y="3"/>
                    </a:lnTo>
                    <a:cubicBezTo>
                      <a:pt x="12249" y="3"/>
                      <a:pt x="12250" y="4"/>
                      <a:pt x="12250" y="5"/>
                    </a:cubicBezTo>
                    <a:cubicBezTo>
                      <a:pt x="12250" y="6"/>
                      <a:pt x="12249" y="7"/>
                      <a:pt x="12248" y="7"/>
                    </a:cubicBezTo>
                    <a:lnTo>
                      <a:pt x="12248" y="7"/>
                    </a:lnTo>
                    <a:cubicBezTo>
                      <a:pt x="12247" y="7"/>
                      <a:pt x="12246" y="6"/>
                      <a:pt x="12246" y="5"/>
                    </a:cubicBezTo>
                    <a:cubicBezTo>
                      <a:pt x="12246" y="4"/>
                      <a:pt x="12247" y="3"/>
                      <a:pt x="12248" y="3"/>
                    </a:cubicBezTo>
                    <a:close/>
                    <a:moveTo>
                      <a:pt x="12256" y="3"/>
                    </a:moveTo>
                    <a:lnTo>
                      <a:pt x="12256" y="3"/>
                    </a:lnTo>
                    <a:cubicBezTo>
                      <a:pt x="12257" y="3"/>
                      <a:pt x="12258" y="4"/>
                      <a:pt x="12258" y="5"/>
                    </a:cubicBezTo>
                    <a:cubicBezTo>
                      <a:pt x="12258" y="6"/>
                      <a:pt x="12257" y="7"/>
                      <a:pt x="12256" y="7"/>
                    </a:cubicBezTo>
                    <a:lnTo>
                      <a:pt x="12256" y="7"/>
                    </a:lnTo>
                    <a:cubicBezTo>
                      <a:pt x="12255" y="7"/>
                      <a:pt x="12254" y="6"/>
                      <a:pt x="12254" y="5"/>
                    </a:cubicBezTo>
                    <a:cubicBezTo>
                      <a:pt x="12254" y="4"/>
                      <a:pt x="12255" y="3"/>
                      <a:pt x="12256" y="3"/>
                    </a:cubicBezTo>
                    <a:close/>
                    <a:moveTo>
                      <a:pt x="12264" y="3"/>
                    </a:moveTo>
                    <a:lnTo>
                      <a:pt x="12264" y="3"/>
                    </a:lnTo>
                    <a:cubicBezTo>
                      <a:pt x="12265" y="3"/>
                      <a:pt x="12266" y="4"/>
                      <a:pt x="12266" y="5"/>
                    </a:cubicBezTo>
                    <a:cubicBezTo>
                      <a:pt x="12266" y="6"/>
                      <a:pt x="12265" y="7"/>
                      <a:pt x="12264" y="7"/>
                    </a:cubicBezTo>
                    <a:lnTo>
                      <a:pt x="12264" y="7"/>
                    </a:lnTo>
                    <a:cubicBezTo>
                      <a:pt x="12263" y="7"/>
                      <a:pt x="12262" y="6"/>
                      <a:pt x="12262" y="5"/>
                    </a:cubicBezTo>
                    <a:cubicBezTo>
                      <a:pt x="12262" y="4"/>
                      <a:pt x="12263" y="3"/>
                      <a:pt x="12264" y="3"/>
                    </a:cubicBezTo>
                    <a:close/>
                    <a:moveTo>
                      <a:pt x="12272" y="3"/>
                    </a:moveTo>
                    <a:lnTo>
                      <a:pt x="12272" y="3"/>
                    </a:lnTo>
                    <a:cubicBezTo>
                      <a:pt x="12273" y="3"/>
                      <a:pt x="12274" y="4"/>
                      <a:pt x="12274" y="5"/>
                    </a:cubicBezTo>
                    <a:cubicBezTo>
                      <a:pt x="12274" y="6"/>
                      <a:pt x="12273" y="7"/>
                      <a:pt x="12272" y="7"/>
                    </a:cubicBezTo>
                    <a:lnTo>
                      <a:pt x="12272" y="7"/>
                    </a:lnTo>
                    <a:cubicBezTo>
                      <a:pt x="12271" y="7"/>
                      <a:pt x="12270" y="6"/>
                      <a:pt x="12270" y="5"/>
                    </a:cubicBezTo>
                    <a:cubicBezTo>
                      <a:pt x="12270" y="4"/>
                      <a:pt x="12271" y="3"/>
                      <a:pt x="12272" y="3"/>
                    </a:cubicBezTo>
                    <a:close/>
                    <a:moveTo>
                      <a:pt x="12280" y="3"/>
                    </a:moveTo>
                    <a:lnTo>
                      <a:pt x="12280" y="3"/>
                    </a:lnTo>
                    <a:cubicBezTo>
                      <a:pt x="12281" y="3"/>
                      <a:pt x="12282" y="4"/>
                      <a:pt x="12282" y="5"/>
                    </a:cubicBezTo>
                    <a:cubicBezTo>
                      <a:pt x="12282" y="6"/>
                      <a:pt x="12281" y="7"/>
                      <a:pt x="12280" y="7"/>
                    </a:cubicBezTo>
                    <a:lnTo>
                      <a:pt x="12280" y="7"/>
                    </a:lnTo>
                    <a:cubicBezTo>
                      <a:pt x="12279" y="7"/>
                      <a:pt x="12278" y="6"/>
                      <a:pt x="12278" y="5"/>
                    </a:cubicBezTo>
                    <a:cubicBezTo>
                      <a:pt x="12278" y="4"/>
                      <a:pt x="12279" y="3"/>
                      <a:pt x="12280" y="3"/>
                    </a:cubicBezTo>
                    <a:close/>
                    <a:moveTo>
                      <a:pt x="12288" y="3"/>
                    </a:moveTo>
                    <a:lnTo>
                      <a:pt x="12288" y="3"/>
                    </a:lnTo>
                    <a:cubicBezTo>
                      <a:pt x="12289" y="3"/>
                      <a:pt x="12290" y="4"/>
                      <a:pt x="12290" y="5"/>
                    </a:cubicBezTo>
                    <a:cubicBezTo>
                      <a:pt x="12290" y="6"/>
                      <a:pt x="12289" y="7"/>
                      <a:pt x="12288" y="7"/>
                    </a:cubicBezTo>
                    <a:lnTo>
                      <a:pt x="12288" y="7"/>
                    </a:lnTo>
                    <a:cubicBezTo>
                      <a:pt x="12287" y="7"/>
                      <a:pt x="12286" y="6"/>
                      <a:pt x="12286" y="5"/>
                    </a:cubicBezTo>
                    <a:cubicBezTo>
                      <a:pt x="12286" y="4"/>
                      <a:pt x="12287" y="3"/>
                      <a:pt x="12288" y="3"/>
                    </a:cubicBezTo>
                    <a:close/>
                    <a:moveTo>
                      <a:pt x="12296" y="3"/>
                    </a:moveTo>
                    <a:lnTo>
                      <a:pt x="12296" y="3"/>
                    </a:lnTo>
                    <a:cubicBezTo>
                      <a:pt x="12297" y="3"/>
                      <a:pt x="12298" y="4"/>
                      <a:pt x="12298" y="5"/>
                    </a:cubicBezTo>
                    <a:cubicBezTo>
                      <a:pt x="12298" y="6"/>
                      <a:pt x="12297" y="7"/>
                      <a:pt x="12296" y="7"/>
                    </a:cubicBezTo>
                    <a:lnTo>
                      <a:pt x="12296" y="7"/>
                    </a:lnTo>
                    <a:cubicBezTo>
                      <a:pt x="12295" y="7"/>
                      <a:pt x="12294" y="6"/>
                      <a:pt x="12294" y="5"/>
                    </a:cubicBezTo>
                    <a:cubicBezTo>
                      <a:pt x="12294" y="4"/>
                      <a:pt x="12295" y="3"/>
                      <a:pt x="12296" y="3"/>
                    </a:cubicBezTo>
                    <a:close/>
                    <a:moveTo>
                      <a:pt x="12304" y="3"/>
                    </a:moveTo>
                    <a:lnTo>
                      <a:pt x="12304" y="3"/>
                    </a:lnTo>
                    <a:cubicBezTo>
                      <a:pt x="12305" y="3"/>
                      <a:pt x="12306" y="4"/>
                      <a:pt x="12306" y="5"/>
                    </a:cubicBezTo>
                    <a:cubicBezTo>
                      <a:pt x="12306" y="6"/>
                      <a:pt x="12305" y="7"/>
                      <a:pt x="12304" y="7"/>
                    </a:cubicBezTo>
                    <a:lnTo>
                      <a:pt x="12304" y="7"/>
                    </a:lnTo>
                    <a:cubicBezTo>
                      <a:pt x="12303" y="7"/>
                      <a:pt x="12302" y="6"/>
                      <a:pt x="12302" y="5"/>
                    </a:cubicBezTo>
                    <a:cubicBezTo>
                      <a:pt x="12302" y="4"/>
                      <a:pt x="12303" y="3"/>
                      <a:pt x="12304" y="3"/>
                    </a:cubicBezTo>
                    <a:close/>
                    <a:moveTo>
                      <a:pt x="12312" y="3"/>
                    </a:moveTo>
                    <a:lnTo>
                      <a:pt x="12312" y="3"/>
                    </a:lnTo>
                    <a:cubicBezTo>
                      <a:pt x="12313" y="3"/>
                      <a:pt x="12314" y="4"/>
                      <a:pt x="12314" y="5"/>
                    </a:cubicBezTo>
                    <a:cubicBezTo>
                      <a:pt x="12314" y="6"/>
                      <a:pt x="12313" y="7"/>
                      <a:pt x="12312" y="7"/>
                    </a:cubicBezTo>
                    <a:lnTo>
                      <a:pt x="12312" y="7"/>
                    </a:lnTo>
                    <a:cubicBezTo>
                      <a:pt x="12311" y="7"/>
                      <a:pt x="12310" y="6"/>
                      <a:pt x="12310" y="5"/>
                    </a:cubicBezTo>
                    <a:cubicBezTo>
                      <a:pt x="12310" y="4"/>
                      <a:pt x="12311" y="3"/>
                      <a:pt x="12312" y="3"/>
                    </a:cubicBezTo>
                    <a:close/>
                    <a:moveTo>
                      <a:pt x="12320" y="3"/>
                    </a:moveTo>
                    <a:lnTo>
                      <a:pt x="12320" y="3"/>
                    </a:lnTo>
                    <a:cubicBezTo>
                      <a:pt x="12321" y="3"/>
                      <a:pt x="12322" y="4"/>
                      <a:pt x="12322" y="5"/>
                    </a:cubicBezTo>
                    <a:cubicBezTo>
                      <a:pt x="12322" y="6"/>
                      <a:pt x="12321" y="7"/>
                      <a:pt x="12320" y="7"/>
                    </a:cubicBezTo>
                    <a:lnTo>
                      <a:pt x="12320" y="7"/>
                    </a:lnTo>
                    <a:cubicBezTo>
                      <a:pt x="12319" y="7"/>
                      <a:pt x="12318" y="6"/>
                      <a:pt x="12318" y="5"/>
                    </a:cubicBezTo>
                    <a:cubicBezTo>
                      <a:pt x="12318" y="4"/>
                      <a:pt x="12319" y="3"/>
                      <a:pt x="12320" y="3"/>
                    </a:cubicBezTo>
                    <a:close/>
                    <a:moveTo>
                      <a:pt x="12328" y="3"/>
                    </a:moveTo>
                    <a:lnTo>
                      <a:pt x="12328" y="3"/>
                    </a:lnTo>
                    <a:cubicBezTo>
                      <a:pt x="12329" y="3"/>
                      <a:pt x="12330" y="4"/>
                      <a:pt x="12330" y="5"/>
                    </a:cubicBezTo>
                    <a:cubicBezTo>
                      <a:pt x="12330" y="6"/>
                      <a:pt x="12329" y="7"/>
                      <a:pt x="12328" y="7"/>
                    </a:cubicBezTo>
                    <a:lnTo>
                      <a:pt x="12328" y="7"/>
                    </a:lnTo>
                    <a:cubicBezTo>
                      <a:pt x="12327" y="7"/>
                      <a:pt x="12326" y="6"/>
                      <a:pt x="12326" y="5"/>
                    </a:cubicBezTo>
                    <a:cubicBezTo>
                      <a:pt x="12326" y="4"/>
                      <a:pt x="12327" y="3"/>
                      <a:pt x="12328" y="3"/>
                    </a:cubicBezTo>
                    <a:close/>
                    <a:moveTo>
                      <a:pt x="12336" y="3"/>
                    </a:moveTo>
                    <a:lnTo>
                      <a:pt x="12336" y="3"/>
                    </a:lnTo>
                    <a:cubicBezTo>
                      <a:pt x="12337" y="3"/>
                      <a:pt x="12338" y="4"/>
                      <a:pt x="12338" y="5"/>
                    </a:cubicBezTo>
                    <a:cubicBezTo>
                      <a:pt x="12338" y="6"/>
                      <a:pt x="12337" y="7"/>
                      <a:pt x="12336" y="7"/>
                    </a:cubicBezTo>
                    <a:lnTo>
                      <a:pt x="12336" y="7"/>
                    </a:lnTo>
                    <a:cubicBezTo>
                      <a:pt x="12335" y="7"/>
                      <a:pt x="12334" y="6"/>
                      <a:pt x="12334" y="5"/>
                    </a:cubicBezTo>
                    <a:cubicBezTo>
                      <a:pt x="12334" y="4"/>
                      <a:pt x="12335" y="3"/>
                      <a:pt x="12336" y="3"/>
                    </a:cubicBezTo>
                    <a:close/>
                    <a:moveTo>
                      <a:pt x="12344" y="3"/>
                    </a:moveTo>
                    <a:lnTo>
                      <a:pt x="12344" y="3"/>
                    </a:lnTo>
                    <a:cubicBezTo>
                      <a:pt x="12345" y="3"/>
                      <a:pt x="12346" y="4"/>
                      <a:pt x="12346" y="5"/>
                    </a:cubicBezTo>
                    <a:cubicBezTo>
                      <a:pt x="12346" y="6"/>
                      <a:pt x="12345" y="7"/>
                      <a:pt x="12344" y="7"/>
                    </a:cubicBezTo>
                    <a:lnTo>
                      <a:pt x="12344" y="7"/>
                    </a:lnTo>
                    <a:cubicBezTo>
                      <a:pt x="12343" y="7"/>
                      <a:pt x="12342" y="6"/>
                      <a:pt x="12342" y="5"/>
                    </a:cubicBezTo>
                    <a:cubicBezTo>
                      <a:pt x="12342" y="4"/>
                      <a:pt x="12343" y="3"/>
                      <a:pt x="12344" y="3"/>
                    </a:cubicBezTo>
                    <a:close/>
                    <a:moveTo>
                      <a:pt x="12352" y="3"/>
                    </a:moveTo>
                    <a:lnTo>
                      <a:pt x="12352" y="3"/>
                    </a:lnTo>
                    <a:cubicBezTo>
                      <a:pt x="12353" y="3"/>
                      <a:pt x="12354" y="4"/>
                      <a:pt x="12354" y="5"/>
                    </a:cubicBezTo>
                    <a:cubicBezTo>
                      <a:pt x="12354" y="6"/>
                      <a:pt x="12353" y="7"/>
                      <a:pt x="12352" y="7"/>
                    </a:cubicBezTo>
                    <a:lnTo>
                      <a:pt x="12352" y="7"/>
                    </a:lnTo>
                    <a:cubicBezTo>
                      <a:pt x="12351" y="7"/>
                      <a:pt x="12350" y="6"/>
                      <a:pt x="12350" y="5"/>
                    </a:cubicBezTo>
                    <a:cubicBezTo>
                      <a:pt x="12350" y="4"/>
                      <a:pt x="12351" y="3"/>
                      <a:pt x="12352" y="3"/>
                    </a:cubicBezTo>
                    <a:close/>
                    <a:moveTo>
                      <a:pt x="12360" y="3"/>
                    </a:moveTo>
                    <a:lnTo>
                      <a:pt x="12360" y="3"/>
                    </a:lnTo>
                    <a:cubicBezTo>
                      <a:pt x="12361" y="3"/>
                      <a:pt x="12362" y="4"/>
                      <a:pt x="12362" y="5"/>
                    </a:cubicBezTo>
                    <a:cubicBezTo>
                      <a:pt x="12362" y="6"/>
                      <a:pt x="12361" y="7"/>
                      <a:pt x="12360" y="7"/>
                    </a:cubicBezTo>
                    <a:lnTo>
                      <a:pt x="12360" y="7"/>
                    </a:lnTo>
                    <a:cubicBezTo>
                      <a:pt x="12359" y="7"/>
                      <a:pt x="12358" y="6"/>
                      <a:pt x="12358" y="5"/>
                    </a:cubicBezTo>
                    <a:cubicBezTo>
                      <a:pt x="12358" y="4"/>
                      <a:pt x="12359" y="3"/>
                      <a:pt x="12360" y="3"/>
                    </a:cubicBezTo>
                    <a:close/>
                    <a:moveTo>
                      <a:pt x="12368" y="3"/>
                    </a:moveTo>
                    <a:lnTo>
                      <a:pt x="12368" y="3"/>
                    </a:lnTo>
                    <a:cubicBezTo>
                      <a:pt x="12369" y="3"/>
                      <a:pt x="12370" y="4"/>
                      <a:pt x="12370" y="5"/>
                    </a:cubicBezTo>
                    <a:cubicBezTo>
                      <a:pt x="12370" y="6"/>
                      <a:pt x="12369" y="7"/>
                      <a:pt x="12368" y="7"/>
                    </a:cubicBezTo>
                    <a:lnTo>
                      <a:pt x="12368" y="7"/>
                    </a:lnTo>
                    <a:cubicBezTo>
                      <a:pt x="12367" y="7"/>
                      <a:pt x="12366" y="6"/>
                      <a:pt x="12366" y="5"/>
                    </a:cubicBezTo>
                    <a:cubicBezTo>
                      <a:pt x="12366" y="4"/>
                      <a:pt x="12367" y="3"/>
                      <a:pt x="12368" y="3"/>
                    </a:cubicBezTo>
                    <a:close/>
                    <a:moveTo>
                      <a:pt x="12376" y="3"/>
                    </a:moveTo>
                    <a:lnTo>
                      <a:pt x="12376" y="3"/>
                    </a:lnTo>
                    <a:cubicBezTo>
                      <a:pt x="12377" y="3"/>
                      <a:pt x="12378" y="4"/>
                      <a:pt x="12378" y="5"/>
                    </a:cubicBezTo>
                    <a:cubicBezTo>
                      <a:pt x="12378" y="6"/>
                      <a:pt x="12377" y="7"/>
                      <a:pt x="12376" y="7"/>
                    </a:cubicBezTo>
                    <a:lnTo>
                      <a:pt x="12376" y="7"/>
                    </a:lnTo>
                    <a:cubicBezTo>
                      <a:pt x="12375" y="7"/>
                      <a:pt x="12374" y="6"/>
                      <a:pt x="12374" y="5"/>
                    </a:cubicBezTo>
                    <a:cubicBezTo>
                      <a:pt x="12374" y="4"/>
                      <a:pt x="12375" y="3"/>
                      <a:pt x="12376" y="3"/>
                    </a:cubicBezTo>
                    <a:close/>
                    <a:moveTo>
                      <a:pt x="12384" y="3"/>
                    </a:moveTo>
                    <a:lnTo>
                      <a:pt x="12384" y="3"/>
                    </a:lnTo>
                    <a:cubicBezTo>
                      <a:pt x="12385" y="3"/>
                      <a:pt x="12386" y="4"/>
                      <a:pt x="12386" y="5"/>
                    </a:cubicBezTo>
                    <a:cubicBezTo>
                      <a:pt x="12386" y="6"/>
                      <a:pt x="12385" y="7"/>
                      <a:pt x="12384" y="7"/>
                    </a:cubicBezTo>
                    <a:lnTo>
                      <a:pt x="12384" y="7"/>
                    </a:lnTo>
                    <a:cubicBezTo>
                      <a:pt x="12383" y="7"/>
                      <a:pt x="12382" y="6"/>
                      <a:pt x="12382" y="5"/>
                    </a:cubicBezTo>
                    <a:cubicBezTo>
                      <a:pt x="12382" y="4"/>
                      <a:pt x="12383" y="3"/>
                      <a:pt x="12384" y="3"/>
                    </a:cubicBezTo>
                    <a:close/>
                    <a:moveTo>
                      <a:pt x="12392" y="3"/>
                    </a:moveTo>
                    <a:lnTo>
                      <a:pt x="12392" y="3"/>
                    </a:lnTo>
                    <a:cubicBezTo>
                      <a:pt x="12393" y="3"/>
                      <a:pt x="12394" y="4"/>
                      <a:pt x="12394" y="5"/>
                    </a:cubicBezTo>
                    <a:cubicBezTo>
                      <a:pt x="12394" y="6"/>
                      <a:pt x="12393" y="7"/>
                      <a:pt x="12392" y="7"/>
                    </a:cubicBezTo>
                    <a:lnTo>
                      <a:pt x="12392" y="7"/>
                    </a:lnTo>
                    <a:cubicBezTo>
                      <a:pt x="12391" y="7"/>
                      <a:pt x="12390" y="6"/>
                      <a:pt x="12390" y="5"/>
                    </a:cubicBezTo>
                    <a:cubicBezTo>
                      <a:pt x="12390" y="4"/>
                      <a:pt x="12391" y="3"/>
                      <a:pt x="12392" y="3"/>
                    </a:cubicBezTo>
                    <a:close/>
                    <a:moveTo>
                      <a:pt x="12400" y="3"/>
                    </a:moveTo>
                    <a:lnTo>
                      <a:pt x="12400" y="3"/>
                    </a:lnTo>
                    <a:cubicBezTo>
                      <a:pt x="12401" y="3"/>
                      <a:pt x="12402" y="4"/>
                      <a:pt x="12402" y="5"/>
                    </a:cubicBezTo>
                    <a:cubicBezTo>
                      <a:pt x="12402" y="6"/>
                      <a:pt x="12401" y="7"/>
                      <a:pt x="12400" y="7"/>
                    </a:cubicBezTo>
                    <a:lnTo>
                      <a:pt x="12400" y="7"/>
                    </a:lnTo>
                    <a:cubicBezTo>
                      <a:pt x="12399" y="7"/>
                      <a:pt x="12398" y="6"/>
                      <a:pt x="12398" y="5"/>
                    </a:cubicBezTo>
                    <a:cubicBezTo>
                      <a:pt x="12398" y="4"/>
                      <a:pt x="12399" y="3"/>
                      <a:pt x="12400" y="3"/>
                    </a:cubicBezTo>
                    <a:close/>
                    <a:moveTo>
                      <a:pt x="12408" y="3"/>
                    </a:moveTo>
                    <a:lnTo>
                      <a:pt x="12408" y="3"/>
                    </a:lnTo>
                    <a:cubicBezTo>
                      <a:pt x="12409" y="3"/>
                      <a:pt x="12410" y="4"/>
                      <a:pt x="12410" y="5"/>
                    </a:cubicBezTo>
                    <a:cubicBezTo>
                      <a:pt x="12410" y="6"/>
                      <a:pt x="12409" y="7"/>
                      <a:pt x="12408" y="7"/>
                    </a:cubicBezTo>
                    <a:lnTo>
                      <a:pt x="12408" y="7"/>
                    </a:lnTo>
                    <a:cubicBezTo>
                      <a:pt x="12407" y="7"/>
                      <a:pt x="12406" y="6"/>
                      <a:pt x="12406" y="5"/>
                    </a:cubicBezTo>
                    <a:cubicBezTo>
                      <a:pt x="12406" y="4"/>
                      <a:pt x="12407" y="3"/>
                      <a:pt x="12408" y="3"/>
                    </a:cubicBezTo>
                    <a:close/>
                    <a:moveTo>
                      <a:pt x="12416" y="3"/>
                    </a:moveTo>
                    <a:lnTo>
                      <a:pt x="12416" y="3"/>
                    </a:lnTo>
                    <a:cubicBezTo>
                      <a:pt x="12417" y="3"/>
                      <a:pt x="12418" y="4"/>
                      <a:pt x="12418" y="5"/>
                    </a:cubicBezTo>
                    <a:cubicBezTo>
                      <a:pt x="12418" y="6"/>
                      <a:pt x="12417" y="7"/>
                      <a:pt x="12416" y="7"/>
                    </a:cubicBezTo>
                    <a:lnTo>
                      <a:pt x="12416" y="7"/>
                    </a:lnTo>
                    <a:cubicBezTo>
                      <a:pt x="12415" y="7"/>
                      <a:pt x="12414" y="6"/>
                      <a:pt x="12414" y="5"/>
                    </a:cubicBezTo>
                    <a:cubicBezTo>
                      <a:pt x="12414" y="4"/>
                      <a:pt x="12415" y="3"/>
                      <a:pt x="12416" y="3"/>
                    </a:cubicBezTo>
                    <a:close/>
                    <a:moveTo>
                      <a:pt x="12424" y="3"/>
                    </a:moveTo>
                    <a:lnTo>
                      <a:pt x="12424" y="3"/>
                    </a:lnTo>
                    <a:cubicBezTo>
                      <a:pt x="12425" y="3"/>
                      <a:pt x="12426" y="4"/>
                      <a:pt x="12426" y="5"/>
                    </a:cubicBezTo>
                    <a:cubicBezTo>
                      <a:pt x="12426" y="6"/>
                      <a:pt x="12425" y="7"/>
                      <a:pt x="12424" y="7"/>
                    </a:cubicBezTo>
                    <a:lnTo>
                      <a:pt x="12424" y="7"/>
                    </a:lnTo>
                    <a:cubicBezTo>
                      <a:pt x="12423" y="7"/>
                      <a:pt x="12422" y="6"/>
                      <a:pt x="12422" y="5"/>
                    </a:cubicBezTo>
                    <a:cubicBezTo>
                      <a:pt x="12422" y="4"/>
                      <a:pt x="12423" y="3"/>
                      <a:pt x="12424" y="3"/>
                    </a:cubicBezTo>
                    <a:close/>
                    <a:moveTo>
                      <a:pt x="12432" y="3"/>
                    </a:moveTo>
                    <a:lnTo>
                      <a:pt x="12432" y="3"/>
                    </a:lnTo>
                    <a:cubicBezTo>
                      <a:pt x="12434" y="3"/>
                      <a:pt x="12434" y="4"/>
                      <a:pt x="12434" y="5"/>
                    </a:cubicBezTo>
                    <a:cubicBezTo>
                      <a:pt x="12434" y="6"/>
                      <a:pt x="12434" y="7"/>
                      <a:pt x="12432" y="7"/>
                    </a:cubicBezTo>
                    <a:lnTo>
                      <a:pt x="12432" y="7"/>
                    </a:lnTo>
                    <a:cubicBezTo>
                      <a:pt x="12431" y="7"/>
                      <a:pt x="12430" y="6"/>
                      <a:pt x="12430" y="5"/>
                    </a:cubicBezTo>
                    <a:cubicBezTo>
                      <a:pt x="12430" y="4"/>
                      <a:pt x="12431" y="3"/>
                      <a:pt x="12432" y="3"/>
                    </a:cubicBezTo>
                    <a:close/>
                    <a:moveTo>
                      <a:pt x="12440" y="3"/>
                    </a:moveTo>
                    <a:lnTo>
                      <a:pt x="12440" y="3"/>
                    </a:lnTo>
                    <a:cubicBezTo>
                      <a:pt x="12442" y="3"/>
                      <a:pt x="12442" y="4"/>
                      <a:pt x="12442" y="5"/>
                    </a:cubicBezTo>
                    <a:cubicBezTo>
                      <a:pt x="12442" y="6"/>
                      <a:pt x="12442" y="7"/>
                      <a:pt x="12440" y="7"/>
                    </a:cubicBezTo>
                    <a:lnTo>
                      <a:pt x="12440" y="7"/>
                    </a:lnTo>
                    <a:cubicBezTo>
                      <a:pt x="12439" y="7"/>
                      <a:pt x="12438" y="6"/>
                      <a:pt x="12438" y="5"/>
                    </a:cubicBezTo>
                    <a:cubicBezTo>
                      <a:pt x="12438" y="4"/>
                      <a:pt x="12439" y="3"/>
                      <a:pt x="12440" y="3"/>
                    </a:cubicBezTo>
                    <a:close/>
                    <a:moveTo>
                      <a:pt x="12448" y="3"/>
                    </a:moveTo>
                    <a:lnTo>
                      <a:pt x="12448" y="3"/>
                    </a:lnTo>
                    <a:cubicBezTo>
                      <a:pt x="12450" y="3"/>
                      <a:pt x="12450" y="4"/>
                      <a:pt x="12450" y="5"/>
                    </a:cubicBezTo>
                    <a:cubicBezTo>
                      <a:pt x="12450" y="6"/>
                      <a:pt x="12450" y="7"/>
                      <a:pt x="12448" y="7"/>
                    </a:cubicBezTo>
                    <a:lnTo>
                      <a:pt x="12448" y="7"/>
                    </a:lnTo>
                    <a:cubicBezTo>
                      <a:pt x="12447" y="7"/>
                      <a:pt x="12446" y="6"/>
                      <a:pt x="12446" y="5"/>
                    </a:cubicBezTo>
                    <a:cubicBezTo>
                      <a:pt x="12446" y="4"/>
                      <a:pt x="12447" y="3"/>
                      <a:pt x="12448" y="3"/>
                    </a:cubicBezTo>
                    <a:close/>
                    <a:moveTo>
                      <a:pt x="12456" y="3"/>
                    </a:moveTo>
                    <a:lnTo>
                      <a:pt x="12456" y="3"/>
                    </a:lnTo>
                    <a:cubicBezTo>
                      <a:pt x="12458" y="3"/>
                      <a:pt x="12458" y="4"/>
                      <a:pt x="12458" y="5"/>
                    </a:cubicBezTo>
                    <a:cubicBezTo>
                      <a:pt x="12458" y="6"/>
                      <a:pt x="12458" y="7"/>
                      <a:pt x="12456" y="7"/>
                    </a:cubicBezTo>
                    <a:lnTo>
                      <a:pt x="12456" y="7"/>
                    </a:lnTo>
                    <a:cubicBezTo>
                      <a:pt x="12455" y="7"/>
                      <a:pt x="12454" y="6"/>
                      <a:pt x="12454" y="5"/>
                    </a:cubicBezTo>
                    <a:cubicBezTo>
                      <a:pt x="12454" y="4"/>
                      <a:pt x="12455" y="3"/>
                      <a:pt x="12456" y="3"/>
                    </a:cubicBezTo>
                    <a:close/>
                    <a:moveTo>
                      <a:pt x="12464" y="3"/>
                    </a:moveTo>
                    <a:lnTo>
                      <a:pt x="12464" y="3"/>
                    </a:lnTo>
                    <a:cubicBezTo>
                      <a:pt x="12466" y="3"/>
                      <a:pt x="12466" y="4"/>
                      <a:pt x="12466" y="5"/>
                    </a:cubicBezTo>
                    <a:cubicBezTo>
                      <a:pt x="12466" y="6"/>
                      <a:pt x="12466" y="7"/>
                      <a:pt x="12464" y="7"/>
                    </a:cubicBezTo>
                    <a:lnTo>
                      <a:pt x="12464" y="7"/>
                    </a:lnTo>
                    <a:cubicBezTo>
                      <a:pt x="12463" y="7"/>
                      <a:pt x="12462" y="6"/>
                      <a:pt x="12462" y="5"/>
                    </a:cubicBezTo>
                    <a:cubicBezTo>
                      <a:pt x="12462" y="4"/>
                      <a:pt x="12463" y="3"/>
                      <a:pt x="12464" y="3"/>
                    </a:cubicBezTo>
                    <a:close/>
                    <a:moveTo>
                      <a:pt x="12472" y="3"/>
                    </a:moveTo>
                    <a:lnTo>
                      <a:pt x="12472" y="3"/>
                    </a:lnTo>
                    <a:cubicBezTo>
                      <a:pt x="12474" y="3"/>
                      <a:pt x="12474" y="4"/>
                      <a:pt x="12474" y="5"/>
                    </a:cubicBezTo>
                    <a:cubicBezTo>
                      <a:pt x="12474" y="6"/>
                      <a:pt x="12474" y="7"/>
                      <a:pt x="12472" y="7"/>
                    </a:cubicBezTo>
                    <a:lnTo>
                      <a:pt x="12472" y="7"/>
                    </a:lnTo>
                    <a:cubicBezTo>
                      <a:pt x="12471" y="7"/>
                      <a:pt x="12470" y="6"/>
                      <a:pt x="12470" y="5"/>
                    </a:cubicBezTo>
                    <a:cubicBezTo>
                      <a:pt x="12470" y="4"/>
                      <a:pt x="12471" y="3"/>
                      <a:pt x="12472" y="3"/>
                    </a:cubicBezTo>
                    <a:close/>
                    <a:moveTo>
                      <a:pt x="12480" y="3"/>
                    </a:moveTo>
                    <a:lnTo>
                      <a:pt x="12480" y="3"/>
                    </a:lnTo>
                    <a:cubicBezTo>
                      <a:pt x="12482" y="3"/>
                      <a:pt x="12482" y="4"/>
                      <a:pt x="12482" y="5"/>
                    </a:cubicBezTo>
                    <a:cubicBezTo>
                      <a:pt x="12482" y="6"/>
                      <a:pt x="12482" y="7"/>
                      <a:pt x="12480" y="7"/>
                    </a:cubicBezTo>
                    <a:lnTo>
                      <a:pt x="12480" y="7"/>
                    </a:lnTo>
                    <a:cubicBezTo>
                      <a:pt x="12479" y="7"/>
                      <a:pt x="12478" y="6"/>
                      <a:pt x="12478" y="5"/>
                    </a:cubicBezTo>
                    <a:cubicBezTo>
                      <a:pt x="12478" y="4"/>
                      <a:pt x="12479" y="3"/>
                      <a:pt x="12480" y="3"/>
                    </a:cubicBezTo>
                    <a:close/>
                    <a:moveTo>
                      <a:pt x="12488" y="3"/>
                    </a:moveTo>
                    <a:lnTo>
                      <a:pt x="12488" y="3"/>
                    </a:lnTo>
                    <a:cubicBezTo>
                      <a:pt x="12490" y="3"/>
                      <a:pt x="12490" y="4"/>
                      <a:pt x="12490" y="5"/>
                    </a:cubicBezTo>
                    <a:cubicBezTo>
                      <a:pt x="12490" y="6"/>
                      <a:pt x="12490" y="7"/>
                      <a:pt x="12488" y="7"/>
                    </a:cubicBezTo>
                    <a:lnTo>
                      <a:pt x="12488" y="7"/>
                    </a:lnTo>
                    <a:cubicBezTo>
                      <a:pt x="12487" y="7"/>
                      <a:pt x="12486" y="6"/>
                      <a:pt x="12486" y="5"/>
                    </a:cubicBezTo>
                    <a:cubicBezTo>
                      <a:pt x="12486" y="4"/>
                      <a:pt x="12487" y="3"/>
                      <a:pt x="12488" y="3"/>
                    </a:cubicBezTo>
                    <a:close/>
                    <a:moveTo>
                      <a:pt x="12496" y="3"/>
                    </a:moveTo>
                    <a:lnTo>
                      <a:pt x="12496" y="3"/>
                    </a:lnTo>
                    <a:cubicBezTo>
                      <a:pt x="12498" y="3"/>
                      <a:pt x="12498" y="4"/>
                      <a:pt x="12498" y="5"/>
                    </a:cubicBezTo>
                    <a:cubicBezTo>
                      <a:pt x="12498" y="6"/>
                      <a:pt x="12498" y="7"/>
                      <a:pt x="12496" y="7"/>
                    </a:cubicBezTo>
                    <a:lnTo>
                      <a:pt x="12496" y="7"/>
                    </a:lnTo>
                    <a:cubicBezTo>
                      <a:pt x="12495" y="7"/>
                      <a:pt x="12494" y="6"/>
                      <a:pt x="12494" y="5"/>
                    </a:cubicBezTo>
                    <a:cubicBezTo>
                      <a:pt x="12494" y="4"/>
                      <a:pt x="12495" y="3"/>
                      <a:pt x="12496" y="3"/>
                    </a:cubicBezTo>
                    <a:close/>
                    <a:moveTo>
                      <a:pt x="12504" y="3"/>
                    </a:moveTo>
                    <a:lnTo>
                      <a:pt x="12504" y="3"/>
                    </a:lnTo>
                    <a:cubicBezTo>
                      <a:pt x="12506" y="3"/>
                      <a:pt x="12506" y="4"/>
                      <a:pt x="12506" y="5"/>
                    </a:cubicBezTo>
                    <a:cubicBezTo>
                      <a:pt x="12506" y="6"/>
                      <a:pt x="12506" y="7"/>
                      <a:pt x="12504" y="7"/>
                    </a:cubicBezTo>
                    <a:lnTo>
                      <a:pt x="12504" y="7"/>
                    </a:lnTo>
                    <a:cubicBezTo>
                      <a:pt x="12503" y="7"/>
                      <a:pt x="12502" y="6"/>
                      <a:pt x="12502" y="5"/>
                    </a:cubicBezTo>
                    <a:cubicBezTo>
                      <a:pt x="12502" y="4"/>
                      <a:pt x="12503" y="3"/>
                      <a:pt x="12504" y="3"/>
                    </a:cubicBezTo>
                    <a:close/>
                    <a:moveTo>
                      <a:pt x="12512" y="3"/>
                    </a:moveTo>
                    <a:lnTo>
                      <a:pt x="12512" y="3"/>
                    </a:lnTo>
                    <a:cubicBezTo>
                      <a:pt x="12514" y="3"/>
                      <a:pt x="12514" y="4"/>
                      <a:pt x="12514" y="5"/>
                    </a:cubicBezTo>
                    <a:cubicBezTo>
                      <a:pt x="12514" y="6"/>
                      <a:pt x="12514" y="7"/>
                      <a:pt x="12512" y="7"/>
                    </a:cubicBezTo>
                    <a:lnTo>
                      <a:pt x="12512" y="7"/>
                    </a:lnTo>
                    <a:cubicBezTo>
                      <a:pt x="12511" y="7"/>
                      <a:pt x="12510" y="6"/>
                      <a:pt x="12510" y="5"/>
                    </a:cubicBezTo>
                    <a:cubicBezTo>
                      <a:pt x="12510" y="4"/>
                      <a:pt x="12511" y="3"/>
                      <a:pt x="12512" y="3"/>
                    </a:cubicBezTo>
                    <a:close/>
                    <a:moveTo>
                      <a:pt x="12520" y="3"/>
                    </a:moveTo>
                    <a:lnTo>
                      <a:pt x="12520" y="3"/>
                    </a:lnTo>
                    <a:cubicBezTo>
                      <a:pt x="12522" y="3"/>
                      <a:pt x="12522" y="4"/>
                      <a:pt x="12522" y="5"/>
                    </a:cubicBezTo>
                    <a:cubicBezTo>
                      <a:pt x="12522" y="6"/>
                      <a:pt x="12522" y="7"/>
                      <a:pt x="12520" y="7"/>
                    </a:cubicBezTo>
                    <a:lnTo>
                      <a:pt x="12520" y="7"/>
                    </a:lnTo>
                    <a:cubicBezTo>
                      <a:pt x="12519" y="7"/>
                      <a:pt x="12518" y="6"/>
                      <a:pt x="12518" y="5"/>
                    </a:cubicBezTo>
                    <a:cubicBezTo>
                      <a:pt x="12518" y="4"/>
                      <a:pt x="12519" y="3"/>
                      <a:pt x="12520" y="3"/>
                    </a:cubicBezTo>
                    <a:close/>
                    <a:moveTo>
                      <a:pt x="12528" y="3"/>
                    </a:moveTo>
                    <a:lnTo>
                      <a:pt x="12528" y="3"/>
                    </a:lnTo>
                    <a:cubicBezTo>
                      <a:pt x="12530" y="3"/>
                      <a:pt x="12530" y="4"/>
                      <a:pt x="12530" y="5"/>
                    </a:cubicBezTo>
                    <a:cubicBezTo>
                      <a:pt x="12530" y="6"/>
                      <a:pt x="12530" y="7"/>
                      <a:pt x="12528" y="7"/>
                    </a:cubicBezTo>
                    <a:lnTo>
                      <a:pt x="12528" y="7"/>
                    </a:lnTo>
                    <a:cubicBezTo>
                      <a:pt x="12527" y="7"/>
                      <a:pt x="12526" y="6"/>
                      <a:pt x="12526" y="5"/>
                    </a:cubicBezTo>
                    <a:cubicBezTo>
                      <a:pt x="12526" y="4"/>
                      <a:pt x="12527" y="3"/>
                      <a:pt x="12528" y="3"/>
                    </a:cubicBezTo>
                    <a:close/>
                    <a:moveTo>
                      <a:pt x="12536" y="3"/>
                    </a:moveTo>
                    <a:lnTo>
                      <a:pt x="12536" y="3"/>
                    </a:lnTo>
                    <a:cubicBezTo>
                      <a:pt x="12538" y="3"/>
                      <a:pt x="12538" y="4"/>
                      <a:pt x="12538" y="5"/>
                    </a:cubicBezTo>
                    <a:cubicBezTo>
                      <a:pt x="12538" y="6"/>
                      <a:pt x="12538" y="7"/>
                      <a:pt x="12536" y="7"/>
                    </a:cubicBezTo>
                    <a:lnTo>
                      <a:pt x="12536" y="7"/>
                    </a:lnTo>
                    <a:cubicBezTo>
                      <a:pt x="12535" y="7"/>
                      <a:pt x="12534" y="6"/>
                      <a:pt x="12534" y="5"/>
                    </a:cubicBezTo>
                    <a:cubicBezTo>
                      <a:pt x="12534" y="4"/>
                      <a:pt x="12535" y="3"/>
                      <a:pt x="12536" y="3"/>
                    </a:cubicBezTo>
                    <a:close/>
                    <a:moveTo>
                      <a:pt x="12544" y="3"/>
                    </a:moveTo>
                    <a:lnTo>
                      <a:pt x="12544" y="3"/>
                    </a:lnTo>
                    <a:cubicBezTo>
                      <a:pt x="12546" y="3"/>
                      <a:pt x="12546" y="4"/>
                      <a:pt x="12546" y="5"/>
                    </a:cubicBezTo>
                    <a:cubicBezTo>
                      <a:pt x="12546" y="6"/>
                      <a:pt x="12546" y="7"/>
                      <a:pt x="12544" y="7"/>
                    </a:cubicBezTo>
                    <a:lnTo>
                      <a:pt x="12544" y="7"/>
                    </a:lnTo>
                    <a:cubicBezTo>
                      <a:pt x="12543" y="7"/>
                      <a:pt x="12542" y="6"/>
                      <a:pt x="12542" y="5"/>
                    </a:cubicBezTo>
                    <a:cubicBezTo>
                      <a:pt x="12542" y="4"/>
                      <a:pt x="12543" y="3"/>
                      <a:pt x="12544" y="3"/>
                    </a:cubicBezTo>
                    <a:close/>
                    <a:moveTo>
                      <a:pt x="12552" y="3"/>
                    </a:moveTo>
                    <a:lnTo>
                      <a:pt x="12552" y="3"/>
                    </a:lnTo>
                    <a:cubicBezTo>
                      <a:pt x="12554" y="3"/>
                      <a:pt x="12554" y="4"/>
                      <a:pt x="12554" y="5"/>
                    </a:cubicBezTo>
                    <a:cubicBezTo>
                      <a:pt x="12554" y="6"/>
                      <a:pt x="12554" y="7"/>
                      <a:pt x="12552" y="7"/>
                    </a:cubicBezTo>
                    <a:lnTo>
                      <a:pt x="12552" y="7"/>
                    </a:lnTo>
                    <a:cubicBezTo>
                      <a:pt x="12551" y="7"/>
                      <a:pt x="12550" y="6"/>
                      <a:pt x="12550" y="5"/>
                    </a:cubicBezTo>
                    <a:cubicBezTo>
                      <a:pt x="12550" y="4"/>
                      <a:pt x="12551" y="3"/>
                      <a:pt x="12552" y="3"/>
                    </a:cubicBezTo>
                    <a:close/>
                    <a:moveTo>
                      <a:pt x="12560" y="3"/>
                    </a:moveTo>
                    <a:lnTo>
                      <a:pt x="12560" y="3"/>
                    </a:lnTo>
                    <a:cubicBezTo>
                      <a:pt x="12562" y="3"/>
                      <a:pt x="12562" y="4"/>
                      <a:pt x="12562" y="5"/>
                    </a:cubicBezTo>
                    <a:cubicBezTo>
                      <a:pt x="12562" y="6"/>
                      <a:pt x="12562" y="7"/>
                      <a:pt x="12560" y="7"/>
                    </a:cubicBezTo>
                    <a:lnTo>
                      <a:pt x="12560" y="7"/>
                    </a:lnTo>
                    <a:cubicBezTo>
                      <a:pt x="12559" y="7"/>
                      <a:pt x="12558" y="6"/>
                      <a:pt x="12558" y="5"/>
                    </a:cubicBezTo>
                    <a:cubicBezTo>
                      <a:pt x="12558" y="4"/>
                      <a:pt x="12559" y="3"/>
                      <a:pt x="12560" y="3"/>
                    </a:cubicBezTo>
                    <a:close/>
                    <a:moveTo>
                      <a:pt x="12568" y="3"/>
                    </a:moveTo>
                    <a:lnTo>
                      <a:pt x="12568" y="3"/>
                    </a:lnTo>
                    <a:cubicBezTo>
                      <a:pt x="12570" y="3"/>
                      <a:pt x="12570" y="4"/>
                      <a:pt x="12570" y="5"/>
                    </a:cubicBezTo>
                    <a:cubicBezTo>
                      <a:pt x="12570" y="6"/>
                      <a:pt x="12570" y="7"/>
                      <a:pt x="12568" y="7"/>
                    </a:cubicBezTo>
                    <a:lnTo>
                      <a:pt x="12568" y="7"/>
                    </a:lnTo>
                    <a:cubicBezTo>
                      <a:pt x="12567" y="7"/>
                      <a:pt x="12566" y="6"/>
                      <a:pt x="12566" y="5"/>
                    </a:cubicBezTo>
                    <a:cubicBezTo>
                      <a:pt x="12566" y="4"/>
                      <a:pt x="12567" y="3"/>
                      <a:pt x="12568" y="3"/>
                    </a:cubicBezTo>
                    <a:close/>
                    <a:moveTo>
                      <a:pt x="12576" y="3"/>
                    </a:moveTo>
                    <a:lnTo>
                      <a:pt x="12576" y="3"/>
                    </a:lnTo>
                    <a:cubicBezTo>
                      <a:pt x="12578" y="3"/>
                      <a:pt x="12578" y="4"/>
                      <a:pt x="12578" y="5"/>
                    </a:cubicBezTo>
                    <a:cubicBezTo>
                      <a:pt x="12578" y="6"/>
                      <a:pt x="12578" y="7"/>
                      <a:pt x="12576" y="7"/>
                    </a:cubicBezTo>
                    <a:lnTo>
                      <a:pt x="12576" y="7"/>
                    </a:lnTo>
                    <a:cubicBezTo>
                      <a:pt x="12575" y="7"/>
                      <a:pt x="12574" y="6"/>
                      <a:pt x="12574" y="5"/>
                    </a:cubicBezTo>
                    <a:cubicBezTo>
                      <a:pt x="12574" y="4"/>
                      <a:pt x="12575" y="3"/>
                      <a:pt x="12576" y="3"/>
                    </a:cubicBezTo>
                    <a:close/>
                    <a:moveTo>
                      <a:pt x="12584" y="3"/>
                    </a:moveTo>
                    <a:lnTo>
                      <a:pt x="12584" y="3"/>
                    </a:lnTo>
                    <a:cubicBezTo>
                      <a:pt x="12586" y="3"/>
                      <a:pt x="12586" y="4"/>
                      <a:pt x="12586" y="5"/>
                    </a:cubicBezTo>
                    <a:cubicBezTo>
                      <a:pt x="12586" y="6"/>
                      <a:pt x="12586" y="7"/>
                      <a:pt x="12584" y="7"/>
                    </a:cubicBezTo>
                    <a:lnTo>
                      <a:pt x="12584" y="7"/>
                    </a:lnTo>
                    <a:cubicBezTo>
                      <a:pt x="12583" y="7"/>
                      <a:pt x="12582" y="6"/>
                      <a:pt x="12582" y="5"/>
                    </a:cubicBezTo>
                    <a:cubicBezTo>
                      <a:pt x="12582" y="4"/>
                      <a:pt x="12583" y="3"/>
                      <a:pt x="12584" y="3"/>
                    </a:cubicBezTo>
                    <a:close/>
                    <a:moveTo>
                      <a:pt x="12592" y="3"/>
                    </a:moveTo>
                    <a:lnTo>
                      <a:pt x="12592" y="3"/>
                    </a:lnTo>
                    <a:cubicBezTo>
                      <a:pt x="12594" y="3"/>
                      <a:pt x="12594" y="4"/>
                      <a:pt x="12594" y="5"/>
                    </a:cubicBezTo>
                    <a:cubicBezTo>
                      <a:pt x="12594" y="6"/>
                      <a:pt x="12594" y="7"/>
                      <a:pt x="12592" y="7"/>
                    </a:cubicBezTo>
                    <a:lnTo>
                      <a:pt x="12592" y="7"/>
                    </a:lnTo>
                    <a:cubicBezTo>
                      <a:pt x="12591" y="7"/>
                      <a:pt x="12590" y="6"/>
                      <a:pt x="12590" y="5"/>
                    </a:cubicBezTo>
                    <a:cubicBezTo>
                      <a:pt x="12590" y="4"/>
                      <a:pt x="12591" y="3"/>
                      <a:pt x="12592" y="3"/>
                    </a:cubicBezTo>
                    <a:close/>
                    <a:moveTo>
                      <a:pt x="12600" y="3"/>
                    </a:moveTo>
                    <a:lnTo>
                      <a:pt x="12601" y="3"/>
                    </a:lnTo>
                    <a:cubicBezTo>
                      <a:pt x="12602" y="3"/>
                      <a:pt x="12603" y="4"/>
                      <a:pt x="12603" y="5"/>
                    </a:cubicBezTo>
                    <a:cubicBezTo>
                      <a:pt x="12603" y="6"/>
                      <a:pt x="12602" y="7"/>
                      <a:pt x="12601" y="7"/>
                    </a:cubicBezTo>
                    <a:lnTo>
                      <a:pt x="12600" y="7"/>
                    </a:lnTo>
                    <a:cubicBezTo>
                      <a:pt x="12599" y="7"/>
                      <a:pt x="12598" y="6"/>
                      <a:pt x="12598" y="5"/>
                    </a:cubicBezTo>
                    <a:cubicBezTo>
                      <a:pt x="12598" y="4"/>
                      <a:pt x="12599" y="3"/>
                      <a:pt x="12600" y="3"/>
                    </a:cubicBezTo>
                    <a:close/>
                    <a:moveTo>
                      <a:pt x="12609" y="3"/>
                    </a:moveTo>
                    <a:lnTo>
                      <a:pt x="12609" y="3"/>
                    </a:lnTo>
                    <a:cubicBezTo>
                      <a:pt x="12610" y="3"/>
                      <a:pt x="12611" y="4"/>
                      <a:pt x="12611" y="5"/>
                    </a:cubicBezTo>
                    <a:cubicBezTo>
                      <a:pt x="12611" y="6"/>
                      <a:pt x="12610" y="7"/>
                      <a:pt x="12609" y="7"/>
                    </a:cubicBezTo>
                    <a:lnTo>
                      <a:pt x="12609" y="7"/>
                    </a:lnTo>
                    <a:cubicBezTo>
                      <a:pt x="12607" y="7"/>
                      <a:pt x="12607" y="6"/>
                      <a:pt x="12607" y="5"/>
                    </a:cubicBezTo>
                    <a:cubicBezTo>
                      <a:pt x="12607" y="4"/>
                      <a:pt x="12607" y="3"/>
                      <a:pt x="12609" y="3"/>
                    </a:cubicBezTo>
                    <a:close/>
                    <a:moveTo>
                      <a:pt x="12617" y="3"/>
                    </a:moveTo>
                    <a:lnTo>
                      <a:pt x="12617" y="3"/>
                    </a:lnTo>
                    <a:cubicBezTo>
                      <a:pt x="12618" y="3"/>
                      <a:pt x="12619" y="4"/>
                      <a:pt x="12619" y="5"/>
                    </a:cubicBezTo>
                    <a:cubicBezTo>
                      <a:pt x="12619" y="6"/>
                      <a:pt x="12618" y="7"/>
                      <a:pt x="12617" y="7"/>
                    </a:cubicBezTo>
                    <a:lnTo>
                      <a:pt x="12617" y="7"/>
                    </a:lnTo>
                    <a:cubicBezTo>
                      <a:pt x="12615" y="7"/>
                      <a:pt x="12615" y="6"/>
                      <a:pt x="12615" y="5"/>
                    </a:cubicBezTo>
                    <a:cubicBezTo>
                      <a:pt x="12615" y="4"/>
                      <a:pt x="12615" y="3"/>
                      <a:pt x="12617" y="3"/>
                    </a:cubicBezTo>
                    <a:close/>
                    <a:moveTo>
                      <a:pt x="12625" y="3"/>
                    </a:moveTo>
                    <a:lnTo>
                      <a:pt x="12625" y="3"/>
                    </a:lnTo>
                    <a:cubicBezTo>
                      <a:pt x="12626" y="3"/>
                      <a:pt x="12627" y="4"/>
                      <a:pt x="12627" y="5"/>
                    </a:cubicBezTo>
                    <a:cubicBezTo>
                      <a:pt x="12627" y="6"/>
                      <a:pt x="12626" y="7"/>
                      <a:pt x="12625" y="7"/>
                    </a:cubicBezTo>
                    <a:lnTo>
                      <a:pt x="12625" y="7"/>
                    </a:lnTo>
                    <a:cubicBezTo>
                      <a:pt x="12623" y="7"/>
                      <a:pt x="12623" y="6"/>
                      <a:pt x="12623" y="5"/>
                    </a:cubicBezTo>
                    <a:cubicBezTo>
                      <a:pt x="12623" y="4"/>
                      <a:pt x="12623" y="3"/>
                      <a:pt x="12625" y="3"/>
                    </a:cubicBezTo>
                    <a:close/>
                    <a:moveTo>
                      <a:pt x="12633" y="3"/>
                    </a:moveTo>
                    <a:lnTo>
                      <a:pt x="12633" y="3"/>
                    </a:lnTo>
                    <a:cubicBezTo>
                      <a:pt x="12634" y="3"/>
                      <a:pt x="12635" y="4"/>
                      <a:pt x="12635" y="5"/>
                    </a:cubicBezTo>
                    <a:cubicBezTo>
                      <a:pt x="12635" y="6"/>
                      <a:pt x="12634" y="7"/>
                      <a:pt x="12633" y="7"/>
                    </a:cubicBezTo>
                    <a:lnTo>
                      <a:pt x="12633" y="7"/>
                    </a:lnTo>
                    <a:cubicBezTo>
                      <a:pt x="12631" y="7"/>
                      <a:pt x="12631" y="6"/>
                      <a:pt x="12631" y="5"/>
                    </a:cubicBezTo>
                    <a:cubicBezTo>
                      <a:pt x="12631" y="4"/>
                      <a:pt x="12631" y="3"/>
                      <a:pt x="12633" y="3"/>
                    </a:cubicBezTo>
                    <a:close/>
                    <a:moveTo>
                      <a:pt x="12641" y="3"/>
                    </a:moveTo>
                    <a:lnTo>
                      <a:pt x="12641" y="3"/>
                    </a:lnTo>
                    <a:cubicBezTo>
                      <a:pt x="12642" y="3"/>
                      <a:pt x="12643" y="4"/>
                      <a:pt x="12643" y="5"/>
                    </a:cubicBezTo>
                    <a:cubicBezTo>
                      <a:pt x="12643" y="6"/>
                      <a:pt x="12642" y="7"/>
                      <a:pt x="12641" y="7"/>
                    </a:cubicBezTo>
                    <a:lnTo>
                      <a:pt x="12641" y="7"/>
                    </a:lnTo>
                    <a:cubicBezTo>
                      <a:pt x="12639" y="7"/>
                      <a:pt x="12639" y="6"/>
                      <a:pt x="12639" y="5"/>
                    </a:cubicBezTo>
                    <a:cubicBezTo>
                      <a:pt x="12639" y="4"/>
                      <a:pt x="12639" y="3"/>
                      <a:pt x="12641" y="3"/>
                    </a:cubicBezTo>
                    <a:close/>
                    <a:moveTo>
                      <a:pt x="12649" y="3"/>
                    </a:moveTo>
                    <a:lnTo>
                      <a:pt x="12649" y="3"/>
                    </a:lnTo>
                    <a:cubicBezTo>
                      <a:pt x="12650" y="3"/>
                      <a:pt x="12651" y="4"/>
                      <a:pt x="12651" y="5"/>
                    </a:cubicBezTo>
                    <a:cubicBezTo>
                      <a:pt x="12651" y="6"/>
                      <a:pt x="12650" y="7"/>
                      <a:pt x="12649" y="7"/>
                    </a:cubicBezTo>
                    <a:lnTo>
                      <a:pt x="12649" y="7"/>
                    </a:lnTo>
                    <a:cubicBezTo>
                      <a:pt x="12647" y="7"/>
                      <a:pt x="12647" y="6"/>
                      <a:pt x="12647" y="5"/>
                    </a:cubicBezTo>
                    <a:cubicBezTo>
                      <a:pt x="12647" y="4"/>
                      <a:pt x="12647" y="3"/>
                      <a:pt x="12649" y="3"/>
                    </a:cubicBezTo>
                    <a:close/>
                    <a:moveTo>
                      <a:pt x="12657" y="3"/>
                    </a:moveTo>
                    <a:lnTo>
                      <a:pt x="12657" y="3"/>
                    </a:lnTo>
                    <a:cubicBezTo>
                      <a:pt x="12658" y="3"/>
                      <a:pt x="12659" y="4"/>
                      <a:pt x="12659" y="5"/>
                    </a:cubicBezTo>
                    <a:cubicBezTo>
                      <a:pt x="12659" y="6"/>
                      <a:pt x="12658" y="7"/>
                      <a:pt x="12657" y="7"/>
                    </a:cubicBezTo>
                    <a:lnTo>
                      <a:pt x="12657" y="7"/>
                    </a:lnTo>
                    <a:cubicBezTo>
                      <a:pt x="12655" y="7"/>
                      <a:pt x="12655" y="6"/>
                      <a:pt x="12655" y="5"/>
                    </a:cubicBezTo>
                    <a:cubicBezTo>
                      <a:pt x="12655" y="4"/>
                      <a:pt x="12655" y="3"/>
                      <a:pt x="12657" y="3"/>
                    </a:cubicBezTo>
                    <a:close/>
                    <a:moveTo>
                      <a:pt x="12665" y="3"/>
                    </a:moveTo>
                    <a:lnTo>
                      <a:pt x="12665" y="3"/>
                    </a:lnTo>
                    <a:cubicBezTo>
                      <a:pt x="12666" y="3"/>
                      <a:pt x="12667" y="4"/>
                      <a:pt x="12667" y="5"/>
                    </a:cubicBezTo>
                    <a:cubicBezTo>
                      <a:pt x="12667" y="6"/>
                      <a:pt x="12666" y="7"/>
                      <a:pt x="12665" y="7"/>
                    </a:cubicBezTo>
                    <a:lnTo>
                      <a:pt x="12665" y="7"/>
                    </a:lnTo>
                    <a:cubicBezTo>
                      <a:pt x="12663" y="7"/>
                      <a:pt x="12663" y="6"/>
                      <a:pt x="12663" y="5"/>
                    </a:cubicBezTo>
                    <a:cubicBezTo>
                      <a:pt x="12663" y="4"/>
                      <a:pt x="12663" y="3"/>
                      <a:pt x="12665" y="3"/>
                    </a:cubicBezTo>
                    <a:close/>
                    <a:moveTo>
                      <a:pt x="12673" y="3"/>
                    </a:moveTo>
                    <a:lnTo>
                      <a:pt x="12673" y="3"/>
                    </a:lnTo>
                    <a:cubicBezTo>
                      <a:pt x="12674" y="3"/>
                      <a:pt x="12675" y="4"/>
                      <a:pt x="12675" y="5"/>
                    </a:cubicBezTo>
                    <a:cubicBezTo>
                      <a:pt x="12675" y="6"/>
                      <a:pt x="12674" y="7"/>
                      <a:pt x="12673" y="7"/>
                    </a:cubicBezTo>
                    <a:lnTo>
                      <a:pt x="12673" y="7"/>
                    </a:lnTo>
                    <a:cubicBezTo>
                      <a:pt x="12671" y="7"/>
                      <a:pt x="12671" y="6"/>
                      <a:pt x="12671" y="5"/>
                    </a:cubicBezTo>
                    <a:cubicBezTo>
                      <a:pt x="12671" y="4"/>
                      <a:pt x="12671" y="3"/>
                      <a:pt x="12673" y="3"/>
                    </a:cubicBezTo>
                    <a:close/>
                    <a:moveTo>
                      <a:pt x="12681" y="3"/>
                    </a:moveTo>
                    <a:lnTo>
                      <a:pt x="12681" y="3"/>
                    </a:lnTo>
                    <a:cubicBezTo>
                      <a:pt x="12682" y="3"/>
                      <a:pt x="12683" y="4"/>
                      <a:pt x="12683" y="5"/>
                    </a:cubicBezTo>
                    <a:cubicBezTo>
                      <a:pt x="12683" y="6"/>
                      <a:pt x="12682" y="7"/>
                      <a:pt x="12681" y="7"/>
                    </a:cubicBezTo>
                    <a:lnTo>
                      <a:pt x="12681" y="7"/>
                    </a:lnTo>
                    <a:cubicBezTo>
                      <a:pt x="12679" y="7"/>
                      <a:pt x="12679" y="6"/>
                      <a:pt x="12679" y="5"/>
                    </a:cubicBezTo>
                    <a:cubicBezTo>
                      <a:pt x="12679" y="4"/>
                      <a:pt x="12679" y="3"/>
                      <a:pt x="12681" y="3"/>
                    </a:cubicBezTo>
                    <a:close/>
                    <a:moveTo>
                      <a:pt x="12689" y="3"/>
                    </a:moveTo>
                    <a:lnTo>
                      <a:pt x="12689" y="3"/>
                    </a:lnTo>
                    <a:cubicBezTo>
                      <a:pt x="12690" y="3"/>
                      <a:pt x="12691" y="4"/>
                      <a:pt x="12691" y="5"/>
                    </a:cubicBezTo>
                    <a:cubicBezTo>
                      <a:pt x="12691" y="6"/>
                      <a:pt x="12690" y="7"/>
                      <a:pt x="12689" y="7"/>
                    </a:cubicBezTo>
                    <a:lnTo>
                      <a:pt x="12689" y="7"/>
                    </a:lnTo>
                    <a:cubicBezTo>
                      <a:pt x="12687" y="7"/>
                      <a:pt x="12687" y="6"/>
                      <a:pt x="12687" y="5"/>
                    </a:cubicBezTo>
                    <a:cubicBezTo>
                      <a:pt x="12687" y="4"/>
                      <a:pt x="12687" y="3"/>
                      <a:pt x="12689" y="3"/>
                    </a:cubicBezTo>
                    <a:close/>
                    <a:moveTo>
                      <a:pt x="12697" y="3"/>
                    </a:moveTo>
                    <a:lnTo>
                      <a:pt x="12697" y="3"/>
                    </a:lnTo>
                    <a:cubicBezTo>
                      <a:pt x="12698" y="3"/>
                      <a:pt x="12699" y="4"/>
                      <a:pt x="12699" y="5"/>
                    </a:cubicBezTo>
                    <a:cubicBezTo>
                      <a:pt x="12699" y="6"/>
                      <a:pt x="12698" y="7"/>
                      <a:pt x="12697" y="7"/>
                    </a:cubicBezTo>
                    <a:lnTo>
                      <a:pt x="12697" y="7"/>
                    </a:lnTo>
                    <a:cubicBezTo>
                      <a:pt x="12695" y="7"/>
                      <a:pt x="12695" y="6"/>
                      <a:pt x="12695" y="5"/>
                    </a:cubicBezTo>
                    <a:cubicBezTo>
                      <a:pt x="12695" y="4"/>
                      <a:pt x="12695" y="3"/>
                      <a:pt x="12697" y="3"/>
                    </a:cubicBezTo>
                    <a:close/>
                    <a:moveTo>
                      <a:pt x="12705" y="3"/>
                    </a:moveTo>
                    <a:lnTo>
                      <a:pt x="12705" y="3"/>
                    </a:lnTo>
                    <a:cubicBezTo>
                      <a:pt x="12706" y="3"/>
                      <a:pt x="12707" y="4"/>
                      <a:pt x="12707" y="5"/>
                    </a:cubicBezTo>
                    <a:cubicBezTo>
                      <a:pt x="12707" y="6"/>
                      <a:pt x="12706" y="7"/>
                      <a:pt x="12705" y="7"/>
                    </a:cubicBezTo>
                    <a:lnTo>
                      <a:pt x="12705" y="7"/>
                    </a:lnTo>
                    <a:cubicBezTo>
                      <a:pt x="12703" y="7"/>
                      <a:pt x="12703" y="6"/>
                      <a:pt x="12703" y="5"/>
                    </a:cubicBezTo>
                    <a:cubicBezTo>
                      <a:pt x="12703" y="4"/>
                      <a:pt x="12703" y="3"/>
                      <a:pt x="12705" y="3"/>
                    </a:cubicBezTo>
                    <a:close/>
                    <a:moveTo>
                      <a:pt x="12713" y="3"/>
                    </a:moveTo>
                    <a:lnTo>
                      <a:pt x="12713" y="3"/>
                    </a:lnTo>
                    <a:cubicBezTo>
                      <a:pt x="12714" y="3"/>
                      <a:pt x="12715" y="4"/>
                      <a:pt x="12715" y="5"/>
                    </a:cubicBezTo>
                    <a:cubicBezTo>
                      <a:pt x="12715" y="6"/>
                      <a:pt x="12714" y="7"/>
                      <a:pt x="12713" y="7"/>
                    </a:cubicBezTo>
                    <a:lnTo>
                      <a:pt x="12713" y="7"/>
                    </a:lnTo>
                    <a:cubicBezTo>
                      <a:pt x="12711" y="7"/>
                      <a:pt x="12711" y="6"/>
                      <a:pt x="12711" y="5"/>
                    </a:cubicBezTo>
                    <a:cubicBezTo>
                      <a:pt x="12711" y="4"/>
                      <a:pt x="12711" y="3"/>
                      <a:pt x="12713" y="3"/>
                    </a:cubicBezTo>
                    <a:close/>
                    <a:moveTo>
                      <a:pt x="12721" y="3"/>
                    </a:moveTo>
                    <a:lnTo>
                      <a:pt x="12721" y="3"/>
                    </a:lnTo>
                    <a:cubicBezTo>
                      <a:pt x="12722" y="3"/>
                      <a:pt x="12723" y="4"/>
                      <a:pt x="12723" y="5"/>
                    </a:cubicBezTo>
                    <a:cubicBezTo>
                      <a:pt x="12723" y="6"/>
                      <a:pt x="12722" y="7"/>
                      <a:pt x="12721" y="7"/>
                    </a:cubicBezTo>
                    <a:lnTo>
                      <a:pt x="12721" y="7"/>
                    </a:lnTo>
                    <a:cubicBezTo>
                      <a:pt x="12719" y="7"/>
                      <a:pt x="12719" y="6"/>
                      <a:pt x="12719" y="5"/>
                    </a:cubicBezTo>
                    <a:cubicBezTo>
                      <a:pt x="12719" y="4"/>
                      <a:pt x="12719" y="3"/>
                      <a:pt x="12721" y="3"/>
                    </a:cubicBezTo>
                    <a:close/>
                    <a:moveTo>
                      <a:pt x="12729" y="3"/>
                    </a:moveTo>
                    <a:lnTo>
                      <a:pt x="12729" y="3"/>
                    </a:lnTo>
                    <a:cubicBezTo>
                      <a:pt x="12730" y="3"/>
                      <a:pt x="12731" y="4"/>
                      <a:pt x="12731" y="5"/>
                    </a:cubicBezTo>
                    <a:cubicBezTo>
                      <a:pt x="12731" y="6"/>
                      <a:pt x="12730" y="7"/>
                      <a:pt x="12729" y="7"/>
                    </a:cubicBezTo>
                    <a:lnTo>
                      <a:pt x="12729" y="7"/>
                    </a:lnTo>
                    <a:cubicBezTo>
                      <a:pt x="12727" y="7"/>
                      <a:pt x="12727" y="6"/>
                      <a:pt x="12727" y="5"/>
                    </a:cubicBezTo>
                    <a:cubicBezTo>
                      <a:pt x="12727" y="4"/>
                      <a:pt x="12727" y="3"/>
                      <a:pt x="12729" y="3"/>
                    </a:cubicBezTo>
                    <a:close/>
                    <a:moveTo>
                      <a:pt x="12737" y="3"/>
                    </a:moveTo>
                    <a:lnTo>
                      <a:pt x="12737" y="3"/>
                    </a:lnTo>
                    <a:cubicBezTo>
                      <a:pt x="12738" y="3"/>
                      <a:pt x="12739" y="4"/>
                      <a:pt x="12739" y="5"/>
                    </a:cubicBezTo>
                    <a:cubicBezTo>
                      <a:pt x="12739" y="6"/>
                      <a:pt x="12738" y="7"/>
                      <a:pt x="12737" y="7"/>
                    </a:cubicBezTo>
                    <a:lnTo>
                      <a:pt x="12737" y="7"/>
                    </a:lnTo>
                    <a:cubicBezTo>
                      <a:pt x="12735" y="7"/>
                      <a:pt x="12735" y="6"/>
                      <a:pt x="12735" y="5"/>
                    </a:cubicBezTo>
                    <a:cubicBezTo>
                      <a:pt x="12735" y="4"/>
                      <a:pt x="12735" y="3"/>
                      <a:pt x="12737" y="3"/>
                    </a:cubicBezTo>
                    <a:close/>
                    <a:moveTo>
                      <a:pt x="12745" y="3"/>
                    </a:moveTo>
                    <a:lnTo>
                      <a:pt x="12745" y="3"/>
                    </a:lnTo>
                    <a:cubicBezTo>
                      <a:pt x="12746" y="3"/>
                      <a:pt x="12747" y="4"/>
                      <a:pt x="12747" y="5"/>
                    </a:cubicBezTo>
                    <a:cubicBezTo>
                      <a:pt x="12747" y="6"/>
                      <a:pt x="12746" y="7"/>
                      <a:pt x="12745" y="7"/>
                    </a:cubicBezTo>
                    <a:lnTo>
                      <a:pt x="12745" y="7"/>
                    </a:lnTo>
                    <a:cubicBezTo>
                      <a:pt x="12743" y="7"/>
                      <a:pt x="12743" y="6"/>
                      <a:pt x="12743" y="5"/>
                    </a:cubicBezTo>
                    <a:cubicBezTo>
                      <a:pt x="12743" y="4"/>
                      <a:pt x="12743" y="3"/>
                      <a:pt x="12745" y="3"/>
                    </a:cubicBezTo>
                    <a:close/>
                    <a:moveTo>
                      <a:pt x="12753" y="3"/>
                    </a:moveTo>
                    <a:lnTo>
                      <a:pt x="12753" y="3"/>
                    </a:lnTo>
                    <a:cubicBezTo>
                      <a:pt x="12754" y="3"/>
                      <a:pt x="12755" y="4"/>
                      <a:pt x="12755" y="5"/>
                    </a:cubicBezTo>
                    <a:cubicBezTo>
                      <a:pt x="12755" y="6"/>
                      <a:pt x="12754" y="7"/>
                      <a:pt x="12753" y="7"/>
                    </a:cubicBezTo>
                    <a:lnTo>
                      <a:pt x="12753" y="7"/>
                    </a:lnTo>
                    <a:cubicBezTo>
                      <a:pt x="12751" y="7"/>
                      <a:pt x="12751" y="6"/>
                      <a:pt x="12751" y="5"/>
                    </a:cubicBezTo>
                    <a:cubicBezTo>
                      <a:pt x="12751" y="4"/>
                      <a:pt x="12751" y="3"/>
                      <a:pt x="12753" y="3"/>
                    </a:cubicBezTo>
                    <a:close/>
                    <a:moveTo>
                      <a:pt x="12761" y="3"/>
                    </a:moveTo>
                    <a:lnTo>
                      <a:pt x="12761" y="3"/>
                    </a:lnTo>
                    <a:cubicBezTo>
                      <a:pt x="12762" y="3"/>
                      <a:pt x="12763" y="4"/>
                      <a:pt x="12763" y="5"/>
                    </a:cubicBezTo>
                    <a:cubicBezTo>
                      <a:pt x="12763" y="6"/>
                      <a:pt x="12762" y="7"/>
                      <a:pt x="12761" y="7"/>
                    </a:cubicBezTo>
                    <a:lnTo>
                      <a:pt x="12761" y="7"/>
                    </a:lnTo>
                    <a:cubicBezTo>
                      <a:pt x="12759" y="7"/>
                      <a:pt x="12759" y="6"/>
                      <a:pt x="12759" y="5"/>
                    </a:cubicBezTo>
                    <a:cubicBezTo>
                      <a:pt x="12759" y="4"/>
                      <a:pt x="12759" y="3"/>
                      <a:pt x="12761" y="3"/>
                    </a:cubicBezTo>
                    <a:close/>
                    <a:moveTo>
                      <a:pt x="12769" y="3"/>
                    </a:moveTo>
                    <a:lnTo>
                      <a:pt x="12769" y="3"/>
                    </a:lnTo>
                    <a:cubicBezTo>
                      <a:pt x="12770" y="3"/>
                      <a:pt x="12771" y="4"/>
                      <a:pt x="12771" y="5"/>
                    </a:cubicBezTo>
                    <a:cubicBezTo>
                      <a:pt x="12771" y="6"/>
                      <a:pt x="12770" y="7"/>
                      <a:pt x="12769" y="7"/>
                    </a:cubicBezTo>
                    <a:lnTo>
                      <a:pt x="12769" y="7"/>
                    </a:lnTo>
                    <a:cubicBezTo>
                      <a:pt x="12767" y="7"/>
                      <a:pt x="12767" y="6"/>
                      <a:pt x="12767" y="5"/>
                    </a:cubicBezTo>
                    <a:cubicBezTo>
                      <a:pt x="12767" y="4"/>
                      <a:pt x="12767" y="3"/>
                      <a:pt x="12769" y="3"/>
                    </a:cubicBezTo>
                    <a:close/>
                    <a:moveTo>
                      <a:pt x="12777" y="3"/>
                    </a:moveTo>
                    <a:lnTo>
                      <a:pt x="12777" y="3"/>
                    </a:lnTo>
                    <a:cubicBezTo>
                      <a:pt x="12778" y="3"/>
                      <a:pt x="12779" y="4"/>
                      <a:pt x="12779" y="5"/>
                    </a:cubicBezTo>
                    <a:cubicBezTo>
                      <a:pt x="12779" y="6"/>
                      <a:pt x="12778" y="7"/>
                      <a:pt x="12777" y="7"/>
                    </a:cubicBezTo>
                    <a:lnTo>
                      <a:pt x="12777" y="7"/>
                    </a:lnTo>
                    <a:cubicBezTo>
                      <a:pt x="12776" y="7"/>
                      <a:pt x="12775" y="6"/>
                      <a:pt x="12775" y="5"/>
                    </a:cubicBezTo>
                    <a:cubicBezTo>
                      <a:pt x="12775" y="4"/>
                      <a:pt x="12776" y="3"/>
                      <a:pt x="12777" y="3"/>
                    </a:cubicBezTo>
                    <a:close/>
                    <a:moveTo>
                      <a:pt x="12785" y="3"/>
                    </a:moveTo>
                    <a:lnTo>
                      <a:pt x="12785" y="3"/>
                    </a:lnTo>
                    <a:cubicBezTo>
                      <a:pt x="12786" y="3"/>
                      <a:pt x="12787" y="4"/>
                      <a:pt x="12787" y="5"/>
                    </a:cubicBezTo>
                    <a:cubicBezTo>
                      <a:pt x="12787" y="6"/>
                      <a:pt x="12786" y="7"/>
                      <a:pt x="12785" y="7"/>
                    </a:cubicBezTo>
                    <a:lnTo>
                      <a:pt x="12785" y="7"/>
                    </a:lnTo>
                    <a:cubicBezTo>
                      <a:pt x="12784" y="7"/>
                      <a:pt x="12783" y="6"/>
                      <a:pt x="12783" y="5"/>
                    </a:cubicBezTo>
                    <a:cubicBezTo>
                      <a:pt x="12783" y="4"/>
                      <a:pt x="12784" y="3"/>
                      <a:pt x="12785" y="3"/>
                    </a:cubicBezTo>
                    <a:close/>
                    <a:moveTo>
                      <a:pt x="12793" y="3"/>
                    </a:moveTo>
                    <a:lnTo>
                      <a:pt x="12793" y="3"/>
                    </a:lnTo>
                    <a:cubicBezTo>
                      <a:pt x="12794" y="3"/>
                      <a:pt x="12795" y="4"/>
                      <a:pt x="12795" y="5"/>
                    </a:cubicBezTo>
                    <a:cubicBezTo>
                      <a:pt x="12795" y="6"/>
                      <a:pt x="12794" y="7"/>
                      <a:pt x="12793" y="7"/>
                    </a:cubicBezTo>
                    <a:lnTo>
                      <a:pt x="12793" y="7"/>
                    </a:lnTo>
                    <a:cubicBezTo>
                      <a:pt x="12792" y="7"/>
                      <a:pt x="12791" y="6"/>
                      <a:pt x="12791" y="5"/>
                    </a:cubicBezTo>
                    <a:cubicBezTo>
                      <a:pt x="12791" y="4"/>
                      <a:pt x="12792" y="3"/>
                      <a:pt x="12793" y="3"/>
                    </a:cubicBezTo>
                    <a:close/>
                    <a:moveTo>
                      <a:pt x="12801" y="3"/>
                    </a:moveTo>
                    <a:lnTo>
                      <a:pt x="12801" y="3"/>
                    </a:lnTo>
                    <a:cubicBezTo>
                      <a:pt x="12802" y="3"/>
                      <a:pt x="12803" y="4"/>
                      <a:pt x="12803" y="5"/>
                    </a:cubicBezTo>
                    <a:cubicBezTo>
                      <a:pt x="12803" y="6"/>
                      <a:pt x="12802" y="7"/>
                      <a:pt x="12801" y="7"/>
                    </a:cubicBezTo>
                    <a:lnTo>
                      <a:pt x="12801" y="7"/>
                    </a:lnTo>
                    <a:cubicBezTo>
                      <a:pt x="12800" y="7"/>
                      <a:pt x="12799" y="6"/>
                      <a:pt x="12799" y="5"/>
                    </a:cubicBezTo>
                    <a:cubicBezTo>
                      <a:pt x="12799" y="4"/>
                      <a:pt x="12800" y="3"/>
                      <a:pt x="12801" y="3"/>
                    </a:cubicBezTo>
                    <a:close/>
                    <a:moveTo>
                      <a:pt x="12809" y="3"/>
                    </a:moveTo>
                    <a:lnTo>
                      <a:pt x="12809" y="3"/>
                    </a:lnTo>
                    <a:cubicBezTo>
                      <a:pt x="12810" y="3"/>
                      <a:pt x="12811" y="4"/>
                      <a:pt x="12811" y="5"/>
                    </a:cubicBezTo>
                    <a:cubicBezTo>
                      <a:pt x="12811" y="6"/>
                      <a:pt x="12810" y="7"/>
                      <a:pt x="12809" y="7"/>
                    </a:cubicBezTo>
                    <a:lnTo>
                      <a:pt x="12809" y="7"/>
                    </a:lnTo>
                    <a:cubicBezTo>
                      <a:pt x="12808" y="7"/>
                      <a:pt x="12807" y="6"/>
                      <a:pt x="12807" y="5"/>
                    </a:cubicBezTo>
                    <a:cubicBezTo>
                      <a:pt x="12807" y="4"/>
                      <a:pt x="12808" y="3"/>
                      <a:pt x="12809" y="3"/>
                    </a:cubicBezTo>
                    <a:close/>
                    <a:moveTo>
                      <a:pt x="12817" y="3"/>
                    </a:moveTo>
                    <a:lnTo>
                      <a:pt x="12817" y="3"/>
                    </a:lnTo>
                    <a:cubicBezTo>
                      <a:pt x="12818" y="3"/>
                      <a:pt x="12819" y="4"/>
                      <a:pt x="12819" y="5"/>
                    </a:cubicBezTo>
                    <a:cubicBezTo>
                      <a:pt x="12819" y="6"/>
                      <a:pt x="12818" y="7"/>
                      <a:pt x="12817" y="7"/>
                    </a:cubicBezTo>
                    <a:lnTo>
                      <a:pt x="12817" y="7"/>
                    </a:lnTo>
                    <a:cubicBezTo>
                      <a:pt x="12816" y="7"/>
                      <a:pt x="12815" y="6"/>
                      <a:pt x="12815" y="5"/>
                    </a:cubicBezTo>
                    <a:cubicBezTo>
                      <a:pt x="12815" y="4"/>
                      <a:pt x="12816" y="3"/>
                      <a:pt x="12817" y="3"/>
                    </a:cubicBezTo>
                    <a:close/>
                    <a:moveTo>
                      <a:pt x="12825" y="3"/>
                    </a:moveTo>
                    <a:lnTo>
                      <a:pt x="12825" y="3"/>
                    </a:lnTo>
                    <a:cubicBezTo>
                      <a:pt x="12826" y="3"/>
                      <a:pt x="12827" y="4"/>
                      <a:pt x="12827" y="5"/>
                    </a:cubicBezTo>
                    <a:cubicBezTo>
                      <a:pt x="12827" y="6"/>
                      <a:pt x="12826" y="7"/>
                      <a:pt x="12825" y="7"/>
                    </a:cubicBezTo>
                    <a:lnTo>
                      <a:pt x="12825" y="7"/>
                    </a:lnTo>
                    <a:cubicBezTo>
                      <a:pt x="12824" y="7"/>
                      <a:pt x="12823" y="6"/>
                      <a:pt x="12823" y="5"/>
                    </a:cubicBezTo>
                    <a:cubicBezTo>
                      <a:pt x="12823" y="4"/>
                      <a:pt x="12824" y="3"/>
                      <a:pt x="12825" y="3"/>
                    </a:cubicBezTo>
                    <a:close/>
                    <a:moveTo>
                      <a:pt x="12833" y="3"/>
                    </a:moveTo>
                    <a:lnTo>
                      <a:pt x="12833" y="3"/>
                    </a:lnTo>
                    <a:cubicBezTo>
                      <a:pt x="12834" y="3"/>
                      <a:pt x="12835" y="4"/>
                      <a:pt x="12835" y="5"/>
                    </a:cubicBezTo>
                    <a:cubicBezTo>
                      <a:pt x="12835" y="6"/>
                      <a:pt x="12834" y="7"/>
                      <a:pt x="12833" y="7"/>
                    </a:cubicBezTo>
                    <a:lnTo>
                      <a:pt x="12833" y="7"/>
                    </a:lnTo>
                    <a:cubicBezTo>
                      <a:pt x="12832" y="7"/>
                      <a:pt x="12831" y="6"/>
                      <a:pt x="12831" y="5"/>
                    </a:cubicBezTo>
                    <a:cubicBezTo>
                      <a:pt x="12831" y="4"/>
                      <a:pt x="12832" y="3"/>
                      <a:pt x="12833" y="3"/>
                    </a:cubicBezTo>
                    <a:close/>
                    <a:moveTo>
                      <a:pt x="12841" y="3"/>
                    </a:moveTo>
                    <a:lnTo>
                      <a:pt x="12841" y="3"/>
                    </a:lnTo>
                    <a:cubicBezTo>
                      <a:pt x="12842" y="3"/>
                      <a:pt x="12843" y="4"/>
                      <a:pt x="12843" y="5"/>
                    </a:cubicBezTo>
                    <a:cubicBezTo>
                      <a:pt x="12843" y="6"/>
                      <a:pt x="12842" y="7"/>
                      <a:pt x="12841" y="7"/>
                    </a:cubicBezTo>
                    <a:lnTo>
                      <a:pt x="12841" y="7"/>
                    </a:lnTo>
                    <a:cubicBezTo>
                      <a:pt x="12840" y="7"/>
                      <a:pt x="12839" y="6"/>
                      <a:pt x="12839" y="5"/>
                    </a:cubicBezTo>
                    <a:cubicBezTo>
                      <a:pt x="12839" y="4"/>
                      <a:pt x="12840" y="3"/>
                      <a:pt x="12841" y="3"/>
                    </a:cubicBezTo>
                    <a:close/>
                    <a:moveTo>
                      <a:pt x="12849" y="3"/>
                    </a:moveTo>
                    <a:lnTo>
                      <a:pt x="12849" y="3"/>
                    </a:lnTo>
                    <a:cubicBezTo>
                      <a:pt x="12850" y="3"/>
                      <a:pt x="12851" y="4"/>
                      <a:pt x="12851" y="5"/>
                    </a:cubicBezTo>
                    <a:cubicBezTo>
                      <a:pt x="12851" y="6"/>
                      <a:pt x="12850" y="7"/>
                      <a:pt x="12849" y="7"/>
                    </a:cubicBezTo>
                    <a:lnTo>
                      <a:pt x="12849" y="7"/>
                    </a:lnTo>
                    <a:cubicBezTo>
                      <a:pt x="12848" y="7"/>
                      <a:pt x="12847" y="6"/>
                      <a:pt x="12847" y="5"/>
                    </a:cubicBezTo>
                    <a:cubicBezTo>
                      <a:pt x="12847" y="4"/>
                      <a:pt x="12848" y="3"/>
                      <a:pt x="12849" y="3"/>
                    </a:cubicBezTo>
                    <a:close/>
                    <a:moveTo>
                      <a:pt x="12857" y="3"/>
                    </a:moveTo>
                    <a:lnTo>
                      <a:pt x="12857" y="3"/>
                    </a:lnTo>
                    <a:cubicBezTo>
                      <a:pt x="12858" y="3"/>
                      <a:pt x="12859" y="4"/>
                      <a:pt x="12859" y="5"/>
                    </a:cubicBezTo>
                    <a:cubicBezTo>
                      <a:pt x="12859" y="6"/>
                      <a:pt x="12858" y="7"/>
                      <a:pt x="12857" y="7"/>
                    </a:cubicBezTo>
                    <a:lnTo>
                      <a:pt x="12857" y="7"/>
                    </a:lnTo>
                    <a:cubicBezTo>
                      <a:pt x="12856" y="7"/>
                      <a:pt x="12855" y="6"/>
                      <a:pt x="12855" y="5"/>
                    </a:cubicBezTo>
                    <a:cubicBezTo>
                      <a:pt x="12855" y="4"/>
                      <a:pt x="12856" y="3"/>
                      <a:pt x="12857" y="3"/>
                    </a:cubicBezTo>
                    <a:close/>
                    <a:moveTo>
                      <a:pt x="12865" y="3"/>
                    </a:moveTo>
                    <a:lnTo>
                      <a:pt x="12865" y="3"/>
                    </a:lnTo>
                    <a:cubicBezTo>
                      <a:pt x="12866" y="3"/>
                      <a:pt x="12867" y="4"/>
                      <a:pt x="12867" y="5"/>
                    </a:cubicBezTo>
                    <a:cubicBezTo>
                      <a:pt x="12867" y="6"/>
                      <a:pt x="12866" y="7"/>
                      <a:pt x="12865" y="7"/>
                    </a:cubicBezTo>
                    <a:lnTo>
                      <a:pt x="12865" y="7"/>
                    </a:lnTo>
                    <a:cubicBezTo>
                      <a:pt x="12864" y="7"/>
                      <a:pt x="12863" y="6"/>
                      <a:pt x="12863" y="5"/>
                    </a:cubicBezTo>
                    <a:cubicBezTo>
                      <a:pt x="12863" y="4"/>
                      <a:pt x="12864" y="3"/>
                      <a:pt x="12865" y="3"/>
                    </a:cubicBezTo>
                    <a:close/>
                    <a:moveTo>
                      <a:pt x="12873" y="3"/>
                    </a:moveTo>
                    <a:lnTo>
                      <a:pt x="12873" y="3"/>
                    </a:lnTo>
                    <a:cubicBezTo>
                      <a:pt x="12874" y="3"/>
                      <a:pt x="12875" y="4"/>
                      <a:pt x="12875" y="5"/>
                    </a:cubicBezTo>
                    <a:cubicBezTo>
                      <a:pt x="12875" y="6"/>
                      <a:pt x="12874" y="7"/>
                      <a:pt x="12873" y="7"/>
                    </a:cubicBezTo>
                    <a:lnTo>
                      <a:pt x="12873" y="7"/>
                    </a:lnTo>
                    <a:cubicBezTo>
                      <a:pt x="12872" y="7"/>
                      <a:pt x="12871" y="6"/>
                      <a:pt x="12871" y="5"/>
                    </a:cubicBezTo>
                    <a:cubicBezTo>
                      <a:pt x="12871" y="4"/>
                      <a:pt x="12872" y="3"/>
                      <a:pt x="12873" y="3"/>
                    </a:cubicBezTo>
                    <a:close/>
                    <a:moveTo>
                      <a:pt x="12881" y="3"/>
                    </a:moveTo>
                    <a:lnTo>
                      <a:pt x="12881" y="3"/>
                    </a:lnTo>
                    <a:cubicBezTo>
                      <a:pt x="12882" y="3"/>
                      <a:pt x="12883" y="4"/>
                      <a:pt x="12883" y="5"/>
                    </a:cubicBezTo>
                    <a:cubicBezTo>
                      <a:pt x="12883" y="6"/>
                      <a:pt x="12882" y="7"/>
                      <a:pt x="12881" y="7"/>
                    </a:cubicBezTo>
                    <a:lnTo>
                      <a:pt x="12881" y="7"/>
                    </a:lnTo>
                    <a:cubicBezTo>
                      <a:pt x="12880" y="7"/>
                      <a:pt x="12879" y="6"/>
                      <a:pt x="12879" y="5"/>
                    </a:cubicBezTo>
                    <a:cubicBezTo>
                      <a:pt x="12879" y="4"/>
                      <a:pt x="12880" y="3"/>
                      <a:pt x="12881" y="3"/>
                    </a:cubicBezTo>
                    <a:close/>
                    <a:moveTo>
                      <a:pt x="12889" y="3"/>
                    </a:moveTo>
                    <a:lnTo>
                      <a:pt x="12889" y="3"/>
                    </a:lnTo>
                    <a:cubicBezTo>
                      <a:pt x="12890" y="3"/>
                      <a:pt x="12891" y="4"/>
                      <a:pt x="12891" y="5"/>
                    </a:cubicBezTo>
                    <a:cubicBezTo>
                      <a:pt x="12891" y="6"/>
                      <a:pt x="12890" y="7"/>
                      <a:pt x="12889" y="7"/>
                    </a:cubicBezTo>
                    <a:lnTo>
                      <a:pt x="12889" y="7"/>
                    </a:lnTo>
                    <a:cubicBezTo>
                      <a:pt x="12888" y="7"/>
                      <a:pt x="12887" y="6"/>
                      <a:pt x="12887" y="5"/>
                    </a:cubicBezTo>
                    <a:cubicBezTo>
                      <a:pt x="12887" y="4"/>
                      <a:pt x="12888" y="3"/>
                      <a:pt x="12889" y="3"/>
                    </a:cubicBezTo>
                    <a:close/>
                    <a:moveTo>
                      <a:pt x="12897" y="3"/>
                    </a:moveTo>
                    <a:lnTo>
                      <a:pt x="12897" y="3"/>
                    </a:lnTo>
                    <a:cubicBezTo>
                      <a:pt x="12898" y="3"/>
                      <a:pt x="12899" y="4"/>
                      <a:pt x="12899" y="5"/>
                    </a:cubicBezTo>
                    <a:cubicBezTo>
                      <a:pt x="12899" y="6"/>
                      <a:pt x="12898" y="7"/>
                      <a:pt x="12897" y="7"/>
                    </a:cubicBezTo>
                    <a:lnTo>
                      <a:pt x="12897" y="7"/>
                    </a:lnTo>
                    <a:cubicBezTo>
                      <a:pt x="12896" y="7"/>
                      <a:pt x="12895" y="6"/>
                      <a:pt x="12895" y="5"/>
                    </a:cubicBezTo>
                    <a:cubicBezTo>
                      <a:pt x="12895" y="4"/>
                      <a:pt x="12896" y="3"/>
                      <a:pt x="12897" y="3"/>
                    </a:cubicBezTo>
                    <a:close/>
                    <a:moveTo>
                      <a:pt x="12905" y="3"/>
                    </a:moveTo>
                    <a:lnTo>
                      <a:pt x="12905" y="3"/>
                    </a:lnTo>
                    <a:cubicBezTo>
                      <a:pt x="12906" y="3"/>
                      <a:pt x="12907" y="4"/>
                      <a:pt x="12907" y="5"/>
                    </a:cubicBezTo>
                    <a:cubicBezTo>
                      <a:pt x="12907" y="6"/>
                      <a:pt x="12906" y="7"/>
                      <a:pt x="12905" y="7"/>
                    </a:cubicBezTo>
                    <a:lnTo>
                      <a:pt x="12905" y="7"/>
                    </a:lnTo>
                    <a:cubicBezTo>
                      <a:pt x="12904" y="7"/>
                      <a:pt x="12903" y="6"/>
                      <a:pt x="12903" y="5"/>
                    </a:cubicBezTo>
                    <a:cubicBezTo>
                      <a:pt x="12903" y="4"/>
                      <a:pt x="12904" y="3"/>
                      <a:pt x="12905" y="3"/>
                    </a:cubicBezTo>
                    <a:close/>
                    <a:moveTo>
                      <a:pt x="12913" y="3"/>
                    </a:moveTo>
                    <a:lnTo>
                      <a:pt x="12913" y="3"/>
                    </a:lnTo>
                    <a:cubicBezTo>
                      <a:pt x="12914" y="3"/>
                      <a:pt x="12915" y="4"/>
                      <a:pt x="12915" y="5"/>
                    </a:cubicBezTo>
                    <a:cubicBezTo>
                      <a:pt x="12915" y="6"/>
                      <a:pt x="12914" y="7"/>
                      <a:pt x="12913" y="7"/>
                    </a:cubicBezTo>
                    <a:lnTo>
                      <a:pt x="12913" y="7"/>
                    </a:lnTo>
                    <a:cubicBezTo>
                      <a:pt x="12912" y="7"/>
                      <a:pt x="12911" y="6"/>
                      <a:pt x="12911" y="5"/>
                    </a:cubicBezTo>
                    <a:cubicBezTo>
                      <a:pt x="12911" y="4"/>
                      <a:pt x="12912" y="3"/>
                      <a:pt x="12913" y="3"/>
                    </a:cubicBezTo>
                    <a:close/>
                    <a:moveTo>
                      <a:pt x="12921" y="3"/>
                    </a:moveTo>
                    <a:lnTo>
                      <a:pt x="12921" y="3"/>
                    </a:lnTo>
                    <a:cubicBezTo>
                      <a:pt x="12922" y="3"/>
                      <a:pt x="12923" y="4"/>
                      <a:pt x="12923" y="5"/>
                    </a:cubicBezTo>
                    <a:cubicBezTo>
                      <a:pt x="12923" y="6"/>
                      <a:pt x="12922" y="7"/>
                      <a:pt x="12921" y="7"/>
                    </a:cubicBezTo>
                    <a:lnTo>
                      <a:pt x="12921" y="7"/>
                    </a:lnTo>
                    <a:cubicBezTo>
                      <a:pt x="12920" y="7"/>
                      <a:pt x="12919" y="6"/>
                      <a:pt x="12919" y="5"/>
                    </a:cubicBezTo>
                    <a:cubicBezTo>
                      <a:pt x="12919" y="4"/>
                      <a:pt x="12920" y="3"/>
                      <a:pt x="12921" y="3"/>
                    </a:cubicBezTo>
                    <a:close/>
                    <a:moveTo>
                      <a:pt x="12929" y="3"/>
                    </a:moveTo>
                    <a:lnTo>
                      <a:pt x="12929" y="3"/>
                    </a:lnTo>
                    <a:cubicBezTo>
                      <a:pt x="12930" y="3"/>
                      <a:pt x="12931" y="4"/>
                      <a:pt x="12931" y="5"/>
                    </a:cubicBezTo>
                    <a:cubicBezTo>
                      <a:pt x="12931" y="6"/>
                      <a:pt x="12930" y="7"/>
                      <a:pt x="12929" y="7"/>
                    </a:cubicBezTo>
                    <a:lnTo>
                      <a:pt x="12929" y="7"/>
                    </a:lnTo>
                    <a:cubicBezTo>
                      <a:pt x="12928" y="7"/>
                      <a:pt x="12927" y="6"/>
                      <a:pt x="12927" y="5"/>
                    </a:cubicBezTo>
                    <a:cubicBezTo>
                      <a:pt x="12927" y="4"/>
                      <a:pt x="12928" y="3"/>
                      <a:pt x="12929" y="3"/>
                    </a:cubicBezTo>
                    <a:close/>
                    <a:moveTo>
                      <a:pt x="12937" y="3"/>
                    </a:moveTo>
                    <a:lnTo>
                      <a:pt x="12937" y="3"/>
                    </a:lnTo>
                    <a:cubicBezTo>
                      <a:pt x="12938" y="3"/>
                      <a:pt x="12939" y="4"/>
                      <a:pt x="12939" y="5"/>
                    </a:cubicBezTo>
                    <a:cubicBezTo>
                      <a:pt x="12939" y="6"/>
                      <a:pt x="12938" y="7"/>
                      <a:pt x="12937" y="7"/>
                    </a:cubicBezTo>
                    <a:lnTo>
                      <a:pt x="12937" y="7"/>
                    </a:lnTo>
                    <a:cubicBezTo>
                      <a:pt x="12936" y="7"/>
                      <a:pt x="12935" y="6"/>
                      <a:pt x="12935" y="5"/>
                    </a:cubicBezTo>
                    <a:cubicBezTo>
                      <a:pt x="12935" y="4"/>
                      <a:pt x="12936" y="3"/>
                      <a:pt x="12937" y="3"/>
                    </a:cubicBezTo>
                    <a:close/>
                    <a:moveTo>
                      <a:pt x="12945" y="3"/>
                    </a:moveTo>
                    <a:lnTo>
                      <a:pt x="12945" y="3"/>
                    </a:lnTo>
                    <a:cubicBezTo>
                      <a:pt x="12946" y="3"/>
                      <a:pt x="12947" y="4"/>
                      <a:pt x="12947" y="5"/>
                    </a:cubicBezTo>
                    <a:cubicBezTo>
                      <a:pt x="12947" y="6"/>
                      <a:pt x="12946" y="7"/>
                      <a:pt x="12945" y="7"/>
                    </a:cubicBezTo>
                    <a:lnTo>
                      <a:pt x="12945" y="7"/>
                    </a:lnTo>
                    <a:cubicBezTo>
                      <a:pt x="12944" y="7"/>
                      <a:pt x="12943" y="6"/>
                      <a:pt x="12943" y="5"/>
                    </a:cubicBezTo>
                    <a:cubicBezTo>
                      <a:pt x="12943" y="4"/>
                      <a:pt x="12944" y="3"/>
                      <a:pt x="12945" y="3"/>
                    </a:cubicBezTo>
                    <a:close/>
                    <a:moveTo>
                      <a:pt x="12953" y="3"/>
                    </a:moveTo>
                    <a:lnTo>
                      <a:pt x="12953" y="3"/>
                    </a:lnTo>
                    <a:cubicBezTo>
                      <a:pt x="12954" y="3"/>
                      <a:pt x="12955" y="4"/>
                      <a:pt x="12955" y="5"/>
                    </a:cubicBezTo>
                    <a:cubicBezTo>
                      <a:pt x="12955" y="6"/>
                      <a:pt x="12954" y="7"/>
                      <a:pt x="12953" y="7"/>
                    </a:cubicBezTo>
                    <a:lnTo>
                      <a:pt x="12953" y="7"/>
                    </a:lnTo>
                    <a:cubicBezTo>
                      <a:pt x="12952" y="7"/>
                      <a:pt x="12951" y="6"/>
                      <a:pt x="12951" y="5"/>
                    </a:cubicBezTo>
                    <a:cubicBezTo>
                      <a:pt x="12951" y="4"/>
                      <a:pt x="12952" y="3"/>
                      <a:pt x="12953" y="3"/>
                    </a:cubicBezTo>
                    <a:close/>
                    <a:moveTo>
                      <a:pt x="12961" y="3"/>
                    </a:moveTo>
                    <a:lnTo>
                      <a:pt x="12961" y="3"/>
                    </a:lnTo>
                    <a:cubicBezTo>
                      <a:pt x="12962" y="3"/>
                      <a:pt x="12963" y="4"/>
                      <a:pt x="12963" y="5"/>
                    </a:cubicBezTo>
                    <a:cubicBezTo>
                      <a:pt x="12963" y="6"/>
                      <a:pt x="12962" y="7"/>
                      <a:pt x="12961" y="7"/>
                    </a:cubicBezTo>
                    <a:lnTo>
                      <a:pt x="12961" y="7"/>
                    </a:lnTo>
                    <a:cubicBezTo>
                      <a:pt x="12960" y="7"/>
                      <a:pt x="12959" y="6"/>
                      <a:pt x="12959" y="5"/>
                    </a:cubicBezTo>
                    <a:cubicBezTo>
                      <a:pt x="12959" y="4"/>
                      <a:pt x="12960" y="3"/>
                      <a:pt x="12961" y="3"/>
                    </a:cubicBezTo>
                    <a:close/>
                    <a:moveTo>
                      <a:pt x="12969" y="3"/>
                    </a:moveTo>
                    <a:lnTo>
                      <a:pt x="12969" y="3"/>
                    </a:lnTo>
                    <a:cubicBezTo>
                      <a:pt x="12970" y="3"/>
                      <a:pt x="12971" y="4"/>
                      <a:pt x="12971" y="5"/>
                    </a:cubicBezTo>
                    <a:cubicBezTo>
                      <a:pt x="12971" y="6"/>
                      <a:pt x="12970" y="7"/>
                      <a:pt x="12969" y="7"/>
                    </a:cubicBezTo>
                    <a:lnTo>
                      <a:pt x="12969" y="7"/>
                    </a:lnTo>
                    <a:cubicBezTo>
                      <a:pt x="12968" y="7"/>
                      <a:pt x="12967" y="6"/>
                      <a:pt x="12967" y="5"/>
                    </a:cubicBezTo>
                    <a:cubicBezTo>
                      <a:pt x="12967" y="4"/>
                      <a:pt x="12968" y="3"/>
                      <a:pt x="12969" y="3"/>
                    </a:cubicBezTo>
                    <a:close/>
                    <a:moveTo>
                      <a:pt x="12977" y="3"/>
                    </a:moveTo>
                    <a:lnTo>
                      <a:pt x="12977" y="3"/>
                    </a:lnTo>
                    <a:cubicBezTo>
                      <a:pt x="12978" y="3"/>
                      <a:pt x="12979" y="4"/>
                      <a:pt x="12979" y="5"/>
                    </a:cubicBezTo>
                    <a:cubicBezTo>
                      <a:pt x="12979" y="6"/>
                      <a:pt x="12978" y="7"/>
                      <a:pt x="12977" y="7"/>
                    </a:cubicBezTo>
                    <a:lnTo>
                      <a:pt x="12977" y="7"/>
                    </a:lnTo>
                    <a:cubicBezTo>
                      <a:pt x="12976" y="7"/>
                      <a:pt x="12975" y="6"/>
                      <a:pt x="12975" y="5"/>
                    </a:cubicBezTo>
                    <a:cubicBezTo>
                      <a:pt x="12975" y="4"/>
                      <a:pt x="12976" y="3"/>
                      <a:pt x="12977" y="3"/>
                    </a:cubicBezTo>
                    <a:close/>
                    <a:moveTo>
                      <a:pt x="12985" y="3"/>
                    </a:moveTo>
                    <a:lnTo>
                      <a:pt x="12985" y="3"/>
                    </a:lnTo>
                    <a:cubicBezTo>
                      <a:pt x="12986" y="3"/>
                      <a:pt x="12987" y="4"/>
                      <a:pt x="12987" y="5"/>
                    </a:cubicBezTo>
                    <a:cubicBezTo>
                      <a:pt x="12987" y="6"/>
                      <a:pt x="12986" y="7"/>
                      <a:pt x="12985" y="7"/>
                    </a:cubicBezTo>
                    <a:lnTo>
                      <a:pt x="12985" y="7"/>
                    </a:lnTo>
                    <a:cubicBezTo>
                      <a:pt x="12984" y="7"/>
                      <a:pt x="12983" y="6"/>
                      <a:pt x="12983" y="5"/>
                    </a:cubicBezTo>
                    <a:cubicBezTo>
                      <a:pt x="12983" y="4"/>
                      <a:pt x="12984" y="3"/>
                      <a:pt x="12985" y="3"/>
                    </a:cubicBezTo>
                    <a:close/>
                    <a:moveTo>
                      <a:pt x="12993" y="3"/>
                    </a:moveTo>
                    <a:lnTo>
                      <a:pt x="12993" y="3"/>
                    </a:lnTo>
                    <a:cubicBezTo>
                      <a:pt x="12994" y="3"/>
                      <a:pt x="12995" y="4"/>
                      <a:pt x="12995" y="5"/>
                    </a:cubicBezTo>
                    <a:cubicBezTo>
                      <a:pt x="12995" y="6"/>
                      <a:pt x="12994" y="7"/>
                      <a:pt x="12993" y="7"/>
                    </a:cubicBezTo>
                    <a:lnTo>
                      <a:pt x="12993" y="7"/>
                    </a:lnTo>
                    <a:cubicBezTo>
                      <a:pt x="12992" y="7"/>
                      <a:pt x="12991" y="6"/>
                      <a:pt x="12991" y="5"/>
                    </a:cubicBezTo>
                    <a:cubicBezTo>
                      <a:pt x="12991" y="4"/>
                      <a:pt x="12992" y="3"/>
                      <a:pt x="12993" y="3"/>
                    </a:cubicBezTo>
                    <a:close/>
                    <a:moveTo>
                      <a:pt x="13001" y="3"/>
                    </a:moveTo>
                    <a:lnTo>
                      <a:pt x="13001" y="3"/>
                    </a:lnTo>
                    <a:cubicBezTo>
                      <a:pt x="13002" y="3"/>
                      <a:pt x="13003" y="4"/>
                      <a:pt x="13003" y="5"/>
                    </a:cubicBezTo>
                    <a:cubicBezTo>
                      <a:pt x="13003" y="6"/>
                      <a:pt x="13002" y="7"/>
                      <a:pt x="13001" y="7"/>
                    </a:cubicBezTo>
                    <a:lnTo>
                      <a:pt x="13001" y="7"/>
                    </a:lnTo>
                    <a:cubicBezTo>
                      <a:pt x="13000" y="7"/>
                      <a:pt x="12999" y="6"/>
                      <a:pt x="12999" y="5"/>
                    </a:cubicBezTo>
                    <a:cubicBezTo>
                      <a:pt x="12999" y="4"/>
                      <a:pt x="13000" y="3"/>
                      <a:pt x="13001" y="3"/>
                    </a:cubicBezTo>
                    <a:close/>
                    <a:moveTo>
                      <a:pt x="13009" y="3"/>
                    </a:moveTo>
                    <a:lnTo>
                      <a:pt x="13009" y="3"/>
                    </a:lnTo>
                    <a:cubicBezTo>
                      <a:pt x="13010" y="3"/>
                      <a:pt x="13011" y="4"/>
                      <a:pt x="13011" y="5"/>
                    </a:cubicBezTo>
                    <a:cubicBezTo>
                      <a:pt x="13011" y="6"/>
                      <a:pt x="13010" y="7"/>
                      <a:pt x="13009" y="7"/>
                    </a:cubicBezTo>
                    <a:lnTo>
                      <a:pt x="13009" y="7"/>
                    </a:lnTo>
                    <a:cubicBezTo>
                      <a:pt x="13008" y="7"/>
                      <a:pt x="13007" y="6"/>
                      <a:pt x="13007" y="5"/>
                    </a:cubicBezTo>
                    <a:cubicBezTo>
                      <a:pt x="13007" y="4"/>
                      <a:pt x="13008" y="3"/>
                      <a:pt x="13009" y="3"/>
                    </a:cubicBezTo>
                    <a:close/>
                    <a:moveTo>
                      <a:pt x="13017" y="3"/>
                    </a:moveTo>
                    <a:lnTo>
                      <a:pt x="13017" y="3"/>
                    </a:lnTo>
                    <a:cubicBezTo>
                      <a:pt x="13018" y="3"/>
                      <a:pt x="13019" y="4"/>
                      <a:pt x="13019" y="5"/>
                    </a:cubicBezTo>
                    <a:cubicBezTo>
                      <a:pt x="13019" y="6"/>
                      <a:pt x="13018" y="7"/>
                      <a:pt x="13017" y="7"/>
                    </a:cubicBezTo>
                    <a:lnTo>
                      <a:pt x="13017" y="7"/>
                    </a:lnTo>
                    <a:cubicBezTo>
                      <a:pt x="13016" y="7"/>
                      <a:pt x="13015" y="6"/>
                      <a:pt x="13015" y="5"/>
                    </a:cubicBezTo>
                    <a:cubicBezTo>
                      <a:pt x="13015" y="4"/>
                      <a:pt x="13016" y="3"/>
                      <a:pt x="13017" y="3"/>
                    </a:cubicBezTo>
                    <a:close/>
                    <a:moveTo>
                      <a:pt x="13025" y="3"/>
                    </a:moveTo>
                    <a:lnTo>
                      <a:pt x="13025" y="3"/>
                    </a:lnTo>
                    <a:cubicBezTo>
                      <a:pt x="13026" y="3"/>
                      <a:pt x="13027" y="4"/>
                      <a:pt x="13027" y="5"/>
                    </a:cubicBezTo>
                    <a:cubicBezTo>
                      <a:pt x="13027" y="6"/>
                      <a:pt x="13026" y="7"/>
                      <a:pt x="13025" y="7"/>
                    </a:cubicBezTo>
                    <a:lnTo>
                      <a:pt x="13025" y="7"/>
                    </a:lnTo>
                    <a:cubicBezTo>
                      <a:pt x="13024" y="7"/>
                      <a:pt x="13023" y="6"/>
                      <a:pt x="13023" y="5"/>
                    </a:cubicBezTo>
                    <a:cubicBezTo>
                      <a:pt x="13023" y="4"/>
                      <a:pt x="13024" y="3"/>
                      <a:pt x="13025" y="3"/>
                    </a:cubicBezTo>
                    <a:close/>
                    <a:moveTo>
                      <a:pt x="13033" y="3"/>
                    </a:moveTo>
                    <a:lnTo>
                      <a:pt x="13033" y="3"/>
                    </a:lnTo>
                    <a:cubicBezTo>
                      <a:pt x="13034" y="3"/>
                      <a:pt x="13035" y="4"/>
                      <a:pt x="13035" y="5"/>
                    </a:cubicBezTo>
                    <a:cubicBezTo>
                      <a:pt x="13035" y="6"/>
                      <a:pt x="13034" y="7"/>
                      <a:pt x="13033" y="7"/>
                    </a:cubicBezTo>
                    <a:lnTo>
                      <a:pt x="13033" y="7"/>
                    </a:lnTo>
                    <a:cubicBezTo>
                      <a:pt x="13032" y="7"/>
                      <a:pt x="13031" y="6"/>
                      <a:pt x="13031" y="5"/>
                    </a:cubicBezTo>
                    <a:cubicBezTo>
                      <a:pt x="13031" y="4"/>
                      <a:pt x="13032" y="3"/>
                      <a:pt x="13033" y="3"/>
                    </a:cubicBezTo>
                    <a:close/>
                    <a:moveTo>
                      <a:pt x="13041" y="3"/>
                    </a:moveTo>
                    <a:lnTo>
                      <a:pt x="13041" y="3"/>
                    </a:lnTo>
                    <a:cubicBezTo>
                      <a:pt x="13042" y="3"/>
                      <a:pt x="13043" y="4"/>
                      <a:pt x="13043" y="5"/>
                    </a:cubicBezTo>
                    <a:cubicBezTo>
                      <a:pt x="13043" y="6"/>
                      <a:pt x="13042" y="7"/>
                      <a:pt x="13041" y="7"/>
                    </a:cubicBezTo>
                    <a:lnTo>
                      <a:pt x="13041" y="7"/>
                    </a:lnTo>
                    <a:cubicBezTo>
                      <a:pt x="13040" y="7"/>
                      <a:pt x="13039" y="6"/>
                      <a:pt x="13039" y="5"/>
                    </a:cubicBezTo>
                    <a:cubicBezTo>
                      <a:pt x="13039" y="4"/>
                      <a:pt x="13040" y="3"/>
                      <a:pt x="13041" y="3"/>
                    </a:cubicBezTo>
                    <a:close/>
                    <a:moveTo>
                      <a:pt x="13049" y="3"/>
                    </a:moveTo>
                    <a:lnTo>
                      <a:pt x="13049" y="3"/>
                    </a:lnTo>
                    <a:cubicBezTo>
                      <a:pt x="13050" y="3"/>
                      <a:pt x="13051" y="4"/>
                      <a:pt x="13051" y="5"/>
                    </a:cubicBezTo>
                    <a:cubicBezTo>
                      <a:pt x="13051" y="6"/>
                      <a:pt x="13050" y="7"/>
                      <a:pt x="13049" y="7"/>
                    </a:cubicBezTo>
                    <a:lnTo>
                      <a:pt x="13049" y="7"/>
                    </a:lnTo>
                    <a:cubicBezTo>
                      <a:pt x="13048" y="7"/>
                      <a:pt x="13047" y="6"/>
                      <a:pt x="13047" y="5"/>
                    </a:cubicBezTo>
                    <a:cubicBezTo>
                      <a:pt x="13047" y="4"/>
                      <a:pt x="13048" y="3"/>
                      <a:pt x="13049" y="3"/>
                    </a:cubicBezTo>
                    <a:close/>
                    <a:moveTo>
                      <a:pt x="13057" y="3"/>
                    </a:moveTo>
                    <a:lnTo>
                      <a:pt x="13057" y="3"/>
                    </a:lnTo>
                    <a:cubicBezTo>
                      <a:pt x="13058" y="3"/>
                      <a:pt x="13059" y="4"/>
                      <a:pt x="13059" y="5"/>
                    </a:cubicBezTo>
                    <a:cubicBezTo>
                      <a:pt x="13059" y="6"/>
                      <a:pt x="13058" y="7"/>
                      <a:pt x="13057" y="7"/>
                    </a:cubicBezTo>
                    <a:lnTo>
                      <a:pt x="13057" y="7"/>
                    </a:lnTo>
                    <a:cubicBezTo>
                      <a:pt x="13056" y="7"/>
                      <a:pt x="13055" y="6"/>
                      <a:pt x="13055" y="5"/>
                    </a:cubicBezTo>
                    <a:cubicBezTo>
                      <a:pt x="13055" y="4"/>
                      <a:pt x="13056" y="3"/>
                      <a:pt x="13057" y="3"/>
                    </a:cubicBezTo>
                    <a:close/>
                    <a:moveTo>
                      <a:pt x="13065" y="3"/>
                    </a:moveTo>
                    <a:lnTo>
                      <a:pt x="13065" y="3"/>
                    </a:lnTo>
                    <a:cubicBezTo>
                      <a:pt x="13066" y="3"/>
                      <a:pt x="13067" y="4"/>
                      <a:pt x="13067" y="5"/>
                    </a:cubicBezTo>
                    <a:cubicBezTo>
                      <a:pt x="13067" y="6"/>
                      <a:pt x="13066" y="7"/>
                      <a:pt x="13065" y="7"/>
                    </a:cubicBezTo>
                    <a:lnTo>
                      <a:pt x="13065" y="7"/>
                    </a:lnTo>
                    <a:cubicBezTo>
                      <a:pt x="13064" y="7"/>
                      <a:pt x="13063" y="6"/>
                      <a:pt x="13063" y="5"/>
                    </a:cubicBezTo>
                    <a:cubicBezTo>
                      <a:pt x="13063" y="4"/>
                      <a:pt x="13064" y="3"/>
                      <a:pt x="13065" y="3"/>
                    </a:cubicBezTo>
                    <a:close/>
                    <a:moveTo>
                      <a:pt x="13073" y="3"/>
                    </a:moveTo>
                    <a:lnTo>
                      <a:pt x="13073" y="3"/>
                    </a:lnTo>
                    <a:cubicBezTo>
                      <a:pt x="13074" y="3"/>
                      <a:pt x="13075" y="4"/>
                      <a:pt x="13075" y="5"/>
                    </a:cubicBezTo>
                    <a:cubicBezTo>
                      <a:pt x="13075" y="6"/>
                      <a:pt x="13074" y="7"/>
                      <a:pt x="13073" y="7"/>
                    </a:cubicBezTo>
                    <a:lnTo>
                      <a:pt x="13073" y="7"/>
                    </a:lnTo>
                    <a:cubicBezTo>
                      <a:pt x="13072" y="7"/>
                      <a:pt x="13071" y="6"/>
                      <a:pt x="13071" y="5"/>
                    </a:cubicBezTo>
                    <a:cubicBezTo>
                      <a:pt x="13071" y="4"/>
                      <a:pt x="13072" y="3"/>
                      <a:pt x="13073" y="3"/>
                    </a:cubicBezTo>
                    <a:close/>
                    <a:moveTo>
                      <a:pt x="13081" y="3"/>
                    </a:moveTo>
                    <a:lnTo>
                      <a:pt x="13081" y="3"/>
                    </a:lnTo>
                    <a:cubicBezTo>
                      <a:pt x="13082" y="3"/>
                      <a:pt x="13083" y="4"/>
                      <a:pt x="13083" y="5"/>
                    </a:cubicBezTo>
                    <a:cubicBezTo>
                      <a:pt x="13083" y="6"/>
                      <a:pt x="13082" y="7"/>
                      <a:pt x="13081" y="7"/>
                    </a:cubicBezTo>
                    <a:lnTo>
                      <a:pt x="13081" y="7"/>
                    </a:lnTo>
                    <a:cubicBezTo>
                      <a:pt x="13080" y="7"/>
                      <a:pt x="13079" y="6"/>
                      <a:pt x="13079" y="5"/>
                    </a:cubicBezTo>
                    <a:cubicBezTo>
                      <a:pt x="13079" y="4"/>
                      <a:pt x="13080" y="3"/>
                      <a:pt x="13081" y="3"/>
                    </a:cubicBezTo>
                    <a:close/>
                    <a:moveTo>
                      <a:pt x="13089" y="3"/>
                    </a:moveTo>
                    <a:lnTo>
                      <a:pt x="13089" y="3"/>
                    </a:lnTo>
                    <a:cubicBezTo>
                      <a:pt x="13090" y="3"/>
                      <a:pt x="13091" y="4"/>
                      <a:pt x="13091" y="5"/>
                    </a:cubicBezTo>
                    <a:cubicBezTo>
                      <a:pt x="13091" y="6"/>
                      <a:pt x="13090" y="7"/>
                      <a:pt x="13089" y="7"/>
                    </a:cubicBezTo>
                    <a:lnTo>
                      <a:pt x="13089" y="7"/>
                    </a:lnTo>
                    <a:cubicBezTo>
                      <a:pt x="13088" y="7"/>
                      <a:pt x="13087" y="6"/>
                      <a:pt x="13087" y="5"/>
                    </a:cubicBezTo>
                    <a:cubicBezTo>
                      <a:pt x="13087" y="4"/>
                      <a:pt x="13088" y="3"/>
                      <a:pt x="13089" y="3"/>
                    </a:cubicBezTo>
                    <a:close/>
                    <a:moveTo>
                      <a:pt x="13097" y="3"/>
                    </a:moveTo>
                    <a:lnTo>
                      <a:pt x="13097" y="3"/>
                    </a:lnTo>
                    <a:cubicBezTo>
                      <a:pt x="13098" y="3"/>
                      <a:pt x="13099" y="4"/>
                      <a:pt x="13099" y="5"/>
                    </a:cubicBezTo>
                    <a:cubicBezTo>
                      <a:pt x="13099" y="6"/>
                      <a:pt x="13098" y="7"/>
                      <a:pt x="13097" y="7"/>
                    </a:cubicBezTo>
                    <a:lnTo>
                      <a:pt x="13097" y="7"/>
                    </a:lnTo>
                    <a:cubicBezTo>
                      <a:pt x="13096" y="7"/>
                      <a:pt x="13095" y="6"/>
                      <a:pt x="13095" y="5"/>
                    </a:cubicBezTo>
                    <a:cubicBezTo>
                      <a:pt x="13095" y="4"/>
                      <a:pt x="13096" y="3"/>
                      <a:pt x="13097" y="3"/>
                    </a:cubicBezTo>
                    <a:close/>
                    <a:moveTo>
                      <a:pt x="13105" y="3"/>
                    </a:moveTo>
                    <a:lnTo>
                      <a:pt x="13105" y="3"/>
                    </a:lnTo>
                    <a:cubicBezTo>
                      <a:pt x="13106" y="3"/>
                      <a:pt x="13107" y="4"/>
                      <a:pt x="13107" y="5"/>
                    </a:cubicBezTo>
                    <a:cubicBezTo>
                      <a:pt x="13107" y="6"/>
                      <a:pt x="13106" y="7"/>
                      <a:pt x="13105" y="7"/>
                    </a:cubicBezTo>
                    <a:lnTo>
                      <a:pt x="13105" y="7"/>
                    </a:lnTo>
                    <a:cubicBezTo>
                      <a:pt x="13104" y="7"/>
                      <a:pt x="13103" y="6"/>
                      <a:pt x="13103" y="5"/>
                    </a:cubicBezTo>
                    <a:cubicBezTo>
                      <a:pt x="13103" y="4"/>
                      <a:pt x="13104" y="3"/>
                      <a:pt x="13105" y="3"/>
                    </a:cubicBezTo>
                    <a:close/>
                    <a:moveTo>
                      <a:pt x="13113" y="3"/>
                    </a:moveTo>
                    <a:lnTo>
                      <a:pt x="13113" y="3"/>
                    </a:lnTo>
                    <a:cubicBezTo>
                      <a:pt x="13114" y="3"/>
                      <a:pt x="13115" y="4"/>
                      <a:pt x="13115" y="5"/>
                    </a:cubicBezTo>
                    <a:cubicBezTo>
                      <a:pt x="13115" y="6"/>
                      <a:pt x="13114" y="7"/>
                      <a:pt x="13113" y="7"/>
                    </a:cubicBezTo>
                    <a:lnTo>
                      <a:pt x="13113" y="7"/>
                    </a:lnTo>
                    <a:cubicBezTo>
                      <a:pt x="13112" y="7"/>
                      <a:pt x="13111" y="6"/>
                      <a:pt x="13111" y="5"/>
                    </a:cubicBezTo>
                    <a:cubicBezTo>
                      <a:pt x="13111" y="4"/>
                      <a:pt x="13112" y="3"/>
                      <a:pt x="13113" y="3"/>
                    </a:cubicBezTo>
                    <a:close/>
                    <a:moveTo>
                      <a:pt x="13121" y="3"/>
                    </a:moveTo>
                    <a:lnTo>
                      <a:pt x="13121" y="3"/>
                    </a:lnTo>
                    <a:cubicBezTo>
                      <a:pt x="13122" y="3"/>
                      <a:pt x="13123" y="4"/>
                      <a:pt x="13123" y="5"/>
                    </a:cubicBezTo>
                    <a:cubicBezTo>
                      <a:pt x="13123" y="6"/>
                      <a:pt x="13122" y="7"/>
                      <a:pt x="13121" y="7"/>
                    </a:cubicBezTo>
                    <a:lnTo>
                      <a:pt x="13121" y="7"/>
                    </a:lnTo>
                    <a:cubicBezTo>
                      <a:pt x="13120" y="7"/>
                      <a:pt x="13119" y="6"/>
                      <a:pt x="13119" y="5"/>
                    </a:cubicBezTo>
                    <a:cubicBezTo>
                      <a:pt x="13119" y="4"/>
                      <a:pt x="13120" y="3"/>
                      <a:pt x="13121" y="3"/>
                    </a:cubicBezTo>
                    <a:close/>
                    <a:moveTo>
                      <a:pt x="13129" y="3"/>
                    </a:moveTo>
                    <a:lnTo>
                      <a:pt x="13129" y="3"/>
                    </a:lnTo>
                    <a:cubicBezTo>
                      <a:pt x="13130" y="3"/>
                      <a:pt x="13131" y="4"/>
                      <a:pt x="13131" y="5"/>
                    </a:cubicBezTo>
                    <a:cubicBezTo>
                      <a:pt x="13131" y="6"/>
                      <a:pt x="13130" y="7"/>
                      <a:pt x="13129" y="7"/>
                    </a:cubicBezTo>
                    <a:lnTo>
                      <a:pt x="13129" y="7"/>
                    </a:lnTo>
                    <a:cubicBezTo>
                      <a:pt x="13128" y="7"/>
                      <a:pt x="13127" y="6"/>
                      <a:pt x="13127" y="5"/>
                    </a:cubicBezTo>
                    <a:cubicBezTo>
                      <a:pt x="13127" y="4"/>
                      <a:pt x="13128" y="3"/>
                      <a:pt x="13129" y="3"/>
                    </a:cubicBezTo>
                    <a:close/>
                    <a:moveTo>
                      <a:pt x="13137" y="3"/>
                    </a:moveTo>
                    <a:lnTo>
                      <a:pt x="13137" y="3"/>
                    </a:lnTo>
                    <a:cubicBezTo>
                      <a:pt x="13138" y="3"/>
                      <a:pt x="13139" y="4"/>
                      <a:pt x="13139" y="5"/>
                    </a:cubicBezTo>
                    <a:cubicBezTo>
                      <a:pt x="13139" y="6"/>
                      <a:pt x="13138" y="7"/>
                      <a:pt x="13137" y="7"/>
                    </a:cubicBezTo>
                    <a:lnTo>
                      <a:pt x="13137" y="7"/>
                    </a:lnTo>
                    <a:cubicBezTo>
                      <a:pt x="13136" y="7"/>
                      <a:pt x="13135" y="6"/>
                      <a:pt x="13135" y="5"/>
                    </a:cubicBezTo>
                    <a:cubicBezTo>
                      <a:pt x="13135" y="4"/>
                      <a:pt x="13136" y="3"/>
                      <a:pt x="13137" y="3"/>
                    </a:cubicBezTo>
                    <a:close/>
                    <a:moveTo>
                      <a:pt x="13145" y="3"/>
                    </a:moveTo>
                    <a:lnTo>
                      <a:pt x="13145" y="3"/>
                    </a:lnTo>
                    <a:cubicBezTo>
                      <a:pt x="13146" y="3"/>
                      <a:pt x="13147" y="4"/>
                      <a:pt x="13147" y="5"/>
                    </a:cubicBezTo>
                    <a:cubicBezTo>
                      <a:pt x="13147" y="6"/>
                      <a:pt x="13146" y="7"/>
                      <a:pt x="13145" y="7"/>
                    </a:cubicBezTo>
                    <a:lnTo>
                      <a:pt x="13145" y="7"/>
                    </a:lnTo>
                    <a:cubicBezTo>
                      <a:pt x="13144" y="7"/>
                      <a:pt x="13143" y="6"/>
                      <a:pt x="13143" y="5"/>
                    </a:cubicBezTo>
                    <a:cubicBezTo>
                      <a:pt x="13143" y="4"/>
                      <a:pt x="13144" y="3"/>
                      <a:pt x="13145" y="3"/>
                    </a:cubicBezTo>
                    <a:close/>
                    <a:moveTo>
                      <a:pt x="13153" y="3"/>
                    </a:moveTo>
                    <a:lnTo>
                      <a:pt x="13153" y="3"/>
                    </a:lnTo>
                    <a:cubicBezTo>
                      <a:pt x="13154" y="3"/>
                      <a:pt x="13155" y="4"/>
                      <a:pt x="13155" y="5"/>
                    </a:cubicBezTo>
                    <a:cubicBezTo>
                      <a:pt x="13155" y="6"/>
                      <a:pt x="13154" y="7"/>
                      <a:pt x="13153" y="7"/>
                    </a:cubicBezTo>
                    <a:lnTo>
                      <a:pt x="13153" y="7"/>
                    </a:lnTo>
                    <a:cubicBezTo>
                      <a:pt x="13152" y="7"/>
                      <a:pt x="13151" y="6"/>
                      <a:pt x="13151" y="5"/>
                    </a:cubicBezTo>
                    <a:cubicBezTo>
                      <a:pt x="13151" y="4"/>
                      <a:pt x="13152" y="3"/>
                      <a:pt x="13153" y="3"/>
                    </a:cubicBezTo>
                    <a:close/>
                    <a:moveTo>
                      <a:pt x="13161" y="3"/>
                    </a:moveTo>
                    <a:lnTo>
                      <a:pt x="13161" y="3"/>
                    </a:lnTo>
                    <a:cubicBezTo>
                      <a:pt x="13162" y="3"/>
                      <a:pt x="13163" y="4"/>
                      <a:pt x="13163" y="5"/>
                    </a:cubicBezTo>
                    <a:cubicBezTo>
                      <a:pt x="13163" y="6"/>
                      <a:pt x="13162" y="7"/>
                      <a:pt x="13161" y="7"/>
                    </a:cubicBezTo>
                    <a:lnTo>
                      <a:pt x="13161" y="7"/>
                    </a:lnTo>
                    <a:cubicBezTo>
                      <a:pt x="13160" y="7"/>
                      <a:pt x="13159" y="6"/>
                      <a:pt x="13159" y="5"/>
                    </a:cubicBezTo>
                    <a:cubicBezTo>
                      <a:pt x="13159" y="4"/>
                      <a:pt x="13160" y="3"/>
                      <a:pt x="13161" y="3"/>
                    </a:cubicBezTo>
                    <a:close/>
                    <a:moveTo>
                      <a:pt x="13169" y="3"/>
                    </a:moveTo>
                    <a:lnTo>
                      <a:pt x="13169" y="3"/>
                    </a:lnTo>
                    <a:cubicBezTo>
                      <a:pt x="13170" y="3"/>
                      <a:pt x="13171" y="4"/>
                      <a:pt x="13171" y="5"/>
                    </a:cubicBezTo>
                    <a:cubicBezTo>
                      <a:pt x="13171" y="6"/>
                      <a:pt x="13170" y="7"/>
                      <a:pt x="13169" y="7"/>
                    </a:cubicBezTo>
                    <a:lnTo>
                      <a:pt x="13169" y="7"/>
                    </a:lnTo>
                    <a:cubicBezTo>
                      <a:pt x="13168" y="7"/>
                      <a:pt x="13167" y="6"/>
                      <a:pt x="13167" y="5"/>
                    </a:cubicBezTo>
                    <a:cubicBezTo>
                      <a:pt x="13167" y="4"/>
                      <a:pt x="13168" y="3"/>
                      <a:pt x="13169" y="3"/>
                    </a:cubicBezTo>
                    <a:close/>
                    <a:moveTo>
                      <a:pt x="13177" y="3"/>
                    </a:moveTo>
                    <a:lnTo>
                      <a:pt x="13177" y="3"/>
                    </a:lnTo>
                    <a:cubicBezTo>
                      <a:pt x="13178" y="3"/>
                      <a:pt x="13179" y="4"/>
                      <a:pt x="13179" y="5"/>
                    </a:cubicBezTo>
                    <a:cubicBezTo>
                      <a:pt x="13179" y="6"/>
                      <a:pt x="13178" y="7"/>
                      <a:pt x="13177" y="7"/>
                    </a:cubicBezTo>
                    <a:lnTo>
                      <a:pt x="13177" y="7"/>
                    </a:lnTo>
                    <a:cubicBezTo>
                      <a:pt x="13176" y="7"/>
                      <a:pt x="13175" y="6"/>
                      <a:pt x="13175" y="5"/>
                    </a:cubicBezTo>
                    <a:cubicBezTo>
                      <a:pt x="13175" y="4"/>
                      <a:pt x="13176" y="3"/>
                      <a:pt x="13177" y="3"/>
                    </a:cubicBezTo>
                    <a:close/>
                    <a:moveTo>
                      <a:pt x="13185" y="3"/>
                    </a:moveTo>
                    <a:lnTo>
                      <a:pt x="13185" y="3"/>
                    </a:lnTo>
                    <a:cubicBezTo>
                      <a:pt x="13186" y="3"/>
                      <a:pt x="13187" y="4"/>
                      <a:pt x="13187" y="5"/>
                    </a:cubicBezTo>
                    <a:cubicBezTo>
                      <a:pt x="13187" y="6"/>
                      <a:pt x="13186" y="7"/>
                      <a:pt x="13185" y="7"/>
                    </a:cubicBezTo>
                    <a:lnTo>
                      <a:pt x="13185" y="7"/>
                    </a:lnTo>
                    <a:cubicBezTo>
                      <a:pt x="13184" y="7"/>
                      <a:pt x="13183" y="6"/>
                      <a:pt x="13183" y="5"/>
                    </a:cubicBezTo>
                    <a:cubicBezTo>
                      <a:pt x="13183" y="4"/>
                      <a:pt x="13184" y="3"/>
                      <a:pt x="13185" y="3"/>
                    </a:cubicBezTo>
                    <a:close/>
                    <a:moveTo>
                      <a:pt x="13193" y="3"/>
                    </a:moveTo>
                    <a:lnTo>
                      <a:pt x="13193" y="3"/>
                    </a:lnTo>
                    <a:cubicBezTo>
                      <a:pt x="13194" y="3"/>
                      <a:pt x="13195" y="4"/>
                      <a:pt x="13195" y="5"/>
                    </a:cubicBezTo>
                    <a:cubicBezTo>
                      <a:pt x="13195" y="6"/>
                      <a:pt x="13194" y="7"/>
                      <a:pt x="13193" y="7"/>
                    </a:cubicBezTo>
                    <a:lnTo>
                      <a:pt x="13193" y="7"/>
                    </a:lnTo>
                    <a:cubicBezTo>
                      <a:pt x="13192" y="7"/>
                      <a:pt x="13191" y="6"/>
                      <a:pt x="13191" y="5"/>
                    </a:cubicBezTo>
                    <a:cubicBezTo>
                      <a:pt x="13191" y="4"/>
                      <a:pt x="13192" y="3"/>
                      <a:pt x="13193" y="3"/>
                    </a:cubicBezTo>
                    <a:close/>
                    <a:moveTo>
                      <a:pt x="13201" y="3"/>
                    </a:moveTo>
                    <a:lnTo>
                      <a:pt x="13201" y="3"/>
                    </a:lnTo>
                    <a:cubicBezTo>
                      <a:pt x="13202" y="3"/>
                      <a:pt x="13203" y="4"/>
                      <a:pt x="13203" y="5"/>
                    </a:cubicBezTo>
                    <a:cubicBezTo>
                      <a:pt x="13203" y="6"/>
                      <a:pt x="13202" y="7"/>
                      <a:pt x="13201" y="7"/>
                    </a:cubicBezTo>
                    <a:lnTo>
                      <a:pt x="13201" y="7"/>
                    </a:lnTo>
                    <a:cubicBezTo>
                      <a:pt x="13200" y="7"/>
                      <a:pt x="13199" y="6"/>
                      <a:pt x="13199" y="5"/>
                    </a:cubicBezTo>
                    <a:cubicBezTo>
                      <a:pt x="13199" y="4"/>
                      <a:pt x="13200" y="3"/>
                      <a:pt x="13201" y="3"/>
                    </a:cubicBezTo>
                    <a:close/>
                    <a:moveTo>
                      <a:pt x="13209" y="3"/>
                    </a:moveTo>
                    <a:lnTo>
                      <a:pt x="13209" y="3"/>
                    </a:lnTo>
                    <a:cubicBezTo>
                      <a:pt x="13210" y="3"/>
                      <a:pt x="13211" y="4"/>
                      <a:pt x="13211" y="5"/>
                    </a:cubicBezTo>
                    <a:cubicBezTo>
                      <a:pt x="13211" y="6"/>
                      <a:pt x="13210" y="7"/>
                      <a:pt x="13209" y="7"/>
                    </a:cubicBezTo>
                    <a:lnTo>
                      <a:pt x="13209" y="7"/>
                    </a:lnTo>
                    <a:cubicBezTo>
                      <a:pt x="13208" y="7"/>
                      <a:pt x="13207" y="6"/>
                      <a:pt x="13207" y="5"/>
                    </a:cubicBezTo>
                    <a:cubicBezTo>
                      <a:pt x="13207" y="4"/>
                      <a:pt x="13208" y="3"/>
                      <a:pt x="13209" y="3"/>
                    </a:cubicBezTo>
                    <a:close/>
                    <a:moveTo>
                      <a:pt x="13217" y="3"/>
                    </a:moveTo>
                    <a:lnTo>
                      <a:pt x="13217" y="3"/>
                    </a:lnTo>
                    <a:cubicBezTo>
                      <a:pt x="13218" y="3"/>
                      <a:pt x="13219" y="4"/>
                      <a:pt x="13219" y="5"/>
                    </a:cubicBezTo>
                    <a:cubicBezTo>
                      <a:pt x="13219" y="6"/>
                      <a:pt x="13218" y="7"/>
                      <a:pt x="13217" y="7"/>
                    </a:cubicBezTo>
                    <a:lnTo>
                      <a:pt x="13217" y="7"/>
                    </a:lnTo>
                    <a:cubicBezTo>
                      <a:pt x="13216" y="7"/>
                      <a:pt x="13215" y="6"/>
                      <a:pt x="13215" y="5"/>
                    </a:cubicBezTo>
                    <a:cubicBezTo>
                      <a:pt x="13215" y="4"/>
                      <a:pt x="13216" y="3"/>
                      <a:pt x="13217" y="3"/>
                    </a:cubicBezTo>
                    <a:close/>
                    <a:moveTo>
                      <a:pt x="13225" y="3"/>
                    </a:moveTo>
                    <a:lnTo>
                      <a:pt x="13225" y="3"/>
                    </a:lnTo>
                    <a:cubicBezTo>
                      <a:pt x="13226" y="3"/>
                      <a:pt x="13227" y="4"/>
                      <a:pt x="13227" y="5"/>
                    </a:cubicBezTo>
                    <a:cubicBezTo>
                      <a:pt x="13227" y="6"/>
                      <a:pt x="13226" y="7"/>
                      <a:pt x="13225" y="7"/>
                    </a:cubicBezTo>
                    <a:lnTo>
                      <a:pt x="13225" y="7"/>
                    </a:lnTo>
                    <a:cubicBezTo>
                      <a:pt x="13224" y="7"/>
                      <a:pt x="13223" y="6"/>
                      <a:pt x="13223" y="5"/>
                    </a:cubicBezTo>
                    <a:cubicBezTo>
                      <a:pt x="13223" y="4"/>
                      <a:pt x="13224" y="3"/>
                      <a:pt x="13225" y="3"/>
                    </a:cubicBezTo>
                    <a:close/>
                    <a:moveTo>
                      <a:pt x="13233" y="3"/>
                    </a:moveTo>
                    <a:lnTo>
                      <a:pt x="13233" y="3"/>
                    </a:lnTo>
                    <a:cubicBezTo>
                      <a:pt x="13234" y="3"/>
                      <a:pt x="13235" y="4"/>
                      <a:pt x="13235" y="5"/>
                    </a:cubicBezTo>
                    <a:cubicBezTo>
                      <a:pt x="13235" y="6"/>
                      <a:pt x="13234" y="7"/>
                      <a:pt x="13233" y="7"/>
                    </a:cubicBezTo>
                    <a:lnTo>
                      <a:pt x="13233" y="7"/>
                    </a:lnTo>
                    <a:cubicBezTo>
                      <a:pt x="13232" y="7"/>
                      <a:pt x="13231" y="6"/>
                      <a:pt x="13231" y="5"/>
                    </a:cubicBezTo>
                    <a:cubicBezTo>
                      <a:pt x="13231" y="4"/>
                      <a:pt x="13232" y="3"/>
                      <a:pt x="13233" y="3"/>
                    </a:cubicBezTo>
                    <a:close/>
                    <a:moveTo>
                      <a:pt x="13241" y="3"/>
                    </a:moveTo>
                    <a:lnTo>
                      <a:pt x="13241" y="3"/>
                    </a:lnTo>
                    <a:cubicBezTo>
                      <a:pt x="13242" y="3"/>
                      <a:pt x="13243" y="4"/>
                      <a:pt x="13243" y="5"/>
                    </a:cubicBezTo>
                    <a:cubicBezTo>
                      <a:pt x="13243" y="6"/>
                      <a:pt x="13242" y="7"/>
                      <a:pt x="13241" y="7"/>
                    </a:cubicBezTo>
                    <a:lnTo>
                      <a:pt x="13241" y="7"/>
                    </a:lnTo>
                    <a:cubicBezTo>
                      <a:pt x="13240" y="7"/>
                      <a:pt x="13239" y="6"/>
                      <a:pt x="13239" y="5"/>
                    </a:cubicBezTo>
                    <a:cubicBezTo>
                      <a:pt x="13239" y="4"/>
                      <a:pt x="13240" y="3"/>
                      <a:pt x="13241" y="3"/>
                    </a:cubicBezTo>
                    <a:close/>
                    <a:moveTo>
                      <a:pt x="13249" y="3"/>
                    </a:moveTo>
                    <a:lnTo>
                      <a:pt x="13249" y="3"/>
                    </a:lnTo>
                    <a:cubicBezTo>
                      <a:pt x="13250" y="3"/>
                      <a:pt x="13251" y="4"/>
                      <a:pt x="13251" y="5"/>
                    </a:cubicBezTo>
                    <a:cubicBezTo>
                      <a:pt x="13251" y="6"/>
                      <a:pt x="13250" y="7"/>
                      <a:pt x="13249" y="7"/>
                    </a:cubicBezTo>
                    <a:lnTo>
                      <a:pt x="13249" y="7"/>
                    </a:lnTo>
                    <a:cubicBezTo>
                      <a:pt x="13248" y="7"/>
                      <a:pt x="13247" y="6"/>
                      <a:pt x="13247" y="5"/>
                    </a:cubicBezTo>
                    <a:cubicBezTo>
                      <a:pt x="13247" y="4"/>
                      <a:pt x="13248" y="3"/>
                      <a:pt x="13249" y="3"/>
                    </a:cubicBezTo>
                    <a:close/>
                    <a:moveTo>
                      <a:pt x="13257" y="3"/>
                    </a:moveTo>
                    <a:lnTo>
                      <a:pt x="13257" y="3"/>
                    </a:lnTo>
                    <a:cubicBezTo>
                      <a:pt x="13258" y="3"/>
                      <a:pt x="13259" y="4"/>
                      <a:pt x="13259" y="5"/>
                    </a:cubicBezTo>
                    <a:cubicBezTo>
                      <a:pt x="13259" y="6"/>
                      <a:pt x="13258" y="7"/>
                      <a:pt x="13257" y="7"/>
                    </a:cubicBezTo>
                    <a:lnTo>
                      <a:pt x="13257" y="7"/>
                    </a:lnTo>
                    <a:cubicBezTo>
                      <a:pt x="13256" y="7"/>
                      <a:pt x="13255" y="6"/>
                      <a:pt x="13255" y="5"/>
                    </a:cubicBezTo>
                    <a:cubicBezTo>
                      <a:pt x="13255" y="4"/>
                      <a:pt x="13256" y="3"/>
                      <a:pt x="13257" y="3"/>
                    </a:cubicBezTo>
                    <a:close/>
                    <a:moveTo>
                      <a:pt x="13265" y="3"/>
                    </a:moveTo>
                    <a:lnTo>
                      <a:pt x="13265" y="3"/>
                    </a:lnTo>
                    <a:cubicBezTo>
                      <a:pt x="13266" y="3"/>
                      <a:pt x="13267" y="4"/>
                      <a:pt x="13267" y="5"/>
                    </a:cubicBezTo>
                    <a:cubicBezTo>
                      <a:pt x="13267" y="6"/>
                      <a:pt x="13266" y="7"/>
                      <a:pt x="13265" y="7"/>
                    </a:cubicBezTo>
                    <a:lnTo>
                      <a:pt x="13265" y="7"/>
                    </a:lnTo>
                    <a:cubicBezTo>
                      <a:pt x="13264" y="7"/>
                      <a:pt x="13263" y="6"/>
                      <a:pt x="13263" y="5"/>
                    </a:cubicBezTo>
                    <a:cubicBezTo>
                      <a:pt x="13263" y="4"/>
                      <a:pt x="13264" y="3"/>
                      <a:pt x="13265" y="3"/>
                    </a:cubicBezTo>
                    <a:close/>
                    <a:moveTo>
                      <a:pt x="13273" y="3"/>
                    </a:moveTo>
                    <a:lnTo>
                      <a:pt x="13273" y="3"/>
                    </a:lnTo>
                    <a:cubicBezTo>
                      <a:pt x="13274" y="3"/>
                      <a:pt x="13275" y="4"/>
                      <a:pt x="13275" y="5"/>
                    </a:cubicBezTo>
                    <a:cubicBezTo>
                      <a:pt x="13275" y="6"/>
                      <a:pt x="13274" y="7"/>
                      <a:pt x="13273" y="7"/>
                    </a:cubicBezTo>
                    <a:lnTo>
                      <a:pt x="13273" y="7"/>
                    </a:lnTo>
                    <a:cubicBezTo>
                      <a:pt x="13272" y="7"/>
                      <a:pt x="13271" y="6"/>
                      <a:pt x="13271" y="5"/>
                    </a:cubicBezTo>
                    <a:cubicBezTo>
                      <a:pt x="13271" y="4"/>
                      <a:pt x="13272" y="3"/>
                      <a:pt x="13273" y="3"/>
                    </a:cubicBezTo>
                    <a:close/>
                    <a:moveTo>
                      <a:pt x="13281" y="3"/>
                    </a:moveTo>
                    <a:lnTo>
                      <a:pt x="13281" y="3"/>
                    </a:lnTo>
                    <a:cubicBezTo>
                      <a:pt x="13282" y="3"/>
                      <a:pt x="13283" y="4"/>
                      <a:pt x="13283" y="5"/>
                    </a:cubicBezTo>
                    <a:cubicBezTo>
                      <a:pt x="13283" y="6"/>
                      <a:pt x="13282" y="7"/>
                      <a:pt x="13281" y="7"/>
                    </a:cubicBezTo>
                    <a:lnTo>
                      <a:pt x="13281" y="7"/>
                    </a:lnTo>
                    <a:cubicBezTo>
                      <a:pt x="13280" y="7"/>
                      <a:pt x="13279" y="6"/>
                      <a:pt x="13279" y="5"/>
                    </a:cubicBezTo>
                    <a:cubicBezTo>
                      <a:pt x="13279" y="4"/>
                      <a:pt x="13280" y="3"/>
                      <a:pt x="13281" y="3"/>
                    </a:cubicBezTo>
                    <a:close/>
                    <a:moveTo>
                      <a:pt x="13289" y="3"/>
                    </a:moveTo>
                    <a:lnTo>
                      <a:pt x="13289" y="3"/>
                    </a:lnTo>
                    <a:cubicBezTo>
                      <a:pt x="13290" y="3"/>
                      <a:pt x="13291" y="4"/>
                      <a:pt x="13291" y="5"/>
                    </a:cubicBezTo>
                    <a:cubicBezTo>
                      <a:pt x="13291" y="6"/>
                      <a:pt x="13290" y="7"/>
                      <a:pt x="13289" y="7"/>
                    </a:cubicBezTo>
                    <a:lnTo>
                      <a:pt x="13289" y="7"/>
                    </a:lnTo>
                    <a:cubicBezTo>
                      <a:pt x="13288" y="7"/>
                      <a:pt x="13287" y="6"/>
                      <a:pt x="13287" y="5"/>
                    </a:cubicBezTo>
                    <a:cubicBezTo>
                      <a:pt x="13287" y="4"/>
                      <a:pt x="13288" y="3"/>
                      <a:pt x="13289" y="3"/>
                    </a:cubicBezTo>
                    <a:close/>
                    <a:moveTo>
                      <a:pt x="13297" y="3"/>
                    </a:moveTo>
                    <a:lnTo>
                      <a:pt x="13297" y="3"/>
                    </a:lnTo>
                    <a:cubicBezTo>
                      <a:pt x="13298" y="3"/>
                      <a:pt x="13299" y="4"/>
                      <a:pt x="13299" y="5"/>
                    </a:cubicBezTo>
                    <a:cubicBezTo>
                      <a:pt x="13299" y="6"/>
                      <a:pt x="13298" y="7"/>
                      <a:pt x="13297" y="7"/>
                    </a:cubicBezTo>
                    <a:lnTo>
                      <a:pt x="13297" y="7"/>
                    </a:lnTo>
                    <a:cubicBezTo>
                      <a:pt x="13296" y="7"/>
                      <a:pt x="13295" y="6"/>
                      <a:pt x="13295" y="5"/>
                    </a:cubicBezTo>
                    <a:cubicBezTo>
                      <a:pt x="13295" y="4"/>
                      <a:pt x="13296" y="3"/>
                      <a:pt x="13297" y="3"/>
                    </a:cubicBezTo>
                    <a:close/>
                    <a:moveTo>
                      <a:pt x="13305" y="3"/>
                    </a:moveTo>
                    <a:lnTo>
                      <a:pt x="13305" y="3"/>
                    </a:lnTo>
                    <a:cubicBezTo>
                      <a:pt x="13306" y="3"/>
                      <a:pt x="13307" y="4"/>
                      <a:pt x="13307" y="5"/>
                    </a:cubicBezTo>
                    <a:cubicBezTo>
                      <a:pt x="13307" y="6"/>
                      <a:pt x="13306" y="7"/>
                      <a:pt x="13305" y="7"/>
                    </a:cubicBezTo>
                    <a:lnTo>
                      <a:pt x="13305" y="7"/>
                    </a:lnTo>
                    <a:cubicBezTo>
                      <a:pt x="13304" y="7"/>
                      <a:pt x="13303" y="6"/>
                      <a:pt x="13303" y="5"/>
                    </a:cubicBezTo>
                    <a:cubicBezTo>
                      <a:pt x="13303" y="4"/>
                      <a:pt x="13304" y="3"/>
                      <a:pt x="13305" y="3"/>
                    </a:cubicBezTo>
                    <a:close/>
                    <a:moveTo>
                      <a:pt x="13313" y="3"/>
                    </a:moveTo>
                    <a:lnTo>
                      <a:pt x="13313" y="3"/>
                    </a:lnTo>
                    <a:cubicBezTo>
                      <a:pt x="13314" y="3"/>
                      <a:pt x="13315" y="4"/>
                      <a:pt x="13315" y="5"/>
                    </a:cubicBezTo>
                    <a:cubicBezTo>
                      <a:pt x="13315" y="6"/>
                      <a:pt x="13314" y="7"/>
                      <a:pt x="13313" y="7"/>
                    </a:cubicBezTo>
                    <a:lnTo>
                      <a:pt x="13313" y="7"/>
                    </a:lnTo>
                    <a:cubicBezTo>
                      <a:pt x="13312" y="7"/>
                      <a:pt x="13311" y="6"/>
                      <a:pt x="13311" y="5"/>
                    </a:cubicBezTo>
                    <a:cubicBezTo>
                      <a:pt x="13311" y="4"/>
                      <a:pt x="13312" y="3"/>
                      <a:pt x="13313" y="3"/>
                    </a:cubicBezTo>
                    <a:close/>
                    <a:moveTo>
                      <a:pt x="13321" y="3"/>
                    </a:moveTo>
                    <a:lnTo>
                      <a:pt x="13321" y="3"/>
                    </a:lnTo>
                    <a:cubicBezTo>
                      <a:pt x="13322" y="3"/>
                      <a:pt x="13323" y="4"/>
                      <a:pt x="13323" y="5"/>
                    </a:cubicBezTo>
                    <a:cubicBezTo>
                      <a:pt x="13323" y="6"/>
                      <a:pt x="13322" y="7"/>
                      <a:pt x="13321" y="7"/>
                    </a:cubicBezTo>
                    <a:lnTo>
                      <a:pt x="13321" y="7"/>
                    </a:lnTo>
                    <a:cubicBezTo>
                      <a:pt x="13320" y="7"/>
                      <a:pt x="13319" y="6"/>
                      <a:pt x="13319" y="5"/>
                    </a:cubicBezTo>
                    <a:cubicBezTo>
                      <a:pt x="13319" y="4"/>
                      <a:pt x="13320" y="3"/>
                      <a:pt x="13321" y="3"/>
                    </a:cubicBezTo>
                    <a:close/>
                    <a:moveTo>
                      <a:pt x="13329" y="3"/>
                    </a:moveTo>
                    <a:lnTo>
                      <a:pt x="13329" y="3"/>
                    </a:lnTo>
                    <a:cubicBezTo>
                      <a:pt x="13330" y="3"/>
                      <a:pt x="13331" y="4"/>
                      <a:pt x="13331" y="5"/>
                    </a:cubicBezTo>
                    <a:cubicBezTo>
                      <a:pt x="13331" y="6"/>
                      <a:pt x="13330" y="7"/>
                      <a:pt x="13329" y="7"/>
                    </a:cubicBezTo>
                    <a:lnTo>
                      <a:pt x="13329" y="7"/>
                    </a:lnTo>
                    <a:cubicBezTo>
                      <a:pt x="13328" y="7"/>
                      <a:pt x="13327" y="6"/>
                      <a:pt x="13327" y="5"/>
                    </a:cubicBezTo>
                    <a:cubicBezTo>
                      <a:pt x="13327" y="4"/>
                      <a:pt x="13328" y="3"/>
                      <a:pt x="13329" y="3"/>
                    </a:cubicBezTo>
                    <a:close/>
                    <a:moveTo>
                      <a:pt x="13337" y="3"/>
                    </a:moveTo>
                    <a:lnTo>
                      <a:pt x="13337" y="3"/>
                    </a:lnTo>
                    <a:cubicBezTo>
                      <a:pt x="13338" y="3"/>
                      <a:pt x="13339" y="4"/>
                      <a:pt x="13339" y="5"/>
                    </a:cubicBezTo>
                    <a:cubicBezTo>
                      <a:pt x="13339" y="6"/>
                      <a:pt x="13338" y="7"/>
                      <a:pt x="13337" y="7"/>
                    </a:cubicBezTo>
                    <a:lnTo>
                      <a:pt x="13337" y="7"/>
                    </a:lnTo>
                    <a:cubicBezTo>
                      <a:pt x="13336" y="7"/>
                      <a:pt x="13335" y="6"/>
                      <a:pt x="13335" y="5"/>
                    </a:cubicBezTo>
                    <a:cubicBezTo>
                      <a:pt x="13335" y="4"/>
                      <a:pt x="13336" y="3"/>
                      <a:pt x="13337" y="3"/>
                    </a:cubicBezTo>
                    <a:close/>
                    <a:moveTo>
                      <a:pt x="13345" y="3"/>
                    </a:moveTo>
                    <a:lnTo>
                      <a:pt x="13345" y="3"/>
                    </a:lnTo>
                    <a:cubicBezTo>
                      <a:pt x="13346" y="3"/>
                      <a:pt x="13347" y="4"/>
                      <a:pt x="13347" y="5"/>
                    </a:cubicBezTo>
                    <a:cubicBezTo>
                      <a:pt x="13347" y="6"/>
                      <a:pt x="13346" y="7"/>
                      <a:pt x="13345" y="7"/>
                    </a:cubicBezTo>
                    <a:lnTo>
                      <a:pt x="13345" y="7"/>
                    </a:lnTo>
                    <a:cubicBezTo>
                      <a:pt x="13344" y="7"/>
                      <a:pt x="13343" y="6"/>
                      <a:pt x="13343" y="5"/>
                    </a:cubicBezTo>
                    <a:cubicBezTo>
                      <a:pt x="13343" y="4"/>
                      <a:pt x="13344" y="3"/>
                      <a:pt x="13345" y="3"/>
                    </a:cubicBezTo>
                    <a:close/>
                    <a:moveTo>
                      <a:pt x="13353" y="3"/>
                    </a:moveTo>
                    <a:lnTo>
                      <a:pt x="13353" y="3"/>
                    </a:lnTo>
                    <a:cubicBezTo>
                      <a:pt x="13354" y="3"/>
                      <a:pt x="13355" y="4"/>
                      <a:pt x="13355" y="5"/>
                    </a:cubicBezTo>
                    <a:cubicBezTo>
                      <a:pt x="13355" y="6"/>
                      <a:pt x="13354" y="7"/>
                      <a:pt x="13353" y="7"/>
                    </a:cubicBezTo>
                    <a:lnTo>
                      <a:pt x="13353" y="7"/>
                    </a:lnTo>
                    <a:cubicBezTo>
                      <a:pt x="13352" y="7"/>
                      <a:pt x="13351" y="6"/>
                      <a:pt x="13351" y="5"/>
                    </a:cubicBezTo>
                    <a:cubicBezTo>
                      <a:pt x="13351" y="4"/>
                      <a:pt x="13352" y="3"/>
                      <a:pt x="13353" y="3"/>
                    </a:cubicBezTo>
                    <a:close/>
                    <a:moveTo>
                      <a:pt x="13361" y="3"/>
                    </a:moveTo>
                    <a:lnTo>
                      <a:pt x="13361" y="3"/>
                    </a:lnTo>
                    <a:cubicBezTo>
                      <a:pt x="13362" y="3"/>
                      <a:pt x="13363" y="4"/>
                      <a:pt x="13363" y="5"/>
                    </a:cubicBezTo>
                    <a:cubicBezTo>
                      <a:pt x="13363" y="6"/>
                      <a:pt x="13362" y="7"/>
                      <a:pt x="13361" y="7"/>
                    </a:cubicBezTo>
                    <a:lnTo>
                      <a:pt x="13361" y="7"/>
                    </a:lnTo>
                    <a:cubicBezTo>
                      <a:pt x="13360" y="7"/>
                      <a:pt x="13359" y="6"/>
                      <a:pt x="13359" y="5"/>
                    </a:cubicBezTo>
                    <a:cubicBezTo>
                      <a:pt x="13359" y="4"/>
                      <a:pt x="13360" y="3"/>
                      <a:pt x="13361" y="3"/>
                    </a:cubicBezTo>
                    <a:close/>
                    <a:moveTo>
                      <a:pt x="13369" y="3"/>
                    </a:moveTo>
                    <a:lnTo>
                      <a:pt x="13369" y="3"/>
                    </a:lnTo>
                    <a:cubicBezTo>
                      <a:pt x="13370" y="3"/>
                      <a:pt x="13371" y="4"/>
                      <a:pt x="13371" y="5"/>
                    </a:cubicBezTo>
                    <a:cubicBezTo>
                      <a:pt x="13371" y="6"/>
                      <a:pt x="13370" y="7"/>
                      <a:pt x="13369" y="7"/>
                    </a:cubicBezTo>
                    <a:lnTo>
                      <a:pt x="13369" y="7"/>
                    </a:lnTo>
                    <a:cubicBezTo>
                      <a:pt x="13368" y="7"/>
                      <a:pt x="13367" y="6"/>
                      <a:pt x="13367" y="5"/>
                    </a:cubicBezTo>
                    <a:cubicBezTo>
                      <a:pt x="13367" y="4"/>
                      <a:pt x="13368" y="3"/>
                      <a:pt x="13369" y="3"/>
                    </a:cubicBezTo>
                    <a:close/>
                    <a:moveTo>
                      <a:pt x="13377" y="3"/>
                    </a:moveTo>
                    <a:lnTo>
                      <a:pt x="13377" y="3"/>
                    </a:lnTo>
                    <a:cubicBezTo>
                      <a:pt x="13378" y="3"/>
                      <a:pt x="13379" y="4"/>
                      <a:pt x="13379" y="5"/>
                    </a:cubicBezTo>
                    <a:cubicBezTo>
                      <a:pt x="13379" y="6"/>
                      <a:pt x="13378" y="7"/>
                      <a:pt x="13377" y="7"/>
                    </a:cubicBezTo>
                    <a:lnTo>
                      <a:pt x="13377" y="7"/>
                    </a:lnTo>
                    <a:cubicBezTo>
                      <a:pt x="13376" y="7"/>
                      <a:pt x="13375" y="6"/>
                      <a:pt x="13375" y="5"/>
                    </a:cubicBezTo>
                    <a:cubicBezTo>
                      <a:pt x="13375" y="4"/>
                      <a:pt x="13376" y="3"/>
                      <a:pt x="13377" y="3"/>
                    </a:cubicBezTo>
                    <a:close/>
                    <a:moveTo>
                      <a:pt x="13385" y="3"/>
                    </a:moveTo>
                    <a:lnTo>
                      <a:pt x="13385" y="3"/>
                    </a:lnTo>
                    <a:cubicBezTo>
                      <a:pt x="13386" y="3"/>
                      <a:pt x="13387" y="4"/>
                      <a:pt x="13387" y="5"/>
                    </a:cubicBezTo>
                    <a:cubicBezTo>
                      <a:pt x="13387" y="6"/>
                      <a:pt x="13386" y="7"/>
                      <a:pt x="13385" y="7"/>
                    </a:cubicBezTo>
                    <a:lnTo>
                      <a:pt x="13385" y="7"/>
                    </a:lnTo>
                    <a:cubicBezTo>
                      <a:pt x="13384" y="7"/>
                      <a:pt x="13383" y="6"/>
                      <a:pt x="13383" y="5"/>
                    </a:cubicBezTo>
                    <a:cubicBezTo>
                      <a:pt x="13383" y="4"/>
                      <a:pt x="13384" y="3"/>
                      <a:pt x="13385" y="3"/>
                    </a:cubicBezTo>
                    <a:close/>
                    <a:moveTo>
                      <a:pt x="13393" y="3"/>
                    </a:moveTo>
                    <a:lnTo>
                      <a:pt x="13393" y="3"/>
                    </a:lnTo>
                    <a:cubicBezTo>
                      <a:pt x="13394" y="3"/>
                      <a:pt x="13395" y="4"/>
                      <a:pt x="13395" y="5"/>
                    </a:cubicBezTo>
                    <a:cubicBezTo>
                      <a:pt x="13395" y="6"/>
                      <a:pt x="13394" y="7"/>
                      <a:pt x="13393" y="7"/>
                    </a:cubicBezTo>
                    <a:lnTo>
                      <a:pt x="13393" y="7"/>
                    </a:lnTo>
                    <a:cubicBezTo>
                      <a:pt x="13392" y="7"/>
                      <a:pt x="13391" y="6"/>
                      <a:pt x="13391" y="5"/>
                    </a:cubicBezTo>
                    <a:cubicBezTo>
                      <a:pt x="13391" y="4"/>
                      <a:pt x="13392" y="3"/>
                      <a:pt x="13393" y="3"/>
                    </a:cubicBezTo>
                    <a:close/>
                    <a:moveTo>
                      <a:pt x="13401" y="3"/>
                    </a:moveTo>
                    <a:lnTo>
                      <a:pt x="13401" y="3"/>
                    </a:lnTo>
                    <a:cubicBezTo>
                      <a:pt x="13402" y="3"/>
                      <a:pt x="13403" y="4"/>
                      <a:pt x="13403" y="5"/>
                    </a:cubicBezTo>
                    <a:cubicBezTo>
                      <a:pt x="13403" y="6"/>
                      <a:pt x="13402" y="7"/>
                      <a:pt x="13401" y="7"/>
                    </a:cubicBezTo>
                    <a:lnTo>
                      <a:pt x="13401" y="7"/>
                    </a:lnTo>
                    <a:cubicBezTo>
                      <a:pt x="13400" y="7"/>
                      <a:pt x="13399" y="6"/>
                      <a:pt x="13399" y="5"/>
                    </a:cubicBezTo>
                    <a:cubicBezTo>
                      <a:pt x="13399" y="4"/>
                      <a:pt x="13400" y="3"/>
                      <a:pt x="13401" y="3"/>
                    </a:cubicBezTo>
                    <a:close/>
                    <a:moveTo>
                      <a:pt x="13409" y="3"/>
                    </a:moveTo>
                    <a:lnTo>
                      <a:pt x="13409" y="3"/>
                    </a:lnTo>
                    <a:cubicBezTo>
                      <a:pt x="13410" y="3"/>
                      <a:pt x="13411" y="4"/>
                      <a:pt x="13411" y="5"/>
                    </a:cubicBezTo>
                    <a:cubicBezTo>
                      <a:pt x="13411" y="6"/>
                      <a:pt x="13410" y="7"/>
                      <a:pt x="13409" y="7"/>
                    </a:cubicBezTo>
                    <a:lnTo>
                      <a:pt x="13409" y="7"/>
                    </a:lnTo>
                    <a:cubicBezTo>
                      <a:pt x="13408" y="7"/>
                      <a:pt x="13407" y="6"/>
                      <a:pt x="13407" y="5"/>
                    </a:cubicBezTo>
                    <a:cubicBezTo>
                      <a:pt x="13407" y="4"/>
                      <a:pt x="13408" y="3"/>
                      <a:pt x="13409" y="3"/>
                    </a:cubicBezTo>
                    <a:close/>
                    <a:moveTo>
                      <a:pt x="13417" y="3"/>
                    </a:moveTo>
                    <a:lnTo>
                      <a:pt x="13417" y="3"/>
                    </a:lnTo>
                    <a:cubicBezTo>
                      <a:pt x="13418" y="3"/>
                      <a:pt x="13419" y="4"/>
                      <a:pt x="13419" y="5"/>
                    </a:cubicBezTo>
                    <a:cubicBezTo>
                      <a:pt x="13419" y="6"/>
                      <a:pt x="13418" y="7"/>
                      <a:pt x="13417" y="7"/>
                    </a:cubicBezTo>
                    <a:lnTo>
                      <a:pt x="13417" y="7"/>
                    </a:lnTo>
                    <a:cubicBezTo>
                      <a:pt x="13416" y="7"/>
                      <a:pt x="13415" y="6"/>
                      <a:pt x="13415" y="5"/>
                    </a:cubicBezTo>
                    <a:cubicBezTo>
                      <a:pt x="13415" y="4"/>
                      <a:pt x="13416" y="3"/>
                      <a:pt x="13417" y="3"/>
                    </a:cubicBezTo>
                    <a:close/>
                    <a:moveTo>
                      <a:pt x="13425" y="3"/>
                    </a:moveTo>
                    <a:lnTo>
                      <a:pt x="13425" y="3"/>
                    </a:lnTo>
                    <a:cubicBezTo>
                      <a:pt x="13426" y="3"/>
                      <a:pt x="13427" y="4"/>
                      <a:pt x="13427" y="5"/>
                    </a:cubicBezTo>
                    <a:cubicBezTo>
                      <a:pt x="13427" y="6"/>
                      <a:pt x="13426" y="7"/>
                      <a:pt x="13425" y="7"/>
                    </a:cubicBezTo>
                    <a:lnTo>
                      <a:pt x="13425" y="7"/>
                    </a:lnTo>
                    <a:cubicBezTo>
                      <a:pt x="13424" y="7"/>
                      <a:pt x="13423" y="6"/>
                      <a:pt x="13423" y="5"/>
                    </a:cubicBezTo>
                    <a:cubicBezTo>
                      <a:pt x="13423" y="4"/>
                      <a:pt x="13424" y="3"/>
                      <a:pt x="13425" y="3"/>
                    </a:cubicBezTo>
                    <a:close/>
                    <a:moveTo>
                      <a:pt x="13433" y="3"/>
                    </a:moveTo>
                    <a:lnTo>
                      <a:pt x="13433" y="3"/>
                    </a:lnTo>
                    <a:cubicBezTo>
                      <a:pt x="13434" y="3"/>
                      <a:pt x="13435" y="4"/>
                      <a:pt x="13435" y="5"/>
                    </a:cubicBezTo>
                    <a:cubicBezTo>
                      <a:pt x="13435" y="6"/>
                      <a:pt x="13434" y="7"/>
                      <a:pt x="13433" y="7"/>
                    </a:cubicBezTo>
                    <a:lnTo>
                      <a:pt x="13433" y="7"/>
                    </a:lnTo>
                    <a:cubicBezTo>
                      <a:pt x="13432" y="7"/>
                      <a:pt x="13431" y="6"/>
                      <a:pt x="13431" y="5"/>
                    </a:cubicBezTo>
                    <a:cubicBezTo>
                      <a:pt x="13431" y="4"/>
                      <a:pt x="13432" y="3"/>
                      <a:pt x="13433" y="3"/>
                    </a:cubicBezTo>
                    <a:close/>
                    <a:moveTo>
                      <a:pt x="13441" y="3"/>
                    </a:moveTo>
                    <a:lnTo>
                      <a:pt x="13441" y="3"/>
                    </a:lnTo>
                    <a:cubicBezTo>
                      <a:pt x="13442" y="3"/>
                      <a:pt x="13443" y="4"/>
                      <a:pt x="13443" y="5"/>
                    </a:cubicBezTo>
                    <a:cubicBezTo>
                      <a:pt x="13443" y="6"/>
                      <a:pt x="13442" y="7"/>
                      <a:pt x="13441" y="7"/>
                    </a:cubicBezTo>
                    <a:lnTo>
                      <a:pt x="13441" y="7"/>
                    </a:lnTo>
                    <a:cubicBezTo>
                      <a:pt x="13440" y="7"/>
                      <a:pt x="13439" y="6"/>
                      <a:pt x="13439" y="5"/>
                    </a:cubicBezTo>
                    <a:cubicBezTo>
                      <a:pt x="13439" y="4"/>
                      <a:pt x="13440" y="3"/>
                      <a:pt x="13441" y="3"/>
                    </a:cubicBezTo>
                    <a:close/>
                    <a:moveTo>
                      <a:pt x="13449" y="3"/>
                    </a:moveTo>
                    <a:lnTo>
                      <a:pt x="13449" y="3"/>
                    </a:lnTo>
                    <a:cubicBezTo>
                      <a:pt x="13450" y="3"/>
                      <a:pt x="13451" y="4"/>
                      <a:pt x="13451" y="5"/>
                    </a:cubicBezTo>
                    <a:cubicBezTo>
                      <a:pt x="13451" y="6"/>
                      <a:pt x="13450" y="7"/>
                      <a:pt x="13449" y="7"/>
                    </a:cubicBezTo>
                    <a:lnTo>
                      <a:pt x="13449" y="7"/>
                    </a:lnTo>
                    <a:cubicBezTo>
                      <a:pt x="13448" y="7"/>
                      <a:pt x="13447" y="6"/>
                      <a:pt x="13447" y="5"/>
                    </a:cubicBezTo>
                    <a:cubicBezTo>
                      <a:pt x="13447" y="4"/>
                      <a:pt x="13448" y="3"/>
                      <a:pt x="13449" y="3"/>
                    </a:cubicBezTo>
                    <a:close/>
                    <a:moveTo>
                      <a:pt x="13457" y="3"/>
                    </a:moveTo>
                    <a:lnTo>
                      <a:pt x="13457" y="3"/>
                    </a:lnTo>
                    <a:cubicBezTo>
                      <a:pt x="13458" y="3"/>
                      <a:pt x="13459" y="4"/>
                      <a:pt x="13459" y="5"/>
                    </a:cubicBezTo>
                    <a:cubicBezTo>
                      <a:pt x="13459" y="6"/>
                      <a:pt x="13458" y="7"/>
                      <a:pt x="13457" y="7"/>
                    </a:cubicBezTo>
                    <a:lnTo>
                      <a:pt x="13457" y="7"/>
                    </a:lnTo>
                    <a:cubicBezTo>
                      <a:pt x="13456" y="7"/>
                      <a:pt x="13455" y="6"/>
                      <a:pt x="13455" y="5"/>
                    </a:cubicBezTo>
                    <a:cubicBezTo>
                      <a:pt x="13455" y="4"/>
                      <a:pt x="13456" y="3"/>
                      <a:pt x="13457" y="3"/>
                    </a:cubicBezTo>
                    <a:close/>
                    <a:moveTo>
                      <a:pt x="13465" y="3"/>
                    </a:moveTo>
                    <a:lnTo>
                      <a:pt x="13465" y="3"/>
                    </a:lnTo>
                    <a:cubicBezTo>
                      <a:pt x="13466" y="3"/>
                      <a:pt x="13467" y="4"/>
                      <a:pt x="13467" y="5"/>
                    </a:cubicBezTo>
                    <a:cubicBezTo>
                      <a:pt x="13467" y="6"/>
                      <a:pt x="13466" y="7"/>
                      <a:pt x="13465" y="7"/>
                    </a:cubicBezTo>
                    <a:lnTo>
                      <a:pt x="13465" y="7"/>
                    </a:lnTo>
                    <a:cubicBezTo>
                      <a:pt x="13464" y="7"/>
                      <a:pt x="13463" y="6"/>
                      <a:pt x="13463" y="5"/>
                    </a:cubicBezTo>
                    <a:cubicBezTo>
                      <a:pt x="13463" y="4"/>
                      <a:pt x="13464" y="3"/>
                      <a:pt x="13465" y="3"/>
                    </a:cubicBezTo>
                    <a:close/>
                    <a:moveTo>
                      <a:pt x="13473" y="3"/>
                    </a:moveTo>
                    <a:lnTo>
                      <a:pt x="13473" y="3"/>
                    </a:lnTo>
                    <a:cubicBezTo>
                      <a:pt x="13474" y="3"/>
                      <a:pt x="13475" y="4"/>
                      <a:pt x="13475" y="5"/>
                    </a:cubicBezTo>
                    <a:cubicBezTo>
                      <a:pt x="13475" y="6"/>
                      <a:pt x="13474" y="7"/>
                      <a:pt x="13473" y="7"/>
                    </a:cubicBezTo>
                    <a:lnTo>
                      <a:pt x="13473" y="7"/>
                    </a:lnTo>
                    <a:cubicBezTo>
                      <a:pt x="13472" y="7"/>
                      <a:pt x="13471" y="6"/>
                      <a:pt x="13471" y="5"/>
                    </a:cubicBezTo>
                    <a:cubicBezTo>
                      <a:pt x="13471" y="4"/>
                      <a:pt x="13472" y="3"/>
                      <a:pt x="13473" y="3"/>
                    </a:cubicBezTo>
                    <a:close/>
                    <a:moveTo>
                      <a:pt x="13481" y="3"/>
                    </a:moveTo>
                    <a:lnTo>
                      <a:pt x="13481" y="3"/>
                    </a:lnTo>
                    <a:cubicBezTo>
                      <a:pt x="13482" y="3"/>
                      <a:pt x="13483" y="4"/>
                      <a:pt x="13483" y="5"/>
                    </a:cubicBezTo>
                    <a:cubicBezTo>
                      <a:pt x="13483" y="6"/>
                      <a:pt x="13482" y="7"/>
                      <a:pt x="13481" y="7"/>
                    </a:cubicBezTo>
                    <a:lnTo>
                      <a:pt x="13481" y="7"/>
                    </a:lnTo>
                    <a:cubicBezTo>
                      <a:pt x="13480" y="7"/>
                      <a:pt x="13479" y="6"/>
                      <a:pt x="13479" y="5"/>
                    </a:cubicBezTo>
                    <a:cubicBezTo>
                      <a:pt x="13479" y="4"/>
                      <a:pt x="13480" y="3"/>
                      <a:pt x="13481" y="3"/>
                    </a:cubicBezTo>
                    <a:close/>
                    <a:moveTo>
                      <a:pt x="13489" y="3"/>
                    </a:moveTo>
                    <a:lnTo>
                      <a:pt x="13489" y="3"/>
                    </a:lnTo>
                    <a:cubicBezTo>
                      <a:pt x="13490" y="3"/>
                      <a:pt x="13491" y="4"/>
                      <a:pt x="13491" y="5"/>
                    </a:cubicBezTo>
                    <a:cubicBezTo>
                      <a:pt x="13491" y="6"/>
                      <a:pt x="13490" y="7"/>
                      <a:pt x="13489" y="7"/>
                    </a:cubicBezTo>
                    <a:lnTo>
                      <a:pt x="13489" y="7"/>
                    </a:lnTo>
                    <a:cubicBezTo>
                      <a:pt x="13488" y="7"/>
                      <a:pt x="13487" y="6"/>
                      <a:pt x="13487" y="5"/>
                    </a:cubicBezTo>
                    <a:cubicBezTo>
                      <a:pt x="13487" y="4"/>
                      <a:pt x="13488" y="3"/>
                      <a:pt x="13489" y="3"/>
                    </a:cubicBezTo>
                    <a:close/>
                    <a:moveTo>
                      <a:pt x="13497" y="3"/>
                    </a:moveTo>
                    <a:lnTo>
                      <a:pt x="13497" y="3"/>
                    </a:lnTo>
                    <a:cubicBezTo>
                      <a:pt x="13498" y="3"/>
                      <a:pt x="13499" y="4"/>
                      <a:pt x="13499" y="5"/>
                    </a:cubicBezTo>
                    <a:cubicBezTo>
                      <a:pt x="13499" y="6"/>
                      <a:pt x="13498" y="7"/>
                      <a:pt x="13497" y="7"/>
                    </a:cubicBezTo>
                    <a:lnTo>
                      <a:pt x="13497" y="7"/>
                    </a:lnTo>
                    <a:cubicBezTo>
                      <a:pt x="13496" y="7"/>
                      <a:pt x="13495" y="6"/>
                      <a:pt x="13495" y="5"/>
                    </a:cubicBezTo>
                    <a:cubicBezTo>
                      <a:pt x="13495" y="4"/>
                      <a:pt x="13496" y="3"/>
                      <a:pt x="13497" y="3"/>
                    </a:cubicBezTo>
                    <a:close/>
                    <a:moveTo>
                      <a:pt x="13505" y="3"/>
                    </a:moveTo>
                    <a:lnTo>
                      <a:pt x="13505" y="3"/>
                    </a:lnTo>
                    <a:cubicBezTo>
                      <a:pt x="13506" y="3"/>
                      <a:pt x="13507" y="4"/>
                      <a:pt x="13507" y="5"/>
                    </a:cubicBezTo>
                    <a:cubicBezTo>
                      <a:pt x="13507" y="6"/>
                      <a:pt x="13506" y="7"/>
                      <a:pt x="13505" y="7"/>
                    </a:cubicBezTo>
                    <a:lnTo>
                      <a:pt x="13505" y="7"/>
                    </a:lnTo>
                    <a:cubicBezTo>
                      <a:pt x="13504" y="7"/>
                      <a:pt x="13503" y="6"/>
                      <a:pt x="13503" y="5"/>
                    </a:cubicBezTo>
                    <a:cubicBezTo>
                      <a:pt x="13503" y="4"/>
                      <a:pt x="13504" y="3"/>
                      <a:pt x="13505" y="3"/>
                    </a:cubicBezTo>
                    <a:close/>
                    <a:moveTo>
                      <a:pt x="13513" y="3"/>
                    </a:moveTo>
                    <a:lnTo>
                      <a:pt x="13513" y="3"/>
                    </a:lnTo>
                    <a:cubicBezTo>
                      <a:pt x="13514" y="3"/>
                      <a:pt x="13515" y="4"/>
                      <a:pt x="13515" y="5"/>
                    </a:cubicBezTo>
                    <a:cubicBezTo>
                      <a:pt x="13515" y="6"/>
                      <a:pt x="13514" y="7"/>
                      <a:pt x="13513" y="7"/>
                    </a:cubicBezTo>
                    <a:lnTo>
                      <a:pt x="13513" y="7"/>
                    </a:lnTo>
                    <a:cubicBezTo>
                      <a:pt x="13512" y="7"/>
                      <a:pt x="13511" y="6"/>
                      <a:pt x="13511" y="5"/>
                    </a:cubicBezTo>
                    <a:cubicBezTo>
                      <a:pt x="13511" y="4"/>
                      <a:pt x="13512" y="3"/>
                      <a:pt x="13513" y="3"/>
                    </a:cubicBezTo>
                    <a:close/>
                    <a:moveTo>
                      <a:pt x="13521" y="3"/>
                    </a:moveTo>
                    <a:lnTo>
                      <a:pt x="13521" y="3"/>
                    </a:lnTo>
                    <a:cubicBezTo>
                      <a:pt x="13522" y="3"/>
                      <a:pt x="13523" y="4"/>
                      <a:pt x="13523" y="5"/>
                    </a:cubicBezTo>
                    <a:cubicBezTo>
                      <a:pt x="13523" y="6"/>
                      <a:pt x="13522" y="7"/>
                      <a:pt x="13521" y="7"/>
                    </a:cubicBezTo>
                    <a:lnTo>
                      <a:pt x="13521" y="7"/>
                    </a:lnTo>
                    <a:cubicBezTo>
                      <a:pt x="13520" y="7"/>
                      <a:pt x="13519" y="6"/>
                      <a:pt x="13519" y="5"/>
                    </a:cubicBezTo>
                    <a:cubicBezTo>
                      <a:pt x="13519" y="4"/>
                      <a:pt x="13520" y="3"/>
                      <a:pt x="13521" y="3"/>
                    </a:cubicBezTo>
                    <a:close/>
                    <a:moveTo>
                      <a:pt x="13529" y="3"/>
                    </a:moveTo>
                    <a:lnTo>
                      <a:pt x="13529" y="3"/>
                    </a:lnTo>
                    <a:cubicBezTo>
                      <a:pt x="13530" y="3"/>
                      <a:pt x="13531" y="4"/>
                      <a:pt x="13531" y="5"/>
                    </a:cubicBezTo>
                    <a:cubicBezTo>
                      <a:pt x="13531" y="6"/>
                      <a:pt x="13530" y="7"/>
                      <a:pt x="13529" y="7"/>
                    </a:cubicBezTo>
                    <a:lnTo>
                      <a:pt x="13529" y="7"/>
                    </a:lnTo>
                    <a:cubicBezTo>
                      <a:pt x="13528" y="7"/>
                      <a:pt x="13527" y="6"/>
                      <a:pt x="13527" y="5"/>
                    </a:cubicBezTo>
                    <a:cubicBezTo>
                      <a:pt x="13527" y="4"/>
                      <a:pt x="13528" y="3"/>
                      <a:pt x="13529" y="3"/>
                    </a:cubicBezTo>
                    <a:close/>
                    <a:moveTo>
                      <a:pt x="13537" y="3"/>
                    </a:moveTo>
                    <a:lnTo>
                      <a:pt x="13537" y="3"/>
                    </a:lnTo>
                    <a:cubicBezTo>
                      <a:pt x="13538" y="3"/>
                      <a:pt x="13539" y="4"/>
                      <a:pt x="13539" y="5"/>
                    </a:cubicBezTo>
                    <a:cubicBezTo>
                      <a:pt x="13539" y="6"/>
                      <a:pt x="13538" y="7"/>
                      <a:pt x="13537" y="7"/>
                    </a:cubicBezTo>
                    <a:lnTo>
                      <a:pt x="13537" y="7"/>
                    </a:lnTo>
                    <a:cubicBezTo>
                      <a:pt x="13536" y="7"/>
                      <a:pt x="13535" y="6"/>
                      <a:pt x="13535" y="5"/>
                    </a:cubicBezTo>
                    <a:cubicBezTo>
                      <a:pt x="13535" y="4"/>
                      <a:pt x="13536" y="3"/>
                      <a:pt x="13537" y="3"/>
                    </a:cubicBezTo>
                    <a:close/>
                    <a:moveTo>
                      <a:pt x="13545" y="3"/>
                    </a:moveTo>
                    <a:lnTo>
                      <a:pt x="13545" y="3"/>
                    </a:lnTo>
                    <a:cubicBezTo>
                      <a:pt x="13546" y="3"/>
                      <a:pt x="13547" y="4"/>
                      <a:pt x="13547" y="5"/>
                    </a:cubicBezTo>
                    <a:cubicBezTo>
                      <a:pt x="13547" y="6"/>
                      <a:pt x="13546" y="7"/>
                      <a:pt x="13545" y="7"/>
                    </a:cubicBezTo>
                    <a:lnTo>
                      <a:pt x="13545" y="7"/>
                    </a:lnTo>
                    <a:cubicBezTo>
                      <a:pt x="13544" y="7"/>
                      <a:pt x="13543" y="6"/>
                      <a:pt x="13543" y="5"/>
                    </a:cubicBezTo>
                    <a:cubicBezTo>
                      <a:pt x="13543" y="4"/>
                      <a:pt x="13544" y="3"/>
                      <a:pt x="13545" y="3"/>
                    </a:cubicBezTo>
                    <a:close/>
                    <a:moveTo>
                      <a:pt x="13553" y="3"/>
                    </a:moveTo>
                    <a:lnTo>
                      <a:pt x="13553" y="3"/>
                    </a:lnTo>
                    <a:cubicBezTo>
                      <a:pt x="13554" y="3"/>
                      <a:pt x="13555" y="4"/>
                      <a:pt x="13555" y="5"/>
                    </a:cubicBezTo>
                    <a:cubicBezTo>
                      <a:pt x="13555" y="6"/>
                      <a:pt x="13554" y="7"/>
                      <a:pt x="13553" y="7"/>
                    </a:cubicBezTo>
                    <a:lnTo>
                      <a:pt x="13553" y="7"/>
                    </a:lnTo>
                    <a:cubicBezTo>
                      <a:pt x="13552" y="7"/>
                      <a:pt x="13551" y="6"/>
                      <a:pt x="13551" y="5"/>
                    </a:cubicBezTo>
                    <a:cubicBezTo>
                      <a:pt x="13551" y="4"/>
                      <a:pt x="13552" y="3"/>
                      <a:pt x="13553" y="3"/>
                    </a:cubicBezTo>
                    <a:close/>
                    <a:moveTo>
                      <a:pt x="13561" y="3"/>
                    </a:moveTo>
                    <a:lnTo>
                      <a:pt x="13561" y="3"/>
                    </a:lnTo>
                    <a:cubicBezTo>
                      <a:pt x="13562" y="3"/>
                      <a:pt x="13563" y="4"/>
                      <a:pt x="13563" y="5"/>
                    </a:cubicBezTo>
                    <a:cubicBezTo>
                      <a:pt x="13563" y="6"/>
                      <a:pt x="13562" y="7"/>
                      <a:pt x="13561" y="7"/>
                    </a:cubicBezTo>
                    <a:lnTo>
                      <a:pt x="13561" y="7"/>
                    </a:lnTo>
                    <a:cubicBezTo>
                      <a:pt x="13560" y="7"/>
                      <a:pt x="13559" y="6"/>
                      <a:pt x="13559" y="5"/>
                    </a:cubicBezTo>
                    <a:cubicBezTo>
                      <a:pt x="13559" y="4"/>
                      <a:pt x="13560" y="3"/>
                      <a:pt x="13561" y="3"/>
                    </a:cubicBezTo>
                    <a:close/>
                    <a:moveTo>
                      <a:pt x="13569" y="3"/>
                    </a:moveTo>
                    <a:lnTo>
                      <a:pt x="13569" y="3"/>
                    </a:lnTo>
                    <a:cubicBezTo>
                      <a:pt x="13570" y="3"/>
                      <a:pt x="13571" y="4"/>
                      <a:pt x="13571" y="5"/>
                    </a:cubicBezTo>
                    <a:cubicBezTo>
                      <a:pt x="13571" y="6"/>
                      <a:pt x="13570" y="7"/>
                      <a:pt x="13569" y="7"/>
                    </a:cubicBezTo>
                    <a:lnTo>
                      <a:pt x="13569" y="7"/>
                    </a:lnTo>
                    <a:cubicBezTo>
                      <a:pt x="13568" y="7"/>
                      <a:pt x="13567" y="6"/>
                      <a:pt x="13567" y="5"/>
                    </a:cubicBezTo>
                    <a:cubicBezTo>
                      <a:pt x="13567" y="4"/>
                      <a:pt x="13568" y="3"/>
                      <a:pt x="13569" y="3"/>
                    </a:cubicBezTo>
                    <a:close/>
                    <a:moveTo>
                      <a:pt x="13577" y="3"/>
                    </a:moveTo>
                    <a:lnTo>
                      <a:pt x="13577" y="3"/>
                    </a:lnTo>
                    <a:cubicBezTo>
                      <a:pt x="13578" y="3"/>
                      <a:pt x="13579" y="4"/>
                      <a:pt x="13579" y="5"/>
                    </a:cubicBezTo>
                    <a:cubicBezTo>
                      <a:pt x="13579" y="6"/>
                      <a:pt x="13578" y="7"/>
                      <a:pt x="13577" y="7"/>
                    </a:cubicBezTo>
                    <a:lnTo>
                      <a:pt x="13577" y="7"/>
                    </a:lnTo>
                    <a:cubicBezTo>
                      <a:pt x="13576" y="7"/>
                      <a:pt x="13575" y="6"/>
                      <a:pt x="13575" y="5"/>
                    </a:cubicBezTo>
                    <a:cubicBezTo>
                      <a:pt x="13575" y="4"/>
                      <a:pt x="13576" y="3"/>
                      <a:pt x="13577" y="3"/>
                    </a:cubicBezTo>
                    <a:close/>
                    <a:moveTo>
                      <a:pt x="13585" y="3"/>
                    </a:moveTo>
                    <a:lnTo>
                      <a:pt x="13585" y="3"/>
                    </a:lnTo>
                    <a:cubicBezTo>
                      <a:pt x="13586" y="3"/>
                      <a:pt x="13587" y="4"/>
                      <a:pt x="13587" y="5"/>
                    </a:cubicBezTo>
                    <a:cubicBezTo>
                      <a:pt x="13587" y="6"/>
                      <a:pt x="13586" y="7"/>
                      <a:pt x="13585" y="7"/>
                    </a:cubicBezTo>
                    <a:lnTo>
                      <a:pt x="13585" y="7"/>
                    </a:lnTo>
                    <a:cubicBezTo>
                      <a:pt x="13584" y="7"/>
                      <a:pt x="13583" y="6"/>
                      <a:pt x="13583" y="5"/>
                    </a:cubicBezTo>
                    <a:cubicBezTo>
                      <a:pt x="13583" y="4"/>
                      <a:pt x="13584" y="3"/>
                      <a:pt x="13585" y="3"/>
                    </a:cubicBezTo>
                    <a:close/>
                    <a:moveTo>
                      <a:pt x="13593" y="3"/>
                    </a:moveTo>
                    <a:lnTo>
                      <a:pt x="13593" y="3"/>
                    </a:lnTo>
                    <a:cubicBezTo>
                      <a:pt x="13594" y="3"/>
                      <a:pt x="13595" y="4"/>
                      <a:pt x="13595" y="5"/>
                    </a:cubicBezTo>
                    <a:cubicBezTo>
                      <a:pt x="13595" y="6"/>
                      <a:pt x="13594" y="7"/>
                      <a:pt x="13593" y="7"/>
                    </a:cubicBezTo>
                    <a:lnTo>
                      <a:pt x="13593" y="7"/>
                    </a:lnTo>
                    <a:cubicBezTo>
                      <a:pt x="13592" y="7"/>
                      <a:pt x="13591" y="6"/>
                      <a:pt x="13591" y="5"/>
                    </a:cubicBezTo>
                    <a:cubicBezTo>
                      <a:pt x="13591" y="4"/>
                      <a:pt x="13592" y="3"/>
                      <a:pt x="13593" y="3"/>
                    </a:cubicBezTo>
                    <a:close/>
                    <a:moveTo>
                      <a:pt x="13601" y="3"/>
                    </a:moveTo>
                    <a:lnTo>
                      <a:pt x="13601" y="3"/>
                    </a:lnTo>
                    <a:cubicBezTo>
                      <a:pt x="13602" y="3"/>
                      <a:pt x="13603" y="4"/>
                      <a:pt x="13603" y="5"/>
                    </a:cubicBezTo>
                    <a:cubicBezTo>
                      <a:pt x="13603" y="6"/>
                      <a:pt x="13602" y="7"/>
                      <a:pt x="13601" y="7"/>
                    </a:cubicBezTo>
                    <a:lnTo>
                      <a:pt x="13601" y="7"/>
                    </a:lnTo>
                    <a:cubicBezTo>
                      <a:pt x="13600" y="7"/>
                      <a:pt x="13599" y="6"/>
                      <a:pt x="13599" y="5"/>
                    </a:cubicBezTo>
                    <a:cubicBezTo>
                      <a:pt x="13599" y="4"/>
                      <a:pt x="13600" y="3"/>
                      <a:pt x="13601" y="3"/>
                    </a:cubicBezTo>
                    <a:close/>
                    <a:moveTo>
                      <a:pt x="13609" y="3"/>
                    </a:moveTo>
                    <a:lnTo>
                      <a:pt x="13609" y="3"/>
                    </a:lnTo>
                    <a:cubicBezTo>
                      <a:pt x="13610" y="3"/>
                      <a:pt x="13611" y="4"/>
                      <a:pt x="13611" y="5"/>
                    </a:cubicBezTo>
                    <a:cubicBezTo>
                      <a:pt x="13611" y="6"/>
                      <a:pt x="13610" y="7"/>
                      <a:pt x="13609" y="7"/>
                    </a:cubicBezTo>
                    <a:lnTo>
                      <a:pt x="13609" y="7"/>
                    </a:lnTo>
                    <a:cubicBezTo>
                      <a:pt x="13608" y="7"/>
                      <a:pt x="13607" y="6"/>
                      <a:pt x="13607" y="5"/>
                    </a:cubicBezTo>
                    <a:cubicBezTo>
                      <a:pt x="13607" y="4"/>
                      <a:pt x="13608" y="3"/>
                      <a:pt x="13609" y="3"/>
                    </a:cubicBezTo>
                    <a:close/>
                    <a:moveTo>
                      <a:pt x="13617" y="3"/>
                    </a:moveTo>
                    <a:lnTo>
                      <a:pt x="13617" y="3"/>
                    </a:lnTo>
                    <a:cubicBezTo>
                      <a:pt x="13618" y="3"/>
                      <a:pt x="13619" y="4"/>
                      <a:pt x="13619" y="5"/>
                    </a:cubicBezTo>
                    <a:cubicBezTo>
                      <a:pt x="13619" y="6"/>
                      <a:pt x="13618" y="7"/>
                      <a:pt x="13617" y="7"/>
                    </a:cubicBezTo>
                    <a:lnTo>
                      <a:pt x="13617" y="7"/>
                    </a:lnTo>
                    <a:cubicBezTo>
                      <a:pt x="13616" y="7"/>
                      <a:pt x="13615" y="6"/>
                      <a:pt x="13615" y="5"/>
                    </a:cubicBezTo>
                    <a:cubicBezTo>
                      <a:pt x="13615" y="4"/>
                      <a:pt x="13616" y="3"/>
                      <a:pt x="13617" y="3"/>
                    </a:cubicBezTo>
                    <a:close/>
                    <a:moveTo>
                      <a:pt x="13625" y="3"/>
                    </a:moveTo>
                    <a:lnTo>
                      <a:pt x="13625" y="3"/>
                    </a:lnTo>
                    <a:cubicBezTo>
                      <a:pt x="13626" y="3"/>
                      <a:pt x="13627" y="4"/>
                      <a:pt x="13627" y="5"/>
                    </a:cubicBezTo>
                    <a:cubicBezTo>
                      <a:pt x="13627" y="6"/>
                      <a:pt x="13626" y="7"/>
                      <a:pt x="13625" y="7"/>
                    </a:cubicBezTo>
                    <a:lnTo>
                      <a:pt x="13625" y="7"/>
                    </a:lnTo>
                    <a:cubicBezTo>
                      <a:pt x="13624" y="7"/>
                      <a:pt x="13623" y="6"/>
                      <a:pt x="13623" y="5"/>
                    </a:cubicBezTo>
                    <a:cubicBezTo>
                      <a:pt x="13623" y="4"/>
                      <a:pt x="13624" y="3"/>
                      <a:pt x="13625" y="3"/>
                    </a:cubicBezTo>
                    <a:close/>
                    <a:moveTo>
                      <a:pt x="13633" y="3"/>
                    </a:moveTo>
                    <a:lnTo>
                      <a:pt x="13633" y="3"/>
                    </a:lnTo>
                    <a:cubicBezTo>
                      <a:pt x="13634" y="3"/>
                      <a:pt x="13635" y="4"/>
                      <a:pt x="13635" y="5"/>
                    </a:cubicBezTo>
                    <a:cubicBezTo>
                      <a:pt x="13635" y="6"/>
                      <a:pt x="13634" y="7"/>
                      <a:pt x="13633" y="7"/>
                    </a:cubicBezTo>
                    <a:lnTo>
                      <a:pt x="13633" y="7"/>
                    </a:lnTo>
                    <a:cubicBezTo>
                      <a:pt x="13632" y="7"/>
                      <a:pt x="13631" y="6"/>
                      <a:pt x="13631" y="5"/>
                    </a:cubicBezTo>
                    <a:cubicBezTo>
                      <a:pt x="13631" y="4"/>
                      <a:pt x="13632" y="3"/>
                      <a:pt x="13633" y="3"/>
                    </a:cubicBezTo>
                    <a:close/>
                    <a:moveTo>
                      <a:pt x="13641" y="3"/>
                    </a:moveTo>
                    <a:lnTo>
                      <a:pt x="13641" y="3"/>
                    </a:lnTo>
                    <a:cubicBezTo>
                      <a:pt x="13642" y="3"/>
                      <a:pt x="13643" y="4"/>
                      <a:pt x="13643" y="5"/>
                    </a:cubicBezTo>
                    <a:cubicBezTo>
                      <a:pt x="13643" y="6"/>
                      <a:pt x="13642" y="7"/>
                      <a:pt x="13641" y="7"/>
                    </a:cubicBezTo>
                    <a:lnTo>
                      <a:pt x="13641" y="7"/>
                    </a:lnTo>
                    <a:cubicBezTo>
                      <a:pt x="13640" y="7"/>
                      <a:pt x="13639" y="6"/>
                      <a:pt x="13639" y="5"/>
                    </a:cubicBezTo>
                    <a:cubicBezTo>
                      <a:pt x="13639" y="4"/>
                      <a:pt x="13640" y="3"/>
                      <a:pt x="13641" y="3"/>
                    </a:cubicBezTo>
                    <a:close/>
                    <a:moveTo>
                      <a:pt x="13649" y="3"/>
                    </a:moveTo>
                    <a:lnTo>
                      <a:pt x="13649" y="3"/>
                    </a:lnTo>
                    <a:cubicBezTo>
                      <a:pt x="13650" y="3"/>
                      <a:pt x="13651" y="4"/>
                      <a:pt x="13651" y="5"/>
                    </a:cubicBezTo>
                    <a:cubicBezTo>
                      <a:pt x="13651" y="6"/>
                      <a:pt x="13650" y="7"/>
                      <a:pt x="13649" y="7"/>
                    </a:cubicBezTo>
                    <a:lnTo>
                      <a:pt x="13649" y="7"/>
                    </a:lnTo>
                    <a:cubicBezTo>
                      <a:pt x="13648" y="7"/>
                      <a:pt x="13647" y="6"/>
                      <a:pt x="13647" y="5"/>
                    </a:cubicBezTo>
                    <a:cubicBezTo>
                      <a:pt x="13647" y="4"/>
                      <a:pt x="13648" y="3"/>
                      <a:pt x="13649" y="3"/>
                    </a:cubicBezTo>
                    <a:close/>
                    <a:moveTo>
                      <a:pt x="13657" y="3"/>
                    </a:moveTo>
                    <a:lnTo>
                      <a:pt x="13657" y="3"/>
                    </a:lnTo>
                    <a:cubicBezTo>
                      <a:pt x="13658" y="3"/>
                      <a:pt x="13659" y="4"/>
                      <a:pt x="13659" y="5"/>
                    </a:cubicBezTo>
                    <a:cubicBezTo>
                      <a:pt x="13659" y="6"/>
                      <a:pt x="13658" y="7"/>
                      <a:pt x="13657" y="7"/>
                    </a:cubicBezTo>
                    <a:lnTo>
                      <a:pt x="13657" y="7"/>
                    </a:lnTo>
                    <a:cubicBezTo>
                      <a:pt x="13656" y="7"/>
                      <a:pt x="13655" y="6"/>
                      <a:pt x="13655" y="5"/>
                    </a:cubicBezTo>
                    <a:cubicBezTo>
                      <a:pt x="13655" y="4"/>
                      <a:pt x="13656" y="3"/>
                      <a:pt x="13657" y="3"/>
                    </a:cubicBezTo>
                    <a:close/>
                    <a:moveTo>
                      <a:pt x="13665" y="3"/>
                    </a:moveTo>
                    <a:lnTo>
                      <a:pt x="13665" y="3"/>
                    </a:lnTo>
                    <a:cubicBezTo>
                      <a:pt x="13666" y="3"/>
                      <a:pt x="13667" y="4"/>
                      <a:pt x="13667" y="5"/>
                    </a:cubicBezTo>
                    <a:cubicBezTo>
                      <a:pt x="13667" y="6"/>
                      <a:pt x="13666" y="7"/>
                      <a:pt x="13665" y="7"/>
                    </a:cubicBezTo>
                    <a:lnTo>
                      <a:pt x="13665" y="7"/>
                    </a:lnTo>
                    <a:cubicBezTo>
                      <a:pt x="13664" y="7"/>
                      <a:pt x="13663" y="6"/>
                      <a:pt x="13663" y="5"/>
                    </a:cubicBezTo>
                    <a:cubicBezTo>
                      <a:pt x="13663" y="4"/>
                      <a:pt x="13664" y="3"/>
                      <a:pt x="13665" y="3"/>
                    </a:cubicBezTo>
                    <a:close/>
                    <a:moveTo>
                      <a:pt x="13673" y="3"/>
                    </a:moveTo>
                    <a:lnTo>
                      <a:pt x="13673" y="3"/>
                    </a:lnTo>
                    <a:cubicBezTo>
                      <a:pt x="13674" y="3"/>
                      <a:pt x="13675" y="4"/>
                      <a:pt x="13675" y="5"/>
                    </a:cubicBezTo>
                    <a:cubicBezTo>
                      <a:pt x="13675" y="6"/>
                      <a:pt x="13674" y="7"/>
                      <a:pt x="13673" y="7"/>
                    </a:cubicBezTo>
                    <a:lnTo>
                      <a:pt x="13673" y="7"/>
                    </a:lnTo>
                    <a:cubicBezTo>
                      <a:pt x="13672" y="7"/>
                      <a:pt x="13671" y="6"/>
                      <a:pt x="13671" y="5"/>
                    </a:cubicBezTo>
                    <a:cubicBezTo>
                      <a:pt x="13671" y="4"/>
                      <a:pt x="13672" y="3"/>
                      <a:pt x="13673" y="3"/>
                    </a:cubicBezTo>
                    <a:close/>
                    <a:moveTo>
                      <a:pt x="13681" y="3"/>
                    </a:moveTo>
                    <a:lnTo>
                      <a:pt x="13681" y="3"/>
                    </a:lnTo>
                    <a:cubicBezTo>
                      <a:pt x="13682" y="3"/>
                      <a:pt x="13683" y="4"/>
                      <a:pt x="13683" y="5"/>
                    </a:cubicBezTo>
                    <a:cubicBezTo>
                      <a:pt x="13683" y="6"/>
                      <a:pt x="13682" y="7"/>
                      <a:pt x="13681" y="7"/>
                    </a:cubicBezTo>
                    <a:lnTo>
                      <a:pt x="13681" y="7"/>
                    </a:lnTo>
                    <a:cubicBezTo>
                      <a:pt x="13680" y="7"/>
                      <a:pt x="13679" y="6"/>
                      <a:pt x="13679" y="5"/>
                    </a:cubicBezTo>
                    <a:cubicBezTo>
                      <a:pt x="13679" y="4"/>
                      <a:pt x="13680" y="3"/>
                      <a:pt x="13681" y="3"/>
                    </a:cubicBezTo>
                    <a:close/>
                    <a:moveTo>
                      <a:pt x="13689" y="3"/>
                    </a:moveTo>
                    <a:lnTo>
                      <a:pt x="13689" y="3"/>
                    </a:lnTo>
                    <a:cubicBezTo>
                      <a:pt x="13690" y="3"/>
                      <a:pt x="13691" y="4"/>
                      <a:pt x="13691" y="5"/>
                    </a:cubicBezTo>
                    <a:cubicBezTo>
                      <a:pt x="13691" y="6"/>
                      <a:pt x="13690" y="7"/>
                      <a:pt x="13689" y="7"/>
                    </a:cubicBezTo>
                    <a:lnTo>
                      <a:pt x="13689" y="7"/>
                    </a:lnTo>
                    <a:cubicBezTo>
                      <a:pt x="13688" y="7"/>
                      <a:pt x="13687" y="6"/>
                      <a:pt x="13687" y="5"/>
                    </a:cubicBezTo>
                    <a:cubicBezTo>
                      <a:pt x="13687" y="4"/>
                      <a:pt x="13688" y="3"/>
                      <a:pt x="13689" y="3"/>
                    </a:cubicBezTo>
                    <a:close/>
                    <a:moveTo>
                      <a:pt x="13697" y="3"/>
                    </a:moveTo>
                    <a:lnTo>
                      <a:pt x="13697" y="3"/>
                    </a:lnTo>
                    <a:cubicBezTo>
                      <a:pt x="13698" y="3"/>
                      <a:pt x="13699" y="4"/>
                      <a:pt x="13699" y="5"/>
                    </a:cubicBezTo>
                    <a:cubicBezTo>
                      <a:pt x="13699" y="6"/>
                      <a:pt x="13698" y="7"/>
                      <a:pt x="13697" y="7"/>
                    </a:cubicBezTo>
                    <a:lnTo>
                      <a:pt x="13697" y="7"/>
                    </a:lnTo>
                    <a:cubicBezTo>
                      <a:pt x="13696" y="7"/>
                      <a:pt x="13695" y="6"/>
                      <a:pt x="13695" y="5"/>
                    </a:cubicBezTo>
                    <a:cubicBezTo>
                      <a:pt x="13695" y="4"/>
                      <a:pt x="13696" y="3"/>
                      <a:pt x="13697" y="3"/>
                    </a:cubicBezTo>
                    <a:close/>
                    <a:moveTo>
                      <a:pt x="13705" y="3"/>
                    </a:moveTo>
                    <a:lnTo>
                      <a:pt x="13705" y="3"/>
                    </a:lnTo>
                    <a:cubicBezTo>
                      <a:pt x="13706" y="3"/>
                      <a:pt x="13707" y="4"/>
                      <a:pt x="13707" y="5"/>
                    </a:cubicBezTo>
                    <a:cubicBezTo>
                      <a:pt x="13707" y="6"/>
                      <a:pt x="13706" y="7"/>
                      <a:pt x="13705" y="7"/>
                    </a:cubicBezTo>
                    <a:lnTo>
                      <a:pt x="13705" y="7"/>
                    </a:lnTo>
                    <a:cubicBezTo>
                      <a:pt x="13704" y="7"/>
                      <a:pt x="13703" y="6"/>
                      <a:pt x="13703" y="5"/>
                    </a:cubicBezTo>
                    <a:cubicBezTo>
                      <a:pt x="13703" y="4"/>
                      <a:pt x="13704" y="3"/>
                      <a:pt x="13705" y="3"/>
                    </a:cubicBezTo>
                    <a:close/>
                    <a:moveTo>
                      <a:pt x="13713" y="3"/>
                    </a:moveTo>
                    <a:lnTo>
                      <a:pt x="13713" y="3"/>
                    </a:lnTo>
                    <a:cubicBezTo>
                      <a:pt x="13714" y="3"/>
                      <a:pt x="13715" y="4"/>
                      <a:pt x="13715" y="5"/>
                    </a:cubicBezTo>
                    <a:cubicBezTo>
                      <a:pt x="13715" y="6"/>
                      <a:pt x="13714" y="7"/>
                      <a:pt x="13713" y="7"/>
                    </a:cubicBezTo>
                    <a:lnTo>
                      <a:pt x="13713" y="7"/>
                    </a:lnTo>
                    <a:cubicBezTo>
                      <a:pt x="13712" y="7"/>
                      <a:pt x="13711" y="6"/>
                      <a:pt x="13711" y="5"/>
                    </a:cubicBezTo>
                    <a:cubicBezTo>
                      <a:pt x="13711" y="4"/>
                      <a:pt x="13712" y="3"/>
                      <a:pt x="13713" y="3"/>
                    </a:cubicBezTo>
                    <a:close/>
                    <a:moveTo>
                      <a:pt x="13721" y="3"/>
                    </a:moveTo>
                    <a:lnTo>
                      <a:pt x="13721" y="3"/>
                    </a:lnTo>
                    <a:cubicBezTo>
                      <a:pt x="13722" y="3"/>
                      <a:pt x="13723" y="4"/>
                      <a:pt x="13723" y="5"/>
                    </a:cubicBezTo>
                    <a:cubicBezTo>
                      <a:pt x="13723" y="6"/>
                      <a:pt x="13722" y="7"/>
                      <a:pt x="13721" y="7"/>
                    </a:cubicBezTo>
                    <a:lnTo>
                      <a:pt x="13721" y="7"/>
                    </a:lnTo>
                    <a:cubicBezTo>
                      <a:pt x="13720" y="7"/>
                      <a:pt x="13719" y="6"/>
                      <a:pt x="13719" y="5"/>
                    </a:cubicBezTo>
                    <a:cubicBezTo>
                      <a:pt x="13719" y="4"/>
                      <a:pt x="13720" y="3"/>
                      <a:pt x="13721" y="3"/>
                    </a:cubicBezTo>
                    <a:close/>
                    <a:moveTo>
                      <a:pt x="13729" y="3"/>
                    </a:moveTo>
                    <a:lnTo>
                      <a:pt x="13729" y="3"/>
                    </a:lnTo>
                    <a:cubicBezTo>
                      <a:pt x="13730" y="3"/>
                      <a:pt x="13731" y="4"/>
                      <a:pt x="13731" y="5"/>
                    </a:cubicBezTo>
                    <a:cubicBezTo>
                      <a:pt x="13731" y="6"/>
                      <a:pt x="13730" y="7"/>
                      <a:pt x="13729" y="7"/>
                    </a:cubicBezTo>
                    <a:lnTo>
                      <a:pt x="13729" y="7"/>
                    </a:lnTo>
                    <a:cubicBezTo>
                      <a:pt x="13728" y="7"/>
                      <a:pt x="13727" y="6"/>
                      <a:pt x="13727" y="5"/>
                    </a:cubicBezTo>
                    <a:cubicBezTo>
                      <a:pt x="13727" y="4"/>
                      <a:pt x="13728" y="3"/>
                      <a:pt x="13729" y="3"/>
                    </a:cubicBezTo>
                    <a:close/>
                    <a:moveTo>
                      <a:pt x="13737" y="3"/>
                    </a:moveTo>
                    <a:lnTo>
                      <a:pt x="13737" y="3"/>
                    </a:lnTo>
                    <a:cubicBezTo>
                      <a:pt x="13738" y="3"/>
                      <a:pt x="13739" y="4"/>
                      <a:pt x="13739" y="5"/>
                    </a:cubicBezTo>
                    <a:cubicBezTo>
                      <a:pt x="13739" y="6"/>
                      <a:pt x="13738" y="7"/>
                      <a:pt x="13737" y="7"/>
                    </a:cubicBezTo>
                    <a:lnTo>
                      <a:pt x="13737" y="7"/>
                    </a:lnTo>
                    <a:cubicBezTo>
                      <a:pt x="13736" y="7"/>
                      <a:pt x="13735" y="6"/>
                      <a:pt x="13735" y="5"/>
                    </a:cubicBezTo>
                    <a:cubicBezTo>
                      <a:pt x="13735" y="4"/>
                      <a:pt x="13736" y="3"/>
                      <a:pt x="13737" y="3"/>
                    </a:cubicBezTo>
                    <a:close/>
                    <a:moveTo>
                      <a:pt x="13745" y="3"/>
                    </a:moveTo>
                    <a:lnTo>
                      <a:pt x="13745" y="3"/>
                    </a:lnTo>
                    <a:cubicBezTo>
                      <a:pt x="13746" y="3"/>
                      <a:pt x="13747" y="4"/>
                      <a:pt x="13747" y="5"/>
                    </a:cubicBezTo>
                    <a:cubicBezTo>
                      <a:pt x="13747" y="6"/>
                      <a:pt x="13746" y="7"/>
                      <a:pt x="13745" y="7"/>
                    </a:cubicBezTo>
                    <a:lnTo>
                      <a:pt x="13745" y="7"/>
                    </a:lnTo>
                    <a:cubicBezTo>
                      <a:pt x="13744" y="7"/>
                      <a:pt x="13743" y="6"/>
                      <a:pt x="13743" y="5"/>
                    </a:cubicBezTo>
                    <a:cubicBezTo>
                      <a:pt x="13743" y="4"/>
                      <a:pt x="13744" y="3"/>
                      <a:pt x="13745" y="3"/>
                    </a:cubicBezTo>
                    <a:close/>
                    <a:moveTo>
                      <a:pt x="13753" y="3"/>
                    </a:moveTo>
                    <a:lnTo>
                      <a:pt x="13753" y="3"/>
                    </a:lnTo>
                    <a:cubicBezTo>
                      <a:pt x="13754" y="3"/>
                      <a:pt x="13755" y="4"/>
                      <a:pt x="13755" y="5"/>
                    </a:cubicBezTo>
                    <a:cubicBezTo>
                      <a:pt x="13755" y="6"/>
                      <a:pt x="13754" y="7"/>
                      <a:pt x="13753" y="7"/>
                    </a:cubicBezTo>
                    <a:lnTo>
                      <a:pt x="13753" y="7"/>
                    </a:lnTo>
                    <a:cubicBezTo>
                      <a:pt x="13752" y="7"/>
                      <a:pt x="13751" y="6"/>
                      <a:pt x="13751" y="5"/>
                    </a:cubicBezTo>
                    <a:cubicBezTo>
                      <a:pt x="13751" y="4"/>
                      <a:pt x="13752" y="3"/>
                      <a:pt x="13753" y="3"/>
                    </a:cubicBezTo>
                    <a:close/>
                    <a:moveTo>
                      <a:pt x="13761" y="3"/>
                    </a:moveTo>
                    <a:lnTo>
                      <a:pt x="13761" y="3"/>
                    </a:lnTo>
                    <a:cubicBezTo>
                      <a:pt x="13762" y="3"/>
                      <a:pt x="13763" y="4"/>
                      <a:pt x="13763" y="5"/>
                    </a:cubicBezTo>
                    <a:cubicBezTo>
                      <a:pt x="13763" y="6"/>
                      <a:pt x="13762" y="7"/>
                      <a:pt x="13761" y="7"/>
                    </a:cubicBezTo>
                    <a:lnTo>
                      <a:pt x="13761" y="7"/>
                    </a:lnTo>
                    <a:cubicBezTo>
                      <a:pt x="13760" y="7"/>
                      <a:pt x="13759" y="6"/>
                      <a:pt x="13759" y="5"/>
                    </a:cubicBezTo>
                    <a:cubicBezTo>
                      <a:pt x="13759" y="4"/>
                      <a:pt x="13760" y="3"/>
                      <a:pt x="13761" y="3"/>
                    </a:cubicBezTo>
                    <a:close/>
                    <a:moveTo>
                      <a:pt x="13769" y="3"/>
                    </a:moveTo>
                    <a:lnTo>
                      <a:pt x="13769" y="3"/>
                    </a:lnTo>
                    <a:cubicBezTo>
                      <a:pt x="13770" y="3"/>
                      <a:pt x="13771" y="4"/>
                      <a:pt x="13771" y="5"/>
                    </a:cubicBezTo>
                    <a:cubicBezTo>
                      <a:pt x="13771" y="6"/>
                      <a:pt x="13770" y="7"/>
                      <a:pt x="13769" y="7"/>
                    </a:cubicBezTo>
                    <a:lnTo>
                      <a:pt x="13769" y="7"/>
                    </a:lnTo>
                    <a:cubicBezTo>
                      <a:pt x="13768" y="7"/>
                      <a:pt x="13767" y="6"/>
                      <a:pt x="13767" y="5"/>
                    </a:cubicBezTo>
                    <a:cubicBezTo>
                      <a:pt x="13767" y="4"/>
                      <a:pt x="13768" y="3"/>
                      <a:pt x="13769" y="3"/>
                    </a:cubicBezTo>
                    <a:close/>
                    <a:moveTo>
                      <a:pt x="13777" y="3"/>
                    </a:moveTo>
                    <a:lnTo>
                      <a:pt x="13777" y="3"/>
                    </a:lnTo>
                    <a:cubicBezTo>
                      <a:pt x="13778" y="3"/>
                      <a:pt x="13779" y="4"/>
                      <a:pt x="13779" y="5"/>
                    </a:cubicBezTo>
                    <a:cubicBezTo>
                      <a:pt x="13779" y="6"/>
                      <a:pt x="13778" y="7"/>
                      <a:pt x="13777" y="7"/>
                    </a:cubicBezTo>
                    <a:lnTo>
                      <a:pt x="13777" y="7"/>
                    </a:lnTo>
                    <a:cubicBezTo>
                      <a:pt x="13776" y="7"/>
                      <a:pt x="13775" y="6"/>
                      <a:pt x="13775" y="5"/>
                    </a:cubicBezTo>
                    <a:cubicBezTo>
                      <a:pt x="13775" y="4"/>
                      <a:pt x="13776" y="3"/>
                      <a:pt x="13777" y="3"/>
                    </a:cubicBezTo>
                    <a:close/>
                    <a:moveTo>
                      <a:pt x="13785" y="3"/>
                    </a:moveTo>
                    <a:lnTo>
                      <a:pt x="13785" y="3"/>
                    </a:lnTo>
                    <a:cubicBezTo>
                      <a:pt x="13786" y="3"/>
                      <a:pt x="13787" y="4"/>
                      <a:pt x="13787" y="5"/>
                    </a:cubicBezTo>
                    <a:cubicBezTo>
                      <a:pt x="13787" y="6"/>
                      <a:pt x="13786" y="7"/>
                      <a:pt x="13785" y="7"/>
                    </a:cubicBezTo>
                    <a:lnTo>
                      <a:pt x="13785" y="7"/>
                    </a:lnTo>
                    <a:cubicBezTo>
                      <a:pt x="13784" y="7"/>
                      <a:pt x="13783" y="6"/>
                      <a:pt x="13783" y="5"/>
                    </a:cubicBezTo>
                    <a:cubicBezTo>
                      <a:pt x="13783" y="4"/>
                      <a:pt x="13784" y="3"/>
                      <a:pt x="13785" y="3"/>
                    </a:cubicBezTo>
                    <a:close/>
                    <a:moveTo>
                      <a:pt x="13793" y="3"/>
                    </a:moveTo>
                    <a:lnTo>
                      <a:pt x="13793" y="3"/>
                    </a:lnTo>
                    <a:cubicBezTo>
                      <a:pt x="13794" y="3"/>
                      <a:pt x="13795" y="4"/>
                      <a:pt x="13795" y="5"/>
                    </a:cubicBezTo>
                    <a:cubicBezTo>
                      <a:pt x="13795" y="6"/>
                      <a:pt x="13794" y="7"/>
                      <a:pt x="13793" y="7"/>
                    </a:cubicBezTo>
                    <a:lnTo>
                      <a:pt x="13793" y="7"/>
                    </a:lnTo>
                    <a:cubicBezTo>
                      <a:pt x="13792" y="7"/>
                      <a:pt x="13791" y="6"/>
                      <a:pt x="13791" y="5"/>
                    </a:cubicBezTo>
                    <a:cubicBezTo>
                      <a:pt x="13791" y="4"/>
                      <a:pt x="13792" y="3"/>
                      <a:pt x="13793" y="3"/>
                    </a:cubicBezTo>
                    <a:close/>
                    <a:moveTo>
                      <a:pt x="13801" y="3"/>
                    </a:moveTo>
                    <a:lnTo>
                      <a:pt x="13801" y="3"/>
                    </a:lnTo>
                    <a:cubicBezTo>
                      <a:pt x="13802" y="3"/>
                      <a:pt x="13803" y="4"/>
                      <a:pt x="13803" y="5"/>
                    </a:cubicBezTo>
                    <a:cubicBezTo>
                      <a:pt x="13803" y="6"/>
                      <a:pt x="13802" y="7"/>
                      <a:pt x="13801" y="7"/>
                    </a:cubicBezTo>
                    <a:lnTo>
                      <a:pt x="13801" y="7"/>
                    </a:lnTo>
                    <a:cubicBezTo>
                      <a:pt x="13800" y="7"/>
                      <a:pt x="13799" y="6"/>
                      <a:pt x="13799" y="5"/>
                    </a:cubicBezTo>
                    <a:cubicBezTo>
                      <a:pt x="13799" y="4"/>
                      <a:pt x="13800" y="3"/>
                      <a:pt x="13801" y="3"/>
                    </a:cubicBezTo>
                    <a:close/>
                    <a:moveTo>
                      <a:pt x="13809" y="3"/>
                    </a:moveTo>
                    <a:lnTo>
                      <a:pt x="13809" y="3"/>
                    </a:lnTo>
                    <a:cubicBezTo>
                      <a:pt x="13810" y="3"/>
                      <a:pt x="13811" y="4"/>
                      <a:pt x="13811" y="5"/>
                    </a:cubicBezTo>
                    <a:cubicBezTo>
                      <a:pt x="13811" y="6"/>
                      <a:pt x="13810" y="7"/>
                      <a:pt x="13809" y="7"/>
                    </a:cubicBezTo>
                    <a:lnTo>
                      <a:pt x="13809" y="7"/>
                    </a:lnTo>
                    <a:cubicBezTo>
                      <a:pt x="13808" y="7"/>
                      <a:pt x="13807" y="6"/>
                      <a:pt x="13807" y="5"/>
                    </a:cubicBezTo>
                    <a:cubicBezTo>
                      <a:pt x="13807" y="4"/>
                      <a:pt x="13808" y="3"/>
                      <a:pt x="13809" y="3"/>
                    </a:cubicBezTo>
                    <a:close/>
                    <a:moveTo>
                      <a:pt x="13817" y="3"/>
                    </a:moveTo>
                    <a:lnTo>
                      <a:pt x="13817" y="3"/>
                    </a:lnTo>
                    <a:cubicBezTo>
                      <a:pt x="13818" y="3"/>
                      <a:pt x="13819" y="4"/>
                      <a:pt x="13819" y="5"/>
                    </a:cubicBezTo>
                    <a:cubicBezTo>
                      <a:pt x="13819" y="6"/>
                      <a:pt x="13818" y="7"/>
                      <a:pt x="13817" y="7"/>
                    </a:cubicBezTo>
                    <a:lnTo>
                      <a:pt x="13817" y="7"/>
                    </a:lnTo>
                    <a:cubicBezTo>
                      <a:pt x="13816" y="7"/>
                      <a:pt x="13815" y="6"/>
                      <a:pt x="13815" y="5"/>
                    </a:cubicBezTo>
                    <a:cubicBezTo>
                      <a:pt x="13815" y="4"/>
                      <a:pt x="13816" y="3"/>
                      <a:pt x="13817" y="3"/>
                    </a:cubicBezTo>
                    <a:close/>
                    <a:moveTo>
                      <a:pt x="13825" y="3"/>
                    </a:moveTo>
                    <a:lnTo>
                      <a:pt x="13825" y="3"/>
                    </a:lnTo>
                    <a:cubicBezTo>
                      <a:pt x="13826" y="3"/>
                      <a:pt x="13827" y="4"/>
                      <a:pt x="13827" y="5"/>
                    </a:cubicBezTo>
                    <a:cubicBezTo>
                      <a:pt x="13827" y="6"/>
                      <a:pt x="13826" y="7"/>
                      <a:pt x="13825" y="7"/>
                    </a:cubicBezTo>
                    <a:lnTo>
                      <a:pt x="13825" y="7"/>
                    </a:lnTo>
                    <a:cubicBezTo>
                      <a:pt x="13824" y="7"/>
                      <a:pt x="13823" y="6"/>
                      <a:pt x="13823" y="5"/>
                    </a:cubicBezTo>
                    <a:cubicBezTo>
                      <a:pt x="13823" y="4"/>
                      <a:pt x="13824" y="3"/>
                      <a:pt x="13825" y="3"/>
                    </a:cubicBezTo>
                    <a:close/>
                    <a:moveTo>
                      <a:pt x="13833" y="3"/>
                    </a:moveTo>
                    <a:lnTo>
                      <a:pt x="13833" y="3"/>
                    </a:lnTo>
                    <a:cubicBezTo>
                      <a:pt x="13834" y="3"/>
                      <a:pt x="13835" y="4"/>
                      <a:pt x="13835" y="5"/>
                    </a:cubicBezTo>
                    <a:cubicBezTo>
                      <a:pt x="13835" y="6"/>
                      <a:pt x="13834" y="7"/>
                      <a:pt x="13833" y="7"/>
                    </a:cubicBezTo>
                    <a:lnTo>
                      <a:pt x="13833" y="7"/>
                    </a:lnTo>
                    <a:cubicBezTo>
                      <a:pt x="13832" y="7"/>
                      <a:pt x="13831" y="6"/>
                      <a:pt x="13831" y="5"/>
                    </a:cubicBezTo>
                    <a:cubicBezTo>
                      <a:pt x="13831" y="4"/>
                      <a:pt x="13832" y="3"/>
                      <a:pt x="13833" y="3"/>
                    </a:cubicBezTo>
                    <a:close/>
                    <a:moveTo>
                      <a:pt x="13841" y="3"/>
                    </a:moveTo>
                    <a:lnTo>
                      <a:pt x="13841" y="3"/>
                    </a:lnTo>
                    <a:cubicBezTo>
                      <a:pt x="13842" y="3"/>
                      <a:pt x="13843" y="4"/>
                      <a:pt x="13843" y="5"/>
                    </a:cubicBezTo>
                    <a:cubicBezTo>
                      <a:pt x="13843" y="6"/>
                      <a:pt x="13842" y="7"/>
                      <a:pt x="13841" y="7"/>
                    </a:cubicBezTo>
                    <a:lnTo>
                      <a:pt x="13841" y="7"/>
                    </a:lnTo>
                    <a:cubicBezTo>
                      <a:pt x="13840" y="7"/>
                      <a:pt x="13839" y="6"/>
                      <a:pt x="13839" y="5"/>
                    </a:cubicBezTo>
                    <a:cubicBezTo>
                      <a:pt x="13839" y="4"/>
                      <a:pt x="13840" y="3"/>
                      <a:pt x="13841" y="3"/>
                    </a:cubicBezTo>
                    <a:close/>
                    <a:moveTo>
                      <a:pt x="13849" y="3"/>
                    </a:moveTo>
                    <a:lnTo>
                      <a:pt x="13849" y="3"/>
                    </a:lnTo>
                    <a:cubicBezTo>
                      <a:pt x="13850" y="3"/>
                      <a:pt x="13851" y="4"/>
                      <a:pt x="13851" y="5"/>
                    </a:cubicBezTo>
                    <a:cubicBezTo>
                      <a:pt x="13851" y="6"/>
                      <a:pt x="13850" y="7"/>
                      <a:pt x="13849" y="7"/>
                    </a:cubicBezTo>
                    <a:lnTo>
                      <a:pt x="13849" y="7"/>
                    </a:lnTo>
                    <a:cubicBezTo>
                      <a:pt x="13848" y="7"/>
                      <a:pt x="13847" y="6"/>
                      <a:pt x="13847" y="5"/>
                    </a:cubicBezTo>
                    <a:cubicBezTo>
                      <a:pt x="13847" y="4"/>
                      <a:pt x="13848" y="3"/>
                      <a:pt x="13849" y="3"/>
                    </a:cubicBezTo>
                    <a:close/>
                    <a:moveTo>
                      <a:pt x="13857" y="3"/>
                    </a:moveTo>
                    <a:lnTo>
                      <a:pt x="13857" y="3"/>
                    </a:lnTo>
                    <a:cubicBezTo>
                      <a:pt x="13858" y="3"/>
                      <a:pt x="13859" y="4"/>
                      <a:pt x="13859" y="5"/>
                    </a:cubicBezTo>
                    <a:cubicBezTo>
                      <a:pt x="13859" y="6"/>
                      <a:pt x="13858" y="7"/>
                      <a:pt x="13857" y="7"/>
                    </a:cubicBezTo>
                    <a:lnTo>
                      <a:pt x="13857" y="7"/>
                    </a:lnTo>
                    <a:cubicBezTo>
                      <a:pt x="13856" y="7"/>
                      <a:pt x="13855" y="6"/>
                      <a:pt x="13855" y="5"/>
                    </a:cubicBezTo>
                    <a:cubicBezTo>
                      <a:pt x="13855" y="4"/>
                      <a:pt x="13856" y="3"/>
                      <a:pt x="13857" y="3"/>
                    </a:cubicBezTo>
                    <a:close/>
                    <a:moveTo>
                      <a:pt x="13865" y="3"/>
                    </a:moveTo>
                    <a:lnTo>
                      <a:pt x="13865" y="3"/>
                    </a:lnTo>
                    <a:cubicBezTo>
                      <a:pt x="13866" y="3"/>
                      <a:pt x="13867" y="4"/>
                      <a:pt x="13867" y="5"/>
                    </a:cubicBezTo>
                    <a:cubicBezTo>
                      <a:pt x="13867" y="6"/>
                      <a:pt x="13866" y="7"/>
                      <a:pt x="13865" y="7"/>
                    </a:cubicBezTo>
                    <a:lnTo>
                      <a:pt x="13865" y="7"/>
                    </a:lnTo>
                    <a:cubicBezTo>
                      <a:pt x="13864" y="7"/>
                      <a:pt x="13863" y="6"/>
                      <a:pt x="13863" y="5"/>
                    </a:cubicBezTo>
                    <a:cubicBezTo>
                      <a:pt x="13863" y="4"/>
                      <a:pt x="13864" y="3"/>
                      <a:pt x="13865" y="3"/>
                    </a:cubicBezTo>
                    <a:close/>
                    <a:moveTo>
                      <a:pt x="13873" y="3"/>
                    </a:moveTo>
                    <a:lnTo>
                      <a:pt x="13873" y="3"/>
                    </a:lnTo>
                    <a:cubicBezTo>
                      <a:pt x="13874" y="3"/>
                      <a:pt x="13875" y="4"/>
                      <a:pt x="13875" y="5"/>
                    </a:cubicBezTo>
                    <a:cubicBezTo>
                      <a:pt x="13875" y="6"/>
                      <a:pt x="13874" y="7"/>
                      <a:pt x="13873" y="7"/>
                    </a:cubicBezTo>
                    <a:lnTo>
                      <a:pt x="13873" y="7"/>
                    </a:lnTo>
                    <a:cubicBezTo>
                      <a:pt x="13872" y="7"/>
                      <a:pt x="13871" y="6"/>
                      <a:pt x="13871" y="5"/>
                    </a:cubicBezTo>
                    <a:cubicBezTo>
                      <a:pt x="13871" y="4"/>
                      <a:pt x="13872" y="3"/>
                      <a:pt x="13873" y="3"/>
                    </a:cubicBezTo>
                    <a:close/>
                    <a:moveTo>
                      <a:pt x="13881" y="3"/>
                    </a:moveTo>
                    <a:lnTo>
                      <a:pt x="13881" y="3"/>
                    </a:lnTo>
                    <a:cubicBezTo>
                      <a:pt x="13882" y="3"/>
                      <a:pt x="13883" y="4"/>
                      <a:pt x="13883" y="5"/>
                    </a:cubicBezTo>
                    <a:cubicBezTo>
                      <a:pt x="13883" y="6"/>
                      <a:pt x="13882" y="7"/>
                      <a:pt x="13881" y="7"/>
                    </a:cubicBezTo>
                    <a:lnTo>
                      <a:pt x="13881" y="7"/>
                    </a:lnTo>
                    <a:cubicBezTo>
                      <a:pt x="13880" y="7"/>
                      <a:pt x="13879" y="6"/>
                      <a:pt x="13879" y="5"/>
                    </a:cubicBezTo>
                    <a:cubicBezTo>
                      <a:pt x="13879" y="4"/>
                      <a:pt x="13880" y="3"/>
                      <a:pt x="13881" y="3"/>
                    </a:cubicBezTo>
                    <a:close/>
                    <a:moveTo>
                      <a:pt x="13889" y="3"/>
                    </a:moveTo>
                    <a:lnTo>
                      <a:pt x="13889" y="3"/>
                    </a:lnTo>
                    <a:cubicBezTo>
                      <a:pt x="13890" y="3"/>
                      <a:pt x="13891" y="4"/>
                      <a:pt x="13891" y="5"/>
                    </a:cubicBezTo>
                    <a:cubicBezTo>
                      <a:pt x="13891" y="6"/>
                      <a:pt x="13890" y="7"/>
                      <a:pt x="13889" y="7"/>
                    </a:cubicBezTo>
                    <a:lnTo>
                      <a:pt x="13889" y="7"/>
                    </a:lnTo>
                    <a:cubicBezTo>
                      <a:pt x="13888" y="7"/>
                      <a:pt x="13887" y="6"/>
                      <a:pt x="13887" y="5"/>
                    </a:cubicBezTo>
                    <a:cubicBezTo>
                      <a:pt x="13887" y="4"/>
                      <a:pt x="13888" y="3"/>
                      <a:pt x="13889" y="3"/>
                    </a:cubicBezTo>
                    <a:close/>
                    <a:moveTo>
                      <a:pt x="13897" y="3"/>
                    </a:moveTo>
                    <a:lnTo>
                      <a:pt x="13897" y="3"/>
                    </a:lnTo>
                    <a:cubicBezTo>
                      <a:pt x="13898" y="3"/>
                      <a:pt x="13899" y="4"/>
                      <a:pt x="13899" y="5"/>
                    </a:cubicBezTo>
                    <a:cubicBezTo>
                      <a:pt x="13899" y="6"/>
                      <a:pt x="13898" y="7"/>
                      <a:pt x="13897" y="7"/>
                    </a:cubicBezTo>
                    <a:lnTo>
                      <a:pt x="13897" y="7"/>
                    </a:lnTo>
                    <a:cubicBezTo>
                      <a:pt x="13896" y="7"/>
                      <a:pt x="13895" y="6"/>
                      <a:pt x="13895" y="5"/>
                    </a:cubicBezTo>
                    <a:cubicBezTo>
                      <a:pt x="13895" y="4"/>
                      <a:pt x="13896" y="3"/>
                      <a:pt x="13897" y="3"/>
                    </a:cubicBezTo>
                    <a:close/>
                    <a:moveTo>
                      <a:pt x="13905" y="3"/>
                    </a:moveTo>
                    <a:lnTo>
                      <a:pt x="13905" y="3"/>
                    </a:lnTo>
                    <a:cubicBezTo>
                      <a:pt x="13906" y="3"/>
                      <a:pt x="13907" y="4"/>
                      <a:pt x="13907" y="5"/>
                    </a:cubicBezTo>
                    <a:cubicBezTo>
                      <a:pt x="13907" y="6"/>
                      <a:pt x="13906" y="7"/>
                      <a:pt x="13905" y="7"/>
                    </a:cubicBezTo>
                    <a:lnTo>
                      <a:pt x="13905" y="7"/>
                    </a:lnTo>
                    <a:cubicBezTo>
                      <a:pt x="13904" y="7"/>
                      <a:pt x="13903" y="6"/>
                      <a:pt x="13903" y="5"/>
                    </a:cubicBezTo>
                    <a:cubicBezTo>
                      <a:pt x="13903" y="4"/>
                      <a:pt x="13904" y="3"/>
                      <a:pt x="13905" y="3"/>
                    </a:cubicBezTo>
                    <a:close/>
                    <a:moveTo>
                      <a:pt x="13913" y="3"/>
                    </a:moveTo>
                    <a:lnTo>
                      <a:pt x="13913" y="3"/>
                    </a:lnTo>
                    <a:cubicBezTo>
                      <a:pt x="13914" y="3"/>
                      <a:pt x="13915" y="4"/>
                      <a:pt x="13915" y="5"/>
                    </a:cubicBezTo>
                    <a:cubicBezTo>
                      <a:pt x="13915" y="6"/>
                      <a:pt x="13914" y="7"/>
                      <a:pt x="13913" y="7"/>
                    </a:cubicBezTo>
                    <a:lnTo>
                      <a:pt x="13913" y="7"/>
                    </a:lnTo>
                    <a:cubicBezTo>
                      <a:pt x="13912" y="7"/>
                      <a:pt x="13911" y="6"/>
                      <a:pt x="13911" y="5"/>
                    </a:cubicBezTo>
                    <a:cubicBezTo>
                      <a:pt x="13911" y="4"/>
                      <a:pt x="13912" y="3"/>
                      <a:pt x="13913" y="3"/>
                    </a:cubicBezTo>
                    <a:close/>
                    <a:moveTo>
                      <a:pt x="13921" y="3"/>
                    </a:moveTo>
                    <a:lnTo>
                      <a:pt x="13921" y="3"/>
                    </a:lnTo>
                    <a:cubicBezTo>
                      <a:pt x="13922" y="3"/>
                      <a:pt x="13923" y="4"/>
                      <a:pt x="13923" y="5"/>
                    </a:cubicBezTo>
                    <a:cubicBezTo>
                      <a:pt x="13923" y="6"/>
                      <a:pt x="13922" y="7"/>
                      <a:pt x="13921" y="7"/>
                    </a:cubicBezTo>
                    <a:lnTo>
                      <a:pt x="13921" y="7"/>
                    </a:lnTo>
                    <a:cubicBezTo>
                      <a:pt x="13920" y="7"/>
                      <a:pt x="13919" y="6"/>
                      <a:pt x="13919" y="5"/>
                    </a:cubicBezTo>
                    <a:cubicBezTo>
                      <a:pt x="13919" y="4"/>
                      <a:pt x="13920" y="3"/>
                      <a:pt x="13921" y="3"/>
                    </a:cubicBezTo>
                    <a:close/>
                    <a:moveTo>
                      <a:pt x="13929" y="3"/>
                    </a:moveTo>
                    <a:lnTo>
                      <a:pt x="13929" y="3"/>
                    </a:lnTo>
                    <a:cubicBezTo>
                      <a:pt x="13930" y="3"/>
                      <a:pt x="13931" y="4"/>
                      <a:pt x="13931" y="5"/>
                    </a:cubicBezTo>
                    <a:cubicBezTo>
                      <a:pt x="13931" y="6"/>
                      <a:pt x="13930" y="7"/>
                      <a:pt x="13929" y="7"/>
                    </a:cubicBezTo>
                    <a:lnTo>
                      <a:pt x="13929" y="7"/>
                    </a:lnTo>
                    <a:cubicBezTo>
                      <a:pt x="13928" y="7"/>
                      <a:pt x="13927" y="6"/>
                      <a:pt x="13927" y="5"/>
                    </a:cubicBezTo>
                    <a:cubicBezTo>
                      <a:pt x="13927" y="4"/>
                      <a:pt x="13928" y="3"/>
                      <a:pt x="13929" y="3"/>
                    </a:cubicBezTo>
                    <a:close/>
                    <a:moveTo>
                      <a:pt x="13937" y="3"/>
                    </a:moveTo>
                    <a:lnTo>
                      <a:pt x="13937" y="3"/>
                    </a:lnTo>
                    <a:cubicBezTo>
                      <a:pt x="13938" y="3"/>
                      <a:pt x="13939" y="4"/>
                      <a:pt x="13939" y="5"/>
                    </a:cubicBezTo>
                    <a:cubicBezTo>
                      <a:pt x="13939" y="6"/>
                      <a:pt x="13938" y="7"/>
                      <a:pt x="13937" y="7"/>
                    </a:cubicBezTo>
                    <a:lnTo>
                      <a:pt x="13937" y="7"/>
                    </a:lnTo>
                    <a:cubicBezTo>
                      <a:pt x="13936" y="7"/>
                      <a:pt x="13935" y="6"/>
                      <a:pt x="13935" y="5"/>
                    </a:cubicBezTo>
                    <a:cubicBezTo>
                      <a:pt x="13935" y="4"/>
                      <a:pt x="13936" y="3"/>
                      <a:pt x="13937" y="3"/>
                    </a:cubicBezTo>
                    <a:close/>
                    <a:moveTo>
                      <a:pt x="13945" y="3"/>
                    </a:moveTo>
                    <a:lnTo>
                      <a:pt x="13945" y="3"/>
                    </a:lnTo>
                    <a:cubicBezTo>
                      <a:pt x="13946" y="3"/>
                      <a:pt x="13947" y="4"/>
                      <a:pt x="13947" y="5"/>
                    </a:cubicBezTo>
                    <a:cubicBezTo>
                      <a:pt x="13947" y="6"/>
                      <a:pt x="13946" y="7"/>
                      <a:pt x="13945" y="7"/>
                    </a:cubicBezTo>
                    <a:lnTo>
                      <a:pt x="13945" y="7"/>
                    </a:lnTo>
                    <a:cubicBezTo>
                      <a:pt x="13944" y="7"/>
                      <a:pt x="13943" y="6"/>
                      <a:pt x="13943" y="5"/>
                    </a:cubicBezTo>
                    <a:cubicBezTo>
                      <a:pt x="13943" y="4"/>
                      <a:pt x="13944" y="3"/>
                      <a:pt x="13945" y="3"/>
                    </a:cubicBezTo>
                    <a:close/>
                    <a:moveTo>
                      <a:pt x="13953" y="3"/>
                    </a:moveTo>
                    <a:lnTo>
                      <a:pt x="13953" y="3"/>
                    </a:lnTo>
                    <a:cubicBezTo>
                      <a:pt x="13954" y="3"/>
                      <a:pt x="13955" y="4"/>
                      <a:pt x="13955" y="5"/>
                    </a:cubicBezTo>
                    <a:cubicBezTo>
                      <a:pt x="13955" y="6"/>
                      <a:pt x="13954" y="7"/>
                      <a:pt x="13953" y="7"/>
                    </a:cubicBezTo>
                    <a:lnTo>
                      <a:pt x="13953" y="7"/>
                    </a:lnTo>
                    <a:cubicBezTo>
                      <a:pt x="13952" y="7"/>
                      <a:pt x="13951" y="6"/>
                      <a:pt x="13951" y="5"/>
                    </a:cubicBezTo>
                    <a:cubicBezTo>
                      <a:pt x="13951" y="4"/>
                      <a:pt x="13952" y="3"/>
                      <a:pt x="13953" y="3"/>
                    </a:cubicBezTo>
                    <a:close/>
                    <a:moveTo>
                      <a:pt x="13961" y="3"/>
                    </a:moveTo>
                    <a:lnTo>
                      <a:pt x="13961" y="3"/>
                    </a:lnTo>
                    <a:cubicBezTo>
                      <a:pt x="13962" y="3"/>
                      <a:pt x="13963" y="4"/>
                      <a:pt x="13963" y="5"/>
                    </a:cubicBezTo>
                    <a:cubicBezTo>
                      <a:pt x="13963" y="6"/>
                      <a:pt x="13962" y="7"/>
                      <a:pt x="13961" y="7"/>
                    </a:cubicBezTo>
                    <a:lnTo>
                      <a:pt x="13961" y="7"/>
                    </a:lnTo>
                    <a:cubicBezTo>
                      <a:pt x="13960" y="7"/>
                      <a:pt x="13959" y="6"/>
                      <a:pt x="13959" y="5"/>
                    </a:cubicBezTo>
                    <a:cubicBezTo>
                      <a:pt x="13959" y="4"/>
                      <a:pt x="13960" y="3"/>
                      <a:pt x="13961" y="3"/>
                    </a:cubicBezTo>
                    <a:close/>
                    <a:moveTo>
                      <a:pt x="13969" y="3"/>
                    </a:moveTo>
                    <a:lnTo>
                      <a:pt x="13969" y="3"/>
                    </a:lnTo>
                    <a:cubicBezTo>
                      <a:pt x="13970" y="3"/>
                      <a:pt x="13971" y="4"/>
                      <a:pt x="13971" y="5"/>
                    </a:cubicBezTo>
                    <a:cubicBezTo>
                      <a:pt x="13971" y="6"/>
                      <a:pt x="13970" y="7"/>
                      <a:pt x="13969" y="7"/>
                    </a:cubicBezTo>
                    <a:lnTo>
                      <a:pt x="13969" y="7"/>
                    </a:lnTo>
                    <a:cubicBezTo>
                      <a:pt x="13968" y="7"/>
                      <a:pt x="13967" y="6"/>
                      <a:pt x="13967" y="5"/>
                    </a:cubicBezTo>
                    <a:cubicBezTo>
                      <a:pt x="13967" y="4"/>
                      <a:pt x="13968" y="3"/>
                      <a:pt x="13969" y="3"/>
                    </a:cubicBezTo>
                    <a:close/>
                    <a:moveTo>
                      <a:pt x="13977" y="3"/>
                    </a:moveTo>
                    <a:lnTo>
                      <a:pt x="13977" y="3"/>
                    </a:lnTo>
                    <a:cubicBezTo>
                      <a:pt x="13978" y="3"/>
                      <a:pt x="13979" y="4"/>
                      <a:pt x="13979" y="5"/>
                    </a:cubicBezTo>
                    <a:cubicBezTo>
                      <a:pt x="13979" y="6"/>
                      <a:pt x="13978" y="7"/>
                      <a:pt x="13977" y="7"/>
                    </a:cubicBezTo>
                    <a:lnTo>
                      <a:pt x="13977" y="7"/>
                    </a:lnTo>
                    <a:cubicBezTo>
                      <a:pt x="13976" y="7"/>
                      <a:pt x="13975" y="6"/>
                      <a:pt x="13975" y="5"/>
                    </a:cubicBezTo>
                    <a:cubicBezTo>
                      <a:pt x="13975" y="4"/>
                      <a:pt x="13976" y="3"/>
                      <a:pt x="13977" y="3"/>
                    </a:cubicBezTo>
                    <a:close/>
                    <a:moveTo>
                      <a:pt x="13985" y="3"/>
                    </a:moveTo>
                    <a:lnTo>
                      <a:pt x="13985" y="3"/>
                    </a:lnTo>
                    <a:cubicBezTo>
                      <a:pt x="13986" y="3"/>
                      <a:pt x="13987" y="4"/>
                      <a:pt x="13987" y="5"/>
                    </a:cubicBezTo>
                    <a:cubicBezTo>
                      <a:pt x="13987" y="6"/>
                      <a:pt x="13986" y="7"/>
                      <a:pt x="13985" y="7"/>
                    </a:cubicBezTo>
                    <a:lnTo>
                      <a:pt x="13985" y="7"/>
                    </a:lnTo>
                    <a:cubicBezTo>
                      <a:pt x="13984" y="7"/>
                      <a:pt x="13983" y="6"/>
                      <a:pt x="13983" y="5"/>
                    </a:cubicBezTo>
                    <a:cubicBezTo>
                      <a:pt x="13983" y="4"/>
                      <a:pt x="13984" y="3"/>
                      <a:pt x="13985" y="3"/>
                    </a:cubicBezTo>
                    <a:close/>
                    <a:moveTo>
                      <a:pt x="13993" y="3"/>
                    </a:moveTo>
                    <a:lnTo>
                      <a:pt x="13993" y="3"/>
                    </a:lnTo>
                    <a:cubicBezTo>
                      <a:pt x="13994" y="3"/>
                      <a:pt x="13995" y="4"/>
                      <a:pt x="13995" y="5"/>
                    </a:cubicBezTo>
                    <a:cubicBezTo>
                      <a:pt x="13995" y="6"/>
                      <a:pt x="13994" y="7"/>
                      <a:pt x="13993" y="7"/>
                    </a:cubicBezTo>
                    <a:lnTo>
                      <a:pt x="13993" y="7"/>
                    </a:lnTo>
                    <a:cubicBezTo>
                      <a:pt x="13992" y="7"/>
                      <a:pt x="13991" y="6"/>
                      <a:pt x="13991" y="5"/>
                    </a:cubicBezTo>
                    <a:cubicBezTo>
                      <a:pt x="13991" y="4"/>
                      <a:pt x="13992" y="3"/>
                      <a:pt x="13993" y="3"/>
                    </a:cubicBezTo>
                    <a:close/>
                    <a:moveTo>
                      <a:pt x="14001" y="3"/>
                    </a:moveTo>
                    <a:lnTo>
                      <a:pt x="14001" y="3"/>
                    </a:lnTo>
                    <a:cubicBezTo>
                      <a:pt x="14002" y="3"/>
                      <a:pt x="14003" y="4"/>
                      <a:pt x="14003" y="5"/>
                    </a:cubicBezTo>
                    <a:cubicBezTo>
                      <a:pt x="14003" y="6"/>
                      <a:pt x="14002" y="7"/>
                      <a:pt x="14001" y="7"/>
                    </a:cubicBezTo>
                    <a:lnTo>
                      <a:pt x="14001" y="7"/>
                    </a:lnTo>
                    <a:cubicBezTo>
                      <a:pt x="14000" y="7"/>
                      <a:pt x="13999" y="6"/>
                      <a:pt x="13999" y="5"/>
                    </a:cubicBezTo>
                    <a:cubicBezTo>
                      <a:pt x="13999" y="4"/>
                      <a:pt x="14000" y="3"/>
                      <a:pt x="14001" y="3"/>
                    </a:cubicBezTo>
                    <a:close/>
                    <a:moveTo>
                      <a:pt x="14009" y="3"/>
                    </a:moveTo>
                    <a:lnTo>
                      <a:pt x="14009" y="3"/>
                    </a:lnTo>
                    <a:cubicBezTo>
                      <a:pt x="14010" y="3"/>
                      <a:pt x="14011" y="4"/>
                      <a:pt x="14011" y="5"/>
                    </a:cubicBezTo>
                    <a:cubicBezTo>
                      <a:pt x="14011" y="6"/>
                      <a:pt x="14010" y="7"/>
                      <a:pt x="14009" y="7"/>
                    </a:cubicBezTo>
                    <a:lnTo>
                      <a:pt x="14009" y="7"/>
                    </a:lnTo>
                    <a:cubicBezTo>
                      <a:pt x="14008" y="7"/>
                      <a:pt x="14007" y="6"/>
                      <a:pt x="14007" y="5"/>
                    </a:cubicBezTo>
                    <a:cubicBezTo>
                      <a:pt x="14007" y="4"/>
                      <a:pt x="14008" y="3"/>
                      <a:pt x="14009" y="3"/>
                    </a:cubicBezTo>
                    <a:close/>
                    <a:moveTo>
                      <a:pt x="14017" y="3"/>
                    </a:moveTo>
                    <a:lnTo>
                      <a:pt x="14017" y="3"/>
                    </a:lnTo>
                    <a:cubicBezTo>
                      <a:pt x="14018" y="3"/>
                      <a:pt x="14019" y="4"/>
                      <a:pt x="14019" y="5"/>
                    </a:cubicBezTo>
                    <a:cubicBezTo>
                      <a:pt x="14019" y="6"/>
                      <a:pt x="14018" y="7"/>
                      <a:pt x="14017" y="7"/>
                    </a:cubicBezTo>
                    <a:lnTo>
                      <a:pt x="14017" y="7"/>
                    </a:lnTo>
                    <a:cubicBezTo>
                      <a:pt x="14016" y="7"/>
                      <a:pt x="14015" y="6"/>
                      <a:pt x="14015" y="5"/>
                    </a:cubicBezTo>
                    <a:cubicBezTo>
                      <a:pt x="14015" y="4"/>
                      <a:pt x="14016" y="3"/>
                      <a:pt x="14017" y="3"/>
                    </a:cubicBezTo>
                    <a:close/>
                    <a:moveTo>
                      <a:pt x="14025" y="3"/>
                    </a:moveTo>
                    <a:lnTo>
                      <a:pt x="14025" y="3"/>
                    </a:lnTo>
                    <a:cubicBezTo>
                      <a:pt x="14026" y="3"/>
                      <a:pt x="14027" y="4"/>
                      <a:pt x="14027" y="5"/>
                    </a:cubicBezTo>
                    <a:cubicBezTo>
                      <a:pt x="14027" y="6"/>
                      <a:pt x="14026" y="7"/>
                      <a:pt x="14025" y="7"/>
                    </a:cubicBezTo>
                    <a:lnTo>
                      <a:pt x="14025" y="7"/>
                    </a:lnTo>
                    <a:cubicBezTo>
                      <a:pt x="14024" y="7"/>
                      <a:pt x="14023" y="6"/>
                      <a:pt x="14023" y="5"/>
                    </a:cubicBezTo>
                    <a:cubicBezTo>
                      <a:pt x="14023" y="4"/>
                      <a:pt x="14024" y="3"/>
                      <a:pt x="14025" y="3"/>
                    </a:cubicBezTo>
                    <a:close/>
                    <a:moveTo>
                      <a:pt x="14033" y="3"/>
                    </a:moveTo>
                    <a:lnTo>
                      <a:pt x="14033" y="3"/>
                    </a:lnTo>
                    <a:cubicBezTo>
                      <a:pt x="14034" y="3"/>
                      <a:pt x="14035" y="4"/>
                      <a:pt x="14035" y="5"/>
                    </a:cubicBezTo>
                    <a:cubicBezTo>
                      <a:pt x="14035" y="6"/>
                      <a:pt x="14034" y="7"/>
                      <a:pt x="14033" y="7"/>
                    </a:cubicBezTo>
                    <a:lnTo>
                      <a:pt x="14033" y="7"/>
                    </a:lnTo>
                    <a:cubicBezTo>
                      <a:pt x="14032" y="7"/>
                      <a:pt x="14031" y="6"/>
                      <a:pt x="14031" y="5"/>
                    </a:cubicBezTo>
                    <a:cubicBezTo>
                      <a:pt x="14031" y="4"/>
                      <a:pt x="14032" y="3"/>
                      <a:pt x="14033" y="3"/>
                    </a:cubicBezTo>
                    <a:close/>
                    <a:moveTo>
                      <a:pt x="14041" y="3"/>
                    </a:moveTo>
                    <a:lnTo>
                      <a:pt x="14041" y="3"/>
                    </a:lnTo>
                    <a:cubicBezTo>
                      <a:pt x="14042" y="3"/>
                      <a:pt x="14043" y="4"/>
                      <a:pt x="14043" y="5"/>
                    </a:cubicBezTo>
                    <a:cubicBezTo>
                      <a:pt x="14043" y="6"/>
                      <a:pt x="14042" y="7"/>
                      <a:pt x="14041" y="7"/>
                    </a:cubicBezTo>
                    <a:lnTo>
                      <a:pt x="14041" y="7"/>
                    </a:lnTo>
                    <a:cubicBezTo>
                      <a:pt x="14040" y="7"/>
                      <a:pt x="14039" y="6"/>
                      <a:pt x="14039" y="5"/>
                    </a:cubicBezTo>
                    <a:cubicBezTo>
                      <a:pt x="14039" y="4"/>
                      <a:pt x="14040" y="3"/>
                      <a:pt x="14041" y="3"/>
                    </a:cubicBezTo>
                    <a:close/>
                    <a:moveTo>
                      <a:pt x="14049" y="3"/>
                    </a:moveTo>
                    <a:lnTo>
                      <a:pt x="14049" y="3"/>
                    </a:lnTo>
                    <a:cubicBezTo>
                      <a:pt x="14050" y="3"/>
                      <a:pt x="14051" y="4"/>
                      <a:pt x="14051" y="5"/>
                    </a:cubicBezTo>
                    <a:cubicBezTo>
                      <a:pt x="14051" y="6"/>
                      <a:pt x="14050" y="7"/>
                      <a:pt x="14049" y="7"/>
                    </a:cubicBezTo>
                    <a:lnTo>
                      <a:pt x="14049" y="7"/>
                    </a:lnTo>
                    <a:cubicBezTo>
                      <a:pt x="14048" y="7"/>
                      <a:pt x="14047" y="6"/>
                      <a:pt x="14047" y="5"/>
                    </a:cubicBezTo>
                    <a:cubicBezTo>
                      <a:pt x="14047" y="4"/>
                      <a:pt x="14048" y="3"/>
                      <a:pt x="14049" y="3"/>
                    </a:cubicBezTo>
                    <a:close/>
                    <a:moveTo>
                      <a:pt x="14057" y="3"/>
                    </a:moveTo>
                    <a:lnTo>
                      <a:pt x="14057" y="3"/>
                    </a:lnTo>
                    <a:cubicBezTo>
                      <a:pt x="14058" y="3"/>
                      <a:pt x="14059" y="4"/>
                      <a:pt x="14059" y="5"/>
                    </a:cubicBezTo>
                    <a:cubicBezTo>
                      <a:pt x="14059" y="6"/>
                      <a:pt x="14058" y="7"/>
                      <a:pt x="14057" y="7"/>
                    </a:cubicBezTo>
                    <a:lnTo>
                      <a:pt x="14057" y="7"/>
                    </a:lnTo>
                    <a:cubicBezTo>
                      <a:pt x="14056" y="7"/>
                      <a:pt x="14055" y="6"/>
                      <a:pt x="14055" y="5"/>
                    </a:cubicBezTo>
                    <a:cubicBezTo>
                      <a:pt x="14055" y="4"/>
                      <a:pt x="14056" y="3"/>
                      <a:pt x="14057" y="3"/>
                    </a:cubicBezTo>
                    <a:close/>
                    <a:moveTo>
                      <a:pt x="14065" y="3"/>
                    </a:moveTo>
                    <a:lnTo>
                      <a:pt x="14065" y="3"/>
                    </a:lnTo>
                    <a:cubicBezTo>
                      <a:pt x="14066" y="3"/>
                      <a:pt x="14067" y="4"/>
                      <a:pt x="14067" y="5"/>
                    </a:cubicBezTo>
                    <a:cubicBezTo>
                      <a:pt x="14067" y="6"/>
                      <a:pt x="14066" y="7"/>
                      <a:pt x="14065" y="7"/>
                    </a:cubicBezTo>
                    <a:lnTo>
                      <a:pt x="14065" y="7"/>
                    </a:lnTo>
                    <a:cubicBezTo>
                      <a:pt x="14064" y="7"/>
                      <a:pt x="14063" y="6"/>
                      <a:pt x="14063" y="5"/>
                    </a:cubicBezTo>
                    <a:cubicBezTo>
                      <a:pt x="14063" y="4"/>
                      <a:pt x="14064" y="3"/>
                      <a:pt x="14065" y="3"/>
                    </a:cubicBezTo>
                    <a:close/>
                    <a:moveTo>
                      <a:pt x="14073" y="3"/>
                    </a:moveTo>
                    <a:lnTo>
                      <a:pt x="14073" y="3"/>
                    </a:lnTo>
                    <a:cubicBezTo>
                      <a:pt x="14074" y="3"/>
                      <a:pt x="14075" y="4"/>
                      <a:pt x="14075" y="5"/>
                    </a:cubicBezTo>
                    <a:cubicBezTo>
                      <a:pt x="14075" y="6"/>
                      <a:pt x="14074" y="7"/>
                      <a:pt x="14073" y="7"/>
                    </a:cubicBezTo>
                    <a:lnTo>
                      <a:pt x="14073" y="7"/>
                    </a:lnTo>
                    <a:cubicBezTo>
                      <a:pt x="14072" y="7"/>
                      <a:pt x="14071" y="6"/>
                      <a:pt x="14071" y="5"/>
                    </a:cubicBezTo>
                    <a:cubicBezTo>
                      <a:pt x="14071" y="4"/>
                      <a:pt x="14072" y="3"/>
                      <a:pt x="14073" y="3"/>
                    </a:cubicBezTo>
                    <a:close/>
                    <a:moveTo>
                      <a:pt x="14081" y="3"/>
                    </a:moveTo>
                    <a:lnTo>
                      <a:pt x="14081" y="3"/>
                    </a:lnTo>
                    <a:cubicBezTo>
                      <a:pt x="14082" y="3"/>
                      <a:pt x="14083" y="4"/>
                      <a:pt x="14083" y="5"/>
                    </a:cubicBezTo>
                    <a:cubicBezTo>
                      <a:pt x="14083" y="6"/>
                      <a:pt x="14082" y="7"/>
                      <a:pt x="14081" y="7"/>
                    </a:cubicBezTo>
                    <a:lnTo>
                      <a:pt x="14081" y="7"/>
                    </a:lnTo>
                    <a:cubicBezTo>
                      <a:pt x="14080" y="7"/>
                      <a:pt x="14079" y="6"/>
                      <a:pt x="14079" y="5"/>
                    </a:cubicBezTo>
                    <a:cubicBezTo>
                      <a:pt x="14079" y="4"/>
                      <a:pt x="14080" y="3"/>
                      <a:pt x="14081" y="3"/>
                    </a:cubicBezTo>
                    <a:close/>
                    <a:moveTo>
                      <a:pt x="14089" y="3"/>
                    </a:moveTo>
                    <a:lnTo>
                      <a:pt x="14089" y="3"/>
                    </a:lnTo>
                    <a:cubicBezTo>
                      <a:pt x="14090" y="3"/>
                      <a:pt x="14091" y="4"/>
                      <a:pt x="14091" y="5"/>
                    </a:cubicBezTo>
                    <a:cubicBezTo>
                      <a:pt x="14091" y="6"/>
                      <a:pt x="14090" y="7"/>
                      <a:pt x="14089" y="7"/>
                    </a:cubicBezTo>
                    <a:lnTo>
                      <a:pt x="14089" y="7"/>
                    </a:lnTo>
                    <a:cubicBezTo>
                      <a:pt x="14088" y="7"/>
                      <a:pt x="14087" y="6"/>
                      <a:pt x="14087" y="5"/>
                    </a:cubicBezTo>
                    <a:cubicBezTo>
                      <a:pt x="14087" y="4"/>
                      <a:pt x="14088" y="3"/>
                      <a:pt x="14089" y="3"/>
                    </a:cubicBezTo>
                    <a:close/>
                    <a:moveTo>
                      <a:pt x="14097" y="3"/>
                    </a:moveTo>
                    <a:lnTo>
                      <a:pt x="14097" y="3"/>
                    </a:lnTo>
                    <a:cubicBezTo>
                      <a:pt x="14098" y="3"/>
                      <a:pt x="14099" y="4"/>
                      <a:pt x="14099" y="5"/>
                    </a:cubicBezTo>
                    <a:cubicBezTo>
                      <a:pt x="14099" y="6"/>
                      <a:pt x="14098" y="7"/>
                      <a:pt x="14097" y="7"/>
                    </a:cubicBezTo>
                    <a:lnTo>
                      <a:pt x="14097" y="7"/>
                    </a:lnTo>
                    <a:cubicBezTo>
                      <a:pt x="14096" y="7"/>
                      <a:pt x="14095" y="6"/>
                      <a:pt x="14095" y="5"/>
                    </a:cubicBezTo>
                    <a:cubicBezTo>
                      <a:pt x="14095" y="4"/>
                      <a:pt x="14096" y="3"/>
                      <a:pt x="14097" y="3"/>
                    </a:cubicBezTo>
                    <a:close/>
                    <a:moveTo>
                      <a:pt x="14105" y="3"/>
                    </a:moveTo>
                    <a:lnTo>
                      <a:pt x="14105" y="3"/>
                    </a:lnTo>
                    <a:cubicBezTo>
                      <a:pt x="14106" y="3"/>
                      <a:pt x="14107" y="4"/>
                      <a:pt x="14107" y="5"/>
                    </a:cubicBezTo>
                    <a:cubicBezTo>
                      <a:pt x="14107" y="6"/>
                      <a:pt x="14106" y="7"/>
                      <a:pt x="14105" y="7"/>
                    </a:cubicBezTo>
                    <a:lnTo>
                      <a:pt x="14105" y="7"/>
                    </a:lnTo>
                    <a:cubicBezTo>
                      <a:pt x="14104" y="7"/>
                      <a:pt x="14103" y="6"/>
                      <a:pt x="14103" y="5"/>
                    </a:cubicBezTo>
                    <a:cubicBezTo>
                      <a:pt x="14103" y="4"/>
                      <a:pt x="14104" y="3"/>
                      <a:pt x="14105" y="3"/>
                    </a:cubicBezTo>
                    <a:close/>
                    <a:moveTo>
                      <a:pt x="14113" y="3"/>
                    </a:moveTo>
                    <a:lnTo>
                      <a:pt x="14113" y="3"/>
                    </a:lnTo>
                    <a:cubicBezTo>
                      <a:pt x="14114" y="3"/>
                      <a:pt x="14115" y="4"/>
                      <a:pt x="14115" y="5"/>
                    </a:cubicBezTo>
                    <a:cubicBezTo>
                      <a:pt x="14115" y="6"/>
                      <a:pt x="14114" y="7"/>
                      <a:pt x="14113" y="7"/>
                    </a:cubicBezTo>
                    <a:lnTo>
                      <a:pt x="14113" y="7"/>
                    </a:lnTo>
                    <a:cubicBezTo>
                      <a:pt x="14112" y="7"/>
                      <a:pt x="14111" y="6"/>
                      <a:pt x="14111" y="5"/>
                    </a:cubicBezTo>
                    <a:cubicBezTo>
                      <a:pt x="14111" y="4"/>
                      <a:pt x="14112" y="3"/>
                      <a:pt x="14113" y="3"/>
                    </a:cubicBezTo>
                    <a:close/>
                    <a:moveTo>
                      <a:pt x="14121" y="3"/>
                    </a:moveTo>
                    <a:lnTo>
                      <a:pt x="14121" y="3"/>
                    </a:lnTo>
                    <a:cubicBezTo>
                      <a:pt x="14122" y="3"/>
                      <a:pt x="14123" y="4"/>
                      <a:pt x="14123" y="5"/>
                    </a:cubicBezTo>
                    <a:cubicBezTo>
                      <a:pt x="14123" y="6"/>
                      <a:pt x="14122" y="7"/>
                      <a:pt x="14121" y="7"/>
                    </a:cubicBezTo>
                    <a:lnTo>
                      <a:pt x="14121" y="7"/>
                    </a:lnTo>
                    <a:cubicBezTo>
                      <a:pt x="14120" y="7"/>
                      <a:pt x="14119" y="6"/>
                      <a:pt x="14119" y="5"/>
                    </a:cubicBezTo>
                    <a:cubicBezTo>
                      <a:pt x="14119" y="4"/>
                      <a:pt x="14120" y="3"/>
                      <a:pt x="14121" y="3"/>
                    </a:cubicBezTo>
                    <a:close/>
                    <a:moveTo>
                      <a:pt x="14129" y="3"/>
                    </a:moveTo>
                    <a:lnTo>
                      <a:pt x="14129" y="3"/>
                    </a:lnTo>
                    <a:cubicBezTo>
                      <a:pt x="14130" y="3"/>
                      <a:pt x="14131" y="4"/>
                      <a:pt x="14131" y="5"/>
                    </a:cubicBezTo>
                    <a:cubicBezTo>
                      <a:pt x="14131" y="6"/>
                      <a:pt x="14130" y="7"/>
                      <a:pt x="14129" y="7"/>
                    </a:cubicBezTo>
                    <a:lnTo>
                      <a:pt x="14129" y="7"/>
                    </a:lnTo>
                    <a:cubicBezTo>
                      <a:pt x="14128" y="7"/>
                      <a:pt x="14127" y="6"/>
                      <a:pt x="14127" y="5"/>
                    </a:cubicBezTo>
                    <a:cubicBezTo>
                      <a:pt x="14127" y="4"/>
                      <a:pt x="14128" y="3"/>
                      <a:pt x="14129" y="3"/>
                    </a:cubicBezTo>
                    <a:close/>
                    <a:moveTo>
                      <a:pt x="14137" y="3"/>
                    </a:moveTo>
                    <a:lnTo>
                      <a:pt x="14137" y="3"/>
                    </a:lnTo>
                    <a:cubicBezTo>
                      <a:pt x="14138" y="3"/>
                      <a:pt x="14139" y="4"/>
                      <a:pt x="14139" y="5"/>
                    </a:cubicBezTo>
                    <a:cubicBezTo>
                      <a:pt x="14139" y="6"/>
                      <a:pt x="14138" y="7"/>
                      <a:pt x="14137" y="7"/>
                    </a:cubicBezTo>
                    <a:lnTo>
                      <a:pt x="14137" y="7"/>
                    </a:lnTo>
                    <a:cubicBezTo>
                      <a:pt x="14136" y="7"/>
                      <a:pt x="14135" y="6"/>
                      <a:pt x="14135" y="5"/>
                    </a:cubicBezTo>
                    <a:cubicBezTo>
                      <a:pt x="14135" y="4"/>
                      <a:pt x="14136" y="3"/>
                      <a:pt x="14137" y="3"/>
                    </a:cubicBezTo>
                    <a:close/>
                    <a:moveTo>
                      <a:pt x="14145" y="3"/>
                    </a:moveTo>
                    <a:lnTo>
                      <a:pt x="14145" y="3"/>
                    </a:lnTo>
                    <a:cubicBezTo>
                      <a:pt x="14146" y="3"/>
                      <a:pt x="14147" y="4"/>
                      <a:pt x="14147" y="5"/>
                    </a:cubicBezTo>
                    <a:cubicBezTo>
                      <a:pt x="14147" y="6"/>
                      <a:pt x="14146" y="7"/>
                      <a:pt x="14145" y="7"/>
                    </a:cubicBezTo>
                    <a:lnTo>
                      <a:pt x="14145" y="7"/>
                    </a:lnTo>
                    <a:cubicBezTo>
                      <a:pt x="14144" y="7"/>
                      <a:pt x="14143" y="6"/>
                      <a:pt x="14143" y="5"/>
                    </a:cubicBezTo>
                    <a:cubicBezTo>
                      <a:pt x="14143" y="4"/>
                      <a:pt x="14144" y="3"/>
                      <a:pt x="14145" y="3"/>
                    </a:cubicBezTo>
                    <a:close/>
                    <a:moveTo>
                      <a:pt x="14153" y="3"/>
                    </a:moveTo>
                    <a:lnTo>
                      <a:pt x="14153" y="3"/>
                    </a:lnTo>
                    <a:cubicBezTo>
                      <a:pt x="14154" y="3"/>
                      <a:pt x="14155" y="4"/>
                      <a:pt x="14155" y="5"/>
                    </a:cubicBezTo>
                    <a:cubicBezTo>
                      <a:pt x="14155" y="6"/>
                      <a:pt x="14154" y="7"/>
                      <a:pt x="14153" y="7"/>
                    </a:cubicBezTo>
                    <a:lnTo>
                      <a:pt x="14153" y="7"/>
                    </a:lnTo>
                    <a:cubicBezTo>
                      <a:pt x="14152" y="7"/>
                      <a:pt x="14151" y="6"/>
                      <a:pt x="14151" y="5"/>
                    </a:cubicBezTo>
                    <a:cubicBezTo>
                      <a:pt x="14151" y="4"/>
                      <a:pt x="14152" y="3"/>
                      <a:pt x="14153" y="3"/>
                    </a:cubicBezTo>
                    <a:close/>
                    <a:moveTo>
                      <a:pt x="14161" y="3"/>
                    </a:moveTo>
                    <a:lnTo>
                      <a:pt x="14161" y="3"/>
                    </a:lnTo>
                    <a:cubicBezTo>
                      <a:pt x="14162" y="3"/>
                      <a:pt x="14163" y="4"/>
                      <a:pt x="14163" y="5"/>
                    </a:cubicBezTo>
                    <a:cubicBezTo>
                      <a:pt x="14163" y="6"/>
                      <a:pt x="14162" y="7"/>
                      <a:pt x="14161" y="7"/>
                    </a:cubicBezTo>
                    <a:lnTo>
                      <a:pt x="14161" y="7"/>
                    </a:lnTo>
                    <a:cubicBezTo>
                      <a:pt x="14160" y="7"/>
                      <a:pt x="14159" y="6"/>
                      <a:pt x="14159" y="5"/>
                    </a:cubicBezTo>
                    <a:cubicBezTo>
                      <a:pt x="14159" y="4"/>
                      <a:pt x="14160" y="3"/>
                      <a:pt x="14161" y="3"/>
                    </a:cubicBezTo>
                    <a:close/>
                    <a:moveTo>
                      <a:pt x="14169" y="3"/>
                    </a:moveTo>
                    <a:lnTo>
                      <a:pt x="14169" y="3"/>
                    </a:lnTo>
                    <a:cubicBezTo>
                      <a:pt x="14171" y="3"/>
                      <a:pt x="14171" y="4"/>
                      <a:pt x="14171" y="5"/>
                    </a:cubicBezTo>
                    <a:cubicBezTo>
                      <a:pt x="14171" y="6"/>
                      <a:pt x="14171" y="7"/>
                      <a:pt x="14169" y="7"/>
                    </a:cubicBezTo>
                    <a:lnTo>
                      <a:pt x="14169" y="7"/>
                    </a:lnTo>
                    <a:cubicBezTo>
                      <a:pt x="14168" y="7"/>
                      <a:pt x="14167" y="6"/>
                      <a:pt x="14167" y="5"/>
                    </a:cubicBezTo>
                    <a:cubicBezTo>
                      <a:pt x="14167" y="4"/>
                      <a:pt x="14168" y="3"/>
                      <a:pt x="14169" y="3"/>
                    </a:cubicBezTo>
                    <a:close/>
                    <a:moveTo>
                      <a:pt x="14177" y="3"/>
                    </a:moveTo>
                    <a:lnTo>
                      <a:pt x="14177" y="3"/>
                    </a:lnTo>
                    <a:cubicBezTo>
                      <a:pt x="14179" y="3"/>
                      <a:pt x="14179" y="4"/>
                      <a:pt x="14179" y="5"/>
                    </a:cubicBezTo>
                    <a:cubicBezTo>
                      <a:pt x="14179" y="6"/>
                      <a:pt x="14179" y="7"/>
                      <a:pt x="14177" y="7"/>
                    </a:cubicBezTo>
                    <a:lnTo>
                      <a:pt x="14177" y="7"/>
                    </a:lnTo>
                    <a:cubicBezTo>
                      <a:pt x="14176" y="7"/>
                      <a:pt x="14175" y="6"/>
                      <a:pt x="14175" y="5"/>
                    </a:cubicBezTo>
                    <a:cubicBezTo>
                      <a:pt x="14175" y="4"/>
                      <a:pt x="14176" y="3"/>
                      <a:pt x="14177" y="3"/>
                    </a:cubicBezTo>
                    <a:close/>
                    <a:moveTo>
                      <a:pt x="14185" y="3"/>
                    </a:moveTo>
                    <a:lnTo>
                      <a:pt x="14185" y="3"/>
                    </a:lnTo>
                    <a:cubicBezTo>
                      <a:pt x="14187" y="3"/>
                      <a:pt x="14187" y="4"/>
                      <a:pt x="14187" y="5"/>
                    </a:cubicBezTo>
                    <a:cubicBezTo>
                      <a:pt x="14187" y="6"/>
                      <a:pt x="14187" y="7"/>
                      <a:pt x="14185" y="7"/>
                    </a:cubicBezTo>
                    <a:lnTo>
                      <a:pt x="14185" y="7"/>
                    </a:lnTo>
                    <a:cubicBezTo>
                      <a:pt x="14184" y="7"/>
                      <a:pt x="14183" y="6"/>
                      <a:pt x="14183" y="5"/>
                    </a:cubicBezTo>
                    <a:cubicBezTo>
                      <a:pt x="14183" y="4"/>
                      <a:pt x="14184" y="3"/>
                      <a:pt x="14185" y="3"/>
                    </a:cubicBezTo>
                    <a:close/>
                    <a:moveTo>
                      <a:pt x="14193" y="3"/>
                    </a:moveTo>
                    <a:lnTo>
                      <a:pt x="14193" y="3"/>
                    </a:lnTo>
                    <a:cubicBezTo>
                      <a:pt x="14195" y="3"/>
                      <a:pt x="14195" y="4"/>
                      <a:pt x="14195" y="5"/>
                    </a:cubicBezTo>
                    <a:cubicBezTo>
                      <a:pt x="14195" y="6"/>
                      <a:pt x="14195" y="7"/>
                      <a:pt x="14193" y="7"/>
                    </a:cubicBezTo>
                    <a:lnTo>
                      <a:pt x="14193" y="7"/>
                    </a:lnTo>
                    <a:cubicBezTo>
                      <a:pt x="14192" y="7"/>
                      <a:pt x="14191" y="6"/>
                      <a:pt x="14191" y="5"/>
                    </a:cubicBezTo>
                    <a:cubicBezTo>
                      <a:pt x="14191" y="4"/>
                      <a:pt x="14192" y="3"/>
                      <a:pt x="14193" y="3"/>
                    </a:cubicBezTo>
                    <a:close/>
                    <a:moveTo>
                      <a:pt x="14201" y="3"/>
                    </a:moveTo>
                    <a:lnTo>
                      <a:pt x="14201" y="3"/>
                    </a:lnTo>
                    <a:cubicBezTo>
                      <a:pt x="14203" y="3"/>
                      <a:pt x="14203" y="4"/>
                      <a:pt x="14203" y="5"/>
                    </a:cubicBezTo>
                    <a:cubicBezTo>
                      <a:pt x="14203" y="6"/>
                      <a:pt x="14203" y="7"/>
                      <a:pt x="14201" y="7"/>
                    </a:cubicBezTo>
                    <a:lnTo>
                      <a:pt x="14201" y="7"/>
                    </a:lnTo>
                    <a:cubicBezTo>
                      <a:pt x="14200" y="7"/>
                      <a:pt x="14199" y="6"/>
                      <a:pt x="14199" y="5"/>
                    </a:cubicBezTo>
                    <a:cubicBezTo>
                      <a:pt x="14199" y="4"/>
                      <a:pt x="14200" y="3"/>
                      <a:pt x="14201" y="3"/>
                    </a:cubicBezTo>
                    <a:close/>
                    <a:moveTo>
                      <a:pt x="14209" y="3"/>
                    </a:moveTo>
                    <a:lnTo>
                      <a:pt x="14209" y="3"/>
                    </a:lnTo>
                    <a:cubicBezTo>
                      <a:pt x="14211" y="3"/>
                      <a:pt x="14211" y="4"/>
                      <a:pt x="14211" y="5"/>
                    </a:cubicBezTo>
                    <a:cubicBezTo>
                      <a:pt x="14211" y="6"/>
                      <a:pt x="14211" y="7"/>
                      <a:pt x="14209" y="7"/>
                    </a:cubicBezTo>
                    <a:lnTo>
                      <a:pt x="14209" y="7"/>
                    </a:lnTo>
                    <a:cubicBezTo>
                      <a:pt x="14208" y="7"/>
                      <a:pt x="14207" y="6"/>
                      <a:pt x="14207" y="5"/>
                    </a:cubicBezTo>
                    <a:cubicBezTo>
                      <a:pt x="14207" y="4"/>
                      <a:pt x="14208" y="3"/>
                      <a:pt x="14209" y="3"/>
                    </a:cubicBezTo>
                    <a:close/>
                    <a:moveTo>
                      <a:pt x="14217" y="3"/>
                    </a:moveTo>
                    <a:lnTo>
                      <a:pt x="14217" y="3"/>
                    </a:lnTo>
                    <a:cubicBezTo>
                      <a:pt x="14219" y="3"/>
                      <a:pt x="14219" y="4"/>
                      <a:pt x="14219" y="5"/>
                    </a:cubicBezTo>
                    <a:cubicBezTo>
                      <a:pt x="14219" y="6"/>
                      <a:pt x="14219" y="7"/>
                      <a:pt x="14217" y="7"/>
                    </a:cubicBezTo>
                    <a:lnTo>
                      <a:pt x="14217" y="7"/>
                    </a:lnTo>
                    <a:cubicBezTo>
                      <a:pt x="14216" y="7"/>
                      <a:pt x="14215" y="6"/>
                      <a:pt x="14215" y="5"/>
                    </a:cubicBezTo>
                    <a:cubicBezTo>
                      <a:pt x="14215" y="4"/>
                      <a:pt x="14216" y="3"/>
                      <a:pt x="14217" y="3"/>
                    </a:cubicBezTo>
                    <a:close/>
                    <a:moveTo>
                      <a:pt x="14225" y="3"/>
                    </a:moveTo>
                    <a:lnTo>
                      <a:pt x="14225" y="3"/>
                    </a:lnTo>
                    <a:cubicBezTo>
                      <a:pt x="14227" y="3"/>
                      <a:pt x="14227" y="4"/>
                      <a:pt x="14227" y="5"/>
                    </a:cubicBezTo>
                    <a:cubicBezTo>
                      <a:pt x="14227" y="6"/>
                      <a:pt x="14227" y="7"/>
                      <a:pt x="14225" y="7"/>
                    </a:cubicBezTo>
                    <a:lnTo>
                      <a:pt x="14225" y="7"/>
                    </a:lnTo>
                    <a:cubicBezTo>
                      <a:pt x="14224" y="7"/>
                      <a:pt x="14223" y="6"/>
                      <a:pt x="14223" y="5"/>
                    </a:cubicBezTo>
                    <a:cubicBezTo>
                      <a:pt x="14223" y="4"/>
                      <a:pt x="14224" y="3"/>
                      <a:pt x="14225" y="3"/>
                    </a:cubicBezTo>
                    <a:close/>
                    <a:moveTo>
                      <a:pt x="14233" y="3"/>
                    </a:moveTo>
                    <a:lnTo>
                      <a:pt x="14233" y="3"/>
                    </a:lnTo>
                    <a:cubicBezTo>
                      <a:pt x="14235" y="3"/>
                      <a:pt x="14235" y="4"/>
                      <a:pt x="14235" y="5"/>
                    </a:cubicBezTo>
                    <a:cubicBezTo>
                      <a:pt x="14235" y="6"/>
                      <a:pt x="14235" y="7"/>
                      <a:pt x="14233" y="7"/>
                    </a:cubicBezTo>
                    <a:lnTo>
                      <a:pt x="14233" y="7"/>
                    </a:lnTo>
                    <a:cubicBezTo>
                      <a:pt x="14232" y="7"/>
                      <a:pt x="14231" y="6"/>
                      <a:pt x="14231" y="5"/>
                    </a:cubicBezTo>
                    <a:cubicBezTo>
                      <a:pt x="14231" y="4"/>
                      <a:pt x="14232" y="3"/>
                      <a:pt x="14233" y="3"/>
                    </a:cubicBezTo>
                    <a:close/>
                    <a:moveTo>
                      <a:pt x="14241" y="3"/>
                    </a:moveTo>
                    <a:lnTo>
                      <a:pt x="14241" y="3"/>
                    </a:lnTo>
                    <a:cubicBezTo>
                      <a:pt x="14243" y="3"/>
                      <a:pt x="14243" y="4"/>
                      <a:pt x="14243" y="5"/>
                    </a:cubicBezTo>
                    <a:cubicBezTo>
                      <a:pt x="14243" y="6"/>
                      <a:pt x="14243" y="7"/>
                      <a:pt x="14241" y="7"/>
                    </a:cubicBezTo>
                    <a:lnTo>
                      <a:pt x="14241" y="7"/>
                    </a:lnTo>
                    <a:cubicBezTo>
                      <a:pt x="14240" y="7"/>
                      <a:pt x="14239" y="6"/>
                      <a:pt x="14239" y="5"/>
                    </a:cubicBezTo>
                    <a:cubicBezTo>
                      <a:pt x="14239" y="4"/>
                      <a:pt x="14240" y="3"/>
                      <a:pt x="14241" y="3"/>
                    </a:cubicBezTo>
                    <a:close/>
                    <a:moveTo>
                      <a:pt x="14249" y="3"/>
                    </a:moveTo>
                    <a:lnTo>
                      <a:pt x="14249" y="3"/>
                    </a:lnTo>
                    <a:cubicBezTo>
                      <a:pt x="14251" y="3"/>
                      <a:pt x="14251" y="4"/>
                      <a:pt x="14251" y="5"/>
                    </a:cubicBezTo>
                    <a:cubicBezTo>
                      <a:pt x="14251" y="6"/>
                      <a:pt x="14251" y="7"/>
                      <a:pt x="14249" y="7"/>
                    </a:cubicBezTo>
                    <a:lnTo>
                      <a:pt x="14249" y="7"/>
                    </a:lnTo>
                    <a:cubicBezTo>
                      <a:pt x="14248" y="7"/>
                      <a:pt x="14247" y="6"/>
                      <a:pt x="14247" y="5"/>
                    </a:cubicBezTo>
                    <a:cubicBezTo>
                      <a:pt x="14247" y="4"/>
                      <a:pt x="14248" y="3"/>
                      <a:pt x="14249" y="3"/>
                    </a:cubicBezTo>
                    <a:close/>
                    <a:moveTo>
                      <a:pt x="14257" y="3"/>
                    </a:moveTo>
                    <a:lnTo>
                      <a:pt x="14257" y="3"/>
                    </a:lnTo>
                    <a:cubicBezTo>
                      <a:pt x="14259" y="3"/>
                      <a:pt x="14259" y="4"/>
                      <a:pt x="14259" y="5"/>
                    </a:cubicBezTo>
                    <a:cubicBezTo>
                      <a:pt x="14259" y="6"/>
                      <a:pt x="14259" y="7"/>
                      <a:pt x="14257" y="7"/>
                    </a:cubicBezTo>
                    <a:lnTo>
                      <a:pt x="14257" y="7"/>
                    </a:lnTo>
                    <a:cubicBezTo>
                      <a:pt x="14256" y="7"/>
                      <a:pt x="14255" y="6"/>
                      <a:pt x="14255" y="5"/>
                    </a:cubicBezTo>
                    <a:cubicBezTo>
                      <a:pt x="14255" y="4"/>
                      <a:pt x="14256" y="3"/>
                      <a:pt x="14257" y="3"/>
                    </a:cubicBezTo>
                    <a:close/>
                    <a:moveTo>
                      <a:pt x="14265" y="3"/>
                    </a:moveTo>
                    <a:lnTo>
                      <a:pt x="14265" y="3"/>
                    </a:lnTo>
                    <a:cubicBezTo>
                      <a:pt x="14267" y="3"/>
                      <a:pt x="14267" y="4"/>
                      <a:pt x="14267" y="5"/>
                    </a:cubicBezTo>
                    <a:cubicBezTo>
                      <a:pt x="14267" y="6"/>
                      <a:pt x="14267" y="7"/>
                      <a:pt x="14265" y="7"/>
                    </a:cubicBezTo>
                    <a:lnTo>
                      <a:pt x="14265" y="7"/>
                    </a:lnTo>
                    <a:cubicBezTo>
                      <a:pt x="14264" y="7"/>
                      <a:pt x="14263" y="6"/>
                      <a:pt x="14263" y="5"/>
                    </a:cubicBezTo>
                    <a:cubicBezTo>
                      <a:pt x="14263" y="4"/>
                      <a:pt x="14264" y="3"/>
                      <a:pt x="14265" y="3"/>
                    </a:cubicBezTo>
                    <a:close/>
                    <a:moveTo>
                      <a:pt x="14273" y="3"/>
                    </a:moveTo>
                    <a:lnTo>
                      <a:pt x="14273" y="3"/>
                    </a:lnTo>
                    <a:cubicBezTo>
                      <a:pt x="14275" y="3"/>
                      <a:pt x="14275" y="4"/>
                      <a:pt x="14275" y="5"/>
                    </a:cubicBezTo>
                    <a:cubicBezTo>
                      <a:pt x="14275" y="6"/>
                      <a:pt x="14275" y="7"/>
                      <a:pt x="14273" y="7"/>
                    </a:cubicBezTo>
                    <a:lnTo>
                      <a:pt x="14273" y="7"/>
                    </a:lnTo>
                    <a:cubicBezTo>
                      <a:pt x="14272" y="7"/>
                      <a:pt x="14271" y="6"/>
                      <a:pt x="14271" y="5"/>
                    </a:cubicBezTo>
                    <a:cubicBezTo>
                      <a:pt x="14271" y="4"/>
                      <a:pt x="14272" y="3"/>
                      <a:pt x="14273" y="3"/>
                    </a:cubicBezTo>
                    <a:close/>
                    <a:moveTo>
                      <a:pt x="14281" y="3"/>
                    </a:moveTo>
                    <a:lnTo>
                      <a:pt x="14281" y="3"/>
                    </a:lnTo>
                    <a:cubicBezTo>
                      <a:pt x="14283" y="3"/>
                      <a:pt x="14283" y="4"/>
                      <a:pt x="14283" y="5"/>
                    </a:cubicBezTo>
                    <a:cubicBezTo>
                      <a:pt x="14283" y="6"/>
                      <a:pt x="14283" y="7"/>
                      <a:pt x="14281" y="7"/>
                    </a:cubicBezTo>
                    <a:lnTo>
                      <a:pt x="14281" y="7"/>
                    </a:lnTo>
                    <a:cubicBezTo>
                      <a:pt x="14280" y="7"/>
                      <a:pt x="14279" y="6"/>
                      <a:pt x="14279" y="5"/>
                    </a:cubicBezTo>
                    <a:cubicBezTo>
                      <a:pt x="14279" y="4"/>
                      <a:pt x="14280" y="3"/>
                      <a:pt x="14281" y="3"/>
                    </a:cubicBezTo>
                    <a:close/>
                    <a:moveTo>
                      <a:pt x="14289" y="3"/>
                    </a:moveTo>
                    <a:lnTo>
                      <a:pt x="14289" y="3"/>
                    </a:lnTo>
                    <a:cubicBezTo>
                      <a:pt x="14291" y="3"/>
                      <a:pt x="14291" y="4"/>
                      <a:pt x="14291" y="5"/>
                    </a:cubicBezTo>
                    <a:cubicBezTo>
                      <a:pt x="14291" y="6"/>
                      <a:pt x="14291" y="7"/>
                      <a:pt x="14289" y="7"/>
                    </a:cubicBezTo>
                    <a:lnTo>
                      <a:pt x="14289" y="7"/>
                    </a:lnTo>
                    <a:cubicBezTo>
                      <a:pt x="14288" y="7"/>
                      <a:pt x="14287" y="6"/>
                      <a:pt x="14287" y="5"/>
                    </a:cubicBezTo>
                    <a:cubicBezTo>
                      <a:pt x="14287" y="4"/>
                      <a:pt x="14288" y="3"/>
                      <a:pt x="14289" y="3"/>
                    </a:cubicBezTo>
                    <a:close/>
                    <a:moveTo>
                      <a:pt x="14297" y="3"/>
                    </a:moveTo>
                    <a:lnTo>
                      <a:pt x="14297" y="3"/>
                    </a:lnTo>
                    <a:cubicBezTo>
                      <a:pt x="14299" y="3"/>
                      <a:pt x="14299" y="4"/>
                      <a:pt x="14299" y="5"/>
                    </a:cubicBezTo>
                    <a:cubicBezTo>
                      <a:pt x="14299" y="6"/>
                      <a:pt x="14299" y="7"/>
                      <a:pt x="14297" y="7"/>
                    </a:cubicBezTo>
                    <a:lnTo>
                      <a:pt x="14297" y="7"/>
                    </a:lnTo>
                    <a:cubicBezTo>
                      <a:pt x="14296" y="7"/>
                      <a:pt x="14295" y="6"/>
                      <a:pt x="14295" y="5"/>
                    </a:cubicBezTo>
                    <a:cubicBezTo>
                      <a:pt x="14295" y="4"/>
                      <a:pt x="14296" y="3"/>
                      <a:pt x="14297" y="3"/>
                    </a:cubicBezTo>
                    <a:close/>
                    <a:moveTo>
                      <a:pt x="14305" y="3"/>
                    </a:moveTo>
                    <a:lnTo>
                      <a:pt x="14306" y="3"/>
                    </a:lnTo>
                    <a:cubicBezTo>
                      <a:pt x="14307" y="3"/>
                      <a:pt x="14308" y="4"/>
                      <a:pt x="14308" y="5"/>
                    </a:cubicBezTo>
                    <a:cubicBezTo>
                      <a:pt x="14308" y="6"/>
                      <a:pt x="14307" y="7"/>
                      <a:pt x="14306" y="7"/>
                    </a:cubicBezTo>
                    <a:lnTo>
                      <a:pt x="14305" y="7"/>
                    </a:lnTo>
                    <a:cubicBezTo>
                      <a:pt x="14304" y="7"/>
                      <a:pt x="14303" y="6"/>
                      <a:pt x="14303" y="5"/>
                    </a:cubicBezTo>
                    <a:cubicBezTo>
                      <a:pt x="14303" y="4"/>
                      <a:pt x="14304" y="3"/>
                      <a:pt x="14305" y="3"/>
                    </a:cubicBezTo>
                    <a:close/>
                    <a:moveTo>
                      <a:pt x="14314" y="3"/>
                    </a:moveTo>
                    <a:lnTo>
                      <a:pt x="14314" y="3"/>
                    </a:lnTo>
                    <a:cubicBezTo>
                      <a:pt x="14315" y="3"/>
                      <a:pt x="14316" y="4"/>
                      <a:pt x="14316" y="5"/>
                    </a:cubicBezTo>
                    <a:cubicBezTo>
                      <a:pt x="14316" y="6"/>
                      <a:pt x="14315" y="7"/>
                      <a:pt x="14314" y="7"/>
                    </a:cubicBezTo>
                    <a:lnTo>
                      <a:pt x="14314" y="7"/>
                    </a:lnTo>
                    <a:cubicBezTo>
                      <a:pt x="14312" y="7"/>
                      <a:pt x="14312" y="6"/>
                      <a:pt x="14312" y="5"/>
                    </a:cubicBezTo>
                    <a:cubicBezTo>
                      <a:pt x="14312" y="4"/>
                      <a:pt x="14312" y="3"/>
                      <a:pt x="14314" y="3"/>
                    </a:cubicBezTo>
                    <a:close/>
                    <a:moveTo>
                      <a:pt x="14322" y="3"/>
                    </a:moveTo>
                    <a:lnTo>
                      <a:pt x="14322" y="3"/>
                    </a:lnTo>
                    <a:cubicBezTo>
                      <a:pt x="14323" y="3"/>
                      <a:pt x="14324" y="4"/>
                      <a:pt x="14324" y="5"/>
                    </a:cubicBezTo>
                    <a:cubicBezTo>
                      <a:pt x="14324" y="6"/>
                      <a:pt x="14323" y="7"/>
                      <a:pt x="14322" y="7"/>
                    </a:cubicBezTo>
                    <a:lnTo>
                      <a:pt x="14322" y="7"/>
                    </a:lnTo>
                    <a:cubicBezTo>
                      <a:pt x="14320" y="7"/>
                      <a:pt x="14320" y="6"/>
                      <a:pt x="14320" y="5"/>
                    </a:cubicBezTo>
                    <a:cubicBezTo>
                      <a:pt x="14320" y="4"/>
                      <a:pt x="14320" y="3"/>
                      <a:pt x="14322" y="3"/>
                    </a:cubicBezTo>
                    <a:close/>
                    <a:moveTo>
                      <a:pt x="14330" y="3"/>
                    </a:moveTo>
                    <a:lnTo>
                      <a:pt x="14330" y="3"/>
                    </a:lnTo>
                    <a:cubicBezTo>
                      <a:pt x="14331" y="3"/>
                      <a:pt x="14332" y="4"/>
                      <a:pt x="14332" y="5"/>
                    </a:cubicBezTo>
                    <a:cubicBezTo>
                      <a:pt x="14332" y="6"/>
                      <a:pt x="14331" y="7"/>
                      <a:pt x="14330" y="7"/>
                    </a:cubicBezTo>
                    <a:lnTo>
                      <a:pt x="14330" y="7"/>
                    </a:lnTo>
                    <a:cubicBezTo>
                      <a:pt x="14328" y="7"/>
                      <a:pt x="14328" y="6"/>
                      <a:pt x="14328" y="5"/>
                    </a:cubicBezTo>
                    <a:cubicBezTo>
                      <a:pt x="14328" y="4"/>
                      <a:pt x="14328" y="3"/>
                      <a:pt x="14330" y="3"/>
                    </a:cubicBezTo>
                    <a:close/>
                    <a:moveTo>
                      <a:pt x="14338" y="3"/>
                    </a:moveTo>
                    <a:lnTo>
                      <a:pt x="14338" y="3"/>
                    </a:lnTo>
                    <a:cubicBezTo>
                      <a:pt x="14339" y="3"/>
                      <a:pt x="14340" y="4"/>
                      <a:pt x="14340" y="5"/>
                    </a:cubicBezTo>
                    <a:cubicBezTo>
                      <a:pt x="14340" y="6"/>
                      <a:pt x="14339" y="7"/>
                      <a:pt x="14338" y="7"/>
                    </a:cubicBezTo>
                    <a:lnTo>
                      <a:pt x="14338" y="7"/>
                    </a:lnTo>
                    <a:cubicBezTo>
                      <a:pt x="14336" y="7"/>
                      <a:pt x="14336" y="6"/>
                      <a:pt x="14336" y="5"/>
                    </a:cubicBezTo>
                    <a:cubicBezTo>
                      <a:pt x="14336" y="4"/>
                      <a:pt x="14336" y="3"/>
                      <a:pt x="14338" y="3"/>
                    </a:cubicBezTo>
                    <a:close/>
                    <a:moveTo>
                      <a:pt x="14346" y="3"/>
                    </a:moveTo>
                    <a:lnTo>
                      <a:pt x="14346" y="3"/>
                    </a:lnTo>
                    <a:cubicBezTo>
                      <a:pt x="14347" y="3"/>
                      <a:pt x="14348" y="4"/>
                      <a:pt x="14348" y="5"/>
                    </a:cubicBezTo>
                    <a:cubicBezTo>
                      <a:pt x="14348" y="6"/>
                      <a:pt x="14347" y="7"/>
                      <a:pt x="14346" y="7"/>
                    </a:cubicBezTo>
                    <a:lnTo>
                      <a:pt x="14346" y="7"/>
                    </a:lnTo>
                    <a:cubicBezTo>
                      <a:pt x="14344" y="7"/>
                      <a:pt x="14344" y="6"/>
                      <a:pt x="14344" y="5"/>
                    </a:cubicBezTo>
                    <a:cubicBezTo>
                      <a:pt x="14344" y="4"/>
                      <a:pt x="14344" y="3"/>
                      <a:pt x="14346" y="3"/>
                    </a:cubicBezTo>
                    <a:close/>
                    <a:moveTo>
                      <a:pt x="14354" y="3"/>
                    </a:moveTo>
                    <a:lnTo>
                      <a:pt x="14354" y="3"/>
                    </a:lnTo>
                    <a:cubicBezTo>
                      <a:pt x="14355" y="3"/>
                      <a:pt x="14356" y="4"/>
                      <a:pt x="14356" y="5"/>
                    </a:cubicBezTo>
                    <a:cubicBezTo>
                      <a:pt x="14356" y="6"/>
                      <a:pt x="14355" y="7"/>
                      <a:pt x="14354" y="7"/>
                    </a:cubicBezTo>
                    <a:lnTo>
                      <a:pt x="14354" y="7"/>
                    </a:lnTo>
                    <a:cubicBezTo>
                      <a:pt x="14352" y="7"/>
                      <a:pt x="14352" y="6"/>
                      <a:pt x="14352" y="5"/>
                    </a:cubicBezTo>
                    <a:cubicBezTo>
                      <a:pt x="14352" y="4"/>
                      <a:pt x="14352" y="3"/>
                      <a:pt x="14354" y="3"/>
                    </a:cubicBezTo>
                    <a:close/>
                    <a:moveTo>
                      <a:pt x="14362" y="3"/>
                    </a:moveTo>
                    <a:lnTo>
                      <a:pt x="14362" y="3"/>
                    </a:lnTo>
                    <a:cubicBezTo>
                      <a:pt x="14363" y="3"/>
                      <a:pt x="14364" y="4"/>
                      <a:pt x="14364" y="5"/>
                    </a:cubicBezTo>
                    <a:cubicBezTo>
                      <a:pt x="14364" y="6"/>
                      <a:pt x="14363" y="7"/>
                      <a:pt x="14362" y="7"/>
                    </a:cubicBezTo>
                    <a:lnTo>
                      <a:pt x="14362" y="7"/>
                    </a:lnTo>
                    <a:cubicBezTo>
                      <a:pt x="14360" y="7"/>
                      <a:pt x="14360" y="6"/>
                      <a:pt x="14360" y="5"/>
                    </a:cubicBezTo>
                    <a:cubicBezTo>
                      <a:pt x="14360" y="4"/>
                      <a:pt x="14360" y="3"/>
                      <a:pt x="14362" y="3"/>
                    </a:cubicBezTo>
                    <a:close/>
                    <a:moveTo>
                      <a:pt x="14370" y="3"/>
                    </a:moveTo>
                    <a:lnTo>
                      <a:pt x="14370" y="3"/>
                    </a:lnTo>
                    <a:cubicBezTo>
                      <a:pt x="14371" y="3"/>
                      <a:pt x="14372" y="4"/>
                      <a:pt x="14372" y="5"/>
                    </a:cubicBezTo>
                    <a:cubicBezTo>
                      <a:pt x="14372" y="6"/>
                      <a:pt x="14371" y="7"/>
                      <a:pt x="14370" y="7"/>
                    </a:cubicBezTo>
                    <a:lnTo>
                      <a:pt x="14370" y="7"/>
                    </a:lnTo>
                    <a:cubicBezTo>
                      <a:pt x="14368" y="7"/>
                      <a:pt x="14368" y="6"/>
                      <a:pt x="14368" y="5"/>
                    </a:cubicBezTo>
                    <a:cubicBezTo>
                      <a:pt x="14368" y="4"/>
                      <a:pt x="14368" y="3"/>
                      <a:pt x="14370" y="3"/>
                    </a:cubicBezTo>
                    <a:close/>
                    <a:moveTo>
                      <a:pt x="14378" y="3"/>
                    </a:moveTo>
                    <a:lnTo>
                      <a:pt x="14378" y="3"/>
                    </a:lnTo>
                    <a:cubicBezTo>
                      <a:pt x="14379" y="3"/>
                      <a:pt x="14380" y="4"/>
                      <a:pt x="14380" y="5"/>
                    </a:cubicBezTo>
                    <a:cubicBezTo>
                      <a:pt x="14380" y="6"/>
                      <a:pt x="14379" y="7"/>
                      <a:pt x="14378" y="7"/>
                    </a:cubicBezTo>
                    <a:lnTo>
                      <a:pt x="14378" y="7"/>
                    </a:lnTo>
                    <a:cubicBezTo>
                      <a:pt x="14376" y="7"/>
                      <a:pt x="14376" y="6"/>
                      <a:pt x="14376" y="5"/>
                    </a:cubicBezTo>
                    <a:cubicBezTo>
                      <a:pt x="14376" y="4"/>
                      <a:pt x="14376" y="3"/>
                      <a:pt x="14378" y="3"/>
                    </a:cubicBezTo>
                    <a:close/>
                    <a:moveTo>
                      <a:pt x="14386" y="3"/>
                    </a:moveTo>
                    <a:lnTo>
                      <a:pt x="14386" y="3"/>
                    </a:lnTo>
                    <a:cubicBezTo>
                      <a:pt x="14387" y="3"/>
                      <a:pt x="14388" y="4"/>
                      <a:pt x="14388" y="5"/>
                    </a:cubicBezTo>
                    <a:cubicBezTo>
                      <a:pt x="14388" y="6"/>
                      <a:pt x="14387" y="7"/>
                      <a:pt x="14386" y="7"/>
                    </a:cubicBezTo>
                    <a:lnTo>
                      <a:pt x="14386" y="7"/>
                    </a:lnTo>
                    <a:cubicBezTo>
                      <a:pt x="14384" y="7"/>
                      <a:pt x="14384" y="6"/>
                      <a:pt x="14384" y="5"/>
                    </a:cubicBezTo>
                    <a:cubicBezTo>
                      <a:pt x="14384" y="4"/>
                      <a:pt x="14384" y="3"/>
                      <a:pt x="14386" y="3"/>
                    </a:cubicBezTo>
                    <a:close/>
                    <a:moveTo>
                      <a:pt x="14394" y="3"/>
                    </a:moveTo>
                    <a:lnTo>
                      <a:pt x="14394" y="3"/>
                    </a:lnTo>
                    <a:cubicBezTo>
                      <a:pt x="14395" y="3"/>
                      <a:pt x="14396" y="4"/>
                      <a:pt x="14396" y="5"/>
                    </a:cubicBezTo>
                    <a:cubicBezTo>
                      <a:pt x="14396" y="6"/>
                      <a:pt x="14395" y="7"/>
                      <a:pt x="14394" y="7"/>
                    </a:cubicBezTo>
                    <a:lnTo>
                      <a:pt x="14394" y="7"/>
                    </a:lnTo>
                    <a:cubicBezTo>
                      <a:pt x="14392" y="7"/>
                      <a:pt x="14392" y="6"/>
                      <a:pt x="14392" y="5"/>
                    </a:cubicBezTo>
                    <a:cubicBezTo>
                      <a:pt x="14392" y="4"/>
                      <a:pt x="14392" y="3"/>
                      <a:pt x="14394" y="3"/>
                    </a:cubicBezTo>
                    <a:close/>
                    <a:moveTo>
                      <a:pt x="14402" y="3"/>
                    </a:moveTo>
                    <a:lnTo>
                      <a:pt x="14402" y="3"/>
                    </a:lnTo>
                    <a:cubicBezTo>
                      <a:pt x="14403" y="3"/>
                      <a:pt x="14404" y="4"/>
                      <a:pt x="14404" y="5"/>
                    </a:cubicBezTo>
                    <a:cubicBezTo>
                      <a:pt x="14404" y="6"/>
                      <a:pt x="14403" y="7"/>
                      <a:pt x="14402" y="7"/>
                    </a:cubicBezTo>
                    <a:lnTo>
                      <a:pt x="14402" y="7"/>
                    </a:lnTo>
                    <a:cubicBezTo>
                      <a:pt x="14400" y="7"/>
                      <a:pt x="14400" y="6"/>
                      <a:pt x="14400" y="5"/>
                    </a:cubicBezTo>
                    <a:cubicBezTo>
                      <a:pt x="14400" y="4"/>
                      <a:pt x="14400" y="3"/>
                      <a:pt x="14402" y="3"/>
                    </a:cubicBezTo>
                    <a:close/>
                    <a:moveTo>
                      <a:pt x="14410" y="3"/>
                    </a:moveTo>
                    <a:lnTo>
                      <a:pt x="14410" y="3"/>
                    </a:lnTo>
                    <a:cubicBezTo>
                      <a:pt x="14411" y="3"/>
                      <a:pt x="14412" y="4"/>
                      <a:pt x="14412" y="5"/>
                    </a:cubicBezTo>
                    <a:cubicBezTo>
                      <a:pt x="14412" y="6"/>
                      <a:pt x="14411" y="7"/>
                      <a:pt x="14410" y="7"/>
                    </a:cubicBezTo>
                    <a:lnTo>
                      <a:pt x="14410" y="7"/>
                    </a:lnTo>
                    <a:cubicBezTo>
                      <a:pt x="14408" y="7"/>
                      <a:pt x="14408" y="6"/>
                      <a:pt x="14408" y="5"/>
                    </a:cubicBezTo>
                    <a:cubicBezTo>
                      <a:pt x="14408" y="4"/>
                      <a:pt x="14408" y="3"/>
                      <a:pt x="14410" y="3"/>
                    </a:cubicBezTo>
                    <a:close/>
                    <a:moveTo>
                      <a:pt x="14418" y="3"/>
                    </a:moveTo>
                    <a:lnTo>
                      <a:pt x="14418" y="3"/>
                    </a:lnTo>
                    <a:cubicBezTo>
                      <a:pt x="14419" y="3"/>
                      <a:pt x="14420" y="4"/>
                      <a:pt x="14420" y="5"/>
                    </a:cubicBezTo>
                    <a:cubicBezTo>
                      <a:pt x="14420" y="6"/>
                      <a:pt x="14419" y="7"/>
                      <a:pt x="14418" y="7"/>
                    </a:cubicBezTo>
                    <a:lnTo>
                      <a:pt x="14418" y="7"/>
                    </a:lnTo>
                    <a:cubicBezTo>
                      <a:pt x="14416" y="7"/>
                      <a:pt x="14416" y="6"/>
                      <a:pt x="14416" y="5"/>
                    </a:cubicBezTo>
                    <a:cubicBezTo>
                      <a:pt x="14416" y="4"/>
                      <a:pt x="14416" y="3"/>
                      <a:pt x="14418" y="3"/>
                    </a:cubicBezTo>
                    <a:close/>
                    <a:moveTo>
                      <a:pt x="14426" y="3"/>
                    </a:moveTo>
                    <a:lnTo>
                      <a:pt x="14426" y="3"/>
                    </a:lnTo>
                    <a:cubicBezTo>
                      <a:pt x="14427" y="3"/>
                      <a:pt x="14428" y="4"/>
                      <a:pt x="14428" y="5"/>
                    </a:cubicBezTo>
                    <a:cubicBezTo>
                      <a:pt x="14428" y="6"/>
                      <a:pt x="14427" y="7"/>
                      <a:pt x="14426" y="7"/>
                    </a:cubicBezTo>
                    <a:lnTo>
                      <a:pt x="14426" y="7"/>
                    </a:lnTo>
                    <a:cubicBezTo>
                      <a:pt x="14424" y="7"/>
                      <a:pt x="14424" y="6"/>
                      <a:pt x="14424" y="5"/>
                    </a:cubicBezTo>
                    <a:cubicBezTo>
                      <a:pt x="14424" y="4"/>
                      <a:pt x="14424" y="3"/>
                      <a:pt x="14426" y="3"/>
                    </a:cubicBezTo>
                    <a:close/>
                    <a:moveTo>
                      <a:pt x="14434" y="3"/>
                    </a:moveTo>
                    <a:lnTo>
                      <a:pt x="14434" y="3"/>
                    </a:lnTo>
                    <a:cubicBezTo>
                      <a:pt x="14435" y="3"/>
                      <a:pt x="14436" y="4"/>
                      <a:pt x="14436" y="5"/>
                    </a:cubicBezTo>
                    <a:cubicBezTo>
                      <a:pt x="14436" y="6"/>
                      <a:pt x="14435" y="7"/>
                      <a:pt x="14434" y="7"/>
                    </a:cubicBezTo>
                    <a:lnTo>
                      <a:pt x="14434" y="7"/>
                    </a:lnTo>
                    <a:cubicBezTo>
                      <a:pt x="14432" y="7"/>
                      <a:pt x="14432" y="6"/>
                      <a:pt x="14432" y="5"/>
                    </a:cubicBezTo>
                    <a:cubicBezTo>
                      <a:pt x="14432" y="4"/>
                      <a:pt x="14432" y="3"/>
                      <a:pt x="14434" y="3"/>
                    </a:cubicBezTo>
                    <a:close/>
                    <a:moveTo>
                      <a:pt x="14442" y="3"/>
                    </a:moveTo>
                    <a:lnTo>
                      <a:pt x="14442" y="3"/>
                    </a:lnTo>
                    <a:cubicBezTo>
                      <a:pt x="14443" y="3"/>
                      <a:pt x="14444" y="4"/>
                      <a:pt x="14444" y="5"/>
                    </a:cubicBezTo>
                    <a:cubicBezTo>
                      <a:pt x="14444" y="6"/>
                      <a:pt x="14443" y="7"/>
                      <a:pt x="14442" y="7"/>
                    </a:cubicBezTo>
                    <a:lnTo>
                      <a:pt x="14442" y="7"/>
                    </a:lnTo>
                    <a:cubicBezTo>
                      <a:pt x="14440" y="7"/>
                      <a:pt x="14440" y="6"/>
                      <a:pt x="14440" y="5"/>
                    </a:cubicBezTo>
                    <a:cubicBezTo>
                      <a:pt x="14440" y="4"/>
                      <a:pt x="14440" y="3"/>
                      <a:pt x="14442" y="3"/>
                    </a:cubicBezTo>
                    <a:close/>
                    <a:moveTo>
                      <a:pt x="14450" y="3"/>
                    </a:moveTo>
                    <a:lnTo>
                      <a:pt x="14450" y="3"/>
                    </a:lnTo>
                    <a:cubicBezTo>
                      <a:pt x="14451" y="3"/>
                      <a:pt x="14452" y="4"/>
                      <a:pt x="14452" y="5"/>
                    </a:cubicBezTo>
                    <a:cubicBezTo>
                      <a:pt x="14452" y="6"/>
                      <a:pt x="14451" y="7"/>
                      <a:pt x="14450" y="7"/>
                    </a:cubicBezTo>
                    <a:lnTo>
                      <a:pt x="14450" y="7"/>
                    </a:lnTo>
                    <a:cubicBezTo>
                      <a:pt x="14448" y="7"/>
                      <a:pt x="14448" y="6"/>
                      <a:pt x="14448" y="5"/>
                    </a:cubicBezTo>
                    <a:cubicBezTo>
                      <a:pt x="14448" y="4"/>
                      <a:pt x="14448" y="3"/>
                      <a:pt x="14450" y="3"/>
                    </a:cubicBezTo>
                    <a:close/>
                    <a:moveTo>
                      <a:pt x="14458" y="3"/>
                    </a:moveTo>
                    <a:lnTo>
                      <a:pt x="14458" y="3"/>
                    </a:lnTo>
                    <a:cubicBezTo>
                      <a:pt x="14459" y="3"/>
                      <a:pt x="14460" y="4"/>
                      <a:pt x="14460" y="5"/>
                    </a:cubicBezTo>
                    <a:cubicBezTo>
                      <a:pt x="14460" y="6"/>
                      <a:pt x="14459" y="7"/>
                      <a:pt x="14458" y="7"/>
                    </a:cubicBezTo>
                    <a:lnTo>
                      <a:pt x="14458" y="7"/>
                    </a:lnTo>
                    <a:cubicBezTo>
                      <a:pt x="14457" y="7"/>
                      <a:pt x="14456" y="6"/>
                      <a:pt x="14456" y="5"/>
                    </a:cubicBezTo>
                    <a:cubicBezTo>
                      <a:pt x="14456" y="4"/>
                      <a:pt x="14457" y="3"/>
                      <a:pt x="14458" y="3"/>
                    </a:cubicBezTo>
                    <a:close/>
                    <a:moveTo>
                      <a:pt x="14466" y="3"/>
                    </a:moveTo>
                    <a:lnTo>
                      <a:pt x="14466" y="3"/>
                    </a:lnTo>
                    <a:cubicBezTo>
                      <a:pt x="14467" y="3"/>
                      <a:pt x="14468" y="4"/>
                      <a:pt x="14468" y="5"/>
                    </a:cubicBezTo>
                    <a:cubicBezTo>
                      <a:pt x="14468" y="6"/>
                      <a:pt x="14467" y="7"/>
                      <a:pt x="14466" y="7"/>
                    </a:cubicBezTo>
                    <a:lnTo>
                      <a:pt x="14466" y="7"/>
                    </a:lnTo>
                    <a:cubicBezTo>
                      <a:pt x="14465" y="7"/>
                      <a:pt x="14464" y="6"/>
                      <a:pt x="14464" y="5"/>
                    </a:cubicBezTo>
                    <a:cubicBezTo>
                      <a:pt x="14464" y="4"/>
                      <a:pt x="14465" y="3"/>
                      <a:pt x="14466" y="3"/>
                    </a:cubicBezTo>
                    <a:close/>
                    <a:moveTo>
                      <a:pt x="14474" y="3"/>
                    </a:moveTo>
                    <a:lnTo>
                      <a:pt x="14474" y="3"/>
                    </a:lnTo>
                    <a:cubicBezTo>
                      <a:pt x="14475" y="3"/>
                      <a:pt x="14476" y="4"/>
                      <a:pt x="14476" y="5"/>
                    </a:cubicBezTo>
                    <a:cubicBezTo>
                      <a:pt x="14476" y="6"/>
                      <a:pt x="14475" y="7"/>
                      <a:pt x="14474" y="7"/>
                    </a:cubicBezTo>
                    <a:lnTo>
                      <a:pt x="14474" y="7"/>
                    </a:lnTo>
                    <a:cubicBezTo>
                      <a:pt x="14473" y="7"/>
                      <a:pt x="14472" y="6"/>
                      <a:pt x="14472" y="5"/>
                    </a:cubicBezTo>
                    <a:cubicBezTo>
                      <a:pt x="14472" y="4"/>
                      <a:pt x="14473" y="3"/>
                      <a:pt x="14474" y="3"/>
                    </a:cubicBezTo>
                    <a:close/>
                    <a:moveTo>
                      <a:pt x="14482" y="3"/>
                    </a:moveTo>
                    <a:lnTo>
                      <a:pt x="14482" y="3"/>
                    </a:lnTo>
                    <a:cubicBezTo>
                      <a:pt x="14483" y="3"/>
                      <a:pt x="14484" y="4"/>
                      <a:pt x="14484" y="5"/>
                    </a:cubicBezTo>
                    <a:cubicBezTo>
                      <a:pt x="14484" y="6"/>
                      <a:pt x="14483" y="7"/>
                      <a:pt x="14482" y="7"/>
                    </a:cubicBezTo>
                    <a:lnTo>
                      <a:pt x="14482" y="7"/>
                    </a:lnTo>
                    <a:cubicBezTo>
                      <a:pt x="14481" y="7"/>
                      <a:pt x="14480" y="6"/>
                      <a:pt x="14480" y="5"/>
                    </a:cubicBezTo>
                    <a:cubicBezTo>
                      <a:pt x="14480" y="4"/>
                      <a:pt x="14481" y="3"/>
                      <a:pt x="14482" y="3"/>
                    </a:cubicBezTo>
                    <a:close/>
                    <a:moveTo>
                      <a:pt x="14490" y="3"/>
                    </a:moveTo>
                    <a:lnTo>
                      <a:pt x="14490" y="3"/>
                    </a:lnTo>
                    <a:cubicBezTo>
                      <a:pt x="14491" y="3"/>
                      <a:pt x="14492" y="4"/>
                      <a:pt x="14492" y="5"/>
                    </a:cubicBezTo>
                    <a:cubicBezTo>
                      <a:pt x="14492" y="6"/>
                      <a:pt x="14491" y="7"/>
                      <a:pt x="14490" y="7"/>
                    </a:cubicBezTo>
                    <a:lnTo>
                      <a:pt x="14490" y="7"/>
                    </a:lnTo>
                    <a:cubicBezTo>
                      <a:pt x="14489" y="7"/>
                      <a:pt x="14488" y="6"/>
                      <a:pt x="14488" y="5"/>
                    </a:cubicBezTo>
                    <a:cubicBezTo>
                      <a:pt x="14488" y="4"/>
                      <a:pt x="14489" y="3"/>
                      <a:pt x="14490" y="3"/>
                    </a:cubicBezTo>
                    <a:close/>
                    <a:moveTo>
                      <a:pt x="14498" y="3"/>
                    </a:moveTo>
                    <a:lnTo>
                      <a:pt x="14498" y="3"/>
                    </a:lnTo>
                    <a:cubicBezTo>
                      <a:pt x="14499" y="3"/>
                      <a:pt x="14500" y="4"/>
                      <a:pt x="14500" y="5"/>
                    </a:cubicBezTo>
                    <a:cubicBezTo>
                      <a:pt x="14500" y="6"/>
                      <a:pt x="14499" y="7"/>
                      <a:pt x="14498" y="7"/>
                    </a:cubicBezTo>
                    <a:lnTo>
                      <a:pt x="14498" y="7"/>
                    </a:lnTo>
                    <a:cubicBezTo>
                      <a:pt x="14497" y="7"/>
                      <a:pt x="14496" y="6"/>
                      <a:pt x="14496" y="5"/>
                    </a:cubicBezTo>
                    <a:cubicBezTo>
                      <a:pt x="14496" y="4"/>
                      <a:pt x="14497" y="3"/>
                      <a:pt x="14498" y="3"/>
                    </a:cubicBezTo>
                    <a:close/>
                    <a:moveTo>
                      <a:pt x="14506" y="3"/>
                    </a:moveTo>
                    <a:lnTo>
                      <a:pt x="14506" y="3"/>
                    </a:lnTo>
                    <a:cubicBezTo>
                      <a:pt x="14507" y="3"/>
                      <a:pt x="14508" y="4"/>
                      <a:pt x="14508" y="5"/>
                    </a:cubicBezTo>
                    <a:cubicBezTo>
                      <a:pt x="14508" y="6"/>
                      <a:pt x="14507" y="7"/>
                      <a:pt x="14506" y="7"/>
                    </a:cubicBezTo>
                    <a:lnTo>
                      <a:pt x="14506" y="7"/>
                    </a:lnTo>
                    <a:cubicBezTo>
                      <a:pt x="14505" y="7"/>
                      <a:pt x="14504" y="6"/>
                      <a:pt x="14504" y="5"/>
                    </a:cubicBezTo>
                    <a:cubicBezTo>
                      <a:pt x="14504" y="4"/>
                      <a:pt x="14505" y="3"/>
                      <a:pt x="14506" y="3"/>
                    </a:cubicBezTo>
                    <a:close/>
                    <a:moveTo>
                      <a:pt x="14514" y="3"/>
                    </a:moveTo>
                    <a:lnTo>
                      <a:pt x="14514" y="3"/>
                    </a:lnTo>
                    <a:cubicBezTo>
                      <a:pt x="14515" y="3"/>
                      <a:pt x="14516" y="4"/>
                      <a:pt x="14516" y="5"/>
                    </a:cubicBezTo>
                    <a:cubicBezTo>
                      <a:pt x="14516" y="6"/>
                      <a:pt x="14515" y="7"/>
                      <a:pt x="14514" y="7"/>
                    </a:cubicBezTo>
                    <a:lnTo>
                      <a:pt x="14514" y="7"/>
                    </a:lnTo>
                    <a:cubicBezTo>
                      <a:pt x="14513" y="7"/>
                      <a:pt x="14512" y="6"/>
                      <a:pt x="14512" y="5"/>
                    </a:cubicBezTo>
                    <a:cubicBezTo>
                      <a:pt x="14512" y="4"/>
                      <a:pt x="14513" y="3"/>
                      <a:pt x="14514" y="3"/>
                    </a:cubicBezTo>
                    <a:close/>
                    <a:moveTo>
                      <a:pt x="14522" y="3"/>
                    </a:moveTo>
                    <a:lnTo>
                      <a:pt x="14522" y="3"/>
                    </a:lnTo>
                    <a:cubicBezTo>
                      <a:pt x="14523" y="3"/>
                      <a:pt x="14524" y="4"/>
                      <a:pt x="14524" y="5"/>
                    </a:cubicBezTo>
                    <a:cubicBezTo>
                      <a:pt x="14524" y="6"/>
                      <a:pt x="14523" y="7"/>
                      <a:pt x="14522" y="7"/>
                    </a:cubicBezTo>
                    <a:lnTo>
                      <a:pt x="14522" y="7"/>
                    </a:lnTo>
                    <a:cubicBezTo>
                      <a:pt x="14521" y="7"/>
                      <a:pt x="14520" y="6"/>
                      <a:pt x="14520" y="5"/>
                    </a:cubicBezTo>
                    <a:cubicBezTo>
                      <a:pt x="14520" y="4"/>
                      <a:pt x="14521" y="3"/>
                      <a:pt x="14522" y="3"/>
                    </a:cubicBezTo>
                    <a:close/>
                    <a:moveTo>
                      <a:pt x="14530" y="3"/>
                    </a:moveTo>
                    <a:lnTo>
                      <a:pt x="14530" y="3"/>
                    </a:lnTo>
                    <a:cubicBezTo>
                      <a:pt x="14531" y="3"/>
                      <a:pt x="14532" y="4"/>
                      <a:pt x="14532" y="5"/>
                    </a:cubicBezTo>
                    <a:cubicBezTo>
                      <a:pt x="14532" y="6"/>
                      <a:pt x="14531" y="7"/>
                      <a:pt x="14530" y="7"/>
                    </a:cubicBezTo>
                    <a:lnTo>
                      <a:pt x="14530" y="7"/>
                    </a:lnTo>
                    <a:cubicBezTo>
                      <a:pt x="14529" y="7"/>
                      <a:pt x="14528" y="6"/>
                      <a:pt x="14528" y="5"/>
                    </a:cubicBezTo>
                    <a:cubicBezTo>
                      <a:pt x="14528" y="4"/>
                      <a:pt x="14529" y="3"/>
                      <a:pt x="14530" y="3"/>
                    </a:cubicBezTo>
                    <a:close/>
                    <a:moveTo>
                      <a:pt x="14538" y="3"/>
                    </a:moveTo>
                    <a:lnTo>
                      <a:pt x="14538" y="3"/>
                    </a:lnTo>
                    <a:cubicBezTo>
                      <a:pt x="14539" y="3"/>
                      <a:pt x="14540" y="4"/>
                      <a:pt x="14540" y="5"/>
                    </a:cubicBezTo>
                    <a:cubicBezTo>
                      <a:pt x="14540" y="6"/>
                      <a:pt x="14539" y="7"/>
                      <a:pt x="14538" y="7"/>
                    </a:cubicBezTo>
                    <a:lnTo>
                      <a:pt x="14538" y="7"/>
                    </a:lnTo>
                    <a:cubicBezTo>
                      <a:pt x="14537" y="7"/>
                      <a:pt x="14536" y="6"/>
                      <a:pt x="14536" y="5"/>
                    </a:cubicBezTo>
                    <a:cubicBezTo>
                      <a:pt x="14536" y="4"/>
                      <a:pt x="14537" y="3"/>
                      <a:pt x="14538" y="3"/>
                    </a:cubicBezTo>
                    <a:close/>
                    <a:moveTo>
                      <a:pt x="14546" y="3"/>
                    </a:moveTo>
                    <a:lnTo>
                      <a:pt x="14546" y="3"/>
                    </a:lnTo>
                    <a:cubicBezTo>
                      <a:pt x="14547" y="3"/>
                      <a:pt x="14548" y="4"/>
                      <a:pt x="14548" y="5"/>
                    </a:cubicBezTo>
                    <a:cubicBezTo>
                      <a:pt x="14548" y="6"/>
                      <a:pt x="14547" y="7"/>
                      <a:pt x="14546" y="7"/>
                    </a:cubicBezTo>
                    <a:lnTo>
                      <a:pt x="14546" y="7"/>
                    </a:lnTo>
                    <a:cubicBezTo>
                      <a:pt x="14545" y="7"/>
                      <a:pt x="14544" y="6"/>
                      <a:pt x="14544" y="5"/>
                    </a:cubicBezTo>
                    <a:cubicBezTo>
                      <a:pt x="14544" y="4"/>
                      <a:pt x="14545" y="3"/>
                      <a:pt x="14546" y="3"/>
                    </a:cubicBezTo>
                    <a:close/>
                    <a:moveTo>
                      <a:pt x="14554" y="3"/>
                    </a:moveTo>
                    <a:lnTo>
                      <a:pt x="14554" y="3"/>
                    </a:lnTo>
                    <a:cubicBezTo>
                      <a:pt x="14555" y="3"/>
                      <a:pt x="14556" y="4"/>
                      <a:pt x="14556" y="5"/>
                    </a:cubicBezTo>
                    <a:cubicBezTo>
                      <a:pt x="14556" y="6"/>
                      <a:pt x="14555" y="7"/>
                      <a:pt x="14554" y="7"/>
                    </a:cubicBezTo>
                    <a:lnTo>
                      <a:pt x="14554" y="7"/>
                    </a:lnTo>
                    <a:cubicBezTo>
                      <a:pt x="14553" y="7"/>
                      <a:pt x="14552" y="6"/>
                      <a:pt x="14552" y="5"/>
                    </a:cubicBezTo>
                    <a:cubicBezTo>
                      <a:pt x="14552" y="4"/>
                      <a:pt x="14553" y="3"/>
                      <a:pt x="14554" y="3"/>
                    </a:cubicBezTo>
                    <a:close/>
                    <a:moveTo>
                      <a:pt x="14562" y="3"/>
                    </a:moveTo>
                    <a:lnTo>
                      <a:pt x="14562" y="3"/>
                    </a:lnTo>
                    <a:cubicBezTo>
                      <a:pt x="14563" y="3"/>
                      <a:pt x="14564" y="4"/>
                      <a:pt x="14564" y="5"/>
                    </a:cubicBezTo>
                    <a:cubicBezTo>
                      <a:pt x="14564" y="6"/>
                      <a:pt x="14563" y="7"/>
                      <a:pt x="14562" y="7"/>
                    </a:cubicBezTo>
                    <a:lnTo>
                      <a:pt x="14562" y="7"/>
                    </a:lnTo>
                    <a:cubicBezTo>
                      <a:pt x="14561" y="7"/>
                      <a:pt x="14560" y="6"/>
                      <a:pt x="14560" y="5"/>
                    </a:cubicBezTo>
                    <a:cubicBezTo>
                      <a:pt x="14560" y="4"/>
                      <a:pt x="14561" y="3"/>
                      <a:pt x="14562" y="3"/>
                    </a:cubicBezTo>
                    <a:close/>
                    <a:moveTo>
                      <a:pt x="14570" y="3"/>
                    </a:moveTo>
                    <a:lnTo>
                      <a:pt x="14570" y="3"/>
                    </a:lnTo>
                    <a:cubicBezTo>
                      <a:pt x="14571" y="3"/>
                      <a:pt x="14572" y="4"/>
                      <a:pt x="14572" y="5"/>
                    </a:cubicBezTo>
                    <a:cubicBezTo>
                      <a:pt x="14572" y="6"/>
                      <a:pt x="14571" y="7"/>
                      <a:pt x="14570" y="7"/>
                    </a:cubicBezTo>
                    <a:lnTo>
                      <a:pt x="14570" y="7"/>
                    </a:lnTo>
                    <a:cubicBezTo>
                      <a:pt x="14569" y="7"/>
                      <a:pt x="14568" y="6"/>
                      <a:pt x="14568" y="5"/>
                    </a:cubicBezTo>
                    <a:cubicBezTo>
                      <a:pt x="14568" y="4"/>
                      <a:pt x="14569" y="3"/>
                      <a:pt x="14570" y="3"/>
                    </a:cubicBezTo>
                    <a:close/>
                    <a:moveTo>
                      <a:pt x="14578" y="3"/>
                    </a:moveTo>
                    <a:lnTo>
                      <a:pt x="14578" y="3"/>
                    </a:lnTo>
                    <a:cubicBezTo>
                      <a:pt x="14579" y="3"/>
                      <a:pt x="14580" y="4"/>
                      <a:pt x="14580" y="5"/>
                    </a:cubicBezTo>
                    <a:cubicBezTo>
                      <a:pt x="14580" y="6"/>
                      <a:pt x="14579" y="7"/>
                      <a:pt x="14578" y="7"/>
                    </a:cubicBezTo>
                    <a:lnTo>
                      <a:pt x="14578" y="7"/>
                    </a:lnTo>
                    <a:cubicBezTo>
                      <a:pt x="14577" y="7"/>
                      <a:pt x="14576" y="6"/>
                      <a:pt x="14576" y="5"/>
                    </a:cubicBezTo>
                    <a:cubicBezTo>
                      <a:pt x="14576" y="4"/>
                      <a:pt x="14577" y="3"/>
                      <a:pt x="14578" y="3"/>
                    </a:cubicBezTo>
                    <a:close/>
                    <a:moveTo>
                      <a:pt x="14586" y="3"/>
                    </a:moveTo>
                    <a:lnTo>
                      <a:pt x="14586" y="3"/>
                    </a:lnTo>
                    <a:cubicBezTo>
                      <a:pt x="14587" y="3"/>
                      <a:pt x="14588" y="4"/>
                      <a:pt x="14588" y="5"/>
                    </a:cubicBezTo>
                    <a:cubicBezTo>
                      <a:pt x="14588" y="6"/>
                      <a:pt x="14587" y="7"/>
                      <a:pt x="14586" y="7"/>
                    </a:cubicBezTo>
                    <a:lnTo>
                      <a:pt x="14586" y="7"/>
                    </a:lnTo>
                    <a:cubicBezTo>
                      <a:pt x="14585" y="7"/>
                      <a:pt x="14584" y="6"/>
                      <a:pt x="14584" y="5"/>
                    </a:cubicBezTo>
                    <a:cubicBezTo>
                      <a:pt x="14584" y="4"/>
                      <a:pt x="14585" y="3"/>
                      <a:pt x="14586" y="3"/>
                    </a:cubicBezTo>
                    <a:close/>
                    <a:moveTo>
                      <a:pt x="14594" y="3"/>
                    </a:moveTo>
                    <a:lnTo>
                      <a:pt x="14594" y="3"/>
                    </a:lnTo>
                    <a:cubicBezTo>
                      <a:pt x="14595" y="3"/>
                      <a:pt x="14596" y="4"/>
                      <a:pt x="14596" y="5"/>
                    </a:cubicBezTo>
                    <a:cubicBezTo>
                      <a:pt x="14596" y="6"/>
                      <a:pt x="14595" y="7"/>
                      <a:pt x="14594" y="7"/>
                    </a:cubicBezTo>
                    <a:lnTo>
                      <a:pt x="14594" y="7"/>
                    </a:lnTo>
                    <a:cubicBezTo>
                      <a:pt x="14593" y="7"/>
                      <a:pt x="14592" y="6"/>
                      <a:pt x="14592" y="5"/>
                    </a:cubicBezTo>
                    <a:cubicBezTo>
                      <a:pt x="14592" y="4"/>
                      <a:pt x="14593" y="3"/>
                      <a:pt x="14594" y="3"/>
                    </a:cubicBezTo>
                    <a:close/>
                    <a:moveTo>
                      <a:pt x="14602" y="3"/>
                    </a:moveTo>
                    <a:lnTo>
                      <a:pt x="14602" y="3"/>
                    </a:lnTo>
                    <a:cubicBezTo>
                      <a:pt x="14603" y="3"/>
                      <a:pt x="14604" y="4"/>
                      <a:pt x="14604" y="5"/>
                    </a:cubicBezTo>
                    <a:cubicBezTo>
                      <a:pt x="14604" y="6"/>
                      <a:pt x="14603" y="7"/>
                      <a:pt x="14602" y="7"/>
                    </a:cubicBezTo>
                    <a:lnTo>
                      <a:pt x="14602" y="7"/>
                    </a:lnTo>
                    <a:cubicBezTo>
                      <a:pt x="14601" y="7"/>
                      <a:pt x="14600" y="6"/>
                      <a:pt x="14600" y="5"/>
                    </a:cubicBezTo>
                    <a:cubicBezTo>
                      <a:pt x="14600" y="4"/>
                      <a:pt x="14601" y="3"/>
                      <a:pt x="14602" y="3"/>
                    </a:cubicBezTo>
                    <a:close/>
                    <a:moveTo>
                      <a:pt x="14610" y="3"/>
                    </a:moveTo>
                    <a:lnTo>
                      <a:pt x="14610" y="3"/>
                    </a:lnTo>
                    <a:cubicBezTo>
                      <a:pt x="14611" y="3"/>
                      <a:pt x="14612" y="4"/>
                      <a:pt x="14612" y="5"/>
                    </a:cubicBezTo>
                    <a:cubicBezTo>
                      <a:pt x="14612" y="6"/>
                      <a:pt x="14611" y="7"/>
                      <a:pt x="14610" y="7"/>
                    </a:cubicBezTo>
                    <a:lnTo>
                      <a:pt x="14610" y="7"/>
                    </a:lnTo>
                    <a:cubicBezTo>
                      <a:pt x="14609" y="7"/>
                      <a:pt x="14608" y="6"/>
                      <a:pt x="14608" y="5"/>
                    </a:cubicBezTo>
                    <a:cubicBezTo>
                      <a:pt x="14608" y="4"/>
                      <a:pt x="14609" y="3"/>
                      <a:pt x="14610" y="3"/>
                    </a:cubicBezTo>
                    <a:close/>
                    <a:moveTo>
                      <a:pt x="14618" y="3"/>
                    </a:moveTo>
                    <a:lnTo>
                      <a:pt x="14618" y="3"/>
                    </a:lnTo>
                    <a:cubicBezTo>
                      <a:pt x="14619" y="3"/>
                      <a:pt x="14620" y="4"/>
                      <a:pt x="14620" y="5"/>
                    </a:cubicBezTo>
                    <a:cubicBezTo>
                      <a:pt x="14620" y="6"/>
                      <a:pt x="14619" y="7"/>
                      <a:pt x="14618" y="7"/>
                    </a:cubicBezTo>
                    <a:lnTo>
                      <a:pt x="14618" y="7"/>
                    </a:lnTo>
                    <a:cubicBezTo>
                      <a:pt x="14617" y="7"/>
                      <a:pt x="14616" y="6"/>
                      <a:pt x="14616" y="5"/>
                    </a:cubicBezTo>
                    <a:cubicBezTo>
                      <a:pt x="14616" y="4"/>
                      <a:pt x="14617" y="3"/>
                      <a:pt x="14618" y="3"/>
                    </a:cubicBezTo>
                    <a:close/>
                    <a:moveTo>
                      <a:pt x="14626" y="3"/>
                    </a:moveTo>
                    <a:lnTo>
                      <a:pt x="14626" y="3"/>
                    </a:lnTo>
                    <a:cubicBezTo>
                      <a:pt x="14627" y="3"/>
                      <a:pt x="14628" y="4"/>
                      <a:pt x="14628" y="5"/>
                    </a:cubicBezTo>
                    <a:cubicBezTo>
                      <a:pt x="14628" y="6"/>
                      <a:pt x="14627" y="7"/>
                      <a:pt x="14626" y="7"/>
                    </a:cubicBezTo>
                    <a:lnTo>
                      <a:pt x="14626" y="7"/>
                    </a:lnTo>
                    <a:cubicBezTo>
                      <a:pt x="14625" y="7"/>
                      <a:pt x="14624" y="6"/>
                      <a:pt x="14624" y="5"/>
                    </a:cubicBezTo>
                    <a:cubicBezTo>
                      <a:pt x="14624" y="4"/>
                      <a:pt x="14625" y="3"/>
                      <a:pt x="14626" y="3"/>
                    </a:cubicBezTo>
                    <a:close/>
                    <a:moveTo>
                      <a:pt x="14634" y="3"/>
                    </a:moveTo>
                    <a:lnTo>
                      <a:pt x="14634" y="3"/>
                    </a:lnTo>
                    <a:cubicBezTo>
                      <a:pt x="14635" y="3"/>
                      <a:pt x="14636" y="4"/>
                      <a:pt x="14636" y="5"/>
                    </a:cubicBezTo>
                    <a:cubicBezTo>
                      <a:pt x="14636" y="6"/>
                      <a:pt x="14635" y="7"/>
                      <a:pt x="14634" y="7"/>
                    </a:cubicBezTo>
                    <a:lnTo>
                      <a:pt x="14634" y="7"/>
                    </a:lnTo>
                    <a:cubicBezTo>
                      <a:pt x="14633" y="7"/>
                      <a:pt x="14632" y="6"/>
                      <a:pt x="14632" y="5"/>
                    </a:cubicBezTo>
                    <a:cubicBezTo>
                      <a:pt x="14632" y="4"/>
                      <a:pt x="14633" y="3"/>
                      <a:pt x="14634" y="3"/>
                    </a:cubicBezTo>
                    <a:close/>
                    <a:moveTo>
                      <a:pt x="14642" y="3"/>
                    </a:moveTo>
                    <a:lnTo>
                      <a:pt x="14642" y="3"/>
                    </a:lnTo>
                    <a:cubicBezTo>
                      <a:pt x="14643" y="3"/>
                      <a:pt x="14644" y="4"/>
                      <a:pt x="14644" y="5"/>
                    </a:cubicBezTo>
                    <a:cubicBezTo>
                      <a:pt x="14644" y="6"/>
                      <a:pt x="14643" y="7"/>
                      <a:pt x="14642" y="7"/>
                    </a:cubicBezTo>
                    <a:lnTo>
                      <a:pt x="14642" y="7"/>
                    </a:lnTo>
                    <a:cubicBezTo>
                      <a:pt x="14641" y="7"/>
                      <a:pt x="14640" y="6"/>
                      <a:pt x="14640" y="5"/>
                    </a:cubicBezTo>
                    <a:cubicBezTo>
                      <a:pt x="14640" y="4"/>
                      <a:pt x="14641" y="3"/>
                      <a:pt x="14642" y="3"/>
                    </a:cubicBezTo>
                    <a:close/>
                    <a:moveTo>
                      <a:pt x="14650" y="3"/>
                    </a:moveTo>
                    <a:lnTo>
                      <a:pt x="14650" y="3"/>
                    </a:lnTo>
                    <a:cubicBezTo>
                      <a:pt x="14651" y="3"/>
                      <a:pt x="14652" y="4"/>
                      <a:pt x="14652" y="5"/>
                    </a:cubicBezTo>
                    <a:cubicBezTo>
                      <a:pt x="14652" y="6"/>
                      <a:pt x="14651" y="7"/>
                      <a:pt x="14650" y="7"/>
                    </a:cubicBezTo>
                    <a:lnTo>
                      <a:pt x="14650" y="7"/>
                    </a:lnTo>
                    <a:cubicBezTo>
                      <a:pt x="14649" y="7"/>
                      <a:pt x="14648" y="6"/>
                      <a:pt x="14648" y="5"/>
                    </a:cubicBezTo>
                    <a:cubicBezTo>
                      <a:pt x="14648" y="4"/>
                      <a:pt x="14649" y="3"/>
                      <a:pt x="14650" y="3"/>
                    </a:cubicBezTo>
                    <a:close/>
                    <a:moveTo>
                      <a:pt x="14658" y="3"/>
                    </a:moveTo>
                    <a:lnTo>
                      <a:pt x="14658" y="3"/>
                    </a:lnTo>
                    <a:cubicBezTo>
                      <a:pt x="14659" y="3"/>
                      <a:pt x="14660" y="4"/>
                      <a:pt x="14660" y="5"/>
                    </a:cubicBezTo>
                    <a:cubicBezTo>
                      <a:pt x="14660" y="6"/>
                      <a:pt x="14659" y="7"/>
                      <a:pt x="14658" y="7"/>
                    </a:cubicBezTo>
                    <a:lnTo>
                      <a:pt x="14658" y="7"/>
                    </a:lnTo>
                    <a:cubicBezTo>
                      <a:pt x="14657" y="7"/>
                      <a:pt x="14656" y="6"/>
                      <a:pt x="14656" y="5"/>
                    </a:cubicBezTo>
                    <a:cubicBezTo>
                      <a:pt x="14656" y="4"/>
                      <a:pt x="14657" y="3"/>
                      <a:pt x="14658" y="3"/>
                    </a:cubicBezTo>
                    <a:close/>
                    <a:moveTo>
                      <a:pt x="14666" y="3"/>
                    </a:moveTo>
                    <a:lnTo>
                      <a:pt x="14666" y="3"/>
                    </a:lnTo>
                    <a:cubicBezTo>
                      <a:pt x="14667" y="3"/>
                      <a:pt x="14668" y="4"/>
                      <a:pt x="14668" y="5"/>
                    </a:cubicBezTo>
                    <a:cubicBezTo>
                      <a:pt x="14668" y="6"/>
                      <a:pt x="14667" y="7"/>
                      <a:pt x="14666" y="7"/>
                    </a:cubicBezTo>
                    <a:lnTo>
                      <a:pt x="14666" y="7"/>
                    </a:lnTo>
                    <a:cubicBezTo>
                      <a:pt x="14665" y="7"/>
                      <a:pt x="14664" y="6"/>
                      <a:pt x="14664" y="5"/>
                    </a:cubicBezTo>
                    <a:cubicBezTo>
                      <a:pt x="14664" y="4"/>
                      <a:pt x="14665" y="3"/>
                      <a:pt x="14666" y="3"/>
                    </a:cubicBezTo>
                    <a:close/>
                    <a:moveTo>
                      <a:pt x="14674" y="3"/>
                    </a:moveTo>
                    <a:lnTo>
                      <a:pt x="14674" y="3"/>
                    </a:lnTo>
                    <a:cubicBezTo>
                      <a:pt x="14675" y="3"/>
                      <a:pt x="14676" y="4"/>
                      <a:pt x="14676" y="5"/>
                    </a:cubicBezTo>
                    <a:cubicBezTo>
                      <a:pt x="14676" y="6"/>
                      <a:pt x="14675" y="7"/>
                      <a:pt x="14674" y="7"/>
                    </a:cubicBezTo>
                    <a:lnTo>
                      <a:pt x="14674" y="7"/>
                    </a:lnTo>
                    <a:cubicBezTo>
                      <a:pt x="14673" y="7"/>
                      <a:pt x="14672" y="6"/>
                      <a:pt x="14672" y="5"/>
                    </a:cubicBezTo>
                    <a:cubicBezTo>
                      <a:pt x="14672" y="4"/>
                      <a:pt x="14673" y="3"/>
                      <a:pt x="14674" y="3"/>
                    </a:cubicBezTo>
                    <a:close/>
                    <a:moveTo>
                      <a:pt x="14682" y="3"/>
                    </a:moveTo>
                    <a:lnTo>
                      <a:pt x="14682" y="3"/>
                    </a:lnTo>
                    <a:cubicBezTo>
                      <a:pt x="14683" y="3"/>
                      <a:pt x="14684" y="4"/>
                      <a:pt x="14684" y="5"/>
                    </a:cubicBezTo>
                    <a:cubicBezTo>
                      <a:pt x="14684" y="6"/>
                      <a:pt x="14683" y="7"/>
                      <a:pt x="14682" y="7"/>
                    </a:cubicBezTo>
                    <a:lnTo>
                      <a:pt x="14682" y="7"/>
                    </a:lnTo>
                    <a:cubicBezTo>
                      <a:pt x="14681" y="7"/>
                      <a:pt x="14680" y="6"/>
                      <a:pt x="14680" y="5"/>
                    </a:cubicBezTo>
                    <a:cubicBezTo>
                      <a:pt x="14680" y="4"/>
                      <a:pt x="14681" y="3"/>
                      <a:pt x="14682" y="3"/>
                    </a:cubicBezTo>
                    <a:close/>
                    <a:moveTo>
                      <a:pt x="14690" y="3"/>
                    </a:moveTo>
                    <a:lnTo>
                      <a:pt x="14690" y="3"/>
                    </a:lnTo>
                    <a:cubicBezTo>
                      <a:pt x="14691" y="3"/>
                      <a:pt x="14692" y="4"/>
                      <a:pt x="14692" y="5"/>
                    </a:cubicBezTo>
                    <a:cubicBezTo>
                      <a:pt x="14692" y="6"/>
                      <a:pt x="14691" y="7"/>
                      <a:pt x="14690" y="7"/>
                    </a:cubicBezTo>
                    <a:lnTo>
                      <a:pt x="14690" y="7"/>
                    </a:lnTo>
                    <a:cubicBezTo>
                      <a:pt x="14689" y="7"/>
                      <a:pt x="14688" y="6"/>
                      <a:pt x="14688" y="5"/>
                    </a:cubicBezTo>
                    <a:cubicBezTo>
                      <a:pt x="14688" y="4"/>
                      <a:pt x="14689" y="3"/>
                      <a:pt x="14690" y="3"/>
                    </a:cubicBezTo>
                    <a:close/>
                    <a:moveTo>
                      <a:pt x="14698" y="3"/>
                    </a:moveTo>
                    <a:lnTo>
                      <a:pt x="14698" y="3"/>
                    </a:lnTo>
                    <a:cubicBezTo>
                      <a:pt x="14699" y="3"/>
                      <a:pt x="14700" y="4"/>
                      <a:pt x="14700" y="5"/>
                    </a:cubicBezTo>
                    <a:cubicBezTo>
                      <a:pt x="14700" y="6"/>
                      <a:pt x="14699" y="7"/>
                      <a:pt x="14698" y="7"/>
                    </a:cubicBezTo>
                    <a:lnTo>
                      <a:pt x="14698" y="7"/>
                    </a:lnTo>
                    <a:cubicBezTo>
                      <a:pt x="14697" y="7"/>
                      <a:pt x="14696" y="6"/>
                      <a:pt x="14696" y="5"/>
                    </a:cubicBezTo>
                    <a:cubicBezTo>
                      <a:pt x="14696" y="4"/>
                      <a:pt x="14697" y="3"/>
                      <a:pt x="14698" y="3"/>
                    </a:cubicBezTo>
                    <a:close/>
                    <a:moveTo>
                      <a:pt x="14706" y="3"/>
                    </a:moveTo>
                    <a:lnTo>
                      <a:pt x="14706" y="3"/>
                    </a:lnTo>
                    <a:cubicBezTo>
                      <a:pt x="14707" y="3"/>
                      <a:pt x="14708" y="4"/>
                      <a:pt x="14708" y="5"/>
                    </a:cubicBezTo>
                    <a:cubicBezTo>
                      <a:pt x="14708" y="6"/>
                      <a:pt x="14707" y="7"/>
                      <a:pt x="14706" y="7"/>
                    </a:cubicBezTo>
                    <a:lnTo>
                      <a:pt x="14706" y="7"/>
                    </a:lnTo>
                    <a:cubicBezTo>
                      <a:pt x="14705" y="7"/>
                      <a:pt x="14704" y="6"/>
                      <a:pt x="14704" y="5"/>
                    </a:cubicBezTo>
                    <a:cubicBezTo>
                      <a:pt x="14704" y="4"/>
                      <a:pt x="14705" y="3"/>
                      <a:pt x="14706" y="3"/>
                    </a:cubicBezTo>
                    <a:close/>
                    <a:moveTo>
                      <a:pt x="14714" y="3"/>
                    </a:moveTo>
                    <a:lnTo>
                      <a:pt x="14714" y="3"/>
                    </a:lnTo>
                    <a:cubicBezTo>
                      <a:pt x="14715" y="3"/>
                      <a:pt x="14716" y="4"/>
                      <a:pt x="14716" y="5"/>
                    </a:cubicBezTo>
                    <a:cubicBezTo>
                      <a:pt x="14716" y="6"/>
                      <a:pt x="14715" y="7"/>
                      <a:pt x="14714" y="7"/>
                    </a:cubicBezTo>
                    <a:lnTo>
                      <a:pt x="14714" y="7"/>
                    </a:lnTo>
                    <a:cubicBezTo>
                      <a:pt x="14713" y="7"/>
                      <a:pt x="14712" y="6"/>
                      <a:pt x="14712" y="5"/>
                    </a:cubicBezTo>
                    <a:cubicBezTo>
                      <a:pt x="14712" y="4"/>
                      <a:pt x="14713" y="3"/>
                      <a:pt x="14714" y="3"/>
                    </a:cubicBezTo>
                    <a:close/>
                    <a:moveTo>
                      <a:pt x="14722" y="3"/>
                    </a:moveTo>
                    <a:lnTo>
                      <a:pt x="14722" y="3"/>
                    </a:lnTo>
                    <a:cubicBezTo>
                      <a:pt x="14723" y="3"/>
                      <a:pt x="14724" y="4"/>
                      <a:pt x="14724" y="5"/>
                    </a:cubicBezTo>
                    <a:cubicBezTo>
                      <a:pt x="14724" y="6"/>
                      <a:pt x="14723" y="7"/>
                      <a:pt x="14722" y="7"/>
                    </a:cubicBezTo>
                    <a:lnTo>
                      <a:pt x="14722" y="7"/>
                    </a:lnTo>
                    <a:cubicBezTo>
                      <a:pt x="14721" y="7"/>
                      <a:pt x="14720" y="6"/>
                      <a:pt x="14720" y="5"/>
                    </a:cubicBezTo>
                    <a:cubicBezTo>
                      <a:pt x="14720" y="4"/>
                      <a:pt x="14721" y="3"/>
                      <a:pt x="14722" y="3"/>
                    </a:cubicBezTo>
                    <a:close/>
                    <a:moveTo>
                      <a:pt x="14730" y="3"/>
                    </a:moveTo>
                    <a:lnTo>
                      <a:pt x="14730" y="3"/>
                    </a:lnTo>
                    <a:cubicBezTo>
                      <a:pt x="14731" y="3"/>
                      <a:pt x="14732" y="4"/>
                      <a:pt x="14732" y="5"/>
                    </a:cubicBezTo>
                    <a:cubicBezTo>
                      <a:pt x="14732" y="6"/>
                      <a:pt x="14731" y="7"/>
                      <a:pt x="14730" y="7"/>
                    </a:cubicBezTo>
                    <a:lnTo>
                      <a:pt x="14730" y="7"/>
                    </a:lnTo>
                    <a:cubicBezTo>
                      <a:pt x="14729" y="7"/>
                      <a:pt x="14728" y="6"/>
                      <a:pt x="14728" y="5"/>
                    </a:cubicBezTo>
                    <a:cubicBezTo>
                      <a:pt x="14728" y="4"/>
                      <a:pt x="14729" y="3"/>
                      <a:pt x="14730" y="3"/>
                    </a:cubicBezTo>
                    <a:close/>
                    <a:moveTo>
                      <a:pt x="14738" y="3"/>
                    </a:moveTo>
                    <a:lnTo>
                      <a:pt x="14738" y="3"/>
                    </a:lnTo>
                    <a:cubicBezTo>
                      <a:pt x="14739" y="3"/>
                      <a:pt x="14740" y="4"/>
                      <a:pt x="14740" y="5"/>
                    </a:cubicBezTo>
                    <a:cubicBezTo>
                      <a:pt x="14740" y="6"/>
                      <a:pt x="14739" y="7"/>
                      <a:pt x="14738" y="7"/>
                    </a:cubicBezTo>
                    <a:lnTo>
                      <a:pt x="14738" y="7"/>
                    </a:lnTo>
                    <a:cubicBezTo>
                      <a:pt x="14737" y="7"/>
                      <a:pt x="14736" y="6"/>
                      <a:pt x="14736" y="5"/>
                    </a:cubicBezTo>
                    <a:cubicBezTo>
                      <a:pt x="14736" y="4"/>
                      <a:pt x="14737" y="3"/>
                      <a:pt x="14738" y="3"/>
                    </a:cubicBezTo>
                    <a:close/>
                    <a:moveTo>
                      <a:pt x="14746" y="3"/>
                    </a:moveTo>
                    <a:lnTo>
                      <a:pt x="14746" y="3"/>
                    </a:lnTo>
                    <a:cubicBezTo>
                      <a:pt x="14747" y="3"/>
                      <a:pt x="14748" y="4"/>
                      <a:pt x="14748" y="5"/>
                    </a:cubicBezTo>
                    <a:cubicBezTo>
                      <a:pt x="14748" y="6"/>
                      <a:pt x="14747" y="7"/>
                      <a:pt x="14746" y="7"/>
                    </a:cubicBezTo>
                    <a:lnTo>
                      <a:pt x="14746" y="7"/>
                    </a:lnTo>
                    <a:cubicBezTo>
                      <a:pt x="14745" y="7"/>
                      <a:pt x="14744" y="6"/>
                      <a:pt x="14744" y="5"/>
                    </a:cubicBezTo>
                    <a:cubicBezTo>
                      <a:pt x="14744" y="4"/>
                      <a:pt x="14745" y="3"/>
                      <a:pt x="14746" y="3"/>
                    </a:cubicBezTo>
                    <a:close/>
                    <a:moveTo>
                      <a:pt x="14754" y="3"/>
                    </a:moveTo>
                    <a:lnTo>
                      <a:pt x="14754" y="3"/>
                    </a:lnTo>
                    <a:cubicBezTo>
                      <a:pt x="14755" y="3"/>
                      <a:pt x="14756" y="4"/>
                      <a:pt x="14756" y="5"/>
                    </a:cubicBezTo>
                    <a:cubicBezTo>
                      <a:pt x="14756" y="6"/>
                      <a:pt x="14755" y="7"/>
                      <a:pt x="14754" y="7"/>
                    </a:cubicBezTo>
                    <a:lnTo>
                      <a:pt x="14754" y="7"/>
                    </a:lnTo>
                    <a:cubicBezTo>
                      <a:pt x="14753" y="7"/>
                      <a:pt x="14752" y="6"/>
                      <a:pt x="14752" y="5"/>
                    </a:cubicBezTo>
                    <a:cubicBezTo>
                      <a:pt x="14752" y="4"/>
                      <a:pt x="14753" y="3"/>
                      <a:pt x="14754" y="3"/>
                    </a:cubicBezTo>
                    <a:close/>
                    <a:moveTo>
                      <a:pt x="14762" y="3"/>
                    </a:moveTo>
                    <a:lnTo>
                      <a:pt x="14762" y="3"/>
                    </a:lnTo>
                    <a:cubicBezTo>
                      <a:pt x="14763" y="3"/>
                      <a:pt x="14764" y="4"/>
                      <a:pt x="14764" y="5"/>
                    </a:cubicBezTo>
                    <a:cubicBezTo>
                      <a:pt x="14764" y="6"/>
                      <a:pt x="14763" y="7"/>
                      <a:pt x="14762" y="7"/>
                    </a:cubicBezTo>
                    <a:lnTo>
                      <a:pt x="14762" y="7"/>
                    </a:lnTo>
                    <a:cubicBezTo>
                      <a:pt x="14761" y="7"/>
                      <a:pt x="14760" y="6"/>
                      <a:pt x="14760" y="5"/>
                    </a:cubicBezTo>
                    <a:cubicBezTo>
                      <a:pt x="14760" y="4"/>
                      <a:pt x="14761" y="3"/>
                      <a:pt x="14762" y="3"/>
                    </a:cubicBezTo>
                    <a:close/>
                    <a:moveTo>
                      <a:pt x="14770" y="3"/>
                    </a:moveTo>
                    <a:lnTo>
                      <a:pt x="14770" y="3"/>
                    </a:lnTo>
                    <a:cubicBezTo>
                      <a:pt x="14771" y="3"/>
                      <a:pt x="14772" y="4"/>
                      <a:pt x="14772" y="5"/>
                    </a:cubicBezTo>
                    <a:cubicBezTo>
                      <a:pt x="14772" y="6"/>
                      <a:pt x="14771" y="7"/>
                      <a:pt x="14770" y="7"/>
                    </a:cubicBezTo>
                    <a:lnTo>
                      <a:pt x="14770" y="7"/>
                    </a:lnTo>
                    <a:cubicBezTo>
                      <a:pt x="14769" y="7"/>
                      <a:pt x="14768" y="6"/>
                      <a:pt x="14768" y="5"/>
                    </a:cubicBezTo>
                    <a:cubicBezTo>
                      <a:pt x="14768" y="4"/>
                      <a:pt x="14769" y="3"/>
                      <a:pt x="14770" y="3"/>
                    </a:cubicBezTo>
                    <a:close/>
                    <a:moveTo>
                      <a:pt x="14778" y="3"/>
                    </a:moveTo>
                    <a:lnTo>
                      <a:pt x="14778" y="3"/>
                    </a:lnTo>
                    <a:cubicBezTo>
                      <a:pt x="14779" y="3"/>
                      <a:pt x="14780" y="4"/>
                      <a:pt x="14780" y="5"/>
                    </a:cubicBezTo>
                    <a:cubicBezTo>
                      <a:pt x="14780" y="6"/>
                      <a:pt x="14779" y="7"/>
                      <a:pt x="14778" y="7"/>
                    </a:cubicBezTo>
                    <a:lnTo>
                      <a:pt x="14778" y="7"/>
                    </a:lnTo>
                    <a:cubicBezTo>
                      <a:pt x="14777" y="7"/>
                      <a:pt x="14776" y="6"/>
                      <a:pt x="14776" y="5"/>
                    </a:cubicBezTo>
                    <a:cubicBezTo>
                      <a:pt x="14776" y="4"/>
                      <a:pt x="14777" y="3"/>
                      <a:pt x="14778" y="3"/>
                    </a:cubicBezTo>
                    <a:close/>
                    <a:moveTo>
                      <a:pt x="14786" y="3"/>
                    </a:moveTo>
                    <a:lnTo>
                      <a:pt x="14786" y="3"/>
                    </a:lnTo>
                    <a:cubicBezTo>
                      <a:pt x="14787" y="3"/>
                      <a:pt x="14788" y="4"/>
                      <a:pt x="14788" y="5"/>
                    </a:cubicBezTo>
                    <a:cubicBezTo>
                      <a:pt x="14788" y="6"/>
                      <a:pt x="14787" y="7"/>
                      <a:pt x="14786" y="7"/>
                    </a:cubicBezTo>
                    <a:lnTo>
                      <a:pt x="14786" y="7"/>
                    </a:lnTo>
                    <a:cubicBezTo>
                      <a:pt x="14785" y="7"/>
                      <a:pt x="14784" y="6"/>
                      <a:pt x="14784" y="5"/>
                    </a:cubicBezTo>
                    <a:cubicBezTo>
                      <a:pt x="14784" y="4"/>
                      <a:pt x="14785" y="3"/>
                      <a:pt x="14786" y="3"/>
                    </a:cubicBezTo>
                    <a:close/>
                    <a:moveTo>
                      <a:pt x="14794" y="3"/>
                    </a:moveTo>
                    <a:lnTo>
                      <a:pt x="14794" y="3"/>
                    </a:lnTo>
                    <a:cubicBezTo>
                      <a:pt x="14795" y="3"/>
                      <a:pt x="14796" y="4"/>
                      <a:pt x="14796" y="5"/>
                    </a:cubicBezTo>
                    <a:cubicBezTo>
                      <a:pt x="14796" y="6"/>
                      <a:pt x="14795" y="7"/>
                      <a:pt x="14794" y="7"/>
                    </a:cubicBezTo>
                    <a:lnTo>
                      <a:pt x="14794" y="7"/>
                    </a:lnTo>
                    <a:cubicBezTo>
                      <a:pt x="14793" y="7"/>
                      <a:pt x="14792" y="6"/>
                      <a:pt x="14792" y="5"/>
                    </a:cubicBezTo>
                    <a:cubicBezTo>
                      <a:pt x="14792" y="4"/>
                      <a:pt x="14793" y="3"/>
                      <a:pt x="14794" y="3"/>
                    </a:cubicBezTo>
                    <a:close/>
                    <a:moveTo>
                      <a:pt x="14802" y="3"/>
                    </a:moveTo>
                    <a:lnTo>
                      <a:pt x="14802" y="3"/>
                    </a:lnTo>
                    <a:cubicBezTo>
                      <a:pt x="14803" y="3"/>
                      <a:pt x="14804" y="4"/>
                      <a:pt x="14804" y="5"/>
                    </a:cubicBezTo>
                    <a:cubicBezTo>
                      <a:pt x="14804" y="6"/>
                      <a:pt x="14803" y="7"/>
                      <a:pt x="14802" y="7"/>
                    </a:cubicBezTo>
                    <a:lnTo>
                      <a:pt x="14802" y="7"/>
                    </a:lnTo>
                    <a:cubicBezTo>
                      <a:pt x="14801" y="7"/>
                      <a:pt x="14800" y="6"/>
                      <a:pt x="14800" y="5"/>
                    </a:cubicBezTo>
                    <a:cubicBezTo>
                      <a:pt x="14800" y="4"/>
                      <a:pt x="14801" y="3"/>
                      <a:pt x="14802" y="3"/>
                    </a:cubicBezTo>
                    <a:close/>
                    <a:moveTo>
                      <a:pt x="14810" y="3"/>
                    </a:moveTo>
                    <a:lnTo>
                      <a:pt x="14810" y="3"/>
                    </a:lnTo>
                    <a:cubicBezTo>
                      <a:pt x="14811" y="3"/>
                      <a:pt x="14812" y="4"/>
                      <a:pt x="14812" y="5"/>
                    </a:cubicBezTo>
                    <a:cubicBezTo>
                      <a:pt x="14812" y="7"/>
                      <a:pt x="14811" y="7"/>
                      <a:pt x="14810" y="7"/>
                    </a:cubicBezTo>
                    <a:lnTo>
                      <a:pt x="14810" y="7"/>
                    </a:lnTo>
                    <a:cubicBezTo>
                      <a:pt x="14809" y="7"/>
                      <a:pt x="14808" y="7"/>
                      <a:pt x="14808" y="5"/>
                    </a:cubicBezTo>
                    <a:cubicBezTo>
                      <a:pt x="14808" y="4"/>
                      <a:pt x="14809" y="3"/>
                      <a:pt x="14810" y="3"/>
                    </a:cubicBezTo>
                    <a:close/>
                    <a:moveTo>
                      <a:pt x="14818" y="3"/>
                    </a:moveTo>
                    <a:lnTo>
                      <a:pt x="14818" y="3"/>
                    </a:lnTo>
                    <a:cubicBezTo>
                      <a:pt x="14819" y="3"/>
                      <a:pt x="14820" y="4"/>
                      <a:pt x="14820" y="5"/>
                    </a:cubicBezTo>
                    <a:cubicBezTo>
                      <a:pt x="14820" y="7"/>
                      <a:pt x="14819" y="7"/>
                      <a:pt x="14818" y="7"/>
                    </a:cubicBezTo>
                    <a:lnTo>
                      <a:pt x="14818" y="7"/>
                    </a:lnTo>
                    <a:cubicBezTo>
                      <a:pt x="14817" y="7"/>
                      <a:pt x="14816" y="7"/>
                      <a:pt x="14816" y="5"/>
                    </a:cubicBezTo>
                    <a:cubicBezTo>
                      <a:pt x="14816" y="4"/>
                      <a:pt x="14817" y="3"/>
                      <a:pt x="14818" y="3"/>
                    </a:cubicBezTo>
                    <a:close/>
                    <a:moveTo>
                      <a:pt x="14826" y="3"/>
                    </a:moveTo>
                    <a:lnTo>
                      <a:pt x="14826" y="3"/>
                    </a:lnTo>
                    <a:cubicBezTo>
                      <a:pt x="14827" y="3"/>
                      <a:pt x="14828" y="4"/>
                      <a:pt x="14828" y="5"/>
                    </a:cubicBezTo>
                    <a:cubicBezTo>
                      <a:pt x="14828" y="7"/>
                      <a:pt x="14827" y="7"/>
                      <a:pt x="14826" y="7"/>
                    </a:cubicBezTo>
                    <a:lnTo>
                      <a:pt x="14826" y="7"/>
                    </a:lnTo>
                    <a:cubicBezTo>
                      <a:pt x="14825" y="7"/>
                      <a:pt x="14824" y="7"/>
                      <a:pt x="14824" y="5"/>
                    </a:cubicBezTo>
                    <a:cubicBezTo>
                      <a:pt x="14824" y="4"/>
                      <a:pt x="14825" y="3"/>
                      <a:pt x="14826" y="3"/>
                    </a:cubicBezTo>
                    <a:close/>
                    <a:moveTo>
                      <a:pt x="14834" y="3"/>
                    </a:moveTo>
                    <a:lnTo>
                      <a:pt x="14834" y="3"/>
                    </a:lnTo>
                    <a:cubicBezTo>
                      <a:pt x="14835" y="3"/>
                      <a:pt x="14836" y="4"/>
                      <a:pt x="14836" y="5"/>
                    </a:cubicBezTo>
                    <a:cubicBezTo>
                      <a:pt x="14836" y="7"/>
                      <a:pt x="14835" y="7"/>
                      <a:pt x="14834" y="7"/>
                    </a:cubicBezTo>
                    <a:lnTo>
                      <a:pt x="14834" y="7"/>
                    </a:lnTo>
                    <a:cubicBezTo>
                      <a:pt x="14833" y="7"/>
                      <a:pt x="14832" y="7"/>
                      <a:pt x="14832" y="5"/>
                    </a:cubicBezTo>
                    <a:cubicBezTo>
                      <a:pt x="14832" y="4"/>
                      <a:pt x="14833" y="3"/>
                      <a:pt x="14834" y="3"/>
                    </a:cubicBezTo>
                    <a:close/>
                    <a:moveTo>
                      <a:pt x="14842" y="3"/>
                    </a:moveTo>
                    <a:lnTo>
                      <a:pt x="14842" y="3"/>
                    </a:lnTo>
                    <a:cubicBezTo>
                      <a:pt x="14843" y="3"/>
                      <a:pt x="14844" y="4"/>
                      <a:pt x="14844" y="5"/>
                    </a:cubicBezTo>
                    <a:cubicBezTo>
                      <a:pt x="14844" y="7"/>
                      <a:pt x="14843" y="7"/>
                      <a:pt x="14842" y="7"/>
                    </a:cubicBezTo>
                    <a:lnTo>
                      <a:pt x="14842" y="7"/>
                    </a:lnTo>
                    <a:cubicBezTo>
                      <a:pt x="14841" y="7"/>
                      <a:pt x="14840" y="7"/>
                      <a:pt x="14840" y="5"/>
                    </a:cubicBezTo>
                    <a:cubicBezTo>
                      <a:pt x="14840" y="4"/>
                      <a:pt x="14841" y="3"/>
                      <a:pt x="14842" y="3"/>
                    </a:cubicBezTo>
                    <a:close/>
                    <a:moveTo>
                      <a:pt x="14850" y="3"/>
                    </a:moveTo>
                    <a:lnTo>
                      <a:pt x="14850" y="3"/>
                    </a:lnTo>
                    <a:cubicBezTo>
                      <a:pt x="14851" y="3"/>
                      <a:pt x="14852" y="4"/>
                      <a:pt x="14852" y="5"/>
                    </a:cubicBezTo>
                    <a:cubicBezTo>
                      <a:pt x="14852" y="7"/>
                      <a:pt x="14851" y="7"/>
                      <a:pt x="14850" y="7"/>
                    </a:cubicBezTo>
                    <a:lnTo>
                      <a:pt x="14850" y="7"/>
                    </a:lnTo>
                    <a:cubicBezTo>
                      <a:pt x="14849" y="7"/>
                      <a:pt x="14848" y="7"/>
                      <a:pt x="14848" y="5"/>
                    </a:cubicBezTo>
                    <a:cubicBezTo>
                      <a:pt x="14848" y="4"/>
                      <a:pt x="14849" y="3"/>
                      <a:pt x="14850" y="3"/>
                    </a:cubicBezTo>
                    <a:close/>
                    <a:moveTo>
                      <a:pt x="14858" y="3"/>
                    </a:moveTo>
                    <a:lnTo>
                      <a:pt x="14858" y="3"/>
                    </a:lnTo>
                    <a:cubicBezTo>
                      <a:pt x="14859" y="3"/>
                      <a:pt x="14860" y="4"/>
                      <a:pt x="14860" y="5"/>
                    </a:cubicBezTo>
                    <a:cubicBezTo>
                      <a:pt x="14860" y="7"/>
                      <a:pt x="14859" y="7"/>
                      <a:pt x="14858" y="7"/>
                    </a:cubicBezTo>
                    <a:lnTo>
                      <a:pt x="14858" y="7"/>
                    </a:lnTo>
                    <a:cubicBezTo>
                      <a:pt x="14857" y="7"/>
                      <a:pt x="14856" y="7"/>
                      <a:pt x="14856" y="5"/>
                    </a:cubicBezTo>
                    <a:cubicBezTo>
                      <a:pt x="14856" y="4"/>
                      <a:pt x="14857" y="3"/>
                      <a:pt x="14858" y="3"/>
                    </a:cubicBezTo>
                    <a:close/>
                    <a:moveTo>
                      <a:pt x="14866" y="3"/>
                    </a:moveTo>
                    <a:lnTo>
                      <a:pt x="14866" y="3"/>
                    </a:lnTo>
                    <a:cubicBezTo>
                      <a:pt x="14867" y="3"/>
                      <a:pt x="14868" y="4"/>
                      <a:pt x="14868" y="5"/>
                    </a:cubicBezTo>
                    <a:cubicBezTo>
                      <a:pt x="14868" y="7"/>
                      <a:pt x="14867" y="7"/>
                      <a:pt x="14866" y="7"/>
                    </a:cubicBezTo>
                    <a:lnTo>
                      <a:pt x="14866" y="7"/>
                    </a:lnTo>
                    <a:cubicBezTo>
                      <a:pt x="14865" y="7"/>
                      <a:pt x="14864" y="7"/>
                      <a:pt x="14864" y="5"/>
                    </a:cubicBezTo>
                    <a:cubicBezTo>
                      <a:pt x="14864" y="4"/>
                      <a:pt x="14865" y="3"/>
                      <a:pt x="14866" y="3"/>
                    </a:cubicBezTo>
                    <a:close/>
                    <a:moveTo>
                      <a:pt x="14874" y="3"/>
                    </a:moveTo>
                    <a:lnTo>
                      <a:pt x="14874" y="3"/>
                    </a:lnTo>
                    <a:cubicBezTo>
                      <a:pt x="14875" y="3"/>
                      <a:pt x="14876" y="4"/>
                      <a:pt x="14876" y="5"/>
                    </a:cubicBezTo>
                    <a:cubicBezTo>
                      <a:pt x="14876" y="7"/>
                      <a:pt x="14875" y="7"/>
                      <a:pt x="14874" y="7"/>
                    </a:cubicBezTo>
                    <a:lnTo>
                      <a:pt x="14874" y="7"/>
                    </a:lnTo>
                    <a:cubicBezTo>
                      <a:pt x="14873" y="7"/>
                      <a:pt x="14872" y="7"/>
                      <a:pt x="14872" y="5"/>
                    </a:cubicBezTo>
                    <a:cubicBezTo>
                      <a:pt x="14872" y="4"/>
                      <a:pt x="14873" y="3"/>
                      <a:pt x="14874" y="3"/>
                    </a:cubicBezTo>
                    <a:close/>
                    <a:moveTo>
                      <a:pt x="14882" y="3"/>
                    </a:moveTo>
                    <a:lnTo>
                      <a:pt x="14882" y="3"/>
                    </a:lnTo>
                    <a:cubicBezTo>
                      <a:pt x="14883" y="3"/>
                      <a:pt x="14884" y="4"/>
                      <a:pt x="14884" y="5"/>
                    </a:cubicBezTo>
                    <a:cubicBezTo>
                      <a:pt x="14884" y="7"/>
                      <a:pt x="14883" y="7"/>
                      <a:pt x="14882" y="7"/>
                    </a:cubicBezTo>
                    <a:lnTo>
                      <a:pt x="14882" y="7"/>
                    </a:lnTo>
                    <a:cubicBezTo>
                      <a:pt x="14881" y="7"/>
                      <a:pt x="14880" y="7"/>
                      <a:pt x="14880" y="5"/>
                    </a:cubicBezTo>
                    <a:cubicBezTo>
                      <a:pt x="14880" y="4"/>
                      <a:pt x="14881" y="3"/>
                      <a:pt x="14882" y="3"/>
                    </a:cubicBezTo>
                    <a:close/>
                    <a:moveTo>
                      <a:pt x="14890" y="3"/>
                    </a:moveTo>
                    <a:lnTo>
                      <a:pt x="14890" y="3"/>
                    </a:lnTo>
                    <a:cubicBezTo>
                      <a:pt x="14891" y="3"/>
                      <a:pt x="14892" y="4"/>
                      <a:pt x="14892" y="5"/>
                    </a:cubicBezTo>
                    <a:cubicBezTo>
                      <a:pt x="14892" y="7"/>
                      <a:pt x="14891" y="7"/>
                      <a:pt x="14890" y="7"/>
                    </a:cubicBezTo>
                    <a:lnTo>
                      <a:pt x="14890" y="7"/>
                    </a:lnTo>
                    <a:cubicBezTo>
                      <a:pt x="14889" y="7"/>
                      <a:pt x="14888" y="7"/>
                      <a:pt x="14888" y="5"/>
                    </a:cubicBezTo>
                    <a:cubicBezTo>
                      <a:pt x="14888" y="4"/>
                      <a:pt x="14889" y="3"/>
                      <a:pt x="14890" y="3"/>
                    </a:cubicBezTo>
                    <a:close/>
                    <a:moveTo>
                      <a:pt x="14898" y="3"/>
                    </a:moveTo>
                    <a:lnTo>
                      <a:pt x="14898" y="3"/>
                    </a:lnTo>
                    <a:cubicBezTo>
                      <a:pt x="14899" y="3"/>
                      <a:pt x="14900" y="4"/>
                      <a:pt x="14900" y="5"/>
                    </a:cubicBezTo>
                    <a:cubicBezTo>
                      <a:pt x="14900" y="7"/>
                      <a:pt x="14899" y="7"/>
                      <a:pt x="14898" y="7"/>
                    </a:cubicBezTo>
                    <a:lnTo>
                      <a:pt x="14898" y="7"/>
                    </a:lnTo>
                    <a:cubicBezTo>
                      <a:pt x="14897" y="7"/>
                      <a:pt x="14896" y="7"/>
                      <a:pt x="14896" y="5"/>
                    </a:cubicBezTo>
                    <a:cubicBezTo>
                      <a:pt x="14896" y="4"/>
                      <a:pt x="14897" y="3"/>
                      <a:pt x="14898" y="3"/>
                    </a:cubicBezTo>
                    <a:close/>
                    <a:moveTo>
                      <a:pt x="14906" y="3"/>
                    </a:moveTo>
                    <a:lnTo>
                      <a:pt x="14906" y="3"/>
                    </a:lnTo>
                    <a:cubicBezTo>
                      <a:pt x="14907" y="3"/>
                      <a:pt x="14908" y="4"/>
                      <a:pt x="14908" y="5"/>
                    </a:cubicBezTo>
                    <a:cubicBezTo>
                      <a:pt x="14908" y="7"/>
                      <a:pt x="14907" y="7"/>
                      <a:pt x="14906" y="7"/>
                    </a:cubicBezTo>
                    <a:lnTo>
                      <a:pt x="14906" y="7"/>
                    </a:lnTo>
                    <a:cubicBezTo>
                      <a:pt x="14905" y="7"/>
                      <a:pt x="14904" y="7"/>
                      <a:pt x="14904" y="5"/>
                    </a:cubicBezTo>
                    <a:cubicBezTo>
                      <a:pt x="14904" y="4"/>
                      <a:pt x="14905" y="3"/>
                      <a:pt x="14906" y="3"/>
                    </a:cubicBezTo>
                    <a:close/>
                    <a:moveTo>
                      <a:pt x="14914" y="3"/>
                    </a:moveTo>
                    <a:lnTo>
                      <a:pt x="14914" y="3"/>
                    </a:lnTo>
                    <a:cubicBezTo>
                      <a:pt x="14915" y="3"/>
                      <a:pt x="14916" y="4"/>
                      <a:pt x="14916" y="5"/>
                    </a:cubicBezTo>
                    <a:cubicBezTo>
                      <a:pt x="14916" y="7"/>
                      <a:pt x="14915" y="7"/>
                      <a:pt x="14914" y="7"/>
                    </a:cubicBezTo>
                    <a:lnTo>
                      <a:pt x="14914" y="7"/>
                    </a:lnTo>
                    <a:cubicBezTo>
                      <a:pt x="14913" y="7"/>
                      <a:pt x="14912" y="7"/>
                      <a:pt x="14912" y="5"/>
                    </a:cubicBezTo>
                    <a:cubicBezTo>
                      <a:pt x="14912" y="4"/>
                      <a:pt x="14913" y="3"/>
                      <a:pt x="14914" y="3"/>
                    </a:cubicBezTo>
                    <a:close/>
                    <a:moveTo>
                      <a:pt x="14922" y="3"/>
                    </a:moveTo>
                    <a:lnTo>
                      <a:pt x="14922" y="3"/>
                    </a:lnTo>
                    <a:cubicBezTo>
                      <a:pt x="14923" y="3"/>
                      <a:pt x="14924" y="4"/>
                      <a:pt x="14924" y="5"/>
                    </a:cubicBezTo>
                    <a:cubicBezTo>
                      <a:pt x="14924" y="7"/>
                      <a:pt x="14923" y="7"/>
                      <a:pt x="14922" y="7"/>
                    </a:cubicBezTo>
                    <a:lnTo>
                      <a:pt x="14922" y="7"/>
                    </a:lnTo>
                    <a:cubicBezTo>
                      <a:pt x="14921" y="7"/>
                      <a:pt x="14920" y="7"/>
                      <a:pt x="14920" y="5"/>
                    </a:cubicBezTo>
                    <a:cubicBezTo>
                      <a:pt x="14920" y="4"/>
                      <a:pt x="14921" y="3"/>
                      <a:pt x="14922" y="3"/>
                    </a:cubicBezTo>
                    <a:close/>
                    <a:moveTo>
                      <a:pt x="14930" y="3"/>
                    </a:moveTo>
                    <a:lnTo>
                      <a:pt x="14930" y="3"/>
                    </a:lnTo>
                    <a:cubicBezTo>
                      <a:pt x="14931" y="3"/>
                      <a:pt x="14932" y="4"/>
                      <a:pt x="14932" y="5"/>
                    </a:cubicBezTo>
                    <a:cubicBezTo>
                      <a:pt x="14932" y="7"/>
                      <a:pt x="14931" y="7"/>
                      <a:pt x="14930" y="7"/>
                    </a:cubicBezTo>
                    <a:lnTo>
                      <a:pt x="14930" y="7"/>
                    </a:lnTo>
                    <a:cubicBezTo>
                      <a:pt x="14929" y="7"/>
                      <a:pt x="14928" y="7"/>
                      <a:pt x="14928" y="5"/>
                    </a:cubicBezTo>
                    <a:cubicBezTo>
                      <a:pt x="14928" y="4"/>
                      <a:pt x="14929" y="3"/>
                      <a:pt x="14930" y="3"/>
                    </a:cubicBezTo>
                    <a:close/>
                    <a:moveTo>
                      <a:pt x="14938" y="3"/>
                    </a:moveTo>
                    <a:lnTo>
                      <a:pt x="14938" y="3"/>
                    </a:lnTo>
                    <a:cubicBezTo>
                      <a:pt x="14939" y="3"/>
                      <a:pt x="14940" y="4"/>
                      <a:pt x="14940" y="5"/>
                    </a:cubicBezTo>
                    <a:cubicBezTo>
                      <a:pt x="14940" y="7"/>
                      <a:pt x="14939" y="7"/>
                      <a:pt x="14938" y="7"/>
                    </a:cubicBezTo>
                    <a:lnTo>
                      <a:pt x="14938" y="7"/>
                    </a:lnTo>
                    <a:cubicBezTo>
                      <a:pt x="14937" y="7"/>
                      <a:pt x="14936" y="7"/>
                      <a:pt x="14936" y="5"/>
                    </a:cubicBezTo>
                    <a:cubicBezTo>
                      <a:pt x="14936" y="4"/>
                      <a:pt x="14937" y="3"/>
                      <a:pt x="14938" y="3"/>
                    </a:cubicBezTo>
                    <a:close/>
                    <a:moveTo>
                      <a:pt x="14946" y="3"/>
                    </a:moveTo>
                    <a:lnTo>
                      <a:pt x="14946" y="3"/>
                    </a:lnTo>
                    <a:cubicBezTo>
                      <a:pt x="14947" y="3"/>
                      <a:pt x="14948" y="4"/>
                      <a:pt x="14948" y="5"/>
                    </a:cubicBezTo>
                    <a:cubicBezTo>
                      <a:pt x="14948" y="7"/>
                      <a:pt x="14947" y="7"/>
                      <a:pt x="14946" y="7"/>
                    </a:cubicBezTo>
                    <a:lnTo>
                      <a:pt x="14946" y="7"/>
                    </a:lnTo>
                    <a:cubicBezTo>
                      <a:pt x="14945" y="7"/>
                      <a:pt x="14944" y="7"/>
                      <a:pt x="14944" y="5"/>
                    </a:cubicBezTo>
                    <a:cubicBezTo>
                      <a:pt x="14944" y="4"/>
                      <a:pt x="14945" y="3"/>
                      <a:pt x="14946" y="3"/>
                    </a:cubicBezTo>
                    <a:close/>
                    <a:moveTo>
                      <a:pt x="14954" y="3"/>
                    </a:moveTo>
                    <a:lnTo>
                      <a:pt x="14954" y="3"/>
                    </a:lnTo>
                    <a:cubicBezTo>
                      <a:pt x="14955" y="3"/>
                      <a:pt x="14956" y="4"/>
                      <a:pt x="14956" y="5"/>
                    </a:cubicBezTo>
                    <a:cubicBezTo>
                      <a:pt x="14956" y="7"/>
                      <a:pt x="14955" y="7"/>
                      <a:pt x="14954" y="7"/>
                    </a:cubicBezTo>
                    <a:lnTo>
                      <a:pt x="14954" y="7"/>
                    </a:lnTo>
                    <a:cubicBezTo>
                      <a:pt x="14953" y="7"/>
                      <a:pt x="14952" y="7"/>
                      <a:pt x="14952" y="5"/>
                    </a:cubicBezTo>
                    <a:cubicBezTo>
                      <a:pt x="14952" y="4"/>
                      <a:pt x="14953" y="3"/>
                      <a:pt x="14954" y="3"/>
                    </a:cubicBezTo>
                    <a:close/>
                    <a:moveTo>
                      <a:pt x="14962" y="3"/>
                    </a:moveTo>
                    <a:lnTo>
                      <a:pt x="14962" y="3"/>
                    </a:lnTo>
                    <a:cubicBezTo>
                      <a:pt x="14963" y="3"/>
                      <a:pt x="14964" y="4"/>
                      <a:pt x="14964" y="5"/>
                    </a:cubicBezTo>
                    <a:cubicBezTo>
                      <a:pt x="14964" y="7"/>
                      <a:pt x="14963" y="7"/>
                      <a:pt x="14962" y="7"/>
                    </a:cubicBezTo>
                    <a:lnTo>
                      <a:pt x="14962" y="7"/>
                    </a:lnTo>
                    <a:cubicBezTo>
                      <a:pt x="14961" y="7"/>
                      <a:pt x="14960" y="7"/>
                      <a:pt x="14960" y="5"/>
                    </a:cubicBezTo>
                    <a:cubicBezTo>
                      <a:pt x="14960" y="4"/>
                      <a:pt x="14961" y="3"/>
                      <a:pt x="14962" y="3"/>
                    </a:cubicBezTo>
                    <a:close/>
                    <a:moveTo>
                      <a:pt x="14970" y="3"/>
                    </a:moveTo>
                    <a:lnTo>
                      <a:pt x="14970" y="3"/>
                    </a:lnTo>
                    <a:cubicBezTo>
                      <a:pt x="14971" y="3"/>
                      <a:pt x="14972" y="4"/>
                      <a:pt x="14972" y="5"/>
                    </a:cubicBezTo>
                    <a:cubicBezTo>
                      <a:pt x="14972" y="7"/>
                      <a:pt x="14971" y="7"/>
                      <a:pt x="14970" y="7"/>
                    </a:cubicBezTo>
                    <a:lnTo>
                      <a:pt x="14970" y="7"/>
                    </a:lnTo>
                    <a:cubicBezTo>
                      <a:pt x="14969" y="7"/>
                      <a:pt x="14968" y="7"/>
                      <a:pt x="14968" y="5"/>
                    </a:cubicBezTo>
                    <a:cubicBezTo>
                      <a:pt x="14968" y="4"/>
                      <a:pt x="14969" y="3"/>
                      <a:pt x="14970" y="3"/>
                    </a:cubicBezTo>
                    <a:close/>
                    <a:moveTo>
                      <a:pt x="14978" y="3"/>
                    </a:moveTo>
                    <a:lnTo>
                      <a:pt x="14978" y="3"/>
                    </a:lnTo>
                    <a:cubicBezTo>
                      <a:pt x="14979" y="3"/>
                      <a:pt x="14980" y="4"/>
                      <a:pt x="14980" y="5"/>
                    </a:cubicBezTo>
                    <a:cubicBezTo>
                      <a:pt x="14980" y="7"/>
                      <a:pt x="14979" y="7"/>
                      <a:pt x="14978" y="7"/>
                    </a:cubicBezTo>
                    <a:lnTo>
                      <a:pt x="14978" y="7"/>
                    </a:lnTo>
                    <a:cubicBezTo>
                      <a:pt x="14977" y="7"/>
                      <a:pt x="14976" y="7"/>
                      <a:pt x="14976" y="5"/>
                    </a:cubicBezTo>
                    <a:cubicBezTo>
                      <a:pt x="14976" y="4"/>
                      <a:pt x="14977" y="3"/>
                      <a:pt x="14978" y="3"/>
                    </a:cubicBezTo>
                    <a:close/>
                    <a:moveTo>
                      <a:pt x="14986" y="3"/>
                    </a:moveTo>
                    <a:lnTo>
                      <a:pt x="14986" y="3"/>
                    </a:lnTo>
                    <a:cubicBezTo>
                      <a:pt x="14987" y="3"/>
                      <a:pt x="14988" y="4"/>
                      <a:pt x="14988" y="5"/>
                    </a:cubicBezTo>
                    <a:cubicBezTo>
                      <a:pt x="14988" y="7"/>
                      <a:pt x="14987" y="7"/>
                      <a:pt x="14986" y="7"/>
                    </a:cubicBezTo>
                    <a:lnTo>
                      <a:pt x="14986" y="7"/>
                    </a:lnTo>
                    <a:cubicBezTo>
                      <a:pt x="14985" y="7"/>
                      <a:pt x="14984" y="7"/>
                      <a:pt x="14984" y="5"/>
                    </a:cubicBezTo>
                    <a:cubicBezTo>
                      <a:pt x="14984" y="4"/>
                      <a:pt x="14985" y="3"/>
                      <a:pt x="14986" y="3"/>
                    </a:cubicBezTo>
                    <a:close/>
                    <a:moveTo>
                      <a:pt x="14994" y="3"/>
                    </a:moveTo>
                    <a:lnTo>
                      <a:pt x="14994" y="3"/>
                    </a:lnTo>
                    <a:cubicBezTo>
                      <a:pt x="14995" y="3"/>
                      <a:pt x="14996" y="4"/>
                      <a:pt x="14996" y="5"/>
                    </a:cubicBezTo>
                    <a:cubicBezTo>
                      <a:pt x="14996" y="7"/>
                      <a:pt x="14995" y="7"/>
                      <a:pt x="14994" y="7"/>
                    </a:cubicBezTo>
                    <a:lnTo>
                      <a:pt x="14994" y="7"/>
                    </a:lnTo>
                    <a:cubicBezTo>
                      <a:pt x="14993" y="7"/>
                      <a:pt x="14992" y="7"/>
                      <a:pt x="14992" y="5"/>
                    </a:cubicBezTo>
                    <a:cubicBezTo>
                      <a:pt x="14992" y="4"/>
                      <a:pt x="14993" y="3"/>
                      <a:pt x="14994" y="3"/>
                    </a:cubicBezTo>
                    <a:close/>
                    <a:moveTo>
                      <a:pt x="15002" y="3"/>
                    </a:moveTo>
                    <a:lnTo>
                      <a:pt x="15002" y="3"/>
                    </a:lnTo>
                    <a:cubicBezTo>
                      <a:pt x="15003" y="3"/>
                      <a:pt x="15004" y="4"/>
                      <a:pt x="15004" y="5"/>
                    </a:cubicBezTo>
                    <a:cubicBezTo>
                      <a:pt x="15004" y="7"/>
                      <a:pt x="15003" y="7"/>
                      <a:pt x="15002" y="7"/>
                    </a:cubicBezTo>
                    <a:lnTo>
                      <a:pt x="15002" y="7"/>
                    </a:lnTo>
                    <a:cubicBezTo>
                      <a:pt x="15001" y="7"/>
                      <a:pt x="15000" y="7"/>
                      <a:pt x="15000" y="5"/>
                    </a:cubicBezTo>
                    <a:cubicBezTo>
                      <a:pt x="15000" y="4"/>
                      <a:pt x="15001" y="3"/>
                      <a:pt x="15002" y="3"/>
                    </a:cubicBezTo>
                    <a:close/>
                    <a:moveTo>
                      <a:pt x="15010" y="3"/>
                    </a:moveTo>
                    <a:lnTo>
                      <a:pt x="15010" y="3"/>
                    </a:lnTo>
                    <a:cubicBezTo>
                      <a:pt x="15011" y="3"/>
                      <a:pt x="15012" y="4"/>
                      <a:pt x="15012" y="5"/>
                    </a:cubicBezTo>
                    <a:cubicBezTo>
                      <a:pt x="15012" y="7"/>
                      <a:pt x="15011" y="7"/>
                      <a:pt x="15010" y="7"/>
                    </a:cubicBezTo>
                    <a:lnTo>
                      <a:pt x="15010" y="7"/>
                    </a:lnTo>
                    <a:cubicBezTo>
                      <a:pt x="15009" y="7"/>
                      <a:pt x="15008" y="7"/>
                      <a:pt x="15008" y="5"/>
                    </a:cubicBezTo>
                    <a:cubicBezTo>
                      <a:pt x="15008" y="4"/>
                      <a:pt x="15009" y="3"/>
                      <a:pt x="15010" y="3"/>
                    </a:cubicBezTo>
                    <a:close/>
                    <a:moveTo>
                      <a:pt x="15018" y="3"/>
                    </a:moveTo>
                    <a:lnTo>
                      <a:pt x="15018" y="3"/>
                    </a:lnTo>
                    <a:cubicBezTo>
                      <a:pt x="15019" y="3"/>
                      <a:pt x="15020" y="4"/>
                      <a:pt x="15020" y="5"/>
                    </a:cubicBezTo>
                    <a:cubicBezTo>
                      <a:pt x="15020" y="7"/>
                      <a:pt x="15019" y="7"/>
                      <a:pt x="15018" y="7"/>
                    </a:cubicBezTo>
                    <a:lnTo>
                      <a:pt x="15018" y="7"/>
                    </a:lnTo>
                    <a:cubicBezTo>
                      <a:pt x="15017" y="7"/>
                      <a:pt x="15016" y="7"/>
                      <a:pt x="15016" y="5"/>
                    </a:cubicBezTo>
                    <a:cubicBezTo>
                      <a:pt x="15016" y="4"/>
                      <a:pt x="15017" y="3"/>
                      <a:pt x="15018" y="3"/>
                    </a:cubicBezTo>
                    <a:close/>
                    <a:moveTo>
                      <a:pt x="15026" y="3"/>
                    </a:moveTo>
                    <a:lnTo>
                      <a:pt x="15026" y="3"/>
                    </a:lnTo>
                    <a:cubicBezTo>
                      <a:pt x="15027" y="3"/>
                      <a:pt x="15028" y="4"/>
                      <a:pt x="15028" y="5"/>
                    </a:cubicBezTo>
                    <a:cubicBezTo>
                      <a:pt x="15028" y="7"/>
                      <a:pt x="15027" y="7"/>
                      <a:pt x="15026" y="7"/>
                    </a:cubicBezTo>
                    <a:lnTo>
                      <a:pt x="15026" y="7"/>
                    </a:lnTo>
                    <a:cubicBezTo>
                      <a:pt x="15025" y="7"/>
                      <a:pt x="15024" y="7"/>
                      <a:pt x="15024" y="5"/>
                    </a:cubicBezTo>
                    <a:cubicBezTo>
                      <a:pt x="15024" y="4"/>
                      <a:pt x="15025" y="3"/>
                      <a:pt x="15026" y="3"/>
                    </a:cubicBezTo>
                    <a:close/>
                    <a:moveTo>
                      <a:pt x="15034" y="3"/>
                    </a:moveTo>
                    <a:lnTo>
                      <a:pt x="15034" y="3"/>
                    </a:lnTo>
                    <a:cubicBezTo>
                      <a:pt x="15035" y="3"/>
                      <a:pt x="15036" y="4"/>
                      <a:pt x="15036" y="5"/>
                    </a:cubicBezTo>
                    <a:cubicBezTo>
                      <a:pt x="15036" y="7"/>
                      <a:pt x="15035" y="7"/>
                      <a:pt x="15034" y="7"/>
                    </a:cubicBezTo>
                    <a:lnTo>
                      <a:pt x="15034" y="7"/>
                    </a:lnTo>
                    <a:cubicBezTo>
                      <a:pt x="15033" y="7"/>
                      <a:pt x="15032" y="7"/>
                      <a:pt x="15032" y="5"/>
                    </a:cubicBezTo>
                    <a:cubicBezTo>
                      <a:pt x="15032" y="4"/>
                      <a:pt x="15033" y="3"/>
                      <a:pt x="15034" y="3"/>
                    </a:cubicBezTo>
                    <a:close/>
                    <a:moveTo>
                      <a:pt x="15042" y="3"/>
                    </a:moveTo>
                    <a:lnTo>
                      <a:pt x="15042" y="3"/>
                    </a:lnTo>
                    <a:cubicBezTo>
                      <a:pt x="15043" y="3"/>
                      <a:pt x="15044" y="4"/>
                      <a:pt x="15044" y="5"/>
                    </a:cubicBezTo>
                    <a:cubicBezTo>
                      <a:pt x="15044" y="7"/>
                      <a:pt x="15043" y="7"/>
                      <a:pt x="15042" y="7"/>
                    </a:cubicBezTo>
                    <a:lnTo>
                      <a:pt x="15042" y="7"/>
                    </a:lnTo>
                    <a:cubicBezTo>
                      <a:pt x="15041" y="7"/>
                      <a:pt x="15040" y="7"/>
                      <a:pt x="15040" y="5"/>
                    </a:cubicBezTo>
                    <a:cubicBezTo>
                      <a:pt x="15040" y="4"/>
                      <a:pt x="15041" y="3"/>
                      <a:pt x="15042" y="3"/>
                    </a:cubicBezTo>
                    <a:close/>
                    <a:moveTo>
                      <a:pt x="15050" y="3"/>
                    </a:moveTo>
                    <a:lnTo>
                      <a:pt x="15050" y="3"/>
                    </a:lnTo>
                    <a:cubicBezTo>
                      <a:pt x="15051" y="3"/>
                      <a:pt x="15052" y="4"/>
                      <a:pt x="15052" y="5"/>
                    </a:cubicBezTo>
                    <a:cubicBezTo>
                      <a:pt x="15052" y="7"/>
                      <a:pt x="15051" y="7"/>
                      <a:pt x="15050" y="7"/>
                    </a:cubicBezTo>
                    <a:lnTo>
                      <a:pt x="15050" y="7"/>
                    </a:lnTo>
                    <a:cubicBezTo>
                      <a:pt x="15049" y="7"/>
                      <a:pt x="15048" y="7"/>
                      <a:pt x="15048" y="5"/>
                    </a:cubicBezTo>
                    <a:cubicBezTo>
                      <a:pt x="15048" y="4"/>
                      <a:pt x="15049" y="3"/>
                      <a:pt x="15050" y="3"/>
                    </a:cubicBezTo>
                    <a:close/>
                    <a:moveTo>
                      <a:pt x="15058" y="3"/>
                    </a:moveTo>
                    <a:lnTo>
                      <a:pt x="15058" y="3"/>
                    </a:lnTo>
                    <a:cubicBezTo>
                      <a:pt x="15059" y="3"/>
                      <a:pt x="15060" y="4"/>
                      <a:pt x="15060" y="5"/>
                    </a:cubicBezTo>
                    <a:cubicBezTo>
                      <a:pt x="15060" y="7"/>
                      <a:pt x="15059" y="7"/>
                      <a:pt x="15058" y="7"/>
                    </a:cubicBezTo>
                    <a:lnTo>
                      <a:pt x="15058" y="7"/>
                    </a:lnTo>
                    <a:cubicBezTo>
                      <a:pt x="15057" y="7"/>
                      <a:pt x="15056" y="7"/>
                      <a:pt x="15056" y="5"/>
                    </a:cubicBezTo>
                    <a:cubicBezTo>
                      <a:pt x="15056" y="4"/>
                      <a:pt x="15057" y="3"/>
                      <a:pt x="15058" y="3"/>
                    </a:cubicBezTo>
                    <a:close/>
                    <a:moveTo>
                      <a:pt x="15066" y="3"/>
                    </a:moveTo>
                    <a:lnTo>
                      <a:pt x="15066" y="3"/>
                    </a:lnTo>
                    <a:cubicBezTo>
                      <a:pt x="15067" y="3"/>
                      <a:pt x="15068" y="4"/>
                      <a:pt x="15068" y="5"/>
                    </a:cubicBezTo>
                    <a:cubicBezTo>
                      <a:pt x="15068" y="7"/>
                      <a:pt x="15067" y="7"/>
                      <a:pt x="15066" y="7"/>
                    </a:cubicBezTo>
                    <a:lnTo>
                      <a:pt x="15066" y="7"/>
                    </a:lnTo>
                    <a:cubicBezTo>
                      <a:pt x="15065" y="7"/>
                      <a:pt x="15064" y="7"/>
                      <a:pt x="15064" y="5"/>
                    </a:cubicBezTo>
                    <a:cubicBezTo>
                      <a:pt x="15064" y="4"/>
                      <a:pt x="15065" y="3"/>
                      <a:pt x="15066" y="3"/>
                    </a:cubicBezTo>
                    <a:close/>
                    <a:moveTo>
                      <a:pt x="15074" y="3"/>
                    </a:moveTo>
                    <a:lnTo>
                      <a:pt x="15074" y="3"/>
                    </a:lnTo>
                    <a:cubicBezTo>
                      <a:pt x="15075" y="3"/>
                      <a:pt x="15076" y="4"/>
                      <a:pt x="15076" y="5"/>
                    </a:cubicBezTo>
                    <a:cubicBezTo>
                      <a:pt x="15076" y="7"/>
                      <a:pt x="15075" y="7"/>
                      <a:pt x="15074" y="7"/>
                    </a:cubicBezTo>
                    <a:lnTo>
                      <a:pt x="15074" y="7"/>
                    </a:lnTo>
                    <a:cubicBezTo>
                      <a:pt x="15073" y="7"/>
                      <a:pt x="15072" y="7"/>
                      <a:pt x="15072" y="5"/>
                    </a:cubicBezTo>
                    <a:cubicBezTo>
                      <a:pt x="15072" y="4"/>
                      <a:pt x="15073" y="3"/>
                      <a:pt x="15074" y="3"/>
                    </a:cubicBezTo>
                    <a:close/>
                    <a:moveTo>
                      <a:pt x="15082" y="3"/>
                    </a:moveTo>
                    <a:lnTo>
                      <a:pt x="15082" y="3"/>
                    </a:lnTo>
                    <a:cubicBezTo>
                      <a:pt x="15083" y="3"/>
                      <a:pt x="15084" y="4"/>
                      <a:pt x="15084" y="5"/>
                    </a:cubicBezTo>
                    <a:cubicBezTo>
                      <a:pt x="15084" y="7"/>
                      <a:pt x="15083" y="7"/>
                      <a:pt x="15082" y="7"/>
                    </a:cubicBezTo>
                    <a:lnTo>
                      <a:pt x="15082" y="7"/>
                    </a:lnTo>
                    <a:cubicBezTo>
                      <a:pt x="15081" y="7"/>
                      <a:pt x="15080" y="7"/>
                      <a:pt x="15080" y="5"/>
                    </a:cubicBezTo>
                    <a:cubicBezTo>
                      <a:pt x="15080" y="4"/>
                      <a:pt x="15081" y="3"/>
                      <a:pt x="15082" y="3"/>
                    </a:cubicBezTo>
                    <a:close/>
                    <a:moveTo>
                      <a:pt x="15090" y="3"/>
                    </a:moveTo>
                    <a:lnTo>
                      <a:pt x="15090" y="3"/>
                    </a:lnTo>
                    <a:cubicBezTo>
                      <a:pt x="15091" y="3"/>
                      <a:pt x="15092" y="4"/>
                      <a:pt x="15092" y="5"/>
                    </a:cubicBezTo>
                    <a:cubicBezTo>
                      <a:pt x="15092" y="7"/>
                      <a:pt x="15091" y="7"/>
                      <a:pt x="15090" y="7"/>
                    </a:cubicBezTo>
                    <a:lnTo>
                      <a:pt x="15090" y="7"/>
                    </a:lnTo>
                    <a:cubicBezTo>
                      <a:pt x="15089" y="7"/>
                      <a:pt x="15088" y="7"/>
                      <a:pt x="15088" y="5"/>
                    </a:cubicBezTo>
                    <a:cubicBezTo>
                      <a:pt x="15088" y="4"/>
                      <a:pt x="15089" y="3"/>
                      <a:pt x="15090" y="3"/>
                    </a:cubicBezTo>
                    <a:close/>
                    <a:moveTo>
                      <a:pt x="15098" y="3"/>
                    </a:moveTo>
                    <a:lnTo>
                      <a:pt x="15098" y="3"/>
                    </a:lnTo>
                    <a:cubicBezTo>
                      <a:pt x="15099" y="3"/>
                      <a:pt x="15100" y="4"/>
                      <a:pt x="15100" y="5"/>
                    </a:cubicBezTo>
                    <a:cubicBezTo>
                      <a:pt x="15100" y="7"/>
                      <a:pt x="15099" y="7"/>
                      <a:pt x="15098" y="7"/>
                    </a:cubicBezTo>
                    <a:lnTo>
                      <a:pt x="15098" y="7"/>
                    </a:lnTo>
                    <a:cubicBezTo>
                      <a:pt x="15097" y="7"/>
                      <a:pt x="15096" y="7"/>
                      <a:pt x="15096" y="5"/>
                    </a:cubicBezTo>
                    <a:cubicBezTo>
                      <a:pt x="15096" y="4"/>
                      <a:pt x="15097" y="3"/>
                      <a:pt x="15098" y="3"/>
                    </a:cubicBezTo>
                    <a:close/>
                    <a:moveTo>
                      <a:pt x="15106" y="3"/>
                    </a:moveTo>
                    <a:lnTo>
                      <a:pt x="15106" y="3"/>
                    </a:lnTo>
                    <a:cubicBezTo>
                      <a:pt x="15107" y="3"/>
                      <a:pt x="15108" y="4"/>
                      <a:pt x="15108" y="5"/>
                    </a:cubicBezTo>
                    <a:cubicBezTo>
                      <a:pt x="15108" y="7"/>
                      <a:pt x="15107" y="7"/>
                      <a:pt x="15106" y="7"/>
                    </a:cubicBezTo>
                    <a:lnTo>
                      <a:pt x="15106" y="7"/>
                    </a:lnTo>
                    <a:cubicBezTo>
                      <a:pt x="15105" y="7"/>
                      <a:pt x="15104" y="7"/>
                      <a:pt x="15104" y="5"/>
                    </a:cubicBezTo>
                    <a:cubicBezTo>
                      <a:pt x="15104" y="4"/>
                      <a:pt x="15105" y="3"/>
                      <a:pt x="15106" y="3"/>
                    </a:cubicBezTo>
                    <a:close/>
                    <a:moveTo>
                      <a:pt x="15114" y="3"/>
                    </a:moveTo>
                    <a:lnTo>
                      <a:pt x="15114" y="3"/>
                    </a:lnTo>
                    <a:cubicBezTo>
                      <a:pt x="15115" y="3"/>
                      <a:pt x="15116" y="4"/>
                      <a:pt x="15116" y="5"/>
                    </a:cubicBezTo>
                    <a:cubicBezTo>
                      <a:pt x="15116" y="7"/>
                      <a:pt x="15115" y="7"/>
                      <a:pt x="15114" y="7"/>
                    </a:cubicBezTo>
                    <a:lnTo>
                      <a:pt x="15114" y="7"/>
                    </a:lnTo>
                    <a:cubicBezTo>
                      <a:pt x="15113" y="7"/>
                      <a:pt x="15112" y="7"/>
                      <a:pt x="15112" y="5"/>
                    </a:cubicBezTo>
                    <a:cubicBezTo>
                      <a:pt x="15112" y="4"/>
                      <a:pt x="15113" y="3"/>
                      <a:pt x="15114" y="3"/>
                    </a:cubicBezTo>
                    <a:close/>
                    <a:moveTo>
                      <a:pt x="15122" y="3"/>
                    </a:moveTo>
                    <a:lnTo>
                      <a:pt x="15122" y="3"/>
                    </a:lnTo>
                    <a:cubicBezTo>
                      <a:pt x="15123" y="3"/>
                      <a:pt x="15124" y="4"/>
                      <a:pt x="15124" y="5"/>
                    </a:cubicBezTo>
                    <a:cubicBezTo>
                      <a:pt x="15124" y="7"/>
                      <a:pt x="15123" y="7"/>
                      <a:pt x="15122" y="7"/>
                    </a:cubicBezTo>
                    <a:lnTo>
                      <a:pt x="15122" y="7"/>
                    </a:lnTo>
                    <a:cubicBezTo>
                      <a:pt x="15121" y="7"/>
                      <a:pt x="15120" y="7"/>
                      <a:pt x="15120" y="5"/>
                    </a:cubicBezTo>
                    <a:cubicBezTo>
                      <a:pt x="15120" y="4"/>
                      <a:pt x="15121" y="3"/>
                      <a:pt x="15122" y="3"/>
                    </a:cubicBezTo>
                    <a:close/>
                    <a:moveTo>
                      <a:pt x="15130" y="3"/>
                    </a:moveTo>
                    <a:lnTo>
                      <a:pt x="15130" y="3"/>
                    </a:lnTo>
                    <a:cubicBezTo>
                      <a:pt x="15131" y="3"/>
                      <a:pt x="15132" y="4"/>
                      <a:pt x="15132" y="5"/>
                    </a:cubicBezTo>
                    <a:cubicBezTo>
                      <a:pt x="15132" y="7"/>
                      <a:pt x="15131" y="7"/>
                      <a:pt x="15130" y="7"/>
                    </a:cubicBezTo>
                    <a:lnTo>
                      <a:pt x="15130" y="7"/>
                    </a:lnTo>
                    <a:cubicBezTo>
                      <a:pt x="15129" y="7"/>
                      <a:pt x="15128" y="7"/>
                      <a:pt x="15128" y="5"/>
                    </a:cubicBezTo>
                    <a:cubicBezTo>
                      <a:pt x="15128" y="4"/>
                      <a:pt x="15129" y="3"/>
                      <a:pt x="15130" y="3"/>
                    </a:cubicBezTo>
                    <a:close/>
                    <a:moveTo>
                      <a:pt x="15138" y="3"/>
                    </a:moveTo>
                    <a:lnTo>
                      <a:pt x="15138" y="3"/>
                    </a:lnTo>
                    <a:cubicBezTo>
                      <a:pt x="15139" y="3"/>
                      <a:pt x="15140" y="4"/>
                      <a:pt x="15140" y="5"/>
                    </a:cubicBezTo>
                    <a:cubicBezTo>
                      <a:pt x="15140" y="7"/>
                      <a:pt x="15139" y="7"/>
                      <a:pt x="15138" y="7"/>
                    </a:cubicBezTo>
                    <a:lnTo>
                      <a:pt x="15138" y="7"/>
                    </a:lnTo>
                    <a:cubicBezTo>
                      <a:pt x="15137" y="7"/>
                      <a:pt x="15136" y="7"/>
                      <a:pt x="15136" y="5"/>
                    </a:cubicBezTo>
                    <a:cubicBezTo>
                      <a:pt x="15136" y="4"/>
                      <a:pt x="15137" y="3"/>
                      <a:pt x="15138" y="3"/>
                    </a:cubicBezTo>
                    <a:close/>
                    <a:moveTo>
                      <a:pt x="15146" y="3"/>
                    </a:moveTo>
                    <a:lnTo>
                      <a:pt x="15146" y="3"/>
                    </a:lnTo>
                    <a:cubicBezTo>
                      <a:pt x="15147" y="3"/>
                      <a:pt x="15148" y="4"/>
                      <a:pt x="15148" y="5"/>
                    </a:cubicBezTo>
                    <a:cubicBezTo>
                      <a:pt x="15148" y="7"/>
                      <a:pt x="15147" y="7"/>
                      <a:pt x="15146" y="7"/>
                    </a:cubicBezTo>
                    <a:lnTo>
                      <a:pt x="15146" y="7"/>
                    </a:lnTo>
                    <a:cubicBezTo>
                      <a:pt x="15145" y="7"/>
                      <a:pt x="15144" y="7"/>
                      <a:pt x="15144" y="5"/>
                    </a:cubicBezTo>
                    <a:cubicBezTo>
                      <a:pt x="15144" y="4"/>
                      <a:pt x="15145" y="3"/>
                      <a:pt x="15146" y="3"/>
                    </a:cubicBezTo>
                    <a:close/>
                    <a:moveTo>
                      <a:pt x="15154" y="3"/>
                    </a:moveTo>
                    <a:lnTo>
                      <a:pt x="15154" y="3"/>
                    </a:lnTo>
                    <a:cubicBezTo>
                      <a:pt x="15155" y="3"/>
                      <a:pt x="15156" y="4"/>
                      <a:pt x="15156" y="5"/>
                    </a:cubicBezTo>
                    <a:cubicBezTo>
                      <a:pt x="15156" y="7"/>
                      <a:pt x="15155" y="7"/>
                      <a:pt x="15154" y="7"/>
                    </a:cubicBezTo>
                    <a:lnTo>
                      <a:pt x="15154" y="7"/>
                    </a:lnTo>
                    <a:cubicBezTo>
                      <a:pt x="15153" y="7"/>
                      <a:pt x="15152" y="7"/>
                      <a:pt x="15152" y="5"/>
                    </a:cubicBezTo>
                    <a:cubicBezTo>
                      <a:pt x="15152" y="4"/>
                      <a:pt x="15153" y="3"/>
                      <a:pt x="15154" y="3"/>
                    </a:cubicBezTo>
                    <a:close/>
                    <a:moveTo>
                      <a:pt x="15162" y="3"/>
                    </a:moveTo>
                    <a:lnTo>
                      <a:pt x="15162" y="3"/>
                    </a:lnTo>
                    <a:cubicBezTo>
                      <a:pt x="15163" y="3"/>
                      <a:pt x="15164" y="4"/>
                      <a:pt x="15164" y="5"/>
                    </a:cubicBezTo>
                    <a:cubicBezTo>
                      <a:pt x="15164" y="7"/>
                      <a:pt x="15163" y="7"/>
                      <a:pt x="15162" y="7"/>
                    </a:cubicBezTo>
                    <a:lnTo>
                      <a:pt x="15162" y="7"/>
                    </a:lnTo>
                    <a:cubicBezTo>
                      <a:pt x="15161" y="7"/>
                      <a:pt x="15160" y="7"/>
                      <a:pt x="15160" y="5"/>
                    </a:cubicBezTo>
                    <a:cubicBezTo>
                      <a:pt x="15160" y="4"/>
                      <a:pt x="15161" y="3"/>
                      <a:pt x="15162" y="3"/>
                    </a:cubicBezTo>
                    <a:close/>
                    <a:moveTo>
                      <a:pt x="15170" y="3"/>
                    </a:moveTo>
                    <a:lnTo>
                      <a:pt x="15170" y="3"/>
                    </a:lnTo>
                    <a:cubicBezTo>
                      <a:pt x="15171" y="3"/>
                      <a:pt x="15172" y="4"/>
                      <a:pt x="15172" y="5"/>
                    </a:cubicBezTo>
                    <a:cubicBezTo>
                      <a:pt x="15172" y="7"/>
                      <a:pt x="15171" y="7"/>
                      <a:pt x="15170" y="7"/>
                    </a:cubicBezTo>
                    <a:lnTo>
                      <a:pt x="15170" y="7"/>
                    </a:lnTo>
                    <a:cubicBezTo>
                      <a:pt x="15169" y="7"/>
                      <a:pt x="15168" y="7"/>
                      <a:pt x="15168" y="5"/>
                    </a:cubicBezTo>
                    <a:cubicBezTo>
                      <a:pt x="15168" y="4"/>
                      <a:pt x="15169" y="3"/>
                      <a:pt x="15170" y="3"/>
                    </a:cubicBezTo>
                    <a:close/>
                    <a:moveTo>
                      <a:pt x="15178" y="3"/>
                    </a:moveTo>
                    <a:lnTo>
                      <a:pt x="15178" y="3"/>
                    </a:lnTo>
                    <a:cubicBezTo>
                      <a:pt x="15179" y="3"/>
                      <a:pt x="15180" y="4"/>
                      <a:pt x="15180" y="5"/>
                    </a:cubicBezTo>
                    <a:cubicBezTo>
                      <a:pt x="15180" y="7"/>
                      <a:pt x="15179" y="7"/>
                      <a:pt x="15178" y="7"/>
                    </a:cubicBezTo>
                    <a:lnTo>
                      <a:pt x="15178" y="7"/>
                    </a:lnTo>
                    <a:cubicBezTo>
                      <a:pt x="15177" y="7"/>
                      <a:pt x="15176" y="7"/>
                      <a:pt x="15176" y="5"/>
                    </a:cubicBezTo>
                    <a:cubicBezTo>
                      <a:pt x="15176" y="4"/>
                      <a:pt x="15177" y="3"/>
                      <a:pt x="15178" y="3"/>
                    </a:cubicBezTo>
                    <a:close/>
                    <a:moveTo>
                      <a:pt x="15186" y="3"/>
                    </a:moveTo>
                    <a:lnTo>
                      <a:pt x="15186" y="3"/>
                    </a:lnTo>
                    <a:cubicBezTo>
                      <a:pt x="15187" y="3"/>
                      <a:pt x="15188" y="4"/>
                      <a:pt x="15188" y="5"/>
                    </a:cubicBezTo>
                    <a:cubicBezTo>
                      <a:pt x="15188" y="7"/>
                      <a:pt x="15187" y="7"/>
                      <a:pt x="15186" y="7"/>
                    </a:cubicBezTo>
                    <a:lnTo>
                      <a:pt x="15186" y="7"/>
                    </a:lnTo>
                    <a:cubicBezTo>
                      <a:pt x="15185" y="7"/>
                      <a:pt x="15184" y="7"/>
                      <a:pt x="15184" y="5"/>
                    </a:cubicBezTo>
                    <a:cubicBezTo>
                      <a:pt x="15184" y="4"/>
                      <a:pt x="15185" y="3"/>
                      <a:pt x="15186" y="3"/>
                    </a:cubicBezTo>
                    <a:close/>
                    <a:moveTo>
                      <a:pt x="15194" y="3"/>
                    </a:moveTo>
                    <a:lnTo>
                      <a:pt x="15194" y="3"/>
                    </a:lnTo>
                    <a:cubicBezTo>
                      <a:pt x="15195" y="3"/>
                      <a:pt x="15196" y="4"/>
                      <a:pt x="15196" y="5"/>
                    </a:cubicBezTo>
                    <a:cubicBezTo>
                      <a:pt x="15196" y="7"/>
                      <a:pt x="15195" y="7"/>
                      <a:pt x="15194" y="7"/>
                    </a:cubicBezTo>
                    <a:lnTo>
                      <a:pt x="15194" y="7"/>
                    </a:lnTo>
                    <a:cubicBezTo>
                      <a:pt x="15193" y="7"/>
                      <a:pt x="15192" y="7"/>
                      <a:pt x="15192" y="5"/>
                    </a:cubicBezTo>
                    <a:cubicBezTo>
                      <a:pt x="15192" y="4"/>
                      <a:pt x="15193" y="3"/>
                      <a:pt x="15194" y="3"/>
                    </a:cubicBezTo>
                    <a:close/>
                    <a:moveTo>
                      <a:pt x="15202" y="3"/>
                    </a:moveTo>
                    <a:lnTo>
                      <a:pt x="15202" y="3"/>
                    </a:lnTo>
                    <a:cubicBezTo>
                      <a:pt x="15203" y="3"/>
                      <a:pt x="15204" y="4"/>
                      <a:pt x="15204" y="5"/>
                    </a:cubicBezTo>
                    <a:cubicBezTo>
                      <a:pt x="15204" y="7"/>
                      <a:pt x="15203" y="7"/>
                      <a:pt x="15202" y="7"/>
                    </a:cubicBezTo>
                    <a:lnTo>
                      <a:pt x="15202" y="7"/>
                    </a:lnTo>
                    <a:cubicBezTo>
                      <a:pt x="15201" y="7"/>
                      <a:pt x="15200" y="7"/>
                      <a:pt x="15200" y="5"/>
                    </a:cubicBezTo>
                    <a:cubicBezTo>
                      <a:pt x="15200" y="4"/>
                      <a:pt x="15201" y="3"/>
                      <a:pt x="15202" y="3"/>
                    </a:cubicBezTo>
                    <a:close/>
                    <a:moveTo>
                      <a:pt x="15210" y="3"/>
                    </a:moveTo>
                    <a:lnTo>
                      <a:pt x="15210" y="3"/>
                    </a:lnTo>
                    <a:cubicBezTo>
                      <a:pt x="15211" y="3"/>
                      <a:pt x="15212" y="4"/>
                      <a:pt x="15212" y="5"/>
                    </a:cubicBezTo>
                    <a:cubicBezTo>
                      <a:pt x="15212" y="7"/>
                      <a:pt x="15211" y="7"/>
                      <a:pt x="15210" y="7"/>
                    </a:cubicBezTo>
                    <a:lnTo>
                      <a:pt x="15210" y="7"/>
                    </a:lnTo>
                    <a:cubicBezTo>
                      <a:pt x="15209" y="7"/>
                      <a:pt x="15208" y="7"/>
                      <a:pt x="15208" y="5"/>
                    </a:cubicBezTo>
                    <a:cubicBezTo>
                      <a:pt x="15208" y="4"/>
                      <a:pt x="15209" y="3"/>
                      <a:pt x="15210" y="3"/>
                    </a:cubicBezTo>
                    <a:close/>
                    <a:moveTo>
                      <a:pt x="15218" y="3"/>
                    </a:moveTo>
                    <a:lnTo>
                      <a:pt x="15218" y="3"/>
                    </a:lnTo>
                    <a:cubicBezTo>
                      <a:pt x="15219" y="3"/>
                      <a:pt x="15220" y="4"/>
                      <a:pt x="15220" y="5"/>
                    </a:cubicBezTo>
                    <a:cubicBezTo>
                      <a:pt x="15220" y="7"/>
                      <a:pt x="15219" y="7"/>
                      <a:pt x="15218" y="7"/>
                    </a:cubicBezTo>
                    <a:lnTo>
                      <a:pt x="15218" y="7"/>
                    </a:lnTo>
                    <a:cubicBezTo>
                      <a:pt x="15217" y="7"/>
                      <a:pt x="15216" y="7"/>
                      <a:pt x="15216" y="5"/>
                    </a:cubicBezTo>
                    <a:cubicBezTo>
                      <a:pt x="15216" y="4"/>
                      <a:pt x="15217" y="3"/>
                      <a:pt x="15218" y="3"/>
                    </a:cubicBezTo>
                    <a:close/>
                    <a:moveTo>
                      <a:pt x="15226" y="3"/>
                    </a:moveTo>
                    <a:lnTo>
                      <a:pt x="15226" y="3"/>
                    </a:lnTo>
                    <a:cubicBezTo>
                      <a:pt x="15227" y="3"/>
                      <a:pt x="15228" y="4"/>
                      <a:pt x="15228" y="5"/>
                    </a:cubicBezTo>
                    <a:cubicBezTo>
                      <a:pt x="15228" y="7"/>
                      <a:pt x="15227" y="7"/>
                      <a:pt x="15226" y="7"/>
                    </a:cubicBezTo>
                    <a:lnTo>
                      <a:pt x="15226" y="7"/>
                    </a:lnTo>
                    <a:cubicBezTo>
                      <a:pt x="15225" y="7"/>
                      <a:pt x="15224" y="7"/>
                      <a:pt x="15224" y="5"/>
                    </a:cubicBezTo>
                    <a:cubicBezTo>
                      <a:pt x="15224" y="4"/>
                      <a:pt x="15225" y="3"/>
                      <a:pt x="15226" y="3"/>
                    </a:cubicBezTo>
                    <a:close/>
                    <a:moveTo>
                      <a:pt x="15234" y="3"/>
                    </a:moveTo>
                    <a:lnTo>
                      <a:pt x="15234" y="3"/>
                    </a:lnTo>
                    <a:cubicBezTo>
                      <a:pt x="15235" y="3"/>
                      <a:pt x="15236" y="4"/>
                      <a:pt x="15236" y="6"/>
                    </a:cubicBezTo>
                    <a:cubicBezTo>
                      <a:pt x="15236" y="7"/>
                      <a:pt x="15235" y="8"/>
                      <a:pt x="15234" y="8"/>
                    </a:cubicBezTo>
                    <a:lnTo>
                      <a:pt x="15234" y="8"/>
                    </a:lnTo>
                    <a:cubicBezTo>
                      <a:pt x="15233" y="8"/>
                      <a:pt x="15232" y="7"/>
                      <a:pt x="15232" y="6"/>
                    </a:cubicBezTo>
                    <a:cubicBezTo>
                      <a:pt x="15232" y="4"/>
                      <a:pt x="15233" y="3"/>
                      <a:pt x="15234" y="3"/>
                    </a:cubicBezTo>
                    <a:close/>
                    <a:moveTo>
                      <a:pt x="15242" y="4"/>
                    </a:moveTo>
                    <a:lnTo>
                      <a:pt x="15242" y="4"/>
                    </a:lnTo>
                    <a:cubicBezTo>
                      <a:pt x="15243" y="4"/>
                      <a:pt x="15244" y="4"/>
                      <a:pt x="15244" y="6"/>
                    </a:cubicBezTo>
                    <a:cubicBezTo>
                      <a:pt x="15244" y="7"/>
                      <a:pt x="15243" y="8"/>
                      <a:pt x="15242" y="8"/>
                    </a:cubicBezTo>
                    <a:lnTo>
                      <a:pt x="15242" y="8"/>
                    </a:lnTo>
                    <a:cubicBezTo>
                      <a:pt x="15241" y="8"/>
                      <a:pt x="15240" y="7"/>
                      <a:pt x="15240" y="6"/>
                    </a:cubicBezTo>
                    <a:cubicBezTo>
                      <a:pt x="15240" y="4"/>
                      <a:pt x="15241" y="4"/>
                      <a:pt x="15242" y="4"/>
                    </a:cubicBezTo>
                    <a:close/>
                    <a:moveTo>
                      <a:pt x="15250" y="4"/>
                    </a:moveTo>
                    <a:lnTo>
                      <a:pt x="15250" y="4"/>
                    </a:lnTo>
                    <a:cubicBezTo>
                      <a:pt x="15251" y="4"/>
                      <a:pt x="15252" y="4"/>
                      <a:pt x="15252" y="6"/>
                    </a:cubicBezTo>
                    <a:cubicBezTo>
                      <a:pt x="15252" y="7"/>
                      <a:pt x="15251" y="8"/>
                      <a:pt x="15250" y="8"/>
                    </a:cubicBezTo>
                    <a:lnTo>
                      <a:pt x="15250" y="8"/>
                    </a:lnTo>
                    <a:cubicBezTo>
                      <a:pt x="15249" y="8"/>
                      <a:pt x="15248" y="7"/>
                      <a:pt x="15248" y="6"/>
                    </a:cubicBezTo>
                    <a:cubicBezTo>
                      <a:pt x="15248" y="4"/>
                      <a:pt x="15249" y="4"/>
                      <a:pt x="15250" y="4"/>
                    </a:cubicBezTo>
                    <a:close/>
                    <a:moveTo>
                      <a:pt x="15258" y="4"/>
                    </a:moveTo>
                    <a:lnTo>
                      <a:pt x="15258" y="4"/>
                    </a:lnTo>
                    <a:cubicBezTo>
                      <a:pt x="15259" y="4"/>
                      <a:pt x="15260" y="4"/>
                      <a:pt x="15260" y="6"/>
                    </a:cubicBezTo>
                    <a:cubicBezTo>
                      <a:pt x="15260" y="7"/>
                      <a:pt x="15259" y="8"/>
                      <a:pt x="15258" y="8"/>
                    </a:cubicBezTo>
                    <a:lnTo>
                      <a:pt x="15258" y="8"/>
                    </a:lnTo>
                    <a:cubicBezTo>
                      <a:pt x="15257" y="8"/>
                      <a:pt x="15256" y="7"/>
                      <a:pt x="15256" y="6"/>
                    </a:cubicBezTo>
                    <a:cubicBezTo>
                      <a:pt x="15256" y="4"/>
                      <a:pt x="15257" y="4"/>
                      <a:pt x="15258" y="4"/>
                    </a:cubicBezTo>
                    <a:close/>
                    <a:moveTo>
                      <a:pt x="15266" y="4"/>
                    </a:moveTo>
                    <a:lnTo>
                      <a:pt x="15266" y="4"/>
                    </a:lnTo>
                    <a:cubicBezTo>
                      <a:pt x="15267" y="4"/>
                      <a:pt x="15268" y="4"/>
                      <a:pt x="15268" y="6"/>
                    </a:cubicBezTo>
                    <a:cubicBezTo>
                      <a:pt x="15268" y="7"/>
                      <a:pt x="15267" y="8"/>
                      <a:pt x="15266" y="8"/>
                    </a:cubicBezTo>
                    <a:lnTo>
                      <a:pt x="15266" y="8"/>
                    </a:lnTo>
                    <a:cubicBezTo>
                      <a:pt x="15265" y="8"/>
                      <a:pt x="15264" y="7"/>
                      <a:pt x="15264" y="6"/>
                    </a:cubicBezTo>
                    <a:cubicBezTo>
                      <a:pt x="15264" y="4"/>
                      <a:pt x="15265" y="4"/>
                      <a:pt x="15266" y="4"/>
                    </a:cubicBezTo>
                    <a:close/>
                    <a:moveTo>
                      <a:pt x="15274" y="4"/>
                    </a:moveTo>
                    <a:lnTo>
                      <a:pt x="15274" y="4"/>
                    </a:lnTo>
                    <a:cubicBezTo>
                      <a:pt x="15275" y="4"/>
                      <a:pt x="15276" y="4"/>
                      <a:pt x="15276" y="6"/>
                    </a:cubicBezTo>
                    <a:cubicBezTo>
                      <a:pt x="15276" y="7"/>
                      <a:pt x="15275" y="8"/>
                      <a:pt x="15274" y="8"/>
                    </a:cubicBezTo>
                    <a:lnTo>
                      <a:pt x="15274" y="8"/>
                    </a:lnTo>
                    <a:cubicBezTo>
                      <a:pt x="15273" y="8"/>
                      <a:pt x="15272" y="7"/>
                      <a:pt x="15272" y="6"/>
                    </a:cubicBezTo>
                    <a:cubicBezTo>
                      <a:pt x="15272" y="4"/>
                      <a:pt x="15273" y="4"/>
                      <a:pt x="15274" y="4"/>
                    </a:cubicBezTo>
                    <a:close/>
                    <a:moveTo>
                      <a:pt x="15282" y="4"/>
                    </a:moveTo>
                    <a:lnTo>
                      <a:pt x="15282" y="4"/>
                    </a:lnTo>
                    <a:cubicBezTo>
                      <a:pt x="15283" y="4"/>
                      <a:pt x="15284" y="4"/>
                      <a:pt x="15284" y="6"/>
                    </a:cubicBezTo>
                    <a:cubicBezTo>
                      <a:pt x="15284" y="7"/>
                      <a:pt x="15283" y="8"/>
                      <a:pt x="15282" y="8"/>
                    </a:cubicBezTo>
                    <a:lnTo>
                      <a:pt x="15282" y="8"/>
                    </a:lnTo>
                    <a:cubicBezTo>
                      <a:pt x="15281" y="8"/>
                      <a:pt x="15280" y="7"/>
                      <a:pt x="15280" y="6"/>
                    </a:cubicBezTo>
                    <a:cubicBezTo>
                      <a:pt x="15280" y="4"/>
                      <a:pt x="15281" y="4"/>
                      <a:pt x="15282" y="4"/>
                    </a:cubicBezTo>
                    <a:close/>
                    <a:moveTo>
                      <a:pt x="15290" y="4"/>
                    </a:moveTo>
                    <a:lnTo>
                      <a:pt x="15290" y="4"/>
                    </a:lnTo>
                    <a:cubicBezTo>
                      <a:pt x="15291" y="4"/>
                      <a:pt x="15292" y="4"/>
                      <a:pt x="15292" y="6"/>
                    </a:cubicBezTo>
                    <a:cubicBezTo>
                      <a:pt x="15292" y="7"/>
                      <a:pt x="15291" y="8"/>
                      <a:pt x="15290" y="8"/>
                    </a:cubicBezTo>
                    <a:lnTo>
                      <a:pt x="15290" y="8"/>
                    </a:lnTo>
                    <a:cubicBezTo>
                      <a:pt x="15289" y="8"/>
                      <a:pt x="15288" y="7"/>
                      <a:pt x="15288" y="6"/>
                    </a:cubicBezTo>
                    <a:cubicBezTo>
                      <a:pt x="15288" y="4"/>
                      <a:pt x="15289" y="4"/>
                      <a:pt x="15290" y="4"/>
                    </a:cubicBezTo>
                    <a:close/>
                    <a:moveTo>
                      <a:pt x="15298" y="4"/>
                    </a:moveTo>
                    <a:lnTo>
                      <a:pt x="15298" y="4"/>
                    </a:lnTo>
                    <a:cubicBezTo>
                      <a:pt x="15299" y="4"/>
                      <a:pt x="15300" y="4"/>
                      <a:pt x="15300" y="6"/>
                    </a:cubicBezTo>
                    <a:cubicBezTo>
                      <a:pt x="15300" y="7"/>
                      <a:pt x="15299" y="8"/>
                      <a:pt x="15298" y="8"/>
                    </a:cubicBezTo>
                    <a:lnTo>
                      <a:pt x="15298" y="8"/>
                    </a:lnTo>
                    <a:cubicBezTo>
                      <a:pt x="15297" y="8"/>
                      <a:pt x="15296" y="7"/>
                      <a:pt x="15296" y="6"/>
                    </a:cubicBezTo>
                    <a:cubicBezTo>
                      <a:pt x="15296" y="4"/>
                      <a:pt x="15297" y="4"/>
                      <a:pt x="15298" y="4"/>
                    </a:cubicBezTo>
                    <a:close/>
                    <a:moveTo>
                      <a:pt x="15306" y="4"/>
                    </a:moveTo>
                    <a:lnTo>
                      <a:pt x="15306" y="4"/>
                    </a:lnTo>
                    <a:cubicBezTo>
                      <a:pt x="15307" y="4"/>
                      <a:pt x="15308" y="4"/>
                      <a:pt x="15308" y="6"/>
                    </a:cubicBezTo>
                    <a:cubicBezTo>
                      <a:pt x="15308" y="7"/>
                      <a:pt x="15307" y="8"/>
                      <a:pt x="15306" y="8"/>
                    </a:cubicBezTo>
                    <a:lnTo>
                      <a:pt x="15306" y="8"/>
                    </a:lnTo>
                    <a:cubicBezTo>
                      <a:pt x="15305" y="8"/>
                      <a:pt x="15304" y="7"/>
                      <a:pt x="15304" y="6"/>
                    </a:cubicBezTo>
                    <a:cubicBezTo>
                      <a:pt x="15304" y="4"/>
                      <a:pt x="15305" y="4"/>
                      <a:pt x="15306" y="4"/>
                    </a:cubicBezTo>
                    <a:close/>
                    <a:moveTo>
                      <a:pt x="15314" y="4"/>
                    </a:moveTo>
                    <a:lnTo>
                      <a:pt x="15314" y="4"/>
                    </a:lnTo>
                    <a:cubicBezTo>
                      <a:pt x="15315" y="4"/>
                      <a:pt x="15316" y="4"/>
                      <a:pt x="15316" y="6"/>
                    </a:cubicBezTo>
                    <a:cubicBezTo>
                      <a:pt x="15316" y="7"/>
                      <a:pt x="15315" y="8"/>
                      <a:pt x="15314" y="8"/>
                    </a:cubicBezTo>
                    <a:lnTo>
                      <a:pt x="15314" y="8"/>
                    </a:lnTo>
                    <a:cubicBezTo>
                      <a:pt x="15313" y="8"/>
                      <a:pt x="15312" y="7"/>
                      <a:pt x="15312" y="6"/>
                    </a:cubicBezTo>
                    <a:cubicBezTo>
                      <a:pt x="15312" y="4"/>
                      <a:pt x="15313" y="4"/>
                      <a:pt x="15314" y="4"/>
                    </a:cubicBezTo>
                    <a:close/>
                    <a:moveTo>
                      <a:pt x="15322" y="4"/>
                    </a:moveTo>
                    <a:lnTo>
                      <a:pt x="15322" y="4"/>
                    </a:lnTo>
                    <a:cubicBezTo>
                      <a:pt x="15323" y="4"/>
                      <a:pt x="15324" y="4"/>
                      <a:pt x="15324" y="6"/>
                    </a:cubicBezTo>
                    <a:cubicBezTo>
                      <a:pt x="15324" y="7"/>
                      <a:pt x="15323" y="8"/>
                      <a:pt x="15322" y="8"/>
                    </a:cubicBezTo>
                    <a:lnTo>
                      <a:pt x="15322" y="8"/>
                    </a:lnTo>
                    <a:cubicBezTo>
                      <a:pt x="15321" y="8"/>
                      <a:pt x="15320" y="7"/>
                      <a:pt x="15320" y="6"/>
                    </a:cubicBezTo>
                    <a:cubicBezTo>
                      <a:pt x="15320" y="4"/>
                      <a:pt x="15321" y="4"/>
                      <a:pt x="15322" y="4"/>
                    </a:cubicBezTo>
                    <a:close/>
                    <a:moveTo>
                      <a:pt x="15330" y="4"/>
                    </a:moveTo>
                    <a:lnTo>
                      <a:pt x="15330" y="4"/>
                    </a:lnTo>
                    <a:cubicBezTo>
                      <a:pt x="15331" y="4"/>
                      <a:pt x="15332" y="4"/>
                      <a:pt x="15332" y="6"/>
                    </a:cubicBezTo>
                    <a:cubicBezTo>
                      <a:pt x="15332" y="7"/>
                      <a:pt x="15331" y="8"/>
                      <a:pt x="15330" y="8"/>
                    </a:cubicBezTo>
                    <a:lnTo>
                      <a:pt x="15330" y="8"/>
                    </a:lnTo>
                    <a:cubicBezTo>
                      <a:pt x="15329" y="8"/>
                      <a:pt x="15328" y="7"/>
                      <a:pt x="15328" y="6"/>
                    </a:cubicBezTo>
                    <a:cubicBezTo>
                      <a:pt x="15328" y="4"/>
                      <a:pt x="15329" y="4"/>
                      <a:pt x="15330" y="4"/>
                    </a:cubicBezTo>
                    <a:close/>
                    <a:moveTo>
                      <a:pt x="15338" y="4"/>
                    </a:moveTo>
                    <a:lnTo>
                      <a:pt x="15338" y="4"/>
                    </a:lnTo>
                    <a:cubicBezTo>
                      <a:pt x="15339" y="4"/>
                      <a:pt x="15340" y="4"/>
                      <a:pt x="15340" y="6"/>
                    </a:cubicBezTo>
                    <a:cubicBezTo>
                      <a:pt x="15340" y="7"/>
                      <a:pt x="15339" y="8"/>
                      <a:pt x="15338" y="8"/>
                    </a:cubicBezTo>
                    <a:lnTo>
                      <a:pt x="15338" y="8"/>
                    </a:lnTo>
                    <a:cubicBezTo>
                      <a:pt x="15337" y="8"/>
                      <a:pt x="15336" y="7"/>
                      <a:pt x="15336" y="6"/>
                    </a:cubicBezTo>
                    <a:cubicBezTo>
                      <a:pt x="15336" y="4"/>
                      <a:pt x="15337" y="4"/>
                      <a:pt x="15338" y="4"/>
                    </a:cubicBezTo>
                    <a:close/>
                    <a:moveTo>
                      <a:pt x="15346" y="4"/>
                    </a:moveTo>
                    <a:lnTo>
                      <a:pt x="15346" y="4"/>
                    </a:lnTo>
                    <a:cubicBezTo>
                      <a:pt x="15347" y="4"/>
                      <a:pt x="15348" y="4"/>
                      <a:pt x="15348" y="6"/>
                    </a:cubicBezTo>
                    <a:cubicBezTo>
                      <a:pt x="15348" y="7"/>
                      <a:pt x="15347" y="8"/>
                      <a:pt x="15346" y="8"/>
                    </a:cubicBezTo>
                    <a:lnTo>
                      <a:pt x="15346" y="8"/>
                    </a:lnTo>
                    <a:cubicBezTo>
                      <a:pt x="15345" y="8"/>
                      <a:pt x="15344" y="7"/>
                      <a:pt x="15344" y="6"/>
                    </a:cubicBezTo>
                    <a:cubicBezTo>
                      <a:pt x="15344" y="4"/>
                      <a:pt x="15345" y="4"/>
                      <a:pt x="15346" y="4"/>
                    </a:cubicBezTo>
                    <a:close/>
                    <a:moveTo>
                      <a:pt x="15354" y="4"/>
                    </a:moveTo>
                    <a:lnTo>
                      <a:pt x="15354" y="4"/>
                    </a:lnTo>
                    <a:cubicBezTo>
                      <a:pt x="15355" y="4"/>
                      <a:pt x="15356" y="4"/>
                      <a:pt x="15356" y="6"/>
                    </a:cubicBezTo>
                    <a:cubicBezTo>
                      <a:pt x="15356" y="7"/>
                      <a:pt x="15355" y="8"/>
                      <a:pt x="15354" y="8"/>
                    </a:cubicBezTo>
                    <a:lnTo>
                      <a:pt x="15354" y="8"/>
                    </a:lnTo>
                    <a:cubicBezTo>
                      <a:pt x="15353" y="8"/>
                      <a:pt x="15352" y="7"/>
                      <a:pt x="15352" y="6"/>
                    </a:cubicBezTo>
                    <a:cubicBezTo>
                      <a:pt x="15352" y="4"/>
                      <a:pt x="15353" y="4"/>
                      <a:pt x="15354" y="4"/>
                    </a:cubicBezTo>
                    <a:close/>
                    <a:moveTo>
                      <a:pt x="15362" y="4"/>
                    </a:moveTo>
                    <a:lnTo>
                      <a:pt x="15362" y="4"/>
                    </a:lnTo>
                    <a:cubicBezTo>
                      <a:pt x="15363" y="4"/>
                      <a:pt x="15364" y="4"/>
                      <a:pt x="15364" y="6"/>
                    </a:cubicBezTo>
                    <a:cubicBezTo>
                      <a:pt x="15364" y="7"/>
                      <a:pt x="15363" y="8"/>
                      <a:pt x="15362" y="8"/>
                    </a:cubicBezTo>
                    <a:lnTo>
                      <a:pt x="15362" y="8"/>
                    </a:lnTo>
                    <a:cubicBezTo>
                      <a:pt x="15361" y="8"/>
                      <a:pt x="15360" y="7"/>
                      <a:pt x="15360" y="6"/>
                    </a:cubicBezTo>
                    <a:cubicBezTo>
                      <a:pt x="15360" y="4"/>
                      <a:pt x="15361" y="4"/>
                      <a:pt x="15362" y="4"/>
                    </a:cubicBezTo>
                    <a:close/>
                    <a:moveTo>
                      <a:pt x="15370" y="4"/>
                    </a:moveTo>
                    <a:lnTo>
                      <a:pt x="15370" y="4"/>
                    </a:lnTo>
                    <a:cubicBezTo>
                      <a:pt x="15371" y="4"/>
                      <a:pt x="15372" y="4"/>
                      <a:pt x="15372" y="6"/>
                    </a:cubicBezTo>
                    <a:cubicBezTo>
                      <a:pt x="15372" y="7"/>
                      <a:pt x="15371" y="8"/>
                      <a:pt x="15370" y="8"/>
                    </a:cubicBezTo>
                    <a:lnTo>
                      <a:pt x="15370" y="8"/>
                    </a:lnTo>
                    <a:cubicBezTo>
                      <a:pt x="15369" y="8"/>
                      <a:pt x="15368" y="7"/>
                      <a:pt x="15368" y="6"/>
                    </a:cubicBezTo>
                    <a:cubicBezTo>
                      <a:pt x="15368" y="4"/>
                      <a:pt x="15369" y="4"/>
                      <a:pt x="15370" y="4"/>
                    </a:cubicBezTo>
                    <a:close/>
                    <a:moveTo>
                      <a:pt x="15378" y="4"/>
                    </a:moveTo>
                    <a:lnTo>
                      <a:pt x="15378" y="4"/>
                    </a:lnTo>
                    <a:cubicBezTo>
                      <a:pt x="15379" y="4"/>
                      <a:pt x="15380" y="4"/>
                      <a:pt x="15380" y="6"/>
                    </a:cubicBezTo>
                    <a:cubicBezTo>
                      <a:pt x="15380" y="7"/>
                      <a:pt x="15379" y="8"/>
                      <a:pt x="15378" y="8"/>
                    </a:cubicBezTo>
                    <a:lnTo>
                      <a:pt x="15378" y="8"/>
                    </a:lnTo>
                    <a:cubicBezTo>
                      <a:pt x="15377" y="8"/>
                      <a:pt x="15376" y="7"/>
                      <a:pt x="15376" y="6"/>
                    </a:cubicBezTo>
                    <a:cubicBezTo>
                      <a:pt x="15376" y="4"/>
                      <a:pt x="15377" y="4"/>
                      <a:pt x="15378" y="4"/>
                    </a:cubicBezTo>
                    <a:close/>
                    <a:moveTo>
                      <a:pt x="15386" y="4"/>
                    </a:moveTo>
                    <a:lnTo>
                      <a:pt x="15386" y="4"/>
                    </a:lnTo>
                    <a:cubicBezTo>
                      <a:pt x="15387" y="4"/>
                      <a:pt x="15388" y="4"/>
                      <a:pt x="15388" y="6"/>
                    </a:cubicBezTo>
                    <a:cubicBezTo>
                      <a:pt x="15388" y="7"/>
                      <a:pt x="15387" y="8"/>
                      <a:pt x="15386" y="8"/>
                    </a:cubicBezTo>
                    <a:lnTo>
                      <a:pt x="15386" y="8"/>
                    </a:lnTo>
                    <a:cubicBezTo>
                      <a:pt x="15385" y="8"/>
                      <a:pt x="15384" y="7"/>
                      <a:pt x="15384" y="6"/>
                    </a:cubicBezTo>
                    <a:cubicBezTo>
                      <a:pt x="15384" y="4"/>
                      <a:pt x="15385" y="4"/>
                      <a:pt x="15386" y="4"/>
                    </a:cubicBezTo>
                    <a:close/>
                    <a:moveTo>
                      <a:pt x="15394" y="4"/>
                    </a:moveTo>
                    <a:lnTo>
                      <a:pt x="15394" y="4"/>
                    </a:lnTo>
                    <a:cubicBezTo>
                      <a:pt x="15395" y="4"/>
                      <a:pt x="15396" y="4"/>
                      <a:pt x="15396" y="6"/>
                    </a:cubicBezTo>
                    <a:cubicBezTo>
                      <a:pt x="15396" y="7"/>
                      <a:pt x="15395" y="8"/>
                      <a:pt x="15394" y="8"/>
                    </a:cubicBezTo>
                    <a:lnTo>
                      <a:pt x="15394" y="8"/>
                    </a:lnTo>
                    <a:cubicBezTo>
                      <a:pt x="15393" y="8"/>
                      <a:pt x="15392" y="7"/>
                      <a:pt x="15392" y="6"/>
                    </a:cubicBezTo>
                    <a:cubicBezTo>
                      <a:pt x="15392" y="4"/>
                      <a:pt x="15393" y="4"/>
                      <a:pt x="15394" y="4"/>
                    </a:cubicBezTo>
                    <a:close/>
                    <a:moveTo>
                      <a:pt x="15402" y="4"/>
                    </a:moveTo>
                    <a:lnTo>
                      <a:pt x="15402" y="4"/>
                    </a:lnTo>
                    <a:cubicBezTo>
                      <a:pt x="15403" y="4"/>
                      <a:pt x="15404" y="4"/>
                      <a:pt x="15404" y="6"/>
                    </a:cubicBezTo>
                    <a:cubicBezTo>
                      <a:pt x="15404" y="7"/>
                      <a:pt x="15403" y="8"/>
                      <a:pt x="15402" y="8"/>
                    </a:cubicBezTo>
                    <a:lnTo>
                      <a:pt x="15402" y="8"/>
                    </a:lnTo>
                    <a:cubicBezTo>
                      <a:pt x="15401" y="8"/>
                      <a:pt x="15400" y="7"/>
                      <a:pt x="15400" y="6"/>
                    </a:cubicBezTo>
                    <a:cubicBezTo>
                      <a:pt x="15400" y="4"/>
                      <a:pt x="15401" y="4"/>
                      <a:pt x="15402" y="4"/>
                    </a:cubicBezTo>
                    <a:close/>
                    <a:moveTo>
                      <a:pt x="15410" y="4"/>
                    </a:moveTo>
                    <a:lnTo>
                      <a:pt x="15410" y="4"/>
                    </a:lnTo>
                    <a:cubicBezTo>
                      <a:pt x="15411" y="4"/>
                      <a:pt x="15412" y="4"/>
                      <a:pt x="15412" y="6"/>
                    </a:cubicBezTo>
                    <a:cubicBezTo>
                      <a:pt x="15412" y="7"/>
                      <a:pt x="15411" y="8"/>
                      <a:pt x="15410" y="8"/>
                    </a:cubicBezTo>
                    <a:lnTo>
                      <a:pt x="15410" y="8"/>
                    </a:lnTo>
                    <a:cubicBezTo>
                      <a:pt x="15409" y="8"/>
                      <a:pt x="15408" y="7"/>
                      <a:pt x="15408" y="6"/>
                    </a:cubicBezTo>
                    <a:cubicBezTo>
                      <a:pt x="15408" y="4"/>
                      <a:pt x="15409" y="4"/>
                      <a:pt x="15410" y="4"/>
                    </a:cubicBezTo>
                    <a:close/>
                    <a:moveTo>
                      <a:pt x="15418" y="4"/>
                    </a:moveTo>
                    <a:lnTo>
                      <a:pt x="15418" y="4"/>
                    </a:lnTo>
                    <a:cubicBezTo>
                      <a:pt x="15419" y="4"/>
                      <a:pt x="15420" y="4"/>
                      <a:pt x="15420" y="6"/>
                    </a:cubicBezTo>
                    <a:cubicBezTo>
                      <a:pt x="15420" y="7"/>
                      <a:pt x="15419" y="8"/>
                      <a:pt x="15418" y="8"/>
                    </a:cubicBezTo>
                    <a:lnTo>
                      <a:pt x="15418" y="8"/>
                    </a:lnTo>
                    <a:cubicBezTo>
                      <a:pt x="15417" y="8"/>
                      <a:pt x="15416" y="7"/>
                      <a:pt x="15416" y="6"/>
                    </a:cubicBezTo>
                    <a:cubicBezTo>
                      <a:pt x="15416" y="4"/>
                      <a:pt x="15417" y="4"/>
                      <a:pt x="15418" y="4"/>
                    </a:cubicBezTo>
                    <a:close/>
                    <a:moveTo>
                      <a:pt x="15426" y="4"/>
                    </a:moveTo>
                    <a:lnTo>
                      <a:pt x="15426" y="4"/>
                    </a:lnTo>
                    <a:cubicBezTo>
                      <a:pt x="15427" y="4"/>
                      <a:pt x="15428" y="4"/>
                      <a:pt x="15428" y="6"/>
                    </a:cubicBezTo>
                    <a:cubicBezTo>
                      <a:pt x="15428" y="7"/>
                      <a:pt x="15427" y="8"/>
                      <a:pt x="15426" y="8"/>
                    </a:cubicBezTo>
                    <a:lnTo>
                      <a:pt x="15426" y="8"/>
                    </a:lnTo>
                    <a:cubicBezTo>
                      <a:pt x="15425" y="8"/>
                      <a:pt x="15424" y="7"/>
                      <a:pt x="15424" y="6"/>
                    </a:cubicBezTo>
                    <a:cubicBezTo>
                      <a:pt x="15424" y="4"/>
                      <a:pt x="15425" y="4"/>
                      <a:pt x="15426" y="4"/>
                    </a:cubicBezTo>
                    <a:close/>
                    <a:moveTo>
                      <a:pt x="15434" y="4"/>
                    </a:moveTo>
                    <a:lnTo>
                      <a:pt x="15434" y="4"/>
                    </a:lnTo>
                    <a:cubicBezTo>
                      <a:pt x="15435" y="4"/>
                      <a:pt x="15436" y="4"/>
                      <a:pt x="15436" y="6"/>
                    </a:cubicBezTo>
                    <a:cubicBezTo>
                      <a:pt x="15436" y="7"/>
                      <a:pt x="15435" y="8"/>
                      <a:pt x="15434" y="8"/>
                    </a:cubicBezTo>
                    <a:lnTo>
                      <a:pt x="15434" y="8"/>
                    </a:lnTo>
                    <a:cubicBezTo>
                      <a:pt x="15433" y="8"/>
                      <a:pt x="15432" y="7"/>
                      <a:pt x="15432" y="6"/>
                    </a:cubicBezTo>
                    <a:cubicBezTo>
                      <a:pt x="15432" y="4"/>
                      <a:pt x="15433" y="4"/>
                      <a:pt x="15434" y="4"/>
                    </a:cubicBezTo>
                    <a:close/>
                    <a:moveTo>
                      <a:pt x="15442" y="4"/>
                    </a:moveTo>
                    <a:lnTo>
                      <a:pt x="15442" y="4"/>
                    </a:lnTo>
                    <a:cubicBezTo>
                      <a:pt x="15443" y="4"/>
                      <a:pt x="15444" y="4"/>
                      <a:pt x="15444" y="6"/>
                    </a:cubicBezTo>
                    <a:cubicBezTo>
                      <a:pt x="15444" y="7"/>
                      <a:pt x="15443" y="8"/>
                      <a:pt x="15442" y="8"/>
                    </a:cubicBezTo>
                    <a:lnTo>
                      <a:pt x="15442" y="8"/>
                    </a:lnTo>
                    <a:cubicBezTo>
                      <a:pt x="15441" y="8"/>
                      <a:pt x="15440" y="7"/>
                      <a:pt x="15440" y="6"/>
                    </a:cubicBezTo>
                    <a:cubicBezTo>
                      <a:pt x="15440" y="4"/>
                      <a:pt x="15441" y="4"/>
                      <a:pt x="15442" y="4"/>
                    </a:cubicBezTo>
                    <a:close/>
                    <a:moveTo>
                      <a:pt x="15450" y="4"/>
                    </a:moveTo>
                    <a:lnTo>
                      <a:pt x="15450" y="4"/>
                    </a:lnTo>
                    <a:cubicBezTo>
                      <a:pt x="15451" y="4"/>
                      <a:pt x="15452" y="4"/>
                      <a:pt x="15452" y="6"/>
                    </a:cubicBezTo>
                    <a:cubicBezTo>
                      <a:pt x="15452" y="7"/>
                      <a:pt x="15451" y="8"/>
                      <a:pt x="15450" y="8"/>
                    </a:cubicBezTo>
                    <a:lnTo>
                      <a:pt x="15450" y="8"/>
                    </a:lnTo>
                    <a:cubicBezTo>
                      <a:pt x="15449" y="8"/>
                      <a:pt x="15448" y="7"/>
                      <a:pt x="15448" y="6"/>
                    </a:cubicBezTo>
                    <a:cubicBezTo>
                      <a:pt x="15448" y="4"/>
                      <a:pt x="15449" y="4"/>
                      <a:pt x="15450" y="4"/>
                    </a:cubicBezTo>
                    <a:close/>
                    <a:moveTo>
                      <a:pt x="15458" y="4"/>
                    </a:moveTo>
                    <a:lnTo>
                      <a:pt x="15458" y="4"/>
                    </a:lnTo>
                    <a:cubicBezTo>
                      <a:pt x="15459" y="4"/>
                      <a:pt x="15460" y="4"/>
                      <a:pt x="15460" y="6"/>
                    </a:cubicBezTo>
                    <a:cubicBezTo>
                      <a:pt x="15460" y="7"/>
                      <a:pt x="15459" y="8"/>
                      <a:pt x="15458" y="8"/>
                    </a:cubicBezTo>
                    <a:lnTo>
                      <a:pt x="15458" y="8"/>
                    </a:lnTo>
                    <a:cubicBezTo>
                      <a:pt x="15457" y="8"/>
                      <a:pt x="15456" y="7"/>
                      <a:pt x="15456" y="6"/>
                    </a:cubicBezTo>
                    <a:cubicBezTo>
                      <a:pt x="15456" y="4"/>
                      <a:pt x="15457" y="4"/>
                      <a:pt x="15458" y="4"/>
                    </a:cubicBezTo>
                    <a:close/>
                    <a:moveTo>
                      <a:pt x="15466" y="4"/>
                    </a:moveTo>
                    <a:lnTo>
                      <a:pt x="15466" y="4"/>
                    </a:lnTo>
                    <a:cubicBezTo>
                      <a:pt x="15467" y="4"/>
                      <a:pt x="15468" y="4"/>
                      <a:pt x="15468" y="6"/>
                    </a:cubicBezTo>
                    <a:cubicBezTo>
                      <a:pt x="15468" y="7"/>
                      <a:pt x="15467" y="8"/>
                      <a:pt x="15466" y="8"/>
                    </a:cubicBezTo>
                    <a:lnTo>
                      <a:pt x="15466" y="8"/>
                    </a:lnTo>
                    <a:cubicBezTo>
                      <a:pt x="15465" y="8"/>
                      <a:pt x="15464" y="7"/>
                      <a:pt x="15464" y="6"/>
                    </a:cubicBezTo>
                    <a:cubicBezTo>
                      <a:pt x="15464" y="4"/>
                      <a:pt x="15465" y="4"/>
                      <a:pt x="15466" y="4"/>
                    </a:cubicBezTo>
                    <a:close/>
                    <a:moveTo>
                      <a:pt x="15474" y="4"/>
                    </a:moveTo>
                    <a:lnTo>
                      <a:pt x="15474" y="4"/>
                    </a:lnTo>
                    <a:cubicBezTo>
                      <a:pt x="15475" y="4"/>
                      <a:pt x="15476" y="4"/>
                      <a:pt x="15476" y="6"/>
                    </a:cubicBezTo>
                    <a:cubicBezTo>
                      <a:pt x="15476" y="7"/>
                      <a:pt x="15475" y="8"/>
                      <a:pt x="15474" y="8"/>
                    </a:cubicBezTo>
                    <a:lnTo>
                      <a:pt x="15474" y="8"/>
                    </a:lnTo>
                    <a:cubicBezTo>
                      <a:pt x="15473" y="8"/>
                      <a:pt x="15472" y="7"/>
                      <a:pt x="15472" y="6"/>
                    </a:cubicBezTo>
                    <a:cubicBezTo>
                      <a:pt x="15472" y="4"/>
                      <a:pt x="15473" y="4"/>
                      <a:pt x="15474" y="4"/>
                    </a:cubicBezTo>
                    <a:close/>
                    <a:moveTo>
                      <a:pt x="15482" y="4"/>
                    </a:moveTo>
                    <a:lnTo>
                      <a:pt x="15482" y="4"/>
                    </a:lnTo>
                    <a:cubicBezTo>
                      <a:pt x="15483" y="4"/>
                      <a:pt x="15484" y="4"/>
                      <a:pt x="15484" y="6"/>
                    </a:cubicBezTo>
                    <a:cubicBezTo>
                      <a:pt x="15484" y="7"/>
                      <a:pt x="15483" y="8"/>
                      <a:pt x="15482" y="8"/>
                    </a:cubicBezTo>
                    <a:lnTo>
                      <a:pt x="15482" y="8"/>
                    </a:lnTo>
                    <a:cubicBezTo>
                      <a:pt x="15481" y="8"/>
                      <a:pt x="15480" y="7"/>
                      <a:pt x="15480" y="6"/>
                    </a:cubicBezTo>
                    <a:cubicBezTo>
                      <a:pt x="15480" y="4"/>
                      <a:pt x="15481" y="4"/>
                      <a:pt x="15482" y="4"/>
                    </a:cubicBezTo>
                    <a:close/>
                    <a:moveTo>
                      <a:pt x="15490" y="4"/>
                    </a:moveTo>
                    <a:lnTo>
                      <a:pt x="15490" y="4"/>
                    </a:lnTo>
                    <a:cubicBezTo>
                      <a:pt x="15491" y="4"/>
                      <a:pt x="15492" y="4"/>
                      <a:pt x="15492" y="6"/>
                    </a:cubicBezTo>
                    <a:cubicBezTo>
                      <a:pt x="15492" y="7"/>
                      <a:pt x="15491" y="8"/>
                      <a:pt x="15490" y="8"/>
                    </a:cubicBezTo>
                    <a:lnTo>
                      <a:pt x="15490" y="8"/>
                    </a:lnTo>
                    <a:cubicBezTo>
                      <a:pt x="15489" y="8"/>
                      <a:pt x="15488" y="7"/>
                      <a:pt x="15488" y="6"/>
                    </a:cubicBezTo>
                    <a:cubicBezTo>
                      <a:pt x="15488" y="4"/>
                      <a:pt x="15489" y="4"/>
                      <a:pt x="15490" y="4"/>
                    </a:cubicBezTo>
                    <a:close/>
                    <a:moveTo>
                      <a:pt x="15498" y="4"/>
                    </a:moveTo>
                    <a:lnTo>
                      <a:pt x="15498" y="4"/>
                    </a:lnTo>
                    <a:cubicBezTo>
                      <a:pt x="15499" y="4"/>
                      <a:pt x="15500" y="4"/>
                      <a:pt x="15500" y="6"/>
                    </a:cubicBezTo>
                    <a:cubicBezTo>
                      <a:pt x="15500" y="7"/>
                      <a:pt x="15499" y="8"/>
                      <a:pt x="15498" y="8"/>
                    </a:cubicBezTo>
                    <a:lnTo>
                      <a:pt x="15498" y="8"/>
                    </a:lnTo>
                    <a:cubicBezTo>
                      <a:pt x="15497" y="8"/>
                      <a:pt x="15496" y="7"/>
                      <a:pt x="15496" y="6"/>
                    </a:cubicBezTo>
                    <a:cubicBezTo>
                      <a:pt x="15496" y="4"/>
                      <a:pt x="15497" y="4"/>
                      <a:pt x="15498" y="4"/>
                    </a:cubicBezTo>
                    <a:close/>
                    <a:moveTo>
                      <a:pt x="15506" y="4"/>
                    </a:moveTo>
                    <a:lnTo>
                      <a:pt x="15506" y="4"/>
                    </a:lnTo>
                    <a:cubicBezTo>
                      <a:pt x="15507" y="4"/>
                      <a:pt x="15508" y="4"/>
                      <a:pt x="15508" y="6"/>
                    </a:cubicBezTo>
                    <a:cubicBezTo>
                      <a:pt x="15508" y="7"/>
                      <a:pt x="15507" y="8"/>
                      <a:pt x="15506" y="8"/>
                    </a:cubicBezTo>
                    <a:lnTo>
                      <a:pt x="15506" y="8"/>
                    </a:lnTo>
                    <a:cubicBezTo>
                      <a:pt x="15505" y="8"/>
                      <a:pt x="15504" y="7"/>
                      <a:pt x="15504" y="6"/>
                    </a:cubicBezTo>
                    <a:cubicBezTo>
                      <a:pt x="15504" y="4"/>
                      <a:pt x="15505" y="4"/>
                      <a:pt x="15506" y="4"/>
                    </a:cubicBezTo>
                    <a:close/>
                    <a:moveTo>
                      <a:pt x="15514" y="4"/>
                    </a:moveTo>
                    <a:lnTo>
                      <a:pt x="15514" y="4"/>
                    </a:lnTo>
                    <a:cubicBezTo>
                      <a:pt x="15515" y="4"/>
                      <a:pt x="15516" y="4"/>
                      <a:pt x="15516" y="6"/>
                    </a:cubicBezTo>
                    <a:cubicBezTo>
                      <a:pt x="15516" y="7"/>
                      <a:pt x="15515" y="8"/>
                      <a:pt x="15514" y="8"/>
                    </a:cubicBezTo>
                    <a:lnTo>
                      <a:pt x="15514" y="8"/>
                    </a:lnTo>
                    <a:cubicBezTo>
                      <a:pt x="15513" y="8"/>
                      <a:pt x="15512" y="7"/>
                      <a:pt x="15512" y="6"/>
                    </a:cubicBezTo>
                    <a:cubicBezTo>
                      <a:pt x="15512" y="4"/>
                      <a:pt x="15513" y="4"/>
                      <a:pt x="15514" y="4"/>
                    </a:cubicBezTo>
                    <a:close/>
                    <a:moveTo>
                      <a:pt x="15522" y="4"/>
                    </a:moveTo>
                    <a:lnTo>
                      <a:pt x="15522" y="4"/>
                    </a:lnTo>
                    <a:cubicBezTo>
                      <a:pt x="15523" y="4"/>
                      <a:pt x="15524" y="4"/>
                      <a:pt x="15524" y="6"/>
                    </a:cubicBezTo>
                    <a:cubicBezTo>
                      <a:pt x="15524" y="7"/>
                      <a:pt x="15523" y="8"/>
                      <a:pt x="15522" y="8"/>
                    </a:cubicBezTo>
                    <a:lnTo>
                      <a:pt x="15522" y="8"/>
                    </a:lnTo>
                    <a:cubicBezTo>
                      <a:pt x="15521" y="8"/>
                      <a:pt x="15520" y="7"/>
                      <a:pt x="15520" y="6"/>
                    </a:cubicBezTo>
                    <a:cubicBezTo>
                      <a:pt x="15520" y="4"/>
                      <a:pt x="15521" y="4"/>
                      <a:pt x="15522" y="4"/>
                    </a:cubicBezTo>
                    <a:close/>
                    <a:moveTo>
                      <a:pt x="15530" y="4"/>
                    </a:moveTo>
                    <a:lnTo>
                      <a:pt x="15530" y="4"/>
                    </a:lnTo>
                    <a:cubicBezTo>
                      <a:pt x="15532" y="4"/>
                      <a:pt x="15532" y="4"/>
                      <a:pt x="15532" y="6"/>
                    </a:cubicBezTo>
                    <a:cubicBezTo>
                      <a:pt x="15532" y="7"/>
                      <a:pt x="15532" y="8"/>
                      <a:pt x="15530" y="8"/>
                    </a:cubicBezTo>
                    <a:lnTo>
                      <a:pt x="15530" y="8"/>
                    </a:lnTo>
                    <a:cubicBezTo>
                      <a:pt x="15529" y="8"/>
                      <a:pt x="15528" y="7"/>
                      <a:pt x="15528" y="6"/>
                    </a:cubicBezTo>
                    <a:cubicBezTo>
                      <a:pt x="15528" y="4"/>
                      <a:pt x="15529" y="4"/>
                      <a:pt x="15530" y="4"/>
                    </a:cubicBezTo>
                    <a:close/>
                    <a:moveTo>
                      <a:pt x="15538" y="4"/>
                    </a:moveTo>
                    <a:lnTo>
                      <a:pt x="15538" y="4"/>
                    </a:lnTo>
                    <a:cubicBezTo>
                      <a:pt x="15540" y="4"/>
                      <a:pt x="15540" y="4"/>
                      <a:pt x="15540" y="6"/>
                    </a:cubicBezTo>
                    <a:cubicBezTo>
                      <a:pt x="15540" y="7"/>
                      <a:pt x="15540" y="8"/>
                      <a:pt x="15538" y="8"/>
                    </a:cubicBezTo>
                    <a:lnTo>
                      <a:pt x="15538" y="8"/>
                    </a:lnTo>
                    <a:cubicBezTo>
                      <a:pt x="15537" y="8"/>
                      <a:pt x="15536" y="7"/>
                      <a:pt x="15536" y="6"/>
                    </a:cubicBezTo>
                    <a:cubicBezTo>
                      <a:pt x="15536" y="4"/>
                      <a:pt x="15537" y="4"/>
                      <a:pt x="15538" y="4"/>
                    </a:cubicBezTo>
                    <a:close/>
                    <a:moveTo>
                      <a:pt x="15546" y="4"/>
                    </a:moveTo>
                    <a:lnTo>
                      <a:pt x="15546" y="4"/>
                    </a:lnTo>
                    <a:cubicBezTo>
                      <a:pt x="15548" y="4"/>
                      <a:pt x="15548" y="4"/>
                      <a:pt x="15548" y="6"/>
                    </a:cubicBezTo>
                    <a:cubicBezTo>
                      <a:pt x="15548" y="7"/>
                      <a:pt x="15548" y="8"/>
                      <a:pt x="15546" y="8"/>
                    </a:cubicBezTo>
                    <a:lnTo>
                      <a:pt x="15546" y="8"/>
                    </a:lnTo>
                    <a:cubicBezTo>
                      <a:pt x="15545" y="8"/>
                      <a:pt x="15544" y="7"/>
                      <a:pt x="15544" y="6"/>
                    </a:cubicBezTo>
                    <a:cubicBezTo>
                      <a:pt x="15544" y="4"/>
                      <a:pt x="15545" y="4"/>
                      <a:pt x="15546" y="4"/>
                    </a:cubicBezTo>
                    <a:close/>
                    <a:moveTo>
                      <a:pt x="15554" y="4"/>
                    </a:moveTo>
                    <a:lnTo>
                      <a:pt x="15554" y="4"/>
                    </a:lnTo>
                    <a:cubicBezTo>
                      <a:pt x="15556" y="4"/>
                      <a:pt x="15556" y="4"/>
                      <a:pt x="15556" y="6"/>
                    </a:cubicBezTo>
                    <a:cubicBezTo>
                      <a:pt x="15556" y="7"/>
                      <a:pt x="15556" y="8"/>
                      <a:pt x="15554" y="8"/>
                    </a:cubicBezTo>
                    <a:lnTo>
                      <a:pt x="15554" y="8"/>
                    </a:lnTo>
                    <a:cubicBezTo>
                      <a:pt x="15553" y="8"/>
                      <a:pt x="15552" y="7"/>
                      <a:pt x="15552" y="6"/>
                    </a:cubicBezTo>
                    <a:cubicBezTo>
                      <a:pt x="15552" y="4"/>
                      <a:pt x="15553" y="4"/>
                      <a:pt x="15554" y="4"/>
                    </a:cubicBezTo>
                    <a:close/>
                    <a:moveTo>
                      <a:pt x="15562" y="4"/>
                    </a:moveTo>
                    <a:lnTo>
                      <a:pt x="15562" y="4"/>
                    </a:lnTo>
                    <a:cubicBezTo>
                      <a:pt x="15564" y="4"/>
                      <a:pt x="15564" y="4"/>
                      <a:pt x="15564" y="6"/>
                    </a:cubicBezTo>
                    <a:cubicBezTo>
                      <a:pt x="15564" y="7"/>
                      <a:pt x="15564" y="8"/>
                      <a:pt x="15562" y="8"/>
                    </a:cubicBezTo>
                    <a:lnTo>
                      <a:pt x="15562" y="8"/>
                    </a:lnTo>
                    <a:cubicBezTo>
                      <a:pt x="15561" y="8"/>
                      <a:pt x="15560" y="7"/>
                      <a:pt x="15560" y="6"/>
                    </a:cubicBezTo>
                    <a:cubicBezTo>
                      <a:pt x="15560" y="4"/>
                      <a:pt x="15561" y="4"/>
                      <a:pt x="15562" y="4"/>
                    </a:cubicBezTo>
                    <a:close/>
                    <a:moveTo>
                      <a:pt x="15570" y="4"/>
                    </a:moveTo>
                    <a:lnTo>
                      <a:pt x="15570" y="4"/>
                    </a:lnTo>
                    <a:cubicBezTo>
                      <a:pt x="15572" y="4"/>
                      <a:pt x="15572" y="4"/>
                      <a:pt x="15572" y="6"/>
                    </a:cubicBezTo>
                    <a:cubicBezTo>
                      <a:pt x="15572" y="7"/>
                      <a:pt x="15572" y="8"/>
                      <a:pt x="15570" y="8"/>
                    </a:cubicBezTo>
                    <a:lnTo>
                      <a:pt x="15570" y="8"/>
                    </a:lnTo>
                    <a:cubicBezTo>
                      <a:pt x="15569" y="8"/>
                      <a:pt x="15568" y="7"/>
                      <a:pt x="15568" y="6"/>
                    </a:cubicBezTo>
                    <a:cubicBezTo>
                      <a:pt x="15568" y="4"/>
                      <a:pt x="15569" y="4"/>
                      <a:pt x="15570" y="4"/>
                    </a:cubicBezTo>
                    <a:close/>
                    <a:moveTo>
                      <a:pt x="15578" y="4"/>
                    </a:moveTo>
                    <a:lnTo>
                      <a:pt x="15578" y="4"/>
                    </a:lnTo>
                    <a:cubicBezTo>
                      <a:pt x="15580" y="4"/>
                      <a:pt x="15580" y="4"/>
                      <a:pt x="15580" y="6"/>
                    </a:cubicBezTo>
                    <a:cubicBezTo>
                      <a:pt x="15580" y="7"/>
                      <a:pt x="15580" y="8"/>
                      <a:pt x="15578" y="8"/>
                    </a:cubicBezTo>
                    <a:lnTo>
                      <a:pt x="15578" y="8"/>
                    </a:lnTo>
                    <a:cubicBezTo>
                      <a:pt x="15577" y="8"/>
                      <a:pt x="15576" y="7"/>
                      <a:pt x="15576" y="6"/>
                    </a:cubicBezTo>
                    <a:cubicBezTo>
                      <a:pt x="15576" y="4"/>
                      <a:pt x="15577" y="4"/>
                      <a:pt x="15578" y="4"/>
                    </a:cubicBezTo>
                    <a:close/>
                    <a:moveTo>
                      <a:pt x="15586" y="4"/>
                    </a:moveTo>
                    <a:lnTo>
                      <a:pt x="15586" y="4"/>
                    </a:lnTo>
                    <a:cubicBezTo>
                      <a:pt x="15588" y="4"/>
                      <a:pt x="15588" y="4"/>
                      <a:pt x="15588" y="6"/>
                    </a:cubicBezTo>
                    <a:cubicBezTo>
                      <a:pt x="15588" y="7"/>
                      <a:pt x="15588" y="8"/>
                      <a:pt x="15586" y="8"/>
                    </a:cubicBezTo>
                    <a:lnTo>
                      <a:pt x="15586" y="8"/>
                    </a:lnTo>
                    <a:cubicBezTo>
                      <a:pt x="15585" y="8"/>
                      <a:pt x="15584" y="7"/>
                      <a:pt x="15584" y="6"/>
                    </a:cubicBezTo>
                    <a:cubicBezTo>
                      <a:pt x="15584" y="4"/>
                      <a:pt x="15585" y="4"/>
                      <a:pt x="15586" y="4"/>
                    </a:cubicBezTo>
                    <a:close/>
                    <a:moveTo>
                      <a:pt x="15594" y="4"/>
                    </a:moveTo>
                    <a:lnTo>
                      <a:pt x="15594" y="4"/>
                    </a:lnTo>
                    <a:cubicBezTo>
                      <a:pt x="15596" y="4"/>
                      <a:pt x="15596" y="4"/>
                      <a:pt x="15596" y="6"/>
                    </a:cubicBezTo>
                    <a:cubicBezTo>
                      <a:pt x="15596" y="7"/>
                      <a:pt x="15596" y="8"/>
                      <a:pt x="15594" y="8"/>
                    </a:cubicBezTo>
                    <a:lnTo>
                      <a:pt x="15594" y="8"/>
                    </a:lnTo>
                    <a:cubicBezTo>
                      <a:pt x="15593" y="8"/>
                      <a:pt x="15592" y="7"/>
                      <a:pt x="15592" y="6"/>
                    </a:cubicBezTo>
                    <a:cubicBezTo>
                      <a:pt x="15592" y="4"/>
                      <a:pt x="15593" y="4"/>
                      <a:pt x="15594" y="4"/>
                    </a:cubicBezTo>
                    <a:close/>
                    <a:moveTo>
                      <a:pt x="15602" y="4"/>
                    </a:moveTo>
                    <a:lnTo>
                      <a:pt x="15602" y="4"/>
                    </a:lnTo>
                    <a:cubicBezTo>
                      <a:pt x="15604" y="4"/>
                      <a:pt x="15604" y="4"/>
                      <a:pt x="15604" y="6"/>
                    </a:cubicBezTo>
                    <a:cubicBezTo>
                      <a:pt x="15604" y="7"/>
                      <a:pt x="15604" y="8"/>
                      <a:pt x="15602" y="8"/>
                    </a:cubicBezTo>
                    <a:lnTo>
                      <a:pt x="15602" y="8"/>
                    </a:lnTo>
                    <a:cubicBezTo>
                      <a:pt x="15601" y="8"/>
                      <a:pt x="15600" y="7"/>
                      <a:pt x="15600" y="6"/>
                    </a:cubicBezTo>
                    <a:cubicBezTo>
                      <a:pt x="15600" y="4"/>
                      <a:pt x="15601" y="4"/>
                      <a:pt x="15602" y="4"/>
                    </a:cubicBezTo>
                    <a:close/>
                    <a:moveTo>
                      <a:pt x="15610" y="4"/>
                    </a:moveTo>
                    <a:lnTo>
                      <a:pt x="15610" y="4"/>
                    </a:lnTo>
                    <a:cubicBezTo>
                      <a:pt x="15612" y="4"/>
                      <a:pt x="15612" y="4"/>
                      <a:pt x="15612" y="6"/>
                    </a:cubicBezTo>
                    <a:cubicBezTo>
                      <a:pt x="15612" y="7"/>
                      <a:pt x="15612" y="8"/>
                      <a:pt x="15610" y="8"/>
                    </a:cubicBezTo>
                    <a:lnTo>
                      <a:pt x="15610" y="8"/>
                    </a:lnTo>
                    <a:cubicBezTo>
                      <a:pt x="15609" y="8"/>
                      <a:pt x="15608" y="7"/>
                      <a:pt x="15608" y="6"/>
                    </a:cubicBezTo>
                    <a:cubicBezTo>
                      <a:pt x="15608" y="4"/>
                      <a:pt x="15609" y="4"/>
                      <a:pt x="15610" y="4"/>
                    </a:cubicBezTo>
                    <a:close/>
                    <a:moveTo>
                      <a:pt x="15618" y="4"/>
                    </a:moveTo>
                    <a:lnTo>
                      <a:pt x="15618" y="4"/>
                    </a:lnTo>
                    <a:cubicBezTo>
                      <a:pt x="15620" y="4"/>
                      <a:pt x="15620" y="4"/>
                      <a:pt x="15620" y="6"/>
                    </a:cubicBezTo>
                    <a:cubicBezTo>
                      <a:pt x="15620" y="7"/>
                      <a:pt x="15620" y="8"/>
                      <a:pt x="15618" y="8"/>
                    </a:cubicBezTo>
                    <a:lnTo>
                      <a:pt x="15618" y="8"/>
                    </a:lnTo>
                    <a:cubicBezTo>
                      <a:pt x="15617" y="8"/>
                      <a:pt x="15616" y="7"/>
                      <a:pt x="15616" y="6"/>
                    </a:cubicBezTo>
                    <a:cubicBezTo>
                      <a:pt x="15616" y="4"/>
                      <a:pt x="15617" y="4"/>
                      <a:pt x="15618" y="4"/>
                    </a:cubicBezTo>
                    <a:close/>
                    <a:moveTo>
                      <a:pt x="15626" y="4"/>
                    </a:moveTo>
                    <a:lnTo>
                      <a:pt x="15626" y="4"/>
                    </a:lnTo>
                    <a:cubicBezTo>
                      <a:pt x="15628" y="4"/>
                      <a:pt x="15628" y="4"/>
                      <a:pt x="15628" y="6"/>
                    </a:cubicBezTo>
                    <a:cubicBezTo>
                      <a:pt x="15628" y="7"/>
                      <a:pt x="15628" y="8"/>
                      <a:pt x="15626" y="8"/>
                    </a:cubicBezTo>
                    <a:lnTo>
                      <a:pt x="15626" y="8"/>
                    </a:lnTo>
                    <a:cubicBezTo>
                      <a:pt x="15625" y="8"/>
                      <a:pt x="15624" y="7"/>
                      <a:pt x="15624" y="6"/>
                    </a:cubicBezTo>
                    <a:cubicBezTo>
                      <a:pt x="15624" y="4"/>
                      <a:pt x="15625" y="4"/>
                      <a:pt x="15626" y="4"/>
                    </a:cubicBezTo>
                    <a:close/>
                    <a:moveTo>
                      <a:pt x="15634" y="4"/>
                    </a:moveTo>
                    <a:lnTo>
                      <a:pt x="15634" y="4"/>
                    </a:lnTo>
                    <a:cubicBezTo>
                      <a:pt x="15636" y="4"/>
                      <a:pt x="15636" y="4"/>
                      <a:pt x="15636" y="6"/>
                    </a:cubicBezTo>
                    <a:cubicBezTo>
                      <a:pt x="15636" y="7"/>
                      <a:pt x="15636" y="8"/>
                      <a:pt x="15634" y="8"/>
                    </a:cubicBezTo>
                    <a:lnTo>
                      <a:pt x="15634" y="8"/>
                    </a:lnTo>
                    <a:cubicBezTo>
                      <a:pt x="15633" y="8"/>
                      <a:pt x="15632" y="7"/>
                      <a:pt x="15632" y="6"/>
                    </a:cubicBezTo>
                    <a:cubicBezTo>
                      <a:pt x="15632" y="4"/>
                      <a:pt x="15633" y="4"/>
                      <a:pt x="15634" y="4"/>
                    </a:cubicBezTo>
                    <a:close/>
                    <a:moveTo>
                      <a:pt x="15642" y="4"/>
                    </a:moveTo>
                    <a:lnTo>
                      <a:pt x="15642" y="4"/>
                    </a:lnTo>
                    <a:cubicBezTo>
                      <a:pt x="15644" y="4"/>
                      <a:pt x="15644" y="4"/>
                      <a:pt x="15644" y="6"/>
                    </a:cubicBezTo>
                    <a:cubicBezTo>
                      <a:pt x="15644" y="7"/>
                      <a:pt x="15644" y="8"/>
                      <a:pt x="15642" y="8"/>
                    </a:cubicBezTo>
                    <a:lnTo>
                      <a:pt x="15642" y="8"/>
                    </a:lnTo>
                    <a:cubicBezTo>
                      <a:pt x="15641" y="8"/>
                      <a:pt x="15640" y="7"/>
                      <a:pt x="15640" y="6"/>
                    </a:cubicBezTo>
                    <a:cubicBezTo>
                      <a:pt x="15640" y="4"/>
                      <a:pt x="15641" y="4"/>
                      <a:pt x="15642" y="4"/>
                    </a:cubicBezTo>
                    <a:close/>
                    <a:moveTo>
                      <a:pt x="15650" y="4"/>
                    </a:moveTo>
                    <a:lnTo>
                      <a:pt x="15650" y="4"/>
                    </a:lnTo>
                    <a:cubicBezTo>
                      <a:pt x="15652" y="4"/>
                      <a:pt x="15652" y="4"/>
                      <a:pt x="15652" y="6"/>
                    </a:cubicBezTo>
                    <a:cubicBezTo>
                      <a:pt x="15652" y="7"/>
                      <a:pt x="15652" y="8"/>
                      <a:pt x="15650" y="8"/>
                    </a:cubicBezTo>
                    <a:lnTo>
                      <a:pt x="15650" y="8"/>
                    </a:lnTo>
                    <a:cubicBezTo>
                      <a:pt x="15649" y="8"/>
                      <a:pt x="15648" y="7"/>
                      <a:pt x="15648" y="6"/>
                    </a:cubicBezTo>
                    <a:cubicBezTo>
                      <a:pt x="15648" y="4"/>
                      <a:pt x="15649" y="4"/>
                      <a:pt x="15650" y="4"/>
                    </a:cubicBezTo>
                    <a:close/>
                    <a:moveTo>
                      <a:pt x="15658" y="4"/>
                    </a:moveTo>
                    <a:lnTo>
                      <a:pt x="15658" y="4"/>
                    </a:lnTo>
                    <a:cubicBezTo>
                      <a:pt x="15660" y="4"/>
                      <a:pt x="15660" y="4"/>
                      <a:pt x="15660" y="6"/>
                    </a:cubicBezTo>
                    <a:cubicBezTo>
                      <a:pt x="15660" y="7"/>
                      <a:pt x="15660" y="8"/>
                      <a:pt x="15658" y="8"/>
                    </a:cubicBezTo>
                    <a:lnTo>
                      <a:pt x="15658" y="8"/>
                    </a:lnTo>
                    <a:cubicBezTo>
                      <a:pt x="15657" y="8"/>
                      <a:pt x="15656" y="7"/>
                      <a:pt x="15656" y="6"/>
                    </a:cubicBezTo>
                    <a:cubicBezTo>
                      <a:pt x="15656" y="4"/>
                      <a:pt x="15657" y="4"/>
                      <a:pt x="15658" y="4"/>
                    </a:cubicBezTo>
                    <a:close/>
                    <a:moveTo>
                      <a:pt x="15666" y="4"/>
                    </a:moveTo>
                    <a:lnTo>
                      <a:pt x="15666" y="4"/>
                    </a:lnTo>
                    <a:cubicBezTo>
                      <a:pt x="15668" y="4"/>
                      <a:pt x="15668" y="5"/>
                      <a:pt x="15668" y="6"/>
                    </a:cubicBezTo>
                    <a:cubicBezTo>
                      <a:pt x="15668" y="7"/>
                      <a:pt x="15668" y="8"/>
                      <a:pt x="15666" y="8"/>
                    </a:cubicBezTo>
                    <a:lnTo>
                      <a:pt x="15666" y="8"/>
                    </a:lnTo>
                    <a:cubicBezTo>
                      <a:pt x="15665" y="8"/>
                      <a:pt x="15664" y="7"/>
                      <a:pt x="15664" y="6"/>
                    </a:cubicBezTo>
                    <a:cubicBezTo>
                      <a:pt x="15664" y="5"/>
                      <a:pt x="15665" y="4"/>
                      <a:pt x="15666" y="4"/>
                    </a:cubicBezTo>
                    <a:close/>
                    <a:moveTo>
                      <a:pt x="15674" y="4"/>
                    </a:moveTo>
                    <a:lnTo>
                      <a:pt x="15675" y="4"/>
                    </a:lnTo>
                    <a:cubicBezTo>
                      <a:pt x="15676" y="4"/>
                      <a:pt x="15677" y="5"/>
                      <a:pt x="15677" y="6"/>
                    </a:cubicBezTo>
                    <a:cubicBezTo>
                      <a:pt x="15677" y="7"/>
                      <a:pt x="15676" y="8"/>
                      <a:pt x="15675" y="8"/>
                    </a:cubicBezTo>
                    <a:lnTo>
                      <a:pt x="15674" y="8"/>
                    </a:lnTo>
                    <a:cubicBezTo>
                      <a:pt x="15673" y="8"/>
                      <a:pt x="15672" y="7"/>
                      <a:pt x="15672" y="6"/>
                    </a:cubicBezTo>
                    <a:cubicBezTo>
                      <a:pt x="15672" y="5"/>
                      <a:pt x="15673" y="4"/>
                      <a:pt x="15674" y="4"/>
                    </a:cubicBezTo>
                    <a:close/>
                    <a:moveTo>
                      <a:pt x="15683" y="4"/>
                    </a:moveTo>
                    <a:lnTo>
                      <a:pt x="15683" y="4"/>
                    </a:lnTo>
                    <a:cubicBezTo>
                      <a:pt x="15684" y="4"/>
                      <a:pt x="15685" y="5"/>
                      <a:pt x="15685" y="6"/>
                    </a:cubicBezTo>
                    <a:cubicBezTo>
                      <a:pt x="15685" y="7"/>
                      <a:pt x="15684" y="8"/>
                      <a:pt x="15683" y="8"/>
                    </a:cubicBezTo>
                    <a:lnTo>
                      <a:pt x="15683" y="8"/>
                    </a:lnTo>
                    <a:cubicBezTo>
                      <a:pt x="15681" y="8"/>
                      <a:pt x="15681" y="7"/>
                      <a:pt x="15681" y="6"/>
                    </a:cubicBezTo>
                    <a:cubicBezTo>
                      <a:pt x="15681" y="5"/>
                      <a:pt x="15681" y="4"/>
                      <a:pt x="15683" y="4"/>
                    </a:cubicBezTo>
                    <a:close/>
                    <a:moveTo>
                      <a:pt x="15691" y="4"/>
                    </a:moveTo>
                    <a:lnTo>
                      <a:pt x="15691" y="4"/>
                    </a:lnTo>
                    <a:cubicBezTo>
                      <a:pt x="15692" y="4"/>
                      <a:pt x="15693" y="5"/>
                      <a:pt x="15693" y="6"/>
                    </a:cubicBezTo>
                    <a:cubicBezTo>
                      <a:pt x="15693" y="7"/>
                      <a:pt x="15692" y="8"/>
                      <a:pt x="15691" y="8"/>
                    </a:cubicBezTo>
                    <a:lnTo>
                      <a:pt x="15691" y="8"/>
                    </a:lnTo>
                    <a:cubicBezTo>
                      <a:pt x="15689" y="8"/>
                      <a:pt x="15689" y="7"/>
                      <a:pt x="15689" y="6"/>
                    </a:cubicBezTo>
                    <a:cubicBezTo>
                      <a:pt x="15689" y="5"/>
                      <a:pt x="15689" y="4"/>
                      <a:pt x="15691" y="4"/>
                    </a:cubicBezTo>
                    <a:close/>
                    <a:moveTo>
                      <a:pt x="15699" y="4"/>
                    </a:moveTo>
                    <a:lnTo>
                      <a:pt x="15699" y="4"/>
                    </a:lnTo>
                    <a:cubicBezTo>
                      <a:pt x="15700" y="4"/>
                      <a:pt x="15701" y="5"/>
                      <a:pt x="15701" y="6"/>
                    </a:cubicBezTo>
                    <a:cubicBezTo>
                      <a:pt x="15701" y="7"/>
                      <a:pt x="15700" y="8"/>
                      <a:pt x="15699" y="8"/>
                    </a:cubicBezTo>
                    <a:lnTo>
                      <a:pt x="15699" y="8"/>
                    </a:lnTo>
                    <a:cubicBezTo>
                      <a:pt x="15697" y="8"/>
                      <a:pt x="15697" y="7"/>
                      <a:pt x="15697" y="6"/>
                    </a:cubicBezTo>
                    <a:cubicBezTo>
                      <a:pt x="15697" y="5"/>
                      <a:pt x="15697" y="4"/>
                      <a:pt x="15699" y="4"/>
                    </a:cubicBezTo>
                    <a:close/>
                    <a:moveTo>
                      <a:pt x="15707" y="4"/>
                    </a:moveTo>
                    <a:lnTo>
                      <a:pt x="15707" y="4"/>
                    </a:lnTo>
                    <a:cubicBezTo>
                      <a:pt x="15708" y="4"/>
                      <a:pt x="15709" y="5"/>
                      <a:pt x="15709" y="6"/>
                    </a:cubicBezTo>
                    <a:cubicBezTo>
                      <a:pt x="15709" y="7"/>
                      <a:pt x="15708" y="8"/>
                      <a:pt x="15707" y="8"/>
                    </a:cubicBezTo>
                    <a:lnTo>
                      <a:pt x="15707" y="8"/>
                    </a:lnTo>
                    <a:cubicBezTo>
                      <a:pt x="15705" y="8"/>
                      <a:pt x="15705" y="7"/>
                      <a:pt x="15705" y="6"/>
                    </a:cubicBezTo>
                    <a:cubicBezTo>
                      <a:pt x="15705" y="5"/>
                      <a:pt x="15705" y="4"/>
                      <a:pt x="15707" y="4"/>
                    </a:cubicBezTo>
                    <a:close/>
                    <a:moveTo>
                      <a:pt x="15715" y="4"/>
                    </a:moveTo>
                    <a:lnTo>
                      <a:pt x="15715" y="4"/>
                    </a:lnTo>
                    <a:cubicBezTo>
                      <a:pt x="15716" y="4"/>
                      <a:pt x="15717" y="5"/>
                      <a:pt x="15717" y="6"/>
                    </a:cubicBezTo>
                    <a:cubicBezTo>
                      <a:pt x="15717" y="7"/>
                      <a:pt x="15716" y="8"/>
                      <a:pt x="15715" y="8"/>
                    </a:cubicBezTo>
                    <a:lnTo>
                      <a:pt x="15715" y="8"/>
                    </a:lnTo>
                    <a:cubicBezTo>
                      <a:pt x="15713" y="8"/>
                      <a:pt x="15713" y="7"/>
                      <a:pt x="15713" y="6"/>
                    </a:cubicBezTo>
                    <a:cubicBezTo>
                      <a:pt x="15713" y="5"/>
                      <a:pt x="15713" y="4"/>
                      <a:pt x="15715" y="4"/>
                    </a:cubicBezTo>
                    <a:close/>
                    <a:moveTo>
                      <a:pt x="15723" y="4"/>
                    </a:moveTo>
                    <a:lnTo>
                      <a:pt x="15723" y="4"/>
                    </a:lnTo>
                    <a:cubicBezTo>
                      <a:pt x="15724" y="4"/>
                      <a:pt x="15725" y="5"/>
                      <a:pt x="15725" y="6"/>
                    </a:cubicBezTo>
                    <a:cubicBezTo>
                      <a:pt x="15725" y="7"/>
                      <a:pt x="15724" y="8"/>
                      <a:pt x="15723" y="8"/>
                    </a:cubicBezTo>
                    <a:lnTo>
                      <a:pt x="15723" y="8"/>
                    </a:lnTo>
                    <a:cubicBezTo>
                      <a:pt x="15721" y="8"/>
                      <a:pt x="15721" y="7"/>
                      <a:pt x="15721" y="6"/>
                    </a:cubicBezTo>
                    <a:cubicBezTo>
                      <a:pt x="15721" y="5"/>
                      <a:pt x="15721" y="4"/>
                      <a:pt x="15723" y="4"/>
                    </a:cubicBezTo>
                    <a:close/>
                    <a:moveTo>
                      <a:pt x="15731" y="4"/>
                    </a:moveTo>
                    <a:lnTo>
                      <a:pt x="15731" y="4"/>
                    </a:lnTo>
                    <a:cubicBezTo>
                      <a:pt x="15732" y="4"/>
                      <a:pt x="15733" y="5"/>
                      <a:pt x="15733" y="6"/>
                    </a:cubicBezTo>
                    <a:cubicBezTo>
                      <a:pt x="15733" y="7"/>
                      <a:pt x="15732" y="8"/>
                      <a:pt x="15731" y="8"/>
                    </a:cubicBezTo>
                    <a:lnTo>
                      <a:pt x="15731" y="8"/>
                    </a:lnTo>
                    <a:cubicBezTo>
                      <a:pt x="15729" y="8"/>
                      <a:pt x="15729" y="7"/>
                      <a:pt x="15729" y="6"/>
                    </a:cubicBezTo>
                    <a:cubicBezTo>
                      <a:pt x="15729" y="5"/>
                      <a:pt x="15729" y="4"/>
                      <a:pt x="15731" y="4"/>
                    </a:cubicBezTo>
                    <a:close/>
                    <a:moveTo>
                      <a:pt x="15739" y="4"/>
                    </a:moveTo>
                    <a:lnTo>
                      <a:pt x="15739" y="4"/>
                    </a:lnTo>
                    <a:cubicBezTo>
                      <a:pt x="15740" y="4"/>
                      <a:pt x="15741" y="5"/>
                      <a:pt x="15741" y="6"/>
                    </a:cubicBezTo>
                    <a:cubicBezTo>
                      <a:pt x="15741" y="7"/>
                      <a:pt x="15740" y="8"/>
                      <a:pt x="15739" y="8"/>
                    </a:cubicBezTo>
                    <a:lnTo>
                      <a:pt x="15739" y="8"/>
                    </a:lnTo>
                    <a:cubicBezTo>
                      <a:pt x="15737" y="8"/>
                      <a:pt x="15737" y="7"/>
                      <a:pt x="15737" y="6"/>
                    </a:cubicBezTo>
                    <a:cubicBezTo>
                      <a:pt x="15737" y="5"/>
                      <a:pt x="15737" y="4"/>
                      <a:pt x="15739" y="4"/>
                    </a:cubicBezTo>
                    <a:close/>
                    <a:moveTo>
                      <a:pt x="15747" y="4"/>
                    </a:moveTo>
                    <a:lnTo>
                      <a:pt x="15747" y="4"/>
                    </a:lnTo>
                    <a:cubicBezTo>
                      <a:pt x="15748" y="4"/>
                      <a:pt x="15749" y="5"/>
                      <a:pt x="15749" y="6"/>
                    </a:cubicBezTo>
                    <a:cubicBezTo>
                      <a:pt x="15749" y="7"/>
                      <a:pt x="15748" y="8"/>
                      <a:pt x="15747" y="8"/>
                    </a:cubicBezTo>
                    <a:lnTo>
                      <a:pt x="15747" y="8"/>
                    </a:lnTo>
                    <a:cubicBezTo>
                      <a:pt x="15745" y="8"/>
                      <a:pt x="15745" y="7"/>
                      <a:pt x="15745" y="6"/>
                    </a:cubicBezTo>
                    <a:cubicBezTo>
                      <a:pt x="15745" y="5"/>
                      <a:pt x="15745" y="4"/>
                      <a:pt x="15747" y="4"/>
                    </a:cubicBezTo>
                    <a:close/>
                    <a:moveTo>
                      <a:pt x="15755" y="4"/>
                    </a:moveTo>
                    <a:lnTo>
                      <a:pt x="15755" y="4"/>
                    </a:lnTo>
                    <a:cubicBezTo>
                      <a:pt x="15756" y="4"/>
                      <a:pt x="15757" y="5"/>
                      <a:pt x="15757" y="6"/>
                    </a:cubicBezTo>
                    <a:cubicBezTo>
                      <a:pt x="15757" y="7"/>
                      <a:pt x="15756" y="8"/>
                      <a:pt x="15755" y="8"/>
                    </a:cubicBezTo>
                    <a:lnTo>
                      <a:pt x="15755" y="8"/>
                    </a:lnTo>
                    <a:cubicBezTo>
                      <a:pt x="15753" y="8"/>
                      <a:pt x="15753" y="7"/>
                      <a:pt x="15753" y="6"/>
                    </a:cubicBezTo>
                    <a:cubicBezTo>
                      <a:pt x="15753" y="5"/>
                      <a:pt x="15753" y="4"/>
                      <a:pt x="15755" y="4"/>
                    </a:cubicBezTo>
                    <a:close/>
                    <a:moveTo>
                      <a:pt x="15763" y="4"/>
                    </a:moveTo>
                    <a:lnTo>
                      <a:pt x="15763" y="4"/>
                    </a:lnTo>
                    <a:cubicBezTo>
                      <a:pt x="15764" y="4"/>
                      <a:pt x="15765" y="5"/>
                      <a:pt x="15765" y="6"/>
                    </a:cubicBezTo>
                    <a:cubicBezTo>
                      <a:pt x="15765" y="7"/>
                      <a:pt x="15764" y="8"/>
                      <a:pt x="15763" y="8"/>
                    </a:cubicBezTo>
                    <a:lnTo>
                      <a:pt x="15763" y="8"/>
                    </a:lnTo>
                    <a:cubicBezTo>
                      <a:pt x="15761" y="8"/>
                      <a:pt x="15761" y="7"/>
                      <a:pt x="15761" y="6"/>
                    </a:cubicBezTo>
                    <a:cubicBezTo>
                      <a:pt x="15761" y="5"/>
                      <a:pt x="15761" y="4"/>
                      <a:pt x="15763" y="4"/>
                    </a:cubicBezTo>
                    <a:close/>
                    <a:moveTo>
                      <a:pt x="15771" y="4"/>
                    </a:moveTo>
                    <a:lnTo>
                      <a:pt x="15771" y="4"/>
                    </a:lnTo>
                    <a:cubicBezTo>
                      <a:pt x="15772" y="4"/>
                      <a:pt x="15773" y="5"/>
                      <a:pt x="15773" y="6"/>
                    </a:cubicBezTo>
                    <a:cubicBezTo>
                      <a:pt x="15773" y="7"/>
                      <a:pt x="15772" y="8"/>
                      <a:pt x="15771" y="8"/>
                    </a:cubicBezTo>
                    <a:lnTo>
                      <a:pt x="15771" y="8"/>
                    </a:lnTo>
                    <a:cubicBezTo>
                      <a:pt x="15769" y="8"/>
                      <a:pt x="15769" y="7"/>
                      <a:pt x="15769" y="6"/>
                    </a:cubicBezTo>
                    <a:cubicBezTo>
                      <a:pt x="15769" y="5"/>
                      <a:pt x="15769" y="4"/>
                      <a:pt x="15771" y="4"/>
                    </a:cubicBezTo>
                    <a:close/>
                    <a:moveTo>
                      <a:pt x="15779" y="4"/>
                    </a:moveTo>
                    <a:lnTo>
                      <a:pt x="15779" y="4"/>
                    </a:lnTo>
                    <a:cubicBezTo>
                      <a:pt x="15780" y="4"/>
                      <a:pt x="15781" y="5"/>
                      <a:pt x="15781" y="6"/>
                    </a:cubicBezTo>
                    <a:cubicBezTo>
                      <a:pt x="15781" y="7"/>
                      <a:pt x="15780" y="8"/>
                      <a:pt x="15779" y="8"/>
                    </a:cubicBezTo>
                    <a:lnTo>
                      <a:pt x="15779" y="8"/>
                    </a:lnTo>
                    <a:cubicBezTo>
                      <a:pt x="15777" y="8"/>
                      <a:pt x="15777" y="7"/>
                      <a:pt x="15777" y="6"/>
                    </a:cubicBezTo>
                    <a:cubicBezTo>
                      <a:pt x="15777" y="5"/>
                      <a:pt x="15777" y="4"/>
                      <a:pt x="15779" y="4"/>
                    </a:cubicBezTo>
                    <a:close/>
                    <a:moveTo>
                      <a:pt x="15787" y="4"/>
                    </a:moveTo>
                    <a:lnTo>
                      <a:pt x="15787" y="4"/>
                    </a:lnTo>
                    <a:cubicBezTo>
                      <a:pt x="15788" y="4"/>
                      <a:pt x="15789" y="5"/>
                      <a:pt x="15789" y="6"/>
                    </a:cubicBezTo>
                    <a:cubicBezTo>
                      <a:pt x="15789" y="7"/>
                      <a:pt x="15788" y="8"/>
                      <a:pt x="15787" y="8"/>
                    </a:cubicBezTo>
                    <a:lnTo>
                      <a:pt x="15787" y="8"/>
                    </a:lnTo>
                    <a:cubicBezTo>
                      <a:pt x="15785" y="8"/>
                      <a:pt x="15785" y="7"/>
                      <a:pt x="15785" y="6"/>
                    </a:cubicBezTo>
                    <a:cubicBezTo>
                      <a:pt x="15785" y="5"/>
                      <a:pt x="15785" y="4"/>
                      <a:pt x="15787" y="4"/>
                    </a:cubicBezTo>
                    <a:close/>
                    <a:moveTo>
                      <a:pt x="15795" y="4"/>
                    </a:moveTo>
                    <a:lnTo>
                      <a:pt x="15795" y="4"/>
                    </a:lnTo>
                    <a:cubicBezTo>
                      <a:pt x="15796" y="4"/>
                      <a:pt x="15797" y="5"/>
                      <a:pt x="15797" y="6"/>
                    </a:cubicBezTo>
                    <a:cubicBezTo>
                      <a:pt x="15797" y="7"/>
                      <a:pt x="15796" y="8"/>
                      <a:pt x="15795" y="8"/>
                    </a:cubicBezTo>
                    <a:lnTo>
                      <a:pt x="15795" y="8"/>
                    </a:lnTo>
                    <a:cubicBezTo>
                      <a:pt x="15793" y="8"/>
                      <a:pt x="15793" y="7"/>
                      <a:pt x="15793" y="6"/>
                    </a:cubicBezTo>
                    <a:cubicBezTo>
                      <a:pt x="15793" y="5"/>
                      <a:pt x="15793" y="4"/>
                      <a:pt x="15795" y="4"/>
                    </a:cubicBezTo>
                    <a:close/>
                    <a:moveTo>
                      <a:pt x="15803" y="4"/>
                    </a:moveTo>
                    <a:lnTo>
                      <a:pt x="15803" y="4"/>
                    </a:lnTo>
                    <a:cubicBezTo>
                      <a:pt x="15804" y="4"/>
                      <a:pt x="15805" y="5"/>
                      <a:pt x="15805" y="6"/>
                    </a:cubicBezTo>
                    <a:cubicBezTo>
                      <a:pt x="15805" y="7"/>
                      <a:pt x="15804" y="8"/>
                      <a:pt x="15803" y="8"/>
                    </a:cubicBezTo>
                    <a:lnTo>
                      <a:pt x="15803" y="8"/>
                    </a:lnTo>
                    <a:cubicBezTo>
                      <a:pt x="15801" y="8"/>
                      <a:pt x="15801" y="7"/>
                      <a:pt x="15801" y="6"/>
                    </a:cubicBezTo>
                    <a:cubicBezTo>
                      <a:pt x="15801" y="5"/>
                      <a:pt x="15801" y="4"/>
                      <a:pt x="15803" y="4"/>
                    </a:cubicBezTo>
                    <a:close/>
                    <a:moveTo>
                      <a:pt x="15811" y="4"/>
                    </a:moveTo>
                    <a:lnTo>
                      <a:pt x="15811" y="4"/>
                    </a:lnTo>
                    <a:cubicBezTo>
                      <a:pt x="15812" y="4"/>
                      <a:pt x="15813" y="5"/>
                      <a:pt x="15813" y="6"/>
                    </a:cubicBezTo>
                    <a:cubicBezTo>
                      <a:pt x="15813" y="7"/>
                      <a:pt x="15812" y="8"/>
                      <a:pt x="15811" y="8"/>
                    </a:cubicBezTo>
                    <a:lnTo>
                      <a:pt x="15811" y="8"/>
                    </a:lnTo>
                    <a:cubicBezTo>
                      <a:pt x="15809" y="8"/>
                      <a:pt x="15809" y="7"/>
                      <a:pt x="15809" y="6"/>
                    </a:cubicBezTo>
                    <a:cubicBezTo>
                      <a:pt x="15809" y="5"/>
                      <a:pt x="15809" y="4"/>
                      <a:pt x="15811" y="4"/>
                    </a:cubicBezTo>
                    <a:close/>
                    <a:moveTo>
                      <a:pt x="15819" y="4"/>
                    </a:moveTo>
                    <a:lnTo>
                      <a:pt x="15819" y="4"/>
                    </a:lnTo>
                    <a:cubicBezTo>
                      <a:pt x="15820" y="4"/>
                      <a:pt x="15821" y="5"/>
                      <a:pt x="15821" y="6"/>
                    </a:cubicBezTo>
                    <a:cubicBezTo>
                      <a:pt x="15821" y="7"/>
                      <a:pt x="15820" y="8"/>
                      <a:pt x="15819" y="8"/>
                    </a:cubicBezTo>
                    <a:lnTo>
                      <a:pt x="15819" y="8"/>
                    </a:lnTo>
                    <a:cubicBezTo>
                      <a:pt x="15817" y="8"/>
                      <a:pt x="15817" y="7"/>
                      <a:pt x="15817" y="6"/>
                    </a:cubicBezTo>
                    <a:cubicBezTo>
                      <a:pt x="15817" y="5"/>
                      <a:pt x="15817" y="4"/>
                      <a:pt x="15819" y="4"/>
                    </a:cubicBezTo>
                    <a:close/>
                    <a:moveTo>
                      <a:pt x="15827" y="4"/>
                    </a:moveTo>
                    <a:lnTo>
                      <a:pt x="15827" y="4"/>
                    </a:lnTo>
                    <a:cubicBezTo>
                      <a:pt x="15828" y="4"/>
                      <a:pt x="15829" y="5"/>
                      <a:pt x="15829" y="6"/>
                    </a:cubicBezTo>
                    <a:cubicBezTo>
                      <a:pt x="15829" y="7"/>
                      <a:pt x="15828" y="8"/>
                      <a:pt x="15827" y="8"/>
                    </a:cubicBezTo>
                    <a:lnTo>
                      <a:pt x="15827" y="8"/>
                    </a:lnTo>
                    <a:cubicBezTo>
                      <a:pt x="15826" y="8"/>
                      <a:pt x="15825" y="7"/>
                      <a:pt x="15825" y="6"/>
                    </a:cubicBezTo>
                    <a:cubicBezTo>
                      <a:pt x="15825" y="5"/>
                      <a:pt x="15826" y="4"/>
                      <a:pt x="15827" y="4"/>
                    </a:cubicBezTo>
                    <a:close/>
                    <a:moveTo>
                      <a:pt x="15835" y="4"/>
                    </a:moveTo>
                    <a:lnTo>
                      <a:pt x="15835" y="4"/>
                    </a:lnTo>
                    <a:cubicBezTo>
                      <a:pt x="15836" y="4"/>
                      <a:pt x="15837" y="5"/>
                      <a:pt x="15837" y="6"/>
                    </a:cubicBezTo>
                    <a:cubicBezTo>
                      <a:pt x="15837" y="7"/>
                      <a:pt x="15836" y="8"/>
                      <a:pt x="15835" y="8"/>
                    </a:cubicBezTo>
                    <a:lnTo>
                      <a:pt x="15835" y="8"/>
                    </a:lnTo>
                    <a:cubicBezTo>
                      <a:pt x="15834" y="8"/>
                      <a:pt x="15833" y="7"/>
                      <a:pt x="15833" y="6"/>
                    </a:cubicBezTo>
                    <a:cubicBezTo>
                      <a:pt x="15833" y="5"/>
                      <a:pt x="15834" y="4"/>
                      <a:pt x="15835" y="4"/>
                    </a:cubicBezTo>
                    <a:close/>
                    <a:moveTo>
                      <a:pt x="15843" y="4"/>
                    </a:moveTo>
                    <a:lnTo>
                      <a:pt x="15843" y="4"/>
                    </a:lnTo>
                    <a:cubicBezTo>
                      <a:pt x="15844" y="4"/>
                      <a:pt x="15845" y="5"/>
                      <a:pt x="15845" y="6"/>
                    </a:cubicBezTo>
                    <a:cubicBezTo>
                      <a:pt x="15845" y="7"/>
                      <a:pt x="15844" y="8"/>
                      <a:pt x="15843" y="8"/>
                    </a:cubicBezTo>
                    <a:lnTo>
                      <a:pt x="15843" y="8"/>
                    </a:lnTo>
                    <a:cubicBezTo>
                      <a:pt x="15842" y="8"/>
                      <a:pt x="15841" y="7"/>
                      <a:pt x="15841" y="6"/>
                    </a:cubicBezTo>
                    <a:cubicBezTo>
                      <a:pt x="15841" y="5"/>
                      <a:pt x="15842" y="4"/>
                      <a:pt x="15843" y="4"/>
                    </a:cubicBezTo>
                    <a:close/>
                    <a:moveTo>
                      <a:pt x="15851" y="4"/>
                    </a:moveTo>
                    <a:lnTo>
                      <a:pt x="15851" y="4"/>
                    </a:lnTo>
                    <a:cubicBezTo>
                      <a:pt x="15852" y="4"/>
                      <a:pt x="15853" y="5"/>
                      <a:pt x="15853" y="6"/>
                    </a:cubicBezTo>
                    <a:cubicBezTo>
                      <a:pt x="15853" y="7"/>
                      <a:pt x="15852" y="8"/>
                      <a:pt x="15851" y="8"/>
                    </a:cubicBezTo>
                    <a:lnTo>
                      <a:pt x="15851" y="8"/>
                    </a:lnTo>
                    <a:cubicBezTo>
                      <a:pt x="15850" y="8"/>
                      <a:pt x="15849" y="7"/>
                      <a:pt x="15849" y="6"/>
                    </a:cubicBezTo>
                    <a:cubicBezTo>
                      <a:pt x="15849" y="5"/>
                      <a:pt x="15850" y="4"/>
                      <a:pt x="15851" y="4"/>
                    </a:cubicBezTo>
                    <a:close/>
                    <a:moveTo>
                      <a:pt x="15859" y="4"/>
                    </a:moveTo>
                    <a:lnTo>
                      <a:pt x="15859" y="4"/>
                    </a:lnTo>
                    <a:cubicBezTo>
                      <a:pt x="15860" y="4"/>
                      <a:pt x="15861" y="5"/>
                      <a:pt x="15861" y="6"/>
                    </a:cubicBezTo>
                    <a:cubicBezTo>
                      <a:pt x="15861" y="7"/>
                      <a:pt x="15860" y="8"/>
                      <a:pt x="15859" y="8"/>
                    </a:cubicBezTo>
                    <a:lnTo>
                      <a:pt x="15859" y="8"/>
                    </a:lnTo>
                    <a:cubicBezTo>
                      <a:pt x="15858" y="8"/>
                      <a:pt x="15857" y="7"/>
                      <a:pt x="15857" y="6"/>
                    </a:cubicBezTo>
                    <a:cubicBezTo>
                      <a:pt x="15857" y="5"/>
                      <a:pt x="15858" y="4"/>
                      <a:pt x="15859" y="4"/>
                    </a:cubicBezTo>
                    <a:close/>
                    <a:moveTo>
                      <a:pt x="15867" y="4"/>
                    </a:moveTo>
                    <a:lnTo>
                      <a:pt x="15867" y="4"/>
                    </a:lnTo>
                    <a:cubicBezTo>
                      <a:pt x="15868" y="4"/>
                      <a:pt x="15869" y="5"/>
                      <a:pt x="15869" y="6"/>
                    </a:cubicBezTo>
                    <a:cubicBezTo>
                      <a:pt x="15869" y="7"/>
                      <a:pt x="15868" y="8"/>
                      <a:pt x="15867" y="8"/>
                    </a:cubicBezTo>
                    <a:lnTo>
                      <a:pt x="15867" y="8"/>
                    </a:lnTo>
                    <a:cubicBezTo>
                      <a:pt x="15866" y="8"/>
                      <a:pt x="15865" y="7"/>
                      <a:pt x="15865" y="6"/>
                    </a:cubicBezTo>
                    <a:cubicBezTo>
                      <a:pt x="15865" y="5"/>
                      <a:pt x="15866" y="4"/>
                      <a:pt x="15867" y="4"/>
                    </a:cubicBezTo>
                    <a:close/>
                    <a:moveTo>
                      <a:pt x="15875" y="4"/>
                    </a:moveTo>
                    <a:lnTo>
                      <a:pt x="15875" y="4"/>
                    </a:lnTo>
                    <a:cubicBezTo>
                      <a:pt x="15876" y="4"/>
                      <a:pt x="15877" y="5"/>
                      <a:pt x="15877" y="6"/>
                    </a:cubicBezTo>
                    <a:cubicBezTo>
                      <a:pt x="15877" y="7"/>
                      <a:pt x="15876" y="8"/>
                      <a:pt x="15875" y="8"/>
                    </a:cubicBezTo>
                    <a:lnTo>
                      <a:pt x="15875" y="8"/>
                    </a:lnTo>
                    <a:cubicBezTo>
                      <a:pt x="15874" y="8"/>
                      <a:pt x="15873" y="7"/>
                      <a:pt x="15873" y="6"/>
                    </a:cubicBezTo>
                    <a:cubicBezTo>
                      <a:pt x="15873" y="5"/>
                      <a:pt x="15874" y="4"/>
                      <a:pt x="15875" y="4"/>
                    </a:cubicBezTo>
                    <a:close/>
                    <a:moveTo>
                      <a:pt x="15883" y="4"/>
                    </a:moveTo>
                    <a:lnTo>
                      <a:pt x="15883" y="4"/>
                    </a:lnTo>
                    <a:cubicBezTo>
                      <a:pt x="15884" y="4"/>
                      <a:pt x="15885" y="5"/>
                      <a:pt x="15885" y="6"/>
                    </a:cubicBezTo>
                    <a:cubicBezTo>
                      <a:pt x="15885" y="7"/>
                      <a:pt x="15884" y="8"/>
                      <a:pt x="15883" y="8"/>
                    </a:cubicBezTo>
                    <a:lnTo>
                      <a:pt x="15883" y="8"/>
                    </a:lnTo>
                    <a:cubicBezTo>
                      <a:pt x="15882" y="8"/>
                      <a:pt x="15881" y="7"/>
                      <a:pt x="15881" y="6"/>
                    </a:cubicBezTo>
                    <a:cubicBezTo>
                      <a:pt x="15881" y="5"/>
                      <a:pt x="15882" y="4"/>
                      <a:pt x="15883" y="4"/>
                    </a:cubicBezTo>
                    <a:close/>
                    <a:moveTo>
                      <a:pt x="15891" y="4"/>
                    </a:moveTo>
                    <a:lnTo>
                      <a:pt x="15891" y="4"/>
                    </a:lnTo>
                    <a:cubicBezTo>
                      <a:pt x="15892" y="4"/>
                      <a:pt x="15893" y="5"/>
                      <a:pt x="15893" y="6"/>
                    </a:cubicBezTo>
                    <a:cubicBezTo>
                      <a:pt x="15893" y="7"/>
                      <a:pt x="15892" y="8"/>
                      <a:pt x="15891" y="8"/>
                    </a:cubicBezTo>
                    <a:lnTo>
                      <a:pt x="15891" y="8"/>
                    </a:lnTo>
                    <a:cubicBezTo>
                      <a:pt x="15890" y="8"/>
                      <a:pt x="15889" y="7"/>
                      <a:pt x="15889" y="6"/>
                    </a:cubicBezTo>
                    <a:cubicBezTo>
                      <a:pt x="15889" y="5"/>
                      <a:pt x="15890" y="4"/>
                      <a:pt x="15891" y="4"/>
                    </a:cubicBezTo>
                    <a:close/>
                    <a:moveTo>
                      <a:pt x="15899" y="4"/>
                    </a:moveTo>
                    <a:lnTo>
                      <a:pt x="15899" y="4"/>
                    </a:lnTo>
                    <a:cubicBezTo>
                      <a:pt x="15900" y="4"/>
                      <a:pt x="15901" y="5"/>
                      <a:pt x="15901" y="6"/>
                    </a:cubicBezTo>
                    <a:cubicBezTo>
                      <a:pt x="15901" y="7"/>
                      <a:pt x="15900" y="8"/>
                      <a:pt x="15899" y="8"/>
                    </a:cubicBezTo>
                    <a:lnTo>
                      <a:pt x="15899" y="8"/>
                    </a:lnTo>
                    <a:cubicBezTo>
                      <a:pt x="15898" y="8"/>
                      <a:pt x="15897" y="7"/>
                      <a:pt x="15897" y="6"/>
                    </a:cubicBezTo>
                    <a:cubicBezTo>
                      <a:pt x="15897" y="5"/>
                      <a:pt x="15898" y="4"/>
                      <a:pt x="15899" y="4"/>
                    </a:cubicBezTo>
                    <a:close/>
                    <a:moveTo>
                      <a:pt x="15907" y="4"/>
                    </a:moveTo>
                    <a:lnTo>
                      <a:pt x="15907" y="4"/>
                    </a:lnTo>
                    <a:cubicBezTo>
                      <a:pt x="15908" y="4"/>
                      <a:pt x="15909" y="5"/>
                      <a:pt x="15909" y="6"/>
                    </a:cubicBezTo>
                    <a:cubicBezTo>
                      <a:pt x="15909" y="7"/>
                      <a:pt x="15908" y="8"/>
                      <a:pt x="15907" y="8"/>
                    </a:cubicBezTo>
                    <a:lnTo>
                      <a:pt x="15907" y="8"/>
                    </a:lnTo>
                    <a:cubicBezTo>
                      <a:pt x="15906" y="8"/>
                      <a:pt x="15905" y="7"/>
                      <a:pt x="15905" y="6"/>
                    </a:cubicBezTo>
                    <a:cubicBezTo>
                      <a:pt x="15905" y="5"/>
                      <a:pt x="15906" y="4"/>
                      <a:pt x="15907" y="4"/>
                    </a:cubicBezTo>
                    <a:close/>
                    <a:moveTo>
                      <a:pt x="15915" y="4"/>
                    </a:moveTo>
                    <a:lnTo>
                      <a:pt x="15915" y="4"/>
                    </a:lnTo>
                    <a:cubicBezTo>
                      <a:pt x="15916" y="4"/>
                      <a:pt x="15917" y="5"/>
                      <a:pt x="15917" y="6"/>
                    </a:cubicBezTo>
                    <a:cubicBezTo>
                      <a:pt x="15917" y="7"/>
                      <a:pt x="15916" y="8"/>
                      <a:pt x="15915" y="8"/>
                    </a:cubicBezTo>
                    <a:lnTo>
                      <a:pt x="15915" y="8"/>
                    </a:lnTo>
                    <a:cubicBezTo>
                      <a:pt x="15914" y="8"/>
                      <a:pt x="15913" y="7"/>
                      <a:pt x="15913" y="6"/>
                    </a:cubicBezTo>
                    <a:cubicBezTo>
                      <a:pt x="15913" y="5"/>
                      <a:pt x="15914" y="4"/>
                      <a:pt x="15915" y="4"/>
                    </a:cubicBezTo>
                    <a:close/>
                    <a:moveTo>
                      <a:pt x="15923" y="4"/>
                    </a:moveTo>
                    <a:lnTo>
                      <a:pt x="15923" y="4"/>
                    </a:lnTo>
                    <a:cubicBezTo>
                      <a:pt x="15924" y="4"/>
                      <a:pt x="15925" y="5"/>
                      <a:pt x="15925" y="6"/>
                    </a:cubicBezTo>
                    <a:cubicBezTo>
                      <a:pt x="15925" y="7"/>
                      <a:pt x="15924" y="8"/>
                      <a:pt x="15923" y="8"/>
                    </a:cubicBezTo>
                    <a:lnTo>
                      <a:pt x="15923" y="8"/>
                    </a:lnTo>
                    <a:cubicBezTo>
                      <a:pt x="15922" y="8"/>
                      <a:pt x="15921" y="7"/>
                      <a:pt x="15921" y="6"/>
                    </a:cubicBezTo>
                    <a:cubicBezTo>
                      <a:pt x="15921" y="5"/>
                      <a:pt x="15922" y="4"/>
                      <a:pt x="15923" y="4"/>
                    </a:cubicBezTo>
                    <a:close/>
                    <a:moveTo>
                      <a:pt x="15931" y="4"/>
                    </a:moveTo>
                    <a:lnTo>
                      <a:pt x="15931" y="4"/>
                    </a:lnTo>
                    <a:cubicBezTo>
                      <a:pt x="15932" y="4"/>
                      <a:pt x="15933" y="5"/>
                      <a:pt x="15933" y="6"/>
                    </a:cubicBezTo>
                    <a:cubicBezTo>
                      <a:pt x="15933" y="7"/>
                      <a:pt x="15932" y="8"/>
                      <a:pt x="15931" y="8"/>
                    </a:cubicBezTo>
                    <a:lnTo>
                      <a:pt x="15931" y="8"/>
                    </a:lnTo>
                    <a:cubicBezTo>
                      <a:pt x="15930" y="8"/>
                      <a:pt x="15929" y="7"/>
                      <a:pt x="15929" y="6"/>
                    </a:cubicBezTo>
                    <a:cubicBezTo>
                      <a:pt x="15929" y="5"/>
                      <a:pt x="15930" y="4"/>
                      <a:pt x="15931" y="4"/>
                    </a:cubicBezTo>
                    <a:close/>
                    <a:moveTo>
                      <a:pt x="15939" y="4"/>
                    </a:moveTo>
                    <a:lnTo>
                      <a:pt x="15939" y="4"/>
                    </a:lnTo>
                    <a:cubicBezTo>
                      <a:pt x="15940" y="4"/>
                      <a:pt x="15941" y="5"/>
                      <a:pt x="15941" y="6"/>
                    </a:cubicBezTo>
                    <a:cubicBezTo>
                      <a:pt x="15941" y="7"/>
                      <a:pt x="15940" y="8"/>
                      <a:pt x="15939" y="8"/>
                    </a:cubicBezTo>
                    <a:lnTo>
                      <a:pt x="15939" y="8"/>
                    </a:lnTo>
                    <a:cubicBezTo>
                      <a:pt x="15938" y="8"/>
                      <a:pt x="15937" y="7"/>
                      <a:pt x="15937" y="6"/>
                    </a:cubicBezTo>
                    <a:cubicBezTo>
                      <a:pt x="15937" y="5"/>
                      <a:pt x="15938" y="4"/>
                      <a:pt x="15939" y="4"/>
                    </a:cubicBezTo>
                    <a:close/>
                    <a:moveTo>
                      <a:pt x="15947" y="4"/>
                    </a:moveTo>
                    <a:lnTo>
                      <a:pt x="15947" y="4"/>
                    </a:lnTo>
                    <a:cubicBezTo>
                      <a:pt x="15948" y="4"/>
                      <a:pt x="15949" y="5"/>
                      <a:pt x="15949" y="6"/>
                    </a:cubicBezTo>
                    <a:cubicBezTo>
                      <a:pt x="15949" y="7"/>
                      <a:pt x="15948" y="8"/>
                      <a:pt x="15947" y="8"/>
                    </a:cubicBezTo>
                    <a:lnTo>
                      <a:pt x="15947" y="8"/>
                    </a:lnTo>
                    <a:cubicBezTo>
                      <a:pt x="15946" y="8"/>
                      <a:pt x="15945" y="7"/>
                      <a:pt x="15945" y="6"/>
                    </a:cubicBezTo>
                    <a:cubicBezTo>
                      <a:pt x="15945" y="5"/>
                      <a:pt x="15946" y="4"/>
                      <a:pt x="15947" y="4"/>
                    </a:cubicBezTo>
                    <a:close/>
                    <a:moveTo>
                      <a:pt x="15955" y="4"/>
                    </a:moveTo>
                    <a:lnTo>
                      <a:pt x="15955" y="4"/>
                    </a:lnTo>
                    <a:cubicBezTo>
                      <a:pt x="15956" y="4"/>
                      <a:pt x="15957" y="5"/>
                      <a:pt x="15957" y="6"/>
                    </a:cubicBezTo>
                    <a:cubicBezTo>
                      <a:pt x="15957" y="7"/>
                      <a:pt x="15956" y="8"/>
                      <a:pt x="15955" y="8"/>
                    </a:cubicBezTo>
                    <a:lnTo>
                      <a:pt x="15955" y="8"/>
                    </a:lnTo>
                    <a:cubicBezTo>
                      <a:pt x="15954" y="8"/>
                      <a:pt x="15953" y="7"/>
                      <a:pt x="15953" y="6"/>
                    </a:cubicBezTo>
                    <a:cubicBezTo>
                      <a:pt x="15953" y="5"/>
                      <a:pt x="15954" y="4"/>
                      <a:pt x="15955" y="4"/>
                    </a:cubicBezTo>
                    <a:close/>
                    <a:moveTo>
                      <a:pt x="15963" y="4"/>
                    </a:moveTo>
                    <a:lnTo>
                      <a:pt x="15963" y="4"/>
                    </a:lnTo>
                    <a:cubicBezTo>
                      <a:pt x="15964" y="4"/>
                      <a:pt x="15965" y="5"/>
                      <a:pt x="15965" y="6"/>
                    </a:cubicBezTo>
                    <a:cubicBezTo>
                      <a:pt x="15965" y="7"/>
                      <a:pt x="15964" y="8"/>
                      <a:pt x="15963" y="8"/>
                    </a:cubicBezTo>
                    <a:lnTo>
                      <a:pt x="15963" y="8"/>
                    </a:lnTo>
                    <a:cubicBezTo>
                      <a:pt x="15962" y="8"/>
                      <a:pt x="15961" y="7"/>
                      <a:pt x="15961" y="6"/>
                    </a:cubicBezTo>
                    <a:cubicBezTo>
                      <a:pt x="15961" y="5"/>
                      <a:pt x="15962" y="4"/>
                      <a:pt x="15963" y="4"/>
                    </a:cubicBezTo>
                    <a:close/>
                    <a:moveTo>
                      <a:pt x="15971" y="4"/>
                    </a:moveTo>
                    <a:lnTo>
                      <a:pt x="15971" y="4"/>
                    </a:lnTo>
                    <a:cubicBezTo>
                      <a:pt x="15972" y="4"/>
                      <a:pt x="15973" y="5"/>
                      <a:pt x="15973" y="6"/>
                    </a:cubicBezTo>
                    <a:cubicBezTo>
                      <a:pt x="15973" y="7"/>
                      <a:pt x="15972" y="8"/>
                      <a:pt x="15971" y="8"/>
                    </a:cubicBezTo>
                    <a:lnTo>
                      <a:pt x="15971" y="8"/>
                    </a:lnTo>
                    <a:cubicBezTo>
                      <a:pt x="15970" y="8"/>
                      <a:pt x="15969" y="7"/>
                      <a:pt x="15969" y="6"/>
                    </a:cubicBezTo>
                    <a:cubicBezTo>
                      <a:pt x="15969" y="5"/>
                      <a:pt x="15970" y="4"/>
                      <a:pt x="15971" y="4"/>
                    </a:cubicBezTo>
                    <a:close/>
                    <a:moveTo>
                      <a:pt x="15979" y="4"/>
                    </a:moveTo>
                    <a:lnTo>
                      <a:pt x="15979" y="4"/>
                    </a:lnTo>
                    <a:cubicBezTo>
                      <a:pt x="15980" y="4"/>
                      <a:pt x="15981" y="5"/>
                      <a:pt x="15981" y="6"/>
                    </a:cubicBezTo>
                    <a:cubicBezTo>
                      <a:pt x="15981" y="7"/>
                      <a:pt x="15980" y="8"/>
                      <a:pt x="15979" y="8"/>
                    </a:cubicBezTo>
                    <a:lnTo>
                      <a:pt x="15979" y="8"/>
                    </a:lnTo>
                    <a:cubicBezTo>
                      <a:pt x="15978" y="8"/>
                      <a:pt x="15977" y="7"/>
                      <a:pt x="15977" y="6"/>
                    </a:cubicBezTo>
                    <a:cubicBezTo>
                      <a:pt x="15977" y="5"/>
                      <a:pt x="15978" y="4"/>
                      <a:pt x="15979" y="4"/>
                    </a:cubicBezTo>
                    <a:close/>
                    <a:moveTo>
                      <a:pt x="15987" y="4"/>
                    </a:moveTo>
                    <a:lnTo>
                      <a:pt x="15987" y="4"/>
                    </a:lnTo>
                    <a:cubicBezTo>
                      <a:pt x="15988" y="4"/>
                      <a:pt x="15989" y="5"/>
                      <a:pt x="15989" y="6"/>
                    </a:cubicBezTo>
                    <a:cubicBezTo>
                      <a:pt x="15989" y="7"/>
                      <a:pt x="15988" y="8"/>
                      <a:pt x="15987" y="8"/>
                    </a:cubicBezTo>
                    <a:lnTo>
                      <a:pt x="15987" y="8"/>
                    </a:lnTo>
                    <a:cubicBezTo>
                      <a:pt x="15986" y="8"/>
                      <a:pt x="15985" y="7"/>
                      <a:pt x="15985" y="6"/>
                    </a:cubicBezTo>
                    <a:cubicBezTo>
                      <a:pt x="15985" y="5"/>
                      <a:pt x="15986" y="4"/>
                      <a:pt x="15987" y="4"/>
                    </a:cubicBezTo>
                    <a:close/>
                    <a:moveTo>
                      <a:pt x="15995" y="4"/>
                    </a:moveTo>
                    <a:lnTo>
                      <a:pt x="15995" y="4"/>
                    </a:lnTo>
                    <a:cubicBezTo>
                      <a:pt x="15996" y="4"/>
                      <a:pt x="15997" y="5"/>
                      <a:pt x="15997" y="6"/>
                    </a:cubicBezTo>
                    <a:cubicBezTo>
                      <a:pt x="15997" y="7"/>
                      <a:pt x="15996" y="8"/>
                      <a:pt x="15995" y="8"/>
                    </a:cubicBezTo>
                    <a:lnTo>
                      <a:pt x="15995" y="8"/>
                    </a:lnTo>
                    <a:cubicBezTo>
                      <a:pt x="15994" y="8"/>
                      <a:pt x="15993" y="7"/>
                      <a:pt x="15993" y="6"/>
                    </a:cubicBezTo>
                    <a:cubicBezTo>
                      <a:pt x="15993" y="5"/>
                      <a:pt x="15994" y="4"/>
                      <a:pt x="15995" y="4"/>
                    </a:cubicBezTo>
                    <a:close/>
                    <a:moveTo>
                      <a:pt x="16003" y="4"/>
                    </a:moveTo>
                    <a:lnTo>
                      <a:pt x="16003" y="4"/>
                    </a:lnTo>
                    <a:cubicBezTo>
                      <a:pt x="16004" y="4"/>
                      <a:pt x="16005" y="5"/>
                      <a:pt x="16005" y="6"/>
                    </a:cubicBezTo>
                    <a:cubicBezTo>
                      <a:pt x="16005" y="7"/>
                      <a:pt x="16004" y="8"/>
                      <a:pt x="16003" y="8"/>
                    </a:cubicBezTo>
                    <a:lnTo>
                      <a:pt x="16003" y="8"/>
                    </a:lnTo>
                    <a:cubicBezTo>
                      <a:pt x="16002" y="8"/>
                      <a:pt x="16001" y="7"/>
                      <a:pt x="16001" y="6"/>
                    </a:cubicBezTo>
                    <a:cubicBezTo>
                      <a:pt x="16001" y="5"/>
                      <a:pt x="16002" y="4"/>
                      <a:pt x="16003" y="4"/>
                    </a:cubicBezTo>
                    <a:close/>
                    <a:moveTo>
                      <a:pt x="16011" y="4"/>
                    </a:moveTo>
                    <a:lnTo>
                      <a:pt x="16011" y="4"/>
                    </a:lnTo>
                    <a:cubicBezTo>
                      <a:pt x="16012" y="4"/>
                      <a:pt x="16013" y="5"/>
                      <a:pt x="16013" y="6"/>
                    </a:cubicBezTo>
                    <a:cubicBezTo>
                      <a:pt x="16013" y="7"/>
                      <a:pt x="16012" y="8"/>
                      <a:pt x="16011" y="8"/>
                    </a:cubicBezTo>
                    <a:lnTo>
                      <a:pt x="16011" y="8"/>
                    </a:lnTo>
                    <a:cubicBezTo>
                      <a:pt x="16010" y="8"/>
                      <a:pt x="16009" y="7"/>
                      <a:pt x="16009" y="6"/>
                    </a:cubicBezTo>
                    <a:cubicBezTo>
                      <a:pt x="16009" y="5"/>
                      <a:pt x="16010" y="4"/>
                      <a:pt x="16011" y="4"/>
                    </a:cubicBezTo>
                    <a:close/>
                    <a:moveTo>
                      <a:pt x="16019" y="4"/>
                    </a:moveTo>
                    <a:lnTo>
                      <a:pt x="16019" y="4"/>
                    </a:lnTo>
                    <a:cubicBezTo>
                      <a:pt x="16020" y="4"/>
                      <a:pt x="16021" y="5"/>
                      <a:pt x="16021" y="6"/>
                    </a:cubicBezTo>
                    <a:cubicBezTo>
                      <a:pt x="16021" y="7"/>
                      <a:pt x="16020" y="8"/>
                      <a:pt x="16019" y="8"/>
                    </a:cubicBezTo>
                    <a:lnTo>
                      <a:pt x="16019" y="8"/>
                    </a:lnTo>
                    <a:cubicBezTo>
                      <a:pt x="16018" y="8"/>
                      <a:pt x="16017" y="7"/>
                      <a:pt x="16017" y="6"/>
                    </a:cubicBezTo>
                    <a:cubicBezTo>
                      <a:pt x="16017" y="5"/>
                      <a:pt x="16018" y="4"/>
                      <a:pt x="16019" y="4"/>
                    </a:cubicBezTo>
                    <a:close/>
                    <a:moveTo>
                      <a:pt x="16027" y="4"/>
                    </a:moveTo>
                    <a:lnTo>
                      <a:pt x="16027" y="4"/>
                    </a:lnTo>
                    <a:cubicBezTo>
                      <a:pt x="16028" y="4"/>
                      <a:pt x="16029" y="5"/>
                      <a:pt x="16029" y="6"/>
                    </a:cubicBezTo>
                    <a:cubicBezTo>
                      <a:pt x="16029" y="7"/>
                      <a:pt x="16028" y="8"/>
                      <a:pt x="16027" y="8"/>
                    </a:cubicBezTo>
                    <a:lnTo>
                      <a:pt x="16027" y="8"/>
                    </a:lnTo>
                    <a:cubicBezTo>
                      <a:pt x="16026" y="8"/>
                      <a:pt x="16025" y="7"/>
                      <a:pt x="16025" y="6"/>
                    </a:cubicBezTo>
                    <a:cubicBezTo>
                      <a:pt x="16025" y="5"/>
                      <a:pt x="16026" y="4"/>
                      <a:pt x="16027" y="4"/>
                    </a:cubicBezTo>
                    <a:close/>
                    <a:moveTo>
                      <a:pt x="16035" y="4"/>
                    </a:moveTo>
                    <a:lnTo>
                      <a:pt x="16035" y="4"/>
                    </a:lnTo>
                    <a:cubicBezTo>
                      <a:pt x="16036" y="4"/>
                      <a:pt x="16037" y="5"/>
                      <a:pt x="16037" y="6"/>
                    </a:cubicBezTo>
                    <a:cubicBezTo>
                      <a:pt x="16037" y="7"/>
                      <a:pt x="16036" y="8"/>
                      <a:pt x="16035" y="8"/>
                    </a:cubicBezTo>
                    <a:lnTo>
                      <a:pt x="16035" y="8"/>
                    </a:lnTo>
                    <a:cubicBezTo>
                      <a:pt x="16034" y="8"/>
                      <a:pt x="16033" y="7"/>
                      <a:pt x="16033" y="6"/>
                    </a:cubicBezTo>
                    <a:cubicBezTo>
                      <a:pt x="16033" y="5"/>
                      <a:pt x="16034" y="4"/>
                      <a:pt x="16035" y="4"/>
                    </a:cubicBezTo>
                    <a:close/>
                    <a:moveTo>
                      <a:pt x="16043" y="4"/>
                    </a:moveTo>
                    <a:lnTo>
                      <a:pt x="16043" y="4"/>
                    </a:lnTo>
                    <a:cubicBezTo>
                      <a:pt x="16044" y="4"/>
                      <a:pt x="16045" y="5"/>
                      <a:pt x="16045" y="6"/>
                    </a:cubicBezTo>
                    <a:cubicBezTo>
                      <a:pt x="16045" y="7"/>
                      <a:pt x="16044" y="8"/>
                      <a:pt x="16043" y="8"/>
                    </a:cubicBezTo>
                    <a:lnTo>
                      <a:pt x="16043" y="8"/>
                    </a:lnTo>
                    <a:cubicBezTo>
                      <a:pt x="16042" y="8"/>
                      <a:pt x="16041" y="7"/>
                      <a:pt x="16041" y="6"/>
                    </a:cubicBezTo>
                    <a:cubicBezTo>
                      <a:pt x="16041" y="5"/>
                      <a:pt x="16042" y="4"/>
                      <a:pt x="16043" y="4"/>
                    </a:cubicBezTo>
                    <a:close/>
                    <a:moveTo>
                      <a:pt x="16051" y="4"/>
                    </a:moveTo>
                    <a:lnTo>
                      <a:pt x="16051" y="4"/>
                    </a:lnTo>
                    <a:cubicBezTo>
                      <a:pt x="16052" y="4"/>
                      <a:pt x="16053" y="5"/>
                      <a:pt x="16053" y="6"/>
                    </a:cubicBezTo>
                    <a:cubicBezTo>
                      <a:pt x="16053" y="7"/>
                      <a:pt x="16052" y="8"/>
                      <a:pt x="16051" y="8"/>
                    </a:cubicBezTo>
                    <a:lnTo>
                      <a:pt x="16051" y="8"/>
                    </a:lnTo>
                    <a:cubicBezTo>
                      <a:pt x="16050" y="8"/>
                      <a:pt x="16049" y="7"/>
                      <a:pt x="16049" y="6"/>
                    </a:cubicBezTo>
                    <a:cubicBezTo>
                      <a:pt x="16049" y="5"/>
                      <a:pt x="16050" y="4"/>
                      <a:pt x="16051" y="4"/>
                    </a:cubicBezTo>
                    <a:close/>
                    <a:moveTo>
                      <a:pt x="16059" y="4"/>
                    </a:moveTo>
                    <a:lnTo>
                      <a:pt x="16059" y="4"/>
                    </a:lnTo>
                    <a:cubicBezTo>
                      <a:pt x="16060" y="4"/>
                      <a:pt x="16061" y="5"/>
                      <a:pt x="16061" y="6"/>
                    </a:cubicBezTo>
                    <a:cubicBezTo>
                      <a:pt x="16061" y="7"/>
                      <a:pt x="16060" y="8"/>
                      <a:pt x="16059" y="8"/>
                    </a:cubicBezTo>
                    <a:lnTo>
                      <a:pt x="16059" y="8"/>
                    </a:lnTo>
                    <a:cubicBezTo>
                      <a:pt x="16058" y="8"/>
                      <a:pt x="16057" y="7"/>
                      <a:pt x="16057" y="6"/>
                    </a:cubicBezTo>
                    <a:cubicBezTo>
                      <a:pt x="16057" y="5"/>
                      <a:pt x="16058" y="4"/>
                      <a:pt x="16059" y="4"/>
                    </a:cubicBezTo>
                    <a:close/>
                    <a:moveTo>
                      <a:pt x="16067" y="4"/>
                    </a:moveTo>
                    <a:lnTo>
                      <a:pt x="16067" y="4"/>
                    </a:lnTo>
                    <a:cubicBezTo>
                      <a:pt x="16068" y="4"/>
                      <a:pt x="16069" y="5"/>
                      <a:pt x="16069" y="6"/>
                    </a:cubicBezTo>
                    <a:cubicBezTo>
                      <a:pt x="16069" y="7"/>
                      <a:pt x="16068" y="8"/>
                      <a:pt x="16067" y="8"/>
                    </a:cubicBezTo>
                    <a:lnTo>
                      <a:pt x="16067" y="8"/>
                    </a:lnTo>
                    <a:cubicBezTo>
                      <a:pt x="16066" y="8"/>
                      <a:pt x="16065" y="7"/>
                      <a:pt x="16065" y="6"/>
                    </a:cubicBezTo>
                    <a:cubicBezTo>
                      <a:pt x="16065" y="5"/>
                      <a:pt x="16066" y="4"/>
                      <a:pt x="16067" y="4"/>
                    </a:cubicBezTo>
                    <a:close/>
                    <a:moveTo>
                      <a:pt x="16075" y="4"/>
                    </a:moveTo>
                    <a:lnTo>
                      <a:pt x="16075" y="4"/>
                    </a:lnTo>
                    <a:cubicBezTo>
                      <a:pt x="16076" y="4"/>
                      <a:pt x="16077" y="5"/>
                      <a:pt x="16077" y="6"/>
                    </a:cubicBezTo>
                    <a:cubicBezTo>
                      <a:pt x="16077" y="7"/>
                      <a:pt x="16076" y="8"/>
                      <a:pt x="16075" y="8"/>
                    </a:cubicBezTo>
                    <a:lnTo>
                      <a:pt x="16075" y="8"/>
                    </a:lnTo>
                    <a:cubicBezTo>
                      <a:pt x="16074" y="8"/>
                      <a:pt x="16073" y="7"/>
                      <a:pt x="16073" y="6"/>
                    </a:cubicBezTo>
                    <a:cubicBezTo>
                      <a:pt x="16073" y="5"/>
                      <a:pt x="16074" y="4"/>
                      <a:pt x="16075" y="4"/>
                    </a:cubicBezTo>
                    <a:close/>
                    <a:moveTo>
                      <a:pt x="16083" y="4"/>
                    </a:moveTo>
                    <a:lnTo>
                      <a:pt x="16083" y="4"/>
                    </a:lnTo>
                    <a:cubicBezTo>
                      <a:pt x="16084" y="4"/>
                      <a:pt x="16085" y="5"/>
                      <a:pt x="16085" y="6"/>
                    </a:cubicBezTo>
                    <a:cubicBezTo>
                      <a:pt x="16085" y="7"/>
                      <a:pt x="16084" y="8"/>
                      <a:pt x="16083" y="8"/>
                    </a:cubicBezTo>
                    <a:lnTo>
                      <a:pt x="16083" y="8"/>
                    </a:lnTo>
                    <a:cubicBezTo>
                      <a:pt x="16082" y="8"/>
                      <a:pt x="16081" y="7"/>
                      <a:pt x="16081" y="6"/>
                    </a:cubicBezTo>
                    <a:cubicBezTo>
                      <a:pt x="16081" y="5"/>
                      <a:pt x="16082" y="4"/>
                      <a:pt x="16083" y="4"/>
                    </a:cubicBezTo>
                    <a:close/>
                    <a:moveTo>
                      <a:pt x="16091" y="4"/>
                    </a:moveTo>
                    <a:lnTo>
                      <a:pt x="16091" y="4"/>
                    </a:lnTo>
                    <a:cubicBezTo>
                      <a:pt x="16092" y="4"/>
                      <a:pt x="16093" y="5"/>
                      <a:pt x="16093" y="6"/>
                    </a:cubicBezTo>
                    <a:cubicBezTo>
                      <a:pt x="16093" y="7"/>
                      <a:pt x="16092" y="8"/>
                      <a:pt x="16091" y="8"/>
                    </a:cubicBezTo>
                    <a:lnTo>
                      <a:pt x="16091" y="8"/>
                    </a:lnTo>
                    <a:cubicBezTo>
                      <a:pt x="16090" y="8"/>
                      <a:pt x="16089" y="7"/>
                      <a:pt x="16089" y="6"/>
                    </a:cubicBezTo>
                    <a:cubicBezTo>
                      <a:pt x="16089" y="5"/>
                      <a:pt x="16090" y="4"/>
                      <a:pt x="16091" y="4"/>
                    </a:cubicBezTo>
                    <a:close/>
                    <a:moveTo>
                      <a:pt x="16099" y="4"/>
                    </a:moveTo>
                    <a:lnTo>
                      <a:pt x="16099" y="4"/>
                    </a:lnTo>
                    <a:cubicBezTo>
                      <a:pt x="16100" y="4"/>
                      <a:pt x="16101" y="5"/>
                      <a:pt x="16101" y="6"/>
                    </a:cubicBezTo>
                    <a:cubicBezTo>
                      <a:pt x="16101" y="7"/>
                      <a:pt x="16100" y="8"/>
                      <a:pt x="16099" y="8"/>
                    </a:cubicBezTo>
                    <a:lnTo>
                      <a:pt x="16099" y="8"/>
                    </a:lnTo>
                    <a:cubicBezTo>
                      <a:pt x="16098" y="8"/>
                      <a:pt x="16097" y="7"/>
                      <a:pt x="16097" y="6"/>
                    </a:cubicBezTo>
                    <a:cubicBezTo>
                      <a:pt x="16097" y="5"/>
                      <a:pt x="16098" y="4"/>
                      <a:pt x="16099" y="4"/>
                    </a:cubicBezTo>
                    <a:close/>
                    <a:moveTo>
                      <a:pt x="16107" y="4"/>
                    </a:moveTo>
                    <a:lnTo>
                      <a:pt x="16107" y="4"/>
                    </a:lnTo>
                    <a:cubicBezTo>
                      <a:pt x="16108" y="4"/>
                      <a:pt x="16109" y="5"/>
                      <a:pt x="16109" y="6"/>
                    </a:cubicBezTo>
                    <a:cubicBezTo>
                      <a:pt x="16109" y="7"/>
                      <a:pt x="16108" y="8"/>
                      <a:pt x="16107" y="8"/>
                    </a:cubicBezTo>
                    <a:lnTo>
                      <a:pt x="16107" y="8"/>
                    </a:lnTo>
                    <a:cubicBezTo>
                      <a:pt x="16106" y="8"/>
                      <a:pt x="16105" y="7"/>
                      <a:pt x="16105" y="6"/>
                    </a:cubicBezTo>
                    <a:cubicBezTo>
                      <a:pt x="16105" y="5"/>
                      <a:pt x="16106" y="4"/>
                      <a:pt x="16107" y="4"/>
                    </a:cubicBezTo>
                    <a:close/>
                    <a:moveTo>
                      <a:pt x="16115" y="4"/>
                    </a:moveTo>
                    <a:lnTo>
                      <a:pt x="16115" y="4"/>
                    </a:lnTo>
                    <a:cubicBezTo>
                      <a:pt x="16116" y="4"/>
                      <a:pt x="16117" y="5"/>
                      <a:pt x="16117" y="6"/>
                    </a:cubicBezTo>
                    <a:cubicBezTo>
                      <a:pt x="16117" y="7"/>
                      <a:pt x="16116" y="8"/>
                      <a:pt x="16115" y="8"/>
                    </a:cubicBezTo>
                    <a:lnTo>
                      <a:pt x="16115" y="8"/>
                    </a:lnTo>
                    <a:cubicBezTo>
                      <a:pt x="16114" y="8"/>
                      <a:pt x="16113" y="7"/>
                      <a:pt x="16113" y="6"/>
                    </a:cubicBezTo>
                    <a:cubicBezTo>
                      <a:pt x="16113" y="5"/>
                      <a:pt x="16114" y="4"/>
                      <a:pt x="16115" y="4"/>
                    </a:cubicBezTo>
                    <a:close/>
                    <a:moveTo>
                      <a:pt x="16123" y="4"/>
                    </a:moveTo>
                    <a:lnTo>
                      <a:pt x="16123" y="4"/>
                    </a:lnTo>
                    <a:cubicBezTo>
                      <a:pt x="16124" y="4"/>
                      <a:pt x="16125" y="5"/>
                      <a:pt x="16125" y="6"/>
                    </a:cubicBezTo>
                    <a:cubicBezTo>
                      <a:pt x="16125" y="7"/>
                      <a:pt x="16124" y="8"/>
                      <a:pt x="16123" y="8"/>
                    </a:cubicBezTo>
                    <a:lnTo>
                      <a:pt x="16123" y="8"/>
                    </a:lnTo>
                    <a:cubicBezTo>
                      <a:pt x="16122" y="8"/>
                      <a:pt x="16121" y="7"/>
                      <a:pt x="16121" y="6"/>
                    </a:cubicBezTo>
                    <a:cubicBezTo>
                      <a:pt x="16121" y="5"/>
                      <a:pt x="16122" y="4"/>
                      <a:pt x="16123" y="4"/>
                    </a:cubicBezTo>
                    <a:close/>
                    <a:moveTo>
                      <a:pt x="16131" y="4"/>
                    </a:moveTo>
                    <a:lnTo>
                      <a:pt x="16131" y="4"/>
                    </a:lnTo>
                    <a:cubicBezTo>
                      <a:pt x="16132" y="4"/>
                      <a:pt x="16133" y="5"/>
                      <a:pt x="16133" y="6"/>
                    </a:cubicBezTo>
                    <a:cubicBezTo>
                      <a:pt x="16133" y="7"/>
                      <a:pt x="16132" y="8"/>
                      <a:pt x="16131" y="8"/>
                    </a:cubicBezTo>
                    <a:lnTo>
                      <a:pt x="16131" y="8"/>
                    </a:lnTo>
                    <a:cubicBezTo>
                      <a:pt x="16130" y="8"/>
                      <a:pt x="16129" y="7"/>
                      <a:pt x="16129" y="6"/>
                    </a:cubicBezTo>
                    <a:cubicBezTo>
                      <a:pt x="16129" y="5"/>
                      <a:pt x="16130" y="4"/>
                      <a:pt x="16131" y="4"/>
                    </a:cubicBezTo>
                    <a:close/>
                    <a:moveTo>
                      <a:pt x="16139" y="4"/>
                    </a:moveTo>
                    <a:lnTo>
                      <a:pt x="16139" y="4"/>
                    </a:lnTo>
                    <a:cubicBezTo>
                      <a:pt x="16140" y="4"/>
                      <a:pt x="16141" y="5"/>
                      <a:pt x="16141" y="6"/>
                    </a:cubicBezTo>
                    <a:cubicBezTo>
                      <a:pt x="16141" y="7"/>
                      <a:pt x="16140" y="8"/>
                      <a:pt x="16139" y="8"/>
                    </a:cubicBezTo>
                    <a:lnTo>
                      <a:pt x="16139" y="8"/>
                    </a:lnTo>
                    <a:cubicBezTo>
                      <a:pt x="16138" y="8"/>
                      <a:pt x="16137" y="7"/>
                      <a:pt x="16137" y="6"/>
                    </a:cubicBezTo>
                    <a:cubicBezTo>
                      <a:pt x="16137" y="5"/>
                      <a:pt x="16138" y="4"/>
                      <a:pt x="16139" y="4"/>
                    </a:cubicBezTo>
                    <a:close/>
                    <a:moveTo>
                      <a:pt x="16147" y="4"/>
                    </a:moveTo>
                    <a:lnTo>
                      <a:pt x="16147" y="4"/>
                    </a:lnTo>
                    <a:cubicBezTo>
                      <a:pt x="16148" y="4"/>
                      <a:pt x="16149" y="5"/>
                      <a:pt x="16149" y="6"/>
                    </a:cubicBezTo>
                    <a:cubicBezTo>
                      <a:pt x="16149" y="7"/>
                      <a:pt x="16148" y="8"/>
                      <a:pt x="16147" y="8"/>
                    </a:cubicBezTo>
                    <a:lnTo>
                      <a:pt x="16147" y="8"/>
                    </a:lnTo>
                    <a:cubicBezTo>
                      <a:pt x="16146" y="8"/>
                      <a:pt x="16145" y="7"/>
                      <a:pt x="16145" y="6"/>
                    </a:cubicBezTo>
                    <a:cubicBezTo>
                      <a:pt x="16145" y="5"/>
                      <a:pt x="16146" y="4"/>
                      <a:pt x="16147" y="4"/>
                    </a:cubicBezTo>
                    <a:close/>
                    <a:moveTo>
                      <a:pt x="16155" y="4"/>
                    </a:moveTo>
                    <a:lnTo>
                      <a:pt x="16155" y="4"/>
                    </a:lnTo>
                    <a:cubicBezTo>
                      <a:pt x="16156" y="4"/>
                      <a:pt x="16157" y="5"/>
                      <a:pt x="16157" y="6"/>
                    </a:cubicBezTo>
                    <a:cubicBezTo>
                      <a:pt x="16157" y="7"/>
                      <a:pt x="16156" y="8"/>
                      <a:pt x="16155" y="8"/>
                    </a:cubicBezTo>
                    <a:lnTo>
                      <a:pt x="16155" y="8"/>
                    </a:lnTo>
                    <a:cubicBezTo>
                      <a:pt x="16154" y="8"/>
                      <a:pt x="16153" y="7"/>
                      <a:pt x="16153" y="6"/>
                    </a:cubicBezTo>
                    <a:cubicBezTo>
                      <a:pt x="16153" y="5"/>
                      <a:pt x="16154" y="4"/>
                      <a:pt x="16155" y="4"/>
                    </a:cubicBezTo>
                    <a:close/>
                    <a:moveTo>
                      <a:pt x="16163" y="4"/>
                    </a:moveTo>
                    <a:lnTo>
                      <a:pt x="16163" y="4"/>
                    </a:lnTo>
                    <a:cubicBezTo>
                      <a:pt x="16164" y="4"/>
                      <a:pt x="16165" y="5"/>
                      <a:pt x="16165" y="6"/>
                    </a:cubicBezTo>
                    <a:cubicBezTo>
                      <a:pt x="16165" y="7"/>
                      <a:pt x="16164" y="8"/>
                      <a:pt x="16163" y="8"/>
                    </a:cubicBezTo>
                    <a:lnTo>
                      <a:pt x="16163" y="8"/>
                    </a:lnTo>
                    <a:cubicBezTo>
                      <a:pt x="16162" y="8"/>
                      <a:pt x="16161" y="7"/>
                      <a:pt x="16161" y="6"/>
                    </a:cubicBezTo>
                    <a:cubicBezTo>
                      <a:pt x="16161" y="5"/>
                      <a:pt x="16162" y="4"/>
                      <a:pt x="16163" y="4"/>
                    </a:cubicBezTo>
                    <a:close/>
                    <a:moveTo>
                      <a:pt x="16171" y="4"/>
                    </a:moveTo>
                    <a:lnTo>
                      <a:pt x="16171" y="4"/>
                    </a:lnTo>
                    <a:cubicBezTo>
                      <a:pt x="16172" y="4"/>
                      <a:pt x="16173" y="5"/>
                      <a:pt x="16173" y="6"/>
                    </a:cubicBezTo>
                    <a:cubicBezTo>
                      <a:pt x="16173" y="7"/>
                      <a:pt x="16172" y="8"/>
                      <a:pt x="16171" y="8"/>
                    </a:cubicBezTo>
                    <a:lnTo>
                      <a:pt x="16171" y="8"/>
                    </a:lnTo>
                    <a:cubicBezTo>
                      <a:pt x="16170" y="8"/>
                      <a:pt x="16169" y="7"/>
                      <a:pt x="16169" y="6"/>
                    </a:cubicBezTo>
                    <a:cubicBezTo>
                      <a:pt x="16169" y="5"/>
                      <a:pt x="16170" y="4"/>
                      <a:pt x="16171" y="4"/>
                    </a:cubicBezTo>
                    <a:close/>
                    <a:moveTo>
                      <a:pt x="16179" y="4"/>
                    </a:moveTo>
                    <a:lnTo>
                      <a:pt x="16179" y="4"/>
                    </a:lnTo>
                    <a:cubicBezTo>
                      <a:pt x="16180" y="4"/>
                      <a:pt x="16181" y="5"/>
                      <a:pt x="16181" y="6"/>
                    </a:cubicBezTo>
                    <a:cubicBezTo>
                      <a:pt x="16181" y="7"/>
                      <a:pt x="16180" y="8"/>
                      <a:pt x="16179" y="8"/>
                    </a:cubicBezTo>
                    <a:lnTo>
                      <a:pt x="16179" y="8"/>
                    </a:lnTo>
                    <a:cubicBezTo>
                      <a:pt x="16178" y="8"/>
                      <a:pt x="16177" y="7"/>
                      <a:pt x="16177" y="6"/>
                    </a:cubicBezTo>
                    <a:cubicBezTo>
                      <a:pt x="16177" y="5"/>
                      <a:pt x="16178" y="4"/>
                      <a:pt x="16179" y="4"/>
                    </a:cubicBezTo>
                    <a:close/>
                    <a:moveTo>
                      <a:pt x="16187" y="4"/>
                    </a:moveTo>
                    <a:lnTo>
                      <a:pt x="16187" y="4"/>
                    </a:lnTo>
                    <a:cubicBezTo>
                      <a:pt x="16188" y="4"/>
                      <a:pt x="16189" y="5"/>
                      <a:pt x="16189" y="6"/>
                    </a:cubicBezTo>
                    <a:cubicBezTo>
                      <a:pt x="16189" y="7"/>
                      <a:pt x="16188" y="8"/>
                      <a:pt x="16187" y="8"/>
                    </a:cubicBezTo>
                    <a:lnTo>
                      <a:pt x="16187" y="8"/>
                    </a:lnTo>
                    <a:cubicBezTo>
                      <a:pt x="16186" y="8"/>
                      <a:pt x="16185" y="7"/>
                      <a:pt x="16185" y="6"/>
                    </a:cubicBezTo>
                    <a:cubicBezTo>
                      <a:pt x="16185" y="5"/>
                      <a:pt x="16186" y="4"/>
                      <a:pt x="16187" y="4"/>
                    </a:cubicBezTo>
                    <a:close/>
                    <a:moveTo>
                      <a:pt x="16195" y="4"/>
                    </a:moveTo>
                    <a:lnTo>
                      <a:pt x="16195" y="4"/>
                    </a:lnTo>
                    <a:cubicBezTo>
                      <a:pt x="16196" y="4"/>
                      <a:pt x="16197" y="5"/>
                      <a:pt x="16197" y="6"/>
                    </a:cubicBezTo>
                    <a:cubicBezTo>
                      <a:pt x="16197" y="7"/>
                      <a:pt x="16196" y="8"/>
                      <a:pt x="16195" y="8"/>
                    </a:cubicBezTo>
                    <a:lnTo>
                      <a:pt x="16195" y="8"/>
                    </a:lnTo>
                    <a:cubicBezTo>
                      <a:pt x="16194" y="8"/>
                      <a:pt x="16193" y="7"/>
                      <a:pt x="16193" y="6"/>
                    </a:cubicBezTo>
                    <a:cubicBezTo>
                      <a:pt x="16193" y="5"/>
                      <a:pt x="16194" y="4"/>
                      <a:pt x="16195" y="4"/>
                    </a:cubicBezTo>
                    <a:close/>
                    <a:moveTo>
                      <a:pt x="16203" y="4"/>
                    </a:moveTo>
                    <a:lnTo>
                      <a:pt x="16203" y="4"/>
                    </a:lnTo>
                    <a:cubicBezTo>
                      <a:pt x="16204" y="4"/>
                      <a:pt x="16205" y="5"/>
                      <a:pt x="16205" y="6"/>
                    </a:cubicBezTo>
                    <a:cubicBezTo>
                      <a:pt x="16205" y="7"/>
                      <a:pt x="16204" y="8"/>
                      <a:pt x="16203" y="8"/>
                    </a:cubicBezTo>
                    <a:lnTo>
                      <a:pt x="16203" y="8"/>
                    </a:lnTo>
                    <a:cubicBezTo>
                      <a:pt x="16202" y="8"/>
                      <a:pt x="16201" y="7"/>
                      <a:pt x="16201" y="6"/>
                    </a:cubicBezTo>
                    <a:cubicBezTo>
                      <a:pt x="16201" y="5"/>
                      <a:pt x="16202" y="4"/>
                      <a:pt x="16203" y="4"/>
                    </a:cubicBezTo>
                    <a:close/>
                    <a:moveTo>
                      <a:pt x="16211" y="4"/>
                    </a:moveTo>
                    <a:lnTo>
                      <a:pt x="16211" y="4"/>
                    </a:lnTo>
                    <a:cubicBezTo>
                      <a:pt x="16212" y="4"/>
                      <a:pt x="16213" y="5"/>
                      <a:pt x="16213" y="6"/>
                    </a:cubicBezTo>
                    <a:cubicBezTo>
                      <a:pt x="16213" y="7"/>
                      <a:pt x="16212" y="8"/>
                      <a:pt x="16211" y="8"/>
                    </a:cubicBezTo>
                    <a:lnTo>
                      <a:pt x="16211" y="8"/>
                    </a:lnTo>
                    <a:cubicBezTo>
                      <a:pt x="16210" y="8"/>
                      <a:pt x="16209" y="7"/>
                      <a:pt x="16209" y="6"/>
                    </a:cubicBezTo>
                    <a:cubicBezTo>
                      <a:pt x="16209" y="5"/>
                      <a:pt x="16210" y="4"/>
                      <a:pt x="16211" y="4"/>
                    </a:cubicBezTo>
                    <a:close/>
                    <a:moveTo>
                      <a:pt x="16219" y="4"/>
                    </a:moveTo>
                    <a:lnTo>
                      <a:pt x="16219" y="4"/>
                    </a:lnTo>
                    <a:cubicBezTo>
                      <a:pt x="16220" y="4"/>
                      <a:pt x="16221" y="5"/>
                      <a:pt x="16221" y="6"/>
                    </a:cubicBezTo>
                    <a:cubicBezTo>
                      <a:pt x="16221" y="7"/>
                      <a:pt x="16220" y="8"/>
                      <a:pt x="16219" y="8"/>
                    </a:cubicBezTo>
                    <a:lnTo>
                      <a:pt x="16219" y="8"/>
                    </a:lnTo>
                    <a:cubicBezTo>
                      <a:pt x="16218" y="8"/>
                      <a:pt x="16217" y="7"/>
                      <a:pt x="16217" y="6"/>
                    </a:cubicBezTo>
                    <a:cubicBezTo>
                      <a:pt x="16217" y="5"/>
                      <a:pt x="16218" y="4"/>
                      <a:pt x="16219" y="4"/>
                    </a:cubicBezTo>
                    <a:close/>
                    <a:moveTo>
                      <a:pt x="16227" y="4"/>
                    </a:moveTo>
                    <a:lnTo>
                      <a:pt x="16227" y="4"/>
                    </a:lnTo>
                    <a:cubicBezTo>
                      <a:pt x="16228" y="4"/>
                      <a:pt x="16229" y="5"/>
                      <a:pt x="16229" y="6"/>
                    </a:cubicBezTo>
                    <a:cubicBezTo>
                      <a:pt x="16229" y="7"/>
                      <a:pt x="16228" y="8"/>
                      <a:pt x="16227" y="8"/>
                    </a:cubicBezTo>
                    <a:lnTo>
                      <a:pt x="16227" y="8"/>
                    </a:lnTo>
                    <a:cubicBezTo>
                      <a:pt x="16226" y="8"/>
                      <a:pt x="16225" y="7"/>
                      <a:pt x="16225" y="6"/>
                    </a:cubicBezTo>
                    <a:cubicBezTo>
                      <a:pt x="16225" y="5"/>
                      <a:pt x="16226" y="4"/>
                      <a:pt x="16227" y="4"/>
                    </a:cubicBezTo>
                    <a:close/>
                    <a:moveTo>
                      <a:pt x="16235" y="4"/>
                    </a:moveTo>
                    <a:lnTo>
                      <a:pt x="16235" y="4"/>
                    </a:lnTo>
                    <a:cubicBezTo>
                      <a:pt x="16236" y="4"/>
                      <a:pt x="16237" y="5"/>
                      <a:pt x="16237" y="6"/>
                    </a:cubicBezTo>
                    <a:cubicBezTo>
                      <a:pt x="16237" y="7"/>
                      <a:pt x="16236" y="8"/>
                      <a:pt x="16235" y="8"/>
                    </a:cubicBezTo>
                    <a:lnTo>
                      <a:pt x="16235" y="8"/>
                    </a:lnTo>
                    <a:cubicBezTo>
                      <a:pt x="16234" y="8"/>
                      <a:pt x="16233" y="7"/>
                      <a:pt x="16233" y="6"/>
                    </a:cubicBezTo>
                    <a:cubicBezTo>
                      <a:pt x="16233" y="5"/>
                      <a:pt x="16234" y="4"/>
                      <a:pt x="16235" y="4"/>
                    </a:cubicBezTo>
                    <a:close/>
                    <a:moveTo>
                      <a:pt x="16243" y="4"/>
                    </a:moveTo>
                    <a:lnTo>
                      <a:pt x="16243" y="4"/>
                    </a:lnTo>
                    <a:cubicBezTo>
                      <a:pt x="16244" y="4"/>
                      <a:pt x="16245" y="5"/>
                      <a:pt x="16245" y="6"/>
                    </a:cubicBezTo>
                    <a:cubicBezTo>
                      <a:pt x="16245" y="7"/>
                      <a:pt x="16244" y="8"/>
                      <a:pt x="16243" y="8"/>
                    </a:cubicBezTo>
                    <a:lnTo>
                      <a:pt x="16243" y="8"/>
                    </a:lnTo>
                    <a:cubicBezTo>
                      <a:pt x="16242" y="8"/>
                      <a:pt x="16241" y="7"/>
                      <a:pt x="16241" y="6"/>
                    </a:cubicBezTo>
                    <a:cubicBezTo>
                      <a:pt x="16241" y="5"/>
                      <a:pt x="16242" y="4"/>
                      <a:pt x="16243" y="4"/>
                    </a:cubicBezTo>
                    <a:close/>
                    <a:moveTo>
                      <a:pt x="16251" y="4"/>
                    </a:moveTo>
                    <a:lnTo>
                      <a:pt x="16251" y="4"/>
                    </a:lnTo>
                    <a:cubicBezTo>
                      <a:pt x="16252" y="4"/>
                      <a:pt x="16253" y="5"/>
                      <a:pt x="16253" y="6"/>
                    </a:cubicBezTo>
                    <a:cubicBezTo>
                      <a:pt x="16253" y="7"/>
                      <a:pt x="16252" y="8"/>
                      <a:pt x="16251" y="8"/>
                    </a:cubicBezTo>
                    <a:lnTo>
                      <a:pt x="16251" y="8"/>
                    </a:lnTo>
                    <a:cubicBezTo>
                      <a:pt x="16250" y="8"/>
                      <a:pt x="16249" y="7"/>
                      <a:pt x="16249" y="6"/>
                    </a:cubicBezTo>
                    <a:cubicBezTo>
                      <a:pt x="16249" y="5"/>
                      <a:pt x="16250" y="4"/>
                      <a:pt x="16251" y="4"/>
                    </a:cubicBezTo>
                    <a:close/>
                    <a:moveTo>
                      <a:pt x="16259" y="4"/>
                    </a:moveTo>
                    <a:lnTo>
                      <a:pt x="16259" y="4"/>
                    </a:lnTo>
                    <a:cubicBezTo>
                      <a:pt x="16260" y="4"/>
                      <a:pt x="16261" y="5"/>
                      <a:pt x="16261" y="6"/>
                    </a:cubicBezTo>
                    <a:cubicBezTo>
                      <a:pt x="16261" y="7"/>
                      <a:pt x="16260" y="8"/>
                      <a:pt x="16259" y="8"/>
                    </a:cubicBezTo>
                    <a:lnTo>
                      <a:pt x="16259" y="8"/>
                    </a:lnTo>
                    <a:cubicBezTo>
                      <a:pt x="16258" y="8"/>
                      <a:pt x="16257" y="7"/>
                      <a:pt x="16257" y="6"/>
                    </a:cubicBezTo>
                    <a:cubicBezTo>
                      <a:pt x="16257" y="5"/>
                      <a:pt x="16258" y="4"/>
                      <a:pt x="16259" y="4"/>
                    </a:cubicBezTo>
                    <a:close/>
                    <a:moveTo>
                      <a:pt x="16267" y="4"/>
                    </a:moveTo>
                    <a:lnTo>
                      <a:pt x="16267" y="4"/>
                    </a:lnTo>
                    <a:cubicBezTo>
                      <a:pt x="16268" y="4"/>
                      <a:pt x="16269" y="5"/>
                      <a:pt x="16269" y="6"/>
                    </a:cubicBezTo>
                    <a:cubicBezTo>
                      <a:pt x="16269" y="7"/>
                      <a:pt x="16268" y="8"/>
                      <a:pt x="16267" y="8"/>
                    </a:cubicBezTo>
                    <a:lnTo>
                      <a:pt x="16267" y="8"/>
                    </a:lnTo>
                    <a:cubicBezTo>
                      <a:pt x="16266" y="8"/>
                      <a:pt x="16265" y="7"/>
                      <a:pt x="16265" y="6"/>
                    </a:cubicBezTo>
                    <a:cubicBezTo>
                      <a:pt x="16265" y="5"/>
                      <a:pt x="16266" y="4"/>
                      <a:pt x="16267" y="4"/>
                    </a:cubicBezTo>
                    <a:close/>
                    <a:moveTo>
                      <a:pt x="16275" y="4"/>
                    </a:moveTo>
                    <a:lnTo>
                      <a:pt x="16275" y="4"/>
                    </a:lnTo>
                    <a:cubicBezTo>
                      <a:pt x="16276" y="4"/>
                      <a:pt x="16277" y="5"/>
                      <a:pt x="16277" y="6"/>
                    </a:cubicBezTo>
                    <a:cubicBezTo>
                      <a:pt x="16277" y="7"/>
                      <a:pt x="16276" y="8"/>
                      <a:pt x="16275" y="8"/>
                    </a:cubicBezTo>
                    <a:lnTo>
                      <a:pt x="16275" y="8"/>
                    </a:lnTo>
                    <a:cubicBezTo>
                      <a:pt x="16274" y="8"/>
                      <a:pt x="16273" y="7"/>
                      <a:pt x="16273" y="6"/>
                    </a:cubicBezTo>
                    <a:cubicBezTo>
                      <a:pt x="16273" y="5"/>
                      <a:pt x="16274" y="4"/>
                      <a:pt x="16275" y="4"/>
                    </a:cubicBezTo>
                    <a:close/>
                    <a:moveTo>
                      <a:pt x="16283" y="4"/>
                    </a:moveTo>
                    <a:lnTo>
                      <a:pt x="16283" y="4"/>
                    </a:lnTo>
                    <a:cubicBezTo>
                      <a:pt x="16284" y="4"/>
                      <a:pt x="16285" y="5"/>
                      <a:pt x="16285" y="6"/>
                    </a:cubicBezTo>
                    <a:cubicBezTo>
                      <a:pt x="16285" y="7"/>
                      <a:pt x="16284" y="8"/>
                      <a:pt x="16283" y="8"/>
                    </a:cubicBezTo>
                    <a:lnTo>
                      <a:pt x="16283" y="8"/>
                    </a:lnTo>
                    <a:cubicBezTo>
                      <a:pt x="16282" y="8"/>
                      <a:pt x="16281" y="7"/>
                      <a:pt x="16281" y="6"/>
                    </a:cubicBezTo>
                    <a:cubicBezTo>
                      <a:pt x="16281" y="5"/>
                      <a:pt x="16282" y="4"/>
                      <a:pt x="16283" y="4"/>
                    </a:cubicBezTo>
                    <a:close/>
                    <a:moveTo>
                      <a:pt x="16291" y="4"/>
                    </a:moveTo>
                    <a:lnTo>
                      <a:pt x="16291" y="4"/>
                    </a:lnTo>
                    <a:cubicBezTo>
                      <a:pt x="16292" y="4"/>
                      <a:pt x="16293" y="5"/>
                      <a:pt x="16293" y="6"/>
                    </a:cubicBezTo>
                    <a:cubicBezTo>
                      <a:pt x="16293" y="7"/>
                      <a:pt x="16292" y="8"/>
                      <a:pt x="16291" y="8"/>
                    </a:cubicBezTo>
                    <a:lnTo>
                      <a:pt x="16291" y="8"/>
                    </a:lnTo>
                    <a:cubicBezTo>
                      <a:pt x="16290" y="8"/>
                      <a:pt x="16289" y="7"/>
                      <a:pt x="16289" y="6"/>
                    </a:cubicBezTo>
                    <a:cubicBezTo>
                      <a:pt x="16289" y="5"/>
                      <a:pt x="16290" y="4"/>
                      <a:pt x="16291" y="4"/>
                    </a:cubicBezTo>
                    <a:close/>
                    <a:moveTo>
                      <a:pt x="16299" y="4"/>
                    </a:moveTo>
                    <a:lnTo>
                      <a:pt x="16299" y="4"/>
                    </a:lnTo>
                    <a:cubicBezTo>
                      <a:pt x="16300" y="4"/>
                      <a:pt x="16301" y="5"/>
                      <a:pt x="16301" y="6"/>
                    </a:cubicBezTo>
                    <a:cubicBezTo>
                      <a:pt x="16301" y="7"/>
                      <a:pt x="16300" y="8"/>
                      <a:pt x="16299" y="8"/>
                    </a:cubicBezTo>
                    <a:lnTo>
                      <a:pt x="16299" y="8"/>
                    </a:lnTo>
                    <a:cubicBezTo>
                      <a:pt x="16298" y="8"/>
                      <a:pt x="16297" y="7"/>
                      <a:pt x="16297" y="6"/>
                    </a:cubicBezTo>
                    <a:cubicBezTo>
                      <a:pt x="16297" y="5"/>
                      <a:pt x="16298" y="4"/>
                      <a:pt x="16299" y="4"/>
                    </a:cubicBezTo>
                    <a:close/>
                    <a:moveTo>
                      <a:pt x="16307" y="4"/>
                    </a:moveTo>
                    <a:lnTo>
                      <a:pt x="16307" y="4"/>
                    </a:lnTo>
                    <a:cubicBezTo>
                      <a:pt x="16308" y="4"/>
                      <a:pt x="16309" y="5"/>
                      <a:pt x="16309" y="6"/>
                    </a:cubicBezTo>
                    <a:cubicBezTo>
                      <a:pt x="16309" y="7"/>
                      <a:pt x="16308" y="8"/>
                      <a:pt x="16307" y="8"/>
                    </a:cubicBezTo>
                    <a:lnTo>
                      <a:pt x="16307" y="8"/>
                    </a:lnTo>
                    <a:cubicBezTo>
                      <a:pt x="16306" y="8"/>
                      <a:pt x="16305" y="7"/>
                      <a:pt x="16305" y="6"/>
                    </a:cubicBezTo>
                    <a:cubicBezTo>
                      <a:pt x="16305" y="5"/>
                      <a:pt x="16306" y="4"/>
                      <a:pt x="16307" y="4"/>
                    </a:cubicBezTo>
                    <a:close/>
                    <a:moveTo>
                      <a:pt x="16315" y="4"/>
                    </a:moveTo>
                    <a:lnTo>
                      <a:pt x="16315" y="4"/>
                    </a:lnTo>
                    <a:cubicBezTo>
                      <a:pt x="16316" y="4"/>
                      <a:pt x="16317" y="5"/>
                      <a:pt x="16317" y="6"/>
                    </a:cubicBezTo>
                    <a:cubicBezTo>
                      <a:pt x="16317" y="7"/>
                      <a:pt x="16316" y="8"/>
                      <a:pt x="16315" y="8"/>
                    </a:cubicBezTo>
                    <a:lnTo>
                      <a:pt x="16315" y="8"/>
                    </a:lnTo>
                    <a:cubicBezTo>
                      <a:pt x="16314" y="8"/>
                      <a:pt x="16313" y="7"/>
                      <a:pt x="16313" y="6"/>
                    </a:cubicBezTo>
                    <a:cubicBezTo>
                      <a:pt x="16313" y="5"/>
                      <a:pt x="16314" y="4"/>
                      <a:pt x="16315" y="4"/>
                    </a:cubicBezTo>
                    <a:close/>
                    <a:moveTo>
                      <a:pt x="16323" y="4"/>
                    </a:moveTo>
                    <a:lnTo>
                      <a:pt x="16323" y="4"/>
                    </a:lnTo>
                    <a:cubicBezTo>
                      <a:pt x="16324" y="4"/>
                      <a:pt x="16325" y="5"/>
                      <a:pt x="16325" y="6"/>
                    </a:cubicBezTo>
                    <a:cubicBezTo>
                      <a:pt x="16325" y="7"/>
                      <a:pt x="16324" y="8"/>
                      <a:pt x="16323" y="8"/>
                    </a:cubicBezTo>
                    <a:lnTo>
                      <a:pt x="16323" y="8"/>
                    </a:lnTo>
                    <a:cubicBezTo>
                      <a:pt x="16322" y="8"/>
                      <a:pt x="16321" y="7"/>
                      <a:pt x="16321" y="6"/>
                    </a:cubicBezTo>
                    <a:cubicBezTo>
                      <a:pt x="16321" y="5"/>
                      <a:pt x="16322" y="4"/>
                      <a:pt x="16323" y="4"/>
                    </a:cubicBezTo>
                    <a:close/>
                    <a:moveTo>
                      <a:pt x="16331" y="4"/>
                    </a:moveTo>
                    <a:lnTo>
                      <a:pt x="16331" y="4"/>
                    </a:lnTo>
                    <a:cubicBezTo>
                      <a:pt x="16332" y="4"/>
                      <a:pt x="16333" y="5"/>
                      <a:pt x="16333" y="6"/>
                    </a:cubicBezTo>
                    <a:cubicBezTo>
                      <a:pt x="16333" y="7"/>
                      <a:pt x="16332" y="8"/>
                      <a:pt x="16331" y="8"/>
                    </a:cubicBezTo>
                    <a:lnTo>
                      <a:pt x="16331" y="8"/>
                    </a:lnTo>
                    <a:cubicBezTo>
                      <a:pt x="16330" y="8"/>
                      <a:pt x="16329" y="7"/>
                      <a:pt x="16329" y="6"/>
                    </a:cubicBezTo>
                    <a:cubicBezTo>
                      <a:pt x="16329" y="5"/>
                      <a:pt x="16330" y="4"/>
                      <a:pt x="16331" y="4"/>
                    </a:cubicBezTo>
                    <a:close/>
                    <a:moveTo>
                      <a:pt x="16339" y="4"/>
                    </a:moveTo>
                    <a:lnTo>
                      <a:pt x="16339" y="4"/>
                    </a:lnTo>
                    <a:cubicBezTo>
                      <a:pt x="16340" y="4"/>
                      <a:pt x="16341" y="5"/>
                      <a:pt x="16341" y="6"/>
                    </a:cubicBezTo>
                    <a:cubicBezTo>
                      <a:pt x="16341" y="7"/>
                      <a:pt x="16340" y="8"/>
                      <a:pt x="16339" y="8"/>
                    </a:cubicBezTo>
                    <a:lnTo>
                      <a:pt x="16339" y="8"/>
                    </a:lnTo>
                    <a:cubicBezTo>
                      <a:pt x="16338" y="8"/>
                      <a:pt x="16337" y="7"/>
                      <a:pt x="16337" y="6"/>
                    </a:cubicBezTo>
                    <a:cubicBezTo>
                      <a:pt x="16337" y="5"/>
                      <a:pt x="16338" y="4"/>
                      <a:pt x="16339" y="4"/>
                    </a:cubicBezTo>
                    <a:close/>
                    <a:moveTo>
                      <a:pt x="16347" y="4"/>
                    </a:moveTo>
                    <a:lnTo>
                      <a:pt x="16347" y="4"/>
                    </a:lnTo>
                    <a:cubicBezTo>
                      <a:pt x="16348" y="4"/>
                      <a:pt x="16349" y="5"/>
                      <a:pt x="16349" y="6"/>
                    </a:cubicBezTo>
                    <a:cubicBezTo>
                      <a:pt x="16349" y="7"/>
                      <a:pt x="16348" y="8"/>
                      <a:pt x="16347" y="8"/>
                    </a:cubicBezTo>
                    <a:lnTo>
                      <a:pt x="16347" y="8"/>
                    </a:lnTo>
                    <a:cubicBezTo>
                      <a:pt x="16346" y="8"/>
                      <a:pt x="16345" y="7"/>
                      <a:pt x="16345" y="6"/>
                    </a:cubicBezTo>
                    <a:cubicBezTo>
                      <a:pt x="16345" y="5"/>
                      <a:pt x="16346" y="4"/>
                      <a:pt x="16347" y="4"/>
                    </a:cubicBezTo>
                    <a:close/>
                    <a:moveTo>
                      <a:pt x="16355" y="4"/>
                    </a:moveTo>
                    <a:lnTo>
                      <a:pt x="16355" y="4"/>
                    </a:lnTo>
                    <a:cubicBezTo>
                      <a:pt x="16356" y="4"/>
                      <a:pt x="16357" y="5"/>
                      <a:pt x="16357" y="6"/>
                    </a:cubicBezTo>
                    <a:cubicBezTo>
                      <a:pt x="16357" y="7"/>
                      <a:pt x="16356" y="8"/>
                      <a:pt x="16355" y="8"/>
                    </a:cubicBezTo>
                    <a:lnTo>
                      <a:pt x="16355" y="8"/>
                    </a:lnTo>
                    <a:cubicBezTo>
                      <a:pt x="16354" y="8"/>
                      <a:pt x="16353" y="7"/>
                      <a:pt x="16353" y="6"/>
                    </a:cubicBezTo>
                    <a:cubicBezTo>
                      <a:pt x="16353" y="5"/>
                      <a:pt x="16354" y="4"/>
                      <a:pt x="16355" y="4"/>
                    </a:cubicBezTo>
                    <a:close/>
                    <a:moveTo>
                      <a:pt x="16363" y="4"/>
                    </a:moveTo>
                    <a:lnTo>
                      <a:pt x="16363" y="4"/>
                    </a:lnTo>
                    <a:cubicBezTo>
                      <a:pt x="16364" y="4"/>
                      <a:pt x="16365" y="5"/>
                      <a:pt x="16365" y="6"/>
                    </a:cubicBezTo>
                    <a:cubicBezTo>
                      <a:pt x="16365" y="7"/>
                      <a:pt x="16364" y="8"/>
                      <a:pt x="16363" y="8"/>
                    </a:cubicBezTo>
                    <a:lnTo>
                      <a:pt x="16363" y="8"/>
                    </a:lnTo>
                    <a:cubicBezTo>
                      <a:pt x="16362" y="8"/>
                      <a:pt x="16361" y="7"/>
                      <a:pt x="16361" y="6"/>
                    </a:cubicBezTo>
                    <a:cubicBezTo>
                      <a:pt x="16361" y="5"/>
                      <a:pt x="16362" y="4"/>
                      <a:pt x="16363" y="4"/>
                    </a:cubicBezTo>
                    <a:close/>
                    <a:moveTo>
                      <a:pt x="16371" y="4"/>
                    </a:moveTo>
                    <a:lnTo>
                      <a:pt x="16371" y="4"/>
                    </a:lnTo>
                    <a:cubicBezTo>
                      <a:pt x="16372" y="4"/>
                      <a:pt x="16373" y="5"/>
                      <a:pt x="16373" y="6"/>
                    </a:cubicBezTo>
                    <a:cubicBezTo>
                      <a:pt x="16373" y="7"/>
                      <a:pt x="16372" y="8"/>
                      <a:pt x="16371" y="8"/>
                    </a:cubicBezTo>
                    <a:lnTo>
                      <a:pt x="16371" y="8"/>
                    </a:lnTo>
                    <a:cubicBezTo>
                      <a:pt x="16370" y="8"/>
                      <a:pt x="16369" y="7"/>
                      <a:pt x="16369" y="6"/>
                    </a:cubicBezTo>
                    <a:cubicBezTo>
                      <a:pt x="16369" y="5"/>
                      <a:pt x="16370" y="4"/>
                      <a:pt x="16371" y="4"/>
                    </a:cubicBezTo>
                    <a:close/>
                    <a:moveTo>
                      <a:pt x="16379" y="4"/>
                    </a:moveTo>
                    <a:lnTo>
                      <a:pt x="16379" y="4"/>
                    </a:lnTo>
                    <a:cubicBezTo>
                      <a:pt x="16380" y="4"/>
                      <a:pt x="16381" y="5"/>
                      <a:pt x="16381" y="6"/>
                    </a:cubicBezTo>
                    <a:cubicBezTo>
                      <a:pt x="16381" y="7"/>
                      <a:pt x="16380" y="8"/>
                      <a:pt x="16379" y="8"/>
                    </a:cubicBezTo>
                    <a:lnTo>
                      <a:pt x="16379" y="8"/>
                    </a:lnTo>
                    <a:cubicBezTo>
                      <a:pt x="16378" y="8"/>
                      <a:pt x="16377" y="7"/>
                      <a:pt x="16377" y="6"/>
                    </a:cubicBezTo>
                    <a:cubicBezTo>
                      <a:pt x="16377" y="5"/>
                      <a:pt x="16378" y="4"/>
                      <a:pt x="16379" y="4"/>
                    </a:cubicBezTo>
                    <a:close/>
                    <a:moveTo>
                      <a:pt x="16387" y="4"/>
                    </a:moveTo>
                    <a:lnTo>
                      <a:pt x="16387" y="4"/>
                    </a:lnTo>
                    <a:cubicBezTo>
                      <a:pt x="16388" y="4"/>
                      <a:pt x="16389" y="5"/>
                      <a:pt x="16389" y="6"/>
                    </a:cubicBezTo>
                    <a:cubicBezTo>
                      <a:pt x="16389" y="7"/>
                      <a:pt x="16388" y="8"/>
                      <a:pt x="16387" y="8"/>
                    </a:cubicBezTo>
                    <a:lnTo>
                      <a:pt x="16387" y="8"/>
                    </a:lnTo>
                    <a:cubicBezTo>
                      <a:pt x="16386" y="8"/>
                      <a:pt x="16385" y="7"/>
                      <a:pt x="16385" y="6"/>
                    </a:cubicBezTo>
                    <a:cubicBezTo>
                      <a:pt x="16385" y="5"/>
                      <a:pt x="16386" y="4"/>
                      <a:pt x="16387" y="4"/>
                    </a:cubicBezTo>
                    <a:close/>
                    <a:moveTo>
                      <a:pt x="16395" y="4"/>
                    </a:moveTo>
                    <a:lnTo>
                      <a:pt x="16395" y="4"/>
                    </a:lnTo>
                    <a:cubicBezTo>
                      <a:pt x="16396" y="4"/>
                      <a:pt x="16397" y="5"/>
                      <a:pt x="16397" y="6"/>
                    </a:cubicBezTo>
                    <a:cubicBezTo>
                      <a:pt x="16397" y="7"/>
                      <a:pt x="16396" y="8"/>
                      <a:pt x="16395" y="8"/>
                    </a:cubicBezTo>
                    <a:lnTo>
                      <a:pt x="16395" y="8"/>
                    </a:lnTo>
                    <a:cubicBezTo>
                      <a:pt x="16394" y="8"/>
                      <a:pt x="16393" y="7"/>
                      <a:pt x="16393" y="6"/>
                    </a:cubicBezTo>
                    <a:cubicBezTo>
                      <a:pt x="16393" y="5"/>
                      <a:pt x="16394" y="4"/>
                      <a:pt x="16395" y="4"/>
                    </a:cubicBezTo>
                    <a:close/>
                    <a:moveTo>
                      <a:pt x="16403" y="4"/>
                    </a:moveTo>
                    <a:lnTo>
                      <a:pt x="16403" y="4"/>
                    </a:lnTo>
                    <a:cubicBezTo>
                      <a:pt x="16404" y="4"/>
                      <a:pt x="16405" y="5"/>
                      <a:pt x="16405" y="6"/>
                    </a:cubicBezTo>
                    <a:cubicBezTo>
                      <a:pt x="16405" y="7"/>
                      <a:pt x="16404" y="8"/>
                      <a:pt x="16403" y="8"/>
                    </a:cubicBezTo>
                    <a:lnTo>
                      <a:pt x="16403" y="8"/>
                    </a:lnTo>
                    <a:cubicBezTo>
                      <a:pt x="16402" y="8"/>
                      <a:pt x="16401" y="7"/>
                      <a:pt x="16401" y="6"/>
                    </a:cubicBezTo>
                    <a:cubicBezTo>
                      <a:pt x="16401" y="5"/>
                      <a:pt x="16402" y="4"/>
                      <a:pt x="16403" y="4"/>
                    </a:cubicBezTo>
                    <a:close/>
                    <a:moveTo>
                      <a:pt x="16411" y="4"/>
                    </a:moveTo>
                    <a:lnTo>
                      <a:pt x="16411" y="4"/>
                    </a:lnTo>
                    <a:cubicBezTo>
                      <a:pt x="16412" y="4"/>
                      <a:pt x="16413" y="5"/>
                      <a:pt x="16413" y="6"/>
                    </a:cubicBezTo>
                    <a:cubicBezTo>
                      <a:pt x="16413" y="7"/>
                      <a:pt x="16412" y="8"/>
                      <a:pt x="16411" y="8"/>
                    </a:cubicBezTo>
                    <a:lnTo>
                      <a:pt x="16411" y="8"/>
                    </a:lnTo>
                    <a:cubicBezTo>
                      <a:pt x="16410" y="8"/>
                      <a:pt x="16409" y="7"/>
                      <a:pt x="16409" y="6"/>
                    </a:cubicBezTo>
                    <a:cubicBezTo>
                      <a:pt x="16409" y="5"/>
                      <a:pt x="16410" y="4"/>
                      <a:pt x="16411" y="4"/>
                    </a:cubicBezTo>
                    <a:close/>
                    <a:moveTo>
                      <a:pt x="16419" y="4"/>
                    </a:moveTo>
                    <a:lnTo>
                      <a:pt x="16419" y="4"/>
                    </a:lnTo>
                    <a:cubicBezTo>
                      <a:pt x="16420" y="4"/>
                      <a:pt x="16421" y="5"/>
                      <a:pt x="16421" y="6"/>
                    </a:cubicBezTo>
                    <a:cubicBezTo>
                      <a:pt x="16421" y="7"/>
                      <a:pt x="16420" y="8"/>
                      <a:pt x="16419" y="8"/>
                    </a:cubicBezTo>
                    <a:lnTo>
                      <a:pt x="16419" y="8"/>
                    </a:lnTo>
                    <a:cubicBezTo>
                      <a:pt x="16418" y="8"/>
                      <a:pt x="16417" y="7"/>
                      <a:pt x="16417" y="6"/>
                    </a:cubicBezTo>
                    <a:cubicBezTo>
                      <a:pt x="16417" y="5"/>
                      <a:pt x="16418" y="4"/>
                      <a:pt x="16419" y="4"/>
                    </a:cubicBezTo>
                    <a:close/>
                    <a:moveTo>
                      <a:pt x="16427" y="4"/>
                    </a:moveTo>
                    <a:lnTo>
                      <a:pt x="16427" y="4"/>
                    </a:lnTo>
                    <a:cubicBezTo>
                      <a:pt x="16428" y="4"/>
                      <a:pt x="16429" y="5"/>
                      <a:pt x="16429" y="6"/>
                    </a:cubicBezTo>
                    <a:cubicBezTo>
                      <a:pt x="16429" y="7"/>
                      <a:pt x="16428" y="8"/>
                      <a:pt x="16427" y="8"/>
                    </a:cubicBezTo>
                    <a:lnTo>
                      <a:pt x="16427" y="8"/>
                    </a:lnTo>
                    <a:cubicBezTo>
                      <a:pt x="16426" y="8"/>
                      <a:pt x="16425" y="7"/>
                      <a:pt x="16425" y="6"/>
                    </a:cubicBezTo>
                    <a:cubicBezTo>
                      <a:pt x="16425" y="5"/>
                      <a:pt x="16426" y="4"/>
                      <a:pt x="16427" y="4"/>
                    </a:cubicBezTo>
                    <a:close/>
                    <a:moveTo>
                      <a:pt x="16435" y="4"/>
                    </a:moveTo>
                    <a:lnTo>
                      <a:pt x="16435" y="4"/>
                    </a:lnTo>
                    <a:cubicBezTo>
                      <a:pt x="16436" y="4"/>
                      <a:pt x="16437" y="5"/>
                      <a:pt x="16437" y="6"/>
                    </a:cubicBezTo>
                    <a:cubicBezTo>
                      <a:pt x="16437" y="7"/>
                      <a:pt x="16436" y="8"/>
                      <a:pt x="16435" y="8"/>
                    </a:cubicBezTo>
                    <a:lnTo>
                      <a:pt x="16435" y="8"/>
                    </a:lnTo>
                    <a:cubicBezTo>
                      <a:pt x="16434" y="8"/>
                      <a:pt x="16433" y="7"/>
                      <a:pt x="16433" y="6"/>
                    </a:cubicBezTo>
                    <a:cubicBezTo>
                      <a:pt x="16433" y="5"/>
                      <a:pt x="16434" y="4"/>
                      <a:pt x="16435" y="4"/>
                    </a:cubicBezTo>
                    <a:close/>
                    <a:moveTo>
                      <a:pt x="16443" y="4"/>
                    </a:moveTo>
                    <a:lnTo>
                      <a:pt x="16443" y="4"/>
                    </a:lnTo>
                    <a:cubicBezTo>
                      <a:pt x="16444" y="4"/>
                      <a:pt x="16445" y="5"/>
                      <a:pt x="16445" y="6"/>
                    </a:cubicBezTo>
                    <a:cubicBezTo>
                      <a:pt x="16445" y="7"/>
                      <a:pt x="16444" y="8"/>
                      <a:pt x="16443" y="8"/>
                    </a:cubicBezTo>
                    <a:lnTo>
                      <a:pt x="16443" y="8"/>
                    </a:lnTo>
                    <a:cubicBezTo>
                      <a:pt x="16442" y="8"/>
                      <a:pt x="16441" y="7"/>
                      <a:pt x="16441" y="6"/>
                    </a:cubicBezTo>
                    <a:cubicBezTo>
                      <a:pt x="16441" y="5"/>
                      <a:pt x="16442" y="4"/>
                      <a:pt x="16443" y="4"/>
                    </a:cubicBezTo>
                    <a:close/>
                    <a:moveTo>
                      <a:pt x="16451" y="4"/>
                    </a:moveTo>
                    <a:lnTo>
                      <a:pt x="16451" y="4"/>
                    </a:lnTo>
                    <a:cubicBezTo>
                      <a:pt x="16452" y="4"/>
                      <a:pt x="16453" y="5"/>
                      <a:pt x="16453" y="6"/>
                    </a:cubicBezTo>
                    <a:cubicBezTo>
                      <a:pt x="16453" y="7"/>
                      <a:pt x="16452" y="8"/>
                      <a:pt x="16451" y="8"/>
                    </a:cubicBezTo>
                    <a:lnTo>
                      <a:pt x="16451" y="8"/>
                    </a:lnTo>
                    <a:cubicBezTo>
                      <a:pt x="16450" y="8"/>
                      <a:pt x="16449" y="7"/>
                      <a:pt x="16449" y="6"/>
                    </a:cubicBezTo>
                    <a:cubicBezTo>
                      <a:pt x="16449" y="5"/>
                      <a:pt x="16450" y="4"/>
                      <a:pt x="16451" y="4"/>
                    </a:cubicBezTo>
                    <a:close/>
                    <a:moveTo>
                      <a:pt x="16459" y="4"/>
                    </a:moveTo>
                    <a:lnTo>
                      <a:pt x="16459" y="4"/>
                    </a:lnTo>
                    <a:cubicBezTo>
                      <a:pt x="16460" y="4"/>
                      <a:pt x="16461" y="5"/>
                      <a:pt x="16461" y="6"/>
                    </a:cubicBezTo>
                    <a:cubicBezTo>
                      <a:pt x="16461" y="7"/>
                      <a:pt x="16460" y="8"/>
                      <a:pt x="16459" y="8"/>
                    </a:cubicBezTo>
                    <a:lnTo>
                      <a:pt x="16459" y="8"/>
                    </a:lnTo>
                    <a:cubicBezTo>
                      <a:pt x="16458" y="8"/>
                      <a:pt x="16457" y="7"/>
                      <a:pt x="16457" y="6"/>
                    </a:cubicBezTo>
                    <a:cubicBezTo>
                      <a:pt x="16457" y="5"/>
                      <a:pt x="16458" y="4"/>
                      <a:pt x="16459" y="4"/>
                    </a:cubicBezTo>
                    <a:close/>
                    <a:moveTo>
                      <a:pt x="16467" y="4"/>
                    </a:moveTo>
                    <a:lnTo>
                      <a:pt x="16467" y="4"/>
                    </a:lnTo>
                    <a:cubicBezTo>
                      <a:pt x="16468" y="4"/>
                      <a:pt x="16469" y="5"/>
                      <a:pt x="16469" y="6"/>
                    </a:cubicBezTo>
                    <a:cubicBezTo>
                      <a:pt x="16469" y="7"/>
                      <a:pt x="16468" y="8"/>
                      <a:pt x="16467" y="8"/>
                    </a:cubicBezTo>
                    <a:lnTo>
                      <a:pt x="16467" y="8"/>
                    </a:lnTo>
                    <a:cubicBezTo>
                      <a:pt x="16466" y="8"/>
                      <a:pt x="16465" y="7"/>
                      <a:pt x="16465" y="6"/>
                    </a:cubicBezTo>
                    <a:cubicBezTo>
                      <a:pt x="16465" y="5"/>
                      <a:pt x="16466" y="4"/>
                      <a:pt x="16467" y="4"/>
                    </a:cubicBezTo>
                    <a:close/>
                    <a:moveTo>
                      <a:pt x="16475" y="4"/>
                    </a:moveTo>
                    <a:lnTo>
                      <a:pt x="16475" y="4"/>
                    </a:lnTo>
                    <a:cubicBezTo>
                      <a:pt x="16476" y="4"/>
                      <a:pt x="16477" y="5"/>
                      <a:pt x="16477" y="6"/>
                    </a:cubicBezTo>
                    <a:cubicBezTo>
                      <a:pt x="16477" y="7"/>
                      <a:pt x="16476" y="8"/>
                      <a:pt x="16475" y="8"/>
                    </a:cubicBezTo>
                    <a:lnTo>
                      <a:pt x="16475" y="8"/>
                    </a:lnTo>
                    <a:cubicBezTo>
                      <a:pt x="16474" y="8"/>
                      <a:pt x="16473" y="7"/>
                      <a:pt x="16473" y="6"/>
                    </a:cubicBezTo>
                    <a:cubicBezTo>
                      <a:pt x="16473" y="5"/>
                      <a:pt x="16474" y="4"/>
                      <a:pt x="16475" y="4"/>
                    </a:cubicBezTo>
                    <a:close/>
                    <a:moveTo>
                      <a:pt x="16483" y="4"/>
                    </a:moveTo>
                    <a:lnTo>
                      <a:pt x="16483" y="4"/>
                    </a:lnTo>
                    <a:cubicBezTo>
                      <a:pt x="16484" y="4"/>
                      <a:pt x="16485" y="5"/>
                      <a:pt x="16485" y="6"/>
                    </a:cubicBezTo>
                    <a:cubicBezTo>
                      <a:pt x="16485" y="7"/>
                      <a:pt x="16484" y="8"/>
                      <a:pt x="16483" y="8"/>
                    </a:cubicBezTo>
                    <a:lnTo>
                      <a:pt x="16483" y="8"/>
                    </a:lnTo>
                    <a:cubicBezTo>
                      <a:pt x="16482" y="8"/>
                      <a:pt x="16481" y="7"/>
                      <a:pt x="16481" y="6"/>
                    </a:cubicBezTo>
                    <a:cubicBezTo>
                      <a:pt x="16481" y="5"/>
                      <a:pt x="16482" y="4"/>
                      <a:pt x="16483" y="4"/>
                    </a:cubicBezTo>
                    <a:close/>
                    <a:moveTo>
                      <a:pt x="16491" y="4"/>
                    </a:moveTo>
                    <a:lnTo>
                      <a:pt x="16491" y="4"/>
                    </a:lnTo>
                    <a:cubicBezTo>
                      <a:pt x="16492" y="4"/>
                      <a:pt x="16493" y="5"/>
                      <a:pt x="16493" y="6"/>
                    </a:cubicBezTo>
                    <a:cubicBezTo>
                      <a:pt x="16493" y="7"/>
                      <a:pt x="16492" y="8"/>
                      <a:pt x="16491" y="8"/>
                    </a:cubicBezTo>
                    <a:lnTo>
                      <a:pt x="16491" y="8"/>
                    </a:lnTo>
                    <a:cubicBezTo>
                      <a:pt x="16490" y="8"/>
                      <a:pt x="16489" y="7"/>
                      <a:pt x="16489" y="6"/>
                    </a:cubicBezTo>
                    <a:cubicBezTo>
                      <a:pt x="16489" y="5"/>
                      <a:pt x="16490" y="4"/>
                      <a:pt x="16491" y="4"/>
                    </a:cubicBezTo>
                    <a:close/>
                    <a:moveTo>
                      <a:pt x="16499" y="4"/>
                    </a:moveTo>
                    <a:lnTo>
                      <a:pt x="16499" y="4"/>
                    </a:lnTo>
                    <a:cubicBezTo>
                      <a:pt x="16500" y="4"/>
                      <a:pt x="16501" y="5"/>
                      <a:pt x="16501" y="6"/>
                    </a:cubicBezTo>
                    <a:cubicBezTo>
                      <a:pt x="16501" y="7"/>
                      <a:pt x="16500" y="8"/>
                      <a:pt x="16499" y="8"/>
                    </a:cubicBezTo>
                    <a:lnTo>
                      <a:pt x="16499" y="8"/>
                    </a:lnTo>
                    <a:cubicBezTo>
                      <a:pt x="16498" y="8"/>
                      <a:pt x="16497" y="7"/>
                      <a:pt x="16497" y="6"/>
                    </a:cubicBezTo>
                    <a:cubicBezTo>
                      <a:pt x="16497" y="5"/>
                      <a:pt x="16498" y="4"/>
                      <a:pt x="16499" y="4"/>
                    </a:cubicBezTo>
                    <a:close/>
                    <a:moveTo>
                      <a:pt x="16507" y="4"/>
                    </a:moveTo>
                    <a:lnTo>
                      <a:pt x="16507" y="4"/>
                    </a:lnTo>
                    <a:cubicBezTo>
                      <a:pt x="16508" y="4"/>
                      <a:pt x="16509" y="5"/>
                      <a:pt x="16509" y="6"/>
                    </a:cubicBezTo>
                    <a:cubicBezTo>
                      <a:pt x="16509" y="7"/>
                      <a:pt x="16508" y="8"/>
                      <a:pt x="16507" y="8"/>
                    </a:cubicBezTo>
                    <a:lnTo>
                      <a:pt x="16507" y="8"/>
                    </a:lnTo>
                    <a:cubicBezTo>
                      <a:pt x="16506" y="8"/>
                      <a:pt x="16505" y="7"/>
                      <a:pt x="16505" y="6"/>
                    </a:cubicBezTo>
                    <a:cubicBezTo>
                      <a:pt x="16505" y="5"/>
                      <a:pt x="16506" y="4"/>
                      <a:pt x="16507" y="4"/>
                    </a:cubicBezTo>
                    <a:close/>
                    <a:moveTo>
                      <a:pt x="16515" y="4"/>
                    </a:moveTo>
                    <a:lnTo>
                      <a:pt x="16515" y="4"/>
                    </a:lnTo>
                    <a:cubicBezTo>
                      <a:pt x="16516" y="4"/>
                      <a:pt x="16517" y="5"/>
                      <a:pt x="16517" y="6"/>
                    </a:cubicBezTo>
                    <a:cubicBezTo>
                      <a:pt x="16517" y="7"/>
                      <a:pt x="16516" y="8"/>
                      <a:pt x="16515" y="8"/>
                    </a:cubicBezTo>
                    <a:lnTo>
                      <a:pt x="16515" y="8"/>
                    </a:lnTo>
                    <a:cubicBezTo>
                      <a:pt x="16514" y="8"/>
                      <a:pt x="16513" y="7"/>
                      <a:pt x="16513" y="6"/>
                    </a:cubicBezTo>
                    <a:cubicBezTo>
                      <a:pt x="16513" y="5"/>
                      <a:pt x="16514" y="4"/>
                      <a:pt x="16515" y="4"/>
                    </a:cubicBezTo>
                    <a:close/>
                    <a:moveTo>
                      <a:pt x="16523" y="4"/>
                    </a:moveTo>
                    <a:lnTo>
                      <a:pt x="16523" y="4"/>
                    </a:lnTo>
                    <a:cubicBezTo>
                      <a:pt x="16524" y="4"/>
                      <a:pt x="16525" y="5"/>
                      <a:pt x="16525" y="6"/>
                    </a:cubicBezTo>
                    <a:cubicBezTo>
                      <a:pt x="16525" y="7"/>
                      <a:pt x="16524" y="8"/>
                      <a:pt x="16523" y="8"/>
                    </a:cubicBezTo>
                    <a:lnTo>
                      <a:pt x="16523" y="8"/>
                    </a:lnTo>
                    <a:cubicBezTo>
                      <a:pt x="16522" y="8"/>
                      <a:pt x="16521" y="7"/>
                      <a:pt x="16521" y="6"/>
                    </a:cubicBezTo>
                    <a:cubicBezTo>
                      <a:pt x="16521" y="5"/>
                      <a:pt x="16522" y="4"/>
                      <a:pt x="16523" y="4"/>
                    </a:cubicBezTo>
                    <a:close/>
                    <a:moveTo>
                      <a:pt x="16531" y="4"/>
                    </a:moveTo>
                    <a:lnTo>
                      <a:pt x="16531" y="4"/>
                    </a:lnTo>
                    <a:cubicBezTo>
                      <a:pt x="16532" y="4"/>
                      <a:pt x="16533" y="5"/>
                      <a:pt x="16533" y="6"/>
                    </a:cubicBezTo>
                    <a:cubicBezTo>
                      <a:pt x="16533" y="7"/>
                      <a:pt x="16532" y="8"/>
                      <a:pt x="16531" y="8"/>
                    </a:cubicBezTo>
                    <a:lnTo>
                      <a:pt x="16531" y="8"/>
                    </a:lnTo>
                    <a:cubicBezTo>
                      <a:pt x="16530" y="8"/>
                      <a:pt x="16529" y="7"/>
                      <a:pt x="16529" y="6"/>
                    </a:cubicBezTo>
                    <a:cubicBezTo>
                      <a:pt x="16529" y="5"/>
                      <a:pt x="16530" y="4"/>
                      <a:pt x="16531" y="4"/>
                    </a:cubicBezTo>
                    <a:close/>
                    <a:moveTo>
                      <a:pt x="16539" y="4"/>
                    </a:moveTo>
                    <a:lnTo>
                      <a:pt x="16539" y="4"/>
                    </a:lnTo>
                    <a:cubicBezTo>
                      <a:pt x="16540" y="4"/>
                      <a:pt x="16541" y="5"/>
                      <a:pt x="16541" y="6"/>
                    </a:cubicBezTo>
                    <a:cubicBezTo>
                      <a:pt x="16541" y="7"/>
                      <a:pt x="16540" y="8"/>
                      <a:pt x="16539" y="8"/>
                    </a:cubicBezTo>
                    <a:lnTo>
                      <a:pt x="16539" y="8"/>
                    </a:lnTo>
                    <a:cubicBezTo>
                      <a:pt x="16538" y="8"/>
                      <a:pt x="16537" y="7"/>
                      <a:pt x="16537" y="6"/>
                    </a:cubicBezTo>
                    <a:cubicBezTo>
                      <a:pt x="16537" y="5"/>
                      <a:pt x="16538" y="4"/>
                      <a:pt x="16539" y="4"/>
                    </a:cubicBezTo>
                    <a:close/>
                    <a:moveTo>
                      <a:pt x="16547" y="4"/>
                    </a:moveTo>
                    <a:lnTo>
                      <a:pt x="16547" y="4"/>
                    </a:lnTo>
                    <a:cubicBezTo>
                      <a:pt x="16548" y="4"/>
                      <a:pt x="16549" y="5"/>
                      <a:pt x="16549" y="6"/>
                    </a:cubicBezTo>
                    <a:cubicBezTo>
                      <a:pt x="16549" y="7"/>
                      <a:pt x="16548" y="8"/>
                      <a:pt x="16547" y="8"/>
                    </a:cubicBezTo>
                    <a:lnTo>
                      <a:pt x="16547" y="8"/>
                    </a:lnTo>
                    <a:cubicBezTo>
                      <a:pt x="16546" y="8"/>
                      <a:pt x="16545" y="7"/>
                      <a:pt x="16545" y="6"/>
                    </a:cubicBezTo>
                    <a:cubicBezTo>
                      <a:pt x="16545" y="5"/>
                      <a:pt x="16546" y="4"/>
                      <a:pt x="16547" y="4"/>
                    </a:cubicBezTo>
                    <a:close/>
                    <a:moveTo>
                      <a:pt x="16555" y="4"/>
                    </a:moveTo>
                    <a:lnTo>
                      <a:pt x="16555" y="4"/>
                    </a:lnTo>
                    <a:cubicBezTo>
                      <a:pt x="16556" y="4"/>
                      <a:pt x="16557" y="5"/>
                      <a:pt x="16557" y="6"/>
                    </a:cubicBezTo>
                    <a:cubicBezTo>
                      <a:pt x="16557" y="7"/>
                      <a:pt x="16556" y="8"/>
                      <a:pt x="16555" y="8"/>
                    </a:cubicBezTo>
                    <a:lnTo>
                      <a:pt x="16555" y="8"/>
                    </a:lnTo>
                    <a:cubicBezTo>
                      <a:pt x="16554" y="8"/>
                      <a:pt x="16553" y="7"/>
                      <a:pt x="16553" y="6"/>
                    </a:cubicBezTo>
                    <a:cubicBezTo>
                      <a:pt x="16553" y="5"/>
                      <a:pt x="16554" y="4"/>
                      <a:pt x="16555" y="4"/>
                    </a:cubicBezTo>
                    <a:close/>
                    <a:moveTo>
                      <a:pt x="16563" y="4"/>
                    </a:moveTo>
                    <a:lnTo>
                      <a:pt x="16563" y="4"/>
                    </a:lnTo>
                    <a:cubicBezTo>
                      <a:pt x="16564" y="4"/>
                      <a:pt x="16565" y="5"/>
                      <a:pt x="16565" y="6"/>
                    </a:cubicBezTo>
                    <a:cubicBezTo>
                      <a:pt x="16565" y="7"/>
                      <a:pt x="16564" y="8"/>
                      <a:pt x="16563" y="8"/>
                    </a:cubicBezTo>
                    <a:lnTo>
                      <a:pt x="16563" y="8"/>
                    </a:lnTo>
                    <a:cubicBezTo>
                      <a:pt x="16562" y="8"/>
                      <a:pt x="16561" y="7"/>
                      <a:pt x="16561" y="6"/>
                    </a:cubicBezTo>
                    <a:cubicBezTo>
                      <a:pt x="16561" y="5"/>
                      <a:pt x="16562" y="4"/>
                      <a:pt x="16563" y="4"/>
                    </a:cubicBezTo>
                    <a:close/>
                    <a:moveTo>
                      <a:pt x="16571" y="4"/>
                    </a:moveTo>
                    <a:lnTo>
                      <a:pt x="16571" y="4"/>
                    </a:lnTo>
                    <a:cubicBezTo>
                      <a:pt x="16572" y="4"/>
                      <a:pt x="16573" y="5"/>
                      <a:pt x="16573" y="6"/>
                    </a:cubicBezTo>
                    <a:cubicBezTo>
                      <a:pt x="16573" y="7"/>
                      <a:pt x="16572" y="8"/>
                      <a:pt x="16571" y="8"/>
                    </a:cubicBezTo>
                    <a:lnTo>
                      <a:pt x="16571" y="8"/>
                    </a:lnTo>
                    <a:cubicBezTo>
                      <a:pt x="16570" y="8"/>
                      <a:pt x="16569" y="7"/>
                      <a:pt x="16569" y="6"/>
                    </a:cubicBezTo>
                    <a:cubicBezTo>
                      <a:pt x="16569" y="5"/>
                      <a:pt x="16570" y="4"/>
                      <a:pt x="16571" y="4"/>
                    </a:cubicBezTo>
                    <a:close/>
                    <a:moveTo>
                      <a:pt x="16579" y="4"/>
                    </a:moveTo>
                    <a:lnTo>
                      <a:pt x="16579" y="4"/>
                    </a:lnTo>
                    <a:cubicBezTo>
                      <a:pt x="16580" y="4"/>
                      <a:pt x="16581" y="5"/>
                      <a:pt x="16581" y="6"/>
                    </a:cubicBezTo>
                    <a:cubicBezTo>
                      <a:pt x="16581" y="7"/>
                      <a:pt x="16580" y="8"/>
                      <a:pt x="16579" y="8"/>
                    </a:cubicBezTo>
                    <a:lnTo>
                      <a:pt x="16579" y="8"/>
                    </a:lnTo>
                    <a:cubicBezTo>
                      <a:pt x="16578" y="8"/>
                      <a:pt x="16577" y="7"/>
                      <a:pt x="16577" y="6"/>
                    </a:cubicBezTo>
                    <a:cubicBezTo>
                      <a:pt x="16577" y="5"/>
                      <a:pt x="16578" y="4"/>
                      <a:pt x="16579" y="4"/>
                    </a:cubicBezTo>
                    <a:close/>
                    <a:moveTo>
                      <a:pt x="16587" y="4"/>
                    </a:moveTo>
                    <a:lnTo>
                      <a:pt x="16587" y="4"/>
                    </a:lnTo>
                    <a:cubicBezTo>
                      <a:pt x="16588" y="4"/>
                      <a:pt x="16589" y="5"/>
                      <a:pt x="16589" y="6"/>
                    </a:cubicBezTo>
                    <a:cubicBezTo>
                      <a:pt x="16589" y="7"/>
                      <a:pt x="16588" y="8"/>
                      <a:pt x="16587" y="8"/>
                    </a:cubicBezTo>
                    <a:lnTo>
                      <a:pt x="16587" y="8"/>
                    </a:lnTo>
                    <a:cubicBezTo>
                      <a:pt x="16586" y="8"/>
                      <a:pt x="16585" y="7"/>
                      <a:pt x="16585" y="6"/>
                    </a:cubicBezTo>
                    <a:cubicBezTo>
                      <a:pt x="16585" y="5"/>
                      <a:pt x="16586" y="4"/>
                      <a:pt x="16587" y="4"/>
                    </a:cubicBezTo>
                    <a:close/>
                    <a:moveTo>
                      <a:pt x="16595" y="4"/>
                    </a:moveTo>
                    <a:lnTo>
                      <a:pt x="16595" y="4"/>
                    </a:lnTo>
                    <a:cubicBezTo>
                      <a:pt x="16596" y="4"/>
                      <a:pt x="16597" y="5"/>
                      <a:pt x="16597" y="6"/>
                    </a:cubicBezTo>
                    <a:cubicBezTo>
                      <a:pt x="16597" y="7"/>
                      <a:pt x="16596" y="8"/>
                      <a:pt x="16595" y="8"/>
                    </a:cubicBezTo>
                    <a:lnTo>
                      <a:pt x="16595" y="8"/>
                    </a:lnTo>
                    <a:cubicBezTo>
                      <a:pt x="16594" y="8"/>
                      <a:pt x="16593" y="7"/>
                      <a:pt x="16593" y="6"/>
                    </a:cubicBezTo>
                    <a:cubicBezTo>
                      <a:pt x="16593" y="5"/>
                      <a:pt x="16594" y="4"/>
                      <a:pt x="16595" y="4"/>
                    </a:cubicBezTo>
                    <a:close/>
                    <a:moveTo>
                      <a:pt x="16603" y="4"/>
                    </a:moveTo>
                    <a:lnTo>
                      <a:pt x="16603" y="4"/>
                    </a:lnTo>
                    <a:cubicBezTo>
                      <a:pt x="16604" y="4"/>
                      <a:pt x="16605" y="5"/>
                      <a:pt x="16605" y="6"/>
                    </a:cubicBezTo>
                    <a:cubicBezTo>
                      <a:pt x="16605" y="7"/>
                      <a:pt x="16604" y="8"/>
                      <a:pt x="16603" y="8"/>
                    </a:cubicBezTo>
                    <a:lnTo>
                      <a:pt x="16603" y="8"/>
                    </a:lnTo>
                    <a:cubicBezTo>
                      <a:pt x="16602" y="8"/>
                      <a:pt x="16601" y="7"/>
                      <a:pt x="16601" y="6"/>
                    </a:cubicBezTo>
                    <a:cubicBezTo>
                      <a:pt x="16601" y="5"/>
                      <a:pt x="16602" y="4"/>
                      <a:pt x="16603" y="4"/>
                    </a:cubicBezTo>
                    <a:close/>
                    <a:moveTo>
                      <a:pt x="16611" y="4"/>
                    </a:moveTo>
                    <a:lnTo>
                      <a:pt x="16611" y="4"/>
                    </a:lnTo>
                    <a:cubicBezTo>
                      <a:pt x="16612" y="4"/>
                      <a:pt x="16613" y="5"/>
                      <a:pt x="16613" y="6"/>
                    </a:cubicBezTo>
                    <a:cubicBezTo>
                      <a:pt x="16613" y="7"/>
                      <a:pt x="16612" y="8"/>
                      <a:pt x="16611" y="8"/>
                    </a:cubicBezTo>
                    <a:lnTo>
                      <a:pt x="16611" y="8"/>
                    </a:lnTo>
                    <a:cubicBezTo>
                      <a:pt x="16610" y="8"/>
                      <a:pt x="16609" y="7"/>
                      <a:pt x="16609" y="6"/>
                    </a:cubicBezTo>
                    <a:cubicBezTo>
                      <a:pt x="16609" y="5"/>
                      <a:pt x="16610" y="4"/>
                      <a:pt x="16611" y="4"/>
                    </a:cubicBezTo>
                    <a:close/>
                    <a:moveTo>
                      <a:pt x="16619" y="4"/>
                    </a:moveTo>
                    <a:lnTo>
                      <a:pt x="16619" y="4"/>
                    </a:lnTo>
                    <a:cubicBezTo>
                      <a:pt x="16620" y="4"/>
                      <a:pt x="16621" y="5"/>
                      <a:pt x="16621" y="6"/>
                    </a:cubicBezTo>
                    <a:cubicBezTo>
                      <a:pt x="16621" y="7"/>
                      <a:pt x="16620" y="8"/>
                      <a:pt x="16619" y="8"/>
                    </a:cubicBezTo>
                    <a:lnTo>
                      <a:pt x="16619" y="8"/>
                    </a:lnTo>
                    <a:cubicBezTo>
                      <a:pt x="16618" y="8"/>
                      <a:pt x="16617" y="7"/>
                      <a:pt x="16617" y="6"/>
                    </a:cubicBezTo>
                    <a:cubicBezTo>
                      <a:pt x="16617" y="5"/>
                      <a:pt x="16618" y="4"/>
                      <a:pt x="16619" y="4"/>
                    </a:cubicBezTo>
                    <a:close/>
                    <a:moveTo>
                      <a:pt x="16627" y="4"/>
                    </a:moveTo>
                    <a:lnTo>
                      <a:pt x="16627" y="4"/>
                    </a:lnTo>
                    <a:cubicBezTo>
                      <a:pt x="16628" y="4"/>
                      <a:pt x="16629" y="5"/>
                      <a:pt x="16629" y="6"/>
                    </a:cubicBezTo>
                    <a:cubicBezTo>
                      <a:pt x="16629" y="7"/>
                      <a:pt x="16628" y="8"/>
                      <a:pt x="16627" y="8"/>
                    </a:cubicBezTo>
                    <a:lnTo>
                      <a:pt x="16627" y="8"/>
                    </a:lnTo>
                    <a:cubicBezTo>
                      <a:pt x="16626" y="8"/>
                      <a:pt x="16625" y="7"/>
                      <a:pt x="16625" y="6"/>
                    </a:cubicBezTo>
                    <a:cubicBezTo>
                      <a:pt x="16625" y="5"/>
                      <a:pt x="16626" y="4"/>
                      <a:pt x="16627" y="4"/>
                    </a:cubicBezTo>
                    <a:close/>
                    <a:moveTo>
                      <a:pt x="16635" y="4"/>
                    </a:moveTo>
                    <a:lnTo>
                      <a:pt x="16635" y="4"/>
                    </a:lnTo>
                    <a:cubicBezTo>
                      <a:pt x="16636" y="4"/>
                      <a:pt x="16637" y="5"/>
                      <a:pt x="16637" y="6"/>
                    </a:cubicBezTo>
                    <a:cubicBezTo>
                      <a:pt x="16637" y="7"/>
                      <a:pt x="16636" y="8"/>
                      <a:pt x="16635" y="8"/>
                    </a:cubicBezTo>
                    <a:lnTo>
                      <a:pt x="16635" y="8"/>
                    </a:lnTo>
                    <a:cubicBezTo>
                      <a:pt x="16634" y="8"/>
                      <a:pt x="16633" y="7"/>
                      <a:pt x="16633" y="6"/>
                    </a:cubicBezTo>
                    <a:cubicBezTo>
                      <a:pt x="16633" y="5"/>
                      <a:pt x="16634" y="4"/>
                      <a:pt x="16635" y="4"/>
                    </a:cubicBezTo>
                    <a:close/>
                    <a:moveTo>
                      <a:pt x="16643" y="4"/>
                    </a:moveTo>
                    <a:lnTo>
                      <a:pt x="16643" y="4"/>
                    </a:lnTo>
                    <a:cubicBezTo>
                      <a:pt x="16644" y="4"/>
                      <a:pt x="16645" y="5"/>
                      <a:pt x="16645" y="6"/>
                    </a:cubicBezTo>
                    <a:cubicBezTo>
                      <a:pt x="16645" y="7"/>
                      <a:pt x="16644" y="8"/>
                      <a:pt x="16643" y="8"/>
                    </a:cubicBezTo>
                    <a:lnTo>
                      <a:pt x="16643" y="8"/>
                    </a:lnTo>
                    <a:cubicBezTo>
                      <a:pt x="16642" y="8"/>
                      <a:pt x="16641" y="7"/>
                      <a:pt x="16641" y="6"/>
                    </a:cubicBezTo>
                    <a:cubicBezTo>
                      <a:pt x="16641" y="5"/>
                      <a:pt x="16642" y="4"/>
                      <a:pt x="16643" y="4"/>
                    </a:cubicBezTo>
                    <a:close/>
                    <a:moveTo>
                      <a:pt x="16651" y="4"/>
                    </a:moveTo>
                    <a:lnTo>
                      <a:pt x="16651" y="4"/>
                    </a:lnTo>
                    <a:cubicBezTo>
                      <a:pt x="16652" y="4"/>
                      <a:pt x="16653" y="5"/>
                      <a:pt x="16653" y="6"/>
                    </a:cubicBezTo>
                    <a:cubicBezTo>
                      <a:pt x="16653" y="7"/>
                      <a:pt x="16652" y="8"/>
                      <a:pt x="16651" y="8"/>
                    </a:cubicBezTo>
                    <a:lnTo>
                      <a:pt x="16651" y="8"/>
                    </a:lnTo>
                    <a:cubicBezTo>
                      <a:pt x="16650" y="8"/>
                      <a:pt x="16649" y="7"/>
                      <a:pt x="16649" y="6"/>
                    </a:cubicBezTo>
                    <a:cubicBezTo>
                      <a:pt x="16649" y="5"/>
                      <a:pt x="16650" y="4"/>
                      <a:pt x="16651" y="4"/>
                    </a:cubicBezTo>
                    <a:close/>
                    <a:moveTo>
                      <a:pt x="16659" y="4"/>
                    </a:moveTo>
                    <a:lnTo>
                      <a:pt x="16659" y="4"/>
                    </a:lnTo>
                    <a:cubicBezTo>
                      <a:pt x="16660" y="4"/>
                      <a:pt x="16661" y="5"/>
                      <a:pt x="16661" y="6"/>
                    </a:cubicBezTo>
                    <a:cubicBezTo>
                      <a:pt x="16661" y="7"/>
                      <a:pt x="16660" y="8"/>
                      <a:pt x="16659" y="8"/>
                    </a:cubicBezTo>
                    <a:lnTo>
                      <a:pt x="16659" y="8"/>
                    </a:lnTo>
                    <a:cubicBezTo>
                      <a:pt x="16658" y="8"/>
                      <a:pt x="16657" y="7"/>
                      <a:pt x="16657" y="6"/>
                    </a:cubicBezTo>
                    <a:cubicBezTo>
                      <a:pt x="16657" y="5"/>
                      <a:pt x="16658" y="4"/>
                      <a:pt x="16659" y="4"/>
                    </a:cubicBezTo>
                    <a:close/>
                    <a:moveTo>
                      <a:pt x="16667" y="4"/>
                    </a:moveTo>
                    <a:lnTo>
                      <a:pt x="16667" y="4"/>
                    </a:lnTo>
                    <a:cubicBezTo>
                      <a:pt x="16668" y="4"/>
                      <a:pt x="16669" y="5"/>
                      <a:pt x="16669" y="6"/>
                    </a:cubicBezTo>
                    <a:cubicBezTo>
                      <a:pt x="16669" y="7"/>
                      <a:pt x="16668" y="8"/>
                      <a:pt x="16667" y="8"/>
                    </a:cubicBezTo>
                    <a:lnTo>
                      <a:pt x="16667" y="8"/>
                    </a:lnTo>
                    <a:cubicBezTo>
                      <a:pt x="16666" y="8"/>
                      <a:pt x="16665" y="7"/>
                      <a:pt x="16665" y="6"/>
                    </a:cubicBezTo>
                    <a:cubicBezTo>
                      <a:pt x="16665" y="5"/>
                      <a:pt x="16666" y="4"/>
                      <a:pt x="16667" y="4"/>
                    </a:cubicBezTo>
                    <a:close/>
                    <a:moveTo>
                      <a:pt x="16675" y="4"/>
                    </a:moveTo>
                    <a:lnTo>
                      <a:pt x="16675" y="4"/>
                    </a:lnTo>
                    <a:cubicBezTo>
                      <a:pt x="16676" y="4"/>
                      <a:pt x="16677" y="5"/>
                      <a:pt x="16677" y="6"/>
                    </a:cubicBezTo>
                    <a:cubicBezTo>
                      <a:pt x="16677" y="7"/>
                      <a:pt x="16676" y="8"/>
                      <a:pt x="16675" y="8"/>
                    </a:cubicBezTo>
                    <a:lnTo>
                      <a:pt x="16675" y="8"/>
                    </a:lnTo>
                    <a:cubicBezTo>
                      <a:pt x="16674" y="8"/>
                      <a:pt x="16673" y="7"/>
                      <a:pt x="16673" y="6"/>
                    </a:cubicBezTo>
                    <a:cubicBezTo>
                      <a:pt x="16673" y="5"/>
                      <a:pt x="16674" y="4"/>
                      <a:pt x="16675" y="4"/>
                    </a:cubicBezTo>
                    <a:close/>
                    <a:moveTo>
                      <a:pt x="16683" y="4"/>
                    </a:moveTo>
                    <a:lnTo>
                      <a:pt x="16683" y="4"/>
                    </a:lnTo>
                    <a:cubicBezTo>
                      <a:pt x="16684" y="4"/>
                      <a:pt x="16685" y="5"/>
                      <a:pt x="16685" y="6"/>
                    </a:cubicBezTo>
                    <a:cubicBezTo>
                      <a:pt x="16685" y="7"/>
                      <a:pt x="16684" y="8"/>
                      <a:pt x="16683" y="8"/>
                    </a:cubicBezTo>
                    <a:lnTo>
                      <a:pt x="16683" y="8"/>
                    </a:lnTo>
                    <a:cubicBezTo>
                      <a:pt x="16682" y="8"/>
                      <a:pt x="16681" y="7"/>
                      <a:pt x="16681" y="6"/>
                    </a:cubicBezTo>
                    <a:cubicBezTo>
                      <a:pt x="16681" y="5"/>
                      <a:pt x="16682" y="4"/>
                      <a:pt x="16683" y="4"/>
                    </a:cubicBezTo>
                    <a:close/>
                    <a:moveTo>
                      <a:pt x="16691" y="4"/>
                    </a:moveTo>
                    <a:lnTo>
                      <a:pt x="16691" y="4"/>
                    </a:lnTo>
                    <a:cubicBezTo>
                      <a:pt x="16692" y="4"/>
                      <a:pt x="16693" y="5"/>
                      <a:pt x="16693" y="6"/>
                    </a:cubicBezTo>
                    <a:cubicBezTo>
                      <a:pt x="16693" y="7"/>
                      <a:pt x="16692" y="8"/>
                      <a:pt x="16691" y="8"/>
                    </a:cubicBezTo>
                    <a:lnTo>
                      <a:pt x="16691" y="8"/>
                    </a:lnTo>
                    <a:cubicBezTo>
                      <a:pt x="16690" y="8"/>
                      <a:pt x="16689" y="7"/>
                      <a:pt x="16689" y="6"/>
                    </a:cubicBezTo>
                    <a:cubicBezTo>
                      <a:pt x="16689" y="5"/>
                      <a:pt x="16690" y="4"/>
                      <a:pt x="16691" y="4"/>
                    </a:cubicBezTo>
                    <a:close/>
                    <a:moveTo>
                      <a:pt x="16699" y="4"/>
                    </a:moveTo>
                    <a:lnTo>
                      <a:pt x="16699" y="4"/>
                    </a:lnTo>
                    <a:cubicBezTo>
                      <a:pt x="16700" y="4"/>
                      <a:pt x="16701" y="5"/>
                      <a:pt x="16701" y="6"/>
                    </a:cubicBezTo>
                    <a:cubicBezTo>
                      <a:pt x="16701" y="7"/>
                      <a:pt x="16700" y="8"/>
                      <a:pt x="16699" y="8"/>
                    </a:cubicBezTo>
                    <a:lnTo>
                      <a:pt x="16699" y="8"/>
                    </a:lnTo>
                    <a:cubicBezTo>
                      <a:pt x="16698" y="8"/>
                      <a:pt x="16697" y="7"/>
                      <a:pt x="16697" y="6"/>
                    </a:cubicBezTo>
                    <a:cubicBezTo>
                      <a:pt x="16697" y="5"/>
                      <a:pt x="16698" y="4"/>
                      <a:pt x="16699" y="4"/>
                    </a:cubicBezTo>
                    <a:close/>
                    <a:moveTo>
                      <a:pt x="16707" y="4"/>
                    </a:moveTo>
                    <a:lnTo>
                      <a:pt x="16707" y="4"/>
                    </a:lnTo>
                    <a:cubicBezTo>
                      <a:pt x="16708" y="4"/>
                      <a:pt x="16709" y="5"/>
                      <a:pt x="16709" y="6"/>
                    </a:cubicBezTo>
                    <a:cubicBezTo>
                      <a:pt x="16709" y="7"/>
                      <a:pt x="16708" y="8"/>
                      <a:pt x="16707" y="8"/>
                    </a:cubicBezTo>
                    <a:lnTo>
                      <a:pt x="16707" y="8"/>
                    </a:lnTo>
                    <a:cubicBezTo>
                      <a:pt x="16706" y="8"/>
                      <a:pt x="16705" y="7"/>
                      <a:pt x="16705" y="6"/>
                    </a:cubicBezTo>
                    <a:cubicBezTo>
                      <a:pt x="16705" y="5"/>
                      <a:pt x="16706" y="4"/>
                      <a:pt x="16707" y="4"/>
                    </a:cubicBezTo>
                    <a:close/>
                    <a:moveTo>
                      <a:pt x="16715" y="4"/>
                    </a:moveTo>
                    <a:lnTo>
                      <a:pt x="16715" y="4"/>
                    </a:lnTo>
                    <a:cubicBezTo>
                      <a:pt x="16716" y="4"/>
                      <a:pt x="16717" y="5"/>
                      <a:pt x="16717" y="6"/>
                    </a:cubicBezTo>
                    <a:cubicBezTo>
                      <a:pt x="16717" y="7"/>
                      <a:pt x="16716" y="8"/>
                      <a:pt x="16715" y="8"/>
                    </a:cubicBezTo>
                    <a:lnTo>
                      <a:pt x="16715" y="8"/>
                    </a:lnTo>
                    <a:cubicBezTo>
                      <a:pt x="16714" y="8"/>
                      <a:pt x="16713" y="7"/>
                      <a:pt x="16713" y="6"/>
                    </a:cubicBezTo>
                    <a:cubicBezTo>
                      <a:pt x="16713" y="5"/>
                      <a:pt x="16714" y="4"/>
                      <a:pt x="16715" y="4"/>
                    </a:cubicBezTo>
                    <a:close/>
                    <a:moveTo>
                      <a:pt x="16723" y="4"/>
                    </a:moveTo>
                    <a:lnTo>
                      <a:pt x="16723" y="4"/>
                    </a:lnTo>
                    <a:cubicBezTo>
                      <a:pt x="16724" y="4"/>
                      <a:pt x="16725" y="5"/>
                      <a:pt x="16725" y="6"/>
                    </a:cubicBezTo>
                    <a:cubicBezTo>
                      <a:pt x="16725" y="7"/>
                      <a:pt x="16724" y="8"/>
                      <a:pt x="16723" y="8"/>
                    </a:cubicBezTo>
                    <a:lnTo>
                      <a:pt x="16723" y="8"/>
                    </a:lnTo>
                    <a:cubicBezTo>
                      <a:pt x="16722" y="8"/>
                      <a:pt x="16721" y="7"/>
                      <a:pt x="16721" y="6"/>
                    </a:cubicBezTo>
                    <a:cubicBezTo>
                      <a:pt x="16721" y="5"/>
                      <a:pt x="16722" y="4"/>
                      <a:pt x="16723" y="4"/>
                    </a:cubicBezTo>
                    <a:close/>
                    <a:moveTo>
                      <a:pt x="16731" y="4"/>
                    </a:moveTo>
                    <a:lnTo>
                      <a:pt x="16731" y="4"/>
                    </a:lnTo>
                    <a:cubicBezTo>
                      <a:pt x="16732" y="4"/>
                      <a:pt x="16733" y="5"/>
                      <a:pt x="16733" y="6"/>
                    </a:cubicBezTo>
                    <a:cubicBezTo>
                      <a:pt x="16733" y="7"/>
                      <a:pt x="16732" y="8"/>
                      <a:pt x="16731" y="8"/>
                    </a:cubicBezTo>
                    <a:lnTo>
                      <a:pt x="16731" y="8"/>
                    </a:lnTo>
                    <a:cubicBezTo>
                      <a:pt x="16730" y="8"/>
                      <a:pt x="16729" y="7"/>
                      <a:pt x="16729" y="6"/>
                    </a:cubicBezTo>
                    <a:cubicBezTo>
                      <a:pt x="16729" y="5"/>
                      <a:pt x="16730" y="4"/>
                      <a:pt x="16731" y="4"/>
                    </a:cubicBezTo>
                    <a:close/>
                    <a:moveTo>
                      <a:pt x="16739" y="4"/>
                    </a:moveTo>
                    <a:lnTo>
                      <a:pt x="16739" y="4"/>
                    </a:lnTo>
                    <a:cubicBezTo>
                      <a:pt x="16740" y="4"/>
                      <a:pt x="16741" y="5"/>
                      <a:pt x="16741" y="6"/>
                    </a:cubicBezTo>
                    <a:cubicBezTo>
                      <a:pt x="16741" y="7"/>
                      <a:pt x="16740" y="8"/>
                      <a:pt x="16739" y="8"/>
                    </a:cubicBezTo>
                    <a:lnTo>
                      <a:pt x="16739" y="8"/>
                    </a:lnTo>
                    <a:cubicBezTo>
                      <a:pt x="16738" y="8"/>
                      <a:pt x="16737" y="7"/>
                      <a:pt x="16737" y="6"/>
                    </a:cubicBezTo>
                    <a:cubicBezTo>
                      <a:pt x="16737" y="5"/>
                      <a:pt x="16738" y="4"/>
                      <a:pt x="16739" y="4"/>
                    </a:cubicBezTo>
                    <a:close/>
                    <a:moveTo>
                      <a:pt x="16747" y="4"/>
                    </a:moveTo>
                    <a:lnTo>
                      <a:pt x="16747" y="4"/>
                    </a:lnTo>
                    <a:cubicBezTo>
                      <a:pt x="16748" y="4"/>
                      <a:pt x="16749" y="5"/>
                      <a:pt x="16749" y="6"/>
                    </a:cubicBezTo>
                    <a:cubicBezTo>
                      <a:pt x="16749" y="7"/>
                      <a:pt x="16748" y="8"/>
                      <a:pt x="16747" y="8"/>
                    </a:cubicBezTo>
                    <a:lnTo>
                      <a:pt x="16747" y="8"/>
                    </a:lnTo>
                    <a:cubicBezTo>
                      <a:pt x="16746" y="8"/>
                      <a:pt x="16745" y="7"/>
                      <a:pt x="16745" y="6"/>
                    </a:cubicBezTo>
                    <a:cubicBezTo>
                      <a:pt x="16745" y="5"/>
                      <a:pt x="16746" y="4"/>
                      <a:pt x="16747" y="4"/>
                    </a:cubicBezTo>
                    <a:close/>
                    <a:moveTo>
                      <a:pt x="16755" y="4"/>
                    </a:moveTo>
                    <a:lnTo>
                      <a:pt x="16755" y="4"/>
                    </a:lnTo>
                    <a:cubicBezTo>
                      <a:pt x="16756" y="4"/>
                      <a:pt x="16757" y="5"/>
                      <a:pt x="16757" y="6"/>
                    </a:cubicBezTo>
                    <a:cubicBezTo>
                      <a:pt x="16757" y="7"/>
                      <a:pt x="16756" y="8"/>
                      <a:pt x="16755" y="8"/>
                    </a:cubicBezTo>
                    <a:lnTo>
                      <a:pt x="16755" y="8"/>
                    </a:lnTo>
                    <a:cubicBezTo>
                      <a:pt x="16754" y="8"/>
                      <a:pt x="16753" y="7"/>
                      <a:pt x="16753" y="6"/>
                    </a:cubicBezTo>
                    <a:cubicBezTo>
                      <a:pt x="16753" y="5"/>
                      <a:pt x="16754" y="4"/>
                      <a:pt x="16755" y="4"/>
                    </a:cubicBezTo>
                    <a:close/>
                    <a:moveTo>
                      <a:pt x="16763" y="4"/>
                    </a:moveTo>
                    <a:lnTo>
                      <a:pt x="16763" y="4"/>
                    </a:lnTo>
                    <a:cubicBezTo>
                      <a:pt x="16764" y="4"/>
                      <a:pt x="16765" y="5"/>
                      <a:pt x="16765" y="6"/>
                    </a:cubicBezTo>
                    <a:cubicBezTo>
                      <a:pt x="16765" y="7"/>
                      <a:pt x="16764" y="8"/>
                      <a:pt x="16763" y="8"/>
                    </a:cubicBezTo>
                    <a:lnTo>
                      <a:pt x="16763" y="8"/>
                    </a:lnTo>
                    <a:cubicBezTo>
                      <a:pt x="16762" y="8"/>
                      <a:pt x="16761" y="7"/>
                      <a:pt x="16761" y="6"/>
                    </a:cubicBezTo>
                    <a:cubicBezTo>
                      <a:pt x="16761" y="5"/>
                      <a:pt x="16762" y="4"/>
                      <a:pt x="16763" y="4"/>
                    </a:cubicBezTo>
                    <a:close/>
                    <a:moveTo>
                      <a:pt x="16771" y="4"/>
                    </a:moveTo>
                    <a:lnTo>
                      <a:pt x="16771" y="4"/>
                    </a:lnTo>
                    <a:cubicBezTo>
                      <a:pt x="16772" y="4"/>
                      <a:pt x="16773" y="5"/>
                      <a:pt x="16773" y="6"/>
                    </a:cubicBezTo>
                    <a:cubicBezTo>
                      <a:pt x="16773" y="7"/>
                      <a:pt x="16772" y="8"/>
                      <a:pt x="16771" y="8"/>
                    </a:cubicBezTo>
                    <a:lnTo>
                      <a:pt x="16771" y="8"/>
                    </a:lnTo>
                    <a:cubicBezTo>
                      <a:pt x="16770" y="8"/>
                      <a:pt x="16769" y="7"/>
                      <a:pt x="16769" y="6"/>
                    </a:cubicBezTo>
                    <a:cubicBezTo>
                      <a:pt x="16769" y="5"/>
                      <a:pt x="16770" y="4"/>
                      <a:pt x="16771" y="4"/>
                    </a:cubicBezTo>
                    <a:close/>
                    <a:moveTo>
                      <a:pt x="16779" y="4"/>
                    </a:moveTo>
                    <a:lnTo>
                      <a:pt x="16779" y="4"/>
                    </a:lnTo>
                    <a:cubicBezTo>
                      <a:pt x="16780" y="4"/>
                      <a:pt x="16781" y="5"/>
                      <a:pt x="16781" y="6"/>
                    </a:cubicBezTo>
                    <a:cubicBezTo>
                      <a:pt x="16781" y="7"/>
                      <a:pt x="16780" y="8"/>
                      <a:pt x="16779" y="8"/>
                    </a:cubicBezTo>
                    <a:lnTo>
                      <a:pt x="16779" y="8"/>
                    </a:lnTo>
                    <a:cubicBezTo>
                      <a:pt x="16778" y="8"/>
                      <a:pt x="16777" y="7"/>
                      <a:pt x="16777" y="6"/>
                    </a:cubicBezTo>
                    <a:cubicBezTo>
                      <a:pt x="16777" y="5"/>
                      <a:pt x="16778" y="4"/>
                      <a:pt x="16779" y="4"/>
                    </a:cubicBezTo>
                    <a:close/>
                    <a:moveTo>
                      <a:pt x="16787" y="4"/>
                    </a:moveTo>
                    <a:lnTo>
                      <a:pt x="16787" y="4"/>
                    </a:lnTo>
                    <a:cubicBezTo>
                      <a:pt x="16788" y="4"/>
                      <a:pt x="16789" y="5"/>
                      <a:pt x="16789" y="6"/>
                    </a:cubicBezTo>
                    <a:cubicBezTo>
                      <a:pt x="16789" y="7"/>
                      <a:pt x="16788" y="8"/>
                      <a:pt x="16787" y="8"/>
                    </a:cubicBezTo>
                    <a:lnTo>
                      <a:pt x="16787" y="8"/>
                    </a:lnTo>
                    <a:cubicBezTo>
                      <a:pt x="16786" y="8"/>
                      <a:pt x="16785" y="7"/>
                      <a:pt x="16785" y="6"/>
                    </a:cubicBezTo>
                    <a:cubicBezTo>
                      <a:pt x="16785" y="5"/>
                      <a:pt x="16786" y="4"/>
                      <a:pt x="16787" y="4"/>
                    </a:cubicBezTo>
                    <a:close/>
                    <a:moveTo>
                      <a:pt x="16795" y="4"/>
                    </a:moveTo>
                    <a:lnTo>
                      <a:pt x="16795" y="4"/>
                    </a:lnTo>
                    <a:cubicBezTo>
                      <a:pt x="16796" y="4"/>
                      <a:pt x="16797" y="5"/>
                      <a:pt x="16797" y="6"/>
                    </a:cubicBezTo>
                    <a:cubicBezTo>
                      <a:pt x="16797" y="7"/>
                      <a:pt x="16796" y="8"/>
                      <a:pt x="16795" y="8"/>
                    </a:cubicBezTo>
                    <a:lnTo>
                      <a:pt x="16795" y="8"/>
                    </a:lnTo>
                    <a:cubicBezTo>
                      <a:pt x="16794" y="8"/>
                      <a:pt x="16793" y="7"/>
                      <a:pt x="16793" y="6"/>
                    </a:cubicBezTo>
                    <a:cubicBezTo>
                      <a:pt x="16793" y="5"/>
                      <a:pt x="16794" y="4"/>
                      <a:pt x="16795" y="4"/>
                    </a:cubicBezTo>
                    <a:close/>
                    <a:moveTo>
                      <a:pt x="16803" y="4"/>
                    </a:moveTo>
                    <a:lnTo>
                      <a:pt x="16803" y="4"/>
                    </a:lnTo>
                    <a:cubicBezTo>
                      <a:pt x="16804" y="4"/>
                      <a:pt x="16805" y="5"/>
                      <a:pt x="16805" y="6"/>
                    </a:cubicBezTo>
                    <a:cubicBezTo>
                      <a:pt x="16805" y="7"/>
                      <a:pt x="16804" y="8"/>
                      <a:pt x="16803" y="8"/>
                    </a:cubicBezTo>
                    <a:lnTo>
                      <a:pt x="16803" y="8"/>
                    </a:lnTo>
                    <a:cubicBezTo>
                      <a:pt x="16802" y="8"/>
                      <a:pt x="16801" y="7"/>
                      <a:pt x="16801" y="6"/>
                    </a:cubicBezTo>
                    <a:cubicBezTo>
                      <a:pt x="16801" y="5"/>
                      <a:pt x="16802" y="4"/>
                      <a:pt x="16803" y="4"/>
                    </a:cubicBezTo>
                    <a:close/>
                    <a:moveTo>
                      <a:pt x="16811" y="4"/>
                    </a:moveTo>
                    <a:lnTo>
                      <a:pt x="16811" y="4"/>
                    </a:lnTo>
                    <a:cubicBezTo>
                      <a:pt x="16812" y="4"/>
                      <a:pt x="16813" y="5"/>
                      <a:pt x="16813" y="6"/>
                    </a:cubicBezTo>
                    <a:cubicBezTo>
                      <a:pt x="16813" y="7"/>
                      <a:pt x="16812" y="8"/>
                      <a:pt x="16811" y="8"/>
                    </a:cubicBezTo>
                    <a:lnTo>
                      <a:pt x="16811" y="8"/>
                    </a:lnTo>
                    <a:cubicBezTo>
                      <a:pt x="16810" y="8"/>
                      <a:pt x="16809" y="7"/>
                      <a:pt x="16809" y="6"/>
                    </a:cubicBezTo>
                    <a:cubicBezTo>
                      <a:pt x="16809" y="5"/>
                      <a:pt x="16810" y="4"/>
                      <a:pt x="16811" y="4"/>
                    </a:cubicBezTo>
                    <a:close/>
                    <a:moveTo>
                      <a:pt x="16819" y="4"/>
                    </a:moveTo>
                    <a:lnTo>
                      <a:pt x="16819" y="4"/>
                    </a:lnTo>
                    <a:cubicBezTo>
                      <a:pt x="16820" y="4"/>
                      <a:pt x="16821" y="5"/>
                      <a:pt x="16821" y="6"/>
                    </a:cubicBezTo>
                    <a:cubicBezTo>
                      <a:pt x="16821" y="7"/>
                      <a:pt x="16820" y="8"/>
                      <a:pt x="16819" y="8"/>
                    </a:cubicBezTo>
                    <a:lnTo>
                      <a:pt x="16819" y="8"/>
                    </a:lnTo>
                    <a:cubicBezTo>
                      <a:pt x="16818" y="8"/>
                      <a:pt x="16817" y="7"/>
                      <a:pt x="16817" y="6"/>
                    </a:cubicBezTo>
                    <a:cubicBezTo>
                      <a:pt x="16817" y="5"/>
                      <a:pt x="16818" y="4"/>
                      <a:pt x="16819" y="4"/>
                    </a:cubicBezTo>
                    <a:close/>
                    <a:moveTo>
                      <a:pt x="16827" y="4"/>
                    </a:moveTo>
                    <a:lnTo>
                      <a:pt x="16827" y="4"/>
                    </a:lnTo>
                    <a:cubicBezTo>
                      <a:pt x="16828" y="4"/>
                      <a:pt x="16829" y="5"/>
                      <a:pt x="16829" y="6"/>
                    </a:cubicBezTo>
                    <a:cubicBezTo>
                      <a:pt x="16829" y="7"/>
                      <a:pt x="16828" y="8"/>
                      <a:pt x="16827" y="8"/>
                    </a:cubicBezTo>
                    <a:lnTo>
                      <a:pt x="16827" y="8"/>
                    </a:lnTo>
                    <a:cubicBezTo>
                      <a:pt x="16826" y="8"/>
                      <a:pt x="16825" y="7"/>
                      <a:pt x="16825" y="6"/>
                    </a:cubicBezTo>
                    <a:cubicBezTo>
                      <a:pt x="16825" y="5"/>
                      <a:pt x="16826" y="4"/>
                      <a:pt x="16827" y="4"/>
                    </a:cubicBezTo>
                    <a:close/>
                    <a:moveTo>
                      <a:pt x="16835" y="4"/>
                    </a:moveTo>
                    <a:lnTo>
                      <a:pt x="16835" y="4"/>
                    </a:lnTo>
                    <a:cubicBezTo>
                      <a:pt x="16836" y="4"/>
                      <a:pt x="16837" y="5"/>
                      <a:pt x="16837" y="6"/>
                    </a:cubicBezTo>
                    <a:cubicBezTo>
                      <a:pt x="16837" y="7"/>
                      <a:pt x="16836" y="8"/>
                      <a:pt x="16835" y="8"/>
                    </a:cubicBezTo>
                    <a:lnTo>
                      <a:pt x="16835" y="8"/>
                    </a:lnTo>
                    <a:cubicBezTo>
                      <a:pt x="16834" y="8"/>
                      <a:pt x="16833" y="7"/>
                      <a:pt x="16833" y="6"/>
                    </a:cubicBezTo>
                    <a:cubicBezTo>
                      <a:pt x="16833" y="5"/>
                      <a:pt x="16834" y="4"/>
                      <a:pt x="16835" y="4"/>
                    </a:cubicBezTo>
                    <a:close/>
                    <a:moveTo>
                      <a:pt x="16843" y="4"/>
                    </a:moveTo>
                    <a:lnTo>
                      <a:pt x="16843" y="4"/>
                    </a:lnTo>
                    <a:cubicBezTo>
                      <a:pt x="16844" y="4"/>
                      <a:pt x="16845" y="5"/>
                      <a:pt x="16845" y="6"/>
                    </a:cubicBezTo>
                    <a:cubicBezTo>
                      <a:pt x="16845" y="7"/>
                      <a:pt x="16844" y="8"/>
                      <a:pt x="16843" y="8"/>
                    </a:cubicBezTo>
                    <a:lnTo>
                      <a:pt x="16843" y="8"/>
                    </a:lnTo>
                    <a:cubicBezTo>
                      <a:pt x="16842" y="8"/>
                      <a:pt x="16841" y="7"/>
                      <a:pt x="16841" y="6"/>
                    </a:cubicBezTo>
                    <a:cubicBezTo>
                      <a:pt x="16841" y="5"/>
                      <a:pt x="16842" y="4"/>
                      <a:pt x="16843" y="4"/>
                    </a:cubicBezTo>
                    <a:close/>
                    <a:moveTo>
                      <a:pt x="16851" y="4"/>
                    </a:moveTo>
                    <a:lnTo>
                      <a:pt x="16851" y="4"/>
                    </a:lnTo>
                    <a:cubicBezTo>
                      <a:pt x="16852" y="4"/>
                      <a:pt x="16853" y="5"/>
                      <a:pt x="16853" y="6"/>
                    </a:cubicBezTo>
                    <a:cubicBezTo>
                      <a:pt x="16853" y="7"/>
                      <a:pt x="16852" y="8"/>
                      <a:pt x="16851" y="8"/>
                    </a:cubicBezTo>
                    <a:lnTo>
                      <a:pt x="16851" y="8"/>
                    </a:lnTo>
                    <a:cubicBezTo>
                      <a:pt x="16850" y="8"/>
                      <a:pt x="16849" y="7"/>
                      <a:pt x="16849" y="6"/>
                    </a:cubicBezTo>
                    <a:cubicBezTo>
                      <a:pt x="16849" y="5"/>
                      <a:pt x="16850" y="4"/>
                      <a:pt x="16851" y="4"/>
                    </a:cubicBezTo>
                    <a:close/>
                    <a:moveTo>
                      <a:pt x="16859" y="4"/>
                    </a:moveTo>
                    <a:lnTo>
                      <a:pt x="16859" y="4"/>
                    </a:lnTo>
                    <a:cubicBezTo>
                      <a:pt x="16860" y="4"/>
                      <a:pt x="16861" y="5"/>
                      <a:pt x="16861" y="6"/>
                    </a:cubicBezTo>
                    <a:cubicBezTo>
                      <a:pt x="16861" y="7"/>
                      <a:pt x="16860" y="8"/>
                      <a:pt x="16859" y="8"/>
                    </a:cubicBezTo>
                    <a:lnTo>
                      <a:pt x="16859" y="8"/>
                    </a:lnTo>
                    <a:cubicBezTo>
                      <a:pt x="16858" y="8"/>
                      <a:pt x="16857" y="7"/>
                      <a:pt x="16857" y="6"/>
                    </a:cubicBezTo>
                    <a:cubicBezTo>
                      <a:pt x="16857" y="5"/>
                      <a:pt x="16858" y="4"/>
                      <a:pt x="16859" y="4"/>
                    </a:cubicBezTo>
                    <a:close/>
                    <a:moveTo>
                      <a:pt x="16867" y="4"/>
                    </a:moveTo>
                    <a:lnTo>
                      <a:pt x="16867" y="4"/>
                    </a:lnTo>
                    <a:cubicBezTo>
                      <a:pt x="16868" y="4"/>
                      <a:pt x="16869" y="5"/>
                      <a:pt x="16869" y="6"/>
                    </a:cubicBezTo>
                    <a:cubicBezTo>
                      <a:pt x="16869" y="7"/>
                      <a:pt x="16868" y="8"/>
                      <a:pt x="16867" y="8"/>
                    </a:cubicBezTo>
                    <a:lnTo>
                      <a:pt x="16867" y="8"/>
                    </a:lnTo>
                    <a:cubicBezTo>
                      <a:pt x="16866" y="8"/>
                      <a:pt x="16865" y="7"/>
                      <a:pt x="16865" y="6"/>
                    </a:cubicBezTo>
                    <a:cubicBezTo>
                      <a:pt x="16865" y="5"/>
                      <a:pt x="16866" y="4"/>
                      <a:pt x="16867" y="4"/>
                    </a:cubicBezTo>
                    <a:close/>
                    <a:moveTo>
                      <a:pt x="16875" y="4"/>
                    </a:moveTo>
                    <a:lnTo>
                      <a:pt x="16875" y="4"/>
                    </a:lnTo>
                    <a:cubicBezTo>
                      <a:pt x="16876" y="4"/>
                      <a:pt x="16877" y="5"/>
                      <a:pt x="16877" y="6"/>
                    </a:cubicBezTo>
                    <a:cubicBezTo>
                      <a:pt x="16877" y="7"/>
                      <a:pt x="16876" y="8"/>
                      <a:pt x="16875" y="8"/>
                    </a:cubicBezTo>
                    <a:lnTo>
                      <a:pt x="16875" y="8"/>
                    </a:lnTo>
                    <a:cubicBezTo>
                      <a:pt x="16874" y="8"/>
                      <a:pt x="16873" y="7"/>
                      <a:pt x="16873" y="6"/>
                    </a:cubicBezTo>
                    <a:cubicBezTo>
                      <a:pt x="16873" y="5"/>
                      <a:pt x="16874" y="4"/>
                      <a:pt x="16875" y="4"/>
                    </a:cubicBezTo>
                    <a:close/>
                    <a:moveTo>
                      <a:pt x="16883" y="4"/>
                    </a:moveTo>
                    <a:lnTo>
                      <a:pt x="16883" y="4"/>
                    </a:lnTo>
                    <a:cubicBezTo>
                      <a:pt x="16884" y="4"/>
                      <a:pt x="16885" y="5"/>
                      <a:pt x="16885" y="6"/>
                    </a:cubicBezTo>
                    <a:cubicBezTo>
                      <a:pt x="16885" y="7"/>
                      <a:pt x="16884" y="8"/>
                      <a:pt x="16883" y="8"/>
                    </a:cubicBezTo>
                    <a:lnTo>
                      <a:pt x="16883" y="8"/>
                    </a:lnTo>
                    <a:cubicBezTo>
                      <a:pt x="16882" y="8"/>
                      <a:pt x="16881" y="7"/>
                      <a:pt x="16881" y="6"/>
                    </a:cubicBezTo>
                    <a:cubicBezTo>
                      <a:pt x="16881" y="5"/>
                      <a:pt x="16882" y="4"/>
                      <a:pt x="16883" y="4"/>
                    </a:cubicBezTo>
                    <a:close/>
                    <a:moveTo>
                      <a:pt x="16891" y="4"/>
                    </a:moveTo>
                    <a:lnTo>
                      <a:pt x="16891" y="4"/>
                    </a:lnTo>
                    <a:cubicBezTo>
                      <a:pt x="16892" y="4"/>
                      <a:pt x="16893" y="5"/>
                      <a:pt x="16893" y="6"/>
                    </a:cubicBezTo>
                    <a:cubicBezTo>
                      <a:pt x="16893" y="7"/>
                      <a:pt x="16892" y="8"/>
                      <a:pt x="16891" y="8"/>
                    </a:cubicBezTo>
                    <a:lnTo>
                      <a:pt x="16891" y="8"/>
                    </a:lnTo>
                    <a:cubicBezTo>
                      <a:pt x="16890" y="8"/>
                      <a:pt x="16889" y="7"/>
                      <a:pt x="16889" y="6"/>
                    </a:cubicBezTo>
                    <a:cubicBezTo>
                      <a:pt x="16889" y="5"/>
                      <a:pt x="16890" y="4"/>
                      <a:pt x="16891" y="4"/>
                    </a:cubicBezTo>
                    <a:close/>
                    <a:moveTo>
                      <a:pt x="16899" y="4"/>
                    </a:moveTo>
                    <a:lnTo>
                      <a:pt x="16899" y="4"/>
                    </a:lnTo>
                    <a:cubicBezTo>
                      <a:pt x="16901" y="4"/>
                      <a:pt x="16901" y="5"/>
                      <a:pt x="16901" y="6"/>
                    </a:cubicBezTo>
                    <a:cubicBezTo>
                      <a:pt x="16901" y="7"/>
                      <a:pt x="16901" y="8"/>
                      <a:pt x="16899" y="8"/>
                    </a:cubicBezTo>
                    <a:lnTo>
                      <a:pt x="16899" y="8"/>
                    </a:lnTo>
                    <a:cubicBezTo>
                      <a:pt x="16898" y="8"/>
                      <a:pt x="16897" y="7"/>
                      <a:pt x="16897" y="6"/>
                    </a:cubicBezTo>
                    <a:cubicBezTo>
                      <a:pt x="16897" y="5"/>
                      <a:pt x="16898" y="4"/>
                      <a:pt x="16899" y="4"/>
                    </a:cubicBezTo>
                    <a:close/>
                    <a:moveTo>
                      <a:pt x="16907" y="4"/>
                    </a:moveTo>
                    <a:lnTo>
                      <a:pt x="16907" y="4"/>
                    </a:lnTo>
                    <a:cubicBezTo>
                      <a:pt x="16909" y="4"/>
                      <a:pt x="16909" y="5"/>
                      <a:pt x="16909" y="6"/>
                    </a:cubicBezTo>
                    <a:cubicBezTo>
                      <a:pt x="16909" y="7"/>
                      <a:pt x="16909" y="8"/>
                      <a:pt x="16907" y="8"/>
                    </a:cubicBezTo>
                    <a:lnTo>
                      <a:pt x="16907" y="8"/>
                    </a:lnTo>
                    <a:cubicBezTo>
                      <a:pt x="16906" y="8"/>
                      <a:pt x="16905" y="7"/>
                      <a:pt x="16905" y="6"/>
                    </a:cubicBezTo>
                    <a:cubicBezTo>
                      <a:pt x="16905" y="5"/>
                      <a:pt x="16906" y="4"/>
                      <a:pt x="16907" y="4"/>
                    </a:cubicBezTo>
                    <a:close/>
                    <a:moveTo>
                      <a:pt x="16915" y="4"/>
                    </a:moveTo>
                    <a:lnTo>
                      <a:pt x="16915" y="4"/>
                    </a:lnTo>
                    <a:cubicBezTo>
                      <a:pt x="16917" y="4"/>
                      <a:pt x="16917" y="5"/>
                      <a:pt x="16917" y="6"/>
                    </a:cubicBezTo>
                    <a:cubicBezTo>
                      <a:pt x="16917" y="7"/>
                      <a:pt x="16917" y="8"/>
                      <a:pt x="16915" y="8"/>
                    </a:cubicBezTo>
                    <a:lnTo>
                      <a:pt x="16915" y="8"/>
                    </a:lnTo>
                    <a:cubicBezTo>
                      <a:pt x="16914" y="8"/>
                      <a:pt x="16913" y="7"/>
                      <a:pt x="16913" y="6"/>
                    </a:cubicBezTo>
                    <a:cubicBezTo>
                      <a:pt x="16913" y="5"/>
                      <a:pt x="16914" y="4"/>
                      <a:pt x="16915" y="4"/>
                    </a:cubicBezTo>
                    <a:close/>
                    <a:moveTo>
                      <a:pt x="16923" y="4"/>
                    </a:moveTo>
                    <a:lnTo>
                      <a:pt x="16923" y="4"/>
                    </a:lnTo>
                    <a:cubicBezTo>
                      <a:pt x="16925" y="4"/>
                      <a:pt x="16925" y="5"/>
                      <a:pt x="16925" y="6"/>
                    </a:cubicBezTo>
                    <a:cubicBezTo>
                      <a:pt x="16925" y="7"/>
                      <a:pt x="16925" y="8"/>
                      <a:pt x="16923" y="8"/>
                    </a:cubicBezTo>
                    <a:lnTo>
                      <a:pt x="16923" y="8"/>
                    </a:lnTo>
                    <a:cubicBezTo>
                      <a:pt x="16922" y="8"/>
                      <a:pt x="16921" y="7"/>
                      <a:pt x="16921" y="6"/>
                    </a:cubicBezTo>
                    <a:cubicBezTo>
                      <a:pt x="16921" y="5"/>
                      <a:pt x="16922" y="4"/>
                      <a:pt x="16923" y="4"/>
                    </a:cubicBezTo>
                    <a:close/>
                    <a:moveTo>
                      <a:pt x="16931" y="4"/>
                    </a:moveTo>
                    <a:lnTo>
                      <a:pt x="16931" y="4"/>
                    </a:lnTo>
                    <a:cubicBezTo>
                      <a:pt x="16933" y="4"/>
                      <a:pt x="16933" y="5"/>
                      <a:pt x="16933" y="6"/>
                    </a:cubicBezTo>
                    <a:cubicBezTo>
                      <a:pt x="16933" y="7"/>
                      <a:pt x="16933" y="8"/>
                      <a:pt x="16931" y="8"/>
                    </a:cubicBezTo>
                    <a:lnTo>
                      <a:pt x="16931" y="8"/>
                    </a:lnTo>
                    <a:cubicBezTo>
                      <a:pt x="16930" y="8"/>
                      <a:pt x="16929" y="7"/>
                      <a:pt x="16929" y="6"/>
                    </a:cubicBezTo>
                    <a:cubicBezTo>
                      <a:pt x="16929" y="5"/>
                      <a:pt x="16930" y="4"/>
                      <a:pt x="16931" y="4"/>
                    </a:cubicBezTo>
                    <a:close/>
                    <a:moveTo>
                      <a:pt x="16939" y="4"/>
                    </a:moveTo>
                    <a:lnTo>
                      <a:pt x="16939" y="4"/>
                    </a:lnTo>
                    <a:cubicBezTo>
                      <a:pt x="16941" y="4"/>
                      <a:pt x="16941" y="5"/>
                      <a:pt x="16941" y="6"/>
                    </a:cubicBezTo>
                    <a:cubicBezTo>
                      <a:pt x="16941" y="7"/>
                      <a:pt x="16941" y="8"/>
                      <a:pt x="16939" y="8"/>
                    </a:cubicBezTo>
                    <a:lnTo>
                      <a:pt x="16939" y="8"/>
                    </a:lnTo>
                    <a:cubicBezTo>
                      <a:pt x="16938" y="8"/>
                      <a:pt x="16937" y="7"/>
                      <a:pt x="16937" y="6"/>
                    </a:cubicBezTo>
                    <a:cubicBezTo>
                      <a:pt x="16937" y="5"/>
                      <a:pt x="16938" y="4"/>
                      <a:pt x="16939" y="4"/>
                    </a:cubicBezTo>
                    <a:close/>
                    <a:moveTo>
                      <a:pt x="16947" y="4"/>
                    </a:moveTo>
                    <a:lnTo>
                      <a:pt x="16947" y="4"/>
                    </a:lnTo>
                    <a:cubicBezTo>
                      <a:pt x="16949" y="4"/>
                      <a:pt x="16949" y="5"/>
                      <a:pt x="16949" y="6"/>
                    </a:cubicBezTo>
                    <a:cubicBezTo>
                      <a:pt x="16949" y="7"/>
                      <a:pt x="16949" y="8"/>
                      <a:pt x="16947" y="8"/>
                    </a:cubicBezTo>
                    <a:lnTo>
                      <a:pt x="16947" y="8"/>
                    </a:lnTo>
                    <a:cubicBezTo>
                      <a:pt x="16946" y="8"/>
                      <a:pt x="16945" y="7"/>
                      <a:pt x="16945" y="6"/>
                    </a:cubicBezTo>
                    <a:cubicBezTo>
                      <a:pt x="16945" y="5"/>
                      <a:pt x="16946" y="4"/>
                      <a:pt x="16947" y="4"/>
                    </a:cubicBezTo>
                    <a:close/>
                    <a:moveTo>
                      <a:pt x="16955" y="4"/>
                    </a:moveTo>
                    <a:lnTo>
                      <a:pt x="16955" y="4"/>
                    </a:lnTo>
                    <a:cubicBezTo>
                      <a:pt x="16957" y="4"/>
                      <a:pt x="16957" y="5"/>
                      <a:pt x="16957" y="6"/>
                    </a:cubicBezTo>
                    <a:cubicBezTo>
                      <a:pt x="16957" y="7"/>
                      <a:pt x="16957" y="8"/>
                      <a:pt x="16955" y="8"/>
                    </a:cubicBezTo>
                    <a:lnTo>
                      <a:pt x="16955" y="8"/>
                    </a:lnTo>
                    <a:cubicBezTo>
                      <a:pt x="16954" y="8"/>
                      <a:pt x="16953" y="7"/>
                      <a:pt x="16953" y="6"/>
                    </a:cubicBezTo>
                    <a:cubicBezTo>
                      <a:pt x="16953" y="5"/>
                      <a:pt x="16954" y="4"/>
                      <a:pt x="16955" y="4"/>
                    </a:cubicBezTo>
                    <a:close/>
                    <a:moveTo>
                      <a:pt x="16963" y="4"/>
                    </a:moveTo>
                    <a:lnTo>
                      <a:pt x="16963" y="4"/>
                    </a:lnTo>
                    <a:cubicBezTo>
                      <a:pt x="16965" y="4"/>
                      <a:pt x="16965" y="5"/>
                      <a:pt x="16965" y="6"/>
                    </a:cubicBezTo>
                    <a:cubicBezTo>
                      <a:pt x="16965" y="7"/>
                      <a:pt x="16965" y="8"/>
                      <a:pt x="16963" y="8"/>
                    </a:cubicBezTo>
                    <a:lnTo>
                      <a:pt x="16963" y="8"/>
                    </a:lnTo>
                    <a:cubicBezTo>
                      <a:pt x="16962" y="8"/>
                      <a:pt x="16961" y="7"/>
                      <a:pt x="16961" y="6"/>
                    </a:cubicBezTo>
                    <a:cubicBezTo>
                      <a:pt x="16961" y="5"/>
                      <a:pt x="16962" y="4"/>
                      <a:pt x="16963" y="4"/>
                    </a:cubicBezTo>
                    <a:close/>
                    <a:moveTo>
                      <a:pt x="16971" y="4"/>
                    </a:moveTo>
                    <a:lnTo>
                      <a:pt x="16971" y="4"/>
                    </a:lnTo>
                    <a:cubicBezTo>
                      <a:pt x="16973" y="4"/>
                      <a:pt x="16973" y="5"/>
                      <a:pt x="16973" y="6"/>
                    </a:cubicBezTo>
                    <a:cubicBezTo>
                      <a:pt x="16973" y="7"/>
                      <a:pt x="16973" y="8"/>
                      <a:pt x="16971" y="8"/>
                    </a:cubicBezTo>
                    <a:lnTo>
                      <a:pt x="16971" y="8"/>
                    </a:lnTo>
                    <a:cubicBezTo>
                      <a:pt x="16970" y="8"/>
                      <a:pt x="16969" y="7"/>
                      <a:pt x="16969" y="6"/>
                    </a:cubicBezTo>
                    <a:cubicBezTo>
                      <a:pt x="16969" y="5"/>
                      <a:pt x="16970" y="4"/>
                      <a:pt x="16971" y="4"/>
                    </a:cubicBezTo>
                    <a:close/>
                    <a:moveTo>
                      <a:pt x="16979" y="4"/>
                    </a:moveTo>
                    <a:lnTo>
                      <a:pt x="16979" y="4"/>
                    </a:lnTo>
                    <a:cubicBezTo>
                      <a:pt x="16981" y="4"/>
                      <a:pt x="16981" y="5"/>
                      <a:pt x="16981" y="6"/>
                    </a:cubicBezTo>
                    <a:cubicBezTo>
                      <a:pt x="16981" y="7"/>
                      <a:pt x="16981" y="8"/>
                      <a:pt x="16979" y="8"/>
                    </a:cubicBezTo>
                    <a:lnTo>
                      <a:pt x="16979" y="8"/>
                    </a:lnTo>
                    <a:cubicBezTo>
                      <a:pt x="16978" y="8"/>
                      <a:pt x="16977" y="7"/>
                      <a:pt x="16977" y="6"/>
                    </a:cubicBezTo>
                    <a:cubicBezTo>
                      <a:pt x="16977" y="5"/>
                      <a:pt x="16978" y="4"/>
                      <a:pt x="16979" y="4"/>
                    </a:cubicBezTo>
                    <a:close/>
                    <a:moveTo>
                      <a:pt x="16987" y="4"/>
                    </a:moveTo>
                    <a:lnTo>
                      <a:pt x="16987" y="4"/>
                    </a:lnTo>
                    <a:cubicBezTo>
                      <a:pt x="16989" y="4"/>
                      <a:pt x="16989" y="5"/>
                      <a:pt x="16989" y="6"/>
                    </a:cubicBezTo>
                    <a:cubicBezTo>
                      <a:pt x="16989" y="7"/>
                      <a:pt x="16989" y="8"/>
                      <a:pt x="16987" y="8"/>
                    </a:cubicBezTo>
                    <a:lnTo>
                      <a:pt x="16987" y="8"/>
                    </a:lnTo>
                    <a:cubicBezTo>
                      <a:pt x="16986" y="8"/>
                      <a:pt x="16985" y="7"/>
                      <a:pt x="16985" y="6"/>
                    </a:cubicBezTo>
                    <a:cubicBezTo>
                      <a:pt x="16985" y="5"/>
                      <a:pt x="16986" y="4"/>
                      <a:pt x="16987" y="4"/>
                    </a:cubicBezTo>
                    <a:close/>
                    <a:moveTo>
                      <a:pt x="16995" y="4"/>
                    </a:moveTo>
                    <a:lnTo>
                      <a:pt x="16995" y="4"/>
                    </a:lnTo>
                    <a:cubicBezTo>
                      <a:pt x="16997" y="4"/>
                      <a:pt x="16997" y="5"/>
                      <a:pt x="16997" y="6"/>
                    </a:cubicBezTo>
                    <a:cubicBezTo>
                      <a:pt x="16997" y="7"/>
                      <a:pt x="16997" y="8"/>
                      <a:pt x="16995" y="8"/>
                    </a:cubicBezTo>
                    <a:lnTo>
                      <a:pt x="16995" y="8"/>
                    </a:lnTo>
                    <a:cubicBezTo>
                      <a:pt x="16994" y="8"/>
                      <a:pt x="16993" y="7"/>
                      <a:pt x="16993" y="6"/>
                    </a:cubicBezTo>
                    <a:cubicBezTo>
                      <a:pt x="16993" y="5"/>
                      <a:pt x="16994" y="4"/>
                      <a:pt x="16995" y="4"/>
                    </a:cubicBezTo>
                    <a:close/>
                    <a:moveTo>
                      <a:pt x="17003" y="4"/>
                    </a:moveTo>
                    <a:lnTo>
                      <a:pt x="17003" y="4"/>
                    </a:lnTo>
                    <a:cubicBezTo>
                      <a:pt x="17005" y="4"/>
                      <a:pt x="17005" y="5"/>
                      <a:pt x="17005" y="6"/>
                    </a:cubicBezTo>
                    <a:cubicBezTo>
                      <a:pt x="17005" y="7"/>
                      <a:pt x="17005" y="8"/>
                      <a:pt x="17003" y="8"/>
                    </a:cubicBezTo>
                    <a:lnTo>
                      <a:pt x="17003" y="8"/>
                    </a:lnTo>
                    <a:cubicBezTo>
                      <a:pt x="17002" y="8"/>
                      <a:pt x="17001" y="7"/>
                      <a:pt x="17001" y="6"/>
                    </a:cubicBezTo>
                    <a:cubicBezTo>
                      <a:pt x="17001" y="5"/>
                      <a:pt x="17002" y="4"/>
                      <a:pt x="17003" y="4"/>
                    </a:cubicBezTo>
                    <a:close/>
                    <a:moveTo>
                      <a:pt x="17011" y="4"/>
                    </a:moveTo>
                    <a:lnTo>
                      <a:pt x="17011" y="4"/>
                    </a:lnTo>
                    <a:cubicBezTo>
                      <a:pt x="17013" y="4"/>
                      <a:pt x="17013" y="5"/>
                      <a:pt x="17013" y="6"/>
                    </a:cubicBezTo>
                    <a:cubicBezTo>
                      <a:pt x="17013" y="7"/>
                      <a:pt x="17013" y="8"/>
                      <a:pt x="17011" y="8"/>
                    </a:cubicBezTo>
                    <a:lnTo>
                      <a:pt x="17011" y="8"/>
                    </a:lnTo>
                    <a:cubicBezTo>
                      <a:pt x="17010" y="8"/>
                      <a:pt x="17009" y="7"/>
                      <a:pt x="17009" y="6"/>
                    </a:cubicBezTo>
                    <a:cubicBezTo>
                      <a:pt x="17009" y="5"/>
                      <a:pt x="17010" y="4"/>
                      <a:pt x="17011" y="4"/>
                    </a:cubicBezTo>
                    <a:close/>
                    <a:moveTo>
                      <a:pt x="17019" y="4"/>
                    </a:moveTo>
                    <a:lnTo>
                      <a:pt x="17019" y="4"/>
                    </a:lnTo>
                    <a:cubicBezTo>
                      <a:pt x="17021" y="4"/>
                      <a:pt x="17021" y="5"/>
                      <a:pt x="17021" y="6"/>
                    </a:cubicBezTo>
                    <a:cubicBezTo>
                      <a:pt x="17021" y="7"/>
                      <a:pt x="17021" y="8"/>
                      <a:pt x="17019" y="8"/>
                    </a:cubicBezTo>
                    <a:lnTo>
                      <a:pt x="17019" y="8"/>
                    </a:lnTo>
                    <a:cubicBezTo>
                      <a:pt x="17018" y="8"/>
                      <a:pt x="17017" y="7"/>
                      <a:pt x="17017" y="6"/>
                    </a:cubicBezTo>
                    <a:cubicBezTo>
                      <a:pt x="17017" y="5"/>
                      <a:pt x="17018" y="4"/>
                      <a:pt x="17019" y="4"/>
                    </a:cubicBezTo>
                    <a:close/>
                    <a:moveTo>
                      <a:pt x="17027" y="4"/>
                    </a:moveTo>
                    <a:lnTo>
                      <a:pt x="17027" y="4"/>
                    </a:lnTo>
                    <a:cubicBezTo>
                      <a:pt x="17029" y="4"/>
                      <a:pt x="17029" y="5"/>
                      <a:pt x="17029" y="6"/>
                    </a:cubicBezTo>
                    <a:cubicBezTo>
                      <a:pt x="17029" y="7"/>
                      <a:pt x="17029" y="8"/>
                      <a:pt x="17027" y="8"/>
                    </a:cubicBezTo>
                    <a:lnTo>
                      <a:pt x="17027" y="8"/>
                    </a:lnTo>
                    <a:cubicBezTo>
                      <a:pt x="17026" y="8"/>
                      <a:pt x="17025" y="7"/>
                      <a:pt x="17025" y="6"/>
                    </a:cubicBezTo>
                    <a:cubicBezTo>
                      <a:pt x="17025" y="5"/>
                      <a:pt x="17026" y="4"/>
                      <a:pt x="17027" y="4"/>
                    </a:cubicBezTo>
                    <a:close/>
                    <a:moveTo>
                      <a:pt x="17035" y="4"/>
                    </a:moveTo>
                    <a:lnTo>
                      <a:pt x="17035" y="4"/>
                    </a:lnTo>
                    <a:cubicBezTo>
                      <a:pt x="17037" y="4"/>
                      <a:pt x="17037" y="5"/>
                      <a:pt x="17037" y="6"/>
                    </a:cubicBezTo>
                    <a:cubicBezTo>
                      <a:pt x="17037" y="7"/>
                      <a:pt x="17037" y="8"/>
                      <a:pt x="17035" y="8"/>
                    </a:cubicBezTo>
                    <a:lnTo>
                      <a:pt x="17035" y="8"/>
                    </a:lnTo>
                    <a:cubicBezTo>
                      <a:pt x="17034" y="8"/>
                      <a:pt x="17033" y="7"/>
                      <a:pt x="17033" y="6"/>
                    </a:cubicBezTo>
                    <a:cubicBezTo>
                      <a:pt x="17033" y="5"/>
                      <a:pt x="17034" y="4"/>
                      <a:pt x="17035" y="4"/>
                    </a:cubicBezTo>
                    <a:close/>
                    <a:moveTo>
                      <a:pt x="17044" y="4"/>
                    </a:moveTo>
                    <a:lnTo>
                      <a:pt x="17044" y="4"/>
                    </a:lnTo>
                    <a:cubicBezTo>
                      <a:pt x="17045" y="4"/>
                      <a:pt x="17046" y="5"/>
                      <a:pt x="17046" y="6"/>
                    </a:cubicBezTo>
                    <a:cubicBezTo>
                      <a:pt x="17046" y="7"/>
                      <a:pt x="17045" y="8"/>
                      <a:pt x="17044" y="8"/>
                    </a:cubicBezTo>
                    <a:lnTo>
                      <a:pt x="17044" y="8"/>
                    </a:lnTo>
                    <a:cubicBezTo>
                      <a:pt x="17042" y="8"/>
                      <a:pt x="17041" y="7"/>
                      <a:pt x="17041" y="6"/>
                    </a:cubicBezTo>
                    <a:cubicBezTo>
                      <a:pt x="17041" y="5"/>
                      <a:pt x="17042" y="4"/>
                      <a:pt x="17044" y="4"/>
                    </a:cubicBezTo>
                    <a:close/>
                    <a:moveTo>
                      <a:pt x="17052" y="4"/>
                    </a:moveTo>
                    <a:lnTo>
                      <a:pt x="17052" y="4"/>
                    </a:lnTo>
                    <a:cubicBezTo>
                      <a:pt x="17053" y="4"/>
                      <a:pt x="17054" y="5"/>
                      <a:pt x="17054" y="6"/>
                    </a:cubicBezTo>
                    <a:cubicBezTo>
                      <a:pt x="17054" y="7"/>
                      <a:pt x="17053" y="8"/>
                      <a:pt x="17052" y="8"/>
                    </a:cubicBezTo>
                    <a:lnTo>
                      <a:pt x="17052" y="8"/>
                    </a:lnTo>
                    <a:cubicBezTo>
                      <a:pt x="17050" y="8"/>
                      <a:pt x="17050" y="7"/>
                      <a:pt x="17050" y="6"/>
                    </a:cubicBezTo>
                    <a:cubicBezTo>
                      <a:pt x="17050" y="5"/>
                      <a:pt x="17050" y="4"/>
                      <a:pt x="17052" y="4"/>
                    </a:cubicBezTo>
                    <a:close/>
                    <a:moveTo>
                      <a:pt x="17060" y="4"/>
                    </a:moveTo>
                    <a:lnTo>
                      <a:pt x="17060" y="4"/>
                    </a:lnTo>
                    <a:cubicBezTo>
                      <a:pt x="17061" y="4"/>
                      <a:pt x="17062" y="5"/>
                      <a:pt x="17062" y="6"/>
                    </a:cubicBezTo>
                    <a:cubicBezTo>
                      <a:pt x="17062" y="7"/>
                      <a:pt x="17061" y="8"/>
                      <a:pt x="17060" y="8"/>
                    </a:cubicBezTo>
                    <a:lnTo>
                      <a:pt x="17060" y="8"/>
                    </a:lnTo>
                    <a:cubicBezTo>
                      <a:pt x="17058" y="8"/>
                      <a:pt x="17058" y="7"/>
                      <a:pt x="17058" y="6"/>
                    </a:cubicBezTo>
                    <a:cubicBezTo>
                      <a:pt x="17058" y="5"/>
                      <a:pt x="17058" y="4"/>
                      <a:pt x="17060" y="4"/>
                    </a:cubicBezTo>
                    <a:close/>
                    <a:moveTo>
                      <a:pt x="17068" y="4"/>
                    </a:moveTo>
                    <a:lnTo>
                      <a:pt x="17068" y="4"/>
                    </a:lnTo>
                    <a:cubicBezTo>
                      <a:pt x="17069" y="4"/>
                      <a:pt x="17070" y="5"/>
                      <a:pt x="17070" y="6"/>
                    </a:cubicBezTo>
                    <a:cubicBezTo>
                      <a:pt x="17070" y="7"/>
                      <a:pt x="17069" y="8"/>
                      <a:pt x="17068" y="8"/>
                    </a:cubicBezTo>
                    <a:lnTo>
                      <a:pt x="17068" y="8"/>
                    </a:lnTo>
                    <a:cubicBezTo>
                      <a:pt x="17066" y="8"/>
                      <a:pt x="17066" y="7"/>
                      <a:pt x="17066" y="6"/>
                    </a:cubicBezTo>
                    <a:cubicBezTo>
                      <a:pt x="17066" y="5"/>
                      <a:pt x="17066" y="4"/>
                      <a:pt x="17068" y="4"/>
                    </a:cubicBezTo>
                    <a:close/>
                    <a:moveTo>
                      <a:pt x="17076" y="4"/>
                    </a:moveTo>
                    <a:lnTo>
                      <a:pt x="17076" y="4"/>
                    </a:lnTo>
                    <a:cubicBezTo>
                      <a:pt x="17077" y="4"/>
                      <a:pt x="17078" y="5"/>
                      <a:pt x="17078" y="6"/>
                    </a:cubicBezTo>
                    <a:cubicBezTo>
                      <a:pt x="17078" y="7"/>
                      <a:pt x="17077" y="8"/>
                      <a:pt x="17076" y="8"/>
                    </a:cubicBezTo>
                    <a:lnTo>
                      <a:pt x="17076" y="8"/>
                    </a:lnTo>
                    <a:cubicBezTo>
                      <a:pt x="17074" y="8"/>
                      <a:pt x="17074" y="7"/>
                      <a:pt x="17074" y="6"/>
                    </a:cubicBezTo>
                    <a:cubicBezTo>
                      <a:pt x="17074" y="5"/>
                      <a:pt x="17074" y="4"/>
                      <a:pt x="17076" y="4"/>
                    </a:cubicBezTo>
                    <a:close/>
                    <a:moveTo>
                      <a:pt x="17084" y="4"/>
                    </a:moveTo>
                    <a:lnTo>
                      <a:pt x="17084" y="4"/>
                    </a:lnTo>
                    <a:cubicBezTo>
                      <a:pt x="17085" y="4"/>
                      <a:pt x="17086" y="5"/>
                      <a:pt x="17086" y="6"/>
                    </a:cubicBezTo>
                    <a:cubicBezTo>
                      <a:pt x="17086" y="7"/>
                      <a:pt x="17085" y="8"/>
                      <a:pt x="17084" y="8"/>
                    </a:cubicBezTo>
                    <a:lnTo>
                      <a:pt x="17084" y="8"/>
                    </a:lnTo>
                    <a:cubicBezTo>
                      <a:pt x="17082" y="8"/>
                      <a:pt x="17082" y="7"/>
                      <a:pt x="17082" y="6"/>
                    </a:cubicBezTo>
                    <a:cubicBezTo>
                      <a:pt x="17082" y="5"/>
                      <a:pt x="17082" y="4"/>
                      <a:pt x="17084" y="4"/>
                    </a:cubicBezTo>
                    <a:close/>
                    <a:moveTo>
                      <a:pt x="17092" y="4"/>
                    </a:moveTo>
                    <a:lnTo>
                      <a:pt x="17092" y="4"/>
                    </a:lnTo>
                    <a:cubicBezTo>
                      <a:pt x="17093" y="4"/>
                      <a:pt x="17094" y="5"/>
                      <a:pt x="17094" y="6"/>
                    </a:cubicBezTo>
                    <a:cubicBezTo>
                      <a:pt x="17094" y="7"/>
                      <a:pt x="17093" y="8"/>
                      <a:pt x="17092" y="8"/>
                    </a:cubicBezTo>
                    <a:lnTo>
                      <a:pt x="17092" y="8"/>
                    </a:lnTo>
                    <a:cubicBezTo>
                      <a:pt x="17090" y="8"/>
                      <a:pt x="17090" y="7"/>
                      <a:pt x="17090" y="6"/>
                    </a:cubicBezTo>
                    <a:cubicBezTo>
                      <a:pt x="17090" y="5"/>
                      <a:pt x="17090" y="4"/>
                      <a:pt x="17092" y="4"/>
                    </a:cubicBezTo>
                    <a:close/>
                    <a:moveTo>
                      <a:pt x="17100" y="4"/>
                    </a:moveTo>
                    <a:lnTo>
                      <a:pt x="17100" y="4"/>
                    </a:lnTo>
                    <a:cubicBezTo>
                      <a:pt x="17101" y="4"/>
                      <a:pt x="17102" y="5"/>
                      <a:pt x="17102" y="6"/>
                    </a:cubicBezTo>
                    <a:cubicBezTo>
                      <a:pt x="17102" y="7"/>
                      <a:pt x="17101" y="8"/>
                      <a:pt x="17100" y="8"/>
                    </a:cubicBezTo>
                    <a:lnTo>
                      <a:pt x="17100" y="8"/>
                    </a:lnTo>
                    <a:cubicBezTo>
                      <a:pt x="17098" y="8"/>
                      <a:pt x="17098" y="7"/>
                      <a:pt x="17098" y="6"/>
                    </a:cubicBezTo>
                    <a:cubicBezTo>
                      <a:pt x="17098" y="5"/>
                      <a:pt x="17098" y="4"/>
                      <a:pt x="17100" y="4"/>
                    </a:cubicBezTo>
                    <a:close/>
                    <a:moveTo>
                      <a:pt x="17108" y="4"/>
                    </a:moveTo>
                    <a:lnTo>
                      <a:pt x="17108" y="4"/>
                    </a:lnTo>
                    <a:cubicBezTo>
                      <a:pt x="17109" y="4"/>
                      <a:pt x="17110" y="5"/>
                      <a:pt x="17110" y="6"/>
                    </a:cubicBezTo>
                    <a:cubicBezTo>
                      <a:pt x="17110" y="7"/>
                      <a:pt x="17109" y="8"/>
                      <a:pt x="17108" y="8"/>
                    </a:cubicBezTo>
                    <a:lnTo>
                      <a:pt x="17108" y="8"/>
                    </a:lnTo>
                    <a:cubicBezTo>
                      <a:pt x="17106" y="8"/>
                      <a:pt x="17106" y="7"/>
                      <a:pt x="17106" y="6"/>
                    </a:cubicBezTo>
                    <a:cubicBezTo>
                      <a:pt x="17106" y="5"/>
                      <a:pt x="17106" y="4"/>
                      <a:pt x="17108" y="4"/>
                    </a:cubicBezTo>
                    <a:close/>
                    <a:moveTo>
                      <a:pt x="17116" y="4"/>
                    </a:moveTo>
                    <a:lnTo>
                      <a:pt x="17116" y="4"/>
                    </a:lnTo>
                    <a:cubicBezTo>
                      <a:pt x="17117" y="4"/>
                      <a:pt x="17118" y="5"/>
                      <a:pt x="17118" y="6"/>
                    </a:cubicBezTo>
                    <a:cubicBezTo>
                      <a:pt x="17118" y="7"/>
                      <a:pt x="17117" y="8"/>
                      <a:pt x="17116" y="8"/>
                    </a:cubicBezTo>
                    <a:lnTo>
                      <a:pt x="17116" y="8"/>
                    </a:lnTo>
                    <a:cubicBezTo>
                      <a:pt x="17114" y="8"/>
                      <a:pt x="17114" y="7"/>
                      <a:pt x="17114" y="6"/>
                    </a:cubicBezTo>
                    <a:cubicBezTo>
                      <a:pt x="17114" y="5"/>
                      <a:pt x="17114" y="4"/>
                      <a:pt x="17116" y="4"/>
                    </a:cubicBezTo>
                    <a:close/>
                    <a:moveTo>
                      <a:pt x="17124" y="4"/>
                    </a:moveTo>
                    <a:lnTo>
                      <a:pt x="17124" y="4"/>
                    </a:lnTo>
                    <a:cubicBezTo>
                      <a:pt x="17125" y="4"/>
                      <a:pt x="17126" y="5"/>
                      <a:pt x="17126" y="6"/>
                    </a:cubicBezTo>
                    <a:cubicBezTo>
                      <a:pt x="17126" y="7"/>
                      <a:pt x="17125" y="8"/>
                      <a:pt x="17124" y="8"/>
                    </a:cubicBezTo>
                    <a:lnTo>
                      <a:pt x="17124" y="8"/>
                    </a:lnTo>
                    <a:cubicBezTo>
                      <a:pt x="17122" y="8"/>
                      <a:pt x="17122" y="7"/>
                      <a:pt x="17122" y="6"/>
                    </a:cubicBezTo>
                    <a:cubicBezTo>
                      <a:pt x="17122" y="5"/>
                      <a:pt x="17122" y="4"/>
                      <a:pt x="17124" y="4"/>
                    </a:cubicBezTo>
                    <a:close/>
                    <a:moveTo>
                      <a:pt x="17132" y="4"/>
                    </a:moveTo>
                    <a:lnTo>
                      <a:pt x="17132" y="4"/>
                    </a:lnTo>
                    <a:cubicBezTo>
                      <a:pt x="17133" y="4"/>
                      <a:pt x="17134" y="5"/>
                      <a:pt x="17134" y="6"/>
                    </a:cubicBezTo>
                    <a:cubicBezTo>
                      <a:pt x="17134" y="7"/>
                      <a:pt x="17133" y="8"/>
                      <a:pt x="17132" y="8"/>
                    </a:cubicBezTo>
                    <a:lnTo>
                      <a:pt x="17132" y="8"/>
                    </a:lnTo>
                    <a:cubicBezTo>
                      <a:pt x="17130" y="8"/>
                      <a:pt x="17130" y="7"/>
                      <a:pt x="17130" y="6"/>
                    </a:cubicBezTo>
                    <a:cubicBezTo>
                      <a:pt x="17130" y="5"/>
                      <a:pt x="17130" y="4"/>
                      <a:pt x="17132" y="4"/>
                    </a:cubicBezTo>
                    <a:close/>
                    <a:moveTo>
                      <a:pt x="17140" y="4"/>
                    </a:moveTo>
                    <a:lnTo>
                      <a:pt x="17140" y="4"/>
                    </a:lnTo>
                    <a:cubicBezTo>
                      <a:pt x="17141" y="4"/>
                      <a:pt x="17142" y="5"/>
                      <a:pt x="17142" y="6"/>
                    </a:cubicBezTo>
                    <a:cubicBezTo>
                      <a:pt x="17142" y="7"/>
                      <a:pt x="17141" y="8"/>
                      <a:pt x="17140" y="8"/>
                    </a:cubicBezTo>
                    <a:lnTo>
                      <a:pt x="17140" y="8"/>
                    </a:lnTo>
                    <a:cubicBezTo>
                      <a:pt x="17138" y="8"/>
                      <a:pt x="17138" y="7"/>
                      <a:pt x="17138" y="6"/>
                    </a:cubicBezTo>
                    <a:cubicBezTo>
                      <a:pt x="17138" y="5"/>
                      <a:pt x="17138" y="4"/>
                      <a:pt x="17140" y="4"/>
                    </a:cubicBezTo>
                    <a:close/>
                    <a:moveTo>
                      <a:pt x="17148" y="4"/>
                    </a:moveTo>
                    <a:lnTo>
                      <a:pt x="17148" y="4"/>
                    </a:lnTo>
                    <a:cubicBezTo>
                      <a:pt x="17149" y="4"/>
                      <a:pt x="17150" y="5"/>
                      <a:pt x="17150" y="6"/>
                    </a:cubicBezTo>
                    <a:cubicBezTo>
                      <a:pt x="17150" y="7"/>
                      <a:pt x="17149" y="8"/>
                      <a:pt x="17148" y="8"/>
                    </a:cubicBezTo>
                    <a:lnTo>
                      <a:pt x="17148" y="8"/>
                    </a:lnTo>
                    <a:cubicBezTo>
                      <a:pt x="17146" y="8"/>
                      <a:pt x="17146" y="7"/>
                      <a:pt x="17146" y="6"/>
                    </a:cubicBezTo>
                    <a:cubicBezTo>
                      <a:pt x="17146" y="5"/>
                      <a:pt x="17146" y="4"/>
                      <a:pt x="17148" y="4"/>
                    </a:cubicBezTo>
                    <a:close/>
                    <a:moveTo>
                      <a:pt x="17156" y="4"/>
                    </a:moveTo>
                    <a:lnTo>
                      <a:pt x="17156" y="4"/>
                    </a:lnTo>
                    <a:cubicBezTo>
                      <a:pt x="17157" y="4"/>
                      <a:pt x="17158" y="5"/>
                      <a:pt x="17158" y="6"/>
                    </a:cubicBezTo>
                    <a:cubicBezTo>
                      <a:pt x="17158" y="7"/>
                      <a:pt x="17157" y="8"/>
                      <a:pt x="17156" y="8"/>
                    </a:cubicBezTo>
                    <a:lnTo>
                      <a:pt x="17156" y="8"/>
                    </a:lnTo>
                    <a:cubicBezTo>
                      <a:pt x="17154" y="8"/>
                      <a:pt x="17154" y="7"/>
                      <a:pt x="17154" y="6"/>
                    </a:cubicBezTo>
                    <a:cubicBezTo>
                      <a:pt x="17154" y="5"/>
                      <a:pt x="17154" y="4"/>
                      <a:pt x="17156" y="4"/>
                    </a:cubicBezTo>
                    <a:close/>
                    <a:moveTo>
                      <a:pt x="17164" y="4"/>
                    </a:moveTo>
                    <a:lnTo>
                      <a:pt x="17164" y="4"/>
                    </a:lnTo>
                    <a:cubicBezTo>
                      <a:pt x="17165" y="4"/>
                      <a:pt x="17166" y="5"/>
                      <a:pt x="17166" y="6"/>
                    </a:cubicBezTo>
                    <a:cubicBezTo>
                      <a:pt x="17166" y="7"/>
                      <a:pt x="17165" y="8"/>
                      <a:pt x="17164" y="8"/>
                    </a:cubicBezTo>
                    <a:lnTo>
                      <a:pt x="17164" y="8"/>
                    </a:lnTo>
                    <a:cubicBezTo>
                      <a:pt x="17162" y="8"/>
                      <a:pt x="17162" y="7"/>
                      <a:pt x="17162" y="6"/>
                    </a:cubicBezTo>
                    <a:cubicBezTo>
                      <a:pt x="17162" y="5"/>
                      <a:pt x="17162" y="4"/>
                      <a:pt x="17164" y="4"/>
                    </a:cubicBezTo>
                    <a:close/>
                    <a:moveTo>
                      <a:pt x="17172" y="4"/>
                    </a:moveTo>
                    <a:lnTo>
                      <a:pt x="17172" y="4"/>
                    </a:lnTo>
                    <a:cubicBezTo>
                      <a:pt x="17173" y="4"/>
                      <a:pt x="17174" y="5"/>
                      <a:pt x="17174" y="6"/>
                    </a:cubicBezTo>
                    <a:cubicBezTo>
                      <a:pt x="17174" y="7"/>
                      <a:pt x="17173" y="8"/>
                      <a:pt x="17172" y="8"/>
                    </a:cubicBezTo>
                    <a:lnTo>
                      <a:pt x="17172" y="8"/>
                    </a:lnTo>
                    <a:cubicBezTo>
                      <a:pt x="17170" y="8"/>
                      <a:pt x="17170" y="7"/>
                      <a:pt x="17170" y="6"/>
                    </a:cubicBezTo>
                    <a:cubicBezTo>
                      <a:pt x="17170" y="5"/>
                      <a:pt x="17170" y="4"/>
                      <a:pt x="17172" y="4"/>
                    </a:cubicBezTo>
                    <a:close/>
                    <a:moveTo>
                      <a:pt x="17180" y="4"/>
                    </a:moveTo>
                    <a:lnTo>
                      <a:pt x="17180" y="4"/>
                    </a:lnTo>
                    <a:cubicBezTo>
                      <a:pt x="17181" y="4"/>
                      <a:pt x="17182" y="5"/>
                      <a:pt x="17182" y="6"/>
                    </a:cubicBezTo>
                    <a:cubicBezTo>
                      <a:pt x="17182" y="7"/>
                      <a:pt x="17181" y="8"/>
                      <a:pt x="17180" y="8"/>
                    </a:cubicBezTo>
                    <a:lnTo>
                      <a:pt x="17180" y="8"/>
                    </a:lnTo>
                    <a:cubicBezTo>
                      <a:pt x="17178" y="8"/>
                      <a:pt x="17178" y="7"/>
                      <a:pt x="17178" y="6"/>
                    </a:cubicBezTo>
                    <a:cubicBezTo>
                      <a:pt x="17178" y="5"/>
                      <a:pt x="17178" y="4"/>
                      <a:pt x="17180" y="4"/>
                    </a:cubicBezTo>
                    <a:close/>
                    <a:moveTo>
                      <a:pt x="17188" y="4"/>
                    </a:moveTo>
                    <a:lnTo>
                      <a:pt x="17188" y="4"/>
                    </a:lnTo>
                    <a:cubicBezTo>
                      <a:pt x="17189" y="4"/>
                      <a:pt x="17190" y="5"/>
                      <a:pt x="17190" y="6"/>
                    </a:cubicBezTo>
                    <a:cubicBezTo>
                      <a:pt x="17190" y="7"/>
                      <a:pt x="17189" y="8"/>
                      <a:pt x="17188" y="8"/>
                    </a:cubicBezTo>
                    <a:lnTo>
                      <a:pt x="17188" y="8"/>
                    </a:lnTo>
                    <a:cubicBezTo>
                      <a:pt x="17187" y="8"/>
                      <a:pt x="17186" y="7"/>
                      <a:pt x="17186" y="6"/>
                    </a:cubicBezTo>
                    <a:cubicBezTo>
                      <a:pt x="17186" y="5"/>
                      <a:pt x="17187" y="4"/>
                      <a:pt x="17188" y="4"/>
                    </a:cubicBezTo>
                    <a:close/>
                    <a:moveTo>
                      <a:pt x="17196" y="4"/>
                    </a:moveTo>
                    <a:lnTo>
                      <a:pt x="17196" y="4"/>
                    </a:lnTo>
                    <a:cubicBezTo>
                      <a:pt x="17197" y="4"/>
                      <a:pt x="17198" y="5"/>
                      <a:pt x="17198" y="6"/>
                    </a:cubicBezTo>
                    <a:cubicBezTo>
                      <a:pt x="17198" y="7"/>
                      <a:pt x="17197" y="8"/>
                      <a:pt x="17196" y="8"/>
                    </a:cubicBezTo>
                    <a:lnTo>
                      <a:pt x="17196" y="8"/>
                    </a:lnTo>
                    <a:cubicBezTo>
                      <a:pt x="17195" y="8"/>
                      <a:pt x="17194" y="7"/>
                      <a:pt x="17194" y="6"/>
                    </a:cubicBezTo>
                    <a:cubicBezTo>
                      <a:pt x="17194" y="5"/>
                      <a:pt x="17195" y="4"/>
                      <a:pt x="17196" y="4"/>
                    </a:cubicBezTo>
                    <a:close/>
                    <a:moveTo>
                      <a:pt x="17204" y="4"/>
                    </a:moveTo>
                    <a:lnTo>
                      <a:pt x="17204" y="4"/>
                    </a:lnTo>
                    <a:cubicBezTo>
                      <a:pt x="17205" y="4"/>
                      <a:pt x="17206" y="5"/>
                      <a:pt x="17206" y="6"/>
                    </a:cubicBezTo>
                    <a:cubicBezTo>
                      <a:pt x="17206" y="7"/>
                      <a:pt x="17205" y="8"/>
                      <a:pt x="17204" y="8"/>
                    </a:cubicBezTo>
                    <a:lnTo>
                      <a:pt x="17204" y="8"/>
                    </a:lnTo>
                    <a:cubicBezTo>
                      <a:pt x="17203" y="8"/>
                      <a:pt x="17202" y="7"/>
                      <a:pt x="17202" y="6"/>
                    </a:cubicBezTo>
                    <a:cubicBezTo>
                      <a:pt x="17202" y="5"/>
                      <a:pt x="17203" y="4"/>
                      <a:pt x="17204" y="4"/>
                    </a:cubicBezTo>
                    <a:close/>
                    <a:moveTo>
                      <a:pt x="17212" y="4"/>
                    </a:moveTo>
                    <a:lnTo>
                      <a:pt x="17212" y="4"/>
                    </a:lnTo>
                    <a:cubicBezTo>
                      <a:pt x="17213" y="4"/>
                      <a:pt x="17214" y="5"/>
                      <a:pt x="17214" y="6"/>
                    </a:cubicBezTo>
                    <a:cubicBezTo>
                      <a:pt x="17214" y="7"/>
                      <a:pt x="17213" y="8"/>
                      <a:pt x="17212" y="8"/>
                    </a:cubicBezTo>
                    <a:lnTo>
                      <a:pt x="17212" y="8"/>
                    </a:lnTo>
                    <a:cubicBezTo>
                      <a:pt x="17211" y="8"/>
                      <a:pt x="17210" y="7"/>
                      <a:pt x="17210" y="6"/>
                    </a:cubicBezTo>
                    <a:cubicBezTo>
                      <a:pt x="17210" y="5"/>
                      <a:pt x="17211" y="4"/>
                      <a:pt x="17212" y="4"/>
                    </a:cubicBezTo>
                    <a:close/>
                    <a:moveTo>
                      <a:pt x="17220" y="4"/>
                    </a:moveTo>
                    <a:lnTo>
                      <a:pt x="17220" y="4"/>
                    </a:lnTo>
                    <a:cubicBezTo>
                      <a:pt x="17221" y="4"/>
                      <a:pt x="17222" y="5"/>
                      <a:pt x="17222" y="6"/>
                    </a:cubicBezTo>
                    <a:cubicBezTo>
                      <a:pt x="17222" y="7"/>
                      <a:pt x="17221" y="8"/>
                      <a:pt x="17220" y="8"/>
                    </a:cubicBezTo>
                    <a:lnTo>
                      <a:pt x="17220" y="8"/>
                    </a:lnTo>
                    <a:cubicBezTo>
                      <a:pt x="17219" y="8"/>
                      <a:pt x="17218" y="7"/>
                      <a:pt x="17218" y="6"/>
                    </a:cubicBezTo>
                    <a:cubicBezTo>
                      <a:pt x="17218" y="5"/>
                      <a:pt x="17219" y="4"/>
                      <a:pt x="17220" y="4"/>
                    </a:cubicBezTo>
                    <a:close/>
                    <a:moveTo>
                      <a:pt x="17228" y="4"/>
                    </a:moveTo>
                    <a:lnTo>
                      <a:pt x="17228" y="4"/>
                    </a:lnTo>
                    <a:cubicBezTo>
                      <a:pt x="17229" y="4"/>
                      <a:pt x="17230" y="5"/>
                      <a:pt x="17230" y="6"/>
                    </a:cubicBezTo>
                    <a:cubicBezTo>
                      <a:pt x="17230" y="7"/>
                      <a:pt x="17229" y="8"/>
                      <a:pt x="17228" y="8"/>
                    </a:cubicBezTo>
                    <a:lnTo>
                      <a:pt x="17228" y="8"/>
                    </a:lnTo>
                    <a:cubicBezTo>
                      <a:pt x="17227" y="8"/>
                      <a:pt x="17226" y="7"/>
                      <a:pt x="17226" y="6"/>
                    </a:cubicBezTo>
                    <a:cubicBezTo>
                      <a:pt x="17226" y="5"/>
                      <a:pt x="17227" y="4"/>
                      <a:pt x="17228" y="4"/>
                    </a:cubicBezTo>
                    <a:close/>
                    <a:moveTo>
                      <a:pt x="17236" y="4"/>
                    </a:moveTo>
                    <a:lnTo>
                      <a:pt x="17236" y="4"/>
                    </a:lnTo>
                    <a:cubicBezTo>
                      <a:pt x="17237" y="4"/>
                      <a:pt x="17238" y="5"/>
                      <a:pt x="17238" y="6"/>
                    </a:cubicBezTo>
                    <a:cubicBezTo>
                      <a:pt x="17238" y="7"/>
                      <a:pt x="17237" y="8"/>
                      <a:pt x="17236" y="8"/>
                    </a:cubicBezTo>
                    <a:lnTo>
                      <a:pt x="17236" y="8"/>
                    </a:lnTo>
                    <a:cubicBezTo>
                      <a:pt x="17235" y="8"/>
                      <a:pt x="17234" y="7"/>
                      <a:pt x="17234" y="6"/>
                    </a:cubicBezTo>
                    <a:cubicBezTo>
                      <a:pt x="17234" y="5"/>
                      <a:pt x="17235" y="4"/>
                      <a:pt x="17236" y="4"/>
                    </a:cubicBezTo>
                    <a:close/>
                    <a:moveTo>
                      <a:pt x="17244" y="4"/>
                    </a:moveTo>
                    <a:lnTo>
                      <a:pt x="17244" y="4"/>
                    </a:lnTo>
                    <a:cubicBezTo>
                      <a:pt x="17245" y="4"/>
                      <a:pt x="17246" y="5"/>
                      <a:pt x="17246" y="6"/>
                    </a:cubicBezTo>
                    <a:cubicBezTo>
                      <a:pt x="17246" y="7"/>
                      <a:pt x="17245" y="8"/>
                      <a:pt x="17244" y="8"/>
                    </a:cubicBezTo>
                    <a:lnTo>
                      <a:pt x="17244" y="8"/>
                    </a:lnTo>
                    <a:cubicBezTo>
                      <a:pt x="17243" y="8"/>
                      <a:pt x="17242" y="7"/>
                      <a:pt x="17242" y="6"/>
                    </a:cubicBezTo>
                    <a:cubicBezTo>
                      <a:pt x="17242" y="5"/>
                      <a:pt x="17243" y="4"/>
                      <a:pt x="17244" y="4"/>
                    </a:cubicBezTo>
                    <a:close/>
                    <a:moveTo>
                      <a:pt x="17252" y="4"/>
                    </a:moveTo>
                    <a:lnTo>
                      <a:pt x="17252" y="4"/>
                    </a:lnTo>
                    <a:cubicBezTo>
                      <a:pt x="17253" y="4"/>
                      <a:pt x="17254" y="5"/>
                      <a:pt x="17254" y="6"/>
                    </a:cubicBezTo>
                    <a:cubicBezTo>
                      <a:pt x="17254" y="7"/>
                      <a:pt x="17253" y="8"/>
                      <a:pt x="17252" y="8"/>
                    </a:cubicBezTo>
                    <a:lnTo>
                      <a:pt x="17252" y="8"/>
                    </a:lnTo>
                    <a:cubicBezTo>
                      <a:pt x="17251" y="8"/>
                      <a:pt x="17250" y="7"/>
                      <a:pt x="17250" y="6"/>
                    </a:cubicBezTo>
                    <a:cubicBezTo>
                      <a:pt x="17250" y="5"/>
                      <a:pt x="17251" y="4"/>
                      <a:pt x="17252" y="4"/>
                    </a:cubicBezTo>
                    <a:close/>
                    <a:moveTo>
                      <a:pt x="17260" y="4"/>
                    </a:moveTo>
                    <a:lnTo>
                      <a:pt x="17260" y="4"/>
                    </a:lnTo>
                    <a:cubicBezTo>
                      <a:pt x="17261" y="4"/>
                      <a:pt x="17262" y="5"/>
                      <a:pt x="17262" y="6"/>
                    </a:cubicBezTo>
                    <a:cubicBezTo>
                      <a:pt x="17262" y="7"/>
                      <a:pt x="17261" y="8"/>
                      <a:pt x="17260" y="8"/>
                    </a:cubicBezTo>
                    <a:lnTo>
                      <a:pt x="17260" y="8"/>
                    </a:lnTo>
                    <a:cubicBezTo>
                      <a:pt x="17259" y="8"/>
                      <a:pt x="17258" y="7"/>
                      <a:pt x="17258" y="6"/>
                    </a:cubicBezTo>
                    <a:cubicBezTo>
                      <a:pt x="17258" y="5"/>
                      <a:pt x="17259" y="4"/>
                      <a:pt x="17260" y="4"/>
                    </a:cubicBezTo>
                    <a:close/>
                    <a:moveTo>
                      <a:pt x="17268" y="4"/>
                    </a:moveTo>
                    <a:lnTo>
                      <a:pt x="17268" y="4"/>
                    </a:lnTo>
                    <a:cubicBezTo>
                      <a:pt x="17269" y="4"/>
                      <a:pt x="17270" y="5"/>
                      <a:pt x="17270" y="6"/>
                    </a:cubicBezTo>
                    <a:cubicBezTo>
                      <a:pt x="17270" y="7"/>
                      <a:pt x="17269" y="8"/>
                      <a:pt x="17268" y="8"/>
                    </a:cubicBezTo>
                    <a:lnTo>
                      <a:pt x="17268" y="8"/>
                    </a:lnTo>
                    <a:cubicBezTo>
                      <a:pt x="17267" y="8"/>
                      <a:pt x="17266" y="7"/>
                      <a:pt x="17266" y="6"/>
                    </a:cubicBezTo>
                    <a:cubicBezTo>
                      <a:pt x="17266" y="5"/>
                      <a:pt x="17267" y="4"/>
                      <a:pt x="17268" y="4"/>
                    </a:cubicBezTo>
                    <a:close/>
                    <a:moveTo>
                      <a:pt x="17276" y="4"/>
                    </a:moveTo>
                    <a:lnTo>
                      <a:pt x="17276" y="4"/>
                    </a:lnTo>
                    <a:cubicBezTo>
                      <a:pt x="17277" y="4"/>
                      <a:pt x="17278" y="5"/>
                      <a:pt x="17278" y="6"/>
                    </a:cubicBezTo>
                    <a:cubicBezTo>
                      <a:pt x="17278" y="7"/>
                      <a:pt x="17277" y="8"/>
                      <a:pt x="17276" y="8"/>
                    </a:cubicBezTo>
                    <a:lnTo>
                      <a:pt x="17276" y="8"/>
                    </a:lnTo>
                    <a:cubicBezTo>
                      <a:pt x="17275" y="8"/>
                      <a:pt x="17274" y="7"/>
                      <a:pt x="17274" y="6"/>
                    </a:cubicBezTo>
                    <a:cubicBezTo>
                      <a:pt x="17274" y="5"/>
                      <a:pt x="17275" y="4"/>
                      <a:pt x="17276" y="4"/>
                    </a:cubicBezTo>
                    <a:close/>
                    <a:moveTo>
                      <a:pt x="17284" y="4"/>
                    </a:moveTo>
                    <a:lnTo>
                      <a:pt x="17284" y="4"/>
                    </a:lnTo>
                    <a:cubicBezTo>
                      <a:pt x="17285" y="4"/>
                      <a:pt x="17286" y="5"/>
                      <a:pt x="17286" y="6"/>
                    </a:cubicBezTo>
                    <a:cubicBezTo>
                      <a:pt x="17286" y="7"/>
                      <a:pt x="17285" y="8"/>
                      <a:pt x="17284" y="8"/>
                    </a:cubicBezTo>
                    <a:lnTo>
                      <a:pt x="17284" y="8"/>
                    </a:lnTo>
                    <a:cubicBezTo>
                      <a:pt x="17283" y="8"/>
                      <a:pt x="17282" y="7"/>
                      <a:pt x="17282" y="6"/>
                    </a:cubicBezTo>
                    <a:cubicBezTo>
                      <a:pt x="17282" y="5"/>
                      <a:pt x="17283" y="4"/>
                      <a:pt x="17284" y="4"/>
                    </a:cubicBezTo>
                    <a:close/>
                    <a:moveTo>
                      <a:pt x="17292" y="4"/>
                    </a:moveTo>
                    <a:lnTo>
                      <a:pt x="17292" y="4"/>
                    </a:lnTo>
                    <a:cubicBezTo>
                      <a:pt x="17293" y="4"/>
                      <a:pt x="17294" y="5"/>
                      <a:pt x="17294" y="6"/>
                    </a:cubicBezTo>
                    <a:cubicBezTo>
                      <a:pt x="17294" y="7"/>
                      <a:pt x="17293" y="8"/>
                      <a:pt x="17292" y="8"/>
                    </a:cubicBezTo>
                    <a:lnTo>
                      <a:pt x="17292" y="8"/>
                    </a:lnTo>
                    <a:cubicBezTo>
                      <a:pt x="17291" y="8"/>
                      <a:pt x="17290" y="7"/>
                      <a:pt x="17290" y="6"/>
                    </a:cubicBezTo>
                    <a:cubicBezTo>
                      <a:pt x="17290" y="5"/>
                      <a:pt x="17291" y="4"/>
                      <a:pt x="17292" y="4"/>
                    </a:cubicBezTo>
                    <a:close/>
                    <a:moveTo>
                      <a:pt x="17300" y="4"/>
                    </a:moveTo>
                    <a:lnTo>
                      <a:pt x="17300" y="4"/>
                    </a:lnTo>
                    <a:cubicBezTo>
                      <a:pt x="17301" y="4"/>
                      <a:pt x="17302" y="5"/>
                      <a:pt x="17302" y="6"/>
                    </a:cubicBezTo>
                    <a:cubicBezTo>
                      <a:pt x="17302" y="7"/>
                      <a:pt x="17301" y="8"/>
                      <a:pt x="17300" y="8"/>
                    </a:cubicBezTo>
                    <a:lnTo>
                      <a:pt x="17300" y="8"/>
                    </a:lnTo>
                    <a:cubicBezTo>
                      <a:pt x="17299" y="8"/>
                      <a:pt x="17298" y="7"/>
                      <a:pt x="17298" y="6"/>
                    </a:cubicBezTo>
                    <a:cubicBezTo>
                      <a:pt x="17298" y="5"/>
                      <a:pt x="17299" y="4"/>
                      <a:pt x="17300" y="4"/>
                    </a:cubicBezTo>
                    <a:close/>
                    <a:moveTo>
                      <a:pt x="17308" y="4"/>
                    </a:moveTo>
                    <a:lnTo>
                      <a:pt x="17308" y="4"/>
                    </a:lnTo>
                    <a:cubicBezTo>
                      <a:pt x="17309" y="4"/>
                      <a:pt x="17310" y="5"/>
                      <a:pt x="17310" y="6"/>
                    </a:cubicBezTo>
                    <a:cubicBezTo>
                      <a:pt x="17310" y="7"/>
                      <a:pt x="17309" y="8"/>
                      <a:pt x="17308" y="8"/>
                    </a:cubicBezTo>
                    <a:lnTo>
                      <a:pt x="17308" y="8"/>
                    </a:lnTo>
                    <a:cubicBezTo>
                      <a:pt x="17307" y="8"/>
                      <a:pt x="17306" y="7"/>
                      <a:pt x="17306" y="6"/>
                    </a:cubicBezTo>
                    <a:cubicBezTo>
                      <a:pt x="17306" y="5"/>
                      <a:pt x="17307" y="4"/>
                      <a:pt x="17308" y="4"/>
                    </a:cubicBezTo>
                    <a:close/>
                    <a:moveTo>
                      <a:pt x="17316" y="4"/>
                    </a:moveTo>
                    <a:lnTo>
                      <a:pt x="17316" y="4"/>
                    </a:lnTo>
                    <a:cubicBezTo>
                      <a:pt x="17317" y="4"/>
                      <a:pt x="17318" y="5"/>
                      <a:pt x="17318" y="6"/>
                    </a:cubicBezTo>
                    <a:cubicBezTo>
                      <a:pt x="17318" y="7"/>
                      <a:pt x="17317" y="8"/>
                      <a:pt x="17316" y="8"/>
                    </a:cubicBezTo>
                    <a:lnTo>
                      <a:pt x="17316" y="8"/>
                    </a:lnTo>
                    <a:cubicBezTo>
                      <a:pt x="17315" y="8"/>
                      <a:pt x="17314" y="7"/>
                      <a:pt x="17314" y="6"/>
                    </a:cubicBezTo>
                    <a:cubicBezTo>
                      <a:pt x="17314" y="5"/>
                      <a:pt x="17315" y="4"/>
                      <a:pt x="17316" y="4"/>
                    </a:cubicBezTo>
                    <a:close/>
                    <a:moveTo>
                      <a:pt x="17324" y="4"/>
                    </a:moveTo>
                    <a:lnTo>
                      <a:pt x="17324" y="4"/>
                    </a:lnTo>
                    <a:cubicBezTo>
                      <a:pt x="17325" y="4"/>
                      <a:pt x="17326" y="5"/>
                      <a:pt x="17326" y="6"/>
                    </a:cubicBezTo>
                    <a:cubicBezTo>
                      <a:pt x="17326" y="7"/>
                      <a:pt x="17325" y="8"/>
                      <a:pt x="17324" y="8"/>
                    </a:cubicBezTo>
                    <a:lnTo>
                      <a:pt x="17324" y="8"/>
                    </a:lnTo>
                    <a:cubicBezTo>
                      <a:pt x="17323" y="8"/>
                      <a:pt x="17322" y="7"/>
                      <a:pt x="17322" y="6"/>
                    </a:cubicBezTo>
                    <a:cubicBezTo>
                      <a:pt x="17322" y="5"/>
                      <a:pt x="17323" y="4"/>
                      <a:pt x="17324" y="4"/>
                    </a:cubicBezTo>
                    <a:close/>
                    <a:moveTo>
                      <a:pt x="17332" y="4"/>
                    </a:moveTo>
                    <a:lnTo>
                      <a:pt x="17332" y="4"/>
                    </a:lnTo>
                    <a:cubicBezTo>
                      <a:pt x="17333" y="4"/>
                      <a:pt x="17334" y="5"/>
                      <a:pt x="17334" y="6"/>
                    </a:cubicBezTo>
                    <a:cubicBezTo>
                      <a:pt x="17334" y="7"/>
                      <a:pt x="17333" y="8"/>
                      <a:pt x="17332" y="8"/>
                    </a:cubicBezTo>
                    <a:lnTo>
                      <a:pt x="17332" y="8"/>
                    </a:lnTo>
                    <a:cubicBezTo>
                      <a:pt x="17331" y="8"/>
                      <a:pt x="17330" y="7"/>
                      <a:pt x="17330" y="6"/>
                    </a:cubicBezTo>
                    <a:cubicBezTo>
                      <a:pt x="17330" y="5"/>
                      <a:pt x="17331" y="4"/>
                      <a:pt x="17332" y="4"/>
                    </a:cubicBezTo>
                    <a:close/>
                    <a:moveTo>
                      <a:pt x="17340" y="4"/>
                    </a:moveTo>
                    <a:lnTo>
                      <a:pt x="17340" y="4"/>
                    </a:lnTo>
                    <a:cubicBezTo>
                      <a:pt x="17341" y="4"/>
                      <a:pt x="17342" y="5"/>
                      <a:pt x="17342" y="6"/>
                    </a:cubicBezTo>
                    <a:cubicBezTo>
                      <a:pt x="17342" y="7"/>
                      <a:pt x="17341" y="8"/>
                      <a:pt x="17340" y="8"/>
                    </a:cubicBezTo>
                    <a:lnTo>
                      <a:pt x="17340" y="8"/>
                    </a:lnTo>
                    <a:cubicBezTo>
                      <a:pt x="17339" y="8"/>
                      <a:pt x="17338" y="7"/>
                      <a:pt x="17338" y="6"/>
                    </a:cubicBezTo>
                    <a:cubicBezTo>
                      <a:pt x="17338" y="5"/>
                      <a:pt x="17339" y="4"/>
                      <a:pt x="17340" y="4"/>
                    </a:cubicBezTo>
                    <a:close/>
                    <a:moveTo>
                      <a:pt x="17348" y="4"/>
                    </a:moveTo>
                    <a:lnTo>
                      <a:pt x="17348" y="4"/>
                    </a:lnTo>
                    <a:cubicBezTo>
                      <a:pt x="17349" y="4"/>
                      <a:pt x="17350" y="5"/>
                      <a:pt x="17350" y="6"/>
                    </a:cubicBezTo>
                    <a:cubicBezTo>
                      <a:pt x="17350" y="7"/>
                      <a:pt x="17349" y="8"/>
                      <a:pt x="17348" y="8"/>
                    </a:cubicBezTo>
                    <a:lnTo>
                      <a:pt x="17348" y="8"/>
                    </a:lnTo>
                    <a:cubicBezTo>
                      <a:pt x="17347" y="8"/>
                      <a:pt x="17346" y="7"/>
                      <a:pt x="17346" y="6"/>
                    </a:cubicBezTo>
                    <a:cubicBezTo>
                      <a:pt x="17346" y="5"/>
                      <a:pt x="17347" y="4"/>
                      <a:pt x="17348" y="4"/>
                    </a:cubicBezTo>
                    <a:close/>
                    <a:moveTo>
                      <a:pt x="17356" y="4"/>
                    </a:moveTo>
                    <a:lnTo>
                      <a:pt x="17356" y="4"/>
                    </a:lnTo>
                    <a:cubicBezTo>
                      <a:pt x="17357" y="4"/>
                      <a:pt x="17358" y="5"/>
                      <a:pt x="17358" y="6"/>
                    </a:cubicBezTo>
                    <a:cubicBezTo>
                      <a:pt x="17358" y="7"/>
                      <a:pt x="17357" y="8"/>
                      <a:pt x="17356" y="8"/>
                    </a:cubicBezTo>
                    <a:lnTo>
                      <a:pt x="17356" y="8"/>
                    </a:lnTo>
                    <a:cubicBezTo>
                      <a:pt x="17355" y="8"/>
                      <a:pt x="17354" y="7"/>
                      <a:pt x="17354" y="6"/>
                    </a:cubicBezTo>
                    <a:cubicBezTo>
                      <a:pt x="17354" y="5"/>
                      <a:pt x="17355" y="4"/>
                      <a:pt x="17356" y="4"/>
                    </a:cubicBezTo>
                    <a:close/>
                    <a:moveTo>
                      <a:pt x="17364" y="4"/>
                    </a:moveTo>
                    <a:lnTo>
                      <a:pt x="17364" y="4"/>
                    </a:lnTo>
                    <a:cubicBezTo>
                      <a:pt x="17365" y="4"/>
                      <a:pt x="17366" y="5"/>
                      <a:pt x="17366" y="6"/>
                    </a:cubicBezTo>
                    <a:cubicBezTo>
                      <a:pt x="17366" y="7"/>
                      <a:pt x="17365" y="8"/>
                      <a:pt x="17364" y="8"/>
                    </a:cubicBezTo>
                    <a:lnTo>
                      <a:pt x="17364" y="8"/>
                    </a:lnTo>
                    <a:cubicBezTo>
                      <a:pt x="17363" y="8"/>
                      <a:pt x="17362" y="7"/>
                      <a:pt x="17362" y="6"/>
                    </a:cubicBezTo>
                    <a:cubicBezTo>
                      <a:pt x="17362" y="5"/>
                      <a:pt x="17363" y="4"/>
                      <a:pt x="17364" y="4"/>
                    </a:cubicBezTo>
                    <a:close/>
                    <a:moveTo>
                      <a:pt x="17372" y="4"/>
                    </a:moveTo>
                    <a:lnTo>
                      <a:pt x="17372" y="4"/>
                    </a:lnTo>
                    <a:cubicBezTo>
                      <a:pt x="17373" y="4"/>
                      <a:pt x="17374" y="5"/>
                      <a:pt x="17374" y="6"/>
                    </a:cubicBezTo>
                    <a:cubicBezTo>
                      <a:pt x="17374" y="7"/>
                      <a:pt x="17373" y="8"/>
                      <a:pt x="17372" y="8"/>
                    </a:cubicBezTo>
                    <a:lnTo>
                      <a:pt x="17372" y="8"/>
                    </a:lnTo>
                    <a:cubicBezTo>
                      <a:pt x="17371" y="8"/>
                      <a:pt x="17370" y="7"/>
                      <a:pt x="17370" y="6"/>
                    </a:cubicBezTo>
                    <a:cubicBezTo>
                      <a:pt x="17370" y="5"/>
                      <a:pt x="17371" y="4"/>
                      <a:pt x="17372" y="4"/>
                    </a:cubicBezTo>
                    <a:close/>
                    <a:moveTo>
                      <a:pt x="17380" y="4"/>
                    </a:moveTo>
                    <a:lnTo>
                      <a:pt x="17380" y="4"/>
                    </a:lnTo>
                    <a:cubicBezTo>
                      <a:pt x="17381" y="4"/>
                      <a:pt x="17382" y="5"/>
                      <a:pt x="17382" y="6"/>
                    </a:cubicBezTo>
                    <a:cubicBezTo>
                      <a:pt x="17382" y="7"/>
                      <a:pt x="17381" y="8"/>
                      <a:pt x="17380" y="8"/>
                    </a:cubicBezTo>
                    <a:lnTo>
                      <a:pt x="17380" y="8"/>
                    </a:lnTo>
                    <a:cubicBezTo>
                      <a:pt x="17379" y="8"/>
                      <a:pt x="17378" y="7"/>
                      <a:pt x="17378" y="6"/>
                    </a:cubicBezTo>
                    <a:cubicBezTo>
                      <a:pt x="17378" y="5"/>
                      <a:pt x="17379" y="4"/>
                      <a:pt x="17380" y="4"/>
                    </a:cubicBezTo>
                    <a:close/>
                    <a:moveTo>
                      <a:pt x="17388" y="4"/>
                    </a:moveTo>
                    <a:lnTo>
                      <a:pt x="17388" y="4"/>
                    </a:lnTo>
                    <a:cubicBezTo>
                      <a:pt x="17389" y="4"/>
                      <a:pt x="17390" y="5"/>
                      <a:pt x="17390" y="6"/>
                    </a:cubicBezTo>
                    <a:cubicBezTo>
                      <a:pt x="17390" y="7"/>
                      <a:pt x="17389" y="8"/>
                      <a:pt x="17388" y="8"/>
                    </a:cubicBezTo>
                    <a:lnTo>
                      <a:pt x="17388" y="8"/>
                    </a:lnTo>
                    <a:cubicBezTo>
                      <a:pt x="17387" y="8"/>
                      <a:pt x="17386" y="7"/>
                      <a:pt x="17386" y="6"/>
                    </a:cubicBezTo>
                    <a:cubicBezTo>
                      <a:pt x="17386" y="5"/>
                      <a:pt x="17387" y="4"/>
                      <a:pt x="17388" y="4"/>
                    </a:cubicBezTo>
                    <a:close/>
                    <a:moveTo>
                      <a:pt x="17396" y="4"/>
                    </a:moveTo>
                    <a:lnTo>
                      <a:pt x="17396" y="4"/>
                    </a:lnTo>
                    <a:cubicBezTo>
                      <a:pt x="17397" y="4"/>
                      <a:pt x="17398" y="5"/>
                      <a:pt x="17398" y="6"/>
                    </a:cubicBezTo>
                    <a:cubicBezTo>
                      <a:pt x="17398" y="7"/>
                      <a:pt x="17397" y="8"/>
                      <a:pt x="17396" y="8"/>
                    </a:cubicBezTo>
                    <a:lnTo>
                      <a:pt x="17396" y="8"/>
                    </a:lnTo>
                    <a:cubicBezTo>
                      <a:pt x="17395" y="8"/>
                      <a:pt x="17394" y="7"/>
                      <a:pt x="17394" y="6"/>
                    </a:cubicBezTo>
                    <a:cubicBezTo>
                      <a:pt x="17394" y="5"/>
                      <a:pt x="17395" y="4"/>
                      <a:pt x="17396" y="4"/>
                    </a:cubicBezTo>
                    <a:close/>
                    <a:moveTo>
                      <a:pt x="17404" y="4"/>
                    </a:moveTo>
                    <a:lnTo>
                      <a:pt x="17404" y="4"/>
                    </a:lnTo>
                    <a:cubicBezTo>
                      <a:pt x="17405" y="4"/>
                      <a:pt x="17406" y="5"/>
                      <a:pt x="17406" y="6"/>
                    </a:cubicBezTo>
                    <a:cubicBezTo>
                      <a:pt x="17406" y="7"/>
                      <a:pt x="17405" y="8"/>
                      <a:pt x="17404" y="8"/>
                    </a:cubicBezTo>
                    <a:lnTo>
                      <a:pt x="17404" y="8"/>
                    </a:lnTo>
                    <a:cubicBezTo>
                      <a:pt x="17403" y="8"/>
                      <a:pt x="17402" y="7"/>
                      <a:pt x="17402" y="6"/>
                    </a:cubicBezTo>
                    <a:cubicBezTo>
                      <a:pt x="17402" y="5"/>
                      <a:pt x="17403" y="4"/>
                      <a:pt x="17404" y="4"/>
                    </a:cubicBezTo>
                    <a:close/>
                    <a:moveTo>
                      <a:pt x="17412" y="4"/>
                    </a:moveTo>
                    <a:lnTo>
                      <a:pt x="17412" y="4"/>
                    </a:lnTo>
                    <a:cubicBezTo>
                      <a:pt x="17413" y="4"/>
                      <a:pt x="17414" y="5"/>
                      <a:pt x="17414" y="6"/>
                    </a:cubicBezTo>
                    <a:cubicBezTo>
                      <a:pt x="17414" y="7"/>
                      <a:pt x="17413" y="8"/>
                      <a:pt x="17412" y="8"/>
                    </a:cubicBezTo>
                    <a:lnTo>
                      <a:pt x="17412" y="8"/>
                    </a:lnTo>
                    <a:cubicBezTo>
                      <a:pt x="17411" y="8"/>
                      <a:pt x="17410" y="7"/>
                      <a:pt x="17410" y="6"/>
                    </a:cubicBezTo>
                    <a:cubicBezTo>
                      <a:pt x="17410" y="5"/>
                      <a:pt x="17411" y="4"/>
                      <a:pt x="17412" y="4"/>
                    </a:cubicBezTo>
                    <a:close/>
                    <a:moveTo>
                      <a:pt x="17420" y="4"/>
                    </a:moveTo>
                    <a:lnTo>
                      <a:pt x="17420" y="4"/>
                    </a:lnTo>
                    <a:cubicBezTo>
                      <a:pt x="17421" y="4"/>
                      <a:pt x="17422" y="5"/>
                      <a:pt x="17422" y="6"/>
                    </a:cubicBezTo>
                    <a:cubicBezTo>
                      <a:pt x="17422" y="7"/>
                      <a:pt x="17421" y="8"/>
                      <a:pt x="17420" y="8"/>
                    </a:cubicBezTo>
                    <a:lnTo>
                      <a:pt x="17420" y="8"/>
                    </a:lnTo>
                    <a:cubicBezTo>
                      <a:pt x="17419" y="8"/>
                      <a:pt x="17418" y="7"/>
                      <a:pt x="17418" y="6"/>
                    </a:cubicBezTo>
                    <a:cubicBezTo>
                      <a:pt x="17418" y="5"/>
                      <a:pt x="17419" y="4"/>
                      <a:pt x="17420" y="4"/>
                    </a:cubicBezTo>
                    <a:close/>
                    <a:moveTo>
                      <a:pt x="17428" y="4"/>
                    </a:moveTo>
                    <a:lnTo>
                      <a:pt x="17428" y="4"/>
                    </a:lnTo>
                    <a:cubicBezTo>
                      <a:pt x="17429" y="4"/>
                      <a:pt x="17430" y="5"/>
                      <a:pt x="17430" y="6"/>
                    </a:cubicBezTo>
                    <a:cubicBezTo>
                      <a:pt x="17430" y="7"/>
                      <a:pt x="17429" y="8"/>
                      <a:pt x="17428" y="8"/>
                    </a:cubicBezTo>
                    <a:lnTo>
                      <a:pt x="17428" y="8"/>
                    </a:lnTo>
                    <a:cubicBezTo>
                      <a:pt x="17427" y="8"/>
                      <a:pt x="17426" y="7"/>
                      <a:pt x="17426" y="6"/>
                    </a:cubicBezTo>
                    <a:cubicBezTo>
                      <a:pt x="17426" y="5"/>
                      <a:pt x="17427" y="4"/>
                      <a:pt x="17428" y="4"/>
                    </a:cubicBezTo>
                    <a:close/>
                    <a:moveTo>
                      <a:pt x="17436" y="4"/>
                    </a:moveTo>
                    <a:lnTo>
                      <a:pt x="17436" y="4"/>
                    </a:lnTo>
                    <a:cubicBezTo>
                      <a:pt x="17437" y="4"/>
                      <a:pt x="17438" y="5"/>
                      <a:pt x="17438" y="6"/>
                    </a:cubicBezTo>
                    <a:cubicBezTo>
                      <a:pt x="17438" y="7"/>
                      <a:pt x="17437" y="8"/>
                      <a:pt x="17436" y="8"/>
                    </a:cubicBezTo>
                    <a:lnTo>
                      <a:pt x="17436" y="8"/>
                    </a:lnTo>
                    <a:cubicBezTo>
                      <a:pt x="17435" y="8"/>
                      <a:pt x="17434" y="7"/>
                      <a:pt x="17434" y="6"/>
                    </a:cubicBezTo>
                    <a:cubicBezTo>
                      <a:pt x="17434" y="5"/>
                      <a:pt x="17435" y="4"/>
                      <a:pt x="17436" y="4"/>
                    </a:cubicBezTo>
                    <a:close/>
                    <a:moveTo>
                      <a:pt x="17444" y="4"/>
                    </a:moveTo>
                    <a:lnTo>
                      <a:pt x="17444" y="4"/>
                    </a:lnTo>
                    <a:cubicBezTo>
                      <a:pt x="17445" y="4"/>
                      <a:pt x="17446" y="5"/>
                      <a:pt x="17446" y="6"/>
                    </a:cubicBezTo>
                    <a:cubicBezTo>
                      <a:pt x="17446" y="7"/>
                      <a:pt x="17445" y="8"/>
                      <a:pt x="17444" y="8"/>
                    </a:cubicBezTo>
                    <a:lnTo>
                      <a:pt x="17444" y="8"/>
                    </a:lnTo>
                    <a:cubicBezTo>
                      <a:pt x="17443" y="8"/>
                      <a:pt x="17442" y="7"/>
                      <a:pt x="17442" y="6"/>
                    </a:cubicBezTo>
                    <a:cubicBezTo>
                      <a:pt x="17442" y="5"/>
                      <a:pt x="17443" y="4"/>
                      <a:pt x="17444" y="4"/>
                    </a:cubicBezTo>
                    <a:close/>
                    <a:moveTo>
                      <a:pt x="17452" y="4"/>
                    </a:moveTo>
                    <a:lnTo>
                      <a:pt x="17452" y="4"/>
                    </a:lnTo>
                    <a:cubicBezTo>
                      <a:pt x="17453" y="4"/>
                      <a:pt x="17454" y="5"/>
                      <a:pt x="17454" y="6"/>
                    </a:cubicBezTo>
                    <a:cubicBezTo>
                      <a:pt x="17454" y="7"/>
                      <a:pt x="17453" y="8"/>
                      <a:pt x="17452" y="8"/>
                    </a:cubicBezTo>
                    <a:lnTo>
                      <a:pt x="17452" y="8"/>
                    </a:lnTo>
                    <a:cubicBezTo>
                      <a:pt x="17451" y="8"/>
                      <a:pt x="17450" y="7"/>
                      <a:pt x="17450" y="6"/>
                    </a:cubicBezTo>
                    <a:cubicBezTo>
                      <a:pt x="17450" y="5"/>
                      <a:pt x="17451" y="4"/>
                      <a:pt x="17452" y="4"/>
                    </a:cubicBezTo>
                    <a:close/>
                    <a:moveTo>
                      <a:pt x="17460" y="4"/>
                    </a:moveTo>
                    <a:lnTo>
                      <a:pt x="17460" y="4"/>
                    </a:lnTo>
                    <a:cubicBezTo>
                      <a:pt x="17461" y="4"/>
                      <a:pt x="17462" y="5"/>
                      <a:pt x="17462" y="6"/>
                    </a:cubicBezTo>
                    <a:cubicBezTo>
                      <a:pt x="17462" y="7"/>
                      <a:pt x="17461" y="8"/>
                      <a:pt x="17460" y="8"/>
                    </a:cubicBezTo>
                    <a:lnTo>
                      <a:pt x="17460" y="8"/>
                    </a:lnTo>
                    <a:cubicBezTo>
                      <a:pt x="17459" y="8"/>
                      <a:pt x="17458" y="7"/>
                      <a:pt x="17458" y="6"/>
                    </a:cubicBezTo>
                    <a:cubicBezTo>
                      <a:pt x="17458" y="5"/>
                      <a:pt x="17459" y="4"/>
                      <a:pt x="17460" y="4"/>
                    </a:cubicBezTo>
                    <a:close/>
                    <a:moveTo>
                      <a:pt x="17468" y="4"/>
                    </a:moveTo>
                    <a:lnTo>
                      <a:pt x="17468" y="4"/>
                    </a:lnTo>
                    <a:cubicBezTo>
                      <a:pt x="17469" y="4"/>
                      <a:pt x="17470" y="5"/>
                      <a:pt x="17470" y="6"/>
                    </a:cubicBezTo>
                    <a:cubicBezTo>
                      <a:pt x="17470" y="7"/>
                      <a:pt x="17469" y="8"/>
                      <a:pt x="17468" y="8"/>
                    </a:cubicBezTo>
                    <a:lnTo>
                      <a:pt x="17468" y="8"/>
                    </a:lnTo>
                    <a:cubicBezTo>
                      <a:pt x="17467" y="8"/>
                      <a:pt x="17466" y="7"/>
                      <a:pt x="17466" y="6"/>
                    </a:cubicBezTo>
                    <a:cubicBezTo>
                      <a:pt x="17466" y="5"/>
                      <a:pt x="17467" y="4"/>
                      <a:pt x="17468" y="4"/>
                    </a:cubicBezTo>
                    <a:close/>
                    <a:moveTo>
                      <a:pt x="17476" y="4"/>
                    </a:moveTo>
                    <a:lnTo>
                      <a:pt x="17476" y="4"/>
                    </a:lnTo>
                    <a:cubicBezTo>
                      <a:pt x="17477" y="4"/>
                      <a:pt x="17478" y="5"/>
                      <a:pt x="17478" y="6"/>
                    </a:cubicBezTo>
                    <a:cubicBezTo>
                      <a:pt x="17478" y="7"/>
                      <a:pt x="17477" y="8"/>
                      <a:pt x="17476" y="8"/>
                    </a:cubicBezTo>
                    <a:lnTo>
                      <a:pt x="17476" y="8"/>
                    </a:lnTo>
                    <a:cubicBezTo>
                      <a:pt x="17475" y="8"/>
                      <a:pt x="17474" y="7"/>
                      <a:pt x="17474" y="6"/>
                    </a:cubicBezTo>
                    <a:cubicBezTo>
                      <a:pt x="17474" y="5"/>
                      <a:pt x="17475" y="4"/>
                      <a:pt x="17476" y="4"/>
                    </a:cubicBezTo>
                    <a:close/>
                    <a:moveTo>
                      <a:pt x="17484" y="4"/>
                    </a:moveTo>
                    <a:lnTo>
                      <a:pt x="17484" y="4"/>
                    </a:lnTo>
                    <a:cubicBezTo>
                      <a:pt x="17485" y="4"/>
                      <a:pt x="17486" y="5"/>
                      <a:pt x="17486" y="6"/>
                    </a:cubicBezTo>
                    <a:cubicBezTo>
                      <a:pt x="17486" y="7"/>
                      <a:pt x="17485" y="8"/>
                      <a:pt x="17484" y="8"/>
                    </a:cubicBezTo>
                    <a:lnTo>
                      <a:pt x="17484" y="8"/>
                    </a:lnTo>
                    <a:cubicBezTo>
                      <a:pt x="17483" y="8"/>
                      <a:pt x="17482" y="7"/>
                      <a:pt x="17482" y="6"/>
                    </a:cubicBezTo>
                    <a:cubicBezTo>
                      <a:pt x="17482" y="5"/>
                      <a:pt x="17483" y="4"/>
                      <a:pt x="17484" y="4"/>
                    </a:cubicBezTo>
                    <a:close/>
                    <a:moveTo>
                      <a:pt x="17492" y="4"/>
                    </a:moveTo>
                    <a:lnTo>
                      <a:pt x="17492" y="4"/>
                    </a:lnTo>
                    <a:cubicBezTo>
                      <a:pt x="17493" y="4"/>
                      <a:pt x="17494" y="5"/>
                      <a:pt x="17494" y="6"/>
                    </a:cubicBezTo>
                    <a:cubicBezTo>
                      <a:pt x="17494" y="7"/>
                      <a:pt x="17493" y="8"/>
                      <a:pt x="17492" y="8"/>
                    </a:cubicBezTo>
                    <a:lnTo>
                      <a:pt x="17492" y="8"/>
                    </a:lnTo>
                    <a:cubicBezTo>
                      <a:pt x="17491" y="8"/>
                      <a:pt x="17490" y="7"/>
                      <a:pt x="17490" y="6"/>
                    </a:cubicBezTo>
                    <a:cubicBezTo>
                      <a:pt x="17490" y="5"/>
                      <a:pt x="17491" y="4"/>
                      <a:pt x="17492" y="4"/>
                    </a:cubicBezTo>
                    <a:close/>
                    <a:moveTo>
                      <a:pt x="17500" y="4"/>
                    </a:moveTo>
                    <a:lnTo>
                      <a:pt x="17500" y="4"/>
                    </a:lnTo>
                    <a:cubicBezTo>
                      <a:pt x="17501" y="4"/>
                      <a:pt x="17502" y="5"/>
                      <a:pt x="17502" y="6"/>
                    </a:cubicBezTo>
                    <a:cubicBezTo>
                      <a:pt x="17502" y="7"/>
                      <a:pt x="17501" y="8"/>
                      <a:pt x="17500" y="8"/>
                    </a:cubicBezTo>
                    <a:lnTo>
                      <a:pt x="17500" y="8"/>
                    </a:lnTo>
                    <a:cubicBezTo>
                      <a:pt x="17499" y="8"/>
                      <a:pt x="17498" y="7"/>
                      <a:pt x="17498" y="6"/>
                    </a:cubicBezTo>
                    <a:cubicBezTo>
                      <a:pt x="17498" y="5"/>
                      <a:pt x="17499" y="4"/>
                      <a:pt x="17500" y="4"/>
                    </a:cubicBezTo>
                    <a:close/>
                    <a:moveTo>
                      <a:pt x="17508" y="4"/>
                    </a:moveTo>
                    <a:lnTo>
                      <a:pt x="17508" y="4"/>
                    </a:lnTo>
                    <a:cubicBezTo>
                      <a:pt x="17509" y="4"/>
                      <a:pt x="17510" y="5"/>
                      <a:pt x="17510" y="6"/>
                    </a:cubicBezTo>
                    <a:cubicBezTo>
                      <a:pt x="17510" y="7"/>
                      <a:pt x="17509" y="8"/>
                      <a:pt x="17508" y="8"/>
                    </a:cubicBezTo>
                    <a:lnTo>
                      <a:pt x="17508" y="8"/>
                    </a:lnTo>
                    <a:cubicBezTo>
                      <a:pt x="17507" y="8"/>
                      <a:pt x="17506" y="7"/>
                      <a:pt x="17506" y="6"/>
                    </a:cubicBezTo>
                    <a:cubicBezTo>
                      <a:pt x="17506" y="5"/>
                      <a:pt x="17507" y="4"/>
                      <a:pt x="17508" y="4"/>
                    </a:cubicBezTo>
                    <a:close/>
                    <a:moveTo>
                      <a:pt x="17516" y="4"/>
                    </a:moveTo>
                    <a:lnTo>
                      <a:pt x="17516" y="4"/>
                    </a:lnTo>
                    <a:cubicBezTo>
                      <a:pt x="17517" y="4"/>
                      <a:pt x="17518" y="5"/>
                      <a:pt x="17518" y="6"/>
                    </a:cubicBezTo>
                    <a:cubicBezTo>
                      <a:pt x="17518" y="7"/>
                      <a:pt x="17517" y="8"/>
                      <a:pt x="17516" y="8"/>
                    </a:cubicBezTo>
                    <a:lnTo>
                      <a:pt x="17516" y="8"/>
                    </a:lnTo>
                    <a:cubicBezTo>
                      <a:pt x="17515" y="8"/>
                      <a:pt x="17514" y="7"/>
                      <a:pt x="17514" y="6"/>
                    </a:cubicBezTo>
                    <a:cubicBezTo>
                      <a:pt x="17514" y="5"/>
                      <a:pt x="17515" y="4"/>
                      <a:pt x="17516" y="4"/>
                    </a:cubicBezTo>
                    <a:close/>
                    <a:moveTo>
                      <a:pt x="17524" y="4"/>
                    </a:moveTo>
                    <a:lnTo>
                      <a:pt x="17524" y="4"/>
                    </a:lnTo>
                    <a:cubicBezTo>
                      <a:pt x="17525" y="4"/>
                      <a:pt x="17526" y="5"/>
                      <a:pt x="17526" y="6"/>
                    </a:cubicBezTo>
                    <a:cubicBezTo>
                      <a:pt x="17526" y="7"/>
                      <a:pt x="17525" y="8"/>
                      <a:pt x="17524" y="8"/>
                    </a:cubicBezTo>
                    <a:lnTo>
                      <a:pt x="17524" y="8"/>
                    </a:lnTo>
                    <a:cubicBezTo>
                      <a:pt x="17523" y="8"/>
                      <a:pt x="17522" y="7"/>
                      <a:pt x="17522" y="6"/>
                    </a:cubicBezTo>
                    <a:cubicBezTo>
                      <a:pt x="17522" y="5"/>
                      <a:pt x="17523" y="4"/>
                      <a:pt x="17524" y="4"/>
                    </a:cubicBezTo>
                    <a:close/>
                    <a:moveTo>
                      <a:pt x="17532" y="4"/>
                    </a:moveTo>
                    <a:lnTo>
                      <a:pt x="17532" y="4"/>
                    </a:lnTo>
                    <a:cubicBezTo>
                      <a:pt x="17533" y="4"/>
                      <a:pt x="17534" y="5"/>
                      <a:pt x="17534" y="6"/>
                    </a:cubicBezTo>
                    <a:cubicBezTo>
                      <a:pt x="17534" y="7"/>
                      <a:pt x="17533" y="8"/>
                      <a:pt x="17532" y="8"/>
                    </a:cubicBezTo>
                    <a:lnTo>
                      <a:pt x="17532" y="8"/>
                    </a:lnTo>
                    <a:cubicBezTo>
                      <a:pt x="17531" y="8"/>
                      <a:pt x="17530" y="7"/>
                      <a:pt x="17530" y="6"/>
                    </a:cubicBezTo>
                    <a:cubicBezTo>
                      <a:pt x="17530" y="5"/>
                      <a:pt x="17531" y="4"/>
                      <a:pt x="17532" y="4"/>
                    </a:cubicBezTo>
                    <a:close/>
                    <a:moveTo>
                      <a:pt x="17540" y="4"/>
                    </a:moveTo>
                    <a:lnTo>
                      <a:pt x="17540" y="4"/>
                    </a:lnTo>
                    <a:cubicBezTo>
                      <a:pt x="17541" y="4"/>
                      <a:pt x="17542" y="5"/>
                      <a:pt x="17542" y="6"/>
                    </a:cubicBezTo>
                    <a:cubicBezTo>
                      <a:pt x="17542" y="7"/>
                      <a:pt x="17541" y="8"/>
                      <a:pt x="17540" y="8"/>
                    </a:cubicBezTo>
                    <a:lnTo>
                      <a:pt x="17540" y="8"/>
                    </a:lnTo>
                    <a:cubicBezTo>
                      <a:pt x="17539" y="8"/>
                      <a:pt x="17538" y="7"/>
                      <a:pt x="17538" y="6"/>
                    </a:cubicBezTo>
                    <a:cubicBezTo>
                      <a:pt x="17538" y="5"/>
                      <a:pt x="17539" y="4"/>
                      <a:pt x="17540" y="4"/>
                    </a:cubicBezTo>
                    <a:close/>
                    <a:moveTo>
                      <a:pt x="17548" y="4"/>
                    </a:moveTo>
                    <a:lnTo>
                      <a:pt x="17548" y="4"/>
                    </a:lnTo>
                    <a:cubicBezTo>
                      <a:pt x="17549" y="4"/>
                      <a:pt x="17550" y="5"/>
                      <a:pt x="17550" y="6"/>
                    </a:cubicBezTo>
                    <a:cubicBezTo>
                      <a:pt x="17550" y="7"/>
                      <a:pt x="17549" y="8"/>
                      <a:pt x="17548" y="8"/>
                    </a:cubicBezTo>
                    <a:lnTo>
                      <a:pt x="17548" y="8"/>
                    </a:lnTo>
                    <a:cubicBezTo>
                      <a:pt x="17547" y="8"/>
                      <a:pt x="17546" y="7"/>
                      <a:pt x="17546" y="6"/>
                    </a:cubicBezTo>
                    <a:cubicBezTo>
                      <a:pt x="17546" y="5"/>
                      <a:pt x="17547" y="4"/>
                      <a:pt x="17548" y="4"/>
                    </a:cubicBezTo>
                    <a:close/>
                    <a:moveTo>
                      <a:pt x="17556" y="4"/>
                    </a:moveTo>
                    <a:lnTo>
                      <a:pt x="17556" y="4"/>
                    </a:lnTo>
                    <a:cubicBezTo>
                      <a:pt x="17557" y="4"/>
                      <a:pt x="17558" y="5"/>
                      <a:pt x="17558" y="6"/>
                    </a:cubicBezTo>
                    <a:cubicBezTo>
                      <a:pt x="17558" y="7"/>
                      <a:pt x="17557" y="8"/>
                      <a:pt x="17556" y="8"/>
                    </a:cubicBezTo>
                    <a:lnTo>
                      <a:pt x="17556" y="8"/>
                    </a:lnTo>
                    <a:cubicBezTo>
                      <a:pt x="17555" y="8"/>
                      <a:pt x="17554" y="7"/>
                      <a:pt x="17554" y="6"/>
                    </a:cubicBezTo>
                    <a:cubicBezTo>
                      <a:pt x="17554" y="5"/>
                      <a:pt x="17555" y="4"/>
                      <a:pt x="17556" y="4"/>
                    </a:cubicBezTo>
                    <a:close/>
                    <a:moveTo>
                      <a:pt x="17564" y="4"/>
                    </a:moveTo>
                    <a:lnTo>
                      <a:pt x="17564" y="4"/>
                    </a:lnTo>
                    <a:cubicBezTo>
                      <a:pt x="17565" y="4"/>
                      <a:pt x="17566" y="5"/>
                      <a:pt x="17566" y="6"/>
                    </a:cubicBezTo>
                    <a:cubicBezTo>
                      <a:pt x="17566" y="7"/>
                      <a:pt x="17565" y="8"/>
                      <a:pt x="17564" y="8"/>
                    </a:cubicBezTo>
                    <a:lnTo>
                      <a:pt x="17564" y="8"/>
                    </a:lnTo>
                    <a:cubicBezTo>
                      <a:pt x="17563" y="8"/>
                      <a:pt x="17562" y="7"/>
                      <a:pt x="17562" y="6"/>
                    </a:cubicBezTo>
                    <a:cubicBezTo>
                      <a:pt x="17562" y="5"/>
                      <a:pt x="17563" y="4"/>
                      <a:pt x="17564" y="4"/>
                    </a:cubicBezTo>
                    <a:close/>
                    <a:moveTo>
                      <a:pt x="17572" y="4"/>
                    </a:moveTo>
                    <a:lnTo>
                      <a:pt x="17572" y="4"/>
                    </a:lnTo>
                    <a:cubicBezTo>
                      <a:pt x="17573" y="4"/>
                      <a:pt x="17574" y="5"/>
                      <a:pt x="17574" y="6"/>
                    </a:cubicBezTo>
                    <a:cubicBezTo>
                      <a:pt x="17574" y="7"/>
                      <a:pt x="17573" y="8"/>
                      <a:pt x="17572" y="8"/>
                    </a:cubicBezTo>
                    <a:lnTo>
                      <a:pt x="17572" y="8"/>
                    </a:lnTo>
                    <a:cubicBezTo>
                      <a:pt x="17571" y="8"/>
                      <a:pt x="17570" y="7"/>
                      <a:pt x="17570" y="6"/>
                    </a:cubicBezTo>
                    <a:cubicBezTo>
                      <a:pt x="17570" y="5"/>
                      <a:pt x="17571" y="4"/>
                      <a:pt x="17572" y="4"/>
                    </a:cubicBezTo>
                    <a:close/>
                    <a:moveTo>
                      <a:pt x="17580" y="4"/>
                    </a:moveTo>
                    <a:lnTo>
                      <a:pt x="17580" y="4"/>
                    </a:lnTo>
                    <a:cubicBezTo>
                      <a:pt x="17581" y="4"/>
                      <a:pt x="17582" y="5"/>
                      <a:pt x="17582" y="6"/>
                    </a:cubicBezTo>
                    <a:cubicBezTo>
                      <a:pt x="17582" y="7"/>
                      <a:pt x="17581" y="8"/>
                      <a:pt x="17580" y="8"/>
                    </a:cubicBezTo>
                    <a:lnTo>
                      <a:pt x="17580" y="8"/>
                    </a:lnTo>
                    <a:cubicBezTo>
                      <a:pt x="17579" y="8"/>
                      <a:pt x="17578" y="7"/>
                      <a:pt x="17578" y="6"/>
                    </a:cubicBezTo>
                    <a:cubicBezTo>
                      <a:pt x="17578" y="5"/>
                      <a:pt x="17579" y="4"/>
                      <a:pt x="17580" y="4"/>
                    </a:cubicBezTo>
                    <a:close/>
                    <a:moveTo>
                      <a:pt x="17588" y="4"/>
                    </a:moveTo>
                    <a:lnTo>
                      <a:pt x="17588" y="4"/>
                    </a:lnTo>
                    <a:cubicBezTo>
                      <a:pt x="17589" y="4"/>
                      <a:pt x="17590" y="5"/>
                      <a:pt x="17590" y="6"/>
                    </a:cubicBezTo>
                    <a:cubicBezTo>
                      <a:pt x="17590" y="7"/>
                      <a:pt x="17589" y="8"/>
                      <a:pt x="17588" y="8"/>
                    </a:cubicBezTo>
                    <a:lnTo>
                      <a:pt x="17588" y="8"/>
                    </a:lnTo>
                    <a:cubicBezTo>
                      <a:pt x="17587" y="8"/>
                      <a:pt x="17586" y="7"/>
                      <a:pt x="17586" y="6"/>
                    </a:cubicBezTo>
                    <a:cubicBezTo>
                      <a:pt x="17586" y="5"/>
                      <a:pt x="17587" y="4"/>
                      <a:pt x="17588" y="4"/>
                    </a:cubicBezTo>
                    <a:close/>
                    <a:moveTo>
                      <a:pt x="17596" y="4"/>
                    </a:moveTo>
                    <a:lnTo>
                      <a:pt x="17596" y="4"/>
                    </a:lnTo>
                    <a:cubicBezTo>
                      <a:pt x="17597" y="4"/>
                      <a:pt x="17598" y="5"/>
                      <a:pt x="17598" y="6"/>
                    </a:cubicBezTo>
                    <a:cubicBezTo>
                      <a:pt x="17598" y="7"/>
                      <a:pt x="17597" y="8"/>
                      <a:pt x="17596" y="8"/>
                    </a:cubicBezTo>
                    <a:lnTo>
                      <a:pt x="17596" y="8"/>
                    </a:lnTo>
                    <a:cubicBezTo>
                      <a:pt x="17595" y="8"/>
                      <a:pt x="17594" y="7"/>
                      <a:pt x="17594" y="6"/>
                    </a:cubicBezTo>
                    <a:cubicBezTo>
                      <a:pt x="17594" y="5"/>
                      <a:pt x="17595" y="4"/>
                      <a:pt x="17596" y="4"/>
                    </a:cubicBezTo>
                    <a:close/>
                    <a:moveTo>
                      <a:pt x="17604" y="4"/>
                    </a:moveTo>
                    <a:lnTo>
                      <a:pt x="17604" y="4"/>
                    </a:lnTo>
                    <a:cubicBezTo>
                      <a:pt x="17605" y="4"/>
                      <a:pt x="17606" y="5"/>
                      <a:pt x="17606" y="6"/>
                    </a:cubicBezTo>
                    <a:cubicBezTo>
                      <a:pt x="17606" y="7"/>
                      <a:pt x="17605" y="8"/>
                      <a:pt x="17604" y="8"/>
                    </a:cubicBezTo>
                    <a:lnTo>
                      <a:pt x="17604" y="8"/>
                    </a:lnTo>
                    <a:cubicBezTo>
                      <a:pt x="17603" y="8"/>
                      <a:pt x="17602" y="7"/>
                      <a:pt x="17602" y="6"/>
                    </a:cubicBezTo>
                    <a:cubicBezTo>
                      <a:pt x="17602" y="5"/>
                      <a:pt x="17603" y="4"/>
                      <a:pt x="17604" y="4"/>
                    </a:cubicBezTo>
                    <a:close/>
                    <a:moveTo>
                      <a:pt x="17612" y="4"/>
                    </a:moveTo>
                    <a:lnTo>
                      <a:pt x="17612" y="4"/>
                    </a:lnTo>
                    <a:cubicBezTo>
                      <a:pt x="17613" y="4"/>
                      <a:pt x="17614" y="5"/>
                      <a:pt x="17614" y="6"/>
                    </a:cubicBezTo>
                    <a:cubicBezTo>
                      <a:pt x="17614" y="7"/>
                      <a:pt x="17613" y="8"/>
                      <a:pt x="17612" y="8"/>
                    </a:cubicBezTo>
                    <a:lnTo>
                      <a:pt x="17612" y="8"/>
                    </a:lnTo>
                    <a:cubicBezTo>
                      <a:pt x="17611" y="8"/>
                      <a:pt x="17610" y="7"/>
                      <a:pt x="17610" y="6"/>
                    </a:cubicBezTo>
                    <a:cubicBezTo>
                      <a:pt x="17610" y="5"/>
                      <a:pt x="17611" y="4"/>
                      <a:pt x="17612" y="4"/>
                    </a:cubicBezTo>
                    <a:close/>
                    <a:moveTo>
                      <a:pt x="17620" y="4"/>
                    </a:moveTo>
                    <a:lnTo>
                      <a:pt x="17620" y="4"/>
                    </a:lnTo>
                    <a:cubicBezTo>
                      <a:pt x="17621" y="4"/>
                      <a:pt x="17622" y="5"/>
                      <a:pt x="17622" y="6"/>
                    </a:cubicBezTo>
                    <a:cubicBezTo>
                      <a:pt x="17622" y="7"/>
                      <a:pt x="17621" y="8"/>
                      <a:pt x="17620" y="8"/>
                    </a:cubicBezTo>
                    <a:lnTo>
                      <a:pt x="17620" y="8"/>
                    </a:lnTo>
                    <a:cubicBezTo>
                      <a:pt x="17619" y="8"/>
                      <a:pt x="17618" y="7"/>
                      <a:pt x="17618" y="6"/>
                    </a:cubicBezTo>
                    <a:cubicBezTo>
                      <a:pt x="17618" y="5"/>
                      <a:pt x="17619" y="4"/>
                      <a:pt x="17620" y="4"/>
                    </a:cubicBezTo>
                    <a:close/>
                    <a:moveTo>
                      <a:pt x="17628" y="4"/>
                    </a:moveTo>
                    <a:lnTo>
                      <a:pt x="17628" y="4"/>
                    </a:lnTo>
                    <a:cubicBezTo>
                      <a:pt x="17629" y="4"/>
                      <a:pt x="17630" y="5"/>
                      <a:pt x="17630" y="6"/>
                    </a:cubicBezTo>
                    <a:cubicBezTo>
                      <a:pt x="17630" y="7"/>
                      <a:pt x="17629" y="8"/>
                      <a:pt x="17628" y="8"/>
                    </a:cubicBezTo>
                    <a:lnTo>
                      <a:pt x="17628" y="8"/>
                    </a:lnTo>
                    <a:cubicBezTo>
                      <a:pt x="17627" y="8"/>
                      <a:pt x="17626" y="7"/>
                      <a:pt x="17626" y="6"/>
                    </a:cubicBezTo>
                    <a:cubicBezTo>
                      <a:pt x="17626" y="5"/>
                      <a:pt x="17627" y="4"/>
                      <a:pt x="17628" y="4"/>
                    </a:cubicBezTo>
                    <a:close/>
                    <a:moveTo>
                      <a:pt x="17636" y="4"/>
                    </a:moveTo>
                    <a:lnTo>
                      <a:pt x="17636" y="4"/>
                    </a:lnTo>
                    <a:cubicBezTo>
                      <a:pt x="17637" y="4"/>
                      <a:pt x="17638" y="5"/>
                      <a:pt x="17638" y="6"/>
                    </a:cubicBezTo>
                    <a:cubicBezTo>
                      <a:pt x="17638" y="7"/>
                      <a:pt x="17637" y="8"/>
                      <a:pt x="17636" y="8"/>
                    </a:cubicBezTo>
                    <a:lnTo>
                      <a:pt x="17636" y="8"/>
                    </a:lnTo>
                    <a:cubicBezTo>
                      <a:pt x="17635" y="8"/>
                      <a:pt x="17634" y="7"/>
                      <a:pt x="17634" y="6"/>
                    </a:cubicBezTo>
                    <a:cubicBezTo>
                      <a:pt x="17634" y="5"/>
                      <a:pt x="17635" y="4"/>
                      <a:pt x="17636" y="4"/>
                    </a:cubicBezTo>
                    <a:close/>
                    <a:moveTo>
                      <a:pt x="17644" y="4"/>
                    </a:moveTo>
                    <a:lnTo>
                      <a:pt x="17644" y="4"/>
                    </a:lnTo>
                    <a:cubicBezTo>
                      <a:pt x="17645" y="4"/>
                      <a:pt x="17646" y="5"/>
                      <a:pt x="17646" y="6"/>
                    </a:cubicBezTo>
                    <a:cubicBezTo>
                      <a:pt x="17646" y="7"/>
                      <a:pt x="17645" y="8"/>
                      <a:pt x="17644" y="8"/>
                    </a:cubicBezTo>
                    <a:lnTo>
                      <a:pt x="17644" y="8"/>
                    </a:lnTo>
                    <a:cubicBezTo>
                      <a:pt x="17643" y="8"/>
                      <a:pt x="17642" y="7"/>
                      <a:pt x="17642" y="6"/>
                    </a:cubicBezTo>
                    <a:cubicBezTo>
                      <a:pt x="17642" y="5"/>
                      <a:pt x="17643" y="4"/>
                      <a:pt x="17644" y="4"/>
                    </a:cubicBezTo>
                    <a:close/>
                    <a:moveTo>
                      <a:pt x="17652" y="4"/>
                    </a:moveTo>
                    <a:lnTo>
                      <a:pt x="17652" y="4"/>
                    </a:lnTo>
                    <a:cubicBezTo>
                      <a:pt x="17653" y="4"/>
                      <a:pt x="17654" y="5"/>
                      <a:pt x="17654" y="6"/>
                    </a:cubicBezTo>
                    <a:cubicBezTo>
                      <a:pt x="17654" y="7"/>
                      <a:pt x="17653" y="8"/>
                      <a:pt x="17652" y="8"/>
                    </a:cubicBezTo>
                    <a:lnTo>
                      <a:pt x="17652" y="8"/>
                    </a:lnTo>
                    <a:cubicBezTo>
                      <a:pt x="17651" y="8"/>
                      <a:pt x="17650" y="7"/>
                      <a:pt x="17650" y="6"/>
                    </a:cubicBezTo>
                    <a:cubicBezTo>
                      <a:pt x="17650" y="5"/>
                      <a:pt x="17651" y="4"/>
                      <a:pt x="17652" y="4"/>
                    </a:cubicBezTo>
                    <a:close/>
                    <a:moveTo>
                      <a:pt x="17660" y="4"/>
                    </a:moveTo>
                    <a:lnTo>
                      <a:pt x="17660" y="4"/>
                    </a:lnTo>
                    <a:cubicBezTo>
                      <a:pt x="17661" y="4"/>
                      <a:pt x="17662" y="5"/>
                      <a:pt x="17662" y="6"/>
                    </a:cubicBezTo>
                    <a:cubicBezTo>
                      <a:pt x="17662" y="7"/>
                      <a:pt x="17661" y="8"/>
                      <a:pt x="17660" y="8"/>
                    </a:cubicBezTo>
                    <a:lnTo>
                      <a:pt x="17660" y="8"/>
                    </a:lnTo>
                    <a:cubicBezTo>
                      <a:pt x="17659" y="8"/>
                      <a:pt x="17658" y="7"/>
                      <a:pt x="17658" y="6"/>
                    </a:cubicBezTo>
                    <a:cubicBezTo>
                      <a:pt x="17658" y="5"/>
                      <a:pt x="17659" y="4"/>
                      <a:pt x="17660" y="4"/>
                    </a:cubicBezTo>
                    <a:close/>
                    <a:moveTo>
                      <a:pt x="17668" y="4"/>
                    </a:moveTo>
                    <a:lnTo>
                      <a:pt x="17668" y="4"/>
                    </a:lnTo>
                    <a:cubicBezTo>
                      <a:pt x="17669" y="4"/>
                      <a:pt x="17670" y="5"/>
                      <a:pt x="17670" y="6"/>
                    </a:cubicBezTo>
                    <a:cubicBezTo>
                      <a:pt x="17670" y="7"/>
                      <a:pt x="17669" y="8"/>
                      <a:pt x="17668" y="8"/>
                    </a:cubicBezTo>
                    <a:lnTo>
                      <a:pt x="17668" y="8"/>
                    </a:lnTo>
                    <a:cubicBezTo>
                      <a:pt x="17667" y="8"/>
                      <a:pt x="17666" y="7"/>
                      <a:pt x="17666" y="6"/>
                    </a:cubicBezTo>
                    <a:cubicBezTo>
                      <a:pt x="17666" y="5"/>
                      <a:pt x="17667" y="4"/>
                      <a:pt x="17668" y="4"/>
                    </a:cubicBezTo>
                    <a:close/>
                    <a:moveTo>
                      <a:pt x="17676" y="4"/>
                    </a:moveTo>
                    <a:lnTo>
                      <a:pt x="17676" y="4"/>
                    </a:lnTo>
                    <a:cubicBezTo>
                      <a:pt x="17677" y="4"/>
                      <a:pt x="17678" y="5"/>
                      <a:pt x="17678" y="6"/>
                    </a:cubicBezTo>
                    <a:cubicBezTo>
                      <a:pt x="17678" y="7"/>
                      <a:pt x="17677" y="8"/>
                      <a:pt x="17676" y="8"/>
                    </a:cubicBezTo>
                    <a:lnTo>
                      <a:pt x="17676" y="8"/>
                    </a:lnTo>
                    <a:cubicBezTo>
                      <a:pt x="17675" y="8"/>
                      <a:pt x="17674" y="7"/>
                      <a:pt x="17674" y="6"/>
                    </a:cubicBezTo>
                    <a:cubicBezTo>
                      <a:pt x="17674" y="5"/>
                      <a:pt x="17675" y="4"/>
                      <a:pt x="17676" y="4"/>
                    </a:cubicBezTo>
                    <a:close/>
                    <a:moveTo>
                      <a:pt x="17684" y="4"/>
                    </a:moveTo>
                    <a:lnTo>
                      <a:pt x="17684" y="4"/>
                    </a:lnTo>
                    <a:cubicBezTo>
                      <a:pt x="17685" y="4"/>
                      <a:pt x="17686" y="5"/>
                      <a:pt x="17686" y="6"/>
                    </a:cubicBezTo>
                    <a:cubicBezTo>
                      <a:pt x="17686" y="7"/>
                      <a:pt x="17685" y="8"/>
                      <a:pt x="17684" y="8"/>
                    </a:cubicBezTo>
                    <a:lnTo>
                      <a:pt x="17684" y="8"/>
                    </a:lnTo>
                    <a:cubicBezTo>
                      <a:pt x="17683" y="8"/>
                      <a:pt x="17682" y="7"/>
                      <a:pt x="17682" y="6"/>
                    </a:cubicBezTo>
                    <a:cubicBezTo>
                      <a:pt x="17682" y="5"/>
                      <a:pt x="17683" y="4"/>
                      <a:pt x="17684" y="4"/>
                    </a:cubicBezTo>
                    <a:close/>
                    <a:moveTo>
                      <a:pt x="17692" y="4"/>
                    </a:moveTo>
                    <a:lnTo>
                      <a:pt x="17692" y="4"/>
                    </a:lnTo>
                    <a:cubicBezTo>
                      <a:pt x="17693" y="4"/>
                      <a:pt x="17694" y="5"/>
                      <a:pt x="17694" y="6"/>
                    </a:cubicBezTo>
                    <a:cubicBezTo>
                      <a:pt x="17694" y="7"/>
                      <a:pt x="17693" y="8"/>
                      <a:pt x="17692" y="8"/>
                    </a:cubicBezTo>
                    <a:lnTo>
                      <a:pt x="17692" y="8"/>
                    </a:lnTo>
                    <a:cubicBezTo>
                      <a:pt x="17691" y="8"/>
                      <a:pt x="17690" y="7"/>
                      <a:pt x="17690" y="6"/>
                    </a:cubicBezTo>
                    <a:cubicBezTo>
                      <a:pt x="17690" y="5"/>
                      <a:pt x="17691" y="4"/>
                      <a:pt x="17692" y="4"/>
                    </a:cubicBezTo>
                    <a:close/>
                    <a:moveTo>
                      <a:pt x="17700" y="4"/>
                    </a:moveTo>
                    <a:lnTo>
                      <a:pt x="17700" y="4"/>
                    </a:lnTo>
                    <a:cubicBezTo>
                      <a:pt x="17701" y="4"/>
                      <a:pt x="17702" y="5"/>
                      <a:pt x="17702" y="6"/>
                    </a:cubicBezTo>
                    <a:cubicBezTo>
                      <a:pt x="17702" y="7"/>
                      <a:pt x="17701" y="8"/>
                      <a:pt x="17700" y="8"/>
                    </a:cubicBezTo>
                    <a:lnTo>
                      <a:pt x="17700" y="8"/>
                    </a:lnTo>
                    <a:cubicBezTo>
                      <a:pt x="17699" y="8"/>
                      <a:pt x="17698" y="7"/>
                      <a:pt x="17698" y="6"/>
                    </a:cubicBezTo>
                    <a:cubicBezTo>
                      <a:pt x="17698" y="5"/>
                      <a:pt x="17699" y="4"/>
                      <a:pt x="17700" y="4"/>
                    </a:cubicBezTo>
                    <a:close/>
                    <a:moveTo>
                      <a:pt x="17708" y="4"/>
                    </a:moveTo>
                    <a:lnTo>
                      <a:pt x="17708" y="4"/>
                    </a:lnTo>
                    <a:cubicBezTo>
                      <a:pt x="17709" y="4"/>
                      <a:pt x="17710" y="5"/>
                      <a:pt x="17710" y="6"/>
                    </a:cubicBezTo>
                    <a:cubicBezTo>
                      <a:pt x="17710" y="7"/>
                      <a:pt x="17709" y="8"/>
                      <a:pt x="17708" y="8"/>
                    </a:cubicBezTo>
                    <a:lnTo>
                      <a:pt x="17708" y="8"/>
                    </a:lnTo>
                    <a:cubicBezTo>
                      <a:pt x="17707" y="8"/>
                      <a:pt x="17706" y="7"/>
                      <a:pt x="17706" y="6"/>
                    </a:cubicBezTo>
                    <a:cubicBezTo>
                      <a:pt x="17706" y="5"/>
                      <a:pt x="17707" y="4"/>
                      <a:pt x="17708" y="4"/>
                    </a:cubicBezTo>
                    <a:close/>
                    <a:moveTo>
                      <a:pt x="17716" y="4"/>
                    </a:moveTo>
                    <a:lnTo>
                      <a:pt x="17716" y="4"/>
                    </a:lnTo>
                    <a:cubicBezTo>
                      <a:pt x="17717" y="4"/>
                      <a:pt x="17718" y="5"/>
                      <a:pt x="17718" y="6"/>
                    </a:cubicBezTo>
                    <a:cubicBezTo>
                      <a:pt x="17718" y="7"/>
                      <a:pt x="17717" y="8"/>
                      <a:pt x="17716" y="8"/>
                    </a:cubicBezTo>
                    <a:lnTo>
                      <a:pt x="17716" y="8"/>
                    </a:lnTo>
                    <a:cubicBezTo>
                      <a:pt x="17715" y="8"/>
                      <a:pt x="17714" y="7"/>
                      <a:pt x="17714" y="6"/>
                    </a:cubicBezTo>
                    <a:cubicBezTo>
                      <a:pt x="17714" y="5"/>
                      <a:pt x="17715" y="4"/>
                      <a:pt x="17716" y="4"/>
                    </a:cubicBezTo>
                    <a:close/>
                    <a:moveTo>
                      <a:pt x="17724" y="4"/>
                    </a:moveTo>
                    <a:lnTo>
                      <a:pt x="17724" y="4"/>
                    </a:lnTo>
                    <a:cubicBezTo>
                      <a:pt x="17725" y="4"/>
                      <a:pt x="17726" y="5"/>
                      <a:pt x="17726" y="6"/>
                    </a:cubicBezTo>
                    <a:cubicBezTo>
                      <a:pt x="17726" y="7"/>
                      <a:pt x="17725" y="8"/>
                      <a:pt x="17724" y="8"/>
                    </a:cubicBezTo>
                    <a:lnTo>
                      <a:pt x="17724" y="8"/>
                    </a:lnTo>
                    <a:cubicBezTo>
                      <a:pt x="17723" y="8"/>
                      <a:pt x="17722" y="7"/>
                      <a:pt x="17722" y="6"/>
                    </a:cubicBezTo>
                    <a:cubicBezTo>
                      <a:pt x="17722" y="5"/>
                      <a:pt x="17723" y="4"/>
                      <a:pt x="17724" y="4"/>
                    </a:cubicBezTo>
                    <a:close/>
                    <a:moveTo>
                      <a:pt x="17732" y="4"/>
                    </a:moveTo>
                    <a:lnTo>
                      <a:pt x="17732" y="4"/>
                    </a:lnTo>
                    <a:cubicBezTo>
                      <a:pt x="17733" y="4"/>
                      <a:pt x="17734" y="5"/>
                      <a:pt x="17734" y="6"/>
                    </a:cubicBezTo>
                    <a:cubicBezTo>
                      <a:pt x="17734" y="7"/>
                      <a:pt x="17733" y="8"/>
                      <a:pt x="17732" y="8"/>
                    </a:cubicBezTo>
                    <a:lnTo>
                      <a:pt x="17732" y="8"/>
                    </a:lnTo>
                    <a:cubicBezTo>
                      <a:pt x="17731" y="8"/>
                      <a:pt x="17730" y="7"/>
                      <a:pt x="17730" y="6"/>
                    </a:cubicBezTo>
                    <a:cubicBezTo>
                      <a:pt x="17730" y="5"/>
                      <a:pt x="17731" y="4"/>
                      <a:pt x="17732" y="4"/>
                    </a:cubicBezTo>
                    <a:close/>
                    <a:moveTo>
                      <a:pt x="17740" y="4"/>
                    </a:moveTo>
                    <a:lnTo>
                      <a:pt x="17740" y="4"/>
                    </a:lnTo>
                    <a:cubicBezTo>
                      <a:pt x="17741" y="4"/>
                      <a:pt x="17742" y="5"/>
                      <a:pt x="17742" y="6"/>
                    </a:cubicBezTo>
                    <a:cubicBezTo>
                      <a:pt x="17742" y="7"/>
                      <a:pt x="17741" y="8"/>
                      <a:pt x="17740" y="8"/>
                    </a:cubicBezTo>
                    <a:lnTo>
                      <a:pt x="17740" y="8"/>
                    </a:lnTo>
                    <a:cubicBezTo>
                      <a:pt x="17739" y="8"/>
                      <a:pt x="17738" y="7"/>
                      <a:pt x="17738" y="6"/>
                    </a:cubicBezTo>
                    <a:cubicBezTo>
                      <a:pt x="17738" y="5"/>
                      <a:pt x="17739" y="4"/>
                      <a:pt x="17740" y="4"/>
                    </a:cubicBezTo>
                    <a:close/>
                    <a:moveTo>
                      <a:pt x="17748" y="4"/>
                    </a:moveTo>
                    <a:lnTo>
                      <a:pt x="17748" y="4"/>
                    </a:lnTo>
                    <a:cubicBezTo>
                      <a:pt x="17749" y="4"/>
                      <a:pt x="17750" y="5"/>
                      <a:pt x="17750" y="6"/>
                    </a:cubicBezTo>
                    <a:cubicBezTo>
                      <a:pt x="17750" y="7"/>
                      <a:pt x="17749" y="8"/>
                      <a:pt x="17748" y="8"/>
                    </a:cubicBezTo>
                    <a:lnTo>
                      <a:pt x="17748" y="8"/>
                    </a:lnTo>
                    <a:cubicBezTo>
                      <a:pt x="17747" y="8"/>
                      <a:pt x="17746" y="7"/>
                      <a:pt x="17746" y="6"/>
                    </a:cubicBezTo>
                    <a:cubicBezTo>
                      <a:pt x="17746" y="5"/>
                      <a:pt x="17747" y="4"/>
                      <a:pt x="17748" y="4"/>
                    </a:cubicBezTo>
                    <a:close/>
                    <a:moveTo>
                      <a:pt x="17756" y="4"/>
                    </a:moveTo>
                    <a:lnTo>
                      <a:pt x="17756" y="4"/>
                    </a:lnTo>
                    <a:cubicBezTo>
                      <a:pt x="17757" y="4"/>
                      <a:pt x="17758" y="5"/>
                      <a:pt x="17758" y="6"/>
                    </a:cubicBezTo>
                    <a:cubicBezTo>
                      <a:pt x="17758" y="7"/>
                      <a:pt x="17757" y="8"/>
                      <a:pt x="17756" y="8"/>
                    </a:cubicBezTo>
                    <a:lnTo>
                      <a:pt x="17756" y="8"/>
                    </a:lnTo>
                    <a:cubicBezTo>
                      <a:pt x="17755" y="8"/>
                      <a:pt x="17754" y="7"/>
                      <a:pt x="17754" y="6"/>
                    </a:cubicBezTo>
                    <a:cubicBezTo>
                      <a:pt x="17754" y="5"/>
                      <a:pt x="17755" y="4"/>
                      <a:pt x="17756" y="4"/>
                    </a:cubicBezTo>
                    <a:close/>
                    <a:moveTo>
                      <a:pt x="17764" y="4"/>
                    </a:moveTo>
                    <a:lnTo>
                      <a:pt x="17764" y="4"/>
                    </a:lnTo>
                    <a:cubicBezTo>
                      <a:pt x="17765" y="4"/>
                      <a:pt x="17766" y="5"/>
                      <a:pt x="17766" y="6"/>
                    </a:cubicBezTo>
                    <a:cubicBezTo>
                      <a:pt x="17766" y="7"/>
                      <a:pt x="17765" y="8"/>
                      <a:pt x="17764" y="8"/>
                    </a:cubicBezTo>
                    <a:lnTo>
                      <a:pt x="17764" y="8"/>
                    </a:lnTo>
                    <a:cubicBezTo>
                      <a:pt x="17763" y="8"/>
                      <a:pt x="17762" y="7"/>
                      <a:pt x="17762" y="6"/>
                    </a:cubicBezTo>
                    <a:cubicBezTo>
                      <a:pt x="17762" y="5"/>
                      <a:pt x="17763" y="4"/>
                      <a:pt x="17764" y="4"/>
                    </a:cubicBezTo>
                    <a:close/>
                    <a:moveTo>
                      <a:pt x="17772" y="4"/>
                    </a:moveTo>
                    <a:lnTo>
                      <a:pt x="17772" y="4"/>
                    </a:lnTo>
                    <a:cubicBezTo>
                      <a:pt x="17773" y="4"/>
                      <a:pt x="17774" y="5"/>
                      <a:pt x="17774" y="6"/>
                    </a:cubicBezTo>
                    <a:cubicBezTo>
                      <a:pt x="17774" y="7"/>
                      <a:pt x="17773" y="8"/>
                      <a:pt x="17772" y="8"/>
                    </a:cubicBezTo>
                    <a:lnTo>
                      <a:pt x="17772" y="8"/>
                    </a:lnTo>
                    <a:cubicBezTo>
                      <a:pt x="17771" y="8"/>
                      <a:pt x="17770" y="7"/>
                      <a:pt x="17770" y="6"/>
                    </a:cubicBezTo>
                    <a:cubicBezTo>
                      <a:pt x="17770" y="5"/>
                      <a:pt x="17771" y="4"/>
                      <a:pt x="17772" y="4"/>
                    </a:cubicBezTo>
                    <a:close/>
                    <a:moveTo>
                      <a:pt x="17780" y="4"/>
                    </a:moveTo>
                    <a:lnTo>
                      <a:pt x="17780" y="4"/>
                    </a:lnTo>
                    <a:cubicBezTo>
                      <a:pt x="17781" y="4"/>
                      <a:pt x="17782" y="5"/>
                      <a:pt x="17782" y="6"/>
                    </a:cubicBezTo>
                    <a:cubicBezTo>
                      <a:pt x="17782" y="7"/>
                      <a:pt x="17781" y="8"/>
                      <a:pt x="17780" y="8"/>
                    </a:cubicBezTo>
                    <a:lnTo>
                      <a:pt x="17780" y="8"/>
                    </a:lnTo>
                    <a:cubicBezTo>
                      <a:pt x="17779" y="8"/>
                      <a:pt x="17778" y="7"/>
                      <a:pt x="17778" y="6"/>
                    </a:cubicBezTo>
                    <a:cubicBezTo>
                      <a:pt x="17778" y="5"/>
                      <a:pt x="17779" y="4"/>
                      <a:pt x="17780" y="4"/>
                    </a:cubicBezTo>
                    <a:close/>
                    <a:moveTo>
                      <a:pt x="17788" y="4"/>
                    </a:moveTo>
                    <a:lnTo>
                      <a:pt x="17788" y="4"/>
                    </a:lnTo>
                    <a:cubicBezTo>
                      <a:pt x="17789" y="4"/>
                      <a:pt x="17790" y="5"/>
                      <a:pt x="17790" y="6"/>
                    </a:cubicBezTo>
                    <a:cubicBezTo>
                      <a:pt x="17790" y="7"/>
                      <a:pt x="17789" y="8"/>
                      <a:pt x="17788" y="8"/>
                    </a:cubicBezTo>
                    <a:lnTo>
                      <a:pt x="17788" y="8"/>
                    </a:lnTo>
                    <a:cubicBezTo>
                      <a:pt x="17787" y="8"/>
                      <a:pt x="17786" y="7"/>
                      <a:pt x="17786" y="6"/>
                    </a:cubicBezTo>
                    <a:cubicBezTo>
                      <a:pt x="17786" y="5"/>
                      <a:pt x="17787" y="4"/>
                      <a:pt x="17788" y="4"/>
                    </a:cubicBezTo>
                    <a:close/>
                    <a:moveTo>
                      <a:pt x="17796" y="4"/>
                    </a:moveTo>
                    <a:lnTo>
                      <a:pt x="17796" y="4"/>
                    </a:lnTo>
                    <a:cubicBezTo>
                      <a:pt x="17797" y="4"/>
                      <a:pt x="17798" y="5"/>
                      <a:pt x="17798" y="6"/>
                    </a:cubicBezTo>
                    <a:cubicBezTo>
                      <a:pt x="17798" y="7"/>
                      <a:pt x="17797" y="8"/>
                      <a:pt x="17796" y="8"/>
                    </a:cubicBezTo>
                    <a:lnTo>
                      <a:pt x="17796" y="8"/>
                    </a:lnTo>
                    <a:cubicBezTo>
                      <a:pt x="17795" y="8"/>
                      <a:pt x="17794" y="7"/>
                      <a:pt x="17794" y="6"/>
                    </a:cubicBezTo>
                    <a:cubicBezTo>
                      <a:pt x="17794" y="5"/>
                      <a:pt x="17795" y="4"/>
                      <a:pt x="17796" y="4"/>
                    </a:cubicBezTo>
                    <a:close/>
                    <a:moveTo>
                      <a:pt x="17804" y="4"/>
                    </a:moveTo>
                    <a:lnTo>
                      <a:pt x="17804" y="4"/>
                    </a:lnTo>
                    <a:cubicBezTo>
                      <a:pt x="17805" y="4"/>
                      <a:pt x="17806" y="5"/>
                      <a:pt x="17806" y="6"/>
                    </a:cubicBezTo>
                    <a:cubicBezTo>
                      <a:pt x="17806" y="7"/>
                      <a:pt x="17805" y="8"/>
                      <a:pt x="17804" y="8"/>
                    </a:cubicBezTo>
                    <a:lnTo>
                      <a:pt x="17804" y="8"/>
                    </a:lnTo>
                    <a:cubicBezTo>
                      <a:pt x="17803" y="8"/>
                      <a:pt x="17802" y="7"/>
                      <a:pt x="17802" y="6"/>
                    </a:cubicBezTo>
                    <a:cubicBezTo>
                      <a:pt x="17802" y="5"/>
                      <a:pt x="17803" y="4"/>
                      <a:pt x="17804" y="4"/>
                    </a:cubicBezTo>
                    <a:close/>
                    <a:moveTo>
                      <a:pt x="17812" y="4"/>
                    </a:moveTo>
                    <a:lnTo>
                      <a:pt x="17812" y="4"/>
                    </a:lnTo>
                    <a:cubicBezTo>
                      <a:pt x="17813" y="4"/>
                      <a:pt x="17814" y="5"/>
                      <a:pt x="17814" y="6"/>
                    </a:cubicBezTo>
                    <a:cubicBezTo>
                      <a:pt x="17814" y="7"/>
                      <a:pt x="17813" y="8"/>
                      <a:pt x="17812" y="8"/>
                    </a:cubicBezTo>
                    <a:lnTo>
                      <a:pt x="17812" y="8"/>
                    </a:lnTo>
                    <a:cubicBezTo>
                      <a:pt x="17811" y="8"/>
                      <a:pt x="17810" y="7"/>
                      <a:pt x="17810" y="6"/>
                    </a:cubicBezTo>
                    <a:cubicBezTo>
                      <a:pt x="17810" y="5"/>
                      <a:pt x="17811" y="4"/>
                      <a:pt x="17812" y="4"/>
                    </a:cubicBezTo>
                    <a:close/>
                    <a:moveTo>
                      <a:pt x="17820" y="4"/>
                    </a:moveTo>
                    <a:lnTo>
                      <a:pt x="17820" y="4"/>
                    </a:lnTo>
                    <a:cubicBezTo>
                      <a:pt x="17821" y="4"/>
                      <a:pt x="17822" y="5"/>
                      <a:pt x="17822" y="6"/>
                    </a:cubicBezTo>
                    <a:cubicBezTo>
                      <a:pt x="17822" y="7"/>
                      <a:pt x="17821" y="8"/>
                      <a:pt x="17820" y="8"/>
                    </a:cubicBezTo>
                    <a:lnTo>
                      <a:pt x="17820" y="8"/>
                    </a:lnTo>
                    <a:cubicBezTo>
                      <a:pt x="17819" y="8"/>
                      <a:pt x="17818" y="7"/>
                      <a:pt x="17818" y="6"/>
                    </a:cubicBezTo>
                    <a:cubicBezTo>
                      <a:pt x="17818" y="5"/>
                      <a:pt x="17819" y="4"/>
                      <a:pt x="17820" y="4"/>
                    </a:cubicBezTo>
                    <a:close/>
                    <a:moveTo>
                      <a:pt x="17828" y="4"/>
                    </a:moveTo>
                    <a:lnTo>
                      <a:pt x="17828" y="4"/>
                    </a:lnTo>
                    <a:cubicBezTo>
                      <a:pt x="17829" y="4"/>
                      <a:pt x="17830" y="5"/>
                      <a:pt x="17830" y="6"/>
                    </a:cubicBezTo>
                    <a:cubicBezTo>
                      <a:pt x="17830" y="7"/>
                      <a:pt x="17829" y="8"/>
                      <a:pt x="17828" y="8"/>
                    </a:cubicBezTo>
                    <a:lnTo>
                      <a:pt x="17828" y="8"/>
                    </a:lnTo>
                    <a:cubicBezTo>
                      <a:pt x="17827" y="8"/>
                      <a:pt x="17826" y="7"/>
                      <a:pt x="17826" y="6"/>
                    </a:cubicBezTo>
                    <a:cubicBezTo>
                      <a:pt x="17826" y="5"/>
                      <a:pt x="17827" y="4"/>
                      <a:pt x="17828" y="4"/>
                    </a:cubicBezTo>
                    <a:close/>
                    <a:moveTo>
                      <a:pt x="17836" y="4"/>
                    </a:moveTo>
                    <a:lnTo>
                      <a:pt x="17836" y="4"/>
                    </a:lnTo>
                    <a:cubicBezTo>
                      <a:pt x="17837" y="4"/>
                      <a:pt x="17838" y="5"/>
                      <a:pt x="17838" y="6"/>
                    </a:cubicBezTo>
                    <a:cubicBezTo>
                      <a:pt x="17838" y="7"/>
                      <a:pt x="17837" y="8"/>
                      <a:pt x="17836" y="8"/>
                    </a:cubicBezTo>
                    <a:lnTo>
                      <a:pt x="17836" y="8"/>
                    </a:lnTo>
                    <a:cubicBezTo>
                      <a:pt x="17835" y="8"/>
                      <a:pt x="17834" y="7"/>
                      <a:pt x="17834" y="6"/>
                    </a:cubicBezTo>
                    <a:cubicBezTo>
                      <a:pt x="17834" y="5"/>
                      <a:pt x="17835" y="4"/>
                      <a:pt x="17836" y="4"/>
                    </a:cubicBezTo>
                    <a:close/>
                    <a:moveTo>
                      <a:pt x="17844" y="4"/>
                    </a:moveTo>
                    <a:lnTo>
                      <a:pt x="17844" y="4"/>
                    </a:lnTo>
                    <a:cubicBezTo>
                      <a:pt x="17845" y="4"/>
                      <a:pt x="17846" y="5"/>
                      <a:pt x="17846" y="6"/>
                    </a:cubicBezTo>
                    <a:cubicBezTo>
                      <a:pt x="17846" y="7"/>
                      <a:pt x="17845" y="8"/>
                      <a:pt x="17844" y="8"/>
                    </a:cubicBezTo>
                    <a:lnTo>
                      <a:pt x="17844" y="8"/>
                    </a:lnTo>
                    <a:cubicBezTo>
                      <a:pt x="17843" y="8"/>
                      <a:pt x="17842" y="7"/>
                      <a:pt x="17842" y="6"/>
                    </a:cubicBezTo>
                    <a:cubicBezTo>
                      <a:pt x="17842" y="5"/>
                      <a:pt x="17843" y="4"/>
                      <a:pt x="17844" y="4"/>
                    </a:cubicBezTo>
                    <a:close/>
                    <a:moveTo>
                      <a:pt x="17852" y="4"/>
                    </a:moveTo>
                    <a:lnTo>
                      <a:pt x="17852" y="4"/>
                    </a:lnTo>
                    <a:cubicBezTo>
                      <a:pt x="17853" y="4"/>
                      <a:pt x="17854" y="5"/>
                      <a:pt x="17854" y="6"/>
                    </a:cubicBezTo>
                    <a:cubicBezTo>
                      <a:pt x="17854" y="7"/>
                      <a:pt x="17853" y="8"/>
                      <a:pt x="17852" y="8"/>
                    </a:cubicBezTo>
                    <a:lnTo>
                      <a:pt x="17852" y="8"/>
                    </a:lnTo>
                    <a:cubicBezTo>
                      <a:pt x="17851" y="8"/>
                      <a:pt x="17850" y="7"/>
                      <a:pt x="17850" y="6"/>
                    </a:cubicBezTo>
                    <a:cubicBezTo>
                      <a:pt x="17850" y="5"/>
                      <a:pt x="17851" y="4"/>
                      <a:pt x="17852" y="4"/>
                    </a:cubicBezTo>
                    <a:close/>
                    <a:moveTo>
                      <a:pt x="17860" y="4"/>
                    </a:moveTo>
                    <a:lnTo>
                      <a:pt x="17860" y="4"/>
                    </a:lnTo>
                    <a:cubicBezTo>
                      <a:pt x="17861" y="4"/>
                      <a:pt x="17862" y="5"/>
                      <a:pt x="17862" y="6"/>
                    </a:cubicBezTo>
                    <a:cubicBezTo>
                      <a:pt x="17862" y="7"/>
                      <a:pt x="17861" y="8"/>
                      <a:pt x="17860" y="8"/>
                    </a:cubicBezTo>
                    <a:lnTo>
                      <a:pt x="17860" y="8"/>
                    </a:lnTo>
                    <a:cubicBezTo>
                      <a:pt x="17859" y="8"/>
                      <a:pt x="17858" y="7"/>
                      <a:pt x="17858" y="6"/>
                    </a:cubicBezTo>
                    <a:cubicBezTo>
                      <a:pt x="17858" y="5"/>
                      <a:pt x="17859" y="4"/>
                      <a:pt x="17860" y="4"/>
                    </a:cubicBezTo>
                    <a:close/>
                    <a:moveTo>
                      <a:pt x="17868" y="4"/>
                    </a:moveTo>
                    <a:lnTo>
                      <a:pt x="17868" y="4"/>
                    </a:lnTo>
                    <a:cubicBezTo>
                      <a:pt x="17869" y="4"/>
                      <a:pt x="17870" y="5"/>
                      <a:pt x="17870" y="6"/>
                    </a:cubicBezTo>
                    <a:cubicBezTo>
                      <a:pt x="17870" y="7"/>
                      <a:pt x="17869" y="8"/>
                      <a:pt x="17868" y="8"/>
                    </a:cubicBezTo>
                    <a:lnTo>
                      <a:pt x="17868" y="8"/>
                    </a:lnTo>
                    <a:cubicBezTo>
                      <a:pt x="17867" y="8"/>
                      <a:pt x="17866" y="7"/>
                      <a:pt x="17866" y="6"/>
                    </a:cubicBezTo>
                    <a:cubicBezTo>
                      <a:pt x="17866" y="5"/>
                      <a:pt x="17867" y="4"/>
                      <a:pt x="17868" y="4"/>
                    </a:cubicBezTo>
                    <a:close/>
                    <a:moveTo>
                      <a:pt x="17876" y="4"/>
                    </a:moveTo>
                    <a:lnTo>
                      <a:pt x="17876" y="4"/>
                    </a:lnTo>
                    <a:cubicBezTo>
                      <a:pt x="17877" y="4"/>
                      <a:pt x="17878" y="5"/>
                      <a:pt x="17878" y="6"/>
                    </a:cubicBezTo>
                    <a:cubicBezTo>
                      <a:pt x="17878" y="7"/>
                      <a:pt x="17877" y="8"/>
                      <a:pt x="17876" y="8"/>
                    </a:cubicBezTo>
                    <a:lnTo>
                      <a:pt x="17876" y="8"/>
                    </a:lnTo>
                    <a:cubicBezTo>
                      <a:pt x="17875" y="8"/>
                      <a:pt x="17874" y="7"/>
                      <a:pt x="17874" y="6"/>
                    </a:cubicBezTo>
                    <a:cubicBezTo>
                      <a:pt x="17874" y="5"/>
                      <a:pt x="17875" y="4"/>
                      <a:pt x="17876" y="4"/>
                    </a:cubicBezTo>
                    <a:close/>
                    <a:moveTo>
                      <a:pt x="17884" y="4"/>
                    </a:moveTo>
                    <a:lnTo>
                      <a:pt x="17884" y="4"/>
                    </a:lnTo>
                    <a:cubicBezTo>
                      <a:pt x="17885" y="4"/>
                      <a:pt x="17886" y="5"/>
                      <a:pt x="17886" y="6"/>
                    </a:cubicBezTo>
                    <a:cubicBezTo>
                      <a:pt x="17886" y="7"/>
                      <a:pt x="17885" y="8"/>
                      <a:pt x="17884" y="8"/>
                    </a:cubicBezTo>
                    <a:lnTo>
                      <a:pt x="17884" y="8"/>
                    </a:lnTo>
                    <a:cubicBezTo>
                      <a:pt x="17883" y="8"/>
                      <a:pt x="17882" y="7"/>
                      <a:pt x="17882" y="6"/>
                    </a:cubicBezTo>
                    <a:cubicBezTo>
                      <a:pt x="17882" y="5"/>
                      <a:pt x="17883" y="4"/>
                      <a:pt x="17884" y="4"/>
                    </a:cubicBezTo>
                    <a:close/>
                    <a:moveTo>
                      <a:pt x="17892" y="4"/>
                    </a:moveTo>
                    <a:lnTo>
                      <a:pt x="17892" y="4"/>
                    </a:lnTo>
                    <a:cubicBezTo>
                      <a:pt x="17893" y="4"/>
                      <a:pt x="17894" y="5"/>
                      <a:pt x="17894" y="6"/>
                    </a:cubicBezTo>
                    <a:cubicBezTo>
                      <a:pt x="17894" y="7"/>
                      <a:pt x="17893" y="8"/>
                      <a:pt x="17892" y="8"/>
                    </a:cubicBezTo>
                    <a:lnTo>
                      <a:pt x="17892" y="8"/>
                    </a:lnTo>
                    <a:cubicBezTo>
                      <a:pt x="17891" y="8"/>
                      <a:pt x="17890" y="7"/>
                      <a:pt x="17890" y="6"/>
                    </a:cubicBezTo>
                    <a:cubicBezTo>
                      <a:pt x="17890" y="5"/>
                      <a:pt x="17891" y="4"/>
                      <a:pt x="17892" y="4"/>
                    </a:cubicBezTo>
                    <a:close/>
                    <a:moveTo>
                      <a:pt x="17900" y="4"/>
                    </a:moveTo>
                    <a:lnTo>
                      <a:pt x="17900" y="4"/>
                    </a:lnTo>
                    <a:cubicBezTo>
                      <a:pt x="17901" y="4"/>
                      <a:pt x="17902" y="5"/>
                      <a:pt x="17902" y="6"/>
                    </a:cubicBezTo>
                    <a:cubicBezTo>
                      <a:pt x="17902" y="7"/>
                      <a:pt x="17901" y="8"/>
                      <a:pt x="17900" y="8"/>
                    </a:cubicBezTo>
                    <a:lnTo>
                      <a:pt x="17900" y="8"/>
                    </a:lnTo>
                    <a:cubicBezTo>
                      <a:pt x="17899" y="8"/>
                      <a:pt x="17898" y="7"/>
                      <a:pt x="17898" y="6"/>
                    </a:cubicBezTo>
                    <a:cubicBezTo>
                      <a:pt x="17898" y="5"/>
                      <a:pt x="17899" y="4"/>
                      <a:pt x="17900" y="4"/>
                    </a:cubicBezTo>
                    <a:close/>
                    <a:moveTo>
                      <a:pt x="17908" y="4"/>
                    </a:moveTo>
                    <a:lnTo>
                      <a:pt x="17908" y="4"/>
                    </a:lnTo>
                    <a:cubicBezTo>
                      <a:pt x="17909" y="4"/>
                      <a:pt x="17910" y="5"/>
                      <a:pt x="17910" y="6"/>
                    </a:cubicBezTo>
                    <a:cubicBezTo>
                      <a:pt x="17910" y="7"/>
                      <a:pt x="17909" y="8"/>
                      <a:pt x="17908" y="8"/>
                    </a:cubicBezTo>
                    <a:lnTo>
                      <a:pt x="17908" y="8"/>
                    </a:lnTo>
                    <a:cubicBezTo>
                      <a:pt x="17907" y="8"/>
                      <a:pt x="17906" y="7"/>
                      <a:pt x="17906" y="6"/>
                    </a:cubicBezTo>
                    <a:cubicBezTo>
                      <a:pt x="17906" y="5"/>
                      <a:pt x="17907" y="4"/>
                      <a:pt x="17908" y="4"/>
                    </a:cubicBezTo>
                    <a:close/>
                    <a:moveTo>
                      <a:pt x="17916" y="4"/>
                    </a:moveTo>
                    <a:lnTo>
                      <a:pt x="17916" y="4"/>
                    </a:lnTo>
                    <a:cubicBezTo>
                      <a:pt x="17917" y="4"/>
                      <a:pt x="17918" y="5"/>
                      <a:pt x="17918" y="6"/>
                    </a:cubicBezTo>
                    <a:cubicBezTo>
                      <a:pt x="17918" y="7"/>
                      <a:pt x="17917" y="8"/>
                      <a:pt x="17916" y="8"/>
                    </a:cubicBezTo>
                    <a:lnTo>
                      <a:pt x="17916" y="8"/>
                    </a:lnTo>
                    <a:cubicBezTo>
                      <a:pt x="17915" y="8"/>
                      <a:pt x="17914" y="7"/>
                      <a:pt x="17914" y="6"/>
                    </a:cubicBezTo>
                    <a:cubicBezTo>
                      <a:pt x="17914" y="5"/>
                      <a:pt x="17915" y="4"/>
                      <a:pt x="17916" y="4"/>
                    </a:cubicBezTo>
                    <a:close/>
                    <a:moveTo>
                      <a:pt x="17924" y="4"/>
                    </a:moveTo>
                    <a:lnTo>
                      <a:pt x="17924" y="4"/>
                    </a:lnTo>
                    <a:cubicBezTo>
                      <a:pt x="17925" y="4"/>
                      <a:pt x="17926" y="5"/>
                      <a:pt x="17926" y="6"/>
                    </a:cubicBezTo>
                    <a:cubicBezTo>
                      <a:pt x="17926" y="7"/>
                      <a:pt x="17925" y="8"/>
                      <a:pt x="17924" y="8"/>
                    </a:cubicBezTo>
                    <a:lnTo>
                      <a:pt x="17924" y="8"/>
                    </a:lnTo>
                    <a:cubicBezTo>
                      <a:pt x="17923" y="8"/>
                      <a:pt x="17922" y="7"/>
                      <a:pt x="17922" y="6"/>
                    </a:cubicBezTo>
                    <a:cubicBezTo>
                      <a:pt x="17922" y="5"/>
                      <a:pt x="17923" y="4"/>
                      <a:pt x="17924" y="4"/>
                    </a:cubicBezTo>
                    <a:close/>
                    <a:moveTo>
                      <a:pt x="17932" y="4"/>
                    </a:moveTo>
                    <a:lnTo>
                      <a:pt x="17932" y="4"/>
                    </a:lnTo>
                    <a:cubicBezTo>
                      <a:pt x="17933" y="4"/>
                      <a:pt x="17934" y="5"/>
                      <a:pt x="17934" y="6"/>
                    </a:cubicBezTo>
                    <a:cubicBezTo>
                      <a:pt x="17934" y="7"/>
                      <a:pt x="17933" y="8"/>
                      <a:pt x="17932" y="8"/>
                    </a:cubicBezTo>
                    <a:lnTo>
                      <a:pt x="17932" y="8"/>
                    </a:lnTo>
                    <a:cubicBezTo>
                      <a:pt x="17931" y="8"/>
                      <a:pt x="17930" y="7"/>
                      <a:pt x="17930" y="6"/>
                    </a:cubicBezTo>
                    <a:cubicBezTo>
                      <a:pt x="17930" y="5"/>
                      <a:pt x="17931" y="4"/>
                      <a:pt x="17932" y="4"/>
                    </a:cubicBezTo>
                    <a:close/>
                    <a:moveTo>
                      <a:pt x="17940" y="4"/>
                    </a:moveTo>
                    <a:lnTo>
                      <a:pt x="17940" y="4"/>
                    </a:lnTo>
                    <a:cubicBezTo>
                      <a:pt x="17941" y="4"/>
                      <a:pt x="17942" y="5"/>
                      <a:pt x="17942" y="6"/>
                    </a:cubicBezTo>
                    <a:cubicBezTo>
                      <a:pt x="17942" y="7"/>
                      <a:pt x="17941" y="8"/>
                      <a:pt x="17940" y="8"/>
                    </a:cubicBezTo>
                    <a:lnTo>
                      <a:pt x="17940" y="8"/>
                    </a:lnTo>
                    <a:cubicBezTo>
                      <a:pt x="17939" y="8"/>
                      <a:pt x="17938" y="7"/>
                      <a:pt x="17938" y="6"/>
                    </a:cubicBezTo>
                    <a:cubicBezTo>
                      <a:pt x="17938" y="5"/>
                      <a:pt x="17939" y="4"/>
                      <a:pt x="17940" y="4"/>
                    </a:cubicBezTo>
                    <a:close/>
                    <a:moveTo>
                      <a:pt x="17948" y="4"/>
                    </a:moveTo>
                    <a:lnTo>
                      <a:pt x="17948" y="4"/>
                    </a:lnTo>
                    <a:cubicBezTo>
                      <a:pt x="17949" y="4"/>
                      <a:pt x="17950" y="5"/>
                      <a:pt x="17950" y="6"/>
                    </a:cubicBezTo>
                    <a:cubicBezTo>
                      <a:pt x="17950" y="7"/>
                      <a:pt x="17949" y="8"/>
                      <a:pt x="17948" y="8"/>
                    </a:cubicBezTo>
                    <a:lnTo>
                      <a:pt x="17948" y="8"/>
                    </a:lnTo>
                    <a:cubicBezTo>
                      <a:pt x="17947" y="8"/>
                      <a:pt x="17946" y="7"/>
                      <a:pt x="17946" y="6"/>
                    </a:cubicBezTo>
                    <a:cubicBezTo>
                      <a:pt x="17946" y="5"/>
                      <a:pt x="17947" y="4"/>
                      <a:pt x="17948" y="4"/>
                    </a:cubicBezTo>
                    <a:close/>
                    <a:moveTo>
                      <a:pt x="17956" y="4"/>
                    </a:moveTo>
                    <a:lnTo>
                      <a:pt x="17956" y="4"/>
                    </a:lnTo>
                    <a:cubicBezTo>
                      <a:pt x="17957" y="4"/>
                      <a:pt x="17958" y="5"/>
                      <a:pt x="17958" y="6"/>
                    </a:cubicBezTo>
                    <a:cubicBezTo>
                      <a:pt x="17958" y="7"/>
                      <a:pt x="17957" y="8"/>
                      <a:pt x="17956" y="8"/>
                    </a:cubicBezTo>
                    <a:lnTo>
                      <a:pt x="17956" y="8"/>
                    </a:lnTo>
                    <a:cubicBezTo>
                      <a:pt x="17955" y="8"/>
                      <a:pt x="17954" y="7"/>
                      <a:pt x="17954" y="6"/>
                    </a:cubicBezTo>
                    <a:cubicBezTo>
                      <a:pt x="17954" y="5"/>
                      <a:pt x="17955" y="4"/>
                      <a:pt x="17956" y="4"/>
                    </a:cubicBezTo>
                    <a:close/>
                    <a:moveTo>
                      <a:pt x="17964" y="4"/>
                    </a:moveTo>
                    <a:lnTo>
                      <a:pt x="17964" y="4"/>
                    </a:lnTo>
                    <a:cubicBezTo>
                      <a:pt x="17965" y="4"/>
                      <a:pt x="17966" y="5"/>
                      <a:pt x="17966" y="6"/>
                    </a:cubicBezTo>
                    <a:cubicBezTo>
                      <a:pt x="17966" y="7"/>
                      <a:pt x="17965" y="8"/>
                      <a:pt x="17964" y="8"/>
                    </a:cubicBezTo>
                    <a:lnTo>
                      <a:pt x="17964" y="8"/>
                    </a:lnTo>
                    <a:cubicBezTo>
                      <a:pt x="17963" y="8"/>
                      <a:pt x="17962" y="7"/>
                      <a:pt x="17962" y="6"/>
                    </a:cubicBezTo>
                    <a:cubicBezTo>
                      <a:pt x="17962" y="5"/>
                      <a:pt x="17963" y="4"/>
                      <a:pt x="17964" y="4"/>
                    </a:cubicBezTo>
                    <a:close/>
                    <a:moveTo>
                      <a:pt x="17972" y="4"/>
                    </a:moveTo>
                    <a:lnTo>
                      <a:pt x="17972" y="4"/>
                    </a:lnTo>
                    <a:cubicBezTo>
                      <a:pt x="17973" y="4"/>
                      <a:pt x="17974" y="5"/>
                      <a:pt x="17974" y="6"/>
                    </a:cubicBezTo>
                    <a:cubicBezTo>
                      <a:pt x="17974" y="7"/>
                      <a:pt x="17973" y="8"/>
                      <a:pt x="17972" y="8"/>
                    </a:cubicBezTo>
                    <a:lnTo>
                      <a:pt x="17972" y="8"/>
                    </a:lnTo>
                    <a:cubicBezTo>
                      <a:pt x="17971" y="8"/>
                      <a:pt x="17970" y="7"/>
                      <a:pt x="17970" y="6"/>
                    </a:cubicBezTo>
                    <a:cubicBezTo>
                      <a:pt x="17970" y="5"/>
                      <a:pt x="17971" y="4"/>
                      <a:pt x="17972" y="4"/>
                    </a:cubicBezTo>
                    <a:close/>
                    <a:moveTo>
                      <a:pt x="17980" y="4"/>
                    </a:moveTo>
                    <a:lnTo>
                      <a:pt x="17980" y="4"/>
                    </a:lnTo>
                    <a:cubicBezTo>
                      <a:pt x="17981" y="4"/>
                      <a:pt x="17982" y="5"/>
                      <a:pt x="17982" y="6"/>
                    </a:cubicBezTo>
                    <a:cubicBezTo>
                      <a:pt x="17982" y="7"/>
                      <a:pt x="17981" y="8"/>
                      <a:pt x="17980" y="8"/>
                    </a:cubicBezTo>
                    <a:lnTo>
                      <a:pt x="17980" y="8"/>
                    </a:lnTo>
                    <a:cubicBezTo>
                      <a:pt x="17979" y="8"/>
                      <a:pt x="17978" y="7"/>
                      <a:pt x="17978" y="6"/>
                    </a:cubicBezTo>
                    <a:cubicBezTo>
                      <a:pt x="17978" y="5"/>
                      <a:pt x="17979" y="4"/>
                      <a:pt x="17980" y="4"/>
                    </a:cubicBezTo>
                    <a:close/>
                    <a:moveTo>
                      <a:pt x="17988" y="4"/>
                    </a:moveTo>
                    <a:lnTo>
                      <a:pt x="17988" y="4"/>
                    </a:lnTo>
                    <a:cubicBezTo>
                      <a:pt x="17989" y="4"/>
                      <a:pt x="17990" y="5"/>
                      <a:pt x="17990" y="6"/>
                    </a:cubicBezTo>
                    <a:cubicBezTo>
                      <a:pt x="17990" y="7"/>
                      <a:pt x="17989" y="8"/>
                      <a:pt x="17988" y="8"/>
                    </a:cubicBezTo>
                    <a:lnTo>
                      <a:pt x="17988" y="8"/>
                    </a:lnTo>
                    <a:cubicBezTo>
                      <a:pt x="17987" y="8"/>
                      <a:pt x="17986" y="7"/>
                      <a:pt x="17986" y="6"/>
                    </a:cubicBezTo>
                    <a:cubicBezTo>
                      <a:pt x="17986" y="5"/>
                      <a:pt x="17987" y="4"/>
                      <a:pt x="17988" y="4"/>
                    </a:cubicBezTo>
                    <a:close/>
                    <a:moveTo>
                      <a:pt x="17996" y="4"/>
                    </a:moveTo>
                    <a:lnTo>
                      <a:pt x="17996" y="4"/>
                    </a:lnTo>
                    <a:cubicBezTo>
                      <a:pt x="17997" y="4"/>
                      <a:pt x="17998" y="5"/>
                      <a:pt x="17998" y="6"/>
                    </a:cubicBezTo>
                    <a:cubicBezTo>
                      <a:pt x="17998" y="7"/>
                      <a:pt x="17997" y="8"/>
                      <a:pt x="17996" y="8"/>
                    </a:cubicBezTo>
                    <a:lnTo>
                      <a:pt x="17996" y="8"/>
                    </a:lnTo>
                    <a:cubicBezTo>
                      <a:pt x="17995" y="8"/>
                      <a:pt x="17994" y="7"/>
                      <a:pt x="17994" y="6"/>
                    </a:cubicBezTo>
                    <a:cubicBezTo>
                      <a:pt x="17994" y="5"/>
                      <a:pt x="17995" y="4"/>
                      <a:pt x="17996" y="4"/>
                    </a:cubicBezTo>
                    <a:close/>
                    <a:moveTo>
                      <a:pt x="18004" y="4"/>
                    </a:moveTo>
                    <a:lnTo>
                      <a:pt x="18004" y="4"/>
                    </a:lnTo>
                    <a:cubicBezTo>
                      <a:pt x="18005" y="4"/>
                      <a:pt x="18006" y="5"/>
                      <a:pt x="18006" y="6"/>
                    </a:cubicBezTo>
                    <a:cubicBezTo>
                      <a:pt x="18006" y="7"/>
                      <a:pt x="18005" y="8"/>
                      <a:pt x="18004" y="8"/>
                    </a:cubicBezTo>
                    <a:lnTo>
                      <a:pt x="18004" y="8"/>
                    </a:lnTo>
                    <a:cubicBezTo>
                      <a:pt x="18003" y="8"/>
                      <a:pt x="18002" y="7"/>
                      <a:pt x="18002" y="6"/>
                    </a:cubicBezTo>
                    <a:cubicBezTo>
                      <a:pt x="18002" y="5"/>
                      <a:pt x="18003" y="4"/>
                      <a:pt x="18004" y="4"/>
                    </a:cubicBezTo>
                    <a:close/>
                    <a:moveTo>
                      <a:pt x="18012" y="4"/>
                    </a:moveTo>
                    <a:lnTo>
                      <a:pt x="18012" y="4"/>
                    </a:lnTo>
                    <a:cubicBezTo>
                      <a:pt x="18013" y="4"/>
                      <a:pt x="18014" y="5"/>
                      <a:pt x="18014" y="6"/>
                    </a:cubicBezTo>
                    <a:cubicBezTo>
                      <a:pt x="18014" y="7"/>
                      <a:pt x="18013" y="8"/>
                      <a:pt x="18012" y="8"/>
                    </a:cubicBezTo>
                    <a:lnTo>
                      <a:pt x="18012" y="8"/>
                    </a:lnTo>
                    <a:cubicBezTo>
                      <a:pt x="18011" y="8"/>
                      <a:pt x="18010" y="7"/>
                      <a:pt x="18010" y="6"/>
                    </a:cubicBezTo>
                    <a:cubicBezTo>
                      <a:pt x="18010" y="5"/>
                      <a:pt x="18011" y="4"/>
                      <a:pt x="18012" y="4"/>
                    </a:cubicBezTo>
                    <a:close/>
                    <a:moveTo>
                      <a:pt x="18020" y="4"/>
                    </a:moveTo>
                    <a:lnTo>
                      <a:pt x="18020" y="4"/>
                    </a:lnTo>
                    <a:cubicBezTo>
                      <a:pt x="18021" y="4"/>
                      <a:pt x="18022" y="5"/>
                      <a:pt x="18022" y="6"/>
                    </a:cubicBezTo>
                    <a:cubicBezTo>
                      <a:pt x="18022" y="7"/>
                      <a:pt x="18021" y="8"/>
                      <a:pt x="18020" y="8"/>
                    </a:cubicBezTo>
                    <a:lnTo>
                      <a:pt x="18020" y="8"/>
                    </a:lnTo>
                    <a:cubicBezTo>
                      <a:pt x="18019" y="8"/>
                      <a:pt x="18018" y="7"/>
                      <a:pt x="18018" y="6"/>
                    </a:cubicBezTo>
                    <a:cubicBezTo>
                      <a:pt x="18018" y="5"/>
                      <a:pt x="18019" y="4"/>
                      <a:pt x="18020" y="4"/>
                    </a:cubicBezTo>
                    <a:close/>
                    <a:moveTo>
                      <a:pt x="18028" y="4"/>
                    </a:moveTo>
                    <a:lnTo>
                      <a:pt x="18028" y="4"/>
                    </a:lnTo>
                    <a:cubicBezTo>
                      <a:pt x="18029" y="4"/>
                      <a:pt x="18030" y="5"/>
                      <a:pt x="18030" y="6"/>
                    </a:cubicBezTo>
                    <a:cubicBezTo>
                      <a:pt x="18030" y="7"/>
                      <a:pt x="18029" y="8"/>
                      <a:pt x="18028" y="8"/>
                    </a:cubicBezTo>
                    <a:lnTo>
                      <a:pt x="18028" y="8"/>
                    </a:lnTo>
                    <a:cubicBezTo>
                      <a:pt x="18027" y="8"/>
                      <a:pt x="18026" y="7"/>
                      <a:pt x="18026" y="6"/>
                    </a:cubicBezTo>
                    <a:cubicBezTo>
                      <a:pt x="18026" y="5"/>
                      <a:pt x="18027" y="4"/>
                      <a:pt x="18028" y="4"/>
                    </a:cubicBezTo>
                    <a:close/>
                    <a:moveTo>
                      <a:pt x="18036" y="4"/>
                    </a:moveTo>
                    <a:lnTo>
                      <a:pt x="18036" y="4"/>
                    </a:lnTo>
                    <a:cubicBezTo>
                      <a:pt x="18037" y="4"/>
                      <a:pt x="18038" y="5"/>
                      <a:pt x="18038" y="6"/>
                    </a:cubicBezTo>
                    <a:cubicBezTo>
                      <a:pt x="18038" y="7"/>
                      <a:pt x="18037" y="8"/>
                      <a:pt x="18036" y="8"/>
                    </a:cubicBezTo>
                    <a:lnTo>
                      <a:pt x="18036" y="8"/>
                    </a:lnTo>
                    <a:cubicBezTo>
                      <a:pt x="18035" y="8"/>
                      <a:pt x="18034" y="7"/>
                      <a:pt x="18034" y="6"/>
                    </a:cubicBezTo>
                    <a:cubicBezTo>
                      <a:pt x="18034" y="5"/>
                      <a:pt x="18035" y="4"/>
                      <a:pt x="18036" y="4"/>
                    </a:cubicBezTo>
                    <a:close/>
                    <a:moveTo>
                      <a:pt x="18044" y="4"/>
                    </a:moveTo>
                    <a:lnTo>
                      <a:pt x="18044" y="4"/>
                    </a:lnTo>
                    <a:cubicBezTo>
                      <a:pt x="18045" y="4"/>
                      <a:pt x="18046" y="5"/>
                      <a:pt x="18046" y="6"/>
                    </a:cubicBezTo>
                    <a:cubicBezTo>
                      <a:pt x="18046" y="7"/>
                      <a:pt x="18045" y="8"/>
                      <a:pt x="18044" y="8"/>
                    </a:cubicBezTo>
                    <a:lnTo>
                      <a:pt x="18044" y="8"/>
                    </a:lnTo>
                    <a:cubicBezTo>
                      <a:pt x="18043" y="8"/>
                      <a:pt x="18042" y="7"/>
                      <a:pt x="18042" y="6"/>
                    </a:cubicBezTo>
                    <a:cubicBezTo>
                      <a:pt x="18042" y="5"/>
                      <a:pt x="18043" y="4"/>
                      <a:pt x="18044" y="4"/>
                    </a:cubicBezTo>
                    <a:close/>
                    <a:moveTo>
                      <a:pt x="18052" y="4"/>
                    </a:moveTo>
                    <a:lnTo>
                      <a:pt x="18052" y="4"/>
                    </a:lnTo>
                    <a:cubicBezTo>
                      <a:pt x="18053" y="4"/>
                      <a:pt x="18054" y="5"/>
                      <a:pt x="18054" y="6"/>
                    </a:cubicBezTo>
                    <a:cubicBezTo>
                      <a:pt x="18054" y="7"/>
                      <a:pt x="18053" y="8"/>
                      <a:pt x="18052" y="8"/>
                    </a:cubicBezTo>
                    <a:lnTo>
                      <a:pt x="18052" y="8"/>
                    </a:lnTo>
                    <a:cubicBezTo>
                      <a:pt x="18051" y="8"/>
                      <a:pt x="18050" y="7"/>
                      <a:pt x="18050" y="6"/>
                    </a:cubicBezTo>
                    <a:cubicBezTo>
                      <a:pt x="18050" y="5"/>
                      <a:pt x="18051" y="4"/>
                      <a:pt x="18052" y="4"/>
                    </a:cubicBezTo>
                    <a:close/>
                    <a:moveTo>
                      <a:pt x="18060" y="4"/>
                    </a:moveTo>
                    <a:lnTo>
                      <a:pt x="18060" y="4"/>
                    </a:lnTo>
                    <a:cubicBezTo>
                      <a:pt x="18061" y="4"/>
                      <a:pt x="18062" y="5"/>
                      <a:pt x="18062" y="6"/>
                    </a:cubicBezTo>
                    <a:cubicBezTo>
                      <a:pt x="18062" y="7"/>
                      <a:pt x="18061" y="8"/>
                      <a:pt x="18060" y="8"/>
                    </a:cubicBezTo>
                    <a:lnTo>
                      <a:pt x="18060" y="8"/>
                    </a:lnTo>
                    <a:cubicBezTo>
                      <a:pt x="18059" y="8"/>
                      <a:pt x="18058" y="7"/>
                      <a:pt x="18058" y="6"/>
                    </a:cubicBezTo>
                    <a:cubicBezTo>
                      <a:pt x="18058" y="5"/>
                      <a:pt x="18059" y="4"/>
                      <a:pt x="18060" y="4"/>
                    </a:cubicBezTo>
                    <a:close/>
                    <a:moveTo>
                      <a:pt x="18068" y="4"/>
                    </a:moveTo>
                    <a:lnTo>
                      <a:pt x="18068" y="4"/>
                    </a:lnTo>
                    <a:cubicBezTo>
                      <a:pt x="18069" y="4"/>
                      <a:pt x="18070" y="5"/>
                      <a:pt x="18070" y="6"/>
                    </a:cubicBezTo>
                    <a:cubicBezTo>
                      <a:pt x="18070" y="7"/>
                      <a:pt x="18069" y="8"/>
                      <a:pt x="18068" y="8"/>
                    </a:cubicBezTo>
                    <a:lnTo>
                      <a:pt x="18068" y="8"/>
                    </a:lnTo>
                    <a:cubicBezTo>
                      <a:pt x="18067" y="8"/>
                      <a:pt x="18066" y="7"/>
                      <a:pt x="18066" y="6"/>
                    </a:cubicBezTo>
                    <a:cubicBezTo>
                      <a:pt x="18066" y="5"/>
                      <a:pt x="18067" y="4"/>
                      <a:pt x="18068" y="4"/>
                    </a:cubicBezTo>
                    <a:close/>
                    <a:moveTo>
                      <a:pt x="18076" y="4"/>
                    </a:moveTo>
                    <a:lnTo>
                      <a:pt x="18076" y="4"/>
                    </a:lnTo>
                    <a:cubicBezTo>
                      <a:pt x="18077" y="4"/>
                      <a:pt x="18078" y="5"/>
                      <a:pt x="18078" y="6"/>
                    </a:cubicBezTo>
                    <a:cubicBezTo>
                      <a:pt x="18078" y="7"/>
                      <a:pt x="18077" y="8"/>
                      <a:pt x="18076" y="8"/>
                    </a:cubicBezTo>
                    <a:lnTo>
                      <a:pt x="18076" y="8"/>
                    </a:lnTo>
                    <a:cubicBezTo>
                      <a:pt x="18075" y="8"/>
                      <a:pt x="18074" y="7"/>
                      <a:pt x="18074" y="6"/>
                    </a:cubicBezTo>
                    <a:cubicBezTo>
                      <a:pt x="18074" y="5"/>
                      <a:pt x="18075" y="4"/>
                      <a:pt x="18076" y="4"/>
                    </a:cubicBezTo>
                    <a:close/>
                    <a:moveTo>
                      <a:pt x="18084" y="4"/>
                    </a:moveTo>
                    <a:lnTo>
                      <a:pt x="18084" y="4"/>
                    </a:lnTo>
                    <a:cubicBezTo>
                      <a:pt x="18085" y="4"/>
                      <a:pt x="18086" y="5"/>
                      <a:pt x="18086" y="6"/>
                    </a:cubicBezTo>
                    <a:cubicBezTo>
                      <a:pt x="18086" y="7"/>
                      <a:pt x="18085" y="8"/>
                      <a:pt x="18084" y="8"/>
                    </a:cubicBezTo>
                    <a:lnTo>
                      <a:pt x="18084" y="8"/>
                    </a:lnTo>
                    <a:cubicBezTo>
                      <a:pt x="18083" y="8"/>
                      <a:pt x="18082" y="7"/>
                      <a:pt x="18082" y="6"/>
                    </a:cubicBezTo>
                    <a:cubicBezTo>
                      <a:pt x="18082" y="5"/>
                      <a:pt x="18083" y="4"/>
                      <a:pt x="18084" y="4"/>
                    </a:cubicBezTo>
                    <a:close/>
                    <a:moveTo>
                      <a:pt x="18092" y="4"/>
                    </a:moveTo>
                    <a:lnTo>
                      <a:pt x="18092" y="4"/>
                    </a:lnTo>
                    <a:cubicBezTo>
                      <a:pt x="18093" y="4"/>
                      <a:pt x="18094" y="5"/>
                      <a:pt x="18094" y="6"/>
                    </a:cubicBezTo>
                    <a:cubicBezTo>
                      <a:pt x="18094" y="7"/>
                      <a:pt x="18093" y="8"/>
                      <a:pt x="18092" y="8"/>
                    </a:cubicBezTo>
                    <a:lnTo>
                      <a:pt x="18092" y="8"/>
                    </a:lnTo>
                    <a:cubicBezTo>
                      <a:pt x="18091" y="8"/>
                      <a:pt x="18090" y="7"/>
                      <a:pt x="18090" y="6"/>
                    </a:cubicBezTo>
                    <a:cubicBezTo>
                      <a:pt x="18090" y="5"/>
                      <a:pt x="18091" y="4"/>
                      <a:pt x="18092" y="4"/>
                    </a:cubicBezTo>
                    <a:close/>
                    <a:moveTo>
                      <a:pt x="18100" y="4"/>
                    </a:moveTo>
                    <a:lnTo>
                      <a:pt x="18100" y="4"/>
                    </a:lnTo>
                    <a:cubicBezTo>
                      <a:pt x="18101" y="4"/>
                      <a:pt x="18102" y="5"/>
                      <a:pt x="18102" y="6"/>
                    </a:cubicBezTo>
                    <a:cubicBezTo>
                      <a:pt x="18102" y="7"/>
                      <a:pt x="18101" y="8"/>
                      <a:pt x="18100" y="8"/>
                    </a:cubicBezTo>
                    <a:lnTo>
                      <a:pt x="18100" y="8"/>
                    </a:lnTo>
                    <a:cubicBezTo>
                      <a:pt x="18099" y="8"/>
                      <a:pt x="18098" y="7"/>
                      <a:pt x="18098" y="6"/>
                    </a:cubicBezTo>
                    <a:cubicBezTo>
                      <a:pt x="18098" y="5"/>
                      <a:pt x="18099" y="4"/>
                      <a:pt x="18100" y="4"/>
                    </a:cubicBezTo>
                    <a:close/>
                    <a:moveTo>
                      <a:pt x="18108" y="4"/>
                    </a:moveTo>
                    <a:lnTo>
                      <a:pt x="18108" y="4"/>
                    </a:lnTo>
                    <a:cubicBezTo>
                      <a:pt x="18109" y="4"/>
                      <a:pt x="18110" y="5"/>
                      <a:pt x="18110" y="6"/>
                    </a:cubicBezTo>
                    <a:cubicBezTo>
                      <a:pt x="18110" y="7"/>
                      <a:pt x="18109" y="8"/>
                      <a:pt x="18108" y="8"/>
                    </a:cubicBezTo>
                    <a:lnTo>
                      <a:pt x="18108" y="8"/>
                    </a:lnTo>
                    <a:cubicBezTo>
                      <a:pt x="18107" y="8"/>
                      <a:pt x="18106" y="7"/>
                      <a:pt x="18106" y="6"/>
                    </a:cubicBezTo>
                    <a:cubicBezTo>
                      <a:pt x="18106" y="5"/>
                      <a:pt x="18107" y="4"/>
                      <a:pt x="18108" y="4"/>
                    </a:cubicBezTo>
                    <a:close/>
                    <a:moveTo>
                      <a:pt x="18116" y="4"/>
                    </a:moveTo>
                    <a:lnTo>
                      <a:pt x="18116" y="4"/>
                    </a:lnTo>
                    <a:cubicBezTo>
                      <a:pt x="18117" y="4"/>
                      <a:pt x="18118" y="5"/>
                      <a:pt x="18118" y="6"/>
                    </a:cubicBezTo>
                    <a:cubicBezTo>
                      <a:pt x="18118" y="7"/>
                      <a:pt x="18117" y="8"/>
                      <a:pt x="18116" y="8"/>
                    </a:cubicBezTo>
                    <a:lnTo>
                      <a:pt x="18116" y="8"/>
                    </a:lnTo>
                    <a:cubicBezTo>
                      <a:pt x="18115" y="8"/>
                      <a:pt x="18114" y="7"/>
                      <a:pt x="18114" y="6"/>
                    </a:cubicBezTo>
                    <a:cubicBezTo>
                      <a:pt x="18114" y="5"/>
                      <a:pt x="18115" y="4"/>
                      <a:pt x="18116" y="4"/>
                    </a:cubicBezTo>
                    <a:close/>
                    <a:moveTo>
                      <a:pt x="18124" y="4"/>
                    </a:moveTo>
                    <a:lnTo>
                      <a:pt x="18124" y="4"/>
                    </a:lnTo>
                    <a:cubicBezTo>
                      <a:pt x="18125" y="4"/>
                      <a:pt x="18126" y="5"/>
                      <a:pt x="18126" y="6"/>
                    </a:cubicBezTo>
                    <a:cubicBezTo>
                      <a:pt x="18126" y="7"/>
                      <a:pt x="18125" y="8"/>
                      <a:pt x="18124" y="8"/>
                    </a:cubicBezTo>
                    <a:lnTo>
                      <a:pt x="18124" y="8"/>
                    </a:lnTo>
                    <a:cubicBezTo>
                      <a:pt x="18123" y="8"/>
                      <a:pt x="18122" y="7"/>
                      <a:pt x="18122" y="6"/>
                    </a:cubicBezTo>
                    <a:cubicBezTo>
                      <a:pt x="18122" y="5"/>
                      <a:pt x="18123" y="4"/>
                      <a:pt x="18124" y="4"/>
                    </a:cubicBezTo>
                    <a:close/>
                    <a:moveTo>
                      <a:pt x="18132" y="4"/>
                    </a:moveTo>
                    <a:lnTo>
                      <a:pt x="18132" y="4"/>
                    </a:lnTo>
                    <a:cubicBezTo>
                      <a:pt x="18133" y="4"/>
                      <a:pt x="18134" y="5"/>
                      <a:pt x="18134" y="6"/>
                    </a:cubicBezTo>
                    <a:cubicBezTo>
                      <a:pt x="18134" y="7"/>
                      <a:pt x="18133" y="8"/>
                      <a:pt x="18132" y="8"/>
                    </a:cubicBezTo>
                    <a:lnTo>
                      <a:pt x="18132" y="8"/>
                    </a:lnTo>
                    <a:cubicBezTo>
                      <a:pt x="18131" y="8"/>
                      <a:pt x="18130" y="7"/>
                      <a:pt x="18130" y="6"/>
                    </a:cubicBezTo>
                    <a:cubicBezTo>
                      <a:pt x="18130" y="5"/>
                      <a:pt x="18131" y="4"/>
                      <a:pt x="18132" y="4"/>
                    </a:cubicBezTo>
                    <a:close/>
                    <a:moveTo>
                      <a:pt x="18140" y="4"/>
                    </a:moveTo>
                    <a:lnTo>
                      <a:pt x="18140" y="4"/>
                    </a:lnTo>
                    <a:cubicBezTo>
                      <a:pt x="18141" y="4"/>
                      <a:pt x="18142" y="5"/>
                      <a:pt x="18142" y="6"/>
                    </a:cubicBezTo>
                    <a:cubicBezTo>
                      <a:pt x="18142" y="7"/>
                      <a:pt x="18141" y="8"/>
                      <a:pt x="18140" y="8"/>
                    </a:cubicBezTo>
                    <a:lnTo>
                      <a:pt x="18140" y="8"/>
                    </a:lnTo>
                    <a:cubicBezTo>
                      <a:pt x="18139" y="8"/>
                      <a:pt x="18138" y="7"/>
                      <a:pt x="18138" y="6"/>
                    </a:cubicBezTo>
                    <a:cubicBezTo>
                      <a:pt x="18138" y="5"/>
                      <a:pt x="18139" y="4"/>
                      <a:pt x="18140" y="4"/>
                    </a:cubicBezTo>
                    <a:close/>
                    <a:moveTo>
                      <a:pt x="18148" y="4"/>
                    </a:moveTo>
                    <a:lnTo>
                      <a:pt x="18148" y="4"/>
                    </a:lnTo>
                    <a:cubicBezTo>
                      <a:pt x="18149" y="4"/>
                      <a:pt x="18150" y="5"/>
                      <a:pt x="18150" y="6"/>
                    </a:cubicBezTo>
                    <a:cubicBezTo>
                      <a:pt x="18150" y="7"/>
                      <a:pt x="18149" y="8"/>
                      <a:pt x="18148" y="8"/>
                    </a:cubicBezTo>
                    <a:lnTo>
                      <a:pt x="18148" y="8"/>
                    </a:lnTo>
                    <a:cubicBezTo>
                      <a:pt x="18147" y="8"/>
                      <a:pt x="18146" y="7"/>
                      <a:pt x="18146" y="6"/>
                    </a:cubicBezTo>
                    <a:cubicBezTo>
                      <a:pt x="18146" y="5"/>
                      <a:pt x="18147" y="4"/>
                      <a:pt x="18148" y="4"/>
                    </a:cubicBezTo>
                    <a:close/>
                    <a:moveTo>
                      <a:pt x="18156" y="4"/>
                    </a:moveTo>
                    <a:lnTo>
                      <a:pt x="18156" y="4"/>
                    </a:lnTo>
                    <a:cubicBezTo>
                      <a:pt x="18157" y="4"/>
                      <a:pt x="18158" y="5"/>
                      <a:pt x="18158" y="6"/>
                    </a:cubicBezTo>
                    <a:cubicBezTo>
                      <a:pt x="18158" y="7"/>
                      <a:pt x="18157" y="8"/>
                      <a:pt x="18156" y="8"/>
                    </a:cubicBezTo>
                    <a:lnTo>
                      <a:pt x="18156" y="8"/>
                    </a:lnTo>
                    <a:cubicBezTo>
                      <a:pt x="18155" y="8"/>
                      <a:pt x="18154" y="7"/>
                      <a:pt x="18154" y="6"/>
                    </a:cubicBezTo>
                    <a:cubicBezTo>
                      <a:pt x="18154" y="5"/>
                      <a:pt x="18155" y="4"/>
                      <a:pt x="18156" y="4"/>
                    </a:cubicBezTo>
                    <a:close/>
                    <a:moveTo>
                      <a:pt x="18164" y="4"/>
                    </a:moveTo>
                    <a:lnTo>
                      <a:pt x="18164" y="4"/>
                    </a:lnTo>
                    <a:cubicBezTo>
                      <a:pt x="18165" y="4"/>
                      <a:pt x="18166" y="5"/>
                      <a:pt x="18166" y="6"/>
                    </a:cubicBezTo>
                    <a:cubicBezTo>
                      <a:pt x="18166" y="7"/>
                      <a:pt x="18165" y="8"/>
                      <a:pt x="18164" y="8"/>
                    </a:cubicBezTo>
                    <a:lnTo>
                      <a:pt x="18164" y="8"/>
                    </a:lnTo>
                    <a:cubicBezTo>
                      <a:pt x="18163" y="8"/>
                      <a:pt x="18162" y="7"/>
                      <a:pt x="18162" y="6"/>
                    </a:cubicBezTo>
                    <a:cubicBezTo>
                      <a:pt x="18162" y="5"/>
                      <a:pt x="18163" y="4"/>
                      <a:pt x="18164" y="4"/>
                    </a:cubicBezTo>
                    <a:close/>
                    <a:moveTo>
                      <a:pt x="18172" y="4"/>
                    </a:moveTo>
                    <a:lnTo>
                      <a:pt x="18172" y="4"/>
                    </a:lnTo>
                    <a:cubicBezTo>
                      <a:pt x="18173" y="4"/>
                      <a:pt x="18174" y="5"/>
                      <a:pt x="18174" y="6"/>
                    </a:cubicBezTo>
                    <a:cubicBezTo>
                      <a:pt x="18174" y="7"/>
                      <a:pt x="18173" y="8"/>
                      <a:pt x="18172" y="8"/>
                    </a:cubicBezTo>
                    <a:lnTo>
                      <a:pt x="18172" y="8"/>
                    </a:lnTo>
                    <a:cubicBezTo>
                      <a:pt x="18171" y="8"/>
                      <a:pt x="18170" y="7"/>
                      <a:pt x="18170" y="6"/>
                    </a:cubicBezTo>
                    <a:cubicBezTo>
                      <a:pt x="18170" y="5"/>
                      <a:pt x="18171" y="4"/>
                      <a:pt x="18172" y="4"/>
                    </a:cubicBezTo>
                    <a:close/>
                    <a:moveTo>
                      <a:pt x="18180" y="4"/>
                    </a:moveTo>
                    <a:lnTo>
                      <a:pt x="18180" y="4"/>
                    </a:lnTo>
                    <a:cubicBezTo>
                      <a:pt x="18181" y="4"/>
                      <a:pt x="18182" y="5"/>
                      <a:pt x="18182" y="6"/>
                    </a:cubicBezTo>
                    <a:cubicBezTo>
                      <a:pt x="18182" y="7"/>
                      <a:pt x="18181" y="8"/>
                      <a:pt x="18180" y="8"/>
                    </a:cubicBezTo>
                    <a:lnTo>
                      <a:pt x="18180" y="8"/>
                    </a:lnTo>
                    <a:cubicBezTo>
                      <a:pt x="18179" y="8"/>
                      <a:pt x="18178" y="7"/>
                      <a:pt x="18178" y="6"/>
                    </a:cubicBezTo>
                    <a:cubicBezTo>
                      <a:pt x="18178" y="5"/>
                      <a:pt x="18179" y="4"/>
                      <a:pt x="18180" y="4"/>
                    </a:cubicBezTo>
                    <a:close/>
                    <a:moveTo>
                      <a:pt x="18188" y="4"/>
                    </a:moveTo>
                    <a:lnTo>
                      <a:pt x="18188" y="4"/>
                    </a:lnTo>
                    <a:cubicBezTo>
                      <a:pt x="18189" y="4"/>
                      <a:pt x="18190" y="5"/>
                      <a:pt x="18190" y="6"/>
                    </a:cubicBezTo>
                    <a:cubicBezTo>
                      <a:pt x="18190" y="7"/>
                      <a:pt x="18189" y="8"/>
                      <a:pt x="18188" y="8"/>
                    </a:cubicBezTo>
                    <a:lnTo>
                      <a:pt x="18188" y="8"/>
                    </a:lnTo>
                    <a:cubicBezTo>
                      <a:pt x="18187" y="8"/>
                      <a:pt x="18186" y="7"/>
                      <a:pt x="18186" y="6"/>
                    </a:cubicBezTo>
                    <a:cubicBezTo>
                      <a:pt x="18186" y="5"/>
                      <a:pt x="18187" y="4"/>
                      <a:pt x="18188" y="4"/>
                    </a:cubicBezTo>
                    <a:close/>
                    <a:moveTo>
                      <a:pt x="18196" y="4"/>
                    </a:moveTo>
                    <a:lnTo>
                      <a:pt x="18196" y="4"/>
                    </a:lnTo>
                    <a:cubicBezTo>
                      <a:pt x="18197" y="4"/>
                      <a:pt x="18198" y="5"/>
                      <a:pt x="18198" y="6"/>
                    </a:cubicBezTo>
                    <a:cubicBezTo>
                      <a:pt x="18198" y="7"/>
                      <a:pt x="18197" y="8"/>
                      <a:pt x="18196" y="8"/>
                    </a:cubicBezTo>
                    <a:lnTo>
                      <a:pt x="18196" y="8"/>
                    </a:lnTo>
                    <a:cubicBezTo>
                      <a:pt x="18195" y="8"/>
                      <a:pt x="18194" y="7"/>
                      <a:pt x="18194" y="6"/>
                    </a:cubicBezTo>
                    <a:cubicBezTo>
                      <a:pt x="18194" y="5"/>
                      <a:pt x="18195" y="4"/>
                      <a:pt x="18196" y="4"/>
                    </a:cubicBezTo>
                    <a:close/>
                    <a:moveTo>
                      <a:pt x="18204" y="4"/>
                    </a:moveTo>
                    <a:lnTo>
                      <a:pt x="18204" y="4"/>
                    </a:lnTo>
                    <a:cubicBezTo>
                      <a:pt x="18205" y="4"/>
                      <a:pt x="18206" y="5"/>
                      <a:pt x="18206" y="6"/>
                    </a:cubicBezTo>
                    <a:cubicBezTo>
                      <a:pt x="18206" y="7"/>
                      <a:pt x="18205" y="8"/>
                      <a:pt x="18204" y="8"/>
                    </a:cubicBezTo>
                    <a:lnTo>
                      <a:pt x="18204" y="8"/>
                    </a:lnTo>
                    <a:cubicBezTo>
                      <a:pt x="18203" y="8"/>
                      <a:pt x="18202" y="7"/>
                      <a:pt x="18202" y="6"/>
                    </a:cubicBezTo>
                    <a:cubicBezTo>
                      <a:pt x="18202" y="5"/>
                      <a:pt x="18203" y="4"/>
                      <a:pt x="18204" y="4"/>
                    </a:cubicBezTo>
                    <a:close/>
                    <a:moveTo>
                      <a:pt x="18212" y="4"/>
                    </a:moveTo>
                    <a:lnTo>
                      <a:pt x="18212" y="4"/>
                    </a:lnTo>
                    <a:cubicBezTo>
                      <a:pt x="18214" y="4"/>
                      <a:pt x="18214" y="5"/>
                      <a:pt x="18214" y="6"/>
                    </a:cubicBezTo>
                    <a:cubicBezTo>
                      <a:pt x="18214" y="7"/>
                      <a:pt x="18214" y="8"/>
                      <a:pt x="18212" y="8"/>
                    </a:cubicBezTo>
                    <a:lnTo>
                      <a:pt x="18212" y="8"/>
                    </a:lnTo>
                    <a:cubicBezTo>
                      <a:pt x="18211" y="8"/>
                      <a:pt x="18210" y="7"/>
                      <a:pt x="18210" y="6"/>
                    </a:cubicBezTo>
                    <a:cubicBezTo>
                      <a:pt x="18210" y="5"/>
                      <a:pt x="18211" y="4"/>
                      <a:pt x="18212" y="4"/>
                    </a:cubicBezTo>
                    <a:close/>
                    <a:moveTo>
                      <a:pt x="18220" y="4"/>
                    </a:moveTo>
                    <a:lnTo>
                      <a:pt x="18220" y="4"/>
                    </a:lnTo>
                    <a:cubicBezTo>
                      <a:pt x="18222" y="4"/>
                      <a:pt x="18222" y="5"/>
                      <a:pt x="18222" y="6"/>
                    </a:cubicBezTo>
                    <a:cubicBezTo>
                      <a:pt x="18222" y="7"/>
                      <a:pt x="18222" y="8"/>
                      <a:pt x="18220" y="8"/>
                    </a:cubicBezTo>
                    <a:lnTo>
                      <a:pt x="18220" y="8"/>
                    </a:lnTo>
                    <a:cubicBezTo>
                      <a:pt x="18219" y="8"/>
                      <a:pt x="18218" y="7"/>
                      <a:pt x="18218" y="6"/>
                    </a:cubicBezTo>
                    <a:cubicBezTo>
                      <a:pt x="18218" y="5"/>
                      <a:pt x="18219" y="4"/>
                      <a:pt x="18220" y="4"/>
                    </a:cubicBezTo>
                    <a:close/>
                    <a:moveTo>
                      <a:pt x="18228" y="4"/>
                    </a:moveTo>
                    <a:lnTo>
                      <a:pt x="18228" y="4"/>
                    </a:lnTo>
                    <a:cubicBezTo>
                      <a:pt x="18230" y="4"/>
                      <a:pt x="18230" y="5"/>
                      <a:pt x="18230" y="6"/>
                    </a:cubicBezTo>
                    <a:cubicBezTo>
                      <a:pt x="18230" y="7"/>
                      <a:pt x="18230" y="8"/>
                      <a:pt x="18228" y="8"/>
                    </a:cubicBezTo>
                    <a:lnTo>
                      <a:pt x="18228" y="8"/>
                    </a:lnTo>
                    <a:cubicBezTo>
                      <a:pt x="18227" y="8"/>
                      <a:pt x="18226" y="7"/>
                      <a:pt x="18226" y="6"/>
                    </a:cubicBezTo>
                    <a:cubicBezTo>
                      <a:pt x="18226" y="5"/>
                      <a:pt x="18227" y="4"/>
                      <a:pt x="18228" y="4"/>
                    </a:cubicBezTo>
                    <a:close/>
                    <a:moveTo>
                      <a:pt x="18236" y="4"/>
                    </a:moveTo>
                    <a:lnTo>
                      <a:pt x="18236" y="4"/>
                    </a:lnTo>
                    <a:cubicBezTo>
                      <a:pt x="18238" y="4"/>
                      <a:pt x="18238" y="5"/>
                      <a:pt x="18238" y="6"/>
                    </a:cubicBezTo>
                    <a:cubicBezTo>
                      <a:pt x="18238" y="7"/>
                      <a:pt x="18238" y="8"/>
                      <a:pt x="18236" y="8"/>
                    </a:cubicBezTo>
                    <a:lnTo>
                      <a:pt x="18236" y="8"/>
                    </a:lnTo>
                    <a:cubicBezTo>
                      <a:pt x="18235" y="8"/>
                      <a:pt x="18234" y="7"/>
                      <a:pt x="18234" y="6"/>
                    </a:cubicBezTo>
                    <a:cubicBezTo>
                      <a:pt x="18234" y="5"/>
                      <a:pt x="18235" y="4"/>
                      <a:pt x="18236" y="4"/>
                    </a:cubicBezTo>
                    <a:close/>
                    <a:moveTo>
                      <a:pt x="18244" y="4"/>
                    </a:moveTo>
                    <a:lnTo>
                      <a:pt x="18244" y="4"/>
                    </a:lnTo>
                    <a:cubicBezTo>
                      <a:pt x="18246" y="4"/>
                      <a:pt x="18246" y="5"/>
                      <a:pt x="18246" y="6"/>
                    </a:cubicBezTo>
                    <a:cubicBezTo>
                      <a:pt x="18246" y="7"/>
                      <a:pt x="18246" y="8"/>
                      <a:pt x="18244" y="8"/>
                    </a:cubicBezTo>
                    <a:lnTo>
                      <a:pt x="18244" y="8"/>
                    </a:lnTo>
                    <a:cubicBezTo>
                      <a:pt x="18243" y="8"/>
                      <a:pt x="18242" y="7"/>
                      <a:pt x="18242" y="6"/>
                    </a:cubicBezTo>
                    <a:cubicBezTo>
                      <a:pt x="18242" y="5"/>
                      <a:pt x="18243" y="4"/>
                      <a:pt x="18244" y="4"/>
                    </a:cubicBezTo>
                    <a:close/>
                    <a:moveTo>
                      <a:pt x="18252" y="4"/>
                    </a:moveTo>
                    <a:lnTo>
                      <a:pt x="18252" y="4"/>
                    </a:lnTo>
                    <a:cubicBezTo>
                      <a:pt x="18254" y="4"/>
                      <a:pt x="18254" y="5"/>
                      <a:pt x="18254" y="6"/>
                    </a:cubicBezTo>
                    <a:cubicBezTo>
                      <a:pt x="18254" y="7"/>
                      <a:pt x="18254" y="8"/>
                      <a:pt x="18252" y="8"/>
                    </a:cubicBezTo>
                    <a:lnTo>
                      <a:pt x="18252" y="8"/>
                    </a:lnTo>
                    <a:cubicBezTo>
                      <a:pt x="18251" y="8"/>
                      <a:pt x="18250" y="7"/>
                      <a:pt x="18250" y="6"/>
                    </a:cubicBezTo>
                    <a:cubicBezTo>
                      <a:pt x="18250" y="5"/>
                      <a:pt x="18251" y="4"/>
                      <a:pt x="18252" y="4"/>
                    </a:cubicBezTo>
                    <a:close/>
                    <a:moveTo>
                      <a:pt x="18260" y="4"/>
                    </a:moveTo>
                    <a:lnTo>
                      <a:pt x="18260" y="4"/>
                    </a:lnTo>
                    <a:cubicBezTo>
                      <a:pt x="18262" y="4"/>
                      <a:pt x="18262" y="5"/>
                      <a:pt x="18262" y="6"/>
                    </a:cubicBezTo>
                    <a:cubicBezTo>
                      <a:pt x="18262" y="7"/>
                      <a:pt x="18262" y="8"/>
                      <a:pt x="18260" y="8"/>
                    </a:cubicBezTo>
                    <a:lnTo>
                      <a:pt x="18260" y="8"/>
                    </a:lnTo>
                    <a:cubicBezTo>
                      <a:pt x="18259" y="8"/>
                      <a:pt x="18258" y="7"/>
                      <a:pt x="18258" y="6"/>
                    </a:cubicBezTo>
                    <a:cubicBezTo>
                      <a:pt x="18258" y="5"/>
                      <a:pt x="18259" y="4"/>
                      <a:pt x="18260" y="4"/>
                    </a:cubicBezTo>
                    <a:close/>
                    <a:moveTo>
                      <a:pt x="18268" y="4"/>
                    </a:moveTo>
                    <a:lnTo>
                      <a:pt x="18268" y="4"/>
                    </a:lnTo>
                    <a:cubicBezTo>
                      <a:pt x="18270" y="4"/>
                      <a:pt x="18270" y="5"/>
                      <a:pt x="18270" y="6"/>
                    </a:cubicBezTo>
                    <a:cubicBezTo>
                      <a:pt x="18270" y="7"/>
                      <a:pt x="18270" y="8"/>
                      <a:pt x="18268" y="8"/>
                    </a:cubicBezTo>
                    <a:lnTo>
                      <a:pt x="18268" y="8"/>
                    </a:lnTo>
                    <a:cubicBezTo>
                      <a:pt x="18267" y="8"/>
                      <a:pt x="18266" y="7"/>
                      <a:pt x="18266" y="6"/>
                    </a:cubicBezTo>
                    <a:cubicBezTo>
                      <a:pt x="18266" y="5"/>
                      <a:pt x="18267" y="4"/>
                      <a:pt x="18268" y="4"/>
                    </a:cubicBezTo>
                    <a:close/>
                    <a:moveTo>
                      <a:pt x="18276" y="4"/>
                    </a:moveTo>
                    <a:lnTo>
                      <a:pt x="18276" y="4"/>
                    </a:lnTo>
                    <a:cubicBezTo>
                      <a:pt x="18278" y="4"/>
                      <a:pt x="18278" y="5"/>
                      <a:pt x="18278" y="6"/>
                    </a:cubicBezTo>
                    <a:cubicBezTo>
                      <a:pt x="18278" y="7"/>
                      <a:pt x="18278" y="8"/>
                      <a:pt x="18276" y="8"/>
                    </a:cubicBezTo>
                    <a:lnTo>
                      <a:pt x="18276" y="8"/>
                    </a:lnTo>
                    <a:cubicBezTo>
                      <a:pt x="18275" y="8"/>
                      <a:pt x="18274" y="7"/>
                      <a:pt x="18274" y="6"/>
                    </a:cubicBezTo>
                    <a:cubicBezTo>
                      <a:pt x="18274" y="5"/>
                      <a:pt x="18275" y="4"/>
                      <a:pt x="18276" y="4"/>
                    </a:cubicBezTo>
                    <a:close/>
                    <a:moveTo>
                      <a:pt x="18284" y="4"/>
                    </a:moveTo>
                    <a:lnTo>
                      <a:pt x="18284" y="4"/>
                    </a:lnTo>
                    <a:cubicBezTo>
                      <a:pt x="18286" y="4"/>
                      <a:pt x="18286" y="5"/>
                      <a:pt x="18286" y="6"/>
                    </a:cubicBezTo>
                    <a:cubicBezTo>
                      <a:pt x="18286" y="7"/>
                      <a:pt x="18286" y="8"/>
                      <a:pt x="18284" y="8"/>
                    </a:cubicBezTo>
                    <a:lnTo>
                      <a:pt x="18284" y="8"/>
                    </a:lnTo>
                    <a:cubicBezTo>
                      <a:pt x="18283" y="8"/>
                      <a:pt x="18282" y="7"/>
                      <a:pt x="18282" y="6"/>
                    </a:cubicBezTo>
                    <a:cubicBezTo>
                      <a:pt x="18282" y="5"/>
                      <a:pt x="18283" y="4"/>
                      <a:pt x="18284" y="4"/>
                    </a:cubicBezTo>
                    <a:close/>
                    <a:moveTo>
                      <a:pt x="18292" y="4"/>
                    </a:moveTo>
                    <a:lnTo>
                      <a:pt x="18292" y="4"/>
                    </a:lnTo>
                    <a:cubicBezTo>
                      <a:pt x="18294" y="4"/>
                      <a:pt x="18294" y="5"/>
                      <a:pt x="18294" y="6"/>
                    </a:cubicBezTo>
                    <a:cubicBezTo>
                      <a:pt x="18294" y="7"/>
                      <a:pt x="18294" y="8"/>
                      <a:pt x="18292" y="8"/>
                    </a:cubicBezTo>
                    <a:lnTo>
                      <a:pt x="18292" y="8"/>
                    </a:lnTo>
                    <a:cubicBezTo>
                      <a:pt x="18291" y="8"/>
                      <a:pt x="18290" y="7"/>
                      <a:pt x="18290" y="6"/>
                    </a:cubicBezTo>
                    <a:cubicBezTo>
                      <a:pt x="18290" y="5"/>
                      <a:pt x="18291" y="4"/>
                      <a:pt x="18292" y="4"/>
                    </a:cubicBezTo>
                    <a:close/>
                    <a:moveTo>
                      <a:pt x="18300" y="4"/>
                    </a:moveTo>
                    <a:lnTo>
                      <a:pt x="18300" y="4"/>
                    </a:lnTo>
                    <a:cubicBezTo>
                      <a:pt x="18302" y="4"/>
                      <a:pt x="18302" y="5"/>
                      <a:pt x="18302" y="6"/>
                    </a:cubicBezTo>
                    <a:cubicBezTo>
                      <a:pt x="18302" y="7"/>
                      <a:pt x="18302" y="8"/>
                      <a:pt x="18300" y="8"/>
                    </a:cubicBezTo>
                    <a:lnTo>
                      <a:pt x="18300" y="8"/>
                    </a:lnTo>
                    <a:cubicBezTo>
                      <a:pt x="18299" y="8"/>
                      <a:pt x="18298" y="7"/>
                      <a:pt x="18298" y="6"/>
                    </a:cubicBezTo>
                    <a:cubicBezTo>
                      <a:pt x="18298" y="5"/>
                      <a:pt x="18299" y="4"/>
                      <a:pt x="18300" y="4"/>
                    </a:cubicBezTo>
                    <a:close/>
                    <a:moveTo>
                      <a:pt x="18308" y="4"/>
                    </a:moveTo>
                    <a:lnTo>
                      <a:pt x="18308" y="4"/>
                    </a:lnTo>
                    <a:cubicBezTo>
                      <a:pt x="18310" y="4"/>
                      <a:pt x="18310" y="5"/>
                      <a:pt x="18310" y="6"/>
                    </a:cubicBezTo>
                    <a:cubicBezTo>
                      <a:pt x="18310" y="7"/>
                      <a:pt x="18310" y="8"/>
                      <a:pt x="18308" y="8"/>
                    </a:cubicBezTo>
                    <a:lnTo>
                      <a:pt x="18308" y="8"/>
                    </a:lnTo>
                    <a:cubicBezTo>
                      <a:pt x="18307" y="8"/>
                      <a:pt x="18306" y="7"/>
                      <a:pt x="18306" y="6"/>
                    </a:cubicBezTo>
                    <a:cubicBezTo>
                      <a:pt x="18306" y="5"/>
                      <a:pt x="18307" y="4"/>
                      <a:pt x="18308" y="4"/>
                    </a:cubicBezTo>
                    <a:close/>
                    <a:moveTo>
                      <a:pt x="18316" y="4"/>
                    </a:moveTo>
                    <a:lnTo>
                      <a:pt x="18317" y="4"/>
                    </a:lnTo>
                    <a:cubicBezTo>
                      <a:pt x="18318" y="4"/>
                      <a:pt x="18319" y="5"/>
                      <a:pt x="18319" y="6"/>
                    </a:cubicBezTo>
                    <a:cubicBezTo>
                      <a:pt x="18319" y="7"/>
                      <a:pt x="18318" y="8"/>
                      <a:pt x="18317" y="8"/>
                    </a:cubicBezTo>
                    <a:lnTo>
                      <a:pt x="18316" y="8"/>
                    </a:lnTo>
                    <a:cubicBezTo>
                      <a:pt x="18315" y="8"/>
                      <a:pt x="18314" y="7"/>
                      <a:pt x="18314" y="6"/>
                    </a:cubicBezTo>
                    <a:cubicBezTo>
                      <a:pt x="18314" y="5"/>
                      <a:pt x="18315" y="4"/>
                      <a:pt x="18316" y="4"/>
                    </a:cubicBezTo>
                    <a:close/>
                    <a:moveTo>
                      <a:pt x="18325" y="4"/>
                    </a:moveTo>
                    <a:lnTo>
                      <a:pt x="18325" y="4"/>
                    </a:lnTo>
                    <a:cubicBezTo>
                      <a:pt x="18326" y="4"/>
                      <a:pt x="18327" y="5"/>
                      <a:pt x="18327" y="6"/>
                    </a:cubicBezTo>
                    <a:cubicBezTo>
                      <a:pt x="18327" y="7"/>
                      <a:pt x="18326" y="8"/>
                      <a:pt x="18325" y="8"/>
                    </a:cubicBezTo>
                    <a:lnTo>
                      <a:pt x="18325" y="8"/>
                    </a:lnTo>
                    <a:cubicBezTo>
                      <a:pt x="18323" y="8"/>
                      <a:pt x="18323" y="7"/>
                      <a:pt x="18323" y="6"/>
                    </a:cubicBezTo>
                    <a:cubicBezTo>
                      <a:pt x="18323" y="5"/>
                      <a:pt x="18323" y="4"/>
                      <a:pt x="18325" y="4"/>
                    </a:cubicBezTo>
                    <a:close/>
                    <a:moveTo>
                      <a:pt x="18333" y="4"/>
                    </a:moveTo>
                    <a:lnTo>
                      <a:pt x="18333" y="4"/>
                    </a:lnTo>
                    <a:cubicBezTo>
                      <a:pt x="18334" y="4"/>
                      <a:pt x="18335" y="5"/>
                      <a:pt x="18335" y="6"/>
                    </a:cubicBezTo>
                    <a:cubicBezTo>
                      <a:pt x="18335" y="7"/>
                      <a:pt x="18334" y="8"/>
                      <a:pt x="18333" y="8"/>
                    </a:cubicBezTo>
                    <a:lnTo>
                      <a:pt x="18333" y="8"/>
                    </a:lnTo>
                    <a:cubicBezTo>
                      <a:pt x="18331" y="8"/>
                      <a:pt x="18331" y="7"/>
                      <a:pt x="18331" y="6"/>
                    </a:cubicBezTo>
                    <a:cubicBezTo>
                      <a:pt x="18331" y="5"/>
                      <a:pt x="18331" y="4"/>
                      <a:pt x="18333" y="4"/>
                    </a:cubicBezTo>
                    <a:close/>
                    <a:moveTo>
                      <a:pt x="18341" y="4"/>
                    </a:moveTo>
                    <a:lnTo>
                      <a:pt x="18341" y="4"/>
                    </a:lnTo>
                    <a:cubicBezTo>
                      <a:pt x="18342" y="4"/>
                      <a:pt x="18343" y="5"/>
                      <a:pt x="18343" y="6"/>
                    </a:cubicBezTo>
                    <a:cubicBezTo>
                      <a:pt x="18343" y="7"/>
                      <a:pt x="18342" y="8"/>
                      <a:pt x="18341" y="8"/>
                    </a:cubicBezTo>
                    <a:lnTo>
                      <a:pt x="18341" y="8"/>
                    </a:lnTo>
                    <a:cubicBezTo>
                      <a:pt x="18339" y="8"/>
                      <a:pt x="18339" y="7"/>
                      <a:pt x="18339" y="6"/>
                    </a:cubicBezTo>
                    <a:cubicBezTo>
                      <a:pt x="18339" y="5"/>
                      <a:pt x="18339" y="4"/>
                      <a:pt x="18341" y="4"/>
                    </a:cubicBezTo>
                    <a:close/>
                    <a:moveTo>
                      <a:pt x="18349" y="4"/>
                    </a:moveTo>
                    <a:lnTo>
                      <a:pt x="18349" y="4"/>
                    </a:lnTo>
                    <a:cubicBezTo>
                      <a:pt x="18350" y="4"/>
                      <a:pt x="18351" y="5"/>
                      <a:pt x="18351" y="6"/>
                    </a:cubicBezTo>
                    <a:cubicBezTo>
                      <a:pt x="18351" y="7"/>
                      <a:pt x="18350" y="8"/>
                      <a:pt x="18349" y="8"/>
                    </a:cubicBezTo>
                    <a:lnTo>
                      <a:pt x="18349" y="8"/>
                    </a:lnTo>
                    <a:cubicBezTo>
                      <a:pt x="18347" y="8"/>
                      <a:pt x="18347" y="7"/>
                      <a:pt x="18347" y="6"/>
                    </a:cubicBezTo>
                    <a:cubicBezTo>
                      <a:pt x="18347" y="5"/>
                      <a:pt x="18347" y="4"/>
                      <a:pt x="18349" y="4"/>
                    </a:cubicBezTo>
                    <a:close/>
                    <a:moveTo>
                      <a:pt x="18357" y="4"/>
                    </a:moveTo>
                    <a:lnTo>
                      <a:pt x="18357" y="4"/>
                    </a:lnTo>
                    <a:cubicBezTo>
                      <a:pt x="18358" y="4"/>
                      <a:pt x="18359" y="5"/>
                      <a:pt x="18359" y="6"/>
                    </a:cubicBezTo>
                    <a:cubicBezTo>
                      <a:pt x="18359" y="7"/>
                      <a:pt x="18358" y="8"/>
                      <a:pt x="18357" y="8"/>
                    </a:cubicBezTo>
                    <a:lnTo>
                      <a:pt x="18357" y="8"/>
                    </a:lnTo>
                    <a:cubicBezTo>
                      <a:pt x="18355" y="8"/>
                      <a:pt x="18355" y="7"/>
                      <a:pt x="18355" y="6"/>
                    </a:cubicBezTo>
                    <a:cubicBezTo>
                      <a:pt x="18355" y="5"/>
                      <a:pt x="18355" y="4"/>
                      <a:pt x="18357" y="4"/>
                    </a:cubicBezTo>
                    <a:close/>
                    <a:moveTo>
                      <a:pt x="18365" y="4"/>
                    </a:moveTo>
                    <a:lnTo>
                      <a:pt x="18365" y="4"/>
                    </a:lnTo>
                    <a:cubicBezTo>
                      <a:pt x="18366" y="4"/>
                      <a:pt x="18367" y="5"/>
                      <a:pt x="18367" y="6"/>
                    </a:cubicBezTo>
                    <a:cubicBezTo>
                      <a:pt x="18367" y="7"/>
                      <a:pt x="18366" y="8"/>
                      <a:pt x="18365" y="8"/>
                    </a:cubicBezTo>
                    <a:lnTo>
                      <a:pt x="18365" y="8"/>
                    </a:lnTo>
                    <a:cubicBezTo>
                      <a:pt x="18363" y="8"/>
                      <a:pt x="18363" y="7"/>
                      <a:pt x="18363" y="6"/>
                    </a:cubicBezTo>
                    <a:cubicBezTo>
                      <a:pt x="18363" y="5"/>
                      <a:pt x="18363" y="4"/>
                      <a:pt x="18365" y="4"/>
                    </a:cubicBezTo>
                    <a:close/>
                    <a:moveTo>
                      <a:pt x="18373" y="4"/>
                    </a:moveTo>
                    <a:lnTo>
                      <a:pt x="18373" y="4"/>
                    </a:lnTo>
                    <a:cubicBezTo>
                      <a:pt x="18374" y="4"/>
                      <a:pt x="18375" y="5"/>
                      <a:pt x="18375" y="6"/>
                    </a:cubicBezTo>
                    <a:cubicBezTo>
                      <a:pt x="18375" y="7"/>
                      <a:pt x="18374" y="8"/>
                      <a:pt x="18373" y="8"/>
                    </a:cubicBezTo>
                    <a:lnTo>
                      <a:pt x="18373" y="8"/>
                    </a:lnTo>
                    <a:cubicBezTo>
                      <a:pt x="18371" y="8"/>
                      <a:pt x="18371" y="7"/>
                      <a:pt x="18371" y="6"/>
                    </a:cubicBezTo>
                    <a:cubicBezTo>
                      <a:pt x="18371" y="5"/>
                      <a:pt x="18371" y="4"/>
                      <a:pt x="18373" y="4"/>
                    </a:cubicBezTo>
                    <a:close/>
                    <a:moveTo>
                      <a:pt x="18381" y="4"/>
                    </a:moveTo>
                    <a:lnTo>
                      <a:pt x="18381" y="4"/>
                    </a:lnTo>
                    <a:cubicBezTo>
                      <a:pt x="18382" y="4"/>
                      <a:pt x="18383" y="5"/>
                      <a:pt x="18383" y="6"/>
                    </a:cubicBezTo>
                    <a:cubicBezTo>
                      <a:pt x="18383" y="7"/>
                      <a:pt x="18382" y="8"/>
                      <a:pt x="18381" y="8"/>
                    </a:cubicBezTo>
                    <a:lnTo>
                      <a:pt x="18381" y="8"/>
                    </a:lnTo>
                    <a:cubicBezTo>
                      <a:pt x="18379" y="8"/>
                      <a:pt x="18379" y="7"/>
                      <a:pt x="18379" y="6"/>
                    </a:cubicBezTo>
                    <a:cubicBezTo>
                      <a:pt x="18379" y="5"/>
                      <a:pt x="18379" y="4"/>
                      <a:pt x="18381" y="4"/>
                    </a:cubicBezTo>
                    <a:close/>
                    <a:moveTo>
                      <a:pt x="18389" y="4"/>
                    </a:moveTo>
                    <a:lnTo>
                      <a:pt x="18389" y="4"/>
                    </a:lnTo>
                    <a:cubicBezTo>
                      <a:pt x="18390" y="4"/>
                      <a:pt x="18391" y="5"/>
                      <a:pt x="18391" y="6"/>
                    </a:cubicBezTo>
                    <a:cubicBezTo>
                      <a:pt x="18391" y="7"/>
                      <a:pt x="18390" y="8"/>
                      <a:pt x="18389" y="8"/>
                    </a:cubicBezTo>
                    <a:lnTo>
                      <a:pt x="18389" y="8"/>
                    </a:lnTo>
                    <a:cubicBezTo>
                      <a:pt x="18387" y="8"/>
                      <a:pt x="18387" y="7"/>
                      <a:pt x="18387" y="6"/>
                    </a:cubicBezTo>
                    <a:cubicBezTo>
                      <a:pt x="18387" y="5"/>
                      <a:pt x="18387" y="4"/>
                      <a:pt x="18389" y="4"/>
                    </a:cubicBezTo>
                    <a:close/>
                    <a:moveTo>
                      <a:pt x="18397" y="4"/>
                    </a:moveTo>
                    <a:lnTo>
                      <a:pt x="18397" y="4"/>
                    </a:lnTo>
                    <a:cubicBezTo>
                      <a:pt x="18398" y="4"/>
                      <a:pt x="18399" y="5"/>
                      <a:pt x="18399" y="6"/>
                    </a:cubicBezTo>
                    <a:cubicBezTo>
                      <a:pt x="18399" y="7"/>
                      <a:pt x="18398" y="8"/>
                      <a:pt x="18397" y="8"/>
                    </a:cubicBezTo>
                    <a:lnTo>
                      <a:pt x="18397" y="8"/>
                    </a:lnTo>
                    <a:cubicBezTo>
                      <a:pt x="18395" y="8"/>
                      <a:pt x="18395" y="7"/>
                      <a:pt x="18395" y="6"/>
                    </a:cubicBezTo>
                    <a:cubicBezTo>
                      <a:pt x="18395" y="5"/>
                      <a:pt x="18395" y="4"/>
                      <a:pt x="18397" y="4"/>
                    </a:cubicBezTo>
                    <a:close/>
                    <a:moveTo>
                      <a:pt x="18405" y="4"/>
                    </a:moveTo>
                    <a:lnTo>
                      <a:pt x="18405" y="4"/>
                    </a:lnTo>
                    <a:cubicBezTo>
                      <a:pt x="18406" y="4"/>
                      <a:pt x="18407" y="5"/>
                      <a:pt x="18407" y="6"/>
                    </a:cubicBezTo>
                    <a:cubicBezTo>
                      <a:pt x="18407" y="7"/>
                      <a:pt x="18406" y="8"/>
                      <a:pt x="18405" y="8"/>
                    </a:cubicBezTo>
                    <a:lnTo>
                      <a:pt x="18405" y="8"/>
                    </a:lnTo>
                    <a:cubicBezTo>
                      <a:pt x="18403" y="8"/>
                      <a:pt x="18403" y="7"/>
                      <a:pt x="18403" y="6"/>
                    </a:cubicBezTo>
                    <a:cubicBezTo>
                      <a:pt x="18403" y="5"/>
                      <a:pt x="18403" y="4"/>
                      <a:pt x="18405" y="4"/>
                    </a:cubicBezTo>
                    <a:close/>
                    <a:moveTo>
                      <a:pt x="18413" y="4"/>
                    </a:moveTo>
                    <a:lnTo>
                      <a:pt x="18413" y="4"/>
                    </a:lnTo>
                    <a:cubicBezTo>
                      <a:pt x="18414" y="4"/>
                      <a:pt x="18415" y="5"/>
                      <a:pt x="18415" y="6"/>
                    </a:cubicBezTo>
                    <a:cubicBezTo>
                      <a:pt x="18415" y="7"/>
                      <a:pt x="18414" y="8"/>
                      <a:pt x="18413" y="8"/>
                    </a:cubicBezTo>
                    <a:lnTo>
                      <a:pt x="18413" y="8"/>
                    </a:lnTo>
                    <a:cubicBezTo>
                      <a:pt x="18411" y="8"/>
                      <a:pt x="18411" y="7"/>
                      <a:pt x="18411" y="6"/>
                    </a:cubicBezTo>
                    <a:cubicBezTo>
                      <a:pt x="18411" y="5"/>
                      <a:pt x="18411" y="4"/>
                      <a:pt x="18413" y="4"/>
                    </a:cubicBezTo>
                    <a:close/>
                    <a:moveTo>
                      <a:pt x="18421" y="4"/>
                    </a:moveTo>
                    <a:lnTo>
                      <a:pt x="18421" y="4"/>
                    </a:lnTo>
                    <a:cubicBezTo>
                      <a:pt x="18422" y="4"/>
                      <a:pt x="18423" y="5"/>
                      <a:pt x="18423" y="6"/>
                    </a:cubicBezTo>
                    <a:cubicBezTo>
                      <a:pt x="18423" y="7"/>
                      <a:pt x="18422" y="8"/>
                      <a:pt x="18421" y="8"/>
                    </a:cubicBezTo>
                    <a:lnTo>
                      <a:pt x="18421" y="8"/>
                    </a:lnTo>
                    <a:cubicBezTo>
                      <a:pt x="18419" y="8"/>
                      <a:pt x="18419" y="7"/>
                      <a:pt x="18419" y="6"/>
                    </a:cubicBezTo>
                    <a:cubicBezTo>
                      <a:pt x="18419" y="5"/>
                      <a:pt x="18419" y="4"/>
                      <a:pt x="18421" y="4"/>
                    </a:cubicBezTo>
                    <a:close/>
                    <a:moveTo>
                      <a:pt x="18429" y="4"/>
                    </a:moveTo>
                    <a:lnTo>
                      <a:pt x="18429" y="4"/>
                    </a:lnTo>
                    <a:cubicBezTo>
                      <a:pt x="18430" y="4"/>
                      <a:pt x="18431" y="5"/>
                      <a:pt x="18431" y="6"/>
                    </a:cubicBezTo>
                    <a:cubicBezTo>
                      <a:pt x="18431" y="7"/>
                      <a:pt x="18430" y="8"/>
                      <a:pt x="18429" y="8"/>
                    </a:cubicBezTo>
                    <a:lnTo>
                      <a:pt x="18429" y="8"/>
                    </a:lnTo>
                    <a:cubicBezTo>
                      <a:pt x="18428" y="8"/>
                      <a:pt x="18427" y="7"/>
                      <a:pt x="18427" y="6"/>
                    </a:cubicBezTo>
                    <a:cubicBezTo>
                      <a:pt x="18427" y="5"/>
                      <a:pt x="18428" y="4"/>
                      <a:pt x="18429" y="4"/>
                    </a:cubicBezTo>
                    <a:close/>
                    <a:moveTo>
                      <a:pt x="18437" y="4"/>
                    </a:moveTo>
                    <a:lnTo>
                      <a:pt x="18437" y="4"/>
                    </a:lnTo>
                    <a:cubicBezTo>
                      <a:pt x="18438" y="4"/>
                      <a:pt x="18439" y="5"/>
                      <a:pt x="18439" y="6"/>
                    </a:cubicBezTo>
                    <a:cubicBezTo>
                      <a:pt x="18439" y="7"/>
                      <a:pt x="18438" y="8"/>
                      <a:pt x="18437" y="8"/>
                    </a:cubicBezTo>
                    <a:lnTo>
                      <a:pt x="18437" y="8"/>
                    </a:lnTo>
                    <a:cubicBezTo>
                      <a:pt x="18436" y="8"/>
                      <a:pt x="18435" y="7"/>
                      <a:pt x="18435" y="6"/>
                    </a:cubicBezTo>
                    <a:cubicBezTo>
                      <a:pt x="18435" y="5"/>
                      <a:pt x="18436" y="4"/>
                      <a:pt x="18437" y="4"/>
                    </a:cubicBezTo>
                    <a:close/>
                    <a:moveTo>
                      <a:pt x="18445" y="4"/>
                    </a:moveTo>
                    <a:lnTo>
                      <a:pt x="18445" y="4"/>
                    </a:lnTo>
                    <a:cubicBezTo>
                      <a:pt x="18446" y="4"/>
                      <a:pt x="18447" y="5"/>
                      <a:pt x="18447" y="6"/>
                    </a:cubicBezTo>
                    <a:cubicBezTo>
                      <a:pt x="18447" y="7"/>
                      <a:pt x="18446" y="8"/>
                      <a:pt x="18445" y="8"/>
                    </a:cubicBezTo>
                    <a:lnTo>
                      <a:pt x="18445" y="8"/>
                    </a:lnTo>
                    <a:cubicBezTo>
                      <a:pt x="18444" y="8"/>
                      <a:pt x="18443" y="7"/>
                      <a:pt x="18443" y="6"/>
                    </a:cubicBezTo>
                    <a:cubicBezTo>
                      <a:pt x="18443" y="5"/>
                      <a:pt x="18444" y="4"/>
                      <a:pt x="18445" y="4"/>
                    </a:cubicBezTo>
                    <a:close/>
                    <a:moveTo>
                      <a:pt x="18453" y="4"/>
                    </a:moveTo>
                    <a:lnTo>
                      <a:pt x="18453" y="4"/>
                    </a:lnTo>
                    <a:cubicBezTo>
                      <a:pt x="18454" y="4"/>
                      <a:pt x="18455" y="5"/>
                      <a:pt x="18455" y="6"/>
                    </a:cubicBezTo>
                    <a:cubicBezTo>
                      <a:pt x="18455" y="7"/>
                      <a:pt x="18454" y="8"/>
                      <a:pt x="18453" y="8"/>
                    </a:cubicBezTo>
                    <a:lnTo>
                      <a:pt x="18453" y="8"/>
                    </a:lnTo>
                    <a:cubicBezTo>
                      <a:pt x="18452" y="8"/>
                      <a:pt x="18451" y="7"/>
                      <a:pt x="18451" y="6"/>
                    </a:cubicBezTo>
                    <a:cubicBezTo>
                      <a:pt x="18451" y="5"/>
                      <a:pt x="18452" y="4"/>
                      <a:pt x="18453" y="4"/>
                    </a:cubicBezTo>
                    <a:close/>
                    <a:moveTo>
                      <a:pt x="18461" y="4"/>
                    </a:moveTo>
                    <a:lnTo>
                      <a:pt x="18461" y="4"/>
                    </a:lnTo>
                    <a:cubicBezTo>
                      <a:pt x="18462" y="4"/>
                      <a:pt x="18463" y="5"/>
                      <a:pt x="18463" y="6"/>
                    </a:cubicBezTo>
                    <a:cubicBezTo>
                      <a:pt x="18463" y="7"/>
                      <a:pt x="18462" y="8"/>
                      <a:pt x="18461" y="8"/>
                    </a:cubicBezTo>
                    <a:lnTo>
                      <a:pt x="18461" y="8"/>
                    </a:lnTo>
                    <a:cubicBezTo>
                      <a:pt x="18460" y="8"/>
                      <a:pt x="18459" y="7"/>
                      <a:pt x="18459" y="6"/>
                    </a:cubicBezTo>
                    <a:cubicBezTo>
                      <a:pt x="18459" y="5"/>
                      <a:pt x="18460" y="4"/>
                      <a:pt x="18461" y="4"/>
                    </a:cubicBezTo>
                    <a:close/>
                    <a:moveTo>
                      <a:pt x="18469" y="4"/>
                    </a:moveTo>
                    <a:lnTo>
                      <a:pt x="18469" y="4"/>
                    </a:lnTo>
                    <a:cubicBezTo>
                      <a:pt x="18470" y="4"/>
                      <a:pt x="18471" y="5"/>
                      <a:pt x="18471" y="6"/>
                    </a:cubicBezTo>
                    <a:cubicBezTo>
                      <a:pt x="18471" y="7"/>
                      <a:pt x="18470" y="8"/>
                      <a:pt x="18469" y="8"/>
                    </a:cubicBezTo>
                    <a:lnTo>
                      <a:pt x="18469" y="8"/>
                    </a:lnTo>
                    <a:cubicBezTo>
                      <a:pt x="18468" y="8"/>
                      <a:pt x="18467" y="7"/>
                      <a:pt x="18467" y="6"/>
                    </a:cubicBezTo>
                    <a:cubicBezTo>
                      <a:pt x="18467" y="5"/>
                      <a:pt x="18468" y="4"/>
                      <a:pt x="18469" y="4"/>
                    </a:cubicBezTo>
                    <a:close/>
                    <a:moveTo>
                      <a:pt x="18477" y="4"/>
                    </a:moveTo>
                    <a:lnTo>
                      <a:pt x="18477" y="4"/>
                    </a:lnTo>
                    <a:cubicBezTo>
                      <a:pt x="18478" y="4"/>
                      <a:pt x="18479" y="5"/>
                      <a:pt x="18479" y="6"/>
                    </a:cubicBezTo>
                    <a:cubicBezTo>
                      <a:pt x="18479" y="7"/>
                      <a:pt x="18478" y="8"/>
                      <a:pt x="18477" y="8"/>
                    </a:cubicBezTo>
                    <a:lnTo>
                      <a:pt x="18477" y="8"/>
                    </a:lnTo>
                    <a:cubicBezTo>
                      <a:pt x="18476" y="8"/>
                      <a:pt x="18475" y="7"/>
                      <a:pt x="18475" y="6"/>
                    </a:cubicBezTo>
                    <a:cubicBezTo>
                      <a:pt x="18475" y="5"/>
                      <a:pt x="18476" y="4"/>
                      <a:pt x="18477" y="4"/>
                    </a:cubicBezTo>
                    <a:close/>
                    <a:moveTo>
                      <a:pt x="18485" y="4"/>
                    </a:moveTo>
                    <a:lnTo>
                      <a:pt x="18485" y="4"/>
                    </a:lnTo>
                    <a:cubicBezTo>
                      <a:pt x="18486" y="4"/>
                      <a:pt x="18487" y="5"/>
                      <a:pt x="18487" y="6"/>
                    </a:cubicBezTo>
                    <a:cubicBezTo>
                      <a:pt x="18487" y="7"/>
                      <a:pt x="18486" y="8"/>
                      <a:pt x="18485" y="8"/>
                    </a:cubicBezTo>
                    <a:lnTo>
                      <a:pt x="18485" y="8"/>
                    </a:lnTo>
                    <a:cubicBezTo>
                      <a:pt x="18484" y="8"/>
                      <a:pt x="18483" y="7"/>
                      <a:pt x="18483" y="6"/>
                    </a:cubicBezTo>
                    <a:cubicBezTo>
                      <a:pt x="18483" y="5"/>
                      <a:pt x="18484" y="4"/>
                      <a:pt x="18485" y="4"/>
                    </a:cubicBezTo>
                    <a:close/>
                    <a:moveTo>
                      <a:pt x="18493" y="4"/>
                    </a:moveTo>
                    <a:lnTo>
                      <a:pt x="18493" y="4"/>
                    </a:lnTo>
                    <a:cubicBezTo>
                      <a:pt x="18494" y="4"/>
                      <a:pt x="18495" y="5"/>
                      <a:pt x="18495" y="6"/>
                    </a:cubicBezTo>
                    <a:cubicBezTo>
                      <a:pt x="18495" y="7"/>
                      <a:pt x="18494" y="8"/>
                      <a:pt x="18493" y="8"/>
                    </a:cubicBezTo>
                    <a:lnTo>
                      <a:pt x="18493" y="8"/>
                    </a:lnTo>
                    <a:cubicBezTo>
                      <a:pt x="18492" y="8"/>
                      <a:pt x="18491" y="7"/>
                      <a:pt x="18491" y="6"/>
                    </a:cubicBezTo>
                    <a:cubicBezTo>
                      <a:pt x="18491" y="5"/>
                      <a:pt x="18492" y="4"/>
                      <a:pt x="18493" y="4"/>
                    </a:cubicBezTo>
                    <a:close/>
                    <a:moveTo>
                      <a:pt x="18501" y="4"/>
                    </a:moveTo>
                    <a:lnTo>
                      <a:pt x="18501" y="4"/>
                    </a:lnTo>
                    <a:cubicBezTo>
                      <a:pt x="18502" y="4"/>
                      <a:pt x="18503" y="5"/>
                      <a:pt x="18503" y="6"/>
                    </a:cubicBezTo>
                    <a:cubicBezTo>
                      <a:pt x="18503" y="7"/>
                      <a:pt x="18502" y="8"/>
                      <a:pt x="18501" y="8"/>
                    </a:cubicBezTo>
                    <a:lnTo>
                      <a:pt x="18501" y="8"/>
                    </a:lnTo>
                    <a:cubicBezTo>
                      <a:pt x="18500" y="8"/>
                      <a:pt x="18499" y="7"/>
                      <a:pt x="18499" y="6"/>
                    </a:cubicBezTo>
                    <a:cubicBezTo>
                      <a:pt x="18499" y="5"/>
                      <a:pt x="18500" y="4"/>
                      <a:pt x="18501" y="4"/>
                    </a:cubicBezTo>
                    <a:close/>
                    <a:moveTo>
                      <a:pt x="18509" y="4"/>
                    </a:moveTo>
                    <a:lnTo>
                      <a:pt x="18509" y="4"/>
                    </a:lnTo>
                    <a:cubicBezTo>
                      <a:pt x="18510" y="4"/>
                      <a:pt x="18511" y="5"/>
                      <a:pt x="18511" y="6"/>
                    </a:cubicBezTo>
                    <a:cubicBezTo>
                      <a:pt x="18511" y="7"/>
                      <a:pt x="18510" y="8"/>
                      <a:pt x="18509" y="8"/>
                    </a:cubicBezTo>
                    <a:lnTo>
                      <a:pt x="18509" y="8"/>
                    </a:lnTo>
                    <a:cubicBezTo>
                      <a:pt x="18508" y="8"/>
                      <a:pt x="18507" y="7"/>
                      <a:pt x="18507" y="6"/>
                    </a:cubicBezTo>
                    <a:cubicBezTo>
                      <a:pt x="18507" y="5"/>
                      <a:pt x="18508" y="4"/>
                      <a:pt x="18509" y="4"/>
                    </a:cubicBez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562040" y="4478400"/>
                <a:ext cx="6075360" cy="1440"/>
              </a:xfrm>
              <a:custGeom>
                <a:avLst/>
                <a:gdLst/>
                <a:ahLst/>
                <a:rect l="l" t="t" r="r" b="b"/>
                <a:pathLst>
                  <a:path w="18511" h="9">
                    <a:moveTo>
                      <a:pt x="2" y="0"/>
                    </a:moveTo>
                    <a:lnTo>
                      <a:pt x="2" y="0"/>
                    </a:lnTo>
                    <a:cubicBezTo>
                      <a:pt x="3" y="0"/>
                      <a:pt x="4" y="1"/>
                      <a:pt x="4" y="2"/>
                    </a:cubicBezTo>
                    <a:cubicBezTo>
                      <a:pt x="4" y="4"/>
                      <a:pt x="3" y="4"/>
                      <a:pt x="2" y="4"/>
                    </a:cubicBezTo>
                    <a:lnTo>
                      <a:pt x="2" y="4"/>
                    </a:lnTo>
                    <a:cubicBezTo>
                      <a:pt x="1" y="4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0"/>
                    </a:cubicBezTo>
                    <a:close/>
                    <a:moveTo>
                      <a:pt x="10" y="0"/>
                    </a:moveTo>
                    <a:lnTo>
                      <a:pt x="10" y="0"/>
                    </a:lnTo>
                    <a:cubicBezTo>
                      <a:pt x="11" y="0"/>
                      <a:pt x="12" y="1"/>
                      <a:pt x="12" y="2"/>
                    </a:cubicBezTo>
                    <a:cubicBezTo>
                      <a:pt x="12" y="4"/>
                      <a:pt x="11" y="4"/>
                      <a:pt x="10" y="4"/>
                    </a:cubicBezTo>
                    <a:lnTo>
                      <a:pt x="10" y="4"/>
                    </a:lnTo>
                    <a:cubicBezTo>
                      <a:pt x="9" y="4"/>
                      <a:pt x="8" y="4"/>
                      <a:pt x="8" y="2"/>
                    </a:cubicBezTo>
                    <a:cubicBezTo>
                      <a:pt x="8" y="1"/>
                      <a:pt x="9" y="0"/>
                      <a:pt x="10" y="0"/>
                    </a:cubicBezTo>
                    <a:close/>
                    <a:moveTo>
                      <a:pt x="18" y="0"/>
                    </a:moveTo>
                    <a:lnTo>
                      <a:pt x="18" y="0"/>
                    </a:lnTo>
                    <a:cubicBezTo>
                      <a:pt x="19" y="0"/>
                      <a:pt x="20" y="1"/>
                      <a:pt x="20" y="2"/>
                    </a:cubicBezTo>
                    <a:cubicBezTo>
                      <a:pt x="20" y="4"/>
                      <a:pt x="19" y="4"/>
                      <a:pt x="18" y="4"/>
                    </a:cubicBezTo>
                    <a:lnTo>
                      <a:pt x="18" y="4"/>
                    </a:lnTo>
                    <a:cubicBezTo>
                      <a:pt x="17" y="4"/>
                      <a:pt x="16" y="4"/>
                      <a:pt x="16" y="2"/>
                    </a:cubicBezTo>
                    <a:cubicBezTo>
                      <a:pt x="16" y="1"/>
                      <a:pt x="17" y="0"/>
                      <a:pt x="18" y="0"/>
                    </a:cubicBezTo>
                    <a:close/>
                    <a:moveTo>
                      <a:pt x="26" y="0"/>
                    </a:moveTo>
                    <a:lnTo>
                      <a:pt x="26" y="0"/>
                    </a:lnTo>
                    <a:cubicBezTo>
                      <a:pt x="27" y="0"/>
                      <a:pt x="28" y="1"/>
                      <a:pt x="28" y="2"/>
                    </a:cubicBezTo>
                    <a:cubicBezTo>
                      <a:pt x="28" y="4"/>
                      <a:pt x="27" y="4"/>
                      <a:pt x="26" y="4"/>
                    </a:cubicBezTo>
                    <a:lnTo>
                      <a:pt x="26" y="4"/>
                    </a:lnTo>
                    <a:cubicBezTo>
                      <a:pt x="25" y="4"/>
                      <a:pt x="24" y="4"/>
                      <a:pt x="24" y="2"/>
                    </a:cubicBezTo>
                    <a:cubicBezTo>
                      <a:pt x="24" y="1"/>
                      <a:pt x="25" y="0"/>
                      <a:pt x="26" y="0"/>
                    </a:cubicBezTo>
                    <a:close/>
                    <a:moveTo>
                      <a:pt x="34" y="0"/>
                    </a:moveTo>
                    <a:lnTo>
                      <a:pt x="34" y="0"/>
                    </a:lnTo>
                    <a:cubicBezTo>
                      <a:pt x="35" y="0"/>
                      <a:pt x="36" y="1"/>
                      <a:pt x="36" y="2"/>
                    </a:cubicBezTo>
                    <a:cubicBezTo>
                      <a:pt x="36" y="4"/>
                      <a:pt x="35" y="4"/>
                      <a:pt x="34" y="4"/>
                    </a:cubicBezTo>
                    <a:lnTo>
                      <a:pt x="34" y="4"/>
                    </a:lnTo>
                    <a:cubicBezTo>
                      <a:pt x="33" y="4"/>
                      <a:pt x="32" y="4"/>
                      <a:pt x="32" y="2"/>
                    </a:cubicBezTo>
                    <a:cubicBezTo>
                      <a:pt x="32" y="1"/>
                      <a:pt x="33" y="0"/>
                      <a:pt x="34" y="0"/>
                    </a:cubicBezTo>
                    <a:close/>
                    <a:moveTo>
                      <a:pt x="42" y="0"/>
                    </a:moveTo>
                    <a:lnTo>
                      <a:pt x="42" y="0"/>
                    </a:lnTo>
                    <a:cubicBezTo>
                      <a:pt x="43" y="0"/>
                      <a:pt x="44" y="1"/>
                      <a:pt x="44" y="2"/>
                    </a:cubicBezTo>
                    <a:cubicBezTo>
                      <a:pt x="44" y="4"/>
                      <a:pt x="43" y="4"/>
                      <a:pt x="42" y="4"/>
                    </a:cubicBezTo>
                    <a:lnTo>
                      <a:pt x="42" y="4"/>
                    </a:lnTo>
                    <a:cubicBezTo>
                      <a:pt x="41" y="4"/>
                      <a:pt x="40" y="4"/>
                      <a:pt x="40" y="2"/>
                    </a:cubicBezTo>
                    <a:cubicBezTo>
                      <a:pt x="40" y="1"/>
                      <a:pt x="41" y="0"/>
                      <a:pt x="42" y="0"/>
                    </a:cubicBezTo>
                    <a:close/>
                    <a:moveTo>
                      <a:pt x="50" y="0"/>
                    </a:moveTo>
                    <a:lnTo>
                      <a:pt x="50" y="0"/>
                    </a:lnTo>
                    <a:cubicBezTo>
                      <a:pt x="51" y="0"/>
                      <a:pt x="52" y="1"/>
                      <a:pt x="52" y="2"/>
                    </a:cubicBezTo>
                    <a:cubicBezTo>
                      <a:pt x="52" y="4"/>
                      <a:pt x="51" y="4"/>
                      <a:pt x="50" y="4"/>
                    </a:cubicBezTo>
                    <a:lnTo>
                      <a:pt x="50" y="4"/>
                    </a:lnTo>
                    <a:cubicBezTo>
                      <a:pt x="49" y="4"/>
                      <a:pt x="48" y="4"/>
                      <a:pt x="48" y="2"/>
                    </a:cubicBezTo>
                    <a:cubicBezTo>
                      <a:pt x="48" y="1"/>
                      <a:pt x="49" y="0"/>
                      <a:pt x="50" y="0"/>
                    </a:cubicBezTo>
                    <a:close/>
                    <a:moveTo>
                      <a:pt x="58" y="0"/>
                    </a:moveTo>
                    <a:lnTo>
                      <a:pt x="58" y="0"/>
                    </a:lnTo>
                    <a:cubicBezTo>
                      <a:pt x="59" y="0"/>
                      <a:pt x="60" y="1"/>
                      <a:pt x="60" y="2"/>
                    </a:cubicBezTo>
                    <a:cubicBezTo>
                      <a:pt x="60" y="4"/>
                      <a:pt x="59" y="4"/>
                      <a:pt x="58" y="4"/>
                    </a:cubicBezTo>
                    <a:lnTo>
                      <a:pt x="58" y="4"/>
                    </a:lnTo>
                    <a:cubicBezTo>
                      <a:pt x="57" y="4"/>
                      <a:pt x="56" y="4"/>
                      <a:pt x="56" y="2"/>
                    </a:cubicBezTo>
                    <a:cubicBezTo>
                      <a:pt x="56" y="1"/>
                      <a:pt x="57" y="0"/>
                      <a:pt x="58" y="0"/>
                    </a:cubicBezTo>
                    <a:close/>
                    <a:moveTo>
                      <a:pt x="66" y="0"/>
                    </a:moveTo>
                    <a:lnTo>
                      <a:pt x="66" y="0"/>
                    </a:lnTo>
                    <a:cubicBezTo>
                      <a:pt x="67" y="0"/>
                      <a:pt x="68" y="1"/>
                      <a:pt x="68" y="2"/>
                    </a:cubicBezTo>
                    <a:cubicBezTo>
                      <a:pt x="68" y="4"/>
                      <a:pt x="67" y="4"/>
                      <a:pt x="66" y="4"/>
                    </a:cubicBezTo>
                    <a:lnTo>
                      <a:pt x="66" y="4"/>
                    </a:lnTo>
                    <a:cubicBezTo>
                      <a:pt x="65" y="4"/>
                      <a:pt x="64" y="4"/>
                      <a:pt x="64" y="2"/>
                    </a:cubicBezTo>
                    <a:cubicBezTo>
                      <a:pt x="64" y="1"/>
                      <a:pt x="65" y="0"/>
                      <a:pt x="66" y="0"/>
                    </a:cubicBezTo>
                    <a:close/>
                    <a:moveTo>
                      <a:pt x="74" y="0"/>
                    </a:moveTo>
                    <a:lnTo>
                      <a:pt x="74" y="0"/>
                    </a:lnTo>
                    <a:cubicBezTo>
                      <a:pt x="75" y="0"/>
                      <a:pt x="76" y="1"/>
                      <a:pt x="76" y="2"/>
                    </a:cubicBezTo>
                    <a:cubicBezTo>
                      <a:pt x="76" y="4"/>
                      <a:pt x="75" y="4"/>
                      <a:pt x="74" y="4"/>
                    </a:cubicBezTo>
                    <a:lnTo>
                      <a:pt x="74" y="4"/>
                    </a:lnTo>
                    <a:cubicBezTo>
                      <a:pt x="73" y="4"/>
                      <a:pt x="72" y="4"/>
                      <a:pt x="72" y="2"/>
                    </a:cubicBezTo>
                    <a:cubicBezTo>
                      <a:pt x="72" y="1"/>
                      <a:pt x="73" y="0"/>
                      <a:pt x="74" y="0"/>
                    </a:cubicBezTo>
                    <a:close/>
                    <a:moveTo>
                      <a:pt x="82" y="0"/>
                    </a:moveTo>
                    <a:lnTo>
                      <a:pt x="82" y="0"/>
                    </a:lnTo>
                    <a:cubicBezTo>
                      <a:pt x="83" y="0"/>
                      <a:pt x="84" y="1"/>
                      <a:pt x="84" y="2"/>
                    </a:cubicBezTo>
                    <a:cubicBezTo>
                      <a:pt x="84" y="4"/>
                      <a:pt x="83" y="4"/>
                      <a:pt x="82" y="4"/>
                    </a:cubicBezTo>
                    <a:lnTo>
                      <a:pt x="82" y="4"/>
                    </a:lnTo>
                    <a:cubicBezTo>
                      <a:pt x="81" y="4"/>
                      <a:pt x="80" y="4"/>
                      <a:pt x="80" y="2"/>
                    </a:cubicBezTo>
                    <a:cubicBezTo>
                      <a:pt x="80" y="1"/>
                      <a:pt x="81" y="0"/>
                      <a:pt x="82" y="0"/>
                    </a:cubicBezTo>
                    <a:close/>
                    <a:moveTo>
                      <a:pt x="90" y="0"/>
                    </a:moveTo>
                    <a:lnTo>
                      <a:pt x="90" y="0"/>
                    </a:lnTo>
                    <a:cubicBezTo>
                      <a:pt x="91" y="0"/>
                      <a:pt x="92" y="1"/>
                      <a:pt x="92" y="2"/>
                    </a:cubicBezTo>
                    <a:cubicBezTo>
                      <a:pt x="92" y="4"/>
                      <a:pt x="91" y="4"/>
                      <a:pt x="90" y="4"/>
                    </a:cubicBezTo>
                    <a:lnTo>
                      <a:pt x="90" y="4"/>
                    </a:lnTo>
                    <a:cubicBezTo>
                      <a:pt x="89" y="4"/>
                      <a:pt x="88" y="4"/>
                      <a:pt x="88" y="2"/>
                    </a:cubicBezTo>
                    <a:cubicBezTo>
                      <a:pt x="88" y="1"/>
                      <a:pt x="89" y="0"/>
                      <a:pt x="90" y="0"/>
                    </a:cubicBezTo>
                    <a:close/>
                    <a:moveTo>
                      <a:pt x="98" y="0"/>
                    </a:moveTo>
                    <a:lnTo>
                      <a:pt x="98" y="0"/>
                    </a:lnTo>
                    <a:cubicBezTo>
                      <a:pt x="99" y="0"/>
                      <a:pt x="100" y="1"/>
                      <a:pt x="100" y="2"/>
                    </a:cubicBezTo>
                    <a:cubicBezTo>
                      <a:pt x="100" y="4"/>
                      <a:pt x="99" y="4"/>
                      <a:pt x="98" y="4"/>
                    </a:cubicBezTo>
                    <a:lnTo>
                      <a:pt x="98" y="4"/>
                    </a:lnTo>
                    <a:cubicBezTo>
                      <a:pt x="97" y="4"/>
                      <a:pt x="96" y="4"/>
                      <a:pt x="96" y="2"/>
                    </a:cubicBezTo>
                    <a:cubicBezTo>
                      <a:pt x="96" y="1"/>
                      <a:pt x="97" y="0"/>
                      <a:pt x="98" y="0"/>
                    </a:cubicBezTo>
                    <a:close/>
                    <a:moveTo>
                      <a:pt x="106" y="0"/>
                    </a:moveTo>
                    <a:lnTo>
                      <a:pt x="106" y="0"/>
                    </a:lnTo>
                    <a:cubicBezTo>
                      <a:pt x="107" y="0"/>
                      <a:pt x="108" y="1"/>
                      <a:pt x="108" y="2"/>
                    </a:cubicBezTo>
                    <a:cubicBezTo>
                      <a:pt x="108" y="4"/>
                      <a:pt x="107" y="4"/>
                      <a:pt x="106" y="4"/>
                    </a:cubicBezTo>
                    <a:lnTo>
                      <a:pt x="106" y="4"/>
                    </a:lnTo>
                    <a:cubicBezTo>
                      <a:pt x="105" y="4"/>
                      <a:pt x="104" y="4"/>
                      <a:pt x="104" y="2"/>
                    </a:cubicBezTo>
                    <a:cubicBezTo>
                      <a:pt x="104" y="1"/>
                      <a:pt x="105" y="0"/>
                      <a:pt x="106" y="0"/>
                    </a:cubicBezTo>
                    <a:close/>
                    <a:moveTo>
                      <a:pt x="114" y="0"/>
                    </a:moveTo>
                    <a:lnTo>
                      <a:pt x="114" y="0"/>
                    </a:lnTo>
                    <a:cubicBezTo>
                      <a:pt x="115" y="0"/>
                      <a:pt x="116" y="1"/>
                      <a:pt x="116" y="2"/>
                    </a:cubicBezTo>
                    <a:cubicBezTo>
                      <a:pt x="116" y="4"/>
                      <a:pt x="115" y="4"/>
                      <a:pt x="114" y="4"/>
                    </a:cubicBezTo>
                    <a:lnTo>
                      <a:pt x="114" y="4"/>
                    </a:lnTo>
                    <a:cubicBezTo>
                      <a:pt x="113" y="4"/>
                      <a:pt x="112" y="4"/>
                      <a:pt x="112" y="2"/>
                    </a:cubicBezTo>
                    <a:cubicBezTo>
                      <a:pt x="112" y="1"/>
                      <a:pt x="113" y="0"/>
                      <a:pt x="114" y="0"/>
                    </a:cubicBezTo>
                    <a:close/>
                    <a:moveTo>
                      <a:pt x="122" y="0"/>
                    </a:moveTo>
                    <a:lnTo>
                      <a:pt x="122" y="0"/>
                    </a:lnTo>
                    <a:cubicBezTo>
                      <a:pt x="123" y="0"/>
                      <a:pt x="124" y="1"/>
                      <a:pt x="124" y="2"/>
                    </a:cubicBezTo>
                    <a:cubicBezTo>
                      <a:pt x="124" y="4"/>
                      <a:pt x="123" y="4"/>
                      <a:pt x="122" y="4"/>
                    </a:cubicBezTo>
                    <a:lnTo>
                      <a:pt x="122" y="4"/>
                    </a:lnTo>
                    <a:cubicBezTo>
                      <a:pt x="121" y="4"/>
                      <a:pt x="120" y="4"/>
                      <a:pt x="120" y="2"/>
                    </a:cubicBezTo>
                    <a:cubicBezTo>
                      <a:pt x="120" y="1"/>
                      <a:pt x="121" y="0"/>
                      <a:pt x="122" y="0"/>
                    </a:cubicBezTo>
                    <a:close/>
                    <a:moveTo>
                      <a:pt x="130" y="0"/>
                    </a:moveTo>
                    <a:lnTo>
                      <a:pt x="130" y="0"/>
                    </a:lnTo>
                    <a:cubicBezTo>
                      <a:pt x="131" y="0"/>
                      <a:pt x="132" y="1"/>
                      <a:pt x="132" y="2"/>
                    </a:cubicBezTo>
                    <a:cubicBezTo>
                      <a:pt x="132" y="4"/>
                      <a:pt x="131" y="4"/>
                      <a:pt x="130" y="4"/>
                    </a:cubicBezTo>
                    <a:lnTo>
                      <a:pt x="130" y="4"/>
                    </a:lnTo>
                    <a:cubicBezTo>
                      <a:pt x="129" y="4"/>
                      <a:pt x="128" y="4"/>
                      <a:pt x="128" y="2"/>
                    </a:cubicBezTo>
                    <a:cubicBezTo>
                      <a:pt x="128" y="1"/>
                      <a:pt x="129" y="0"/>
                      <a:pt x="130" y="0"/>
                    </a:cubicBezTo>
                    <a:close/>
                    <a:moveTo>
                      <a:pt x="138" y="0"/>
                    </a:moveTo>
                    <a:lnTo>
                      <a:pt x="138" y="0"/>
                    </a:lnTo>
                    <a:cubicBezTo>
                      <a:pt x="139" y="0"/>
                      <a:pt x="140" y="1"/>
                      <a:pt x="140" y="2"/>
                    </a:cubicBezTo>
                    <a:cubicBezTo>
                      <a:pt x="140" y="4"/>
                      <a:pt x="139" y="4"/>
                      <a:pt x="138" y="4"/>
                    </a:cubicBezTo>
                    <a:lnTo>
                      <a:pt x="138" y="4"/>
                    </a:lnTo>
                    <a:cubicBezTo>
                      <a:pt x="137" y="4"/>
                      <a:pt x="136" y="4"/>
                      <a:pt x="136" y="2"/>
                    </a:cubicBezTo>
                    <a:cubicBezTo>
                      <a:pt x="136" y="1"/>
                      <a:pt x="137" y="0"/>
                      <a:pt x="138" y="0"/>
                    </a:cubicBezTo>
                    <a:close/>
                    <a:moveTo>
                      <a:pt x="146" y="0"/>
                    </a:moveTo>
                    <a:lnTo>
                      <a:pt x="146" y="0"/>
                    </a:lnTo>
                    <a:cubicBezTo>
                      <a:pt x="147" y="0"/>
                      <a:pt x="148" y="1"/>
                      <a:pt x="148" y="2"/>
                    </a:cubicBezTo>
                    <a:cubicBezTo>
                      <a:pt x="148" y="4"/>
                      <a:pt x="147" y="4"/>
                      <a:pt x="146" y="4"/>
                    </a:cubicBezTo>
                    <a:lnTo>
                      <a:pt x="146" y="4"/>
                    </a:lnTo>
                    <a:cubicBezTo>
                      <a:pt x="145" y="4"/>
                      <a:pt x="144" y="4"/>
                      <a:pt x="144" y="2"/>
                    </a:cubicBezTo>
                    <a:cubicBezTo>
                      <a:pt x="144" y="1"/>
                      <a:pt x="145" y="0"/>
                      <a:pt x="146" y="0"/>
                    </a:cubicBezTo>
                    <a:close/>
                    <a:moveTo>
                      <a:pt x="154" y="0"/>
                    </a:moveTo>
                    <a:lnTo>
                      <a:pt x="154" y="0"/>
                    </a:lnTo>
                    <a:cubicBezTo>
                      <a:pt x="155" y="0"/>
                      <a:pt x="156" y="1"/>
                      <a:pt x="156" y="2"/>
                    </a:cubicBezTo>
                    <a:cubicBezTo>
                      <a:pt x="156" y="4"/>
                      <a:pt x="155" y="4"/>
                      <a:pt x="154" y="4"/>
                    </a:cubicBezTo>
                    <a:lnTo>
                      <a:pt x="154" y="4"/>
                    </a:lnTo>
                    <a:cubicBezTo>
                      <a:pt x="153" y="4"/>
                      <a:pt x="152" y="4"/>
                      <a:pt x="152" y="2"/>
                    </a:cubicBezTo>
                    <a:cubicBezTo>
                      <a:pt x="152" y="1"/>
                      <a:pt x="153" y="0"/>
                      <a:pt x="154" y="0"/>
                    </a:cubicBezTo>
                    <a:close/>
                    <a:moveTo>
                      <a:pt x="162" y="0"/>
                    </a:moveTo>
                    <a:lnTo>
                      <a:pt x="162" y="0"/>
                    </a:lnTo>
                    <a:cubicBezTo>
                      <a:pt x="163" y="0"/>
                      <a:pt x="164" y="1"/>
                      <a:pt x="164" y="2"/>
                    </a:cubicBezTo>
                    <a:cubicBezTo>
                      <a:pt x="164" y="4"/>
                      <a:pt x="163" y="4"/>
                      <a:pt x="162" y="4"/>
                    </a:cubicBezTo>
                    <a:lnTo>
                      <a:pt x="162" y="4"/>
                    </a:lnTo>
                    <a:cubicBezTo>
                      <a:pt x="161" y="4"/>
                      <a:pt x="160" y="4"/>
                      <a:pt x="160" y="2"/>
                    </a:cubicBezTo>
                    <a:cubicBezTo>
                      <a:pt x="160" y="1"/>
                      <a:pt x="161" y="0"/>
                      <a:pt x="162" y="0"/>
                    </a:cubicBezTo>
                    <a:close/>
                    <a:moveTo>
                      <a:pt x="170" y="0"/>
                    </a:moveTo>
                    <a:lnTo>
                      <a:pt x="170" y="0"/>
                    </a:lnTo>
                    <a:cubicBezTo>
                      <a:pt x="171" y="0"/>
                      <a:pt x="172" y="1"/>
                      <a:pt x="172" y="2"/>
                    </a:cubicBezTo>
                    <a:cubicBezTo>
                      <a:pt x="172" y="4"/>
                      <a:pt x="171" y="4"/>
                      <a:pt x="170" y="4"/>
                    </a:cubicBezTo>
                    <a:lnTo>
                      <a:pt x="170" y="4"/>
                    </a:lnTo>
                    <a:cubicBezTo>
                      <a:pt x="169" y="4"/>
                      <a:pt x="168" y="4"/>
                      <a:pt x="168" y="2"/>
                    </a:cubicBezTo>
                    <a:cubicBezTo>
                      <a:pt x="168" y="1"/>
                      <a:pt x="169" y="0"/>
                      <a:pt x="170" y="0"/>
                    </a:cubicBezTo>
                    <a:close/>
                    <a:moveTo>
                      <a:pt x="178" y="0"/>
                    </a:moveTo>
                    <a:lnTo>
                      <a:pt x="178" y="0"/>
                    </a:lnTo>
                    <a:cubicBezTo>
                      <a:pt x="179" y="0"/>
                      <a:pt x="180" y="1"/>
                      <a:pt x="180" y="2"/>
                    </a:cubicBezTo>
                    <a:cubicBezTo>
                      <a:pt x="180" y="4"/>
                      <a:pt x="179" y="4"/>
                      <a:pt x="178" y="4"/>
                    </a:cubicBezTo>
                    <a:lnTo>
                      <a:pt x="178" y="4"/>
                    </a:lnTo>
                    <a:cubicBezTo>
                      <a:pt x="177" y="4"/>
                      <a:pt x="176" y="4"/>
                      <a:pt x="176" y="2"/>
                    </a:cubicBezTo>
                    <a:cubicBezTo>
                      <a:pt x="176" y="1"/>
                      <a:pt x="177" y="0"/>
                      <a:pt x="178" y="0"/>
                    </a:cubicBezTo>
                    <a:close/>
                    <a:moveTo>
                      <a:pt x="186" y="0"/>
                    </a:moveTo>
                    <a:lnTo>
                      <a:pt x="186" y="0"/>
                    </a:lnTo>
                    <a:cubicBezTo>
                      <a:pt x="187" y="0"/>
                      <a:pt x="188" y="1"/>
                      <a:pt x="188" y="2"/>
                    </a:cubicBezTo>
                    <a:cubicBezTo>
                      <a:pt x="188" y="4"/>
                      <a:pt x="187" y="4"/>
                      <a:pt x="186" y="4"/>
                    </a:cubicBezTo>
                    <a:lnTo>
                      <a:pt x="186" y="4"/>
                    </a:lnTo>
                    <a:cubicBezTo>
                      <a:pt x="185" y="4"/>
                      <a:pt x="184" y="4"/>
                      <a:pt x="184" y="2"/>
                    </a:cubicBezTo>
                    <a:cubicBezTo>
                      <a:pt x="184" y="1"/>
                      <a:pt x="185" y="0"/>
                      <a:pt x="186" y="0"/>
                    </a:cubicBezTo>
                    <a:close/>
                    <a:moveTo>
                      <a:pt x="194" y="0"/>
                    </a:moveTo>
                    <a:lnTo>
                      <a:pt x="194" y="0"/>
                    </a:lnTo>
                    <a:cubicBezTo>
                      <a:pt x="195" y="0"/>
                      <a:pt x="196" y="1"/>
                      <a:pt x="196" y="2"/>
                    </a:cubicBezTo>
                    <a:cubicBezTo>
                      <a:pt x="196" y="4"/>
                      <a:pt x="195" y="4"/>
                      <a:pt x="194" y="4"/>
                    </a:cubicBezTo>
                    <a:lnTo>
                      <a:pt x="194" y="4"/>
                    </a:lnTo>
                    <a:cubicBezTo>
                      <a:pt x="193" y="4"/>
                      <a:pt x="192" y="4"/>
                      <a:pt x="192" y="2"/>
                    </a:cubicBezTo>
                    <a:cubicBezTo>
                      <a:pt x="192" y="1"/>
                      <a:pt x="193" y="0"/>
                      <a:pt x="194" y="0"/>
                    </a:cubicBezTo>
                    <a:close/>
                    <a:moveTo>
                      <a:pt x="202" y="0"/>
                    </a:moveTo>
                    <a:lnTo>
                      <a:pt x="202" y="0"/>
                    </a:lnTo>
                    <a:cubicBezTo>
                      <a:pt x="203" y="0"/>
                      <a:pt x="204" y="1"/>
                      <a:pt x="204" y="2"/>
                    </a:cubicBezTo>
                    <a:cubicBezTo>
                      <a:pt x="204" y="4"/>
                      <a:pt x="203" y="4"/>
                      <a:pt x="202" y="4"/>
                    </a:cubicBezTo>
                    <a:lnTo>
                      <a:pt x="202" y="4"/>
                    </a:lnTo>
                    <a:cubicBezTo>
                      <a:pt x="201" y="4"/>
                      <a:pt x="200" y="4"/>
                      <a:pt x="200" y="2"/>
                    </a:cubicBezTo>
                    <a:cubicBezTo>
                      <a:pt x="200" y="1"/>
                      <a:pt x="201" y="0"/>
                      <a:pt x="202" y="0"/>
                    </a:cubicBezTo>
                    <a:close/>
                    <a:moveTo>
                      <a:pt x="210" y="0"/>
                    </a:moveTo>
                    <a:lnTo>
                      <a:pt x="210" y="0"/>
                    </a:lnTo>
                    <a:cubicBezTo>
                      <a:pt x="211" y="0"/>
                      <a:pt x="212" y="1"/>
                      <a:pt x="212" y="2"/>
                    </a:cubicBezTo>
                    <a:cubicBezTo>
                      <a:pt x="212" y="4"/>
                      <a:pt x="211" y="4"/>
                      <a:pt x="210" y="4"/>
                    </a:cubicBezTo>
                    <a:lnTo>
                      <a:pt x="210" y="4"/>
                    </a:lnTo>
                    <a:cubicBezTo>
                      <a:pt x="209" y="4"/>
                      <a:pt x="208" y="4"/>
                      <a:pt x="208" y="2"/>
                    </a:cubicBezTo>
                    <a:cubicBezTo>
                      <a:pt x="208" y="1"/>
                      <a:pt x="209" y="0"/>
                      <a:pt x="210" y="0"/>
                    </a:cubicBezTo>
                    <a:close/>
                    <a:moveTo>
                      <a:pt x="218" y="0"/>
                    </a:moveTo>
                    <a:lnTo>
                      <a:pt x="218" y="0"/>
                    </a:lnTo>
                    <a:cubicBezTo>
                      <a:pt x="219" y="0"/>
                      <a:pt x="220" y="1"/>
                      <a:pt x="220" y="2"/>
                    </a:cubicBezTo>
                    <a:cubicBezTo>
                      <a:pt x="220" y="4"/>
                      <a:pt x="219" y="4"/>
                      <a:pt x="218" y="4"/>
                    </a:cubicBezTo>
                    <a:lnTo>
                      <a:pt x="218" y="4"/>
                    </a:lnTo>
                    <a:cubicBezTo>
                      <a:pt x="217" y="4"/>
                      <a:pt x="216" y="4"/>
                      <a:pt x="216" y="2"/>
                    </a:cubicBezTo>
                    <a:cubicBezTo>
                      <a:pt x="216" y="1"/>
                      <a:pt x="217" y="0"/>
                      <a:pt x="218" y="0"/>
                    </a:cubicBezTo>
                    <a:close/>
                    <a:moveTo>
                      <a:pt x="226" y="0"/>
                    </a:moveTo>
                    <a:lnTo>
                      <a:pt x="226" y="0"/>
                    </a:lnTo>
                    <a:cubicBezTo>
                      <a:pt x="227" y="0"/>
                      <a:pt x="228" y="1"/>
                      <a:pt x="228" y="2"/>
                    </a:cubicBezTo>
                    <a:cubicBezTo>
                      <a:pt x="228" y="4"/>
                      <a:pt x="227" y="4"/>
                      <a:pt x="226" y="4"/>
                    </a:cubicBezTo>
                    <a:lnTo>
                      <a:pt x="226" y="4"/>
                    </a:lnTo>
                    <a:cubicBezTo>
                      <a:pt x="225" y="4"/>
                      <a:pt x="224" y="4"/>
                      <a:pt x="224" y="2"/>
                    </a:cubicBezTo>
                    <a:cubicBezTo>
                      <a:pt x="224" y="1"/>
                      <a:pt x="225" y="0"/>
                      <a:pt x="226" y="0"/>
                    </a:cubicBezTo>
                    <a:close/>
                    <a:moveTo>
                      <a:pt x="234" y="0"/>
                    </a:moveTo>
                    <a:lnTo>
                      <a:pt x="234" y="0"/>
                    </a:lnTo>
                    <a:cubicBezTo>
                      <a:pt x="235" y="0"/>
                      <a:pt x="236" y="1"/>
                      <a:pt x="236" y="2"/>
                    </a:cubicBezTo>
                    <a:cubicBezTo>
                      <a:pt x="236" y="4"/>
                      <a:pt x="235" y="4"/>
                      <a:pt x="234" y="4"/>
                    </a:cubicBezTo>
                    <a:lnTo>
                      <a:pt x="234" y="4"/>
                    </a:lnTo>
                    <a:cubicBezTo>
                      <a:pt x="233" y="4"/>
                      <a:pt x="232" y="4"/>
                      <a:pt x="232" y="2"/>
                    </a:cubicBezTo>
                    <a:cubicBezTo>
                      <a:pt x="232" y="1"/>
                      <a:pt x="233" y="0"/>
                      <a:pt x="234" y="0"/>
                    </a:cubicBezTo>
                    <a:close/>
                    <a:moveTo>
                      <a:pt x="242" y="0"/>
                    </a:moveTo>
                    <a:lnTo>
                      <a:pt x="242" y="0"/>
                    </a:lnTo>
                    <a:cubicBezTo>
                      <a:pt x="243" y="0"/>
                      <a:pt x="244" y="1"/>
                      <a:pt x="244" y="2"/>
                    </a:cubicBezTo>
                    <a:cubicBezTo>
                      <a:pt x="244" y="4"/>
                      <a:pt x="243" y="4"/>
                      <a:pt x="242" y="4"/>
                    </a:cubicBezTo>
                    <a:lnTo>
                      <a:pt x="242" y="4"/>
                    </a:lnTo>
                    <a:cubicBezTo>
                      <a:pt x="241" y="4"/>
                      <a:pt x="240" y="4"/>
                      <a:pt x="240" y="2"/>
                    </a:cubicBezTo>
                    <a:cubicBezTo>
                      <a:pt x="240" y="1"/>
                      <a:pt x="241" y="0"/>
                      <a:pt x="242" y="0"/>
                    </a:cubicBezTo>
                    <a:close/>
                    <a:moveTo>
                      <a:pt x="250" y="0"/>
                    </a:moveTo>
                    <a:lnTo>
                      <a:pt x="250" y="0"/>
                    </a:lnTo>
                    <a:cubicBezTo>
                      <a:pt x="251" y="0"/>
                      <a:pt x="252" y="1"/>
                      <a:pt x="252" y="2"/>
                    </a:cubicBezTo>
                    <a:cubicBezTo>
                      <a:pt x="252" y="4"/>
                      <a:pt x="251" y="4"/>
                      <a:pt x="250" y="4"/>
                    </a:cubicBezTo>
                    <a:lnTo>
                      <a:pt x="250" y="4"/>
                    </a:lnTo>
                    <a:cubicBezTo>
                      <a:pt x="249" y="4"/>
                      <a:pt x="248" y="4"/>
                      <a:pt x="248" y="2"/>
                    </a:cubicBezTo>
                    <a:cubicBezTo>
                      <a:pt x="248" y="1"/>
                      <a:pt x="249" y="0"/>
                      <a:pt x="250" y="0"/>
                    </a:cubicBezTo>
                    <a:close/>
                    <a:moveTo>
                      <a:pt x="258" y="0"/>
                    </a:moveTo>
                    <a:lnTo>
                      <a:pt x="258" y="0"/>
                    </a:lnTo>
                    <a:cubicBezTo>
                      <a:pt x="259" y="0"/>
                      <a:pt x="260" y="1"/>
                      <a:pt x="260" y="3"/>
                    </a:cubicBezTo>
                    <a:cubicBezTo>
                      <a:pt x="260" y="4"/>
                      <a:pt x="259" y="5"/>
                      <a:pt x="258" y="5"/>
                    </a:cubicBezTo>
                    <a:lnTo>
                      <a:pt x="258" y="5"/>
                    </a:lnTo>
                    <a:cubicBezTo>
                      <a:pt x="257" y="5"/>
                      <a:pt x="256" y="4"/>
                      <a:pt x="256" y="3"/>
                    </a:cubicBezTo>
                    <a:cubicBezTo>
                      <a:pt x="256" y="1"/>
                      <a:pt x="257" y="0"/>
                      <a:pt x="258" y="0"/>
                    </a:cubicBezTo>
                    <a:close/>
                    <a:moveTo>
                      <a:pt x="266" y="1"/>
                    </a:moveTo>
                    <a:lnTo>
                      <a:pt x="266" y="1"/>
                    </a:lnTo>
                    <a:cubicBezTo>
                      <a:pt x="267" y="1"/>
                      <a:pt x="268" y="1"/>
                      <a:pt x="268" y="3"/>
                    </a:cubicBezTo>
                    <a:cubicBezTo>
                      <a:pt x="268" y="4"/>
                      <a:pt x="267" y="5"/>
                      <a:pt x="266" y="5"/>
                    </a:cubicBezTo>
                    <a:lnTo>
                      <a:pt x="266" y="5"/>
                    </a:lnTo>
                    <a:cubicBezTo>
                      <a:pt x="265" y="5"/>
                      <a:pt x="264" y="4"/>
                      <a:pt x="264" y="3"/>
                    </a:cubicBezTo>
                    <a:cubicBezTo>
                      <a:pt x="264" y="1"/>
                      <a:pt x="265" y="1"/>
                      <a:pt x="266" y="1"/>
                    </a:cubicBezTo>
                    <a:close/>
                    <a:moveTo>
                      <a:pt x="274" y="1"/>
                    </a:moveTo>
                    <a:lnTo>
                      <a:pt x="274" y="1"/>
                    </a:lnTo>
                    <a:cubicBezTo>
                      <a:pt x="275" y="1"/>
                      <a:pt x="276" y="1"/>
                      <a:pt x="276" y="3"/>
                    </a:cubicBezTo>
                    <a:cubicBezTo>
                      <a:pt x="276" y="4"/>
                      <a:pt x="275" y="5"/>
                      <a:pt x="274" y="5"/>
                    </a:cubicBezTo>
                    <a:lnTo>
                      <a:pt x="274" y="5"/>
                    </a:lnTo>
                    <a:cubicBezTo>
                      <a:pt x="273" y="5"/>
                      <a:pt x="272" y="4"/>
                      <a:pt x="272" y="3"/>
                    </a:cubicBezTo>
                    <a:cubicBezTo>
                      <a:pt x="272" y="1"/>
                      <a:pt x="273" y="1"/>
                      <a:pt x="274" y="1"/>
                    </a:cubicBezTo>
                    <a:close/>
                    <a:moveTo>
                      <a:pt x="282" y="1"/>
                    </a:moveTo>
                    <a:lnTo>
                      <a:pt x="282" y="1"/>
                    </a:lnTo>
                    <a:cubicBezTo>
                      <a:pt x="283" y="1"/>
                      <a:pt x="284" y="1"/>
                      <a:pt x="284" y="3"/>
                    </a:cubicBezTo>
                    <a:cubicBezTo>
                      <a:pt x="284" y="4"/>
                      <a:pt x="283" y="5"/>
                      <a:pt x="282" y="5"/>
                    </a:cubicBezTo>
                    <a:lnTo>
                      <a:pt x="282" y="5"/>
                    </a:lnTo>
                    <a:cubicBezTo>
                      <a:pt x="281" y="5"/>
                      <a:pt x="280" y="4"/>
                      <a:pt x="280" y="3"/>
                    </a:cubicBezTo>
                    <a:cubicBezTo>
                      <a:pt x="280" y="1"/>
                      <a:pt x="281" y="1"/>
                      <a:pt x="282" y="1"/>
                    </a:cubicBezTo>
                    <a:close/>
                    <a:moveTo>
                      <a:pt x="290" y="1"/>
                    </a:moveTo>
                    <a:lnTo>
                      <a:pt x="290" y="1"/>
                    </a:lnTo>
                    <a:cubicBezTo>
                      <a:pt x="291" y="1"/>
                      <a:pt x="292" y="1"/>
                      <a:pt x="292" y="3"/>
                    </a:cubicBezTo>
                    <a:cubicBezTo>
                      <a:pt x="292" y="4"/>
                      <a:pt x="291" y="5"/>
                      <a:pt x="290" y="5"/>
                    </a:cubicBezTo>
                    <a:lnTo>
                      <a:pt x="290" y="5"/>
                    </a:lnTo>
                    <a:cubicBezTo>
                      <a:pt x="289" y="5"/>
                      <a:pt x="288" y="4"/>
                      <a:pt x="288" y="3"/>
                    </a:cubicBezTo>
                    <a:cubicBezTo>
                      <a:pt x="288" y="1"/>
                      <a:pt x="289" y="1"/>
                      <a:pt x="290" y="1"/>
                    </a:cubicBezTo>
                    <a:close/>
                    <a:moveTo>
                      <a:pt x="298" y="1"/>
                    </a:moveTo>
                    <a:lnTo>
                      <a:pt x="298" y="1"/>
                    </a:lnTo>
                    <a:cubicBezTo>
                      <a:pt x="299" y="1"/>
                      <a:pt x="300" y="1"/>
                      <a:pt x="300" y="3"/>
                    </a:cubicBezTo>
                    <a:cubicBezTo>
                      <a:pt x="300" y="4"/>
                      <a:pt x="299" y="5"/>
                      <a:pt x="298" y="5"/>
                    </a:cubicBezTo>
                    <a:lnTo>
                      <a:pt x="298" y="5"/>
                    </a:lnTo>
                    <a:cubicBezTo>
                      <a:pt x="297" y="5"/>
                      <a:pt x="296" y="4"/>
                      <a:pt x="296" y="3"/>
                    </a:cubicBezTo>
                    <a:cubicBezTo>
                      <a:pt x="296" y="1"/>
                      <a:pt x="297" y="1"/>
                      <a:pt x="298" y="1"/>
                    </a:cubicBezTo>
                    <a:close/>
                    <a:moveTo>
                      <a:pt x="306" y="1"/>
                    </a:moveTo>
                    <a:lnTo>
                      <a:pt x="306" y="1"/>
                    </a:lnTo>
                    <a:cubicBezTo>
                      <a:pt x="307" y="1"/>
                      <a:pt x="308" y="1"/>
                      <a:pt x="308" y="3"/>
                    </a:cubicBezTo>
                    <a:cubicBezTo>
                      <a:pt x="308" y="4"/>
                      <a:pt x="307" y="5"/>
                      <a:pt x="306" y="5"/>
                    </a:cubicBezTo>
                    <a:lnTo>
                      <a:pt x="306" y="5"/>
                    </a:lnTo>
                    <a:cubicBezTo>
                      <a:pt x="305" y="5"/>
                      <a:pt x="304" y="4"/>
                      <a:pt x="304" y="3"/>
                    </a:cubicBezTo>
                    <a:cubicBezTo>
                      <a:pt x="304" y="1"/>
                      <a:pt x="305" y="1"/>
                      <a:pt x="306" y="1"/>
                    </a:cubicBezTo>
                    <a:close/>
                    <a:moveTo>
                      <a:pt x="314" y="1"/>
                    </a:moveTo>
                    <a:lnTo>
                      <a:pt x="314" y="1"/>
                    </a:lnTo>
                    <a:cubicBezTo>
                      <a:pt x="315" y="1"/>
                      <a:pt x="316" y="1"/>
                      <a:pt x="316" y="3"/>
                    </a:cubicBezTo>
                    <a:cubicBezTo>
                      <a:pt x="316" y="4"/>
                      <a:pt x="315" y="5"/>
                      <a:pt x="314" y="5"/>
                    </a:cubicBezTo>
                    <a:lnTo>
                      <a:pt x="314" y="5"/>
                    </a:lnTo>
                    <a:cubicBezTo>
                      <a:pt x="313" y="5"/>
                      <a:pt x="312" y="4"/>
                      <a:pt x="312" y="3"/>
                    </a:cubicBezTo>
                    <a:cubicBezTo>
                      <a:pt x="312" y="1"/>
                      <a:pt x="313" y="1"/>
                      <a:pt x="314" y="1"/>
                    </a:cubicBezTo>
                    <a:close/>
                    <a:moveTo>
                      <a:pt x="322" y="1"/>
                    </a:moveTo>
                    <a:lnTo>
                      <a:pt x="322" y="1"/>
                    </a:lnTo>
                    <a:cubicBezTo>
                      <a:pt x="323" y="1"/>
                      <a:pt x="324" y="1"/>
                      <a:pt x="324" y="3"/>
                    </a:cubicBezTo>
                    <a:cubicBezTo>
                      <a:pt x="324" y="4"/>
                      <a:pt x="323" y="5"/>
                      <a:pt x="322" y="5"/>
                    </a:cubicBezTo>
                    <a:lnTo>
                      <a:pt x="322" y="5"/>
                    </a:lnTo>
                    <a:cubicBezTo>
                      <a:pt x="321" y="5"/>
                      <a:pt x="320" y="4"/>
                      <a:pt x="320" y="3"/>
                    </a:cubicBezTo>
                    <a:cubicBezTo>
                      <a:pt x="320" y="1"/>
                      <a:pt x="321" y="1"/>
                      <a:pt x="322" y="1"/>
                    </a:cubicBezTo>
                    <a:close/>
                    <a:moveTo>
                      <a:pt x="330" y="1"/>
                    </a:moveTo>
                    <a:lnTo>
                      <a:pt x="330" y="1"/>
                    </a:lnTo>
                    <a:cubicBezTo>
                      <a:pt x="331" y="1"/>
                      <a:pt x="332" y="1"/>
                      <a:pt x="332" y="3"/>
                    </a:cubicBezTo>
                    <a:cubicBezTo>
                      <a:pt x="332" y="4"/>
                      <a:pt x="331" y="5"/>
                      <a:pt x="330" y="5"/>
                    </a:cubicBezTo>
                    <a:lnTo>
                      <a:pt x="330" y="5"/>
                    </a:lnTo>
                    <a:cubicBezTo>
                      <a:pt x="329" y="5"/>
                      <a:pt x="328" y="4"/>
                      <a:pt x="328" y="3"/>
                    </a:cubicBezTo>
                    <a:cubicBezTo>
                      <a:pt x="328" y="1"/>
                      <a:pt x="329" y="1"/>
                      <a:pt x="330" y="1"/>
                    </a:cubicBezTo>
                    <a:close/>
                    <a:moveTo>
                      <a:pt x="338" y="1"/>
                    </a:moveTo>
                    <a:lnTo>
                      <a:pt x="338" y="1"/>
                    </a:lnTo>
                    <a:cubicBezTo>
                      <a:pt x="339" y="1"/>
                      <a:pt x="340" y="1"/>
                      <a:pt x="340" y="3"/>
                    </a:cubicBezTo>
                    <a:cubicBezTo>
                      <a:pt x="340" y="4"/>
                      <a:pt x="339" y="5"/>
                      <a:pt x="338" y="5"/>
                    </a:cubicBezTo>
                    <a:lnTo>
                      <a:pt x="338" y="5"/>
                    </a:lnTo>
                    <a:cubicBezTo>
                      <a:pt x="337" y="5"/>
                      <a:pt x="336" y="4"/>
                      <a:pt x="336" y="3"/>
                    </a:cubicBezTo>
                    <a:cubicBezTo>
                      <a:pt x="336" y="1"/>
                      <a:pt x="337" y="1"/>
                      <a:pt x="338" y="1"/>
                    </a:cubicBezTo>
                    <a:close/>
                    <a:moveTo>
                      <a:pt x="346" y="1"/>
                    </a:moveTo>
                    <a:lnTo>
                      <a:pt x="346" y="1"/>
                    </a:lnTo>
                    <a:cubicBezTo>
                      <a:pt x="347" y="1"/>
                      <a:pt x="348" y="1"/>
                      <a:pt x="348" y="3"/>
                    </a:cubicBezTo>
                    <a:cubicBezTo>
                      <a:pt x="348" y="4"/>
                      <a:pt x="347" y="5"/>
                      <a:pt x="346" y="5"/>
                    </a:cubicBezTo>
                    <a:lnTo>
                      <a:pt x="346" y="5"/>
                    </a:lnTo>
                    <a:cubicBezTo>
                      <a:pt x="345" y="5"/>
                      <a:pt x="344" y="4"/>
                      <a:pt x="344" y="3"/>
                    </a:cubicBezTo>
                    <a:cubicBezTo>
                      <a:pt x="344" y="1"/>
                      <a:pt x="345" y="1"/>
                      <a:pt x="346" y="1"/>
                    </a:cubicBezTo>
                    <a:close/>
                    <a:moveTo>
                      <a:pt x="354" y="1"/>
                    </a:moveTo>
                    <a:lnTo>
                      <a:pt x="354" y="1"/>
                    </a:lnTo>
                    <a:cubicBezTo>
                      <a:pt x="355" y="1"/>
                      <a:pt x="356" y="1"/>
                      <a:pt x="356" y="3"/>
                    </a:cubicBezTo>
                    <a:cubicBezTo>
                      <a:pt x="356" y="4"/>
                      <a:pt x="355" y="5"/>
                      <a:pt x="354" y="5"/>
                    </a:cubicBezTo>
                    <a:lnTo>
                      <a:pt x="354" y="5"/>
                    </a:lnTo>
                    <a:cubicBezTo>
                      <a:pt x="353" y="5"/>
                      <a:pt x="352" y="4"/>
                      <a:pt x="352" y="3"/>
                    </a:cubicBezTo>
                    <a:cubicBezTo>
                      <a:pt x="352" y="1"/>
                      <a:pt x="353" y="1"/>
                      <a:pt x="354" y="1"/>
                    </a:cubicBezTo>
                    <a:close/>
                    <a:moveTo>
                      <a:pt x="362" y="1"/>
                    </a:moveTo>
                    <a:lnTo>
                      <a:pt x="362" y="1"/>
                    </a:lnTo>
                    <a:cubicBezTo>
                      <a:pt x="363" y="1"/>
                      <a:pt x="364" y="1"/>
                      <a:pt x="364" y="3"/>
                    </a:cubicBezTo>
                    <a:cubicBezTo>
                      <a:pt x="364" y="4"/>
                      <a:pt x="363" y="5"/>
                      <a:pt x="362" y="5"/>
                    </a:cubicBezTo>
                    <a:lnTo>
                      <a:pt x="362" y="5"/>
                    </a:lnTo>
                    <a:cubicBezTo>
                      <a:pt x="361" y="5"/>
                      <a:pt x="360" y="4"/>
                      <a:pt x="360" y="3"/>
                    </a:cubicBezTo>
                    <a:cubicBezTo>
                      <a:pt x="360" y="1"/>
                      <a:pt x="361" y="1"/>
                      <a:pt x="362" y="1"/>
                    </a:cubicBezTo>
                    <a:close/>
                    <a:moveTo>
                      <a:pt x="370" y="1"/>
                    </a:moveTo>
                    <a:lnTo>
                      <a:pt x="370" y="1"/>
                    </a:lnTo>
                    <a:cubicBezTo>
                      <a:pt x="371" y="1"/>
                      <a:pt x="372" y="1"/>
                      <a:pt x="372" y="3"/>
                    </a:cubicBezTo>
                    <a:cubicBezTo>
                      <a:pt x="372" y="4"/>
                      <a:pt x="371" y="5"/>
                      <a:pt x="370" y="5"/>
                    </a:cubicBezTo>
                    <a:lnTo>
                      <a:pt x="370" y="5"/>
                    </a:lnTo>
                    <a:cubicBezTo>
                      <a:pt x="369" y="5"/>
                      <a:pt x="368" y="4"/>
                      <a:pt x="368" y="3"/>
                    </a:cubicBezTo>
                    <a:cubicBezTo>
                      <a:pt x="368" y="1"/>
                      <a:pt x="369" y="1"/>
                      <a:pt x="370" y="1"/>
                    </a:cubicBezTo>
                    <a:close/>
                    <a:moveTo>
                      <a:pt x="378" y="1"/>
                    </a:moveTo>
                    <a:lnTo>
                      <a:pt x="378" y="1"/>
                    </a:lnTo>
                    <a:cubicBezTo>
                      <a:pt x="379" y="1"/>
                      <a:pt x="380" y="1"/>
                      <a:pt x="380" y="3"/>
                    </a:cubicBezTo>
                    <a:cubicBezTo>
                      <a:pt x="380" y="4"/>
                      <a:pt x="379" y="5"/>
                      <a:pt x="378" y="5"/>
                    </a:cubicBezTo>
                    <a:lnTo>
                      <a:pt x="378" y="5"/>
                    </a:lnTo>
                    <a:cubicBezTo>
                      <a:pt x="377" y="5"/>
                      <a:pt x="376" y="4"/>
                      <a:pt x="376" y="3"/>
                    </a:cubicBezTo>
                    <a:cubicBezTo>
                      <a:pt x="376" y="1"/>
                      <a:pt x="377" y="1"/>
                      <a:pt x="378" y="1"/>
                    </a:cubicBezTo>
                    <a:close/>
                    <a:moveTo>
                      <a:pt x="386" y="1"/>
                    </a:moveTo>
                    <a:lnTo>
                      <a:pt x="386" y="1"/>
                    </a:lnTo>
                    <a:cubicBezTo>
                      <a:pt x="387" y="1"/>
                      <a:pt x="388" y="1"/>
                      <a:pt x="388" y="3"/>
                    </a:cubicBezTo>
                    <a:cubicBezTo>
                      <a:pt x="388" y="4"/>
                      <a:pt x="387" y="5"/>
                      <a:pt x="386" y="5"/>
                    </a:cubicBezTo>
                    <a:lnTo>
                      <a:pt x="386" y="5"/>
                    </a:lnTo>
                    <a:cubicBezTo>
                      <a:pt x="385" y="5"/>
                      <a:pt x="384" y="4"/>
                      <a:pt x="384" y="3"/>
                    </a:cubicBezTo>
                    <a:cubicBezTo>
                      <a:pt x="384" y="1"/>
                      <a:pt x="385" y="1"/>
                      <a:pt x="386" y="1"/>
                    </a:cubicBezTo>
                    <a:close/>
                    <a:moveTo>
                      <a:pt x="394" y="1"/>
                    </a:moveTo>
                    <a:lnTo>
                      <a:pt x="394" y="1"/>
                    </a:lnTo>
                    <a:cubicBezTo>
                      <a:pt x="395" y="1"/>
                      <a:pt x="396" y="1"/>
                      <a:pt x="396" y="3"/>
                    </a:cubicBezTo>
                    <a:cubicBezTo>
                      <a:pt x="396" y="4"/>
                      <a:pt x="395" y="5"/>
                      <a:pt x="394" y="5"/>
                    </a:cubicBezTo>
                    <a:lnTo>
                      <a:pt x="394" y="5"/>
                    </a:lnTo>
                    <a:cubicBezTo>
                      <a:pt x="393" y="5"/>
                      <a:pt x="392" y="4"/>
                      <a:pt x="392" y="3"/>
                    </a:cubicBezTo>
                    <a:cubicBezTo>
                      <a:pt x="392" y="1"/>
                      <a:pt x="393" y="1"/>
                      <a:pt x="394" y="1"/>
                    </a:cubicBezTo>
                    <a:close/>
                    <a:moveTo>
                      <a:pt x="402" y="1"/>
                    </a:moveTo>
                    <a:lnTo>
                      <a:pt x="402" y="1"/>
                    </a:lnTo>
                    <a:cubicBezTo>
                      <a:pt x="403" y="1"/>
                      <a:pt x="404" y="1"/>
                      <a:pt x="404" y="3"/>
                    </a:cubicBezTo>
                    <a:cubicBezTo>
                      <a:pt x="404" y="4"/>
                      <a:pt x="403" y="5"/>
                      <a:pt x="402" y="5"/>
                    </a:cubicBezTo>
                    <a:lnTo>
                      <a:pt x="402" y="5"/>
                    </a:lnTo>
                    <a:cubicBezTo>
                      <a:pt x="401" y="5"/>
                      <a:pt x="400" y="4"/>
                      <a:pt x="400" y="3"/>
                    </a:cubicBezTo>
                    <a:cubicBezTo>
                      <a:pt x="400" y="1"/>
                      <a:pt x="401" y="1"/>
                      <a:pt x="402" y="1"/>
                    </a:cubicBezTo>
                    <a:close/>
                    <a:moveTo>
                      <a:pt x="410" y="1"/>
                    </a:moveTo>
                    <a:lnTo>
                      <a:pt x="410" y="1"/>
                    </a:lnTo>
                    <a:cubicBezTo>
                      <a:pt x="411" y="1"/>
                      <a:pt x="412" y="1"/>
                      <a:pt x="412" y="3"/>
                    </a:cubicBezTo>
                    <a:cubicBezTo>
                      <a:pt x="412" y="4"/>
                      <a:pt x="411" y="5"/>
                      <a:pt x="410" y="5"/>
                    </a:cubicBezTo>
                    <a:lnTo>
                      <a:pt x="410" y="5"/>
                    </a:lnTo>
                    <a:cubicBezTo>
                      <a:pt x="409" y="5"/>
                      <a:pt x="408" y="4"/>
                      <a:pt x="408" y="3"/>
                    </a:cubicBezTo>
                    <a:cubicBezTo>
                      <a:pt x="408" y="1"/>
                      <a:pt x="409" y="1"/>
                      <a:pt x="410" y="1"/>
                    </a:cubicBezTo>
                    <a:close/>
                    <a:moveTo>
                      <a:pt x="418" y="1"/>
                    </a:moveTo>
                    <a:lnTo>
                      <a:pt x="418" y="1"/>
                    </a:lnTo>
                    <a:cubicBezTo>
                      <a:pt x="419" y="1"/>
                      <a:pt x="420" y="1"/>
                      <a:pt x="420" y="3"/>
                    </a:cubicBezTo>
                    <a:cubicBezTo>
                      <a:pt x="420" y="4"/>
                      <a:pt x="419" y="5"/>
                      <a:pt x="418" y="5"/>
                    </a:cubicBezTo>
                    <a:lnTo>
                      <a:pt x="418" y="5"/>
                    </a:lnTo>
                    <a:cubicBezTo>
                      <a:pt x="417" y="5"/>
                      <a:pt x="416" y="4"/>
                      <a:pt x="416" y="3"/>
                    </a:cubicBezTo>
                    <a:cubicBezTo>
                      <a:pt x="416" y="1"/>
                      <a:pt x="417" y="1"/>
                      <a:pt x="418" y="1"/>
                    </a:cubicBezTo>
                    <a:close/>
                    <a:moveTo>
                      <a:pt x="426" y="1"/>
                    </a:moveTo>
                    <a:lnTo>
                      <a:pt x="426" y="1"/>
                    </a:lnTo>
                    <a:cubicBezTo>
                      <a:pt x="427" y="1"/>
                      <a:pt x="428" y="1"/>
                      <a:pt x="428" y="3"/>
                    </a:cubicBezTo>
                    <a:cubicBezTo>
                      <a:pt x="428" y="4"/>
                      <a:pt x="427" y="5"/>
                      <a:pt x="426" y="5"/>
                    </a:cubicBezTo>
                    <a:lnTo>
                      <a:pt x="426" y="5"/>
                    </a:lnTo>
                    <a:cubicBezTo>
                      <a:pt x="425" y="5"/>
                      <a:pt x="424" y="4"/>
                      <a:pt x="424" y="3"/>
                    </a:cubicBezTo>
                    <a:cubicBezTo>
                      <a:pt x="424" y="1"/>
                      <a:pt x="425" y="1"/>
                      <a:pt x="426" y="1"/>
                    </a:cubicBezTo>
                    <a:close/>
                    <a:moveTo>
                      <a:pt x="434" y="1"/>
                    </a:moveTo>
                    <a:lnTo>
                      <a:pt x="434" y="1"/>
                    </a:lnTo>
                    <a:cubicBezTo>
                      <a:pt x="435" y="1"/>
                      <a:pt x="436" y="1"/>
                      <a:pt x="436" y="3"/>
                    </a:cubicBezTo>
                    <a:cubicBezTo>
                      <a:pt x="436" y="4"/>
                      <a:pt x="435" y="5"/>
                      <a:pt x="434" y="5"/>
                    </a:cubicBezTo>
                    <a:lnTo>
                      <a:pt x="434" y="5"/>
                    </a:lnTo>
                    <a:cubicBezTo>
                      <a:pt x="433" y="5"/>
                      <a:pt x="432" y="4"/>
                      <a:pt x="432" y="3"/>
                    </a:cubicBezTo>
                    <a:cubicBezTo>
                      <a:pt x="432" y="1"/>
                      <a:pt x="433" y="1"/>
                      <a:pt x="434" y="1"/>
                    </a:cubicBezTo>
                    <a:close/>
                    <a:moveTo>
                      <a:pt x="442" y="1"/>
                    </a:moveTo>
                    <a:lnTo>
                      <a:pt x="442" y="1"/>
                    </a:lnTo>
                    <a:cubicBezTo>
                      <a:pt x="443" y="1"/>
                      <a:pt x="444" y="1"/>
                      <a:pt x="444" y="3"/>
                    </a:cubicBezTo>
                    <a:cubicBezTo>
                      <a:pt x="444" y="4"/>
                      <a:pt x="443" y="5"/>
                      <a:pt x="442" y="5"/>
                    </a:cubicBezTo>
                    <a:lnTo>
                      <a:pt x="442" y="5"/>
                    </a:lnTo>
                    <a:cubicBezTo>
                      <a:pt x="441" y="5"/>
                      <a:pt x="440" y="4"/>
                      <a:pt x="440" y="3"/>
                    </a:cubicBezTo>
                    <a:cubicBezTo>
                      <a:pt x="440" y="1"/>
                      <a:pt x="441" y="1"/>
                      <a:pt x="442" y="1"/>
                    </a:cubicBezTo>
                    <a:close/>
                    <a:moveTo>
                      <a:pt x="450" y="1"/>
                    </a:moveTo>
                    <a:lnTo>
                      <a:pt x="450" y="1"/>
                    </a:lnTo>
                    <a:cubicBezTo>
                      <a:pt x="451" y="1"/>
                      <a:pt x="452" y="1"/>
                      <a:pt x="452" y="3"/>
                    </a:cubicBezTo>
                    <a:cubicBezTo>
                      <a:pt x="452" y="4"/>
                      <a:pt x="451" y="5"/>
                      <a:pt x="450" y="5"/>
                    </a:cubicBezTo>
                    <a:lnTo>
                      <a:pt x="450" y="5"/>
                    </a:lnTo>
                    <a:cubicBezTo>
                      <a:pt x="449" y="5"/>
                      <a:pt x="448" y="4"/>
                      <a:pt x="448" y="3"/>
                    </a:cubicBezTo>
                    <a:cubicBezTo>
                      <a:pt x="448" y="1"/>
                      <a:pt x="449" y="1"/>
                      <a:pt x="450" y="1"/>
                    </a:cubicBezTo>
                    <a:close/>
                    <a:moveTo>
                      <a:pt x="458" y="1"/>
                    </a:moveTo>
                    <a:lnTo>
                      <a:pt x="458" y="1"/>
                    </a:lnTo>
                    <a:cubicBezTo>
                      <a:pt x="459" y="1"/>
                      <a:pt x="460" y="1"/>
                      <a:pt x="460" y="3"/>
                    </a:cubicBezTo>
                    <a:cubicBezTo>
                      <a:pt x="460" y="4"/>
                      <a:pt x="459" y="5"/>
                      <a:pt x="458" y="5"/>
                    </a:cubicBezTo>
                    <a:lnTo>
                      <a:pt x="458" y="5"/>
                    </a:lnTo>
                    <a:cubicBezTo>
                      <a:pt x="457" y="5"/>
                      <a:pt x="456" y="4"/>
                      <a:pt x="456" y="3"/>
                    </a:cubicBezTo>
                    <a:cubicBezTo>
                      <a:pt x="456" y="1"/>
                      <a:pt x="457" y="1"/>
                      <a:pt x="458" y="1"/>
                    </a:cubicBezTo>
                    <a:close/>
                    <a:moveTo>
                      <a:pt x="466" y="1"/>
                    </a:moveTo>
                    <a:lnTo>
                      <a:pt x="466" y="1"/>
                    </a:lnTo>
                    <a:cubicBezTo>
                      <a:pt x="467" y="1"/>
                      <a:pt x="468" y="1"/>
                      <a:pt x="468" y="3"/>
                    </a:cubicBezTo>
                    <a:cubicBezTo>
                      <a:pt x="468" y="4"/>
                      <a:pt x="467" y="5"/>
                      <a:pt x="466" y="5"/>
                    </a:cubicBezTo>
                    <a:lnTo>
                      <a:pt x="466" y="5"/>
                    </a:lnTo>
                    <a:cubicBezTo>
                      <a:pt x="465" y="5"/>
                      <a:pt x="464" y="4"/>
                      <a:pt x="464" y="3"/>
                    </a:cubicBezTo>
                    <a:cubicBezTo>
                      <a:pt x="464" y="1"/>
                      <a:pt x="465" y="1"/>
                      <a:pt x="466" y="1"/>
                    </a:cubicBezTo>
                    <a:close/>
                    <a:moveTo>
                      <a:pt x="474" y="1"/>
                    </a:moveTo>
                    <a:lnTo>
                      <a:pt x="474" y="1"/>
                    </a:lnTo>
                    <a:cubicBezTo>
                      <a:pt x="475" y="1"/>
                      <a:pt x="476" y="1"/>
                      <a:pt x="476" y="3"/>
                    </a:cubicBezTo>
                    <a:cubicBezTo>
                      <a:pt x="476" y="4"/>
                      <a:pt x="475" y="5"/>
                      <a:pt x="474" y="5"/>
                    </a:cubicBezTo>
                    <a:lnTo>
                      <a:pt x="474" y="5"/>
                    </a:lnTo>
                    <a:cubicBezTo>
                      <a:pt x="473" y="5"/>
                      <a:pt x="472" y="4"/>
                      <a:pt x="472" y="3"/>
                    </a:cubicBezTo>
                    <a:cubicBezTo>
                      <a:pt x="472" y="1"/>
                      <a:pt x="473" y="1"/>
                      <a:pt x="474" y="1"/>
                    </a:cubicBezTo>
                    <a:close/>
                    <a:moveTo>
                      <a:pt x="482" y="1"/>
                    </a:moveTo>
                    <a:lnTo>
                      <a:pt x="482" y="1"/>
                    </a:lnTo>
                    <a:cubicBezTo>
                      <a:pt x="483" y="1"/>
                      <a:pt x="484" y="1"/>
                      <a:pt x="484" y="3"/>
                    </a:cubicBezTo>
                    <a:cubicBezTo>
                      <a:pt x="484" y="4"/>
                      <a:pt x="483" y="5"/>
                      <a:pt x="482" y="5"/>
                    </a:cubicBezTo>
                    <a:lnTo>
                      <a:pt x="482" y="5"/>
                    </a:lnTo>
                    <a:cubicBezTo>
                      <a:pt x="481" y="5"/>
                      <a:pt x="480" y="4"/>
                      <a:pt x="480" y="3"/>
                    </a:cubicBezTo>
                    <a:cubicBezTo>
                      <a:pt x="480" y="1"/>
                      <a:pt x="481" y="1"/>
                      <a:pt x="482" y="1"/>
                    </a:cubicBezTo>
                    <a:close/>
                    <a:moveTo>
                      <a:pt x="490" y="1"/>
                    </a:moveTo>
                    <a:lnTo>
                      <a:pt x="490" y="1"/>
                    </a:lnTo>
                    <a:cubicBezTo>
                      <a:pt x="491" y="1"/>
                      <a:pt x="492" y="1"/>
                      <a:pt x="492" y="3"/>
                    </a:cubicBezTo>
                    <a:cubicBezTo>
                      <a:pt x="492" y="4"/>
                      <a:pt x="491" y="5"/>
                      <a:pt x="490" y="5"/>
                    </a:cubicBezTo>
                    <a:lnTo>
                      <a:pt x="490" y="5"/>
                    </a:lnTo>
                    <a:cubicBezTo>
                      <a:pt x="489" y="5"/>
                      <a:pt x="488" y="4"/>
                      <a:pt x="488" y="3"/>
                    </a:cubicBezTo>
                    <a:cubicBezTo>
                      <a:pt x="488" y="1"/>
                      <a:pt x="489" y="1"/>
                      <a:pt x="490" y="1"/>
                    </a:cubicBezTo>
                    <a:close/>
                    <a:moveTo>
                      <a:pt x="498" y="1"/>
                    </a:moveTo>
                    <a:lnTo>
                      <a:pt x="498" y="1"/>
                    </a:lnTo>
                    <a:cubicBezTo>
                      <a:pt x="499" y="1"/>
                      <a:pt x="500" y="1"/>
                      <a:pt x="500" y="3"/>
                    </a:cubicBezTo>
                    <a:cubicBezTo>
                      <a:pt x="500" y="4"/>
                      <a:pt x="499" y="5"/>
                      <a:pt x="498" y="5"/>
                    </a:cubicBezTo>
                    <a:lnTo>
                      <a:pt x="498" y="5"/>
                    </a:lnTo>
                    <a:cubicBezTo>
                      <a:pt x="497" y="5"/>
                      <a:pt x="496" y="4"/>
                      <a:pt x="496" y="3"/>
                    </a:cubicBezTo>
                    <a:cubicBezTo>
                      <a:pt x="496" y="1"/>
                      <a:pt x="497" y="1"/>
                      <a:pt x="498" y="1"/>
                    </a:cubicBezTo>
                    <a:close/>
                    <a:moveTo>
                      <a:pt x="506" y="1"/>
                    </a:moveTo>
                    <a:lnTo>
                      <a:pt x="506" y="1"/>
                    </a:lnTo>
                    <a:cubicBezTo>
                      <a:pt x="507" y="1"/>
                      <a:pt x="508" y="1"/>
                      <a:pt x="508" y="3"/>
                    </a:cubicBezTo>
                    <a:cubicBezTo>
                      <a:pt x="508" y="4"/>
                      <a:pt x="507" y="5"/>
                      <a:pt x="506" y="5"/>
                    </a:cubicBezTo>
                    <a:lnTo>
                      <a:pt x="506" y="5"/>
                    </a:lnTo>
                    <a:cubicBezTo>
                      <a:pt x="505" y="5"/>
                      <a:pt x="504" y="4"/>
                      <a:pt x="504" y="3"/>
                    </a:cubicBezTo>
                    <a:cubicBezTo>
                      <a:pt x="504" y="1"/>
                      <a:pt x="505" y="1"/>
                      <a:pt x="506" y="1"/>
                    </a:cubicBezTo>
                    <a:close/>
                    <a:moveTo>
                      <a:pt x="514" y="1"/>
                    </a:moveTo>
                    <a:lnTo>
                      <a:pt x="514" y="1"/>
                    </a:lnTo>
                    <a:cubicBezTo>
                      <a:pt x="515" y="1"/>
                      <a:pt x="516" y="1"/>
                      <a:pt x="516" y="3"/>
                    </a:cubicBezTo>
                    <a:cubicBezTo>
                      <a:pt x="516" y="4"/>
                      <a:pt x="515" y="5"/>
                      <a:pt x="514" y="5"/>
                    </a:cubicBezTo>
                    <a:lnTo>
                      <a:pt x="514" y="5"/>
                    </a:lnTo>
                    <a:cubicBezTo>
                      <a:pt x="513" y="5"/>
                      <a:pt x="512" y="4"/>
                      <a:pt x="512" y="3"/>
                    </a:cubicBezTo>
                    <a:cubicBezTo>
                      <a:pt x="512" y="1"/>
                      <a:pt x="513" y="1"/>
                      <a:pt x="514" y="1"/>
                    </a:cubicBezTo>
                    <a:close/>
                    <a:moveTo>
                      <a:pt x="522" y="1"/>
                    </a:moveTo>
                    <a:lnTo>
                      <a:pt x="522" y="1"/>
                    </a:lnTo>
                    <a:cubicBezTo>
                      <a:pt x="523" y="1"/>
                      <a:pt x="524" y="1"/>
                      <a:pt x="524" y="3"/>
                    </a:cubicBezTo>
                    <a:cubicBezTo>
                      <a:pt x="524" y="4"/>
                      <a:pt x="523" y="5"/>
                      <a:pt x="522" y="5"/>
                    </a:cubicBezTo>
                    <a:lnTo>
                      <a:pt x="522" y="5"/>
                    </a:lnTo>
                    <a:cubicBezTo>
                      <a:pt x="521" y="5"/>
                      <a:pt x="520" y="4"/>
                      <a:pt x="520" y="3"/>
                    </a:cubicBezTo>
                    <a:cubicBezTo>
                      <a:pt x="520" y="1"/>
                      <a:pt x="521" y="1"/>
                      <a:pt x="522" y="1"/>
                    </a:cubicBezTo>
                    <a:close/>
                    <a:moveTo>
                      <a:pt x="530" y="1"/>
                    </a:moveTo>
                    <a:lnTo>
                      <a:pt x="530" y="1"/>
                    </a:lnTo>
                    <a:cubicBezTo>
                      <a:pt x="531" y="1"/>
                      <a:pt x="532" y="1"/>
                      <a:pt x="532" y="3"/>
                    </a:cubicBezTo>
                    <a:cubicBezTo>
                      <a:pt x="532" y="4"/>
                      <a:pt x="531" y="5"/>
                      <a:pt x="530" y="5"/>
                    </a:cubicBezTo>
                    <a:lnTo>
                      <a:pt x="530" y="5"/>
                    </a:lnTo>
                    <a:cubicBezTo>
                      <a:pt x="529" y="5"/>
                      <a:pt x="528" y="4"/>
                      <a:pt x="528" y="3"/>
                    </a:cubicBezTo>
                    <a:cubicBezTo>
                      <a:pt x="528" y="1"/>
                      <a:pt x="529" y="1"/>
                      <a:pt x="530" y="1"/>
                    </a:cubicBezTo>
                    <a:close/>
                    <a:moveTo>
                      <a:pt x="538" y="1"/>
                    </a:moveTo>
                    <a:lnTo>
                      <a:pt x="538" y="1"/>
                    </a:lnTo>
                    <a:cubicBezTo>
                      <a:pt x="539" y="1"/>
                      <a:pt x="540" y="1"/>
                      <a:pt x="540" y="3"/>
                    </a:cubicBezTo>
                    <a:cubicBezTo>
                      <a:pt x="540" y="4"/>
                      <a:pt x="539" y="5"/>
                      <a:pt x="538" y="5"/>
                    </a:cubicBezTo>
                    <a:lnTo>
                      <a:pt x="538" y="5"/>
                    </a:lnTo>
                    <a:cubicBezTo>
                      <a:pt x="537" y="5"/>
                      <a:pt x="536" y="4"/>
                      <a:pt x="536" y="3"/>
                    </a:cubicBezTo>
                    <a:cubicBezTo>
                      <a:pt x="536" y="1"/>
                      <a:pt x="537" y="1"/>
                      <a:pt x="538" y="1"/>
                    </a:cubicBezTo>
                    <a:close/>
                    <a:moveTo>
                      <a:pt x="546" y="1"/>
                    </a:moveTo>
                    <a:lnTo>
                      <a:pt x="546" y="1"/>
                    </a:lnTo>
                    <a:cubicBezTo>
                      <a:pt x="547" y="1"/>
                      <a:pt x="548" y="1"/>
                      <a:pt x="548" y="3"/>
                    </a:cubicBezTo>
                    <a:cubicBezTo>
                      <a:pt x="548" y="4"/>
                      <a:pt x="547" y="5"/>
                      <a:pt x="546" y="5"/>
                    </a:cubicBezTo>
                    <a:lnTo>
                      <a:pt x="546" y="5"/>
                    </a:lnTo>
                    <a:cubicBezTo>
                      <a:pt x="545" y="5"/>
                      <a:pt x="544" y="4"/>
                      <a:pt x="544" y="3"/>
                    </a:cubicBezTo>
                    <a:cubicBezTo>
                      <a:pt x="544" y="1"/>
                      <a:pt x="545" y="1"/>
                      <a:pt x="546" y="1"/>
                    </a:cubicBezTo>
                    <a:close/>
                    <a:moveTo>
                      <a:pt x="554" y="1"/>
                    </a:moveTo>
                    <a:lnTo>
                      <a:pt x="554" y="1"/>
                    </a:lnTo>
                    <a:cubicBezTo>
                      <a:pt x="555" y="1"/>
                      <a:pt x="556" y="1"/>
                      <a:pt x="556" y="3"/>
                    </a:cubicBezTo>
                    <a:cubicBezTo>
                      <a:pt x="556" y="4"/>
                      <a:pt x="555" y="5"/>
                      <a:pt x="554" y="5"/>
                    </a:cubicBezTo>
                    <a:lnTo>
                      <a:pt x="554" y="5"/>
                    </a:lnTo>
                    <a:cubicBezTo>
                      <a:pt x="553" y="5"/>
                      <a:pt x="552" y="4"/>
                      <a:pt x="552" y="3"/>
                    </a:cubicBezTo>
                    <a:cubicBezTo>
                      <a:pt x="552" y="1"/>
                      <a:pt x="553" y="1"/>
                      <a:pt x="554" y="1"/>
                    </a:cubicBezTo>
                    <a:close/>
                    <a:moveTo>
                      <a:pt x="562" y="1"/>
                    </a:moveTo>
                    <a:lnTo>
                      <a:pt x="562" y="1"/>
                    </a:lnTo>
                    <a:cubicBezTo>
                      <a:pt x="563" y="1"/>
                      <a:pt x="564" y="1"/>
                      <a:pt x="564" y="3"/>
                    </a:cubicBezTo>
                    <a:cubicBezTo>
                      <a:pt x="564" y="4"/>
                      <a:pt x="563" y="5"/>
                      <a:pt x="562" y="5"/>
                    </a:cubicBezTo>
                    <a:lnTo>
                      <a:pt x="562" y="5"/>
                    </a:lnTo>
                    <a:cubicBezTo>
                      <a:pt x="561" y="5"/>
                      <a:pt x="560" y="4"/>
                      <a:pt x="560" y="3"/>
                    </a:cubicBezTo>
                    <a:cubicBezTo>
                      <a:pt x="560" y="1"/>
                      <a:pt x="561" y="1"/>
                      <a:pt x="562" y="1"/>
                    </a:cubicBezTo>
                    <a:close/>
                    <a:moveTo>
                      <a:pt x="570" y="1"/>
                    </a:moveTo>
                    <a:lnTo>
                      <a:pt x="570" y="1"/>
                    </a:lnTo>
                    <a:cubicBezTo>
                      <a:pt x="571" y="1"/>
                      <a:pt x="572" y="1"/>
                      <a:pt x="572" y="3"/>
                    </a:cubicBezTo>
                    <a:cubicBezTo>
                      <a:pt x="572" y="4"/>
                      <a:pt x="571" y="5"/>
                      <a:pt x="570" y="5"/>
                    </a:cubicBezTo>
                    <a:lnTo>
                      <a:pt x="570" y="5"/>
                    </a:lnTo>
                    <a:cubicBezTo>
                      <a:pt x="569" y="5"/>
                      <a:pt x="568" y="4"/>
                      <a:pt x="568" y="3"/>
                    </a:cubicBezTo>
                    <a:cubicBezTo>
                      <a:pt x="568" y="1"/>
                      <a:pt x="569" y="1"/>
                      <a:pt x="570" y="1"/>
                    </a:cubicBezTo>
                    <a:close/>
                    <a:moveTo>
                      <a:pt x="578" y="1"/>
                    </a:moveTo>
                    <a:lnTo>
                      <a:pt x="578" y="1"/>
                    </a:lnTo>
                    <a:cubicBezTo>
                      <a:pt x="579" y="1"/>
                      <a:pt x="580" y="1"/>
                      <a:pt x="580" y="3"/>
                    </a:cubicBezTo>
                    <a:cubicBezTo>
                      <a:pt x="580" y="4"/>
                      <a:pt x="579" y="5"/>
                      <a:pt x="578" y="5"/>
                    </a:cubicBezTo>
                    <a:lnTo>
                      <a:pt x="578" y="5"/>
                    </a:lnTo>
                    <a:cubicBezTo>
                      <a:pt x="577" y="5"/>
                      <a:pt x="576" y="4"/>
                      <a:pt x="576" y="3"/>
                    </a:cubicBezTo>
                    <a:cubicBezTo>
                      <a:pt x="576" y="1"/>
                      <a:pt x="577" y="1"/>
                      <a:pt x="578" y="1"/>
                    </a:cubicBezTo>
                    <a:close/>
                    <a:moveTo>
                      <a:pt x="586" y="1"/>
                    </a:moveTo>
                    <a:lnTo>
                      <a:pt x="586" y="1"/>
                    </a:lnTo>
                    <a:cubicBezTo>
                      <a:pt x="587" y="1"/>
                      <a:pt x="588" y="1"/>
                      <a:pt x="588" y="3"/>
                    </a:cubicBezTo>
                    <a:cubicBezTo>
                      <a:pt x="588" y="4"/>
                      <a:pt x="587" y="5"/>
                      <a:pt x="586" y="5"/>
                    </a:cubicBezTo>
                    <a:lnTo>
                      <a:pt x="586" y="5"/>
                    </a:lnTo>
                    <a:cubicBezTo>
                      <a:pt x="585" y="5"/>
                      <a:pt x="584" y="4"/>
                      <a:pt x="584" y="3"/>
                    </a:cubicBezTo>
                    <a:cubicBezTo>
                      <a:pt x="584" y="1"/>
                      <a:pt x="585" y="1"/>
                      <a:pt x="586" y="1"/>
                    </a:cubicBezTo>
                    <a:close/>
                    <a:moveTo>
                      <a:pt x="594" y="1"/>
                    </a:moveTo>
                    <a:lnTo>
                      <a:pt x="594" y="1"/>
                    </a:lnTo>
                    <a:cubicBezTo>
                      <a:pt x="595" y="1"/>
                      <a:pt x="596" y="1"/>
                      <a:pt x="596" y="3"/>
                    </a:cubicBezTo>
                    <a:cubicBezTo>
                      <a:pt x="596" y="4"/>
                      <a:pt x="595" y="5"/>
                      <a:pt x="594" y="5"/>
                    </a:cubicBezTo>
                    <a:lnTo>
                      <a:pt x="594" y="5"/>
                    </a:lnTo>
                    <a:cubicBezTo>
                      <a:pt x="593" y="5"/>
                      <a:pt x="592" y="4"/>
                      <a:pt x="592" y="3"/>
                    </a:cubicBezTo>
                    <a:cubicBezTo>
                      <a:pt x="592" y="1"/>
                      <a:pt x="593" y="1"/>
                      <a:pt x="594" y="1"/>
                    </a:cubicBezTo>
                    <a:close/>
                    <a:moveTo>
                      <a:pt x="602" y="1"/>
                    </a:moveTo>
                    <a:lnTo>
                      <a:pt x="602" y="1"/>
                    </a:lnTo>
                    <a:cubicBezTo>
                      <a:pt x="603" y="1"/>
                      <a:pt x="604" y="1"/>
                      <a:pt x="604" y="3"/>
                    </a:cubicBezTo>
                    <a:cubicBezTo>
                      <a:pt x="604" y="4"/>
                      <a:pt x="603" y="5"/>
                      <a:pt x="602" y="5"/>
                    </a:cubicBezTo>
                    <a:lnTo>
                      <a:pt x="602" y="5"/>
                    </a:lnTo>
                    <a:cubicBezTo>
                      <a:pt x="601" y="5"/>
                      <a:pt x="600" y="4"/>
                      <a:pt x="600" y="3"/>
                    </a:cubicBezTo>
                    <a:cubicBezTo>
                      <a:pt x="600" y="1"/>
                      <a:pt x="601" y="1"/>
                      <a:pt x="602" y="1"/>
                    </a:cubicBezTo>
                    <a:close/>
                    <a:moveTo>
                      <a:pt x="610" y="1"/>
                    </a:moveTo>
                    <a:lnTo>
                      <a:pt x="610" y="1"/>
                    </a:lnTo>
                    <a:cubicBezTo>
                      <a:pt x="611" y="1"/>
                      <a:pt x="612" y="1"/>
                      <a:pt x="612" y="3"/>
                    </a:cubicBezTo>
                    <a:cubicBezTo>
                      <a:pt x="612" y="4"/>
                      <a:pt x="611" y="5"/>
                      <a:pt x="610" y="5"/>
                    </a:cubicBezTo>
                    <a:lnTo>
                      <a:pt x="610" y="5"/>
                    </a:lnTo>
                    <a:cubicBezTo>
                      <a:pt x="609" y="5"/>
                      <a:pt x="608" y="4"/>
                      <a:pt x="608" y="3"/>
                    </a:cubicBezTo>
                    <a:cubicBezTo>
                      <a:pt x="608" y="1"/>
                      <a:pt x="609" y="1"/>
                      <a:pt x="610" y="1"/>
                    </a:cubicBezTo>
                    <a:close/>
                    <a:moveTo>
                      <a:pt x="618" y="1"/>
                    </a:moveTo>
                    <a:lnTo>
                      <a:pt x="618" y="1"/>
                    </a:lnTo>
                    <a:cubicBezTo>
                      <a:pt x="619" y="1"/>
                      <a:pt x="620" y="1"/>
                      <a:pt x="620" y="3"/>
                    </a:cubicBezTo>
                    <a:cubicBezTo>
                      <a:pt x="620" y="4"/>
                      <a:pt x="619" y="5"/>
                      <a:pt x="618" y="5"/>
                    </a:cubicBezTo>
                    <a:lnTo>
                      <a:pt x="618" y="5"/>
                    </a:lnTo>
                    <a:cubicBezTo>
                      <a:pt x="617" y="5"/>
                      <a:pt x="616" y="4"/>
                      <a:pt x="616" y="3"/>
                    </a:cubicBezTo>
                    <a:cubicBezTo>
                      <a:pt x="616" y="1"/>
                      <a:pt x="617" y="1"/>
                      <a:pt x="618" y="1"/>
                    </a:cubicBezTo>
                    <a:close/>
                    <a:moveTo>
                      <a:pt x="626" y="1"/>
                    </a:moveTo>
                    <a:lnTo>
                      <a:pt x="626" y="1"/>
                    </a:lnTo>
                    <a:cubicBezTo>
                      <a:pt x="627" y="1"/>
                      <a:pt x="628" y="1"/>
                      <a:pt x="628" y="3"/>
                    </a:cubicBezTo>
                    <a:cubicBezTo>
                      <a:pt x="628" y="4"/>
                      <a:pt x="627" y="5"/>
                      <a:pt x="626" y="5"/>
                    </a:cubicBezTo>
                    <a:lnTo>
                      <a:pt x="626" y="5"/>
                    </a:lnTo>
                    <a:cubicBezTo>
                      <a:pt x="625" y="5"/>
                      <a:pt x="624" y="4"/>
                      <a:pt x="624" y="3"/>
                    </a:cubicBezTo>
                    <a:cubicBezTo>
                      <a:pt x="624" y="1"/>
                      <a:pt x="625" y="1"/>
                      <a:pt x="626" y="1"/>
                    </a:cubicBezTo>
                    <a:close/>
                    <a:moveTo>
                      <a:pt x="634" y="1"/>
                    </a:moveTo>
                    <a:lnTo>
                      <a:pt x="634" y="1"/>
                    </a:lnTo>
                    <a:cubicBezTo>
                      <a:pt x="635" y="1"/>
                      <a:pt x="636" y="1"/>
                      <a:pt x="636" y="3"/>
                    </a:cubicBezTo>
                    <a:cubicBezTo>
                      <a:pt x="636" y="4"/>
                      <a:pt x="635" y="5"/>
                      <a:pt x="634" y="5"/>
                    </a:cubicBezTo>
                    <a:lnTo>
                      <a:pt x="634" y="5"/>
                    </a:lnTo>
                    <a:cubicBezTo>
                      <a:pt x="633" y="5"/>
                      <a:pt x="632" y="4"/>
                      <a:pt x="632" y="3"/>
                    </a:cubicBezTo>
                    <a:cubicBezTo>
                      <a:pt x="632" y="1"/>
                      <a:pt x="633" y="1"/>
                      <a:pt x="634" y="1"/>
                    </a:cubicBezTo>
                    <a:close/>
                    <a:moveTo>
                      <a:pt x="642" y="1"/>
                    </a:moveTo>
                    <a:lnTo>
                      <a:pt x="642" y="1"/>
                    </a:lnTo>
                    <a:cubicBezTo>
                      <a:pt x="643" y="1"/>
                      <a:pt x="644" y="1"/>
                      <a:pt x="644" y="3"/>
                    </a:cubicBezTo>
                    <a:cubicBezTo>
                      <a:pt x="644" y="4"/>
                      <a:pt x="643" y="5"/>
                      <a:pt x="642" y="5"/>
                    </a:cubicBezTo>
                    <a:lnTo>
                      <a:pt x="642" y="5"/>
                    </a:lnTo>
                    <a:cubicBezTo>
                      <a:pt x="641" y="5"/>
                      <a:pt x="640" y="4"/>
                      <a:pt x="640" y="3"/>
                    </a:cubicBezTo>
                    <a:cubicBezTo>
                      <a:pt x="640" y="1"/>
                      <a:pt x="641" y="1"/>
                      <a:pt x="642" y="1"/>
                    </a:cubicBezTo>
                    <a:close/>
                    <a:moveTo>
                      <a:pt x="650" y="1"/>
                    </a:moveTo>
                    <a:lnTo>
                      <a:pt x="650" y="1"/>
                    </a:lnTo>
                    <a:cubicBezTo>
                      <a:pt x="651" y="1"/>
                      <a:pt x="652" y="1"/>
                      <a:pt x="652" y="3"/>
                    </a:cubicBezTo>
                    <a:cubicBezTo>
                      <a:pt x="652" y="4"/>
                      <a:pt x="651" y="5"/>
                      <a:pt x="650" y="5"/>
                    </a:cubicBezTo>
                    <a:lnTo>
                      <a:pt x="650" y="5"/>
                    </a:lnTo>
                    <a:cubicBezTo>
                      <a:pt x="649" y="5"/>
                      <a:pt x="648" y="4"/>
                      <a:pt x="648" y="3"/>
                    </a:cubicBezTo>
                    <a:cubicBezTo>
                      <a:pt x="648" y="1"/>
                      <a:pt x="649" y="1"/>
                      <a:pt x="650" y="1"/>
                    </a:cubicBezTo>
                    <a:close/>
                    <a:moveTo>
                      <a:pt x="658" y="1"/>
                    </a:moveTo>
                    <a:lnTo>
                      <a:pt x="658" y="1"/>
                    </a:lnTo>
                    <a:cubicBezTo>
                      <a:pt x="659" y="1"/>
                      <a:pt x="660" y="1"/>
                      <a:pt x="660" y="3"/>
                    </a:cubicBezTo>
                    <a:cubicBezTo>
                      <a:pt x="660" y="4"/>
                      <a:pt x="659" y="5"/>
                      <a:pt x="658" y="5"/>
                    </a:cubicBezTo>
                    <a:lnTo>
                      <a:pt x="658" y="5"/>
                    </a:lnTo>
                    <a:cubicBezTo>
                      <a:pt x="657" y="5"/>
                      <a:pt x="656" y="4"/>
                      <a:pt x="656" y="3"/>
                    </a:cubicBezTo>
                    <a:cubicBezTo>
                      <a:pt x="656" y="1"/>
                      <a:pt x="657" y="1"/>
                      <a:pt x="658" y="1"/>
                    </a:cubicBezTo>
                    <a:close/>
                    <a:moveTo>
                      <a:pt x="666" y="1"/>
                    </a:moveTo>
                    <a:lnTo>
                      <a:pt x="666" y="1"/>
                    </a:lnTo>
                    <a:cubicBezTo>
                      <a:pt x="667" y="1"/>
                      <a:pt x="668" y="1"/>
                      <a:pt x="668" y="3"/>
                    </a:cubicBezTo>
                    <a:cubicBezTo>
                      <a:pt x="668" y="4"/>
                      <a:pt x="667" y="5"/>
                      <a:pt x="666" y="5"/>
                    </a:cubicBezTo>
                    <a:lnTo>
                      <a:pt x="666" y="5"/>
                    </a:lnTo>
                    <a:cubicBezTo>
                      <a:pt x="665" y="5"/>
                      <a:pt x="664" y="4"/>
                      <a:pt x="664" y="3"/>
                    </a:cubicBezTo>
                    <a:cubicBezTo>
                      <a:pt x="664" y="1"/>
                      <a:pt x="665" y="1"/>
                      <a:pt x="666" y="1"/>
                    </a:cubicBezTo>
                    <a:close/>
                    <a:moveTo>
                      <a:pt x="674" y="1"/>
                    </a:moveTo>
                    <a:lnTo>
                      <a:pt x="674" y="1"/>
                    </a:lnTo>
                    <a:cubicBezTo>
                      <a:pt x="675" y="1"/>
                      <a:pt x="676" y="1"/>
                      <a:pt x="676" y="3"/>
                    </a:cubicBezTo>
                    <a:cubicBezTo>
                      <a:pt x="676" y="4"/>
                      <a:pt x="675" y="5"/>
                      <a:pt x="674" y="5"/>
                    </a:cubicBezTo>
                    <a:lnTo>
                      <a:pt x="674" y="5"/>
                    </a:lnTo>
                    <a:cubicBezTo>
                      <a:pt x="673" y="5"/>
                      <a:pt x="672" y="4"/>
                      <a:pt x="672" y="3"/>
                    </a:cubicBezTo>
                    <a:cubicBezTo>
                      <a:pt x="672" y="1"/>
                      <a:pt x="673" y="1"/>
                      <a:pt x="674" y="1"/>
                    </a:cubicBezTo>
                    <a:close/>
                    <a:moveTo>
                      <a:pt x="682" y="1"/>
                    </a:moveTo>
                    <a:lnTo>
                      <a:pt x="682" y="1"/>
                    </a:lnTo>
                    <a:cubicBezTo>
                      <a:pt x="683" y="1"/>
                      <a:pt x="684" y="1"/>
                      <a:pt x="684" y="3"/>
                    </a:cubicBezTo>
                    <a:cubicBezTo>
                      <a:pt x="684" y="4"/>
                      <a:pt x="683" y="5"/>
                      <a:pt x="682" y="5"/>
                    </a:cubicBezTo>
                    <a:lnTo>
                      <a:pt x="682" y="5"/>
                    </a:lnTo>
                    <a:cubicBezTo>
                      <a:pt x="681" y="5"/>
                      <a:pt x="680" y="4"/>
                      <a:pt x="680" y="3"/>
                    </a:cubicBezTo>
                    <a:cubicBezTo>
                      <a:pt x="680" y="1"/>
                      <a:pt x="681" y="1"/>
                      <a:pt x="682" y="1"/>
                    </a:cubicBezTo>
                    <a:close/>
                    <a:moveTo>
                      <a:pt x="690" y="1"/>
                    </a:moveTo>
                    <a:lnTo>
                      <a:pt x="690" y="1"/>
                    </a:lnTo>
                    <a:cubicBezTo>
                      <a:pt x="691" y="1"/>
                      <a:pt x="692" y="1"/>
                      <a:pt x="692" y="3"/>
                    </a:cubicBezTo>
                    <a:cubicBezTo>
                      <a:pt x="692" y="4"/>
                      <a:pt x="691" y="5"/>
                      <a:pt x="690" y="5"/>
                    </a:cubicBezTo>
                    <a:lnTo>
                      <a:pt x="690" y="5"/>
                    </a:lnTo>
                    <a:cubicBezTo>
                      <a:pt x="689" y="5"/>
                      <a:pt x="688" y="4"/>
                      <a:pt x="688" y="3"/>
                    </a:cubicBezTo>
                    <a:cubicBezTo>
                      <a:pt x="688" y="1"/>
                      <a:pt x="689" y="1"/>
                      <a:pt x="690" y="1"/>
                    </a:cubicBezTo>
                    <a:close/>
                    <a:moveTo>
                      <a:pt x="698" y="1"/>
                    </a:moveTo>
                    <a:lnTo>
                      <a:pt x="698" y="1"/>
                    </a:lnTo>
                    <a:cubicBezTo>
                      <a:pt x="699" y="1"/>
                      <a:pt x="700" y="1"/>
                      <a:pt x="700" y="3"/>
                    </a:cubicBezTo>
                    <a:cubicBezTo>
                      <a:pt x="700" y="4"/>
                      <a:pt x="699" y="5"/>
                      <a:pt x="698" y="5"/>
                    </a:cubicBezTo>
                    <a:lnTo>
                      <a:pt x="698" y="5"/>
                    </a:lnTo>
                    <a:cubicBezTo>
                      <a:pt x="697" y="5"/>
                      <a:pt x="696" y="4"/>
                      <a:pt x="696" y="3"/>
                    </a:cubicBezTo>
                    <a:cubicBezTo>
                      <a:pt x="696" y="1"/>
                      <a:pt x="697" y="1"/>
                      <a:pt x="698" y="1"/>
                    </a:cubicBezTo>
                    <a:close/>
                    <a:moveTo>
                      <a:pt x="706" y="1"/>
                    </a:moveTo>
                    <a:lnTo>
                      <a:pt x="706" y="1"/>
                    </a:lnTo>
                    <a:cubicBezTo>
                      <a:pt x="707" y="1"/>
                      <a:pt x="708" y="1"/>
                      <a:pt x="708" y="3"/>
                    </a:cubicBezTo>
                    <a:cubicBezTo>
                      <a:pt x="708" y="4"/>
                      <a:pt x="707" y="5"/>
                      <a:pt x="706" y="5"/>
                    </a:cubicBezTo>
                    <a:lnTo>
                      <a:pt x="706" y="5"/>
                    </a:lnTo>
                    <a:cubicBezTo>
                      <a:pt x="705" y="5"/>
                      <a:pt x="704" y="4"/>
                      <a:pt x="704" y="3"/>
                    </a:cubicBezTo>
                    <a:cubicBezTo>
                      <a:pt x="704" y="1"/>
                      <a:pt x="705" y="1"/>
                      <a:pt x="706" y="1"/>
                    </a:cubicBezTo>
                    <a:close/>
                    <a:moveTo>
                      <a:pt x="714" y="1"/>
                    </a:moveTo>
                    <a:lnTo>
                      <a:pt x="714" y="1"/>
                    </a:lnTo>
                    <a:cubicBezTo>
                      <a:pt x="715" y="1"/>
                      <a:pt x="716" y="1"/>
                      <a:pt x="716" y="3"/>
                    </a:cubicBezTo>
                    <a:cubicBezTo>
                      <a:pt x="716" y="4"/>
                      <a:pt x="715" y="5"/>
                      <a:pt x="714" y="5"/>
                    </a:cubicBezTo>
                    <a:lnTo>
                      <a:pt x="714" y="5"/>
                    </a:lnTo>
                    <a:cubicBezTo>
                      <a:pt x="713" y="5"/>
                      <a:pt x="712" y="4"/>
                      <a:pt x="712" y="3"/>
                    </a:cubicBezTo>
                    <a:cubicBezTo>
                      <a:pt x="712" y="1"/>
                      <a:pt x="713" y="1"/>
                      <a:pt x="714" y="1"/>
                    </a:cubicBezTo>
                    <a:close/>
                    <a:moveTo>
                      <a:pt x="722" y="1"/>
                    </a:moveTo>
                    <a:lnTo>
                      <a:pt x="722" y="1"/>
                    </a:lnTo>
                    <a:cubicBezTo>
                      <a:pt x="723" y="1"/>
                      <a:pt x="724" y="1"/>
                      <a:pt x="724" y="3"/>
                    </a:cubicBezTo>
                    <a:cubicBezTo>
                      <a:pt x="724" y="4"/>
                      <a:pt x="723" y="5"/>
                      <a:pt x="722" y="5"/>
                    </a:cubicBezTo>
                    <a:lnTo>
                      <a:pt x="722" y="5"/>
                    </a:lnTo>
                    <a:cubicBezTo>
                      <a:pt x="721" y="5"/>
                      <a:pt x="720" y="4"/>
                      <a:pt x="720" y="3"/>
                    </a:cubicBezTo>
                    <a:cubicBezTo>
                      <a:pt x="720" y="1"/>
                      <a:pt x="721" y="1"/>
                      <a:pt x="722" y="1"/>
                    </a:cubicBezTo>
                    <a:close/>
                    <a:moveTo>
                      <a:pt x="730" y="1"/>
                    </a:moveTo>
                    <a:lnTo>
                      <a:pt x="730" y="1"/>
                    </a:lnTo>
                    <a:cubicBezTo>
                      <a:pt x="731" y="1"/>
                      <a:pt x="732" y="1"/>
                      <a:pt x="732" y="3"/>
                    </a:cubicBezTo>
                    <a:cubicBezTo>
                      <a:pt x="732" y="4"/>
                      <a:pt x="731" y="5"/>
                      <a:pt x="730" y="5"/>
                    </a:cubicBezTo>
                    <a:lnTo>
                      <a:pt x="730" y="5"/>
                    </a:lnTo>
                    <a:cubicBezTo>
                      <a:pt x="729" y="5"/>
                      <a:pt x="728" y="4"/>
                      <a:pt x="728" y="3"/>
                    </a:cubicBezTo>
                    <a:cubicBezTo>
                      <a:pt x="728" y="1"/>
                      <a:pt x="729" y="1"/>
                      <a:pt x="730" y="1"/>
                    </a:cubicBezTo>
                    <a:close/>
                    <a:moveTo>
                      <a:pt x="738" y="1"/>
                    </a:moveTo>
                    <a:lnTo>
                      <a:pt x="738" y="1"/>
                    </a:lnTo>
                    <a:cubicBezTo>
                      <a:pt x="739" y="1"/>
                      <a:pt x="740" y="1"/>
                      <a:pt x="740" y="3"/>
                    </a:cubicBezTo>
                    <a:cubicBezTo>
                      <a:pt x="740" y="4"/>
                      <a:pt x="739" y="5"/>
                      <a:pt x="738" y="5"/>
                    </a:cubicBezTo>
                    <a:lnTo>
                      <a:pt x="738" y="5"/>
                    </a:lnTo>
                    <a:cubicBezTo>
                      <a:pt x="737" y="5"/>
                      <a:pt x="736" y="4"/>
                      <a:pt x="736" y="3"/>
                    </a:cubicBezTo>
                    <a:cubicBezTo>
                      <a:pt x="736" y="1"/>
                      <a:pt x="737" y="1"/>
                      <a:pt x="738" y="1"/>
                    </a:cubicBezTo>
                    <a:close/>
                    <a:moveTo>
                      <a:pt x="746" y="1"/>
                    </a:moveTo>
                    <a:lnTo>
                      <a:pt x="746" y="1"/>
                    </a:lnTo>
                    <a:cubicBezTo>
                      <a:pt x="747" y="1"/>
                      <a:pt x="748" y="1"/>
                      <a:pt x="748" y="3"/>
                    </a:cubicBezTo>
                    <a:cubicBezTo>
                      <a:pt x="748" y="4"/>
                      <a:pt x="747" y="5"/>
                      <a:pt x="746" y="5"/>
                    </a:cubicBezTo>
                    <a:lnTo>
                      <a:pt x="746" y="5"/>
                    </a:lnTo>
                    <a:cubicBezTo>
                      <a:pt x="745" y="5"/>
                      <a:pt x="744" y="4"/>
                      <a:pt x="744" y="3"/>
                    </a:cubicBezTo>
                    <a:cubicBezTo>
                      <a:pt x="744" y="1"/>
                      <a:pt x="745" y="1"/>
                      <a:pt x="746" y="1"/>
                    </a:cubicBezTo>
                    <a:close/>
                    <a:moveTo>
                      <a:pt x="754" y="1"/>
                    </a:moveTo>
                    <a:lnTo>
                      <a:pt x="754" y="1"/>
                    </a:lnTo>
                    <a:cubicBezTo>
                      <a:pt x="755" y="1"/>
                      <a:pt x="756" y="1"/>
                      <a:pt x="756" y="3"/>
                    </a:cubicBezTo>
                    <a:cubicBezTo>
                      <a:pt x="756" y="4"/>
                      <a:pt x="755" y="5"/>
                      <a:pt x="754" y="5"/>
                    </a:cubicBezTo>
                    <a:lnTo>
                      <a:pt x="754" y="5"/>
                    </a:lnTo>
                    <a:cubicBezTo>
                      <a:pt x="753" y="5"/>
                      <a:pt x="752" y="4"/>
                      <a:pt x="752" y="3"/>
                    </a:cubicBezTo>
                    <a:cubicBezTo>
                      <a:pt x="752" y="1"/>
                      <a:pt x="753" y="1"/>
                      <a:pt x="754" y="1"/>
                    </a:cubicBezTo>
                    <a:close/>
                    <a:moveTo>
                      <a:pt x="762" y="1"/>
                    </a:moveTo>
                    <a:lnTo>
                      <a:pt x="762" y="1"/>
                    </a:lnTo>
                    <a:cubicBezTo>
                      <a:pt x="763" y="1"/>
                      <a:pt x="764" y="1"/>
                      <a:pt x="764" y="3"/>
                    </a:cubicBezTo>
                    <a:cubicBezTo>
                      <a:pt x="764" y="4"/>
                      <a:pt x="763" y="5"/>
                      <a:pt x="762" y="5"/>
                    </a:cubicBezTo>
                    <a:lnTo>
                      <a:pt x="762" y="5"/>
                    </a:lnTo>
                    <a:cubicBezTo>
                      <a:pt x="761" y="5"/>
                      <a:pt x="760" y="4"/>
                      <a:pt x="760" y="3"/>
                    </a:cubicBezTo>
                    <a:cubicBezTo>
                      <a:pt x="760" y="1"/>
                      <a:pt x="761" y="1"/>
                      <a:pt x="762" y="1"/>
                    </a:cubicBezTo>
                    <a:close/>
                    <a:moveTo>
                      <a:pt x="770" y="1"/>
                    </a:moveTo>
                    <a:lnTo>
                      <a:pt x="770" y="1"/>
                    </a:lnTo>
                    <a:cubicBezTo>
                      <a:pt x="771" y="1"/>
                      <a:pt x="772" y="1"/>
                      <a:pt x="772" y="3"/>
                    </a:cubicBezTo>
                    <a:cubicBezTo>
                      <a:pt x="772" y="4"/>
                      <a:pt x="771" y="5"/>
                      <a:pt x="770" y="5"/>
                    </a:cubicBezTo>
                    <a:lnTo>
                      <a:pt x="770" y="5"/>
                    </a:lnTo>
                    <a:cubicBezTo>
                      <a:pt x="769" y="5"/>
                      <a:pt x="768" y="4"/>
                      <a:pt x="768" y="3"/>
                    </a:cubicBezTo>
                    <a:cubicBezTo>
                      <a:pt x="768" y="1"/>
                      <a:pt x="769" y="1"/>
                      <a:pt x="770" y="1"/>
                    </a:cubicBezTo>
                    <a:close/>
                    <a:moveTo>
                      <a:pt x="778" y="1"/>
                    </a:moveTo>
                    <a:lnTo>
                      <a:pt x="778" y="1"/>
                    </a:lnTo>
                    <a:cubicBezTo>
                      <a:pt x="779" y="1"/>
                      <a:pt x="780" y="1"/>
                      <a:pt x="780" y="3"/>
                    </a:cubicBezTo>
                    <a:cubicBezTo>
                      <a:pt x="780" y="4"/>
                      <a:pt x="779" y="5"/>
                      <a:pt x="778" y="5"/>
                    </a:cubicBezTo>
                    <a:lnTo>
                      <a:pt x="778" y="5"/>
                    </a:lnTo>
                    <a:cubicBezTo>
                      <a:pt x="777" y="5"/>
                      <a:pt x="776" y="4"/>
                      <a:pt x="776" y="3"/>
                    </a:cubicBezTo>
                    <a:cubicBezTo>
                      <a:pt x="776" y="1"/>
                      <a:pt x="777" y="1"/>
                      <a:pt x="778" y="1"/>
                    </a:cubicBezTo>
                    <a:close/>
                    <a:moveTo>
                      <a:pt x="786" y="1"/>
                    </a:moveTo>
                    <a:lnTo>
                      <a:pt x="786" y="1"/>
                    </a:lnTo>
                    <a:cubicBezTo>
                      <a:pt x="787" y="1"/>
                      <a:pt x="788" y="1"/>
                      <a:pt x="788" y="3"/>
                    </a:cubicBezTo>
                    <a:cubicBezTo>
                      <a:pt x="788" y="4"/>
                      <a:pt x="787" y="5"/>
                      <a:pt x="786" y="5"/>
                    </a:cubicBezTo>
                    <a:lnTo>
                      <a:pt x="786" y="5"/>
                    </a:lnTo>
                    <a:cubicBezTo>
                      <a:pt x="785" y="5"/>
                      <a:pt x="784" y="4"/>
                      <a:pt x="784" y="3"/>
                    </a:cubicBezTo>
                    <a:cubicBezTo>
                      <a:pt x="784" y="1"/>
                      <a:pt x="785" y="1"/>
                      <a:pt x="786" y="1"/>
                    </a:cubicBezTo>
                    <a:close/>
                    <a:moveTo>
                      <a:pt x="794" y="1"/>
                    </a:moveTo>
                    <a:lnTo>
                      <a:pt x="794" y="1"/>
                    </a:lnTo>
                    <a:cubicBezTo>
                      <a:pt x="795" y="1"/>
                      <a:pt x="796" y="1"/>
                      <a:pt x="796" y="3"/>
                    </a:cubicBezTo>
                    <a:cubicBezTo>
                      <a:pt x="796" y="4"/>
                      <a:pt x="795" y="5"/>
                      <a:pt x="794" y="5"/>
                    </a:cubicBezTo>
                    <a:lnTo>
                      <a:pt x="794" y="5"/>
                    </a:lnTo>
                    <a:cubicBezTo>
                      <a:pt x="793" y="5"/>
                      <a:pt x="792" y="4"/>
                      <a:pt x="792" y="3"/>
                    </a:cubicBezTo>
                    <a:cubicBezTo>
                      <a:pt x="792" y="1"/>
                      <a:pt x="793" y="1"/>
                      <a:pt x="794" y="1"/>
                    </a:cubicBezTo>
                    <a:close/>
                    <a:moveTo>
                      <a:pt x="802" y="1"/>
                    </a:moveTo>
                    <a:lnTo>
                      <a:pt x="802" y="1"/>
                    </a:lnTo>
                    <a:cubicBezTo>
                      <a:pt x="803" y="1"/>
                      <a:pt x="804" y="1"/>
                      <a:pt x="804" y="3"/>
                    </a:cubicBezTo>
                    <a:cubicBezTo>
                      <a:pt x="804" y="4"/>
                      <a:pt x="803" y="5"/>
                      <a:pt x="802" y="5"/>
                    </a:cubicBezTo>
                    <a:lnTo>
                      <a:pt x="802" y="5"/>
                    </a:lnTo>
                    <a:cubicBezTo>
                      <a:pt x="801" y="5"/>
                      <a:pt x="800" y="4"/>
                      <a:pt x="800" y="3"/>
                    </a:cubicBezTo>
                    <a:cubicBezTo>
                      <a:pt x="800" y="1"/>
                      <a:pt x="801" y="1"/>
                      <a:pt x="802" y="1"/>
                    </a:cubicBezTo>
                    <a:close/>
                    <a:moveTo>
                      <a:pt x="810" y="1"/>
                    </a:moveTo>
                    <a:lnTo>
                      <a:pt x="810" y="1"/>
                    </a:lnTo>
                    <a:cubicBezTo>
                      <a:pt x="811" y="1"/>
                      <a:pt x="812" y="1"/>
                      <a:pt x="812" y="3"/>
                    </a:cubicBezTo>
                    <a:cubicBezTo>
                      <a:pt x="812" y="4"/>
                      <a:pt x="811" y="5"/>
                      <a:pt x="810" y="5"/>
                    </a:cubicBezTo>
                    <a:lnTo>
                      <a:pt x="810" y="5"/>
                    </a:lnTo>
                    <a:cubicBezTo>
                      <a:pt x="809" y="5"/>
                      <a:pt x="808" y="4"/>
                      <a:pt x="808" y="3"/>
                    </a:cubicBezTo>
                    <a:cubicBezTo>
                      <a:pt x="808" y="1"/>
                      <a:pt x="809" y="1"/>
                      <a:pt x="810" y="1"/>
                    </a:cubicBezTo>
                    <a:close/>
                    <a:moveTo>
                      <a:pt x="818" y="1"/>
                    </a:moveTo>
                    <a:lnTo>
                      <a:pt x="818" y="1"/>
                    </a:lnTo>
                    <a:cubicBezTo>
                      <a:pt x="819" y="1"/>
                      <a:pt x="820" y="1"/>
                      <a:pt x="820" y="3"/>
                    </a:cubicBezTo>
                    <a:cubicBezTo>
                      <a:pt x="820" y="4"/>
                      <a:pt x="819" y="5"/>
                      <a:pt x="818" y="5"/>
                    </a:cubicBezTo>
                    <a:lnTo>
                      <a:pt x="818" y="5"/>
                    </a:lnTo>
                    <a:cubicBezTo>
                      <a:pt x="817" y="5"/>
                      <a:pt x="816" y="4"/>
                      <a:pt x="816" y="3"/>
                    </a:cubicBezTo>
                    <a:cubicBezTo>
                      <a:pt x="816" y="1"/>
                      <a:pt x="817" y="1"/>
                      <a:pt x="818" y="1"/>
                    </a:cubicBezTo>
                    <a:close/>
                    <a:moveTo>
                      <a:pt x="826" y="1"/>
                    </a:moveTo>
                    <a:lnTo>
                      <a:pt x="826" y="1"/>
                    </a:lnTo>
                    <a:cubicBezTo>
                      <a:pt x="827" y="1"/>
                      <a:pt x="828" y="1"/>
                      <a:pt x="828" y="3"/>
                    </a:cubicBezTo>
                    <a:cubicBezTo>
                      <a:pt x="828" y="4"/>
                      <a:pt x="827" y="5"/>
                      <a:pt x="826" y="5"/>
                    </a:cubicBezTo>
                    <a:lnTo>
                      <a:pt x="826" y="5"/>
                    </a:lnTo>
                    <a:cubicBezTo>
                      <a:pt x="825" y="5"/>
                      <a:pt x="824" y="4"/>
                      <a:pt x="824" y="3"/>
                    </a:cubicBezTo>
                    <a:cubicBezTo>
                      <a:pt x="824" y="1"/>
                      <a:pt x="825" y="1"/>
                      <a:pt x="826" y="1"/>
                    </a:cubicBezTo>
                    <a:close/>
                    <a:moveTo>
                      <a:pt x="834" y="1"/>
                    </a:moveTo>
                    <a:lnTo>
                      <a:pt x="834" y="1"/>
                    </a:lnTo>
                    <a:cubicBezTo>
                      <a:pt x="835" y="1"/>
                      <a:pt x="836" y="1"/>
                      <a:pt x="836" y="3"/>
                    </a:cubicBezTo>
                    <a:cubicBezTo>
                      <a:pt x="836" y="4"/>
                      <a:pt x="835" y="5"/>
                      <a:pt x="834" y="5"/>
                    </a:cubicBezTo>
                    <a:lnTo>
                      <a:pt x="834" y="5"/>
                    </a:lnTo>
                    <a:cubicBezTo>
                      <a:pt x="833" y="5"/>
                      <a:pt x="832" y="4"/>
                      <a:pt x="832" y="3"/>
                    </a:cubicBezTo>
                    <a:cubicBezTo>
                      <a:pt x="832" y="1"/>
                      <a:pt x="833" y="1"/>
                      <a:pt x="834" y="1"/>
                    </a:cubicBezTo>
                    <a:close/>
                    <a:moveTo>
                      <a:pt x="842" y="1"/>
                    </a:moveTo>
                    <a:lnTo>
                      <a:pt x="842" y="1"/>
                    </a:lnTo>
                    <a:cubicBezTo>
                      <a:pt x="843" y="1"/>
                      <a:pt x="844" y="1"/>
                      <a:pt x="844" y="3"/>
                    </a:cubicBezTo>
                    <a:cubicBezTo>
                      <a:pt x="844" y="4"/>
                      <a:pt x="843" y="5"/>
                      <a:pt x="842" y="5"/>
                    </a:cubicBezTo>
                    <a:lnTo>
                      <a:pt x="842" y="5"/>
                    </a:lnTo>
                    <a:cubicBezTo>
                      <a:pt x="841" y="5"/>
                      <a:pt x="840" y="4"/>
                      <a:pt x="840" y="3"/>
                    </a:cubicBezTo>
                    <a:cubicBezTo>
                      <a:pt x="840" y="1"/>
                      <a:pt x="841" y="1"/>
                      <a:pt x="842" y="1"/>
                    </a:cubicBezTo>
                    <a:close/>
                    <a:moveTo>
                      <a:pt x="850" y="1"/>
                    </a:moveTo>
                    <a:lnTo>
                      <a:pt x="850" y="1"/>
                    </a:lnTo>
                    <a:cubicBezTo>
                      <a:pt x="851" y="1"/>
                      <a:pt x="852" y="1"/>
                      <a:pt x="852" y="3"/>
                    </a:cubicBezTo>
                    <a:cubicBezTo>
                      <a:pt x="852" y="4"/>
                      <a:pt x="851" y="5"/>
                      <a:pt x="850" y="5"/>
                    </a:cubicBezTo>
                    <a:lnTo>
                      <a:pt x="850" y="5"/>
                    </a:lnTo>
                    <a:cubicBezTo>
                      <a:pt x="849" y="5"/>
                      <a:pt x="848" y="4"/>
                      <a:pt x="848" y="3"/>
                    </a:cubicBezTo>
                    <a:cubicBezTo>
                      <a:pt x="848" y="1"/>
                      <a:pt x="849" y="1"/>
                      <a:pt x="850" y="1"/>
                    </a:cubicBezTo>
                    <a:close/>
                    <a:moveTo>
                      <a:pt x="858" y="1"/>
                    </a:moveTo>
                    <a:lnTo>
                      <a:pt x="858" y="1"/>
                    </a:lnTo>
                    <a:cubicBezTo>
                      <a:pt x="859" y="1"/>
                      <a:pt x="860" y="1"/>
                      <a:pt x="860" y="3"/>
                    </a:cubicBezTo>
                    <a:cubicBezTo>
                      <a:pt x="860" y="4"/>
                      <a:pt x="859" y="5"/>
                      <a:pt x="858" y="5"/>
                    </a:cubicBezTo>
                    <a:lnTo>
                      <a:pt x="858" y="5"/>
                    </a:lnTo>
                    <a:cubicBezTo>
                      <a:pt x="857" y="5"/>
                      <a:pt x="856" y="4"/>
                      <a:pt x="856" y="3"/>
                    </a:cubicBezTo>
                    <a:cubicBezTo>
                      <a:pt x="856" y="1"/>
                      <a:pt x="857" y="1"/>
                      <a:pt x="858" y="1"/>
                    </a:cubicBezTo>
                    <a:close/>
                    <a:moveTo>
                      <a:pt x="866" y="1"/>
                    </a:moveTo>
                    <a:lnTo>
                      <a:pt x="866" y="1"/>
                    </a:lnTo>
                    <a:cubicBezTo>
                      <a:pt x="867" y="1"/>
                      <a:pt x="868" y="1"/>
                      <a:pt x="868" y="3"/>
                    </a:cubicBezTo>
                    <a:cubicBezTo>
                      <a:pt x="868" y="4"/>
                      <a:pt x="867" y="5"/>
                      <a:pt x="866" y="5"/>
                    </a:cubicBezTo>
                    <a:lnTo>
                      <a:pt x="866" y="5"/>
                    </a:lnTo>
                    <a:cubicBezTo>
                      <a:pt x="865" y="5"/>
                      <a:pt x="864" y="4"/>
                      <a:pt x="864" y="3"/>
                    </a:cubicBezTo>
                    <a:cubicBezTo>
                      <a:pt x="864" y="1"/>
                      <a:pt x="865" y="1"/>
                      <a:pt x="866" y="1"/>
                    </a:cubicBezTo>
                    <a:close/>
                    <a:moveTo>
                      <a:pt x="874" y="1"/>
                    </a:moveTo>
                    <a:lnTo>
                      <a:pt x="874" y="1"/>
                    </a:lnTo>
                    <a:cubicBezTo>
                      <a:pt x="875" y="1"/>
                      <a:pt x="876" y="1"/>
                      <a:pt x="876" y="3"/>
                    </a:cubicBezTo>
                    <a:cubicBezTo>
                      <a:pt x="876" y="4"/>
                      <a:pt x="875" y="5"/>
                      <a:pt x="874" y="5"/>
                    </a:cubicBezTo>
                    <a:lnTo>
                      <a:pt x="874" y="5"/>
                    </a:lnTo>
                    <a:cubicBezTo>
                      <a:pt x="873" y="5"/>
                      <a:pt x="872" y="4"/>
                      <a:pt x="872" y="3"/>
                    </a:cubicBezTo>
                    <a:cubicBezTo>
                      <a:pt x="872" y="1"/>
                      <a:pt x="873" y="1"/>
                      <a:pt x="874" y="1"/>
                    </a:cubicBezTo>
                    <a:close/>
                    <a:moveTo>
                      <a:pt x="882" y="1"/>
                    </a:moveTo>
                    <a:lnTo>
                      <a:pt x="882" y="1"/>
                    </a:lnTo>
                    <a:cubicBezTo>
                      <a:pt x="883" y="1"/>
                      <a:pt x="884" y="1"/>
                      <a:pt x="884" y="3"/>
                    </a:cubicBezTo>
                    <a:cubicBezTo>
                      <a:pt x="884" y="4"/>
                      <a:pt x="883" y="5"/>
                      <a:pt x="882" y="5"/>
                    </a:cubicBezTo>
                    <a:lnTo>
                      <a:pt x="882" y="5"/>
                    </a:lnTo>
                    <a:cubicBezTo>
                      <a:pt x="881" y="5"/>
                      <a:pt x="880" y="4"/>
                      <a:pt x="880" y="3"/>
                    </a:cubicBezTo>
                    <a:cubicBezTo>
                      <a:pt x="880" y="1"/>
                      <a:pt x="881" y="1"/>
                      <a:pt x="882" y="1"/>
                    </a:cubicBezTo>
                    <a:close/>
                    <a:moveTo>
                      <a:pt x="890" y="1"/>
                    </a:moveTo>
                    <a:lnTo>
                      <a:pt x="890" y="1"/>
                    </a:lnTo>
                    <a:cubicBezTo>
                      <a:pt x="891" y="1"/>
                      <a:pt x="892" y="1"/>
                      <a:pt x="892" y="3"/>
                    </a:cubicBezTo>
                    <a:cubicBezTo>
                      <a:pt x="892" y="4"/>
                      <a:pt x="891" y="5"/>
                      <a:pt x="890" y="5"/>
                    </a:cubicBezTo>
                    <a:lnTo>
                      <a:pt x="890" y="5"/>
                    </a:lnTo>
                    <a:cubicBezTo>
                      <a:pt x="889" y="5"/>
                      <a:pt x="888" y="4"/>
                      <a:pt x="888" y="3"/>
                    </a:cubicBezTo>
                    <a:cubicBezTo>
                      <a:pt x="888" y="1"/>
                      <a:pt x="889" y="1"/>
                      <a:pt x="890" y="1"/>
                    </a:cubicBezTo>
                    <a:close/>
                    <a:moveTo>
                      <a:pt x="898" y="1"/>
                    </a:moveTo>
                    <a:lnTo>
                      <a:pt x="898" y="1"/>
                    </a:lnTo>
                    <a:cubicBezTo>
                      <a:pt x="899" y="1"/>
                      <a:pt x="900" y="1"/>
                      <a:pt x="900" y="3"/>
                    </a:cubicBezTo>
                    <a:cubicBezTo>
                      <a:pt x="900" y="4"/>
                      <a:pt x="899" y="5"/>
                      <a:pt x="898" y="5"/>
                    </a:cubicBezTo>
                    <a:lnTo>
                      <a:pt x="898" y="5"/>
                    </a:lnTo>
                    <a:cubicBezTo>
                      <a:pt x="897" y="5"/>
                      <a:pt x="896" y="4"/>
                      <a:pt x="896" y="3"/>
                    </a:cubicBezTo>
                    <a:cubicBezTo>
                      <a:pt x="896" y="1"/>
                      <a:pt x="897" y="1"/>
                      <a:pt x="898" y="1"/>
                    </a:cubicBezTo>
                    <a:close/>
                    <a:moveTo>
                      <a:pt x="906" y="1"/>
                    </a:moveTo>
                    <a:lnTo>
                      <a:pt x="906" y="1"/>
                    </a:lnTo>
                    <a:cubicBezTo>
                      <a:pt x="907" y="1"/>
                      <a:pt x="908" y="1"/>
                      <a:pt x="908" y="3"/>
                    </a:cubicBezTo>
                    <a:cubicBezTo>
                      <a:pt x="908" y="4"/>
                      <a:pt x="907" y="5"/>
                      <a:pt x="906" y="5"/>
                    </a:cubicBezTo>
                    <a:lnTo>
                      <a:pt x="906" y="5"/>
                    </a:lnTo>
                    <a:cubicBezTo>
                      <a:pt x="905" y="5"/>
                      <a:pt x="904" y="4"/>
                      <a:pt x="904" y="3"/>
                    </a:cubicBezTo>
                    <a:cubicBezTo>
                      <a:pt x="904" y="1"/>
                      <a:pt x="905" y="1"/>
                      <a:pt x="906" y="1"/>
                    </a:cubicBezTo>
                    <a:close/>
                    <a:moveTo>
                      <a:pt x="914" y="1"/>
                    </a:moveTo>
                    <a:lnTo>
                      <a:pt x="914" y="1"/>
                    </a:lnTo>
                    <a:cubicBezTo>
                      <a:pt x="915" y="1"/>
                      <a:pt x="916" y="1"/>
                      <a:pt x="916" y="3"/>
                    </a:cubicBezTo>
                    <a:cubicBezTo>
                      <a:pt x="916" y="4"/>
                      <a:pt x="915" y="5"/>
                      <a:pt x="914" y="5"/>
                    </a:cubicBezTo>
                    <a:lnTo>
                      <a:pt x="914" y="5"/>
                    </a:lnTo>
                    <a:cubicBezTo>
                      <a:pt x="913" y="5"/>
                      <a:pt x="912" y="4"/>
                      <a:pt x="912" y="3"/>
                    </a:cubicBezTo>
                    <a:cubicBezTo>
                      <a:pt x="912" y="1"/>
                      <a:pt x="913" y="1"/>
                      <a:pt x="914" y="1"/>
                    </a:cubicBezTo>
                    <a:close/>
                    <a:moveTo>
                      <a:pt x="922" y="1"/>
                    </a:moveTo>
                    <a:lnTo>
                      <a:pt x="922" y="1"/>
                    </a:lnTo>
                    <a:cubicBezTo>
                      <a:pt x="923" y="1"/>
                      <a:pt x="924" y="1"/>
                      <a:pt x="924" y="3"/>
                    </a:cubicBezTo>
                    <a:cubicBezTo>
                      <a:pt x="924" y="4"/>
                      <a:pt x="923" y="5"/>
                      <a:pt x="922" y="5"/>
                    </a:cubicBezTo>
                    <a:lnTo>
                      <a:pt x="922" y="5"/>
                    </a:lnTo>
                    <a:cubicBezTo>
                      <a:pt x="921" y="5"/>
                      <a:pt x="920" y="4"/>
                      <a:pt x="920" y="3"/>
                    </a:cubicBezTo>
                    <a:cubicBezTo>
                      <a:pt x="920" y="1"/>
                      <a:pt x="921" y="1"/>
                      <a:pt x="922" y="1"/>
                    </a:cubicBezTo>
                    <a:close/>
                    <a:moveTo>
                      <a:pt x="930" y="1"/>
                    </a:moveTo>
                    <a:lnTo>
                      <a:pt x="930" y="1"/>
                    </a:lnTo>
                    <a:cubicBezTo>
                      <a:pt x="931" y="1"/>
                      <a:pt x="932" y="1"/>
                      <a:pt x="932" y="3"/>
                    </a:cubicBezTo>
                    <a:cubicBezTo>
                      <a:pt x="932" y="4"/>
                      <a:pt x="931" y="5"/>
                      <a:pt x="930" y="5"/>
                    </a:cubicBezTo>
                    <a:lnTo>
                      <a:pt x="930" y="5"/>
                    </a:lnTo>
                    <a:cubicBezTo>
                      <a:pt x="929" y="5"/>
                      <a:pt x="928" y="4"/>
                      <a:pt x="928" y="3"/>
                    </a:cubicBezTo>
                    <a:cubicBezTo>
                      <a:pt x="928" y="1"/>
                      <a:pt x="929" y="1"/>
                      <a:pt x="930" y="1"/>
                    </a:cubicBezTo>
                    <a:close/>
                    <a:moveTo>
                      <a:pt x="938" y="1"/>
                    </a:moveTo>
                    <a:lnTo>
                      <a:pt x="938" y="1"/>
                    </a:lnTo>
                    <a:cubicBezTo>
                      <a:pt x="939" y="1"/>
                      <a:pt x="940" y="1"/>
                      <a:pt x="940" y="3"/>
                    </a:cubicBezTo>
                    <a:cubicBezTo>
                      <a:pt x="940" y="4"/>
                      <a:pt x="939" y="5"/>
                      <a:pt x="938" y="5"/>
                    </a:cubicBezTo>
                    <a:lnTo>
                      <a:pt x="938" y="5"/>
                    </a:lnTo>
                    <a:cubicBezTo>
                      <a:pt x="937" y="5"/>
                      <a:pt x="936" y="4"/>
                      <a:pt x="936" y="3"/>
                    </a:cubicBezTo>
                    <a:cubicBezTo>
                      <a:pt x="936" y="1"/>
                      <a:pt x="937" y="1"/>
                      <a:pt x="938" y="1"/>
                    </a:cubicBezTo>
                    <a:close/>
                    <a:moveTo>
                      <a:pt x="946" y="1"/>
                    </a:moveTo>
                    <a:lnTo>
                      <a:pt x="946" y="1"/>
                    </a:lnTo>
                    <a:cubicBezTo>
                      <a:pt x="947" y="1"/>
                      <a:pt x="948" y="1"/>
                      <a:pt x="948" y="3"/>
                    </a:cubicBezTo>
                    <a:cubicBezTo>
                      <a:pt x="948" y="4"/>
                      <a:pt x="947" y="5"/>
                      <a:pt x="946" y="5"/>
                    </a:cubicBezTo>
                    <a:lnTo>
                      <a:pt x="946" y="5"/>
                    </a:lnTo>
                    <a:cubicBezTo>
                      <a:pt x="945" y="5"/>
                      <a:pt x="944" y="4"/>
                      <a:pt x="944" y="3"/>
                    </a:cubicBezTo>
                    <a:cubicBezTo>
                      <a:pt x="944" y="1"/>
                      <a:pt x="945" y="1"/>
                      <a:pt x="946" y="1"/>
                    </a:cubicBezTo>
                    <a:close/>
                    <a:moveTo>
                      <a:pt x="954" y="1"/>
                    </a:moveTo>
                    <a:lnTo>
                      <a:pt x="954" y="1"/>
                    </a:lnTo>
                    <a:cubicBezTo>
                      <a:pt x="955" y="1"/>
                      <a:pt x="956" y="1"/>
                      <a:pt x="956" y="3"/>
                    </a:cubicBezTo>
                    <a:cubicBezTo>
                      <a:pt x="956" y="4"/>
                      <a:pt x="955" y="5"/>
                      <a:pt x="954" y="5"/>
                    </a:cubicBezTo>
                    <a:lnTo>
                      <a:pt x="954" y="5"/>
                    </a:lnTo>
                    <a:cubicBezTo>
                      <a:pt x="953" y="5"/>
                      <a:pt x="952" y="4"/>
                      <a:pt x="952" y="3"/>
                    </a:cubicBezTo>
                    <a:cubicBezTo>
                      <a:pt x="952" y="1"/>
                      <a:pt x="953" y="1"/>
                      <a:pt x="954" y="1"/>
                    </a:cubicBezTo>
                    <a:close/>
                    <a:moveTo>
                      <a:pt x="962" y="1"/>
                    </a:moveTo>
                    <a:lnTo>
                      <a:pt x="962" y="1"/>
                    </a:lnTo>
                    <a:cubicBezTo>
                      <a:pt x="963" y="1"/>
                      <a:pt x="964" y="1"/>
                      <a:pt x="964" y="3"/>
                    </a:cubicBezTo>
                    <a:cubicBezTo>
                      <a:pt x="964" y="4"/>
                      <a:pt x="963" y="5"/>
                      <a:pt x="962" y="5"/>
                    </a:cubicBezTo>
                    <a:lnTo>
                      <a:pt x="962" y="5"/>
                    </a:lnTo>
                    <a:cubicBezTo>
                      <a:pt x="961" y="5"/>
                      <a:pt x="960" y="4"/>
                      <a:pt x="960" y="3"/>
                    </a:cubicBezTo>
                    <a:cubicBezTo>
                      <a:pt x="960" y="1"/>
                      <a:pt x="961" y="1"/>
                      <a:pt x="962" y="1"/>
                    </a:cubicBezTo>
                    <a:close/>
                    <a:moveTo>
                      <a:pt x="970" y="1"/>
                    </a:moveTo>
                    <a:lnTo>
                      <a:pt x="970" y="1"/>
                    </a:lnTo>
                    <a:cubicBezTo>
                      <a:pt x="971" y="1"/>
                      <a:pt x="972" y="1"/>
                      <a:pt x="972" y="3"/>
                    </a:cubicBezTo>
                    <a:cubicBezTo>
                      <a:pt x="972" y="4"/>
                      <a:pt x="971" y="5"/>
                      <a:pt x="970" y="5"/>
                    </a:cubicBezTo>
                    <a:lnTo>
                      <a:pt x="970" y="5"/>
                    </a:lnTo>
                    <a:cubicBezTo>
                      <a:pt x="969" y="5"/>
                      <a:pt x="968" y="4"/>
                      <a:pt x="968" y="3"/>
                    </a:cubicBezTo>
                    <a:cubicBezTo>
                      <a:pt x="968" y="1"/>
                      <a:pt x="969" y="1"/>
                      <a:pt x="970" y="1"/>
                    </a:cubicBezTo>
                    <a:close/>
                    <a:moveTo>
                      <a:pt x="978" y="1"/>
                    </a:moveTo>
                    <a:lnTo>
                      <a:pt x="978" y="1"/>
                    </a:lnTo>
                    <a:cubicBezTo>
                      <a:pt x="979" y="1"/>
                      <a:pt x="980" y="1"/>
                      <a:pt x="980" y="3"/>
                    </a:cubicBezTo>
                    <a:cubicBezTo>
                      <a:pt x="980" y="4"/>
                      <a:pt x="979" y="5"/>
                      <a:pt x="978" y="5"/>
                    </a:cubicBezTo>
                    <a:lnTo>
                      <a:pt x="978" y="5"/>
                    </a:lnTo>
                    <a:cubicBezTo>
                      <a:pt x="977" y="5"/>
                      <a:pt x="976" y="4"/>
                      <a:pt x="976" y="3"/>
                    </a:cubicBezTo>
                    <a:cubicBezTo>
                      <a:pt x="976" y="1"/>
                      <a:pt x="977" y="1"/>
                      <a:pt x="978" y="1"/>
                    </a:cubicBezTo>
                    <a:close/>
                    <a:moveTo>
                      <a:pt x="986" y="1"/>
                    </a:moveTo>
                    <a:lnTo>
                      <a:pt x="986" y="1"/>
                    </a:lnTo>
                    <a:cubicBezTo>
                      <a:pt x="987" y="1"/>
                      <a:pt x="988" y="1"/>
                      <a:pt x="988" y="3"/>
                    </a:cubicBezTo>
                    <a:cubicBezTo>
                      <a:pt x="988" y="4"/>
                      <a:pt x="987" y="5"/>
                      <a:pt x="986" y="5"/>
                    </a:cubicBezTo>
                    <a:lnTo>
                      <a:pt x="986" y="5"/>
                    </a:lnTo>
                    <a:cubicBezTo>
                      <a:pt x="985" y="5"/>
                      <a:pt x="984" y="4"/>
                      <a:pt x="984" y="3"/>
                    </a:cubicBezTo>
                    <a:cubicBezTo>
                      <a:pt x="984" y="1"/>
                      <a:pt x="985" y="1"/>
                      <a:pt x="986" y="1"/>
                    </a:cubicBezTo>
                    <a:close/>
                    <a:moveTo>
                      <a:pt x="994" y="1"/>
                    </a:moveTo>
                    <a:lnTo>
                      <a:pt x="994" y="1"/>
                    </a:lnTo>
                    <a:cubicBezTo>
                      <a:pt x="995" y="1"/>
                      <a:pt x="996" y="1"/>
                      <a:pt x="996" y="3"/>
                    </a:cubicBezTo>
                    <a:cubicBezTo>
                      <a:pt x="996" y="4"/>
                      <a:pt x="995" y="5"/>
                      <a:pt x="994" y="5"/>
                    </a:cubicBezTo>
                    <a:lnTo>
                      <a:pt x="994" y="5"/>
                    </a:lnTo>
                    <a:cubicBezTo>
                      <a:pt x="993" y="5"/>
                      <a:pt x="992" y="4"/>
                      <a:pt x="992" y="3"/>
                    </a:cubicBezTo>
                    <a:cubicBezTo>
                      <a:pt x="992" y="1"/>
                      <a:pt x="993" y="1"/>
                      <a:pt x="994" y="1"/>
                    </a:cubicBezTo>
                    <a:close/>
                    <a:moveTo>
                      <a:pt x="1002" y="1"/>
                    </a:moveTo>
                    <a:lnTo>
                      <a:pt x="1002" y="1"/>
                    </a:lnTo>
                    <a:cubicBezTo>
                      <a:pt x="1003" y="1"/>
                      <a:pt x="1004" y="1"/>
                      <a:pt x="1004" y="3"/>
                    </a:cubicBezTo>
                    <a:cubicBezTo>
                      <a:pt x="1004" y="4"/>
                      <a:pt x="1003" y="5"/>
                      <a:pt x="1002" y="5"/>
                    </a:cubicBezTo>
                    <a:lnTo>
                      <a:pt x="1002" y="5"/>
                    </a:lnTo>
                    <a:cubicBezTo>
                      <a:pt x="1001" y="5"/>
                      <a:pt x="1000" y="4"/>
                      <a:pt x="1000" y="3"/>
                    </a:cubicBezTo>
                    <a:cubicBezTo>
                      <a:pt x="1000" y="1"/>
                      <a:pt x="1001" y="1"/>
                      <a:pt x="1002" y="1"/>
                    </a:cubicBezTo>
                    <a:close/>
                    <a:moveTo>
                      <a:pt x="1010" y="1"/>
                    </a:moveTo>
                    <a:lnTo>
                      <a:pt x="1010" y="1"/>
                    </a:lnTo>
                    <a:cubicBezTo>
                      <a:pt x="1011" y="1"/>
                      <a:pt x="1012" y="1"/>
                      <a:pt x="1012" y="3"/>
                    </a:cubicBezTo>
                    <a:cubicBezTo>
                      <a:pt x="1012" y="4"/>
                      <a:pt x="1011" y="5"/>
                      <a:pt x="1010" y="5"/>
                    </a:cubicBezTo>
                    <a:lnTo>
                      <a:pt x="1010" y="5"/>
                    </a:lnTo>
                    <a:cubicBezTo>
                      <a:pt x="1009" y="5"/>
                      <a:pt x="1008" y="4"/>
                      <a:pt x="1008" y="3"/>
                    </a:cubicBezTo>
                    <a:cubicBezTo>
                      <a:pt x="1008" y="1"/>
                      <a:pt x="1009" y="1"/>
                      <a:pt x="1010" y="1"/>
                    </a:cubicBezTo>
                    <a:close/>
                    <a:moveTo>
                      <a:pt x="1018" y="1"/>
                    </a:moveTo>
                    <a:lnTo>
                      <a:pt x="1018" y="1"/>
                    </a:lnTo>
                    <a:cubicBezTo>
                      <a:pt x="1019" y="1"/>
                      <a:pt x="1020" y="1"/>
                      <a:pt x="1020" y="3"/>
                    </a:cubicBezTo>
                    <a:cubicBezTo>
                      <a:pt x="1020" y="4"/>
                      <a:pt x="1019" y="5"/>
                      <a:pt x="1018" y="5"/>
                    </a:cubicBezTo>
                    <a:lnTo>
                      <a:pt x="1018" y="5"/>
                    </a:lnTo>
                    <a:cubicBezTo>
                      <a:pt x="1017" y="5"/>
                      <a:pt x="1016" y="4"/>
                      <a:pt x="1016" y="3"/>
                    </a:cubicBezTo>
                    <a:cubicBezTo>
                      <a:pt x="1016" y="1"/>
                      <a:pt x="1017" y="1"/>
                      <a:pt x="1018" y="1"/>
                    </a:cubicBezTo>
                    <a:close/>
                    <a:moveTo>
                      <a:pt x="1026" y="1"/>
                    </a:moveTo>
                    <a:lnTo>
                      <a:pt x="1026" y="1"/>
                    </a:lnTo>
                    <a:cubicBezTo>
                      <a:pt x="1027" y="1"/>
                      <a:pt x="1028" y="1"/>
                      <a:pt x="1028" y="3"/>
                    </a:cubicBezTo>
                    <a:cubicBezTo>
                      <a:pt x="1028" y="4"/>
                      <a:pt x="1027" y="5"/>
                      <a:pt x="1026" y="5"/>
                    </a:cubicBezTo>
                    <a:lnTo>
                      <a:pt x="1026" y="5"/>
                    </a:lnTo>
                    <a:cubicBezTo>
                      <a:pt x="1025" y="5"/>
                      <a:pt x="1024" y="4"/>
                      <a:pt x="1024" y="3"/>
                    </a:cubicBezTo>
                    <a:cubicBezTo>
                      <a:pt x="1024" y="1"/>
                      <a:pt x="1025" y="1"/>
                      <a:pt x="1026" y="1"/>
                    </a:cubicBezTo>
                    <a:close/>
                    <a:moveTo>
                      <a:pt x="1034" y="1"/>
                    </a:moveTo>
                    <a:lnTo>
                      <a:pt x="1034" y="1"/>
                    </a:lnTo>
                    <a:cubicBezTo>
                      <a:pt x="1035" y="1"/>
                      <a:pt x="1036" y="1"/>
                      <a:pt x="1036" y="3"/>
                    </a:cubicBezTo>
                    <a:cubicBezTo>
                      <a:pt x="1036" y="4"/>
                      <a:pt x="1035" y="5"/>
                      <a:pt x="1034" y="5"/>
                    </a:cubicBezTo>
                    <a:lnTo>
                      <a:pt x="1034" y="5"/>
                    </a:lnTo>
                    <a:cubicBezTo>
                      <a:pt x="1033" y="5"/>
                      <a:pt x="1032" y="4"/>
                      <a:pt x="1032" y="3"/>
                    </a:cubicBezTo>
                    <a:cubicBezTo>
                      <a:pt x="1032" y="1"/>
                      <a:pt x="1033" y="1"/>
                      <a:pt x="1034" y="1"/>
                    </a:cubicBezTo>
                    <a:close/>
                    <a:moveTo>
                      <a:pt x="1042" y="1"/>
                    </a:moveTo>
                    <a:lnTo>
                      <a:pt x="1042" y="1"/>
                    </a:lnTo>
                    <a:cubicBezTo>
                      <a:pt x="1043" y="1"/>
                      <a:pt x="1044" y="1"/>
                      <a:pt x="1044" y="3"/>
                    </a:cubicBezTo>
                    <a:cubicBezTo>
                      <a:pt x="1044" y="4"/>
                      <a:pt x="1043" y="5"/>
                      <a:pt x="1042" y="5"/>
                    </a:cubicBezTo>
                    <a:lnTo>
                      <a:pt x="1042" y="5"/>
                    </a:lnTo>
                    <a:cubicBezTo>
                      <a:pt x="1041" y="5"/>
                      <a:pt x="1040" y="4"/>
                      <a:pt x="1040" y="3"/>
                    </a:cubicBezTo>
                    <a:cubicBezTo>
                      <a:pt x="1040" y="1"/>
                      <a:pt x="1041" y="1"/>
                      <a:pt x="1042" y="1"/>
                    </a:cubicBezTo>
                    <a:close/>
                    <a:moveTo>
                      <a:pt x="1050" y="1"/>
                    </a:moveTo>
                    <a:lnTo>
                      <a:pt x="1050" y="1"/>
                    </a:lnTo>
                    <a:cubicBezTo>
                      <a:pt x="1051" y="1"/>
                      <a:pt x="1052" y="1"/>
                      <a:pt x="1052" y="3"/>
                    </a:cubicBezTo>
                    <a:cubicBezTo>
                      <a:pt x="1052" y="4"/>
                      <a:pt x="1051" y="5"/>
                      <a:pt x="1050" y="5"/>
                    </a:cubicBezTo>
                    <a:lnTo>
                      <a:pt x="1050" y="5"/>
                    </a:lnTo>
                    <a:cubicBezTo>
                      <a:pt x="1049" y="5"/>
                      <a:pt x="1048" y="4"/>
                      <a:pt x="1048" y="3"/>
                    </a:cubicBezTo>
                    <a:cubicBezTo>
                      <a:pt x="1048" y="1"/>
                      <a:pt x="1049" y="1"/>
                      <a:pt x="1050" y="1"/>
                    </a:cubicBezTo>
                    <a:close/>
                    <a:moveTo>
                      <a:pt x="1058" y="1"/>
                    </a:moveTo>
                    <a:lnTo>
                      <a:pt x="1058" y="1"/>
                    </a:lnTo>
                    <a:cubicBezTo>
                      <a:pt x="1059" y="1"/>
                      <a:pt x="1060" y="1"/>
                      <a:pt x="1060" y="3"/>
                    </a:cubicBezTo>
                    <a:cubicBezTo>
                      <a:pt x="1060" y="4"/>
                      <a:pt x="1059" y="5"/>
                      <a:pt x="1058" y="5"/>
                    </a:cubicBezTo>
                    <a:lnTo>
                      <a:pt x="1058" y="5"/>
                    </a:lnTo>
                    <a:cubicBezTo>
                      <a:pt x="1057" y="5"/>
                      <a:pt x="1056" y="4"/>
                      <a:pt x="1056" y="3"/>
                    </a:cubicBezTo>
                    <a:cubicBezTo>
                      <a:pt x="1056" y="1"/>
                      <a:pt x="1057" y="1"/>
                      <a:pt x="1058" y="1"/>
                    </a:cubicBezTo>
                    <a:close/>
                    <a:moveTo>
                      <a:pt x="1066" y="1"/>
                    </a:moveTo>
                    <a:lnTo>
                      <a:pt x="1066" y="1"/>
                    </a:lnTo>
                    <a:cubicBezTo>
                      <a:pt x="1067" y="1"/>
                      <a:pt x="1068" y="1"/>
                      <a:pt x="1068" y="3"/>
                    </a:cubicBezTo>
                    <a:cubicBezTo>
                      <a:pt x="1068" y="4"/>
                      <a:pt x="1067" y="5"/>
                      <a:pt x="1066" y="5"/>
                    </a:cubicBezTo>
                    <a:lnTo>
                      <a:pt x="1066" y="5"/>
                    </a:lnTo>
                    <a:cubicBezTo>
                      <a:pt x="1065" y="5"/>
                      <a:pt x="1064" y="4"/>
                      <a:pt x="1064" y="3"/>
                    </a:cubicBezTo>
                    <a:cubicBezTo>
                      <a:pt x="1064" y="1"/>
                      <a:pt x="1065" y="1"/>
                      <a:pt x="1066" y="1"/>
                    </a:cubicBezTo>
                    <a:close/>
                    <a:moveTo>
                      <a:pt x="1074" y="1"/>
                    </a:moveTo>
                    <a:lnTo>
                      <a:pt x="1074" y="1"/>
                    </a:lnTo>
                    <a:cubicBezTo>
                      <a:pt x="1075" y="1"/>
                      <a:pt x="1076" y="1"/>
                      <a:pt x="1076" y="3"/>
                    </a:cubicBezTo>
                    <a:cubicBezTo>
                      <a:pt x="1076" y="4"/>
                      <a:pt x="1075" y="5"/>
                      <a:pt x="1074" y="5"/>
                    </a:cubicBezTo>
                    <a:lnTo>
                      <a:pt x="1074" y="5"/>
                    </a:lnTo>
                    <a:cubicBezTo>
                      <a:pt x="1073" y="5"/>
                      <a:pt x="1072" y="4"/>
                      <a:pt x="1072" y="3"/>
                    </a:cubicBezTo>
                    <a:cubicBezTo>
                      <a:pt x="1072" y="1"/>
                      <a:pt x="1073" y="1"/>
                      <a:pt x="1074" y="1"/>
                    </a:cubicBezTo>
                    <a:close/>
                    <a:moveTo>
                      <a:pt x="1082" y="1"/>
                    </a:moveTo>
                    <a:lnTo>
                      <a:pt x="1082" y="1"/>
                    </a:lnTo>
                    <a:cubicBezTo>
                      <a:pt x="1083" y="1"/>
                      <a:pt x="1084" y="1"/>
                      <a:pt x="1084" y="3"/>
                    </a:cubicBezTo>
                    <a:cubicBezTo>
                      <a:pt x="1084" y="4"/>
                      <a:pt x="1083" y="5"/>
                      <a:pt x="1082" y="5"/>
                    </a:cubicBezTo>
                    <a:lnTo>
                      <a:pt x="1082" y="5"/>
                    </a:lnTo>
                    <a:cubicBezTo>
                      <a:pt x="1081" y="5"/>
                      <a:pt x="1080" y="4"/>
                      <a:pt x="1080" y="3"/>
                    </a:cubicBezTo>
                    <a:cubicBezTo>
                      <a:pt x="1080" y="1"/>
                      <a:pt x="1081" y="1"/>
                      <a:pt x="1082" y="1"/>
                    </a:cubicBezTo>
                    <a:close/>
                    <a:moveTo>
                      <a:pt x="1090" y="1"/>
                    </a:moveTo>
                    <a:lnTo>
                      <a:pt x="1090" y="1"/>
                    </a:lnTo>
                    <a:cubicBezTo>
                      <a:pt x="1091" y="1"/>
                      <a:pt x="1092" y="1"/>
                      <a:pt x="1092" y="3"/>
                    </a:cubicBezTo>
                    <a:cubicBezTo>
                      <a:pt x="1092" y="4"/>
                      <a:pt x="1091" y="5"/>
                      <a:pt x="1090" y="5"/>
                    </a:cubicBezTo>
                    <a:lnTo>
                      <a:pt x="1090" y="5"/>
                    </a:lnTo>
                    <a:cubicBezTo>
                      <a:pt x="1089" y="5"/>
                      <a:pt x="1088" y="4"/>
                      <a:pt x="1088" y="3"/>
                    </a:cubicBezTo>
                    <a:cubicBezTo>
                      <a:pt x="1088" y="1"/>
                      <a:pt x="1089" y="1"/>
                      <a:pt x="1090" y="1"/>
                    </a:cubicBezTo>
                    <a:close/>
                    <a:moveTo>
                      <a:pt x="1098" y="1"/>
                    </a:moveTo>
                    <a:lnTo>
                      <a:pt x="1098" y="1"/>
                    </a:lnTo>
                    <a:cubicBezTo>
                      <a:pt x="1099" y="1"/>
                      <a:pt x="1100" y="1"/>
                      <a:pt x="1100" y="3"/>
                    </a:cubicBezTo>
                    <a:cubicBezTo>
                      <a:pt x="1100" y="4"/>
                      <a:pt x="1099" y="5"/>
                      <a:pt x="1098" y="5"/>
                    </a:cubicBezTo>
                    <a:lnTo>
                      <a:pt x="1098" y="5"/>
                    </a:lnTo>
                    <a:cubicBezTo>
                      <a:pt x="1097" y="5"/>
                      <a:pt x="1096" y="4"/>
                      <a:pt x="1096" y="3"/>
                    </a:cubicBezTo>
                    <a:cubicBezTo>
                      <a:pt x="1096" y="1"/>
                      <a:pt x="1097" y="1"/>
                      <a:pt x="1098" y="1"/>
                    </a:cubicBezTo>
                    <a:close/>
                    <a:moveTo>
                      <a:pt x="1106" y="1"/>
                    </a:moveTo>
                    <a:lnTo>
                      <a:pt x="1106" y="1"/>
                    </a:lnTo>
                    <a:cubicBezTo>
                      <a:pt x="1107" y="1"/>
                      <a:pt x="1108" y="1"/>
                      <a:pt x="1108" y="3"/>
                    </a:cubicBezTo>
                    <a:cubicBezTo>
                      <a:pt x="1108" y="4"/>
                      <a:pt x="1107" y="5"/>
                      <a:pt x="1106" y="5"/>
                    </a:cubicBezTo>
                    <a:lnTo>
                      <a:pt x="1106" y="5"/>
                    </a:lnTo>
                    <a:cubicBezTo>
                      <a:pt x="1105" y="5"/>
                      <a:pt x="1104" y="4"/>
                      <a:pt x="1104" y="3"/>
                    </a:cubicBezTo>
                    <a:cubicBezTo>
                      <a:pt x="1104" y="1"/>
                      <a:pt x="1105" y="1"/>
                      <a:pt x="1106" y="1"/>
                    </a:cubicBezTo>
                    <a:close/>
                    <a:moveTo>
                      <a:pt x="1114" y="1"/>
                    </a:moveTo>
                    <a:lnTo>
                      <a:pt x="1114" y="1"/>
                    </a:lnTo>
                    <a:cubicBezTo>
                      <a:pt x="1115" y="1"/>
                      <a:pt x="1116" y="1"/>
                      <a:pt x="1116" y="3"/>
                    </a:cubicBezTo>
                    <a:cubicBezTo>
                      <a:pt x="1116" y="4"/>
                      <a:pt x="1115" y="5"/>
                      <a:pt x="1114" y="5"/>
                    </a:cubicBezTo>
                    <a:lnTo>
                      <a:pt x="1114" y="5"/>
                    </a:lnTo>
                    <a:cubicBezTo>
                      <a:pt x="1113" y="5"/>
                      <a:pt x="1112" y="4"/>
                      <a:pt x="1112" y="3"/>
                    </a:cubicBezTo>
                    <a:cubicBezTo>
                      <a:pt x="1112" y="1"/>
                      <a:pt x="1113" y="1"/>
                      <a:pt x="1114" y="1"/>
                    </a:cubicBezTo>
                    <a:close/>
                    <a:moveTo>
                      <a:pt x="1122" y="1"/>
                    </a:moveTo>
                    <a:lnTo>
                      <a:pt x="1122" y="1"/>
                    </a:lnTo>
                    <a:cubicBezTo>
                      <a:pt x="1123" y="1"/>
                      <a:pt x="1124" y="2"/>
                      <a:pt x="1124" y="3"/>
                    </a:cubicBezTo>
                    <a:cubicBezTo>
                      <a:pt x="1124" y="4"/>
                      <a:pt x="1123" y="5"/>
                      <a:pt x="1122" y="5"/>
                    </a:cubicBezTo>
                    <a:lnTo>
                      <a:pt x="1122" y="5"/>
                    </a:lnTo>
                    <a:cubicBezTo>
                      <a:pt x="1121" y="5"/>
                      <a:pt x="1120" y="4"/>
                      <a:pt x="1120" y="3"/>
                    </a:cubicBezTo>
                    <a:cubicBezTo>
                      <a:pt x="1120" y="2"/>
                      <a:pt x="1121" y="1"/>
                      <a:pt x="1122" y="1"/>
                    </a:cubicBezTo>
                    <a:close/>
                    <a:moveTo>
                      <a:pt x="1130" y="1"/>
                    </a:moveTo>
                    <a:lnTo>
                      <a:pt x="1130" y="1"/>
                    </a:lnTo>
                    <a:cubicBezTo>
                      <a:pt x="1131" y="1"/>
                      <a:pt x="1132" y="2"/>
                      <a:pt x="1132" y="3"/>
                    </a:cubicBezTo>
                    <a:cubicBezTo>
                      <a:pt x="1132" y="4"/>
                      <a:pt x="1131" y="5"/>
                      <a:pt x="1130" y="5"/>
                    </a:cubicBezTo>
                    <a:lnTo>
                      <a:pt x="1130" y="5"/>
                    </a:lnTo>
                    <a:cubicBezTo>
                      <a:pt x="1129" y="5"/>
                      <a:pt x="1128" y="4"/>
                      <a:pt x="1128" y="3"/>
                    </a:cubicBezTo>
                    <a:cubicBezTo>
                      <a:pt x="1128" y="2"/>
                      <a:pt x="1129" y="1"/>
                      <a:pt x="1130" y="1"/>
                    </a:cubicBezTo>
                    <a:close/>
                    <a:moveTo>
                      <a:pt x="1138" y="1"/>
                    </a:moveTo>
                    <a:lnTo>
                      <a:pt x="1138" y="1"/>
                    </a:lnTo>
                    <a:cubicBezTo>
                      <a:pt x="1139" y="1"/>
                      <a:pt x="1140" y="2"/>
                      <a:pt x="1140" y="3"/>
                    </a:cubicBezTo>
                    <a:cubicBezTo>
                      <a:pt x="1140" y="4"/>
                      <a:pt x="1139" y="5"/>
                      <a:pt x="1138" y="5"/>
                    </a:cubicBezTo>
                    <a:lnTo>
                      <a:pt x="1138" y="5"/>
                    </a:lnTo>
                    <a:cubicBezTo>
                      <a:pt x="1137" y="5"/>
                      <a:pt x="1136" y="4"/>
                      <a:pt x="1136" y="3"/>
                    </a:cubicBezTo>
                    <a:cubicBezTo>
                      <a:pt x="1136" y="2"/>
                      <a:pt x="1137" y="1"/>
                      <a:pt x="1138" y="1"/>
                    </a:cubicBezTo>
                    <a:close/>
                    <a:moveTo>
                      <a:pt x="1146" y="1"/>
                    </a:moveTo>
                    <a:lnTo>
                      <a:pt x="1146" y="1"/>
                    </a:lnTo>
                    <a:cubicBezTo>
                      <a:pt x="1147" y="1"/>
                      <a:pt x="1148" y="2"/>
                      <a:pt x="1148" y="3"/>
                    </a:cubicBezTo>
                    <a:cubicBezTo>
                      <a:pt x="1148" y="4"/>
                      <a:pt x="1147" y="5"/>
                      <a:pt x="1146" y="5"/>
                    </a:cubicBezTo>
                    <a:lnTo>
                      <a:pt x="1146" y="5"/>
                    </a:lnTo>
                    <a:cubicBezTo>
                      <a:pt x="1145" y="5"/>
                      <a:pt x="1144" y="4"/>
                      <a:pt x="1144" y="3"/>
                    </a:cubicBezTo>
                    <a:cubicBezTo>
                      <a:pt x="1144" y="2"/>
                      <a:pt x="1145" y="1"/>
                      <a:pt x="1146" y="1"/>
                    </a:cubicBezTo>
                    <a:close/>
                    <a:moveTo>
                      <a:pt x="1154" y="1"/>
                    </a:moveTo>
                    <a:lnTo>
                      <a:pt x="1154" y="1"/>
                    </a:lnTo>
                    <a:cubicBezTo>
                      <a:pt x="1155" y="1"/>
                      <a:pt x="1156" y="2"/>
                      <a:pt x="1156" y="3"/>
                    </a:cubicBezTo>
                    <a:cubicBezTo>
                      <a:pt x="1156" y="4"/>
                      <a:pt x="1155" y="5"/>
                      <a:pt x="1154" y="5"/>
                    </a:cubicBezTo>
                    <a:lnTo>
                      <a:pt x="1154" y="5"/>
                    </a:lnTo>
                    <a:cubicBezTo>
                      <a:pt x="1153" y="5"/>
                      <a:pt x="1152" y="4"/>
                      <a:pt x="1152" y="3"/>
                    </a:cubicBezTo>
                    <a:cubicBezTo>
                      <a:pt x="1152" y="2"/>
                      <a:pt x="1153" y="1"/>
                      <a:pt x="1154" y="1"/>
                    </a:cubicBezTo>
                    <a:close/>
                    <a:moveTo>
                      <a:pt x="1162" y="1"/>
                    </a:moveTo>
                    <a:lnTo>
                      <a:pt x="1162" y="1"/>
                    </a:lnTo>
                    <a:cubicBezTo>
                      <a:pt x="1163" y="1"/>
                      <a:pt x="1164" y="2"/>
                      <a:pt x="1164" y="3"/>
                    </a:cubicBezTo>
                    <a:cubicBezTo>
                      <a:pt x="1164" y="4"/>
                      <a:pt x="1163" y="5"/>
                      <a:pt x="1162" y="5"/>
                    </a:cubicBezTo>
                    <a:lnTo>
                      <a:pt x="1162" y="5"/>
                    </a:lnTo>
                    <a:cubicBezTo>
                      <a:pt x="1161" y="5"/>
                      <a:pt x="1160" y="4"/>
                      <a:pt x="1160" y="3"/>
                    </a:cubicBezTo>
                    <a:cubicBezTo>
                      <a:pt x="1160" y="2"/>
                      <a:pt x="1161" y="1"/>
                      <a:pt x="1162" y="1"/>
                    </a:cubicBezTo>
                    <a:close/>
                    <a:moveTo>
                      <a:pt x="1170" y="1"/>
                    </a:moveTo>
                    <a:lnTo>
                      <a:pt x="1170" y="1"/>
                    </a:lnTo>
                    <a:cubicBezTo>
                      <a:pt x="1171" y="1"/>
                      <a:pt x="1172" y="2"/>
                      <a:pt x="1172" y="3"/>
                    </a:cubicBezTo>
                    <a:cubicBezTo>
                      <a:pt x="1172" y="4"/>
                      <a:pt x="1171" y="5"/>
                      <a:pt x="1170" y="5"/>
                    </a:cubicBezTo>
                    <a:lnTo>
                      <a:pt x="1170" y="5"/>
                    </a:lnTo>
                    <a:cubicBezTo>
                      <a:pt x="1169" y="5"/>
                      <a:pt x="1168" y="4"/>
                      <a:pt x="1168" y="3"/>
                    </a:cubicBezTo>
                    <a:cubicBezTo>
                      <a:pt x="1168" y="2"/>
                      <a:pt x="1169" y="1"/>
                      <a:pt x="1170" y="1"/>
                    </a:cubicBezTo>
                    <a:close/>
                    <a:moveTo>
                      <a:pt x="1178" y="1"/>
                    </a:moveTo>
                    <a:lnTo>
                      <a:pt x="1178" y="1"/>
                    </a:lnTo>
                    <a:cubicBezTo>
                      <a:pt x="1179" y="1"/>
                      <a:pt x="1180" y="2"/>
                      <a:pt x="1180" y="3"/>
                    </a:cubicBezTo>
                    <a:cubicBezTo>
                      <a:pt x="1180" y="4"/>
                      <a:pt x="1179" y="5"/>
                      <a:pt x="1178" y="5"/>
                    </a:cubicBezTo>
                    <a:lnTo>
                      <a:pt x="1178" y="5"/>
                    </a:lnTo>
                    <a:cubicBezTo>
                      <a:pt x="1177" y="5"/>
                      <a:pt x="1176" y="4"/>
                      <a:pt x="1176" y="3"/>
                    </a:cubicBezTo>
                    <a:cubicBezTo>
                      <a:pt x="1176" y="2"/>
                      <a:pt x="1177" y="1"/>
                      <a:pt x="1178" y="1"/>
                    </a:cubicBezTo>
                    <a:close/>
                    <a:moveTo>
                      <a:pt x="1186" y="1"/>
                    </a:moveTo>
                    <a:lnTo>
                      <a:pt x="1186" y="1"/>
                    </a:lnTo>
                    <a:cubicBezTo>
                      <a:pt x="1187" y="1"/>
                      <a:pt x="1188" y="2"/>
                      <a:pt x="1188" y="3"/>
                    </a:cubicBezTo>
                    <a:cubicBezTo>
                      <a:pt x="1188" y="4"/>
                      <a:pt x="1187" y="5"/>
                      <a:pt x="1186" y="5"/>
                    </a:cubicBezTo>
                    <a:lnTo>
                      <a:pt x="1186" y="5"/>
                    </a:lnTo>
                    <a:cubicBezTo>
                      <a:pt x="1185" y="5"/>
                      <a:pt x="1184" y="4"/>
                      <a:pt x="1184" y="3"/>
                    </a:cubicBezTo>
                    <a:cubicBezTo>
                      <a:pt x="1184" y="2"/>
                      <a:pt x="1185" y="1"/>
                      <a:pt x="1186" y="1"/>
                    </a:cubicBezTo>
                    <a:close/>
                    <a:moveTo>
                      <a:pt x="1194" y="1"/>
                    </a:moveTo>
                    <a:lnTo>
                      <a:pt x="1194" y="1"/>
                    </a:lnTo>
                    <a:cubicBezTo>
                      <a:pt x="1195" y="1"/>
                      <a:pt x="1196" y="2"/>
                      <a:pt x="1196" y="3"/>
                    </a:cubicBezTo>
                    <a:cubicBezTo>
                      <a:pt x="1196" y="4"/>
                      <a:pt x="1195" y="5"/>
                      <a:pt x="1194" y="5"/>
                    </a:cubicBezTo>
                    <a:lnTo>
                      <a:pt x="1194" y="5"/>
                    </a:lnTo>
                    <a:cubicBezTo>
                      <a:pt x="1193" y="5"/>
                      <a:pt x="1192" y="4"/>
                      <a:pt x="1192" y="3"/>
                    </a:cubicBezTo>
                    <a:cubicBezTo>
                      <a:pt x="1192" y="2"/>
                      <a:pt x="1193" y="1"/>
                      <a:pt x="1194" y="1"/>
                    </a:cubicBezTo>
                    <a:close/>
                    <a:moveTo>
                      <a:pt x="1202" y="1"/>
                    </a:moveTo>
                    <a:lnTo>
                      <a:pt x="1202" y="1"/>
                    </a:lnTo>
                    <a:cubicBezTo>
                      <a:pt x="1203" y="1"/>
                      <a:pt x="1204" y="2"/>
                      <a:pt x="1204" y="3"/>
                    </a:cubicBezTo>
                    <a:cubicBezTo>
                      <a:pt x="1204" y="4"/>
                      <a:pt x="1203" y="5"/>
                      <a:pt x="1202" y="5"/>
                    </a:cubicBezTo>
                    <a:lnTo>
                      <a:pt x="1202" y="5"/>
                    </a:lnTo>
                    <a:cubicBezTo>
                      <a:pt x="1201" y="5"/>
                      <a:pt x="1200" y="4"/>
                      <a:pt x="1200" y="3"/>
                    </a:cubicBezTo>
                    <a:cubicBezTo>
                      <a:pt x="1200" y="2"/>
                      <a:pt x="1201" y="1"/>
                      <a:pt x="1202" y="1"/>
                    </a:cubicBezTo>
                    <a:close/>
                    <a:moveTo>
                      <a:pt x="1210" y="1"/>
                    </a:moveTo>
                    <a:lnTo>
                      <a:pt x="1210" y="1"/>
                    </a:lnTo>
                    <a:cubicBezTo>
                      <a:pt x="1212" y="1"/>
                      <a:pt x="1212" y="2"/>
                      <a:pt x="1212" y="3"/>
                    </a:cubicBezTo>
                    <a:cubicBezTo>
                      <a:pt x="1212" y="4"/>
                      <a:pt x="1212" y="5"/>
                      <a:pt x="1210" y="5"/>
                    </a:cubicBezTo>
                    <a:lnTo>
                      <a:pt x="1210" y="5"/>
                    </a:lnTo>
                    <a:cubicBezTo>
                      <a:pt x="1209" y="5"/>
                      <a:pt x="1208" y="4"/>
                      <a:pt x="1208" y="3"/>
                    </a:cubicBezTo>
                    <a:cubicBezTo>
                      <a:pt x="1208" y="2"/>
                      <a:pt x="1209" y="1"/>
                      <a:pt x="1210" y="1"/>
                    </a:cubicBezTo>
                    <a:close/>
                    <a:moveTo>
                      <a:pt x="1218" y="1"/>
                    </a:moveTo>
                    <a:lnTo>
                      <a:pt x="1218" y="1"/>
                    </a:lnTo>
                    <a:cubicBezTo>
                      <a:pt x="1220" y="1"/>
                      <a:pt x="1220" y="2"/>
                      <a:pt x="1220" y="3"/>
                    </a:cubicBezTo>
                    <a:cubicBezTo>
                      <a:pt x="1220" y="4"/>
                      <a:pt x="1220" y="5"/>
                      <a:pt x="1218" y="5"/>
                    </a:cubicBezTo>
                    <a:lnTo>
                      <a:pt x="1218" y="5"/>
                    </a:lnTo>
                    <a:cubicBezTo>
                      <a:pt x="1217" y="5"/>
                      <a:pt x="1216" y="4"/>
                      <a:pt x="1216" y="3"/>
                    </a:cubicBezTo>
                    <a:cubicBezTo>
                      <a:pt x="1216" y="2"/>
                      <a:pt x="1217" y="1"/>
                      <a:pt x="1218" y="1"/>
                    </a:cubicBezTo>
                    <a:close/>
                    <a:moveTo>
                      <a:pt x="1226" y="1"/>
                    </a:moveTo>
                    <a:lnTo>
                      <a:pt x="1226" y="1"/>
                    </a:lnTo>
                    <a:cubicBezTo>
                      <a:pt x="1228" y="1"/>
                      <a:pt x="1228" y="2"/>
                      <a:pt x="1228" y="3"/>
                    </a:cubicBezTo>
                    <a:cubicBezTo>
                      <a:pt x="1228" y="4"/>
                      <a:pt x="1228" y="5"/>
                      <a:pt x="1226" y="5"/>
                    </a:cubicBezTo>
                    <a:lnTo>
                      <a:pt x="1226" y="5"/>
                    </a:lnTo>
                    <a:cubicBezTo>
                      <a:pt x="1225" y="5"/>
                      <a:pt x="1224" y="4"/>
                      <a:pt x="1224" y="3"/>
                    </a:cubicBezTo>
                    <a:cubicBezTo>
                      <a:pt x="1224" y="2"/>
                      <a:pt x="1225" y="1"/>
                      <a:pt x="1226" y="1"/>
                    </a:cubicBezTo>
                    <a:close/>
                    <a:moveTo>
                      <a:pt x="1234" y="1"/>
                    </a:moveTo>
                    <a:lnTo>
                      <a:pt x="1234" y="1"/>
                    </a:lnTo>
                    <a:cubicBezTo>
                      <a:pt x="1236" y="1"/>
                      <a:pt x="1236" y="2"/>
                      <a:pt x="1236" y="3"/>
                    </a:cubicBezTo>
                    <a:cubicBezTo>
                      <a:pt x="1236" y="4"/>
                      <a:pt x="1236" y="5"/>
                      <a:pt x="1234" y="5"/>
                    </a:cubicBezTo>
                    <a:lnTo>
                      <a:pt x="1234" y="5"/>
                    </a:lnTo>
                    <a:cubicBezTo>
                      <a:pt x="1233" y="5"/>
                      <a:pt x="1232" y="4"/>
                      <a:pt x="1232" y="3"/>
                    </a:cubicBezTo>
                    <a:cubicBezTo>
                      <a:pt x="1232" y="2"/>
                      <a:pt x="1233" y="1"/>
                      <a:pt x="1234" y="1"/>
                    </a:cubicBezTo>
                    <a:close/>
                    <a:moveTo>
                      <a:pt x="1242" y="1"/>
                    </a:moveTo>
                    <a:lnTo>
                      <a:pt x="1242" y="1"/>
                    </a:lnTo>
                    <a:cubicBezTo>
                      <a:pt x="1244" y="1"/>
                      <a:pt x="1244" y="2"/>
                      <a:pt x="1244" y="3"/>
                    </a:cubicBezTo>
                    <a:cubicBezTo>
                      <a:pt x="1244" y="4"/>
                      <a:pt x="1244" y="5"/>
                      <a:pt x="1242" y="5"/>
                    </a:cubicBezTo>
                    <a:lnTo>
                      <a:pt x="1242" y="5"/>
                    </a:lnTo>
                    <a:cubicBezTo>
                      <a:pt x="1241" y="5"/>
                      <a:pt x="1240" y="4"/>
                      <a:pt x="1240" y="3"/>
                    </a:cubicBezTo>
                    <a:cubicBezTo>
                      <a:pt x="1240" y="2"/>
                      <a:pt x="1241" y="1"/>
                      <a:pt x="1242" y="1"/>
                    </a:cubicBezTo>
                    <a:close/>
                    <a:moveTo>
                      <a:pt x="1250" y="1"/>
                    </a:moveTo>
                    <a:lnTo>
                      <a:pt x="1250" y="1"/>
                    </a:lnTo>
                    <a:cubicBezTo>
                      <a:pt x="1252" y="1"/>
                      <a:pt x="1252" y="2"/>
                      <a:pt x="1252" y="3"/>
                    </a:cubicBezTo>
                    <a:cubicBezTo>
                      <a:pt x="1252" y="4"/>
                      <a:pt x="1252" y="5"/>
                      <a:pt x="1250" y="5"/>
                    </a:cubicBezTo>
                    <a:lnTo>
                      <a:pt x="1250" y="5"/>
                    </a:lnTo>
                    <a:cubicBezTo>
                      <a:pt x="1249" y="5"/>
                      <a:pt x="1248" y="4"/>
                      <a:pt x="1248" y="3"/>
                    </a:cubicBezTo>
                    <a:cubicBezTo>
                      <a:pt x="1248" y="2"/>
                      <a:pt x="1249" y="1"/>
                      <a:pt x="1250" y="1"/>
                    </a:cubicBezTo>
                    <a:close/>
                    <a:moveTo>
                      <a:pt x="1258" y="1"/>
                    </a:moveTo>
                    <a:lnTo>
                      <a:pt x="1258" y="1"/>
                    </a:lnTo>
                    <a:cubicBezTo>
                      <a:pt x="1260" y="1"/>
                      <a:pt x="1260" y="2"/>
                      <a:pt x="1260" y="3"/>
                    </a:cubicBezTo>
                    <a:cubicBezTo>
                      <a:pt x="1260" y="4"/>
                      <a:pt x="1260" y="5"/>
                      <a:pt x="1258" y="5"/>
                    </a:cubicBezTo>
                    <a:lnTo>
                      <a:pt x="1258" y="5"/>
                    </a:lnTo>
                    <a:cubicBezTo>
                      <a:pt x="1257" y="5"/>
                      <a:pt x="1256" y="4"/>
                      <a:pt x="1256" y="3"/>
                    </a:cubicBezTo>
                    <a:cubicBezTo>
                      <a:pt x="1256" y="2"/>
                      <a:pt x="1257" y="1"/>
                      <a:pt x="1258" y="1"/>
                    </a:cubicBezTo>
                    <a:close/>
                    <a:moveTo>
                      <a:pt x="1266" y="1"/>
                    </a:moveTo>
                    <a:lnTo>
                      <a:pt x="1266" y="1"/>
                    </a:lnTo>
                    <a:cubicBezTo>
                      <a:pt x="1268" y="1"/>
                      <a:pt x="1268" y="2"/>
                      <a:pt x="1268" y="3"/>
                    </a:cubicBezTo>
                    <a:cubicBezTo>
                      <a:pt x="1268" y="4"/>
                      <a:pt x="1268" y="5"/>
                      <a:pt x="1266" y="5"/>
                    </a:cubicBezTo>
                    <a:lnTo>
                      <a:pt x="1266" y="5"/>
                    </a:lnTo>
                    <a:cubicBezTo>
                      <a:pt x="1265" y="5"/>
                      <a:pt x="1264" y="4"/>
                      <a:pt x="1264" y="3"/>
                    </a:cubicBezTo>
                    <a:cubicBezTo>
                      <a:pt x="1264" y="2"/>
                      <a:pt x="1265" y="1"/>
                      <a:pt x="1266" y="1"/>
                    </a:cubicBezTo>
                    <a:close/>
                    <a:moveTo>
                      <a:pt x="1274" y="1"/>
                    </a:moveTo>
                    <a:lnTo>
                      <a:pt x="1274" y="1"/>
                    </a:lnTo>
                    <a:cubicBezTo>
                      <a:pt x="1276" y="1"/>
                      <a:pt x="1276" y="2"/>
                      <a:pt x="1276" y="3"/>
                    </a:cubicBezTo>
                    <a:cubicBezTo>
                      <a:pt x="1276" y="4"/>
                      <a:pt x="1276" y="5"/>
                      <a:pt x="1274" y="5"/>
                    </a:cubicBezTo>
                    <a:lnTo>
                      <a:pt x="1274" y="5"/>
                    </a:lnTo>
                    <a:cubicBezTo>
                      <a:pt x="1273" y="5"/>
                      <a:pt x="1272" y="4"/>
                      <a:pt x="1272" y="3"/>
                    </a:cubicBezTo>
                    <a:cubicBezTo>
                      <a:pt x="1272" y="2"/>
                      <a:pt x="1273" y="1"/>
                      <a:pt x="1274" y="1"/>
                    </a:cubicBezTo>
                    <a:close/>
                    <a:moveTo>
                      <a:pt x="1282" y="1"/>
                    </a:moveTo>
                    <a:lnTo>
                      <a:pt x="1282" y="1"/>
                    </a:lnTo>
                    <a:cubicBezTo>
                      <a:pt x="1284" y="1"/>
                      <a:pt x="1284" y="2"/>
                      <a:pt x="1284" y="3"/>
                    </a:cubicBezTo>
                    <a:cubicBezTo>
                      <a:pt x="1284" y="4"/>
                      <a:pt x="1284" y="5"/>
                      <a:pt x="1282" y="5"/>
                    </a:cubicBezTo>
                    <a:lnTo>
                      <a:pt x="1282" y="5"/>
                    </a:lnTo>
                    <a:cubicBezTo>
                      <a:pt x="1281" y="5"/>
                      <a:pt x="1280" y="4"/>
                      <a:pt x="1280" y="3"/>
                    </a:cubicBezTo>
                    <a:cubicBezTo>
                      <a:pt x="1280" y="2"/>
                      <a:pt x="1281" y="1"/>
                      <a:pt x="1282" y="1"/>
                    </a:cubicBezTo>
                    <a:close/>
                    <a:moveTo>
                      <a:pt x="1290" y="1"/>
                    </a:moveTo>
                    <a:lnTo>
                      <a:pt x="1290" y="1"/>
                    </a:lnTo>
                    <a:cubicBezTo>
                      <a:pt x="1292" y="1"/>
                      <a:pt x="1292" y="2"/>
                      <a:pt x="1292" y="3"/>
                    </a:cubicBezTo>
                    <a:cubicBezTo>
                      <a:pt x="1292" y="4"/>
                      <a:pt x="1292" y="5"/>
                      <a:pt x="1290" y="5"/>
                    </a:cubicBezTo>
                    <a:lnTo>
                      <a:pt x="1290" y="5"/>
                    </a:lnTo>
                    <a:cubicBezTo>
                      <a:pt x="1289" y="5"/>
                      <a:pt x="1288" y="4"/>
                      <a:pt x="1288" y="3"/>
                    </a:cubicBezTo>
                    <a:cubicBezTo>
                      <a:pt x="1288" y="2"/>
                      <a:pt x="1289" y="1"/>
                      <a:pt x="1290" y="1"/>
                    </a:cubicBezTo>
                    <a:close/>
                    <a:moveTo>
                      <a:pt x="1298" y="1"/>
                    </a:moveTo>
                    <a:lnTo>
                      <a:pt x="1298" y="1"/>
                    </a:lnTo>
                    <a:cubicBezTo>
                      <a:pt x="1300" y="1"/>
                      <a:pt x="1300" y="2"/>
                      <a:pt x="1300" y="3"/>
                    </a:cubicBezTo>
                    <a:cubicBezTo>
                      <a:pt x="1300" y="4"/>
                      <a:pt x="1300" y="5"/>
                      <a:pt x="1298" y="5"/>
                    </a:cubicBezTo>
                    <a:lnTo>
                      <a:pt x="1298" y="5"/>
                    </a:lnTo>
                    <a:cubicBezTo>
                      <a:pt x="1297" y="5"/>
                      <a:pt x="1296" y="4"/>
                      <a:pt x="1296" y="3"/>
                    </a:cubicBezTo>
                    <a:cubicBezTo>
                      <a:pt x="1296" y="2"/>
                      <a:pt x="1297" y="1"/>
                      <a:pt x="1298" y="1"/>
                    </a:cubicBezTo>
                    <a:close/>
                    <a:moveTo>
                      <a:pt x="1306" y="1"/>
                    </a:moveTo>
                    <a:lnTo>
                      <a:pt x="1306" y="1"/>
                    </a:lnTo>
                    <a:cubicBezTo>
                      <a:pt x="1308" y="1"/>
                      <a:pt x="1308" y="2"/>
                      <a:pt x="1308" y="3"/>
                    </a:cubicBezTo>
                    <a:cubicBezTo>
                      <a:pt x="1308" y="4"/>
                      <a:pt x="1308" y="5"/>
                      <a:pt x="1306" y="5"/>
                    </a:cubicBezTo>
                    <a:lnTo>
                      <a:pt x="1306" y="5"/>
                    </a:lnTo>
                    <a:cubicBezTo>
                      <a:pt x="1305" y="5"/>
                      <a:pt x="1304" y="4"/>
                      <a:pt x="1304" y="3"/>
                    </a:cubicBezTo>
                    <a:cubicBezTo>
                      <a:pt x="1304" y="2"/>
                      <a:pt x="1305" y="1"/>
                      <a:pt x="1306" y="1"/>
                    </a:cubicBezTo>
                    <a:close/>
                    <a:moveTo>
                      <a:pt x="1314" y="1"/>
                    </a:moveTo>
                    <a:lnTo>
                      <a:pt x="1314" y="1"/>
                    </a:lnTo>
                    <a:cubicBezTo>
                      <a:pt x="1316" y="1"/>
                      <a:pt x="1316" y="2"/>
                      <a:pt x="1316" y="3"/>
                    </a:cubicBezTo>
                    <a:cubicBezTo>
                      <a:pt x="1316" y="4"/>
                      <a:pt x="1316" y="5"/>
                      <a:pt x="1314" y="5"/>
                    </a:cubicBezTo>
                    <a:lnTo>
                      <a:pt x="1314" y="5"/>
                    </a:lnTo>
                    <a:cubicBezTo>
                      <a:pt x="1313" y="5"/>
                      <a:pt x="1312" y="4"/>
                      <a:pt x="1312" y="3"/>
                    </a:cubicBezTo>
                    <a:cubicBezTo>
                      <a:pt x="1312" y="2"/>
                      <a:pt x="1313" y="1"/>
                      <a:pt x="1314" y="1"/>
                    </a:cubicBezTo>
                    <a:close/>
                    <a:moveTo>
                      <a:pt x="1322" y="1"/>
                    </a:moveTo>
                    <a:lnTo>
                      <a:pt x="1322" y="1"/>
                    </a:lnTo>
                    <a:cubicBezTo>
                      <a:pt x="1324" y="1"/>
                      <a:pt x="1324" y="2"/>
                      <a:pt x="1324" y="3"/>
                    </a:cubicBezTo>
                    <a:cubicBezTo>
                      <a:pt x="1324" y="4"/>
                      <a:pt x="1324" y="5"/>
                      <a:pt x="1322" y="5"/>
                    </a:cubicBezTo>
                    <a:lnTo>
                      <a:pt x="1322" y="5"/>
                    </a:lnTo>
                    <a:cubicBezTo>
                      <a:pt x="1321" y="5"/>
                      <a:pt x="1320" y="4"/>
                      <a:pt x="1320" y="3"/>
                    </a:cubicBezTo>
                    <a:cubicBezTo>
                      <a:pt x="1320" y="2"/>
                      <a:pt x="1321" y="1"/>
                      <a:pt x="1322" y="1"/>
                    </a:cubicBezTo>
                    <a:close/>
                    <a:moveTo>
                      <a:pt x="1330" y="1"/>
                    </a:moveTo>
                    <a:lnTo>
                      <a:pt x="1330" y="1"/>
                    </a:lnTo>
                    <a:cubicBezTo>
                      <a:pt x="1332" y="1"/>
                      <a:pt x="1332" y="2"/>
                      <a:pt x="1332" y="3"/>
                    </a:cubicBezTo>
                    <a:cubicBezTo>
                      <a:pt x="1332" y="4"/>
                      <a:pt x="1332" y="5"/>
                      <a:pt x="1330" y="5"/>
                    </a:cubicBezTo>
                    <a:lnTo>
                      <a:pt x="1330" y="5"/>
                    </a:lnTo>
                    <a:cubicBezTo>
                      <a:pt x="1329" y="5"/>
                      <a:pt x="1328" y="4"/>
                      <a:pt x="1328" y="3"/>
                    </a:cubicBezTo>
                    <a:cubicBezTo>
                      <a:pt x="1328" y="2"/>
                      <a:pt x="1329" y="1"/>
                      <a:pt x="1330" y="1"/>
                    </a:cubicBezTo>
                    <a:close/>
                    <a:moveTo>
                      <a:pt x="1338" y="1"/>
                    </a:moveTo>
                    <a:lnTo>
                      <a:pt x="1338" y="1"/>
                    </a:lnTo>
                    <a:cubicBezTo>
                      <a:pt x="1340" y="1"/>
                      <a:pt x="1340" y="2"/>
                      <a:pt x="1340" y="3"/>
                    </a:cubicBezTo>
                    <a:cubicBezTo>
                      <a:pt x="1340" y="4"/>
                      <a:pt x="1340" y="5"/>
                      <a:pt x="1338" y="5"/>
                    </a:cubicBezTo>
                    <a:lnTo>
                      <a:pt x="1338" y="5"/>
                    </a:lnTo>
                    <a:cubicBezTo>
                      <a:pt x="1337" y="5"/>
                      <a:pt x="1336" y="4"/>
                      <a:pt x="1336" y="3"/>
                    </a:cubicBezTo>
                    <a:cubicBezTo>
                      <a:pt x="1336" y="2"/>
                      <a:pt x="1337" y="1"/>
                      <a:pt x="1338" y="1"/>
                    </a:cubicBezTo>
                    <a:close/>
                    <a:moveTo>
                      <a:pt x="1346" y="1"/>
                    </a:moveTo>
                    <a:lnTo>
                      <a:pt x="1346" y="1"/>
                    </a:lnTo>
                    <a:cubicBezTo>
                      <a:pt x="1348" y="1"/>
                      <a:pt x="1348" y="2"/>
                      <a:pt x="1348" y="3"/>
                    </a:cubicBezTo>
                    <a:cubicBezTo>
                      <a:pt x="1348" y="4"/>
                      <a:pt x="1348" y="5"/>
                      <a:pt x="1346" y="5"/>
                    </a:cubicBezTo>
                    <a:lnTo>
                      <a:pt x="1346" y="5"/>
                    </a:lnTo>
                    <a:cubicBezTo>
                      <a:pt x="1345" y="5"/>
                      <a:pt x="1344" y="4"/>
                      <a:pt x="1344" y="3"/>
                    </a:cubicBezTo>
                    <a:cubicBezTo>
                      <a:pt x="1344" y="2"/>
                      <a:pt x="1345" y="1"/>
                      <a:pt x="1346" y="1"/>
                    </a:cubicBezTo>
                    <a:close/>
                    <a:moveTo>
                      <a:pt x="1354" y="1"/>
                    </a:moveTo>
                    <a:lnTo>
                      <a:pt x="1354" y="1"/>
                    </a:lnTo>
                    <a:cubicBezTo>
                      <a:pt x="1356" y="1"/>
                      <a:pt x="1356" y="2"/>
                      <a:pt x="1356" y="3"/>
                    </a:cubicBezTo>
                    <a:cubicBezTo>
                      <a:pt x="1356" y="4"/>
                      <a:pt x="1356" y="5"/>
                      <a:pt x="1354" y="5"/>
                    </a:cubicBezTo>
                    <a:lnTo>
                      <a:pt x="1354" y="5"/>
                    </a:lnTo>
                    <a:cubicBezTo>
                      <a:pt x="1353" y="5"/>
                      <a:pt x="1352" y="4"/>
                      <a:pt x="1352" y="3"/>
                    </a:cubicBezTo>
                    <a:cubicBezTo>
                      <a:pt x="1352" y="2"/>
                      <a:pt x="1353" y="1"/>
                      <a:pt x="1354" y="1"/>
                    </a:cubicBezTo>
                    <a:close/>
                    <a:moveTo>
                      <a:pt x="1362" y="1"/>
                    </a:moveTo>
                    <a:lnTo>
                      <a:pt x="1362" y="1"/>
                    </a:lnTo>
                    <a:cubicBezTo>
                      <a:pt x="1364" y="1"/>
                      <a:pt x="1364" y="2"/>
                      <a:pt x="1364" y="3"/>
                    </a:cubicBezTo>
                    <a:cubicBezTo>
                      <a:pt x="1364" y="4"/>
                      <a:pt x="1364" y="5"/>
                      <a:pt x="1362" y="5"/>
                    </a:cubicBezTo>
                    <a:lnTo>
                      <a:pt x="1362" y="5"/>
                    </a:lnTo>
                    <a:cubicBezTo>
                      <a:pt x="1361" y="5"/>
                      <a:pt x="1360" y="4"/>
                      <a:pt x="1360" y="3"/>
                    </a:cubicBezTo>
                    <a:cubicBezTo>
                      <a:pt x="1360" y="2"/>
                      <a:pt x="1361" y="1"/>
                      <a:pt x="1362" y="1"/>
                    </a:cubicBezTo>
                    <a:close/>
                    <a:moveTo>
                      <a:pt x="1370" y="1"/>
                    </a:moveTo>
                    <a:lnTo>
                      <a:pt x="1370" y="1"/>
                    </a:lnTo>
                    <a:cubicBezTo>
                      <a:pt x="1372" y="1"/>
                      <a:pt x="1372" y="2"/>
                      <a:pt x="1372" y="3"/>
                    </a:cubicBezTo>
                    <a:cubicBezTo>
                      <a:pt x="1372" y="4"/>
                      <a:pt x="1372" y="5"/>
                      <a:pt x="1370" y="5"/>
                    </a:cubicBezTo>
                    <a:lnTo>
                      <a:pt x="1370" y="5"/>
                    </a:lnTo>
                    <a:cubicBezTo>
                      <a:pt x="1369" y="5"/>
                      <a:pt x="1368" y="4"/>
                      <a:pt x="1368" y="3"/>
                    </a:cubicBezTo>
                    <a:cubicBezTo>
                      <a:pt x="1368" y="2"/>
                      <a:pt x="1369" y="1"/>
                      <a:pt x="1370" y="1"/>
                    </a:cubicBezTo>
                    <a:close/>
                    <a:moveTo>
                      <a:pt x="1378" y="1"/>
                    </a:moveTo>
                    <a:lnTo>
                      <a:pt x="1378" y="1"/>
                    </a:lnTo>
                    <a:cubicBezTo>
                      <a:pt x="1380" y="1"/>
                      <a:pt x="1380" y="2"/>
                      <a:pt x="1380" y="3"/>
                    </a:cubicBezTo>
                    <a:cubicBezTo>
                      <a:pt x="1380" y="4"/>
                      <a:pt x="1380" y="5"/>
                      <a:pt x="1378" y="5"/>
                    </a:cubicBezTo>
                    <a:lnTo>
                      <a:pt x="1378" y="5"/>
                    </a:lnTo>
                    <a:cubicBezTo>
                      <a:pt x="1377" y="5"/>
                      <a:pt x="1376" y="4"/>
                      <a:pt x="1376" y="3"/>
                    </a:cubicBezTo>
                    <a:cubicBezTo>
                      <a:pt x="1376" y="2"/>
                      <a:pt x="1377" y="1"/>
                      <a:pt x="1378" y="1"/>
                    </a:cubicBezTo>
                    <a:close/>
                    <a:moveTo>
                      <a:pt x="1386" y="1"/>
                    </a:moveTo>
                    <a:lnTo>
                      <a:pt x="1386" y="1"/>
                    </a:lnTo>
                    <a:cubicBezTo>
                      <a:pt x="1388" y="1"/>
                      <a:pt x="1388" y="2"/>
                      <a:pt x="1388" y="3"/>
                    </a:cubicBezTo>
                    <a:cubicBezTo>
                      <a:pt x="1388" y="4"/>
                      <a:pt x="1388" y="5"/>
                      <a:pt x="1386" y="5"/>
                    </a:cubicBezTo>
                    <a:lnTo>
                      <a:pt x="1386" y="5"/>
                    </a:lnTo>
                    <a:cubicBezTo>
                      <a:pt x="1385" y="5"/>
                      <a:pt x="1384" y="4"/>
                      <a:pt x="1384" y="3"/>
                    </a:cubicBezTo>
                    <a:cubicBezTo>
                      <a:pt x="1384" y="2"/>
                      <a:pt x="1385" y="1"/>
                      <a:pt x="1386" y="1"/>
                    </a:cubicBezTo>
                    <a:close/>
                    <a:moveTo>
                      <a:pt x="1394" y="1"/>
                    </a:moveTo>
                    <a:lnTo>
                      <a:pt x="1394" y="1"/>
                    </a:lnTo>
                    <a:cubicBezTo>
                      <a:pt x="1396" y="1"/>
                      <a:pt x="1396" y="2"/>
                      <a:pt x="1396" y="3"/>
                    </a:cubicBezTo>
                    <a:cubicBezTo>
                      <a:pt x="1396" y="4"/>
                      <a:pt x="1396" y="5"/>
                      <a:pt x="1394" y="5"/>
                    </a:cubicBezTo>
                    <a:lnTo>
                      <a:pt x="1394" y="5"/>
                    </a:lnTo>
                    <a:cubicBezTo>
                      <a:pt x="1393" y="5"/>
                      <a:pt x="1392" y="4"/>
                      <a:pt x="1392" y="3"/>
                    </a:cubicBezTo>
                    <a:cubicBezTo>
                      <a:pt x="1392" y="2"/>
                      <a:pt x="1393" y="1"/>
                      <a:pt x="1394" y="1"/>
                    </a:cubicBezTo>
                    <a:close/>
                    <a:moveTo>
                      <a:pt x="1402" y="1"/>
                    </a:moveTo>
                    <a:lnTo>
                      <a:pt x="1402" y="1"/>
                    </a:lnTo>
                    <a:cubicBezTo>
                      <a:pt x="1404" y="1"/>
                      <a:pt x="1404" y="2"/>
                      <a:pt x="1404" y="3"/>
                    </a:cubicBezTo>
                    <a:cubicBezTo>
                      <a:pt x="1404" y="4"/>
                      <a:pt x="1404" y="5"/>
                      <a:pt x="1402" y="5"/>
                    </a:cubicBezTo>
                    <a:lnTo>
                      <a:pt x="1402" y="5"/>
                    </a:lnTo>
                    <a:cubicBezTo>
                      <a:pt x="1401" y="5"/>
                      <a:pt x="1400" y="4"/>
                      <a:pt x="1400" y="3"/>
                    </a:cubicBezTo>
                    <a:cubicBezTo>
                      <a:pt x="1400" y="2"/>
                      <a:pt x="1401" y="1"/>
                      <a:pt x="1402" y="1"/>
                    </a:cubicBezTo>
                    <a:close/>
                    <a:moveTo>
                      <a:pt x="1410" y="1"/>
                    </a:moveTo>
                    <a:lnTo>
                      <a:pt x="1410" y="1"/>
                    </a:lnTo>
                    <a:cubicBezTo>
                      <a:pt x="1412" y="1"/>
                      <a:pt x="1412" y="2"/>
                      <a:pt x="1412" y="3"/>
                    </a:cubicBezTo>
                    <a:cubicBezTo>
                      <a:pt x="1412" y="4"/>
                      <a:pt x="1412" y="5"/>
                      <a:pt x="1410" y="5"/>
                    </a:cubicBezTo>
                    <a:lnTo>
                      <a:pt x="1410" y="5"/>
                    </a:lnTo>
                    <a:cubicBezTo>
                      <a:pt x="1409" y="5"/>
                      <a:pt x="1408" y="4"/>
                      <a:pt x="1408" y="3"/>
                    </a:cubicBezTo>
                    <a:cubicBezTo>
                      <a:pt x="1408" y="2"/>
                      <a:pt x="1409" y="1"/>
                      <a:pt x="1410" y="1"/>
                    </a:cubicBezTo>
                    <a:close/>
                    <a:moveTo>
                      <a:pt x="1418" y="1"/>
                    </a:moveTo>
                    <a:lnTo>
                      <a:pt x="1418" y="1"/>
                    </a:lnTo>
                    <a:cubicBezTo>
                      <a:pt x="1420" y="1"/>
                      <a:pt x="1420" y="2"/>
                      <a:pt x="1420" y="3"/>
                    </a:cubicBezTo>
                    <a:cubicBezTo>
                      <a:pt x="1420" y="4"/>
                      <a:pt x="1420" y="5"/>
                      <a:pt x="1418" y="5"/>
                    </a:cubicBezTo>
                    <a:lnTo>
                      <a:pt x="1418" y="5"/>
                    </a:lnTo>
                    <a:cubicBezTo>
                      <a:pt x="1417" y="5"/>
                      <a:pt x="1416" y="4"/>
                      <a:pt x="1416" y="3"/>
                    </a:cubicBezTo>
                    <a:cubicBezTo>
                      <a:pt x="1416" y="2"/>
                      <a:pt x="1417" y="1"/>
                      <a:pt x="1418" y="1"/>
                    </a:cubicBezTo>
                    <a:close/>
                    <a:moveTo>
                      <a:pt x="1426" y="1"/>
                    </a:moveTo>
                    <a:lnTo>
                      <a:pt x="1427" y="1"/>
                    </a:lnTo>
                    <a:cubicBezTo>
                      <a:pt x="1428" y="1"/>
                      <a:pt x="1429" y="2"/>
                      <a:pt x="1429" y="3"/>
                    </a:cubicBezTo>
                    <a:cubicBezTo>
                      <a:pt x="1429" y="4"/>
                      <a:pt x="1428" y="5"/>
                      <a:pt x="1427" y="5"/>
                    </a:cubicBezTo>
                    <a:lnTo>
                      <a:pt x="1426" y="5"/>
                    </a:lnTo>
                    <a:cubicBezTo>
                      <a:pt x="1425" y="5"/>
                      <a:pt x="1424" y="4"/>
                      <a:pt x="1424" y="3"/>
                    </a:cubicBezTo>
                    <a:cubicBezTo>
                      <a:pt x="1424" y="2"/>
                      <a:pt x="1425" y="1"/>
                      <a:pt x="1426" y="1"/>
                    </a:cubicBezTo>
                    <a:close/>
                    <a:moveTo>
                      <a:pt x="1435" y="1"/>
                    </a:moveTo>
                    <a:lnTo>
                      <a:pt x="1435" y="1"/>
                    </a:lnTo>
                    <a:cubicBezTo>
                      <a:pt x="1436" y="1"/>
                      <a:pt x="1437" y="2"/>
                      <a:pt x="1437" y="3"/>
                    </a:cubicBezTo>
                    <a:cubicBezTo>
                      <a:pt x="1437" y="4"/>
                      <a:pt x="1436" y="5"/>
                      <a:pt x="1435" y="5"/>
                    </a:cubicBezTo>
                    <a:lnTo>
                      <a:pt x="1435" y="5"/>
                    </a:lnTo>
                    <a:cubicBezTo>
                      <a:pt x="1433" y="5"/>
                      <a:pt x="1433" y="4"/>
                      <a:pt x="1433" y="3"/>
                    </a:cubicBezTo>
                    <a:cubicBezTo>
                      <a:pt x="1433" y="2"/>
                      <a:pt x="1433" y="1"/>
                      <a:pt x="1435" y="1"/>
                    </a:cubicBezTo>
                    <a:close/>
                    <a:moveTo>
                      <a:pt x="1443" y="1"/>
                    </a:moveTo>
                    <a:lnTo>
                      <a:pt x="1443" y="1"/>
                    </a:lnTo>
                    <a:cubicBezTo>
                      <a:pt x="1444" y="1"/>
                      <a:pt x="1445" y="2"/>
                      <a:pt x="1445" y="3"/>
                    </a:cubicBezTo>
                    <a:cubicBezTo>
                      <a:pt x="1445" y="4"/>
                      <a:pt x="1444" y="5"/>
                      <a:pt x="1443" y="5"/>
                    </a:cubicBezTo>
                    <a:lnTo>
                      <a:pt x="1443" y="5"/>
                    </a:lnTo>
                    <a:cubicBezTo>
                      <a:pt x="1441" y="5"/>
                      <a:pt x="1441" y="4"/>
                      <a:pt x="1441" y="3"/>
                    </a:cubicBezTo>
                    <a:cubicBezTo>
                      <a:pt x="1441" y="2"/>
                      <a:pt x="1441" y="1"/>
                      <a:pt x="1443" y="1"/>
                    </a:cubicBezTo>
                    <a:close/>
                    <a:moveTo>
                      <a:pt x="1451" y="1"/>
                    </a:moveTo>
                    <a:lnTo>
                      <a:pt x="1451" y="1"/>
                    </a:lnTo>
                    <a:cubicBezTo>
                      <a:pt x="1452" y="1"/>
                      <a:pt x="1453" y="2"/>
                      <a:pt x="1453" y="3"/>
                    </a:cubicBezTo>
                    <a:cubicBezTo>
                      <a:pt x="1453" y="4"/>
                      <a:pt x="1452" y="5"/>
                      <a:pt x="1451" y="5"/>
                    </a:cubicBezTo>
                    <a:lnTo>
                      <a:pt x="1451" y="5"/>
                    </a:lnTo>
                    <a:cubicBezTo>
                      <a:pt x="1449" y="5"/>
                      <a:pt x="1449" y="4"/>
                      <a:pt x="1449" y="3"/>
                    </a:cubicBezTo>
                    <a:cubicBezTo>
                      <a:pt x="1449" y="2"/>
                      <a:pt x="1449" y="1"/>
                      <a:pt x="1451" y="1"/>
                    </a:cubicBezTo>
                    <a:close/>
                    <a:moveTo>
                      <a:pt x="1459" y="1"/>
                    </a:moveTo>
                    <a:lnTo>
                      <a:pt x="1459" y="1"/>
                    </a:lnTo>
                    <a:cubicBezTo>
                      <a:pt x="1460" y="1"/>
                      <a:pt x="1461" y="2"/>
                      <a:pt x="1461" y="3"/>
                    </a:cubicBezTo>
                    <a:cubicBezTo>
                      <a:pt x="1461" y="4"/>
                      <a:pt x="1460" y="5"/>
                      <a:pt x="1459" y="5"/>
                    </a:cubicBezTo>
                    <a:lnTo>
                      <a:pt x="1459" y="5"/>
                    </a:lnTo>
                    <a:cubicBezTo>
                      <a:pt x="1457" y="5"/>
                      <a:pt x="1457" y="4"/>
                      <a:pt x="1457" y="3"/>
                    </a:cubicBezTo>
                    <a:cubicBezTo>
                      <a:pt x="1457" y="2"/>
                      <a:pt x="1457" y="1"/>
                      <a:pt x="1459" y="1"/>
                    </a:cubicBezTo>
                    <a:close/>
                    <a:moveTo>
                      <a:pt x="1467" y="1"/>
                    </a:moveTo>
                    <a:lnTo>
                      <a:pt x="1467" y="1"/>
                    </a:lnTo>
                    <a:cubicBezTo>
                      <a:pt x="1468" y="1"/>
                      <a:pt x="1469" y="2"/>
                      <a:pt x="1469" y="3"/>
                    </a:cubicBezTo>
                    <a:cubicBezTo>
                      <a:pt x="1469" y="4"/>
                      <a:pt x="1468" y="5"/>
                      <a:pt x="1467" y="5"/>
                    </a:cubicBezTo>
                    <a:lnTo>
                      <a:pt x="1467" y="5"/>
                    </a:lnTo>
                    <a:cubicBezTo>
                      <a:pt x="1465" y="5"/>
                      <a:pt x="1465" y="4"/>
                      <a:pt x="1465" y="3"/>
                    </a:cubicBezTo>
                    <a:cubicBezTo>
                      <a:pt x="1465" y="2"/>
                      <a:pt x="1465" y="1"/>
                      <a:pt x="1467" y="1"/>
                    </a:cubicBezTo>
                    <a:close/>
                    <a:moveTo>
                      <a:pt x="1475" y="1"/>
                    </a:moveTo>
                    <a:lnTo>
                      <a:pt x="1475" y="1"/>
                    </a:lnTo>
                    <a:cubicBezTo>
                      <a:pt x="1476" y="1"/>
                      <a:pt x="1477" y="2"/>
                      <a:pt x="1477" y="3"/>
                    </a:cubicBezTo>
                    <a:cubicBezTo>
                      <a:pt x="1477" y="4"/>
                      <a:pt x="1476" y="5"/>
                      <a:pt x="1475" y="5"/>
                    </a:cubicBezTo>
                    <a:lnTo>
                      <a:pt x="1475" y="5"/>
                    </a:lnTo>
                    <a:cubicBezTo>
                      <a:pt x="1473" y="5"/>
                      <a:pt x="1473" y="4"/>
                      <a:pt x="1473" y="3"/>
                    </a:cubicBezTo>
                    <a:cubicBezTo>
                      <a:pt x="1473" y="2"/>
                      <a:pt x="1473" y="1"/>
                      <a:pt x="1475" y="1"/>
                    </a:cubicBezTo>
                    <a:close/>
                    <a:moveTo>
                      <a:pt x="1483" y="1"/>
                    </a:moveTo>
                    <a:lnTo>
                      <a:pt x="1483" y="1"/>
                    </a:lnTo>
                    <a:cubicBezTo>
                      <a:pt x="1484" y="1"/>
                      <a:pt x="1485" y="2"/>
                      <a:pt x="1485" y="3"/>
                    </a:cubicBezTo>
                    <a:cubicBezTo>
                      <a:pt x="1485" y="4"/>
                      <a:pt x="1484" y="5"/>
                      <a:pt x="1483" y="5"/>
                    </a:cubicBezTo>
                    <a:lnTo>
                      <a:pt x="1483" y="5"/>
                    </a:lnTo>
                    <a:cubicBezTo>
                      <a:pt x="1481" y="5"/>
                      <a:pt x="1481" y="4"/>
                      <a:pt x="1481" y="3"/>
                    </a:cubicBezTo>
                    <a:cubicBezTo>
                      <a:pt x="1481" y="2"/>
                      <a:pt x="1481" y="1"/>
                      <a:pt x="1483" y="1"/>
                    </a:cubicBezTo>
                    <a:close/>
                    <a:moveTo>
                      <a:pt x="1491" y="1"/>
                    </a:moveTo>
                    <a:lnTo>
                      <a:pt x="1491" y="1"/>
                    </a:lnTo>
                    <a:cubicBezTo>
                      <a:pt x="1492" y="1"/>
                      <a:pt x="1493" y="2"/>
                      <a:pt x="1493" y="3"/>
                    </a:cubicBezTo>
                    <a:cubicBezTo>
                      <a:pt x="1493" y="4"/>
                      <a:pt x="1492" y="5"/>
                      <a:pt x="1491" y="5"/>
                    </a:cubicBezTo>
                    <a:lnTo>
                      <a:pt x="1491" y="5"/>
                    </a:lnTo>
                    <a:cubicBezTo>
                      <a:pt x="1489" y="5"/>
                      <a:pt x="1489" y="4"/>
                      <a:pt x="1489" y="3"/>
                    </a:cubicBezTo>
                    <a:cubicBezTo>
                      <a:pt x="1489" y="2"/>
                      <a:pt x="1489" y="1"/>
                      <a:pt x="1491" y="1"/>
                    </a:cubicBezTo>
                    <a:close/>
                    <a:moveTo>
                      <a:pt x="1499" y="1"/>
                    </a:moveTo>
                    <a:lnTo>
                      <a:pt x="1499" y="1"/>
                    </a:lnTo>
                    <a:cubicBezTo>
                      <a:pt x="1500" y="1"/>
                      <a:pt x="1501" y="2"/>
                      <a:pt x="1501" y="3"/>
                    </a:cubicBezTo>
                    <a:cubicBezTo>
                      <a:pt x="1501" y="4"/>
                      <a:pt x="1500" y="5"/>
                      <a:pt x="1499" y="5"/>
                    </a:cubicBezTo>
                    <a:lnTo>
                      <a:pt x="1499" y="5"/>
                    </a:lnTo>
                    <a:cubicBezTo>
                      <a:pt x="1497" y="5"/>
                      <a:pt x="1497" y="4"/>
                      <a:pt x="1497" y="3"/>
                    </a:cubicBezTo>
                    <a:cubicBezTo>
                      <a:pt x="1497" y="2"/>
                      <a:pt x="1497" y="1"/>
                      <a:pt x="1499" y="1"/>
                    </a:cubicBezTo>
                    <a:close/>
                    <a:moveTo>
                      <a:pt x="1507" y="1"/>
                    </a:moveTo>
                    <a:lnTo>
                      <a:pt x="1507" y="1"/>
                    </a:lnTo>
                    <a:cubicBezTo>
                      <a:pt x="1508" y="1"/>
                      <a:pt x="1509" y="2"/>
                      <a:pt x="1509" y="3"/>
                    </a:cubicBezTo>
                    <a:cubicBezTo>
                      <a:pt x="1509" y="4"/>
                      <a:pt x="1508" y="5"/>
                      <a:pt x="1507" y="5"/>
                    </a:cubicBezTo>
                    <a:lnTo>
                      <a:pt x="1507" y="5"/>
                    </a:lnTo>
                    <a:cubicBezTo>
                      <a:pt x="1505" y="5"/>
                      <a:pt x="1505" y="4"/>
                      <a:pt x="1505" y="3"/>
                    </a:cubicBezTo>
                    <a:cubicBezTo>
                      <a:pt x="1505" y="2"/>
                      <a:pt x="1505" y="1"/>
                      <a:pt x="1507" y="1"/>
                    </a:cubicBezTo>
                    <a:close/>
                    <a:moveTo>
                      <a:pt x="1515" y="1"/>
                    </a:moveTo>
                    <a:lnTo>
                      <a:pt x="1515" y="1"/>
                    </a:lnTo>
                    <a:cubicBezTo>
                      <a:pt x="1516" y="1"/>
                      <a:pt x="1517" y="2"/>
                      <a:pt x="1517" y="3"/>
                    </a:cubicBezTo>
                    <a:cubicBezTo>
                      <a:pt x="1517" y="4"/>
                      <a:pt x="1516" y="5"/>
                      <a:pt x="1515" y="5"/>
                    </a:cubicBezTo>
                    <a:lnTo>
                      <a:pt x="1515" y="5"/>
                    </a:lnTo>
                    <a:cubicBezTo>
                      <a:pt x="1513" y="5"/>
                      <a:pt x="1513" y="4"/>
                      <a:pt x="1513" y="3"/>
                    </a:cubicBezTo>
                    <a:cubicBezTo>
                      <a:pt x="1513" y="2"/>
                      <a:pt x="1513" y="1"/>
                      <a:pt x="1515" y="1"/>
                    </a:cubicBezTo>
                    <a:close/>
                    <a:moveTo>
                      <a:pt x="1523" y="1"/>
                    </a:moveTo>
                    <a:lnTo>
                      <a:pt x="1523" y="1"/>
                    </a:lnTo>
                    <a:cubicBezTo>
                      <a:pt x="1524" y="1"/>
                      <a:pt x="1525" y="2"/>
                      <a:pt x="1525" y="3"/>
                    </a:cubicBezTo>
                    <a:cubicBezTo>
                      <a:pt x="1525" y="4"/>
                      <a:pt x="1524" y="5"/>
                      <a:pt x="1523" y="5"/>
                    </a:cubicBezTo>
                    <a:lnTo>
                      <a:pt x="1523" y="5"/>
                    </a:lnTo>
                    <a:cubicBezTo>
                      <a:pt x="1521" y="5"/>
                      <a:pt x="1521" y="4"/>
                      <a:pt x="1521" y="3"/>
                    </a:cubicBezTo>
                    <a:cubicBezTo>
                      <a:pt x="1521" y="2"/>
                      <a:pt x="1521" y="1"/>
                      <a:pt x="1523" y="1"/>
                    </a:cubicBezTo>
                    <a:close/>
                    <a:moveTo>
                      <a:pt x="1531" y="1"/>
                    </a:moveTo>
                    <a:lnTo>
                      <a:pt x="1531" y="1"/>
                    </a:lnTo>
                    <a:cubicBezTo>
                      <a:pt x="1532" y="1"/>
                      <a:pt x="1533" y="2"/>
                      <a:pt x="1533" y="3"/>
                    </a:cubicBezTo>
                    <a:cubicBezTo>
                      <a:pt x="1533" y="4"/>
                      <a:pt x="1532" y="5"/>
                      <a:pt x="1531" y="5"/>
                    </a:cubicBezTo>
                    <a:lnTo>
                      <a:pt x="1531" y="5"/>
                    </a:lnTo>
                    <a:cubicBezTo>
                      <a:pt x="1529" y="5"/>
                      <a:pt x="1529" y="4"/>
                      <a:pt x="1529" y="3"/>
                    </a:cubicBezTo>
                    <a:cubicBezTo>
                      <a:pt x="1529" y="2"/>
                      <a:pt x="1529" y="1"/>
                      <a:pt x="1531" y="1"/>
                    </a:cubicBezTo>
                    <a:close/>
                    <a:moveTo>
                      <a:pt x="1539" y="1"/>
                    </a:moveTo>
                    <a:lnTo>
                      <a:pt x="1539" y="1"/>
                    </a:lnTo>
                    <a:cubicBezTo>
                      <a:pt x="1540" y="1"/>
                      <a:pt x="1541" y="2"/>
                      <a:pt x="1541" y="3"/>
                    </a:cubicBezTo>
                    <a:cubicBezTo>
                      <a:pt x="1541" y="4"/>
                      <a:pt x="1540" y="5"/>
                      <a:pt x="1539" y="5"/>
                    </a:cubicBezTo>
                    <a:lnTo>
                      <a:pt x="1539" y="5"/>
                    </a:lnTo>
                    <a:cubicBezTo>
                      <a:pt x="1537" y="5"/>
                      <a:pt x="1537" y="4"/>
                      <a:pt x="1537" y="3"/>
                    </a:cubicBezTo>
                    <a:cubicBezTo>
                      <a:pt x="1537" y="2"/>
                      <a:pt x="1537" y="1"/>
                      <a:pt x="1539" y="1"/>
                    </a:cubicBezTo>
                    <a:close/>
                    <a:moveTo>
                      <a:pt x="1547" y="1"/>
                    </a:moveTo>
                    <a:lnTo>
                      <a:pt x="1547" y="1"/>
                    </a:lnTo>
                    <a:cubicBezTo>
                      <a:pt x="1548" y="1"/>
                      <a:pt x="1549" y="2"/>
                      <a:pt x="1549" y="3"/>
                    </a:cubicBezTo>
                    <a:cubicBezTo>
                      <a:pt x="1549" y="4"/>
                      <a:pt x="1548" y="5"/>
                      <a:pt x="1547" y="5"/>
                    </a:cubicBezTo>
                    <a:lnTo>
                      <a:pt x="1547" y="5"/>
                    </a:lnTo>
                    <a:cubicBezTo>
                      <a:pt x="1545" y="5"/>
                      <a:pt x="1545" y="4"/>
                      <a:pt x="1545" y="3"/>
                    </a:cubicBezTo>
                    <a:cubicBezTo>
                      <a:pt x="1545" y="2"/>
                      <a:pt x="1545" y="1"/>
                      <a:pt x="1547" y="1"/>
                    </a:cubicBezTo>
                    <a:close/>
                    <a:moveTo>
                      <a:pt x="1555" y="1"/>
                    </a:moveTo>
                    <a:lnTo>
                      <a:pt x="1555" y="1"/>
                    </a:lnTo>
                    <a:cubicBezTo>
                      <a:pt x="1556" y="1"/>
                      <a:pt x="1557" y="2"/>
                      <a:pt x="1557" y="3"/>
                    </a:cubicBezTo>
                    <a:cubicBezTo>
                      <a:pt x="1557" y="4"/>
                      <a:pt x="1556" y="5"/>
                      <a:pt x="1555" y="5"/>
                    </a:cubicBezTo>
                    <a:lnTo>
                      <a:pt x="1555" y="5"/>
                    </a:lnTo>
                    <a:cubicBezTo>
                      <a:pt x="1553" y="5"/>
                      <a:pt x="1553" y="4"/>
                      <a:pt x="1553" y="3"/>
                    </a:cubicBezTo>
                    <a:cubicBezTo>
                      <a:pt x="1553" y="2"/>
                      <a:pt x="1553" y="1"/>
                      <a:pt x="1555" y="1"/>
                    </a:cubicBezTo>
                    <a:close/>
                    <a:moveTo>
                      <a:pt x="1563" y="1"/>
                    </a:moveTo>
                    <a:lnTo>
                      <a:pt x="1563" y="1"/>
                    </a:lnTo>
                    <a:cubicBezTo>
                      <a:pt x="1564" y="1"/>
                      <a:pt x="1565" y="2"/>
                      <a:pt x="1565" y="3"/>
                    </a:cubicBezTo>
                    <a:cubicBezTo>
                      <a:pt x="1565" y="4"/>
                      <a:pt x="1564" y="5"/>
                      <a:pt x="1563" y="5"/>
                    </a:cubicBezTo>
                    <a:lnTo>
                      <a:pt x="1563" y="5"/>
                    </a:lnTo>
                    <a:cubicBezTo>
                      <a:pt x="1561" y="5"/>
                      <a:pt x="1561" y="4"/>
                      <a:pt x="1561" y="3"/>
                    </a:cubicBezTo>
                    <a:cubicBezTo>
                      <a:pt x="1561" y="2"/>
                      <a:pt x="1561" y="1"/>
                      <a:pt x="1563" y="1"/>
                    </a:cubicBezTo>
                    <a:close/>
                    <a:moveTo>
                      <a:pt x="1571" y="1"/>
                    </a:moveTo>
                    <a:lnTo>
                      <a:pt x="1571" y="1"/>
                    </a:lnTo>
                    <a:cubicBezTo>
                      <a:pt x="1572" y="1"/>
                      <a:pt x="1573" y="2"/>
                      <a:pt x="1573" y="3"/>
                    </a:cubicBezTo>
                    <a:cubicBezTo>
                      <a:pt x="1573" y="4"/>
                      <a:pt x="1572" y="5"/>
                      <a:pt x="1571" y="5"/>
                    </a:cubicBezTo>
                    <a:lnTo>
                      <a:pt x="1571" y="5"/>
                    </a:lnTo>
                    <a:cubicBezTo>
                      <a:pt x="1569" y="5"/>
                      <a:pt x="1569" y="4"/>
                      <a:pt x="1569" y="3"/>
                    </a:cubicBezTo>
                    <a:cubicBezTo>
                      <a:pt x="1569" y="2"/>
                      <a:pt x="1569" y="1"/>
                      <a:pt x="1571" y="1"/>
                    </a:cubicBezTo>
                    <a:close/>
                    <a:moveTo>
                      <a:pt x="1579" y="1"/>
                    </a:moveTo>
                    <a:lnTo>
                      <a:pt x="1579" y="1"/>
                    </a:lnTo>
                    <a:cubicBezTo>
                      <a:pt x="1580" y="1"/>
                      <a:pt x="1581" y="2"/>
                      <a:pt x="1581" y="3"/>
                    </a:cubicBezTo>
                    <a:cubicBezTo>
                      <a:pt x="1581" y="4"/>
                      <a:pt x="1580" y="5"/>
                      <a:pt x="1579" y="5"/>
                    </a:cubicBezTo>
                    <a:lnTo>
                      <a:pt x="1579" y="5"/>
                    </a:lnTo>
                    <a:cubicBezTo>
                      <a:pt x="1577" y="5"/>
                      <a:pt x="1577" y="4"/>
                      <a:pt x="1577" y="3"/>
                    </a:cubicBezTo>
                    <a:cubicBezTo>
                      <a:pt x="1577" y="2"/>
                      <a:pt x="1577" y="1"/>
                      <a:pt x="1579" y="1"/>
                    </a:cubicBezTo>
                    <a:close/>
                    <a:moveTo>
                      <a:pt x="1587" y="1"/>
                    </a:moveTo>
                    <a:lnTo>
                      <a:pt x="1587" y="1"/>
                    </a:lnTo>
                    <a:cubicBezTo>
                      <a:pt x="1588" y="1"/>
                      <a:pt x="1589" y="2"/>
                      <a:pt x="1589" y="3"/>
                    </a:cubicBezTo>
                    <a:cubicBezTo>
                      <a:pt x="1589" y="4"/>
                      <a:pt x="1588" y="5"/>
                      <a:pt x="1587" y="5"/>
                    </a:cubicBezTo>
                    <a:lnTo>
                      <a:pt x="1587" y="5"/>
                    </a:lnTo>
                    <a:cubicBezTo>
                      <a:pt x="1585" y="5"/>
                      <a:pt x="1585" y="4"/>
                      <a:pt x="1585" y="3"/>
                    </a:cubicBezTo>
                    <a:cubicBezTo>
                      <a:pt x="1585" y="2"/>
                      <a:pt x="1585" y="1"/>
                      <a:pt x="1587" y="1"/>
                    </a:cubicBezTo>
                    <a:close/>
                    <a:moveTo>
                      <a:pt x="1595" y="1"/>
                    </a:moveTo>
                    <a:lnTo>
                      <a:pt x="1595" y="1"/>
                    </a:lnTo>
                    <a:cubicBezTo>
                      <a:pt x="1596" y="1"/>
                      <a:pt x="1597" y="2"/>
                      <a:pt x="1597" y="3"/>
                    </a:cubicBezTo>
                    <a:cubicBezTo>
                      <a:pt x="1597" y="4"/>
                      <a:pt x="1596" y="5"/>
                      <a:pt x="1595" y="5"/>
                    </a:cubicBezTo>
                    <a:lnTo>
                      <a:pt x="1595" y="5"/>
                    </a:lnTo>
                    <a:cubicBezTo>
                      <a:pt x="1593" y="5"/>
                      <a:pt x="1593" y="4"/>
                      <a:pt x="1593" y="3"/>
                    </a:cubicBezTo>
                    <a:cubicBezTo>
                      <a:pt x="1593" y="2"/>
                      <a:pt x="1593" y="1"/>
                      <a:pt x="1595" y="1"/>
                    </a:cubicBezTo>
                    <a:close/>
                    <a:moveTo>
                      <a:pt x="1603" y="1"/>
                    </a:moveTo>
                    <a:lnTo>
                      <a:pt x="1603" y="1"/>
                    </a:lnTo>
                    <a:cubicBezTo>
                      <a:pt x="1604" y="1"/>
                      <a:pt x="1605" y="2"/>
                      <a:pt x="1605" y="3"/>
                    </a:cubicBezTo>
                    <a:cubicBezTo>
                      <a:pt x="1605" y="4"/>
                      <a:pt x="1604" y="5"/>
                      <a:pt x="1603" y="5"/>
                    </a:cubicBezTo>
                    <a:lnTo>
                      <a:pt x="1603" y="5"/>
                    </a:lnTo>
                    <a:cubicBezTo>
                      <a:pt x="1601" y="5"/>
                      <a:pt x="1601" y="4"/>
                      <a:pt x="1601" y="3"/>
                    </a:cubicBezTo>
                    <a:cubicBezTo>
                      <a:pt x="1601" y="2"/>
                      <a:pt x="1601" y="1"/>
                      <a:pt x="1603" y="1"/>
                    </a:cubicBezTo>
                    <a:close/>
                    <a:moveTo>
                      <a:pt x="1611" y="1"/>
                    </a:moveTo>
                    <a:lnTo>
                      <a:pt x="1611" y="1"/>
                    </a:lnTo>
                    <a:cubicBezTo>
                      <a:pt x="1612" y="1"/>
                      <a:pt x="1613" y="2"/>
                      <a:pt x="1613" y="3"/>
                    </a:cubicBezTo>
                    <a:cubicBezTo>
                      <a:pt x="1613" y="4"/>
                      <a:pt x="1612" y="5"/>
                      <a:pt x="1611" y="5"/>
                    </a:cubicBezTo>
                    <a:lnTo>
                      <a:pt x="1611" y="5"/>
                    </a:lnTo>
                    <a:cubicBezTo>
                      <a:pt x="1609" y="5"/>
                      <a:pt x="1609" y="4"/>
                      <a:pt x="1609" y="3"/>
                    </a:cubicBezTo>
                    <a:cubicBezTo>
                      <a:pt x="1609" y="2"/>
                      <a:pt x="1609" y="1"/>
                      <a:pt x="1611" y="1"/>
                    </a:cubicBezTo>
                    <a:close/>
                    <a:moveTo>
                      <a:pt x="1619" y="1"/>
                    </a:moveTo>
                    <a:lnTo>
                      <a:pt x="1619" y="1"/>
                    </a:lnTo>
                    <a:cubicBezTo>
                      <a:pt x="1620" y="1"/>
                      <a:pt x="1621" y="2"/>
                      <a:pt x="1621" y="3"/>
                    </a:cubicBezTo>
                    <a:cubicBezTo>
                      <a:pt x="1621" y="4"/>
                      <a:pt x="1620" y="5"/>
                      <a:pt x="1619" y="5"/>
                    </a:cubicBezTo>
                    <a:lnTo>
                      <a:pt x="1619" y="5"/>
                    </a:lnTo>
                    <a:cubicBezTo>
                      <a:pt x="1617" y="5"/>
                      <a:pt x="1617" y="4"/>
                      <a:pt x="1617" y="3"/>
                    </a:cubicBezTo>
                    <a:cubicBezTo>
                      <a:pt x="1617" y="2"/>
                      <a:pt x="1617" y="1"/>
                      <a:pt x="1619" y="1"/>
                    </a:cubicBezTo>
                    <a:close/>
                    <a:moveTo>
                      <a:pt x="1627" y="1"/>
                    </a:moveTo>
                    <a:lnTo>
                      <a:pt x="1627" y="1"/>
                    </a:lnTo>
                    <a:cubicBezTo>
                      <a:pt x="1628" y="1"/>
                      <a:pt x="1629" y="2"/>
                      <a:pt x="1629" y="3"/>
                    </a:cubicBezTo>
                    <a:cubicBezTo>
                      <a:pt x="1629" y="4"/>
                      <a:pt x="1628" y="5"/>
                      <a:pt x="1627" y="5"/>
                    </a:cubicBezTo>
                    <a:lnTo>
                      <a:pt x="1627" y="5"/>
                    </a:lnTo>
                    <a:cubicBezTo>
                      <a:pt x="1625" y="5"/>
                      <a:pt x="1625" y="4"/>
                      <a:pt x="1625" y="3"/>
                    </a:cubicBezTo>
                    <a:cubicBezTo>
                      <a:pt x="1625" y="2"/>
                      <a:pt x="1625" y="1"/>
                      <a:pt x="1627" y="1"/>
                    </a:cubicBezTo>
                    <a:close/>
                    <a:moveTo>
                      <a:pt x="1635" y="1"/>
                    </a:moveTo>
                    <a:lnTo>
                      <a:pt x="1635" y="1"/>
                    </a:lnTo>
                    <a:cubicBezTo>
                      <a:pt x="1636" y="1"/>
                      <a:pt x="1637" y="2"/>
                      <a:pt x="1637" y="3"/>
                    </a:cubicBezTo>
                    <a:cubicBezTo>
                      <a:pt x="1637" y="4"/>
                      <a:pt x="1636" y="5"/>
                      <a:pt x="1635" y="5"/>
                    </a:cubicBezTo>
                    <a:lnTo>
                      <a:pt x="1635" y="5"/>
                    </a:lnTo>
                    <a:cubicBezTo>
                      <a:pt x="1633" y="5"/>
                      <a:pt x="1633" y="4"/>
                      <a:pt x="1633" y="3"/>
                    </a:cubicBezTo>
                    <a:cubicBezTo>
                      <a:pt x="1633" y="2"/>
                      <a:pt x="1633" y="1"/>
                      <a:pt x="1635" y="1"/>
                    </a:cubicBezTo>
                    <a:close/>
                    <a:moveTo>
                      <a:pt x="1643" y="1"/>
                    </a:moveTo>
                    <a:lnTo>
                      <a:pt x="1643" y="1"/>
                    </a:lnTo>
                    <a:cubicBezTo>
                      <a:pt x="1644" y="1"/>
                      <a:pt x="1645" y="2"/>
                      <a:pt x="1645" y="3"/>
                    </a:cubicBezTo>
                    <a:cubicBezTo>
                      <a:pt x="1645" y="4"/>
                      <a:pt x="1644" y="5"/>
                      <a:pt x="1643" y="5"/>
                    </a:cubicBezTo>
                    <a:lnTo>
                      <a:pt x="1643" y="5"/>
                    </a:lnTo>
                    <a:cubicBezTo>
                      <a:pt x="1641" y="5"/>
                      <a:pt x="1641" y="4"/>
                      <a:pt x="1641" y="3"/>
                    </a:cubicBezTo>
                    <a:cubicBezTo>
                      <a:pt x="1641" y="2"/>
                      <a:pt x="1641" y="1"/>
                      <a:pt x="1643" y="1"/>
                    </a:cubicBezTo>
                    <a:close/>
                    <a:moveTo>
                      <a:pt x="1651" y="1"/>
                    </a:moveTo>
                    <a:lnTo>
                      <a:pt x="1651" y="1"/>
                    </a:lnTo>
                    <a:cubicBezTo>
                      <a:pt x="1652" y="1"/>
                      <a:pt x="1653" y="2"/>
                      <a:pt x="1653" y="3"/>
                    </a:cubicBezTo>
                    <a:cubicBezTo>
                      <a:pt x="1653" y="4"/>
                      <a:pt x="1652" y="5"/>
                      <a:pt x="1651" y="5"/>
                    </a:cubicBezTo>
                    <a:lnTo>
                      <a:pt x="1651" y="5"/>
                    </a:lnTo>
                    <a:cubicBezTo>
                      <a:pt x="1650" y="5"/>
                      <a:pt x="1649" y="4"/>
                      <a:pt x="1649" y="3"/>
                    </a:cubicBezTo>
                    <a:cubicBezTo>
                      <a:pt x="1649" y="2"/>
                      <a:pt x="1650" y="1"/>
                      <a:pt x="1651" y="1"/>
                    </a:cubicBezTo>
                    <a:close/>
                    <a:moveTo>
                      <a:pt x="1659" y="1"/>
                    </a:moveTo>
                    <a:lnTo>
                      <a:pt x="1659" y="1"/>
                    </a:lnTo>
                    <a:cubicBezTo>
                      <a:pt x="1660" y="1"/>
                      <a:pt x="1661" y="2"/>
                      <a:pt x="1661" y="3"/>
                    </a:cubicBezTo>
                    <a:cubicBezTo>
                      <a:pt x="1661" y="4"/>
                      <a:pt x="1660" y="5"/>
                      <a:pt x="1659" y="5"/>
                    </a:cubicBezTo>
                    <a:lnTo>
                      <a:pt x="1659" y="5"/>
                    </a:lnTo>
                    <a:cubicBezTo>
                      <a:pt x="1658" y="5"/>
                      <a:pt x="1657" y="4"/>
                      <a:pt x="1657" y="3"/>
                    </a:cubicBezTo>
                    <a:cubicBezTo>
                      <a:pt x="1657" y="2"/>
                      <a:pt x="1658" y="1"/>
                      <a:pt x="1659" y="1"/>
                    </a:cubicBezTo>
                    <a:close/>
                    <a:moveTo>
                      <a:pt x="1667" y="1"/>
                    </a:moveTo>
                    <a:lnTo>
                      <a:pt x="1667" y="1"/>
                    </a:lnTo>
                    <a:cubicBezTo>
                      <a:pt x="1668" y="1"/>
                      <a:pt x="1669" y="2"/>
                      <a:pt x="1669" y="3"/>
                    </a:cubicBezTo>
                    <a:cubicBezTo>
                      <a:pt x="1669" y="4"/>
                      <a:pt x="1668" y="5"/>
                      <a:pt x="1667" y="5"/>
                    </a:cubicBezTo>
                    <a:lnTo>
                      <a:pt x="1667" y="5"/>
                    </a:lnTo>
                    <a:cubicBezTo>
                      <a:pt x="1666" y="5"/>
                      <a:pt x="1665" y="4"/>
                      <a:pt x="1665" y="3"/>
                    </a:cubicBezTo>
                    <a:cubicBezTo>
                      <a:pt x="1665" y="2"/>
                      <a:pt x="1666" y="1"/>
                      <a:pt x="1667" y="1"/>
                    </a:cubicBezTo>
                    <a:close/>
                    <a:moveTo>
                      <a:pt x="1675" y="1"/>
                    </a:moveTo>
                    <a:lnTo>
                      <a:pt x="1675" y="1"/>
                    </a:lnTo>
                    <a:cubicBezTo>
                      <a:pt x="1676" y="1"/>
                      <a:pt x="1677" y="2"/>
                      <a:pt x="1677" y="3"/>
                    </a:cubicBezTo>
                    <a:cubicBezTo>
                      <a:pt x="1677" y="4"/>
                      <a:pt x="1676" y="5"/>
                      <a:pt x="1675" y="5"/>
                    </a:cubicBezTo>
                    <a:lnTo>
                      <a:pt x="1675" y="5"/>
                    </a:lnTo>
                    <a:cubicBezTo>
                      <a:pt x="1674" y="5"/>
                      <a:pt x="1673" y="4"/>
                      <a:pt x="1673" y="3"/>
                    </a:cubicBezTo>
                    <a:cubicBezTo>
                      <a:pt x="1673" y="2"/>
                      <a:pt x="1674" y="1"/>
                      <a:pt x="1675" y="1"/>
                    </a:cubicBezTo>
                    <a:close/>
                    <a:moveTo>
                      <a:pt x="1683" y="1"/>
                    </a:moveTo>
                    <a:lnTo>
                      <a:pt x="1683" y="1"/>
                    </a:lnTo>
                    <a:cubicBezTo>
                      <a:pt x="1684" y="1"/>
                      <a:pt x="1685" y="2"/>
                      <a:pt x="1685" y="3"/>
                    </a:cubicBezTo>
                    <a:cubicBezTo>
                      <a:pt x="1685" y="4"/>
                      <a:pt x="1684" y="5"/>
                      <a:pt x="1683" y="5"/>
                    </a:cubicBezTo>
                    <a:lnTo>
                      <a:pt x="1683" y="5"/>
                    </a:lnTo>
                    <a:cubicBezTo>
                      <a:pt x="1682" y="5"/>
                      <a:pt x="1681" y="4"/>
                      <a:pt x="1681" y="3"/>
                    </a:cubicBezTo>
                    <a:cubicBezTo>
                      <a:pt x="1681" y="2"/>
                      <a:pt x="1682" y="1"/>
                      <a:pt x="1683" y="1"/>
                    </a:cubicBezTo>
                    <a:close/>
                    <a:moveTo>
                      <a:pt x="1691" y="1"/>
                    </a:moveTo>
                    <a:lnTo>
                      <a:pt x="1691" y="1"/>
                    </a:lnTo>
                    <a:cubicBezTo>
                      <a:pt x="1692" y="1"/>
                      <a:pt x="1693" y="2"/>
                      <a:pt x="1693" y="3"/>
                    </a:cubicBezTo>
                    <a:cubicBezTo>
                      <a:pt x="1693" y="4"/>
                      <a:pt x="1692" y="5"/>
                      <a:pt x="1691" y="5"/>
                    </a:cubicBezTo>
                    <a:lnTo>
                      <a:pt x="1691" y="5"/>
                    </a:lnTo>
                    <a:cubicBezTo>
                      <a:pt x="1690" y="5"/>
                      <a:pt x="1689" y="4"/>
                      <a:pt x="1689" y="3"/>
                    </a:cubicBezTo>
                    <a:cubicBezTo>
                      <a:pt x="1689" y="2"/>
                      <a:pt x="1690" y="1"/>
                      <a:pt x="1691" y="1"/>
                    </a:cubicBezTo>
                    <a:close/>
                    <a:moveTo>
                      <a:pt x="1699" y="1"/>
                    </a:moveTo>
                    <a:lnTo>
                      <a:pt x="1699" y="1"/>
                    </a:lnTo>
                    <a:cubicBezTo>
                      <a:pt x="1700" y="1"/>
                      <a:pt x="1701" y="2"/>
                      <a:pt x="1701" y="3"/>
                    </a:cubicBezTo>
                    <a:cubicBezTo>
                      <a:pt x="1701" y="4"/>
                      <a:pt x="1700" y="5"/>
                      <a:pt x="1699" y="5"/>
                    </a:cubicBezTo>
                    <a:lnTo>
                      <a:pt x="1699" y="5"/>
                    </a:lnTo>
                    <a:cubicBezTo>
                      <a:pt x="1698" y="5"/>
                      <a:pt x="1697" y="4"/>
                      <a:pt x="1697" y="3"/>
                    </a:cubicBezTo>
                    <a:cubicBezTo>
                      <a:pt x="1697" y="2"/>
                      <a:pt x="1698" y="1"/>
                      <a:pt x="1699" y="1"/>
                    </a:cubicBezTo>
                    <a:close/>
                    <a:moveTo>
                      <a:pt x="1707" y="1"/>
                    </a:moveTo>
                    <a:lnTo>
                      <a:pt x="1707" y="1"/>
                    </a:lnTo>
                    <a:cubicBezTo>
                      <a:pt x="1708" y="1"/>
                      <a:pt x="1709" y="2"/>
                      <a:pt x="1709" y="3"/>
                    </a:cubicBezTo>
                    <a:cubicBezTo>
                      <a:pt x="1709" y="4"/>
                      <a:pt x="1708" y="5"/>
                      <a:pt x="1707" y="5"/>
                    </a:cubicBezTo>
                    <a:lnTo>
                      <a:pt x="1707" y="5"/>
                    </a:lnTo>
                    <a:cubicBezTo>
                      <a:pt x="1706" y="5"/>
                      <a:pt x="1705" y="4"/>
                      <a:pt x="1705" y="3"/>
                    </a:cubicBezTo>
                    <a:cubicBezTo>
                      <a:pt x="1705" y="2"/>
                      <a:pt x="1706" y="1"/>
                      <a:pt x="1707" y="1"/>
                    </a:cubicBezTo>
                    <a:close/>
                    <a:moveTo>
                      <a:pt x="1715" y="1"/>
                    </a:moveTo>
                    <a:lnTo>
                      <a:pt x="1715" y="1"/>
                    </a:lnTo>
                    <a:cubicBezTo>
                      <a:pt x="1716" y="1"/>
                      <a:pt x="1717" y="2"/>
                      <a:pt x="1717" y="3"/>
                    </a:cubicBezTo>
                    <a:cubicBezTo>
                      <a:pt x="1717" y="4"/>
                      <a:pt x="1716" y="5"/>
                      <a:pt x="1715" y="5"/>
                    </a:cubicBezTo>
                    <a:lnTo>
                      <a:pt x="1715" y="5"/>
                    </a:lnTo>
                    <a:cubicBezTo>
                      <a:pt x="1714" y="5"/>
                      <a:pt x="1713" y="4"/>
                      <a:pt x="1713" y="3"/>
                    </a:cubicBezTo>
                    <a:cubicBezTo>
                      <a:pt x="1713" y="2"/>
                      <a:pt x="1714" y="1"/>
                      <a:pt x="1715" y="1"/>
                    </a:cubicBezTo>
                    <a:close/>
                    <a:moveTo>
                      <a:pt x="1723" y="1"/>
                    </a:moveTo>
                    <a:lnTo>
                      <a:pt x="1723" y="1"/>
                    </a:lnTo>
                    <a:cubicBezTo>
                      <a:pt x="1724" y="1"/>
                      <a:pt x="1725" y="2"/>
                      <a:pt x="1725" y="3"/>
                    </a:cubicBezTo>
                    <a:cubicBezTo>
                      <a:pt x="1725" y="4"/>
                      <a:pt x="1724" y="5"/>
                      <a:pt x="1723" y="5"/>
                    </a:cubicBezTo>
                    <a:lnTo>
                      <a:pt x="1723" y="5"/>
                    </a:lnTo>
                    <a:cubicBezTo>
                      <a:pt x="1722" y="5"/>
                      <a:pt x="1721" y="4"/>
                      <a:pt x="1721" y="3"/>
                    </a:cubicBezTo>
                    <a:cubicBezTo>
                      <a:pt x="1721" y="2"/>
                      <a:pt x="1722" y="1"/>
                      <a:pt x="1723" y="1"/>
                    </a:cubicBezTo>
                    <a:close/>
                    <a:moveTo>
                      <a:pt x="1731" y="1"/>
                    </a:moveTo>
                    <a:lnTo>
                      <a:pt x="1731" y="1"/>
                    </a:lnTo>
                    <a:cubicBezTo>
                      <a:pt x="1732" y="1"/>
                      <a:pt x="1733" y="2"/>
                      <a:pt x="1733" y="3"/>
                    </a:cubicBezTo>
                    <a:cubicBezTo>
                      <a:pt x="1733" y="4"/>
                      <a:pt x="1732" y="5"/>
                      <a:pt x="1731" y="5"/>
                    </a:cubicBezTo>
                    <a:lnTo>
                      <a:pt x="1731" y="5"/>
                    </a:lnTo>
                    <a:cubicBezTo>
                      <a:pt x="1730" y="5"/>
                      <a:pt x="1729" y="4"/>
                      <a:pt x="1729" y="3"/>
                    </a:cubicBezTo>
                    <a:cubicBezTo>
                      <a:pt x="1729" y="2"/>
                      <a:pt x="1730" y="1"/>
                      <a:pt x="1731" y="1"/>
                    </a:cubicBezTo>
                    <a:close/>
                    <a:moveTo>
                      <a:pt x="1739" y="1"/>
                    </a:moveTo>
                    <a:lnTo>
                      <a:pt x="1739" y="1"/>
                    </a:lnTo>
                    <a:cubicBezTo>
                      <a:pt x="1740" y="1"/>
                      <a:pt x="1741" y="2"/>
                      <a:pt x="1741" y="3"/>
                    </a:cubicBezTo>
                    <a:cubicBezTo>
                      <a:pt x="1741" y="4"/>
                      <a:pt x="1740" y="5"/>
                      <a:pt x="1739" y="5"/>
                    </a:cubicBezTo>
                    <a:lnTo>
                      <a:pt x="1739" y="5"/>
                    </a:lnTo>
                    <a:cubicBezTo>
                      <a:pt x="1738" y="5"/>
                      <a:pt x="1737" y="4"/>
                      <a:pt x="1737" y="3"/>
                    </a:cubicBezTo>
                    <a:cubicBezTo>
                      <a:pt x="1737" y="2"/>
                      <a:pt x="1738" y="1"/>
                      <a:pt x="1739" y="1"/>
                    </a:cubicBezTo>
                    <a:close/>
                    <a:moveTo>
                      <a:pt x="1747" y="1"/>
                    </a:moveTo>
                    <a:lnTo>
                      <a:pt x="1747" y="1"/>
                    </a:lnTo>
                    <a:cubicBezTo>
                      <a:pt x="1748" y="1"/>
                      <a:pt x="1749" y="2"/>
                      <a:pt x="1749" y="3"/>
                    </a:cubicBezTo>
                    <a:cubicBezTo>
                      <a:pt x="1749" y="4"/>
                      <a:pt x="1748" y="5"/>
                      <a:pt x="1747" y="5"/>
                    </a:cubicBezTo>
                    <a:lnTo>
                      <a:pt x="1747" y="5"/>
                    </a:lnTo>
                    <a:cubicBezTo>
                      <a:pt x="1746" y="5"/>
                      <a:pt x="1745" y="4"/>
                      <a:pt x="1745" y="3"/>
                    </a:cubicBezTo>
                    <a:cubicBezTo>
                      <a:pt x="1745" y="2"/>
                      <a:pt x="1746" y="1"/>
                      <a:pt x="1747" y="1"/>
                    </a:cubicBezTo>
                    <a:close/>
                    <a:moveTo>
                      <a:pt x="1755" y="1"/>
                    </a:moveTo>
                    <a:lnTo>
                      <a:pt x="1755" y="1"/>
                    </a:lnTo>
                    <a:cubicBezTo>
                      <a:pt x="1756" y="1"/>
                      <a:pt x="1757" y="2"/>
                      <a:pt x="1757" y="3"/>
                    </a:cubicBezTo>
                    <a:cubicBezTo>
                      <a:pt x="1757" y="4"/>
                      <a:pt x="1756" y="5"/>
                      <a:pt x="1755" y="5"/>
                    </a:cubicBezTo>
                    <a:lnTo>
                      <a:pt x="1755" y="5"/>
                    </a:lnTo>
                    <a:cubicBezTo>
                      <a:pt x="1754" y="5"/>
                      <a:pt x="1753" y="4"/>
                      <a:pt x="1753" y="3"/>
                    </a:cubicBezTo>
                    <a:cubicBezTo>
                      <a:pt x="1753" y="2"/>
                      <a:pt x="1754" y="1"/>
                      <a:pt x="1755" y="1"/>
                    </a:cubicBezTo>
                    <a:close/>
                    <a:moveTo>
                      <a:pt x="1763" y="1"/>
                    </a:moveTo>
                    <a:lnTo>
                      <a:pt x="1763" y="1"/>
                    </a:lnTo>
                    <a:cubicBezTo>
                      <a:pt x="1764" y="1"/>
                      <a:pt x="1765" y="2"/>
                      <a:pt x="1765" y="3"/>
                    </a:cubicBezTo>
                    <a:cubicBezTo>
                      <a:pt x="1765" y="4"/>
                      <a:pt x="1764" y="5"/>
                      <a:pt x="1763" y="5"/>
                    </a:cubicBezTo>
                    <a:lnTo>
                      <a:pt x="1763" y="5"/>
                    </a:lnTo>
                    <a:cubicBezTo>
                      <a:pt x="1762" y="5"/>
                      <a:pt x="1761" y="4"/>
                      <a:pt x="1761" y="3"/>
                    </a:cubicBezTo>
                    <a:cubicBezTo>
                      <a:pt x="1761" y="2"/>
                      <a:pt x="1762" y="1"/>
                      <a:pt x="1763" y="1"/>
                    </a:cubicBezTo>
                    <a:close/>
                    <a:moveTo>
                      <a:pt x="1771" y="1"/>
                    </a:moveTo>
                    <a:lnTo>
                      <a:pt x="1771" y="1"/>
                    </a:lnTo>
                    <a:cubicBezTo>
                      <a:pt x="1772" y="1"/>
                      <a:pt x="1773" y="2"/>
                      <a:pt x="1773" y="3"/>
                    </a:cubicBezTo>
                    <a:cubicBezTo>
                      <a:pt x="1773" y="4"/>
                      <a:pt x="1772" y="5"/>
                      <a:pt x="1771" y="5"/>
                    </a:cubicBezTo>
                    <a:lnTo>
                      <a:pt x="1771" y="5"/>
                    </a:lnTo>
                    <a:cubicBezTo>
                      <a:pt x="1770" y="5"/>
                      <a:pt x="1769" y="4"/>
                      <a:pt x="1769" y="3"/>
                    </a:cubicBezTo>
                    <a:cubicBezTo>
                      <a:pt x="1769" y="2"/>
                      <a:pt x="1770" y="1"/>
                      <a:pt x="1771" y="1"/>
                    </a:cubicBezTo>
                    <a:close/>
                    <a:moveTo>
                      <a:pt x="1779" y="1"/>
                    </a:moveTo>
                    <a:lnTo>
                      <a:pt x="1779" y="1"/>
                    </a:lnTo>
                    <a:cubicBezTo>
                      <a:pt x="1780" y="1"/>
                      <a:pt x="1781" y="2"/>
                      <a:pt x="1781" y="3"/>
                    </a:cubicBezTo>
                    <a:cubicBezTo>
                      <a:pt x="1781" y="4"/>
                      <a:pt x="1780" y="5"/>
                      <a:pt x="1779" y="5"/>
                    </a:cubicBezTo>
                    <a:lnTo>
                      <a:pt x="1779" y="5"/>
                    </a:lnTo>
                    <a:cubicBezTo>
                      <a:pt x="1778" y="5"/>
                      <a:pt x="1777" y="4"/>
                      <a:pt x="1777" y="3"/>
                    </a:cubicBezTo>
                    <a:cubicBezTo>
                      <a:pt x="1777" y="2"/>
                      <a:pt x="1778" y="1"/>
                      <a:pt x="1779" y="1"/>
                    </a:cubicBezTo>
                    <a:close/>
                    <a:moveTo>
                      <a:pt x="1787" y="1"/>
                    </a:moveTo>
                    <a:lnTo>
                      <a:pt x="1787" y="1"/>
                    </a:lnTo>
                    <a:cubicBezTo>
                      <a:pt x="1788" y="1"/>
                      <a:pt x="1789" y="2"/>
                      <a:pt x="1789" y="3"/>
                    </a:cubicBezTo>
                    <a:cubicBezTo>
                      <a:pt x="1789" y="4"/>
                      <a:pt x="1788" y="5"/>
                      <a:pt x="1787" y="5"/>
                    </a:cubicBezTo>
                    <a:lnTo>
                      <a:pt x="1787" y="5"/>
                    </a:lnTo>
                    <a:cubicBezTo>
                      <a:pt x="1786" y="5"/>
                      <a:pt x="1785" y="4"/>
                      <a:pt x="1785" y="3"/>
                    </a:cubicBezTo>
                    <a:cubicBezTo>
                      <a:pt x="1785" y="2"/>
                      <a:pt x="1786" y="1"/>
                      <a:pt x="1787" y="1"/>
                    </a:cubicBezTo>
                    <a:close/>
                    <a:moveTo>
                      <a:pt x="1795" y="1"/>
                    </a:moveTo>
                    <a:lnTo>
                      <a:pt x="1795" y="1"/>
                    </a:lnTo>
                    <a:cubicBezTo>
                      <a:pt x="1796" y="1"/>
                      <a:pt x="1797" y="2"/>
                      <a:pt x="1797" y="3"/>
                    </a:cubicBezTo>
                    <a:cubicBezTo>
                      <a:pt x="1797" y="4"/>
                      <a:pt x="1796" y="5"/>
                      <a:pt x="1795" y="5"/>
                    </a:cubicBezTo>
                    <a:lnTo>
                      <a:pt x="1795" y="5"/>
                    </a:lnTo>
                    <a:cubicBezTo>
                      <a:pt x="1794" y="5"/>
                      <a:pt x="1793" y="4"/>
                      <a:pt x="1793" y="3"/>
                    </a:cubicBezTo>
                    <a:cubicBezTo>
                      <a:pt x="1793" y="2"/>
                      <a:pt x="1794" y="1"/>
                      <a:pt x="1795" y="1"/>
                    </a:cubicBezTo>
                    <a:close/>
                    <a:moveTo>
                      <a:pt x="1803" y="1"/>
                    </a:moveTo>
                    <a:lnTo>
                      <a:pt x="1803" y="1"/>
                    </a:lnTo>
                    <a:cubicBezTo>
                      <a:pt x="1804" y="1"/>
                      <a:pt x="1805" y="2"/>
                      <a:pt x="1805" y="3"/>
                    </a:cubicBezTo>
                    <a:cubicBezTo>
                      <a:pt x="1805" y="4"/>
                      <a:pt x="1804" y="5"/>
                      <a:pt x="1803" y="5"/>
                    </a:cubicBezTo>
                    <a:lnTo>
                      <a:pt x="1803" y="5"/>
                    </a:lnTo>
                    <a:cubicBezTo>
                      <a:pt x="1802" y="5"/>
                      <a:pt x="1801" y="4"/>
                      <a:pt x="1801" y="3"/>
                    </a:cubicBezTo>
                    <a:cubicBezTo>
                      <a:pt x="1801" y="2"/>
                      <a:pt x="1802" y="1"/>
                      <a:pt x="1803" y="1"/>
                    </a:cubicBezTo>
                    <a:close/>
                    <a:moveTo>
                      <a:pt x="1811" y="1"/>
                    </a:moveTo>
                    <a:lnTo>
                      <a:pt x="1811" y="1"/>
                    </a:lnTo>
                    <a:cubicBezTo>
                      <a:pt x="1812" y="1"/>
                      <a:pt x="1813" y="2"/>
                      <a:pt x="1813" y="3"/>
                    </a:cubicBezTo>
                    <a:cubicBezTo>
                      <a:pt x="1813" y="4"/>
                      <a:pt x="1812" y="5"/>
                      <a:pt x="1811" y="5"/>
                    </a:cubicBezTo>
                    <a:lnTo>
                      <a:pt x="1811" y="5"/>
                    </a:lnTo>
                    <a:cubicBezTo>
                      <a:pt x="1810" y="5"/>
                      <a:pt x="1809" y="4"/>
                      <a:pt x="1809" y="3"/>
                    </a:cubicBezTo>
                    <a:cubicBezTo>
                      <a:pt x="1809" y="2"/>
                      <a:pt x="1810" y="1"/>
                      <a:pt x="1811" y="1"/>
                    </a:cubicBezTo>
                    <a:close/>
                    <a:moveTo>
                      <a:pt x="1819" y="1"/>
                    </a:moveTo>
                    <a:lnTo>
                      <a:pt x="1819" y="1"/>
                    </a:lnTo>
                    <a:cubicBezTo>
                      <a:pt x="1820" y="1"/>
                      <a:pt x="1821" y="2"/>
                      <a:pt x="1821" y="3"/>
                    </a:cubicBezTo>
                    <a:cubicBezTo>
                      <a:pt x="1821" y="4"/>
                      <a:pt x="1820" y="5"/>
                      <a:pt x="1819" y="5"/>
                    </a:cubicBezTo>
                    <a:lnTo>
                      <a:pt x="1819" y="5"/>
                    </a:lnTo>
                    <a:cubicBezTo>
                      <a:pt x="1818" y="5"/>
                      <a:pt x="1817" y="4"/>
                      <a:pt x="1817" y="3"/>
                    </a:cubicBezTo>
                    <a:cubicBezTo>
                      <a:pt x="1817" y="2"/>
                      <a:pt x="1818" y="1"/>
                      <a:pt x="1819" y="1"/>
                    </a:cubicBezTo>
                    <a:close/>
                    <a:moveTo>
                      <a:pt x="1827" y="1"/>
                    </a:moveTo>
                    <a:lnTo>
                      <a:pt x="1827" y="1"/>
                    </a:lnTo>
                    <a:cubicBezTo>
                      <a:pt x="1828" y="1"/>
                      <a:pt x="1829" y="2"/>
                      <a:pt x="1829" y="3"/>
                    </a:cubicBezTo>
                    <a:cubicBezTo>
                      <a:pt x="1829" y="4"/>
                      <a:pt x="1828" y="5"/>
                      <a:pt x="1827" y="5"/>
                    </a:cubicBezTo>
                    <a:lnTo>
                      <a:pt x="1827" y="5"/>
                    </a:lnTo>
                    <a:cubicBezTo>
                      <a:pt x="1826" y="5"/>
                      <a:pt x="1825" y="4"/>
                      <a:pt x="1825" y="3"/>
                    </a:cubicBezTo>
                    <a:cubicBezTo>
                      <a:pt x="1825" y="2"/>
                      <a:pt x="1826" y="1"/>
                      <a:pt x="1827" y="1"/>
                    </a:cubicBezTo>
                    <a:close/>
                    <a:moveTo>
                      <a:pt x="1835" y="1"/>
                    </a:moveTo>
                    <a:lnTo>
                      <a:pt x="1835" y="1"/>
                    </a:lnTo>
                    <a:cubicBezTo>
                      <a:pt x="1836" y="1"/>
                      <a:pt x="1837" y="2"/>
                      <a:pt x="1837" y="3"/>
                    </a:cubicBezTo>
                    <a:cubicBezTo>
                      <a:pt x="1837" y="4"/>
                      <a:pt x="1836" y="5"/>
                      <a:pt x="1835" y="5"/>
                    </a:cubicBezTo>
                    <a:lnTo>
                      <a:pt x="1835" y="5"/>
                    </a:lnTo>
                    <a:cubicBezTo>
                      <a:pt x="1834" y="5"/>
                      <a:pt x="1833" y="4"/>
                      <a:pt x="1833" y="3"/>
                    </a:cubicBezTo>
                    <a:cubicBezTo>
                      <a:pt x="1833" y="2"/>
                      <a:pt x="1834" y="1"/>
                      <a:pt x="1835" y="1"/>
                    </a:cubicBezTo>
                    <a:close/>
                    <a:moveTo>
                      <a:pt x="1843" y="1"/>
                    </a:moveTo>
                    <a:lnTo>
                      <a:pt x="1843" y="1"/>
                    </a:lnTo>
                    <a:cubicBezTo>
                      <a:pt x="1844" y="1"/>
                      <a:pt x="1845" y="2"/>
                      <a:pt x="1845" y="3"/>
                    </a:cubicBezTo>
                    <a:cubicBezTo>
                      <a:pt x="1845" y="4"/>
                      <a:pt x="1844" y="5"/>
                      <a:pt x="1843" y="5"/>
                    </a:cubicBezTo>
                    <a:lnTo>
                      <a:pt x="1843" y="5"/>
                    </a:lnTo>
                    <a:cubicBezTo>
                      <a:pt x="1842" y="5"/>
                      <a:pt x="1841" y="4"/>
                      <a:pt x="1841" y="3"/>
                    </a:cubicBezTo>
                    <a:cubicBezTo>
                      <a:pt x="1841" y="2"/>
                      <a:pt x="1842" y="1"/>
                      <a:pt x="1843" y="1"/>
                    </a:cubicBezTo>
                    <a:close/>
                    <a:moveTo>
                      <a:pt x="1851" y="1"/>
                    </a:moveTo>
                    <a:lnTo>
                      <a:pt x="1851" y="1"/>
                    </a:lnTo>
                    <a:cubicBezTo>
                      <a:pt x="1852" y="1"/>
                      <a:pt x="1853" y="2"/>
                      <a:pt x="1853" y="3"/>
                    </a:cubicBezTo>
                    <a:cubicBezTo>
                      <a:pt x="1853" y="4"/>
                      <a:pt x="1852" y="5"/>
                      <a:pt x="1851" y="5"/>
                    </a:cubicBezTo>
                    <a:lnTo>
                      <a:pt x="1851" y="5"/>
                    </a:lnTo>
                    <a:cubicBezTo>
                      <a:pt x="1850" y="5"/>
                      <a:pt x="1849" y="4"/>
                      <a:pt x="1849" y="3"/>
                    </a:cubicBezTo>
                    <a:cubicBezTo>
                      <a:pt x="1849" y="2"/>
                      <a:pt x="1850" y="1"/>
                      <a:pt x="1851" y="1"/>
                    </a:cubicBezTo>
                    <a:close/>
                    <a:moveTo>
                      <a:pt x="1859" y="1"/>
                    </a:moveTo>
                    <a:lnTo>
                      <a:pt x="1859" y="1"/>
                    </a:lnTo>
                    <a:cubicBezTo>
                      <a:pt x="1860" y="1"/>
                      <a:pt x="1861" y="2"/>
                      <a:pt x="1861" y="3"/>
                    </a:cubicBezTo>
                    <a:cubicBezTo>
                      <a:pt x="1861" y="4"/>
                      <a:pt x="1860" y="5"/>
                      <a:pt x="1859" y="5"/>
                    </a:cubicBezTo>
                    <a:lnTo>
                      <a:pt x="1859" y="5"/>
                    </a:lnTo>
                    <a:cubicBezTo>
                      <a:pt x="1858" y="5"/>
                      <a:pt x="1857" y="4"/>
                      <a:pt x="1857" y="3"/>
                    </a:cubicBezTo>
                    <a:cubicBezTo>
                      <a:pt x="1857" y="2"/>
                      <a:pt x="1858" y="1"/>
                      <a:pt x="1859" y="1"/>
                    </a:cubicBezTo>
                    <a:close/>
                    <a:moveTo>
                      <a:pt x="1867" y="1"/>
                    </a:moveTo>
                    <a:lnTo>
                      <a:pt x="1867" y="1"/>
                    </a:lnTo>
                    <a:cubicBezTo>
                      <a:pt x="1868" y="1"/>
                      <a:pt x="1869" y="2"/>
                      <a:pt x="1869" y="3"/>
                    </a:cubicBezTo>
                    <a:cubicBezTo>
                      <a:pt x="1869" y="4"/>
                      <a:pt x="1868" y="5"/>
                      <a:pt x="1867" y="5"/>
                    </a:cubicBezTo>
                    <a:lnTo>
                      <a:pt x="1867" y="5"/>
                    </a:lnTo>
                    <a:cubicBezTo>
                      <a:pt x="1866" y="5"/>
                      <a:pt x="1865" y="4"/>
                      <a:pt x="1865" y="3"/>
                    </a:cubicBezTo>
                    <a:cubicBezTo>
                      <a:pt x="1865" y="2"/>
                      <a:pt x="1866" y="1"/>
                      <a:pt x="1867" y="1"/>
                    </a:cubicBezTo>
                    <a:close/>
                    <a:moveTo>
                      <a:pt x="1875" y="1"/>
                    </a:moveTo>
                    <a:lnTo>
                      <a:pt x="1875" y="1"/>
                    </a:lnTo>
                    <a:cubicBezTo>
                      <a:pt x="1876" y="1"/>
                      <a:pt x="1877" y="2"/>
                      <a:pt x="1877" y="3"/>
                    </a:cubicBezTo>
                    <a:cubicBezTo>
                      <a:pt x="1877" y="4"/>
                      <a:pt x="1876" y="5"/>
                      <a:pt x="1875" y="5"/>
                    </a:cubicBezTo>
                    <a:lnTo>
                      <a:pt x="1875" y="5"/>
                    </a:lnTo>
                    <a:cubicBezTo>
                      <a:pt x="1874" y="5"/>
                      <a:pt x="1873" y="4"/>
                      <a:pt x="1873" y="3"/>
                    </a:cubicBezTo>
                    <a:cubicBezTo>
                      <a:pt x="1873" y="2"/>
                      <a:pt x="1874" y="1"/>
                      <a:pt x="1875" y="1"/>
                    </a:cubicBezTo>
                    <a:close/>
                    <a:moveTo>
                      <a:pt x="1883" y="1"/>
                    </a:moveTo>
                    <a:lnTo>
                      <a:pt x="1883" y="1"/>
                    </a:lnTo>
                    <a:cubicBezTo>
                      <a:pt x="1884" y="1"/>
                      <a:pt x="1885" y="2"/>
                      <a:pt x="1885" y="3"/>
                    </a:cubicBezTo>
                    <a:cubicBezTo>
                      <a:pt x="1885" y="4"/>
                      <a:pt x="1884" y="5"/>
                      <a:pt x="1883" y="5"/>
                    </a:cubicBezTo>
                    <a:lnTo>
                      <a:pt x="1883" y="5"/>
                    </a:lnTo>
                    <a:cubicBezTo>
                      <a:pt x="1882" y="5"/>
                      <a:pt x="1881" y="4"/>
                      <a:pt x="1881" y="3"/>
                    </a:cubicBezTo>
                    <a:cubicBezTo>
                      <a:pt x="1881" y="2"/>
                      <a:pt x="1882" y="1"/>
                      <a:pt x="1883" y="1"/>
                    </a:cubicBezTo>
                    <a:close/>
                    <a:moveTo>
                      <a:pt x="1891" y="1"/>
                    </a:moveTo>
                    <a:lnTo>
                      <a:pt x="1891" y="1"/>
                    </a:lnTo>
                    <a:cubicBezTo>
                      <a:pt x="1892" y="1"/>
                      <a:pt x="1893" y="2"/>
                      <a:pt x="1893" y="3"/>
                    </a:cubicBezTo>
                    <a:cubicBezTo>
                      <a:pt x="1893" y="4"/>
                      <a:pt x="1892" y="5"/>
                      <a:pt x="1891" y="5"/>
                    </a:cubicBezTo>
                    <a:lnTo>
                      <a:pt x="1891" y="5"/>
                    </a:lnTo>
                    <a:cubicBezTo>
                      <a:pt x="1890" y="5"/>
                      <a:pt x="1889" y="4"/>
                      <a:pt x="1889" y="3"/>
                    </a:cubicBezTo>
                    <a:cubicBezTo>
                      <a:pt x="1889" y="2"/>
                      <a:pt x="1890" y="1"/>
                      <a:pt x="1891" y="1"/>
                    </a:cubicBezTo>
                    <a:close/>
                    <a:moveTo>
                      <a:pt x="1899" y="1"/>
                    </a:moveTo>
                    <a:lnTo>
                      <a:pt x="1899" y="1"/>
                    </a:lnTo>
                    <a:cubicBezTo>
                      <a:pt x="1900" y="1"/>
                      <a:pt x="1901" y="2"/>
                      <a:pt x="1901" y="3"/>
                    </a:cubicBezTo>
                    <a:cubicBezTo>
                      <a:pt x="1901" y="4"/>
                      <a:pt x="1900" y="5"/>
                      <a:pt x="1899" y="5"/>
                    </a:cubicBezTo>
                    <a:lnTo>
                      <a:pt x="1899" y="5"/>
                    </a:lnTo>
                    <a:cubicBezTo>
                      <a:pt x="1898" y="5"/>
                      <a:pt x="1897" y="4"/>
                      <a:pt x="1897" y="3"/>
                    </a:cubicBezTo>
                    <a:cubicBezTo>
                      <a:pt x="1897" y="2"/>
                      <a:pt x="1898" y="1"/>
                      <a:pt x="1899" y="1"/>
                    </a:cubicBezTo>
                    <a:close/>
                    <a:moveTo>
                      <a:pt x="1907" y="1"/>
                    </a:moveTo>
                    <a:lnTo>
                      <a:pt x="1907" y="1"/>
                    </a:lnTo>
                    <a:cubicBezTo>
                      <a:pt x="1908" y="1"/>
                      <a:pt x="1909" y="2"/>
                      <a:pt x="1909" y="3"/>
                    </a:cubicBezTo>
                    <a:cubicBezTo>
                      <a:pt x="1909" y="4"/>
                      <a:pt x="1908" y="5"/>
                      <a:pt x="1907" y="5"/>
                    </a:cubicBezTo>
                    <a:lnTo>
                      <a:pt x="1907" y="5"/>
                    </a:lnTo>
                    <a:cubicBezTo>
                      <a:pt x="1906" y="5"/>
                      <a:pt x="1905" y="4"/>
                      <a:pt x="1905" y="3"/>
                    </a:cubicBezTo>
                    <a:cubicBezTo>
                      <a:pt x="1905" y="2"/>
                      <a:pt x="1906" y="1"/>
                      <a:pt x="1907" y="1"/>
                    </a:cubicBezTo>
                    <a:close/>
                    <a:moveTo>
                      <a:pt x="1915" y="1"/>
                    </a:moveTo>
                    <a:lnTo>
                      <a:pt x="1915" y="1"/>
                    </a:lnTo>
                    <a:cubicBezTo>
                      <a:pt x="1916" y="1"/>
                      <a:pt x="1917" y="2"/>
                      <a:pt x="1917" y="3"/>
                    </a:cubicBezTo>
                    <a:cubicBezTo>
                      <a:pt x="1917" y="4"/>
                      <a:pt x="1916" y="5"/>
                      <a:pt x="1915" y="5"/>
                    </a:cubicBezTo>
                    <a:lnTo>
                      <a:pt x="1915" y="5"/>
                    </a:lnTo>
                    <a:cubicBezTo>
                      <a:pt x="1914" y="5"/>
                      <a:pt x="1913" y="4"/>
                      <a:pt x="1913" y="3"/>
                    </a:cubicBezTo>
                    <a:cubicBezTo>
                      <a:pt x="1913" y="2"/>
                      <a:pt x="1914" y="1"/>
                      <a:pt x="1915" y="1"/>
                    </a:cubicBezTo>
                    <a:close/>
                    <a:moveTo>
                      <a:pt x="1923" y="1"/>
                    </a:moveTo>
                    <a:lnTo>
                      <a:pt x="1923" y="1"/>
                    </a:lnTo>
                    <a:cubicBezTo>
                      <a:pt x="1924" y="1"/>
                      <a:pt x="1925" y="2"/>
                      <a:pt x="1925" y="3"/>
                    </a:cubicBezTo>
                    <a:cubicBezTo>
                      <a:pt x="1925" y="4"/>
                      <a:pt x="1924" y="5"/>
                      <a:pt x="1923" y="5"/>
                    </a:cubicBezTo>
                    <a:lnTo>
                      <a:pt x="1923" y="5"/>
                    </a:lnTo>
                    <a:cubicBezTo>
                      <a:pt x="1922" y="5"/>
                      <a:pt x="1921" y="4"/>
                      <a:pt x="1921" y="3"/>
                    </a:cubicBezTo>
                    <a:cubicBezTo>
                      <a:pt x="1921" y="2"/>
                      <a:pt x="1922" y="1"/>
                      <a:pt x="1923" y="1"/>
                    </a:cubicBezTo>
                    <a:close/>
                    <a:moveTo>
                      <a:pt x="1931" y="1"/>
                    </a:moveTo>
                    <a:lnTo>
                      <a:pt x="1931" y="1"/>
                    </a:lnTo>
                    <a:cubicBezTo>
                      <a:pt x="1932" y="1"/>
                      <a:pt x="1933" y="2"/>
                      <a:pt x="1933" y="3"/>
                    </a:cubicBezTo>
                    <a:cubicBezTo>
                      <a:pt x="1933" y="4"/>
                      <a:pt x="1932" y="5"/>
                      <a:pt x="1931" y="5"/>
                    </a:cubicBezTo>
                    <a:lnTo>
                      <a:pt x="1931" y="5"/>
                    </a:lnTo>
                    <a:cubicBezTo>
                      <a:pt x="1930" y="5"/>
                      <a:pt x="1929" y="4"/>
                      <a:pt x="1929" y="3"/>
                    </a:cubicBezTo>
                    <a:cubicBezTo>
                      <a:pt x="1929" y="2"/>
                      <a:pt x="1930" y="1"/>
                      <a:pt x="1931" y="1"/>
                    </a:cubicBezTo>
                    <a:close/>
                    <a:moveTo>
                      <a:pt x="1939" y="1"/>
                    </a:moveTo>
                    <a:lnTo>
                      <a:pt x="1939" y="1"/>
                    </a:lnTo>
                    <a:cubicBezTo>
                      <a:pt x="1940" y="1"/>
                      <a:pt x="1941" y="2"/>
                      <a:pt x="1941" y="3"/>
                    </a:cubicBezTo>
                    <a:cubicBezTo>
                      <a:pt x="1941" y="4"/>
                      <a:pt x="1940" y="5"/>
                      <a:pt x="1939" y="5"/>
                    </a:cubicBezTo>
                    <a:lnTo>
                      <a:pt x="1939" y="5"/>
                    </a:lnTo>
                    <a:cubicBezTo>
                      <a:pt x="1938" y="5"/>
                      <a:pt x="1937" y="4"/>
                      <a:pt x="1937" y="3"/>
                    </a:cubicBezTo>
                    <a:cubicBezTo>
                      <a:pt x="1937" y="2"/>
                      <a:pt x="1938" y="1"/>
                      <a:pt x="1939" y="1"/>
                    </a:cubicBezTo>
                    <a:close/>
                    <a:moveTo>
                      <a:pt x="1947" y="1"/>
                    </a:moveTo>
                    <a:lnTo>
                      <a:pt x="1947" y="1"/>
                    </a:lnTo>
                    <a:cubicBezTo>
                      <a:pt x="1948" y="1"/>
                      <a:pt x="1949" y="2"/>
                      <a:pt x="1949" y="3"/>
                    </a:cubicBezTo>
                    <a:cubicBezTo>
                      <a:pt x="1949" y="4"/>
                      <a:pt x="1948" y="5"/>
                      <a:pt x="1947" y="5"/>
                    </a:cubicBezTo>
                    <a:lnTo>
                      <a:pt x="1947" y="5"/>
                    </a:lnTo>
                    <a:cubicBezTo>
                      <a:pt x="1946" y="5"/>
                      <a:pt x="1945" y="4"/>
                      <a:pt x="1945" y="3"/>
                    </a:cubicBezTo>
                    <a:cubicBezTo>
                      <a:pt x="1945" y="2"/>
                      <a:pt x="1946" y="1"/>
                      <a:pt x="1947" y="1"/>
                    </a:cubicBezTo>
                    <a:close/>
                    <a:moveTo>
                      <a:pt x="1955" y="1"/>
                    </a:moveTo>
                    <a:lnTo>
                      <a:pt x="1955" y="1"/>
                    </a:lnTo>
                    <a:cubicBezTo>
                      <a:pt x="1956" y="1"/>
                      <a:pt x="1957" y="2"/>
                      <a:pt x="1957" y="3"/>
                    </a:cubicBezTo>
                    <a:cubicBezTo>
                      <a:pt x="1957" y="4"/>
                      <a:pt x="1956" y="5"/>
                      <a:pt x="1955" y="5"/>
                    </a:cubicBezTo>
                    <a:lnTo>
                      <a:pt x="1955" y="5"/>
                    </a:lnTo>
                    <a:cubicBezTo>
                      <a:pt x="1954" y="5"/>
                      <a:pt x="1953" y="4"/>
                      <a:pt x="1953" y="3"/>
                    </a:cubicBezTo>
                    <a:cubicBezTo>
                      <a:pt x="1953" y="2"/>
                      <a:pt x="1954" y="1"/>
                      <a:pt x="1955" y="1"/>
                    </a:cubicBezTo>
                    <a:close/>
                    <a:moveTo>
                      <a:pt x="1963" y="1"/>
                    </a:moveTo>
                    <a:lnTo>
                      <a:pt x="1963" y="1"/>
                    </a:lnTo>
                    <a:cubicBezTo>
                      <a:pt x="1964" y="1"/>
                      <a:pt x="1965" y="2"/>
                      <a:pt x="1965" y="3"/>
                    </a:cubicBezTo>
                    <a:cubicBezTo>
                      <a:pt x="1965" y="4"/>
                      <a:pt x="1964" y="5"/>
                      <a:pt x="1963" y="5"/>
                    </a:cubicBezTo>
                    <a:lnTo>
                      <a:pt x="1963" y="5"/>
                    </a:lnTo>
                    <a:cubicBezTo>
                      <a:pt x="1962" y="5"/>
                      <a:pt x="1961" y="4"/>
                      <a:pt x="1961" y="3"/>
                    </a:cubicBezTo>
                    <a:cubicBezTo>
                      <a:pt x="1961" y="2"/>
                      <a:pt x="1962" y="1"/>
                      <a:pt x="1963" y="1"/>
                    </a:cubicBezTo>
                    <a:close/>
                    <a:moveTo>
                      <a:pt x="1971" y="1"/>
                    </a:moveTo>
                    <a:lnTo>
                      <a:pt x="1971" y="1"/>
                    </a:lnTo>
                    <a:cubicBezTo>
                      <a:pt x="1972" y="1"/>
                      <a:pt x="1973" y="2"/>
                      <a:pt x="1973" y="3"/>
                    </a:cubicBezTo>
                    <a:cubicBezTo>
                      <a:pt x="1973" y="4"/>
                      <a:pt x="1972" y="5"/>
                      <a:pt x="1971" y="5"/>
                    </a:cubicBezTo>
                    <a:lnTo>
                      <a:pt x="1971" y="5"/>
                    </a:lnTo>
                    <a:cubicBezTo>
                      <a:pt x="1970" y="5"/>
                      <a:pt x="1969" y="4"/>
                      <a:pt x="1969" y="3"/>
                    </a:cubicBezTo>
                    <a:cubicBezTo>
                      <a:pt x="1969" y="2"/>
                      <a:pt x="1970" y="1"/>
                      <a:pt x="1971" y="1"/>
                    </a:cubicBezTo>
                    <a:close/>
                    <a:moveTo>
                      <a:pt x="1979" y="1"/>
                    </a:moveTo>
                    <a:lnTo>
                      <a:pt x="1979" y="1"/>
                    </a:lnTo>
                    <a:cubicBezTo>
                      <a:pt x="1980" y="1"/>
                      <a:pt x="1981" y="2"/>
                      <a:pt x="1981" y="3"/>
                    </a:cubicBezTo>
                    <a:cubicBezTo>
                      <a:pt x="1981" y="4"/>
                      <a:pt x="1980" y="5"/>
                      <a:pt x="1979" y="5"/>
                    </a:cubicBezTo>
                    <a:lnTo>
                      <a:pt x="1979" y="5"/>
                    </a:lnTo>
                    <a:cubicBezTo>
                      <a:pt x="1978" y="5"/>
                      <a:pt x="1977" y="4"/>
                      <a:pt x="1977" y="3"/>
                    </a:cubicBezTo>
                    <a:cubicBezTo>
                      <a:pt x="1977" y="2"/>
                      <a:pt x="1978" y="1"/>
                      <a:pt x="1979" y="1"/>
                    </a:cubicBezTo>
                    <a:close/>
                    <a:moveTo>
                      <a:pt x="1987" y="1"/>
                    </a:moveTo>
                    <a:lnTo>
                      <a:pt x="1987" y="1"/>
                    </a:lnTo>
                    <a:cubicBezTo>
                      <a:pt x="1988" y="1"/>
                      <a:pt x="1989" y="2"/>
                      <a:pt x="1989" y="3"/>
                    </a:cubicBezTo>
                    <a:cubicBezTo>
                      <a:pt x="1989" y="4"/>
                      <a:pt x="1988" y="5"/>
                      <a:pt x="1987" y="5"/>
                    </a:cubicBezTo>
                    <a:lnTo>
                      <a:pt x="1987" y="5"/>
                    </a:lnTo>
                    <a:cubicBezTo>
                      <a:pt x="1986" y="5"/>
                      <a:pt x="1985" y="4"/>
                      <a:pt x="1985" y="3"/>
                    </a:cubicBezTo>
                    <a:cubicBezTo>
                      <a:pt x="1985" y="2"/>
                      <a:pt x="1986" y="1"/>
                      <a:pt x="1987" y="1"/>
                    </a:cubicBezTo>
                    <a:close/>
                    <a:moveTo>
                      <a:pt x="1995" y="1"/>
                    </a:moveTo>
                    <a:lnTo>
                      <a:pt x="1995" y="1"/>
                    </a:lnTo>
                    <a:cubicBezTo>
                      <a:pt x="1996" y="1"/>
                      <a:pt x="1997" y="2"/>
                      <a:pt x="1997" y="3"/>
                    </a:cubicBezTo>
                    <a:cubicBezTo>
                      <a:pt x="1997" y="4"/>
                      <a:pt x="1996" y="5"/>
                      <a:pt x="1995" y="5"/>
                    </a:cubicBezTo>
                    <a:lnTo>
                      <a:pt x="1995" y="5"/>
                    </a:lnTo>
                    <a:cubicBezTo>
                      <a:pt x="1994" y="5"/>
                      <a:pt x="1993" y="4"/>
                      <a:pt x="1993" y="3"/>
                    </a:cubicBezTo>
                    <a:cubicBezTo>
                      <a:pt x="1993" y="2"/>
                      <a:pt x="1994" y="1"/>
                      <a:pt x="1995" y="1"/>
                    </a:cubicBezTo>
                    <a:close/>
                    <a:moveTo>
                      <a:pt x="2003" y="1"/>
                    </a:moveTo>
                    <a:lnTo>
                      <a:pt x="2003" y="1"/>
                    </a:lnTo>
                    <a:cubicBezTo>
                      <a:pt x="2004" y="1"/>
                      <a:pt x="2005" y="2"/>
                      <a:pt x="2005" y="3"/>
                    </a:cubicBezTo>
                    <a:cubicBezTo>
                      <a:pt x="2005" y="4"/>
                      <a:pt x="2004" y="5"/>
                      <a:pt x="2003" y="5"/>
                    </a:cubicBezTo>
                    <a:lnTo>
                      <a:pt x="2003" y="5"/>
                    </a:lnTo>
                    <a:cubicBezTo>
                      <a:pt x="2002" y="5"/>
                      <a:pt x="2001" y="4"/>
                      <a:pt x="2001" y="3"/>
                    </a:cubicBezTo>
                    <a:cubicBezTo>
                      <a:pt x="2001" y="2"/>
                      <a:pt x="2002" y="1"/>
                      <a:pt x="2003" y="1"/>
                    </a:cubicBezTo>
                    <a:close/>
                    <a:moveTo>
                      <a:pt x="2011" y="1"/>
                    </a:moveTo>
                    <a:lnTo>
                      <a:pt x="2011" y="1"/>
                    </a:lnTo>
                    <a:cubicBezTo>
                      <a:pt x="2012" y="1"/>
                      <a:pt x="2013" y="2"/>
                      <a:pt x="2013" y="3"/>
                    </a:cubicBezTo>
                    <a:cubicBezTo>
                      <a:pt x="2013" y="4"/>
                      <a:pt x="2012" y="5"/>
                      <a:pt x="2011" y="5"/>
                    </a:cubicBezTo>
                    <a:lnTo>
                      <a:pt x="2011" y="5"/>
                    </a:lnTo>
                    <a:cubicBezTo>
                      <a:pt x="2010" y="5"/>
                      <a:pt x="2009" y="4"/>
                      <a:pt x="2009" y="3"/>
                    </a:cubicBezTo>
                    <a:cubicBezTo>
                      <a:pt x="2009" y="2"/>
                      <a:pt x="2010" y="1"/>
                      <a:pt x="2011" y="1"/>
                    </a:cubicBezTo>
                    <a:close/>
                    <a:moveTo>
                      <a:pt x="2019" y="1"/>
                    </a:moveTo>
                    <a:lnTo>
                      <a:pt x="2019" y="1"/>
                    </a:lnTo>
                    <a:cubicBezTo>
                      <a:pt x="2020" y="1"/>
                      <a:pt x="2021" y="2"/>
                      <a:pt x="2021" y="3"/>
                    </a:cubicBezTo>
                    <a:cubicBezTo>
                      <a:pt x="2021" y="4"/>
                      <a:pt x="2020" y="5"/>
                      <a:pt x="2019" y="5"/>
                    </a:cubicBezTo>
                    <a:lnTo>
                      <a:pt x="2019" y="5"/>
                    </a:lnTo>
                    <a:cubicBezTo>
                      <a:pt x="2018" y="5"/>
                      <a:pt x="2017" y="4"/>
                      <a:pt x="2017" y="3"/>
                    </a:cubicBezTo>
                    <a:cubicBezTo>
                      <a:pt x="2017" y="2"/>
                      <a:pt x="2018" y="1"/>
                      <a:pt x="2019" y="1"/>
                    </a:cubicBezTo>
                    <a:close/>
                    <a:moveTo>
                      <a:pt x="2027" y="1"/>
                    </a:moveTo>
                    <a:lnTo>
                      <a:pt x="2027" y="1"/>
                    </a:lnTo>
                    <a:cubicBezTo>
                      <a:pt x="2028" y="1"/>
                      <a:pt x="2029" y="2"/>
                      <a:pt x="2029" y="3"/>
                    </a:cubicBezTo>
                    <a:cubicBezTo>
                      <a:pt x="2029" y="4"/>
                      <a:pt x="2028" y="5"/>
                      <a:pt x="2027" y="5"/>
                    </a:cubicBezTo>
                    <a:lnTo>
                      <a:pt x="2027" y="5"/>
                    </a:lnTo>
                    <a:cubicBezTo>
                      <a:pt x="2026" y="5"/>
                      <a:pt x="2025" y="4"/>
                      <a:pt x="2025" y="3"/>
                    </a:cubicBezTo>
                    <a:cubicBezTo>
                      <a:pt x="2025" y="2"/>
                      <a:pt x="2026" y="1"/>
                      <a:pt x="2027" y="1"/>
                    </a:cubicBezTo>
                    <a:close/>
                    <a:moveTo>
                      <a:pt x="2035" y="1"/>
                    </a:moveTo>
                    <a:lnTo>
                      <a:pt x="2035" y="1"/>
                    </a:lnTo>
                    <a:cubicBezTo>
                      <a:pt x="2036" y="1"/>
                      <a:pt x="2037" y="2"/>
                      <a:pt x="2037" y="3"/>
                    </a:cubicBezTo>
                    <a:cubicBezTo>
                      <a:pt x="2037" y="4"/>
                      <a:pt x="2036" y="5"/>
                      <a:pt x="2035" y="5"/>
                    </a:cubicBezTo>
                    <a:lnTo>
                      <a:pt x="2035" y="5"/>
                    </a:lnTo>
                    <a:cubicBezTo>
                      <a:pt x="2034" y="5"/>
                      <a:pt x="2033" y="4"/>
                      <a:pt x="2033" y="3"/>
                    </a:cubicBezTo>
                    <a:cubicBezTo>
                      <a:pt x="2033" y="2"/>
                      <a:pt x="2034" y="1"/>
                      <a:pt x="2035" y="1"/>
                    </a:cubicBezTo>
                    <a:close/>
                    <a:moveTo>
                      <a:pt x="2043" y="1"/>
                    </a:moveTo>
                    <a:lnTo>
                      <a:pt x="2043" y="1"/>
                    </a:lnTo>
                    <a:cubicBezTo>
                      <a:pt x="2044" y="1"/>
                      <a:pt x="2045" y="2"/>
                      <a:pt x="2045" y="3"/>
                    </a:cubicBezTo>
                    <a:cubicBezTo>
                      <a:pt x="2045" y="4"/>
                      <a:pt x="2044" y="5"/>
                      <a:pt x="2043" y="5"/>
                    </a:cubicBezTo>
                    <a:lnTo>
                      <a:pt x="2043" y="5"/>
                    </a:lnTo>
                    <a:cubicBezTo>
                      <a:pt x="2042" y="5"/>
                      <a:pt x="2041" y="4"/>
                      <a:pt x="2041" y="3"/>
                    </a:cubicBezTo>
                    <a:cubicBezTo>
                      <a:pt x="2041" y="2"/>
                      <a:pt x="2042" y="1"/>
                      <a:pt x="2043" y="1"/>
                    </a:cubicBezTo>
                    <a:close/>
                    <a:moveTo>
                      <a:pt x="2051" y="1"/>
                    </a:moveTo>
                    <a:lnTo>
                      <a:pt x="2051" y="1"/>
                    </a:lnTo>
                    <a:cubicBezTo>
                      <a:pt x="2052" y="1"/>
                      <a:pt x="2053" y="2"/>
                      <a:pt x="2053" y="3"/>
                    </a:cubicBezTo>
                    <a:cubicBezTo>
                      <a:pt x="2053" y="4"/>
                      <a:pt x="2052" y="5"/>
                      <a:pt x="2051" y="5"/>
                    </a:cubicBezTo>
                    <a:lnTo>
                      <a:pt x="2051" y="5"/>
                    </a:lnTo>
                    <a:cubicBezTo>
                      <a:pt x="2050" y="5"/>
                      <a:pt x="2049" y="4"/>
                      <a:pt x="2049" y="3"/>
                    </a:cubicBezTo>
                    <a:cubicBezTo>
                      <a:pt x="2049" y="2"/>
                      <a:pt x="2050" y="1"/>
                      <a:pt x="2051" y="1"/>
                    </a:cubicBezTo>
                    <a:close/>
                    <a:moveTo>
                      <a:pt x="2059" y="1"/>
                    </a:moveTo>
                    <a:lnTo>
                      <a:pt x="2059" y="1"/>
                    </a:lnTo>
                    <a:cubicBezTo>
                      <a:pt x="2060" y="1"/>
                      <a:pt x="2061" y="2"/>
                      <a:pt x="2061" y="3"/>
                    </a:cubicBezTo>
                    <a:cubicBezTo>
                      <a:pt x="2061" y="4"/>
                      <a:pt x="2060" y="5"/>
                      <a:pt x="2059" y="5"/>
                    </a:cubicBezTo>
                    <a:lnTo>
                      <a:pt x="2059" y="5"/>
                    </a:lnTo>
                    <a:cubicBezTo>
                      <a:pt x="2058" y="5"/>
                      <a:pt x="2057" y="4"/>
                      <a:pt x="2057" y="3"/>
                    </a:cubicBezTo>
                    <a:cubicBezTo>
                      <a:pt x="2057" y="2"/>
                      <a:pt x="2058" y="1"/>
                      <a:pt x="2059" y="1"/>
                    </a:cubicBezTo>
                    <a:close/>
                    <a:moveTo>
                      <a:pt x="2067" y="1"/>
                    </a:moveTo>
                    <a:lnTo>
                      <a:pt x="2067" y="1"/>
                    </a:lnTo>
                    <a:cubicBezTo>
                      <a:pt x="2068" y="1"/>
                      <a:pt x="2069" y="2"/>
                      <a:pt x="2069" y="3"/>
                    </a:cubicBezTo>
                    <a:cubicBezTo>
                      <a:pt x="2069" y="4"/>
                      <a:pt x="2068" y="5"/>
                      <a:pt x="2067" y="5"/>
                    </a:cubicBezTo>
                    <a:lnTo>
                      <a:pt x="2067" y="5"/>
                    </a:lnTo>
                    <a:cubicBezTo>
                      <a:pt x="2066" y="5"/>
                      <a:pt x="2065" y="4"/>
                      <a:pt x="2065" y="3"/>
                    </a:cubicBezTo>
                    <a:cubicBezTo>
                      <a:pt x="2065" y="2"/>
                      <a:pt x="2066" y="1"/>
                      <a:pt x="2067" y="1"/>
                    </a:cubicBezTo>
                    <a:close/>
                    <a:moveTo>
                      <a:pt x="2075" y="1"/>
                    </a:moveTo>
                    <a:lnTo>
                      <a:pt x="2075" y="1"/>
                    </a:lnTo>
                    <a:cubicBezTo>
                      <a:pt x="2076" y="1"/>
                      <a:pt x="2077" y="2"/>
                      <a:pt x="2077" y="3"/>
                    </a:cubicBezTo>
                    <a:cubicBezTo>
                      <a:pt x="2077" y="4"/>
                      <a:pt x="2076" y="5"/>
                      <a:pt x="2075" y="5"/>
                    </a:cubicBezTo>
                    <a:lnTo>
                      <a:pt x="2075" y="5"/>
                    </a:lnTo>
                    <a:cubicBezTo>
                      <a:pt x="2074" y="5"/>
                      <a:pt x="2073" y="4"/>
                      <a:pt x="2073" y="3"/>
                    </a:cubicBezTo>
                    <a:cubicBezTo>
                      <a:pt x="2073" y="2"/>
                      <a:pt x="2074" y="1"/>
                      <a:pt x="2075" y="1"/>
                    </a:cubicBezTo>
                    <a:close/>
                    <a:moveTo>
                      <a:pt x="2083" y="1"/>
                    </a:moveTo>
                    <a:lnTo>
                      <a:pt x="2083" y="1"/>
                    </a:lnTo>
                    <a:cubicBezTo>
                      <a:pt x="2084" y="1"/>
                      <a:pt x="2085" y="2"/>
                      <a:pt x="2085" y="3"/>
                    </a:cubicBezTo>
                    <a:cubicBezTo>
                      <a:pt x="2085" y="4"/>
                      <a:pt x="2084" y="5"/>
                      <a:pt x="2083" y="5"/>
                    </a:cubicBezTo>
                    <a:lnTo>
                      <a:pt x="2083" y="5"/>
                    </a:lnTo>
                    <a:cubicBezTo>
                      <a:pt x="2082" y="5"/>
                      <a:pt x="2081" y="4"/>
                      <a:pt x="2081" y="3"/>
                    </a:cubicBezTo>
                    <a:cubicBezTo>
                      <a:pt x="2081" y="2"/>
                      <a:pt x="2082" y="1"/>
                      <a:pt x="2083" y="1"/>
                    </a:cubicBezTo>
                    <a:close/>
                    <a:moveTo>
                      <a:pt x="2091" y="1"/>
                    </a:moveTo>
                    <a:lnTo>
                      <a:pt x="2091" y="1"/>
                    </a:lnTo>
                    <a:cubicBezTo>
                      <a:pt x="2092" y="1"/>
                      <a:pt x="2093" y="2"/>
                      <a:pt x="2093" y="3"/>
                    </a:cubicBezTo>
                    <a:cubicBezTo>
                      <a:pt x="2093" y="4"/>
                      <a:pt x="2092" y="5"/>
                      <a:pt x="2091" y="5"/>
                    </a:cubicBezTo>
                    <a:lnTo>
                      <a:pt x="2091" y="5"/>
                    </a:lnTo>
                    <a:cubicBezTo>
                      <a:pt x="2090" y="5"/>
                      <a:pt x="2089" y="4"/>
                      <a:pt x="2089" y="3"/>
                    </a:cubicBezTo>
                    <a:cubicBezTo>
                      <a:pt x="2089" y="2"/>
                      <a:pt x="2090" y="1"/>
                      <a:pt x="2091" y="1"/>
                    </a:cubicBezTo>
                    <a:close/>
                    <a:moveTo>
                      <a:pt x="2099" y="1"/>
                    </a:moveTo>
                    <a:lnTo>
                      <a:pt x="2099" y="1"/>
                    </a:lnTo>
                    <a:cubicBezTo>
                      <a:pt x="2100" y="1"/>
                      <a:pt x="2101" y="2"/>
                      <a:pt x="2101" y="3"/>
                    </a:cubicBezTo>
                    <a:cubicBezTo>
                      <a:pt x="2101" y="4"/>
                      <a:pt x="2100" y="5"/>
                      <a:pt x="2099" y="5"/>
                    </a:cubicBezTo>
                    <a:lnTo>
                      <a:pt x="2099" y="5"/>
                    </a:lnTo>
                    <a:cubicBezTo>
                      <a:pt x="2098" y="5"/>
                      <a:pt x="2097" y="4"/>
                      <a:pt x="2097" y="3"/>
                    </a:cubicBezTo>
                    <a:cubicBezTo>
                      <a:pt x="2097" y="2"/>
                      <a:pt x="2098" y="1"/>
                      <a:pt x="2099" y="1"/>
                    </a:cubicBezTo>
                    <a:close/>
                    <a:moveTo>
                      <a:pt x="2107" y="1"/>
                    </a:moveTo>
                    <a:lnTo>
                      <a:pt x="2107" y="1"/>
                    </a:lnTo>
                    <a:cubicBezTo>
                      <a:pt x="2108" y="1"/>
                      <a:pt x="2109" y="2"/>
                      <a:pt x="2109" y="3"/>
                    </a:cubicBezTo>
                    <a:cubicBezTo>
                      <a:pt x="2109" y="4"/>
                      <a:pt x="2108" y="5"/>
                      <a:pt x="2107" y="5"/>
                    </a:cubicBezTo>
                    <a:lnTo>
                      <a:pt x="2107" y="5"/>
                    </a:lnTo>
                    <a:cubicBezTo>
                      <a:pt x="2106" y="5"/>
                      <a:pt x="2105" y="4"/>
                      <a:pt x="2105" y="3"/>
                    </a:cubicBezTo>
                    <a:cubicBezTo>
                      <a:pt x="2105" y="2"/>
                      <a:pt x="2106" y="1"/>
                      <a:pt x="2107" y="1"/>
                    </a:cubicBezTo>
                    <a:close/>
                    <a:moveTo>
                      <a:pt x="2115" y="1"/>
                    </a:moveTo>
                    <a:lnTo>
                      <a:pt x="2115" y="1"/>
                    </a:lnTo>
                    <a:cubicBezTo>
                      <a:pt x="2116" y="1"/>
                      <a:pt x="2117" y="2"/>
                      <a:pt x="2117" y="3"/>
                    </a:cubicBezTo>
                    <a:cubicBezTo>
                      <a:pt x="2117" y="4"/>
                      <a:pt x="2116" y="5"/>
                      <a:pt x="2115" y="5"/>
                    </a:cubicBezTo>
                    <a:lnTo>
                      <a:pt x="2115" y="5"/>
                    </a:lnTo>
                    <a:cubicBezTo>
                      <a:pt x="2114" y="5"/>
                      <a:pt x="2113" y="4"/>
                      <a:pt x="2113" y="3"/>
                    </a:cubicBezTo>
                    <a:cubicBezTo>
                      <a:pt x="2113" y="2"/>
                      <a:pt x="2114" y="1"/>
                      <a:pt x="2115" y="1"/>
                    </a:cubicBezTo>
                    <a:close/>
                    <a:moveTo>
                      <a:pt x="2123" y="1"/>
                    </a:moveTo>
                    <a:lnTo>
                      <a:pt x="2123" y="1"/>
                    </a:lnTo>
                    <a:cubicBezTo>
                      <a:pt x="2124" y="1"/>
                      <a:pt x="2125" y="2"/>
                      <a:pt x="2125" y="3"/>
                    </a:cubicBezTo>
                    <a:cubicBezTo>
                      <a:pt x="2125" y="4"/>
                      <a:pt x="2124" y="5"/>
                      <a:pt x="2123" y="5"/>
                    </a:cubicBezTo>
                    <a:lnTo>
                      <a:pt x="2123" y="5"/>
                    </a:lnTo>
                    <a:cubicBezTo>
                      <a:pt x="2122" y="5"/>
                      <a:pt x="2121" y="4"/>
                      <a:pt x="2121" y="3"/>
                    </a:cubicBezTo>
                    <a:cubicBezTo>
                      <a:pt x="2121" y="2"/>
                      <a:pt x="2122" y="1"/>
                      <a:pt x="2123" y="1"/>
                    </a:cubicBezTo>
                    <a:close/>
                    <a:moveTo>
                      <a:pt x="2131" y="1"/>
                    </a:moveTo>
                    <a:lnTo>
                      <a:pt x="2131" y="1"/>
                    </a:lnTo>
                    <a:cubicBezTo>
                      <a:pt x="2132" y="1"/>
                      <a:pt x="2133" y="2"/>
                      <a:pt x="2133" y="3"/>
                    </a:cubicBezTo>
                    <a:cubicBezTo>
                      <a:pt x="2133" y="4"/>
                      <a:pt x="2132" y="5"/>
                      <a:pt x="2131" y="5"/>
                    </a:cubicBezTo>
                    <a:lnTo>
                      <a:pt x="2131" y="5"/>
                    </a:lnTo>
                    <a:cubicBezTo>
                      <a:pt x="2130" y="5"/>
                      <a:pt x="2129" y="4"/>
                      <a:pt x="2129" y="3"/>
                    </a:cubicBezTo>
                    <a:cubicBezTo>
                      <a:pt x="2129" y="2"/>
                      <a:pt x="2130" y="1"/>
                      <a:pt x="2131" y="1"/>
                    </a:cubicBezTo>
                    <a:close/>
                    <a:moveTo>
                      <a:pt x="2139" y="1"/>
                    </a:moveTo>
                    <a:lnTo>
                      <a:pt x="2139" y="1"/>
                    </a:lnTo>
                    <a:cubicBezTo>
                      <a:pt x="2140" y="1"/>
                      <a:pt x="2141" y="2"/>
                      <a:pt x="2141" y="3"/>
                    </a:cubicBezTo>
                    <a:cubicBezTo>
                      <a:pt x="2141" y="4"/>
                      <a:pt x="2140" y="5"/>
                      <a:pt x="2139" y="5"/>
                    </a:cubicBezTo>
                    <a:lnTo>
                      <a:pt x="2139" y="5"/>
                    </a:lnTo>
                    <a:cubicBezTo>
                      <a:pt x="2138" y="5"/>
                      <a:pt x="2137" y="4"/>
                      <a:pt x="2137" y="3"/>
                    </a:cubicBezTo>
                    <a:cubicBezTo>
                      <a:pt x="2137" y="2"/>
                      <a:pt x="2138" y="1"/>
                      <a:pt x="2139" y="1"/>
                    </a:cubicBezTo>
                    <a:close/>
                    <a:moveTo>
                      <a:pt x="2147" y="1"/>
                    </a:moveTo>
                    <a:lnTo>
                      <a:pt x="2147" y="1"/>
                    </a:lnTo>
                    <a:cubicBezTo>
                      <a:pt x="2148" y="1"/>
                      <a:pt x="2149" y="2"/>
                      <a:pt x="2149" y="3"/>
                    </a:cubicBezTo>
                    <a:cubicBezTo>
                      <a:pt x="2149" y="4"/>
                      <a:pt x="2148" y="5"/>
                      <a:pt x="2147" y="5"/>
                    </a:cubicBezTo>
                    <a:lnTo>
                      <a:pt x="2147" y="5"/>
                    </a:lnTo>
                    <a:cubicBezTo>
                      <a:pt x="2146" y="5"/>
                      <a:pt x="2145" y="4"/>
                      <a:pt x="2145" y="3"/>
                    </a:cubicBezTo>
                    <a:cubicBezTo>
                      <a:pt x="2145" y="2"/>
                      <a:pt x="2146" y="1"/>
                      <a:pt x="2147" y="1"/>
                    </a:cubicBezTo>
                    <a:close/>
                    <a:moveTo>
                      <a:pt x="2155" y="1"/>
                    </a:moveTo>
                    <a:lnTo>
                      <a:pt x="2155" y="1"/>
                    </a:lnTo>
                    <a:cubicBezTo>
                      <a:pt x="2156" y="1"/>
                      <a:pt x="2157" y="2"/>
                      <a:pt x="2157" y="3"/>
                    </a:cubicBezTo>
                    <a:cubicBezTo>
                      <a:pt x="2157" y="4"/>
                      <a:pt x="2156" y="5"/>
                      <a:pt x="2155" y="5"/>
                    </a:cubicBezTo>
                    <a:lnTo>
                      <a:pt x="2155" y="5"/>
                    </a:lnTo>
                    <a:cubicBezTo>
                      <a:pt x="2154" y="5"/>
                      <a:pt x="2153" y="4"/>
                      <a:pt x="2153" y="3"/>
                    </a:cubicBezTo>
                    <a:cubicBezTo>
                      <a:pt x="2153" y="2"/>
                      <a:pt x="2154" y="1"/>
                      <a:pt x="2155" y="1"/>
                    </a:cubicBezTo>
                    <a:close/>
                    <a:moveTo>
                      <a:pt x="2163" y="1"/>
                    </a:moveTo>
                    <a:lnTo>
                      <a:pt x="2163" y="1"/>
                    </a:lnTo>
                    <a:cubicBezTo>
                      <a:pt x="2164" y="1"/>
                      <a:pt x="2165" y="2"/>
                      <a:pt x="2165" y="3"/>
                    </a:cubicBezTo>
                    <a:cubicBezTo>
                      <a:pt x="2165" y="4"/>
                      <a:pt x="2164" y="5"/>
                      <a:pt x="2163" y="5"/>
                    </a:cubicBezTo>
                    <a:lnTo>
                      <a:pt x="2163" y="5"/>
                    </a:lnTo>
                    <a:cubicBezTo>
                      <a:pt x="2162" y="5"/>
                      <a:pt x="2161" y="4"/>
                      <a:pt x="2161" y="3"/>
                    </a:cubicBezTo>
                    <a:cubicBezTo>
                      <a:pt x="2161" y="2"/>
                      <a:pt x="2162" y="1"/>
                      <a:pt x="2163" y="1"/>
                    </a:cubicBezTo>
                    <a:close/>
                    <a:moveTo>
                      <a:pt x="2171" y="1"/>
                    </a:moveTo>
                    <a:lnTo>
                      <a:pt x="2171" y="1"/>
                    </a:lnTo>
                    <a:cubicBezTo>
                      <a:pt x="2172" y="1"/>
                      <a:pt x="2173" y="2"/>
                      <a:pt x="2173" y="3"/>
                    </a:cubicBezTo>
                    <a:cubicBezTo>
                      <a:pt x="2173" y="4"/>
                      <a:pt x="2172" y="5"/>
                      <a:pt x="2171" y="5"/>
                    </a:cubicBezTo>
                    <a:lnTo>
                      <a:pt x="2171" y="5"/>
                    </a:lnTo>
                    <a:cubicBezTo>
                      <a:pt x="2170" y="5"/>
                      <a:pt x="2169" y="4"/>
                      <a:pt x="2169" y="3"/>
                    </a:cubicBezTo>
                    <a:cubicBezTo>
                      <a:pt x="2169" y="2"/>
                      <a:pt x="2170" y="1"/>
                      <a:pt x="2171" y="1"/>
                    </a:cubicBezTo>
                    <a:close/>
                    <a:moveTo>
                      <a:pt x="2179" y="1"/>
                    </a:moveTo>
                    <a:lnTo>
                      <a:pt x="2179" y="1"/>
                    </a:lnTo>
                    <a:cubicBezTo>
                      <a:pt x="2180" y="1"/>
                      <a:pt x="2181" y="2"/>
                      <a:pt x="2181" y="3"/>
                    </a:cubicBezTo>
                    <a:cubicBezTo>
                      <a:pt x="2181" y="4"/>
                      <a:pt x="2180" y="5"/>
                      <a:pt x="2179" y="5"/>
                    </a:cubicBezTo>
                    <a:lnTo>
                      <a:pt x="2179" y="5"/>
                    </a:lnTo>
                    <a:cubicBezTo>
                      <a:pt x="2178" y="5"/>
                      <a:pt x="2177" y="4"/>
                      <a:pt x="2177" y="3"/>
                    </a:cubicBezTo>
                    <a:cubicBezTo>
                      <a:pt x="2177" y="2"/>
                      <a:pt x="2178" y="1"/>
                      <a:pt x="2179" y="1"/>
                    </a:cubicBezTo>
                    <a:close/>
                    <a:moveTo>
                      <a:pt x="2187" y="1"/>
                    </a:moveTo>
                    <a:lnTo>
                      <a:pt x="2187" y="1"/>
                    </a:lnTo>
                    <a:cubicBezTo>
                      <a:pt x="2188" y="1"/>
                      <a:pt x="2189" y="2"/>
                      <a:pt x="2189" y="3"/>
                    </a:cubicBezTo>
                    <a:cubicBezTo>
                      <a:pt x="2189" y="4"/>
                      <a:pt x="2188" y="5"/>
                      <a:pt x="2187" y="5"/>
                    </a:cubicBezTo>
                    <a:lnTo>
                      <a:pt x="2187" y="5"/>
                    </a:lnTo>
                    <a:cubicBezTo>
                      <a:pt x="2186" y="5"/>
                      <a:pt x="2185" y="4"/>
                      <a:pt x="2185" y="3"/>
                    </a:cubicBezTo>
                    <a:cubicBezTo>
                      <a:pt x="2185" y="2"/>
                      <a:pt x="2186" y="1"/>
                      <a:pt x="2187" y="1"/>
                    </a:cubicBezTo>
                    <a:close/>
                    <a:moveTo>
                      <a:pt x="2195" y="1"/>
                    </a:moveTo>
                    <a:lnTo>
                      <a:pt x="2195" y="1"/>
                    </a:lnTo>
                    <a:cubicBezTo>
                      <a:pt x="2196" y="1"/>
                      <a:pt x="2197" y="2"/>
                      <a:pt x="2197" y="3"/>
                    </a:cubicBezTo>
                    <a:cubicBezTo>
                      <a:pt x="2197" y="4"/>
                      <a:pt x="2196" y="5"/>
                      <a:pt x="2195" y="5"/>
                    </a:cubicBezTo>
                    <a:lnTo>
                      <a:pt x="2195" y="5"/>
                    </a:lnTo>
                    <a:cubicBezTo>
                      <a:pt x="2194" y="5"/>
                      <a:pt x="2193" y="4"/>
                      <a:pt x="2193" y="3"/>
                    </a:cubicBezTo>
                    <a:cubicBezTo>
                      <a:pt x="2193" y="2"/>
                      <a:pt x="2194" y="1"/>
                      <a:pt x="2195" y="1"/>
                    </a:cubicBezTo>
                    <a:close/>
                    <a:moveTo>
                      <a:pt x="2203" y="1"/>
                    </a:moveTo>
                    <a:lnTo>
                      <a:pt x="2203" y="1"/>
                    </a:lnTo>
                    <a:cubicBezTo>
                      <a:pt x="2204" y="1"/>
                      <a:pt x="2205" y="2"/>
                      <a:pt x="2205" y="3"/>
                    </a:cubicBezTo>
                    <a:cubicBezTo>
                      <a:pt x="2205" y="4"/>
                      <a:pt x="2204" y="5"/>
                      <a:pt x="2203" y="5"/>
                    </a:cubicBezTo>
                    <a:lnTo>
                      <a:pt x="2203" y="5"/>
                    </a:lnTo>
                    <a:cubicBezTo>
                      <a:pt x="2202" y="5"/>
                      <a:pt x="2201" y="4"/>
                      <a:pt x="2201" y="3"/>
                    </a:cubicBezTo>
                    <a:cubicBezTo>
                      <a:pt x="2201" y="2"/>
                      <a:pt x="2202" y="1"/>
                      <a:pt x="2203" y="1"/>
                    </a:cubicBezTo>
                    <a:close/>
                    <a:moveTo>
                      <a:pt x="2211" y="1"/>
                    </a:moveTo>
                    <a:lnTo>
                      <a:pt x="2211" y="1"/>
                    </a:lnTo>
                    <a:cubicBezTo>
                      <a:pt x="2212" y="1"/>
                      <a:pt x="2213" y="2"/>
                      <a:pt x="2213" y="3"/>
                    </a:cubicBezTo>
                    <a:cubicBezTo>
                      <a:pt x="2213" y="4"/>
                      <a:pt x="2212" y="5"/>
                      <a:pt x="2211" y="5"/>
                    </a:cubicBezTo>
                    <a:lnTo>
                      <a:pt x="2211" y="5"/>
                    </a:lnTo>
                    <a:cubicBezTo>
                      <a:pt x="2210" y="5"/>
                      <a:pt x="2209" y="4"/>
                      <a:pt x="2209" y="3"/>
                    </a:cubicBezTo>
                    <a:cubicBezTo>
                      <a:pt x="2209" y="2"/>
                      <a:pt x="2210" y="1"/>
                      <a:pt x="2211" y="1"/>
                    </a:cubicBezTo>
                    <a:close/>
                    <a:moveTo>
                      <a:pt x="2219" y="1"/>
                    </a:moveTo>
                    <a:lnTo>
                      <a:pt x="2219" y="1"/>
                    </a:lnTo>
                    <a:cubicBezTo>
                      <a:pt x="2220" y="1"/>
                      <a:pt x="2221" y="2"/>
                      <a:pt x="2221" y="3"/>
                    </a:cubicBezTo>
                    <a:cubicBezTo>
                      <a:pt x="2221" y="4"/>
                      <a:pt x="2220" y="5"/>
                      <a:pt x="2219" y="5"/>
                    </a:cubicBezTo>
                    <a:lnTo>
                      <a:pt x="2219" y="5"/>
                    </a:lnTo>
                    <a:cubicBezTo>
                      <a:pt x="2218" y="5"/>
                      <a:pt x="2217" y="4"/>
                      <a:pt x="2217" y="3"/>
                    </a:cubicBezTo>
                    <a:cubicBezTo>
                      <a:pt x="2217" y="2"/>
                      <a:pt x="2218" y="1"/>
                      <a:pt x="2219" y="1"/>
                    </a:cubicBezTo>
                    <a:close/>
                    <a:moveTo>
                      <a:pt x="2227" y="1"/>
                    </a:moveTo>
                    <a:lnTo>
                      <a:pt x="2227" y="1"/>
                    </a:lnTo>
                    <a:cubicBezTo>
                      <a:pt x="2228" y="1"/>
                      <a:pt x="2229" y="2"/>
                      <a:pt x="2229" y="3"/>
                    </a:cubicBezTo>
                    <a:cubicBezTo>
                      <a:pt x="2229" y="4"/>
                      <a:pt x="2228" y="5"/>
                      <a:pt x="2227" y="5"/>
                    </a:cubicBezTo>
                    <a:lnTo>
                      <a:pt x="2227" y="5"/>
                    </a:lnTo>
                    <a:cubicBezTo>
                      <a:pt x="2226" y="5"/>
                      <a:pt x="2225" y="4"/>
                      <a:pt x="2225" y="3"/>
                    </a:cubicBezTo>
                    <a:cubicBezTo>
                      <a:pt x="2225" y="2"/>
                      <a:pt x="2226" y="1"/>
                      <a:pt x="2227" y="1"/>
                    </a:cubicBezTo>
                    <a:close/>
                    <a:moveTo>
                      <a:pt x="2235" y="1"/>
                    </a:moveTo>
                    <a:lnTo>
                      <a:pt x="2235" y="1"/>
                    </a:lnTo>
                    <a:cubicBezTo>
                      <a:pt x="2236" y="1"/>
                      <a:pt x="2237" y="2"/>
                      <a:pt x="2237" y="3"/>
                    </a:cubicBezTo>
                    <a:cubicBezTo>
                      <a:pt x="2237" y="4"/>
                      <a:pt x="2236" y="5"/>
                      <a:pt x="2235" y="5"/>
                    </a:cubicBezTo>
                    <a:lnTo>
                      <a:pt x="2235" y="5"/>
                    </a:lnTo>
                    <a:cubicBezTo>
                      <a:pt x="2234" y="5"/>
                      <a:pt x="2233" y="4"/>
                      <a:pt x="2233" y="3"/>
                    </a:cubicBezTo>
                    <a:cubicBezTo>
                      <a:pt x="2233" y="2"/>
                      <a:pt x="2234" y="1"/>
                      <a:pt x="2235" y="1"/>
                    </a:cubicBezTo>
                    <a:close/>
                    <a:moveTo>
                      <a:pt x="2243" y="1"/>
                    </a:moveTo>
                    <a:lnTo>
                      <a:pt x="2243" y="1"/>
                    </a:lnTo>
                    <a:cubicBezTo>
                      <a:pt x="2244" y="1"/>
                      <a:pt x="2245" y="2"/>
                      <a:pt x="2245" y="3"/>
                    </a:cubicBezTo>
                    <a:cubicBezTo>
                      <a:pt x="2245" y="4"/>
                      <a:pt x="2244" y="5"/>
                      <a:pt x="2243" y="5"/>
                    </a:cubicBezTo>
                    <a:lnTo>
                      <a:pt x="2243" y="5"/>
                    </a:lnTo>
                    <a:cubicBezTo>
                      <a:pt x="2242" y="5"/>
                      <a:pt x="2241" y="4"/>
                      <a:pt x="2241" y="3"/>
                    </a:cubicBezTo>
                    <a:cubicBezTo>
                      <a:pt x="2241" y="2"/>
                      <a:pt x="2242" y="1"/>
                      <a:pt x="2243" y="1"/>
                    </a:cubicBezTo>
                    <a:close/>
                    <a:moveTo>
                      <a:pt x="2251" y="1"/>
                    </a:moveTo>
                    <a:lnTo>
                      <a:pt x="2251" y="1"/>
                    </a:lnTo>
                    <a:cubicBezTo>
                      <a:pt x="2252" y="1"/>
                      <a:pt x="2253" y="2"/>
                      <a:pt x="2253" y="3"/>
                    </a:cubicBezTo>
                    <a:cubicBezTo>
                      <a:pt x="2253" y="4"/>
                      <a:pt x="2252" y="5"/>
                      <a:pt x="2251" y="5"/>
                    </a:cubicBezTo>
                    <a:lnTo>
                      <a:pt x="2251" y="5"/>
                    </a:lnTo>
                    <a:cubicBezTo>
                      <a:pt x="2250" y="5"/>
                      <a:pt x="2249" y="4"/>
                      <a:pt x="2249" y="3"/>
                    </a:cubicBezTo>
                    <a:cubicBezTo>
                      <a:pt x="2249" y="2"/>
                      <a:pt x="2250" y="1"/>
                      <a:pt x="2251" y="1"/>
                    </a:cubicBezTo>
                    <a:close/>
                    <a:moveTo>
                      <a:pt x="2259" y="1"/>
                    </a:moveTo>
                    <a:lnTo>
                      <a:pt x="2259" y="1"/>
                    </a:lnTo>
                    <a:cubicBezTo>
                      <a:pt x="2260" y="1"/>
                      <a:pt x="2261" y="2"/>
                      <a:pt x="2261" y="3"/>
                    </a:cubicBezTo>
                    <a:cubicBezTo>
                      <a:pt x="2261" y="4"/>
                      <a:pt x="2260" y="5"/>
                      <a:pt x="2259" y="5"/>
                    </a:cubicBezTo>
                    <a:lnTo>
                      <a:pt x="2259" y="5"/>
                    </a:lnTo>
                    <a:cubicBezTo>
                      <a:pt x="2258" y="5"/>
                      <a:pt x="2257" y="4"/>
                      <a:pt x="2257" y="3"/>
                    </a:cubicBezTo>
                    <a:cubicBezTo>
                      <a:pt x="2257" y="2"/>
                      <a:pt x="2258" y="1"/>
                      <a:pt x="2259" y="1"/>
                    </a:cubicBezTo>
                    <a:close/>
                    <a:moveTo>
                      <a:pt x="2267" y="1"/>
                    </a:moveTo>
                    <a:lnTo>
                      <a:pt x="2267" y="1"/>
                    </a:lnTo>
                    <a:cubicBezTo>
                      <a:pt x="2268" y="1"/>
                      <a:pt x="2269" y="2"/>
                      <a:pt x="2269" y="3"/>
                    </a:cubicBezTo>
                    <a:cubicBezTo>
                      <a:pt x="2269" y="4"/>
                      <a:pt x="2268" y="5"/>
                      <a:pt x="2267" y="5"/>
                    </a:cubicBezTo>
                    <a:lnTo>
                      <a:pt x="2267" y="5"/>
                    </a:lnTo>
                    <a:cubicBezTo>
                      <a:pt x="2266" y="5"/>
                      <a:pt x="2265" y="4"/>
                      <a:pt x="2265" y="3"/>
                    </a:cubicBezTo>
                    <a:cubicBezTo>
                      <a:pt x="2265" y="2"/>
                      <a:pt x="2266" y="1"/>
                      <a:pt x="2267" y="1"/>
                    </a:cubicBezTo>
                    <a:close/>
                    <a:moveTo>
                      <a:pt x="2275" y="1"/>
                    </a:moveTo>
                    <a:lnTo>
                      <a:pt x="2275" y="1"/>
                    </a:lnTo>
                    <a:cubicBezTo>
                      <a:pt x="2276" y="1"/>
                      <a:pt x="2277" y="2"/>
                      <a:pt x="2277" y="3"/>
                    </a:cubicBezTo>
                    <a:cubicBezTo>
                      <a:pt x="2277" y="4"/>
                      <a:pt x="2276" y="5"/>
                      <a:pt x="2275" y="5"/>
                    </a:cubicBezTo>
                    <a:lnTo>
                      <a:pt x="2275" y="5"/>
                    </a:lnTo>
                    <a:cubicBezTo>
                      <a:pt x="2274" y="5"/>
                      <a:pt x="2273" y="4"/>
                      <a:pt x="2273" y="3"/>
                    </a:cubicBezTo>
                    <a:cubicBezTo>
                      <a:pt x="2273" y="2"/>
                      <a:pt x="2274" y="1"/>
                      <a:pt x="2275" y="1"/>
                    </a:cubicBezTo>
                    <a:close/>
                    <a:moveTo>
                      <a:pt x="2283" y="1"/>
                    </a:moveTo>
                    <a:lnTo>
                      <a:pt x="2283" y="1"/>
                    </a:lnTo>
                    <a:cubicBezTo>
                      <a:pt x="2284" y="1"/>
                      <a:pt x="2285" y="2"/>
                      <a:pt x="2285" y="3"/>
                    </a:cubicBezTo>
                    <a:cubicBezTo>
                      <a:pt x="2285" y="4"/>
                      <a:pt x="2284" y="5"/>
                      <a:pt x="2283" y="5"/>
                    </a:cubicBezTo>
                    <a:lnTo>
                      <a:pt x="2283" y="5"/>
                    </a:lnTo>
                    <a:cubicBezTo>
                      <a:pt x="2282" y="5"/>
                      <a:pt x="2281" y="4"/>
                      <a:pt x="2281" y="3"/>
                    </a:cubicBezTo>
                    <a:cubicBezTo>
                      <a:pt x="2281" y="2"/>
                      <a:pt x="2282" y="1"/>
                      <a:pt x="2283" y="1"/>
                    </a:cubicBezTo>
                    <a:close/>
                    <a:moveTo>
                      <a:pt x="2291" y="1"/>
                    </a:moveTo>
                    <a:lnTo>
                      <a:pt x="2291" y="1"/>
                    </a:lnTo>
                    <a:cubicBezTo>
                      <a:pt x="2292" y="1"/>
                      <a:pt x="2293" y="2"/>
                      <a:pt x="2293" y="3"/>
                    </a:cubicBezTo>
                    <a:cubicBezTo>
                      <a:pt x="2293" y="4"/>
                      <a:pt x="2292" y="5"/>
                      <a:pt x="2291" y="5"/>
                    </a:cubicBezTo>
                    <a:lnTo>
                      <a:pt x="2291" y="5"/>
                    </a:lnTo>
                    <a:cubicBezTo>
                      <a:pt x="2290" y="5"/>
                      <a:pt x="2289" y="4"/>
                      <a:pt x="2289" y="3"/>
                    </a:cubicBezTo>
                    <a:cubicBezTo>
                      <a:pt x="2289" y="2"/>
                      <a:pt x="2290" y="1"/>
                      <a:pt x="2291" y="1"/>
                    </a:cubicBezTo>
                    <a:close/>
                    <a:moveTo>
                      <a:pt x="2299" y="1"/>
                    </a:moveTo>
                    <a:lnTo>
                      <a:pt x="2299" y="1"/>
                    </a:lnTo>
                    <a:cubicBezTo>
                      <a:pt x="2300" y="1"/>
                      <a:pt x="2301" y="2"/>
                      <a:pt x="2301" y="3"/>
                    </a:cubicBezTo>
                    <a:cubicBezTo>
                      <a:pt x="2301" y="4"/>
                      <a:pt x="2300" y="5"/>
                      <a:pt x="2299" y="5"/>
                    </a:cubicBezTo>
                    <a:lnTo>
                      <a:pt x="2299" y="5"/>
                    </a:lnTo>
                    <a:cubicBezTo>
                      <a:pt x="2298" y="5"/>
                      <a:pt x="2297" y="4"/>
                      <a:pt x="2297" y="3"/>
                    </a:cubicBezTo>
                    <a:cubicBezTo>
                      <a:pt x="2297" y="2"/>
                      <a:pt x="2298" y="1"/>
                      <a:pt x="2299" y="1"/>
                    </a:cubicBezTo>
                    <a:close/>
                    <a:moveTo>
                      <a:pt x="2307" y="1"/>
                    </a:moveTo>
                    <a:lnTo>
                      <a:pt x="2307" y="1"/>
                    </a:lnTo>
                    <a:cubicBezTo>
                      <a:pt x="2308" y="1"/>
                      <a:pt x="2309" y="2"/>
                      <a:pt x="2309" y="3"/>
                    </a:cubicBezTo>
                    <a:cubicBezTo>
                      <a:pt x="2309" y="4"/>
                      <a:pt x="2308" y="5"/>
                      <a:pt x="2307" y="5"/>
                    </a:cubicBezTo>
                    <a:lnTo>
                      <a:pt x="2307" y="5"/>
                    </a:lnTo>
                    <a:cubicBezTo>
                      <a:pt x="2306" y="5"/>
                      <a:pt x="2305" y="4"/>
                      <a:pt x="2305" y="3"/>
                    </a:cubicBezTo>
                    <a:cubicBezTo>
                      <a:pt x="2305" y="2"/>
                      <a:pt x="2306" y="1"/>
                      <a:pt x="2307" y="1"/>
                    </a:cubicBezTo>
                    <a:close/>
                    <a:moveTo>
                      <a:pt x="2315" y="1"/>
                    </a:moveTo>
                    <a:lnTo>
                      <a:pt x="2315" y="1"/>
                    </a:lnTo>
                    <a:cubicBezTo>
                      <a:pt x="2316" y="1"/>
                      <a:pt x="2317" y="2"/>
                      <a:pt x="2317" y="3"/>
                    </a:cubicBezTo>
                    <a:cubicBezTo>
                      <a:pt x="2317" y="4"/>
                      <a:pt x="2316" y="5"/>
                      <a:pt x="2315" y="5"/>
                    </a:cubicBezTo>
                    <a:lnTo>
                      <a:pt x="2315" y="5"/>
                    </a:lnTo>
                    <a:cubicBezTo>
                      <a:pt x="2314" y="5"/>
                      <a:pt x="2313" y="4"/>
                      <a:pt x="2313" y="3"/>
                    </a:cubicBezTo>
                    <a:cubicBezTo>
                      <a:pt x="2313" y="2"/>
                      <a:pt x="2314" y="1"/>
                      <a:pt x="2315" y="1"/>
                    </a:cubicBezTo>
                    <a:close/>
                    <a:moveTo>
                      <a:pt x="2323" y="1"/>
                    </a:moveTo>
                    <a:lnTo>
                      <a:pt x="2323" y="1"/>
                    </a:lnTo>
                    <a:cubicBezTo>
                      <a:pt x="2324" y="1"/>
                      <a:pt x="2325" y="2"/>
                      <a:pt x="2325" y="3"/>
                    </a:cubicBezTo>
                    <a:cubicBezTo>
                      <a:pt x="2325" y="4"/>
                      <a:pt x="2324" y="5"/>
                      <a:pt x="2323" y="5"/>
                    </a:cubicBezTo>
                    <a:lnTo>
                      <a:pt x="2323" y="5"/>
                    </a:lnTo>
                    <a:cubicBezTo>
                      <a:pt x="2322" y="5"/>
                      <a:pt x="2321" y="4"/>
                      <a:pt x="2321" y="3"/>
                    </a:cubicBezTo>
                    <a:cubicBezTo>
                      <a:pt x="2321" y="2"/>
                      <a:pt x="2322" y="1"/>
                      <a:pt x="2323" y="1"/>
                    </a:cubicBezTo>
                    <a:close/>
                    <a:moveTo>
                      <a:pt x="2331" y="1"/>
                    </a:moveTo>
                    <a:lnTo>
                      <a:pt x="2331" y="1"/>
                    </a:lnTo>
                    <a:cubicBezTo>
                      <a:pt x="2332" y="1"/>
                      <a:pt x="2333" y="2"/>
                      <a:pt x="2333" y="3"/>
                    </a:cubicBezTo>
                    <a:cubicBezTo>
                      <a:pt x="2333" y="4"/>
                      <a:pt x="2332" y="5"/>
                      <a:pt x="2331" y="5"/>
                    </a:cubicBezTo>
                    <a:lnTo>
                      <a:pt x="2331" y="5"/>
                    </a:lnTo>
                    <a:cubicBezTo>
                      <a:pt x="2330" y="5"/>
                      <a:pt x="2329" y="4"/>
                      <a:pt x="2329" y="3"/>
                    </a:cubicBezTo>
                    <a:cubicBezTo>
                      <a:pt x="2329" y="2"/>
                      <a:pt x="2330" y="1"/>
                      <a:pt x="2331" y="1"/>
                    </a:cubicBezTo>
                    <a:close/>
                    <a:moveTo>
                      <a:pt x="2339" y="1"/>
                    </a:moveTo>
                    <a:lnTo>
                      <a:pt x="2339" y="1"/>
                    </a:lnTo>
                    <a:cubicBezTo>
                      <a:pt x="2340" y="1"/>
                      <a:pt x="2341" y="2"/>
                      <a:pt x="2341" y="3"/>
                    </a:cubicBezTo>
                    <a:cubicBezTo>
                      <a:pt x="2341" y="4"/>
                      <a:pt x="2340" y="5"/>
                      <a:pt x="2339" y="5"/>
                    </a:cubicBezTo>
                    <a:lnTo>
                      <a:pt x="2339" y="5"/>
                    </a:lnTo>
                    <a:cubicBezTo>
                      <a:pt x="2338" y="5"/>
                      <a:pt x="2337" y="4"/>
                      <a:pt x="2337" y="3"/>
                    </a:cubicBezTo>
                    <a:cubicBezTo>
                      <a:pt x="2337" y="2"/>
                      <a:pt x="2338" y="1"/>
                      <a:pt x="2339" y="1"/>
                    </a:cubicBezTo>
                    <a:close/>
                    <a:moveTo>
                      <a:pt x="2347" y="1"/>
                    </a:moveTo>
                    <a:lnTo>
                      <a:pt x="2347" y="1"/>
                    </a:lnTo>
                    <a:cubicBezTo>
                      <a:pt x="2348" y="1"/>
                      <a:pt x="2349" y="2"/>
                      <a:pt x="2349" y="3"/>
                    </a:cubicBezTo>
                    <a:cubicBezTo>
                      <a:pt x="2349" y="4"/>
                      <a:pt x="2348" y="5"/>
                      <a:pt x="2347" y="5"/>
                    </a:cubicBezTo>
                    <a:lnTo>
                      <a:pt x="2347" y="5"/>
                    </a:lnTo>
                    <a:cubicBezTo>
                      <a:pt x="2346" y="5"/>
                      <a:pt x="2345" y="4"/>
                      <a:pt x="2345" y="3"/>
                    </a:cubicBezTo>
                    <a:cubicBezTo>
                      <a:pt x="2345" y="2"/>
                      <a:pt x="2346" y="1"/>
                      <a:pt x="2347" y="1"/>
                    </a:cubicBezTo>
                    <a:close/>
                    <a:moveTo>
                      <a:pt x="2355" y="1"/>
                    </a:moveTo>
                    <a:lnTo>
                      <a:pt x="2355" y="1"/>
                    </a:lnTo>
                    <a:cubicBezTo>
                      <a:pt x="2356" y="1"/>
                      <a:pt x="2357" y="2"/>
                      <a:pt x="2357" y="3"/>
                    </a:cubicBezTo>
                    <a:cubicBezTo>
                      <a:pt x="2357" y="4"/>
                      <a:pt x="2356" y="5"/>
                      <a:pt x="2355" y="5"/>
                    </a:cubicBezTo>
                    <a:lnTo>
                      <a:pt x="2355" y="5"/>
                    </a:lnTo>
                    <a:cubicBezTo>
                      <a:pt x="2354" y="5"/>
                      <a:pt x="2353" y="4"/>
                      <a:pt x="2353" y="3"/>
                    </a:cubicBezTo>
                    <a:cubicBezTo>
                      <a:pt x="2353" y="2"/>
                      <a:pt x="2354" y="1"/>
                      <a:pt x="2355" y="1"/>
                    </a:cubicBezTo>
                    <a:close/>
                    <a:moveTo>
                      <a:pt x="2363" y="1"/>
                    </a:moveTo>
                    <a:lnTo>
                      <a:pt x="2363" y="1"/>
                    </a:lnTo>
                    <a:cubicBezTo>
                      <a:pt x="2364" y="1"/>
                      <a:pt x="2365" y="2"/>
                      <a:pt x="2365" y="3"/>
                    </a:cubicBezTo>
                    <a:cubicBezTo>
                      <a:pt x="2365" y="4"/>
                      <a:pt x="2364" y="5"/>
                      <a:pt x="2363" y="5"/>
                    </a:cubicBezTo>
                    <a:lnTo>
                      <a:pt x="2363" y="5"/>
                    </a:lnTo>
                    <a:cubicBezTo>
                      <a:pt x="2362" y="5"/>
                      <a:pt x="2361" y="4"/>
                      <a:pt x="2361" y="3"/>
                    </a:cubicBezTo>
                    <a:cubicBezTo>
                      <a:pt x="2361" y="2"/>
                      <a:pt x="2362" y="1"/>
                      <a:pt x="2363" y="1"/>
                    </a:cubicBezTo>
                    <a:close/>
                    <a:moveTo>
                      <a:pt x="2371" y="1"/>
                    </a:moveTo>
                    <a:lnTo>
                      <a:pt x="2371" y="1"/>
                    </a:lnTo>
                    <a:cubicBezTo>
                      <a:pt x="2372" y="1"/>
                      <a:pt x="2373" y="2"/>
                      <a:pt x="2373" y="3"/>
                    </a:cubicBezTo>
                    <a:cubicBezTo>
                      <a:pt x="2373" y="4"/>
                      <a:pt x="2372" y="5"/>
                      <a:pt x="2371" y="5"/>
                    </a:cubicBezTo>
                    <a:lnTo>
                      <a:pt x="2371" y="5"/>
                    </a:lnTo>
                    <a:cubicBezTo>
                      <a:pt x="2370" y="5"/>
                      <a:pt x="2369" y="4"/>
                      <a:pt x="2369" y="3"/>
                    </a:cubicBezTo>
                    <a:cubicBezTo>
                      <a:pt x="2369" y="2"/>
                      <a:pt x="2370" y="1"/>
                      <a:pt x="2371" y="1"/>
                    </a:cubicBezTo>
                    <a:close/>
                    <a:moveTo>
                      <a:pt x="2379" y="1"/>
                    </a:moveTo>
                    <a:lnTo>
                      <a:pt x="2379" y="1"/>
                    </a:lnTo>
                    <a:cubicBezTo>
                      <a:pt x="2380" y="1"/>
                      <a:pt x="2381" y="2"/>
                      <a:pt x="2381" y="3"/>
                    </a:cubicBezTo>
                    <a:cubicBezTo>
                      <a:pt x="2381" y="4"/>
                      <a:pt x="2380" y="5"/>
                      <a:pt x="2379" y="5"/>
                    </a:cubicBezTo>
                    <a:lnTo>
                      <a:pt x="2379" y="5"/>
                    </a:lnTo>
                    <a:cubicBezTo>
                      <a:pt x="2378" y="5"/>
                      <a:pt x="2377" y="4"/>
                      <a:pt x="2377" y="3"/>
                    </a:cubicBezTo>
                    <a:cubicBezTo>
                      <a:pt x="2377" y="2"/>
                      <a:pt x="2378" y="1"/>
                      <a:pt x="2379" y="1"/>
                    </a:cubicBezTo>
                    <a:close/>
                    <a:moveTo>
                      <a:pt x="2387" y="1"/>
                    </a:moveTo>
                    <a:lnTo>
                      <a:pt x="2387" y="1"/>
                    </a:lnTo>
                    <a:cubicBezTo>
                      <a:pt x="2388" y="1"/>
                      <a:pt x="2389" y="2"/>
                      <a:pt x="2389" y="3"/>
                    </a:cubicBezTo>
                    <a:cubicBezTo>
                      <a:pt x="2389" y="4"/>
                      <a:pt x="2388" y="5"/>
                      <a:pt x="2387" y="5"/>
                    </a:cubicBezTo>
                    <a:lnTo>
                      <a:pt x="2387" y="5"/>
                    </a:lnTo>
                    <a:cubicBezTo>
                      <a:pt x="2386" y="5"/>
                      <a:pt x="2385" y="4"/>
                      <a:pt x="2385" y="3"/>
                    </a:cubicBezTo>
                    <a:cubicBezTo>
                      <a:pt x="2385" y="2"/>
                      <a:pt x="2386" y="1"/>
                      <a:pt x="2387" y="1"/>
                    </a:cubicBezTo>
                    <a:close/>
                    <a:moveTo>
                      <a:pt x="2395" y="1"/>
                    </a:moveTo>
                    <a:lnTo>
                      <a:pt x="2395" y="1"/>
                    </a:lnTo>
                    <a:cubicBezTo>
                      <a:pt x="2396" y="1"/>
                      <a:pt x="2397" y="2"/>
                      <a:pt x="2397" y="3"/>
                    </a:cubicBezTo>
                    <a:cubicBezTo>
                      <a:pt x="2397" y="4"/>
                      <a:pt x="2396" y="5"/>
                      <a:pt x="2395" y="5"/>
                    </a:cubicBezTo>
                    <a:lnTo>
                      <a:pt x="2395" y="5"/>
                    </a:lnTo>
                    <a:cubicBezTo>
                      <a:pt x="2394" y="5"/>
                      <a:pt x="2393" y="4"/>
                      <a:pt x="2393" y="3"/>
                    </a:cubicBezTo>
                    <a:cubicBezTo>
                      <a:pt x="2393" y="2"/>
                      <a:pt x="2394" y="1"/>
                      <a:pt x="2395" y="1"/>
                    </a:cubicBezTo>
                    <a:close/>
                    <a:moveTo>
                      <a:pt x="2403" y="1"/>
                    </a:moveTo>
                    <a:lnTo>
                      <a:pt x="2403" y="1"/>
                    </a:lnTo>
                    <a:cubicBezTo>
                      <a:pt x="2404" y="1"/>
                      <a:pt x="2405" y="2"/>
                      <a:pt x="2405" y="3"/>
                    </a:cubicBezTo>
                    <a:cubicBezTo>
                      <a:pt x="2405" y="4"/>
                      <a:pt x="2404" y="5"/>
                      <a:pt x="2403" y="5"/>
                    </a:cubicBezTo>
                    <a:lnTo>
                      <a:pt x="2403" y="5"/>
                    </a:lnTo>
                    <a:cubicBezTo>
                      <a:pt x="2402" y="5"/>
                      <a:pt x="2401" y="4"/>
                      <a:pt x="2401" y="3"/>
                    </a:cubicBezTo>
                    <a:cubicBezTo>
                      <a:pt x="2401" y="2"/>
                      <a:pt x="2402" y="1"/>
                      <a:pt x="2403" y="1"/>
                    </a:cubicBezTo>
                    <a:close/>
                    <a:moveTo>
                      <a:pt x="2411" y="1"/>
                    </a:moveTo>
                    <a:lnTo>
                      <a:pt x="2411" y="1"/>
                    </a:lnTo>
                    <a:cubicBezTo>
                      <a:pt x="2412" y="1"/>
                      <a:pt x="2413" y="2"/>
                      <a:pt x="2413" y="3"/>
                    </a:cubicBezTo>
                    <a:cubicBezTo>
                      <a:pt x="2413" y="4"/>
                      <a:pt x="2412" y="5"/>
                      <a:pt x="2411" y="5"/>
                    </a:cubicBezTo>
                    <a:lnTo>
                      <a:pt x="2411" y="5"/>
                    </a:lnTo>
                    <a:cubicBezTo>
                      <a:pt x="2410" y="5"/>
                      <a:pt x="2409" y="4"/>
                      <a:pt x="2409" y="3"/>
                    </a:cubicBezTo>
                    <a:cubicBezTo>
                      <a:pt x="2409" y="2"/>
                      <a:pt x="2410" y="1"/>
                      <a:pt x="2411" y="1"/>
                    </a:cubicBezTo>
                    <a:close/>
                    <a:moveTo>
                      <a:pt x="2419" y="1"/>
                    </a:moveTo>
                    <a:lnTo>
                      <a:pt x="2419" y="1"/>
                    </a:lnTo>
                    <a:cubicBezTo>
                      <a:pt x="2420" y="1"/>
                      <a:pt x="2421" y="2"/>
                      <a:pt x="2421" y="3"/>
                    </a:cubicBezTo>
                    <a:cubicBezTo>
                      <a:pt x="2421" y="4"/>
                      <a:pt x="2420" y="5"/>
                      <a:pt x="2419" y="5"/>
                    </a:cubicBezTo>
                    <a:lnTo>
                      <a:pt x="2419" y="5"/>
                    </a:lnTo>
                    <a:cubicBezTo>
                      <a:pt x="2418" y="5"/>
                      <a:pt x="2417" y="4"/>
                      <a:pt x="2417" y="3"/>
                    </a:cubicBezTo>
                    <a:cubicBezTo>
                      <a:pt x="2417" y="2"/>
                      <a:pt x="2418" y="1"/>
                      <a:pt x="2419" y="1"/>
                    </a:cubicBezTo>
                    <a:close/>
                    <a:moveTo>
                      <a:pt x="2427" y="1"/>
                    </a:moveTo>
                    <a:lnTo>
                      <a:pt x="2427" y="1"/>
                    </a:lnTo>
                    <a:cubicBezTo>
                      <a:pt x="2428" y="1"/>
                      <a:pt x="2429" y="2"/>
                      <a:pt x="2429" y="3"/>
                    </a:cubicBezTo>
                    <a:cubicBezTo>
                      <a:pt x="2429" y="4"/>
                      <a:pt x="2428" y="5"/>
                      <a:pt x="2427" y="5"/>
                    </a:cubicBezTo>
                    <a:lnTo>
                      <a:pt x="2427" y="5"/>
                    </a:lnTo>
                    <a:cubicBezTo>
                      <a:pt x="2426" y="5"/>
                      <a:pt x="2425" y="4"/>
                      <a:pt x="2425" y="3"/>
                    </a:cubicBezTo>
                    <a:cubicBezTo>
                      <a:pt x="2425" y="2"/>
                      <a:pt x="2426" y="1"/>
                      <a:pt x="2427" y="1"/>
                    </a:cubicBezTo>
                    <a:close/>
                    <a:moveTo>
                      <a:pt x="2435" y="1"/>
                    </a:moveTo>
                    <a:lnTo>
                      <a:pt x="2435" y="1"/>
                    </a:lnTo>
                    <a:cubicBezTo>
                      <a:pt x="2436" y="1"/>
                      <a:pt x="2437" y="2"/>
                      <a:pt x="2437" y="3"/>
                    </a:cubicBezTo>
                    <a:cubicBezTo>
                      <a:pt x="2437" y="4"/>
                      <a:pt x="2436" y="5"/>
                      <a:pt x="2435" y="5"/>
                    </a:cubicBezTo>
                    <a:lnTo>
                      <a:pt x="2435" y="5"/>
                    </a:lnTo>
                    <a:cubicBezTo>
                      <a:pt x="2434" y="5"/>
                      <a:pt x="2433" y="4"/>
                      <a:pt x="2433" y="3"/>
                    </a:cubicBezTo>
                    <a:cubicBezTo>
                      <a:pt x="2433" y="2"/>
                      <a:pt x="2434" y="1"/>
                      <a:pt x="2435" y="1"/>
                    </a:cubicBezTo>
                    <a:close/>
                    <a:moveTo>
                      <a:pt x="2443" y="1"/>
                    </a:moveTo>
                    <a:lnTo>
                      <a:pt x="2443" y="1"/>
                    </a:lnTo>
                    <a:cubicBezTo>
                      <a:pt x="2444" y="1"/>
                      <a:pt x="2445" y="2"/>
                      <a:pt x="2445" y="3"/>
                    </a:cubicBezTo>
                    <a:cubicBezTo>
                      <a:pt x="2445" y="4"/>
                      <a:pt x="2444" y="5"/>
                      <a:pt x="2443" y="5"/>
                    </a:cubicBezTo>
                    <a:lnTo>
                      <a:pt x="2443" y="5"/>
                    </a:lnTo>
                    <a:cubicBezTo>
                      <a:pt x="2442" y="5"/>
                      <a:pt x="2441" y="4"/>
                      <a:pt x="2441" y="3"/>
                    </a:cubicBezTo>
                    <a:cubicBezTo>
                      <a:pt x="2441" y="2"/>
                      <a:pt x="2442" y="1"/>
                      <a:pt x="2443" y="1"/>
                    </a:cubicBezTo>
                    <a:close/>
                    <a:moveTo>
                      <a:pt x="2451" y="1"/>
                    </a:moveTo>
                    <a:lnTo>
                      <a:pt x="2451" y="1"/>
                    </a:lnTo>
                    <a:cubicBezTo>
                      <a:pt x="2452" y="1"/>
                      <a:pt x="2453" y="2"/>
                      <a:pt x="2453" y="3"/>
                    </a:cubicBezTo>
                    <a:cubicBezTo>
                      <a:pt x="2453" y="4"/>
                      <a:pt x="2452" y="5"/>
                      <a:pt x="2451" y="5"/>
                    </a:cubicBezTo>
                    <a:lnTo>
                      <a:pt x="2451" y="5"/>
                    </a:lnTo>
                    <a:cubicBezTo>
                      <a:pt x="2450" y="5"/>
                      <a:pt x="2449" y="4"/>
                      <a:pt x="2449" y="3"/>
                    </a:cubicBezTo>
                    <a:cubicBezTo>
                      <a:pt x="2449" y="2"/>
                      <a:pt x="2450" y="1"/>
                      <a:pt x="2451" y="1"/>
                    </a:cubicBezTo>
                    <a:close/>
                    <a:moveTo>
                      <a:pt x="2459" y="1"/>
                    </a:moveTo>
                    <a:lnTo>
                      <a:pt x="2459" y="1"/>
                    </a:lnTo>
                    <a:cubicBezTo>
                      <a:pt x="2460" y="1"/>
                      <a:pt x="2461" y="2"/>
                      <a:pt x="2461" y="3"/>
                    </a:cubicBezTo>
                    <a:cubicBezTo>
                      <a:pt x="2461" y="4"/>
                      <a:pt x="2460" y="5"/>
                      <a:pt x="2459" y="5"/>
                    </a:cubicBezTo>
                    <a:lnTo>
                      <a:pt x="2459" y="5"/>
                    </a:lnTo>
                    <a:cubicBezTo>
                      <a:pt x="2458" y="5"/>
                      <a:pt x="2457" y="4"/>
                      <a:pt x="2457" y="3"/>
                    </a:cubicBezTo>
                    <a:cubicBezTo>
                      <a:pt x="2457" y="2"/>
                      <a:pt x="2458" y="1"/>
                      <a:pt x="2459" y="1"/>
                    </a:cubicBezTo>
                    <a:close/>
                    <a:moveTo>
                      <a:pt x="2467" y="1"/>
                    </a:moveTo>
                    <a:lnTo>
                      <a:pt x="2467" y="1"/>
                    </a:lnTo>
                    <a:cubicBezTo>
                      <a:pt x="2468" y="1"/>
                      <a:pt x="2469" y="2"/>
                      <a:pt x="2469" y="3"/>
                    </a:cubicBezTo>
                    <a:cubicBezTo>
                      <a:pt x="2469" y="4"/>
                      <a:pt x="2468" y="5"/>
                      <a:pt x="2467" y="5"/>
                    </a:cubicBezTo>
                    <a:lnTo>
                      <a:pt x="2467" y="5"/>
                    </a:lnTo>
                    <a:cubicBezTo>
                      <a:pt x="2466" y="5"/>
                      <a:pt x="2465" y="4"/>
                      <a:pt x="2465" y="3"/>
                    </a:cubicBezTo>
                    <a:cubicBezTo>
                      <a:pt x="2465" y="2"/>
                      <a:pt x="2466" y="1"/>
                      <a:pt x="2467" y="1"/>
                    </a:cubicBezTo>
                    <a:close/>
                    <a:moveTo>
                      <a:pt x="2475" y="1"/>
                    </a:moveTo>
                    <a:lnTo>
                      <a:pt x="2475" y="1"/>
                    </a:lnTo>
                    <a:cubicBezTo>
                      <a:pt x="2476" y="1"/>
                      <a:pt x="2477" y="2"/>
                      <a:pt x="2477" y="3"/>
                    </a:cubicBezTo>
                    <a:cubicBezTo>
                      <a:pt x="2477" y="4"/>
                      <a:pt x="2476" y="5"/>
                      <a:pt x="2475" y="5"/>
                    </a:cubicBezTo>
                    <a:lnTo>
                      <a:pt x="2475" y="5"/>
                    </a:lnTo>
                    <a:cubicBezTo>
                      <a:pt x="2474" y="5"/>
                      <a:pt x="2473" y="4"/>
                      <a:pt x="2473" y="3"/>
                    </a:cubicBezTo>
                    <a:cubicBezTo>
                      <a:pt x="2473" y="2"/>
                      <a:pt x="2474" y="1"/>
                      <a:pt x="2475" y="1"/>
                    </a:cubicBezTo>
                    <a:close/>
                    <a:moveTo>
                      <a:pt x="2483" y="1"/>
                    </a:moveTo>
                    <a:lnTo>
                      <a:pt x="2483" y="1"/>
                    </a:lnTo>
                    <a:cubicBezTo>
                      <a:pt x="2484" y="1"/>
                      <a:pt x="2485" y="2"/>
                      <a:pt x="2485" y="3"/>
                    </a:cubicBezTo>
                    <a:cubicBezTo>
                      <a:pt x="2485" y="4"/>
                      <a:pt x="2484" y="5"/>
                      <a:pt x="2483" y="5"/>
                    </a:cubicBezTo>
                    <a:lnTo>
                      <a:pt x="2483" y="5"/>
                    </a:lnTo>
                    <a:cubicBezTo>
                      <a:pt x="2482" y="5"/>
                      <a:pt x="2481" y="4"/>
                      <a:pt x="2481" y="3"/>
                    </a:cubicBezTo>
                    <a:cubicBezTo>
                      <a:pt x="2481" y="2"/>
                      <a:pt x="2482" y="1"/>
                      <a:pt x="2483" y="1"/>
                    </a:cubicBezTo>
                    <a:close/>
                    <a:moveTo>
                      <a:pt x="2491" y="1"/>
                    </a:moveTo>
                    <a:lnTo>
                      <a:pt x="2491" y="1"/>
                    </a:lnTo>
                    <a:cubicBezTo>
                      <a:pt x="2492" y="1"/>
                      <a:pt x="2493" y="2"/>
                      <a:pt x="2493" y="3"/>
                    </a:cubicBezTo>
                    <a:cubicBezTo>
                      <a:pt x="2493" y="4"/>
                      <a:pt x="2492" y="5"/>
                      <a:pt x="2491" y="5"/>
                    </a:cubicBezTo>
                    <a:lnTo>
                      <a:pt x="2491" y="5"/>
                    </a:lnTo>
                    <a:cubicBezTo>
                      <a:pt x="2490" y="5"/>
                      <a:pt x="2489" y="4"/>
                      <a:pt x="2489" y="3"/>
                    </a:cubicBezTo>
                    <a:cubicBezTo>
                      <a:pt x="2489" y="2"/>
                      <a:pt x="2490" y="1"/>
                      <a:pt x="2491" y="1"/>
                    </a:cubicBezTo>
                    <a:close/>
                    <a:moveTo>
                      <a:pt x="2499" y="1"/>
                    </a:moveTo>
                    <a:lnTo>
                      <a:pt x="2499" y="1"/>
                    </a:lnTo>
                    <a:cubicBezTo>
                      <a:pt x="2500" y="1"/>
                      <a:pt x="2501" y="2"/>
                      <a:pt x="2501" y="3"/>
                    </a:cubicBezTo>
                    <a:cubicBezTo>
                      <a:pt x="2501" y="4"/>
                      <a:pt x="2500" y="5"/>
                      <a:pt x="2499" y="5"/>
                    </a:cubicBezTo>
                    <a:lnTo>
                      <a:pt x="2499" y="5"/>
                    </a:lnTo>
                    <a:cubicBezTo>
                      <a:pt x="2498" y="5"/>
                      <a:pt x="2497" y="4"/>
                      <a:pt x="2497" y="3"/>
                    </a:cubicBezTo>
                    <a:cubicBezTo>
                      <a:pt x="2497" y="2"/>
                      <a:pt x="2498" y="1"/>
                      <a:pt x="2499" y="1"/>
                    </a:cubicBezTo>
                    <a:close/>
                    <a:moveTo>
                      <a:pt x="2507" y="1"/>
                    </a:moveTo>
                    <a:lnTo>
                      <a:pt x="2507" y="1"/>
                    </a:lnTo>
                    <a:cubicBezTo>
                      <a:pt x="2508" y="1"/>
                      <a:pt x="2509" y="2"/>
                      <a:pt x="2509" y="3"/>
                    </a:cubicBezTo>
                    <a:cubicBezTo>
                      <a:pt x="2509" y="4"/>
                      <a:pt x="2508" y="5"/>
                      <a:pt x="2507" y="5"/>
                    </a:cubicBezTo>
                    <a:lnTo>
                      <a:pt x="2507" y="5"/>
                    </a:lnTo>
                    <a:cubicBezTo>
                      <a:pt x="2506" y="5"/>
                      <a:pt x="2505" y="4"/>
                      <a:pt x="2505" y="3"/>
                    </a:cubicBezTo>
                    <a:cubicBezTo>
                      <a:pt x="2505" y="2"/>
                      <a:pt x="2506" y="1"/>
                      <a:pt x="2507" y="1"/>
                    </a:cubicBezTo>
                    <a:close/>
                    <a:moveTo>
                      <a:pt x="2515" y="1"/>
                    </a:moveTo>
                    <a:lnTo>
                      <a:pt x="2515" y="1"/>
                    </a:lnTo>
                    <a:cubicBezTo>
                      <a:pt x="2516" y="1"/>
                      <a:pt x="2517" y="2"/>
                      <a:pt x="2517" y="3"/>
                    </a:cubicBezTo>
                    <a:cubicBezTo>
                      <a:pt x="2517" y="4"/>
                      <a:pt x="2516" y="5"/>
                      <a:pt x="2515" y="5"/>
                    </a:cubicBezTo>
                    <a:lnTo>
                      <a:pt x="2515" y="5"/>
                    </a:lnTo>
                    <a:cubicBezTo>
                      <a:pt x="2514" y="5"/>
                      <a:pt x="2513" y="4"/>
                      <a:pt x="2513" y="3"/>
                    </a:cubicBezTo>
                    <a:cubicBezTo>
                      <a:pt x="2513" y="2"/>
                      <a:pt x="2514" y="1"/>
                      <a:pt x="2515" y="1"/>
                    </a:cubicBezTo>
                    <a:close/>
                    <a:moveTo>
                      <a:pt x="2523" y="1"/>
                    </a:moveTo>
                    <a:lnTo>
                      <a:pt x="2523" y="1"/>
                    </a:lnTo>
                    <a:cubicBezTo>
                      <a:pt x="2524" y="1"/>
                      <a:pt x="2525" y="2"/>
                      <a:pt x="2525" y="3"/>
                    </a:cubicBezTo>
                    <a:cubicBezTo>
                      <a:pt x="2525" y="4"/>
                      <a:pt x="2524" y="5"/>
                      <a:pt x="2523" y="5"/>
                    </a:cubicBezTo>
                    <a:lnTo>
                      <a:pt x="2523" y="5"/>
                    </a:lnTo>
                    <a:cubicBezTo>
                      <a:pt x="2522" y="5"/>
                      <a:pt x="2521" y="4"/>
                      <a:pt x="2521" y="3"/>
                    </a:cubicBezTo>
                    <a:cubicBezTo>
                      <a:pt x="2521" y="2"/>
                      <a:pt x="2522" y="1"/>
                      <a:pt x="2523" y="1"/>
                    </a:cubicBezTo>
                    <a:close/>
                    <a:moveTo>
                      <a:pt x="2531" y="1"/>
                    </a:moveTo>
                    <a:lnTo>
                      <a:pt x="2531" y="1"/>
                    </a:lnTo>
                    <a:cubicBezTo>
                      <a:pt x="2532" y="1"/>
                      <a:pt x="2533" y="2"/>
                      <a:pt x="2533" y="3"/>
                    </a:cubicBezTo>
                    <a:cubicBezTo>
                      <a:pt x="2533" y="4"/>
                      <a:pt x="2532" y="5"/>
                      <a:pt x="2531" y="5"/>
                    </a:cubicBezTo>
                    <a:lnTo>
                      <a:pt x="2531" y="5"/>
                    </a:lnTo>
                    <a:cubicBezTo>
                      <a:pt x="2530" y="5"/>
                      <a:pt x="2529" y="4"/>
                      <a:pt x="2529" y="3"/>
                    </a:cubicBezTo>
                    <a:cubicBezTo>
                      <a:pt x="2529" y="2"/>
                      <a:pt x="2530" y="1"/>
                      <a:pt x="2531" y="1"/>
                    </a:cubicBezTo>
                    <a:close/>
                    <a:moveTo>
                      <a:pt x="2539" y="1"/>
                    </a:moveTo>
                    <a:lnTo>
                      <a:pt x="2539" y="1"/>
                    </a:lnTo>
                    <a:cubicBezTo>
                      <a:pt x="2540" y="1"/>
                      <a:pt x="2541" y="2"/>
                      <a:pt x="2541" y="3"/>
                    </a:cubicBezTo>
                    <a:cubicBezTo>
                      <a:pt x="2541" y="4"/>
                      <a:pt x="2540" y="5"/>
                      <a:pt x="2539" y="5"/>
                    </a:cubicBezTo>
                    <a:lnTo>
                      <a:pt x="2539" y="5"/>
                    </a:lnTo>
                    <a:cubicBezTo>
                      <a:pt x="2538" y="5"/>
                      <a:pt x="2537" y="4"/>
                      <a:pt x="2537" y="3"/>
                    </a:cubicBezTo>
                    <a:cubicBezTo>
                      <a:pt x="2537" y="2"/>
                      <a:pt x="2538" y="1"/>
                      <a:pt x="2539" y="1"/>
                    </a:cubicBezTo>
                    <a:close/>
                    <a:moveTo>
                      <a:pt x="2547" y="1"/>
                    </a:moveTo>
                    <a:lnTo>
                      <a:pt x="2547" y="1"/>
                    </a:lnTo>
                    <a:cubicBezTo>
                      <a:pt x="2548" y="1"/>
                      <a:pt x="2549" y="2"/>
                      <a:pt x="2549" y="3"/>
                    </a:cubicBezTo>
                    <a:cubicBezTo>
                      <a:pt x="2549" y="4"/>
                      <a:pt x="2548" y="5"/>
                      <a:pt x="2547" y="5"/>
                    </a:cubicBezTo>
                    <a:lnTo>
                      <a:pt x="2547" y="5"/>
                    </a:lnTo>
                    <a:cubicBezTo>
                      <a:pt x="2546" y="5"/>
                      <a:pt x="2545" y="4"/>
                      <a:pt x="2545" y="3"/>
                    </a:cubicBezTo>
                    <a:cubicBezTo>
                      <a:pt x="2545" y="2"/>
                      <a:pt x="2546" y="1"/>
                      <a:pt x="2547" y="1"/>
                    </a:cubicBezTo>
                    <a:close/>
                    <a:moveTo>
                      <a:pt x="2555" y="1"/>
                    </a:moveTo>
                    <a:lnTo>
                      <a:pt x="2555" y="1"/>
                    </a:lnTo>
                    <a:cubicBezTo>
                      <a:pt x="2556" y="1"/>
                      <a:pt x="2557" y="2"/>
                      <a:pt x="2557" y="3"/>
                    </a:cubicBezTo>
                    <a:cubicBezTo>
                      <a:pt x="2557" y="4"/>
                      <a:pt x="2556" y="5"/>
                      <a:pt x="2555" y="5"/>
                    </a:cubicBezTo>
                    <a:lnTo>
                      <a:pt x="2555" y="5"/>
                    </a:lnTo>
                    <a:cubicBezTo>
                      <a:pt x="2554" y="5"/>
                      <a:pt x="2553" y="4"/>
                      <a:pt x="2553" y="3"/>
                    </a:cubicBezTo>
                    <a:cubicBezTo>
                      <a:pt x="2553" y="2"/>
                      <a:pt x="2554" y="1"/>
                      <a:pt x="2555" y="1"/>
                    </a:cubicBezTo>
                    <a:close/>
                    <a:moveTo>
                      <a:pt x="2563" y="1"/>
                    </a:moveTo>
                    <a:lnTo>
                      <a:pt x="2563" y="1"/>
                    </a:lnTo>
                    <a:cubicBezTo>
                      <a:pt x="2564" y="1"/>
                      <a:pt x="2565" y="2"/>
                      <a:pt x="2565" y="3"/>
                    </a:cubicBezTo>
                    <a:cubicBezTo>
                      <a:pt x="2565" y="4"/>
                      <a:pt x="2564" y="5"/>
                      <a:pt x="2563" y="5"/>
                    </a:cubicBezTo>
                    <a:lnTo>
                      <a:pt x="2563" y="5"/>
                    </a:lnTo>
                    <a:cubicBezTo>
                      <a:pt x="2562" y="5"/>
                      <a:pt x="2561" y="4"/>
                      <a:pt x="2561" y="3"/>
                    </a:cubicBezTo>
                    <a:cubicBezTo>
                      <a:pt x="2561" y="2"/>
                      <a:pt x="2562" y="1"/>
                      <a:pt x="2563" y="1"/>
                    </a:cubicBezTo>
                    <a:close/>
                    <a:moveTo>
                      <a:pt x="2571" y="1"/>
                    </a:moveTo>
                    <a:lnTo>
                      <a:pt x="2571" y="1"/>
                    </a:lnTo>
                    <a:cubicBezTo>
                      <a:pt x="2572" y="1"/>
                      <a:pt x="2573" y="2"/>
                      <a:pt x="2573" y="3"/>
                    </a:cubicBezTo>
                    <a:cubicBezTo>
                      <a:pt x="2573" y="4"/>
                      <a:pt x="2572" y="5"/>
                      <a:pt x="2571" y="5"/>
                    </a:cubicBezTo>
                    <a:lnTo>
                      <a:pt x="2571" y="5"/>
                    </a:lnTo>
                    <a:cubicBezTo>
                      <a:pt x="2570" y="5"/>
                      <a:pt x="2569" y="4"/>
                      <a:pt x="2569" y="3"/>
                    </a:cubicBezTo>
                    <a:cubicBezTo>
                      <a:pt x="2569" y="2"/>
                      <a:pt x="2570" y="1"/>
                      <a:pt x="2571" y="1"/>
                    </a:cubicBezTo>
                    <a:close/>
                    <a:moveTo>
                      <a:pt x="2579" y="1"/>
                    </a:moveTo>
                    <a:lnTo>
                      <a:pt x="2579" y="1"/>
                    </a:lnTo>
                    <a:cubicBezTo>
                      <a:pt x="2580" y="1"/>
                      <a:pt x="2581" y="2"/>
                      <a:pt x="2581" y="3"/>
                    </a:cubicBezTo>
                    <a:cubicBezTo>
                      <a:pt x="2581" y="4"/>
                      <a:pt x="2580" y="5"/>
                      <a:pt x="2579" y="5"/>
                    </a:cubicBezTo>
                    <a:lnTo>
                      <a:pt x="2579" y="5"/>
                    </a:lnTo>
                    <a:cubicBezTo>
                      <a:pt x="2578" y="5"/>
                      <a:pt x="2577" y="4"/>
                      <a:pt x="2577" y="3"/>
                    </a:cubicBezTo>
                    <a:cubicBezTo>
                      <a:pt x="2577" y="2"/>
                      <a:pt x="2578" y="1"/>
                      <a:pt x="2579" y="1"/>
                    </a:cubicBezTo>
                    <a:close/>
                    <a:moveTo>
                      <a:pt x="2587" y="1"/>
                    </a:moveTo>
                    <a:lnTo>
                      <a:pt x="2587" y="1"/>
                    </a:lnTo>
                    <a:cubicBezTo>
                      <a:pt x="2588" y="1"/>
                      <a:pt x="2589" y="2"/>
                      <a:pt x="2589" y="3"/>
                    </a:cubicBezTo>
                    <a:cubicBezTo>
                      <a:pt x="2589" y="4"/>
                      <a:pt x="2588" y="5"/>
                      <a:pt x="2587" y="5"/>
                    </a:cubicBezTo>
                    <a:lnTo>
                      <a:pt x="2587" y="5"/>
                    </a:lnTo>
                    <a:cubicBezTo>
                      <a:pt x="2586" y="5"/>
                      <a:pt x="2585" y="4"/>
                      <a:pt x="2585" y="3"/>
                    </a:cubicBezTo>
                    <a:cubicBezTo>
                      <a:pt x="2585" y="2"/>
                      <a:pt x="2586" y="1"/>
                      <a:pt x="2587" y="1"/>
                    </a:cubicBezTo>
                    <a:close/>
                    <a:moveTo>
                      <a:pt x="2595" y="1"/>
                    </a:moveTo>
                    <a:lnTo>
                      <a:pt x="2595" y="1"/>
                    </a:lnTo>
                    <a:cubicBezTo>
                      <a:pt x="2596" y="1"/>
                      <a:pt x="2597" y="2"/>
                      <a:pt x="2597" y="3"/>
                    </a:cubicBezTo>
                    <a:cubicBezTo>
                      <a:pt x="2597" y="4"/>
                      <a:pt x="2596" y="5"/>
                      <a:pt x="2595" y="5"/>
                    </a:cubicBezTo>
                    <a:lnTo>
                      <a:pt x="2595" y="5"/>
                    </a:lnTo>
                    <a:cubicBezTo>
                      <a:pt x="2594" y="5"/>
                      <a:pt x="2593" y="4"/>
                      <a:pt x="2593" y="3"/>
                    </a:cubicBezTo>
                    <a:cubicBezTo>
                      <a:pt x="2593" y="2"/>
                      <a:pt x="2594" y="1"/>
                      <a:pt x="2595" y="1"/>
                    </a:cubicBezTo>
                    <a:close/>
                    <a:moveTo>
                      <a:pt x="2603" y="1"/>
                    </a:moveTo>
                    <a:lnTo>
                      <a:pt x="2603" y="1"/>
                    </a:lnTo>
                    <a:cubicBezTo>
                      <a:pt x="2604" y="1"/>
                      <a:pt x="2605" y="2"/>
                      <a:pt x="2605" y="3"/>
                    </a:cubicBezTo>
                    <a:cubicBezTo>
                      <a:pt x="2605" y="4"/>
                      <a:pt x="2604" y="5"/>
                      <a:pt x="2603" y="5"/>
                    </a:cubicBezTo>
                    <a:lnTo>
                      <a:pt x="2603" y="5"/>
                    </a:lnTo>
                    <a:cubicBezTo>
                      <a:pt x="2602" y="5"/>
                      <a:pt x="2601" y="4"/>
                      <a:pt x="2601" y="3"/>
                    </a:cubicBezTo>
                    <a:cubicBezTo>
                      <a:pt x="2601" y="2"/>
                      <a:pt x="2602" y="1"/>
                      <a:pt x="2603" y="1"/>
                    </a:cubicBezTo>
                    <a:close/>
                    <a:moveTo>
                      <a:pt x="2611" y="1"/>
                    </a:moveTo>
                    <a:lnTo>
                      <a:pt x="2611" y="1"/>
                    </a:lnTo>
                    <a:cubicBezTo>
                      <a:pt x="2612" y="1"/>
                      <a:pt x="2613" y="2"/>
                      <a:pt x="2613" y="3"/>
                    </a:cubicBezTo>
                    <a:cubicBezTo>
                      <a:pt x="2613" y="4"/>
                      <a:pt x="2612" y="5"/>
                      <a:pt x="2611" y="5"/>
                    </a:cubicBezTo>
                    <a:lnTo>
                      <a:pt x="2611" y="5"/>
                    </a:lnTo>
                    <a:cubicBezTo>
                      <a:pt x="2610" y="5"/>
                      <a:pt x="2609" y="4"/>
                      <a:pt x="2609" y="3"/>
                    </a:cubicBezTo>
                    <a:cubicBezTo>
                      <a:pt x="2609" y="2"/>
                      <a:pt x="2610" y="1"/>
                      <a:pt x="2611" y="1"/>
                    </a:cubicBezTo>
                    <a:close/>
                    <a:moveTo>
                      <a:pt x="2619" y="1"/>
                    </a:moveTo>
                    <a:lnTo>
                      <a:pt x="2619" y="1"/>
                    </a:lnTo>
                    <a:cubicBezTo>
                      <a:pt x="2620" y="1"/>
                      <a:pt x="2621" y="2"/>
                      <a:pt x="2621" y="3"/>
                    </a:cubicBezTo>
                    <a:cubicBezTo>
                      <a:pt x="2621" y="4"/>
                      <a:pt x="2620" y="5"/>
                      <a:pt x="2619" y="5"/>
                    </a:cubicBezTo>
                    <a:lnTo>
                      <a:pt x="2619" y="5"/>
                    </a:lnTo>
                    <a:cubicBezTo>
                      <a:pt x="2618" y="5"/>
                      <a:pt x="2617" y="4"/>
                      <a:pt x="2617" y="3"/>
                    </a:cubicBezTo>
                    <a:cubicBezTo>
                      <a:pt x="2617" y="2"/>
                      <a:pt x="2618" y="1"/>
                      <a:pt x="2619" y="1"/>
                    </a:cubicBezTo>
                    <a:close/>
                    <a:moveTo>
                      <a:pt x="2627" y="1"/>
                    </a:moveTo>
                    <a:lnTo>
                      <a:pt x="2627" y="1"/>
                    </a:lnTo>
                    <a:cubicBezTo>
                      <a:pt x="2628" y="1"/>
                      <a:pt x="2629" y="2"/>
                      <a:pt x="2629" y="3"/>
                    </a:cubicBezTo>
                    <a:cubicBezTo>
                      <a:pt x="2629" y="4"/>
                      <a:pt x="2628" y="5"/>
                      <a:pt x="2627" y="5"/>
                    </a:cubicBezTo>
                    <a:lnTo>
                      <a:pt x="2627" y="5"/>
                    </a:lnTo>
                    <a:cubicBezTo>
                      <a:pt x="2626" y="5"/>
                      <a:pt x="2625" y="4"/>
                      <a:pt x="2625" y="3"/>
                    </a:cubicBezTo>
                    <a:cubicBezTo>
                      <a:pt x="2625" y="2"/>
                      <a:pt x="2626" y="1"/>
                      <a:pt x="2627" y="1"/>
                    </a:cubicBezTo>
                    <a:close/>
                    <a:moveTo>
                      <a:pt x="2635" y="1"/>
                    </a:moveTo>
                    <a:lnTo>
                      <a:pt x="2635" y="1"/>
                    </a:lnTo>
                    <a:cubicBezTo>
                      <a:pt x="2636" y="1"/>
                      <a:pt x="2637" y="2"/>
                      <a:pt x="2637" y="3"/>
                    </a:cubicBezTo>
                    <a:cubicBezTo>
                      <a:pt x="2637" y="4"/>
                      <a:pt x="2636" y="5"/>
                      <a:pt x="2635" y="5"/>
                    </a:cubicBezTo>
                    <a:lnTo>
                      <a:pt x="2635" y="5"/>
                    </a:lnTo>
                    <a:cubicBezTo>
                      <a:pt x="2634" y="5"/>
                      <a:pt x="2633" y="4"/>
                      <a:pt x="2633" y="3"/>
                    </a:cubicBezTo>
                    <a:cubicBezTo>
                      <a:pt x="2633" y="2"/>
                      <a:pt x="2634" y="1"/>
                      <a:pt x="2635" y="1"/>
                    </a:cubicBezTo>
                    <a:close/>
                    <a:moveTo>
                      <a:pt x="2643" y="1"/>
                    </a:moveTo>
                    <a:lnTo>
                      <a:pt x="2643" y="1"/>
                    </a:lnTo>
                    <a:cubicBezTo>
                      <a:pt x="2644" y="1"/>
                      <a:pt x="2645" y="2"/>
                      <a:pt x="2645" y="3"/>
                    </a:cubicBezTo>
                    <a:cubicBezTo>
                      <a:pt x="2645" y="4"/>
                      <a:pt x="2644" y="5"/>
                      <a:pt x="2643" y="5"/>
                    </a:cubicBezTo>
                    <a:lnTo>
                      <a:pt x="2643" y="5"/>
                    </a:lnTo>
                    <a:cubicBezTo>
                      <a:pt x="2642" y="5"/>
                      <a:pt x="2641" y="4"/>
                      <a:pt x="2641" y="3"/>
                    </a:cubicBezTo>
                    <a:cubicBezTo>
                      <a:pt x="2641" y="2"/>
                      <a:pt x="2642" y="1"/>
                      <a:pt x="2643" y="1"/>
                    </a:cubicBezTo>
                    <a:close/>
                    <a:moveTo>
                      <a:pt x="2651" y="1"/>
                    </a:moveTo>
                    <a:lnTo>
                      <a:pt x="2651" y="1"/>
                    </a:lnTo>
                    <a:cubicBezTo>
                      <a:pt x="2652" y="1"/>
                      <a:pt x="2653" y="2"/>
                      <a:pt x="2653" y="3"/>
                    </a:cubicBezTo>
                    <a:cubicBezTo>
                      <a:pt x="2653" y="4"/>
                      <a:pt x="2652" y="5"/>
                      <a:pt x="2651" y="5"/>
                    </a:cubicBezTo>
                    <a:lnTo>
                      <a:pt x="2651" y="5"/>
                    </a:lnTo>
                    <a:cubicBezTo>
                      <a:pt x="2650" y="5"/>
                      <a:pt x="2649" y="4"/>
                      <a:pt x="2649" y="3"/>
                    </a:cubicBezTo>
                    <a:cubicBezTo>
                      <a:pt x="2649" y="2"/>
                      <a:pt x="2650" y="1"/>
                      <a:pt x="2651" y="1"/>
                    </a:cubicBezTo>
                    <a:close/>
                    <a:moveTo>
                      <a:pt x="2659" y="1"/>
                    </a:moveTo>
                    <a:lnTo>
                      <a:pt x="2659" y="1"/>
                    </a:lnTo>
                    <a:cubicBezTo>
                      <a:pt x="2660" y="1"/>
                      <a:pt x="2661" y="2"/>
                      <a:pt x="2661" y="3"/>
                    </a:cubicBezTo>
                    <a:cubicBezTo>
                      <a:pt x="2661" y="4"/>
                      <a:pt x="2660" y="5"/>
                      <a:pt x="2659" y="5"/>
                    </a:cubicBezTo>
                    <a:lnTo>
                      <a:pt x="2659" y="5"/>
                    </a:lnTo>
                    <a:cubicBezTo>
                      <a:pt x="2658" y="5"/>
                      <a:pt x="2657" y="4"/>
                      <a:pt x="2657" y="3"/>
                    </a:cubicBezTo>
                    <a:cubicBezTo>
                      <a:pt x="2657" y="2"/>
                      <a:pt x="2658" y="1"/>
                      <a:pt x="2659" y="1"/>
                    </a:cubicBezTo>
                    <a:close/>
                    <a:moveTo>
                      <a:pt x="2667" y="1"/>
                    </a:moveTo>
                    <a:lnTo>
                      <a:pt x="2667" y="1"/>
                    </a:lnTo>
                    <a:cubicBezTo>
                      <a:pt x="2668" y="1"/>
                      <a:pt x="2669" y="2"/>
                      <a:pt x="2669" y="3"/>
                    </a:cubicBezTo>
                    <a:cubicBezTo>
                      <a:pt x="2669" y="4"/>
                      <a:pt x="2668" y="5"/>
                      <a:pt x="2667" y="5"/>
                    </a:cubicBezTo>
                    <a:lnTo>
                      <a:pt x="2667" y="5"/>
                    </a:lnTo>
                    <a:cubicBezTo>
                      <a:pt x="2666" y="5"/>
                      <a:pt x="2665" y="4"/>
                      <a:pt x="2665" y="3"/>
                    </a:cubicBezTo>
                    <a:cubicBezTo>
                      <a:pt x="2665" y="2"/>
                      <a:pt x="2666" y="1"/>
                      <a:pt x="2667" y="1"/>
                    </a:cubicBezTo>
                    <a:close/>
                    <a:moveTo>
                      <a:pt x="2675" y="1"/>
                    </a:moveTo>
                    <a:lnTo>
                      <a:pt x="2675" y="1"/>
                    </a:lnTo>
                    <a:cubicBezTo>
                      <a:pt x="2676" y="1"/>
                      <a:pt x="2677" y="2"/>
                      <a:pt x="2677" y="3"/>
                    </a:cubicBezTo>
                    <a:cubicBezTo>
                      <a:pt x="2677" y="4"/>
                      <a:pt x="2676" y="5"/>
                      <a:pt x="2675" y="5"/>
                    </a:cubicBezTo>
                    <a:lnTo>
                      <a:pt x="2675" y="5"/>
                    </a:lnTo>
                    <a:cubicBezTo>
                      <a:pt x="2674" y="5"/>
                      <a:pt x="2673" y="4"/>
                      <a:pt x="2673" y="3"/>
                    </a:cubicBezTo>
                    <a:cubicBezTo>
                      <a:pt x="2673" y="2"/>
                      <a:pt x="2674" y="1"/>
                      <a:pt x="2675" y="1"/>
                    </a:cubicBezTo>
                    <a:close/>
                    <a:moveTo>
                      <a:pt x="2683" y="1"/>
                    </a:moveTo>
                    <a:lnTo>
                      <a:pt x="2683" y="1"/>
                    </a:lnTo>
                    <a:cubicBezTo>
                      <a:pt x="2684" y="1"/>
                      <a:pt x="2685" y="2"/>
                      <a:pt x="2685" y="3"/>
                    </a:cubicBezTo>
                    <a:cubicBezTo>
                      <a:pt x="2685" y="4"/>
                      <a:pt x="2684" y="5"/>
                      <a:pt x="2683" y="5"/>
                    </a:cubicBezTo>
                    <a:lnTo>
                      <a:pt x="2683" y="5"/>
                    </a:lnTo>
                    <a:cubicBezTo>
                      <a:pt x="2682" y="5"/>
                      <a:pt x="2681" y="4"/>
                      <a:pt x="2681" y="3"/>
                    </a:cubicBezTo>
                    <a:cubicBezTo>
                      <a:pt x="2681" y="2"/>
                      <a:pt x="2682" y="1"/>
                      <a:pt x="2683" y="1"/>
                    </a:cubicBezTo>
                    <a:close/>
                    <a:moveTo>
                      <a:pt x="2691" y="1"/>
                    </a:moveTo>
                    <a:lnTo>
                      <a:pt x="2691" y="1"/>
                    </a:lnTo>
                    <a:cubicBezTo>
                      <a:pt x="2692" y="1"/>
                      <a:pt x="2693" y="2"/>
                      <a:pt x="2693" y="3"/>
                    </a:cubicBezTo>
                    <a:cubicBezTo>
                      <a:pt x="2693" y="4"/>
                      <a:pt x="2692" y="5"/>
                      <a:pt x="2691" y="5"/>
                    </a:cubicBezTo>
                    <a:lnTo>
                      <a:pt x="2691" y="5"/>
                    </a:lnTo>
                    <a:cubicBezTo>
                      <a:pt x="2690" y="5"/>
                      <a:pt x="2689" y="4"/>
                      <a:pt x="2689" y="3"/>
                    </a:cubicBezTo>
                    <a:cubicBezTo>
                      <a:pt x="2689" y="2"/>
                      <a:pt x="2690" y="1"/>
                      <a:pt x="2691" y="1"/>
                    </a:cubicBezTo>
                    <a:close/>
                    <a:moveTo>
                      <a:pt x="2699" y="1"/>
                    </a:moveTo>
                    <a:lnTo>
                      <a:pt x="2699" y="1"/>
                    </a:lnTo>
                    <a:cubicBezTo>
                      <a:pt x="2700" y="1"/>
                      <a:pt x="2701" y="2"/>
                      <a:pt x="2701" y="3"/>
                    </a:cubicBezTo>
                    <a:cubicBezTo>
                      <a:pt x="2701" y="4"/>
                      <a:pt x="2700" y="5"/>
                      <a:pt x="2699" y="5"/>
                    </a:cubicBezTo>
                    <a:lnTo>
                      <a:pt x="2699" y="5"/>
                    </a:lnTo>
                    <a:cubicBezTo>
                      <a:pt x="2698" y="5"/>
                      <a:pt x="2697" y="4"/>
                      <a:pt x="2697" y="3"/>
                    </a:cubicBezTo>
                    <a:cubicBezTo>
                      <a:pt x="2697" y="2"/>
                      <a:pt x="2698" y="1"/>
                      <a:pt x="2699" y="1"/>
                    </a:cubicBezTo>
                    <a:close/>
                    <a:moveTo>
                      <a:pt x="2707" y="1"/>
                    </a:moveTo>
                    <a:lnTo>
                      <a:pt x="2707" y="1"/>
                    </a:lnTo>
                    <a:cubicBezTo>
                      <a:pt x="2708" y="1"/>
                      <a:pt x="2709" y="2"/>
                      <a:pt x="2709" y="3"/>
                    </a:cubicBezTo>
                    <a:cubicBezTo>
                      <a:pt x="2709" y="4"/>
                      <a:pt x="2708" y="5"/>
                      <a:pt x="2707" y="5"/>
                    </a:cubicBezTo>
                    <a:lnTo>
                      <a:pt x="2707" y="5"/>
                    </a:lnTo>
                    <a:cubicBezTo>
                      <a:pt x="2706" y="5"/>
                      <a:pt x="2705" y="4"/>
                      <a:pt x="2705" y="3"/>
                    </a:cubicBezTo>
                    <a:cubicBezTo>
                      <a:pt x="2705" y="2"/>
                      <a:pt x="2706" y="1"/>
                      <a:pt x="2707" y="1"/>
                    </a:cubicBezTo>
                    <a:close/>
                    <a:moveTo>
                      <a:pt x="2715" y="1"/>
                    </a:moveTo>
                    <a:lnTo>
                      <a:pt x="2715" y="1"/>
                    </a:lnTo>
                    <a:cubicBezTo>
                      <a:pt x="2716" y="1"/>
                      <a:pt x="2717" y="2"/>
                      <a:pt x="2717" y="3"/>
                    </a:cubicBezTo>
                    <a:cubicBezTo>
                      <a:pt x="2717" y="4"/>
                      <a:pt x="2716" y="5"/>
                      <a:pt x="2715" y="5"/>
                    </a:cubicBezTo>
                    <a:lnTo>
                      <a:pt x="2715" y="5"/>
                    </a:lnTo>
                    <a:cubicBezTo>
                      <a:pt x="2714" y="5"/>
                      <a:pt x="2713" y="4"/>
                      <a:pt x="2713" y="3"/>
                    </a:cubicBezTo>
                    <a:cubicBezTo>
                      <a:pt x="2713" y="2"/>
                      <a:pt x="2714" y="1"/>
                      <a:pt x="2715" y="1"/>
                    </a:cubicBezTo>
                    <a:close/>
                    <a:moveTo>
                      <a:pt x="2723" y="1"/>
                    </a:moveTo>
                    <a:lnTo>
                      <a:pt x="2723" y="1"/>
                    </a:lnTo>
                    <a:cubicBezTo>
                      <a:pt x="2724" y="1"/>
                      <a:pt x="2725" y="2"/>
                      <a:pt x="2725" y="3"/>
                    </a:cubicBezTo>
                    <a:cubicBezTo>
                      <a:pt x="2725" y="4"/>
                      <a:pt x="2724" y="5"/>
                      <a:pt x="2723" y="5"/>
                    </a:cubicBezTo>
                    <a:lnTo>
                      <a:pt x="2723" y="5"/>
                    </a:lnTo>
                    <a:cubicBezTo>
                      <a:pt x="2722" y="5"/>
                      <a:pt x="2721" y="4"/>
                      <a:pt x="2721" y="3"/>
                    </a:cubicBezTo>
                    <a:cubicBezTo>
                      <a:pt x="2721" y="2"/>
                      <a:pt x="2722" y="1"/>
                      <a:pt x="2723" y="1"/>
                    </a:cubicBezTo>
                    <a:close/>
                    <a:moveTo>
                      <a:pt x="2731" y="1"/>
                    </a:moveTo>
                    <a:lnTo>
                      <a:pt x="2731" y="1"/>
                    </a:lnTo>
                    <a:cubicBezTo>
                      <a:pt x="2732" y="1"/>
                      <a:pt x="2733" y="2"/>
                      <a:pt x="2733" y="3"/>
                    </a:cubicBezTo>
                    <a:cubicBezTo>
                      <a:pt x="2733" y="4"/>
                      <a:pt x="2732" y="5"/>
                      <a:pt x="2731" y="5"/>
                    </a:cubicBezTo>
                    <a:lnTo>
                      <a:pt x="2731" y="5"/>
                    </a:lnTo>
                    <a:cubicBezTo>
                      <a:pt x="2730" y="5"/>
                      <a:pt x="2729" y="4"/>
                      <a:pt x="2729" y="3"/>
                    </a:cubicBezTo>
                    <a:cubicBezTo>
                      <a:pt x="2729" y="2"/>
                      <a:pt x="2730" y="1"/>
                      <a:pt x="2731" y="1"/>
                    </a:cubicBezTo>
                    <a:close/>
                    <a:moveTo>
                      <a:pt x="2739" y="1"/>
                    </a:moveTo>
                    <a:lnTo>
                      <a:pt x="2739" y="1"/>
                    </a:lnTo>
                    <a:cubicBezTo>
                      <a:pt x="2740" y="1"/>
                      <a:pt x="2741" y="2"/>
                      <a:pt x="2741" y="3"/>
                    </a:cubicBezTo>
                    <a:cubicBezTo>
                      <a:pt x="2741" y="4"/>
                      <a:pt x="2740" y="5"/>
                      <a:pt x="2739" y="5"/>
                    </a:cubicBezTo>
                    <a:lnTo>
                      <a:pt x="2739" y="5"/>
                    </a:lnTo>
                    <a:cubicBezTo>
                      <a:pt x="2738" y="5"/>
                      <a:pt x="2737" y="4"/>
                      <a:pt x="2737" y="3"/>
                    </a:cubicBezTo>
                    <a:cubicBezTo>
                      <a:pt x="2737" y="2"/>
                      <a:pt x="2738" y="1"/>
                      <a:pt x="2739" y="1"/>
                    </a:cubicBezTo>
                    <a:close/>
                    <a:moveTo>
                      <a:pt x="2747" y="1"/>
                    </a:moveTo>
                    <a:lnTo>
                      <a:pt x="2747" y="1"/>
                    </a:lnTo>
                    <a:cubicBezTo>
                      <a:pt x="2748" y="1"/>
                      <a:pt x="2749" y="2"/>
                      <a:pt x="2749" y="3"/>
                    </a:cubicBezTo>
                    <a:cubicBezTo>
                      <a:pt x="2749" y="4"/>
                      <a:pt x="2748" y="5"/>
                      <a:pt x="2747" y="5"/>
                    </a:cubicBezTo>
                    <a:lnTo>
                      <a:pt x="2747" y="5"/>
                    </a:lnTo>
                    <a:cubicBezTo>
                      <a:pt x="2746" y="5"/>
                      <a:pt x="2745" y="4"/>
                      <a:pt x="2745" y="3"/>
                    </a:cubicBezTo>
                    <a:cubicBezTo>
                      <a:pt x="2745" y="2"/>
                      <a:pt x="2746" y="1"/>
                      <a:pt x="2747" y="1"/>
                    </a:cubicBezTo>
                    <a:close/>
                    <a:moveTo>
                      <a:pt x="2755" y="1"/>
                    </a:moveTo>
                    <a:lnTo>
                      <a:pt x="2755" y="1"/>
                    </a:lnTo>
                    <a:cubicBezTo>
                      <a:pt x="2756" y="1"/>
                      <a:pt x="2757" y="2"/>
                      <a:pt x="2757" y="3"/>
                    </a:cubicBezTo>
                    <a:cubicBezTo>
                      <a:pt x="2757" y="4"/>
                      <a:pt x="2756" y="5"/>
                      <a:pt x="2755" y="5"/>
                    </a:cubicBezTo>
                    <a:lnTo>
                      <a:pt x="2755" y="5"/>
                    </a:lnTo>
                    <a:cubicBezTo>
                      <a:pt x="2754" y="5"/>
                      <a:pt x="2753" y="4"/>
                      <a:pt x="2753" y="3"/>
                    </a:cubicBezTo>
                    <a:cubicBezTo>
                      <a:pt x="2753" y="2"/>
                      <a:pt x="2754" y="1"/>
                      <a:pt x="2755" y="1"/>
                    </a:cubicBezTo>
                    <a:close/>
                    <a:moveTo>
                      <a:pt x="2763" y="1"/>
                    </a:moveTo>
                    <a:lnTo>
                      <a:pt x="2763" y="1"/>
                    </a:lnTo>
                    <a:cubicBezTo>
                      <a:pt x="2764" y="1"/>
                      <a:pt x="2765" y="2"/>
                      <a:pt x="2765" y="3"/>
                    </a:cubicBezTo>
                    <a:cubicBezTo>
                      <a:pt x="2765" y="4"/>
                      <a:pt x="2764" y="5"/>
                      <a:pt x="2763" y="5"/>
                    </a:cubicBezTo>
                    <a:lnTo>
                      <a:pt x="2763" y="5"/>
                    </a:lnTo>
                    <a:cubicBezTo>
                      <a:pt x="2762" y="5"/>
                      <a:pt x="2761" y="4"/>
                      <a:pt x="2761" y="3"/>
                    </a:cubicBezTo>
                    <a:cubicBezTo>
                      <a:pt x="2761" y="2"/>
                      <a:pt x="2762" y="1"/>
                      <a:pt x="2763" y="1"/>
                    </a:cubicBezTo>
                    <a:close/>
                    <a:moveTo>
                      <a:pt x="2771" y="1"/>
                    </a:moveTo>
                    <a:lnTo>
                      <a:pt x="2771" y="1"/>
                    </a:lnTo>
                    <a:cubicBezTo>
                      <a:pt x="2772" y="1"/>
                      <a:pt x="2773" y="2"/>
                      <a:pt x="2773" y="3"/>
                    </a:cubicBezTo>
                    <a:cubicBezTo>
                      <a:pt x="2773" y="4"/>
                      <a:pt x="2772" y="5"/>
                      <a:pt x="2771" y="5"/>
                    </a:cubicBezTo>
                    <a:lnTo>
                      <a:pt x="2771" y="5"/>
                    </a:lnTo>
                    <a:cubicBezTo>
                      <a:pt x="2770" y="5"/>
                      <a:pt x="2769" y="4"/>
                      <a:pt x="2769" y="3"/>
                    </a:cubicBezTo>
                    <a:cubicBezTo>
                      <a:pt x="2769" y="2"/>
                      <a:pt x="2770" y="1"/>
                      <a:pt x="2771" y="1"/>
                    </a:cubicBezTo>
                    <a:close/>
                    <a:moveTo>
                      <a:pt x="2779" y="1"/>
                    </a:moveTo>
                    <a:lnTo>
                      <a:pt x="2779" y="1"/>
                    </a:lnTo>
                    <a:cubicBezTo>
                      <a:pt x="2780" y="1"/>
                      <a:pt x="2781" y="2"/>
                      <a:pt x="2781" y="3"/>
                    </a:cubicBezTo>
                    <a:cubicBezTo>
                      <a:pt x="2781" y="4"/>
                      <a:pt x="2780" y="5"/>
                      <a:pt x="2779" y="5"/>
                    </a:cubicBezTo>
                    <a:lnTo>
                      <a:pt x="2779" y="5"/>
                    </a:lnTo>
                    <a:cubicBezTo>
                      <a:pt x="2778" y="5"/>
                      <a:pt x="2777" y="4"/>
                      <a:pt x="2777" y="3"/>
                    </a:cubicBezTo>
                    <a:cubicBezTo>
                      <a:pt x="2777" y="2"/>
                      <a:pt x="2778" y="1"/>
                      <a:pt x="2779" y="1"/>
                    </a:cubicBezTo>
                    <a:close/>
                    <a:moveTo>
                      <a:pt x="2787" y="1"/>
                    </a:moveTo>
                    <a:lnTo>
                      <a:pt x="2787" y="1"/>
                    </a:lnTo>
                    <a:cubicBezTo>
                      <a:pt x="2788" y="1"/>
                      <a:pt x="2789" y="2"/>
                      <a:pt x="2789" y="3"/>
                    </a:cubicBezTo>
                    <a:cubicBezTo>
                      <a:pt x="2789" y="4"/>
                      <a:pt x="2788" y="5"/>
                      <a:pt x="2787" y="5"/>
                    </a:cubicBezTo>
                    <a:lnTo>
                      <a:pt x="2787" y="5"/>
                    </a:lnTo>
                    <a:cubicBezTo>
                      <a:pt x="2786" y="5"/>
                      <a:pt x="2785" y="4"/>
                      <a:pt x="2785" y="3"/>
                    </a:cubicBezTo>
                    <a:cubicBezTo>
                      <a:pt x="2785" y="2"/>
                      <a:pt x="2786" y="1"/>
                      <a:pt x="2787" y="1"/>
                    </a:cubicBezTo>
                    <a:close/>
                    <a:moveTo>
                      <a:pt x="2795" y="1"/>
                    </a:moveTo>
                    <a:lnTo>
                      <a:pt x="2795" y="1"/>
                    </a:lnTo>
                    <a:cubicBezTo>
                      <a:pt x="2796" y="1"/>
                      <a:pt x="2797" y="2"/>
                      <a:pt x="2797" y="3"/>
                    </a:cubicBezTo>
                    <a:cubicBezTo>
                      <a:pt x="2797" y="4"/>
                      <a:pt x="2796" y="5"/>
                      <a:pt x="2795" y="5"/>
                    </a:cubicBezTo>
                    <a:lnTo>
                      <a:pt x="2795" y="5"/>
                    </a:lnTo>
                    <a:cubicBezTo>
                      <a:pt x="2794" y="5"/>
                      <a:pt x="2793" y="4"/>
                      <a:pt x="2793" y="3"/>
                    </a:cubicBezTo>
                    <a:cubicBezTo>
                      <a:pt x="2793" y="2"/>
                      <a:pt x="2794" y="1"/>
                      <a:pt x="2795" y="1"/>
                    </a:cubicBezTo>
                    <a:close/>
                    <a:moveTo>
                      <a:pt x="2803" y="1"/>
                    </a:moveTo>
                    <a:lnTo>
                      <a:pt x="2803" y="1"/>
                    </a:lnTo>
                    <a:cubicBezTo>
                      <a:pt x="2804" y="1"/>
                      <a:pt x="2805" y="2"/>
                      <a:pt x="2805" y="3"/>
                    </a:cubicBezTo>
                    <a:cubicBezTo>
                      <a:pt x="2805" y="4"/>
                      <a:pt x="2804" y="5"/>
                      <a:pt x="2803" y="5"/>
                    </a:cubicBezTo>
                    <a:lnTo>
                      <a:pt x="2803" y="5"/>
                    </a:lnTo>
                    <a:cubicBezTo>
                      <a:pt x="2802" y="5"/>
                      <a:pt x="2801" y="4"/>
                      <a:pt x="2801" y="3"/>
                    </a:cubicBezTo>
                    <a:cubicBezTo>
                      <a:pt x="2801" y="2"/>
                      <a:pt x="2802" y="1"/>
                      <a:pt x="2803" y="1"/>
                    </a:cubicBezTo>
                    <a:close/>
                    <a:moveTo>
                      <a:pt x="2811" y="1"/>
                    </a:moveTo>
                    <a:lnTo>
                      <a:pt x="2811" y="1"/>
                    </a:lnTo>
                    <a:cubicBezTo>
                      <a:pt x="2812" y="1"/>
                      <a:pt x="2813" y="2"/>
                      <a:pt x="2813" y="3"/>
                    </a:cubicBezTo>
                    <a:cubicBezTo>
                      <a:pt x="2813" y="4"/>
                      <a:pt x="2812" y="5"/>
                      <a:pt x="2811" y="5"/>
                    </a:cubicBezTo>
                    <a:lnTo>
                      <a:pt x="2811" y="5"/>
                    </a:lnTo>
                    <a:cubicBezTo>
                      <a:pt x="2810" y="5"/>
                      <a:pt x="2809" y="4"/>
                      <a:pt x="2809" y="3"/>
                    </a:cubicBezTo>
                    <a:cubicBezTo>
                      <a:pt x="2809" y="2"/>
                      <a:pt x="2810" y="1"/>
                      <a:pt x="2811" y="1"/>
                    </a:cubicBezTo>
                    <a:close/>
                    <a:moveTo>
                      <a:pt x="2819" y="1"/>
                    </a:moveTo>
                    <a:lnTo>
                      <a:pt x="2819" y="1"/>
                    </a:lnTo>
                    <a:cubicBezTo>
                      <a:pt x="2820" y="1"/>
                      <a:pt x="2821" y="2"/>
                      <a:pt x="2821" y="3"/>
                    </a:cubicBezTo>
                    <a:cubicBezTo>
                      <a:pt x="2821" y="4"/>
                      <a:pt x="2820" y="5"/>
                      <a:pt x="2819" y="5"/>
                    </a:cubicBezTo>
                    <a:lnTo>
                      <a:pt x="2819" y="5"/>
                    </a:lnTo>
                    <a:cubicBezTo>
                      <a:pt x="2818" y="5"/>
                      <a:pt x="2817" y="4"/>
                      <a:pt x="2817" y="3"/>
                    </a:cubicBezTo>
                    <a:cubicBezTo>
                      <a:pt x="2817" y="2"/>
                      <a:pt x="2818" y="1"/>
                      <a:pt x="2819" y="1"/>
                    </a:cubicBezTo>
                    <a:close/>
                    <a:moveTo>
                      <a:pt x="2827" y="1"/>
                    </a:moveTo>
                    <a:lnTo>
                      <a:pt x="2827" y="1"/>
                    </a:lnTo>
                    <a:cubicBezTo>
                      <a:pt x="2828" y="1"/>
                      <a:pt x="2829" y="2"/>
                      <a:pt x="2829" y="3"/>
                    </a:cubicBezTo>
                    <a:cubicBezTo>
                      <a:pt x="2829" y="4"/>
                      <a:pt x="2828" y="5"/>
                      <a:pt x="2827" y="5"/>
                    </a:cubicBezTo>
                    <a:lnTo>
                      <a:pt x="2827" y="5"/>
                    </a:lnTo>
                    <a:cubicBezTo>
                      <a:pt x="2826" y="5"/>
                      <a:pt x="2825" y="4"/>
                      <a:pt x="2825" y="3"/>
                    </a:cubicBezTo>
                    <a:cubicBezTo>
                      <a:pt x="2825" y="2"/>
                      <a:pt x="2826" y="1"/>
                      <a:pt x="2827" y="1"/>
                    </a:cubicBezTo>
                    <a:close/>
                    <a:moveTo>
                      <a:pt x="2835" y="1"/>
                    </a:moveTo>
                    <a:lnTo>
                      <a:pt x="2835" y="1"/>
                    </a:lnTo>
                    <a:cubicBezTo>
                      <a:pt x="2836" y="1"/>
                      <a:pt x="2837" y="2"/>
                      <a:pt x="2837" y="3"/>
                    </a:cubicBezTo>
                    <a:cubicBezTo>
                      <a:pt x="2837" y="4"/>
                      <a:pt x="2836" y="5"/>
                      <a:pt x="2835" y="5"/>
                    </a:cubicBezTo>
                    <a:lnTo>
                      <a:pt x="2835" y="5"/>
                    </a:lnTo>
                    <a:cubicBezTo>
                      <a:pt x="2834" y="5"/>
                      <a:pt x="2833" y="4"/>
                      <a:pt x="2833" y="3"/>
                    </a:cubicBezTo>
                    <a:cubicBezTo>
                      <a:pt x="2833" y="2"/>
                      <a:pt x="2834" y="1"/>
                      <a:pt x="2835" y="1"/>
                    </a:cubicBezTo>
                    <a:close/>
                    <a:moveTo>
                      <a:pt x="2843" y="1"/>
                    </a:moveTo>
                    <a:lnTo>
                      <a:pt x="2843" y="1"/>
                    </a:lnTo>
                    <a:cubicBezTo>
                      <a:pt x="2844" y="1"/>
                      <a:pt x="2845" y="2"/>
                      <a:pt x="2845" y="3"/>
                    </a:cubicBezTo>
                    <a:cubicBezTo>
                      <a:pt x="2845" y="4"/>
                      <a:pt x="2844" y="5"/>
                      <a:pt x="2843" y="5"/>
                    </a:cubicBezTo>
                    <a:lnTo>
                      <a:pt x="2843" y="5"/>
                    </a:lnTo>
                    <a:cubicBezTo>
                      <a:pt x="2842" y="5"/>
                      <a:pt x="2841" y="4"/>
                      <a:pt x="2841" y="3"/>
                    </a:cubicBezTo>
                    <a:cubicBezTo>
                      <a:pt x="2841" y="2"/>
                      <a:pt x="2842" y="1"/>
                      <a:pt x="2843" y="1"/>
                    </a:cubicBezTo>
                    <a:close/>
                    <a:moveTo>
                      <a:pt x="2851" y="1"/>
                    </a:moveTo>
                    <a:lnTo>
                      <a:pt x="2851" y="1"/>
                    </a:lnTo>
                    <a:cubicBezTo>
                      <a:pt x="2852" y="1"/>
                      <a:pt x="2853" y="2"/>
                      <a:pt x="2853" y="3"/>
                    </a:cubicBezTo>
                    <a:cubicBezTo>
                      <a:pt x="2853" y="4"/>
                      <a:pt x="2852" y="5"/>
                      <a:pt x="2851" y="5"/>
                    </a:cubicBezTo>
                    <a:lnTo>
                      <a:pt x="2851" y="5"/>
                    </a:lnTo>
                    <a:cubicBezTo>
                      <a:pt x="2850" y="5"/>
                      <a:pt x="2849" y="4"/>
                      <a:pt x="2849" y="3"/>
                    </a:cubicBezTo>
                    <a:cubicBezTo>
                      <a:pt x="2849" y="2"/>
                      <a:pt x="2850" y="1"/>
                      <a:pt x="2851" y="1"/>
                    </a:cubicBezTo>
                    <a:close/>
                    <a:moveTo>
                      <a:pt x="2859" y="1"/>
                    </a:moveTo>
                    <a:lnTo>
                      <a:pt x="2859" y="1"/>
                    </a:lnTo>
                    <a:cubicBezTo>
                      <a:pt x="2860" y="1"/>
                      <a:pt x="2861" y="2"/>
                      <a:pt x="2861" y="3"/>
                    </a:cubicBezTo>
                    <a:cubicBezTo>
                      <a:pt x="2861" y="4"/>
                      <a:pt x="2860" y="5"/>
                      <a:pt x="2859" y="5"/>
                    </a:cubicBezTo>
                    <a:lnTo>
                      <a:pt x="2859" y="5"/>
                    </a:lnTo>
                    <a:cubicBezTo>
                      <a:pt x="2858" y="5"/>
                      <a:pt x="2857" y="4"/>
                      <a:pt x="2857" y="3"/>
                    </a:cubicBezTo>
                    <a:cubicBezTo>
                      <a:pt x="2857" y="2"/>
                      <a:pt x="2858" y="1"/>
                      <a:pt x="2859" y="1"/>
                    </a:cubicBezTo>
                    <a:close/>
                    <a:moveTo>
                      <a:pt x="2867" y="1"/>
                    </a:moveTo>
                    <a:lnTo>
                      <a:pt x="2867" y="1"/>
                    </a:lnTo>
                    <a:cubicBezTo>
                      <a:pt x="2868" y="1"/>
                      <a:pt x="2869" y="2"/>
                      <a:pt x="2869" y="3"/>
                    </a:cubicBezTo>
                    <a:cubicBezTo>
                      <a:pt x="2869" y="4"/>
                      <a:pt x="2868" y="5"/>
                      <a:pt x="2867" y="5"/>
                    </a:cubicBezTo>
                    <a:lnTo>
                      <a:pt x="2867" y="5"/>
                    </a:lnTo>
                    <a:cubicBezTo>
                      <a:pt x="2866" y="5"/>
                      <a:pt x="2865" y="4"/>
                      <a:pt x="2865" y="3"/>
                    </a:cubicBezTo>
                    <a:cubicBezTo>
                      <a:pt x="2865" y="2"/>
                      <a:pt x="2866" y="1"/>
                      <a:pt x="2867" y="1"/>
                    </a:cubicBezTo>
                    <a:close/>
                    <a:moveTo>
                      <a:pt x="2875" y="1"/>
                    </a:moveTo>
                    <a:lnTo>
                      <a:pt x="2875" y="1"/>
                    </a:lnTo>
                    <a:cubicBezTo>
                      <a:pt x="2876" y="1"/>
                      <a:pt x="2877" y="2"/>
                      <a:pt x="2877" y="3"/>
                    </a:cubicBezTo>
                    <a:cubicBezTo>
                      <a:pt x="2877" y="4"/>
                      <a:pt x="2876" y="5"/>
                      <a:pt x="2875" y="5"/>
                    </a:cubicBezTo>
                    <a:lnTo>
                      <a:pt x="2875" y="5"/>
                    </a:lnTo>
                    <a:cubicBezTo>
                      <a:pt x="2874" y="5"/>
                      <a:pt x="2873" y="4"/>
                      <a:pt x="2873" y="3"/>
                    </a:cubicBezTo>
                    <a:cubicBezTo>
                      <a:pt x="2873" y="2"/>
                      <a:pt x="2874" y="1"/>
                      <a:pt x="2875" y="1"/>
                    </a:cubicBezTo>
                    <a:close/>
                    <a:moveTo>
                      <a:pt x="2883" y="1"/>
                    </a:moveTo>
                    <a:lnTo>
                      <a:pt x="2883" y="1"/>
                    </a:lnTo>
                    <a:cubicBezTo>
                      <a:pt x="2884" y="1"/>
                      <a:pt x="2885" y="2"/>
                      <a:pt x="2885" y="3"/>
                    </a:cubicBezTo>
                    <a:cubicBezTo>
                      <a:pt x="2885" y="4"/>
                      <a:pt x="2884" y="5"/>
                      <a:pt x="2883" y="5"/>
                    </a:cubicBezTo>
                    <a:lnTo>
                      <a:pt x="2883" y="5"/>
                    </a:lnTo>
                    <a:cubicBezTo>
                      <a:pt x="2882" y="5"/>
                      <a:pt x="2881" y="4"/>
                      <a:pt x="2881" y="3"/>
                    </a:cubicBezTo>
                    <a:cubicBezTo>
                      <a:pt x="2881" y="2"/>
                      <a:pt x="2882" y="1"/>
                      <a:pt x="2883" y="1"/>
                    </a:cubicBezTo>
                    <a:close/>
                    <a:moveTo>
                      <a:pt x="2891" y="1"/>
                    </a:moveTo>
                    <a:lnTo>
                      <a:pt x="2891" y="1"/>
                    </a:lnTo>
                    <a:cubicBezTo>
                      <a:pt x="2892" y="1"/>
                      <a:pt x="2893" y="2"/>
                      <a:pt x="2893" y="3"/>
                    </a:cubicBezTo>
                    <a:cubicBezTo>
                      <a:pt x="2893" y="4"/>
                      <a:pt x="2892" y="5"/>
                      <a:pt x="2891" y="5"/>
                    </a:cubicBezTo>
                    <a:lnTo>
                      <a:pt x="2891" y="5"/>
                    </a:lnTo>
                    <a:cubicBezTo>
                      <a:pt x="2890" y="5"/>
                      <a:pt x="2889" y="4"/>
                      <a:pt x="2889" y="3"/>
                    </a:cubicBezTo>
                    <a:cubicBezTo>
                      <a:pt x="2889" y="2"/>
                      <a:pt x="2890" y="1"/>
                      <a:pt x="2891" y="1"/>
                    </a:cubicBezTo>
                    <a:close/>
                    <a:moveTo>
                      <a:pt x="2899" y="1"/>
                    </a:moveTo>
                    <a:lnTo>
                      <a:pt x="2899" y="1"/>
                    </a:lnTo>
                    <a:cubicBezTo>
                      <a:pt x="2900" y="1"/>
                      <a:pt x="2901" y="2"/>
                      <a:pt x="2901" y="3"/>
                    </a:cubicBezTo>
                    <a:cubicBezTo>
                      <a:pt x="2901" y="4"/>
                      <a:pt x="2900" y="5"/>
                      <a:pt x="2899" y="5"/>
                    </a:cubicBezTo>
                    <a:lnTo>
                      <a:pt x="2899" y="5"/>
                    </a:lnTo>
                    <a:cubicBezTo>
                      <a:pt x="2898" y="5"/>
                      <a:pt x="2897" y="4"/>
                      <a:pt x="2897" y="3"/>
                    </a:cubicBezTo>
                    <a:cubicBezTo>
                      <a:pt x="2897" y="2"/>
                      <a:pt x="2898" y="1"/>
                      <a:pt x="2899" y="1"/>
                    </a:cubicBezTo>
                    <a:close/>
                    <a:moveTo>
                      <a:pt x="2907" y="1"/>
                    </a:moveTo>
                    <a:lnTo>
                      <a:pt x="2907" y="1"/>
                    </a:lnTo>
                    <a:cubicBezTo>
                      <a:pt x="2908" y="1"/>
                      <a:pt x="2909" y="2"/>
                      <a:pt x="2909" y="3"/>
                    </a:cubicBezTo>
                    <a:cubicBezTo>
                      <a:pt x="2909" y="4"/>
                      <a:pt x="2908" y="5"/>
                      <a:pt x="2907" y="5"/>
                    </a:cubicBezTo>
                    <a:lnTo>
                      <a:pt x="2907" y="5"/>
                    </a:lnTo>
                    <a:cubicBezTo>
                      <a:pt x="2906" y="5"/>
                      <a:pt x="2905" y="4"/>
                      <a:pt x="2905" y="3"/>
                    </a:cubicBezTo>
                    <a:cubicBezTo>
                      <a:pt x="2905" y="2"/>
                      <a:pt x="2906" y="1"/>
                      <a:pt x="2907" y="1"/>
                    </a:cubicBezTo>
                    <a:close/>
                    <a:moveTo>
                      <a:pt x="2915" y="1"/>
                    </a:moveTo>
                    <a:lnTo>
                      <a:pt x="2915" y="1"/>
                    </a:lnTo>
                    <a:cubicBezTo>
                      <a:pt x="2916" y="1"/>
                      <a:pt x="2917" y="2"/>
                      <a:pt x="2917" y="3"/>
                    </a:cubicBezTo>
                    <a:cubicBezTo>
                      <a:pt x="2917" y="4"/>
                      <a:pt x="2916" y="5"/>
                      <a:pt x="2915" y="5"/>
                    </a:cubicBezTo>
                    <a:lnTo>
                      <a:pt x="2915" y="5"/>
                    </a:lnTo>
                    <a:cubicBezTo>
                      <a:pt x="2914" y="5"/>
                      <a:pt x="2913" y="4"/>
                      <a:pt x="2913" y="3"/>
                    </a:cubicBezTo>
                    <a:cubicBezTo>
                      <a:pt x="2913" y="2"/>
                      <a:pt x="2914" y="1"/>
                      <a:pt x="2915" y="1"/>
                    </a:cubicBezTo>
                    <a:close/>
                    <a:moveTo>
                      <a:pt x="2923" y="1"/>
                    </a:moveTo>
                    <a:lnTo>
                      <a:pt x="2923" y="1"/>
                    </a:lnTo>
                    <a:cubicBezTo>
                      <a:pt x="2924" y="1"/>
                      <a:pt x="2925" y="2"/>
                      <a:pt x="2925" y="3"/>
                    </a:cubicBezTo>
                    <a:cubicBezTo>
                      <a:pt x="2925" y="4"/>
                      <a:pt x="2924" y="5"/>
                      <a:pt x="2923" y="5"/>
                    </a:cubicBezTo>
                    <a:lnTo>
                      <a:pt x="2923" y="5"/>
                    </a:lnTo>
                    <a:cubicBezTo>
                      <a:pt x="2922" y="5"/>
                      <a:pt x="2921" y="4"/>
                      <a:pt x="2921" y="3"/>
                    </a:cubicBezTo>
                    <a:cubicBezTo>
                      <a:pt x="2921" y="2"/>
                      <a:pt x="2922" y="1"/>
                      <a:pt x="2923" y="1"/>
                    </a:cubicBezTo>
                    <a:close/>
                    <a:moveTo>
                      <a:pt x="2931" y="1"/>
                    </a:moveTo>
                    <a:lnTo>
                      <a:pt x="2931" y="1"/>
                    </a:lnTo>
                    <a:cubicBezTo>
                      <a:pt x="2932" y="1"/>
                      <a:pt x="2933" y="2"/>
                      <a:pt x="2933" y="3"/>
                    </a:cubicBezTo>
                    <a:cubicBezTo>
                      <a:pt x="2933" y="4"/>
                      <a:pt x="2932" y="5"/>
                      <a:pt x="2931" y="5"/>
                    </a:cubicBezTo>
                    <a:lnTo>
                      <a:pt x="2931" y="5"/>
                    </a:lnTo>
                    <a:cubicBezTo>
                      <a:pt x="2930" y="5"/>
                      <a:pt x="2929" y="4"/>
                      <a:pt x="2929" y="3"/>
                    </a:cubicBezTo>
                    <a:cubicBezTo>
                      <a:pt x="2929" y="2"/>
                      <a:pt x="2930" y="1"/>
                      <a:pt x="2931" y="1"/>
                    </a:cubicBezTo>
                    <a:close/>
                    <a:moveTo>
                      <a:pt x="2939" y="1"/>
                    </a:moveTo>
                    <a:lnTo>
                      <a:pt x="2939" y="1"/>
                    </a:lnTo>
                    <a:cubicBezTo>
                      <a:pt x="2940" y="1"/>
                      <a:pt x="2941" y="2"/>
                      <a:pt x="2941" y="3"/>
                    </a:cubicBezTo>
                    <a:cubicBezTo>
                      <a:pt x="2941" y="4"/>
                      <a:pt x="2940" y="5"/>
                      <a:pt x="2939" y="5"/>
                    </a:cubicBezTo>
                    <a:lnTo>
                      <a:pt x="2939" y="5"/>
                    </a:lnTo>
                    <a:cubicBezTo>
                      <a:pt x="2938" y="5"/>
                      <a:pt x="2937" y="4"/>
                      <a:pt x="2937" y="3"/>
                    </a:cubicBezTo>
                    <a:cubicBezTo>
                      <a:pt x="2937" y="2"/>
                      <a:pt x="2938" y="1"/>
                      <a:pt x="2939" y="1"/>
                    </a:cubicBezTo>
                    <a:close/>
                    <a:moveTo>
                      <a:pt x="2947" y="1"/>
                    </a:moveTo>
                    <a:lnTo>
                      <a:pt x="2947" y="1"/>
                    </a:lnTo>
                    <a:cubicBezTo>
                      <a:pt x="2948" y="1"/>
                      <a:pt x="2949" y="2"/>
                      <a:pt x="2949" y="3"/>
                    </a:cubicBezTo>
                    <a:cubicBezTo>
                      <a:pt x="2949" y="4"/>
                      <a:pt x="2948" y="5"/>
                      <a:pt x="2947" y="5"/>
                    </a:cubicBezTo>
                    <a:lnTo>
                      <a:pt x="2947" y="5"/>
                    </a:lnTo>
                    <a:cubicBezTo>
                      <a:pt x="2946" y="5"/>
                      <a:pt x="2945" y="4"/>
                      <a:pt x="2945" y="3"/>
                    </a:cubicBezTo>
                    <a:cubicBezTo>
                      <a:pt x="2945" y="2"/>
                      <a:pt x="2946" y="1"/>
                      <a:pt x="2947" y="1"/>
                    </a:cubicBezTo>
                    <a:close/>
                    <a:moveTo>
                      <a:pt x="2955" y="1"/>
                    </a:moveTo>
                    <a:lnTo>
                      <a:pt x="2955" y="1"/>
                    </a:lnTo>
                    <a:cubicBezTo>
                      <a:pt x="2956" y="1"/>
                      <a:pt x="2957" y="2"/>
                      <a:pt x="2957" y="3"/>
                    </a:cubicBezTo>
                    <a:cubicBezTo>
                      <a:pt x="2957" y="4"/>
                      <a:pt x="2956" y="5"/>
                      <a:pt x="2955" y="5"/>
                    </a:cubicBezTo>
                    <a:lnTo>
                      <a:pt x="2955" y="5"/>
                    </a:lnTo>
                    <a:cubicBezTo>
                      <a:pt x="2954" y="5"/>
                      <a:pt x="2953" y="4"/>
                      <a:pt x="2953" y="3"/>
                    </a:cubicBezTo>
                    <a:cubicBezTo>
                      <a:pt x="2953" y="2"/>
                      <a:pt x="2954" y="1"/>
                      <a:pt x="2955" y="1"/>
                    </a:cubicBezTo>
                    <a:close/>
                    <a:moveTo>
                      <a:pt x="2963" y="1"/>
                    </a:moveTo>
                    <a:lnTo>
                      <a:pt x="2963" y="1"/>
                    </a:lnTo>
                    <a:cubicBezTo>
                      <a:pt x="2964" y="1"/>
                      <a:pt x="2965" y="2"/>
                      <a:pt x="2965" y="3"/>
                    </a:cubicBezTo>
                    <a:cubicBezTo>
                      <a:pt x="2965" y="4"/>
                      <a:pt x="2964" y="5"/>
                      <a:pt x="2963" y="5"/>
                    </a:cubicBezTo>
                    <a:lnTo>
                      <a:pt x="2963" y="5"/>
                    </a:lnTo>
                    <a:cubicBezTo>
                      <a:pt x="2962" y="5"/>
                      <a:pt x="2961" y="4"/>
                      <a:pt x="2961" y="3"/>
                    </a:cubicBezTo>
                    <a:cubicBezTo>
                      <a:pt x="2961" y="2"/>
                      <a:pt x="2962" y="1"/>
                      <a:pt x="2963" y="1"/>
                    </a:cubicBezTo>
                    <a:close/>
                    <a:moveTo>
                      <a:pt x="2971" y="1"/>
                    </a:moveTo>
                    <a:lnTo>
                      <a:pt x="2971" y="1"/>
                    </a:lnTo>
                    <a:cubicBezTo>
                      <a:pt x="2972" y="1"/>
                      <a:pt x="2973" y="2"/>
                      <a:pt x="2973" y="3"/>
                    </a:cubicBezTo>
                    <a:cubicBezTo>
                      <a:pt x="2973" y="4"/>
                      <a:pt x="2972" y="5"/>
                      <a:pt x="2971" y="5"/>
                    </a:cubicBezTo>
                    <a:lnTo>
                      <a:pt x="2971" y="5"/>
                    </a:lnTo>
                    <a:cubicBezTo>
                      <a:pt x="2970" y="5"/>
                      <a:pt x="2969" y="4"/>
                      <a:pt x="2969" y="3"/>
                    </a:cubicBezTo>
                    <a:cubicBezTo>
                      <a:pt x="2969" y="2"/>
                      <a:pt x="2970" y="1"/>
                      <a:pt x="2971" y="1"/>
                    </a:cubicBezTo>
                    <a:close/>
                    <a:moveTo>
                      <a:pt x="2979" y="1"/>
                    </a:moveTo>
                    <a:lnTo>
                      <a:pt x="2979" y="1"/>
                    </a:lnTo>
                    <a:cubicBezTo>
                      <a:pt x="2980" y="1"/>
                      <a:pt x="2981" y="2"/>
                      <a:pt x="2981" y="3"/>
                    </a:cubicBezTo>
                    <a:cubicBezTo>
                      <a:pt x="2981" y="4"/>
                      <a:pt x="2980" y="5"/>
                      <a:pt x="2979" y="5"/>
                    </a:cubicBezTo>
                    <a:lnTo>
                      <a:pt x="2979" y="5"/>
                    </a:lnTo>
                    <a:cubicBezTo>
                      <a:pt x="2978" y="5"/>
                      <a:pt x="2977" y="4"/>
                      <a:pt x="2977" y="3"/>
                    </a:cubicBezTo>
                    <a:cubicBezTo>
                      <a:pt x="2977" y="2"/>
                      <a:pt x="2978" y="1"/>
                      <a:pt x="2979" y="1"/>
                    </a:cubicBezTo>
                    <a:close/>
                    <a:moveTo>
                      <a:pt x="2987" y="1"/>
                    </a:moveTo>
                    <a:lnTo>
                      <a:pt x="2987" y="1"/>
                    </a:lnTo>
                    <a:cubicBezTo>
                      <a:pt x="2988" y="1"/>
                      <a:pt x="2989" y="2"/>
                      <a:pt x="2989" y="3"/>
                    </a:cubicBezTo>
                    <a:cubicBezTo>
                      <a:pt x="2989" y="4"/>
                      <a:pt x="2988" y="5"/>
                      <a:pt x="2987" y="5"/>
                    </a:cubicBezTo>
                    <a:lnTo>
                      <a:pt x="2987" y="5"/>
                    </a:lnTo>
                    <a:cubicBezTo>
                      <a:pt x="2986" y="5"/>
                      <a:pt x="2985" y="4"/>
                      <a:pt x="2985" y="3"/>
                    </a:cubicBezTo>
                    <a:cubicBezTo>
                      <a:pt x="2985" y="2"/>
                      <a:pt x="2986" y="1"/>
                      <a:pt x="2987" y="1"/>
                    </a:cubicBezTo>
                    <a:close/>
                    <a:moveTo>
                      <a:pt x="2995" y="1"/>
                    </a:moveTo>
                    <a:lnTo>
                      <a:pt x="2995" y="1"/>
                    </a:lnTo>
                    <a:cubicBezTo>
                      <a:pt x="2996" y="1"/>
                      <a:pt x="2997" y="2"/>
                      <a:pt x="2997" y="3"/>
                    </a:cubicBezTo>
                    <a:cubicBezTo>
                      <a:pt x="2997" y="4"/>
                      <a:pt x="2996" y="5"/>
                      <a:pt x="2995" y="5"/>
                    </a:cubicBezTo>
                    <a:lnTo>
                      <a:pt x="2995" y="5"/>
                    </a:lnTo>
                    <a:cubicBezTo>
                      <a:pt x="2994" y="5"/>
                      <a:pt x="2993" y="4"/>
                      <a:pt x="2993" y="3"/>
                    </a:cubicBezTo>
                    <a:cubicBezTo>
                      <a:pt x="2993" y="2"/>
                      <a:pt x="2994" y="1"/>
                      <a:pt x="2995" y="1"/>
                    </a:cubicBezTo>
                    <a:close/>
                    <a:moveTo>
                      <a:pt x="3003" y="1"/>
                    </a:moveTo>
                    <a:lnTo>
                      <a:pt x="3003" y="1"/>
                    </a:lnTo>
                    <a:cubicBezTo>
                      <a:pt x="3004" y="1"/>
                      <a:pt x="3005" y="2"/>
                      <a:pt x="3005" y="3"/>
                    </a:cubicBezTo>
                    <a:cubicBezTo>
                      <a:pt x="3005" y="4"/>
                      <a:pt x="3004" y="5"/>
                      <a:pt x="3003" y="5"/>
                    </a:cubicBezTo>
                    <a:lnTo>
                      <a:pt x="3003" y="5"/>
                    </a:lnTo>
                    <a:cubicBezTo>
                      <a:pt x="3002" y="5"/>
                      <a:pt x="3001" y="4"/>
                      <a:pt x="3001" y="3"/>
                    </a:cubicBezTo>
                    <a:cubicBezTo>
                      <a:pt x="3001" y="2"/>
                      <a:pt x="3002" y="1"/>
                      <a:pt x="3003" y="1"/>
                    </a:cubicBezTo>
                    <a:close/>
                    <a:moveTo>
                      <a:pt x="3011" y="1"/>
                    </a:moveTo>
                    <a:lnTo>
                      <a:pt x="3011" y="1"/>
                    </a:lnTo>
                    <a:cubicBezTo>
                      <a:pt x="3012" y="1"/>
                      <a:pt x="3013" y="2"/>
                      <a:pt x="3013" y="3"/>
                    </a:cubicBezTo>
                    <a:cubicBezTo>
                      <a:pt x="3013" y="4"/>
                      <a:pt x="3012" y="5"/>
                      <a:pt x="3011" y="5"/>
                    </a:cubicBezTo>
                    <a:lnTo>
                      <a:pt x="3011" y="5"/>
                    </a:lnTo>
                    <a:cubicBezTo>
                      <a:pt x="3010" y="5"/>
                      <a:pt x="3009" y="4"/>
                      <a:pt x="3009" y="3"/>
                    </a:cubicBezTo>
                    <a:cubicBezTo>
                      <a:pt x="3009" y="2"/>
                      <a:pt x="3010" y="1"/>
                      <a:pt x="3011" y="1"/>
                    </a:cubicBezTo>
                    <a:close/>
                    <a:moveTo>
                      <a:pt x="3019" y="1"/>
                    </a:moveTo>
                    <a:lnTo>
                      <a:pt x="3019" y="1"/>
                    </a:lnTo>
                    <a:cubicBezTo>
                      <a:pt x="3020" y="1"/>
                      <a:pt x="3021" y="2"/>
                      <a:pt x="3021" y="3"/>
                    </a:cubicBezTo>
                    <a:cubicBezTo>
                      <a:pt x="3021" y="4"/>
                      <a:pt x="3020" y="5"/>
                      <a:pt x="3019" y="5"/>
                    </a:cubicBezTo>
                    <a:lnTo>
                      <a:pt x="3019" y="5"/>
                    </a:lnTo>
                    <a:cubicBezTo>
                      <a:pt x="3018" y="5"/>
                      <a:pt x="3017" y="4"/>
                      <a:pt x="3017" y="3"/>
                    </a:cubicBezTo>
                    <a:cubicBezTo>
                      <a:pt x="3017" y="2"/>
                      <a:pt x="3018" y="1"/>
                      <a:pt x="3019" y="1"/>
                    </a:cubicBezTo>
                    <a:close/>
                    <a:moveTo>
                      <a:pt x="3027" y="1"/>
                    </a:moveTo>
                    <a:lnTo>
                      <a:pt x="3027" y="1"/>
                    </a:lnTo>
                    <a:cubicBezTo>
                      <a:pt x="3028" y="1"/>
                      <a:pt x="3029" y="2"/>
                      <a:pt x="3029" y="3"/>
                    </a:cubicBezTo>
                    <a:cubicBezTo>
                      <a:pt x="3029" y="4"/>
                      <a:pt x="3028" y="5"/>
                      <a:pt x="3027" y="5"/>
                    </a:cubicBezTo>
                    <a:lnTo>
                      <a:pt x="3027" y="5"/>
                    </a:lnTo>
                    <a:cubicBezTo>
                      <a:pt x="3026" y="5"/>
                      <a:pt x="3025" y="4"/>
                      <a:pt x="3025" y="3"/>
                    </a:cubicBezTo>
                    <a:cubicBezTo>
                      <a:pt x="3025" y="2"/>
                      <a:pt x="3026" y="1"/>
                      <a:pt x="3027" y="1"/>
                    </a:cubicBezTo>
                    <a:close/>
                    <a:moveTo>
                      <a:pt x="3035" y="1"/>
                    </a:moveTo>
                    <a:lnTo>
                      <a:pt x="3035" y="1"/>
                    </a:lnTo>
                    <a:cubicBezTo>
                      <a:pt x="3036" y="1"/>
                      <a:pt x="3037" y="2"/>
                      <a:pt x="3037" y="3"/>
                    </a:cubicBezTo>
                    <a:cubicBezTo>
                      <a:pt x="3037" y="4"/>
                      <a:pt x="3036" y="5"/>
                      <a:pt x="3035" y="5"/>
                    </a:cubicBezTo>
                    <a:lnTo>
                      <a:pt x="3035" y="5"/>
                    </a:lnTo>
                    <a:cubicBezTo>
                      <a:pt x="3034" y="5"/>
                      <a:pt x="3033" y="4"/>
                      <a:pt x="3033" y="3"/>
                    </a:cubicBezTo>
                    <a:cubicBezTo>
                      <a:pt x="3033" y="2"/>
                      <a:pt x="3034" y="1"/>
                      <a:pt x="3035" y="1"/>
                    </a:cubicBezTo>
                    <a:close/>
                    <a:moveTo>
                      <a:pt x="3043" y="1"/>
                    </a:moveTo>
                    <a:lnTo>
                      <a:pt x="3043" y="1"/>
                    </a:lnTo>
                    <a:cubicBezTo>
                      <a:pt x="3044" y="1"/>
                      <a:pt x="3045" y="2"/>
                      <a:pt x="3045" y="3"/>
                    </a:cubicBezTo>
                    <a:cubicBezTo>
                      <a:pt x="3045" y="4"/>
                      <a:pt x="3044" y="5"/>
                      <a:pt x="3043" y="5"/>
                    </a:cubicBezTo>
                    <a:lnTo>
                      <a:pt x="3043" y="5"/>
                    </a:lnTo>
                    <a:cubicBezTo>
                      <a:pt x="3042" y="5"/>
                      <a:pt x="3041" y="4"/>
                      <a:pt x="3041" y="3"/>
                    </a:cubicBezTo>
                    <a:cubicBezTo>
                      <a:pt x="3041" y="2"/>
                      <a:pt x="3042" y="1"/>
                      <a:pt x="3043" y="1"/>
                    </a:cubicBezTo>
                    <a:close/>
                    <a:moveTo>
                      <a:pt x="3051" y="1"/>
                    </a:moveTo>
                    <a:lnTo>
                      <a:pt x="3051" y="1"/>
                    </a:lnTo>
                    <a:cubicBezTo>
                      <a:pt x="3052" y="1"/>
                      <a:pt x="3053" y="2"/>
                      <a:pt x="3053" y="3"/>
                    </a:cubicBezTo>
                    <a:cubicBezTo>
                      <a:pt x="3053" y="4"/>
                      <a:pt x="3052" y="5"/>
                      <a:pt x="3051" y="5"/>
                    </a:cubicBezTo>
                    <a:lnTo>
                      <a:pt x="3051" y="5"/>
                    </a:lnTo>
                    <a:cubicBezTo>
                      <a:pt x="3050" y="5"/>
                      <a:pt x="3049" y="4"/>
                      <a:pt x="3049" y="3"/>
                    </a:cubicBezTo>
                    <a:cubicBezTo>
                      <a:pt x="3049" y="2"/>
                      <a:pt x="3050" y="1"/>
                      <a:pt x="3051" y="1"/>
                    </a:cubicBezTo>
                    <a:close/>
                    <a:moveTo>
                      <a:pt x="3059" y="1"/>
                    </a:moveTo>
                    <a:lnTo>
                      <a:pt x="3059" y="1"/>
                    </a:lnTo>
                    <a:cubicBezTo>
                      <a:pt x="3060" y="1"/>
                      <a:pt x="3061" y="2"/>
                      <a:pt x="3061" y="3"/>
                    </a:cubicBezTo>
                    <a:cubicBezTo>
                      <a:pt x="3061" y="4"/>
                      <a:pt x="3060" y="5"/>
                      <a:pt x="3059" y="5"/>
                    </a:cubicBezTo>
                    <a:lnTo>
                      <a:pt x="3059" y="5"/>
                    </a:lnTo>
                    <a:cubicBezTo>
                      <a:pt x="3058" y="5"/>
                      <a:pt x="3057" y="4"/>
                      <a:pt x="3057" y="3"/>
                    </a:cubicBezTo>
                    <a:cubicBezTo>
                      <a:pt x="3057" y="2"/>
                      <a:pt x="3058" y="1"/>
                      <a:pt x="3059" y="1"/>
                    </a:cubicBezTo>
                    <a:close/>
                    <a:moveTo>
                      <a:pt x="3067" y="1"/>
                    </a:moveTo>
                    <a:lnTo>
                      <a:pt x="3067" y="1"/>
                    </a:lnTo>
                    <a:cubicBezTo>
                      <a:pt x="3068" y="1"/>
                      <a:pt x="3069" y="2"/>
                      <a:pt x="3069" y="3"/>
                    </a:cubicBezTo>
                    <a:cubicBezTo>
                      <a:pt x="3069" y="4"/>
                      <a:pt x="3068" y="5"/>
                      <a:pt x="3067" y="5"/>
                    </a:cubicBezTo>
                    <a:lnTo>
                      <a:pt x="3067" y="5"/>
                    </a:lnTo>
                    <a:cubicBezTo>
                      <a:pt x="3066" y="5"/>
                      <a:pt x="3065" y="4"/>
                      <a:pt x="3065" y="3"/>
                    </a:cubicBezTo>
                    <a:cubicBezTo>
                      <a:pt x="3065" y="2"/>
                      <a:pt x="3066" y="1"/>
                      <a:pt x="3067" y="1"/>
                    </a:cubicBezTo>
                    <a:close/>
                    <a:moveTo>
                      <a:pt x="3075" y="1"/>
                    </a:moveTo>
                    <a:lnTo>
                      <a:pt x="3075" y="1"/>
                    </a:lnTo>
                    <a:cubicBezTo>
                      <a:pt x="3076" y="1"/>
                      <a:pt x="3077" y="2"/>
                      <a:pt x="3077" y="3"/>
                    </a:cubicBezTo>
                    <a:cubicBezTo>
                      <a:pt x="3077" y="4"/>
                      <a:pt x="3076" y="5"/>
                      <a:pt x="3075" y="5"/>
                    </a:cubicBezTo>
                    <a:lnTo>
                      <a:pt x="3075" y="5"/>
                    </a:lnTo>
                    <a:cubicBezTo>
                      <a:pt x="3074" y="5"/>
                      <a:pt x="3073" y="4"/>
                      <a:pt x="3073" y="3"/>
                    </a:cubicBezTo>
                    <a:cubicBezTo>
                      <a:pt x="3073" y="2"/>
                      <a:pt x="3074" y="1"/>
                      <a:pt x="3075" y="1"/>
                    </a:cubicBezTo>
                    <a:close/>
                    <a:moveTo>
                      <a:pt x="3083" y="1"/>
                    </a:moveTo>
                    <a:lnTo>
                      <a:pt x="3083" y="1"/>
                    </a:lnTo>
                    <a:cubicBezTo>
                      <a:pt x="3084" y="1"/>
                      <a:pt x="3085" y="2"/>
                      <a:pt x="3085" y="3"/>
                    </a:cubicBezTo>
                    <a:cubicBezTo>
                      <a:pt x="3085" y="4"/>
                      <a:pt x="3084" y="5"/>
                      <a:pt x="3083" y="5"/>
                    </a:cubicBezTo>
                    <a:lnTo>
                      <a:pt x="3083" y="5"/>
                    </a:lnTo>
                    <a:cubicBezTo>
                      <a:pt x="3082" y="5"/>
                      <a:pt x="3081" y="4"/>
                      <a:pt x="3081" y="3"/>
                    </a:cubicBezTo>
                    <a:cubicBezTo>
                      <a:pt x="3081" y="2"/>
                      <a:pt x="3082" y="1"/>
                      <a:pt x="3083" y="1"/>
                    </a:cubicBezTo>
                    <a:close/>
                    <a:moveTo>
                      <a:pt x="3091" y="1"/>
                    </a:moveTo>
                    <a:lnTo>
                      <a:pt x="3091" y="1"/>
                    </a:lnTo>
                    <a:cubicBezTo>
                      <a:pt x="3092" y="1"/>
                      <a:pt x="3093" y="2"/>
                      <a:pt x="3093" y="3"/>
                    </a:cubicBezTo>
                    <a:cubicBezTo>
                      <a:pt x="3093" y="4"/>
                      <a:pt x="3092" y="5"/>
                      <a:pt x="3091" y="5"/>
                    </a:cubicBezTo>
                    <a:lnTo>
                      <a:pt x="3091" y="5"/>
                    </a:lnTo>
                    <a:cubicBezTo>
                      <a:pt x="3090" y="5"/>
                      <a:pt x="3089" y="4"/>
                      <a:pt x="3089" y="3"/>
                    </a:cubicBezTo>
                    <a:cubicBezTo>
                      <a:pt x="3089" y="2"/>
                      <a:pt x="3090" y="1"/>
                      <a:pt x="3091" y="1"/>
                    </a:cubicBezTo>
                    <a:close/>
                    <a:moveTo>
                      <a:pt x="3099" y="1"/>
                    </a:moveTo>
                    <a:lnTo>
                      <a:pt x="3099" y="1"/>
                    </a:lnTo>
                    <a:cubicBezTo>
                      <a:pt x="3100" y="1"/>
                      <a:pt x="3101" y="2"/>
                      <a:pt x="3101" y="3"/>
                    </a:cubicBezTo>
                    <a:cubicBezTo>
                      <a:pt x="3101" y="4"/>
                      <a:pt x="3100" y="5"/>
                      <a:pt x="3099" y="5"/>
                    </a:cubicBezTo>
                    <a:lnTo>
                      <a:pt x="3099" y="5"/>
                    </a:lnTo>
                    <a:cubicBezTo>
                      <a:pt x="3098" y="5"/>
                      <a:pt x="3097" y="4"/>
                      <a:pt x="3097" y="3"/>
                    </a:cubicBezTo>
                    <a:cubicBezTo>
                      <a:pt x="3097" y="2"/>
                      <a:pt x="3098" y="1"/>
                      <a:pt x="3099" y="1"/>
                    </a:cubicBezTo>
                    <a:close/>
                    <a:moveTo>
                      <a:pt x="3107" y="1"/>
                    </a:moveTo>
                    <a:lnTo>
                      <a:pt x="3107" y="1"/>
                    </a:lnTo>
                    <a:cubicBezTo>
                      <a:pt x="3108" y="1"/>
                      <a:pt x="3109" y="2"/>
                      <a:pt x="3109" y="3"/>
                    </a:cubicBezTo>
                    <a:cubicBezTo>
                      <a:pt x="3109" y="4"/>
                      <a:pt x="3108" y="5"/>
                      <a:pt x="3107" y="5"/>
                    </a:cubicBezTo>
                    <a:lnTo>
                      <a:pt x="3107" y="5"/>
                    </a:lnTo>
                    <a:cubicBezTo>
                      <a:pt x="3106" y="5"/>
                      <a:pt x="3105" y="4"/>
                      <a:pt x="3105" y="3"/>
                    </a:cubicBezTo>
                    <a:cubicBezTo>
                      <a:pt x="3105" y="2"/>
                      <a:pt x="3106" y="1"/>
                      <a:pt x="3107" y="1"/>
                    </a:cubicBezTo>
                    <a:close/>
                    <a:moveTo>
                      <a:pt x="3115" y="1"/>
                    </a:moveTo>
                    <a:lnTo>
                      <a:pt x="3115" y="1"/>
                    </a:lnTo>
                    <a:cubicBezTo>
                      <a:pt x="3116" y="1"/>
                      <a:pt x="3117" y="2"/>
                      <a:pt x="3117" y="3"/>
                    </a:cubicBezTo>
                    <a:cubicBezTo>
                      <a:pt x="3117" y="4"/>
                      <a:pt x="3116" y="5"/>
                      <a:pt x="3115" y="5"/>
                    </a:cubicBezTo>
                    <a:lnTo>
                      <a:pt x="3115" y="5"/>
                    </a:lnTo>
                    <a:cubicBezTo>
                      <a:pt x="3114" y="5"/>
                      <a:pt x="3113" y="4"/>
                      <a:pt x="3113" y="3"/>
                    </a:cubicBezTo>
                    <a:cubicBezTo>
                      <a:pt x="3113" y="2"/>
                      <a:pt x="3114" y="1"/>
                      <a:pt x="3115" y="1"/>
                    </a:cubicBezTo>
                    <a:close/>
                    <a:moveTo>
                      <a:pt x="3123" y="1"/>
                    </a:moveTo>
                    <a:lnTo>
                      <a:pt x="3123" y="1"/>
                    </a:lnTo>
                    <a:cubicBezTo>
                      <a:pt x="3124" y="1"/>
                      <a:pt x="3125" y="2"/>
                      <a:pt x="3125" y="3"/>
                    </a:cubicBezTo>
                    <a:cubicBezTo>
                      <a:pt x="3125" y="4"/>
                      <a:pt x="3124" y="5"/>
                      <a:pt x="3123" y="5"/>
                    </a:cubicBezTo>
                    <a:lnTo>
                      <a:pt x="3123" y="5"/>
                    </a:lnTo>
                    <a:cubicBezTo>
                      <a:pt x="3122" y="5"/>
                      <a:pt x="3121" y="4"/>
                      <a:pt x="3121" y="3"/>
                    </a:cubicBezTo>
                    <a:cubicBezTo>
                      <a:pt x="3121" y="2"/>
                      <a:pt x="3122" y="1"/>
                      <a:pt x="3123" y="1"/>
                    </a:cubicBezTo>
                    <a:close/>
                    <a:moveTo>
                      <a:pt x="3131" y="1"/>
                    </a:moveTo>
                    <a:lnTo>
                      <a:pt x="3131" y="1"/>
                    </a:lnTo>
                    <a:cubicBezTo>
                      <a:pt x="3132" y="1"/>
                      <a:pt x="3133" y="2"/>
                      <a:pt x="3133" y="3"/>
                    </a:cubicBezTo>
                    <a:cubicBezTo>
                      <a:pt x="3133" y="4"/>
                      <a:pt x="3132" y="5"/>
                      <a:pt x="3131" y="5"/>
                    </a:cubicBezTo>
                    <a:lnTo>
                      <a:pt x="3131" y="5"/>
                    </a:lnTo>
                    <a:cubicBezTo>
                      <a:pt x="3130" y="5"/>
                      <a:pt x="3129" y="4"/>
                      <a:pt x="3129" y="3"/>
                    </a:cubicBezTo>
                    <a:cubicBezTo>
                      <a:pt x="3129" y="2"/>
                      <a:pt x="3130" y="1"/>
                      <a:pt x="3131" y="1"/>
                    </a:cubicBezTo>
                    <a:close/>
                    <a:moveTo>
                      <a:pt x="3139" y="1"/>
                    </a:moveTo>
                    <a:lnTo>
                      <a:pt x="3139" y="1"/>
                    </a:lnTo>
                    <a:cubicBezTo>
                      <a:pt x="3140" y="1"/>
                      <a:pt x="3141" y="2"/>
                      <a:pt x="3141" y="3"/>
                    </a:cubicBezTo>
                    <a:cubicBezTo>
                      <a:pt x="3141" y="4"/>
                      <a:pt x="3140" y="5"/>
                      <a:pt x="3139" y="5"/>
                    </a:cubicBezTo>
                    <a:lnTo>
                      <a:pt x="3139" y="5"/>
                    </a:lnTo>
                    <a:cubicBezTo>
                      <a:pt x="3138" y="5"/>
                      <a:pt x="3137" y="4"/>
                      <a:pt x="3137" y="3"/>
                    </a:cubicBezTo>
                    <a:cubicBezTo>
                      <a:pt x="3137" y="2"/>
                      <a:pt x="3138" y="1"/>
                      <a:pt x="3139" y="1"/>
                    </a:cubicBezTo>
                    <a:close/>
                    <a:moveTo>
                      <a:pt x="3147" y="1"/>
                    </a:moveTo>
                    <a:lnTo>
                      <a:pt x="3147" y="1"/>
                    </a:lnTo>
                    <a:cubicBezTo>
                      <a:pt x="3148" y="1"/>
                      <a:pt x="3149" y="2"/>
                      <a:pt x="3149" y="3"/>
                    </a:cubicBezTo>
                    <a:cubicBezTo>
                      <a:pt x="3149" y="4"/>
                      <a:pt x="3148" y="5"/>
                      <a:pt x="3147" y="5"/>
                    </a:cubicBezTo>
                    <a:lnTo>
                      <a:pt x="3147" y="5"/>
                    </a:lnTo>
                    <a:cubicBezTo>
                      <a:pt x="3146" y="5"/>
                      <a:pt x="3145" y="4"/>
                      <a:pt x="3145" y="3"/>
                    </a:cubicBezTo>
                    <a:cubicBezTo>
                      <a:pt x="3145" y="2"/>
                      <a:pt x="3146" y="1"/>
                      <a:pt x="3147" y="1"/>
                    </a:cubicBezTo>
                    <a:close/>
                    <a:moveTo>
                      <a:pt x="3155" y="1"/>
                    </a:moveTo>
                    <a:lnTo>
                      <a:pt x="3155" y="1"/>
                    </a:lnTo>
                    <a:cubicBezTo>
                      <a:pt x="3156" y="1"/>
                      <a:pt x="3157" y="2"/>
                      <a:pt x="3157" y="3"/>
                    </a:cubicBezTo>
                    <a:cubicBezTo>
                      <a:pt x="3157" y="4"/>
                      <a:pt x="3156" y="5"/>
                      <a:pt x="3155" y="5"/>
                    </a:cubicBezTo>
                    <a:lnTo>
                      <a:pt x="3155" y="5"/>
                    </a:lnTo>
                    <a:cubicBezTo>
                      <a:pt x="3154" y="5"/>
                      <a:pt x="3153" y="4"/>
                      <a:pt x="3153" y="3"/>
                    </a:cubicBezTo>
                    <a:cubicBezTo>
                      <a:pt x="3153" y="2"/>
                      <a:pt x="3154" y="1"/>
                      <a:pt x="3155" y="1"/>
                    </a:cubicBezTo>
                    <a:close/>
                    <a:moveTo>
                      <a:pt x="3163" y="1"/>
                    </a:moveTo>
                    <a:lnTo>
                      <a:pt x="3163" y="1"/>
                    </a:lnTo>
                    <a:cubicBezTo>
                      <a:pt x="3164" y="1"/>
                      <a:pt x="3165" y="2"/>
                      <a:pt x="3165" y="3"/>
                    </a:cubicBezTo>
                    <a:cubicBezTo>
                      <a:pt x="3165" y="4"/>
                      <a:pt x="3164" y="5"/>
                      <a:pt x="3163" y="5"/>
                    </a:cubicBezTo>
                    <a:lnTo>
                      <a:pt x="3163" y="5"/>
                    </a:lnTo>
                    <a:cubicBezTo>
                      <a:pt x="3162" y="5"/>
                      <a:pt x="3161" y="4"/>
                      <a:pt x="3161" y="3"/>
                    </a:cubicBezTo>
                    <a:cubicBezTo>
                      <a:pt x="3161" y="2"/>
                      <a:pt x="3162" y="1"/>
                      <a:pt x="3163" y="1"/>
                    </a:cubicBezTo>
                    <a:close/>
                    <a:moveTo>
                      <a:pt x="3171" y="1"/>
                    </a:moveTo>
                    <a:lnTo>
                      <a:pt x="3171" y="1"/>
                    </a:lnTo>
                    <a:cubicBezTo>
                      <a:pt x="3172" y="1"/>
                      <a:pt x="3173" y="2"/>
                      <a:pt x="3173" y="3"/>
                    </a:cubicBezTo>
                    <a:cubicBezTo>
                      <a:pt x="3173" y="4"/>
                      <a:pt x="3172" y="5"/>
                      <a:pt x="3171" y="5"/>
                    </a:cubicBezTo>
                    <a:lnTo>
                      <a:pt x="3171" y="5"/>
                    </a:lnTo>
                    <a:cubicBezTo>
                      <a:pt x="3170" y="5"/>
                      <a:pt x="3169" y="4"/>
                      <a:pt x="3169" y="3"/>
                    </a:cubicBezTo>
                    <a:cubicBezTo>
                      <a:pt x="3169" y="2"/>
                      <a:pt x="3170" y="1"/>
                      <a:pt x="3171" y="1"/>
                    </a:cubicBezTo>
                    <a:close/>
                    <a:moveTo>
                      <a:pt x="3179" y="1"/>
                    </a:moveTo>
                    <a:lnTo>
                      <a:pt x="3179" y="1"/>
                    </a:lnTo>
                    <a:cubicBezTo>
                      <a:pt x="3180" y="1"/>
                      <a:pt x="3181" y="2"/>
                      <a:pt x="3181" y="3"/>
                    </a:cubicBezTo>
                    <a:cubicBezTo>
                      <a:pt x="3181" y="4"/>
                      <a:pt x="3180" y="5"/>
                      <a:pt x="3179" y="5"/>
                    </a:cubicBezTo>
                    <a:lnTo>
                      <a:pt x="3179" y="5"/>
                    </a:lnTo>
                    <a:cubicBezTo>
                      <a:pt x="3178" y="5"/>
                      <a:pt x="3177" y="4"/>
                      <a:pt x="3177" y="3"/>
                    </a:cubicBezTo>
                    <a:cubicBezTo>
                      <a:pt x="3177" y="2"/>
                      <a:pt x="3178" y="1"/>
                      <a:pt x="3179" y="1"/>
                    </a:cubicBezTo>
                    <a:close/>
                    <a:moveTo>
                      <a:pt x="3187" y="1"/>
                    </a:moveTo>
                    <a:lnTo>
                      <a:pt x="3187" y="1"/>
                    </a:lnTo>
                    <a:cubicBezTo>
                      <a:pt x="3188" y="1"/>
                      <a:pt x="3189" y="2"/>
                      <a:pt x="3189" y="3"/>
                    </a:cubicBezTo>
                    <a:cubicBezTo>
                      <a:pt x="3189" y="4"/>
                      <a:pt x="3188" y="5"/>
                      <a:pt x="3187" y="5"/>
                    </a:cubicBezTo>
                    <a:lnTo>
                      <a:pt x="3187" y="5"/>
                    </a:lnTo>
                    <a:cubicBezTo>
                      <a:pt x="3186" y="5"/>
                      <a:pt x="3185" y="4"/>
                      <a:pt x="3185" y="3"/>
                    </a:cubicBezTo>
                    <a:cubicBezTo>
                      <a:pt x="3185" y="2"/>
                      <a:pt x="3186" y="1"/>
                      <a:pt x="3187" y="1"/>
                    </a:cubicBezTo>
                    <a:close/>
                    <a:moveTo>
                      <a:pt x="3195" y="1"/>
                    </a:moveTo>
                    <a:lnTo>
                      <a:pt x="3195" y="1"/>
                    </a:lnTo>
                    <a:cubicBezTo>
                      <a:pt x="3196" y="1"/>
                      <a:pt x="3197" y="2"/>
                      <a:pt x="3197" y="3"/>
                    </a:cubicBezTo>
                    <a:cubicBezTo>
                      <a:pt x="3197" y="4"/>
                      <a:pt x="3196" y="5"/>
                      <a:pt x="3195" y="5"/>
                    </a:cubicBezTo>
                    <a:lnTo>
                      <a:pt x="3195" y="5"/>
                    </a:lnTo>
                    <a:cubicBezTo>
                      <a:pt x="3194" y="5"/>
                      <a:pt x="3193" y="4"/>
                      <a:pt x="3193" y="3"/>
                    </a:cubicBezTo>
                    <a:cubicBezTo>
                      <a:pt x="3193" y="2"/>
                      <a:pt x="3194" y="1"/>
                      <a:pt x="3195" y="1"/>
                    </a:cubicBezTo>
                    <a:close/>
                    <a:moveTo>
                      <a:pt x="3203" y="1"/>
                    </a:moveTo>
                    <a:lnTo>
                      <a:pt x="3203" y="1"/>
                    </a:lnTo>
                    <a:cubicBezTo>
                      <a:pt x="3204" y="1"/>
                      <a:pt x="3205" y="2"/>
                      <a:pt x="3205" y="3"/>
                    </a:cubicBezTo>
                    <a:cubicBezTo>
                      <a:pt x="3205" y="4"/>
                      <a:pt x="3204" y="5"/>
                      <a:pt x="3203" y="5"/>
                    </a:cubicBezTo>
                    <a:lnTo>
                      <a:pt x="3203" y="5"/>
                    </a:lnTo>
                    <a:cubicBezTo>
                      <a:pt x="3202" y="5"/>
                      <a:pt x="3201" y="4"/>
                      <a:pt x="3201" y="3"/>
                    </a:cubicBezTo>
                    <a:cubicBezTo>
                      <a:pt x="3201" y="2"/>
                      <a:pt x="3202" y="1"/>
                      <a:pt x="3203" y="1"/>
                    </a:cubicBezTo>
                    <a:close/>
                    <a:moveTo>
                      <a:pt x="3211" y="1"/>
                    </a:moveTo>
                    <a:lnTo>
                      <a:pt x="3211" y="1"/>
                    </a:lnTo>
                    <a:cubicBezTo>
                      <a:pt x="3212" y="1"/>
                      <a:pt x="3213" y="2"/>
                      <a:pt x="3213" y="3"/>
                    </a:cubicBezTo>
                    <a:cubicBezTo>
                      <a:pt x="3213" y="4"/>
                      <a:pt x="3212" y="5"/>
                      <a:pt x="3211" y="5"/>
                    </a:cubicBezTo>
                    <a:lnTo>
                      <a:pt x="3211" y="5"/>
                    </a:lnTo>
                    <a:cubicBezTo>
                      <a:pt x="3210" y="5"/>
                      <a:pt x="3209" y="4"/>
                      <a:pt x="3209" y="3"/>
                    </a:cubicBezTo>
                    <a:cubicBezTo>
                      <a:pt x="3209" y="2"/>
                      <a:pt x="3210" y="1"/>
                      <a:pt x="3211" y="1"/>
                    </a:cubicBezTo>
                    <a:close/>
                    <a:moveTo>
                      <a:pt x="3219" y="1"/>
                    </a:moveTo>
                    <a:lnTo>
                      <a:pt x="3219" y="1"/>
                    </a:lnTo>
                    <a:cubicBezTo>
                      <a:pt x="3220" y="1"/>
                      <a:pt x="3221" y="2"/>
                      <a:pt x="3221" y="3"/>
                    </a:cubicBezTo>
                    <a:cubicBezTo>
                      <a:pt x="3221" y="4"/>
                      <a:pt x="3220" y="5"/>
                      <a:pt x="3219" y="5"/>
                    </a:cubicBezTo>
                    <a:lnTo>
                      <a:pt x="3219" y="5"/>
                    </a:lnTo>
                    <a:cubicBezTo>
                      <a:pt x="3218" y="5"/>
                      <a:pt x="3217" y="4"/>
                      <a:pt x="3217" y="3"/>
                    </a:cubicBezTo>
                    <a:cubicBezTo>
                      <a:pt x="3217" y="2"/>
                      <a:pt x="3218" y="1"/>
                      <a:pt x="3219" y="1"/>
                    </a:cubicBezTo>
                    <a:close/>
                    <a:moveTo>
                      <a:pt x="3227" y="1"/>
                    </a:moveTo>
                    <a:lnTo>
                      <a:pt x="3227" y="1"/>
                    </a:lnTo>
                    <a:cubicBezTo>
                      <a:pt x="3228" y="1"/>
                      <a:pt x="3229" y="2"/>
                      <a:pt x="3229" y="3"/>
                    </a:cubicBezTo>
                    <a:cubicBezTo>
                      <a:pt x="3229" y="4"/>
                      <a:pt x="3228" y="5"/>
                      <a:pt x="3227" y="5"/>
                    </a:cubicBezTo>
                    <a:lnTo>
                      <a:pt x="3227" y="5"/>
                    </a:lnTo>
                    <a:cubicBezTo>
                      <a:pt x="3226" y="5"/>
                      <a:pt x="3225" y="4"/>
                      <a:pt x="3225" y="3"/>
                    </a:cubicBezTo>
                    <a:cubicBezTo>
                      <a:pt x="3225" y="2"/>
                      <a:pt x="3226" y="1"/>
                      <a:pt x="3227" y="1"/>
                    </a:cubicBezTo>
                    <a:close/>
                    <a:moveTo>
                      <a:pt x="3235" y="1"/>
                    </a:moveTo>
                    <a:lnTo>
                      <a:pt x="3235" y="1"/>
                    </a:lnTo>
                    <a:cubicBezTo>
                      <a:pt x="3236" y="1"/>
                      <a:pt x="3237" y="2"/>
                      <a:pt x="3237" y="3"/>
                    </a:cubicBezTo>
                    <a:cubicBezTo>
                      <a:pt x="3237" y="4"/>
                      <a:pt x="3236" y="5"/>
                      <a:pt x="3235" y="5"/>
                    </a:cubicBezTo>
                    <a:lnTo>
                      <a:pt x="3235" y="5"/>
                    </a:lnTo>
                    <a:cubicBezTo>
                      <a:pt x="3234" y="5"/>
                      <a:pt x="3233" y="4"/>
                      <a:pt x="3233" y="3"/>
                    </a:cubicBezTo>
                    <a:cubicBezTo>
                      <a:pt x="3233" y="2"/>
                      <a:pt x="3234" y="1"/>
                      <a:pt x="3235" y="1"/>
                    </a:cubicBezTo>
                    <a:close/>
                    <a:moveTo>
                      <a:pt x="3243" y="1"/>
                    </a:moveTo>
                    <a:lnTo>
                      <a:pt x="3243" y="1"/>
                    </a:lnTo>
                    <a:cubicBezTo>
                      <a:pt x="3244" y="1"/>
                      <a:pt x="3245" y="2"/>
                      <a:pt x="3245" y="3"/>
                    </a:cubicBezTo>
                    <a:cubicBezTo>
                      <a:pt x="3245" y="4"/>
                      <a:pt x="3244" y="5"/>
                      <a:pt x="3243" y="5"/>
                    </a:cubicBezTo>
                    <a:lnTo>
                      <a:pt x="3243" y="5"/>
                    </a:lnTo>
                    <a:cubicBezTo>
                      <a:pt x="3242" y="5"/>
                      <a:pt x="3241" y="4"/>
                      <a:pt x="3241" y="3"/>
                    </a:cubicBezTo>
                    <a:cubicBezTo>
                      <a:pt x="3241" y="2"/>
                      <a:pt x="3242" y="1"/>
                      <a:pt x="3243" y="1"/>
                    </a:cubicBezTo>
                    <a:close/>
                    <a:moveTo>
                      <a:pt x="3251" y="1"/>
                    </a:moveTo>
                    <a:lnTo>
                      <a:pt x="3251" y="1"/>
                    </a:lnTo>
                    <a:cubicBezTo>
                      <a:pt x="3252" y="1"/>
                      <a:pt x="3253" y="2"/>
                      <a:pt x="3253" y="3"/>
                    </a:cubicBezTo>
                    <a:cubicBezTo>
                      <a:pt x="3253" y="4"/>
                      <a:pt x="3252" y="5"/>
                      <a:pt x="3251" y="5"/>
                    </a:cubicBezTo>
                    <a:lnTo>
                      <a:pt x="3251" y="5"/>
                    </a:lnTo>
                    <a:cubicBezTo>
                      <a:pt x="3250" y="5"/>
                      <a:pt x="3249" y="4"/>
                      <a:pt x="3249" y="3"/>
                    </a:cubicBezTo>
                    <a:cubicBezTo>
                      <a:pt x="3249" y="2"/>
                      <a:pt x="3250" y="1"/>
                      <a:pt x="3251" y="1"/>
                    </a:cubicBezTo>
                    <a:close/>
                    <a:moveTo>
                      <a:pt x="3259" y="1"/>
                    </a:moveTo>
                    <a:lnTo>
                      <a:pt x="3259" y="1"/>
                    </a:lnTo>
                    <a:cubicBezTo>
                      <a:pt x="3261" y="1"/>
                      <a:pt x="3261" y="2"/>
                      <a:pt x="3261" y="3"/>
                    </a:cubicBezTo>
                    <a:cubicBezTo>
                      <a:pt x="3261" y="4"/>
                      <a:pt x="3261" y="5"/>
                      <a:pt x="3259" y="5"/>
                    </a:cubicBezTo>
                    <a:lnTo>
                      <a:pt x="3259" y="5"/>
                    </a:lnTo>
                    <a:cubicBezTo>
                      <a:pt x="3258" y="5"/>
                      <a:pt x="3257" y="4"/>
                      <a:pt x="3257" y="3"/>
                    </a:cubicBezTo>
                    <a:cubicBezTo>
                      <a:pt x="3257" y="2"/>
                      <a:pt x="3258" y="1"/>
                      <a:pt x="3259" y="1"/>
                    </a:cubicBezTo>
                    <a:close/>
                    <a:moveTo>
                      <a:pt x="3267" y="1"/>
                    </a:moveTo>
                    <a:lnTo>
                      <a:pt x="3267" y="1"/>
                    </a:lnTo>
                    <a:cubicBezTo>
                      <a:pt x="3269" y="1"/>
                      <a:pt x="3269" y="2"/>
                      <a:pt x="3269" y="3"/>
                    </a:cubicBezTo>
                    <a:cubicBezTo>
                      <a:pt x="3269" y="4"/>
                      <a:pt x="3269" y="5"/>
                      <a:pt x="3267" y="5"/>
                    </a:cubicBezTo>
                    <a:lnTo>
                      <a:pt x="3267" y="5"/>
                    </a:lnTo>
                    <a:cubicBezTo>
                      <a:pt x="3266" y="5"/>
                      <a:pt x="3265" y="4"/>
                      <a:pt x="3265" y="3"/>
                    </a:cubicBezTo>
                    <a:cubicBezTo>
                      <a:pt x="3265" y="2"/>
                      <a:pt x="3266" y="1"/>
                      <a:pt x="3267" y="1"/>
                    </a:cubicBezTo>
                    <a:close/>
                    <a:moveTo>
                      <a:pt x="3275" y="1"/>
                    </a:moveTo>
                    <a:lnTo>
                      <a:pt x="3275" y="1"/>
                    </a:lnTo>
                    <a:cubicBezTo>
                      <a:pt x="3277" y="1"/>
                      <a:pt x="3277" y="2"/>
                      <a:pt x="3277" y="3"/>
                    </a:cubicBezTo>
                    <a:cubicBezTo>
                      <a:pt x="3277" y="4"/>
                      <a:pt x="3277" y="5"/>
                      <a:pt x="3275" y="5"/>
                    </a:cubicBezTo>
                    <a:lnTo>
                      <a:pt x="3275" y="5"/>
                    </a:lnTo>
                    <a:cubicBezTo>
                      <a:pt x="3274" y="5"/>
                      <a:pt x="3273" y="4"/>
                      <a:pt x="3273" y="3"/>
                    </a:cubicBezTo>
                    <a:cubicBezTo>
                      <a:pt x="3273" y="2"/>
                      <a:pt x="3274" y="1"/>
                      <a:pt x="3275" y="1"/>
                    </a:cubicBezTo>
                    <a:close/>
                    <a:moveTo>
                      <a:pt x="3283" y="1"/>
                    </a:moveTo>
                    <a:lnTo>
                      <a:pt x="3283" y="1"/>
                    </a:lnTo>
                    <a:cubicBezTo>
                      <a:pt x="3285" y="1"/>
                      <a:pt x="3285" y="2"/>
                      <a:pt x="3285" y="3"/>
                    </a:cubicBezTo>
                    <a:cubicBezTo>
                      <a:pt x="3285" y="4"/>
                      <a:pt x="3285" y="5"/>
                      <a:pt x="3283" y="5"/>
                    </a:cubicBezTo>
                    <a:lnTo>
                      <a:pt x="3283" y="5"/>
                    </a:lnTo>
                    <a:cubicBezTo>
                      <a:pt x="3282" y="5"/>
                      <a:pt x="3281" y="4"/>
                      <a:pt x="3281" y="3"/>
                    </a:cubicBezTo>
                    <a:cubicBezTo>
                      <a:pt x="3281" y="2"/>
                      <a:pt x="3282" y="1"/>
                      <a:pt x="3283" y="1"/>
                    </a:cubicBezTo>
                    <a:close/>
                    <a:moveTo>
                      <a:pt x="3291" y="1"/>
                    </a:moveTo>
                    <a:lnTo>
                      <a:pt x="3291" y="1"/>
                    </a:lnTo>
                    <a:cubicBezTo>
                      <a:pt x="3293" y="1"/>
                      <a:pt x="3293" y="2"/>
                      <a:pt x="3293" y="3"/>
                    </a:cubicBezTo>
                    <a:cubicBezTo>
                      <a:pt x="3293" y="4"/>
                      <a:pt x="3293" y="5"/>
                      <a:pt x="3291" y="5"/>
                    </a:cubicBezTo>
                    <a:lnTo>
                      <a:pt x="3291" y="5"/>
                    </a:lnTo>
                    <a:cubicBezTo>
                      <a:pt x="3290" y="5"/>
                      <a:pt x="3289" y="4"/>
                      <a:pt x="3289" y="3"/>
                    </a:cubicBezTo>
                    <a:cubicBezTo>
                      <a:pt x="3289" y="2"/>
                      <a:pt x="3290" y="1"/>
                      <a:pt x="3291" y="1"/>
                    </a:cubicBezTo>
                    <a:close/>
                    <a:moveTo>
                      <a:pt x="3299" y="1"/>
                    </a:moveTo>
                    <a:lnTo>
                      <a:pt x="3299" y="1"/>
                    </a:lnTo>
                    <a:cubicBezTo>
                      <a:pt x="3301" y="1"/>
                      <a:pt x="3301" y="2"/>
                      <a:pt x="3301" y="3"/>
                    </a:cubicBezTo>
                    <a:cubicBezTo>
                      <a:pt x="3301" y="4"/>
                      <a:pt x="3301" y="5"/>
                      <a:pt x="3299" y="5"/>
                    </a:cubicBezTo>
                    <a:lnTo>
                      <a:pt x="3299" y="5"/>
                    </a:lnTo>
                    <a:cubicBezTo>
                      <a:pt x="3298" y="5"/>
                      <a:pt x="3297" y="4"/>
                      <a:pt x="3297" y="3"/>
                    </a:cubicBezTo>
                    <a:cubicBezTo>
                      <a:pt x="3297" y="2"/>
                      <a:pt x="3298" y="1"/>
                      <a:pt x="3299" y="1"/>
                    </a:cubicBezTo>
                    <a:close/>
                    <a:moveTo>
                      <a:pt x="3307" y="1"/>
                    </a:moveTo>
                    <a:lnTo>
                      <a:pt x="3307" y="1"/>
                    </a:lnTo>
                    <a:cubicBezTo>
                      <a:pt x="3309" y="1"/>
                      <a:pt x="3309" y="2"/>
                      <a:pt x="3309" y="3"/>
                    </a:cubicBezTo>
                    <a:cubicBezTo>
                      <a:pt x="3309" y="4"/>
                      <a:pt x="3309" y="5"/>
                      <a:pt x="3307" y="5"/>
                    </a:cubicBezTo>
                    <a:lnTo>
                      <a:pt x="3307" y="5"/>
                    </a:lnTo>
                    <a:cubicBezTo>
                      <a:pt x="3306" y="5"/>
                      <a:pt x="3305" y="4"/>
                      <a:pt x="3305" y="3"/>
                    </a:cubicBezTo>
                    <a:cubicBezTo>
                      <a:pt x="3305" y="2"/>
                      <a:pt x="3306" y="1"/>
                      <a:pt x="3307" y="1"/>
                    </a:cubicBezTo>
                    <a:close/>
                    <a:moveTo>
                      <a:pt x="3315" y="1"/>
                    </a:moveTo>
                    <a:lnTo>
                      <a:pt x="3315" y="1"/>
                    </a:lnTo>
                    <a:cubicBezTo>
                      <a:pt x="3317" y="1"/>
                      <a:pt x="3317" y="2"/>
                      <a:pt x="3317" y="3"/>
                    </a:cubicBezTo>
                    <a:cubicBezTo>
                      <a:pt x="3317" y="4"/>
                      <a:pt x="3317" y="5"/>
                      <a:pt x="3315" y="5"/>
                    </a:cubicBezTo>
                    <a:lnTo>
                      <a:pt x="3315" y="5"/>
                    </a:lnTo>
                    <a:cubicBezTo>
                      <a:pt x="3314" y="5"/>
                      <a:pt x="3313" y="4"/>
                      <a:pt x="3313" y="3"/>
                    </a:cubicBezTo>
                    <a:cubicBezTo>
                      <a:pt x="3313" y="2"/>
                      <a:pt x="3314" y="1"/>
                      <a:pt x="3315" y="1"/>
                    </a:cubicBezTo>
                    <a:close/>
                    <a:moveTo>
                      <a:pt x="3323" y="1"/>
                    </a:moveTo>
                    <a:lnTo>
                      <a:pt x="3323" y="1"/>
                    </a:lnTo>
                    <a:cubicBezTo>
                      <a:pt x="3325" y="1"/>
                      <a:pt x="3325" y="2"/>
                      <a:pt x="3325" y="3"/>
                    </a:cubicBezTo>
                    <a:cubicBezTo>
                      <a:pt x="3325" y="4"/>
                      <a:pt x="3325" y="5"/>
                      <a:pt x="3323" y="5"/>
                    </a:cubicBezTo>
                    <a:lnTo>
                      <a:pt x="3323" y="5"/>
                    </a:lnTo>
                    <a:cubicBezTo>
                      <a:pt x="3322" y="5"/>
                      <a:pt x="3321" y="4"/>
                      <a:pt x="3321" y="3"/>
                    </a:cubicBezTo>
                    <a:cubicBezTo>
                      <a:pt x="3321" y="2"/>
                      <a:pt x="3322" y="1"/>
                      <a:pt x="3323" y="1"/>
                    </a:cubicBezTo>
                    <a:close/>
                    <a:moveTo>
                      <a:pt x="3331" y="1"/>
                    </a:moveTo>
                    <a:lnTo>
                      <a:pt x="3331" y="1"/>
                    </a:lnTo>
                    <a:cubicBezTo>
                      <a:pt x="3333" y="1"/>
                      <a:pt x="3333" y="2"/>
                      <a:pt x="3333" y="3"/>
                    </a:cubicBezTo>
                    <a:cubicBezTo>
                      <a:pt x="3333" y="4"/>
                      <a:pt x="3333" y="5"/>
                      <a:pt x="3331" y="5"/>
                    </a:cubicBezTo>
                    <a:lnTo>
                      <a:pt x="3331" y="5"/>
                    </a:lnTo>
                    <a:cubicBezTo>
                      <a:pt x="3330" y="5"/>
                      <a:pt x="3329" y="4"/>
                      <a:pt x="3329" y="3"/>
                    </a:cubicBezTo>
                    <a:cubicBezTo>
                      <a:pt x="3329" y="2"/>
                      <a:pt x="3330" y="1"/>
                      <a:pt x="3331" y="1"/>
                    </a:cubicBezTo>
                    <a:close/>
                    <a:moveTo>
                      <a:pt x="3339" y="1"/>
                    </a:moveTo>
                    <a:lnTo>
                      <a:pt x="3339" y="1"/>
                    </a:lnTo>
                    <a:cubicBezTo>
                      <a:pt x="3341" y="1"/>
                      <a:pt x="3341" y="2"/>
                      <a:pt x="3341" y="3"/>
                    </a:cubicBezTo>
                    <a:cubicBezTo>
                      <a:pt x="3341" y="4"/>
                      <a:pt x="3341" y="5"/>
                      <a:pt x="3339" y="5"/>
                    </a:cubicBezTo>
                    <a:lnTo>
                      <a:pt x="3339" y="5"/>
                    </a:lnTo>
                    <a:cubicBezTo>
                      <a:pt x="3338" y="5"/>
                      <a:pt x="3337" y="4"/>
                      <a:pt x="3337" y="3"/>
                    </a:cubicBezTo>
                    <a:cubicBezTo>
                      <a:pt x="3337" y="2"/>
                      <a:pt x="3338" y="1"/>
                      <a:pt x="3339" y="1"/>
                    </a:cubicBezTo>
                    <a:close/>
                    <a:moveTo>
                      <a:pt x="3347" y="1"/>
                    </a:moveTo>
                    <a:lnTo>
                      <a:pt x="3347" y="1"/>
                    </a:lnTo>
                    <a:cubicBezTo>
                      <a:pt x="3349" y="1"/>
                      <a:pt x="3349" y="2"/>
                      <a:pt x="3349" y="3"/>
                    </a:cubicBezTo>
                    <a:cubicBezTo>
                      <a:pt x="3349" y="4"/>
                      <a:pt x="3349" y="5"/>
                      <a:pt x="3347" y="5"/>
                    </a:cubicBezTo>
                    <a:lnTo>
                      <a:pt x="3347" y="5"/>
                    </a:lnTo>
                    <a:cubicBezTo>
                      <a:pt x="3346" y="5"/>
                      <a:pt x="3345" y="4"/>
                      <a:pt x="3345" y="3"/>
                    </a:cubicBezTo>
                    <a:cubicBezTo>
                      <a:pt x="3345" y="2"/>
                      <a:pt x="3346" y="1"/>
                      <a:pt x="3347" y="1"/>
                    </a:cubicBezTo>
                    <a:close/>
                    <a:moveTo>
                      <a:pt x="3355" y="1"/>
                    </a:moveTo>
                    <a:lnTo>
                      <a:pt x="3355" y="1"/>
                    </a:lnTo>
                    <a:cubicBezTo>
                      <a:pt x="3357" y="1"/>
                      <a:pt x="3357" y="2"/>
                      <a:pt x="3357" y="3"/>
                    </a:cubicBezTo>
                    <a:cubicBezTo>
                      <a:pt x="3357" y="4"/>
                      <a:pt x="3357" y="5"/>
                      <a:pt x="3355" y="5"/>
                    </a:cubicBezTo>
                    <a:lnTo>
                      <a:pt x="3355" y="5"/>
                    </a:lnTo>
                    <a:cubicBezTo>
                      <a:pt x="3354" y="5"/>
                      <a:pt x="3353" y="4"/>
                      <a:pt x="3353" y="3"/>
                    </a:cubicBezTo>
                    <a:cubicBezTo>
                      <a:pt x="3353" y="2"/>
                      <a:pt x="3354" y="1"/>
                      <a:pt x="3355" y="1"/>
                    </a:cubicBezTo>
                    <a:close/>
                    <a:moveTo>
                      <a:pt x="3363" y="1"/>
                    </a:moveTo>
                    <a:lnTo>
                      <a:pt x="3363" y="1"/>
                    </a:lnTo>
                    <a:cubicBezTo>
                      <a:pt x="3365" y="1"/>
                      <a:pt x="3365" y="2"/>
                      <a:pt x="3365" y="3"/>
                    </a:cubicBezTo>
                    <a:cubicBezTo>
                      <a:pt x="3365" y="4"/>
                      <a:pt x="3365" y="5"/>
                      <a:pt x="3363" y="5"/>
                    </a:cubicBezTo>
                    <a:lnTo>
                      <a:pt x="3363" y="5"/>
                    </a:lnTo>
                    <a:cubicBezTo>
                      <a:pt x="3362" y="5"/>
                      <a:pt x="3361" y="4"/>
                      <a:pt x="3361" y="3"/>
                    </a:cubicBezTo>
                    <a:cubicBezTo>
                      <a:pt x="3361" y="2"/>
                      <a:pt x="3362" y="1"/>
                      <a:pt x="3363" y="1"/>
                    </a:cubicBezTo>
                    <a:close/>
                    <a:moveTo>
                      <a:pt x="3371" y="1"/>
                    </a:moveTo>
                    <a:lnTo>
                      <a:pt x="3371" y="1"/>
                    </a:lnTo>
                    <a:cubicBezTo>
                      <a:pt x="3373" y="1"/>
                      <a:pt x="3373" y="2"/>
                      <a:pt x="3373" y="3"/>
                    </a:cubicBezTo>
                    <a:cubicBezTo>
                      <a:pt x="3373" y="4"/>
                      <a:pt x="3373" y="5"/>
                      <a:pt x="3371" y="5"/>
                    </a:cubicBezTo>
                    <a:lnTo>
                      <a:pt x="3371" y="5"/>
                    </a:lnTo>
                    <a:cubicBezTo>
                      <a:pt x="3370" y="5"/>
                      <a:pt x="3369" y="4"/>
                      <a:pt x="3369" y="3"/>
                    </a:cubicBezTo>
                    <a:cubicBezTo>
                      <a:pt x="3369" y="2"/>
                      <a:pt x="3370" y="1"/>
                      <a:pt x="3371" y="1"/>
                    </a:cubicBezTo>
                    <a:close/>
                    <a:moveTo>
                      <a:pt x="3379" y="1"/>
                    </a:moveTo>
                    <a:lnTo>
                      <a:pt x="3379" y="1"/>
                    </a:lnTo>
                    <a:cubicBezTo>
                      <a:pt x="3381" y="1"/>
                      <a:pt x="3381" y="2"/>
                      <a:pt x="3381" y="3"/>
                    </a:cubicBezTo>
                    <a:cubicBezTo>
                      <a:pt x="3381" y="4"/>
                      <a:pt x="3381" y="5"/>
                      <a:pt x="3379" y="5"/>
                    </a:cubicBezTo>
                    <a:lnTo>
                      <a:pt x="3379" y="5"/>
                    </a:lnTo>
                    <a:cubicBezTo>
                      <a:pt x="3378" y="5"/>
                      <a:pt x="3377" y="4"/>
                      <a:pt x="3377" y="3"/>
                    </a:cubicBezTo>
                    <a:cubicBezTo>
                      <a:pt x="3377" y="2"/>
                      <a:pt x="3378" y="1"/>
                      <a:pt x="3379" y="1"/>
                    </a:cubicBezTo>
                    <a:close/>
                    <a:moveTo>
                      <a:pt x="3387" y="1"/>
                    </a:moveTo>
                    <a:lnTo>
                      <a:pt x="3387" y="1"/>
                    </a:lnTo>
                    <a:cubicBezTo>
                      <a:pt x="3389" y="1"/>
                      <a:pt x="3389" y="2"/>
                      <a:pt x="3389" y="3"/>
                    </a:cubicBezTo>
                    <a:cubicBezTo>
                      <a:pt x="3389" y="4"/>
                      <a:pt x="3389" y="5"/>
                      <a:pt x="3387" y="5"/>
                    </a:cubicBezTo>
                    <a:lnTo>
                      <a:pt x="3387" y="5"/>
                    </a:lnTo>
                    <a:cubicBezTo>
                      <a:pt x="3386" y="5"/>
                      <a:pt x="3385" y="4"/>
                      <a:pt x="3385" y="3"/>
                    </a:cubicBezTo>
                    <a:cubicBezTo>
                      <a:pt x="3385" y="2"/>
                      <a:pt x="3386" y="1"/>
                      <a:pt x="3387" y="1"/>
                    </a:cubicBezTo>
                    <a:close/>
                    <a:moveTo>
                      <a:pt x="3395" y="1"/>
                    </a:moveTo>
                    <a:lnTo>
                      <a:pt x="3395" y="1"/>
                    </a:lnTo>
                    <a:cubicBezTo>
                      <a:pt x="3397" y="1"/>
                      <a:pt x="3397" y="2"/>
                      <a:pt x="3397" y="3"/>
                    </a:cubicBezTo>
                    <a:cubicBezTo>
                      <a:pt x="3397" y="4"/>
                      <a:pt x="3397" y="5"/>
                      <a:pt x="3395" y="5"/>
                    </a:cubicBezTo>
                    <a:lnTo>
                      <a:pt x="3395" y="5"/>
                    </a:lnTo>
                    <a:cubicBezTo>
                      <a:pt x="3394" y="5"/>
                      <a:pt x="3393" y="4"/>
                      <a:pt x="3393" y="3"/>
                    </a:cubicBezTo>
                    <a:cubicBezTo>
                      <a:pt x="3393" y="2"/>
                      <a:pt x="3394" y="1"/>
                      <a:pt x="3395" y="1"/>
                    </a:cubicBezTo>
                    <a:close/>
                    <a:moveTo>
                      <a:pt x="3403" y="1"/>
                    </a:moveTo>
                    <a:lnTo>
                      <a:pt x="3403" y="1"/>
                    </a:lnTo>
                    <a:cubicBezTo>
                      <a:pt x="3405" y="1"/>
                      <a:pt x="3405" y="2"/>
                      <a:pt x="3405" y="3"/>
                    </a:cubicBezTo>
                    <a:cubicBezTo>
                      <a:pt x="3405" y="4"/>
                      <a:pt x="3405" y="5"/>
                      <a:pt x="3403" y="5"/>
                    </a:cubicBezTo>
                    <a:lnTo>
                      <a:pt x="3403" y="5"/>
                    </a:lnTo>
                    <a:cubicBezTo>
                      <a:pt x="3402" y="5"/>
                      <a:pt x="3401" y="4"/>
                      <a:pt x="3401" y="3"/>
                    </a:cubicBezTo>
                    <a:cubicBezTo>
                      <a:pt x="3401" y="2"/>
                      <a:pt x="3402" y="1"/>
                      <a:pt x="3403" y="1"/>
                    </a:cubicBezTo>
                    <a:close/>
                    <a:moveTo>
                      <a:pt x="3411" y="1"/>
                    </a:moveTo>
                    <a:lnTo>
                      <a:pt x="3411" y="1"/>
                    </a:lnTo>
                    <a:cubicBezTo>
                      <a:pt x="3413" y="1"/>
                      <a:pt x="3413" y="2"/>
                      <a:pt x="3413" y="3"/>
                    </a:cubicBezTo>
                    <a:cubicBezTo>
                      <a:pt x="3413" y="4"/>
                      <a:pt x="3413" y="5"/>
                      <a:pt x="3411" y="5"/>
                    </a:cubicBezTo>
                    <a:lnTo>
                      <a:pt x="3411" y="5"/>
                    </a:lnTo>
                    <a:cubicBezTo>
                      <a:pt x="3410" y="5"/>
                      <a:pt x="3409" y="4"/>
                      <a:pt x="3409" y="3"/>
                    </a:cubicBezTo>
                    <a:cubicBezTo>
                      <a:pt x="3409" y="2"/>
                      <a:pt x="3410" y="1"/>
                      <a:pt x="3411" y="1"/>
                    </a:cubicBezTo>
                    <a:close/>
                    <a:moveTo>
                      <a:pt x="3419" y="1"/>
                    </a:moveTo>
                    <a:lnTo>
                      <a:pt x="3419" y="1"/>
                    </a:lnTo>
                    <a:cubicBezTo>
                      <a:pt x="3421" y="1"/>
                      <a:pt x="3421" y="2"/>
                      <a:pt x="3421" y="3"/>
                    </a:cubicBezTo>
                    <a:cubicBezTo>
                      <a:pt x="3421" y="4"/>
                      <a:pt x="3421" y="5"/>
                      <a:pt x="3419" y="5"/>
                    </a:cubicBezTo>
                    <a:lnTo>
                      <a:pt x="3419" y="5"/>
                    </a:lnTo>
                    <a:cubicBezTo>
                      <a:pt x="3418" y="5"/>
                      <a:pt x="3417" y="4"/>
                      <a:pt x="3417" y="3"/>
                    </a:cubicBezTo>
                    <a:cubicBezTo>
                      <a:pt x="3417" y="2"/>
                      <a:pt x="3418" y="1"/>
                      <a:pt x="3419" y="1"/>
                    </a:cubicBezTo>
                    <a:close/>
                    <a:moveTo>
                      <a:pt x="3427" y="1"/>
                    </a:moveTo>
                    <a:lnTo>
                      <a:pt x="3427" y="1"/>
                    </a:lnTo>
                    <a:cubicBezTo>
                      <a:pt x="3429" y="1"/>
                      <a:pt x="3429" y="2"/>
                      <a:pt x="3429" y="3"/>
                    </a:cubicBezTo>
                    <a:cubicBezTo>
                      <a:pt x="3429" y="4"/>
                      <a:pt x="3429" y="5"/>
                      <a:pt x="3427" y="5"/>
                    </a:cubicBezTo>
                    <a:lnTo>
                      <a:pt x="3427" y="5"/>
                    </a:lnTo>
                    <a:cubicBezTo>
                      <a:pt x="3426" y="5"/>
                      <a:pt x="3425" y="4"/>
                      <a:pt x="3425" y="3"/>
                    </a:cubicBezTo>
                    <a:cubicBezTo>
                      <a:pt x="3425" y="2"/>
                      <a:pt x="3426" y="1"/>
                      <a:pt x="3427" y="1"/>
                    </a:cubicBezTo>
                    <a:close/>
                    <a:moveTo>
                      <a:pt x="3435" y="1"/>
                    </a:moveTo>
                    <a:lnTo>
                      <a:pt x="3435" y="1"/>
                    </a:lnTo>
                    <a:cubicBezTo>
                      <a:pt x="3437" y="1"/>
                      <a:pt x="3437" y="2"/>
                      <a:pt x="3437" y="3"/>
                    </a:cubicBezTo>
                    <a:cubicBezTo>
                      <a:pt x="3437" y="4"/>
                      <a:pt x="3437" y="5"/>
                      <a:pt x="3435" y="5"/>
                    </a:cubicBezTo>
                    <a:lnTo>
                      <a:pt x="3435" y="5"/>
                    </a:lnTo>
                    <a:cubicBezTo>
                      <a:pt x="3434" y="5"/>
                      <a:pt x="3433" y="4"/>
                      <a:pt x="3433" y="3"/>
                    </a:cubicBezTo>
                    <a:cubicBezTo>
                      <a:pt x="3433" y="2"/>
                      <a:pt x="3434" y="1"/>
                      <a:pt x="3435" y="1"/>
                    </a:cubicBezTo>
                    <a:close/>
                    <a:moveTo>
                      <a:pt x="3443" y="1"/>
                    </a:moveTo>
                    <a:lnTo>
                      <a:pt x="3443" y="1"/>
                    </a:lnTo>
                    <a:cubicBezTo>
                      <a:pt x="3445" y="1"/>
                      <a:pt x="3445" y="2"/>
                      <a:pt x="3445" y="3"/>
                    </a:cubicBezTo>
                    <a:cubicBezTo>
                      <a:pt x="3445" y="4"/>
                      <a:pt x="3445" y="5"/>
                      <a:pt x="3443" y="5"/>
                    </a:cubicBezTo>
                    <a:lnTo>
                      <a:pt x="3443" y="5"/>
                    </a:lnTo>
                    <a:cubicBezTo>
                      <a:pt x="3442" y="5"/>
                      <a:pt x="3441" y="4"/>
                      <a:pt x="3441" y="3"/>
                    </a:cubicBezTo>
                    <a:cubicBezTo>
                      <a:pt x="3441" y="2"/>
                      <a:pt x="3442" y="1"/>
                      <a:pt x="3443" y="1"/>
                    </a:cubicBezTo>
                    <a:close/>
                    <a:moveTo>
                      <a:pt x="3451" y="1"/>
                    </a:moveTo>
                    <a:lnTo>
                      <a:pt x="3451" y="1"/>
                    </a:lnTo>
                    <a:cubicBezTo>
                      <a:pt x="3453" y="1"/>
                      <a:pt x="3453" y="2"/>
                      <a:pt x="3453" y="3"/>
                    </a:cubicBezTo>
                    <a:cubicBezTo>
                      <a:pt x="3453" y="4"/>
                      <a:pt x="3453" y="5"/>
                      <a:pt x="3451" y="5"/>
                    </a:cubicBezTo>
                    <a:lnTo>
                      <a:pt x="3451" y="5"/>
                    </a:lnTo>
                    <a:cubicBezTo>
                      <a:pt x="3450" y="5"/>
                      <a:pt x="3449" y="4"/>
                      <a:pt x="3449" y="3"/>
                    </a:cubicBezTo>
                    <a:cubicBezTo>
                      <a:pt x="3449" y="2"/>
                      <a:pt x="3450" y="1"/>
                      <a:pt x="3451" y="1"/>
                    </a:cubicBezTo>
                    <a:close/>
                    <a:moveTo>
                      <a:pt x="3459" y="1"/>
                    </a:moveTo>
                    <a:lnTo>
                      <a:pt x="3459" y="1"/>
                    </a:lnTo>
                    <a:cubicBezTo>
                      <a:pt x="3461" y="1"/>
                      <a:pt x="3461" y="2"/>
                      <a:pt x="3461" y="3"/>
                    </a:cubicBezTo>
                    <a:cubicBezTo>
                      <a:pt x="3461" y="4"/>
                      <a:pt x="3461" y="5"/>
                      <a:pt x="3459" y="5"/>
                    </a:cubicBezTo>
                    <a:lnTo>
                      <a:pt x="3459" y="5"/>
                    </a:lnTo>
                    <a:cubicBezTo>
                      <a:pt x="3458" y="5"/>
                      <a:pt x="3457" y="4"/>
                      <a:pt x="3457" y="3"/>
                    </a:cubicBezTo>
                    <a:cubicBezTo>
                      <a:pt x="3457" y="2"/>
                      <a:pt x="3458" y="1"/>
                      <a:pt x="3459" y="1"/>
                    </a:cubicBezTo>
                    <a:close/>
                    <a:moveTo>
                      <a:pt x="3467" y="1"/>
                    </a:moveTo>
                    <a:lnTo>
                      <a:pt x="3467" y="1"/>
                    </a:lnTo>
                    <a:cubicBezTo>
                      <a:pt x="3469" y="1"/>
                      <a:pt x="3469" y="2"/>
                      <a:pt x="3469" y="3"/>
                    </a:cubicBezTo>
                    <a:cubicBezTo>
                      <a:pt x="3469" y="4"/>
                      <a:pt x="3469" y="5"/>
                      <a:pt x="3467" y="5"/>
                    </a:cubicBezTo>
                    <a:lnTo>
                      <a:pt x="3467" y="5"/>
                    </a:lnTo>
                    <a:cubicBezTo>
                      <a:pt x="3466" y="5"/>
                      <a:pt x="3465" y="4"/>
                      <a:pt x="3465" y="3"/>
                    </a:cubicBezTo>
                    <a:cubicBezTo>
                      <a:pt x="3465" y="2"/>
                      <a:pt x="3466" y="1"/>
                      <a:pt x="3467" y="1"/>
                    </a:cubicBezTo>
                    <a:close/>
                    <a:moveTo>
                      <a:pt x="3475" y="1"/>
                    </a:moveTo>
                    <a:lnTo>
                      <a:pt x="3476" y="1"/>
                    </a:lnTo>
                    <a:cubicBezTo>
                      <a:pt x="3477" y="1"/>
                      <a:pt x="3478" y="2"/>
                      <a:pt x="3478" y="3"/>
                    </a:cubicBezTo>
                    <a:cubicBezTo>
                      <a:pt x="3478" y="4"/>
                      <a:pt x="3477" y="5"/>
                      <a:pt x="3476" y="5"/>
                    </a:cubicBezTo>
                    <a:lnTo>
                      <a:pt x="3475" y="5"/>
                    </a:lnTo>
                    <a:cubicBezTo>
                      <a:pt x="3474" y="5"/>
                      <a:pt x="3473" y="4"/>
                      <a:pt x="3473" y="3"/>
                    </a:cubicBezTo>
                    <a:cubicBezTo>
                      <a:pt x="3473" y="2"/>
                      <a:pt x="3474" y="1"/>
                      <a:pt x="3475" y="1"/>
                    </a:cubicBezTo>
                    <a:close/>
                    <a:moveTo>
                      <a:pt x="3484" y="1"/>
                    </a:moveTo>
                    <a:lnTo>
                      <a:pt x="3484" y="1"/>
                    </a:lnTo>
                    <a:cubicBezTo>
                      <a:pt x="3485" y="1"/>
                      <a:pt x="3486" y="2"/>
                      <a:pt x="3486" y="3"/>
                    </a:cubicBezTo>
                    <a:cubicBezTo>
                      <a:pt x="3486" y="4"/>
                      <a:pt x="3485" y="5"/>
                      <a:pt x="3484" y="5"/>
                    </a:cubicBezTo>
                    <a:lnTo>
                      <a:pt x="3484" y="5"/>
                    </a:lnTo>
                    <a:cubicBezTo>
                      <a:pt x="3482" y="5"/>
                      <a:pt x="3482" y="4"/>
                      <a:pt x="3482" y="3"/>
                    </a:cubicBezTo>
                    <a:cubicBezTo>
                      <a:pt x="3482" y="2"/>
                      <a:pt x="3482" y="1"/>
                      <a:pt x="3484" y="1"/>
                    </a:cubicBezTo>
                    <a:close/>
                    <a:moveTo>
                      <a:pt x="3492" y="1"/>
                    </a:moveTo>
                    <a:lnTo>
                      <a:pt x="3492" y="1"/>
                    </a:lnTo>
                    <a:cubicBezTo>
                      <a:pt x="3493" y="1"/>
                      <a:pt x="3494" y="2"/>
                      <a:pt x="3494" y="3"/>
                    </a:cubicBezTo>
                    <a:cubicBezTo>
                      <a:pt x="3494" y="4"/>
                      <a:pt x="3493" y="5"/>
                      <a:pt x="3492" y="5"/>
                    </a:cubicBezTo>
                    <a:lnTo>
                      <a:pt x="3492" y="5"/>
                    </a:lnTo>
                    <a:cubicBezTo>
                      <a:pt x="3490" y="5"/>
                      <a:pt x="3490" y="4"/>
                      <a:pt x="3490" y="3"/>
                    </a:cubicBezTo>
                    <a:cubicBezTo>
                      <a:pt x="3490" y="2"/>
                      <a:pt x="3490" y="1"/>
                      <a:pt x="3492" y="1"/>
                    </a:cubicBezTo>
                    <a:close/>
                    <a:moveTo>
                      <a:pt x="3500" y="1"/>
                    </a:moveTo>
                    <a:lnTo>
                      <a:pt x="3500" y="1"/>
                    </a:lnTo>
                    <a:cubicBezTo>
                      <a:pt x="3501" y="1"/>
                      <a:pt x="3502" y="2"/>
                      <a:pt x="3502" y="3"/>
                    </a:cubicBezTo>
                    <a:cubicBezTo>
                      <a:pt x="3502" y="4"/>
                      <a:pt x="3501" y="5"/>
                      <a:pt x="3500" y="5"/>
                    </a:cubicBezTo>
                    <a:lnTo>
                      <a:pt x="3500" y="5"/>
                    </a:lnTo>
                    <a:cubicBezTo>
                      <a:pt x="3498" y="5"/>
                      <a:pt x="3498" y="4"/>
                      <a:pt x="3498" y="3"/>
                    </a:cubicBezTo>
                    <a:cubicBezTo>
                      <a:pt x="3498" y="2"/>
                      <a:pt x="3498" y="1"/>
                      <a:pt x="3500" y="1"/>
                    </a:cubicBezTo>
                    <a:close/>
                    <a:moveTo>
                      <a:pt x="3508" y="1"/>
                    </a:moveTo>
                    <a:lnTo>
                      <a:pt x="3508" y="1"/>
                    </a:lnTo>
                    <a:cubicBezTo>
                      <a:pt x="3509" y="1"/>
                      <a:pt x="3510" y="2"/>
                      <a:pt x="3510" y="3"/>
                    </a:cubicBezTo>
                    <a:cubicBezTo>
                      <a:pt x="3510" y="4"/>
                      <a:pt x="3509" y="5"/>
                      <a:pt x="3508" y="5"/>
                    </a:cubicBezTo>
                    <a:lnTo>
                      <a:pt x="3508" y="5"/>
                    </a:lnTo>
                    <a:cubicBezTo>
                      <a:pt x="3506" y="5"/>
                      <a:pt x="3506" y="4"/>
                      <a:pt x="3506" y="3"/>
                    </a:cubicBezTo>
                    <a:cubicBezTo>
                      <a:pt x="3506" y="2"/>
                      <a:pt x="3506" y="1"/>
                      <a:pt x="3508" y="1"/>
                    </a:cubicBezTo>
                    <a:close/>
                    <a:moveTo>
                      <a:pt x="3516" y="1"/>
                    </a:moveTo>
                    <a:lnTo>
                      <a:pt x="3516" y="1"/>
                    </a:lnTo>
                    <a:cubicBezTo>
                      <a:pt x="3517" y="1"/>
                      <a:pt x="3518" y="2"/>
                      <a:pt x="3518" y="3"/>
                    </a:cubicBezTo>
                    <a:cubicBezTo>
                      <a:pt x="3518" y="4"/>
                      <a:pt x="3517" y="5"/>
                      <a:pt x="3516" y="5"/>
                    </a:cubicBezTo>
                    <a:lnTo>
                      <a:pt x="3516" y="5"/>
                    </a:lnTo>
                    <a:cubicBezTo>
                      <a:pt x="3514" y="5"/>
                      <a:pt x="3514" y="4"/>
                      <a:pt x="3514" y="3"/>
                    </a:cubicBezTo>
                    <a:cubicBezTo>
                      <a:pt x="3514" y="2"/>
                      <a:pt x="3514" y="1"/>
                      <a:pt x="3516" y="1"/>
                    </a:cubicBezTo>
                    <a:close/>
                    <a:moveTo>
                      <a:pt x="3524" y="1"/>
                    </a:moveTo>
                    <a:lnTo>
                      <a:pt x="3524" y="1"/>
                    </a:lnTo>
                    <a:cubicBezTo>
                      <a:pt x="3525" y="1"/>
                      <a:pt x="3526" y="2"/>
                      <a:pt x="3526" y="3"/>
                    </a:cubicBezTo>
                    <a:cubicBezTo>
                      <a:pt x="3526" y="4"/>
                      <a:pt x="3525" y="5"/>
                      <a:pt x="3524" y="5"/>
                    </a:cubicBezTo>
                    <a:lnTo>
                      <a:pt x="3524" y="5"/>
                    </a:lnTo>
                    <a:cubicBezTo>
                      <a:pt x="3522" y="5"/>
                      <a:pt x="3522" y="4"/>
                      <a:pt x="3522" y="3"/>
                    </a:cubicBezTo>
                    <a:cubicBezTo>
                      <a:pt x="3522" y="2"/>
                      <a:pt x="3522" y="1"/>
                      <a:pt x="3524" y="1"/>
                    </a:cubicBezTo>
                    <a:close/>
                    <a:moveTo>
                      <a:pt x="3532" y="1"/>
                    </a:moveTo>
                    <a:lnTo>
                      <a:pt x="3532" y="1"/>
                    </a:lnTo>
                    <a:cubicBezTo>
                      <a:pt x="3533" y="1"/>
                      <a:pt x="3534" y="2"/>
                      <a:pt x="3534" y="3"/>
                    </a:cubicBezTo>
                    <a:cubicBezTo>
                      <a:pt x="3534" y="4"/>
                      <a:pt x="3533" y="5"/>
                      <a:pt x="3532" y="5"/>
                    </a:cubicBezTo>
                    <a:lnTo>
                      <a:pt x="3532" y="5"/>
                    </a:lnTo>
                    <a:cubicBezTo>
                      <a:pt x="3530" y="5"/>
                      <a:pt x="3530" y="4"/>
                      <a:pt x="3530" y="3"/>
                    </a:cubicBezTo>
                    <a:cubicBezTo>
                      <a:pt x="3530" y="2"/>
                      <a:pt x="3530" y="1"/>
                      <a:pt x="3532" y="1"/>
                    </a:cubicBezTo>
                    <a:close/>
                    <a:moveTo>
                      <a:pt x="3540" y="1"/>
                    </a:moveTo>
                    <a:lnTo>
                      <a:pt x="3540" y="1"/>
                    </a:lnTo>
                    <a:cubicBezTo>
                      <a:pt x="3541" y="1"/>
                      <a:pt x="3542" y="2"/>
                      <a:pt x="3542" y="3"/>
                    </a:cubicBezTo>
                    <a:cubicBezTo>
                      <a:pt x="3542" y="4"/>
                      <a:pt x="3541" y="5"/>
                      <a:pt x="3540" y="5"/>
                    </a:cubicBezTo>
                    <a:lnTo>
                      <a:pt x="3540" y="5"/>
                    </a:lnTo>
                    <a:cubicBezTo>
                      <a:pt x="3538" y="5"/>
                      <a:pt x="3538" y="4"/>
                      <a:pt x="3538" y="3"/>
                    </a:cubicBezTo>
                    <a:cubicBezTo>
                      <a:pt x="3538" y="2"/>
                      <a:pt x="3538" y="1"/>
                      <a:pt x="3540" y="1"/>
                    </a:cubicBezTo>
                    <a:close/>
                    <a:moveTo>
                      <a:pt x="3548" y="1"/>
                    </a:moveTo>
                    <a:lnTo>
                      <a:pt x="3548" y="1"/>
                    </a:lnTo>
                    <a:cubicBezTo>
                      <a:pt x="3549" y="1"/>
                      <a:pt x="3550" y="2"/>
                      <a:pt x="3550" y="3"/>
                    </a:cubicBezTo>
                    <a:cubicBezTo>
                      <a:pt x="3550" y="4"/>
                      <a:pt x="3549" y="5"/>
                      <a:pt x="3548" y="5"/>
                    </a:cubicBezTo>
                    <a:lnTo>
                      <a:pt x="3548" y="5"/>
                    </a:lnTo>
                    <a:cubicBezTo>
                      <a:pt x="3546" y="5"/>
                      <a:pt x="3546" y="4"/>
                      <a:pt x="3546" y="3"/>
                    </a:cubicBezTo>
                    <a:cubicBezTo>
                      <a:pt x="3546" y="2"/>
                      <a:pt x="3546" y="1"/>
                      <a:pt x="3548" y="1"/>
                    </a:cubicBezTo>
                    <a:close/>
                    <a:moveTo>
                      <a:pt x="3556" y="1"/>
                    </a:moveTo>
                    <a:lnTo>
                      <a:pt x="3556" y="1"/>
                    </a:lnTo>
                    <a:cubicBezTo>
                      <a:pt x="3557" y="1"/>
                      <a:pt x="3558" y="2"/>
                      <a:pt x="3558" y="3"/>
                    </a:cubicBezTo>
                    <a:cubicBezTo>
                      <a:pt x="3558" y="4"/>
                      <a:pt x="3557" y="5"/>
                      <a:pt x="3556" y="5"/>
                    </a:cubicBezTo>
                    <a:lnTo>
                      <a:pt x="3556" y="5"/>
                    </a:lnTo>
                    <a:cubicBezTo>
                      <a:pt x="3554" y="5"/>
                      <a:pt x="3554" y="4"/>
                      <a:pt x="3554" y="3"/>
                    </a:cubicBezTo>
                    <a:cubicBezTo>
                      <a:pt x="3554" y="2"/>
                      <a:pt x="3554" y="1"/>
                      <a:pt x="3556" y="1"/>
                    </a:cubicBezTo>
                    <a:close/>
                    <a:moveTo>
                      <a:pt x="3564" y="1"/>
                    </a:moveTo>
                    <a:lnTo>
                      <a:pt x="3564" y="1"/>
                    </a:lnTo>
                    <a:cubicBezTo>
                      <a:pt x="3565" y="1"/>
                      <a:pt x="3566" y="2"/>
                      <a:pt x="3566" y="3"/>
                    </a:cubicBezTo>
                    <a:cubicBezTo>
                      <a:pt x="3566" y="4"/>
                      <a:pt x="3565" y="5"/>
                      <a:pt x="3564" y="5"/>
                    </a:cubicBezTo>
                    <a:lnTo>
                      <a:pt x="3564" y="5"/>
                    </a:lnTo>
                    <a:cubicBezTo>
                      <a:pt x="3562" y="5"/>
                      <a:pt x="3562" y="4"/>
                      <a:pt x="3562" y="3"/>
                    </a:cubicBezTo>
                    <a:cubicBezTo>
                      <a:pt x="3562" y="2"/>
                      <a:pt x="3562" y="1"/>
                      <a:pt x="3564" y="1"/>
                    </a:cubicBezTo>
                    <a:close/>
                    <a:moveTo>
                      <a:pt x="3572" y="1"/>
                    </a:moveTo>
                    <a:lnTo>
                      <a:pt x="3572" y="1"/>
                    </a:lnTo>
                    <a:cubicBezTo>
                      <a:pt x="3573" y="1"/>
                      <a:pt x="3574" y="2"/>
                      <a:pt x="3574" y="3"/>
                    </a:cubicBezTo>
                    <a:cubicBezTo>
                      <a:pt x="3574" y="4"/>
                      <a:pt x="3573" y="5"/>
                      <a:pt x="3572" y="5"/>
                    </a:cubicBezTo>
                    <a:lnTo>
                      <a:pt x="3572" y="5"/>
                    </a:lnTo>
                    <a:cubicBezTo>
                      <a:pt x="3570" y="5"/>
                      <a:pt x="3570" y="4"/>
                      <a:pt x="3570" y="3"/>
                    </a:cubicBezTo>
                    <a:cubicBezTo>
                      <a:pt x="3570" y="2"/>
                      <a:pt x="3570" y="1"/>
                      <a:pt x="3572" y="1"/>
                    </a:cubicBezTo>
                    <a:close/>
                    <a:moveTo>
                      <a:pt x="3580" y="1"/>
                    </a:moveTo>
                    <a:lnTo>
                      <a:pt x="3580" y="1"/>
                    </a:lnTo>
                    <a:cubicBezTo>
                      <a:pt x="3581" y="1"/>
                      <a:pt x="3582" y="2"/>
                      <a:pt x="3582" y="3"/>
                    </a:cubicBezTo>
                    <a:cubicBezTo>
                      <a:pt x="3582" y="4"/>
                      <a:pt x="3581" y="5"/>
                      <a:pt x="3580" y="5"/>
                    </a:cubicBezTo>
                    <a:lnTo>
                      <a:pt x="3580" y="5"/>
                    </a:lnTo>
                    <a:cubicBezTo>
                      <a:pt x="3578" y="5"/>
                      <a:pt x="3578" y="4"/>
                      <a:pt x="3578" y="3"/>
                    </a:cubicBezTo>
                    <a:cubicBezTo>
                      <a:pt x="3578" y="2"/>
                      <a:pt x="3578" y="1"/>
                      <a:pt x="3580" y="1"/>
                    </a:cubicBezTo>
                    <a:close/>
                    <a:moveTo>
                      <a:pt x="3588" y="1"/>
                    </a:moveTo>
                    <a:lnTo>
                      <a:pt x="3588" y="1"/>
                    </a:lnTo>
                    <a:cubicBezTo>
                      <a:pt x="3589" y="1"/>
                      <a:pt x="3590" y="2"/>
                      <a:pt x="3590" y="3"/>
                    </a:cubicBezTo>
                    <a:cubicBezTo>
                      <a:pt x="3590" y="4"/>
                      <a:pt x="3589" y="5"/>
                      <a:pt x="3588" y="5"/>
                    </a:cubicBezTo>
                    <a:lnTo>
                      <a:pt x="3588" y="5"/>
                    </a:lnTo>
                    <a:cubicBezTo>
                      <a:pt x="3586" y="5"/>
                      <a:pt x="3586" y="4"/>
                      <a:pt x="3586" y="3"/>
                    </a:cubicBezTo>
                    <a:cubicBezTo>
                      <a:pt x="3586" y="2"/>
                      <a:pt x="3586" y="1"/>
                      <a:pt x="3588" y="1"/>
                    </a:cubicBezTo>
                    <a:close/>
                    <a:moveTo>
                      <a:pt x="3596" y="1"/>
                    </a:moveTo>
                    <a:lnTo>
                      <a:pt x="3596" y="1"/>
                    </a:lnTo>
                    <a:cubicBezTo>
                      <a:pt x="3597" y="1"/>
                      <a:pt x="3598" y="2"/>
                      <a:pt x="3598" y="3"/>
                    </a:cubicBezTo>
                    <a:cubicBezTo>
                      <a:pt x="3598" y="4"/>
                      <a:pt x="3597" y="5"/>
                      <a:pt x="3596" y="5"/>
                    </a:cubicBezTo>
                    <a:lnTo>
                      <a:pt x="3596" y="5"/>
                    </a:lnTo>
                    <a:cubicBezTo>
                      <a:pt x="3594" y="5"/>
                      <a:pt x="3594" y="4"/>
                      <a:pt x="3594" y="3"/>
                    </a:cubicBezTo>
                    <a:cubicBezTo>
                      <a:pt x="3594" y="2"/>
                      <a:pt x="3594" y="1"/>
                      <a:pt x="3596" y="1"/>
                    </a:cubicBezTo>
                    <a:close/>
                    <a:moveTo>
                      <a:pt x="3604" y="1"/>
                    </a:moveTo>
                    <a:lnTo>
                      <a:pt x="3604" y="1"/>
                    </a:lnTo>
                    <a:cubicBezTo>
                      <a:pt x="3605" y="1"/>
                      <a:pt x="3606" y="2"/>
                      <a:pt x="3606" y="3"/>
                    </a:cubicBezTo>
                    <a:cubicBezTo>
                      <a:pt x="3606" y="4"/>
                      <a:pt x="3605" y="5"/>
                      <a:pt x="3604" y="5"/>
                    </a:cubicBezTo>
                    <a:lnTo>
                      <a:pt x="3604" y="5"/>
                    </a:lnTo>
                    <a:cubicBezTo>
                      <a:pt x="3602" y="5"/>
                      <a:pt x="3602" y="4"/>
                      <a:pt x="3602" y="3"/>
                    </a:cubicBezTo>
                    <a:cubicBezTo>
                      <a:pt x="3602" y="2"/>
                      <a:pt x="3602" y="1"/>
                      <a:pt x="3604" y="1"/>
                    </a:cubicBezTo>
                    <a:close/>
                    <a:moveTo>
                      <a:pt x="3612" y="1"/>
                    </a:moveTo>
                    <a:lnTo>
                      <a:pt x="3612" y="1"/>
                    </a:lnTo>
                    <a:cubicBezTo>
                      <a:pt x="3613" y="1"/>
                      <a:pt x="3614" y="2"/>
                      <a:pt x="3614" y="3"/>
                    </a:cubicBezTo>
                    <a:cubicBezTo>
                      <a:pt x="3614" y="4"/>
                      <a:pt x="3613" y="5"/>
                      <a:pt x="3612" y="5"/>
                    </a:cubicBezTo>
                    <a:lnTo>
                      <a:pt x="3612" y="5"/>
                    </a:lnTo>
                    <a:cubicBezTo>
                      <a:pt x="3610" y="5"/>
                      <a:pt x="3610" y="4"/>
                      <a:pt x="3610" y="3"/>
                    </a:cubicBezTo>
                    <a:cubicBezTo>
                      <a:pt x="3610" y="2"/>
                      <a:pt x="3610" y="1"/>
                      <a:pt x="3612" y="1"/>
                    </a:cubicBezTo>
                    <a:close/>
                    <a:moveTo>
                      <a:pt x="3620" y="1"/>
                    </a:moveTo>
                    <a:lnTo>
                      <a:pt x="3620" y="1"/>
                    </a:lnTo>
                    <a:cubicBezTo>
                      <a:pt x="3621" y="1"/>
                      <a:pt x="3622" y="2"/>
                      <a:pt x="3622" y="3"/>
                    </a:cubicBezTo>
                    <a:cubicBezTo>
                      <a:pt x="3622" y="4"/>
                      <a:pt x="3621" y="5"/>
                      <a:pt x="3620" y="5"/>
                    </a:cubicBezTo>
                    <a:lnTo>
                      <a:pt x="3620" y="5"/>
                    </a:lnTo>
                    <a:cubicBezTo>
                      <a:pt x="3618" y="5"/>
                      <a:pt x="3618" y="4"/>
                      <a:pt x="3618" y="3"/>
                    </a:cubicBezTo>
                    <a:cubicBezTo>
                      <a:pt x="3618" y="2"/>
                      <a:pt x="3618" y="1"/>
                      <a:pt x="3620" y="1"/>
                    </a:cubicBezTo>
                    <a:close/>
                    <a:moveTo>
                      <a:pt x="3628" y="1"/>
                    </a:moveTo>
                    <a:lnTo>
                      <a:pt x="3628" y="1"/>
                    </a:lnTo>
                    <a:cubicBezTo>
                      <a:pt x="3629" y="1"/>
                      <a:pt x="3630" y="2"/>
                      <a:pt x="3630" y="3"/>
                    </a:cubicBezTo>
                    <a:cubicBezTo>
                      <a:pt x="3630" y="4"/>
                      <a:pt x="3629" y="5"/>
                      <a:pt x="3628" y="5"/>
                    </a:cubicBezTo>
                    <a:lnTo>
                      <a:pt x="3628" y="5"/>
                    </a:lnTo>
                    <a:cubicBezTo>
                      <a:pt x="3626" y="5"/>
                      <a:pt x="3626" y="4"/>
                      <a:pt x="3626" y="3"/>
                    </a:cubicBezTo>
                    <a:cubicBezTo>
                      <a:pt x="3626" y="2"/>
                      <a:pt x="3626" y="1"/>
                      <a:pt x="3628" y="1"/>
                    </a:cubicBezTo>
                    <a:close/>
                    <a:moveTo>
                      <a:pt x="3636" y="1"/>
                    </a:moveTo>
                    <a:lnTo>
                      <a:pt x="3636" y="1"/>
                    </a:lnTo>
                    <a:cubicBezTo>
                      <a:pt x="3637" y="1"/>
                      <a:pt x="3638" y="2"/>
                      <a:pt x="3638" y="3"/>
                    </a:cubicBezTo>
                    <a:cubicBezTo>
                      <a:pt x="3638" y="4"/>
                      <a:pt x="3637" y="5"/>
                      <a:pt x="3636" y="5"/>
                    </a:cubicBezTo>
                    <a:lnTo>
                      <a:pt x="3636" y="5"/>
                    </a:lnTo>
                    <a:cubicBezTo>
                      <a:pt x="3634" y="5"/>
                      <a:pt x="3634" y="4"/>
                      <a:pt x="3634" y="3"/>
                    </a:cubicBezTo>
                    <a:cubicBezTo>
                      <a:pt x="3634" y="2"/>
                      <a:pt x="3634" y="1"/>
                      <a:pt x="3636" y="1"/>
                    </a:cubicBezTo>
                    <a:close/>
                    <a:moveTo>
                      <a:pt x="3644" y="1"/>
                    </a:moveTo>
                    <a:lnTo>
                      <a:pt x="3644" y="1"/>
                    </a:lnTo>
                    <a:cubicBezTo>
                      <a:pt x="3645" y="1"/>
                      <a:pt x="3646" y="2"/>
                      <a:pt x="3646" y="3"/>
                    </a:cubicBezTo>
                    <a:cubicBezTo>
                      <a:pt x="3646" y="4"/>
                      <a:pt x="3645" y="5"/>
                      <a:pt x="3644" y="5"/>
                    </a:cubicBezTo>
                    <a:lnTo>
                      <a:pt x="3644" y="5"/>
                    </a:lnTo>
                    <a:cubicBezTo>
                      <a:pt x="3642" y="5"/>
                      <a:pt x="3642" y="4"/>
                      <a:pt x="3642" y="3"/>
                    </a:cubicBezTo>
                    <a:cubicBezTo>
                      <a:pt x="3642" y="2"/>
                      <a:pt x="3642" y="1"/>
                      <a:pt x="3644" y="1"/>
                    </a:cubicBezTo>
                    <a:close/>
                    <a:moveTo>
                      <a:pt x="3652" y="1"/>
                    </a:moveTo>
                    <a:lnTo>
                      <a:pt x="3652" y="1"/>
                    </a:lnTo>
                    <a:cubicBezTo>
                      <a:pt x="3653" y="1"/>
                      <a:pt x="3654" y="2"/>
                      <a:pt x="3654" y="3"/>
                    </a:cubicBezTo>
                    <a:cubicBezTo>
                      <a:pt x="3654" y="4"/>
                      <a:pt x="3653" y="5"/>
                      <a:pt x="3652" y="5"/>
                    </a:cubicBezTo>
                    <a:lnTo>
                      <a:pt x="3652" y="5"/>
                    </a:lnTo>
                    <a:cubicBezTo>
                      <a:pt x="3650" y="5"/>
                      <a:pt x="3650" y="4"/>
                      <a:pt x="3650" y="3"/>
                    </a:cubicBezTo>
                    <a:cubicBezTo>
                      <a:pt x="3650" y="2"/>
                      <a:pt x="3650" y="1"/>
                      <a:pt x="3652" y="1"/>
                    </a:cubicBezTo>
                    <a:close/>
                    <a:moveTo>
                      <a:pt x="3660" y="1"/>
                    </a:moveTo>
                    <a:lnTo>
                      <a:pt x="3660" y="1"/>
                    </a:lnTo>
                    <a:cubicBezTo>
                      <a:pt x="3661" y="1"/>
                      <a:pt x="3662" y="2"/>
                      <a:pt x="3662" y="3"/>
                    </a:cubicBezTo>
                    <a:cubicBezTo>
                      <a:pt x="3662" y="4"/>
                      <a:pt x="3661" y="5"/>
                      <a:pt x="3660" y="5"/>
                    </a:cubicBezTo>
                    <a:lnTo>
                      <a:pt x="3660" y="5"/>
                    </a:lnTo>
                    <a:cubicBezTo>
                      <a:pt x="3658" y="5"/>
                      <a:pt x="3658" y="4"/>
                      <a:pt x="3658" y="3"/>
                    </a:cubicBezTo>
                    <a:cubicBezTo>
                      <a:pt x="3658" y="2"/>
                      <a:pt x="3658" y="1"/>
                      <a:pt x="3660" y="1"/>
                    </a:cubicBezTo>
                    <a:close/>
                    <a:moveTo>
                      <a:pt x="3668" y="1"/>
                    </a:moveTo>
                    <a:lnTo>
                      <a:pt x="3668" y="1"/>
                    </a:lnTo>
                    <a:cubicBezTo>
                      <a:pt x="3669" y="1"/>
                      <a:pt x="3670" y="2"/>
                      <a:pt x="3670" y="3"/>
                    </a:cubicBezTo>
                    <a:cubicBezTo>
                      <a:pt x="3670" y="4"/>
                      <a:pt x="3669" y="5"/>
                      <a:pt x="3668" y="5"/>
                    </a:cubicBezTo>
                    <a:lnTo>
                      <a:pt x="3668" y="5"/>
                    </a:lnTo>
                    <a:cubicBezTo>
                      <a:pt x="3666" y="5"/>
                      <a:pt x="3666" y="4"/>
                      <a:pt x="3666" y="3"/>
                    </a:cubicBezTo>
                    <a:cubicBezTo>
                      <a:pt x="3666" y="2"/>
                      <a:pt x="3666" y="1"/>
                      <a:pt x="3668" y="1"/>
                    </a:cubicBezTo>
                    <a:close/>
                    <a:moveTo>
                      <a:pt x="3676" y="1"/>
                    </a:moveTo>
                    <a:lnTo>
                      <a:pt x="3676" y="1"/>
                    </a:lnTo>
                    <a:cubicBezTo>
                      <a:pt x="3677" y="1"/>
                      <a:pt x="3678" y="2"/>
                      <a:pt x="3678" y="3"/>
                    </a:cubicBezTo>
                    <a:cubicBezTo>
                      <a:pt x="3678" y="4"/>
                      <a:pt x="3677" y="5"/>
                      <a:pt x="3676" y="5"/>
                    </a:cubicBezTo>
                    <a:lnTo>
                      <a:pt x="3676" y="5"/>
                    </a:lnTo>
                    <a:cubicBezTo>
                      <a:pt x="3674" y="5"/>
                      <a:pt x="3674" y="4"/>
                      <a:pt x="3674" y="3"/>
                    </a:cubicBezTo>
                    <a:cubicBezTo>
                      <a:pt x="3674" y="2"/>
                      <a:pt x="3674" y="1"/>
                      <a:pt x="3676" y="1"/>
                    </a:cubicBezTo>
                    <a:close/>
                    <a:moveTo>
                      <a:pt x="3684" y="1"/>
                    </a:moveTo>
                    <a:lnTo>
                      <a:pt x="3684" y="1"/>
                    </a:lnTo>
                    <a:cubicBezTo>
                      <a:pt x="3685" y="1"/>
                      <a:pt x="3686" y="2"/>
                      <a:pt x="3686" y="3"/>
                    </a:cubicBezTo>
                    <a:cubicBezTo>
                      <a:pt x="3686" y="4"/>
                      <a:pt x="3685" y="5"/>
                      <a:pt x="3684" y="5"/>
                    </a:cubicBezTo>
                    <a:lnTo>
                      <a:pt x="3684" y="5"/>
                    </a:lnTo>
                    <a:cubicBezTo>
                      <a:pt x="3682" y="5"/>
                      <a:pt x="3682" y="4"/>
                      <a:pt x="3682" y="3"/>
                    </a:cubicBezTo>
                    <a:cubicBezTo>
                      <a:pt x="3682" y="2"/>
                      <a:pt x="3682" y="1"/>
                      <a:pt x="3684" y="1"/>
                    </a:cubicBezTo>
                    <a:close/>
                    <a:moveTo>
                      <a:pt x="3692" y="1"/>
                    </a:moveTo>
                    <a:lnTo>
                      <a:pt x="3692" y="1"/>
                    </a:lnTo>
                    <a:cubicBezTo>
                      <a:pt x="3693" y="1"/>
                      <a:pt x="3694" y="2"/>
                      <a:pt x="3694" y="3"/>
                    </a:cubicBezTo>
                    <a:cubicBezTo>
                      <a:pt x="3694" y="4"/>
                      <a:pt x="3693" y="5"/>
                      <a:pt x="3692" y="5"/>
                    </a:cubicBezTo>
                    <a:lnTo>
                      <a:pt x="3692" y="5"/>
                    </a:lnTo>
                    <a:cubicBezTo>
                      <a:pt x="3690" y="5"/>
                      <a:pt x="3690" y="4"/>
                      <a:pt x="3690" y="3"/>
                    </a:cubicBezTo>
                    <a:cubicBezTo>
                      <a:pt x="3690" y="2"/>
                      <a:pt x="3690" y="1"/>
                      <a:pt x="3692" y="1"/>
                    </a:cubicBezTo>
                    <a:close/>
                    <a:moveTo>
                      <a:pt x="3700" y="1"/>
                    </a:moveTo>
                    <a:lnTo>
                      <a:pt x="3700" y="1"/>
                    </a:lnTo>
                    <a:cubicBezTo>
                      <a:pt x="3701" y="1"/>
                      <a:pt x="3702" y="2"/>
                      <a:pt x="3702" y="3"/>
                    </a:cubicBezTo>
                    <a:cubicBezTo>
                      <a:pt x="3702" y="4"/>
                      <a:pt x="3701" y="5"/>
                      <a:pt x="3700" y="5"/>
                    </a:cubicBezTo>
                    <a:lnTo>
                      <a:pt x="3700" y="5"/>
                    </a:lnTo>
                    <a:cubicBezTo>
                      <a:pt x="3699" y="5"/>
                      <a:pt x="3698" y="4"/>
                      <a:pt x="3698" y="3"/>
                    </a:cubicBezTo>
                    <a:cubicBezTo>
                      <a:pt x="3698" y="2"/>
                      <a:pt x="3699" y="1"/>
                      <a:pt x="3700" y="1"/>
                    </a:cubicBezTo>
                    <a:close/>
                    <a:moveTo>
                      <a:pt x="3708" y="1"/>
                    </a:moveTo>
                    <a:lnTo>
                      <a:pt x="3708" y="1"/>
                    </a:lnTo>
                    <a:cubicBezTo>
                      <a:pt x="3709" y="1"/>
                      <a:pt x="3710" y="2"/>
                      <a:pt x="3710" y="3"/>
                    </a:cubicBezTo>
                    <a:cubicBezTo>
                      <a:pt x="3710" y="4"/>
                      <a:pt x="3709" y="5"/>
                      <a:pt x="3708" y="5"/>
                    </a:cubicBezTo>
                    <a:lnTo>
                      <a:pt x="3708" y="5"/>
                    </a:lnTo>
                    <a:cubicBezTo>
                      <a:pt x="3707" y="5"/>
                      <a:pt x="3706" y="4"/>
                      <a:pt x="3706" y="3"/>
                    </a:cubicBezTo>
                    <a:cubicBezTo>
                      <a:pt x="3706" y="2"/>
                      <a:pt x="3707" y="1"/>
                      <a:pt x="3708" y="1"/>
                    </a:cubicBezTo>
                    <a:close/>
                    <a:moveTo>
                      <a:pt x="3716" y="1"/>
                    </a:moveTo>
                    <a:lnTo>
                      <a:pt x="3716" y="1"/>
                    </a:lnTo>
                    <a:cubicBezTo>
                      <a:pt x="3717" y="1"/>
                      <a:pt x="3718" y="2"/>
                      <a:pt x="3718" y="3"/>
                    </a:cubicBezTo>
                    <a:cubicBezTo>
                      <a:pt x="3718" y="4"/>
                      <a:pt x="3717" y="5"/>
                      <a:pt x="3716" y="5"/>
                    </a:cubicBezTo>
                    <a:lnTo>
                      <a:pt x="3716" y="5"/>
                    </a:lnTo>
                    <a:cubicBezTo>
                      <a:pt x="3715" y="5"/>
                      <a:pt x="3714" y="4"/>
                      <a:pt x="3714" y="3"/>
                    </a:cubicBezTo>
                    <a:cubicBezTo>
                      <a:pt x="3714" y="2"/>
                      <a:pt x="3715" y="1"/>
                      <a:pt x="3716" y="1"/>
                    </a:cubicBezTo>
                    <a:close/>
                    <a:moveTo>
                      <a:pt x="3724" y="1"/>
                    </a:moveTo>
                    <a:lnTo>
                      <a:pt x="3724" y="1"/>
                    </a:lnTo>
                    <a:cubicBezTo>
                      <a:pt x="3725" y="1"/>
                      <a:pt x="3726" y="2"/>
                      <a:pt x="3726" y="3"/>
                    </a:cubicBezTo>
                    <a:cubicBezTo>
                      <a:pt x="3726" y="4"/>
                      <a:pt x="3725" y="5"/>
                      <a:pt x="3724" y="5"/>
                    </a:cubicBezTo>
                    <a:lnTo>
                      <a:pt x="3724" y="5"/>
                    </a:lnTo>
                    <a:cubicBezTo>
                      <a:pt x="3723" y="5"/>
                      <a:pt x="3722" y="4"/>
                      <a:pt x="3722" y="3"/>
                    </a:cubicBezTo>
                    <a:cubicBezTo>
                      <a:pt x="3722" y="2"/>
                      <a:pt x="3723" y="1"/>
                      <a:pt x="3724" y="1"/>
                    </a:cubicBezTo>
                    <a:close/>
                    <a:moveTo>
                      <a:pt x="3732" y="1"/>
                    </a:moveTo>
                    <a:lnTo>
                      <a:pt x="3732" y="1"/>
                    </a:lnTo>
                    <a:cubicBezTo>
                      <a:pt x="3733" y="1"/>
                      <a:pt x="3734" y="2"/>
                      <a:pt x="3734" y="3"/>
                    </a:cubicBezTo>
                    <a:cubicBezTo>
                      <a:pt x="3734" y="4"/>
                      <a:pt x="3733" y="5"/>
                      <a:pt x="3732" y="5"/>
                    </a:cubicBezTo>
                    <a:lnTo>
                      <a:pt x="3732" y="5"/>
                    </a:lnTo>
                    <a:cubicBezTo>
                      <a:pt x="3731" y="5"/>
                      <a:pt x="3730" y="4"/>
                      <a:pt x="3730" y="3"/>
                    </a:cubicBezTo>
                    <a:cubicBezTo>
                      <a:pt x="3730" y="2"/>
                      <a:pt x="3731" y="1"/>
                      <a:pt x="3732" y="1"/>
                    </a:cubicBezTo>
                    <a:close/>
                    <a:moveTo>
                      <a:pt x="3740" y="1"/>
                    </a:moveTo>
                    <a:lnTo>
                      <a:pt x="3740" y="1"/>
                    </a:lnTo>
                    <a:cubicBezTo>
                      <a:pt x="3741" y="1"/>
                      <a:pt x="3742" y="2"/>
                      <a:pt x="3742" y="3"/>
                    </a:cubicBezTo>
                    <a:cubicBezTo>
                      <a:pt x="3742" y="4"/>
                      <a:pt x="3741" y="5"/>
                      <a:pt x="3740" y="5"/>
                    </a:cubicBezTo>
                    <a:lnTo>
                      <a:pt x="3740" y="5"/>
                    </a:lnTo>
                    <a:cubicBezTo>
                      <a:pt x="3739" y="5"/>
                      <a:pt x="3738" y="4"/>
                      <a:pt x="3738" y="3"/>
                    </a:cubicBezTo>
                    <a:cubicBezTo>
                      <a:pt x="3738" y="2"/>
                      <a:pt x="3739" y="1"/>
                      <a:pt x="3740" y="1"/>
                    </a:cubicBezTo>
                    <a:close/>
                    <a:moveTo>
                      <a:pt x="3748" y="1"/>
                    </a:moveTo>
                    <a:lnTo>
                      <a:pt x="3748" y="1"/>
                    </a:lnTo>
                    <a:cubicBezTo>
                      <a:pt x="3749" y="1"/>
                      <a:pt x="3750" y="2"/>
                      <a:pt x="3750" y="3"/>
                    </a:cubicBezTo>
                    <a:cubicBezTo>
                      <a:pt x="3750" y="4"/>
                      <a:pt x="3749" y="5"/>
                      <a:pt x="3748" y="5"/>
                    </a:cubicBezTo>
                    <a:lnTo>
                      <a:pt x="3748" y="5"/>
                    </a:lnTo>
                    <a:cubicBezTo>
                      <a:pt x="3747" y="5"/>
                      <a:pt x="3746" y="4"/>
                      <a:pt x="3746" y="3"/>
                    </a:cubicBezTo>
                    <a:cubicBezTo>
                      <a:pt x="3746" y="2"/>
                      <a:pt x="3747" y="1"/>
                      <a:pt x="3748" y="1"/>
                    </a:cubicBezTo>
                    <a:close/>
                    <a:moveTo>
                      <a:pt x="3756" y="1"/>
                    </a:moveTo>
                    <a:lnTo>
                      <a:pt x="3756" y="1"/>
                    </a:lnTo>
                    <a:cubicBezTo>
                      <a:pt x="3757" y="1"/>
                      <a:pt x="3758" y="2"/>
                      <a:pt x="3758" y="3"/>
                    </a:cubicBezTo>
                    <a:cubicBezTo>
                      <a:pt x="3758" y="4"/>
                      <a:pt x="3757" y="5"/>
                      <a:pt x="3756" y="5"/>
                    </a:cubicBezTo>
                    <a:lnTo>
                      <a:pt x="3756" y="5"/>
                    </a:lnTo>
                    <a:cubicBezTo>
                      <a:pt x="3755" y="5"/>
                      <a:pt x="3754" y="4"/>
                      <a:pt x="3754" y="3"/>
                    </a:cubicBezTo>
                    <a:cubicBezTo>
                      <a:pt x="3754" y="2"/>
                      <a:pt x="3755" y="1"/>
                      <a:pt x="3756" y="1"/>
                    </a:cubicBezTo>
                    <a:close/>
                    <a:moveTo>
                      <a:pt x="3764" y="1"/>
                    </a:moveTo>
                    <a:lnTo>
                      <a:pt x="3764" y="1"/>
                    </a:lnTo>
                    <a:cubicBezTo>
                      <a:pt x="3765" y="1"/>
                      <a:pt x="3766" y="2"/>
                      <a:pt x="3766" y="3"/>
                    </a:cubicBezTo>
                    <a:cubicBezTo>
                      <a:pt x="3766" y="4"/>
                      <a:pt x="3765" y="5"/>
                      <a:pt x="3764" y="5"/>
                    </a:cubicBezTo>
                    <a:lnTo>
                      <a:pt x="3764" y="5"/>
                    </a:lnTo>
                    <a:cubicBezTo>
                      <a:pt x="3763" y="5"/>
                      <a:pt x="3762" y="4"/>
                      <a:pt x="3762" y="3"/>
                    </a:cubicBezTo>
                    <a:cubicBezTo>
                      <a:pt x="3762" y="2"/>
                      <a:pt x="3763" y="1"/>
                      <a:pt x="3764" y="1"/>
                    </a:cubicBezTo>
                    <a:close/>
                    <a:moveTo>
                      <a:pt x="3772" y="1"/>
                    </a:moveTo>
                    <a:lnTo>
                      <a:pt x="3772" y="1"/>
                    </a:lnTo>
                    <a:cubicBezTo>
                      <a:pt x="3773" y="1"/>
                      <a:pt x="3774" y="2"/>
                      <a:pt x="3774" y="3"/>
                    </a:cubicBezTo>
                    <a:cubicBezTo>
                      <a:pt x="3774" y="4"/>
                      <a:pt x="3773" y="5"/>
                      <a:pt x="3772" y="5"/>
                    </a:cubicBezTo>
                    <a:lnTo>
                      <a:pt x="3772" y="5"/>
                    </a:lnTo>
                    <a:cubicBezTo>
                      <a:pt x="3771" y="5"/>
                      <a:pt x="3770" y="4"/>
                      <a:pt x="3770" y="3"/>
                    </a:cubicBezTo>
                    <a:cubicBezTo>
                      <a:pt x="3770" y="2"/>
                      <a:pt x="3771" y="1"/>
                      <a:pt x="3772" y="1"/>
                    </a:cubicBezTo>
                    <a:close/>
                    <a:moveTo>
                      <a:pt x="3780" y="1"/>
                    </a:moveTo>
                    <a:lnTo>
                      <a:pt x="3780" y="1"/>
                    </a:lnTo>
                    <a:cubicBezTo>
                      <a:pt x="3781" y="1"/>
                      <a:pt x="3782" y="2"/>
                      <a:pt x="3782" y="3"/>
                    </a:cubicBezTo>
                    <a:cubicBezTo>
                      <a:pt x="3782" y="4"/>
                      <a:pt x="3781" y="5"/>
                      <a:pt x="3780" y="5"/>
                    </a:cubicBezTo>
                    <a:lnTo>
                      <a:pt x="3780" y="5"/>
                    </a:lnTo>
                    <a:cubicBezTo>
                      <a:pt x="3779" y="5"/>
                      <a:pt x="3778" y="4"/>
                      <a:pt x="3778" y="3"/>
                    </a:cubicBezTo>
                    <a:cubicBezTo>
                      <a:pt x="3778" y="2"/>
                      <a:pt x="3779" y="1"/>
                      <a:pt x="3780" y="1"/>
                    </a:cubicBezTo>
                    <a:close/>
                    <a:moveTo>
                      <a:pt x="3788" y="1"/>
                    </a:moveTo>
                    <a:lnTo>
                      <a:pt x="3788" y="1"/>
                    </a:lnTo>
                    <a:cubicBezTo>
                      <a:pt x="3789" y="1"/>
                      <a:pt x="3790" y="2"/>
                      <a:pt x="3790" y="3"/>
                    </a:cubicBezTo>
                    <a:cubicBezTo>
                      <a:pt x="3790" y="4"/>
                      <a:pt x="3789" y="5"/>
                      <a:pt x="3788" y="5"/>
                    </a:cubicBezTo>
                    <a:lnTo>
                      <a:pt x="3788" y="5"/>
                    </a:lnTo>
                    <a:cubicBezTo>
                      <a:pt x="3787" y="5"/>
                      <a:pt x="3786" y="4"/>
                      <a:pt x="3786" y="3"/>
                    </a:cubicBezTo>
                    <a:cubicBezTo>
                      <a:pt x="3786" y="2"/>
                      <a:pt x="3787" y="1"/>
                      <a:pt x="3788" y="1"/>
                    </a:cubicBezTo>
                    <a:close/>
                    <a:moveTo>
                      <a:pt x="3796" y="1"/>
                    </a:moveTo>
                    <a:lnTo>
                      <a:pt x="3796" y="1"/>
                    </a:lnTo>
                    <a:cubicBezTo>
                      <a:pt x="3797" y="1"/>
                      <a:pt x="3798" y="2"/>
                      <a:pt x="3798" y="3"/>
                    </a:cubicBezTo>
                    <a:cubicBezTo>
                      <a:pt x="3798" y="4"/>
                      <a:pt x="3797" y="5"/>
                      <a:pt x="3796" y="5"/>
                    </a:cubicBezTo>
                    <a:lnTo>
                      <a:pt x="3796" y="5"/>
                    </a:lnTo>
                    <a:cubicBezTo>
                      <a:pt x="3795" y="5"/>
                      <a:pt x="3794" y="4"/>
                      <a:pt x="3794" y="3"/>
                    </a:cubicBezTo>
                    <a:cubicBezTo>
                      <a:pt x="3794" y="2"/>
                      <a:pt x="3795" y="1"/>
                      <a:pt x="3796" y="1"/>
                    </a:cubicBezTo>
                    <a:close/>
                    <a:moveTo>
                      <a:pt x="3804" y="1"/>
                    </a:moveTo>
                    <a:lnTo>
                      <a:pt x="3804" y="1"/>
                    </a:lnTo>
                    <a:cubicBezTo>
                      <a:pt x="3805" y="1"/>
                      <a:pt x="3806" y="2"/>
                      <a:pt x="3806" y="3"/>
                    </a:cubicBezTo>
                    <a:cubicBezTo>
                      <a:pt x="3806" y="4"/>
                      <a:pt x="3805" y="5"/>
                      <a:pt x="3804" y="5"/>
                    </a:cubicBezTo>
                    <a:lnTo>
                      <a:pt x="3804" y="5"/>
                    </a:lnTo>
                    <a:cubicBezTo>
                      <a:pt x="3803" y="5"/>
                      <a:pt x="3802" y="4"/>
                      <a:pt x="3802" y="3"/>
                    </a:cubicBezTo>
                    <a:cubicBezTo>
                      <a:pt x="3802" y="2"/>
                      <a:pt x="3803" y="1"/>
                      <a:pt x="3804" y="1"/>
                    </a:cubicBezTo>
                    <a:close/>
                    <a:moveTo>
                      <a:pt x="3812" y="1"/>
                    </a:moveTo>
                    <a:lnTo>
                      <a:pt x="3812" y="1"/>
                    </a:lnTo>
                    <a:cubicBezTo>
                      <a:pt x="3813" y="1"/>
                      <a:pt x="3814" y="2"/>
                      <a:pt x="3814" y="3"/>
                    </a:cubicBezTo>
                    <a:cubicBezTo>
                      <a:pt x="3814" y="4"/>
                      <a:pt x="3813" y="5"/>
                      <a:pt x="3812" y="5"/>
                    </a:cubicBezTo>
                    <a:lnTo>
                      <a:pt x="3812" y="5"/>
                    </a:lnTo>
                    <a:cubicBezTo>
                      <a:pt x="3811" y="5"/>
                      <a:pt x="3810" y="4"/>
                      <a:pt x="3810" y="3"/>
                    </a:cubicBezTo>
                    <a:cubicBezTo>
                      <a:pt x="3810" y="2"/>
                      <a:pt x="3811" y="1"/>
                      <a:pt x="3812" y="1"/>
                    </a:cubicBezTo>
                    <a:close/>
                    <a:moveTo>
                      <a:pt x="3820" y="1"/>
                    </a:moveTo>
                    <a:lnTo>
                      <a:pt x="3820" y="1"/>
                    </a:lnTo>
                    <a:cubicBezTo>
                      <a:pt x="3821" y="1"/>
                      <a:pt x="3822" y="2"/>
                      <a:pt x="3822" y="3"/>
                    </a:cubicBezTo>
                    <a:cubicBezTo>
                      <a:pt x="3822" y="4"/>
                      <a:pt x="3821" y="5"/>
                      <a:pt x="3820" y="5"/>
                    </a:cubicBezTo>
                    <a:lnTo>
                      <a:pt x="3820" y="5"/>
                    </a:lnTo>
                    <a:cubicBezTo>
                      <a:pt x="3819" y="5"/>
                      <a:pt x="3818" y="4"/>
                      <a:pt x="3818" y="3"/>
                    </a:cubicBezTo>
                    <a:cubicBezTo>
                      <a:pt x="3818" y="2"/>
                      <a:pt x="3819" y="1"/>
                      <a:pt x="3820" y="1"/>
                    </a:cubicBezTo>
                    <a:close/>
                    <a:moveTo>
                      <a:pt x="3828" y="1"/>
                    </a:moveTo>
                    <a:lnTo>
                      <a:pt x="3828" y="1"/>
                    </a:lnTo>
                    <a:cubicBezTo>
                      <a:pt x="3829" y="1"/>
                      <a:pt x="3830" y="2"/>
                      <a:pt x="3830" y="3"/>
                    </a:cubicBezTo>
                    <a:cubicBezTo>
                      <a:pt x="3830" y="4"/>
                      <a:pt x="3829" y="5"/>
                      <a:pt x="3828" y="5"/>
                    </a:cubicBezTo>
                    <a:lnTo>
                      <a:pt x="3828" y="5"/>
                    </a:lnTo>
                    <a:cubicBezTo>
                      <a:pt x="3827" y="5"/>
                      <a:pt x="3826" y="4"/>
                      <a:pt x="3826" y="3"/>
                    </a:cubicBezTo>
                    <a:cubicBezTo>
                      <a:pt x="3826" y="2"/>
                      <a:pt x="3827" y="1"/>
                      <a:pt x="3828" y="1"/>
                    </a:cubicBezTo>
                    <a:close/>
                    <a:moveTo>
                      <a:pt x="3836" y="1"/>
                    </a:moveTo>
                    <a:lnTo>
                      <a:pt x="3836" y="1"/>
                    </a:lnTo>
                    <a:cubicBezTo>
                      <a:pt x="3837" y="1"/>
                      <a:pt x="3838" y="2"/>
                      <a:pt x="3838" y="3"/>
                    </a:cubicBezTo>
                    <a:cubicBezTo>
                      <a:pt x="3838" y="4"/>
                      <a:pt x="3837" y="5"/>
                      <a:pt x="3836" y="5"/>
                    </a:cubicBezTo>
                    <a:lnTo>
                      <a:pt x="3836" y="5"/>
                    </a:lnTo>
                    <a:cubicBezTo>
                      <a:pt x="3835" y="5"/>
                      <a:pt x="3834" y="4"/>
                      <a:pt x="3834" y="3"/>
                    </a:cubicBezTo>
                    <a:cubicBezTo>
                      <a:pt x="3834" y="2"/>
                      <a:pt x="3835" y="1"/>
                      <a:pt x="3836" y="1"/>
                    </a:cubicBezTo>
                    <a:close/>
                    <a:moveTo>
                      <a:pt x="3844" y="1"/>
                    </a:moveTo>
                    <a:lnTo>
                      <a:pt x="3844" y="1"/>
                    </a:lnTo>
                    <a:cubicBezTo>
                      <a:pt x="3845" y="1"/>
                      <a:pt x="3846" y="2"/>
                      <a:pt x="3846" y="3"/>
                    </a:cubicBezTo>
                    <a:cubicBezTo>
                      <a:pt x="3846" y="4"/>
                      <a:pt x="3845" y="5"/>
                      <a:pt x="3844" y="5"/>
                    </a:cubicBezTo>
                    <a:lnTo>
                      <a:pt x="3844" y="5"/>
                    </a:lnTo>
                    <a:cubicBezTo>
                      <a:pt x="3843" y="5"/>
                      <a:pt x="3842" y="4"/>
                      <a:pt x="3842" y="3"/>
                    </a:cubicBezTo>
                    <a:cubicBezTo>
                      <a:pt x="3842" y="2"/>
                      <a:pt x="3843" y="1"/>
                      <a:pt x="3844" y="1"/>
                    </a:cubicBezTo>
                    <a:close/>
                    <a:moveTo>
                      <a:pt x="3852" y="1"/>
                    </a:moveTo>
                    <a:lnTo>
                      <a:pt x="3852" y="1"/>
                    </a:lnTo>
                    <a:cubicBezTo>
                      <a:pt x="3853" y="1"/>
                      <a:pt x="3854" y="2"/>
                      <a:pt x="3854" y="3"/>
                    </a:cubicBezTo>
                    <a:cubicBezTo>
                      <a:pt x="3854" y="4"/>
                      <a:pt x="3853" y="5"/>
                      <a:pt x="3852" y="5"/>
                    </a:cubicBezTo>
                    <a:lnTo>
                      <a:pt x="3852" y="5"/>
                    </a:lnTo>
                    <a:cubicBezTo>
                      <a:pt x="3851" y="5"/>
                      <a:pt x="3850" y="4"/>
                      <a:pt x="3850" y="3"/>
                    </a:cubicBezTo>
                    <a:cubicBezTo>
                      <a:pt x="3850" y="2"/>
                      <a:pt x="3851" y="1"/>
                      <a:pt x="3852" y="1"/>
                    </a:cubicBezTo>
                    <a:close/>
                    <a:moveTo>
                      <a:pt x="3860" y="1"/>
                    </a:moveTo>
                    <a:lnTo>
                      <a:pt x="3860" y="1"/>
                    </a:lnTo>
                    <a:cubicBezTo>
                      <a:pt x="3861" y="1"/>
                      <a:pt x="3862" y="2"/>
                      <a:pt x="3862" y="3"/>
                    </a:cubicBezTo>
                    <a:cubicBezTo>
                      <a:pt x="3862" y="4"/>
                      <a:pt x="3861" y="5"/>
                      <a:pt x="3860" y="5"/>
                    </a:cubicBezTo>
                    <a:lnTo>
                      <a:pt x="3860" y="5"/>
                    </a:lnTo>
                    <a:cubicBezTo>
                      <a:pt x="3859" y="5"/>
                      <a:pt x="3858" y="4"/>
                      <a:pt x="3858" y="3"/>
                    </a:cubicBezTo>
                    <a:cubicBezTo>
                      <a:pt x="3858" y="2"/>
                      <a:pt x="3859" y="1"/>
                      <a:pt x="3860" y="1"/>
                    </a:cubicBezTo>
                    <a:close/>
                    <a:moveTo>
                      <a:pt x="3868" y="1"/>
                    </a:moveTo>
                    <a:lnTo>
                      <a:pt x="3868" y="1"/>
                    </a:lnTo>
                    <a:cubicBezTo>
                      <a:pt x="3869" y="1"/>
                      <a:pt x="3870" y="2"/>
                      <a:pt x="3870" y="3"/>
                    </a:cubicBezTo>
                    <a:cubicBezTo>
                      <a:pt x="3870" y="4"/>
                      <a:pt x="3869" y="5"/>
                      <a:pt x="3868" y="5"/>
                    </a:cubicBezTo>
                    <a:lnTo>
                      <a:pt x="3868" y="5"/>
                    </a:lnTo>
                    <a:cubicBezTo>
                      <a:pt x="3867" y="5"/>
                      <a:pt x="3866" y="4"/>
                      <a:pt x="3866" y="3"/>
                    </a:cubicBezTo>
                    <a:cubicBezTo>
                      <a:pt x="3866" y="2"/>
                      <a:pt x="3867" y="1"/>
                      <a:pt x="3868" y="1"/>
                    </a:cubicBezTo>
                    <a:close/>
                    <a:moveTo>
                      <a:pt x="3876" y="1"/>
                    </a:moveTo>
                    <a:lnTo>
                      <a:pt x="3876" y="1"/>
                    </a:lnTo>
                    <a:cubicBezTo>
                      <a:pt x="3877" y="1"/>
                      <a:pt x="3878" y="2"/>
                      <a:pt x="3878" y="3"/>
                    </a:cubicBezTo>
                    <a:cubicBezTo>
                      <a:pt x="3878" y="4"/>
                      <a:pt x="3877" y="5"/>
                      <a:pt x="3876" y="5"/>
                    </a:cubicBezTo>
                    <a:lnTo>
                      <a:pt x="3876" y="5"/>
                    </a:lnTo>
                    <a:cubicBezTo>
                      <a:pt x="3875" y="5"/>
                      <a:pt x="3874" y="4"/>
                      <a:pt x="3874" y="3"/>
                    </a:cubicBezTo>
                    <a:cubicBezTo>
                      <a:pt x="3874" y="2"/>
                      <a:pt x="3875" y="1"/>
                      <a:pt x="3876" y="1"/>
                    </a:cubicBezTo>
                    <a:close/>
                    <a:moveTo>
                      <a:pt x="3884" y="1"/>
                    </a:moveTo>
                    <a:lnTo>
                      <a:pt x="3884" y="1"/>
                    </a:lnTo>
                    <a:cubicBezTo>
                      <a:pt x="3885" y="1"/>
                      <a:pt x="3886" y="2"/>
                      <a:pt x="3886" y="3"/>
                    </a:cubicBezTo>
                    <a:cubicBezTo>
                      <a:pt x="3886" y="4"/>
                      <a:pt x="3885" y="5"/>
                      <a:pt x="3884" y="5"/>
                    </a:cubicBezTo>
                    <a:lnTo>
                      <a:pt x="3884" y="5"/>
                    </a:lnTo>
                    <a:cubicBezTo>
                      <a:pt x="3883" y="5"/>
                      <a:pt x="3882" y="4"/>
                      <a:pt x="3882" y="3"/>
                    </a:cubicBezTo>
                    <a:cubicBezTo>
                      <a:pt x="3882" y="2"/>
                      <a:pt x="3883" y="1"/>
                      <a:pt x="3884" y="1"/>
                    </a:cubicBezTo>
                    <a:close/>
                    <a:moveTo>
                      <a:pt x="3892" y="1"/>
                    </a:moveTo>
                    <a:lnTo>
                      <a:pt x="3892" y="1"/>
                    </a:lnTo>
                    <a:cubicBezTo>
                      <a:pt x="3893" y="1"/>
                      <a:pt x="3894" y="2"/>
                      <a:pt x="3894" y="3"/>
                    </a:cubicBezTo>
                    <a:cubicBezTo>
                      <a:pt x="3894" y="4"/>
                      <a:pt x="3893" y="5"/>
                      <a:pt x="3892" y="5"/>
                    </a:cubicBezTo>
                    <a:lnTo>
                      <a:pt x="3892" y="5"/>
                    </a:lnTo>
                    <a:cubicBezTo>
                      <a:pt x="3891" y="5"/>
                      <a:pt x="3890" y="4"/>
                      <a:pt x="3890" y="3"/>
                    </a:cubicBezTo>
                    <a:cubicBezTo>
                      <a:pt x="3890" y="2"/>
                      <a:pt x="3891" y="1"/>
                      <a:pt x="3892" y="1"/>
                    </a:cubicBezTo>
                    <a:close/>
                    <a:moveTo>
                      <a:pt x="3900" y="1"/>
                    </a:moveTo>
                    <a:lnTo>
                      <a:pt x="3900" y="1"/>
                    </a:lnTo>
                    <a:cubicBezTo>
                      <a:pt x="3901" y="1"/>
                      <a:pt x="3902" y="2"/>
                      <a:pt x="3902" y="3"/>
                    </a:cubicBezTo>
                    <a:cubicBezTo>
                      <a:pt x="3902" y="4"/>
                      <a:pt x="3901" y="5"/>
                      <a:pt x="3900" y="5"/>
                    </a:cubicBezTo>
                    <a:lnTo>
                      <a:pt x="3900" y="5"/>
                    </a:lnTo>
                    <a:cubicBezTo>
                      <a:pt x="3899" y="5"/>
                      <a:pt x="3898" y="4"/>
                      <a:pt x="3898" y="3"/>
                    </a:cubicBezTo>
                    <a:cubicBezTo>
                      <a:pt x="3898" y="2"/>
                      <a:pt x="3899" y="1"/>
                      <a:pt x="3900" y="1"/>
                    </a:cubicBezTo>
                    <a:close/>
                    <a:moveTo>
                      <a:pt x="3908" y="1"/>
                    </a:moveTo>
                    <a:lnTo>
                      <a:pt x="3908" y="1"/>
                    </a:lnTo>
                    <a:cubicBezTo>
                      <a:pt x="3909" y="1"/>
                      <a:pt x="3910" y="2"/>
                      <a:pt x="3910" y="3"/>
                    </a:cubicBezTo>
                    <a:cubicBezTo>
                      <a:pt x="3910" y="4"/>
                      <a:pt x="3909" y="5"/>
                      <a:pt x="3908" y="5"/>
                    </a:cubicBezTo>
                    <a:lnTo>
                      <a:pt x="3908" y="5"/>
                    </a:lnTo>
                    <a:cubicBezTo>
                      <a:pt x="3907" y="5"/>
                      <a:pt x="3906" y="4"/>
                      <a:pt x="3906" y="3"/>
                    </a:cubicBezTo>
                    <a:cubicBezTo>
                      <a:pt x="3906" y="2"/>
                      <a:pt x="3907" y="1"/>
                      <a:pt x="3908" y="1"/>
                    </a:cubicBezTo>
                    <a:close/>
                    <a:moveTo>
                      <a:pt x="3916" y="1"/>
                    </a:moveTo>
                    <a:lnTo>
                      <a:pt x="3916" y="1"/>
                    </a:lnTo>
                    <a:cubicBezTo>
                      <a:pt x="3917" y="1"/>
                      <a:pt x="3918" y="2"/>
                      <a:pt x="3918" y="3"/>
                    </a:cubicBezTo>
                    <a:cubicBezTo>
                      <a:pt x="3918" y="4"/>
                      <a:pt x="3917" y="5"/>
                      <a:pt x="3916" y="5"/>
                    </a:cubicBezTo>
                    <a:lnTo>
                      <a:pt x="3916" y="5"/>
                    </a:lnTo>
                    <a:cubicBezTo>
                      <a:pt x="3915" y="5"/>
                      <a:pt x="3914" y="4"/>
                      <a:pt x="3914" y="3"/>
                    </a:cubicBezTo>
                    <a:cubicBezTo>
                      <a:pt x="3914" y="2"/>
                      <a:pt x="3915" y="1"/>
                      <a:pt x="3916" y="1"/>
                    </a:cubicBezTo>
                    <a:close/>
                    <a:moveTo>
                      <a:pt x="3924" y="1"/>
                    </a:moveTo>
                    <a:lnTo>
                      <a:pt x="3924" y="1"/>
                    </a:lnTo>
                    <a:cubicBezTo>
                      <a:pt x="3925" y="1"/>
                      <a:pt x="3926" y="2"/>
                      <a:pt x="3926" y="3"/>
                    </a:cubicBezTo>
                    <a:cubicBezTo>
                      <a:pt x="3926" y="4"/>
                      <a:pt x="3925" y="5"/>
                      <a:pt x="3924" y="5"/>
                    </a:cubicBezTo>
                    <a:lnTo>
                      <a:pt x="3924" y="5"/>
                    </a:lnTo>
                    <a:cubicBezTo>
                      <a:pt x="3923" y="5"/>
                      <a:pt x="3922" y="4"/>
                      <a:pt x="3922" y="3"/>
                    </a:cubicBezTo>
                    <a:cubicBezTo>
                      <a:pt x="3922" y="2"/>
                      <a:pt x="3923" y="1"/>
                      <a:pt x="3924" y="1"/>
                    </a:cubicBezTo>
                    <a:close/>
                    <a:moveTo>
                      <a:pt x="3932" y="1"/>
                    </a:moveTo>
                    <a:lnTo>
                      <a:pt x="3932" y="1"/>
                    </a:lnTo>
                    <a:cubicBezTo>
                      <a:pt x="3933" y="1"/>
                      <a:pt x="3934" y="2"/>
                      <a:pt x="3934" y="3"/>
                    </a:cubicBezTo>
                    <a:cubicBezTo>
                      <a:pt x="3934" y="4"/>
                      <a:pt x="3933" y="5"/>
                      <a:pt x="3932" y="5"/>
                    </a:cubicBezTo>
                    <a:lnTo>
                      <a:pt x="3932" y="5"/>
                    </a:lnTo>
                    <a:cubicBezTo>
                      <a:pt x="3931" y="5"/>
                      <a:pt x="3930" y="4"/>
                      <a:pt x="3930" y="3"/>
                    </a:cubicBezTo>
                    <a:cubicBezTo>
                      <a:pt x="3930" y="2"/>
                      <a:pt x="3931" y="1"/>
                      <a:pt x="3932" y="1"/>
                    </a:cubicBezTo>
                    <a:close/>
                    <a:moveTo>
                      <a:pt x="3940" y="1"/>
                    </a:moveTo>
                    <a:lnTo>
                      <a:pt x="3940" y="1"/>
                    </a:lnTo>
                    <a:cubicBezTo>
                      <a:pt x="3941" y="1"/>
                      <a:pt x="3942" y="2"/>
                      <a:pt x="3942" y="3"/>
                    </a:cubicBezTo>
                    <a:cubicBezTo>
                      <a:pt x="3942" y="4"/>
                      <a:pt x="3941" y="5"/>
                      <a:pt x="3940" y="5"/>
                    </a:cubicBezTo>
                    <a:lnTo>
                      <a:pt x="3940" y="5"/>
                    </a:lnTo>
                    <a:cubicBezTo>
                      <a:pt x="3939" y="5"/>
                      <a:pt x="3938" y="4"/>
                      <a:pt x="3938" y="3"/>
                    </a:cubicBezTo>
                    <a:cubicBezTo>
                      <a:pt x="3938" y="2"/>
                      <a:pt x="3939" y="1"/>
                      <a:pt x="3940" y="1"/>
                    </a:cubicBezTo>
                    <a:close/>
                    <a:moveTo>
                      <a:pt x="3948" y="1"/>
                    </a:moveTo>
                    <a:lnTo>
                      <a:pt x="3948" y="1"/>
                    </a:lnTo>
                    <a:cubicBezTo>
                      <a:pt x="3949" y="1"/>
                      <a:pt x="3950" y="2"/>
                      <a:pt x="3950" y="3"/>
                    </a:cubicBezTo>
                    <a:cubicBezTo>
                      <a:pt x="3950" y="4"/>
                      <a:pt x="3949" y="5"/>
                      <a:pt x="3948" y="5"/>
                    </a:cubicBezTo>
                    <a:lnTo>
                      <a:pt x="3948" y="5"/>
                    </a:lnTo>
                    <a:cubicBezTo>
                      <a:pt x="3947" y="5"/>
                      <a:pt x="3946" y="4"/>
                      <a:pt x="3946" y="3"/>
                    </a:cubicBezTo>
                    <a:cubicBezTo>
                      <a:pt x="3946" y="2"/>
                      <a:pt x="3947" y="1"/>
                      <a:pt x="3948" y="1"/>
                    </a:cubicBezTo>
                    <a:close/>
                    <a:moveTo>
                      <a:pt x="3956" y="1"/>
                    </a:moveTo>
                    <a:lnTo>
                      <a:pt x="3956" y="1"/>
                    </a:lnTo>
                    <a:cubicBezTo>
                      <a:pt x="3957" y="1"/>
                      <a:pt x="3958" y="2"/>
                      <a:pt x="3958" y="3"/>
                    </a:cubicBezTo>
                    <a:cubicBezTo>
                      <a:pt x="3958" y="4"/>
                      <a:pt x="3957" y="5"/>
                      <a:pt x="3956" y="5"/>
                    </a:cubicBezTo>
                    <a:lnTo>
                      <a:pt x="3956" y="5"/>
                    </a:lnTo>
                    <a:cubicBezTo>
                      <a:pt x="3955" y="5"/>
                      <a:pt x="3954" y="4"/>
                      <a:pt x="3954" y="3"/>
                    </a:cubicBezTo>
                    <a:cubicBezTo>
                      <a:pt x="3954" y="2"/>
                      <a:pt x="3955" y="1"/>
                      <a:pt x="3956" y="1"/>
                    </a:cubicBezTo>
                    <a:close/>
                    <a:moveTo>
                      <a:pt x="3964" y="1"/>
                    </a:moveTo>
                    <a:lnTo>
                      <a:pt x="3964" y="1"/>
                    </a:lnTo>
                    <a:cubicBezTo>
                      <a:pt x="3965" y="1"/>
                      <a:pt x="3966" y="2"/>
                      <a:pt x="3966" y="3"/>
                    </a:cubicBezTo>
                    <a:cubicBezTo>
                      <a:pt x="3966" y="4"/>
                      <a:pt x="3965" y="5"/>
                      <a:pt x="3964" y="5"/>
                    </a:cubicBezTo>
                    <a:lnTo>
                      <a:pt x="3964" y="5"/>
                    </a:lnTo>
                    <a:cubicBezTo>
                      <a:pt x="3963" y="5"/>
                      <a:pt x="3962" y="4"/>
                      <a:pt x="3962" y="3"/>
                    </a:cubicBezTo>
                    <a:cubicBezTo>
                      <a:pt x="3962" y="2"/>
                      <a:pt x="3963" y="1"/>
                      <a:pt x="3964" y="1"/>
                    </a:cubicBezTo>
                    <a:close/>
                    <a:moveTo>
                      <a:pt x="3972" y="1"/>
                    </a:moveTo>
                    <a:lnTo>
                      <a:pt x="3972" y="1"/>
                    </a:lnTo>
                    <a:cubicBezTo>
                      <a:pt x="3973" y="1"/>
                      <a:pt x="3974" y="2"/>
                      <a:pt x="3974" y="3"/>
                    </a:cubicBezTo>
                    <a:cubicBezTo>
                      <a:pt x="3974" y="4"/>
                      <a:pt x="3973" y="5"/>
                      <a:pt x="3972" y="5"/>
                    </a:cubicBezTo>
                    <a:lnTo>
                      <a:pt x="3972" y="5"/>
                    </a:lnTo>
                    <a:cubicBezTo>
                      <a:pt x="3971" y="5"/>
                      <a:pt x="3970" y="4"/>
                      <a:pt x="3970" y="3"/>
                    </a:cubicBezTo>
                    <a:cubicBezTo>
                      <a:pt x="3970" y="2"/>
                      <a:pt x="3971" y="1"/>
                      <a:pt x="3972" y="1"/>
                    </a:cubicBezTo>
                    <a:close/>
                    <a:moveTo>
                      <a:pt x="3980" y="1"/>
                    </a:moveTo>
                    <a:lnTo>
                      <a:pt x="3980" y="1"/>
                    </a:lnTo>
                    <a:cubicBezTo>
                      <a:pt x="3981" y="1"/>
                      <a:pt x="3982" y="2"/>
                      <a:pt x="3982" y="3"/>
                    </a:cubicBezTo>
                    <a:cubicBezTo>
                      <a:pt x="3982" y="4"/>
                      <a:pt x="3981" y="5"/>
                      <a:pt x="3980" y="5"/>
                    </a:cubicBezTo>
                    <a:lnTo>
                      <a:pt x="3980" y="5"/>
                    </a:lnTo>
                    <a:cubicBezTo>
                      <a:pt x="3979" y="5"/>
                      <a:pt x="3978" y="4"/>
                      <a:pt x="3978" y="3"/>
                    </a:cubicBezTo>
                    <a:cubicBezTo>
                      <a:pt x="3978" y="2"/>
                      <a:pt x="3979" y="1"/>
                      <a:pt x="3980" y="1"/>
                    </a:cubicBezTo>
                    <a:close/>
                    <a:moveTo>
                      <a:pt x="3988" y="1"/>
                    </a:moveTo>
                    <a:lnTo>
                      <a:pt x="3988" y="1"/>
                    </a:lnTo>
                    <a:cubicBezTo>
                      <a:pt x="3989" y="1"/>
                      <a:pt x="3990" y="2"/>
                      <a:pt x="3990" y="3"/>
                    </a:cubicBezTo>
                    <a:cubicBezTo>
                      <a:pt x="3990" y="4"/>
                      <a:pt x="3989" y="5"/>
                      <a:pt x="3988" y="5"/>
                    </a:cubicBezTo>
                    <a:lnTo>
                      <a:pt x="3988" y="5"/>
                    </a:lnTo>
                    <a:cubicBezTo>
                      <a:pt x="3987" y="5"/>
                      <a:pt x="3986" y="4"/>
                      <a:pt x="3986" y="3"/>
                    </a:cubicBezTo>
                    <a:cubicBezTo>
                      <a:pt x="3986" y="2"/>
                      <a:pt x="3987" y="1"/>
                      <a:pt x="3988" y="1"/>
                    </a:cubicBezTo>
                    <a:close/>
                    <a:moveTo>
                      <a:pt x="3996" y="1"/>
                    </a:moveTo>
                    <a:lnTo>
                      <a:pt x="3996" y="1"/>
                    </a:lnTo>
                    <a:cubicBezTo>
                      <a:pt x="3997" y="1"/>
                      <a:pt x="3998" y="2"/>
                      <a:pt x="3998" y="3"/>
                    </a:cubicBezTo>
                    <a:cubicBezTo>
                      <a:pt x="3998" y="4"/>
                      <a:pt x="3997" y="5"/>
                      <a:pt x="3996" y="5"/>
                    </a:cubicBezTo>
                    <a:lnTo>
                      <a:pt x="3996" y="5"/>
                    </a:lnTo>
                    <a:cubicBezTo>
                      <a:pt x="3995" y="5"/>
                      <a:pt x="3994" y="4"/>
                      <a:pt x="3994" y="3"/>
                    </a:cubicBezTo>
                    <a:cubicBezTo>
                      <a:pt x="3994" y="2"/>
                      <a:pt x="3995" y="1"/>
                      <a:pt x="3996" y="1"/>
                    </a:cubicBezTo>
                    <a:close/>
                    <a:moveTo>
                      <a:pt x="4004" y="1"/>
                    </a:moveTo>
                    <a:lnTo>
                      <a:pt x="4004" y="1"/>
                    </a:lnTo>
                    <a:cubicBezTo>
                      <a:pt x="4005" y="1"/>
                      <a:pt x="4006" y="2"/>
                      <a:pt x="4006" y="3"/>
                    </a:cubicBezTo>
                    <a:cubicBezTo>
                      <a:pt x="4006" y="4"/>
                      <a:pt x="4005" y="5"/>
                      <a:pt x="4004" y="5"/>
                    </a:cubicBezTo>
                    <a:lnTo>
                      <a:pt x="4004" y="5"/>
                    </a:lnTo>
                    <a:cubicBezTo>
                      <a:pt x="4003" y="5"/>
                      <a:pt x="4002" y="4"/>
                      <a:pt x="4002" y="3"/>
                    </a:cubicBezTo>
                    <a:cubicBezTo>
                      <a:pt x="4002" y="2"/>
                      <a:pt x="4003" y="1"/>
                      <a:pt x="4004" y="1"/>
                    </a:cubicBezTo>
                    <a:close/>
                    <a:moveTo>
                      <a:pt x="4012" y="1"/>
                    </a:moveTo>
                    <a:lnTo>
                      <a:pt x="4012" y="1"/>
                    </a:lnTo>
                    <a:cubicBezTo>
                      <a:pt x="4013" y="1"/>
                      <a:pt x="4014" y="2"/>
                      <a:pt x="4014" y="3"/>
                    </a:cubicBezTo>
                    <a:cubicBezTo>
                      <a:pt x="4014" y="4"/>
                      <a:pt x="4013" y="5"/>
                      <a:pt x="4012" y="5"/>
                    </a:cubicBezTo>
                    <a:lnTo>
                      <a:pt x="4012" y="5"/>
                    </a:lnTo>
                    <a:cubicBezTo>
                      <a:pt x="4011" y="5"/>
                      <a:pt x="4010" y="4"/>
                      <a:pt x="4010" y="3"/>
                    </a:cubicBezTo>
                    <a:cubicBezTo>
                      <a:pt x="4010" y="2"/>
                      <a:pt x="4011" y="1"/>
                      <a:pt x="4012" y="1"/>
                    </a:cubicBezTo>
                    <a:close/>
                    <a:moveTo>
                      <a:pt x="4020" y="1"/>
                    </a:moveTo>
                    <a:lnTo>
                      <a:pt x="4020" y="1"/>
                    </a:lnTo>
                    <a:cubicBezTo>
                      <a:pt x="4021" y="1"/>
                      <a:pt x="4022" y="2"/>
                      <a:pt x="4022" y="3"/>
                    </a:cubicBezTo>
                    <a:cubicBezTo>
                      <a:pt x="4022" y="4"/>
                      <a:pt x="4021" y="5"/>
                      <a:pt x="4020" y="5"/>
                    </a:cubicBezTo>
                    <a:lnTo>
                      <a:pt x="4020" y="5"/>
                    </a:lnTo>
                    <a:cubicBezTo>
                      <a:pt x="4019" y="5"/>
                      <a:pt x="4018" y="4"/>
                      <a:pt x="4018" y="3"/>
                    </a:cubicBezTo>
                    <a:cubicBezTo>
                      <a:pt x="4018" y="2"/>
                      <a:pt x="4019" y="1"/>
                      <a:pt x="4020" y="1"/>
                    </a:cubicBezTo>
                    <a:close/>
                    <a:moveTo>
                      <a:pt x="4028" y="1"/>
                    </a:moveTo>
                    <a:lnTo>
                      <a:pt x="4028" y="1"/>
                    </a:lnTo>
                    <a:cubicBezTo>
                      <a:pt x="4029" y="1"/>
                      <a:pt x="4030" y="2"/>
                      <a:pt x="4030" y="3"/>
                    </a:cubicBezTo>
                    <a:cubicBezTo>
                      <a:pt x="4030" y="4"/>
                      <a:pt x="4029" y="5"/>
                      <a:pt x="4028" y="5"/>
                    </a:cubicBezTo>
                    <a:lnTo>
                      <a:pt x="4028" y="5"/>
                    </a:lnTo>
                    <a:cubicBezTo>
                      <a:pt x="4027" y="5"/>
                      <a:pt x="4026" y="4"/>
                      <a:pt x="4026" y="3"/>
                    </a:cubicBezTo>
                    <a:cubicBezTo>
                      <a:pt x="4026" y="2"/>
                      <a:pt x="4027" y="1"/>
                      <a:pt x="4028" y="1"/>
                    </a:cubicBezTo>
                    <a:close/>
                    <a:moveTo>
                      <a:pt x="4036" y="1"/>
                    </a:moveTo>
                    <a:lnTo>
                      <a:pt x="4036" y="1"/>
                    </a:lnTo>
                    <a:cubicBezTo>
                      <a:pt x="4037" y="1"/>
                      <a:pt x="4038" y="2"/>
                      <a:pt x="4038" y="3"/>
                    </a:cubicBezTo>
                    <a:cubicBezTo>
                      <a:pt x="4038" y="4"/>
                      <a:pt x="4037" y="5"/>
                      <a:pt x="4036" y="5"/>
                    </a:cubicBezTo>
                    <a:lnTo>
                      <a:pt x="4036" y="5"/>
                    </a:lnTo>
                    <a:cubicBezTo>
                      <a:pt x="4035" y="5"/>
                      <a:pt x="4034" y="4"/>
                      <a:pt x="4034" y="3"/>
                    </a:cubicBezTo>
                    <a:cubicBezTo>
                      <a:pt x="4034" y="2"/>
                      <a:pt x="4035" y="1"/>
                      <a:pt x="4036" y="1"/>
                    </a:cubicBezTo>
                    <a:close/>
                    <a:moveTo>
                      <a:pt x="4044" y="1"/>
                    </a:moveTo>
                    <a:lnTo>
                      <a:pt x="4044" y="1"/>
                    </a:lnTo>
                    <a:cubicBezTo>
                      <a:pt x="4045" y="1"/>
                      <a:pt x="4046" y="2"/>
                      <a:pt x="4046" y="3"/>
                    </a:cubicBezTo>
                    <a:cubicBezTo>
                      <a:pt x="4046" y="4"/>
                      <a:pt x="4045" y="5"/>
                      <a:pt x="4044" y="5"/>
                    </a:cubicBezTo>
                    <a:lnTo>
                      <a:pt x="4044" y="5"/>
                    </a:lnTo>
                    <a:cubicBezTo>
                      <a:pt x="4043" y="5"/>
                      <a:pt x="4042" y="4"/>
                      <a:pt x="4042" y="3"/>
                    </a:cubicBezTo>
                    <a:cubicBezTo>
                      <a:pt x="4042" y="2"/>
                      <a:pt x="4043" y="1"/>
                      <a:pt x="4044" y="1"/>
                    </a:cubicBezTo>
                    <a:close/>
                    <a:moveTo>
                      <a:pt x="4052" y="1"/>
                    </a:moveTo>
                    <a:lnTo>
                      <a:pt x="4052" y="1"/>
                    </a:lnTo>
                    <a:cubicBezTo>
                      <a:pt x="4053" y="1"/>
                      <a:pt x="4054" y="2"/>
                      <a:pt x="4054" y="3"/>
                    </a:cubicBezTo>
                    <a:cubicBezTo>
                      <a:pt x="4054" y="4"/>
                      <a:pt x="4053" y="5"/>
                      <a:pt x="4052" y="5"/>
                    </a:cubicBezTo>
                    <a:lnTo>
                      <a:pt x="4052" y="5"/>
                    </a:lnTo>
                    <a:cubicBezTo>
                      <a:pt x="4051" y="5"/>
                      <a:pt x="4050" y="4"/>
                      <a:pt x="4050" y="3"/>
                    </a:cubicBezTo>
                    <a:cubicBezTo>
                      <a:pt x="4050" y="2"/>
                      <a:pt x="4051" y="1"/>
                      <a:pt x="4052" y="1"/>
                    </a:cubicBezTo>
                    <a:close/>
                    <a:moveTo>
                      <a:pt x="4060" y="1"/>
                    </a:moveTo>
                    <a:lnTo>
                      <a:pt x="4060" y="1"/>
                    </a:lnTo>
                    <a:cubicBezTo>
                      <a:pt x="4061" y="1"/>
                      <a:pt x="4062" y="2"/>
                      <a:pt x="4062" y="3"/>
                    </a:cubicBezTo>
                    <a:cubicBezTo>
                      <a:pt x="4062" y="4"/>
                      <a:pt x="4061" y="5"/>
                      <a:pt x="4060" y="5"/>
                    </a:cubicBezTo>
                    <a:lnTo>
                      <a:pt x="4060" y="5"/>
                    </a:lnTo>
                    <a:cubicBezTo>
                      <a:pt x="4059" y="5"/>
                      <a:pt x="4058" y="4"/>
                      <a:pt x="4058" y="3"/>
                    </a:cubicBezTo>
                    <a:cubicBezTo>
                      <a:pt x="4058" y="2"/>
                      <a:pt x="4059" y="1"/>
                      <a:pt x="4060" y="1"/>
                    </a:cubicBezTo>
                    <a:close/>
                    <a:moveTo>
                      <a:pt x="4068" y="1"/>
                    </a:moveTo>
                    <a:lnTo>
                      <a:pt x="4068" y="1"/>
                    </a:lnTo>
                    <a:cubicBezTo>
                      <a:pt x="4069" y="1"/>
                      <a:pt x="4070" y="2"/>
                      <a:pt x="4070" y="3"/>
                    </a:cubicBezTo>
                    <a:cubicBezTo>
                      <a:pt x="4070" y="4"/>
                      <a:pt x="4069" y="5"/>
                      <a:pt x="4068" y="5"/>
                    </a:cubicBezTo>
                    <a:lnTo>
                      <a:pt x="4068" y="5"/>
                    </a:lnTo>
                    <a:cubicBezTo>
                      <a:pt x="4067" y="5"/>
                      <a:pt x="4066" y="4"/>
                      <a:pt x="4066" y="3"/>
                    </a:cubicBezTo>
                    <a:cubicBezTo>
                      <a:pt x="4066" y="2"/>
                      <a:pt x="4067" y="1"/>
                      <a:pt x="4068" y="1"/>
                    </a:cubicBezTo>
                    <a:close/>
                    <a:moveTo>
                      <a:pt x="4076" y="1"/>
                    </a:moveTo>
                    <a:lnTo>
                      <a:pt x="4076" y="1"/>
                    </a:lnTo>
                    <a:cubicBezTo>
                      <a:pt x="4077" y="1"/>
                      <a:pt x="4078" y="2"/>
                      <a:pt x="4078" y="3"/>
                    </a:cubicBezTo>
                    <a:cubicBezTo>
                      <a:pt x="4078" y="4"/>
                      <a:pt x="4077" y="5"/>
                      <a:pt x="4076" y="5"/>
                    </a:cubicBezTo>
                    <a:lnTo>
                      <a:pt x="4076" y="5"/>
                    </a:lnTo>
                    <a:cubicBezTo>
                      <a:pt x="4075" y="5"/>
                      <a:pt x="4074" y="4"/>
                      <a:pt x="4074" y="3"/>
                    </a:cubicBezTo>
                    <a:cubicBezTo>
                      <a:pt x="4074" y="2"/>
                      <a:pt x="4075" y="1"/>
                      <a:pt x="4076" y="1"/>
                    </a:cubicBezTo>
                    <a:close/>
                    <a:moveTo>
                      <a:pt x="4084" y="1"/>
                    </a:moveTo>
                    <a:lnTo>
                      <a:pt x="4084" y="1"/>
                    </a:lnTo>
                    <a:cubicBezTo>
                      <a:pt x="4085" y="1"/>
                      <a:pt x="4086" y="2"/>
                      <a:pt x="4086" y="3"/>
                    </a:cubicBezTo>
                    <a:cubicBezTo>
                      <a:pt x="4086" y="4"/>
                      <a:pt x="4085" y="5"/>
                      <a:pt x="4084" y="5"/>
                    </a:cubicBezTo>
                    <a:lnTo>
                      <a:pt x="4084" y="5"/>
                    </a:lnTo>
                    <a:cubicBezTo>
                      <a:pt x="4083" y="5"/>
                      <a:pt x="4082" y="4"/>
                      <a:pt x="4082" y="3"/>
                    </a:cubicBezTo>
                    <a:cubicBezTo>
                      <a:pt x="4082" y="2"/>
                      <a:pt x="4083" y="1"/>
                      <a:pt x="4084" y="1"/>
                    </a:cubicBezTo>
                    <a:close/>
                    <a:moveTo>
                      <a:pt x="4092" y="1"/>
                    </a:moveTo>
                    <a:lnTo>
                      <a:pt x="4092" y="1"/>
                    </a:lnTo>
                    <a:cubicBezTo>
                      <a:pt x="4093" y="1"/>
                      <a:pt x="4094" y="2"/>
                      <a:pt x="4094" y="3"/>
                    </a:cubicBezTo>
                    <a:cubicBezTo>
                      <a:pt x="4094" y="4"/>
                      <a:pt x="4093" y="5"/>
                      <a:pt x="4092" y="5"/>
                    </a:cubicBezTo>
                    <a:lnTo>
                      <a:pt x="4092" y="5"/>
                    </a:lnTo>
                    <a:cubicBezTo>
                      <a:pt x="4091" y="5"/>
                      <a:pt x="4090" y="4"/>
                      <a:pt x="4090" y="3"/>
                    </a:cubicBezTo>
                    <a:cubicBezTo>
                      <a:pt x="4090" y="2"/>
                      <a:pt x="4091" y="1"/>
                      <a:pt x="4092" y="1"/>
                    </a:cubicBezTo>
                    <a:close/>
                    <a:moveTo>
                      <a:pt x="4100" y="1"/>
                    </a:moveTo>
                    <a:lnTo>
                      <a:pt x="4100" y="1"/>
                    </a:lnTo>
                    <a:cubicBezTo>
                      <a:pt x="4101" y="1"/>
                      <a:pt x="4102" y="2"/>
                      <a:pt x="4102" y="3"/>
                    </a:cubicBezTo>
                    <a:cubicBezTo>
                      <a:pt x="4102" y="4"/>
                      <a:pt x="4101" y="5"/>
                      <a:pt x="4100" y="5"/>
                    </a:cubicBezTo>
                    <a:lnTo>
                      <a:pt x="4100" y="5"/>
                    </a:lnTo>
                    <a:cubicBezTo>
                      <a:pt x="4099" y="5"/>
                      <a:pt x="4098" y="4"/>
                      <a:pt x="4098" y="3"/>
                    </a:cubicBezTo>
                    <a:cubicBezTo>
                      <a:pt x="4098" y="2"/>
                      <a:pt x="4099" y="1"/>
                      <a:pt x="4100" y="1"/>
                    </a:cubicBezTo>
                    <a:close/>
                    <a:moveTo>
                      <a:pt x="4108" y="1"/>
                    </a:moveTo>
                    <a:lnTo>
                      <a:pt x="4108" y="1"/>
                    </a:lnTo>
                    <a:cubicBezTo>
                      <a:pt x="4109" y="1"/>
                      <a:pt x="4110" y="2"/>
                      <a:pt x="4110" y="3"/>
                    </a:cubicBezTo>
                    <a:cubicBezTo>
                      <a:pt x="4110" y="4"/>
                      <a:pt x="4109" y="5"/>
                      <a:pt x="4108" y="5"/>
                    </a:cubicBezTo>
                    <a:lnTo>
                      <a:pt x="4108" y="5"/>
                    </a:lnTo>
                    <a:cubicBezTo>
                      <a:pt x="4107" y="5"/>
                      <a:pt x="4106" y="4"/>
                      <a:pt x="4106" y="3"/>
                    </a:cubicBezTo>
                    <a:cubicBezTo>
                      <a:pt x="4106" y="2"/>
                      <a:pt x="4107" y="1"/>
                      <a:pt x="4108" y="1"/>
                    </a:cubicBezTo>
                    <a:close/>
                    <a:moveTo>
                      <a:pt x="4116" y="1"/>
                    </a:moveTo>
                    <a:lnTo>
                      <a:pt x="4116" y="1"/>
                    </a:lnTo>
                    <a:cubicBezTo>
                      <a:pt x="4117" y="1"/>
                      <a:pt x="4118" y="2"/>
                      <a:pt x="4118" y="3"/>
                    </a:cubicBezTo>
                    <a:cubicBezTo>
                      <a:pt x="4118" y="4"/>
                      <a:pt x="4117" y="5"/>
                      <a:pt x="4116" y="5"/>
                    </a:cubicBezTo>
                    <a:lnTo>
                      <a:pt x="4116" y="5"/>
                    </a:lnTo>
                    <a:cubicBezTo>
                      <a:pt x="4115" y="5"/>
                      <a:pt x="4114" y="4"/>
                      <a:pt x="4114" y="3"/>
                    </a:cubicBezTo>
                    <a:cubicBezTo>
                      <a:pt x="4114" y="2"/>
                      <a:pt x="4115" y="1"/>
                      <a:pt x="4116" y="1"/>
                    </a:cubicBezTo>
                    <a:close/>
                    <a:moveTo>
                      <a:pt x="4124" y="1"/>
                    </a:moveTo>
                    <a:lnTo>
                      <a:pt x="4124" y="1"/>
                    </a:lnTo>
                    <a:cubicBezTo>
                      <a:pt x="4125" y="1"/>
                      <a:pt x="4126" y="2"/>
                      <a:pt x="4126" y="3"/>
                    </a:cubicBezTo>
                    <a:cubicBezTo>
                      <a:pt x="4126" y="4"/>
                      <a:pt x="4125" y="5"/>
                      <a:pt x="4124" y="5"/>
                    </a:cubicBezTo>
                    <a:lnTo>
                      <a:pt x="4124" y="5"/>
                    </a:lnTo>
                    <a:cubicBezTo>
                      <a:pt x="4123" y="5"/>
                      <a:pt x="4122" y="4"/>
                      <a:pt x="4122" y="3"/>
                    </a:cubicBezTo>
                    <a:cubicBezTo>
                      <a:pt x="4122" y="2"/>
                      <a:pt x="4123" y="1"/>
                      <a:pt x="4124" y="1"/>
                    </a:cubicBezTo>
                    <a:close/>
                    <a:moveTo>
                      <a:pt x="4132" y="1"/>
                    </a:moveTo>
                    <a:lnTo>
                      <a:pt x="4132" y="1"/>
                    </a:lnTo>
                    <a:cubicBezTo>
                      <a:pt x="4133" y="1"/>
                      <a:pt x="4134" y="2"/>
                      <a:pt x="4134" y="3"/>
                    </a:cubicBezTo>
                    <a:cubicBezTo>
                      <a:pt x="4134" y="4"/>
                      <a:pt x="4133" y="5"/>
                      <a:pt x="4132" y="5"/>
                    </a:cubicBezTo>
                    <a:lnTo>
                      <a:pt x="4132" y="5"/>
                    </a:lnTo>
                    <a:cubicBezTo>
                      <a:pt x="4131" y="5"/>
                      <a:pt x="4130" y="4"/>
                      <a:pt x="4130" y="3"/>
                    </a:cubicBezTo>
                    <a:cubicBezTo>
                      <a:pt x="4130" y="2"/>
                      <a:pt x="4131" y="1"/>
                      <a:pt x="4132" y="1"/>
                    </a:cubicBezTo>
                    <a:close/>
                    <a:moveTo>
                      <a:pt x="4140" y="1"/>
                    </a:moveTo>
                    <a:lnTo>
                      <a:pt x="4140" y="1"/>
                    </a:lnTo>
                    <a:cubicBezTo>
                      <a:pt x="4141" y="1"/>
                      <a:pt x="4142" y="2"/>
                      <a:pt x="4142" y="3"/>
                    </a:cubicBezTo>
                    <a:cubicBezTo>
                      <a:pt x="4142" y="4"/>
                      <a:pt x="4141" y="5"/>
                      <a:pt x="4140" y="5"/>
                    </a:cubicBezTo>
                    <a:lnTo>
                      <a:pt x="4140" y="5"/>
                    </a:lnTo>
                    <a:cubicBezTo>
                      <a:pt x="4139" y="5"/>
                      <a:pt x="4138" y="4"/>
                      <a:pt x="4138" y="3"/>
                    </a:cubicBezTo>
                    <a:cubicBezTo>
                      <a:pt x="4138" y="2"/>
                      <a:pt x="4139" y="1"/>
                      <a:pt x="4140" y="1"/>
                    </a:cubicBezTo>
                    <a:close/>
                    <a:moveTo>
                      <a:pt x="4148" y="1"/>
                    </a:moveTo>
                    <a:lnTo>
                      <a:pt x="4148" y="1"/>
                    </a:lnTo>
                    <a:cubicBezTo>
                      <a:pt x="4149" y="1"/>
                      <a:pt x="4150" y="2"/>
                      <a:pt x="4150" y="3"/>
                    </a:cubicBezTo>
                    <a:cubicBezTo>
                      <a:pt x="4150" y="4"/>
                      <a:pt x="4149" y="5"/>
                      <a:pt x="4148" y="5"/>
                    </a:cubicBezTo>
                    <a:lnTo>
                      <a:pt x="4148" y="5"/>
                    </a:lnTo>
                    <a:cubicBezTo>
                      <a:pt x="4147" y="5"/>
                      <a:pt x="4146" y="4"/>
                      <a:pt x="4146" y="3"/>
                    </a:cubicBezTo>
                    <a:cubicBezTo>
                      <a:pt x="4146" y="2"/>
                      <a:pt x="4147" y="1"/>
                      <a:pt x="4148" y="1"/>
                    </a:cubicBezTo>
                    <a:close/>
                    <a:moveTo>
                      <a:pt x="4156" y="1"/>
                    </a:moveTo>
                    <a:lnTo>
                      <a:pt x="4156" y="1"/>
                    </a:lnTo>
                    <a:cubicBezTo>
                      <a:pt x="4157" y="1"/>
                      <a:pt x="4158" y="2"/>
                      <a:pt x="4158" y="3"/>
                    </a:cubicBezTo>
                    <a:cubicBezTo>
                      <a:pt x="4158" y="4"/>
                      <a:pt x="4157" y="5"/>
                      <a:pt x="4156" y="5"/>
                    </a:cubicBezTo>
                    <a:lnTo>
                      <a:pt x="4156" y="5"/>
                    </a:lnTo>
                    <a:cubicBezTo>
                      <a:pt x="4155" y="5"/>
                      <a:pt x="4154" y="4"/>
                      <a:pt x="4154" y="3"/>
                    </a:cubicBezTo>
                    <a:cubicBezTo>
                      <a:pt x="4154" y="2"/>
                      <a:pt x="4155" y="1"/>
                      <a:pt x="4156" y="1"/>
                    </a:cubicBezTo>
                    <a:close/>
                    <a:moveTo>
                      <a:pt x="4164" y="1"/>
                    </a:moveTo>
                    <a:lnTo>
                      <a:pt x="4164" y="1"/>
                    </a:lnTo>
                    <a:cubicBezTo>
                      <a:pt x="4165" y="1"/>
                      <a:pt x="4166" y="2"/>
                      <a:pt x="4166" y="3"/>
                    </a:cubicBezTo>
                    <a:cubicBezTo>
                      <a:pt x="4166" y="4"/>
                      <a:pt x="4165" y="5"/>
                      <a:pt x="4164" y="5"/>
                    </a:cubicBezTo>
                    <a:lnTo>
                      <a:pt x="4164" y="5"/>
                    </a:lnTo>
                    <a:cubicBezTo>
                      <a:pt x="4163" y="5"/>
                      <a:pt x="4162" y="4"/>
                      <a:pt x="4162" y="3"/>
                    </a:cubicBezTo>
                    <a:cubicBezTo>
                      <a:pt x="4162" y="2"/>
                      <a:pt x="4163" y="1"/>
                      <a:pt x="4164" y="1"/>
                    </a:cubicBezTo>
                    <a:close/>
                    <a:moveTo>
                      <a:pt x="4172" y="1"/>
                    </a:moveTo>
                    <a:lnTo>
                      <a:pt x="4172" y="1"/>
                    </a:lnTo>
                    <a:cubicBezTo>
                      <a:pt x="4173" y="1"/>
                      <a:pt x="4174" y="2"/>
                      <a:pt x="4174" y="3"/>
                    </a:cubicBezTo>
                    <a:cubicBezTo>
                      <a:pt x="4174" y="4"/>
                      <a:pt x="4173" y="5"/>
                      <a:pt x="4172" y="5"/>
                    </a:cubicBezTo>
                    <a:lnTo>
                      <a:pt x="4172" y="5"/>
                    </a:lnTo>
                    <a:cubicBezTo>
                      <a:pt x="4171" y="5"/>
                      <a:pt x="4170" y="4"/>
                      <a:pt x="4170" y="3"/>
                    </a:cubicBezTo>
                    <a:cubicBezTo>
                      <a:pt x="4170" y="2"/>
                      <a:pt x="4171" y="1"/>
                      <a:pt x="4172" y="1"/>
                    </a:cubicBezTo>
                    <a:close/>
                    <a:moveTo>
                      <a:pt x="4180" y="1"/>
                    </a:moveTo>
                    <a:lnTo>
                      <a:pt x="4180" y="1"/>
                    </a:lnTo>
                    <a:cubicBezTo>
                      <a:pt x="4181" y="1"/>
                      <a:pt x="4182" y="2"/>
                      <a:pt x="4182" y="3"/>
                    </a:cubicBezTo>
                    <a:cubicBezTo>
                      <a:pt x="4182" y="4"/>
                      <a:pt x="4181" y="5"/>
                      <a:pt x="4180" y="5"/>
                    </a:cubicBezTo>
                    <a:lnTo>
                      <a:pt x="4180" y="5"/>
                    </a:lnTo>
                    <a:cubicBezTo>
                      <a:pt x="4179" y="5"/>
                      <a:pt x="4178" y="4"/>
                      <a:pt x="4178" y="3"/>
                    </a:cubicBezTo>
                    <a:cubicBezTo>
                      <a:pt x="4178" y="2"/>
                      <a:pt x="4179" y="1"/>
                      <a:pt x="4180" y="1"/>
                    </a:cubicBezTo>
                    <a:close/>
                    <a:moveTo>
                      <a:pt x="4188" y="1"/>
                    </a:moveTo>
                    <a:lnTo>
                      <a:pt x="4188" y="1"/>
                    </a:lnTo>
                    <a:cubicBezTo>
                      <a:pt x="4189" y="1"/>
                      <a:pt x="4190" y="2"/>
                      <a:pt x="4190" y="3"/>
                    </a:cubicBezTo>
                    <a:cubicBezTo>
                      <a:pt x="4190" y="4"/>
                      <a:pt x="4189" y="5"/>
                      <a:pt x="4188" y="5"/>
                    </a:cubicBezTo>
                    <a:lnTo>
                      <a:pt x="4188" y="5"/>
                    </a:lnTo>
                    <a:cubicBezTo>
                      <a:pt x="4187" y="5"/>
                      <a:pt x="4186" y="4"/>
                      <a:pt x="4186" y="3"/>
                    </a:cubicBezTo>
                    <a:cubicBezTo>
                      <a:pt x="4186" y="2"/>
                      <a:pt x="4187" y="1"/>
                      <a:pt x="4188" y="1"/>
                    </a:cubicBezTo>
                    <a:close/>
                    <a:moveTo>
                      <a:pt x="4196" y="1"/>
                    </a:moveTo>
                    <a:lnTo>
                      <a:pt x="4196" y="1"/>
                    </a:lnTo>
                    <a:cubicBezTo>
                      <a:pt x="4197" y="1"/>
                      <a:pt x="4198" y="2"/>
                      <a:pt x="4198" y="3"/>
                    </a:cubicBezTo>
                    <a:cubicBezTo>
                      <a:pt x="4198" y="4"/>
                      <a:pt x="4197" y="5"/>
                      <a:pt x="4196" y="5"/>
                    </a:cubicBezTo>
                    <a:lnTo>
                      <a:pt x="4196" y="5"/>
                    </a:lnTo>
                    <a:cubicBezTo>
                      <a:pt x="4195" y="5"/>
                      <a:pt x="4194" y="4"/>
                      <a:pt x="4194" y="3"/>
                    </a:cubicBezTo>
                    <a:cubicBezTo>
                      <a:pt x="4194" y="2"/>
                      <a:pt x="4195" y="1"/>
                      <a:pt x="4196" y="1"/>
                    </a:cubicBezTo>
                    <a:close/>
                    <a:moveTo>
                      <a:pt x="4204" y="1"/>
                    </a:moveTo>
                    <a:lnTo>
                      <a:pt x="4204" y="1"/>
                    </a:lnTo>
                    <a:cubicBezTo>
                      <a:pt x="4205" y="1"/>
                      <a:pt x="4206" y="2"/>
                      <a:pt x="4206" y="3"/>
                    </a:cubicBezTo>
                    <a:cubicBezTo>
                      <a:pt x="4206" y="4"/>
                      <a:pt x="4205" y="5"/>
                      <a:pt x="4204" y="5"/>
                    </a:cubicBezTo>
                    <a:lnTo>
                      <a:pt x="4204" y="5"/>
                    </a:lnTo>
                    <a:cubicBezTo>
                      <a:pt x="4203" y="5"/>
                      <a:pt x="4202" y="4"/>
                      <a:pt x="4202" y="3"/>
                    </a:cubicBezTo>
                    <a:cubicBezTo>
                      <a:pt x="4202" y="2"/>
                      <a:pt x="4203" y="1"/>
                      <a:pt x="4204" y="1"/>
                    </a:cubicBezTo>
                    <a:close/>
                    <a:moveTo>
                      <a:pt x="4212" y="1"/>
                    </a:moveTo>
                    <a:lnTo>
                      <a:pt x="4212" y="1"/>
                    </a:lnTo>
                    <a:cubicBezTo>
                      <a:pt x="4213" y="1"/>
                      <a:pt x="4214" y="2"/>
                      <a:pt x="4214" y="3"/>
                    </a:cubicBezTo>
                    <a:cubicBezTo>
                      <a:pt x="4214" y="4"/>
                      <a:pt x="4213" y="5"/>
                      <a:pt x="4212" y="5"/>
                    </a:cubicBezTo>
                    <a:lnTo>
                      <a:pt x="4212" y="5"/>
                    </a:lnTo>
                    <a:cubicBezTo>
                      <a:pt x="4211" y="5"/>
                      <a:pt x="4210" y="4"/>
                      <a:pt x="4210" y="3"/>
                    </a:cubicBezTo>
                    <a:cubicBezTo>
                      <a:pt x="4210" y="2"/>
                      <a:pt x="4211" y="1"/>
                      <a:pt x="4212" y="1"/>
                    </a:cubicBezTo>
                    <a:close/>
                    <a:moveTo>
                      <a:pt x="4220" y="1"/>
                    </a:moveTo>
                    <a:lnTo>
                      <a:pt x="4220" y="1"/>
                    </a:lnTo>
                    <a:cubicBezTo>
                      <a:pt x="4221" y="1"/>
                      <a:pt x="4222" y="2"/>
                      <a:pt x="4222" y="3"/>
                    </a:cubicBezTo>
                    <a:cubicBezTo>
                      <a:pt x="4222" y="4"/>
                      <a:pt x="4221" y="5"/>
                      <a:pt x="4220" y="5"/>
                    </a:cubicBezTo>
                    <a:lnTo>
                      <a:pt x="4220" y="5"/>
                    </a:lnTo>
                    <a:cubicBezTo>
                      <a:pt x="4219" y="5"/>
                      <a:pt x="4218" y="4"/>
                      <a:pt x="4218" y="3"/>
                    </a:cubicBezTo>
                    <a:cubicBezTo>
                      <a:pt x="4218" y="2"/>
                      <a:pt x="4219" y="1"/>
                      <a:pt x="4220" y="1"/>
                    </a:cubicBezTo>
                    <a:close/>
                    <a:moveTo>
                      <a:pt x="4228" y="1"/>
                    </a:moveTo>
                    <a:lnTo>
                      <a:pt x="4228" y="1"/>
                    </a:lnTo>
                    <a:cubicBezTo>
                      <a:pt x="4229" y="1"/>
                      <a:pt x="4230" y="2"/>
                      <a:pt x="4230" y="3"/>
                    </a:cubicBezTo>
                    <a:cubicBezTo>
                      <a:pt x="4230" y="4"/>
                      <a:pt x="4229" y="5"/>
                      <a:pt x="4228" y="5"/>
                    </a:cubicBezTo>
                    <a:lnTo>
                      <a:pt x="4228" y="5"/>
                    </a:lnTo>
                    <a:cubicBezTo>
                      <a:pt x="4227" y="5"/>
                      <a:pt x="4226" y="4"/>
                      <a:pt x="4226" y="3"/>
                    </a:cubicBezTo>
                    <a:cubicBezTo>
                      <a:pt x="4226" y="2"/>
                      <a:pt x="4227" y="1"/>
                      <a:pt x="4228" y="1"/>
                    </a:cubicBezTo>
                    <a:close/>
                    <a:moveTo>
                      <a:pt x="4236" y="1"/>
                    </a:moveTo>
                    <a:lnTo>
                      <a:pt x="4236" y="1"/>
                    </a:lnTo>
                    <a:cubicBezTo>
                      <a:pt x="4237" y="1"/>
                      <a:pt x="4238" y="2"/>
                      <a:pt x="4238" y="3"/>
                    </a:cubicBezTo>
                    <a:cubicBezTo>
                      <a:pt x="4238" y="4"/>
                      <a:pt x="4237" y="5"/>
                      <a:pt x="4236" y="5"/>
                    </a:cubicBezTo>
                    <a:lnTo>
                      <a:pt x="4236" y="5"/>
                    </a:lnTo>
                    <a:cubicBezTo>
                      <a:pt x="4235" y="5"/>
                      <a:pt x="4234" y="4"/>
                      <a:pt x="4234" y="3"/>
                    </a:cubicBezTo>
                    <a:cubicBezTo>
                      <a:pt x="4234" y="2"/>
                      <a:pt x="4235" y="1"/>
                      <a:pt x="4236" y="1"/>
                    </a:cubicBezTo>
                    <a:close/>
                    <a:moveTo>
                      <a:pt x="4244" y="1"/>
                    </a:moveTo>
                    <a:lnTo>
                      <a:pt x="4244" y="1"/>
                    </a:lnTo>
                    <a:cubicBezTo>
                      <a:pt x="4245" y="1"/>
                      <a:pt x="4246" y="2"/>
                      <a:pt x="4246" y="3"/>
                    </a:cubicBezTo>
                    <a:cubicBezTo>
                      <a:pt x="4246" y="4"/>
                      <a:pt x="4245" y="5"/>
                      <a:pt x="4244" y="5"/>
                    </a:cubicBezTo>
                    <a:lnTo>
                      <a:pt x="4244" y="5"/>
                    </a:lnTo>
                    <a:cubicBezTo>
                      <a:pt x="4243" y="5"/>
                      <a:pt x="4242" y="4"/>
                      <a:pt x="4242" y="3"/>
                    </a:cubicBezTo>
                    <a:cubicBezTo>
                      <a:pt x="4242" y="2"/>
                      <a:pt x="4243" y="1"/>
                      <a:pt x="4244" y="1"/>
                    </a:cubicBezTo>
                    <a:close/>
                    <a:moveTo>
                      <a:pt x="4252" y="1"/>
                    </a:moveTo>
                    <a:lnTo>
                      <a:pt x="4252" y="1"/>
                    </a:lnTo>
                    <a:cubicBezTo>
                      <a:pt x="4253" y="1"/>
                      <a:pt x="4254" y="2"/>
                      <a:pt x="4254" y="3"/>
                    </a:cubicBezTo>
                    <a:cubicBezTo>
                      <a:pt x="4254" y="4"/>
                      <a:pt x="4253" y="5"/>
                      <a:pt x="4252" y="5"/>
                    </a:cubicBezTo>
                    <a:lnTo>
                      <a:pt x="4252" y="5"/>
                    </a:lnTo>
                    <a:cubicBezTo>
                      <a:pt x="4251" y="5"/>
                      <a:pt x="4250" y="4"/>
                      <a:pt x="4250" y="3"/>
                    </a:cubicBezTo>
                    <a:cubicBezTo>
                      <a:pt x="4250" y="2"/>
                      <a:pt x="4251" y="1"/>
                      <a:pt x="4252" y="1"/>
                    </a:cubicBezTo>
                    <a:close/>
                    <a:moveTo>
                      <a:pt x="4260" y="1"/>
                    </a:moveTo>
                    <a:lnTo>
                      <a:pt x="4260" y="1"/>
                    </a:lnTo>
                    <a:cubicBezTo>
                      <a:pt x="4261" y="1"/>
                      <a:pt x="4262" y="2"/>
                      <a:pt x="4262" y="3"/>
                    </a:cubicBezTo>
                    <a:cubicBezTo>
                      <a:pt x="4262" y="4"/>
                      <a:pt x="4261" y="5"/>
                      <a:pt x="4260" y="5"/>
                    </a:cubicBezTo>
                    <a:lnTo>
                      <a:pt x="4260" y="5"/>
                    </a:lnTo>
                    <a:cubicBezTo>
                      <a:pt x="4259" y="5"/>
                      <a:pt x="4258" y="4"/>
                      <a:pt x="4258" y="3"/>
                    </a:cubicBezTo>
                    <a:cubicBezTo>
                      <a:pt x="4258" y="2"/>
                      <a:pt x="4259" y="1"/>
                      <a:pt x="4260" y="1"/>
                    </a:cubicBezTo>
                    <a:close/>
                    <a:moveTo>
                      <a:pt x="4268" y="1"/>
                    </a:moveTo>
                    <a:lnTo>
                      <a:pt x="4268" y="1"/>
                    </a:lnTo>
                    <a:cubicBezTo>
                      <a:pt x="4269" y="1"/>
                      <a:pt x="4270" y="2"/>
                      <a:pt x="4270" y="3"/>
                    </a:cubicBezTo>
                    <a:cubicBezTo>
                      <a:pt x="4270" y="4"/>
                      <a:pt x="4269" y="5"/>
                      <a:pt x="4268" y="5"/>
                    </a:cubicBezTo>
                    <a:lnTo>
                      <a:pt x="4268" y="5"/>
                    </a:lnTo>
                    <a:cubicBezTo>
                      <a:pt x="4267" y="5"/>
                      <a:pt x="4266" y="4"/>
                      <a:pt x="4266" y="3"/>
                    </a:cubicBezTo>
                    <a:cubicBezTo>
                      <a:pt x="4266" y="2"/>
                      <a:pt x="4267" y="1"/>
                      <a:pt x="4268" y="1"/>
                    </a:cubicBezTo>
                    <a:close/>
                    <a:moveTo>
                      <a:pt x="4276" y="1"/>
                    </a:moveTo>
                    <a:lnTo>
                      <a:pt x="4276" y="1"/>
                    </a:lnTo>
                    <a:cubicBezTo>
                      <a:pt x="4277" y="1"/>
                      <a:pt x="4278" y="2"/>
                      <a:pt x="4278" y="3"/>
                    </a:cubicBezTo>
                    <a:cubicBezTo>
                      <a:pt x="4278" y="4"/>
                      <a:pt x="4277" y="5"/>
                      <a:pt x="4276" y="5"/>
                    </a:cubicBezTo>
                    <a:lnTo>
                      <a:pt x="4276" y="5"/>
                    </a:lnTo>
                    <a:cubicBezTo>
                      <a:pt x="4275" y="5"/>
                      <a:pt x="4274" y="4"/>
                      <a:pt x="4274" y="3"/>
                    </a:cubicBezTo>
                    <a:cubicBezTo>
                      <a:pt x="4274" y="2"/>
                      <a:pt x="4275" y="1"/>
                      <a:pt x="4276" y="1"/>
                    </a:cubicBezTo>
                    <a:close/>
                    <a:moveTo>
                      <a:pt x="4284" y="1"/>
                    </a:moveTo>
                    <a:lnTo>
                      <a:pt x="4284" y="1"/>
                    </a:lnTo>
                    <a:cubicBezTo>
                      <a:pt x="4285" y="1"/>
                      <a:pt x="4286" y="2"/>
                      <a:pt x="4286" y="3"/>
                    </a:cubicBezTo>
                    <a:cubicBezTo>
                      <a:pt x="4286" y="4"/>
                      <a:pt x="4285" y="5"/>
                      <a:pt x="4284" y="5"/>
                    </a:cubicBezTo>
                    <a:lnTo>
                      <a:pt x="4284" y="5"/>
                    </a:lnTo>
                    <a:cubicBezTo>
                      <a:pt x="4283" y="5"/>
                      <a:pt x="4282" y="4"/>
                      <a:pt x="4282" y="3"/>
                    </a:cubicBezTo>
                    <a:cubicBezTo>
                      <a:pt x="4282" y="2"/>
                      <a:pt x="4283" y="1"/>
                      <a:pt x="4284" y="1"/>
                    </a:cubicBezTo>
                    <a:close/>
                    <a:moveTo>
                      <a:pt x="4292" y="1"/>
                    </a:moveTo>
                    <a:lnTo>
                      <a:pt x="4292" y="1"/>
                    </a:lnTo>
                    <a:cubicBezTo>
                      <a:pt x="4293" y="1"/>
                      <a:pt x="4294" y="2"/>
                      <a:pt x="4294" y="3"/>
                    </a:cubicBezTo>
                    <a:cubicBezTo>
                      <a:pt x="4294" y="4"/>
                      <a:pt x="4293" y="5"/>
                      <a:pt x="4292" y="5"/>
                    </a:cubicBezTo>
                    <a:lnTo>
                      <a:pt x="4292" y="5"/>
                    </a:lnTo>
                    <a:cubicBezTo>
                      <a:pt x="4291" y="5"/>
                      <a:pt x="4290" y="4"/>
                      <a:pt x="4290" y="3"/>
                    </a:cubicBezTo>
                    <a:cubicBezTo>
                      <a:pt x="4290" y="2"/>
                      <a:pt x="4291" y="1"/>
                      <a:pt x="4292" y="1"/>
                    </a:cubicBezTo>
                    <a:close/>
                    <a:moveTo>
                      <a:pt x="4300" y="1"/>
                    </a:moveTo>
                    <a:lnTo>
                      <a:pt x="4300" y="1"/>
                    </a:lnTo>
                    <a:cubicBezTo>
                      <a:pt x="4301" y="1"/>
                      <a:pt x="4302" y="2"/>
                      <a:pt x="4302" y="3"/>
                    </a:cubicBezTo>
                    <a:cubicBezTo>
                      <a:pt x="4302" y="4"/>
                      <a:pt x="4301" y="5"/>
                      <a:pt x="4300" y="5"/>
                    </a:cubicBezTo>
                    <a:lnTo>
                      <a:pt x="4300" y="5"/>
                    </a:lnTo>
                    <a:cubicBezTo>
                      <a:pt x="4299" y="5"/>
                      <a:pt x="4298" y="4"/>
                      <a:pt x="4298" y="3"/>
                    </a:cubicBezTo>
                    <a:cubicBezTo>
                      <a:pt x="4298" y="2"/>
                      <a:pt x="4299" y="1"/>
                      <a:pt x="4300" y="1"/>
                    </a:cubicBezTo>
                    <a:close/>
                    <a:moveTo>
                      <a:pt x="4308" y="1"/>
                    </a:moveTo>
                    <a:lnTo>
                      <a:pt x="4308" y="1"/>
                    </a:lnTo>
                    <a:cubicBezTo>
                      <a:pt x="4309" y="1"/>
                      <a:pt x="4310" y="2"/>
                      <a:pt x="4310" y="3"/>
                    </a:cubicBezTo>
                    <a:cubicBezTo>
                      <a:pt x="4310" y="4"/>
                      <a:pt x="4309" y="5"/>
                      <a:pt x="4308" y="5"/>
                    </a:cubicBezTo>
                    <a:lnTo>
                      <a:pt x="4308" y="5"/>
                    </a:lnTo>
                    <a:cubicBezTo>
                      <a:pt x="4307" y="5"/>
                      <a:pt x="4306" y="4"/>
                      <a:pt x="4306" y="3"/>
                    </a:cubicBezTo>
                    <a:cubicBezTo>
                      <a:pt x="4306" y="2"/>
                      <a:pt x="4307" y="1"/>
                      <a:pt x="4308" y="1"/>
                    </a:cubicBezTo>
                    <a:close/>
                    <a:moveTo>
                      <a:pt x="4316" y="1"/>
                    </a:moveTo>
                    <a:lnTo>
                      <a:pt x="4316" y="1"/>
                    </a:lnTo>
                    <a:cubicBezTo>
                      <a:pt x="4317" y="1"/>
                      <a:pt x="4318" y="2"/>
                      <a:pt x="4318" y="3"/>
                    </a:cubicBezTo>
                    <a:cubicBezTo>
                      <a:pt x="4318" y="4"/>
                      <a:pt x="4317" y="5"/>
                      <a:pt x="4316" y="5"/>
                    </a:cubicBezTo>
                    <a:lnTo>
                      <a:pt x="4316" y="5"/>
                    </a:lnTo>
                    <a:cubicBezTo>
                      <a:pt x="4315" y="5"/>
                      <a:pt x="4314" y="4"/>
                      <a:pt x="4314" y="3"/>
                    </a:cubicBezTo>
                    <a:cubicBezTo>
                      <a:pt x="4314" y="2"/>
                      <a:pt x="4315" y="1"/>
                      <a:pt x="4316" y="1"/>
                    </a:cubicBezTo>
                    <a:close/>
                    <a:moveTo>
                      <a:pt x="4324" y="1"/>
                    </a:moveTo>
                    <a:lnTo>
                      <a:pt x="4324" y="1"/>
                    </a:lnTo>
                    <a:cubicBezTo>
                      <a:pt x="4325" y="1"/>
                      <a:pt x="4326" y="2"/>
                      <a:pt x="4326" y="3"/>
                    </a:cubicBezTo>
                    <a:cubicBezTo>
                      <a:pt x="4326" y="4"/>
                      <a:pt x="4325" y="5"/>
                      <a:pt x="4324" y="5"/>
                    </a:cubicBezTo>
                    <a:lnTo>
                      <a:pt x="4324" y="5"/>
                    </a:lnTo>
                    <a:cubicBezTo>
                      <a:pt x="4323" y="5"/>
                      <a:pt x="4322" y="4"/>
                      <a:pt x="4322" y="3"/>
                    </a:cubicBezTo>
                    <a:cubicBezTo>
                      <a:pt x="4322" y="2"/>
                      <a:pt x="4323" y="1"/>
                      <a:pt x="4324" y="1"/>
                    </a:cubicBezTo>
                    <a:close/>
                    <a:moveTo>
                      <a:pt x="4332" y="1"/>
                    </a:moveTo>
                    <a:lnTo>
                      <a:pt x="4332" y="1"/>
                    </a:lnTo>
                    <a:cubicBezTo>
                      <a:pt x="4333" y="1"/>
                      <a:pt x="4334" y="2"/>
                      <a:pt x="4334" y="3"/>
                    </a:cubicBezTo>
                    <a:cubicBezTo>
                      <a:pt x="4334" y="4"/>
                      <a:pt x="4333" y="5"/>
                      <a:pt x="4332" y="5"/>
                    </a:cubicBezTo>
                    <a:lnTo>
                      <a:pt x="4332" y="5"/>
                    </a:lnTo>
                    <a:cubicBezTo>
                      <a:pt x="4331" y="5"/>
                      <a:pt x="4330" y="4"/>
                      <a:pt x="4330" y="3"/>
                    </a:cubicBezTo>
                    <a:cubicBezTo>
                      <a:pt x="4330" y="2"/>
                      <a:pt x="4331" y="1"/>
                      <a:pt x="4332" y="1"/>
                    </a:cubicBezTo>
                    <a:close/>
                    <a:moveTo>
                      <a:pt x="4340" y="1"/>
                    </a:moveTo>
                    <a:lnTo>
                      <a:pt x="4340" y="1"/>
                    </a:lnTo>
                    <a:cubicBezTo>
                      <a:pt x="4341" y="1"/>
                      <a:pt x="4342" y="2"/>
                      <a:pt x="4342" y="3"/>
                    </a:cubicBezTo>
                    <a:cubicBezTo>
                      <a:pt x="4342" y="4"/>
                      <a:pt x="4341" y="5"/>
                      <a:pt x="4340" y="5"/>
                    </a:cubicBezTo>
                    <a:lnTo>
                      <a:pt x="4340" y="5"/>
                    </a:lnTo>
                    <a:cubicBezTo>
                      <a:pt x="4339" y="5"/>
                      <a:pt x="4338" y="4"/>
                      <a:pt x="4338" y="3"/>
                    </a:cubicBezTo>
                    <a:cubicBezTo>
                      <a:pt x="4338" y="2"/>
                      <a:pt x="4339" y="1"/>
                      <a:pt x="4340" y="1"/>
                    </a:cubicBezTo>
                    <a:close/>
                    <a:moveTo>
                      <a:pt x="4348" y="1"/>
                    </a:moveTo>
                    <a:lnTo>
                      <a:pt x="4348" y="1"/>
                    </a:lnTo>
                    <a:cubicBezTo>
                      <a:pt x="4349" y="1"/>
                      <a:pt x="4350" y="2"/>
                      <a:pt x="4350" y="3"/>
                    </a:cubicBezTo>
                    <a:cubicBezTo>
                      <a:pt x="4350" y="4"/>
                      <a:pt x="4349" y="5"/>
                      <a:pt x="4348" y="5"/>
                    </a:cubicBezTo>
                    <a:lnTo>
                      <a:pt x="4348" y="5"/>
                    </a:lnTo>
                    <a:cubicBezTo>
                      <a:pt x="4347" y="5"/>
                      <a:pt x="4346" y="4"/>
                      <a:pt x="4346" y="3"/>
                    </a:cubicBezTo>
                    <a:cubicBezTo>
                      <a:pt x="4346" y="2"/>
                      <a:pt x="4347" y="1"/>
                      <a:pt x="4348" y="1"/>
                    </a:cubicBezTo>
                    <a:close/>
                    <a:moveTo>
                      <a:pt x="4356" y="1"/>
                    </a:moveTo>
                    <a:lnTo>
                      <a:pt x="4356" y="1"/>
                    </a:lnTo>
                    <a:cubicBezTo>
                      <a:pt x="4357" y="1"/>
                      <a:pt x="4358" y="2"/>
                      <a:pt x="4358" y="3"/>
                    </a:cubicBezTo>
                    <a:cubicBezTo>
                      <a:pt x="4358" y="4"/>
                      <a:pt x="4357" y="5"/>
                      <a:pt x="4356" y="5"/>
                    </a:cubicBezTo>
                    <a:lnTo>
                      <a:pt x="4356" y="5"/>
                    </a:lnTo>
                    <a:cubicBezTo>
                      <a:pt x="4355" y="5"/>
                      <a:pt x="4354" y="4"/>
                      <a:pt x="4354" y="3"/>
                    </a:cubicBezTo>
                    <a:cubicBezTo>
                      <a:pt x="4354" y="2"/>
                      <a:pt x="4355" y="1"/>
                      <a:pt x="4356" y="1"/>
                    </a:cubicBezTo>
                    <a:close/>
                    <a:moveTo>
                      <a:pt x="4364" y="1"/>
                    </a:moveTo>
                    <a:lnTo>
                      <a:pt x="4364" y="1"/>
                    </a:lnTo>
                    <a:cubicBezTo>
                      <a:pt x="4365" y="1"/>
                      <a:pt x="4366" y="2"/>
                      <a:pt x="4366" y="3"/>
                    </a:cubicBezTo>
                    <a:cubicBezTo>
                      <a:pt x="4366" y="4"/>
                      <a:pt x="4365" y="5"/>
                      <a:pt x="4364" y="5"/>
                    </a:cubicBezTo>
                    <a:lnTo>
                      <a:pt x="4364" y="5"/>
                    </a:lnTo>
                    <a:cubicBezTo>
                      <a:pt x="4363" y="5"/>
                      <a:pt x="4362" y="4"/>
                      <a:pt x="4362" y="3"/>
                    </a:cubicBezTo>
                    <a:cubicBezTo>
                      <a:pt x="4362" y="2"/>
                      <a:pt x="4363" y="1"/>
                      <a:pt x="4364" y="1"/>
                    </a:cubicBezTo>
                    <a:close/>
                    <a:moveTo>
                      <a:pt x="4372" y="1"/>
                    </a:moveTo>
                    <a:lnTo>
                      <a:pt x="4372" y="1"/>
                    </a:lnTo>
                    <a:cubicBezTo>
                      <a:pt x="4373" y="1"/>
                      <a:pt x="4374" y="2"/>
                      <a:pt x="4374" y="3"/>
                    </a:cubicBezTo>
                    <a:cubicBezTo>
                      <a:pt x="4374" y="4"/>
                      <a:pt x="4373" y="5"/>
                      <a:pt x="4372" y="5"/>
                    </a:cubicBezTo>
                    <a:lnTo>
                      <a:pt x="4372" y="5"/>
                    </a:lnTo>
                    <a:cubicBezTo>
                      <a:pt x="4371" y="5"/>
                      <a:pt x="4370" y="4"/>
                      <a:pt x="4370" y="3"/>
                    </a:cubicBezTo>
                    <a:cubicBezTo>
                      <a:pt x="4370" y="2"/>
                      <a:pt x="4371" y="1"/>
                      <a:pt x="4372" y="1"/>
                    </a:cubicBezTo>
                    <a:close/>
                    <a:moveTo>
                      <a:pt x="4380" y="1"/>
                    </a:moveTo>
                    <a:lnTo>
                      <a:pt x="4380" y="1"/>
                    </a:lnTo>
                    <a:cubicBezTo>
                      <a:pt x="4381" y="1"/>
                      <a:pt x="4382" y="2"/>
                      <a:pt x="4382" y="3"/>
                    </a:cubicBezTo>
                    <a:cubicBezTo>
                      <a:pt x="4382" y="4"/>
                      <a:pt x="4381" y="5"/>
                      <a:pt x="4380" y="5"/>
                    </a:cubicBezTo>
                    <a:lnTo>
                      <a:pt x="4380" y="5"/>
                    </a:lnTo>
                    <a:cubicBezTo>
                      <a:pt x="4379" y="5"/>
                      <a:pt x="4378" y="4"/>
                      <a:pt x="4378" y="3"/>
                    </a:cubicBezTo>
                    <a:cubicBezTo>
                      <a:pt x="4378" y="2"/>
                      <a:pt x="4379" y="1"/>
                      <a:pt x="4380" y="1"/>
                    </a:cubicBezTo>
                    <a:close/>
                    <a:moveTo>
                      <a:pt x="4388" y="1"/>
                    </a:moveTo>
                    <a:lnTo>
                      <a:pt x="4388" y="1"/>
                    </a:lnTo>
                    <a:cubicBezTo>
                      <a:pt x="4389" y="1"/>
                      <a:pt x="4390" y="2"/>
                      <a:pt x="4390" y="3"/>
                    </a:cubicBezTo>
                    <a:cubicBezTo>
                      <a:pt x="4390" y="4"/>
                      <a:pt x="4389" y="5"/>
                      <a:pt x="4388" y="5"/>
                    </a:cubicBezTo>
                    <a:lnTo>
                      <a:pt x="4388" y="5"/>
                    </a:lnTo>
                    <a:cubicBezTo>
                      <a:pt x="4387" y="5"/>
                      <a:pt x="4386" y="4"/>
                      <a:pt x="4386" y="3"/>
                    </a:cubicBezTo>
                    <a:cubicBezTo>
                      <a:pt x="4386" y="2"/>
                      <a:pt x="4387" y="1"/>
                      <a:pt x="4388" y="1"/>
                    </a:cubicBezTo>
                    <a:close/>
                    <a:moveTo>
                      <a:pt x="4396" y="1"/>
                    </a:moveTo>
                    <a:lnTo>
                      <a:pt x="4396" y="1"/>
                    </a:lnTo>
                    <a:cubicBezTo>
                      <a:pt x="4397" y="1"/>
                      <a:pt x="4398" y="2"/>
                      <a:pt x="4398" y="3"/>
                    </a:cubicBezTo>
                    <a:cubicBezTo>
                      <a:pt x="4398" y="4"/>
                      <a:pt x="4397" y="5"/>
                      <a:pt x="4396" y="5"/>
                    </a:cubicBezTo>
                    <a:lnTo>
                      <a:pt x="4396" y="5"/>
                    </a:lnTo>
                    <a:cubicBezTo>
                      <a:pt x="4395" y="5"/>
                      <a:pt x="4394" y="4"/>
                      <a:pt x="4394" y="3"/>
                    </a:cubicBezTo>
                    <a:cubicBezTo>
                      <a:pt x="4394" y="2"/>
                      <a:pt x="4395" y="1"/>
                      <a:pt x="4396" y="1"/>
                    </a:cubicBezTo>
                    <a:close/>
                    <a:moveTo>
                      <a:pt x="4404" y="1"/>
                    </a:moveTo>
                    <a:lnTo>
                      <a:pt x="4404" y="1"/>
                    </a:lnTo>
                    <a:cubicBezTo>
                      <a:pt x="4405" y="1"/>
                      <a:pt x="4406" y="2"/>
                      <a:pt x="4406" y="3"/>
                    </a:cubicBezTo>
                    <a:cubicBezTo>
                      <a:pt x="4406" y="4"/>
                      <a:pt x="4405" y="5"/>
                      <a:pt x="4404" y="5"/>
                    </a:cubicBezTo>
                    <a:lnTo>
                      <a:pt x="4404" y="5"/>
                    </a:lnTo>
                    <a:cubicBezTo>
                      <a:pt x="4403" y="5"/>
                      <a:pt x="4402" y="4"/>
                      <a:pt x="4402" y="3"/>
                    </a:cubicBezTo>
                    <a:cubicBezTo>
                      <a:pt x="4402" y="2"/>
                      <a:pt x="4403" y="1"/>
                      <a:pt x="4404" y="1"/>
                    </a:cubicBezTo>
                    <a:close/>
                    <a:moveTo>
                      <a:pt x="4412" y="1"/>
                    </a:moveTo>
                    <a:lnTo>
                      <a:pt x="4412" y="1"/>
                    </a:lnTo>
                    <a:cubicBezTo>
                      <a:pt x="4413" y="1"/>
                      <a:pt x="4414" y="2"/>
                      <a:pt x="4414" y="3"/>
                    </a:cubicBezTo>
                    <a:cubicBezTo>
                      <a:pt x="4414" y="4"/>
                      <a:pt x="4413" y="5"/>
                      <a:pt x="4412" y="5"/>
                    </a:cubicBezTo>
                    <a:lnTo>
                      <a:pt x="4412" y="5"/>
                    </a:lnTo>
                    <a:cubicBezTo>
                      <a:pt x="4411" y="5"/>
                      <a:pt x="4410" y="4"/>
                      <a:pt x="4410" y="3"/>
                    </a:cubicBezTo>
                    <a:cubicBezTo>
                      <a:pt x="4410" y="2"/>
                      <a:pt x="4411" y="1"/>
                      <a:pt x="4412" y="1"/>
                    </a:cubicBezTo>
                    <a:close/>
                    <a:moveTo>
                      <a:pt x="4420" y="1"/>
                    </a:moveTo>
                    <a:lnTo>
                      <a:pt x="4420" y="1"/>
                    </a:lnTo>
                    <a:cubicBezTo>
                      <a:pt x="4421" y="1"/>
                      <a:pt x="4422" y="2"/>
                      <a:pt x="4422" y="3"/>
                    </a:cubicBezTo>
                    <a:cubicBezTo>
                      <a:pt x="4422" y="4"/>
                      <a:pt x="4421" y="5"/>
                      <a:pt x="4420" y="5"/>
                    </a:cubicBezTo>
                    <a:lnTo>
                      <a:pt x="4420" y="5"/>
                    </a:lnTo>
                    <a:cubicBezTo>
                      <a:pt x="4419" y="5"/>
                      <a:pt x="4418" y="4"/>
                      <a:pt x="4418" y="3"/>
                    </a:cubicBezTo>
                    <a:cubicBezTo>
                      <a:pt x="4418" y="2"/>
                      <a:pt x="4419" y="1"/>
                      <a:pt x="4420" y="1"/>
                    </a:cubicBezTo>
                    <a:close/>
                    <a:moveTo>
                      <a:pt x="4428" y="1"/>
                    </a:moveTo>
                    <a:lnTo>
                      <a:pt x="4428" y="1"/>
                    </a:lnTo>
                    <a:cubicBezTo>
                      <a:pt x="4429" y="1"/>
                      <a:pt x="4430" y="2"/>
                      <a:pt x="4430" y="3"/>
                    </a:cubicBezTo>
                    <a:cubicBezTo>
                      <a:pt x="4430" y="4"/>
                      <a:pt x="4429" y="5"/>
                      <a:pt x="4428" y="5"/>
                    </a:cubicBezTo>
                    <a:lnTo>
                      <a:pt x="4428" y="5"/>
                    </a:lnTo>
                    <a:cubicBezTo>
                      <a:pt x="4427" y="5"/>
                      <a:pt x="4426" y="4"/>
                      <a:pt x="4426" y="3"/>
                    </a:cubicBezTo>
                    <a:cubicBezTo>
                      <a:pt x="4426" y="2"/>
                      <a:pt x="4427" y="1"/>
                      <a:pt x="4428" y="1"/>
                    </a:cubicBezTo>
                    <a:close/>
                    <a:moveTo>
                      <a:pt x="4436" y="1"/>
                    </a:moveTo>
                    <a:lnTo>
                      <a:pt x="4436" y="1"/>
                    </a:lnTo>
                    <a:cubicBezTo>
                      <a:pt x="4437" y="1"/>
                      <a:pt x="4438" y="2"/>
                      <a:pt x="4438" y="3"/>
                    </a:cubicBezTo>
                    <a:cubicBezTo>
                      <a:pt x="4438" y="4"/>
                      <a:pt x="4437" y="5"/>
                      <a:pt x="4436" y="5"/>
                    </a:cubicBezTo>
                    <a:lnTo>
                      <a:pt x="4436" y="5"/>
                    </a:lnTo>
                    <a:cubicBezTo>
                      <a:pt x="4435" y="5"/>
                      <a:pt x="4434" y="4"/>
                      <a:pt x="4434" y="3"/>
                    </a:cubicBezTo>
                    <a:cubicBezTo>
                      <a:pt x="4434" y="2"/>
                      <a:pt x="4435" y="1"/>
                      <a:pt x="4436" y="1"/>
                    </a:cubicBezTo>
                    <a:close/>
                    <a:moveTo>
                      <a:pt x="4444" y="1"/>
                    </a:moveTo>
                    <a:lnTo>
                      <a:pt x="4444" y="1"/>
                    </a:lnTo>
                    <a:cubicBezTo>
                      <a:pt x="4445" y="1"/>
                      <a:pt x="4446" y="2"/>
                      <a:pt x="4446" y="3"/>
                    </a:cubicBezTo>
                    <a:cubicBezTo>
                      <a:pt x="4446" y="4"/>
                      <a:pt x="4445" y="5"/>
                      <a:pt x="4444" y="5"/>
                    </a:cubicBezTo>
                    <a:lnTo>
                      <a:pt x="4444" y="5"/>
                    </a:lnTo>
                    <a:cubicBezTo>
                      <a:pt x="4443" y="5"/>
                      <a:pt x="4442" y="4"/>
                      <a:pt x="4442" y="3"/>
                    </a:cubicBezTo>
                    <a:cubicBezTo>
                      <a:pt x="4442" y="2"/>
                      <a:pt x="4443" y="1"/>
                      <a:pt x="4444" y="1"/>
                    </a:cubicBezTo>
                    <a:close/>
                    <a:moveTo>
                      <a:pt x="4452" y="1"/>
                    </a:moveTo>
                    <a:lnTo>
                      <a:pt x="4452" y="1"/>
                    </a:lnTo>
                    <a:cubicBezTo>
                      <a:pt x="4453" y="1"/>
                      <a:pt x="4454" y="2"/>
                      <a:pt x="4454" y="3"/>
                    </a:cubicBezTo>
                    <a:cubicBezTo>
                      <a:pt x="4454" y="4"/>
                      <a:pt x="4453" y="5"/>
                      <a:pt x="4452" y="5"/>
                    </a:cubicBezTo>
                    <a:lnTo>
                      <a:pt x="4452" y="5"/>
                    </a:lnTo>
                    <a:cubicBezTo>
                      <a:pt x="4451" y="5"/>
                      <a:pt x="4450" y="4"/>
                      <a:pt x="4450" y="3"/>
                    </a:cubicBezTo>
                    <a:cubicBezTo>
                      <a:pt x="4450" y="2"/>
                      <a:pt x="4451" y="1"/>
                      <a:pt x="4452" y="1"/>
                    </a:cubicBezTo>
                    <a:close/>
                    <a:moveTo>
                      <a:pt x="4460" y="1"/>
                    </a:moveTo>
                    <a:lnTo>
                      <a:pt x="4460" y="1"/>
                    </a:lnTo>
                    <a:cubicBezTo>
                      <a:pt x="4461" y="1"/>
                      <a:pt x="4462" y="2"/>
                      <a:pt x="4462" y="3"/>
                    </a:cubicBezTo>
                    <a:cubicBezTo>
                      <a:pt x="4462" y="4"/>
                      <a:pt x="4461" y="5"/>
                      <a:pt x="4460" y="5"/>
                    </a:cubicBezTo>
                    <a:lnTo>
                      <a:pt x="4460" y="5"/>
                    </a:lnTo>
                    <a:cubicBezTo>
                      <a:pt x="4459" y="5"/>
                      <a:pt x="4458" y="4"/>
                      <a:pt x="4458" y="3"/>
                    </a:cubicBezTo>
                    <a:cubicBezTo>
                      <a:pt x="4458" y="2"/>
                      <a:pt x="4459" y="1"/>
                      <a:pt x="4460" y="1"/>
                    </a:cubicBezTo>
                    <a:close/>
                    <a:moveTo>
                      <a:pt x="4468" y="1"/>
                    </a:moveTo>
                    <a:lnTo>
                      <a:pt x="4468" y="1"/>
                    </a:lnTo>
                    <a:cubicBezTo>
                      <a:pt x="4469" y="1"/>
                      <a:pt x="4470" y="2"/>
                      <a:pt x="4470" y="3"/>
                    </a:cubicBezTo>
                    <a:cubicBezTo>
                      <a:pt x="4470" y="4"/>
                      <a:pt x="4469" y="5"/>
                      <a:pt x="4468" y="5"/>
                    </a:cubicBezTo>
                    <a:lnTo>
                      <a:pt x="4468" y="5"/>
                    </a:lnTo>
                    <a:cubicBezTo>
                      <a:pt x="4467" y="5"/>
                      <a:pt x="4466" y="4"/>
                      <a:pt x="4466" y="3"/>
                    </a:cubicBezTo>
                    <a:cubicBezTo>
                      <a:pt x="4466" y="2"/>
                      <a:pt x="4467" y="1"/>
                      <a:pt x="4468" y="1"/>
                    </a:cubicBezTo>
                    <a:close/>
                    <a:moveTo>
                      <a:pt x="4476" y="1"/>
                    </a:moveTo>
                    <a:lnTo>
                      <a:pt x="4476" y="1"/>
                    </a:lnTo>
                    <a:cubicBezTo>
                      <a:pt x="4477" y="1"/>
                      <a:pt x="4478" y="2"/>
                      <a:pt x="4478" y="3"/>
                    </a:cubicBezTo>
                    <a:cubicBezTo>
                      <a:pt x="4478" y="4"/>
                      <a:pt x="4477" y="5"/>
                      <a:pt x="4476" y="5"/>
                    </a:cubicBezTo>
                    <a:lnTo>
                      <a:pt x="4476" y="5"/>
                    </a:lnTo>
                    <a:cubicBezTo>
                      <a:pt x="4475" y="5"/>
                      <a:pt x="4474" y="4"/>
                      <a:pt x="4474" y="3"/>
                    </a:cubicBezTo>
                    <a:cubicBezTo>
                      <a:pt x="4474" y="2"/>
                      <a:pt x="4475" y="1"/>
                      <a:pt x="4476" y="1"/>
                    </a:cubicBezTo>
                    <a:close/>
                    <a:moveTo>
                      <a:pt x="4484" y="1"/>
                    </a:moveTo>
                    <a:lnTo>
                      <a:pt x="4484" y="1"/>
                    </a:lnTo>
                    <a:cubicBezTo>
                      <a:pt x="4485" y="1"/>
                      <a:pt x="4486" y="2"/>
                      <a:pt x="4486" y="3"/>
                    </a:cubicBezTo>
                    <a:cubicBezTo>
                      <a:pt x="4486" y="4"/>
                      <a:pt x="4485" y="5"/>
                      <a:pt x="4484" y="5"/>
                    </a:cubicBezTo>
                    <a:lnTo>
                      <a:pt x="4484" y="5"/>
                    </a:lnTo>
                    <a:cubicBezTo>
                      <a:pt x="4483" y="5"/>
                      <a:pt x="4482" y="4"/>
                      <a:pt x="4482" y="3"/>
                    </a:cubicBezTo>
                    <a:cubicBezTo>
                      <a:pt x="4482" y="2"/>
                      <a:pt x="4483" y="1"/>
                      <a:pt x="4484" y="1"/>
                    </a:cubicBezTo>
                    <a:close/>
                    <a:moveTo>
                      <a:pt x="4492" y="1"/>
                    </a:moveTo>
                    <a:lnTo>
                      <a:pt x="4492" y="1"/>
                    </a:lnTo>
                    <a:cubicBezTo>
                      <a:pt x="4493" y="1"/>
                      <a:pt x="4494" y="2"/>
                      <a:pt x="4494" y="3"/>
                    </a:cubicBezTo>
                    <a:cubicBezTo>
                      <a:pt x="4494" y="4"/>
                      <a:pt x="4493" y="5"/>
                      <a:pt x="4492" y="5"/>
                    </a:cubicBezTo>
                    <a:lnTo>
                      <a:pt x="4492" y="5"/>
                    </a:lnTo>
                    <a:cubicBezTo>
                      <a:pt x="4491" y="5"/>
                      <a:pt x="4490" y="4"/>
                      <a:pt x="4490" y="3"/>
                    </a:cubicBezTo>
                    <a:cubicBezTo>
                      <a:pt x="4490" y="2"/>
                      <a:pt x="4491" y="1"/>
                      <a:pt x="4492" y="1"/>
                    </a:cubicBezTo>
                    <a:close/>
                    <a:moveTo>
                      <a:pt x="4500" y="1"/>
                    </a:moveTo>
                    <a:lnTo>
                      <a:pt x="4500" y="1"/>
                    </a:lnTo>
                    <a:cubicBezTo>
                      <a:pt x="4501" y="1"/>
                      <a:pt x="4502" y="2"/>
                      <a:pt x="4502" y="3"/>
                    </a:cubicBezTo>
                    <a:cubicBezTo>
                      <a:pt x="4502" y="4"/>
                      <a:pt x="4501" y="5"/>
                      <a:pt x="4500" y="5"/>
                    </a:cubicBezTo>
                    <a:lnTo>
                      <a:pt x="4500" y="5"/>
                    </a:lnTo>
                    <a:cubicBezTo>
                      <a:pt x="4499" y="5"/>
                      <a:pt x="4498" y="4"/>
                      <a:pt x="4498" y="3"/>
                    </a:cubicBezTo>
                    <a:cubicBezTo>
                      <a:pt x="4498" y="2"/>
                      <a:pt x="4499" y="1"/>
                      <a:pt x="4500" y="1"/>
                    </a:cubicBezTo>
                    <a:close/>
                    <a:moveTo>
                      <a:pt x="4508" y="1"/>
                    </a:moveTo>
                    <a:lnTo>
                      <a:pt x="4508" y="1"/>
                    </a:lnTo>
                    <a:cubicBezTo>
                      <a:pt x="4509" y="1"/>
                      <a:pt x="4510" y="2"/>
                      <a:pt x="4510" y="3"/>
                    </a:cubicBezTo>
                    <a:cubicBezTo>
                      <a:pt x="4510" y="4"/>
                      <a:pt x="4509" y="5"/>
                      <a:pt x="4508" y="5"/>
                    </a:cubicBezTo>
                    <a:lnTo>
                      <a:pt x="4508" y="5"/>
                    </a:lnTo>
                    <a:cubicBezTo>
                      <a:pt x="4507" y="5"/>
                      <a:pt x="4506" y="4"/>
                      <a:pt x="4506" y="3"/>
                    </a:cubicBezTo>
                    <a:cubicBezTo>
                      <a:pt x="4506" y="2"/>
                      <a:pt x="4507" y="1"/>
                      <a:pt x="4508" y="1"/>
                    </a:cubicBezTo>
                    <a:close/>
                    <a:moveTo>
                      <a:pt x="4516" y="1"/>
                    </a:moveTo>
                    <a:lnTo>
                      <a:pt x="4516" y="1"/>
                    </a:lnTo>
                    <a:cubicBezTo>
                      <a:pt x="4517" y="1"/>
                      <a:pt x="4518" y="2"/>
                      <a:pt x="4518" y="3"/>
                    </a:cubicBezTo>
                    <a:cubicBezTo>
                      <a:pt x="4518" y="4"/>
                      <a:pt x="4517" y="5"/>
                      <a:pt x="4516" y="5"/>
                    </a:cubicBezTo>
                    <a:lnTo>
                      <a:pt x="4516" y="5"/>
                    </a:lnTo>
                    <a:cubicBezTo>
                      <a:pt x="4515" y="5"/>
                      <a:pt x="4514" y="4"/>
                      <a:pt x="4514" y="3"/>
                    </a:cubicBezTo>
                    <a:cubicBezTo>
                      <a:pt x="4514" y="2"/>
                      <a:pt x="4515" y="1"/>
                      <a:pt x="4516" y="1"/>
                    </a:cubicBezTo>
                    <a:close/>
                    <a:moveTo>
                      <a:pt x="4524" y="1"/>
                    </a:moveTo>
                    <a:lnTo>
                      <a:pt x="4524" y="1"/>
                    </a:lnTo>
                    <a:cubicBezTo>
                      <a:pt x="4525" y="1"/>
                      <a:pt x="4526" y="2"/>
                      <a:pt x="4526" y="3"/>
                    </a:cubicBezTo>
                    <a:cubicBezTo>
                      <a:pt x="4526" y="4"/>
                      <a:pt x="4525" y="5"/>
                      <a:pt x="4524" y="5"/>
                    </a:cubicBezTo>
                    <a:lnTo>
                      <a:pt x="4524" y="5"/>
                    </a:lnTo>
                    <a:cubicBezTo>
                      <a:pt x="4523" y="5"/>
                      <a:pt x="4522" y="4"/>
                      <a:pt x="4522" y="3"/>
                    </a:cubicBezTo>
                    <a:cubicBezTo>
                      <a:pt x="4522" y="2"/>
                      <a:pt x="4523" y="1"/>
                      <a:pt x="4524" y="1"/>
                    </a:cubicBezTo>
                    <a:close/>
                    <a:moveTo>
                      <a:pt x="4532" y="1"/>
                    </a:moveTo>
                    <a:lnTo>
                      <a:pt x="4532" y="1"/>
                    </a:lnTo>
                    <a:cubicBezTo>
                      <a:pt x="4533" y="1"/>
                      <a:pt x="4534" y="2"/>
                      <a:pt x="4534" y="3"/>
                    </a:cubicBezTo>
                    <a:cubicBezTo>
                      <a:pt x="4534" y="4"/>
                      <a:pt x="4533" y="5"/>
                      <a:pt x="4532" y="5"/>
                    </a:cubicBezTo>
                    <a:lnTo>
                      <a:pt x="4532" y="5"/>
                    </a:lnTo>
                    <a:cubicBezTo>
                      <a:pt x="4531" y="5"/>
                      <a:pt x="4530" y="4"/>
                      <a:pt x="4530" y="3"/>
                    </a:cubicBezTo>
                    <a:cubicBezTo>
                      <a:pt x="4530" y="2"/>
                      <a:pt x="4531" y="1"/>
                      <a:pt x="4532" y="1"/>
                    </a:cubicBezTo>
                    <a:close/>
                    <a:moveTo>
                      <a:pt x="4540" y="1"/>
                    </a:moveTo>
                    <a:lnTo>
                      <a:pt x="4540" y="1"/>
                    </a:lnTo>
                    <a:cubicBezTo>
                      <a:pt x="4541" y="1"/>
                      <a:pt x="4542" y="2"/>
                      <a:pt x="4542" y="3"/>
                    </a:cubicBezTo>
                    <a:cubicBezTo>
                      <a:pt x="4542" y="4"/>
                      <a:pt x="4541" y="5"/>
                      <a:pt x="4540" y="5"/>
                    </a:cubicBezTo>
                    <a:lnTo>
                      <a:pt x="4540" y="5"/>
                    </a:lnTo>
                    <a:cubicBezTo>
                      <a:pt x="4539" y="5"/>
                      <a:pt x="4538" y="4"/>
                      <a:pt x="4538" y="3"/>
                    </a:cubicBezTo>
                    <a:cubicBezTo>
                      <a:pt x="4538" y="2"/>
                      <a:pt x="4539" y="1"/>
                      <a:pt x="4540" y="1"/>
                    </a:cubicBezTo>
                    <a:close/>
                    <a:moveTo>
                      <a:pt x="4548" y="1"/>
                    </a:moveTo>
                    <a:lnTo>
                      <a:pt x="4548" y="1"/>
                    </a:lnTo>
                    <a:cubicBezTo>
                      <a:pt x="4549" y="1"/>
                      <a:pt x="4550" y="2"/>
                      <a:pt x="4550" y="3"/>
                    </a:cubicBezTo>
                    <a:cubicBezTo>
                      <a:pt x="4550" y="4"/>
                      <a:pt x="4549" y="5"/>
                      <a:pt x="4548" y="5"/>
                    </a:cubicBezTo>
                    <a:lnTo>
                      <a:pt x="4548" y="5"/>
                    </a:lnTo>
                    <a:cubicBezTo>
                      <a:pt x="4547" y="5"/>
                      <a:pt x="4546" y="4"/>
                      <a:pt x="4546" y="3"/>
                    </a:cubicBezTo>
                    <a:cubicBezTo>
                      <a:pt x="4546" y="2"/>
                      <a:pt x="4547" y="1"/>
                      <a:pt x="4548" y="1"/>
                    </a:cubicBezTo>
                    <a:close/>
                    <a:moveTo>
                      <a:pt x="4556" y="1"/>
                    </a:moveTo>
                    <a:lnTo>
                      <a:pt x="4556" y="1"/>
                    </a:lnTo>
                    <a:cubicBezTo>
                      <a:pt x="4557" y="1"/>
                      <a:pt x="4558" y="2"/>
                      <a:pt x="4558" y="3"/>
                    </a:cubicBezTo>
                    <a:cubicBezTo>
                      <a:pt x="4558" y="4"/>
                      <a:pt x="4557" y="5"/>
                      <a:pt x="4556" y="5"/>
                    </a:cubicBezTo>
                    <a:lnTo>
                      <a:pt x="4556" y="5"/>
                    </a:lnTo>
                    <a:cubicBezTo>
                      <a:pt x="4555" y="5"/>
                      <a:pt x="4554" y="4"/>
                      <a:pt x="4554" y="3"/>
                    </a:cubicBezTo>
                    <a:cubicBezTo>
                      <a:pt x="4554" y="2"/>
                      <a:pt x="4555" y="1"/>
                      <a:pt x="4556" y="1"/>
                    </a:cubicBezTo>
                    <a:close/>
                    <a:moveTo>
                      <a:pt x="4564" y="1"/>
                    </a:moveTo>
                    <a:lnTo>
                      <a:pt x="4564" y="1"/>
                    </a:lnTo>
                    <a:cubicBezTo>
                      <a:pt x="4565" y="1"/>
                      <a:pt x="4566" y="2"/>
                      <a:pt x="4566" y="3"/>
                    </a:cubicBezTo>
                    <a:cubicBezTo>
                      <a:pt x="4566" y="4"/>
                      <a:pt x="4565" y="5"/>
                      <a:pt x="4564" y="5"/>
                    </a:cubicBezTo>
                    <a:lnTo>
                      <a:pt x="4564" y="5"/>
                    </a:lnTo>
                    <a:cubicBezTo>
                      <a:pt x="4563" y="5"/>
                      <a:pt x="4562" y="4"/>
                      <a:pt x="4562" y="3"/>
                    </a:cubicBezTo>
                    <a:cubicBezTo>
                      <a:pt x="4562" y="2"/>
                      <a:pt x="4563" y="1"/>
                      <a:pt x="4564" y="1"/>
                    </a:cubicBezTo>
                    <a:close/>
                    <a:moveTo>
                      <a:pt x="4572" y="1"/>
                    </a:moveTo>
                    <a:lnTo>
                      <a:pt x="4572" y="1"/>
                    </a:lnTo>
                    <a:cubicBezTo>
                      <a:pt x="4573" y="1"/>
                      <a:pt x="4574" y="2"/>
                      <a:pt x="4574" y="3"/>
                    </a:cubicBezTo>
                    <a:cubicBezTo>
                      <a:pt x="4574" y="4"/>
                      <a:pt x="4573" y="5"/>
                      <a:pt x="4572" y="5"/>
                    </a:cubicBezTo>
                    <a:lnTo>
                      <a:pt x="4572" y="5"/>
                    </a:lnTo>
                    <a:cubicBezTo>
                      <a:pt x="4571" y="5"/>
                      <a:pt x="4570" y="4"/>
                      <a:pt x="4570" y="3"/>
                    </a:cubicBezTo>
                    <a:cubicBezTo>
                      <a:pt x="4570" y="2"/>
                      <a:pt x="4571" y="1"/>
                      <a:pt x="4572" y="1"/>
                    </a:cubicBezTo>
                    <a:close/>
                    <a:moveTo>
                      <a:pt x="4580" y="1"/>
                    </a:moveTo>
                    <a:lnTo>
                      <a:pt x="4580" y="1"/>
                    </a:lnTo>
                    <a:cubicBezTo>
                      <a:pt x="4581" y="1"/>
                      <a:pt x="4582" y="2"/>
                      <a:pt x="4582" y="3"/>
                    </a:cubicBezTo>
                    <a:cubicBezTo>
                      <a:pt x="4582" y="4"/>
                      <a:pt x="4581" y="5"/>
                      <a:pt x="4580" y="5"/>
                    </a:cubicBezTo>
                    <a:lnTo>
                      <a:pt x="4580" y="5"/>
                    </a:lnTo>
                    <a:cubicBezTo>
                      <a:pt x="4579" y="5"/>
                      <a:pt x="4578" y="4"/>
                      <a:pt x="4578" y="3"/>
                    </a:cubicBezTo>
                    <a:cubicBezTo>
                      <a:pt x="4578" y="2"/>
                      <a:pt x="4579" y="1"/>
                      <a:pt x="4580" y="1"/>
                    </a:cubicBezTo>
                    <a:close/>
                    <a:moveTo>
                      <a:pt x="4588" y="1"/>
                    </a:moveTo>
                    <a:lnTo>
                      <a:pt x="4588" y="1"/>
                    </a:lnTo>
                    <a:cubicBezTo>
                      <a:pt x="4589" y="1"/>
                      <a:pt x="4590" y="2"/>
                      <a:pt x="4590" y="3"/>
                    </a:cubicBezTo>
                    <a:cubicBezTo>
                      <a:pt x="4590" y="4"/>
                      <a:pt x="4589" y="5"/>
                      <a:pt x="4588" y="5"/>
                    </a:cubicBezTo>
                    <a:lnTo>
                      <a:pt x="4588" y="5"/>
                    </a:lnTo>
                    <a:cubicBezTo>
                      <a:pt x="4587" y="5"/>
                      <a:pt x="4586" y="4"/>
                      <a:pt x="4586" y="3"/>
                    </a:cubicBezTo>
                    <a:cubicBezTo>
                      <a:pt x="4586" y="2"/>
                      <a:pt x="4587" y="1"/>
                      <a:pt x="4588" y="1"/>
                    </a:cubicBezTo>
                    <a:close/>
                    <a:moveTo>
                      <a:pt x="4596" y="1"/>
                    </a:moveTo>
                    <a:lnTo>
                      <a:pt x="4596" y="1"/>
                    </a:lnTo>
                    <a:cubicBezTo>
                      <a:pt x="4597" y="1"/>
                      <a:pt x="4598" y="2"/>
                      <a:pt x="4598" y="3"/>
                    </a:cubicBezTo>
                    <a:cubicBezTo>
                      <a:pt x="4598" y="4"/>
                      <a:pt x="4597" y="5"/>
                      <a:pt x="4596" y="5"/>
                    </a:cubicBezTo>
                    <a:lnTo>
                      <a:pt x="4596" y="5"/>
                    </a:lnTo>
                    <a:cubicBezTo>
                      <a:pt x="4595" y="5"/>
                      <a:pt x="4594" y="4"/>
                      <a:pt x="4594" y="3"/>
                    </a:cubicBezTo>
                    <a:cubicBezTo>
                      <a:pt x="4594" y="2"/>
                      <a:pt x="4595" y="1"/>
                      <a:pt x="4596" y="1"/>
                    </a:cubicBezTo>
                    <a:close/>
                    <a:moveTo>
                      <a:pt x="4604" y="1"/>
                    </a:moveTo>
                    <a:lnTo>
                      <a:pt x="4604" y="1"/>
                    </a:lnTo>
                    <a:cubicBezTo>
                      <a:pt x="4605" y="1"/>
                      <a:pt x="4606" y="2"/>
                      <a:pt x="4606" y="3"/>
                    </a:cubicBezTo>
                    <a:cubicBezTo>
                      <a:pt x="4606" y="4"/>
                      <a:pt x="4605" y="5"/>
                      <a:pt x="4604" y="5"/>
                    </a:cubicBezTo>
                    <a:lnTo>
                      <a:pt x="4604" y="5"/>
                    </a:lnTo>
                    <a:cubicBezTo>
                      <a:pt x="4603" y="5"/>
                      <a:pt x="4602" y="4"/>
                      <a:pt x="4602" y="3"/>
                    </a:cubicBezTo>
                    <a:cubicBezTo>
                      <a:pt x="4602" y="2"/>
                      <a:pt x="4603" y="1"/>
                      <a:pt x="4604" y="1"/>
                    </a:cubicBezTo>
                    <a:close/>
                    <a:moveTo>
                      <a:pt x="4612" y="1"/>
                    </a:moveTo>
                    <a:lnTo>
                      <a:pt x="4612" y="1"/>
                    </a:lnTo>
                    <a:cubicBezTo>
                      <a:pt x="4613" y="1"/>
                      <a:pt x="4614" y="2"/>
                      <a:pt x="4614" y="3"/>
                    </a:cubicBezTo>
                    <a:cubicBezTo>
                      <a:pt x="4614" y="4"/>
                      <a:pt x="4613" y="5"/>
                      <a:pt x="4612" y="5"/>
                    </a:cubicBezTo>
                    <a:lnTo>
                      <a:pt x="4612" y="5"/>
                    </a:lnTo>
                    <a:cubicBezTo>
                      <a:pt x="4611" y="5"/>
                      <a:pt x="4610" y="4"/>
                      <a:pt x="4610" y="3"/>
                    </a:cubicBezTo>
                    <a:cubicBezTo>
                      <a:pt x="4610" y="2"/>
                      <a:pt x="4611" y="1"/>
                      <a:pt x="4612" y="1"/>
                    </a:cubicBezTo>
                    <a:close/>
                    <a:moveTo>
                      <a:pt x="4620" y="1"/>
                    </a:moveTo>
                    <a:lnTo>
                      <a:pt x="4620" y="1"/>
                    </a:lnTo>
                    <a:cubicBezTo>
                      <a:pt x="4621" y="1"/>
                      <a:pt x="4622" y="2"/>
                      <a:pt x="4622" y="3"/>
                    </a:cubicBezTo>
                    <a:cubicBezTo>
                      <a:pt x="4622" y="4"/>
                      <a:pt x="4621" y="5"/>
                      <a:pt x="4620" y="5"/>
                    </a:cubicBezTo>
                    <a:lnTo>
                      <a:pt x="4620" y="5"/>
                    </a:lnTo>
                    <a:cubicBezTo>
                      <a:pt x="4619" y="5"/>
                      <a:pt x="4618" y="4"/>
                      <a:pt x="4618" y="3"/>
                    </a:cubicBezTo>
                    <a:cubicBezTo>
                      <a:pt x="4618" y="2"/>
                      <a:pt x="4619" y="1"/>
                      <a:pt x="4620" y="1"/>
                    </a:cubicBezTo>
                    <a:close/>
                    <a:moveTo>
                      <a:pt x="4628" y="1"/>
                    </a:moveTo>
                    <a:lnTo>
                      <a:pt x="4628" y="1"/>
                    </a:lnTo>
                    <a:cubicBezTo>
                      <a:pt x="4629" y="1"/>
                      <a:pt x="4630" y="2"/>
                      <a:pt x="4630" y="3"/>
                    </a:cubicBezTo>
                    <a:cubicBezTo>
                      <a:pt x="4630" y="4"/>
                      <a:pt x="4629" y="5"/>
                      <a:pt x="4628" y="5"/>
                    </a:cubicBezTo>
                    <a:lnTo>
                      <a:pt x="4628" y="5"/>
                    </a:lnTo>
                    <a:cubicBezTo>
                      <a:pt x="4627" y="5"/>
                      <a:pt x="4626" y="4"/>
                      <a:pt x="4626" y="3"/>
                    </a:cubicBezTo>
                    <a:cubicBezTo>
                      <a:pt x="4626" y="2"/>
                      <a:pt x="4627" y="1"/>
                      <a:pt x="4628" y="1"/>
                    </a:cubicBezTo>
                    <a:close/>
                    <a:moveTo>
                      <a:pt x="4636" y="1"/>
                    </a:moveTo>
                    <a:lnTo>
                      <a:pt x="4636" y="1"/>
                    </a:lnTo>
                    <a:cubicBezTo>
                      <a:pt x="4637" y="1"/>
                      <a:pt x="4638" y="2"/>
                      <a:pt x="4638" y="3"/>
                    </a:cubicBezTo>
                    <a:cubicBezTo>
                      <a:pt x="4638" y="4"/>
                      <a:pt x="4637" y="5"/>
                      <a:pt x="4636" y="5"/>
                    </a:cubicBezTo>
                    <a:lnTo>
                      <a:pt x="4636" y="5"/>
                    </a:lnTo>
                    <a:cubicBezTo>
                      <a:pt x="4635" y="5"/>
                      <a:pt x="4634" y="4"/>
                      <a:pt x="4634" y="3"/>
                    </a:cubicBezTo>
                    <a:cubicBezTo>
                      <a:pt x="4634" y="2"/>
                      <a:pt x="4635" y="1"/>
                      <a:pt x="4636" y="1"/>
                    </a:cubicBezTo>
                    <a:close/>
                    <a:moveTo>
                      <a:pt x="4644" y="1"/>
                    </a:moveTo>
                    <a:lnTo>
                      <a:pt x="4644" y="1"/>
                    </a:lnTo>
                    <a:cubicBezTo>
                      <a:pt x="4645" y="1"/>
                      <a:pt x="4646" y="2"/>
                      <a:pt x="4646" y="3"/>
                    </a:cubicBezTo>
                    <a:cubicBezTo>
                      <a:pt x="4646" y="4"/>
                      <a:pt x="4645" y="5"/>
                      <a:pt x="4644" y="5"/>
                    </a:cubicBezTo>
                    <a:lnTo>
                      <a:pt x="4644" y="5"/>
                    </a:lnTo>
                    <a:cubicBezTo>
                      <a:pt x="4643" y="5"/>
                      <a:pt x="4642" y="4"/>
                      <a:pt x="4642" y="3"/>
                    </a:cubicBezTo>
                    <a:cubicBezTo>
                      <a:pt x="4642" y="2"/>
                      <a:pt x="4643" y="1"/>
                      <a:pt x="4644" y="1"/>
                    </a:cubicBezTo>
                    <a:close/>
                    <a:moveTo>
                      <a:pt x="4652" y="1"/>
                    </a:moveTo>
                    <a:lnTo>
                      <a:pt x="4652" y="1"/>
                    </a:lnTo>
                    <a:cubicBezTo>
                      <a:pt x="4653" y="1"/>
                      <a:pt x="4654" y="2"/>
                      <a:pt x="4654" y="3"/>
                    </a:cubicBezTo>
                    <a:cubicBezTo>
                      <a:pt x="4654" y="4"/>
                      <a:pt x="4653" y="5"/>
                      <a:pt x="4652" y="5"/>
                    </a:cubicBezTo>
                    <a:lnTo>
                      <a:pt x="4652" y="5"/>
                    </a:lnTo>
                    <a:cubicBezTo>
                      <a:pt x="4651" y="5"/>
                      <a:pt x="4650" y="4"/>
                      <a:pt x="4650" y="3"/>
                    </a:cubicBezTo>
                    <a:cubicBezTo>
                      <a:pt x="4650" y="2"/>
                      <a:pt x="4651" y="1"/>
                      <a:pt x="4652" y="1"/>
                    </a:cubicBezTo>
                    <a:close/>
                    <a:moveTo>
                      <a:pt x="4660" y="1"/>
                    </a:moveTo>
                    <a:lnTo>
                      <a:pt x="4660" y="1"/>
                    </a:lnTo>
                    <a:cubicBezTo>
                      <a:pt x="4661" y="1"/>
                      <a:pt x="4662" y="2"/>
                      <a:pt x="4662" y="3"/>
                    </a:cubicBezTo>
                    <a:cubicBezTo>
                      <a:pt x="4662" y="4"/>
                      <a:pt x="4661" y="5"/>
                      <a:pt x="4660" y="5"/>
                    </a:cubicBezTo>
                    <a:lnTo>
                      <a:pt x="4660" y="5"/>
                    </a:lnTo>
                    <a:cubicBezTo>
                      <a:pt x="4659" y="5"/>
                      <a:pt x="4658" y="4"/>
                      <a:pt x="4658" y="3"/>
                    </a:cubicBezTo>
                    <a:cubicBezTo>
                      <a:pt x="4658" y="2"/>
                      <a:pt x="4659" y="1"/>
                      <a:pt x="4660" y="1"/>
                    </a:cubicBezTo>
                    <a:close/>
                    <a:moveTo>
                      <a:pt x="4668" y="1"/>
                    </a:moveTo>
                    <a:lnTo>
                      <a:pt x="4668" y="1"/>
                    </a:lnTo>
                    <a:cubicBezTo>
                      <a:pt x="4669" y="1"/>
                      <a:pt x="4670" y="2"/>
                      <a:pt x="4670" y="3"/>
                    </a:cubicBezTo>
                    <a:cubicBezTo>
                      <a:pt x="4670" y="4"/>
                      <a:pt x="4669" y="5"/>
                      <a:pt x="4668" y="5"/>
                    </a:cubicBezTo>
                    <a:lnTo>
                      <a:pt x="4668" y="5"/>
                    </a:lnTo>
                    <a:cubicBezTo>
                      <a:pt x="4667" y="5"/>
                      <a:pt x="4666" y="4"/>
                      <a:pt x="4666" y="3"/>
                    </a:cubicBezTo>
                    <a:cubicBezTo>
                      <a:pt x="4666" y="2"/>
                      <a:pt x="4667" y="1"/>
                      <a:pt x="4668" y="1"/>
                    </a:cubicBezTo>
                    <a:close/>
                    <a:moveTo>
                      <a:pt x="4676" y="1"/>
                    </a:moveTo>
                    <a:lnTo>
                      <a:pt x="4676" y="1"/>
                    </a:lnTo>
                    <a:cubicBezTo>
                      <a:pt x="4677" y="1"/>
                      <a:pt x="4678" y="2"/>
                      <a:pt x="4678" y="3"/>
                    </a:cubicBezTo>
                    <a:cubicBezTo>
                      <a:pt x="4678" y="4"/>
                      <a:pt x="4677" y="5"/>
                      <a:pt x="4676" y="5"/>
                    </a:cubicBezTo>
                    <a:lnTo>
                      <a:pt x="4676" y="5"/>
                    </a:lnTo>
                    <a:cubicBezTo>
                      <a:pt x="4675" y="5"/>
                      <a:pt x="4674" y="4"/>
                      <a:pt x="4674" y="3"/>
                    </a:cubicBezTo>
                    <a:cubicBezTo>
                      <a:pt x="4674" y="2"/>
                      <a:pt x="4675" y="1"/>
                      <a:pt x="4676" y="1"/>
                    </a:cubicBezTo>
                    <a:close/>
                    <a:moveTo>
                      <a:pt x="4684" y="1"/>
                    </a:moveTo>
                    <a:lnTo>
                      <a:pt x="4684" y="1"/>
                    </a:lnTo>
                    <a:cubicBezTo>
                      <a:pt x="4685" y="1"/>
                      <a:pt x="4686" y="2"/>
                      <a:pt x="4686" y="3"/>
                    </a:cubicBezTo>
                    <a:cubicBezTo>
                      <a:pt x="4686" y="4"/>
                      <a:pt x="4685" y="5"/>
                      <a:pt x="4684" y="5"/>
                    </a:cubicBezTo>
                    <a:lnTo>
                      <a:pt x="4684" y="5"/>
                    </a:lnTo>
                    <a:cubicBezTo>
                      <a:pt x="4683" y="5"/>
                      <a:pt x="4682" y="4"/>
                      <a:pt x="4682" y="3"/>
                    </a:cubicBezTo>
                    <a:cubicBezTo>
                      <a:pt x="4682" y="2"/>
                      <a:pt x="4683" y="1"/>
                      <a:pt x="4684" y="1"/>
                    </a:cubicBezTo>
                    <a:close/>
                    <a:moveTo>
                      <a:pt x="4692" y="1"/>
                    </a:moveTo>
                    <a:lnTo>
                      <a:pt x="4692" y="1"/>
                    </a:lnTo>
                    <a:cubicBezTo>
                      <a:pt x="4693" y="1"/>
                      <a:pt x="4694" y="2"/>
                      <a:pt x="4694" y="3"/>
                    </a:cubicBezTo>
                    <a:cubicBezTo>
                      <a:pt x="4694" y="4"/>
                      <a:pt x="4693" y="5"/>
                      <a:pt x="4692" y="5"/>
                    </a:cubicBezTo>
                    <a:lnTo>
                      <a:pt x="4692" y="5"/>
                    </a:lnTo>
                    <a:cubicBezTo>
                      <a:pt x="4691" y="5"/>
                      <a:pt x="4690" y="4"/>
                      <a:pt x="4690" y="3"/>
                    </a:cubicBezTo>
                    <a:cubicBezTo>
                      <a:pt x="4690" y="2"/>
                      <a:pt x="4691" y="1"/>
                      <a:pt x="4692" y="1"/>
                    </a:cubicBezTo>
                    <a:close/>
                    <a:moveTo>
                      <a:pt x="4700" y="1"/>
                    </a:moveTo>
                    <a:lnTo>
                      <a:pt x="4700" y="1"/>
                    </a:lnTo>
                    <a:cubicBezTo>
                      <a:pt x="4701" y="1"/>
                      <a:pt x="4702" y="2"/>
                      <a:pt x="4702" y="3"/>
                    </a:cubicBezTo>
                    <a:cubicBezTo>
                      <a:pt x="4702" y="4"/>
                      <a:pt x="4701" y="5"/>
                      <a:pt x="4700" y="5"/>
                    </a:cubicBezTo>
                    <a:lnTo>
                      <a:pt x="4700" y="5"/>
                    </a:lnTo>
                    <a:cubicBezTo>
                      <a:pt x="4699" y="5"/>
                      <a:pt x="4698" y="4"/>
                      <a:pt x="4698" y="3"/>
                    </a:cubicBezTo>
                    <a:cubicBezTo>
                      <a:pt x="4698" y="2"/>
                      <a:pt x="4699" y="1"/>
                      <a:pt x="4700" y="1"/>
                    </a:cubicBezTo>
                    <a:close/>
                    <a:moveTo>
                      <a:pt x="4708" y="1"/>
                    </a:moveTo>
                    <a:lnTo>
                      <a:pt x="4708" y="1"/>
                    </a:lnTo>
                    <a:cubicBezTo>
                      <a:pt x="4709" y="1"/>
                      <a:pt x="4710" y="2"/>
                      <a:pt x="4710" y="3"/>
                    </a:cubicBezTo>
                    <a:cubicBezTo>
                      <a:pt x="4710" y="4"/>
                      <a:pt x="4709" y="5"/>
                      <a:pt x="4708" y="5"/>
                    </a:cubicBezTo>
                    <a:lnTo>
                      <a:pt x="4708" y="5"/>
                    </a:lnTo>
                    <a:cubicBezTo>
                      <a:pt x="4707" y="5"/>
                      <a:pt x="4706" y="4"/>
                      <a:pt x="4706" y="3"/>
                    </a:cubicBezTo>
                    <a:cubicBezTo>
                      <a:pt x="4706" y="2"/>
                      <a:pt x="4707" y="1"/>
                      <a:pt x="4708" y="1"/>
                    </a:cubicBezTo>
                    <a:close/>
                    <a:moveTo>
                      <a:pt x="4716" y="1"/>
                    </a:moveTo>
                    <a:lnTo>
                      <a:pt x="4716" y="1"/>
                    </a:lnTo>
                    <a:cubicBezTo>
                      <a:pt x="4717" y="1"/>
                      <a:pt x="4718" y="2"/>
                      <a:pt x="4718" y="3"/>
                    </a:cubicBezTo>
                    <a:cubicBezTo>
                      <a:pt x="4718" y="4"/>
                      <a:pt x="4717" y="5"/>
                      <a:pt x="4716" y="5"/>
                    </a:cubicBezTo>
                    <a:lnTo>
                      <a:pt x="4716" y="5"/>
                    </a:lnTo>
                    <a:cubicBezTo>
                      <a:pt x="4715" y="5"/>
                      <a:pt x="4714" y="4"/>
                      <a:pt x="4714" y="3"/>
                    </a:cubicBezTo>
                    <a:cubicBezTo>
                      <a:pt x="4714" y="2"/>
                      <a:pt x="4715" y="1"/>
                      <a:pt x="4716" y="1"/>
                    </a:cubicBezTo>
                    <a:close/>
                    <a:moveTo>
                      <a:pt x="4724" y="1"/>
                    </a:moveTo>
                    <a:lnTo>
                      <a:pt x="4724" y="1"/>
                    </a:lnTo>
                    <a:cubicBezTo>
                      <a:pt x="4725" y="1"/>
                      <a:pt x="4726" y="2"/>
                      <a:pt x="4726" y="3"/>
                    </a:cubicBezTo>
                    <a:cubicBezTo>
                      <a:pt x="4726" y="4"/>
                      <a:pt x="4725" y="5"/>
                      <a:pt x="4724" y="5"/>
                    </a:cubicBezTo>
                    <a:lnTo>
                      <a:pt x="4724" y="5"/>
                    </a:lnTo>
                    <a:cubicBezTo>
                      <a:pt x="4723" y="5"/>
                      <a:pt x="4722" y="4"/>
                      <a:pt x="4722" y="3"/>
                    </a:cubicBezTo>
                    <a:cubicBezTo>
                      <a:pt x="4722" y="2"/>
                      <a:pt x="4723" y="1"/>
                      <a:pt x="4724" y="1"/>
                    </a:cubicBezTo>
                    <a:close/>
                    <a:moveTo>
                      <a:pt x="4732" y="1"/>
                    </a:moveTo>
                    <a:lnTo>
                      <a:pt x="4732" y="1"/>
                    </a:lnTo>
                    <a:cubicBezTo>
                      <a:pt x="4733" y="1"/>
                      <a:pt x="4734" y="2"/>
                      <a:pt x="4734" y="3"/>
                    </a:cubicBezTo>
                    <a:cubicBezTo>
                      <a:pt x="4734" y="4"/>
                      <a:pt x="4733" y="5"/>
                      <a:pt x="4732" y="5"/>
                    </a:cubicBezTo>
                    <a:lnTo>
                      <a:pt x="4732" y="5"/>
                    </a:lnTo>
                    <a:cubicBezTo>
                      <a:pt x="4731" y="5"/>
                      <a:pt x="4730" y="4"/>
                      <a:pt x="4730" y="3"/>
                    </a:cubicBezTo>
                    <a:cubicBezTo>
                      <a:pt x="4730" y="2"/>
                      <a:pt x="4731" y="1"/>
                      <a:pt x="4732" y="1"/>
                    </a:cubicBezTo>
                    <a:close/>
                    <a:moveTo>
                      <a:pt x="4740" y="1"/>
                    </a:moveTo>
                    <a:lnTo>
                      <a:pt x="4740" y="1"/>
                    </a:lnTo>
                    <a:cubicBezTo>
                      <a:pt x="4741" y="1"/>
                      <a:pt x="4742" y="2"/>
                      <a:pt x="4742" y="3"/>
                    </a:cubicBezTo>
                    <a:cubicBezTo>
                      <a:pt x="4742" y="4"/>
                      <a:pt x="4741" y="5"/>
                      <a:pt x="4740" y="5"/>
                    </a:cubicBezTo>
                    <a:lnTo>
                      <a:pt x="4740" y="5"/>
                    </a:lnTo>
                    <a:cubicBezTo>
                      <a:pt x="4739" y="5"/>
                      <a:pt x="4738" y="4"/>
                      <a:pt x="4738" y="3"/>
                    </a:cubicBezTo>
                    <a:cubicBezTo>
                      <a:pt x="4738" y="2"/>
                      <a:pt x="4739" y="1"/>
                      <a:pt x="4740" y="1"/>
                    </a:cubicBezTo>
                    <a:close/>
                    <a:moveTo>
                      <a:pt x="4748" y="1"/>
                    </a:moveTo>
                    <a:lnTo>
                      <a:pt x="4748" y="1"/>
                    </a:lnTo>
                    <a:cubicBezTo>
                      <a:pt x="4749" y="1"/>
                      <a:pt x="4750" y="2"/>
                      <a:pt x="4750" y="3"/>
                    </a:cubicBezTo>
                    <a:cubicBezTo>
                      <a:pt x="4750" y="4"/>
                      <a:pt x="4749" y="5"/>
                      <a:pt x="4748" y="5"/>
                    </a:cubicBezTo>
                    <a:lnTo>
                      <a:pt x="4748" y="5"/>
                    </a:lnTo>
                    <a:cubicBezTo>
                      <a:pt x="4747" y="5"/>
                      <a:pt x="4746" y="4"/>
                      <a:pt x="4746" y="3"/>
                    </a:cubicBezTo>
                    <a:cubicBezTo>
                      <a:pt x="4746" y="2"/>
                      <a:pt x="4747" y="1"/>
                      <a:pt x="4748" y="1"/>
                    </a:cubicBezTo>
                    <a:close/>
                    <a:moveTo>
                      <a:pt x="4756" y="1"/>
                    </a:moveTo>
                    <a:lnTo>
                      <a:pt x="4756" y="1"/>
                    </a:lnTo>
                    <a:cubicBezTo>
                      <a:pt x="4757" y="1"/>
                      <a:pt x="4758" y="2"/>
                      <a:pt x="4758" y="3"/>
                    </a:cubicBezTo>
                    <a:cubicBezTo>
                      <a:pt x="4758" y="4"/>
                      <a:pt x="4757" y="5"/>
                      <a:pt x="4756" y="5"/>
                    </a:cubicBezTo>
                    <a:lnTo>
                      <a:pt x="4756" y="5"/>
                    </a:lnTo>
                    <a:cubicBezTo>
                      <a:pt x="4755" y="5"/>
                      <a:pt x="4754" y="4"/>
                      <a:pt x="4754" y="3"/>
                    </a:cubicBezTo>
                    <a:cubicBezTo>
                      <a:pt x="4754" y="2"/>
                      <a:pt x="4755" y="1"/>
                      <a:pt x="4756" y="1"/>
                    </a:cubicBezTo>
                    <a:close/>
                    <a:moveTo>
                      <a:pt x="4764" y="1"/>
                    </a:moveTo>
                    <a:lnTo>
                      <a:pt x="4764" y="1"/>
                    </a:lnTo>
                    <a:cubicBezTo>
                      <a:pt x="4765" y="1"/>
                      <a:pt x="4766" y="2"/>
                      <a:pt x="4766" y="3"/>
                    </a:cubicBezTo>
                    <a:cubicBezTo>
                      <a:pt x="4766" y="4"/>
                      <a:pt x="4765" y="5"/>
                      <a:pt x="4764" y="5"/>
                    </a:cubicBezTo>
                    <a:lnTo>
                      <a:pt x="4764" y="5"/>
                    </a:lnTo>
                    <a:cubicBezTo>
                      <a:pt x="4763" y="5"/>
                      <a:pt x="4762" y="4"/>
                      <a:pt x="4762" y="3"/>
                    </a:cubicBezTo>
                    <a:cubicBezTo>
                      <a:pt x="4762" y="2"/>
                      <a:pt x="4763" y="1"/>
                      <a:pt x="4764" y="1"/>
                    </a:cubicBezTo>
                    <a:close/>
                    <a:moveTo>
                      <a:pt x="4772" y="1"/>
                    </a:moveTo>
                    <a:lnTo>
                      <a:pt x="4772" y="1"/>
                    </a:lnTo>
                    <a:cubicBezTo>
                      <a:pt x="4773" y="1"/>
                      <a:pt x="4774" y="2"/>
                      <a:pt x="4774" y="3"/>
                    </a:cubicBezTo>
                    <a:cubicBezTo>
                      <a:pt x="4774" y="4"/>
                      <a:pt x="4773" y="5"/>
                      <a:pt x="4772" y="5"/>
                    </a:cubicBezTo>
                    <a:lnTo>
                      <a:pt x="4772" y="5"/>
                    </a:lnTo>
                    <a:cubicBezTo>
                      <a:pt x="4771" y="5"/>
                      <a:pt x="4770" y="4"/>
                      <a:pt x="4770" y="3"/>
                    </a:cubicBezTo>
                    <a:cubicBezTo>
                      <a:pt x="4770" y="2"/>
                      <a:pt x="4771" y="1"/>
                      <a:pt x="4772" y="1"/>
                    </a:cubicBezTo>
                    <a:close/>
                    <a:moveTo>
                      <a:pt x="4780" y="1"/>
                    </a:moveTo>
                    <a:lnTo>
                      <a:pt x="4780" y="1"/>
                    </a:lnTo>
                    <a:cubicBezTo>
                      <a:pt x="4781" y="1"/>
                      <a:pt x="4782" y="2"/>
                      <a:pt x="4782" y="3"/>
                    </a:cubicBezTo>
                    <a:cubicBezTo>
                      <a:pt x="4782" y="4"/>
                      <a:pt x="4781" y="5"/>
                      <a:pt x="4780" y="5"/>
                    </a:cubicBezTo>
                    <a:lnTo>
                      <a:pt x="4780" y="5"/>
                    </a:lnTo>
                    <a:cubicBezTo>
                      <a:pt x="4779" y="5"/>
                      <a:pt x="4778" y="4"/>
                      <a:pt x="4778" y="3"/>
                    </a:cubicBezTo>
                    <a:cubicBezTo>
                      <a:pt x="4778" y="2"/>
                      <a:pt x="4779" y="1"/>
                      <a:pt x="4780" y="1"/>
                    </a:cubicBezTo>
                    <a:close/>
                    <a:moveTo>
                      <a:pt x="4788" y="1"/>
                    </a:moveTo>
                    <a:lnTo>
                      <a:pt x="4788" y="1"/>
                    </a:lnTo>
                    <a:cubicBezTo>
                      <a:pt x="4789" y="1"/>
                      <a:pt x="4790" y="2"/>
                      <a:pt x="4790" y="3"/>
                    </a:cubicBezTo>
                    <a:cubicBezTo>
                      <a:pt x="4790" y="4"/>
                      <a:pt x="4789" y="5"/>
                      <a:pt x="4788" y="5"/>
                    </a:cubicBezTo>
                    <a:lnTo>
                      <a:pt x="4788" y="5"/>
                    </a:lnTo>
                    <a:cubicBezTo>
                      <a:pt x="4787" y="5"/>
                      <a:pt x="4786" y="4"/>
                      <a:pt x="4786" y="3"/>
                    </a:cubicBezTo>
                    <a:cubicBezTo>
                      <a:pt x="4786" y="2"/>
                      <a:pt x="4787" y="1"/>
                      <a:pt x="4788" y="1"/>
                    </a:cubicBezTo>
                    <a:close/>
                    <a:moveTo>
                      <a:pt x="4796" y="1"/>
                    </a:moveTo>
                    <a:lnTo>
                      <a:pt x="4796" y="1"/>
                    </a:lnTo>
                    <a:cubicBezTo>
                      <a:pt x="4797" y="1"/>
                      <a:pt x="4798" y="2"/>
                      <a:pt x="4798" y="3"/>
                    </a:cubicBezTo>
                    <a:cubicBezTo>
                      <a:pt x="4798" y="4"/>
                      <a:pt x="4797" y="5"/>
                      <a:pt x="4796" y="5"/>
                    </a:cubicBezTo>
                    <a:lnTo>
                      <a:pt x="4796" y="5"/>
                    </a:lnTo>
                    <a:cubicBezTo>
                      <a:pt x="4795" y="5"/>
                      <a:pt x="4794" y="4"/>
                      <a:pt x="4794" y="3"/>
                    </a:cubicBezTo>
                    <a:cubicBezTo>
                      <a:pt x="4794" y="2"/>
                      <a:pt x="4795" y="1"/>
                      <a:pt x="4796" y="1"/>
                    </a:cubicBezTo>
                    <a:close/>
                    <a:moveTo>
                      <a:pt x="4804" y="1"/>
                    </a:moveTo>
                    <a:lnTo>
                      <a:pt x="4804" y="1"/>
                    </a:lnTo>
                    <a:cubicBezTo>
                      <a:pt x="4805" y="1"/>
                      <a:pt x="4806" y="2"/>
                      <a:pt x="4806" y="3"/>
                    </a:cubicBezTo>
                    <a:cubicBezTo>
                      <a:pt x="4806" y="4"/>
                      <a:pt x="4805" y="5"/>
                      <a:pt x="4804" y="5"/>
                    </a:cubicBezTo>
                    <a:lnTo>
                      <a:pt x="4804" y="5"/>
                    </a:lnTo>
                    <a:cubicBezTo>
                      <a:pt x="4803" y="5"/>
                      <a:pt x="4802" y="4"/>
                      <a:pt x="4802" y="3"/>
                    </a:cubicBezTo>
                    <a:cubicBezTo>
                      <a:pt x="4802" y="2"/>
                      <a:pt x="4803" y="1"/>
                      <a:pt x="4804" y="1"/>
                    </a:cubicBezTo>
                    <a:close/>
                    <a:moveTo>
                      <a:pt x="4812" y="1"/>
                    </a:moveTo>
                    <a:lnTo>
                      <a:pt x="4812" y="1"/>
                    </a:lnTo>
                    <a:cubicBezTo>
                      <a:pt x="4813" y="1"/>
                      <a:pt x="4814" y="2"/>
                      <a:pt x="4814" y="3"/>
                    </a:cubicBezTo>
                    <a:cubicBezTo>
                      <a:pt x="4814" y="4"/>
                      <a:pt x="4813" y="5"/>
                      <a:pt x="4812" y="5"/>
                    </a:cubicBezTo>
                    <a:lnTo>
                      <a:pt x="4812" y="5"/>
                    </a:lnTo>
                    <a:cubicBezTo>
                      <a:pt x="4811" y="5"/>
                      <a:pt x="4810" y="4"/>
                      <a:pt x="4810" y="3"/>
                    </a:cubicBezTo>
                    <a:cubicBezTo>
                      <a:pt x="4810" y="2"/>
                      <a:pt x="4811" y="1"/>
                      <a:pt x="4812" y="1"/>
                    </a:cubicBezTo>
                    <a:close/>
                    <a:moveTo>
                      <a:pt x="4820" y="1"/>
                    </a:moveTo>
                    <a:lnTo>
                      <a:pt x="4820" y="1"/>
                    </a:lnTo>
                    <a:cubicBezTo>
                      <a:pt x="4821" y="1"/>
                      <a:pt x="4822" y="2"/>
                      <a:pt x="4822" y="3"/>
                    </a:cubicBezTo>
                    <a:cubicBezTo>
                      <a:pt x="4822" y="4"/>
                      <a:pt x="4821" y="5"/>
                      <a:pt x="4820" y="5"/>
                    </a:cubicBezTo>
                    <a:lnTo>
                      <a:pt x="4820" y="5"/>
                    </a:lnTo>
                    <a:cubicBezTo>
                      <a:pt x="4819" y="5"/>
                      <a:pt x="4818" y="4"/>
                      <a:pt x="4818" y="3"/>
                    </a:cubicBezTo>
                    <a:cubicBezTo>
                      <a:pt x="4818" y="2"/>
                      <a:pt x="4819" y="1"/>
                      <a:pt x="4820" y="1"/>
                    </a:cubicBezTo>
                    <a:close/>
                    <a:moveTo>
                      <a:pt x="4828" y="1"/>
                    </a:moveTo>
                    <a:lnTo>
                      <a:pt x="4828" y="1"/>
                    </a:lnTo>
                    <a:cubicBezTo>
                      <a:pt x="4829" y="1"/>
                      <a:pt x="4830" y="2"/>
                      <a:pt x="4830" y="3"/>
                    </a:cubicBezTo>
                    <a:cubicBezTo>
                      <a:pt x="4830" y="4"/>
                      <a:pt x="4829" y="5"/>
                      <a:pt x="4828" y="5"/>
                    </a:cubicBezTo>
                    <a:lnTo>
                      <a:pt x="4828" y="5"/>
                    </a:lnTo>
                    <a:cubicBezTo>
                      <a:pt x="4827" y="5"/>
                      <a:pt x="4826" y="4"/>
                      <a:pt x="4826" y="3"/>
                    </a:cubicBezTo>
                    <a:cubicBezTo>
                      <a:pt x="4826" y="2"/>
                      <a:pt x="4827" y="1"/>
                      <a:pt x="4828" y="1"/>
                    </a:cubicBezTo>
                    <a:close/>
                    <a:moveTo>
                      <a:pt x="4836" y="1"/>
                    </a:moveTo>
                    <a:lnTo>
                      <a:pt x="4836" y="1"/>
                    </a:lnTo>
                    <a:cubicBezTo>
                      <a:pt x="4837" y="1"/>
                      <a:pt x="4838" y="2"/>
                      <a:pt x="4838" y="3"/>
                    </a:cubicBezTo>
                    <a:cubicBezTo>
                      <a:pt x="4838" y="4"/>
                      <a:pt x="4837" y="5"/>
                      <a:pt x="4836" y="5"/>
                    </a:cubicBezTo>
                    <a:lnTo>
                      <a:pt x="4836" y="5"/>
                    </a:lnTo>
                    <a:cubicBezTo>
                      <a:pt x="4835" y="5"/>
                      <a:pt x="4834" y="4"/>
                      <a:pt x="4834" y="3"/>
                    </a:cubicBezTo>
                    <a:cubicBezTo>
                      <a:pt x="4834" y="2"/>
                      <a:pt x="4835" y="1"/>
                      <a:pt x="4836" y="1"/>
                    </a:cubicBezTo>
                    <a:close/>
                    <a:moveTo>
                      <a:pt x="4844" y="1"/>
                    </a:moveTo>
                    <a:lnTo>
                      <a:pt x="4844" y="1"/>
                    </a:lnTo>
                    <a:cubicBezTo>
                      <a:pt x="4845" y="1"/>
                      <a:pt x="4846" y="2"/>
                      <a:pt x="4846" y="3"/>
                    </a:cubicBezTo>
                    <a:cubicBezTo>
                      <a:pt x="4846" y="4"/>
                      <a:pt x="4845" y="5"/>
                      <a:pt x="4844" y="5"/>
                    </a:cubicBezTo>
                    <a:lnTo>
                      <a:pt x="4844" y="5"/>
                    </a:lnTo>
                    <a:cubicBezTo>
                      <a:pt x="4843" y="5"/>
                      <a:pt x="4842" y="4"/>
                      <a:pt x="4842" y="3"/>
                    </a:cubicBezTo>
                    <a:cubicBezTo>
                      <a:pt x="4842" y="2"/>
                      <a:pt x="4843" y="1"/>
                      <a:pt x="4844" y="1"/>
                    </a:cubicBezTo>
                    <a:close/>
                    <a:moveTo>
                      <a:pt x="4852" y="1"/>
                    </a:moveTo>
                    <a:lnTo>
                      <a:pt x="4852" y="1"/>
                    </a:lnTo>
                    <a:cubicBezTo>
                      <a:pt x="4853" y="1"/>
                      <a:pt x="4854" y="2"/>
                      <a:pt x="4854" y="3"/>
                    </a:cubicBezTo>
                    <a:cubicBezTo>
                      <a:pt x="4854" y="4"/>
                      <a:pt x="4853" y="5"/>
                      <a:pt x="4852" y="5"/>
                    </a:cubicBezTo>
                    <a:lnTo>
                      <a:pt x="4852" y="5"/>
                    </a:lnTo>
                    <a:cubicBezTo>
                      <a:pt x="4851" y="5"/>
                      <a:pt x="4850" y="4"/>
                      <a:pt x="4850" y="3"/>
                    </a:cubicBezTo>
                    <a:cubicBezTo>
                      <a:pt x="4850" y="2"/>
                      <a:pt x="4851" y="1"/>
                      <a:pt x="4852" y="1"/>
                    </a:cubicBezTo>
                    <a:close/>
                    <a:moveTo>
                      <a:pt x="4860" y="1"/>
                    </a:moveTo>
                    <a:lnTo>
                      <a:pt x="4860" y="1"/>
                    </a:lnTo>
                    <a:cubicBezTo>
                      <a:pt x="4861" y="1"/>
                      <a:pt x="4862" y="2"/>
                      <a:pt x="4862" y="3"/>
                    </a:cubicBezTo>
                    <a:cubicBezTo>
                      <a:pt x="4862" y="4"/>
                      <a:pt x="4861" y="5"/>
                      <a:pt x="4860" y="5"/>
                    </a:cubicBezTo>
                    <a:lnTo>
                      <a:pt x="4860" y="5"/>
                    </a:lnTo>
                    <a:cubicBezTo>
                      <a:pt x="4859" y="5"/>
                      <a:pt x="4858" y="4"/>
                      <a:pt x="4858" y="3"/>
                    </a:cubicBezTo>
                    <a:cubicBezTo>
                      <a:pt x="4858" y="2"/>
                      <a:pt x="4859" y="1"/>
                      <a:pt x="4860" y="1"/>
                    </a:cubicBezTo>
                    <a:close/>
                    <a:moveTo>
                      <a:pt x="4868" y="1"/>
                    </a:moveTo>
                    <a:lnTo>
                      <a:pt x="4868" y="1"/>
                    </a:lnTo>
                    <a:cubicBezTo>
                      <a:pt x="4869" y="1"/>
                      <a:pt x="4870" y="2"/>
                      <a:pt x="4870" y="3"/>
                    </a:cubicBezTo>
                    <a:cubicBezTo>
                      <a:pt x="4870" y="4"/>
                      <a:pt x="4869" y="5"/>
                      <a:pt x="4868" y="5"/>
                    </a:cubicBezTo>
                    <a:lnTo>
                      <a:pt x="4868" y="5"/>
                    </a:lnTo>
                    <a:cubicBezTo>
                      <a:pt x="4867" y="5"/>
                      <a:pt x="4866" y="4"/>
                      <a:pt x="4866" y="3"/>
                    </a:cubicBezTo>
                    <a:cubicBezTo>
                      <a:pt x="4866" y="2"/>
                      <a:pt x="4867" y="1"/>
                      <a:pt x="4868" y="1"/>
                    </a:cubicBezTo>
                    <a:close/>
                    <a:moveTo>
                      <a:pt x="4876" y="1"/>
                    </a:moveTo>
                    <a:lnTo>
                      <a:pt x="4876" y="1"/>
                    </a:lnTo>
                    <a:cubicBezTo>
                      <a:pt x="4877" y="1"/>
                      <a:pt x="4878" y="2"/>
                      <a:pt x="4878" y="3"/>
                    </a:cubicBezTo>
                    <a:cubicBezTo>
                      <a:pt x="4878" y="4"/>
                      <a:pt x="4877" y="5"/>
                      <a:pt x="4876" y="5"/>
                    </a:cubicBezTo>
                    <a:lnTo>
                      <a:pt x="4876" y="5"/>
                    </a:lnTo>
                    <a:cubicBezTo>
                      <a:pt x="4875" y="5"/>
                      <a:pt x="4874" y="4"/>
                      <a:pt x="4874" y="3"/>
                    </a:cubicBezTo>
                    <a:cubicBezTo>
                      <a:pt x="4874" y="2"/>
                      <a:pt x="4875" y="1"/>
                      <a:pt x="4876" y="1"/>
                    </a:cubicBezTo>
                    <a:close/>
                    <a:moveTo>
                      <a:pt x="4884" y="1"/>
                    </a:moveTo>
                    <a:lnTo>
                      <a:pt x="4884" y="1"/>
                    </a:lnTo>
                    <a:cubicBezTo>
                      <a:pt x="4885" y="1"/>
                      <a:pt x="4886" y="2"/>
                      <a:pt x="4886" y="3"/>
                    </a:cubicBezTo>
                    <a:cubicBezTo>
                      <a:pt x="4886" y="4"/>
                      <a:pt x="4885" y="5"/>
                      <a:pt x="4884" y="5"/>
                    </a:cubicBezTo>
                    <a:lnTo>
                      <a:pt x="4884" y="5"/>
                    </a:lnTo>
                    <a:cubicBezTo>
                      <a:pt x="4883" y="5"/>
                      <a:pt x="4882" y="4"/>
                      <a:pt x="4882" y="3"/>
                    </a:cubicBezTo>
                    <a:cubicBezTo>
                      <a:pt x="4882" y="2"/>
                      <a:pt x="4883" y="1"/>
                      <a:pt x="4884" y="1"/>
                    </a:cubicBezTo>
                    <a:close/>
                    <a:moveTo>
                      <a:pt x="4892" y="1"/>
                    </a:moveTo>
                    <a:lnTo>
                      <a:pt x="4892" y="1"/>
                    </a:lnTo>
                    <a:cubicBezTo>
                      <a:pt x="4893" y="1"/>
                      <a:pt x="4894" y="2"/>
                      <a:pt x="4894" y="3"/>
                    </a:cubicBezTo>
                    <a:cubicBezTo>
                      <a:pt x="4894" y="4"/>
                      <a:pt x="4893" y="5"/>
                      <a:pt x="4892" y="5"/>
                    </a:cubicBezTo>
                    <a:lnTo>
                      <a:pt x="4892" y="5"/>
                    </a:lnTo>
                    <a:cubicBezTo>
                      <a:pt x="4891" y="5"/>
                      <a:pt x="4890" y="4"/>
                      <a:pt x="4890" y="3"/>
                    </a:cubicBezTo>
                    <a:cubicBezTo>
                      <a:pt x="4890" y="2"/>
                      <a:pt x="4891" y="1"/>
                      <a:pt x="4892" y="1"/>
                    </a:cubicBezTo>
                    <a:close/>
                    <a:moveTo>
                      <a:pt x="4900" y="1"/>
                    </a:moveTo>
                    <a:lnTo>
                      <a:pt x="4900" y="1"/>
                    </a:lnTo>
                    <a:cubicBezTo>
                      <a:pt x="4901" y="1"/>
                      <a:pt x="4902" y="2"/>
                      <a:pt x="4902" y="3"/>
                    </a:cubicBezTo>
                    <a:cubicBezTo>
                      <a:pt x="4902" y="4"/>
                      <a:pt x="4901" y="5"/>
                      <a:pt x="4900" y="5"/>
                    </a:cubicBezTo>
                    <a:lnTo>
                      <a:pt x="4900" y="5"/>
                    </a:lnTo>
                    <a:cubicBezTo>
                      <a:pt x="4899" y="5"/>
                      <a:pt x="4898" y="4"/>
                      <a:pt x="4898" y="3"/>
                    </a:cubicBezTo>
                    <a:cubicBezTo>
                      <a:pt x="4898" y="2"/>
                      <a:pt x="4899" y="1"/>
                      <a:pt x="4900" y="1"/>
                    </a:cubicBezTo>
                    <a:close/>
                    <a:moveTo>
                      <a:pt x="4908" y="1"/>
                    </a:moveTo>
                    <a:lnTo>
                      <a:pt x="4908" y="1"/>
                    </a:lnTo>
                    <a:cubicBezTo>
                      <a:pt x="4909" y="1"/>
                      <a:pt x="4910" y="2"/>
                      <a:pt x="4910" y="3"/>
                    </a:cubicBezTo>
                    <a:cubicBezTo>
                      <a:pt x="4910" y="4"/>
                      <a:pt x="4909" y="5"/>
                      <a:pt x="4908" y="5"/>
                    </a:cubicBezTo>
                    <a:lnTo>
                      <a:pt x="4908" y="5"/>
                    </a:lnTo>
                    <a:cubicBezTo>
                      <a:pt x="4907" y="5"/>
                      <a:pt x="4906" y="4"/>
                      <a:pt x="4906" y="3"/>
                    </a:cubicBezTo>
                    <a:cubicBezTo>
                      <a:pt x="4906" y="2"/>
                      <a:pt x="4907" y="1"/>
                      <a:pt x="4908" y="1"/>
                    </a:cubicBezTo>
                    <a:close/>
                    <a:moveTo>
                      <a:pt x="4916" y="1"/>
                    </a:moveTo>
                    <a:lnTo>
                      <a:pt x="4916" y="1"/>
                    </a:lnTo>
                    <a:cubicBezTo>
                      <a:pt x="4917" y="1"/>
                      <a:pt x="4918" y="2"/>
                      <a:pt x="4918" y="3"/>
                    </a:cubicBezTo>
                    <a:cubicBezTo>
                      <a:pt x="4918" y="4"/>
                      <a:pt x="4917" y="5"/>
                      <a:pt x="4916" y="5"/>
                    </a:cubicBezTo>
                    <a:lnTo>
                      <a:pt x="4916" y="5"/>
                    </a:lnTo>
                    <a:cubicBezTo>
                      <a:pt x="4915" y="5"/>
                      <a:pt x="4914" y="4"/>
                      <a:pt x="4914" y="3"/>
                    </a:cubicBezTo>
                    <a:cubicBezTo>
                      <a:pt x="4914" y="2"/>
                      <a:pt x="4915" y="1"/>
                      <a:pt x="4916" y="1"/>
                    </a:cubicBezTo>
                    <a:close/>
                    <a:moveTo>
                      <a:pt x="4924" y="1"/>
                    </a:moveTo>
                    <a:lnTo>
                      <a:pt x="4924" y="1"/>
                    </a:lnTo>
                    <a:cubicBezTo>
                      <a:pt x="4925" y="1"/>
                      <a:pt x="4926" y="2"/>
                      <a:pt x="4926" y="3"/>
                    </a:cubicBezTo>
                    <a:cubicBezTo>
                      <a:pt x="4926" y="4"/>
                      <a:pt x="4925" y="5"/>
                      <a:pt x="4924" y="5"/>
                    </a:cubicBezTo>
                    <a:lnTo>
                      <a:pt x="4924" y="5"/>
                    </a:lnTo>
                    <a:cubicBezTo>
                      <a:pt x="4923" y="5"/>
                      <a:pt x="4922" y="4"/>
                      <a:pt x="4922" y="3"/>
                    </a:cubicBezTo>
                    <a:cubicBezTo>
                      <a:pt x="4922" y="2"/>
                      <a:pt x="4923" y="1"/>
                      <a:pt x="4924" y="1"/>
                    </a:cubicBezTo>
                    <a:close/>
                    <a:moveTo>
                      <a:pt x="4932" y="1"/>
                    </a:moveTo>
                    <a:lnTo>
                      <a:pt x="4932" y="1"/>
                    </a:lnTo>
                    <a:cubicBezTo>
                      <a:pt x="4933" y="1"/>
                      <a:pt x="4934" y="2"/>
                      <a:pt x="4934" y="3"/>
                    </a:cubicBezTo>
                    <a:cubicBezTo>
                      <a:pt x="4934" y="4"/>
                      <a:pt x="4933" y="5"/>
                      <a:pt x="4932" y="5"/>
                    </a:cubicBezTo>
                    <a:lnTo>
                      <a:pt x="4932" y="5"/>
                    </a:lnTo>
                    <a:cubicBezTo>
                      <a:pt x="4931" y="5"/>
                      <a:pt x="4930" y="4"/>
                      <a:pt x="4930" y="3"/>
                    </a:cubicBezTo>
                    <a:cubicBezTo>
                      <a:pt x="4930" y="2"/>
                      <a:pt x="4931" y="1"/>
                      <a:pt x="4932" y="1"/>
                    </a:cubicBezTo>
                    <a:close/>
                    <a:moveTo>
                      <a:pt x="4940" y="1"/>
                    </a:moveTo>
                    <a:lnTo>
                      <a:pt x="4940" y="1"/>
                    </a:lnTo>
                    <a:cubicBezTo>
                      <a:pt x="4941" y="1"/>
                      <a:pt x="4942" y="2"/>
                      <a:pt x="4942" y="3"/>
                    </a:cubicBezTo>
                    <a:cubicBezTo>
                      <a:pt x="4942" y="4"/>
                      <a:pt x="4941" y="5"/>
                      <a:pt x="4940" y="5"/>
                    </a:cubicBezTo>
                    <a:lnTo>
                      <a:pt x="4940" y="5"/>
                    </a:lnTo>
                    <a:cubicBezTo>
                      <a:pt x="4939" y="5"/>
                      <a:pt x="4938" y="4"/>
                      <a:pt x="4938" y="3"/>
                    </a:cubicBezTo>
                    <a:cubicBezTo>
                      <a:pt x="4938" y="2"/>
                      <a:pt x="4939" y="1"/>
                      <a:pt x="4940" y="1"/>
                    </a:cubicBezTo>
                    <a:close/>
                    <a:moveTo>
                      <a:pt x="4948" y="1"/>
                    </a:moveTo>
                    <a:lnTo>
                      <a:pt x="4948" y="1"/>
                    </a:lnTo>
                    <a:cubicBezTo>
                      <a:pt x="4949" y="1"/>
                      <a:pt x="4950" y="2"/>
                      <a:pt x="4950" y="3"/>
                    </a:cubicBezTo>
                    <a:cubicBezTo>
                      <a:pt x="4950" y="4"/>
                      <a:pt x="4949" y="5"/>
                      <a:pt x="4948" y="5"/>
                    </a:cubicBezTo>
                    <a:lnTo>
                      <a:pt x="4948" y="5"/>
                    </a:lnTo>
                    <a:cubicBezTo>
                      <a:pt x="4947" y="5"/>
                      <a:pt x="4946" y="4"/>
                      <a:pt x="4946" y="3"/>
                    </a:cubicBezTo>
                    <a:cubicBezTo>
                      <a:pt x="4946" y="2"/>
                      <a:pt x="4947" y="1"/>
                      <a:pt x="4948" y="1"/>
                    </a:cubicBezTo>
                    <a:close/>
                    <a:moveTo>
                      <a:pt x="4956" y="1"/>
                    </a:moveTo>
                    <a:lnTo>
                      <a:pt x="4956" y="1"/>
                    </a:lnTo>
                    <a:cubicBezTo>
                      <a:pt x="4957" y="1"/>
                      <a:pt x="4958" y="2"/>
                      <a:pt x="4958" y="3"/>
                    </a:cubicBezTo>
                    <a:cubicBezTo>
                      <a:pt x="4958" y="4"/>
                      <a:pt x="4957" y="5"/>
                      <a:pt x="4956" y="5"/>
                    </a:cubicBezTo>
                    <a:lnTo>
                      <a:pt x="4956" y="5"/>
                    </a:lnTo>
                    <a:cubicBezTo>
                      <a:pt x="4955" y="5"/>
                      <a:pt x="4954" y="4"/>
                      <a:pt x="4954" y="3"/>
                    </a:cubicBezTo>
                    <a:cubicBezTo>
                      <a:pt x="4954" y="2"/>
                      <a:pt x="4955" y="1"/>
                      <a:pt x="4956" y="1"/>
                    </a:cubicBezTo>
                    <a:close/>
                    <a:moveTo>
                      <a:pt x="4964" y="1"/>
                    </a:moveTo>
                    <a:lnTo>
                      <a:pt x="4964" y="1"/>
                    </a:lnTo>
                    <a:cubicBezTo>
                      <a:pt x="4965" y="1"/>
                      <a:pt x="4966" y="2"/>
                      <a:pt x="4966" y="3"/>
                    </a:cubicBezTo>
                    <a:cubicBezTo>
                      <a:pt x="4966" y="4"/>
                      <a:pt x="4965" y="5"/>
                      <a:pt x="4964" y="5"/>
                    </a:cubicBezTo>
                    <a:lnTo>
                      <a:pt x="4964" y="5"/>
                    </a:lnTo>
                    <a:cubicBezTo>
                      <a:pt x="4963" y="5"/>
                      <a:pt x="4962" y="4"/>
                      <a:pt x="4962" y="3"/>
                    </a:cubicBezTo>
                    <a:cubicBezTo>
                      <a:pt x="4962" y="2"/>
                      <a:pt x="4963" y="1"/>
                      <a:pt x="4964" y="1"/>
                    </a:cubicBezTo>
                    <a:close/>
                    <a:moveTo>
                      <a:pt x="4972" y="1"/>
                    </a:moveTo>
                    <a:lnTo>
                      <a:pt x="4972" y="1"/>
                    </a:lnTo>
                    <a:cubicBezTo>
                      <a:pt x="4973" y="1"/>
                      <a:pt x="4974" y="2"/>
                      <a:pt x="4974" y="3"/>
                    </a:cubicBezTo>
                    <a:cubicBezTo>
                      <a:pt x="4974" y="4"/>
                      <a:pt x="4973" y="5"/>
                      <a:pt x="4972" y="5"/>
                    </a:cubicBezTo>
                    <a:lnTo>
                      <a:pt x="4972" y="5"/>
                    </a:lnTo>
                    <a:cubicBezTo>
                      <a:pt x="4971" y="5"/>
                      <a:pt x="4970" y="4"/>
                      <a:pt x="4970" y="3"/>
                    </a:cubicBezTo>
                    <a:cubicBezTo>
                      <a:pt x="4970" y="2"/>
                      <a:pt x="4971" y="1"/>
                      <a:pt x="4972" y="1"/>
                    </a:cubicBezTo>
                    <a:close/>
                    <a:moveTo>
                      <a:pt x="4980" y="1"/>
                    </a:moveTo>
                    <a:lnTo>
                      <a:pt x="4980" y="1"/>
                    </a:lnTo>
                    <a:cubicBezTo>
                      <a:pt x="4981" y="1"/>
                      <a:pt x="4982" y="2"/>
                      <a:pt x="4982" y="3"/>
                    </a:cubicBezTo>
                    <a:cubicBezTo>
                      <a:pt x="4982" y="4"/>
                      <a:pt x="4981" y="5"/>
                      <a:pt x="4980" y="5"/>
                    </a:cubicBezTo>
                    <a:lnTo>
                      <a:pt x="4980" y="5"/>
                    </a:lnTo>
                    <a:cubicBezTo>
                      <a:pt x="4979" y="5"/>
                      <a:pt x="4978" y="4"/>
                      <a:pt x="4978" y="3"/>
                    </a:cubicBezTo>
                    <a:cubicBezTo>
                      <a:pt x="4978" y="2"/>
                      <a:pt x="4979" y="1"/>
                      <a:pt x="4980" y="1"/>
                    </a:cubicBezTo>
                    <a:close/>
                    <a:moveTo>
                      <a:pt x="4988" y="1"/>
                    </a:moveTo>
                    <a:lnTo>
                      <a:pt x="4988" y="1"/>
                    </a:lnTo>
                    <a:cubicBezTo>
                      <a:pt x="4989" y="1"/>
                      <a:pt x="4990" y="2"/>
                      <a:pt x="4990" y="3"/>
                    </a:cubicBezTo>
                    <a:cubicBezTo>
                      <a:pt x="4990" y="4"/>
                      <a:pt x="4989" y="5"/>
                      <a:pt x="4988" y="5"/>
                    </a:cubicBezTo>
                    <a:lnTo>
                      <a:pt x="4988" y="5"/>
                    </a:lnTo>
                    <a:cubicBezTo>
                      <a:pt x="4987" y="5"/>
                      <a:pt x="4986" y="4"/>
                      <a:pt x="4986" y="3"/>
                    </a:cubicBezTo>
                    <a:cubicBezTo>
                      <a:pt x="4986" y="2"/>
                      <a:pt x="4987" y="1"/>
                      <a:pt x="4988" y="1"/>
                    </a:cubicBezTo>
                    <a:close/>
                    <a:moveTo>
                      <a:pt x="4996" y="1"/>
                    </a:moveTo>
                    <a:lnTo>
                      <a:pt x="4996" y="1"/>
                    </a:lnTo>
                    <a:cubicBezTo>
                      <a:pt x="4997" y="1"/>
                      <a:pt x="4998" y="2"/>
                      <a:pt x="4998" y="3"/>
                    </a:cubicBezTo>
                    <a:cubicBezTo>
                      <a:pt x="4998" y="4"/>
                      <a:pt x="4997" y="5"/>
                      <a:pt x="4996" y="5"/>
                    </a:cubicBezTo>
                    <a:lnTo>
                      <a:pt x="4996" y="5"/>
                    </a:lnTo>
                    <a:cubicBezTo>
                      <a:pt x="4995" y="5"/>
                      <a:pt x="4994" y="4"/>
                      <a:pt x="4994" y="3"/>
                    </a:cubicBezTo>
                    <a:cubicBezTo>
                      <a:pt x="4994" y="2"/>
                      <a:pt x="4995" y="1"/>
                      <a:pt x="4996" y="1"/>
                    </a:cubicBezTo>
                    <a:close/>
                    <a:moveTo>
                      <a:pt x="5004" y="1"/>
                    </a:moveTo>
                    <a:lnTo>
                      <a:pt x="5004" y="1"/>
                    </a:lnTo>
                    <a:cubicBezTo>
                      <a:pt x="5005" y="1"/>
                      <a:pt x="5006" y="2"/>
                      <a:pt x="5006" y="3"/>
                    </a:cubicBezTo>
                    <a:cubicBezTo>
                      <a:pt x="5006" y="4"/>
                      <a:pt x="5005" y="5"/>
                      <a:pt x="5004" y="5"/>
                    </a:cubicBezTo>
                    <a:lnTo>
                      <a:pt x="5004" y="5"/>
                    </a:lnTo>
                    <a:cubicBezTo>
                      <a:pt x="5003" y="5"/>
                      <a:pt x="5002" y="4"/>
                      <a:pt x="5002" y="3"/>
                    </a:cubicBezTo>
                    <a:cubicBezTo>
                      <a:pt x="5002" y="2"/>
                      <a:pt x="5003" y="1"/>
                      <a:pt x="5004" y="1"/>
                    </a:cubicBezTo>
                    <a:close/>
                    <a:moveTo>
                      <a:pt x="5012" y="1"/>
                    </a:moveTo>
                    <a:lnTo>
                      <a:pt x="5012" y="1"/>
                    </a:lnTo>
                    <a:cubicBezTo>
                      <a:pt x="5013" y="1"/>
                      <a:pt x="5014" y="2"/>
                      <a:pt x="5014" y="3"/>
                    </a:cubicBezTo>
                    <a:cubicBezTo>
                      <a:pt x="5014" y="4"/>
                      <a:pt x="5013" y="5"/>
                      <a:pt x="5012" y="5"/>
                    </a:cubicBezTo>
                    <a:lnTo>
                      <a:pt x="5012" y="5"/>
                    </a:lnTo>
                    <a:cubicBezTo>
                      <a:pt x="5011" y="5"/>
                      <a:pt x="5010" y="4"/>
                      <a:pt x="5010" y="3"/>
                    </a:cubicBezTo>
                    <a:cubicBezTo>
                      <a:pt x="5010" y="2"/>
                      <a:pt x="5011" y="1"/>
                      <a:pt x="5012" y="1"/>
                    </a:cubicBezTo>
                    <a:close/>
                    <a:moveTo>
                      <a:pt x="5020" y="1"/>
                    </a:moveTo>
                    <a:lnTo>
                      <a:pt x="5020" y="1"/>
                    </a:lnTo>
                    <a:cubicBezTo>
                      <a:pt x="5021" y="1"/>
                      <a:pt x="5022" y="2"/>
                      <a:pt x="5022" y="3"/>
                    </a:cubicBezTo>
                    <a:cubicBezTo>
                      <a:pt x="5022" y="4"/>
                      <a:pt x="5021" y="5"/>
                      <a:pt x="5020" y="5"/>
                    </a:cubicBezTo>
                    <a:lnTo>
                      <a:pt x="5020" y="5"/>
                    </a:lnTo>
                    <a:cubicBezTo>
                      <a:pt x="5019" y="5"/>
                      <a:pt x="5018" y="4"/>
                      <a:pt x="5018" y="3"/>
                    </a:cubicBezTo>
                    <a:cubicBezTo>
                      <a:pt x="5018" y="2"/>
                      <a:pt x="5019" y="1"/>
                      <a:pt x="5020" y="1"/>
                    </a:cubicBezTo>
                    <a:close/>
                    <a:moveTo>
                      <a:pt x="5028" y="1"/>
                    </a:moveTo>
                    <a:lnTo>
                      <a:pt x="5028" y="1"/>
                    </a:lnTo>
                    <a:cubicBezTo>
                      <a:pt x="5029" y="1"/>
                      <a:pt x="5030" y="2"/>
                      <a:pt x="5030" y="3"/>
                    </a:cubicBezTo>
                    <a:cubicBezTo>
                      <a:pt x="5030" y="4"/>
                      <a:pt x="5029" y="5"/>
                      <a:pt x="5028" y="5"/>
                    </a:cubicBezTo>
                    <a:lnTo>
                      <a:pt x="5028" y="5"/>
                    </a:lnTo>
                    <a:cubicBezTo>
                      <a:pt x="5027" y="5"/>
                      <a:pt x="5026" y="4"/>
                      <a:pt x="5026" y="3"/>
                    </a:cubicBezTo>
                    <a:cubicBezTo>
                      <a:pt x="5026" y="2"/>
                      <a:pt x="5027" y="1"/>
                      <a:pt x="5028" y="1"/>
                    </a:cubicBezTo>
                    <a:close/>
                    <a:moveTo>
                      <a:pt x="5036" y="1"/>
                    </a:moveTo>
                    <a:lnTo>
                      <a:pt x="5036" y="1"/>
                    </a:lnTo>
                    <a:cubicBezTo>
                      <a:pt x="5037" y="1"/>
                      <a:pt x="5038" y="2"/>
                      <a:pt x="5038" y="3"/>
                    </a:cubicBezTo>
                    <a:cubicBezTo>
                      <a:pt x="5038" y="4"/>
                      <a:pt x="5037" y="5"/>
                      <a:pt x="5036" y="5"/>
                    </a:cubicBezTo>
                    <a:lnTo>
                      <a:pt x="5036" y="5"/>
                    </a:lnTo>
                    <a:cubicBezTo>
                      <a:pt x="5035" y="5"/>
                      <a:pt x="5034" y="4"/>
                      <a:pt x="5034" y="3"/>
                    </a:cubicBezTo>
                    <a:cubicBezTo>
                      <a:pt x="5034" y="2"/>
                      <a:pt x="5035" y="1"/>
                      <a:pt x="5036" y="1"/>
                    </a:cubicBezTo>
                    <a:close/>
                    <a:moveTo>
                      <a:pt x="5044" y="1"/>
                    </a:moveTo>
                    <a:lnTo>
                      <a:pt x="5044" y="1"/>
                    </a:lnTo>
                    <a:cubicBezTo>
                      <a:pt x="5045" y="1"/>
                      <a:pt x="5046" y="2"/>
                      <a:pt x="5046" y="3"/>
                    </a:cubicBezTo>
                    <a:cubicBezTo>
                      <a:pt x="5046" y="4"/>
                      <a:pt x="5045" y="5"/>
                      <a:pt x="5044" y="5"/>
                    </a:cubicBezTo>
                    <a:lnTo>
                      <a:pt x="5044" y="5"/>
                    </a:lnTo>
                    <a:cubicBezTo>
                      <a:pt x="5043" y="5"/>
                      <a:pt x="5042" y="4"/>
                      <a:pt x="5042" y="3"/>
                    </a:cubicBezTo>
                    <a:cubicBezTo>
                      <a:pt x="5042" y="2"/>
                      <a:pt x="5043" y="1"/>
                      <a:pt x="5044" y="1"/>
                    </a:cubicBezTo>
                    <a:close/>
                    <a:moveTo>
                      <a:pt x="5052" y="1"/>
                    </a:moveTo>
                    <a:lnTo>
                      <a:pt x="5052" y="1"/>
                    </a:lnTo>
                    <a:cubicBezTo>
                      <a:pt x="5053" y="1"/>
                      <a:pt x="5054" y="2"/>
                      <a:pt x="5054" y="3"/>
                    </a:cubicBezTo>
                    <a:cubicBezTo>
                      <a:pt x="5054" y="4"/>
                      <a:pt x="5053" y="5"/>
                      <a:pt x="5052" y="5"/>
                    </a:cubicBezTo>
                    <a:lnTo>
                      <a:pt x="5052" y="5"/>
                    </a:lnTo>
                    <a:cubicBezTo>
                      <a:pt x="5051" y="5"/>
                      <a:pt x="5050" y="4"/>
                      <a:pt x="5050" y="3"/>
                    </a:cubicBezTo>
                    <a:cubicBezTo>
                      <a:pt x="5050" y="2"/>
                      <a:pt x="5051" y="1"/>
                      <a:pt x="5052" y="1"/>
                    </a:cubicBezTo>
                    <a:close/>
                    <a:moveTo>
                      <a:pt x="5060" y="1"/>
                    </a:moveTo>
                    <a:lnTo>
                      <a:pt x="5060" y="1"/>
                    </a:lnTo>
                    <a:cubicBezTo>
                      <a:pt x="5061" y="1"/>
                      <a:pt x="5062" y="2"/>
                      <a:pt x="5062" y="3"/>
                    </a:cubicBezTo>
                    <a:cubicBezTo>
                      <a:pt x="5062" y="4"/>
                      <a:pt x="5061" y="5"/>
                      <a:pt x="5060" y="5"/>
                    </a:cubicBezTo>
                    <a:lnTo>
                      <a:pt x="5060" y="5"/>
                    </a:lnTo>
                    <a:cubicBezTo>
                      <a:pt x="5059" y="5"/>
                      <a:pt x="5058" y="4"/>
                      <a:pt x="5058" y="3"/>
                    </a:cubicBezTo>
                    <a:cubicBezTo>
                      <a:pt x="5058" y="2"/>
                      <a:pt x="5059" y="1"/>
                      <a:pt x="5060" y="1"/>
                    </a:cubicBezTo>
                    <a:close/>
                    <a:moveTo>
                      <a:pt x="5068" y="1"/>
                    </a:moveTo>
                    <a:lnTo>
                      <a:pt x="5068" y="1"/>
                    </a:lnTo>
                    <a:cubicBezTo>
                      <a:pt x="5069" y="1"/>
                      <a:pt x="5070" y="2"/>
                      <a:pt x="5070" y="3"/>
                    </a:cubicBezTo>
                    <a:cubicBezTo>
                      <a:pt x="5070" y="4"/>
                      <a:pt x="5069" y="5"/>
                      <a:pt x="5068" y="5"/>
                    </a:cubicBezTo>
                    <a:lnTo>
                      <a:pt x="5068" y="5"/>
                    </a:lnTo>
                    <a:cubicBezTo>
                      <a:pt x="5067" y="5"/>
                      <a:pt x="5066" y="4"/>
                      <a:pt x="5066" y="3"/>
                    </a:cubicBezTo>
                    <a:cubicBezTo>
                      <a:pt x="5066" y="2"/>
                      <a:pt x="5067" y="1"/>
                      <a:pt x="5068" y="1"/>
                    </a:cubicBezTo>
                    <a:close/>
                    <a:moveTo>
                      <a:pt x="5076" y="1"/>
                    </a:moveTo>
                    <a:lnTo>
                      <a:pt x="5076" y="1"/>
                    </a:lnTo>
                    <a:cubicBezTo>
                      <a:pt x="5077" y="1"/>
                      <a:pt x="5078" y="2"/>
                      <a:pt x="5078" y="3"/>
                    </a:cubicBezTo>
                    <a:cubicBezTo>
                      <a:pt x="5078" y="4"/>
                      <a:pt x="5077" y="5"/>
                      <a:pt x="5076" y="5"/>
                    </a:cubicBezTo>
                    <a:lnTo>
                      <a:pt x="5076" y="5"/>
                    </a:lnTo>
                    <a:cubicBezTo>
                      <a:pt x="5075" y="5"/>
                      <a:pt x="5074" y="4"/>
                      <a:pt x="5074" y="3"/>
                    </a:cubicBezTo>
                    <a:cubicBezTo>
                      <a:pt x="5074" y="2"/>
                      <a:pt x="5075" y="1"/>
                      <a:pt x="5076" y="1"/>
                    </a:cubicBezTo>
                    <a:close/>
                    <a:moveTo>
                      <a:pt x="5084" y="1"/>
                    </a:moveTo>
                    <a:lnTo>
                      <a:pt x="5084" y="1"/>
                    </a:lnTo>
                    <a:cubicBezTo>
                      <a:pt x="5085" y="1"/>
                      <a:pt x="5086" y="2"/>
                      <a:pt x="5086" y="3"/>
                    </a:cubicBezTo>
                    <a:cubicBezTo>
                      <a:pt x="5086" y="4"/>
                      <a:pt x="5085" y="5"/>
                      <a:pt x="5084" y="5"/>
                    </a:cubicBezTo>
                    <a:lnTo>
                      <a:pt x="5084" y="5"/>
                    </a:lnTo>
                    <a:cubicBezTo>
                      <a:pt x="5083" y="5"/>
                      <a:pt x="5082" y="4"/>
                      <a:pt x="5082" y="3"/>
                    </a:cubicBezTo>
                    <a:cubicBezTo>
                      <a:pt x="5082" y="2"/>
                      <a:pt x="5083" y="1"/>
                      <a:pt x="5084" y="1"/>
                    </a:cubicBezTo>
                    <a:close/>
                    <a:moveTo>
                      <a:pt x="5092" y="1"/>
                    </a:moveTo>
                    <a:lnTo>
                      <a:pt x="5092" y="1"/>
                    </a:lnTo>
                    <a:cubicBezTo>
                      <a:pt x="5093" y="1"/>
                      <a:pt x="5094" y="2"/>
                      <a:pt x="5094" y="3"/>
                    </a:cubicBezTo>
                    <a:cubicBezTo>
                      <a:pt x="5094" y="4"/>
                      <a:pt x="5093" y="5"/>
                      <a:pt x="5092" y="5"/>
                    </a:cubicBezTo>
                    <a:lnTo>
                      <a:pt x="5092" y="5"/>
                    </a:lnTo>
                    <a:cubicBezTo>
                      <a:pt x="5091" y="5"/>
                      <a:pt x="5090" y="4"/>
                      <a:pt x="5090" y="3"/>
                    </a:cubicBezTo>
                    <a:cubicBezTo>
                      <a:pt x="5090" y="2"/>
                      <a:pt x="5091" y="1"/>
                      <a:pt x="5092" y="1"/>
                    </a:cubicBezTo>
                    <a:close/>
                    <a:moveTo>
                      <a:pt x="5100" y="1"/>
                    </a:moveTo>
                    <a:lnTo>
                      <a:pt x="5100" y="1"/>
                    </a:lnTo>
                    <a:cubicBezTo>
                      <a:pt x="5101" y="1"/>
                      <a:pt x="5102" y="2"/>
                      <a:pt x="5102" y="3"/>
                    </a:cubicBezTo>
                    <a:cubicBezTo>
                      <a:pt x="5102" y="4"/>
                      <a:pt x="5101" y="5"/>
                      <a:pt x="5100" y="5"/>
                    </a:cubicBezTo>
                    <a:lnTo>
                      <a:pt x="5100" y="5"/>
                    </a:lnTo>
                    <a:cubicBezTo>
                      <a:pt x="5099" y="5"/>
                      <a:pt x="5098" y="4"/>
                      <a:pt x="5098" y="3"/>
                    </a:cubicBezTo>
                    <a:cubicBezTo>
                      <a:pt x="5098" y="2"/>
                      <a:pt x="5099" y="1"/>
                      <a:pt x="5100" y="1"/>
                    </a:cubicBezTo>
                    <a:close/>
                    <a:moveTo>
                      <a:pt x="5108" y="1"/>
                    </a:moveTo>
                    <a:lnTo>
                      <a:pt x="5108" y="1"/>
                    </a:lnTo>
                    <a:cubicBezTo>
                      <a:pt x="5109" y="1"/>
                      <a:pt x="5110" y="2"/>
                      <a:pt x="5110" y="3"/>
                    </a:cubicBezTo>
                    <a:cubicBezTo>
                      <a:pt x="5110" y="4"/>
                      <a:pt x="5109" y="5"/>
                      <a:pt x="5108" y="5"/>
                    </a:cubicBezTo>
                    <a:lnTo>
                      <a:pt x="5108" y="5"/>
                    </a:lnTo>
                    <a:cubicBezTo>
                      <a:pt x="5107" y="5"/>
                      <a:pt x="5106" y="4"/>
                      <a:pt x="5106" y="3"/>
                    </a:cubicBezTo>
                    <a:cubicBezTo>
                      <a:pt x="5106" y="2"/>
                      <a:pt x="5107" y="1"/>
                      <a:pt x="5108" y="1"/>
                    </a:cubicBezTo>
                    <a:close/>
                    <a:moveTo>
                      <a:pt x="5116" y="1"/>
                    </a:moveTo>
                    <a:lnTo>
                      <a:pt x="5116" y="1"/>
                    </a:lnTo>
                    <a:cubicBezTo>
                      <a:pt x="5117" y="1"/>
                      <a:pt x="5118" y="2"/>
                      <a:pt x="5118" y="3"/>
                    </a:cubicBezTo>
                    <a:cubicBezTo>
                      <a:pt x="5118" y="4"/>
                      <a:pt x="5117" y="5"/>
                      <a:pt x="5116" y="5"/>
                    </a:cubicBezTo>
                    <a:lnTo>
                      <a:pt x="5116" y="5"/>
                    </a:lnTo>
                    <a:cubicBezTo>
                      <a:pt x="5115" y="5"/>
                      <a:pt x="5114" y="4"/>
                      <a:pt x="5114" y="3"/>
                    </a:cubicBezTo>
                    <a:cubicBezTo>
                      <a:pt x="5114" y="2"/>
                      <a:pt x="5115" y="1"/>
                      <a:pt x="5116" y="1"/>
                    </a:cubicBezTo>
                    <a:close/>
                    <a:moveTo>
                      <a:pt x="5124" y="1"/>
                    </a:moveTo>
                    <a:lnTo>
                      <a:pt x="5124" y="1"/>
                    </a:lnTo>
                    <a:cubicBezTo>
                      <a:pt x="5125" y="1"/>
                      <a:pt x="5126" y="2"/>
                      <a:pt x="5126" y="3"/>
                    </a:cubicBezTo>
                    <a:cubicBezTo>
                      <a:pt x="5126" y="4"/>
                      <a:pt x="5125" y="5"/>
                      <a:pt x="5124" y="5"/>
                    </a:cubicBezTo>
                    <a:lnTo>
                      <a:pt x="5124" y="5"/>
                    </a:lnTo>
                    <a:cubicBezTo>
                      <a:pt x="5123" y="5"/>
                      <a:pt x="5122" y="4"/>
                      <a:pt x="5122" y="3"/>
                    </a:cubicBezTo>
                    <a:cubicBezTo>
                      <a:pt x="5122" y="2"/>
                      <a:pt x="5123" y="1"/>
                      <a:pt x="5124" y="1"/>
                    </a:cubicBezTo>
                    <a:close/>
                    <a:moveTo>
                      <a:pt x="5132" y="1"/>
                    </a:moveTo>
                    <a:lnTo>
                      <a:pt x="5132" y="1"/>
                    </a:lnTo>
                    <a:cubicBezTo>
                      <a:pt x="5133" y="1"/>
                      <a:pt x="5134" y="2"/>
                      <a:pt x="5134" y="3"/>
                    </a:cubicBezTo>
                    <a:cubicBezTo>
                      <a:pt x="5134" y="4"/>
                      <a:pt x="5133" y="5"/>
                      <a:pt x="5132" y="5"/>
                    </a:cubicBezTo>
                    <a:lnTo>
                      <a:pt x="5132" y="5"/>
                    </a:lnTo>
                    <a:cubicBezTo>
                      <a:pt x="5131" y="5"/>
                      <a:pt x="5130" y="4"/>
                      <a:pt x="5130" y="3"/>
                    </a:cubicBezTo>
                    <a:cubicBezTo>
                      <a:pt x="5130" y="2"/>
                      <a:pt x="5131" y="1"/>
                      <a:pt x="5132" y="1"/>
                    </a:cubicBezTo>
                    <a:close/>
                    <a:moveTo>
                      <a:pt x="5140" y="1"/>
                    </a:moveTo>
                    <a:lnTo>
                      <a:pt x="5140" y="1"/>
                    </a:lnTo>
                    <a:cubicBezTo>
                      <a:pt x="5141" y="1"/>
                      <a:pt x="5142" y="2"/>
                      <a:pt x="5142" y="3"/>
                    </a:cubicBezTo>
                    <a:cubicBezTo>
                      <a:pt x="5142" y="4"/>
                      <a:pt x="5141" y="5"/>
                      <a:pt x="5140" y="5"/>
                    </a:cubicBezTo>
                    <a:lnTo>
                      <a:pt x="5140" y="5"/>
                    </a:lnTo>
                    <a:cubicBezTo>
                      <a:pt x="5139" y="5"/>
                      <a:pt x="5138" y="4"/>
                      <a:pt x="5138" y="3"/>
                    </a:cubicBezTo>
                    <a:cubicBezTo>
                      <a:pt x="5138" y="2"/>
                      <a:pt x="5139" y="1"/>
                      <a:pt x="5140" y="1"/>
                    </a:cubicBezTo>
                    <a:close/>
                    <a:moveTo>
                      <a:pt x="5148" y="1"/>
                    </a:moveTo>
                    <a:lnTo>
                      <a:pt x="5148" y="1"/>
                    </a:lnTo>
                    <a:cubicBezTo>
                      <a:pt x="5149" y="1"/>
                      <a:pt x="5150" y="2"/>
                      <a:pt x="5150" y="3"/>
                    </a:cubicBezTo>
                    <a:cubicBezTo>
                      <a:pt x="5150" y="4"/>
                      <a:pt x="5149" y="5"/>
                      <a:pt x="5148" y="5"/>
                    </a:cubicBezTo>
                    <a:lnTo>
                      <a:pt x="5148" y="5"/>
                    </a:lnTo>
                    <a:cubicBezTo>
                      <a:pt x="5147" y="5"/>
                      <a:pt x="5146" y="4"/>
                      <a:pt x="5146" y="3"/>
                    </a:cubicBezTo>
                    <a:cubicBezTo>
                      <a:pt x="5146" y="2"/>
                      <a:pt x="5147" y="1"/>
                      <a:pt x="5148" y="1"/>
                    </a:cubicBezTo>
                    <a:close/>
                    <a:moveTo>
                      <a:pt x="5156" y="1"/>
                    </a:moveTo>
                    <a:lnTo>
                      <a:pt x="5156" y="1"/>
                    </a:lnTo>
                    <a:cubicBezTo>
                      <a:pt x="5157" y="1"/>
                      <a:pt x="5158" y="2"/>
                      <a:pt x="5158" y="3"/>
                    </a:cubicBezTo>
                    <a:cubicBezTo>
                      <a:pt x="5158" y="4"/>
                      <a:pt x="5157" y="5"/>
                      <a:pt x="5156" y="5"/>
                    </a:cubicBezTo>
                    <a:lnTo>
                      <a:pt x="5156" y="5"/>
                    </a:lnTo>
                    <a:cubicBezTo>
                      <a:pt x="5155" y="5"/>
                      <a:pt x="5154" y="4"/>
                      <a:pt x="5154" y="3"/>
                    </a:cubicBezTo>
                    <a:cubicBezTo>
                      <a:pt x="5154" y="2"/>
                      <a:pt x="5155" y="1"/>
                      <a:pt x="5156" y="1"/>
                    </a:cubicBezTo>
                    <a:close/>
                    <a:moveTo>
                      <a:pt x="5164" y="1"/>
                    </a:moveTo>
                    <a:lnTo>
                      <a:pt x="5164" y="1"/>
                    </a:lnTo>
                    <a:cubicBezTo>
                      <a:pt x="5165" y="1"/>
                      <a:pt x="5166" y="2"/>
                      <a:pt x="5166" y="3"/>
                    </a:cubicBezTo>
                    <a:cubicBezTo>
                      <a:pt x="5166" y="4"/>
                      <a:pt x="5165" y="5"/>
                      <a:pt x="5164" y="5"/>
                    </a:cubicBezTo>
                    <a:lnTo>
                      <a:pt x="5164" y="5"/>
                    </a:lnTo>
                    <a:cubicBezTo>
                      <a:pt x="5163" y="5"/>
                      <a:pt x="5162" y="4"/>
                      <a:pt x="5162" y="3"/>
                    </a:cubicBezTo>
                    <a:cubicBezTo>
                      <a:pt x="5162" y="2"/>
                      <a:pt x="5163" y="1"/>
                      <a:pt x="5164" y="1"/>
                    </a:cubicBezTo>
                    <a:close/>
                    <a:moveTo>
                      <a:pt x="5172" y="1"/>
                    </a:moveTo>
                    <a:lnTo>
                      <a:pt x="5172" y="1"/>
                    </a:lnTo>
                    <a:cubicBezTo>
                      <a:pt x="5173" y="1"/>
                      <a:pt x="5174" y="2"/>
                      <a:pt x="5174" y="3"/>
                    </a:cubicBezTo>
                    <a:cubicBezTo>
                      <a:pt x="5174" y="4"/>
                      <a:pt x="5173" y="5"/>
                      <a:pt x="5172" y="5"/>
                    </a:cubicBezTo>
                    <a:lnTo>
                      <a:pt x="5172" y="5"/>
                    </a:lnTo>
                    <a:cubicBezTo>
                      <a:pt x="5171" y="5"/>
                      <a:pt x="5170" y="4"/>
                      <a:pt x="5170" y="3"/>
                    </a:cubicBezTo>
                    <a:cubicBezTo>
                      <a:pt x="5170" y="2"/>
                      <a:pt x="5171" y="1"/>
                      <a:pt x="5172" y="1"/>
                    </a:cubicBezTo>
                    <a:close/>
                    <a:moveTo>
                      <a:pt x="5180" y="1"/>
                    </a:moveTo>
                    <a:lnTo>
                      <a:pt x="5180" y="1"/>
                    </a:lnTo>
                    <a:cubicBezTo>
                      <a:pt x="5181" y="1"/>
                      <a:pt x="5182" y="2"/>
                      <a:pt x="5182" y="3"/>
                    </a:cubicBezTo>
                    <a:cubicBezTo>
                      <a:pt x="5182" y="4"/>
                      <a:pt x="5181" y="5"/>
                      <a:pt x="5180" y="5"/>
                    </a:cubicBezTo>
                    <a:lnTo>
                      <a:pt x="5180" y="5"/>
                    </a:lnTo>
                    <a:cubicBezTo>
                      <a:pt x="5179" y="5"/>
                      <a:pt x="5178" y="4"/>
                      <a:pt x="5178" y="3"/>
                    </a:cubicBezTo>
                    <a:cubicBezTo>
                      <a:pt x="5178" y="2"/>
                      <a:pt x="5179" y="1"/>
                      <a:pt x="5180" y="1"/>
                    </a:cubicBezTo>
                    <a:close/>
                    <a:moveTo>
                      <a:pt x="5188" y="1"/>
                    </a:moveTo>
                    <a:lnTo>
                      <a:pt x="5188" y="1"/>
                    </a:lnTo>
                    <a:cubicBezTo>
                      <a:pt x="5189" y="1"/>
                      <a:pt x="5190" y="2"/>
                      <a:pt x="5190" y="3"/>
                    </a:cubicBezTo>
                    <a:cubicBezTo>
                      <a:pt x="5190" y="4"/>
                      <a:pt x="5189" y="5"/>
                      <a:pt x="5188" y="5"/>
                    </a:cubicBezTo>
                    <a:lnTo>
                      <a:pt x="5188" y="5"/>
                    </a:lnTo>
                    <a:cubicBezTo>
                      <a:pt x="5187" y="5"/>
                      <a:pt x="5186" y="4"/>
                      <a:pt x="5186" y="3"/>
                    </a:cubicBezTo>
                    <a:cubicBezTo>
                      <a:pt x="5186" y="2"/>
                      <a:pt x="5187" y="1"/>
                      <a:pt x="5188" y="1"/>
                    </a:cubicBezTo>
                    <a:close/>
                    <a:moveTo>
                      <a:pt x="5196" y="1"/>
                    </a:moveTo>
                    <a:lnTo>
                      <a:pt x="5196" y="1"/>
                    </a:lnTo>
                    <a:cubicBezTo>
                      <a:pt x="5197" y="1"/>
                      <a:pt x="5198" y="2"/>
                      <a:pt x="5198" y="3"/>
                    </a:cubicBezTo>
                    <a:cubicBezTo>
                      <a:pt x="5198" y="4"/>
                      <a:pt x="5197" y="5"/>
                      <a:pt x="5196" y="5"/>
                    </a:cubicBezTo>
                    <a:lnTo>
                      <a:pt x="5196" y="5"/>
                    </a:lnTo>
                    <a:cubicBezTo>
                      <a:pt x="5195" y="5"/>
                      <a:pt x="5194" y="4"/>
                      <a:pt x="5194" y="3"/>
                    </a:cubicBezTo>
                    <a:cubicBezTo>
                      <a:pt x="5194" y="2"/>
                      <a:pt x="5195" y="1"/>
                      <a:pt x="5196" y="1"/>
                    </a:cubicBezTo>
                    <a:close/>
                    <a:moveTo>
                      <a:pt x="5204" y="1"/>
                    </a:moveTo>
                    <a:lnTo>
                      <a:pt x="5204" y="1"/>
                    </a:lnTo>
                    <a:cubicBezTo>
                      <a:pt x="5205" y="1"/>
                      <a:pt x="5206" y="2"/>
                      <a:pt x="5206" y="3"/>
                    </a:cubicBezTo>
                    <a:cubicBezTo>
                      <a:pt x="5206" y="4"/>
                      <a:pt x="5205" y="5"/>
                      <a:pt x="5204" y="5"/>
                    </a:cubicBezTo>
                    <a:lnTo>
                      <a:pt x="5204" y="5"/>
                    </a:lnTo>
                    <a:cubicBezTo>
                      <a:pt x="5203" y="5"/>
                      <a:pt x="5202" y="4"/>
                      <a:pt x="5202" y="3"/>
                    </a:cubicBezTo>
                    <a:cubicBezTo>
                      <a:pt x="5202" y="2"/>
                      <a:pt x="5203" y="1"/>
                      <a:pt x="5204" y="1"/>
                    </a:cubicBezTo>
                    <a:close/>
                    <a:moveTo>
                      <a:pt x="5212" y="1"/>
                    </a:moveTo>
                    <a:lnTo>
                      <a:pt x="5212" y="1"/>
                    </a:lnTo>
                    <a:cubicBezTo>
                      <a:pt x="5213" y="1"/>
                      <a:pt x="5214" y="2"/>
                      <a:pt x="5214" y="3"/>
                    </a:cubicBezTo>
                    <a:cubicBezTo>
                      <a:pt x="5214" y="4"/>
                      <a:pt x="5213" y="5"/>
                      <a:pt x="5212" y="5"/>
                    </a:cubicBezTo>
                    <a:lnTo>
                      <a:pt x="5212" y="5"/>
                    </a:lnTo>
                    <a:cubicBezTo>
                      <a:pt x="5211" y="5"/>
                      <a:pt x="5210" y="4"/>
                      <a:pt x="5210" y="3"/>
                    </a:cubicBezTo>
                    <a:cubicBezTo>
                      <a:pt x="5210" y="2"/>
                      <a:pt x="5211" y="1"/>
                      <a:pt x="5212" y="1"/>
                    </a:cubicBezTo>
                    <a:close/>
                    <a:moveTo>
                      <a:pt x="5220" y="1"/>
                    </a:moveTo>
                    <a:lnTo>
                      <a:pt x="5220" y="1"/>
                    </a:lnTo>
                    <a:cubicBezTo>
                      <a:pt x="5221" y="1"/>
                      <a:pt x="5222" y="2"/>
                      <a:pt x="5222" y="3"/>
                    </a:cubicBezTo>
                    <a:cubicBezTo>
                      <a:pt x="5222" y="4"/>
                      <a:pt x="5221" y="5"/>
                      <a:pt x="5220" y="5"/>
                    </a:cubicBezTo>
                    <a:lnTo>
                      <a:pt x="5220" y="5"/>
                    </a:lnTo>
                    <a:cubicBezTo>
                      <a:pt x="5219" y="5"/>
                      <a:pt x="5218" y="4"/>
                      <a:pt x="5218" y="3"/>
                    </a:cubicBezTo>
                    <a:cubicBezTo>
                      <a:pt x="5218" y="2"/>
                      <a:pt x="5219" y="1"/>
                      <a:pt x="5220" y="1"/>
                    </a:cubicBezTo>
                    <a:close/>
                    <a:moveTo>
                      <a:pt x="5228" y="1"/>
                    </a:moveTo>
                    <a:lnTo>
                      <a:pt x="5228" y="1"/>
                    </a:lnTo>
                    <a:cubicBezTo>
                      <a:pt x="5229" y="1"/>
                      <a:pt x="5230" y="2"/>
                      <a:pt x="5230" y="3"/>
                    </a:cubicBezTo>
                    <a:cubicBezTo>
                      <a:pt x="5230" y="4"/>
                      <a:pt x="5229" y="5"/>
                      <a:pt x="5228" y="5"/>
                    </a:cubicBezTo>
                    <a:lnTo>
                      <a:pt x="5228" y="5"/>
                    </a:lnTo>
                    <a:cubicBezTo>
                      <a:pt x="5227" y="5"/>
                      <a:pt x="5226" y="4"/>
                      <a:pt x="5226" y="3"/>
                    </a:cubicBezTo>
                    <a:cubicBezTo>
                      <a:pt x="5226" y="2"/>
                      <a:pt x="5227" y="1"/>
                      <a:pt x="5228" y="1"/>
                    </a:cubicBezTo>
                    <a:close/>
                    <a:moveTo>
                      <a:pt x="5236" y="1"/>
                    </a:moveTo>
                    <a:lnTo>
                      <a:pt x="5236" y="1"/>
                    </a:lnTo>
                    <a:cubicBezTo>
                      <a:pt x="5237" y="1"/>
                      <a:pt x="5238" y="2"/>
                      <a:pt x="5238" y="3"/>
                    </a:cubicBezTo>
                    <a:cubicBezTo>
                      <a:pt x="5238" y="4"/>
                      <a:pt x="5237" y="5"/>
                      <a:pt x="5236" y="5"/>
                    </a:cubicBezTo>
                    <a:lnTo>
                      <a:pt x="5236" y="5"/>
                    </a:lnTo>
                    <a:cubicBezTo>
                      <a:pt x="5235" y="5"/>
                      <a:pt x="5234" y="4"/>
                      <a:pt x="5234" y="3"/>
                    </a:cubicBezTo>
                    <a:cubicBezTo>
                      <a:pt x="5234" y="2"/>
                      <a:pt x="5235" y="1"/>
                      <a:pt x="5236" y="1"/>
                    </a:cubicBezTo>
                    <a:close/>
                    <a:moveTo>
                      <a:pt x="5244" y="1"/>
                    </a:moveTo>
                    <a:lnTo>
                      <a:pt x="5244" y="1"/>
                    </a:lnTo>
                    <a:cubicBezTo>
                      <a:pt x="5245" y="1"/>
                      <a:pt x="5246" y="2"/>
                      <a:pt x="5246" y="3"/>
                    </a:cubicBezTo>
                    <a:cubicBezTo>
                      <a:pt x="5246" y="5"/>
                      <a:pt x="5245" y="5"/>
                      <a:pt x="5244" y="5"/>
                    </a:cubicBezTo>
                    <a:lnTo>
                      <a:pt x="5244" y="5"/>
                    </a:lnTo>
                    <a:cubicBezTo>
                      <a:pt x="5243" y="5"/>
                      <a:pt x="5242" y="5"/>
                      <a:pt x="5242" y="3"/>
                    </a:cubicBezTo>
                    <a:cubicBezTo>
                      <a:pt x="5242" y="2"/>
                      <a:pt x="5243" y="1"/>
                      <a:pt x="5244" y="1"/>
                    </a:cubicBezTo>
                    <a:close/>
                    <a:moveTo>
                      <a:pt x="5252" y="1"/>
                    </a:moveTo>
                    <a:lnTo>
                      <a:pt x="5252" y="1"/>
                    </a:lnTo>
                    <a:cubicBezTo>
                      <a:pt x="5253" y="1"/>
                      <a:pt x="5254" y="2"/>
                      <a:pt x="5254" y="3"/>
                    </a:cubicBezTo>
                    <a:cubicBezTo>
                      <a:pt x="5254" y="5"/>
                      <a:pt x="5253" y="5"/>
                      <a:pt x="5252" y="5"/>
                    </a:cubicBezTo>
                    <a:lnTo>
                      <a:pt x="5252" y="5"/>
                    </a:lnTo>
                    <a:cubicBezTo>
                      <a:pt x="5251" y="5"/>
                      <a:pt x="5250" y="5"/>
                      <a:pt x="5250" y="3"/>
                    </a:cubicBezTo>
                    <a:cubicBezTo>
                      <a:pt x="5250" y="2"/>
                      <a:pt x="5251" y="1"/>
                      <a:pt x="5252" y="1"/>
                    </a:cubicBezTo>
                    <a:close/>
                    <a:moveTo>
                      <a:pt x="5260" y="1"/>
                    </a:moveTo>
                    <a:lnTo>
                      <a:pt x="5260" y="1"/>
                    </a:lnTo>
                    <a:cubicBezTo>
                      <a:pt x="5261" y="1"/>
                      <a:pt x="5262" y="2"/>
                      <a:pt x="5262" y="3"/>
                    </a:cubicBezTo>
                    <a:cubicBezTo>
                      <a:pt x="5262" y="5"/>
                      <a:pt x="5261" y="5"/>
                      <a:pt x="5260" y="5"/>
                    </a:cubicBezTo>
                    <a:lnTo>
                      <a:pt x="5260" y="5"/>
                    </a:lnTo>
                    <a:cubicBezTo>
                      <a:pt x="5259" y="5"/>
                      <a:pt x="5258" y="5"/>
                      <a:pt x="5258" y="3"/>
                    </a:cubicBezTo>
                    <a:cubicBezTo>
                      <a:pt x="5258" y="2"/>
                      <a:pt x="5259" y="1"/>
                      <a:pt x="5260" y="1"/>
                    </a:cubicBezTo>
                    <a:close/>
                    <a:moveTo>
                      <a:pt x="5268" y="1"/>
                    </a:moveTo>
                    <a:lnTo>
                      <a:pt x="5268" y="1"/>
                    </a:lnTo>
                    <a:cubicBezTo>
                      <a:pt x="5270" y="1"/>
                      <a:pt x="5270" y="2"/>
                      <a:pt x="5270" y="3"/>
                    </a:cubicBezTo>
                    <a:cubicBezTo>
                      <a:pt x="5270" y="5"/>
                      <a:pt x="5270" y="5"/>
                      <a:pt x="5268" y="5"/>
                    </a:cubicBezTo>
                    <a:lnTo>
                      <a:pt x="5268" y="5"/>
                    </a:lnTo>
                    <a:cubicBezTo>
                      <a:pt x="5267" y="5"/>
                      <a:pt x="5266" y="5"/>
                      <a:pt x="5266" y="3"/>
                    </a:cubicBezTo>
                    <a:cubicBezTo>
                      <a:pt x="5266" y="2"/>
                      <a:pt x="5267" y="1"/>
                      <a:pt x="5268" y="1"/>
                    </a:cubicBezTo>
                    <a:close/>
                    <a:moveTo>
                      <a:pt x="5276" y="1"/>
                    </a:moveTo>
                    <a:lnTo>
                      <a:pt x="5276" y="1"/>
                    </a:lnTo>
                    <a:cubicBezTo>
                      <a:pt x="5278" y="1"/>
                      <a:pt x="5278" y="2"/>
                      <a:pt x="5278" y="3"/>
                    </a:cubicBezTo>
                    <a:cubicBezTo>
                      <a:pt x="5278" y="5"/>
                      <a:pt x="5278" y="5"/>
                      <a:pt x="5276" y="5"/>
                    </a:cubicBezTo>
                    <a:lnTo>
                      <a:pt x="5276" y="5"/>
                    </a:lnTo>
                    <a:cubicBezTo>
                      <a:pt x="5275" y="5"/>
                      <a:pt x="5274" y="5"/>
                      <a:pt x="5274" y="3"/>
                    </a:cubicBezTo>
                    <a:cubicBezTo>
                      <a:pt x="5274" y="2"/>
                      <a:pt x="5275" y="1"/>
                      <a:pt x="5276" y="1"/>
                    </a:cubicBezTo>
                    <a:close/>
                    <a:moveTo>
                      <a:pt x="5284" y="1"/>
                    </a:moveTo>
                    <a:lnTo>
                      <a:pt x="5284" y="1"/>
                    </a:lnTo>
                    <a:cubicBezTo>
                      <a:pt x="5286" y="1"/>
                      <a:pt x="5286" y="2"/>
                      <a:pt x="5286" y="3"/>
                    </a:cubicBezTo>
                    <a:cubicBezTo>
                      <a:pt x="5286" y="5"/>
                      <a:pt x="5286" y="5"/>
                      <a:pt x="5284" y="5"/>
                    </a:cubicBezTo>
                    <a:lnTo>
                      <a:pt x="5284" y="5"/>
                    </a:lnTo>
                    <a:cubicBezTo>
                      <a:pt x="5283" y="5"/>
                      <a:pt x="5282" y="5"/>
                      <a:pt x="5282" y="3"/>
                    </a:cubicBezTo>
                    <a:cubicBezTo>
                      <a:pt x="5282" y="2"/>
                      <a:pt x="5283" y="1"/>
                      <a:pt x="5284" y="1"/>
                    </a:cubicBezTo>
                    <a:close/>
                    <a:moveTo>
                      <a:pt x="5292" y="1"/>
                    </a:moveTo>
                    <a:lnTo>
                      <a:pt x="5292" y="1"/>
                    </a:lnTo>
                    <a:cubicBezTo>
                      <a:pt x="5294" y="1"/>
                      <a:pt x="5294" y="2"/>
                      <a:pt x="5294" y="3"/>
                    </a:cubicBezTo>
                    <a:cubicBezTo>
                      <a:pt x="5294" y="5"/>
                      <a:pt x="5294" y="5"/>
                      <a:pt x="5292" y="5"/>
                    </a:cubicBezTo>
                    <a:lnTo>
                      <a:pt x="5292" y="5"/>
                    </a:lnTo>
                    <a:cubicBezTo>
                      <a:pt x="5291" y="5"/>
                      <a:pt x="5290" y="5"/>
                      <a:pt x="5290" y="3"/>
                    </a:cubicBezTo>
                    <a:cubicBezTo>
                      <a:pt x="5290" y="2"/>
                      <a:pt x="5291" y="1"/>
                      <a:pt x="5292" y="1"/>
                    </a:cubicBezTo>
                    <a:close/>
                    <a:moveTo>
                      <a:pt x="5300" y="1"/>
                    </a:moveTo>
                    <a:lnTo>
                      <a:pt x="5300" y="1"/>
                    </a:lnTo>
                    <a:cubicBezTo>
                      <a:pt x="5302" y="1"/>
                      <a:pt x="5302" y="2"/>
                      <a:pt x="5302" y="3"/>
                    </a:cubicBezTo>
                    <a:cubicBezTo>
                      <a:pt x="5302" y="5"/>
                      <a:pt x="5302" y="5"/>
                      <a:pt x="5300" y="5"/>
                    </a:cubicBezTo>
                    <a:lnTo>
                      <a:pt x="5300" y="5"/>
                    </a:lnTo>
                    <a:cubicBezTo>
                      <a:pt x="5299" y="5"/>
                      <a:pt x="5298" y="5"/>
                      <a:pt x="5298" y="3"/>
                    </a:cubicBezTo>
                    <a:cubicBezTo>
                      <a:pt x="5298" y="2"/>
                      <a:pt x="5299" y="1"/>
                      <a:pt x="5300" y="1"/>
                    </a:cubicBezTo>
                    <a:close/>
                    <a:moveTo>
                      <a:pt x="5308" y="1"/>
                    </a:moveTo>
                    <a:lnTo>
                      <a:pt x="5308" y="1"/>
                    </a:lnTo>
                    <a:cubicBezTo>
                      <a:pt x="5310" y="1"/>
                      <a:pt x="5310" y="2"/>
                      <a:pt x="5310" y="3"/>
                    </a:cubicBezTo>
                    <a:cubicBezTo>
                      <a:pt x="5310" y="5"/>
                      <a:pt x="5310" y="5"/>
                      <a:pt x="5308" y="5"/>
                    </a:cubicBezTo>
                    <a:lnTo>
                      <a:pt x="5308" y="5"/>
                    </a:lnTo>
                    <a:cubicBezTo>
                      <a:pt x="5307" y="5"/>
                      <a:pt x="5306" y="5"/>
                      <a:pt x="5306" y="3"/>
                    </a:cubicBezTo>
                    <a:cubicBezTo>
                      <a:pt x="5306" y="2"/>
                      <a:pt x="5307" y="1"/>
                      <a:pt x="5308" y="1"/>
                    </a:cubicBezTo>
                    <a:close/>
                    <a:moveTo>
                      <a:pt x="5316" y="1"/>
                    </a:moveTo>
                    <a:lnTo>
                      <a:pt x="5316" y="1"/>
                    </a:lnTo>
                    <a:cubicBezTo>
                      <a:pt x="5318" y="1"/>
                      <a:pt x="5318" y="2"/>
                      <a:pt x="5318" y="3"/>
                    </a:cubicBezTo>
                    <a:cubicBezTo>
                      <a:pt x="5318" y="5"/>
                      <a:pt x="5318" y="5"/>
                      <a:pt x="5316" y="5"/>
                    </a:cubicBezTo>
                    <a:lnTo>
                      <a:pt x="5316" y="5"/>
                    </a:lnTo>
                    <a:cubicBezTo>
                      <a:pt x="5315" y="5"/>
                      <a:pt x="5314" y="5"/>
                      <a:pt x="5314" y="3"/>
                    </a:cubicBezTo>
                    <a:cubicBezTo>
                      <a:pt x="5314" y="2"/>
                      <a:pt x="5315" y="1"/>
                      <a:pt x="5316" y="1"/>
                    </a:cubicBezTo>
                    <a:close/>
                    <a:moveTo>
                      <a:pt x="5324" y="1"/>
                    </a:moveTo>
                    <a:lnTo>
                      <a:pt x="5324" y="1"/>
                    </a:lnTo>
                    <a:cubicBezTo>
                      <a:pt x="5326" y="1"/>
                      <a:pt x="5326" y="2"/>
                      <a:pt x="5326" y="3"/>
                    </a:cubicBezTo>
                    <a:cubicBezTo>
                      <a:pt x="5326" y="5"/>
                      <a:pt x="5326" y="5"/>
                      <a:pt x="5324" y="5"/>
                    </a:cubicBezTo>
                    <a:lnTo>
                      <a:pt x="5324" y="5"/>
                    </a:lnTo>
                    <a:cubicBezTo>
                      <a:pt x="5323" y="5"/>
                      <a:pt x="5322" y="5"/>
                      <a:pt x="5322" y="3"/>
                    </a:cubicBezTo>
                    <a:cubicBezTo>
                      <a:pt x="5322" y="2"/>
                      <a:pt x="5323" y="1"/>
                      <a:pt x="5324" y="1"/>
                    </a:cubicBezTo>
                    <a:close/>
                    <a:moveTo>
                      <a:pt x="5332" y="1"/>
                    </a:moveTo>
                    <a:lnTo>
                      <a:pt x="5332" y="1"/>
                    </a:lnTo>
                    <a:cubicBezTo>
                      <a:pt x="5334" y="1"/>
                      <a:pt x="5334" y="2"/>
                      <a:pt x="5334" y="3"/>
                    </a:cubicBezTo>
                    <a:cubicBezTo>
                      <a:pt x="5334" y="5"/>
                      <a:pt x="5334" y="5"/>
                      <a:pt x="5332" y="5"/>
                    </a:cubicBezTo>
                    <a:lnTo>
                      <a:pt x="5332" y="5"/>
                    </a:lnTo>
                    <a:cubicBezTo>
                      <a:pt x="5331" y="5"/>
                      <a:pt x="5330" y="5"/>
                      <a:pt x="5330" y="3"/>
                    </a:cubicBezTo>
                    <a:cubicBezTo>
                      <a:pt x="5330" y="2"/>
                      <a:pt x="5331" y="1"/>
                      <a:pt x="5332" y="1"/>
                    </a:cubicBezTo>
                    <a:close/>
                    <a:moveTo>
                      <a:pt x="5340" y="1"/>
                    </a:moveTo>
                    <a:lnTo>
                      <a:pt x="5340" y="1"/>
                    </a:lnTo>
                    <a:cubicBezTo>
                      <a:pt x="5342" y="1"/>
                      <a:pt x="5342" y="2"/>
                      <a:pt x="5342" y="3"/>
                    </a:cubicBezTo>
                    <a:cubicBezTo>
                      <a:pt x="5342" y="5"/>
                      <a:pt x="5342" y="5"/>
                      <a:pt x="5340" y="5"/>
                    </a:cubicBezTo>
                    <a:lnTo>
                      <a:pt x="5340" y="5"/>
                    </a:lnTo>
                    <a:cubicBezTo>
                      <a:pt x="5339" y="5"/>
                      <a:pt x="5338" y="5"/>
                      <a:pt x="5338" y="3"/>
                    </a:cubicBezTo>
                    <a:cubicBezTo>
                      <a:pt x="5338" y="2"/>
                      <a:pt x="5339" y="1"/>
                      <a:pt x="5340" y="1"/>
                    </a:cubicBezTo>
                    <a:close/>
                    <a:moveTo>
                      <a:pt x="5348" y="1"/>
                    </a:moveTo>
                    <a:lnTo>
                      <a:pt x="5348" y="1"/>
                    </a:lnTo>
                    <a:cubicBezTo>
                      <a:pt x="5350" y="1"/>
                      <a:pt x="5350" y="2"/>
                      <a:pt x="5350" y="3"/>
                    </a:cubicBezTo>
                    <a:cubicBezTo>
                      <a:pt x="5350" y="5"/>
                      <a:pt x="5350" y="5"/>
                      <a:pt x="5348" y="5"/>
                    </a:cubicBezTo>
                    <a:lnTo>
                      <a:pt x="5348" y="5"/>
                    </a:lnTo>
                    <a:cubicBezTo>
                      <a:pt x="5347" y="5"/>
                      <a:pt x="5346" y="5"/>
                      <a:pt x="5346" y="3"/>
                    </a:cubicBezTo>
                    <a:cubicBezTo>
                      <a:pt x="5346" y="2"/>
                      <a:pt x="5347" y="1"/>
                      <a:pt x="5348" y="1"/>
                    </a:cubicBezTo>
                    <a:close/>
                    <a:moveTo>
                      <a:pt x="5356" y="1"/>
                    </a:moveTo>
                    <a:lnTo>
                      <a:pt x="5356" y="1"/>
                    </a:lnTo>
                    <a:cubicBezTo>
                      <a:pt x="5358" y="1"/>
                      <a:pt x="5358" y="2"/>
                      <a:pt x="5358" y="3"/>
                    </a:cubicBezTo>
                    <a:cubicBezTo>
                      <a:pt x="5358" y="5"/>
                      <a:pt x="5358" y="5"/>
                      <a:pt x="5356" y="5"/>
                    </a:cubicBezTo>
                    <a:lnTo>
                      <a:pt x="5356" y="5"/>
                    </a:lnTo>
                    <a:cubicBezTo>
                      <a:pt x="5355" y="5"/>
                      <a:pt x="5354" y="5"/>
                      <a:pt x="5354" y="3"/>
                    </a:cubicBezTo>
                    <a:cubicBezTo>
                      <a:pt x="5354" y="2"/>
                      <a:pt x="5355" y="1"/>
                      <a:pt x="5356" y="1"/>
                    </a:cubicBezTo>
                    <a:close/>
                    <a:moveTo>
                      <a:pt x="5364" y="1"/>
                    </a:moveTo>
                    <a:lnTo>
                      <a:pt x="5364" y="1"/>
                    </a:lnTo>
                    <a:cubicBezTo>
                      <a:pt x="5366" y="1"/>
                      <a:pt x="5366" y="2"/>
                      <a:pt x="5366" y="3"/>
                    </a:cubicBezTo>
                    <a:cubicBezTo>
                      <a:pt x="5366" y="5"/>
                      <a:pt x="5366" y="5"/>
                      <a:pt x="5364" y="5"/>
                    </a:cubicBezTo>
                    <a:lnTo>
                      <a:pt x="5364" y="5"/>
                    </a:lnTo>
                    <a:cubicBezTo>
                      <a:pt x="5363" y="5"/>
                      <a:pt x="5362" y="5"/>
                      <a:pt x="5362" y="3"/>
                    </a:cubicBezTo>
                    <a:cubicBezTo>
                      <a:pt x="5362" y="2"/>
                      <a:pt x="5363" y="1"/>
                      <a:pt x="5364" y="1"/>
                    </a:cubicBezTo>
                    <a:close/>
                    <a:moveTo>
                      <a:pt x="5372" y="1"/>
                    </a:moveTo>
                    <a:lnTo>
                      <a:pt x="5372" y="1"/>
                    </a:lnTo>
                    <a:cubicBezTo>
                      <a:pt x="5374" y="1"/>
                      <a:pt x="5374" y="2"/>
                      <a:pt x="5374" y="3"/>
                    </a:cubicBezTo>
                    <a:cubicBezTo>
                      <a:pt x="5374" y="5"/>
                      <a:pt x="5374" y="5"/>
                      <a:pt x="5372" y="5"/>
                    </a:cubicBezTo>
                    <a:lnTo>
                      <a:pt x="5372" y="5"/>
                    </a:lnTo>
                    <a:cubicBezTo>
                      <a:pt x="5371" y="5"/>
                      <a:pt x="5370" y="5"/>
                      <a:pt x="5370" y="3"/>
                    </a:cubicBezTo>
                    <a:cubicBezTo>
                      <a:pt x="5370" y="2"/>
                      <a:pt x="5371" y="1"/>
                      <a:pt x="5372" y="1"/>
                    </a:cubicBezTo>
                    <a:close/>
                    <a:moveTo>
                      <a:pt x="5380" y="1"/>
                    </a:moveTo>
                    <a:lnTo>
                      <a:pt x="5380" y="1"/>
                    </a:lnTo>
                    <a:cubicBezTo>
                      <a:pt x="5382" y="1"/>
                      <a:pt x="5382" y="2"/>
                      <a:pt x="5382" y="3"/>
                    </a:cubicBezTo>
                    <a:cubicBezTo>
                      <a:pt x="5382" y="5"/>
                      <a:pt x="5382" y="5"/>
                      <a:pt x="5380" y="5"/>
                    </a:cubicBezTo>
                    <a:lnTo>
                      <a:pt x="5380" y="5"/>
                    </a:lnTo>
                    <a:cubicBezTo>
                      <a:pt x="5379" y="5"/>
                      <a:pt x="5378" y="5"/>
                      <a:pt x="5378" y="3"/>
                    </a:cubicBezTo>
                    <a:cubicBezTo>
                      <a:pt x="5378" y="2"/>
                      <a:pt x="5379" y="1"/>
                      <a:pt x="5380" y="1"/>
                    </a:cubicBezTo>
                    <a:close/>
                    <a:moveTo>
                      <a:pt x="5388" y="1"/>
                    </a:moveTo>
                    <a:lnTo>
                      <a:pt x="5388" y="1"/>
                    </a:lnTo>
                    <a:cubicBezTo>
                      <a:pt x="5390" y="1"/>
                      <a:pt x="5390" y="2"/>
                      <a:pt x="5390" y="3"/>
                    </a:cubicBezTo>
                    <a:cubicBezTo>
                      <a:pt x="5390" y="5"/>
                      <a:pt x="5390" y="5"/>
                      <a:pt x="5388" y="5"/>
                    </a:cubicBezTo>
                    <a:lnTo>
                      <a:pt x="5388" y="5"/>
                    </a:lnTo>
                    <a:cubicBezTo>
                      <a:pt x="5387" y="5"/>
                      <a:pt x="5386" y="5"/>
                      <a:pt x="5386" y="3"/>
                    </a:cubicBezTo>
                    <a:cubicBezTo>
                      <a:pt x="5386" y="2"/>
                      <a:pt x="5387" y="1"/>
                      <a:pt x="5388" y="1"/>
                    </a:cubicBezTo>
                    <a:close/>
                    <a:moveTo>
                      <a:pt x="5396" y="1"/>
                    </a:moveTo>
                    <a:lnTo>
                      <a:pt x="5396" y="1"/>
                    </a:lnTo>
                    <a:cubicBezTo>
                      <a:pt x="5398" y="1"/>
                      <a:pt x="5398" y="2"/>
                      <a:pt x="5398" y="3"/>
                    </a:cubicBezTo>
                    <a:cubicBezTo>
                      <a:pt x="5398" y="5"/>
                      <a:pt x="5398" y="5"/>
                      <a:pt x="5396" y="5"/>
                    </a:cubicBezTo>
                    <a:lnTo>
                      <a:pt x="5396" y="5"/>
                    </a:lnTo>
                    <a:cubicBezTo>
                      <a:pt x="5395" y="5"/>
                      <a:pt x="5394" y="5"/>
                      <a:pt x="5394" y="3"/>
                    </a:cubicBezTo>
                    <a:cubicBezTo>
                      <a:pt x="5394" y="2"/>
                      <a:pt x="5395" y="1"/>
                      <a:pt x="5396" y="1"/>
                    </a:cubicBezTo>
                    <a:close/>
                    <a:moveTo>
                      <a:pt x="5404" y="1"/>
                    </a:moveTo>
                    <a:lnTo>
                      <a:pt x="5404" y="1"/>
                    </a:lnTo>
                    <a:cubicBezTo>
                      <a:pt x="5406" y="1"/>
                      <a:pt x="5406" y="2"/>
                      <a:pt x="5406" y="3"/>
                    </a:cubicBezTo>
                    <a:cubicBezTo>
                      <a:pt x="5406" y="5"/>
                      <a:pt x="5406" y="5"/>
                      <a:pt x="5404" y="5"/>
                    </a:cubicBezTo>
                    <a:lnTo>
                      <a:pt x="5404" y="5"/>
                    </a:lnTo>
                    <a:cubicBezTo>
                      <a:pt x="5403" y="5"/>
                      <a:pt x="5402" y="5"/>
                      <a:pt x="5402" y="3"/>
                    </a:cubicBezTo>
                    <a:cubicBezTo>
                      <a:pt x="5402" y="2"/>
                      <a:pt x="5403" y="1"/>
                      <a:pt x="5404" y="1"/>
                    </a:cubicBezTo>
                    <a:close/>
                    <a:moveTo>
                      <a:pt x="5412" y="1"/>
                    </a:moveTo>
                    <a:lnTo>
                      <a:pt x="5412" y="1"/>
                    </a:lnTo>
                    <a:cubicBezTo>
                      <a:pt x="5414" y="1"/>
                      <a:pt x="5414" y="2"/>
                      <a:pt x="5414" y="3"/>
                    </a:cubicBezTo>
                    <a:cubicBezTo>
                      <a:pt x="5414" y="5"/>
                      <a:pt x="5414" y="5"/>
                      <a:pt x="5412" y="5"/>
                    </a:cubicBezTo>
                    <a:lnTo>
                      <a:pt x="5412" y="5"/>
                    </a:lnTo>
                    <a:cubicBezTo>
                      <a:pt x="5411" y="5"/>
                      <a:pt x="5410" y="5"/>
                      <a:pt x="5410" y="3"/>
                    </a:cubicBezTo>
                    <a:cubicBezTo>
                      <a:pt x="5410" y="2"/>
                      <a:pt x="5411" y="1"/>
                      <a:pt x="5412" y="1"/>
                    </a:cubicBezTo>
                    <a:close/>
                    <a:moveTo>
                      <a:pt x="5420" y="1"/>
                    </a:moveTo>
                    <a:lnTo>
                      <a:pt x="5420" y="1"/>
                    </a:lnTo>
                    <a:cubicBezTo>
                      <a:pt x="5422" y="1"/>
                      <a:pt x="5422" y="2"/>
                      <a:pt x="5422" y="3"/>
                    </a:cubicBezTo>
                    <a:cubicBezTo>
                      <a:pt x="5422" y="5"/>
                      <a:pt x="5422" y="5"/>
                      <a:pt x="5420" y="5"/>
                    </a:cubicBezTo>
                    <a:lnTo>
                      <a:pt x="5420" y="5"/>
                    </a:lnTo>
                    <a:cubicBezTo>
                      <a:pt x="5419" y="5"/>
                      <a:pt x="5418" y="5"/>
                      <a:pt x="5418" y="3"/>
                    </a:cubicBezTo>
                    <a:cubicBezTo>
                      <a:pt x="5418" y="2"/>
                      <a:pt x="5419" y="1"/>
                      <a:pt x="5420" y="1"/>
                    </a:cubicBezTo>
                    <a:close/>
                    <a:moveTo>
                      <a:pt x="5428" y="1"/>
                    </a:moveTo>
                    <a:lnTo>
                      <a:pt x="5428" y="1"/>
                    </a:lnTo>
                    <a:cubicBezTo>
                      <a:pt x="5430" y="1"/>
                      <a:pt x="5430" y="2"/>
                      <a:pt x="5430" y="3"/>
                    </a:cubicBezTo>
                    <a:cubicBezTo>
                      <a:pt x="5430" y="5"/>
                      <a:pt x="5430" y="5"/>
                      <a:pt x="5428" y="5"/>
                    </a:cubicBezTo>
                    <a:lnTo>
                      <a:pt x="5428" y="5"/>
                    </a:lnTo>
                    <a:cubicBezTo>
                      <a:pt x="5427" y="5"/>
                      <a:pt x="5426" y="5"/>
                      <a:pt x="5426" y="3"/>
                    </a:cubicBezTo>
                    <a:cubicBezTo>
                      <a:pt x="5426" y="2"/>
                      <a:pt x="5427" y="1"/>
                      <a:pt x="5428" y="1"/>
                    </a:cubicBezTo>
                    <a:close/>
                    <a:moveTo>
                      <a:pt x="5436" y="1"/>
                    </a:moveTo>
                    <a:lnTo>
                      <a:pt x="5436" y="1"/>
                    </a:lnTo>
                    <a:cubicBezTo>
                      <a:pt x="5438" y="1"/>
                      <a:pt x="5438" y="2"/>
                      <a:pt x="5438" y="3"/>
                    </a:cubicBezTo>
                    <a:cubicBezTo>
                      <a:pt x="5438" y="5"/>
                      <a:pt x="5438" y="5"/>
                      <a:pt x="5436" y="5"/>
                    </a:cubicBezTo>
                    <a:lnTo>
                      <a:pt x="5436" y="5"/>
                    </a:lnTo>
                    <a:cubicBezTo>
                      <a:pt x="5435" y="5"/>
                      <a:pt x="5434" y="5"/>
                      <a:pt x="5434" y="3"/>
                    </a:cubicBezTo>
                    <a:cubicBezTo>
                      <a:pt x="5434" y="2"/>
                      <a:pt x="5435" y="1"/>
                      <a:pt x="5436" y="1"/>
                    </a:cubicBezTo>
                    <a:close/>
                    <a:moveTo>
                      <a:pt x="5444" y="1"/>
                    </a:moveTo>
                    <a:lnTo>
                      <a:pt x="5444" y="1"/>
                    </a:lnTo>
                    <a:cubicBezTo>
                      <a:pt x="5446" y="1"/>
                      <a:pt x="5446" y="2"/>
                      <a:pt x="5446" y="3"/>
                    </a:cubicBezTo>
                    <a:cubicBezTo>
                      <a:pt x="5446" y="5"/>
                      <a:pt x="5446" y="5"/>
                      <a:pt x="5444" y="5"/>
                    </a:cubicBezTo>
                    <a:lnTo>
                      <a:pt x="5444" y="5"/>
                    </a:lnTo>
                    <a:cubicBezTo>
                      <a:pt x="5443" y="5"/>
                      <a:pt x="5442" y="5"/>
                      <a:pt x="5442" y="3"/>
                    </a:cubicBezTo>
                    <a:cubicBezTo>
                      <a:pt x="5442" y="2"/>
                      <a:pt x="5443" y="1"/>
                      <a:pt x="5444" y="1"/>
                    </a:cubicBezTo>
                    <a:close/>
                    <a:moveTo>
                      <a:pt x="5452" y="1"/>
                    </a:moveTo>
                    <a:lnTo>
                      <a:pt x="5452" y="1"/>
                    </a:lnTo>
                    <a:cubicBezTo>
                      <a:pt x="5454" y="1"/>
                      <a:pt x="5454" y="2"/>
                      <a:pt x="5454" y="3"/>
                    </a:cubicBezTo>
                    <a:cubicBezTo>
                      <a:pt x="5454" y="5"/>
                      <a:pt x="5454" y="5"/>
                      <a:pt x="5452" y="5"/>
                    </a:cubicBezTo>
                    <a:lnTo>
                      <a:pt x="5452" y="5"/>
                    </a:lnTo>
                    <a:cubicBezTo>
                      <a:pt x="5451" y="5"/>
                      <a:pt x="5450" y="5"/>
                      <a:pt x="5450" y="3"/>
                    </a:cubicBezTo>
                    <a:cubicBezTo>
                      <a:pt x="5450" y="2"/>
                      <a:pt x="5451" y="1"/>
                      <a:pt x="5452" y="1"/>
                    </a:cubicBezTo>
                    <a:close/>
                    <a:moveTo>
                      <a:pt x="5460" y="1"/>
                    </a:moveTo>
                    <a:lnTo>
                      <a:pt x="5460" y="1"/>
                    </a:lnTo>
                    <a:cubicBezTo>
                      <a:pt x="5462" y="1"/>
                      <a:pt x="5462" y="2"/>
                      <a:pt x="5462" y="3"/>
                    </a:cubicBezTo>
                    <a:cubicBezTo>
                      <a:pt x="5462" y="5"/>
                      <a:pt x="5462" y="5"/>
                      <a:pt x="5460" y="5"/>
                    </a:cubicBezTo>
                    <a:lnTo>
                      <a:pt x="5460" y="5"/>
                    </a:lnTo>
                    <a:cubicBezTo>
                      <a:pt x="5459" y="5"/>
                      <a:pt x="5458" y="5"/>
                      <a:pt x="5458" y="3"/>
                    </a:cubicBezTo>
                    <a:cubicBezTo>
                      <a:pt x="5458" y="2"/>
                      <a:pt x="5459" y="1"/>
                      <a:pt x="5460" y="1"/>
                    </a:cubicBezTo>
                    <a:close/>
                    <a:moveTo>
                      <a:pt x="5468" y="1"/>
                    </a:moveTo>
                    <a:lnTo>
                      <a:pt x="5468" y="1"/>
                    </a:lnTo>
                    <a:cubicBezTo>
                      <a:pt x="5470" y="1"/>
                      <a:pt x="5470" y="2"/>
                      <a:pt x="5470" y="3"/>
                    </a:cubicBezTo>
                    <a:cubicBezTo>
                      <a:pt x="5470" y="5"/>
                      <a:pt x="5470" y="5"/>
                      <a:pt x="5468" y="5"/>
                    </a:cubicBezTo>
                    <a:lnTo>
                      <a:pt x="5468" y="5"/>
                    </a:lnTo>
                    <a:cubicBezTo>
                      <a:pt x="5467" y="5"/>
                      <a:pt x="5466" y="5"/>
                      <a:pt x="5466" y="3"/>
                    </a:cubicBezTo>
                    <a:cubicBezTo>
                      <a:pt x="5466" y="2"/>
                      <a:pt x="5467" y="1"/>
                      <a:pt x="5468" y="1"/>
                    </a:cubicBezTo>
                    <a:close/>
                    <a:moveTo>
                      <a:pt x="5476" y="1"/>
                    </a:moveTo>
                    <a:lnTo>
                      <a:pt x="5476" y="1"/>
                    </a:lnTo>
                    <a:cubicBezTo>
                      <a:pt x="5478" y="1"/>
                      <a:pt x="5478" y="2"/>
                      <a:pt x="5478" y="3"/>
                    </a:cubicBezTo>
                    <a:cubicBezTo>
                      <a:pt x="5478" y="5"/>
                      <a:pt x="5478" y="5"/>
                      <a:pt x="5476" y="5"/>
                    </a:cubicBezTo>
                    <a:lnTo>
                      <a:pt x="5476" y="5"/>
                    </a:lnTo>
                    <a:cubicBezTo>
                      <a:pt x="5475" y="5"/>
                      <a:pt x="5474" y="5"/>
                      <a:pt x="5474" y="3"/>
                    </a:cubicBezTo>
                    <a:cubicBezTo>
                      <a:pt x="5474" y="2"/>
                      <a:pt x="5475" y="1"/>
                      <a:pt x="5476" y="1"/>
                    </a:cubicBezTo>
                    <a:close/>
                    <a:moveTo>
                      <a:pt x="5484" y="1"/>
                    </a:moveTo>
                    <a:lnTo>
                      <a:pt x="5485" y="1"/>
                    </a:lnTo>
                    <a:cubicBezTo>
                      <a:pt x="5486" y="1"/>
                      <a:pt x="5487" y="2"/>
                      <a:pt x="5487" y="3"/>
                    </a:cubicBezTo>
                    <a:cubicBezTo>
                      <a:pt x="5487" y="5"/>
                      <a:pt x="5486" y="5"/>
                      <a:pt x="5485" y="5"/>
                    </a:cubicBezTo>
                    <a:lnTo>
                      <a:pt x="5484" y="5"/>
                    </a:lnTo>
                    <a:cubicBezTo>
                      <a:pt x="5483" y="5"/>
                      <a:pt x="5482" y="5"/>
                      <a:pt x="5482" y="3"/>
                    </a:cubicBezTo>
                    <a:cubicBezTo>
                      <a:pt x="5482" y="2"/>
                      <a:pt x="5483" y="1"/>
                      <a:pt x="5484" y="1"/>
                    </a:cubicBezTo>
                    <a:close/>
                    <a:moveTo>
                      <a:pt x="5493" y="1"/>
                    </a:moveTo>
                    <a:lnTo>
                      <a:pt x="5493" y="1"/>
                    </a:lnTo>
                    <a:cubicBezTo>
                      <a:pt x="5494" y="1"/>
                      <a:pt x="5495" y="2"/>
                      <a:pt x="5495" y="3"/>
                    </a:cubicBezTo>
                    <a:cubicBezTo>
                      <a:pt x="5495" y="5"/>
                      <a:pt x="5494" y="5"/>
                      <a:pt x="5493" y="5"/>
                    </a:cubicBezTo>
                    <a:lnTo>
                      <a:pt x="5493" y="5"/>
                    </a:lnTo>
                    <a:cubicBezTo>
                      <a:pt x="5491" y="5"/>
                      <a:pt x="5491" y="5"/>
                      <a:pt x="5491" y="3"/>
                    </a:cubicBezTo>
                    <a:cubicBezTo>
                      <a:pt x="5491" y="2"/>
                      <a:pt x="5491" y="1"/>
                      <a:pt x="5493" y="1"/>
                    </a:cubicBezTo>
                    <a:close/>
                    <a:moveTo>
                      <a:pt x="5501" y="1"/>
                    </a:moveTo>
                    <a:lnTo>
                      <a:pt x="5501" y="1"/>
                    </a:lnTo>
                    <a:cubicBezTo>
                      <a:pt x="5502" y="1"/>
                      <a:pt x="5503" y="2"/>
                      <a:pt x="5503" y="3"/>
                    </a:cubicBezTo>
                    <a:cubicBezTo>
                      <a:pt x="5503" y="5"/>
                      <a:pt x="5502" y="5"/>
                      <a:pt x="5501" y="5"/>
                    </a:cubicBezTo>
                    <a:lnTo>
                      <a:pt x="5501" y="5"/>
                    </a:lnTo>
                    <a:cubicBezTo>
                      <a:pt x="5499" y="5"/>
                      <a:pt x="5499" y="5"/>
                      <a:pt x="5499" y="3"/>
                    </a:cubicBezTo>
                    <a:cubicBezTo>
                      <a:pt x="5499" y="2"/>
                      <a:pt x="5499" y="1"/>
                      <a:pt x="5501" y="1"/>
                    </a:cubicBezTo>
                    <a:close/>
                    <a:moveTo>
                      <a:pt x="5509" y="1"/>
                    </a:moveTo>
                    <a:lnTo>
                      <a:pt x="5509" y="1"/>
                    </a:lnTo>
                    <a:cubicBezTo>
                      <a:pt x="5510" y="1"/>
                      <a:pt x="5511" y="2"/>
                      <a:pt x="5511" y="3"/>
                    </a:cubicBezTo>
                    <a:cubicBezTo>
                      <a:pt x="5511" y="5"/>
                      <a:pt x="5510" y="5"/>
                      <a:pt x="5509" y="5"/>
                    </a:cubicBezTo>
                    <a:lnTo>
                      <a:pt x="5509" y="5"/>
                    </a:lnTo>
                    <a:cubicBezTo>
                      <a:pt x="5507" y="5"/>
                      <a:pt x="5507" y="5"/>
                      <a:pt x="5507" y="3"/>
                    </a:cubicBezTo>
                    <a:cubicBezTo>
                      <a:pt x="5507" y="2"/>
                      <a:pt x="5507" y="1"/>
                      <a:pt x="5509" y="1"/>
                    </a:cubicBezTo>
                    <a:close/>
                    <a:moveTo>
                      <a:pt x="5517" y="1"/>
                    </a:moveTo>
                    <a:lnTo>
                      <a:pt x="5517" y="1"/>
                    </a:lnTo>
                    <a:cubicBezTo>
                      <a:pt x="5518" y="1"/>
                      <a:pt x="5519" y="2"/>
                      <a:pt x="5519" y="3"/>
                    </a:cubicBezTo>
                    <a:cubicBezTo>
                      <a:pt x="5519" y="5"/>
                      <a:pt x="5518" y="5"/>
                      <a:pt x="5517" y="5"/>
                    </a:cubicBezTo>
                    <a:lnTo>
                      <a:pt x="5517" y="5"/>
                    </a:lnTo>
                    <a:cubicBezTo>
                      <a:pt x="5515" y="5"/>
                      <a:pt x="5515" y="5"/>
                      <a:pt x="5515" y="3"/>
                    </a:cubicBezTo>
                    <a:cubicBezTo>
                      <a:pt x="5515" y="2"/>
                      <a:pt x="5515" y="1"/>
                      <a:pt x="5517" y="1"/>
                    </a:cubicBezTo>
                    <a:close/>
                    <a:moveTo>
                      <a:pt x="5525" y="1"/>
                    </a:moveTo>
                    <a:lnTo>
                      <a:pt x="5525" y="1"/>
                    </a:lnTo>
                    <a:cubicBezTo>
                      <a:pt x="5526" y="1"/>
                      <a:pt x="5527" y="2"/>
                      <a:pt x="5527" y="3"/>
                    </a:cubicBezTo>
                    <a:cubicBezTo>
                      <a:pt x="5527" y="5"/>
                      <a:pt x="5526" y="5"/>
                      <a:pt x="5525" y="5"/>
                    </a:cubicBezTo>
                    <a:lnTo>
                      <a:pt x="5525" y="5"/>
                    </a:lnTo>
                    <a:cubicBezTo>
                      <a:pt x="5523" y="5"/>
                      <a:pt x="5523" y="5"/>
                      <a:pt x="5523" y="3"/>
                    </a:cubicBezTo>
                    <a:cubicBezTo>
                      <a:pt x="5523" y="2"/>
                      <a:pt x="5523" y="1"/>
                      <a:pt x="5525" y="1"/>
                    </a:cubicBezTo>
                    <a:close/>
                    <a:moveTo>
                      <a:pt x="5533" y="1"/>
                    </a:moveTo>
                    <a:lnTo>
                      <a:pt x="5533" y="1"/>
                    </a:lnTo>
                    <a:cubicBezTo>
                      <a:pt x="5534" y="1"/>
                      <a:pt x="5535" y="2"/>
                      <a:pt x="5535" y="3"/>
                    </a:cubicBezTo>
                    <a:cubicBezTo>
                      <a:pt x="5535" y="5"/>
                      <a:pt x="5534" y="5"/>
                      <a:pt x="5533" y="5"/>
                    </a:cubicBezTo>
                    <a:lnTo>
                      <a:pt x="5533" y="5"/>
                    </a:lnTo>
                    <a:cubicBezTo>
                      <a:pt x="5531" y="5"/>
                      <a:pt x="5531" y="5"/>
                      <a:pt x="5531" y="3"/>
                    </a:cubicBezTo>
                    <a:cubicBezTo>
                      <a:pt x="5531" y="2"/>
                      <a:pt x="5531" y="1"/>
                      <a:pt x="5533" y="1"/>
                    </a:cubicBezTo>
                    <a:close/>
                    <a:moveTo>
                      <a:pt x="5541" y="1"/>
                    </a:moveTo>
                    <a:lnTo>
                      <a:pt x="5541" y="1"/>
                    </a:lnTo>
                    <a:cubicBezTo>
                      <a:pt x="5542" y="1"/>
                      <a:pt x="5543" y="2"/>
                      <a:pt x="5543" y="3"/>
                    </a:cubicBezTo>
                    <a:cubicBezTo>
                      <a:pt x="5543" y="5"/>
                      <a:pt x="5542" y="5"/>
                      <a:pt x="5541" y="5"/>
                    </a:cubicBezTo>
                    <a:lnTo>
                      <a:pt x="5541" y="5"/>
                    </a:lnTo>
                    <a:cubicBezTo>
                      <a:pt x="5539" y="5"/>
                      <a:pt x="5539" y="5"/>
                      <a:pt x="5539" y="3"/>
                    </a:cubicBezTo>
                    <a:cubicBezTo>
                      <a:pt x="5539" y="2"/>
                      <a:pt x="5539" y="1"/>
                      <a:pt x="5541" y="1"/>
                    </a:cubicBezTo>
                    <a:close/>
                    <a:moveTo>
                      <a:pt x="5549" y="1"/>
                    </a:moveTo>
                    <a:lnTo>
                      <a:pt x="5549" y="1"/>
                    </a:lnTo>
                    <a:cubicBezTo>
                      <a:pt x="5550" y="1"/>
                      <a:pt x="5551" y="2"/>
                      <a:pt x="5551" y="3"/>
                    </a:cubicBezTo>
                    <a:cubicBezTo>
                      <a:pt x="5551" y="5"/>
                      <a:pt x="5550" y="5"/>
                      <a:pt x="5549" y="5"/>
                    </a:cubicBezTo>
                    <a:lnTo>
                      <a:pt x="5549" y="5"/>
                    </a:lnTo>
                    <a:cubicBezTo>
                      <a:pt x="5547" y="5"/>
                      <a:pt x="5547" y="5"/>
                      <a:pt x="5547" y="3"/>
                    </a:cubicBezTo>
                    <a:cubicBezTo>
                      <a:pt x="5547" y="2"/>
                      <a:pt x="5547" y="1"/>
                      <a:pt x="5549" y="1"/>
                    </a:cubicBezTo>
                    <a:close/>
                    <a:moveTo>
                      <a:pt x="5557" y="1"/>
                    </a:moveTo>
                    <a:lnTo>
                      <a:pt x="5557" y="1"/>
                    </a:lnTo>
                    <a:cubicBezTo>
                      <a:pt x="5558" y="1"/>
                      <a:pt x="5559" y="2"/>
                      <a:pt x="5559" y="3"/>
                    </a:cubicBezTo>
                    <a:cubicBezTo>
                      <a:pt x="5559" y="5"/>
                      <a:pt x="5558" y="5"/>
                      <a:pt x="5557" y="5"/>
                    </a:cubicBezTo>
                    <a:lnTo>
                      <a:pt x="5557" y="5"/>
                    </a:lnTo>
                    <a:cubicBezTo>
                      <a:pt x="5555" y="5"/>
                      <a:pt x="5555" y="5"/>
                      <a:pt x="5555" y="3"/>
                    </a:cubicBezTo>
                    <a:cubicBezTo>
                      <a:pt x="5555" y="2"/>
                      <a:pt x="5555" y="1"/>
                      <a:pt x="5557" y="1"/>
                    </a:cubicBezTo>
                    <a:close/>
                    <a:moveTo>
                      <a:pt x="5565" y="1"/>
                    </a:moveTo>
                    <a:lnTo>
                      <a:pt x="5565" y="1"/>
                    </a:lnTo>
                    <a:cubicBezTo>
                      <a:pt x="5566" y="1"/>
                      <a:pt x="5567" y="2"/>
                      <a:pt x="5567" y="3"/>
                    </a:cubicBezTo>
                    <a:cubicBezTo>
                      <a:pt x="5567" y="5"/>
                      <a:pt x="5566" y="5"/>
                      <a:pt x="5565" y="5"/>
                    </a:cubicBezTo>
                    <a:lnTo>
                      <a:pt x="5565" y="5"/>
                    </a:lnTo>
                    <a:cubicBezTo>
                      <a:pt x="5563" y="5"/>
                      <a:pt x="5563" y="5"/>
                      <a:pt x="5563" y="3"/>
                    </a:cubicBezTo>
                    <a:cubicBezTo>
                      <a:pt x="5563" y="2"/>
                      <a:pt x="5563" y="1"/>
                      <a:pt x="5565" y="1"/>
                    </a:cubicBezTo>
                    <a:close/>
                    <a:moveTo>
                      <a:pt x="5573" y="1"/>
                    </a:moveTo>
                    <a:lnTo>
                      <a:pt x="5573" y="1"/>
                    </a:lnTo>
                    <a:cubicBezTo>
                      <a:pt x="5574" y="1"/>
                      <a:pt x="5575" y="2"/>
                      <a:pt x="5575" y="3"/>
                    </a:cubicBezTo>
                    <a:cubicBezTo>
                      <a:pt x="5575" y="5"/>
                      <a:pt x="5574" y="5"/>
                      <a:pt x="5573" y="5"/>
                    </a:cubicBezTo>
                    <a:lnTo>
                      <a:pt x="5573" y="5"/>
                    </a:lnTo>
                    <a:cubicBezTo>
                      <a:pt x="5571" y="5"/>
                      <a:pt x="5571" y="5"/>
                      <a:pt x="5571" y="3"/>
                    </a:cubicBezTo>
                    <a:cubicBezTo>
                      <a:pt x="5571" y="2"/>
                      <a:pt x="5571" y="1"/>
                      <a:pt x="5573" y="1"/>
                    </a:cubicBezTo>
                    <a:close/>
                    <a:moveTo>
                      <a:pt x="5581" y="1"/>
                    </a:moveTo>
                    <a:lnTo>
                      <a:pt x="5581" y="1"/>
                    </a:lnTo>
                    <a:cubicBezTo>
                      <a:pt x="5582" y="1"/>
                      <a:pt x="5583" y="2"/>
                      <a:pt x="5583" y="3"/>
                    </a:cubicBezTo>
                    <a:cubicBezTo>
                      <a:pt x="5583" y="5"/>
                      <a:pt x="5582" y="5"/>
                      <a:pt x="5581" y="5"/>
                    </a:cubicBezTo>
                    <a:lnTo>
                      <a:pt x="5581" y="5"/>
                    </a:lnTo>
                    <a:cubicBezTo>
                      <a:pt x="5579" y="5"/>
                      <a:pt x="5579" y="5"/>
                      <a:pt x="5579" y="3"/>
                    </a:cubicBezTo>
                    <a:cubicBezTo>
                      <a:pt x="5579" y="2"/>
                      <a:pt x="5579" y="1"/>
                      <a:pt x="5581" y="1"/>
                    </a:cubicBezTo>
                    <a:close/>
                    <a:moveTo>
                      <a:pt x="5589" y="1"/>
                    </a:moveTo>
                    <a:lnTo>
                      <a:pt x="5589" y="1"/>
                    </a:lnTo>
                    <a:cubicBezTo>
                      <a:pt x="5590" y="1"/>
                      <a:pt x="5591" y="2"/>
                      <a:pt x="5591" y="3"/>
                    </a:cubicBezTo>
                    <a:cubicBezTo>
                      <a:pt x="5591" y="5"/>
                      <a:pt x="5590" y="5"/>
                      <a:pt x="5589" y="5"/>
                    </a:cubicBezTo>
                    <a:lnTo>
                      <a:pt x="5589" y="5"/>
                    </a:lnTo>
                    <a:cubicBezTo>
                      <a:pt x="5587" y="5"/>
                      <a:pt x="5587" y="5"/>
                      <a:pt x="5587" y="3"/>
                    </a:cubicBezTo>
                    <a:cubicBezTo>
                      <a:pt x="5587" y="2"/>
                      <a:pt x="5587" y="1"/>
                      <a:pt x="5589" y="1"/>
                    </a:cubicBezTo>
                    <a:close/>
                    <a:moveTo>
                      <a:pt x="5597" y="1"/>
                    </a:moveTo>
                    <a:lnTo>
                      <a:pt x="5597" y="1"/>
                    </a:lnTo>
                    <a:cubicBezTo>
                      <a:pt x="5598" y="1"/>
                      <a:pt x="5599" y="2"/>
                      <a:pt x="5599" y="3"/>
                    </a:cubicBezTo>
                    <a:cubicBezTo>
                      <a:pt x="5599" y="5"/>
                      <a:pt x="5598" y="5"/>
                      <a:pt x="5597" y="5"/>
                    </a:cubicBezTo>
                    <a:lnTo>
                      <a:pt x="5597" y="5"/>
                    </a:lnTo>
                    <a:cubicBezTo>
                      <a:pt x="5595" y="5"/>
                      <a:pt x="5595" y="5"/>
                      <a:pt x="5595" y="3"/>
                    </a:cubicBezTo>
                    <a:cubicBezTo>
                      <a:pt x="5595" y="2"/>
                      <a:pt x="5595" y="1"/>
                      <a:pt x="5597" y="1"/>
                    </a:cubicBezTo>
                    <a:close/>
                    <a:moveTo>
                      <a:pt x="5605" y="1"/>
                    </a:moveTo>
                    <a:lnTo>
                      <a:pt x="5605" y="1"/>
                    </a:lnTo>
                    <a:cubicBezTo>
                      <a:pt x="5606" y="1"/>
                      <a:pt x="5607" y="2"/>
                      <a:pt x="5607" y="3"/>
                    </a:cubicBezTo>
                    <a:cubicBezTo>
                      <a:pt x="5607" y="5"/>
                      <a:pt x="5606" y="5"/>
                      <a:pt x="5605" y="5"/>
                    </a:cubicBezTo>
                    <a:lnTo>
                      <a:pt x="5605" y="5"/>
                    </a:lnTo>
                    <a:cubicBezTo>
                      <a:pt x="5603" y="5"/>
                      <a:pt x="5603" y="5"/>
                      <a:pt x="5603" y="3"/>
                    </a:cubicBezTo>
                    <a:cubicBezTo>
                      <a:pt x="5603" y="2"/>
                      <a:pt x="5603" y="1"/>
                      <a:pt x="5605" y="1"/>
                    </a:cubicBezTo>
                    <a:close/>
                    <a:moveTo>
                      <a:pt x="5613" y="1"/>
                    </a:moveTo>
                    <a:lnTo>
                      <a:pt x="5613" y="1"/>
                    </a:lnTo>
                    <a:cubicBezTo>
                      <a:pt x="5614" y="1"/>
                      <a:pt x="5615" y="2"/>
                      <a:pt x="5615" y="3"/>
                    </a:cubicBezTo>
                    <a:cubicBezTo>
                      <a:pt x="5615" y="5"/>
                      <a:pt x="5614" y="5"/>
                      <a:pt x="5613" y="5"/>
                    </a:cubicBezTo>
                    <a:lnTo>
                      <a:pt x="5613" y="5"/>
                    </a:lnTo>
                    <a:cubicBezTo>
                      <a:pt x="5611" y="5"/>
                      <a:pt x="5611" y="5"/>
                      <a:pt x="5611" y="3"/>
                    </a:cubicBezTo>
                    <a:cubicBezTo>
                      <a:pt x="5611" y="2"/>
                      <a:pt x="5611" y="1"/>
                      <a:pt x="5613" y="1"/>
                    </a:cubicBezTo>
                    <a:close/>
                    <a:moveTo>
                      <a:pt x="5621" y="1"/>
                    </a:moveTo>
                    <a:lnTo>
                      <a:pt x="5621" y="1"/>
                    </a:lnTo>
                    <a:cubicBezTo>
                      <a:pt x="5622" y="1"/>
                      <a:pt x="5623" y="2"/>
                      <a:pt x="5623" y="3"/>
                    </a:cubicBezTo>
                    <a:cubicBezTo>
                      <a:pt x="5623" y="5"/>
                      <a:pt x="5622" y="5"/>
                      <a:pt x="5621" y="5"/>
                    </a:cubicBezTo>
                    <a:lnTo>
                      <a:pt x="5621" y="5"/>
                    </a:lnTo>
                    <a:cubicBezTo>
                      <a:pt x="5619" y="5"/>
                      <a:pt x="5619" y="5"/>
                      <a:pt x="5619" y="3"/>
                    </a:cubicBezTo>
                    <a:cubicBezTo>
                      <a:pt x="5619" y="2"/>
                      <a:pt x="5619" y="1"/>
                      <a:pt x="5621" y="1"/>
                    </a:cubicBezTo>
                    <a:close/>
                    <a:moveTo>
                      <a:pt x="5629" y="1"/>
                    </a:moveTo>
                    <a:lnTo>
                      <a:pt x="5629" y="1"/>
                    </a:lnTo>
                    <a:cubicBezTo>
                      <a:pt x="5630" y="1"/>
                      <a:pt x="5631" y="2"/>
                      <a:pt x="5631" y="3"/>
                    </a:cubicBezTo>
                    <a:cubicBezTo>
                      <a:pt x="5631" y="5"/>
                      <a:pt x="5630" y="5"/>
                      <a:pt x="5629" y="5"/>
                    </a:cubicBezTo>
                    <a:lnTo>
                      <a:pt x="5629" y="5"/>
                    </a:lnTo>
                    <a:cubicBezTo>
                      <a:pt x="5627" y="5"/>
                      <a:pt x="5627" y="5"/>
                      <a:pt x="5627" y="3"/>
                    </a:cubicBezTo>
                    <a:cubicBezTo>
                      <a:pt x="5627" y="2"/>
                      <a:pt x="5627" y="1"/>
                      <a:pt x="5629" y="1"/>
                    </a:cubicBezTo>
                    <a:close/>
                    <a:moveTo>
                      <a:pt x="5637" y="1"/>
                    </a:moveTo>
                    <a:lnTo>
                      <a:pt x="5637" y="1"/>
                    </a:lnTo>
                    <a:cubicBezTo>
                      <a:pt x="5638" y="1"/>
                      <a:pt x="5639" y="2"/>
                      <a:pt x="5639" y="3"/>
                    </a:cubicBezTo>
                    <a:cubicBezTo>
                      <a:pt x="5639" y="5"/>
                      <a:pt x="5638" y="5"/>
                      <a:pt x="5637" y="5"/>
                    </a:cubicBezTo>
                    <a:lnTo>
                      <a:pt x="5637" y="5"/>
                    </a:lnTo>
                    <a:cubicBezTo>
                      <a:pt x="5635" y="5"/>
                      <a:pt x="5635" y="5"/>
                      <a:pt x="5635" y="3"/>
                    </a:cubicBezTo>
                    <a:cubicBezTo>
                      <a:pt x="5635" y="2"/>
                      <a:pt x="5635" y="1"/>
                      <a:pt x="5637" y="1"/>
                    </a:cubicBezTo>
                    <a:close/>
                    <a:moveTo>
                      <a:pt x="5645" y="1"/>
                    </a:moveTo>
                    <a:lnTo>
                      <a:pt x="5645" y="1"/>
                    </a:lnTo>
                    <a:cubicBezTo>
                      <a:pt x="5646" y="1"/>
                      <a:pt x="5647" y="2"/>
                      <a:pt x="5647" y="3"/>
                    </a:cubicBezTo>
                    <a:cubicBezTo>
                      <a:pt x="5647" y="5"/>
                      <a:pt x="5646" y="5"/>
                      <a:pt x="5645" y="5"/>
                    </a:cubicBezTo>
                    <a:lnTo>
                      <a:pt x="5645" y="5"/>
                    </a:lnTo>
                    <a:cubicBezTo>
                      <a:pt x="5643" y="5"/>
                      <a:pt x="5643" y="5"/>
                      <a:pt x="5643" y="3"/>
                    </a:cubicBezTo>
                    <a:cubicBezTo>
                      <a:pt x="5643" y="2"/>
                      <a:pt x="5643" y="1"/>
                      <a:pt x="5645" y="1"/>
                    </a:cubicBezTo>
                    <a:close/>
                    <a:moveTo>
                      <a:pt x="5653" y="1"/>
                    </a:moveTo>
                    <a:lnTo>
                      <a:pt x="5653" y="1"/>
                    </a:lnTo>
                    <a:cubicBezTo>
                      <a:pt x="5654" y="1"/>
                      <a:pt x="5655" y="2"/>
                      <a:pt x="5655" y="3"/>
                    </a:cubicBezTo>
                    <a:cubicBezTo>
                      <a:pt x="5655" y="5"/>
                      <a:pt x="5654" y="5"/>
                      <a:pt x="5653" y="5"/>
                    </a:cubicBezTo>
                    <a:lnTo>
                      <a:pt x="5653" y="5"/>
                    </a:lnTo>
                    <a:cubicBezTo>
                      <a:pt x="5651" y="5"/>
                      <a:pt x="5651" y="5"/>
                      <a:pt x="5651" y="3"/>
                    </a:cubicBezTo>
                    <a:cubicBezTo>
                      <a:pt x="5651" y="2"/>
                      <a:pt x="5651" y="1"/>
                      <a:pt x="5653" y="1"/>
                    </a:cubicBezTo>
                    <a:close/>
                    <a:moveTo>
                      <a:pt x="5661" y="1"/>
                    </a:moveTo>
                    <a:lnTo>
                      <a:pt x="5661" y="1"/>
                    </a:lnTo>
                    <a:cubicBezTo>
                      <a:pt x="5662" y="1"/>
                      <a:pt x="5663" y="2"/>
                      <a:pt x="5663" y="3"/>
                    </a:cubicBezTo>
                    <a:cubicBezTo>
                      <a:pt x="5663" y="5"/>
                      <a:pt x="5662" y="5"/>
                      <a:pt x="5661" y="5"/>
                    </a:cubicBezTo>
                    <a:lnTo>
                      <a:pt x="5661" y="5"/>
                    </a:lnTo>
                    <a:cubicBezTo>
                      <a:pt x="5659" y="5"/>
                      <a:pt x="5659" y="5"/>
                      <a:pt x="5659" y="3"/>
                    </a:cubicBezTo>
                    <a:cubicBezTo>
                      <a:pt x="5659" y="2"/>
                      <a:pt x="5659" y="1"/>
                      <a:pt x="5661" y="1"/>
                    </a:cubicBezTo>
                    <a:close/>
                    <a:moveTo>
                      <a:pt x="5669" y="1"/>
                    </a:moveTo>
                    <a:lnTo>
                      <a:pt x="5669" y="1"/>
                    </a:lnTo>
                    <a:cubicBezTo>
                      <a:pt x="5670" y="1"/>
                      <a:pt x="5671" y="2"/>
                      <a:pt x="5671" y="3"/>
                    </a:cubicBezTo>
                    <a:cubicBezTo>
                      <a:pt x="5671" y="5"/>
                      <a:pt x="5670" y="5"/>
                      <a:pt x="5669" y="5"/>
                    </a:cubicBezTo>
                    <a:lnTo>
                      <a:pt x="5669" y="5"/>
                    </a:lnTo>
                    <a:cubicBezTo>
                      <a:pt x="5667" y="5"/>
                      <a:pt x="5667" y="5"/>
                      <a:pt x="5667" y="3"/>
                    </a:cubicBezTo>
                    <a:cubicBezTo>
                      <a:pt x="5667" y="2"/>
                      <a:pt x="5667" y="1"/>
                      <a:pt x="5669" y="1"/>
                    </a:cubicBezTo>
                    <a:close/>
                    <a:moveTo>
                      <a:pt x="5677" y="2"/>
                    </a:moveTo>
                    <a:lnTo>
                      <a:pt x="5677" y="2"/>
                    </a:lnTo>
                    <a:cubicBezTo>
                      <a:pt x="5678" y="2"/>
                      <a:pt x="5679" y="2"/>
                      <a:pt x="5679" y="4"/>
                    </a:cubicBezTo>
                    <a:cubicBezTo>
                      <a:pt x="5679" y="5"/>
                      <a:pt x="5678" y="6"/>
                      <a:pt x="5677" y="6"/>
                    </a:cubicBezTo>
                    <a:lnTo>
                      <a:pt x="5677" y="6"/>
                    </a:lnTo>
                    <a:cubicBezTo>
                      <a:pt x="5675" y="6"/>
                      <a:pt x="5675" y="5"/>
                      <a:pt x="5675" y="4"/>
                    </a:cubicBezTo>
                    <a:cubicBezTo>
                      <a:pt x="5675" y="2"/>
                      <a:pt x="5675" y="2"/>
                      <a:pt x="5677" y="2"/>
                    </a:cubicBezTo>
                    <a:close/>
                    <a:moveTo>
                      <a:pt x="5685" y="2"/>
                    </a:moveTo>
                    <a:lnTo>
                      <a:pt x="5685" y="2"/>
                    </a:lnTo>
                    <a:cubicBezTo>
                      <a:pt x="5686" y="2"/>
                      <a:pt x="5687" y="2"/>
                      <a:pt x="5687" y="4"/>
                    </a:cubicBezTo>
                    <a:cubicBezTo>
                      <a:pt x="5687" y="5"/>
                      <a:pt x="5686" y="6"/>
                      <a:pt x="5685" y="6"/>
                    </a:cubicBezTo>
                    <a:lnTo>
                      <a:pt x="5685" y="6"/>
                    </a:lnTo>
                    <a:cubicBezTo>
                      <a:pt x="5683" y="6"/>
                      <a:pt x="5683" y="5"/>
                      <a:pt x="5683" y="4"/>
                    </a:cubicBezTo>
                    <a:cubicBezTo>
                      <a:pt x="5683" y="2"/>
                      <a:pt x="5683" y="2"/>
                      <a:pt x="5685" y="2"/>
                    </a:cubicBezTo>
                    <a:close/>
                    <a:moveTo>
                      <a:pt x="5693" y="2"/>
                    </a:moveTo>
                    <a:lnTo>
                      <a:pt x="5693" y="2"/>
                    </a:lnTo>
                    <a:cubicBezTo>
                      <a:pt x="5694" y="2"/>
                      <a:pt x="5695" y="2"/>
                      <a:pt x="5695" y="4"/>
                    </a:cubicBezTo>
                    <a:cubicBezTo>
                      <a:pt x="5695" y="5"/>
                      <a:pt x="5694" y="6"/>
                      <a:pt x="5693" y="6"/>
                    </a:cubicBezTo>
                    <a:lnTo>
                      <a:pt x="5693" y="6"/>
                    </a:lnTo>
                    <a:cubicBezTo>
                      <a:pt x="5691" y="6"/>
                      <a:pt x="5691" y="5"/>
                      <a:pt x="5691" y="4"/>
                    </a:cubicBezTo>
                    <a:cubicBezTo>
                      <a:pt x="5691" y="2"/>
                      <a:pt x="5691" y="2"/>
                      <a:pt x="5693" y="2"/>
                    </a:cubicBezTo>
                    <a:close/>
                    <a:moveTo>
                      <a:pt x="5701" y="2"/>
                    </a:moveTo>
                    <a:lnTo>
                      <a:pt x="5701" y="2"/>
                    </a:lnTo>
                    <a:cubicBezTo>
                      <a:pt x="5702" y="2"/>
                      <a:pt x="5703" y="2"/>
                      <a:pt x="5703" y="4"/>
                    </a:cubicBezTo>
                    <a:cubicBezTo>
                      <a:pt x="5703" y="5"/>
                      <a:pt x="5702" y="6"/>
                      <a:pt x="5701" y="6"/>
                    </a:cubicBezTo>
                    <a:lnTo>
                      <a:pt x="5701" y="6"/>
                    </a:lnTo>
                    <a:cubicBezTo>
                      <a:pt x="5699" y="6"/>
                      <a:pt x="5699" y="5"/>
                      <a:pt x="5699" y="4"/>
                    </a:cubicBezTo>
                    <a:cubicBezTo>
                      <a:pt x="5699" y="2"/>
                      <a:pt x="5699" y="2"/>
                      <a:pt x="5701" y="2"/>
                    </a:cubicBezTo>
                    <a:close/>
                    <a:moveTo>
                      <a:pt x="5709" y="2"/>
                    </a:moveTo>
                    <a:lnTo>
                      <a:pt x="5709" y="2"/>
                    </a:lnTo>
                    <a:cubicBezTo>
                      <a:pt x="5710" y="2"/>
                      <a:pt x="5711" y="2"/>
                      <a:pt x="5711" y="4"/>
                    </a:cubicBezTo>
                    <a:cubicBezTo>
                      <a:pt x="5711" y="5"/>
                      <a:pt x="5710" y="6"/>
                      <a:pt x="5709" y="6"/>
                    </a:cubicBezTo>
                    <a:lnTo>
                      <a:pt x="5709" y="6"/>
                    </a:lnTo>
                    <a:cubicBezTo>
                      <a:pt x="5708" y="6"/>
                      <a:pt x="5707" y="5"/>
                      <a:pt x="5707" y="4"/>
                    </a:cubicBezTo>
                    <a:cubicBezTo>
                      <a:pt x="5707" y="2"/>
                      <a:pt x="5708" y="2"/>
                      <a:pt x="5709" y="2"/>
                    </a:cubicBezTo>
                    <a:close/>
                    <a:moveTo>
                      <a:pt x="5717" y="2"/>
                    </a:moveTo>
                    <a:lnTo>
                      <a:pt x="5717" y="2"/>
                    </a:lnTo>
                    <a:cubicBezTo>
                      <a:pt x="5718" y="2"/>
                      <a:pt x="5719" y="2"/>
                      <a:pt x="5719" y="4"/>
                    </a:cubicBezTo>
                    <a:cubicBezTo>
                      <a:pt x="5719" y="5"/>
                      <a:pt x="5718" y="6"/>
                      <a:pt x="5717" y="6"/>
                    </a:cubicBezTo>
                    <a:lnTo>
                      <a:pt x="5717" y="6"/>
                    </a:lnTo>
                    <a:cubicBezTo>
                      <a:pt x="5716" y="6"/>
                      <a:pt x="5715" y="5"/>
                      <a:pt x="5715" y="4"/>
                    </a:cubicBezTo>
                    <a:cubicBezTo>
                      <a:pt x="5715" y="2"/>
                      <a:pt x="5716" y="2"/>
                      <a:pt x="5717" y="2"/>
                    </a:cubicBezTo>
                    <a:close/>
                    <a:moveTo>
                      <a:pt x="5725" y="2"/>
                    </a:moveTo>
                    <a:lnTo>
                      <a:pt x="5725" y="2"/>
                    </a:lnTo>
                    <a:cubicBezTo>
                      <a:pt x="5726" y="2"/>
                      <a:pt x="5727" y="2"/>
                      <a:pt x="5727" y="4"/>
                    </a:cubicBezTo>
                    <a:cubicBezTo>
                      <a:pt x="5727" y="5"/>
                      <a:pt x="5726" y="6"/>
                      <a:pt x="5725" y="6"/>
                    </a:cubicBezTo>
                    <a:lnTo>
                      <a:pt x="5725" y="6"/>
                    </a:lnTo>
                    <a:cubicBezTo>
                      <a:pt x="5724" y="6"/>
                      <a:pt x="5723" y="5"/>
                      <a:pt x="5723" y="4"/>
                    </a:cubicBezTo>
                    <a:cubicBezTo>
                      <a:pt x="5723" y="2"/>
                      <a:pt x="5724" y="2"/>
                      <a:pt x="5725" y="2"/>
                    </a:cubicBezTo>
                    <a:close/>
                    <a:moveTo>
                      <a:pt x="5733" y="2"/>
                    </a:moveTo>
                    <a:lnTo>
                      <a:pt x="5733" y="2"/>
                    </a:lnTo>
                    <a:cubicBezTo>
                      <a:pt x="5734" y="2"/>
                      <a:pt x="5735" y="2"/>
                      <a:pt x="5735" y="4"/>
                    </a:cubicBezTo>
                    <a:cubicBezTo>
                      <a:pt x="5735" y="5"/>
                      <a:pt x="5734" y="6"/>
                      <a:pt x="5733" y="6"/>
                    </a:cubicBezTo>
                    <a:lnTo>
                      <a:pt x="5733" y="6"/>
                    </a:lnTo>
                    <a:cubicBezTo>
                      <a:pt x="5732" y="6"/>
                      <a:pt x="5731" y="5"/>
                      <a:pt x="5731" y="4"/>
                    </a:cubicBezTo>
                    <a:cubicBezTo>
                      <a:pt x="5731" y="2"/>
                      <a:pt x="5732" y="2"/>
                      <a:pt x="5733" y="2"/>
                    </a:cubicBezTo>
                    <a:close/>
                    <a:moveTo>
                      <a:pt x="5741" y="2"/>
                    </a:moveTo>
                    <a:lnTo>
                      <a:pt x="5741" y="2"/>
                    </a:lnTo>
                    <a:cubicBezTo>
                      <a:pt x="5742" y="2"/>
                      <a:pt x="5743" y="2"/>
                      <a:pt x="5743" y="4"/>
                    </a:cubicBezTo>
                    <a:cubicBezTo>
                      <a:pt x="5743" y="5"/>
                      <a:pt x="5742" y="6"/>
                      <a:pt x="5741" y="6"/>
                    </a:cubicBezTo>
                    <a:lnTo>
                      <a:pt x="5741" y="6"/>
                    </a:lnTo>
                    <a:cubicBezTo>
                      <a:pt x="5740" y="6"/>
                      <a:pt x="5739" y="5"/>
                      <a:pt x="5739" y="4"/>
                    </a:cubicBezTo>
                    <a:cubicBezTo>
                      <a:pt x="5739" y="2"/>
                      <a:pt x="5740" y="2"/>
                      <a:pt x="5741" y="2"/>
                    </a:cubicBezTo>
                    <a:close/>
                    <a:moveTo>
                      <a:pt x="5749" y="2"/>
                    </a:moveTo>
                    <a:lnTo>
                      <a:pt x="5749" y="2"/>
                    </a:lnTo>
                    <a:cubicBezTo>
                      <a:pt x="5750" y="2"/>
                      <a:pt x="5751" y="2"/>
                      <a:pt x="5751" y="4"/>
                    </a:cubicBezTo>
                    <a:cubicBezTo>
                      <a:pt x="5751" y="5"/>
                      <a:pt x="5750" y="6"/>
                      <a:pt x="5749" y="6"/>
                    </a:cubicBezTo>
                    <a:lnTo>
                      <a:pt x="5749" y="6"/>
                    </a:lnTo>
                    <a:cubicBezTo>
                      <a:pt x="5748" y="6"/>
                      <a:pt x="5747" y="5"/>
                      <a:pt x="5747" y="4"/>
                    </a:cubicBezTo>
                    <a:cubicBezTo>
                      <a:pt x="5747" y="2"/>
                      <a:pt x="5748" y="2"/>
                      <a:pt x="5749" y="2"/>
                    </a:cubicBezTo>
                    <a:close/>
                    <a:moveTo>
                      <a:pt x="5757" y="2"/>
                    </a:moveTo>
                    <a:lnTo>
                      <a:pt x="5757" y="2"/>
                    </a:lnTo>
                    <a:cubicBezTo>
                      <a:pt x="5758" y="2"/>
                      <a:pt x="5759" y="2"/>
                      <a:pt x="5759" y="4"/>
                    </a:cubicBezTo>
                    <a:cubicBezTo>
                      <a:pt x="5759" y="5"/>
                      <a:pt x="5758" y="6"/>
                      <a:pt x="5757" y="6"/>
                    </a:cubicBezTo>
                    <a:lnTo>
                      <a:pt x="5757" y="6"/>
                    </a:lnTo>
                    <a:cubicBezTo>
                      <a:pt x="5756" y="6"/>
                      <a:pt x="5755" y="5"/>
                      <a:pt x="5755" y="4"/>
                    </a:cubicBezTo>
                    <a:cubicBezTo>
                      <a:pt x="5755" y="2"/>
                      <a:pt x="5756" y="2"/>
                      <a:pt x="5757" y="2"/>
                    </a:cubicBezTo>
                    <a:close/>
                    <a:moveTo>
                      <a:pt x="5765" y="2"/>
                    </a:moveTo>
                    <a:lnTo>
                      <a:pt x="5765" y="2"/>
                    </a:lnTo>
                    <a:cubicBezTo>
                      <a:pt x="5766" y="2"/>
                      <a:pt x="5767" y="2"/>
                      <a:pt x="5767" y="4"/>
                    </a:cubicBezTo>
                    <a:cubicBezTo>
                      <a:pt x="5767" y="5"/>
                      <a:pt x="5766" y="6"/>
                      <a:pt x="5765" y="6"/>
                    </a:cubicBezTo>
                    <a:lnTo>
                      <a:pt x="5765" y="6"/>
                    </a:lnTo>
                    <a:cubicBezTo>
                      <a:pt x="5764" y="6"/>
                      <a:pt x="5763" y="5"/>
                      <a:pt x="5763" y="4"/>
                    </a:cubicBezTo>
                    <a:cubicBezTo>
                      <a:pt x="5763" y="2"/>
                      <a:pt x="5764" y="2"/>
                      <a:pt x="5765" y="2"/>
                    </a:cubicBezTo>
                    <a:close/>
                    <a:moveTo>
                      <a:pt x="5773" y="2"/>
                    </a:moveTo>
                    <a:lnTo>
                      <a:pt x="5773" y="2"/>
                    </a:lnTo>
                    <a:cubicBezTo>
                      <a:pt x="5774" y="2"/>
                      <a:pt x="5775" y="2"/>
                      <a:pt x="5775" y="4"/>
                    </a:cubicBezTo>
                    <a:cubicBezTo>
                      <a:pt x="5775" y="5"/>
                      <a:pt x="5774" y="6"/>
                      <a:pt x="5773" y="6"/>
                    </a:cubicBezTo>
                    <a:lnTo>
                      <a:pt x="5773" y="6"/>
                    </a:lnTo>
                    <a:cubicBezTo>
                      <a:pt x="5772" y="6"/>
                      <a:pt x="5771" y="5"/>
                      <a:pt x="5771" y="4"/>
                    </a:cubicBezTo>
                    <a:cubicBezTo>
                      <a:pt x="5771" y="2"/>
                      <a:pt x="5772" y="2"/>
                      <a:pt x="5773" y="2"/>
                    </a:cubicBezTo>
                    <a:close/>
                    <a:moveTo>
                      <a:pt x="5781" y="2"/>
                    </a:moveTo>
                    <a:lnTo>
                      <a:pt x="5781" y="2"/>
                    </a:lnTo>
                    <a:cubicBezTo>
                      <a:pt x="5782" y="2"/>
                      <a:pt x="5783" y="2"/>
                      <a:pt x="5783" y="4"/>
                    </a:cubicBezTo>
                    <a:cubicBezTo>
                      <a:pt x="5783" y="5"/>
                      <a:pt x="5782" y="6"/>
                      <a:pt x="5781" y="6"/>
                    </a:cubicBezTo>
                    <a:lnTo>
                      <a:pt x="5781" y="6"/>
                    </a:lnTo>
                    <a:cubicBezTo>
                      <a:pt x="5780" y="6"/>
                      <a:pt x="5779" y="5"/>
                      <a:pt x="5779" y="4"/>
                    </a:cubicBezTo>
                    <a:cubicBezTo>
                      <a:pt x="5779" y="2"/>
                      <a:pt x="5780" y="2"/>
                      <a:pt x="5781" y="2"/>
                    </a:cubicBezTo>
                    <a:close/>
                    <a:moveTo>
                      <a:pt x="5789" y="2"/>
                    </a:moveTo>
                    <a:lnTo>
                      <a:pt x="5789" y="2"/>
                    </a:lnTo>
                    <a:cubicBezTo>
                      <a:pt x="5790" y="2"/>
                      <a:pt x="5791" y="2"/>
                      <a:pt x="5791" y="4"/>
                    </a:cubicBezTo>
                    <a:cubicBezTo>
                      <a:pt x="5791" y="5"/>
                      <a:pt x="5790" y="6"/>
                      <a:pt x="5789" y="6"/>
                    </a:cubicBezTo>
                    <a:lnTo>
                      <a:pt x="5789" y="6"/>
                    </a:lnTo>
                    <a:cubicBezTo>
                      <a:pt x="5788" y="6"/>
                      <a:pt x="5787" y="5"/>
                      <a:pt x="5787" y="4"/>
                    </a:cubicBezTo>
                    <a:cubicBezTo>
                      <a:pt x="5787" y="2"/>
                      <a:pt x="5788" y="2"/>
                      <a:pt x="5789" y="2"/>
                    </a:cubicBezTo>
                    <a:close/>
                    <a:moveTo>
                      <a:pt x="5797" y="2"/>
                    </a:moveTo>
                    <a:lnTo>
                      <a:pt x="5797" y="2"/>
                    </a:lnTo>
                    <a:cubicBezTo>
                      <a:pt x="5798" y="2"/>
                      <a:pt x="5799" y="2"/>
                      <a:pt x="5799" y="4"/>
                    </a:cubicBezTo>
                    <a:cubicBezTo>
                      <a:pt x="5799" y="5"/>
                      <a:pt x="5798" y="6"/>
                      <a:pt x="5797" y="6"/>
                    </a:cubicBezTo>
                    <a:lnTo>
                      <a:pt x="5797" y="6"/>
                    </a:lnTo>
                    <a:cubicBezTo>
                      <a:pt x="5796" y="6"/>
                      <a:pt x="5795" y="5"/>
                      <a:pt x="5795" y="4"/>
                    </a:cubicBezTo>
                    <a:cubicBezTo>
                      <a:pt x="5795" y="2"/>
                      <a:pt x="5796" y="2"/>
                      <a:pt x="5797" y="2"/>
                    </a:cubicBezTo>
                    <a:close/>
                    <a:moveTo>
                      <a:pt x="5805" y="2"/>
                    </a:moveTo>
                    <a:lnTo>
                      <a:pt x="5805" y="2"/>
                    </a:lnTo>
                    <a:cubicBezTo>
                      <a:pt x="5806" y="2"/>
                      <a:pt x="5807" y="2"/>
                      <a:pt x="5807" y="4"/>
                    </a:cubicBezTo>
                    <a:cubicBezTo>
                      <a:pt x="5807" y="5"/>
                      <a:pt x="5806" y="6"/>
                      <a:pt x="5805" y="6"/>
                    </a:cubicBezTo>
                    <a:lnTo>
                      <a:pt x="5805" y="6"/>
                    </a:lnTo>
                    <a:cubicBezTo>
                      <a:pt x="5804" y="6"/>
                      <a:pt x="5803" y="5"/>
                      <a:pt x="5803" y="4"/>
                    </a:cubicBezTo>
                    <a:cubicBezTo>
                      <a:pt x="5803" y="2"/>
                      <a:pt x="5804" y="2"/>
                      <a:pt x="5805" y="2"/>
                    </a:cubicBezTo>
                    <a:close/>
                    <a:moveTo>
                      <a:pt x="5813" y="2"/>
                    </a:moveTo>
                    <a:lnTo>
                      <a:pt x="5813" y="2"/>
                    </a:lnTo>
                    <a:cubicBezTo>
                      <a:pt x="5814" y="2"/>
                      <a:pt x="5815" y="2"/>
                      <a:pt x="5815" y="4"/>
                    </a:cubicBezTo>
                    <a:cubicBezTo>
                      <a:pt x="5815" y="5"/>
                      <a:pt x="5814" y="6"/>
                      <a:pt x="5813" y="6"/>
                    </a:cubicBezTo>
                    <a:lnTo>
                      <a:pt x="5813" y="6"/>
                    </a:lnTo>
                    <a:cubicBezTo>
                      <a:pt x="5812" y="6"/>
                      <a:pt x="5811" y="5"/>
                      <a:pt x="5811" y="4"/>
                    </a:cubicBezTo>
                    <a:cubicBezTo>
                      <a:pt x="5811" y="2"/>
                      <a:pt x="5812" y="2"/>
                      <a:pt x="5813" y="2"/>
                    </a:cubicBezTo>
                    <a:close/>
                    <a:moveTo>
                      <a:pt x="5821" y="2"/>
                    </a:moveTo>
                    <a:lnTo>
                      <a:pt x="5821" y="2"/>
                    </a:lnTo>
                    <a:cubicBezTo>
                      <a:pt x="5822" y="2"/>
                      <a:pt x="5823" y="2"/>
                      <a:pt x="5823" y="4"/>
                    </a:cubicBezTo>
                    <a:cubicBezTo>
                      <a:pt x="5823" y="5"/>
                      <a:pt x="5822" y="6"/>
                      <a:pt x="5821" y="6"/>
                    </a:cubicBezTo>
                    <a:lnTo>
                      <a:pt x="5821" y="6"/>
                    </a:lnTo>
                    <a:cubicBezTo>
                      <a:pt x="5820" y="6"/>
                      <a:pt x="5819" y="5"/>
                      <a:pt x="5819" y="4"/>
                    </a:cubicBezTo>
                    <a:cubicBezTo>
                      <a:pt x="5819" y="2"/>
                      <a:pt x="5820" y="2"/>
                      <a:pt x="5821" y="2"/>
                    </a:cubicBezTo>
                    <a:close/>
                    <a:moveTo>
                      <a:pt x="5829" y="2"/>
                    </a:moveTo>
                    <a:lnTo>
                      <a:pt x="5829" y="2"/>
                    </a:lnTo>
                    <a:cubicBezTo>
                      <a:pt x="5830" y="2"/>
                      <a:pt x="5831" y="2"/>
                      <a:pt x="5831" y="4"/>
                    </a:cubicBezTo>
                    <a:cubicBezTo>
                      <a:pt x="5831" y="5"/>
                      <a:pt x="5830" y="6"/>
                      <a:pt x="5829" y="6"/>
                    </a:cubicBezTo>
                    <a:lnTo>
                      <a:pt x="5829" y="6"/>
                    </a:lnTo>
                    <a:cubicBezTo>
                      <a:pt x="5828" y="6"/>
                      <a:pt x="5827" y="5"/>
                      <a:pt x="5827" y="4"/>
                    </a:cubicBezTo>
                    <a:cubicBezTo>
                      <a:pt x="5827" y="2"/>
                      <a:pt x="5828" y="2"/>
                      <a:pt x="5829" y="2"/>
                    </a:cubicBezTo>
                    <a:close/>
                    <a:moveTo>
                      <a:pt x="5837" y="2"/>
                    </a:moveTo>
                    <a:lnTo>
                      <a:pt x="5837" y="2"/>
                    </a:lnTo>
                    <a:cubicBezTo>
                      <a:pt x="5838" y="2"/>
                      <a:pt x="5839" y="2"/>
                      <a:pt x="5839" y="4"/>
                    </a:cubicBezTo>
                    <a:cubicBezTo>
                      <a:pt x="5839" y="5"/>
                      <a:pt x="5838" y="6"/>
                      <a:pt x="5837" y="6"/>
                    </a:cubicBezTo>
                    <a:lnTo>
                      <a:pt x="5837" y="6"/>
                    </a:lnTo>
                    <a:cubicBezTo>
                      <a:pt x="5836" y="6"/>
                      <a:pt x="5835" y="5"/>
                      <a:pt x="5835" y="4"/>
                    </a:cubicBezTo>
                    <a:cubicBezTo>
                      <a:pt x="5835" y="2"/>
                      <a:pt x="5836" y="2"/>
                      <a:pt x="5837" y="2"/>
                    </a:cubicBezTo>
                    <a:close/>
                    <a:moveTo>
                      <a:pt x="5845" y="2"/>
                    </a:moveTo>
                    <a:lnTo>
                      <a:pt x="5845" y="2"/>
                    </a:lnTo>
                    <a:cubicBezTo>
                      <a:pt x="5846" y="2"/>
                      <a:pt x="5847" y="2"/>
                      <a:pt x="5847" y="4"/>
                    </a:cubicBezTo>
                    <a:cubicBezTo>
                      <a:pt x="5847" y="5"/>
                      <a:pt x="5846" y="6"/>
                      <a:pt x="5845" y="6"/>
                    </a:cubicBezTo>
                    <a:lnTo>
                      <a:pt x="5845" y="6"/>
                    </a:lnTo>
                    <a:cubicBezTo>
                      <a:pt x="5844" y="6"/>
                      <a:pt x="5843" y="5"/>
                      <a:pt x="5843" y="4"/>
                    </a:cubicBezTo>
                    <a:cubicBezTo>
                      <a:pt x="5843" y="2"/>
                      <a:pt x="5844" y="2"/>
                      <a:pt x="5845" y="2"/>
                    </a:cubicBezTo>
                    <a:close/>
                    <a:moveTo>
                      <a:pt x="5853" y="2"/>
                    </a:moveTo>
                    <a:lnTo>
                      <a:pt x="5853" y="2"/>
                    </a:lnTo>
                    <a:cubicBezTo>
                      <a:pt x="5854" y="2"/>
                      <a:pt x="5855" y="2"/>
                      <a:pt x="5855" y="4"/>
                    </a:cubicBezTo>
                    <a:cubicBezTo>
                      <a:pt x="5855" y="5"/>
                      <a:pt x="5854" y="6"/>
                      <a:pt x="5853" y="6"/>
                    </a:cubicBezTo>
                    <a:lnTo>
                      <a:pt x="5853" y="6"/>
                    </a:lnTo>
                    <a:cubicBezTo>
                      <a:pt x="5852" y="6"/>
                      <a:pt x="5851" y="5"/>
                      <a:pt x="5851" y="4"/>
                    </a:cubicBezTo>
                    <a:cubicBezTo>
                      <a:pt x="5851" y="2"/>
                      <a:pt x="5852" y="2"/>
                      <a:pt x="5853" y="2"/>
                    </a:cubicBezTo>
                    <a:close/>
                    <a:moveTo>
                      <a:pt x="5861" y="2"/>
                    </a:moveTo>
                    <a:lnTo>
                      <a:pt x="5861" y="2"/>
                    </a:lnTo>
                    <a:cubicBezTo>
                      <a:pt x="5862" y="2"/>
                      <a:pt x="5863" y="2"/>
                      <a:pt x="5863" y="4"/>
                    </a:cubicBezTo>
                    <a:cubicBezTo>
                      <a:pt x="5863" y="5"/>
                      <a:pt x="5862" y="6"/>
                      <a:pt x="5861" y="6"/>
                    </a:cubicBezTo>
                    <a:lnTo>
                      <a:pt x="5861" y="6"/>
                    </a:lnTo>
                    <a:cubicBezTo>
                      <a:pt x="5860" y="6"/>
                      <a:pt x="5859" y="5"/>
                      <a:pt x="5859" y="4"/>
                    </a:cubicBezTo>
                    <a:cubicBezTo>
                      <a:pt x="5859" y="2"/>
                      <a:pt x="5860" y="2"/>
                      <a:pt x="5861" y="2"/>
                    </a:cubicBezTo>
                    <a:close/>
                    <a:moveTo>
                      <a:pt x="5869" y="2"/>
                    </a:moveTo>
                    <a:lnTo>
                      <a:pt x="5869" y="2"/>
                    </a:lnTo>
                    <a:cubicBezTo>
                      <a:pt x="5870" y="2"/>
                      <a:pt x="5871" y="2"/>
                      <a:pt x="5871" y="4"/>
                    </a:cubicBezTo>
                    <a:cubicBezTo>
                      <a:pt x="5871" y="5"/>
                      <a:pt x="5870" y="6"/>
                      <a:pt x="5869" y="6"/>
                    </a:cubicBezTo>
                    <a:lnTo>
                      <a:pt x="5869" y="6"/>
                    </a:lnTo>
                    <a:cubicBezTo>
                      <a:pt x="5868" y="6"/>
                      <a:pt x="5867" y="5"/>
                      <a:pt x="5867" y="4"/>
                    </a:cubicBezTo>
                    <a:cubicBezTo>
                      <a:pt x="5867" y="2"/>
                      <a:pt x="5868" y="2"/>
                      <a:pt x="5869" y="2"/>
                    </a:cubicBezTo>
                    <a:close/>
                    <a:moveTo>
                      <a:pt x="5877" y="2"/>
                    </a:moveTo>
                    <a:lnTo>
                      <a:pt x="5877" y="2"/>
                    </a:lnTo>
                    <a:cubicBezTo>
                      <a:pt x="5878" y="2"/>
                      <a:pt x="5879" y="2"/>
                      <a:pt x="5879" y="4"/>
                    </a:cubicBezTo>
                    <a:cubicBezTo>
                      <a:pt x="5879" y="5"/>
                      <a:pt x="5878" y="6"/>
                      <a:pt x="5877" y="6"/>
                    </a:cubicBezTo>
                    <a:lnTo>
                      <a:pt x="5877" y="6"/>
                    </a:lnTo>
                    <a:cubicBezTo>
                      <a:pt x="5876" y="6"/>
                      <a:pt x="5875" y="5"/>
                      <a:pt x="5875" y="4"/>
                    </a:cubicBezTo>
                    <a:cubicBezTo>
                      <a:pt x="5875" y="2"/>
                      <a:pt x="5876" y="2"/>
                      <a:pt x="5877" y="2"/>
                    </a:cubicBezTo>
                    <a:close/>
                    <a:moveTo>
                      <a:pt x="5885" y="2"/>
                    </a:moveTo>
                    <a:lnTo>
                      <a:pt x="5885" y="2"/>
                    </a:lnTo>
                    <a:cubicBezTo>
                      <a:pt x="5886" y="2"/>
                      <a:pt x="5887" y="2"/>
                      <a:pt x="5887" y="4"/>
                    </a:cubicBezTo>
                    <a:cubicBezTo>
                      <a:pt x="5887" y="5"/>
                      <a:pt x="5886" y="6"/>
                      <a:pt x="5885" y="6"/>
                    </a:cubicBezTo>
                    <a:lnTo>
                      <a:pt x="5885" y="6"/>
                    </a:lnTo>
                    <a:cubicBezTo>
                      <a:pt x="5884" y="6"/>
                      <a:pt x="5883" y="5"/>
                      <a:pt x="5883" y="4"/>
                    </a:cubicBezTo>
                    <a:cubicBezTo>
                      <a:pt x="5883" y="2"/>
                      <a:pt x="5884" y="2"/>
                      <a:pt x="5885" y="2"/>
                    </a:cubicBezTo>
                    <a:close/>
                    <a:moveTo>
                      <a:pt x="5893" y="2"/>
                    </a:moveTo>
                    <a:lnTo>
                      <a:pt x="5893" y="2"/>
                    </a:lnTo>
                    <a:cubicBezTo>
                      <a:pt x="5894" y="2"/>
                      <a:pt x="5895" y="2"/>
                      <a:pt x="5895" y="4"/>
                    </a:cubicBezTo>
                    <a:cubicBezTo>
                      <a:pt x="5895" y="5"/>
                      <a:pt x="5894" y="6"/>
                      <a:pt x="5893" y="6"/>
                    </a:cubicBezTo>
                    <a:lnTo>
                      <a:pt x="5893" y="6"/>
                    </a:lnTo>
                    <a:cubicBezTo>
                      <a:pt x="5892" y="6"/>
                      <a:pt x="5891" y="5"/>
                      <a:pt x="5891" y="4"/>
                    </a:cubicBezTo>
                    <a:cubicBezTo>
                      <a:pt x="5891" y="2"/>
                      <a:pt x="5892" y="2"/>
                      <a:pt x="5893" y="2"/>
                    </a:cubicBezTo>
                    <a:close/>
                    <a:moveTo>
                      <a:pt x="5901" y="2"/>
                    </a:moveTo>
                    <a:lnTo>
                      <a:pt x="5901" y="2"/>
                    </a:lnTo>
                    <a:cubicBezTo>
                      <a:pt x="5902" y="2"/>
                      <a:pt x="5903" y="2"/>
                      <a:pt x="5903" y="4"/>
                    </a:cubicBezTo>
                    <a:cubicBezTo>
                      <a:pt x="5903" y="5"/>
                      <a:pt x="5902" y="6"/>
                      <a:pt x="5901" y="6"/>
                    </a:cubicBezTo>
                    <a:lnTo>
                      <a:pt x="5901" y="6"/>
                    </a:lnTo>
                    <a:cubicBezTo>
                      <a:pt x="5900" y="6"/>
                      <a:pt x="5899" y="5"/>
                      <a:pt x="5899" y="4"/>
                    </a:cubicBezTo>
                    <a:cubicBezTo>
                      <a:pt x="5899" y="2"/>
                      <a:pt x="5900" y="2"/>
                      <a:pt x="5901" y="2"/>
                    </a:cubicBezTo>
                    <a:close/>
                    <a:moveTo>
                      <a:pt x="5909" y="2"/>
                    </a:moveTo>
                    <a:lnTo>
                      <a:pt x="5909" y="2"/>
                    </a:lnTo>
                    <a:cubicBezTo>
                      <a:pt x="5910" y="2"/>
                      <a:pt x="5911" y="2"/>
                      <a:pt x="5911" y="4"/>
                    </a:cubicBezTo>
                    <a:cubicBezTo>
                      <a:pt x="5911" y="5"/>
                      <a:pt x="5910" y="6"/>
                      <a:pt x="5909" y="6"/>
                    </a:cubicBezTo>
                    <a:lnTo>
                      <a:pt x="5909" y="6"/>
                    </a:lnTo>
                    <a:cubicBezTo>
                      <a:pt x="5908" y="6"/>
                      <a:pt x="5907" y="5"/>
                      <a:pt x="5907" y="4"/>
                    </a:cubicBezTo>
                    <a:cubicBezTo>
                      <a:pt x="5907" y="2"/>
                      <a:pt x="5908" y="2"/>
                      <a:pt x="5909" y="2"/>
                    </a:cubicBezTo>
                    <a:close/>
                    <a:moveTo>
                      <a:pt x="5917" y="2"/>
                    </a:moveTo>
                    <a:lnTo>
                      <a:pt x="5917" y="2"/>
                    </a:lnTo>
                    <a:cubicBezTo>
                      <a:pt x="5918" y="2"/>
                      <a:pt x="5919" y="2"/>
                      <a:pt x="5919" y="4"/>
                    </a:cubicBezTo>
                    <a:cubicBezTo>
                      <a:pt x="5919" y="5"/>
                      <a:pt x="5918" y="6"/>
                      <a:pt x="5917" y="6"/>
                    </a:cubicBezTo>
                    <a:lnTo>
                      <a:pt x="5917" y="6"/>
                    </a:lnTo>
                    <a:cubicBezTo>
                      <a:pt x="5916" y="6"/>
                      <a:pt x="5915" y="5"/>
                      <a:pt x="5915" y="4"/>
                    </a:cubicBezTo>
                    <a:cubicBezTo>
                      <a:pt x="5915" y="2"/>
                      <a:pt x="5916" y="2"/>
                      <a:pt x="5917" y="2"/>
                    </a:cubicBezTo>
                    <a:close/>
                    <a:moveTo>
                      <a:pt x="5925" y="2"/>
                    </a:moveTo>
                    <a:lnTo>
                      <a:pt x="5925" y="2"/>
                    </a:lnTo>
                    <a:cubicBezTo>
                      <a:pt x="5926" y="2"/>
                      <a:pt x="5927" y="2"/>
                      <a:pt x="5927" y="4"/>
                    </a:cubicBezTo>
                    <a:cubicBezTo>
                      <a:pt x="5927" y="5"/>
                      <a:pt x="5926" y="6"/>
                      <a:pt x="5925" y="6"/>
                    </a:cubicBezTo>
                    <a:lnTo>
                      <a:pt x="5925" y="6"/>
                    </a:lnTo>
                    <a:cubicBezTo>
                      <a:pt x="5924" y="6"/>
                      <a:pt x="5923" y="5"/>
                      <a:pt x="5923" y="4"/>
                    </a:cubicBezTo>
                    <a:cubicBezTo>
                      <a:pt x="5923" y="2"/>
                      <a:pt x="5924" y="2"/>
                      <a:pt x="5925" y="2"/>
                    </a:cubicBezTo>
                    <a:close/>
                    <a:moveTo>
                      <a:pt x="5933" y="2"/>
                    </a:moveTo>
                    <a:lnTo>
                      <a:pt x="5933" y="2"/>
                    </a:lnTo>
                    <a:cubicBezTo>
                      <a:pt x="5934" y="2"/>
                      <a:pt x="5935" y="2"/>
                      <a:pt x="5935" y="4"/>
                    </a:cubicBezTo>
                    <a:cubicBezTo>
                      <a:pt x="5935" y="5"/>
                      <a:pt x="5934" y="6"/>
                      <a:pt x="5933" y="6"/>
                    </a:cubicBezTo>
                    <a:lnTo>
                      <a:pt x="5933" y="6"/>
                    </a:lnTo>
                    <a:cubicBezTo>
                      <a:pt x="5932" y="6"/>
                      <a:pt x="5931" y="5"/>
                      <a:pt x="5931" y="4"/>
                    </a:cubicBezTo>
                    <a:cubicBezTo>
                      <a:pt x="5931" y="2"/>
                      <a:pt x="5932" y="2"/>
                      <a:pt x="5933" y="2"/>
                    </a:cubicBezTo>
                    <a:close/>
                    <a:moveTo>
                      <a:pt x="5941" y="2"/>
                    </a:moveTo>
                    <a:lnTo>
                      <a:pt x="5941" y="2"/>
                    </a:lnTo>
                    <a:cubicBezTo>
                      <a:pt x="5942" y="2"/>
                      <a:pt x="5943" y="2"/>
                      <a:pt x="5943" y="4"/>
                    </a:cubicBezTo>
                    <a:cubicBezTo>
                      <a:pt x="5943" y="5"/>
                      <a:pt x="5942" y="6"/>
                      <a:pt x="5941" y="6"/>
                    </a:cubicBezTo>
                    <a:lnTo>
                      <a:pt x="5941" y="6"/>
                    </a:lnTo>
                    <a:cubicBezTo>
                      <a:pt x="5940" y="6"/>
                      <a:pt x="5939" y="5"/>
                      <a:pt x="5939" y="4"/>
                    </a:cubicBezTo>
                    <a:cubicBezTo>
                      <a:pt x="5939" y="2"/>
                      <a:pt x="5940" y="2"/>
                      <a:pt x="5941" y="2"/>
                    </a:cubicBezTo>
                    <a:close/>
                    <a:moveTo>
                      <a:pt x="5949" y="2"/>
                    </a:moveTo>
                    <a:lnTo>
                      <a:pt x="5949" y="2"/>
                    </a:lnTo>
                    <a:cubicBezTo>
                      <a:pt x="5950" y="2"/>
                      <a:pt x="5951" y="2"/>
                      <a:pt x="5951" y="4"/>
                    </a:cubicBezTo>
                    <a:cubicBezTo>
                      <a:pt x="5951" y="5"/>
                      <a:pt x="5950" y="6"/>
                      <a:pt x="5949" y="6"/>
                    </a:cubicBezTo>
                    <a:lnTo>
                      <a:pt x="5949" y="6"/>
                    </a:lnTo>
                    <a:cubicBezTo>
                      <a:pt x="5948" y="6"/>
                      <a:pt x="5947" y="5"/>
                      <a:pt x="5947" y="4"/>
                    </a:cubicBezTo>
                    <a:cubicBezTo>
                      <a:pt x="5947" y="2"/>
                      <a:pt x="5948" y="2"/>
                      <a:pt x="5949" y="2"/>
                    </a:cubicBezTo>
                    <a:close/>
                    <a:moveTo>
                      <a:pt x="5957" y="2"/>
                    </a:moveTo>
                    <a:lnTo>
                      <a:pt x="5957" y="2"/>
                    </a:lnTo>
                    <a:cubicBezTo>
                      <a:pt x="5958" y="2"/>
                      <a:pt x="5959" y="2"/>
                      <a:pt x="5959" y="4"/>
                    </a:cubicBezTo>
                    <a:cubicBezTo>
                      <a:pt x="5959" y="5"/>
                      <a:pt x="5958" y="6"/>
                      <a:pt x="5957" y="6"/>
                    </a:cubicBezTo>
                    <a:lnTo>
                      <a:pt x="5957" y="6"/>
                    </a:lnTo>
                    <a:cubicBezTo>
                      <a:pt x="5956" y="6"/>
                      <a:pt x="5955" y="5"/>
                      <a:pt x="5955" y="4"/>
                    </a:cubicBezTo>
                    <a:cubicBezTo>
                      <a:pt x="5955" y="2"/>
                      <a:pt x="5956" y="2"/>
                      <a:pt x="5957" y="2"/>
                    </a:cubicBezTo>
                    <a:close/>
                    <a:moveTo>
                      <a:pt x="5965" y="2"/>
                    </a:moveTo>
                    <a:lnTo>
                      <a:pt x="5965" y="2"/>
                    </a:lnTo>
                    <a:cubicBezTo>
                      <a:pt x="5966" y="2"/>
                      <a:pt x="5967" y="2"/>
                      <a:pt x="5967" y="4"/>
                    </a:cubicBezTo>
                    <a:cubicBezTo>
                      <a:pt x="5967" y="5"/>
                      <a:pt x="5966" y="6"/>
                      <a:pt x="5965" y="6"/>
                    </a:cubicBezTo>
                    <a:lnTo>
                      <a:pt x="5965" y="6"/>
                    </a:lnTo>
                    <a:cubicBezTo>
                      <a:pt x="5964" y="6"/>
                      <a:pt x="5963" y="5"/>
                      <a:pt x="5963" y="4"/>
                    </a:cubicBezTo>
                    <a:cubicBezTo>
                      <a:pt x="5963" y="2"/>
                      <a:pt x="5964" y="2"/>
                      <a:pt x="5965" y="2"/>
                    </a:cubicBezTo>
                    <a:close/>
                    <a:moveTo>
                      <a:pt x="5973" y="2"/>
                    </a:moveTo>
                    <a:lnTo>
                      <a:pt x="5973" y="2"/>
                    </a:lnTo>
                    <a:cubicBezTo>
                      <a:pt x="5974" y="2"/>
                      <a:pt x="5975" y="2"/>
                      <a:pt x="5975" y="4"/>
                    </a:cubicBezTo>
                    <a:cubicBezTo>
                      <a:pt x="5975" y="5"/>
                      <a:pt x="5974" y="6"/>
                      <a:pt x="5973" y="6"/>
                    </a:cubicBezTo>
                    <a:lnTo>
                      <a:pt x="5973" y="6"/>
                    </a:lnTo>
                    <a:cubicBezTo>
                      <a:pt x="5972" y="6"/>
                      <a:pt x="5971" y="5"/>
                      <a:pt x="5971" y="4"/>
                    </a:cubicBezTo>
                    <a:cubicBezTo>
                      <a:pt x="5971" y="2"/>
                      <a:pt x="5972" y="2"/>
                      <a:pt x="5973" y="2"/>
                    </a:cubicBezTo>
                    <a:close/>
                    <a:moveTo>
                      <a:pt x="5981" y="2"/>
                    </a:moveTo>
                    <a:lnTo>
                      <a:pt x="5981" y="2"/>
                    </a:lnTo>
                    <a:cubicBezTo>
                      <a:pt x="5982" y="2"/>
                      <a:pt x="5983" y="2"/>
                      <a:pt x="5983" y="4"/>
                    </a:cubicBezTo>
                    <a:cubicBezTo>
                      <a:pt x="5983" y="5"/>
                      <a:pt x="5982" y="6"/>
                      <a:pt x="5981" y="6"/>
                    </a:cubicBezTo>
                    <a:lnTo>
                      <a:pt x="5981" y="6"/>
                    </a:lnTo>
                    <a:cubicBezTo>
                      <a:pt x="5980" y="6"/>
                      <a:pt x="5979" y="5"/>
                      <a:pt x="5979" y="4"/>
                    </a:cubicBezTo>
                    <a:cubicBezTo>
                      <a:pt x="5979" y="2"/>
                      <a:pt x="5980" y="2"/>
                      <a:pt x="5981" y="2"/>
                    </a:cubicBezTo>
                    <a:close/>
                    <a:moveTo>
                      <a:pt x="5989" y="2"/>
                    </a:moveTo>
                    <a:lnTo>
                      <a:pt x="5989" y="2"/>
                    </a:lnTo>
                    <a:cubicBezTo>
                      <a:pt x="5990" y="2"/>
                      <a:pt x="5991" y="2"/>
                      <a:pt x="5991" y="4"/>
                    </a:cubicBezTo>
                    <a:cubicBezTo>
                      <a:pt x="5991" y="5"/>
                      <a:pt x="5990" y="6"/>
                      <a:pt x="5989" y="6"/>
                    </a:cubicBezTo>
                    <a:lnTo>
                      <a:pt x="5989" y="6"/>
                    </a:lnTo>
                    <a:cubicBezTo>
                      <a:pt x="5988" y="6"/>
                      <a:pt x="5987" y="5"/>
                      <a:pt x="5987" y="4"/>
                    </a:cubicBezTo>
                    <a:cubicBezTo>
                      <a:pt x="5987" y="2"/>
                      <a:pt x="5988" y="2"/>
                      <a:pt x="5989" y="2"/>
                    </a:cubicBezTo>
                    <a:close/>
                    <a:moveTo>
                      <a:pt x="5997" y="2"/>
                    </a:moveTo>
                    <a:lnTo>
                      <a:pt x="5997" y="2"/>
                    </a:lnTo>
                    <a:cubicBezTo>
                      <a:pt x="5998" y="2"/>
                      <a:pt x="5999" y="2"/>
                      <a:pt x="5999" y="4"/>
                    </a:cubicBezTo>
                    <a:cubicBezTo>
                      <a:pt x="5999" y="5"/>
                      <a:pt x="5998" y="6"/>
                      <a:pt x="5997" y="6"/>
                    </a:cubicBezTo>
                    <a:lnTo>
                      <a:pt x="5997" y="6"/>
                    </a:lnTo>
                    <a:cubicBezTo>
                      <a:pt x="5996" y="6"/>
                      <a:pt x="5995" y="5"/>
                      <a:pt x="5995" y="4"/>
                    </a:cubicBezTo>
                    <a:cubicBezTo>
                      <a:pt x="5995" y="2"/>
                      <a:pt x="5996" y="2"/>
                      <a:pt x="5997" y="2"/>
                    </a:cubicBezTo>
                    <a:close/>
                    <a:moveTo>
                      <a:pt x="6005" y="2"/>
                    </a:moveTo>
                    <a:lnTo>
                      <a:pt x="6005" y="2"/>
                    </a:lnTo>
                    <a:cubicBezTo>
                      <a:pt x="6006" y="2"/>
                      <a:pt x="6007" y="2"/>
                      <a:pt x="6007" y="4"/>
                    </a:cubicBezTo>
                    <a:cubicBezTo>
                      <a:pt x="6007" y="5"/>
                      <a:pt x="6006" y="6"/>
                      <a:pt x="6005" y="6"/>
                    </a:cubicBezTo>
                    <a:lnTo>
                      <a:pt x="6005" y="6"/>
                    </a:lnTo>
                    <a:cubicBezTo>
                      <a:pt x="6004" y="6"/>
                      <a:pt x="6003" y="5"/>
                      <a:pt x="6003" y="4"/>
                    </a:cubicBezTo>
                    <a:cubicBezTo>
                      <a:pt x="6003" y="2"/>
                      <a:pt x="6004" y="2"/>
                      <a:pt x="6005" y="2"/>
                    </a:cubicBezTo>
                    <a:close/>
                    <a:moveTo>
                      <a:pt x="6013" y="2"/>
                    </a:moveTo>
                    <a:lnTo>
                      <a:pt x="6013" y="2"/>
                    </a:lnTo>
                    <a:cubicBezTo>
                      <a:pt x="6014" y="2"/>
                      <a:pt x="6015" y="2"/>
                      <a:pt x="6015" y="4"/>
                    </a:cubicBezTo>
                    <a:cubicBezTo>
                      <a:pt x="6015" y="5"/>
                      <a:pt x="6014" y="6"/>
                      <a:pt x="6013" y="6"/>
                    </a:cubicBezTo>
                    <a:lnTo>
                      <a:pt x="6013" y="6"/>
                    </a:lnTo>
                    <a:cubicBezTo>
                      <a:pt x="6012" y="6"/>
                      <a:pt x="6011" y="5"/>
                      <a:pt x="6011" y="4"/>
                    </a:cubicBezTo>
                    <a:cubicBezTo>
                      <a:pt x="6011" y="2"/>
                      <a:pt x="6012" y="2"/>
                      <a:pt x="6013" y="2"/>
                    </a:cubicBezTo>
                    <a:close/>
                    <a:moveTo>
                      <a:pt x="6021" y="2"/>
                    </a:moveTo>
                    <a:lnTo>
                      <a:pt x="6021" y="2"/>
                    </a:lnTo>
                    <a:cubicBezTo>
                      <a:pt x="6022" y="2"/>
                      <a:pt x="6023" y="2"/>
                      <a:pt x="6023" y="4"/>
                    </a:cubicBezTo>
                    <a:cubicBezTo>
                      <a:pt x="6023" y="5"/>
                      <a:pt x="6022" y="6"/>
                      <a:pt x="6021" y="6"/>
                    </a:cubicBezTo>
                    <a:lnTo>
                      <a:pt x="6021" y="6"/>
                    </a:lnTo>
                    <a:cubicBezTo>
                      <a:pt x="6020" y="6"/>
                      <a:pt x="6019" y="5"/>
                      <a:pt x="6019" y="4"/>
                    </a:cubicBezTo>
                    <a:cubicBezTo>
                      <a:pt x="6019" y="2"/>
                      <a:pt x="6020" y="2"/>
                      <a:pt x="6021" y="2"/>
                    </a:cubicBezTo>
                    <a:close/>
                    <a:moveTo>
                      <a:pt x="6029" y="2"/>
                    </a:moveTo>
                    <a:lnTo>
                      <a:pt x="6029" y="2"/>
                    </a:lnTo>
                    <a:cubicBezTo>
                      <a:pt x="6030" y="2"/>
                      <a:pt x="6031" y="2"/>
                      <a:pt x="6031" y="4"/>
                    </a:cubicBezTo>
                    <a:cubicBezTo>
                      <a:pt x="6031" y="5"/>
                      <a:pt x="6030" y="6"/>
                      <a:pt x="6029" y="6"/>
                    </a:cubicBezTo>
                    <a:lnTo>
                      <a:pt x="6029" y="6"/>
                    </a:lnTo>
                    <a:cubicBezTo>
                      <a:pt x="6028" y="6"/>
                      <a:pt x="6027" y="5"/>
                      <a:pt x="6027" y="4"/>
                    </a:cubicBezTo>
                    <a:cubicBezTo>
                      <a:pt x="6027" y="2"/>
                      <a:pt x="6028" y="2"/>
                      <a:pt x="6029" y="2"/>
                    </a:cubicBezTo>
                    <a:close/>
                    <a:moveTo>
                      <a:pt x="6037" y="2"/>
                    </a:moveTo>
                    <a:lnTo>
                      <a:pt x="6037" y="2"/>
                    </a:lnTo>
                    <a:cubicBezTo>
                      <a:pt x="6038" y="2"/>
                      <a:pt x="6039" y="2"/>
                      <a:pt x="6039" y="4"/>
                    </a:cubicBezTo>
                    <a:cubicBezTo>
                      <a:pt x="6039" y="5"/>
                      <a:pt x="6038" y="6"/>
                      <a:pt x="6037" y="6"/>
                    </a:cubicBezTo>
                    <a:lnTo>
                      <a:pt x="6037" y="6"/>
                    </a:lnTo>
                    <a:cubicBezTo>
                      <a:pt x="6036" y="6"/>
                      <a:pt x="6035" y="5"/>
                      <a:pt x="6035" y="4"/>
                    </a:cubicBezTo>
                    <a:cubicBezTo>
                      <a:pt x="6035" y="2"/>
                      <a:pt x="6036" y="2"/>
                      <a:pt x="6037" y="2"/>
                    </a:cubicBezTo>
                    <a:close/>
                    <a:moveTo>
                      <a:pt x="6045" y="2"/>
                    </a:moveTo>
                    <a:lnTo>
                      <a:pt x="6045" y="2"/>
                    </a:lnTo>
                    <a:cubicBezTo>
                      <a:pt x="6046" y="2"/>
                      <a:pt x="6047" y="2"/>
                      <a:pt x="6047" y="4"/>
                    </a:cubicBezTo>
                    <a:cubicBezTo>
                      <a:pt x="6047" y="5"/>
                      <a:pt x="6046" y="6"/>
                      <a:pt x="6045" y="6"/>
                    </a:cubicBezTo>
                    <a:lnTo>
                      <a:pt x="6045" y="6"/>
                    </a:lnTo>
                    <a:cubicBezTo>
                      <a:pt x="6044" y="6"/>
                      <a:pt x="6043" y="5"/>
                      <a:pt x="6043" y="4"/>
                    </a:cubicBezTo>
                    <a:cubicBezTo>
                      <a:pt x="6043" y="2"/>
                      <a:pt x="6044" y="2"/>
                      <a:pt x="6045" y="2"/>
                    </a:cubicBezTo>
                    <a:close/>
                    <a:moveTo>
                      <a:pt x="6053" y="2"/>
                    </a:moveTo>
                    <a:lnTo>
                      <a:pt x="6053" y="2"/>
                    </a:lnTo>
                    <a:cubicBezTo>
                      <a:pt x="6054" y="2"/>
                      <a:pt x="6055" y="2"/>
                      <a:pt x="6055" y="4"/>
                    </a:cubicBezTo>
                    <a:cubicBezTo>
                      <a:pt x="6055" y="5"/>
                      <a:pt x="6054" y="6"/>
                      <a:pt x="6053" y="6"/>
                    </a:cubicBezTo>
                    <a:lnTo>
                      <a:pt x="6053" y="6"/>
                    </a:lnTo>
                    <a:cubicBezTo>
                      <a:pt x="6052" y="6"/>
                      <a:pt x="6051" y="5"/>
                      <a:pt x="6051" y="4"/>
                    </a:cubicBezTo>
                    <a:cubicBezTo>
                      <a:pt x="6051" y="2"/>
                      <a:pt x="6052" y="2"/>
                      <a:pt x="6053" y="2"/>
                    </a:cubicBezTo>
                    <a:close/>
                    <a:moveTo>
                      <a:pt x="6061" y="2"/>
                    </a:moveTo>
                    <a:lnTo>
                      <a:pt x="6061" y="2"/>
                    </a:lnTo>
                    <a:cubicBezTo>
                      <a:pt x="6062" y="2"/>
                      <a:pt x="6063" y="2"/>
                      <a:pt x="6063" y="4"/>
                    </a:cubicBezTo>
                    <a:cubicBezTo>
                      <a:pt x="6063" y="5"/>
                      <a:pt x="6062" y="6"/>
                      <a:pt x="6061" y="6"/>
                    </a:cubicBezTo>
                    <a:lnTo>
                      <a:pt x="6061" y="6"/>
                    </a:lnTo>
                    <a:cubicBezTo>
                      <a:pt x="6060" y="6"/>
                      <a:pt x="6059" y="5"/>
                      <a:pt x="6059" y="4"/>
                    </a:cubicBezTo>
                    <a:cubicBezTo>
                      <a:pt x="6059" y="2"/>
                      <a:pt x="6060" y="2"/>
                      <a:pt x="6061" y="2"/>
                    </a:cubicBezTo>
                    <a:close/>
                    <a:moveTo>
                      <a:pt x="6069" y="2"/>
                    </a:moveTo>
                    <a:lnTo>
                      <a:pt x="6069" y="2"/>
                    </a:lnTo>
                    <a:cubicBezTo>
                      <a:pt x="6070" y="2"/>
                      <a:pt x="6071" y="2"/>
                      <a:pt x="6071" y="4"/>
                    </a:cubicBezTo>
                    <a:cubicBezTo>
                      <a:pt x="6071" y="5"/>
                      <a:pt x="6070" y="6"/>
                      <a:pt x="6069" y="6"/>
                    </a:cubicBezTo>
                    <a:lnTo>
                      <a:pt x="6069" y="6"/>
                    </a:lnTo>
                    <a:cubicBezTo>
                      <a:pt x="6068" y="6"/>
                      <a:pt x="6067" y="5"/>
                      <a:pt x="6067" y="4"/>
                    </a:cubicBezTo>
                    <a:cubicBezTo>
                      <a:pt x="6067" y="2"/>
                      <a:pt x="6068" y="2"/>
                      <a:pt x="6069" y="2"/>
                    </a:cubicBezTo>
                    <a:close/>
                    <a:moveTo>
                      <a:pt x="6077" y="2"/>
                    </a:moveTo>
                    <a:lnTo>
                      <a:pt x="6077" y="2"/>
                    </a:lnTo>
                    <a:cubicBezTo>
                      <a:pt x="6078" y="2"/>
                      <a:pt x="6079" y="2"/>
                      <a:pt x="6079" y="4"/>
                    </a:cubicBezTo>
                    <a:cubicBezTo>
                      <a:pt x="6079" y="5"/>
                      <a:pt x="6078" y="6"/>
                      <a:pt x="6077" y="6"/>
                    </a:cubicBezTo>
                    <a:lnTo>
                      <a:pt x="6077" y="6"/>
                    </a:lnTo>
                    <a:cubicBezTo>
                      <a:pt x="6076" y="6"/>
                      <a:pt x="6075" y="5"/>
                      <a:pt x="6075" y="4"/>
                    </a:cubicBezTo>
                    <a:cubicBezTo>
                      <a:pt x="6075" y="2"/>
                      <a:pt x="6076" y="2"/>
                      <a:pt x="6077" y="2"/>
                    </a:cubicBezTo>
                    <a:close/>
                    <a:moveTo>
                      <a:pt x="6085" y="2"/>
                    </a:moveTo>
                    <a:lnTo>
                      <a:pt x="6085" y="2"/>
                    </a:lnTo>
                    <a:cubicBezTo>
                      <a:pt x="6086" y="2"/>
                      <a:pt x="6087" y="2"/>
                      <a:pt x="6087" y="4"/>
                    </a:cubicBezTo>
                    <a:cubicBezTo>
                      <a:pt x="6087" y="5"/>
                      <a:pt x="6086" y="6"/>
                      <a:pt x="6085" y="6"/>
                    </a:cubicBezTo>
                    <a:lnTo>
                      <a:pt x="6085" y="6"/>
                    </a:lnTo>
                    <a:cubicBezTo>
                      <a:pt x="6084" y="6"/>
                      <a:pt x="6083" y="5"/>
                      <a:pt x="6083" y="4"/>
                    </a:cubicBezTo>
                    <a:cubicBezTo>
                      <a:pt x="6083" y="2"/>
                      <a:pt x="6084" y="2"/>
                      <a:pt x="6085" y="2"/>
                    </a:cubicBezTo>
                    <a:close/>
                    <a:moveTo>
                      <a:pt x="6093" y="2"/>
                    </a:moveTo>
                    <a:lnTo>
                      <a:pt x="6093" y="2"/>
                    </a:lnTo>
                    <a:cubicBezTo>
                      <a:pt x="6094" y="2"/>
                      <a:pt x="6095" y="2"/>
                      <a:pt x="6095" y="4"/>
                    </a:cubicBezTo>
                    <a:cubicBezTo>
                      <a:pt x="6095" y="5"/>
                      <a:pt x="6094" y="6"/>
                      <a:pt x="6093" y="6"/>
                    </a:cubicBezTo>
                    <a:lnTo>
                      <a:pt x="6093" y="6"/>
                    </a:lnTo>
                    <a:cubicBezTo>
                      <a:pt x="6092" y="6"/>
                      <a:pt x="6091" y="5"/>
                      <a:pt x="6091" y="4"/>
                    </a:cubicBezTo>
                    <a:cubicBezTo>
                      <a:pt x="6091" y="2"/>
                      <a:pt x="6092" y="2"/>
                      <a:pt x="6093" y="2"/>
                    </a:cubicBezTo>
                    <a:close/>
                    <a:moveTo>
                      <a:pt x="6101" y="2"/>
                    </a:moveTo>
                    <a:lnTo>
                      <a:pt x="6101" y="2"/>
                    </a:lnTo>
                    <a:cubicBezTo>
                      <a:pt x="6102" y="2"/>
                      <a:pt x="6103" y="2"/>
                      <a:pt x="6103" y="4"/>
                    </a:cubicBezTo>
                    <a:cubicBezTo>
                      <a:pt x="6103" y="5"/>
                      <a:pt x="6102" y="6"/>
                      <a:pt x="6101" y="6"/>
                    </a:cubicBezTo>
                    <a:lnTo>
                      <a:pt x="6101" y="6"/>
                    </a:lnTo>
                    <a:cubicBezTo>
                      <a:pt x="6100" y="6"/>
                      <a:pt x="6099" y="5"/>
                      <a:pt x="6099" y="4"/>
                    </a:cubicBezTo>
                    <a:cubicBezTo>
                      <a:pt x="6099" y="2"/>
                      <a:pt x="6100" y="2"/>
                      <a:pt x="6101" y="2"/>
                    </a:cubicBezTo>
                    <a:close/>
                    <a:moveTo>
                      <a:pt x="6109" y="2"/>
                    </a:moveTo>
                    <a:lnTo>
                      <a:pt x="6109" y="2"/>
                    </a:lnTo>
                    <a:cubicBezTo>
                      <a:pt x="6110" y="2"/>
                      <a:pt x="6111" y="3"/>
                      <a:pt x="6111" y="4"/>
                    </a:cubicBezTo>
                    <a:cubicBezTo>
                      <a:pt x="6111" y="5"/>
                      <a:pt x="6110" y="6"/>
                      <a:pt x="6109" y="6"/>
                    </a:cubicBezTo>
                    <a:lnTo>
                      <a:pt x="6109" y="6"/>
                    </a:lnTo>
                    <a:cubicBezTo>
                      <a:pt x="6108" y="6"/>
                      <a:pt x="6107" y="5"/>
                      <a:pt x="6107" y="4"/>
                    </a:cubicBezTo>
                    <a:cubicBezTo>
                      <a:pt x="6107" y="3"/>
                      <a:pt x="6108" y="2"/>
                      <a:pt x="6109" y="2"/>
                    </a:cubicBezTo>
                    <a:close/>
                    <a:moveTo>
                      <a:pt x="6117" y="2"/>
                    </a:moveTo>
                    <a:lnTo>
                      <a:pt x="6117" y="2"/>
                    </a:lnTo>
                    <a:cubicBezTo>
                      <a:pt x="6118" y="2"/>
                      <a:pt x="6119" y="3"/>
                      <a:pt x="6119" y="4"/>
                    </a:cubicBezTo>
                    <a:cubicBezTo>
                      <a:pt x="6119" y="5"/>
                      <a:pt x="6118" y="6"/>
                      <a:pt x="6117" y="6"/>
                    </a:cubicBezTo>
                    <a:lnTo>
                      <a:pt x="6117" y="6"/>
                    </a:lnTo>
                    <a:cubicBezTo>
                      <a:pt x="6116" y="6"/>
                      <a:pt x="6115" y="5"/>
                      <a:pt x="6115" y="4"/>
                    </a:cubicBezTo>
                    <a:cubicBezTo>
                      <a:pt x="6115" y="3"/>
                      <a:pt x="6116" y="2"/>
                      <a:pt x="6117" y="2"/>
                    </a:cubicBezTo>
                    <a:close/>
                    <a:moveTo>
                      <a:pt x="6125" y="2"/>
                    </a:moveTo>
                    <a:lnTo>
                      <a:pt x="6125" y="2"/>
                    </a:lnTo>
                    <a:cubicBezTo>
                      <a:pt x="6126" y="2"/>
                      <a:pt x="6127" y="3"/>
                      <a:pt x="6127" y="4"/>
                    </a:cubicBezTo>
                    <a:cubicBezTo>
                      <a:pt x="6127" y="5"/>
                      <a:pt x="6126" y="6"/>
                      <a:pt x="6125" y="6"/>
                    </a:cubicBezTo>
                    <a:lnTo>
                      <a:pt x="6125" y="6"/>
                    </a:lnTo>
                    <a:cubicBezTo>
                      <a:pt x="6124" y="6"/>
                      <a:pt x="6123" y="5"/>
                      <a:pt x="6123" y="4"/>
                    </a:cubicBezTo>
                    <a:cubicBezTo>
                      <a:pt x="6123" y="3"/>
                      <a:pt x="6124" y="2"/>
                      <a:pt x="6125" y="2"/>
                    </a:cubicBezTo>
                    <a:close/>
                    <a:moveTo>
                      <a:pt x="6133" y="2"/>
                    </a:moveTo>
                    <a:lnTo>
                      <a:pt x="6133" y="2"/>
                    </a:lnTo>
                    <a:cubicBezTo>
                      <a:pt x="6134" y="2"/>
                      <a:pt x="6135" y="3"/>
                      <a:pt x="6135" y="4"/>
                    </a:cubicBezTo>
                    <a:cubicBezTo>
                      <a:pt x="6135" y="5"/>
                      <a:pt x="6134" y="6"/>
                      <a:pt x="6133" y="6"/>
                    </a:cubicBezTo>
                    <a:lnTo>
                      <a:pt x="6133" y="6"/>
                    </a:lnTo>
                    <a:cubicBezTo>
                      <a:pt x="6132" y="6"/>
                      <a:pt x="6131" y="5"/>
                      <a:pt x="6131" y="4"/>
                    </a:cubicBezTo>
                    <a:cubicBezTo>
                      <a:pt x="6131" y="3"/>
                      <a:pt x="6132" y="2"/>
                      <a:pt x="6133" y="2"/>
                    </a:cubicBezTo>
                    <a:close/>
                    <a:moveTo>
                      <a:pt x="6141" y="2"/>
                    </a:moveTo>
                    <a:lnTo>
                      <a:pt x="6141" y="2"/>
                    </a:lnTo>
                    <a:cubicBezTo>
                      <a:pt x="6142" y="2"/>
                      <a:pt x="6143" y="3"/>
                      <a:pt x="6143" y="4"/>
                    </a:cubicBezTo>
                    <a:cubicBezTo>
                      <a:pt x="6143" y="5"/>
                      <a:pt x="6142" y="6"/>
                      <a:pt x="6141" y="6"/>
                    </a:cubicBezTo>
                    <a:lnTo>
                      <a:pt x="6141" y="6"/>
                    </a:lnTo>
                    <a:cubicBezTo>
                      <a:pt x="6140" y="6"/>
                      <a:pt x="6139" y="5"/>
                      <a:pt x="6139" y="4"/>
                    </a:cubicBezTo>
                    <a:cubicBezTo>
                      <a:pt x="6139" y="3"/>
                      <a:pt x="6140" y="2"/>
                      <a:pt x="6141" y="2"/>
                    </a:cubicBezTo>
                    <a:close/>
                    <a:moveTo>
                      <a:pt x="6149" y="2"/>
                    </a:moveTo>
                    <a:lnTo>
                      <a:pt x="6149" y="2"/>
                    </a:lnTo>
                    <a:cubicBezTo>
                      <a:pt x="6150" y="2"/>
                      <a:pt x="6151" y="3"/>
                      <a:pt x="6151" y="4"/>
                    </a:cubicBezTo>
                    <a:cubicBezTo>
                      <a:pt x="6151" y="5"/>
                      <a:pt x="6150" y="6"/>
                      <a:pt x="6149" y="6"/>
                    </a:cubicBezTo>
                    <a:lnTo>
                      <a:pt x="6149" y="6"/>
                    </a:lnTo>
                    <a:cubicBezTo>
                      <a:pt x="6148" y="6"/>
                      <a:pt x="6147" y="5"/>
                      <a:pt x="6147" y="4"/>
                    </a:cubicBezTo>
                    <a:cubicBezTo>
                      <a:pt x="6147" y="3"/>
                      <a:pt x="6148" y="2"/>
                      <a:pt x="6149" y="2"/>
                    </a:cubicBezTo>
                    <a:close/>
                    <a:moveTo>
                      <a:pt x="6157" y="2"/>
                    </a:moveTo>
                    <a:lnTo>
                      <a:pt x="6157" y="2"/>
                    </a:lnTo>
                    <a:cubicBezTo>
                      <a:pt x="6158" y="2"/>
                      <a:pt x="6159" y="3"/>
                      <a:pt x="6159" y="4"/>
                    </a:cubicBezTo>
                    <a:cubicBezTo>
                      <a:pt x="6159" y="5"/>
                      <a:pt x="6158" y="6"/>
                      <a:pt x="6157" y="6"/>
                    </a:cubicBezTo>
                    <a:lnTo>
                      <a:pt x="6157" y="6"/>
                    </a:lnTo>
                    <a:cubicBezTo>
                      <a:pt x="6156" y="6"/>
                      <a:pt x="6155" y="5"/>
                      <a:pt x="6155" y="4"/>
                    </a:cubicBezTo>
                    <a:cubicBezTo>
                      <a:pt x="6155" y="3"/>
                      <a:pt x="6156" y="2"/>
                      <a:pt x="6157" y="2"/>
                    </a:cubicBezTo>
                    <a:close/>
                    <a:moveTo>
                      <a:pt x="6165" y="2"/>
                    </a:moveTo>
                    <a:lnTo>
                      <a:pt x="6165" y="2"/>
                    </a:lnTo>
                    <a:cubicBezTo>
                      <a:pt x="6166" y="2"/>
                      <a:pt x="6167" y="3"/>
                      <a:pt x="6167" y="4"/>
                    </a:cubicBezTo>
                    <a:cubicBezTo>
                      <a:pt x="6167" y="5"/>
                      <a:pt x="6166" y="6"/>
                      <a:pt x="6165" y="6"/>
                    </a:cubicBezTo>
                    <a:lnTo>
                      <a:pt x="6165" y="6"/>
                    </a:lnTo>
                    <a:cubicBezTo>
                      <a:pt x="6164" y="6"/>
                      <a:pt x="6163" y="5"/>
                      <a:pt x="6163" y="4"/>
                    </a:cubicBezTo>
                    <a:cubicBezTo>
                      <a:pt x="6163" y="3"/>
                      <a:pt x="6164" y="2"/>
                      <a:pt x="6165" y="2"/>
                    </a:cubicBezTo>
                    <a:close/>
                    <a:moveTo>
                      <a:pt x="6173" y="2"/>
                    </a:moveTo>
                    <a:lnTo>
                      <a:pt x="6173" y="2"/>
                    </a:lnTo>
                    <a:cubicBezTo>
                      <a:pt x="6174" y="2"/>
                      <a:pt x="6175" y="3"/>
                      <a:pt x="6175" y="4"/>
                    </a:cubicBezTo>
                    <a:cubicBezTo>
                      <a:pt x="6175" y="5"/>
                      <a:pt x="6174" y="6"/>
                      <a:pt x="6173" y="6"/>
                    </a:cubicBezTo>
                    <a:lnTo>
                      <a:pt x="6173" y="6"/>
                    </a:lnTo>
                    <a:cubicBezTo>
                      <a:pt x="6172" y="6"/>
                      <a:pt x="6171" y="5"/>
                      <a:pt x="6171" y="4"/>
                    </a:cubicBezTo>
                    <a:cubicBezTo>
                      <a:pt x="6171" y="3"/>
                      <a:pt x="6172" y="2"/>
                      <a:pt x="6173" y="2"/>
                    </a:cubicBezTo>
                    <a:close/>
                    <a:moveTo>
                      <a:pt x="6181" y="2"/>
                    </a:moveTo>
                    <a:lnTo>
                      <a:pt x="6181" y="2"/>
                    </a:lnTo>
                    <a:cubicBezTo>
                      <a:pt x="6182" y="2"/>
                      <a:pt x="6183" y="3"/>
                      <a:pt x="6183" y="4"/>
                    </a:cubicBezTo>
                    <a:cubicBezTo>
                      <a:pt x="6183" y="5"/>
                      <a:pt x="6182" y="6"/>
                      <a:pt x="6181" y="6"/>
                    </a:cubicBezTo>
                    <a:lnTo>
                      <a:pt x="6181" y="6"/>
                    </a:lnTo>
                    <a:cubicBezTo>
                      <a:pt x="6180" y="6"/>
                      <a:pt x="6179" y="5"/>
                      <a:pt x="6179" y="4"/>
                    </a:cubicBezTo>
                    <a:cubicBezTo>
                      <a:pt x="6179" y="3"/>
                      <a:pt x="6180" y="2"/>
                      <a:pt x="6181" y="2"/>
                    </a:cubicBezTo>
                    <a:close/>
                    <a:moveTo>
                      <a:pt x="6189" y="2"/>
                    </a:moveTo>
                    <a:lnTo>
                      <a:pt x="6189" y="2"/>
                    </a:lnTo>
                    <a:cubicBezTo>
                      <a:pt x="6190" y="2"/>
                      <a:pt x="6191" y="3"/>
                      <a:pt x="6191" y="4"/>
                    </a:cubicBezTo>
                    <a:cubicBezTo>
                      <a:pt x="6191" y="5"/>
                      <a:pt x="6190" y="6"/>
                      <a:pt x="6189" y="6"/>
                    </a:cubicBezTo>
                    <a:lnTo>
                      <a:pt x="6189" y="6"/>
                    </a:lnTo>
                    <a:cubicBezTo>
                      <a:pt x="6188" y="6"/>
                      <a:pt x="6187" y="5"/>
                      <a:pt x="6187" y="4"/>
                    </a:cubicBezTo>
                    <a:cubicBezTo>
                      <a:pt x="6187" y="3"/>
                      <a:pt x="6188" y="2"/>
                      <a:pt x="6189" y="2"/>
                    </a:cubicBezTo>
                    <a:close/>
                    <a:moveTo>
                      <a:pt x="6197" y="2"/>
                    </a:moveTo>
                    <a:lnTo>
                      <a:pt x="6197" y="2"/>
                    </a:lnTo>
                    <a:cubicBezTo>
                      <a:pt x="6198" y="2"/>
                      <a:pt x="6199" y="3"/>
                      <a:pt x="6199" y="4"/>
                    </a:cubicBezTo>
                    <a:cubicBezTo>
                      <a:pt x="6199" y="5"/>
                      <a:pt x="6198" y="6"/>
                      <a:pt x="6197" y="6"/>
                    </a:cubicBezTo>
                    <a:lnTo>
                      <a:pt x="6197" y="6"/>
                    </a:lnTo>
                    <a:cubicBezTo>
                      <a:pt x="6196" y="6"/>
                      <a:pt x="6195" y="5"/>
                      <a:pt x="6195" y="4"/>
                    </a:cubicBezTo>
                    <a:cubicBezTo>
                      <a:pt x="6195" y="3"/>
                      <a:pt x="6196" y="2"/>
                      <a:pt x="6197" y="2"/>
                    </a:cubicBezTo>
                    <a:close/>
                    <a:moveTo>
                      <a:pt x="6205" y="2"/>
                    </a:moveTo>
                    <a:lnTo>
                      <a:pt x="6205" y="2"/>
                    </a:lnTo>
                    <a:cubicBezTo>
                      <a:pt x="6206" y="2"/>
                      <a:pt x="6207" y="3"/>
                      <a:pt x="6207" y="4"/>
                    </a:cubicBezTo>
                    <a:cubicBezTo>
                      <a:pt x="6207" y="5"/>
                      <a:pt x="6206" y="6"/>
                      <a:pt x="6205" y="6"/>
                    </a:cubicBezTo>
                    <a:lnTo>
                      <a:pt x="6205" y="6"/>
                    </a:lnTo>
                    <a:cubicBezTo>
                      <a:pt x="6204" y="6"/>
                      <a:pt x="6203" y="5"/>
                      <a:pt x="6203" y="4"/>
                    </a:cubicBezTo>
                    <a:cubicBezTo>
                      <a:pt x="6203" y="3"/>
                      <a:pt x="6204" y="2"/>
                      <a:pt x="6205" y="2"/>
                    </a:cubicBezTo>
                    <a:close/>
                    <a:moveTo>
                      <a:pt x="6213" y="2"/>
                    </a:moveTo>
                    <a:lnTo>
                      <a:pt x="6213" y="2"/>
                    </a:lnTo>
                    <a:cubicBezTo>
                      <a:pt x="6214" y="2"/>
                      <a:pt x="6215" y="3"/>
                      <a:pt x="6215" y="4"/>
                    </a:cubicBezTo>
                    <a:cubicBezTo>
                      <a:pt x="6215" y="5"/>
                      <a:pt x="6214" y="6"/>
                      <a:pt x="6213" y="6"/>
                    </a:cubicBezTo>
                    <a:lnTo>
                      <a:pt x="6213" y="6"/>
                    </a:lnTo>
                    <a:cubicBezTo>
                      <a:pt x="6212" y="6"/>
                      <a:pt x="6211" y="5"/>
                      <a:pt x="6211" y="4"/>
                    </a:cubicBezTo>
                    <a:cubicBezTo>
                      <a:pt x="6211" y="3"/>
                      <a:pt x="6212" y="2"/>
                      <a:pt x="6213" y="2"/>
                    </a:cubicBezTo>
                    <a:close/>
                    <a:moveTo>
                      <a:pt x="6221" y="2"/>
                    </a:moveTo>
                    <a:lnTo>
                      <a:pt x="6221" y="2"/>
                    </a:lnTo>
                    <a:cubicBezTo>
                      <a:pt x="6222" y="2"/>
                      <a:pt x="6223" y="3"/>
                      <a:pt x="6223" y="4"/>
                    </a:cubicBezTo>
                    <a:cubicBezTo>
                      <a:pt x="6223" y="5"/>
                      <a:pt x="6222" y="6"/>
                      <a:pt x="6221" y="6"/>
                    </a:cubicBezTo>
                    <a:lnTo>
                      <a:pt x="6221" y="6"/>
                    </a:lnTo>
                    <a:cubicBezTo>
                      <a:pt x="6220" y="6"/>
                      <a:pt x="6219" y="5"/>
                      <a:pt x="6219" y="4"/>
                    </a:cubicBezTo>
                    <a:cubicBezTo>
                      <a:pt x="6219" y="3"/>
                      <a:pt x="6220" y="2"/>
                      <a:pt x="6221" y="2"/>
                    </a:cubicBezTo>
                    <a:close/>
                    <a:moveTo>
                      <a:pt x="6229" y="2"/>
                    </a:moveTo>
                    <a:lnTo>
                      <a:pt x="6229" y="2"/>
                    </a:lnTo>
                    <a:cubicBezTo>
                      <a:pt x="6230" y="2"/>
                      <a:pt x="6231" y="3"/>
                      <a:pt x="6231" y="4"/>
                    </a:cubicBezTo>
                    <a:cubicBezTo>
                      <a:pt x="6231" y="5"/>
                      <a:pt x="6230" y="6"/>
                      <a:pt x="6229" y="6"/>
                    </a:cubicBezTo>
                    <a:lnTo>
                      <a:pt x="6229" y="6"/>
                    </a:lnTo>
                    <a:cubicBezTo>
                      <a:pt x="6228" y="6"/>
                      <a:pt x="6227" y="5"/>
                      <a:pt x="6227" y="4"/>
                    </a:cubicBezTo>
                    <a:cubicBezTo>
                      <a:pt x="6227" y="3"/>
                      <a:pt x="6228" y="2"/>
                      <a:pt x="6229" y="2"/>
                    </a:cubicBezTo>
                    <a:close/>
                    <a:moveTo>
                      <a:pt x="6237" y="2"/>
                    </a:moveTo>
                    <a:lnTo>
                      <a:pt x="6237" y="2"/>
                    </a:lnTo>
                    <a:cubicBezTo>
                      <a:pt x="6238" y="2"/>
                      <a:pt x="6239" y="3"/>
                      <a:pt x="6239" y="4"/>
                    </a:cubicBezTo>
                    <a:cubicBezTo>
                      <a:pt x="6239" y="5"/>
                      <a:pt x="6238" y="6"/>
                      <a:pt x="6237" y="6"/>
                    </a:cubicBezTo>
                    <a:lnTo>
                      <a:pt x="6237" y="6"/>
                    </a:lnTo>
                    <a:cubicBezTo>
                      <a:pt x="6236" y="6"/>
                      <a:pt x="6235" y="5"/>
                      <a:pt x="6235" y="4"/>
                    </a:cubicBezTo>
                    <a:cubicBezTo>
                      <a:pt x="6235" y="3"/>
                      <a:pt x="6236" y="2"/>
                      <a:pt x="6237" y="2"/>
                    </a:cubicBezTo>
                    <a:close/>
                    <a:moveTo>
                      <a:pt x="6245" y="2"/>
                    </a:moveTo>
                    <a:lnTo>
                      <a:pt x="6245" y="2"/>
                    </a:lnTo>
                    <a:cubicBezTo>
                      <a:pt x="6246" y="2"/>
                      <a:pt x="6247" y="3"/>
                      <a:pt x="6247" y="4"/>
                    </a:cubicBezTo>
                    <a:cubicBezTo>
                      <a:pt x="6247" y="5"/>
                      <a:pt x="6246" y="6"/>
                      <a:pt x="6245" y="6"/>
                    </a:cubicBezTo>
                    <a:lnTo>
                      <a:pt x="6245" y="6"/>
                    </a:lnTo>
                    <a:cubicBezTo>
                      <a:pt x="6244" y="6"/>
                      <a:pt x="6243" y="5"/>
                      <a:pt x="6243" y="4"/>
                    </a:cubicBezTo>
                    <a:cubicBezTo>
                      <a:pt x="6243" y="3"/>
                      <a:pt x="6244" y="2"/>
                      <a:pt x="6245" y="2"/>
                    </a:cubicBezTo>
                    <a:close/>
                    <a:moveTo>
                      <a:pt x="6253" y="2"/>
                    </a:moveTo>
                    <a:lnTo>
                      <a:pt x="6253" y="2"/>
                    </a:lnTo>
                    <a:cubicBezTo>
                      <a:pt x="6254" y="2"/>
                      <a:pt x="6255" y="3"/>
                      <a:pt x="6255" y="4"/>
                    </a:cubicBezTo>
                    <a:cubicBezTo>
                      <a:pt x="6255" y="5"/>
                      <a:pt x="6254" y="6"/>
                      <a:pt x="6253" y="6"/>
                    </a:cubicBezTo>
                    <a:lnTo>
                      <a:pt x="6253" y="6"/>
                    </a:lnTo>
                    <a:cubicBezTo>
                      <a:pt x="6252" y="6"/>
                      <a:pt x="6251" y="5"/>
                      <a:pt x="6251" y="4"/>
                    </a:cubicBezTo>
                    <a:cubicBezTo>
                      <a:pt x="6251" y="3"/>
                      <a:pt x="6252" y="2"/>
                      <a:pt x="6253" y="2"/>
                    </a:cubicBezTo>
                    <a:close/>
                    <a:moveTo>
                      <a:pt x="6261" y="2"/>
                    </a:moveTo>
                    <a:lnTo>
                      <a:pt x="6261" y="2"/>
                    </a:lnTo>
                    <a:cubicBezTo>
                      <a:pt x="6262" y="2"/>
                      <a:pt x="6263" y="3"/>
                      <a:pt x="6263" y="4"/>
                    </a:cubicBezTo>
                    <a:cubicBezTo>
                      <a:pt x="6263" y="5"/>
                      <a:pt x="6262" y="6"/>
                      <a:pt x="6261" y="6"/>
                    </a:cubicBezTo>
                    <a:lnTo>
                      <a:pt x="6261" y="6"/>
                    </a:lnTo>
                    <a:cubicBezTo>
                      <a:pt x="6260" y="6"/>
                      <a:pt x="6259" y="5"/>
                      <a:pt x="6259" y="4"/>
                    </a:cubicBezTo>
                    <a:cubicBezTo>
                      <a:pt x="6259" y="3"/>
                      <a:pt x="6260" y="2"/>
                      <a:pt x="6261" y="2"/>
                    </a:cubicBezTo>
                    <a:close/>
                    <a:moveTo>
                      <a:pt x="6269" y="2"/>
                    </a:moveTo>
                    <a:lnTo>
                      <a:pt x="6269" y="2"/>
                    </a:lnTo>
                    <a:cubicBezTo>
                      <a:pt x="6270" y="2"/>
                      <a:pt x="6271" y="3"/>
                      <a:pt x="6271" y="4"/>
                    </a:cubicBezTo>
                    <a:cubicBezTo>
                      <a:pt x="6271" y="5"/>
                      <a:pt x="6270" y="6"/>
                      <a:pt x="6269" y="6"/>
                    </a:cubicBezTo>
                    <a:lnTo>
                      <a:pt x="6269" y="6"/>
                    </a:lnTo>
                    <a:cubicBezTo>
                      <a:pt x="6268" y="6"/>
                      <a:pt x="6267" y="5"/>
                      <a:pt x="6267" y="4"/>
                    </a:cubicBezTo>
                    <a:cubicBezTo>
                      <a:pt x="6267" y="3"/>
                      <a:pt x="6268" y="2"/>
                      <a:pt x="6269" y="2"/>
                    </a:cubicBezTo>
                    <a:close/>
                    <a:moveTo>
                      <a:pt x="6277" y="2"/>
                    </a:moveTo>
                    <a:lnTo>
                      <a:pt x="6277" y="2"/>
                    </a:lnTo>
                    <a:cubicBezTo>
                      <a:pt x="6278" y="2"/>
                      <a:pt x="6279" y="3"/>
                      <a:pt x="6279" y="4"/>
                    </a:cubicBezTo>
                    <a:cubicBezTo>
                      <a:pt x="6279" y="5"/>
                      <a:pt x="6278" y="6"/>
                      <a:pt x="6277" y="6"/>
                    </a:cubicBezTo>
                    <a:lnTo>
                      <a:pt x="6277" y="6"/>
                    </a:lnTo>
                    <a:cubicBezTo>
                      <a:pt x="6276" y="6"/>
                      <a:pt x="6275" y="5"/>
                      <a:pt x="6275" y="4"/>
                    </a:cubicBezTo>
                    <a:cubicBezTo>
                      <a:pt x="6275" y="3"/>
                      <a:pt x="6276" y="2"/>
                      <a:pt x="6277" y="2"/>
                    </a:cubicBezTo>
                    <a:close/>
                    <a:moveTo>
                      <a:pt x="6285" y="2"/>
                    </a:moveTo>
                    <a:lnTo>
                      <a:pt x="6285" y="2"/>
                    </a:lnTo>
                    <a:cubicBezTo>
                      <a:pt x="6286" y="2"/>
                      <a:pt x="6287" y="3"/>
                      <a:pt x="6287" y="4"/>
                    </a:cubicBezTo>
                    <a:cubicBezTo>
                      <a:pt x="6287" y="5"/>
                      <a:pt x="6286" y="6"/>
                      <a:pt x="6285" y="6"/>
                    </a:cubicBezTo>
                    <a:lnTo>
                      <a:pt x="6285" y="6"/>
                    </a:lnTo>
                    <a:cubicBezTo>
                      <a:pt x="6284" y="6"/>
                      <a:pt x="6283" y="5"/>
                      <a:pt x="6283" y="4"/>
                    </a:cubicBezTo>
                    <a:cubicBezTo>
                      <a:pt x="6283" y="3"/>
                      <a:pt x="6284" y="2"/>
                      <a:pt x="6285" y="2"/>
                    </a:cubicBezTo>
                    <a:close/>
                    <a:moveTo>
                      <a:pt x="6293" y="2"/>
                    </a:moveTo>
                    <a:lnTo>
                      <a:pt x="6293" y="2"/>
                    </a:lnTo>
                    <a:cubicBezTo>
                      <a:pt x="6294" y="2"/>
                      <a:pt x="6295" y="3"/>
                      <a:pt x="6295" y="4"/>
                    </a:cubicBezTo>
                    <a:cubicBezTo>
                      <a:pt x="6295" y="5"/>
                      <a:pt x="6294" y="6"/>
                      <a:pt x="6293" y="6"/>
                    </a:cubicBezTo>
                    <a:lnTo>
                      <a:pt x="6293" y="6"/>
                    </a:lnTo>
                    <a:cubicBezTo>
                      <a:pt x="6292" y="6"/>
                      <a:pt x="6291" y="5"/>
                      <a:pt x="6291" y="4"/>
                    </a:cubicBezTo>
                    <a:cubicBezTo>
                      <a:pt x="6291" y="3"/>
                      <a:pt x="6292" y="2"/>
                      <a:pt x="6293" y="2"/>
                    </a:cubicBezTo>
                    <a:close/>
                    <a:moveTo>
                      <a:pt x="6301" y="2"/>
                    </a:moveTo>
                    <a:lnTo>
                      <a:pt x="6301" y="2"/>
                    </a:lnTo>
                    <a:cubicBezTo>
                      <a:pt x="6302" y="2"/>
                      <a:pt x="6303" y="3"/>
                      <a:pt x="6303" y="4"/>
                    </a:cubicBezTo>
                    <a:cubicBezTo>
                      <a:pt x="6303" y="5"/>
                      <a:pt x="6302" y="6"/>
                      <a:pt x="6301" y="6"/>
                    </a:cubicBezTo>
                    <a:lnTo>
                      <a:pt x="6301" y="6"/>
                    </a:lnTo>
                    <a:cubicBezTo>
                      <a:pt x="6300" y="6"/>
                      <a:pt x="6299" y="5"/>
                      <a:pt x="6299" y="4"/>
                    </a:cubicBezTo>
                    <a:cubicBezTo>
                      <a:pt x="6299" y="3"/>
                      <a:pt x="6300" y="2"/>
                      <a:pt x="6301" y="2"/>
                    </a:cubicBezTo>
                    <a:close/>
                    <a:moveTo>
                      <a:pt x="6309" y="2"/>
                    </a:moveTo>
                    <a:lnTo>
                      <a:pt x="6309" y="2"/>
                    </a:lnTo>
                    <a:cubicBezTo>
                      <a:pt x="6310" y="2"/>
                      <a:pt x="6311" y="3"/>
                      <a:pt x="6311" y="4"/>
                    </a:cubicBezTo>
                    <a:cubicBezTo>
                      <a:pt x="6311" y="5"/>
                      <a:pt x="6310" y="6"/>
                      <a:pt x="6309" y="6"/>
                    </a:cubicBezTo>
                    <a:lnTo>
                      <a:pt x="6309" y="6"/>
                    </a:lnTo>
                    <a:cubicBezTo>
                      <a:pt x="6308" y="6"/>
                      <a:pt x="6307" y="5"/>
                      <a:pt x="6307" y="4"/>
                    </a:cubicBezTo>
                    <a:cubicBezTo>
                      <a:pt x="6307" y="3"/>
                      <a:pt x="6308" y="2"/>
                      <a:pt x="6309" y="2"/>
                    </a:cubicBezTo>
                    <a:close/>
                    <a:moveTo>
                      <a:pt x="6317" y="2"/>
                    </a:moveTo>
                    <a:lnTo>
                      <a:pt x="6317" y="2"/>
                    </a:lnTo>
                    <a:cubicBezTo>
                      <a:pt x="6318" y="2"/>
                      <a:pt x="6319" y="3"/>
                      <a:pt x="6319" y="4"/>
                    </a:cubicBezTo>
                    <a:cubicBezTo>
                      <a:pt x="6319" y="5"/>
                      <a:pt x="6318" y="6"/>
                      <a:pt x="6317" y="6"/>
                    </a:cubicBezTo>
                    <a:lnTo>
                      <a:pt x="6317" y="6"/>
                    </a:lnTo>
                    <a:cubicBezTo>
                      <a:pt x="6316" y="6"/>
                      <a:pt x="6315" y="5"/>
                      <a:pt x="6315" y="4"/>
                    </a:cubicBezTo>
                    <a:cubicBezTo>
                      <a:pt x="6315" y="3"/>
                      <a:pt x="6316" y="2"/>
                      <a:pt x="6317" y="2"/>
                    </a:cubicBezTo>
                    <a:close/>
                    <a:moveTo>
                      <a:pt x="6325" y="2"/>
                    </a:moveTo>
                    <a:lnTo>
                      <a:pt x="6325" y="2"/>
                    </a:lnTo>
                    <a:cubicBezTo>
                      <a:pt x="6326" y="2"/>
                      <a:pt x="6327" y="3"/>
                      <a:pt x="6327" y="4"/>
                    </a:cubicBezTo>
                    <a:cubicBezTo>
                      <a:pt x="6327" y="5"/>
                      <a:pt x="6326" y="6"/>
                      <a:pt x="6325" y="6"/>
                    </a:cubicBezTo>
                    <a:lnTo>
                      <a:pt x="6325" y="6"/>
                    </a:lnTo>
                    <a:cubicBezTo>
                      <a:pt x="6324" y="6"/>
                      <a:pt x="6323" y="5"/>
                      <a:pt x="6323" y="4"/>
                    </a:cubicBezTo>
                    <a:cubicBezTo>
                      <a:pt x="6323" y="3"/>
                      <a:pt x="6324" y="2"/>
                      <a:pt x="6325" y="2"/>
                    </a:cubicBezTo>
                    <a:close/>
                    <a:moveTo>
                      <a:pt x="6333" y="2"/>
                    </a:moveTo>
                    <a:lnTo>
                      <a:pt x="6333" y="2"/>
                    </a:lnTo>
                    <a:cubicBezTo>
                      <a:pt x="6334" y="2"/>
                      <a:pt x="6335" y="3"/>
                      <a:pt x="6335" y="4"/>
                    </a:cubicBezTo>
                    <a:cubicBezTo>
                      <a:pt x="6335" y="5"/>
                      <a:pt x="6334" y="6"/>
                      <a:pt x="6333" y="6"/>
                    </a:cubicBezTo>
                    <a:lnTo>
                      <a:pt x="6333" y="6"/>
                    </a:lnTo>
                    <a:cubicBezTo>
                      <a:pt x="6332" y="6"/>
                      <a:pt x="6331" y="5"/>
                      <a:pt x="6331" y="4"/>
                    </a:cubicBezTo>
                    <a:cubicBezTo>
                      <a:pt x="6331" y="3"/>
                      <a:pt x="6332" y="2"/>
                      <a:pt x="6333" y="2"/>
                    </a:cubicBezTo>
                    <a:close/>
                    <a:moveTo>
                      <a:pt x="6341" y="2"/>
                    </a:moveTo>
                    <a:lnTo>
                      <a:pt x="6341" y="2"/>
                    </a:lnTo>
                    <a:cubicBezTo>
                      <a:pt x="6342" y="2"/>
                      <a:pt x="6343" y="3"/>
                      <a:pt x="6343" y="4"/>
                    </a:cubicBezTo>
                    <a:cubicBezTo>
                      <a:pt x="6343" y="5"/>
                      <a:pt x="6342" y="6"/>
                      <a:pt x="6341" y="6"/>
                    </a:cubicBezTo>
                    <a:lnTo>
                      <a:pt x="6341" y="6"/>
                    </a:lnTo>
                    <a:cubicBezTo>
                      <a:pt x="6340" y="6"/>
                      <a:pt x="6339" y="5"/>
                      <a:pt x="6339" y="4"/>
                    </a:cubicBezTo>
                    <a:cubicBezTo>
                      <a:pt x="6339" y="3"/>
                      <a:pt x="6340" y="2"/>
                      <a:pt x="6341" y="2"/>
                    </a:cubicBezTo>
                    <a:close/>
                    <a:moveTo>
                      <a:pt x="6349" y="2"/>
                    </a:moveTo>
                    <a:lnTo>
                      <a:pt x="6349" y="2"/>
                    </a:lnTo>
                    <a:cubicBezTo>
                      <a:pt x="6350" y="2"/>
                      <a:pt x="6351" y="3"/>
                      <a:pt x="6351" y="4"/>
                    </a:cubicBezTo>
                    <a:cubicBezTo>
                      <a:pt x="6351" y="5"/>
                      <a:pt x="6350" y="6"/>
                      <a:pt x="6349" y="6"/>
                    </a:cubicBezTo>
                    <a:lnTo>
                      <a:pt x="6349" y="6"/>
                    </a:lnTo>
                    <a:cubicBezTo>
                      <a:pt x="6348" y="6"/>
                      <a:pt x="6347" y="5"/>
                      <a:pt x="6347" y="4"/>
                    </a:cubicBezTo>
                    <a:cubicBezTo>
                      <a:pt x="6347" y="3"/>
                      <a:pt x="6348" y="2"/>
                      <a:pt x="6349" y="2"/>
                    </a:cubicBezTo>
                    <a:close/>
                    <a:moveTo>
                      <a:pt x="6357" y="2"/>
                    </a:moveTo>
                    <a:lnTo>
                      <a:pt x="6357" y="2"/>
                    </a:lnTo>
                    <a:cubicBezTo>
                      <a:pt x="6358" y="2"/>
                      <a:pt x="6359" y="3"/>
                      <a:pt x="6359" y="4"/>
                    </a:cubicBezTo>
                    <a:cubicBezTo>
                      <a:pt x="6359" y="5"/>
                      <a:pt x="6358" y="6"/>
                      <a:pt x="6357" y="6"/>
                    </a:cubicBezTo>
                    <a:lnTo>
                      <a:pt x="6357" y="6"/>
                    </a:lnTo>
                    <a:cubicBezTo>
                      <a:pt x="6356" y="6"/>
                      <a:pt x="6355" y="5"/>
                      <a:pt x="6355" y="4"/>
                    </a:cubicBezTo>
                    <a:cubicBezTo>
                      <a:pt x="6355" y="3"/>
                      <a:pt x="6356" y="2"/>
                      <a:pt x="6357" y="2"/>
                    </a:cubicBezTo>
                    <a:close/>
                    <a:moveTo>
                      <a:pt x="6365" y="2"/>
                    </a:moveTo>
                    <a:lnTo>
                      <a:pt x="6365" y="2"/>
                    </a:lnTo>
                    <a:cubicBezTo>
                      <a:pt x="6366" y="2"/>
                      <a:pt x="6367" y="3"/>
                      <a:pt x="6367" y="4"/>
                    </a:cubicBezTo>
                    <a:cubicBezTo>
                      <a:pt x="6367" y="5"/>
                      <a:pt x="6366" y="6"/>
                      <a:pt x="6365" y="6"/>
                    </a:cubicBezTo>
                    <a:lnTo>
                      <a:pt x="6365" y="6"/>
                    </a:lnTo>
                    <a:cubicBezTo>
                      <a:pt x="6364" y="6"/>
                      <a:pt x="6363" y="5"/>
                      <a:pt x="6363" y="4"/>
                    </a:cubicBezTo>
                    <a:cubicBezTo>
                      <a:pt x="6363" y="3"/>
                      <a:pt x="6364" y="2"/>
                      <a:pt x="6365" y="2"/>
                    </a:cubicBezTo>
                    <a:close/>
                    <a:moveTo>
                      <a:pt x="6373" y="2"/>
                    </a:moveTo>
                    <a:lnTo>
                      <a:pt x="6373" y="2"/>
                    </a:lnTo>
                    <a:cubicBezTo>
                      <a:pt x="6374" y="2"/>
                      <a:pt x="6375" y="3"/>
                      <a:pt x="6375" y="4"/>
                    </a:cubicBezTo>
                    <a:cubicBezTo>
                      <a:pt x="6375" y="5"/>
                      <a:pt x="6374" y="6"/>
                      <a:pt x="6373" y="6"/>
                    </a:cubicBezTo>
                    <a:lnTo>
                      <a:pt x="6373" y="6"/>
                    </a:lnTo>
                    <a:cubicBezTo>
                      <a:pt x="6372" y="6"/>
                      <a:pt x="6371" y="5"/>
                      <a:pt x="6371" y="4"/>
                    </a:cubicBezTo>
                    <a:cubicBezTo>
                      <a:pt x="6371" y="3"/>
                      <a:pt x="6372" y="2"/>
                      <a:pt x="6373" y="2"/>
                    </a:cubicBezTo>
                    <a:close/>
                    <a:moveTo>
                      <a:pt x="6381" y="2"/>
                    </a:moveTo>
                    <a:lnTo>
                      <a:pt x="6381" y="2"/>
                    </a:lnTo>
                    <a:cubicBezTo>
                      <a:pt x="6382" y="2"/>
                      <a:pt x="6383" y="3"/>
                      <a:pt x="6383" y="4"/>
                    </a:cubicBezTo>
                    <a:cubicBezTo>
                      <a:pt x="6383" y="5"/>
                      <a:pt x="6382" y="6"/>
                      <a:pt x="6381" y="6"/>
                    </a:cubicBezTo>
                    <a:lnTo>
                      <a:pt x="6381" y="6"/>
                    </a:lnTo>
                    <a:cubicBezTo>
                      <a:pt x="6380" y="6"/>
                      <a:pt x="6379" y="5"/>
                      <a:pt x="6379" y="4"/>
                    </a:cubicBezTo>
                    <a:cubicBezTo>
                      <a:pt x="6379" y="3"/>
                      <a:pt x="6380" y="2"/>
                      <a:pt x="6381" y="2"/>
                    </a:cubicBezTo>
                    <a:close/>
                    <a:moveTo>
                      <a:pt x="6389" y="2"/>
                    </a:moveTo>
                    <a:lnTo>
                      <a:pt x="6389" y="2"/>
                    </a:lnTo>
                    <a:cubicBezTo>
                      <a:pt x="6390" y="2"/>
                      <a:pt x="6391" y="3"/>
                      <a:pt x="6391" y="4"/>
                    </a:cubicBezTo>
                    <a:cubicBezTo>
                      <a:pt x="6391" y="5"/>
                      <a:pt x="6390" y="6"/>
                      <a:pt x="6389" y="6"/>
                    </a:cubicBezTo>
                    <a:lnTo>
                      <a:pt x="6389" y="6"/>
                    </a:lnTo>
                    <a:cubicBezTo>
                      <a:pt x="6388" y="6"/>
                      <a:pt x="6387" y="5"/>
                      <a:pt x="6387" y="4"/>
                    </a:cubicBezTo>
                    <a:cubicBezTo>
                      <a:pt x="6387" y="3"/>
                      <a:pt x="6388" y="2"/>
                      <a:pt x="6389" y="2"/>
                    </a:cubicBezTo>
                    <a:close/>
                    <a:moveTo>
                      <a:pt x="6397" y="2"/>
                    </a:moveTo>
                    <a:lnTo>
                      <a:pt x="6397" y="2"/>
                    </a:lnTo>
                    <a:cubicBezTo>
                      <a:pt x="6398" y="2"/>
                      <a:pt x="6399" y="3"/>
                      <a:pt x="6399" y="4"/>
                    </a:cubicBezTo>
                    <a:cubicBezTo>
                      <a:pt x="6399" y="5"/>
                      <a:pt x="6398" y="6"/>
                      <a:pt x="6397" y="6"/>
                    </a:cubicBezTo>
                    <a:lnTo>
                      <a:pt x="6397" y="6"/>
                    </a:lnTo>
                    <a:cubicBezTo>
                      <a:pt x="6396" y="6"/>
                      <a:pt x="6395" y="5"/>
                      <a:pt x="6395" y="4"/>
                    </a:cubicBezTo>
                    <a:cubicBezTo>
                      <a:pt x="6395" y="3"/>
                      <a:pt x="6396" y="2"/>
                      <a:pt x="6397" y="2"/>
                    </a:cubicBezTo>
                    <a:close/>
                    <a:moveTo>
                      <a:pt x="6405" y="2"/>
                    </a:moveTo>
                    <a:lnTo>
                      <a:pt x="6405" y="2"/>
                    </a:lnTo>
                    <a:cubicBezTo>
                      <a:pt x="6406" y="2"/>
                      <a:pt x="6407" y="3"/>
                      <a:pt x="6407" y="4"/>
                    </a:cubicBezTo>
                    <a:cubicBezTo>
                      <a:pt x="6407" y="5"/>
                      <a:pt x="6406" y="6"/>
                      <a:pt x="6405" y="6"/>
                    </a:cubicBezTo>
                    <a:lnTo>
                      <a:pt x="6405" y="6"/>
                    </a:lnTo>
                    <a:cubicBezTo>
                      <a:pt x="6404" y="6"/>
                      <a:pt x="6403" y="5"/>
                      <a:pt x="6403" y="4"/>
                    </a:cubicBezTo>
                    <a:cubicBezTo>
                      <a:pt x="6403" y="3"/>
                      <a:pt x="6404" y="2"/>
                      <a:pt x="6405" y="2"/>
                    </a:cubicBezTo>
                    <a:close/>
                    <a:moveTo>
                      <a:pt x="6413" y="2"/>
                    </a:moveTo>
                    <a:lnTo>
                      <a:pt x="6413" y="2"/>
                    </a:lnTo>
                    <a:cubicBezTo>
                      <a:pt x="6414" y="2"/>
                      <a:pt x="6415" y="3"/>
                      <a:pt x="6415" y="4"/>
                    </a:cubicBezTo>
                    <a:cubicBezTo>
                      <a:pt x="6415" y="5"/>
                      <a:pt x="6414" y="6"/>
                      <a:pt x="6413" y="6"/>
                    </a:cubicBezTo>
                    <a:lnTo>
                      <a:pt x="6413" y="6"/>
                    </a:lnTo>
                    <a:cubicBezTo>
                      <a:pt x="6412" y="6"/>
                      <a:pt x="6411" y="5"/>
                      <a:pt x="6411" y="4"/>
                    </a:cubicBezTo>
                    <a:cubicBezTo>
                      <a:pt x="6411" y="3"/>
                      <a:pt x="6412" y="2"/>
                      <a:pt x="6413" y="2"/>
                    </a:cubicBezTo>
                    <a:close/>
                    <a:moveTo>
                      <a:pt x="6421" y="2"/>
                    </a:moveTo>
                    <a:lnTo>
                      <a:pt x="6421" y="2"/>
                    </a:lnTo>
                    <a:cubicBezTo>
                      <a:pt x="6422" y="2"/>
                      <a:pt x="6423" y="3"/>
                      <a:pt x="6423" y="4"/>
                    </a:cubicBezTo>
                    <a:cubicBezTo>
                      <a:pt x="6423" y="5"/>
                      <a:pt x="6422" y="6"/>
                      <a:pt x="6421" y="6"/>
                    </a:cubicBezTo>
                    <a:lnTo>
                      <a:pt x="6421" y="6"/>
                    </a:lnTo>
                    <a:cubicBezTo>
                      <a:pt x="6420" y="6"/>
                      <a:pt x="6419" y="5"/>
                      <a:pt x="6419" y="4"/>
                    </a:cubicBezTo>
                    <a:cubicBezTo>
                      <a:pt x="6419" y="3"/>
                      <a:pt x="6420" y="2"/>
                      <a:pt x="6421" y="2"/>
                    </a:cubicBezTo>
                    <a:close/>
                    <a:moveTo>
                      <a:pt x="6429" y="2"/>
                    </a:moveTo>
                    <a:lnTo>
                      <a:pt x="6429" y="2"/>
                    </a:lnTo>
                    <a:cubicBezTo>
                      <a:pt x="6430" y="2"/>
                      <a:pt x="6431" y="3"/>
                      <a:pt x="6431" y="4"/>
                    </a:cubicBezTo>
                    <a:cubicBezTo>
                      <a:pt x="6431" y="5"/>
                      <a:pt x="6430" y="6"/>
                      <a:pt x="6429" y="6"/>
                    </a:cubicBezTo>
                    <a:lnTo>
                      <a:pt x="6429" y="6"/>
                    </a:lnTo>
                    <a:cubicBezTo>
                      <a:pt x="6428" y="6"/>
                      <a:pt x="6427" y="5"/>
                      <a:pt x="6427" y="4"/>
                    </a:cubicBezTo>
                    <a:cubicBezTo>
                      <a:pt x="6427" y="3"/>
                      <a:pt x="6428" y="2"/>
                      <a:pt x="6429" y="2"/>
                    </a:cubicBezTo>
                    <a:close/>
                    <a:moveTo>
                      <a:pt x="6437" y="2"/>
                    </a:moveTo>
                    <a:lnTo>
                      <a:pt x="6437" y="2"/>
                    </a:lnTo>
                    <a:cubicBezTo>
                      <a:pt x="6438" y="2"/>
                      <a:pt x="6439" y="3"/>
                      <a:pt x="6439" y="4"/>
                    </a:cubicBezTo>
                    <a:cubicBezTo>
                      <a:pt x="6439" y="5"/>
                      <a:pt x="6438" y="6"/>
                      <a:pt x="6437" y="6"/>
                    </a:cubicBezTo>
                    <a:lnTo>
                      <a:pt x="6437" y="6"/>
                    </a:lnTo>
                    <a:cubicBezTo>
                      <a:pt x="6436" y="6"/>
                      <a:pt x="6435" y="5"/>
                      <a:pt x="6435" y="4"/>
                    </a:cubicBezTo>
                    <a:cubicBezTo>
                      <a:pt x="6435" y="3"/>
                      <a:pt x="6436" y="2"/>
                      <a:pt x="6437" y="2"/>
                    </a:cubicBezTo>
                    <a:close/>
                    <a:moveTo>
                      <a:pt x="6445" y="2"/>
                    </a:moveTo>
                    <a:lnTo>
                      <a:pt x="6445" y="2"/>
                    </a:lnTo>
                    <a:cubicBezTo>
                      <a:pt x="6446" y="2"/>
                      <a:pt x="6447" y="3"/>
                      <a:pt x="6447" y="4"/>
                    </a:cubicBezTo>
                    <a:cubicBezTo>
                      <a:pt x="6447" y="5"/>
                      <a:pt x="6446" y="6"/>
                      <a:pt x="6445" y="6"/>
                    </a:cubicBezTo>
                    <a:lnTo>
                      <a:pt x="6445" y="6"/>
                    </a:lnTo>
                    <a:cubicBezTo>
                      <a:pt x="6444" y="6"/>
                      <a:pt x="6443" y="5"/>
                      <a:pt x="6443" y="4"/>
                    </a:cubicBezTo>
                    <a:cubicBezTo>
                      <a:pt x="6443" y="3"/>
                      <a:pt x="6444" y="2"/>
                      <a:pt x="6445" y="2"/>
                    </a:cubicBezTo>
                    <a:close/>
                    <a:moveTo>
                      <a:pt x="6453" y="2"/>
                    </a:moveTo>
                    <a:lnTo>
                      <a:pt x="6453" y="2"/>
                    </a:lnTo>
                    <a:cubicBezTo>
                      <a:pt x="6454" y="2"/>
                      <a:pt x="6455" y="3"/>
                      <a:pt x="6455" y="4"/>
                    </a:cubicBezTo>
                    <a:cubicBezTo>
                      <a:pt x="6455" y="5"/>
                      <a:pt x="6454" y="6"/>
                      <a:pt x="6453" y="6"/>
                    </a:cubicBezTo>
                    <a:lnTo>
                      <a:pt x="6453" y="6"/>
                    </a:lnTo>
                    <a:cubicBezTo>
                      <a:pt x="6452" y="6"/>
                      <a:pt x="6451" y="5"/>
                      <a:pt x="6451" y="4"/>
                    </a:cubicBezTo>
                    <a:cubicBezTo>
                      <a:pt x="6451" y="3"/>
                      <a:pt x="6452" y="2"/>
                      <a:pt x="6453" y="2"/>
                    </a:cubicBezTo>
                    <a:close/>
                    <a:moveTo>
                      <a:pt x="6461" y="2"/>
                    </a:moveTo>
                    <a:lnTo>
                      <a:pt x="6461" y="2"/>
                    </a:lnTo>
                    <a:cubicBezTo>
                      <a:pt x="6462" y="2"/>
                      <a:pt x="6463" y="3"/>
                      <a:pt x="6463" y="4"/>
                    </a:cubicBezTo>
                    <a:cubicBezTo>
                      <a:pt x="6463" y="5"/>
                      <a:pt x="6462" y="6"/>
                      <a:pt x="6461" y="6"/>
                    </a:cubicBezTo>
                    <a:lnTo>
                      <a:pt x="6461" y="6"/>
                    </a:lnTo>
                    <a:cubicBezTo>
                      <a:pt x="6460" y="6"/>
                      <a:pt x="6459" y="5"/>
                      <a:pt x="6459" y="4"/>
                    </a:cubicBezTo>
                    <a:cubicBezTo>
                      <a:pt x="6459" y="3"/>
                      <a:pt x="6460" y="2"/>
                      <a:pt x="6461" y="2"/>
                    </a:cubicBezTo>
                    <a:close/>
                    <a:moveTo>
                      <a:pt x="6469" y="2"/>
                    </a:moveTo>
                    <a:lnTo>
                      <a:pt x="6469" y="2"/>
                    </a:lnTo>
                    <a:cubicBezTo>
                      <a:pt x="6470" y="2"/>
                      <a:pt x="6471" y="3"/>
                      <a:pt x="6471" y="4"/>
                    </a:cubicBezTo>
                    <a:cubicBezTo>
                      <a:pt x="6471" y="5"/>
                      <a:pt x="6470" y="6"/>
                      <a:pt x="6469" y="6"/>
                    </a:cubicBezTo>
                    <a:lnTo>
                      <a:pt x="6469" y="6"/>
                    </a:lnTo>
                    <a:cubicBezTo>
                      <a:pt x="6468" y="6"/>
                      <a:pt x="6467" y="5"/>
                      <a:pt x="6467" y="4"/>
                    </a:cubicBezTo>
                    <a:cubicBezTo>
                      <a:pt x="6467" y="3"/>
                      <a:pt x="6468" y="2"/>
                      <a:pt x="6469" y="2"/>
                    </a:cubicBezTo>
                    <a:close/>
                    <a:moveTo>
                      <a:pt x="6477" y="2"/>
                    </a:moveTo>
                    <a:lnTo>
                      <a:pt x="6477" y="2"/>
                    </a:lnTo>
                    <a:cubicBezTo>
                      <a:pt x="6478" y="2"/>
                      <a:pt x="6479" y="3"/>
                      <a:pt x="6479" y="4"/>
                    </a:cubicBezTo>
                    <a:cubicBezTo>
                      <a:pt x="6479" y="5"/>
                      <a:pt x="6478" y="6"/>
                      <a:pt x="6477" y="6"/>
                    </a:cubicBezTo>
                    <a:lnTo>
                      <a:pt x="6477" y="6"/>
                    </a:lnTo>
                    <a:cubicBezTo>
                      <a:pt x="6476" y="6"/>
                      <a:pt x="6475" y="5"/>
                      <a:pt x="6475" y="4"/>
                    </a:cubicBezTo>
                    <a:cubicBezTo>
                      <a:pt x="6475" y="3"/>
                      <a:pt x="6476" y="2"/>
                      <a:pt x="6477" y="2"/>
                    </a:cubicBezTo>
                    <a:close/>
                    <a:moveTo>
                      <a:pt x="6485" y="2"/>
                    </a:moveTo>
                    <a:lnTo>
                      <a:pt x="6485" y="2"/>
                    </a:lnTo>
                    <a:cubicBezTo>
                      <a:pt x="6486" y="2"/>
                      <a:pt x="6487" y="3"/>
                      <a:pt x="6487" y="4"/>
                    </a:cubicBezTo>
                    <a:cubicBezTo>
                      <a:pt x="6487" y="5"/>
                      <a:pt x="6486" y="6"/>
                      <a:pt x="6485" y="6"/>
                    </a:cubicBezTo>
                    <a:lnTo>
                      <a:pt x="6485" y="6"/>
                    </a:lnTo>
                    <a:cubicBezTo>
                      <a:pt x="6484" y="6"/>
                      <a:pt x="6483" y="5"/>
                      <a:pt x="6483" y="4"/>
                    </a:cubicBezTo>
                    <a:cubicBezTo>
                      <a:pt x="6483" y="3"/>
                      <a:pt x="6484" y="2"/>
                      <a:pt x="6485" y="2"/>
                    </a:cubicBezTo>
                    <a:close/>
                    <a:moveTo>
                      <a:pt x="6493" y="2"/>
                    </a:moveTo>
                    <a:lnTo>
                      <a:pt x="6493" y="2"/>
                    </a:lnTo>
                    <a:cubicBezTo>
                      <a:pt x="6494" y="2"/>
                      <a:pt x="6495" y="3"/>
                      <a:pt x="6495" y="4"/>
                    </a:cubicBezTo>
                    <a:cubicBezTo>
                      <a:pt x="6495" y="5"/>
                      <a:pt x="6494" y="6"/>
                      <a:pt x="6493" y="6"/>
                    </a:cubicBezTo>
                    <a:lnTo>
                      <a:pt x="6493" y="6"/>
                    </a:lnTo>
                    <a:cubicBezTo>
                      <a:pt x="6492" y="6"/>
                      <a:pt x="6491" y="5"/>
                      <a:pt x="6491" y="4"/>
                    </a:cubicBezTo>
                    <a:cubicBezTo>
                      <a:pt x="6491" y="3"/>
                      <a:pt x="6492" y="2"/>
                      <a:pt x="6493" y="2"/>
                    </a:cubicBezTo>
                    <a:close/>
                    <a:moveTo>
                      <a:pt x="6501" y="2"/>
                    </a:moveTo>
                    <a:lnTo>
                      <a:pt x="6501" y="2"/>
                    </a:lnTo>
                    <a:cubicBezTo>
                      <a:pt x="6502" y="2"/>
                      <a:pt x="6503" y="3"/>
                      <a:pt x="6503" y="4"/>
                    </a:cubicBezTo>
                    <a:cubicBezTo>
                      <a:pt x="6503" y="5"/>
                      <a:pt x="6502" y="6"/>
                      <a:pt x="6501" y="6"/>
                    </a:cubicBezTo>
                    <a:lnTo>
                      <a:pt x="6501" y="6"/>
                    </a:lnTo>
                    <a:cubicBezTo>
                      <a:pt x="6500" y="6"/>
                      <a:pt x="6499" y="5"/>
                      <a:pt x="6499" y="4"/>
                    </a:cubicBezTo>
                    <a:cubicBezTo>
                      <a:pt x="6499" y="3"/>
                      <a:pt x="6500" y="2"/>
                      <a:pt x="6501" y="2"/>
                    </a:cubicBezTo>
                    <a:close/>
                    <a:moveTo>
                      <a:pt x="6509" y="2"/>
                    </a:moveTo>
                    <a:lnTo>
                      <a:pt x="6509" y="2"/>
                    </a:lnTo>
                    <a:cubicBezTo>
                      <a:pt x="6510" y="2"/>
                      <a:pt x="6511" y="3"/>
                      <a:pt x="6511" y="4"/>
                    </a:cubicBezTo>
                    <a:cubicBezTo>
                      <a:pt x="6511" y="5"/>
                      <a:pt x="6510" y="6"/>
                      <a:pt x="6509" y="6"/>
                    </a:cubicBezTo>
                    <a:lnTo>
                      <a:pt x="6509" y="6"/>
                    </a:lnTo>
                    <a:cubicBezTo>
                      <a:pt x="6508" y="6"/>
                      <a:pt x="6507" y="5"/>
                      <a:pt x="6507" y="4"/>
                    </a:cubicBezTo>
                    <a:cubicBezTo>
                      <a:pt x="6507" y="3"/>
                      <a:pt x="6508" y="2"/>
                      <a:pt x="6509" y="2"/>
                    </a:cubicBezTo>
                    <a:close/>
                    <a:moveTo>
                      <a:pt x="6517" y="2"/>
                    </a:moveTo>
                    <a:lnTo>
                      <a:pt x="6517" y="2"/>
                    </a:lnTo>
                    <a:cubicBezTo>
                      <a:pt x="6518" y="2"/>
                      <a:pt x="6519" y="3"/>
                      <a:pt x="6519" y="4"/>
                    </a:cubicBezTo>
                    <a:cubicBezTo>
                      <a:pt x="6519" y="5"/>
                      <a:pt x="6518" y="6"/>
                      <a:pt x="6517" y="6"/>
                    </a:cubicBezTo>
                    <a:lnTo>
                      <a:pt x="6517" y="6"/>
                    </a:lnTo>
                    <a:cubicBezTo>
                      <a:pt x="6516" y="6"/>
                      <a:pt x="6515" y="5"/>
                      <a:pt x="6515" y="4"/>
                    </a:cubicBezTo>
                    <a:cubicBezTo>
                      <a:pt x="6515" y="3"/>
                      <a:pt x="6516" y="2"/>
                      <a:pt x="6517" y="2"/>
                    </a:cubicBezTo>
                    <a:close/>
                    <a:moveTo>
                      <a:pt x="6525" y="2"/>
                    </a:moveTo>
                    <a:lnTo>
                      <a:pt x="6525" y="2"/>
                    </a:lnTo>
                    <a:cubicBezTo>
                      <a:pt x="6526" y="2"/>
                      <a:pt x="6527" y="3"/>
                      <a:pt x="6527" y="4"/>
                    </a:cubicBezTo>
                    <a:cubicBezTo>
                      <a:pt x="6527" y="5"/>
                      <a:pt x="6526" y="6"/>
                      <a:pt x="6525" y="6"/>
                    </a:cubicBezTo>
                    <a:lnTo>
                      <a:pt x="6525" y="6"/>
                    </a:lnTo>
                    <a:cubicBezTo>
                      <a:pt x="6524" y="6"/>
                      <a:pt x="6523" y="5"/>
                      <a:pt x="6523" y="4"/>
                    </a:cubicBezTo>
                    <a:cubicBezTo>
                      <a:pt x="6523" y="3"/>
                      <a:pt x="6524" y="2"/>
                      <a:pt x="6525" y="2"/>
                    </a:cubicBezTo>
                    <a:close/>
                    <a:moveTo>
                      <a:pt x="6533" y="2"/>
                    </a:moveTo>
                    <a:lnTo>
                      <a:pt x="6533" y="2"/>
                    </a:lnTo>
                    <a:cubicBezTo>
                      <a:pt x="6534" y="2"/>
                      <a:pt x="6535" y="3"/>
                      <a:pt x="6535" y="4"/>
                    </a:cubicBezTo>
                    <a:cubicBezTo>
                      <a:pt x="6535" y="5"/>
                      <a:pt x="6534" y="6"/>
                      <a:pt x="6533" y="6"/>
                    </a:cubicBezTo>
                    <a:lnTo>
                      <a:pt x="6533" y="6"/>
                    </a:lnTo>
                    <a:cubicBezTo>
                      <a:pt x="6532" y="6"/>
                      <a:pt x="6531" y="5"/>
                      <a:pt x="6531" y="4"/>
                    </a:cubicBezTo>
                    <a:cubicBezTo>
                      <a:pt x="6531" y="3"/>
                      <a:pt x="6532" y="2"/>
                      <a:pt x="6533" y="2"/>
                    </a:cubicBezTo>
                    <a:close/>
                    <a:moveTo>
                      <a:pt x="6541" y="2"/>
                    </a:moveTo>
                    <a:lnTo>
                      <a:pt x="6541" y="2"/>
                    </a:lnTo>
                    <a:cubicBezTo>
                      <a:pt x="6542" y="2"/>
                      <a:pt x="6543" y="3"/>
                      <a:pt x="6543" y="4"/>
                    </a:cubicBezTo>
                    <a:cubicBezTo>
                      <a:pt x="6543" y="5"/>
                      <a:pt x="6542" y="6"/>
                      <a:pt x="6541" y="6"/>
                    </a:cubicBezTo>
                    <a:lnTo>
                      <a:pt x="6541" y="6"/>
                    </a:lnTo>
                    <a:cubicBezTo>
                      <a:pt x="6540" y="6"/>
                      <a:pt x="6539" y="5"/>
                      <a:pt x="6539" y="4"/>
                    </a:cubicBezTo>
                    <a:cubicBezTo>
                      <a:pt x="6539" y="3"/>
                      <a:pt x="6540" y="2"/>
                      <a:pt x="6541" y="2"/>
                    </a:cubicBezTo>
                    <a:close/>
                    <a:moveTo>
                      <a:pt x="6549" y="2"/>
                    </a:moveTo>
                    <a:lnTo>
                      <a:pt x="6549" y="2"/>
                    </a:lnTo>
                    <a:cubicBezTo>
                      <a:pt x="6550" y="2"/>
                      <a:pt x="6551" y="3"/>
                      <a:pt x="6551" y="4"/>
                    </a:cubicBezTo>
                    <a:cubicBezTo>
                      <a:pt x="6551" y="5"/>
                      <a:pt x="6550" y="6"/>
                      <a:pt x="6549" y="6"/>
                    </a:cubicBezTo>
                    <a:lnTo>
                      <a:pt x="6549" y="6"/>
                    </a:lnTo>
                    <a:cubicBezTo>
                      <a:pt x="6548" y="6"/>
                      <a:pt x="6547" y="5"/>
                      <a:pt x="6547" y="4"/>
                    </a:cubicBezTo>
                    <a:cubicBezTo>
                      <a:pt x="6547" y="3"/>
                      <a:pt x="6548" y="2"/>
                      <a:pt x="6549" y="2"/>
                    </a:cubicBezTo>
                    <a:close/>
                    <a:moveTo>
                      <a:pt x="6557" y="2"/>
                    </a:moveTo>
                    <a:lnTo>
                      <a:pt x="6557" y="2"/>
                    </a:lnTo>
                    <a:cubicBezTo>
                      <a:pt x="6558" y="2"/>
                      <a:pt x="6559" y="3"/>
                      <a:pt x="6559" y="4"/>
                    </a:cubicBezTo>
                    <a:cubicBezTo>
                      <a:pt x="6559" y="5"/>
                      <a:pt x="6558" y="6"/>
                      <a:pt x="6557" y="6"/>
                    </a:cubicBezTo>
                    <a:lnTo>
                      <a:pt x="6557" y="6"/>
                    </a:lnTo>
                    <a:cubicBezTo>
                      <a:pt x="6556" y="6"/>
                      <a:pt x="6555" y="5"/>
                      <a:pt x="6555" y="4"/>
                    </a:cubicBezTo>
                    <a:cubicBezTo>
                      <a:pt x="6555" y="3"/>
                      <a:pt x="6556" y="2"/>
                      <a:pt x="6557" y="2"/>
                    </a:cubicBezTo>
                    <a:close/>
                    <a:moveTo>
                      <a:pt x="6565" y="2"/>
                    </a:moveTo>
                    <a:lnTo>
                      <a:pt x="6565" y="2"/>
                    </a:lnTo>
                    <a:cubicBezTo>
                      <a:pt x="6566" y="2"/>
                      <a:pt x="6567" y="3"/>
                      <a:pt x="6567" y="4"/>
                    </a:cubicBezTo>
                    <a:cubicBezTo>
                      <a:pt x="6567" y="5"/>
                      <a:pt x="6566" y="6"/>
                      <a:pt x="6565" y="6"/>
                    </a:cubicBezTo>
                    <a:lnTo>
                      <a:pt x="6565" y="6"/>
                    </a:lnTo>
                    <a:cubicBezTo>
                      <a:pt x="6564" y="6"/>
                      <a:pt x="6563" y="5"/>
                      <a:pt x="6563" y="4"/>
                    </a:cubicBezTo>
                    <a:cubicBezTo>
                      <a:pt x="6563" y="3"/>
                      <a:pt x="6564" y="2"/>
                      <a:pt x="6565" y="2"/>
                    </a:cubicBezTo>
                    <a:close/>
                    <a:moveTo>
                      <a:pt x="6573" y="2"/>
                    </a:moveTo>
                    <a:lnTo>
                      <a:pt x="6573" y="2"/>
                    </a:lnTo>
                    <a:cubicBezTo>
                      <a:pt x="6574" y="2"/>
                      <a:pt x="6575" y="3"/>
                      <a:pt x="6575" y="4"/>
                    </a:cubicBezTo>
                    <a:cubicBezTo>
                      <a:pt x="6575" y="5"/>
                      <a:pt x="6574" y="6"/>
                      <a:pt x="6573" y="6"/>
                    </a:cubicBezTo>
                    <a:lnTo>
                      <a:pt x="6573" y="6"/>
                    </a:lnTo>
                    <a:cubicBezTo>
                      <a:pt x="6572" y="6"/>
                      <a:pt x="6571" y="5"/>
                      <a:pt x="6571" y="4"/>
                    </a:cubicBezTo>
                    <a:cubicBezTo>
                      <a:pt x="6571" y="3"/>
                      <a:pt x="6572" y="2"/>
                      <a:pt x="6573" y="2"/>
                    </a:cubicBezTo>
                    <a:close/>
                    <a:moveTo>
                      <a:pt x="6581" y="2"/>
                    </a:moveTo>
                    <a:lnTo>
                      <a:pt x="6581" y="2"/>
                    </a:lnTo>
                    <a:cubicBezTo>
                      <a:pt x="6582" y="2"/>
                      <a:pt x="6583" y="3"/>
                      <a:pt x="6583" y="4"/>
                    </a:cubicBezTo>
                    <a:cubicBezTo>
                      <a:pt x="6583" y="5"/>
                      <a:pt x="6582" y="6"/>
                      <a:pt x="6581" y="6"/>
                    </a:cubicBezTo>
                    <a:lnTo>
                      <a:pt x="6581" y="6"/>
                    </a:lnTo>
                    <a:cubicBezTo>
                      <a:pt x="6580" y="6"/>
                      <a:pt x="6579" y="5"/>
                      <a:pt x="6579" y="4"/>
                    </a:cubicBezTo>
                    <a:cubicBezTo>
                      <a:pt x="6579" y="3"/>
                      <a:pt x="6580" y="2"/>
                      <a:pt x="6581" y="2"/>
                    </a:cubicBezTo>
                    <a:close/>
                    <a:moveTo>
                      <a:pt x="6589" y="2"/>
                    </a:moveTo>
                    <a:lnTo>
                      <a:pt x="6589" y="2"/>
                    </a:lnTo>
                    <a:cubicBezTo>
                      <a:pt x="6590" y="2"/>
                      <a:pt x="6591" y="3"/>
                      <a:pt x="6591" y="4"/>
                    </a:cubicBezTo>
                    <a:cubicBezTo>
                      <a:pt x="6591" y="5"/>
                      <a:pt x="6590" y="6"/>
                      <a:pt x="6589" y="6"/>
                    </a:cubicBezTo>
                    <a:lnTo>
                      <a:pt x="6589" y="6"/>
                    </a:lnTo>
                    <a:cubicBezTo>
                      <a:pt x="6588" y="6"/>
                      <a:pt x="6587" y="5"/>
                      <a:pt x="6587" y="4"/>
                    </a:cubicBezTo>
                    <a:cubicBezTo>
                      <a:pt x="6587" y="3"/>
                      <a:pt x="6588" y="2"/>
                      <a:pt x="6589" y="2"/>
                    </a:cubicBezTo>
                    <a:close/>
                    <a:moveTo>
                      <a:pt x="6597" y="2"/>
                    </a:moveTo>
                    <a:lnTo>
                      <a:pt x="6597" y="2"/>
                    </a:lnTo>
                    <a:cubicBezTo>
                      <a:pt x="6598" y="2"/>
                      <a:pt x="6599" y="3"/>
                      <a:pt x="6599" y="4"/>
                    </a:cubicBezTo>
                    <a:cubicBezTo>
                      <a:pt x="6599" y="5"/>
                      <a:pt x="6598" y="6"/>
                      <a:pt x="6597" y="6"/>
                    </a:cubicBezTo>
                    <a:lnTo>
                      <a:pt x="6597" y="6"/>
                    </a:lnTo>
                    <a:cubicBezTo>
                      <a:pt x="6596" y="6"/>
                      <a:pt x="6595" y="5"/>
                      <a:pt x="6595" y="4"/>
                    </a:cubicBezTo>
                    <a:cubicBezTo>
                      <a:pt x="6595" y="3"/>
                      <a:pt x="6596" y="2"/>
                      <a:pt x="6597" y="2"/>
                    </a:cubicBezTo>
                    <a:close/>
                    <a:moveTo>
                      <a:pt x="6605" y="2"/>
                    </a:moveTo>
                    <a:lnTo>
                      <a:pt x="6605" y="2"/>
                    </a:lnTo>
                    <a:cubicBezTo>
                      <a:pt x="6606" y="2"/>
                      <a:pt x="6607" y="3"/>
                      <a:pt x="6607" y="4"/>
                    </a:cubicBezTo>
                    <a:cubicBezTo>
                      <a:pt x="6607" y="5"/>
                      <a:pt x="6606" y="6"/>
                      <a:pt x="6605" y="6"/>
                    </a:cubicBezTo>
                    <a:lnTo>
                      <a:pt x="6605" y="6"/>
                    </a:lnTo>
                    <a:cubicBezTo>
                      <a:pt x="6604" y="6"/>
                      <a:pt x="6603" y="5"/>
                      <a:pt x="6603" y="4"/>
                    </a:cubicBezTo>
                    <a:cubicBezTo>
                      <a:pt x="6603" y="3"/>
                      <a:pt x="6604" y="2"/>
                      <a:pt x="6605" y="2"/>
                    </a:cubicBezTo>
                    <a:close/>
                    <a:moveTo>
                      <a:pt x="6613" y="2"/>
                    </a:moveTo>
                    <a:lnTo>
                      <a:pt x="6613" y="2"/>
                    </a:lnTo>
                    <a:cubicBezTo>
                      <a:pt x="6614" y="2"/>
                      <a:pt x="6615" y="3"/>
                      <a:pt x="6615" y="4"/>
                    </a:cubicBezTo>
                    <a:cubicBezTo>
                      <a:pt x="6615" y="5"/>
                      <a:pt x="6614" y="6"/>
                      <a:pt x="6613" y="6"/>
                    </a:cubicBezTo>
                    <a:lnTo>
                      <a:pt x="6613" y="6"/>
                    </a:lnTo>
                    <a:cubicBezTo>
                      <a:pt x="6612" y="6"/>
                      <a:pt x="6611" y="5"/>
                      <a:pt x="6611" y="4"/>
                    </a:cubicBezTo>
                    <a:cubicBezTo>
                      <a:pt x="6611" y="3"/>
                      <a:pt x="6612" y="2"/>
                      <a:pt x="6613" y="2"/>
                    </a:cubicBezTo>
                    <a:close/>
                    <a:moveTo>
                      <a:pt x="6621" y="2"/>
                    </a:moveTo>
                    <a:lnTo>
                      <a:pt x="6621" y="2"/>
                    </a:lnTo>
                    <a:cubicBezTo>
                      <a:pt x="6622" y="2"/>
                      <a:pt x="6623" y="3"/>
                      <a:pt x="6623" y="4"/>
                    </a:cubicBezTo>
                    <a:cubicBezTo>
                      <a:pt x="6623" y="5"/>
                      <a:pt x="6622" y="6"/>
                      <a:pt x="6621" y="6"/>
                    </a:cubicBezTo>
                    <a:lnTo>
                      <a:pt x="6621" y="6"/>
                    </a:lnTo>
                    <a:cubicBezTo>
                      <a:pt x="6620" y="6"/>
                      <a:pt x="6619" y="5"/>
                      <a:pt x="6619" y="4"/>
                    </a:cubicBezTo>
                    <a:cubicBezTo>
                      <a:pt x="6619" y="3"/>
                      <a:pt x="6620" y="2"/>
                      <a:pt x="6621" y="2"/>
                    </a:cubicBezTo>
                    <a:close/>
                    <a:moveTo>
                      <a:pt x="6629" y="2"/>
                    </a:moveTo>
                    <a:lnTo>
                      <a:pt x="6629" y="2"/>
                    </a:lnTo>
                    <a:cubicBezTo>
                      <a:pt x="6630" y="2"/>
                      <a:pt x="6631" y="3"/>
                      <a:pt x="6631" y="4"/>
                    </a:cubicBezTo>
                    <a:cubicBezTo>
                      <a:pt x="6631" y="5"/>
                      <a:pt x="6630" y="6"/>
                      <a:pt x="6629" y="6"/>
                    </a:cubicBezTo>
                    <a:lnTo>
                      <a:pt x="6629" y="6"/>
                    </a:lnTo>
                    <a:cubicBezTo>
                      <a:pt x="6628" y="6"/>
                      <a:pt x="6627" y="5"/>
                      <a:pt x="6627" y="4"/>
                    </a:cubicBezTo>
                    <a:cubicBezTo>
                      <a:pt x="6627" y="3"/>
                      <a:pt x="6628" y="2"/>
                      <a:pt x="6629" y="2"/>
                    </a:cubicBezTo>
                    <a:close/>
                    <a:moveTo>
                      <a:pt x="6637" y="2"/>
                    </a:moveTo>
                    <a:lnTo>
                      <a:pt x="6637" y="2"/>
                    </a:lnTo>
                    <a:cubicBezTo>
                      <a:pt x="6638" y="2"/>
                      <a:pt x="6639" y="3"/>
                      <a:pt x="6639" y="4"/>
                    </a:cubicBezTo>
                    <a:cubicBezTo>
                      <a:pt x="6639" y="5"/>
                      <a:pt x="6638" y="6"/>
                      <a:pt x="6637" y="6"/>
                    </a:cubicBezTo>
                    <a:lnTo>
                      <a:pt x="6637" y="6"/>
                    </a:lnTo>
                    <a:cubicBezTo>
                      <a:pt x="6636" y="6"/>
                      <a:pt x="6635" y="5"/>
                      <a:pt x="6635" y="4"/>
                    </a:cubicBezTo>
                    <a:cubicBezTo>
                      <a:pt x="6635" y="3"/>
                      <a:pt x="6636" y="2"/>
                      <a:pt x="6637" y="2"/>
                    </a:cubicBezTo>
                    <a:close/>
                    <a:moveTo>
                      <a:pt x="6645" y="2"/>
                    </a:moveTo>
                    <a:lnTo>
                      <a:pt x="6645" y="2"/>
                    </a:lnTo>
                    <a:cubicBezTo>
                      <a:pt x="6646" y="2"/>
                      <a:pt x="6647" y="3"/>
                      <a:pt x="6647" y="4"/>
                    </a:cubicBezTo>
                    <a:cubicBezTo>
                      <a:pt x="6647" y="5"/>
                      <a:pt x="6646" y="6"/>
                      <a:pt x="6645" y="6"/>
                    </a:cubicBezTo>
                    <a:lnTo>
                      <a:pt x="6645" y="6"/>
                    </a:lnTo>
                    <a:cubicBezTo>
                      <a:pt x="6644" y="6"/>
                      <a:pt x="6643" y="5"/>
                      <a:pt x="6643" y="4"/>
                    </a:cubicBezTo>
                    <a:cubicBezTo>
                      <a:pt x="6643" y="3"/>
                      <a:pt x="6644" y="2"/>
                      <a:pt x="6645" y="2"/>
                    </a:cubicBezTo>
                    <a:close/>
                    <a:moveTo>
                      <a:pt x="6653" y="2"/>
                    </a:moveTo>
                    <a:lnTo>
                      <a:pt x="6653" y="2"/>
                    </a:lnTo>
                    <a:cubicBezTo>
                      <a:pt x="6654" y="2"/>
                      <a:pt x="6655" y="3"/>
                      <a:pt x="6655" y="4"/>
                    </a:cubicBezTo>
                    <a:cubicBezTo>
                      <a:pt x="6655" y="5"/>
                      <a:pt x="6654" y="6"/>
                      <a:pt x="6653" y="6"/>
                    </a:cubicBezTo>
                    <a:lnTo>
                      <a:pt x="6653" y="6"/>
                    </a:lnTo>
                    <a:cubicBezTo>
                      <a:pt x="6652" y="6"/>
                      <a:pt x="6651" y="5"/>
                      <a:pt x="6651" y="4"/>
                    </a:cubicBezTo>
                    <a:cubicBezTo>
                      <a:pt x="6651" y="3"/>
                      <a:pt x="6652" y="2"/>
                      <a:pt x="6653" y="2"/>
                    </a:cubicBezTo>
                    <a:close/>
                    <a:moveTo>
                      <a:pt x="6661" y="2"/>
                    </a:moveTo>
                    <a:lnTo>
                      <a:pt x="6661" y="2"/>
                    </a:lnTo>
                    <a:cubicBezTo>
                      <a:pt x="6662" y="2"/>
                      <a:pt x="6663" y="3"/>
                      <a:pt x="6663" y="4"/>
                    </a:cubicBezTo>
                    <a:cubicBezTo>
                      <a:pt x="6663" y="5"/>
                      <a:pt x="6662" y="6"/>
                      <a:pt x="6661" y="6"/>
                    </a:cubicBezTo>
                    <a:lnTo>
                      <a:pt x="6661" y="6"/>
                    </a:lnTo>
                    <a:cubicBezTo>
                      <a:pt x="6660" y="6"/>
                      <a:pt x="6659" y="5"/>
                      <a:pt x="6659" y="4"/>
                    </a:cubicBezTo>
                    <a:cubicBezTo>
                      <a:pt x="6659" y="3"/>
                      <a:pt x="6660" y="2"/>
                      <a:pt x="6661" y="2"/>
                    </a:cubicBezTo>
                    <a:close/>
                    <a:moveTo>
                      <a:pt x="6669" y="2"/>
                    </a:moveTo>
                    <a:lnTo>
                      <a:pt x="6669" y="2"/>
                    </a:lnTo>
                    <a:cubicBezTo>
                      <a:pt x="6670" y="2"/>
                      <a:pt x="6671" y="3"/>
                      <a:pt x="6671" y="4"/>
                    </a:cubicBezTo>
                    <a:cubicBezTo>
                      <a:pt x="6671" y="5"/>
                      <a:pt x="6670" y="6"/>
                      <a:pt x="6669" y="6"/>
                    </a:cubicBezTo>
                    <a:lnTo>
                      <a:pt x="6669" y="6"/>
                    </a:lnTo>
                    <a:cubicBezTo>
                      <a:pt x="6668" y="6"/>
                      <a:pt x="6667" y="5"/>
                      <a:pt x="6667" y="4"/>
                    </a:cubicBezTo>
                    <a:cubicBezTo>
                      <a:pt x="6667" y="3"/>
                      <a:pt x="6668" y="2"/>
                      <a:pt x="6669" y="2"/>
                    </a:cubicBezTo>
                    <a:close/>
                    <a:moveTo>
                      <a:pt x="6677" y="2"/>
                    </a:moveTo>
                    <a:lnTo>
                      <a:pt x="6677" y="2"/>
                    </a:lnTo>
                    <a:cubicBezTo>
                      <a:pt x="6678" y="2"/>
                      <a:pt x="6679" y="3"/>
                      <a:pt x="6679" y="4"/>
                    </a:cubicBezTo>
                    <a:cubicBezTo>
                      <a:pt x="6679" y="5"/>
                      <a:pt x="6678" y="6"/>
                      <a:pt x="6677" y="6"/>
                    </a:cubicBezTo>
                    <a:lnTo>
                      <a:pt x="6677" y="6"/>
                    </a:lnTo>
                    <a:cubicBezTo>
                      <a:pt x="6676" y="6"/>
                      <a:pt x="6675" y="5"/>
                      <a:pt x="6675" y="4"/>
                    </a:cubicBezTo>
                    <a:cubicBezTo>
                      <a:pt x="6675" y="3"/>
                      <a:pt x="6676" y="2"/>
                      <a:pt x="6677" y="2"/>
                    </a:cubicBezTo>
                    <a:close/>
                    <a:moveTo>
                      <a:pt x="6685" y="2"/>
                    </a:moveTo>
                    <a:lnTo>
                      <a:pt x="6685" y="2"/>
                    </a:lnTo>
                    <a:cubicBezTo>
                      <a:pt x="6686" y="2"/>
                      <a:pt x="6687" y="3"/>
                      <a:pt x="6687" y="4"/>
                    </a:cubicBezTo>
                    <a:cubicBezTo>
                      <a:pt x="6687" y="5"/>
                      <a:pt x="6686" y="6"/>
                      <a:pt x="6685" y="6"/>
                    </a:cubicBezTo>
                    <a:lnTo>
                      <a:pt x="6685" y="6"/>
                    </a:lnTo>
                    <a:cubicBezTo>
                      <a:pt x="6684" y="6"/>
                      <a:pt x="6683" y="5"/>
                      <a:pt x="6683" y="4"/>
                    </a:cubicBezTo>
                    <a:cubicBezTo>
                      <a:pt x="6683" y="3"/>
                      <a:pt x="6684" y="2"/>
                      <a:pt x="6685" y="2"/>
                    </a:cubicBezTo>
                    <a:close/>
                    <a:moveTo>
                      <a:pt x="6693" y="2"/>
                    </a:moveTo>
                    <a:lnTo>
                      <a:pt x="6693" y="2"/>
                    </a:lnTo>
                    <a:cubicBezTo>
                      <a:pt x="6694" y="2"/>
                      <a:pt x="6695" y="3"/>
                      <a:pt x="6695" y="4"/>
                    </a:cubicBezTo>
                    <a:cubicBezTo>
                      <a:pt x="6695" y="5"/>
                      <a:pt x="6694" y="6"/>
                      <a:pt x="6693" y="6"/>
                    </a:cubicBezTo>
                    <a:lnTo>
                      <a:pt x="6693" y="6"/>
                    </a:lnTo>
                    <a:cubicBezTo>
                      <a:pt x="6692" y="6"/>
                      <a:pt x="6691" y="5"/>
                      <a:pt x="6691" y="4"/>
                    </a:cubicBezTo>
                    <a:cubicBezTo>
                      <a:pt x="6691" y="3"/>
                      <a:pt x="6692" y="2"/>
                      <a:pt x="6693" y="2"/>
                    </a:cubicBezTo>
                    <a:close/>
                    <a:moveTo>
                      <a:pt x="6701" y="2"/>
                    </a:moveTo>
                    <a:lnTo>
                      <a:pt x="6701" y="2"/>
                    </a:lnTo>
                    <a:cubicBezTo>
                      <a:pt x="6702" y="2"/>
                      <a:pt x="6703" y="3"/>
                      <a:pt x="6703" y="4"/>
                    </a:cubicBezTo>
                    <a:cubicBezTo>
                      <a:pt x="6703" y="5"/>
                      <a:pt x="6702" y="6"/>
                      <a:pt x="6701" y="6"/>
                    </a:cubicBezTo>
                    <a:lnTo>
                      <a:pt x="6701" y="6"/>
                    </a:lnTo>
                    <a:cubicBezTo>
                      <a:pt x="6700" y="6"/>
                      <a:pt x="6699" y="5"/>
                      <a:pt x="6699" y="4"/>
                    </a:cubicBezTo>
                    <a:cubicBezTo>
                      <a:pt x="6699" y="3"/>
                      <a:pt x="6700" y="2"/>
                      <a:pt x="6701" y="2"/>
                    </a:cubicBezTo>
                    <a:close/>
                    <a:moveTo>
                      <a:pt x="6709" y="2"/>
                    </a:moveTo>
                    <a:lnTo>
                      <a:pt x="6709" y="2"/>
                    </a:lnTo>
                    <a:cubicBezTo>
                      <a:pt x="6710" y="2"/>
                      <a:pt x="6711" y="3"/>
                      <a:pt x="6711" y="4"/>
                    </a:cubicBezTo>
                    <a:cubicBezTo>
                      <a:pt x="6711" y="5"/>
                      <a:pt x="6710" y="6"/>
                      <a:pt x="6709" y="6"/>
                    </a:cubicBezTo>
                    <a:lnTo>
                      <a:pt x="6709" y="6"/>
                    </a:lnTo>
                    <a:cubicBezTo>
                      <a:pt x="6708" y="6"/>
                      <a:pt x="6707" y="5"/>
                      <a:pt x="6707" y="4"/>
                    </a:cubicBezTo>
                    <a:cubicBezTo>
                      <a:pt x="6707" y="3"/>
                      <a:pt x="6708" y="2"/>
                      <a:pt x="6709" y="2"/>
                    </a:cubicBezTo>
                    <a:close/>
                    <a:moveTo>
                      <a:pt x="6717" y="2"/>
                    </a:moveTo>
                    <a:lnTo>
                      <a:pt x="6717" y="2"/>
                    </a:lnTo>
                    <a:cubicBezTo>
                      <a:pt x="6718" y="2"/>
                      <a:pt x="6719" y="3"/>
                      <a:pt x="6719" y="4"/>
                    </a:cubicBezTo>
                    <a:cubicBezTo>
                      <a:pt x="6719" y="5"/>
                      <a:pt x="6718" y="6"/>
                      <a:pt x="6717" y="6"/>
                    </a:cubicBezTo>
                    <a:lnTo>
                      <a:pt x="6717" y="6"/>
                    </a:lnTo>
                    <a:cubicBezTo>
                      <a:pt x="6716" y="6"/>
                      <a:pt x="6715" y="5"/>
                      <a:pt x="6715" y="4"/>
                    </a:cubicBezTo>
                    <a:cubicBezTo>
                      <a:pt x="6715" y="3"/>
                      <a:pt x="6716" y="2"/>
                      <a:pt x="6717" y="2"/>
                    </a:cubicBezTo>
                    <a:close/>
                    <a:moveTo>
                      <a:pt x="6725" y="2"/>
                    </a:moveTo>
                    <a:lnTo>
                      <a:pt x="6725" y="2"/>
                    </a:lnTo>
                    <a:cubicBezTo>
                      <a:pt x="6726" y="2"/>
                      <a:pt x="6727" y="3"/>
                      <a:pt x="6727" y="4"/>
                    </a:cubicBezTo>
                    <a:cubicBezTo>
                      <a:pt x="6727" y="5"/>
                      <a:pt x="6726" y="6"/>
                      <a:pt x="6725" y="6"/>
                    </a:cubicBezTo>
                    <a:lnTo>
                      <a:pt x="6725" y="6"/>
                    </a:lnTo>
                    <a:cubicBezTo>
                      <a:pt x="6724" y="6"/>
                      <a:pt x="6723" y="5"/>
                      <a:pt x="6723" y="4"/>
                    </a:cubicBezTo>
                    <a:cubicBezTo>
                      <a:pt x="6723" y="3"/>
                      <a:pt x="6724" y="2"/>
                      <a:pt x="6725" y="2"/>
                    </a:cubicBezTo>
                    <a:close/>
                    <a:moveTo>
                      <a:pt x="6733" y="2"/>
                    </a:moveTo>
                    <a:lnTo>
                      <a:pt x="6733" y="2"/>
                    </a:lnTo>
                    <a:cubicBezTo>
                      <a:pt x="6734" y="2"/>
                      <a:pt x="6735" y="3"/>
                      <a:pt x="6735" y="4"/>
                    </a:cubicBezTo>
                    <a:cubicBezTo>
                      <a:pt x="6735" y="5"/>
                      <a:pt x="6734" y="6"/>
                      <a:pt x="6733" y="6"/>
                    </a:cubicBezTo>
                    <a:lnTo>
                      <a:pt x="6733" y="6"/>
                    </a:lnTo>
                    <a:cubicBezTo>
                      <a:pt x="6732" y="6"/>
                      <a:pt x="6731" y="5"/>
                      <a:pt x="6731" y="4"/>
                    </a:cubicBezTo>
                    <a:cubicBezTo>
                      <a:pt x="6731" y="3"/>
                      <a:pt x="6732" y="2"/>
                      <a:pt x="6733" y="2"/>
                    </a:cubicBezTo>
                    <a:close/>
                    <a:moveTo>
                      <a:pt x="6741" y="2"/>
                    </a:moveTo>
                    <a:lnTo>
                      <a:pt x="6741" y="2"/>
                    </a:lnTo>
                    <a:cubicBezTo>
                      <a:pt x="6742" y="2"/>
                      <a:pt x="6743" y="3"/>
                      <a:pt x="6743" y="4"/>
                    </a:cubicBezTo>
                    <a:cubicBezTo>
                      <a:pt x="6743" y="5"/>
                      <a:pt x="6742" y="6"/>
                      <a:pt x="6741" y="6"/>
                    </a:cubicBezTo>
                    <a:lnTo>
                      <a:pt x="6741" y="6"/>
                    </a:lnTo>
                    <a:cubicBezTo>
                      <a:pt x="6740" y="6"/>
                      <a:pt x="6739" y="5"/>
                      <a:pt x="6739" y="4"/>
                    </a:cubicBezTo>
                    <a:cubicBezTo>
                      <a:pt x="6739" y="3"/>
                      <a:pt x="6740" y="2"/>
                      <a:pt x="6741" y="2"/>
                    </a:cubicBezTo>
                    <a:close/>
                    <a:moveTo>
                      <a:pt x="6749" y="2"/>
                    </a:moveTo>
                    <a:lnTo>
                      <a:pt x="6749" y="2"/>
                    </a:lnTo>
                    <a:cubicBezTo>
                      <a:pt x="6750" y="2"/>
                      <a:pt x="6751" y="3"/>
                      <a:pt x="6751" y="4"/>
                    </a:cubicBezTo>
                    <a:cubicBezTo>
                      <a:pt x="6751" y="5"/>
                      <a:pt x="6750" y="6"/>
                      <a:pt x="6749" y="6"/>
                    </a:cubicBezTo>
                    <a:lnTo>
                      <a:pt x="6749" y="6"/>
                    </a:lnTo>
                    <a:cubicBezTo>
                      <a:pt x="6748" y="6"/>
                      <a:pt x="6747" y="5"/>
                      <a:pt x="6747" y="4"/>
                    </a:cubicBezTo>
                    <a:cubicBezTo>
                      <a:pt x="6747" y="3"/>
                      <a:pt x="6748" y="2"/>
                      <a:pt x="6749" y="2"/>
                    </a:cubicBezTo>
                    <a:close/>
                    <a:moveTo>
                      <a:pt x="6757" y="2"/>
                    </a:moveTo>
                    <a:lnTo>
                      <a:pt x="6757" y="2"/>
                    </a:lnTo>
                    <a:cubicBezTo>
                      <a:pt x="6758" y="2"/>
                      <a:pt x="6759" y="3"/>
                      <a:pt x="6759" y="4"/>
                    </a:cubicBezTo>
                    <a:cubicBezTo>
                      <a:pt x="6759" y="5"/>
                      <a:pt x="6758" y="6"/>
                      <a:pt x="6757" y="6"/>
                    </a:cubicBezTo>
                    <a:lnTo>
                      <a:pt x="6757" y="6"/>
                    </a:lnTo>
                    <a:cubicBezTo>
                      <a:pt x="6756" y="6"/>
                      <a:pt x="6755" y="5"/>
                      <a:pt x="6755" y="4"/>
                    </a:cubicBezTo>
                    <a:cubicBezTo>
                      <a:pt x="6755" y="3"/>
                      <a:pt x="6756" y="2"/>
                      <a:pt x="6757" y="2"/>
                    </a:cubicBezTo>
                    <a:close/>
                    <a:moveTo>
                      <a:pt x="6765" y="2"/>
                    </a:moveTo>
                    <a:lnTo>
                      <a:pt x="6765" y="2"/>
                    </a:lnTo>
                    <a:cubicBezTo>
                      <a:pt x="6766" y="2"/>
                      <a:pt x="6767" y="3"/>
                      <a:pt x="6767" y="4"/>
                    </a:cubicBezTo>
                    <a:cubicBezTo>
                      <a:pt x="6767" y="5"/>
                      <a:pt x="6766" y="6"/>
                      <a:pt x="6765" y="6"/>
                    </a:cubicBezTo>
                    <a:lnTo>
                      <a:pt x="6765" y="6"/>
                    </a:lnTo>
                    <a:cubicBezTo>
                      <a:pt x="6764" y="6"/>
                      <a:pt x="6763" y="5"/>
                      <a:pt x="6763" y="4"/>
                    </a:cubicBezTo>
                    <a:cubicBezTo>
                      <a:pt x="6763" y="3"/>
                      <a:pt x="6764" y="2"/>
                      <a:pt x="6765" y="2"/>
                    </a:cubicBezTo>
                    <a:close/>
                    <a:moveTo>
                      <a:pt x="6773" y="2"/>
                    </a:moveTo>
                    <a:lnTo>
                      <a:pt x="6773" y="2"/>
                    </a:lnTo>
                    <a:cubicBezTo>
                      <a:pt x="6774" y="2"/>
                      <a:pt x="6775" y="3"/>
                      <a:pt x="6775" y="4"/>
                    </a:cubicBezTo>
                    <a:cubicBezTo>
                      <a:pt x="6775" y="5"/>
                      <a:pt x="6774" y="6"/>
                      <a:pt x="6773" y="6"/>
                    </a:cubicBezTo>
                    <a:lnTo>
                      <a:pt x="6773" y="6"/>
                    </a:lnTo>
                    <a:cubicBezTo>
                      <a:pt x="6772" y="6"/>
                      <a:pt x="6771" y="5"/>
                      <a:pt x="6771" y="4"/>
                    </a:cubicBezTo>
                    <a:cubicBezTo>
                      <a:pt x="6771" y="3"/>
                      <a:pt x="6772" y="2"/>
                      <a:pt x="6773" y="2"/>
                    </a:cubicBezTo>
                    <a:close/>
                    <a:moveTo>
                      <a:pt x="6781" y="2"/>
                    </a:moveTo>
                    <a:lnTo>
                      <a:pt x="6781" y="2"/>
                    </a:lnTo>
                    <a:cubicBezTo>
                      <a:pt x="6782" y="2"/>
                      <a:pt x="6783" y="3"/>
                      <a:pt x="6783" y="4"/>
                    </a:cubicBezTo>
                    <a:cubicBezTo>
                      <a:pt x="6783" y="5"/>
                      <a:pt x="6782" y="6"/>
                      <a:pt x="6781" y="6"/>
                    </a:cubicBezTo>
                    <a:lnTo>
                      <a:pt x="6781" y="6"/>
                    </a:lnTo>
                    <a:cubicBezTo>
                      <a:pt x="6780" y="6"/>
                      <a:pt x="6779" y="5"/>
                      <a:pt x="6779" y="4"/>
                    </a:cubicBezTo>
                    <a:cubicBezTo>
                      <a:pt x="6779" y="3"/>
                      <a:pt x="6780" y="2"/>
                      <a:pt x="6781" y="2"/>
                    </a:cubicBezTo>
                    <a:close/>
                    <a:moveTo>
                      <a:pt x="6789" y="2"/>
                    </a:moveTo>
                    <a:lnTo>
                      <a:pt x="6789" y="2"/>
                    </a:lnTo>
                    <a:cubicBezTo>
                      <a:pt x="6790" y="2"/>
                      <a:pt x="6791" y="3"/>
                      <a:pt x="6791" y="4"/>
                    </a:cubicBezTo>
                    <a:cubicBezTo>
                      <a:pt x="6791" y="5"/>
                      <a:pt x="6790" y="6"/>
                      <a:pt x="6789" y="6"/>
                    </a:cubicBezTo>
                    <a:lnTo>
                      <a:pt x="6789" y="6"/>
                    </a:lnTo>
                    <a:cubicBezTo>
                      <a:pt x="6788" y="6"/>
                      <a:pt x="6787" y="5"/>
                      <a:pt x="6787" y="4"/>
                    </a:cubicBezTo>
                    <a:cubicBezTo>
                      <a:pt x="6787" y="3"/>
                      <a:pt x="6788" y="2"/>
                      <a:pt x="6789" y="2"/>
                    </a:cubicBezTo>
                    <a:close/>
                    <a:moveTo>
                      <a:pt x="6797" y="2"/>
                    </a:moveTo>
                    <a:lnTo>
                      <a:pt x="6797" y="2"/>
                    </a:lnTo>
                    <a:cubicBezTo>
                      <a:pt x="6798" y="2"/>
                      <a:pt x="6799" y="3"/>
                      <a:pt x="6799" y="4"/>
                    </a:cubicBezTo>
                    <a:cubicBezTo>
                      <a:pt x="6799" y="5"/>
                      <a:pt x="6798" y="6"/>
                      <a:pt x="6797" y="6"/>
                    </a:cubicBezTo>
                    <a:lnTo>
                      <a:pt x="6797" y="6"/>
                    </a:lnTo>
                    <a:cubicBezTo>
                      <a:pt x="6796" y="6"/>
                      <a:pt x="6795" y="5"/>
                      <a:pt x="6795" y="4"/>
                    </a:cubicBezTo>
                    <a:cubicBezTo>
                      <a:pt x="6795" y="3"/>
                      <a:pt x="6796" y="2"/>
                      <a:pt x="6797" y="2"/>
                    </a:cubicBezTo>
                    <a:close/>
                    <a:moveTo>
                      <a:pt x="6805" y="2"/>
                    </a:moveTo>
                    <a:lnTo>
                      <a:pt x="6805" y="2"/>
                    </a:lnTo>
                    <a:cubicBezTo>
                      <a:pt x="6806" y="2"/>
                      <a:pt x="6807" y="3"/>
                      <a:pt x="6807" y="4"/>
                    </a:cubicBezTo>
                    <a:cubicBezTo>
                      <a:pt x="6807" y="5"/>
                      <a:pt x="6806" y="6"/>
                      <a:pt x="6805" y="6"/>
                    </a:cubicBezTo>
                    <a:lnTo>
                      <a:pt x="6805" y="6"/>
                    </a:lnTo>
                    <a:cubicBezTo>
                      <a:pt x="6804" y="6"/>
                      <a:pt x="6803" y="5"/>
                      <a:pt x="6803" y="4"/>
                    </a:cubicBezTo>
                    <a:cubicBezTo>
                      <a:pt x="6803" y="3"/>
                      <a:pt x="6804" y="2"/>
                      <a:pt x="6805" y="2"/>
                    </a:cubicBezTo>
                    <a:close/>
                    <a:moveTo>
                      <a:pt x="6813" y="2"/>
                    </a:moveTo>
                    <a:lnTo>
                      <a:pt x="6813" y="2"/>
                    </a:lnTo>
                    <a:cubicBezTo>
                      <a:pt x="6814" y="2"/>
                      <a:pt x="6815" y="3"/>
                      <a:pt x="6815" y="4"/>
                    </a:cubicBezTo>
                    <a:cubicBezTo>
                      <a:pt x="6815" y="5"/>
                      <a:pt x="6814" y="6"/>
                      <a:pt x="6813" y="6"/>
                    </a:cubicBezTo>
                    <a:lnTo>
                      <a:pt x="6813" y="6"/>
                    </a:lnTo>
                    <a:cubicBezTo>
                      <a:pt x="6812" y="6"/>
                      <a:pt x="6811" y="5"/>
                      <a:pt x="6811" y="4"/>
                    </a:cubicBezTo>
                    <a:cubicBezTo>
                      <a:pt x="6811" y="3"/>
                      <a:pt x="6812" y="2"/>
                      <a:pt x="6813" y="2"/>
                    </a:cubicBezTo>
                    <a:close/>
                    <a:moveTo>
                      <a:pt x="6821" y="2"/>
                    </a:moveTo>
                    <a:lnTo>
                      <a:pt x="6821" y="2"/>
                    </a:lnTo>
                    <a:cubicBezTo>
                      <a:pt x="6822" y="2"/>
                      <a:pt x="6823" y="3"/>
                      <a:pt x="6823" y="4"/>
                    </a:cubicBezTo>
                    <a:cubicBezTo>
                      <a:pt x="6823" y="5"/>
                      <a:pt x="6822" y="6"/>
                      <a:pt x="6821" y="6"/>
                    </a:cubicBezTo>
                    <a:lnTo>
                      <a:pt x="6821" y="6"/>
                    </a:lnTo>
                    <a:cubicBezTo>
                      <a:pt x="6820" y="6"/>
                      <a:pt x="6819" y="5"/>
                      <a:pt x="6819" y="4"/>
                    </a:cubicBezTo>
                    <a:cubicBezTo>
                      <a:pt x="6819" y="3"/>
                      <a:pt x="6820" y="2"/>
                      <a:pt x="6821" y="2"/>
                    </a:cubicBezTo>
                    <a:close/>
                    <a:moveTo>
                      <a:pt x="6829" y="2"/>
                    </a:moveTo>
                    <a:lnTo>
                      <a:pt x="6829" y="2"/>
                    </a:lnTo>
                    <a:cubicBezTo>
                      <a:pt x="6830" y="2"/>
                      <a:pt x="6831" y="3"/>
                      <a:pt x="6831" y="4"/>
                    </a:cubicBezTo>
                    <a:cubicBezTo>
                      <a:pt x="6831" y="5"/>
                      <a:pt x="6830" y="6"/>
                      <a:pt x="6829" y="6"/>
                    </a:cubicBezTo>
                    <a:lnTo>
                      <a:pt x="6829" y="6"/>
                    </a:lnTo>
                    <a:cubicBezTo>
                      <a:pt x="6828" y="6"/>
                      <a:pt x="6827" y="5"/>
                      <a:pt x="6827" y="4"/>
                    </a:cubicBezTo>
                    <a:cubicBezTo>
                      <a:pt x="6827" y="3"/>
                      <a:pt x="6828" y="2"/>
                      <a:pt x="6829" y="2"/>
                    </a:cubicBezTo>
                    <a:close/>
                    <a:moveTo>
                      <a:pt x="6837" y="2"/>
                    </a:moveTo>
                    <a:lnTo>
                      <a:pt x="6837" y="2"/>
                    </a:lnTo>
                    <a:cubicBezTo>
                      <a:pt x="6838" y="2"/>
                      <a:pt x="6839" y="3"/>
                      <a:pt x="6839" y="4"/>
                    </a:cubicBezTo>
                    <a:cubicBezTo>
                      <a:pt x="6839" y="5"/>
                      <a:pt x="6838" y="6"/>
                      <a:pt x="6837" y="6"/>
                    </a:cubicBezTo>
                    <a:lnTo>
                      <a:pt x="6837" y="6"/>
                    </a:lnTo>
                    <a:cubicBezTo>
                      <a:pt x="6836" y="6"/>
                      <a:pt x="6835" y="5"/>
                      <a:pt x="6835" y="4"/>
                    </a:cubicBezTo>
                    <a:cubicBezTo>
                      <a:pt x="6835" y="3"/>
                      <a:pt x="6836" y="2"/>
                      <a:pt x="6837" y="2"/>
                    </a:cubicBezTo>
                    <a:close/>
                    <a:moveTo>
                      <a:pt x="6845" y="2"/>
                    </a:moveTo>
                    <a:lnTo>
                      <a:pt x="6845" y="2"/>
                    </a:lnTo>
                    <a:cubicBezTo>
                      <a:pt x="6846" y="2"/>
                      <a:pt x="6847" y="3"/>
                      <a:pt x="6847" y="4"/>
                    </a:cubicBezTo>
                    <a:cubicBezTo>
                      <a:pt x="6847" y="5"/>
                      <a:pt x="6846" y="6"/>
                      <a:pt x="6845" y="6"/>
                    </a:cubicBezTo>
                    <a:lnTo>
                      <a:pt x="6845" y="6"/>
                    </a:lnTo>
                    <a:cubicBezTo>
                      <a:pt x="6844" y="6"/>
                      <a:pt x="6843" y="5"/>
                      <a:pt x="6843" y="4"/>
                    </a:cubicBezTo>
                    <a:cubicBezTo>
                      <a:pt x="6843" y="3"/>
                      <a:pt x="6844" y="2"/>
                      <a:pt x="6845" y="2"/>
                    </a:cubicBezTo>
                    <a:close/>
                    <a:moveTo>
                      <a:pt x="6853" y="2"/>
                    </a:moveTo>
                    <a:lnTo>
                      <a:pt x="6853" y="2"/>
                    </a:lnTo>
                    <a:cubicBezTo>
                      <a:pt x="6854" y="2"/>
                      <a:pt x="6855" y="3"/>
                      <a:pt x="6855" y="4"/>
                    </a:cubicBezTo>
                    <a:cubicBezTo>
                      <a:pt x="6855" y="5"/>
                      <a:pt x="6854" y="6"/>
                      <a:pt x="6853" y="6"/>
                    </a:cubicBezTo>
                    <a:lnTo>
                      <a:pt x="6853" y="6"/>
                    </a:lnTo>
                    <a:cubicBezTo>
                      <a:pt x="6852" y="6"/>
                      <a:pt x="6851" y="5"/>
                      <a:pt x="6851" y="4"/>
                    </a:cubicBezTo>
                    <a:cubicBezTo>
                      <a:pt x="6851" y="3"/>
                      <a:pt x="6852" y="2"/>
                      <a:pt x="6853" y="2"/>
                    </a:cubicBezTo>
                    <a:close/>
                    <a:moveTo>
                      <a:pt x="6861" y="2"/>
                    </a:moveTo>
                    <a:lnTo>
                      <a:pt x="6861" y="2"/>
                    </a:lnTo>
                    <a:cubicBezTo>
                      <a:pt x="6862" y="2"/>
                      <a:pt x="6863" y="3"/>
                      <a:pt x="6863" y="4"/>
                    </a:cubicBezTo>
                    <a:cubicBezTo>
                      <a:pt x="6863" y="5"/>
                      <a:pt x="6862" y="6"/>
                      <a:pt x="6861" y="6"/>
                    </a:cubicBezTo>
                    <a:lnTo>
                      <a:pt x="6861" y="6"/>
                    </a:lnTo>
                    <a:cubicBezTo>
                      <a:pt x="6860" y="6"/>
                      <a:pt x="6859" y="5"/>
                      <a:pt x="6859" y="4"/>
                    </a:cubicBezTo>
                    <a:cubicBezTo>
                      <a:pt x="6859" y="3"/>
                      <a:pt x="6860" y="2"/>
                      <a:pt x="6861" y="2"/>
                    </a:cubicBezTo>
                    <a:close/>
                    <a:moveTo>
                      <a:pt x="6869" y="2"/>
                    </a:moveTo>
                    <a:lnTo>
                      <a:pt x="6869" y="2"/>
                    </a:lnTo>
                    <a:cubicBezTo>
                      <a:pt x="6870" y="2"/>
                      <a:pt x="6871" y="3"/>
                      <a:pt x="6871" y="4"/>
                    </a:cubicBezTo>
                    <a:cubicBezTo>
                      <a:pt x="6871" y="5"/>
                      <a:pt x="6870" y="6"/>
                      <a:pt x="6869" y="6"/>
                    </a:cubicBezTo>
                    <a:lnTo>
                      <a:pt x="6869" y="6"/>
                    </a:lnTo>
                    <a:cubicBezTo>
                      <a:pt x="6868" y="6"/>
                      <a:pt x="6867" y="5"/>
                      <a:pt x="6867" y="4"/>
                    </a:cubicBezTo>
                    <a:cubicBezTo>
                      <a:pt x="6867" y="3"/>
                      <a:pt x="6868" y="2"/>
                      <a:pt x="6869" y="2"/>
                    </a:cubicBezTo>
                    <a:close/>
                    <a:moveTo>
                      <a:pt x="6877" y="2"/>
                    </a:moveTo>
                    <a:lnTo>
                      <a:pt x="6877" y="2"/>
                    </a:lnTo>
                    <a:cubicBezTo>
                      <a:pt x="6878" y="2"/>
                      <a:pt x="6879" y="3"/>
                      <a:pt x="6879" y="4"/>
                    </a:cubicBezTo>
                    <a:cubicBezTo>
                      <a:pt x="6879" y="5"/>
                      <a:pt x="6878" y="6"/>
                      <a:pt x="6877" y="6"/>
                    </a:cubicBezTo>
                    <a:lnTo>
                      <a:pt x="6877" y="6"/>
                    </a:lnTo>
                    <a:cubicBezTo>
                      <a:pt x="6876" y="6"/>
                      <a:pt x="6875" y="5"/>
                      <a:pt x="6875" y="4"/>
                    </a:cubicBezTo>
                    <a:cubicBezTo>
                      <a:pt x="6875" y="3"/>
                      <a:pt x="6876" y="2"/>
                      <a:pt x="6877" y="2"/>
                    </a:cubicBezTo>
                    <a:close/>
                    <a:moveTo>
                      <a:pt x="6885" y="2"/>
                    </a:moveTo>
                    <a:lnTo>
                      <a:pt x="6885" y="2"/>
                    </a:lnTo>
                    <a:cubicBezTo>
                      <a:pt x="6886" y="2"/>
                      <a:pt x="6887" y="3"/>
                      <a:pt x="6887" y="4"/>
                    </a:cubicBezTo>
                    <a:cubicBezTo>
                      <a:pt x="6887" y="5"/>
                      <a:pt x="6886" y="6"/>
                      <a:pt x="6885" y="6"/>
                    </a:cubicBezTo>
                    <a:lnTo>
                      <a:pt x="6885" y="6"/>
                    </a:lnTo>
                    <a:cubicBezTo>
                      <a:pt x="6884" y="6"/>
                      <a:pt x="6883" y="5"/>
                      <a:pt x="6883" y="4"/>
                    </a:cubicBezTo>
                    <a:cubicBezTo>
                      <a:pt x="6883" y="3"/>
                      <a:pt x="6884" y="2"/>
                      <a:pt x="6885" y="2"/>
                    </a:cubicBezTo>
                    <a:close/>
                    <a:moveTo>
                      <a:pt x="6893" y="2"/>
                    </a:moveTo>
                    <a:lnTo>
                      <a:pt x="6893" y="2"/>
                    </a:lnTo>
                    <a:cubicBezTo>
                      <a:pt x="6894" y="2"/>
                      <a:pt x="6895" y="3"/>
                      <a:pt x="6895" y="4"/>
                    </a:cubicBezTo>
                    <a:cubicBezTo>
                      <a:pt x="6895" y="5"/>
                      <a:pt x="6894" y="6"/>
                      <a:pt x="6893" y="6"/>
                    </a:cubicBezTo>
                    <a:lnTo>
                      <a:pt x="6893" y="6"/>
                    </a:lnTo>
                    <a:cubicBezTo>
                      <a:pt x="6892" y="6"/>
                      <a:pt x="6891" y="5"/>
                      <a:pt x="6891" y="4"/>
                    </a:cubicBezTo>
                    <a:cubicBezTo>
                      <a:pt x="6891" y="3"/>
                      <a:pt x="6892" y="2"/>
                      <a:pt x="6893" y="2"/>
                    </a:cubicBezTo>
                    <a:close/>
                    <a:moveTo>
                      <a:pt x="6901" y="2"/>
                    </a:moveTo>
                    <a:lnTo>
                      <a:pt x="6901" y="2"/>
                    </a:lnTo>
                    <a:cubicBezTo>
                      <a:pt x="6902" y="2"/>
                      <a:pt x="6903" y="3"/>
                      <a:pt x="6903" y="4"/>
                    </a:cubicBezTo>
                    <a:cubicBezTo>
                      <a:pt x="6903" y="5"/>
                      <a:pt x="6902" y="6"/>
                      <a:pt x="6901" y="6"/>
                    </a:cubicBezTo>
                    <a:lnTo>
                      <a:pt x="6901" y="6"/>
                    </a:lnTo>
                    <a:cubicBezTo>
                      <a:pt x="6900" y="6"/>
                      <a:pt x="6899" y="5"/>
                      <a:pt x="6899" y="4"/>
                    </a:cubicBezTo>
                    <a:cubicBezTo>
                      <a:pt x="6899" y="3"/>
                      <a:pt x="6900" y="2"/>
                      <a:pt x="6901" y="2"/>
                    </a:cubicBezTo>
                    <a:close/>
                    <a:moveTo>
                      <a:pt x="6909" y="2"/>
                    </a:moveTo>
                    <a:lnTo>
                      <a:pt x="6909" y="2"/>
                    </a:lnTo>
                    <a:cubicBezTo>
                      <a:pt x="6910" y="2"/>
                      <a:pt x="6911" y="3"/>
                      <a:pt x="6911" y="4"/>
                    </a:cubicBezTo>
                    <a:cubicBezTo>
                      <a:pt x="6911" y="5"/>
                      <a:pt x="6910" y="6"/>
                      <a:pt x="6909" y="6"/>
                    </a:cubicBezTo>
                    <a:lnTo>
                      <a:pt x="6909" y="6"/>
                    </a:lnTo>
                    <a:cubicBezTo>
                      <a:pt x="6908" y="6"/>
                      <a:pt x="6907" y="5"/>
                      <a:pt x="6907" y="4"/>
                    </a:cubicBezTo>
                    <a:cubicBezTo>
                      <a:pt x="6907" y="3"/>
                      <a:pt x="6908" y="2"/>
                      <a:pt x="6909" y="2"/>
                    </a:cubicBezTo>
                    <a:close/>
                    <a:moveTo>
                      <a:pt x="6917" y="2"/>
                    </a:moveTo>
                    <a:lnTo>
                      <a:pt x="6917" y="2"/>
                    </a:lnTo>
                    <a:cubicBezTo>
                      <a:pt x="6918" y="2"/>
                      <a:pt x="6919" y="3"/>
                      <a:pt x="6919" y="4"/>
                    </a:cubicBezTo>
                    <a:cubicBezTo>
                      <a:pt x="6919" y="5"/>
                      <a:pt x="6918" y="6"/>
                      <a:pt x="6917" y="6"/>
                    </a:cubicBezTo>
                    <a:lnTo>
                      <a:pt x="6917" y="6"/>
                    </a:lnTo>
                    <a:cubicBezTo>
                      <a:pt x="6916" y="6"/>
                      <a:pt x="6915" y="5"/>
                      <a:pt x="6915" y="4"/>
                    </a:cubicBezTo>
                    <a:cubicBezTo>
                      <a:pt x="6915" y="3"/>
                      <a:pt x="6916" y="2"/>
                      <a:pt x="6917" y="2"/>
                    </a:cubicBezTo>
                    <a:close/>
                    <a:moveTo>
                      <a:pt x="6925" y="2"/>
                    </a:moveTo>
                    <a:lnTo>
                      <a:pt x="6925" y="2"/>
                    </a:lnTo>
                    <a:cubicBezTo>
                      <a:pt x="6926" y="2"/>
                      <a:pt x="6927" y="3"/>
                      <a:pt x="6927" y="4"/>
                    </a:cubicBezTo>
                    <a:cubicBezTo>
                      <a:pt x="6927" y="5"/>
                      <a:pt x="6926" y="6"/>
                      <a:pt x="6925" y="6"/>
                    </a:cubicBezTo>
                    <a:lnTo>
                      <a:pt x="6925" y="6"/>
                    </a:lnTo>
                    <a:cubicBezTo>
                      <a:pt x="6924" y="6"/>
                      <a:pt x="6923" y="5"/>
                      <a:pt x="6923" y="4"/>
                    </a:cubicBezTo>
                    <a:cubicBezTo>
                      <a:pt x="6923" y="3"/>
                      <a:pt x="6924" y="2"/>
                      <a:pt x="6925" y="2"/>
                    </a:cubicBezTo>
                    <a:close/>
                    <a:moveTo>
                      <a:pt x="6933" y="2"/>
                    </a:moveTo>
                    <a:lnTo>
                      <a:pt x="6933" y="2"/>
                    </a:lnTo>
                    <a:cubicBezTo>
                      <a:pt x="6934" y="2"/>
                      <a:pt x="6935" y="3"/>
                      <a:pt x="6935" y="4"/>
                    </a:cubicBezTo>
                    <a:cubicBezTo>
                      <a:pt x="6935" y="5"/>
                      <a:pt x="6934" y="6"/>
                      <a:pt x="6933" y="6"/>
                    </a:cubicBezTo>
                    <a:lnTo>
                      <a:pt x="6933" y="6"/>
                    </a:lnTo>
                    <a:cubicBezTo>
                      <a:pt x="6932" y="6"/>
                      <a:pt x="6931" y="5"/>
                      <a:pt x="6931" y="4"/>
                    </a:cubicBezTo>
                    <a:cubicBezTo>
                      <a:pt x="6931" y="3"/>
                      <a:pt x="6932" y="2"/>
                      <a:pt x="6933" y="2"/>
                    </a:cubicBezTo>
                    <a:close/>
                    <a:moveTo>
                      <a:pt x="6941" y="2"/>
                    </a:moveTo>
                    <a:lnTo>
                      <a:pt x="6941" y="2"/>
                    </a:lnTo>
                    <a:cubicBezTo>
                      <a:pt x="6942" y="2"/>
                      <a:pt x="6943" y="3"/>
                      <a:pt x="6943" y="4"/>
                    </a:cubicBezTo>
                    <a:cubicBezTo>
                      <a:pt x="6943" y="5"/>
                      <a:pt x="6942" y="6"/>
                      <a:pt x="6941" y="6"/>
                    </a:cubicBezTo>
                    <a:lnTo>
                      <a:pt x="6941" y="6"/>
                    </a:lnTo>
                    <a:cubicBezTo>
                      <a:pt x="6940" y="6"/>
                      <a:pt x="6939" y="5"/>
                      <a:pt x="6939" y="4"/>
                    </a:cubicBezTo>
                    <a:cubicBezTo>
                      <a:pt x="6939" y="3"/>
                      <a:pt x="6940" y="2"/>
                      <a:pt x="6941" y="2"/>
                    </a:cubicBezTo>
                    <a:close/>
                    <a:moveTo>
                      <a:pt x="6949" y="2"/>
                    </a:moveTo>
                    <a:lnTo>
                      <a:pt x="6949" y="2"/>
                    </a:lnTo>
                    <a:cubicBezTo>
                      <a:pt x="6950" y="2"/>
                      <a:pt x="6951" y="3"/>
                      <a:pt x="6951" y="4"/>
                    </a:cubicBezTo>
                    <a:cubicBezTo>
                      <a:pt x="6951" y="5"/>
                      <a:pt x="6950" y="6"/>
                      <a:pt x="6949" y="6"/>
                    </a:cubicBezTo>
                    <a:lnTo>
                      <a:pt x="6949" y="6"/>
                    </a:lnTo>
                    <a:cubicBezTo>
                      <a:pt x="6948" y="6"/>
                      <a:pt x="6947" y="5"/>
                      <a:pt x="6947" y="4"/>
                    </a:cubicBezTo>
                    <a:cubicBezTo>
                      <a:pt x="6947" y="3"/>
                      <a:pt x="6948" y="2"/>
                      <a:pt x="6949" y="2"/>
                    </a:cubicBezTo>
                    <a:close/>
                    <a:moveTo>
                      <a:pt x="6957" y="2"/>
                    </a:moveTo>
                    <a:lnTo>
                      <a:pt x="6957" y="2"/>
                    </a:lnTo>
                    <a:cubicBezTo>
                      <a:pt x="6958" y="2"/>
                      <a:pt x="6959" y="3"/>
                      <a:pt x="6959" y="4"/>
                    </a:cubicBezTo>
                    <a:cubicBezTo>
                      <a:pt x="6959" y="5"/>
                      <a:pt x="6958" y="6"/>
                      <a:pt x="6957" y="6"/>
                    </a:cubicBezTo>
                    <a:lnTo>
                      <a:pt x="6957" y="6"/>
                    </a:lnTo>
                    <a:cubicBezTo>
                      <a:pt x="6956" y="6"/>
                      <a:pt x="6955" y="5"/>
                      <a:pt x="6955" y="4"/>
                    </a:cubicBezTo>
                    <a:cubicBezTo>
                      <a:pt x="6955" y="3"/>
                      <a:pt x="6956" y="2"/>
                      <a:pt x="6957" y="2"/>
                    </a:cubicBezTo>
                    <a:close/>
                    <a:moveTo>
                      <a:pt x="6965" y="2"/>
                    </a:moveTo>
                    <a:lnTo>
                      <a:pt x="6965" y="2"/>
                    </a:lnTo>
                    <a:cubicBezTo>
                      <a:pt x="6966" y="2"/>
                      <a:pt x="6967" y="3"/>
                      <a:pt x="6967" y="4"/>
                    </a:cubicBezTo>
                    <a:cubicBezTo>
                      <a:pt x="6967" y="5"/>
                      <a:pt x="6966" y="6"/>
                      <a:pt x="6965" y="6"/>
                    </a:cubicBezTo>
                    <a:lnTo>
                      <a:pt x="6965" y="6"/>
                    </a:lnTo>
                    <a:cubicBezTo>
                      <a:pt x="6964" y="6"/>
                      <a:pt x="6963" y="5"/>
                      <a:pt x="6963" y="4"/>
                    </a:cubicBezTo>
                    <a:cubicBezTo>
                      <a:pt x="6963" y="3"/>
                      <a:pt x="6964" y="2"/>
                      <a:pt x="6965" y="2"/>
                    </a:cubicBezTo>
                    <a:close/>
                    <a:moveTo>
                      <a:pt x="6973" y="2"/>
                    </a:moveTo>
                    <a:lnTo>
                      <a:pt x="6973" y="2"/>
                    </a:lnTo>
                    <a:cubicBezTo>
                      <a:pt x="6974" y="2"/>
                      <a:pt x="6975" y="3"/>
                      <a:pt x="6975" y="4"/>
                    </a:cubicBezTo>
                    <a:cubicBezTo>
                      <a:pt x="6975" y="5"/>
                      <a:pt x="6974" y="6"/>
                      <a:pt x="6973" y="6"/>
                    </a:cubicBezTo>
                    <a:lnTo>
                      <a:pt x="6973" y="6"/>
                    </a:lnTo>
                    <a:cubicBezTo>
                      <a:pt x="6972" y="6"/>
                      <a:pt x="6971" y="5"/>
                      <a:pt x="6971" y="4"/>
                    </a:cubicBezTo>
                    <a:cubicBezTo>
                      <a:pt x="6971" y="3"/>
                      <a:pt x="6972" y="2"/>
                      <a:pt x="6973" y="2"/>
                    </a:cubicBezTo>
                    <a:close/>
                    <a:moveTo>
                      <a:pt x="6981" y="2"/>
                    </a:moveTo>
                    <a:lnTo>
                      <a:pt x="6981" y="2"/>
                    </a:lnTo>
                    <a:cubicBezTo>
                      <a:pt x="6982" y="2"/>
                      <a:pt x="6983" y="3"/>
                      <a:pt x="6983" y="4"/>
                    </a:cubicBezTo>
                    <a:cubicBezTo>
                      <a:pt x="6983" y="5"/>
                      <a:pt x="6982" y="6"/>
                      <a:pt x="6981" y="6"/>
                    </a:cubicBezTo>
                    <a:lnTo>
                      <a:pt x="6981" y="6"/>
                    </a:lnTo>
                    <a:cubicBezTo>
                      <a:pt x="6980" y="6"/>
                      <a:pt x="6979" y="5"/>
                      <a:pt x="6979" y="4"/>
                    </a:cubicBezTo>
                    <a:cubicBezTo>
                      <a:pt x="6979" y="3"/>
                      <a:pt x="6980" y="2"/>
                      <a:pt x="6981" y="2"/>
                    </a:cubicBezTo>
                    <a:close/>
                    <a:moveTo>
                      <a:pt x="6989" y="2"/>
                    </a:moveTo>
                    <a:lnTo>
                      <a:pt x="6989" y="2"/>
                    </a:lnTo>
                    <a:cubicBezTo>
                      <a:pt x="6990" y="2"/>
                      <a:pt x="6991" y="3"/>
                      <a:pt x="6991" y="4"/>
                    </a:cubicBezTo>
                    <a:cubicBezTo>
                      <a:pt x="6991" y="5"/>
                      <a:pt x="6990" y="6"/>
                      <a:pt x="6989" y="6"/>
                    </a:cubicBezTo>
                    <a:lnTo>
                      <a:pt x="6989" y="6"/>
                    </a:lnTo>
                    <a:cubicBezTo>
                      <a:pt x="6988" y="6"/>
                      <a:pt x="6987" y="5"/>
                      <a:pt x="6987" y="4"/>
                    </a:cubicBezTo>
                    <a:cubicBezTo>
                      <a:pt x="6987" y="3"/>
                      <a:pt x="6988" y="2"/>
                      <a:pt x="6989" y="2"/>
                    </a:cubicBezTo>
                    <a:close/>
                    <a:moveTo>
                      <a:pt x="6997" y="2"/>
                    </a:moveTo>
                    <a:lnTo>
                      <a:pt x="6997" y="2"/>
                    </a:lnTo>
                    <a:cubicBezTo>
                      <a:pt x="6998" y="2"/>
                      <a:pt x="6999" y="3"/>
                      <a:pt x="6999" y="4"/>
                    </a:cubicBezTo>
                    <a:cubicBezTo>
                      <a:pt x="6999" y="5"/>
                      <a:pt x="6998" y="6"/>
                      <a:pt x="6997" y="6"/>
                    </a:cubicBezTo>
                    <a:lnTo>
                      <a:pt x="6997" y="6"/>
                    </a:lnTo>
                    <a:cubicBezTo>
                      <a:pt x="6996" y="6"/>
                      <a:pt x="6995" y="5"/>
                      <a:pt x="6995" y="4"/>
                    </a:cubicBezTo>
                    <a:cubicBezTo>
                      <a:pt x="6995" y="3"/>
                      <a:pt x="6996" y="2"/>
                      <a:pt x="6997" y="2"/>
                    </a:cubicBezTo>
                    <a:close/>
                    <a:moveTo>
                      <a:pt x="7005" y="2"/>
                    </a:moveTo>
                    <a:lnTo>
                      <a:pt x="7005" y="2"/>
                    </a:lnTo>
                    <a:cubicBezTo>
                      <a:pt x="7006" y="2"/>
                      <a:pt x="7007" y="3"/>
                      <a:pt x="7007" y="4"/>
                    </a:cubicBezTo>
                    <a:cubicBezTo>
                      <a:pt x="7007" y="5"/>
                      <a:pt x="7006" y="6"/>
                      <a:pt x="7005" y="6"/>
                    </a:cubicBezTo>
                    <a:lnTo>
                      <a:pt x="7005" y="6"/>
                    </a:lnTo>
                    <a:cubicBezTo>
                      <a:pt x="7004" y="6"/>
                      <a:pt x="7003" y="5"/>
                      <a:pt x="7003" y="4"/>
                    </a:cubicBezTo>
                    <a:cubicBezTo>
                      <a:pt x="7003" y="3"/>
                      <a:pt x="7004" y="2"/>
                      <a:pt x="7005" y="2"/>
                    </a:cubicBezTo>
                    <a:close/>
                    <a:moveTo>
                      <a:pt x="7013" y="2"/>
                    </a:moveTo>
                    <a:lnTo>
                      <a:pt x="7013" y="2"/>
                    </a:lnTo>
                    <a:cubicBezTo>
                      <a:pt x="7014" y="2"/>
                      <a:pt x="7015" y="3"/>
                      <a:pt x="7015" y="4"/>
                    </a:cubicBezTo>
                    <a:cubicBezTo>
                      <a:pt x="7015" y="5"/>
                      <a:pt x="7014" y="6"/>
                      <a:pt x="7013" y="6"/>
                    </a:cubicBezTo>
                    <a:lnTo>
                      <a:pt x="7013" y="6"/>
                    </a:lnTo>
                    <a:cubicBezTo>
                      <a:pt x="7012" y="6"/>
                      <a:pt x="7011" y="5"/>
                      <a:pt x="7011" y="4"/>
                    </a:cubicBezTo>
                    <a:cubicBezTo>
                      <a:pt x="7011" y="3"/>
                      <a:pt x="7012" y="2"/>
                      <a:pt x="7013" y="2"/>
                    </a:cubicBezTo>
                    <a:close/>
                    <a:moveTo>
                      <a:pt x="7021" y="2"/>
                    </a:moveTo>
                    <a:lnTo>
                      <a:pt x="7021" y="2"/>
                    </a:lnTo>
                    <a:cubicBezTo>
                      <a:pt x="7022" y="2"/>
                      <a:pt x="7023" y="3"/>
                      <a:pt x="7023" y="4"/>
                    </a:cubicBezTo>
                    <a:cubicBezTo>
                      <a:pt x="7023" y="5"/>
                      <a:pt x="7022" y="6"/>
                      <a:pt x="7021" y="6"/>
                    </a:cubicBezTo>
                    <a:lnTo>
                      <a:pt x="7021" y="6"/>
                    </a:lnTo>
                    <a:cubicBezTo>
                      <a:pt x="7020" y="6"/>
                      <a:pt x="7019" y="5"/>
                      <a:pt x="7019" y="4"/>
                    </a:cubicBezTo>
                    <a:cubicBezTo>
                      <a:pt x="7019" y="3"/>
                      <a:pt x="7020" y="2"/>
                      <a:pt x="7021" y="2"/>
                    </a:cubicBezTo>
                    <a:close/>
                    <a:moveTo>
                      <a:pt x="7029" y="2"/>
                    </a:moveTo>
                    <a:lnTo>
                      <a:pt x="7029" y="2"/>
                    </a:lnTo>
                    <a:cubicBezTo>
                      <a:pt x="7030" y="2"/>
                      <a:pt x="7031" y="3"/>
                      <a:pt x="7031" y="4"/>
                    </a:cubicBezTo>
                    <a:cubicBezTo>
                      <a:pt x="7031" y="5"/>
                      <a:pt x="7030" y="6"/>
                      <a:pt x="7029" y="6"/>
                    </a:cubicBezTo>
                    <a:lnTo>
                      <a:pt x="7029" y="6"/>
                    </a:lnTo>
                    <a:cubicBezTo>
                      <a:pt x="7028" y="6"/>
                      <a:pt x="7027" y="5"/>
                      <a:pt x="7027" y="4"/>
                    </a:cubicBezTo>
                    <a:cubicBezTo>
                      <a:pt x="7027" y="3"/>
                      <a:pt x="7028" y="2"/>
                      <a:pt x="7029" y="2"/>
                    </a:cubicBezTo>
                    <a:close/>
                    <a:moveTo>
                      <a:pt x="7037" y="2"/>
                    </a:moveTo>
                    <a:lnTo>
                      <a:pt x="7037" y="2"/>
                    </a:lnTo>
                    <a:cubicBezTo>
                      <a:pt x="7038" y="2"/>
                      <a:pt x="7039" y="3"/>
                      <a:pt x="7039" y="4"/>
                    </a:cubicBezTo>
                    <a:cubicBezTo>
                      <a:pt x="7039" y="5"/>
                      <a:pt x="7038" y="6"/>
                      <a:pt x="7037" y="6"/>
                    </a:cubicBezTo>
                    <a:lnTo>
                      <a:pt x="7037" y="6"/>
                    </a:lnTo>
                    <a:cubicBezTo>
                      <a:pt x="7036" y="6"/>
                      <a:pt x="7035" y="5"/>
                      <a:pt x="7035" y="4"/>
                    </a:cubicBezTo>
                    <a:cubicBezTo>
                      <a:pt x="7035" y="3"/>
                      <a:pt x="7036" y="2"/>
                      <a:pt x="7037" y="2"/>
                    </a:cubicBezTo>
                    <a:close/>
                    <a:moveTo>
                      <a:pt x="7045" y="2"/>
                    </a:moveTo>
                    <a:lnTo>
                      <a:pt x="7045" y="2"/>
                    </a:lnTo>
                    <a:cubicBezTo>
                      <a:pt x="7046" y="2"/>
                      <a:pt x="7047" y="3"/>
                      <a:pt x="7047" y="4"/>
                    </a:cubicBezTo>
                    <a:cubicBezTo>
                      <a:pt x="7047" y="5"/>
                      <a:pt x="7046" y="6"/>
                      <a:pt x="7045" y="6"/>
                    </a:cubicBezTo>
                    <a:lnTo>
                      <a:pt x="7045" y="6"/>
                    </a:lnTo>
                    <a:cubicBezTo>
                      <a:pt x="7044" y="6"/>
                      <a:pt x="7043" y="5"/>
                      <a:pt x="7043" y="4"/>
                    </a:cubicBezTo>
                    <a:cubicBezTo>
                      <a:pt x="7043" y="3"/>
                      <a:pt x="7044" y="2"/>
                      <a:pt x="7045" y="2"/>
                    </a:cubicBezTo>
                    <a:close/>
                    <a:moveTo>
                      <a:pt x="7053" y="2"/>
                    </a:moveTo>
                    <a:lnTo>
                      <a:pt x="7053" y="2"/>
                    </a:lnTo>
                    <a:cubicBezTo>
                      <a:pt x="7054" y="2"/>
                      <a:pt x="7055" y="3"/>
                      <a:pt x="7055" y="4"/>
                    </a:cubicBezTo>
                    <a:cubicBezTo>
                      <a:pt x="7055" y="5"/>
                      <a:pt x="7054" y="6"/>
                      <a:pt x="7053" y="6"/>
                    </a:cubicBezTo>
                    <a:lnTo>
                      <a:pt x="7053" y="6"/>
                    </a:lnTo>
                    <a:cubicBezTo>
                      <a:pt x="7052" y="6"/>
                      <a:pt x="7051" y="5"/>
                      <a:pt x="7051" y="4"/>
                    </a:cubicBezTo>
                    <a:cubicBezTo>
                      <a:pt x="7051" y="3"/>
                      <a:pt x="7052" y="2"/>
                      <a:pt x="7053" y="2"/>
                    </a:cubicBezTo>
                    <a:close/>
                    <a:moveTo>
                      <a:pt x="7061" y="2"/>
                    </a:moveTo>
                    <a:lnTo>
                      <a:pt x="7061" y="2"/>
                    </a:lnTo>
                    <a:cubicBezTo>
                      <a:pt x="7062" y="2"/>
                      <a:pt x="7063" y="3"/>
                      <a:pt x="7063" y="4"/>
                    </a:cubicBezTo>
                    <a:cubicBezTo>
                      <a:pt x="7063" y="5"/>
                      <a:pt x="7062" y="6"/>
                      <a:pt x="7061" y="6"/>
                    </a:cubicBezTo>
                    <a:lnTo>
                      <a:pt x="7061" y="6"/>
                    </a:lnTo>
                    <a:cubicBezTo>
                      <a:pt x="7060" y="6"/>
                      <a:pt x="7059" y="5"/>
                      <a:pt x="7059" y="4"/>
                    </a:cubicBezTo>
                    <a:cubicBezTo>
                      <a:pt x="7059" y="3"/>
                      <a:pt x="7060" y="2"/>
                      <a:pt x="7061" y="2"/>
                    </a:cubicBezTo>
                    <a:close/>
                    <a:moveTo>
                      <a:pt x="7069" y="2"/>
                    </a:moveTo>
                    <a:lnTo>
                      <a:pt x="7069" y="2"/>
                    </a:lnTo>
                    <a:cubicBezTo>
                      <a:pt x="7070" y="2"/>
                      <a:pt x="7071" y="3"/>
                      <a:pt x="7071" y="4"/>
                    </a:cubicBezTo>
                    <a:cubicBezTo>
                      <a:pt x="7071" y="5"/>
                      <a:pt x="7070" y="6"/>
                      <a:pt x="7069" y="6"/>
                    </a:cubicBezTo>
                    <a:lnTo>
                      <a:pt x="7069" y="6"/>
                    </a:lnTo>
                    <a:cubicBezTo>
                      <a:pt x="7068" y="6"/>
                      <a:pt x="7067" y="5"/>
                      <a:pt x="7067" y="4"/>
                    </a:cubicBezTo>
                    <a:cubicBezTo>
                      <a:pt x="7067" y="3"/>
                      <a:pt x="7068" y="2"/>
                      <a:pt x="7069" y="2"/>
                    </a:cubicBezTo>
                    <a:close/>
                    <a:moveTo>
                      <a:pt x="7077" y="2"/>
                    </a:moveTo>
                    <a:lnTo>
                      <a:pt x="7077" y="2"/>
                    </a:lnTo>
                    <a:cubicBezTo>
                      <a:pt x="7078" y="2"/>
                      <a:pt x="7079" y="3"/>
                      <a:pt x="7079" y="4"/>
                    </a:cubicBezTo>
                    <a:cubicBezTo>
                      <a:pt x="7079" y="5"/>
                      <a:pt x="7078" y="6"/>
                      <a:pt x="7077" y="6"/>
                    </a:cubicBezTo>
                    <a:lnTo>
                      <a:pt x="7077" y="6"/>
                    </a:lnTo>
                    <a:cubicBezTo>
                      <a:pt x="7076" y="6"/>
                      <a:pt x="7075" y="5"/>
                      <a:pt x="7075" y="4"/>
                    </a:cubicBezTo>
                    <a:cubicBezTo>
                      <a:pt x="7075" y="3"/>
                      <a:pt x="7076" y="2"/>
                      <a:pt x="7077" y="2"/>
                    </a:cubicBezTo>
                    <a:close/>
                    <a:moveTo>
                      <a:pt x="7085" y="2"/>
                    </a:moveTo>
                    <a:lnTo>
                      <a:pt x="7085" y="2"/>
                    </a:lnTo>
                    <a:cubicBezTo>
                      <a:pt x="7086" y="2"/>
                      <a:pt x="7087" y="3"/>
                      <a:pt x="7087" y="4"/>
                    </a:cubicBezTo>
                    <a:cubicBezTo>
                      <a:pt x="7087" y="5"/>
                      <a:pt x="7086" y="6"/>
                      <a:pt x="7085" y="6"/>
                    </a:cubicBezTo>
                    <a:lnTo>
                      <a:pt x="7085" y="6"/>
                    </a:lnTo>
                    <a:cubicBezTo>
                      <a:pt x="7084" y="6"/>
                      <a:pt x="7083" y="5"/>
                      <a:pt x="7083" y="4"/>
                    </a:cubicBezTo>
                    <a:cubicBezTo>
                      <a:pt x="7083" y="3"/>
                      <a:pt x="7084" y="2"/>
                      <a:pt x="7085" y="2"/>
                    </a:cubicBezTo>
                    <a:close/>
                    <a:moveTo>
                      <a:pt x="7093" y="2"/>
                    </a:moveTo>
                    <a:lnTo>
                      <a:pt x="7093" y="2"/>
                    </a:lnTo>
                    <a:cubicBezTo>
                      <a:pt x="7094" y="2"/>
                      <a:pt x="7095" y="3"/>
                      <a:pt x="7095" y="4"/>
                    </a:cubicBezTo>
                    <a:cubicBezTo>
                      <a:pt x="7095" y="5"/>
                      <a:pt x="7094" y="6"/>
                      <a:pt x="7093" y="6"/>
                    </a:cubicBezTo>
                    <a:lnTo>
                      <a:pt x="7093" y="6"/>
                    </a:lnTo>
                    <a:cubicBezTo>
                      <a:pt x="7092" y="6"/>
                      <a:pt x="7091" y="5"/>
                      <a:pt x="7091" y="4"/>
                    </a:cubicBezTo>
                    <a:cubicBezTo>
                      <a:pt x="7091" y="3"/>
                      <a:pt x="7092" y="2"/>
                      <a:pt x="7093" y="2"/>
                    </a:cubicBezTo>
                    <a:close/>
                    <a:moveTo>
                      <a:pt x="7101" y="2"/>
                    </a:moveTo>
                    <a:lnTo>
                      <a:pt x="7101" y="2"/>
                    </a:lnTo>
                    <a:cubicBezTo>
                      <a:pt x="7102" y="2"/>
                      <a:pt x="7103" y="3"/>
                      <a:pt x="7103" y="4"/>
                    </a:cubicBezTo>
                    <a:cubicBezTo>
                      <a:pt x="7103" y="5"/>
                      <a:pt x="7102" y="6"/>
                      <a:pt x="7101" y="6"/>
                    </a:cubicBezTo>
                    <a:lnTo>
                      <a:pt x="7101" y="6"/>
                    </a:lnTo>
                    <a:cubicBezTo>
                      <a:pt x="7100" y="6"/>
                      <a:pt x="7099" y="5"/>
                      <a:pt x="7099" y="4"/>
                    </a:cubicBezTo>
                    <a:cubicBezTo>
                      <a:pt x="7099" y="3"/>
                      <a:pt x="7100" y="2"/>
                      <a:pt x="7101" y="2"/>
                    </a:cubicBezTo>
                    <a:close/>
                    <a:moveTo>
                      <a:pt x="7109" y="2"/>
                    </a:moveTo>
                    <a:lnTo>
                      <a:pt x="7109" y="2"/>
                    </a:lnTo>
                    <a:cubicBezTo>
                      <a:pt x="7110" y="2"/>
                      <a:pt x="7111" y="3"/>
                      <a:pt x="7111" y="4"/>
                    </a:cubicBezTo>
                    <a:cubicBezTo>
                      <a:pt x="7111" y="5"/>
                      <a:pt x="7110" y="6"/>
                      <a:pt x="7109" y="6"/>
                    </a:cubicBezTo>
                    <a:lnTo>
                      <a:pt x="7109" y="6"/>
                    </a:lnTo>
                    <a:cubicBezTo>
                      <a:pt x="7108" y="6"/>
                      <a:pt x="7107" y="5"/>
                      <a:pt x="7107" y="4"/>
                    </a:cubicBezTo>
                    <a:cubicBezTo>
                      <a:pt x="7107" y="3"/>
                      <a:pt x="7108" y="2"/>
                      <a:pt x="7109" y="2"/>
                    </a:cubicBezTo>
                    <a:close/>
                    <a:moveTo>
                      <a:pt x="7117" y="2"/>
                    </a:moveTo>
                    <a:lnTo>
                      <a:pt x="7117" y="2"/>
                    </a:lnTo>
                    <a:cubicBezTo>
                      <a:pt x="7118" y="2"/>
                      <a:pt x="7119" y="3"/>
                      <a:pt x="7119" y="4"/>
                    </a:cubicBezTo>
                    <a:cubicBezTo>
                      <a:pt x="7119" y="5"/>
                      <a:pt x="7118" y="6"/>
                      <a:pt x="7117" y="6"/>
                    </a:cubicBezTo>
                    <a:lnTo>
                      <a:pt x="7117" y="6"/>
                    </a:lnTo>
                    <a:cubicBezTo>
                      <a:pt x="7116" y="6"/>
                      <a:pt x="7115" y="5"/>
                      <a:pt x="7115" y="4"/>
                    </a:cubicBezTo>
                    <a:cubicBezTo>
                      <a:pt x="7115" y="3"/>
                      <a:pt x="7116" y="2"/>
                      <a:pt x="7117" y="2"/>
                    </a:cubicBezTo>
                    <a:close/>
                    <a:moveTo>
                      <a:pt x="7125" y="2"/>
                    </a:moveTo>
                    <a:lnTo>
                      <a:pt x="7125" y="2"/>
                    </a:lnTo>
                    <a:cubicBezTo>
                      <a:pt x="7126" y="2"/>
                      <a:pt x="7127" y="3"/>
                      <a:pt x="7127" y="4"/>
                    </a:cubicBezTo>
                    <a:cubicBezTo>
                      <a:pt x="7127" y="5"/>
                      <a:pt x="7126" y="6"/>
                      <a:pt x="7125" y="6"/>
                    </a:cubicBezTo>
                    <a:lnTo>
                      <a:pt x="7125" y="6"/>
                    </a:lnTo>
                    <a:cubicBezTo>
                      <a:pt x="7124" y="6"/>
                      <a:pt x="7123" y="5"/>
                      <a:pt x="7123" y="4"/>
                    </a:cubicBezTo>
                    <a:cubicBezTo>
                      <a:pt x="7123" y="3"/>
                      <a:pt x="7124" y="2"/>
                      <a:pt x="7125" y="2"/>
                    </a:cubicBezTo>
                    <a:close/>
                    <a:moveTo>
                      <a:pt x="7133" y="2"/>
                    </a:moveTo>
                    <a:lnTo>
                      <a:pt x="7133" y="2"/>
                    </a:lnTo>
                    <a:cubicBezTo>
                      <a:pt x="7134" y="2"/>
                      <a:pt x="7135" y="3"/>
                      <a:pt x="7135" y="4"/>
                    </a:cubicBezTo>
                    <a:cubicBezTo>
                      <a:pt x="7135" y="5"/>
                      <a:pt x="7134" y="6"/>
                      <a:pt x="7133" y="6"/>
                    </a:cubicBezTo>
                    <a:lnTo>
                      <a:pt x="7133" y="6"/>
                    </a:lnTo>
                    <a:cubicBezTo>
                      <a:pt x="7132" y="6"/>
                      <a:pt x="7131" y="5"/>
                      <a:pt x="7131" y="4"/>
                    </a:cubicBezTo>
                    <a:cubicBezTo>
                      <a:pt x="7131" y="3"/>
                      <a:pt x="7132" y="2"/>
                      <a:pt x="7133" y="2"/>
                    </a:cubicBezTo>
                    <a:close/>
                    <a:moveTo>
                      <a:pt x="7141" y="2"/>
                    </a:moveTo>
                    <a:lnTo>
                      <a:pt x="7141" y="2"/>
                    </a:lnTo>
                    <a:cubicBezTo>
                      <a:pt x="7142" y="2"/>
                      <a:pt x="7143" y="3"/>
                      <a:pt x="7143" y="4"/>
                    </a:cubicBezTo>
                    <a:cubicBezTo>
                      <a:pt x="7143" y="5"/>
                      <a:pt x="7142" y="6"/>
                      <a:pt x="7141" y="6"/>
                    </a:cubicBezTo>
                    <a:lnTo>
                      <a:pt x="7141" y="6"/>
                    </a:lnTo>
                    <a:cubicBezTo>
                      <a:pt x="7140" y="6"/>
                      <a:pt x="7139" y="5"/>
                      <a:pt x="7139" y="4"/>
                    </a:cubicBezTo>
                    <a:cubicBezTo>
                      <a:pt x="7139" y="3"/>
                      <a:pt x="7140" y="2"/>
                      <a:pt x="7141" y="2"/>
                    </a:cubicBezTo>
                    <a:close/>
                    <a:moveTo>
                      <a:pt x="7149" y="2"/>
                    </a:moveTo>
                    <a:lnTo>
                      <a:pt x="7149" y="2"/>
                    </a:lnTo>
                    <a:cubicBezTo>
                      <a:pt x="7150" y="2"/>
                      <a:pt x="7151" y="3"/>
                      <a:pt x="7151" y="4"/>
                    </a:cubicBezTo>
                    <a:cubicBezTo>
                      <a:pt x="7151" y="5"/>
                      <a:pt x="7150" y="6"/>
                      <a:pt x="7149" y="6"/>
                    </a:cubicBezTo>
                    <a:lnTo>
                      <a:pt x="7149" y="6"/>
                    </a:lnTo>
                    <a:cubicBezTo>
                      <a:pt x="7148" y="6"/>
                      <a:pt x="7147" y="5"/>
                      <a:pt x="7147" y="4"/>
                    </a:cubicBezTo>
                    <a:cubicBezTo>
                      <a:pt x="7147" y="3"/>
                      <a:pt x="7148" y="2"/>
                      <a:pt x="7149" y="2"/>
                    </a:cubicBezTo>
                    <a:close/>
                    <a:moveTo>
                      <a:pt x="7157" y="2"/>
                    </a:moveTo>
                    <a:lnTo>
                      <a:pt x="7157" y="2"/>
                    </a:lnTo>
                    <a:cubicBezTo>
                      <a:pt x="7158" y="2"/>
                      <a:pt x="7159" y="3"/>
                      <a:pt x="7159" y="4"/>
                    </a:cubicBezTo>
                    <a:cubicBezTo>
                      <a:pt x="7159" y="5"/>
                      <a:pt x="7158" y="6"/>
                      <a:pt x="7157" y="6"/>
                    </a:cubicBezTo>
                    <a:lnTo>
                      <a:pt x="7157" y="6"/>
                    </a:lnTo>
                    <a:cubicBezTo>
                      <a:pt x="7156" y="6"/>
                      <a:pt x="7155" y="5"/>
                      <a:pt x="7155" y="4"/>
                    </a:cubicBezTo>
                    <a:cubicBezTo>
                      <a:pt x="7155" y="3"/>
                      <a:pt x="7156" y="2"/>
                      <a:pt x="7157" y="2"/>
                    </a:cubicBezTo>
                    <a:close/>
                    <a:moveTo>
                      <a:pt x="7165" y="2"/>
                    </a:moveTo>
                    <a:lnTo>
                      <a:pt x="7165" y="2"/>
                    </a:lnTo>
                    <a:cubicBezTo>
                      <a:pt x="7166" y="2"/>
                      <a:pt x="7167" y="3"/>
                      <a:pt x="7167" y="4"/>
                    </a:cubicBezTo>
                    <a:cubicBezTo>
                      <a:pt x="7167" y="5"/>
                      <a:pt x="7166" y="6"/>
                      <a:pt x="7165" y="6"/>
                    </a:cubicBezTo>
                    <a:lnTo>
                      <a:pt x="7165" y="6"/>
                    </a:lnTo>
                    <a:cubicBezTo>
                      <a:pt x="7164" y="6"/>
                      <a:pt x="7163" y="5"/>
                      <a:pt x="7163" y="4"/>
                    </a:cubicBezTo>
                    <a:cubicBezTo>
                      <a:pt x="7163" y="3"/>
                      <a:pt x="7164" y="2"/>
                      <a:pt x="7165" y="2"/>
                    </a:cubicBezTo>
                    <a:close/>
                    <a:moveTo>
                      <a:pt x="7173" y="2"/>
                    </a:moveTo>
                    <a:lnTo>
                      <a:pt x="7173" y="2"/>
                    </a:lnTo>
                    <a:cubicBezTo>
                      <a:pt x="7174" y="2"/>
                      <a:pt x="7175" y="3"/>
                      <a:pt x="7175" y="4"/>
                    </a:cubicBezTo>
                    <a:cubicBezTo>
                      <a:pt x="7175" y="5"/>
                      <a:pt x="7174" y="6"/>
                      <a:pt x="7173" y="6"/>
                    </a:cubicBezTo>
                    <a:lnTo>
                      <a:pt x="7173" y="6"/>
                    </a:lnTo>
                    <a:cubicBezTo>
                      <a:pt x="7172" y="6"/>
                      <a:pt x="7171" y="5"/>
                      <a:pt x="7171" y="4"/>
                    </a:cubicBezTo>
                    <a:cubicBezTo>
                      <a:pt x="7171" y="3"/>
                      <a:pt x="7172" y="2"/>
                      <a:pt x="7173" y="2"/>
                    </a:cubicBezTo>
                    <a:close/>
                    <a:moveTo>
                      <a:pt x="7181" y="2"/>
                    </a:moveTo>
                    <a:lnTo>
                      <a:pt x="7181" y="2"/>
                    </a:lnTo>
                    <a:cubicBezTo>
                      <a:pt x="7182" y="2"/>
                      <a:pt x="7183" y="3"/>
                      <a:pt x="7183" y="4"/>
                    </a:cubicBezTo>
                    <a:cubicBezTo>
                      <a:pt x="7183" y="5"/>
                      <a:pt x="7182" y="6"/>
                      <a:pt x="7181" y="6"/>
                    </a:cubicBezTo>
                    <a:lnTo>
                      <a:pt x="7181" y="6"/>
                    </a:lnTo>
                    <a:cubicBezTo>
                      <a:pt x="7180" y="6"/>
                      <a:pt x="7179" y="5"/>
                      <a:pt x="7179" y="4"/>
                    </a:cubicBezTo>
                    <a:cubicBezTo>
                      <a:pt x="7179" y="3"/>
                      <a:pt x="7180" y="2"/>
                      <a:pt x="7181" y="2"/>
                    </a:cubicBezTo>
                    <a:close/>
                    <a:moveTo>
                      <a:pt x="7189" y="2"/>
                    </a:moveTo>
                    <a:lnTo>
                      <a:pt x="7189" y="2"/>
                    </a:lnTo>
                    <a:cubicBezTo>
                      <a:pt x="7190" y="2"/>
                      <a:pt x="7191" y="3"/>
                      <a:pt x="7191" y="4"/>
                    </a:cubicBezTo>
                    <a:cubicBezTo>
                      <a:pt x="7191" y="5"/>
                      <a:pt x="7190" y="6"/>
                      <a:pt x="7189" y="6"/>
                    </a:cubicBezTo>
                    <a:lnTo>
                      <a:pt x="7189" y="6"/>
                    </a:lnTo>
                    <a:cubicBezTo>
                      <a:pt x="7188" y="6"/>
                      <a:pt x="7187" y="5"/>
                      <a:pt x="7187" y="4"/>
                    </a:cubicBezTo>
                    <a:cubicBezTo>
                      <a:pt x="7187" y="3"/>
                      <a:pt x="7188" y="2"/>
                      <a:pt x="7189" y="2"/>
                    </a:cubicBezTo>
                    <a:close/>
                    <a:moveTo>
                      <a:pt x="7197" y="2"/>
                    </a:moveTo>
                    <a:lnTo>
                      <a:pt x="7197" y="2"/>
                    </a:lnTo>
                    <a:cubicBezTo>
                      <a:pt x="7198" y="2"/>
                      <a:pt x="7199" y="3"/>
                      <a:pt x="7199" y="4"/>
                    </a:cubicBezTo>
                    <a:cubicBezTo>
                      <a:pt x="7199" y="5"/>
                      <a:pt x="7198" y="6"/>
                      <a:pt x="7197" y="6"/>
                    </a:cubicBezTo>
                    <a:lnTo>
                      <a:pt x="7197" y="6"/>
                    </a:lnTo>
                    <a:cubicBezTo>
                      <a:pt x="7196" y="6"/>
                      <a:pt x="7195" y="5"/>
                      <a:pt x="7195" y="4"/>
                    </a:cubicBezTo>
                    <a:cubicBezTo>
                      <a:pt x="7195" y="3"/>
                      <a:pt x="7196" y="2"/>
                      <a:pt x="7197" y="2"/>
                    </a:cubicBezTo>
                    <a:close/>
                    <a:moveTo>
                      <a:pt x="7205" y="2"/>
                    </a:moveTo>
                    <a:lnTo>
                      <a:pt x="7205" y="2"/>
                    </a:lnTo>
                    <a:cubicBezTo>
                      <a:pt x="7206" y="2"/>
                      <a:pt x="7207" y="3"/>
                      <a:pt x="7207" y="4"/>
                    </a:cubicBezTo>
                    <a:cubicBezTo>
                      <a:pt x="7207" y="5"/>
                      <a:pt x="7206" y="6"/>
                      <a:pt x="7205" y="6"/>
                    </a:cubicBezTo>
                    <a:lnTo>
                      <a:pt x="7205" y="6"/>
                    </a:lnTo>
                    <a:cubicBezTo>
                      <a:pt x="7204" y="6"/>
                      <a:pt x="7203" y="5"/>
                      <a:pt x="7203" y="4"/>
                    </a:cubicBezTo>
                    <a:cubicBezTo>
                      <a:pt x="7203" y="3"/>
                      <a:pt x="7204" y="2"/>
                      <a:pt x="7205" y="2"/>
                    </a:cubicBezTo>
                    <a:close/>
                    <a:moveTo>
                      <a:pt x="7213" y="2"/>
                    </a:moveTo>
                    <a:lnTo>
                      <a:pt x="7213" y="2"/>
                    </a:lnTo>
                    <a:cubicBezTo>
                      <a:pt x="7214" y="2"/>
                      <a:pt x="7215" y="3"/>
                      <a:pt x="7215" y="4"/>
                    </a:cubicBezTo>
                    <a:cubicBezTo>
                      <a:pt x="7215" y="5"/>
                      <a:pt x="7214" y="6"/>
                      <a:pt x="7213" y="6"/>
                    </a:cubicBezTo>
                    <a:lnTo>
                      <a:pt x="7213" y="6"/>
                    </a:lnTo>
                    <a:cubicBezTo>
                      <a:pt x="7212" y="6"/>
                      <a:pt x="7211" y="5"/>
                      <a:pt x="7211" y="4"/>
                    </a:cubicBezTo>
                    <a:cubicBezTo>
                      <a:pt x="7211" y="3"/>
                      <a:pt x="7212" y="2"/>
                      <a:pt x="7213" y="2"/>
                    </a:cubicBezTo>
                    <a:close/>
                    <a:moveTo>
                      <a:pt x="7221" y="2"/>
                    </a:moveTo>
                    <a:lnTo>
                      <a:pt x="7221" y="2"/>
                    </a:lnTo>
                    <a:cubicBezTo>
                      <a:pt x="7222" y="2"/>
                      <a:pt x="7223" y="3"/>
                      <a:pt x="7223" y="4"/>
                    </a:cubicBezTo>
                    <a:cubicBezTo>
                      <a:pt x="7223" y="5"/>
                      <a:pt x="7222" y="6"/>
                      <a:pt x="7221" y="6"/>
                    </a:cubicBezTo>
                    <a:lnTo>
                      <a:pt x="7221" y="6"/>
                    </a:lnTo>
                    <a:cubicBezTo>
                      <a:pt x="7220" y="6"/>
                      <a:pt x="7219" y="5"/>
                      <a:pt x="7219" y="4"/>
                    </a:cubicBezTo>
                    <a:cubicBezTo>
                      <a:pt x="7219" y="3"/>
                      <a:pt x="7220" y="2"/>
                      <a:pt x="7221" y="2"/>
                    </a:cubicBezTo>
                    <a:close/>
                    <a:moveTo>
                      <a:pt x="7229" y="2"/>
                    </a:moveTo>
                    <a:lnTo>
                      <a:pt x="7229" y="2"/>
                    </a:lnTo>
                    <a:cubicBezTo>
                      <a:pt x="7230" y="2"/>
                      <a:pt x="7231" y="3"/>
                      <a:pt x="7231" y="4"/>
                    </a:cubicBezTo>
                    <a:cubicBezTo>
                      <a:pt x="7231" y="5"/>
                      <a:pt x="7230" y="6"/>
                      <a:pt x="7229" y="6"/>
                    </a:cubicBezTo>
                    <a:lnTo>
                      <a:pt x="7229" y="6"/>
                    </a:lnTo>
                    <a:cubicBezTo>
                      <a:pt x="7228" y="6"/>
                      <a:pt x="7227" y="5"/>
                      <a:pt x="7227" y="4"/>
                    </a:cubicBezTo>
                    <a:cubicBezTo>
                      <a:pt x="7227" y="3"/>
                      <a:pt x="7228" y="2"/>
                      <a:pt x="7229" y="2"/>
                    </a:cubicBezTo>
                    <a:close/>
                    <a:moveTo>
                      <a:pt x="7237" y="2"/>
                    </a:moveTo>
                    <a:lnTo>
                      <a:pt x="7237" y="2"/>
                    </a:lnTo>
                    <a:cubicBezTo>
                      <a:pt x="7238" y="2"/>
                      <a:pt x="7239" y="3"/>
                      <a:pt x="7239" y="4"/>
                    </a:cubicBezTo>
                    <a:cubicBezTo>
                      <a:pt x="7239" y="5"/>
                      <a:pt x="7238" y="6"/>
                      <a:pt x="7237" y="6"/>
                    </a:cubicBezTo>
                    <a:lnTo>
                      <a:pt x="7237" y="6"/>
                    </a:lnTo>
                    <a:cubicBezTo>
                      <a:pt x="7236" y="6"/>
                      <a:pt x="7235" y="5"/>
                      <a:pt x="7235" y="4"/>
                    </a:cubicBezTo>
                    <a:cubicBezTo>
                      <a:pt x="7235" y="3"/>
                      <a:pt x="7236" y="2"/>
                      <a:pt x="7237" y="2"/>
                    </a:cubicBezTo>
                    <a:close/>
                    <a:moveTo>
                      <a:pt x="7245" y="2"/>
                    </a:moveTo>
                    <a:lnTo>
                      <a:pt x="7245" y="2"/>
                    </a:lnTo>
                    <a:cubicBezTo>
                      <a:pt x="7246" y="2"/>
                      <a:pt x="7247" y="3"/>
                      <a:pt x="7247" y="4"/>
                    </a:cubicBezTo>
                    <a:cubicBezTo>
                      <a:pt x="7247" y="5"/>
                      <a:pt x="7246" y="6"/>
                      <a:pt x="7245" y="6"/>
                    </a:cubicBezTo>
                    <a:lnTo>
                      <a:pt x="7245" y="6"/>
                    </a:lnTo>
                    <a:cubicBezTo>
                      <a:pt x="7244" y="6"/>
                      <a:pt x="7243" y="5"/>
                      <a:pt x="7243" y="4"/>
                    </a:cubicBezTo>
                    <a:cubicBezTo>
                      <a:pt x="7243" y="3"/>
                      <a:pt x="7244" y="2"/>
                      <a:pt x="7245" y="2"/>
                    </a:cubicBezTo>
                    <a:close/>
                    <a:moveTo>
                      <a:pt x="7253" y="2"/>
                    </a:moveTo>
                    <a:lnTo>
                      <a:pt x="7253" y="2"/>
                    </a:lnTo>
                    <a:cubicBezTo>
                      <a:pt x="7254" y="2"/>
                      <a:pt x="7255" y="3"/>
                      <a:pt x="7255" y="4"/>
                    </a:cubicBezTo>
                    <a:cubicBezTo>
                      <a:pt x="7255" y="5"/>
                      <a:pt x="7254" y="6"/>
                      <a:pt x="7253" y="6"/>
                    </a:cubicBezTo>
                    <a:lnTo>
                      <a:pt x="7253" y="6"/>
                    </a:lnTo>
                    <a:cubicBezTo>
                      <a:pt x="7252" y="6"/>
                      <a:pt x="7251" y="5"/>
                      <a:pt x="7251" y="4"/>
                    </a:cubicBezTo>
                    <a:cubicBezTo>
                      <a:pt x="7251" y="3"/>
                      <a:pt x="7252" y="2"/>
                      <a:pt x="7253" y="2"/>
                    </a:cubicBezTo>
                    <a:close/>
                    <a:moveTo>
                      <a:pt x="7261" y="2"/>
                    </a:moveTo>
                    <a:lnTo>
                      <a:pt x="7261" y="2"/>
                    </a:lnTo>
                    <a:cubicBezTo>
                      <a:pt x="7262" y="2"/>
                      <a:pt x="7263" y="3"/>
                      <a:pt x="7263" y="4"/>
                    </a:cubicBezTo>
                    <a:cubicBezTo>
                      <a:pt x="7263" y="5"/>
                      <a:pt x="7262" y="6"/>
                      <a:pt x="7261" y="6"/>
                    </a:cubicBezTo>
                    <a:lnTo>
                      <a:pt x="7261" y="6"/>
                    </a:lnTo>
                    <a:cubicBezTo>
                      <a:pt x="7260" y="6"/>
                      <a:pt x="7259" y="5"/>
                      <a:pt x="7259" y="4"/>
                    </a:cubicBezTo>
                    <a:cubicBezTo>
                      <a:pt x="7259" y="3"/>
                      <a:pt x="7260" y="2"/>
                      <a:pt x="7261" y="2"/>
                    </a:cubicBezTo>
                    <a:close/>
                    <a:moveTo>
                      <a:pt x="7269" y="2"/>
                    </a:moveTo>
                    <a:lnTo>
                      <a:pt x="7269" y="2"/>
                    </a:lnTo>
                    <a:cubicBezTo>
                      <a:pt x="7270" y="2"/>
                      <a:pt x="7271" y="3"/>
                      <a:pt x="7271" y="4"/>
                    </a:cubicBezTo>
                    <a:cubicBezTo>
                      <a:pt x="7271" y="5"/>
                      <a:pt x="7270" y="6"/>
                      <a:pt x="7269" y="6"/>
                    </a:cubicBezTo>
                    <a:lnTo>
                      <a:pt x="7269" y="6"/>
                    </a:lnTo>
                    <a:cubicBezTo>
                      <a:pt x="7268" y="6"/>
                      <a:pt x="7267" y="5"/>
                      <a:pt x="7267" y="4"/>
                    </a:cubicBezTo>
                    <a:cubicBezTo>
                      <a:pt x="7267" y="3"/>
                      <a:pt x="7268" y="2"/>
                      <a:pt x="7269" y="2"/>
                    </a:cubicBezTo>
                    <a:close/>
                    <a:moveTo>
                      <a:pt x="7277" y="2"/>
                    </a:moveTo>
                    <a:lnTo>
                      <a:pt x="7277" y="2"/>
                    </a:lnTo>
                    <a:cubicBezTo>
                      <a:pt x="7278" y="2"/>
                      <a:pt x="7279" y="3"/>
                      <a:pt x="7279" y="4"/>
                    </a:cubicBezTo>
                    <a:cubicBezTo>
                      <a:pt x="7279" y="5"/>
                      <a:pt x="7278" y="6"/>
                      <a:pt x="7277" y="6"/>
                    </a:cubicBezTo>
                    <a:lnTo>
                      <a:pt x="7277" y="6"/>
                    </a:lnTo>
                    <a:cubicBezTo>
                      <a:pt x="7276" y="6"/>
                      <a:pt x="7275" y="5"/>
                      <a:pt x="7275" y="4"/>
                    </a:cubicBezTo>
                    <a:cubicBezTo>
                      <a:pt x="7275" y="3"/>
                      <a:pt x="7276" y="2"/>
                      <a:pt x="7277" y="2"/>
                    </a:cubicBezTo>
                    <a:close/>
                    <a:moveTo>
                      <a:pt x="7285" y="2"/>
                    </a:moveTo>
                    <a:lnTo>
                      <a:pt x="7285" y="2"/>
                    </a:lnTo>
                    <a:cubicBezTo>
                      <a:pt x="7286" y="2"/>
                      <a:pt x="7287" y="3"/>
                      <a:pt x="7287" y="4"/>
                    </a:cubicBezTo>
                    <a:cubicBezTo>
                      <a:pt x="7287" y="5"/>
                      <a:pt x="7286" y="6"/>
                      <a:pt x="7285" y="6"/>
                    </a:cubicBezTo>
                    <a:lnTo>
                      <a:pt x="7285" y="6"/>
                    </a:lnTo>
                    <a:cubicBezTo>
                      <a:pt x="7284" y="6"/>
                      <a:pt x="7283" y="5"/>
                      <a:pt x="7283" y="4"/>
                    </a:cubicBezTo>
                    <a:cubicBezTo>
                      <a:pt x="7283" y="3"/>
                      <a:pt x="7284" y="2"/>
                      <a:pt x="7285" y="2"/>
                    </a:cubicBezTo>
                    <a:close/>
                    <a:moveTo>
                      <a:pt x="7293" y="2"/>
                    </a:moveTo>
                    <a:lnTo>
                      <a:pt x="7293" y="2"/>
                    </a:lnTo>
                    <a:cubicBezTo>
                      <a:pt x="7294" y="2"/>
                      <a:pt x="7295" y="3"/>
                      <a:pt x="7295" y="4"/>
                    </a:cubicBezTo>
                    <a:cubicBezTo>
                      <a:pt x="7295" y="5"/>
                      <a:pt x="7294" y="6"/>
                      <a:pt x="7293" y="6"/>
                    </a:cubicBezTo>
                    <a:lnTo>
                      <a:pt x="7293" y="6"/>
                    </a:lnTo>
                    <a:cubicBezTo>
                      <a:pt x="7292" y="6"/>
                      <a:pt x="7291" y="5"/>
                      <a:pt x="7291" y="4"/>
                    </a:cubicBezTo>
                    <a:cubicBezTo>
                      <a:pt x="7291" y="3"/>
                      <a:pt x="7292" y="2"/>
                      <a:pt x="7293" y="2"/>
                    </a:cubicBezTo>
                    <a:close/>
                    <a:moveTo>
                      <a:pt x="7301" y="2"/>
                    </a:moveTo>
                    <a:lnTo>
                      <a:pt x="7301" y="2"/>
                    </a:lnTo>
                    <a:cubicBezTo>
                      <a:pt x="7302" y="2"/>
                      <a:pt x="7303" y="3"/>
                      <a:pt x="7303" y="4"/>
                    </a:cubicBezTo>
                    <a:cubicBezTo>
                      <a:pt x="7303" y="5"/>
                      <a:pt x="7302" y="6"/>
                      <a:pt x="7301" y="6"/>
                    </a:cubicBezTo>
                    <a:lnTo>
                      <a:pt x="7301" y="6"/>
                    </a:lnTo>
                    <a:cubicBezTo>
                      <a:pt x="7300" y="6"/>
                      <a:pt x="7299" y="5"/>
                      <a:pt x="7299" y="4"/>
                    </a:cubicBezTo>
                    <a:cubicBezTo>
                      <a:pt x="7299" y="3"/>
                      <a:pt x="7300" y="2"/>
                      <a:pt x="7301" y="2"/>
                    </a:cubicBezTo>
                    <a:close/>
                    <a:moveTo>
                      <a:pt x="7309" y="2"/>
                    </a:moveTo>
                    <a:lnTo>
                      <a:pt x="7309" y="2"/>
                    </a:lnTo>
                    <a:cubicBezTo>
                      <a:pt x="7310" y="2"/>
                      <a:pt x="7311" y="3"/>
                      <a:pt x="7311" y="4"/>
                    </a:cubicBezTo>
                    <a:cubicBezTo>
                      <a:pt x="7311" y="5"/>
                      <a:pt x="7310" y="6"/>
                      <a:pt x="7309" y="6"/>
                    </a:cubicBezTo>
                    <a:lnTo>
                      <a:pt x="7309" y="6"/>
                    </a:lnTo>
                    <a:cubicBezTo>
                      <a:pt x="7308" y="6"/>
                      <a:pt x="7307" y="5"/>
                      <a:pt x="7307" y="4"/>
                    </a:cubicBezTo>
                    <a:cubicBezTo>
                      <a:pt x="7307" y="3"/>
                      <a:pt x="7308" y="2"/>
                      <a:pt x="7309" y="2"/>
                    </a:cubicBezTo>
                    <a:close/>
                    <a:moveTo>
                      <a:pt x="7317" y="2"/>
                    </a:moveTo>
                    <a:lnTo>
                      <a:pt x="7317" y="2"/>
                    </a:lnTo>
                    <a:cubicBezTo>
                      <a:pt x="7319" y="2"/>
                      <a:pt x="7319" y="3"/>
                      <a:pt x="7319" y="4"/>
                    </a:cubicBezTo>
                    <a:cubicBezTo>
                      <a:pt x="7319" y="5"/>
                      <a:pt x="7319" y="6"/>
                      <a:pt x="7317" y="6"/>
                    </a:cubicBezTo>
                    <a:lnTo>
                      <a:pt x="7317" y="6"/>
                    </a:lnTo>
                    <a:cubicBezTo>
                      <a:pt x="7316" y="6"/>
                      <a:pt x="7315" y="5"/>
                      <a:pt x="7315" y="4"/>
                    </a:cubicBezTo>
                    <a:cubicBezTo>
                      <a:pt x="7315" y="3"/>
                      <a:pt x="7316" y="2"/>
                      <a:pt x="7317" y="2"/>
                    </a:cubicBezTo>
                    <a:close/>
                    <a:moveTo>
                      <a:pt x="7325" y="2"/>
                    </a:moveTo>
                    <a:lnTo>
                      <a:pt x="7325" y="2"/>
                    </a:lnTo>
                    <a:cubicBezTo>
                      <a:pt x="7327" y="2"/>
                      <a:pt x="7327" y="3"/>
                      <a:pt x="7327" y="4"/>
                    </a:cubicBezTo>
                    <a:cubicBezTo>
                      <a:pt x="7327" y="5"/>
                      <a:pt x="7327" y="6"/>
                      <a:pt x="7325" y="6"/>
                    </a:cubicBezTo>
                    <a:lnTo>
                      <a:pt x="7325" y="6"/>
                    </a:lnTo>
                    <a:cubicBezTo>
                      <a:pt x="7324" y="6"/>
                      <a:pt x="7323" y="5"/>
                      <a:pt x="7323" y="4"/>
                    </a:cubicBezTo>
                    <a:cubicBezTo>
                      <a:pt x="7323" y="3"/>
                      <a:pt x="7324" y="2"/>
                      <a:pt x="7325" y="2"/>
                    </a:cubicBezTo>
                    <a:close/>
                    <a:moveTo>
                      <a:pt x="7333" y="2"/>
                    </a:moveTo>
                    <a:lnTo>
                      <a:pt x="7333" y="2"/>
                    </a:lnTo>
                    <a:cubicBezTo>
                      <a:pt x="7335" y="2"/>
                      <a:pt x="7335" y="3"/>
                      <a:pt x="7335" y="4"/>
                    </a:cubicBezTo>
                    <a:cubicBezTo>
                      <a:pt x="7335" y="5"/>
                      <a:pt x="7335" y="6"/>
                      <a:pt x="7333" y="6"/>
                    </a:cubicBezTo>
                    <a:lnTo>
                      <a:pt x="7333" y="6"/>
                    </a:lnTo>
                    <a:cubicBezTo>
                      <a:pt x="7332" y="6"/>
                      <a:pt x="7331" y="5"/>
                      <a:pt x="7331" y="4"/>
                    </a:cubicBezTo>
                    <a:cubicBezTo>
                      <a:pt x="7331" y="3"/>
                      <a:pt x="7332" y="2"/>
                      <a:pt x="7333" y="2"/>
                    </a:cubicBezTo>
                    <a:close/>
                    <a:moveTo>
                      <a:pt x="7341" y="2"/>
                    </a:moveTo>
                    <a:lnTo>
                      <a:pt x="7341" y="2"/>
                    </a:lnTo>
                    <a:cubicBezTo>
                      <a:pt x="7343" y="2"/>
                      <a:pt x="7343" y="3"/>
                      <a:pt x="7343" y="4"/>
                    </a:cubicBezTo>
                    <a:cubicBezTo>
                      <a:pt x="7343" y="5"/>
                      <a:pt x="7343" y="6"/>
                      <a:pt x="7341" y="6"/>
                    </a:cubicBezTo>
                    <a:lnTo>
                      <a:pt x="7341" y="6"/>
                    </a:lnTo>
                    <a:cubicBezTo>
                      <a:pt x="7340" y="6"/>
                      <a:pt x="7339" y="5"/>
                      <a:pt x="7339" y="4"/>
                    </a:cubicBezTo>
                    <a:cubicBezTo>
                      <a:pt x="7339" y="3"/>
                      <a:pt x="7340" y="2"/>
                      <a:pt x="7341" y="2"/>
                    </a:cubicBezTo>
                    <a:close/>
                    <a:moveTo>
                      <a:pt x="7349" y="2"/>
                    </a:moveTo>
                    <a:lnTo>
                      <a:pt x="7349" y="2"/>
                    </a:lnTo>
                    <a:cubicBezTo>
                      <a:pt x="7351" y="2"/>
                      <a:pt x="7351" y="3"/>
                      <a:pt x="7351" y="4"/>
                    </a:cubicBezTo>
                    <a:cubicBezTo>
                      <a:pt x="7351" y="5"/>
                      <a:pt x="7351" y="6"/>
                      <a:pt x="7349" y="6"/>
                    </a:cubicBezTo>
                    <a:lnTo>
                      <a:pt x="7349" y="6"/>
                    </a:lnTo>
                    <a:cubicBezTo>
                      <a:pt x="7348" y="6"/>
                      <a:pt x="7347" y="5"/>
                      <a:pt x="7347" y="4"/>
                    </a:cubicBezTo>
                    <a:cubicBezTo>
                      <a:pt x="7347" y="3"/>
                      <a:pt x="7348" y="2"/>
                      <a:pt x="7349" y="2"/>
                    </a:cubicBezTo>
                    <a:close/>
                    <a:moveTo>
                      <a:pt x="7357" y="2"/>
                    </a:moveTo>
                    <a:lnTo>
                      <a:pt x="7357" y="2"/>
                    </a:lnTo>
                    <a:cubicBezTo>
                      <a:pt x="7359" y="2"/>
                      <a:pt x="7359" y="3"/>
                      <a:pt x="7359" y="4"/>
                    </a:cubicBezTo>
                    <a:cubicBezTo>
                      <a:pt x="7359" y="5"/>
                      <a:pt x="7359" y="6"/>
                      <a:pt x="7357" y="6"/>
                    </a:cubicBezTo>
                    <a:lnTo>
                      <a:pt x="7357" y="6"/>
                    </a:lnTo>
                    <a:cubicBezTo>
                      <a:pt x="7356" y="6"/>
                      <a:pt x="7355" y="5"/>
                      <a:pt x="7355" y="4"/>
                    </a:cubicBezTo>
                    <a:cubicBezTo>
                      <a:pt x="7355" y="3"/>
                      <a:pt x="7356" y="2"/>
                      <a:pt x="7357" y="2"/>
                    </a:cubicBezTo>
                    <a:close/>
                    <a:moveTo>
                      <a:pt x="7365" y="2"/>
                    </a:moveTo>
                    <a:lnTo>
                      <a:pt x="7365" y="2"/>
                    </a:lnTo>
                    <a:cubicBezTo>
                      <a:pt x="7367" y="2"/>
                      <a:pt x="7367" y="3"/>
                      <a:pt x="7367" y="4"/>
                    </a:cubicBezTo>
                    <a:cubicBezTo>
                      <a:pt x="7367" y="5"/>
                      <a:pt x="7367" y="6"/>
                      <a:pt x="7365" y="6"/>
                    </a:cubicBezTo>
                    <a:lnTo>
                      <a:pt x="7365" y="6"/>
                    </a:lnTo>
                    <a:cubicBezTo>
                      <a:pt x="7364" y="6"/>
                      <a:pt x="7363" y="5"/>
                      <a:pt x="7363" y="4"/>
                    </a:cubicBezTo>
                    <a:cubicBezTo>
                      <a:pt x="7363" y="3"/>
                      <a:pt x="7364" y="2"/>
                      <a:pt x="7365" y="2"/>
                    </a:cubicBezTo>
                    <a:close/>
                    <a:moveTo>
                      <a:pt x="7373" y="2"/>
                    </a:moveTo>
                    <a:lnTo>
                      <a:pt x="7373" y="2"/>
                    </a:lnTo>
                    <a:cubicBezTo>
                      <a:pt x="7375" y="2"/>
                      <a:pt x="7375" y="3"/>
                      <a:pt x="7375" y="4"/>
                    </a:cubicBezTo>
                    <a:cubicBezTo>
                      <a:pt x="7375" y="5"/>
                      <a:pt x="7375" y="6"/>
                      <a:pt x="7373" y="6"/>
                    </a:cubicBezTo>
                    <a:lnTo>
                      <a:pt x="7373" y="6"/>
                    </a:lnTo>
                    <a:cubicBezTo>
                      <a:pt x="7372" y="6"/>
                      <a:pt x="7371" y="5"/>
                      <a:pt x="7371" y="4"/>
                    </a:cubicBezTo>
                    <a:cubicBezTo>
                      <a:pt x="7371" y="3"/>
                      <a:pt x="7372" y="2"/>
                      <a:pt x="7373" y="2"/>
                    </a:cubicBezTo>
                    <a:close/>
                    <a:moveTo>
                      <a:pt x="7381" y="2"/>
                    </a:moveTo>
                    <a:lnTo>
                      <a:pt x="7381" y="2"/>
                    </a:lnTo>
                    <a:cubicBezTo>
                      <a:pt x="7383" y="2"/>
                      <a:pt x="7383" y="3"/>
                      <a:pt x="7383" y="4"/>
                    </a:cubicBezTo>
                    <a:cubicBezTo>
                      <a:pt x="7383" y="5"/>
                      <a:pt x="7383" y="6"/>
                      <a:pt x="7381" y="6"/>
                    </a:cubicBezTo>
                    <a:lnTo>
                      <a:pt x="7381" y="6"/>
                    </a:lnTo>
                    <a:cubicBezTo>
                      <a:pt x="7380" y="6"/>
                      <a:pt x="7379" y="5"/>
                      <a:pt x="7379" y="4"/>
                    </a:cubicBezTo>
                    <a:cubicBezTo>
                      <a:pt x="7379" y="3"/>
                      <a:pt x="7380" y="2"/>
                      <a:pt x="7381" y="2"/>
                    </a:cubicBezTo>
                    <a:close/>
                    <a:moveTo>
                      <a:pt x="7389" y="2"/>
                    </a:moveTo>
                    <a:lnTo>
                      <a:pt x="7389" y="2"/>
                    </a:lnTo>
                    <a:cubicBezTo>
                      <a:pt x="7391" y="2"/>
                      <a:pt x="7391" y="3"/>
                      <a:pt x="7391" y="4"/>
                    </a:cubicBezTo>
                    <a:cubicBezTo>
                      <a:pt x="7391" y="5"/>
                      <a:pt x="7391" y="6"/>
                      <a:pt x="7389" y="6"/>
                    </a:cubicBezTo>
                    <a:lnTo>
                      <a:pt x="7389" y="6"/>
                    </a:lnTo>
                    <a:cubicBezTo>
                      <a:pt x="7388" y="6"/>
                      <a:pt x="7387" y="5"/>
                      <a:pt x="7387" y="4"/>
                    </a:cubicBezTo>
                    <a:cubicBezTo>
                      <a:pt x="7387" y="3"/>
                      <a:pt x="7388" y="2"/>
                      <a:pt x="7389" y="2"/>
                    </a:cubicBezTo>
                    <a:close/>
                    <a:moveTo>
                      <a:pt x="7397" y="2"/>
                    </a:moveTo>
                    <a:lnTo>
                      <a:pt x="7397" y="2"/>
                    </a:lnTo>
                    <a:cubicBezTo>
                      <a:pt x="7399" y="2"/>
                      <a:pt x="7399" y="3"/>
                      <a:pt x="7399" y="4"/>
                    </a:cubicBezTo>
                    <a:cubicBezTo>
                      <a:pt x="7399" y="5"/>
                      <a:pt x="7399" y="6"/>
                      <a:pt x="7397" y="6"/>
                    </a:cubicBezTo>
                    <a:lnTo>
                      <a:pt x="7397" y="6"/>
                    </a:lnTo>
                    <a:cubicBezTo>
                      <a:pt x="7396" y="6"/>
                      <a:pt x="7395" y="5"/>
                      <a:pt x="7395" y="4"/>
                    </a:cubicBezTo>
                    <a:cubicBezTo>
                      <a:pt x="7395" y="3"/>
                      <a:pt x="7396" y="2"/>
                      <a:pt x="7397" y="2"/>
                    </a:cubicBezTo>
                    <a:close/>
                    <a:moveTo>
                      <a:pt x="7405" y="2"/>
                    </a:moveTo>
                    <a:lnTo>
                      <a:pt x="7405" y="2"/>
                    </a:lnTo>
                    <a:cubicBezTo>
                      <a:pt x="7407" y="2"/>
                      <a:pt x="7407" y="3"/>
                      <a:pt x="7407" y="4"/>
                    </a:cubicBezTo>
                    <a:cubicBezTo>
                      <a:pt x="7407" y="5"/>
                      <a:pt x="7407" y="6"/>
                      <a:pt x="7405" y="6"/>
                    </a:cubicBezTo>
                    <a:lnTo>
                      <a:pt x="7405" y="6"/>
                    </a:lnTo>
                    <a:cubicBezTo>
                      <a:pt x="7404" y="6"/>
                      <a:pt x="7403" y="5"/>
                      <a:pt x="7403" y="4"/>
                    </a:cubicBezTo>
                    <a:cubicBezTo>
                      <a:pt x="7403" y="3"/>
                      <a:pt x="7404" y="2"/>
                      <a:pt x="7405" y="2"/>
                    </a:cubicBezTo>
                    <a:close/>
                    <a:moveTo>
                      <a:pt x="7413" y="2"/>
                    </a:moveTo>
                    <a:lnTo>
                      <a:pt x="7413" y="2"/>
                    </a:lnTo>
                    <a:cubicBezTo>
                      <a:pt x="7415" y="2"/>
                      <a:pt x="7415" y="3"/>
                      <a:pt x="7415" y="4"/>
                    </a:cubicBezTo>
                    <a:cubicBezTo>
                      <a:pt x="7415" y="5"/>
                      <a:pt x="7415" y="6"/>
                      <a:pt x="7413" y="6"/>
                    </a:cubicBezTo>
                    <a:lnTo>
                      <a:pt x="7413" y="6"/>
                    </a:lnTo>
                    <a:cubicBezTo>
                      <a:pt x="7412" y="6"/>
                      <a:pt x="7411" y="5"/>
                      <a:pt x="7411" y="4"/>
                    </a:cubicBezTo>
                    <a:cubicBezTo>
                      <a:pt x="7411" y="3"/>
                      <a:pt x="7412" y="2"/>
                      <a:pt x="7413" y="2"/>
                    </a:cubicBezTo>
                    <a:close/>
                    <a:moveTo>
                      <a:pt x="7421" y="2"/>
                    </a:moveTo>
                    <a:lnTo>
                      <a:pt x="7421" y="2"/>
                    </a:lnTo>
                    <a:cubicBezTo>
                      <a:pt x="7423" y="2"/>
                      <a:pt x="7423" y="3"/>
                      <a:pt x="7423" y="4"/>
                    </a:cubicBezTo>
                    <a:cubicBezTo>
                      <a:pt x="7423" y="5"/>
                      <a:pt x="7423" y="6"/>
                      <a:pt x="7421" y="6"/>
                    </a:cubicBezTo>
                    <a:lnTo>
                      <a:pt x="7421" y="6"/>
                    </a:lnTo>
                    <a:cubicBezTo>
                      <a:pt x="7420" y="6"/>
                      <a:pt x="7419" y="5"/>
                      <a:pt x="7419" y="4"/>
                    </a:cubicBezTo>
                    <a:cubicBezTo>
                      <a:pt x="7419" y="3"/>
                      <a:pt x="7420" y="2"/>
                      <a:pt x="7421" y="2"/>
                    </a:cubicBezTo>
                    <a:close/>
                    <a:moveTo>
                      <a:pt x="7429" y="2"/>
                    </a:moveTo>
                    <a:lnTo>
                      <a:pt x="7429" y="2"/>
                    </a:lnTo>
                    <a:cubicBezTo>
                      <a:pt x="7431" y="2"/>
                      <a:pt x="7431" y="3"/>
                      <a:pt x="7431" y="4"/>
                    </a:cubicBezTo>
                    <a:cubicBezTo>
                      <a:pt x="7431" y="5"/>
                      <a:pt x="7431" y="6"/>
                      <a:pt x="7429" y="6"/>
                    </a:cubicBezTo>
                    <a:lnTo>
                      <a:pt x="7429" y="6"/>
                    </a:lnTo>
                    <a:cubicBezTo>
                      <a:pt x="7428" y="6"/>
                      <a:pt x="7427" y="5"/>
                      <a:pt x="7427" y="4"/>
                    </a:cubicBezTo>
                    <a:cubicBezTo>
                      <a:pt x="7427" y="3"/>
                      <a:pt x="7428" y="2"/>
                      <a:pt x="7429" y="2"/>
                    </a:cubicBezTo>
                    <a:close/>
                    <a:moveTo>
                      <a:pt x="7437" y="2"/>
                    </a:moveTo>
                    <a:lnTo>
                      <a:pt x="7437" y="2"/>
                    </a:lnTo>
                    <a:cubicBezTo>
                      <a:pt x="7439" y="2"/>
                      <a:pt x="7439" y="3"/>
                      <a:pt x="7439" y="4"/>
                    </a:cubicBezTo>
                    <a:cubicBezTo>
                      <a:pt x="7439" y="5"/>
                      <a:pt x="7439" y="6"/>
                      <a:pt x="7437" y="6"/>
                    </a:cubicBezTo>
                    <a:lnTo>
                      <a:pt x="7437" y="6"/>
                    </a:lnTo>
                    <a:cubicBezTo>
                      <a:pt x="7436" y="6"/>
                      <a:pt x="7435" y="5"/>
                      <a:pt x="7435" y="4"/>
                    </a:cubicBezTo>
                    <a:cubicBezTo>
                      <a:pt x="7435" y="3"/>
                      <a:pt x="7436" y="2"/>
                      <a:pt x="7437" y="2"/>
                    </a:cubicBezTo>
                    <a:close/>
                    <a:moveTo>
                      <a:pt x="7445" y="2"/>
                    </a:moveTo>
                    <a:lnTo>
                      <a:pt x="7445" y="2"/>
                    </a:lnTo>
                    <a:cubicBezTo>
                      <a:pt x="7447" y="2"/>
                      <a:pt x="7447" y="3"/>
                      <a:pt x="7447" y="4"/>
                    </a:cubicBezTo>
                    <a:cubicBezTo>
                      <a:pt x="7447" y="5"/>
                      <a:pt x="7447" y="6"/>
                      <a:pt x="7445" y="6"/>
                    </a:cubicBezTo>
                    <a:lnTo>
                      <a:pt x="7445" y="6"/>
                    </a:lnTo>
                    <a:cubicBezTo>
                      <a:pt x="7444" y="6"/>
                      <a:pt x="7443" y="5"/>
                      <a:pt x="7443" y="4"/>
                    </a:cubicBezTo>
                    <a:cubicBezTo>
                      <a:pt x="7443" y="3"/>
                      <a:pt x="7444" y="2"/>
                      <a:pt x="7445" y="2"/>
                    </a:cubicBezTo>
                    <a:close/>
                    <a:moveTo>
                      <a:pt x="7453" y="2"/>
                    </a:moveTo>
                    <a:lnTo>
                      <a:pt x="7453" y="2"/>
                    </a:lnTo>
                    <a:cubicBezTo>
                      <a:pt x="7455" y="2"/>
                      <a:pt x="7455" y="3"/>
                      <a:pt x="7455" y="4"/>
                    </a:cubicBezTo>
                    <a:cubicBezTo>
                      <a:pt x="7455" y="5"/>
                      <a:pt x="7455" y="6"/>
                      <a:pt x="7453" y="6"/>
                    </a:cubicBezTo>
                    <a:lnTo>
                      <a:pt x="7453" y="6"/>
                    </a:lnTo>
                    <a:cubicBezTo>
                      <a:pt x="7452" y="6"/>
                      <a:pt x="7451" y="5"/>
                      <a:pt x="7451" y="4"/>
                    </a:cubicBezTo>
                    <a:cubicBezTo>
                      <a:pt x="7451" y="3"/>
                      <a:pt x="7452" y="2"/>
                      <a:pt x="7453" y="2"/>
                    </a:cubicBezTo>
                    <a:close/>
                    <a:moveTo>
                      <a:pt x="7461" y="2"/>
                    </a:moveTo>
                    <a:lnTo>
                      <a:pt x="7461" y="2"/>
                    </a:lnTo>
                    <a:cubicBezTo>
                      <a:pt x="7463" y="2"/>
                      <a:pt x="7463" y="3"/>
                      <a:pt x="7463" y="4"/>
                    </a:cubicBezTo>
                    <a:cubicBezTo>
                      <a:pt x="7463" y="5"/>
                      <a:pt x="7463" y="6"/>
                      <a:pt x="7461" y="6"/>
                    </a:cubicBezTo>
                    <a:lnTo>
                      <a:pt x="7461" y="6"/>
                    </a:lnTo>
                    <a:cubicBezTo>
                      <a:pt x="7460" y="6"/>
                      <a:pt x="7459" y="5"/>
                      <a:pt x="7459" y="4"/>
                    </a:cubicBezTo>
                    <a:cubicBezTo>
                      <a:pt x="7459" y="3"/>
                      <a:pt x="7460" y="2"/>
                      <a:pt x="7461" y="2"/>
                    </a:cubicBezTo>
                    <a:close/>
                    <a:moveTo>
                      <a:pt x="7469" y="2"/>
                    </a:moveTo>
                    <a:lnTo>
                      <a:pt x="7469" y="2"/>
                    </a:lnTo>
                    <a:cubicBezTo>
                      <a:pt x="7471" y="2"/>
                      <a:pt x="7471" y="3"/>
                      <a:pt x="7471" y="4"/>
                    </a:cubicBezTo>
                    <a:cubicBezTo>
                      <a:pt x="7471" y="5"/>
                      <a:pt x="7471" y="6"/>
                      <a:pt x="7469" y="6"/>
                    </a:cubicBezTo>
                    <a:lnTo>
                      <a:pt x="7469" y="6"/>
                    </a:lnTo>
                    <a:cubicBezTo>
                      <a:pt x="7468" y="6"/>
                      <a:pt x="7467" y="5"/>
                      <a:pt x="7467" y="4"/>
                    </a:cubicBezTo>
                    <a:cubicBezTo>
                      <a:pt x="7467" y="3"/>
                      <a:pt x="7468" y="2"/>
                      <a:pt x="7469" y="2"/>
                    </a:cubicBezTo>
                    <a:close/>
                    <a:moveTo>
                      <a:pt x="7477" y="2"/>
                    </a:moveTo>
                    <a:lnTo>
                      <a:pt x="7477" y="2"/>
                    </a:lnTo>
                    <a:cubicBezTo>
                      <a:pt x="7479" y="2"/>
                      <a:pt x="7479" y="3"/>
                      <a:pt x="7479" y="4"/>
                    </a:cubicBezTo>
                    <a:cubicBezTo>
                      <a:pt x="7479" y="5"/>
                      <a:pt x="7479" y="6"/>
                      <a:pt x="7477" y="6"/>
                    </a:cubicBezTo>
                    <a:lnTo>
                      <a:pt x="7477" y="6"/>
                    </a:lnTo>
                    <a:cubicBezTo>
                      <a:pt x="7476" y="6"/>
                      <a:pt x="7475" y="5"/>
                      <a:pt x="7475" y="4"/>
                    </a:cubicBezTo>
                    <a:cubicBezTo>
                      <a:pt x="7475" y="3"/>
                      <a:pt x="7476" y="2"/>
                      <a:pt x="7477" y="2"/>
                    </a:cubicBezTo>
                    <a:close/>
                    <a:moveTo>
                      <a:pt x="7485" y="2"/>
                    </a:moveTo>
                    <a:lnTo>
                      <a:pt x="7485" y="2"/>
                    </a:lnTo>
                    <a:cubicBezTo>
                      <a:pt x="7487" y="2"/>
                      <a:pt x="7487" y="3"/>
                      <a:pt x="7487" y="4"/>
                    </a:cubicBezTo>
                    <a:cubicBezTo>
                      <a:pt x="7487" y="5"/>
                      <a:pt x="7487" y="6"/>
                      <a:pt x="7485" y="6"/>
                    </a:cubicBezTo>
                    <a:lnTo>
                      <a:pt x="7485" y="6"/>
                    </a:lnTo>
                    <a:cubicBezTo>
                      <a:pt x="7484" y="6"/>
                      <a:pt x="7483" y="5"/>
                      <a:pt x="7483" y="4"/>
                    </a:cubicBezTo>
                    <a:cubicBezTo>
                      <a:pt x="7483" y="3"/>
                      <a:pt x="7484" y="2"/>
                      <a:pt x="7485" y="2"/>
                    </a:cubicBezTo>
                    <a:close/>
                    <a:moveTo>
                      <a:pt x="7493" y="2"/>
                    </a:moveTo>
                    <a:lnTo>
                      <a:pt x="7493" y="2"/>
                    </a:lnTo>
                    <a:cubicBezTo>
                      <a:pt x="7495" y="2"/>
                      <a:pt x="7495" y="3"/>
                      <a:pt x="7495" y="4"/>
                    </a:cubicBezTo>
                    <a:cubicBezTo>
                      <a:pt x="7495" y="5"/>
                      <a:pt x="7495" y="6"/>
                      <a:pt x="7493" y="6"/>
                    </a:cubicBezTo>
                    <a:lnTo>
                      <a:pt x="7493" y="6"/>
                    </a:lnTo>
                    <a:cubicBezTo>
                      <a:pt x="7492" y="6"/>
                      <a:pt x="7491" y="5"/>
                      <a:pt x="7491" y="4"/>
                    </a:cubicBezTo>
                    <a:cubicBezTo>
                      <a:pt x="7491" y="3"/>
                      <a:pt x="7492" y="2"/>
                      <a:pt x="7493" y="2"/>
                    </a:cubicBezTo>
                    <a:close/>
                    <a:moveTo>
                      <a:pt x="7501" y="2"/>
                    </a:moveTo>
                    <a:lnTo>
                      <a:pt x="7501" y="2"/>
                    </a:lnTo>
                    <a:cubicBezTo>
                      <a:pt x="7503" y="2"/>
                      <a:pt x="7503" y="3"/>
                      <a:pt x="7503" y="4"/>
                    </a:cubicBezTo>
                    <a:cubicBezTo>
                      <a:pt x="7503" y="5"/>
                      <a:pt x="7503" y="6"/>
                      <a:pt x="7501" y="6"/>
                    </a:cubicBezTo>
                    <a:lnTo>
                      <a:pt x="7501" y="6"/>
                    </a:lnTo>
                    <a:cubicBezTo>
                      <a:pt x="7500" y="6"/>
                      <a:pt x="7499" y="5"/>
                      <a:pt x="7499" y="4"/>
                    </a:cubicBezTo>
                    <a:cubicBezTo>
                      <a:pt x="7499" y="3"/>
                      <a:pt x="7500" y="2"/>
                      <a:pt x="7501" y="2"/>
                    </a:cubicBezTo>
                    <a:close/>
                    <a:moveTo>
                      <a:pt x="7509" y="2"/>
                    </a:moveTo>
                    <a:lnTo>
                      <a:pt x="7509" y="2"/>
                    </a:lnTo>
                    <a:cubicBezTo>
                      <a:pt x="7511" y="2"/>
                      <a:pt x="7511" y="3"/>
                      <a:pt x="7511" y="4"/>
                    </a:cubicBezTo>
                    <a:cubicBezTo>
                      <a:pt x="7511" y="5"/>
                      <a:pt x="7511" y="6"/>
                      <a:pt x="7509" y="6"/>
                    </a:cubicBezTo>
                    <a:lnTo>
                      <a:pt x="7509" y="6"/>
                    </a:lnTo>
                    <a:cubicBezTo>
                      <a:pt x="7508" y="6"/>
                      <a:pt x="7507" y="5"/>
                      <a:pt x="7507" y="4"/>
                    </a:cubicBezTo>
                    <a:cubicBezTo>
                      <a:pt x="7507" y="3"/>
                      <a:pt x="7508" y="2"/>
                      <a:pt x="7509" y="2"/>
                    </a:cubicBezTo>
                    <a:close/>
                    <a:moveTo>
                      <a:pt x="7517" y="2"/>
                    </a:moveTo>
                    <a:lnTo>
                      <a:pt x="7517" y="2"/>
                    </a:lnTo>
                    <a:cubicBezTo>
                      <a:pt x="7519" y="2"/>
                      <a:pt x="7519" y="3"/>
                      <a:pt x="7519" y="4"/>
                    </a:cubicBezTo>
                    <a:cubicBezTo>
                      <a:pt x="7519" y="5"/>
                      <a:pt x="7519" y="6"/>
                      <a:pt x="7517" y="6"/>
                    </a:cubicBezTo>
                    <a:lnTo>
                      <a:pt x="7517" y="6"/>
                    </a:lnTo>
                    <a:cubicBezTo>
                      <a:pt x="7516" y="6"/>
                      <a:pt x="7515" y="5"/>
                      <a:pt x="7515" y="4"/>
                    </a:cubicBezTo>
                    <a:cubicBezTo>
                      <a:pt x="7515" y="3"/>
                      <a:pt x="7516" y="2"/>
                      <a:pt x="7517" y="2"/>
                    </a:cubicBezTo>
                    <a:close/>
                    <a:moveTo>
                      <a:pt x="7525" y="2"/>
                    </a:moveTo>
                    <a:lnTo>
                      <a:pt x="7525" y="2"/>
                    </a:lnTo>
                    <a:cubicBezTo>
                      <a:pt x="7527" y="2"/>
                      <a:pt x="7527" y="3"/>
                      <a:pt x="7527" y="4"/>
                    </a:cubicBezTo>
                    <a:cubicBezTo>
                      <a:pt x="7527" y="5"/>
                      <a:pt x="7527" y="6"/>
                      <a:pt x="7525" y="6"/>
                    </a:cubicBezTo>
                    <a:lnTo>
                      <a:pt x="7525" y="6"/>
                    </a:lnTo>
                    <a:cubicBezTo>
                      <a:pt x="7524" y="6"/>
                      <a:pt x="7523" y="5"/>
                      <a:pt x="7523" y="4"/>
                    </a:cubicBezTo>
                    <a:cubicBezTo>
                      <a:pt x="7523" y="3"/>
                      <a:pt x="7524" y="2"/>
                      <a:pt x="7525" y="2"/>
                    </a:cubicBezTo>
                    <a:close/>
                    <a:moveTo>
                      <a:pt x="7533" y="2"/>
                    </a:moveTo>
                    <a:lnTo>
                      <a:pt x="7534" y="2"/>
                    </a:lnTo>
                    <a:cubicBezTo>
                      <a:pt x="7535" y="2"/>
                      <a:pt x="7536" y="3"/>
                      <a:pt x="7536" y="4"/>
                    </a:cubicBezTo>
                    <a:cubicBezTo>
                      <a:pt x="7536" y="5"/>
                      <a:pt x="7535" y="6"/>
                      <a:pt x="7534" y="6"/>
                    </a:cubicBezTo>
                    <a:lnTo>
                      <a:pt x="7533" y="6"/>
                    </a:lnTo>
                    <a:cubicBezTo>
                      <a:pt x="7532" y="6"/>
                      <a:pt x="7531" y="5"/>
                      <a:pt x="7531" y="4"/>
                    </a:cubicBezTo>
                    <a:cubicBezTo>
                      <a:pt x="7531" y="3"/>
                      <a:pt x="7532" y="2"/>
                      <a:pt x="7533" y="2"/>
                    </a:cubicBezTo>
                    <a:close/>
                    <a:moveTo>
                      <a:pt x="7542" y="2"/>
                    </a:moveTo>
                    <a:lnTo>
                      <a:pt x="7542" y="2"/>
                    </a:lnTo>
                    <a:cubicBezTo>
                      <a:pt x="7543" y="2"/>
                      <a:pt x="7544" y="3"/>
                      <a:pt x="7544" y="4"/>
                    </a:cubicBezTo>
                    <a:cubicBezTo>
                      <a:pt x="7544" y="5"/>
                      <a:pt x="7543" y="6"/>
                      <a:pt x="7542" y="6"/>
                    </a:cubicBezTo>
                    <a:lnTo>
                      <a:pt x="7542" y="6"/>
                    </a:lnTo>
                    <a:cubicBezTo>
                      <a:pt x="7540" y="6"/>
                      <a:pt x="7540" y="5"/>
                      <a:pt x="7540" y="4"/>
                    </a:cubicBezTo>
                    <a:cubicBezTo>
                      <a:pt x="7540" y="3"/>
                      <a:pt x="7540" y="2"/>
                      <a:pt x="7542" y="2"/>
                    </a:cubicBezTo>
                    <a:close/>
                    <a:moveTo>
                      <a:pt x="7550" y="2"/>
                    </a:moveTo>
                    <a:lnTo>
                      <a:pt x="7550" y="2"/>
                    </a:lnTo>
                    <a:cubicBezTo>
                      <a:pt x="7551" y="2"/>
                      <a:pt x="7552" y="3"/>
                      <a:pt x="7552" y="4"/>
                    </a:cubicBezTo>
                    <a:cubicBezTo>
                      <a:pt x="7552" y="5"/>
                      <a:pt x="7551" y="6"/>
                      <a:pt x="7550" y="6"/>
                    </a:cubicBezTo>
                    <a:lnTo>
                      <a:pt x="7550" y="6"/>
                    </a:lnTo>
                    <a:cubicBezTo>
                      <a:pt x="7548" y="6"/>
                      <a:pt x="7548" y="5"/>
                      <a:pt x="7548" y="4"/>
                    </a:cubicBezTo>
                    <a:cubicBezTo>
                      <a:pt x="7548" y="3"/>
                      <a:pt x="7548" y="2"/>
                      <a:pt x="7550" y="2"/>
                    </a:cubicBezTo>
                    <a:close/>
                    <a:moveTo>
                      <a:pt x="7558" y="2"/>
                    </a:moveTo>
                    <a:lnTo>
                      <a:pt x="7558" y="2"/>
                    </a:lnTo>
                    <a:cubicBezTo>
                      <a:pt x="7559" y="2"/>
                      <a:pt x="7560" y="3"/>
                      <a:pt x="7560" y="4"/>
                    </a:cubicBezTo>
                    <a:cubicBezTo>
                      <a:pt x="7560" y="5"/>
                      <a:pt x="7559" y="6"/>
                      <a:pt x="7558" y="6"/>
                    </a:cubicBezTo>
                    <a:lnTo>
                      <a:pt x="7558" y="6"/>
                    </a:lnTo>
                    <a:cubicBezTo>
                      <a:pt x="7556" y="6"/>
                      <a:pt x="7556" y="5"/>
                      <a:pt x="7556" y="4"/>
                    </a:cubicBezTo>
                    <a:cubicBezTo>
                      <a:pt x="7556" y="3"/>
                      <a:pt x="7556" y="2"/>
                      <a:pt x="7558" y="2"/>
                    </a:cubicBezTo>
                    <a:close/>
                    <a:moveTo>
                      <a:pt x="7566" y="2"/>
                    </a:moveTo>
                    <a:lnTo>
                      <a:pt x="7566" y="2"/>
                    </a:lnTo>
                    <a:cubicBezTo>
                      <a:pt x="7567" y="2"/>
                      <a:pt x="7568" y="3"/>
                      <a:pt x="7568" y="4"/>
                    </a:cubicBezTo>
                    <a:cubicBezTo>
                      <a:pt x="7568" y="5"/>
                      <a:pt x="7567" y="6"/>
                      <a:pt x="7566" y="6"/>
                    </a:cubicBezTo>
                    <a:lnTo>
                      <a:pt x="7566" y="6"/>
                    </a:lnTo>
                    <a:cubicBezTo>
                      <a:pt x="7564" y="6"/>
                      <a:pt x="7564" y="5"/>
                      <a:pt x="7564" y="4"/>
                    </a:cubicBezTo>
                    <a:cubicBezTo>
                      <a:pt x="7564" y="3"/>
                      <a:pt x="7564" y="2"/>
                      <a:pt x="7566" y="2"/>
                    </a:cubicBezTo>
                    <a:close/>
                    <a:moveTo>
                      <a:pt x="7574" y="2"/>
                    </a:moveTo>
                    <a:lnTo>
                      <a:pt x="7574" y="2"/>
                    </a:lnTo>
                    <a:cubicBezTo>
                      <a:pt x="7575" y="2"/>
                      <a:pt x="7576" y="3"/>
                      <a:pt x="7576" y="4"/>
                    </a:cubicBezTo>
                    <a:cubicBezTo>
                      <a:pt x="7576" y="5"/>
                      <a:pt x="7575" y="6"/>
                      <a:pt x="7574" y="6"/>
                    </a:cubicBezTo>
                    <a:lnTo>
                      <a:pt x="7574" y="6"/>
                    </a:lnTo>
                    <a:cubicBezTo>
                      <a:pt x="7572" y="6"/>
                      <a:pt x="7572" y="5"/>
                      <a:pt x="7572" y="4"/>
                    </a:cubicBezTo>
                    <a:cubicBezTo>
                      <a:pt x="7572" y="3"/>
                      <a:pt x="7572" y="2"/>
                      <a:pt x="7574" y="2"/>
                    </a:cubicBezTo>
                    <a:close/>
                    <a:moveTo>
                      <a:pt x="7582" y="2"/>
                    </a:moveTo>
                    <a:lnTo>
                      <a:pt x="7582" y="2"/>
                    </a:lnTo>
                    <a:cubicBezTo>
                      <a:pt x="7583" y="2"/>
                      <a:pt x="7584" y="3"/>
                      <a:pt x="7584" y="4"/>
                    </a:cubicBezTo>
                    <a:cubicBezTo>
                      <a:pt x="7584" y="5"/>
                      <a:pt x="7583" y="6"/>
                      <a:pt x="7582" y="6"/>
                    </a:cubicBezTo>
                    <a:lnTo>
                      <a:pt x="7582" y="6"/>
                    </a:lnTo>
                    <a:cubicBezTo>
                      <a:pt x="7580" y="6"/>
                      <a:pt x="7580" y="5"/>
                      <a:pt x="7580" y="4"/>
                    </a:cubicBezTo>
                    <a:cubicBezTo>
                      <a:pt x="7580" y="3"/>
                      <a:pt x="7580" y="2"/>
                      <a:pt x="7582" y="2"/>
                    </a:cubicBezTo>
                    <a:close/>
                    <a:moveTo>
                      <a:pt x="7590" y="2"/>
                    </a:moveTo>
                    <a:lnTo>
                      <a:pt x="7590" y="2"/>
                    </a:lnTo>
                    <a:cubicBezTo>
                      <a:pt x="7591" y="2"/>
                      <a:pt x="7592" y="3"/>
                      <a:pt x="7592" y="4"/>
                    </a:cubicBezTo>
                    <a:cubicBezTo>
                      <a:pt x="7592" y="5"/>
                      <a:pt x="7591" y="6"/>
                      <a:pt x="7590" y="6"/>
                    </a:cubicBezTo>
                    <a:lnTo>
                      <a:pt x="7590" y="6"/>
                    </a:lnTo>
                    <a:cubicBezTo>
                      <a:pt x="7588" y="6"/>
                      <a:pt x="7588" y="5"/>
                      <a:pt x="7588" y="4"/>
                    </a:cubicBezTo>
                    <a:cubicBezTo>
                      <a:pt x="7588" y="3"/>
                      <a:pt x="7588" y="2"/>
                      <a:pt x="7590" y="2"/>
                    </a:cubicBezTo>
                    <a:close/>
                    <a:moveTo>
                      <a:pt x="7598" y="2"/>
                    </a:moveTo>
                    <a:lnTo>
                      <a:pt x="7598" y="2"/>
                    </a:lnTo>
                    <a:cubicBezTo>
                      <a:pt x="7599" y="2"/>
                      <a:pt x="7600" y="3"/>
                      <a:pt x="7600" y="4"/>
                    </a:cubicBezTo>
                    <a:cubicBezTo>
                      <a:pt x="7600" y="5"/>
                      <a:pt x="7599" y="6"/>
                      <a:pt x="7598" y="6"/>
                    </a:cubicBezTo>
                    <a:lnTo>
                      <a:pt x="7598" y="6"/>
                    </a:lnTo>
                    <a:cubicBezTo>
                      <a:pt x="7596" y="6"/>
                      <a:pt x="7596" y="5"/>
                      <a:pt x="7596" y="4"/>
                    </a:cubicBezTo>
                    <a:cubicBezTo>
                      <a:pt x="7596" y="3"/>
                      <a:pt x="7596" y="2"/>
                      <a:pt x="7598" y="2"/>
                    </a:cubicBezTo>
                    <a:close/>
                    <a:moveTo>
                      <a:pt x="7606" y="2"/>
                    </a:moveTo>
                    <a:lnTo>
                      <a:pt x="7606" y="2"/>
                    </a:lnTo>
                    <a:cubicBezTo>
                      <a:pt x="7607" y="2"/>
                      <a:pt x="7608" y="3"/>
                      <a:pt x="7608" y="4"/>
                    </a:cubicBezTo>
                    <a:cubicBezTo>
                      <a:pt x="7608" y="5"/>
                      <a:pt x="7607" y="6"/>
                      <a:pt x="7606" y="6"/>
                    </a:cubicBezTo>
                    <a:lnTo>
                      <a:pt x="7606" y="6"/>
                    </a:lnTo>
                    <a:cubicBezTo>
                      <a:pt x="7604" y="6"/>
                      <a:pt x="7604" y="5"/>
                      <a:pt x="7604" y="4"/>
                    </a:cubicBezTo>
                    <a:cubicBezTo>
                      <a:pt x="7604" y="3"/>
                      <a:pt x="7604" y="2"/>
                      <a:pt x="7606" y="2"/>
                    </a:cubicBezTo>
                    <a:close/>
                    <a:moveTo>
                      <a:pt x="7614" y="2"/>
                    </a:moveTo>
                    <a:lnTo>
                      <a:pt x="7614" y="2"/>
                    </a:lnTo>
                    <a:cubicBezTo>
                      <a:pt x="7615" y="2"/>
                      <a:pt x="7616" y="3"/>
                      <a:pt x="7616" y="4"/>
                    </a:cubicBezTo>
                    <a:cubicBezTo>
                      <a:pt x="7616" y="5"/>
                      <a:pt x="7615" y="6"/>
                      <a:pt x="7614" y="6"/>
                    </a:cubicBezTo>
                    <a:lnTo>
                      <a:pt x="7614" y="6"/>
                    </a:lnTo>
                    <a:cubicBezTo>
                      <a:pt x="7612" y="6"/>
                      <a:pt x="7612" y="5"/>
                      <a:pt x="7612" y="4"/>
                    </a:cubicBezTo>
                    <a:cubicBezTo>
                      <a:pt x="7612" y="3"/>
                      <a:pt x="7612" y="2"/>
                      <a:pt x="7614" y="2"/>
                    </a:cubicBezTo>
                    <a:close/>
                    <a:moveTo>
                      <a:pt x="7622" y="2"/>
                    </a:moveTo>
                    <a:lnTo>
                      <a:pt x="7622" y="2"/>
                    </a:lnTo>
                    <a:cubicBezTo>
                      <a:pt x="7623" y="2"/>
                      <a:pt x="7624" y="3"/>
                      <a:pt x="7624" y="4"/>
                    </a:cubicBezTo>
                    <a:cubicBezTo>
                      <a:pt x="7624" y="5"/>
                      <a:pt x="7623" y="6"/>
                      <a:pt x="7622" y="6"/>
                    </a:cubicBezTo>
                    <a:lnTo>
                      <a:pt x="7622" y="6"/>
                    </a:lnTo>
                    <a:cubicBezTo>
                      <a:pt x="7620" y="6"/>
                      <a:pt x="7620" y="5"/>
                      <a:pt x="7620" y="4"/>
                    </a:cubicBezTo>
                    <a:cubicBezTo>
                      <a:pt x="7620" y="3"/>
                      <a:pt x="7620" y="2"/>
                      <a:pt x="7622" y="2"/>
                    </a:cubicBezTo>
                    <a:close/>
                    <a:moveTo>
                      <a:pt x="7630" y="2"/>
                    </a:moveTo>
                    <a:lnTo>
                      <a:pt x="7630" y="2"/>
                    </a:lnTo>
                    <a:cubicBezTo>
                      <a:pt x="7631" y="2"/>
                      <a:pt x="7632" y="3"/>
                      <a:pt x="7632" y="4"/>
                    </a:cubicBezTo>
                    <a:cubicBezTo>
                      <a:pt x="7632" y="5"/>
                      <a:pt x="7631" y="6"/>
                      <a:pt x="7630" y="6"/>
                    </a:cubicBezTo>
                    <a:lnTo>
                      <a:pt x="7630" y="6"/>
                    </a:lnTo>
                    <a:cubicBezTo>
                      <a:pt x="7628" y="6"/>
                      <a:pt x="7628" y="5"/>
                      <a:pt x="7628" y="4"/>
                    </a:cubicBezTo>
                    <a:cubicBezTo>
                      <a:pt x="7628" y="3"/>
                      <a:pt x="7628" y="2"/>
                      <a:pt x="7630" y="2"/>
                    </a:cubicBezTo>
                    <a:close/>
                    <a:moveTo>
                      <a:pt x="7638" y="2"/>
                    </a:moveTo>
                    <a:lnTo>
                      <a:pt x="7638" y="2"/>
                    </a:lnTo>
                    <a:cubicBezTo>
                      <a:pt x="7639" y="2"/>
                      <a:pt x="7640" y="3"/>
                      <a:pt x="7640" y="4"/>
                    </a:cubicBezTo>
                    <a:cubicBezTo>
                      <a:pt x="7640" y="5"/>
                      <a:pt x="7639" y="6"/>
                      <a:pt x="7638" y="6"/>
                    </a:cubicBezTo>
                    <a:lnTo>
                      <a:pt x="7638" y="6"/>
                    </a:lnTo>
                    <a:cubicBezTo>
                      <a:pt x="7636" y="6"/>
                      <a:pt x="7636" y="5"/>
                      <a:pt x="7636" y="4"/>
                    </a:cubicBezTo>
                    <a:cubicBezTo>
                      <a:pt x="7636" y="3"/>
                      <a:pt x="7636" y="2"/>
                      <a:pt x="7638" y="2"/>
                    </a:cubicBezTo>
                    <a:close/>
                    <a:moveTo>
                      <a:pt x="7646" y="2"/>
                    </a:moveTo>
                    <a:lnTo>
                      <a:pt x="7646" y="2"/>
                    </a:lnTo>
                    <a:cubicBezTo>
                      <a:pt x="7647" y="2"/>
                      <a:pt x="7648" y="3"/>
                      <a:pt x="7648" y="4"/>
                    </a:cubicBezTo>
                    <a:cubicBezTo>
                      <a:pt x="7648" y="5"/>
                      <a:pt x="7647" y="6"/>
                      <a:pt x="7646" y="6"/>
                    </a:cubicBezTo>
                    <a:lnTo>
                      <a:pt x="7646" y="6"/>
                    </a:lnTo>
                    <a:cubicBezTo>
                      <a:pt x="7644" y="6"/>
                      <a:pt x="7644" y="5"/>
                      <a:pt x="7644" y="4"/>
                    </a:cubicBezTo>
                    <a:cubicBezTo>
                      <a:pt x="7644" y="3"/>
                      <a:pt x="7644" y="2"/>
                      <a:pt x="7646" y="2"/>
                    </a:cubicBezTo>
                    <a:close/>
                    <a:moveTo>
                      <a:pt x="7654" y="2"/>
                    </a:moveTo>
                    <a:lnTo>
                      <a:pt x="7654" y="2"/>
                    </a:lnTo>
                    <a:cubicBezTo>
                      <a:pt x="7655" y="2"/>
                      <a:pt x="7656" y="3"/>
                      <a:pt x="7656" y="4"/>
                    </a:cubicBezTo>
                    <a:cubicBezTo>
                      <a:pt x="7656" y="5"/>
                      <a:pt x="7655" y="6"/>
                      <a:pt x="7654" y="6"/>
                    </a:cubicBezTo>
                    <a:lnTo>
                      <a:pt x="7654" y="6"/>
                    </a:lnTo>
                    <a:cubicBezTo>
                      <a:pt x="7652" y="6"/>
                      <a:pt x="7652" y="5"/>
                      <a:pt x="7652" y="4"/>
                    </a:cubicBezTo>
                    <a:cubicBezTo>
                      <a:pt x="7652" y="3"/>
                      <a:pt x="7652" y="2"/>
                      <a:pt x="7654" y="2"/>
                    </a:cubicBezTo>
                    <a:close/>
                    <a:moveTo>
                      <a:pt x="7662" y="2"/>
                    </a:moveTo>
                    <a:lnTo>
                      <a:pt x="7662" y="2"/>
                    </a:lnTo>
                    <a:cubicBezTo>
                      <a:pt x="7663" y="2"/>
                      <a:pt x="7664" y="3"/>
                      <a:pt x="7664" y="4"/>
                    </a:cubicBezTo>
                    <a:cubicBezTo>
                      <a:pt x="7664" y="5"/>
                      <a:pt x="7663" y="6"/>
                      <a:pt x="7662" y="6"/>
                    </a:cubicBezTo>
                    <a:lnTo>
                      <a:pt x="7662" y="6"/>
                    </a:lnTo>
                    <a:cubicBezTo>
                      <a:pt x="7660" y="6"/>
                      <a:pt x="7660" y="5"/>
                      <a:pt x="7660" y="4"/>
                    </a:cubicBezTo>
                    <a:cubicBezTo>
                      <a:pt x="7660" y="3"/>
                      <a:pt x="7660" y="2"/>
                      <a:pt x="7662" y="2"/>
                    </a:cubicBezTo>
                    <a:close/>
                    <a:moveTo>
                      <a:pt x="7670" y="2"/>
                    </a:moveTo>
                    <a:lnTo>
                      <a:pt x="7670" y="2"/>
                    </a:lnTo>
                    <a:cubicBezTo>
                      <a:pt x="7671" y="2"/>
                      <a:pt x="7672" y="3"/>
                      <a:pt x="7672" y="4"/>
                    </a:cubicBezTo>
                    <a:cubicBezTo>
                      <a:pt x="7672" y="5"/>
                      <a:pt x="7671" y="6"/>
                      <a:pt x="7670" y="6"/>
                    </a:cubicBezTo>
                    <a:lnTo>
                      <a:pt x="7670" y="6"/>
                    </a:lnTo>
                    <a:cubicBezTo>
                      <a:pt x="7668" y="6"/>
                      <a:pt x="7668" y="5"/>
                      <a:pt x="7668" y="4"/>
                    </a:cubicBezTo>
                    <a:cubicBezTo>
                      <a:pt x="7668" y="3"/>
                      <a:pt x="7668" y="2"/>
                      <a:pt x="7670" y="2"/>
                    </a:cubicBezTo>
                    <a:close/>
                    <a:moveTo>
                      <a:pt x="7678" y="2"/>
                    </a:moveTo>
                    <a:lnTo>
                      <a:pt x="7678" y="2"/>
                    </a:lnTo>
                    <a:cubicBezTo>
                      <a:pt x="7679" y="2"/>
                      <a:pt x="7680" y="3"/>
                      <a:pt x="7680" y="4"/>
                    </a:cubicBezTo>
                    <a:cubicBezTo>
                      <a:pt x="7680" y="5"/>
                      <a:pt x="7679" y="6"/>
                      <a:pt x="7678" y="6"/>
                    </a:cubicBezTo>
                    <a:lnTo>
                      <a:pt x="7678" y="6"/>
                    </a:lnTo>
                    <a:cubicBezTo>
                      <a:pt x="7676" y="6"/>
                      <a:pt x="7676" y="5"/>
                      <a:pt x="7676" y="4"/>
                    </a:cubicBezTo>
                    <a:cubicBezTo>
                      <a:pt x="7676" y="3"/>
                      <a:pt x="7676" y="2"/>
                      <a:pt x="7678" y="2"/>
                    </a:cubicBezTo>
                    <a:close/>
                    <a:moveTo>
                      <a:pt x="7686" y="2"/>
                    </a:moveTo>
                    <a:lnTo>
                      <a:pt x="7686" y="2"/>
                    </a:lnTo>
                    <a:cubicBezTo>
                      <a:pt x="7687" y="2"/>
                      <a:pt x="7688" y="3"/>
                      <a:pt x="7688" y="4"/>
                    </a:cubicBezTo>
                    <a:cubicBezTo>
                      <a:pt x="7688" y="5"/>
                      <a:pt x="7687" y="6"/>
                      <a:pt x="7686" y="6"/>
                    </a:cubicBezTo>
                    <a:lnTo>
                      <a:pt x="7686" y="6"/>
                    </a:lnTo>
                    <a:cubicBezTo>
                      <a:pt x="7684" y="6"/>
                      <a:pt x="7684" y="5"/>
                      <a:pt x="7684" y="4"/>
                    </a:cubicBezTo>
                    <a:cubicBezTo>
                      <a:pt x="7684" y="3"/>
                      <a:pt x="7684" y="2"/>
                      <a:pt x="7686" y="2"/>
                    </a:cubicBezTo>
                    <a:close/>
                    <a:moveTo>
                      <a:pt x="7694" y="2"/>
                    </a:moveTo>
                    <a:lnTo>
                      <a:pt x="7694" y="2"/>
                    </a:lnTo>
                    <a:cubicBezTo>
                      <a:pt x="7695" y="2"/>
                      <a:pt x="7696" y="3"/>
                      <a:pt x="7696" y="4"/>
                    </a:cubicBezTo>
                    <a:cubicBezTo>
                      <a:pt x="7696" y="5"/>
                      <a:pt x="7695" y="6"/>
                      <a:pt x="7694" y="6"/>
                    </a:cubicBezTo>
                    <a:lnTo>
                      <a:pt x="7694" y="6"/>
                    </a:lnTo>
                    <a:cubicBezTo>
                      <a:pt x="7692" y="6"/>
                      <a:pt x="7692" y="5"/>
                      <a:pt x="7692" y="4"/>
                    </a:cubicBezTo>
                    <a:cubicBezTo>
                      <a:pt x="7692" y="3"/>
                      <a:pt x="7692" y="2"/>
                      <a:pt x="7694" y="2"/>
                    </a:cubicBezTo>
                    <a:close/>
                    <a:moveTo>
                      <a:pt x="7702" y="2"/>
                    </a:moveTo>
                    <a:lnTo>
                      <a:pt x="7702" y="2"/>
                    </a:lnTo>
                    <a:cubicBezTo>
                      <a:pt x="7703" y="2"/>
                      <a:pt x="7704" y="3"/>
                      <a:pt x="7704" y="4"/>
                    </a:cubicBezTo>
                    <a:cubicBezTo>
                      <a:pt x="7704" y="5"/>
                      <a:pt x="7703" y="6"/>
                      <a:pt x="7702" y="6"/>
                    </a:cubicBezTo>
                    <a:lnTo>
                      <a:pt x="7702" y="6"/>
                    </a:lnTo>
                    <a:cubicBezTo>
                      <a:pt x="7700" y="6"/>
                      <a:pt x="7700" y="5"/>
                      <a:pt x="7700" y="4"/>
                    </a:cubicBezTo>
                    <a:cubicBezTo>
                      <a:pt x="7700" y="3"/>
                      <a:pt x="7700" y="2"/>
                      <a:pt x="7702" y="2"/>
                    </a:cubicBezTo>
                    <a:close/>
                    <a:moveTo>
                      <a:pt x="7710" y="2"/>
                    </a:moveTo>
                    <a:lnTo>
                      <a:pt x="7710" y="2"/>
                    </a:lnTo>
                    <a:cubicBezTo>
                      <a:pt x="7711" y="2"/>
                      <a:pt x="7712" y="3"/>
                      <a:pt x="7712" y="4"/>
                    </a:cubicBezTo>
                    <a:cubicBezTo>
                      <a:pt x="7712" y="5"/>
                      <a:pt x="7711" y="6"/>
                      <a:pt x="7710" y="6"/>
                    </a:cubicBezTo>
                    <a:lnTo>
                      <a:pt x="7710" y="6"/>
                    </a:lnTo>
                    <a:cubicBezTo>
                      <a:pt x="7708" y="6"/>
                      <a:pt x="7708" y="5"/>
                      <a:pt x="7708" y="4"/>
                    </a:cubicBezTo>
                    <a:cubicBezTo>
                      <a:pt x="7708" y="3"/>
                      <a:pt x="7708" y="2"/>
                      <a:pt x="7710" y="2"/>
                    </a:cubicBezTo>
                    <a:close/>
                    <a:moveTo>
                      <a:pt x="7718" y="2"/>
                    </a:moveTo>
                    <a:lnTo>
                      <a:pt x="7718" y="2"/>
                    </a:lnTo>
                    <a:cubicBezTo>
                      <a:pt x="7719" y="2"/>
                      <a:pt x="7720" y="3"/>
                      <a:pt x="7720" y="4"/>
                    </a:cubicBezTo>
                    <a:cubicBezTo>
                      <a:pt x="7720" y="5"/>
                      <a:pt x="7719" y="6"/>
                      <a:pt x="7718" y="6"/>
                    </a:cubicBezTo>
                    <a:lnTo>
                      <a:pt x="7718" y="6"/>
                    </a:lnTo>
                    <a:cubicBezTo>
                      <a:pt x="7716" y="6"/>
                      <a:pt x="7716" y="5"/>
                      <a:pt x="7716" y="4"/>
                    </a:cubicBezTo>
                    <a:cubicBezTo>
                      <a:pt x="7716" y="3"/>
                      <a:pt x="7716" y="2"/>
                      <a:pt x="7718" y="2"/>
                    </a:cubicBezTo>
                    <a:close/>
                    <a:moveTo>
                      <a:pt x="7726" y="2"/>
                    </a:moveTo>
                    <a:lnTo>
                      <a:pt x="7726" y="2"/>
                    </a:lnTo>
                    <a:cubicBezTo>
                      <a:pt x="7727" y="2"/>
                      <a:pt x="7728" y="3"/>
                      <a:pt x="7728" y="4"/>
                    </a:cubicBezTo>
                    <a:cubicBezTo>
                      <a:pt x="7728" y="5"/>
                      <a:pt x="7727" y="6"/>
                      <a:pt x="7726" y="6"/>
                    </a:cubicBezTo>
                    <a:lnTo>
                      <a:pt x="7726" y="6"/>
                    </a:lnTo>
                    <a:cubicBezTo>
                      <a:pt x="7724" y="6"/>
                      <a:pt x="7724" y="5"/>
                      <a:pt x="7724" y="4"/>
                    </a:cubicBezTo>
                    <a:cubicBezTo>
                      <a:pt x="7724" y="3"/>
                      <a:pt x="7724" y="2"/>
                      <a:pt x="7726" y="2"/>
                    </a:cubicBezTo>
                    <a:close/>
                    <a:moveTo>
                      <a:pt x="7734" y="2"/>
                    </a:moveTo>
                    <a:lnTo>
                      <a:pt x="7734" y="2"/>
                    </a:lnTo>
                    <a:cubicBezTo>
                      <a:pt x="7735" y="2"/>
                      <a:pt x="7736" y="3"/>
                      <a:pt x="7736" y="4"/>
                    </a:cubicBezTo>
                    <a:cubicBezTo>
                      <a:pt x="7736" y="5"/>
                      <a:pt x="7735" y="6"/>
                      <a:pt x="7734" y="6"/>
                    </a:cubicBezTo>
                    <a:lnTo>
                      <a:pt x="7734" y="6"/>
                    </a:lnTo>
                    <a:cubicBezTo>
                      <a:pt x="7732" y="6"/>
                      <a:pt x="7732" y="5"/>
                      <a:pt x="7732" y="4"/>
                    </a:cubicBezTo>
                    <a:cubicBezTo>
                      <a:pt x="7732" y="3"/>
                      <a:pt x="7732" y="2"/>
                      <a:pt x="7734" y="2"/>
                    </a:cubicBezTo>
                    <a:close/>
                    <a:moveTo>
                      <a:pt x="7742" y="2"/>
                    </a:moveTo>
                    <a:lnTo>
                      <a:pt x="7742" y="2"/>
                    </a:lnTo>
                    <a:cubicBezTo>
                      <a:pt x="7743" y="2"/>
                      <a:pt x="7744" y="3"/>
                      <a:pt x="7744" y="4"/>
                    </a:cubicBezTo>
                    <a:cubicBezTo>
                      <a:pt x="7744" y="5"/>
                      <a:pt x="7743" y="6"/>
                      <a:pt x="7742" y="6"/>
                    </a:cubicBezTo>
                    <a:lnTo>
                      <a:pt x="7742" y="6"/>
                    </a:lnTo>
                    <a:cubicBezTo>
                      <a:pt x="7740" y="6"/>
                      <a:pt x="7740" y="5"/>
                      <a:pt x="7740" y="4"/>
                    </a:cubicBezTo>
                    <a:cubicBezTo>
                      <a:pt x="7740" y="3"/>
                      <a:pt x="7740" y="2"/>
                      <a:pt x="7742" y="2"/>
                    </a:cubicBezTo>
                    <a:close/>
                    <a:moveTo>
                      <a:pt x="7750" y="2"/>
                    </a:moveTo>
                    <a:lnTo>
                      <a:pt x="7750" y="2"/>
                    </a:lnTo>
                    <a:cubicBezTo>
                      <a:pt x="7751" y="2"/>
                      <a:pt x="7752" y="3"/>
                      <a:pt x="7752" y="4"/>
                    </a:cubicBezTo>
                    <a:cubicBezTo>
                      <a:pt x="7752" y="5"/>
                      <a:pt x="7751" y="6"/>
                      <a:pt x="7750" y="6"/>
                    </a:cubicBezTo>
                    <a:lnTo>
                      <a:pt x="7750" y="6"/>
                    </a:lnTo>
                    <a:cubicBezTo>
                      <a:pt x="7748" y="6"/>
                      <a:pt x="7748" y="5"/>
                      <a:pt x="7748" y="4"/>
                    </a:cubicBezTo>
                    <a:cubicBezTo>
                      <a:pt x="7748" y="3"/>
                      <a:pt x="7748" y="2"/>
                      <a:pt x="7750" y="2"/>
                    </a:cubicBezTo>
                    <a:close/>
                    <a:moveTo>
                      <a:pt x="7758" y="2"/>
                    </a:moveTo>
                    <a:lnTo>
                      <a:pt x="7758" y="2"/>
                    </a:lnTo>
                    <a:cubicBezTo>
                      <a:pt x="7759" y="2"/>
                      <a:pt x="7760" y="3"/>
                      <a:pt x="7760" y="4"/>
                    </a:cubicBezTo>
                    <a:cubicBezTo>
                      <a:pt x="7760" y="5"/>
                      <a:pt x="7759" y="6"/>
                      <a:pt x="7758" y="6"/>
                    </a:cubicBezTo>
                    <a:lnTo>
                      <a:pt x="7758" y="6"/>
                    </a:lnTo>
                    <a:cubicBezTo>
                      <a:pt x="7757" y="6"/>
                      <a:pt x="7756" y="5"/>
                      <a:pt x="7756" y="4"/>
                    </a:cubicBezTo>
                    <a:cubicBezTo>
                      <a:pt x="7756" y="3"/>
                      <a:pt x="7757" y="2"/>
                      <a:pt x="7758" y="2"/>
                    </a:cubicBezTo>
                    <a:close/>
                    <a:moveTo>
                      <a:pt x="7766" y="2"/>
                    </a:moveTo>
                    <a:lnTo>
                      <a:pt x="7766" y="2"/>
                    </a:lnTo>
                    <a:cubicBezTo>
                      <a:pt x="7767" y="2"/>
                      <a:pt x="7768" y="3"/>
                      <a:pt x="7768" y="4"/>
                    </a:cubicBezTo>
                    <a:cubicBezTo>
                      <a:pt x="7768" y="5"/>
                      <a:pt x="7767" y="6"/>
                      <a:pt x="7766" y="6"/>
                    </a:cubicBezTo>
                    <a:lnTo>
                      <a:pt x="7766" y="6"/>
                    </a:lnTo>
                    <a:cubicBezTo>
                      <a:pt x="7765" y="6"/>
                      <a:pt x="7764" y="5"/>
                      <a:pt x="7764" y="4"/>
                    </a:cubicBezTo>
                    <a:cubicBezTo>
                      <a:pt x="7764" y="3"/>
                      <a:pt x="7765" y="2"/>
                      <a:pt x="7766" y="2"/>
                    </a:cubicBezTo>
                    <a:close/>
                    <a:moveTo>
                      <a:pt x="7774" y="2"/>
                    </a:moveTo>
                    <a:lnTo>
                      <a:pt x="7774" y="2"/>
                    </a:lnTo>
                    <a:cubicBezTo>
                      <a:pt x="7775" y="2"/>
                      <a:pt x="7776" y="3"/>
                      <a:pt x="7776" y="4"/>
                    </a:cubicBezTo>
                    <a:cubicBezTo>
                      <a:pt x="7776" y="5"/>
                      <a:pt x="7775" y="6"/>
                      <a:pt x="7774" y="6"/>
                    </a:cubicBezTo>
                    <a:lnTo>
                      <a:pt x="7774" y="6"/>
                    </a:lnTo>
                    <a:cubicBezTo>
                      <a:pt x="7773" y="6"/>
                      <a:pt x="7772" y="5"/>
                      <a:pt x="7772" y="4"/>
                    </a:cubicBezTo>
                    <a:cubicBezTo>
                      <a:pt x="7772" y="3"/>
                      <a:pt x="7773" y="2"/>
                      <a:pt x="7774" y="2"/>
                    </a:cubicBezTo>
                    <a:close/>
                    <a:moveTo>
                      <a:pt x="7782" y="2"/>
                    </a:moveTo>
                    <a:lnTo>
                      <a:pt x="7782" y="2"/>
                    </a:lnTo>
                    <a:cubicBezTo>
                      <a:pt x="7783" y="2"/>
                      <a:pt x="7784" y="3"/>
                      <a:pt x="7784" y="4"/>
                    </a:cubicBezTo>
                    <a:cubicBezTo>
                      <a:pt x="7784" y="5"/>
                      <a:pt x="7783" y="6"/>
                      <a:pt x="7782" y="6"/>
                    </a:cubicBezTo>
                    <a:lnTo>
                      <a:pt x="7782" y="6"/>
                    </a:lnTo>
                    <a:cubicBezTo>
                      <a:pt x="7781" y="6"/>
                      <a:pt x="7780" y="5"/>
                      <a:pt x="7780" y="4"/>
                    </a:cubicBezTo>
                    <a:cubicBezTo>
                      <a:pt x="7780" y="3"/>
                      <a:pt x="7781" y="2"/>
                      <a:pt x="7782" y="2"/>
                    </a:cubicBezTo>
                    <a:close/>
                    <a:moveTo>
                      <a:pt x="7790" y="2"/>
                    </a:moveTo>
                    <a:lnTo>
                      <a:pt x="7790" y="2"/>
                    </a:lnTo>
                    <a:cubicBezTo>
                      <a:pt x="7791" y="2"/>
                      <a:pt x="7792" y="3"/>
                      <a:pt x="7792" y="4"/>
                    </a:cubicBezTo>
                    <a:cubicBezTo>
                      <a:pt x="7792" y="5"/>
                      <a:pt x="7791" y="6"/>
                      <a:pt x="7790" y="6"/>
                    </a:cubicBezTo>
                    <a:lnTo>
                      <a:pt x="7790" y="6"/>
                    </a:lnTo>
                    <a:cubicBezTo>
                      <a:pt x="7789" y="6"/>
                      <a:pt x="7788" y="5"/>
                      <a:pt x="7788" y="4"/>
                    </a:cubicBezTo>
                    <a:cubicBezTo>
                      <a:pt x="7788" y="3"/>
                      <a:pt x="7789" y="2"/>
                      <a:pt x="7790" y="2"/>
                    </a:cubicBezTo>
                    <a:close/>
                    <a:moveTo>
                      <a:pt x="7798" y="2"/>
                    </a:moveTo>
                    <a:lnTo>
                      <a:pt x="7798" y="2"/>
                    </a:lnTo>
                    <a:cubicBezTo>
                      <a:pt x="7799" y="2"/>
                      <a:pt x="7800" y="3"/>
                      <a:pt x="7800" y="4"/>
                    </a:cubicBezTo>
                    <a:cubicBezTo>
                      <a:pt x="7800" y="5"/>
                      <a:pt x="7799" y="6"/>
                      <a:pt x="7798" y="6"/>
                    </a:cubicBezTo>
                    <a:lnTo>
                      <a:pt x="7798" y="6"/>
                    </a:lnTo>
                    <a:cubicBezTo>
                      <a:pt x="7797" y="6"/>
                      <a:pt x="7796" y="5"/>
                      <a:pt x="7796" y="4"/>
                    </a:cubicBezTo>
                    <a:cubicBezTo>
                      <a:pt x="7796" y="3"/>
                      <a:pt x="7797" y="2"/>
                      <a:pt x="7798" y="2"/>
                    </a:cubicBezTo>
                    <a:close/>
                    <a:moveTo>
                      <a:pt x="7806" y="2"/>
                    </a:moveTo>
                    <a:lnTo>
                      <a:pt x="7806" y="2"/>
                    </a:lnTo>
                    <a:cubicBezTo>
                      <a:pt x="7807" y="2"/>
                      <a:pt x="7808" y="3"/>
                      <a:pt x="7808" y="4"/>
                    </a:cubicBezTo>
                    <a:cubicBezTo>
                      <a:pt x="7808" y="5"/>
                      <a:pt x="7807" y="6"/>
                      <a:pt x="7806" y="6"/>
                    </a:cubicBezTo>
                    <a:lnTo>
                      <a:pt x="7806" y="6"/>
                    </a:lnTo>
                    <a:cubicBezTo>
                      <a:pt x="7805" y="6"/>
                      <a:pt x="7804" y="5"/>
                      <a:pt x="7804" y="4"/>
                    </a:cubicBezTo>
                    <a:cubicBezTo>
                      <a:pt x="7804" y="3"/>
                      <a:pt x="7805" y="2"/>
                      <a:pt x="7806" y="2"/>
                    </a:cubicBezTo>
                    <a:close/>
                    <a:moveTo>
                      <a:pt x="7814" y="2"/>
                    </a:moveTo>
                    <a:lnTo>
                      <a:pt x="7814" y="2"/>
                    </a:lnTo>
                    <a:cubicBezTo>
                      <a:pt x="7815" y="2"/>
                      <a:pt x="7816" y="3"/>
                      <a:pt x="7816" y="4"/>
                    </a:cubicBezTo>
                    <a:cubicBezTo>
                      <a:pt x="7816" y="5"/>
                      <a:pt x="7815" y="6"/>
                      <a:pt x="7814" y="6"/>
                    </a:cubicBezTo>
                    <a:lnTo>
                      <a:pt x="7814" y="6"/>
                    </a:lnTo>
                    <a:cubicBezTo>
                      <a:pt x="7813" y="6"/>
                      <a:pt x="7812" y="5"/>
                      <a:pt x="7812" y="4"/>
                    </a:cubicBezTo>
                    <a:cubicBezTo>
                      <a:pt x="7812" y="3"/>
                      <a:pt x="7813" y="2"/>
                      <a:pt x="7814" y="2"/>
                    </a:cubicBezTo>
                    <a:close/>
                    <a:moveTo>
                      <a:pt x="7822" y="2"/>
                    </a:moveTo>
                    <a:lnTo>
                      <a:pt x="7822" y="2"/>
                    </a:lnTo>
                    <a:cubicBezTo>
                      <a:pt x="7823" y="2"/>
                      <a:pt x="7824" y="3"/>
                      <a:pt x="7824" y="4"/>
                    </a:cubicBezTo>
                    <a:cubicBezTo>
                      <a:pt x="7824" y="5"/>
                      <a:pt x="7823" y="6"/>
                      <a:pt x="7822" y="6"/>
                    </a:cubicBezTo>
                    <a:lnTo>
                      <a:pt x="7822" y="6"/>
                    </a:lnTo>
                    <a:cubicBezTo>
                      <a:pt x="7821" y="6"/>
                      <a:pt x="7820" y="5"/>
                      <a:pt x="7820" y="4"/>
                    </a:cubicBezTo>
                    <a:cubicBezTo>
                      <a:pt x="7820" y="3"/>
                      <a:pt x="7821" y="2"/>
                      <a:pt x="7822" y="2"/>
                    </a:cubicBezTo>
                    <a:close/>
                    <a:moveTo>
                      <a:pt x="7830" y="2"/>
                    </a:moveTo>
                    <a:lnTo>
                      <a:pt x="7830" y="2"/>
                    </a:lnTo>
                    <a:cubicBezTo>
                      <a:pt x="7831" y="2"/>
                      <a:pt x="7832" y="3"/>
                      <a:pt x="7832" y="4"/>
                    </a:cubicBezTo>
                    <a:cubicBezTo>
                      <a:pt x="7832" y="5"/>
                      <a:pt x="7831" y="6"/>
                      <a:pt x="7830" y="6"/>
                    </a:cubicBezTo>
                    <a:lnTo>
                      <a:pt x="7830" y="6"/>
                    </a:lnTo>
                    <a:cubicBezTo>
                      <a:pt x="7829" y="6"/>
                      <a:pt x="7828" y="5"/>
                      <a:pt x="7828" y="4"/>
                    </a:cubicBezTo>
                    <a:cubicBezTo>
                      <a:pt x="7828" y="3"/>
                      <a:pt x="7829" y="2"/>
                      <a:pt x="7830" y="2"/>
                    </a:cubicBezTo>
                    <a:close/>
                    <a:moveTo>
                      <a:pt x="7838" y="2"/>
                    </a:moveTo>
                    <a:lnTo>
                      <a:pt x="7838" y="2"/>
                    </a:lnTo>
                    <a:cubicBezTo>
                      <a:pt x="7839" y="2"/>
                      <a:pt x="7840" y="3"/>
                      <a:pt x="7840" y="4"/>
                    </a:cubicBezTo>
                    <a:cubicBezTo>
                      <a:pt x="7840" y="5"/>
                      <a:pt x="7839" y="6"/>
                      <a:pt x="7838" y="6"/>
                    </a:cubicBezTo>
                    <a:lnTo>
                      <a:pt x="7838" y="6"/>
                    </a:lnTo>
                    <a:cubicBezTo>
                      <a:pt x="7837" y="6"/>
                      <a:pt x="7836" y="5"/>
                      <a:pt x="7836" y="4"/>
                    </a:cubicBezTo>
                    <a:cubicBezTo>
                      <a:pt x="7836" y="3"/>
                      <a:pt x="7837" y="2"/>
                      <a:pt x="7838" y="2"/>
                    </a:cubicBezTo>
                    <a:close/>
                    <a:moveTo>
                      <a:pt x="7846" y="2"/>
                    </a:moveTo>
                    <a:lnTo>
                      <a:pt x="7846" y="2"/>
                    </a:lnTo>
                    <a:cubicBezTo>
                      <a:pt x="7847" y="2"/>
                      <a:pt x="7848" y="3"/>
                      <a:pt x="7848" y="4"/>
                    </a:cubicBezTo>
                    <a:cubicBezTo>
                      <a:pt x="7848" y="5"/>
                      <a:pt x="7847" y="6"/>
                      <a:pt x="7846" y="6"/>
                    </a:cubicBezTo>
                    <a:lnTo>
                      <a:pt x="7846" y="6"/>
                    </a:lnTo>
                    <a:cubicBezTo>
                      <a:pt x="7845" y="6"/>
                      <a:pt x="7844" y="5"/>
                      <a:pt x="7844" y="4"/>
                    </a:cubicBezTo>
                    <a:cubicBezTo>
                      <a:pt x="7844" y="3"/>
                      <a:pt x="7845" y="2"/>
                      <a:pt x="7846" y="2"/>
                    </a:cubicBezTo>
                    <a:close/>
                    <a:moveTo>
                      <a:pt x="7854" y="2"/>
                    </a:moveTo>
                    <a:lnTo>
                      <a:pt x="7854" y="2"/>
                    </a:lnTo>
                    <a:cubicBezTo>
                      <a:pt x="7855" y="2"/>
                      <a:pt x="7856" y="3"/>
                      <a:pt x="7856" y="4"/>
                    </a:cubicBezTo>
                    <a:cubicBezTo>
                      <a:pt x="7856" y="5"/>
                      <a:pt x="7855" y="6"/>
                      <a:pt x="7854" y="6"/>
                    </a:cubicBezTo>
                    <a:lnTo>
                      <a:pt x="7854" y="6"/>
                    </a:lnTo>
                    <a:cubicBezTo>
                      <a:pt x="7853" y="6"/>
                      <a:pt x="7852" y="5"/>
                      <a:pt x="7852" y="4"/>
                    </a:cubicBezTo>
                    <a:cubicBezTo>
                      <a:pt x="7852" y="3"/>
                      <a:pt x="7853" y="2"/>
                      <a:pt x="7854" y="2"/>
                    </a:cubicBezTo>
                    <a:close/>
                    <a:moveTo>
                      <a:pt x="7862" y="2"/>
                    </a:moveTo>
                    <a:lnTo>
                      <a:pt x="7862" y="2"/>
                    </a:lnTo>
                    <a:cubicBezTo>
                      <a:pt x="7863" y="2"/>
                      <a:pt x="7864" y="3"/>
                      <a:pt x="7864" y="4"/>
                    </a:cubicBezTo>
                    <a:cubicBezTo>
                      <a:pt x="7864" y="5"/>
                      <a:pt x="7863" y="6"/>
                      <a:pt x="7862" y="6"/>
                    </a:cubicBezTo>
                    <a:lnTo>
                      <a:pt x="7862" y="6"/>
                    </a:lnTo>
                    <a:cubicBezTo>
                      <a:pt x="7861" y="6"/>
                      <a:pt x="7860" y="5"/>
                      <a:pt x="7860" y="4"/>
                    </a:cubicBezTo>
                    <a:cubicBezTo>
                      <a:pt x="7860" y="3"/>
                      <a:pt x="7861" y="2"/>
                      <a:pt x="7862" y="2"/>
                    </a:cubicBezTo>
                    <a:close/>
                    <a:moveTo>
                      <a:pt x="7870" y="2"/>
                    </a:moveTo>
                    <a:lnTo>
                      <a:pt x="7870" y="2"/>
                    </a:lnTo>
                    <a:cubicBezTo>
                      <a:pt x="7871" y="2"/>
                      <a:pt x="7872" y="3"/>
                      <a:pt x="7872" y="4"/>
                    </a:cubicBezTo>
                    <a:cubicBezTo>
                      <a:pt x="7872" y="5"/>
                      <a:pt x="7871" y="6"/>
                      <a:pt x="7870" y="6"/>
                    </a:cubicBezTo>
                    <a:lnTo>
                      <a:pt x="7870" y="6"/>
                    </a:lnTo>
                    <a:cubicBezTo>
                      <a:pt x="7869" y="6"/>
                      <a:pt x="7868" y="5"/>
                      <a:pt x="7868" y="4"/>
                    </a:cubicBezTo>
                    <a:cubicBezTo>
                      <a:pt x="7868" y="3"/>
                      <a:pt x="7869" y="2"/>
                      <a:pt x="7870" y="2"/>
                    </a:cubicBezTo>
                    <a:close/>
                    <a:moveTo>
                      <a:pt x="7878" y="2"/>
                    </a:moveTo>
                    <a:lnTo>
                      <a:pt x="7878" y="2"/>
                    </a:lnTo>
                    <a:cubicBezTo>
                      <a:pt x="7879" y="2"/>
                      <a:pt x="7880" y="3"/>
                      <a:pt x="7880" y="4"/>
                    </a:cubicBezTo>
                    <a:cubicBezTo>
                      <a:pt x="7880" y="5"/>
                      <a:pt x="7879" y="6"/>
                      <a:pt x="7878" y="6"/>
                    </a:cubicBezTo>
                    <a:lnTo>
                      <a:pt x="7878" y="6"/>
                    </a:lnTo>
                    <a:cubicBezTo>
                      <a:pt x="7877" y="6"/>
                      <a:pt x="7876" y="5"/>
                      <a:pt x="7876" y="4"/>
                    </a:cubicBezTo>
                    <a:cubicBezTo>
                      <a:pt x="7876" y="3"/>
                      <a:pt x="7877" y="2"/>
                      <a:pt x="7878" y="2"/>
                    </a:cubicBezTo>
                    <a:close/>
                    <a:moveTo>
                      <a:pt x="7886" y="2"/>
                    </a:moveTo>
                    <a:lnTo>
                      <a:pt x="7886" y="2"/>
                    </a:lnTo>
                    <a:cubicBezTo>
                      <a:pt x="7887" y="2"/>
                      <a:pt x="7888" y="3"/>
                      <a:pt x="7888" y="4"/>
                    </a:cubicBezTo>
                    <a:cubicBezTo>
                      <a:pt x="7888" y="5"/>
                      <a:pt x="7887" y="6"/>
                      <a:pt x="7886" y="6"/>
                    </a:cubicBezTo>
                    <a:lnTo>
                      <a:pt x="7886" y="6"/>
                    </a:lnTo>
                    <a:cubicBezTo>
                      <a:pt x="7885" y="6"/>
                      <a:pt x="7884" y="5"/>
                      <a:pt x="7884" y="4"/>
                    </a:cubicBezTo>
                    <a:cubicBezTo>
                      <a:pt x="7884" y="3"/>
                      <a:pt x="7885" y="2"/>
                      <a:pt x="7886" y="2"/>
                    </a:cubicBezTo>
                    <a:close/>
                    <a:moveTo>
                      <a:pt x="7894" y="2"/>
                    </a:moveTo>
                    <a:lnTo>
                      <a:pt x="7894" y="2"/>
                    </a:lnTo>
                    <a:cubicBezTo>
                      <a:pt x="7895" y="2"/>
                      <a:pt x="7896" y="3"/>
                      <a:pt x="7896" y="4"/>
                    </a:cubicBezTo>
                    <a:cubicBezTo>
                      <a:pt x="7896" y="5"/>
                      <a:pt x="7895" y="6"/>
                      <a:pt x="7894" y="6"/>
                    </a:cubicBezTo>
                    <a:lnTo>
                      <a:pt x="7894" y="6"/>
                    </a:lnTo>
                    <a:cubicBezTo>
                      <a:pt x="7893" y="6"/>
                      <a:pt x="7892" y="5"/>
                      <a:pt x="7892" y="4"/>
                    </a:cubicBezTo>
                    <a:cubicBezTo>
                      <a:pt x="7892" y="3"/>
                      <a:pt x="7893" y="2"/>
                      <a:pt x="7894" y="2"/>
                    </a:cubicBezTo>
                    <a:close/>
                    <a:moveTo>
                      <a:pt x="7902" y="2"/>
                    </a:moveTo>
                    <a:lnTo>
                      <a:pt x="7902" y="2"/>
                    </a:lnTo>
                    <a:cubicBezTo>
                      <a:pt x="7903" y="2"/>
                      <a:pt x="7904" y="3"/>
                      <a:pt x="7904" y="4"/>
                    </a:cubicBezTo>
                    <a:cubicBezTo>
                      <a:pt x="7904" y="5"/>
                      <a:pt x="7903" y="6"/>
                      <a:pt x="7902" y="6"/>
                    </a:cubicBezTo>
                    <a:lnTo>
                      <a:pt x="7902" y="6"/>
                    </a:lnTo>
                    <a:cubicBezTo>
                      <a:pt x="7901" y="6"/>
                      <a:pt x="7900" y="5"/>
                      <a:pt x="7900" y="4"/>
                    </a:cubicBezTo>
                    <a:cubicBezTo>
                      <a:pt x="7900" y="3"/>
                      <a:pt x="7901" y="2"/>
                      <a:pt x="7902" y="2"/>
                    </a:cubicBezTo>
                    <a:close/>
                    <a:moveTo>
                      <a:pt x="7910" y="2"/>
                    </a:moveTo>
                    <a:lnTo>
                      <a:pt x="7910" y="2"/>
                    </a:lnTo>
                    <a:cubicBezTo>
                      <a:pt x="7911" y="2"/>
                      <a:pt x="7912" y="3"/>
                      <a:pt x="7912" y="4"/>
                    </a:cubicBezTo>
                    <a:cubicBezTo>
                      <a:pt x="7912" y="5"/>
                      <a:pt x="7911" y="6"/>
                      <a:pt x="7910" y="6"/>
                    </a:cubicBezTo>
                    <a:lnTo>
                      <a:pt x="7910" y="6"/>
                    </a:lnTo>
                    <a:cubicBezTo>
                      <a:pt x="7909" y="6"/>
                      <a:pt x="7908" y="5"/>
                      <a:pt x="7908" y="4"/>
                    </a:cubicBezTo>
                    <a:cubicBezTo>
                      <a:pt x="7908" y="3"/>
                      <a:pt x="7909" y="2"/>
                      <a:pt x="7910" y="2"/>
                    </a:cubicBezTo>
                    <a:close/>
                    <a:moveTo>
                      <a:pt x="7918" y="2"/>
                    </a:moveTo>
                    <a:lnTo>
                      <a:pt x="7918" y="2"/>
                    </a:lnTo>
                    <a:cubicBezTo>
                      <a:pt x="7919" y="2"/>
                      <a:pt x="7920" y="3"/>
                      <a:pt x="7920" y="4"/>
                    </a:cubicBezTo>
                    <a:cubicBezTo>
                      <a:pt x="7920" y="5"/>
                      <a:pt x="7919" y="6"/>
                      <a:pt x="7918" y="6"/>
                    </a:cubicBezTo>
                    <a:lnTo>
                      <a:pt x="7918" y="6"/>
                    </a:lnTo>
                    <a:cubicBezTo>
                      <a:pt x="7917" y="6"/>
                      <a:pt x="7916" y="5"/>
                      <a:pt x="7916" y="4"/>
                    </a:cubicBezTo>
                    <a:cubicBezTo>
                      <a:pt x="7916" y="3"/>
                      <a:pt x="7917" y="2"/>
                      <a:pt x="7918" y="2"/>
                    </a:cubicBezTo>
                    <a:close/>
                    <a:moveTo>
                      <a:pt x="7926" y="2"/>
                    </a:moveTo>
                    <a:lnTo>
                      <a:pt x="7926" y="2"/>
                    </a:lnTo>
                    <a:cubicBezTo>
                      <a:pt x="7927" y="2"/>
                      <a:pt x="7928" y="3"/>
                      <a:pt x="7928" y="4"/>
                    </a:cubicBezTo>
                    <a:cubicBezTo>
                      <a:pt x="7928" y="5"/>
                      <a:pt x="7927" y="6"/>
                      <a:pt x="7926" y="6"/>
                    </a:cubicBezTo>
                    <a:lnTo>
                      <a:pt x="7926" y="6"/>
                    </a:lnTo>
                    <a:cubicBezTo>
                      <a:pt x="7925" y="6"/>
                      <a:pt x="7924" y="5"/>
                      <a:pt x="7924" y="4"/>
                    </a:cubicBezTo>
                    <a:cubicBezTo>
                      <a:pt x="7924" y="3"/>
                      <a:pt x="7925" y="2"/>
                      <a:pt x="7926" y="2"/>
                    </a:cubicBezTo>
                    <a:close/>
                    <a:moveTo>
                      <a:pt x="7934" y="2"/>
                    </a:moveTo>
                    <a:lnTo>
                      <a:pt x="7934" y="2"/>
                    </a:lnTo>
                    <a:cubicBezTo>
                      <a:pt x="7935" y="2"/>
                      <a:pt x="7936" y="3"/>
                      <a:pt x="7936" y="4"/>
                    </a:cubicBezTo>
                    <a:cubicBezTo>
                      <a:pt x="7936" y="5"/>
                      <a:pt x="7935" y="6"/>
                      <a:pt x="7934" y="6"/>
                    </a:cubicBezTo>
                    <a:lnTo>
                      <a:pt x="7934" y="6"/>
                    </a:lnTo>
                    <a:cubicBezTo>
                      <a:pt x="7933" y="6"/>
                      <a:pt x="7932" y="5"/>
                      <a:pt x="7932" y="4"/>
                    </a:cubicBezTo>
                    <a:cubicBezTo>
                      <a:pt x="7932" y="3"/>
                      <a:pt x="7933" y="2"/>
                      <a:pt x="7934" y="2"/>
                    </a:cubicBezTo>
                    <a:close/>
                    <a:moveTo>
                      <a:pt x="7942" y="2"/>
                    </a:moveTo>
                    <a:lnTo>
                      <a:pt x="7942" y="2"/>
                    </a:lnTo>
                    <a:cubicBezTo>
                      <a:pt x="7943" y="2"/>
                      <a:pt x="7944" y="3"/>
                      <a:pt x="7944" y="4"/>
                    </a:cubicBezTo>
                    <a:cubicBezTo>
                      <a:pt x="7944" y="5"/>
                      <a:pt x="7943" y="6"/>
                      <a:pt x="7942" y="6"/>
                    </a:cubicBezTo>
                    <a:lnTo>
                      <a:pt x="7942" y="6"/>
                    </a:lnTo>
                    <a:cubicBezTo>
                      <a:pt x="7941" y="6"/>
                      <a:pt x="7940" y="5"/>
                      <a:pt x="7940" y="4"/>
                    </a:cubicBezTo>
                    <a:cubicBezTo>
                      <a:pt x="7940" y="3"/>
                      <a:pt x="7941" y="2"/>
                      <a:pt x="7942" y="2"/>
                    </a:cubicBezTo>
                    <a:close/>
                    <a:moveTo>
                      <a:pt x="7950" y="2"/>
                    </a:moveTo>
                    <a:lnTo>
                      <a:pt x="7950" y="2"/>
                    </a:lnTo>
                    <a:cubicBezTo>
                      <a:pt x="7951" y="2"/>
                      <a:pt x="7952" y="3"/>
                      <a:pt x="7952" y="4"/>
                    </a:cubicBezTo>
                    <a:cubicBezTo>
                      <a:pt x="7952" y="5"/>
                      <a:pt x="7951" y="6"/>
                      <a:pt x="7950" y="6"/>
                    </a:cubicBezTo>
                    <a:lnTo>
                      <a:pt x="7950" y="6"/>
                    </a:lnTo>
                    <a:cubicBezTo>
                      <a:pt x="7949" y="6"/>
                      <a:pt x="7948" y="5"/>
                      <a:pt x="7948" y="4"/>
                    </a:cubicBezTo>
                    <a:cubicBezTo>
                      <a:pt x="7948" y="3"/>
                      <a:pt x="7949" y="2"/>
                      <a:pt x="7950" y="2"/>
                    </a:cubicBezTo>
                    <a:close/>
                    <a:moveTo>
                      <a:pt x="7958" y="2"/>
                    </a:moveTo>
                    <a:lnTo>
                      <a:pt x="7958" y="2"/>
                    </a:lnTo>
                    <a:cubicBezTo>
                      <a:pt x="7959" y="2"/>
                      <a:pt x="7960" y="3"/>
                      <a:pt x="7960" y="4"/>
                    </a:cubicBezTo>
                    <a:cubicBezTo>
                      <a:pt x="7960" y="5"/>
                      <a:pt x="7959" y="6"/>
                      <a:pt x="7958" y="6"/>
                    </a:cubicBezTo>
                    <a:lnTo>
                      <a:pt x="7958" y="6"/>
                    </a:lnTo>
                    <a:cubicBezTo>
                      <a:pt x="7957" y="6"/>
                      <a:pt x="7956" y="5"/>
                      <a:pt x="7956" y="4"/>
                    </a:cubicBezTo>
                    <a:cubicBezTo>
                      <a:pt x="7956" y="3"/>
                      <a:pt x="7957" y="2"/>
                      <a:pt x="7958" y="2"/>
                    </a:cubicBezTo>
                    <a:close/>
                    <a:moveTo>
                      <a:pt x="7966" y="2"/>
                    </a:moveTo>
                    <a:lnTo>
                      <a:pt x="7966" y="2"/>
                    </a:lnTo>
                    <a:cubicBezTo>
                      <a:pt x="7967" y="2"/>
                      <a:pt x="7968" y="3"/>
                      <a:pt x="7968" y="4"/>
                    </a:cubicBezTo>
                    <a:cubicBezTo>
                      <a:pt x="7968" y="5"/>
                      <a:pt x="7967" y="6"/>
                      <a:pt x="7966" y="6"/>
                    </a:cubicBezTo>
                    <a:lnTo>
                      <a:pt x="7966" y="6"/>
                    </a:lnTo>
                    <a:cubicBezTo>
                      <a:pt x="7965" y="6"/>
                      <a:pt x="7964" y="5"/>
                      <a:pt x="7964" y="4"/>
                    </a:cubicBezTo>
                    <a:cubicBezTo>
                      <a:pt x="7964" y="3"/>
                      <a:pt x="7965" y="2"/>
                      <a:pt x="7966" y="2"/>
                    </a:cubicBezTo>
                    <a:close/>
                    <a:moveTo>
                      <a:pt x="7974" y="2"/>
                    </a:moveTo>
                    <a:lnTo>
                      <a:pt x="7974" y="2"/>
                    </a:lnTo>
                    <a:cubicBezTo>
                      <a:pt x="7975" y="2"/>
                      <a:pt x="7976" y="3"/>
                      <a:pt x="7976" y="4"/>
                    </a:cubicBezTo>
                    <a:cubicBezTo>
                      <a:pt x="7976" y="5"/>
                      <a:pt x="7975" y="6"/>
                      <a:pt x="7974" y="6"/>
                    </a:cubicBezTo>
                    <a:lnTo>
                      <a:pt x="7974" y="6"/>
                    </a:lnTo>
                    <a:cubicBezTo>
                      <a:pt x="7973" y="6"/>
                      <a:pt x="7972" y="5"/>
                      <a:pt x="7972" y="4"/>
                    </a:cubicBezTo>
                    <a:cubicBezTo>
                      <a:pt x="7972" y="3"/>
                      <a:pt x="7973" y="2"/>
                      <a:pt x="7974" y="2"/>
                    </a:cubicBezTo>
                    <a:close/>
                    <a:moveTo>
                      <a:pt x="7982" y="2"/>
                    </a:moveTo>
                    <a:lnTo>
                      <a:pt x="7982" y="2"/>
                    </a:lnTo>
                    <a:cubicBezTo>
                      <a:pt x="7983" y="2"/>
                      <a:pt x="7984" y="3"/>
                      <a:pt x="7984" y="4"/>
                    </a:cubicBezTo>
                    <a:cubicBezTo>
                      <a:pt x="7984" y="5"/>
                      <a:pt x="7983" y="6"/>
                      <a:pt x="7982" y="6"/>
                    </a:cubicBezTo>
                    <a:lnTo>
                      <a:pt x="7982" y="6"/>
                    </a:lnTo>
                    <a:cubicBezTo>
                      <a:pt x="7981" y="6"/>
                      <a:pt x="7980" y="5"/>
                      <a:pt x="7980" y="4"/>
                    </a:cubicBezTo>
                    <a:cubicBezTo>
                      <a:pt x="7980" y="3"/>
                      <a:pt x="7981" y="2"/>
                      <a:pt x="7982" y="2"/>
                    </a:cubicBezTo>
                    <a:close/>
                    <a:moveTo>
                      <a:pt x="7990" y="2"/>
                    </a:moveTo>
                    <a:lnTo>
                      <a:pt x="7990" y="2"/>
                    </a:lnTo>
                    <a:cubicBezTo>
                      <a:pt x="7991" y="2"/>
                      <a:pt x="7992" y="3"/>
                      <a:pt x="7992" y="4"/>
                    </a:cubicBezTo>
                    <a:cubicBezTo>
                      <a:pt x="7992" y="5"/>
                      <a:pt x="7991" y="6"/>
                      <a:pt x="7990" y="6"/>
                    </a:cubicBezTo>
                    <a:lnTo>
                      <a:pt x="7990" y="6"/>
                    </a:lnTo>
                    <a:cubicBezTo>
                      <a:pt x="7989" y="6"/>
                      <a:pt x="7988" y="5"/>
                      <a:pt x="7988" y="4"/>
                    </a:cubicBezTo>
                    <a:cubicBezTo>
                      <a:pt x="7988" y="3"/>
                      <a:pt x="7989" y="2"/>
                      <a:pt x="7990" y="2"/>
                    </a:cubicBezTo>
                    <a:close/>
                    <a:moveTo>
                      <a:pt x="7998" y="2"/>
                    </a:moveTo>
                    <a:lnTo>
                      <a:pt x="7998" y="2"/>
                    </a:lnTo>
                    <a:cubicBezTo>
                      <a:pt x="7999" y="2"/>
                      <a:pt x="8000" y="3"/>
                      <a:pt x="8000" y="4"/>
                    </a:cubicBezTo>
                    <a:cubicBezTo>
                      <a:pt x="8000" y="5"/>
                      <a:pt x="7999" y="6"/>
                      <a:pt x="7998" y="6"/>
                    </a:cubicBezTo>
                    <a:lnTo>
                      <a:pt x="7998" y="6"/>
                    </a:lnTo>
                    <a:cubicBezTo>
                      <a:pt x="7997" y="6"/>
                      <a:pt x="7996" y="5"/>
                      <a:pt x="7996" y="4"/>
                    </a:cubicBezTo>
                    <a:cubicBezTo>
                      <a:pt x="7996" y="3"/>
                      <a:pt x="7997" y="2"/>
                      <a:pt x="7998" y="2"/>
                    </a:cubicBezTo>
                    <a:close/>
                    <a:moveTo>
                      <a:pt x="8006" y="2"/>
                    </a:moveTo>
                    <a:lnTo>
                      <a:pt x="8006" y="2"/>
                    </a:lnTo>
                    <a:cubicBezTo>
                      <a:pt x="8007" y="2"/>
                      <a:pt x="8008" y="3"/>
                      <a:pt x="8008" y="4"/>
                    </a:cubicBezTo>
                    <a:cubicBezTo>
                      <a:pt x="8008" y="5"/>
                      <a:pt x="8007" y="6"/>
                      <a:pt x="8006" y="6"/>
                    </a:cubicBezTo>
                    <a:lnTo>
                      <a:pt x="8006" y="6"/>
                    </a:lnTo>
                    <a:cubicBezTo>
                      <a:pt x="8005" y="6"/>
                      <a:pt x="8004" y="5"/>
                      <a:pt x="8004" y="4"/>
                    </a:cubicBezTo>
                    <a:cubicBezTo>
                      <a:pt x="8004" y="3"/>
                      <a:pt x="8005" y="2"/>
                      <a:pt x="8006" y="2"/>
                    </a:cubicBezTo>
                    <a:close/>
                    <a:moveTo>
                      <a:pt x="8014" y="2"/>
                    </a:moveTo>
                    <a:lnTo>
                      <a:pt x="8014" y="2"/>
                    </a:lnTo>
                    <a:cubicBezTo>
                      <a:pt x="8015" y="2"/>
                      <a:pt x="8016" y="3"/>
                      <a:pt x="8016" y="4"/>
                    </a:cubicBezTo>
                    <a:cubicBezTo>
                      <a:pt x="8016" y="5"/>
                      <a:pt x="8015" y="6"/>
                      <a:pt x="8014" y="6"/>
                    </a:cubicBezTo>
                    <a:lnTo>
                      <a:pt x="8014" y="6"/>
                    </a:lnTo>
                    <a:cubicBezTo>
                      <a:pt x="8013" y="6"/>
                      <a:pt x="8012" y="5"/>
                      <a:pt x="8012" y="4"/>
                    </a:cubicBezTo>
                    <a:cubicBezTo>
                      <a:pt x="8012" y="3"/>
                      <a:pt x="8013" y="2"/>
                      <a:pt x="8014" y="2"/>
                    </a:cubicBezTo>
                    <a:close/>
                    <a:moveTo>
                      <a:pt x="8022" y="2"/>
                    </a:moveTo>
                    <a:lnTo>
                      <a:pt x="8022" y="2"/>
                    </a:lnTo>
                    <a:cubicBezTo>
                      <a:pt x="8023" y="2"/>
                      <a:pt x="8024" y="3"/>
                      <a:pt x="8024" y="4"/>
                    </a:cubicBezTo>
                    <a:cubicBezTo>
                      <a:pt x="8024" y="5"/>
                      <a:pt x="8023" y="6"/>
                      <a:pt x="8022" y="6"/>
                    </a:cubicBezTo>
                    <a:lnTo>
                      <a:pt x="8022" y="6"/>
                    </a:lnTo>
                    <a:cubicBezTo>
                      <a:pt x="8021" y="6"/>
                      <a:pt x="8020" y="5"/>
                      <a:pt x="8020" y="4"/>
                    </a:cubicBezTo>
                    <a:cubicBezTo>
                      <a:pt x="8020" y="3"/>
                      <a:pt x="8021" y="2"/>
                      <a:pt x="8022" y="2"/>
                    </a:cubicBezTo>
                    <a:close/>
                    <a:moveTo>
                      <a:pt x="8030" y="2"/>
                    </a:moveTo>
                    <a:lnTo>
                      <a:pt x="8030" y="2"/>
                    </a:lnTo>
                    <a:cubicBezTo>
                      <a:pt x="8031" y="2"/>
                      <a:pt x="8032" y="3"/>
                      <a:pt x="8032" y="4"/>
                    </a:cubicBezTo>
                    <a:cubicBezTo>
                      <a:pt x="8032" y="5"/>
                      <a:pt x="8031" y="6"/>
                      <a:pt x="8030" y="6"/>
                    </a:cubicBezTo>
                    <a:lnTo>
                      <a:pt x="8030" y="6"/>
                    </a:lnTo>
                    <a:cubicBezTo>
                      <a:pt x="8029" y="6"/>
                      <a:pt x="8028" y="5"/>
                      <a:pt x="8028" y="4"/>
                    </a:cubicBezTo>
                    <a:cubicBezTo>
                      <a:pt x="8028" y="3"/>
                      <a:pt x="8029" y="2"/>
                      <a:pt x="8030" y="2"/>
                    </a:cubicBezTo>
                    <a:close/>
                    <a:moveTo>
                      <a:pt x="8038" y="2"/>
                    </a:moveTo>
                    <a:lnTo>
                      <a:pt x="8038" y="2"/>
                    </a:lnTo>
                    <a:cubicBezTo>
                      <a:pt x="8039" y="2"/>
                      <a:pt x="8040" y="3"/>
                      <a:pt x="8040" y="4"/>
                    </a:cubicBezTo>
                    <a:cubicBezTo>
                      <a:pt x="8040" y="5"/>
                      <a:pt x="8039" y="6"/>
                      <a:pt x="8038" y="6"/>
                    </a:cubicBezTo>
                    <a:lnTo>
                      <a:pt x="8038" y="6"/>
                    </a:lnTo>
                    <a:cubicBezTo>
                      <a:pt x="8037" y="6"/>
                      <a:pt x="8036" y="5"/>
                      <a:pt x="8036" y="4"/>
                    </a:cubicBezTo>
                    <a:cubicBezTo>
                      <a:pt x="8036" y="3"/>
                      <a:pt x="8037" y="2"/>
                      <a:pt x="8038" y="2"/>
                    </a:cubicBezTo>
                    <a:close/>
                    <a:moveTo>
                      <a:pt x="8046" y="2"/>
                    </a:moveTo>
                    <a:lnTo>
                      <a:pt x="8046" y="2"/>
                    </a:lnTo>
                    <a:cubicBezTo>
                      <a:pt x="8047" y="2"/>
                      <a:pt x="8048" y="3"/>
                      <a:pt x="8048" y="4"/>
                    </a:cubicBezTo>
                    <a:cubicBezTo>
                      <a:pt x="8048" y="5"/>
                      <a:pt x="8047" y="6"/>
                      <a:pt x="8046" y="6"/>
                    </a:cubicBezTo>
                    <a:lnTo>
                      <a:pt x="8046" y="6"/>
                    </a:lnTo>
                    <a:cubicBezTo>
                      <a:pt x="8045" y="6"/>
                      <a:pt x="8044" y="5"/>
                      <a:pt x="8044" y="4"/>
                    </a:cubicBezTo>
                    <a:cubicBezTo>
                      <a:pt x="8044" y="3"/>
                      <a:pt x="8045" y="2"/>
                      <a:pt x="8046" y="2"/>
                    </a:cubicBezTo>
                    <a:close/>
                    <a:moveTo>
                      <a:pt x="8054" y="2"/>
                    </a:moveTo>
                    <a:lnTo>
                      <a:pt x="8054" y="2"/>
                    </a:lnTo>
                    <a:cubicBezTo>
                      <a:pt x="8055" y="2"/>
                      <a:pt x="8056" y="3"/>
                      <a:pt x="8056" y="4"/>
                    </a:cubicBezTo>
                    <a:cubicBezTo>
                      <a:pt x="8056" y="5"/>
                      <a:pt x="8055" y="6"/>
                      <a:pt x="8054" y="6"/>
                    </a:cubicBezTo>
                    <a:lnTo>
                      <a:pt x="8054" y="6"/>
                    </a:lnTo>
                    <a:cubicBezTo>
                      <a:pt x="8053" y="6"/>
                      <a:pt x="8052" y="5"/>
                      <a:pt x="8052" y="4"/>
                    </a:cubicBezTo>
                    <a:cubicBezTo>
                      <a:pt x="8052" y="3"/>
                      <a:pt x="8053" y="2"/>
                      <a:pt x="8054" y="2"/>
                    </a:cubicBezTo>
                    <a:close/>
                    <a:moveTo>
                      <a:pt x="8062" y="2"/>
                    </a:moveTo>
                    <a:lnTo>
                      <a:pt x="8062" y="2"/>
                    </a:lnTo>
                    <a:cubicBezTo>
                      <a:pt x="8063" y="2"/>
                      <a:pt x="8064" y="3"/>
                      <a:pt x="8064" y="4"/>
                    </a:cubicBezTo>
                    <a:cubicBezTo>
                      <a:pt x="8064" y="5"/>
                      <a:pt x="8063" y="6"/>
                      <a:pt x="8062" y="6"/>
                    </a:cubicBezTo>
                    <a:lnTo>
                      <a:pt x="8062" y="6"/>
                    </a:lnTo>
                    <a:cubicBezTo>
                      <a:pt x="8061" y="6"/>
                      <a:pt x="8060" y="5"/>
                      <a:pt x="8060" y="4"/>
                    </a:cubicBezTo>
                    <a:cubicBezTo>
                      <a:pt x="8060" y="3"/>
                      <a:pt x="8061" y="2"/>
                      <a:pt x="8062" y="2"/>
                    </a:cubicBezTo>
                    <a:close/>
                    <a:moveTo>
                      <a:pt x="8070" y="2"/>
                    </a:moveTo>
                    <a:lnTo>
                      <a:pt x="8070" y="2"/>
                    </a:lnTo>
                    <a:cubicBezTo>
                      <a:pt x="8071" y="2"/>
                      <a:pt x="8072" y="3"/>
                      <a:pt x="8072" y="4"/>
                    </a:cubicBezTo>
                    <a:cubicBezTo>
                      <a:pt x="8072" y="5"/>
                      <a:pt x="8071" y="6"/>
                      <a:pt x="8070" y="6"/>
                    </a:cubicBezTo>
                    <a:lnTo>
                      <a:pt x="8070" y="6"/>
                    </a:lnTo>
                    <a:cubicBezTo>
                      <a:pt x="8069" y="6"/>
                      <a:pt x="8068" y="5"/>
                      <a:pt x="8068" y="4"/>
                    </a:cubicBezTo>
                    <a:cubicBezTo>
                      <a:pt x="8068" y="3"/>
                      <a:pt x="8069" y="2"/>
                      <a:pt x="8070" y="2"/>
                    </a:cubicBezTo>
                    <a:close/>
                    <a:moveTo>
                      <a:pt x="8078" y="2"/>
                    </a:moveTo>
                    <a:lnTo>
                      <a:pt x="8078" y="2"/>
                    </a:lnTo>
                    <a:cubicBezTo>
                      <a:pt x="8079" y="2"/>
                      <a:pt x="8080" y="3"/>
                      <a:pt x="8080" y="4"/>
                    </a:cubicBezTo>
                    <a:cubicBezTo>
                      <a:pt x="8080" y="5"/>
                      <a:pt x="8079" y="6"/>
                      <a:pt x="8078" y="6"/>
                    </a:cubicBezTo>
                    <a:lnTo>
                      <a:pt x="8078" y="6"/>
                    </a:lnTo>
                    <a:cubicBezTo>
                      <a:pt x="8077" y="6"/>
                      <a:pt x="8076" y="5"/>
                      <a:pt x="8076" y="4"/>
                    </a:cubicBezTo>
                    <a:cubicBezTo>
                      <a:pt x="8076" y="3"/>
                      <a:pt x="8077" y="2"/>
                      <a:pt x="8078" y="2"/>
                    </a:cubicBezTo>
                    <a:close/>
                    <a:moveTo>
                      <a:pt x="8086" y="2"/>
                    </a:moveTo>
                    <a:lnTo>
                      <a:pt x="8086" y="2"/>
                    </a:lnTo>
                    <a:cubicBezTo>
                      <a:pt x="8087" y="2"/>
                      <a:pt x="8088" y="3"/>
                      <a:pt x="8088" y="4"/>
                    </a:cubicBezTo>
                    <a:cubicBezTo>
                      <a:pt x="8088" y="5"/>
                      <a:pt x="8087" y="6"/>
                      <a:pt x="8086" y="6"/>
                    </a:cubicBezTo>
                    <a:lnTo>
                      <a:pt x="8086" y="6"/>
                    </a:lnTo>
                    <a:cubicBezTo>
                      <a:pt x="8085" y="6"/>
                      <a:pt x="8084" y="5"/>
                      <a:pt x="8084" y="4"/>
                    </a:cubicBezTo>
                    <a:cubicBezTo>
                      <a:pt x="8084" y="3"/>
                      <a:pt x="8085" y="2"/>
                      <a:pt x="8086" y="2"/>
                    </a:cubicBezTo>
                    <a:close/>
                    <a:moveTo>
                      <a:pt x="8094" y="2"/>
                    </a:moveTo>
                    <a:lnTo>
                      <a:pt x="8094" y="2"/>
                    </a:lnTo>
                    <a:cubicBezTo>
                      <a:pt x="8095" y="2"/>
                      <a:pt x="8096" y="3"/>
                      <a:pt x="8096" y="4"/>
                    </a:cubicBezTo>
                    <a:cubicBezTo>
                      <a:pt x="8096" y="5"/>
                      <a:pt x="8095" y="6"/>
                      <a:pt x="8094" y="6"/>
                    </a:cubicBezTo>
                    <a:lnTo>
                      <a:pt x="8094" y="6"/>
                    </a:lnTo>
                    <a:cubicBezTo>
                      <a:pt x="8093" y="6"/>
                      <a:pt x="8092" y="5"/>
                      <a:pt x="8092" y="4"/>
                    </a:cubicBezTo>
                    <a:cubicBezTo>
                      <a:pt x="8092" y="3"/>
                      <a:pt x="8093" y="2"/>
                      <a:pt x="8094" y="2"/>
                    </a:cubicBezTo>
                    <a:close/>
                    <a:moveTo>
                      <a:pt x="8102" y="2"/>
                    </a:moveTo>
                    <a:lnTo>
                      <a:pt x="8102" y="2"/>
                    </a:lnTo>
                    <a:cubicBezTo>
                      <a:pt x="8103" y="2"/>
                      <a:pt x="8104" y="3"/>
                      <a:pt x="8104" y="4"/>
                    </a:cubicBezTo>
                    <a:cubicBezTo>
                      <a:pt x="8104" y="5"/>
                      <a:pt x="8103" y="6"/>
                      <a:pt x="8102" y="6"/>
                    </a:cubicBezTo>
                    <a:lnTo>
                      <a:pt x="8102" y="6"/>
                    </a:lnTo>
                    <a:cubicBezTo>
                      <a:pt x="8101" y="6"/>
                      <a:pt x="8100" y="5"/>
                      <a:pt x="8100" y="4"/>
                    </a:cubicBezTo>
                    <a:cubicBezTo>
                      <a:pt x="8100" y="3"/>
                      <a:pt x="8101" y="2"/>
                      <a:pt x="8102" y="2"/>
                    </a:cubicBezTo>
                    <a:close/>
                    <a:moveTo>
                      <a:pt x="8110" y="2"/>
                    </a:moveTo>
                    <a:lnTo>
                      <a:pt x="8110" y="2"/>
                    </a:lnTo>
                    <a:cubicBezTo>
                      <a:pt x="8111" y="2"/>
                      <a:pt x="8112" y="3"/>
                      <a:pt x="8112" y="4"/>
                    </a:cubicBezTo>
                    <a:cubicBezTo>
                      <a:pt x="8112" y="5"/>
                      <a:pt x="8111" y="6"/>
                      <a:pt x="8110" y="6"/>
                    </a:cubicBezTo>
                    <a:lnTo>
                      <a:pt x="8110" y="6"/>
                    </a:lnTo>
                    <a:cubicBezTo>
                      <a:pt x="8109" y="6"/>
                      <a:pt x="8108" y="5"/>
                      <a:pt x="8108" y="4"/>
                    </a:cubicBezTo>
                    <a:cubicBezTo>
                      <a:pt x="8108" y="3"/>
                      <a:pt x="8109" y="2"/>
                      <a:pt x="8110" y="2"/>
                    </a:cubicBezTo>
                    <a:close/>
                    <a:moveTo>
                      <a:pt x="8118" y="2"/>
                    </a:moveTo>
                    <a:lnTo>
                      <a:pt x="8118" y="2"/>
                    </a:lnTo>
                    <a:cubicBezTo>
                      <a:pt x="8119" y="2"/>
                      <a:pt x="8120" y="3"/>
                      <a:pt x="8120" y="4"/>
                    </a:cubicBezTo>
                    <a:cubicBezTo>
                      <a:pt x="8120" y="5"/>
                      <a:pt x="8119" y="6"/>
                      <a:pt x="8118" y="6"/>
                    </a:cubicBezTo>
                    <a:lnTo>
                      <a:pt x="8118" y="6"/>
                    </a:lnTo>
                    <a:cubicBezTo>
                      <a:pt x="8117" y="6"/>
                      <a:pt x="8116" y="5"/>
                      <a:pt x="8116" y="4"/>
                    </a:cubicBezTo>
                    <a:cubicBezTo>
                      <a:pt x="8116" y="3"/>
                      <a:pt x="8117" y="2"/>
                      <a:pt x="8118" y="2"/>
                    </a:cubicBezTo>
                    <a:close/>
                    <a:moveTo>
                      <a:pt x="8126" y="2"/>
                    </a:moveTo>
                    <a:lnTo>
                      <a:pt x="8126" y="2"/>
                    </a:lnTo>
                    <a:cubicBezTo>
                      <a:pt x="8127" y="2"/>
                      <a:pt x="8128" y="3"/>
                      <a:pt x="8128" y="4"/>
                    </a:cubicBezTo>
                    <a:cubicBezTo>
                      <a:pt x="8128" y="5"/>
                      <a:pt x="8127" y="6"/>
                      <a:pt x="8126" y="6"/>
                    </a:cubicBezTo>
                    <a:lnTo>
                      <a:pt x="8126" y="6"/>
                    </a:lnTo>
                    <a:cubicBezTo>
                      <a:pt x="8125" y="6"/>
                      <a:pt x="8124" y="5"/>
                      <a:pt x="8124" y="4"/>
                    </a:cubicBezTo>
                    <a:cubicBezTo>
                      <a:pt x="8124" y="3"/>
                      <a:pt x="8125" y="2"/>
                      <a:pt x="8126" y="2"/>
                    </a:cubicBezTo>
                    <a:close/>
                    <a:moveTo>
                      <a:pt x="8134" y="2"/>
                    </a:moveTo>
                    <a:lnTo>
                      <a:pt x="8134" y="2"/>
                    </a:lnTo>
                    <a:cubicBezTo>
                      <a:pt x="8135" y="2"/>
                      <a:pt x="8136" y="3"/>
                      <a:pt x="8136" y="4"/>
                    </a:cubicBezTo>
                    <a:cubicBezTo>
                      <a:pt x="8136" y="5"/>
                      <a:pt x="8135" y="6"/>
                      <a:pt x="8134" y="6"/>
                    </a:cubicBezTo>
                    <a:lnTo>
                      <a:pt x="8134" y="6"/>
                    </a:lnTo>
                    <a:cubicBezTo>
                      <a:pt x="8133" y="6"/>
                      <a:pt x="8132" y="5"/>
                      <a:pt x="8132" y="4"/>
                    </a:cubicBezTo>
                    <a:cubicBezTo>
                      <a:pt x="8132" y="3"/>
                      <a:pt x="8133" y="2"/>
                      <a:pt x="8134" y="2"/>
                    </a:cubicBezTo>
                    <a:close/>
                    <a:moveTo>
                      <a:pt x="8142" y="2"/>
                    </a:moveTo>
                    <a:lnTo>
                      <a:pt x="8142" y="2"/>
                    </a:lnTo>
                    <a:cubicBezTo>
                      <a:pt x="8143" y="2"/>
                      <a:pt x="8144" y="3"/>
                      <a:pt x="8144" y="4"/>
                    </a:cubicBezTo>
                    <a:cubicBezTo>
                      <a:pt x="8144" y="5"/>
                      <a:pt x="8143" y="6"/>
                      <a:pt x="8142" y="6"/>
                    </a:cubicBezTo>
                    <a:lnTo>
                      <a:pt x="8142" y="6"/>
                    </a:lnTo>
                    <a:cubicBezTo>
                      <a:pt x="8141" y="6"/>
                      <a:pt x="8140" y="5"/>
                      <a:pt x="8140" y="4"/>
                    </a:cubicBezTo>
                    <a:cubicBezTo>
                      <a:pt x="8140" y="3"/>
                      <a:pt x="8141" y="2"/>
                      <a:pt x="8142" y="2"/>
                    </a:cubicBezTo>
                    <a:close/>
                    <a:moveTo>
                      <a:pt x="8150" y="2"/>
                    </a:moveTo>
                    <a:lnTo>
                      <a:pt x="8150" y="2"/>
                    </a:lnTo>
                    <a:cubicBezTo>
                      <a:pt x="8151" y="2"/>
                      <a:pt x="8152" y="3"/>
                      <a:pt x="8152" y="4"/>
                    </a:cubicBezTo>
                    <a:cubicBezTo>
                      <a:pt x="8152" y="5"/>
                      <a:pt x="8151" y="6"/>
                      <a:pt x="8150" y="6"/>
                    </a:cubicBezTo>
                    <a:lnTo>
                      <a:pt x="8150" y="6"/>
                    </a:lnTo>
                    <a:cubicBezTo>
                      <a:pt x="8149" y="6"/>
                      <a:pt x="8148" y="5"/>
                      <a:pt x="8148" y="4"/>
                    </a:cubicBezTo>
                    <a:cubicBezTo>
                      <a:pt x="8148" y="3"/>
                      <a:pt x="8149" y="2"/>
                      <a:pt x="8150" y="2"/>
                    </a:cubicBezTo>
                    <a:close/>
                    <a:moveTo>
                      <a:pt x="8158" y="2"/>
                    </a:moveTo>
                    <a:lnTo>
                      <a:pt x="8158" y="2"/>
                    </a:lnTo>
                    <a:cubicBezTo>
                      <a:pt x="8159" y="2"/>
                      <a:pt x="8160" y="3"/>
                      <a:pt x="8160" y="4"/>
                    </a:cubicBezTo>
                    <a:cubicBezTo>
                      <a:pt x="8160" y="5"/>
                      <a:pt x="8159" y="6"/>
                      <a:pt x="8158" y="6"/>
                    </a:cubicBezTo>
                    <a:lnTo>
                      <a:pt x="8158" y="6"/>
                    </a:lnTo>
                    <a:cubicBezTo>
                      <a:pt x="8157" y="6"/>
                      <a:pt x="8156" y="5"/>
                      <a:pt x="8156" y="4"/>
                    </a:cubicBezTo>
                    <a:cubicBezTo>
                      <a:pt x="8156" y="3"/>
                      <a:pt x="8157" y="2"/>
                      <a:pt x="8158" y="2"/>
                    </a:cubicBezTo>
                    <a:close/>
                    <a:moveTo>
                      <a:pt x="8166" y="2"/>
                    </a:moveTo>
                    <a:lnTo>
                      <a:pt x="8166" y="2"/>
                    </a:lnTo>
                    <a:cubicBezTo>
                      <a:pt x="8167" y="2"/>
                      <a:pt x="8168" y="3"/>
                      <a:pt x="8168" y="4"/>
                    </a:cubicBezTo>
                    <a:cubicBezTo>
                      <a:pt x="8168" y="5"/>
                      <a:pt x="8167" y="6"/>
                      <a:pt x="8166" y="6"/>
                    </a:cubicBezTo>
                    <a:lnTo>
                      <a:pt x="8166" y="6"/>
                    </a:lnTo>
                    <a:cubicBezTo>
                      <a:pt x="8165" y="6"/>
                      <a:pt x="8164" y="5"/>
                      <a:pt x="8164" y="4"/>
                    </a:cubicBezTo>
                    <a:cubicBezTo>
                      <a:pt x="8164" y="3"/>
                      <a:pt x="8165" y="2"/>
                      <a:pt x="8166" y="2"/>
                    </a:cubicBezTo>
                    <a:close/>
                    <a:moveTo>
                      <a:pt x="8174" y="2"/>
                    </a:moveTo>
                    <a:lnTo>
                      <a:pt x="8174" y="2"/>
                    </a:lnTo>
                    <a:cubicBezTo>
                      <a:pt x="8175" y="2"/>
                      <a:pt x="8176" y="3"/>
                      <a:pt x="8176" y="4"/>
                    </a:cubicBezTo>
                    <a:cubicBezTo>
                      <a:pt x="8176" y="5"/>
                      <a:pt x="8175" y="6"/>
                      <a:pt x="8174" y="6"/>
                    </a:cubicBezTo>
                    <a:lnTo>
                      <a:pt x="8174" y="6"/>
                    </a:lnTo>
                    <a:cubicBezTo>
                      <a:pt x="8173" y="6"/>
                      <a:pt x="8172" y="5"/>
                      <a:pt x="8172" y="4"/>
                    </a:cubicBezTo>
                    <a:cubicBezTo>
                      <a:pt x="8172" y="3"/>
                      <a:pt x="8173" y="2"/>
                      <a:pt x="8174" y="2"/>
                    </a:cubicBezTo>
                    <a:close/>
                    <a:moveTo>
                      <a:pt x="8182" y="2"/>
                    </a:moveTo>
                    <a:lnTo>
                      <a:pt x="8182" y="2"/>
                    </a:lnTo>
                    <a:cubicBezTo>
                      <a:pt x="8183" y="2"/>
                      <a:pt x="8184" y="3"/>
                      <a:pt x="8184" y="4"/>
                    </a:cubicBezTo>
                    <a:cubicBezTo>
                      <a:pt x="8184" y="5"/>
                      <a:pt x="8183" y="6"/>
                      <a:pt x="8182" y="6"/>
                    </a:cubicBezTo>
                    <a:lnTo>
                      <a:pt x="8182" y="6"/>
                    </a:lnTo>
                    <a:cubicBezTo>
                      <a:pt x="8181" y="6"/>
                      <a:pt x="8180" y="5"/>
                      <a:pt x="8180" y="4"/>
                    </a:cubicBezTo>
                    <a:cubicBezTo>
                      <a:pt x="8180" y="3"/>
                      <a:pt x="8181" y="2"/>
                      <a:pt x="8182" y="2"/>
                    </a:cubicBezTo>
                    <a:close/>
                    <a:moveTo>
                      <a:pt x="8190" y="2"/>
                    </a:moveTo>
                    <a:lnTo>
                      <a:pt x="8190" y="2"/>
                    </a:lnTo>
                    <a:cubicBezTo>
                      <a:pt x="8191" y="2"/>
                      <a:pt x="8192" y="3"/>
                      <a:pt x="8192" y="4"/>
                    </a:cubicBezTo>
                    <a:cubicBezTo>
                      <a:pt x="8192" y="5"/>
                      <a:pt x="8191" y="6"/>
                      <a:pt x="8190" y="6"/>
                    </a:cubicBezTo>
                    <a:lnTo>
                      <a:pt x="8190" y="6"/>
                    </a:lnTo>
                    <a:cubicBezTo>
                      <a:pt x="8189" y="6"/>
                      <a:pt x="8188" y="5"/>
                      <a:pt x="8188" y="4"/>
                    </a:cubicBezTo>
                    <a:cubicBezTo>
                      <a:pt x="8188" y="3"/>
                      <a:pt x="8189" y="2"/>
                      <a:pt x="8190" y="2"/>
                    </a:cubicBezTo>
                    <a:close/>
                    <a:moveTo>
                      <a:pt x="8198" y="2"/>
                    </a:moveTo>
                    <a:lnTo>
                      <a:pt x="8198" y="2"/>
                    </a:lnTo>
                    <a:cubicBezTo>
                      <a:pt x="8199" y="2"/>
                      <a:pt x="8200" y="3"/>
                      <a:pt x="8200" y="4"/>
                    </a:cubicBezTo>
                    <a:cubicBezTo>
                      <a:pt x="8200" y="5"/>
                      <a:pt x="8199" y="6"/>
                      <a:pt x="8198" y="6"/>
                    </a:cubicBezTo>
                    <a:lnTo>
                      <a:pt x="8198" y="6"/>
                    </a:lnTo>
                    <a:cubicBezTo>
                      <a:pt x="8197" y="6"/>
                      <a:pt x="8196" y="5"/>
                      <a:pt x="8196" y="4"/>
                    </a:cubicBezTo>
                    <a:cubicBezTo>
                      <a:pt x="8196" y="3"/>
                      <a:pt x="8197" y="2"/>
                      <a:pt x="8198" y="2"/>
                    </a:cubicBezTo>
                    <a:close/>
                    <a:moveTo>
                      <a:pt x="8206" y="2"/>
                    </a:moveTo>
                    <a:lnTo>
                      <a:pt x="8206" y="2"/>
                    </a:lnTo>
                    <a:cubicBezTo>
                      <a:pt x="8207" y="2"/>
                      <a:pt x="8208" y="3"/>
                      <a:pt x="8208" y="4"/>
                    </a:cubicBezTo>
                    <a:cubicBezTo>
                      <a:pt x="8208" y="5"/>
                      <a:pt x="8207" y="6"/>
                      <a:pt x="8206" y="6"/>
                    </a:cubicBezTo>
                    <a:lnTo>
                      <a:pt x="8206" y="6"/>
                    </a:lnTo>
                    <a:cubicBezTo>
                      <a:pt x="8205" y="6"/>
                      <a:pt x="8204" y="5"/>
                      <a:pt x="8204" y="4"/>
                    </a:cubicBezTo>
                    <a:cubicBezTo>
                      <a:pt x="8204" y="3"/>
                      <a:pt x="8205" y="2"/>
                      <a:pt x="8206" y="2"/>
                    </a:cubicBezTo>
                    <a:close/>
                    <a:moveTo>
                      <a:pt x="8214" y="2"/>
                    </a:moveTo>
                    <a:lnTo>
                      <a:pt x="8214" y="2"/>
                    </a:lnTo>
                    <a:cubicBezTo>
                      <a:pt x="8215" y="2"/>
                      <a:pt x="8216" y="3"/>
                      <a:pt x="8216" y="4"/>
                    </a:cubicBezTo>
                    <a:cubicBezTo>
                      <a:pt x="8216" y="5"/>
                      <a:pt x="8215" y="6"/>
                      <a:pt x="8214" y="6"/>
                    </a:cubicBezTo>
                    <a:lnTo>
                      <a:pt x="8214" y="6"/>
                    </a:lnTo>
                    <a:cubicBezTo>
                      <a:pt x="8213" y="6"/>
                      <a:pt x="8212" y="5"/>
                      <a:pt x="8212" y="4"/>
                    </a:cubicBezTo>
                    <a:cubicBezTo>
                      <a:pt x="8212" y="3"/>
                      <a:pt x="8213" y="2"/>
                      <a:pt x="8214" y="2"/>
                    </a:cubicBezTo>
                    <a:close/>
                    <a:moveTo>
                      <a:pt x="8222" y="2"/>
                    </a:moveTo>
                    <a:lnTo>
                      <a:pt x="8222" y="2"/>
                    </a:lnTo>
                    <a:cubicBezTo>
                      <a:pt x="8223" y="2"/>
                      <a:pt x="8224" y="3"/>
                      <a:pt x="8224" y="4"/>
                    </a:cubicBezTo>
                    <a:cubicBezTo>
                      <a:pt x="8224" y="5"/>
                      <a:pt x="8223" y="6"/>
                      <a:pt x="8222" y="6"/>
                    </a:cubicBezTo>
                    <a:lnTo>
                      <a:pt x="8222" y="6"/>
                    </a:lnTo>
                    <a:cubicBezTo>
                      <a:pt x="8221" y="6"/>
                      <a:pt x="8220" y="5"/>
                      <a:pt x="8220" y="4"/>
                    </a:cubicBezTo>
                    <a:cubicBezTo>
                      <a:pt x="8220" y="3"/>
                      <a:pt x="8221" y="2"/>
                      <a:pt x="8222" y="2"/>
                    </a:cubicBezTo>
                    <a:close/>
                    <a:moveTo>
                      <a:pt x="8230" y="2"/>
                    </a:moveTo>
                    <a:lnTo>
                      <a:pt x="8230" y="2"/>
                    </a:lnTo>
                    <a:cubicBezTo>
                      <a:pt x="8231" y="2"/>
                      <a:pt x="8232" y="3"/>
                      <a:pt x="8232" y="4"/>
                    </a:cubicBezTo>
                    <a:cubicBezTo>
                      <a:pt x="8232" y="5"/>
                      <a:pt x="8231" y="6"/>
                      <a:pt x="8230" y="6"/>
                    </a:cubicBezTo>
                    <a:lnTo>
                      <a:pt x="8230" y="6"/>
                    </a:lnTo>
                    <a:cubicBezTo>
                      <a:pt x="8229" y="6"/>
                      <a:pt x="8228" y="5"/>
                      <a:pt x="8228" y="4"/>
                    </a:cubicBezTo>
                    <a:cubicBezTo>
                      <a:pt x="8228" y="3"/>
                      <a:pt x="8229" y="2"/>
                      <a:pt x="8230" y="2"/>
                    </a:cubicBezTo>
                    <a:close/>
                    <a:moveTo>
                      <a:pt x="8238" y="2"/>
                    </a:moveTo>
                    <a:lnTo>
                      <a:pt x="8238" y="2"/>
                    </a:lnTo>
                    <a:cubicBezTo>
                      <a:pt x="8239" y="2"/>
                      <a:pt x="8240" y="3"/>
                      <a:pt x="8240" y="4"/>
                    </a:cubicBezTo>
                    <a:cubicBezTo>
                      <a:pt x="8240" y="5"/>
                      <a:pt x="8239" y="6"/>
                      <a:pt x="8238" y="6"/>
                    </a:cubicBezTo>
                    <a:lnTo>
                      <a:pt x="8238" y="6"/>
                    </a:lnTo>
                    <a:cubicBezTo>
                      <a:pt x="8237" y="6"/>
                      <a:pt x="8236" y="5"/>
                      <a:pt x="8236" y="4"/>
                    </a:cubicBezTo>
                    <a:cubicBezTo>
                      <a:pt x="8236" y="3"/>
                      <a:pt x="8237" y="2"/>
                      <a:pt x="8238" y="2"/>
                    </a:cubicBezTo>
                    <a:close/>
                    <a:moveTo>
                      <a:pt x="8246" y="2"/>
                    </a:moveTo>
                    <a:lnTo>
                      <a:pt x="8246" y="2"/>
                    </a:lnTo>
                    <a:cubicBezTo>
                      <a:pt x="8247" y="2"/>
                      <a:pt x="8248" y="3"/>
                      <a:pt x="8248" y="4"/>
                    </a:cubicBezTo>
                    <a:cubicBezTo>
                      <a:pt x="8248" y="5"/>
                      <a:pt x="8247" y="6"/>
                      <a:pt x="8246" y="6"/>
                    </a:cubicBezTo>
                    <a:lnTo>
                      <a:pt x="8246" y="6"/>
                    </a:lnTo>
                    <a:cubicBezTo>
                      <a:pt x="8245" y="6"/>
                      <a:pt x="8244" y="5"/>
                      <a:pt x="8244" y="4"/>
                    </a:cubicBezTo>
                    <a:cubicBezTo>
                      <a:pt x="8244" y="3"/>
                      <a:pt x="8245" y="2"/>
                      <a:pt x="8246" y="2"/>
                    </a:cubicBezTo>
                    <a:close/>
                    <a:moveTo>
                      <a:pt x="8254" y="2"/>
                    </a:moveTo>
                    <a:lnTo>
                      <a:pt x="8254" y="2"/>
                    </a:lnTo>
                    <a:cubicBezTo>
                      <a:pt x="8255" y="2"/>
                      <a:pt x="8256" y="3"/>
                      <a:pt x="8256" y="4"/>
                    </a:cubicBezTo>
                    <a:cubicBezTo>
                      <a:pt x="8256" y="5"/>
                      <a:pt x="8255" y="6"/>
                      <a:pt x="8254" y="6"/>
                    </a:cubicBezTo>
                    <a:lnTo>
                      <a:pt x="8254" y="6"/>
                    </a:lnTo>
                    <a:cubicBezTo>
                      <a:pt x="8253" y="6"/>
                      <a:pt x="8252" y="5"/>
                      <a:pt x="8252" y="4"/>
                    </a:cubicBezTo>
                    <a:cubicBezTo>
                      <a:pt x="8252" y="3"/>
                      <a:pt x="8253" y="2"/>
                      <a:pt x="8254" y="2"/>
                    </a:cubicBezTo>
                    <a:close/>
                    <a:moveTo>
                      <a:pt x="8262" y="2"/>
                    </a:moveTo>
                    <a:lnTo>
                      <a:pt x="8262" y="2"/>
                    </a:lnTo>
                    <a:cubicBezTo>
                      <a:pt x="8263" y="2"/>
                      <a:pt x="8264" y="3"/>
                      <a:pt x="8264" y="4"/>
                    </a:cubicBezTo>
                    <a:cubicBezTo>
                      <a:pt x="8264" y="5"/>
                      <a:pt x="8263" y="6"/>
                      <a:pt x="8262" y="6"/>
                    </a:cubicBezTo>
                    <a:lnTo>
                      <a:pt x="8262" y="6"/>
                    </a:lnTo>
                    <a:cubicBezTo>
                      <a:pt x="8261" y="6"/>
                      <a:pt x="8260" y="5"/>
                      <a:pt x="8260" y="4"/>
                    </a:cubicBezTo>
                    <a:cubicBezTo>
                      <a:pt x="8260" y="3"/>
                      <a:pt x="8261" y="2"/>
                      <a:pt x="8262" y="2"/>
                    </a:cubicBezTo>
                    <a:close/>
                    <a:moveTo>
                      <a:pt x="8270" y="2"/>
                    </a:moveTo>
                    <a:lnTo>
                      <a:pt x="8270" y="2"/>
                    </a:lnTo>
                    <a:cubicBezTo>
                      <a:pt x="8271" y="2"/>
                      <a:pt x="8272" y="3"/>
                      <a:pt x="8272" y="4"/>
                    </a:cubicBezTo>
                    <a:cubicBezTo>
                      <a:pt x="8272" y="5"/>
                      <a:pt x="8271" y="6"/>
                      <a:pt x="8270" y="6"/>
                    </a:cubicBezTo>
                    <a:lnTo>
                      <a:pt x="8270" y="6"/>
                    </a:lnTo>
                    <a:cubicBezTo>
                      <a:pt x="8269" y="6"/>
                      <a:pt x="8268" y="5"/>
                      <a:pt x="8268" y="4"/>
                    </a:cubicBezTo>
                    <a:cubicBezTo>
                      <a:pt x="8268" y="3"/>
                      <a:pt x="8269" y="2"/>
                      <a:pt x="8270" y="2"/>
                    </a:cubicBezTo>
                    <a:close/>
                    <a:moveTo>
                      <a:pt x="8278" y="2"/>
                    </a:moveTo>
                    <a:lnTo>
                      <a:pt x="8278" y="2"/>
                    </a:lnTo>
                    <a:cubicBezTo>
                      <a:pt x="8279" y="2"/>
                      <a:pt x="8280" y="3"/>
                      <a:pt x="8280" y="4"/>
                    </a:cubicBezTo>
                    <a:cubicBezTo>
                      <a:pt x="8280" y="5"/>
                      <a:pt x="8279" y="6"/>
                      <a:pt x="8278" y="6"/>
                    </a:cubicBezTo>
                    <a:lnTo>
                      <a:pt x="8278" y="6"/>
                    </a:lnTo>
                    <a:cubicBezTo>
                      <a:pt x="8277" y="6"/>
                      <a:pt x="8276" y="5"/>
                      <a:pt x="8276" y="4"/>
                    </a:cubicBezTo>
                    <a:cubicBezTo>
                      <a:pt x="8276" y="3"/>
                      <a:pt x="8277" y="2"/>
                      <a:pt x="8278" y="2"/>
                    </a:cubicBezTo>
                    <a:close/>
                    <a:moveTo>
                      <a:pt x="8286" y="2"/>
                    </a:moveTo>
                    <a:lnTo>
                      <a:pt x="8286" y="2"/>
                    </a:lnTo>
                    <a:cubicBezTo>
                      <a:pt x="8287" y="2"/>
                      <a:pt x="8288" y="3"/>
                      <a:pt x="8288" y="4"/>
                    </a:cubicBezTo>
                    <a:cubicBezTo>
                      <a:pt x="8288" y="5"/>
                      <a:pt x="8287" y="6"/>
                      <a:pt x="8286" y="6"/>
                    </a:cubicBezTo>
                    <a:lnTo>
                      <a:pt x="8286" y="6"/>
                    </a:lnTo>
                    <a:cubicBezTo>
                      <a:pt x="8285" y="6"/>
                      <a:pt x="8284" y="5"/>
                      <a:pt x="8284" y="4"/>
                    </a:cubicBezTo>
                    <a:cubicBezTo>
                      <a:pt x="8284" y="3"/>
                      <a:pt x="8285" y="2"/>
                      <a:pt x="8286" y="2"/>
                    </a:cubicBezTo>
                    <a:close/>
                    <a:moveTo>
                      <a:pt x="8294" y="2"/>
                    </a:moveTo>
                    <a:lnTo>
                      <a:pt x="8294" y="2"/>
                    </a:lnTo>
                    <a:cubicBezTo>
                      <a:pt x="8295" y="2"/>
                      <a:pt x="8296" y="3"/>
                      <a:pt x="8296" y="4"/>
                    </a:cubicBezTo>
                    <a:cubicBezTo>
                      <a:pt x="8296" y="5"/>
                      <a:pt x="8295" y="6"/>
                      <a:pt x="8294" y="6"/>
                    </a:cubicBezTo>
                    <a:lnTo>
                      <a:pt x="8294" y="6"/>
                    </a:lnTo>
                    <a:cubicBezTo>
                      <a:pt x="8293" y="6"/>
                      <a:pt x="8292" y="5"/>
                      <a:pt x="8292" y="4"/>
                    </a:cubicBezTo>
                    <a:cubicBezTo>
                      <a:pt x="8292" y="3"/>
                      <a:pt x="8293" y="2"/>
                      <a:pt x="8294" y="2"/>
                    </a:cubicBezTo>
                    <a:close/>
                    <a:moveTo>
                      <a:pt x="8302" y="2"/>
                    </a:moveTo>
                    <a:lnTo>
                      <a:pt x="8302" y="2"/>
                    </a:lnTo>
                    <a:cubicBezTo>
                      <a:pt x="8303" y="2"/>
                      <a:pt x="8304" y="3"/>
                      <a:pt x="8304" y="4"/>
                    </a:cubicBezTo>
                    <a:cubicBezTo>
                      <a:pt x="8304" y="5"/>
                      <a:pt x="8303" y="6"/>
                      <a:pt x="8302" y="6"/>
                    </a:cubicBezTo>
                    <a:lnTo>
                      <a:pt x="8302" y="6"/>
                    </a:lnTo>
                    <a:cubicBezTo>
                      <a:pt x="8301" y="6"/>
                      <a:pt x="8300" y="5"/>
                      <a:pt x="8300" y="4"/>
                    </a:cubicBezTo>
                    <a:cubicBezTo>
                      <a:pt x="8300" y="3"/>
                      <a:pt x="8301" y="2"/>
                      <a:pt x="8302" y="2"/>
                    </a:cubicBezTo>
                    <a:close/>
                    <a:moveTo>
                      <a:pt x="8310" y="2"/>
                    </a:moveTo>
                    <a:lnTo>
                      <a:pt x="8310" y="2"/>
                    </a:lnTo>
                    <a:cubicBezTo>
                      <a:pt x="8311" y="2"/>
                      <a:pt x="8312" y="3"/>
                      <a:pt x="8312" y="4"/>
                    </a:cubicBezTo>
                    <a:cubicBezTo>
                      <a:pt x="8312" y="5"/>
                      <a:pt x="8311" y="6"/>
                      <a:pt x="8310" y="6"/>
                    </a:cubicBezTo>
                    <a:lnTo>
                      <a:pt x="8310" y="6"/>
                    </a:lnTo>
                    <a:cubicBezTo>
                      <a:pt x="8309" y="6"/>
                      <a:pt x="8308" y="5"/>
                      <a:pt x="8308" y="4"/>
                    </a:cubicBezTo>
                    <a:cubicBezTo>
                      <a:pt x="8308" y="3"/>
                      <a:pt x="8309" y="2"/>
                      <a:pt x="8310" y="2"/>
                    </a:cubicBezTo>
                    <a:close/>
                    <a:moveTo>
                      <a:pt x="8318" y="2"/>
                    </a:moveTo>
                    <a:lnTo>
                      <a:pt x="8318" y="2"/>
                    </a:lnTo>
                    <a:cubicBezTo>
                      <a:pt x="8319" y="2"/>
                      <a:pt x="8320" y="3"/>
                      <a:pt x="8320" y="4"/>
                    </a:cubicBezTo>
                    <a:cubicBezTo>
                      <a:pt x="8320" y="5"/>
                      <a:pt x="8319" y="6"/>
                      <a:pt x="8318" y="6"/>
                    </a:cubicBezTo>
                    <a:lnTo>
                      <a:pt x="8318" y="6"/>
                    </a:lnTo>
                    <a:cubicBezTo>
                      <a:pt x="8317" y="6"/>
                      <a:pt x="8316" y="5"/>
                      <a:pt x="8316" y="4"/>
                    </a:cubicBezTo>
                    <a:cubicBezTo>
                      <a:pt x="8316" y="3"/>
                      <a:pt x="8317" y="2"/>
                      <a:pt x="8318" y="2"/>
                    </a:cubicBezTo>
                    <a:close/>
                    <a:moveTo>
                      <a:pt x="8326" y="2"/>
                    </a:moveTo>
                    <a:lnTo>
                      <a:pt x="8326" y="2"/>
                    </a:lnTo>
                    <a:cubicBezTo>
                      <a:pt x="8327" y="2"/>
                      <a:pt x="8328" y="3"/>
                      <a:pt x="8328" y="4"/>
                    </a:cubicBezTo>
                    <a:cubicBezTo>
                      <a:pt x="8328" y="5"/>
                      <a:pt x="8327" y="6"/>
                      <a:pt x="8326" y="6"/>
                    </a:cubicBezTo>
                    <a:lnTo>
                      <a:pt x="8326" y="6"/>
                    </a:lnTo>
                    <a:cubicBezTo>
                      <a:pt x="8325" y="6"/>
                      <a:pt x="8324" y="5"/>
                      <a:pt x="8324" y="4"/>
                    </a:cubicBezTo>
                    <a:cubicBezTo>
                      <a:pt x="8324" y="3"/>
                      <a:pt x="8325" y="2"/>
                      <a:pt x="8326" y="2"/>
                    </a:cubicBezTo>
                    <a:close/>
                    <a:moveTo>
                      <a:pt x="8334" y="2"/>
                    </a:moveTo>
                    <a:lnTo>
                      <a:pt x="8334" y="2"/>
                    </a:lnTo>
                    <a:cubicBezTo>
                      <a:pt x="8335" y="2"/>
                      <a:pt x="8336" y="3"/>
                      <a:pt x="8336" y="4"/>
                    </a:cubicBezTo>
                    <a:cubicBezTo>
                      <a:pt x="8336" y="5"/>
                      <a:pt x="8335" y="6"/>
                      <a:pt x="8334" y="6"/>
                    </a:cubicBezTo>
                    <a:lnTo>
                      <a:pt x="8334" y="6"/>
                    </a:lnTo>
                    <a:cubicBezTo>
                      <a:pt x="8333" y="6"/>
                      <a:pt x="8332" y="5"/>
                      <a:pt x="8332" y="4"/>
                    </a:cubicBezTo>
                    <a:cubicBezTo>
                      <a:pt x="8332" y="3"/>
                      <a:pt x="8333" y="2"/>
                      <a:pt x="8334" y="2"/>
                    </a:cubicBezTo>
                    <a:close/>
                    <a:moveTo>
                      <a:pt x="8342" y="2"/>
                    </a:moveTo>
                    <a:lnTo>
                      <a:pt x="8342" y="2"/>
                    </a:lnTo>
                    <a:cubicBezTo>
                      <a:pt x="8343" y="2"/>
                      <a:pt x="8344" y="3"/>
                      <a:pt x="8344" y="4"/>
                    </a:cubicBezTo>
                    <a:cubicBezTo>
                      <a:pt x="8344" y="5"/>
                      <a:pt x="8343" y="6"/>
                      <a:pt x="8342" y="6"/>
                    </a:cubicBezTo>
                    <a:lnTo>
                      <a:pt x="8342" y="6"/>
                    </a:lnTo>
                    <a:cubicBezTo>
                      <a:pt x="8341" y="6"/>
                      <a:pt x="8340" y="5"/>
                      <a:pt x="8340" y="4"/>
                    </a:cubicBezTo>
                    <a:cubicBezTo>
                      <a:pt x="8340" y="3"/>
                      <a:pt x="8341" y="2"/>
                      <a:pt x="8342" y="2"/>
                    </a:cubicBezTo>
                    <a:close/>
                    <a:moveTo>
                      <a:pt x="8350" y="2"/>
                    </a:moveTo>
                    <a:lnTo>
                      <a:pt x="8350" y="2"/>
                    </a:lnTo>
                    <a:cubicBezTo>
                      <a:pt x="8351" y="2"/>
                      <a:pt x="8352" y="3"/>
                      <a:pt x="8352" y="4"/>
                    </a:cubicBezTo>
                    <a:cubicBezTo>
                      <a:pt x="8352" y="5"/>
                      <a:pt x="8351" y="6"/>
                      <a:pt x="8350" y="6"/>
                    </a:cubicBezTo>
                    <a:lnTo>
                      <a:pt x="8350" y="6"/>
                    </a:lnTo>
                    <a:cubicBezTo>
                      <a:pt x="8349" y="6"/>
                      <a:pt x="8348" y="5"/>
                      <a:pt x="8348" y="4"/>
                    </a:cubicBezTo>
                    <a:cubicBezTo>
                      <a:pt x="8348" y="3"/>
                      <a:pt x="8349" y="2"/>
                      <a:pt x="8350" y="2"/>
                    </a:cubicBezTo>
                    <a:close/>
                    <a:moveTo>
                      <a:pt x="8358" y="2"/>
                    </a:moveTo>
                    <a:lnTo>
                      <a:pt x="8358" y="2"/>
                    </a:lnTo>
                    <a:cubicBezTo>
                      <a:pt x="8359" y="2"/>
                      <a:pt x="8360" y="3"/>
                      <a:pt x="8360" y="4"/>
                    </a:cubicBezTo>
                    <a:cubicBezTo>
                      <a:pt x="8360" y="5"/>
                      <a:pt x="8359" y="6"/>
                      <a:pt x="8358" y="6"/>
                    </a:cubicBezTo>
                    <a:lnTo>
                      <a:pt x="8358" y="6"/>
                    </a:lnTo>
                    <a:cubicBezTo>
                      <a:pt x="8357" y="6"/>
                      <a:pt x="8356" y="5"/>
                      <a:pt x="8356" y="4"/>
                    </a:cubicBezTo>
                    <a:cubicBezTo>
                      <a:pt x="8356" y="3"/>
                      <a:pt x="8357" y="2"/>
                      <a:pt x="8358" y="2"/>
                    </a:cubicBezTo>
                    <a:close/>
                    <a:moveTo>
                      <a:pt x="8366" y="2"/>
                    </a:moveTo>
                    <a:lnTo>
                      <a:pt x="8366" y="2"/>
                    </a:lnTo>
                    <a:cubicBezTo>
                      <a:pt x="8367" y="2"/>
                      <a:pt x="8368" y="3"/>
                      <a:pt x="8368" y="4"/>
                    </a:cubicBezTo>
                    <a:cubicBezTo>
                      <a:pt x="8368" y="5"/>
                      <a:pt x="8367" y="6"/>
                      <a:pt x="8366" y="6"/>
                    </a:cubicBezTo>
                    <a:lnTo>
                      <a:pt x="8366" y="6"/>
                    </a:lnTo>
                    <a:cubicBezTo>
                      <a:pt x="8365" y="6"/>
                      <a:pt x="8364" y="5"/>
                      <a:pt x="8364" y="4"/>
                    </a:cubicBezTo>
                    <a:cubicBezTo>
                      <a:pt x="8364" y="3"/>
                      <a:pt x="8365" y="2"/>
                      <a:pt x="8366" y="2"/>
                    </a:cubicBezTo>
                    <a:close/>
                    <a:moveTo>
                      <a:pt x="8374" y="2"/>
                    </a:moveTo>
                    <a:lnTo>
                      <a:pt x="8374" y="2"/>
                    </a:lnTo>
                    <a:cubicBezTo>
                      <a:pt x="8375" y="2"/>
                      <a:pt x="8376" y="3"/>
                      <a:pt x="8376" y="4"/>
                    </a:cubicBezTo>
                    <a:cubicBezTo>
                      <a:pt x="8376" y="5"/>
                      <a:pt x="8375" y="6"/>
                      <a:pt x="8374" y="6"/>
                    </a:cubicBezTo>
                    <a:lnTo>
                      <a:pt x="8374" y="6"/>
                    </a:lnTo>
                    <a:cubicBezTo>
                      <a:pt x="8373" y="6"/>
                      <a:pt x="8372" y="5"/>
                      <a:pt x="8372" y="4"/>
                    </a:cubicBezTo>
                    <a:cubicBezTo>
                      <a:pt x="8372" y="3"/>
                      <a:pt x="8373" y="2"/>
                      <a:pt x="8374" y="2"/>
                    </a:cubicBezTo>
                    <a:close/>
                    <a:moveTo>
                      <a:pt x="8382" y="2"/>
                    </a:moveTo>
                    <a:lnTo>
                      <a:pt x="8382" y="2"/>
                    </a:lnTo>
                    <a:cubicBezTo>
                      <a:pt x="8383" y="2"/>
                      <a:pt x="8384" y="3"/>
                      <a:pt x="8384" y="4"/>
                    </a:cubicBezTo>
                    <a:cubicBezTo>
                      <a:pt x="8384" y="5"/>
                      <a:pt x="8383" y="6"/>
                      <a:pt x="8382" y="6"/>
                    </a:cubicBezTo>
                    <a:lnTo>
                      <a:pt x="8382" y="6"/>
                    </a:lnTo>
                    <a:cubicBezTo>
                      <a:pt x="8381" y="6"/>
                      <a:pt x="8380" y="5"/>
                      <a:pt x="8380" y="4"/>
                    </a:cubicBezTo>
                    <a:cubicBezTo>
                      <a:pt x="8380" y="3"/>
                      <a:pt x="8381" y="2"/>
                      <a:pt x="8382" y="2"/>
                    </a:cubicBezTo>
                    <a:close/>
                    <a:moveTo>
                      <a:pt x="8390" y="2"/>
                    </a:moveTo>
                    <a:lnTo>
                      <a:pt x="8390" y="2"/>
                    </a:lnTo>
                    <a:cubicBezTo>
                      <a:pt x="8391" y="2"/>
                      <a:pt x="8392" y="3"/>
                      <a:pt x="8392" y="4"/>
                    </a:cubicBezTo>
                    <a:cubicBezTo>
                      <a:pt x="8392" y="5"/>
                      <a:pt x="8391" y="6"/>
                      <a:pt x="8390" y="6"/>
                    </a:cubicBezTo>
                    <a:lnTo>
                      <a:pt x="8390" y="6"/>
                    </a:lnTo>
                    <a:cubicBezTo>
                      <a:pt x="8389" y="6"/>
                      <a:pt x="8388" y="5"/>
                      <a:pt x="8388" y="4"/>
                    </a:cubicBezTo>
                    <a:cubicBezTo>
                      <a:pt x="8388" y="3"/>
                      <a:pt x="8389" y="2"/>
                      <a:pt x="8390" y="2"/>
                    </a:cubicBezTo>
                    <a:close/>
                    <a:moveTo>
                      <a:pt x="8398" y="2"/>
                    </a:moveTo>
                    <a:lnTo>
                      <a:pt x="8398" y="2"/>
                    </a:lnTo>
                    <a:cubicBezTo>
                      <a:pt x="8399" y="2"/>
                      <a:pt x="8400" y="3"/>
                      <a:pt x="8400" y="4"/>
                    </a:cubicBezTo>
                    <a:cubicBezTo>
                      <a:pt x="8400" y="5"/>
                      <a:pt x="8399" y="6"/>
                      <a:pt x="8398" y="6"/>
                    </a:cubicBezTo>
                    <a:lnTo>
                      <a:pt x="8398" y="6"/>
                    </a:lnTo>
                    <a:cubicBezTo>
                      <a:pt x="8397" y="6"/>
                      <a:pt x="8396" y="5"/>
                      <a:pt x="8396" y="4"/>
                    </a:cubicBezTo>
                    <a:cubicBezTo>
                      <a:pt x="8396" y="3"/>
                      <a:pt x="8397" y="2"/>
                      <a:pt x="8398" y="2"/>
                    </a:cubicBezTo>
                    <a:close/>
                    <a:moveTo>
                      <a:pt x="8406" y="2"/>
                    </a:moveTo>
                    <a:lnTo>
                      <a:pt x="8406" y="2"/>
                    </a:lnTo>
                    <a:cubicBezTo>
                      <a:pt x="8407" y="2"/>
                      <a:pt x="8408" y="3"/>
                      <a:pt x="8408" y="4"/>
                    </a:cubicBezTo>
                    <a:cubicBezTo>
                      <a:pt x="8408" y="5"/>
                      <a:pt x="8407" y="6"/>
                      <a:pt x="8406" y="6"/>
                    </a:cubicBezTo>
                    <a:lnTo>
                      <a:pt x="8406" y="6"/>
                    </a:lnTo>
                    <a:cubicBezTo>
                      <a:pt x="8405" y="6"/>
                      <a:pt x="8404" y="5"/>
                      <a:pt x="8404" y="4"/>
                    </a:cubicBezTo>
                    <a:cubicBezTo>
                      <a:pt x="8404" y="3"/>
                      <a:pt x="8405" y="2"/>
                      <a:pt x="8406" y="2"/>
                    </a:cubicBezTo>
                    <a:close/>
                    <a:moveTo>
                      <a:pt x="8414" y="2"/>
                    </a:moveTo>
                    <a:lnTo>
                      <a:pt x="8414" y="2"/>
                    </a:lnTo>
                    <a:cubicBezTo>
                      <a:pt x="8415" y="2"/>
                      <a:pt x="8416" y="3"/>
                      <a:pt x="8416" y="4"/>
                    </a:cubicBezTo>
                    <a:cubicBezTo>
                      <a:pt x="8416" y="5"/>
                      <a:pt x="8415" y="6"/>
                      <a:pt x="8414" y="6"/>
                    </a:cubicBezTo>
                    <a:lnTo>
                      <a:pt x="8414" y="6"/>
                    </a:lnTo>
                    <a:cubicBezTo>
                      <a:pt x="8413" y="6"/>
                      <a:pt x="8412" y="5"/>
                      <a:pt x="8412" y="4"/>
                    </a:cubicBezTo>
                    <a:cubicBezTo>
                      <a:pt x="8412" y="3"/>
                      <a:pt x="8413" y="2"/>
                      <a:pt x="8414" y="2"/>
                    </a:cubicBezTo>
                    <a:close/>
                    <a:moveTo>
                      <a:pt x="8422" y="2"/>
                    </a:moveTo>
                    <a:lnTo>
                      <a:pt x="8422" y="2"/>
                    </a:lnTo>
                    <a:cubicBezTo>
                      <a:pt x="8423" y="2"/>
                      <a:pt x="8424" y="3"/>
                      <a:pt x="8424" y="4"/>
                    </a:cubicBezTo>
                    <a:cubicBezTo>
                      <a:pt x="8424" y="5"/>
                      <a:pt x="8423" y="6"/>
                      <a:pt x="8422" y="6"/>
                    </a:cubicBezTo>
                    <a:lnTo>
                      <a:pt x="8422" y="6"/>
                    </a:lnTo>
                    <a:cubicBezTo>
                      <a:pt x="8421" y="6"/>
                      <a:pt x="8420" y="5"/>
                      <a:pt x="8420" y="4"/>
                    </a:cubicBezTo>
                    <a:cubicBezTo>
                      <a:pt x="8420" y="3"/>
                      <a:pt x="8421" y="2"/>
                      <a:pt x="8422" y="2"/>
                    </a:cubicBezTo>
                    <a:close/>
                    <a:moveTo>
                      <a:pt x="8430" y="2"/>
                    </a:moveTo>
                    <a:lnTo>
                      <a:pt x="8430" y="2"/>
                    </a:lnTo>
                    <a:cubicBezTo>
                      <a:pt x="8431" y="2"/>
                      <a:pt x="8432" y="3"/>
                      <a:pt x="8432" y="4"/>
                    </a:cubicBezTo>
                    <a:cubicBezTo>
                      <a:pt x="8432" y="5"/>
                      <a:pt x="8431" y="6"/>
                      <a:pt x="8430" y="6"/>
                    </a:cubicBezTo>
                    <a:lnTo>
                      <a:pt x="8430" y="6"/>
                    </a:lnTo>
                    <a:cubicBezTo>
                      <a:pt x="8429" y="6"/>
                      <a:pt x="8428" y="5"/>
                      <a:pt x="8428" y="4"/>
                    </a:cubicBezTo>
                    <a:cubicBezTo>
                      <a:pt x="8428" y="3"/>
                      <a:pt x="8429" y="2"/>
                      <a:pt x="8430" y="2"/>
                    </a:cubicBezTo>
                    <a:close/>
                    <a:moveTo>
                      <a:pt x="8438" y="2"/>
                    </a:moveTo>
                    <a:lnTo>
                      <a:pt x="8438" y="2"/>
                    </a:lnTo>
                    <a:cubicBezTo>
                      <a:pt x="8439" y="2"/>
                      <a:pt x="8440" y="3"/>
                      <a:pt x="8440" y="4"/>
                    </a:cubicBezTo>
                    <a:cubicBezTo>
                      <a:pt x="8440" y="5"/>
                      <a:pt x="8439" y="6"/>
                      <a:pt x="8438" y="6"/>
                    </a:cubicBezTo>
                    <a:lnTo>
                      <a:pt x="8438" y="6"/>
                    </a:lnTo>
                    <a:cubicBezTo>
                      <a:pt x="8437" y="6"/>
                      <a:pt x="8436" y="5"/>
                      <a:pt x="8436" y="4"/>
                    </a:cubicBezTo>
                    <a:cubicBezTo>
                      <a:pt x="8436" y="3"/>
                      <a:pt x="8437" y="2"/>
                      <a:pt x="8438" y="2"/>
                    </a:cubicBezTo>
                    <a:close/>
                    <a:moveTo>
                      <a:pt x="8446" y="2"/>
                    </a:moveTo>
                    <a:lnTo>
                      <a:pt x="8446" y="2"/>
                    </a:lnTo>
                    <a:cubicBezTo>
                      <a:pt x="8447" y="2"/>
                      <a:pt x="8448" y="3"/>
                      <a:pt x="8448" y="4"/>
                    </a:cubicBezTo>
                    <a:cubicBezTo>
                      <a:pt x="8448" y="5"/>
                      <a:pt x="8447" y="6"/>
                      <a:pt x="8446" y="6"/>
                    </a:cubicBezTo>
                    <a:lnTo>
                      <a:pt x="8446" y="6"/>
                    </a:lnTo>
                    <a:cubicBezTo>
                      <a:pt x="8445" y="6"/>
                      <a:pt x="8444" y="5"/>
                      <a:pt x="8444" y="4"/>
                    </a:cubicBezTo>
                    <a:cubicBezTo>
                      <a:pt x="8444" y="3"/>
                      <a:pt x="8445" y="2"/>
                      <a:pt x="8446" y="2"/>
                    </a:cubicBezTo>
                    <a:close/>
                    <a:moveTo>
                      <a:pt x="8454" y="2"/>
                    </a:moveTo>
                    <a:lnTo>
                      <a:pt x="8454" y="2"/>
                    </a:lnTo>
                    <a:cubicBezTo>
                      <a:pt x="8455" y="2"/>
                      <a:pt x="8456" y="3"/>
                      <a:pt x="8456" y="4"/>
                    </a:cubicBezTo>
                    <a:cubicBezTo>
                      <a:pt x="8456" y="5"/>
                      <a:pt x="8455" y="6"/>
                      <a:pt x="8454" y="6"/>
                    </a:cubicBezTo>
                    <a:lnTo>
                      <a:pt x="8454" y="6"/>
                    </a:lnTo>
                    <a:cubicBezTo>
                      <a:pt x="8453" y="6"/>
                      <a:pt x="8452" y="5"/>
                      <a:pt x="8452" y="4"/>
                    </a:cubicBezTo>
                    <a:cubicBezTo>
                      <a:pt x="8452" y="3"/>
                      <a:pt x="8453" y="2"/>
                      <a:pt x="8454" y="2"/>
                    </a:cubicBezTo>
                    <a:close/>
                    <a:moveTo>
                      <a:pt x="8462" y="2"/>
                    </a:moveTo>
                    <a:lnTo>
                      <a:pt x="8462" y="2"/>
                    </a:lnTo>
                    <a:cubicBezTo>
                      <a:pt x="8463" y="2"/>
                      <a:pt x="8464" y="3"/>
                      <a:pt x="8464" y="4"/>
                    </a:cubicBezTo>
                    <a:cubicBezTo>
                      <a:pt x="8464" y="5"/>
                      <a:pt x="8463" y="6"/>
                      <a:pt x="8462" y="6"/>
                    </a:cubicBezTo>
                    <a:lnTo>
                      <a:pt x="8462" y="6"/>
                    </a:lnTo>
                    <a:cubicBezTo>
                      <a:pt x="8461" y="6"/>
                      <a:pt x="8460" y="5"/>
                      <a:pt x="8460" y="4"/>
                    </a:cubicBezTo>
                    <a:cubicBezTo>
                      <a:pt x="8460" y="3"/>
                      <a:pt x="8461" y="2"/>
                      <a:pt x="8462" y="2"/>
                    </a:cubicBezTo>
                    <a:close/>
                    <a:moveTo>
                      <a:pt x="8470" y="2"/>
                    </a:moveTo>
                    <a:lnTo>
                      <a:pt x="8470" y="2"/>
                    </a:lnTo>
                    <a:cubicBezTo>
                      <a:pt x="8471" y="2"/>
                      <a:pt x="8472" y="3"/>
                      <a:pt x="8472" y="4"/>
                    </a:cubicBezTo>
                    <a:cubicBezTo>
                      <a:pt x="8472" y="5"/>
                      <a:pt x="8471" y="6"/>
                      <a:pt x="8470" y="6"/>
                    </a:cubicBezTo>
                    <a:lnTo>
                      <a:pt x="8470" y="6"/>
                    </a:lnTo>
                    <a:cubicBezTo>
                      <a:pt x="8469" y="6"/>
                      <a:pt x="8468" y="5"/>
                      <a:pt x="8468" y="4"/>
                    </a:cubicBezTo>
                    <a:cubicBezTo>
                      <a:pt x="8468" y="3"/>
                      <a:pt x="8469" y="2"/>
                      <a:pt x="8470" y="2"/>
                    </a:cubicBezTo>
                    <a:close/>
                    <a:moveTo>
                      <a:pt x="8478" y="2"/>
                    </a:moveTo>
                    <a:lnTo>
                      <a:pt x="8478" y="2"/>
                    </a:lnTo>
                    <a:cubicBezTo>
                      <a:pt x="8479" y="2"/>
                      <a:pt x="8480" y="3"/>
                      <a:pt x="8480" y="4"/>
                    </a:cubicBezTo>
                    <a:cubicBezTo>
                      <a:pt x="8480" y="5"/>
                      <a:pt x="8479" y="6"/>
                      <a:pt x="8478" y="6"/>
                    </a:cubicBezTo>
                    <a:lnTo>
                      <a:pt x="8478" y="6"/>
                    </a:lnTo>
                    <a:cubicBezTo>
                      <a:pt x="8477" y="6"/>
                      <a:pt x="8476" y="5"/>
                      <a:pt x="8476" y="4"/>
                    </a:cubicBezTo>
                    <a:cubicBezTo>
                      <a:pt x="8476" y="3"/>
                      <a:pt x="8477" y="2"/>
                      <a:pt x="8478" y="2"/>
                    </a:cubicBezTo>
                    <a:close/>
                    <a:moveTo>
                      <a:pt x="8486" y="2"/>
                    </a:moveTo>
                    <a:lnTo>
                      <a:pt x="8486" y="2"/>
                    </a:lnTo>
                    <a:cubicBezTo>
                      <a:pt x="8487" y="2"/>
                      <a:pt x="8488" y="3"/>
                      <a:pt x="8488" y="4"/>
                    </a:cubicBezTo>
                    <a:cubicBezTo>
                      <a:pt x="8488" y="5"/>
                      <a:pt x="8487" y="6"/>
                      <a:pt x="8486" y="6"/>
                    </a:cubicBezTo>
                    <a:lnTo>
                      <a:pt x="8486" y="6"/>
                    </a:lnTo>
                    <a:cubicBezTo>
                      <a:pt x="8485" y="6"/>
                      <a:pt x="8484" y="5"/>
                      <a:pt x="8484" y="4"/>
                    </a:cubicBezTo>
                    <a:cubicBezTo>
                      <a:pt x="8484" y="3"/>
                      <a:pt x="8485" y="2"/>
                      <a:pt x="8486" y="2"/>
                    </a:cubicBezTo>
                    <a:close/>
                    <a:moveTo>
                      <a:pt x="8494" y="2"/>
                    </a:moveTo>
                    <a:lnTo>
                      <a:pt x="8494" y="2"/>
                    </a:lnTo>
                    <a:cubicBezTo>
                      <a:pt x="8495" y="2"/>
                      <a:pt x="8496" y="3"/>
                      <a:pt x="8496" y="4"/>
                    </a:cubicBezTo>
                    <a:cubicBezTo>
                      <a:pt x="8496" y="5"/>
                      <a:pt x="8495" y="6"/>
                      <a:pt x="8494" y="6"/>
                    </a:cubicBezTo>
                    <a:lnTo>
                      <a:pt x="8494" y="6"/>
                    </a:lnTo>
                    <a:cubicBezTo>
                      <a:pt x="8493" y="6"/>
                      <a:pt x="8492" y="5"/>
                      <a:pt x="8492" y="4"/>
                    </a:cubicBezTo>
                    <a:cubicBezTo>
                      <a:pt x="8492" y="3"/>
                      <a:pt x="8493" y="2"/>
                      <a:pt x="8494" y="2"/>
                    </a:cubicBezTo>
                    <a:close/>
                    <a:moveTo>
                      <a:pt x="8502" y="2"/>
                    </a:moveTo>
                    <a:lnTo>
                      <a:pt x="8502" y="2"/>
                    </a:lnTo>
                    <a:cubicBezTo>
                      <a:pt x="8503" y="2"/>
                      <a:pt x="8504" y="3"/>
                      <a:pt x="8504" y="4"/>
                    </a:cubicBezTo>
                    <a:cubicBezTo>
                      <a:pt x="8504" y="5"/>
                      <a:pt x="8503" y="6"/>
                      <a:pt x="8502" y="6"/>
                    </a:cubicBezTo>
                    <a:lnTo>
                      <a:pt x="8502" y="6"/>
                    </a:lnTo>
                    <a:cubicBezTo>
                      <a:pt x="8501" y="6"/>
                      <a:pt x="8500" y="5"/>
                      <a:pt x="8500" y="4"/>
                    </a:cubicBezTo>
                    <a:cubicBezTo>
                      <a:pt x="8500" y="3"/>
                      <a:pt x="8501" y="2"/>
                      <a:pt x="8502" y="2"/>
                    </a:cubicBezTo>
                    <a:close/>
                    <a:moveTo>
                      <a:pt x="8510" y="2"/>
                    </a:moveTo>
                    <a:lnTo>
                      <a:pt x="8510" y="2"/>
                    </a:lnTo>
                    <a:cubicBezTo>
                      <a:pt x="8511" y="2"/>
                      <a:pt x="8512" y="3"/>
                      <a:pt x="8512" y="4"/>
                    </a:cubicBezTo>
                    <a:cubicBezTo>
                      <a:pt x="8512" y="5"/>
                      <a:pt x="8511" y="6"/>
                      <a:pt x="8510" y="6"/>
                    </a:cubicBezTo>
                    <a:lnTo>
                      <a:pt x="8510" y="6"/>
                    </a:lnTo>
                    <a:cubicBezTo>
                      <a:pt x="8509" y="6"/>
                      <a:pt x="8508" y="5"/>
                      <a:pt x="8508" y="4"/>
                    </a:cubicBezTo>
                    <a:cubicBezTo>
                      <a:pt x="8508" y="3"/>
                      <a:pt x="8509" y="2"/>
                      <a:pt x="8510" y="2"/>
                    </a:cubicBezTo>
                    <a:close/>
                    <a:moveTo>
                      <a:pt x="8518" y="2"/>
                    </a:moveTo>
                    <a:lnTo>
                      <a:pt x="8518" y="2"/>
                    </a:lnTo>
                    <a:cubicBezTo>
                      <a:pt x="8519" y="2"/>
                      <a:pt x="8520" y="3"/>
                      <a:pt x="8520" y="4"/>
                    </a:cubicBezTo>
                    <a:cubicBezTo>
                      <a:pt x="8520" y="5"/>
                      <a:pt x="8519" y="6"/>
                      <a:pt x="8518" y="6"/>
                    </a:cubicBezTo>
                    <a:lnTo>
                      <a:pt x="8518" y="6"/>
                    </a:lnTo>
                    <a:cubicBezTo>
                      <a:pt x="8517" y="6"/>
                      <a:pt x="8516" y="5"/>
                      <a:pt x="8516" y="4"/>
                    </a:cubicBezTo>
                    <a:cubicBezTo>
                      <a:pt x="8516" y="3"/>
                      <a:pt x="8517" y="2"/>
                      <a:pt x="8518" y="2"/>
                    </a:cubicBezTo>
                    <a:close/>
                    <a:moveTo>
                      <a:pt x="8526" y="2"/>
                    </a:moveTo>
                    <a:lnTo>
                      <a:pt x="8526" y="2"/>
                    </a:lnTo>
                    <a:cubicBezTo>
                      <a:pt x="8527" y="2"/>
                      <a:pt x="8528" y="3"/>
                      <a:pt x="8528" y="4"/>
                    </a:cubicBezTo>
                    <a:cubicBezTo>
                      <a:pt x="8528" y="5"/>
                      <a:pt x="8527" y="6"/>
                      <a:pt x="8526" y="6"/>
                    </a:cubicBezTo>
                    <a:lnTo>
                      <a:pt x="8526" y="6"/>
                    </a:lnTo>
                    <a:cubicBezTo>
                      <a:pt x="8525" y="6"/>
                      <a:pt x="8524" y="5"/>
                      <a:pt x="8524" y="4"/>
                    </a:cubicBezTo>
                    <a:cubicBezTo>
                      <a:pt x="8524" y="3"/>
                      <a:pt x="8525" y="2"/>
                      <a:pt x="8526" y="2"/>
                    </a:cubicBezTo>
                    <a:close/>
                    <a:moveTo>
                      <a:pt x="8534" y="2"/>
                    </a:moveTo>
                    <a:lnTo>
                      <a:pt x="8534" y="2"/>
                    </a:lnTo>
                    <a:cubicBezTo>
                      <a:pt x="8535" y="2"/>
                      <a:pt x="8536" y="3"/>
                      <a:pt x="8536" y="4"/>
                    </a:cubicBezTo>
                    <a:cubicBezTo>
                      <a:pt x="8536" y="5"/>
                      <a:pt x="8535" y="6"/>
                      <a:pt x="8534" y="6"/>
                    </a:cubicBezTo>
                    <a:lnTo>
                      <a:pt x="8534" y="6"/>
                    </a:lnTo>
                    <a:cubicBezTo>
                      <a:pt x="8533" y="6"/>
                      <a:pt x="8532" y="5"/>
                      <a:pt x="8532" y="4"/>
                    </a:cubicBezTo>
                    <a:cubicBezTo>
                      <a:pt x="8532" y="3"/>
                      <a:pt x="8533" y="2"/>
                      <a:pt x="8534" y="2"/>
                    </a:cubicBezTo>
                    <a:close/>
                    <a:moveTo>
                      <a:pt x="8542" y="2"/>
                    </a:moveTo>
                    <a:lnTo>
                      <a:pt x="8542" y="2"/>
                    </a:lnTo>
                    <a:cubicBezTo>
                      <a:pt x="8543" y="2"/>
                      <a:pt x="8544" y="3"/>
                      <a:pt x="8544" y="4"/>
                    </a:cubicBezTo>
                    <a:cubicBezTo>
                      <a:pt x="8544" y="5"/>
                      <a:pt x="8543" y="6"/>
                      <a:pt x="8542" y="6"/>
                    </a:cubicBezTo>
                    <a:lnTo>
                      <a:pt x="8542" y="6"/>
                    </a:lnTo>
                    <a:cubicBezTo>
                      <a:pt x="8541" y="6"/>
                      <a:pt x="8540" y="5"/>
                      <a:pt x="8540" y="4"/>
                    </a:cubicBezTo>
                    <a:cubicBezTo>
                      <a:pt x="8540" y="3"/>
                      <a:pt x="8541" y="2"/>
                      <a:pt x="8542" y="2"/>
                    </a:cubicBezTo>
                    <a:close/>
                    <a:moveTo>
                      <a:pt x="8550" y="2"/>
                    </a:moveTo>
                    <a:lnTo>
                      <a:pt x="8550" y="2"/>
                    </a:lnTo>
                    <a:cubicBezTo>
                      <a:pt x="8551" y="2"/>
                      <a:pt x="8552" y="3"/>
                      <a:pt x="8552" y="4"/>
                    </a:cubicBezTo>
                    <a:cubicBezTo>
                      <a:pt x="8552" y="5"/>
                      <a:pt x="8551" y="6"/>
                      <a:pt x="8550" y="6"/>
                    </a:cubicBezTo>
                    <a:lnTo>
                      <a:pt x="8550" y="6"/>
                    </a:lnTo>
                    <a:cubicBezTo>
                      <a:pt x="8549" y="6"/>
                      <a:pt x="8548" y="5"/>
                      <a:pt x="8548" y="4"/>
                    </a:cubicBezTo>
                    <a:cubicBezTo>
                      <a:pt x="8548" y="3"/>
                      <a:pt x="8549" y="2"/>
                      <a:pt x="8550" y="2"/>
                    </a:cubicBezTo>
                    <a:close/>
                    <a:moveTo>
                      <a:pt x="8558" y="2"/>
                    </a:moveTo>
                    <a:lnTo>
                      <a:pt x="8558" y="2"/>
                    </a:lnTo>
                    <a:cubicBezTo>
                      <a:pt x="8559" y="2"/>
                      <a:pt x="8560" y="3"/>
                      <a:pt x="8560" y="4"/>
                    </a:cubicBezTo>
                    <a:cubicBezTo>
                      <a:pt x="8560" y="5"/>
                      <a:pt x="8559" y="6"/>
                      <a:pt x="8558" y="6"/>
                    </a:cubicBezTo>
                    <a:lnTo>
                      <a:pt x="8558" y="6"/>
                    </a:lnTo>
                    <a:cubicBezTo>
                      <a:pt x="8557" y="6"/>
                      <a:pt x="8556" y="5"/>
                      <a:pt x="8556" y="4"/>
                    </a:cubicBezTo>
                    <a:cubicBezTo>
                      <a:pt x="8556" y="3"/>
                      <a:pt x="8557" y="2"/>
                      <a:pt x="8558" y="2"/>
                    </a:cubicBezTo>
                    <a:close/>
                    <a:moveTo>
                      <a:pt x="8566" y="2"/>
                    </a:moveTo>
                    <a:lnTo>
                      <a:pt x="8566" y="2"/>
                    </a:lnTo>
                    <a:cubicBezTo>
                      <a:pt x="8567" y="2"/>
                      <a:pt x="8568" y="3"/>
                      <a:pt x="8568" y="4"/>
                    </a:cubicBezTo>
                    <a:cubicBezTo>
                      <a:pt x="8568" y="5"/>
                      <a:pt x="8567" y="6"/>
                      <a:pt x="8566" y="6"/>
                    </a:cubicBezTo>
                    <a:lnTo>
                      <a:pt x="8566" y="6"/>
                    </a:lnTo>
                    <a:cubicBezTo>
                      <a:pt x="8565" y="6"/>
                      <a:pt x="8564" y="5"/>
                      <a:pt x="8564" y="4"/>
                    </a:cubicBezTo>
                    <a:cubicBezTo>
                      <a:pt x="8564" y="3"/>
                      <a:pt x="8565" y="2"/>
                      <a:pt x="8566" y="2"/>
                    </a:cubicBezTo>
                    <a:close/>
                    <a:moveTo>
                      <a:pt x="8574" y="2"/>
                    </a:moveTo>
                    <a:lnTo>
                      <a:pt x="8574" y="2"/>
                    </a:lnTo>
                    <a:cubicBezTo>
                      <a:pt x="8575" y="2"/>
                      <a:pt x="8576" y="3"/>
                      <a:pt x="8576" y="4"/>
                    </a:cubicBezTo>
                    <a:cubicBezTo>
                      <a:pt x="8576" y="5"/>
                      <a:pt x="8575" y="6"/>
                      <a:pt x="8574" y="6"/>
                    </a:cubicBezTo>
                    <a:lnTo>
                      <a:pt x="8574" y="6"/>
                    </a:lnTo>
                    <a:cubicBezTo>
                      <a:pt x="8573" y="6"/>
                      <a:pt x="8572" y="5"/>
                      <a:pt x="8572" y="4"/>
                    </a:cubicBezTo>
                    <a:cubicBezTo>
                      <a:pt x="8572" y="3"/>
                      <a:pt x="8573" y="2"/>
                      <a:pt x="8574" y="2"/>
                    </a:cubicBezTo>
                    <a:close/>
                    <a:moveTo>
                      <a:pt x="8582" y="2"/>
                    </a:moveTo>
                    <a:lnTo>
                      <a:pt x="8582" y="2"/>
                    </a:lnTo>
                    <a:cubicBezTo>
                      <a:pt x="8583" y="2"/>
                      <a:pt x="8584" y="3"/>
                      <a:pt x="8584" y="4"/>
                    </a:cubicBezTo>
                    <a:cubicBezTo>
                      <a:pt x="8584" y="5"/>
                      <a:pt x="8583" y="6"/>
                      <a:pt x="8582" y="6"/>
                    </a:cubicBezTo>
                    <a:lnTo>
                      <a:pt x="8582" y="6"/>
                    </a:lnTo>
                    <a:cubicBezTo>
                      <a:pt x="8581" y="6"/>
                      <a:pt x="8580" y="5"/>
                      <a:pt x="8580" y="4"/>
                    </a:cubicBezTo>
                    <a:cubicBezTo>
                      <a:pt x="8580" y="3"/>
                      <a:pt x="8581" y="2"/>
                      <a:pt x="8582" y="2"/>
                    </a:cubicBezTo>
                    <a:close/>
                    <a:moveTo>
                      <a:pt x="8590" y="2"/>
                    </a:moveTo>
                    <a:lnTo>
                      <a:pt x="8590" y="2"/>
                    </a:lnTo>
                    <a:cubicBezTo>
                      <a:pt x="8591" y="2"/>
                      <a:pt x="8592" y="3"/>
                      <a:pt x="8592" y="4"/>
                    </a:cubicBezTo>
                    <a:cubicBezTo>
                      <a:pt x="8592" y="5"/>
                      <a:pt x="8591" y="6"/>
                      <a:pt x="8590" y="6"/>
                    </a:cubicBezTo>
                    <a:lnTo>
                      <a:pt x="8590" y="6"/>
                    </a:lnTo>
                    <a:cubicBezTo>
                      <a:pt x="8589" y="6"/>
                      <a:pt x="8588" y="5"/>
                      <a:pt x="8588" y="4"/>
                    </a:cubicBezTo>
                    <a:cubicBezTo>
                      <a:pt x="8588" y="3"/>
                      <a:pt x="8589" y="2"/>
                      <a:pt x="8590" y="2"/>
                    </a:cubicBezTo>
                    <a:close/>
                    <a:moveTo>
                      <a:pt x="8598" y="2"/>
                    </a:moveTo>
                    <a:lnTo>
                      <a:pt x="8598" y="2"/>
                    </a:lnTo>
                    <a:cubicBezTo>
                      <a:pt x="8599" y="2"/>
                      <a:pt x="8600" y="3"/>
                      <a:pt x="8600" y="4"/>
                    </a:cubicBezTo>
                    <a:cubicBezTo>
                      <a:pt x="8600" y="5"/>
                      <a:pt x="8599" y="6"/>
                      <a:pt x="8598" y="6"/>
                    </a:cubicBezTo>
                    <a:lnTo>
                      <a:pt x="8598" y="6"/>
                    </a:lnTo>
                    <a:cubicBezTo>
                      <a:pt x="8597" y="6"/>
                      <a:pt x="8596" y="5"/>
                      <a:pt x="8596" y="4"/>
                    </a:cubicBezTo>
                    <a:cubicBezTo>
                      <a:pt x="8596" y="3"/>
                      <a:pt x="8597" y="2"/>
                      <a:pt x="8598" y="2"/>
                    </a:cubicBezTo>
                    <a:close/>
                    <a:moveTo>
                      <a:pt x="8606" y="2"/>
                    </a:moveTo>
                    <a:lnTo>
                      <a:pt x="8606" y="2"/>
                    </a:lnTo>
                    <a:cubicBezTo>
                      <a:pt x="8607" y="2"/>
                      <a:pt x="8608" y="3"/>
                      <a:pt x="8608" y="4"/>
                    </a:cubicBezTo>
                    <a:cubicBezTo>
                      <a:pt x="8608" y="5"/>
                      <a:pt x="8607" y="6"/>
                      <a:pt x="8606" y="6"/>
                    </a:cubicBezTo>
                    <a:lnTo>
                      <a:pt x="8606" y="6"/>
                    </a:lnTo>
                    <a:cubicBezTo>
                      <a:pt x="8605" y="6"/>
                      <a:pt x="8604" y="5"/>
                      <a:pt x="8604" y="4"/>
                    </a:cubicBezTo>
                    <a:cubicBezTo>
                      <a:pt x="8604" y="3"/>
                      <a:pt x="8605" y="2"/>
                      <a:pt x="8606" y="2"/>
                    </a:cubicBezTo>
                    <a:close/>
                    <a:moveTo>
                      <a:pt x="8614" y="2"/>
                    </a:moveTo>
                    <a:lnTo>
                      <a:pt x="8614" y="2"/>
                    </a:lnTo>
                    <a:cubicBezTo>
                      <a:pt x="8615" y="2"/>
                      <a:pt x="8616" y="3"/>
                      <a:pt x="8616" y="4"/>
                    </a:cubicBezTo>
                    <a:cubicBezTo>
                      <a:pt x="8616" y="5"/>
                      <a:pt x="8615" y="6"/>
                      <a:pt x="8614" y="6"/>
                    </a:cubicBezTo>
                    <a:lnTo>
                      <a:pt x="8614" y="6"/>
                    </a:lnTo>
                    <a:cubicBezTo>
                      <a:pt x="8613" y="6"/>
                      <a:pt x="8612" y="5"/>
                      <a:pt x="8612" y="4"/>
                    </a:cubicBezTo>
                    <a:cubicBezTo>
                      <a:pt x="8612" y="3"/>
                      <a:pt x="8613" y="2"/>
                      <a:pt x="8614" y="2"/>
                    </a:cubicBezTo>
                    <a:close/>
                    <a:moveTo>
                      <a:pt x="8622" y="2"/>
                    </a:moveTo>
                    <a:lnTo>
                      <a:pt x="8622" y="2"/>
                    </a:lnTo>
                    <a:cubicBezTo>
                      <a:pt x="8623" y="2"/>
                      <a:pt x="8624" y="3"/>
                      <a:pt x="8624" y="4"/>
                    </a:cubicBezTo>
                    <a:cubicBezTo>
                      <a:pt x="8624" y="5"/>
                      <a:pt x="8623" y="6"/>
                      <a:pt x="8622" y="6"/>
                    </a:cubicBezTo>
                    <a:lnTo>
                      <a:pt x="8622" y="6"/>
                    </a:lnTo>
                    <a:cubicBezTo>
                      <a:pt x="8621" y="6"/>
                      <a:pt x="8620" y="5"/>
                      <a:pt x="8620" y="4"/>
                    </a:cubicBezTo>
                    <a:cubicBezTo>
                      <a:pt x="8620" y="3"/>
                      <a:pt x="8621" y="2"/>
                      <a:pt x="8622" y="2"/>
                    </a:cubicBezTo>
                    <a:close/>
                    <a:moveTo>
                      <a:pt x="8630" y="2"/>
                    </a:moveTo>
                    <a:lnTo>
                      <a:pt x="8630" y="2"/>
                    </a:lnTo>
                    <a:cubicBezTo>
                      <a:pt x="8631" y="2"/>
                      <a:pt x="8632" y="3"/>
                      <a:pt x="8632" y="4"/>
                    </a:cubicBezTo>
                    <a:cubicBezTo>
                      <a:pt x="8632" y="5"/>
                      <a:pt x="8631" y="6"/>
                      <a:pt x="8630" y="6"/>
                    </a:cubicBezTo>
                    <a:lnTo>
                      <a:pt x="8630" y="6"/>
                    </a:lnTo>
                    <a:cubicBezTo>
                      <a:pt x="8629" y="6"/>
                      <a:pt x="8628" y="5"/>
                      <a:pt x="8628" y="4"/>
                    </a:cubicBezTo>
                    <a:cubicBezTo>
                      <a:pt x="8628" y="3"/>
                      <a:pt x="8629" y="2"/>
                      <a:pt x="8630" y="2"/>
                    </a:cubicBezTo>
                    <a:close/>
                    <a:moveTo>
                      <a:pt x="8638" y="2"/>
                    </a:moveTo>
                    <a:lnTo>
                      <a:pt x="8638" y="2"/>
                    </a:lnTo>
                    <a:cubicBezTo>
                      <a:pt x="8639" y="2"/>
                      <a:pt x="8640" y="3"/>
                      <a:pt x="8640" y="4"/>
                    </a:cubicBezTo>
                    <a:cubicBezTo>
                      <a:pt x="8640" y="5"/>
                      <a:pt x="8639" y="6"/>
                      <a:pt x="8638" y="6"/>
                    </a:cubicBezTo>
                    <a:lnTo>
                      <a:pt x="8638" y="6"/>
                    </a:lnTo>
                    <a:cubicBezTo>
                      <a:pt x="8637" y="6"/>
                      <a:pt x="8636" y="5"/>
                      <a:pt x="8636" y="4"/>
                    </a:cubicBezTo>
                    <a:cubicBezTo>
                      <a:pt x="8636" y="3"/>
                      <a:pt x="8637" y="2"/>
                      <a:pt x="8638" y="2"/>
                    </a:cubicBezTo>
                    <a:close/>
                    <a:moveTo>
                      <a:pt x="8646" y="2"/>
                    </a:moveTo>
                    <a:lnTo>
                      <a:pt x="8646" y="2"/>
                    </a:lnTo>
                    <a:cubicBezTo>
                      <a:pt x="8647" y="2"/>
                      <a:pt x="8648" y="3"/>
                      <a:pt x="8648" y="4"/>
                    </a:cubicBezTo>
                    <a:cubicBezTo>
                      <a:pt x="8648" y="5"/>
                      <a:pt x="8647" y="6"/>
                      <a:pt x="8646" y="6"/>
                    </a:cubicBezTo>
                    <a:lnTo>
                      <a:pt x="8646" y="6"/>
                    </a:lnTo>
                    <a:cubicBezTo>
                      <a:pt x="8645" y="6"/>
                      <a:pt x="8644" y="5"/>
                      <a:pt x="8644" y="4"/>
                    </a:cubicBezTo>
                    <a:cubicBezTo>
                      <a:pt x="8644" y="3"/>
                      <a:pt x="8645" y="2"/>
                      <a:pt x="8646" y="2"/>
                    </a:cubicBezTo>
                    <a:close/>
                    <a:moveTo>
                      <a:pt x="8654" y="2"/>
                    </a:moveTo>
                    <a:lnTo>
                      <a:pt x="8654" y="2"/>
                    </a:lnTo>
                    <a:cubicBezTo>
                      <a:pt x="8655" y="2"/>
                      <a:pt x="8656" y="3"/>
                      <a:pt x="8656" y="4"/>
                    </a:cubicBezTo>
                    <a:cubicBezTo>
                      <a:pt x="8656" y="5"/>
                      <a:pt x="8655" y="6"/>
                      <a:pt x="8654" y="6"/>
                    </a:cubicBezTo>
                    <a:lnTo>
                      <a:pt x="8654" y="6"/>
                    </a:lnTo>
                    <a:cubicBezTo>
                      <a:pt x="8653" y="6"/>
                      <a:pt x="8652" y="5"/>
                      <a:pt x="8652" y="4"/>
                    </a:cubicBezTo>
                    <a:cubicBezTo>
                      <a:pt x="8652" y="3"/>
                      <a:pt x="8653" y="2"/>
                      <a:pt x="8654" y="2"/>
                    </a:cubicBezTo>
                    <a:close/>
                    <a:moveTo>
                      <a:pt x="8662" y="2"/>
                    </a:moveTo>
                    <a:lnTo>
                      <a:pt x="8662" y="2"/>
                    </a:lnTo>
                    <a:cubicBezTo>
                      <a:pt x="8663" y="2"/>
                      <a:pt x="8664" y="3"/>
                      <a:pt x="8664" y="4"/>
                    </a:cubicBezTo>
                    <a:cubicBezTo>
                      <a:pt x="8664" y="5"/>
                      <a:pt x="8663" y="6"/>
                      <a:pt x="8662" y="6"/>
                    </a:cubicBezTo>
                    <a:lnTo>
                      <a:pt x="8662" y="6"/>
                    </a:lnTo>
                    <a:cubicBezTo>
                      <a:pt x="8661" y="6"/>
                      <a:pt x="8660" y="5"/>
                      <a:pt x="8660" y="4"/>
                    </a:cubicBezTo>
                    <a:cubicBezTo>
                      <a:pt x="8660" y="3"/>
                      <a:pt x="8661" y="2"/>
                      <a:pt x="8662" y="2"/>
                    </a:cubicBezTo>
                    <a:close/>
                    <a:moveTo>
                      <a:pt x="8670" y="2"/>
                    </a:moveTo>
                    <a:lnTo>
                      <a:pt x="8670" y="2"/>
                    </a:lnTo>
                    <a:cubicBezTo>
                      <a:pt x="8671" y="2"/>
                      <a:pt x="8672" y="3"/>
                      <a:pt x="8672" y="4"/>
                    </a:cubicBezTo>
                    <a:cubicBezTo>
                      <a:pt x="8672" y="5"/>
                      <a:pt x="8671" y="6"/>
                      <a:pt x="8670" y="6"/>
                    </a:cubicBezTo>
                    <a:lnTo>
                      <a:pt x="8670" y="6"/>
                    </a:lnTo>
                    <a:cubicBezTo>
                      <a:pt x="8669" y="6"/>
                      <a:pt x="8668" y="5"/>
                      <a:pt x="8668" y="4"/>
                    </a:cubicBezTo>
                    <a:cubicBezTo>
                      <a:pt x="8668" y="3"/>
                      <a:pt x="8669" y="2"/>
                      <a:pt x="8670" y="2"/>
                    </a:cubicBezTo>
                    <a:close/>
                    <a:moveTo>
                      <a:pt x="8678" y="2"/>
                    </a:moveTo>
                    <a:lnTo>
                      <a:pt x="8678" y="2"/>
                    </a:lnTo>
                    <a:cubicBezTo>
                      <a:pt x="8679" y="2"/>
                      <a:pt x="8680" y="3"/>
                      <a:pt x="8680" y="4"/>
                    </a:cubicBezTo>
                    <a:cubicBezTo>
                      <a:pt x="8680" y="5"/>
                      <a:pt x="8679" y="6"/>
                      <a:pt x="8678" y="6"/>
                    </a:cubicBezTo>
                    <a:lnTo>
                      <a:pt x="8678" y="6"/>
                    </a:lnTo>
                    <a:cubicBezTo>
                      <a:pt x="8677" y="6"/>
                      <a:pt x="8676" y="5"/>
                      <a:pt x="8676" y="4"/>
                    </a:cubicBezTo>
                    <a:cubicBezTo>
                      <a:pt x="8676" y="3"/>
                      <a:pt x="8677" y="2"/>
                      <a:pt x="8678" y="2"/>
                    </a:cubicBezTo>
                    <a:close/>
                    <a:moveTo>
                      <a:pt x="8686" y="2"/>
                    </a:moveTo>
                    <a:lnTo>
                      <a:pt x="8686" y="2"/>
                    </a:lnTo>
                    <a:cubicBezTo>
                      <a:pt x="8687" y="2"/>
                      <a:pt x="8688" y="3"/>
                      <a:pt x="8688" y="4"/>
                    </a:cubicBezTo>
                    <a:cubicBezTo>
                      <a:pt x="8688" y="5"/>
                      <a:pt x="8687" y="6"/>
                      <a:pt x="8686" y="6"/>
                    </a:cubicBezTo>
                    <a:lnTo>
                      <a:pt x="8686" y="6"/>
                    </a:lnTo>
                    <a:cubicBezTo>
                      <a:pt x="8685" y="6"/>
                      <a:pt x="8684" y="5"/>
                      <a:pt x="8684" y="4"/>
                    </a:cubicBezTo>
                    <a:cubicBezTo>
                      <a:pt x="8684" y="3"/>
                      <a:pt x="8685" y="2"/>
                      <a:pt x="8686" y="2"/>
                    </a:cubicBezTo>
                    <a:close/>
                    <a:moveTo>
                      <a:pt x="8694" y="2"/>
                    </a:moveTo>
                    <a:lnTo>
                      <a:pt x="8694" y="2"/>
                    </a:lnTo>
                    <a:cubicBezTo>
                      <a:pt x="8695" y="2"/>
                      <a:pt x="8696" y="3"/>
                      <a:pt x="8696" y="4"/>
                    </a:cubicBezTo>
                    <a:cubicBezTo>
                      <a:pt x="8696" y="5"/>
                      <a:pt x="8695" y="6"/>
                      <a:pt x="8694" y="6"/>
                    </a:cubicBezTo>
                    <a:lnTo>
                      <a:pt x="8694" y="6"/>
                    </a:lnTo>
                    <a:cubicBezTo>
                      <a:pt x="8693" y="6"/>
                      <a:pt x="8692" y="5"/>
                      <a:pt x="8692" y="4"/>
                    </a:cubicBezTo>
                    <a:cubicBezTo>
                      <a:pt x="8692" y="3"/>
                      <a:pt x="8693" y="2"/>
                      <a:pt x="8694" y="2"/>
                    </a:cubicBezTo>
                    <a:close/>
                    <a:moveTo>
                      <a:pt x="8702" y="2"/>
                    </a:moveTo>
                    <a:lnTo>
                      <a:pt x="8702" y="2"/>
                    </a:lnTo>
                    <a:cubicBezTo>
                      <a:pt x="8703" y="2"/>
                      <a:pt x="8704" y="3"/>
                      <a:pt x="8704" y="4"/>
                    </a:cubicBezTo>
                    <a:cubicBezTo>
                      <a:pt x="8704" y="5"/>
                      <a:pt x="8703" y="6"/>
                      <a:pt x="8702" y="6"/>
                    </a:cubicBezTo>
                    <a:lnTo>
                      <a:pt x="8702" y="6"/>
                    </a:lnTo>
                    <a:cubicBezTo>
                      <a:pt x="8701" y="6"/>
                      <a:pt x="8700" y="5"/>
                      <a:pt x="8700" y="4"/>
                    </a:cubicBezTo>
                    <a:cubicBezTo>
                      <a:pt x="8700" y="3"/>
                      <a:pt x="8701" y="2"/>
                      <a:pt x="8702" y="2"/>
                    </a:cubicBezTo>
                    <a:close/>
                    <a:moveTo>
                      <a:pt x="8710" y="2"/>
                    </a:moveTo>
                    <a:lnTo>
                      <a:pt x="8710" y="2"/>
                    </a:lnTo>
                    <a:cubicBezTo>
                      <a:pt x="8711" y="2"/>
                      <a:pt x="8712" y="3"/>
                      <a:pt x="8712" y="4"/>
                    </a:cubicBezTo>
                    <a:cubicBezTo>
                      <a:pt x="8712" y="5"/>
                      <a:pt x="8711" y="6"/>
                      <a:pt x="8710" y="6"/>
                    </a:cubicBezTo>
                    <a:lnTo>
                      <a:pt x="8710" y="6"/>
                    </a:lnTo>
                    <a:cubicBezTo>
                      <a:pt x="8709" y="6"/>
                      <a:pt x="8708" y="5"/>
                      <a:pt x="8708" y="4"/>
                    </a:cubicBezTo>
                    <a:cubicBezTo>
                      <a:pt x="8708" y="3"/>
                      <a:pt x="8709" y="2"/>
                      <a:pt x="8710" y="2"/>
                    </a:cubicBezTo>
                    <a:close/>
                    <a:moveTo>
                      <a:pt x="8718" y="2"/>
                    </a:moveTo>
                    <a:lnTo>
                      <a:pt x="8718" y="2"/>
                    </a:lnTo>
                    <a:cubicBezTo>
                      <a:pt x="8719" y="2"/>
                      <a:pt x="8720" y="3"/>
                      <a:pt x="8720" y="4"/>
                    </a:cubicBezTo>
                    <a:cubicBezTo>
                      <a:pt x="8720" y="5"/>
                      <a:pt x="8719" y="6"/>
                      <a:pt x="8718" y="6"/>
                    </a:cubicBezTo>
                    <a:lnTo>
                      <a:pt x="8718" y="6"/>
                    </a:lnTo>
                    <a:cubicBezTo>
                      <a:pt x="8717" y="6"/>
                      <a:pt x="8716" y="5"/>
                      <a:pt x="8716" y="4"/>
                    </a:cubicBezTo>
                    <a:cubicBezTo>
                      <a:pt x="8716" y="3"/>
                      <a:pt x="8717" y="2"/>
                      <a:pt x="8718" y="2"/>
                    </a:cubicBezTo>
                    <a:close/>
                    <a:moveTo>
                      <a:pt x="8726" y="2"/>
                    </a:moveTo>
                    <a:lnTo>
                      <a:pt x="8726" y="2"/>
                    </a:lnTo>
                    <a:cubicBezTo>
                      <a:pt x="8727" y="2"/>
                      <a:pt x="8728" y="3"/>
                      <a:pt x="8728" y="4"/>
                    </a:cubicBezTo>
                    <a:cubicBezTo>
                      <a:pt x="8728" y="5"/>
                      <a:pt x="8727" y="6"/>
                      <a:pt x="8726" y="6"/>
                    </a:cubicBezTo>
                    <a:lnTo>
                      <a:pt x="8726" y="6"/>
                    </a:lnTo>
                    <a:cubicBezTo>
                      <a:pt x="8725" y="6"/>
                      <a:pt x="8724" y="5"/>
                      <a:pt x="8724" y="4"/>
                    </a:cubicBezTo>
                    <a:cubicBezTo>
                      <a:pt x="8724" y="3"/>
                      <a:pt x="8725" y="2"/>
                      <a:pt x="8726" y="2"/>
                    </a:cubicBezTo>
                    <a:close/>
                    <a:moveTo>
                      <a:pt x="8734" y="2"/>
                    </a:moveTo>
                    <a:lnTo>
                      <a:pt x="8734" y="2"/>
                    </a:lnTo>
                    <a:cubicBezTo>
                      <a:pt x="8735" y="2"/>
                      <a:pt x="8736" y="3"/>
                      <a:pt x="8736" y="4"/>
                    </a:cubicBezTo>
                    <a:cubicBezTo>
                      <a:pt x="8736" y="5"/>
                      <a:pt x="8735" y="6"/>
                      <a:pt x="8734" y="6"/>
                    </a:cubicBezTo>
                    <a:lnTo>
                      <a:pt x="8734" y="6"/>
                    </a:lnTo>
                    <a:cubicBezTo>
                      <a:pt x="8733" y="6"/>
                      <a:pt x="8732" y="5"/>
                      <a:pt x="8732" y="4"/>
                    </a:cubicBezTo>
                    <a:cubicBezTo>
                      <a:pt x="8732" y="3"/>
                      <a:pt x="8733" y="2"/>
                      <a:pt x="8734" y="2"/>
                    </a:cubicBezTo>
                    <a:close/>
                    <a:moveTo>
                      <a:pt x="8742" y="2"/>
                    </a:moveTo>
                    <a:lnTo>
                      <a:pt x="8742" y="2"/>
                    </a:lnTo>
                    <a:cubicBezTo>
                      <a:pt x="8743" y="2"/>
                      <a:pt x="8744" y="3"/>
                      <a:pt x="8744" y="4"/>
                    </a:cubicBezTo>
                    <a:cubicBezTo>
                      <a:pt x="8744" y="5"/>
                      <a:pt x="8743" y="6"/>
                      <a:pt x="8742" y="6"/>
                    </a:cubicBezTo>
                    <a:lnTo>
                      <a:pt x="8742" y="6"/>
                    </a:lnTo>
                    <a:cubicBezTo>
                      <a:pt x="8741" y="6"/>
                      <a:pt x="8740" y="5"/>
                      <a:pt x="8740" y="4"/>
                    </a:cubicBezTo>
                    <a:cubicBezTo>
                      <a:pt x="8740" y="3"/>
                      <a:pt x="8741" y="2"/>
                      <a:pt x="8742" y="2"/>
                    </a:cubicBezTo>
                    <a:close/>
                    <a:moveTo>
                      <a:pt x="8750" y="2"/>
                    </a:moveTo>
                    <a:lnTo>
                      <a:pt x="8750" y="2"/>
                    </a:lnTo>
                    <a:cubicBezTo>
                      <a:pt x="8751" y="2"/>
                      <a:pt x="8752" y="3"/>
                      <a:pt x="8752" y="4"/>
                    </a:cubicBezTo>
                    <a:cubicBezTo>
                      <a:pt x="8752" y="5"/>
                      <a:pt x="8751" y="6"/>
                      <a:pt x="8750" y="6"/>
                    </a:cubicBezTo>
                    <a:lnTo>
                      <a:pt x="8750" y="6"/>
                    </a:lnTo>
                    <a:cubicBezTo>
                      <a:pt x="8749" y="6"/>
                      <a:pt x="8748" y="5"/>
                      <a:pt x="8748" y="4"/>
                    </a:cubicBezTo>
                    <a:cubicBezTo>
                      <a:pt x="8748" y="3"/>
                      <a:pt x="8749" y="2"/>
                      <a:pt x="8750" y="2"/>
                    </a:cubicBezTo>
                    <a:close/>
                    <a:moveTo>
                      <a:pt x="8758" y="2"/>
                    </a:moveTo>
                    <a:lnTo>
                      <a:pt x="8758" y="2"/>
                    </a:lnTo>
                    <a:cubicBezTo>
                      <a:pt x="8759" y="2"/>
                      <a:pt x="8760" y="3"/>
                      <a:pt x="8760" y="4"/>
                    </a:cubicBezTo>
                    <a:cubicBezTo>
                      <a:pt x="8760" y="5"/>
                      <a:pt x="8759" y="6"/>
                      <a:pt x="8758" y="6"/>
                    </a:cubicBezTo>
                    <a:lnTo>
                      <a:pt x="8758" y="6"/>
                    </a:lnTo>
                    <a:cubicBezTo>
                      <a:pt x="8757" y="6"/>
                      <a:pt x="8756" y="5"/>
                      <a:pt x="8756" y="4"/>
                    </a:cubicBezTo>
                    <a:cubicBezTo>
                      <a:pt x="8756" y="3"/>
                      <a:pt x="8757" y="2"/>
                      <a:pt x="8758" y="2"/>
                    </a:cubicBezTo>
                    <a:close/>
                    <a:moveTo>
                      <a:pt x="8766" y="2"/>
                    </a:moveTo>
                    <a:lnTo>
                      <a:pt x="8766" y="2"/>
                    </a:lnTo>
                    <a:cubicBezTo>
                      <a:pt x="8767" y="2"/>
                      <a:pt x="8768" y="3"/>
                      <a:pt x="8768" y="4"/>
                    </a:cubicBezTo>
                    <a:cubicBezTo>
                      <a:pt x="8768" y="5"/>
                      <a:pt x="8767" y="6"/>
                      <a:pt x="8766" y="6"/>
                    </a:cubicBezTo>
                    <a:lnTo>
                      <a:pt x="8766" y="6"/>
                    </a:lnTo>
                    <a:cubicBezTo>
                      <a:pt x="8765" y="6"/>
                      <a:pt x="8764" y="5"/>
                      <a:pt x="8764" y="4"/>
                    </a:cubicBezTo>
                    <a:cubicBezTo>
                      <a:pt x="8764" y="3"/>
                      <a:pt x="8765" y="2"/>
                      <a:pt x="8766" y="2"/>
                    </a:cubicBezTo>
                    <a:close/>
                    <a:moveTo>
                      <a:pt x="8774" y="2"/>
                    </a:moveTo>
                    <a:lnTo>
                      <a:pt x="8774" y="2"/>
                    </a:lnTo>
                    <a:cubicBezTo>
                      <a:pt x="8775" y="2"/>
                      <a:pt x="8776" y="3"/>
                      <a:pt x="8776" y="4"/>
                    </a:cubicBezTo>
                    <a:cubicBezTo>
                      <a:pt x="8776" y="5"/>
                      <a:pt x="8775" y="6"/>
                      <a:pt x="8774" y="6"/>
                    </a:cubicBezTo>
                    <a:lnTo>
                      <a:pt x="8774" y="6"/>
                    </a:lnTo>
                    <a:cubicBezTo>
                      <a:pt x="8773" y="6"/>
                      <a:pt x="8772" y="5"/>
                      <a:pt x="8772" y="4"/>
                    </a:cubicBezTo>
                    <a:cubicBezTo>
                      <a:pt x="8772" y="3"/>
                      <a:pt x="8773" y="2"/>
                      <a:pt x="8774" y="2"/>
                    </a:cubicBezTo>
                    <a:close/>
                    <a:moveTo>
                      <a:pt x="8782" y="2"/>
                    </a:moveTo>
                    <a:lnTo>
                      <a:pt x="8782" y="2"/>
                    </a:lnTo>
                    <a:cubicBezTo>
                      <a:pt x="8783" y="2"/>
                      <a:pt x="8784" y="3"/>
                      <a:pt x="8784" y="4"/>
                    </a:cubicBezTo>
                    <a:cubicBezTo>
                      <a:pt x="8784" y="5"/>
                      <a:pt x="8783" y="6"/>
                      <a:pt x="8782" y="6"/>
                    </a:cubicBezTo>
                    <a:lnTo>
                      <a:pt x="8782" y="6"/>
                    </a:lnTo>
                    <a:cubicBezTo>
                      <a:pt x="8781" y="6"/>
                      <a:pt x="8780" y="5"/>
                      <a:pt x="8780" y="4"/>
                    </a:cubicBezTo>
                    <a:cubicBezTo>
                      <a:pt x="8780" y="3"/>
                      <a:pt x="8781" y="2"/>
                      <a:pt x="8782" y="2"/>
                    </a:cubicBezTo>
                    <a:close/>
                    <a:moveTo>
                      <a:pt x="8790" y="2"/>
                    </a:moveTo>
                    <a:lnTo>
                      <a:pt x="8790" y="2"/>
                    </a:lnTo>
                    <a:cubicBezTo>
                      <a:pt x="8791" y="2"/>
                      <a:pt x="8792" y="3"/>
                      <a:pt x="8792" y="4"/>
                    </a:cubicBezTo>
                    <a:cubicBezTo>
                      <a:pt x="8792" y="5"/>
                      <a:pt x="8791" y="6"/>
                      <a:pt x="8790" y="6"/>
                    </a:cubicBezTo>
                    <a:lnTo>
                      <a:pt x="8790" y="6"/>
                    </a:lnTo>
                    <a:cubicBezTo>
                      <a:pt x="8789" y="6"/>
                      <a:pt x="8788" y="5"/>
                      <a:pt x="8788" y="4"/>
                    </a:cubicBezTo>
                    <a:cubicBezTo>
                      <a:pt x="8788" y="3"/>
                      <a:pt x="8789" y="2"/>
                      <a:pt x="8790" y="2"/>
                    </a:cubicBezTo>
                    <a:close/>
                    <a:moveTo>
                      <a:pt x="8798" y="2"/>
                    </a:moveTo>
                    <a:lnTo>
                      <a:pt x="8798" y="2"/>
                    </a:lnTo>
                    <a:cubicBezTo>
                      <a:pt x="8799" y="2"/>
                      <a:pt x="8800" y="3"/>
                      <a:pt x="8800" y="4"/>
                    </a:cubicBezTo>
                    <a:cubicBezTo>
                      <a:pt x="8800" y="5"/>
                      <a:pt x="8799" y="6"/>
                      <a:pt x="8798" y="6"/>
                    </a:cubicBezTo>
                    <a:lnTo>
                      <a:pt x="8798" y="6"/>
                    </a:lnTo>
                    <a:cubicBezTo>
                      <a:pt x="8797" y="6"/>
                      <a:pt x="8796" y="5"/>
                      <a:pt x="8796" y="4"/>
                    </a:cubicBezTo>
                    <a:cubicBezTo>
                      <a:pt x="8796" y="3"/>
                      <a:pt x="8797" y="2"/>
                      <a:pt x="8798" y="2"/>
                    </a:cubicBezTo>
                    <a:close/>
                    <a:moveTo>
                      <a:pt x="8806" y="2"/>
                    </a:moveTo>
                    <a:lnTo>
                      <a:pt x="8806" y="2"/>
                    </a:lnTo>
                    <a:cubicBezTo>
                      <a:pt x="8807" y="2"/>
                      <a:pt x="8808" y="3"/>
                      <a:pt x="8808" y="4"/>
                    </a:cubicBezTo>
                    <a:cubicBezTo>
                      <a:pt x="8808" y="5"/>
                      <a:pt x="8807" y="6"/>
                      <a:pt x="8806" y="6"/>
                    </a:cubicBezTo>
                    <a:lnTo>
                      <a:pt x="8806" y="6"/>
                    </a:lnTo>
                    <a:cubicBezTo>
                      <a:pt x="8805" y="6"/>
                      <a:pt x="8804" y="5"/>
                      <a:pt x="8804" y="4"/>
                    </a:cubicBezTo>
                    <a:cubicBezTo>
                      <a:pt x="8804" y="3"/>
                      <a:pt x="8805" y="2"/>
                      <a:pt x="8806" y="2"/>
                    </a:cubicBezTo>
                    <a:close/>
                    <a:moveTo>
                      <a:pt x="8814" y="2"/>
                    </a:moveTo>
                    <a:lnTo>
                      <a:pt x="8814" y="2"/>
                    </a:lnTo>
                    <a:cubicBezTo>
                      <a:pt x="8815" y="2"/>
                      <a:pt x="8816" y="3"/>
                      <a:pt x="8816" y="4"/>
                    </a:cubicBezTo>
                    <a:cubicBezTo>
                      <a:pt x="8816" y="5"/>
                      <a:pt x="8815" y="6"/>
                      <a:pt x="8814" y="6"/>
                    </a:cubicBezTo>
                    <a:lnTo>
                      <a:pt x="8814" y="6"/>
                    </a:lnTo>
                    <a:cubicBezTo>
                      <a:pt x="8813" y="6"/>
                      <a:pt x="8812" y="5"/>
                      <a:pt x="8812" y="4"/>
                    </a:cubicBezTo>
                    <a:cubicBezTo>
                      <a:pt x="8812" y="3"/>
                      <a:pt x="8813" y="2"/>
                      <a:pt x="8814" y="2"/>
                    </a:cubicBezTo>
                    <a:close/>
                    <a:moveTo>
                      <a:pt x="8822" y="2"/>
                    </a:moveTo>
                    <a:lnTo>
                      <a:pt x="8822" y="2"/>
                    </a:lnTo>
                    <a:cubicBezTo>
                      <a:pt x="8823" y="2"/>
                      <a:pt x="8824" y="3"/>
                      <a:pt x="8824" y="4"/>
                    </a:cubicBezTo>
                    <a:cubicBezTo>
                      <a:pt x="8824" y="5"/>
                      <a:pt x="8823" y="6"/>
                      <a:pt x="8822" y="6"/>
                    </a:cubicBezTo>
                    <a:lnTo>
                      <a:pt x="8822" y="6"/>
                    </a:lnTo>
                    <a:cubicBezTo>
                      <a:pt x="8821" y="6"/>
                      <a:pt x="8820" y="5"/>
                      <a:pt x="8820" y="4"/>
                    </a:cubicBezTo>
                    <a:cubicBezTo>
                      <a:pt x="8820" y="3"/>
                      <a:pt x="8821" y="2"/>
                      <a:pt x="8822" y="2"/>
                    </a:cubicBezTo>
                    <a:close/>
                    <a:moveTo>
                      <a:pt x="8830" y="2"/>
                    </a:moveTo>
                    <a:lnTo>
                      <a:pt x="8830" y="2"/>
                    </a:lnTo>
                    <a:cubicBezTo>
                      <a:pt x="8831" y="2"/>
                      <a:pt x="8832" y="3"/>
                      <a:pt x="8832" y="4"/>
                    </a:cubicBezTo>
                    <a:cubicBezTo>
                      <a:pt x="8832" y="5"/>
                      <a:pt x="8831" y="6"/>
                      <a:pt x="8830" y="6"/>
                    </a:cubicBezTo>
                    <a:lnTo>
                      <a:pt x="8830" y="6"/>
                    </a:lnTo>
                    <a:cubicBezTo>
                      <a:pt x="8829" y="6"/>
                      <a:pt x="8828" y="5"/>
                      <a:pt x="8828" y="4"/>
                    </a:cubicBezTo>
                    <a:cubicBezTo>
                      <a:pt x="8828" y="3"/>
                      <a:pt x="8829" y="2"/>
                      <a:pt x="8830" y="2"/>
                    </a:cubicBezTo>
                    <a:close/>
                    <a:moveTo>
                      <a:pt x="8838" y="2"/>
                    </a:moveTo>
                    <a:lnTo>
                      <a:pt x="8838" y="2"/>
                    </a:lnTo>
                    <a:cubicBezTo>
                      <a:pt x="8839" y="2"/>
                      <a:pt x="8840" y="3"/>
                      <a:pt x="8840" y="4"/>
                    </a:cubicBezTo>
                    <a:cubicBezTo>
                      <a:pt x="8840" y="5"/>
                      <a:pt x="8839" y="6"/>
                      <a:pt x="8838" y="6"/>
                    </a:cubicBezTo>
                    <a:lnTo>
                      <a:pt x="8838" y="6"/>
                    </a:lnTo>
                    <a:cubicBezTo>
                      <a:pt x="8837" y="6"/>
                      <a:pt x="8836" y="5"/>
                      <a:pt x="8836" y="4"/>
                    </a:cubicBezTo>
                    <a:cubicBezTo>
                      <a:pt x="8836" y="3"/>
                      <a:pt x="8837" y="2"/>
                      <a:pt x="8838" y="2"/>
                    </a:cubicBezTo>
                    <a:close/>
                    <a:moveTo>
                      <a:pt x="8846" y="2"/>
                    </a:moveTo>
                    <a:lnTo>
                      <a:pt x="8846" y="2"/>
                    </a:lnTo>
                    <a:cubicBezTo>
                      <a:pt x="8847" y="2"/>
                      <a:pt x="8848" y="3"/>
                      <a:pt x="8848" y="4"/>
                    </a:cubicBezTo>
                    <a:cubicBezTo>
                      <a:pt x="8848" y="5"/>
                      <a:pt x="8847" y="6"/>
                      <a:pt x="8846" y="6"/>
                    </a:cubicBezTo>
                    <a:lnTo>
                      <a:pt x="8846" y="6"/>
                    </a:lnTo>
                    <a:cubicBezTo>
                      <a:pt x="8845" y="6"/>
                      <a:pt x="8844" y="5"/>
                      <a:pt x="8844" y="4"/>
                    </a:cubicBezTo>
                    <a:cubicBezTo>
                      <a:pt x="8844" y="3"/>
                      <a:pt x="8845" y="2"/>
                      <a:pt x="8846" y="2"/>
                    </a:cubicBezTo>
                    <a:close/>
                    <a:moveTo>
                      <a:pt x="8854" y="2"/>
                    </a:moveTo>
                    <a:lnTo>
                      <a:pt x="8854" y="2"/>
                    </a:lnTo>
                    <a:cubicBezTo>
                      <a:pt x="8855" y="2"/>
                      <a:pt x="8856" y="3"/>
                      <a:pt x="8856" y="4"/>
                    </a:cubicBezTo>
                    <a:cubicBezTo>
                      <a:pt x="8856" y="5"/>
                      <a:pt x="8855" y="6"/>
                      <a:pt x="8854" y="6"/>
                    </a:cubicBezTo>
                    <a:lnTo>
                      <a:pt x="8854" y="6"/>
                    </a:lnTo>
                    <a:cubicBezTo>
                      <a:pt x="8853" y="6"/>
                      <a:pt x="8852" y="5"/>
                      <a:pt x="8852" y="4"/>
                    </a:cubicBezTo>
                    <a:cubicBezTo>
                      <a:pt x="8852" y="3"/>
                      <a:pt x="8853" y="2"/>
                      <a:pt x="8854" y="2"/>
                    </a:cubicBezTo>
                    <a:close/>
                    <a:moveTo>
                      <a:pt x="8862" y="2"/>
                    </a:moveTo>
                    <a:lnTo>
                      <a:pt x="8862" y="2"/>
                    </a:lnTo>
                    <a:cubicBezTo>
                      <a:pt x="8863" y="2"/>
                      <a:pt x="8864" y="3"/>
                      <a:pt x="8864" y="4"/>
                    </a:cubicBezTo>
                    <a:cubicBezTo>
                      <a:pt x="8864" y="5"/>
                      <a:pt x="8863" y="6"/>
                      <a:pt x="8862" y="6"/>
                    </a:cubicBezTo>
                    <a:lnTo>
                      <a:pt x="8862" y="6"/>
                    </a:lnTo>
                    <a:cubicBezTo>
                      <a:pt x="8861" y="6"/>
                      <a:pt x="8860" y="5"/>
                      <a:pt x="8860" y="4"/>
                    </a:cubicBezTo>
                    <a:cubicBezTo>
                      <a:pt x="8860" y="3"/>
                      <a:pt x="8861" y="2"/>
                      <a:pt x="8862" y="2"/>
                    </a:cubicBezTo>
                    <a:close/>
                    <a:moveTo>
                      <a:pt x="8870" y="2"/>
                    </a:moveTo>
                    <a:lnTo>
                      <a:pt x="8870" y="2"/>
                    </a:lnTo>
                    <a:cubicBezTo>
                      <a:pt x="8871" y="2"/>
                      <a:pt x="8872" y="3"/>
                      <a:pt x="8872" y="4"/>
                    </a:cubicBezTo>
                    <a:cubicBezTo>
                      <a:pt x="8872" y="5"/>
                      <a:pt x="8871" y="6"/>
                      <a:pt x="8870" y="6"/>
                    </a:cubicBezTo>
                    <a:lnTo>
                      <a:pt x="8870" y="6"/>
                    </a:lnTo>
                    <a:cubicBezTo>
                      <a:pt x="8869" y="6"/>
                      <a:pt x="8868" y="5"/>
                      <a:pt x="8868" y="4"/>
                    </a:cubicBezTo>
                    <a:cubicBezTo>
                      <a:pt x="8868" y="3"/>
                      <a:pt x="8869" y="2"/>
                      <a:pt x="8870" y="2"/>
                    </a:cubicBezTo>
                    <a:close/>
                    <a:moveTo>
                      <a:pt x="8878" y="2"/>
                    </a:moveTo>
                    <a:lnTo>
                      <a:pt x="8878" y="2"/>
                    </a:lnTo>
                    <a:cubicBezTo>
                      <a:pt x="8879" y="2"/>
                      <a:pt x="8880" y="3"/>
                      <a:pt x="8880" y="4"/>
                    </a:cubicBezTo>
                    <a:cubicBezTo>
                      <a:pt x="8880" y="5"/>
                      <a:pt x="8879" y="6"/>
                      <a:pt x="8878" y="6"/>
                    </a:cubicBezTo>
                    <a:lnTo>
                      <a:pt x="8878" y="6"/>
                    </a:lnTo>
                    <a:cubicBezTo>
                      <a:pt x="8877" y="6"/>
                      <a:pt x="8876" y="5"/>
                      <a:pt x="8876" y="4"/>
                    </a:cubicBezTo>
                    <a:cubicBezTo>
                      <a:pt x="8876" y="3"/>
                      <a:pt x="8877" y="2"/>
                      <a:pt x="8878" y="2"/>
                    </a:cubicBezTo>
                    <a:close/>
                    <a:moveTo>
                      <a:pt x="8886" y="2"/>
                    </a:moveTo>
                    <a:lnTo>
                      <a:pt x="8886" y="2"/>
                    </a:lnTo>
                    <a:cubicBezTo>
                      <a:pt x="8887" y="2"/>
                      <a:pt x="8888" y="3"/>
                      <a:pt x="8888" y="4"/>
                    </a:cubicBezTo>
                    <a:cubicBezTo>
                      <a:pt x="8888" y="5"/>
                      <a:pt x="8887" y="6"/>
                      <a:pt x="8886" y="6"/>
                    </a:cubicBezTo>
                    <a:lnTo>
                      <a:pt x="8886" y="6"/>
                    </a:lnTo>
                    <a:cubicBezTo>
                      <a:pt x="8885" y="6"/>
                      <a:pt x="8884" y="5"/>
                      <a:pt x="8884" y="4"/>
                    </a:cubicBezTo>
                    <a:cubicBezTo>
                      <a:pt x="8884" y="3"/>
                      <a:pt x="8885" y="2"/>
                      <a:pt x="8886" y="2"/>
                    </a:cubicBezTo>
                    <a:close/>
                    <a:moveTo>
                      <a:pt x="8894" y="2"/>
                    </a:moveTo>
                    <a:lnTo>
                      <a:pt x="8894" y="2"/>
                    </a:lnTo>
                    <a:cubicBezTo>
                      <a:pt x="8895" y="2"/>
                      <a:pt x="8896" y="3"/>
                      <a:pt x="8896" y="4"/>
                    </a:cubicBezTo>
                    <a:cubicBezTo>
                      <a:pt x="8896" y="5"/>
                      <a:pt x="8895" y="6"/>
                      <a:pt x="8894" y="6"/>
                    </a:cubicBezTo>
                    <a:lnTo>
                      <a:pt x="8894" y="6"/>
                    </a:lnTo>
                    <a:cubicBezTo>
                      <a:pt x="8893" y="6"/>
                      <a:pt x="8892" y="5"/>
                      <a:pt x="8892" y="4"/>
                    </a:cubicBezTo>
                    <a:cubicBezTo>
                      <a:pt x="8892" y="3"/>
                      <a:pt x="8893" y="2"/>
                      <a:pt x="8894" y="2"/>
                    </a:cubicBezTo>
                    <a:close/>
                    <a:moveTo>
                      <a:pt x="8902" y="2"/>
                    </a:moveTo>
                    <a:lnTo>
                      <a:pt x="8902" y="2"/>
                    </a:lnTo>
                    <a:cubicBezTo>
                      <a:pt x="8903" y="2"/>
                      <a:pt x="8904" y="3"/>
                      <a:pt x="8904" y="4"/>
                    </a:cubicBezTo>
                    <a:cubicBezTo>
                      <a:pt x="8904" y="5"/>
                      <a:pt x="8903" y="6"/>
                      <a:pt x="8902" y="6"/>
                    </a:cubicBezTo>
                    <a:lnTo>
                      <a:pt x="8902" y="6"/>
                    </a:lnTo>
                    <a:cubicBezTo>
                      <a:pt x="8901" y="6"/>
                      <a:pt x="8900" y="5"/>
                      <a:pt x="8900" y="4"/>
                    </a:cubicBezTo>
                    <a:cubicBezTo>
                      <a:pt x="8900" y="3"/>
                      <a:pt x="8901" y="2"/>
                      <a:pt x="8902" y="2"/>
                    </a:cubicBezTo>
                    <a:close/>
                    <a:moveTo>
                      <a:pt x="8910" y="2"/>
                    </a:moveTo>
                    <a:lnTo>
                      <a:pt x="8910" y="2"/>
                    </a:lnTo>
                    <a:cubicBezTo>
                      <a:pt x="8911" y="2"/>
                      <a:pt x="8912" y="3"/>
                      <a:pt x="8912" y="4"/>
                    </a:cubicBezTo>
                    <a:cubicBezTo>
                      <a:pt x="8912" y="5"/>
                      <a:pt x="8911" y="6"/>
                      <a:pt x="8910" y="6"/>
                    </a:cubicBezTo>
                    <a:lnTo>
                      <a:pt x="8910" y="6"/>
                    </a:lnTo>
                    <a:cubicBezTo>
                      <a:pt x="8909" y="6"/>
                      <a:pt x="8908" y="5"/>
                      <a:pt x="8908" y="4"/>
                    </a:cubicBezTo>
                    <a:cubicBezTo>
                      <a:pt x="8908" y="3"/>
                      <a:pt x="8909" y="2"/>
                      <a:pt x="8910" y="2"/>
                    </a:cubicBezTo>
                    <a:close/>
                    <a:moveTo>
                      <a:pt x="8918" y="2"/>
                    </a:moveTo>
                    <a:lnTo>
                      <a:pt x="8918" y="2"/>
                    </a:lnTo>
                    <a:cubicBezTo>
                      <a:pt x="8919" y="2"/>
                      <a:pt x="8920" y="3"/>
                      <a:pt x="8920" y="4"/>
                    </a:cubicBezTo>
                    <a:cubicBezTo>
                      <a:pt x="8920" y="5"/>
                      <a:pt x="8919" y="6"/>
                      <a:pt x="8918" y="6"/>
                    </a:cubicBezTo>
                    <a:lnTo>
                      <a:pt x="8918" y="6"/>
                    </a:lnTo>
                    <a:cubicBezTo>
                      <a:pt x="8917" y="6"/>
                      <a:pt x="8916" y="5"/>
                      <a:pt x="8916" y="4"/>
                    </a:cubicBezTo>
                    <a:cubicBezTo>
                      <a:pt x="8916" y="3"/>
                      <a:pt x="8917" y="2"/>
                      <a:pt x="8918" y="2"/>
                    </a:cubicBezTo>
                    <a:close/>
                    <a:moveTo>
                      <a:pt x="8926" y="2"/>
                    </a:moveTo>
                    <a:lnTo>
                      <a:pt x="8926" y="2"/>
                    </a:lnTo>
                    <a:cubicBezTo>
                      <a:pt x="8927" y="2"/>
                      <a:pt x="8928" y="3"/>
                      <a:pt x="8928" y="4"/>
                    </a:cubicBezTo>
                    <a:cubicBezTo>
                      <a:pt x="8928" y="5"/>
                      <a:pt x="8927" y="6"/>
                      <a:pt x="8926" y="6"/>
                    </a:cubicBezTo>
                    <a:lnTo>
                      <a:pt x="8926" y="6"/>
                    </a:lnTo>
                    <a:cubicBezTo>
                      <a:pt x="8925" y="6"/>
                      <a:pt x="8924" y="5"/>
                      <a:pt x="8924" y="4"/>
                    </a:cubicBezTo>
                    <a:cubicBezTo>
                      <a:pt x="8924" y="3"/>
                      <a:pt x="8925" y="2"/>
                      <a:pt x="8926" y="2"/>
                    </a:cubicBezTo>
                    <a:close/>
                    <a:moveTo>
                      <a:pt x="8934" y="2"/>
                    </a:moveTo>
                    <a:lnTo>
                      <a:pt x="8934" y="2"/>
                    </a:lnTo>
                    <a:cubicBezTo>
                      <a:pt x="8935" y="2"/>
                      <a:pt x="8936" y="3"/>
                      <a:pt x="8936" y="4"/>
                    </a:cubicBezTo>
                    <a:cubicBezTo>
                      <a:pt x="8936" y="5"/>
                      <a:pt x="8935" y="6"/>
                      <a:pt x="8934" y="6"/>
                    </a:cubicBezTo>
                    <a:lnTo>
                      <a:pt x="8934" y="6"/>
                    </a:lnTo>
                    <a:cubicBezTo>
                      <a:pt x="8933" y="6"/>
                      <a:pt x="8932" y="5"/>
                      <a:pt x="8932" y="4"/>
                    </a:cubicBezTo>
                    <a:cubicBezTo>
                      <a:pt x="8932" y="3"/>
                      <a:pt x="8933" y="2"/>
                      <a:pt x="8934" y="2"/>
                    </a:cubicBezTo>
                    <a:close/>
                    <a:moveTo>
                      <a:pt x="8942" y="2"/>
                    </a:moveTo>
                    <a:lnTo>
                      <a:pt x="8942" y="2"/>
                    </a:lnTo>
                    <a:cubicBezTo>
                      <a:pt x="8943" y="2"/>
                      <a:pt x="8944" y="3"/>
                      <a:pt x="8944" y="4"/>
                    </a:cubicBezTo>
                    <a:cubicBezTo>
                      <a:pt x="8944" y="5"/>
                      <a:pt x="8943" y="6"/>
                      <a:pt x="8942" y="6"/>
                    </a:cubicBezTo>
                    <a:lnTo>
                      <a:pt x="8942" y="6"/>
                    </a:lnTo>
                    <a:cubicBezTo>
                      <a:pt x="8941" y="6"/>
                      <a:pt x="8940" y="5"/>
                      <a:pt x="8940" y="4"/>
                    </a:cubicBezTo>
                    <a:cubicBezTo>
                      <a:pt x="8940" y="3"/>
                      <a:pt x="8941" y="2"/>
                      <a:pt x="8942" y="2"/>
                    </a:cubicBezTo>
                    <a:close/>
                    <a:moveTo>
                      <a:pt x="8950" y="2"/>
                    </a:moveTo>
                    <a:lnTo>
                      <a:pt x="8950" y="2"/>
                    </a:lnTo>
                    <a:cubicBezTo>
                      <a:pt x="8951" y="2"/>
                      <a:pt x="8952" y="3"/>
                      <a:pt x="8952" y="4"/>
                    </a:cubicBezTo>
                    <a:cubicBezTo>
                      <a:pt x="8952" y="5"/>
                      <a:pt x="8951" y="6"/>
                      <a:pt x="8950" y="6"/>
                    </a:cubicBezTo>
                    <a:lnTo>
                      <a:pt x="8950" y="6"/>
                    </a:lnTo>
                    <a:cubicBezTo>
                      <a:pt x="8949" y="6"/>
                      <a:pt x="8948" y="5"/>
                      <a:pt x="8948" y="4"/>
                    </a:cubicBezTo>
                    <a:cubicBezTo>
                      <a:pt x="8948" y="3"/>
                      <a:pt x="8949" y="2"/>
                      <a:pt x="8950" y="2"/>
                    </a:cubicBezTo>
                    <a:close/>
                    <a:moveTo>
                      <a:pt x="8958" y="2"/>
                    </a:moveTo>
                    <a:lnTo>
                      <a:pt x="8958" y="2"/>
                    </a:lnTo>
                    <a:cubicBezTo>
                      <a:pt x="8959" y="2"/>
                      <a:pt x="8960" y="3"/>
                      <a:pt x="8960" y="4"/>
                    </a:cubicBezTo>
                    <a:cubicBezTo>
                      <a:pt x="8960" y="5"/>
                      <a:pt x="8959" y="6"/>
                      <a:pt x="8958" y="6"/>
                    </a:cubicBezTo>
                    <a:lnTo>
                      <a:pt x="8958" y="6"/>
                    </a:lnTo>
                    <a:cubicBezTo>
                      <a:pt x="8957" y="6"/>
                      <a:pt x="8956" y="5"/>
                      <a:pt x="8956" y="4"/>
                    </a:cubicBezTo>
                    <a:cubicBezTo>
                      <a:pt x="8956" y="3"/>
                      <a:pt x="8957" y="2"/>
                      <a:pt x="8958" y="2"/>
                    </a:cubicBezTo>
                    <a:close/>
                    <a:moveTo>
                      <a:pt x="8966" y="2"/>
                    </a:moveTo>
                    <a:lnTo>
                      <a:pt x="8966" y="2"/>
                    </a:lnTo>
                    <a:cubicBezTo>
                      <a:pt x="8967" y="2"/>
                      <a:pt x="8968" y="3"/>
                      <a:pt x="8968" y="4"/>
                    </a:cubicBezTo>
                    <a:cubicBezTo>
                      <a:pt x="8968" y="5"/>
                      <a:pt x="8967" y="6"/>
                      <a:pt x="8966" y="6"/>
                    </a:cubicBezTo>
                    <a:lnTo>
                      <a:pt x="8966" y="6"/>
                    </a:lnTo>
                    <a:cubicBezTo>
                      <a:pt x="8965" y="6"/>
                      <a:pt x="8964" y="5"/>
                      <a:pt x="8964" y="4"/>
                    </a:cubicBezTo>
                    <a:cubicBezTo>
                      <a:pt x="8964" y="3"/>
                      <a:pt x="8965" y="2"/>
                      <a:pt x="8966" y="2"/>
                    </a:cubicBezTo>
                    <a:close/>
                    <a:moveTo>
                      <a:pt x="8974" y="2"/>
                    </a:moveTo>
                    <a:lnTo>
                      <a:pt x="8974" y="2"/>
                    </a:lnTo>
                    <a:cubicBezTo>
                      <a:pt x="8975" y="2"/>
                      <a:pt x="8976" y="3"/>
                      <a:pt x="8976" y="4"/>
                    </a:cubicBezTo>
                    <a:cubicBezTo>
                      <a:pt x="8976" y="5"/>
                      <a:pt x="8975" y="6"/>
                      <a:pt x="8974" y="6"/>
                    </a:cubicBezTo>
                    <a:lnTo>
                      <a:pt x="8974" y="6"/>
                    </a:lnTo>
                    <a:cubicBezTo>
                      <a:pt x="8973" y="6"/>
                      <a:pt x="8972" y="5"/>
                      <a:pt x="8972" y="4"/>
                    </a:cubicBezTo>
                    <a:cubicBezTo>
                      <a:pt x="8972" y="3"/>
                      <a:pt x="8973" y="2"/>
                      <a:pt x="8974" y="2"/>
                    </a:cubicBezTo>
                    <a:close/>
                    <a:moveTo>
                      <a:pt x="8982" y="2"/>
                    </a:moveTo>
                    <a:lnTo>
                      <a:pt x="8982" y="2"/>
                    </a:lnTo>
                    <a:cubicBezTo>
                      <a:pt x="8983" y="2"/>
                      <a:pt x="8984" y="3"/>
                      <a:pt x="8984" y="4"/>
                    </a:cubicBezTo>
                    <a:cubicBezTo>
                      <a:pt x="8984" y="5"/>
                      <a:pt x="8983" y="6"/>
                      <a:pt x="8982" y="6"/>
                    </a:cubicBezTo>
                    <a:lnTo>
                      <a:pt x="8982" y="6"/>
                    </a:lnTo>
                    <a:cubicBezTo>
                      <a:pt x="8981" y="6"/>
                      <a:pt x="8980" y="5"/>
                      <a:pt x="8980" y="4"/>
                    </a:cubicBezTo>
                    <a:cubicBezTo>
                      <a:pt x="8980" y="3"/>
                      <a:pt x="8981" y="2"/>
                      <a:pt x="8982" y="2"/>
                    </a:cubicBezTo>
                    <a:close/>
                    <a:moveTo>
                      <a:pt x="8990" y="2"/>
                    </a:moveTo>
                    <a:lnTo>
                      <a:pt x="8990" y="2"/>
                    </a:lnTo>
                    <a:cubicBezTo>
                      <a:pt x="8991" y="2"/>
                      <a:pt x="8992" y="3"/>
                      <a:pt x="8992" y="4"/>
                    </a:cubicBezTo>
                    <a:cubicBezTo>
                      <a:pt x="8992" y="5"/>
                      <a:pt x="8991" y="6"/>
                      <a:pt x="8990" y="6"/>
                    </a:cubicBezTo>
                    <a:lnTo>
                      <a:pt x="8990" y="6"/>
                    </a:lnTo>
                    <a:cubicBezTo>
                      <a:pt x="8989" y="6"/>
                      <a:pt x="8988" y="5"/>
                      <a:pt x="8988" y="4"/>
                    </a:cubicBezTo>
                    <a:cubicBezTo>
                      <a:pt x="8988" y="3"/>
                      <a:pt x="8989" y="2"/>
                      <a:pt x="8990" y="2"/>
                    </a:cubicBezTo>
                    <a:close/>
                    <a:moveTo>
                      <a:pt x="8998" y="2"/>
                    </a:moveTo>
                    <a:lnTo>
                      <a:pt x="8998" y="2"/>
                    </a:lnTo>
                    <a:cubicBezTo>
                      <a:pt x="8999" y="2"/>
                      <a:pt x="9000" y="3"/>
                      <a:pt x="9000" y="4"/>
                    </a:cubicBezTo>
                    <a:cubicBezTo>
                      <a:pt x="9000" y="5"/>
                      <a:pt x="8999" y="6"/>
                      <a:pt x="8998" y="6"/>
                    </a:cubicBezTo>
                    <a:lnTo>
                      <a:pt x="8998" y="6"/>
                    </a:lnTo>
                    <a:cubicBezTo>
                      <a:pt x="8997" y="6"/>
                      <a:pt x="8996" y="5"/>
                      <a:pt x="8996" y="4"/>
                    </a:cubicBezTo>
                    <a:cubicBezTo>
                      <a:pt x="8996" y="3"/>
                      <a:pt x="8997" y="2"/>
                      <a:pt x="8998" y="2"/>
                    </a:cubicBezTo>
                    <a:close/>
                    <a:moveTo>
                      <a:pt x="9006" y="2"/>
                    </a:moveTo>
                    <a:lnTo>
                      <a:pt x="9006" y="2"/>
                    </a:lnTo>
                    <a:cubicBezTo>
                      <a:pt x="9007" y="2"/>
                      <a:pt x="9008" y="3"/>
                      <a:pt x="9008" y="4"/>
                    </a:cubicBezTo>
                    <a:cubicBezTo>
                      <a:pt x="9008" y="5"/>
                      <a:pt x="9007" y="6"/>
                      <a:pt x="9006" y="6"/>
                    </a:cubicBezTo>
                    <a:lnTo>
                      <a:pt x="9006" y="6"/>
                    </a:lnTo>
                    <a:cubicBezTo>
                      <a:pt x="9005" y="6"/>
                      <a:pt x="9004" y="5"/>
                      <a:pt x="9004" y="4"/>
                    </a:cubicBezTo>
                    <a:cubicBezTo>
                      <a:pt x="9004" y="3"/>
                      <a:pt x="9005" y="2"/>
                      <a:pt x="9006" y="2"/>
                    </a:cubicBezTo>
                    <a:close/>
                    <a:moveTo>
                      <a:pt x="9014" y="2"/>
                    </a:moveTo>
                    <a:lnTo>
                      <a:pt x="9014" y="2"/>
                    </a:lnTo>
                    <a:cubicBezTo>
                      <a:pt x="9015" y="2"/>
                      <a:pt x="9016" y="3"/>
                      <a:pt x="9016" y="4"/>
                    </a:cubicBezTo>
                    <a:cubicBezTo>
                      <a:pt x="9016" y="5"/>
                      <a:pt x="9015" y="6"/>
                      <a:pt x="9014" y="6"/>
                    </a:cubicBezTo>
                    <a:lnTo>
                      <a:pt x="9014" y="6"/>
                    </a:lnTo>
                    <a:cubicBezTo>
                      <a:pt x="9013" y="6"/>
                      <a:pt x="9012" y="5"/>
                      <a:pt x="9012" y="4"/>
                    </a:cubicBezTo>
                    <a:cubicBezTo>
                      <a:pt x="9012" y="3"/>
                      <a:pt x="9013" y="2"/>
                      <a:pt x="9014" y="2"/>
                    </a:cubicBezTo>
                    <a:close/>
                    <a:moveTo>
                      <a:pt x="9022" y="2"/>
                    </a:moveTo>
                    <a:lnTo>
                      <a:pt x="9022" y="2"/>
                    </a:lnTo>
                    <a:cubicBezTo>
                      <a:pt x="9023" y="2"/>
                      <a:pt x="9024" y="3"/>
                      <a:pt x="9024" y="4"/>
                    </a:cubicBezTo>
                    <a:cubicBezTo>
                      <a:pt x="9024" y="5"/>
                      <a:pt x="9023" y="6"/>
                      <a:pt x="9022" y="6"/>
                    </a:cubicBezTo>
                    <a:lnTo>
                      <a:pt x="9022" y="6"/>
                    </a:lnTo>
                    <a:cubicBezTo>
                      <a:pt x="9021" y="6"/>
                      <a:pt x="9020" y="5"/>
                      <a:pt x="9020" y="4"/>
                    </a:cubicBezTo>
                    <a:cubicBezTo>
                      <a:pt x="9020" y="3"/>
                      <a:pt x="9021" y="2"/>
                      <a:pt x="9022" y="2"/>
                    </a:cubicBezTo>
                    <a:close/>
                    <a:moveTo>
                      <a:pt x="9030" y="2"/>
                    </a:moveTo>
                    <a:lnTo>
                      <a:pt x="9030" y="2"/>
                    </a:lnTo>
                    <a:cubicBezTo>
                      <a:pt x="9031" y="2"/>
                      <a:pt x="9032" y="3"/>
                      <a:pt x="9032" y="4"/>
                    </a:cubicBezTo>
                    <a:cubicBezTo>
                      <a:pt x="9032" y="5"/>
                      <a:pt x="9031" y="6"/>
                      <a:pt x="9030" y="6"/>
                    </a:cubicBezTo>
                    <a:lnTo>
                      <a:pt x="9030" y="6"/>
                    </a:lnTo>
                    <a:cubicBezTo>
                      <a:pt x="9029" y="6"/>
                      <a:pt x="9028" y="5"/>
                      <a:pt x="9028" y="4"/>
                    </a:cubicBezTo>
                    <a:cubicBezTo>
                      <a:pt x="9028" y="3"/>
                      <a:pt x="9029" y="2"/>
                      <a:pt x="9030" y="2"/>
                    </a:cubicBezTo>
                    <a:close/>
                    <a:moveTo>
                      <a:pt x="9038" y="2"/>
                    </a:moveTo>
                    <a:lnTo>
                      <a:pt x="9038" y="2"/>
                    </a:lnTo>
                    <a:cubicBezTo>
                      <a:pt x="9039" y="2"/>
                      <a:pt x="9040" y="3"/>
                      <a:pt x="9040" y="4"/>
                    </a:cubicBezTo>
                    <a:cubicBezTo>
                      <a:pt x="9040" y="5"/>
                      <a:pt x="9039" y="6"/>
                      <a:pt x="9038" y="6"/>
                    </a:cubicBezTo>
                    <a:lnTo>
                      <a:pt x="9038" y="6"/>
                    </a:lnTo>
                    <a:cubicBezTo>
                      <a:pt x="9037" y="6"/>
                      <a:pt x="9036" y="5"/>
                      <a:pt x="9036" y="4"/>
                    </a:cubicBezTo>
                    <a:cubicBezTo>
                      <a:pt x="9036" y="3"/>
                      <a:pt x="9037" y="2"/>
                      <a:pt x="9038" y="2"/>
                    </a:cubicBezTo>
                    <a:close/>
                    <a:moveTo>
                      <a:pt x="9046" y="2"/>
                    </a:moveTo>
                    <a:lnTo>
                      <a:pt x="9046" y="2"/>
                    </a:lnTo>
                    <a:cubicBezTo>
                      <a:pt x="9047" y="2"/>
                      <a:pt x="9048" y="3"/>
                      <a:pt x="9048" y="4"/>
                    </a:cubicBezTo>
                    <a:cubicBezTo>
                      <a:pt x="9048" y="5"/>
                      <a:pt x="9047" y="6"/>
                      <a:pt x="9046" y="6"/>
                    </a:cubicBezTo>
                    <a:lnTo>
                      <a:pt x="9046" y="6"/>
                    </a:lnTo>
                    <a:cubicBezTo>
                      <a:pt x="9045" y="6"/>
                      <a:pt x="9044" y="5"/>
                      <a:pt x="9044" y="4"/>
                    </a:cubicBezTo>
                    <a:cubicBezTo>
                      <a:pt x="9044" y="3"/>
                      <a:pt x="9045" y="2"/>
                      <a:pt x="9046" y="2"/>
                    </a:cubicBezTo>
                    <a:close/>
                    <a:moveTo>
                      <a:pt x="9054" y="2"/>
                    </a:moveTo>
                    <a:lnTo>
                      <a:pt x="9054" y="2"/>
                    </a:lnTo>
                    <a:cubicBezTo>
                      <a:pt x="9055" y="2"/>
                      <a:pt x="9056" y="3"/>
                      <a:pt x="9056" y="4"/>
                    </a:cubicBezTo>
                    <a:cubicBezTo>
                      <a:pt x="9056" y="5"/>
                      <a:pt x="9055" y="6"/>
                      <a:pt x="9054" y="6"/>
                    </a:cubicBezTo>
                    <a:lnTo>
                      <a:pt x="9054" y="6"/>
                    </a:lnTo>
                    <a:cubicBezTo>
                      <a:pt x="9053" y="6"/>
                      <a:pt x="9052" y="5"/>
                      <a:pt x="9052" y="4"/>
                    </a:cubicBezTo>
                    <a:cubicBezTo>
                      <a:pt x="9052" y="3"/>
                      <a:pt x="9053" y="2"/>
                      <a:pt x="9054" y="2"/>
                    </a:cubicBezTo>
                    <a:close/>
                    <a:moveTo>
                      <a:pt x="9062" y="2"/>
                    </a:moveTo>
                    <a:lnTo>
                      <a:pt x="9062" y="2"/>
                    </a:lnTo>
                    <a:cubicBezTo>
                      <a:pt x="9063" y="2"/>
                      <a:pt x="9064" y="3"/>
                      <a:pt x="9064" y="4"/>
                    </a:cubicBezTo>
                    <a:cubicBezTo>
                      <a:pt x="9064" y="5"/>
                      <a:pt x="9063" y="6"/>
                      <a:pt x="9062" y="6"/>
                    </a:cubicBezTo>
                    <a:lnTo>
                      <a:pt x="9062" y="6"/>
                    </a:lnTo>
                    <a:cubicBezTo>
                      <a:pt x="9061" y="6"/>
                      <a:pt x="9060" y="5"/>
                      <a:pt x="9060" y="4"/>
                    </a:cubicBezTo>
                    <a:cubicBezTo>
                      <a:pt x="9060" y="3"/>
                      <a:pt x="9061" y="2"/>
                      <a:pt x="9062" y="2"/>
                    </a:cubicBezTo>
                    <a:close/>
                    <a:moveTo>
                      <a:pt x="9070" y="2"/>
                    </a:moveTo>
                    <a:lnTo>
                      <a:pt x="9070" y="2"/>
                    </a:lnTo>
                    <a:cubicBezTo>
                      <a:pt x="9071" y="2"/>
                      <a:pt x="9072" y="3"/>
                      <a:pt x="9072" y="4"/>
                    </a:cubicBezTo>
                    <a:cubicBezTo>
                      <a:pt x="9072" y="5"/>
                      <a:pt x="9071" y="6"/>
                      <a:pt x="9070" y="6"/>
                    </a:cubicBezTo>
                    <a:lnTo>
                      <a:pt x="9070" y="6"/>
                    </a:lnTo>
                    <a:cubicBezTo>
                      <a:pt x="9069" y="6"/>
                      <a:pt x="9068" y="5"/>
                      <a:pt x="9068" y="4"/>
                    </a:cubicBezTo>
                    <a:cubicBezTo>
                      <a:pt x="9068" y="3"/>
                      <a:pt x="9069" y="2"/>
                      <a:pt x="9070" y="2"/>
                    </a:cubicBezTo>
                    <a:close/>
                    <a:moveTo>
                      <a:pt x="9078" y="2"/>
                    </a:moveTo>
                    <a:lnTo>
                      <a:pt x="9078" y="2"/>
                    </a:lnTo>
                    <a:cubicBezTo>
                      <a:pt x="9079" y="2"/>
                      <a:pt x="9080" y="3"/>
                      <a:pt x="9080" y="4"/>
                    </a:cubicBezTo>
                    <a:cubicBezTo>
                      <a:pt x="9080" y="5"/>
                      <a:pt x="9079" y="6"/>
                      <a:pt x="9078" y="6"/>
                    </a:cubicBezTo>
                    <a:lnTo>
                      <a:pt x="9078" y="6"/>
                    </a:lnTo>
                    <a:cubicBezTo>
                      <a:pt x="9077" y="6"/>
                      <a:pt x="9076" y="5"/>
                      <a:pt x="9076" y="4"/>
                    </a:cubicBezTo>
                    <a:cubicBezTo>
                      <a:pt x="9076" y="3"/>
                      <a:pt x="9077" y="2"/>
                      <a:pt x="9078" y="2"/>
                    </a:cubicBezTo>
                    <a:close/>
                    <a:moveTo>
                      <a:pt x="9086" y="2"/>
                    </a:moveTo>
                    <a:lnTo>
                      <a:pt x="9086" y="2"/>
                    </a:lnTo>
                    <a:cubicBezTo>
                      <a:pt x="9087" y="2"/>
                      <a:pt x="9088" y="3"/>
                      <a:pt x="9088" y="4"/>
                    </a:cubicBezTo>
                    <a:cubicBezTo>
                      <a:pt x="9088" y="5"/>
                      <a:pt x="9087" y="6"/>
                      <a:pt x="9086" y="6"/>
                    </a:cubicBezTo>
                    <a:lnTo>
                      <a:pt x="9086" y="6"/>
                    </a:lnTo>
                    <a:cubicBezTo>
                      <a:pt x="9085" y="6"/>
                      <a:pt x="9084" y="5"/>
                      <a:pt x="9084" y="4"/>
                    </a:cubicBezTo>
                    <a:cubicBezTo>
                      <a:pt x="9084" y="3"/>
                      <a:pt x="9085" y="2"/>
                      <a:pt x="9086" y="2"/>
                    </a:cubicBezTo>
                    <a:close/>
                    <a:moveTo>
                      <a:pt x="9094" y="2"/>
                    </a:moveTo>
                    <a:lnTo>
                      <a:pt x="9094" y="2"/>
                    </a:lnTo>
                    <a:cubicBezTo>
                      <a:pt x="9095" y="2"/>
                      <a:pt x="9096" y="3"/>
                      <a:pt x="9096" y="4"/>
                    </a:cubicBezTo>
                    <a:cubicBezTo>
                      <a:pt x="9096" y="5"/>
                      <a:pt x="9095" y="6"/>
                      <a:pt x="9094" y="6"/>
                    </a:cubicBezTo>
                    <a:lnTo>
                      <a:pt x="9094" y="6"/>
                    </a:lnTo>
                    <a:cubicBezTo>
                      <a:pt x="9093" y="6"/>
                      <a:pt x="9092" y="5"/>
                      <a:pt x="9092" y="4"/>
                    </a:cubicBezTo>
                    <a:cubicBezTo>
                      <a:pt x="9092" y="3"/>
                      <a:pt x="9093" y="2"/>
                      <a:pt x="9094" y="2"/>
                    </a:cubicBezTo>
                    <a:close/>
                    <a:moveTo>
                      <a:pt x="9102" y="2"/>
                    </a:moveTo>
                    <a:lnTo>
                      <a:pt x="9102" y="2"/>
                    </a:lnTo>
                    <a:cubicBezTo>
                      <a:pt x="9103" y="2"/>
                      <a:pt x="9104" y="3"/>
                      <a:pt x="9104" y="4"/>
                    </a:cubicBezTo>
                    <a:cubicBezTo>
                      <a:pt x="9104" y="5"/>
                      <a:pt x="9103" y="6"/>
                      <a:pt x="9102" y="6"/>
                    </a:cubicBezTo>
                    <a:lnTo>
                      <a:pt x="9102" y="6"/>
                    </a:lnTo>
                    <a:cubicBezTo>
                      <a:pt x="9101" y="6"/>
                      <a:pt x="9100" y="5"/>
                      <a:pt x="9100" y="4"/>
                    </a:cubicBezTo>
                    <a:cubicBezTo>
                      <a:pt x="9100" y="3"/>
                      <a:pt x="9101" y="2"/>
                      <a:pt x="9102" y="2"/>
                    </a:cubicBezTo>
                    <a:close/>
                    <a:moveTo>
                      <a:pt x="9110" y="2"/>
                    </a:moveTo>
                    <a:lnTo>
                      <a:pt x="9110" y="2"/>
                    </a:lnTo>
                    <a:cubicBezTo>
                      <a:pt x="9111" y="2"/>
                      <a:pt x="9112" y="3"/>
                      <a:pt x="9112" y="4"/>
                    </a:cubicBezTo>
                    <a:cubicBezTo>
                      <a:pt x="9112" y="5"/>
                      <a:pt x="9111" y="6"/>
                      <a:pt x="9110" y="6"/>
                    </a:cubicBezTo>
                    <a:lnTo>
                      <a:pt x="9110" y="6"/>
                    </a:lnTo>
                    <a:cubicBezTo>
                      <a:pt x="9109" y="6"/>
                      <a:pt x="9108" y="5"/>
                      <a:pt x="9108" y="4"/>
                    </a:cubicBezTo>
                    <a:cubicBezTo>
                      <a:pt x="9108" y="3"/>
                      <a:pt x="9109" y="2"/>
                      <a:pt x="9110" y="2"/>
                    </a:cubicBezTo>
                    <a:close/>
                    <a:moveTo>
                      <a:pt x="9118" y="2"/>
                    </a:moveTo>
                    <a:lnTo>
                      <a:pt x="9118" y="2"/>
                    </a:lnTo>
                    <a:cubicBezTo>
                      <a:pt x="9119" y="2"/>
                      <a:pt x="9120" y="3"/>
                      <a:pt x="9120" y="4"/>
                    </a:cubicBezTo>
                    <a:cubicBezTo>
                      <a:pt x="9120" y="5"/>
                      <a:pt x="9119" y="6"/>
                      <a:pt x="9118" y="6"/>
                    </a:cubicBezTo>
                    <a:lnTo>
                      <a:pt x="9118" y="6"/>
                    </a:lnTo>
                    <a:cubicBezTo>
                      <a:pt x="9117" y="6"/>
                      <a:pt x="9116" y="5"/>
                      <a:pt x="9116" y="4"/>
                    </a:cubicBezTo>
                    <a:cubicBezTo>
                      <a:pt x="9116" y="3"/>
                      <a:pt x="9117" y="2"/>
                      <a:pt x="9118" y="2"/>
                    </a:cubicBezTo>
                    <a:close/>
                    <a:moveTo>
                      <a:pt x="9126" y="2"/>
                    </a:moveTo>
                    <a:lnTo>
                      <a:pt x="9126" y="2"/>
                    </a:lnTo>
                    <a:cubicBezTo>
                      <a:pt x="9127" y="2"/>
                      <a:pt x="9128" y="3"/>
                      <a:pt x="9128" y="4"/>
                    </a:cubicBezTo>
                    <a:cubicBezTo>
                      <a:pt x="9128" y="5"/>
                      <a:pt x="9127" y="6"/>
                      <a:pt x="9126" y="6"/>
                    </a:cubicBezTo>
                    <a:lnTo>
                      <a:pt x="9126" y="6"/>
                    </a:lnTo>
                    <a:cubicBezTo>
                      <a:pt x="9125" y="6"/>
                      <a:pt x="9124" y="5"/>
                      <a:pt x="9124" y="4"/>
                    </a:cubicBezTo>
                    <a:cubicBezTo>
                      <a:pt x="9124" y="3"/>
                      <a:pt x="9125" y="2"/>
                      <a:pt x="9126" y="2"/>
                    </a:cubicBezTo>
                    <a:close/>
                    <a:moveTo>
                      <a:pt x="9134" y="2"/>
                    </a:moveTo>
                    <a:lnTo>
                      <a:pt x="9134" y="2"/>
                    </a:lnTo>
                    <a:cubicBezTo>
                      <a:pt x="9135" y="2"/>
                      <a:pt x="9136" y="3"/>
                      <a:pt x="9136" y="4"/>
                    </a:cubicBezTo>
                    <a:cubicBezTo>
                      <a:pt x="9136" y="5"/>
                      <a:pt x="9135" y="6"/>
                      <a:pt x="9134" y="6"/>
                    </a:cubicBezTo>
                    <a:lnTo>
                      <a:pt x="9134" y="6"/>
                    </a:lnTo>
                    <a:cubicBezTo>
                      <a:pt x="9133" y="6"/>
                      <a:pt x="9132" y="5"/>
                      <a:pt x="9132" y="4"/>
                    </a:cubicBezTo>
                    <a:cubicBezTo>
                      <a:pt x="9132" y="3"/>
                      <a:pt x="9133" y="2"/>
                      <a:pt x="9134" y="2"/>
                    </a:cubicBezTo>
                    <a:close/>
                    <a:moveTo>
                      <a:pt x="9142" y="2"/>
                    </a:moveTo>
                    <a:lnTo>
                      <a:pt x="9142" y="2"/>
                    </a:lnTo>
                    <a:cubicBezTo>
                      <a:pt x="9143" y="2"/>
                      <a:pt x="9144" y="3"/>
                      <a:pt x="9144" y="4"/>
                    </a:cubicBezTo>
                    <a:cubicBezTo>
                      <a:pt x="9144" y="5"/>
                      <a:pt x="9143" y="6"/>
                      <a:pt x="9142" y="6"/>
                    </a:cubicBezTo>
                    <a:lnTo>
                      <a:pt x="9142" y="6"/>
                    </a:lnTo>
                    <a:cubicBezTo>
                      <a:pt x="9141" y="6"/>
                      <a:pt x="9140" y="5"/>
                      <a:pt x="9140" y="4"/>
                    </a:cubicBezTo>
                    <a:cubicBezTo>
                      <a:pt x="9140" y="3"/>
                      <a:pt x="9141" y="2"/>
                      <a:pt x="9142" y="2"/>
                    </a:cubicBezTo>
                    <a:close/>
                    <a:moveTo>
                      <a:pt x="9150" y="2"/>
                    </a:moveTo>
                    <a:lnTo>
                      <a:pt x="9150" y="2"/>
                    </a:lnTo>
                    <a:cubicBezTo>
                      <a:pt x="9152" y="2"/>
                      <a:pt x="9152" y="3"/>
                      <a:pt x="9152" y="4"/>
                    </a:cubicBezTo>
                    <a:cubicBezTo>
                      <a:pt x="9152" y="5"/>
                      <a:pt x="9152" y="6"/>
                      <a:pt x="9150" y="6"/>
                    </a:cubicBezTo>
                    <a:lnTo>
                      <a:pt x="9150" y="6"/>
                    </a:lnTo>
                    <a:cubicBezTo>
                      <a:pt x="9149" y="6"/>
                      <a:pt x="9148" y="5"/>
                      <a:pt x="9148" y="4"/>
                    </a:cubicBezTo>
                    <a:cubicBezTo>
                      <a:pt x="9148" y="3"/>
                      <a:pt x="9149" y="2"/>
                      <a:pt x="9150" y="2"/>
                    </a:cubicBezTo>
                    <a:close/>
                    <a:moveTo>
                      <a:pt x="9158" y="2"/>
                    </a:moveTo>
                    <a:lnTo>
                      <a:pt x="9158" y="2"/>
                    </a:lnTo>
                    <a:cubicBezTo>
                      <a:pt x="9160" y="2"/>
                      <a:pt x="9160" y="3"/>
                      <a:pt x="9160" y="4"/>
                    </a:cubicBezTo>
                    <a:cubicBezTo>
                      <a:pt x="9160" y="5"/>
                      <a:pt x="9160" y="6"/>
                      <a:pt x="9158" y="6"/>
                    </a:cubicBezTo>
                    <a:lnTo>
                      <a:pt x="9158" y="6"/>
                    </a:lnTo>
                    <a:cubicBezTo>
                      <a:pt x="9157" y="6"/>
                      <a:pt x="9156" y="5"/>
                      <a:pt x="9156" y="4"/>
                    </a:cubicBezTo>
                    <a:cubicBezTo>
                      <a:pt x="9156" y="3"/>
                      <a:pt x="9157" y="2"/>
                      <a:pt x="9158" y="2"/>
                    </a:cubicBezTo>
                    <a:close/>
                    <a:moveTo>
                      <a:pt x="9166" y="2"/>
                    </a:moveTo>
                    <a:lnTo>
                      <a:pt x="9166" y="2"/>
                    </a:lnTo>
                    <a:cubicBezTo>
                      <a:pt x="9168" y="2"/>
                      <a:pt x="9168" y="3"/>
                      <a:pt x="9168" y="4"/>
                    </a:cubicBezTo>
                    <a:cubicBezTo>
                      <a:pt x="9168" y="5"/>
                      <a:pt x="9168" y="6"/>
                      <a:pt x="9166" y="6"/>
                    </a:cubicBezTo>
                    <a:lnTo>
                      <a:pt x="9166" y="6"/>
                    </a:lnTo>
                    <a:cubicBezTo>
                      <a:pt x="9165" y="6"/>
                      <a:pt x="9164" y="5"/>
                      <a:pt x="9164" y="4"/>
                    </a:cubicBezTo>
                    <a:cubicBezTo>
                      <a:pt x="9164" y="3"/>
                      <a:pt x="9165" y="2"/>
                      <a:pt x="9166" y="2"/>
                    </a:cubicBezTo>
                    <a:close/>
                    <a:moveTo>
                      <a:pt x="9174" y="2"/>
                    </a:moveTo>
                    <a:lnTo>
                      <a:pt x="9174" y="2"/>
                    </a:lnTo>
                    <a:cubicBezTo>
                      <a:pt x="9176" y="2"/>
                      <a:pt x="9176" y="3"/>
                      <a:pt x="9176" y="4"/>
                    </a:cubicBezTo>
                    <a:cubicBezTo>
                      <a:pt x="9176" y="5"/>
                      <a:pt x="9176" y="6"/>
                      <a:pt x="9174" y="6"/>
                    </a:cubicBezTo>
                    <a:lnTo>
                      <a:pt x="9174" y="6"/>
                    </a:lnTo>
                    <a:cubicBezTo>
                      <a:pt x="9173" y="6"/>
                      <a:pt x="9172" y="5"/>
                      <a:pt x="9172" y="4"/>
                    </a:cubicBezTo>
                    <a:cubicBezTo>
                      <a:pt x="9172" y="3"/>
                      <a:pt x="9173" y="2"/>
                      <a:pt x="9174" y="2"/>
                    </a:cubicBezTo>
                    <a:close/>
                    <a:moveTo>
                      <a:pt x="9182" y="2"/>
                    </a:moveTo>
                    <a:lnTo>
                      <a:pt x="9182" y="2"/>
                    </a:lnTo>
                    <a:cubicBezTo>
                      <a:pt x="9184" y="2"/>
                      <a:pt x="9184" y="3"/>
                      <a:pt x="9184" y="4"/>
                    </a:cubicBezTo>
                    <a:cubicBezTo>
                      <a:pt x="9184" y="5"/>
                      <a:pt x="9184" y="6"/>
                      <a:pt x="9182" y="6"/>
                    </a:cubicBezTo>
                    <a:lnTo>
                      <a:pt x="9182" y="6"/>
                    </a:lnTo>
                    <a:cubicBezTo>
                      <a:pt x="9181" y="6"/>
                      <a:pt x="9180" y="5"/>
                      <a:pt x="9180" y="4"/>
                    </a:cubicBezTo>
                    <a:cubicBezTo>
                      <a:pt x="9180" y="3"/>
                      <a:pt x="9181" y="2"/>
                      <a:pt x="9182" y="2"/>
                    </a:cubicBezTo>
                    <a:close/>
                    <a:moveTo>
                      <a:pt x="9190" y="2"/>
                    </a:moveTo>
                    <a:lnTo>
                      <a:pt x="9190" y="2"/>
                    </a:lnTo>
                    <a:cubicBezTo>
                      <a:pt x="9192" y="2"/>
                      <a:pt x="9192" y="3"/>
                      <a:pt x="9192" y="4"/>
                    </a:cubicBezTo>
                    <a:cubicBezTo>
                      <a:pt x="9192" y="5"/>
                      <a:pt x="9192" y="6"/>
                      <a:pt x="9190" y="6"/>
                    </a:cubicBezTo>
                    <a:lnTo>
                      <a:pt x="9190" y="6"/>
                    </a:lnTo>
                    <a:cubicBezTo>
                      <a:pt x="9189" y="6"/>
                      <a:pt x="9188" y="5"/>
                      <a:pt x="9188" y="4"/>
                    </a:cubicBezTo>
                    <a:cubicBezTo>
                      <a:pt x="9188" y="3"/>
                      <a:pt x="9189" y="2"/>
                      <a:pt x="9190" y="2"/>
                    </a:cubicBezTo>
                    <a:close/>
                    <a:moveTo>
                      <a:pt x="9198" y="2"/>
                    </a:moveTo>
                    <a:lnTo>
                      <a:pt x="9198" y="2"/>
                    </a:lnTo>
                    <a:cubicBezTo>
                      <a:pt x="9200" y="2"/>
                      <a:pt x="9200" y="3"/>
                      <a:pt x="9200" y="4"/>
                    </a:cubicBezTo>
                    <a:cubicBezTo>
                      <a:pt x="9200" y="5"/>
                      <a:pt x="9200" y="6"/>
                      <a:pt x="9198" y="6"/>
                    </a:cubicBezTo>
                    <a:lnTo>
                      <a:pt x="9198" y="6"/>
                    </a:lnTo>
                    <a:cubicBezTo>
                      <a:pt x="9197" y="6"/>
                      <a:pt x="9196" y="5"/>
                      <a:pt x="9196" y="4"/>
                    </a:cubicBezTo>
                    <a:cubicBezTo>
                      <a:pt x="9196" y="3"/>
                      <a:pt x="9197" y="2"/>
                      <a:pt x="9198" y="2"/>
                    </a:cubicBezTo>
                    <a:close/>
                    <a:moveTo>
                      <a:pt x="9206" y="2"/>
                    </a:moveTo>
                    <a:lnTo>
                      <a:pt x="9206" y="2"/>
                    </a:lnTo>
                    <a:cubicBezTo>
                      <a:pt x="9208" y="2"/>
                      <a:pt x="9208" y="3"/>
                      <a:pt x="9208" y="4"/>
                    </a:cubicBezTo>
                    <a:cubicBezTo>
                      <a:pt x="9208" y="5"/>
                      <a:pt x="9208" y="6"/>
                      <a:pt x="9206" y="6"/>
                    </a:cubicBezTo>
                    <a:lnTo>
                      <a:pt x="9206" y="6"/>
                    </a:lnTo>
                    <a:cubicBezTo>
                      <a:pt x="9205" y="6"/>
                      <a:pt x="9204" y="5"/>
                      <a:pt x="9204" y="4"/>
                    </a:cubicBezTo>
                    <a:cubicBezTo>
                      <a:pt x="9204" y="3"/>
                      <a:pt x="9205" y="2"/>
                      <a:pt x="9206" y="2"/>
                    </a:cubicBezTo>
                    <a:close/>
                    <a:moveTo>
                      <a:pt x="9214" y="2"/>
                    </a:moveTo>
                    <a:lnTo>
                      <a:pt x="9214" y="2"/>
                    </a:lnTo>
                    <a:cubicBezTo>
                      <a:pt x="9216" y="2"/>
                      <a:pt x="9216" y="3"/>
                      <a:pt x="9216" y="4"/>
                    </a:cubicBezTo>
                    <a:cubicBezTo>
                      <a:pt x="9216" y="5"/>
                      <a:pt x="9216" y="6"/>
                      <a:pt x="9214" y="6"/>
                    </a:cubicBezTo>
                    <a:lnTo>
                      <a:pt x="9214" y="6"/>
                    </a:lnTo>
                    <a:cubicBezTo>
                      <a:pt x="9213" y="6"/>
                      <a:pt x="9212" y="5"/>
                      <a:pt x="9212" y="4"/>
                    </a:cubicBezTo>
                    <a:cubicBezTo>
                      <a:pt x="9212" y="3"/>
                      <a:pt x="9213" y="2"/>
                      <a:pt x="9214" y="2"/>
                    </a:cubicBezTo>
                    <a:close/>
                    <a:moveTo>
                      <a:pt x="9222" y="2"/>
                    </a:moveTo>
                    <a:lnTo>
                      <a:pt x="9222" y="2"/>
                    </a:lnTo>
                    <a:cubicBezTo>
                      <a:pt x="9224" y="2"/>
                      <a:pt x="9224" y="3"/>
                      <a:pt x="9224" y="4"/>
                    </a:cubicBezTo>
                    <a:cubicBezTo>
                      <a:pt x="9224" y="5"/>
                      <a:pt x="9224" y="6"/>
                      <a:pt x="9222" y="6"/>
                    </a:cubicBezTo>
                    <a:lnTo>
                      <a:pt x="9222" y="6"/>
                    </a:lnTo>
                    <a:cubicBezTo>
                      <a:pt x="9221" y="6"/>
                      <a:pt x="9220" y="5"/>
                      <a:pt x="9220" y="4"/>
                    </a:cubicBezTo>
                    <a:cubicBezTo>
                      <a:pt x="9220" y="3"/>
                      <a:pt x="9221" y="2"/>
                      <a:pt x="9222" y="2"/>
                    </a:cubicBezTo>
                    <a:close/>
                    <a:moveTo>
                      <a:pt x="9230" y="2"/>
                    </a:moveTo>
                    <a:lnTo>
                      <a:pt x="9230" y="2"/>
                    </a:lnTo>
                    <a:cubicBezTo>
                      <a:pt x="9232" y="2"/>
                      <a:pt x="9232" y="3"/>
                      <a:pt x="9232" y="4"/>
                    </a:cubicBezTo>
                    <a:cubicBezTo>
                      <a:pt x="9232" y="5"/>
                      <a:pt x="9232" y="6"/>
                      <a:pt x="9230" y="6"/>
                    </a:cubicBezTo>
                    <a:lnTo>
                      <a:pt x="9230" y="6"/>
                    </a:lnTo>
                    <a:cubicBezTo>
                      <a:pt x="9229" y="6"/>
                      <a:pt x="9228" y="5"/>
                      <a:pt x="9228" y="4"/>
                    </a:cubicBezTo>
                    <a:cubicBezTo>
                      <a:pt x="9228" y="3"/>
                      <a:pt x="9229" y="2"/>
                      <a:pt x="9230" y="2"/>
                    </a:cubicBezTo>
                    <a:close/>
                    <a:moveTo>
                      <a:pt x="9238" y="2"/>
                    </a:moveTo>
                    <a:lnTo>
                      <a:pt x="9238" y="2"/>
                    </a:lnTo>
                    <a:cubicBezTo>
                      <a:pt x="9240" y="2"/>
                      <a:pt x="9240" y="3"/>
                      <a:pt x="9240" y="4"/>
                    </a:cubicBezTo>
                    <a:cubicBezTo>
                      <a:pt x="9240" y="5"/>
                      <a:pt x="9240" y="6"/>
                      <a:pt x="9238" y="6"/>
                    </a:cubicBezTo>
                    <a:lnTo>
                      <a:pt x="9238" y="6"/>
                    </a:lnTo>
                    <a:cubicBezTo>
                      <a:pt x="9237" y="6"/>
                      <a:pt x="9236" y="5"/>
                      <a:pt x="9236" y="4"/>
                    </a:cubicBezTo>
                    <a:cubicBezTo>
                      <a:pt x="9236" y="3"/>
                      <a:pt x="9237" y="2"/>
                      <a:pt x="9238" y="2"/>
                    </a:cubicBezTo>
                    <a:close/>
                    <a:moveTo>
                      <a:pt x="9246" y="2"/>
                    </a:moveTo>
                    <a:lnTo>
                      <a:pt x="9246" y="2"/>
                    </a:lnTo>
                    <a:cubicBezTo>
                      <a:pt x="9248" y="2"/>
                      <a:pt x="9248" y="3"/>
                      <a:pt x="9248" y="4"/>
                    </a:cubicBezTo>
                    <a:cubicBezTo>
                      <a:pt x="9248" y="5"/>
                      <a:pt x="9248" y="6"/>
                      <a:pt x="9246" y="6"/>
                    </a:cubicBezTo>
                    <a:lnTo>
                      <a:pt x="9246" y="6"/>
                    </a:lnTo>
                    <a:cubicBezTo>
                      <a:pt x="9245" y="6"/>
                      <a:pt x="9244" y="5"/>
                      <a:pt x="9244" y="4"/>
                    </a:cubicBezTo>
                    <a:cubicBezTo>
                      <a:pt x="9244" y="3"/>
                      <a:pt x="9245" y="2"/>
                      <a:pt x="9246" y="2"/>
                    </a:cubicBezTo>
                    <a:close/>
                    <a:moveTo>
                      <a:pt x="9254" y="2"/>
                    </a:moveTo>
                    <a:lnTo>
                      <a:pt x="9254" y="2"/>
                    </a:lnTo>
                    <a:cubicBezTo>
                      <a:pt x="9256" y="2"/>
                      <a:pt x="9256" y="3"/>
                      <a:pt x="9256" y="4"/>
                    </a:cubicBezTo>
                    <a:cubicBezTo>
                      <a:pt x="9256" y="5"/>
                      <a:pt x="9256" y="6"/>
                      <a:pt x="9254" y="6"/>
                    </a:cubicBezTo>
                    <a:lnTo>
                      <a:pt x="9254" y="6"/>
                    </a:lnTo>
                    <a:cubicBezTo>
                      <a:pt x="9253" y="6"/>
                      <a:pt x="9252" y="5"/>
                      <a:pt x="9252" y="4"/>
                    </a:cubicBezTo>
                    <a:cubicBezTo>
                      <a:pt x="9252" y="3"/>
                      <a:pt x="9253" y="2"/>
                      <a:pt x="9254" y="2"/>
                    </a:cubicBezTo>
                    <a:close/>
                    <a:moveTo>
                      <a:pt x="9262" y="2"/>
                    </a:moveTo>
                    <a:lnTo>
                      <a:pt x="9262" y="2"/>
                    </a:lnTo>
                    <a:cubicBezTo>
                      <a:pt x="9264" y="2"/>
                      <a:pt x="9264" y="3"/>
                      <a:pt x="9264" y="4"/>
                    </a:cubicBezTo>
                    <a:cubicBezTo>
                      <a:pt x="9264" y="5"/>
                      <a:pt x="9264" y="6"/>
                      <a:pt x="9262" y="6"/>
                    </a:cubicBezTo>
                    <a:lnTo>
                      <a:pt x="9262" y="6"/>
                    </a:lnTo>
                    <a:cubicBezTo>
                      <a:pt x="9261" y="6"/>
                      <a:pt x="9260" y="5"/>
                      <a:pt x="9260" y="4"/>
                    </a:cubicBezTo>
                    <a:cubicBezTo>
                      <a:pt x="9260" y="3"/>
                      <a:pt x="9261" y="2"/>
                      <a:pt x="9262" y="2"/>
                    </a:cubicBezTo>
                    <a:close/>
                    <a:moveTo>
                      <a:pt x="9270" y="2"/>
                    </a:moveTo>
                    <a:lnTo>
                      <a:pt x="9270" y="2"/>
                    </a:lnTo>
                    <a:cubicBezTo>
                      <a:pt x="9272" y="2"/>
                      <a:pt x="9272" y="3"/>
                      <a:pt x="9272" y="4"/>
                    </a:cubicBezTo>
                    <a:cubicBezTo>
                      <a:pt x="9272" y="5"/>
                      <a:pt x="9272" y="6"/>
                      <a:pt x="9270" y="6"/>
                    </a:cubicBezTo>
                    <a:lnTo>
                      <a:pt x="9270" y="6"/>
                    </a:lnTo>
                    <a:cubicBezTo>
                      <a:pt x="9269" y="6"/>
                      <a:pt x="9268" y="5"/>
                      <a:pt x="9268" y="4"/>
                    </a:cubicBezTo>
                    <a:cubicBezTo>
                      <a:pt x="9268" y="3"/>
                      <a:pt x="9269" y="2"/>
                      <a:pt x="9270" y="2"/>
                    </a:cubicBezTo>
                    <a:close/>
                    <a:moveTo>
                      <a:pt x="9278" y="2"/>
                    </a:moveTo>
                    <a:lnTo>
                      <a:pt x="9278" y="2"/>
                    </a:lnTo>
                    <a:cubicBezTo>
                      <a:pt x="9280" y="2"/>
                      <a:pt x="9280" y="3"/>
                      <a:pt x="9280" y="4"/>
                    </a:cubicBezTo>
                    <a:cubicBezTo>
                      <a:pt x="9280" y="5"/>
                      <a:pt x="9280" y="6"/>
                      <a:pt x="9278" y="6"/>
                    </a:cubicBezTo>
                    <a:lnTo>
                      <a:pt x="9278" y="6"/>
                    </a:lnTo>
                    <a:cubicBezTo>
                      <a:pt x="9277" y="6"/>
                      <a:pt x="9276" y="5"/>
                      <a:pt x="9276" y="4"/>
                    </a:cubicBezTo>
                    <a:cubicBezTo>
                      <a:pt x="9276" y="3"/>
                      <a:pt x="9277" y="2"/>
                      <a:pt x="9278" y="2"/>
                    </a:cubicBezTo>
                    <a:close/>
                    <a:moveTo>
                      <a:pt x="9286" y="2"/>
                    </a:moveTo>
                    <a:lnTo>
                      <a:pt x="9286" y="2"/>
                    </a:lnTo>
                    <a:cubicBezTo>
                      <a:pt x="9288" y="2"/>
                      <a:pt x="9288" y="3"/>
                      <a:pt x="9288" y="4"/>
                    </a:cubicBezTo>
                    <a:cubicBezTo>
                      <a:pt x="9288" y="5"/>
                      <a:pt x="9288" y="6"/>
                      <a:pt x="9286" y="6"/>
                    </a:cubicBezTo>
                    <a:lnTo>
                      <a:pt x="9286" y="6"/>
                    </a:lnTo>
                    <a:cubicBezTo>
                      <a:pt x="9285" y="6"/>
                      <a:pt x="9284" y="5"/>
                      <a:pt x="9284" y="4"/>
                    </a:cubicBezTo>
                    <a:cubicBezTo>
                      <a:pt x="9284" y="3"/>
                      <a:pt x="9285" y="2"/>
                      <a:pt x="9286" y="2"/>
                    </a:cubicBezTo>
                    <a:close/>
                    <a:moveTo>
                      <a:pt x="9294" y="2"/>
                    </a:moveTo>
                    <a:lnTo>
                      <a:pt x="9294" y="2"/>
                    </a:lnTo>
                    <a:cubicBezTo>
                      <a:pt x="9296" y="2"/>
                      <a:pt x="9296" y="3"/>
                      <a:pt x="9296" y="4"/>
                    </a:cubicBezTo>
                    <a:cubicBezTo>
                      <a:pt x="9296" y="5"/>
                      <a:pt x="9296" y="6"/>
                      <a:pt x="9294" y="6"/>
                    </a:cubicBezTo>
                    <a:lnTo>
                      <a:pt x="9294" y="6"/>
                    </a:lnTo>
                    <a:cubicBezTo>
                      <a:pt x="9293" y="6"/>
                      <a:pt x="9292" y="5"/>
                      <a:pt x="9292" y="4"/>
                    </a:cubicBezTo>
                    <a:cubicBezTo>
                      <a:pt x="9292" y="3"/>
                      <a:pt x="9293" y="2"/>
                      <a:pt x="9294" y="2"/>
                    </a:cubicBezTo>
                    <a:close/>
                    <a:moveTo>
                      <a:pt x="9302" y="2"/>
                    </a:moveTo>
                    <a:lnTo>
                      <a:pt x="9302" y="2"/>
                    </a:lnTo>
                    <a:cubicBezTo>
                      <a:pt x="9304" y="2"/>
                      <a:pt x="9304" y="3"/>
                      <a:pt x="9304" y="4"/>
                    </a:cubicBezTo>
                    <a:cubicBezTo>
                      <a:pt x="9304" y="5"/>
                      <a:pt x="9304" y="6"/>
                      <a:pt x="9302" y="6"/>
                    </a:cubicBezTo>
                    <a:lnTo>
                      <a:pt x="9302" y="6"/>
                    </a:lnTo>
                    <a:cubicBezTo>
                      <a:pt x="9301" y="6"/>
                      <a:pt x="9300" y="5"/>
                      <a:pt x="9300" y="4"/>
                    </a:cubicBezTo>
                    <a:cubicBezTo>
                      <a:pt x="9300" y="3"/>
                      <a:pt x="9301" y="2"/>
                      <a:pt x="9302" y="2"/>
                    </a:cubicBezTo>
                    <a:close/>
                    <a:moveTo>
                      <a:pt x="9310" y="2"/>
                    </a:moveTo>
                    <a:lnTo>
                      <a:pt x="9310" y="2"/>
                    </a:lnTo>
                    <a:cubicBezTo>
                      <a:pt x="9312" y="2"/>
                      <a:pt x="9312" y="3"/>
                      <a:pt x="9312" y="4"/>
                    </a:cubicBezTo>
                    <a:cubicBezTo>
                      <a:pt x="9312" y="5"/>
                      <a:pt x="9312" y="6"/>
                      <a:pt x="9310" y="6"/>
                    </a:cubicBezTo>
                    <a:lnTo>
                      <a:pt x="9310" y="6"/>
                    </a:lnTo>
                    <a:cubicBezTo>
                      <a:pt x="9309" y="6"/>
                      <a:pt x="9308" y="5"/>
                      <a:pt x="9308" y="4"/>
                    </a:cubicBezTo>
                    <a:cubicBezTo>
                      <a:pt x="9308" y="3"/>
                      <a:pt x="9309" y="2"/>
                      <a:pt x="9310" y="2"/>
                    </a:cubicBezTo>
                    <a:close/>
                    <a:moveTo>
                      <a:pt x="9318" y="2"/>
                    </a:moveTo>
                    <a:lnTo>
                      <a:pt x="9319" y="2"/>
                    </a:lnTo>
                    <a:cubicBezTo>
                      <a:pt x="9320" y="2"/>
                      <a:pt x="9321" y="3"/>
                      <a:pt x="9321" y="4"/>
                    </a:cubicBezTo>
                    <a:cubicBezTo>
                      <a:pt x="9321" y="5"/>
                      <a:pt x="9320" y="6"/>
                      <a:pt x="9319" y="6"/>
                    </a:cubicBezTo>
                    <a:lnTo>
                      <a:pt x="9318" y="6"/>
                    </a:lnTo>
                    <a:cubicBezTo>
                      <a:pt x="9317" y="6"/>
                      <a:pt x="9316" y="5"/>
                      <a:pt x="9316" y="4"/>
                    </a:cubicBezTo>
                    <a:cubicBezTo>
                      <a:pt x="9316" y="3"/>
                      <a:pt x="9317" y="2"/>
                      <a:pt x="9318" y="2"/>
                    </a:cubicBezTo>
                    <a:close/>
                    <a:moveTo>
                      <a:pt x="9327" y="2"/>
                    </a:moveTo>
                    <a:lnTo>
                      <a:pt x="9327" y="2"/>
                    </a:lnTo>
                    <a:cubicBezTo>
                      <a:pt x="9328" y="2"/>
                      <a:pt x="9329" y="3"/>
                      <a:pt x="9329" y="4"/>
                    </a:cubicBezTo>
                    <a:cubicBezTo>
                      <a:pt x="9329" y="5"/>
                      <a:pt x="9328" y="6"/>
                      <a:pt x="9327" y="6"/>
                    </a:cubicBezTo>
                    <a:lnTo>
                      <a:pt x="9327" y="6"/>
                    </a:lnTo>
                    <a:cubicBezTo>
                      <a:pt x="9325" y="6"/>
                      <a:pt x="9325" y="5"/>
                      <a:pt x="9325" y="4"/>
                    </a:cubicBezTo>
                    <a:cubicBezTo>
                      <a:pt x="9325" y="3"/>
                      <a:pt x="9325" y="2"/>
                      <a:pt x="9327" y="2"/>
                    </a:cubicBezTo>
                    <a:close/>
                    <a:moveTo>
                      <a:pt x="9335" y="2"/>
                    </a:moveTo>
                    <a:lnTo>
                      <a:pt x="9335" y="2"/>
                    </a:lnTo>
                    <a:cubicBezTo>
                      <a:pt x="9336" y="2"/>
                      <a:pt x="9337" y="3"/>
                      <a:pt x="9337" y="4"/>
                    </a:cubicBezTo>
                    <a:cubicBezTo>
                      <a:pt x="9337" y="5"/>
                      <a:pt x="9336" y="6"/>
                      <a:pt x="9335" y="6"/>
                    </a:cubicBezTo>
                    <a:lnTo>
                      <a:pt x="9335" y="6"/>
                    </a:lnTo>
                    <a:cubicBezTo>
                      <a:pt x="9333" y="6"/>
                      <a:pt x="9333" y="5"/>
                      <a:pt x="9333" y="4"/>
                    </a:cubicBezTo>
                    <a:cubicBezTo>
                      <a:pt x="9333" y="3"/>
                      <a:pt x="9333" y="2"/>
                      <a:pt x="9335" y="2"/>
                    </a:cubicBezTo>
                    <a:close/>
                    <a:moveTo>
                      <a:pt x="9343" y="2"/>
                    </a:moveTo>
                    <a:lnTo>
                      <a:pt x="9343" y="2"/>
                    </a:lnTo>
                    <a:cubicBezTo>
                      <a:pt x="9344" y="2"/>
                      <a:pt x="9345" y="3"/>
                      <a:pt x="9345" y="4"/>
                    </a:cubicBezTo>
                    <a:cubicBezTo>
                      <a:pt x="9345" y="6"/>
                      <a:pt x="9344" y="6"/>
                      <a:pt x="9343" y="6"/>
                    </a:cubicBezTo>
                    <a:lnTo>
                      <a:pt x="9343" y="6"/>
                    </a:lnTo>
                    <a:cubicBezTo>
                      <a:pt x="9341" y="6"/>
                      <a:pt x="9341" y="6"/>
                      <a:pt x="9341" y="4"/>
                    </a:cubicBezTo>
                    <a:cubicBezTo>
                      <a:pt x="9341" y="3"/>
                      <a:pt x="9341" y="2"/>
                      <a:pt x="9343" y="2"/>
                    </a:cubicBezTo>
                    <a:close/>
                    <a:moveTo>
                      <a:pt x="9351" y="2"/>
                    </a:moveTo>
                    <a:lnTo>
                      <a:pt x="9351" y="2"/>
                    </a:lnTo>
                    <a:cubicBezTo>
                      <a:pt x="9352" y="2"/>
                      <a:pt x="9353" y="3"/>
                      <a:pt x="9353" y="4"/>
                    </a:cubicBezTo>
                    <a:cubicBezTo>
                      <a:pt x="9353" y="6"/>
                      <a:pt x="9352" y="6"/>
                      <a:pt x="9351" y="6"/>
                    </a:cubicBezTo>
                    <a:lnTo>
                      <a:pt x="9351" y="6"/>
                    </a:lnTo>
                    <a:cubicBezTo>
                      <a:pt x="9349" y="6"/>
                      <a:pt x="9349" y="6"/>
                      <a:pt x="9349" y="4"/>
                    </a:cubicBezTo>
                    <a:cubicBezTo>
                      <a:pt x="9349" y="3"/>
                      <a:pt x="9349" y="2"/>
                      <a:pt x="9351" y="2"/>
                    </a:cubicBezTo>
                    <a:close/>
                    <a:moveTo>
                      <a:pt x="9359" y="2"/>
                    </a:moveTo>
                    <a:lnTo>
                      <a:pt x="9359" y="2"/>
                    </a:lnTo>
                    <a:cubicBezTo>
                      <a:pt x="9360" y="2"/>
                      <a:pt x="9361" y="3"/>
                      <a:pt x="9361" y="4"/>
                    </a:cubicBezTo>
                    <a:cubicBezTo>
                      <a:pt x="9361" y="6"/>
                      <a:pt x="9360" y="6"/>
                      <a:pt x="9359" y="6"/>
                    </a:cubicBezTo>
                    <a:lnTo>
                      <a:pt x="9359" y="6"/>
                    </a:lnTo>
                    <a:cubicBezTo>
                      <a:pt x="9357" y="6"/>
                      <a:pt x="9357" y="6"/>
                      <a:pt x="9357" y="4"/>
                    </a:cubicBezTo>
                    <a:cubicBezTo>
                      <a:pt x="9357" y="3"/>
                      <a:pt x="9357" y="2"/>
                      <a:pt x="9359" y="2"/>
                    </a:cubicBezTo>
                    <a:close/>
                    <a:moveTo>
                      <a:pt x="9367" y="2"/>
                    </a:moveTo>
                    <a:lnTo>
                      <a:pt x="9367" y="2"/>
                    </a:lnTo>
                    <a:cubicBezTo>
                      <a:pt x="9368" y="2"/>
                      <a:pt x="9369" y="3"/>
                      <a:pt x="9369" y="4"/>
                    </a:cubicBezTo>
                    <a:cubicBezTo>
                      <a:pt x="9369" y="6"/>
                      <a:pt x="9368" y="6"/>
                      <a:pt x="9367" y="6"/>
                    </a:cubicBezTo>
                    <a:lnTo>
                      <a:pt x="9367" y="6"/>
                    </a:lnTo>
                    <a:cubicBezTo>
                      <a:pt x="9365" y="6"/>
                      <a:pt x="9365" y="6"/>
                      <a:pt x="9365" y="4"/>
                    </a:cubicBezTo>
                    <a:cubicBezTo>
                      <a:pt x="9365" y="3"/>
                      <a:pt x="9365" y="2"/>
                      <a:pt x="9367" y="2"/>
                    </a:cubicBezTo>
                    <a:close/>
                    <a:moveTo>
                      <a:pt x="9375" y="2"/>
                    </a:moveTo>
                    <a:lnTo>
                      <a:pt x="9375" y="2"/>
                    </a:lnTo>
                    <a:cubicBezTo>
                      <a:pt x="9376" y="2"/>
                      <a:pt x="9377" y="3"/>
                      <a:pt x="9377" y="4"/>
                    </a:cubicBezTo>
                    <a:cubicBezTo>
                      <a:pt x="9377" y="6"/>
                      <a:pt x="9376" y="6"/>
                      <a:pt x="9375" y="6"/>
                    </a:cubicBezTo>
                    <a:lnTo>
                      <a:pt x="9375" y="6"/>
                    </a:lnTo>
                    <a:cubicBezTo>
                      <a:pt x="9373" y="6"/>
                      <a:pt x="9373" y="6"/>
                      <a:pt x="9373" y="4"/>
                    </a:cubicBezTo>
                    <a:cubicBezTo>
                      <a:pt x="9373" y="3"/>
                      <a:pt x="9373" y="2"/>
                      <a:pt x="9375" y="2"/>
                    </a:cubicBezTo>
                    <a:close/>
                    <a:moveTo>
                      <a:pt x="9383" y="2"/>
                    </a:moveTo>
                    <a:lnTo>
                      <a:pt x="9383" y="2"/>
                    </a:lnTo>
                    <a:cubicBezTo>
                      <a:pt x="9384" y="2"/>
                      <a:pt x="9385" y="3"/>
                      <a:pt x="9385" y="4"/>
                    </a:cubicBezTo>
                    <a:cubicBezTo>
                      <a:pt x="9385" y="6"/>
                      <a:pt x="9384" y="6"/>
                      <a:pt x="9383" y="6"/>
                    </a:cubicBezTo>
                    <a:lnTo>
                      <a:pt x="9383" y="6"/>
                    </a:lnTo>
                    <a:cubicBezTo>
                      <a:pt x="9381" y="6"/>
                      <a:pt x="9381" y="6"/>
                      <a:pt x="9381" y="4"/>
                    </a:cubicBezTo>
                    <a:cubicBezTo>
                      <a:pt x="9381" y="3"/>
                      <a:pt x="9381" y="2"/>
                      <a:pt x="9383" y="2"/>
                    </a:cubicBezTo>
                    <a:close/>
                    <a:moveTo>
                      <a:pt x="9391" y="2"/>
                    </a:moveTo>
                    <a:lnTo>
                      <a:pt x="9391" y="2"/>
                    </a:lnTo>
                    <a:cubicBezTo>
                      <a:pt x="9392" y="2"/>
                      <a:pt x="9393" y="3"/>
                      <a:pt x="9393" y="4"/>
                    </a:cubicBezTo>
                    <a:cubicBezTo>
                      <a:pt x="9393" y="6"/>
                      <a:pt x="9392" y="6"/>
                      <a:pt x="9391" y="6"/>
                    </a:cubicBezTo>
                    <a:lnTo>
                      <a:pt x="9391" y="6"/>
                    </a:lnTo>
                    <a:cubicBezTo>
                      <a:pt x="9389" y="6"/>
                      <a:pt x="9389" y="6"/>
                      <a:pt x="9389" y="4"/>
                    </a:cubicBezTo>
                    <a:cubicBezTo>
                      <a:pt x="9389" y="3"/>
                      <a:pt x="9389" y="2"/>
                      <a:pt x="9391" y="2"/>
                    </a:cubicBezTo>
                    <a:close/>
                    <a:moveTo>
                      <a:pt x="9399" y="2"/>
                    </a:moveTo>
                    <a:lnTo>
                      <a:pt x="9399" y="2"/>
                    </a:lnTo>
                    <a:cubicBezTo>
                      <a:pt x="9400" y="2"/>
                      <a:pt x="9401" y="3"/>
                      <a:pt x="9401" y="4"/>
                    </a:cubicBezTo>
                    <a:cubicBezTo>
                      <a:pt x="9401" y="6"/>
                      <a:pt x="9400" y="6"/>
                      <a:pt x="9399" y="6"/>
                    </a:cubicBezTo>
                    <a:lnTo>
                      <a:pt x="9399" y="6"/>
                    </a:lnTo>
                    <a:cubicBezTo>
                      <a:pt x="9397" y="6"/>
                      <a:pt x="9397" y="6"/>
                      <a:pt x="9397" y="4"/>
                    </a:cubicBezTo>
                    <a:cubicBezTo>
                      <a:pt x="9397" y="3"/>
                      <a:pt x="9397" y="2"/>
                      <a:pt x="9399" y="2"/>
                    </a:cubicBezTo>
                    <a:close/>
                    <a:moveTo>
                      <a:pt x="9407" y="2"/>
                    </a:moveTo>
                    <a:lnTo>
                      <a:pt x="9407" y="2"/>
                    </a:lnTo>
                    <a:cubicBezTo>
                      <a:pt x="9408" y="2"/>
                      <a:pt x="9409" y="3"/>
                      <a:pt x="9409" y="4"/>
                    </a:cubicBezTo>
                    <a:cubicBezTo>
                      <a:pt x="9409" y="6"/>
                      <a:pt x="9408" y="6"/>
                      <a:pt x="9407" y="6"/>
                    </a:cubicBezTo>
                    <a:lnTo>
                      <a:pt x="9407" y="6"/>
                    </a:lnTo>
                    <a:cubicBezTo>
                      <a:pt x="9405" y="6"/>
                      <a:pt x="9405" y="6"/>
                      <a:pt x="9405" y="4"/>
                    </a:cubicBezTo>
                    <a:cubicBezTo>
                      <a:pt x="9405" y="3"/>
                      <a:pt x="9405" y="2"/>
                      <a:pt x="9407" y="2"/>
                    </a:cubicBezTo>
                    <a:close/>
                    <a:moveTo>
                      <a:pt x="9415" y="2"/>
                    </a:moveTo>
                    <a:lnTo>
                      <a:pt x="9415" y="2"/>
                    </a:lnTo>
                    <a:cubicBezTo>
                      <a:pt x="9416" y="2"/>
                      <a:pt x="9417" y="3"/>
                      <a:pt x="9417" y="4"/>
                    </a:cubicBezTo>
                    <a:cubicBezTo>
                      <a:pt x="9417" y="6"/>
                      <a:pt x="9416" y="6"/>
                      <a:pt x="9415" y="6"/>
                    </a:cubicBezTo>
                    <a:lnTo>
                      <a:pt x="9415" y="6"/>
                    </a:lnTo>
                    <a:cubicBezTo>
                      <a:pt x="9413" y="6"/>
                      <a:pt x="9413" y="6"/>
                      <a:pt x="9413" y="4"/>
                    </a:cubicBezTo>
                    <a:cubicBezTo>
                      <a:pt x="9413" y="3"/>
                      <a:pt x="9413" y="2"/>
                      <a:pt x="9415" y="2"/>
                    </a:cubicBezTo>
                    <a:close/>
                    <a:moveTo>
                      <a:pt x="9423" y="2"/>
                    </a:moveTo>
                    <a:lnTo>
                      <a:pt x="9423" y="2"/>
                    </a:lnTo>
                    <a:cubicBezTo>
                      <a:pt x="9424" y="2"/>
                      <a:pt x="9425" y="3"/>
                      <a:pt x="9425" y="4"/>
                    </a:cubicBezTo>
                    <a:cubicBezTo>
                      <a:pt x="9425" y="6"/>
                      <a:pt x="9424" y="6"/>
                      <a:pt x="9423" y="6"/>
                    </a:cubicBezTo>
                    <a:lnTo>
                      <a:pt x="9423" y="6"/>
                    </a:lnTo>
                    <a:cubicBezTo>
                      <a:pt x="9421" y="6"/>
                      <a:pt x="9421" y="6"/>
                      <a:pt x="9421" y="4"/>
                    </a:cubicBezTo>
                    <a:cubicBezTo>
                      <a:pt x="9421" y="3"/>
                      <a:pt x="9421" y="2"/>
                      <a:pt x="9423" y="2"/>
                    </a:cubicBezTo>
                    <a:close/>
                    <a:moveTo>
                      <a:pt x="9431" y="2"/>
                    </a:moveTo>
                    <a:lnTo>
                      <a:pt x="9431" y="2"/>
                    </a:lnTo>
                    <a:cubicBezTo>
                      <a:pt x="9432" y="2"/>
                      <a:pt x="9433" y="3"/>
                      <a:pt x="9433" y="4"/>
                    </a:cubicBezTo>
                    <a:cubicBezTo>
                      <a:pt x="9433" y="6"/>
                      <a:pt x="9432" y="6"/>
                      <a:pt x="9431" y="6"/>
                    </a:cubicBezTo>
                    <a:lnTo>
                      <a:pt x="9431" y="6"/>
                    </a:lnTo>
                    <a:cubicBezTo>
                      <a:pt x="9429" y="6"/>
                      <a:pt x="9429" y="6"/>
                      <a:pt x="9429" y="4"/>
                    </a:cubicBezTo>
                    <a:cubicBezTo>
                      <a:pt x="9429" y="3"/>
                      <a:pt x="9429" y="2"/>
                      <a:pt x="9431" y="2"/>
                    </a:cubicBezTo>
                    <a:close/>
                    <a:moveTo>
                      <a:pt x="9439" y="2"/>
                    </a:moveTo>
                    <a:lnTo>
                      <a:pt x="9439" y="2"/>
                    </a:lnTo>
                    <a:cubicBezTo>
                      <a:pt x="9440" y="2"/>
                      <a:pt x="9441" y="3"/>
                      <a:pt x="9441" y="4"/>
                    </a:cubicBezTo>
                    <a:cubicBezTo>
                      <a:pt x="9441" y="6"/>
                      <a:pt x="9440" y="6"/>
                      <a:pt x="9439" y="6"/>
                    </a:cubicBezTo>
                    <a:lnTo>
                      <a:pt x="9439" y="6"/>
                    </a:lnTo>
                    <a:cubicBezTo>
                      <a:pt x="9437" y="6"/>
                      <a:pt x="9437" y="6"/>
                      <a:pt x="9437" y="4"/>
                    </a:cubicBezTo>
                    <a:cubicBezTo>
                      <a:pt x="9437" y="3"/>
                      <a:pt x="9437" y="2"/>
                      <a:pt x="9439" y="2"/>
                    </a:cubicBezTo>
                    <a:close/>
                    <a:moveTo>
                      <a:pt x="9447" y="2"/>
                    </a:moveTo>
                    <a:lnTo>
                      <a:pt x="9447" y="2"/>
                    </a:lnTo>
                    <a:cubicBezTo>
                      <a:pt x="9448" y="2"/>
                      <a:pt x="9449" y="3"/>
                      <a:pt x="9449" y="4"/>
                    </a:cubicBezTo>
                    <a:cubicBezTo>
                      <a:pt x="9449" y="6"/>
                      <a:pt x="9448" y="6"/>
                      <a:pt x="9447" y="6"/>
                    </a:cubicBezTo>
                    <a:lnTo>
                      <a:pt x="9447" y="6"/>
                    </a:lnTo>
                    <a:cubicBezTo>
                      <a:pt x="9445" y="6"/>
                      <a:pt x="9445" y="6"/>
                      <a:pt x="9445" y="4"/>
                    </a:cubicBezTo>
                    <a:cubicBezTo>
                      <a:pt x="9445" y="3"/>
                      <a:pt x="9445" y="2"/>
                      <a:pt x="9447" y="2"/>
                    </a:cubicBezTo>
                    <a:close/>
                    <a:moveTo>
                      <a:pt x="9455" y="2"/>
                    </a:moveTo>
                    <a:lnTo>
                      <a:pt x="9455" y="2"/>
                    </a:lnTo>
                    <a:cubicBezTo>
                      <a:pt x="9456" y="2"/>
                      <a:pt x="9457" y="3"/>
                      <a:pt x="9457" y="4"/>
                    </a:cubicBezTo>
                    <a:cubicBezTo>
                      <a:pt x="9457" y="6"/>
                      <a:pt x="9456" y="6"/>
                      <a:pt x="9455" y="6"/>
                    </a:cubicBezTo>
                    <a:lnTo>
                      <a:pt x="9455" y="6"/>
                    </a:lnTo>
                    <a:cubicBezTo>
                      <a:pt x="9453" y="6"/>
                      <a:pt x="9453" y="6"/>
                      <a:pt x="9453" y="4"/>
                    </a:cubicBezTo>
                    <a:cubicBezTo>
                      <a:pt x="9453" y="3"/>
                      <a:pt x="9453" y="2"/>
                      <a:pt x="9455" y="2"/>
                    </a:cubicBezTo>
                    <a:close/>
                    <a:moveTo>
                      <a:pt x="9463" y="2"/>
                    </a:moveTo>
                    <a:lnTo>
                      <a:pt x="9463" y="2"/>
                    </a:lnTo>
                    <a:cubicBezTo>
                      <a:pt x="9464" y="2"/>
                      <a:pt x="9465" y="3"/>
                      <a:pt x="9465" y="4"/>
                    </a:cubicBezTo>
                    <a:cubicBezTo>
                      <a:pt x="9465" y="6"/>
                      <a:pt x="9464" y="6"/>
                      <a:pt x="9463" y="6"/>
                    </a:cubicBezTo>
                    <a:lnTo>
                      <a:pt x="9463" y="6"/>
                    </a:lnTo>
                    <a:cubicBezTo>
                      <a:pt x="9461" y="6"/>
                      <a:pt x="9461" y="6"/>
                      <a:pt x="9461" y="4"/>
                    </a:cubicBezTo>
                    <a:cubicBezTo>
                      <a:pt x="9461" y="3"/>
                      <a:pt x="9461" y="2"/>
                      <a:pt x="9463" y="2"/>
                    </a:cubicBezTo>
                    <a:close/>
                    <a:moveTo>
                      <a:pt x="9471" y="2"/>
                    </a:moveTo>
                    <a:lnTo>
                      <a:pt x="9471" y="2"/>
                    </a:lnTo>
                    <a:cubicBezTo>
                      <a:pt x="9472" y="2"/>
                      <a:pt x="9473" y="3"/>
                      <a:pt x="9473" y="4"/>
                    </a:cubicBezTo>
                    <a:cubicBezTo>
                      <a:pt x="9473" y="6"/>
                      <a:pt x="9472" y="6"/>
                      <a:pt x="9471" y="6"/>
                    </a:cubicBezTo>
                    <a:lnTo>
                      <a:pt x="9471" y="6"/>
                    </a:lnTo>
                    <a:cubicBezTo>
                      <a:pt x="9469" y="6"/>
                      <a:pt x="9469" y="6"/>
                      <a:pt x="9469" y="4"/>
                    </a:cubicBezTo>
                    <a:cubicBezTo>
                      <a:pt x="9469" y="3"/>
                      <a:pt x="9469" y="2"/>
                      <a:pt x="9471" y="2"/>
                    </a:cubicBezTo>
                    <a:close/>
                    <a:moveTo>
                      <a:pt x="9479" y="2"/>
                    </a:moveTo>
                    <a:lnTo>
                      <a:pt x="9479" y="2"/>
                    </a:lnTo>
                    <a:cubicBezTo>
                      <a:pt x="9480" y="2"/>
                      <a:pt x="9481" y="3"/>
                      <a:pt x="9481" y="4"/>
                    </a:cubicBezTo>
                    <a:cubicBezTo>
                      <a:pt x="9481" y="6"/>
                      <a:pt x="9480" y="6"/>
                      <a:pt x="9479" y="6"/>
                    </a:cubicBezTo>
                    <a:lnTo>
                      <a:pt x="9479" y="6"/>
                    </a:lnTo>
                    <a:cubicBezTo>
                      <a:pt x="9477" y="6"/>
                      <a:pt x="9477" y="6"/>
                      <a:pt x="9477" y="4"/>
                    </a:cubicBezTo>
                    <a:cubicBezTo>
                      <a:pt x="9477" y="3"/>
                      <a:pt x="9477" y="2"/>
                      <a:pt x="9479" y="2"/>
                    </a:cubicBezTo>
                    <a:close/>
                    <a:moveTo>
                      <a:pt x="9487" y="2"/>
                    </a:moveTo>
                    <a:lnTo>
                      <a:pt x="9487" y="2"/>
                    </a:lnTo>
                    <a:cubicBezTo>
                      <a:pt x="9488" y="2"/>
                      <a:pt x="9489" y="3"/>
                      <a:pt x="9489" y="4"/>
                    </a:cubicBezTo>
                    <a:cubicBezTo>
                      <a:pt x="9489" y="6"/>
                      <a:pt x="9488" y="6"/>
                      <a:pt x="9487" y="6"/>
                    </a:cubicBezTo>
                    <a:lnTo>
                      <a:pt x="9487" y="6"/>
                    </a:lnTo>
                    <a:cubicBezTo>
                      <a:pt x="9485" y="6"/>
                      <a:pt x="9485" y="6"/>
                      <a:pt x="9485" y="4"/>
                    </a:cubicBezTo>
                    <a:cubicBezTo>
                      <a:pt x="9485" y="3"/>
                      <a:pt x="9485" y="2"/>
                      <a:pt x="9487" y="2"/>
                    </a:cubicBezTo>
                    <a:close/>
                    <a:moveTo>
                      <a:pt x="9495" y="2"/>
                    </a:moveTo>
                    <a:lnTo>
                      <a:pt x="9495" y="2"/>
                    </a:lnTo>
                    <a:cubicBezTo>
                      <a:pt x="9496" y="2"/>
                      <a:pt x="9497" y="3"/>
                      <a:pt x="9497" y="4"/>
                    </a:cubicBezTo>
                    <a:cubicBezTo>
                      <a:pt x="9497" y="6"/>
                      <a:pt x="9496" y="6"/>
                      <a:pt x="9495" y="6"/>
                    </a:cubicBezTo>
                    <a:lnTo>
                      <a:pt x="9495" y="6"/>
                    </a:lnTo>
                    <a:cubicBezTo>
                      <a:pt x="9493" y="6"/>
                      <a:pt x="9493" y="6"/>
                      <a:pt x="9493" y="4"/>
                    </a:cubicBezTo>
                    <a:cubicBezTo>
                      <a:pt x="9493" y="3"/>
                      <a:pt x="9493" y="2"/>
                      <a:pt x="9495" y="2"/>
                    </a:cubicBezTo>
                    <a:close/>
                    <a:moveTo>
                      <a:pt x="9503" y="2"/>
                    </a:moveTo>
                    <a:lnTo>
                      <a:pt x="9503" y="2"/>
                    </a:lnTo>
                    <a:cubicBezTo>
                      <a:pt x="9504" y="2"/>
                      <a:pt x="9505" y="3"/>
                      <a:pt x="9505" y="4"/>
                    </a:cubicBezTo>
                    <a:cubicBezTo>
                      <a:pt x="9505" y="6"/>
                      <a:pt x="9504" y="6"/>
                      <a:pt x="9503" y="6"/>
                    </a:cubicBezTo>
                    <a:lnTo>
                      <a:pt x="9503" y="6"/>
                    </a:lnTo>
                    <a:cubicBezTo>
                      <a:pt x="9502" y="6"/>
                      <a:pt x="9501" y="6"/>
                      <a:pt x="9501" y="4"/>
                    </a:cubicBezTo>
                    <a:cubicBezTo>
                      <a:pt x="9501" y="3"/>
                      <a:pt x="9502" y="2"/>
                      <a:pt x="9503" y="2"/>
                    </a:cubicBezTo>
                    <a:close/>
                    <a:moveTo>
                      <a:pt x="9511" y="2"/>
                    </a:moveTo>
                    <a:lnTo>
                      <a:pt x="9511" y="2"/>
                    </a:lnTo>
                    <a:cubicBezTo>
                      <a:pt x="9512" y="2"/>
                      <a:pt x="9513" y="3"/>
                      <a:pt x="9513" y="4"/>
                    </a:cubicBezTo>
                    <a:cubicBezTo>
                      <a:pt x="9513" y="6"/>
                      <a:pt x="9512" y="6"/>
                      <a:pt x="9511" y="6"/>
                    </a:cubicBezTo>
                    <a:lnTo>
                      <a:pt x="9511" y="6"/>
                    </a:lnTo>
                    <a:cubicBezTo>
                      <a:pt x="9510" y="6"/>
                      <a:pt x="9509" y="6"/>
                      <a:pt x="9509" y="4"/>
                    </a:cubicBezTo>
                    <a:cubicBezTo>
                      <a:pt x="9509" y="3"/>
                      <a:pt x="9510" y="2"/>
                      <a:pt x="9511" y="2"/>
                    </a:cubicBezTo>
                    <a:close/>
                    <a:moveTo>
                      <a:pt x="9519" y="2"/>
                    </a:moveTo>
                    <a:lnTo>
                      <a:pt x="9519" y="2"/>
                    </a:lnTo>
                    <a:cubicBezTo>
                      <a:pt x="9520" y="2"/>
                      <a:pt x="9521" y="3"/>
                      <a:pt x="9521" y="4"/>
                    </a:cubicBezTo>
                    <a:cubicBezTo>
                      <a:pt x="9521" y="6"/>
                      <a:pt x="9520" y="6"/>
                      <a:pt x="9519" y="6"/>
                    </a:cubicBezTo>
                    <a:lnTo>
                      <a:pt x="9519" y="6"/>
                    </a:lnTo>
                    <a:cubicBezTo>
                      <a:pt x="9518" y="6"/>
                      <a:pt x="9517" y="6"/>
                      <a:pt x="9517" y="4"/>
                    </a:cubicBezTo>
                    <a:cubicBezTo>
                      <a:pt x="9517" y="3"/>
                      <a:pt x="9518" y="2"/>
                      <a:pt x="9519" y="2"/>
                    </a:cubicBezTo>
                    <a:close/>
                    <a:moveTo>
                      <a:pt x="9527" y="2"/>
                    </a:moveTo>
                    <a:lnTo>
                      <a:pt x="9527" y="2"/>
                    </a:lnTo>
                    <a:cubicBezTo>
                      <a:pt x="9528" y="2"/>
                      <a:pt x="9529" y="3"/>
                      <a:pt x="9529" y="4"/>
                    </a:cubicBezTo>
                    <a:cubicBezTo>
                      <a:pt x="9529" y="6"/>
                      <a:pt x="9528" y="6"/>
                      <a:pt x="9527" y="6"/>
                    </a:cubicBezTo>
                    <a:lnTo>
                      <a:pt x="9527" y="6"/>
                    </a:lnTo>
                    <a:cubicBezTo>
                      <a:pt x="9526" y="6"/>
                      <a:pt x="9525" y="6"/>
                      <a:pt x="9525" y="4"/>
                    </a:cubicBezTo>
                    <a:cubicBezTo>
                      <a:pt x="9525" y="3"/>
                      <a:pt x="9526" y="2"/>
                      <a:pt x="9527" y="2"/>
                    </a:cubicBezTo>
                    <a:close/>
                    <a:moveTo>
                      <a:pt x="9535" y="2"/>
                    </a:moveTo>
                    <a:lnTo>
                      <a:pt x="9535" y="2"/>
                    </a:lnTo>
                    <a:cubicBezTo>
                      <a:pt x="9536" y="2"/>
                      <a:pt x="9537" y="3"/>
                      <a:pt x="9537" y="4"/>
                    </a:cubicBezTo>
                    <a:cubicBezTo>
                      <a:pt x="9537" y="6"/>
                      <a:pt x="9536" y="6"/>
                      <a:pt x="9535" y="6"/>
                    </a:cubicBezTo>
                    <a:lnTo>
                      <a:pt x="9535" y="6"/>
                    </a:lnTo>
                    <a:cubicBezTo>
                      <a:pt x="9534" y="6"/>
                      <a:pt x="9533" y="6"/>
                      <a:pt x="9533" y="4"/>
                    </a:cubicBezTo>
                    <a:cubicBezTo>
                      <a:pt x="9533" y="3"/>
                      <a:pt x="9534" y="2"/>
                      <a:pt x="9535" y="2"/>
                    </a:cubicBezTo>
                    <a:close/>
                    <a:moveTo>
                      <a:pt x="9543" y="2"/>
                    </a:moveTo>
                    <a:lnTo>
                      <a:pt x="9543" y="2"/>
                    </a:lnTo>
                    <a:cubicBezTo>
                      <a:pt x="9544" y="2"/>
                      <a:pt x="9545" y="3"/>
                      <a:pt x="9545" y="4"/>
                    </a:cubicBezTo>
                    <a:cubicBezTo>
                      <a:pt x="9545" y="6"/>
                      <a:pt x="9544" y="6"/>
                      <a:pt x="9543" y="6"/>
                    </a:cubicBezTo>
                    <a:lnTo>
                      <a:pt x="9543" y="6"/>
                    </a:lnTo>
                    <a:cubicBezTo>
                      <a:pt x="9542" y="6"/>
                      <a:pt x="9541" y="6"/>
                      <a:pt x="9541" y="4"/>
                    </a:cubicBezTo>
                    <a:cubicBezTo>
                      <a:pt x="9541" y="3"/>
                      <a:pt x="9542" y="2"/>
                      <a:pt x="9543" y="2"/>
                    </a:cubicBezTo>
                    <a:close/>
                    <a:moveTo>
                      <a:pt x="9551" y="2"/>
                    </a:moveTo>
                    <a:lnTo>
                      <a:pt x="9551" y="2"/>
                    </a:lnTo>
                    <a:cubicBezTo>
                      <a:pt x="9552" y="2"/>
                      <a:pt x="9553" y="3"/>
                      <a:pt x="9553" y="4"/>
                    </a:cubicBezTo>
                    <a:cubicBezTo>
                      <a:pt x="9553" y="6"/>
                      <a:pt x="9552" y="6"/>
                      <a:pt x="9551" y="6"/>
                    </a:cubicBezTo>
                    <a:lnTo>
                      <a:pt x="9551" y="6"/>
                    </a:lnTo>
                    <a:cubicBezTo>
                      <a:pt x="9550" y="6"/>
                      <a:pt x="9549" y="6"/>
                      <a:pt x="9549" y="4"/>
                    </a:cubicBezTo>
                    <a:cubicBezTo>
                      <a:pt x="9549" y="3"/>
                      <a:pt x="9550" y="2"/>
                      <a:pt x="9551" y="2"/>
                    </a:cubicBezTo>
                    <a:close/>
                    <a:moveTo>
                      <a:pt x="9559" y="2"/>
                    </a:moveTo>
                    <a:lnTo>
                      <a:pt x="9559" y="2"/>
                    </a:lnTo>
                    <a:cubicBezTo>
                      <a:pt x="9560" y="2"/>
                      <a:pt x="9561" y="3"/>
                      <a:pt x="9561" y="4"/>
                    </a:cubicBezTo>
                    <a:cubicBezTo>
                      <a:pt x="9561" y="6"/>
                      <a:pt x="9560" y="6"/>
                      <a:pt x="9559" y="6"/>
                    </a:cubicBezTo>
                    <a:lnTo>
                      <a:pt x="9559" y="6"/>
                    </a:lnTo>
                    <a:cubicBezTo>
                      <a:pt x="9558" y="6"/>
                      <a:pt x="9557" y="6"/>
                      <a:pt x="9557" y="4"/>
                    </a:cubicBezTo>
                    <a:cubicBezTo>
                      <a:pt x="9557" y="3"/>
                      <a:pt x="9558" y="2"/>
                      <a:pt x="9559" y="2"/>
                    </a:cubicBezTo>
                    <a:close/>
                    <a:moveTo>
                      <a:pt x="9567" y="2"/>
                    </a:moveTo>
                    <a:lnTo>
                      <a:pt x="9567" y="2"/>
                    </a:lnTo>
                    <a:cubicBezTo>
                      <a:pt x="9568" y="2"/>
                      <a:pt x="9569" y="3"/>
                      <a:pt x="9569" y="4"/>
                    </a:cubicBezTo>
                    <a:cubicBezTo>
                      <a:pt x="9569" y="6"/>
                      <a:pt x="9568" y="6"/>
                      <a:pt x="9567" y="6"/>
                    </a:cubicBezTo>
                    <a:lnTo>
                      <a:pt x="9567" y="6"/>
                    </a:lnTo>
                    <a:cubicBezTo>
                      <a:pt x="9566" y="6"/>
                      <a:pt x="9565" y="6"/>
                      <a:pt x="9565" y="4"/>
                    </a:cubicBezTo>
                    <a:cubicBezTo>
                      <a:pt x="9565" y="3"/>
                      <a:pt x="9566" y="2"/>
                      <a:pt x="9567" y="2"/>
                    </a:cubicBezTo>
                    <a:close/>
                    <a:moveTo>
                      <a:pt x="9575" y="2"/>
                    </a:moveTo>
                    <a:lnTo>
                      <a:pt x="9575" y="2"/>
                    </a:lnTo>
                    <a:cubicBezTo>
                      <a:pt x="9576" y="2"/>
                      <a:pt x="9577" y="3"/>
                      <a:pt x="9577" y="4"/>
                    </a:cubicBezTo>
                    <a:cubicBezTo>
                      <a:pt x="9577" y="6"/>
                      <a:pt x="9576" y="6"/>
                      <a:pt x="9575" y="6"/>
                    </a:cubicBezTo>
                    <a:lnTo>
                      <a:pt x="9575" y="6"/>
                    </a:lnTo>
                    <a:cubicBezTo>
                      <a:pt x="9574" y="6"/>
                      <a:pt x="9573" y="6"/>
                      <a:pt x="9573" y="4"/>
                    </a:cubicBezTo>
                    <a:cubicBezTo>
                      <a:pt x="9573" y="3"/>
                      <a:pt x="9574" y="2"/>
                      <a:pt x="9575" y="2"/>
                    </a:cubicBezTo>
                    <a:close/>
                    <a:moveTo>
                      <a:pt x="9583" y="2"/>
                    </a:moveTo>
                    <a:lnTo>
                      <a:pt x="9583" y="2"/>
                    </a:lnTo>
                    <a:cubicBezTo>
                      <a:pt x="9584" y="2"/>
                      <a:pt x="9585" y="3"/>
                      <a:pt x="9585" y="4"/>
                    </a:cubicBezTo>
                    <a:cubicBezTo>
                      <a:pt x="9585" y="6"/>
                      <a:pt x="9584" y="6"/>
                      <a:pt x="9583" y="6"/>
                    </a:cubicBezTo>
                    <a:lnTo>
                      <a:pt x="9583" y="6"/>
                    </a:lnTo>
                    <a:cubicBezTo>
                      <a:pt x="9582" y="6"/>
                      <a:pt x="9581" y="6"/>
                      <a:pt x="9581" y="4"/>
                    </a:cubicBezTo>
                    <a:cubicBezTo>
                      <a:pt x="9581" y="3"/>
                      <a:pt x="9582" y="2"/>
                      <a:pt x="9583" y="2"/>
                    </a:cubicBezTo>
                    <a:close/>
                    <a:moveTo>
                      <a:pt x="9591" y="2"/>
                    </a:moveTo>
                    <a:lnTo>
                      <a:pt x="9591" y="2"/>
                    </a:lnTo>
                    <a:cubicBezTo>
                      <a:pt x="9592" y="2"/>
                      <a:pt x="9593" y="3"/>
                      <a:pt x="9593" y="4"/>
                    </a:cubicBezTo>
                    <a:cubicBezTo>
                      <a:pt x="9593" y="6"/>
                      <a:pt x="9592" y="6"/>
                      <a:pt x="9591" y="6"/>
                    </a:cubicBezTo>
                    <a:lnTo>
                      <a:pt x="9591" y="6"/>
                    </a:lnTo>
                    <a:cubicBezTo>
                      <a:pt x="9590" y="6"/>
                      <a:pt x="9589" y="6"/>
                      <a:pt x="9589" y="4"/>
                    </a:cubicBezTo>
                    <a:cubicBezTo>
                      <a:pt x="9589" y="3"/>
                      <a:pt x="9590" y="2"/>
                      <a:pt x="9591" y="2"/>
                    </a:cubicBezTo>
                    <a:close/>
                    <a:moveTo>
                      <a:pt x="9599" y="2"/>
                    </a:moveTo>
                    <a:lnTo>
                      <a:pt x="9599" y="2"/>
                    </a:lnTo>
                    <a:cubicBezTo>
                      <a:pt x="9600" y="2"/>
                      <a:pt x="9601" y="3"/>
                      <a:pt x="9601" y="4"/>
                    </a:cubicBezTo>
                    <a:cubicBezTo>
                      <a:pt x="9601" y="6"/>
                      <a:pt x="9600" y="6"/>
                      <a:pt x="9599" y="6"/>
                    </a:cubicBezTo>
                    <a:lnTo>
                      <a:pt x="9599" y="6"/>
                    </a:lnTo>
                    <a:cubicBezTo>
                      <a:pt x="9598" y="6"/>
                      <a:pt x="9597" y="6"/>
                      <a:pt x="9597" y="4"/>
                    </a:cubicBezTo>
                    <a:cubicBezTo>
                      <a:pt x="9597" y="3"/>
                      <a:pt x="9598" y="2"/>
                      <a:pt x="9599" y="2"/>
                    </a:cubicBezTo>
                    <a:close/>
                    <a:moveTo>
                      <a:pt x="9607" y="2"/>
                    </a:moveTo>
                    <a:lnTo>
                      <a:pt x="9607" y="2"/>
                    </a:lnTo>
                    <a:cubicBezTo>
                      <a:pt x="9608" y="2"/>
                      <a:pt x="9609" y="3"/>
                      <a:pt x="9609" y="4"/>
                    </a:cubicBezTo>
                    <a:cubicBezTo>
                      <a:pt x="9609" y="6"/>
                      <a:pt x="9608" y="6"/>
                      <a:pt x="9607" y="6"/>
                    </a:cubicBezTo>
                    <a:lnTo>
                      <a:pt x="9607" y="6"/>
                    </a:lnTo>
                    <a:cubicBezTo>
                      <a:pt x="9606" y="6"/>
                      <a:pt x="9605" y="6"/>
                      <a:pt x="9605" y="4"/>
                    </a:cubicBezTo>
                    <a:cubicBezTo>
                      <a:pt x="9605" y="3"/>
                      <a:pt x="9606" y="2"/>
                      <a:pt x="9607" y="2"/>
                    </a:cubicBezTo>
                    <a:close/>
                    <a:moveTo>
                      <a:pt x="9615" y="2"/>
                    </a:moveTo>
                    <a:lnTo>
                      <a:pt x="9615" y="2"/>
                    </a:lnTo>
                    <a:cubicBezTo>
                      <a:pt x="9616" y="2"/>
                      <a:pt x="9617" y="3"/>
                      <a:pt x="9617" y="4"/>
                    </a:cubicBezTo>
                    <a:cubicBezTo>
                      <a:pt x="9617" y="6"/>
                      <a:pt x="9616" y="6"/>
                      <a:pt x="9615" y="6"/>
                    </a:cubicBezTo>
                    <a:lnTo>
                      <a:pt x="9615" y="6"/>
                    </a:lnTo>
                    <a:cubicBezTo>
                      <a:pt x="9614" y="6"/>
                      <a:pt x="9613" y="6"/>
                      <a:pt x="9613" y="4"/>
                    </a:cubicBezTo>
                    <a:cubicBezTo>
                      <a:pt x="9613" y="3"/>
                      <a:pt x="9614" y="2"/>
                      <a:pt x="9615" y="2"/>
                    </a:cubicBezTo>
                    <a:close/>
                    <a:moveTo>
                      <a:pt x="9623" y="2"/>
                    </a:moveTo>
                    <a:lnTo>
                      <a:pt x="9623" y="2"/>
                    </a:lnTo>
                    <a:cubicBezTo>
                      <a:pt x="9624" y="2"/>
                      <a:pt x="9625" y="3"/>
                      <a:pt x="9625" y="4"/>
                    </a:cubicBezTo>
                    <a:cubicBezTo>
                      <a:pt x="9625" y="6"/>
                      <a:pt x="9624" y="6"/>
                      <a:pt x="9623" y="6"/>
                    </a:cubicBezTo>
                    <a:lnTo>
                      <a:pt x="9623" y="6"/>
                    </a:lnTo>
                    <a:cubicBezTo>
                      <a:pt x="9622" y="6"/>
                      <a:pt x="9621" y="6"/>
                      <a:pt x="9621" y="4"/>
                    </a:cubicBezTo>
                    <a:cubicBezTo>
                      <a:pt x="9621" y="3"/>
                      <a:pt x="9622" y="2"/>
                      <a:pt x="9623" y="2"/>
                    </a:cubicBezTo>
                    <a:close/>
                    <a:moveTo>
                      <a:pt x="9631" y="2"/>
                    </a:moveTo>
                    <a:lnTo>
                      <a:pt x="9631" y="2"/>
                    </a:lnTo>
                    <a:cubicBezTo>
                      <a:pt x="9632" y="2"/>
                      <a:pt x="9633" y="3"/>
                      <a:pt x="9633" y="4"/>
                    </a:cubicBezTo>
                    <a:cubicBezTo>
                      <a:pt x="9633" y="6"/>
                      <a:pt x="9632" y="6"/>
                      <a:pt x="9631" y="6"/>
                    </a:cubicBezTo>
                    <a:lnTo>
                      <a:pt x="9631" y="6"/>
                    </a:lnTo>
                    <a:cubicBezTo>
                      <a:pt x="9630" y="6"/>
                      <a:pt x="9629" y="6"/>
                      <a:pt x="9629" y="4"/>
                    </a:cubicBezTo>
                    <a:cubicBezTo>
                      <a:pt x="9629" y="3"/>
                      <a:pt x="9630" y="2"/>
                      <a:pt x="9631" y="2"/>
                    </a:cubicBezTo>
                    <a:close/>
                    <a:moveTo>
                      <a:pt x="9639" y="2"/>
                    </a:moveTo>
                    <a:lnTo>
                      <a:pt x="9639" y="2"/>
                    </a:lnTo>
                    <a:cubicBezTo>
                      <a:pt x="9640" y="2"/>
                      <a:pt x="9641" y="3"/>
                      <a:pt x="9641" y="4"/>
                    </a:cubicBezTo>
                    <a:cubicBezTo>
                      <a:pt x="9641" y="6"/>
                      <a:pt x="9640" y="6"/>
                      <a:pt x="9639" y="6"/>
                    </a:cubicBezTo>
                    <a:lnTo>
                      <a:pt x="9639" y="6"/>
                    </a:lnTo>
                    <a:cubicBezTo>
                      <a:pt x="9638" y="6"/>
                      <a:pt x="9637" y="6"/>
                      <a:pt x="9637" y="4"/>
                    </a:cubicBezTo>
                    <a:cubicBezTo>
                      <a:pt x="9637" y="3"/>
                      <a:pt x="9638" y="2"/>
                      <a:pt x="9639" y="2"/>
                    </a:cubicBezTo>
                    <a:close/>
                    <a:moveTo>
                      <a:pt x="9647" y="2"/>
                    </a:moveTo>
                    <a:lnTo>
                      <a:pt x="9647" y="2"/>
                    </a:lnTo>
                    <a:cubicBezTo>
                      <a:pt x="9648" y="2"/>
                      <a:pt x="9649" y="3"/>
                      <a:pt x="9649" y="4"/>
                    </a:cubicBezTo>
                    <a:cubicBezTo>
                      <a:pt x="9649" y="6"/>
                      <a:pt x="9648" y="6"/>
                      <a:pt x="9647" y="6"/>
                    </a:cubicBezTo>
                    <a:lnTo>
                      <a:pt x="9647" y="6"/>
                    </a:lnTo>
                    <a:cubicBezTo>
                      <a:pt x="9646" y="6"/>
                      <a:pt x="9645" y="6"/>
                      <a:pt x="9645" y="4"/>
                    </a:cubicBezTo>
                    <a:cubicBezTo>
                      <a:pt x="9645" y="3"/>
                      <a:pt x="9646" y="2"/>
                      <a:pt x="9647" y="2"/>
                    </a:cubicBezTo>
                    <a:close/>
                    <a:moveTo>
                      <a:pt x="9655" y="2"/>
                    </a:moveTo>
                    <a:lnTo>
                      <a:pt x="9655" y="2"/>
                    </a:lnTo>
                    <a:cubicBezTo>
                      <a:pt x="9656" y="2"/>
                      <a:pt x="9657" y="3"/>
                      <a:pt x="9657" y="4"/>
                    </a:cubicBezTo>
                    <a:cubicBezTo>
                      <a:pt x="9657" y="6"/>
                      <a:pt x="9656" y="6"/>
                      <a:pt x="9655" y="6"/>
                    </a:cubicBezTo>
                    <a:lnTo>
                      <a:pt x="9655" y="6"/>
                    </a:lnTo>
                    <a:cubicBezTo>
                      <a:pt x="9654" y="6"/>
                      <a:pt x="9653" y="6"/>
                      <a:pt x="9653" y="4"/>
                    </a:cubicBezTo>
                    <a:cubicBezTo>
                      <a:pt x="9653" y="3"/>
                      <a:pt x="9654" y="2"/>
                      <a:pt x="9655" y="2"/>
                    </a:cubicBezTo>
                    <a:close/>
                    <a:moveTo>
                      <a:pt x="9663" y="2"/>
                    </a:moveTo>
                    <a:lnTo>
                      <a:pt x="9663" y="2"/>
                    </a:lnTo>
                    <a:cubicBezTo>
                      <a:pt x="9664" y="2"/>
                      <a:pt x="9665" y="3"/>
                      <a:pt x="9665" y="4"/>
                    </a:cubicBezTo>
                    <a:cubicBezTo>
                      <a:pt x="9665" y="6"/>
                      <a:pt x="9664" y="6"/>
                      <a:pt x="9663" y="6"/>
                    </a:cubicBezTo>
                    <a:lnTo>
                      <a:pt x="9663" y="6"/>
                    </a:lnTo>
                    <a:cubicBezTo>
                      <a:pt x="9662" y="6"/>
                      <a:pt x="9661" y="6"/>
                      <a:pt x="9661" y="4"/>
                    </a:cubicBezTo>
                    <a:cubicBezTo>
                      <a:pt x="9661" y="3"/>
                      <a:pt x="9662" y="2"/>
                      <a:pt x="9663" y="2"/>
                    </a:cubicBezTo>
                    <a:close/>
                    <a:moveTo>
                      <a:pt x="9671" y="2"/>
                    </a:moveTo>
                    <a:lnTo>
                      <a:pt x="9671" y="2"/>
                    </a:lnTo>
                    <a:cubicBezTo>
                      <a:pt x="9672" y="2"/>
                      <a:pt x="9673" y="3"/>
                      <a:pt x="9673" y="4"/>
                    </a:cubicBezTo>
                    <a:cubicBezTo>
                      <a:pt x="9673" y="6"/>
                      <a:pt x="9672" y="6"/>
                      <a:pt x="9671" y="6"/>
                    </a:cubicBezTo>
                    <a:lnTo>
                      <a:pt x="9671" y="6"/>
                    </a:lnTo>
                    <a:cubicBezTo>
                      <a:pt x="9670" y="6"/>
                      <a:pt x="9669" y="6"/>
                      <a:pt x="9669" y="4"/>
                    </a:cubicBezTo>
                    <a:cubicBezTo>
                      <a:pt x="9669" y="3"/>
                      <a:pt x="9670" y="2"/>
                      <a:pt x="9671" y="2"/>
                    </a:cubicBezTo>
                    <a:close/>
                    <a:moveTo>
                      <a:pt x="9679" y="2"/>
                    </a:moveTo>
                    <a:lnTo>
                      <a:pt x="9679" y="2"/>
                    </a:lnTo>
                    <a:cubicBezTo>
                      <a:pt x="9680" y="2"/>
                      <a:pt x="9681" y="3"/>
                      <a:pt x="9681" y="4"/>
                    </a:cubicBezTo>
                    <a:cubicBezTo>
                      <a:pt x="9681" y="6"/>
                      <a:pt x="9680" y="6"/>
                      <a:pt x="9679" y="6"/>
                    </a:cubicBezTo>
                    <a:lnTo>
                      <a:pt x="9679" y="6"/>
                    </a:lnTo>
                    <a:cubicBezTo>
                      <a:pt x="9678" y="6"/>
                      <a:pt x="9677" y="6"/>
                      <a:pt x="9677" y="4"/>
                    </a:cubicBezTo>
                    <a:cubicBezTo>
                      <a:pt x="9677" y="3"/>
                      <a:pt x="9678" y="2"/>
                      <a:pt x="9679" y="2"/>
                    </a:cubicBezTo>
                    <a:close/>
                    <a:moveTo>
                      <a:pt x="9687" y="2"/>
                    </a:moveTo>
                    <a:lnTo>
                      <a:pt x="9687" y="2"/>
                    </a:lnTo>
                    <a:cubicBezTo>
                      <a:pt x="9688" y="2"/>
                      <a:pt x="9689" y="3"/>
                      <a:pt x="9689" y="4"/>
                    </a:cubicBezTo>
                    <a:cubicBezTo>
                      <a:pt x="9689" y="6"/>
                      <a:pt x="9688" y="6"/>
                      <a:pt x="9687" y="6"/>
                    </a:cubicBezTo>
                    <a:lnTo>
                      <a:pt x="9687" y="6"/>
                    </a:lnTo>
                    <a:cubicBezTo>
                      <a:pt x="9686" y="6"/>
                      <a:pt x="9685" y="6"/>
                      <a:pt x="9685" y="4"/>
                    </a:cubicBezTo>
                    <a:cubicBezTo>
                      <a:pt x="9685" y="3"/>
                      <a:pt x="9686" y="2"/>
                      <a:pt x="9687" y="2"/>
                    </a:cubicBezTo>
                    <a:close/>
                    <a:moveTo>
                      <a:pt x="9695" y="2"/>
                    </a:moveTo>
                    <a:lnTo>
                      <a:pt x="9695" y="2"/>
                    </a:lnTo>
                    <a:cubicBezTo>
                      <a:pt x="9696" y="2"/>
                      <a:pt x="9697" y="3"/>
                      <a:pt x="9697" y="4"/>
                    </a:cubicBezTo>
                    <a:cubicBezTo>
                      <a:pt x="9697" y="6"/>
                      <a:pt x="9696" y="6"/>
                      <a:pt x="9695" y="6"/>
                    </a:cubicBezTo>
                    <a:lnTo>
                      <a:pt x="9695" y="6"/>
                    </a:lnTo>
                    <a:cubicBezTo>
                      <a:pt x="9694" y="6"/>
                      <a:pt x="9693" y="6"/>
                      <a:pt x="9693" y="4"/>
                    </a:cubicBezTo>
                    <a:cubicBezTo>
                      <a:pt x="9693" y="3"/>
                      <a:pt x="9694" y="2"/>
                      <a:pt x="9695" y="2"/>
                    </a:cubicBezTo>
                    <a:close/>
                    <a:moveTo>
                      <a:pt x="9703" y="2"/>
                    </a:moveTo>
                    <a:lnTo>
                      <a:pt x="9703" y="2"/>
                    </a:lnTo>
                    <a:cubicBezTo>
                      <a:pt x="9704" y="2"/>
                      <a:pt x="9705" y="3"/>
                      <a:pt x="9705" y="4"/>
                    </a:cubicBezTo>
                    <a:cubicBezTo>
                      <a:pt x="9705" y="6"/>
                      <a:pt x="9704" y="6"/>
                      <a:pt x="9703" y="6"/>
                    </a:cubicBezTo>
                    <a:lnTo>
                      <a:pt x="9703" y="6"/>
                    </a:lnTo>
                    <a:cubicBezTo>
                      <a:pt x="9702" y="6"/>
                      <a:pt x="9701" y="6"/>
                      <a:pt x="9701" y="4"/>
                    </a:cubicBezTo>
                    <a:cubicBezTo>
                      <a:pt x="9701" y="3"/>
                      <a:pt x="9702" y="2"/>
                      <a:pt x="9703" y="2"/>
                    </a:cubicBezTo>
                    <a:close/>
                    <a:moveTo>
                      <a:pt x="9711" y="2"/>
                    </a:moveTo>
                    <a:lnTo>
                      <a:pt x="9711" y="2"/>
                    </a:lnTo>
                    <a:cubicBezTo>
                      <a:pt x="9712" y="2"/>
                      <a:pt x="9713" y="3"/>
                      <a:pt x="9713" y="4"/>
                    </a:cubicBezTo>
                    <a:cubicBezTo>
                      <a:pt x="9713" y="6"/>
                      <a:pt x="9712" y="6"/>
                      <a:pt x="9711" y="6"/>
                    </a:cubicBezTo>
                    <a:lnTo>
                      <a:pt x="9711" y="6"/>
                    </a:lnTo>
                    <a:cubicBezTo>
                      <a:pt x="9710" y="6"/>
                      <a:pt x="9709" y="6"/>
                      <a:pt x="9709" y="4"/>
                    </a:cubicBezTo>
                    <a:cubicBezTo>
                      <a:pt x="9709" y="3"/>
                      <a:pt x="9710" y="2"/>
                      <a:pt x="9711" y="2"/>
                    </a:cubicBezTo>
                    <a:close/>
                    <a:moveTo>
                      <a:pt x="9719" y="2"/>
                    </a:moveTo>
                    <a:lnTo>
                      <a:pt x="9719" y="2"/>
                    </a:lnTo>
                    <a:cubicBezTo>
                      <a:pt x="9720" y="2"/>
                      <a:pt x="9721" y="3"/>
                      <a:pt x="9721" y="4"/>
                    </a:cubicBezTo>
                    <a:cubicBezTo>
                      <a:pt x="9721" y="6"/>
                      <a:pt x="9720" y="6"/>
                      <a:pt x="9719" y="6"/>
                    </a:cubicBezTo>
                    <a:lnTo>
                      <a:pt x="9719" y="6"/>
                    </a:lnTo>
                    <a:cubicBezTo>
                      <a:pt x="9718" y="6"/>
                      <a:pt x="9717" y="6"/>
                      <a:pt x="9717" y="4"/>
                    </a:cubicBezTo>
                    <a:cubicBezTo>
                      <a:pt x="9717" y="3"/>
                      <a:pt x="9718" y="2"/>
                      <a:pt x="9719" y="2"/>
                    </a:cubicBezTo>
                    <a:close/>
                    <a:moveTo>
                      <a:pt x="9727" y="2"/>
                    </a:moveTo>
                    <a:lnTo>
                      <a:pt x="9727" y="2"/>
                    </a:lnTo>
                    <a:cubicBezTo>
                      <a:pt x="9728" y="2"/>
                      <a:pt x="9729" y="3"/>
                      <a:pt x="9729" y="4"/>
                    </a:cubicBezTo>
                    <a:cubicBezTo>
                      <a:pt x="9729" y="6"/>
                      <a:pt x="9728" y="6"/>
                      <a:pt x="9727" y="6"/>
                    </a:cubicBezTo>
                    <a:lnTo>
                      <a:pt x="9727" y="6"/>
                    </a:lnTo>
                    <a:cubicBezTo>
                      <a:pt x="9726" y="6"/>
                      <a:pt x="9725" y="6"/>
                      <a:pt x="9725" y="4"/>
                    </a:cubicBezTo>
                    <a:cubicBezTo>
                      <a:pt x="9725" y="3"/>
                      <a:pt x="9726" y="2"/>
                      <a:pt x="9727" y="2"/>
                    </a:cubicBezTo>
                    <a:close/>
                    <a:moveTo>
                      <a:pt x="9735" y="2"/>
                    </a:moveTo>
                    <a:lnTo>
                      <a:pt x="9735" y="2"/>
                    </a:lnTo>
                    <a:cubicBezTo>
                      <a:pt x="9736" y="2"/>
                      <a:pt x="9737" y="3"/>
                      <a:pt x="9737" y="4"/>
                    </a:cubicBezTo>
                    <a:cubicBezTo>
                      <a:pt x="9737" y="6"/>
                      <a:pt x="9736" y="6"/>
                      <a:pt x="9735" y="6"/>
                    </a:cubicBezTo>
                    <a:lnTo>
                      <a:pt x="9735" y="6"/>
                    </a:lnTo>
                    <a:cubicBezTo>
                      <a:pt x="9734" y="6"/>
                      <a:pt x="9733" y="6"/>
                      <a:pt x="9733" y="4"/>
                    </a:cubicBezTo>
                    <a:cubicBezTo>
                      <a:pt x="9733" y="3"/>
                      <a:pt x="9734" y="2"/>
                      <a:pt x="9735" y="2"/>
                    </a:cubicBezTo>
                    <a:close/>
                    <a:moveTo>
                      <a:pt x="9743" y="2"/>
                    </a:moveTo>
                    <a:lnTo>
                      <a:pt x="9743" y="2"/>
                    </a:lnTo>
                    <a:cubicBezTo>
                      <a:pt x="9744" y="2"/>
                      <a:pt x="9745" y="3"/>
                      <a:pt x="9745" y="4"/>
                    </a:cubicBezTo>
                    <a:cubicBezTo>
                      <a:pt x="9745" y="6"/>
                      <a:pt x="9744" y="6"/>
                      <a:pt x="9743" y="6"/>
                    </a:cubicBezTo>
                    <a:lnTo>
                      <a:pt x="9743" y="6"/>
                    </a:lnTo>
                    <a:cubicBezTo>
                      <a:pt x="9742" y="6"/>
                      <a:pt x="9741" y="6"/>
                      <a:pt x="9741" y="4"/>
                    </a:cubicBezTo>
                    <a:cubicBezTo>
                      <a:pt x="9741" y="3"/>
                      <a:pt x="9742" y="2"/>
                      <a:pt x="9743" y="2"/>
                    </a:cubicBezTo>
                    <a:close/>
                    <a:moveTo>
                      <a:pt x="9751" y="2"/>
                    </a:moveTo>
                    <a:lnTo>
                      <a:pt x="9751" y="2"/>
                    </a:lnTo>
                    <a:cubicBezTo>
                      <a:pt x="9752" y="2"/>
                      <a:pt x="9753" y="3"/>
                      <a:pt x="9753" y="4"/>
                    </a:cubicBezTo>
                    <a:cubicBezTo>
                      <a:pt x="9753" y="6"/>
                      <a:pt x="9752" y="6"/>
                      <a:pt x="9751" y="6"/>
                    </a:cubicBezTo>
                    <a:lnTo>
                      <a:pt x="9751" y="6"/>
                    </a:lnTo>
                    <a:cubicBezTo>
                      <a:pt x="9750" y="6"/>
                      <a:pt x="9749" y="6"/>
                      <a:pt x="9749" y="4"/>
                    </a:cubicBezTo>
                    <a:cubicBezTo>
                      <a:pt x="9749" y="3"/>
                      <a:pt x="9750" y="2"/>
                      <a:pt x="9751" y="2"/>
                    </a:cubicBezTo>
                    <a:close/>
                    <a:moveTo>
                      <a:pt x="9759" y="2"/>
                    </a:moveTo>
                    <a:lnTo>
                      <a:pt x="9759" y="2"/>
                    </a:lnTo>
                    <a:cubicBezTo>
                      <a:pt x="9760" y="2"/>
                      <a:pt x="9761" y="3"/>
                      <a:pt x="9761" y="4"/>
                    </a:cubicBezTo>
                    <a:cubicBezTo>
                      <a:pt x="9761" y="6"/>
                      <a:pt x="9760" y="6"/>
                      <a:pt x="9759" y="6"/>
                    </a:cubicBezTo>
                    <a:lnTo>
                      <a:pt x="9759" y="6"/>
                    </a:lnTo>
                    <a:cubicBezTo>
                      <a:pt x="9758" y="6"/>
                      <a:pt x="9757" y="6"/>
                      <a:pt x="9757" y="4"/>
                    </a:cubicBezTo>
                    <a:cubicBezTo>
                      <a:pt x="9757" y="3"/>
                      <a:pt x="9758" y="2"/>
                      <a:pt x="9759" y="2"/>
                    </a:cubicBezTo>
                    <a:close/>
                    <a:moveTo>
                      <a:pt x="9767" y="2"/>
                    </a:moveTo>
                    <a:lnTo>
                      <a:pt x="9767" y="2"/>
                    </a:lnTo>
                    <a:cubicBezTo>
                      <a:pt x="9768" y="2"/>
                      <a:pt x="9769" y="3"/>
                      <a:pt x="9769" y="4"/>
                    </a:cubicBezTo>
                    <a:cubicBezTo>
                      <a:pt x="9769" y="6"/>
                      <a:pt x="9768" y="6"/>
                      <a:pt x="9767" y="6"/>
                    </a:cubicBezTo>
                    <a:lnTo>
                      <a:pt x="9767" y="6"/>
                    </a:lnTo>
                    <a:cubicBezTo>
                      <a:pt x="9766" y="6"/>
                      <a:pt x="9765" y="6"/>
                      <a:pt x="9765" y="4"/>
                    </a:cubicBezTo>
                    <a:cubicBezTo>
                      <a:pt x="9765" y="3"/>
                      <a:pt x="9766" y="2"/>
                      <a:pt x="9767" y="2"/>
                    </a:cubicBezTo>
                    <a:close/>
                    <a:moveTo>
                      <a:pt x="9775" y="3"/>
                    </a:moveTo>
                    <a:lnTo>
                      <a:pt x="9775" y="3"/>
                    </a:lnTo>
                    <a:cubicBezTo>
                      <a:pt x="9776" y="3"/>
                      <a:pt x="9777" y="3"/>
                      <a:pt x="9777" y="5"/>
                    </a:cubicBezTo>
                    <a:cubicBezTo>
                      <a:pt x="9777" y="6"/>
                      <a:pt x="9776" y="7"/>
                      <a:pt x="9775" y="7"/>
                    </a:cubicBezTo>
                    <a:lnTo>
                      <a:pt x="9775" y="7"/>
                    </a:lnTo>
                    <a:cubicBezTo>
                      <a:pt x="9774" y="7"/>
                      <a:pt x="9773" y="6"/>
                      <a:pt x="9773" y="5"/>
                    </a:cubicBezTo>
                    <a:cubicBezTo>
                      <a:pt x="9773" y="3"/>
                      <a:pt x="9774" y="3"/>
                      <a:pt x="9775" y="3"/>
                    </a:cubicBezTo>
                    <a:close/>
                    <a:moveTo>
                      <a:pt x="9783" y="3"/>
                    </a:moveTo>
                    <a:lnTo>
                      <a:pt x="9783" y="3"/>
                    </a:lnTo>
                    <a:cubicBezTo>
                      <a:pt x="9784" y="3"/>
                      <a:pt x="9785" y="3"/>
                      <a:pt x="9785" y="5"/>
                    </a:cubicBezTo>
                    <a:cubicBezTo>
                      <a:pt x="9785" y="6"/>
                      <a:pt x="9784" y="7"/>
                      <a:pt x="9783" y="7"/>
                    </a:cubicBezTo>
                    <a:lnTo>
                      <a:pt x="9783" y="7"/>
                    </a:lnTo>
                    <a:cubicBezTo>
                      <a:pt x="9782" y="7"/>
                      <a:pt x="9781" y="6"/>
                      <a:pt x="9781" y="5"/>
                    </a:cubicBezTo>
                    <a:cubicBezTo>
                      <a:pt x="9781" y="3"/>
                      <a:pt x="9782" y="3"/>
                      <a:pt x="9783" y="3"/>
                    </a:cubicBezTo>
                    <a:close/>
                    <a:moveTo>
                      <a:pt x="9791" y="3"/>
                    </a:moveTo>
                    <a:lnTo>
                      <a:pt x="9791" y="3"/>
                    </a:lnTo>
                    <a:cubicBezTo>
                      <a:pt x="9792" y="3"/>
                      <a:pt x="9793" y="3"/>
                      <a:pt x="9793" y="5"/>
                    </a:cubicBezTo>
                    <a:cubicBezTo>
                      <a:pt x="9793" y="6"/>
                      <a:pt x="9792" y="7"/>
                      <a:pt x="9791" y="7"/>
                    </a:cubicBezTo>
                    <a:lnTo>
                      <a:pt x="9791" y="7"/>
                    </a:lnTo>
                    <a:cubicBezTo>
                      <a:pt x="9790" y="7"/>
                      <a:pt x="9789" y="6"/>
                      <a:pt x="9789" y="5"/>
                    </a:cubicBezTo>
                    <a:cubicBezTo>
                      <a:pt x="9789" y="3"/>
                      <a:pt x="9790" y="3"/>
                      <a:pt x="9791" y="3"/>
                    </a:cubicBezTo>
                    <a:close/>
                    <a:moveTo>
                      <a:pt x="9799" y="3"/>
                    </a:moveTo>
                    <a:lnTo>
                      <a:pt x="9799" y="3"/>
                    </a:lnTo>
                    <a:cubicBezTo>
                      <a:pt x="9800" y="3"/>
                      <a:pt x="9801" y="3"/>
                      <a:pt x="9801" y="5"/>
                    </a:cubicBezTo>
                    <a:cubicBezTo>
                      <a:pt x="9801" y="6"/>
                      <a:pt x="9800" y="7"/>
                      <a:pt x="9799" y="7"/>
                    </a:cubicBezTo>
                    <a:lnTo>
                      <a:pt x="9799" y="7"/>
                    </a:lnTo>
                    <a:cubicBezTo>
                      <a:pt x="9798" y="7"/>
                      <a:pt x="9797" y="6"/>
                      <a:pt x="9797" y="5"/>
                    </a:cubicBezTo>
                    <a:cubicBezTo>
                      <a:pt x="9797" y="3"/>
                      <a:pt x="9798" y="3"/>
                      <a:pt x="9799" y="3"/>
                    </a:cubicBezTo>
                    <a:close/>
                    <a:moveTo>
                      <a:pt x="9807" y="3"/>
                    </a:moveTo>
                    <a:lnTo>
                      <a:pt x="9807" y="3"/>
                    </a:lnTo>
                    <a:cubicBezTo>
                      <a:pt x="9808" y="3"/>
                      <a:pt x="9809" y="3"/>
                      <a:pt x="9809" y="5"/>
                    </a:cubicBezTo>
                    <a:cubicBezTo>
                      <a:pt x="9809" y="6"/>
                      <a:pt x="9808" y="7"/>
                      <a:pt x="9807" y="7"/>
                    </a:cubicBezTo>
                    <a:lnTo>
                      <a:pt x="9807" y="7"/>
                    </a:lnTo>
                    <a:cubicBezTo>
                      <a:pt x="9806" y="7"/>
                      <a:pt x="9805" y="6"/>
                      <a:pt x="9805" y="5"/>
                    </a:cubicBezTo>
                    <a:cubicBezTo>
                      <a:pt x="9805" y="3"/>
                      <a:pt x="9806" y="3"/>
                      <a:pt x="9807" y="3"/>
                    </a:cubicBezTo>
                    <a:close/>
                    <a:moveTo>
                      <a:pt x="9815" y="3"/>
                    </a:moveTo>
                    <a:lnTo>
                      <a:pt x="9815" y="3"/>
                    </a:lnTo>
                    <a:cubicBezTo>
                      <a:pt x="9816" y="3"/>
                      <a:pt x="9817" y="3"/>
                      <a:pt x="9817" y="5"/>
                    </a:cubicBezTo>
                    <a:cubicBezTo>
                      <a:pt x="9817" y="6"/>
                      <a:pt x="9816" y="7"/>
                      <a:pt x="9815" y="7"/>
                    </a:cubicBezTo>
                    <a:lnTo>
                      <a:pt x="9815" y="7"/>
                    </a:lnTo>
                    <a:cubicBezTo>
                      <a:pt x="9814" y="7"/>
                      <a:pt x="9813" y="6"/>
                      <a:pt x="9813" y="5"/>
                    </a:cubicBezTo>
                    <a:cubicBezTo>
                      <a:pt x="9813" y="3"/>
                      <a:pt x="9814" y="3"/>
                      <a:pt x="9815" y="3"/>
                    </a:cubicBezTo>
                    <a:close/>
                    <a:moveTo>
                      <a:pt x="9823" y="3"/>
                    </a:moveTo>
                    <a:lnTo>
                      <a:pt x="9823" y="3"/>
                    </a:lnTo>
                    <a:cubicBezTo>
                      <a:pt x="9824" y="3"/>
                      <a:pt x="9825" y="3"/>
                      <a:pt x="9825" y="5"/>
                    </a:cubicBezTo>
                    <a:cubicBezTo>
                      <a:pt x="9825" y="6"/>
                      <a:pt x="9824" y="7"/>
                      <a:pt x="9823" y="7"/>
                    </a:cubicBezTo>
                    <a:lnTo>
                      <a:pt x="9823" y="7"/>
                    </a:lnTo>
                    <a:cubicBezTo>
                      <a:pt x="9822" y="7"/>
                      <a:pt x="9821" y="6"/>
                      <a:pt x="9821" y="5"/>
                    </a:cubicBezTo>
                    <a:cubicBezTo>
                      <a:pt x="9821" y="3"/>
                      <a:pt x="9822" y="3"/>
                      <a:pt x="9823" y="3"/>
                    </a:cubicBezTo>
                    <a:close/>
                    <a:moveTo>
                      <a:pt x="9831" y="3"/>
                    </a:moveTo>
                    <a:lnTo>
                      <a:pt x="9831" y="3"/>
                    </a:lnTo>
                    <a:cubicBezTo>
                      <a:pt x="9832" y="3"/>
                      <a:pt x="9833" y="3"/>
                      <a:pt x="9833" y="5"/>
                    </a:cubicBezTo>
                    <a:cubicBezTo>
                      <a:pt x="9833" y="6"/>
                      <a:pt x="9832" y="7"/>
                      <a:pt x="9831" y="7"/>
                    </a:cubicBezTo>
                    <a:lnTo>
                      <a:pt x="9831" y="7"/>
                    </a:lnTo>
                    <a:cubicBezTo>
                      <a:pt x="9830" y="7"/>
                      <a:pt x="9829" y="6"/>
                      <a:pt x="9829" y="5"/>
                    </a:cubicBezTo>
                    <a:cubicBezTo>
                      <a:pt x="9829" y="3"/>
                      <a:pt x="9830" y="3"/>
                      <a:pt x="9831" y="3"/>
                    </a:cubicBezTo>
                    <a:close/>
                    <a:moveTo>
                      <a:pt x="9839" y="3"/>
                    </a:moveTo>
                    <a:lnTo>
                      <a:pt x="9839" y="3"/>
                    </a:lnTo>
                    <a:cubicBezTo>
                      <a:pt x="9840" y="3"/>
                      <a:pt x="9841" y="3"/>
                      <a:pt x="9841" y="5"/>
                    </a:cubicBezTo>
                    <a:cubicBezTo>
                      <a:pt x="9841" y="6"/>
                      <a:pt x="9840" y="7"/>
                      <a:pt x="9839" y="7"/>
                    </a:cubicBezTo>
                    <a:lnTo>
                      <a:pt x="9839" y="7"/>
                    </a:lnTo>
                    <a:cubicBezTo>
                      <a:pt x="9838" y="7"/>
                      <a:pt x="9837" y="6"/>
                      <a:pt x="9837" y="5"/>
                    </a:cubicBezTo>
                    <a:cubicBezTo>
                      <a:pt x="9837" y="3"/>
                      <a:pt x="9838" y="3"/>
                      <a:pt x="9839" y="3"/>
                    </a:cubicBezTo>
                    <a:close/>
                    <a:moveTo>
                      <a:pt x="9847" y="3"/>
                    </a:moveTo>
                    <a:lnTo>
                      <a:pt x="9847" y="3"/>
                    </a:lnTo>
                    <a:cubicBezTo>
                      <a:pt x="9848" y="3"/>
                      <a:pt x="9849" y="3"/>
                      <a:pt x="9849" y="5"/>
                    </a:cubicBezTo>
                    <a:cubicBezTo>
                      <a:pt x="9849" y="6"/>
                      <a:pt x="9848" y="7"/>
                      <a:pt x="9847" y="7"/>
                    </a:cubicBezTo>
                    <a:lnTo>
                      <a:pt x="9847" y="7"/>
                    </a:lnTo>
                    <a:cubicBezTo>
                      <a:pt x="9846" y="7"/>
                      <a:pt x="9845" y="6"/>
                      <a:pt x="9845" y="5"/>
                    </a:cubicBezTo>
                    <a:cubicBezTo>
                      <a:pt x="9845" y="3"/>
                      <a:pt x="9846" y="3"/>
                      <a:pt x="9847" y="3"/>
                    </a:cubicBezTo>
                    <a:close/>
                    <a:moveTo>
                      <a:pt x="9855" y="3"/>
                    </a:moveTo>
                    <a:lnTo>
                      <a:pt x="9855" y="3"/>
                    </a:lnTo>
                    <a:cubicBezTo>
                      <a:pt x="9856" y="3"/>
                      <a:pt x="9857" y="3"/>
                      <a:pt x="9857" y="5"/>
                    </a:cubicBezTo>
                    <a:cubicBezTo>
                      <a:pt x="9857" y="6"/>
                      <a:pt x="9856" y="7"/>
                      <a:pt x="9855" y="7"/>
                    </a:cubicBezTo>
                    <a:lnTo>
                      <a:pt x="9855" y="7"/>
                    </a:lnTo>
                    <a:cubicBezTo>
                      <a:pt x="9854" y="7"/>
                      <a:pt x="9853" y="6"/>
                      <a:pt x="9853" y="5"/>
                    </a:cubicBezTo>
                    <a:cubicBezTo>
                      <a:pt x="9853" y="3"/>
                      <a:pt x="9854" y="3"/>
                      <a:pt x="9855" y="3"/>
                    </a:cubicBezTo>
                    <a:close/>
                    <a:moveTo>
                      <a:pt x="9863" y="3"/>
                    </a:moveTo>
                    <a:lnTo>
                      <a:pt x="9863" y="3"/>
                    </a:lnTo>
                    <a:cubicBezTo>
                      <a:pt x="9864" y="3"/>
                      <a:pt x="9865" y="3"/>
                      <a:pt x="9865" y="5"/>
                    </a:cubicBezTo>
                    <a:cubicBezTo>
                      <a:pt x="9865" y="6"/>
                      <a:pt x="9864" y="7"/>
                      <a:pt x="9863" y="7"/>
                    </a:cubicBezTo>
                    <a:lnTo>
                      <a:pt x="9863" y="7"/>
                    </a:lnTo>
                    <a:cubicBezTo>
                      <a:pt x="9862" y="7"/>
                      <a:pt x="9861" y="6"/>
                      <a:pt x="9861" y="5"/>
                    </a:cubicBezTo>
                    <a:cubicBezTo>
                      <a:pt x="9861" y="3"/>
                      <a:pt x="9862" y="3"/>
                      <a:pt x="9863" y="3"/>
                    </a:cubicBezTo>
                    <a:close/>
                    <a:moveTo>
                      <a:pt x="9871" y="3"/>
                    </a:moveTo>
                    <a:lnTo>
                      <a:pt x="9871" y="3"/>
                    </a:lnTo>
                    <a:cubicBezTo>
                      <a:pt x="9872" y="3"/>
                      <a:pt x="9873" y="3"/>
                      <a:pt x="9873" y="5"/>
                    </a:cubicBezTo>
                    <a:cubicBezTo>
                      <a:pt x="9873" y="6"/>
                      <a:pt x="9872" y="7"/>
                      <a:pt x="9871" y="7"/>
                    </a:cubicBezTo>
                    <a:lnTo>
                      <a:pt x="9871" y="7"/>
                    </a:lnTo>
                    <a:cubicBezTo>
                      <a:pt x="9870" y="7"/>
                      <a:pt x="9869" y="6"/>
                      <a:pt x="9869" y="5"/>
                    </a:cubicBezTo>
                    <a:cubicBezTo>
                      <a:pt x="9869" y="3"/>
                      <a:pt x="9870" y="3"/>
                      <a:pt x="9871" y="3"/>
                    </a:cubicBezTo>
                    <a:close/>
                    <a:moveTo>
                      <a:pt x="9879" y="3"/>
                    </a:moveTo>
                    <a:lnTo>
                      <a:pt x="9879" y="3"/>
                    </a:lnTo>
                    <a:cubicBezTo>
                      <a:pt x="9880" y="3"/>
                      <a:pt x="9881" y="3"/>
                      <a:pt x="9881" y="5"/>
                    </a:cubicBezTo>
                    <a:cubicBezTo>
                      <a:pt x="9881" y="6"/>
                      <a:pt x="9880" y="7"/>
                      <a:pt x="9879" y="7"/>
                    </a:cubicBezTo>
                    <a:lnTo>
                      <a:pt x="9879" y="7"/>
                    </a:lnTo>
                    <a:cubicBezTo>
                      <a:pt x="9878" y="7"/>
                      <a:pt x="9877" y="6"/>
                      <a:pt x="9877" y="5"/>
                    </a:cubicBezTo>
                    <a:cubicBezTo>
                      <a:pt x="9877" y="3"/>
                      <a:pt x="9878" y="3"/>
                      <a:pt x="9879" y="3"/>
                    </a:cubicBezTo>
                    <a:close/>
                    <a:moveTo>
                      <a:pt x="9887" y="3"/>
                    </a:moveTo>
                    <a:lnTo>
                      <a:pt x="9887" y="3"/>
                    </a:lnTo>
                    <a:cubicBezTo>
                      <a:pt x="9888" y="3"/>
                      <a:pt x="9889" y="3"/>
                      <a:pt x="9889" y="5"/>
                    </a:cubicBezTo>
                    <a:cubicBezTo>
                      <a:pt x="9889" y="6"/>
                      <a:pt x="9888" y="7"/>
                      <a:pt x="9887" y="7"/>
                    </a:cubicBezTo>
                    <a:lnTo>
                      <a:pt x="9887" y="7"/>
                    </a:lnTo>
                    <a:cubicBezTo>
                      <a:pt x="9886" y="7"/>
                      <a:pt x="9885" y="6"/>
                      <a:pt x="9885" y="5"/>
                    </a:cubicBezTo>
                    <a:cubicBezTo>
                      <a:pt x="9885" y="3"/>
                      <a:pt x="9886" y="3"/>
                      <a:pt x="9887" y="3"/>
                    </a:cubicBezTo>
                    <a:close/>
                    <a:moveTo>
                      <a:pt x="9895" y="3"/>
                    </a:moveTo>
                    <a:lnTo>
                      <a:pt x="9895" y="3"/>
                    </a:lnTo>
                    <a:cubicBezTo>
                      <a:pt x="9896" y="3"/>
                      <a:pt x="9897" y="3"/>
                      <a:pt x="9897" y="5"/>
                    </a:cubicBezTo>
                    <a:cubicBezTo>
                      <a:pt x="9897" y="6"/>
                      <a:pt x="9896" y="7"/>
                      <a:pt x="9895" y="7"/>
                    </a:cubicBezTo>
                    <a:lnTo>
                      <a:pt x="9895" y="7"/>
                    </a:lnTo>
                    <a:cubicBezTo>
                      <a:pt x="9894" y="7"/>
                      <a:pt x="9893" y="6"/>
                      <a:pt x="9893" y="5"/>
                    </a:cubicBezTo>
                    <a:cubicBezTo>
                      <a:pt x="9893" y="3"/>
                      <a:pt x="9894" y="3"/>
                      <a:pt x="9895" y="3"/>
                    </a:cubicBezTo>
                    <a:close/>
                    <a:moveTo>
                      <a:pt x="9903" y="3"/>
                    </a:moveTo>
                    <a:lnTo>
                      <a:pt x="9903" y="3"/>
                    </a:lnTo>
                    <a:cubicBezTo>
                      <a:pt x="9904" y="3"/>
                      <a:pt x="9905" y="3"/>
                      <a:pt x="9905" y="5"/>
                    </a:cubicBezTo>
                    <a:cubicBezTo>
                      <a:pt x="9905" y="6"/>
                      <a:pt x="9904" y="7"/>
                      <a:pt x="9903" y="7"/>
                    </a:cubicBezTo>
                    <a:lnTo>
                      <a:pt x="9903" y="7"/>
                    </a:lnTo>
                    <a:cubicBezTo>
                      <a:pt x="9902" y="7"/>
                      <a:pt x="9901" y="6"/>
                      <a:pt x="9901" y="5"/>
                    </a:cubicBezTo>
                    <a:cubicBezTo>
                      <a:pt x="9901" y="3"/>
                      <a:pt x="9902" y="3"/>
                      <a:pt x="9903" y="3"/>
                    </a:cubicBezTo>
                    <a:close/>
                    <a:moveTo>
                      <a:pt x="9911" y="3"/>
                    </a:moveTo>
                    <a:lnTo>
                      <a:pt x="9911" y="3"/>
                    </a:lnTo>
                    <a:cubicBezTo>
                      <a:pt x="9912" y="3"/>
                      <a:pt x="9913" y="3"/>
                      <a:pt x="9913" y="5"/>
                    </a:cubicBezTo>
                    <a:cubicBezTo>
                      <a:pt x="9913" y="6"/>
                      <a:pt x="9912" y="7"/>
                      <a:pt x="9911" y="7"/>
                    </a:cubicBezTo>
                    <a:lnTo>
                      <a:pt x="9911" y="7"/>
                    </a:lnTo>
                    <a:cubicBezTo>
                      <a:pt x="9910" y="7"/>
                      <a:pt x="9909" y="6"/>
                      <a:pt x="9909" y="5"/>
                    </a:cubicBezTo>
                    <a:cubicBezTo>
                      <a:pt x="9909" y="3"/>
                      <a:pt x="9910" y="3"/>
                      <a:pt x="9911" y="3"/>
                    </a:cubicBezTo>
                    <a:close/>
                    <a:moveTo>
                      <a:pt x="9919" y="3"/>
                    </a:moveTo>
                    <a:lnTo>
                      <a:pt x="9919" y="3"/>
                    </a:lnTo>
                    <a:cubicBezTo>
                      <a:pt x="9920" y="3"/>
                      <a:pt x="9921" y="3"/>
                      <a:pt x="9921" y="5"/>
                    </a:cubicBezTo>
                    <a:cubicBezTo>
                      <a:pt x="9921" y="6"/>
                      <a:pt x="9920" y="7"/>
                      <a:pt x="9919" y="7"/>
                    </a:cubicBezTo>
                    <a:lnTo>
                      <a:pt x="9919" y="7"/>
                    </a:lnTo>
                    <a:cubicBezTo>
                      <a:pt x="9918" y="7"/>
                      <a:pt x="9917" y="6"/>
                      <a:pt x="9917" y="5"/>
                    </a:cubicBezTo>
                    <a:cubicBezTo>
                      <a:pt x="9917" y="3"/>
                      <a:pt x="9918" y="3"/>
                      <a:pt x="9919" y="3"/>
                    </a:cubicBezTo>
                    <a:close/>
                    <a:moveTo>
                      <a:pt x="9927" y="3"/>
                    </a:moveTo>
                    <a:lnTo>
                      <a:pt x="9927" y="3"/>
                    </a:lnTo>
                    <a:cubicBezTo>
                      <a:pt x="9928" y="3"/>
                      <a:pt x="9929" y="3"/>
                      <a:pt x="9929" y="5"/>
                    </a:cubicBezTo>
                    <a:cubicBezTo>
                      <a:pt x="9929" y="6"/>
                      <a:pt x="9928" y="7"/>
                      <a:pt x="9927" y="7"/>
                    </a:cubicBezTo>
                    <a:lnTo>
                      <a:pt x="9927" y="7"/>
                    </a:lnTo>
                    <a:cubicBezTo>
                      <a:pt x="9926" y="7"/>
                      <a:pt x="9925" y="6"/>
                      <a:pt x="9925" y="5"/>
                    </a:cubicBezTo>
                    <a:cubicBezTo>
                      <a:pt x="9925" y="3"/>
                      <a:pt x="9926" y="3"/>
                      <a:pt x="9927" y="3"/>
                    </a:cubicBezTo>
                    <a:close/>
                    <a:moveTo>
                      <a:pt x="9935" y="3"/>
                    </a:moveTo>
                    <a:lnTo>
                      <a:pt x="9935" y="3"/>
                    </a:lnTo>
                    <a:cubicBezTo>
                      <a:pt x="9936" y="3"/>
                      <a:pt x="9937" y="3"/>
                      <a:pt x="9937" y="5"/>
                    </a:cubicBezTo>
                    <a:cubicBezTo>
                      <a:pt x="9937" y="6"/>
                      <a:pt x="9936" y="7"/>
                      <a:pt x="9935" y="7"/>
                    </a:cubicBezTo>
                    <a:lnTo>
                      <a:pt x="9935" y="7"/>
                    </a:lnTo>
                    <a:cubicBezTo>
                      <a:pt x="9934" y="7"/>
                      <a:pt x="9933" y="6"/>
                      <a:pt x="9933" y="5"/>
                    </a:cubicBezTo>
                    <a:cubicBezTo>
                      <a:pt x="9933" y="3"/>
                      <a:pt x="9934" y="3"/>
                      <a:pt x="9935" y="3"/>
                    </a:cubicBezTo>
                    <a:close/>
                    <a:moveTo>
                      <a:pt x="9943" y="3"/>
                    </a:moveTo>
                    <a:lnTo>
                      <a:pt x="9943" y="3"/>
                    </a:lnTo>
                    <a:cubicBezTo>
                      <a:pt x="9944" y="3"/>
                      <a:pt x="9945" y="3"/>
                      <a:pt x="9945" y="5"/>
                    </a:cubicBezTo>
                    <a:cubicBezTo>
                      <a:pt x="9945" y="6"/>
                      <a:pt x="9944" y="7"/>
                      <a:pt x="9943" y="7"/>
                    </a:cubicBezTo>
                    <a:lnTo>
                      <a:pt x="9943" y="7"/>
                    </a:lnTo>
                    <a:cubicBezTo>
                      <a:pt x="9942" y="7"/>
                      <a:pt x="9941" y="6"/>
                      <a:pt x="9941" y="5"/>
                    </a:cubicBezTo>
                    <a:cubicBezTo>
                      <a:pt x="9941" y="3"/>
                      <a:pt x="9942" y="3"/>
                      <a:pt x="9943" y="3"/>
                    </a:cubicBezTo>
                    <a:close/>
                    <a:moveTo>
                      <a:pt x="9951" y="3"/>
                    </a:moveTo>
                    <a:lnTo>
                      <a:pt x="9951" y="3"/>
                    </a:lnTo>
                    <a:cubicBezTo>
                      <a:pt x="9952" y="3"/>
                      <a:pt x="9953" y="3"/>
                      <a:pt x="9953" y="5"/>
                    </a:cubicBezTo>
                    <a:cubicBezTo>
                      <a:pt x="9953" y="6"/>
                      <a:pt x="9952" y="7"/>
                      <a:pt x="9951" y="7"/>
                    </a:cubicBezTo>
                    <a:lnTo>
                      <a:pt x="9951" y="7"/>
                    </a:lnTo>
                    <a:cubicBezTo>
                      <a:pt x="9950" y="7"/>
                      <a:pt x="9949" y="6"/>
                      <a:pt x="9949" y="5"/>
                    </a:cubicBezTo>
                    <a:cubicBezTo>
                      <a:pt x="9949" y="3"/>
                      <a:pt x="9950" y="3"/>
                      <a:pt x="9951" y="3"/>
                    </a:cubicBezTo>
                    <a:close/>
                    <a:moveTo>
                      <a:pt x="9959" y="3"/>
                    </a:moveTo>
                    <a:lnTo>
                      <a:pt x="9959" y="3"/>
                    </a:lnTo>
                    <a:cubicBezTo>
                      <a:pt x="9960" y="3"/>
                      <a:pt x="9961" y="3"/>
                      <a:pt x="9961" y="5"/>
                    </a:cubicBezTo>
                    <a:cubicBezTo>
                      <a:pt x="9961" y="6"/>
                      <a:pt x="9960" y="7"/>
                      <a:pt x="9959" y="7"/>
                    </a:cubicBezTo>
                    <a:lnTo>
                      <a:pt x="9959" y="7"/>
                    </a:lnTo>
                    <a:cubicBezTo>
                      <a:pt x="9958" y="7"/>
                      <a:pt x="9957" y="6"/>
                      <a:pt x="9957" y="5"/>
                    </a:cubicBezTo>
                    <a:cubicBezTo>
                      <a:pt x="9957" y="3"/>
                      <a:pt x="9958" y="3"/>
                      <a:pt x="9959" y="3"/>
                    </a:cubicBezTo>
                    <a:close/>
                    <a:moveTo>
                      <a:pt x="9967" y="3"/>
                    </a:moveTo>
                    <a:lnTo>
                      <a:pt x="9967" y="3"/>
                    </a:lnTo>
                    <a:cubicBezTo>
                      <a:pt x="9968" y="3"/>
                      <a:pt x="9969" y="3"/>
                      <a:pt x="9969" y="5"/>
                    </a:cubicBezTo>
                    <a:cubicBezTo>
                      <a:pt x="9969" y="6"/>
                      <a:pt x="9968" y="7"/>
                      <a:pt x="9967" y="7"/>
                    </a:cubicBezTo>
                    <a:lnTo>
                      <a:pt x="9967" y="7"/>
                    </a:lnTo>
                    <a:cubicBezTo>
                      <a:pt x="9966" y="7"/>
                      <a:pt x="9965" y="6"/>
                      <a:pt x="9965" y="5"/>
                    </a:cubicBezTo>
                    <a:cubicBezTo>
                      <a:pt x="9965" y="3"/>
                      <a:pt x="9966" y="3"/>
                      <a:pt x="9967" y="3"/>
                    </a:cubicBezTo>
                    <a:close/>
                    <a:moveTo>
                      <a:pt x="9975" y="3"/>
                    </a:moveTo>
                    <a:lnTo>
                      <a:pt x="9975" y="3"/>
                    </a:lnTo>
                    <a:cubicBezTo>
                      <a:pt x="9976" y="3"/>
                      <a:pt x="9977" y="3"/>
                      <a:pt x="9977" y="5"/>
                    </a:cubicBezTo>
                    <a:cubicBezTo>
                      <a:pt x="9977" y="6"/>
                      <a:pt x="9976" y="7"/>
                      <a:pt x="9975" y="7"/>
                    </a:cubicBezTo>
                    <a:lnTo>
                      <a:pt x="9975" y="7"/>
                    </a:lnTo>
                    <a:cubicBezTo>
                      <a:pt x="9974" y="7"/>
                      <a:pt x="9973" y="6"/>
                      <a:pt x="9973" y="5"/>
                    </a:cubicBezTo>
                    <a:cubicBezTo>
                      <a:pt x="9973" y="3"/>
                      <a:pt x="9974" y="3"/>
                      <a:pt x="9975" y="3"/>
                    </a:cubicBezTo>
                    <a:close/>
                    <a:moveTo>
                      <a:pt x="9983" y="3"/>
                    </a:moveTo>
                    <a:lnTo>
                      <a:pt x="9983" y="3"/>
                    </a:lnTo>
                    <a:cubicBezTo>
                      <a:pt x="9984" y="3"/>
                      <a:pt x="9985" y="3"/>
                      <a:pt x="9985" y="5"/>
                    </a:cubicBezTo>
                    <a:cubicBezTo>
                      <a:pt x="9985" y="6"/>
                      <a:pt x="9984" y="7"/>
                      <a:pt x="9983" y="7"/>
                    </a:cubicBezTo>
                    <a:lnTo>
                      <a:pt x="9983" y="7"/>
                    </a:lnTo>
                    <a:cubicBezTo>
                      <a:pt x="9982" y="7"/>
                      <a:pt x="9981" y="6"/>
                      <a:pt x="9981" y="5"/>
                    </a:cubicBezTo>
                    <a:cubicBezTo>
                      <a:pt x="9981" y="3"/>
                      <a:pt x="9982" y="3"/>
                      <a:pt x="9983" y="3"/>
                    </a:cubicBezTo>
                    <a:close/>
                    <a:moveTo>
                      <a:pt x="9991" y="3"/>
                    </a:moveTo>
                    <a:lnTo>
                      <a:pt x="9991" y="3"/>
                    </a:lnTo>
                    <a:cubicBezTo>
                      <a:pt x="9992" y="3"/>
                      <a:pt x="9993" y="3"/>
                      <a:pt x="9993" y="5"/>
                    </a:cubicBezTo>
                    <a:cubicBezTo>
                      <a:pt x="9993" y="6"/>
                      <a:pt x="9992" y="7"/>
                      <a:pt x="9991" y="7"/>
                    </a:cubicBezTo>
                    <a:lnTo>
                      <a:pt x="9991" y="7"/>
                    </a:lnTo>
                    <a:cubicBezTo>
                      <a:pt x="9990" y="7"/>
                      <a:pt x="9989" y="6"/>
                      <a:pt x="9989" y="5"/>
                    </a:cubicBezTo>
                    <a:cubicBezTo>
                      <a:pt x="9989" y="3"/>
                      <a:pt x="9990" y="3"/>
                      <a:pt x="9991" y="3"/>
                    </a:cubicBezTo>
                    <a:close/>
                    <a:moveTo>
                      <a:pt x="9999" y="3"/>
                    </a:moveTo>
                    <a:lnTo>
                      <a:pt x="9999" y="3"/>
                    </a:lnTo>
                    <a:cubicBezTo>
                      <a:pt x="10000" y="3"/>
                      <a:pt x="10001" y="3"/>
                      <a:pt x="10001" y="5"/>
                    </a:cubicBezTo>
                    <a:cubicBezTo>
                      <a:pt x="10001" y="6"/>
                      <a:pt x="10000" y="7"/>
                      <a:pt x="9999" y="7"/>
                    </a:cubicBezTo>
                    <a:lnTo>
                      <a:pt x="9999" y="7"/>
                    </a:lnTo>
                    <a:cubicBezTo>
                      <a:pt x="9998" y="7"/>
                      <a:pt x="9997" y="6"/>
                      <a:pt x="9997" y="5"/>
                    </a:cubicBezTo>
                    <a:cubicBezTo>
                      <a:pt x="9997" y="3"/>
                      <a:pt x="9998" y="3"/>
                      <a:pt x="9999" y="3"/>
                    </a:cubicBezTo>
                    <a:close/>
                    <a:moveTo>
                      <a:pt x="10007" y="3"/>
                    </a:moveTo>
                    <a:lnTo>
                      <a:pt x="10007" y="3"/>
                    </a:lnTo>
                    <a:cubicBezTo>
                      <a:pt x="10008" y="3"/>
                      <a:pt x="10009" y="3"/>
                      <a:pt x="10009" y="5"/>
                    </a:cubicBezTo>
                    <a:cubicBezTo>
                      <a:pt x="10009" y="6"/>
                      <a:pt x="10008" y="7"/>
                      <a:pt x="10007" y="7"/>
                    </a:cubicBezTo>
                    <a:lnTo>
                      <a:pt x="10007" y="7"/>
                    </a:lnTo>
                    <a:cubicBezTo>
                      <a:pt x="10006" y="7"/>
                      <a:pt x="10005" y="6"/>
                      <a:pt x="10005" y="5"/>
                    </a:cubicBezTo>
                    <a:cubicBezTo>
                      <a:pt x="10005" y="3"/>
                      <a:pt x="10006" y="3"/>
                      <a:pt x="10007" y="3"/>
                    </a:cubicBezTo>
                    <a:close/>
                    <a:moveTo>
                      <a:pt x="10015" y="3"/>
                    </a:moveTo>
                    <a:lnTo>
                      <a:pt x="10015" y="3"/>
                    </a:lnTo>
                    <a:cubicBezTo>
                      <a:pt x="10016" y="3"/>
                      <a:pt x="10017" y="3"/>
                      <a:pt x="10017" y="5"/>
                    </a:cubicBezTo>
                    <a:cubicBezTo>
                      <a:pt x="10017" y="6"/>
                      <a:pt x="10016" y="7"/>
                      <a:pt x="10015" y="7"/>
                    </a:cubicBezTo>
                    <a:lnTo>
                      <a:pt x="10015" y="7"/>
                    </a:lnTo>
                    <a:cubicBezTo>
                      <a:pt x="10014" y="7"/>
                      <a:pt x="10013" y="6"/>
                      <a:pt x="10013" y="5"/>
                    </a:cubicBezTo>
                    <a:cubicBezTo>
                      <a:pt x="10013" y="3"/>
                      <a:pt x="10014" y="3"/>
                      <a:pt x="10015" y="3"/>
                    </a:cubicBezTo>
                    <a:close/>
                    <a:moveTo>
                      <a:pt x="10023" y="3"/>
                    </a:moveTo>
                    <a:lnTo>
                      <a:pt x="10023" y="3"/>
                    </a:lnTo>
                    <a:cubicBezTo>
                      <a:pt x="10024" y="3"/>
                      <a:pt x="10025" y="3"/>
                      <a:pt x="10025" y="5"/>
                    </a:cubicBezTo>
                    <a:cubicBezTo>
                      <a:pt x="10025" y="6"/>
                      <a:pt x="10024" y="7"/>
                      <a:pt x="10023" y="7"/>
                    </a:cubicBezTo>
                    <a:lnTo>
                      <a:pt x="10023" y="7"/>
                    </a:lnTo>
                    <a:cubicBezTo>
                      <a:pt x="10022" y="7"/>
                      <a:pt x="10021" y="6"/>
                      <a:pt x="10021" y="5"/>
                    </a:cubicBezTo>
                    <a:cubicBezTo>
                      <a:pt x="10021" y="3"/>
                      <a:pt x="10022" y="3"/>
                      <a:pt x="10023" y="3"/>
                    </a:cubicBezTo>
                    <a:close/>
                    <a:moveTo>
                      <a:pt x="10031" y="3"/>
                    </a:moveTo>
                    <a:lnTo>
                      <a:pt x="10031" y="3"/>
                    </a:lnTo>
                    <a:cubicBezTo>
                      <a:pt x="10032" y="3"/>
                      <a:pt x="10033" y="3"/>
                      <a:pt x="10033" y="5"/>
                    </a:cubicBezTo>
                    <a:cubicBezTo>
                      <a:pt x="10033" y="6"/>
                      <a:pt x="10032" y="7"/>
                      <a:pt x="10031" y="7"/>
                    </a:cubicBezTo>
                    <a:lnTo>
                      <a:pt x="10031" y="7"/>
                    </a:lnTo>
                    <a:cubicBezTo>
                      <a:pt x="10030" y="7"/>
                      <a:pt x="10029" y="6"/>
                      <a:pt x="10029" y="5"/>
                    </a:cubicBezTo>
                    <a:cubicBezTo>
                      <a:pt x="10029" y="3"/>
                      <a:pt x="10030" y="3"/>
                      <a:pt x="10031" y="3"/>
                    </a:cubicBezTo>
                    <a:close/>
                    <a:moveTo>
                      <a:pt x="10039" y="3"/>
                    </a:moveTo>
                    <a:lnTo>
                      <a:pt x="10039" y="3"/>
                    </a:lnTo>
                    <a:cubicBezTo>
                      <a:pt x="10040" y="3"/>
                      <a:pt x="10041" y="3"/>
                      <a:pt x="10041" y="5"/>
                    </a:cubicBezTo>
                    <a:cubicBezTo>
                      <a:pt x="10041" y="6"/>
                      <a:pt x="10040" y="7"/>
                      <a:pt x="10039" y="7"/>
                    </a:cubicBezTo>
                    <a:lnTo>
                      <a:pt x="10039" y="7"/>
                    </a:lnTo>
                    <a:cubicBezTo>
                      <a:pt x="10038" y="7"/>
                      <a:pt x="10037" y="6"/>
                      <a:pt x="10037" y="5"/>
                    </a:cubicBezTo>
                    <a:cubicBezTo>
                      <a:pt x="10037" y="3"/>
                      <a:pt x="10038" y="3"/>
                      <a:pt x="10039" y="3"/>
                    </a:cubicBezTo>
                    <a:close/>
                    <a:moveTo>
                      <a:pt x="10047" y="3"/>
                    </a:moveTo>
                    <a:lnTo>
                      <a:pt x="10047" y="3"/>
                    </a:lnTo>
                    <a:cubicBezTo>
                      <a:pt x="10048" y="3"/>
                      <a:pt x="10049" y="3"/>
                      <a:pt x="10049" y="5"/>
                    </a:cubicBezTo>
                    <a:cubicBezTo>
                      <a:pt x="10049" y="6"/>
                      <a:pt x="10048" y="7"/>
                      <a:pt x="10047" y="7"/>
                    </a:cubicBezTo>
                    <a:lnTo>
                      <a:pt x="10047" y="7"/>
                    </a:lnTo>
                    <a:cubicBezTo>
                      <a:pt x="10046" y="7"/>
                      <a:pt x="10045" y="6"/>
                      <a:pt x="10045" y="5"/>
                    </a:cubicBezTo>
                    <a:cubicBezTo>
                      <a:pt x="10045" y="3"/>
                      <a:pt x="10046" y="3"/>
                      <a:pt x="10047" y="3"/>
                    </a:cubicBezTo>
                    <a:close/>
                    <a:moveTo>
                      <a:pt x="10055" y="3"/>
                    </a:moveTo>
                    <a:lnTo>
                      <a:pt x="10055" y="3"/>
                    </a:lnTo>
                    <a:cubicBezTo>
                      <a:pt x="10056" y="3"/>
                      <a:pt x="10057" y="3"/>
                      <a:pt x="10057" y="5"/>
                    </a:cubicBezTo>
                    <a:cubicBezTo>
                      <a:pt x="10057" y="6"/>
                      <a:pt x="10056" y="7"/>
                      <a:pt x="10055" y="7"/>
                    </a:cubicBezTo>
                    <a:lnTo>
                      <a:pt x="10055" y="7"/>
                    </a:lnTo>
                    <a:cubicBezTo>
                      <a:pt x="10054" y="7"/>
                      <a:pt x="10053" y="6"/>
                      <a:pt x="10053" y="5"/>
                    </a:cubicBezTo>
                    <a:cubicBezTo>
                      <a:pt x="10053" y="3"/>
                      <a:pt x="10054" y="3"/>
                      <a:pt x="10055" y="3"/>
                    </a:cubicBezTo>
                    <a:close/>
                    <a:moveTo>
                      <a:pt x="10063" y="3"/>
                    </a:moveTo>
                    <a:lnTo>
                      <a:pt x="10063" y="3"/>
                    </a:lnTo>
                    <a:cubicBezTo>
                      <a:pt x="10064" y="3"/>
                      <a:pt x="10065" y="3"/>
                      <a:pt x="10065" y="5"/>
                    </a:cubicBezTo>
                    <a:cubicBezTo>
                      <a:pt x="10065" y="6"/>
                      <a:pt x="10064" y="7"/>
                      <a:pt x="10063" y="7"/>
                    </a:cubicBezTo>
                    <a:lnTo>
                      <a:pt x="10063" y="7"/>
                    </a:lnTo>
                    <a:cubicBezTo>
                      <a:pt x="10062" y="7"/>
                      <a:pt x="10061" y="6"/>
                      <a:pt x="10061" y="5"/>
                    </a:cubicBezTo>
                    <a:cubicBezTo>
                      <a:pt x="10061" y="3"/>
                      <a:pt x="10062" y="3"/>
                      <a:pt x="10063" y="3"/>
                    </a:cubicBezTo>
                    <a:close/>
                    <a:moveTo>
                      <a:pt x="10071" y="3"/>
                    </a:moveTo>
                    <a:lnTo>
                      <a:pt x="10071" y="3"/>
                    </a:lnTo>
                    <a:cubicBezTo>
                      <a:pt x="10072" y="3"/>
                      <a:pt x="10073" y="3"/>
                      <a:pt x="10073" y="5"/>
                    </a:cubicBezTo>
                    <a:cubicBezTo>
                      <a:pt x="10073" y="6"/>
                      <a:pt x="10072" y="7"/>
                      <a:pt x="10071" y="7"/>
                    </a:cubicBezTo>
                    <a:lnTo>
                      <a:pt x="10071" y="7"/>
                    </a:lnTo>
                    <a:cubicBezTo>
                      <a:pt x="10070" y="7"/>
                      <a:pt x="10069" y="6"/>
                      <a:pt x="10069" y="5"/>
                    </a:cubicBezTo>
                    <a:cubicBezTo>
                      <a:pt x="10069" y="3"/>
                      <a:pt x="10070" y="3"/>
                      <a:pt x="10071" y="3"/>
                    </a:cubicBezTo>
                    <a:close/>
                    <a:moveTo>
                      <a:pt x="10079" y="3"/>
                    </a:moveTo>
                    <a:lnTo>
                      <a:pt x="10079" y="3"/>
                    </a:lnTo>
                    <a:cubicBezTo>
                      <a:pt x="10080" y="3"/>
                      <a:pt x="10081" y="3"/>
                      <a:pt x="10081" y="5"/>
                    </a:cubicBezTo>
                    <a:cubicBezTo>
                      <a:pt x="10081" y="6"/>
                      <a:pt x="10080" y="7"/>
                      <a:pt x="10079" y="7"/>
                    </a:cubicBezTo>
                    <a:lnTo>
                      <a:pt x="10079" y="7"/>
                    </a:lnTo>
                    <a:cubicBezTo>
                      <a:pt x="10078" y="7"/>
                      <a:pt x="10077" y="6"/>
                      <a:pt x="10077" y="5"/>
                    </a:cubicBezTo>
                    <a:cubicBezTo>
                      <a:pt x="10077" y="3"/>
                      <a:pt x="10078" y="3"/>
                      <a:pt x="10079" y="3"/>
                    </a:cubicBezTo>
                    <a:close/>
                    <a:moveTo>
                      <a:pt x="10087" y="3"/>
                    </a:moveTo>
                    <a:lnTo>
                      <a:pt x="10087" y="3"/>
                    </a:lnTo>
                    <a:cubicBezTo>
                      <a:pt x="10088" y="3"/>
                      <a:pt x="10089" y="3"/>
                      <a:pt x="10089" y="5"/>
                    </a:cubicBezTo>
                    <a:cubicBezTo>
                      <a:pt x="10089" y="6"/>
                      <a:pt x="10088" y="7"/>
                      <a:pt x="10087" y="7"/>
                    </a:cubicBezTo>
                    <a:lnTo>
                      <a:pt x="10087" y="7"/>
                    </a:lnTo>
                    <a:cubicBezTo>
                      <a:pt x="10086" y="7"/>
                      <a:pt x="10085" y="6"/>
                      <a:pt x="10085" y="5"/>
                    </a:cubicBezTo>
                    <a:cubicBezTo>
                      <a:pt x="10085" y="3"/>
                      <a:pt x="10086" y="3"/>
                      <a:pt x="10087" y="3"/>
                    </a:cubicBezTo>
                    <a:close/>
                    <a:moveTo>
                      <a:pt x="10095" y="3"/>
                    </a:moveTo>
                    <a:lnTo>
                      <a:pt x="10095" y="3"/>
                    </a:lnTo>
                    <a:cubicBezTo>
                      <a:pt x="10096" y="3"/>
                      <a:pt x="10097" y="3"/>
                      <a:pt x="10097" y="5"/>
                    </a:cubicBezTo>
                    <a:cubicBezTo>
                      <a:pt x="10097" y="6"/>
                      <a:pt x="10096" y="7"/>
                      <a:pt x="10095" y="7"/>
                    </a:cubicBezTo>
                    <a:lnTo>
                      <a:pt x="10095" y="7"/>
                    </a:lnTo>
                    <a:cubicBezTo>
                      <a:pt x="10094" y="7"/>
                      <a:pt x="10093" y="6"/>
                      <a:pt x="10093" y="5"/>
                    </a:cubicBezTo>
                    <a:cubicBezTo>
                      <a:pt x="10093" y="3"/>
                      <a:pt x="10094" y="3"/>
                      <a:pt x="10095" y="3"/>
                    </a:cubicBezTo>
                    <a:close/>
                    <a:moveTo>
                      <a:pt x="10103" y="3"/>
                    </a:moveTo>
                    <a:lnTo>
                      <a:pt x="10103" y="3"/>
                    </a:lnTo>
                    <a:cubicBezTo>
                      <a:pt x="10104" y="3"/>
                      <a:pt x="10105" y="3"/>
                      <a:pt x="10105" y="5"/>
                    </a:cubicBezTo>
                    <a:cubicBezTo>
                      <a:pt x="10105" y="6"/>
                      <a:pt x="10104" y="7"/>
                      <a:pt x="10103" y="7"/>
                    </a:cubicBezTo>
                    <a:lnTo>
                      <a:pt x="10103" y="7"/>
                    </a:lnTo>
                    <a:cubicBezTo>
                      <a:pt x="10102" y="7"/>
                      <a:pt x="10101" y="6"/>
                      <a:pt x="10101" y="5"/>
                    </a:cubicBezTo>
                    <a:cubicBezTo>
                      <a:pt x="10101" y="3"/>
                      <a:pt x="10102" y="3"/>
                      <a:pt x="10103" y="3"/>
                    </a:cubicBezTo>
                    <a:close/>
                    <a:moveTo>
                      <a:pt x="10111" y="3"/>
                    </a:moveTo>
                    <a:lnTo>
                      <a:pt x="10111" y="3"/>
                    </a:lnTo>
                    <a:cubicBezTo>
                      <a:pt x="10112" y="3"/>
                      <a:pt x="10113" y="3"/>
                      <a:pt x="10113" y="5"/>
                    </a:cubicBezTo>
                    <a:cubicBezTo>
                      <a:pt x="10113" y="6"/>
                      <a:pt x="10112" y="7"/>
                      <a:pt x="10111" y="7"/>
                    </a:cubicBezTo>
                    <a:lnTo>
                      <a:pt x="10111" y="7"/>
                    </a:lnTo>
                    <a:cubicBezTo>
                      <a:pt x="10110" y="7"/>
                      <a:pt x="10109" y="6"/>
                      <a:pt x="10109" y="5"/>
                    </a:cubicBezTo>
                    <a:cubicBezTo>
                      <a:pt x="10109" y="3"/>
                      <a:pt x="10110" y="3"/>
                      <a:pt x="10111" y="3"/>
                    </a:cubicBezTo>
                    <a:close/>
                    <a:moveTo>
                      <a:pt x="10119" y="3"/>
                    </a:moveTo>
                    <a:lnTo>
                      <a:pt x="10119" y="3"/>
                    </a:lnTo>
                    <a:cubicBezTo>
                      <a:pt x="10120" y="3"/>
                      <a:pt x="10121" y="3"/>
                      <a:pt x="10121" y="5"/>
                    </a:cubicBezTo>
                    <a:cubicBezTo>
                      <a:pt x="10121" y="6"/>
                      <a:pt x="10120" y="7"/>
                      <a:pt x="10119" y="7"/>
                    </a:cubicBezTo>
                    <a:lnTo>
                      <a:pt x="10119" y="7"/>
                    </a:lnTo>
                    <a:cubicBezTo>
                      <a:pt x="10118" y="7"/>
                      <a:pt x="10117" y="6"/>
                      <a:pt x="10117" y="5"/>
                    </a:cubicBezTo>
                    <a:cubicBezTo>
                      <a:pt x="10117" y="3"/>
                      <a:pt x="10118" y="3"/>
                      <a:pt x="10119" y="3"/>
                    </a:cubicBezTo>
                    <a:close/>
                    <a:moveTo>
                      <a:pt x="10127" y="3"/>
                    </a:moveTo>
                    <a:lnTo>
                      <a:pt x="10127" y="3"/>
                    </a:lnTo>
                    <a:cubicBezTo>
                      <a:pt x="10128" y="3"/>
                      <a:pt x="10129" y="3"/>
                      <a:pt x="10129" y="5"/>
                    </a:cubicBezTo>
                    <a:cubicBezTo>
                      <a:pt x="10129" y="6"/>
                      <a:pt x="10128" y="7"/>
                      <a:pt x="10127" y="7"/>
                    </a:cubicBezTo>
                    <a:lnTo>
                      <a:pt x="10127" y="7"/>
                    </a:lnTo>
                    <a:cubicBezTo>
                      <a:pt x="10126" y="7"/>
                      <a:pt x="10125" y="6"/>
                      <a:pt x="10125" y="5"/>
                    </a:cubicBezTo>
                    <a:cubicBezTo>
                      <a:pt x="10125" y="3"/>
                      <a:pt x="10126" y="3"/>
                      <a:pt x="10127" y="3"/>
                    </a:cubicBezTo>
                    <a:close/>
                    <a:moveTo>
                      <a:pt x="10135" y="3"/>
                    </a:moveTo>
                    <a:lnTo>
                      <a:pt x="10135" y="3"/>
                    </a:lnTo>
                    <a:cubicBezTo>
                      <a:pt x="10136" y="3"/>
                      <a:pt x="10137" y="3"/>
                      <a:pt x="10137" y="5"/>
                    </a:cubicBezTo>
                    <a:cubicBezTo>
                      <a:pt x="10137" y="6"/>
                      <a:pt x="10136" y="7"/>
                      <a:pt x="10135" y="7"/>
                    </a:cubicBezTo>
                    <a:lnTo>
                      <a:pt x="10135" y="7"/>
                    </a:lnTo>
                    <a:cubicBezTo>
                      <a:pt x="10134" y="7"/>
                      <a:pt x="10133" y="6"/>
                      <a:pt x="10133" y="5"/>
                    </a:cubicBezTo>
                    <a:cubicBezTo>
                      <a:pt x="10133" y="3"/>
                      <a:pt x="10134" y="3"/>
                      <a:pt x="10135" y="3"/>
                    </a:cubicBezTo>
                    <a:close/>
                    <a:moveTo>
                      <a:pt x="10143" y="3"/>
                    </a:moveTo>
                    <a:lnTo>
                      <a:pt x="10143" y="3"/>
                    </a:lnTo>
                    <a:cubicBezTo>
                      <a:pt x="10144" y="3"/>
                      <a:pt x="10145" y="3"/>
                      <a:pt x="10145" y="5"/>
                    </a:cubicBezTo>
                    <a:cubicBezTo>
                      <a:pt x="10145" y="6"/>
                      <a:pt x="10144" y="7"/>
                      <a:pt x="10143" y="7"/>
                    </a:cubicBezTo>
                    <a:lnTo>
                      <a:pt x="10143" y="7"/>
                    </a:lnTo>
                    <a:cubicBezTo>
                      <a:pt x="10142" y="7"/>
                      <a:pt x="10141" y="6"/>
                      <a:pt x="10141" y="5"/>
                    </a:cubicBezTo>
                    <a:cubicBezTo>
                      <a:pt x="10141" y="3"/>
                      <a:pt x="10142" y="3"/>
                      <a:pt x="10143" y="3"/>
                    </a:cubicBezTo>
                    <a:close/>
                    <a:moveTo>
                      <a:pt x="10151" y="3"/>
                    </a:moveTo>
                    <a:lnTo>
                      <a:pt x="10151" y="3"/>
                    </a:lnTo>
                    <a:cubicBezTo>
                      <a:pt x="10152" y="3"/>
                      <a:pt x="10153" y="3"/>
                      <a:pt x="10153" y="5"/>
                    </a:cubicBezTo>
                    <a:cubicBezTo>
                      <a:pt x="10153" y="6"/>
                      <a:pt x="10152" y="7"/>
                      <a:pt x="10151" y="7"/>
                    </a:cubicBezTo>
                    <a:lnTo>
                      <a:pt x="10151" y="7"/>
                    </a:lnTo>
                    <a:cubicBezTo>
                      <a:pt x="10150" y="7"/>
                      <a:pt x="10149" y="6"/>
                      <a:pt x="10149" y="5"/>
                    </a:cubicBezTo>
                    <a:cubicBezTo>
                      <a:pt x="10149" y="3"/>
                      <a:pt x="10150" y="3"/>
                      <a:pt x="10151" y="3"/>
                    </a:cubicBezTo>
                    <a:close/>
                    <a:moveTo>
                      <a:pt x="10159" y="3"/>
                    </a:moveTo>
                    <a:lnTo>
                      <a:pt x="10159" y="3"/>
                    </a:lnTo>
                    <a:cubicBezTo>
                      <a:pt x="10160" y="3"/>
                      <a:pt x="10161" y="3"/>
                      <a:pt x="10161" y="5"/>
                    </a:cubicBezTo>
                    <a:cubicBezTo>
                      <a:pt x="10161" y="6"/>
                      <a:pt x="10160" y="7"/>
                      <a:pt x="10159" y="7"/>
                    </a:cubicBezTo>
                    <a:lnTo>
                      <a:pt x="10159" y="7"/>
                    </a:lnTo>
                    <a:cubicBezTo>
                      <a:pt x="10158" y="7"/>
                      <a:pt x="10157" y="6"/>
                      <a:pt x="10157" y="5"/>
                    </a:cubicBezTo>
                    <a:cubicBezTo>
                      <a:pt x="10157" y="3"/>
                      <a:pt x="10158" y="3"/>
                      <a:pt x="10159" y="3"/>
                    </a:cubicBezTo>
                    <a:close/>
                    <a:moveTo>
                      <a:pt x="10167" y="3"/>
                    </a:moveTo>
                    <a:lnTo>
                      <a:pt x="10167" y="3"/>
                    </a:lnTo>
                    <a:cubicBezTo>
                      <a:pt x="10168" y="3"/>
                      <a:pt x="10169" y="3"/>
                      <a:pt x="10169" y="5"/>
                    </a:cubicBezTo>
                    <a:cubicBezTo>
                      <a:pt x="10169" y="6"/>
                      <a:pt x="10168" y="7"/>
                      <a:pt x="10167" y="7"/>
                    </a:cubicBezTo>
                    <a:lnTo>
                      <a:pt x="10167" y="7"/>
                    </a:lnTo>
                    <a:cubicBezTo>
                      <a:pt x="10166" y="7"/>
                      <a:pt x="10165" y="6"/>
                      <a:pt x="10165" y="5"/>
                    </a:cubicBezTo>
                    <a:cubicBezTo>
                      <a:pt x="10165" y="3"/>
                      <a:pt x="10166" y="3"/>
                      <a:pt x="10167" y="3"/>
                    </a:cubicBezTo>
                    <a:close/>
                    <a:moveTo>
                      <a:pt x="10175" y="3"/>
                    </a:moveTo>
                    <a:lnTo>
                      <a:pt x="10175" y="3"/>
                    </a:lnTo>
                    <a:cubicBezTo>
                      <a:pt x="10176" y="3"/>
                      <a:pt x="10177" y="3"/>
                      <a:pt x="10177" y="5"/>
                    </a:cubicBezTo>
                    <a:cubicBezTo>
                      <a:pt x="10177" y="6"/>
                      <a:pt x="10176" y="7"/>
                      <a:pt x="10175" y="7"/>
                    </a:cubicBezTo>
                    <a:lnTo>
                      <a:pt x="10175" y="7"/>
                    </a:lnTo>
                    <a:cubicBezTo>
                      <a:pt x="10174" y="7"/>
                      <a:pt x="10173" y="6"/>
                      <a:pt x="10173" y="5"/>
                    </a:cubicBezTo>
                    <a:cubicBezTo>
                      <a:pt x="10173" y="3"/>
                      <a:pt x="10174" y="3"/>
                      <a:pt x="10175" y="3"/>
                    </a:cubicBezTo>
                    <a:close/>
                    <a:moveTo>
                      <a:pt x="10183" y="3"/>
                    </a:moveTo>
                    <a:lnTo>
                      <a:pt x="10183" y="3"/>
                    </a:lnTo>
                    <a:cubicBezTo>
                      <a:pt x="10184" y="3"/>
                      <a:pt x="10185" y="3"/>
                      <a:pt x="10185" y="5"/>
                    </a:cubicBezTo>
                    <a:cubicBezTo>
                      <a:pt x="10185" y="6"/>
                      <a:pt x="10184" y="7"/>
                      <a:pt x="10183" y="7"/>
                    </a:cubicBezTo>
                    <a:lnTo>
                      <a:pt x="10183" y="7"/>
                    </a:lnTo>
                    <a:cubicBezTo>
                      <a:pt x="10182" y="7"/>
                      <a:pt x="10181" y="6"/>
                      <a:pt x="10181" y="5"/>
                    </a:cubicBezTo>
                    <a:cubicBezTo>
                      <a:pt x="10181" y="3"/>
                      <a:pt x="10182" y="3"/>
                      <a:pt x="10183" y="3"/>
                    </a:cubicBezTo>
                    <a:close/>
                    <a:moveTo>
                      <a:pt x="10191" y="3"/>
                    </a:moveTo>
                    <a:lnTo>
                      <a:pt x="10191" y="3"/>
                    </a:lnTo>
                    <a:cubicBezTo>
                      <a:pt x="10192" y="3"/>
                      <a:pt x="10193" y="3"/>
                      <a:pt x="10193" y="5"/>
                    </a:cubicBezTo>
                    <a:cubicBezTo>
                      <a:pt x="10193" y="6"/>
                      <a:pt x="10192" y="7"/>
                      <a:pt x="10191" y="7"/>
                    </a:cubicBezTo>
                    <a:lnTo>
                      <a:pt x="10191" y="7"/>
                    </a:lnTo>
                    <a:cubicBezTo>
                      <a:pt x="10190" y="7"/>
                      <a:pt x="10189" y="6"/>
                      <a:pt x="10189" y="5"/>
                    </a:cubicBezTo>
                    <a:cubicBezTo>
                      <a:pt x="10189" y="3"/>
                      <a:pt x="10190" y="3"/>
                      <a:pt x="10191" y="3"/>
                    </a:cubicBezTo>
                    <a:close/>
                    <a:moveTo>
                      <a:pt x="10199" y="3"/>
                    </a:moveTo>
                    <a:lnTo>
                      <a:pt x="10199" y="3"/>
                    </a:lnTo>
                    <a:cubicBezTo>
                      <a:pt x="10200" y="3"/>
                      <a:pt x="10201" y="3"/>
                      <a:pt x="10201" y="5"/>
                    </a:cubicBezTo>
                    <a:cubicBezTo>
                      <a:pt x="10201" y="6"/>
                      <a:pt x="10200" y="7"/>
                      <a:pt x="10199" y="7"/>
                    </a:cubicBezTo>
                    <a:lnTo>
                      <a:pt x="10199" y="7"/>
                    </a:lnTo>
                    <a:cubicBezTo>
                      <a:pt x="10198" y="7"/>
                      <a:pt x="10197" y="6"/>
                      <a:pt x="10197" y="5"/>
                    </a:cubicBezTo>
                    <a:cubicBezTo>
                      <a:pt x="10197" y="3"/>
                      <a:pt x="10198" y="3"/>
                      <a:pt x="10199" y="3"/>
                    </a:cubicBezTo>
                    <a:close/>
                    <a:moveTo>
                      <a:pt x="10207" y="3"/>
                    </a:moveTo>
                    <a:lnTo>
                      <a:pt x="10207" y="3"/>
                    </a:lnTo>
                    <a:cubicBezTo>
                      <a:pt x="10208" y="3"/>
                      <a:pt x="10209" y="4"/>
                      <a:pt x="10209" y="5"/>
                    </a:cubicBezTo>
                    <a:cubicBezTo>
                      <a:pt x="10209" y="6"/>
                      <a:pt x="10208" y="7"/>
                      <a:pt x="10207" y="7"/>
                    </a:cubicBezTo>
                    <a:lnTo>
                      <a:pt x="10207" y="7"/>
                    </a:lnTo>
                    <a:cubicBezTo>
                      <a:pt x="10206" y="7"/>
                      <a:pt x="10205" y="6"/>
                      <a:pt x="10205" y="5"/>
                    </a:cubicBezTo>
                    <a:cubicBezTo>
                      <a:pt x="10205" y="4"/>
                      <a:pt x="10206" y="3"/>
                      <a:pt x="10207" y="3"/>
                    </a:cubicBezTo>
                    <a:close/>
                    <a:moveTo>
                      <a:pt x="10215" y="3"/>
                    </a:moveTo>
                    <a:lnTo>
                      <a:pt x="10215" y="3"/>
                    </a:lnTo>
                    <a:cubicBezTo>
                      <a:pt x="10216" y="3"/>
                      <a:pt x="10217" y="4"/>
                      <a:pt x="10217" y="5"/>
                    </a:cubicBezTo>
                    <a:cubicBezTo>
                      <a:pt x="10217" y="6"/>
                      <a:pt x="10216" y="7"/>
                      <a:pt x="10215" y="7"/>
                    </a:cubicBezTo>
                    <a:lnTo>
                      <a:pt x="10215" y="7"/>
                    </a:lnTo>
                    <a:cubicBezTo>
                      <a:pt x="10214" y="7"/>
                      <a:pt x="10213" y="6"/>
                      <a:pt x="10213" y="5"/>
                    </a:cubicBezTo>
                    <a:cubicBezTo>
                      <a:pt x="10213" y="4"/>
                      <a:pt x="10214" y="3"/>
                      <a:pt x="10215" y="3"/>
                    </a:cubicBezTo>
                    <a:close/>
                    <a:moveTo>
                      <a:pt x="10223" y="3"/>
                    </a:moveTo>
                    <a:lnTo>
                      <a:pt x="10223" y="3"/>
                    </a:lnTo>
                    <a:cubicBezTo>
                      <a:pt x="10224" y="3"/>
                      <a:pt x="10225" y="4"/>
                      <a:pt x="10225" y="5"/>
                    </a:cubicBezTo>
                    <a:cubicBezTo>
                      <a:pt x="10225" y="6"/>
                      <a:pt x="10224" y="7"/>
                      <a:pt x="10223" y="7"/>
                    </a:cubicBezTo>
                    <a:lnTo>
                      <a:pt x="10223" y="7"/>
                    </a:lnTo>
                    <a:cubicBezTo>
                      <a:pt x="10222" y="7"/>
                      <a:pt x="10221" y="6"/>
                      <a:pt x="10221" y="5"/>
                    </a:cubicBezTo>
                    <a:cubicBezTo>
                      <a:pt x="10221" y="4"/>
                      <a:pt x="10222" y="3"/>
                      <a:pt x="10223" y="3"/>
                    </a:cubicBezTo>
                    <a:close/>
                    <a:moveTo>
                      <a:pt x="10231" y="3"/>
                    </a:moveTo>
                    <a:lnTo>
                      <a:pt x="10231" y="3"/>
                    </a:lnTo>
                    <a:cubicBezTo>
                      <a:pt x="10232" y="3"/>
                      <a:pt x="10233" y="4"/>
                      <a:pt x="10233" y="5"/>
                    </a:cubicBezTo>
                    <a:cubicBezTo>
                      <a:pt x="10233" y="6"/>
                      <a:pt x="10232" y="7"/>
                      <a:pt x="10231" y="7"/>
                    </a:cubicBezTo>
                    <a:lnTo>
                      <a:pt x="10231" y="7"/>
                    </a:lnTo>
                    <a:cubicBezTo>
                      <a:pt x="10230" y="7"/>
                      <a:pt x="10229" y="6"/>
                      <a:pt x="10229" y="5"/>
                    </a:cubicBezTo>
                    <a:cubicBezTo>
                      <a:pt x="10229" y="4"/>
                      <a:pt x="10230" y="3"/>
                      <a:pt x="10231" y="3"/>
                    </a:cubicBezTo>
                    <a:close/>
                    <a:moveTo>
                      <a:pt x="10239" y="3"/>
                    </a:moveTo>
                    <a:lnTo>
                      <a:pt x="10239" y="3"/>
                    </a:lnTo>
                    <a:cubicBezTo>
                      <a:pt x="10240" y="3"/>
                      <a:pt x="10241" y="4"/>
                      <a:pt x="10241" y="5"/>
                    </a:cubicBezTo>
                    <a:cubicBezTo>
                      <a:pt x="10241" y="6"/>
                      <a:pt x="10240" y="7"/>
                      <a:pt x="10239" y="7"/>
                    </a:cubicBezTo>
                    <a:lnTo>
                      <a:pt x="10239" y="7"/>
                    </a:lnTo>
                    <a:cubicBezTo>
                      <a:pt x="10238" y="7"/>
                      <a:pt x="10237" y="6"/>
                      <a:pt x="10237" y="5"/>
                    </a:cubicBezTo>
                    <a:cubicBezTo>
                      <a:pt x="10237" y="4"/>
                      <a:pt x="10238" y="3"/>
                      <a:pt x="10239" y="3"/>
                    </a:cubicBezTo>
                    <a:close/>
                    <a:moveTo>
                      <a:pt x="10247" y="3"/>
                    </a:moveTo>
                    <a:lnTo>
                      <a:pt x="10247" y="3"/>
                    </a:lnTo>
                    <a:cubicBezTo>
                      <a:pt x="10248" y="3"/>
                      <a:pt x="10249" y="4"/>
                      <a:pt x="10249" y="5"/>
                    </a:cubicBezTo>
                    <a:cubicBezTo>
                      <a:pt x="10249" y="6"/>
                      <a:pt x="10248" y="7"/>
                      <a:pt x="10247" y="7"/>
                    </a:cubicBezTo>
                    <a:lnTo>
                      <a:pt x="10247" y="7"/>
                    </a:lnTo>
                    <a:cubicBezTo>
                      <a:pt x="10246" y="7"/>
                      <a:pt x="10245" y="6"/>
                      <a:pt x="10245" y="5"/>
                    </a:cubicBezTo>
                    <a:cubicBezTo>
                      <a:pt x="10245" y="4"/>
                      <a:pt x="10246" y="3"/>
                      <a:pt x="10247" y="3"/>
                    </a:cubicBezTo>
                    <a:close/>
                    <a:moveTo>
                      <a:pt x="10255" y="3"/>
                    </a:moveTo>
                    <a:lnTo>
                      <a:pt x="10255" y="3"/>
                    </a:lnTo>
                    <a:cubicBezTo>
                      <a:pt x="10256" y="3"/>
                      <a:pt x="10257" y="4"/>
                      <a:pt x="10257" y="5"/>
                    </a:cubicBezTo>
                    <a:cubicBezTo>
                      <a:pt x="10257" y="6"/>
                      <a:pt x="10256" y="7"/>
                      <a:pt x="10255" y="7"/>
                    </a:cubicBezTo>
                    <a:lnTo>
                      <a:pt x="10255" y="7"/>
                    </a:lnTo>
                    <a:cubicBezTo>
                      <a:pt x="10254" y="7"/>
                      <a:pt x="10253" y="6"/>
                      <a:pt x="10253" y="5"/>
                    </a:cubicBezTo>
                    <a:cubicBezTo>
                      <a:pt x="10253" y="4"/>
                      <a:pt x="10254" y="3"/>
                      <a:pt x="10255" y="3"/>
                    </a:cubicBezTo>
                    <a:close/>
                    <a:moveTo>
                      <a:pt x="10263" y="3"/>
                    </a:moveTo>
                    <a:lnTo>
                      <a:pt x="10263" y="3"/>
                    </a:lnTo>
                    <a:cubicBezTo>
                      <a:pt x="10264" y="3"/>
                      <a:pt x="10265" y="4"/>
                      <a:pt x="10265" y="5"/>
                    </a:cubicBezTo>
                    <a:cubicBezTo>
                      <a:pt x="10265" y="6"/>
                      <a:pt x="10264" y="7"/>
                      <a:pt x="10263" y="7"/>
                    </a:cubicBezTo>
                    <a:lnTo>
                      <a:pt x="10263" y="7"/>
                    </a:lnTo>
                    <a:cubicBezTo>
                      <a:pt x="10262" y="7"/>
                      <a:pt x="10261" y="6"/>
                      <a:pt x="10261" y="5"/>
                    </a:cubicBezTo>
                    <a:cubicBezTo>
                      <a:pt x="10261" y="4"/>
                      <a:pt x="10262" y="3"/>
                      <a:pt x="10263" y="3"/>
                    </a:cubicBezTo>
                    <a:close/>
                    <a:moveTo>
                      <a:pt x="10271" y="3"/>
                    </a:moveTo>
                    <a:lnTo>
                      <a:pt x="10271" y="3"/>
                    </a:lnTo>
                    <a:cubicBezTo>
                      <a:pt x="10272" y="3"/>
                      <a:pt x="10273" y="4"/>
                      <a:pt x="10273" y="5"/>
                    </a:cubicBezTo>
                    <a:cubicBezTo>
                      <a:pt x="10273" y="6"/>
                      <a:pt x="10272" y="7"/>
                      <a:pt x="10271" y="7"/>
                    </a:cubicBezTo>
                    <a:lnTo>
                      <a:pt x="10271" y="7"/>
                    </a:lnTo>
                    <a:cubicBezTo>
                      <a:pt x="10270" y="7"/>
                      <a:pt x="10269" y="6"/>
                      <a:pt x="10269" y="5"/>
                    </a:cubicBezTo>
                    <a:cubicBezTo>
                      <a:pt x="10269" y="4"/>
                      <a:pt x="10270" y="3"/>
                      <a:pt x="10271" y="3"/>
                    </a:cubicBezTo>
                    <a:close/>
                    <a:moveTo>
                      <a:pt x="10279" y="3"/>
                    </a:moveTo>
                    <a:lnTo>
                      <a:pt x="10279" y="3"/>
                    </a:lnTo>
                    <a:cubicBezTo>
                      <a:pt x="10280" y="3"/>
                      <a:pt x="10281" y="4"/>
                      <a:pt x="10281" y="5"/>
                    </a:cubicBezTo>
                    <a:cubicBezTo>
                      <a:pt x="10281" y="6"/>
                      <a:pt x="10280" y="7"/>
                      <a:pt x="10279" y="7"/>
                    </a:cubicBezTo>
                    <a:lnTo>
                      <a:pt x="10279" y="7"/>
                    </a:lnTo>
                    <a:cubicBezTo>
                      <a:pt x="10278" y="7"/>
                      <a:pt x="10277" y="6"/>
                      <a:pt x="10277" y="5"/>
                    </a:cubicBezTo>
                    <a:cubicBezTo>
                      <a:pt x="10277" y="4"/>
                      <a:pt x="10278" y="3"/>
                      <a:pt x="10279" y="3"/>
                    </a:cubicBezTo>
                    <a:close/>
                    <a:moveTo>
                      <a:pt x="10287" y="3"/>
                    </a:moveTo>
                    <a:lnTo>
                      <a:pt x="10287" y="3"/>
                    </a:lnTo>
                    <a:cubicBezTo>
                      <a:pt x="10288" y="3"/>
                      <a:pt x="10289" y="4"/>
                      <a:pt x="10289" y="5"/>
                    </a:cubicBezTo>
                    <a:cubicBezTo>
                      <a:pt x="10289" y="6"/>
                      <a:pt x="10288" y="7"/>
                      <a:pt x="10287" y="7"/>
                    </a:cubicBezTo>
                    <a:lnTo>
                      <a:pt x="10287" y="7"/>
                    </a:lnTo>
                    <a:cubicBezTo>
                      <a:pt x="10286" y="7"/>
                      <a:pt x="10285" y="6"/>
                      <a:pt x="10285" y="5"/>
                    </a:cubicBezTo>
                    <a:cubicBezTo>
                      <a:pt x="10285" y="4"/>
                      <a:pt x="10286" y="3"/>
                      <a:pt x="10287" y="3"/>
                    </a:cubicBezTo>
                    <a:close/>
                    <a:moveTo>
                      <a:pt x="10295" y="3"/>
                    </a:moveTo>
                    <a:lnTo>
                      <a:pt x="10295" y="3"/>
                    </a:lnTo>
                    <a:cubicBezTo>
                      <a:pt x="10296" y="3"/>
                      <a:pt x="10297" y="4"/>
                      <a:pt x="10297" y="5"/>
                    </a:cubicBezTo>
                    <a:cubicBezTo>
                      <a:pt x="10297" y="6"/>
                      <a:pt x="10296" y="7"/>
                      <a:pt x="10295" y="7"/>
                    </a:cubicBezTo>
                    <a:lnTo>
                      <a:pt x="10295" y="7"/>
                    </a:lnTo>
                    <a:cubicBezTo>
                      <a:pt x="10294" y="7"/>
                      <a:pt x="10293" y="6"/>
                      <a:pt x="10293" y="5"/>
                    </a:cubicBezTo>
                    <a:cubicBezTo>
                      <a:pt x="10293" y="4"/>
                      <a:pt x="10294" y="3"/>
                      <a:pt x="10295" y="3"/>
                    </a:cubicBezTo>
                    <a:close/>
                    <a:moveTo>
                      <a:pt x="10303" y="3"/>
                    </a:moveTo>
                    <a:lnTo>
                      <a:pt x="10303" y="3"/>
                    </a:lnTo>
                    <a:cubicBezTo>
                      <a:pt x="10304" y="3"/>
                      <a:pt x="10305" y="4"/>
                      <a:pt x="10305" y="5"/>
                    </a:cubicBezTo>
                    <a:cubicBezTo>
                      <a:pt x="10305" y="6"/>
                      <a:pt x="10304" y="7"/>
                      <a:pt x="10303" y="7"/>
                    </a:cubicBezTo>
                    <a:lnTo>
                      <a:pt x="10303" y="7"/>
                    </a:lnTo>
                    <a:cubicBezTo>
                      <a:pt x="10302" y="7"/>
                      <a:pt x="10301" y="6"/>
                      <a:pt x="10301" y="5"/>
                    </a:cubicBezTo>
                    <a:cubicBezTo>
                      <a:pt x="10301" y="4"/>
                      <a:pt x="10302" y="3"/>
                      <a:pt x="10303" y="3"/>
                    </a:cubicBezTo>
                    <a:close/>
                    <a:moveTo>
                      <a:pt x="10311" y="3"/>
                    </a:moveTo>
                    <a:lnTo>
                      <a:pt x="10311" y="3"/>
                    </a:lnTo>
                    <a:cubicBezTo>
                      <a:pt x="10312" y="3"/>
                      <a:pt x="10313" y="4"/>
                      <a:pt x="10313" y="5"/>
                    </a:cubicBezTo>
                    <a:cubicBezTo>
                      <a:pt x="10313" y="6"/>
                      <a:pt x="10312" y="7"/>
                      <a:pt x="10311" y="7"/>
                    </a:cubicBezTo>
                    <a:lnTo>
                      <a:pt x="10311" y="7"/>
                    </a:lnTo>
                    <a:cubicBezTo>
                      <a:pt x="10310" y="7"/>
                      <a:pt x="10309" y="6"/>
                      <a:pt x="10309" y="5"/>
                    </a:cubicBezTo>
                    <a:cubicBezTo>
                      <a:pt x="10309" y="4"/>
                      <a:pt x="10310" y="3"/>
                      <a:pt x="10311" y="3"/>
                    </a:cubicBezTo>
                    <a:close/>
                    <a:moveTo>
                      <a:pt x="10319" y="3"/>
                    </a:moveTo>
                    <a:lnTo>
                      <a:pt x="10319" y="3"/>
                    </a:lnTo>
                    <a:cubicBezTo>
                      <a:pt x="10320" y="3"/>
                      <a:pt x="10321" y="4"/>
                      <a:pt x="10321" y="5"/>
                    </a:cubicBezTo>
                    <a:cubicBezTo>
                      <a:pt x="10321" y="6"/>
                      <a:pt x="10320" y="7"/>
                      <a:pt x="10319" y="7"/>
                    </a:cubicBezTo>
                    <a:lnTo>
                      <a:pt x="10319" y="7"/>
                    </a:lnTo>
                    <a:cubicBezTo>
                      <a:pt x="10318" y="7"/>
                      <a:pt x="10317" y="6"/>
                      <a:pt x="10317" y="5"/>
                    </a:cubicBezTo>
                    <a:cubicBezTo>
                      <a:pt x="10317" y="4"/>
                      <a:pt x="10318" y="3"/>
                      <a:pt x="10319" y="3"/>
                    </a:cubicBezTo>
                    <a:close/>
                    <a:moveTo>
                      <a:pt x="10327" y="3"/>
                    </a:moveTo>
                    <a:lnTo>
                      <a:pt x="10327" y="3"/>
                    </a:lnTo>
                    <a:cubicBezTo>
                      <a:pt x="10328" y="3"/>
                      <a:pt x="10329" y="4"/>
                      <a:pt x="10329" y="5"/>
                    </a:cubicBezTo>
                    <a:cubicBezTo>
                      <a:pt x="10329" y="6"/>
                      <a:pt x="10328" y="7"/>
                      <a:pt x="10327" y="7"/>
                    </a:cubicBezTo>
                    <a:lnTo>
                      <a:pt x="10327" y="7"/>
                    </a:lnTo>
                    <a:cubicBezTo>
                      <a:pt x="10326" y="7"/>
                      <a:pt x="10325" y="6"/>
                      <a:pt x="10325" y="5"/>
                    </a:cubicBezTo>
                    <a:cubicBezTo>
                      <a:pt x="10325" y="4"/>
                      <a:pt x="10326" y="3"/>
                      <a:pt x="10327" y="3"/>
                    </a:cubicBezTo>
                    <a:close/>
                    <a:moveTo>
                      <a:pt x="10335" y="3"/>
                    </a:moveTo>
                    <a:lnTo>
                      <a:pt x="10335" y="3"/>
                    </a:lnTo>
                    <a:cubicBezTo>
                      <a:pt x="10336" y="3"/>
                      <a:pt x="10337" y="4"/>
                      <a:pt x="10337" y="5"/>
                    </a:cubicBezTo>
                    <a:cubicBezTo>
                      <a:pt x="10337" y="6"/>
                      <a:pt x="10336" y="7"/>
                      <a:pt x="10335" y="7"/>
                    </a:cubicBezTo>
                    <a:lnTo>
                      <a:pt x="10335" y="7"/>
                    </a:lnTo>
                    <a:cubicBezTo>
                      <a:pt x="10334" y="7"/>
                      <a:pt x="10333" y="6"/>
                      <a:pt x="10333" y="5"/>
                    </a:cubicBezTo>
                    <a:cubicBezTo>
                      <a:pt x="10333" y="4"/>
                      <a:pt x="10334" y="3"/>
                      <a:pt x="10335" y="3"/>
                    </a:cubicBezTo>
                    <a:close/>
                    <a:moveTo>
                      <a:pt x="10343" y="3"/>
                    </a:moveTo>
                    <a:lnTo>
                      <a:pt x="10343" y="3"/>
                    </a:lnTo>
                    <a:cubicBezTo>
                      <a:pt x="10344" y="3"/>
                      <a:pt x="10345" y="4"/>
                      <a:pt x="10345" y="5"/>
                    </a:cubicBezTo>
                    <a:cubicBezTo>
                      <a:pt x="10345" y="6"/>
                      <a:pt x="10344" y="7"/>
                      <a:pt x="10343" y="7"/>
                    </a:cubicBezTo>
                    <a:lnTo>
                      <a:pt x="10343" y="7"/>
                    </a:lnTo>
                    <a:cubicBezTo>
                      <a:pt x="10342" y="7"/>
                      <a:pt x="10341" y="6"/>
                      <a:pt x="10341" y="5"/>
                    </a:cubicBezTo>
                    <a:cubicBezTo>
                      <a:pt x="10341" y="4"/>
                      <a:pt x="10342" y="3"/>
                      <a:pt x="10343" y="3"/>
                    </a:cubicBezTo>
                    <a:close/>
                    <a:moveTo>
                      <a:pt x="10351" y="3"/>
                    </a:moveTo>
                    <a:lnTo>
                      <a:pt x="10351" y="3"/>
                    </a:lnTo>
                    <a:cubicBezTo>
                      <a:pt x="10352" y="3"/>
                      <a:pt x="10353" y="4"/>
                      <a:pt x="10353" y="5"/>
                    </a:cubicBezTo>
                    <a:cubicBezTo>
                      <a:pt x="10353" y="6"/>
                      <a:pt x="10352" y="7"/>
                      <a:pt x="10351" y="7"/>
                    </a:cubicBezTo>
                    <a:lnTo>
                      <a:pt x="10351" y="7"/>
                    </a:lnTo>
                    <a:cubicBezTo>
                      <a:pt x="10350" y="7"/>
                      <a:pt x="10349" y="6"/>
                      <a:pt x="10349" y="5"/>
                    </a:cubicBezTo>
                    <a:cubicBezTo>
                      <a:pt x="10349" y="4"/>
                      <a:pt x="10350" y="3"/>
                      <a:pt x="10351" y="3"/>
                    </a:cubicBezTo>
                    <a:close/>
                    <a:moveTo>
                      <a:pt x="10359" y="3"/>
                    </a:moveTo>
                    <a:lnTo>
                      <a:pt x="10359" y="3"/>
                    </a:lnTo>
                    <a:cubicBezTo>
                      <a:pt x="10360" y="3"/>
                      <a:pt x="10361" y="4"/>
                      <a:pt x="10361" y="5"/>
                    </a:cubicBezTo>
                    <a:cubicBezTo>
                      <a:pt x="10361" y="6"/>
                      <a:pt x="10360" y="7"/>
                      <a:pt x="10359" y="7"/>
                    </a:cubicBezTo>
                    <a:lnTo>
                      <a:pt x="10359" y="7"/>
                    </a:lnTo>
                    <a:cubicBezTo>
                      <a:pt x="10358" y="7"/>
                      <a:pt x="10357" y="6"/>
                      <a:pt x="10357" y="5"/>
                    </a:cubicBezTo>
                    <a:cubicBezTo>
                      <a:pt x="10357" y="4"/>
                      <a:pt x="10358" y="3"/>
                      <a:pt x="10359" y="3"/>
                    </a:cubicBezTo>
                    <a:close/>
                    <a:moveTo>
                      <a:pt x="10367" y="3"/>
                    </a:moveTo>
                    <a:lnTo>
                      <a:pt x="10367" y="3"/>
                    </a:lnTo>
                    <a:cubicBezTo>
                      <a:pt x="10368" y="3"/>
                      <a:pt x="10369" y="4"/>
                      <a:pt x="10369" y="5"/>
                    </a:cubicBezTo>
                    <a:cubicBezTo>
                      <a:pt x="10369" y="6"/>
                      <a:pt x="10368" y="7"/>
                      <a:pt x="10367" y="7"/>
                    </a:cubicBezTo>
                    <a:lnTo>
                      <a:pt x="10367" y="7"/>
                    </a:lnTo>
                    <a:cubicBezTo>
                      <a:pt x="10366" y="7"/>
                      <a:pt x="10365" y="6"/>
                      <a:pt x="10365" y="5"/>
                    </a:cubicBezTo>
                    <a:cubicBezTo>
                      <a:pt x="10365" y="4"/>
                      <a:pt x="10366" y="3"/>
                      <a:pt x="10367" y="3"/>
                    </a:cubicBezTo>
                    <a:close/>
                    <a:moveTo>
                      <a:pt x="10375" y="3"/>
                    </a:moveTo>
                    <a:lnTo>
                      <a:pt x="10375" y="3"/>
                    </a:lnTo>
                    <a:cubicBezTo>
                      <a:pt x="10376" y="3"/>
                      <a:pt x="10377" y="4"/>
                      <a:pt x="10377" y="5"/>
                    </a:cubicBezTo>
                    <a:cubicBezTo>
                      <a:pt x="10377" y="6"/>
                      <a:pt x="10376" y="7"/>
                      <a:pt x="10375" y="7"/>
                    </a:cubicBezTo>
                    <a:lnTo>
                      <a:pt x="10375" y="7"/>
                    </a:lnTo>
                    <a:cubicBezTo>
                      <a:pt x="10374" y="7"/>
                      <a:pt x="10373" y="6"/>
                      <a:pt x="10373" y="5"/>
                    </a:cubicBezTo>
                    <a:cubicBezTo>
                      <a:pt x="10373" y="4"/>
                      <a:pt x="10374" y="3"/>
                      <a:pt x="10375" y="3"/>
                    </a:cubicBezTo>
                    <a:close/>
                    <a:moveTo>
                      <a:pt x="10383" y="3"/>
                    </a:moveTo>
                    <a:lnTo>
                      <a:pt x="10383" y="3"/>
                    </a:lnTo>
                    <a:cubicBezTo>
                      <a:pt x="10384" y="3"/>
                      <a:pt x="10385" y="4"/>
                      <a:pt x="10385" y="5"/>
                    </a:cubicBezTo>
                    <a:cubicBezTo>
                      <a:pt x="10385" y="6"/>
                      <a:pt x="10384" y="7"/>
                      <a:pt x="10383" y="7"/>
                    </a:cubicBezTo>
                    <a:lnTo>
                      <a:pt x="10383" y="7"/>
                    </a:lnTo>
                    <a:cubicBezTo>
                      <a:pt x="10382" y="7"/>
                      <a:pt x="10381" y="6"/>
                      <a:pt x="10381" y="5"/>
                    </a:cubicBezTo>
                    <a:cubicBezTo>
                      <a:pt x="10381" y="4"/>
                      <a:pt x="10382" y="3"/>
                      <a:pt x="10383" y="3"/>
                    </a:cubicBezTo>
                    <a:close/>
                    <a:moveTo>
                      <a:pt x="10391" y="3"/>
                    </a:moveTo>
                    <a:lnTo>
                      <a:pt x="10391" y="3"/>
                    </a:lnTo>
                    <a:cubicBezTo>
                      <a:pt x="10392" y="3"/>
                      <a:pt x="10393" y="4"/>
                      <a:pt x="10393" y="5"/>
                    </a:cubicBezTo>
                    <a:cubicBezTo>
                      <a:pt x="10393" y="6"/>
                      <a:pt x="10392" y="7"/>
                      <a:pt x="10391" y="7"/>
                    </a:cubicBezTo>
                    <a:lnTo>
                      <a:pt x="10391" y="7"/>
                    </a:lnTo>
                    <a:cubicBezTo>
                      <a:pt x="10390" y="7"/>
                      <a:pt x="10389" y="6"/>
                      <a:pt x="10389" y="5"/>
                    </a:cubicBezTo>
                    <a:cubicBezTo>
                      <a:pt x="10389" y="4"/>
                      <a:pt x="10390" y="3"/>
                      <a:pt x="10391" y="3"/>
                    </a:cubicBezTo>
                    <a:close/>
                    <a:moveTo>
                      <a:pt x="10399" y="3"/>
                    </a:moveTo>
                    <a:lnTo>
                      <a:pt x="10399" y="3"/>
                    </a:lnTo>
                    <a:cubicBezTo>
                      <a:pt x="10400" y="3"/>
                      <a:pt x="10401" y="4"/>
                      <a:pt x="10401" y="5"/>
                    </a:cubicBezTo>
                    <a:cubicBezTo>
                      <a:pt x="10401" y="6"/>
                      <a:pt x="10400" y="7"/>
                      <a:pt x="10399" y="7"/>
                    </a:cubicBezTo>
                    <a:lnTo>
                      <a:pt x="10399" y="7"/>
                    </a:lnTo>
                    <a:cubicBezTo>
                      <a:pt x="10398" y="7"/>
                      <a:pt x="10397" y="6"/>
                      <a:pt x="10397" y="5"/>
                    </a:cubicBezTo>
                    <a:cubicBezTo>
                      <a:pt x="10397" y="4"/>
                      <a:pt x="10398" y="3"/>
                      <a:pt x="10399" y="3"/>
                    </a:cubicBezTo>
                    <a:close/>
                    <a:moveTo>
                      <a:pt x="10407" y="3"/>
                    </a:moveTo>
                    <a:lnTo>
                      <a:pt x="10407" y="3"/>
                    </a:lnTo>
                    <a:cubicBezTo>
                      <a:pt x="10408" y="3"/>
                      <a:pt x="10409" y="4"/>
                      <a:pt x="10409" y="5"/>
                    </a:cubicBezTo>
                    <a:cubicBezTo>
                      <a:pt x="10409" y="6"/>
                      <a:pt x="10408" y="7"/>
                      <a:pt x="10407" y="7"/>
                    </a:cubicBezTo>
                    <a:lnTo>
                      <a:pt x="10407" y="7"/>
                    </a:lnTo>
                    <a:cubicBezTo>
                      <a:pt x="10406" y="7"/>
                      <a:pt x="10405" y="6"/>
                      <a:pt x="10405" y="5"/>
                    </a:cubicBezTo>
                    <a:cubicBezTo>
                      <a:pt x="10405" y="4"/>
                      <a:pt x="10406" y="3"/>
                      <a:pt x="10407" y="3"/>
                    </a:cubicBezTo>
                    <a:close/>
                    <a:moveTo>
                      <a:pt x="10415" y="3"/>
                    </a:moveTo>
                    <a:lnTo>
                      <a:pt x="10415" y="3"/>
                    </a:lnTo>
                    <a:cubicBezTo>
                      <a:pt x="10416" y="3"/>
                      <a:pt x="10417" y="4"/>
                      <a:pt x="10417" y="5"/>
                    </a:cubicBezTo>
                    <a:cubicBezTo>
                      <a:pt x="10417" y="6"/>
                      <a:pt x="10416" y="7"/>
                      <a:pt x="10415" y="7"/>
                    </a:cubicBezTo>
                    <a:lnTo>
                      <a:pt x="10415" y="7"/>
                    </a:lnTo>
                    <a:cubicBezTo>
                      <a:pt x="10414" y="7"/>
                      <a:pt x="10413" y="6"/>
                      <a:pt x="10413" y="5"/>
                    </a:cubicBezTo>
                    <a:cubicBezTo>
                      <a:pt x="10413" y="4"/>
                      <a:pt x="10414" y="3"/>
                      <a:pt x="10415" y="3"/>
                    </a:cubicBezTo>
                    <a:close/>
                    <a:moveTo>
                      <a:pt x="10423" y="3"/>
                    </a:moveTo>
                    <a:lnTo>
                      <a:pt x="10423" y="3"/>
                    </a:lnTo>
                    <a:cubicBezTo>
                      <a:pt x="10424" y="3"/>
                      <a:pt x="10425" y="4"/>
                      <a:pt x="10425" y="5"/>
                    </a:cubicBezTo>
                    <a:cubicBezTo>
                      <a:pt x="10425" y="6"/>
                      <a:pt x="10424" y="7"/>
                      <a:pt x="10423" y="7"/>
                    </a:cubicBezTo>
                    <a:lnTo>
                      <a:pt x="10423" y="7"/>
                    </a:lnTo>
                    <a:cubicBezTo>
                      <a:pt x="10422" y="7"/>
                      <a:pt x="10421" y="6"/>
                      <a:pt x="10421" y="5"/>
                    </a:cubicBezTo>
                    <a:cubicBezTo>
                      <a:pt x="10421" y="4"/>
                      <a:pt x="10422" y="3"/>
                      <a:pt x="10423" y="3"/>
                    </a:cubicBezTo>
                    <a:close/>
                    <a:moveTo>
                      <a:pt x="10431" y="3"/>
                    </a:moveTo>
                    <a:lnTo>
                      <a:pt x="10431" y="3"/>
                    </a:lnTo>
                    <a:cubicBezTo>
                      <a:pt x="10432" y="3"/>
                      <a:pt x="10433" y="4"/>
                      <a:pt x="10433" y="5"/>
                    </a:cubicBezTo>
                    <a:cubicBezTo>
                      <a:pt x="10433" y="6"/>
                      <a:pt x="10432" y="7"/>
                      <a:pt x="10431" y="7"/>
                    </a:cubicBezTo>
                    <a:lnTo>
                      <a:pt x="10431" y="7"/>
                    </a:lnTo>
                    <a:cubicBezTo>
                      <a:pt x="10430" y="7"/>
                      <a:pt x="10429" y="6"/>
                      <a:pt x="10429" y="5"/>
                    </a:cubicBezTo>
                    <a:cubicBezTo>
                      <a:pt x="10429" y="4"/>
                      <a:pt x="10430" y="3"/>
                      <a:pt x="10431" y="3"/>
                    </a:cubicBezTo>
                    <a:close/>
                    <a:moveTo>
                      <a:pt x="10439" y="3"/>
                    </a:moveTo>
                    <a:lnTo>
                      <a:pt x="10439" y="3"/>
                    </a:lnTo>
                    <a:cubicBezTo>
                      <a:pt x="10440" y="3"/>
                      <a:pt x="10441" y="4"/>
                      <a:pt x="10441" y="5"/>
                    </a:cubicBezTo>
                    <a:cubicBezTo>
                      <a:pt x="10441" y="6"/>
                      <a:pt x="10440" y="7"/>
                      <a:pt x="10439" y="7"/>
                    </a:cubicBezTo>
                    <a:lnTo>
                      <a:pt x="10439" y="7"/>
                    </a:lnTo>
                    <a:cubicBezTo>
                      <a:pt x="10438" y="7"/>
                      <a:pt x="10437" y="6"/>
                      <a:pt x="10437" y="5"/>
                    </a:cubicBezTo>
                    <a:cubicBezTo>
                      <a:pt x="10437" y="4"/>
                      <a:pt x="10438" y="3"/>
                      <a:pt x="10439" y="3"/>
                    </a:cubicBezTo>
                    <a:close/>
                    <a:moveTo>
                      <a:pt x="10447" y="3"/>
                    </a:moveTo>
                    <a:lnTo>
                      <a:pt x="10447" y="3"/>
                    </a:lnTo>
                    <a:cubicBezTo>
                      <a:pt x="10448" y="3"/>
                      <a:pt x="10449" y="4"/>
                      <a:pt x="10449" y="5"/>
                    </a:cubicBezTo>
                    <a:cubicBezTo>
                      <a:pt x="10449" y="6"/>
                      <a:pt x="10448" y="7"/>
                      <a:pt x="10447" y="7"/>
                    </a:cubicBezTo>
                    <a:lnTo>
                      <a:pt x="10447" y="7"/>
                    </a:lnTo>
                    <a:cubicBezTo>
                      <a:pt x="10446" y="7"/>
                      <a:pt x="10445" y="6"/>
                      <a:pt x="10445" y="5"/>
                    </a:cubicBezTo>
                    <a:cubicBezTo>
                      <a:pt x="10445" y="4"/>
                      <a:pt x="10446" y="3"/>
                      <a:pt x="10447" y="3"/>
                    </a:cubicBezTo>
                    <a:close/>
                    <a:moveTo>
                      <a:pt x="10455" y="3"/>
                    </a:moveTo>
                    <a:lnTo>
                      <a:pt x="10455" y="3"/>
                    </a:lnTo>
                    <a:cubicBezTo>
                      <a:pt x="10456" y="3"/>
                      <a:pt x="10457" y="4"/>
                      <a:pt x="10457" y="5"/>
                    </a:cubicBezTo>
                    <a:cubicBezTo>
                      <a:pt x="10457" y="6"/>
                      <a:pt x="10456" y="7"/>
                      <a:pt x="10455" y="7"/>
                    </a:cubicBezTo>
                    <a:lnTo>
                      <a:pt x="10455" y="7"/>
                    </a:lnTo>
                    <a:cubicBezTo>
                      <a:pt x="10454" y="7"/>
                      <a:pt x="10453" y="6"/>
                      <a:pt x="10453" y="5"/>
                    </a:cubicBezTo>
                    <a:cubicBezTo>
                      <a:pt x="10453" y="4"/>
                      <a:pt x="10454" y="3"/>
                      <a:pt x="10455" y="3"/>
                    </a:cubicBezTo>
                    <a:close/>
                    <a:moveTo>
                      <a:pt x="10463" y="3"/>
                    </a:moveTo>
                    <a:lnTo>
                      <a:pt x="10463" y="3"/>
                    </a:lnTo>
                    <a:cubicBezTo>
                      <a:pt x="10464" y="3"/>
                      <a:pt x="10465" y="4"/>
                      <a:pt x="10465" y="5"/>
                    </a:cubicBezTo>
                    <a:cubicBezTo>
                      <a:pt x="10465" y="6"/>
                      <a:pt x="10464" y="7"/>
                      <a:pt x="10463" y="7"/>
                    </a:cubicBezTo>
                    <a:lnTo>
                      <a:pt x="10463" y="7"/>
                    </a:lnTo>
                    <a:cubicBezTo>
                      <a:pt x="10462" y="7"/>
                      <a:pt x="10461" y="6"/>
                      <a:pt x="10461" y="5"/>
                    </a:cubicBezTo>
                    <a:cubicBezTo>
                      <a:pt x="10461" y="4"/>
                      <a:pt x="10462" y="3"/>
                      <a:pt x="10463" y="3"/>
                    </a:cubicBezTo>
                    <a:close/>
                    <a:moveTo>
                      <a:pt x="10471" y="3"/>
                    </a:moveTo>
                    <a:lnTo>
                      <a:pt x="10471" y="3"/>
                    </a:lnTo>
                    <a:cubicBezTo>
                      <a:pt x="10472" y="3"/>
                      <a:pt x="10473" y="4"/>
                      <a:pt x="10473" y="5"/>
                    </a:cubicBezTo>
                    <a:cubicBezTo>
                      <a:pt x="10473" y="6"/>
                      <a:pt x="10472" y="7"/>
                      <a:pt x="10471" y="7"/>
                    </a:cubicBezTo>
                    <a:lnTo>
                      <a:pt x="10471" y="7"/>
                    </a:lnTo>
                    <a:cubicBezTo>
                      <a:pt x="10470" y="7"/>
                      <a:pt x="10469" y="6"/>
                      <a:pt x="10469" y="5"/>
                    </a:cubicBezTo>
                    <a:cubicBezTo>
                      <a:pt x="10469" y="4"/>
                      <a:pt x="10470" y="3"/>
                      <a:pt x="10471" y="3"/>
                    </a:cubicBezTo>
                    <a:close/>
                    <a:moveTo>
                      <a:pt x="10479" y="3"/>
                    </a:moveTo>
                    <a:lnTo>
                      <a:pt x="10479" y="3"/>
                    </a:lnTo>
                    <a:cubicBezTo>
                      <a:pt x="10480" y="3"/>
                      <a:pt x="10481" y="4"/>
                      <a:pt x="10481" y="5"/>
                    </a:cubicBezTo>
                    <a:cubicBezTo>
                      <a:pt x="10481" y="6"/>
                      <a:pt x="10480" y="7"/>
                      <a:pt x="10479" y="7"/>
                    </a:cubicBezTo>
                    <a:lnTo>
                      <a:pt x="10479" y="7"/>
                    </a:lnTo>
                    <a:cubicBezTo>
                      <a:pt x="10478" y="7"/>
                      <a:pt x="10477" y="6"/>
                      <a:pt x="10477" y="5"/>
                    </a:cubicBezTo>
                    <a:cubicBezTo>
                      <a:pt x="10477" y="4"/>
                      <a:pt x="10478" y="3"/>
                      <a:pt x="10479" y="3"/>
                    </a:cubicBezTo>
                    <a:close/>
                    <a:moveTo>
                      <a:pt x="10487" y="3"/>
                    </a:moveTo>
                    <a:lnTo>
                      <a:pt x="10487" y="3"/>
                    </a:lnTo>
                    <a:cubicBezTo>
                      <a:pt x="10488" y="3"/>
                      <a:pt x="10489" y="4"/>
                      <a:pt x="10489" y="5"/>
                    </a:cubicBezTo>
                    <a:cubicBezTo>
                      <a:pt x="10489" y="6"/>
                      <a:pt x="10488" y="7"/>
                      <a:pt x="10487" y="7"/>
                    </a:cubicBezTo>
                    <a:lnTo>
                      <a:pt x="10487" y="7"/>
                    </a:lnTo>
                    <a:cubicBezTo>
                      <a:pt x="10486" y="7"/>
                      <a:pt x="10485" y="6"/>
                      <a:pt x="10485" y="5"/>
                    </a:cubicBezTo>
                    <a:cubicBezTo>
                      <a:pt x="10485" y="4"/>
                      <a:pt x="10486" y="3"/>
                      <a:pt x="10487" y="3"/>
                    </a:cubicBezTo>
                    <a:close/>
                    <a:moveTo>
                      <a:pt x="10495" y="3"/>
                    </a:moveTo>
                    <a:lnTo>
                      <a:pt x="10495" y="3"/>
                    </a:lnTo>
                    <a:cubicBezTo>
                      <a:pt x="10496" y="3"/>
                      <a:pt x="10497" y="4"/>
                      <a:pt x="10497" y="5"/>
                    </a:cubicBezTo>
                    <a:cubicBezTo>
                      <a:pt x="10497" y="6"/>
                      <a:pt x="10496" y="7"/>
                      <a:pt x="10495" y="7"/>
                    </a:cubicBezTo>
                    <a:lnTo>
                      <a:pt x="10495" y="7"/>
                    </a:lnTo>
                    <a:cubicBezTo>
                      <a:pt x="10494" y="7"/>
                      <a:pt x="10493" y="6"/>
                      <a:pt x="10493" y="5"/>
                    </a:cubicBezTo>
                    <a:cubicBezTo>
                      <a:pt x="10493" y="4"/>
                      <a:pt x="10494" y="3"/>
                      <a:pt x="10495" y="3"/>
                    </a:cubicBezTo>
                    <a:close/>
                    <a:moveTo>
                      <a:pt x="10503" y="3"/>
                    </a:moveTo>
                    <a:lnTo>
                      <a:pt x="10503" y="3"/>
                    </a:lnTo>
                    <a:cubicBezTo>
                      <a:pt x="10504" y="3"/>
                      <a:pt x="10505" y="4"/>
                      <a:pt x="10505" y="5"/>
                    </a:cubicBezTo>
                    <a:cubicBezTo>
                      <a:pt x="10505" y="6"/>
                      <a:pt x="10504" y="7"/>
                      <a:pt x="10503" y="7"/>
                    </a:cubicBezTo>
                    <a:lnTo>
                      <a:pt x="10503" y="7"/>
                    </a:lnTo>
                    <a:cubicBezTo>
                      <a:pt x="10502" y="7"/>
                      <a:pt x="10501" y="6"/>
                      <a:pt x="10501" y="5"/>
                    </a:cubicBezTo>
                    <a:cubicBezTo>
                      <a:pt x="10501" y="4"/>
                      <a:pt x="10502" y="3"/>
                      <a:pt x="10503" y="3"/>
                    </a:cubicBezTo>
                    <a:close/>
                    <a:moveTo>
                      <a:pt x="10511" y="3"/>
                    </a:moveTo>
                    <a:lnTo>
                      <a:pt x="10511" y="3"/>
                    </a:lnTo>
                    <a:cubicBezTo>
                      <a:pt x="10512" y="3"/>
                      <a:pt x="10513" y="4"/>
                      <a:pt x="10513" y="5"/>
                    </a:cubicBezTo>
                    <a:cubicBezTo>
                      <a:pt x="10513" y="6"/>
                      <a:pt x="10512" y="7"/>
                      <a:pt x="10511" y="7"/>
                    </a:cubicBezTo>
                    <a:lnTo>
                      <a:pt x="10511" y="7"/>
                    </a:lnTo>
                    <a:cubicBezTo>
                      <a:pt x="10510" y="7"/>
                      <a:pt x="10509" y="6"/>
                      <a:pt x="10509" y="5"/>
                    </a:cubicBezTo>
                    <a:cubicBezTo>
                      <a:pt x="10509" y="4"/>
                      <a:pt x="10510" y="3"/>
                      <a:pt x="10511" y="3"/>
                    </a:cubicBezTo>
                    <a:close/>
                    <a:moveTo>
                      <a:pt x="10519" y="3"/>
                    </a:moveTo>
                    <a:lnTo>
                      <a:pt x="10519" y="3"/>
                    </a:lnTo>
                    <a:cubicBezTo>
                      <a:pt x="10520" y="3"/>
                      <a:pt x="10521" y="4"/>
                      <a:pt x="10521" y="5"/>
                    </a:cubicBezTo>
                    <a:cubicBezTo>
                      <a:pt x="10521" y="6"/>
                      <a:pt x="10520" y="7"/>
                      <a:pt x="10519" y="7"/>
                    </a:cubicBezTo>
                    <a:lnTo>
                      <a:pt x="10519" y="7"/>
                    </a:lnTo>
                    <a:cubicBezTo>
                      <a:pt x="10518" y="7"/>
                      <a:pt x="10517" y="6"/>
                      <a:pt x="10517" y="5"/>
                    </a:cubicBezTo>
                    <a:cubicBezTo>
                      <a:pt x="10517" y="4"/>
                      <a:pt x="10518" y="3"/>
                      <a:pt x="10519" y="3"/>
                    </a:cubicBezTo>
                    <a:close/>
                    <a:moveTo>
                      <a:pt x="10527" y="3"/>
                    </a:moveTo>
                    <a:lnTo>
                      <a:pt x="10527" y="3"/>
                    </a:lnTo>
                    <a:cubicBezTo>
                      <a:pt x="10528" y="3"/>
                      <a:pt x="10529" y="4"/>
                      <a:pt x="10529" y="5"/>
                    </a:cubicBezTo>
                    <a:cubicBezTo>
                      <a:pt x="10529" y="6"/>
                      <a:pt x="10528" y="7"/>
                      <a:pt x="10527" y="7"/>
                    </a:cubicBezTo>
                    <a:lnTo>
                      <a:pt x="10527" y="7"/>
                    </a:lnTo>
                    <a:cubicBezTo>
                      <a:pt x="10526" y="7"/>
                      <a:pt x="10525" y="6"/>
                      <a:pt x="10525" y="5"/>
                    </a:cubicBezTo>
                    <a:cubicBezTo>
                      <a:pt x="10525" y="4"/>
                      <a:pt x="10526" y="3"/>
                      <a:pt x="10527" y="3"/>
                    </a:cubicBezTo>
                    <a:close/>
                    <a:moveTo>
                      <a:pt x="10535" y="3"/>
                    </a:moveTo>
                    <a:lnTo>
                      <a:pt x="10535" y="3"/>
                    </a:lnTo>
                    <a:cubicBezTo>
                      <a:pt x="10536" y="3"/>
                      <a:pt x="10537" y="4"/>
                      <a:pt x="10537" y="5"/>
                    </a:cubicBezTo>
                    <a:cubicBezTo>
                      <a:pt x="10537" y="6"/>
                      <a:pt x="10536" y="7"/>
                      <a:pt x="10535" y="7"/>
                    </a:cubicBezTo>
                    <a:lnTo>
                      <a:pt x="10535" y="7"/>
                    </a:lnTo>
                    <a:cubicBezTo>
                      <a:pt x="10534" y="7"/>
                      <a:pt x="10533" y="6"/>
                      <a:pt x="10533" y="5"/>
                    </a:cubicBezTo>
                    <a:cubicBezTo>
                      <a:pt x="10533" y="4"/>
                      <a:pt x="10534" y="3"/>
                      <a:pt x="10535" y="3"/>
                    </a:cubicBezTo>
                    <a:close/>
                    <a:moveTo>
                      <a:pt x="10543" y="3"/>
                    </a:moveTo>
                    <a:lnTo>
                      <a:pt x="10543" y="3"/>
                    </a:lnTo>
                    <a:cubicBezTo>
                      <a:pt x="10544" y="3"/>
                      <a:pt x="10545" y="4"/>
                      <a:pt x="10545" y="5"/>
                    </a:cubicBezTo>
                    <a:cubicBezTo>
                      <a:pt x="10545" y="6"/>
                      <a:pt x="10544" y="7"/>
                      <a:pt x="10543" y="7"/>
                    </a:cubicBezTo>
                    <a:lnTo>
                      <a:pt x="10543" y="7"/>
                    </a:lnTo>
                    <a:cubicBezTo>
                      <a:pt x="10542" y="7"/>
                      <a:pt x="10541" y="6"/>
                      <a:pt x="10541" y="5"/>
                    </a:cubicBezTo>
                    <a:cubicBezTo>
                      <a:pt x="10541" y="4"/>
                      <a:pt x="10542" y="3"/>
                      <a:pt x="10543" y="3"/>
                    </a:cubicBezTo>
                    <a:close/>
                    <a:moveTo>
                      <a:pt x="10551" y="3"/>
                    </a:moveTo>
                    <a:lnTo>
                      <a:pt x="10551" y="3"/>
                    </a:lnTo>
                    <a:cubicBezTo>
                      <a:pt x="10552" y="3"/>
                      <a:pt x="10553" y="4"/>
                      <a:pt x="10553" y="5"/>
                    </a:cubicBezTo>
                    <a:cubicBezTo>
                      <a:pt x="10553" y="6"/>
                      <a:pt x="10552" y="7"/>
                      <a:pt x="10551" y="7"/>
                    </a:cubicBezTo>
                    <a:lnTo>
                      <a:pt x="10551" y="7"/>
                    </a:lnTo>
                    <a:cubicBezTo>
                      <a:pt x="10550" y="7"/>
                      <a:pt x="10549" y="6"/>
                      <a:pt x="10549" y="5"/>
                    </a:cubicBezTo>
                    <a:cubicBezTo>
                      <a:pt x="10549" y="4"/>
                      <a:pt x="10550" y="3"/>
                      <a:pt x="10551" y="3"/>
                    </a:cubicBezTo>
                    <a:close/>
                    <a:moveTo>
                      <a:pt x="10559" y="3"/>
                    </a:moveTo>
                    <a:lnTo>
                      <a:pt x="10559" y="3"/>
                    </a:lnTo>
                    <a:cubicBezTo>
                      <a:pt x="10560" y="3"/>
                      <a:pt x="10561" y="4"/>
                      <a:pt x="10561" y="5"/>
                    </a:cubicBezTo>
                    <a:cubicBezTo>
                      <a:pt x="10561" y="6"/>
                      <a:pt x="10560" y="7"/>
                      <a:pt x="10559" y="7"/>
                    </a:cubicBezTo>
                    <a:lnTo>
                      <a:pt x="10559" y="7"/>
                    </a:lnTo>
                    <a:cubicBezTo>
                      <a:pt x="10558" y="7"/>
                      <a:pt x="10557" y="6"/>
                      <a:pt x="10557" y="5"/>
                    </a:cubicBezTo>
                    <a:cubicBezTo>
                      <a:pt x="10557" y="4"/>
                      <a:pt x="10558" y="3"/>
                      <a:pt x="10559" y="3"/>
                    </a:cubicBezTo>
                    <a:close/>
                    <a:moveTo>
                      <a:pt x="10567" y="3"/>
                    </a:moveTo>
                    <a:lnTo>
                      <a:pt x="10567" y="3"/>
                    </a:lnTo>
                    <a:cubicBezTo>
                      <a:pt x="10568" y="3"/>
                      <a:pt x="10569" y="4"/>
                      <a:pt x="10569" y="5"/>
                    </a:cubicBezTo>
                    <a:cubicBezTo>
                      <a:pt x="10569" y="6"/>
                      <a:pt x="10568" y="7"/>
                      <a:pt x="10567" y="7"/>
                    </a:cubicBezTo>
                    <a:lnTo>
                      <a:pt x="10567" y="7"/>
                    </a:lnTo>
                    <a:cubicBezTo>
                      <a:pt x="10566" y="7"/>
                      <a:pt x="10565" y="6"/>
                      <a:pt x="10565" y="5"/>
                    </a:cubicBezTo>
                    <a:cubicBezTo>
                      <a:pt x="10565" y="4"/>
                      <a:pt x="10566" y="3"/>
                      <a:pt x="10567" y="3"/>
                    </a:cubicBezTo>
                    <a:close/>
                    <a:moveTo>
                      <a:pt x="10575" y="3"/>
                    </a:moveTo>
                    <a:lnTo>
                      <a:pt x="10575" y="3"/>
                    </a:lnTo>
                    <a:cubicBezTo>
                      <a:pt x="10576" y="3"/>
                      <a:pt x="10577" y="4"/>
                      <a:pt x="10577" y="5"/>
                    </a:cubicBezTo>
                    <a:cubicBezTo>
                      <a:pt x="10577" y="6"/>
                      <a:pt x="10576" y="7"/>
                      <a:pt x="10575" y="7"/>
                    </a:cubicBezTo>
                    <a:lnTo>
                      <a:pt x="10575" y="7"/>
                    </a:lnTo>
                    <a:cubicBezTo>
                      <a:pt x="10574" y="7"/>
                      <a:pt x="10573" y="6"/>
                      <a:pt x="10573" y="5"/>
                    </a:cubicBezTo>
                    <a:cubicBezTo>
                      <a:pt x="10573" y="4"/>
                      <a:pt x="10574" y="3"/>
                      <a:pt x="10575" y="3"/>
                    </a:cubicBezTo>
                    <a:close/>
                    <a:moveTo>
                      <a:pt x="10583" y="3"/>
                    </a:moveTo>
                    <a:lnTo>
                      <a:pt x="10583" y="3"/>
                    </a:lnTo>
                    <a:cubicBezTo>
                      <a:pt x="10584" y="3"/>
                      <a:pt x="10585" y="4"/>
                      <a:pt x="10585" y="5"/>
                    </a:cubicBezTo>
                    <a:cubicBezTo>
                      <a:pt x="10585" y="6"/>
                      <a:pt x="10584" y="7"/>
                      <a:pt x="10583" y="7"/>
                    </a:cubicBezTo>
                    <a:lnTo>
                      <a:pt x="10583" y="7"/>
                    </a:lnTo>
                    <a:cubicBezTo>
                      <a:pt x="10582" y="7"/>
                      <a:pt x="10581" y="6"/>
                      <a:pt x="10581" y="5"/>
                    </a:cubicBezTo>
                    <a:cubicBezTo>
                      <a:pt x="10581" y="4"/>
                      <a:pt x="10582" y="3"/>
                      <a:pt x="10583" y="3"/>
                    </a:cubicBezTo>
                    <a:close/>
                    <a:moveTo>
                      <a:pt x="10591" y="3"/>
                    </a:moveTo>
                    <a:lnTo>
                      <a:pt x="10591" y="3"/>
                    </a:lnTo>
                    <a:cubicBezTo>
                      <a:pt x="10592" y="3"/>
                      <a:pt x="10593" y="4"/>
                      <a:pt x="10593" y="5"/>
                    </a:cubicBezTo>
                    <a:cubicBezTo>
                      <a:pt x="10593" y="6"/>
                      <a:pt x="10592" y="7"/>
                      <a:pt x="10591" y="7"/>
                    </a:cubicBezTo>
                    <a:lnTo>
                      <a:pt x="10591" y="7"/>
                    </a:lnTo>
                    <a:cubicBezTo>
                      <a:pt x="10590" y="7"/>
                      <a:pt x="10589" y="6"/>
                      <a:pt x="10589" y="5"/>
                    </a:cubicBezTo>
                    <a:cubicBezTo>
                      <a:pt x="10589" y="4"/>
                      <a:pt x="10590" y="3"/>
                      <a:pt x="10591" y="3"/>
                    </a:cubicBezTo>
                    <a:close/>
                    <a:moveTo>
                      <a:pt x="10599" y="3"/>
                    </a:moveTo>
                    <a:lnTo>
                      <a:pt x="10599" y="3"/>
                    </a:lnTo>
                    <a:cubicBezTo>
                      <a:pt x="10600" y="3"/>
                      <a:pt x="10601" y="4"/>
                      <a:pt x="10601" y="5"/>
                    </a:cubicBezTo>
                    <a:cubicBezTo>
                      <a:pt x="10601" y="6"/>
                      <a:pt x="10600" y="7"/>
                      <a:pt x="10599" y="7"/>
                    </a:cubicBezTo>
                    <a:lnTo>
                      <a:pt x="10599" y="7"/>
                    </a:lnTo>
                    <a:cubicBezTo>
                      <a:pt x="10598" y="7"/>
                      <a:pt x="10597" y="6"/>
                      <a:pt x="10597" y="5"/>
                    </a:cubicBezTo>
                    <a:cubicBezTo>
                      <a:pt x="10597" y="4"/>
                      <a:pt x="10598" y="3"/>
                      <a:pt x="10599" y="3"/>
                    </a:cubicBezTo>
                    <a:close/>
                    <a:moveTo>
                      <a:pt x="10607" y="3"/>
                    </a:moveTo>
                    <a:lnTo>
                      <a:pt x="10607" y="3"/>
                    </a:lnTo>
                    <a:cubicBezTo>
                      <a:pt x="10608" y="3"/>
                      <a:pt x="10609" y="4"/>
                      <a:pt x="10609" y="5"/>
                    </a:cubicBezTo>
                    <a:cubicBezTo>
                      <a:pt x="10609" y="6"/>
                      <a:pt x="10608" y="7"/>
                      <a:pt x="10607" y="7"/>
                    </a:cubicBezTo>
                    <a:lnTo>
                      <a:pt x="10607" y="7"/>
                    </a:lnTo>
                    <a:cubicBezTo>
                      <a:pt x="10606" y="7"/>
                      <a:pt x="10605" y="6"/>
                      <a:pt x="10605" y="5"/>
                    </a:cubicBezTo>
                    <a:cubicBezTo>
                      <a:pt x="10605" y="4"/>
                      <a:pt x="10606" y="3"/>
                      <a:pt x="10607" y="3"/>
                    </a:cubicBezTo>
                    <a:close/>
                    <a:moveTo>
                      <a:pt x="10615" y="3"/>
                    </a:moveTo>
                    <a:lnTo>
                      <a:pt x="10615" y="3"/>
                    </a:lnTo>
                    <a:cubicBezTo>
                      <a:pt x="10616" y="3"/>
                      <a:pt x="10617" y="4"/>
                      <a:pt x="10617" y="5"/>
                    </a:cubicBezTo>
                    <a:cubicBezTo>
                      <a:pt x="10617" y="6"/>
                      <a:pt x="10616" y="7"/>
                      <a:pt x="10615" y="7"/>
                    </a:cubicBezTo>
                    <a:lnTo>
                      <a:pt x="10615" y="7"/>
                    </a:lnTo>
                    <a:cubicBezTo>
                      <a:pt x="10614" y="7"/>
                      <a:pt x="10613" y="6"/>
                      <a:pt x="10613" y="5"/>
                    </a:cubicBezTo>
                    <a:cubicBezTo>
                      <a:pt x="10613" y="4"/>
                      <a:pt x="10614" y="3"/>
                      <a:pt x="10615" y="3"/>
                    </a:cubicBezTo>
                    <a:close/>
                    <a:moveTo>
                      <a:pt x="10623" y="3"/>
                    </a:moveTo>
                    <a:lnTo>
                      <a:pt x="10623" y="3"/>
                    </a:lnTo>
                    <a:cubicBezTo>
                      <a:pt x="10624" y="3"/>
                      <a:pt x="10625" y="4"/>
                      <a:pt x="10625" y="5"/>
                    </a:cubicBezTo>
                    <a:cubicBezTo>
                      <a:pt x="10625" y="6"/>
                      <a:pt x="10624" y="7"/>
                      <a:pt x="10623" y="7"/>
                    </a:cubicBezTo>
                    <a:lnTo>
                      <a:pt x="10623" y="7"/>
                    </a:lnTo>
                    <a:cubicBezTo>
                      <a:pt x="10622" y="7"/>
                      <a:pt x="10621" y="6"/>
                      <a:pt x="10621" y="5"/>
                    </a:cubicBezTo>
                    <a:cubicBezTo>
                      <a:pt x="10621" y="4"/>
                      <a:pt x="10622" y="3"/>
                      <a:pt x="10623" y="3"/>
                    </a:cubicBezTo>
                    <a:close/>
                    <a:moveTo>
                      <a:pt x="10631" y="3"/>
                    </a:moveTo>
                    <a:lnTo>
                      <a:pt x="10631" y="3"/>
                    </a:lnTo>
                    <a:cubicBezTo>
                      <a:pt x="10632" y="3"/>
                      <a:pt x="10633" y="4"/>
                      <a:pt x="10633" y="5"/>
                    </a:cubicBezTo>
                    <a:cubicBezTo>
                      <a:pt x="10633" y="6"/>
                      <a:pt x="10632" y="7"/>
                      <a:pt x="10631" y="7"/>
                    </a:cubicBezTo>
                    <a:lnTo>
                      <a:pt x="10631" y="7"/>
                    </a:lnTo>
                    <a:cubicBezTo>
                      <a:pt x="10630" y="7"/>
                      <a:pt x="10629" y="6"/>
                      <a:pt x="10629" y="5"/>
                    </a:cubicBezTo>
                    <a:cubicBezTo>
                      <a:pt x="10629" y="4"/>
                      <a:pt x="10630" y="3"/>
                      <a:pt x="10631" y="3"/>
                    </a:cubicBezTo>
                    <a:close/>
                    <a:moveTo>
                      <a:pt x="10639" y="3"/>
                    </a:moveTo>
                    <a:lnTo>
                      <a:pt x="10639" y="3"/>
                    </a:lnTo>
                    <a:cubicBezTo>
                      <a:pt x="10640" y="3"/>
                      <a:pt x="10641" y="4"/>
                      <a:pt x="10641" y="5"/>
                    </a:cubicBezTo>
                    <a:cubicBezTo>
                      <a:pt x="10641" y="6"/>
                      <a:pt x="10640" y="7"/>
                      <a:pt x="10639" y="7"/>
                    </a:cubicBezTo>
                    <a:lnTo>
                      <a:pt x="10639" y="7"/>
                    </a:lnTo>
                    <a:cubicBezTo>
                      <a:pt x="10638" y="7"/>
                      <a:pt x="10637" y="6"/>
                      <a:pt x="10637" y="5"/>
                    </a:cubicBezTo>
                    <a:cubicBezTo>
                      <a:pt x="10637" y="4"/>
                      <a:pt x="10638" y="3"/>
                      <a:pt x="10639" y="3"/>
                    </a:cubicBezTo>
                    <a:close/>
                    <a:moveTo>
                      <a:pt x="10647" y="3"/>
                    </a:moveTo>
                    <a:lnTo>
                      <a:pt x="10647" y="3"/>
                    </a:lnTo>
                    <a:cubicBezTo>
                      <a:pt x="10648" y="3"/>
                      <a:pt x="10649" y="4"/>
                      <a:pt x="10649" y="5"/>
                    </a:cubicBezTo>
                    <a:cubicBezTo>
                      <a:pt x="10649" y="6"/>
                      <a:pt x="10648" y="7"/>
                      <a:pt x="10647" y="7"/>
                    </a:cubicBezTo>
                    <a:lnTo>
                      <a:pt x="10647" y="7"/>
                    </a:lnTo>
                    <a:cubicBezTo>
                      <a:pt x="10646" y="7"/>
                      <a:pt x="10645" y="6"/>
                      <a:pt x="10645" y="5"/>
                    </a:cubicBezTo>
                    <a:cubicBezTo>
                      <a:pt x="10645" y="4"/>
                      <a:pt x="10646" y="3"/>
                      <a:pt x="10647" y="3"/>
                    </a:cubicBezTo>
                    <a:close/>
                    <a:moveTo>
                      <a:pt x="10655" y="3"/>
                    </a:moveTo>
                    <a:lnTo>
                      <a:pt x="10655" y="3"/>
                    </a:lnTo>
                    <a:cubicBezTo>
                      <a:pt x="10656" y="3"/>
                      <a:pt x="10657" y="4"/>
                      <a:pt x="10657" y="5"/>
                    </a:cubicBezTo>
                    <a:cubicBezTo>
                      <a:pt x="10657" y="6"/>
                      <a:pt x="10656" y="7"/>
                      <a:pt x="10655" y="7"/>
                    </a:cubicBezTo>
                    <a:lnTo>
                      <a:pt x="10655" y="7"/>
                    </a:lnTo>
                    <a:cubicBezTo>
                      <a:pt x="10654" y="7"/>
                      <a:pt x="10653" y="6"/>
                      <a:pt x="10653" y="5"/>
                    </a:cubicBezTo>
                    <a:cubicBezTo>
                      <a:pt x="10653" y="4"/>
                      <a:pt x="10654" y="3"/>
                      <a:pt x="10655" y="3"/>
                    </a:cubicBezTo>
                    <a:close/>
                    <a:moveTo>
                      <a:pt x="10663" y="3"/>
                    </a:moveTo>
                    <a:lnTo>
                      <a:pt x="10663" y="3"/>
                    </a:lnTo>
                    <a:cubicBezTo>
                      <a:pt x="10664" y="3"/>
                      <a:pt x="10665" y="4"/>
                      <a:pt x="10665" y="5"/>
                    </a:cubicBezTo>
                    <a:cubicBezTo>
                      <a:pt x="10665" y="6"/>
                      <a:pt x="10664" y="7"/>
                      <a:pt x="10663" y="7"/>
                    </a:cubicBezTo>
                    <a:lnTo>
                      <a:pt x="10663" y="7"/>
                    </a:lnTo>
                    <a:cubicBezTo>
                      <a:pt x="10662" y="7"/>
                      <a:pt x="10661" y="6"/>
                      <a:pt x="10661" y="5"/>
                    </a:cubicBezTo>
                    <a:cubicBezTo>
                      <a:pt x="10661" y="4"/>
                      <a:pt x="10662" y="3"/>
                      <a:pt x="10663" y="3"/>
                    </a:cubicBezTo>
                    <a:close/>
                    <a:moveTo>
                      <a:pt x="10671" y="3"/>
                    </a:moveTo>
                    <a:lnTo>
                      <a:pt x="10671" y="3"/>
                    </a:lnTo>
                    <a:cubicBezTo>
                      <a:pt x="10672" y="3"/>
                      <a:pt x="10673" y="4"/>
                      <a:pt x="10673" y="5"/>
                    </a:cubicBezTo>
                    <a:cubicBezTo>
                      <a:pt x="10673" y="6"/>
                      <a:pt x="10672" y="7"/>
                      <a:pt x="10671" y="7"/>
                    </a:cubicBezTo>
                    <a:lnTo>
                      <a:pt x="10671" y="7"/>
                    </a:lnTo>
                    <a:cubicBezTo>
                      <a:pt x="10670" y="7"/>
                      <a:pt x="10669" y="6"/>
                      <a:pt x="10669" y="5"/>
                    </a:cubicBezTo>
                    <a:cubicBezTo>
                      <a:pt x="10669" y="4"/>
                      <a:pt x="10670" y="3"/>
                      <a:pt x="10671" y="3"/>
                    </a:cubicBezTo>
                    <a:close/>
                    <a:moveTo>
                      <a:pt x="10679" y="3"/>
                    </a:moveTo>
                    <a:lnTo>
                      <a:pt x="10679" y="3"/>
                    </a:lnTo>
                    <a:cubicBezTo>
                      <a:pt x="10680" y="3"/>
                      <a:pt x="10681" y="4"/>
                      <a:pt x="10681" y="5"/>
                    </a:cubicBezTo>
                    <a:cubicBezTo>
                      <a:pt x="10681" y="6"/>
                      <a:pt x="10680" y="7"/>
                      <a:pt x="10679" y="7"/>
                    </a:cubicBezTo>
                    <a:lnTo>
                      <a:pt x="10679" y="7"/>
                    </a:lnTo>
                    <a:cubicBezTo>
                      <a:pt x="10678" y="7"/>
                      <a:pt x="10677" y="6"/>
                      <a:pt x="10677" y="5"/>
                    </a:cubicBezTo>
                    <a:cubicBezTo>
                      <a:pt x="10677" y="4"/>
                      <a:pt x="10678" y="3"/>
                      <a:pt x="10679" y="3"/>
                    </a:cubicBezTo>
                    <a:close/>
                    <a:moveTo>
                      <a:pt x="10687" y="3"/>
                    </a:moveTo>
                    <a:lnTo>
                      <a:pt x="10687" y="3"/>
                    </a:lnTo>
                    <a:cubicBezTo>
                      <a:pt x="10688" y="3"/>
                      <a:pt x="10689" y="4"/>
                      <a:pt x="10689" y="5"/>
                    </a:cubicBezTo>
                    <a:cubicBezTo>
                      <a:pt x="10689" y="6"/>
                      <a:pt x="10688" y="7"/>
                      <a:pt x="10687" y="7"/>
                    </a:cubicBezTo>
                    <a:lnTo>
                      <a:pt x="10687" y="7"/>
                    </a:lnTo>
                    <a:cubicBezTo>
                      <a:pt x="10686" y="7"/>
                      <a:pt x="10685" y="6"/>
                      <a:pt x="10685" y="5"/>
                    </a:cubicBezTo>
                    <a:cubicBezTo>
                      <a:pt x="10685" y="4"/>
                      <a:pt x="10686" y="3"/>
                      <a:pt x="10687" y="3"/>
                    </a:cubicBezTo>
                    <a:close/>
                    <a:moveTo>
                      <a:pt x="10695" y="3"/>
                    </a:moveTo>
                    <a:lnTo>
                      <a:pt x="10695" y="3"/>
                    </a:lnTo>
                    <a:cubicBezTo>
                      <a:pt x="10696" y="3"/>
                      <a:pt x="10697" y="4"/>
                      <a:pt x="10697" y="5"/>
                    </a:cubicBezTo>
                    <a:cubicBezTo>
                      <a:pt x="10697" y="6"/>
                      <a:pt x="10696" y="7"/>
                      <a:pt x="10695" y="7"/>
                    </a:cubicBezTo>
                    <a:lnTo>
                      <a:pt x="10695" y="7"/>
                    </a:lnTo>
                    <a:cubicBezTo>
                      <a:pt x="10694" y="7"/>
                      <a:pt x="10693" y="6"/>
                      <a:pt x="10693" y="5"/>
                    </a:cubicBezTo>
                    <a:cubicBezTo>
                      <a:pt x="10693" y="4"/>
                      <a:pt x="10694" y="3"/>
                      <a:pt x="10695" y="3"/>
                    </a:cubicBezTo>
                    <a:close/>
                    <a:moveTo>
                      <a:pt x="10703" y="3"/>
                    </a:moveTo>
                    <a:lnTo>
                      <a:pt x="10703" y="3"/>
                    </a:lnTo>
                    <a:cubicBezTo>
                      <a:pt x="10704" y="3"/>
                      <a:pt x="10705" y="4"/>
                      <a:pt x="10705" y="5"/>
                    </a:cubicBezTo>
                    <a:cubicBezTo>
                      <a:pt x="10705" y="6"/>
                      <a:pt x="10704" y="7"/>
                      <a:pt x="10703" y="7"/>
                    </a:cubicBezTo>
                    <a:lnTo>
                      <a:pt x="10703" y="7"/>
                    </a:lnTo>
                    <a:cubicBezTo>
                      <a:pt x="10702" y="7"/>
                      <a:pt x="10701" y="6"/>
                      <a:pt x="10701" y="5"/>
                    </a:cubicBezTo>
                    <a:cubicBezTo>
                      <a:pt x="10701" y="4"/>
                      <a:pt x="10702" y="3"/>
                      <a:pt x="10703" y="3"/>
                    </a:cubicBezTo>
                    <a:close/>
                    <a:moveTo>
                      <a:pt x="10711" y="3"/>
                    </a:moveTo>
                    <a:lnTo>
                      <a:pt x="10711" y="3"/>
                    </a:lnTo>
                    <a:cubicBezTo>
                      <a:pt x="10712" y="3"/>
                      <a:pt x="10713" y="4"/>
                      <a:pt x="10713" y="5"/>
                    </a:cubicBezTo>
                    <a:cubicBezTo>
                      <a:pt x="10713" y="6"/>
                      <a:pt x="10712" y="7"/>
                      <a:pt x="10711" y="7"/>
                    </a:cubicBezTo>
                    <a:lnTo>
                      <a:pt x="10711" y="7"/>
                    </a:lnTo>
                    <a:cubicBezTo>
                      <a:pt x="10710" y="7"/>
                      <a:pt x="10709" y="6"/>
                      <a:pt x="10709" y="5"/>
                    </a:cubicBezTo>
                    <a:cubicBezTo>
                      <a:pt x="10709" y="4"/>
                      <a:pt x="10710" y="3"/>
                      <a:pt x="10711" y="3"/>
                    </a:cubicBezTo>
                    <a:close/>
                    <a:moveTo>
                      <a:pt x="10719" y="3"/>
                    </a:moveTo>
                    <a:lnTo>
                      <a:pt x="10719" y="3"/>
                    </a:lnTo>
                    <a:cubicBezTo>
                      <a:pt x="10720" y="3"/>
                      <a:pt x="10721" y="4"/>
                      <a:pt x="10721" y="5"/>
                    </a:cubicBezTo>
                    <a:cubicBezTo>
                      <a:pt x="10721" y="6"/>
                      <a:pt x="10720" y="7"/>
                      <a:pt x="10719" y="7"/>
                    </a:cubicBezTo>
                    <a:lnTo>
                      <a:pt x="10719" y="7"/>
                    </a:lnTo>
                    <a:cubicBezTo>
                      <a:pt x="10718" y="7"/>
                      <a:pt x="10717" y="6"/>
                      <a:pt x="10717" y="5"/>
                    </a:cubicBezTo>
                    <a:cubicBezTo>
                      <a:pt x="10717" y="4"/>
                      <a:pt x="10718" y="3"/>
                      <a:pt x="10719" y="3"/>
                    </a:cubicBezTo>
                    <a:close/>
                    <a:moveTo>
                      <a:pt x="10727" y="3"/>
                    </a:moveTo>
                    <a:lnTo>
                      <a:pt x="10727" y="3"/>
                    </a:lnTo>
                    <a:cubicBezTo>
                      <a:pt x="10728" y="3"/>
                      <a:pt x="10729" y="4"/>
                      <a:pt x="10729" y="5"/>
                    </a:cubicBezTo>
                    <a:cubicBezTo>
                      <a:pt x="10729" y="6"/>
                      <a:pt x="10728" y="7"/>
                      <a:pt x="10727" y="7"/>
                    </a:cubicBezTo>
                    <a:lnTo>
                      <a:pt x="10727" y="7"/>
                    </a:lnTo>
                    <a:cubicBezTo>
                      <a:pt x="10726" y="7"/>
                      <a:pt x="10725" y="6"/>
                      <a:pt x="10725" y="5"/>
                    </a:cubicBezTo>
                    <a:cubicBezTo>
                      <a:pt x="10725" y="4"/>
                      <a:pt x="10726" y="3"/>
                      <a:pt x="10727" y="3"/>
                    </a:cubicBezTo>
                    <a:close/>
                    <a:moveTo>
                      <a:pt x="10735" y="3"/>
                    </a:moveTo>
                    <a:lnTo>
                      <a:pt x="10735" y="3"/>
                    </a:lnTo>
                    <a:cubicBezTo>
                      <a:pt x="10736" y="3"/>
                      <a:pt x="10737" y="4"/>
                      <a:pt x="10737" y="5"/>
                    </a:cubicBezTo>
                    <a:cubicBezTo>
                      <a:pt x="10737" y="6"/>
                      <a:pt x="10736" y="7"/>
                      <a:pt x="10735" y="7"/>
                    </a:cubicBezTo>
                    <a:lnTo>
                      <a:pt x="10735" y="7"/>
                    </a:lnTo>
                    <a:cubicBezTo>
                      <a:pt x="10734" y="7"/>
                      <a:pt x="10733" y="6"/>
                      <a:pt x="10733" y="5"/>
                    </a:cubicBezTo>
                    <a:cubicBezTo>
                      <a:pt x="10733" y="4"/>
                      <a:pt x="10734" y="3"/>
                      <a:pt x="10735" y="3"/>
                    </a:cubicBezTo>
                    <a:close/>
                    <a:moveTo>
                      <a:pt x="10743" y="3"/>
                    </a:moveTo>
                    <a:lnTo>
                      <a:pt x="10743" y="3"/>
                    </a:lnTo>
                    <a:cubicBezTo>
                      <a:pt x="10744" y="3"/>
                      <a:pt x="10745" y="4"/>
                      <a:pt x="10745" y="5"/>
                    </a:cubicBezTo>
                    <a:cubicBezTo>
                      <a:pt x="10745" y="6"/>
                      <a:pt x="10744" y="7"/>
                      <a:pt x="10743" y="7"/>
                    </a:cubicBezTo>
                    <a:lnTo>
                      <a:pt x="10743" y="7"/>
                    </a:lnTo>
                    <a:cubicBezTo>
                      <a:pt x="10742" y="7"/>
                      <a:pt x="10741" y="6"/>
                      <a:pt x="10741" y="5"/>
                    </a:cubicBezTo>
                    <a:cubicBezTo>
                      <a:pt x="10741" y="4"/>
                      <a:pt x="10742" y="3"/>
                      <a:pt x="10743" y="3"/>
                    </a:cubicBezTo>
                    <a:close/>
                    <a:moveTo>
                      <a:pt x="10751" y="3"/>
                    </a:moveTo>
                    <a:lnTo>
                      <a:pt x="10751" y="3"/>
                    </a:lnTo>
                    <a:cubicBezTo>
                      <a:pt x="10752" y="3"/>
                      <a:pt x="10753" y="4"/>
                      <a:pt x="10753" y="5"/>
                    </a:cubicBezTo>
                    <a:cubicBezTo>
                      <a:pt x="10753" y="6"/>
                      <a:pt x="10752" y="7"/>
                      <a:pt x="10751" y="7"/>
                    </a:cubicBezTo>
                    <a:lnTo>
                      <a:pt x="10751" y="7"/>
                    </a:lnTo>
                    <a:cubicBezTo>
                      <a:pt x="10750" y="7"/>
                      <a:pt x="10749" y="6"/>
                      <a:pt x="10749" y="5"/>
                    </a:cubicBezTo>
                    <a:cubicBezTo>
                      <a:pt x="10749" y="4"/>
                      <a:pt x="10750" y="3"/>
                      <a:pt x="10751" y="3"/>
                    </a:cubicBezTo>
                    <a:close/>
                    <a:moveTo>
                      <a:pt x="10759" y="3"/>
                    </a:moveTo>
                    <a:lnTo>
                      <a:pt x="10759" y="3"/>
                    </a:lnTo>
                    <a:cubicBezTo>
                      <a:pt x="10760" y="3"/>
                      <a:pt x="10761" y="4"/>
                      <a:pt x="10761" y="5"/>
                    </a:cubicBezTo>
                    <a:cubicBezTo>
                      <a:pt x="10761" y="6"/>
                      <a:pt x="10760" y="7"/>
                      <a:pt x="10759" y="7"/>
                    </a:cubicBezTo>
                    <a:lnTo>
                      <a:pt x="10759" y="7"/>
                    </a:lnTo>
                    <a:cubicBezTo>
                      <a:pt x="10758" y="7"/>
                      <a:pt x="10757" y="6"/>
                      <a:pt x="10757" y="5"/>
                    </a:cubicBezTo>
                    <a:cubicBezTo>
                      <a:pt x="10757" y="4"/>
                      <a:pt x="10758" y="3"/>
                      <a:pt x="10759" y="3"/>
                    </a:cubicBezTo>
                    <a:close/>
                    <a:moveTo>
                      <a:pt x="10767" y="3"/>
                    </a:moveTo>
                    <a:lnTo>
                      <a:pt x="10767" y="3"/>
                    </a:lnTo>
                    <a:cubicBezTo>
                      <a:pt x="10768" y="3"/>
                      <a:pt x="10769" y="4"/>
                      <a:pt x="10769" y="5"/>
                    </a:cubicBezTo>
                    <a:cubicBezTo>
                      <a:pt x="10769" y="6"/>
                      <a:pt x="10768" y="7"/>
                      <a:pt x="10767" y="7"/>
                    </a:cubicBezTo>
                    <a:lnTo>
                      <a:pt x="10767" y="7"/>
                    </a:lnTo>
                    <a:cubicBezTo>
                      <a:pt x="10766" y="7"/>
                      <a:pt x="10765" y="6"/>
                      <a:pt x="10765" y="5"/>
                    </a:cubicBezTo>
                    <a:cubicBezTo>
                      <a:pt x="10765" y="4"/>
                      <a:pt x="10766" y="3"/>
                      <a:pt x="10767" y="3"/>
                    </a:cubicBezTo>
                    <a:close/>
                    <a:moveTo>
                      <a:pt x="10775" y="3"/>
                    </a:moveTo>
                    <a:lnTo>
                      <a:pt x="10775" y="3"/>
                    </a:lnTo>
                    <a:cubicBezTo>
                      <a:pt x="10776" y="3"/>
                      <a:pt x="10777" y="4"/>
                      <a:pt x="10777" y="5"/>
                    </a:cubicBezTo>
                    <a:cubicBezTo>
                      <a:pt x="10777" y="6"/>
                      <a:pt x="10776" y="7"/>
                      <a:pt x="10775" y="7"/>
                    </a:cubicBezTo>
                    <a:lnTo>
                      <a:pt x="10775" y="7"/>
                    </a:lnTo>
                    <a:cubicBezTo>
                      <a:pt x="10774" y="7"/>
                      <a:pt x="10773" y="6"/>
                      <a:pt x="10773" y="5"/>
                    </a:cubicBezTo>
                    <a:cubicBezTo>
                      <a:pt x="10773" y="4"/>
                      <a:pt x="10774" y="3"/>
                      <a:pt x="10775" y="3"/>
                    </a:cubicBezTo>
                    <a:close/>
                    <a:moveTo>
                      <a:pt x="10783" y="3"/>
                    </a:moveTo>
                    <a:lnTo>
                      <a:pt x="10783" y="3"/>
                    </a:lnTo>
                    <a:cubicBezTo>
                      <a:pt x="10784" y="3"/>
                      <a:pt x="10785" y="4"/>
                      <a:pt x="10785" y="5"/>
                    </a:cubicBezTo>
                    <a:cubicBezTo>
                      <a:pt x="10785" y="6"/>
                      <a:pt x="10784" y="7"/>
                      <a:pt x="10783" y="7"/>
                    </a:cubicBezTo>
                    <a:lnTo>
                      <a:pt x="10783" y="7"/>
                    </a:lnTo>
                    <a:cubicBezTo>
                      <a:pt x="10782" y="7"/>
                      <a:pt x="10781" y="6"/>
                      <a:pt x="10781" y="5"/>
                    </a:cubicBezTo>
                    <a:cubicBezTo>
                      <a:pt x="10781" y="4"/>
                      <a:pt x="10782" y="3"/>
                      <a:pt x="10783" y="3"/>
                    </a:cubicBezTo>
                    <a:close/>
                    <a:moveTo>
                      <a:pt x="10791" y="3"/>
                    </a:moveTo>
                    <a:lnTo>
                      <a:pt x="10791" y="3"/>
                    </a:lnTo>
                    <a:cubicBezTo>
                      <a:pt x="10793" y="3"/>
                      <a:pt x="10793" y="4"/>
                      <a:pt x="10793" y="5"/>
                    </a:cubicBezTo>
                    <a:cubicBezTo>
                      <a:pt x="10793" y="6"/>
                      <a:pt x="10793" y="7"/>
                      <a:pt x="10791" y="7"/>
                    </a:cubicBezTo>
                    <a:lnTo>
                      <a:pt x="10791" y="7"/>
                    </a:lnTo>
                    <a:cubicBezTo>
                      <a:pt x="10790" y="7"/>
                      <a:pt x="10789" y="6"/>
                      <a:pt x="10789" y="5"/>
                    </a:cubicBezTo>
                    <a:cubicBezTo>
                      <a:pt x="10789" y="4"/>
                      <a:pt x="10790" y="3"/>
                      <a:pt x="10791" y="3"/>
                    </a:cubicBezTo>
                    <a:close/>
                    <a:moveTo>
                      <a:pt x="10799" y="3"/>
                    </a:moveTo>
                    <a:lnTo>
                      <a:pt x="10799" y="3"/>
                    </a:lnTo>
                    <a:cubicBezTo>
                      <a:pt x="10801" y="3"/>
                      <a:pt x="10801" y="4"/>
                      <a:pt x="10801" y="5"/>
                    </a:cubicBezTo>
                    <a:cubicBezTo>
                      <a:pt x="10801" y="6"/>
                      <a:pt x="10801" y="7"/>
                      <a:pt x="10799" y="7"/>
                    </a:cubicBezTo>
                    <a:lnTo>
                      <a:pt x="10799" y="7"/>
                    </a:lnTo>
                    <a:cubicBezTo>
                      <a:pt x="10798" y="7"/>
                      <a:pt x="10797" y="6"/>
                      <a:pt x="10797" y="5"/>
                    </a:cubicBezTo>
                    <a:cubicBezTo>
                      <a:pt x="10797" y="4"/>
                      <a:pt x="10798" y="3"/>
                      <a:pt x="10799" y="3"/>
                    </a:cubicBezTo>
                    <a:close/>
                    <a:moveTo>
                      <a:pt x="10807" y="3"/>
                    </a:moveTo>
                    <a:lnTo>
                      <a:pt x="10807" y="3"/>
                    </a:lnTo>
                    <a:cubicBezTo>
                      <a:pt x="10809" y="3"/>
                      <a:pt x="10809" y="4"/>
                      <a:pt x="10809" y="5"/>
                    </a:cubicBezTo>
                    <a:cubicBezTo>
                      <a:pt x="10809" y="6"/>
                      <a:pt x="10809" y="7"/>
                      <a:pt x="10807" y="7"/>
                    </a:cubicBezTo>
                    <a:lnTo>
                      <a:pt x="10807" y="7"/>
                    </a:lnTo>
                    <a:cubicBezTo>
                      <a:pt x="10806" y="7"/>
                      <a:pt x="10805" y="6"/>
                      <a:pt x="10805" y="5"/>
                    </a:cubicBezTo>
                    <a:cubicBezTo>
                      <a:pt x="10805" y="4"/>
                      <a:pt x="10806" y="3"/>
                      <a:pt x="10807" y="3"/>
                    </a:cubicBezTo>
                    <a:close/>
                    <a:moveTo>
                      <a:pt x="10815" y="3"/>
                    </a:moveTo>
                    <a:lnTo>
                      <a:pt x="10815" y="3"/>
                    </a:lnTo>
                    <a:cubicBezTo>
                      <a:pt x="10817" y="3"/>
                      <a:pt x="10817" y="4"/>
                      <a:pt x="10817" y="5"/>
                    </a:cubicBezTo>
                    <a:cubicBezTo>
                      <a:pt x="10817" y="6"/>
                      <a:pt x="10817" y="7"/>
                      <a:pt x="10815" y="7"/>
                    </a:cubicBezTo>
                    <a:lnTo>
                      <a:pt x="10815" y="7"/>
                    </a:lnTo>
                    <a:cubicBezTo>
                      <a:pt x="10814" y="7"/>
                      <a:pt x="10813" y="6"/>
                      <a:pt x="10813" y="5"/>
                    </a:cubicBezTo>
                    <a:cubicBezTo>
                      <a:pt x="10813" y="4"/>
                      <a:pt x="10814" y="3"/>
                      <a:pt x="10815" y="3"/>
                    </a:cubicBezTo>
                    <a:close/>
                    <a:moveTo>
                      <a:pt x="10823" y="3"/>
                    </a:moveTo>
                    <a:lnTo>
                      <a:pt x="10823" y="3"/>
                    </a:lnTo>
                    <a:cubicBezTo>
                      <a:pt x="10825" y="3"/>
                      <a:pt x="10825" y="4"/>
                      <a:pt x="10825" y="5"/>
                    </a:cubicBezTo>
                    <a:cubicBezTo>
                      <a:pt x="10825" y="6"/>
                      <a:pt x="10825" y="7"/>
                      <a:pt x="10823" y="7"/>
                    </a:cubicBezTo>
                    <a:lnTo>
                      <a:pt x="10823" y="7"/>
                    </a:lnTo>
                    <a:cubicBezTo>
                      <a:pt x="10822" y="7"/>
                      <a:pt x="10821" y="6"/>
                      <a:pt x="10821" y="5"/>
                    </a:cubicBezTo>
                    <a:cubicBezTo>
                      <a:pt x="10821" y="4"/>
                      <a:pt x="10822" y="3"/>
                      <a:pt x="10823" y="3"/>
                    </a:cubicBezTo>
                    <a:close/>
                    <a:moveTo>
                      <a:pt x="10831" y="3"/>
                    </a:moveTo>
                    <a:lnTo>
                      <a:pt x="10831" y="3"/>
                    </a:lnTo>
                    <a:cubicBezTo>
                      <a:pt x="10833" y="3"/>
                      <a:pt x="10833" y="4"/>
                      <a:pt x="10833" y="5"/>
                    </a:cubicBezTo>
                    <a:cubicBezTo>
                      <a:pt x="10833" y="6"/>
                      <a:pt x="10833" y="7"/>
                      <a:pt x="10831" y="7"/>
                    </a:cubicBezTo>
                    <a:lnTo>
                      <a:pt x="10831" y="7"/>
                    </a:lnTo>
                    <a:cubicBezTo>
                      <a:pt x="10830" y="7"/>
                      <a:pt x="10829" y="6"/>
                      <a:pt x="10829" y="5"/>
                    </a:cubicBezTo>
                    <a:cubicBezTo>
                      <a:pt x="10829" y="4"/>
                      <a:pt x="10830" y="3"/>
                      <a:pt x="10831" y="3"/>
                    </a:cubicBezTo>
                    <a:close/>
                    <a:moveTo>
                      <a:pt x="10839" y="3"/>
                    </a:moveTo>
                    <a:lnTo>
                      <a:pt x="10839" y="3"/>
                    </a:lnTo>
                    <a:cubicBezTo>
                      <a:pt x="10841" y="3"/>
                      <a:pt x="10841" y="4"/>
                      <a:pt x="10841" y="5"/>
                    </a:cubicBezTo>
                    <a:cubicBezTo>
                      <a:pt x="10841" y="6"/>
                      <a:pt x="10841" y="7"/>
                      <a:pt x="10839" y="7"/>
                    </a:cubicBezTo>
                    <a:lnTo>
                      <a:pt x="10839" y="7"/>
                    </a:lnTo>
                    <a:cubicBezTo>
                      <a:pt x="10838" y="7"/>
                      <a:pt x="10837" y="6"/>
                      <a:pt x="10837" y="5"/>
                    </a:cubicBezTo>
                    <a:cubicBezTo>
                      <a:pt x="10837" y="4"/>
                      <a:pt x="10838" y="3"/>
                      <a:pt x="10839" y="3"/>
                    </a:cubicBezTo>
                    <a:close/>
                    <a:moveTo>
                      <a:pt x="10847" y="3"/>
                    </a:moveTo>
                    <a:lnTo>
                      <a:pt x="10847" y="3"/>
                    </a:lnTo>
                    <a:cubicBezTo>
                      <a:pt x="10849" y="3"/>
                      <a:pt x="10849" y="4"/>
                      <a:pt x="10849" y="5"/>
                    </a:cubicBezTo>
                    <a:cubicBezTo>
                      <a:pt x="10849" y="6"/>
                      <a:pt x="10849" y="7"/>
                      <a:pt x="10847" y="7"/>
                    </a:cubicBezTo>
                    <a:lnTo>
                      <a:pt x="10847" y="7"/>
                    </a:lnTo>
                    <a:cubicBezTo>
                      <a:pt x="10846" y="7"/>
                      <a:pt x="10845" y="6"/>
                      <a:pt x="10845" y="5"/>
                    </a:cubicBezTo>
                    <a:cubicBezTo>
                      <a:pt x="10845" y="4"/>
                      <a:pt x="10846" y="3"/>
                      <a:pt x="10847" y="3"/>
                    </a:cubicBezTo>
                    <a:close/>
                    <a:moveTo>
                      <a:pt x="10855" y="3"/>
                    </a:moveTo>
                    <a:lnTo>
                      <a:pt x="10855" y="3"/>
                    </a:lnTo>
                    <a:cubicBezTo>
                      <a:pt x="10857" y="3"/>
                      <a:pt x="10857" y="4"/>
                      <a:pt x="10857" y="5"/>
                    </a:cubicBezTo>
                    <a:cubicBezTo>
                      <a:pt x="10857" y="6"/>
                      <a:pt x="10857" y="7"/>
                      <a:pt x="10855" y="7"/>
                    </a:cubicBezTo>
                    <a:lnTo>
                      <a:pt x="10855" y="7"/>
                    </a:lnTo>
                    <a:cubicBezTo>
                      <a:pt x="10854" y="7"/>
                      <a:pt x="10853" y="6"/>
                      <a:pt x="10853" y="5"/>
                    </a:cubicBezTo>
                    <a:cubicBezTo>
                      <a:pt x="10853" y="4"/>
                      <a:pt x="10854" y="3"/>
                      <a:pt x="10855" y="3"/>
                    </a:cubicBezTo>
                    <a:close/>
                    <a:moveTo>
                      <a:pt x="10863" y="3"/>
                    </a:moveTo>
                    <a:lnTo>
                      <a:pt x="10863" y="3"/>
                    </a:lnTo>
                    <a:cubicBezTo>
                      <a:pt x="10865" y="3"/>
                      <a:pt x="10865" y="4"/>
                      <a:pt x="10865" y="5"/>
                    </a:cubicBezTo>
                    <a:cubicBezTo>
                      <a:pt x="10865" y="6"/>
                      <a:pt x="10865" y="7"/>
                      <a:pt x="10863" y="7"/>
                    </a:cubicBezTo>
                    <a:lnTo>
                      <a:pt x="10863" y="7"/>
                    </a:lnTo>
                    <a:cubicBezTo>
                      <a:pt x="10862" y="7"/>
                      <a:pt x="10861" y="6"/>
                      <a:pt x="10861" y="5"/>
                    </a:cubicBezTo>
                    <a:cubicBezTo>
                      <a:pt x="10861" y="4"/>
                      <a:pt x="10862" y="3"/>
                      <a:pt x="10863" y="3"/>
                    </a:cubicBezTo>
                    <a:close/>
                    <a:moveTo>
                      <a:pt x="10871" y="3"/>
                    </a:moveTo>
                    <a:lnTo>
                      <a:pt x="10871" y="3"/>
                    </a:lnTo>
                    <a:cubicBezTo>
                      <a:pt x="10873" y="3"/>
                      <a:pt x="10873" y="4"/>
                      <a:pt x="10873" y="5"/>
                    </a:cubicBezTo>
                    <a:cubicBezTo>
                      <a:pt x="10873" y="6"/>
                      <a:pt x="10873" y="7"/>
                      <a:pt x="10871" y="7"/>
                    </a:cubicBezTo>
                    <a:lnTo>
                      <a:pt x="10871" y="7"/>
                    </a:lnTo>
                    <a:cubicBezTo>
                      <a:pt x="10870" y="7"/>
                      <a:pt x="10869" y="6"/>
                      <a:pt x="10869" y="5"/>
                    </a:cubicBezTo>
                    <a:cubicBezTo>
                      <a:pt x="10869" y="4"/>
                      <a:pt x="10870" y="3"/>
                      <a:pt x="10871" y="3"/>
                    </a:cubicBezTo>
                    <a:close/>
                    <a:moveTo>
                      <a:pt x="10879" y="3"/>
                    </a:moveTo>
                    <a:lnTo>
                      <a:pt x="10879" y="3"/>
                    </a:lnTo>
                    <a:cubicBezTo>
                      <a:pt x="10881" y="3"/>
                      <a:pt x="10881" y="4"/>
                      <a:pt x="10881" y="5"/>
                    </a:cubicBezTo>
                    <a:cubicBezTo>
                      <a:pt x="10881" y="6"/>
                      <a:pt x="10881" y="7"/>
                      <a:pt x="10879" y="7"/>
                    </a:cubicBezTo>
                    <a:lnTo>
                      <a:pt x="10879" y="7"/>
                    </a:lnTo>
                    <a:cubicBezTo>
                      <a:pt x="10878" y="7"/>
                      <a:pt x="10877" y="6"/>
                      <a:pt x="10877" y="5"/>
                    </a:cubicBezTo>
                    <a:cubicBezTo>
                      <a:pt x="10877" y="4"/>
                      <a:pt x="10878" y="3"/>
                      <a:pt x="10879" y="3"/>
                    </a:cubicBezTo>
                    <a:close/>
                    <a:moveTo>
                      <a:pt x="10887" y="3"/>
                    </a:moveTo>
                    <a:lnTo>
                      <a:pt x="10887" y="3"/>
                    </a:lnTo>
                    <a:cubicBezTo>
                      <a:pt x="10889" y="3"/>
                      <a:pt x="10889" y="4"/>
                      <a:pt x="10889" y="5"/>
                    </a:cubicBezTo>
                    <a:cubicBezTo>
                      <a:pt x="10889" y="6"/>
                      <a:pt x="10889" y="7"/>
                      <a:pt x="10887" y="7"/>
                    </a:cubicBezTo>
                    <a:lnTo>
                      <a:pt x="10887" y="7"/>
                    </a:lnTo>
                    <a:cubicBezTo>
                      <a:pt x="10886" y="7"/>
                      <a:pt x="10885" y="6"/>
                      <a:pt x="10885" y="5"/>
                    </a:cubicBezTo>
                    <a:cubicBezTo>
                      <a:pt x="10885" y="4"/>
                      <a:pt x="10886" y="3"/>
                      <a:pt x="10887" y="3"/>
                    </a:cubicBezTo>
                    <a:close/>
                    <a:moveTo>
                      <a:pt x="10895" y="3"/>
                    </a:moveTo>
                    <a:lnTo>
                      <a:pt x="10895" y="3"/>
                    </a:lnTo>
                    <a:cubicBezTo>
                      <a:pt x="10897" y="3"/>
                      <a:pt x="10897" y="4"/>
                      <a:pt x="10897" y="5"/>
                    </a:cubicBezTo>
                    <a:cubicBezTo>
                      <a:pt x="10897" y="6"/>
                      <a:pt x="10897" y="7"/>
                      <a:pt x="10895" y="7"/>
                    </a:cubicBezTo>
                    <a:lnTo>
                      <a:pt x="10895" y="7"/>
                    </a:lnTo>
                    <a:cubicBezTo>
                      <a:pt x="10894" y="7"/>
                      <a:pt x="10893" y="6"/>
                      <a:pt x="10893" y="5"/>
                    </a:cubicBezTo>
                    <a:cubicBezTo>
                      <a:pt x="10893" y="4"/>
                      <a:pt x="10894" y="3"/>
                      <a:pt x="10895" y="3"/>
                    </a:cubicBezTo>
                    <a:close/>
                    <a:moveTo>
                      <a:pt x="10903" y="3"/>
                    </a:moveTo>
                    <a:lnTo>
                      <a:pt x="10903" y="3"/>
                    </a:lnTo>
                    <a:cubicBezTo>
                      <a:pt x="10905" y="3"/>
                      <a:pt x="10905" y="4"/>
                      <a:pt x="10905" y="5"/>
                    </a:cubicBezTo>
                    <a:cubicBezTo>
                      <a:pt x="10905" y="6"/>
                      <a:pt x="10905" y="7"/>
                      <a:pt x="10903" y="7"/>
                    </a:cubicBezTo>
                    <a:lnTo>
                      <a:pt x="10903" y="7"/>
                    </a:lnTo>
                    <a:cubicBezTo>
                      <a:pt x="10902" y="7"/>
                      <a:pt x="10901" y="6"/>
                      <a:pt x="10901" y="5"/>
                    </a:cubicBezTo>
                    <a:cubicBezTo>
                      <a:pt x="10901" y="4"/>
                      <a:pt x="10902" y="3"/>
                      <a:pt x="10903" y="3"/>
                    </a:cubicBezTo>
                    <a:close/>
                    <a:moveTo>
                      <a:pt x="10911" y="3"/>
                    </a:moveTo>
                    <a:lnTo>
                      <a:pt x="10911" y="3"/>
                    </a:lnTo>
                    <a:cubicBezTo>
                      <a:pt x="10913" y="3"/>
                      <a:pt x="10913" y="4"/>
                      <a:pt x="10913" y="5"/>
                    </a:cubicBezTo>
                    <a:cubicBezTo>
                      <a:pt x="10913" y="6"/>
                      <a:pt x="10913" y="7"/>
                      <a:pt x="10911" y="7"/>
                    </a:cubicBezTo>
                    <a:lnTo>
                      <a:pt x="10911" y="7"/>
                    </a:lnTo>
                    <a:cubicBezTo>
                      <a:pt x="10910" y="7"/>
                      <a:pt x="10909" y="6"/>
                      <a:pt x="10909" y="5"/>
                    </a:cubicBezTo>
                    <a:cubicBezTo>
                      <a:pt x="10909" y="4"/>
                      <a:pt x="10910" y="3"/>
                      <a:pt x="10911" y="3"/>
                    </a:cubicBezTo>
                    <a:close/>
                    <a:moveTo>
                      <a:pt x="10919" y="3"/>
                    </a:moveTo>
                    <a:lnTo>
                      <a:pt x="10919" y="3"/>
                    </a:lnTo>
                    <a:cubicBezTo>
                      <a:pt x="10921" y="3"/>
                      <a:pt x="10921" y="4"/>
                      <a:pt x="10921" y="5"/>
                    </a:cubicBezTo>
                    <a:cubicBezTo>
                      <a:pt x="10921" y="6"/>
                      <a:pt x="10921" y="7"/>
                      <a:pt x="10919" y="7"/>
                    </a:cubicBezTo>
                    <a:lnTo>
                      <a:pt x="10919" y="7"/>
                    </a:lnTo>
                    <a:cubicBezTo>
                      <a:pt x="10918" y="7"/>
                      <a:pt x="10917" y="6"/>
                      <a:pt x="10917" y="5"/>
                    </a:cubicBezTo>
                    <a:cubicBezTo>
                      <a:pt x="10917" y="4"/>
                      <a:pt x="10918" y="3"/>
                      <a:pt x="10919" y="3"/>
                    </a:cubicBezTo>
                    <a:close/>
                    <a:moveTo>
                      <a:pt x="10927" y="3"/>
                    </a:moveTo>
                    <a:lnTo>
                      <a:pt x="10927" y="3"/>
                    </a:lnTo>
                    <a:cubicBezTo>
                      <a:pt x="10929" y="3"/>
                      <a:pt x="10929" y="4"/>
                      <a:pt x="10929" y="5"/>
                    </a:cubicBezTo>
                    <a:cubicBezTo>
                      <a:pt x="10929" y="6"/>
                      <a:pt x="10929" y="7"/>
                      <a:pt x="10927" y="7"/>
                    </a:cubicBezTo>
                    <a:lnTo>
                      <a:pt x="10927" y="7"/>
                    </a:lnTo>
                    <a:cubicBezTo>
                      <a:pt x="10926" y="7"/>
                      <a:pt x="10925" y="6"/>
                      <a:pt x="10925" y="5"/>
                    </a:cubicBezTo>
                    <a:cubicBezTo>
                      <a:pt x="10925" y="4"/>
                      <a:pt x="10926" y="3"/>
                      <a:pt x="10927" y="3"/>
                    </a:cubicBezTo>
                    <a:close/>
                    <a:moveTo>
                      <a:pt x="10935" y="3"/>
                    </a:moveTo>
                    <a:lnTo>
                      <a:pt x="10935" y="3"/>
                    </a:lnTo>
                    <a:cubicBezTo>
                      <a:pt x="10937" y="3"/>
                      <a:pt x="10937" y="4"/>
                      <a:pt x="10937" y="5"/>
                    </a:cubicBezTo>
                    <a:cubicBezTo>
                      <a:pt x="10937" y="6"/>
                      <a:pt x="10937" y="7"/>
                      <a:pt x="10935" y="7"/>
                    </a:cubicBezTo>
                    <a:lnTo>
                      <a:pt x="10935" y="7"/>
                    </a:lnTo>
                    <a:cubicBezTo>
                      <a:pt x="10934" y="7"/>
                      <a:pt x="10933" y="6"/>
                      <a:pt x="10933" y="5"/>
                    </a:cubicBezTo>
                    <a:cubicBezTo>
                      <a:pt x="10933" y="4"/>
                      <a:pt x="10934" y="3"/>
                      <a:pt x="10935" y="3"/>
                    </a:cubicBezTo>
                    <a:close/>
                    <a:moveTo>
                      <a:pt x="10943" y="3"/>
                    </a:moveTo>
                    <a:lnTo>
                      <a:pt x="10943" y="3"/>
                    </a:lnTo>
                    <a:cubicBezTo>
                      <a:pt x="10945" y="3"/>
                      <a:pt x="10945" y="4"/>
                      <a:pt x="10945" y="5"/>
                    </a:cubicBezTo>
                    <a:cubicBezTo>
                      <a:pt x="10945" y="6"/>
                      <a:pt x="10945" y="7"/>
                      <a:pt x="10943" y="7"/>
                    </a:cubicBezTo>
                    <a:lnTo>
                      <a:pt x="10943" y="7"/>
                    </a:lnTo>
                    <a:cubicBezTo>
                      <a:pt x="10942" y="7"/>
                      <a:pt x="10941" y="6"/>
                      <a:pt x="10941" y="5"/>
                    </a:cubicBezTo>
                    <a:cubicBezTo>
                      <a:pt x="10941" y="4"/>
                      <a:pt x="10942" y="3"/>
                      <a:pt x="10943" y="3"/>
                    </a:cubicBezTo>
                    <a:close/>
                    <a:moveTo>
                      <a:pt x="10951" y="3"/>
                    </a:moveTo>
                    <a:lnTo>
                      <a:pt x="10951" y="3"/>
                    </a:lnTo>
                    <a:cubicBezTo>
                      <a:pt x="10953" y="3"/>
                      <a:pt x="10953" y="4"/>
                      <a:pt x="10953" y="5"/>
                    </a:cubicBezTo>
                    <a:cubicBezTo>
                      <a:pt x="10953" y="6"/>
                      <a:pt x="10953" y="7"/>
                      <a:pt x="10951" y="7"/>
                    </a:cubicBezTo>
                    <a:lnTo>
                      <a:pt x="10951" y="7"/>
                    </a:lnTo>
                    <a:cubicBezTo>
                      <a:pt x="10950" y="7"/>
                      <a:pt x="10949" y="6"/>
                      <a:pt x="10949" y="5"/>
                    </a:cubicBezTo>
                    <a:cubicBezTo>
                      <a:pt x="10949" y="4"/>
                      <a:pt x="10950" y="3"/>
                      <a:pt x="10951" y="3"/>
                    </a:cubicBezTo>
                    <a:close/>
                    <a:moveTo>
                      <a:pt x="10959" y="3"/>
                    </a:moveTo>
                    <a:lnTo>
                      <a:pt x="10960" y="3"/>
                    </a:lnTo>
                    <a:cubicBezTo>
                      <a:pt x="10961" y="3"/>
                      <a:pt x="10962" y="4"/>
                      <a:pt x="10962" y="5"/>
                    </a:cubicBezTo>
                    <a:cubicBezTo>
                      <a:pt x="10962" y="6"/>
                      <a:pt x="10961" y="7"/>
                      <a:pt x="10960" y="7"/>
                    </a:cubicBezTo>
                    <a:lnTo>
                      <a:pt x="10959" y="7"/>
                    </a:lnTo>
                    <a:cubicBezTo>
                      <a:pt x="10958" y="7"/>
                      <a:pt x="10957" y="6"/>
                      <a:pt x="10957" y="5"/>
                    </a:cubicBezTo>
                    <a:cubicBezTo>
                      <a:pt x="10957" y="4"/>
                      <a:pt x="10958" y="3"/>
                      <a:pt x="10959" y="3"/>
                    </a:cubicBezTo>
                    <a:close/>
                    <a:moveTo>
                      <a:pt x="10968" y="3"/>
                    </a:moveTo>
                    <a:lnTo>
                      <a:pt x="10968" y="3"/>
                    </a:lnTo>
                    <a:cubicBezTo>
                      <a:pt x="10969" y="3"/>
                      <a:pt x="10970" y="4"/>
                      <a:pt x="10970" y="5"/>
                    </a:cubicBezTo>
                    <a:cubicBezTo>
                      <a:pt x="10970" y="6"/>
                      <a:pt x="10969" y="7"/>
                      <a:pt x="10968" y="7"/>
                    </a:cubicBezTo>
                    <a:lnTo>
                      <a:pt x="10968" y="7"/>
                    </a:lnTo>
                    <a:cubicBezTo>
                      <a:pt x="10966" y="7"/>
                      <a:pt x="10966" y="6"/>
                      <a:pt x="10966" y="5"/>
                    </a:cubicBezTo>
                    <a:cubicBezTo>
                      <a:pt x="10966" y="4"/>
                      <a:pt x="10966" y="3"/>
                      <a:pt x="10968" y="3"/>
                    </a:cubicBezTo>
                    <a:close/>
                    <a:moveTo>
                      <a:pt x="10976" y="3"/>
                    </a:moveTo>
                    <a:lnTo>
                      <a:pt x="10976" y="3"/>
                    </a:lnTo>
                    <a:cubicBezTo>
                      <a:pt x="10977" y="3"/>
                      <a:pt x="10978" y="4"/>
                      <a:pt x="10978" y="5"/>
                    </a:cubicBezTo>
                    <a:cubicBezTo>
                      <a:pt x="10978" y="6"/>
                      <a:pt x="10977" y="7"/>
                      <a:pt x="10976" y="7"/>
                    </a:cubicBezTo>
                    <a:lnTo>
                      <a:pt x="10976" y="7"/>
                    </a:lnTo>
                    <a:cubicBezTo>
                      <a:pt x="10974" y="7"/>
                      <a:pt x="10974" y="6"/>
                      <a:pt x="10974" y="5"/>
                    </a:cubicBezTo>
                    <a:cubicBezTo>
                      <a:pt x="10974" y="4"/>
                      <a:pt x="10974" y="3"/>
                      <a:pt x="10976" y="3"/>
                    </a:cubicBezTo>
                    <a:close/>
                    <a:moveTo>
                      <a:pt x="10984" y="3"/>
                    </a:moveTo>
                    <a:lnTo>
                      <a:pt x="10984" y="3"/>
                    </a:lnTo>
                    <a:cubicBezTo>
                      <a:pt x="10985" y="3"/>
                      <a:pt x="10986" y="4"/>
                      <a:pt x="10986" y="5"/>
                    </a:cubicBezTo>
                    <a:cubicBezTo>
                      <a:pt x="10986" y="6"/>
                      <a:pt x="10985" y="7"/>
                      <a:pt x="10984" y="7"/>
                    </a:cubicBezTo>
                    <a:lnTo>
                      <a:pt x="10984" y="7"/>
                    </a:lnTo>
                    <a:cubicBezTo>
                      <a:pt x="10982" y="7"/>
                      <a:pt x="10982" y="6"/>
                      <a:pt x="10982" y="5"/>
                    </a:cubicBezTo>
                    <a:cubicBezTo>
                      <a:pt x="10982" y="4"/>
                      <a:pt x="10982" y="3"/>
                      <a:pt x="10984" y="3"/>
                    </a:cubicBezTo>
                    <a:close/>
                    <a:moveTo>
                      <a:pt x="10992" y="3"/>
                    </a:moveTo>
                    <a:lnTo>
                      <a:pt x="10992" y="3"/>
                    </a:lnTo>
                    <a:cubicBezTo>
                      <a:pt x="10993" y="3"/>
                      <a:pt x="10994" y="4"/>
                      <a:pt x="10994" y="5"/>
                    </a:cubicBezTo>
                    <a:cubicBezTo>
                      <a:pt x="10994" y="6"/>
                      <a:pt x="10993" y="7"/>
                      <a:pt x="10992" y="7"/>
                    </a:cubicBezTo>
                    <a:lnTo>
                      <a:pt x="10992" y="7"/>
                    </a:lnTo>
                    <a:cubicBezTo>
                      <a:pt x="10990" y="7"/>
                      <a:pt x="10990" y="6"/>
                      <a:pt x="10990" y="5"/>
                    </a:cubicBezTo>
                    <a:cubicBezTo>
                      <a:pt x="10990" y="4"/>
                      <a:pt x="10990" y="3"/>
                      <a:pt x="10992" y="3"/>
                    </a:cubicBezTo>
                    <a:close/>
                    <a:moveTo>
                      <a:pt x="11000" y="3"/>
                    </a:moveTo>
                    <a:lnTo>
                      <a:pt x="11000" y="3"/>
                    </a:lnTo>
                    <a:cubicBezTo>
                      <a:pt x="11001" y="3"/>
                      <a:pt x="11002" y="4"/>
                      <a:pt x="11002" y="5"/>
                    </a:cubicBezTo>
                    <a:cubicBezTo>
                      <a:pt x="11002" y="6"/>
                      <a:pt x="11001" y="7"/>
                      <a:pt x="11000" y="7"/>
                    </a:cubicBezTo>
                    <a:lnTo>
                      <a:pt x="11000" y="7"/>
                    </a:lnTo>
                    <a:cubicBezTo>
                      <a:pt x="10998" y="7"/>
                      <a:pt x="10998" y="6"/>
                      <a:pt x="10998" y="5"/>
                    </a:cubicBezTo>
                    <a:cubicBezTo>
                      <a:pt x="10998" y="4"/>
                      <a:pt x="10998" y="3"/>
                      <a:pt x="11000" y="3"/>
                    </a:cubicBezTo>
                    <a:close/>
                    <a:moveTo>
                      <a:pt x="11008" y="3"/>
                    </a:moveTo>
                    <a:lnTo>
                      <a:pt x="11008" y="3"/>
                    </a:lnTo>
                    <a:cubicBezTo>
                      <a:pt x="11009" y="3"/>
                      <a:pt x="11010" y="4"/>
                      <a:pt x="11010" y="5"/>
                    </a:cubicBezTo>
                    <a:cubicBezTo>
                      <a:pt x="11010" y="6"/>
                      <a:pt x="11009" y="7"/>
                      <a:pt x="11008" y="7"/>
                    </a:cubicBezTo>
                    <a:lnTo>
                      <a:pt x="11008" y="7"/>
                    </a:lnTo>
                    <a:cubicBezTo>
                      <a:pt x="11006" y="7"/>
                      <a:pt x="11006" y="6"/>
                      <a:pt x="11006" y="5"/>
                    </a:cubicBezTo>
                    <a:cubicBezTo>
                      <a:pt x="11006" y="4"/>
                      <a:pt x="11006" y="3"/>
                      <a:pt x="11008" y="3"/>
                    </a:cubicBezTo>
                    <a:close/>
                    <a:moveTo>
                      <a:pt x="11016" y="3"/>
                    </a:moveTo>
                    <a:lnTo>
                      <a:pt x="11016" y="3"/>
                    </a:lnTo>
                    <a:cubicBezTo>
                      <a:pt x="11017" y="3"/>
                      <a:pt x="11018" y="4"/>
                      <a:pt x="11018" y="5"/>
                    </a:cubicBezTo>
                    <a:cubicBezTo>
                      <a:pt x="11018" y="6"/>
                      <a:pt x="11017" y="7"/>
                      <a:pt x="11016" y="7"/>
                    </a:cubicBezTo>
                    <a:lnTo>
                      <a:pt x="11016" y="7"/>
                    </a:lnTo>
                    <a:cubicBezTo>
                      <a:pt x="11014" y="7"/>
                      <a:pt x="11014" y="6"/>
                      <a:pt x="11014" y="5"/>
                    </a:cubicBezTo>
                    <a:cubicBezTo>
                      <a:pt x="11014" y="4"/>
                      <a:pt x="11014" y="3"/>
                      <a:pt x="11016" y="3"/>
                    </a:cubicBezTo>
                    <a:close/>
                    <a:moveTo>
                      <a:pt x="11024" y="3"/>
                    </a:moveTo>
                    <a:lnTo>
                      <a:pt x="11024" y="3"/>
                    </a:lnTo>
                    <a:cubicBezTo>
                      <a:pt x="11025" y="3"/>
                      <a:pt x="11026" y="4"/>
                      <a:pt x="11026" y="5"/>
                    </a:cubicBezTo>
                    <a:cubicBezTo>
                      <a:pt x="11026" y="6"/>
                      <a:pt x="11025" y="7"/>
                      <a:pt x="11024" y="7"/>
                    </a:cubicBezTo>
                    <a:lnTo>
                      <a:pt x="11024" y="7"/>
                    </a:lnTo>
                    <a:cubicBezTo>
                      <a:pt x="11022" y="7"/>
                      <a:pt x="11022" y="6"/>
                      <a:pt x="11022" y="5"/>
                    </a:cubicBezTo>
                    <a:cubicBezTo>
                      <a:pt x="11022" y="4"/>
                      <a:pt x="11022" y="3"/>
                      <a:pt x="11024" y="3"/>
                    </a:cubicBezTo>
                    <a:close/>
                    <a:moveTo>
                      <a:pt x="11032" y="3"/>
                    </a:moveTo>
                    <a:lnTo>
                      <a:pt x="11032" y="3"/>
                    </a:lnTo>
                    <a:cubicBezTo>
                      <a:pt x="11033" y="3"/>
                      <a:pt x="11034" y="4"/>
                      <a:pt x="11034" y="5"/>
                    </a:cubicBezTo>
                    <a:cubicBezTo>
                      <a:pt x="11034" y="6"/>
                      <a:pt x="11033" y="7"/>
                      <a:pt x="11032" y="7"/>
                    </a:cubicBezTo>
                    <a:lnTo>
                      <a:pt x="11032" y="7"/>
                    </a:lnTo>
                    <a:cubicBezTo>
                      <a:pt x="11030" y="7"/>
                      <a:pt x="11030" y="6"/>
                      <a:pt x="11030" y="5"/>
                    </a:cubicBezTo>
                    <a:cubicBezTo>
                      <a:pt x="11030" y="4"/>
                      <a:pt x="11030" y="3"/>
                      <a:pt x="11032" y="3"/>
                    </a:cubicBezTo>
                    <a:close/>
                    <a:moveTo>
                      <a:pt x="11040" y="3"/>
                    </a:moveTo>
                    <a:lnTo>
                      <a:pt x="11040" y="3"/>
                    </a:lnTo>
                    <a:cubicBezTo>
                      <a:pt x="11041" y="3"/>
                      <a:pt x="11042" y="4"/>
                      <a:pt x="11042" y="5"/>
                    </a:cubicBezTo>
                    <a:cubicBezTo>
                      <a:pt x="11042" y="6"/>
                      <a:pt x="11041" y="7"/>
                      <a:pt x="11040" y="7"/>
                    </a:cubicBezTo>
                    <a:lnTo>
                      <a:pt x="11040" y="7"/>
                    </a:lnTo>
                    <a:cubicBezTo>
                      <a:pt x="11038" y="7"/>
                      <a:pt x="11038" y="6"/>
                      <a:pt x="11038" y="5"/>
                    </a:cubicBezTo>
                    <a:cubicBezTo>
                      <a:pt x="11038" y="4"/>
                      <a:pt x="11038" y="3"/>
                      <a:pt x="11040" y="3"/>
                    </a:cubicBezTo>
                    <a:close/>
                    <a:moveTo>
                      <a:pt x="11048" y="3"/>
                    </a:moveTo>
                    <a:lnTo>
                      <a:pt x="11048" y="3"/>
                    </a:lnTo>
                    <a:cubicBezTo>
                      <a:pt x="11049" y="3"/>
                      <a:pt x="11050" y="4"/>
                      <a:pt x="11050" y="5"/>
                    </a:cubicBezTo>
                    <a:cubicBezTo>
                      <a:pt x="11050" y="6"/>
                      <a:pt x="11049" y="7"/>
                      <a:pt x="11048" y="7"/>
                    </a:cubicBezTo>
                    <a:lnTo>
                      <a:pt x="11048" y="7"/>
                    </a:lnTo>
                    <a:cubicBezTo>
                      <a:pt x="11046" y="7"/>
                      <a:pt x="11046" y="6"/>
                      <a:pt x="11046" y="5"/>
                    </a:cubicBezTo>
                    <a:cubicBezTo>
                      <a:pt x="11046" y="4"/>
                      <a:pt x="11046" y="3"/>
                      <a:pt x="11048" y="3"/>
                    </a:cubicBezTo>
                    <a:close/>
                    <a:moveTo>
                      <a:pt x="11056" y="3"/>
                    </a:moveTo>
                    <a:lnTo>
                      <a:pt x="11056" y="3"/>
                    </a:lnTo>
                    <a:cubicBezTo>
                      <a:pt x="11057" y="3"/>
                      <a:pt x="11058" y="4"/>
                      <a:pt x="11058" y="5"/>
                    </a:cubicBezTo>
                    <a:cubicBezTo>
                      <a:pt x="11058" y="6"/>
                      <a:pt x="11057" y="7"/>
                      <a:pt x="11056" y="7"/>
                    </a:cubicBezTo>
                    <a:lnTo>
                      <a:pt x="11056" y="7"/>
                    </a:lnTo>
                    <a:cubicBezTo>
                      <a:pt x="11054" y="7"/>
                      <a:pt x="11054" y="6"/>
                      <a:pt x="11054" y="5"/>
                    </a:cubicBezTo>
                    <a:cubicBezTo>
                      <a:pt x="11054" y="4"/>
                      <a:pt x="11054" y="3"/>
                      <a:pt x="11056" y="3"/>
                    </a:cubicBezTo>
                    <a:close/>
                    <a:moveTo>
                      <a:pt x="11064" y="3"/>
                    </a:moveTo>
                    <a:lnTo>
                      <a:pt x="11064" y="3"/>
                    </a:lnTo>
                    <a:cubicBezTo>
                      <a:pt x="11065" y="3"/>
                      <a:pt x="11066" y="4"/>
                      <a:pt x="11066" y="5"/>
                    </a:cubicBezTo>
                    <a:cubicBezTo>
                      <a:pt x="11066" y="6"/>
                      <a:pt x="11065" y="7"/>
                      <a:pt x="11064" y="7"/>
                    </a:cubicBezTo>
                    <a:lnTo>
                      <a:pt x="11064" y="7"/>
                    </a:lnTo>
                    <a:cubicBezTo>
                      <a:pt x="11062" y="7"/>
                      <a:pt x="11062" y="6"/>
                      <a:pt x="11062" y="5"/>
                    </a:cubicBezTo>
                    <a:cubicBezTo>
                      <a:pt x="11062" y="4"/>
                      <a:pt x="11062" y="3"/>
                      <a:pt x="11064" y="3"/>
                    </a:cubicBezTo>
                    <a:close/>
                    <a:moveTo>
                      <a:pt x="11072" y="3"/>
                    </a:moveTo>
                    <a:lnTo>
                      <a:pt x="11072" y="3"/>
                    </a:lnTo>
                    <a:cubicBezTo>
                      <a:pt x="11073" y="3"/>
                      <a:pt x="11074" y="4"/>
                      <a:pt x="11074" y="5"/>
                    </a:cubicBezTo>
                    <a:cubicBezTo>
                      <a:pt x="11074" y="6"/>
                      <a:pt x="11073" y="7"/>
                      <a:pt x="11072" y="7"/>
                    </a:cubicBezTo>
                    <a:lnTo>
                      <a:pt x="11072" y="7"/>
                    </a:lnTo>
                    <a:cubicBezTo>
                      <a:pt x="11070" y="7"/>
                      <a:pt x="11070" y="6"/>
                      <a:pt x="11070" y="5"/>
                    </a:cubicBezTo>
                    <a:cubicBezTo>
                      <a:pt x="11070" y="4"/>
                      <a:pt x="11070" y="3"/>
                      <a:pt x="11072" y="3"/>
                    </a:cubicBezTo>
                    <a:close/>
                    <a:moveTo>
                      <a:pt x="11080" y="3"/>
                    </a:moveTo>
                    <a:lnTo>
                      <a:pt x="11080" y="3"/>
                    </a:lnTo>
                    <a:cubicBezTo>
                      <a:pt x="11081" y="3"/>
                      <a:pt x="11082" y="4"/>
                      <a:pt x="11082" y="5"/>
                    </a:cubicBezTo>
                    <a:cubicBezTo>
                      <a:pt x="11082" y="6"/>
                      <a:pt x="11081" y="7"/>
                      <a:pt x="11080" y="7"/>
                    </a:cubicBezTo>
                    <a:lnTo>
                      <a:pt x="11080" y="7"/>
                    </a:lnTo>
                    <a:cubicBezTo>
                      <a:pt x="11078" y="7"/>
                      <a:pt x="11078" y="6"/>
                      <a:pt x="11078" y="5"/>
                    </a:cubicBezTo>
                    <a:cubicBezTo>
                      <a:pt x="11078" y="4"/>
                      <a:pt x="11078" y="3"/>
                      <a:pt x="11080" y="3"/>
                    </a:cubicBezTo>
                    <a:close/>
                    <a:moveTo>
                      <a:pt x="11088" y="3"/>
                    </a:moveTo>
                    <a:lnTo>
                      <a:pt x="11088" y="3"/>
                    </a:lnTo>
                    <a:cubicBezTo>
                      <a:pt x="11089" y="3"/>
                      <a:pt x="11090" y="4"/>
                      <a:pt x="11090" y="5"/>
                    </a:cubicBezTo>
                    <a:cubicBezTo>
                      <a:pt x="11090" y="6"/>
                      <a:pt x="11089" y="7"/>
                      <a:pt x="11088" y="7"/>
                    </a:cubicBezTo>
                    <a:lnTo>
                      <a:pt x="11088" y="7"/>
                    </a:lnTo>
                    <a:cubicBezTo>
                      <a:pt x="11086" y="7"/>
                      <a:pt x="11086" y="6"/>
                      <a:pt x="11086" y="5"/>
                    </a:cubicBezTo>
                    <a:cubicBezTo>
                      <a:pt x="11086" y="4"/>
                      <a:pt x="11086" y="3"/>
                      <a:pt x="11088" y="3"/>
                    </a:cubicBezTo>
                    <a:close/>
                    <a:moveTo>
                      <a:pt x="11096" y="3"/>
                    </a:moveTo>
                    <a:lnTo>
                      <a:pt x="11096" y="3"/>
                    </a:lnTo>
                    <a:cubicBezTo>
                      <a:pt x="11097" y="3"/>
                      <a:pt x="11098" y="4"/>
                      <a:pt x="11098" y="5"/>
                    </a:cubicBezTo>
                    <a:cubicBezTo>
                      <a:pt x="11098" y="6"/>
                      <a:pt x="11097" y="7"/>
                      <a:pt x="11096" y="7"/>
                    </a:cubicBezTo>
                    <a:lnTo>
                      <a:pt x="11096" y="7"/>
                    </a:lnTo>
                    <a:cubicBezTo>
                      <a:pt x="11094" y="7"/>
                      <a:pt x="11094" y="6"/>
                      <a:pt x="11094" y="5"/>
                    </a:cubicBezTo>
                    <a:cubicBezTo>
                      <a:pt x="11094" y="4"/>
                      <a:pt x="11094" y="3"/>
                      <a:pt x="11096" y="3"/>
                    </a:cubicBezTo>
                    <a:close/>
                    <a:moveTo>
                      <a:pt x="11104" y="3"/>
                    </a:moveTo>
                    <a:lnTo>
                      <a:pt x="11104" y="3"/>
                    </a:lnTo>
                    <a:cubicBezTo>
                      <a:pt x="11105" y="3"/>
                      <a:pt x="11106" y="4"/>
                      <a:pt x="11106" y="5"/>
                    </a:cubicBezTo>
                    <a:cubicBezTo>
                      <a:pt x="11106" y="6"/>
                      <a:pt x="11105" y="7"/>
                      <a:pt x="11104" y="7"/>
                    </a:cubicBezTo>
                    <a:lnTo>
                      <a:pt x="11104" y="7"/>
                    </a:lnTo>
                    <a:cubicBezTo>
                      <a:pt x="11102" y="7"/>
                      <a:pt x="11102" y="6"/>
                      <a:pt x="11102" y="5"/>
                    </a:cubicBezTo>
                    <a:cubicBezTo>
                      <a:pt x="11102" y="4"/>
                      <a:pt x="11102" y="3"/>
                      <a:pt x="11104" y="3"/>
                    </a:cubicBezTo>
                    <a:close/>
                    <a:moveTo>
                      <a:pt x="11112" y="3"/>
                    </a:moveTo>
                    <a:lnTo>
                      <a:pt x="11112" y="3"/>
                    </a:lnTo>
                    <a:cubicBezTo>
                      <a:pt x="11113" y="3"/>
                      <a:pt x="11114" y="4"/>
                      <a:pt x="11114" y="5"/>
                    </a:cubicBezTo>
                    <a:cubicBezTo>
                      <a:pt x="11114" y="6"/>
                      <a:pt x="11113" y="7"/>
                      <a:pt x="11112" y="7"/>
                    </a:cubicBezTo>
                    <a:lnTo>
                      <a:pt x="11112" y="7"/>
                    </a:lnTo>
                    <a:cubicBezTo>
                      <a:pt x="11110" y="7"/>
                      <a:pt x="11110" y="6"/>
                      <a:pt x="11110" y="5"/>
                    </a:cubicBezTo>
                    <a:cubicBezTo>
                      <a:pt x="11110" y="4"/>
                      <a:pt x="11110" y="3"/>
                      <a:pt x="11112" y="3"/>
                    </a:cubicBezTo>
                    <a:close/>
                    <a:moveTo>
                      <a:pt x="11120" y="3"/>
                    </a:moveTo>
                    <a:lnTo>
                      <a:pt x="11120" y="3"/>
                    </a:lnTo>
                    <a:cubicBezTo>
                      <a:pt x="11121" y="3"/>
                      <a:pt x="11122" y="4"/>
                      <a:pt x="11122" y="5"/>
                    </a:cubicBezTo>
                    <a:cubicBezTo>
                      <a:pt x="11122" y="6"/>
                      <a:pt x="11121" y="7"/>
                      <a:pt x="11120" y="7"/>
                    </a:cubicBezTo>
                    <a:lnTo>
                      <a:pt x="11120" y="7"/>
                    </a:lnTo>
                    <a:cubicBezTo>
                      <a:pt x="11118" y="7"/>
                      <a:pt x="11118" y="6"/>
                      <a:pt x="11118" y="5"/>
                    </a:cubicBezTo>
                    <a:cubicBezTo>
                      <a:pt x="11118" y="4"/>
                      <a:pt x="11118" y="3"/>
                      <a:pt x="11120" y="3"/>
                    </a:cubicBezTo>
                    <a:close/>
                    <a:moveTo>
                      <a:pt x="11128" y="3"/>
                    </a:moveTo>
                    <a:lnTo>
                      <a:pt x="11128" y="3"/>
                    </a:lnTo>
                    <a:cubicBezTo>
                      <a:pt x="11129" y="3"/>
                      <a:pt x="11130" y="4"/>
                      <a:pt x="11130" y="5"/>
                    </a:cubicBezTo>
                    <a:cubicBezTo>
                      <a:pt x="11130" y="6"/>
                      <a:pt x="11129" y="7"/>
                      <a:pt x="11128" y="7"/>
                    </a:cubicBezTo>
                    <a:lnTo>
                      <a:pt x="11128" y="7"/>
                    </a:lnTo>
                    <a:cubicBezTo>
                      <a:pt x="11126" y="7"/>
                      <a:pt x="11126" y="6"/>
                      <a:pt x="11126" y="5"/>
                    </a:cubicBezTo>
                    <a:cubicBezTo>
                      <a:pt x="11126" y="4"/>
                      <a:pt x="11126" y="3"/>
                      <a:pt x="11128" y="3"/>
                    </a:cubicBezTo>
                    <a:close/>
                    <a:moveTo>
                      <a:pt x="11136" y="3"/>
                    </a:moveTo>
                    <a:lnTo>
                      <a:pt x="11136" y="3"/>
                    </a:lnTo>
                    <a:cubicBezTo>
                      <a:pt x="11137" y="3"/>
                      <a:pt x="11138" y="4"/>
                      <a:pt x="11138" y="5"/>
                    </a:cubicBezTo>
                    <a:cubicBezTo>
                      <a:pt x="11138" y="6"/>
                      <a:pt x="11137" y="7"/>
                      <a:pt x="11136" y="7"/>
                    </a:cubicBezTo>
                    <a:lnTo>
                      <a:pt x="11136" y="7"/>
                    </a:lnTo>
                    <a:cubicBezTo>
                      <a:pt x="11134" y="7"/>
                      <a:pt x="11134" y="6"/>
                      <a:pt x="11134" y="5"/>
                    </a:cubicBezTo>
                    <a:cubicBezTo>
                      <a:pt x="11134" y="4"/>
                      <a:pt x="11134" y="3"/>
                      <a:pt x="11136" y="3"/>
                    </a:cubicBezTo>
                    <a:close/>
                    <a:moveTo>
                      <a:pt x="11144" y="3"/>
                    </a:moveTo>
                    <a:lnTo>
                      <a:pt x="11144" y="3"/>
                    </a:lnTo>
                    <a:cubicBezTo>
                      <a:pt x="11145" y="3"/>
                      <a:pt x="11146" y="4"/>
                      <a:pt x="11146" y="5"/>
                    </a:cubicBezTo>
                    <a:cubicBezTo>
                      <a:pt x="11146" y="6"/>
                      <a:pt x="11145" y="7"/>
                      <a:pt x="11144" y="7"/>
                    </a:cubicBezTo>
                    <a:lnTo>
                      <a:pt x="11144" y="7"/>
                    </a:lnTo>
                    <a:cubicBezTo>
                      <a:pt x="11143" y="7"/>
                      <a:pt x="11142" y="6"/>
                      <a:pt x="11142" y="5"/>
                    </a:cubicBezTo>
                    <a:cubicBezTo>
                      <a:pt x="11142" y="4"/>
                      <a:pt x="11143" y="3"/>
                      <a:pt x="11144" y="3"/>
                    </a:cubicBezTo>
                    <a:close/>
                    <a:moveTo>
                      <a:pt x="11152" y="3"/>
                    </a:moveTo>
                    <a:lnTo>
                      <a:pt x="11152" y="3"/>
                    </a:lnTo>
                    <a:cubicBezTo>
                      <a:pt x="11153" y="3"/>
                      <a:pt x="11154" y="4"/>
                      <a:pt x="11154" y="5"/>
                    </a:cubicBezTo>
                    <a:cubicBezTo>
                      <a:pt x="11154" y="6"/>
                      <a:pt x="11153" y="7"/>
                      <a:pt x="11152" y="7"/>
                    </a:cubicBezTo>
                    <a:lnTo>
                      <a:pt x="11152" y="7"/>
                    </a:lnTo>
                    <a:cubicBezTo>
                      <a:pt x="11151" y="7"/>
                      <a:pt x="11150" y="6"/>
                      <a:pt x="11150" y="5"/>
                    </a:cubicBezTo>
                    <a:cubicBezTo>
                      <a:pt x="11150" y="4"/>
                      <a:pt x="11151" y="3"/>
                      <a:pt x="11152" y="3"/>
                    </a:cubicBezTo>
                    <a:close/>
                    <a:moveTo>
                      <a:pt x="11160" y="3"/>
                    </a:moveTo>
                    <a:lnTo>
                      <a:pt x="11160" y="3"/>
                    </a:lnTo>
                    <a:cubicBezTo>
                      <a:pt x="11161" y="3"/>
                      <a:pt x="11162" y="4"/>
                      <a:pt x="11162" y="5"/>
                    </a:cubicBezTo>
                    <a:cubicBezTo>
                      <a:pt x="11162" y="6"/>
                      <a:pt x="11161" y="7"/>
                      <a:pt x="11160" y="7"/>
                    </a:cubicBezTo>
                    <a:lnTo>
                      <a:pt x="11160" y="7"/>
                    </a:lnTo>
                    <a:cubicBezTo>
                      <a:pt x="11159" y="7"/>
                      <a:pt x="11158" y="6"/>
                      <a:pt x="11158" y="5"/>
                    </a:cubicBezTo>
                    <a:cubicBezTo>
                      <a:pt x="11158" y="4"/>
                      <a:pt x="11159" y="3"/>
                      <a:pt x="11160" y="3"/>
                    </a:cubicBezTo>
                    <a:close/>
                    <a:moveTo>
                      <a:pt x="11168" y="3"/>
                    </a:moveTo>
                    <a:lnTo>
                      <a:pt x="11168" y="3"/>
                    </a:lnTo>
                    <a:cubicBezTo>
                      <a:pt x="11169" y="3"/>
                      <a:pt x="11170" y="4"/>
                      <a:pt x="11170" y="5"/>
                    </a:cubicBezTo>
                    <a:cubicBezTo>
                      <a:pt x="11170" y="6"/>
                      <a:pt x="11169" y="7"/>
                      <a:pt x="11168" y="7"/>
                    </a:cubicBezTo>
                    <a:lnTo>
                      <a:pt x="11168" y="7"/>
                    </a:lnTo>
                    <a:cubicBezTo>
                      <a:pt x="11167" y="7"/>
                      <a:pt x="11166" y="6"/>
                      <a:pt x="11166" y="5"/>
                    </a:cubicBezTo>
                    <a:cubicBezTo>
                      <a:pt x="11166" y="4"/>
                      <a:pt x="11167" y="3"/>
                      <a:pt x="11168" y="3"/>
                    </a:cubicBezTo>
                    <a:close/>
                    <a:moveTo>
                      <a:pt x="11176" y="3"/>
                    </a:moveTo>
                    <a:lnTo>
                      <a:pt x="11176" y="3"/>
                    </a:lnTo>
                    <a:cubicBezTo>
                      <a:pt x="11177" y="3"/>
                      <a:pt x="11178" y="4"/>
                      <a:pt x="11178" y="5"/>
                    </a:cubicBezTo>
                    <a:cubicBezTo>
                      <a:pt x="11178" y="6"/>
                      <a:pt x="11177" y="7"/>
                      <a:pt x="11176" y="7"/>
                    </a:cubicBezTo>
                    <a:lnTo>
                      <a:pt x="11176" y="7"/>
                    </a:lnTo>
                    <a:cubicBezTo>
                      <a:pt x="11175" y="7"/>
                      <a:pt x="11174" y="6"/>
                      <a:pt x="11174" y="5"/>
                    </a:cubicBezTo>
                    <a:cubicBezTo>
                      <a:pt x="11174" y="4"/>
                      <a:pt x="11175" y="3"/>
                      <a:pt x="11176" y="3"/>
                    </a:cubicBezTo>
                    <a:close/>
                    <a:moveTo>
                      <a:pt x="11184" y="3"/>
                    </a:moveTo>
                    <a:lnTo>
                      <a:pt x="11184" y="3"/>
                    </a:lnTo>
                    <a:cubicBezTo>
                      <a:pt x="11185" y="3"/>
                      <a:pt x="11186" y="4"/>
                      <a:pt x="11186" y="5"/>
                    </a:cubicBezTo>
                    <a:cubicBezTo>
                      <a:pt x="11186" y="6"/>
                      <a:pt x="11185" y="7"/>
                      <a:pt x="11184" y="7"/>
                    </a:cubicBezTo>
                    <a:lnTo>
                      <a:pt x="11184" y="7"/>
                    </a:lnTo>
                    <a:cubicBezTo>
                      <a:pt x="11183" y="7"/>
                      <a:pt x="11182" y="6"/>
                      <a:pt x="11182" y="5"/>
                    </a:cubicBezTo>
                    <a:cubicBezTo>
                      <a:pt x="11182" y="4"/>
                      <a:pt x="11183" y="3"/>
                      <a:pt x="11184" y="3"/>
                    </a:cubicBezTo>
                    <a:close/>
                    <a:moveTo>
                      <a:pt x="11192" y="3"/>
                    </a:moveTo>
                    <a:lnTo>
                      <a:pt x="11192" y="3"/>
                    </a:lnTo>
                    <a:cubicBezTo>
                      <a:pt x="11193" y="3"/>
                      <a:pt x="11194" y="4"/>
                      <a:pt x="11194" y="5"/>
                    </a:cubicBezTo>
                    <a:cubicBezTo>
                      <a:pt x="11194" y="6"/>
                      <a:pt x="11193" y="7"/>
                      <a:pt x="11192" y="7"/>
                    </a:cubicBezTo>
                    <a:lnTo>
                      <a:pt x="11192" y="7"/>
                    </a:lnTo>
                    <a:cubicBezTo>
                      <a:pt x="11191" y="7"/>
                      <a:pt x="11190" y="6"/>
                      <a:pt x="11190" y="5"/>
                    </a:cubicBezTo>
                    <a:cubicBezTo>
                      <a:pt x="11190" y="4"/>
                      <a:pt x="11191" y="3"/>
                      <a:pt x="11192" y="3"/>
                    </a:cubicBezTo>
                    <a:close/>
                    <a:moveTo>
                      <a:pt x="11200" y="3"/>
                    </a:moveTo>
                    <a:lnTo>
                      <a:pt x="11200" y="3"/>
                    </a:lnTo>
                    <a:cubicBezTo>
                      <a:pt x="11201" y="3"/>
                      <a:pt x="11202" y="4"/>
                      <a:pt x="11202" y="5"/>
                    </a:cubicBezTo>
                    <a:cubicBezTo>
                      <a:pt x="11202" y="6"/>
                      <a:pt x="11201" y="7"/>
                      <a:pt x="11200" y="7"/>
                    </a:cubicBezTo>
                    <a:lnTo>
                      <a:pt x="11200" y="7"/>
                    </a:lnTo>
                    <a:cubicBezTo>
                      <a:pt x="11199" y="7"/>
                      <a:pt x="11198" y="6"/>
                      <a:pt x="11198" y="5"/>
                    </a:cubicBezTo>
                    <a:cubicBezTo>
                      <a:pt x="11198" y="4"/>
                      <a:pt x="11199" y="3"/>
                      <a:pt x="11200" y="3"/>
                    </a:cubicBezTo>
                    <a:close/>
                    <a:moveTo>
                      <a:pt x="11208" y="3"/>
                    </a:moveTo>
                    <a:lnTo>
                      <a:pt x="11208" y="3"/>
                    </a:lnTo>
                    <a:cubicBezTo>
                      <a:pt x="11209" y="3"/>
                      <a:pt x="11210" y="4"/>
                      <a:pt x="11210" y="5"/>
                    </a:cubicBezTo>
                    <a:cubicBezTo>
                      <a:pt x="11210" y="6"/>
                      <a:pt x="11209" y="7"/>
                      <a:pt x="11208" y="7"/>
                    </a:cubicBezTo>
                    <a:lnTo>
                      <a:pt x="11208" y="7"/>
                    </a:lnTo>
                    <a:cubicBezTo>
                      <a:pt x="11207" y="7"/>
                      <a:pt x="11206" y="6"/>
                      <a:pt x="11206" y="5"/>
                    </a:cubicBezTo>
                    <a:cubicBezTo>
                      <a:pt x="11206" y="4"/>
                      <a:pt x="11207" y="3"/>
                      <a:pt x="11208" y="3"/>
                    </a:cubicBezTo>
                    <a:close/>
                    <a:moveTo>
                      <a:pt x="11216" y="3"/>
                    </a:moveTo>
                    <a:lnTo>
                      <a:pt x="11216" y="3"/>
                    </a:lnTo>
                    <a:cubicBezTo>
                      <a:pt x="11217" y="3"/>
                      <a:pt x="11218" y="4"/>
                      <a:pt x="11218" y="5"/>
                    </a:cubicBezTo>
                    <a:cubicBezTo>
                      <a:pt x="11218" y="6"/>
                      <a:pt x="11217" y="7"/>
                      <a:pt x="11216" y="7"/>
                    </a:cubicBezTo>
                    <a:lnTo>
                      <a:pt x="11216" y="7"/>
                    </a:lnTo>
                    <a:cubicBezTo>
                      <a:pt x="11215" y="7"/>
                      <a:pt x="11214" y="6"/>
                      <a:pt x="11214" y="5"/>
                    </a:cubicBezTo>
                    <a:cubicBezTo>
                      <a:pt x="11214" y="4"/>
                      <a:pt x="11215" y="3"/>
                      <a:pt x="11216" y="3"/>
                    </a:cubicBezTo>
                    <a:close/>
                    <a:moveTo>
                      <a:pt x="11224" y="3"/>
                    </a:moveTo>
                    <a:lnTo>
                      <a:pt x="11224" y="3"/>
                    </a:lnTo>
                    <a:cubicBezTo>
                      <a:pt x="11225" y="3"/>
                      <a:pt x="11226" y="4"/>
                      <a:pt x="11226" y="5"/>
                    </a:cubicBezTo>
                    <a:cubicBezTo>
                      <a:pt x="11226" y="6"/>
                      <a:pt x="11225" y="7"/>
                      <a:pt x="11224" y="7"/>
                    </a:cubicBezTo>
                    <a:lnTo>
                      <a:pt x="11224" y="7"/>
                    </a:lnTo>
                    <a:cubicBezTo>
                      <a:pt x="11223" y="7"/>
                      <a:pt x="11222" y="6"/>
                      <a:pt x="11222" y="5"/>
                    </a:cubicBezTo>
                    <a:cubicBezTo>
                      <a:pt x="11222" y="4"/>
                      <a:pt x="11223" y="3"/>
                      <a:pt x="11224" y="3"/>
                    </a:cubicBezTo>
                    <a:close/>
                    <a:moveTo>
                      <a:pt x="11232" y="3"/>
                    </a:moveTo>
                    <a:lnTo>
                      <a:pt x="11232" y="3"/>
                    </a:lnTo>
                    <a:cubicBezTo>
                      <a:pt x="11233" y="3"/>
                      <a:pt x="11234" y="4"/>
                      <a:pt x="11234" y="5"/>
                    </a:cubicBezTo>
                    <a:cubicBezTo>
                      <a:pt x="11234" y="6"/>
                      <a:pt x="11233" y="7"/>
                      <a:pt x="11232" y="7"/>
                    </a:cubicBezTo>
                    <a:lnTo>
                      <a:pt x="11232" y="7"/>
                    </a:lnTo>
                    <a:cubicBezTo>
                      <a:pt x="11231" y="7"/>
                      <a:pt x="11230" y="6"/>
                      <a:pt x="11230" y="5"/>
                    </a:cubicBezTo>
                    <a:cubicBezTo>
                      <a:pt x="11230" y="4"/>
                      <a:pt x="11231" y="3"/>
                      <a:pt x="11232" y="3"/>
                    </a:cubicBezTo>
                    <a:close/>
                    <a:moveTo>
                      <a:pt x="11240" y="3"/>
                    </a:moveTo>
                    <a:lnTo>
                      <a:pt x="11240" y="3"/>
                    </a:lnTo>
                    <a:cubicBezTo>
                      <a:pt x="11241" y="3"/>
                      <a:pt x="11242" y="4"/>
                      <a:pt x="11242" y="5"/>
                    </a:cubicBezTo>
                    <a:cubicBezTo>
                      <a:pt x="11242" y="6"/>
                      <a:pt x="11241" y="7"/>
                      <a:pt x="11240" y="7"/>
                    </a:cubicBezTo>
                    <a:lnTo>
                      <a:pt x="11240" y="7"/>
                    </a:lnTo>
                    <a:cubicBezTo>
                      <a:pt x="11239" y="7"/>
                      <a:pt x="11238" y="6"/>
                      <a:pt x="11238" y="5"/>
                    </a:cubicBezTo>
                    <a:cubicBezTo>
                      <a:pt x="11238" y="4"/>
                      <a:pt x="11239" y="3"/>
                      <a:pt x="11240" y="3"/>
                    </a:cubicBezTo>
                    <a:close/>
                    <a:moveTo>
                      <a:pt x="11248" y="3"/>
                    </a:moveTo>
                    <a:lnTo>
                      <a:pt x="11248" y="3"/>
                    </a:lnTo>
                    <a:cubicBezTo>
                      <a:pt x="11249" y="3"/>
                      <a:pt x="11250" y="4"/>
                      <a:pt x="11250" y="5"/>
                    </a:cubicBezTo>
                    <a:cubicBezTo>
                      <a:pt x="11250" y="6"/>
                      <a:pt x="11249" y="7"/>
                      <a:pt x="11248" y="7"/>
                    </a:cubicBezTo>
                    <a:lnTo>
                      <a:pt x="11248" y="7"/>
                    </a:lnTo>
                    <a:cubicBezTo>
                      <a:pt x="11247" y="7"/>
                      <a:pt x="11246" y="6"/>
                      <a:pt x="11246" y="5"/>
                    </a:cubicBezTo>
                    <a:cubicBezTo>
                      <a:pt x="11246" y="4"/>
                      <a:pt x="11247" y="3"/>
                      <a:pt x="11248" y="3"/>
                    </a:cubicBezTo>
                    <a:close/>
                    <a:moveTo>
                      <a:pt x="11256" y="3"/>
                    </a:moveTo>
                    <a:lnTo>
                      <a:pt x="11256" y="3"/>
                    </a:lnTo>
                    <a:cubicBezTo>
                      <a:pt x="11257" y="3"/>
                      <a:pt x="11258" y="4"/>
                      <a:pt x="11258" y="5"/>
                    </a:cubicBezTo>
                    <a:cubicBezTo>
                      <a:pt x="11258" y="6"/>
                      <a:pt x="11257" y="7"/>
                      <a:pt x="11256" y="7"/>
                    </a:cubicBezTo>
                    <a:lnTo>
                      <a:pt x="11256" y="7"/>
                    </a:lnTo>
                    <a:cubicBezTo>
                      <a:pt x="11255" y="7"/>
                      <a:pt x="11254" y="6"/>
                      <a:pt x="11254" y="5"/>
                    </a:cubicBezTo>
                    <a:cubicBezTo>
                      <a:pt x="11254" y="4"/>
                      <a:pt x="11255" y="3"/>
                      <a:pt x="11256" y="3"/>
                    </a:cubicBezTo>
                    <a:close/>
                    <a:moveTo>
                      <a:pt x="11264" y="3"/>
                    </a:moveTo>
                    <a:lnTo>
                      <a:pt x="11264" y="3"/>
                    </a:lnTo>
                    <a:cubicBezTo>
                      <a:pt x="11265" y="3"/>
                      <a:pt x="11266" y="4"/>
                      <a:pt x="11266" y="5"/>
                    </a:cubicBezTo>
                    <a:cubicBezTo>
                      <a:pt x="11266" y="6"/>
                      <a:pt x="11265" y="7"/>
                      <a:pt x="11264" y="7"/>
                    </a:cubicBezTo>
                    <a:lnTo>
                      <a:pt x="11264" y="7"/>
                    </a:lnTo>
                    <a:cubicBezTo>
                      <a:pt x="11263" y="7"/>
                      <a:pt x="11262" y="6"/>
                      <a:pt x="11262" y="5"/>
                    </a:cubicBezTo>
                    <a:cubicBezTo>
                      <a:pt x="11262" y="4"/>
                      <a:pt x="11263" y="3"/>
                      <a:pt x="11264" y="3"/>
                    </a:cubicBezTo>
                    <a:close/>
                    <a:moveTo>
                      <a:pt x="11272" y="3"/>
                    </a:moveTo>
                    <a:lnTo>
                      <a:pt x="11272" y="3"/>
                    </a:lnTo>
                    <a:cubicBezTo>
                      <a:pt x="11273" y="3"/>
                      <a:pt x="11274" y="4"/>
                      <a:pt x="11274" y="5"/>
                    </a:cubicBezTo>
                    <a:cubicBezTo>
                      <a:pt x="11274" y="6"/>
                      <a:pt x="11273" y="7"/>
                      <a:pt x="11272" y="7"/>
                    </a:cubicBezTo>
                    <a:lnTo>
                      <a:pt x="11272" y="7"/>
                    </a:lnTo>
                    <a:cubicBezTo>
                      <a:pt x="11271" y="7"/>
                      <a:pt x="11270" y="6"/>
                      <a:pt x="11270" y="5"/>
                    </a:cubicBezTo>
                    <a:cubicBezTo>
                      <a:pt x="11270" y="4"/>
                      <a:pt x="11271" y="3"/>
                      <a:pt x="11272" y="3"/>
                    </a:cubicBezTo>
                    <a:close/>
                    <a:moveTo>
                      <a:pt x="11280" y="3"/>
                    </a:moveTo>
                    <a:lnTo>
                      <a:pt x="11280" y="3"/>
                    </a:lnTo>
                    <a:cubicBezTo>
                      <a:pt x="11281" y="3"/>
                      <a:pt x="11282" y="4"/>
                      <a:pt x="11282" y="5"/>
                    </a:cubicBezTo>
                    <a:cubicBezTo>
                      <a:pt x="11282" y="6"/>
                      <a:pt x="11281" y="7"/>
                      <a:pt x="11280" y="7"/>
                    </a:cubicBezTo>
                    <a:lnTo>
                      <a:pt x="11280" y="7"/>
                    </a:lnTo>
                    <a:cubicBezTo>
                      <a:pt x="11279" y="7"/>
                      <a:pt x="11278" y="6"/>
                      <a:pt x="11278" y="5"/>
                    </a:cubicBezTo>
                    <a:cubicBezTo>
                      <a:pt x="11278" y="4"/>
                      <a:pt x="11279" y="3"/>
                      <a:pt x="11280" y="3"/>
                    </a:cubicBezTo>
                    <a:close/>
                    <a:moveTo>
                      <a:pt x="11288" y="3"/>
                    </a:moveTo>
                    <a:lnTo>
                      <a:pt x="11288" y="3"/>
                    </a:lnTo>
                    <a:cubicBezTo>
                      <a:pt x="11289" y="3"/>
                      <a:pt x="11290" y="4"/>
                      <a:pt x="11290" y="5"/>
                    </a:cubicBezTo>
                    <a:cubicBezTo>
                      <a:pt x="11290" y="6"/>
                      <a:pt x="11289" y="7"/>
                      <a:pt x="11288" y="7"/>
                    </a:cubicBezTo>
                    <a:lnTo>
                      <a:pt x="11288" y="7"/>
                    </a:lnTo>
                    <a:cubicBezTo>
                      <a:pt x="11287" y="7"/>
                      <a:pt x="11286" y="6"/>
                      <a:pt x="11286" y="5"/>
                    </a:cubicBezTo>
                    <a:cubicBezTo>
                      <a:pt x="11286" y="4"/>
                      <a:pt x="11287" y="3"/>
                      <a:pt x="11288" y="3"/>
                    </a:cubicBezTo>
                    <a:close/>
                    <a:moveTo>
                      <a:pt x="11296" y="3"/>
                    </a:moveTo>
                    <a:lnTo>
                      <a:pt x="11296" y="3"/>
                    </a:lnTo>
                    <a:cubicBezTo>
                      <a:pt x="11297" y="3"/>
                      <a:pt x="11298" y="4"/>
                      <a:pt x="11298" y="5"/>
                    </a:cubicBezTo>
                    <a:cubicBezTo>
                      <a:pt x="11298" y="6"/>
                      <a:pt x="11297" y="7"/>
                      <a:pt x="11296" y="7"/>
                    </a:cubicBezTo>
                    <a:lnTo>
                      <a:pt x="11296" y="7"/>
                    </a:lnTo>
                    <a:cubicBezTo>
                      <a:pt x="11295" y="7"/>
                      <a:pt x="11294" y="6"/>
                      <a:pt x="11294" y="5"/>
                    </a:cubicBezTo>
                    <a:cubicBezTo>
                      <a:pt x="11294" y="4"/>
                      <a:pt x="11295" y="3"/>
                      <a:pt x="11296" y="3"/>
                    </a:cubicBezTo>
                    <a:close/>
                    <a:moveTo>
                      <a:pt x="11304" y="3"/>
                    </a:moveTo>
                    <a:lnTo>
                      <a:pt x="11304" y="3"/>
                    </a:lnTo>
                    <a:cubicBezTo>
                      <a:pt x="11305" y="3"/>
                      <a:pt x="11306" y="4"/>
                      <a:pt x="11306" y="5"/>
                    </a:cubicBezTo>
                    <a:cubicBezTo>
                      <a:pt x="11306" y="6"/>
                      <a:pt x="11305" y="7"/>
                      <a:pt x="11304" y="7"/>
                    </a:cubicBezTo>
                    <a:lnTo>
                      <a:pt x="11304" y="7"/>
                    </a:lnTo>
                    <a:cubicBezTo>
                      <a:pt x="11303" y="7"/>
                      <a:pt x="11302" y="6"/>
                      <a:pt x="11302" y="5"/>
                    </a:cubicBezTo>
                    <a:cubicBezTo>
                      <a:pt x="11302" y="4"/>
                      <a:pt x="11303" y="3"/>
                      <a:pt x="11304" y="3"/>
                    </a:cubicBezTo>
                    <a:close/>
                    <a:moveTo>
                      <a:pt x="11312" y="3"/>
                    </a:moveTo>
                    <a:lnTo>
                      <a:pt x="11312" y="3"/>
                    </a:lnTo>
                    <a:cubicBezTo>
                      <a:pt x="11313" y="3"/>
                      <a:pt x="11314" y="4"/>
                      <a:pt x="11314" y="5"/>
                    </a:cubicBezTo>
                    <a:cubicBezTo>
                      <a:pt x="11314" y="6"/>
                      <a:pt x="11313" y="7"/>
                      <a:pt x="11312" y="7"/>
                    </a:cubicBezTo>
                    <a:lnTo>
                      <a:pt x="11312" y="7"/>
                    </a:lnTo>
                    <a:cubicBezTo>
                      <a:pt x="11311" y="7"/>
                      <a:pt x="11310" y="6"/>
                      <a:pt x="11310" y="5"/>
                    </a:cubicBezTo>
                    <a:cubicBezTo>
                      <a:pt x="11310" y="4"/>
                      <a:pt x="11311" y="3"/>
                      <a:pt x="11312" y="3"/>
                    </a:cubicBezTo>
                    <a:close/>
                    <a:moveTo>
                      <a:pt x="11320" y="3"/>
                    </a:moveTo>
                    <a:lnTo>
                      <a:pt x="11320" y="3"/>
                    </a:lnTo>
                    <a:cubicBezTo>
                      <a:pt x="11321" y="3"/>
                      <a:pt x="11322" y="4"/>
                      <a:pt x="11322" y="5"/>
                    </a:cubicBezTo>
                    <a:cubicBezTo>
                      <a:pt x="11322" y="6"/>
                      <a:pt x="11321" y="7"/>
                      <a:pt x="11320" y="7"/>
                    </a:cubicBezTo>
                    <a:lnTo>
                      <a:pt x="11320" y="7"/>
                    </a:lnTo>
                    <a:cubicBezTo>
                      <a:pt x="11319" y="7"/>
                      <a:pt x="11318" y="6"/>
                      <a:pt x="11318" y="5"/>
                    </a:cubicBezTo>
                    <a:cubicBezTo>
                      <a:pt x="11318" y="4"/>
                      <a:pt x="11319" y="3"/>
                      <a:pt x="11320" y="3"/>
                    </a:cubicBezTo>
                    <a:close/>
                    <a:moveTo>
                      <a:pt x="11328" y="3"/>
                    </a:moveTo>
                    <a:lnTo>
                      <a:pt x="11328" y="3"/>
                    </a:lnTo>
                    <a:cubicBezTo>
                      <a:pt x="11329" y="3"/>
                      <a:pt x="11330" y="4"/>
                      <a:pt x="11330" y="5"/>
                    </a:cubicBezTo>
                    <a:cubicBezTo>
                      <a:pt x="11330" y="6"/>
                      <a:pt x="11329" y="7"/>
                      <a:pt x="11328" y="7"/>
                    </a:cubicBezTo>
                    <a:lnTo>
                      <a:pt x="11328" y="7"/>
                    </a:lnTo>
                    <a:cubicBezTo>
                      <a:pt x="11327" y="7"/>
                      <a:pt x="11326" y="6"/>
                      <a:pt x="11326" y="5"/>
                    </a:cubicBezTo>
                    <a:cubicBezTo>
                      <a:pt x="11326" y="4"/>
                      <a:pt x="11327" y="3"/>
                      <a:pt x="11328" y="3"/>
                    </a:cubicBezTo>
                    <a:close/>
                    <a:moveTo>
                      <a:pt x="11336" y="3"/>
                    </a:moveTo>
                    <a:lnTo>
                      <a:pt x="11336" y="3"/>
                    </a:lnTo>
                    <a:cubicBezTo>
                      <a:pt x="11337" y="3"/>
                      <a:pt x="11338" y="4"/>
                      <a:pt x="11338" y="5"/>
                    </a:cubicBezTo>
                    <a:cubicBezTo>
                      <a:pt x="11338" y="6"/>
                      <a:pt x="11337" y="7"/>
                      <a:pt x="11336" y="7"/>
                    </a:cubicBezTo>
                    <a:lnTo>
                      <a:pt x="11336" y="7"/>
                    </a:lnTo>
                    <a:cubicBezTo>
                      <a:pt x="11335" y="7"/>
                      <a:pt x="11334" y="6"/>
                      <a:pt x="11334" y="5"/>
                    </a:cubicBezTo>
                    <a:cubicBezTo>
                      <a:pt x="11334" y="4"/>
                      <a:pt x="11335" y="3"/>
                      <a:pt x="11336" y="3"/>
                    </a:cubicBezTo>
                    <a:close/>
                    <a:moveTo>
                      <a:pt x="11344" y="3"/>
                    </a:moveTo>
                    <a:lnTo>
                      <a:pt x="11344" y="3"/>
                    </a:lnTo>
                    <a:cubicBezTo>
                      <a:pt x="11345" y="3"/>
                      <a:pt x="11346" y="4"/>
                      <a:pt x="11346" y="5"/>
                    </a:cubicBezTo>
                    <a:cubicBezTo>
                      <a:pt x="11346" y="6"/>
                      <a:pt x="11345" y="7"/>
                      <a:pt x="11344" y="7"/>
                    </a:cubicBezTo>
                    <a:lnTo>
                      <a:pt x="11344" y="7"/>
                    </a:lnTo>
                    <a:cubicBezTo>
                      <a:pt x="11343" y="7"/>
                      <a:pt x="11342" y="6"/>
                      <a:pt x="11342" y="5"/>
                    </a:cubicBezTo>
                    <a:cubicBezTo>
                      <a:pt x="11342" y="4"/>
                      <a:pt x="11343" y="3"/>
                      <a:pt x="11344" y="3"/>
                    </a:cubicBezTo>
                    <a:close/>
                    <a:moveTo>
                      <a:pt x="11352" y="3"/>
                    </a:moveTo>
                    <a:lnTo>
                      <a:pt x="11352" y="3"/>
                    </a:lnTo>
                    <a:cubicBezTo>
                      <a:pt x="11353" y="3"/>
                      <a:pt x="11354" y="4"/>
                      <a:pt x="11354" y="5"/>
                    </a:cubicBezTo>
                    <a:cubicBezTo>
                      <a:pt x="11354" y="6"/>
                      <a:pt x="11353" y="7"/>
                      <a:pt x="11352" y="7"/>
                    </a:cubicBezTo>
                    <a:lnTo>
                      <a:pt x="11352" y="7"/>
                    </a:lnTo>
                    <a:cubicBezTo>
                      <a:pt x="11351" y="7"/>
                      <a:pt x="11350" y="6"/>
                      <a:pt x="11350" y="5"/>
                    </a:cubicBezTo>
                    <a:cubicBezTo>
                      <a:pt x="11350" y="4"/>
                      <a:pt x="11351" y="3"/>
                      <a:pt x="11352" y="3"/>
                    </a:cubicBezTo>
                    <a:close/>
                    <a:moveTo>
                      <a:pt x="11360" y="3"/>
                    </a:moveTo>
                    <a:lnTo>
                      <a:pt x="11360" y="3"/>
                    </a:lnTo>
                    <a:cubicBezTo>
                      <a:pt x="11361" y="3"/>
                      <a:pt x="11362" y="4"/>
                      <a:pt x="11362" y="5"/>
                    </a:cubicBezTo>
                    <a:cubicBezTo>
                      <a:pt x="11362" y="6"/>
                      <a:pt x="11361" y="7"/>
                      <a:pt x="11360" y="7"/>
                    </a:cubicBezTo>
                    <a:lnTo>
                      <a:pt x="11360" y="7"/>
                    </a:lnTo>
                    <a:cubicBezTo>
                      <a:pt x="11359" y="7"/>
                      <a:pt x="11358" y="6"/>
                      <a:pt x="11358" y="5"/>
                    </a:cubicBezTo>
                    <a:cubicBezTo>
                      <a:pt x="11358" y="4"/>
                      <a:pt x="11359" y="3"/>
                      <a:pt x="11360" y="3"/>
                    </a:cubicBezTo>
                    <a:close/>
                    <a:moveTo>
                      <a:pt x="11368" y="3"/>
                    </a:moveTo>
                    <a:lnTo>
                      <a:pt x="11368" y="3"/>
                    </a:lnTo>
                    <a:cubicBezTo>
                      <a:pt x="11369" y="3"/>
                      <a:pt x="11370" y="4"/>
                      <a:pt x="11370" y="5"/>
                    </a:cubicBezTo>
                    <a:cubicBezTo>
                      <a:pt x="11370" y="6"/>
                      <a:pt x="11369" y="7"/>
                      <a:pt x="11368" y="7"/>
                    </a:cubicBezTo>
                    <a:lnTo>
                      <a:pt x="11368" y="7"/>
                    </a:lnTo>
                    <a:cubicBezTo>
                      <a:pt x="11367" y="7"/>
                      <a:pt x="11366" y="6"/>
                      <a:pt x="11366" y="5"/>
                    </a:cubicBezTo>
                    <a:cubicBezTo>
                      <a:pt x="11366" y="4"/>
                      <a:pt x="11367" y="3"/>
                      <a:pt x="11368" y="3"/>
                    </a:cubicBezTo>
                    <a:close/>
                    <a:moveTo>
                      <a:pt x="11376" y="3"/>
                    </a:moveTo>
                    <a:lnTo>
                      <a:pt x="11376" y="3"/>
                    </a:lnTo>
                    <a:cubicBezTo>
                      <a:pt x="11377" y="3"/>
                      <a:pt x="11378" y="4"/>
                      <a:pt x="11378" y="5"/>
                    </a:cubicBezTo>
                    <a:cubicBezTo>
                      <a:pt x="11378" y="6"/>
                      <a:pt x="11377" y="7"/>
                      <a:pt x="11376" y="7"/>
                    </a:cubicBezTo>
                    <a:lnTo>
                      <a:pt x="11376" y="7"/>
                    </a:lnTo>
                    <a:cubicBezTo>
                      <a:pt x="11375" y="7"/>
                      <a:pt x="11374" y="6"/>
                      <a:pt x="11374" y="5"/>
                    </a:cubicBezTo>
                    <a:cubicBezTo>
                      <a:pt x="11374" y="4"/>
                      <a:pt x="11375" y="3"/>
                      <a:pt x="11376" y="3"/>
                    </a:cubicBezTo>
                    <a:close/>
                    <a:moveTo>
                      <a:pt x="11384" y="3"/>
                    </a:moveTo>
                    <a:lnTo>
                      <a:pt x="11384" y="3"/>
                    </a:lnTo>
                    <a:cubicBezTo>
                      <a:pt x="11385" y="3"/>
                      <a:pt x="11386" y="4"/>
                      <a:pt x="11386" y="5"/>
                    </a:cubicBezTo>
                    <a:cubicBezTo>
                      <a:pt x="11386" y="6"/>
                      <a:pt x="11385" y="7"/>
                      <a:pt x="11384" y="7"/>
                    </a:cubicBezTo>
                    <a:lnTo>
                      <a:pt x="11384" y="7"/>
                    </a:lnTo>
                    <a:cubicBezTo>
                      <a:pt x="11383" y="7"/>
                      <a:pt x="11382" y="6"/>
                      <a:pt x="11382" y="5"/>
                    </a:cubicBezTo>
                    <a:cubicBezTo>
                      <a:pt x="11382" y="4"/>
                      <a:pt x="11383" y="3"/>
                      <a:pt x="11384" y="3"/>
                    </a:cubicBezTo>
                    <a:close/>
                    <a:moveTo>
                      <a:pt x="11392" y="3"/>
                    </a:moveTo>
                    <a:lnTo>
                      <a:pt x="11392" y="3"/>
                    </a:lnTo>
                    <a:cubicBezTo>
                      <a:pt x="11393" y="3"/>
                      <a:pt x="11394" y="4"/>
                      <a:pt x="11394" y="5"/>
                    </a:cubicBezTo>
                    <a:cubicBezTo>
                      <a:pt x="11394" y="6"/>
                      <a:pt x="11393" y="7"/>
                      <a:pt x="11392" y="7"/>
                    </a:cubicBezTo>
                    <a:lnTo>
                      <a:pt x="11392" y="7"/>
                    </a:lnTo>
                    <a:cubicBezTo>
                      <a:pt x="11391" y="7"/>
                      <a:pt x="11390" y="6"/>
                      <a:pt x="11390" y="5"/>
                    </a:cubicBezTo>
                    <a:cubicBezTo>
                      <a:pt x="11390" y="4"/>
                      <a:pt x="11391" y="3"/>
                      <a:pt x="11392" y="3"/>
                    </a:cubicBezTo>
                    <a:close/>
                    <a:moveTo>
                      <a:pt x="11400" y="3"/>
                    </a:moveTo>
                    <a:lnTo>
                      <a:pt x="11400" y="3"/>
                    </a:lnTo>
                    <a:cubicBezTo>
                      <a:pt x="11401" y="3"/>
                      <a:pt x="11402" y="4"/>
                      <a:pt x="11402" y="5"/>
                    </a:cubicBezTo>
                    <a:cubicBezTo>
                      <a:pt x="11402" y="6"/>
                      <a:pt x="11401" y="7"/>
                      <a:pt x="11400" y="7"/>
                    </a:cubicBezTo>
                    <a:lnTo>
                      <a:pt x="11400" y="7"/>
                    </a:lnTo>
                    <a:cubicBezTo>
                      <a:pt x="11399" y="7"/>
                      <a:pt x="11398" y="6"/>
                      <a:pt x="11398" y="5"/>
                    </a:cubicBezTo>
                    <a:cubicBezTo>
                      <a:pt x="11398" y="4"/>
                      <a:pt x="11399" y="3"/>
                      <a:pt x="11400" y="3"/>
                    </a:cubicBezTo>
                    <a:close/>
                    <a:moveTo>
                      <a:pt x="11408" y="3"/>
                    </a:moveTo>
                    <a:lnTo>
                      <a:pt x="11408" y="3"/>
                    </a:lnTo>
                    <a:cubicBezTo>
                      <a:pt x="11409" y="3"/>
                      <a:pt x="11410" y="4"/>
                      <a:pt x="11410" y="5"/>
                    </a:cubicBezTo>
                    <a:cubicBezTo>
                      <a:pt x="11410" y="6"/>
                      <a:pt x="11409" y="7"/>
                      <a:pt x="11408" y="7"/>
                    </a:cubicBezTo>
                    <a:lnTo>
                      <a:pt x="11408" y="7"/>
                    </a:lnTo>
                    <a:cubicBezTo>
                      <a:pt x="11407" y="7"/>
                      <a:pt x="11406" y="6"/>
                      <a:pt x="11406" y="5"/>
                    </a:cubicBezTo>
                    <a:cubicBezTo>
                      <a:pt x="11406" y="4"/>
                      <a:pt x="11407" y="3"/>
                      <a:pt x="11408" y="3"/>
                    </a:cubicBezTo>
                    <a:close/>
                    <a:moveTo>
                      <a:pt x="11416" y="3"/>
                    </a:moveTo>
                    <a:lnTo>
                      <a:pt x="11416" y="3"/>
                    </a:lnTo>
                    <a:cubicBezTo>
                      <a:pt x="11417" y="3"/>
                      <a:pt x="11418" y="4"/>
                      <a:pt x="11418" y="5"/>
                    </a:cubicBezTo>
                    <a:cubicBezTo>
                      <a:pt x="11418" y="6"/>
                      <a:pt x="11417" y="7"/>
                      <a:pt x="11416" y="7"/>
                    </a:cubicBezTo>
                    <a:lnTo>
                      <a:pt x="11416" y="7"/>
                    </a:lnTo>
                    <a:cubicBezTo>
                      <a:pt x="11415" y="7"/>
                      <a:pt x="11414" y="6"/>
                      <a:pt x="11414" y="5"/>
                    </a:cubicBezTo>
                    <a:cubicBezTo>
                      <a:pt x="11414" y="4"/>
                      <a:pt x="11415" y="3"/>
                      <a:pt x="11416" y="3"/>
                    </a:cubicBezTo>
                    <a:close/>
                    <a:moveTo>
                      <a:pt x="11424" y="3"/>
                    </a:moveTo>
                    <a:lnTo>
                      <a:pt x="11424" y="3"/>
                    </a:lnTo>
                    <a:cubicBezTo>
                      <a:pt x="11425" y="3"/>
                      <a:pt x="11426" y="4"/>
                      <a:pt x="11426" y="5"/>
                    </a:cubicBezTo>
                    <a:cubicBezTo>
                      <a:pt x="11426" y="6"/>
                      <a:pt x="11425" y="7"/>
                      <a:pt x="11424" y="7"/>
                    </a:cubicBezTo>
                    <a:lnTo>
                      <a:pt x="11424" y="7"/>
                    </a:lnTo>
                    <a:cubicBezTo>
                      <a:pt x="11423" y="7"/>
                      <a:pt x="11422" y="6"/>
                      <a:pt x="11422" y="5"/>
                    </a:cubicBezTo>
                    <a:cubicBezTo>
                      <a:pt x="11422" y="4"/>
                      <a:pt x="11423" y="3"/>
                      <a:pt x="11424" y="3"/>
                    </a:cubicBezTo>
                    <a:close/>
                    <a:moveTo>
                      <a:pt x="11432" y="3"/>
                    </a:moveTo>
                    <a:lnTo>
                      <a:pt x="11432" y="3"/>
                    </a:lnTo>
                    <a:cubicBezTo>
                      <a:pt x="11433" y="3"/>
                      <a:pt x="11434" y="4"/>
                      <a:pt x="11434" y="5"/>
                    </a:cubicBezTo>
                    <a:cubicBezTo>
                      <a:pt x="11434" y="6"/>
                      <a:pt x="11433" y="7"/>
                      <a:pt x="11432" y="7"/>
                    </a:cubicBezTo>
                    <a:lnTo>
                      <a:pt x="11432" y="7"/>
                    </a:lnTo>
                    <a:cubicBezTo>
                      <a:pt x="11431" y="7"/>
                      <a:pt x="11430" y="6"/>
                      <a:pt x="11430" y="5"/>
                    </a:cubicBezTo>
                    <a:cubicBezTo>
                      <a:pt x="11430" y="4"/>
                      <a:pt x="11431" y="3"/>
                      <a:pt x="11432" y="3"/>
                    </a:cubicBezTo>
                    <a:close/>
                    <a:moveTo>
                      <a:pt x="11440" y="3"/>
                    </a:moveTo>
                    <a:lnTo>
                      <a:pt x="11440" y="3"/>
                    </a:lnTo>
                    <a:cubicBezTo>
                      <a:pt x="11441" y="3"/>
                      <a:pt x="11442" y="4"/>
                      <a:pt x="11442" y="5"/>
                    </a:cubicBezTo>
                    <a:cubicBezTo>
                      <a:pt x="11442" y="6"/>
                      <a:pt x="11441" y="7"/>
                      <a:pt x="11440" y="7"/>
                    </a:cubicBezTo>
                    <a:lnTo>
                      <a:pt x="11440" y="7"/>
                    </a:lnTo>
                    <a:cubicBezTo>
                      <a:pt x="11439" y="7"/>
                      <a:pt x="11438" y="6"/>
                      <a:pt x="11438" y="5"/>
                    </a:cubicBezTo>
                    <a:cubicBezTo>
                      <a:pt x="11438" y="4"/>
                      <a:pt x="11439" y="3"/>
                      <a:pt x="11440" y="3"/>
                    </a:cubicBezTo>
                    <a:close/>
                    <a:moveTo>
                      <a:pt x="11448" y="3"/>
                    </a:moveTo>
                    <a:lnTo>
                      <a:pt x="11448" y="3"/>
                    </a:lnTo>
                    <a:cubicBezTo>
                      <a:pt x="11449" y="3"/>
                      <a:pt x="11450" y="4"/>
                      <a:pt x="11450" y="5"/>
                    </a:cubicBezTo>
                    <a:cubicBezTo>
                      <a:pt x="11450" y="6"/>
                      <a:pt x="11449" y="7"/>
                      <a:pt x="11448" y="7"/>
                    </a:cubicBezTo>
                    <a:lnTo>
                      <a:pt x="11448" y="7"/>
                    </a:lnTo>
                    <a:cubicBezTo>
                      <a:pt x="11447" y="7"/>
                      <a:pt x="11446" y="6"/>
                      <a:pt x="11446" y="5"/>
                    </a:cubicBezTo>
                    <a:cubicBezTo>
                      <a:pt x="11446" y="4"/>
                      <a:pt x="11447" y="3"/>
                      <a:pt x="11448" y="3"/>
                    </a:cubicBezTo>
                    <a:close/>
                    <a:moveTo>
                      <a:pt x="11456" y="3"/>
                    </a:moveTo>
                    <a:lnTo>
                      <a:pt x="11456" y="3"/>
                    </a:lnTo>
                    <a:cubicBezTo>
                      <a:pt x="11457" y="3"/>
                      <a:pt x="11458" y="4"/>
                      <a:pt x="11458" y="5"/>
                    </a:cubicBezTo>
                    <a:cubicBezTo>
                      <a:pt x="11458" y="6"/>
                      <a:pt x="11457" y="7"/>
                      <a:pt x="11456" y="7"/>
                    </a:cubicBezTo>
                    <a:lnTo>
                      <a:pt x="11456" y="7"/>
                    </a:lnTo>
                    <a:cubicBezTo>
                      <a:pt x="11455" y="7"/>
                      <a:pt x="11454" y="6"/>
                      <a:pt x="11454" y="5"/>
                    </a:cubicBezTo>
                    <a:cubicBezTo>
                      <a:pt x="11454" y="4"/>
                      <a:pt x="11455" y="3"/>
                      <a:pt x="11456" y="3"/>
                    </a:cubicBezTo>
                    <a:close/>
                    <a:moveTo>
                      <a:pt x="11464" y="3"/>
                    </a:moveTo>
                    <a:lnTo>
                      <a:pt x="11464" y="3"/>
                    </a:lnTo>
                    <a:cubicBezTo>
                      <a:pt x="11465" y="3"/>
                      <a:pt x="11466" y="4"/>
                      <a:pt x="11466" y="5"/>
                    </a:cubicBezTo>
                    <a:cubicBezTo>
                      <a:pt x="11466" y="6"/>
                      <a:pt x="11465" y="7"/>
                      <a:pt x="11464" y="7"/>
                    </a:cubicBezTo>
                    <a:lnTo>
                      <a:pt x="11464" y="7"/>
                    </a:lnTo>
                    <a:cubicBezTo>
                      <a:pt x="11463" y="7"/>
                      <a:pt x="11462" y="6"/>
                      <a:pt x="11462" y="5"/>
                    </a:cubicBezTo>
                    <a:cubicBezTo>
                      <a:pt x="11462" y="4"/>
                      <a:pt x="11463" y="3"/>
                      <a:pt x="11464" y="3"/>
                    </a:cubicBezTo>
                    <a:close/>
                    <a:moveTo>
                      <a:pt x="11472" y="3"/>
                    </a:moveTo>
                    <a:lnTo>
                      <a:pt x="11472" y="3"/>
                    </a:lnTo>
                    <a:cubicBezTo>
                      <a:pt x="11473" y="3"/>
                      <a:pt x="11474" y="4"/>
                      <a:pt x="11474" y="5"/>
                    </a:cubicBezTo>
                    <a:cubicBezTo>
                      <a:pt x="11474" y="6"/>
                      <a:pt x="11473" y="7"/>
                      <a:pt x="11472" y="7"/>
                    </a:cubicBezTo>
                    <a:lnTo>
                      <a:pt x="11472" y="7"/>
                    </a:lnTo>
                    <a:cubicBezTo>
                      <a:pt x="11471" y="7"/>
                      <a:pt x="11470" y="6"/>
                      <a:pt x="11470" y="5"/>
                    </a:cubicBezTo>
                    <a:cubicBezTo>
                      <a:pt x="11470" y="4"/>
                      <a:pt x="11471" y="3"/>
                      <a:pt x="11472" y="3"/>
                    </a:cubicBezTo>
                    <a:close/>
                    <a:moveTo>
                      <a:pt x="11480" y="3"/>
                    </a:moveTo>
                    <a:lnTo>
                      <a:pt x="11480" y="3"/>
                    </a:lnTo>
                    <a:cubicBezTo>
                      <a:pt x="11481" y="3"/>
                      <a:pt x="11482" y="4"/>
                      <a:pt x="11482" y="5"/>
                    </a:cubicBezTo>
                    <a:cubicBezTo>
                      <a:pt x="11482" y="6"/>
                      <a:pt x="11481" y="7"/>
                      <a:pt x="11480" y="7"/>
                    </a:cubicBezTo>
                    <a:lnTo>
                      <a:pt x="11480" y="7"/>
                    </a:lnTo>
                    <a:cubicBezTo>
                      <a:pt x="11479" y="7"/>
                      <a:pt x="11478" y="6"/>
                      <a:pt x="11478" y="5"/>
                    </a:cubicBezTo>
                    <a:cubicBezTo>
                      <a:pt x="11478" y="4"/>
                      <a:pt x="11479" y="3"/>
                      <a:pt x="11480" y="3"/>
                    </a:cubicBezTo>
                    <a:close/>
                    <a:moveTo>
                      <a:pt x="11488" y="3"/>
                    </a:moveTo>
                    <a:lnTo>
                      <a:pt x="11488" y="3"/>
                    </a:lnTo>
                    <a:cubicBezTo>
                      <a:pt x="11489" y="3"/>
                      <a:pt x="11490" y="4"/>
                      <a:pt x="11490" y="5"/>
                    </a:cubicBezTo>
                    <a:cubicBezTo>
                      <a:pt x="11490" y="6"/>
                      <a:pt x="11489" y="7"/>
                      <a:pt x="11488" y="7"/>
                    </a:cubicBezTo>
                    <a:lnTo>
                      <a:pt x="11488" y="7"/>
                    </a:lnTo>
                    <a:cubicBezTo>
                      <a:pt x="11487" y="7"/>
                      <a:pt x="11486" y="6"/>
                      <a:pt x="11486" y="5"/>
                    </a:cubicBezTo>
                    <a:cubicBezTo>
                      <a:pt x="11486" y="4"/>
                      <a:pt x="11487" y="3"/>
                      <a:pt x="11488" y="3"/>
                    </a:cubicBezTo>
                    <a:close/>
                    <a:moveTo>
                      <a:pt x="11496" y="3"/>
                    </a:moveTo>
                    <a:lnTo>
                      <a:pt x="11496" y="3"/>
                    </a:lnTo>
                    <a:cubicBezTo>
                      <a:pt x="11497" y="3"/>
                      <a:pt x="11498" y="4"/>
                      <a:pt x="11498" y="5"/>
                    </a:cubicBezTo>
                    <a:cubicBezTo>
                      <a:pt x="11498" y="6"/>
                      <a:pt x="11497" y="7"/>
                      <a:pt x="11496" y="7"/>
                    </a:cubicBezTo>
                    <a:lnTo>
                      <a:pt x="11496" y="7"/>
                    </a:lnTo>
                    <a:cubicBezTo>
                      <a:pt x="11495" y="7"/>
                      <a:pt x="11494" y="6"/>
                      <a:pt x="11494" y="5"/>
                    </a:cubicBezTo>
                    <a:cubicBezTo>
                      <a:pt x="11494" y="4"/>
                      <a:pt x="11495" y="3"/>
                      <a:pt x="11496" y="3"/>
                    </a:cubicBezTo>
                    <a:close/>
                    <a:moveTo>
                      <a:pt x="11504" y="3"/>
                    </a:moveTo>
                    <a:lnTo>
                      <a:pt x="11504" y="3"/>
                    </a:lnTo>
                    <a:cubicBezTo>
                      <a:pt x="11505" y="3"/>
                      <a:pt x="11506" y="4"/>
                      <a:pt x="11506" y="5"/>
                    </a:cubicBezTo>
                    <a:cubicBezTo>
                      <a:pt x="11506" y="6"/>
                      <a:pt x="11505" y="7"/>
                      <a:pt x="11504" y="7"/>
                    </a:cubicBezTo>
                    <a:lnTo>
                      <a:pt x="11504" y="7"/>
                    </a:lnTo>
                    <a:cubicBezTo>
                      <a:pt x="11503" y="7"/>
                      <a:pt x="11502" y="6"/>
                      <a:pt x="11502" y="5"/>
                    </a:cubicBezTo>
                    <a:cubicBezTo>
                      <a:pt x="11502" y="4"/>
                      <a:pt x="11503" y="3"/>
                      <a:pt x="11504" y="3"/>
                    </a:cubicBezTo>
                    <a:close/>
                    <a:moveTo>
                      <a:pt x="11512" y="3"/>
                    </a:moveTo>
                    <a:lnTo>
                      <a:pt x="11512" y="3"/>
                    </a:lnTo>
                    <a:cubicBezTo>
                      <a:pt x="11513" y="3"/>
                      <a:pt x="11514" y="4"/>
                      <a:pt x="11514" y="5"/>
                    </a:cubicBezTo>
                    <a:cubicBezTo>
                      <a:pt x="11514" y="6"/>
                      <a:pt x="11513" y="7"/>
                      <a:pt x="11512" y="7"/>
                    </a:cubicBezTo>
                    <a:lnTo>
                      <a:pt x="11512" y="7"/>
                    </a:lnTo>
                    <a:cubicBezTo>
                      <a:pt x="11511" y="7"/>
                      <a:pt x="11510" y="6"/>
                      <a:pt x="11510" y="5"/>
                    </a:cubicBezTo>
                    <a:cubicBezTo>
                      <a:pt x="11510" y="4"/>
                      <a:pt x="11511" y="3"/>
                      <a:pt x="11512" y="3"/>
                    </a:cubicBezTo>
                    <a:close/>
                    <a:moveTo>
                      <a:pt x="11520" y="3"/>
                    </a:moveTo>
                    <a:lnTo>
                      <a:pt x="11520" y="3"/>
                    </a:lnTo>
                    <a:cubicBezTo>
                      <a:pt x="11521" y="3"/>
                      <a:pt x="11522" y="4"/>
                      <a:pt x="11522" y="5"/>
                    </a:cubicBezTo>
                    <a:cubicBezTo>
                      <a:pt x="11522" y="6"/>
                      <a:pt x="11521" y="7"/>
                      <a:pt x="11520" y="7"/>
                    </a:cubicBezTo>
                    <a:lnTo>
                      <a:pt x="11520" y="7"/>
                    </a:lnTo>
                    <a:cubicBezTo>
                      <a:pt x="11519" y="7"/>
                      <a:pt x="11518" y="6"/>
                      <a:pt x="11518" y="5"/>
                    </a:cubicBezTo>
                    <a:cubicBezTo>
                      <a:pt x="11518" y="4"/>
                      <a:pt x="11519" y="3"/>
                      <a:pt x="11520" y="3"/>
                    </a:cubicBezTo>
                    <a:close/>
                    <a:moveTo>
                      <a:pt x="11528" y="3"/>
                    </a:moveTo>
                    <a:lnTo>
                      <a:pt x="11528" y="3"/>
                    </a:lnTo>
                    <a:cubicBezTo>
                      <a:pt x="11529" y="3"/>
                      <a:pt x="11530" y="4"/>
                      <a:pt x="11530" y="5"/>
                    </a:cubicBezTo>
                    <a:cubicBezTo>
                      <a:pt x="11530" y="6"/>
                      <a:pt x="11529" y="7"/>
                      <a:pt x="11528" y="7"/>
                    </a:cubicBezTo>
                    <a:lnTo>
                      <a:pt x="11528" y="7"/>
                    </a:lnTo>
                    <a:cubicBezTo>
                      <a:pt x="11527" y="7"/>
                      <a:pt x="11526" y="6"/>
                      <a:pt x="11526" y="5"/>
                    </a:cubicBezTo>
                    <a:cubicBezTo>
                      <a:pt x="11526" y="4"/>
                      <a:pt x="11527" y="3"/>
                      <a:pt x="11528" y="3"/>
                    </a:cubicBezTo>
                    <a:close/>
                    <a:moveTo>
                      <a:pt x="11536" y="3"/>
                    </a:moveTo>
                    <a:lnTo>
                      <a:pt x="11536" y="3"/>
                    </a:lnTo>
                    <a:cubicBezTo>
                      <a:pt x="11537" y="3"/>
                      <a:pt x="11538" y="4"/>
                      <a:pt x="11538" y="5"/>
                    </a:cubicBezTo>
                    <a:cubicBezTo>
                      <a:pt x="11538" y="6"/>
                      <a:pt x="11537" y="7"/>
                      <a:pt x="11536" y="7"/>
                    </a:cubicBezTo>
                    <a:lnTo>
                      <a:pt x="11536" y="7"/>
                    </a:lnTo>
                    <a:cubicBezTo>
                      <a:pt x="11535" y="7"/>
                      <a:pt x="11534" y="6"/>
                      <a:pt x="11534" y="5"/>
                    </a:cubicBezTo>
                    <a:cubicBezTo>
                      <a:pt x="11534" y="4"/>
                      <a:pt x="11535" y="3"/>
                      <a:pt x="11536" y="3"/>
                    </a:cubicBezTo>
                    <a:close/>
                    <a:moveTo>
                      <a:pt x="11544" y="3"/>
                    </a:moveTo>
                    <a:lnTo>
                      <a:pt x="11544" y="3"/>
                    </a:lnTo>
                    <a:cubicBezTo>
                      <a:pt x="11545" y="3"/>
                      <a:pt x="11546" y="4"/>
                      <a:pt x="11546" y="5"/>
                    </a:cubicBezTo>
                    <a:cubicBezTo>
                      <a:pt x="11546" y="6"/>
                      <a:pt x="11545" y="7"/>
                      <a:pt x="11544" y="7"/>
                    </a:cubicBezTo>
                    <a:lnTo>
                      <a:pt x="11544" y="7"/>
                    </a:lnTo>
                    <a:cubicBezTo>
                      <a:pt x="11543" y="7"/>
                      <a:pt x="11542" y="6"/>
                      <a:pt x="11542" y="5"/>
                    </a:cubicBezTo>
                    <a:cubicBezTo>
                      <a:pt x="11542" y="4"/>
                      <a:pt x="11543" y="3"/>
                      <a:pt x="11544" y="3"/>
                    </a:cubicBezTo>
                    <a:close/>
                    <a:moveTo>
                      <a:pt x="11552" y="3"/>
                    </a:moveTo>
                    <a:lnTo>
                      <a:pt x="11552" y="3"/>
                    </a:lnTo>
                    <a:cubicBezTo>
                      <a:pt x="11553" y="3"/>
                      <a:pt x="11554" y="4"/>
                      <a:pt x="11554" y="5"/>
                    </a:cubicBezTo>
                    <a:cubicBezTo>
                      <a:pt x="11554" y="6"/>
                      <a:pt x="11553" y="7"/>
                      <a:pt x="11552" y="7"/>
                    </a:cubicBezTo>
                    <a:lnTo>
                      <a:pt x="11552" y="7"/>
                    </a:lnTo>
                    <a:cubicBezTo>
                      <a:pt x="11551" y="7"/>
                      <a:pt x="11550" y="6"/>
                      <a:pt x="11550" y="5"/>
                    </a:cubicBezTo>
                    <a:cubicBezTo>
                      <a:pt x="11550" y="4"/>
                      <a:pt x="11551" y="3"/>
                      <a:pt x="11552" y="3"/>
                    </a:cubicBezTo>
                    <a:close/>
                    <a:moveTo>
                      <a:pt x="11560" y="3"/>
                    </a:moveTo>
                    <a:lnTo>
                      <a:pt x="11560" y="3"/>
                    </a:lnTo>
                    <a:cubicBezTo>
                      <a:pt x="11561" y="3"/>
                      <a:pt x="11562" y="4"/>
                      <a:pt x="11562" y="5"/>
                    </a:cubicBezTo>
                    <a:cubicBezTo>
                      <a:pt x="11562" y="6"/>
                      <a:pt x="11561" y="7"/>
                      <a:pt x="11560" y="7"/>
                    </a:cubicBezTo>
                    <a:lnTo>
                      <a:pt x="11560" y="7"/>
                    </a:lnTo>
                    <a:cubicBezTo>
                      <a:pt x="11559" y="7"/>
                      <a:pt x="11558" y="6"/>
                      <a:pt x="11558" y="5"/>
                    </a:cubicBezTo>
                    <a:cubicBezTo>
                      <a:pt x="11558" y="4"/>
                      <a:pt x="11559" y="3"/>
                      <a:pt x="11560" y="3"/>
                    </a:cubicBezTo>
                    <a:close/>
                    <a:moveTo>
                      <a:pt x="11568" y="3"/>
                    </a:moveTo>
                    <a:lnTo>
                      <a:pt x="11568" y="3"/>
                    </a:lnTo>
                    <a:cubicBezTo>
                      <a:pt x="11569" y="3"/>
                      <a:pt x="11570" y="4"/>
                      <a:pt x="11570" y="5"/>
                    </a:cubicBezTo>
                    <a:cubicBezTo>
                      <a:pt x="11570" y="6"/>
                      <a:pt x="11569" y="7"/>
                      <a:pt x="11568" y="7"/>
                    </a:cubicBezTo>
                    <a:lnTo>
                      <a:pt x="11568" y="7"/>
                    </a:lnTo>
                    <a:cubicBezTo>
                      <a:pt x="11567" y="7"/>
                      <a:pt x="11566" y="6"/>
                      <a:pt x="11566" y="5"/>
                    </a:cubicBezTo>
                    <a:cubicBezTo>
                      <a:pt x="11566" y="4"/>
                      <a:pt x="11567" y="3"/>
                      <a:pt x="11568" y="3"/>
                    </a:cubicBezTo>
                    <a:close/>
                    <a:moveTo>
                      <a:pt x="11576" y="3"/>
                    </a:moveTo>
                    <a:lnTo>
                      <a:pt x="11576" y="3"/>
                    </a:lnTo>
                    <a:cubicBezTo>
                      <a:pt x="11577" y="3"/>
                      <a:pt x="11578" y="4"/>
                      <a:pt x="11578" y="5"/>
                    </a:cubicBezTo>
                    <a:cubicBezTo>
                      <a:pt x="11578" y="6"/>
                      <a:pt x="11577" y="7"/>
                      <a:pt x="11576" y="7"/>
                    </a:cubicBezTo>
                    <a:lnTo>
                      <a:pt x="11576" y="7"/>
                    </a:lnTo>
                    <a:cubicBezTo>
                      <a:pt x="11575" y="7"/>
                      <a:pt x="11574" y="6"/>
                      <a:pt x="11574" y="5"/>
                    </a:cubicBezTo>
                    <a:cubicBezTo>
                      <a:pt x="11574" y="4"/>
                      <a:pt x="11575" y="3"/>
                      <a:pt x="11576" y="3"/>
                    </a:cubicBezTo>
                    <a:close/>
                    <a:moveTo>
                      <a:pt x="11584" y="3"/>
                    </a:moveTo>
                    <a:lnTo>
                      <a:pt x="11584" y="3"/>
                    </a:lnTo>
                    <a:cubicBezTo>
                      <a:pt x="11585" y="3"/>
                      <a:pt x="11586" y="4"/>
                      <a:pt x="11586" y="5"/>
                    </a:cubicBezTo>
                    <a:cubicBezTo>
                      <a:pt x="11586" y="6"/>
                      <a:pt x="11585" y="7"/>
                      <a:pt x="11584" y="7"/>
                    </a:cubicBezTo>
                    <a:lnTo>
                      <a:pt x="11584" y="7"/>
                    </a:lnTo>
                    <a:cubicBezTo>
                      <a:pt x="11583" y="7"/>
                      <a:pt x="11582" y="6"/>
                      <a:pt x="11582" y="5"/>
                    </a:cubicBezTo>
                    <a:cubicBezTo>
                      <a:pt x="11582" y="4"/>
                      <a:pt x="11583" y="3"/>
                      <a:pt x="11584" y="3"/>
                    </a:cubicBezTo>
                    <a:close/>
                    <a:moveTo>
                      <a:pt x="11592" y="3"/>
                    </a:moveTo>
                    <a:lnTo>
                      <a:pt x="11592" y="3"/>
                    </a:lnTo>
                    <a:cubicBezTo>
                      <a:pt x="11593" y="3"/>
                      <a:pt x="11594" y="4"/>
                      <a:pt x="11594" y="5"/>
                    </a:cubicBezTo>
                    <a:cubicBezTo>
                      <a:pt x="11594" y="6"/>
                      <a:pt x="11593" y="7"/>
                      <a:pt x="11592" y="7"/>
                    </a:cubicBezTo>
                    <a:lnTo>
                      <a:pt x="11592" y="7"/>
                    </a:lnTo>
                    <a:cubicBezTo>
                      <a:pt x="11591" y="7"/>
                      <a:pt x="11590" y="6"/>
                      <a:pt x="11590" y="5"/>
                    </a:cubicBezTo>
                    <a:cubicBezTo>
                      <a:pt x="11590" y="4"/>
                      <a:pt x="11591" y="3"/>
                      <a:pt x="11592" y="3"/>
                    </a:cubicBezTo>
                    <a:close/>
                    <a:moveTo>
                      <a:pt x="11600" y="3"/>
                    </a:moveTo>
                    <a:lnTo>
                      <a:pt x="11600" y="3"/>
                    </a:lnTo>
                    <a:cubicBezTo>
                      <a:pt x="11601" y="3"/>
                      <a:pt x="11602" y="4"/>
                      <a:pt x="11602" y="5"/>
                    </a:cubicBezTo>
                    <a:cubicBezTo>
                      <a:pt x="11602" y="6"/>
                      <a:pt x="11601" y="7"/>
                      <a:pt x="11600" y="7"/>
                    </a:cubicBezTo>
                    <a:lnTo>
                      <a:pt x="11600" y="7"/>
                    </a:lnTo>
                    <a:cubicBezTo>
                      <a:pt x="11599" y="7"/>
                      <a:pt x="11598" y="6"/>
                      <a:pt x="11598" y="5"/>
                    </a:cubicBezTo>
                    <a:cubicBezTo>
                      <a:pt x="11598" y="4"/>
                      <a:pt x="11599" y="3"/>
                      <a:pt x="11600" y="3"/>
                    </a:cubicBezTo>
                    <a:close/>
                    <a:moveTo>
                      <a:pt x="11608" y="3"/>
                    </a:moveTo>
                    <a:lnTo>
                      <a:pt x="11608" y="3"/>
                    </a:lnTo>
                    <a:cubicBezTo>
                      <a:pt x="11609" y="3"/>
                      <a:pt x="11610" y="4"/>
                      <a:pt x="11610" y="5"/>
                    </a:cubicBezTo>
                    <a:cubicBezTo>
                      <a:pt x="11610" y="6"/>
                      <a:pt x="11609" y="7"/>
                      <a:pt x="11608" y="7"/>
                    </a:cubicBezTo>
                    <a:lnTo>
                      <a:pt x="11608" y="7"/>
                    </a:lnTo>
                    <a:cubicBezTo>
                      <a:pt x="11607" y="7"/>
                      <a:pt x="11606" y="6"/>
                      <a:pt x="11606" y="5"/>
                    </a:cubicBezTo>
                    <a:cubicBezTo>
                      <a:pt x="11606" y="4"/>
                      <a:pt x="11607" y="3"/>
                      <a:pt x="11608" y="3"/>
                    </a:cubicBezTo>
                    <a:close/>
                    <a:moveTo>
                      <a:pt x="11616" y="3"/>
                    </a:moveTo>
                    <a:lnTo>
                      <a:pt x="11616" y="3"/>
                    </a:lnTo>
                    <a:cubicBezTo>
                      <a:pt x="11617" y="3"/>
                      <a:pt x="11618" y="4"/>
                      <a:pt x="11618" y="5"/>
                    </a:cubicBezTo>
                    <a:cubicBezTo>
                      <a:pt x="11618" y="6"/>
                      <a:pt x="11617" y="7"/>
                      <a:pt x="11616" y="7"/>
                    </a:cubicBezTo>
                    <a:lnTo>
                      <a:pt x="11616" y="7"/>
                    </a:lnTo>
                    <a:cubicBezTo>
                      <a:pt x="11615" y="7"/>
                      <a:pt x="11614" y="6"/>
                      <a:pt x="11614" y="5"/>
                    </a:cubicBezTo>
                    <a:cubicBezTo>
                      <a:pt x="11614" y="4"/>
                      <a:pt x="11615" y="3"/>
                      <a:pt x="11616" y="3"/>
                    </a:cubicBezTo>
                    <a:close/>
                    <a:moveTo>
                      <a:pt x="11624" y="3"/>
                    </a:moveTo>
                    <a:lnTo>
                      <a:pt x="11624" y="3"/>
                    </a:lnTo>
                    <a:cubicBezTo>
                      <a:pt x="11625" y="3"/>
                      <a:pt x="11626" y="4"/>
                      <a:pt x="11626" y="5"/>
                    </a:cubicBezTo>
                    <a:cubicBezTo>
                      <a:pt x="11626" y="6"/>
                      <a:pt x="11625" y="7"/>
                      <a:pt x="11624" y="7"/>
                    </a:cubicBezTo>
                    <a:lnTo>
                      <a:pt x="11624" y="7"/>
                    </a:lnTo>
                    <a:cubicBezTo>
                      <a:pt x="11623" y="7"/>
                      <a:pt x="11622" y="6"/>
                      <a:pt x="11622" y="5"/>
                    </a:cubicBezTo>
                    <a:cubicBezTo>
                      <a:pt x="11622" y="4"/>
                      <a:pt x="11623" y="3"/>
                      <a:pt x="11624" y="3"/>
                    </a:cubicBezTo>
                    <a:close/>
                    <a:moveTo>
                      <a:pt x="11632" y="3"/>
                    </a:moveTo>
                    <a:lnTo>
                      <a:pt x="11632" y="3"/>
                    </a:lnTo>
                    <a:cubicBezTo>
                      <a:pt x="11633" y="3"/>
                      <a:pt x="11634" y="4"/>
                      <a:pt x="11634" y="5"/>
                    </a:cubicBezTo>
                    <a:cubicBezTo>
                      <a:pt x="11634" y="6"/>
                      <a:pt x="11633" y="7"/>
                      <a:pt x="11632" y="7"/>
                    </a:cubicBezTo>
                    <a:lnTo>
                      <a:pt x="11632" y="7"/>
                    </a:lnTo>
                    <a:cubicBezTo>
                      <a:pt x="11631" y="7"/>
                      <a:pt x="11630" y="6"/>
                      <a:pt x="11630" y="5"/>
                    </a:cubicBezTo>
                    <a:cubicBezTo>
                      <a:pt x="11630" y="4"/>
                      <a:pt x="11631" y="3"/>
                      <a:pt x="11632" y="3"/>
                    </a:cubicBezTo>
                    <a:close/>
                    <a:moveTo>
                      <a:pt x="11640" y="3"/>
                    </a:moveTo>
                    <a:lnTo>
                      <a:pt x="11640" y="3"/>
                    </a:lnTo>
                    <a:cubicBezTo>
                      <a:pt x="11641" y="3"/>
                      <a:pt x="11642" y="4"/>
                      <a:pt x="11642" y="5"/>
                    </a:cubicBezTo>
                    <a:cubicBezTo>
                      <a:pt x="11642" y="6"/>
                      <a:pt x="11641" y="7"/>
                      <a:pt x="11640" y="7"/>
                    </a:cubicBezTo>
                    <a:lnTo>
                      <a:pt x="11640" y="7"/>
                    </a:lnTo>
                    <a:cubicBezTo>
                      <a:pt x="11639" y="7"/>
                      <a:pt x="11638" y="6"/>
                      <a:pt x="11638" y="5"/>
                    </a:cubicBezTo>
                    <a:cubicBezTo>
                      <a:pt x="11638" y="4"/>
                      <a:pt x="11639" y="3"/>
                      <a:pt x="11640" y="3"/>
                    </a:cubicBezTo>
                    <a:close/>
                    <a:moveTo>
                      <a:pt x="11648" y="3"/>
                    </a:moveTo>
                    <a:lnTo>
                      <a:pt x="11648" y="3"/>
                    </a:lnTo>
                    <a:cubicBezTo>
                      <a:pt x="11649" y="3"/>
                      <a:pt x="11650" y="4"/>
                      <a:pt x="11650" y="5"/>
                    </a:cubicBezTo>
                    <a:cubicBezTo>
                      <a:pt x="11650" y="6"/>
                      <a:pt x="11649" y="7"/>
                      <a:pt x="11648" y="7"/>
                    </a:cubicBezTo>
                    <a:lnTo>
                      <a:pt x="11648" y="7"/>
                    </a:lnTo>
                    <a:cubicBezTo>
                      <a:pt x="11647" y="7"/>
                      <a:pt x="11646" y="6"/>
                      <a:pt x="11646" y="5"/>
                    </a:cubicBezTo>
                    <a:cubicBezTo>
                      <a:pt x="11646" y="4"/>
                      <a:pt x="11647" y="3"/>
                      <a:pt x="11648" y="3"/>
                    </a:cubicBezTo>
                    <a:close/>
                    <a:moveTo>
                      <a:pt x="11656" y="3"/>
                    </a:moveTo>
                    <a:lnTo>
                      <a:pt x="11656" y="3"/>
                    </a:lnTo>
                    <a:cubicBezTo>
                      <a:pt x="11657" y="3"/>
                      <a:pt x="11658" y="4"/>
                      <a:pt x="11658" y="5"/>
                    </a:cubicBezTo>
                    <a:cubicBezTo>
                      <a:pt x="11658" y="6"/>
                      <a:pt x="11657" y="7"/>
                      <a:pt x="11656" y="7"/>
                    </a:cubicBezTo>
                    <a:lnTo>
                      <a:pt x="11656" y="7"/>
                    </a:lnTo>
                    <a:cubicBezTo>
                      <a:pt x="11655" y="7"/>
                      <a:pt x="11654" y="6"/>
                      <a:pt x="11654" y="5"/>
                    </a:cubicBezTo>
                    <a:cubicBezTo>
                      <a:pt x="11654" y="4"/>
                      <a:pt x="11655" y="3"/>
                      <a:pt x="11656" y="3"/>
                    </a:cubicBezTo>
                    <a:close/>
                    <a:moveTo>
                      <a:pt x="11664" y="3"/>
                    </a:moveTo>
                    <a:lnTo>
                      <a:pt x="11664" y="3"/>
                    </a:lnTo>
                    <a:cubicBezTo>
                      <a:pt x="11665" y="3"/>
                      <a:pt x="11666" y="4"/>
                      <a:pt x="11666" y="5"/>
                    </a:cubicBezTo>
                    <a:cubicBezTo>
                      <a:pt x="11666" y="6"/>
                      <a:pt x="11665" y="7"/>
                      <a:pt x="11664" y="7"/>
                    </a:cubicBezTo>
                    <a:lnTo>
                      <a:pt x="11664" y="7"/>
                    </a:lnTo>
                    <a:cubicBezTo>
                      <a:pt x="11663" y="7"/>
                      <a:pt x="11662" y="6"/>
                      <a:pt x="11662" y="5"/>
                    </a:cubicBezTo>
                    <a:cubicBezTo>
                      <a:pt x="11662" y="4"/>
                      <a:pt x="11663" y="3"/>
                      <a:pt x="11664" y="3"/>
                    </a:cubicBezTo>
                    <a:close/>
                    <a:moveTo>
                      <a:pt x="11672" y="3"/>
                    </a:moveTo>
                    <a:lnTo>
                      <a:pt x="11672" y="3"/>
                    </a:lnTo>
                    <a:cubicBezTo>
                      <a:pt x="11673" y="3"/>
                      <a:pt x="11674" y="4"/>
                      <a:pt x="11674" y="5"/>
                    </a:cubicBezTo>
                    <a:cubicBezTo>
                      <a:pt x="11674" y="6"/>
                      <a:pt x="11673" y="7"/>
                      <a:pt x="11672" y="7"/>
                    </a:cubicBezTo>
                    <a:lnTo>
                      <a:pt x="11672" y="7"/>
                    </a:lnTo>
                    <a:cubicBezTo>
                      <a:pt x="11671" y="7"/>
                      <a:pt x="11670" y="6"/>
                      <a:pt x="11670" y="5"/>
                    </a:cubicBezTo>
                    <a:cubicBezTo>
                      <a:pt x="11670" y="4"/>
                      <a:pt x="11671" y="3"/>
                      <a:pt x="11672" y="3"/>
                    </a:cubicBezTo>
                    <a:close/>
                    <a:moveTo>
                      <a:pt x="11680" y="3"/>
                    </a:moveTo>
                    <a:lnTo>
                      <a:pt x="11680" y="3"/>
                    </a:lnTo>
                    <a:cubicBezTo>
                      <a:pt x="11681" y="3"/>
                      <a:pt x="11682" y="4"/>
                      <a:pt x="11682" y="5"/>
                    </a:cubicBezTo>
                    <a:cubicBezTo>
                      <a:pt x="11682" y="6"/>
                      <a:pt x="11681" y="7"/>
                      <a:pt x="11680" y="7"/>
                    </a:cubicBezTo>
                    <a:lnTo>
                      <a:pt x="11680" y="7"/>
                    </a:lnTo>
                    <a:cubicBezTo>
                      <a:pt x="11679" y="7"/>
                      <a:pt x="11678" y="6"/>
                      <a:pt x="11678" y="5"/>
                    </a:cubicBezTo>
                    <a:cubicBezTo>
                      <a:pt x="11678" y="4"/>
                      <a:pt x="11679" y="3"/>
                      <a:pt x="11680" y="3"/>
                    </a:cubicBezTo>
                    <a:close/>
                    <a:moveTo>
                      <a:pt x="11688" y="3"/>
                    </a:moveTo>
                    <a:lnTo>
                      <a:pt x="11688" y="3"/>
                    </a:lnTo>
                    <a:cubicBezTo>
                      <a:pt x="11689" y="3"/>
                      <a:pt x="11690" y="4"/>
                      <a:pt x="11690" y="5"/>
                    </a:cubicBezTo>
                    <a:cubicBezTo>
                      <a:pt x="11690" y="6"/>
                      <a:pt x="11689" y="7"/>
                      <a:pt x="11688" y="7"/>
                    </a:cubicBezTo>
                    <a:lnTo>
                      <a:pt x="11688" y="7"/>
                    </a:lnTo>
                    <a:cubicBezTo>
                      <a:pt x="11687" y="7"/>
                      <a:pt x="11686" y="6"/>
                      <a:pt x="11686" y="5"/>
                    </a:cubicBezTo>
                    <a:cubicBezTo>
                      <a:pt x="11686" y="4"/>
                      <a:pt x="11687" y="3"/>
                      <a:pt x="11688" y="3"/>
                    </a:cubicBezTo>
                    <a:close/>
                    <a:moveTo>
                      <a:pt x="11696" y="3"/>
                    </a:moveTo>
                    <a:lnTo>
                      <a:pt x="11696" y="3"/>
                    </a:lnTo>
                    <a:cubicBezTo>
                      <a:pt x="11697" y="3"/>
                      <a:pt x="11698" y="4"/>
                      <a:pt x="11698" y="5"/>
                    </a:cubicBezTo>
                    <a:cubicBezTo>
                      <a:pt x="11698" y="6"/>
                      <a:pt x="11697" y="7"/>
                      <a:pt x="11696" y="7"/>
                    </a:cubicBezTo>
                    <a:lnTo>
                      <a:pt x="11696" y="7"/>
                    </a:lnTo>
                    <a:cubicBezTo>
                      <a:pt x="11695" y="7"/>
                      <a:pt x="11694" y="6"/>
                      <a:pt x="11694" y="5"/>
                    </a:cubicBezTo>
                    <a:cubicBezTo>
                      <a:pt x="11694" y="4"/>
                      <a:pt x="11695" y="3"/>
                      <a:pt x="11696" y="3"/>
                    </a:cubicBezTo>
                    <a:close/>
                    <a:moveTo>
                      <a:pt x="11704" y="3"/>
                    </a:moveTo>
                    <a:lnTo>
                      <a:pt x="11704" y="3"/>
                    </a:lnTo>
                    <a:cubicBezTo>
                      <a:pt x="11705" y="3"/>
                      <a:pt x="11706" y="4"/>
                      <a:pt x="11706" y="5"/>
                    </a:cubicBezTo>
                    <a:cubicBezTo>
                      <a:pt x="11706" y="6"/>
                      <a:pt x="11705" y="7"/>
                      <a:pt x="11704" y="7"/>
                    </a:cubicBezTo>
                    <a:lnTo>
                      <a:pt x="11704" y="7"/>
                    </a:lnTo>
                    <a:cubicBezTo>
                      <a:pt x="11703" y="7"/>
                      <a:pt x="11702" y="6"/>
                      <a:pt x="11702" y="5"/>
                    </a:cubicBezTo>
                    <a:cubicBezTo>
                      <a:pt x="11702" y="4"/>
                      <a:pt x="11703" y="3"/>
                      <a:pt x="11704" y="3"/>
                    </a:cubicBezTo>
                    <a:close/>
                    <a:moveTo>
                      <a:pt x="11712" y="3"/>
                    </a:moveTo>
                    <a:lnTo>
                      <a:pt x="11712" y="3"/>
                    </a:lnTo>
                    <a:cubicBezTo>
                      <a:pt x="11713" y="3"/>
                      <a:pt x="11714" y="4"/>
                      <a:pt x="11714" y="5"/>
                    </a:cubicBezTo>
                    <a:cubicBezTo>
                      <a:pt x="11714" y="6"/>
                      <a:pt x="11713" y="7"/>
                      <a:pt x="11712" y="7"/>
                    </a:cubicBezTo>
                    <a:lnTo>
                      <a:pt x="11712" y="7"/>
                    </a:lnTo>
                    <a:cubicBezTo>
                      <a:pt x="11711" y="7"/>
                      <a:pt x="11710" y="6"/>
                      <a:pt x="11710" y="5"/>
                    </a:cubicBezTo>
                    <a:cubicBezTo>
                      <a:pt x="11710" y="4"/>
                      <a:pt x="11711" y="3"/>
                      <a:pt x="11712" y="3"/>
                    </a:cubicBezTo>
                    <a:close/>
                    <a:moveTo>
                      <a:pt x="11720" y="3"/>
                    </a:moveTo>
                    <a:lnTo>
                      <a:pt x="11720" y="3"/>
                    </a:lnTo>
                    <a:cubicBezTo>
                      <a:pt x="11721" y="3"/>
                      <a:pt x="11722" y="4"/>
                      <a:pt x="11722" y="5"/>
                    </a:cubicBezTo>
                    <a:cubicBezTo>
                      <a:pt x="11722" y="6"/>
                      <a:pt x="11721" y="7"/>
                      <a:pt x="11720" y="7"/>
                    </a:cubicBezTo>
                    <a:lnTo>
                      <a:pt x="11720" y="7"/>
                    </a:lnTo>
                    <a:cubicBezTo>
                      <a:pt x="11719" y="7"/>
                      <a:pt x="11718" y="6"/>
                      <a:pt x="11718" y="5"/>
                    </a:cubicBezTo>
                    <a:cubicBezTo>
                      <a:pt x="11718" y="4"/>
                      <a:pt x="11719" y="3"/>
                      <a:pt x="11720" y="3"/>
                    </a:cubicBezTo>
                    <a:close/>
                    <a:moveTo>
                      <a:pt x="11728" y="3"/>
                    </a:moveTo>
                    <a:lnTo>
                      <a:pt x="11728" y="3"/>
                    </a:lnTo>
                    <a:cubicBezTo>
                      <a:pt x="11729" y="3"/>
                      <a:pt x="11730" y="4"/>
                      <a:pt x="11730" y="5"/>
                    </a:cubicBezTo>
                    <a:cubicBezTo>
                      <a:pt x="11730" y="6"/>
                      <a:pt x="11729" y="7"/>
                      <a:pt x="11728" y="7"/>
                    </a:cubicBezTo>
                    <a:lnTo>
                      <a:pt x="11728" y="7"/>
                    </a:lnTo>
                    <a:cubicBezTo>
                      <a:pt x="11727" y="7"/>
                      <a:pt x="11726" y="6"/>
                      <a:pt x="11726" y="5"/>
                    </a:cubicBezTo>
                    <a:cubicBezTo>
                      <a:pt x="11726" y="4"/>
                      <a:pt x="11727" y="3"/>
                      <a:pt x="11728" y="3"/>
                    </a:cubicBezTo>
                    <a:close/>
                    <a:moveTo>
                      <a:pt x="11736" y="3"/>
                    </a:moveTo>
                    <a:lnTo>
                      <a:pt x="11736" y="3"/>
                    </a:lnTo>
                    <a:cubicBezTo>
                      <a:pt x="11737" y="3"/>
                      <a:pt x="11738" y="4"/>
                      <a:pt x="11738" y="5"/>
                    </a:cubicBezTo>
                    <a:cubicBezTo>
                      <a:pt x="11738" y="6"/>
                      <a:pt x="11737" y="7"/>
                      <a:pt x="11736" y="7"/>
                    </a:cubicBezTo>
                    <a:lnTo>
                      <a:pt x="11736" y="7"/>
                    </a:lnTo>
                    <a:cubicBezTo>
                      <a:pt x="11735" y="7"/>
                      <a:pt x="11734" y="6"/>
                      <a:pt x="11734" y="5"/>
                    </a:cubicBezTo>
                    <a:cubicBezTo>
                      <a:pt x="11734" y="4"/>
                      <a:pt x="11735" y="3"/>
                      <a:pt x="11736" y="3"/>
                    </a:cubicBezTo>
                    <a:close/>
                    <a:moveTo>
                      <a:pt x="11744" y="3"/>
                    </a:moveTo>
                    <a:lnTo>
                      <a:pt x="11744" y="3"/>
                    </a:lnTo>
                    <a:cubicBezTo>
                      <a:pt x="11745" y="3"/>
                      <a:pt x="11746" y="4"/>
                      <a:pt x="11746" y="5"/>
                    </a:cubicBezTo>
                    <a:cubicBezTo>
                      <a:pt x="11746" y="6"/>
                      <a:pt x="11745" y="7"/>
                      <a:pt x="11744" y="7"/>
                    </a:cubicBezTo>
                    <a:lnTo>
                      <a:pt x="11744" y="7"/>
                    </a:lnTo>
                    <a:cubicBezTo>
                      <a:pt x="11743" y="7"/>
                      <a:pt x="11742" y="6"/>
                      <a:pt x="11742" y="5"/>
                    </a:cubicBezTo>
                    <a:cubicBezTo>
                      <a:pt x="11742" y="4"/>
                      <a:pt x="11743" y="3"/>
                      <a:pt x="11744" y="3"/>
                    </a:cubicBezTo>
                    <a:close/>
                    <a:moveTo>
                      <a:pt x="11752" y="3"/>
                    </a:moveTo>
                    <a:lnTo>
                      <a:pt x="11752" y="3"/>
                    </a:lnTo>
                    <a:cubicBezTo>
                      <a:pt x="11753" y="3"/>
                      <a:pt x="11754" y="4"/>
                      <a:pt x="11754" y="5"/>
                    </a:cubicBezTo>
                    <a:cubicBezTo>
                      <a:pt x="11754" y="6"/>
                      <a:pt x="11753" y="7"/>
                      <a:pt x="11752" y="7"/>
                    </a:cubicBezTo>
                    <a:lnTo>
                      <a:pt x="11752" y="7"/>
                    </a:lnTo>
                    <a:cubicBezTo>
                      <a:pt x="11751" y="7"/>
                      <a:pt x="11750" y="6"/>
                      <a:pt x="11750" y="5"/>
                    </a:cubicBezTo>
                    <a:cubicBezTo>
                      <a:pt x="11750" y="4"/>
                      <a:pt x="11751" y="3"/>
                      <a:pt x="11752" y="3"/>
                    </a:cubicBezTo>
                    <a:close/>
                    <a:moveTo>
                      <a:pt x="11760" y="3"/>
                    </a:moveTo>
                    <a:lnTo>
                      <a:pt x="11760" y="3"/>
                    </a:lnTo>
                    <a:cubicBezTo>
                      <a:pt x="11761" y="3"/>
                      <a:pt x="11762" y="4"/>
                      <a:pt x="11762" y="5"/>
                    </a:cubicBezTo>
                    <a:cubicBezTo>
                      <a:pt x="11762" y="6"/>
                      <a:pt x="11761" y="7"/>
                      <a:pt x="11760" y="7"/>
                    </a:cubicBezTo>
                    <a:lnTo>
                      <a:pt x="11760" y="7"/>
                    </a:lnTo>
                    <a:cubicBezTo>
                      <a:pt x="11759" y="7"/>
                      <a:pt x="11758" y="6"/>
                      <a:pt x="11758" y="5"/>
                    </a:cubicBezTo>
                    <a:cubicBezTo>
                      <a:pt x="11758" y="4"/>
                      <a:pt x="11759" y="3"/>
                      <a:pt x="11760" y="3"/>
                    </a:cubicBezTo>
                    <a:close/>
                    <a:moveTo>
                      <a:pt x="11768" y="3"/>
                    </a:moveTo>
                    <a:lnTo>
                      <a:pt x="11768" y="3"/>
                    </a:lnTo>
                    <a:cubicBezTo>
                      <a:pt x="11769" y="3"/>
                      <a:pt x="11770" y="4"/>
                      <a:pt x="11770" y="5"/>
                    </a:cubicBezTo>
                    <a:cubicBezTo>
                      <a:pt x="11770" y="6"/>
                      <a:pt x="11769" y="7"/>
                      <a:pt x="11768" y="7"/>
                    </a:cubicBezTo>
                    <a:lnTo>
                      <a:pt x="11768" y="7"/>
                    </a:lnTo>
                    <a:cubicBezTo>
                      <a:pt x="11767" y="7"/>
                      <a:pt x="11766" y="6"/>
                      <a:pt x="11766" y="5"/>
                    </a:cubicBezTo>
                    <a:cubicBezTo>
                      <a:pt x="11766" y="4"/>
                      <a:pt x="11767" y="3"/>
                      <a:pt x="11768" y="3"/>
                    </a:cubicBezTo>
                    <a:close/>
                    <a:moveTo>
                      <a:pt x="11776" y="3"/>
                    </a:moveTo>
                    <a:lnTo>
                      <a:pt x="11776" y="3"/>
                    </a:lnTo>
                    <a:cubicBezTo>
                      <a:pt x="11777" y="3"/>
                      <a:pt x="11778" y="4"/>
                      <a:pt x="11778" y="5"/>
                    </a:cubicBezTo>
                    <a:cubicBezTo>
                      <a:pt x="11778" y="6"/>
                      <a:pt x="11777" y="7"/>
                      <a:pt x="11776" y="7"/>
                    </a:cubicBezTo>
                    <a:lnTo>
                      <a:pt x="11776" y="7"/>
                    </a:lnTo>
                    <a:cubicBezTo>
                      <a:pt x="11775" y="7"/>
                      <a:pt x="11774" y="6"/>
                      <a:pt x="11774" y="5"/>
                    </a:cubicBezTo>
                    <a:cubicBezTo>
                      <a:pt x="11774" y="4"/>
                      <a:pt x="11775" y="3"/>
                      <a:pt x="11776" y="3"/>
                    </a:cubicBezTo>
                    <a:close/>
                    <a:moveTo>
                      <a:pt x="11784" y="3"/>
                    </a:moveTo>
                    <a:lnTo>
                      <a:pt x="11784" y="3"/>
                    </a:lnTo>
                    <a:cubicBezTo>
                      <a:pt x="11785" y="3"/>
                      <a:pt x="11786" y="4"/>
                      <a:pt x="11786" y="5"/>
                    </a:cubicBezTo>
                    <a:cubicBezTo>
                      <a:pt x="11786" y="6"/>
                      <a:pt x="11785" y="7"/>
                      <a:pt x="11784" y="7"/>
                    </a:cubicBezTo>
                    <a:lnTo>
                      <a:pt x="11784" y="7"/>
                    </a:lnTo>
                    <a:cubicBezTo>
                      <a:pt x="11783" y="7"/>
                      <a:pt x="11782" y="6"/>
                      <a:pt x="11782" y="5"/>
                    </a:cubicBezTo>
                    <a:cubicBezTo>
                      <a:pt x="11782" y="4"/>
                      <a:pt x="11783" y="3"/>
                      <a:pt x="11784" y="3"/>
                    </a:cubicBezTo>
                    <a:close/>
                    <a:moveTo>
                      <a:pt x="11792" y="3"/>
                    </a:moveTo>
                    <a:lnTo>
                      <a:pt x="11792" y="3"/>
                    </a:lnTo>
                    <a:cubicBezTo>
                      <a:pt x="11793" y="3"/>
                      <a:pt x="11794" y="4"/>
                      <a:pt x="11794" y="5"/>
                    </a:cubicBezTo>
                    <a:cubicBezTo>
                      <a:pt x="11794" y="6"/>
                      <a:pt x="11793" y="7"/>
                      <a:pt x="11792" y="7"/>
                    </a:cubicBezTo>
                    <a:lnTo>
                      <a:pt x="11792" y="7"/>
                    </a:lnTo>
                    <a:cubicBezTo>
                      <a:pt x="11791" y="7"/>
                      <a:pt x="11790" y="6"/>
                      <a:pt x="11790" y="5"/>
                    </a:cubicBezTo>
                    <a:cubicBezTo>
                      <a:pt x="11790" y="4"/>
                      <a:pt x="11791" y="3"/>
                      <a:pt x="11792" y="3"/>
                    </a:cubicBezTo>
                    <a:close/>
                    <a:moveTo>
                      <a:pt x="11800" y="3"/>
                    </a:moveTo>
                    <a:lnTo>
                      <a:pt x="11800" y="3"/>
                    </a:lnTo>
                    <a:cubicBezTo>
                      <a:pt x="11801" y="3"/>
                      <a:pt x="11802" y="4"/>
                      <a:pt x="11802" y="5"/>
                    </a:cubicBezTo>
                    <a:cubicBezTo>
                      <a:pt x="11802" y="6"/>
                      <a:pt x="11801" y="7"/>
                      <a:pt x="11800" y="7"/>
                    </a:cubicBezTo>
                    <a:lnTo>
                      <a:pt x="11800" y="7"/>
                    </a:lnTo>
                    <a:cubicBezTo>
                      <a:pt x="11799" y="7"/>
                      <a:pt x="11798" y="6"/>
                      <a:pt x="11798" y="5"/>
                    </a:cubicBezTo>
                    <a:cubicBezTo>
                      <a:pt x="11798" y="4"/>
                      <a:pt x="11799" y="3"/>
                      <a:pt x="11800" y="3"/>
                    </a:cubicBezTo>
                    <a:close/>
                    <a:moveTo>
                      <a:pt x="11808" y="3"/>
                    </a:moveTo>
                    <a:lnTo>
                      <a:pt x="11808" y="3"/>
                    </a:lnTo>
                    <a:cubicBezTo>
                      <a:pt x="11809" y="3"/>
                      <a:pt x="11810" y="4"/>
                      <a:pt x="11810" y="5"/>
                    </a:cubicBezTo>
                    <a:cubicBezTo>
                      <a:pt x="11810" y="6"/>
                      <a:pt x="11809" y="7"/>
                      <a:pt x="11808" y="7"/>
                    </a:cubicBezTo>
                    <a:lnTo>
                      <a:pt x="11808" y="7"/>
                    </a:lnTo>
                    <a:cubicBezTo>
                      <a:pt x="11807" y="7"/>
                      <a:pt x="11806" y="6"/>
                      <a:pt x="11806" y="5"/>
                    </a:cubicBezTo>
                    <a:cubicBezTo>
                      <a:pt x="11806" y="4"/>
                      <a:pt x="11807" y="3"/>
                      <a:pt x="11808" y="3"/>
                    </a:cubicBezTo>
                    <a:close/>
                    <a:moveTo>
                      <a:pt x="11816" y="3"/>
                    </a:moveTo>
                    <a:lnTo>
                      <a:pt x="11816" y="3"/>
                    </a:lnTo>
                    <a:cubicBezTo>
                      <a:pt x="11817" y="3"/>
                      <a:pt x="11818" y="4"/>
                      <a:pt x="11818" y="5"/>
                    </a:cubicBezTo>
                    <a:cubicBezTo>
                      <a:pt x="11818" y="6"/>
                      <a:pt x="11817" y="7"/>
                      <a:pt x="11816" y="7"/>
                    </a:cubicBezTo>
                    <a:lnTo>
                      <a:pt x="11816" y="7"/>
                    </a:lnTo>
                    <a:cubicBezTo>
                      <a:pt x="11815" y="7"/>
                      <a:pt x="11814" y="6"/>
                      <a:pt x="11814" y="5"/>
                    </a:cubicBezTo>
                    <a:cubicBezTo>
                      <a:pt x="11814" y="4"/>
                      <a:pt x="11815" y="3"/>
                      <a:pt x="11816" y="3"/>
                    </a:cubicBezTo>
                    <a:close/>
                    <a:moveTo>
                      <a:pt x="11824" y="3"/>
                    </a:moveTo>
                    <a:lnTo>
                      <a:pt x="11824" y="3"/>
                    </a:lnTo>
                    <a:cubicBezTo>
                      <a:pt x="11825" y="3"/>
                      <a:pt x="11826" y="4"/>
                      <a:pt x="11826" y="5"/>
                    </a:cubicBezTo>
                    <a:cubicBezTo>
                      <a:pt x="11826" y="6"/>
                      <a:pt x="11825" y="7"/>
                      <a:pt x="11824" y="7"/>
                    </a:cubicBezTo>
                    <a:lnTo>
                      <a:pt x="11824" y="7"/>
                    </a:lnTo>
                    <a:cubicBezTo>
                      <a:pt x="11823" y="7"/>
                      <a:pt x="11822" y="6"/>
                      <a:pt x="11822" y="5"/>
                    </a:cubicBezTo>
                    <a:cubicBezTo>
                      <a:pt x="11822" y="4"/>
                      <a:pt x="11823" y="3"/>
                      <a:pt x="11824" y="3"/>
                    </a:cubicBezTo>
                    <a:close/>
                    <a:moveTo>
                      <a:pt x="11832" y="3"/>
                    </a:moveTo>
                    <a:lnTo>
                      <a:pt x="11832" y="3"/>
                    </a:lnTo>
                    <a:cubicBezTo>
                      <a:pt x="11833" y="3"/>
                      <a:pt x="11834" y="4"/>
                      <a:pt x="11834" y="5"/>
                    </a:cubicBezTo>
                    <a:cubicBezTo>
                      <a:pt x="11834" y="6"/>
                      <a:pt x="11833" y="7"/>
                      <a:pt x="11832" y="7"/>
                    </a:cubicBezTo>
                    <a:lnTo>
                      <a:pt x="11832" y="7"/>
                    </a:lnTo>
                    <a:cubicBezTo>
                      <a:pt x="11831" y="7"/>
                      <a:pt x="11830" y="6"/>
                      <a:pt x="11830" y="5"/>
                    </a:cubicBezTo>
                    <a:cubicBezTo>
                      <a:pt x="11830" y="4"/>
                      <a:pt x="11831" y="3"/>
                      <a:pt x="11832" y="3"/>
                    </a:cubicBezTo>
                    <a:close/>
                    <a:moveTo>
                      <a:pt x="11840" y="3"/>
                    </a:moveTo>
                    <a:lnTo>
                      <a:pt x="11840" y="3"/>
                    </a:lnTo>
                    <a:cubicBezTo>
                      <a:pt x="11841" y="3"/>
                      <a:pt x="11842" y="4"/>
                      <a:pt x="11842" y="5"/>
                    </a:cubicBezTo>
                    <a:cubicBezTo>
                      <a:pt x="11842" y="6"/>
                      <a:pt x="11841" y="7"/>
                      <a:pt x="11840" y="7"/>
                    </a:cubicBezTo>
                    <a:lnTo>
                      <a:pt x="11840" y="7"/>
                    </a:lnTo>
                    <a:cubicBezTo>
                      <a:pt x="11839" y="7"/>
                      <a:pt x="11838" y="6"/>
                      <a:pt x="11838" y="5"/>
                    </a:cubicBezTo>
                    <a:cubicBezTo>
                      <a:pt x="11838" y="4"/>
                      <a:pt x="11839" y="3"/>
                      <a:pt x="11840" y="3"/>
                    </a:cubicBezTo>
                    <a:close/>
                    <a:moveTo>
                      <a:pt x="11848" y="3"/>
                    </a:moveTo>
                    <a:lnTo>
                      <a:pt x="11848" y="3"/>
                    </a:lnTo>
                    <a:cubicBezTo>
                      <a:pt x="11849" y="3"/>
                      <a:pt x="11850" y="4"/>
                      <a:pt x="11850" y="5"/>
                    </a:cubicBezTo>
                    <a:cubicBezTo>
                      <a:pt x="11850" y="6"/>
                      <a:pt x="11849" y="7"/>
                      <a:pt x="11848" y="7"/>
                    </a:cubicBezTo>
                    <a:lnTo>
                      <a:pt x="11848" y="7"/>
                    </a:lnTo>
                    <a:cubicBezTo>
                      <a:pt x="11847" y="7"/>
                      <a:pt x="11846" y="6"/>
                      <a:pt x="11846" y="5"/>
                    </a:cubicBezTo>
                    <a:cubicBezTo>
                      <a:pt x="11846" y="4"/>
                      <a:pt x="11847" y="3"/>
                      <a:pt x="11848" y="3"/>
                    </a:cubicBezTo>
                    <a:close/>
                    <a:moveTo>
                      <a:pt x="11856" y="3"/>
                    </a:moveTo>
                    <a:lnTo>
                      <a:pt x="11856" y="3"/>
                    </a:lnTo>
                    <a:cubicBezTo>
                      <a:pt x="11857" y="3"/>
                      <a:pt x="11858" y="4"/>
                      <a:pt x="11858" y="5"/>
                    </a:cubicBezTo>
                    <a:cubicBezTo>
                      <a:pt x="11858" y="6"/>
                      <a:pt x="11857" y="7"/>
                      <a:pt x="11856" y="7"/>
                    </a:cubicBezTo>
                    <a:lnTo>
                      <a:pt x="11856" y="7"/>
                    </a:lnTo>
                    <a:cubicBezTo>
                      <a:pt x="11855" y="7"/>
                      <a:pt x="11854" y="6"/>
                      <a:pt x="11854" y="5"/>
                    </a:cubicBezTo>
                    <a:cubicBezTo>
                      <a:pt x="11854" y="4"/>
                      <a:pt x="11855" y="3"/>
                      <a:pt x="11856" y="3"/>
                    </a:cubicBezTo>
                    <a:close/>
                    <a:moveTo>
                      <a:pt x="11864" y="3"/>
                    </a:moveTo>
                    <a:lnTo>
                      <a:pt x="11864" y="3"/>
                    </a:lnTo>
                    <a:cubicBezTo>
                      <a:pt x="11865" y="3"/>
                      <a:pt x="11866" y="4"/>
                      <a:pt x="11866" y="5"/>
                    </a:cubicBezTo>
                    <a:cubicBezTo>
                      <a:pt x="11866" y="6"/>
                      <a:pt x="11865" y="7"/>
                      <a:pt x="11864" y="7"/>
                    </a:cubicBezTo>
                    <a:lnTo>
                      <a:pt x="11864" y="7"/>
                    </a:lnTo>
                    <a:cubicBezTo>
                      <a:pt x="11863" y="7"/>
                      <a:pt x="11862" y="6"/>
                      <a:pt x="11862" y="5"/>
                    </a:cubicBezTo>
                    <a:cubicBezTo>
                      <a:pt x="11862" y="4"/>
                      <a:pt x="11863" y="3"/>
                      <a:pt x="11864" y="3"/>
                    </a:cubicBezTo>
                    <a:close/>
                    <a:moveTo>
                      <a:pt x="11872" y="3"/>
                    </a:moveTo>
                    <a:lnTo>
                      <a:pt x="11872" y="3"/>
                    </a:lnTo>
                    <a:cubicBezTo>
                      <a:pt x="11873" y="3"/>
                      <a:pt x="11874" y="4"/>
                      <a:pt x="11874" y="5"/>
                    </a:cubicBezTo>
                    <a:cubicBezTo>
                      <a:pt x="11874" y="6"/>
                      <a:pt x="11873" y="7"/>
                      <a:pt x="11872" y="7"/>
                    </a:cubicBezTo>
                    <a:lnTo>
                      <a:pt x="11872" y="7"/>
                    </a:lnTo>
                    <a:cubicBezTo>
                      <a:pt x="11871" y="7"/>
                      <a:pt x="11870" y="6"/>
                      <a:pt x="11870" y="5"/>
                    </a:cubicBezTo>
                    <a:cubicBezTo>
                      <a:pt x="11870" y="4"/>
                      <a:pt x="11871" y="3"/>
                      <a:pt x="11872" y="3"/>
                    </a:cubicBezTo>
                    <a:close/>
                    <a:moveTo>
                      <a:pt x="11880" y="3"/>
                    </a:moveTo>
                    <a:lnTo>
                      <a:pt x="11880" y="3"/>
                    </a:lnTo>
                    <a:cubicBezTo>
                      <a:pt x="11881" y="3"/>
                      <a:pt x="11882" y="4"/>
                      <a:pt x="11882" y="5"/>
                    </a:cubicBezTo>
                    <a:cubicBezTo>
                      <a:pt x="11882" y="6"/>
                      <a:pt x="11881" y="7"/>
                      <a:pt x="11880" y="7"/>
                    </a:cubicBezTo>
                    <a:lnTo>
                      <a:pt x="11880" y="7"/>
                    </a:lnTo>
                    <a:cubicBezTo>
                      <a:pt x="11879" y="7"/>
                      <a:pt x="11878" y="6"/>
                      <a:pt x="11878" y="5"/>
                    </a:cubicBezTo>
                    <a:cubicBezTo>
                      <a:pt x="11878" y="4"/>
                      <a:pt x="11879" y="3"/>
                      <a:pt x="11880" y="3"/>
                    </a:cubicBezTo>
                    <a:close/>
                    <a:moveTo>
                      <a:pt x="11888" y="3"/>
                    </a:moveTo>
                    <a:lnTo>
                      <a:pt x="11888" y="3"/>
                    </a:lnTo>
                    <a:cubicBezTo>
                      <a:pt x="11889" y="3"/>
                      <a:pt x="11890" y="4"/>
                      <a:pt x="11890" y="5"/>
                    </a:cubicBezTo>
                    <a:cubicBezTo>
                      <a:pt x="11890" y="6"/>
                      <a:pt x="11889" y="7"/>
                      <a:pt x="11888" y="7"/>
                    </a:cubicBezTo>
                    <a:lnTo>
                      <a:pt x="11888" y="7"/>
                    </a:lnTo>
                    <a:cubicBezTo>
                      <a:pt x="11887" y="7"/>
                      <a:pt x="11886" y="6"/>
                      <a:pt x="11886" y="5"/>
                    </a:cubicBezTo>
                    <a:cubicBezTo>
                      <a:pt x="11886" y="4"/>
                      <a:pt x="11887" y="3"/>
                      <a:pt x="11888" y="3"/>
                    </a:cubicBezTo>
                    <a:close/>
                    <a:moveTo>
                      <a:pt x="11896" y="3"/>
                    </a:moveTo>
                    <a:lnTo>
                      <a:pt x="11896" y="3"/>
                    </a:lnTo>
                    <a:cubicBezTo>
                      <a:pt x="11897" y="3"/>
                      <a:pt x="11898" y="4"/>
                      <a:pt x="11898" y="5"/>
                    </a:cubicBezTo>
                    <a:cubicBezTo>
                      <a:pt x="11898" y="6"/>
                      <a:pt x="11897" y="7"/>
                      <a:pt x="11896" y="7"/>
                    </a:cubicBezTo>
                    <a:lnTo>
                      <a:pt x="11896" y="7"/>
                    </a:lnTo>
                    <a:cubicBezTo>
                      <a:pt x="11895" y="7"/>
                      <a:pt x="11894" y="6"/>
                      <a:pt x="11894" y="5"/>
                    </a:cubicBezTo>
                    <a:cubicBezTo>
                      <a:pt x="11894" y="4"/>
                      <a:pt x="11895" y="3"/>
                      <a:pt x="11896" y="3"/>
                    </a:cubicBezTo>
                    <a:close/>
                    <a:moveTo>
                      <a:pt x="11904" y="3"/>
                    </a:moveTo>
                    <a:lnTo>
                      <a:pt x="11904" y="3"/>
                    </a:lnTo>
                    <a:cubicBezTo>
                      <a:pt x="11905" y="3"/>
                      <a:pt x="11906" y="4"/>
                      <a:pt x="11906" y="5"/>
                    </a:cubicBezTo>
                    <a:cubicBezTo>
                      <a:pt x="11906" y="6"/>
                      <a:pt x="11905" y="7"/>
                      <a:pt x="11904" y="7"/>
                    </a:cubicBezTo>
                    <a:lnTo>
                      <a:pt x="11904" y="7"/>
                    </a:lnTo>
                    <a:cubicBezTo>
                      <a:pt x="11903" y="7"/>
                      <a:pt x="11902" y="6"/>
                      <a:pt x="11902" y="5"/>
                    </a:cubicBezTo>
                    <a:cubicBezTo>
                      <a:pt x="11902" y="4"/>
                      <a:pt x="11903" y="3"/>
                      <a:pt x="11904" y="3"/>
                    </a:cubicBezTo>
                    <a:close/>
                    <a:moveTo>
                      <a:pt x="11912" y="3"/>
                    </a:moveTo>
                    <a:lnTo>
                      <a:pt x="11912" y="3"/>
                    </a:lnTo>
                    <a:cubicBezTo>
                      <a:pt x="11913" y="3"/>
                      <a:pt x="11914" y="4"/>
                      <a:pt x="11914" y="5"/>
                    </a:cubicBezTo>
                    <a:cubicBezTo>
                      <a:pt x="11914" y="6"/>
                      <a:pt x="11913" y="7"/>
                      <a:pt x="11912" y="7"/>
                    </a:cubicBezTo>
                    <a:lnTo>
                      <a:pt x="11912" y="7"/>
                    </a:lnTo>
                    <a:cubicBezTo>
                      <a:pt x="11911" y="7"/>
                      <a:pt x="11910" y="6"/>
                      <a:pt x="11910" y="5"/>
                    </a:cubicBezTo>
                    <a:cubicBezTo>
                      <a:pt x="11910" y="4"/>
                      <a:pt x="11911" y="3"/>
                      <a:pt x="11912" y="3"/>
                    </a:cubicBezTo>
                    <a:close/>
                    <a:moveTo>
                      <a:pt x="11920" y="3"/>
                    </a:moveTo>
                    <a:lnTo>
                      <a:pt x="11920" y="3"/>
                    </a:lnTo>
                    <a:cubicBezTo>
                      <a:pt x="11921" y="3"/>
                      <a:pt x="11922" y="4"/>
                      <a:pt x="11922" y="5"/>
                    </a:cubicBezTo>
                    <a:cubicBezTo>
                      <a:pt x="11922" y="6"/>
                      <a:pt x="11921" y="7"/>
                      <a:pt x="11920" y="7"/>
                    </a:cubicBezTo>
                    <a:lnTo>
                      <a:pt x="11920" y="7"/>
                    </a:lnTo>
                    <a:cubicBezTo>
                      <a:pt x="11919" y="7"/>
                      <a:pt x="11918" y="6"/>
                      <a:pt x="11918" y="5"/>
                    </a:cubicBezTo>
                    <a:cubicBezTo>
                      <a:pt x="11918" y="4"/>
                      <a:pt x="11919" y="3"/>
                      <a:pt x="11920" y="3"/>
                    </a:cubicBezTo>
                    <a:close/>
                    <a:moveTo>
                      <a:pt x="11928" y="3"/>
                    </a:moveTo>
                    <a:lnTo>
                      <a:pt x="11928" y="3"/>
                    </a:lnTo>
                    <a:cubicBezTo>
                      <a:pt x="11929" y="3"/>
                      <a:pt x="11930" y="4"/>
                      <a:pt x="11930" y="5"/>
                    </a:cubicBezTo>
                    <a:cubicBezTo>
                      <a:pt x="11930" y="6"/>
                      <a:pt x="11929" y="7"/>
                      <a:pt x="11928" y="7"/>
                    </a:cubicBezTo>
                    <a:lnTo>
                      <a:pt x="11928" y="7"/>
                    </a:lnTo>
                    <a:cubicBezTo>
                      <a:pt x="11927" y="7"/>
                      <a:pt x="11926" y="6"/>
                      <a:pt x="11926" y="5"/>
                    </a:cubicBezTo>
                    <a:cubicBezTo>
                      <a:pt x="11926" y="4"/>
                      <a:pt x="11927" y="3"/>
                      <a:pt x="11928" y="3"/>
                    </a:cubicBezTo>
                    <a:close/>
                    <a:moveTo>
                      <a:pt x="11936" y="3"/>
                    </a:moveTo>
                    <a:lnTo>
                      <a:pt x="11936" y="3"/>
                    </a:lnTo>
                    <a:cubicBezTo>
                      <a:pt x="11937" y="3"/>
                      <a:pt x="11938" y="4"/>
                      <a:pt x="11938" y="5"/>
                    </a:cubicBezTo>
                    <a:cubicBezTo>
                      <a:pt x="11938" y="6"/>
                      <a:pt x="11937" y="7"/>
                      <a:pt x="11936" y="7"/>
                    </a:cubicBezTo>
                    <a:lnTo>
                      <a:pt x="11936" y="7"/>
                    </a:lnTo>
                    <a:cubicBezTo>
                      <a:pt x="11935" y="7"/>
                      <a:pt x="11934" y="6"/>
                      <a:pt x="11934" y="5"/>
                    </a:cubicBezTo>
                    <a:cubicBezTo>
                      <a:pt x="11934" y="4"/>
                      <a:pt x="11935" y="3"/>
                      <a:pt x="11936" y="3"/>
                    </a:cubicBezTo>
                    <a:close/>
                    <a:moveTo>
                      <a:pt x="11944" y="3"/>
                    </a:moveTo>
                    <a:lnTo>
                      <a:pt x="11944" y="3"/>
                    </a:lnTo>
                    <a:cubicBezTo>
                      <a:pt x="11945" y="3"/>
                      <a:pt x="11946" y="4"/>
                      <a:pt x="11946" y="5"/>
                    </a:cubicBezTo>
                    <a:cubicBezTo>
                      <a:pt x="11946" y="6"/>
                      <a:pt x="11945" y="7"/>
                      <a:pt x="11944" y="7"/>
                    </a:cubicBezTo>
                    <a:lnTo>
                      <a:pt x="11944" y="7"/>
                    </a:lnTo>
                    <a:cubicBezTo>
                      <a:pt x="11943" y="7"/>
                      <a:pt x="11942" y="6"/>
                      <a:pt x="11942" y="5"/>
                    </a:cubicBezTo>
                    <a:cubicBezTo>
                      <a:pt x="11942" y="4"/>
                      <a:pt x="11943" y="3"/>
                      <a:pt x="11944" y="3"/>
                    </a:cubicBezTo>
                    <a:close/>
                    <a:moveTo>
                      <a:pt x="11952" y="3"/>
                    </a:moveTo>
                    <a:lnTo>
                      <a:pt x="11952" y="3"/>
                    </a:lnTo>
                    <a:cubicBezTo>
                      <a:pt x="11953" y="3"/>
                      <a:pt x="11954" y="4"/>
                      <a:pt x="11954" y="5"/>
                    </a:cubicBezTo>
                    <a:cubicBezTo>
                      <a:pt x="11954" y="6"/>
                      <a:pt x="11953" y="7"/>
                      <a:pt x="11952" y="7"/>
                    </a:cubicBezTo>
                    <a:lnTo>
                      <a:pt x="11952" y="7"/>
                    </a:lnTo>
                    <a:cubicBezTo>
                      <a:pt x="11951" y="7"/>
                      <a:pt x="11950" y="6"/>
                      <a:pt x="11950" y="5"/>
                    </a:cubicBezTo>
                    <a:cubicBezTo>
                      <a:pt x="11950" y="4"/>
                      <a:pt x="11951" y="3"/>
                      <a:pt x="11952" y="3"/>
                    </a:cubicBezTo>
                    <a:close/>
                    <a:moveTo>
                      <a:pt x="11960" y="3"/>
                    </a:moveTo>
                    <a:lnTo>
                      <a:pt x="11960" y="3"/>
                    </a:lnTo>
                    <a:cubicBezTo>
                      <a:pt x="11961" y="3"/>
                      <a:pt x="11962" y="4"/>
                      <a:pt x="11962" y="5"/>
                    </a:cubicBezTo>
                    <a:cubicBezTo>
                      <a:pt x="11962" y="6"/>
                      <a:pt x="11961" y="7"/>
                      <a:pt x="11960" y="7"/>
                    </a:cubicBezTo>
                    <a:lnTo>
                      <a:pt x="11960" y="7"/>
                    </a:lnTo>
                    <a:cubicBezTo>
                      <a:pt x="11959" y="7"/>
                      <a:pt x="11958" y="6"/>
                      <a:pt x="11958" y="5"/>
                    </a:cubicBezTo>
                    <a:cubicBezTo>
                      <a:pt x="11958" y="4"/>
                      <a:pt x="11959" y="3"/>
                      <a:pt x="11960" y="3"/>
                    </a:cubicBezTo>
                    <a:close/>
                    <a:moveTo>
                      <a:pt x="11968" y="3"/>
                    </a:moveTo>
                    <a:lnTo>
                      <a:pt x="11968" y="3"/>
                    </a:lnTo>
                    <a:cubicBezTo>
                      <a:pt x="11969" y="3"/>
                      <a:pt x="11970" y="4"/>
                      <a:pt x="11970" y="5"/>
                    </a:cubicBezTo>
                    <a:cubicBezTo>
                      <a:pt x="11970" y="6"/>
                      <a:pt x="11969" y="7"/>
                      <a:pt x="11968" y="7"/>
                    </a:cubicBezTo>
                    <a:lnTo>
                      <a:pt x="11968" y="7"/>
                    </a:lnTo>
                    <a:cubicBezTo>
                      <a:pt x="11967" y="7"/>
                      <a:pt x="11966" y="6"/>
                      <a:pt x="11966" y="5"/>
                    </a:cubicBezTo>
                    <a:cubicBezTo>
                      <a:pt x="11966" y="4"/>
                      <a:pt x="11967" y="3"/>
                      <a:pt x="11968" y="3"/>
                    </a:cubicBezTo>
                    <a:close/>
                    <a:moveTo>
                      <a:pt x="11976" y="3"/>
                    </a:moveTo>
                    <a:lnTo>
                      <a:pt x="11976" y="3"/>
                    </a:lnTo>
                    <a:cubicBezTo>
                      <a:pt x="11977" y="3"/>
                      <a:pt x="11978" y="4"/>
                      <a:pt x="11978" y="5"/>
                    </a:cubicBezTo>
                    <a:cubicBezTo>
                      <a:pt x="11978" y="6"/>
                      <a:pt x="11977" y="7"/>
                      <a:pt x="11976" y="7"/>
                    </a:cubicBezTo>
                    <a:lnTo>
                      <a:pt x="11976" y="7"/>
                    </a:lnTo>
                    <a:cubicBezTo>
                      <a:pt x="11975" y="7"/>
                      <a:pt x="11974" y="6"/>
                      <a:pt x="11974" y="5"/>
                    </a:cubicBezTo>
                    <a:cubicBezTo>
                      <a:pt x="11974" y="4"/>
                      <a:pt x="11975" y="3"/>
                      <a:pt x="11976" y="3"/>
                    </a:cubicBezTo>
                    <a:close/>
                    <a:moveTo>
                      <a:pt x="11984" y="3"/>
                    </a:moveTo>
                    <a:lnTo>
                      <a:pt x="11984" y="3"/>
                    </a:lnTo>
                    <a:cubicBezTo>
                      <a:pt x="11985" y="3"/>
                      <a:pt x="11986" y="4"/>
                      <a:pt x="11986" y="5"/>
                    </a:cubicBezTo>
                    <a:cubicBezTo>
                      <a:pt x="11986" y="6"/>
                      <a:pt x="11985" y="7"/>
                      <a:pt x="11984" y="7"/>
                    </a:cubicBezTo>
                    <a:lnTo>
                      <a:pt x="11984" y="7"/>
                    </a:lnTo>
                    <a:cubicBezTo>
                      <a:pt x="11983" y="7"/>
                      <a:pt x="11982" y="6"/>
                      <a:pt x="11982" y="5"/>
                    </a:cubicBezTo>
                    <a:cubicBezTo>
                      <a:pt x="11982" y="4"/>
                      <a:pt x="11983" y="3"/>
                      <a:pt x="11984" y="3"/>
                    </a:cubicBezTo>
                    <a:close/>
                    <a:moveTo>
                      <a:pt x="11992" y="3"/>
                    </a:moveTo>
                    <a:lnTo>
                      <a:pt x="11992" y="3"/>
                    </a:lnTo>
                    <a:cubicBezTo>
                      <a:pt x="11993" y="3"/>
                      <a:pt x="11994" y="4"/>
                      <a:pt x="11994" y="5"/>
                    </a:cubicBezTo>
                    <a:cubicBezTo>
                      <a:pt x="11994" y="6"/>
                      <a:pt x="11993" y="7"/>
                      <a:pt x="11992" y="7"/>
                    </a:cubicBezTo>
                    <a:lnTo>
                      <a:pt x="11992" y="7"/>
                    </a:lnTo>
                    <a:cubicBezTo>
                      <a:pt x="11991" y="7"/>
                      <a:pt x="11990" y="6"/>
                      <a:pt x="11990" y="5"/>
                    </a:cubicBezTo>
                    <a:cubicBezTo>
                      <a:pt x="11990" y="4"/>
                      <a:pt x="11991" y="3"/>
                      <a:pt x="11992" y="3"/>
                    </a:cubicBezTo>
                    <a:close/>
                    <a:moveTo>
                      <a:pt x="12000" y="3"/>
                    </a:moveTo>
                    <a:lnTo>
                      <a:pt x="12000" y="3"/>
                    </a:lnTo>
                    <a:cubicBezTo>
                      <a:pt x="12001" y="3"/>
                      <a:pt x="12002" y="4"/>
                      <a:pt x="12002" y="5"/>
                    </a:cubicBezTo>
                    <a:cubicBezTo>
                      <a:pt x="12002" y="6"/>
                      <a:pt x="12001" y="7"/>
                      <a:pt x="12000" y="7"/>
                    </a:cubicBezTo>
                    <a:lnTo>
                      <a:pt x="12000" y="7"/>
                    </a:lnTo>
                    <a:cubicBezTo>
                      <a:pt x="11999" y="7"/>
                      <a:pt x="11998" y="6"/>
                      <a:pt x="11998" y="5"/>
                    </a:cubicBezTo>
                    <a:cubicBezTo>
                      <a:pt x="11998" y="4"/>
                      <a:pt x="11999" y="3"/>
                      <a:pt x="12000" y="3"/>
                    </a:cubicBezTo>
                    <a:close/>
                    <a:moveTo>
                      <a:pt x="12008" y="3"/>
                    </a:moveTo>
                    <a:lnTo>
                      <a:pt x="12008" y="3"/>
                    </a:lnTo>
                    <a:cubicBezTo>
                      <a:pt x="12009" y="3"/>
                      <a:pt x="12010" y="4"/>
                      <a:pt x="12010" y="5"/>
                    </a:cubicBezTo>
                    <a:cubicBezTo>
                      <a:pt x="12010" y="6"/>
                      <a:pt x="12009" y="7"/>
                      <a:pt x="12008" y="7"/>
                    </a:cubicBezTo>
                    <a:lnTo>
                      <a:pt x="12008" y="7"/>
                    </a:lnTo>
                    <a:cubicBezTo>
                      <a:pt x="12007" y="7"/>
                      <a:pt x="12006" y="6"/>
                      <a:pt x="12006" y="5"/>
                    </a:cubicBezTo>
                    <a:cubicBezTo>
                      <a:pt x="12006" y="4"/>
                      <a:pt x="12007" y="3"/>
                      <a:pt x="12008" y="3"/>
                    </a:cubicBezTo>
                    <a:close/>
                    <a:moveTo>
                      <a:pt x="12016" y="3"/>
                    </a:moveTo>
                    <a:lnTo>
                      <a:pt x="12016" y="3"/>
                    </a:lnTo>
                    <a:cubicBezTo>
                      <a:pt x="12017" y="3"/>
                      <a:pt x="12018" y="4"/>
                      <a:pt x="12018" y="5"/>
                    </a:cubicBezTo>
                    <a:cubicBezTo>
                      <a:pt x="12018" y="6"/>
                      <a:pt x="12017" y="7"/>
                      <a:pt x="12016" y="7"/>
                    </a:cubicBezTo>
                    <a:lnTo>
                      <a:pt x="12016" y="7"/>
                    </a:lnTo>
                    <a:cubicBezTo>
                      <a:pt x="12015" y="7"/>
                      <a:pt x="12014" y="6"/>
                      <a:pt x="12014" y="5"/>
                    </a:cubicBezTo>
                    <a:cubicBezTo>
                      <a:pt x="12014" y="4"/>
                      <a:pt x="12015" y="3"/>
                      <a:pt x="12016" y="3"/>
                    </a:cubicBezTo>
                    <a:close/>
                    <a:moveTo>
                      <a:pt x="12024" y="3"/>
                    </a:moveTo>
                    <a:lnTo>
                      <a:pt x="12024" y="3"/>
                    </a:lnTo>
                    <a:cubicBezTo>
                      <a:pt x="12025" y="3"/>
                      <a:pt x="12026" y="4"/>
                      <a:pt x="12026" y="5"/>
                    </a:cubicBezTo>
                    <a:cubicBezTo>
                      <a:pt x="12026" y="6"/>
                      <a:pt x="12025" y="7"/>
                      <a:pt x="12024" y="7"/>
                    </a:cubicBezTo>
                    <a:lnTo>
                      <a:pt x="12024" y="7"/>
                    </a:lnTo>
                    <a:cubicBezTo>
                      <a:pt x="12023" y="7"/>
                      <a:pt x="12022" y="6"/>
                      <a:pt x="12022" y="5"/>
                    </a:cubicBezTo>
                    <a:cubicBezTo>
                      <a:pt x="12022" y="4"/>
                      <a:pt x="12023" y="3"/>
                      <a:pt x="12024" y="3"/>
                    </a:cubicBezTo>
                    <a:close/>
                    <a:moveTo>
                      <a:pt x="12032" y="3"/>
                    </a:moveTo>
                    <a:lnTo>
                      <a:pt x="12032" y="3"/>
                    </a:lnTo>
                    <a:cubicBezTo>
                      <a:pt x="12033" y="3"/>
                      <a:pt x="12034" y="4"/>
                      <a:pt x="12034" y="5"/>
                    </a:cubicBezTo>
                    <a:cubicBezTo>
                      <a:pt x="12034" y="6"/>
                      <a:pt x="12033" y="7"/>
                      <a:pt x="12032" y="7"/>
                    </a:cubicBezTo>
                    <a:lnTo>
                      <a:pt x="12032" y="7"/>
                    </a:lnTo>
                    <a:cubicBezTo>
                      <a:pt x="12031" y="7"/>
                      <a:pt x="12030" y="6"/>
                      <a:pt x="12030" y="5"/>
                    </a:cubicBezTo>
                    <a:cubicBezTo>
                      <a:pt x="12030" y="4"/>
                      <a:pt x="12031" y="3"/>
                      <a:pt x="12032" y="3"/>
                    </a:cubicBezTo>
                    <a:close/>
                    <a:moveTo>
                      <a:pt x="12040" y="3"/>
                    </a:moveTo>
                    <a:lnTo>
                      <a:pt x="12040" y="3"/>
                    </a:lnTo>
                    <a:cubicBezTo>
                      <a:pt x="12041" y="3"/>
                      <a:pt x="12042" y="4"/>
                      <a:pt x="12042" y="5"/>
                    </a:cubicBezTo>
                    <a:cubicBezTo>
                      <a:pt x="12042" y="6"/>
                      <a:pt x="12041" y="7"/>
                      <a:pt x="12040" y="7"/>
                    </a:cubicBezTo>
                    <a:lnTo>
                      <a:pt x="12040" y="7"/>
                    </a:lnTo>
                    <a:cubicBezTo>
                      <a:pt x="12039" y="7"/>
                      <a:pt x="12038" y="6"/>
                      <a:pt x="12038" y="5"/>
                    </a:cubicBezTo>
                    <a:cubicBezTo>
                      <a:pt x="12038" y="4"/>
                      <a:pt x="12039" y="3"/>
                      <a:pt x="12040" y="3"/>
                    </a:cubicBezTo>
                    <a:close/>
                    <a:moveTo>
                      <a:pt x="12048" y="3"/>
                    </a:moveTo>
                    <a:lnTo>
                      <a:pt x="12048" y="3"/>
                    </a:lnTo>
                    <a:cubicBezTo>
                      <a:pt x="12049" y="3"/>
                      <a:pt x="12050" y="4"/>
                      <a:pt x="12050" y="5"/>
                    </a:cubicBezTo>
                    <a:cubicBezTo>
                      <a:pt x="12050" y="6"/>
                      <a:pt x="12049" y="7"/>
                      <a:pt x="12048" y="7"/>
                    </a:cubicBezTo>
                    <a:lnTo>
                      <a:pt x="12048" y="7"/>
                    </a:lnTo>
                    <a:cubicBezTo>
                      <a:pt x="12047" y="7"/>
                      <a:pt x="12046" y="6"/>
                      <a:pt x="12046" y="5"/>
                    </a:cubicBezTo>
                    <a:cubicBezTo>
                      <a:pt x="12046" y="4"/>
                      <a:pt x="12047" y="3"/>
                      <a:pt x="12048" y="3"/>
                    </a:cubicBezTo>
                    <a:close/>
                    <a:moveTo>
                      <a:pt x="12056" y="3"/>
                    </a:moveTo>
                    <a:lnTo>
                      <a:pt x="12056" y="3"/>
                    </a:lnTo>
                    <a:cubicBezTo>
                      <a:pt x="12057" y="3"/>
                      <a:pt x="12058" y="4"/>
                      <a:pt x="12058" y="5"/>
                    </a:cubicBezTo>
                    <a:cubicBezTo>
                      <a:pt x="12058" y="6"/>
                      <a:pt x="12057" y="7"/>
                      <a:pt x="12056" y="7"/>
                    </a:cubicBezTo>
                    <a:lnTo>
                      <a:pt x="12056" y="7"/>
                    </a:lnTo>
                    <a:cubicBezTo>
                      <a:pt x="12055" y="7"/>
                      <a:pt x="12054" y="6"/>
                      <a:pt x="12054" y="5"/>
                    </a:cubicBezTo>
                    <a:cubicBezTo>
                      <a:pt x="12054" y="4"/>
                      <a:pt x="12055" y="3"/>
                      <a:pt x="12056" y="3"/>
                    </a:cubicBezTo>
                    <a:close/>
                    <a:moveTo>
                      <a:pt x="12064" y="3"/>
                    </a:moveTo>
                    <a:lnTo>
                      <a:pt x="12064" y="3"/>
                    </a:lnTo>
                    <a:cubicBezTo>
                      <a:pt x="12065" y="3"/>
                      <a:pt x="12066" y="4"/>
                      <a:pt x="12066" y="5"/>
                    </a:cubicBezTo>
                    <a:cubicBezTo>
                      <a:pt x="12066" y="6"/>
                      <a:pt x="12065" y="7"/>
                      <a:pt x="12064" y="7"/>
                    </a:cubicBezTo>
                    <a:lnTo>
                      <a:pt x="12064" y="7"/>
                    </a:lnTo>
                    <a:cubicBezTo>
                      <a:pt x="12063" y="7"/>
                      <a:pt x="12062" y="6"/>
                      <a:pt x="12062" y="5"/>
                    </a:cubicBezTo>
                    <a:cubicBezTo>
                      <a:pt x="12062" y="4"/>
                      <a:pt x="12063" y="3"/>
                      <a:pt x="12064" y="3"/>
                    </a:cubicBezTo>
                    <a:close/>
                    <a:moveTo>
                      <a:pt x="12072" y="3"/>
                    </a:moveTo>
                    <a:lnTo>
                      <a:pt x="12072" y="3"/>
                    </a:lnTo>
                    <a:cubicBezTo>
                      <a:pt x="12073" y="3"/>
                      <a:pt x="12074" y="4"/>
                      <a:pt x="12074" y="5"/>
                    </a:cubicBezTo>
                    <a:cubicBezTo>
                      <a:pt x="12074" y="6"/>
                      <a:pt x="12073" y="7"/>
                      <a:pt x="12072" y="7"/>
                    </a:cubicBezTo>
                    <a:lnTo>
                      <a:pt x="12072" y="7"/>
                    </a:lnTo>
                    <a:cubicBezTo>
                      <a:pt x="12071" y="7"/>
                      <a:pt x="12070" y="6"/>
                      <a:pt x="12070" y="5"/>
                    </a:cubicBezTo>
                    <a:cubicBezTo>
                      <a:pt x="12070" y="4"/>
                      <a:pt x="12071" y="3"/>
                      <a:pt x="12072" y="3"/>
                    </a:cubicBezTo>
                    <a:close/>
                    <a:moveTo>
                      <a:pt x="12080" y="3"/>
                    </a:moveTo>
                    <a:lnTo>
                      <a:pt x="12080" y="3"/>
                    </a:lnTo>
                    <a:cubicBezTo>
                      <a:pt x="12081" y="3"/>
                      <a:pt x="12082" y="4"/>
                      <a:pt x="12082" y="5"/>
                    </a:cubicBezTo>
                    <a:cubicBezTo>
                      <a:pt x="12082" y="6"/>
                      <a:pt x="12081" y="7"/>
                      <a:pt x="12080" y="7"/>
                    </a:cubicBezTo>
                    <a:lnTo>
                      <a:pt x="12080" y="7"/>
                    </a:lnTo>
                    <a:cubicBezTo>
                      <a:pt x="12079" y="7"/>
                      <a:pt x="12078" y="6"/>
                      <a:pt x="12078" y="5"/>
                    </a:cubicBezTo>
                    <a:cubicBezTo>
                      <a:pt x="12078" y="4"/>
                      <a:pt x="12079" y="3"/>
                      <a:pt x="12080" y="3"/>
                    </a:cubicBezTo>
                    <a:close/>
                    <a:moveTo>
                      <a:pt x="12088" y="3"/>
                    </a:moveTo>
                    <a:lnTo>
                      <a:pt x="12088" y="3"/>
                    </a:lnTo>
                    <a:cubicBezTo>
                      <a:pt x="12089" y="3"/>
                      <a:pt x="12090" y="4"/>
                      <a:pt x="12090" y="5"/>
                    </a:cubicBezTo>
                    <a:cubicBezTo>
                      <a:pt x="12090" y="6"/>
                      <a:pt x="12089" y="7"/>
                      <a:pt x="12088" y="7"/>
                    </a:cubicBezTo>
                    <a:lnTo>
                      <a:pt x="12088" y="7"/>
                    </a:lnTo>
                    <a:cubicBezTo>
                      <a:pt x="12087" y="7"/>
                      <a:pt x="12086" y="6"/>
                      <a:pt x="12086" y="5"/>
                    </a:cubicBezTo>
                    <a:cubicBezTo>
                      <a:pt x="12086" y="4"/>
                      <a:pt x="12087" y="3"/>
                      <a:pt x="12088" y="3"/>
                    </a:cubicBezTo>
                    <a:close/>
                    <a:moveTo>
                      <a:pt x="12096" y="3"/>
                    </a:moveTo>
                    <a:lnTo>
                      <a:pt x="12096" y="3"/>
                    </a:lnTo>
                    <a:cubicBezTo>
                      <a:pt x="12097" y="3"/>
                      <a:pt x="12098" y="4"/>
                      <a:pt x="12098" y="5"/>
                    </a:cubicBezTo>
                    <a:cubicBezTo>
                      <a:pt x="12098" y="6"/>
                      <a:pt x="12097" y="7"/>
                      <a:pt x="12096" y="7"/>
                    </a:cubicBezTo>
                    <a:lnTo>
                      <a:pt x="12096" y="7"/>
                    </a:lnTo>
                    <a:cubicBezTo>
                      <a:pt x="12095" y="7"/>
                      <a:pt x="12094" y="6"/>
                      <a:pt x="12094" y="5"/>
                    </a:cubicBezTo>
                    <a:cubicBezTo>
                      <a:pt x="12094" y="4"/>
                      <a:pt x="12095" y="3"/>
                      <a:pt x="12096" y="3"/>
                    </a:cubicBezTo>
                    <a:close/>
                    <a:moveTo>
                      <a:pt x="12104" y="3"/>
                    </a:moveTo>
                    <a:lnTo>
                      <a:pt x="12104" y="3"/>
                    </a:lnTo>
                    <a:cubicBezTo>
                      <a:pt x="12105" y="3"/>
                      <a:pt x="12106" y="4"/>
                      <a:pt x="12106" y="5"/>
                    </a:cubicBezTo>
                    <a:cubicBezTo>
                      <a:pt x="12106" y="6"/>
                      <a:pt x="12105" y="7"/>
                      <a:pt x="12104" y="7"/>
                    </a:cubicBezTo>
                    <a:lnTo>
                      <a:pt x="12104" y="7"/>
                    </a:lnTo>
                    <a:cubicBezTo>
                      <a:pt x="12103" y="7"/>
                      <a:pt x="12102" y="6"/>
                      <a:pt x="12102" y="5"/>
                    </a:cubicBezTo>
                    <a:cubicBezTo>
                      <a:pt x="12102" y="4"/>
                      <a:pt x="12103" y="3"/>
                      <a:pt x="12104" y="3"/>
                    </a:cubicBezTo>
                    <a:close/>
                    <a:moveTo>
                      <a:pt x="12112" y="3"/>
                    </a:moveTo>
                    <a:lnTo>
                      <a:pt x="12112" y="3"/>
                    </a:lnTo>
                    <a:cubicBezTo>
                      <a:pt x="12113" y="3"/>
                      <a:pt x="12114" y="4"/>
                      <a:pt x="12114" y="5"/>
                    </a:cubicBezTo>
                    <a:cubicBezTo>
                      <a:pt x="12114" y="6"/>
                      <a:pt x="12113" y="7"/>
                      <a:pt x="12112" y="7"/>
                    </a:cubicBezTo>
                    <a:lnTo>
                      <a:pt x="12112" y="7"/>
                    </a:lnTo>
                    <a:cubicBezTo>
                      <a:pt x="12111" y="7"/>
                      <a:pt x="12110" y="6"/>
                      <a:pt x="12110" y="5"/>
                    </a:cubicBezTo>
                    <a:cubicBezTo>
                      <a:pt x="12110" y="4"/>
                      <a:pt x="12111" y="3"/>
                      <a:pt x="12112" y="3"/>
                    </a:cubicBezTo>
                    <a:close/>
                    <a:moveTo>
                      <a:pt x="12120" y="3"/>
                    </a:moveTo>
                    <a:lnTo>
                      <a:pt x="12120" y="3"/>
                    </a:lnTo>
                    <a:cubicBezTo>
                      <a:pt x="12121" y="3"/>
                      <a:pt x="12122" y="4"/>
                      <a:pt x="12122" y="5"/>
                    </a:cubicBezTo>
                    <a:cubicBezTo>
                      <a:pt x="12122" y="6"/>
                      <a:pt x="12121" y="7"/>
                      <a:pt x="12120" y="7"/>
                    </a:cubicBezTo>
                    <a:lnTo>
                      <a:pt x="12120" y="7"/>
                    </a:lnTo>
                    <a:cubicBezTo>
                      <a:pt x="12119" y="7"/>
                      <a:pt x="12118" y="6"/>
                      <a:pt x="12118" y="5"/>
                    </a:cubicBezTo>
                    <a:cubicBezTo>
                      <a:pt x="12118" y="4"/>
                      <a:pt x="12119" y="3"/>
                      <a:pt x="12120" y="3"/>
                    </a:cubicBezTo>
                    <a:close/>
                    <a:moveTo>
                      <a:pt x="12128" y="3"/>
                    </a:moveTo>
                    <a:lnTo>
                      <a:pt x="12128" y="3"/>
                    </a:lnTo>
                    <a:cubicBezTo>
                      <a:pt x="12129" y="3"/>
                      <a:pt x="12130" y="4"/>
                      <a:pt x="12130" y="5"/>
                    </a:cubicBezTo>
                    <a:cubicBezTo>
                      <a:pt x="12130" y="6"/>
                      <a:pt x="12129" y="7"/>
                      <a:pt x="12128" y="7"/>
                    </a:cubicBezTo>
                    <a:lnTo>
                      <a:pt x="12128" y="7"/>
                    </a:lnTo>
                    <a:cubicBezTo>
                      <a:pt x="12127" y="7"/>
                      <a:pt x="12126" y="6"/>
                      <a:pt x="12126" y="5"/>
                    </a:cubicBezTo>
                    <a:cubicBezTo>
                      <a:pt x="12126" y="4"/>
                      <a:pt x="12127" y="3"/>
                      <a:pt x="12128" y="3"/>
                    </a:cubicBezTo>
                    <a:close/>
                    <a:moveTo>
                      <a:pt x="12136" y="3"/>
                    </a:moveTo>
                    <a:lnTo>
                      <a:pt x="12136" y="3"/>
                    </a:lnTo>
                    <a:cubicBezTo>
                      <a:pt x="12137" y="3"/>
                      <a:pt x="12138" y="4"/>
                      <a:pt x="12138" y="5"/>
                    </a:cubicBezTo>
                    <a:cubicBezTo>
                      <a:pt x="12138" y="6"/>
                      <a:pt x="12137" y="7"/>
                      <a:pt x="12136" y="7"/>
                    </a:cubicBezTo>
                    <a:lnTo>
                      <a:pt x="12136" y="7"/>
                    </a:lnTo>
                    <a:cubicBezTo>
                      <a:pt x="12135" y="7"/>
                      <a:pt x="12134" y="6"/>
                      <a:pt x="12134" y="5"/>
                    </a:cubicBezTo>
                    <a:cubicBezTo>
                      <a:pt x="12134" y="4"/>
                      <a:pt x="12135" y="3"/>
                      <a:pt x="12136" y="3"/>
                    </a:cubicBezTo>
                    <a:close/>
                    <a:moveTo>
                      <a:pt x="12144" y="3"/>
                    </a:moveTo>
                    <a:lnTo>
                      <a:pt x="12144" y="3"/>
                    </a:lnTo>
                    <a:cubicBezTo>
                      <a:pt x="12145" y="3"/>
                      <a:pt x="12146" y="4"/>
                      <a:pt x="12146" y="5"/>
                    </a:cubicBezTo>
                    <a:cubicBezTo>
                      <a:pt x="12146" y="6"/>
                      <a:pt x="12145" y="7"/>
                      <a:pt x="12144" y="7"/>
                    </a:cubicBezTo>
                    <a:lnTo>
                      <a:pt x="12144" y="7"/>
                    </a:lnTo>
                    <a:cubicBezTo>
                      <a:pt x="12143" y="7"/>
                      <a:pt x="12142" y="6"/>
                      <a:pt x="12142" y="5"/>
                    </a:cubicBezTo>
                    <a:cubicBezTo>
                      <a:pt x="12142" y="4"/>
                      <a:pt x="12143" y="3"/>
                      <a:pt x="12144" y="3"/>
                    </a:cubicBezTo>
                    <a:close/>
                    <a:moveTo>
                      <a:pt x="12152" y="3"/>
                    </a:moveTo>
                    <a:lnTo>
                      <a:pt x="12152" y="3"/>
                    </a:lnTo>
                    <a:cubicBezTo>
                      <a:pt x="12153" y="3"/>
                      <a:pt x="12154" y="4"/>
                      <a:pt x="12154" y="5"/>
                    </a:cubicBezTo>
                    <a:cubicBezTo>
                      <a:pt x="12154" y="6"/>
                      <a:pt x="12153" y="7"/>
                      <a:pt x="12152" y="7"/>
                    </a:cubicBezTo>
                    <a:lnTo>
                      <a:pt x="12152" y="7"/>
                    </a:lnTo>
                    <a:cubicBezTo>
                      <a:pt x="12151" y="7"/>
                      <a:pt x="12150" y="6"/>
                      <a:pt x="12150" y="5"/>
                    </a:cubicBezTo>
                    <a:cubicBezTo>
                      <a:pt x="12150" y="4"/>
                      <a:pt x="12151" y="3"/>
                      <a:pt x="12152" y="3"/>
                    </a:cubicBezTo>
                    <a:close/>
                    <a:moveTo>
                      <a:pt x="12160" y="3"/>
                    </a:moveTo>
                    <a:lnTo>
                      <a:pt x="12160" y="3"/>
                    </a:lnTo>
                    <a:cubicBezTo>
                      <a:pt x="12161" y="3"/>
                      <a:pt x="12162" y="4"/>
                      <a:pt x="12162" y="5"/>
                    </a:cubicBezTo>
                    <a:cubicBezTo>
                      <a:pt x="12162" y="6"/>
                      <a:pt x="12161" y="7"/>
                      <a:pt x="12160" y="7"/>
                    </a:cubicBezTo>
                    <a:lnTo>
                      <a:pt x="12160" y="7"/>
                    </a:lnTo>
                    <a:cubicBezTo>
                      <a:pt x="12159" y="7"/>
                      <a:pt x="12158" y="6"/>
                      <a:pt x="12158" y="5"/>
                    </a:cubicBezTo>
                    <a:cubicBezTo>
                      <a:pt x="12158" y="4"/>
                      <a:pt x="12159" y="3"/>
                      <a:pt x="12160" y="3"/>
                    </a:cubicBezTo>
                    <a:close/>
                    <a:moveTo>
                      <a:pt x="12168" y="3"/>
                    </a:moveTo>
                    <a:lnTo>
                      <a:pt x="12168" y="3"/>
                    </a:lnTo>
                    <a:cubicBezTo>
                      <a:pt x="12169" y="3"/>
                      <a:pt x="12170" y="4"/>
                      <a:pt x="12170" y="5"/>
                    </a:cubicBezTo>
                    <a:cubicBezTo>
                      <a:pt x="12170" y="6"/>
                      <a:pt x="12169" y="7"/>
                      <a:pt x="12168" y="7"/>
                    </a:cubicBezTo>
                    <a:lnTo>
                      <a:pt x="12168" y="7"/>
                    </a:lnTo>
                    <a:cubicBezTo>
                      <a:pt x="12167" y="7"/>
                      <a:pt x="12166" y="6"/>
                      <a:pt x="12166" y="5"/>
                    </a:cubicBezTo>
                    <a:cubicBezTo>
                      <a:pt x="12166" y="4"/>
                      <a:pt x="12167" y="3"/>
                      <a:pt x="12168" y="3"/>
                    </a:cubicBezTo>
                    <a:close/>
                    <a:moveTo>
                      <a:pt x="12176" y="3"/>
                    </a:moveTo>
                    <a:lnTo>
                      <a:pt x="12176" y="3"/>
                    </a:lnTo>
                    <a:cubicBezTo>
                      <a:pt x="12177" y="3"/>
                      <a:pt x="12178" y="4"/>
                      <a:pt x="12178" y="5"/>
                    </a:cubicBezTo>
                    <a:cubicBezTo>
                      <a:pt x="12178" y="6"/>
                      <a:pt x="12177" y="7"/>
                      <a:pt x="12176" y="7"/>
                    </a:cubicBezTo>
                    <a:lnTo>
                      <a:pt x="12176" y="7"/>
                    </a:lnTo>
                    <a:cubicBezTo>
                      <a:pt x="12175" y="7"/>
                      <a:pt x="12174" y="6"/>
                      <a:pt x="12174" y="5"/>
                    </a:cubicBezTo>
                    <a:cubicBezTo>
                      <a:pt x="12174" y="4"/>
                      <a:pt x="12175" y="3"/>
                      <a:pt x="12176" y="3"/>
                    </a:cubicBezTo>
                    <a:close/>
                    <a:moveTo>
                      <a:pt x="12184" y="3"/>
                    </a:moveTo>
                    <a:lnTo>
                      <a:pt x="12184" y="3"/>
                    </a:lnTo>
                    <a:cubicBezTo>
                      <a:pt x="12185" y="3"/>
                      <a:pt x="12186" y="4"/>
                      <a:pt x="12186" y="5"/>
                    </a:cubicBezTo>
                    <a:cubicBezTo>
                      <a:pt x="12186" y="6"/>
                      <a:pt x="12185" y="7"/>
                      <a:pt x="12184" y="7"/>
                    </a:cubicBezTo>
                    <a:lnTo>
                      <a:pt x="12184" y="7"/>
                    </a:lnTo>
                    <a:cubicBezTo>
                      <a:pt x="12183" y="7"/>
                      <a:pt x="12182" y="6"/>
                      <a:pt x="12182" y="5"/>
                    </a:cubicBezTo>
                    <a:cubicBezTo>
                      <a:pt x="12182" y="4"/>
                      <a:pt x="12183" y="3"/>
                      <a:pt x="12184" y="3"/>
                    </a:cubicBezTo>
                    <a:close/>
                    <a:moveTo>
                      <a:pt x="12192" y="3"/>
                    </a:moveTo>
                    <a:lnTo>
                      <a:pt x="12192" y="3"/>
                    </a:lnTo>
                    <a:cubicBezTo>
                      <a:pt x="12193" y="3"/>
                      <a:pt x="12194" y="4"/>
                      <a:pt x="12194" y="5"/>
                    </a:cubicBezTo>
                    <a:cubicBezTo>
                      <a:pt x="12194" y="6"/>
                      <a:pt x="12193" y="7"/>
                      <a:pt x="12192" y="7"/>
                    </a:cubicBezTo>
                    <a:lnTo>
                      <a:pt x="12192" y="7"/>
                    </a:lnTo>
                    <a:cubicBezTo>
                      <a:pt x="12191" y="7"/>
                      <a:pt x="12190" y="6"/>
                      <a:pt x="12190" y="5"/>
                    </a:cubicBezTo>
                    <a:cubicBezTo>
                      <a:pt x="12190" y="4"/>
                      <a:pt x="12191" y="3"/>
                      <a:pt x="12192" y="3"/>
                    </a:cubicBezTo>
                    <a:close/>
                    <a:moveTo>
                      <a:pt x="12200" y="3"/>
                    </a:moveTo>
                    <a:lnTo>
                      <a:pt x="12200" y="3"/>
                    </a:lnTo>
                    <a:cubicBezTo>
                      <a:pt x="12201" y="3"/>
                      <a:pt x="12202" y="4"/>
                      <a:pt x="12202" y="5"/>
                    </a:cubicBezTo>
                    <a:cubicBezTo>
                      <a:pt x="12202" y="6"/>
                      <a:pt x="12201" y="7"/>
                      <a:pt x="12200" y="7"/>
                    </a:cubicBezTo>
                    <a:lnTo>
                      <a:pt x="12200" y="7"/>
                    </a:lnTo>
                    <a:cubicBezTo>
                      <a:pt x="12199" y="7"/>
                      <a:pt x="12198" y="6"/>
                      <a:pt x="12198" y="5"/>
                    </a:cubicBezTo>
                    <a:cubicBezTo>
                      <a:pt x="12198" y="4"/>
                      <a:pt x="12199" y="3"/>
                      <a:pt x="12200" y="3"/>
                    </a:cubicBezTo>
                    <a:close/>
                    <a:moveTo>
                      <a:pt x="12208" y="3"/>
                    </a:moveTo>
                    <a:lnTo>
                      <a:pt x="12208" y="3"/>
                    </a:lnTo>
                    <a:cubicBezTo>
                      <a:pt x="12209" y="3"/>
                      <a:pt x="12210" y="4"/>
                      <a:pt x="12210" y="5"/>
                    </a:cubicBezTo>
                    <a:cubicBezTo>
                      <a:pt x="12210" y="6"/>
                      <a:pt x="12209" y="7"/>
                      <a:pt x="12208" y="7"/>
                    </a:cubicBezTo>
                    <a:lnTo>
                      <a:pt x="12208" y="7"/>
                    </a:lnTo>
                    <a:cubicBezTo>
                      <a:pt x="12207" y="7"/>
                      <a:pt x="12206" y="6"/>
                      <a:pt x="12206" y="5"/>
                    </a:cubicBezTo>
                    <a:cubicBezTo>
                      <a:pt x="12206" y="4"/>
                      <a:pt x="12207" y="3"/>
                      <a:pt x="12208" y="3"/>
                    </a:cubicBezTo>
                    <a:close/>
                    <a:moveTo>
                      <a:pt x="12216" y="3"/>
                    </a:moveTo>
                    <a:lnTo>
                      <a:pt x="12216" y="3"/>
                    </a:lnTo>
                    <a:cubicBezTo>
                      <a:pt x="12217" y="3"/>
                      <a:pt x="12218" y="4"/>
                      <a:pt x="12218" y="5"/>
                    </a:cubicBezTo>
                    <a:cubicBezTo>
                      <a:pt x="12218" y="6"/>
                      <a:pt x="12217" y="7"/>
                      <a:pt x="12216" y="7"/>
                    </a:cubicBezTo>
                    <a:lnTo>
                      <a:pt x="12216" y="7"/>
                    </a:lnTo>
                    <a:cubicBezTo>
                      <a:pt x="12215" y="7"/>
                      <a:pt x="12214" y="6"/>
                      <a:pt x="12214" y="5"/>
                    </a:cubicBezTo>
                    <a:cubicBezTo>
                      <a:pt x="12214" y="4"/>
                      <a:pt x="12215" y="3"/>
                      <a:pt x="12216" y="3"/>
                    </a:cubicBezTo>
                    <a:close/>
                    <a:moveTo>
                      <a:pt x="12224" y="3"/>
                    </a:moveTo>
                    <a:lnTo>
                      <a:pt x="12224" y="3"/>
                    </a:lnTo>
                    <a:cubicBezTo>
                      <a:pt x="12225" y="3"/>
                      <a:pt x="12226" y="4"/>
                      <a:pt x="12226" y="5"/>
                    </a:cubicBezTo>
                    <a:cubicBezTo>
                      <a:pt x="12226" y="6"/>
                      <a:pt x="12225" y="7"/>
                      <a:pt x="12224" y="7"/>
                    </a:cubicBezTo>
                    <a:lnTo>
                      <a:pt x="12224" y="7"/>
                    </a:lnTo>
                    <a:cubicBezTo>
                      <a:pt x="12223" y="7"/>
                      <a:pt x="12222" y="6"/>
                      <a:pt x="12222" y="5"/>
                    </a:cubicBezTo>
                    <a:cubicBezTo>
                      <a:pt x="12222" y="4"/>
                      <a:pt x="12223" y="3"/>
                      <a:pt x="12224" y="3"/>
                    </a:cubicBezTo>
                    <a:close/>
                    <a:moveTo>
                      <a:pt x="12232" y="3"/>
                    </a:moveTo>
                    <a:lnTo>
                      <a:pt x="12232" y="3"/>
                    </a:lnTo>
                    <a:cubicBezTo>
                      <a:pt x="12233" y="3"/>
                      <a:pt x="12234" y="4"/>
                      <a:pt x="12234" y="5"/>
                    </a:cubicBezTo>
                    <a:cubicBezTo>
                      <a:pt x="12234" y="6"/>
                      <a:pt x="12233" y="7"/>
                      <a:pt x="12232" y="7"/>
                    </a:cubicBezTo>
                    <a:lnTo>
                      <a:pt x="12232" y="7"/>
                    </a:lnTo>
                    <a:cubicBezTo>
                      <a:pt x="12231" y="7"/>
                      <a:pt x="12230" y="6"/>
                      <a:pt x="12230" y="5"/>
                    </a:cubicBezTo>
                    <a:cubicBezTo>
                      <a:pt x="12230" y="4"/>
                      <a:pt x="12231" y="3"/>
                      <a:pt x="12232" y="3"/>
                    </a:cubicBezTo>
                    <a:close/>
                    <a:moveTo>
                      <a:pt x="12240" y="3"/>
                    </a:moveTo>
                    <a:lnTo>
                      <a:pt x="12240" y="3"/>
                    </a:lnTo>
                    <a:cubicBezTo>
                      <a:pt x="12241" y="3"/>
                      <a:pt x="12242" y="4"/>
                      <a:pt x="12242" y="5"/>
                    </a:cubicBezTo>
                    <a:cubicBezTo>
                      <a:pt x="12242" y="6"/>
                      <a:pt x="12241" y="7"/>
                      <a:pt x="12240" y="7"/>
                    </a:cubicBezTo>
                    <a:lnTo>
                      <a:pt x="12240" y="7"/>
                    </a:lnTo>
                    <a:cubicBezTo>
                      <a:pt x="12239" y="7"/>
                      <a:pt x="12238" y="6"/>
                      <a:pt x="12238" y="5"/>
                    </a:cubicBezTo>
                    <a:cubicBezTo>
                      <a:pt x="12238" y="4"/>
                      <a:pt x="12239" y="3"/>
                      <a:pt x="12240" y="3"/>
                    </a:cubicBezTo>
                    <a:close/>
                    <a:moveTo>
                      <a:pt x="12248" y="3"/>
                    </a:moveTo>
                    <a:lnTo>
                      <a:pt x="12248" y="3"/>
                    </a:lnTo>
                    <a:cubicBezTo>
                      <a:pt x="12249" y="3"/>
                      <a:pt x="12250" y="4"/>
                      <a:pt x="12250" y="5"/>
                    </a:cubicBezTo>
                    <a:cubicBezTo>
                      <a:pt x="12250" y="6"/>
                      <a:pt x="12249" y="7"/>
                      <a:pt x="12248" y="7"/>
                    </a:cubicBezTo>
                    <a:lnTo>
                      <a:pt x="12248" y="7"/>
                    </a:lnTo>
                    <a:cubicBezTo>
                      <a:pt x="12247" y="7"/>
                      <a:pt x="12246" y="6"/>
                      <a:pt x="12246" y="5"/>
                    </a:cubicBezTo>
                    <a:cubicBezTo>
                      <a:pt x="12246" y="4"/>
                      <a:pt x="12247" y="3"/>
                      <a:pt x="12248" y="3"/>
                    </a:cubicBezTo>
                    <a:close/>
                    <a:moveTo>
                      <a:pt x="12256" y="3"/>
                    </a:moveTo>
                    <a:lnTo>
                      <a:pt x="12256" y="3"/>
                    </a:lnTo>
                    <a:cubicBezTo>
                      <a:pt x="12257" y="3"/>
                      <a:pt x="12258" y="4"/>
                      <a:pt x="12258" y="5"/>
                    </a:cubicBezTo>
                    <a:cubicBezTo>
                      <a:pt x="12258" y="6"/>
                      <a:pt x="12257" y="7"/>
                      <a:pt x="12256" y="7"/>
                    </a:cubicBezTo>
                    <a:lnTo>
                      <a:pt x="12256" y="7"/>
                    </a:lnTo>
                    <a:cubicBezTo>
                      <a:pt x="12255" y="7"/>
                      <a:pt x="12254" y="6"/>
                      <a:pt x="12254" y="5"/>
                    </a:cubicBezTo>
                    <a:cubicBezTo>
                      <a:pt x="12254" y="4"/>
                      <a:pt x="12255" y="3"/>
                      <a:pt x="12256" y="3"/>
                    </a:cubicBezTo>
                    <a:close/>
                    <a:moveTo>
                      <a:pt x="12264" y="3"/>
                    </a:moveTo>
                    <a:lnTo>
                      <a:pt x="12264" y="3"/>
                    </a:lnTo>
                    <a:cubicBezTo>
                      <a:pt x="12265" y="3"/>
                      <a:pt x="12266" y="4"/>
                      <a:pt x="12266" y="5"/>
                    </a:cubicBezTo>
                    <a:cubicBezTo>
                      <a:pt x="12266" y="6"/>
                      <a:pt x="12265" y="7"/>
                      <a:pt x="12264" y="7"/>
                    </a:cubicBezTo>
                    <a:lnTo>
                      <a:pt x="12264" y="7"/>
                    </a:lnTo>
                    <a:cubicBezTo>
                      <a:pt x="12263" y="7"/>
                      <a:pt x="12262" y="6"/>
                      <a:pt x="12262" y="5"/>
                    </a:cubicBezTo>
                    <a:cubicBezTo>
                      <a:pt x="12262" y="4"/>
                      <a:pt x="12263" y="3"/>
                      <a:pt x="12264" y="3"/>
                    </a:cubicBezTo>
                    <a:close/>
                    <a:moveTo>
                      <a:pt x="12272" y="3"/>
                    </a:moveTo>
                    <a:lnTo>
                      <a:pt x="12272" y="3"/>
                    </a:lnTo>
                    <a:cubicBezTo>
                      <a:pt x="12273" y="3"/>
                      <a:pt x="12274" y="4"/>
                      <a:pt x="12274" y="5"/>
                    </a:cubicBezTo>
                    <a:cubicBezTo>
                      <a:pt x="12274" y="6"/>
                      <a:pt x="12273" y="7"/>
                      <a:pt x="12272" y="7"/>
                    </a:cubicBezTo>
                    <a:lnTo>
                      <a:pt x="12272" y="7"/>
                    </a:lnTo>
                    <a:cubicBezTo>
                      <a:pt x="12271" y="7"/>
                      <a:pt x="12270" y="6"/>
                      <a:pt x="12270" y="5"/>
                    </a:cubicBezTo>
                    <a:cubicBezTo>
                      <a:pt x="12270" y="4"/>
                      <a:pt x="12271" y="3"/>
                      <a:pt x="12272" y="3"/>
                    </a:cubicBezTo>
                    <a:close/>
                    <a:moveTo>
                      <a:pt x="12280" y="3"/>
                    </a:moveTo>
                    <a:lnTo>
                      <a:pt x="12280" y="3"/>
                    </a:lnTo>
                    <a:cubicBezTo>
                      <a:pt x="12281" y="3"/>
                      <a:pt x="12282" y="4"/>
                      <a:pt x="12282" y="5"/>
                    </a:cubicBezTo>
                    <a:cubicBezTo>
                      <a:pt x="12282" y="6"/>
                      <a:pt x="12281" y="7"/>
                      <a:pt x="12280" y="7"/>
                    </a:cubicBezTo>
                    <a:lnTo>
                      <a:pt x="12280" y="7"/>
                    </a:lnTo>
                    <a:cubicBezTo>
                      <a:pt x="12279" y="7"/>
                      <a:pt x="12278" y="6"/>
                      <a:pt x="12278" y="5"/>
                    </a:cubicBezTo>
                    <a:cubicBezTo>
                      <a:pt x="12278" y="4"/>
                      <a:pt x="12279" y="3"/>
                      <a:pt x="12280" y="3"/>
                    </a:cubicBezTo>
                    <a:close/>
                    <a:moveTo>
                      <a:pt x="12288" y="3"/>
                    </a:moveTo>
                    <a:lnTo>
                      <a:pt x="12288" y="3"/>
                    </a:lnTo>
                    <a:cubicBezTo>
                      <a:pt x="12289" y="3"/>
                      <a:pt x="12290" y="4"/>
                      <a:pt x="12290" y="5"/>
                    </a:cubicBezTo>
                    <a:cubicBezTo>
                      <a:pt x="12290" y="6"/>
                      <a:pt x="12289" y="7"/>
                      <a:pt x="12288" y="7"/>
                    </a:cubicBezTo>
                    <a:lnTo>
                      <a:pt x="12288" y="7"/>
                    </a:lnTo>
                    <a:cubicBezTo>
                      <a:pt x="12287" y="7"/>
                      <a:pt x="12286" y="6"/>
                      <a:pt x="12286" y="5"/>
                    </a:cubicBezTo>
                    <a:cubicBezTo>
                      <a:pt x="12286" y="4"/>
                      <a:pt x="12287" y="3"/>
                      <a:pt x="12288" y="3"/>
                    </a:cubicBezTo>
                    <a:close/>
                    <a:moveTo>
                      <a:pt x="12296" y="3"/>
                    </a:moveTo>
                    <a:lnTo>
                      <a:pt x="12296" y="3"/>
                    </a:lnTo>
                    <a:cubicBezTo>
                      <a:pt x="12297" y="3"/>
                      <a:pt x="12298" y="4"/>
                      <a:pt x="12298" y="5"/>
                    </a:cubicBezTo>
                    <a:cubicBezTo>
                      <a:pt x="12298" y="6"/>
                      <a:pt x="12297" y="7"/>
                      <a:pt x="12296" y="7"/>
                    </a:cubicBezTo>
                    <a:lnTo>
                      <a:pt x="12296" y="7"/>
                    </a:lnTo>
                    <a:cubicBezTo>
                      <a:pt x="12295" y="7"/>
                      <a:pt x="12294" y="6"/>
                      <a:pt x="12294" y="5"/>
                    </a:cubicBezTo>
                    <a:cubicBezTo>
                      <a:pt x="12294" y="4"/>
                      <a:pt x="12295" y="3"/>
                      <a:pt x="12296" y="3"/>
                    </a:cubicBezTo>
                    <a:close/>
                    <a:moveTo>
                      <a:pt x="12304" y="3"/>
                    </a:moveTo>
                    <a:lnTo>
                      <a:pt x="12304" y="3"/>
                    </a:lnTo>
                    <a:cubicBezTo>
                      <a:pt x="12305" y="3"/>
                      <a:pt x="12306" y="4"/>
                      <a:pt x="12306" y="5"/>
                    </a:cubicBezTo>
                    <a:cubicBezTo>
                      <a:pt x="12306" y="6"/>
                      <a:pt x="12305" y="7"/>
                      <a:pt x="12304" y="7"/>
                    </a:cubicBezTo>
                    <a:lnTo>
                      <a:pt x="12304" y="7"/>
                    </a:lnTo>
                    <a:cubicBezTo>
                      <a:pt x="12303" y="7"/>
                      <a:pt x="12302" y="6"/>
                      <a:pt x="12302" y="5"/>
                    </a:cubicBezTo>
                    <a:cubicBezTo>
                      <a:pt x="12302" y="4"/>
                      <a:pt x="12303" y="3"/>
                      <a:pt x="12304" y="3"/>
                    </a:cubicBezTo>
                    <a:close/>
                    <a:moveTo>
                      <a:pt x="12312" y="3"/>
                    </a:moveTo>
                    <a:lnTo>
                      <a:pt x="12312" y="3"/>
                    </a:lnTo>
                    <a:cubicBezTo>
                      <a:pt x="12313" y="3"/>
                      <a:pt x="12314" y="4"/>
                      <a:pt x="12314" y="5"/>
                    </a:cubicBezTo>
                    <a:cubicBezTo>
                      <a:pt x="12314" y="6"/>
                      <a:pt x="12313" y="7"/>
                      <a:pt x="12312" y="7"/>
                    </a:cubicBezTo>
                    <a:lnTo>
                      <a:pt x="12312" y="7"/>
                    </a:lnTo>
                    <a:cubicBezTo>
                      <a:pt x="12311" y="7"/>
                      <a:pt x="12310" y="6"/>
                      <a:pt x="12310" y="5"/>
                    </a:cubicBezTo>
                    <a:cubicBezTo>
                      <a:pt x="12310" y="4"/>
                      <a:pt x="12311" y="3"/>
                      <a:pt x="12312" y="3"/>
                    </a:cubicBezTo>
                    <a:close/>
                    <a:moveTo>
                      <a:pt x="12320" y="3"/>
                    </a:moveTo>
                    <a:lnTo>
                      <a:pt x="12320" y="3"/>
                    </a:lnTo>
                    <a:cubicBezTo>
                      <a:pt x="12321" y="3"/>
                      <a:pt x="12322" y="4"/>
                      <a:pt x="12322" y="5"/>
                    </a:cubicBezTo>
                    <a:cubicBezTo>
                      <a:pt x="12322" y="6"/>
                      <a:pt x="12321" y="7"/>
                      <a:pt x="12320" y="7"/>
                    </a:cubicBezTo>
                    <a:lnTo>
                      <a:pt x="12320" y="7"/>
                    </a:lnTo>
                    <a:cubicBezTo>
                      <a:pt x="12319" y="7"/>
                      <a:pt x="12318" y="6"/>
                      <a:pt x="12318" y="5"/>
                    </a:cubicBezTo>
                    <a:cubicBezTo>
                      <a:pt x="12318" y="4"/>
                      <a:pt x="12319" y="3"/>
                      <a:pt x="12320" y="3"/>
                    </a:cubicBezTo>
                    <a:close/>
                    <a:moveTo>
                      <a:pt x="12328" y="3"/>
                    </a:moveTo>
                    <a:lnTo>
                      <a:pt x="12328" y="3"/>
                    </a:lnTo>
                    <a:cubicBezTo>
                      <a:pt x="12329" y="3"/>
                      <a:pt x="12330" y="4"/>
                      <a:pt x="12330" y="5"/>
                    </a:cubicBezTo>
                    <a:cubicBezTo>
                      <a:pt x="12330" y="6"/>
                      <a:pt x="12329" y="7"/>
                      <a:pt x="12328" y="7"/>
                    </a:cubicBezTo>
                    <a:lnTo>
                      <a:pt x="12328" y="7"/>
                    </a:lnTo>
                    <a:cubicBezTo>
                      <a:pt x="12327" y="7"/>
                      <a:pt x="12326" y="6"/>
                      <a:pt x="12326" y="5"/>
                    </a:cubicBezTo>
                    <a:cubicBezTo>
                      <a:pt x="12326" y="4"/>
                      <a:pt x="12327" y="3"/>
                      <a:pt x="12328" y="3"/>
                    </a:cubicBezTo>
                    <a:close/>
                    <a:moveTo>
                      <a:pt x="12336" y="3"/>
                    </a:moveTo>
                    <a:lnTo>
                      <a:pt x="12336" y="3"/>
                    </a:lnTo>
                    <a:cubicBezTo>
                      <a:pt x="12337" y="3"/>
                      <a:pt x="12338" y="4"/>
                      <a:pt x="12338" y="5"/>
                    </a:cubicBezTo>
                    <a:cubicBezTo>
                      <a:pt x="12338" y="6"/>
                      <a:pt x="12337" y="7"/>
                      <a:pt x="12336" y="7"/>
                    </a:cubicBezTo>
                    <a:lnTo>
                      <a:pt x="12336" y="7"/>
                    </a:lnTo>
                    <a:cubicBezTo>
                      <a:pt x="12335" y="7"/>
                      <a:pt x="12334" y="6"/>
                      <a:pt x="12334" y="5"/>
                    </a:cubicBezTo>
                    <a:cubicBezTo>
                      <a:pt x="12334" y="4"/>
                      <a:pt x="12335" y="3"/>
                      <a:pt x="12336" y="3"/>
                    </a:cubicBezTo>
                    <a:close/>
                    <a:moveTo>
                      <a:pt x="12344" y="3"/>
                    </a:moveTo>
                    <a:lnTo>
                      <a:pt x="12344" y="3"/>
                    </a:lnTo>
                    <a:cubicBezTo>
                      <a:pt x="12345" y="3"/>
                      <a:pt x="12346" y="4"/>
                      <a:pt x="12346" y="5"/>
                    </a:cubicBezTo>
                    <a:cubicBezTo>
                      <a:pt x="12346" y="6"/>
                      <a:pt x="12345" y="7"/>
                      <a:pt x="12344" y="7"/>
                    </a:cubicBezTo>
                    <a:lnTo>
                      <a:pt x="12344" y="7"/>
                    </a:lnTo>
                    <a:cubicBezTo>
                      <a:pt x="12343" y="7"/>
                      <a:pt x="12342" y="6"/>
                      <a:pt x="12342" y="5"/>
                    </a:cubicBezTo>
                    <a:cubicBezTo>
                      <a:pt x="12342" y="4"/>
                      <a:pt x="12343" y="3"/>
                      <a:pt x="12344" y="3"/>
                    </a:cubicBezTo>
                    <a:close/>
                    <a:moveTo>
                      <a:pt x="12352" y="3"/>
                    </a:moveTo>
                    <a:lnTo>
                      <a:pt x="12352" y="3"/>
                    </a:lnTo>
                    <a:cubicBezTo>
                      <a:pt x="12353" y="3"/>
                      <a:pt x="12354" y="4"/>
                      <a:pt x="12354" y="5"/>
                    </a:cubicBezTo>
                    <a:cubicBezTo>
                      <a:pt x="12354" y="6"/>
                      <a:pt x="12353" y="7"/>
                      <a:pt x="12352" y="7"/>
                    </a:cubicBezTo>
                    <a:lnTo>
                      <a:pt x="12352" y="7"/>
                    </a:lnTo>
                    <a:cubicBezTo>
                      <a:pt x="12351" y="7"/>
                      <a:pt x="12350" y="6"/>
                      <a:pt x="12350" y="5"/>
                    </a:cubicBezTo>
                    <a:cubicBezTo>
                      <a:pt x="12350" y="4"/>
                      <a:pt x="12351" y="3"/>
                      <a:pt x="12352" y="3"/>
                    </a:cubicBezTo>
                    <a:close/>
                    <a:moveTo>
                      <a:pt x="12360" y="3"/>
                    </a:moveTo>
                    <a:lnTo>
                      <a:pt x="12360" y="3"/>
                    </a:lnTo>
                    <a:cubicBezTo>
                      <a:pt x="12361" y="3"/>
                      <a:pt x="12362" y="4"/>
                      <a:pt x="12362" y="5"/>
                    </a:cubicBezTo>
                    <a:cubicBezTo>
                      <a:pt x="12362" y="6"/>
                      <a:pt x="12361" y="7"/>
                      <a:pt x="12360" y="7"/>
                    </a:cubicBezTo>
                    <a:lnTo>
                      <a:pt x="12360" y="7"/>
                    </a:lnTo>
                    <a:cubicBezTo>
                      <a:pt x="12359" y="7"/>
                      <a:pt x="12358" y="6"/>
                      <a:pt x="12358" y="5"/>
                    </a:cubicBezTo>
                    <a:cubicBezTo>
                      <a:pt x="12358" y="4"/>
                      <a:pt x="12359" y="3"/>
                      <a:pt x="12360" y="3"/>
                    </a:cubicBezTo>
                    <a:close/>
                    <a:moveTo>
                      <a:pt x="12368" y="3"/>
                    </a:moveTo>
                    <a:lnTo>
                      <a:pt x="12368" y="3"/>
                    </a:lnTo>
                    <a:cubicBezTo>
                      <a:pt x="12369" y="3"/>
                      <a:pt x="12370" y="4"/>
                      <a:pt x="12370" y="5"/>
                    </a:cubicBezTo>
                    <a:cubicBezTo>
                      <a:pt x="12370" y="6"/>
                      <a:pt x="12369" y="7"/>
                      <a:pt x="12368" y="7"/>
                    </a:cubicBezTo>
                    <a:lnTo>
                      <a:pt x="12368" y="7"/>
                    </a:lnTo>
                    <a:cubicBezTo>
                      <a:pt x="12367" y="7"/>
                      <a:pt x="12366" y="6"/>
                      <a:pt x="12366" y="5"/>
                    </a:cubicBezTo>
                    <a:cubicBezTo>
                      <a:pt x="12366" y="4"/>
                      <a:pt x="12367" y="3"/>
                      <a:pt x="12368" y="3"/>
                    </a:cubicBezTo>
                    <a:close/>
                    <a:moveTo>
                      <a:pt x="12376" y="3"/>
                    </a:moveTo>
                    <a:lnTo>
                      <a:pt x="12376" y="3"/>
                    </a:lnTo>
                    <a:cubicBezTo>
                      <a:pt x="12377" y="3"/>
                      <a:pt x="12378" y="4"/>
                      <a:pt x="12378" y="5"/>
                    </a:cubicBezTo>
                    <a:cubicBezTo>
                      <a:pt x="12378" y="6"/>
                      <a:pt x="12377" y="7"/>
                      <a:pt x="12376" y="7"/>
                    </a:cubicBezTo>
                    <a:lnTo>
                      <a:pt x="12376" y="7"/>
                    </a:lnTo>
                    <a:cubicBezTo>
                      <a:pt x="12375" y="7"/>
                      <a:pt x="12374" y="6"/>
                      <a:pt x="12374" y="5"/>
                    </a:cubicBezTo>
                    <a:cubicBezTo>
                      <a:pt x="12374" y="4"/>
                      <a:pt x="12375" y="3"/>
                      <a:pt x="12376" y="3"/>
                    </a:cubicBezTo>
                    <a:close/>
                    <a:moveTo>
                      <a:pt x="12384" y="3"/>
                    </a:moveTo>
                    <a:lnTo>
                      <a:pt x="12384" y="3"/>
                    </a:lnTo>
                    <a:cubicBezTo>
                      <a:pt x="12385" y="3"/>
                      <a:pt x="12386" y="4"/>
                      <a:pt x="12386" y="5"/>
                    </a:cubicBezTo>
                    <a:cubicBezTo>
                      <a:pt x="12386" y="6"/>
                      <a:pt x="12385" y="7"/>
                      <a:pt x="12384" y="7"/>
                    </a:cubicBezTo>
                    <a:lnTo>
                      <a:pt x="12384" y="7"/>
                    </a:lnTo>
                    <a:cubicBezTo>
                      <a:pt x="12383" y="7"/>
                      <a:pt x="12382" y="6"/>
                      <a:pt x="12382" y="5"/>
                    </a:cubicBezTo>
                    <a:cubicBezTo>
                      <a:pt x="12382" y="4"/>
                      <a:pt x="12383" y="3"/>
                      <a:pt x="12384" y="3"/>
                    </a:cubicBezTo>
                    <a:close/>
                    <a:moveTo>
                      <a:pt x="12392" y="3"/>
                    </a:moveTo>
                    <a:lnTo>
                      <a:pt x="12392" y="3"/>
                    </a:lnTo>
                    <a:cubicBezTo>
                      <a:pt x="12393" y="3"/>
                      <a:pt x="12394" y="4"/>
                      <a:pt x="12394" y="5"/>
                    </a:cubicBezTo>
                    <a:cubicBezTo>
                      <a:pt x="12394" y="6"/>
                      <a:pt x="12393" y="7"/>
                      <a:pt x="12392" y="7"/>
                    </a:cubicBezTo>
                    <a:lnTo>
                      <a:pt x="12392" y="7"/>
                    </a:lnTo>
                    <a:cubicBezTo>
                      <a:pt x="12391" y="7"/>
                      <a:pt x="12390" y="6"/>
                      <a:pt x="12390" y="5"/>
                    </a:cubicBezTo>
                    <a:cubicBezTo>
                      <a:pt x="12390" y="4"/>
                      <a:pt x="12391" y="3"/>
                      <a:pt x="12392" y="3"/>
                    </a:cubicBezTo>
                    <a:close/>
                    <a:moveTo>
                      <a:pt x="12400" y="3"/>
                    </a:moveTo>
                    <a:lnTo>
                      <a:pt x="12400" y="3"/>
                    </a:lnTo>
                    <a:cubicBezTo>
                      <a:pt x="12401" y="3"/>
                      <a:pt x="12402" y="4"/>
                      <a:pt x="12402" y="5"/>
                    </a:cubicBezTo>
                    <a:cubicBezTo>
                      <a:pt x="12402" y="6"/>
                      <a:pt x="12401" y="7"/>
                      <a:pt x="12400" y="7"/>
                    </a:cubicBezTo>
                    <a:lnTo>
                      <a:pt x="12400" y="7"/>
                    </a:lnTo>
                    <a:cubicBezTo>
                      <a:pt x="12399" y="7"/>
                      <a:pt x="12398" y="6"/>
                      <a:pt x="12398" y="5"/>
                    </a:cubicBezTo>
                    <a:cubicBezTo>
                      <a:pt x="12398" y="4"/>
                      <a:pt x="12399" y="3"/>
                      <a:pt x="12400" y="3"/>
                    </a:cubicBezTo>
                    <a:close/>
                    <a:moveTo>
                      <a:pt x="12408" y="3"/>
                    </a:moveTo>
                    <a:lnTo>
                      <a:pt x="12408" y="3"/>
                    </a:lnTo>
                    <a:cubicBezTo>
                      <a:pt x="12409" y="3"/>
                      <a:pt x="12410" y="4"/>
                      <a:pt x="12410" y="5"/>
                    </a:cubicBezTo>
                    <a:cubicBezTo>
                      <a:pt x="12410" y="6"/>
                      <a:pt x="12409" y="7"/>
                      <a:pt x="12408" y="7"/>
                    </a:cubicBezTo>
                    <a:lnTo>
                      <a:pt x="12408" y="7"/>
                    </a:lnTo>
                    <a:cubicBezTo>
                      <a:pt x="12407" y="7"/>
                      <a:pt x="12406" y="6"/>
                      <a:pt x="12406" y="5"/>
                    </a:cubicBezTo>
                    <a:cubicBezTo>
                      <a:pt x="12406" y="4"/>
                      <a:pt x="12407" y="3"/>
                      <a:pt x="12408" y="3"/>
                    </a:cubicBezTo>
                    <a:close/>
                    <a:moveTo>
                      <a:pt x="12416" y="3"/>
                    </a:moveTo>
                    <a:lnTo>
                      <a:pt x="12416" y="3"/>
                    </a:lnTo>
                    <a:cubicBezTo>
                      <a:pt x="12417" y="3"/>
                      <a:pt x="12418" y="4"/>
                      <a:pt x="12418" y="5"/>
                    </a:cubicBezTo>
                    <a:cubicBezTo>
                      <a:pt x="12418" y="6"/>
                      <a:pt x="12417" y="7"/>
                      <a:pt x="12416" y="7"/>
                    </a:cubicBezTo>
                    <a:lnTo>
                      <a:pt x="12416" y="7"/>
                    </a:lnTo>
                    <a:cubicBezTo>
                      <a:pt x="12415" y="7"/>
                      <a:pt x="12414" y="6"/>
                      <a:pt x="12414" y="5"/>
                    </a:cubicBezTo>
                    <a:cubicBezTo>
                      <a:pt x="12414" y="4"/>
                      <a:pt x="12415" y="3"/>
                      <a:pt x="12416" y="3"/>
                    </a:cubicBezTo>
                    <a:close/>
                    <a:moveTo>
                      <a:pt x="12424" y="3"/>
                    </a:moveTo>
                    <a:lnTo>
                      <a:pt x="12424" y="3"/>
                    </a:lnTo>
                    <a:cubicBezTo>
                      <a:pt x="12425" y="3"/>
                      <a:pt x="12426" y="4"/>
                      <a:pt x="12426" y="5"/>
                    </a:cubicBezTo>
                    <a:cubicBezTo>
                      <a:pt x="12426" y="6"/>
                      <a:pt x="12425" y="7"/>
                      <a:pt x="12424" y="7"/>
                    </a:cubicBezTo>
                    <a:lnTo>
                      <a:pt x="12424" y="7"/>
                    </a:lnTo>
                    <a:cubicBezTo>
                      <a:pt x="12423" y="7"/>
                      <a:pt x="12422" y="6"/>
                      <a:pt x="12422" y="5"/>
                    </a:cubicBezTo>
                    <a:cubicBezTo>
                      <a:pt x="12422" y="4"/>
                      <a:pt x="12423" y="3"/>
                      <a:pt x="12424" y="3"/>
                    </a:cubicBezTo>
                    <a:close/>
                    <a:moveTo>
                      <a:pt x="12432" y="3"/>
                    </a:moveTo>
                    <a:lnTo>
                      <a:pt x="12432" y="3"/>
                    </a:lnTo>
                    <a:cubicBezTo>
                      <a:pt x="12434" y="3"/>
                      <a:pt x="12434" y="4"/>
                      <a:pt x="12434" y="5"/>
                    </a:cubicBezTo>
                    <a:cubicBezTo>
                      <a:pt x="12434" y="6"/>
                      <a:pt x="12434" y="7"/>
                      <a:pt x="12432" y="7"/>
                    </a:cubicBezTo>
                    <a:lnTo>
                      <a:pt x="12432" y="7"/>
                    </a:lnTo>
                    <a:cubicBezTo>
                      <a:pt x="12431" y="7"/>
                      <a:pt x="12430" y="6"/>
                      <a:pt x="12430" y="5"/>
                    </a:cubicBezTo>
                    <a:cubicBezTo>
                      <a:pt x="12430" y="4"/>
                      <a:pt x="12431" y="3"/>
                      <a:pt x="12432" y="3"/>
                    </a:cubicBezTo>
                    <a:close/>
                    <a:moveTo>
                      <a:pt x="12440" y="3"/>
                    </a:moveTo>
                    <a:lnTo>
                      <a:pt x="12440" y="3"/>
                    </a:lnTo>
                    <a:cubicBezTo>
                      <a:pt x="12442" y="3"/>
                      <a:pt x="12442" y="4"/>
                      <a:pt x="12442" y="5"/>
                    </a:cubicBezTo>
                    <a:cubicBezTo>
                      <a:pt x="12442" y="6"/>
                      <a:pt x="12442" y="7"/>
                      <a:pt x="12440" y="7"/>
                    </a:cubicBezTo>
                    <a:lnTo>
                      <a:pt x="12440" y="7"/>
                    </a:lnTo>
                    <a:cubicBezTo>
                      <a:pt x="12439" y="7"/>
                      <a:pt x="12438" y="6"/>
                      <a:pt x="12438" y="5"/>
                    </a:cubicBezTo>
                    <a:cubicBezTo>
                      <a:pt x="12438" y="4"/>
                      <a:pt x="12439" y="3"/>
                      <a:pt x="12440" y="3"/>
                    </a:cubicBezTo>
                    <a:close/>
                    <a:moveTo>
                      <a:pt x="12448" y="3"/>
                    </a:moveTo>
                    <a:lnTo>
                      <a:pt x="12448" y="3"/>
                    </a:lnTo>
                    <a:cubicBezTo>
                      <a:pt x="12450" y="3"/>
                      <a:pt x="12450" y="4"/>
                      <a:pt x="12450" y="5"/>
                    </a:cubicBezTo>
                    <a:cubicBezTo>
                      <a:pt x="12450" y="6"/>
                      <a:pt x="12450" y="7"/>
                      <a:pt x="12448" y="7"/>
                    </a:cubicBezTo>
                    <a:lnTo>
                      <a:pt x="12448" y="7"/>
                    </a:lnTo>
                    <a:cubicBezTo>
                      <a:pt x="12447" y="7"/>
                      <a:pt x="12446" y="6"/>
                      <a:pt x="12446" y="5"/>
                    </a:cubicBezTo>
                    <a:cubicBezTo>
                      <a:pt x="12446" y="4"/>
                      <a:pt x="12447" y="3"/>
                      <a:pt x="12448" y="3"/>
                    </a:cubicBezTo>
                    <a:close/>
                    <a:moveTo>
                      <a:pt x="12456" y="3"/>
                    </a:moveTo>
                    <a:lnTo>
                      <a:pt x="12456" y="3"/>
                    </a:lnTo>
                    <a:cubicBezTo>
                      <a:pt x="12458" y="3"/>
                      <a:pt x="12458" y="4"/>
                      <a:pt x="12458" y="5"/>
                    </a:cubicBezTo>
                    <a:cubicBezTo>
                      <a:pt x="12458" y="6"/>
                      <a:pt x="12458" y="7"/>
                      <a:pt x="12456" y="7"/>
                    </a:cubicBezTo>
                    <a:lnTo>
                      <a:pt x="12456" y="7"/>
                    </a:lnTo>
                    <a:cubicBezTo>
                      <a:pt x="12455" y="7"/>
                      <a:pt x="12454" y="6"/>
                      <a:pt x="12454" y="5"/>
                    </a:cubicBezTo>
                    <a:cubicBezTo>
                      <a:pt x="12454" y="4"/>
                      <a:pt x="12455" y="3"/>
                      <a:pt x="12456" y="3"/>
                    </a:cubicBezTo>
                    <a:close/>
                    <a:moveTo>
                      <a:pt x="12464" y="3"/>
                    </a:moveTo>
                    <a:lnTo>
                      <a:pt x="12464" y="3"/>
                    </a:lnTo>
                    <a:cubicBezTo>
                      <a:pt x="12466" y="3"/>
                      <a:pt x="12466" y="4"/>
                      <a:pt x="12466" y="5"/>
                    </a:cubicBezTo>
                    <a:cubicBezTo>
                      <a:pt x="12466" y="6"/>
                      <a:pt x="12466" y="7"/>
                      <a:pt x="12464" y="7"/>
                    </a:cubicBezTo>
                    <a:lnTo>
                      <a:pt x="12464" y="7"/>
                    </a:lnTo>
                    <a:cubicBezTo>
                      <a:pt x="12463" y="7"/>
                      <a:pt x="12462" y="6"/>
                      <a:pt x="12462" y="5"/>
                    </a:cubicBezTo>
                    <a:cubicBezTo>
                      <a:pt x="12462" y="4"/>
                      <a:pt x="12463" y="3"/>
                      <a:pt x="12464" y="3"/>
                    </a:cubicBezTo>
                    <a:close/>
                    <a:moveTo>
                      <a:pt x="12472" y="3"/>
                    </a:moveTo>
                    <a:lnTo>
                      <a:pt x="12472" y="3"/>
                    </a:lnTo>
                    <a:cubicBezTo>
                      <a:pt x="12474" y="3"/>
                      <a:pt x="12474" y="4"/>
                      <a:pt x="12474" y="5"/>
                    </a:cubicBezTo>
                    <a:cubicBezTo>
                      <a:pt x="12474" y="6"/>
                      <a:pt x="12474" y="7"/>
                      <a:pt x="12472" y="7"/>
                    </a:cubicBezTo>
                    <a:lnTo>
                      <a:pt x="12472" y="7"/>
                    </a:lnTo>
                    <a:cubicBezTo>
                      <a:pt x="12471" y="7"/>
                      <a:pt x="12470" y="6"/>
                      <a:pt x="12470" y="5"/>
                    </a:cubicBezTo>
                    <a:cubicBezTo>
                      <a:pt x="12470" y="4"/>
                      <a:pt x="12471" y="3"/>
                      <a:pt x="12472" y="3"/>
                    </a:cubicBezTo>
                    <a:close/>
                    <a:moveTo>
                      <a:pt x="12480" y="3"/>
                    </a:moveTo>
                    <a:lnTo>
                      <a:pt x="12480" y="3"/>
                    </a:lnTo>
                    <a:cubicBezTo>
                      <a:pt x="12482" y="3"/>
                      <a:pt x="12482" y="4"/>
                      <a:pt x="12482" y="5"/>
                    </a:cubicBezTo>
                    <a:cubicBezTo>
                      <a:pt x="12482" y="6"/>
                      <a:pt x="12482" y="7"/>
                      <a:pt x="12480" y="7"/>
                    </a:cubicBezTo>
                    <a:lnTo>
                      <a:pt x="12480" y="7"/>
                    </a:lnTo>
                    <a:cubicBezTo>
                      <a:pt x="12479" y="7"/>
                      <a:pt x="12478" y="6"/>
                      <a:pt x="12478" y="5"/>
                    </a:cubicBezTo>
                    <a:cubicBezTo>
                      <a:pt x="12478" y="4"/>
                      <a:pt x="12479" y="3"/>
                      <a:pt x="12480" y="3"/>
                    </a:cubicBezTo>
                    <a:close/>
                    <a:moveTo>
                      <a:pt x="12488" y="3"/>
                    </a:moveTo>
                    <a:lnTo>
                      <a:pt x="12488" y="3"/>
                    </a:lnTo>
                    <a:cubicBezTo>
                      <a:pt x="12490" y="3"/>
                      <a:pt x="12490" y="4"/>
                      <a:pt x="12490" y="5"/>
                    </a:cubicBezTo>
                    <a:cubicBezTo>
                      <a:pt x="12490" y="6"/>
                      <a:pt x="12490" y="7"/>
                      <a:pt x="12488" y="7"/>
                    </a:cubicBezTo>
                    <a:lnTo>
                      <a:pt x="12488" y="7"/>
                    </a:lnTo>
                    <a:cubicBezTo>
                      <a:pt x="12487" y="7"/>
                      <a:pt x="12486" y="6"/>
                      <a:pt x="12486" y="5"/>
                    </a:cubicBezTo>
                    <a:cubicBezTo>
                      <a:pt x="12486" y="4"/>
                      <a:pt x="12487" y="3"/>
                      <a:pt x="12488" y="3"/>
                    </a:cubicBezTo>
                    <a:close/>
                    <a:moveTo>
                      <a:pt x="12496" y="3"/>
                    </a:moveTo>
                    <a:lnTo>
                      <a:pt x="12496" y="3"/>
                    </a:lnTo>
                    <a:cubicBezTo>
                      <a:pt x="12498" y="3"/>
                      <a:pt x="12498" y="4"/>
                      <a:pt x="12498" y="5"/>
                    </a:cubicBezTo>
                    <a:cubicBezTo>
                      <a:pt x="12498" y="6"/>
                      <a:pt x="12498" y="7"/>
                      <a:pt x="12496" y="7"/>
                    </a:cubicBezTo>
                    <a:lnTo>
                      <a:pt x="12496" y="7"/>
                    </a:lnTo>
                    <a:cubicBezTo>
                      <a:pt x="12495" y="7"/>
                      <a:pt x="12494" y="6"/>
                      <a:pt x="12494" y="5"/>
                    </a:cubicBezTo>
                    <a:cubicBezTo>
                      <a:pt x="12494" y="4"/>
                      <a:pt x="12495" y="3"/>
                      <a:pt x="12496" y="3"/>
                    </a:cubicBezTo>
                    <a:close/>
                    <a:moveTo>
                      <a:pt x="12504" y="3"/>
                    </a:moveTo>
                    <a:lnTo>
                      <a:pt x="12504" y="3"/>
                    </a:lnTo>
                    <a:cubicBezTo>
                      <a:pt x="12506" y="3"/>
                      <a:pt x="12506" y="4"/>
                      <a:pt x="12506" y="5"/>
                    </a:cubicBezTo>
                    <a:cubicBezTo>
                      <a:pt x="12506" y="6"/>
                      <a:pt x="12506" y="7"/>
                      <a:pt x="12504" y="7"/>
                    </a:cubicBezTo>
                    <a:lnTo>
                      <a:pt x="12504" y="7"/>
                    </a:lnTo>
                    <a:cubicBezTo>
                      <a:pt x="12503" y="7"/>
                      <a:pt x="12502" y="6"/>
                      <a:pt x="12502" y="5"/>
                    </a:cubicBezTo>
                    <a:cubicBezTo>
                      <a:pt x="12502" y="4"/>
                      <a:pt x="12503" y="3"/>
                      <a:pt x="12504" y="3"/>
                    </a:cubicBezTo>
                    <a:close/>
                    <a:moveTo>
                      <a:pt x="12512" y="3"/>
                    </a:moveTo>
                    <a:lnTo>
                      <a:pt x="12512" y="3"/>
                    </a:lnTo>
                    <a:cubicBezTo>
                      <a:pt x="12514" y="3"/>
                      <a:pt x="12514" y="4"/>
                      <a:pt x="12514" y="5"/>
                    </a:cubicBezTo>
                    <a:cubicBezTo>
                      <a:pt x="12514" y="6"/>
                      <a:pt x="12514" y="7"/>
                      <a:pt x="12512" y="7"/>
                    </a:cubicBezTo>
                    <a:lnTo>
                      <a:pt x="12512" y="7"/>
                    </a:lnTo>
                    <a:cubicBezTo>
                      <a:pt x="12511" y="7"/>
                      <a:pt x="12510" y="6"/>
                      <a:pt x="12510" y="5"/>
                    </a:cubicBezTo>
                    <a:cubicBezTo>
                      <a:pt x="12510" y="4"/>
                      <a:pt x="12511" y="3"/>
                      <a:pt x="12512" y="3"/>
                    </a:cubicBezTo>
                    <a:close/>
                    <a:moveTo>
                      <a:pt x="12520" y="3"/>
                    </a:moveTo>
                    <a:lnTo>
                      <a:pt x="12520" y="3"/>
                    </a:lnTo>
                    <a:cubicBezTo>
                      <a:pt x="12522" y="3"/>
                      <a:pt x="12522" y="4"/>
                      <a:pt x="12522" y="5"/>
                    </a:cubicBezTo>
                    <a:cubicBezTo>
                      <a:pt x="12522" y="6"/>
                      <a:pt x="12522" y="7"/>
                      <a:pt x="12520" y="7"/>
                    </a:cubicBezTo>
                    <a:lnTo>
                      <a:pt x="12520" y="7"/>
                    </a:lnTo>
                    <a:cubicBezTo>
                      <a:pt x="12519" y="7"/>
                      <a:pt x="12518" y="6"/>
                      <a:pt x="12518" y="5"/>
                    </a:cubicBezTo>
                    <a:cubicBezTo>
                      <a:pt x="12518" y="4"/>
                      <a:pt x="12519" y="3"/>
                      <a:pt x="12520" y="3"/>
                    </a:cubicBezTo>
                    <a:close/>
                    <a:moveTo>
                      <a:pt x="12528" y="3"/>
                    </a:moveTo>
                    <a:lnTo>
                      <a:pt x="12528" y="3"/>
                    </a:lnTo>
                    <a:cubicBezTo>
                      <a:pt x="12530" y="3"/>
                      <a:pt x="12530" y="4"/>
                      <a:pt x="12530" y="5"/>
                    </a:cubicBezTo>
                    <a:cubicBezTo>
                      <a:pt x="12530" y="6"/>
                      <a:pt x="12530" y="7"/>
                      <a:pt x="12528" y="7"/>
                    </a:cubicBezTo>
                    <a:lnTo>
                      <a:pt x="12528" y="7"/>
                    </a:lnTo>
                    <a:cubicBezTo>
                      <a:pt x="12527" y="7"/>
                      <a:pt x="12526" y="6"/>
                      <a:pt x="12526" y="5"/>
                    </a:cubicBezTo>
                    <a:cubicBezTo>
                      <a:pt x="12526" y="4"/>
                      <a:pt x="12527" y="3"/>
                      <a:pt x="12528" y="3"/>
                    </a:cubicBezTo>
                    <a:close/>
                    <a:moveTo>
                      <a:pt x="12536" y="3"/>
                    </a:moveTo>
                    <a:lnTo>
                      <a:pt x="12536" y="3"/>
                    </a:lnTo>
                    <a:cubicBezTo>
                      <a:pt x="12538" y="3"/>
                      <a:pt x="12538" y="4"/>
                      <a:pt x="12538" y="5"/>
                    </a:cubicBezTo>
                    <a:cubicBezTo>
                      <a:pt x="12538" y="6"/>
                      <a:pt x="12538" y="7"/>
                      <a:pt x="12536" y="7"/>
                    </a:cubicBezTo>
                    <a:lnTo>
                      <a:pt x="12536" y="7"/>
                    </a:lnTo>
                    <a:cubicBezTo>
                      <a:pt x="12535" y="7"/>
                      <a:pt x="12534" y="6"/>
                      <a:pt x="12534" y="5"/>
                    </a:cubicBezTo>
                    <a:cubicBezTo>
                      <a:pt x="12534" y="4"/>
                      <a:pt x="12535" y="3"/>
                      <a:pt x="12536" y="3"/>
                    </a:cubicBezTo>
                    <a:close/>
                    <a:moveTo>
                      <a:pt x="12544" y="3"/>
                    </a:moveTo>
                    <a:lnTo>
                      <a:pt x="12544" y="3"/>
                    </a:lnTo>
                    <a:cubicBezTo>
                      <a:pt x="12546" y="3"/>
                      <a:pt x="12546" y="4"/>
                      <a:pt x="12546" y="5"/>
                    </a:cubicBezTo>
                    <a:cubicBezTo>
                      <a:pt x="12546" y="6"/>
                      <a:pt x="12546" y="7"/>
                      <a:pt x="12544" y="7"/>
                    </a:cubicBezTo>
                    <a:lnTo>
                      <a:pt x="12544" y="7"/>
                    </a:lnTo>
                    <a:cubicBezTo>
                      <a:pt x="12543" y="7"/>
                      <a:pt x="12542" y="6"/>
                      <a:pt x="12542" y="5"/>
                    </a:cubicBezTo>
                    <a:cubicBezTo>
                      <a:pt x="12542" y="4"/>
                      <a:pt x="12543" y="3"/>
                      <a:pt x="12544" y="3"/>
                    </a:cubicBezTo>
                    <a:close/>
                    <a:moveTo>
                      <a:pt x="12552" y="3"/>
                    </a:moveTo>
                    <a:lnTo>
                      <a:pt x="12552" y="3"/>
                    </a:lnTo>
                    <a:cubicBezTo>
                      <a:pt x="12554" y="3"/>
                      <a:pt x="12554" y="4"/>
                      <a:pt x="12554" y="5"/>
                    </a:cubicBezTo>
                    <a:cubicBezTo>
                      <a:pt x="12554" y="6"/>
                      <a:pt x="12554" y="7"/>
                      <a:pt x="12552" y="7"/>
                    </a:cubicBezTo>
                    <a:lnTo>
                      <a:pt x="12552" y="7"/>
                    </a:lnTo>
                    <a:cubicBezTo>
                      <a:pt x="12551" y="7"/>
                      <a:pt x="12550" y="6"/>
                      <a:pt x="12550" y="5"/>
                    </a:cubicBezTo>
                    <a:cubicBezTo>
                      <a:pt x="12550" y="4"/>
                      <a:pt x="12551" y="3"/>
                      <a:pt x="12552" y="3"/>
                    </a:cubicBezTo>
                    <a:close/>
                    <a:moveTo>
                      <a:pt x="12560" y="3"/>
                    </a:moveTo>
                    <a:lnTo>
                      <a:pt x="12560" y="3"/>
                    </a:lnTo>
                    <a:cubicBezTo>
                      <a:pt x="12562" y="3"/>
                      <a:pt x="12562" y="4"/>
                      <a:pt x="12562" y="5"/>
                    </a:cubicBezTo>
                    <a:cubicBezTo>
                      <a:pt x="12562" y="6"/>
                      <a:pt x="12562" y="7"/>
                      <a:pt x="12560" y="7"/>
                    </a:cubicBezTo>
                    <a:lnTo>
                      <a:pt x="12560" y="7"/>
                    </a:lnTo>
                    <a:cubicBezTo>
                      <a:pt x="12559" y="7"/>
                      <a:pt x="12558" y="6"/>
                      <a:pt x="12558" y="5"/>
                    </a:cubicBezTo>
                    <a:cubicBezTo>
                      <a:pt x="12558" y="4"/>
                      <a:pt x="12559" y="3"/>
                      <a:pt x="12560" y="3"/>
                    </a:cubicBezTo>
                    <a:close/>
                    <a:moveTo>
                      <a:pt x="12568" y="3"/>
                    </a:moveTo>
                    <a:lnTo>
                      <a:pt x="12568" y="3"/>
                    </a:lnTo>
                    <a:cubicBezTo>
                      <a:pt x="12570" y="3"/>
                      <a:pt x="12570" y="4"/>
                      <a:pt x="12570" y="5"/>
                    </a:cubicBezTo>
                    <a:cubicBezTo>
                      <a:pt x="12570" y="6"/>
                      <a:pt x="12570" y="7"/>
                      <a:pt x="12568" y="7"/>
                    </a:cubicBezTo>
                    <a:lnTo>
                      <a:pt x="12568" y="7"/>
                    </a:lnTo>
                    <a:cubicBezTo>
                      <a:pt x="12567" y="7"/>
                      <a:pt x="12566" y="6"/>
                      <a:pt x="12566" y="5"/>
                    </a:cubicBezTo>
                    <a:cubicBezTo>
                      <a:pt x="12566" y="4"/>
                      <a:pt x="12567" y="3"/>
                      <a:pt x="12568" y="3"/>
                    </a:cubicBezTo>
                    <a:close/>
                    <a:moveTo>
                      <a:pt x="12576" y="3"/>
                    </a:moveTo>
                    <a:lnTo>
                      <a:pt x="12576" y="3"/>
                    </a:lnTo>
                    <a:cubicBezTo>
                      <a:pt x="12578" y="3"/>
                      <a:pt x="12578" y="4"/>
                      <a:pt x="12578" y="5"/>
                    </a:cubicBezTo>
                    <a:cubicBezTo>
                      <a:pt x="12578" y="6"/>
                      <a:pt x="12578" y="7"/>
                      <a:pt x="12576" y="7"/>
                    </a:cubicBezTo>
                    <a:lnTo>
                      <a:pt x="12576" y="7"/>
                    </a:lnTo>
                    <a:cubicBezTo>
                      <a:pt x="12575" y="7"/>
                      <a:pt x="12574" y="6"/>
                      <a:pt x="12574" y="5"/>
                    </a:cubicBezTo>
                    <a:cubicBezTo>
                      <a:pt x="12574" y="4"/>
                      <a:pt x="12575" y="3"/>
                      <a:pt x="12576" y="3"/>
                    </a:cubicBezTo>
                    <a:close/>
                    <a:moveTo>
                      <a:pt x="12584" y="3"/>
                    </a:moveTo>
                    <a:lnTo>
                      <a:pt x="12584" y="3"/>
                    </a:lnTo>
                    <a:cubicBezTo>
                      <a:pt x="12586" y="3"/>
                      <a:pt x="12586" y="4"/>
                      <a:pt x="12586" y="5"/>
                    </a:cubicBezTo>
                    <a:cubicBezTo>
                      <a:pt x="12586" y="6"/>
                      <a:pt x="12586" y="7"/>
                      <a:pt x="12584" y="7"/>
                    </a:cubicBezTo>
                    <a:lnTo>
                      <a:pt x="12584" y="7"/>
                    </a:lnTo>
                    <a:cubicBezTo>
                      <a:pt x="12583" y="7"/>
                      <a:pt x="12582" y="6"/>
                      <a:pt x="12582" y="5"/>
                    </a:cubicBezTo>
                    <a:cubicBezTo>
                      <a:pt x="12582" y="4"/>
                      <a:pt x="12583" y="3"/>
                      <a:pt x="12584" y="3"/>
                    </a:cubicBezTo>
                    <a:close/>
                    <a:moveTo>
                      <a:pt x="12592" y="3"/>
                    </a:moveTo>
                    <a:lnTo>
                      <a:pt x="12592" y="3"/>
                    </a:lnTo>
                    <a:cubicBezTo>
                      <a:pt x="12594" y="3"/>
                      <a:pt x="12594" y="4"/>
                      <a:pt x="12594" y="5"/>
                    </a:cubicBezTo>
                    <a:cubicBezTo>
                      <a:pt x="12594" y="6"/>
                      <a:pt x="12594" y="7"/>
                      <a:pt x="12592" y="7"/>
                    </a:cubicBezTo>
                    <a:lnTo>
                      <a:pt x="12592" y="7"/>
                    </a:lnTo>
                    <a:cubicBezTo>
                      <a:pt x="12591" y="7"/>
                      <a:pt x="12590" y="6"/>
                      <a:pt x="12590" y="5"/>
                    </a:cubicBezTo>
                    <a:cubicBezTo>
                      <a:pt x="12590" y="4"/>
                      <a:pt x="12591" y="3"/>
                      <a:pt x="12592" y="3"/>
                    </a:cubicBezTo>
                    <a:close/>
                    <a:moveTo>
                      <a:pt x="12600" y="3"/>
                    </a:moveTo>
                    <a:lnTo>
                      <a:pt x="12601" y="3"/>
                    </a:lnTo>
                    <a:cubicBezTo>
                      <a:pt x="12602" y="3"/>
                      <a:pt x="12603" y="4"/>
                      <a:pt x="12603" y="5"/>
                    </a:cubicBezTo>
                    <a:cubicBezTo>
                      <a:pt x="12603" y="6"/>
                      <a:pt x="12602" y="7"/>
                      <a:pt x="12601" y="7"/>
                    </a:cubicBezTo>
                    <a:lnTo>
                      <a:pt x="12600" y="7"/>
                    </a:lnTo>
                    <a:cubicBezTo>
                      <a:pt x="12599" y="7"/>
                      <a:pt x="12598" y="6"/>
                      <a:pt x="12598" y="5"/>
                    </a:cubicBezTo>
                    <a:cubicBezTo>
                      <a:pt x="12598" y="4"/>
                      <a:pt x="12599" y="3"/>
                      <a:pt x="12600" y="3"/>
                    </a:cubicBezTo>
                    <a:close/>
                    <a:moveTo>
                      <a:pt x="12609" y="3"/>
                    </a:moveTo>
                    <a:lnTo>
                      <a:pt x="12609" y="3"/>
                    </a:lnTo>
                    <a:cubicBezTo>
                      <a:pt x="12610" y="3"/>
                      <a:pt x="12611" y="4"/>
                      <a:pt x="12611" y="5"/>
                    </a:cubicBezTo>
                    <a:cubicBezTo>
                      <a:pt x="12611" y="6"/>
                      <a:pt x="12610" y="7"/>
                      <a:pt x="12609" y="7"/>
                    </a:cubicBezTo>
                    <a:lnTo>
                      <a:pt x="12609" y="7"/>
                    </a:lnTo>
                    <a:cubicBezTo>
                      <a:pt x="12607" y="7"/>
                      <a:pt x="12607" y="6"/>
                      <a:pt x="12607" y="5"/>
                    </a:cubicBezTo>
                    <a:cubicBezTo>
                      <a:pt x="12607" y="4"/>
                      <a:pt x="12607" y="3"/>
                      <a:pt x="12609" y="3"/>
                    </a:cubicBezTo>
                    <a:close/>
                    <a:moveTo>
                      <a:pt x="12617" y="3"/>
                    </a:moveTo>
                    <a:lnTo>
                      <a:pt x="12617" y="3"/>
                    </a:lnTo>
                    <a:cubicBezTo>
                      <a:pt x="12618" y="3"/>
                      <a:pt x="12619" y="4"/>
                      <a:pt x="12619" y="5"/>
                    </a:cubicBezTo>
                    <a:cubicBezTo>
                      <a:pt x="12619" y="6"/>
                      <a:pt x="12618" y="7"/>
                      <a:pt x="12617" y="7"/>
                    </a:cubicBezTo>
                    <a:lnTo>
                      <a:pt x="12617" y="7"/>
                    </a:lnTo>
                    <a:cubicBezTo>
                      <a:pt x="12615" y="7"/>
                      <a:pt x="12615" y="6"/>
                      <a:pt x="12615" y="5"/>
                    </a:cubicBezTo>
                    <a:cubicBezTo>
                      <a:pt x="12615" y="4"/>
                      <a:pt x="12615" y="3"/>
                      <a:pt x="12617" y="3"/>
                    </a:cubicBezTo>
                    <a:close/>
                    <a:moveTo>
                      <a:pt x="12625" y="3"/>
                    </a:moveTo>
                    <a:lnTo>
                      <a:pt x="12625" y="3"/>
                    </a:lnTo>
                    <a:cubicBezTo>
                      <a:pt x="12626" y="3"/>
                      <a:pt x="12627" y="4"/>
                      <a:pt x="12627" y="5"/>
                    </a:cubicBezTo>
                    <a:cubicBezTo>
                      <a:pt x="12627" y="6"/>
                      <a:pt x="12626" y="7"/>
                      <a:pt x="12625" y="7"/>
                    </a:cubicBezTo>
                    <a:lnTo>
                      <a:pt x="12625" y="7"/>
                    </a:lnTo>
                    <a:cubicBezTo>
                      <a:pt x="12623" y="7"/>
                      <a:pt x="12623" y="6"/>
                      <a:pt x="12623" y="5"/>
                    </a:cubicBezTo>
                    <a:cubicBezTo>
                      <a:pt x="12623" y="4"/>
                      <a:pt x="12623" y="3"/>
                      <a:pt x="12625" y="3"/>
                    </a:cubicBezTo>
                    <a:close/>
                    <a:moveTo>
                      <a:pt x="12633" y="3"/>
                    </a:moveTo>
                    <a:lnTo>
                      <a:pt x="12633" y="3"/>
                    </a:lnTo>
                    <a:cubicBezTo>
                      <a:pt x="12634" y="3"/>
                      <a:pt x="12635" y="4"/>
                      <a:pt x="12635" y="5"/>
                    </a:cubicBezTo>
                    <a:cubicBezTo>
                      <a:pt x="12635" y="6"/>
                      <a:pt x="12634" y="7"/>
                      <a:pt x="12633" y="7"/>
                    </a:cubicBezTo>
                    <a:lnTo>
                      <a:pt x="12633" y="7"/>
                    </a:lnTo>
                    <a:cubicBezTo>
                      <a:pt x="12631" y="7"/>
                      <a:pt x="12631" y="6"/>
                      <a:pt x="12631" y="5"/>
                    </a:cubicBezTo>
                    <a:cubicBezTo>
                      <a:pt x="12631" y="4"/>
                      <a:pt x="12631" y="3"/>
                      <a:pt x="12633" y="3"/>
                    </a:cubicBezTo>
                    <a:close/>
                    <a:moveTo>
                      <a:pt x="12641" y="3"/>
                    </a:moveTo>
                    <a:lnTo>
                      <a:pt x="12641" y="3"/>
                    </a:lnTo>
                    <a:cubicBezTo>
                      <a:pt x="12642" y="3"/>
                      <a:pt x="12643" y="4"/>
                      <a:pt x="12643" y="5"/>
                    </a:cubicBezTo>
                    <a:cubicBezTo>
                      <a:pt x="12643" y="6"/>
                      <a:pt x="12642" y="7"/>
                      <a:pt x="12641" y="7"/>
                    </a:cubicBezTo>
                    <a:lnTo>
                      <a:pt x="12641" y="7"/>
                    </a:lnTo>
                    <a:cubicBezTo>
                      <a:pt x="12639" y="7"/>
                      <a:pt x="12639" y="6"/>
                      <a:pt x="12639" y="5"/>
                    </a:cubicBezTo>
                    <a:cubicBezTo>
                      <a:pt x="12639" y="4"/>
                      <a:pt x="12639" y="3"/>
                      <a:pt x="12641" y="3"/>
                    </a:cubicBezTo>
                    <a:close/>
                    <a:moveTo>
                      <a:pt x="12649" y="3"/>
                    </a:moveTo>
                    <a:lnTo>
                      <a:pt x="12649" y="3"/>
                    </a:lnTo>
                    <a:cubicBezTo>
                      <a:pt x="12650" y="3"/>
                      <a:pt x="12651" y="4"/>
                      <a:pt x="12651" y="5"/>
                    </a:cubicBezTo>
                    <a:cubicBezTo>
                      <a:pt x="12651" y="6"/>
                      <a:pt x="12650" y="7"/>
                      <a:pt x="12649" y="7"/>
                    </a:cubicBezTo>
                    <a:lnTo>
                      <a:pt x="12649" y="7"/>
                    </a:lnTo>
                    <a:cubicBezTo>
                      <a:pt x="12647" y="7"/>
                      <a:pt x="12647" y="6"/>
                      <a:pt x="12647" y="5"/>
                    </a:cubicBezTo>
                    <a:cubicBezTo>
                      <a:pt x="12647" y="4"/>
                      <a:pt x="12647" y="3"/>
                      <a:pt x="12649" y="3"/>
                    </a:cubicBezTo>
                    <a:close/>
                    <a:moveTo>
                      <a:pt x="12657" y="3"/>
                    </a:moveTo>
                    <a:lnTo>
                      <a:pt x="12657" y="3"/>
                    </a:lnTo>
                    <a:cubicBezTo>
                      <a:pt x="12658" y="3"/>
                      <a:pt x="12659" y="4"/>
                      <a:pt x="12659" y="5"/>
                    </a:cubicBezTo>
                    <a:cubicBezTo>
                      <a:pt x="12659" y="6"/>
                      <a:pt x="12658" y="7"/>
                      <a:pt x="12657" y="7"/>
                    </a:cubicBezTo>
                    <a:lnTo>
                      <a:pt x="12657" y="7"/>
                    </a:lnTo>
                    <a:cubicBezTo>
                      <a:pt x="12655" y="7"/>
                      <a:pt x="12655" y="6"/>
                      <a:pt x="12655" y="5"/>
                    </a:cubicBezTo>
                    <a:cubicBezTo>
                      <a:pt x="12655" y="4"/>
                      <a:pt x="12655" y="3"/>
                      <a:pt x="12657" y="3"/>
                    </a:cubicBezTo>
                    <a:close/>
                    <a:moveTo>
                      <a:pt x="12665" y="3"/>
                    </a:moveTo>
                    <a:lnTo>
                      <a:pt x="12665" y="3"/>
                    </a:lnTo>
                    <a:cubicBezTo>
                      <a:pt x="12666" y="3"/>
                      <a:pt x="12667" y="4"/>
                      <a:pt x="12667" y="5"/>
                    </a:cubicBezTo>
                    <a:cubicBezTo>
                      <a:pt x="12667" y="6"/>
                      <a:pt x="12666" y="7"/>
                      <a:pt x="12665" y="7"/>
                    </a:cubicBezTo>
                    <a:lnTo>
                      <a:pt x="12665" y="7"/>
                    </a:lnTo>
                    <a:cubicBezTo>
                      <a:pt x="12663" y="7"/>
                      <a:pt x="12663" y="6"/>
                      <a:pt x="12663" y="5"/>
                    </a:cubicBezTo>
                    <a:cubicBezTo>
                      <a:pt x="12663" y="4"/>
                      <a:pt x="12663" y="3"/>
                      <a:pt x="12665" y="3"/>
                    </a:cubicBezTo>
                    <a:close/>
                    <a:moveTo>
                      <a:pt x="12673" y="3"/>
                    </a:moveTo>
                    <a:lnTo>
                      <a:pt x="12673" y="3"/>
                    </a:lnTo>
                    <a:cubicBezTo>
                      <a:pt x="12674" y="3"/>
                      <a:pt x="12675" y="4"/>
                      <a:pt x="12675" y="5"/>
                    </a:cubicBezTo>
                    <a:cubicBezTo>
                      <a:pt x="12675" y="6"/>
                      <a:pt x="12674" y="7"/>
                      <a:pt x="12673" y="7"/>
                    </a:cubicBezTo>
                    <a:lnTo>
                      <a:pt x="12673" y="7"/>
                    </a:lnTo>
                    <a:cubicBezTo>
                      <a:pt x="12671" y="7"/>
                      <a:pt x="12671" y="6"/>
                      <a:pt x="12671" y="5"/>
                    </a:cubicBezTo>
                    <a:cubicBezTo>
                      <a:pt x="12671" y="4"/>
                      <a:pt x="12671" y="3"/>
                      <a:pt x="12673" y="3"/>
                    </a:cubicBezTo>
                    <a:close/>
                    <a:moveTo>
                      <a:pt x="12681" y="3"/>
                    </a:moveTo>
                    <a:lnTo>
                      <a:pt x="12681" y="3"/>
                    </a:lnTo>
                    <a:cubicBezTo>
                      <a:pt x="12682" y="3"/>
                      <a:pt x="12683" y="4"/>
                      <a:pt x="12683" y="5"/>
                    </a:cubicBezTo>
                    <a:cubicBezTo>
                      <a:pt x="12683" y="6"/>
                      <a:pt x="12682" y="7"/>
                      <a:pt x="12681" y="7"/>
                    </a:cubicBezTo>
                    <a:lnTo>
                      <a:pt x="12681" y="7"/>
                    </a:lnTo>
                    <a:cubicBezTo>
                      <a:pt x="12679" y="7"/>
                      <a:pt x="12679" y="6"/>
                      <a:pt x="12679" y="5"/>
                    </a:cubicBezTo>
                    <a:cubicBezTo>
                      <a:pt x="12679" y="4"/>
                      <a:pt x="12679" y="3"/>
                      <a:pt x="12681" y="3"/>
                    </a:cubicBezTo>
                    <a:close/>
                    <a:moveTo>
                      <a:pt x="12689" y="3"/>
                    </a:moveTo>
                    <a:lnTo>
                      <a:pt x="12689" y="3"/>
                    </a:lnTo>
                    <a:cubicBezTo>
                      <a:pt x="12690" y="3"/>
                      <a:pt x="12691" y="4"/>
                      <a:pt x="12691" y="5"/>
                    </a:cubicBezTo>
                    <a:cubicBezTo>
                      <a:pt x="12691" y="6"/>
                      <a:pt x="12690" y="7"/>
                      <a:pt x="12689" y="7"/>
                    </a:cubicBezTo>
                    <a:lnTo>
                      <a:pt x="12689" y="7"/>
                    </a:lnTo>
                    <a:cubicBezTo>
                      <a:pt x="12687" y="7"/>
                      <a:pt x="12687" y="6"/>
                      <a:pt x="12687" y="5"/>
                    </a:cubicBezTo>
                    <a:cubicBezTo>
                      <a:pt x="12687" y="4"/>
                      <a:pt x="12687" y="3"/>
                      <a:pt x="12689" y="3"/>
                    </a:cubicBezTo>
                    <a:close/>
                    <a:moveTo>
                      <a:pt x="12697" y="3"/>
                    </a:moveTo>
                    <a:lnTo>
                      <a:pt x="12697" y="3"/>
                    </a:lnTo>
                    <a:cubicBezTo>
                      <a:pt x="12698" y="3"/>
                      <a:pt x="12699" y="4"/>
                      <a:pt x="12699" y="5"/>
                    </a:cubicBezTo>
                    <a:cubicBezTo>
                      <a:pt x="12699" y="6"/>
                      <a:pt x="12698" y="7"/>
                      <a:pt x="12697" y="7"/>
                    </a:cubicBezTo>
                    <a:lnTo>
                      <a:pt x="12697" y="7"/>
                    </a:lnTo>
                    <a:cubicBezTo>
                      <a:pt x="12695" y="7"/>
                      <a:pt x="12695" y="6"/>
                      <a:pt x="12695" y="5"/>
                    </a:cubicBezTo>
                    <a:cubicBezTo>
                      <a:pt x="12695" y="4"/>
                      <a:pt x="12695" y="3"/>
                      <a:pt x="12697" y="3"/>
                    </a:cubicBezTo>
                    <a:close/>
                    <a:moveTo>
                      <a:pt x="12705" y="3"/>
                    </a:moveTo>
                    <a:lnTo>
                      <a:pt x="12705" y="3"/>
                    </a:lnTo>
                    <a:cubicBezTo>
                      <a:pt x="12706" y="3"/>
                      <a:pt x="12707" y="4"/>
                      <a:pt x="12707" y="5"/>
                    </a:cubicBezTo>
                    <a:cubicBezTo>
                      <a:pt x="12707" y="6"/>
                      <a:pt x="12706" y="7"/>
                      <a:pt x="12705" y="7"/>
                    </a:cubicBezTo>
                    <a:lnTo>
                      <a:pt x="12705" y="7"/>
                    </a:lnTo>
                    <a:cubicBezTo>
                      <a:pt x="12703" y="7"/>
                      <a:pt x="12703" y="6"/>
                      <a:pt x="12703" y="5"/>
                    </a:cubicBezTo>
                    <a:cubicBezTo>
                      <a:pt x="12703" y="4"/>
                      <a:pt x="12703" y="3"/>
                      <a:pt x="12705" y="3"/>
                    </a:cubicBezTo>
                    <a:close/>
                    <a:moveTo>
                      <a:pt x="12713" y="3"/>
                    </a:moveTo>
                    <a:lnTo>
                      <a:pt x="12713" y="3"/>
                    </a:lnTo>
                    <a:cubicBezTo>
                      <a:pt x="12714" y="3"/>
                      <a:pt x="12715" y="4"/>
                      <a:pt x="12715" y="5"/>
                    </a:cubicBezTo>
                    <a:cubicBezTo>
                      <a:pt x="12715" y="6"/>
                      <a:pt x="12714" y="7"/>
                      <a:pt x="12713" y="7"/>
                    </a:cubicBezTo>
                    <a:lnTo>
                      <a:pt x="12713" y="7"/>
                    </a:lnTo>
                    <a:cubicBezTo>
                      <a:pt x="12711" y="7"/>
                      <a:pt x="12711" y="6"/>
                      <a:pt x="12711" y="5"/>
                    </a:cubicBezTo>
                    <a:cubicBezTo>
                      <a:pt x="12711" y="4"/>
                      <a:pt x="12711" y="3"/>
                      <a:pt x="12713" y="3"/>
                    </a:cubicBezTo>
                    <a:close/>
                    <a:moveTo>
                      <a:pt x="12721" y="3"/>
                    </a:moveTo>
                    <a:lnTo>
                      <a:pt x="12721" y="3"/>
                    </a:lnTo>
                    <a:cubicBezTo>
                      <a:pt x="12722" y="3"/>
                      <a:pt x="12723" y="4"/>
                      <a:pt x="12723" y="5"/>
                    </a:cubicBezTo>
                    <a:cubicBezTo>
                      <a:pt x="12723" y="6"/>
                      <a:pt x="12722" y="7"/>
                      <a:pt x="12721" y="7"/>
                    </a:cubicBezTo>
                    <a:lnTo>
                      <a:pt x="12721" y="7"/>
                    </a:lnTo>
                    <a:cubicBezTo>
                      <a:pt x="12719" y="7"/>
                      <a:pt x="12719" y="6"/>
                      <a:pt x="12719" y="5"/>
                    </a:cubicBezTo>
                    <a:cubicBezTo>
                      <a:pt x="12719" y="4"/>
                      <a:pt x="12719" y="3"/>
                      <a:pt x="12721" y="3"/>
                    </a:cubicBezTo>
                    <a:close/>
                    <a:moveTo>
                      <a:pt x="12729" y="3"/>
                    </a:moveTo>
                    <a:lnTo>
                      <a:pt x="12729" y="3"/>
                    </a:lnTo>
                    <a:cubicBezTo>
                      <a:pt x="12730" y="3"/>
                      <a:pt x="12731" y="4"/>
                      <a:pt x="12731" y="5"/>
                    </a:cubicBezTo>
                    <a:cubicBezTo>
                      <a:pt x="12731" y="6"/>
                      <a:pt x="12730" y="7"/>
                      <a:pt x="12729" y="7"/>
                    </a:cubicBezTo>
                    <a:lnTo>
                      <a:pt x="12729" y="7"/>
                    </a:lnTo>
                    <a:cubicBezTo>
                      <a:pt x="12727" y="7"/>
                      <a:pt x="12727" y="6"/>
                      <a:pt x="12727" y="5"/>
                    </a:cubicBezTo>
                    <a:cubicBezTo>
                      <a:pt x="12727" y="4"/>
                      <a:pt x="12727" y="3"/>
                      <a:pt x="12729" y="3"/>
                    </a:cubicBezTo>
                    <a:close/>
                    <a:moveTo>
                      <a:pt x="12737" y="3"/>
                    </a:moveTo>
                    <a:lnTo>
                      <a:pt x="12737" y="3"/>
                    </a:lnTo>
                    <a:cubicBezTo>
                      <a:pt x="12738" y="3"/>
                      <a:pt x="12739" y="4"/>
                      <a:pt x="12739" y="5"/>
                    </a:cubicBezTo>
                    <a:cubicBezTo>
                      <a:pt x="12739" y="6"/>
                      <a:pt x="12738" y="7"/>
                      <a:pt x="12737" y="7"/>
                    </a:cubicBezTo>
                    <a:lnTo>
                      <a:pt x="12737" y="7"/>
                    </a:lnTo>
                    <a:cubicBezTo>
                      <a:pt x="12735" y="7"/>
                      <a:pt x="12735" y="6"/>
                      <a:pt x="12735" y="5"/>
                    </a:cubicBezTo>
                    <a:cubicBezTo>
                      <a:pt x="12735" y="4"/>
                      <a:pt x="12735" y="3"/>
                      <a:pt x="12737" y="3"/>
                    </a:cubicBezTo>
                    <a:close/>
                    <a:moveTo>
                      <a:pt x="12745" y="3"/>
                    </a:moveTo>
                    <a:lnTo>
                      <a:pt x="12745" y="3"/>
                    </a:lnTo>
                    <a:cubicBezTo>
                      <a:pt x="12746" y="3"/>
                      <a:pt x="12747" y="4"/>
                      <a:pt x="12747" y="5"/>
                    </a:cubicBezTo>
                    <a:cubicBezTo>
                      <a:pt x="12747" y="6"/>
                      <a:pt x="12746" y="7"/>
                      <a:pt x="12745" y="7"/>
                    </a:cubicBezTo>
                    <a:lnTo>
                      <a:pt x="12745" y="7"/>
                    </a:lnTo>
                    <a:cubicBezTo>
                      <a:pt x="12743" y="7"/>
                      <a:pt x="12743" y="6"/>
                      <a:pt x="12743" y="5"/>
                    </a:cubicBezTo>
                    <a:cubicBezTo>
                      <a:pt x="12743" y="4"/>
                      <a:pt x="12743" y="3"/>
                      <a:pt x="12745" y="3"/>
                    </a:cubicBezTo>
                    <a:close/>
                    <a:moveTo>
                      <a:pt x="12753" y="3"/>
                    </a:moveTo>
                    <a:lnTo>
                      <a:pt x="12753" y="3"/>
                    </a:lnTo>
                    <a:cubicBezTo>
                      <a:pt x="12754" y="3"/>
                      <a:pt x="12755" y="4"/>
                      <a:pt x="12755" y="5"/>
                    </a:cubicBezTo>
                    <a:cubicBezTo>
                      <a:pt x="12755" y="6"/>
                      <a:pt x="12754" y="7"/>
                      <a:pt x="12753" y="7"/>
                    </a:cubicBezTo>
                    <a:lnTo>
                      <a:pt x="12753" y="7"/>
                    </a:lnTo>
                    <a:cubicBezTo>
                      <a:pt x="12751" y="7"/>
                      <a:pt x="12751" y="6"/>
                      <a:pt x="12751" y="5"/>
                    </a:cubicBezTo>
                    <a:cubicBezTo>
                      <a:pt x="12751" y="4"/>
                      <a:pt x="12751" y="3"/>
                      <a:pt x="12753" y="3"/>
                    </a:cubicBezTo>
                    <a:close/>
                    <a:moveTo>
                      <a:pt x="12761" y="3"/>
                    </a:moveTo>
                    <a:lnTo>
                      <a:pt x="12761" y="3"/>
                    </a:lnTo>
                    <a:cubicBezTo>
                      <a:pt x="12762" y="3"/>
                      <a:pt x="12763" y="4"/>
                      <a:pt x="12763" y="5"/>
                    </a:cubicBezTo>
                    <a:cubicBezTo>
                      <a:pt x="12763" y="6"/>
                      <a:pt x="12762" y="7"/>
                      <a:pt x="12761" y="7"/>
                    </a:cubicBezTo>
                    <a:lnTo>
                      <a:pt x="12761" y="7"/>
                    </a:lnTo>
                    <a:cubicBezTo>
                      <a:pt x="12759" y="7"/>
                      <a:pt x="12759" y="6"/>
                      <a:pt x="12759" y="5"/>
                    </a:cubicBezTo>
                    <a:cubicBezTo>
                      <a:pt x="12759" y="4"/>
                      <a:pt x="12759" y="3"/>
                      <a:pt x="12761" y="3"/>
                    </a:cubicBezTo>
                    <a:close/>
                    <a:moveTo>
                      <a:pt x="12769" y="3"/>
                    </a:moveTo>
                    <a:lnTo>
                      <a:pt x="12769" y="3"/>
                    </a:lnTo>
                    <a:cubicBezTo>
                      <a:pt x="12770" y="3"/>
                      <a:pt x="12771" y="4"/>
                      <a:pt x="12771" y="5"/>
                    </a:cubicBezTo>
                    <a:cubicBezTo>
                      <a:pt x="12771" y="6"/>
                      <a:pt x="12770" y="7"/>
                      <a:pt x="12769" y="7"/>
                    </a:cubicBezTo>
                    <a:lnTo>
                      <a:pt x="12769" y="7"/>
                    </a:lnTo>
                    <a:cubicBezTo>
                      <a:pt x="12767" y="7"/>
                      <a:pt x="12767" y="6"/>
                      <a:pt x="12767" y="5"/>
                    </a:cubicBezTo>
                    <a:cubicBezTo>
                      <a:pt x="12767" y="4"/>
                      <a:pt x="12767" y="3"/>
                      <a:pt x="12769" y="3"/>
                    </a:cubicBezTo>
                    <a:close/>
                    <a:moveTo>
                      <a:pt x="12777" y="3"/>
                    </a:moveTo>
                    <a:lnTo>
                      <a:pt x="12777" y="3"/>
                    </a:lnTo>
                    <a:cubicBezTo>
                      <a:pt x="12778" y="3"/>
                      <a:pt x="12779" y="4"/>
                      <a:pt x="12779" y="5"/>
                    </a:cubicBezTo>
                    <a:cubicBezTo>
                      <a:pt x="12779" y="6"/>
                      <a:pt x="12778" y="7"/>
                      <a:pt x="12777" y="7"/>
                    </a:cubicBezTo>
                    <a:lnTo>
                      <a:pt x="12777" y="7"/>
                    </a:lnTo>
                    <a:cubicBezTo>
                      <a:pt x="12776" y="7"/>
                      <a:pt x="12775" y="6"/>
                      <a:pt x="12775" y="5"/>
                    </a:cubicBezTo>
                    <a:cubicBezTo>
                      <a:pt x="12775" y="4"/>
                      <a:pt x="12776" y="3"/>
                      <a:pt x="12777" y="3"/>
                    </a:cubicBezTo>
                    <a:close/>
                    <a:moveTo>
                      <a:pt x="12785" y="3"/>
                    </a:moveTo>
                    <a:lnTo>
                      <a:pt x="12785" y="3"/>
                    </a:lnTo>
                    <a:cubicBezTo>
                      <a:pt x="12786" y="3"/>
                      <a:pt x="12787" y="4"/>
                      <a:pt x="12787" y="5"/>
                    </a:cubicBezTo>
                    <a:cubicBezTo>
                      <a:pt x="12787" y="6"/>
                      <a:pt x="12786" y="7"/>
                      <a:pt x="12785" y="7"/>
                    </a:cubicBezTo>
                    <a:lnTo>
                      <a:pt x="12785" y="7"/>
                    </a:lnTo>
                    <a:cubicBezTo>
                      <a:pt x="12784" y="7"/>
                      <a:pt x="12783" y="6"/>
                      <a:pt x="12783" y="5"/>
                    </a:cubicBezTo>
                    <a:cubicBezTo>
                      <a:pt x="12783" y="4"/>
                      <a:pt x="12784" y="3"/>
                      <a:pt x="12785" y="3"/>
                    </a:cubicBezTo>
                    <a:close/>
                    <a:moveTo>
                      <a:pt x="12793" y="3"/>
                    </a:moveTo>
                    <a:lnTo>
                      <a:pt x="12793" y="3"/>
                    </a:lnTo>
                    <a:cubicBezTo>
                      <a:pt x="12794" y="3"/>
                      <a:pt x="12795" y="4"/>
                      <a:pt x="12795" y="5"/>
                    </a:cubicBezTo>
                    <a:cubicBezTo>
                      <a:pt x="12795" y="6"/>
                      <a:pt x="12794" y="7"/>
                      <a:pt x="12793" y="7"/>
                    </a:cubicBezTo>
                    <a:lnTo>
                      <a:pt x="12793" y="7"/>
                    </a:lnTo>
                    <a:cubicBezTo>
                      <a:pt x="12792" y="7"/>
                      <a:pt x="12791" y="6"/>
                      <a:pt x="12791" y="5"/>
                    </a:cubicBezTo>
                    <a:cubicBezTo>
                      <a:pt x="12791" y="4"/>
                      <a:pt x="12792" y="3"/>
                      <a:pt x="12793" y="3"/>
                    </a:cubicBezTo>
                    <a:close/>
                    <a:moveTo>
                      <a:pt x="12801" y="3"/>
                    </a:moveTo>
                    <a:lnTo>
                      <a:pt x="12801" y="3"/>
                    </a:lnTo>
                    <a:cubicBezTo>
                      <a:pt x="12802" y="3"/>
                      <a:pt x="12803" y="4"/>
                      <a:pt x="12803" y="5"/>
                    </a:cubicBezTo>
                    <a:cubicBezTo>
                      <a:pt x="12803" y="6"/>
                      <a:pt x="12802" y="7"/>
                      <a:pt x="12801" y="7"/>
                    </a:cubicBezTo>
                    <a:lnTo>
                      <a:pt x="12801" y="7"/>
                    </a:lnTo>
                    <a:cubicBezTo>
                      <a:pt x="12800" y="7"/>
                      <a:pt x="12799" y="6"/>
                      <a:pt x="12799" y="5"/>
                    </a:cubicBezTo>
                    <a:cubicBezTo>
                      <a:pt x="12799" y="4"/>
                      <a:pt x="12800" y="3"/>
                      <a:pt x="12801" y="3"/>
                    </a:cubicBezTo>
                    <a:close/>
                    <a:moveTo>
                      <a:pt x="12809" y="3"/>
                    </a:moveTo>
                    <a:lnTo>
                      <a:pt x="12809" y="3"/>
                    </a:lnTo>
                    <a:cubicBezTo>
                      <a:pt x="12810" y="3"/>
                      <a:pt x="12811" y="4"/>
                      <a:pt x="12811" y="5"/>
                    </a:cubicBezTo>
                    <a:cubicBezTo>
                      <a:pt x="12811" y="6"/>
                      <a:pt x="12810" y="7"/>
                      <a:pt x="12809" y="7"/>
                    </a:cubicBezTo>
                    <a:lnTo>
                      <a:pt x="12809" y="7"/>
                    </a:lnTo>
                    <a:cubicBezTo>
                      <a:pt x="12808" y="7"/>
                      <a:pt x="12807" y="6"/>
                      <a:pt x="12807" y="5"/>
                    </a:cubicBezTo>
                    <a:cubicBezTo>
                      <a:pt x="12807" y="4"/>
                      <a:pt x="12808" y="3"/>
                      <a:pt x="12809" y="3"/>
                    </a:cubicBezTo>
                    <a:close/>
                    <a:moveTo>
                      <a:pt x="12817" y="3"/>
                    </a:moveTo>
                    <a:lnTo>
                      <a:pt x="12817" y="3"/>
                    </a:lnTo>
                    <a:cubicBezTo>
                      <a:pt x="12818" y="3"/>
                      <a:pt x="12819" y="4"/>
                      <a:pt x="12819" y="5"/>
                    </a:cubicBezTo>
                    <a:cubicBezTo>
                      <a:pt x="12819" y="6"/>
                      <a:pt x="12818" y="7"/>
                      <a:pt x="12817" y="7"/>
                    </a:cubicBezTo>
                    <a:lnTo>
                      <a:pt x="12817" y="7"/>
                    </a:lnTo>
                    <a:cubicBezTo>
                      <a:pt x="12816" y="7"/>
                      <a:pt x="12815" y="6"/>
                      <a:pt x="12815" y="5"/>
                    </a:cubicBezTo>
                    <a:cubicBezTo>
                      <a:pt x="12815" y="4"/>
                      <a:pt x="12816" y="3"/>
                      <a:pt x="12817" y="3"/>
                    </a:cubicBezTo>
                    <a:close/>
                    <a:moveTo>
                      <a:pt x="12825" y="3"/>
                    </a:moveTo>
                    <a:lnTo>
                      <a:pt x="12825" y="3"/>
                    </a:lnTo>
                    <a:cubicBezTo>
                      <a:pt x="12826" y="3"/>
                      <a:pt x="12827" y="4"/>
                      <a:pt x="12827" y="5"/>
                    </a:cubicBezTo>
                    <a:cubicBezTo>
                      <a:pt x="12827" y="6"/>
                      <a:pt x="12826" y="7"/>
                      <a:pt x="12825" y="7"/>
                    </a:cubicBezTo>
                    <a:lnTo>
                      <a:pt x="12825" y="7"/>
                    </a:lnTo>
                    <a:cubicBezTo>
                      <a:pt x="12824" y="7"/>
                      <a:pt x="12823" y="6"/>
                      <a:pt x="12823" y="5"/>
                    </a:cubicBezTo>
                    <a:cubicBezTo>
                      <a:pt x="12823" y="4"/>
                      <a:pt x="12824" y="3"/>
                      <a:pt x="12825" y="3"/>
                    </a:cubicBezTo>
                    <a:close/>
                    <a:moveTo>
                      <a:pt x="12833" y="3"/>
                    </a:moveTo>
                    <a:lnTo>
                      <a:pt x="12833" y="3"/>
                    </a:lnTo>
                    <a:cubicBezTo>
                      <a:pt x="12834" y="3"/>
                      <a:pt x="12835" y="4"/>
                      <a:pt x="12835" y="5"/>
                    </a:cubicBezTo>
                    <a:cubicBezTo>
                      <a:pt x="12835" y="6"/>
                      <a:pt x="12834" y="7"/>
                      <a:pt x="12833" y="7"/>
                    </a:cubicBezTo>
                    <a:lnTo>
                      <a:pt x="12833" y="7"/>
                    </a:lnTo>
                    <a:cubicBezTo>
                      <a:pt x="12832" y="7"/>
                      <a:pt x="12831" y="6"/>
                      <a:pt x="12831" y="5"/>
                    </a:cubicBezTo>
                    <a:cubicBezTo>
                      <a:pt x="12831" y="4"/>
                      <a:pt x="12832" y="3"/>
                      <a:pt x="12833" y="3"/>
                    </a:cubicBezTo>
                    <a:close/>
                    <a:moveTo>
                      <a:pt x="12841" y="3"/>
                    </a:moveTo>
                    <a:lnTo>
                      <a:pt x="12841" y="3"/>
                    </a:lnTo>
                    <a:cubicBezTo>
                      <a:pt x="12842" y="3"/>
                      <a:pt x="12843" y="4"/>
                      <a:pt x="12843" y="5"/>
                    </a:cubicBezTo>
                    <a:cubicBezTo>
                      <a:pt x="12843" y="6"/>
                      <a:pt x="12842" y="7"/>
                      <a:pt x="12841" y="7"/>
                    </a:cubicBezTo>
                    <a:lnTo>
                      <a:pt x="12841" y="7"/>
                    </a:lnTo>
                    <a:cubicBezTo>
                      <a:pt x="12840" y="7"/>
                      <a:pt x="12839" y="6"/>
                      <a:pt x="12839" y="5"/>
                    </a:cubicBezTo>
                    <a:cubicBezTo>
                      <a:pt x="12839" y="4"/>
                      <a:pt x="12840" y="3"/>
                      <a:pt x="12841" y="3"/>
                    </a:cubicBezTo>
                    <a:close/>
                    <a:moveTo>
                      <a:pt x="12849" y="3"/>
                    </a:moveTo>
                    <a:lnTo>
                      <a:pt x="12849" y="3"/>
                    </a:lnTo>
                    <a:cubicBezTo>
                      <a:pt x="12850" y="3"/>
                      <a:pt x="12851" y="4"/>
                      <a:pt x="12851" y="5"/>
                    </a:cubicBezTo>
                    <a:cubicBezTo>
                      <a:pt x="12851" y="6"/>
                      <a:pt x="12850" y="7"/>
                      <a:pt x="12849" y="7"/>
                    </a:cubicBezTo>
                    <a:lnTo>
                      <a:pt x="12849" y="7"/>
                    </a:lnTo>
                    <a:cubicBezTo>
                      <a:pt x="12848" y="7"/>
                      <a:pt x="12847" y="6"/>
                      <a:pt x="12847" y="5"/>
                    </a:cubicBezTo>
                    <a:cubicBezTo>
                      <a:pt x="12847" y="4"/>
                      <a:pt x="12848" y="3"/>
                      <a:pt x="12849" y="3"/>
                    </a:cubicBezTo>
                    <a:close/>
                    <a:moveTo>
                      <a:pt x="12857" y="3"/>
                    </a:moveTo>
                    <a:lnTo>
                      <a:pt x="12857" y="3"/>
                    </a:lnTo>
                    <a:cubicBezTo>
                      <a:pt x="12858" y="3"/>
                      <a:pt x="12859" y="4"/>
                      <a:pt x="12859" y="5"/>
                    </a:cubicBezTo>
                    <a:cubicBezTo>
                      <a:pt x="12859" y="6"/>
                      <a:pt x="12858" y="7"/>
                      <a:pt x="12857" y="7"/>
                    </a:cubicBezTo>
                    <a:lnTo>
                      <a:pt x="12857" y="7"/>
                    </a:lnTo>
                    <a:cubicBezTo>
                      <a:pt x="12856" y="7"/>
                      <a:pt x="12855" y="6"/>
                      <a:pt x="12855" y="5"/>
                    </a:cubicBezTo>
                    <a:cubicBezTo>
                      <a:pt x="12855" y="4"/>
                      <a:pt x="12856" y="3"/>
                      <a:pt x="12857" y="3"/>
                    </a:cubicBezTo>
                    <a:close/>
                    <a:moveTo>
                      <a:pt x="12865" y="3"/>
                    </a:moveTo>
                    <a:lnTo>
                      <a:pt x="12865" y="3"/>
                    </a:lnTo>
                    <a:cubicBezTo>
                      <a:pt x="12866" y="3"/>
                      <a:pt x="12867" y="4"/>
                      <a:pt x="12867" y="5"/>
                    </a:cubicBezTo>
                    <a:cubicBezTo>
                      <a:pt x="12867" y="6"/>
                      <a:pt x="12866" y="7"/>
                      <a:pt x="12865" y="7"/>
                    </a:cubicBezTo>
                    <a:lnTo>
                      <a:pt x="12865" y="7"/>
                    </a:lnTo>
                    <a:cubicBezTo>
                      <a:pt x="12864" y="7"/>
                      <a:pt x="12863" y="6"/>
                      <a:pt x="12863" y="5"/>
                    </a:cubicBezTo>
                    <a:cubicBezTo>
                      <a:pt x="12863" y="4"/>
                      <a:pt x="12864" y="3"/>
                      <a:pt x="12865" y="3"/>
                    </a:cubicBezTo>
                    <a:close/>
                    <a:moveTo>
                      <a:pt x="12873" y="3"/>
                    </a:moveTo>
                    <a:lnTo>
                      <a:pt x="12873" y="3"/>
                    </a:lnTo>
                    <a:cubicBezTo>
                      <a:pt x="12874" y="3"/>
                      <a:pt x="12875" y="4"/>
                      <a:pt x="12875" y="5"/>
                    </a:cubicBezTo>
                    <a:cubicBezTo>
                      <a:pt x="12875" y="6"/>
                      <a:pt x="12874" y="7"/>
                      <a:pt x="12873" y="7"/>
                    </a:cubicBezTo>
                    <a:lnTo>
                      <a:pt x="12873" y="7"/>
                    </a:lnTo>
                    <a:cubicBezTo>
                      <a:pt x="12872" y="7"/>
                      <a:pt x="12871" y="6"/>
                      <a:pt x="12871" y="5"/>
                    </a:cubicBezTo>
                    <a:cubicBezTo>
                      <a:pt x="12871" y="4"/>
                      <a:pt x="12872" y="3"/>
                      <a:pt x="12873" y="3"/>
                    </a:cubicBezTo>
                    <a:close/>
                    <a:moveTo>
                      <a:pt x="12881" y="3"/>
                    </a:moveTo>
                    <a:lnTo>
                      <a:pt x="12881" y="3"/>
                    </a:lnTo>
                    <a:cubicBezTo>
                      <a:pt x="12882" y="3"/>
                      <a:pt x="12883" y="4"/>
                      <a:pt x="12883" y="5"/>
                    </a:cubicBezTo>
                    <a:cubicBezTo>
                      <a:pt x="12883" y="6"/>
                      <a:pt x="12882" y="7"/>
                      <a:pt x="12881" y="7"/>
                    </a:cubicBezTo>
                    <a:lnTo>
                      <a:pt x="12881" y="7"/>
                    </a:lnTo>
                    <a:cubicBezTo>
                      <a:pt x="12880" y="7"/>
                      <a:pt x="12879" y="6"/>
                      <a:pt x="12879" y="5"/>
                    </a:cubicBezTo>
                    <a:cubicBezTo>
                      <a:pt x="12879" y="4"/>
                      <a:pt x="12880" y="3"/>
                      <a:pt x="12881" y="3"/>
                    </a:cubicBezTo>
                    <a:close/>
                    <a:moveTo>
                      <a:pt x="12889" y="3"/>
                    </a:moveTo>
                    <a:lnTo>
                      <a:pt x="12889" y="3"/>
                    </a:lnTo>
                    <a:cubicBezTo>
                      <a:pt x="12890" y="3"/>
                      <a:pt x="12891" y="4"/>
                      <a:pt x="12891" y="5"/>
                    </a:cubicBezTo>
                    <a:cubicBezTo>
                      <a:pt x="12891" y="6"/>
                      <a:pt x="12890" y="7"/>
                      <a:pt x="12889" y="7"/>
                    </a:cubicBezTo>
                    <a:lnTo>
                      <a:pt x="12889" y="7"/>
                    </a:lnTo>
                    <a:cubicBezTo>
                      <a:pt x="12888" y="7"/>
                      <a:pt x="12887" y="6"/>
                      <a:pt x="12887" y="5"/>
                    </a:cubicBezTo>
                    <a:cubicBezTo>
                      <a:pt x="12887" y="4"/>
                      <a:pt x="12888" y="3"/>
                      <a:pt x="12889" y="3"/>
                    </a:cubicBezTo>
                    <a:close/>
                    <a:moveTo>
                      <a:pt x="12897" y="3"/>
                    </a:moveTo>
                    <a:lnTo>
                      <a:pt x="12897" y="3"/>
                    </a:lnTo>
                    <a:cubicBezTo>
                      <a:pt x="12898" y="3"/>
                      <a:pt x="12899" y="4"/>
                      <a:pt x="12899" y="5"/>
                    </a:cubicBezTo>
                    <a:cubicBezTo>
                      <a:pt x="12899" y="6"/>
                      <a:pt x="12898" y="7"/>
                      <a:pt x="12897" y="7"/>
                    </a:cubicBezTo>
                    <a:lnTo>
                      <a:pt x="12897" y="7"/>
                    </a:lnTo>
                    <a:cubicBezTo>
                      <a:pt x="12896" y="7"/>
                      <a:pt x="12895" y="6"/>
                      <a:pt x="12895" y="5"/>
                    </a:cubicBezTo>
                    <a:cubicBezTo>
                      <a:pt x="12895" y="4"/>
                      <a:pt x="12896" y="3"/>
                      <a:pt x="12897" y="3"/>
                    </a:cubicBezTo>
                    <a:close/>
                    <a:moveTo>
                      <a:pt x="12905" y="3"/>
                    </a:moveTo>
                    <a:lnTo>
                      <a:pt x="12905" y="3"/>
                    </a:lnTo>
                    <a:cubicBezTo>
                      <a:pt x="12906" y="3"/>
                      <a:pt x="12907" y="4"/>
                      <a:pt x="12907" y="5"/>
                    </a:cubicBezTo>
                    <a:cubicBezTo>
                      <a:pt x="12907" y="6"/>
                      <a:pt x="12906" y="7"/>
                      <a:pt x="12905" y="7"/>
                    </a:cubicBezTo>
                    <a:lnTo>
                      <a:pt x="12905" y="7"/>
                    </a:lnTo>
                    <a:cubicBezTo>
                      <a:pt x="12904" y="7"/>
                      <a:pt x="12903" y="6"/>
                      <a:pt x="12903" y="5"/>
                    </a:cubicBezTo>
                    <a:cubicBezTo>
                      <a:pt x="12903" y="4"/>
                      <a:pt x="12904" y="3"/>
                      <a:pt x="12905" y="3"/>
                    </a:cubicBezTo>
                    <a:close/>
                    <a:moveTo>
                      <a:pt x="12913" y="3"/>
                    </a:moveTo>
                    <a:lnTo>
                      <a:pt x="12913" y="3"/>
                    </a:lnTo>
                    <a:cubicBezTo>
                      <a:pt x="12914" y="3"/>
                      <a:pt x="12915" y="4"/>
                      <a:pt x="12915" y="5"/>
                    </a:cubicBezTo>
                    <a:cubicBezTo>
                      <a:pt x="12915" y="6"/>
                      <a:pt x="12914" y="7"/>
                      <a:pt x="12913" y="7"/>
                    </a:cubicBezTo>
                    <a:lnTo>
                      <a:pt x="12913" y="7"/>
                    </a:lnTo>
                    <a:cubicBezTo>
                      <a:pt x="12912" y="7"/>
                      <a:pt x="12911" y="6"/>
                      <a:pt x="12911" y="5"/>
                    </a:cubicBezTo>
                    <a:cubicBezTo>
                      <a:pt x="12911" y="4"/>
                      <a:pt x="12912" y="3"/>
                      <a:pt x="12913" y="3"/>
                    </a:cubicBezTo>
                    <a:close/>
                    <a:moveTo>
                      <a:pt x="12921" y="3"/>
                    </a:moveTo>
                    <a:lnTo>
                      <a:pt x="12921" y="3"/>
                    </a:lnTo>
                    <a:cubicBezTo>
                      <a:pt x="12922" y="3"/>
                      <a:pt x="12923" y="4"/>
                      <a:pt x="12923" y="5"/>
                    </a:cubicBezTo>
                    <a:cubicBezTo>
                      <a:pt x="12923" y="6"/>
                      <a:pt x="12922" y="7"/>
                      <a:pt x="12921" y="7"/>
                    </a:cubicBezTo>
                    <a:lnTo>
                      <a:pt x="12921" y="7"/>
                    </a:lnTo>
                    <a:cubicBezTo>
                      <a:pt x="12920" y="7"/>
                      <a:pt x="12919" y="6"/>
                      <a:pt x="12919" y="5"/>
                    </a:cubicBezTo>
                    <a:cubicBezTo>
                      <a:pt x="12919" y="4"/>
                      <a:pt x="12920" y="3"/>
                      <a:pt x="12921" y="3"/>
                    </a:cubicBezTo>
                    <a:close/>
                    <a:moveTo>
                      <a:pt x="12929" y="3"/>
                    </a:moveTo>
                    <a:lnTo>
                      <a:pt x="12929" y="3"/>
                    </a:lnTo>
                    <a:cubicBezTo>
                      <a:pt x="12930" y="3"/>
                      <a:pt x="12931" y="4"/>
                      <a:pt x="12931" y="5"/>
                    </a:cubicBezTo>
                    <a:cubicBezTo>
                      <a:pt x="12931" y="6"/>
                      <a:pt x="12930" y="7"/>
                      <a:pt x="12929" y="7"/>
                    </a:cubicBezTo>
                    <a:lnTo>
                      <a:pt x="12929" y="7"/>
                    </a:lnTo>
                    <a:cubicBezTo>
                      <a:pt x="12928" y="7"/>
                      <a:pt x="12927" y="6"/>
                      <a:pt x="12927" y="5"/>
                    </a:cubicBezTo>
                    <a:cubicBezTo>
                      <a:pt x="12927" y="4"/>
                      <a:pt x="12928" y="3"/>
                      <a:pt x="12929" y="3"/>
                    </a:cubicBezTo>
                    <a:close/>
                    <a:moveTo>
                      <a:pt x="12937" y="3"/>
                    </a:moveTo>
                    <a:lnTo>
                      <a:pt x="12937" y="3"/>
                    </a:lnTo>
                    <a:cubicBezTo>
                      <a:pt x="12938" y="3"/>
                      <a:pt x="12939" y="4"/>
                      <a:pt x="12939" y="5"/>
                    </a:cubicBezTo>
                    <a:cubicBezTo>
                      <a:pt x="12939" y="6"/>
                      <a:pt x="12938" y="7"/>
                      <a:pt x="12937" y="7"/>
                    </a:cubicBezTo>
                    <a:lnTo>
                      <a:pt x="12937" y="7"/>
                    </a:lnTo>
                    <a:cubicBezTo>
                      <a:pt x="12936" y="7"/>
                      <a:pt x="12935" y="6"/>
                      <a:pt x="12935" y="5"/>
                    </a:cubicBezTo>
                    <a:cubicBezTo>
                      <a:pt x="12935" y="4"/>
                      <a:pt x="12936" y="3"/>
                      <a:pt x="12937" y="3"/>
                    </a:cubicBezTo>
                    <a:close/>
                    <a:moveTo>
                      <a:pt x="12945" y="3"/>
                    </a:moveTo>
                    <a:lnTo>
                      <a:pt x="12945" y="3"/>
                    </a:lnTo>
                    <a:cubicBezTo>
                      <a:pt x="12946" y="3"/>
                      <a:pt x="12947" y="4"/>
                      <a:pt x="12947" y="5"/>
                    </a:cubicBezTo>
                    <a:cubicBezTo>
                      <a:pt x="12947" y="6"/>
                      <a:pt x="12946" y="7"/>
                      <a:pt x="12945" y="7"/>
                    </a:cubicBezTo>
                    <a:lnTo>
                      <a:pt x="12945" y="7"/>
                    </a:lnTo>
                    <a:cubicBezTo>
                      <a:pt x="12944" y="7"/>
                      <a:pt x="12943" y="6"/>
                      <a:pt x="12943" y="5"/>
                    </a:cubicBezTo>
                    <a:cubicBezTo>
                      <a:pt x="12943" y="4"/>
                      <a:pt x="12944" y="3"/>
                      <a:pt x="12945" y="3"/>
                    </a:cubicBezTo>
                    <a:close/>
                    <a:moveTo>
                      <a:pt x="12953" y="3"/>
                    </a:moveTo>
                    <a:lnTo>
                      <a:pt x="12953" y="3"/>
                    </a:lnTo>
                    <a:cubicBezTo>
                      <a:pt x="12954" y="3"/>
                      <a:pt x="12955" y="4"/>
                      <a:pt x="12955" y="5"/>
                    </a:cubicBezTo>
                    <a:cubicBezTo>
                      <a:pt x="12955" y="6"/>
                      <a:pt x="12954" y="7"/>
                      <a:pt x="12953" y="7"/>
                    </a:cubicBezTo>
                    <a:lnTo>
                      <a:pt x="12953" y="7"/>
                    </a:lnTo>
                    <a:cubicBezTo>
                      <a:pt x="12952" y="7"/>
                      <a:pt x="12951" y="6"/>
                      <a:pt x="12951" y="5"/>
                    </a:cubicBezTo>
                    <a:cubicBezTo>
                      <a:pt x="12951" y="4"/>
                      <a:pt x="12952" y="3"/>
                      <a:pt x="12953" y="3"/>
                    </a:cubicBezTo>
                    <a:close/>
                    <a:moveTo>
                      <a:pt x="12961" y="3"/>
                    </a:moveTo>
                    <a:lnTo>
                      <a:pt x="12961" y="3"/>
                    </a:lnTo>
                    <a:cubicBezTo>
                      <a:pt x="12962" y="3"/>
                      <a:pt x="12963" y="4"/>
                      <a:pt x="12963" y="5"/>
                    </a:cubicBezTo>
                    <a:cubicBezTo>
                      <a:pt x="12963" y="6"/>
                      <a:pt x="12962" y="7"/>
                      <a:pt x="12961" y="7"/>
                    </a:cubicBezTo>
                    <a:lnTo>
                      <a:pt x="12961" y="7"/>
                    </a:lnTo>
                    <a:cubicBezTo>
                      <a:pt x="12960" y="7"/>
                      <a:pt x="12959" y="6"/>
                      <a:pt x="12959" y="5"/>
                    </a:cubicBezTo>
                    <a:cubicBezTo>
                      <a:pt x="12959" y="4"/>
                      <a:pt x="12960" y="3"/>
                      <a:pt x="12961" y="3"/>
                    </a:cubicBezTo>
                    <a:close/>
                    <a:moveTo>
                      <a:pt x="12969" y="3"/>
                    </a:moveTo>
                    <a:lnTo>
                      <a:pt x="12969" y="3"/>
                    </a:lnTo>
                    <a:cubicBezTo>
                      <a:pt x="12970" y="3"/>
                      <a:pt x="12971" y="4"/>
                      <a:pt x="12971" y="5"/>
                    </a:cubicBezTo>
                    <a:cubicBezTo>
                      <a:pt x="12971" y="6"/>
                      <a:pt x="12970" y="7"/>
                      <a:pt x="12969" y="7"/>
                    </a:cubicBezTo>
                    <a:lnTo>
                      <a:pt x="12969" y="7"/>
                    </a:lnTo>
                    <a:cubicBezTo>
                      <a:pt x="12968" y="7"/>
                      <a:pt x="12967" y="6"/>
                      <a:pt x="12967" y="5"/>
                    </a:cubicBezTo>
                    <a:cubicBezTo>
                      <a:pt x="12967" y="4"/>
                      <a:pt x="12968" y="3"/>
                      <a:pt x="12969" y="3"/>
                    </a:cubicBezTo>
                    <a:close/>
                    <a:moveTo>
                      <a:pt x="12977" y="3"/>
                    </a:moveTo>
                    <a:lnTo>
                      <a:pt x="12977" y="3"/>
                    </a:lnTo>
                    <a:cubicBezTo>
                      <a:pt x="12978" y="3"/>
                      <a:pt x="12979" y="4"/>
                      <a:pt x="12979" y="5"/>
                    </a:cubicBezTo>
                    <a:cubicBezTo>
                      <a:pt x="12979" y="6"/>
                      <a:pt x="12978" y="7"/>
                      <a:pt x="12977" y="7"/>
                    </a:cubicBezTo>
                    <a:lnTo>
                      <a:pt x="12977" y="7"/>
                    </a:lnTo>
                    <a:cubicBezTo>
                      <a:pt x="12976" y="7"/>
                      <a:pt x="12975" y="6"/>
                      <a:pt x="12975" y="5"/>
                    </a:cubicBezTo>
                    <a:cubicBezTo>
                      <a:pt x="12975" y="4"/>
                      <a:pt x="12976" y="3"/>
                      <a:pt x="12977" y="3"/>
                    </a:cubicBezTo>
                    <a:close/>
                    <a:moveTo>
                      <a:pt x="12985" y="3"/>
                    </a:moveTo>
                    <a:lnTo>
                      <a:pt x="12985" y="3"/>
                    </a:lnTo>
                    <a:cubicBezTo>
                      <a:pt x="12986" y="3"/>
                      <a:pt x="12987" y="4"/>
                      <a:pt x="12987" y="5"/>
                    </a:cubicBezTo>
                    <a:cubicBezTo>
                      <a:pt x="12987" y="6"/>
                      <a:pt x="12986" y="7"/>
                      <a:pt x="12985" y="7"/>
                    </a:cubicBezTo>
                    <a:lnTo>
                      <a:pt x="12985" y="7"/>
                    </a:lnTo>
                    <a:cubicBezTo>
                      <a:pt x="12984" y="7"/>
                      <a:pt x="12983" y="6"/>
                      <a:pt x="12983" y="5"/>
                    </a:cubicBezTo>
                    <a:cubicBezTo>
                      <a:pt x="12983" y="4"/>
                      <a:pt x="12984" y="3"/>
                      <a:pt x="12985" y="3"/>
                    </a:cubicBezTo>
                    <a:close/>
                    <a:moveTo>
                      <a:pt x="12993" y="3"/>
                    </a:moveTo>
                    <a:lnTo>
                      <a:pt x="12993" y="3"/>
                    </a:lnTo>
                    <a:cubicBezTo>
                      <a:pt x="12994" y="3"/>
                      <a:pt x="12995" y="4"/>
                      <a:pt x="12995" y="5"/>
                    </a:cubicBezTo>
                    <a:cubicBezTo>
                      <a:pt x="12995" y="6"/>
                      <a:pt x="12994" y="7"/>
                      <a:pt x="12993" y="7"/>
                    </a:cubicBezTo>
                    <a:lnTo>
                      <a:pt x="12993" y="7"/>
                    </a:lnTo>
                    <a:cubicBezTo>
                      <a:pt x="12992" y="7"/>
                      <a:pt x="12991" y="6"/>
                      <a:pt x="12991" y="5"/>
                    </a:cubicBezTo>
                    <a:cubicBezTo>
                      <a:pt x="12991" y="4"/>
                      <a:pt x="12992" y="3"/>
                      <a:pt x="12993" y="3"/>
                    </a:cubicBezTo>
                    <a:close/>
                    <a:moveTo>
                      <a:pt x="13001" y="3"/>
                    </a:moveTo>
                    <a:lnTo>
                      <a:pt x="13001" y="3"/>
                    </a:lnTo>
                    <a:cubicBezTo>
                      <a:pt x="13002" y="3"/>
                      <a:pt x="13003" y="4"/>
                      <a:pt x="13003" y="5"/>
                    </a:cubicBezTo>
                    <a:cubicBezTo>
                      <a:pt x="13003" y="6"/>
                      <a:pt x="13002" y="7"/>
                      <a:pt x="13001" y="7"/>
                    </a:cubicBezTo>
                    <a:lnTo>
                      <a:pt x="13001" y="7"/>
                    </a:lnTo>
                    <a:cubicBezTo>
                      <a:pt x="13000" y="7"/>
                      <a:pt x="12999" y="6"/>
                      <a:pt x="12999" y="5"/>
                    </a:cubicBezTo>
                    <a:cubicBezTo>
                      <a:pt x="12999" y="4"/>
                      <a:pt x="13000" y="3"/>
                      <a:pt x="13001" y="3"/>
                    </a:cubicBezTo>
                    <a:close/>
                    <a:moveTo>
                      <a:pt x="13009" y="3"/>
                    </a:moveTo>
                    <a:lnTo>
                      <a:pt x="13009" y="3"/>
                    </a:lnTo>
                    <a:cubicBezTo>
                      <a:pt x="13010" y="3"/>
                      <a:pt x="13011" y="4"/>
                      <a:pt x="13011" y="5"/>
                    </a:cubicBezTo>
                    <a:cubicBezTo>
                      <a:pt x="13011" y="6"/>
                      <a:pt x="13010" y="7"/>
                      <a:pt x="13009" y="7"/>
                    </a:cubicBezTo>
                    <a:lnTo>
                      <a:pt x="13009" y="7"/>
                    </a:lnTo>
                    <a:cubicBezTo>
                      <a:pt x="13008" y="7"/>
                      <a:pt x="13007" y="6"/>
                      <a:pt x="13007" y="5"/>
                    </a:cubicBezTo>
                    <a:cubicBezTo>
                      <a:pt x="13007" y="4"/>
                      <a:pt x="13008" y="3"/>
                      <a:pt x="13009" y="3"/>
                    </a:cubicBezTo>
                    <a:close/>
                    <a:moveTo>
                      <a:pt x="13017" y="3"/>
                    </a:moveTo>
                    <a:lnTo>
                      <a:pt x="13017" y="3"/>
                    </a:lnTo>
                    <a:cubicBezTo>
                      <a:pt x="13018" y="3"/>
                      <a:pt x="13019" y="4"/>
                      <a:pt x="13019" y="5"/>
                    </a:cubicBezTo>
                    <a:cubicBezTo>
                      <a:pt x="13019" y="6"/>
                      <a:pt x="13018" y="7"/>
                      <a:pt x="13017" y="7"/>
                    </a:cubicBezTo>
                    <a:lnTo>
                      <a:pt x="13017" y="7"/>
                    </a:lnTo>
                    <a:cubicBezTo>
                      <a:pt x="13016" y="7"/>
                      <a:pt x="13015" y="6"/>
                      <a:pt x="13015" y="5"/>
                    </a:cubicBezTo>
                    <a:cubicBezTo>
                      <a:pt x="13015" y="4"/>
                      <a:pt x="13016" y="3"/>
                      <a:pt x="13017" y="3"/>
                    </a:cubicBezTo>
                    <a:close/>
                    <a:moveTo>
                      <a:pt x="13025" y="3"/>
                    </a:moveTo>
                    <a:lnTo>
                      <a:pt x="13025" y="3"/>
                    </a:lnTo>
                    <a:cubicBezTo>
                      <a:pt x="13026" y="3"/>
                      <a:pt x="13027" y="4"/>
                      <a:pt x="13027" y="5"/>
                    </a:cubicBezTo>
                    <a:cubicBezTo>
                      <a:pt x="13027" y="6"/>
                      <a:pt x="13026" y="7"/>
                      <a:pt x="13025" y="7"/>
                    </a:cubicBezTo>
                    <a:lnTo>
                      <a:pt x="13025" y="7"/>
                    </a:lnTo>
                    <a:cubicBezTo>
                      <a:pt x="13024" y="7"/>
                      <a:pt x="13023" y="6"/>
                      <a:pt x="13023" y="5"/>
                    </a:cubicBezTo>
                    <a:cubicBezTo>
                      <a:pt x="13023" y="4"/>
                      <a:pt x="13024" y="3"/>
                      <a:pt x="13025" y="3"/>
                    </a:cubicBezTo>
                    <a:close/>
                    <a:moveTo>
                      <a:pt x="13033" y="3"/>
                    </a:moveTo>
                    <a:lnTo>
                      <a:pt x="13033" y="3"/>
                    </a:lnTo>
                    <a:cubicBezTo>
                      <a:pt x="13034" y="3"/>
                      <a:pt x="13035" y="4"/>
                      <a:pt x="13035" y="5"/>
                    </a:cubicBezTo>
                    <a:cubicBezTo>
                      <a:pt x="13035" y="6"/>
                      <a:pt x="13034" y="7"/>
                      <a:pt x="13033" y="7"/>
                    </a:cubicBezTo>
                    <a:lnTo>
                      <a:pt x="13033" y="7"/>
                    </a:lnTo>
                    <a:cubicBezTo>
                      <a:pt x="13032" y="7"/>
                      <a:pt x="13031" y="6"/>
                      <a:pt x="13031" y="5"/>
                    </a:cubicBezTo>
                    <a:cubicBezTo>
                      <a:pt x="13031" y="4"/>
                      <a:pt x="13032" y="3"/>
                      <a:pt x="13033" y="3"/>
                    </a:cubicBezTo>
                    <a:close/>
                    <a:moveTo>
                      <a:pt x="13041" y="3"/>
                    </a:moveTo>
                    <a:lnTo>
                      <a:pt x="13041" y="3"/>
                    </a:lnTo>
                    <a:cubicBezTo>
                      <a:pt x="13042" y="3"/>
                      <a:pt x="13043" y="4"/>
                      <a:pt x="13043" y="5"/>
                    </a:cubicBezTo>
                    <a:cubicBezTo>
                      <a:pt x="13043" y="6"/>
                      <a:pt x="13042" y="7"/>
                      <a:pt x="13041" y="7"/>
                    </a:cubicBezTo>
                    <a:lnTo>
                      <a:pt x="13041" y="7"/>
                    </a:lnTo>
                    <a:cubicBezTo>
                      <a:pt x="13040" y="7"/>
                      <a:pt x="13039" y="6"/>
                      <a:pt x="13039" y="5"/>
                    </a:cubicBezTo>
                    <a:cubicBezTo>
                      <a:pt x="13039" y="4"/>
                      <a:pt x="13040" y="3"/>
                      <a:pt x="13041" y="3"/>
                    </a:cubicBezTo>
                    <a:close/>
                    <a:moveTo>
                      <a:pt x="13049" y="3"/>
                    </a:moveTo>
                    <a:lnTo>
                      <a:pt x="13049" y="3"/>
                    </a:lnTo>
                    <a:cubicBezTo>
                      <a:pt x="13050" y="3"/>
                      <a:pt x="13051" y="4"/>
                      <a:pt x="13051" y="5"/>
                    </a:cubicBezTo>
                    <a:cubicBezTo>
                      <a:pt x="13051" y="6"/>
                      <a:pt x="13050" y="7"/>
                      <a:pt x="13049" y="7"/>
                    </a:cubicBezTo>
                    <a:lnTo>
                      <a:pt x="13049" y="7"/>
                    </a:lnTo>
                    <a:cubicBezTo>
                      <a:pt x="13048" y="7"/>
                      <a:pt x="13047" y="6"/>
                      <a:pt x="13047" y="5"/>
                    </a:cubicBezTo>
                    <a:cubicBezTo>
                      <a:pt x="13047" y="4"/>
                      <a:pt x="13048" y="3"/>
                      <a:pt x="13049" y="3"/>
                    </a:cubicBezTo>
                    <a:close/>
                    <a:moveTo>
                      <a:pt x="13057" y="3"/>
                    </a:moveTo>
                    <a:lnTo>
                      <a:pt x="13057" y="3"/>
                    </a:lnTo>
                    <a:cubicBezTo>
                      <a:pt x="13058" y="3"/>
                      <a:pt x="13059" y="4"/>
                      <a:pt x="13059" y="5"/>
                    </a:cubicBezTo>
                    <a:cubicBezTo>
                      <a:pt x="13059" y="6"/>
                      <a:pt x="13058" y="7"/>
                      <a:pt x="13057" y="7"/>
                    </a:cubicBezTo>
                    <a:lnTo>
                      <a:pt x="13057" y="7"/>
                    </a:lnTo>
                    <a:cubicBezTo>
                      <a:pt x="13056" y="7"/>
                      <a:pt x="13055" y="6"/>
                      <a:pt x="13055" y="5"/>
                    </a:cubicBezTo>
                    <a:cubicBezTo>
                      <a:pt x="13055" y="4"/>
                      <a:pt x="13056" y="3"/>
                      <a:pt x="13057" y="3"/>
                    </a:cubicBezTo>
                    <a:close/>
                    <a:moveTo>
                      <a:pt x="13065" y="3"/>
                    </a:moveTo>
                    <a:lnTo>
                      <a:pt x="13065" y="3"/>
                    </a:lnTo>
                    <a:cubicBezTo>
                      <a:pt x="13066" y="3"/>
                      <a:pt x="13067" y="4"/>
                      <a:pt x="13067" y="5"/>
                    </a:cubicBezTo>
                    <a:cubicBezTo>
                      <a:pt x="13067" y="6"/>
                      <a:pt x="13066" y="7"/>
                      <a:pt x="13065" y="7"/>
                    </a:cubicBezTo>
                    <a:lnTo>
                      <a:pt x="13065" y="7"/>
                    </a:lnTo>
                    <a:cubicBezTo>
                      <a:pt x="13064" y="7"/>
                      <a:pt x="13063" y="6"/>
                      <a:pt x="13063" y="5"/>
                    </a:cubicBezTo>
                    <a:cubicBezTo>
                      <a:pt x="13063" y="4"/>
                      <a:pt x="13064" y="3"/>
                      <a:pt x="13065" y="3"/>
                    </a:cubicBezTo>
                    <a:close/>
                    <a:moveTo>
                      <a:pt x="13073" y="3"/>
                    </a:moveTo>
                    <a:lnTo>
                      <a:pt x="13073" y="3"/>
                    </a:lnTo>
                    <a:cubicBezTo>
                      <a:pt x="13074" y="3"/>
                      <a:pt x="13075" y="4"/>
                      <a:pt x="13075" y="5"/>
                    </a:cubicBezTo>
                    <a:cubicBezTo>
                      <a:pt x="13075" y="6"/>
                      <a:pt x="13074" y="7"/>
                      <a:pt x="13073" y="7"/>
                    </a:cubicBezTo>
                    <a:lnTo>
                      <a:pt x="13073" y="7"/>
                    </a:lnTo>
                    <a:cubicBezTo>
                      <a:pt x="13072" y="7"/>
                      <a:pt x="13071" y="6"/>
                      <a:pt x="13071" y="5"/>
                    </a:cubicBezTo>
                    <a:cubicBezTo>
                      <a:pt x="13071" y="4"/>
                      <a:pt x="13072" y="3"/>
                      <a:pt x="13073" y="3"/>
                    </a:cubicBezTo>
                    <a:close/>
                    <a:moveTo>
                      <a:pt x="13081" y="3"/>
                    </a:moveTo>
                    <a:lnTo>
                      <a:pt x="13081" y="3"/>
                    </a:lnTo>
                    <a:cubicBezTo>
                      <a:pt x="13082" y="3"/>
                      <a:pt x="13083" y="4"/>
                      <a:pt x="13083" y="5"/>
                    </a:cubicBezTo>
                    <a:cubicBezTo>
                      <a:pt x="13083" y="6"/>
                      <a:pt x="13082" y="7"/>
                      <a:pt x="13081" y="7"/>
                    </a:cubicBezTo>
                    <a:lnTo>
                      <a:pt x="13081" y="7"/>
                    </a:lnTo>
                    <a:cubicBezTo>
                      <a:pt x="13080" y="7"/>
                      <a:pt x="13079" y="6"/>
                      <a:pt x="13079" y="5"/>
                    </a:cubicBezTo>
                    <a:cubicBezTo>
                      <a:pt x="13079" y="4"/>
                      <a:pt x="13080" y="3"/>
                      <a:pt x="13081" y="3"/>
                    </a:cubicBezTo>
                    <a:close/>
                    <a:moveTo>
                      <a:pt x="13089" y="3"/>
                    </a:moveTo>
                    <a:lnTo>
                      <a:pt x="13089" y="3"/>
                    </a:lnTo>
                    <a:cubicBezTo>
                      <a:pt x="13090" y="3"/>
                      <a:pt x="13091" y="4"/>
                      <a:pt x="13091" y="5"/>
                    </a:cubicBezTo>
                    <a:cubicBezTo>
                      <a:pt x="13091" y="6"/>
                      <a:pt x="13090" y="7"/>
                      <a:pt x="13089" y="7"/>
                    </a:cubicBezTo>
                    <a:lnTo>
                      <a:pt x="13089" y="7"/>
                    </a:lnTo>
                    <a:cubicBezTo>
                      <a:pt x="13088" y="7"/>
                      <a:pt x="13087" y="6"/>
                      <a:pt x="13087" y="5"/>
                    </a:cubicBezTo>
                    <a:cubicBezTo>
                      <a:pt x="13087" y="4"/>
                      <a:pt x="13088" y="3"/>
                      <a:pt x="13089" y="3"/>
                    </a:cubicBezTo>
                    <a:close/>
                    <a:moveTo>
                      <a:pt x="13097" y="3"/>
                    </a:moveTo>
                    <a:lnTo>
                      <a:pt x="13097" y="3"/>
                    </a:lnTo>
                    <a:cubicBezTo>
                      <a:pt x="13098" y="3"/>
                      <a:pt x="13099" y="4"/>
                      <a:pt x="13099" y="5"/>
                    </a:cubicBezTo>
                    <a:cubicBezTo>
                      <a:pt x="13099" y="6"/>
                      <a:pt x="13098" y="7"/>
                      <a:pt x="13097" y="7"/>
                    </a:cubicBezTo>
                    <a:lnTo>
                      <a:pt x="13097" y="7"/>
                    </a:lnTo>
                    <a:cubicBezTo>
                      <a:pt x="13096" y="7"/>
                      <a:pt x="13095" y="6"/>
                      <a:pt x="13095" y="5"/>
                    </a:cubicBezTo>
                    <a:cubicBezTo>
                      <a:pt x="13095" y="4"/>
                      <a:pt x="13096" y="3"/>
                      <a:pt x="13097" y="3"/>
                    </a:cubicBezTo>
                    <a:close/>
                    <a:moveTo>
                      <a:pt x="13105" y="3"/>
                    </a:moveTo>
                    <a:lnTo>
                      <a:pt x="13105" y="3"/>
                    </a:lnTo>
                    <a:cubicBezTo>
                      <a:pt x="13106" y="3"/>
                      <a:pt x="13107" y="4"/>
                      <a:pt x="13107" y="5"/>
                    </a:cubicBezTo>
                    <a:cubicBezTo>
                      <a:pt x="13107" y="6"/>
                      <a:pt x="13106" y="7"/>
                      <a:pt x="13105" y="7"/>
                    </a:cubicBezTo>
                    <a:lnTo>
                      <a:pt x="13105" y="7"/>
                    </a:lnTo>
                    <a:cubicBezTo>
                      <a:pt x="13104" y="7"/>
                      <a:pt x="13103" y="6"/>
                      <a:pt x="13103" y="5"/>
                    </a:cubicBezTo>
                    <a:cubicBezTo>
                      <a:pt x="13103" y="4"/>
                      <a:pt x="13104" y="3"/>
                      <a:pt x="13105" y="3"/>
                    </a:cubicBezTo>
                    <a:close/>
                    <a:moveTo>
                      <a:pt x="13113" y="3"/>
                    </a:moveTo>
                    <a:lnTo>
                      <a:pt x="13113" y="3"/>
                    </a:lnTo>
                    <a:cubicBezTo>
                      <a:pt x="13114" y="3"/>
                      <a:pt x="13115" y="4"/>
                      <a:pt x="13115" y="5"/>
                    </a:cubicBezTo>
                    <a:cubicBezTo>
                      <a:pt x="13115" y="6"/>
                      <a:pt x="13114" y="7"/>
                      <a:pt x="13113" y="7"/>
                    </a:cubicBezTo>
                    <a:lnTo>
                      <a:pt x="13113" y="7"/>
                    </a:lnTo>
                    <a:cubicBezTo>
                      <a:pt x="13112" y="7"/>
                      <a:pt x="13111" y="6"/>
                      <a:pt x="13111" y="5"/>
                    </a:cubicBezTo>
                    <a:cubicBezTo>
                      <a:pt x="13111" y="4"/>
                      <a:pt x="13112" y="3"/>
                      <a:pt x="13113" y="3"/>
                    </a:cubicBezTo>
                    <a:close/>
                    <a:moveTo>
                      <a:pt x="13121" y="3"/>
                    </a:moveTo>
                    <a:lnTo>
                      <a:pt x="13121" y="3"/>
                    </a:lnTo>
                    <a:cubicBezTo>
                      <a:pt x="13122" y="3"/>
                      <a:pt x="13123" y="4"/>
                      <a:pt x="13123" y="5"/>
                    </a:cubicBezTo>
                    <a:cubicBezTo>
                      <a:pt x="13123" y="6"/>
                      <a:pt x="13122" y="7"/>
                      <a:pt x="13121" y="7"/>
                    </a:cubicBezTo>
                    <a:lnTo>
                      <a:pt x="13121" y="7"/>
                    </a:lnTo>
                    <a:cubicBezTo>
                      <a:pt x="13120" y="7"/>
                      <a:pt x="13119" y="6"/>
                      <a:pt x="13119" y="5"/>
                    </a:cubicBezTo>
                    <a:cubicBezTo>
                      <a:pt x="13119" y="4"/>
                      <a:pt x="13120" y="3"/>
                      <a:pt x="13121" y="3"/>
                    </a:cubicBezTo>
                    <a:close/>
                    <a:moveTo>
                      <a:pt x="13129" y="3"/>
                    </a:moveTo>
                    <a:lnTo>
                      <a:pt x="13129" y="3"/>
                    </a:lnTo>
                    <a:cubicBezTo>
                      <a:pt x="13130" y="3"/>
                      <a:pt x="13131" y="4"/>
                      <a:pt x="13131" y="5"/>
                    </a:cubicBezTo>
                    <a:cubicBezTo>
                      <a:pt x="13131" y="6"/>
                      <a:pt x="13130" y="7"/>
                      <a:pt x="13129" y="7"/>
                    </a:cubicBezTo>
                    <a:lnTo>
                      <a:pt x="13129" y="7"/>
                    </a:lnTo>
                    <a:cubicBezTo>
                      <a:pt x="13128" y="7"/>
                      <a:pt x="13127" y="6"/>
                      <a:pt x="13127" y="5"/>
                    </a:cubicBezTo>
                    <a:cubicBezTo>
                      <a:pt x="13127" y="4"/>
                      <a:pt x="13128" y="3"/>
                      <a:pt x="13129" y="3"/>
                    </a:cubicBezTo>
                    <a:close/>
                    <a:moveTo>
                      <a:pt x="13137" y="3"/>
                    </a:moveTo>
                    <a:lnTo>
                      <a:pt x="13137" y="3"/>
                    </a:lnTo>
                    <a:cubicBezTo>
                      <a:pt x="13138" y="3"/>
                      <a:pt x="13139" y="4"/>
                      <a:pt x="13139" y="5"/>
                    </a:cubicBezTo>
                    <a:cubicBezTo>
                      <a:pt x="13139" y="6"/>
                      <a:pt x="13138" y="7"/>
                      <a:pt x="13137" y="7"/>
                    </a:cubicBezTo>
                    <a:lnTo>
                      <a:pt x="13137" y="7"/>
                    </a:lnTo>
                    <a:cubicBezTo>
                      <a:pt x="13136" y="7"/>
                      <a:pt x="13135" y="6"/>
                      <a:pt x="13135" y="5"/>
                    </a:cubicBezTo>
                    <a:cubicBezTo>
                      <a:pt x="13135" y="4"/>
                      <a:pt x="13136" y="3"/>
                      <a:pt x="13137" y="3"/>
                    </a:cubicBezTo>
                    <a:close/>
                    <a:moveTo>
                      <a:pt x="13145" y="3"/>
                    </a:moveTo>
                    <a:lnTo>
                      <a:pt x="13145" y="3"/>
                    </a:lnTo>
                    <a:cubicBezTo>
                      <a:pt x="13146" y="3"/>
                      <a:pt x="13147" y="4"/>
                      <a:pt x="13147" y="5"/>
                    </a:cubicBezTo>
                    <a:cubicBezTo>
                      <a:pt x="13147" y="6"/>
                      <a:pt x="13146" y="7"/>
                      <a:pt x="13145" y="7"/>
                    </a:cubicBezTo>
                    <a:lnTo>
                      <a:pt x="13145" y="7"/>
                    </a:lnTo>
                    <a:cubicBezTo>
                      <a:pt x="13144" y="7"/>
                      <a:pt x="13143" y="6"/>
                      <a:pt x="13143" y="5"/>
                    </a:cubicBezTo>
                    <a:cubicBezTo>
                      <a:pt x="13143" y="4"/>
                      <a:pt x="13144" y="3"/>
                      <a:pt x="13145" y="3"/>
                    </a:cubicBezTo>
                    <a:close/>
                    <a:moveTo>
                      <a:pt x="13153" y="3"/>
                    </a:moveTo>
                    <a:lnTo>
                      <a:pt x="13153" y="3"/>
                    </a:lnTo>
                    <a:cubicBezTo>
                      <a:pt x="13154" y="3"/>
                      <a:pt x="13155" y="4"/>
                      <a:pt x="13155" y="5"/>
                    </a:cubicBezTo>
                    <a:cubicBezTo>
                      <a:pt x="13155" y="6"/>
                      <a:pt x="13154" y="7"/>
                      <a:pt x="13153" y="7"/>
                    </a:cubicBezTo>
                    <a:lnTo>
                      <a:pt x="13153" y="7"/>
                    </a:lnTo>
                    <a:cubicBezTo>
                      <a:pt x="13152" y="7"/>
                      <a:pt x="13151" y="6"/>
                      <a:pt x="13151" y="5"/>
                    </a:cubicBezTo>
                    <a:cubicBezTo>
                      <a:pt x="13151" y="4"/>
                      <a:pt x="13152" y="3"/>
                      <a:pt x="13153" y="3"/>
                    </a:cubicBezTo>
                    <a:close/>
                    <a:moveTo>
                      <a:pt x="13161" y="3"/>
                    </a:moveTo>
                    <a:lnTo>
                      <a:pt x="13161" y="3"/>
                    </a:lnTo>
                    <a:cubicBezTo>
                      <a:pt x="13162" y="3"/>
                      <a:pt x="13163" y="4"/>
                      <a:pt x="13163" y="5"/>
                    </a:cubicBezTo>
                    <a:cubicBezTo>
                      <a:pt x="13163" y="6"/>
                      <a:pt x="13162" y="7"/>
                      <a:pt x="13161" y="7"/>
                    </a:cubicBezTo>
                    <a:lnTo>
                      <a:pt x="13161" y="7"/>
                    </a:lnTo>
                    <a:cubicBezTo>
                      <a:pt x="13160" y="7"/>
                      <a:pt x="13159" y="6"/>
                      <a:pt x="13159" y="5"/>
                    </a:cubicBezTo>
                    <a:cubicBezTo>
                      <a:pt x="13159" y="4"/>
                      <a:pt x="13160" y="3"/>
                      <a:pt x="13161" y="3"/>
                    </a:cubicBezTo>
                    <a:close/>
                    <a:moveTo>
                      <a:pt x="13169" y="3"/>
                    </a:moveTo>
                    <a:lnTo>
                      <a:pt x="13169" y="3"/>
                    </a:lnTo>
                    <a:cubicBezTo>
                      <a:pt x="13170" y="3"/>
                      <a:pt x="13171" y="4"/>
                      <a:pt x="13171" y="5"/>
                    </a:cubicBezTo>
                    <a:cubicBezTo>
                      <a:pt x="13171" y="6"/>
                      <a:pt x="13170" y="7"/>
                      <a:pt x="13169" y="7"/>
                    </a:cubicBezTo>
                    <a:lnTo>
                      <a:pt x="13169" y="7"/>
                    </a:lnTo>
                    <a:cubicBezTo>
                      <a:pt x="13168" y="7"/>
                      <a:pt x="13167" y="6"/>
                      <a:pt x="13167" y="5"/>
                    </a:cubicBezTo>
                    <a:cubicBezTo>
                      <a:pt x="13167" y="4"/>
                      <a:pt x="13168" y="3"/>
                      <a:pt x="13169" y="3"/>
                    </a:cubicBezTo>
                    <a:close/>
                    <a:moveTo>
                      <a:pt x="13177" y="3"/>
                    </a:moveTo>
                    <a:lnTo>
                      <a:pt x="13177" y="3"/>
                    </a:lnTo>
                    <a:cubicBezTo>
                      <a:pt x="13178" y="3"/>
                      <a:pt x="13179" y="4"/>
                      <a:pt x="13179" y="5"/>
                    </a:cubicBezTo>
                    <a:cubicBezTo>
                      <a:pt x="13179" y="6"/>
                      <a:pt x="13178" y="7"/>
                      <a:pt x="13177" y="7"/>
                    </a:cubicBezTo>
                    <a:lnTo>
                      <a:pt x="13177" y="7"/>
                    </a:lnTo>
                    <a:cubicBezTo>
                      <a:pt x="13176" y="7"/>
                      <a:pt x="13175" y="6"/>
                      <a:pt x="13175" y="5"/>
                    </a:cubicBezTo>
                    <a:cubicBezTo>
                      <a:pt x="13175" y="4"/>
                      <a:pt x="13176" y="3"/>
                      <a:pt x="13177" y="3"/>
                    </a:cubicBezTo>
                    <a:close/>
                    <a:moveTo>
                      <a:pt x="13185" y="3"/>
                    </a:moveTo>
                    <a:lnTo>
                      <a:pt x="13185" y="3"/>
                    </a:lnTo>
                    <a:cubicBezTo>
                      <a:pt x="13186" y="3"/>
                      <a:pt x="13187" y="4"/>
                      <a:pt x="13187" y="5"/>
                    </a:cubicBezTo>
                    <a:cubicBezTo>
                      <a:pt x="13187" y="6"/>
                      <a:pt x="13186" y="7"/>
                      <a:pt x="13185" y="7"/>
                    </a:cubicBezTo>
                    <a:lnTo>
                      <a:pt x="13185" y="7"/>
                    </a:lnTo>
                    <a:cubicBezTo>
                      <a:pt x="13184" y="7"/>
                      <a:pt x="13183" y="6"/>
                      <a:pt x="13183" y="5"/>
                    </a:cubicBezTo>
                    <a:cubicBezTo>
                      <a:pt x="13183" y="4"/>
                      <a:pt x="13184" y="3"/>
                      <a:pt x="13185" y="3"/>
                    </a:cubicBezTo>
                    <a:close/>
                    <a:moveTo>
                      <a:pt x="13193" y="3"/>
                    </a:moveTo>
                    <a:lnTo>
                      <a:pt x="13193" y="3"/>
                    </a:lnTo>
                    <a:cubicBezTo>
                      <a:pt x="13194" y="3"/>
                      <a:pt x="13195" y="4"/>
                      <a:pt x="13195" y="5"/>
                    </a:cubicBezTo>
                    <a:cubicBezTo>
                      <a:pt x="13195" y="6"/>
                      <a:pt x="13194" y="7"/>
                      <a:pt x="13193" y="7"/>
                    </a:cubicBezTo>
                    <a:lnTo>
                      <a:pt x="13193" y="7"/>
                    </a:lnTo>
                    <a:cubicBezTo>
                      <a:pt x="13192" y="7"/>
                      <a:pt x="13191" y="6"/>
                      <a:pt x="13191" y="5"/>
                    </a:cubicBezTo>
                    <a:cubicBezTo>
                      <a:pt x="13191" y="4"/>
                      <a:pt x="13192" y="3"/>
                      <a:pt x="13193" y="3"/>
                    </a:cubicBezTo>
                    <a:close/>
                    <a:moveTo>
                      <a:pt x="13201" y="3"/>
                    </a:moveTo>
                    <a:lnTo>
                      <a:pt x="13201" y="3"/>
                    </a:lnTo>
                    <a:cubicBezTo>
                      <a:pt x="13202" y="3"/>
                      <a:pt x="13203" y="4"/>
                      <a:pt x="13203" y="5"/>
                    </a:cubicBezTo>
                    <a:cubicBezTo>
                      <a:pt x="13203" y="6"/>
                      <a:pt x="13202" y="7"/>
                      <a:pt x="13201" y="7"/>
                    </a:cubicBezTo>
                    <a:lnTo>
                      <a:pt x="13201" y="7"/>
                    </a:lnTo>
                    <a:cubicBezTo>
                      <a:pt x="13200" y="7"/>
                      <a:pt x="13199" y="6"/>
                      <a:pt x="13199" y="5"/>
                    </a:cubicBezTo>
                    <a:cubicBezTo>
                      <a:pt x="13199" y="4"/>
                      <a:pt x="13200" y="3"/>
                      <a:pt x="13201" y="3"/>
                    </a:cubicBezTo>
                    <a:close/>
                    <a:moveTo>
                      <a:pt x="13209" y="3"/>
                    </a:moveTo>
                    <a:lnTo>
                      <a:pt x="13209" y="3"/>
                    </a:lnTo>
                    <a:cubicBezTo>
                      <a:pt x="13210" y="3"/>
                      <a:pt x="13211" y="4"/>
                      <a:pt x="13211" y="5"/>
                    </a:cubicBezTo>
                    <a:cubicBezTo>
                      <a:pt x="13211" y="6"/>
                      <a:pt x="13210" y="7"/>
                      <a:pt x="13209" y="7"/>
                    </a:cubicBezTo>
                    <a:lnTo>
                      <a:pt x="13209" y="7"/>
                    </a:lnTo>
                    <a:cubicBezTo>
                      <a:pt x="13208" y="7"/>
                      <a:pt x="13207" y="6"/>
                      <a:pt x="13207" y="5"/>
                    </a:cubicBezTo>
                    <a:cubicBezTo>
                      <a:pt x="13207" y="4"/>
                      <a:pt x="13208" y="3"/>
                      <a:pt x="13209" y="3"/>
                    </a:cubicBezTo>
                    <a:close/>
                    <a:moveTo>
                      <a:pt x="13217" y="3"/>
                    </a:moveTo>
                    <a:lnTo>
                      <a:pt x="13217" y="3"/>
                    </a:lnTo>
                    <a:cubicBezTo>
                      <a:pt x="13218" y="3"/>
                      <a:pt x="13219" y="4"/>
                      <a:pt x="13219" y="5"/>
                    </a:cubicBezTo>
                    <a:cubicBezTo>
                      <a:pt x="13219" y="6"/>
                      <a:pt x="13218" y="7"/>
                      <a:pt x="13217" y="7"/>
                    </a:cubicBezTo>
                    <a:lnTo>
                      <a:pt x="13217" y="7"/>
                    </a:lnTo>
                    <a:cubicBezTo>
                      <a:pt x="13216" y="7"/>
                      <a:pt x="13215" y="6"/>
                      <a:pt x="13215" y="5"/>
                    </a:cubicBezTo>
                    <a:cubicBezTo>
                      <a:pt x="13215" y="4"/>
                      <a:pt x="13216" y="3"/>
                      <a:pt x="13217" y="3"/>
                    </a:cubicBezTo>
                    <a:close/>
                    <a:moveTo>
                      <a:pt x="13225" y="3"/>
                    </a:moveTo>
                    <a:lnTo>
                      <a:pt x="13225" y="3"/>
                    </a:lnTo>
                    <a:cubicBezTo>
                      <a:pt x="13226" y="3"/>
                      <a:pt x="13227" y="4"/>
                      <a:pt x="13227" y="5"/>
                    </a:cubicBezTo>
                    <a:cubicBezTo>
                      <a:pt x="13227" y="6"/>
                      <a:pt x="13226" y="7"/>
                      <a:pt x="13225" y="7"/>
                    </a:cubicBezTo>
                    <a:lnTo>
                      <a:pt x="13225" y="7"/>
                    </a:lnTo>
                    <a:cubicBezTo>
                      <a:pt x="13224" y="7"/>
                      <a:pt x="13223" y="6"/>
                      <a:pt x="13223" y="5"/>
                    </a:cubicBezTo>
                    <a:cubicBezTo>
                      <a:pt x="13223" y="4"/>
                      <a:pt x="13224" y="3"/>
                      <a:pt x="13225" y="3"/>
                    </a:cubicBezTo>
                    <a:close/>
                    <a:moveTo>
                      <a:pt x="13233" y="3"/>
                    </a:moveTo>
                    <a:lnTo>
                      <a:pt x="13233" y="3"/>
                    </a:lnTo>
                    <a:cubicBezTo>
                      <a:pt x="13234" y="3"/>
                      <a:pt x="13235" y="4"/>
                      <a:pt x="13235" y="5"/>
                    </a:cubicBezTo>
                    <a:cubicBezTo>
                      <a:pt x="13235" y="6"/>
                      <a:pt x="13234" y="7"/>
                      <a:pt x="13233" y="7"/>
                    </a:cubicBezTo>
                    <a:lnTo>
                      <a:pt x="13233" y="7"/>
                    </a:lnTo>
                    <a:cubicBezTo>
                      <a:pt x="13232" y="7"/>
                      <a:pt x="13231" y="6"/>
                      <a:pt x="13231" y="5"/>
                    </a:cubicBezTo>
                    <a:cubicBezTo>
                      <a:pt x="13231" y="4"/>
                      <a:pt x="13232" y="3"/>
                      <a:pt x="13233" y="3"/>
                    </a:cubicBezTo>
                    <a:close/>
                    <a:moveTo>
                      <a:pt x="13241" y="3"/>
                    </a:moveTo>
                    <a:lnTo>
                      <a:pt x="13241" y="3"/>
                    </a:lnTo>
                    <a:cubicBezTo>
                      <a:pt x="13242" y="3"/>
                      <a:pt x="13243" y="4"/>
                      <a:pt x="13243" y="5"/>
                    </a:cubicBezTo>
                    <a:cubicBezTo>
                      <a:pt x="13243" y="6"/>
                      <a:pt x="13242" y="7"/>
                      <a:pt x="13241" y="7"/>
                    </a:cubicBezTo>
                    <a:lnTo>
                      <a:pt x="13241" y="7"/>
                    </a:lnTo>
                    <a:cubicBezTo>
                      <a:pt x="13240" y="7"/>
                      <a:pt x="13239" y="6"/>
                      <a:pt x="13239" y="5"/>
                    </a:cubicBezTo>
                    <a:cubicBezTo>
                      <a:pt x="13239" y="4"/>
                      <a:pt x="13240" y="3"/>
                      <a:pt x="13241" y="3"/>
                    </a:cubicBezTo>
                    <a:close/>
                    <a:moveTo>
                      <a:pt x="13249" y="3"/>
                    </a:moveTo>
                    <a:lnTo>
                      <a:pt x="13249" y="3"/>
                    </a:lnTo>
                    <a:cubicBezTo>
                      <a:pt x="13250" y="3"/>
                      <a:pt x="13251" y="4"/>
                      <a:pt x="13251" y="5"/>
                    </a:cubicBezTo>
                    <a:cubicBezTo>
                      <a:pt x="13251" y="6"/>
                      <a:pt x="13250" y="7"/>
                      <a:pt x="13249" y="7"/>
                    </a:cubicBezTo>
                    <a:lnTo>
                      <a:pt x="13249" y="7"/>
                    </a:lnTo>
                    <a:cubicBezTo>
                      <a:pt x="13248" y="7"/>
                      <a:pt x="13247" y="6"/>
                      <a:pt x="13247" y="5"/>
                    </a:cubicBezTo>
                    <a:cubicBezTo>
                      <a:pt x="13247" y="4"/>
                      <a:pt x="13248" y="3"/>
                      <a:pt x="13249" y="3"/>
                    </a:cubicBezTo>
                    <a:close/>
                    <a:moveTo>
                      <a:pt x="13257" y="3"/>
                    </a:moveTo>
                    <a:lnTo>
                      <a:pt x="13257" y="3"/>
                    </a:lnTo>
                    <a:cubicBezTo>
                      <a:pt x="13258" y="3"/>
                      <a:pt x="13259" y="4"/>
                      <a:pt x="13259" y="5"/>
                    </a:cubicBezTo>
                    <a:cubicBezTo>
                      <a:pt x="13259" y="6"/>
                      <a:pt x="13258" y="7"/>
                      <a:pt x="13257" y="7"/>
                    </a:cubicBezTo>
                    <a:lnTo>
                      <a:pt x="13257" y="7"/>
                    </a:lnTo>
                    <a:cubicBezTo>
                      <a:pt x="13256" y="7"/>
                      <a:pt x="13255" y="6"/>
                      <a:pt x="13255" y="5"/>
                    </a:cubicBezTo>
                    <a:cubicBezTo>
                      <a:pt x="13255" y="4"/>
                      <a:pt x="13256" y="3"/>
                      <a:pt x="13257" y="3"/>
                    </a:cubicBezTo>
                    <a:close/>
                    <a:moveTo>
                      <a:pt x="13265" y="3"/>
                    </a:moveTo>
                    <a:lnTo>
                      <a:pt x="13265" y="3"/>
                    </a:lnTo>
                    <a:cubicBezTo>
                      <a:pt x="13266" y="3"/>
                      <a:pt x="13267" y="4"/>
                      <a:pt x="13267" y="5"/>
                    </a:cubicBezTo>
                    <a:cubicBezTo>
                      <a:pt x="13267" y="6"/>
                      <a:pt x="13266" y="7"/>
                      <a:pt x="13265" y="7"/>
                    </a:cubicBezTo>
                    <a:lnTo>
                      <a:pt x="13265" y="7"/>
                    </a:lnTo>
                    <a:cubicBezTo>
                      <a:pt x="13264" y="7"/>
                      <a:pt x="13263" y="6"/>
                      <a:pt x="13263" y="5"/>
                    </a:cubicBezTo>
                    <a:cubicBezTo>
                      <a:pt x="13263" y="4"/>
                      <a:pt x="13264" y="3"/>
                      <a:pt x="13265" y="3"/>
                    </a:cubicBezTo>
                    <a:close/>
                    <a:moveTo>
                      <a:pt x="13273" y="3"/>
                    </a:moveTo>
                    <a:lnTo>
                      <a:pt x="13273" y="3"/>
                    </a:lnTo>
                    <a:cubicBezTo>
                      <a:pt x="13274" y="3"/>
                      <a:pt x="13275" y="4"/>
                      <a:pt x="13275" y="5"/>
                    </a:cubicBezTo>
                    <a:cubicBezTo>
                      <a:pt x="13275" y="6"/>
                      <a:pt x="13274" y="7"/>
                      <a:pt x="13273" y="7"/>
                    </a:cubicBezTo>
                    <a:lnTo>
                      <a:pt x="13273" y="7"/>
                    </a:lnTo>
                    <a:cubicBezTo>
                      <a:pt x="13272" y="7"/>
                      <a:pt x="13271" y="6"/>
                      <a:pt x="13271" y="5"/>
                    </a:cubicBezTo>
                    <a:cubicBezTo>
                      <a:pt x="13271" y="4"/>
                      <a:pt x="13272" y="3"/>
                      <a:pt x="13273" y="3"/>
                    </a:cubicBezTo>
                    <a:close/>
                    <a:moveTo>
                      <a:pt x="13281" y="3"/>
                    </a:moveTo>
                    <a:lnTo>
                      <a:pt x="13281" y="3"/>
                    </a:lnTo>
                    <a:cubicBezTo>
                      <a:pt x="13282" y="3"/>
                      <a:pt x="13283" y="4"/>
                      <a:pt x="13283" y="5"/>
                    </a:cubicBezTo>
                    <a:cubicBezTo>
                      <a:pt x="13283" y="6"/>
                      <a:pt x="13282" y="7"/>
                      <a:pt x="13281" y="7"/>
                    </a:cubicBezTo>
                    <a:lnTo>
                      <a:pt x="13281" y="7"/>
                    </a:lnTo>
                    <a:cubicBezTo>
                      <a:pt x="13280" y="7"/>
                      <a:pt x="13279" y="6"/>
                      <a:pt x="13279" y="5"/>
                    </a:cubicBezTo>
                    <a:cubicBezTo>
                      <a:pt x="13279" y="4"/>
                      <a:pt x="13280" y="3"/>
                      <a:pt x="13281" y="3"/>
                    </a:cubicBezTo>
                    <a:close/>
                    <a:moveTo>
                      <a:pt x="13289" y="3"/>
                    </a:moveTo>
                    <a:lnTo>
                      <a:pt x="13289" y="3"/>
                    </a:lnTo>
                    <a:cubicBezTo>
                      <a:pt x="13290" y="3"/>
                      <a:pt x="13291" y="4"/>
                      <a:pt x="13291" y="5"/>
                    </a:cubicBezTo>
                    <a:cubicBezTo>
                      <a:pt x="13291" y="6"/>
                      <a:pt x="13290" y="7"/>
                      <a:pt x="13289" y="7"/>
                    </a:cubicBezTo>
                    <a:lnTo>
                      <a:pt x="13289" y="7"/>
                    </a:lnTo>
                    <a:cubicBezTo>
                      <a:pt x="13288" y="7"/>
                      <a:pt x="13287" y="6"/>
                      <a:pt x="13287" y="5"/>
                    </a:cubicBezTo>
                    <a:cubicBezTo>
                      <a:pt x="13287" y="4"/>
                      <a:pt x="13288" y="3"/>
                      <a:pt x="13289" y="3"/>
                    </a:cubicBezTo>
                    <a:close/>
                    <a:moveTo>
                      <a:pt x="13297" y="3"/>
                    </a:moveTo>
                    <a:lnTo>
                      <a:pt x="13297" y="3"/>
                    </a:lnTo>
                    <a:cubicBezTo>
                      <a:pt x="13298" y="3"/>
                      <a:pt x="13299" y="4"/>
                      <a:pt x="13299" y="5"/>
                    </a:cubicBezTo>
                    <a:cubicBezTo>
                      <a:pt x="13299" y="6"/>
                      <a:pt x="13298" y="7"/>
                      <a:pt x="13297" y="7"/>
                    </a:cubicBezTo>
                    <a:lnTo>
                      <a:pt x="13297" y="7"/>
                    </a:lnTo>
                    <a:cubicBezTo>
                      <a:pt x="13296" y="7"/>
                      <a:pt x="13295" y="6"/>
                      <a:pt x="13295" y="5"/>
                    </a:cubicBezTo>
                    <a:cubicBezTo>
                      <a:pt x="13295" y="4"/>
                      <a:pt x="13296" y="3"/>
                      <a:pt x="13297" y="3"/>
                    </a:cubicBezTo>
                    <a:close/>
                    <a:moveTo>
                      <a:pt x="13305" y="3"/>
                    </a:moveTo>
                    <a:lnTo>
                      <a:pt x="13305" y="3"/>
                    </a:lnTo>
                    <a:cubicBezTo>
                      <a:pt x="13306" y="3"/>
                      <a:pt x="13307" y="4"/>
                      <a:pt x="13307" y="5"/>
                    </a:cubicBezTo>
                    <a:cubicBezTo>
                      <a:pt x="13307" y="6"/>
                      <a:pt x="13306" y="7"/>
                      <a:pt x="13305" y="7"/>
                    </a:cubicBezTo>
                    <a:lnTo>
                      <a:pt x="13305" y="7"/>
                    </a:lnTo>
                    <a:cubicBezTo>
                      <a:pt x="13304" y="7"/>
                      <a:pt x="13303" y="6"/>
                      <a:pt x="13303" y="5"/>
                    </a:cubicBezTo>
                    <a:cubicBezTo>
                      <a:pt x="13303" y="4"/>
                      <a:pt x="13304" y="3"/>
                      <a:pt x="13305" y="3"/>
                    </a:cubicBezTo>
                    <a:close/>
                    <a:moveTo>
                      <a:pt x="13313" y="3"/>
                    </a:moveTo>
                    <a:lnTo>
                      <a:pt x="13313" y="3"/>
                    </a:lnTo>
                    <a:cubicBezTo>
                      <a:pt x="13314" y="3"/>
                      <a:pt x="13315" y="4"/>
                      <a:pt x="13315" y="5"/>
                    </a:cubicBezTo>
                    <a:cubicBezTo>
                      <a:pt x="13315" y="6"/>
                      <a:pt x="13314" y="7"/>
                      <a:pt x="13313" y="7"/>
                    </a:cubicBezTo>
                    <a:lnTo>
                      <a:pt x="13313" y="7"/>
                    </a:lnTo>
                    <a:cubicBezTo>
                      <a:pt x="13312" y="7"/>
                      <a:pt x="13311" y="6"/>
                      <a:pt x="13311" y="5"/>
                    </a:cubicBezTo>
                    <a:cubicBezTo>
                      <a:pt x="13311" y="4"/>
                      <a:pt x="13312" y="3"/>
                      <a:pt x="13313" y="3"/>
                    </a:cubicBezTo>
                    <a:close/>
                    <a:moveTo>
                      <a:pt x="13321" y="3"/>
                    </a:moveTo>
                    <a:lnTo>
                      <a:pt x="13321" y="3"/>
                    </a:lnTo>
                    <a:cubicBezTo>
                      <a:pt x="13322" y="3"/>
                      <a:pt x="13323" y="4"/>
                      <a:pt x="13323" y="5"/>
                    </a:cubicBezTo>
                    <a:cubicBezTo>
                      <a:pt x="13323" y="6"/>
                      <a:pt x="13322" y="7"/>
                      <a:pt x="13321" y="7"/>
                    </a:cubicBezTo>
                    <a:lnTo>
                      <a:pt x="13321" y="7"/>
                    </a:lnTo>
                    <a:cubicBezTo>
                      <a:pt x="13320" y="7"/>
                      <a:pt x="13319" y="6"/>
                      <a:pt x="13319" y="5"/>
                    </a:cubicBezTo>
                    <a:cubicBezTo>
                      <a:pt x="13319" y="4"/>
                      <a:pt x="13320" y="3"/>
                      <a:pt x="13321" y="3"/>
                    </a:cubicBezTo>
                    <a:close/>
                    <a:moveTo>
                      <a:pt x="13329" y="3"/>
                    </a:moveTo>
                    <a:lnTo>
                      <a:pt x="13329" y="3"/>
                    </a:lnTo>
                    <a:cubicBezTo>
                      <a:pt x="13330" y="3"/>
                      <a:pt x="13331" y="4"/>
                      <a:pt x="13331" y="5"/>
                    </a:cubicBezTo>
                    <a:cubicBezTo>
                      <a:pt x="13331" y="6"/>
                      <a:pt x="13330" y="7"/>
                      <a:pt x="13329" y="7"/>
                    </a:cubicBezTo>
                    <a:lnTo>
                      <a:pt x="13329" y="7"/>
                    </a:lnTo>
                    <a:cubicBezTo>
                      <a:pt x="13328" y="7"/>
                      <a:pt x="13327" y="6"/>
                      <a:pt x="13327" y="5"/>
                    </a:cubicBezTo>
                    <a:cubicBezTo>
                      <a:pt x="13327" y="4"/>
                      <a:pt x="13328" y="3"/>
                      <a:pt x="13329" y="3"/>
                    </a:cubicBezTo>
                    <a:close/>
                    <a:moveTo>
                      <a:pt x="13337" y="3"/>
                    </a:moveTo>
                    <a:lnTo>
                      <a:pt x="13337" y="3"/>
                    </a:lnTo>
                    <a:cubicBezTo>
                      <a:pt x="13338" y="3"/>
                      <a:pt x="13339" y="4"/>
                      <a:pt x="13339" y="5"/>
                    </a:cubicBezTo>
                    <a:cubicBezTo>
                      <a:pt x="13339" y="6"/>
                      <a:pt x="13338" y="7"/>
                      <a:pt x="13337" y="7"/>
                    </a:cubicBezTo>
                    <a:lnTo>
                      <a:pt x="13337" y="7"/>
                    </a:lnTo>
                    <a:cubicBezTo>
                      <a:pt x="13336" y="7"/>
                      <a:pt x="13335" y="6"/>
                      <a:pt x="13335" y="5"/>
                    </a:cubicBezTo>
                    <a:cubicBezTo>
                      <a:pt x="13335" y="4"/>
                      <a:pt x="13336" y="3"/>
                      <a:pt x="13337" y="3"/>
                    </a:cubicBezTo>
                    <a:close/>
                    <a:moveTo>
                      <a:pt x="13345" y="3"/>
                    </a:moveTo>
                    <a:lnTo>
                      <a:pt x="13345" y="3"/>
                    </a:lnTo>
                    <a:cubicBezTo>
                      <a:pt x="13346" y="3"/>
                      <a:pt x="13347" y="4"/>
                      <a:pt x="13347" y="5"/>
                    </a:cubicBezTo>
                    <a:cubicBezTo>
                      <a:pt x="13347" y="6"/>
                      <a:pt x="13346" y="7"/>
                      <a:pt x="13345" y="7"/>
                    </a:cubicBezTo>
                    <a:lnTo>
                      <a:pt x="13345" y="7"/>
                    </a:lnTo>
                    <a:cubicBezTo>
                      <a:pt x="13344" y="7"/>
                      <a:pt x="13343" y="6"/>
                      <a:pt x="13343" y="5"/>
                    </a:cubicBezTo>
                    <a:cubicBezTo>
                      <a:pt x="13343" y="4"/>
                      <a:pt x="13344" y="3"/>
                      <a:pt x="13345" y="3"/>
                    </a:cubicBezTo>
                    <a:close/>
                    <a:moveTo>
                      <a:pt x="13353" y="3"/>
                    </a:moveTo>
                    <a:lnTo>
                      <a:pt x="13353" y="3"/>
                    </a:lnTo>
                    <a:cubicBezTo>
                      <a:pt x="13354" y="3"/>
                      <a:pt x="13355" y="4"/>
                      <a:pt x="13355" y="5"/>
                    </a:cubicBezTo>
                    <a:cubicBezTo>
                      <a:pt x="13355" y="6"/>
                      <a:pt x="13354" y="7"/>
                      <a:pt x="13353" y="7"/>
                    </a:cubicBezTo>
                    <a:lnTo>
                      <a:pt x="13353" y="7"/>
                    </a:lnTo>
                    <a:cubicBezTo>
                      <a:pt x="13352" y="7"/>
                      <a:pt x="13351" y="6"/>
                      <a:pt x="13351" y="5"/>
                    </a:cubicBezTo>
                    <a:cubicBezTo>
                      <a:pt x="13351" y="4"/>
                      <a:pt x="13352" y="3"/>
                      <a:pt x="13353" y="3"/>
                    </a:cubicBezTo>
                    <a:close/>
                    <a:moveTo>
                      <a:pt x="13361" y="3"/>
                    </a:moveTo>
                    <a:lnTo>
                      <a:pt x="13361" y="3"/>
                    </a:lnTo>
                    <a:cubicBezTo>
                      <a:pt x="13362" y="3"/>
                      <a:pt x="13363" y="4"/>
                      <a:pt x="13363" y="5"/>
                    </a:cubicBezTo>
                    <a:cubicBezTo>
                      <a:pt x="13363" y="6"/>
                      <a:pt x="13362" y="7"/>
                      <a:pt x="13361" y="7"/>
                    </a:cubicBezTo>
                    <a:lnTo>
                      <a:pt x="13361" y="7"/>
                    </a:lnTo>
                    <a:cubicBezTo>
                      <a:pt x="13360" y="7"/>
                      <a:pt x="13359" y="6"/>
                      <a:pt x="13359" y="5"/>
                    </a:cubicBezTo>
                    <a:cubicBezTo>
                      <a:pt x="13359" y="4"/>
                      <a:pt x="13360" y="3"/>
                      <a:pt x="13361" y="3"/>
                    </a:cubicBezTo>
                    <a:close/>
                    <a:moveTo>
                      <a:pt x="13369" y="3"/>
                    </a:moveTo>
                    <a:lnTo>
                      <a:pt x="13369" y="3"/>
                    </a:lnTo>
                    <a:cubicBezTo>
                      <a:pt x="13370" y="3"/>
                      <a:pt x="13371" y="4"/>
                      <a:pt x="13371" y="5"/>
                    </a:cubicBezTo>
                    <a:cubicBezTo>
                      <a:pt x="13371" y="6"/>
                      <a:pt x="13370" y="7"/>
                      <a:pt x="13369" y="7"/>
                    </a:cubicBezTo>
                    <a:lnTo>
                      <a:pt x="13369" y="7"/>
                    </a:lnTo>
                    <a:cubicBezTo>
                      <a:pt x="13368" y="7"/>
                      <a:pt x="13367" y="6"/>
                      <a:pt x="13367" y="5"/>
                    </a:cubicBezTo>
                    <a:cubicBezTo>
                      <a:pt x="13367" y="4"/>
                      <a:pt x="13368" y="3"/>
                      <a:pt x="13369" y="3"/>
                    </a:cubicBezTo>
                    <a:close/>
                    <a:moveTo>
                      <a:pt x="13377" y="3"/>
                    </a:moveTo>
                    <a:lnTo>
                      <a:pt x="13377" y="3"/>
                    </a:lnTo>
                    <a:cubicBezTo>
                      <a:pt x="13378" y="3"/>
                      <a:pt x="13379" y="4"/>
                      <a:pt x="13379" y="5"/>
                    </a:cubicBezTo>
                    <a:cubicBezTo>
                      <a:pt x="13379" y="6"/>
                      <a:pt x="13378" y="7"/>
                      <a:pt x="13377" y="7"/>
                    </a:cubicBezTo>
                    <a:lnTo>
                      <a:pt x="13377" y="7"/>
                    </a:lnTo>
                    <a:cubicBezTo>
                      <a:pt x="13376" y="7"/>
                      <a:pt x="13375" y="6"/>
                      <a:pt x="13375" y="5"/>
                    </a:cubicBezTo>
                    <a:cubicBezTo>
                      <a:pt x="13375" y="4"/>
                      <a:pt x="13376" y="3"/>
                      <a:pt x="13377" y="3"/>
                    </a:cubicBezTo>
                    <a:close/>
                    <a:moveTo>
                      <a:pt x="13385" y="3"/>
                    </a:moveTo>
                    <a:lnTo>
                      <a:pt x="13385" y="3"/>
                    </a:lnTo>
                    <a:cubicBezTo>
                      <a:pt x="13386" y="3"/>
                      <a:pt x="13387" y="4"/>
                      <a:pt x="13387" y="5"/>
                    </a:cubicBezTo>
                    <a:cubicBezTo>
                      <a:pt x="13387" y="6"/>
                      <a:pt x="13386" y="7"/>
                      <a:pt x="13385" y="7"/>
                    </a:cubicBezTo>
                    <a:lnTo>
                      <a:pt x="13385" y="7"/>
                    </a:lnTo>
                    <a:cubicBezTo>
                      <a:pt x="13384" y="7"/>
                      <a:pt x="13383" y="6"/>
                      <a:pt x="13383" y="5"/>
                    </a:cubicBezTo>
                    <a:cubicBezTo>
                      <a:pt x="13383" y="4"/>
                      <a:pt x="13384" y="3"/>
                      <a:pt x="13385" y="3"/>
                    </a:cubicBezTo>
                    <a:close/>
                    <a:moveTo>
                      <a:pt x="13393" y="3"/>
                    </a:moveTo>
                    <a:lnTo>
                      <a:pt x="13393" y="3"/>
                    </a:lnTo>
                    <a:cubicBezTo>
                      <a:pt x="13394" y="3"/>
                      <a:pt x="13395" y="4"/>
                      <a:pt x="13395" y="5"/>
                    </a:cubicBezTo>
                    <a:cubicBezTo>
                      <a:pt x="13395" y="6"/>
                      <a:pt x="13394" y="7"/>
                      <a:pt x="13393" y="7"/>
                    </a:cubicBezTo>
                    <a:lnTo>
                      <a:pt x="13393" y="7"/>
                    </a:lnTo>
                    <a:cubicBezTo>
                      <a:pt x="13392" y="7"/>
                      <a:pt x="13391" y="6"/>
                      <a:pt x="13391" y="5"/>
                    </a:cubicBezTo>
                    <a:cubicBezTo>
                      <a:pt x="13391" y="4"/>
                      <a:pt x="13392" y="3"/>
                      <a:pt x="13393" y="3"/>
                    </a:cubicBezTo>
                    <a:close/>
                    <a:moveTo>
                      <a:pt x="13401" y="3"/>
                    </a:moveTo>
                    <a:lnTo>
                      <a:pt x="13401" y="3"/>
                    </a:lnTo>
                    <a:cubicBezTo>
                      <a:pt x="13402" y="3"/>
                      <a:pt x="13403" y="4"/>
                      <a:pt x="13403" y="5"/>
                    </a:cubicBezTo>
                    <a:cubicBezTo>
                      <a:pt x="13403" y="6"/>
                      <a:pt x="13402" y="7"/>
                      <a:pt x="13401" y="7"/>
                    </a:cubicBezTo>
                    <a:lnTo>
                      <a:pt x="13401" y="7"/>
                    </a:lnTo>
                    <a:cubicBezTo>
                      <a:pt x="13400" y="7"/>
                      <a:pt x="13399" y="6"/>
                      <a:pt x="13399" y="5"/>
                    </a:cubicBezTo>
                    <a:cubicBezTo>
                      <a:pt x="13399" y="4"/>
                      <a:pt x="13400" y="3"/>
                      <a:pt x="13401" y="3"/>
                    </a:cubicBezTo>
                    <a:close/>
                    <a:moveTo>
                      <a:pt x="13409" y="3"/>
                    </a:moveTo>
                    <a:lnTo>
                      <a:pt x="13409" y="3"/>
                    </a:lnTo>
                    <a:cubicBezTo>
                      <a:pt x="13410" y="3"/>
                      <a:pt x="13411" y="4"/>
                      <a:pt x="13411" y="5"/>
                    </a:cubicBezTo>
                    <a:cubicBezTo>
                      <a:pt x="13411" y="6"/>
                      <a:pt x="13410" y="7"/>
                      <a:pt x="13409" y="7"/>
                    </a:cubicBezTo>
                    <a:lnTo>
                      <a:pt x="13409" y="7"/>
                    </a:lnTo>
                    <a:cubicBezTo>
                      <a:pt x="13408" y="7"/>
                      <a:pt x="13407" y="6"/>
                      <a:pt x="13407" y="5"/>
                    </a:cubicBezTo>
                    <a:cubicBezTo>
                      <a:pt x="13407" y="4"/>
                      <a:pt x="13408" y="3"/>
                      <a:pt x="13409" y="3"/>
                    </a:cubicBezTo>
                    <a:close/>
                    <a:moveTo>
                      <a:pt x="13417" y="3"/>
                    </a:moveTo>
                    <a:lnTo>
                      <a:pt x="13417" y="3"/>
                    </a:lnTo>
                    <a:cubicBezTo>
                      <a:pt x="13418" y="3"/>
                      <a:pt x="13419" y="4"/>
                      <a:pt x="13419" y="5"/>
                    </a:cubicBezTo>
                    <a:cubicBezTo>
                      <a:pt x="13419" y="6"/>
                      <a:pt x="13418" y="7"/>
                      <a:pt x="13417" y="7"/>
                    </a:cubicBezTo>
                    <a:lnTo>
                      <a:pt x="13417" y="7"/>
                    </a:lnTo>
                    <a:cubicBezTo>
                      <a:pt x="13416" y="7"/>
                      <a:pt x="13415" y="6"/>
                      <a:pt x="13415" y="5"/>
                    </a:cubicBezTo>
                    <a:cubicBezTo>
                      <a:pt x="13415" y="4"/>
                      <a:pt x="13416" y="3"/>
                      <a:pt x="13417" y="3"/>
                    </a:cubicBezTo>
                    <a:close/>
                    <a:moveTo>
                      <a:pt x="13425" y="3"/>
                    </a:moveTo>
                    <a:lnTo>
                      <a:pt x="13425" y="3"/>
                    </a:lnTo>
                    <a:cubicBezTo>
                      <a:pt x="13426" y="3"/>
                      <a:pt x="13427" y="4"/>
                      <a:pt x="13427" y="5"/>
                    </a:cubicBezTo>
                    <a:cubicBezTo>
                      <a:pt x="13427" y="6"/>
                      <a:pt x="13426" y="7"/>
                      <a:pt x="13425" y="7"/>
                    </a:cubicBezTo>
                    <a:lnTo>
                      <a:pt x="13425" y="7"/>
                    </a:lnTo>
                    <a:cubicBezTo>
                      <a:pt x="13424" y="7"/>
                      <a:pt x="13423" y="6"/>
                      <a:pt x="13423" y="5"/>
                    </a:cubicBezTo>
                    <a:cubicBezTo>
                      <a:pt x="13423" y="4"/>
                      <a:pt x="13424" y="3"/>
                      <a:pt x="13425" y="3"/>
                    </a:cubicBezTo>
                    <a:close/>
                    <a:moveTo>
                      <a:pt x="13433" y="3"/>
                    </a:moveTo>
                    <a:lnTo>
                      <a:pt x="13433" y="3"/>
                    </a:lnTo>
                    <a:cubicBezTo>
                      <a:pt x="13434" y="3"/>
                      <a:pt x="13435" y="4"/>
                      <a:pt x="13435" y="5"/>
                    </a:cubicBezTo>
                    <a:cubicBezTo>
                      <a:pt x="13435" y="6"/>
                      <a:pt x="13434" y="7"/>
                      <a:pt x="13433" y="7"/>
                    </a:cubicBezTo>
                    <a:lnTo>
                      <a:pt x="13433" y="7"/>
                    </a:lnTo>
                    <a:cubicBezTo>
                      <a:pt x="13432" y="7"/>
                      <a:pt x="13431" y="6"/>
                      <a:pt x="13431" y="5"/>
                    </a:cubicBezTo>
                    <a:cubicBezTo>
                      <a:pt x="13431" y="4"/>
                      <a:pt x="13432" y="3"/>
                      <a:pt x="13433" y="3"/>
                    </a:cubicBezTo>
                    <a:close/>
                    <a:moveTo>
                      <a:pt x="13441" y="3"/>
                    </a:moveTo>
                    <a:lnTo>
                      <a:pt x="13441" y="3"/>
                    </a:lnTo>
                    <a:cubicBezTo>
                      <a:pt x="13442" y="3"/>
                      <a:pt x="13443" y="4"/>
                      <a:pt x="13443" y="5"/>
                    </a:cubicBezTo>
                    <a:cubicBezTo>
                      <a:pt x="13443" y="7"/>
                      <a:pt x="13442" y="7"/>
                      <a:pt x="13441" y="7"/>
                    </a:cubicBezTo>
                    <a:lnTo>
                      <a:pt x="13441" y="7"/>
                    </a:lnTo>
                    <a:cubicBezTo>
                      <a:pt x="13440" y="7"/>
                      <a:pt x="13439" y="7"/>
                      <a:pt x="13439" y="5"/>
                    </a:cubicBezTo>
                    <a:cubicBezTo>
                      <a:pt x="13439" y="4"/>
                      <a:pt x="13440" y="3"/>
                      <a:pt x="13441" y="3"/>
                    </a:cubicBezTo>
                    <a:close/>
                    <a:moveTo>
                      <a:pt x="13449" y="3"/>
                    </a:moveTo>
                    <a:lnTo>
                      <a:pt x="13449" y="3"/>
                    </a:lnTo>
                    <a:cubicBezTo>
                      <a:pt x="13450" y="3"/>
                      <a:pt x="13451" y="4"/>
                      <a:pt x="13451" y="5"/>
                    </a:cubicBezTo>
                    <a:cubicBezTo>
                      <a:pt x="13451" y="7"/>
                      <a:pt x="13450" y="7"/>
                      <a:pt x="13449" y="7"/>
                    </a:cubicBezTo>
                    <a:lnTo>
                      <a:pt x="13449" y="7"/>
                    </a:lnTo>
                    <a:cubicBezTo>
                      <a:pt x="13448" y="7"/>
                      <a:pt x="13447" y="7"/>
                      <a:pt x="13447" y="5"/>
                    </a:cubicBezTo>
                    <a:cubicBezTo>
                      <a:pt x="13447" y="4"/>
                      <a:pt x="13448" y="3"/>
                      <a:pt x="13449" y="3"/>
                    </a:cubicBezTo>
                    <a:close/>
                    <a:moveTo>
                      <a:pt x="13457" y="3"/>
                    </a:moveTo>
                    <a:lnTo>
                      <a:pt x="13457" y="3"/>
                    </a:lnTo>
                    <a:cubicBezTo>
                      <a:pt x="13458" y="3"/>
                      <a:pt x="13459" y="4"/>
                      <a:pt x="13459" y="5"/>
                    </a:cubicBezTo>
                    <a:cubicBezTo>
                      <a:pt x="13459" y="7"/>
                      <a:pt x="13458" y="7"/>
                      <a:pt x="13457" y="7"/>
                    </a:cubicBezTo>
                    <a:lnTo>
                      <a:pt x="13457" y="7"/>
                    </a:lnTo>
                    <a:cubicBezTo>
                      <a:pt x="13456" y="7"/>
                      <a:pt x="13455" y="7"/>
                      <a:pt x="13455" y="5"/>
                    </a:cubicBezTo>
                    <a:cubicBezTo>
                      <a:pt x="13455" y="4"/>
                      <a:pt x="13456" y="3"/>
                      <a:pt x="13457" y="3"/>
                    </a:cubicBezTo>
                    <a:close/>
                    <a:moveTo>
                      <a:pt x="13465" y="3"/>
                    </a:moveTo>
                    <a:lnTo>
                      <a:pt x="13465" y="3"/>
                    </a:lnTo>
                    <a:cubicBezTo>
                      <a:pt x="13466" y="3"/>
                      <a:pt x="13467" y="4"/>
                      <a:pt x="13467" y="5"/>
                    </a:cubicBezTo>
                    <a:cubicBezTo>
                      <a:pt x="13467" y="7"/>
                      <a:pt x="13466" y="7"/>
                      <a:pt x="13465" y="7"/>
                    </a:cubicBezTo>
                    <a:lnTo>
                      <a:pt x="13465" y="7"/>
                    </a:lnTo>
                    <a:cubicBezTo>
                      <a:pt x="13464" y="7"/>
                      <a:pt x="13463" y="7"/>
                      <a:pt x="13463" y="5"/>
                    </a:cubicBezTo>
                    <a:cubicBezTo>
                      <a:pt x="13463" y="4"/>
                      <a:pt x="13464" y="3"/>
                      <a:pt x="13465" y="3"/>
                    </a:cubicBezTo>
                    <a:close/>
                    <a:moveTo>
                      <a:pt x="13473" y="3"/>
                    </a:moveTo>
                    <a:lnTo>
                      <a:pt x="13473" y="3"/>
                    </a:lnTo>
                    <a:cubicBezTo>
                      <a:pt x="13474" y="3"/>
                      <a:pt x="13475" y="4"/>
                      <a:pt x="13475" y="5"/>
                    </a:cubicBezTo>
                    <a:cubicBezTo>
                      <a:pt x="13475" y="7"/>
                      <a:pt x="13474" y="7"/>
                      <a:pt x="13473" y="7"/>
                    </a:cubicBezTo>
                    <a:lnTo>
                      <a:pt x="13473" y="7"/>
                    </a:lnTo>
                    <a:cubicBezTo>
                      <a:pt x="13472" y="7"/>
                      <a:pt x="13471" y="7"/>
                      <a:pt x="13471" y="5"/>
                    </a:cubicBezTo>
                    <a:cubicBezTo>
                      <a:pt x="13471" y="4"/>
                      <a:pt x="13472" y="3"/>
                      <a:pt x="13473" y="3"/>
                    </a:cubicBezTo>
                    <a:close/>
                    <a:moveTo>
                      <a:pt x="13481" y="3"/>
                    </a:moveTo>
                    <a:lnTo>
                      <a:pt x="13481" y="3"/>
                    </a:lnTo>
                    <a:cubicBezTo>
                      <a:pt x="13482" y="3"/>
                      <a:pt x="13483" y="4"/>
                      <a:pt x="13483" y="5"/>
                    </a:cubicBezTo>
                    <a:cubicBezTo>
                      <a:pt x="13483" y="7"/>
                      <a:pt x="13482" y="7"/>
                      <a:pt x="13481" y="7"/>
                    </a:cubicBezTo>
                    <a:lnTo>
                      <a:pt x="13481" y="7"/>
                    </a:lnTo>
                    <a:cubicBezTo>
                      <a:pt x="13480" y="7"/>
                      <a:pt x="13479" y="7"/>
                      <a:pt x="13479" y="5"/>
                    </a:cubicBezTo>
                    <a:cubicBezTo>
                      <a:pt x="13479" y="4"/>
                      <a:pt x="13480" y="3"/>
                      <a:pt x="13481" y="3"/>
                    </a:cubicBezTo>
                    <a:close/>
                    <a:moveTo>
                      <a:pt x="13489" y="3"/>
                    </a:moveTo>
                    <a:lnTo>
                      <a:pt x="13489" y="3"/>
                    </a:lnTo>
                    <a:cubicBezTo>
                      <a:pt x="13490" y="3"/>
                      <a:pt x="13491" y="4"/>
                      <a:pt x="13491" y="5"/>
                    </a:cubicBezTo>
                    <a:cubicBezTo>
                      <a:pt x="13491" y="7"/>
                      <a:pt x="13490" y="7"/>
                      <a:pt x="13489" y="7"/>
                    </a:cubicBezTo>
                    <a:lnTo>
                      <a:pt x="13489" y="7"/>
                    </a:lnTo>
                    <a:cubicBezTo>
                      <a:pt x="13488" y="7"/>
                      <a:pt x="13487" y="7"/>
                      <a:pt x="13487" y="5"/>
                    </a:cubicBezTo>
                    <a:cubicBezTo>
                      <a:pt x="13487" y="4"/>
                      <a:pt x="13488" y="3"/>
                      <a:pt x="13489" y="3"/>
                    </a:cubicBezTo>
                    <a:close/>
                    <a:moveTo>
                      <a:pt x="13497" y="3"/>
                    </a:moveTo>
                    <a:lnTo>
                      <a:pt x="13497" y="3"/>
                    </a:lnTo>
                    <a:cubicBezTo>
                      <a:pt x="13498" y="3"/>
                      <a:pt x="13499" y="4"/>
                      <a:pt x="13499" y="5"/>
                    </a:cubicBezTo>
                    <a:cubicBezTo>
                      <a:pt x="13499" y="7"/>
                      <a:pt x="13498" y="7"/>
                      <a:pt x="13497" y="7"/>
                    </a:cubicBezTo>
                    <a:lnTo>
                      <a:pt x="13497" y="7"/>
                    </a:lnTo>
                    <a:cubicBezTo>
                      <a:pt x="13496" y="7"/>
                      <a:pt x="13495" y="7"/>
                      <a:pt x="13495" y="5"/>
                    </a:cubicBezTo>
                    <a:cubicBezTo>
                      <a:pt x="13495" y="4"/>
                      <a:pt x="13496" y="3"/>
                      <a:pt x="13497" y="3"/>
                    </a:cubicBezTo>
                    <a:close/>
                    <a:moveTo>
                      <a:pt x="13505" y="3"/>
                    </a:moveTo>
                    <a:lnTo>
                      <a:pt x="13505" y="3"/>
                    </a:lnTo>
                    <a:cubicBezTo>
                      <a:pt x="13506" y="3"/>
                      <a:pt x="13507" y="4"/>
                      <a:pt x="13507" y="5"/>
                    </a:cubicBezTo>
                    <a:cubicBezTo>
                      <a:pt x="13507" y="7"/>
                      <a:pt x="13506" y="7"/>
                      <a:pt x="13505" y="7"/>
                    </a:cubicBezTo>
                    <a:lnTo>
                      <a:pt x="13505" y="7"/>
                    </a:lnTo>
                    <a:cubicBezTo>
                      <a:pt x="13504" y="7"/>
                      <a:pt x="13503" y="7"/>
                      <a:pt x="13503" y="5"/>
                    </a:cubicBezTo>
                    <a:cubicBezTo>
                      <a:pt x="13503" y="4"/>
                      <a:pt x="13504" y="3"/>
                      <a:pt x="13505" y="3"/>
                    </a:cubicBezTo>
                    <a:close/>
                    <a:moveTo>
                      <a:pt x="13513" y="3"/>
                    </a:moveTo>
                    <a:lnTo>
                      <a:pt x="13513" y="3"/>
                    </a:lnTo>
                    <a:cubicBezTo>
                      <a:pt x="13514" y="3"/>
                      <a:pt x="13515" y="4"/>
                      <a:pt x="13515" y="5"/>
                    </a:cubicBezTo>
                    <a:cubicBezTo>
                      <a:pt x="13515" y="7"/>
                      <a:pt x="13514" y="7"/>
                      <a:pt x="13513" y="7"/>
                    </a:cubicBezTo>
                    <a:lnTo>
                      <a:pt x="13513" y="7"/>
                    </a:lnTo>
                    <a:cubicBezTo>
                      <a:pt x="13512" y="7"/>
                      <a:pt x="13511" y="7"/>
                      <a:pt x="13511" y="5"/>
                    </a:cubicBezTo>
                    <a:cubicBezTo>
                      <a:pt x="13511" y="4"/>
                      <a:pt x="13512" y="3"/>
                      <a:pt x="13513" y="3"/>
                    </a:cubicBezTo>
                    <a:close/>
                    <a:moveTo>
                      <a:pt x="13521" y="3"/>
                    </a:moveTo>
                    <a:lnTo>
                      <a:pt x="13521" y="3"/>
                    </a:lnTo>
                    <a:cubicBezTo>
                      <a:pt x="13522" y="3"/>
                      <a:pt x="13523" y="4"/>
                      <a:pt x="13523" y="5"/>
                    </a:cubicBezTo>
                    <a:cubicBezTo>
                      <a:pt x="13523" y="7"/>
                      <a:pt x="13522" y="7"/>
                      <a:pt x="13521" y="7"/>
                    </a:cubicBezTo>
                    <a:lnTo>
                      <a:pt x="13521" y="7"/>
                    </a:lnTo>
                    <a:cubicBezTo>
                      <a:pt x="13520" y="7"/>
                      <a:pt x="13519" y="7"/>
                      <a:pt x="13519" y="5"/>
                    </a:cubicBezTo>
                    <a:cubicBezTo>
                      <a:pt x="13519" y="4"/>
                      <a:pt x="13520" y="3"/>
                      <a:pt x="13521" y="3"/>
                    </a:cubicBezTo>
                    <a:close/>
                    <a:moveTo>
                      <a:pt x="13529" y="3"/>
                    </a:moveTo>
                    <a:lnTo>
                      <a:pt x="13529" y="3"/>
                    </a:lnTo>
                    <a:cubicBezTo>
                      <a:pt x="13530" y="3"/>
                      <a:pt x="13531" y="4"/>
                      <a:pt x="13531" y="5"/>
                    </a:cubicBezTo>
                    <a:cubicBezTo>
                      <a:pt x="13531" y="7"/>
                      <a:pt x="13530" y="7"/>
                      <a:pt x="13529" y="7"/>
                    </a:cubicBezTo>
                    <a:lnTo>
                      <a:pt x="13529" y="7"/>
                    </a:lnTo>
                    <a:cubicBezTo>
                      <a:pt x="13528" y="7"/>
                      <a:pt x="13527" y="7"/>
                      <a:pt x="13527" y="5"/>
                    </a:cubicBezTo>
                    <a:cubicBezTo>
                      <a:pt x="13527" y="4"/>
                      <a:pt x="13528" y="3"/>
                      <a:pt x="13529" y="3"/>
                    </a:cubicBezTo>
                    <a:close/>
                    <a:moveTo>
                      <a:pt x="13537" y="3"/>
                    </a:moveTo>
                    <a:lnTo>
                      <a:pt x="13537" y="3"/>
                    </a:lnTo>
                    <a:cubicBezTo>
                      <a:pt x="13538" y="3"/>
                      <a:pt x="13539" y="4"/>
                      <a:pt x="13539" y="5"/>
                    </a:cubicBezTo>
                    <a:cubicBezTo>
                      <a:pt x="13539" y="7"/>
                      <a:pt x="13538" y="7"/>
                      <a:pt x="13537" y="7"/>
                    </a:cubicBezTo>
                    <a:lnTo>
                      <a:pt x="13537" y="7"/>
                    </a:lnTo>
                    <a:cubicBezTo>
                      <a:pt x="13536" y="7"/>
                      <a:pt x="13535" y="7"/>
                      <a:pt x="13535" y="5"/>
                    </a:cubicBezTo>
                    <a:cubicBezTo>
                      <a:pt x="13535" y="4"/>
                      <a:pt x="13536" y="3"/>
                      <a:pt x="13537" y="3"/>
                    </a:cubicBezTo>
                    <a:close/>
                    <a:moveTo>
                      <a:pt x="13545" y="3"/>
                    </a:moveTo>
                    <a:lnTo>
                      <a:pt x="13545" y="3"/>
                    </a:lnTo>
                    <a:cubicBezTo>
                      <a:pt x="13546" y="3"/>
                      <a:pt x="13547" y="4"/>
                      <a:pt x="13547" y="5"/>
                    </a:cubicBezTo>
                    <a:cubicBezTo>
                      <a:pt x="13547" y="7"/>
                      <a:pt x="13546" y="7"/>
                      <a:pt x="13545" y="7"/>
                    </a:cubicBezTo>
                    <a:lnTo>
                      <a:pt x="13545" y="7"/>
                    </a:lnTo>
                    <a:cubicBezTo>
                      <a:pt x="13544" y="7"/>
                      <a:pt x="13543" y="7"/>
                      <a:pt x="13543" y="5"/>
                    </a:cubicBezTo>
                    <a:cubicBezTo>
                      <a:pt x="13543" y="4"/>
                      <a:pt x="13544" y="3"/>
                      <a:pt x="13545" y="3"/>
                    </a:cubicBezTo>
                    <a:close/>
                    <a:moveTo>
                      <a:pt x="13553" y="3"/>
                    </a:moveTo>
                    <a:lnTo>
                      <a:pt x="13553" y="3"/>
                    </a:lnTo>
                    <a:cubicBezTo>
                      <a:pt x="13554" y="3"/>
                      <a:pt x="13555" y="4"/>
                      <a:pt x="13555" y="5"/>
                    </a:cubicBezTo>
                    <a:cubicBezTo>
                      <a:pt x="13555" y="7"/>
                      <a:pt x="13554" y="7"/>
                      <a:pt x="13553" y="7"/>
                    </a:cubicBezTo>
                    <a:lnTo>
                      <a:pt x="13553" y="7"/>
                    </a:lnTo>
                    <a:cubicBezTo>
                      <a:pt x="13552" y="7"/>
                      <a:pt x="13551" y="7"/>
                      <a:pt x="13551" y="5"/>
                    </a:cubicBezTo>
                    <a:cubicBezTo>
                      <a:pt x="13551" y="4"/>
                      <a:pt x="13552" y="3"/>
                      <a:pt x="13553" y="3"/>
                    </a:cubicBezTo>
                    <a:close/>
                    <a:moveTo>
                      <a:pt x="13561" y="3"/>
                    </a:moveTo>
                    <a:lnTo>
                      <a:pt x="13561" y="3"/>
                    </a:lnTo>
                    <a:cubicBezTo>
                      <a:pt x="13562" y="3"/>
                      <a:pt x="13563" y="4"/>
                      <a:pt x="13563" y="5"/>
                    </a:cubicBezTo>
                    <a:cubicBezTo>
                      <a:pt x="13563" y="7"/>
                      <a:pt x="13562" y="7"/>
                      <a:pt x="13561" y="7"/>
                    </a:cubicBezTo>
                    <a:lnTo>
                      <a:pt x="13561" y="7"/>
                    </a:lnTo>
                    <a:cubicBezTo>
                      <a:pt x="13560" y="7"/>
                      <a:pt x="13559" y="7"/>
                      <a:pt x="13559" y="5"/>
                    </a:cubicBezTo>
                    <a:cubicBezTo>
                      <a:pt x="13559" y="4"/>
                      <a:pt x="13560" y="3"/>
                      <a:pt x="13561" y="3"/>
                    </a:cubicBezTo>
                    <a:close/>
                    <a:moveTo>
                      <a:pt x="13569" y="3"/>
                    </a:moveTo>
                    <a:lnTo>
                      <a:pt x="13569" y="3"/>
                    </a:lnTo>
                    <a:cubicBezTo>
                      <a:pt x="13570" y="3"/>
                      <a:pt x="13571" y="4"/>
                      <a:pt x="13571" y="5"/>
                    </a:cubicBezTo>
                    <a:cubicBezTo>
                      <a:pt x="13571" y="7"/>
                      <a:pt x="13570" y="7"/>
                      <a:pt x="13569" y="7"/>
                    </a:cubicBezTo>
                    <a:lnTo>
                      <a:pt x="13569" y="7"/>
                    </a:lnTo>
                    <a:cubicBezTo>
                      <a:pt x="13568" y="7"/>
                      <a:pt x="13567" y="7"/>
                      <a:pt x="13567" y="5"/>
                    </a:cubicBezTo>
                    <a:cubicBezTo>
                      <a:pt x="13567" y="4"/>
                      <a:pt x="13568" y="3"/>
                      <a:pt x="13569" y="3"/>
                    </a:cubicBezTo>
                    <a:close/>
                    <a:moveTo>
                      <a:pt x="13577" y="3"/>
                    </a:moveTo>
                    <a:lnTo>
                      <a:pt x="13577" y="3"/>
                    </a:lnTo>
                    <a:cubicBezTo>
                      <a:pt x="13578" y="3"/>
                      <a:pt x="13579" y="4"/>
                      <a:pt x="13579" y="5"/>
                    </a:cubicBezTo>
                    <a:cubicBezTo>
                      <a:pt x="13579" y="7"/>
                      <a:pt x="13578" y="7"/>
                      <a:pt x="13577" y="7"/>
                    </a:cubicBezTo>
                    <a:lnTo>
                      <a:pt x="13577" y="7"/>
                    </a:lnTo>
                    <a:cubicBezTo>
                      <a:pt x="13576" y="7"/>
                      <a:pt x="13575" y="7"/>
                      <a:pt x="13575" y="5"/>
                    </a:cubicBezTo>
                    <a:cubicBezTo>
                      <a:pt x="13575" y="4"/>
                      <a:pt x="13576" y="3"/>
                      <a:pt x="13577" y="3"/>
                    </a:cubicBezTo>
                    <a:close/>
                    <a:moveTo>
                      <a:pt x="13585" y="3"/>
                    </a:moveTo>
                    <a:lnTo>
                      <a:pt x="13585" y="3"/>
                    </a:lnTo>
                    <a:cubicBezTo>
                      <a:pt x="13586" y="3"/>
                      <a:pt x="13587" y="4"/>
                      <a:pt x="13587" y="5"/>
                    </a:cubicBezTo>
                    <a:cubicBezTo>
                      <a:pt x="13587" y="7"/>
                      <a:pt x="13586" y="7"/>
                      <a:pt x="13585" y="7"/>
                    </a:cubicBezTo>
                    <a:lnTo>
                      <a:pt x="13585" y="7"/>
                    </a:lnTo>
                    <a:cubicBezTo>
                      <a:pt x="13584" y="7"/>
                      <a:pt x="13583" y="7"/>
                      <a:pt x="13583" y="5"/>
                    </a:cubicBezTo>
                    <a:cubicBezTo>
                      <a:pt x="13583" y="4"/>
                      <a:pt x="13584" y="3"/>
                      <a:pt x="13585" y="3"/>
                    </a:cubicBezTo>
                    <a:close/>
                    <a:moveTo>
                      <a:pt x="13593" y="3"/>
                    </a:moveTo>
                    <a:lnTo>
                      <a:pt x="13593" y="3"/>
                    </a:lnTo>
                    <a:cubicBezTo>
                      <a:pt x="13594" y="3"/>
                      <a:pt x="13595" y="4"/>
                      <a:pt x="13595" y="5"/>
                    </a:cubicBezTo>
                    <a:cubicBezTo>
                      <a:pt x="13595" y="7"/>
                      <a:pt x="13594" y="7"/>
                      <a:pt x="13593" y="7"/>
                    </a:cubicBezTo>
                    <a:lnTo>
                      <a:pt x="13593" y="7"/>
                    </a:lnTo>
                    <a:cubicBezTo>
                      <a:pt x="13592" y="7"/>
                      <a:pt x="13591" y="7"/>
                      <a:pt x="13591" y="5"/>
                    </a:cubicBezTo>
                    <a:cubicBezTo>
                      <a:pt x="13591" y="4"/>
                      <a:pt x="13592" y="3"/>
                      <a:pt x="13593" y="3"/>
                    </a:cubicBezTo>
                    <a:close/>
                    <a:moveTo>
                      <a:pt x="13601" y="3"/>
                    </a:moveTo>
                    <a:lnTo>
                      <a:pt x="13601" y="3"/>
                    </a:lnTo>
                    <a:cubicBezTo>
                      <a:pt x="13602" y="3"/>
                      <a:pt x="13603" y="4"/>
                      <a:pt x="13603" y="5"/>
                    </a:cubicBezTo>
                    <a:cubicBezTo>
                      <a:pt x="13603" y="7"/>
                      <a:pt x="13602" y="7"/>
                      <a:pt x="13601" y="7"/>
                    </a:cubicBezTo>
                    <a:lnTo>
                      <a:pt x="13601" y="7"/>
                    </a:lnTo>
                    <a:cubicBezTo>
                      <a:pt x="13600" y="7"/>
                      <a:pt x="13599" y="7"/>
                      <a:pt x="13599" y="5"/>
                    </a:cubicBezTo>
                    <a:cubicBezTo>
                      <a:pt x="13599" y="4"/>
                      <a:pt x="13600" y="3"/>
                      <a:pt x="13601" y="3"/>
                    </a:cubicBezTo>
                    <a:close/>
                    <a:moveTo>
                      <a:pt x="13609" y="3"/>
                    </a:moveTo>
                    <a:lnTo>
                      <a:pt x="13609" y="3"/>
                    </a:lnTo>
                    <a:cubicBezTo>
                      <a:pt x="13610" y="3"/>
                      <a:pt x="13611" y="4"/>
                      <a:pt x="13611" y="5"/>
                    </a:cubicBezTo>
                    <a:cubicBezTo>
                      <a:pt x="13611" y="7"/>
                      <a:pt x="13610" y="7"/>
                      <a:pt x="13609" y="7"/>
                    </a:cubicBezTo>
                    <a:lnTo>
                      <a:pt x="13609" y="7"/>
                    </a:lnTo>
                    <a:cubicBezTo>
                      <a:pt x="13608" y="7"/>
                      <a:pt x="13607" y="7"/>
                      <a:pt x="13607" y="5"/>
                    </a:cubicBezTo>
                    <a:cubicBezTo>
                      <a:pt x="13607" y="4"/>
                      <a:pt x="13608" y="3"/>
                      <a:pt x="13609" y="3"/>
                    </a:cubicBezTo>
                    <a:close/>
                    <a:moveTo>
                      <a:pt x="13617" y="3"/>
                    </a:moveTo>
                    <a:lnTo>
                      <a:pt x="13617" y="3"/>
                    </a:lnTo>
                    <a:cubicBezTo>
                      <a:pt x="13618" y="3"/>
                      <a:pt x="13619" y="4"/>
                      <a:pt x="13619" y="5"/>
                    </a:cubicBezTo>
                    <a:cubicBezTo>
                      <a:pt x="13619" y="7"/>
                      <a:pt x="13618" y="7"/>
                      <a:pt x="13617" y="7"/>
                    </a:cubicBezTo>
                    <a:lnTo>
                      <a:pt x="13617" y="7"/>
                    </a:lnTo>
                    <a:cubicBezTo>
                      <a:pt x="13616" y="7"/>
                      <a:pt x="13615" y="7"/>
                      <a:pt x="13615" y="5"/>
                    </a:cubicBezTo>
                    <a:cubicBezTo>
                      <a:pt x="13615" y="4"/>
                      <a:pt x="13616" y="3"/>
                      <a:pt x="13617" y="3"/>
                    </a:cubicBezTo>
                    <a:close/>
                    <a:moveTo>
                      <a:pt x="13625" y="3"/>
                    </a:moveTo>
                    <a:lnTo>
                      <a:pt x="13625" y="3"/>
                    </a:lnTo>
                    <a:cubicBezTo>
                      <a:pt x="13626" y="3"/>
                      <a:pt x="13627" y="4"/>
                      <a:pt x="13627" y="5"/>
                    </a:cubicBezTo>
                    <a:cubicBezTo>
                      <a:pt x="13627" y="7"/>
                      <a:pt x="13626" y="7"/>
                      <a:pt x="13625" y="7"/>
                    </a:cubicBezTo>
                    <a:lnTo>
                      <a:pt x="13625" y="7"/>
                    </a:lnTo>
                    <a:cubicBezTo>
                      <a:pt x="13624" y="7"/>
                      <a:pt x="13623" y="7"/>
                      <a:pt x="13623" y="5"/>
                    </a:cubicBezTo>
                    <a:cubicBezTo>
                      <a:pt x="13623" y="4"/>
                      <a:pt x="13624" y="3"/>
                      <a:pt x="13625" y="3"/>
                    </a:cubicBezTo>
                    <a:close/>
                    <a:moveTo>
                      <a:pt x="13633" y="3"/>
                    </a:moveTo>
                    <a:lnTo>
                      <a:pt x="13633" y="3"/>
                    </a:lnTo>
                    <a:cubicBezTo>
                      <a:pt x="13634" y="3"/>
                      <a:pt x="13635" y="4"/>
                      <a:pt x="13635" y="5"/>
                    </a:cubicBezTo>
                    <a:cubicBezTo>
                      <a:pt x="13635" y="7"/>
                      <a:pt x="13634" y="7"/>
                      <a:pt x="13633" y="7"/>
                    </a:cubicBezTo>
                    <a:lnTo>
                      <a:pt x="13633" y="7"/>
                    </a:lnTo>
                    <a:cubicBezTo>
                      <a:pt x="13632" y="7"/>
                      <a:pt x="13631" y="7"/>
                      <a:pt x="13631" y="5"/>
                    </a:cubicBezTo>
                    <a:cubicBezTo>
                      <a:pt x="13631" y="4"/>
                      <a:pt x="13632" y="3"/>
                      <a:pt x="13633" y="3"/>
                    </a:cubicBezTo>
                    <a:close/>
                    <a:moveTo>
                      <a:pt x="13641" y="3"/>
                    </a:moveTo>
                    <a:lnTo>
                      <a:pt x="13641" y="3"/>
                    </a:lnTo>
                    <a:cubicBezTo>
                      <a:pt x="13642" y="3"/>
                      <a:pt x="13643" y="4"/>
                      <a:pt x="13643" y="5"/>
                    </a:cubicBezTo>
                    <a:cubicBezTo>
                      <a:pt x="13643" y="7"/>
                      <a:pt x="13642" y="7"/>
                      <a:pt x="13641" y="7"/>
                    </a:cubicBezTo>
                    <a:lnTo>
                      <a:pt x="13641" y="7"/>
                    </a:lnTo>
                    <a:cubicBezTo>
                      <a:pt x="13640" y="7"/>
                      <a:pt x="13639" y="7"/>
                      <a:pt x="13639" y="5"/>
                    </a:cubicBezTo>
                    <a:cubicBezTo>
                      <a:pt x="13639" y="4"/>
                      <a:pt x="13640" y="3"/>
                      <a:pt x="13641" y="3"/>
                    </a:cubicBezTo>
                    <a:close/>
                    <a:moveTo>
                      <a:pt x="13649" y="3"/>
                    </a:moveTo>
                    <a:lnTo>
                      <a:pt x="13649" y="3"/>
                    </a:lnTo>
                    <a:cubicBezTo>
                      <a:pt x="13650" y="3"/>
                      <a:pt x="13651" y="4"/>
                      <a:pt x="13651" y="5"/>
                    </a:cubicBezTo>
                    <a:cubicBezTo>
                      <a:pt x="13651" y="7"/>
                      <a:pt x="13650" y="7"/>
                      <a:pt x="13649" y="7"/>
                    </a:cubicBezTo>
                    <a:lnTo>
                      <a:pt x="13649" y="7"/>
                    </a:lnTo>
                    <a:cubicBezTo>
                      <a:pt x="13648" y="7"/>
                      <a:pt x="13647" y="7"/>
                      <a:pt x="13647" y="5"/>
                    </a:cubicBezTo>
                    <a:cubicBezTo>
                      <a:pt x="13647" y="4"/>
                      <a:pt x="13648" y="3"/>
                      <a:pt x="13649" y="3"/>
                    </a:cubicBezTo>
                    <a:close/>
                    <a:moveTo>
                      <a:pt x="13657" y="3"/>
                    </a:moveTo>
                    <a:lnTo>
                      <a:pt x="13657" y="3"/>
                    </a:lnTo>
                    <a:cubicBezTo>
                      <a:pt x="13658" y="3"/>
                      <a:pt x="13659" y="4"/>
                      <a:pt x="13659" y="5"/>
                    </a:cubicBezTo>
                    <a:cubicBezTo>
                      <a:pt x="13659" y="7"/>
                      <a:pt x="13658" y="7"/>
                      <a:pt x="13657" y="7"/>
                    </a:cubicBezTo>
                    <a:lnTo>
                      <a:pt x="13657" y="7"/>
                    </a:lnTo>
                    <a:cubicBezTo>
                      <a:pt x="13656" y="7"/>
                      <a:pt x="13655" y="7"/>
                      <a:pt x="13655" y="5"/>
                    </a:cubicBezTo>
                    <a:cubicBezTo>
                      <a:pt x="13655" y="4"/>
                      <a:pt x="13656" y="3"/>
                      <a:pt x="13657" y="3"/>
                    </a:cubicBezTo>
                    <a:close/>
                    <a:moveTo>
                      <a:pt x="13665" y="3"/>
                    </a:moveTo>
                    <a:lnTo>
                      <a:pt x="13665" y="3"/>
                    </a:lnTo>
                    <a:cubicBezTo>
                      <a:pt x="13666" y="3"/>
                      <a:pt x="13667" y="4"/>
                      <a:pt x="13667" y="5"/>
                    </a:cubicBezTo>
                    <a:cubicBezTo>
                      <a:pt x="13667" y="7"/>
                      <a:pt x="13666" y="7"/>
                      <a:pt x="13665" y="7"/>
                    </a:cubicBezTo>
                    <a:lnTo>
                      <a:pt x="13665" y="7"/>
                    </a:lnTo>
                    <a:cubicBezTo>
                      <a:pt x="13664" y="7"/>
                      <a:pt x="13663" y="7"/>
                      <a:pt x="13663" y="5"/>
                    </a:cubicBezTo>
                    <a:cubicBezTo>
                      <a:pt x="13663" y="4"/>
                      <a:pt x="13664" y="3"/>
                      <a:pt x="13665" y="3"/>
                    </a:cubicBezTo>
                    <a:close/>
                    <a:moveTo>
                      <a:pt x="13673" y="3"/>
                    </a:moveTo>
                    <a:lnTo>
                      <a:pt x="13673" y="3"/>
                    </a:lnTo>
                    <a:cubicBezTo>
                      <a:pt x="13674" y="3"/>
                      <a:pt x="13675" y="4"/>
                      <a:pt x="13675" y="5"/>
                    </a:cubicBezTo>
                    <a:cubicBezTo>
                      <a:pt x="13675" y="7"/>
                      <a:pt x="13674" y="7"/>
                      <a:pt x="13673" y="7"/>
                    </a:cubicBezTo>
                    <a:lnTo>
                      <a:pt x="13673" y="7"/>
                    </a:lnTo>
                    <a:cubicBezTo>
                      <a:pt x="13672" y="7"/>
                      <a:pt x="13671" y="7"/>
                      <a:pt x="13671" y="5"/>
                    </a:cubicBezTo>
                    <a:cubicBezTo>
                      <a:pt x="13671" y="4"/>
                      <a:pt x="13672" y="3"/>
                      <a:pt x="13673" y="3"/>
                    </a:cubicBezTo>
                    <a:close/>
                    <a:moveTo>
                      <a:pt x="13681" y="3"/>
                    </a:moveTo>
                    <a:lnTo>
                      <a:pt x="13681" y="3"/>
                    </a:lnTo>
                    <a:cubicBezTo>
                      <a:pt x="13682" y="3"/>
                      <a:pt x="13683" y="4"/>
                      <a:pt x="13683" y="5"/>
                    </a:cubicBezTo>
                    <a:cubicBezTo>
                      <a:pt x="13683" y="7"/>
                      <a:pt x="13682" y="7"/>
                      <a:pt x="13681" y="7"/>
                    </a:cubicBezTo>
                    <a:lnTo>
                      <a:pt x="13681" y="7"/>
                    </a:lnTo>
                    <a:cubicBezTo>
                      <a:pt x="13680" y="7"/>
                      <a:pt x="13679" y="7"/>
                      <a:pt x="13679" y="5"/>
                    </a:cubicBezTo>
                    <a:cubicBezTo>
                      <a:pt x="13679" y="4"/>
                      <a:pt x="13680" y="3"/>
                      <a:pt x="13681" y="3"/>
                    </a:cubicBezTo>
                    <a:close/>
                    <a:moveTo>
                      <a:pt x="13689" y="3"/>
                    </a:moveTo>
                    <a:lnTo>
                      <a:pt x="13689" y="3"/>
                    </a:lnTo>
                    <a:cubicBezTo>
                      <a:pt x="13690" y="3"/>
                      <a:pt x="13691" y="4"/>
                      <a:pt x="13691" y="5"/>
                    </a:cubicBezTo>
                    <a:cubicBezTo>
                      <a:pt x="13691" y="7"/>
                      <a:pt x="13690" y="7"/>
                      <a:pt x="13689" y="7"/>
                    </a:cubicBezTo>
                    <a:lnTo>
                      <a:pt x="13689" y="7"/>
                    </a:lnTo>
                    <a:cubicBezTo>
                      <a:pt x="13688" y="7"/>
                      <a:pt x="13687" y="7"/>
                      <a:pt x="13687" y="5"/>
                    </a:cubicBezTo>
                    <a:cubicBezTo>
                      <a:pt x="13687" y="4"/>
                      <a:pt x="13688" y="3"/>
                      <a:pt x="13689" y="3"/>
                    </a:cubicBezTo>
                    <a:close/>
                    <a:moveTo>
                      <a:pt x="13697" y="3"/>
                    </a:moveTo>
                    <a:lnTo>
                      <a:pt x="13697" y="3"/>
                    </a:lnTo>
                    <a:cubicBezTo>
                      <a:pt x="13698" y="3"/>
                      <a:pt x="13699" y="4"/>
                      <a:pt x="13699" y="5"/>
                    </a:cubicBezTo>
                    <a:cubicBezTo>
                      <a:pt x="13699" y="7"/>
                      <a:pt x="13698" y="7"/>
                      <a:pt x="13697" y="7"/>
                    </a:cubicBezTo>
                    <a:lnTo>
                      <a:pt x="13697" y="7"/>
                    </a:lnTo>
                    <a:cubicBezTo>
                      <a:pt x="13696" y="7"/>
                      <a:pt x="13695" y="7"/>
                      <a:pt x="13695" y="5"/>
                    </a:cubicBezTo>
                    <a:cubicBezTo>
                      <a:pt x="13695" y="4"/>
                      <a:pt x="13696" y="3"/>
                      <a:pt x="13697" y="3"/>
                    </a:cubicBezTo>
                    <a:close/>
                    <a:moveTo>
                      <a:pt x="13705" y="3"/>
                    </a:moveTo>
                    <a:lnTo>
                      <a:pt x="13705" y="3"/>
                    </a:lnTo>
                    <a:cubicBezTo>
                      <a:pt x="13706" y="3"/>
                      <a:pt x="13707" y="4"/>
                      <a:pt x="13707" y="5"/>
                    </a:cubicBezTo>
                    <a:cubicBezTo>
                      <a:pt x="13707" y="7"/>
                      <a:pt x="13706" y="7"/>
                      <a:pt x="13705" y="7"/>
                    </a:cubicBezTo>
                    <a:lnTo>
                      <a:pt x="13705" y="7"/>
                    </a:lnTo>
                    <a:cubicBezTo>
                      <a:pt x="13704" y="7"/>
                      <a:pt x="13703" y="7"/>
                      <a:pt x="13703" y="5"/>
                    </a:cubicBezTo>
                    <a:cubicBezTo>
                      <a:pt x="13703" y="4"/>
                      <a:pt x="13704" y="3"/>
                      <a:pt x="13705" y="3"/>
                    </a:cubicBezTo>
                    <a:close/>
                    <a:moveTo>
                      <a:pt x="13713" y="3"/>
                    </a:moveTo>
                    <a:lnTo>
                      <a:pt x="13713" y="3"/>
                    </a:lnTo>
                    <a:cubicBezTo>
                      <a:pt x="13714" y="3"/>
                      <a:pt x="13715" y="4"/>
                      <a:pt x="13715" y="5"/>
                    </a:cubicBezTo>
                    <a:cubicBezTo>
                      <a:pt x="13715" y="7"/>
                      <a:pt x="13714" y="7"/>
                      <a:pt x="13713" y="7"/>
                    </a:cubicBezTo>
                    <a:lnTo>
                      <a:pt x="13713" y="7"/>
                    </a:lnTo>
                    <a:cubicBezTo>
                      <a:pt x="13712" y="7"/>
                      <a:pt x="13711" y="7"/>
                      <a:pt x="13711" y="5"/>
                    </a:cubicBezTo>
                    <a:cubicBezTo>
                      <a:pt x="13711" y="4"/>
                      <a:pt x="13712" y="3"/>
                      <a:pt x="13713" y="3"/>
                    </a:cubicBezTo>
                    <a:close/>
                    <a:moveTo>
                      <a:pt x="13721" y="3"/>
                    </a:moveTo>
                    <a:lnTo>
                      <a:pt x="13721" y="3"/>
                    </a:lnTo>
                    <a:cubicBezTo>
                      <a:pt x="13722" y="3"/>
                      <a:pt x="13723" y="4"/>
                      <a:pt x="13723" y="5"/>
                    </a:cubicBezTo>
                    <a:cubicBezTo>
                      <a:pt x="13723" y="7"/>
                      <a:pt x="13722" y="7"/>
                      <a:pt x="13721" y="7"/>
                    </a:cubicBezTo>
                    <a:lnTo>
                      <a:pt x="13721" y="7"/>
                    </a:lnTo>
                    <a:cubicBezTo>
                      <a:pt x="13720" y="7"/>
                      <a:pt x="13719" y="7"/>
                      <a:pt x="13719" y="5"/>
                    </a:cubicBezTo>
                    <a:cubicBezTo>
                      <a:pt x="13719" y="4"/>
                      <a:pt x="13720" y="3"/>
                      <a:pt x="13721" y="3"/>
                    </a:cubicBezTo>
                    <a:close/>
                    <a:moveTo>
                      <a:pt x="13729" y="3"/>
                    </a:moveTo>
                    <a:lnTo>
                      <a:pt x="13729" y="3"/>
                    </a:lnTo>
                    <a:cubicBezTo>
                      <a:pt x="13730" y="3"/>
                      <a:pt x="13731" y="4"/>
                      <a:pt x="13731" y="5"/>
                    </a:cubicBezTo>
                    <a:cubicBezTo>
                      <a:pt x="13731" y="7"/>
                      <a:pt x="13730" y="7"/>
                      <a:pt x="13729" y="7"/>
                    </a:cubicBezTo>
                    <a:lnTo>
                      <a:pt x="13729" y="7"/>
                    </a:lnTo>
                    <a:cubicBezTo>
                      <a:pt x="13728" y="7"/>
                      <a:pt x="13727" y="7"/>
                      <a:pt x="13727" y="5"/>
                    </a:cubicBezTo>
                    <a:cubicBezTo>
                      <a:pt x="13727" y="4"/>
                      <a:pt x="13728" y="3"/>
                      <a:pt x="13729" y="3"/>
                    </a:cubicBezTo>
                    <a:close/>
                    <a:moveTo>
                      <a:pt x="13737" y="3"/>
                    </a:moveTo>
                    <a:lnTo>
                      <a:pt x="13737" y="3"/>
                    </a:lnTo>
                    <a:cubicBezTo>
                      <a:pt x="13738" y="3"/>
                      <a:pt x="13739" y="4"/>
                      <a:pt x="13739" y="5"/>
                    </a:cubicBezTo>
                    <a:cubicBezTo>
                      <a:pt x="13739" y="7"/>
                      <a:pt x="13738" y="7"/>
                      <a:pt x="13737" y="7"/>
                    </a:cubicBezTo>
                    <a:lnTo>
                      <a:pt x="13737" y="7"/>
                    </a:lnTo>
                    <a:cubicBezTo>
                      <a:pt x="13736" y="7"/>
                      <a:pt x="13735" y="7"/>
                      <a:pt x="13735" y="5"/>
                    </a:cubicBezTo>
                    <a:cubicBezTo>
                      <a:pt x="13735" y="4"/>
                      <a:pt x="13736" y="3"/>
                      <a:pt x="13737" y="3"/>
                    </a:cubicBezTo>
                    <a:close/>
                    <a:moveTo>
                      <a:pt x="13745" y="3"/>
                    </a:moveTo>
                    <a:lnTo>
                      <a:pt x="13745" y="3"/>
                    </a:lnTo>
                    <a:cubicBezTo>
                      <a:pt x="13746" y="3"/>
                      <a:pt x="13747" y="4"/>
                      <a:pt x="13747" y="5"/>
                    </a:cubicBezTo>
                    <a:cubicBezTo>
                      <a:pt x="13747" y="7"/>
                      <a:pt x="13746" y="7"/>
                      <a:pt x="13745" y="7"/>
                    </a:cubicBezTo>
                    <a:lnTo>
                      <a:pt x="13745" y="7"/>
                    </a:lnTo>
                    <a:cubicBezTo>
                      <a:pt x="13744" y="7"/>
                      <a:pt x="13743" y="7"/>
                      <a:pt x="13743" y="5"/>
                    </a:cubicBezTo>
                    <a:cubicBezTo>
                      <a:pt x="13743" y="4"/>
                      <a:pt x="13744" y="3"/>
                      <a:pt x="13745" y="3"/>
                    </a:cubicBezTo>
                    <a:close/>
                    <a:moveTo>
                      <a:pt x="13753" y="3"/>
                    </a:moveTo>
                    <a:lnTo>
                      <a:pt x="13753" y="3"/>
                    </a:lnTo>
                    <a:cubicBezTo>
                      <a:pt x="13754" y="3"/>
                      <a:pt x="13755" y="4"/>
                      <a:pt x="13755" y="5"/>
                    </a:cubicBezTo>
                    <a:cubicBezTo>
                      <a:pt x="13755" y="7"/>
                      <a:pt x="13754" y="7"/>
                      <a:pt x="13753" y="7"/>
                    </a:cubicBezTo>
                    <a:lnTo>
                      <a:pt x="13753" y="7"/>
                    </a:lnTo>
                    <a:cubicBezTo>
                      <a:pt x="13752" y="7"/>
                      <a:pt x="13751" y="7"/>
                      <a:pt x="13751" y="5"/>
                    </a:cubicBezTo>
                    <a:cubicBezTo>
                      <a:pt x="13751" y="4"/>
                      <a:pt x="13752" y="3"/>
                      <a:pt x="13753" y="3"/>
                    </a:cubicBezTo>
                    <a:close/>
                    <a:moveTo>
                      <a:pt x="13761" y="3"/>
                    </a:moveTo>
                    <a:lnTo>
                      <a:pt x="13761" y="3"/>
                    </a:lnTo>
                    <a:cubicBezTo>
                      <a:pt x="13762" y="3"/>
                      <a:pt x="13763" y="4"/>
                      <a:pt x="13763" y="5"/>
                    </a:cubicBezTo>
                    <a:cubicBezTo>
                      <a:pt x="13763" y="7"/>
                      <a:pt x="13762" y="7"/>
                      <a:pt x="13761" y="7"/>
                    </a:cubicBezTo>
                    <a:lnTo>
                      <a:pt x="13761" y="7"/>
                    </a:lnTo>
                    <a:cubicBezTo>
                      <a:pt x="13760" y="7"/>
                      <a:pt x="13759" y="7"/>
                      <a:pt x="13759" y="5"/>
                    </a:cubicBezTo>
                    <a:cubicBezTo>
                      <a:pt x="13759" y="4"/>
                      <a:pt x="13760" y="3"/>
                      <a:pt x="13761" y="3"/>
                    </a:cubicBezTo>
                    <a:close/>
                    <a:moveTo>
                      <a:pt x="13769" y="3"/>
                    </a:moveTo>
                    <a:lnTo>
                      <a:pt x="13769" y="3"/>
                    </a:lnTo>
                    <a:cubicBezTo>
                      <a:pt x="13770" y="3"/>
                      <a:pt x="13771" y="4"/>
                      <a:pt x="13771" y="5"/>
                    </a:cubicBezTo>
                    <a:cubicBezTo>
                      <a:pt x="13771" y="7"/>
                      <a:pt x="13770" y="7"/>
                      <a:pt x="13769" y="7"/>
                    </a:cubicBezTo>
                    <a:lnTo>
                      <a:pt x="13769" y="7"/>
                    </a:lnTo>
                    <a:cubicBezTo>
                      <a:pt x="13768" y="7"/>
                      <a:pt x="13767" y="7"/>
                      <a:pt x="13767" y="5"/>
                    </a:cubicBezTo>
                    <a:cubicBezTo>
                      <a:pt x="13767" y="4"/>
                      <a:pt x="13768" y="3"/>
                      <a:pt x="13769" y="3"/>
                    </a:cubicBezTo>
                    <a:close/>
                    <a:moveTo>
                      <a:pt x="13777" y="3"/>
                    </a:moveTo>
                    <a:lnTo>
                      <a:pt x="13777" y="3"/>
                    </a:lnTo>
                    <a:cubicBezTo>
                      <a:pt x="13778" y="3"/>
                      <a:pt x="13779" y="4"/>
                      <a:pt x="13779" y="5"/>
                    </a:cubicBezTo>
                    <a:cubicBezTo>
                      <a:pt x="13779" y="7"/>
                      <a:pt x="13778" y="7"/>
                      <a:pt x="13777" y="7"/>
                    </a:cubicBezTo>
                    <a:lnTo>
                      <a:pt x="13777" y="7"/>
                    </a:lnTo>
                    <a:cubicBezTo>
                      <a:pt x="13776" y="7"/>
                      <a:pt x="13775" y="7"/>
                      <a:pt x="13775" y="5"/>
                    </a:cubicBezTo>
                    <a:cubicBezTo>
                      <a:pt x="13775" y="4"/>
                      <a:pt x="13776" y="3"/>
                      <a:pt x="13777" y="3"/>
                    </a:cubicBezTo>
                    <a:close/>
                    <a:moveTo>
                      <a:pt x="13785" y="3"/>
                    </a:moveTo>
                    <a:lnTo>
                      <a:pt x="13785" y="3"/>
                    </a:lnTo>
                    <a:cubicBezTo>
                      <a:pt x="13786" y="3"/>
                      <a:pt x="13787" y="4"/>
                      <a:pt x="13787" y="5"/>
                    </a:cubicBezTo>
                    <a:cubicBezTo>
                      <a:pt x="13787" y="7"/>
                      <a:pt x="13786" y="7"/>
                      <a:pt x="13785" y="7"/>
                    </a:cubicBezTo>
                    <a:lnTo>
                      <a:pt x="13785" y="7"/>
                    </a:lnTo>
                    <a:cubicBezTo>
                      <a:pt x="13784" y="7"/>
                      <a:pt x="13783" y="7"/>
                      <a:pt x="13783" y="5"/>
                    </a:cubicBezTo>
                    <a:cubicBezTo>
                      <a:pt x="13783" y="4"/>
                      <a:pt x="13784" y="3"/>
                      <a:pt x="13785" y="3"/>
                    </a:cubicBezTo>
                    <a:close/>
                    <a:moveTo>
                      <a:pt x="13793" y="3"/>
                    </a:moveTo>
                    <a:lnTo>
                      <a:pt x="13793" y="3"/>
                    </a:lnTo>
                    <a:cubicBezTo>
                      <a:pt x="13794" y="3"/>
                      <a:pt x="13795" y="4"/>
                      <a:pt x="13795" y="5"/>
                    </a:cubicBezTo>
                    <a:cubicBezTo>
                      <a:pt x="13795" y="7"/>
                      <a:pt x="13794" y="7"/>
                      <a:pt x="13793" y="7"/>
                    </a:cubicBezTo>
                    <a:lnTo>
                      <a:pt x="13793" y="7"/>
                    </a:lnTo>
                    <a:cubicBezTo>
                      <a:pt x="13792" y="7"/>
                      <a:pt x="13791" y="7"/>
                      <a:pt x="13791" y="5"/>
                    </a:cubicBezTo>
                    <a:cubicBezTo>
                      <a:pt x="13791" y="4"/>
                      <a:pt x="13792" y="3"/>
                      <a:pt x="13793" y="3"/>
                    </a:cubicBezTo>
                    <a:close/>
                    <a:moveTo>
                      <a:pt x="13801" y="3"/>
                    </a:moveTo>
                    <a:lnTo>
                      <a:pt x="13801" y="3"/>
                    </a:lnTo>
                    <a:cubicBezTo>
                      <a:pt x="13802" y="3"/>
                      <a:pt x="13803" y="4"/>
                      <a:pt x="13803" y="5"/>
                    </a:cubicBezTo>
                    <a:cubicBezTo>
                      <a:pt x="13803" y="7"/>
                      <a:pt x="13802" y="7"/>
                      <a:pt x="13801" y="7"/>
                    </a:cubicBezTo>
                    <a:lnTo>
                      <a:pt x="13801" y="7"/>
                    </a:lnTo>
                    <a:cubicBezTo>
                      <a:pt x="13800" y="7"/>
                      <a:pt x="13799" y="7"/>
                      <a:pt x="13799" y="5"/>
                    </a:cubicBezTo>
                    <a:cubicBezTo>
                      <a:pt x="13799" y="4"/>
                      <a:pt x="13800" y="3"/>
                      <a:pt x="13801" y="3"/>
                    </a:cubicBezTo>
                    <a:close/>
                    <a:moveTo>
                      <a:pt x="13809" y="3"/>
                    </a:moveTo>
                    <a:lnTo>
                      <a:pt x="13809" y="3"/>
                    </a:lnTo>
                    <a:cubicBezTo>
                      <a:pt x="13810" y="3"/>
                      <a:pt x="13811" y="4"/>
                      <a:pt x="13811" y="5"/>
                    </a:cubicBezTo>
                    <a:cubicBezTo>
                      <a:pt x="13811" y="7"/>
                      <a:pt x="13810" y="7"/>
                      <a:pt x="13809" y="7"/>
                    </a:cubicBezTo>
                    <a:lnTo>
                      <a:pt x="13809" y="7"/>
                    </a:lnTo>
                    <a:cubicBezTo>
                      <a:pt x="13808" y="7"/>
                      <a:pt x="13807" y="7"/>
                      <a:pt x="13807" y="5"/>
                    </a:cubicBezTo>
                    <a:cubicBezTo>
                      <a:pt x="13807" y="4"/>
                      <a:pt x="13808" y="3"/>
                      <a:pt x="13809" y="3"/>
                    </a:cubicBezTo>
                    <a:close/>
                    <a:moveTo>
                      <a:pt x="13817" y="3"/>
                    </a:moveTo>
                    <a:lnTo>
                      <a:pt x="13817" y="3"/>
                    </a:lnTo>
                    <a:cubicBezTo>
                      <a:pt x="13818" y="3"/>
                      <a:pt x="13819" y="4"/>
                      <a:pt x="13819" y="5"/>
                    </a:cubicBezTo>
                    <a:cubicBezTo>
                      <a:pt x="13819" y="7"/>
                      <a:pt x="13818" y="7"/>
                      <a:pt x="13817" y="7"/>
                    </a:cubicBezTo>
                    <a:lnTo>
                      <a:pt x="13817" y="7"/>
                    </a:lnTo>
                    <a:cubicBezTo>
                      <a:pt x="13816" y="7"/>
                      <a:pt x="13815" y="7"/>
                      <a:pt x="13815" y="5"/>
                    </a:cubicBezTo>
                    <a:cubicBezTo>
                      <a:pt x="13815" y="4"/>
                      <a:pt x="13816" y="3"/>
                      <a:pt x="13817" y="3"/>
                    </a:cubicBezTo>
                    <a:close/>
                    <a:moveTo>
                      <a:pt x="13825" y="3"/>
                    </a:moveTo>
                    <a:lnTo>
                      <a:pt x="13825" y="3"/>
                    </a:lnTo>
                    <a:cubicBezTo>
                      <a:pt x="13826" y="3"/>
                      <a:pt x="13827" y="4"/>
                      <a:pt x="13827" y="5"/>
                    </a:cubicBezTo>
                    <a:cubicBezTo>
                      <a:pt x="13827" y="7"/>
                      <a:pt x="13826" y="7"/>
                      <a:pt x="13825" y="7"/>
                    </a:cubicBezTo>
                    <a:lnTo>
                      <a:pt x="13825" y="7"/>
                    </a:lnTo>
                    <a:cubicBezTo>
                      <a:pt x="13824" y="7"/>
                      <a:pt x="13823" y="7"/>
                      <a:pt x="13823" y="5"/>
                    </a:cubicBezTo>
                    <a:cubicBezTo>
                      <a:pt x="13823" y="4"/>
                      <a:pt x="13824" y="3"/>
                      <a:pt x="13825" y="3"/>
                    </a:cubicBezTo>
                    <a:close/>
                    <a:moveTo>
                      <a:pt x="13833" y="3"/>
                    </a:moveTo>
                    <a:lnTo>
                      <a:pt x="13833" y="3"/>
                    </a:lnTo>
                    <a:cubicBezTo>
                      <a:pt x="13834" y="3"/>
                      <a:pt x="13835" y="4"/>
                      <a:pt x="13835" y="5"/>
                    </a:cubicBezTo>
                    <a:cubicBezTo>
                      <a:pt x="13835" y="7"/>
                      <a:pt x="13834" y="7"/>
                      <a:pt x="13833" y="7"/>
                    </a:cubicBezTo>
                    <a:lnTo>
                      <a:pt x="13833" y="7"/>
                    </a:lnTo>
                    <a:cubicBezTo>
                      <a:pt x="13832" y="7"/>
                      <a:pt x="13831" y="7"/>
                      <a:pt x="13831" y="5"/>
                    </a:cubicBezTo>
                    <a:cubicBezTo>
                      <a:pt x="13831" y="4"/>
                      <a:pt x="13832" y="3"/>
                      <a:pt x="13833" y="3"/>
                    </a:cubicBezTo>
                    <a:close/>
                    <a:moveTo>
                      <a:pt x="13841" y="3"/>
                    </a:moveTo>
                    <a:lnTo>
                      <a:pt x="13841" y="3"/>
                    </a:lnTo>
                    <a:cubicBezTo>
                      <a:pt x="13842" y="3"/>
                      <a:pt x="13843" y="4"/>
                      <a:pt x="13843" y="5"/>
                    </a:cubicBezTo>
                    <a:cubicBezTo>
                      <a:pt x="13843" y="7"/>
                      <a:pt x="13842" y="7"/>
                      <a:pt x="13841" y="7"/>
                    </a:cubicBezTo>
                    <a:lnTo>
                      <a:pt x="13841" y="7"/>
                    </a:lnTo>
                    <a:cubicBezTo>
                      <a:pt x="13840" y="7"/>
                      <a:pt x="13839" y="7"/>
                      <a:pt x="13839" y="5"/>
                    </a:cubicBezTo>
                    <a:cubicBezTo>
                      <a:pt x="13839" y="4"/>
                      <a:pt x="13840" y="3"/>
                      <a:pt x="13841" y="3"/>
                    </a:cubicBezTo>
                    <a:close/>
                    <a:moveTo>
                      <a:pt x="13849" y="3"/>
                    </a:moveTo>
                    <a:lnTo>
                      <a:pt x="13849" y="3"/>
                    </a:lnTo>
                    <a:cubicBezTo>
                      <a:pt x="13850" y="3"/>
                      <a:pt x="13851" y="4"/>
                      <a:pt x="13851" y="5"/>
                    </a:cubicBezTo>
                    <a:cubicBezTo>
                      <a:pt x="13851" y="7"/>
                      <a:pt x="13850" y="7"/>
                      <a:pt x="13849" y="7"/>
                    </a:cubicBezTo>
                    <a:lnTo>
                      <a:pt x="13849" y="7"/>
                    </a:lnTo>
                    <a:cubicBezTo>
                      <a:pt x="13848" y="7"/>
                      <a:pt x="13847" y="7"/>
                      <a:pt x="13847" y="5"/>
                    </a:cubicBezTo>
                    <a:cubicBezTo>
                      <a:pt x="13847" y="4"/>
                      <a:pt x="13848" y="3"/>
                      <a:pt x="13849" y="3"/>
                    </a:cubicBezTo>
                    <a:close/>
                    <a:moveTo>
                      <a:pt x="13857" y="3"/>
                    </a:moveTo>
                    <a:lnTo>
                      <a:pt x="13857" y="3"/>
                    </a:lnTo>
                    <a:cubicBezTo>
                      <a:pt x="13858" y="3"/>
                      <a:pt x="13859" y="4"/>
                      <a:pt x="13859" y="5"/>
                    </a:cubicBezTo>
                    <a:cubicBezTo>
                      <a:pt x="13859" y="7"/>
                      <a:pt x="13858" y="7"/>
                      <a:pt x="13857" y="7"/>
                    </a:cubicBezTo>
                    <a:lnTo>
                      <a:pt x="13857" y="7"/>
                    </a:lnTo>
                    <a:cubicBezTo>
                      <a:pt x="13856" y="7"/>
                      <a:pt x="13855" y="7"/>
                      <a:pt x="13855" y="5"/>
                    </a:cubicBezTo>
                    <a:cubicBezTo>
                      <a:pt x="13855" y="4"/>
                      <a:pt x="13856" y="3"/>
                      <a:pt x="13857" y="3"/>
                    </a:cubicBezTo>
                    <a:close/>
                    <a:moveTo>
                      <a:pt x="13865" y="3"/>
                    </a:moveTo>
                    <a:lnTo>
                      <a:pt x="13865" y="3"/>
                    </a:lnTo>
                    <a:cubicBezTo>
                      <a:pt x="13866" y="3"/>
                      <a:pt x="13867" y="4"/>
                      <a:pt x="13867" y="5"/>
                    </a:cubicBezTo>
                    <a:cubicBezTo>
                      <a:pt x="13867" y="7"/>
                      <a:pt x="13866" y="7"/>
                      <a:pt x="13865" y="7"/>
                    </a:cubicBezTo>
                    <a:lnTo>
                      <a:pt x="13865" y="7"/>
                    </a:lnTo>
                    <a:cubicBezTo>
                      <a:pt x="13864" y="7"/>
                      <a:pt x="13863" y="7"/>
                      <a:pt x="13863" y="5"/>
                    </a:cubicBezTo>
                    <a:cubicBezTo>
                      <a:pt x="13863" y="4"/>
                      <a:pt x="13864" y="3"/>
                      <a:pt x="13865" y="3"/>
                    </a:cubicBezTo>
                    <a:close/>
                    <a:moveTo>
                      <a:pt x="13873" y="4"/>
                    </a:moveTo>
                    <a:lnTo>
                      <a:pt x="13873" y="4"/>
                    </a:lnTo>
                    <a:cubicBezTo>
                      <a:pt x="13874" y="4"/>
                      <a:pt x="13875" y="4"/>
                      <a:pt x="13875" y="6"/>
                    </a:cubicBezTo>
                    <a:cubicBezTo>
                      <a:pt x="13875" y="7"/>
                      <a:pt x="13874" y="8"/>
                      <a:pt x="13873" y="8"/>
                    </a:cubicBezTo>
                    <a:lnTo>
                      <a:pt x="13873" y="8"/>
                    </a:lnTo>
                    <a:cubicBezTo>
                      <a:pt x="13872" y="8"/>
                      <a:pt x="13871" y="7"/>
                      <a:pt x="13871" y="6"/>
                    </a:cubicBezTo>
                    <a:cubicBezTo>
                      <a:pt x="13871" y="4"/>
                      <a:pt x="13872" y="4"/>
                      <a:pt x="13873" y="4"/>
                    </a:cubicBezTo>
                    <a:close/>
                    <a:moveTo>
                      <a:pt x="13881" y="4"/>
                    </a:moveTo>
                    <a:lnTo>
                      <a:pt x="13881" y="4"/>
                    </a:lnTo>
                    <a:cubicBezTo>
                      <a:pt x="13882" y="4"/>
                      <a:pt x="13883" y="4"/>
                      <a:pt x="13883" y="6"/>
                    </a:cubicBezTo>
                    <a:cubicBezTo>
                      <a:pt x="13883" y="7"/>
                      <a:pt x="13882" y="8"/>
                      <a:pt x="13881" y="8"/>
                    </a:cubicBezTo>
                    <a:lnTo>
                      <a:pt x="13881" y="8"/>
                    </a:lnTo>
                    <a:cubicBezTo>
                      <a:pt x="13880" y="8"/>
                      <a:pt x="13879" y="7"/>
                      <a:pt x="13879" y="6"/>
                    </a:cubicBezTo>
                    <a:cubicBezTo>
                      <a:pt x="13879" y="4"/>
                      <a:pt x="13880" y="4"/>
                      <a:pt x="13881" y="4"/>
                    </a:cubicBezTo>
                    <a:close/>
                    <a:moveTo>
                      <a:pt x="13889" y="4"/>
                    </a:moveTo>
                    <a:lnTo>
                      <a:pt x="13889" y="4"/>
                    </a:lnTo>
                    <a:cubicBezTo>
                      <a:pt x="13890" y="4"/>
                      <a:pt x="13891" y="4"/>
                      <a:pt x="13891" y="6"/>
                    </a:cubicBezTo>
                    <a:cubicBezTo>
                      <a:pt x="13891" y="7"/>
                      <a:pt x="13890" y="8"/>
                      <a:pt x="13889" y="8"/>
                    </a:cubicBezTo>
                    <a:lnTo>
                      <a:pt x="13889" y="8"/>
                    </a:lnTo>
                    <a:cubicBezTo>
                      <a:pt x="13888" y="8"/>
                      <a:pt x="13887" y="7"/>
                      <a:pt x="13887" y="6"/>
                    </a:cubicBezTo>
                    <a:cubicBezTo>
                      <a:pt x="13887" y="4"/>
                      <a:pt x="13888" y="4"/>
                      <a:pt x="13889" y="4"/>
                    </a:cubicBezTo>
                    <a:close/>
                    <a:moveTo>
                      <a:pt x="13897" y="4"/>
                    </a:moveTo>
                    <a:lnTo>
                      <a:pt x="13897" y="4"/>
                    </a:lnTo>
                    <a:cubicBezTo>
                      <a:pt x="13898" y="4"/>
                      <a:pt x="13899" y="4"/>
                      <a:pt x="13899" y="6"/>
                    </a:cubicBezTo>
                    <a:cubicBezTo>
                      <a:pt x="13899" y="7"/>
                      <a:pt x="13898" y="8"/>
                      <a:pt x="13897" y="8"/>
                    </a:cubicBezTo>
                    <a:lnTo>
                      <a:pt x="13897" y="8"/>
                    </a:lnTo>
                    <a:cubicBezTo>
                      <a:pt x="13896" y="8"/>
                      <a:pt x="13895" y="7"/>
                      <a:pt x="13895" y="6"/>
                    </a:cubicBezTo>
                    <a:cubicBezTo>
                      <a:pt x="13895" y="4"/>
                      <a:pt x="13896" y="4"/>
                      <a:pt x="13897" y="4"/>
                    </a:cubicBezTo>
                    <a:close/>
                    <a:moveTo>
                      <a:pt x="13905" y="4"/>
                    </a:moveTo>
                    <a:lnTo>
                      <a:pt x="13905" y="4"/>
                    </a:lnTo>
                    <a:cubicBezTo>
                      <a:pt x="13906" y="4"/>
                      <a:pt x="13907" y="4"/>
                      <a:pt x="13907" y="6"/>
                    </a:cubicBezTo>
                    <a:cubicBezTo>
                      <a:pt x="13907" y="7"/>
                      <a:pt x="13906" y="8"/>
                      <a:pt x="13905" y="8"/>
                    </a:cubicBezTo>
                    <a:lnTo>
                      <a:pt x="13905" y="8"/>
                    </a:lnTo>
                    <a:cubicBezTo>
                      <a:pt x="13904" y="8"/>
                      <a:pt x="13903" y="7"/>
                      <a:pt x="13903" y="6"/>
                    </a:cubicBezTo>
                    <a:cubicBezTo>
                      <a:pt x="13903" y="4"/>
                      <a:pt x="13904" y="4"/>
                      <a:pt x="13905" y="4"/>
                    </a:cubicBezTo>
                    <a:close/>
                    <a:moveTo>
                      <a:pt x="13913" y="4"/>
                    </a:moveTo>
                    <a:lnTo>
                      <a:pt x="13913" y="4"/>
                    </a:lnTo>
                    <a:cubicBezTo>
                      <a:pt x="13914" y="4"/>
                      <a:pt x="13915" y="4"/>
                      <a:pt x="13915" y="6"/>
                    </a:cubicBezTo>
                    <a:cubicBezTo>
                      <a:pt x="13915" y="7"/>
                      <a:pt x="13914" y="8"/>
                      <a:pt x="13913" y="8"/>
                    </a:cubicBezTo>
                    <a:lnTo>
                      <a:pt x="13913" y="8"/>
                    </a:lnTo>
                    <a:cubicBezTo>
                      <a:pt x="13912" y="8"/>
                      <a:pt x="13911" y="7"/>
                      <a:pt x="13911" y="6"/>
                    </a:cubicBezTo>
                    <a:cubicBezTo>
                      <a:pt x="13911" y="4"/>
                      <a:pt x="13912" y="4"/>
                      <a:pt x="13913" y="4"/>
                    </a:cubicBezTo>
                    <a:close/>
                    <a:moveTo>
                      <a:pt x="13921" y="4"/>
                    </a:moveTo>
                    <a:lnTo>
                      <a:pt x="13921" y="4"/>
                    </a:lnTo>
                    <a:cubicBezTo>
                      <a:pt x="13922" y="4"/>
                      <a:pt x="13923" y="4"/>
                      <a:pt x="13923" y="6"/>
                    </a:cubicBezTo>
                    <a:cubicBezTo>
                      <a:pt x="13923" y="7"/>
                      <a:pt x="13922" y="8"/>
                      <a:pt x="13921" y="8"/>
                    </a:cubicBezTo>
                    <a:lnTo>
                      <a:pt x="13921" y="8"/>
                    </a:lnTo>
                    <a:cubicBezTo>
                      <a:pt x="13920" y="8"/>
                      <a:pt x="13919" y="7"/>
                      <a:pt x="13919" y="6"/>
                    </a:cubicBezTo>
                    <a:cubicBezTo>
                      <a:pt x="13919" y="4"/>
                      <a:pt x="13920" y="4"/>
                      <a:pt x="13921" y="4"/>
                    </a:cubicBezTo>
                    <a:close/>
                    <a:moveTo>
                      <a:pt x="13929" y="4"/>
                    </a:moveTo>
                    <a:lnTo>
                      <a:pt x="13929" y="4"/>
                    </a:lnTo>
                    <a:cubicBezTo>
                      <a:pt x="13930" y="4"/>
                      <a:pt x="13931" y="4"/>
                      <a:pt x="13931" y="6"/>
                    </a:cubicBezTo>
                    <a:cubicBezTo>
                      <a:pt x="13931" y="7"/>
                      <a:pt x="13930" y="8"/>
                      <a:pt x="13929" y="8"/>
                    </a:cubicBezTo>
                    <a:lnTo>
                      <a:pt x="13929" y="8"/>
                    </a:lnTo>
                    <a:cubicBezTo>
                      <a:pt x="13928" y="8"/>
                      <a:pt x="13927" y="7"/>
                      <a:pt x="13927" y="6"/>
                    </a:cubicBezTo>
                    <a:cubicBezTo>
                      <a:pt x="13927" y="4"/>
                      <a:pt x="13928" y="4"/>
                      <a:pt x="13929" y="4"/>
                    </a:cubicBezTo>
                    <a:close/>
                    <a:moveTo>
                      <a:pt x="13937" y="4"/>
                    </a:moveTo>
                    <a:lnTo>
                      <a:pt x="13937" y="4"/>
                    </a:lnTo>
                    <a:cubicBezTo>
                      <a:pt x="13938" y="4"/>
                      <a:pt x="13939" y="4"/>
                      <a:pt x="13939" y="6"/>
                    </a:cubicBezTo>
                    <a:cubicBezTo>
                      <a:pt x="13939" y="7"/>
                      <a:pt x="13938" y="8"/>
                      <a:pt x="13937" y="8"/>
                    </a:cubicBezTo>
                    <a:lnTo>
                      <a:pt x="13937" y="8"/>
                    </a:lnTo>
                    <a:cubicBezTo>
                      <a:pt x="13936" y="8"/>
                      <a:pt x="13935" y="7"/>
                      <a:pt x="13935" y="6"/>
                    </a:cubicBezTo>
                    <a:cubicBezTo>
                      <a:pt x="13935" y="4"/>
                      <a:pt x="13936" y="4"/>
                      <a:pt x="13937" y="4"/>
                    </a:cubicBezTo>
                    <a:close/>
                    <a:moveTo>
                      <a:pt x="13945" y="4"/>
                    </a:moveTo>
                    <a:lnTo>
                      <a:pt x="13945" y="4"/>
                    </a:lnTo>
                    <a:cubicBezTo>
                      <a:pt x="13946" y="4"/>
                      <a:pt x="13947" y="4"/>
                      <a:pt x="13947" y="6"/>
                    </a:cubicBezTo>
                    <a:cubicBezTo>
                      <a:pt x="13947" y="7"/>
                      <a:pt x="13946" y="8"/>
                      <a:pt x="13945" y="8"/>
                    </a:cubicBezTo>
                    <a:lnTo>
                      <a:pt x="13945" y="8"/>
                    </a:lnTo>
                    <a:cubicBezTo>
                      <a:pt x="13944" y="8"/>
                      <a:pt x="13943" y="7"/>
                      <a:pt x="13943" y="6"/>
                    </a:cubicBezTo>
                    <a:cubicBezTo>
                      <a:pt x="13943" y="4"/>
                      <a:pt x="13944" y="4"/>
                      <a:pt x="13945" y="4"/>
                    </a:cubicBezTo>
                    <a:close/>
                    <a:moveTo>
                      <a:pt x="13953" y="4"/>
                    </a:moveTo>
                    <a:lnTo>
                      <a:pt x="13953" y="4"/>
                    </a:lnTo>
                    <a:cubicBezTo>
                      <a:pt x="13954" y="4"/>
                      <a:pt x="13955" y="4"/>
                      <a:pt x="13955" y="6"/>
                    </a:cubicBezTo>
                    <a:cubicBezTo>
                      <a:pt x="13955" y="7"/>
                      <a:pt x="13954" y="8"/>
                      <a:pt x="13953" y="8"/>
                    </a:cubicBezTo>
                    <a:lnTo>
                      <a:pt x="13953" y="8"/>
                    </a:lnTo>
                    <a:cubicBezTo>
                      <a:pt x="13952" y="8"/>
                      <a:pt x="13951" y="7"/>
                      <a:pt x="13951" y="6"/>
                    </a:cubicBezTo>
                    <a:cubicBezTo>
                      <a:pt x="13951" y="4"/>
                      <a:pt x="13952" y="4"/>
                      <a:pt x="13953" y="4"/>
                    </a:cubicBezTo>
                    <a:close/>
                    <a:moveTo>
                      <a:pt x="13961" y="4"/>
                    </a:moveTo>
                    <a:lnTo>
                      <a:pt x="13961" y="4"/>
                    </a:lnTo>
                    <a:cubicBezTo>
                      <a:pt x="13962" y="4"/>
                      <a:pt x="13963" y="4"/>
                      <a:pt x="13963" y="6"/>
                    </a:cubicBezTo>
                    <a:cubicBezTo>
                      <a:pt x="13963" y="7"/>
                      <a:pt x="13962" y="8"/>
                      <a:pt x="13961" y="8"/>
                    </a:cubicBezTo>
                    <a:lnTo>
                      <a:pt x="13961" y="8"/>
                    </a:lnTo>
                    <a:cubicBezTo>
                      <a:pt x="13960" y="8"/>
                      <a:pt x="13959" y="7"/>
                      <a:pt x="13959" y="6"/>
                    </a:cubicBezTo>
                    <a:cubicBezTo>
                      <a:pt x="13959" y="4"/>
                      <a:pt x="13960" y="4"/>
                      <a:pt x="13961" y="4"/>
                    </a:cubicBezTo>
                    <a:close/>
                    <a:moveTo>
                      <a:pt x="13969" y="4"/>
                    </a:moveTo>
                    <a:lnTo>
                      <a:pt x="13969" y="4"/>
                    </a:lnTo>
                    <a:cubicBezTo>
                      <a:pt x="13970" y="4"/>
                      <a:pt x="13971" y="4"/>
                      <a:pt x="13971" y="6"/>
                    </a:cubicBezTo>
                    <a:cubicBezTo>
                      <a:pt x="13971" y="7"/>
                      <a:pt x="13970" y="8"/>
                      <a:pt x="13969" y="8"/>
                    </a:cubicBezTo>
                    <a:lnTo>
                      <a:pt x="13969" y="8"/>
                    </a:lnTo>
                    <a:cubicBezTo>
                      <a:pt x="13968" y="8"/>
                      <a:pt x="13967" y="7"/>
                      <a:pt x="13967" y="6"/>
                    </a:cubicBezTo>
                    <a:cubicBezTo>
                      <a:pt x="13967" y="4"/>
                      <a:pt x="13968" y="4"/>
                      <a:pt x="13969" y="4"/>
                    </a:cubicBezTo>
                    <a:close/>
                    <a:moveTo>
                      <a:pt x="13977" y="4"/>
                    </a:moveTo>
                    <a:lnTo>
                      <a:pt x="13977" y="4"/>
                    </a:lnTo>
                    <a:cubicBezTo>
                      <a:pt x="13978" y="4"/>
                      <a:pt x="13979" y="4"/>
                      <a:pt x="13979" y="6"/>
                    </a:cubicBezTo>
                    <a:cubicBezTo>
                      <a:pt x="13979" y="7"/>
                      <a:pt x="13978" y="8"/>
                      <a:pt x="13977" y="8"/>
                    </a:cubicBezTo>
                    <a:lnTo>
                      <a:pt x="13977" y="8"/>
                    </a:lnTo>
                    <a:cubicBezTo>
                      <a:pt x="13976" y="8"/>
                      <a:pt x="13975" y="7"/>
                      <a:pt x="13975" y="6"/>
                    </a:cubicBezTo>
                    <a:cubicBezTo>
                      <a:pt x="13975" y="4"/>
                      <a:pt x="13976" y="4"/>
                      <a:pt x="13977" y="4"/>
                    </a:cubicBezTo>
                    <a:close/>
                    <a:moveTo>
                      <a:pt x="13985" y="4"/>
                    </a:moveTo>
                    <a:lnTo>
                      <a:pt x="13985" y="4"/>
                    </a:lnTo>
                    <a:cubicBezTo>
                      <a:pt x="13986" y="4"/>
                      <a:pt x="13987" y="4"/>
                      <a:pt x="13987" y="6"/>
                    </a:cubicBezTo>
                    <a:cubicBezTo>
                      <a:pt x="13987" y="7"/>
                      <a:pt x="13986" y="8"/>
                      <a:pt x="13985" y="8"/>
                    </a:cubicBezTo>
                    <a:lnTo>
                      <a:pt x="13985" y="8"/>
                    </a:lnTo>
                    <a:cubicBezTo>
                      <a:pt x="13984" y="8"/>
                      <a:pt x="13983" y="7"/>
                      <a:pt x="13983" y="6"/>
                    </a:cubicBezTo>
                    <a:cubicBezTo>
                      <a:pt x="13983" y="4"/>
                      <a:pt x="13984" y="4"/>
                      <a:pt x="13985" y="4"/>
                    </a:cubicBezTo>
                    <a:close/>
                    <a:moveTo>
                      <a:pt x="13993" y="4"/>
                    </a:moveTo>
                    <a:lnTo>
                      <a:pt x="13993" y="4"/>
                    </a:lnTo>
                    <a:cubicBezTo>
                      <a:pt x="13994" y="4"/>
                      <a:pt x="13995" y="4"/>
                      <a:pt x="13995" y="6"/>
                    </a:cubicBezTo>
                    <a:cubicBezTo>
                      <a:pt x="13995" y="7"/>
                      <a:pt x="13994" y="8"/>
                      <a:pt x="13993" y="8"/>
                    </a:cubicBezTo>
                    <a:lnTo>
                      <a:pt x="13993" y="8"/>
                    </a:lnTo>
                    <a:cubicBezTo>
                      <a:pt x="13992" y="8"/>
                      <a:pt x="13991" y="7"/>
                      <a:pt x="13991" y="6"/>
                    </a:cubicBezTo>
                    <a:cubicBezTo>
                      <a:pt x="13991" y="4"/>
                      <a:pt x="13992" y="4"/>
                      <a:pt x="13993" y="4"/>
                    </a:cubicBezTo>
                    <a:close/>
                    <a:moveTo>
                      <a:pt x="14001" y="4"/>
                    </a:moveTo>
                    <a:lnTo>
                      <a:pt x="14001" y="4"/>
                    </a:lnTo>
                    <a:cubicBezTo>
                      <a:pt x="14002" y="4"/>
                      <a:pt x="14003" y="4"/>
                      <a:pt x="14003" y="6"/>
                    </a:cubicBezTo>
                    <a:cubicBezTo>
                      <a:pt x="14003" y="7"/>
                      <a:pt x="14002" y="8"/>
                      <a:pt x="14001" y="8"/>
                    </a:cubicBezTo>
                    <a:lnTo>
                      <a:pt x="14001" y="8"/>
                    </a:lnTo>
                    <a:cubicBezTo>
                      <a:pt x="14000" y="8"/>
                      <a:pt x="13999" y="7"/>
                      <a:pt x="13999" y="6"/>
                    </a:cubicBezTo>
                    <a:cubicBezTo>
                      <a:pt x="13999" y="4"/>
                      <a:pt x="14000" y="4"/>
                      <a:pt x="14001" y="4"/>
                    </a:cubicBezTo>
                    <a:close/>
                    <a:moveTo>
                      <a:pt x="14009" y="4"/>
                    </a:moveTo>
                    <a:lnTo>
                      <a:pt x="14009" y="4"/>
                    </a:lnTo>
                    <a:cubicBezTo>
                      <a:pt x="14010" y="4"/>
                      <a:pt x="14011" y="4"/>
                      <a:pt x="14011" y="6"/>
                    </a:cubicBezTo>
                    <a:cubicBezTo>
                      <a:pt x="14011" y="7"/>
                      <a:pt x="14010" y="8"/>
                      <a:pt x="14009" y="8"/>
                    </a:cubicBezTo>
                    <a:lnTo>
                      <a:pt x="14009" y="8"/>
                    </a:lnTo>
                    <a:cubicBezTo>
                      <a:pt x="14008" y="8"/>
                      <a:pt x="14007" y="7"/>
                      <a:pt x="14007" y="6"/>
                    </a:cubicBezTo>
                    <a:cubicBezTo>
                      <a:pt x="14007" y="4"/>
                      <a:pt x="14008" y="4"/>
                      <a:pt x="14009" y="4"/>
                    </a:cubicBezTo>
                    <a:close/>
                    <a:moveTo>
                      <a:pt x="14017" y="4"/>
                    </a:moveTo>
                    <a:lnTo>
                      <a:pt x="14017" y="4"/>
                    </a:lnTo>
                    <a:cubicBezTo>
                      <a:pt x="14018" y="4"/>
                      <a:pt x="14019" y="4"/>
                      <a:pt x="14019" y="6"/>
                    </a:cubicBezTo>
                    <a:cubicBezTo>
                      <a:pt x="14019" y="7"/>
                      <a:pt x="14018" y="8"/>
                      <a:pt x="14017" y="8"/>
                    </a:cubicBezTo>
                    <a:lnTo>
                      <a:pt x="14017" y="8"/>
                    </a:lnTo>
                    <a:cubicBezTo>
                      <a:pt x="14016" y="8"/>
                      <a:pt x="14015" y="7"/>
                      <a:pt x="14015" y="6"/>
                    </a:cubicBezTo>
                    <a:cubicBezTo>
                      <a:pt x="14015" y="4"/>
                      <a:pt x="14016" y="4"/>
                      <a:pt x="14017" y="4"/>
                    </a:cubicBezTo>
                    <a:close/>
                    <a:moveTo>
                      <a:pt x="14025" y="4"/>
                    </a:moveTo>
                    <a:lnTo>
                      <a:pt x="14025" y="4"/>
                    </a:lnTo>
                    <a:cubicBezTo>
                      <a:pt x="14026" y="4"/>
                      <a:pt x="14027" y="4"/>
                      <a:pt x="14027" y="6"/>
                    </a:cubicBezTo>
                    <a:cubicBezTo>
                      <a:pt x="14027" y="7"/>
                      <a:pt x="14026" y="8"/>
                      <a:pt x="14025" y="8"/>
                    </a:cubicBezTo>
                    <a:lnTo>
                      <a:pt x="14025" y="8"/>
                    </a:lnTo>
                    <a:cubicBezTo>
                      <a:pt x="14024" y="8"/>
                      <a:pt x="14023" y="7"/>
                      <a:pt x="14023" y="6"/>
                    </a:cubicBezTo>
                    <a:cubicBezTo>
                      <a:pt x="14023" y="4"/>
                      <a:pt x="14024" y="4"/>
                      <a:pt x="14025" y="4"/>
                    </a:cubicBezTo>
                    <a:close/>
                    <a:moveTo>
                      <a:pt x="14033" y="4"/>
                    </a:moveTo>
                    <a:lnTo>
                      <a:pt x="14033" y="4"/>
                    </a:lnTo>
                    <a:cubicBezTo>
                      <a:pt x="14034" y="4"/>
                      <a:pt x="14035" y="4"/>
                      <a:pt x="14035" y="6"/>
                    </a:cubicBezTo>
                    <a:cubicBezTo>
                      <a:pt x="14035" y="7"/>
                      <a:pt x="14034" y="8"/>
                      <a:pt x="14033" y="8"/>
                    </a:cubicBezTo>
                    <a:lnTo>
                      <a:pt x="14033" y="8"/>
                    </a:lnTo>
                    <a:cubicBezTo>
                      <a:pt x="14032" y="8"/>
                      <a:pt x="14031" y="7"/>
                      <a:pt x="14031" y="6"/>
                    </a:cubicBezTo>
                    <a:cubicBezTo>
                      <a:pt x="14031" y="4"/>
                      <a:pt x="14032" y="4"/>
                      <a:pt x="14033" y="4"/>
                    </a:cubicBezTo>
                    <a:close/>
                    <a:moveTo>
                      <a:pt x="14041" y="4"/>
                    </a:moveTo>
                    <a:lnTo>
                      <a:pt x="14041" y="4"/>
                    </a:lnTo>
                    <a:cubicBezTo>
                      <a:pt x="14042" y="4"/>
                      <a:pt x="14043" y="4"/>
                      <a:pt x="14043" y="6"/>
                    </a:cubicBezTo>
                    <a:cubicBezTo>
                      <a:pt x="14043" y="7"/>
                      <a:pt x="14042" y="8"/>
                      <a:pt x="14041" y="8"/>
                    </a:cubicBezTo>
                    <a:lnTo>
                      <a:pt x="14041" y="8"/>
                    </a:lnTo>
                    <a:cubicBezTo>
                      <a:pt x="14040" y="8"/>
                      <a:pt x="14039" y="7"/>
                      <a:pt x="14039" y="6"/>
                    </a:cubicBezTo>
                    <a:cubicBezTo>
                      <a:pt x="14039" y="4"/>
                      <a:pt x="14040" y="4"/>
                      <a:pt x="14041" y="4"/>
                    </a:cubicBezTo>
                    <a:close/>
                    <a:moveTo>
                      <a:pt x="14049" y="4"/>
                    </a:moveTo>
                    <a:lnTo>
                      <a:pt x="14049" y="4"/>
                    </a:lnTo>
                    <a:cubicBezTo>
                      <a:pt x="14050" y="4"/>
                      <a:pt x="14051" y="4"/>
                      <a:pt x="14051" y="6"/>
                    </a:cubicBezTo>
                    <a:cubicBezTo>
                      <a:pt x="14051" y="7"/>
                      <a:pt x="14050" y="8"/>
                      <a:pt x="14049" y="8"/>
                    </a:cubicBezTo>
                    <a:lnTo>
                      <a:pt x="14049" y="8"/>
                    </a:lnTo>
                    <a:cubicBezTo>
                      <a:pt x="14048" y="8"/>
                      <a:pt x="14047" y="7"/>
                      <a:pt x="14047" y="6"/>
                    </a:cubicBezTo>
                    <a:cubicBezTo>
                      <a:pt x="14047" y="4"/>
                      <a:pt x="14048" y="4"/>
                      <a:pt x="14049" y="4"/>
                    </a:cubicBezTo>
                    <a:close/>
                    <a:moveTo>
                      <a:pt x="14057" y="4"/>
                    </a:moveTo>
                    <a:lnTo>
                      <a:pt x="14057" y="4"/>
                    </a:lnTo>
                    <a:cubicBezTo>
                      <a:pt x="14058" y="4"/>
                      <a:pt x="14059" y="4"/>
                      <a:pt x="14059" y="6"/>
                    </a:cubicBezTo>
                    <a:cubicBezTo>
                      <a:pt x="14059" y="7"/>
                      <a:pt x="14058" y="8"/>
                      <a:pt x="14057" y="8"/>
                    </a:cubicBezTo>
                    <a:lnTo>
                      <a:pt x="14057" y="8"/>
                    </a:lnTo>
                    <a:cubicBezTo>
                      <a:pt x="14056" y="8"/>
                      <a:pt x="14055" y="7"/>
                      <a:pt x="14055" y="6"/>
                    </a:cubicBezTo>
                    <a:cubicBezTo>
                      <a:pt x="14055" y="4"/>
                      <a:pt x="14056" y="4"/>
                      <a:pt x="14057" y="4"/>
                    </a:cubicBezTo>
                    <a:close/>
                    <a:moveTo>
                      <a:pt x="14065" y="4"/>
                    </a:moveTo>
                    <a:lnTo>
                      <a:pt x="14065" y="4"/>
                    </a:lnTo>
                    <a:cubicBezTo>
                      <a:pt x="14066" y="4"/>
                      <a:pt x="14067" y="4"/>
                      <a:pt x="14067" y="6"/>
                    </a:cubicBezTo>
                    <a:cubicBezTo>
                      <a:pt x="14067" y="7"/>
                      <a:pt x="14066" y="8"/>
                      <a:pt x="14065" y="8"/>
                    </a:cubicBezTo>
                    <a:lnTo>
                      <a:pt x="14065" y="8"/>
                    </a:lnTo>
                    <a:cubicBezTo>
                      <a:pt x="14064" y="8"/>
                      <a:pt x="14063" y="7"/>
                      <a:pt x="14063" y="6"/>
                    </a:cubicBezTo>
                    <a:cubicBezTo>
                      <a:pt x="14063" y="4"/>
                      <a:pt x="14064" y="4"/>
                      <a:pt x="14065" y="4"/>
                    </a:cubicBezTo>
                    <a:close/>
                    <a:moveTo>
                      <a:pt x="14073" y="4"/>
                    </a:moveTo>
                    <a:lnTo>
                      <a:pt x="14073" y="4"/>
                    </a:lnTo>
                    <a:cubicBezTo>
                      <a:pt x="14074" y="4"/>
                      <a:pt x="14075" y="4"/>
                      <a:pt x="14075" y="6"/>
                    </a:cubicBezTo>
                    <a:cubicBezTo>
                      <a:pt x="14075" y="7"/>
                      <a:pt x="14074" y="8"/>
                      <a:pt x="14073" y="8"/>
                    </a:cubicBezTo>
                    <a:lnTo>
                      <a:pt x="14073" y="8"/>
                    </a:lnTo>
                    <a:cubicBezTo>
                      <a:pt x="14072" y="8"/>
                      <a:pt x="14071" y="7"/>
                      <a:pt x="14071" y="6"/>
                    </a:cubicBezTo>
                    <a:cubicBezTo>
                      <a:pt x="14071" y="4"/>
                      <a:pt x="14072" y="4"/>
                      <a:pt x="14073" y="4"/>
                    </a:cubicBezTo>
                    <a:close/>
                    <a:moveTo>
                      <a:pt x="14081" y="4"/>
                    </a:moveTo>
                    <a:lnTo>
                      <a:pt x="14081" y="4"/>
                    </a:lnTo>
                    <a:cubicBezTo>
                      <a:pt x="14082" y="4"/>
                      <a:pt x="14083" y="4"/>
                      <a:pt x="14083" y="6"/>
                    </a:cubicBezTo>
                    <a:cubicBezTo>
                      <a:pt x="14083" y="7"/>
                      <a:pt x="14082" y="8"/>
                      <a:pt x="14081" y="8"/>
                    </a:cubicBezTo>
                    <a:lnTo>
                      <a:pt x="14081" y="8"/>
                    </a:lnTo>
                    <a:cubicBezTo>
                      <a:pt x="14080" y="8"/>
                      <a:pt x="14079" y="7"/>
                      <a:pt x="14079" y="6"/>
                    </a:cubicBezTo>
                    <a:cubicBezTo>
                      <a:pt x="14079" y="4"/>
                      <a:pt x="14080" y="4"/>
                      <a:pt x="14081" y="4"/>
                    </a:cubicBezTo>
                    <a:close/>
                    <a:moveTo>
                      <a:pt x="14089" y="4"/>
                    </a:moveTo>
                    <a:lnTo>
                      <a:pt x="14089" y="4"/>
                    </a:lnTo>
                    <a:cubicBezTo>
                      <a:pt x="14090" y="4"/>
                      <a:pt x="14091" y="4"/>
                      <a:pt x="14091" y="6"/>
                    </a:cubicBezTo>
                    <a:cubicBezTo>
                      <a:pt x="14091" y="7"/>
                      <a:pt x="14090" y="8"/>
                      <a:pt x="14089" y="8"/>
                    </a:cubicBezTo>
                    <a:lnTo>
                      <a:pt x="14089" y="8"/>
                    </a:lnTo>
                    <a:cubicBezTo>
                      <a:pt x="14088" y="8"/>
                      <a:pt x="14087" y="7"/>
                      <a:pt x="14087" y="6"/>
                    </a:cubicBezTo>
                    <a:cubicBezTo>
                      <a:pt x="14087" y="4"/>
                      <a:pt x="14088" y="4"/>
                      <a:pt x="14089" y="4"/>
                    </a:cubicBezTo>
                    <a:close/>
                    <a:moveTo>
                      <a:pt x="14097" y="4"/>
                    </a:moveTo>
                    <a:lnTo>
                      <a:pt x="14097" y="4"/>
                    </a:lnTo>
                    <a:cubicBezTo>
                      <a:pt x="14098" y="4"/>
                      <a:pt x="14099" y="4"/>
                      <a:pt x="14099" y="6"/>
                    </a:cubicBezTo>
                    <a:cubicBezTo>
                      <a:pt x="14099" y="7"/>
                      <a:pt x="14098" y="8"/>
                      <a:pt x="14097" y="8"/>
                    </a:cubicBezTo>
                    <a:lnTo>
                      <a:pt x="14097" y="8"/>
                    </a:lnTo>
                    <a:cubicBezTo>
                      <a:pt x="14096" y="8"/>
                      <a:pt x="14095" y="7"/>
                      <a:pt x="14095" y="6"/>
                    </a:cubicBezTo>
                    <a:cubicBezTo>
                      <a:pt x="14095" y="4"/>
                      <a:pt x="14096" y="4"/>
                      <a:pt x="14097" y="4"/>
                    </a:cubicBezTo>
                    <a:close/>
                    <a:moveTo>
                      <a:pt x="14105" y="4"/>
                    </a:moveTo>
                    <a:lnTo>
                      <a:pt x="14105" y="4"/>
                    </a:lnTo>
                    <a:cubicBezTo>
                      <a:pt x="14106" y="4"/>
                      <a:pt x="14107" y="4"/>
                      <a:pt x="14107" y="6"/>
                    </a:cubicBezTo>
                    <a:cubicBezTo>
                      <a:pt x="14107" y="7"/>
                      <a:pt x="14106" y="8"/>
                      <a:pt x="14105" y="8"/>
                    </a:cubicBezTo>
                    <a:lnTo>
                      <a:pt x="14105" y="8"/>
                    </a:lnTo>
                    <a:cubicBezTo>
                      <a:pt x="14104" y="8"/>
                      <a:pt x="14103" y="7"/>
                      <a:pt x="14103" y="6"/>
                    </a:cubicBezTo>
                    <a:cubicBezTo>
                      <a:pt x="14103" y="4"/>
                      <a:pt x="14104" y="4"/>
                      <a:pt x="14105" y="4"/>
                    </a:cubicBezTo>
                    <a:close/>
                    <a:moveTo>
                      <a:pt x="14113" y="4"/>
                    </a:moveTo>
                    <a:lnTo>
                      <a:pt x="14113" y="4"/>
                    </a:lnTo>
                    <a:cubicBezTo>
                      <a:pt x="14114" y="4"/>
                      <a:pt x="14115" y="4"/>
                      <a:pt x="14115" y="6"/>
                    </a:cubicBezTo>
                    <a:cubicBezTo>
                      <a:pt x="14115" y="7"/>
                      <a:pt x="14114" y="8"/>
                      <a:pt x="14113" y="8"/>
                    </a:cubicBezTo>
                    <a:lnTo>
                      <a:pt x="14113" y="8"/>
                    </a:lnTo>
                    <a:cubicBezTo>
                      <a:pt x="14112" y="8"/>
                      <a:pt x="14111" y="7"/>
                      <a:pt x="14111" y="6"/>
                    </a:cubicBezTo>
                    <a:cubicBezTo>
                      <a:pt x="14111" y="4"/>
                      <a:pt x="14112" y="4"/>
                      <a:pt x="14113" y="4"/>
                    </a:cubicBezTo>
                    <a:close/>
                    <a:moveTo>
                      <a:pt x="14121" y="4"/>
                    </a:moveTo>
                    <a:lnTo>
                      <a:pt x="14121" y="4"/>
                    </a:lnTo>
                    <a:cubicBezTo>
                      <a:pt x="14122" y="4"/>
                      <a:pt x="14123" y="4"/>
                      <a:pt x="14123" y="6"/>
                    </a:cubicBezTo>
                    <a:cubicBezTo>
                      <a:pt x="14123" y="7"/>
                      <a:pt x="14122" y="8"/>
                      <a:pt x="14121" y="8"/>
                    </a:cubicBezTo>
                    <a:lnTo>
                      <a:pt x="14121" y="8"/>
                    </a:lnTo>
                    <a:cubicBezTo>
                      <a:pt x="14120" y="8"/>
                      <a:pt x="14119" y="7"/>
                      <a:pt x="14119" y="6"/>
                    </a:cubicBezTo>
                    <a:cubicBezTo>
                      <a:pt x="14119" y="4"/>
                      <a:pt x="14120" y="4"/>
                      <a:pt x="14121" y="4"/>
                    </a:cubicBezTo>
                    <a:close/>
                    <a:moveTo>
                      <a:pt x="14129" y="4"/>
                    </a:moveTo>
                    <a:lnTo>
                      <a:pt x="14129" y="4"/>
                    </a:lnTo>
                    <a:cubicBezTo>
                      <a:pt x="14130" y="4"/>
                      <a:pt x="14131" y="4"/>
                      <a:pt x="14131" y="6"/>
                    </a:cubicBezTo>
                    <a:cubicBezTo>
                      <a:pt x="14131" y="7"/>
                      <a:pt x="14130" y="8"/>
                      <a:pt x="14129" y="8"/>
                    </a:cubicBezTo>
                    <a:lnTo>
                      <a:pt x="14129" y="8"/>
                    </a:lnTo>
                    <a:cubicBezTo>
                      <a:pt x="14128" y="8"/>
                      <a:pt x="14127" y="7"/>
                      <a:pt x="14127" y="6"/>
                    </a:cubicBezTo>
                    <a:cubicBezTo>
                      <a:pt x="14127" y="4"/>
                      <a:pt x="14128" y="4"/>
                      <a:pt x="14129" y="4"/>
                    </a:cubicBezTo>
                    <a:close/>
                    <a:moveTo>
                      <a:pt x="14137" y="4"/>
                    </a:moveTo>
                    <a:lnTo>
                      <a:pt x="14137" y="4"/>
                    </a:lnTo>
                    <a:cubicBezTo>
                      <a:pt x="14138" y="4"/>
                      <a:pt x="14139" y="4"/>
                      <a:pt x="14139" y="6"/>
                    </a:cubicBezTo>
                    <a:cubicBezTo>
                      <a:pt x="14139" y="7"/>
                      <a:pt x="14138" y="8"/>
                      <a:pt x="14137" y="8"/>
                    </a:cubicBezTo>
                    <a:lnTo>
                      <a:pt x="14137" y="8"/>
                    </a:lnTo>
                    <a:cubicBezTo>
                      <a:pt x="14136" y="8"/>
                      <a:pt x="14135" y="7"/>
                      <a:pt x="14135" y="6"/>
                    </a:cubicBezTo>
                    <a:cubicBezTo>
                      <a:pt x="14135" y="4"/>
                      <a:pt x="14136" y="4"/>
                      <a:pt x="14137" y="4"/>
                    </a:cubicBezTo>
                    <a:close/>
                    <a:moveTo>
                      <a:pt x="14145" y="4"/>
                    </a:moveTo>
                    <a:lnTo>
                      <a:pt x="14145" y="4"/>
                    </a:lnTo>
                    <a:cubicBezTo>
                      <a:pt x="14146" y="4"/>
                      <a:pt x="14147" y="4"/>
                      <a:pt x="14147" y="6"/>
                    </a:cubicBezTo>
                    <a:cubicBezTo>
                      <a:pt x="14147" y="7"/>
                      <a:pt x="14146" y="8"/>
                      <a:pt x="14145" y="8"/>
                    </a:cubicBezTo>
                    <a:lnTo>
                      <a:pt x="14145" y="8"/>
                    </a:lnTo>
                    <a:cubicBezTo>
                      <a:pt x="14144" y="8"/>
                      <a:pt x="14143" y="7"/>
                      <a:pt x="14143" y="6"/>
                    </a:cubicBezTo>
                    <a:cubicBezTo>
                      <a:pt x="14143" y="4"/>
                      <a:pt x="14144" y="4"/>
                      <a:pt x="14145" y="4"/>
                    </a:cubicBezTo>
                    <a:close/>
                    <a:moveTo>
                      <a:pt x="14153" y="4"/>
                    </a:moveTo>
                    <a:lnTo>
                      <a:pt x="14153" y="4"/>
                    </a:lnTo>
                    <a:cubicBezTo>
                      <a:pt x="14154" y="4"/>
                      <a:pt x="14155" y="4"/>
                      <a:pt x="14155" y="6"/>
                    </a:cubicBezTo>
                    <a:cubicBezTo>
                      <a:pt x="14155" y="7"/>
                      <a:pt x="14154" y="8"/>
                      <a:pt x="14153" y="8"/>
                    </a:cubicBezTo>
                    <a:lnTo>
                      <a:pt x="14153" y="8"/>
                    </a:lnTo>
                    <a:cubicBezTo>
                      <a:pt x="14152" y="8"/>
                      <a:pt x="14151" y="7"/>
                      <a:pt x="14151" y="6"/>
                    </a:cubicBezTo>
                    <a:cubicBezTo>
                      <a:pt x="14151" y="4"/>
                      <a:pt x="14152" y="4"/>
                      <a:pt x="14153" y="4"/>
                    </a:cubicBezTo>
                    <a:close/>
                    <a:moveTo>
                      <a:pt x="14161" y="4"/>
                    </a:moveTo>
                    <a:lnTo>
                      <a:pt x="14161" y="4"/>
                    </a:lnTo>
                    <a:cubicBezTo>
                      <a:pt x="14162" y="4"/>
                      <a:pt x="14163" y="4"/>
                      <a:pt x="14163" y="6"/>
                    </a:cubicBezTo>
                    <a:cubicBezTo>
                      <a:pt x="14163" y="7"/>
                      <a:pt x="14162" y="8"/>
                      <a:pt x="14161" y="8"/>
                    </a:cubicBezTo>
                    <a:lnTo>
                      <a:pt x="14161" y="8"/>
                    </a:lnTo>
                    <a:cubicBezTo>
                      <a:pt x="14160" y="8"/>
                      <a:pt x="14159" y="7"/>
                      <a:pt x="14159" y="6"/>
                    </a:cubicBezTo>
                    <a:cubicBezTo>
                      <a:pt x="14159" y="4"/>
                      <a:pt x="14160" y="4"/>
                      <a:pt x="14161" y="4"/>
                    </a:cubicBezTo>
                    <a:close/>
                    <a:moveTo>
                      <a:pt x="14169" y="4"/>
                    </a:moveTo>
                    <a:lnTo>
                      <a:pt x="14169" y="4"/>
                    </a:lnTo>
                    <a:cubicBezTo>
                      <a:pt x="14171" y="4"/>
                      <a:pt x="14171" y="4"/>
                      <a:pt x="14171" y="6"/>
                    </a:cubicBezTo>
                    <a:cubicBezTo>
                      <a:pt x="14171" y="7"/>
                      <a:pt x="14171" y="8"/>
                      <a:pt x="14169" y="8"/>
                    </a:cubicBezTo>
                    <a:lnTo>
                      <a:pt x="14169" y="8"/>
                    </a:lnTo>
                    <a:cubicBezTo>
                      <a:pt x="14168" y="8"/>
                      <a:pt x="14167" y="7"/>
                      <a:pt x="14167" y="6"/>
                    </a:cubicBezTo>
                    <a:cubicBezTo>
                      <a:pt x="14167" y="4"/>
                      <a:pt x="14168" y="4"/>
                      <a:pt x="14169" y="4"/>
                    </a:cubicBezTo>
                    <a:close/>
                    <a:moveTo>
                      <a:pt x="14177" y="4"/>
                    </a:moveTo>
                    <a:lnTo>
                      <a:pt x="14177" y="4"/>
                    </a:lnTo>
                    <a:cubicBezTo>
                      <a:pt x="14179" y="4"/>
                      <a:pt x="14179" y="4"/>
                      <a:pt x="14179" y="6"/>
                    </a:cubicBezTo>
                    <a:cubicBezTo>
                      <a:pt x="14179" y="7"/>
                      <a:pt x="14179" y="8"/>
                      <a:pt x="14177" y="8"/>
                    </a:cubicBezTo>
                    <a:lnTo>
                      <a:pt x="14177" y="8"/>
                    </a:lnTo>
                    <a:cubicBezTo>
                      <a:pt x="14176" y="8"/>
                      <a:pt x="14175" y="7"/>
                      <a:pt x="14175" y="6"/>
                    </a:cubicBezTo>
                    <a:cubicBezTo>
                      <a:pt x="14175" y="4"/>
                      <a:pt x="14176" y="4"/>
                      <a:pt x="14177" y="4"/>
                    </a:cubicBezTo>
                    <a:close/>
                    <a:moveTo>
                      <a:pt x="14185" y="4"/>
                    </a:moveTo>
                    <a:lnTo>
                      <a:pt x="14185" y="4"/>
                    </a:lnTo>
                    <a:cubicBezTo>
                      <a:pt x="14187" y="4"/>
                      <a:pt x="14187" y="4"/>
                      <a:pt x="14187" y="6"/>
                    </a:cubicBezTo>
                    <a:cubicBezTo>
                      <a:pt x="14187" y="7"/>
                      <a:pt x="14187" y="8"/>
                      <a:pt x="14185" y="8"/>
                    </a:cubicBezTo>
                    <a:lnTo>
                      <a:pt x="14185" y="8"/>
                    </a:lnTo>
                    <a:cubicBezTo>
                      <a:pt x="14184" y="8"/>
                      <a:pt x="14183" y="7"/>
                      <a:pt x="14183" y="6"/>
                    </a:cubicBezTo>
                    <a:cubicBezTo>
                      <a:pt x="14183" y="4"/>
                      <a:pt x="14184" y="4"/>
                      <a:pt x="14185" y="4"/>
                    </a:cubicBezTo>
                    <a:close/>
                    <a:moveTo>
                      <a:pt x="14193" y="4"/>
                    </a:moveTo>
                    <a:lnTo>
                      <a:pt x="14193" y="4"/>
                    </a:lnTo>
                    <a:cubicBezTo>
                      <a:pt x="14195" y="4"/>
                      <a:pt x="14195" y="4"/>
                      <a:pt x="14195" y="6"/>
                    </a:cubicBezTo>
                    <a:cubicBezTo>
                      <a:pt x="14195" y="7"/>
                      <a:pt x="14195" y="8"/>
                      <a:pt x="14193" y="8"/>
                    </a:cubicBezTo>
                    <a:lnTo>
                      <a:pt x="14193" y="8"/>
                    </a:lnTo>
                    <a:cubicBezTo>
                      <a:pt x="14192" y="8"/>
                      <a:pt x="14191" y="7"/>
                      <a:pt x="14191" y="6"/>
                    </a:cubicBezTo>
                    <a:cubicBezTo>
                      <a:pt x="14191" y="4"/>
                      <a:pt x="14192" y="4"/>
                      <a:pt x="14193" y="4"/>
                    </a:cubicBezTo>
                    <a:close/>
                    <a:moveTo>
                      <a:pt x="14201" y="4"/>
                    </a:moveTo>
                    <a:lnTo>
                      <a:pt x="14201" y="4"/>
                    </a:lnTo>
                    <a:cubicBezTo>
                      <a:pt x="14203" y="4"/>
                      <a:pt x="14203" y="4"/>
                      <a:pt x="14203" y="6"/>
                    </a:cubicBezTo>
                    <a:cubicBezTo>
                      <a:pt x="14203" y="7"/>
                      <a:pt x="14203" y="8"/>
                      <a:pt x="14201" y="8"/>
                    </a:cubicBezTo>
                    <a:lnTo>
                      <a:pt x="14201" y="8"/>
                    </a:lnTo>
                    <a:cubicBezTo>
                      <a:pt x="14200" y="8"/>
                      <a:pt x="14199" y="7"/>
                      <a:pt x="14199" y="6"/>
                    </a:cubicBezTo>
                    <a:cubicBezTo>
                      <a:pt x="14199" y="4"/>
                      <a:pt x="14200" y="4"/>
                      <a:pt x="14201" y="4"/>
                    </a:cubicBezTo>
                    <a:close/>
                    <a:moveTo>
                      <a:pt x="14209" y="4"/>
                    </a:moveTo>
                    <a:lnTo>
                      <a:pt x="14209" y="4"/>
                    </a:lnTo>
                    <a:cubicBezTo>
                      <a:pt x="14211" y="4"/>
                      <a:pt x="14211" y="4"/>
                      <a:pt x="14211" y="6"/>
                    </a:cubicBezTo>
                    <a:cubicBezTo>
                      <a:pt x="14211" y="7"/>
                      <a:pt x="14211" y="8"/>
                      <a:pt x="14209" y="8"/>
                    </a:cubicBezTo>
                    <a:lnTo>
                      <a:pt x="14209" y="8"/>
                    </a:lnTo>
                    <a:cubicBezTo>
                      <a:pt x="14208" y="8"/>
                      <a:pt x="14207" y="7"/>
                      <a:pt x="14207" y="6"/>
                    </a:cubicBezTo>
                    <a:cubicBezTo>
                      <a:pt x="14207" y="4"/>
                      <a:pt x="14208" y="4"/>
                      <a:pt x="14209" y="4"/>
                    </a:cubicBezTo>
                    <a:close/>
                    <a:moveTo>
                      <a:pt x="14217" y="4"/>
                    </a:moveTo>
                    <a:lnTo>
                      <a:pt x="14217" y="4"/>
                    </a:lnTo>
                    <a:cubicBezTo>
                      <a:pt x="14219" y="4"/>
                      <a:pt x="14219" y="4"/>
                      <a:pt x="14219" y="6"/>
                    </a:cubicBezTo>
                    <a:cubicBezTo>
                      <a:pt x="14219" y="7"/>
                      <a:pt x="14219" y="8"/>
                      <a:pt x="14217" y="8"/>
                    </a:cubicBezTo>
                    <a:lnTo>
                      <a:pt x="14217" y="8"/>
                    </a:lnTo>
                    <a:cubicBezTo>
                      <a:pt x="14216" y="8"/>
                      <a:pt x="14215" y="7"/>
                      <a:pt x="14215" y="6"/>
                    </a:cubicBezTo>
                    <a:cubicBezTo>
                      <a:pt x="14215" y="4"/>
                      <a:pt x="14216" y="4"/>
                      <a:pt x="14217" y="4"/>
                    </a:cubicBezTo>
                    <a:close/>
                    <a:moveTo>
                      <a:pt x="14225" y="4"/>
                    </a:moveTo>
                    <a:lnTo>
                      <a:pt x="14225" y="4"/>
                    </a:lnTo>
                    <a:cubicBezTo>
                      <a:pt x="14227" y="4"/>
                      <a:pt x="14227" y="4"/>
                      <a:pt x="14227" y="6"/>
                    </a:cubicBezTo>
                    <a:cubicBezTo>
                      <a:pt x="14227" y="7"/>
                      <a:pt x="14227" y="8"/>
                      <a:pt x="14225" y="8"/>
                    </a:cubicBezTo>
                    <a:lnTo>
                      <a:pt x="14225" y="8"/>
                    </a:lnTo>
                    <a:cubicBezTo>
                      <a:pt x="14224" y="8"/>
                      <a:pt x="14223" y="7"/>
                      <a:pt x="14223" y="6"/>
                    </a:cubicBezTo>
                    <a:cubicBezTo>
                      <a:pt x="14223" y="4"/>
                      <a:pt x="14224" y="4"/>
                      <a:pt x="14225" y="4"/>
                    </a:cubicBezTo>
                    <a:close/>
                    <a:moveTo>
                      <a:pt x="14233" y="4"/>
                    </a:moveTo>
                    <a:lnTo>
                      <a:pt x="14233" y="4"/>
                    </a:lnTo>
                    <a:cubicBezTo>
                      <a:pt x="14235" y="4"/>
                      <a:pt x="14235" y="4"/>
                      <a:pt x="14235" y="6"/>
                    </a:cubicBezTo>
                    <a:cubicBezTo>
                      <a:pt x="14235" y="7"/>
                      <a:pt x="14235" y="8"/>
                      <a:pt x="14233" y="8"/>
                    </a:cubicBezTo>
                    <a:lnTo>
                      <a:pt x="14233" y="8"/>
                    </a:lnTo>
                    <a:cubicBezTo>
                      <a:pt x="14232" y="8"/>
                      <a:pt x="14231" y="7"/>
                      <a:pt x="14231" y="6"/>
                    </a:cubicBezTo>
                    <a:cubicBezTo>
                      <a:pt x="14231" y="4"/>
                      <a:pt x="14232" y="4"/>
                      <a:pt x="14233" y="4"/>
                    </a:cubicBezTo>
                    <a:close/>
                    <a:moveTo>
                      <a:pt x="14241" y="4"/>
                    </a:moveTo>
                    <a:lnTo>
                      <a:pt x="14241" y="4"/>
                    </a:lnTo>
                    <a:cubicBezTo>
                      <a:pt x="14243" y="4"/>
                      <a:pt x="14243" y="4"/>
                      <a:pt x="14243" y="6"/>
                    </a:cubicBezTo>
                    <a:cubicBezTo>
                      <a:pt x="14243" y="7"/>
                      <a:pt x="14243" y="8"/>
                      <a:pt x="14241" y="8"/>
                    </a:cubicBezTo>
                    <a:lnTo>
                      <a:pt x="14241" y="8"/>
                    </a:lnTo>
                    <a:cubicBezTo>
                      <a:pt x="14240" y="8"/>
                      <a:pt x="14239" y="7"/>
                      <a:pt x="14239" y="6"/>
                    </a:cubicBezTo>
                    <a:cubicBezTo>
                      <a:pt x="14239" y="4"/>
                      <a:pt x="14240" y="4"/>
                      <a:pt x="14241" y="4"/>
                    </a:cubicBezTo>
                    <a:close/>
                    <a:moveTo>
                      <a:pt x="14249" y="4"/>
                    </a:moveTo>
                    <a:lnTo>
                      <a:pt x="14249" y="4"/>
                    </a:lnTo>
                    <a:cubicBezTo>
                      <a:pt x="14251" y="4"/>
                      <a:pt x="14251" y="4"/>
                      <a:pt x="14251" y="6"/>
                    </a:cubicBezTo>
                    <a:cubicBezTo>
                      <a:pt x="14251" y="7"/>
                      <a:pt x="14251" y="8"/>
                      <a:pt x="14249" y="8"/>
                    </a:cubicBezTo>
                    <a:lnTo>
                      <a:pt x="14249" y="8"/>
                    </a:lnTo>
                    <a:cubicBezTo>
                      <a:pt x="14248" y="8"/>
                      <a:pt x="14247" y="7"/>
                      <a:pt x="14247" y="6"/>
                    </a:cubicBezTo>
                    <a:cubicBezTo>
                      <a:pt x="14247" y="4"/>
                      <a:pt x="14248" y="4"/>
                      <a:pt x="14249" y="4"/>
                    </a:cubicBezTo>
                    <a:close/>
                    <a:moveTo>
                      <a:pt x="14257" y="4"/>
                    </a:moveTo>
                    <a:lnTo>
                      <a:pt x="14257" y="4"/>
                    </a:lnTo>
                    <a:cubicBezTo>
                      <a:pt x="14259" y="4"/>
                      <a:pt x="14259" y="4"/>
                      <a:pt x="14259" y="6"/>
                    </a:cubicBezTo>
                    <a:cubicBezTo>
                      <a:pt x="14259" y="7"/>
                      <a:pt x="14259" y="8"/>
                      <a:pt x="14257" y="8"/>
                    </a:cubicBezTo>
                    <a:lnTo>
                      <a:pt x="14257" y="8"/>
                    </a:lnTo>
                    <a:cubicBezTo>
                      <a:pt x="14256" y="8"/>
                      <a:pt x="14255" y="7"/>
                      <a:pt x="14255" y="6"/>
                    </a:cubicBezTo>
                    <a:cubicBezTo>
                      <a:pt x="14255" y="4"/>
                      <a:pt x="14256" y="4"/>
                      <a:pt x="14257" y="4"/>
                    </a:cubicBezTo>
                    <a:close/>
                    <a:moveTo>
                      <a:pt x="14265" y="4"/>
                    </a:moveTo>
                    <a:lnTo>
                      <a:pt x="14265" y="4"/>
                    </a:lnTo>
                    <a:cubicBezTo>
                      <a:pt x="14267" y="4"/>
                      <a:pt x="14267" y="4"/>
                      <a:pt x="14267" y="6"/>
                    </a:cubicBezTo>
                    <a:cubicBezTo>
                      <a:pt x="14267" y="7"/>
                      <a:pt x="14267" y="8"/>
                      <a:pt x="14265" y="8"/>
                    </a:cubicBezTo>
                    <a:lnTo>
                      <a:pt x="14265" y="8"/>
                    </a:lnTo>
                    <a:cubicBezTo>
                      <a:pt x="14264" y="8"/>
                      <a:pt x="14263" y="7"/>
                      <a:pt x="14263" y="6"/>
                    </a:cubicBezTo>
                    <a:cubicBezTo>
                      <a:pt x="14263" y="4"/>
                      <a:pt x="14264" y="4"/>
                      <a:pt x="14265" y="4"/>
                    </a:cubicBezTo>
                    <a:close/>
                    <a:moveTo>
                      <a:pt x="14273" y="4"/>
                    </a:moveTo>
                    <a:lnTo>
                      <a:pt x="14273" y="4"/>
                    </a:lnTo>
                    <a:cubicBezTo>
                      <a:pt x="14275" y="4"/>
                      <a:pt x="14275" y="4"/>
                      <a:pt x="14275" y="6"/>
                    </a:cubicBezTo>
                    <a:cubicBezTo>
                      <a:pt x="14275" y="7"/>
                      <a:pt x="14275" y="8"/>
                      <a:pt x="14273" y="8"/>
                    </a:cubicBezTo>
                    <a:lnTo>
                      <a:pt x="14273" y="8"/>
                    </a:lnTo>
                    <a:cubicBezTo>
                      <a:pt x="14272" y="8"/>
                      <a:pt x="14271" y="7"/>
                      <a:pt x="14271" y="6"/>
                    </a:cubicBezTo>
                    <a:cubicBezTo>
                      <a:pt x="14271" y="4"/>
                      <a:pt x="14272" y="4"/>
                      <a:pt x="14273" y="4"/>
                    </a:cubicBezTo>
                    <a:close/>
                    <a:moveTo>
                      <a:pt x="14281" y="4"/>
                    </a:moveTo>
                    <a:lnTo>
                      <a:pt x="14281" y="4"/>
                    </a:lnTo>
                    <a:cubicBezTo>
                      <a:pt x="14283" y="4"/>
                      <a:pt x="14283" y="4"/>
                      <a:pt x="14283" y="6"/>
                    </a:cubicBezTo>
                    <a:cubicBezTo>
                      <a:pt x="14283" y="7"/>
                      <a:pt x="14283" y="8"/>
                      <a:pt x="14281" y="8"/>
                    </a:cubicBezTo>
                    <a:lnTo>
                      <a:pt x="14281" y="8"/>
                    </a:lnTo>
                    <a:cubicBezTo>
                      <a:pt x="14280" y="8"/>
                      <a:pt x="14279" y="7"/>
                      <a:pt x="14279" y="6"/>
                    </a:cubicBezTo>
                    <a:cubicBezTo>
                      <a:pt x="14279" y="4"/>
                      <a:pt x="14280" y="4"/>
                      <a:pt x="14281" y="4"/>
                    </a:cubicBezTo>
                    <a:close/>
                    <a:moveTo>
                      <a:pt x="14289" y="4"/>
                    </a:moveTo>
                    <a:lnTo>
                      <a:pt x="14289" y="4"/>
                    </a:lnTo>
                    <a:cubicBezTo>
                      <a:pt x="14291" y="4"/>
                      <a:pt x="14291" y="4"/>
                      <a:pt x="14291" y="6"/>
                    </a:cubicBezTo>
                    <a:cubicBezTo>
                      <a:pt x="14291" y="7"/>
                      <a:pt x="14291" y="8"/>
                      <a:pt x="14289" y="8"/>
                    </a:cubicBezTo>
                    <a:lnTo>
                      <a:pt x="14289" y="8"/>
                    </a:lnTo>
                    <a:cubicBezTo>
                      <a:pt x="14288" y="8"/>
                      <a:pt x="14287" y="7"/>
                      <a:pt x="14287" y="6"/>
                    </a:cubicBezTo>
                    <a:cubicBezTo>
                      <a:pt x="14287" y="4"/>
                      <a:pt x="14288" y="4"/>
                      <a:pt x="14289" y="4"/>
                    </a:cubicBezTo>
                    <a:close/>
                    <a:moveTo>
                      <a:pt x="14297" y="4"/>
                    </a:moveTo>
                    <a:lnTo>
                      <a:pt x="14297" y="4"/>
                    </a:lnTo>
                    <a:cubicBezTo>
                      <a:pt x="14299" y="4"/>
                      <a:pt x="14299" y="4"/>
                      <a:pt x="14299" y="6"/>
                    </a:cubicBezTo>
                    <a:cubicBezTo>
                      <a:pt x="14299" y="7"/>
                      <a:pt x="14299" y="8"/>
                      <a:pt x="14297" y="8"/>
                    </a:cubicBezTo>
                    <a:lnTo>
                      <a:pt x="14297" y="8"/>
                    </a:lnTo>
                    <a:cubicBezTo>
                      <a:pt x="14296" y="8"/>
                      <a:pt x="14295" y="7"/>
                      <a:pt x="14295" y="6"/>
                    </a:cubicBezTo>
                    <a:cubicBezTo>
                      <a:pt x="14295" y="4"/>
                      <a:pt x="14296" y="4"/>
                      <a:pt x="14297" y="4"/>
                    </a:cubicBezTo>
                    <a:close/>
                    <a:moveTo>
                      <a:pt x="14305" y="4"/>
                    </a:moveTo>
                    <a:lnTo>
                      <a:pt x="14306" y="4"/>
                    </a:lnTo>
                    <a:cubicBezTo>
                      <a:pt x="14307" y="4"/>
                      <a:pt x="14308" y="5"/>
                      <a:pt x="14308" y="6"/>
                    </a:cubicBezTo>
                    <a:cubicBezTo>
                      <a:pt x="14308" y="7"/>
                      <a:pt x="14307" y="8"/>
                      <a:pt x="14306" y="8"/>
                    </a:cubicBezTo>
                    <a:lnTo>
                      <a:pt x="14305" y="8"/>
                    </a:lnTo>
                    <a:cubicBezTo>
                      <a:pt x="14304" y="8"/>
                      <a:pt x="14303" y="7"/>
                      <a:pt x="14303" y="6"/>
                    </a:cubicBezTo>
                    <a:cubicBezTo>
                      <a:pt x="14303" y="5"/>
                      <a:pt x="14304" y="4"/>
                      <a:pt x="14305" y="4"/>
                    </a:cubicBezTo>
                    <a:close/>
                    <a:moveTo>
                      <a:pt x="14314" y="4"/>
                    </a:moveTo>
                    <a:lnTo>
                      <a:pt x="14314" y="4"/>
                    </a:lnTo>
                    <a:cubicBezTo>
                      <a:pt x="14315" y="4"/>
                      <a:pt x="14316" y="5"/>
                      <a:pt x="14316" y="6"/>
                    </a:cubicBezTo>
                    <a:cubicBezTo>
                      <a:pt x="14316" y="7"/>
                      <a:pt x="14315" y="8"/>
                      <a:pt x="14314" y="8"/>
                    </a:cubicBezTo>
                    <a:lnTo>
                      <a:pt x="14314" y="8"/>
                    </a:lnTo>
                    <a:cubicBezTo>
                      <a:pt x="14312" y="8"/>
                      <a:pt x="14312" y="7"/>
                      <a:pt x="14312" y="6"/>
                    </a:cubicBezTo>
                    <a:cubicBezTo>
                      <a:pt x="14312" y="5"/>
                      <a:pt x="14312" y="4"/>
                      <a:pt x="14314" y="4"/>
                    </a:cubicBezTo>
                    <a:close/>
                    <a:moveTo>
                      <a:pt x="14322" y="4"/>
                    </a:moveTo>
                    <a:lnTo>
                      <a:pt x="14322" y="4"/>
                    </a:lnTo>
                    <a:cubicBezTo>
                      <a:pt x="14323" y="4"/>
                      <a:pt x="14324" y="5"/>
                      <a:pt x="14324" y="6"/>
                    </a:cubicBezTo>
                    <a:cubicBezTo>
                      <a:pt x="14324" y="7"/>
                      <a:pt x="14323" y="8"/>
                      <a:pt x="14322" y="8"/>
                    </a:cubicBezTo>
                    <a:lnTo>
                      <a:pt x="14322" y="8"/>
                    </a:lnTo>
                    <a:cubicBezTo>
                      <a:pt x="14320" y="8"/>
                      <a:pt x="14320" y="7"/>
                      <a:pt x="14320" y="6"/>
                    </a:cubicBezTo>
                    <a:cubicBezTo>
                      <a:pt x="14320" y="5"/>
                      <a:pt x="14320" y="4"/>
                      <a:pt x="14322" y="4"/>
                    </a:cubicBezTo>
                    <a:close/>
                    <a:moveTo>
                      <a:pt x="14330" y="4"/>
                    </a:moveTo>
                    <a:lnTo>
                      <a:pt x="14330" y="4"/>
                    </a:lnTo>
                    <a:cubicBezTo>
                      <a:pt x="14331" y="4"/>
                      <a:pt x="14332" y="5"/>
                      <a:pt x="14332" y="6"/>
                    </a:cubicBezTo>
                    <a:cubicBezTo>
                      <a:pt x="14332" y="7"/>
                      <a:pt x="14331" y="8"/>
                      <a:pt x="14330" y="8"/>
                    </a:cubicBezTo>
                    <a:lnTo>
                      <a:pt x="14330" y="8"/>
                    </a:lnTo>
                    <a:cubicBezTo>
                      <a:pt x="14328" y="8"/>
                      <a:pt x="14328" y="7"/>
                      <a:pt x="14328" y="6"/>
                    </a:cubicBezTo>
                    <a:cubicBezTo>
                      <a:pt x="14328" y="5"/>
                      <a:pt x="14328" y="4"/>
                      <a:pt x="14330" y="4"/>
                    </a:cubicBezTo>
                    <a:close/>
                    <a:moveTo>
                      <a:pt x="14338" y="4"/>
                    </a:moveTo>
                    <a:lnTo>
                      <a:pt x="14338" y="4"/>
                    </a:lnTo>
                    <a:cubicBezTo>
                      <a:pt x="14339" y="4"/>
                      <a:pt x="14340" y="5"/>
                      <a:pt x="14340" y="6"/>
                    </a:cubicBezTo>
                    <a:cubicBezTo>
                      <a:pt x="14340" y="7"/>
                      <a:pt x="14339" y="8"/>
                      <a:pt x="14338" y="8"/>
                    </a:cubicBezTo>
                    <a:lnTo>
                      <a:pt x="14338" y="8"/>
                    </a:lnTo>
                    <a:cubicBezTo>
                      <a:pt x="14336" y="8"/>
                      <a:pt x="14336" y="7"/>
                      <a:pt x="14336" y="6"/>
                    </a:cubicBezTo>
                    <a:cubicBezTo>
                      <a:pt x="14336" y="5"/>
                      <a:pt x="14336" y="4"/>
                      <a:pt x="14338" y="4"/>
                    </a:cubicBezTo>
                    <a:close/>
                    <a:moveTo>
                      <a:pt x="14346" y="4"/>
                    </a:moveTo>
                    <a:lnTo>
                      <a:pt x="14346" y="4"/>
                    </a:lnTo>
                    <a:cubicBezTo>
                      <a:pt x="14347" y="4"/>
                      <a:pt x="14348" y="5"/>
                      <a:pt x="14348" y="6"/>
                    </a:cubicBezTo>
                    <a:cubicBezTo>
                      <a:pt x="14348" y="7"/>
                      <a:pt x="14347" y="8"/>
                      <a:pt x="14346" y="8"/>
                    </a:cubicBezTo>
                    <a:lnTo>
                      <a:pt x="14346" y="8"/>
                    </a:lnTo>
                    <a:cubicBezTo>
                      <a:pt x="14344" y="8"/>
                      <a:pt x="14344" y="7"/>
                      <a:pt x="14344" y="6"/>
                    </a:cubicBezTo>
                    <a:cubicBezTo>
                      <a:pt x="14344" y="5"/>
                      <a:pt x="14344" y="4"/>
                      <a:pt x="14346" y="4"/>
                    </a:cubicBezTo>
                    <a:close/>
                    <a:moveTo>
                      <a:pt x="14354" y="4"/>
                    </a:moveTo>
                    <a:lnTo>
                      <a:pt x="14354" y="4"/>
                    </a:lnTo>
                    <a:cubicBezTo>
                      <a:pt x="14355" y="4"/>
                      <a:pt x="14356" y="5"/>
                      <a:pt x="14356" y="6"/>
                    </a:cubicBezTo>
                    <a:cubicBezTo>
                      <a:pt x="14356" y="7"/>
                      <a:pt x="14355" y="8"/>
                      <a:pt x="14354" y="8"/>
                    </a:cubicBezTo>
                    <a:lnTo>
                      <a:pt x="14354" y="8"/>
                    </a:lnTo>
                    <a:cubicBezTo>
                      <a:pt x="14352" y="8"/>
                      <a:pt x="14352" y="7"/>
                      <a:pt x="14352" y="6"/>
                    </a:cubicBezTo>
                    <a:cubicBezTo>
                      <a:pt x="14352" y="5"/>
                      <a:pt x="14352" y="4"/>
                      <a:pt x="14354" y="4"/>
                    </a:cubicBezTo>
                    <a:close/>
                    <a:moveTo>
                      <a:pt x="14362" y="4"/>
                    </a:moveTo>
                    <a:lnTo>
                      <a:pt x="14362" y="4"/>
                    </a:lnTo>
                    <a:cubicBezTo>
                      <a:pt x="14363" y="4"/>
                      <a:pt x="14364" y="5"/>
                      <a:pt x="14364" y="6"/>
                    </a:cubicBezTo>
                    <a:cubicBezTo>
                      <a:pt x="14364" y="7"/>
                      <a:pt x="14363" y="8"/>
                      <a:pt x="14362" y="8"/>
                    </a:cubicBezTo>
                    <a:lnTo>
                      <a:pt x="14362" y="8"/>
                    </a:lnTo>
                    <a:cubicBezTo>
                      <a:pt x="14360" y="8"/>
                      <a:pt x="14360" y="7"/>
                      <a:pt x="14360" y="6"/>
                    </a:cubicBezTo>
                    <a:cubicBezTo>
                      <a:pt x="14360" y="5"/>
                      <a:pt x="14360" y="4"/>
                      <a:pt x="14362" y="4"/>
                    </a:cubicBezTo>
                    <a:close/>
                    <a:moveTo>
                      <a:pt x="14370" y="4"/>
                    </a:moveTo>
                    <a:lnTo>
                      <a:pt x="14370" y="4"/>
                    </a:lnTo>
                    <a:cubicBezTo>
                      <a:pt x="14371" y="4"/>
                      <a:pt x="14372" y="5"/>
                      <a:pt x="14372" y="6"/>
                    </a:cubicBezTo>
                    <a:cubicBezTo>
                      <a:pt x="14372" y="7"/>
                      <a:pt x="14371" y="8"/>
                      <a:pt x="14370" y="8"/>
                    </a:cubicBezTo>
                    <a:lnTo>
                      <a:pt x="14370" y="8"/>
                    </a:lnTo>
                    <a:cubicBezTo>
                      <a:pt x="14368" y="8"/>
                      <a:pt x="14368" y="7"/>
                      <a:pt x="14368" y="6"/>
                    </a:cubicBezTo>
                    <a:cubicBezTo>
                      <a:pt x="14368" y="5"/>
                      <a:pt x="14368" y="4"/>
                      <a:pt x="14370" y="4"/>
                    </a:cubicBezTo>
                    <a:close/>
                    <a:moveTo>
                      <a:pt x="14378" y="4"/>
                    </a:moveTo>
                    <a:lnTo>
                      <a:pt x="14378" y="4"/>
                    </a:lnTo>
                    <a:cubicBezTo>
                      <a:pt x="14379" y="4"/>
                      <a:pt x="14380" y="5"/>
                      <a:pt x="14380" y="6"/>
                    </a:cubicBezTo>
                    <a:cubicBezTo>
                      <a:pt x="14380" y="7"/>
                      <a:pt x="14379" y="8"/>
                      <a:pt x="14378" y="8"/>
                    </a:cubicBezTo>
                    <a:lnTo>
                      <a:pt x="14378" y="8"/>
                    </a:lnTo>
                    <a:cubicBezTo>
                      <a:pt x="14376" y="8"/>
                      <a:pt x="14376" y="7"/>
                      <a:pt x="14376" y="6"/>
                    </a:cubicBezTo>
                    <a:cubicBezTo>
                      <a:pt x="14376" y="5"/>
                      <a:pt x="14376" y="4"/>
                      <a:pt x="14378" y="4"/>
                    </a:cubicBezTo>
                    <a:close/>
                    <a:moveTo>
                      <a:pt x="14386" y="4"/>
                    </a:moveTo>
                    <a:lnTo>
                      <a:pt x="14386" y="4"/>
                    </a:lnTo>
                    <a:cubicBezTo>
                      <a:pt x="14387" y="4"/>
                      <a:pt x="14388" y="5"/>
                      <a:pt x="14388" y="6"/>
                    </a:cubicBezTo>
                    <a:cubicBezTo>
                      <a:pt x="14388" y="7"/>
                      <a:pt x="14387" y="8"/>
                      <a:pt x="14386" y="8"/>
                    </a:cubicBezTo>
                    <a:lnTo>
                      <a:pt x="14386" y="8"/>
                    </a:lnTo>
                    <a:cubicBezTo>
                      <a:pt x="14384" y="8"/>
                      <a:pt x="14384" y="7"/>
                      <a:pt x="14384" y="6"/>
                    </a:cubicBezTo>
                    <a:cubicBezTo>
                      <a:pt x="14384" y="5"/>
                      <a:pt x="14384" y="4"/>
                      <a:pt x="14386" y="4"/>
                    </a:cubicBezTo>
                    <a:close/>
                    <a:moveTo>
                      <a:pt x="14394" y="4"/>
                    </a:moveTo>
                    <a:lnTo>
                      <a:pt x="14394" y="4"/>
                    </a:lnTo>
                    <a:cubicBezTo>
                      <a:pt x="14395" y="4"/>
                      <a:pt x="14396" y="5"/>
                      <a:pt x="14396" y="6"/>
                    </a:cubicBezTo>
                    <a:cubicBezTo>
                      <a:pt x="14396" y="7"/>
                      <a:pt x="14395" y="8"/>
                      <a:pt x="14394" y="8"/>
                    </a:cubicBezTo>
                    <a:lnTo>
                      <a:pt x="14394" y="8"/>
                    </a:lnTo>
                    <a:cubicBezTo>
                      <a:pt x="14392" y="8"/>
                      <a:pt x="14392" y="7"/>
                      <a:pt x="14392" y="6"/>
                    </a:cubicBezTo>
                    <a:cubicBezTo>
                      <a:pt x="14392" y="5"/>
                      <a:pt x="14392" y="4"/>
                      <a:pt x="14394" y="4"/>
                    </a:cubicBezTo>
                    <a:close/>
                    <a:moveTo>
                      <a:pt x="14402" y="4"/>
                    </a:moveTo>
                    <a:lnTo>
                      <a:pt x="14402" y="4"/>
                    </a:lnTo>
                    <a:cubicBezTo>
                      <a:pt x="14403" y="4"/>
                      <a:pt x="14404" y="5"/>
                      <a:pt x="14404" y="6"/>
                    </a:cubicBezTo>
                    <a:cubicBezTo>
                      <a:pt x="14404" y="7"/>
                      <a:pt x="14403" y="8"/>
                      <a:pt x="14402" y="8"/>
                    </a:cubicBezTo>
                    <a:lnTo>
                      <a:pt x="14402" y="8"/>
                    </a:lnTo>
                    <a:cubicBezTo>
                      <a:pt x="14400" y="8"/>
                      <a:pt x="14400" y="7"/>
                      <a:pt x="14400" y="6"/>
                    </a:cubicBezTo>
                    <a:cubicBezTo>
                      <a:pt x="14400" y="5"/>
                      <a:pt x="14400" y="4"/>
                      <a:pt x="14402" y="4"/>
                    </a:cubicBezTo>
                    <a:close/>
                    <a:moveTo>
                      <a:pt x="14410" y="4"/>
                    </a:moveTo>
                    <a:lnTo>
                      <a:pt x="14410" y="4"/>
                    </a:lnTo>
                    <a:cubicBezTo>
                      <a:pt x="14411" y="4"/>
                      <a:pt x="14412" y="5"/>
                      <a:pt x="14412" y="6"/>
                    </a:cubicBezTo>
                    <a:cubicBezTo>
                      <a:pt x="14412" y="7"/>
                      <a:pt x="14411" y="8"/>
                      <a:pt x="14410" y="8"/>
                    </a:cubicBezTo>
                    <a:lnTo>
                      <a:pt x="14410" y="8"/>
                    </a:lnTo>
                    <a:cubicBezTo>
                      <a:pt x="14408" y="8"/>
                      <a:pt x="14408" y="7"/>
                      <a:pt x="14408" y="6"/>
                    </a:cubicBezTo>
                    <a:cubicBezTo>
                      <a:pt x="14408" y="5"/>
                      <a:pt x="14408" y="4"/>
                      <a:pt x="14410" y="4"/>
                    </a:cubicBezTo>
                    <a:close/>
                    <a:moveTo>
                      <a:pt x="14418" y="4"/>
                    </a:moveTo>
                    <a:lnTo>
                      <a:pt x="14418" y="4"/>
                    </a:lnTo>
                    <a:cubicBezTo>
                      <a:pt x="14419" y="4"/>
                      <a:pt x="14420" y="5"/>
                      <a:pt x="14420" y="6"/>
                    </a:cubicBezTo>
                    <a:cubicBezTo>
                      <a:pt x="14420" y="7"/>
                      <a:pt x="14419" y="8"/>
                      <a:pt x="14418" y="8"/>
                    </a:cubicBezTo>
                    <a:lnTo>
                      <a:pt x="14418" y="8"/>
                    </a:lnTo>
                    <a:cubicBezTo>
                      <a:pt x="14416" y="8"/>
                      <a:pt x="14416" y="7"/>
                      <a:pt x="14416" y="6"/>
                    </a:cubicBezTo>
                    <a:cubicBezTo>
                      <a:pt x="14416" y="5"/>
                      <a:pt x="14416" y="4"/>
                      <a:pt x="14418" y="4"/>
                    </a:cubicBezTo>
                    <a:close/>
                    <a:moveTo>
                      <a:pt x="14426" y="4"/>
                    </a:moveTo>
                    <a:lnTo>
                      <a:pt x="14426" y="4"/>
                    </a:lnTo>
                    <a:cubicBezTo>
                      <a:pt x="14427" y="4"/>
                      <a:pt x="14428" y="5"/>
                      <a:pt x="14428" y="6"/>
                    </a:cubicBezTo>
                    <a:cubicBezTo>
                      <a:pt x="14428" y="7"/>
                      <a:pt x="14427" y="8"/>
                      <a:pt x="14426" y="8"/>
                    </a:cubicBezTo>
                    <a:lnTo>
                      <a:pt x="14426" y="8"/>
                    </a:lnTo>
                    <a:cubicBezTo>
                      <a:pt x="14424" y="8"/>
                      <a:pt x="14424" y="7"/>
                      <a:pt x="14424" y="6"/>
                    </a:cubicBezTo>
                    <a:cubicBezTo>
                      <a:pt x="14424" y="5"/>
                      <a:pt x="14424" y="4"/>
                      <a:pt x="14426" y="4"/>
                    </a:cubicBezTo>
                    <a:close/>
                    <a:moveTo>
                      <a:pt x="14434" y="4"/>
                    </a:moveTo>
                    <a:lnTo>
                      <a:pt x="14434" y="4"/>
                    </a:lnTo>
                    <a:cubicBezTo>
                      <a:pt x="14435" y="4"/>
                      <a:pt x="14436" y="5"/>
                      <a:pt x="14436" y="6"/>
                    </a:cubicBezTo>
                    <a:cubicBezTo>
                      <a:pt x="14436" y="7"/>
                      <a:pt x="14435" y="8"/>
                      <a:pt x="14434" y="8"/>
                    </a:cubicBezTo>
                    <a:lnTo>
                      <a:pt x="14434" y="8"/>
                    </a:lnTo>
                    <a:cubicBezTo>
                      <a:pt x="14432" y="8"/>
                      <a:pt x="14432" y="7"/>
                      <a:pt x="14432" y="6"/>
                    </a:cubicBezTo>
                    <a:cubicBezTo>
                      <a:pt x="14432" y="5"/>
                      <a:pt x="14432" y="4"/>
                      <a:pt x="14434" y="4"/>
                    </a:cubicBezTo>
                    <a:close/>
                    <a:moveTo>
                      <a:pt x="14442" y="4"/>
                    </a:moveTo>
                    <a:lnTo>
                      <a:pt x="14442" y="4"/>
                    </a:lnTo>
                    <a:cubicBezTo>
                      <a:pt x="14443" y="4"/>
                      <a:pt x="14444" y="5"/>
                      <a:pt x="14444" y="6"/>
                    </a:cubicBezTo>
                    <a:cubicBezTo>
                      <a:pt x="14444" y="7"/>
                      <a:pt x="14443" y="8"/>
                      <a:pt x="14442" y="8"/>
                    </a:cubicBezTo>
                    <a:lnTo>
                      <a:pt x="14442" y="8"/>
                    </a:lnTo>
                    <a:cubicBezTo>
                      <a:pt x="14440" y="8"/>
                      <a:pt x="14440" y="7"/>
                      <a:pt x="14440" y="6"/>
                    </a:cubicBezTo>
                    <a:cubicBezTo>
                      <a:pt x="14440" y="5"/>
                      <a:pt x="14440" y="4"/>
                      <a:pt x="14442" y="4"/>
                    </a:cubicBezTo>
                    <a:close/>
                    <a:moveTo>
                      <a:pt x="14450" y="4"/>
                    </a:moveTo>
                    <a:lnTo>
                      <a:pt x="14450" y="4"/>
                    </a:lnTo>
                    <a:cubicBezTo>
                      <a:pt x="14451" y="4"/>
                      <a:pt x="14452" y="5"/>
                      <a:pt x="14452" y="6"/>
                    </a:cubicBezTo>
                    <a:cubicBezTo>
                      <a:pt x="14452" y="7"/>
                      <a:pt x="14451" y="8"/>
                      <a:pt x="14450" y="8"/>
                    </a:cubicBezTo>
                    <a:lnTo>
                      <a:pt x="14450" y="8"/>
                    </a:lnTo>
                    <a:cubicBezTo>
                      <a:pt x="14448" y="8"/>
                      <a:pt x="14448" y="7"/>
                      <a:pt x="14448" y="6"/>
                    </a:cubicBezTo>
                    <a:cubicBezTo>
                      <a:pt x="14448" y="5"/>
                      <a:pt x="14448" y="4"/>
                      <a:pt x="14450" y="4"/>
                    </a:cubicBezTo>
                    <a:close/>
                    <a:moveTo>
                      <a:pt x="14458" y="4"/>
                    </a:moveTo>
                    <a:lnTo>
                      <a:pt x="14458" y="4"/>
                    </a:lnTo>
                    <a:cubicBezTo>
                      <a:pt x="14459" y="4"/>
                      <a:pt x="14460" y="5"/>
                      <a:pt x="14460" y="6"/>
                    </a:cubicBezTo>
                    <a:cubicBezTo>
                      <a:pt x="14460" y="7"/>
                      <a:pt x="14459" y="8"/>
                      <a:pt x="14458" y="8"/>
                    </a:cubicBezTo>
                    <a:lnTo>
                      <a:pt x="14458" y="8"/>
                    </a:lnTo>
                    <a:cubicBezTo>
                      <a:pt x="14457" y="8"/>
                      <a:pt x="14456" y="7"/>
                      <a:pt x="14456" y="6"/>
                    </a:cubicBezTo>
                    <a:cubicBezTo>
                      <a:pt x="14456" y="5"/>
                      <a:pt x="14457" y="4"/>
                      <a:pt x="14458" y="4"/>
                    </a:cubicBezTo>
                    <a:close/>
                    <a:moveTo>
                      <a:pt x="14466" y="4"/>
                    </a:moveTo>
                    <a:lnTo>
                      <a:pt x="14466" y="4"/>
                    </a:lnTo>
                    <a:cubicBezTo>
                      <a:pt x="14467" y="4"/>
                      <a:pt x="14468" y="5"/>
                      <a:pt x="14468" y="6"/>
                    </a:cubicBezTo>
                    <a:cubicBezTo>
                      <a:pt x="14468" y="7"/>
                      <a:pt x="14467" y="8"/>
                      <a:pt x="14466" y="8"/>
                    </a:cubicBezTo>
                    <a:lnTo>
                      <a:pt x="14466" y="8"/>
                    </a:lnTo>
                    <a:cubicBezTo>
                      <a:pt x="14465" y="8"/>
                      <a:pt x="14464" y="7"/>
                      <a:pt x="14464" y="6"/>
                    </a:cubicBezTo>
                    <a:cubicBezTo>
                      <a:pt x="14464" y="5"/>
                      <a:pt x="14465" y="4"/>
                      <a:pt x="14466" y="4"/>
                    </a:cubicBezTo>
                    <a:close/>
                    <a:moveTo>
                      <a:pt x="14474" y="4"/>
                    </a:moveTo>
                    <a:lnTo>
                      <a:pt x="14474" y="4"/>
                    </a:lnTo>
                    <a:cubicBezTo>
                      <a:pt x="14475" y="4"/>
                      <a:pt x="14476" y="5"/>
                      <a:pt x="14476" y="6"/>
                    </a:cubicBezTo>
                    <a:cubicBezTo>
                      <a:pt x="14476" y="7"/>
                      <a:pt x="14475" y="8"/>
                      <a:pt x="14474" y="8"/>
                    </a:cubicBezTo>
                    <a:lnTo>
                      <a:pt x="14474" y="8"/>
                    </a:lnTo>
                    <a:cubicBezTo>
                      <a:pt x="14473" y="8"/>
                      <a:pt x="14472" y="7"/>
                      <a:pt x="14472" y="6"/>
                    </a:cubicBezTo>
                    <a:cubicBezTo>
                      <a:pt x="14472" y="5"/>
                      <a:pt x="14473" y="4"/>
                      <a:pt x="14474" y="4"/>
                    </a:cubicBezTo>
                    <a:close/>
                    <a:moveTo>
                      <a:pt x="14482" y="4"/>
                    </a:moveTo>
                    <a:lnTo>
                      <a:pt x="14482" y="4"/>
                    </a:lnTo>
                    <a:cubicBezTo>
                      <a:pt x="14483" y="4"/>
                      <a:pt x="14484" y="5"/>
                      <a:pt x="14484" y="6"/>
                    </a:cubicBezTo>
                    <a:cubicBezTo>
                      <a:pt x="14484" y="7"/>
                      <a:pt x="14483" y="8"/>
                      <a:pt x="14482" y="8"/>
                    </a:cubicBezTo>
                    <a:lnTo>
                      <a:pt x="14482" y="8"/>
                    </a:lnTo>
                    <a:cubicBezTo>
                      <a:pt x="14481" y="8"/>
                      <a:pt x="14480" y="7"/>
                      <a:pt x="14480" y="6"/>
                    </a:cubicBezTo>
                    <a:cubicBezTo>
                      <a:pt x="14480" y="5"/>
                      <a:pt x="14481" y="4"/>
                      <a:pt x="14482" y="4"/>
                    </a:cubicBezTo>
                    <a:close/>
                    <a:moveTo>
                      <a:pt x="14490" y="4"/>
                    </a:moveTo>
                    <a:lnTo>
                      <a:pt x="14490" y="4"/>
                    </a:lnTo>
                    <a:cubicBezTo>
                      <a:pt x="14491" y="4"/>
                      <a:pt x="14492" y="5"/>
                      <a:pt x="14492" y="6"/>
                    </a:cubicBezTo>
                    <a:cubicBezTo>
                      <a:pt x="14492" y="7"/>
                      <a:pt x="14491" y="8"/>
                      <a:pt x="14490" y="8"/>
                    </a:cubicBezTo>
                    <a:lnTo>
                      <a:pt x="14490" y="8"/>
                    </a:lnTo>
                    <a:cubicBezTo>
                      <a:pt x="14489" y="8"/>
                      <a:pt x="14488" y="7"/>
                      <a:pt x="14488" y="6"/>
                    </a:cubicBezTo>
                    <a:cubicBezTo>
                      <a:pt x="14488" y="5"/>
                      <a:pt x="14489" y="4"/>
                      <a:pt x="14490" y="4"/>
                    </a:cubicBezTo>
                    <a:close/>
                    <a:moveTo>
                      <a:pt x="14498" y="4"/>
                    </a:moveTo>
                    <a:lnTo>
                      <a:pt x="14498" y="4"/>
                    </a:lnTo>
                    <a:cubicBezTo>
                      <a:pt x="14499" y="4"/>
                      <a:pt x="14500" y="5"/>
                      <a:pt x="14500" y="6"/>
                    </a:cubicBezTo>
                    <a:cubicBezTo>
                      <a:pt x="14500" y="7"/>
                      <a:pt x="14499" y="8"/>
                      <a:pt x="14498" y="8"/>
                    </a:cubicBezTo>
                    <a:lnTo>
                      <a:pt x="14498" y="8"/>
                    </a:lnTo>
                    <a:cubicBezTo>
                      <a:pt x="14497" y="8"/>
                      <a:pt x="14496" y="7"/>
                      <a:pt x="14496" y="6"/>
                    </a:cubicBezTo>
                    <a:cubicBezTo>
                      <a:pt x="14496" y="5"/>
                      <a:pt x="14497" y="4"/>
                      <a:pt x="14498" y="4"/>
                    </a:cubicBezTo>
                    <a:close/>
                    <a:moveTo>
                      <a:pt x="14506" y="4"/>
                    </a:moveTo>
                    <a:lnTo>
                      <a:pt x="14506" y="4"/>
                    </a:lnTo>
                    <a:cubicBezTo>
                      <a:pt x="14507" y="4"/>
                      <a:pt x="14508" y="5"/>
                      <a:pt x="14508" y="6"/>
                    </a:cubicBezTo>
                    <a:cubicBezTo>
                      <a:pt x="14508" y="7"/>
                      <a:pt x="14507" y="8"/>
                      <a:pt x="14506" y="8"/>
                    </a:cubicBezTo>
                    <a:lnTo>
                      <a:pt x="14506" y="8"/>
                    </a:lnTo>
                    <a:cubicBezTo>
                      <a:pt x="14505" y="8"/>
                      <a:pt x="14504" y="7"/>
                      <a:pt x="14504" y="6"/>
                    </a:cubicBezTo>
                    <a:cubicBezTo>
                      <a:pt x="14504" y="5"/>
                      <a:pt x="14505" y="4"/>
                      <a:pt x="14506" y="4"/>
                    </a:cubicBezTo>
                    <a:close/>
                    <a:moveTo>
                      <a:pt x="14514" y="4"/>
                    </a:moveTo>
                    <a:lnTo>
                      <a:pt x="14514" y="4"/>
                    </a:lnTo>
                    <a:cubicBezTo>
                      <a:pt x="14515" y="4"/>
                      <a:pt x="14516" y="5"/>
                      <a:pt x="14516" y="6"/>
                    </a:cubicBezTo>
                    <a:cubicBezTo>
                      <a:pt x="14516" y="7"/>
                      <a:pt x="14515" y="8"/>
                      <a:pt x="14514" y="8"/>
                    </a:cubicBezTo>
                    <a:lnTo>
                      <a:pt x="14514" y="8"/>
                    </a:lnTo>
                    <a:cubicBezTo>
                      <a:pt x="14513" y="8"/>
                      <a:pt x="14512" y="7"/>
                      <a:pt x="14512" y="6"/>
                    </a:cubicBezTo>
                    <a:cubicBezTo>
                      <a:pt x="14512" y="5"/>
                      <a:pt x="14513" y="4"/>
                      <a:pt x="14514" y="4"/>
                    </a:cubicBezTo>
                    <a:close/>
                    <a:moveTo>
                      <a:pt x="14522" y="4"/>
                    </a:moveTo>
                    <a:lnTo>
                      <a:pt x="14522" y="4"/>
                    </a:lnTo>
                    <a:cubicBezTo>
                      <a:pt x="14523" y="4"/>
                      <a:pt x="14524" y="5"/>
                      <a:pt x="14524" y="6"/>
                    </a:cubicBezTo>
                    <a:cubicBezTo>
                      <a:pt x="14524" y="7"/>
                      <a:pt x="14523" y="8"/>
                      <a:pt x="14522" y="8"/>
                    </a:cubicBezTo>
                    <a:lnTo>
                      <a:pt x="14522" y="8"/>
                    </a:lnTo>
                    <a:cubicBezTo>
                      <a:pt x="14521" y="8"/>
                      <a:pt x="14520" y="7"/>
                      <a:pt x="14520" y="6"/>
                    </a:cubicBezTo>
                    <a:cubicBezTo>
                      <a:pt x="14520" y="5"/>
                      <a:pt x="14521" y="4"/>
                      <a:pt x="14522" y="4"/>
                    </a:cubicBezTo>
                    <a:close/>
                    <a:moveTo>
                      <a:pt x="14530" y="4"/>
                    </a:moveTo>
                    <a:lnTo>
                      <a:pt x="14530" y="4"/>
                    </a:lnTo>
                    <a:cubicBezTo>
                      <a:pt x="14531" y="4"/>
                      <a:pt x="14532" y="5"/>
                      <a:pt x="14532" y="6"/>
                    </a:cubicBezTo>
                    <a:cubicBezTo>
                      <a:pt x="14532" y="7"/>
                      <a:pt x="14531" y="8"/>
                      <a:pt x="14530" y="8"/>
                    </a:cubicBezTo>
                    <a:lnTo>
                      <a:pt x="14530" y="8"/>
                    </a:lnTo>
                    <a:cubicBezTo>
                      <a:pt x="14529" y="8"/>
                      <a:pt x="14528" y="7"/>
                      <a:pt x="14528" y="6"/>
                    </a:cubicBezTo>
                    <a:cubicBezTo>
                      <a:pt x="14528" y="5"/>
                      <a:pt x="14529" y="4"/>
                      <a:pt x="14530" y="4"/>
                    </a:cubicBezTo>
                    <a:close/>
                    <a:moveTo>
                      <a:pt x="14538" y="4"/>
                    </a:moveTo>
                    <a:lnTo>
                      <a:pt x="14538" y="4"/>
                    </a:lnTo>
                    <a:cubicBezTo>
                      <a:pt x="14539" y="4"/>
                      <a:pt x="14540" y="5"/>
                      <a:pt x="14540" y="6"/>
                    </a:cubicBezTo>
                    <a:cubicBezTo>
                      <a:pt x="14540" y="7"/>
                      <a:pt x="14539" y="8"/>
                      <a:pt x="14538" y="8"/>
                    </a:cubicBezTo>
                    <a:lnTo>
                      <a:pt x="14538" y="8"/>
                    </a:lnTo>
                    <a:cubicBezTo>
                      <a:pt x="14537" y="8"/>
                      <a:pt x="14536" y="7"/>
                      <a:pt x="14536" y="6"/>
                    </a:cubicBezTo>
                    <a:cubicBezTo>
                      <a:pt x="14536" y="5"/>
                      <a:pt x="14537" y="4"/>
                      <a:pt x="14538" y="4"/>
                    </a:cubicBezTo>
                    <a:close/>
                    <a:moveTo>
                      <a:pt x="14546" y="4"/>
                    </a:moveTo>
                    <a:lnTo>
                      <a:pt x="14546" y="4"/>
                    </a:lnTo>
                    <a:cubicBezTo>
                      <a:pt x="14547" y="4"/>
                      <a:pt x="14548" y="5"/>
                      <a:pt x="14548" y="6"/>
                    </a:cubicBezTo>
                    <a:cubicBezTo>
                      <a:pt x="14548" y="7"/>
                      <a:pt x="14547" y="8"/>
                      <a:pt x="14546" y="8"/>
                    </a:cubicBezTo>
                    <a:lnTo>
                      <a:pt x="14546" y="8"/>
                    </a:lnTo>
                    <a:cubicBezTo>
                      <a:pt x="14545" y="8"/>
                      <a:pt x="14544" y="7"/>
                      <a:pt x="14544" y="6"/>
                    </a:cubicBezTo>
                    <a:cubicBezTo>
                      <a:pt x="14544" y="5"/>
                      <a:pt x="14545" y="4"/>
                      <a:pt x="14546" y="4"/>
                    </a:cubicBezTo>
                    <a:close/>
                    <a:moveTo>
                      <a:pt x="14554" y="4"/>
                    </a:moveTo>
                    <a:lnTo>
                      <a:pt x="14554" y="4"/>
                    </a:lnTo>
                    <a:cubicBezTo>
                      <a:pt x="14555" y="4"/>
                      <a:pt x="14556" y="5"/>
                      <a:pt x="14556" y="6"/>
                    </a:cubicBezTo>
                    <a:cubicBezTo>
                      <a:pt x="14556" y="7"/>
                      <a:pt x="14555" y="8"/>
                      <a:pt x="14554" y="8"/>
                    </a:cubicBezTo>
                    <a:lnTo>
                      <a:pt x="14554" y="8"/>
                    </a:lnTo>
                    <a:cubicBezTo>
                      <a:pt x="14553" y="8"/>
                      <a:pt x="14552" y="7"/>
                      <a:pt x="14552" y="6"/>
                    </a:cubicBezTo>
                    <a:cubicBezTo>
                      <a:pt x="14552" y="5"/>
                      <a:pt x="14553" y="4"/>
                      <a:pt x="14554" y="4"/>
                    </a:cubicBezTo>
                    <a:close/>
                    <a:moveTo>
                      <a:pt x="14562" y="4"/>
                    </a:moveTo>
                    <a:lnTo>
                      <a:pt x="14562" y="4"/>
                    </a:lnTo>
                    <a:cubicBezTo>
                      <a:pt x="14563" y="4"/>
                      <a:pt x="14564" y="5"/>
                      <a:pt x="14564" y="6"/>
                    </a:cubicBezTo>
                    <a:cubicBezTo>
                      <a:pt x="14564" y="7"/>
                      <a:pt x="14563" y="8"/>
                      <a:pt x="14562" y="8"/>
                    </a:cubicBezTo>
                    <a:lnTo>
                      <a:pt x="14562" y="8"/>
                    </a:lnTo>
                    <a:cubicBezTo>
                      <a:pt x="14561" y="8"/>
                      <a:pt x="14560" y="7"/>
                      <a:pt x="14560" y="6"/>
                    </a:cubicBezTo>
                    <a:cubicBezTo>
                      <a:pt x="14560" y="5"/>
                      <a:pt x="14561" y="4"/>
                      <a:pt x="14562" y="4"/>
                    </a:cubicBezTo>
                    <a:close/>
                    <a:moveTo>
                      <a:pt x="14570" y="4"/>
                    </a:moveTo>
                    <a:lnTo>
                      <a:pt x="14570" y="4"/>
                    </a:lnTo>
                    <a:cubicBezTo>
                      <a:pt x="14571" y="4"/>
                      <a:pt x="14572" y="5"/>
                      <a:pt x="14572" y="6"/>
                    </a:cubicBezTo>
                    <a:cubicBezTo>
                      <a:pt x="14572" y="7"/>
                      <a:pt x="14571" y="8"/>
                      <a:pt x="14570" y="8"/>
                    </a:cubicBezTo>
                    <a:lnTo>
                      <a:pt x="14570" y="8"/>
                    </a:lnTo>
                    <a:cubicBezTo>
                      <a:pt x="14569" y="8"/>
                      <a:pt x="14568" y="7"/>
                      <a:pt x="14568" y="6"/>
                    </a:cubicBezTo>
                    <a:cubicBezTo>
                      <a:pt x="14568" y="5"/>
                      <a:pt x="14569" y="4"/>
                      <a:pt x="14570" y="4"/>
                    </a:cubicBezTo>
                    <a:close/>
                    <a:moveTo>
                      <a:pt x="14578" y="4"/>
                    </a:moveTo>
                    <a:lnTo>
                      <a:pt x="14578" y="4"/>
                    </a:lnTo>
                    <a:cubicBezTo>
                      <a:pt x="14579" y="4"/>
                      <a:pt x="14580" y="5"/>
                      <a:pt x="14580" y="6"/>
                    </a:cubicBezTo>
                    <a:cubicBezTo>
                      <a:pt x="14580" y="7"/>
                      <a:pt x="14579" y="8"/>
                      <a:pt x="14578" y="8"/>
                    </a:cubicBezTo>
                    <a:lnTo>
                      <a:pt x="14578" y="8"/>
                    </a:lnTo>
                    <a:cubicBezTo>
                      <a:pt x="14577" y="8"/>
                      <a:pt x="14576" y="7"/>
                      <a:pt x="14576" y="6"/>
                    </a:cubicBezTo>
                    <a:cubicBezTo>
                      <a:pt x="14576" y="5"/>
                      <a:pt x="14577" y="4"/>
                      <a:pt x="14578" y="4"/>
                    </a:cubicBezTo>
                    <a:close/>
                    <a:moveTo>
                      <a:pt x="14586" y="4"/>
                    </a:moveTo>
                    <a:lnTo>
                      <a:pt x="14586" y="4"/>
                    </a:lnTo>
                    <a:cubicBezTo>
                      <a:pt x="14587" y="4"/>
                      <a:pt x="14588" y="5"/>
                      <a:pt x="14588" y="6"/>
                    </a:cubicBezTo>
                    <a:cubicBezTo>
                      <a:pt x="14588" y="7"/>
                      <a:pt x="14587" y="8"/>
                      <a:pt x="14586" y="8"/>
                    </a:cubicBezTo>
                    <a:lnTo>
                      <a:pt x="14586" y="8"/>
                    </a:lnTo>
                    <a:cubicBezTo>
                      <a:pt x="14585" y="8"/>
                      <a:pt x="14584" y="7"/>
                      <a:pt x="14584" y="6"/>
                    </a:cubicBezTo>
                    <a:cubicBezTo>
                      <a:pt x="14584" y="5"/>
                      <a:pt x="14585" y="4"/>
                      <a:pt x="14586" y="4"/>
                    </a:cubicBezTo>
                    <a:close/>
                    <a:moveTo>
                      <a:pt x="14594" y="4"/>
                    </a:moveTo>
                    <a:lnTo>
                      <a:pt x="14594" y="4"/>
                    </a:lnTo>
                    <a:cubicBezTo>
                      <a:pt x="14595" y="4"/>
                      <a:pt x="14596" y="5"/>
                      <a:pt x="14596" y="6"/>
                    </a:cubicBezTo>
                    <a:cubicBezTo>
                      <a:pt x="14596" y="7"/>
                      <a:pt x="14595" y="8"/>
                      <a:pt x="14594" y="8"/>
                    </a:cubicBezTo>
                    <a:lnTo>
                      <a:pt x="14594" y="8"/>
                    </a:lnTo>
                    <a:cubicBezTo>
                      <a:pt x="14593" y="8"/>
                      <a:pt x="14592" y="7"/>
                      <a:pt x="14592" y="6"/>
                    </a:cubicBezTo>
                    <a:cubicBezTo>
                      <a:pt x="14592" y="5"/>
                      <a:pt x="14593" y="4"/>
                      <a:pt x="14594" y="4"/>
                    </a:cubicBezTo>
                    <a:close/>
                    <a:moveTo>
                      <a:pt x="14602" y="4"/>
                    </a:moveTo>
                    <a:lnTo>
                      <a:pt x="14602" y="4"/>
                    </a:lnTo>
                    <a:cubicBezTo>
                      <a:pt x="14603" y="4"/>
                      <a:pt x="14604" y="5"/>
                      <a:pt x="14604" y="6"/>
                    </a:cubicBezTo>
                    <a:cubicBezTo>
                      <a:pt x="14604" y="7"/>
                      <a:pt x="14603" y="8"/>
                      <a:pt x="14602" y="8"/>
                    </a:cubicBezTo>
                    <a:lnTo>
                      <a:pt x="14602" y="8"/>
                    </a:lnTo>
                    <a:cubicBezTo>
                      <a:pt x="14601" y="8"/>
                      <a:pt x="14600" y="7"/>
                      <a:pt x="14600" y="6"/>
                    </a:cubicBezTo>
                    <a:cubicBezTo>
                      <a:pt x="14600" y="5"/>
                      <a:pt x="14601" y="4"/>
                      <a:pt x="14602" y="4"/>
                    </a:cubicBezTo>
                    <a:close/>
                    <a:moveTo>
                      <a:pt x="14610" y="4"/>
                    </a:moveTo>
                    <a:lnTo>
                      <a:pt x="14610" y="4"/>
                    </a:lnTo>
                    <a:cubicBezTo>
                      <a:pt x="14611" y="4"/>
                      <a:pt x="14612" y="5"/>
                      <a:pt x="14612" y="6"/>
                    </a:cubicBezTo>
                    <a:cubicBezTo>
                      <a:pt x="14612" y="7"/>
                      <a:pt x="14611" y="8"/>
                      <a:pt x="14610" y="8"/>
                    </a:cubicBezTo>
                    <a:lnTo>
                      <a:pt x="14610" y="8"/>
                    </a:lnTo>
                    <a:cubicBezTo>
                      <a:pt x="14609" y="8"/>
                      <a:pt x="14608" y="7"/>
                      <a:pt x="14608" y="6"/>
                    </a:cubicBezTo>
                    <a:cubicBezTo>
                      <a:pt x="14608" y="5"/>
                      <a:pt x="14609" y="4"/>
                      <a:pt x="14610" y="4"/>
                    </a:cubicBezTo>
                    <a:close/>
                    <a:moveTo>
                      <a:pt x="14618" y="4"/>
                    </a:moveTo>
                    <a:lnTo>
                      <a:pt x="14618" y="4"/>
                    </a:lnTo>
                    <a:cubicBezTo>
                      <a:pt x="14619" y="4"/>
                      <a:pt x="14620" y="5"/>
                      <a:pt x="14620" y="6"/>
                    </a:cubicBezTo>
                    <a:cubicBezTo>
                      <a:pt x="14620" y="7"/>
                      <a:pt x="14619" y="8"/>
                      <a:pt x="14618" y="8"/>
                    </a:cubicBezTo>
                    <a:lnTo>
                      <a:pt x="14618" y="8"/>
                    </a:lnTo>
                    <a:cubicBezTo>
                      <a:pt x="14617" y="8"/>
                      <a:pt x="14616" y="7"/>
                      <a:pt x="14616" y="6"/>
                    </a:cubicBezTo>
                    <a:cubicBezTo>
                      <a:pt x="14616" y="5"/>
                      <a:pt x="14617" y="4"/>
                      <a:pt x="14618" y="4"/>
                    </a:cubicBezTo>
                    <a:close/>
                    <a:moveTo>
                      <a:pt x="14626" y="4"/>
                    </a:moveTo>
                    <a:lnTo>
                      <a:pt x="14626" y="4"/>
                    </a:lnTo>
                    <a:cubicBezTo>
                      <a:pt x="14627" y="4"/>
                      <a:pt x="14628" y="5"/>
                      <a:pt x="14628" y="6"/>
                    </a:cubicBezTo>
                    <a:cubicBezTo>
                      <a:pt x="14628" y="7"/>
                      <a:pt x="14627" y="8"/>
                      <a:pt x="14626" y="8"/>
                    </a:cubicBezTo>
                    <a:lnTo>
                      <a:pt x="14626" y="8"/>
                    </a:lnTo>
                    <a:cubicBezTo>
                      <a:pt x="14625" y="8"/>
                      <a:pt x="14624" y="7"/>
                      <a:pt x="14624" y="6"/>
                    </a:cubicBezTo>
                    <a:cubicBezTo>
                      <a:pt x="14624" y="5"/>
                      <a:pt x="14625" y="4"/>
                      <a:pt x="14626" y="4"/>
                    </a:cubicBezTo>
                    <a:close/>
                    <a:moveTo>
                      <a:pt x="14634" y="4"/>
                    </a:moveTo>
                    <a:lnTo>
                      <a:pt x="14634" y="4"/>
                    </a:lnTo>
                    <a:cubicBezTo>
                      <a:pt x="14635" y="4"/>
                      <a:pt x="14636" y="5"/>
                      <a:pt x="14636" y="6"/>
                    </a:cubicBezTo>
                    <a:cubicBezTo>
                      <a:pt x="14636" y="7"/>
                      <a:pt x="14635" y="8"/>
                      <a:pt x="14634" y="8"/>
                    </a:cubicBezTo>
                    <a:lnTo>
                      <a:pt x="14634" y="8"/>
                    </a:lnTo>
                    <a:cubicBezTo>
                      <a:pt x="14633" y="8"/>
                      <a:pt x="14632" y="7"/>
                      <a:pt x="14632" y="6"/>
                    </a:cubicBezTo>
                    <a:cubicBezTo>
                      <a:pt x="14632" y="5"/>
                      <a:pt x="14633" y="4"/>
                      <a:pt x="14634" y="4"/>
                    </a:cubicBezTo>
                    <a:close/>
                    <a:moveTo>
                      <a:pt x="14642" y="4"/>
                    </a:moveTo>
                    <a:lnTo>
                      <a:pt x="14642" y="4"/>
                    </a:lnTo>
                    <a:cubicBezTo>
                      <a:pt x="14643" y="4"/>
                      <a:pt x="14644" y="5"/>
                      <a:pt x="14644" y="6"/>
                    </a:cubicBezTo>
                    <a:cubicBezTo>
                      <a:pt x="14644" y="7"/>
                      <a:pt x="14643" y="8"/>
                      <a:pt x="14642" y="8"/>
                    </a:cubicBezTo>
                    <a:lnTo>
                      <a:pt x="14642" y="8"/>
                    </a:lnTo>
                    <a:cubicBezTo>
                      <a:pt x="14641" y="8"/>
                      <a:pt x="14640" y="7"/>
                      <a:pt x="14640" y="6"/>
                    </a:cubicBezTo>
                    <a:cubicBezTo>
                      <a:pt x="14640" y="5"/>
                      <a:pt x="14641" y="4"/>
                      <a:pt x="14642" y="4"/>
                    </a:cubicBezTo>
                    <a:close/>
                    <a:moveTo>
                      <a:pt x="14650" y="4"/>
                    </a:moveTo>
                    <a:lnTo>
                      <a:pt x="14650" y="4"/>
                    </a:lnTo>
                    <a:cubicBezTo>
                      <a:pt x="14651" y="4"/>
                      <a:pt x="14652" y="5"/>
                      <a:pt x="14652" y="6"/>
                    </a:cubicBezTo>
                    <a:cubicBezTo>
                      <a:pt x="14652" y="7"/>
                      <a:pt x="14651" y="8"/>
                      <a:pt x="14650" y="8"/>
                    </a:cubicBezTo>
                    <a:lnTo>
                      <a:pt x="14650" y="8"/>
                    </a:lnTo>
                    <a:cubicBezTo>
                      <a:pt x="14649" y="8"/>
                      <a:pt x="14648" y="7"/>
                      <a:pt x="14648" y="6"/>
                    </a:cubicBezTo>
                    <a:cubicBezTo>
                      <a:pt x="14648" y="5"/>
                      <a:pt x="14649" y="4"/>
                      <a:pt x="14650" y="4"/>
                    </a:cubicBezTo>
                    <a:close/>
                    <a:moveTo>
                      <a:pt x="14658" y="4"/>
                    </a:moveTo>
                    <a:lnTo>
                      <a:pt x="14658" y="4"/>
                    </a:lnTo>
                    <a:cubicBezTo>
                      <a:pt x="14659" y="4"/>
                      <a:pt x="14660" y="5"/>
                      <a:pt x="14660" y="6"/>
                    </a:cubicBezTo>
                    <a:cubicBezTo>
                      <a:pt x="14660" y="7"/>
                      <a:pt x="14659" y="8"/>
                      <a:pt x="14658" y="8"/>
                    </a:cubicBezTo>
                    <a:lnTo>
                      <a:pt x="14658" y="8"/>
                    </a:lnTo>
                    <a:cubicBezTo>
                      <a:pt x="14657" y="8"/>
                      <a:pt x="14656" y="7"/>
                      <a:pt x="14656" y="6"/>
                    </a:cubicBezTo>
                    <a:cubicBezTo>
                      <a:pt x="14656" y="5"/>
                      <a:pt x="14657" y="4"/>
                      <a:pt x="14658" y="4"/>
                    </a:cubicBezTo>
                    <a:close/>
                    <a:moveTo>
                      <a:pt x="14666" y="4"/>
                    </a:moveTo>
                    <a:lnTo>
                      <a:pt x="14666" y="4"/>
                    </a:lnTo>
                    <a:cubicBezTo>
                      <a:pt x="14667" y="4"/>
                      <a:pt x="14668" y="5"/>
                      <a:pt x="14668" y="6"/>
                    </a:cubicBezTo>
                    <a:cubicBezTo>
                      <a:pt x="14668" y="7"/>
                      <a:pt x="14667" y="8"/>
                      <a:pt x="14666" y="8"/>
                    </a:cubicBezTo>
                    <a:lnTo>
                      <a:pt x="14666" y="8"/>
                    </a:lnTo>
                    <a:cubicBezTo>
                      <a:pt x="14665" y="8"/>
                      <a:pt x="14664" y="7"/>
                      <a:pt x="14664" y="6"/>
                    </a:cubicBezTo>
                    <a:cubicBezTo>
                      <a:pt x="14664" y="5"/>
                      <a:pt x="14665" y="4"/>
                      <a:pt x="14666" y="4"/>
                    </a:cubicBezTo>
                    <a:close/>
                    <a:moveTo>
                      <a:pt x="14674" y="4"/>
                    </a:moveTo>
                    <a:lnTo>
                      <a:pt x="14674" y="4"/>
                    </a:lnTo>
                    <a:cubicBezTo>
                      <a:pt x="14675" y="4"/>
                      <a:pt x="14676" y="5"/>
                      <a:pt x="14676" y="6"/>
                    </a:cubicBezTo>
                    <a:cubicBezTo>
                      <a:pt x="14676" y="7"/>
                      <a:pt x="14675" y="8"/>
                      <a:pt x="14674" y="8"/>
                    </a:cubicBezTo>
                    <a:lnTo>
                      <a:pt x="14674" y="8"/>
                    </a:lnTo>
                    <a:cubicBezTo>
                      <a:pt x="14673" y="8"/>
                      <a:pt x="14672" y="7"/>
                      <a:pt x="14672" y="6"/>
                    </a:cubicBezTo>
                    <a:cubicBezTo>
                      <a:pt x="14672" y="5"/>
                      <a:pt x="14673" y="4"/>
                      <a:pt x="14674" y="4"/>
                    </a:cubicBezTo>
                    <a:close/>
                    <a:moveTo>
                      <a:pt x="14682" y="4"/>
                    </a:moveTo>
                    <a:lnTo>
                      <a:pt x="14682" y="4"/>
                    </a:lnTo>
                    <a:cubicBezTo>
                      <a:pt x="14683" y="4"/>
                      <a:pt x="14684" y="5"/>
                      <a:pt x="14684" y="6"/>
                    </a:cubicBezTo>
                    <a:cubicBezTo>
                      <a:pt x="14684" y="7"/>
                      <a:pt x="14683" y="8"/>
                      <a:pt x="14682" y="8"/>
                    </a:cubicBezTo>
                    <a:lnTo>
                      <a:pt x="14682" y="8"/>
                    </a:lnTo>
                    <a:cubicBezTo>
                      <a:pt x="14681" y="8"/>
                      <a:pt x="14680" y="7"/>
                      <a:pt x="14680" y="6"/>
                    </a:cubicBezTo>
                    <a:cubicBezTo>
                      <a:pt x="14680" y="5"/>
                      <a:pt x="14681" y="4"/>
                      <a:pt x="14682" y="4"/>
                    </a:cubicBezTo>
                    <a:close/>
                    <a:moveTo>
                      <a:pt x="14690" y="4"/>
                    </a:moveTo>
                    <a:lnTo>
                      <a:pt x="14690" y="4"/>
                    </a:lnTo>
                    <a:cubicBezTo>
                      <a:pt x="14691" y="4"/>
                      <a:pt x="14692" y="5"/>
                      <a:pt x="14692" y="6"/>
                    </a:cubicBezTo>
                    <a:cubicBezTo>
                      <a:pt x="14692" y="7"/>
                      <a:pt x="14691" y="8"/>
                      <a:pt x="14690" y="8"/>
                    </a:cubicBezTo>
                    <a:lnTo>
                      <a:pt x="14690" y="8"/>
                    </a:lnTo>
                    <a:cubicBezTo>
                      <a:pt x="14689" y="8"/>
                      <a:pt x="14688" y="7"/>
                      <a:pt x="14688" y="6"/>
                    </a:cubicBezTo>
                    <a:cubicBezTo>
                      <a:pt x="14688" y="5"/>
                      <a:pt x="14689" y="4"/>
                      <a:pt x="14690" y="4"/>
                    </a:cubicBezTo>
                    <a:close/>
                    <a:moveTo>
                      <a:pt x="14698" y="4"/>
                    </a:moveTo>
                    <a:lnTo>
                      <a:pt x="14698" y="4"/>
                    </a:lnTo>
                    <a:cubicBezTo>
                      <a:pt x="14699" y="4"/>
                      <a:pt x="14700" y="5"/>
                      <a:pt x="14700" y="6"/>
                    </a:cubicBezTo>
                    <a:cubicBezTo>
                      <a:pt x="14700" y="7"/>
                      <a:pt x="14699" y="8"/>
                      <a:pt x="14698" y="8"/>
                    </a:cubicBezTo>
                    <a:lnTo>
                      <a:pt x="14698" y="8"/>
                    </a:lnTo>
                    <a:cubicBezTo>
                      <a:pt x="14697" y="8"/>
                      <a:pt x="14696" y="7"/>
                      <a:pt x="14696" y="6"/>
                    </a:cubicBezTo>
                    <a:cubicBezTo>
                      <a:pt x="14696" y="5"/>
                      <a:pt x="14697" y="4"/>
                      <a:pt x="14698" y="4"/>
                    </a:cubicBezTo>
                    <a:close/>
                    <a:moveTo>
                      <a:pt x="14706" y="4"/>
                    </a:moveTo>
                    <a:lnTo>
                      <a:pt x="14706" y="4"/>
                    </a:lnTo>
                    <a:cubicBezTo>
                      <a:pt x="14707" y="4"/>
                      <a:pt x="14708" y="5"/>
                      <a:pt x="14708" y="6"/>
                    </a:cubicBezTo>
                    <a:cubicBezTo>
                      <a:pt x="14708" y="7"/>
                      <a:pt x="14707" y="8"/>
                      <a:pt x="14706" y="8"/>
                    </a:cubicBezTo>
                    <a:lnTo>
                      <a:pt x="14706" y="8"/>
                    </a:lnTo>
                    <a:cubicBezTo>
                      <a:pt x="14705" y="8"/>
                      <a:pt x="14704" y="7"/>
                      <a:pt x="14704" y="6"/>
                    </a:cubicBezTo>
                    <a:cubicBezTo>
                      <a:pt x="14704" y="5"/>
                      <a:pt x="14705" y="4"/>
                      <a:pt x="14706" y="4"/>
                    </a:cubicBezTo>
                    <a:close/>
                    <a:moveTo>
                      <a:pt x="14714" y="4"/>
                    </a:moveTo>
                    <a:lnTo>
                      <a:pt x="14714" y="4"/>
                    </a:lnTo>
                    <a:cubicBezTo>
                      <a:pt x="14715" y="4"/>
                      <a:pt x="14716" y="5"/>
                      <a:pt x="14716" y="6"/>
                    </a:cubicBezTo>
                    <a:cubicBezTo>
                      <a:pt x="14716" y="7"/>
                      <a:pt x="14715" y="8"/>
                      <a:pt x="14714" y="8"/>
                    </a:cubicBezTo>
                    <a:lnTo>
                      <a:pt x="14714" y="8"/>
                    </a:lnTo>
                    <a:cubicBezTo>
                      <a:pt x="14713" y="8"/>
                      <a:pt x="14712" y="7"/>
                      <a:pt x="14712" y="6"/>
                    </a:cubicBezTo>
                    <a:cubicBezTo>
                      <a:pt x="14712" y="5"/>
                      <a:pt x="14713" y="4"/>
                      <a:pt x="14714" y="4"/>
                    </a:cubicBezTo>
                    <a:close/>
                    <a:moveTo>
                      <a:pt x="14722" y="4"/>
                    </a:moveTo>
                    <a:lnTo>
                      <a:pt x="14722" y="4"/>
                    </a:lnTo>
                    <a:cubicBezTo>
                      <a:pt x="14723" y="4"/>
                      <a:pt x="14724" y="5"/>
                      <a:pt x="14724" y="6"/>
                    </a:cubicBezTo>
                    <a:cubicBezTo>
                      <a:pt x="14724" y="7"/>
                      <a:pt x="14723" y="8"/>
                      <a:pt x="14722" y="8"/>
                    </a:cubicBezTo>
                    <a:lnTo>
                      <a:pt x="14722" y="8"/>
                    </a:lnTo>
                    <a:cubicBezTo>
                      <a:pt x="14721" y="8"/>
                      <a:pt x="14720" y="7"/>
                      <a:pt x="14720" y="6"/>
                    </a:cubicBezTo>
                    <a:cubicBezTo>
                      <a:pt x="14720" y="5"/>
                      <a:pt x="14721" y="4"/>
                      <a:pt x="14722" y="4"/>
                    </a:cubicBezTo>
                    <a:close/>
                    <a:moveTo>
                      <a:pt x="14730" y="4"/>
                    </a:moveTo>
                    <a:lnTo>
                      <a:pt x="14730" y="4"/>
                    </a:lnTo>
                    <a:cubicBezTo>
                      <a:pt x="14731" y="4"/>
                      <a:pt x="14732" y="5"/>
                      <a:pt x="14732" y="6"/>
                    </a:cubicBezTo>
                    <a:cubicBezTo>
                      <a:pt x="14732" y="7"/>
                      <a:pt x="14731" y="8"/>
                      <a:pt x="14730" y="8"/>
                    </a:cubicBezTo>
                    <a:lnTo>
                      <a:pt x="14730" y="8"/>
                    </a:lnTo>
                    <a:cubicBezTo>
                      <a:pt x="14729" y="8"/>
                      <a:pt x="14728" y="7"/>
                      <a:pt x="14728" y="6"/>
                    </a:cubicBezTo>
                    <a:cubicBezTo>
                      <a:pt x="14728" y="5"/>
                      <a:pt x="14729" y="4"/>
                      <a:pt x="14730" y="4"/>
                    </a:cubicBezTo>
                    <a:close/>
                    <a:moveTo>
                      <a:pt x="14738" y="4"/>
                    </a:moveTo>
                    <a:lnTo>
                      <a:pt x="14738" y="4"/>
                    </a:lnTo>
                    <a:cubicBezTo>
                      <a:pt x="14739" y="4"/>
                      <a:pt x="14740" y="5"/>
                      <a:pt x="14740" y="6"/>
                    </a:cubicBezTo>
                    <a:cubicBezTo>
                      <a:pt x="14740" y="7"/>
                      <a:pt x="14739" y="8"/>
                      <a:pt x="14738" y="8"/>
                    </a:cubicBezTo>
                    <a:lnTo>
                      <a:pt x="14738" y="8"/>
                    </a:lnTo>
                    <a:cubicBezTo>
                      <a:pt x="14737" y="8"/>
                      <a:pt x="14736" y="7"/>
                      <a:pt x="14736" y="6"/>
                    </a:cubicBezTo>
                    <a:cubicBezTo>
                      <a:pt x="14736" y="5"/>
                      <a:pt x="14737" y="4"/>
                      <a:pt x="14738" y="4"/>
                    </a:cubicBezTo>
                    <a:close/>
                    <a:moveTo>
                      <a:pt x="14746" y="4"/>
                    </a:moveTo>
                    <a:lnTo>
                      <a:pt x="14746" y="4"/>
                    </a:lnTo>
                    <a:cubicBezTo>
                      <a:pt x="14747" y="4"/>
                      <a:pt x="14748" y="5"/>
                      <a:pt x="14748" y="6"/>
                    </a:cubicBezTo>
                    <a:cubicBezTo>
                      <a:pt x="14748" y="7"/>
                      <a:pt x="14747" y="8"/>
                      <a:pt x="14746" y="8"/>
                    </a:cubicBezTo>
                    <a:lnTo>
                      <a:pt x="14746" y="8"/>
                    </a:lnTo>
                    <a:cubicBezTo>
                      <a:pt x="14745" y="8"/>
                      <a:pt x="14744" y="7"/>
                      <a:pt x="14744" y="6"/>
                    </a:cubicBezTo>
                    <a:cubicBezTo>
                      <a:pt x="14744" y="5"/>
                      <a:pt x="14745" y="4"/>
                      <a:pt x="14746" y="4"/>
                    </a:cubicBezTo>
                    <a:close/>
                    <a:moveTo>
                      <a:pt x="14754" y="4"/>
                    </a:moveTo>
                    <a:lnTo>
                      <a:pt x="14754" y="4"/>
                    </a:lnTo>
                    <a:cubicBezTo>
                      <a:pt x="14755" y="4"/>
                      <a:pt x="14756" y="5"/>
                      <a:pt x="14756" y="6"/>
                    </a:cubicBezTo>
                    <a:cubicBezTo>
                      <a:pt x="14756" y="7"/>
                      <a:pt x="14755" y="8"/>
                      <a:pt x="14754" y="8"/>
                    </a:cubicBezTo>
                    <a:lnTo>
                      <a:pt x="14754" y="8"/>
                    </a:lnTo>
                    <a:cubicBezTo>
                      <a:pt x="14753" y="8"/>
                      <a:pt x="14752" y="7"/>
                      <a:pt x="14752" y="6"/>
                    </a:cubicBezTo>
                    <a:cubicBezTo>
                      <a:pt x="14752" y="5"/>
                      <a:pt x="14753" y="4"/>
                      <a:pt x="14754" y="4"/>
                    </a:cubicBezTo>
                    <a:close/>
                    <a:moveTo>
                      <a:pt x="14762" y="4"/>
                    </a:moveTo>
                    <a:lnTo>
                      <a:pt x="14762" y="4"/>
                    </a:lnTo>
                    <a:cubicBezTo>
                      <a:pt x="14763" y="4"/>
                      <a:pt x="14764" y="5"/>
                      <a:pt x="14764" y="6"/>
                    </a:cubicBezTo>
                    <a:cubicBezTo>
                      <a:pt x="14764" y="7"/>
                      <a:pt x="14763" y="8"/>
                      <a:pt x="14762" y="8"/>
                    </a:cubicBezTo>
                    <a:lnTo>
                      <a:pt x="14762" y="8"/>
                    </a:lnTo>
                    <a:cubicBezTo>
                      <a:pt x="14761" y="8"/>
                      <a:pt x="14760" y="7"/>
                      <a:pt x="14760" y="6"/>
                    </a:cubicBezTo>
                    <a:cubicBezTo>
                      <a:pt x="14760" y="5"/>
                      <a:pt x="14761" y="4"/>
                      <a:pt x="14762" y="4"/>
                    </a:cubicBezTo>
                    <a:close/>
                    <a:moveTo>
                      <a:pt x="14770" y="4"/>
                    </a:moveTo>
                    <a:lnTo>
                      <a:pt x="14770" y="4"/>
                    </a:lnTo>
                    <a:cubicBezTo>
                      <a:pt x="14771" y="4"/>
                      <a:pt x="14772" y="5"/>
                      <a:pt x="14772" y="6"/>
                    </a:cubicBezTo>
                    <a:cubicBezTo>
                      <a:pt x="14772" y="7"/>
                      <a:pt x="14771" y="8"/>
                      <a:pt x="14770" y="8"/>
                    </a:cubicBezTo>
                    <a:lnTo>
                      <a:pt x="14770" y="8"/>
                    </a:lnTo>
                    <a:cubicBezTo>
                      <a:pt x="14769" y="8"/>
                      <a:pt x="14768" y="7"/>
                      <a:pt x="14768" y="6"/>
                    </a:cubicBezTo>
                    <a:cubicBezTo>
                      <a:pt x="14768" y="5"/>
                      <a:pt x="14769" y="4"/>
                      <a:pt x="14770" y="4"/>
                    </a:cubicBezTo>
                    <a:close/>
                    <a:moveTo>
                      <a:pt x="14778" y="4"/>
                    </a:moveTo>
                    <a:lnTo>
                      <a:pt x="14778" y="4"/>
                    </a:lnTo>
                    <a:cubicBezTo>
                      <a:pt x="14779" y="4"/>
                      <a:pt x="14780" y="5"/>
                      <a:pt x="14780" y="6"/>
                    </a:cubicBezTo>
                    <a:cubicBezTo>
                      <a:pt x="14780" y="7"/>
                      <a:pt x="14779" y="8"/>
                      <a:pt x="14778" y="8"/>
                    </a:cubicBezTo>
                    <a:lnTo>
                      <a:pt x="14778" y="8"/>
                    </a:lnTo>
                    <a:cubicBezTo>
                      <a:pt x="14777" y="8"/>
                      <a:pt x="14776" y="7"/>
                      <a:pt x="14776" y="6"/>
                    </a:cubicBezTo>
                    <a:cubicBezTo>
                      <a:pt x="14776" y="5"/>
                      <a:pt x="14777" y="4"/>
                      <a:pt x="14778" y="4"/>
                    </a:cubicBezTo>
                    <a:close/>
                    <a:moveTo>
                      <a:pt x="14786" y="4"/>
                    </a:moveTo>
                    <a:lnTo>
                      <a:pt x="14786" y="4"/>
                    </a:lnTo>
                    <a:cubicBezTo>
                      <a:pt x="14787" y="4"/>
                      <a:pt x="14788" y="5"/>
                      <a:pt x="14788" y="6"/>
                    </a:cubicBezTo>
                    <a:cubicBezTo>
                      <a:pt x="14788" y="7"/>
                      <a:pt x="14787" y="8"/>
                      <a:pt x="14786" y="8"/>
                    </a:cubicBezTo>
                    <a:lnTo>
                      <a:pt x="14786" y="8"/>
                    </a:lnTo>
                    <a:cubicBezTo>
                      <a:pt x="14785" y="8"/>
                      <a:pt x="14784" y="7"/>
                      <a:pt x="14784" y="6"/>
                    </a:cubicBezTo>
                    <a:cubicBezTo>
                      <a:pt x="14784" y="5"/>
                      <a:pt x="14785" y="4"/>
                      <a:pt x="14786" y="4"/>
                    </a:cubicBezTo>
                    <a:close/>
                    <a:moveTo>
                      <a:pt x="14794" y="4"/>
                    </a:moveTo>
                    <a:lnTo>
                      <a:pt x="14794" y="4"/>
                    </a:lnTo>
                    <a:cubicBezTo>
                      <a:pt x="14795" y="4"/>
                      <a:pt x="14796" y="5"/>
                      <a:pt x="14796" y="6"/>
                    </a:cubicBezTo>
                    <a:cubicBezTo>
                      <a:pt x="14796" y="7"/>
                      <a:pt x="14795" y="8"/>
                      <a:pt x="14794" y="8"/>
                    </a:cubicBezTo>
                    <a:lnTo>
                      <a:pt x="14794" y="8"/>
                    </a:lnTo>
                    <a:cubicBezTo>
                      <a:pt x="14793" y="8"/>
                      <a:pt x="14792" y="7"/>
                      <a:pt x="14792" y="6"/>
                    </a:cubicBezTo>
                    <a:cubicBezTo>
                      <a:pt x="14792" y="5"/>
                      <a:pt x="14793" y="4"/>
                      <a:pt x="14794" y="4"/>
                    </a:cubicBezTo>
                    <a:close/>
                    <a:moveTo>
                      <a:pt x="14802" y="4"/>
                    </a:moveTo>
                    <a:lnTo>
                      <a:pt x="14802" y="4"/>
                    </a:lnTo>
                    <a:cubicBezTo>
                      <a:pt x="14803" y="4"/>
                      <a:pt x="14804" y="5"/>
                      <a:pt x="14804" y="6"/>
                    </a:cubicBezTo>
                    <a:cubicBezTo>
                      <a:pt x="14804" y="7"/>
                      <a:pt x="14803" y="8"/>
                      <a:pt x="14802" y="8"/>
                    </a:cubicBezTo>
                    <a:lnTo>
                      <a:pt x="14802" y="8"/>
                    </a:lnTo>
                    <a:cubicBezTo>
                      <a:pt x="14801" y="8"/>
                      <a:pt x="14800" y="7"/>
                      <a:pt x="14800" y="6"/>
                    </a:cubicBezTo>
                    <a:cubicBezTo>
                      <a:pt x="14800" y="5"/>
                      <a:pt x="14801" y="4"/>
                      <a:pt x="14802" y="4"/>
                    </a:cubicBezTo>
                    <a:close/>
                    <a:moveTo>
                      <a:pt x="14810" y="4"/>
                    </a:moveTo>
                    <a:lnTo>
                      <a:pt x="14810" y="4"/>
                    </a:lnTo>
                    <a:cubicBezTo>
                      <a:pt x="14811" y="4"/>
                      <a:pt x="14812" y="5"/>
                      <a:pt x="14812" y="6"/>
                    </a:cubicBezTo>
                    <a:cubicBezTo>
                      <a:pt x="14812" y="7"/>
                      <a:pt x="14811" y="8"/>
                      <a:pt x="14810" y="8"/>
                    </a:cubicBezTo>
                    <a:lnTo>
                      <a:pt x="14810" y="8"/>
                    </a:lnTo>
                    <a:cubicBezTo>
                      <a:pt x="14809" y="8"/>
                      <a:pt x="14808" y="7"/>
                      <a:pt x="14808" y="6"/>
                    </a:cubicBezTo>
                    <a:cubicBezTo>
                      <a:pt x="14808" y="5"/>
                      <a:pt x="14809" y="4"/>
                      <a:pt x="14810" y="4"/>
                    </a:cubicBezTo>
                    <a:close/>
                    <a:moveTo>
                      <a:pt x="14818" y="4"/>
                    </a:moveTo>
                    <a:lnTo>
                      <a:pt x="14818" y="4"/>
                    </a:lnTo>
                    <a:cubicBezTo>
                      <a:pt x="14819" y="4"/>
                      <a:pt x="14820" y="5"/>
                      <a:pt x="14820" y="6"/>
                    </a:cubicBezTo>
                    <a:cubicBezTo>
                      <a:pt x="14820" y="7"/>
                      <a:pt x="14819" y="8"/>
                      <a:pt x="14818" y="8"/>
                    </a:cubicBezTo>
                    <a:lnTo>
                      <a:pt x="14818" y="8"/>
                    </a:lnTo>
                    <a:cubicBezTo>
                      <a:pt x="14817" y="8"/>
                      <a:pt x="14816" y="7"/>
                      <a:pt x="14816" y="6"/>
                    </a:cubicBezTo>
                    <a:cubicBezTo>
                      <a:pt x="14816" y="5"/>
                      <a:pt x="14817" y="4"/>
                      <a:pt x="14818" y="4"/>
                    </a:cubicBezTo>
                    <a:close/>
                    <a:moveTo>
                      <a:pt x="14826" y="4"/>
                    </a:moveTo>
                    <a:lnTo>
                      <a:pt x="14826" y="4"/>
                    </a:lnTo>
                    <a:cubicBezTo>
                      <a:pt x="14827" y="4"/>
                      <a:pt x="14828" y="5"/>
                      <a:pt x="14828" y="6"/>
                    </a:cubicBezTo>
                    <a:cubicBezTo>
                      <a:pt x="14828" y="7"/>
                      <a:pt x="14827" y="8"/>
                      <a:pt x="14826" y="8"/>
                    </a:cubicBezTo>
                    <a:lnTo>
                      <a:pt x="14826" y="8"/>
                    </a:lnTo>
                    <a:cubicBezTo>
                      <a:pt x="14825" y="8"/>
                      <a:pt x="14824" y="7"/>
                      <a:pt x="14824" y="6"/>
                    </a:cubicBezTo>
                    <a:cubicBezTo>
                      <a:pt x="14824" y="5"/>
                      <a:pt x="14825" y="4"/>
                      <a:pt x="14826" y="4"/>
                    </a:cubicBezTo>
                    <a:close/>
                    <a:moveTo>
                      <a:pt x="14834" y="4"/>
                    </a:moveTo>
                    <a:lnTo>
                      <a:pt x="14834" y="4"/>
                    </a:lnTo>
                    <a:cubicBezTo>
                      <a:pt x="14835" y="4"/>
                      <a:pt x="14836" y="5"/>
                      <a:pt x="14836" y="6"/>
                    </a:cubicBezTo>
                    <a:cubicBezTo>
                      <a:pt x="14836" y="7"/>
                      <a:pt x="14835" y="8"/>
                      <a:pt x="14834" y="8"/>
                    </a:cubicBezTo>
                    <a:lnTo>
                      <a:pt x="14834" y="8"/>
                    </a:lnTo>
                    <a:cubicBezTo>
                      <a:pt x="14833" y="8"/>
                      <a:pt x="14832" y="7"/>
                      <a:pt x="14832" y="6"/>
                    </a:cubicBezTo>
                    <a:cubicBezTo>
                      <a:pt x="14832" y="5"/>
                      <a:pt x="14833" y="4"/>
                      <a:pt x="14834" y="4"/>
                    </a:cubicBezTo>
                    <a:close/>
                    <a:moveTo>
                      <a:pt x="14842" y="4"/>
                    </a:moveTo>
                    <a:lnTo>
                      <a:pt x="14842" y="4"/>
                    </a:lnTo>
                    <a:cubicBezTo>
                      <a:pt x="14843" y="4"/>
                      <a:pt x="14844" y="5"/>
                      <a:pt x="14844" y="6"/>
                    </a:cubicBezTo>
                    <a:cubicBezTo>
                      <a:pt x="14844" y="7"/>
                      <a:pt x="14843" y="8"/>
                      <a:pt x="14842" y="8"/>
                    </a:cubicBezTo>
                    <a:lnTo>
                      <a:pt x="14842" y="8"/>
                    </a:lnTo>
                    <a:cubicBezTo>
                      <a:pt x="14841" y="8"/>
                      <a:pt x="14840" y="7"/>
                      <a:pt x="14840" y="6"/>
                    </a:cubicBezTo>
                    <a:cubicBezTo>
                      <a:pt x="14840" y="5"/>
                      <a:pt x="14841" y="4"/>
                      <a:pt x="14842" y="4"/>
                    </a:cubicBezTo>
                    <a:close/>
                    <a:moveTo>
                      <a:pt x="14850" y="4"/>
                    </a:moveTo>
                    <a:lnTo>
                      <a:pt x="14850" y="4"/>
                    </a:lnTo>
                    <a:cubicBezTo>
                      <a:pt x="14851" y="4"/>
                      <a:pt x="14852" y="5"/>
                      <a:pt x="14852" y="6"/>
                    </a:cubicBezTo>
                    <a:cubicBezTo>
                      <a:pt x="14852" y="7"/>
                      <a:pt x="14851" y="8"/>
                      <a:pt x="14850" y="8"/>
                    </a:cubicBezTo>
                    <a:lnTo>
                      <a:pt x="14850" y="8"/>
                    </a:lnTo>
                    <a:cubicBezTo>
                      <a:pt x="14849" y="8"/>
                      <a:pt x="14848" y="7"/>
                      <a:pt x="14848" y="6"/>
                    </a:cubicBezTo>
                    <a:cubicBezTo>
                      <a:pt x="14848" y="5"/>
                      <a:pt x="14849" y="4"/>
                      <a:pt x="14850" y="4"/>
                    </a:cubicBezTo>
                    <a:close/>
                    <a:moveTo>
                      <a:pt x="14858" y="4"/>
                    </a:moveTo>
                    <a:lnTo>
                      <a:pt x="14858" y="4"/>
                    </a:lnTo>
                    <a:cubicBezTo>
                      <a:pt x="14859" y="4"/>
                      <a:pt x="14860" y="5"/>
                      <a:pt x="14860" y="6"/>
                    </a:cubicBezTo>
                    <a:cubicBezTo>
                      <a:pt x="14860" y="7"/>
                      <a:pt x="14859" y="8"/>
                      <a:pt x="14858" y="8"/>
                    </a:cubicBezTo>
                    <a:lnTo>
                      <a:pt x="14858" y="8"/>
                    </a:lnTo>
                    <a:cubicBezTo>
                      <a:pt x="14857" y="8"/>
                      <a:pt x="14856" y="7"/>
                      <a:pt x="14856" y="6"/>
                    </a:cubicBezTo>
                    <a:cubicBezTo>
                      <a:pt x="14856" y="5"/>
                      <a:pt x="14857" y="4"/>
                      <a:pt x="14858" y="4"/>
                    </a:cubicBezTo>
                    <a:close/>
                    <a:moveTo>
                      <a:pt x="14866" y="4"/>
                    </a:moveTo>
                    <a:lnTo>
                      <a:pt x="14866" y="4"/>
                    </a:lnTo>
                    <a:cubicBezTo>
                      <a:pt x="14867" y="4"/>
                      <a:pt x="14868" y="5"/>
                      <a:pt x="14868" y="6"/>
                    </a:cubicBezTo>
                    <a:cubicBezTo>
                      <a:pt x="14868" y="7"/>
                      <a:pt x="14867" y="8"/>
                      <a:pt x="14866" y="8"/>
                    </a:cubicBezTo>
                    <a:lnTo>
                      <a:pt x="14866" y="8"/>
                    </a:lnTo>
                    <a:cubicBezTo>
                      <a:pt x="14865" y="8"/>
                      <a:pt x="14864" y="7"/>
                      <a:pt x="14864" y="6"/>
                    </a:cubicBezTo>
                    <a:cubicBezTo>
                      <a:pt x="14864" y="5"/>
                      <a:pt x="14865" y="4"/>
                      <a:pt x="14866" y="4"/>
                    </a:cubicBezTo>
                    <a:close/>
                    <a:moveTo>
                      <a:pt x="14874" y="4"/>
                    </a:moveTo>
                    <a:lnTo>
                      <a:pt x="14874" y="4"/>
                    </a:lnTo>
                    <a:cubicBezTo>
                      <a:pt x="14875" y="4"/>
                      <a:pt x="14876" y="5"/>
                      <a:pt x="14876" y="6"/>
                    </a:cubicBezTo>
                    <a:cubicBezTo>
                      <a:pt x="14876" y="7"/>
                      <a:pt x="14875" y="8"/>
                      <a:pt x="14874" y="8"/>
                    </a:cubicBezTo>
                    <a:lnTo>
                      <a:pt x="14874" y="8"/>
                    </a:lnTo>
                    <a:cubicBezTo>
                      <a:pt x="14873" y="8"/>
                      <a:pt x="14872" y="7"/>
                      <a:pt x="14872" y="6"/>
                    </a:cubicBezTo>
                    <a:cubicBezTo>
                      <a:pt x="14872" y="5"/>
                      <a:pt x="14873" y="4"/>
                      <a:pt x="14874" y="4"/>
                    </a:cubicBezTo>
                    <a:close/>
                    <a:moveTo>
                      <a:pt x="14882" y="4"/>
                    </a:moveTo>
                    <a:lnTo>
                      <a:pt x="14882" y="4"/>
                    </a:lnTo>
                    <a:cubicBezTo>
                      <a:pt x="14883" y="4"/>
                      <a:pt x="14884" y="5"/>
                      <a:pt x="14884" y="6"/>
                    </a:cubicBezTo>
                    <a:cubicBezTo>
                      <a:pt x="14884" y="7"/>
                      <a:pt x="14883" y="8"/>
                      <a:pt x="14882" y="8"/>
                    </a:cubicBezTo>
                    <a:lnTo>
                      <a:pt x="14882" y="8"/>
                    </a:lnTo>
                    <a:cubicBezTo>
                      <a:pt x="14881" y="8"/>
                      <a:pt x="14880" y="7"/>
                      <a:pt x="14880" y="6"/>
                    </a:cubicBezTo>
                    <a:cubicBezTo>
                      <a:pt x="14880" y="5"/>
                      <a:pt x="14881" y="4"/>
                      <a:pt x="14882" y="4"/>
                    </a:cubicBezTo>
                    <a:close/>
                    <a:moveTo>
                      <a:pt x="14890" y="4"/>
                    </a:moveTo>
                    <a:lnTo>
                      <a:pt x="14890" y="4"/>
                    </a:lnTo>
                    <a:cubicBezTo>
                      <a:pt x="14891" y="4"/>
                      <a:pt x="14892" y="5"/>
                      <a:pt x="14892" y="6"/>
                    </a:cubicBezTo>
                    <a:cubicBezTo>
                      <a:pt x="14892" y="7"/>
                      <a:pt x="14891" y="8"/>
                      <a:pt x="14890" y="8"/>
                    </a:cubicBezTo>
                    <a:lnTo>
                      <a:pt x="14890" y="8"/>
                    </a:lnTo>
                    <a:cubicBezTo>
                      <a:pt x="14889" y="8"/>
                      <a:pt x="14888" y="7"/>
                      <a:pt x="14888" y="6"/>
                    </a:cubicBezTo>
                    <a:cubicBezTo>
                      <a:pt x="14888" y="5"/>
                      <a:pt x="14889" y="4"/>
                      <a:pt x="14890" y="4"/>
                    </a:cubicBezTo>
                    <a:close/>
                    <a:moveTo>
                      <a:pt x="14898" y="4"/>
                    </a:moveTo>
                    <a:lnTo>
                      <a:pt x="14898" y="4"/>
                    </a:lnTo>
                    <a:cubicBezTo>
                      <a:pt x="14899" y="4"/>
                      <a:pt x="14900" y="5"/>
                      <a:pt x="14900" y="6"/>
                    </a:cubicBezTo>
                    <a:cubicBezTo>
                      <a:pt x="14900" y="7"/>
                      <a:pt x="14899" y="8"/>
                      <a:pt x="14898" y="8"/>
                    </a:cubicBezTo>
                    <a:lnTo>
                      <a:pt x="14898" y="8"/>
                    </a:lnTo>
                    <a:cubicBezTo>
                      <a:pt x="14897" y="8"/>
                      <a:pt x="14896" y="7"/>
                      <a:pt x="14896" y="6"/>
                    </a:cubicBezTo>
                    <a:cubicBezTo>
                      <a:pt x="14896" y="5"/>
                      <a:pt x="14897" y="4"/>
                      <a:pt x="14898" y="4"/>
                    </a:cubicBezTo>
                    <a:close/>
                    <a:moveTo>
                      <a:pt x="14906" y="4"/>
                    </a:moveTo>
                    <a:lnTo>
                      <a:pt x="14906" y="4"/>
                    </a:lnTo>
                    <a:cubicBezTo>
                      <a:pt x="14907" y="4"/>
                      <a:pt x="14908" y="5"/>
                      <a:pt x="14908" y="6"/>
                    </a:cubicBezTo>
                    <a:cubicBezTo>
                      <a:pt x="14908" y="7"/>
                      <a:pt x="14907" y="8"/>
                      <a:pt x="14906" y="8"/>
                    </a:cubicBezTo>
                    <a:lnTo>
                      <a:pt x="14906" y="8"/>
                    </a:lnTo>
                    <a:cubicBezTo>
                      <a:pt x="14905" y="8"/>
                      <a:pt x="14904" y="7"/>
                      <a:pt x="14904" y="6"/>
                    </a:cubicBezTo>
                    <a:cubicBezTo>
                      <a:pt x="14904" y="5"/>
                      <a:pt x="14905" y="4"/>
                      <a:pt x="14906" y="4"/>
                    </a:cubicBezTo>
                    <a:close/>
                    <a:moveTo>
                      <a:pt x="14914" y="4"/>
                    </a:moveTo>
                    <a:lnTo>
                      <a:pt x="14914" y="4"/>
                    </a:lnTo>
                    <a:cubicBezTo>
                      <a:pt x="14915" y="4"/>
                      <a:pt x="14916" y="5"/>
                      <a:pt x="14916" y="6"/>
                    </a:cubicBezTo>
                    <a:cubicBezTo>
                      <a:pt x="14916" y="7"/>
                      <a:pt x="14915" y="8"/>
                      <a:pt x="14914" y="8"/>
                    </a:cubicBezTo>
                    <a:lnTo>
                      <a:pt x="14914" y="8"/>
                    </a:lnTo>
                    <a:cubicBezTo>
                      <a:pt x="14913" y="8"/>
                      <a:pt x="14912" y="7"/>
                      <a:pt x="14912" y="6"/>
                    </a:cubicBezTo>
                    <a:cubicBezTo>
                      <a:pt x="14912" y="5"/>
                      <a:pt x="14913" y="4"/>
                      <a:pt x="14914" y="4"/>
                    </a:cubicBezTo>
                    <a:close/>
                    <a:moveTo>
                      <a:pt x="14922" y="4"/>
                    </a:moveTo>
                    <a:lnTo>
                      <a:pt x="14922" y="4"/>
                    </a:lnTo>
                    <a:cubicBezTo>
                      <a:pt x="14923" y="4"/>
                      <a:pt x="14924" y="5"/>
                      <a:pt x="14924" y="6"/>
                    </a:cubicBezTo>
                    <a:cubicBezTo>
                      <a:pt x="14924" y="7"/>
                      <a:pt x="14923" y="8"/>
                      <a:pt x="14922" y="8"/>
                    </a:cubicBezTo>
                    <a:lnTo>
                      <a:pt x="14922" y="8"/>
                    </a:lnTo>
                    <a:cubicBezTo>
                      <a:pt x="14921" y="8"/>
                      <a:pt x="14920" y="7"/>
                      <a:pt x="14920" y="6"/>
                    </a:cubicBezTo>
                    <a:cubicBezTo>
                      <a:pt x="14920" y="5"/>
                      <a:pt x="14921" y="4"/>
                      <a:pt x="14922" y="4"/>
                    </a:cubicBezTo>
                    <a:close/>
                    <a:moveTo>
                      <a:pt x="14930" y="4"/>
                    </a:moveTo>
                    <a:lnTo>
                      <a:pt x="14930" y="4"/>
                    </a:lnTo>
                    <a:cubicBezTo>
                      <a:pt x="14931" y="4"/>
                      <a:pt x="14932" y="5"/>
                      <a:pt x="14932" y="6"/>
                    </a:cubicBezTo>
                    <a:cubicBezTo>
                      <a:pt x="14932" y="7"/>
                      <a:pt x="14931" y="8"/>
                      <a:pt x="14930" y="8"/>
                    </a:cubicBezTo>
                    <a:lnTo>
                      <a:pt x="14930" y="8"/>
                    </a:lnTo>
                    <a:cubicBezTo>
                      <a:pt x="14929" y="8"/>
                      <a:pt x="14928" y="7"/>
                      <a:pt x="14928" y="6"/>
                    </a:cubicBezTo>
                    <a:cubicBezTo>
                      <a:pt x="14928" y="5"/>
                      <a:pt x="14929" y="4"/>
                      <a:pt x="14930" y="4"/>
                    </a:cubicBezTo>
                    <a:close/>
                    <a:moveTo>
                      <a:pt x="14938" y="4"/>
                    </a:moveTo>
                    <a:lnTo>
                      <a:pt x="14938" y="4"/>
                    </a:lnTo>
                    <a:cubicBezTo>
                      <a:pt x="14939" y="4"/>
                      <a:pt x="14940" y="5"/>
                      <a:pt x="14940" y="6"/>
                    </a:cubicBezTo>
                    <a:cubicBezTo>
                      <a:pt x="14940" y="7"/>
                      <a:pt x="14939" y="8"/>
                      <a:pt x="14938" y="8"/>
                    </a:cubicBezTo>
                    <a:lnTo>
                      <a:pt x="14938" y="8"/>
                    </a:lnTo>
                    <a:cubicBezTo>
                      <a:pt x="14937" y="8"/>
                      <a:pt x="14936" y="7"/>
                      <a:pt x="14936" y="6"/>
                    </a:cubicBezTo>
                    <a:cubicBezTo>
                      <a:pt x="14936" y="5"/>
                      <a:pt x="14937" y="4"/>
                      <a:pt x="14938" y="4"/>
                    </a:cubicBezTo>
                    <a:close/>
                    <a:moveTo>
                      <a:pt x="14946" y="4"/>
                    </a:moveTo>
                    <a:lnTo>
                      <a:pt x="14946" y="4"/>
                    </a:lnTo>
                    <a:cubicBezTo>
                      <a:pt x="14947" y="4"/>
                      <a:pt x="14948" y="5"/>
                      <a:pt x="14948" y="6"/>
                    </a:cubicBezTo>
                    <a:cubicBezTo>
                      <a:pt x="14948" y="7"/>
                      <a:pt x="14947" y="8"/>
                      <a:pt x="14946" y="8"/>
                    </a:cubicBezTo>
                    <a:lnTo>
                      <a:pt x="14946" y="8"/>
                    </a:lnTo>
                    <a:cubicBezTo>
                      <a:pt x="14945" y="8"/>
                      <a:pt x="14944" y="7"/>
                      <a:pt x="14944" y="6"/>
                    </a:cubicBezTo>
                    <a:cubicBezTo>
                      <a:pt x="14944" y="5"/>
                      <a:pt x="14945" y="4"/>
                      <a:pt x="14946" y="4"/>
                    </a:cubicBezTo>
                    <a:close/>
                    <a:moveTo>
                      <a:pt x="14954" y="4"/>
                    </a:moveTo>
                    <a:lnTo>
                      <a:pt x="14954" y="4"/>
                    </a:lnTo>
                    <a:cubicBezTo>
                      <a:pt x="14955" y="4"/>
                      <a:pt x="14956" y="5"/>
                      <a:pt x="14956" y="6"/>
                    </a:cubicBezTo>
                    <a:cubicBezTo>
                      <a:pt x="14956" y="7"/>
                      <a:pt x="14955" y="8"/>
                      <a:pt x="14954" y="8"/>
                    </a:cubicBezTo>
                    <a:lnTo>
                      <a:pt x="14954" y="8"/>
                    </a:lnTo>
                    <a:cubicBezTo>
                      <a:pt x="14953" y="8"/>
                      <a:pt x="14952" y="7"/>
                      <a:pt x="14952" y="6"/>
                    </a:cubicBezTo>
                    <a:cubicBezTo>
                      <a:pt x="14952" y="5"/>
                      <a:pt x="14953" y="4"/>
                      <a:pt x="14954" y="4"/>
                    </a:cubicBezTo>
                    <a:close/>
                    <a:moveTo>
                      <a:pt x="14962" y="4"/>
                    </a:moveTo>
                    <a:lnTo>
                      <a:pt x="14962" y="4"/>
                    </a:lnTo>
                    <a:cubicBezTo>
                      <a:pt x="14963" y="4"/>
                      <a:pt x="14964" y="5"/>
                      <a:pt x="14964" y="6"/>
                    </a:cubicBezTo>
                    <a:cubicBezTo>
                      <a:pt x="14964" y="7"/>
                      <a:pt x="14963" y="8"/>
                      <a:pt x="14962" y="8"/>
                    </a:cubicBezTo>
                    <a:lnTo>
                      <a:pt x="14962" y="8"/>
                    </a:lnTo>
                    <a:cubicBezTo>
                      <a:pt x="14961" y="8"/>
                      <a:pt x="14960" y="7"/>
                      <a:pt x="14960" y="6"/>
                    </a:cubicBezTo>
                    <a:cubicBezTo>
                      <a:pt x="14960" y="5"/>
                      <a:pt x="14961" y="4"/>
                      <a:pt x="14962" y="4"/>
                    </a:cubicBezTo>
                    <a:close/>
                    <a:moveTo>
                      <a:pt x="14970" y="4"/>
                    </a:moveTo>
                    <a:lnTo>
                      <a:pt x="14970" y="4"/>
                    </a:lnTo>
                    <a:cubicBezTo>
                      <a:pt x="14971" y="4"/>
                      <a:pt x="14972" y="5"/>
                      <a:pt x="14972" y="6"/>
                    </a:cubicBezTo>
                    <a:cubicBezTo>
                      <a:pt x="14972" y="7"/>
                      <a:pt x="14971" y="8"/>
                      <a:pt x="14970" y="8"/>
                    </a:cubicBezTo>
                    <a:lnTo>
                      <a:pt x="14970" y="8"/>
                    </a:lnTo>
                    <a:cubicBezTo>
                      <a:pt x="14969" y="8"/>
                      <a:pt x="14968" y="7"/>
                      <a:pt x="14968" y="6"/>
                    </a:cubicBezTo>
                    <a:cubicBezTo>
                      <a:pt x="14968" y="5"/>
                      <a:pt x="14969" y="4"/>
                      <a:pt x="14970" y="4"/>
                    </a:cubicBezTo>
                    <a:close/>
                    <a:moveTo>
                      <a:pt x="14978" y="4"/>
                    </a:moveTo>
                    <a:lnTo>
                      <a:pt x="14978" y="4"/>
                    </a:lnTo>
                    <a:cubicBezTo>
                      <a:pt x="14979" y="4"/>
                      <a:pt x="14980" y="5"/>
                      <a:pt x="14980" y="6"/>
                    </a:cubicBezTo>
                    <a:cubicBezTo>
                      <a:pt x="14980" y="7"/>
                      <a:pt x="14979" y="8"/>
                      <a:pt x="14978" y="8"/>
                    </a:cubicBezTo>
                    <a:lnTo>
                      <a:pt x="14978" y="8"/>
                    </a:lnTo>
                    <a:cubicBezTo>
                      <a:pt x="14977" y="8"/>
                      <a:pt x="14976" y="7"/>
                      <a:pt x="14976" y="6"/>
                    </a:cubicBezTo>
                    <a:cubicBezTo>
                      <a:pt x="14976" y="5"/>
                      <a:pt x="14977" y="4"/>
                      <a:pt x="14978" y="4"/>
                    </a:cubicBezTo>
                    <a:close/>
                    <a:moveTo>
                      <a:pt x="14986" y="4"/>
                    </a:moveTo>
                    <a:lnTo>
                      <a:pt x="14986" y="4"/>
                    </a:lnTo>
                    <a:cubicBezTo>
                      <a:pt x="14987" y="4"/>
                      <a:pt x="14988" y="5"/>
                      <a:pt x="14988" y="6"/>
                    </a:cubicBezTo>
                    <a:cubicBezTo>
                      <a:pt x="14988" y="7"/>
                      <a:pt x="14987" y="8"/>
                      <a:pt x="14986" y="8"/>
                    </a:cubicBezTo>
                    <a:lnTo>
                      <a:pt x="14986" y="8"/>
                    </a:lnTo>
                    <a:cubicBezTo>
                      <a:pt x="14985" y="8"/>
                      <a:pt x="14984" y="7"/>
                      <a:pt x="14984" y="6"/>
                    </a:cubicBezTo>
                    <a:cubicBezTo>
                      <a:pt x="14984" y="5"/>
                      <a:pt x="14985" y="4"/>
                      <a:pt x="14986" y="4"/>
                    </a:cubicBezTo>
                    <a:close/>
                    <a:moveTo>
                      <a:pt x="14994" y="4"/>
                    </a:moveTo>
                    <a:lnTo>
                      <a:pt x="14994" y="4"/>
                    </a:lnTo>
                    <a:cubicBezTo>
                      <a:pt x="14995" y="4"/>
                      <a:pt x="14996" y="5"/>
                      <a:pt x="14996" y="6"/>
                    </a:cubicBezTo>
                    <a:cubicBezTo>
                      <a:pt x="14996" y="7"/>
                      <a:pt x="14995" y="8"/>
                      <a:pt x="14994" y="8"/>
                    </a:cubicBezTo>
                    <a:lnTo>
                      <a:pt x="14994" y="8"/>
                    </a:lnTo>
                    <a:cubicBezTo>
                      <a:pt x="14993" y="8"/>
                      <a:pt x="14992" y="7"/>
                      <a:pt x="14992" y="6"/>
                    </a:cubicBezTo>
                    <a:cubicBezTo>
                      <a:pt x="14992" y="5"/>
                      <a:pt x="14993" y="4"/>
                      <a:pt x="14994" y="4"/>
                    </a:cubicBezTo>
                    <a:close/>
                    <a:moveTo>
                      <a:pt x="15002" y="4"/>
                    </a:moveTo>
                    <a:lnTo>
                      <a:pt x="15002" y="4"/>
                    </a:lnTo>
                    <a:cubicBezTo>
                      <a:pt x="15003" y="4"/>
                      <a:pt x="15004" y="5"/>
                      <a:pt x="15004" y="6"/>
                    </a:cubicBezTo>
                    <a:cubicBezTo>
                      <a:pt x="15004" y="7"/>
                      <a:pt x="15003" y="8"/>
                      <a:pt x="15002" y="8"/>
                    </a:cubicBezTo>
                    <a:lnTo>
                      <a:pt x="15002" y="8"/>
                    </a:lnTo>
                    <a:cubicBezTo>
                      <a:pt x="15001" y="8"/>
                      <a:pt x="15000" y="7"/>
                      <a:pt x="15000" y="6"/>
                    </a:cubicBezTo>
                    <a:cubicBezTo>
                      <a:pt x="15000" y="5"/>
                      <a:pt x="15001" y="4"/>
                      <a:pt x="15002" y="4"/>
                    </a:cubicBezTo>
                    <a:close/>
                    <a:moveTo>
                      <a:pt x="15010" y="4"/>
                    </a:moveTo>
                    <a:lnTo>
                      <a:pt x="15010" y="4"/>
                    </a:lnTo>
                    <a:cubicBezTo>
                      <a:pt x="15011" y="4"/>
                      <a:pt x="15012" y="5"/>
                      <a:pt x="15012" y="6"/>
                    </a:cubicBezTo>
                    <a:cubicBezTo>
                      <a:pt x="15012" y="7"/>
                      <a:pt x="15011" y="8"/>
                      <a:pt x="15010" y="8"/>
                    </a:cubicBezTo>
                    <a:lnTo>
                      <a:pt x="15010" y="8"/>
                    </a:lnTo>
                    <a:cubicBezTo>
                      <a:pt x="15009" y="8"/>
                      <a:pt x="15008" y="7"/>
                      <a:pt x="15008" y="6"/>
                    </a:cubicBezTo>
                    <a:cubicBezTo>
                      <a:pt x="15008" y="5"/>
                      <a:pt x="15009" y="4"/>
                      <a:pt x="15010" y="4"/>
                    </a:cubicBezTo>
                    <a:close/>
                    <a:moveTo>
                      <a:pt x="15018" y="4"/>
                    </a:moveTo>
                    <a:lnTo>
                      <a:pt x="15018" y="4"/>
                    </a:lnTo>
                    <a:cubicBezTo>
                      <a:pt x="15019" y="4"/>
                      <a:pt x="15020" y="5"/>
                      <a:pt x="15020" y="6"/>
                    </a:cubicBezTo>
                    <a:cubicBezTo>
                      <a:pt x="15020" y="7"/>
                      <a:pt x="15019" y="8"/>
                      <a:pt x="15018" y="8"/>
                    </a:cubicBezTo>
                    <a:lnTo>
                      <a:pt x="15018" y="8"/>
                    </a:lnTo>
                    <a:cubicBezTo>
                      <a:pt x="15017" y="8"/>
                      <a:pt x="15016" y="7"/>
                      <a:pt x="15016" y="6"/>
                    </a:cubicBezTo>
                    <a:cubicBezTo>
                      <a:pt x="15016" y="5"/>
                      <a:pt x="15017" y="4"/>
                      <a:pt x="15018" y="4"/>
                    </a:cubicBezTo>
                    <a:close/>
                    <a:moveTo>
                      <a:pt x="15026" y="4"/>
                    </a:moveTo>
                    <a:lnTo>
                      <a:pt x="15026" y="4"/>
                    </a:lnTo>
                    <a:cubicBezTo>
                      <a:pt x="15027" y="4"/>
                      <a:pt x="15028" y="5"/>
                      <a:pt x="15028" y="6"/>
                    </a:cubicBezTo>
                    <a:cubicBezTo>
                      <a:pt x="15028" y="7"/>
                      <a:pt x="15027" y="8"/>
                      <a:pt x="15026" y="8"/>
                    </a:cubicBezTo>
                    <a:lnTo>
                      <a:pt x="15026" y="8"/>
                    </a:lnTo>
                    <a:cubicBezTo>
                      <a:pt x="15025" y="8"/>
                      <a:pt x="15024" y="7"/>
                      <a:pt x="15024" y="6"/>
                    </a:cubicBezTo>
                    <a:cubicBezTo>
                      <a:pt x="15024" y="5"/>
                      <a:pt x="15025" y="4"/>
                      <a:pt x="15026" y="4"/>
                    </a:cubicBezTo>
                    <a:close/>
                    <a:moveTo>
                      <a:pt x="15034" y="4"/>
                    </a:moveTo>
                    <a:lnTo>
                      <a:pt x="15034" y="4"/>
                    </a:lnTo>
                    <a:cubicBezTo>
                      <a:pt x="15035" y="4"/>
                      <a:pt x="15036" y="5"/>
                      <a:pt x="15036" y="6"/>
                    </a:cubicBezTo>
                    <a:cubicBezTo>
                      <a:pt x="15036" y="7"/>
                      <a:pt x="15035" y="8"/>
                      <a:pt x="15034" y="8"/>
                    </a:cubicBezTo>
                    <a:lnTo>
                      <a:pt x="15034" y="8"/>
                    </a:lnTo>
                    <a:cubicBezTo>
                      <a:pt x="15033" y="8"/>
                      <a:pt x="15032" y="7"/>
                      <a:pt x="15032" y="6"/>
                    </a:cubicBezTo>
                    <a:cubicBezTo>
                      <a:pt x="15032" y="5"/>
                      <a:pt x="15033" y="4"/>
                      <a:pt x="15034" y="4"/>
                    </a:cubicBezTo>
                    <a:close/>
                    <a:moveTo>
                      <a:pt x="15042" y="4"/>
                    </a:moveTo>
                    <a:lnTo>
                      <a:pt x="15042" y="4"/>
                    </a:lnTo>
                    <a:cubicBezTo>
                      <a:pt x="15043" y="4"/>
                      <a:pt x="15044" y="5"/>
                      <a:pt x="15044" y="6"/>
                    </a:cubicBezTo>
                    <a:cubicBezTo>
                      <a:pt x="15044" y="7"/>
                      <a:pt x="15043" y="8"/>
                      <a:pt x="15042" y="8"/>
                    </a:cubicBezTo>
                    <a:lnTo>
                      <a:pt x="15042" y="8"/>
                    </a:lnTo>
                    <a:cubicBezTo>
                      <a:pt x="15041" y="8"/>
                      <a:pt x="15040" y="7"/>
                      <a:pt x="15040" y="6"/>
                    </a:cubicBezTo>
                    <a:cubicBezTo>
                      <a:pt x="15040" y="5"/>
                      <a:pt x="15041" y="4"/>
                      <a:pt x="15042" y="4"/>
                    </a:cubicBezTo>
                    <a:close/>
                    <a:moveTo>
                      <a:pt x="15050" y="4"/>
                    </a:moveTo>
                    <a:lnTo>
                      <a:pt x="15050" y="4"/>
                    </a:lnTo>
                    <a:cubicBezTo>
                      <a:pt x="15051" y="4"/>
                      <a:pt x="15052" y="5"/>
                      <a:pt x="15052" y="6"/>
                    </a:cubicBezTo>
                    <a:cubicBezTo>
                      <a:pt x="15052" y="7"/>
                      <a:pt x="15051" y="8"/>
                      <a:pt x="15050" y="8"/>
                    </a:cubicBezTo>
                    <a:lnTo>
                      <a:pt x="15050" y="8"/>
                    </a:lnTo>
                    <a:cubicBezTo>
                      <a:pt x="15049" y="8"/>
                      <a:pt x="15048" y="7"/>
                      <a:pt x="15048" y="6"/>
                    </a:cubicBezTo>
                    <a:cubicBezTo>
                      <a:pt x="15048" y="5"/>
                      <a:pt x="15049" y="4"/>
                      <a:pt x="15050" y="4"/>
                    </a:cubicBezTo>
                    <a:close/>
                    <a:moveTo>
                      <a:pt x="15058" y="4"/>
                    </a:moveTo>
                    <a:lnTo>
                      <a:pt x="15058" y="4"/>
                    </a:lnTo>
                    <a:cubicBezTo>
                      <a:pt x="15059" y="4"/>
                      <a:pt x="15060" y="5"/>
                      <a:pt x="15060" y="6"/>
                    </a:cubicBezTo>
                    <a:cubicBezTo>
                      <a:pt x="15060" y="7"/>
                      <a:pt x="15059" y="8"/>
                      <a:pt x="15058" y="8"/>
                    </a:cubicBezTo>
                    <a:lnTo>
                      <a:pt x="15058" y="8"/>
                    </a:lnTo>
                    <a:cubicBezTo>
                      <a:pt x="15057" y="8"/>
                      <a:pt x="15056" y="7"/>
                      <a:pt x="15056" y="6"/>
                    </a:cubicBezTo>
                    <a:cubicBezTo>
                      <a:pt x="15056" y="5"/>
                      <a:pt x="15057" y="4"/>
                      <a:pt x="15058" y="4"/>
                    </a:cubicBezTo>
                    <a:close/>
                    <a:moveTo>
                      <a:pt x="15066" y="4"/>
                    </a:moveTo>
                    <a:lnTo>
                      <a:pt x="15066" y="4"/>
                    </a:lnTo>
                    <a:cubicBezTo>
                      <a:pt x="15067" y="4"/>
                      <a:pt x="15068" y="5"/>
                      <a:pt x="15068" y="6"/>
                    </a:cubicBezTo>
                    <a:cubicBezTo>
                      <a:pt x="15068" y="7"/>
                      <a:pt x="15067" y="8"/>
                      <a:pt x="15066" y="8"/>
                    </a:cubicBezTo>
                    <a:lnTo>
                      <a:pt x="15066" y="8"/>
                    </a:lnTo>
                    <a:cubicBezTo>
                      <a:pt x="15065" y="8"/>
                      <a:pt x="15064" y="7"/>
                      <a:pt x="15064" y="6"/>
                    </a:cubicBezTo>
                    <a:cubicBezTo>
                      <a:pt x="15064" y="5"/>
                      <a:pt x="15065" y="4"/>
                      <a:pt x="15066" y="4"/>
                    </a:cubicBezTo>
                    <a:close/>
                    <a:moveTo>
                      <a:pt x="15074" y="4"/>
                    </a:moveTo>
                    <a:lnTo>
                      <a:pt x="15074" y="4"/>
                    </a:lnTo>
                    <a:cubicBezTo>
                      <a:pt x="15075" y="4"/>
                      <a:pt x="15076" y="5"/>
                      <a:pt x="15076" y="6"/>
                    </a:cubicBezTo>
                    <a:cubicBezTo>
                      <a:pt x="15076" y="7"/>
                      <a:pt x="15075" y="8"/>
                      <a:pt x="15074" y="8"/>
                    </a:cubicBezTo>
                    <a:lnTo>
                      <a:pt x="15074" y="8"/>
                    </a:lnTo>
                    <a:cubicBezTo>
                      <a:pt x="15073" y="8"/>
                      <a:pt x="15072" y="7"/>
                      <a:pt x="15072" y="6"/>
                    </a:cubicBezTo>
                    <a:cubicBezTo>
                      <a:pt x="15072" y="5"/>
                      <a:pt x="15073" y="4"/>
                      <a:pt x="15074" y="4"/>
                    </a:cubicBezTo>
                    <a:close/>
                    <a:moveTo>
                      <a:pt x="15082" y="4"/>
                    </a:moveTo>
                    <a:lnTo>
                      <a:pt x="15082" y="4"/>
                    </a:lnTo>
                    <a:cubicBezTo>
                      <a:pt x="15083" y="4"/>
                      <a:pt x="15084" y="5"/>
                      <a:pt x="15084" y="6"/>
                    </a:cubicBezTo>
                    <a:cubicBezTo>
                      <a:pt x="15084" y="7"/>
                      <a:pt x="15083" y="8"/>
                      <a:pt x="15082" y="8"/>
                    </a:cubicBezTo>
                    <a:lnTo>
                      <a:pt x="15082" y="8"/>
                    </a:lnTo>
                    <a:cubicBezTo>
                      <a:pt x="15081" y="8"/>
                      <a:pt x="15080" y="7"/>
                      <a:pt x="15080" y="6"/>
                    </a:cubicBezTo>
                    <a:cubicBezTo>
                      <a:pt x="15080" y="5"/>
                      <a:pt x="15081" y="4"/>
                      <a:pt x="15082" y="4"/>
                    </a:cubicBezTo>
                    <a:close/>
                    <a:moveTo>
                      <a:pt x="15090" y="4"/>
                    </a:moveTo>
                    <a:lnTo>
                      <a:pt x="15090" y="4"/>
                    </a:lnTo>
                    <a:cubicBezTo>
                      <a:pt x="15091" y="4"/>
                      <a:pt x="15092" y="5"/>
                      <a:pt x="15092" y="6"/>
                    </a:cubicBezTo>
                    <a:cubicBezTo>
                      <a:pt x="15092" y="7"/>
                      <a:pt x="15091" y="8"/>
                      <a:pt x="15090" y="8"/>
                    </a:cubicBezTo>
                    <a:lnTo>
                      <a:pt x="15090" y="8"/>
                    </a:lnTo>
                    <a:cubicBezTo>
                      <a:pt x="15089" y="8"/>
                      <a:pt x="15088" y="7"/>
                      <a:pt x="15088" y="6"/>
                    </a:cubicBezTo>
                    <a:cubicBezTo>
                      <a:pt x="15088" y="5"/>
                      <a:pt x="15089" y="4"/>
                      <a:pt x="15090" y="4"/>
                    </a:cubicBezTo>
                    <a:close/>
                    <a:moveTo>
                      <a:pt x="15098" y="4"/>
                    </a:moveTo>
                    <a:lnTo>
                      <a:pt x="15098" y="4"/>
                    </a:lnTo>
                    <a:cubicBezTo>
                      <a:pt x="15099" y="4"/>
                      <a:pt x="15100" y="5"/>
                      <a:pt x="15100" y="6"/>
                    </a:cubicBezTo>
                    <a:cubicBezTo>
                      <a:pt x="15100" y="7"/>
                      <a:pt x="15099" y="8"/>
                      <a:pt x="15098" y="8"/>
                    </a:cubicBezTo>
                    <a:lnTo>
                      <a:pt x="15098" y="8"/>
                    </a:lnTo>
                    <a:cubicBezTo>
                      <a:pt x="15097" y="8"/>
                      <a:pt x="15096" y="7"/>
                      <a:pt x="15096" y="6"/>
                    </a:cubicBezTo>
                    <a:cubicBezTo>
                      <a:pt x="15096" y="5"/>
                      <a:pt x="15097" y="4"/>
                      <a:pt x="15098" y="4"/>
                    </a:cubicBezTo>
                    <a:close/>
                    <a:moveTo>
                      <a:pt x="15106" y="4"/>
                    </a:moveTo>
                    <a:lnTo>
                      <a:pt x="15106" y="4"/>
                    </a:lnTo>
                    <a:cubicBezTo>
                      <a:pt x="15107" y="4"/>
                      <a:pt x="15108" y="5"/>
                      <a:pt x="15108" y="6"/>
                    </a:cubicBezTo>
                    <a:cubicBezTo>
                      <a:pt x="15108" y="7"/>
                      <a:pt x="15107" y="8"/>
                      <a:pt x="15106" y="8"/>
                    </a:cubicBezTo>
                    <a:lnTo>
                      <a:pt x="15106" y="8"/>
                    </a:lnTo>
                    <a:cubicBezTo>
                      <a:pt x="15105" y="8"/>
                      <a:pt x="15104" y="7"/>
                      <a:pt x="15104" y="6"/>
                    </a:cubicBezTo>
                    <a:cubicBezTo>
                      <a:pt x="15104" y="5"/>
                      <a:pt x="15105" y="4"/>
                      <a:pt x="15106" y="4"/>
                    </a:cubicBezTo>
                    <a:close/>
                    <a:moveTo>
                      <a:pt x="15114" y="4"/>
                    </a:moveTo>
                    <a:lnTo>
                      <a:pt x="15114" y="4"/>
                    </a:lnTo>
                    <a:cubicBezTo>
                      <a:pt x="15115" y="4"/>
                      <a:pt x="15116" y="5"/>
                      <a:pt x="15116" y="6"/>
                    </a:cubicBezTo>
                    <a:cubicBezTo>
                      <a:pt x="15116" y="7"/>
                      <a:pt x="15115" y="8"/>
                      <a:pt x="15114" y="8"/>
                    </a:cubicBezTo>
                    <a:lnTo>
                      <a:pt x="15114" y="8"/>
                    </a:lnTo>
                    <a:cubicBezTo>
                      <a:pt x="15113" y="8"/>
                      <a:pt x="15112" y="7"/>
                      <a:pt x="15112" y="6"/>
                    </a:cubicBezTo>
                    <a:cubicBezTo>
                      <a:pt x="15112" y="5"/>
                      <a:pt x="15113" y="4"/>
                      <a:pt x="15114" y="4"/>
                    </a:cubicBezTo>
                    <a:close/>
                    <a:moveTo>
                      <a:pt x="15122" y="4"/>
                    </a:moveTo>
                    <a:lnTo>
                      <a:pt x="15122" y="4"/>
                    </a:lnTo>
                    <a:cubicBezTo>
                      <a:pt x="15123" y="4"/>
                      <a:pt x="15124" y="5"/>
                      <a:pt x="15124" y="6"/>
                    </a:cubicBezTo>
                    <a:cubicBezTo>
                      <a:pt x="15124" y="7"/>
                      <a:pt x="15123" y="8"/>
                      <a:pt x="15122" y="8"/>
                    </a:cubicBezTo>
                    <a:lnTo>
                      <a:pt x="15122" y="8"/>
                    </a:lnTo>
                    <a:cubicBezTo>
                      <a:pt x="15121" y="8"/>
                      <a:pt x="15120" y="7"/>
                      <a:pt x="15120" y="6"/>
                    </a:cubicBezTo>
                    <a:cubicBezTo>
                      <a:pt x="15120" y="5"/>
                      <a:pt x="15121" y="4"/>
                      <a:pt x="15122" y="4"/>
                    </a:cubicBezTo>
                    <a:close/>
                    <a:moveTo>
                      <a:pt x="15130" y="4"/>
                    </a:moveTo>
                    <a:lnTo>
                      <a:pt x="15130" y="4"/>
                    </a:lnTo>
                    <a:cubicBezTo>
                      <a:pt x="15131" y="4"/>
                      <a:pt x="15132" y="5"/>
                      <a:pt x="15132" y="6"/>
                    </a:cubicBezTo>
                    <a:cubicBezTo>
                      <a:pt x="15132" y="7"/>
                      <a:pt x="15131" y="8"/>
                      <a:pt x="15130" y="8"/>
                    </a:cubicBezTo>
                    <a:lnTo>
                      <a:pt x="15130" y="8"/>
                    </a:lnTo>
                    <a:cubicBezTo>
                      <a:pt x="15129" y="8"/>
                      <a:pt x="15128" y="7"/>
                      <a:pt x="15128" y="6"/>
                    </a:cubicBezTo>
                    <a:cubicBezTo>
                      <a:pt x="15128" y="5"/>
                      <a:pt x="15129" y="4"/>
                      <a:pt x="15130" y="4"/>
                    </a:cubicBezTo>
                    <a:close/>
                    <a:moveTo>
                      <a:pt x="15138" y="4"/>
                    </a:moveTo>
                    <a:lnTo>
                      <a:pt x="15138" y="4"/>
                    </a:lnTo>
                    <a:cubicBezTo>
                      <a:pt x="15139" y="4"/>
                      <a:pt x="15140" y="5"/>
                      <a:pt x="15140" y="6"/>
                    </a:cubicBezTo>
                    <a:cubicBezTo>
                      <a:pt x="15140" y="7"/>
                      <a:pt x="15139" y="8"/>
                      <a:pt x="15138" y="8"/>
                    </a:cubicBezTo>
                    <a:lnTo>
                      <a:pt x="15138" y="8"/>
                    </a:lnTo>
                    <a:cubicBezTo>
                      <a:pt x="15137" y="8"/>
                      <a:pt x="15136" y="7"/>
                      <a:pt x="15136" y="6"/>
                    </a:cubicBezTo>
                    <a:cubicBezTo>
                      <a:pt x="15136" y="5"/>
                      <a:pt x="15137" y="4"/>
                      <a:pt x="15138" y="4"/>
                    </a:cubicBezTo>
                    <a:close/>
                    <a:moveTo>
                      <a:pt x="15146" y="4"/>
                    </a:moveTo>
                    <a:lnTo>
                      <a:pt x="15146" y="4"/>
                    </a:lnTo>
                    <a:cubicBezTo>
                      <a:pt x="15147" y="4"/>
                      <a:pt x="15148" y="5"/>
                      <a:pt x="15148" y="6"/>
                    </a:cubicBezTo>
                    <a:cubicBezTo>
                      <a:pt x="15148" y="7"/>
                      <a:pt x="15147" y="8"/>
                      <a:pt x="15146" y="8"/>
                    </a:cubicBezTo>
                    <a:lnTo>
                      <a:pt x="15146" y="8"/>
                    </a:lnTo>
                    <a:cubicBezTo>
                      <a:pt x="15145" y="8"/>
                      <a:pt x="15144" y="7"/>
                      <a:pt x="15144" y="6"/>
                    </a:cubicBezTo>
                    <a:cubicBezTo>
                      <a:pt x="15144" y="5"/>
                      <a:pt x="15145" y="4"/>
                      <a:pt x="15146" y="4"/>
                    </a:cubicBezTo>
                    <a:close/>
                    <a:moveTo>
                      <a:pt x="15154" y="4"/>
                    </a:moveTo>
                    <a:lnTo>
                      <a:pt x="15154" y="4"/>
                    </a:lnTo>
                    <a:cubicBezTo>
                      <a:pt x="15155" y="4"/>
                      <a:pt x="15156" y="5"/>
                      <a:pt x="15156" y="6"/>
                    </a:cubicBezTo>
                    <a:cubicBezTo>
                      <a:pt x="15156" y="7"/>
                      <a:pt x="15155" y="8"/>
                      <a:pt x="15154" y="8"/>
                    </a:cubicBezTo>
                    <a:lnTo>
                      <a:pt x="15154" y="8"/>
                    </a:lnTo>
                    <a:cubicBezTo>
                      <a:pt x="15153" y="8"/>
                      <a:pt x="15152" y="7"/>
                      <a:pt x="15152" y="6"/>
                    </a:cubicBezTo>
                    <a:cubicBezTo>
                      <a:pt x="15152" y="5"/>
                      <a:pt x="15153" y="4"/>
                      <a:pt x="15154" y="4"/>
                    </a:cubicBezTo>
                    <a:close/>
                    <a:moveTo>
                      <a:pt x="15162" y="4"/>
                    </a:moveTo>
                    <a:lnTo>
                      <a:pt x="15162" y="4"/>
                    </a:lnTo>
                    <a:cubicBezTo>
                      <a:pt x="15163" y="4"/>
                      <a:pt x="15164" y="5"/>
                      <a:pt x="15164" y="6"/>
                    </a:cubicBezTo>
                    <a:cubicBezTo>
                      <a:pt x="15164" y="7"/>
                      <a:pt x="15163" y="8"/>
                      <a:pt x="15162" y="8"/>
                    </a:cubicBezTo>
                    <a:lnTo>
                      <a:pt x="15162" y="8"/>
                    </a:lnTo>
                    <a:cubicBezTo>
                      <a:pt x="15161" y="8"/>
                      <a:pt x="15160" y="7"/>
                      <a:pt x="15160" y="6"/>
                    </a:cubicBezTo>
                    <a:cubicBezTo>
                      <a:pt x="15160" y="5"/>
                      <a:pt x="15161" y="4"/>
                      <a:pt x="15162" y="4"/>
                    </a:cubicBezTo>
                    <a:close/>
                    <a:moveTo>
                      <a:pt x="15170" y="4"/>
                    </a:moveTo>
                    <a:lnTo>
                      <a:pt x="15170" y="4"/>
                    </a:lnTo>
                    <a:cubicBezTo>
                      <a:pt x="15171" y="4"/>
                      <a:pt x="15172" y="5"/>
                      <a:pt x="15172" y="6"/>
                    </a:cubicBezTo>
                    <a:cubicBezTo>
                      <a:pt x="15172" y="7"/>
                      <a:pt x="15171" y="8"/>
                      <a:pt x="15170" y="8"/>
                    </a:cubicBezTo>
                    <a:lnTo>
                      <a:pt x="15170" y="8"/>
                    </a:lnTo>
                    <a:cubicBezTo>
                      <a:pt x="15169" y="8"/>
                      <a:pt x="15168" y="7"/>
                      <a:pt x="15168" y="6"/>
                    </a:cubicBezTo>
                    <a:cubicBezTo>
                      <a:pt x="15168" y="5"/>
                      <a:pt x="15169" y="4"/>
                      <a:pt x="15170" y="4"/>
                    </a:cubicBezTo>
                    <a:close/>
                    <a:moveTo>
                      <a:pt x="15178" y="4"/>
                    </a:moveTo>
                    <a:lnTo>
                      <a:pt x="15178" y="4"/>
                    </a:lnTo>
                    <a:cubicBezTo>
                      <a:pt x="15179" y="4"/>
                      <a:pt x="15180" y="5"/>
                      <a:pt x="15180" y="6"/>
                    </a:cubicBezTo>
                    <a:cubicBezTo>
                      <a:pt x="15180" y="7"/>
                      <a:pt x="15179" y="8"/>
                      <a:pt x="15178" y="8"/>
                    </a:cubicBezTo>
                    <a:lnTo>
                      <a:pt x="15178" y="8"/>
                    </a:lnTo>
                    <a:cubicBezTo>
                      <a:pt x="15177" y="8"/>
                      <a:pt x="15176" y="7"/>
                      <a:pt x="15176" y="6"/>
                    </a:cubicBezTo>
                    <a:cubicBezTo>
                      <a:pt x="15176" y="5"/>
                      <a:pt x="15177" y="4"/>
                      <a:pt x="15178" y="4"/>
                    </a:cubicBezTo>
                    <a:close/>
                    <a:moveTo>
                      <a:pt x="15186" y="4"/>
                    </a:moveTo>
                    <a:lnTo>
                      <a:pt x="15186" y="4"/>
                    </a:lnTo>
                    <a:cubicBezTo>
                      <a:pt x="15187" y="4"/>
                      <a:pt x="15188" y="5"/>
                      <a:pt x="15188" y="6"/>
                    </a:cubicBezTo>
                    <a:cubicBezTo>
                      <a:pt x="15188" y="7"/>
                      <a:pt x="15187" y="8"/>
                      <a:pt x="15186" y="8"/>
                    </a:cubicBezTo>
                    <a:lnTo>
                      <a:pt x="15186" y="8"/>
                    </a:lnTo>
                    <a:cubicBezTo>
                      <a:pt x="15185" y="8"/>
                      <a:pt x="15184" y="7"/>
                      <a:pt x="15184" y="6"/>
                    </a:cubicBezTo>
                    <a:cubicBezTo>
                      <a:pt x="15184" y="5"/>
                      <a:pt x="15185" y="4"/>
                      <a:pt x="15186" y="4"/>
                    </a:cubicBezTo>
                    <a:close/>
                    <a:moveTo>
                      <a:pt x="15194" y="4"/>
                    </a:moveTo>
                    <a:lnTo>
                      <a:pt x="15194" y="4"/>
                    </a:lnTo>
                    <a:cubicBezTo>
                      <a:pt x="15195" y="4"/>
                      <a:pt x="15196" y="5"/>
                      <a:pt x="15196" y="6"/>
                    </a:cubicBezTo>
                    <a:cubicBezTo>
                      <a:pt x="15196" y="7"/>
                      <a:pt x="15195" y="8"/>
                      <a:pt x="15194" y="8"/>
                    </a:cubicBezTo>
                    <a:lnTo>
                      <a:pt x="15194" y="8"/>
                    </a:lnTo>
                    <a:cubicBezTo>
                      <a:pt x="15193" y="8"/>
                      <a:pt x="15192" y="7"/>
                      <a:pt x="15192" y="6"/>
                    </a:cubicBezTo>
                    <a:cubicBezTo>
                      <a:pt x="15192" y="5"/>
                      <a:pt x="15193" y="4"/>
                      <a:pt x="15194" y="4"/>
                    </a:cubicBezTo>
                    <a:close/>
                    <a:moveTo>
                      <a:pt x="15202" y="4"/>
                    </a:moveTo>
                    <a:lnTo>
                      <a:pt x="15202" y="4"/>
                    </a:lnTo>
                    <a:cubicBezTo>
                      <a:pt x="15203" y="4"/>
                      <a:pt x="15204" y="5"/>
                      <a:pt x="15204" y="6"/>
                    </a:cubicBezTo>
                    <a:cubicBezTo>
                      <a:pt x="15204" y="7"/>
                      <a:pt x="15203" y="8"/>
                      <a:pt x="15202" y="8"/>
                    </a:cubicBezTo>
                    <a:lnTo>
                      <a:pt x="15202" y="8"/>
                    </a:lnTo>
                    <a:cubicBezTo>
                      <a:pt x="15201" y="8"/>
                      <a:pt x="15200" y="7"/>
                      <a:pt x="15200" y="6"/>
                    </a:cubicBezTo>
                    <a:cubicBezTo>
                      <a:pt x="15200" y="5"/>
                      <a:pt x="15201" y="4"/>
                      <a:pt x="15202" y="4"/>
                    </a:cubicBezTo>
                    <a:close/>
                    <a:moveTo>
                      <a:pt x="15210" y="4"/>
                    </a:moveTo>
                    <a:lnTo>
                      <a:pt x="15210" y="4"/>
                    </a:lnTo>
                    <a:cubicBezTo>
                      <a:pt x="15211" y="4"/>
                      <a:pt x="15212" y="5"/>
                      <a:pt x="15212" y="6"/>
                    </a:cubicBezTo>
                    <a:cubicBezTo>
                      <a:pt x="15212" y="7"/>
                      <a:pt x="15211" y="8"/>
                      <a:pt x="15210" y="8"/>
                    </a:cubicBezTo>
                    <a:lnTo>
                      <a:pt x="15210" y="8"/>
                    </a:lnTo>
                    <a:cubicBezTo>
                      <a:pt x="15209" y="8"/>
                      <a:pt x="15208" y="7"/>
                      <a:pt x="15208" y="6"/>
                    </a:cubicBezTo>
                    <a:cubicBezTo>
                      <a:pt x="15208" y="5"/>
                      <a:pt x="15209" y="4"/>
                      <a:pt x="15210" y="4"/>
                    </a:cubicBezTo>
                    <a:close/>
                    <a:moveTo>
                      <a:pt x="15218" y="4"/>
                    </a:moveTo>
                    <a:lnTo>
                      <a:pt x="15218" y="4"/>
                    </a:lnTo>
                    <a:cubicBezTo>
                      <a:pt x="15219" y="4"/>
                      <a:pt x="15220" y="5"/>
                      <a:pt x="15220" y="6"/>
                    </a:cubicBezTo>
                    <a:cubicBezTo>
                      <a:pt x="15220" y="7"/>
                      <a:pt x="15219" y="8"/>
                      <a:pt x="15218" y="8"/>
                    </a:cubicBezTo>
                    <a:lnTo>
                      <a:pt x="15218" y="8"/>
                    </a:lnTo>
                    <a:cubicBezTo>
                      <a:pt x="15217" y="8"/>
                      <a:pt x="15216" y="7"/>
                      <a:pt x="15216" y="6"/>
                    </a:cubicBezTo>
                    <a:cubicBezTo>
                      <a:pt x="15216" y="5"/>
                      <a:pt x="15217" y="4"/>
                      <a:pt x="15218" y="4"/>
                    </a:cubicBezTo>
                    <a:close/>
                    <a:moveTo>
                      <a:pt x="15226" y="4"/>
                    </a:moveTo>
                    <a:lnTo>
                      <a:pt x="15226" y="4"/>
                    </a:lnTo>
                    <a:cubicBezTo>
                      <a:pt x="15227" y="4"/>
                      <a:pt x="15228" y="5"/>
                      <a:pt x="15228" y="6"/>
                    </a:cubicBezTo>
                    <a:cubicBezTo>
                      <a:pt x="15228" y="7"/>
                      <a:pt x="15227" y="8"/>
                      <a:pt x="15226" y="8"/>
                    </a:cubicBezTo>
                    <a:lnTo>
                      <a:pt x="15226" y="8"/>
                    </a:lnTo>
                    <a:cubicBezTo>
                      <a:pt x="15225" y="8"/>
                      <a:pt x="15224" y="7"/>
                      <a:pt x="15224" y="6"/>
                    </a:cubicBezTo>
                    <a:cubicBezTo>
                      <a:pt x="15224" y="5"/>
                      <a:pt x="15225" y="4"/>
                      <a:pt x="15226" y="4"/>
                    </a:cubicBezTo>
                    <a:close/>
                    <a:moveTo>
                      <a:pt x="15234" y="4"/>
                    </a:moveTo>
                    <a:lnTo>
                      <a:pt x="15234" y="4"/>
                    </a:lnTo>
                    <a:cubicBezTo>
                      <a:pt x="15235" y="4"/>
                      <a:pt x="15236" y="5"/>
                      <a:pt x="15236" y="6"/>
                    </a:cubicBezTo>
                    <a:cubicBezTo>
                      <a:pt x="15236" y="7"/>
                      <a:pt x="15235" y="8"/>
                      <a:pt x="15234" y="8"/>
                    </a:cubicBezTo>
                    <a:lnTo>
                      <a:pt x="15234" y="8"/>
                    </a:lnTo>
                    <a:cubicBezTo>
                      <a:pt x="15233" y="8"/>
                      <a:pt x="15232" y="7"/>
                      <a:pt x="15232" y="6"/>
                    </a:cubicBezTo>
                    <a:cubicBezTo>
                      <a:pt x="15232" y="5"/>
                      <a:pt x="15233" y="4"/>
                      <a:pt x="15234" y="4"/>
                    </a:cubicBezTo>
                    <a:close/>
                    <a:moveTo>
                      <a:pt x="15242" y="4"/>
                    </a:moveTo>
                    <a:lnTo>
                      <a:pt x="15242" y="4"/>
                    </a:lnTo>
                    <a:cubicBezTo>
                      <a:pt x="15243" y="4"/>
                      <a:pt x="15244" y="5"/>
                      <a:pt x="15244" y="6"/>
                    </a:cubicBezTo>
                    <a:cubicBezTo>
                      <a:pt x="15244" y="7"/>
                      <a:pt x="15243" y="8"/>
                      <a:pt x="15242" y="8"/>
                    </a:cubicBezTo>
                    <a:lnTo>
                      <a:pt x="15242" y="8"/>
                    </a:lnTo>
                    <a:cubicBezTo>
                      <a:pt x="15241" y="8"/>
                      <a:pt x="15240" y="7"/>
                      <a:pt x="15240" y="6"/>
                    </a:cubicBezTo>
                    <a:cubicBezTo>
                      <a:pt x="15240" y="5"/>
                      <a:pt x="15241" y="4"/>
                      <a:pt x="15242" y="4"/>
                    </a:cubicBezTo>
                    <a:close/>
                    <a:moveTo>
                      <a:pt x="15250" y="4"/>
                    </a:moveTo>
                    <a:lnTo>
                      <a:pt x="15250" y="4"/>
                    </a:lnTo>
                    <a:cubicBezTo>
                      <a:pt x="15251" y="4"/>
                      <a:pt x="15252" y="5"/>
                      <a:pt x="15252" y="6"/>
                    </a:cubicBezTo>
                    <a:cubicBezTo>
                      <a:pt x="15252" y="7"/>
                      <a:pt x="15251" y="8"/>
                      <a:pt x="15250" y="8"/>
                    </a:cubicBezTo>
                    <a:lnTo>
                      <a:pt x="15250" y="8"/>
                    </a:lnTo>
                    <a:cubicBezTo>
                      <a:pt x="15249" y="8"/>
                      <a:pt x="15248" y="7"/>
                      <a:pt x="15248" y="6"/>
                    </a:cubicBezTo>
                    <a:cubicBezTo>
                      <a:pt x="15248" y="5"/>
                      <a:pt x="15249" y="4"/>
                      <a:pt x="15250" y="4"/>
                    </a:cubicBezTo>
                    <a:close/>
                    <a:moveTo>
                      <a:pt x="15258" y="4"/>
                    </a:moveTo>
                    <a:lnTo>
                      <a:pt x="15258" y="4"/>
                    </a:lnTo>
                    <a:cubicBezTo>
                      <a:pt x="15259" y="4"/>
                      <a:pt x="15260" y="5"/>
                      <a:pt x="15260" y="6"/>
                    </a:cubicBezTo>
                    <a:cubicBezTo>
                      <a:pt x="15260" y="7"/>
                      <a:pt x="15259" y="8"/>
                      <a:pt x="15258" y="8"/>
                    </a:cubicBezTo>
                    <a:lnTo>
                      <a:pt x="15258" y="8"/>
                    </a:lnTo>
                    <a:cubicBezTo>
                      <a:pt x="15257" y="8"/>
                      <a:pt x="15256" y="7"/>
                      <a:pt x="15256" y="6"/>
                    </a:cubicBezTo>
                    <a:cubicBezTo>
                      <a:pt x="15256" y="5"/>
                      <a:pt x="15257" y="4"/>
                      <a:pt x="15258" y="4"/>
                    </a:cubicBezTo>
                    <a:close/>
                    <a:moveTo>
                      <a:pt x="15266" y="4"/>
                    </a:moveTo>
                    <a:lnTo>
                      <a:pt x="15266" y="4"/>
                    </a:lnTo>
                    <a:cubicBezTo>
                      <a:pt x="15267" y="4"/>
                      <a:pt x="15268" y="5"/>
                      <a:pt x="15268" y="6"/>
                    </a:cubicBezTo>
                    <a:cubicBezTo>
                      <a:pt x="15268" y="7"/>
                      <a:pt x="15267" y="8"/>
                      <a:pt x="15266" y="8"/>
                    </a:cubicBezTo>
                    <a:lnTo>
                      <a:pt x="15266" y="8"/>
                    </a:lnTo>
                    <a:cubicBezTo>
                      <a:pt x="15265" y="8"/>
                      <a:pt x="15264" y="7"/>
                      <a:pt x="15264" y="6"/>
                    </a:cubicBezTo>
                    <a:cubicBezTo>
                      <a:pt x="15264" y="5"/>
                      <a:pt x="15265" y="4"/>
                      <a:pt x="15266" y="4"/>
                    </a:cubicBezTo>
                    <a:close/>
                    <a:moveTo>
                      <a:pt x="15274" y="4"/>
                    </a:moveTo>
                    <a:lnTo>
                      <a:pt x="15274" y="4"/>
                    </a:lnTo>
                    <a:cubicBezTo>
                      <a:pt x="15275" y="4"/>
                      <a:pt x="15276" y="5"/>
                      <a:pt x="15276" y="6"/>
                    </a:cubicBezTo>
                    <a:cubicBezTo>
                      <a:pt x="15276" y="7"/>
                      <a:pt x="15275" y="8"/>
                      <a:pt x="15274" y="8"/>
                    </a:cubicBezTo>
                    <a:lnTo>
                      <a:pt x="15274" y="8"/>
                    </a:lnTo>
                    <a:cubicBezTo>
                      <a:pt x="15273" y="8"/>
                      <a:pt x="15272" y="7"/>
                      <a:pt x="15272" y="6"/>
                    </a:cubicBezTo>
                    <a:cubicBezTo>
                      <a:pt x="15272" y="5"/>
                      <a:pt x="15273" y="4"/>
                      <a:pt x="15274" y="4"/>
                    </a:cubicBezTo>
                    <a:close/>
                    <a:moveTo>
                      <a:pt x="15282" y="4"/>
                    </a:moveTo>
                    <a:lnTo>
                      <a:pt x="15282" y="4"/>
                    </a:lnTo>
                    <a:cubicBezTo>
                      <a:pt x="15283" y="4"/>
                      <a:pt x="15284" y="5"/>
                      <a:pt x="15284" y="6"/>
                    </a:cubicBezTo>
                    <a:cubicBezTo>
                      <a:pt x="15284" y="7"/>
                      <a:pt x="15283" y="8"/>
                      <a:pt x="15282" y="8"/>
                    </a:cubicBezTo>
                    <a:lnTo>
                      <a:pt x="15282" y="8"/>
                    </a:lnTo>
                    <a:cubicBezTo>
                      <a:pt x="15281" y="8"/>
                      <a:pt x="15280" y="7"/>
                      <a:pt x="15280" y="6"/>
                    </a:cubicBezTo>
                    <a:cubicBezTo>
                      <a:pt x="15280" y="5"/>
                      <a:pt x="15281" y="4"/>
                      <a:pt x="15282" y="4"/>
                    </a:cubicBezTo>
                    <a:close/>
                    <a:moveTo>
                      <a:pt x="15290" y="4"/>
                    </a:moveTo>
                    <a:lnTo>
                      <a:pt x="15290" y="4"/>
                    </a:lnTo>
                    <a:cubicBezTo>
                      <a:pt x="15291" y="4"/>
                      <a:pt x="15292" y="5"/>
                      <a:pt x="15292" y="6"/>
                    </a:cubicBezTo>
                    <a:cubicBezTo>
                      <a:pt x="15292" y="7"/>
                      <a:pt x="15291" y="8"/>
                      <a:pt x="15290" y="8"/>
                    </a:cubicBezTo>
                    <a:lnTo>
                      <a:pt x="15290" y="8"/>
                    </a:lnTo>
                    <a:cubicBezTo>
                      <a:pt x="15289" y="8"/>
                      <a:pt x="15288" y="7"/>
                      <a:pt x="15288" y="6"/>
                    </a:cubicBezTo>
                    <a:cubicBezTo>
                      <a:pt x="15288" y="5"/>
                      <a:pt x="15289" y="4"/>
                      <a:pt x="15290" y="4"/>
                    </a:cubicBezTo>
                    <a:close/>
                    <a:moveTo>
                      <a:pt x="15298" y="4"/>
                    </a:moveTo>
                    <a:lnTo>
                      <a:pt x="15298" y="4"/>
                    </a:lnTo>
                    <a:cubicBezTo>
                      <a:pt x="15299" y="4"/>
                      <a:pt x="15300" y="5"/>
                      <a:pt x="15300" y="6"/>
                    </a:cubicBezTo>
                    <a:cubicBezTo>
                      <a:pt x="15300" y="7"/>
                      <a:pt x="15299" y="8"/>
                      <a:pt x="15298" y="8"/>
                    </a:cubicBezTo>
                    <a:lnTo>
                      <a:pt x="15298" y="8"/>
                    </a:lnTo>
                    <a:cubicBezTo>
                      <a:pt x="15297" y="8"/>
                      <a:pt x="15296" y="7"/>
                      <a:pt x="15296" y="6"/>
                    </a:cubicBezTo>
                    <a:cubicBezTo>
                      <a:pt x="15296" y="5"/>
                      <a:pt x="15297" y="4"/>
                      <a:pt x="15298" y="4"/>
                    </a:cubicBezTo>
                    <a:close/>
                    <a:moveTo>
                      <a:pt x="15306" y="4"/>
                    </a:moveTo>
                    <a:lnTo>
                      <a:pt x="15306" y="4"/>
                    </a:lnTo>
                    <a:cubicBezTo>
                      <a:pt x="15307" y="4"/>
                      <a:pt x="15308" y="5"/>
                      <a:pt x="15308" y="6"/>
                    </a:cubicBezTo>
                    <a:cubicBezTo>
                      <a:pt x="15308" y="7"/>
                      <a:pt x="15307" y="8"/>
                      <a:pt x="15306" y="8"/>
                    </a:cubicBezTo>
                    <a:lnTo>
                      <a:pt x="15306" y="8"/>
                    </a:lnTo>
                    <a:cubicBezTo>
                      <a:pt x="15305" y="8"/>
                      <a:pt x="15304" y="7"/>
                      <a:pt x="15304" y="6"/>
                    </a:cubicBezTo>
                    <a:cubicBezTo>
                      <a:pt x="15304" y="5"/>
                      <a:pt x="15305" y="4"/>
                      <a:pt x="15306" y="4"/>
                    </a:cubicBezTo>
                    <a:close/>
                    <a:moveTo>
                      <a:pt x="15314" y="4"/>
                    </a:moveTo>
                    <a:lnTo>
                      <a:pt x="15314" y="4"/>
                    </a:lnTo>
                    <a:cubicBezTo>
                      <a:pt x="15315" y="4"/>
                      <a:pt x="15316" y="5"/>
                      <a:pt x="15316" y="6"/>
                    </a:cubicBezTo>
                    <a:cubicBezTo>
                      <a:pt x="15316" y="7"/>
                      <a:pt x="15315" y="8"/>
                      <a:pt x="15314" y="8"/>
                    </a:cubicBezTo>
                    <a:lnTo>
                      <a:pt x="15314" y="8"/>
                    </a:lnTo>
                    <a:cubicBezTo>
                      <a:pt x="15313" y="8"/>
                      <a:pt x="15312" y="7"/>
                      <a:pt x="15312" y="6"/>
                    </a:cubicBezTo>
                    <a:cubicBezTo>
                      <a:pt x="15312" y="5"/>
                      <a:pt x="15313" y="4"/>
                      <a:pt x="15314" y="4"/>
                    </a:cubicBezTo>
                    <a:close/>
                    <a:moveTo>
                      <a:pt x="15322" y="4"/>
                    </a:moveTo>
                    <a:lnTo>
                      <a:pt x="15322" y="4"/>
                    </a:lnTo>
                    <a:cubicBezTo>
                      <a:pt x="15323" y="4"/>
                      <a:pt x="15324" y="5"/>
                      <a:pt x="15324" y="6"/>
                    </a:cubicBezTo>
                    <a:cubicBezTo>
                      <a:pt x="15324" y="7"/>
                      <a:pt x="15323" y="8"/>
                      <a:pt x="15322" y="8"/>
                    </a:cubicBezTo>
                    <a:lnTo>
                      <a:pt x="15322" y="8"/>
                    </a:lnTo>
                    <a:cubicBezTo>
                      <a:pt x="15321" y="8"/>
                      <a:pt x="15320" y="7"/>
                      <a:pt x="15320" y="6"/>
                    </a:cubicBezTo>
                    <a:cubicBezTo>
                      <a:pt x="15320" y="5"/>
                      <a:pt x="15321" y="4"/>
                      <a:pt x="15322" y="4"/>
                    </a:cubicBezTo>
                    <a:close/>
                    <a:moveTo>
                      <a:pt x="15330" y="4"/>
                    </a:moveTo>
                    <a:lnTo>
                      <a:pt x="15330" y="4"/>
                    </a:lnTo>
                    <a:cubicBezTo>
                      <a:pt x="15331" y="4"/>
                      <a:pt x="15332" y="5"/>
                      <a:pt x="15332" y="6"/>
                    </a:cubicBezTo>
                    <a:cubicBezTo>
                      <a:pt x="15332" y="7"/>
                      <a:pt x="15331" y="8"/>
                      <a:pt x="15330" y="8"/>
                    </a:cubicBezTo>
                    <a:lnTo>
                      <a:pt x="15330" y="8"/>
                    </a:lnTo>
                    <a:cubicBezTo>
                      <a:pt x="15329" y="8"/>
                      <a:pt x="15328" y="7"/>
                      <a:pt x="15328" y="6"/>
                    </a:cubicBezTo>
                    <a:cubicBezTo>
                      <a:pt x="15328" y="5"/>
                      <a:pt x="15329" y="4"/>
                      <a:pt x="15330" y="4"/>
                    </a:cubicBezTo>
                    <a:close/>
                    <a:moveTo>
                      <a:pt x="15338" y="4"/>
                    </a:moveTo>
                    <a:lnTo>
                      <a:pt x="15338" y="4"/>
                    </a:lnTo>
                    <a:cubicBezTo>
                      <a:pt x="15339" y="4"/>
                      <a:pt x="15340" y="5"/>
                      <a:pt x="15340" y="6"/>
                    </a:cubicBezTo>
                    <a:cubicBezTo>
                      <a:pt x="15340" y="7"/>
                      <a:pt x="15339" y="8"/>
                      <a:pt x="15338" y="8"/>
                    </a:cubicBezTo>
                    <a:lnTo>
                      <a:pt x="15338" y="8"/>
                    </a:lnTo>
                    <a:cubicBezTo>
                      <a:pt x="15337" y="8"/>
                      <a:pt x="15336" y="7"/>
                      <a:pt x="15336" y="6"/>
                    </a:cubicBezTo>
                    <a:cubicBezTo>
                      <a:pt x="15336" y="5"/>
                      <a:pt x="15337" y="4"/>
                      <a:pt x="15338" y="4"/>
                    </a:cubicBezTo>
                    <a:close/>
                    <a:moveTo>
                      <a:pt x="15346" y="4"/>
                    </a:moveTo>
                    <a:lnTo>
                      <a:pt x="15346" y="4"/>
                    </a:lnTo>
                    <a:cubicBezTo>
                      <a:pt x="15347" y="4"/>
                      <a:pt x="15348" y="5"/>
                      <a:pt x="15348" y="6"/>
                    </a:cubicBezTo>
                    <a:cubicBezTo>
                      <a:pt x="15348" y="7"/>
                      <a:pt x="15347" y="8"/>
                      <a:pt x="15346" y="8"/>
                    </a:cubicBezTo>
                    <a:lnTo>
                      <a:pt x="15346" y="8"/>
                    </a:lnTo>
                    <a:cubicBezTo>
                      <a:pt x="15345" y="8"/>
                      <a:pt x="15344" y="7"/>
                      <a:pt x="15344" y="6"/>
                    </a:cubicBezTo>
                    <a:cubicBezTo>
                      <a:pt x="15344" y="5"/>
                      <a:pt x="15345" y="4"/>
                      <a:pt x="15346" y="4"/>
                    </a:cubicBezTo>
                    <a:close/>
                    <a:moveTo>
                      <a:pt x="15354" y="4"/>
                    </a:moveTo>
                    <a:lnTo>
                      <a:pt x="15354" y="4"/>
                    </a:lnTo>
                    <a:cubicBezTo>
                      <a:pt x="15355" y="4"/>
                      <a:pt x="15356" y="5"/>
                      <a:pt x="15356" y="6"/>
                    </a:cubicBezTo>
                    <a:cubicBezTo>
                      <a:pt x="15356" y="7"/>
                      <a:pt x="15355" y="8"/>
                      <a:pt x="15354" y="8"/>
                    </a:cubicBezTo>
                    <a:lnTo>
                      <a:pt x="15354" y="8"/>
                    </a:lnTo>
                    <a:cubicBezTo>
                      <a:pt x="15353" y="8"/>
                      <a:pt x="15352" y="7"/>
                      <a:pt x="15352" y="6"/>
                    </a:cubicBezTo>
                    <a:cubicBezTo>
                      <a:pt x="15352" y="5"/>
                      <a:pt x="15353" y="4"/>
                      <a:pt x="15354" y="4"/>
                    </a:cubicBezTo>
                    <a:close/>
                    <a:moveTo>
                      <a:pt x="15362" y="4"/>
                    </a:moveTo>
                    <a:lnTo>
                      <a:pt x="15362" y="4"/>
                    </a:lnTo>
                    <a:cubicBezTo>
                      <a:pt x="15363" y="4"/>
                      <a:pt x="15364" y="5"/>
                      <a:pt x="15364" y="6"/>
                    </a:cubicBezTo>
                    <a:cubicBezTo>
                      <a:pt x="15364" y="7"/>
                      <a:pt x="15363" y="8"/>
                      <a:pt x="15362" y="8"/>
                    </a:cubicBezTo>
                    <a:lnTo>
                      <a:pt x="15362" y="8"/>
                    </a:lnTo>
                    <a:cubicBezTo>
                      <a:pt x="15361" y="8"/>
                      <a:pt x="15360" y="7"/>
                      <a:pt x="15360" y="6"/>
                    </a:cubicBezTo>
                    <a:cubicBezTo>
                      <a:pt x="15360" y="5"/>
                      <a:pt x="15361" y="4"/>
                      <a:pt x="15362" y="4"/>
                    </a:cubicBezTo>
                    <a:close/>
                    <a:moveTo>
                      <a:pt x="15370" y="4"/>
                    </a:moveTo>
                    <a:lnTo>
                      <a:pt x="15370" y="4"/>
                    </a:lnTo>
                    <a:cubicBezTo>
                      <a:pt x="15371" y="4"/>
                      <a:pt x="15372" y="5"/>
                      <a:pt x="15372" y="6"/>
                    </a:cubicBezTo>
                    <a:cubicBezTo>
                      <a:pt x="15372" y="7"/>
                      <a:pt x="15371" y="8"/>
                      <a:pt x="15370" y="8"/>
                    </a:cubicBezTo>
                    <a:lnTo>
                      <a:pt x="15370" y="8"/>
                    </a:lnTo>
                    <a:cubicBezTo>
                      <a:pt x="15369" y="8"/>
                      <a:pt x="15368" y="7"/>
                      <a:pt x="15368" y="6"/>
                    </a:cubicBezTo>
                    <a:cubicBezTo>
                      <a:pt x="15368" y="5"/>
                      <a:pt x="15369" y="4"/>
                      <a:pt x="15370" y="4"/>
                    </a:cubicBezTo>
                    <a:close/>
                    <a:moveTo>
                      <a:pt x="15378" y="4"/>
                    </a:moveTo>
                    <a:lnTo>
                      <a:pt x="15378" y="4"/>
                    </a:lnTo>
                    <a:cubicBezTo>
                      <a:pt x="15379" y="4"/>
                      <a:pt x="15380" y="5"/>
                      <a:pt x="15380" y="6"/>
                    </a:cubicBezTo>
                    <a:cubicBezTo>
                      <a:pt x="15380" y="7"/>
                      <a:pt x="15379" y="8"/>
                      <a:pt x="15378" y="8"/>
                    </a:cubicBezTo>
                    <a:lnTo>
                      <a:pt x="15378" y="8"/>
                    </a:lnTo>
                    <a:cubicBezTo>
                      <a:pt x="15377" y="8"/>
                      <a:pt x="15376" y="7"/>
                      <a:pt x="15376" y="6"/>
                    </a:cubicBezTo>
                    <a:cubicBezTo>
                      <a:pt x="15376" y="5"/>
                      <a:pt x="15377" y="4"/>
                      <a:pt x="15378" y="4"/>
                    </a:cubicBezTo>
                    <a:close/>
                    <a:moveTo>
                      <a:pt x="15386" y="4"/>
                    </a:moveTo>
                    <a:lnTo>
                      <a:pt x="15386" y="4"/>
                    </a:lnTo>
                    <a:cubicBezTo>
                      <a:pt x="15387" y="4"/>
                      <a:pt x="15388" y="5"/>
                      <a:pt x="15388" y="6"/>
                    </a:cubicBezTo>
                    <a:cubicBezTo>
                      <a:pt x="15388" y="7"/>
                      <a:pt x="15387" y="8"/>
                      <a:pt x="15386" y="8"/>
                    </a:cubicBezTo>
                    <a:lnTo>
                      <a:pt x="15386" y="8"/>
                    </a:lnTo>
                    <a:cubicBezTo>
                      <a:pt x="15385" y="8"/>
                      <a:pt x="15384" y="7"/>
                      <a:pt x="15384" y="6"/>
                    </a:cubicBezTo>
                    <a:cubicBezTo>
                      <a:pt x="15384" y="5"/>
                      <a:pt x="15385" y="4"/>
                      <a:pt x="15386" y="4"/>
                    </a:cubicBezTo>
                    <a:close/>
                    <a:moveTo>
                      <a:pt x="15394" y="4"/>
                    </a:moveTo>
                    <a:lnTo>
                      <a:pt x="15394" y="4"/>
                    </a:lnTo>
                    <a:cubicBezTo>
                      <a:pt x="15395" y="4"/>
                      <a:pt x="15396" y="5"/>
                      <a:pt x="15396" y="6"/>
                    </a:cubicBezTo>
                    <a:cubicBezTo>
                      <a:pt x="15396" y="7"/>
                      <a:pt x="15395" y="8"/>
                      <a:pt x="15394" y="8"/>
                    </a:cubicBezTo>
                    <a:lnTo>
                      <a:pt x="15394" y="8"/>
                    </a:lnTo>
                    <a:cubicBezTo>
                      <a:pt x="15393" y="8"/>
                      <a:pt x="15392" y="7"/>
                      <a:pt x="15392" y="6"/>
                    </a:cubicBezTo>
                    <a:cubicBezTo>
                      <a:pt x="15392" y="5"/>
                      <a:pt x="15393" y="4"/>
                      <a:pt x="15394" y="4"/>
                    </a:cubicBezTo>
                    <a:close/>
                    <a:moveTo>
                      <a:pt x="15402" y="4"/>
                    </a:moveTo>
                    <a:lnTo>
                      <a:pt x="15402" y="4"/>
                    </a:lnTo>
                    <a:cubicBezTo>
                      <a:pt x="15403" y="4"/>
                      <a:pt x="15404" y="5"/>
                      <a:pt x="15404" y="6"/>
                    </a:cubicBezTo>
                    <a:cubicBezTo>
                      <a:pt x="15404" y="7"/>
                      <a:pt x="15403" y="8"/>
                      <a:pt x="15402" y="8"/>
                    </a:cubicBezTo>
                    <a:lnTo>
                      <a:pt x="15402" y="8"/>
                    </a:lnTo>
                    <a:cubicBezTo>
                      <a:pt x="15401" y="8"/>
                      <a:pt x="15400" y="7"/>
                      <a:pt x="15400" y="6"/>
                    </a:cubicBezTo>
                    <a:cubicBezTo>
                      <a:pt x="15400" y="5"/>
                      <a:pt x="15401" y="4"/>
                      <a:pt x="15402" y="4"/>
                    </a:cubicBezTo>
                    <a:close/>
                    <a:moveTo>
                      <a:pt x="15410" y="4"/>
                    </a:moveTo>
                    <a:lnTo>
                      <a:pt x="15410" y="4"/>
                    </a:lnTo>
                    <a:cubicBezTo>
                      <a:pt x="15411" y="4"/>
                      <a:pt x="15412" y="5"/>
                      <a:pt x="15412" y="6"/>
                    </a:cubicBezTo>
                    <a:cubicBezTo>
                      <a:pt x="15412" y="7"/>
                      <a:pt x="15411" y="8"/>
                      <a:pt x="15410" y="8"/>
                    </a:cubicBezTo>
                    <a:lnTo>
                      <a:pt x="15410" y="8"/>
                    </a:lnTo>
                    <a:cubicBezTo>
                      <a:pt x="15409" y="8"/>
                      <a:pt x="15408" y="7"/>
                      <a:pt x="15408" y="6"/>
                    </a:cubicBezTo>
                    <a:cubicBezTo>
                      <a:pt x="15408" y="5"/>
                      <a:pt x="15409" y="4"/>
                      <a:pt x="15410" y="4"/>
                    </a:cubicBezTo>
                    <a:close/>
                    <a:moveTo>
                      <a:pt x="15418" y="4"/>
                    </a:moveTo>
                    <a:lnTo>
                      <a:pt x="15418" y="4"/>
                    </a:lnTo>
                    <a:cubicBezTo>
                      <a:pt x="15419" y="4"/>
                      <a:pt x="15420" y="5"/>
                      <a:pt x="15420" y="6"/>
                    </a:cubicBezTo>
                    <a:cubicBezTo>
                      <a:pt x="15420" y="7"/>
                      <a:pt x="15419" y="8"/>
                      <a:pt x="15418" y="8"/>
                    </a:cubicBezTo>
                    <a:lnTo>
                      <a:pt x="15418" y="8"/>
                    </a:lnTo>
                    <a:cubicBezTo>
                      <a:pt x="15417" y="8"/>
                      <a:pt x="15416" y="7"/>
                      <a:pt x="15416" y="6"/>
                    </a:cubicBezTo>
                    <a:cubicBezTo>
                      <a:pt x="15416" y="5"/>
                      <a:pt x="15417" y="4"/>
                      <a:pt x="15418" y="4"/>
                    </a:cubicBezTo>
                    <a:close/>
                    <a:moveTo>
                      <a:pt x="15426" y="4"/>
                    </a:moveTo>
                    <a:lnTo>
                      <a:pt x="15426" y="4"/>
                    </a:lnTo>
                    <a:cubicBezTo>
                      <a:pt x="15427" y="4"/>
                      <a:pt x="15428" y="5"/>
                      <a:pt x="15428" y="6"/>
                    </a:cubicBezTo>
                    <a:cubicBezTo>
                      <a:pt x="15428" y="7"/>
                      <a:pt x="15427" y="8"/>
                      <a:pt x="15426" y="8"/>
                    </a:cubicBezTo>
                    <a:lnTo>
                      <a:pt x="15426" y="8"/>
                    </a:lnTo>
                    <a:cubicBezTo>
                      <a:pt x="15425" y="8"/>
                      <a:pt x="15424" y="7"/>
                      <a:pt x="15424" y="6"/>
                    </a:cubicBezTo>
                    <a:cubicBezTo>
                      <a:pt x="15424" y="5"/>
                      <a:pt x="15425" y="4"/>
                      <a:pt x="15426" y="4"/>
                    </a:cubicBezTo>
                    <a:close/>
                    <a:moveTo>
                      <a:pt x="15434" y="4"/>
                    </a:moveTo>
                    <a:lnTo>
                      <a:pt x="15434" y="4"/>
                    </a:lnTo>
                    <a:cubicBezTo>
                      <a:pt x="15435" y="4"/>
                      <a:pt x="15436" y="5"/>
                      <a:pt x="15436" y="6"/>
                    </a:cubicBezTo>
                    <a:cubicBezTo>
                      <a:pt x="15436" y="7"/>
                      <a:pt x="15435" y="8"/>
                      <a:pt x="15434" y="8"/>
                    </a:cubicBezTo>
                    <a:lnTo>
                      <a:pt x="15434" y="8"/>
                    </a:lnTo>
                    <a:cubicBezTo>
                      <a:pt x="15433" y="8"/>
                      <a:pt x="15432" y="7"/>
                      <a:pt x="15432" y="6"/>
                    </a:cubicBezTo>
                    <a:cubicBezTo>
                      <a:pt x="15432" y="5"/>
                      <a:pt x="15433" y="4"/>
                      <a:pt x="15434" y="4"/>
                    </a:cubicBezTo>
                    <a:close/>
                    <a:moveTo>
                      <a:pt x="15442" y="4"/>
                    </a:moveTo>
                    <a:lnTo>
                      <a:pt x="15442" y="4"/>
                    </a:lnTo>
                    <a:cubicBezTo>
                      <a:pt x="15443" y="4"/>
                      <a:pt x="15444" y="5"/>
                      <a:pt x="15444" y="6"/>
                    </a:cubicBezTo>
                    <a:cubicBezTo>
                      <a:pt x="15444" y="7"/>
                      <a:pt x="15443" y="8"/>
                      <a:pt x="15442" y="8"/>
                    </a:cubicBezTo>
                    <a:lnTo>
                      <a:pt x="15442" y="8"/>
                    </a:lnTo>
                    <a:cubicBezTo>
                      <a:pt x="15441" y="8"/>
                      <a:pt x="15440" y="7"/>
                      <a:pt x="15440" y="6"/>
                    </a:cubicBezTo>
                    <a:cubicBezTo>
                      <a:pt x="15440" y="5"/>
                      <a:pt x="15441" y="4"/>
                      <a:pt x="15442" y="4"/>
                    </a:cubicBezTo>
                    <a:close/>
                    <a:moveTo>
                      <a:pt x="15450" y="4"/>
                    </a:moveTo>
                    <a:lnTo>
                      <a:pt x="15450" y="4"/>
                    </a:lnTo>
                    <a:cubicBezTo>
                      <a:pt x="15451" y="4"/>
                      <a:pt x="15452" y="5"/>
                      <a:pt x="15452" y="6"/>
                    </a:cubicBezTo>
                    <a:cubicBezTo>
                      <a:pt x="15452" y="7"/>
                      <a:pt x="15451" y="8"/>
                      <a:pt x="15450" y="8"/>
                    </a:cubicBezTo>
                    <a:lnTo>
                      <a:pt x="15450" y="8"/>
                    </a:lnTo>
                    <a:cubicBezTo>
                      <a:pt x="15449" y="8"/>
                      <a:pt x="15448" y="7"/>
                      <a:pt x="15448" y="6"/>
                    </a:cubicBezTo>
                    <a:cubicBezTo>
                      <a:pt x="15448" y="5"/>
                      <a:pt x="15449" y="4"/>
                      <a:pt x="15450" y="4"/>
                    </a:cubicBezTo>
                    <a:close/>
                    <a:moveTo>
                      <a:pt x="15458" y="4"/>
                    </a:moveTo>
                    <a:lnTo>
                      <a:pt x="15458" y="4"/>
                    </a:lnTo>
                    <a:cubicBezTo>
                      <a:pt x="15459" y="4"/>
                      <a:pt x="15460" y="5"/>
                      <a:pt x="15460" y="6"/>
                    </a:cubicBezTo>
                    <a:cubicBezTo>
                      <a:pt x="15460" y="7"/>
                      <a:pt x="15459" y="8"/>
                      <a:pt x="15458" y="8"/>
                    </a:cubicBezTo>
                    <a:lnTo>
                      <a:pt x="15458" y="8"/>
                    </a:lnTo>
                    <a:cubicBezTo>
                      <a:pt x="15457" y="8"/>
                      <a:pt x="15456" y="7"/>
                      <a:pt x="15456" y="6"/>
                    </a:cubicBezTo>
                    <a:cubicBezTo>
                      <a:pt x="15456" y="5"/>
                      <a:pt x="15457" y="4"/>
                      <a:pt x="15458" y="4"/>
                    </a:cubicBezTo>
                    <a:close/>
                    <a:moveTo>
                      <a:pt x="15466" y="4"/>
                    </a:moveTo>
                    <a:lnTo>
                      <a:pt x="15466" y="4"/>
                    </a:lnTo>
                    <a:cubicBezTo>
                      <a:pt x="15467" y="4"/>
                      <a:pt x="15468" y="5"/>
                      <a:pt x="15468" y="6"/>
                    </a:cubicBezTo>
                    <a:cubicBezTo>
                      <a:pt x="15468" y="7"/>
                      <a:pt x="15467" y="8"/>
                      <a:pt x="15466" y="8"/>
                    </a:cubicBezTo>
                    <a:lnTo>
                      <a:pt x="15466" y="8"/>
                    </a:lnTo>
                    <a:cubicBezTo>
                      <a:pt x="15465" y="8"/>
                      <a:pt x="15464" y="7"/>
                      <a:pt x="15464" y="6"/>
                    </a:cubicBezTo>
                    <a:cubicBezTo>
                      <a:pt x="15464" y="5"/>
                      <a:pt x="15465" y="4"/>
                      <a:pt x="15466" y="4"/>
                    </a:cubicBezTo>
                    <a:close/>
                    <a:moveTo>
                      <a:pt x="15474" y="4"/>
                    </a:moveTo>
                    <a:lnTo>
                      <a:pt x="15474" y="4"/>
                    </a:lnTo>
                    <a:cubicBezTo>
                      <a:pt x="15475" y="4"/>
                      <a:pt x="15476" y="5"/>
                      <a:pt x="15476" y="6"/>
                    </a:cubicBezTo>
                    <a:cubicBezTo>
                      <a:pt x="15476" y="7"/>
                      <a:pt x="15475" y="8"/>
                      <a:pt x="15474" y="8"/>
                    </a:cubicBezTo>
                    <a:lnTo>
                      <a:pt x="15474" y="8"/>
                    </a:lnTo>
                    <a:cubicBezTo>
                      <a:pt x="15473" y="8"/>
                      <a:pt x="15472" y="7"/>
                      <a:pt x="15472" y="6"/>
                    </a:cubicBezTo>
                    <a:cubicBezTo>
                      <a:pt x="15472" y="5"/>
                      <a:pt x="15473" y="4"/>
                      <a:pt x="15474" y="4"/>
                    </a:cubicBezTo>
                    <a:close/>
                    <a:moveTo>
                      <a:pt x="15482" y="4"/>
                    </a:moveTo>
                    <a:lnTo>
                      <a:pt x="15482" y="4"/>
                    </a:lnTo>
                    <a:cubicBezTo>
                      <a:pt x="15483" y="4"/>
                      <a:pt x="15484" y="5"/>
                      <a:pt x="15484" y="6"/>
                    </a:cubicBezTo>
                    <a:cubicBezTo>
                      <a:pt x="15484" y="7"/>
                      <a:pt x="15483" y="8"/>
                      <a:pt x="15482" y="8"/>
                    </a:cubicBezTo>
                    <a:lnTo>
                      <a:pt x="15482" y="8"/>
                    </a:lnTo>
                    <a:cubicBezTo>
                      <a:pt x="15481" y="8"/>
                      <a:pt x="15480" y="7"/>
                      <a:pt x="15480" y="6"/>
                    </a:cubicBezTo>
                    <a:cubicBezTo>
                      <a:pt x="15480" y="5"/>
                      <a:pt x="15481" y="4"/>
                      <a:pt x="15482" y="4"/>
                    </a:cubicBezTo>
                    <a:close/>
                    <a:moveTo>
                      <a:pt x="15490" y="4"/>
                    </a:moveTo>
                    <a:lnTo>
                      <a:pt x="15490" y="4"/>
                    </a:lnTo>
                    <a:cubicBezTo>
                      <a:pt x="15491" y="4"/>
                      <a:pt x="15492" y="5"/>
                      <a:pt x="15492" y="6"/>
                    </a:cubicBezTo>
                    <a:cubicBezTo>
                      <a:pt x="15492" y="7"/>
                      <a:pt x="15491" y="8"/>
                      <a:pt x="15490" y="8"/>
                    </a:cubicBezTo>
                    <a:lnTo>
                      <a:pt x="15490" y="8"/>
                    </a:lnTo>
                    <a:cubicBezTo>
                      <a:pt x="15489" y="8"/>
                      <a:pt x="15488" y="7"/>
                      <a:pt x="15488" y="6"/>
                    </a:cubicBezTo>
                    <a:cubicBezTo>
                      <a:pt x="15488" y="5"/>
                      <a:pt x="15489" y="4"/>
                      <a:pt x="15490" y="4"/>
                    </a:cubicBezTo>
                    <a:close/>
                    <a:moveTo>
                      <a:pt x="15498" y="4"/>
                    </a:moveTo>
                    <a:lnTo>
                      <a:pt x="15498" y="4"/>
                    </a:lnTo>
                    <a:cubicBezTo>
                      <a:pt x="15499" y="4"/>
                      <a:pt x="15500" y="5"/>
                      <a:pt x="15500" y="6"/>
                    </a:cubicBezTo>
                    <a:cubicBezTo>
                      <a:pt x="15500" y="7"/>
                      <a:pt x="15499" y="8"/>
                      <a:pt x="15498" y="8"/>
                    </a:cubicBezTo>
                    <a:lnTo>
                      <a:pt x="15498" y="8"/>
                    </a:lnTo>
                    <a:cubicBezTo>
                      <a:pt x="15497" y="8"/>
                      <a:pt x="15496" y="7"/>
                      <a:pt x="15496" y="6"/>
                    </a:cubicBezTo>
                    <a:cubicBezTo>
                      <a:pt x="15496" y="5"/>
                      <a:pt x="15497" y="4"/>
                      <a:pt x="15498" y="4"/>
                    </a:cubicBezTo>
                    <a:close/>
                    <a:moveTo>
                      <a:pt x="15506" y="4"/>
                    </a:moveTo>
                    <a:lnTo>
                      <a:pt x="15506" y="4"/>
                    </a:lnTo>
                    <a:cubicBezTo>
                      <a:pt x="15507" y="4"/>
                      <a:pt x="15508" y="5"/>
                      <a:pt x="15508" y="6"/>
                    </a:cubicBezTo>
                    <a:cubicBezTo>
                      <a:pt x="15508" y="7"/>
                      <a:pt x="15507" y="8"/>
                      <a:pt x="15506" y="8"/>
                    </a:cubicBezTo>
                    <a:lnTo>
                      <a:pt x="15506" y="8"/>
                    </a:lnTo>
                    <a:cubicBezTo>
                      <a:pt x="15505" y="8"/>
                      <a:pt x="15504" y="7"/>
                      <a:pt x="15504" y="6"/>
                    </a:cubicBezTo>
                    <a:cubicBezTo>
                      <a:pt x="15504" y="5"/>
                      <a:pt x="15505" y="4"/>
                      <a:pt x="15506" y="4"/>
                    </a:cubicBezTo>
                    <a:close/>
                    <a:moveTo>
                      <a:pt x="15514" y="4"/>
                    </a:moveTo>
                    <a:lnTo>
                      <a:pt x="15514" y="4"/>
                    </a:lnTo>
                    <a:cubicBezTo>
                      <a:pt x="15515" y="4"/>
                      <a:pt x="15516" y="5"/>
                      <a:pt x="15516" y="6"/>
                    </a:cubicBezTo>
                    <a:cubicBezTo>
                      <a:pt x="15516" y="7"/>
                      <a:pt x="15515" y="8"/>
                      <a:pt x="15514" y="8"/>
                    </a:cubicBezTo>
                    <a:lnTo>
                      <a:pt x="15514" y="8"/>
                    </a:lnTo>
                    <a:cubicBezTo>
                      <a:pt x="15513" y="8"/>
                      <a:pt x="15512" y="7"/>
                      <a:pt x="15512" y="6"/>
                    </a:cubicBezTo>
                    <a:cubicBezTo>
                      <a:pt x="15512" y="5"/>
                      <a:pt x="15513" y="4"/>
                      <a:pt x="15514" y="4"/>
                    </a:cubicBezTo>
                    <a:close/>
                    <a:moveTo>
                      <a:pt x="15522" y="4"/>
                    </a:moveTo>
                    <a:lnTo>
                      <a:pt x="15522" y="4"/>
                    </a:lnTo>
                    <a:cubicBezTo>
                      <a:pt x="15523" y="4"/>
                      <a:pt x="15524" y="5"/>
                      <a:pt x="15524" y="6"/>
                    </a:cubicBezTo>
                    <a:cubicBezTo>
                      <a:pt x="15524" y="7"/>
                      <a:pt x="15523" y="8"/>
                      <a:pt x="15522" y="8"/>
                    </a:cubicBezTo>
                    <a:lnTo>
                      <a:pt x="15522" y="8"/>
                    </a:lnTo>
                    <a:cubicBezTo>
                      <a:pt x="15521" y="8"/>
                      <a:pt x="15520" y="7"/>
                      <a:pt x="15520" y="6"/>
                    </a:cubicBezTo>
                    <a:cubicBezTo>
                      <a:pt x="15520" y="5"/>
                      <a:pt x="15521" y="4"/>
                      <a:pt x="15522" y="4"/>
                    </a:cubicBezTo>
                    <a:close/>
                    <a:moveTo>
                      <a:pt x="15530" y="4"/>
                    </a:moveTo>
                    <a:lnTo>
                      <a:pt x="15530" y="4"/>
                    </a:lnTo>
                    <a:cubicBezTo>
                      <a:pt x="15532" y="4"/>
                      <a:pt x="15532" y="5"/>
                      <a:pt x="15532" y="6"/>
                    </a:cubicBezTo>
                    <a:cubicBezTo>
                      <a:pt x="15532" y="7"/>
                      <a:pt x="15532" y="8"/>
                      <a:pt x="15530" y="8"/>
                    </a:cubicBezTo>
                    <a:lnTo>
                      <a:pt x="15530" y="8"/>
                    </a:lnTo>
                    <a:cubicBezTo>
                      <a:pt x="15529" y="8"/>
                      <a:pt x="15528" y="7"/>
                      <a:pt x="15528" y="6"/>
                    </a:cubicBezTo>
                    <a:cubicBezTo>
                      <a:pt x="15528" y="5"/>
                      <a:pt x="15529" y="4"/>
                      <a:pt x="15530" y="4"/>
                    </a:cubicBezTo>
                    <a:close/>
                    <a:moveTo>
                      <a:pt x="15538" y="4"/>
                    </a:moveTo>
                    <a:lnTo>
                      <a:pt x="15538" y="4"/>
                    </a:lnTo>
                    <a:cubicBezTo>
                      <a:pt x="15540" y="4"/>
                      <a:pt x="15540" y="5"/>
                      <a:pt x="15540" y="6"/>
                    </a:cubicBezTo>
                    <a:cubicBezTo>
                      <a:pt x="15540" y="7"/>
                      <a:pt x="15540" y="8"/>
                      <a:pt x="15538" y="8"/>
                    </a:cubicBezTo>
                    <a:lnTo>
                      <a:pt x="15538" y="8"/>
                    </a:lnTo>
                    <a:cubicBezTo>
                      <a:pt x="15537" y="8"/>
                      <a:pt x="15536" y="7"/>
                      <a:pt x="15536" y="6"/>
                    </a:cubicBezTo>
                    <a:cubicBezTo>
                      <a:pt x="15536" y="5"/>
                      <a:pt x="15537" y="4"/>
                      <a:pt x="15538" y="4"/>
                    </a:cubicBezTo>
                    <a:close/>
                    <a:moveTo>
                      <a:pt x="15546" y="4"/>
                    </a:moveTo>
                    <a:lnTo>
                      <a:pt x="15546" y="4"/>
                    </a:lnTo>
                    <a:cubicBezTo>
                      <a:pt x="15548" y="4"/>
                      <a:pt x="15548" y="5"/>
                      <a:pt x="15548" y="6"/>
                    </a:cubicBezTo>
                    <a:cubicBezTo>
                      <a:pt x="15548" y="7"/>
                      <a:pt x="15548" y="8"/>
                      <a:pt x="15546" y="8"/>
                    </a:cubicBezTo>
                    <a:lnTo>
                      <a:pt x="15546" y="8"/>
                    </a:lnTo>
                    <a:cubicBezTo>
                      <a:pt x="15545" y="8"/>
                      <a:pt x="15544" y="7"/>
                      <a:pt x="15544" y="6"/>
                    </a:cubicBezTo>
                    <a:cubicBezTo>
                      <a:pt x="15544" y="5"/>
                      <a:pt x="15545" y="4"/>
                      <a:pt x="15546" y="4"/>
                    </a:cubicBezTo>
                    <a:close/>
                    <a:moveTo>
                      <a:pt x="15554" y="4"/>
                    </a:moveTo>
                    <a:lnTo>
                      <a:pt x="15554" y="4"/>
                    </a:lnTo>
                    <a:cubicBezTo>
                      <a:pt x="15556" y="4"/>
                      <a:pt x="15556" y="5"/>
                      <a:pt x="15556" y="6"/>
                    </a:cubicBezTo>
                    <a:cubicBezTo>
                      <a:pt x="15556" y="7"/>
                      <a:pt x="15556" y="8"/>
                      <a:pt x="15554" y="8"/>
                    </a:cubicBezTo>
                    <a:lnTo>
                      <a:pt x="15554" y="8"/>
                    </a:lnTo>
                    <a:cubicBezTo>
                      <a:pt x="15553" y="8"/>
                      <a:pt x="15552" y="7"/>
                      <a:pt x="15552" y="6"/>
                    </a:cubicBezTo>
                    <a:cubicBezTo>
                      <a:pt x="15552" y="5"/>
                      <a:pt x="15553" y="4"/>
                      <a:pt x="15554" y="4"/>
                    </a:cubicBezTo>
                    <a:close/>
                    <a:moveTo>
                      <a:pt x="15562" y="4"/>
                    </a:moveTo>
                    <a:lnTo>
                      <a:pt x="15562" y="4"/>
                    </a:lnTo>
                    <a:cubicBezTo>
                      <a:pt x="15564" y="4"/>
                      <a:pt x="15564" y="5"/>
                      <a:pt x="15564" y="6"/>
                    </a:cubicBezTo>
                    <a:cubicBezTo>
                      <a:pt x="15564" y="7"/>
                      <a:pt x="15564" y="8"/>
                      <a:pt x="15562" y="8"/>
                    </a:cubicBezTo>
                    <a:lnTo>
                      <a:pt x="15562" y="8"/>
                    </a:lnTo>
                    <a:cubicBezTo>
                      <a:pt x="15561" y="8"/>
                      <a:pt x="15560" y="7"/>
                      <a:pt x="15560" y="6"/>
                    </a:cubicBezTo>
                    <a:cubicBezTo>
                      <a:pt x="15560" y="5"/>
                      <a:pt x="15561" y="4"/>
                      <a:pt x="15562" y="4"/>
                    </a:cubicBezTo>
                    <a:close/>
                    <a:moveTo>
                      <a:pt x="15570" y="4"/>
                    </a:moveTo>
                    <a:lnTo>
                      <a:pt x="15570" y="4"/>
                    </a:lnTo>
                    <a:cubicBezTo>
                      <a:pt x="15572" y="4"/>
                      <a:pt x="15572" y="5"/>
                      <a:pt x="15572" y="6"/>
                    </a:cubicBezTo>
                    <a:cubicBezTo>
                      <a:pt x="15572" y="7"/>
                      <a:pt x="15572" y="8"/>
                      <a:pt x="15570" y="8"/>
                    </a:cubicBezTo>
                    <a:lnTo>
                      <a:pt x="15570" y="8"/>
                    </a:lnTo>
                    <a:cubicBezTo>
                      <a:pt x="15569" y="8"/>
                      <a:pt x="15568" y="7"/>
                      <a:pt x="15568" y="6"/>
                    </a:cubicBezTo>
                    <a:cubicBezTo>
                      <a:pt x="15568" y="5"/>
                      <a:pt x="15569" y="4"/>
                      <a:pt x="15570" y="4"/>
                    </a:cubicBezTo>
                    <a:close/>
                    <a:moveTo>
                      <a:pt x="15578" y="4"/>
                    </a:moveTo>
                    <a:lnTo>
                      <a:pt x="15578" y="4"/>
                    </a:lnTo>
                    <a:cubicBezTo>
                      <a:pt x="15580" y="4"/>
                      <a:pt x="15580" y="5"/>
                      <a:pt x="15580" y="6"/>
                    </a:cubicBezTo>
                    <a:cubicBezTo>
                      <a:pt x="15580" y="7"/>
                      <a:pt x="15580" y="8"/>
                      <a:pt x="15578" y="8"/>
                    </a:cubicBezTo>
                    <a:lnTo>
                      <a:pt x="15578" y="8"/>
                    </a:lnTo>
                    <a:cubicBezTo>
                      <a:pt x="15577" y="8"/>
                      <a:pt x="15576" y="7"/>
                      <a:pt x="15576" y="6"/>
                    </a:cubicBezTo>
                    <a:cubicBezTo>
                      <a:pt x="15576" y="5"/>
                      <a:pt x="15577" y="4"/>
                      <a:pt x="15578" y="4"/>
                    </a:cubicBezTo>
                    <a:close/>
                    <a:moveTo>
                      <a:pt x="15586" y="4"/>
                    </a:moveTo>
                    <a:lnTo>
                      <a:pt x="15586" y="4"/>
                    </a:lnTo>
                    <a:cubicBezTo>
                      <a:pt x="15588" y="4"/>
                      <a:pt x="15588" y="5"/>
                      <a:pt x="15588" y="6"/>
                    </a:cubicBezTo>
                    <a:cubicBezTo>
                      <a:pt x="15588" y="7"/>
                      <a:pt x="15588" y="8"/>
                      <a:pt x="15586" y="8"/>
                    </a:cubicBezTo>
                    <a:lnTo>
                      <a:pt x="15586" y="8"/>
                    </a:lnTo>
                    <a:cubicBezTo>
                      <a:pt x="15585" y="8"/>
                      <a:pt x="15584" y="7"/>
                      <a:pt x="15584" y="6"/>
                    </a:cubicBezTo>
                    <a:cubicBezTo>
                      <a:pt x="15584" y="5"/>
                      <a:pt x="15585" y="4"/>
                      <a:pt x="15586" y="4"/>
                    </a:cubicBezTo>
                    <a:close/>
                    <a:moveTo>
                      <a:pt x="15594" y="4"/>
                    </a:moveTo>
                    <a:lnTo>
                      <a:pt x="15594" y="4"/>
                    </a:lnTo>
                    <a:cubicBezTo>
                      <a:pt x="15596" y="4"/>
                      <a:pt x="15596" y="5"/>
                      <a:pt x="15596" y="6"/>
                    </a:cubicBezTo>
                    <a:cubicBezTo>
                      <a:pt x="15596" y="7"/>
                      <a:pt x="15596" y="8"/>
                      <a:pt x="15594" y="8"/>
                    </a:cubicBezTo>
                    <a:lnTo>
                      <a:pt x="15594" y="8"/>
                    </a:lnTo>
                    <a:cubicBezTo>
                      <a:pt x="15593" y="8"/>
                      <a:pt x="15592" y="7"/>
                      <a:pt x="15592" y="6"/>
                    </a:cubicBezTo>
                    <a:cubicBezTo>
                      <a:pt x="15592" y="5"/>
                      <a:pt x="15593" y="4"/>
                      <a:pt x="15594" y="4"/>
                    </a:cubicBezTo>
                    <a:close/>
                    <a:moveTo>
                      <a:pt x="15602" y="4"/>
                    </a:moveTo>
                    <a:lnTo>
                      <a:pt x="15602" y="4"/>
                    </a:lnTo>
                    <a:cubicBezTo>
                      <a:pt x="15604" y="4"/>
                      <a:pt x="15604" y="5"/>
                      <a:pt x="15604" y="6"/>
                    </a:cubicBezTo>
                    <a:cubicBezTo>
                      <a:pt x="15604" y="7"/>
                      <a:pt x="15604" y="8"/>
                      <a:pt x="15602" y="8"/>
                    </a:cubicBezTo>
                    <a:lnTo>
                      <a:pt x="15602" y="8"/>
                    </a:lnTo>
                    <a:cubicBezTo>
                      <a:pt x="15601" y="8"/>
                      <a:pt x="15600" y="7"/>
                      <a:pt x="15600" y="6"/>
                    </a:cubicBezTo>
                    <a:cubicBezTo>
                      <a:pt x="15600" y="5"/>
                      <a:pt x="15601" y="4"/>
                      <a:pt x="15602" y="4"/>
                    </a:cubicBezTo>
                    <a:close/>
                    <a:moveTo>
                      <a:pt x="15610" y="4"/>
                    </a:moveTo>
                    <a:lnTo>
                      <a:pt x="15610" y="4"/>
                    </a:lnTo>
                    <a:cubicBezTo>
                      <a:pt x="15612" y="4"/>
                      <a:pt x="15612" y="5"/>
                      <a:pt x="15612" y="6"/>
                    </a:cubicBezTo>
                    <a:cubicBezTo>
                      <a:pt x="15612" y="7"/>
                      <a:pt x="15612" y="8"/>
                      <a:pt x="15610" y="8"/>
                    </a:cubicBezTo>
                    <a:lnTo>
                      <a:pt x="15610" y="8"/>
                    </a:lnTo>
                    <a:cubicBezTo>
                      <a:pt x="15609" y="8"/>
                      <a:pt x="15608" y="7"/>
                      <a:pt x="15608" y="6"/>
                    </a:cubicBezTo>
                    <a:cubicBezTo>
                      <a:pt x="15608" y="5"/>
                      <a:pt x="15609" y="4"/>
                      <a:pt x="15610" y="4"/>
                    </a:cubicBezTo>
                    <a:close/>
                    <a:moveTo>
                      <a:pt x="15618" y="4"/>
                    </a:moveTo>
                    <a:lnTo>
                      <a:pt x="15618" y="4"/>
                    </a:lnTo>
                    <a:cubicBezTo>
                      <a:pt x="15620" y="4"/>
                      <a:pt x="15620" y="5"/>
                      <a:pt x="15620" y="6"/>
                    </a:cubicBezTo>
                    <a:cubicBezTo>
                      <a:pt x="15620" y="7"/>
                      <a:pt x="15620" y="8"/>
                      <a:pt x="15618" y="8"/>
                    </a:cubicBezTo>
                    <a:lnTo>
                      <a:pt x="15618" y="8"/>
                    </a:lnTo>
                    <a:cubicBezTo>
                      <a:pt x="15617" y="8"/>
                      <a:pt x="15616" y="7"/>
                      <a:pt x="15616" y="6"/>
                    </a:cubicBezTo>
                    <a:cubicBezTo>
                      <a:pt x="15616" y="5"/>
                      <a:pt x="15617" y="4"/>
                      <a:pt x="15618" y="4"/>
                    </a:cubicBezTo>
                    <a:close/>
                    <a:moveTo>
                      <a:pt x="15626" y="4"/>
                    </a:moveTo>
                    <a:lnTo>
                      <a:pt x="15626" y="4"/>
                    </a:lnTo>
                    <a:cubicBezTo>
                      <a:pt x="15628" y="4"/>
                      <a:pt x="15628" y="5"/>
                      <a:pt x="15628" y="6"/>
                    </a:cubicBezTo>
                    <a:cubicBezTo>
                      <a:pt x="15628" y="7"/>
                      <a:pt x="15628" y="8"/>
                      <a:pt x="15626" y="8"/>
                    </a:cubicBezTo>
                    <a:lnTo>
                      <a:pt x="15626" y="8"/>
                    </a:lnTo>
                    <a:cubicBezTo>
                      <a:pt x="15625" y="8"/>
                      <a:pt x="15624" y="7"/>
                      <a:pt x="15624" y="6"/>
                    </a:cubicBezTo>
                    <a:cubicBezTo>
                      <a:pt x="15624" y="5"/>
                      <a:pt x="15625" y="4"/>
                      <a:pt x="15626" y="4"/>
                    </a:cubicBezTo>
                    <a:close/>
                    <a:moveTo>
                      <a:pt x="15634" y="4"/>
                    </a:moveTo>
                    <a:lnTo>
                      <a:pt x="15634" y="4"/>
                    </a:lnTo>
                    <a:cubicBezTo>
                      <a:pt x="15636" y="4"/>
                      <a:pt x="15636" y="5"/>
                      <a:pt x="15636" y="6"/>
                    </a:cubicBezTo>
                    <a:cubicBezTo>
                      <a:pt x="15636" y="7"/>
                      <a:pt x="15636" y="8"/>
                      <a:pt x="15634" y="8"/>
                    </a:cubicBezTo>
                    <a:lnTo>
                      <a:pt x="15634" y="8"/>
                    </a:lnTo>
                    <a:cubicBezTo>
                      <a:pt x="15633" y="8"/>
                      <a:pt x="15632" y="7"/>
                      <a:pt x="15632" y="6"/>
                    </a:cubicBezTo>
                    <a:cubicBezTo>
                      <a:pt x="15632" y="5"/>
                      <a:pt x="15633" y="4"/>
                      <a:pt x="15634" y="4"/>
                    </a:cubicBezTo>
                    <a:close/>
                    <a:moveTo>
                      <a:pt x="15642" y="4"/>
                    </a:moveTo>
                    <a:lnTo>
                      <a:pt x="15642" y="4"/>
                    </a:lnTo>
                    <a:cubicBezTo>
                      <a:pt x="15644" y="4"/>
                      <a:pt x="15644" y="5"/>
                      <a:pt x="15644" y="6"/>
                    </a:cubicBezTo>
                    <a:cubicBezTo>
                      <a:pt x="15644" y="7"/>
                      <a:pt x="15644" y="8"/>
                      <a:pt x="15642" y="8"/>
                    </a:cubicBezTo>
                    <a:lnTo>
                      <a:pt x="15642" y="8"/>
                    </a:lnTo>
                    <a:cubicBezTo>
                      <a:pt x="15641" y="8"/>
                      <a:pt x="15640" y="7"/>
                      <a:pt x="15640" y="6"/>
                    </a:cubicBezTo>
                    <a:cubicBezTo>
                      <a:pt x="15640" y="5"/>
                      <a:pt x="15641" y="4"/>
                      <a:pt x="15642" y="4"/>
                    </a:cubicBezTo>
                    <a:close/>
                    <a:moveTo>
                      <a:pt x="15650" y="4"/>
                    </a:moveTo>
                    <a:lnTo>
                      <a:pt x="15650" y="4"/>
                    </a:lnTo>
                    <a:cubicBezTo>
                      <a:pt x="15652" y="4"/>
                      <a:pt x="15652" y="5"/>
                      <a:pt x="15652" y="6"/>
                    </a:cubicBezTo>
                    <a:cubicBezTo>
                      <a:pt x="15652" y="7"/>
                      <a:pt x="15652" y="8"/>
                      <a:pt x="15650" y="8"/>
                    </a:cubicBezTo>
                    <a:lnTo>
                      <a:pt x="15650" y="8"/>
                    </a:lnTo>
                    <a:cubicBezTo>
                      <a:pt x="15649" y="8"/>
                      <a:pt x="15648" y="7"/>
                      <a:pt x="15648" y="6"/>
                    </a:cubicBezTo>
                    <a:cubicBezTo>
                      <a:pt x="15648" y="5"/>
                      <a:pt x="15649" y="4"/>
                      <a:pt x="15650" y="4"/>
                    </a:cubicBezTo>
                    <a:close/>
                    <a:moveTo>
                      <a:pt x="15658" y="4"/>
                    </a:moveTo>
                    <a:lnTo>
                      <a:pt x="15658" y="4"/>
                    </a:lnTo>
                    <a:cubicBezTo>
                      <a:pt x="15660" y="4"/>
                      <a:pt x="15660" y="5"/>
                      <a:pt x="15660" y="6"/>
                    </a:cubicBezTo>
                    <a:cubicBezTo>
                      <a:pt x="15660" y="7"/>
                      <a:pt x="15660" y="8"/>
                      <a:pt x="15658" y="8"/>
                    </a:cubicBezTo>
                    <a:lnTo>
                      <a:pt x="15658" y="8"/>
                    </a:lnTo>
                    <a:cubicBezTo>
                      <a:pt x="15657" y="8"/>
                      <a:pt x="15656" y="7"/>
                      <a:pt x="15656" y="6"/>
                    </a:cubicBezTo>
                    <a:cubicBezTo>
                      <a:pt x="15656" y="5"/>
                      <a:pt x="15657" y="4"/>
                      <a:pt x="15658" y="4"/>
                    </a:cubicBezTo>
                    <a:close/>
                    <a:moveTo>
                      <a:pt x="15666" y="4"/>
                    </a:moveTo>
                    <a:lnTo>
                      <a:pt x="15666" y="4"/>
                    </a:lnTo>
                    <a:cubicBezTo>
                      <a:pt x="15668" y="4"/>
                      <a:pt x="15668" y="5"/>
                      <a:pt x="15668" y="6"/>
                    </a:cubicBezTo>
                    <a:cubicBezTo>
                      <a:pt x="15668" y="7"/>
                      <a:pt x="15668" y="8"/>
                      <a:pt x="15666" y="8"/>
                    </a:cubicBezTo>
                    <a:lnTo>
                      <a:pt x="15666" y="8"/>
                    </a:lnTo>
                    <a:cubicBezTo>
                      <a:pt x="15665" y="8"/>
                      <a:pt x="15664" y="7"/>
                      <a:pt x="15664" y="6"/>
                    </a:cubicBezTo>
                    <a:cubicBezTo>
                      <a:pt x="15664" y="5"/>
                      <a:pt x="15665" y="4"/>
                      <a:pt x="15666" y="4"/>
                    </a:cubicBezTo>
                    <a:close/>
                    <a:moveTo>
                      <a:pt x="15674" y="4"/>
                    </a:moveTo>
                    <a:lnTo>
                      <a:pt x="15675" y="4"/>
                    </a:lnTo>
                    <a:cubicBezTo>
                      <a:pt x="15676" y="4"/>
                      <a:pt x="15677" y="5"/>
                      <a:pt x="15677" y="6"/>
                    </a:cubicBezTo>
                    <a:cubicBezTo>
                      <a:pt x="15677" y="7"/>
                      <a:pt x="15676" y="8"/>
                      <a:pt x="15675" y="8"/>
                    </a:cubicBezTo>
                    <a:lnTo>
                      <a:pt x="15674" y="8"/>
                    </a:lnTo>
                    <a:cubicBezTo>
                      <a:pt x="15673" y="8"/>
                      <a:pt x="15672" y="7"/>
                      <a:pt x="15672" y="6"/>
                    </a:cubicBezTo>
                    <a:cubicBezTo>
                      <a:pt x="15672" y="5"/>
                      <a:pt x="15673" y="4"/>
                      <a:pt x="15674" y="4"/>
                    </a:cubicBezTo>
                    <a:close/>
                    <a:moveTo>
                      <a:pt x="15683" y="4"/>
                    </a:moveTo>
                    <a:lnTo>
                      <a:pt x="15683" y="4"/>
                    </a:lnTo>
                    <a:cubicBezTo>
                      <a:pt x="15684" y="4"/>
                      <a:pt x="15685" y="5"/>
                      <a:pt x="15685" y="6"/>
                    </a:cubicBezTo>
                    <a:cubicBezTo>
                      <a:pt x="15685" y="7"/>
                      <a:pt x="15684" y="8"/>
                      <a:pt x="15683" y="8"/>
                    </a:cubicBezTo>
                    <a:lnTo>
                      <a:pt x="15683" y="8"/>
                    </a:lnTo>
                    <a:cubicBezTo>
                      <a:pt x="15681" y="8"/>
                      <a:pt x="15681" y="7"/>
                      <a:pt x="15681" y="6"/>
                    </a:cubicBezTo>
                    <a:cubicBezTo>
                      <a:pt x="15681" y="5"/>
                      <a:pt x="15681" y="4"/>
                      <a:pt x="15683" y="4"/>
                    </a:cubicBezTo>
                    <a:close/>
                    <a:moveTo>
                      <a:pt x="15691" y="4"/>
                    </a:moveTo>
                    <a:lnTo>
                      <a:pt x="15691" y="4"/>
                    </a:lnTo>
                    <a:cubicBezTo>
                      <a:pt x="15692" y="4"/>
                      <a:pt x="15693" y="5"/>
                      <a:pt x="15693" y="6"/>
                    </a:cubicBezTo>
                    <a:cubicBezTo>
                      <a:pt x="15693" y="7"/>
                      <a:pt x="15692" y="8"/>
                      <a:pt x="15691" y="8"/>
                    </a:cubicBezTo>
                    <a:lnTo>
                      <a:pt x="15691" y="8"/>
                    </a:lnTo>
                    <a:cubicBezTo>
                      <a:pt x="15689" y="8"/>
                      <a:pt x="15689" y="7"/>
                      <a:pt x="15689" y="6"/>
                    </a:cubicBezTo>
                    <a:cubicBezTo>
                      <a:pt x="15689" y="5"/>
                      <a:pt x="15689" y="4"/>
                      <a:pt x="15691" y="4"/>
                    </a:cubicBezTo>
                    <a:close/>
                    <a:moveTo>
                      <a:pt x="15699" y="4"/>
                    </a:moveTo>
                    <a:lnTo>
                      <a:pt x="15699" y="4"/>
                    </a:lnTo>
                    <a:cubicBezTo>
                      <a:pt x="15700" y="4"/>
                      <a:pt x="15701" y="5"/>
                      <a:pt x="15701" y="6"/>
                    </a:cubicBezTo>
                    <a:cubicBezTo>
                      <a:pt x="15701" y="7"/>
                      <a:pt x="15700" y="8"/>
                      <a:pt x="15699" y="8"/>
                    </a:cubicBezTo>
                    <a:lnTo>
                      <a:pt x="15699" y="8"/>
                    </a:lnTo>
                    <a:cubicBezTo>
                      <a:pt x="15697" y="8"/>
                      <a:pt x="15697" y="7"/>
                      <a:pt x="15697" y="6"/>
                    </a:cubicBezTo>
                    <a:cubicBezTo>
                      <a:pt x="15697" y="5"/>
                      <a:pt x="15697" y="4"/>
                      <a:pt x="15699" y="4"/>
                    </a:cubicBezTo>
                    <a:close/>
                    <a:moveTo>
                      <a:pt x="15707" y="4"/>
                    </a:moveTo>
                    <a:lnTo>
                      <a:pt x="15707" y="4"/>
                    </a:lnTo>
                    <a:cubicBezTo>
                      <a:pt x="15708" y="4"/>
                      <a:pt x="15709" y="5"/>
                      <a:pt x="15709" y="6"/>
                    </a:cubicBezTo>
                    <a:cubicBezTo>
                      <a:pt x="15709" y="7"/>
                      <a:pt x="15708" y="8"/>
                      <a:pt x="15707" y="8"/>
                    </a:cubicBezTo>
                    <a:lnTo>
                      <a:pt x="15707" y="8"/>
                    </a:lnTo>
                    <a:cubicBezTo>
                      <a:pt x="15705" y="8"/>
                      <a:pt x="15705" y="7"/>
                      <a:pt x="15705" y="6"/>
                    </a:cubicBezTo>
                    <a:cubicBezTo>
                      <a:pt x="15705" y="5"/>
                      <a:pt x="15705" y="4"/>
                      <a:pt x="15707" y="4"/>
                    </a:cubicBezTo>
                    <a:close/>
                    <a:moveTo>
                      <a:pt x="15715" y="4"/>
                    </a:moveTo>
                    <a:lnTo>
                      <a:pt x="15715" y="4"/>
                    </a:lnTo>
                    <a:cubicBezTo>
                      <a:pt x="15716" y="4"/>
                      <a:pt x="15717" y="5"/>
                      <a:pt x="15717" y="6"/>
                    </a:cubicBezTo>
                    <a:cubicBezTo>
                      <a:pt x="15717" y="7"/>
                      <a:pt x="15716" y="8"/>
                      <a:pt x="15715" y="8"/>
                    </a:cubicBezTo>
                    <a:lnTo>
                      <a:pt x="15715" y="8"/>
                    </a:lnTo>
                    <a:cubicBezTo>
                      <a:pt x="15713" y="8"/>
                      <a:pt x="15713" y="7"/>
                      <a:pt x="15713" y="6"/>
                    </a:cubicBezTo>
                    <a:cubicBezTo>
                      <a:pt x="15713" y="5"/>
                      <a:pt x="15713" y="4"/>
                      <a:pt x="15715" y="4"/>
                    </a:cubicBezTo>
                    <a:close/>
                    <a:moveTo>
                      <a:pt x="15723" y="4"/>
                    </a:moveTo>
                    <a:lnTo>
                      <a:pt x="15723" y="4"/>
                    </a:lnTo>
                    <a:cubicBezTo>
                      <a:pt x="15724" y="4"/>
                      <a:pt x="15725" y="5"/>
                      <a:pt x="15725" y="6"/>
                    </a:cubicBezTo>
                    <a:cubicBezTo>
                      <a:pt x="15725" y="7"/>
                      <a:pt x="15724" y="8"/>
                      <a:pt x="15723" y="8"/>
                    </a:cubicBezTo>
                    <a:lnTo>
                      <a:pt x="15723" y="8"/>
                    </a:lnTo>
                    <a:cubicBezTo>
                      <a:pt x="15721" y="8"/>
                      <a:pt x="15721" y="7"/>
                      <a:pt x="15721" y="6"/>
                    </a:cubicBezTo>
                    <a:cubicBezTo>
                      <a:pt x="15721" y="5"/>
                      <a:pt x="15721" y="4"/>
                      <a:pt x="15723" y="4"/>
                    </a:cubicBezTo>
                    <a:close/>
                    <a:moveTo>
                      <a:pt x="15731" y="4"/>
                    </a:moveTo>
                    <a:lnTo>
                      <a:pt x="15731" y="4"/>
                    </a:lnTo>
                    <a:cubicBezTo>
                      <a:pt x="15732" y="4"/>
                      <a:pt x="15733" y="5"/>
                      <a:pt x="15733" y="6"/>
                    </a:cubicBezTo>
                    <a:cubicBezTo>
                      <a:pt x="15733" y="7"/>
                      <a:pt x="15732" y="8"/>
                      <a:pt x="15731" y="8"/>
                    </a:cubicBezTo>
                    <a:lnTo>
                      <a:pt x="15731" y="8"/>
                    </a:lnTo>
                    <a:cubicBezTo>
                      <a:pt x="15729" y="8"/>
                      <a:pt x="15729" y="7"/>
                      <a:pt x="15729" y="6"/>
                    </a:cubicBezTo>
                    <a:cubicBezTo>
                      <a:pt x="15729" y="5"/>
                      <a:pt x="15729" y="4"/>
                      <a:pt x="15731" y="4"/>
                    </a:cubicBezTo>
                    <a:close/>
                    <a:moveTo>
                      <a:pt x="15739" y="4"/>
                    </a:moveTo>
                    <a:lnTo>
                      <a:pt x="15739" y="4"/>
                    </a:lnTo>
                    <a:cubicBezTo>
                      <a:pt x="15740" y="4"/>
                      <a:pt x="15741" y="5"/>
                      <a:pt x="15741" y="6"/>
                    </a:cubicBezTo>
                    <a:cubicBezTo>
                      <a:pt x="15741" y="7"/>
                      <a:pt x="15740" y="8"/>
                      <a:pt x="15739" y="8"/>
                    </a:cubicBezTo>
                    <a:lnTo>
                      <a:pt x="15739" y="8"/>
                    </a:lnTo>
                    <a:cubicBezTo>
                      <a:pt x="15737" y="8"/>
                      <a:pt x="15737" y="7"/>
                      <a:pt x="15737" y="6"/>
                    </a:cubicBezTo>
                    <a:cubicBezTo>
                      <a:pt x="15737" y="5"/>
                      <a:pt x="15737" y="4"/>
                      <a:pt x="15739" y="4"/>
                    </a:cubicBezTo>
                    <a:close/>
                    <a:moveTo>
                      <a:pt x="15747" y="4"/>
                    </a:moveTo>
                    <a:lnTo>
                      <a:pt x="15747" y="4"/>
                    </a:lnTo>
                    <a:cubicBezTo>
                      <a:pt x="15748" y="4"/>
                      <a:pt x="15749" y="5"/>
                      <a:pt x="15749" y="6"/>
                    </a:cubicBezTo>
                    <a:cubicBezTo>
                      <a:pt x="15749" y="7"/>
                      <a:pt x="15748" y="8"/>
                      <a:pt x="15747" y="8"/>
                    </a:cubicBezTo>
                    <a:lnTo>
                      <a:pt x="15747" y="8"/>
                    </a:lnTo>
                    <a:cubicBezTo>
                      <a:pt x="15745" y="8"/>
                      <a:pt x="15745" y="7"/>
                      <a:pt x="15745" y="6"/>
                    </a:cubicBezTo>
                    <a:cubicBezTo>
                      <a:pt x="15745" y="5"/>
                      <a:pt x="15745" y="4"/>
                      <a:pt x="15747" y="4"/>
                    </a:cubicBezTo>
                    <a:close/>
                    <a:moveTo>
                      <a:pt x="15755" y="4"/>
                    </a:moveTo>
                    <a:lnTo>
                      <a:pt x="15755" y="4"/>
                    </a:lnTo>
                    <a:cubicBezTo>
                      <a:pt x="15756" y="4"/>
                      <a:pt x="15757" y="5"/>
                      <a:pt x="15757" y="6"/>
                    </a:cubicBezTo>
                    <a:cubicBezTo>
                      <a:pt x="15757" y="7"/>
                      <a:pt x="15756" y="8"/>
                      <a:pt x="15755" y="8"/>
                    </a:cubicBezTo>
                    <a:lnTo>
                      <a:pt x="15755" y="8"/>
                    </a:lnTo>
                    <a:cubicBezTo>
                      <a:pt x="15753" y="8"/>
                      <a:pt x="15753" y="7"/>
                      <a:pt x="15753" y="6"/>
                    </a:cubicBezTo>
                    <a:cubicBezTo>
                      <a:pt x="15753" y="5"/>
                      <a:pt x="15753" y="4"/>
                      <a:pt x="15755" y="4"/>
                    </a:cubicBezTo>
                    <a:close/>
                    <a:moveTo>
                      <a:pt x="15763" y="4"/>
                    </a:moveTo>
                    <a:lnTo>
                      <a:pt x="15763" y="4"/>
                    </a:lnTo>
                    <a:cubicBezTo>
                      <a:pt x="15764" y="4"/>
                      <a:pt x="15765" y="5"/>
                      <a:pt x="15765" y="6"/>
                    </a:cubicBezTo>
                    <a:cubicBezTo>
                      <a:pt x="15765" y="7"/>
                      <a:pt x="15764" y="8"/>
                      <a:pt x="15763" y="8"/>
                    </a:cubicBezTo>
                    <a:lnTo>
                      <a:pt x="15763" y="8"/>
                    </a:lnTo>
                    <a:cubicBezTo>
                      <a:pt x="15761" y="8"/>
                      <a:pt x="15761" y="7"/>
                      <a:pt x="15761" y="6"/>
                    </a:cubicBezTo>
                    <a:cubicBezTo>
                      <a:pt x="15761" y="5"/>
                      <a:pt x="15761" y="4"/>
                      <a:pt x="15763" y="4"/>
                    </a:cubicBezTo>
                    <a:close/>
                    <a:moveTo>
                      <a:pt x="15771" y="4"/>
                    </a:moveTo>
                    <a:lnTo>
                      <a:pt x="15771" y="4"/>
                    </a:lnTo>
                    <a:cubicBezTo>
                      <a:pt x="15772" y="4"/>
                      <a:pt x="15773" y="5"/>
                      <a:pt x="15773" y="6"/>
                    </a:cubicBezTo>
                    <a:cubicBezTo>
                      <a:pt x="15773" y="7"/>
                      <a:pt x="15772" y="8"/>
                      <a:pt x="15771" y="8"/>
                    </a:cubicBezTo>
                    <a:lnTo>
                      <a:pt x="15771" y="8"/>
                    </a:lnTo>
                    <a:cubicBezTo>
                      <a:pt x="15769" y="8"/>
                      <a:pt x="15769" y="7"/>
                      <a:pt x="15769" y="6"/>
                    </a:cubicBezTo>
                    <a:cubicBezTo>
                      <a:pt x="15769" y="5"/>
                      <a:pt x="15769" y="4"/>
                      <a:pt x="15771" y="4"/>
                    </a:cubicBezTo>
                    <a:close/>
                    <a:moveTo>
                      <a:pt x="15779" y="4"/>
                    </a:moveTo>
                    <a:lnTo>
                      <a:pt x="15779" y="4"/>
                    </a:lnTo>
                    <a:cubicBezTo>
                      <a:pt x="15780" y="4"/>
                      <a:pt x="15781" y="5"/>
                      <a:pt x="15781" y="6"/>
                    </a:cubicBezTo>
                    <a:cubicBezTo>
                      <a:pt x="15781" y="7"/>
                      <a:pt x="15780" y="8"/>
                      <a:pt x="15779" y="8"/>
                    </a:cubicBezTo>
                    <a:lnTo>
                      <a:pt x="15779" y="8"/>
                    </a:lnTo>
                    <a:cubicBezTo>
                      <a:pt x="15777" y="8"/>
                      <a:pt x="15777" y="7"/>
                      <a:pt x="15777" y="6"/>
                    </a:cubicBezTo>
                    <a:cubicBezTo>
                      <a:pt x="15777" y="5"/>
                      <a:pt x="15777" y="4"/>
                      <a:pt x="15779" y="4"/>
                    </a:cubicBezTo>
                    <a:close/>
                    <a:moveTo>
                      <a:pt x="15787" y="4"/>
                    </a:moveTo>
                    <a:lnTo>
                      <a:pt x="15787" y="4"/>
                    </a:lnTo>
                    <a:cubicBezTo>
                      <a:pt x="15788" y="4"/>
                      <a:pt x="15789" y="5"/>
                      <a:pt x="15789" y="6"/>
                    </a:cubicBezTo>
                    <a:cubicBezTo>
                      <a:pt x="15789" y="7"/>
                      <a:pt x="15788" y="8"/>
                      <a:pt x="15787" y="8"/>
                    </a:cubicBezTo>
                    <a:lnTo>
                      <a:pt x="15787" y="8"/>
                    </a:lnTo>
                    <a:cubicBezTo>
                      <a:pt x="15785" y="8"/>
                      <a:pt x="15785" y="7"/>
                      <a:pt x="15785" y="6"/>
                    </a:cubicBezTo>
                    <a:cubicBezTo>
                      <a:pt x="15785" y="5"/>
                      <a:pt x="15785" y="4"/>
                      <a:pt x="15787" y="4"/>
                    </a:cubicBezTo>
                    <a:close/>
                    <a:moveTo>
                      <a:pt x="15795" y="4"/>
                    </a:moveTo>
                    <a:lnTo>
                      <a:pt x="15795" y="4"/>
                    </a:lnTo>
                    <a:cubicBezTo>
                      <a:pt x="15796" y="4"/>
                      <a:pt x="15797" y="5"/>
                      <a:pt x="15797" y="6"/>
                    </a:cubicBezTo>
                    <a:cubicBezTo>
                      <a:pt x="15797" y="7"/>
                      <a:pt x="15796" y="8"/>
                      <a:pt x="15795" y="8"/>
                    </a:cubicBezTo>
                    <a:lnTo>
                      <a:pt x="15795" y="8"/>
                    </a:lnTo>
                    <a:cubicBezTo>
                      <a:pt x="15793" y="8"/>
                      <a:pt x="15793" y="7"/>
                      <a:pt x="15793" y="6"/>
                    </a:cubicBezTo>
                    <a:cubicBezTo>
                      <a:pt x="15793" y="5"/>
                      <a:pt x="15793" y="4"/>
                      <a:pt x="15795" y="4"/>
                    </a:cubicBezTo>
                    <a:close/>
                    <a:moveTo>
                      <a:pt x="15803" y="4"/>
                    </a:moveTo>
                    <a:lnTo>
                      <a:pt x="15803" y="4"/>
                    </a:lnTo>
                    <a:cubicBezTo>
                      <a:pt x="15804" y="4"/>
                      <a:pt x="15805" y="5"/>
                      <a:pt x="15805" y="6"/>
                    </a:cubicBezTo>
                    <a:cubicBezTo>
                      <a:pt x="15805" y="7"/>
                      <a:pt x="15804" y="8"/>
                      <a:pt x="15803" y="8"/>
                    </a:cubicBezTo>
                    <a:lnTo>
                      <a:pt x="15803" y="8"/>
                    </a:lnTo>
                    <a:cubicBezTo>
                      <a:pt x="15801" y="8"/>
                      <a:pt x="15801" y="7"/>
                      <a:pt x="15801" y="6"/>
                    </a:cubicBezTo>
                    <a:cubicBezTo>
                      <a:pt x="15801" y="5"/>
                      <a:pt x="15801" y="4"/>
                      <a:pt x="15803" y="4"/>
                    </a:cubicBezTo>
                    <a:close/>
                    <a:moveTo>
                      <a:pt x="15811" y="4"/>
                    </a:moveTo>
                    <a:lnTo>
                      <a:pt x="15811" y="4"/>
                    </a:lnTo>
                    <a:cubicBezTo>
                      <a:pt x="15812" y="4"/>
                      <a:pt x="15813" y="5"/>
                      <a:pt x="15813" y="6"/>
                    </a:cubicBezTo>
                    <a:cubicBezTo>
                      <a:pt x="15813" y="7"/>
                      <a:pt x="15812" y="8"/>
                      <a:pt x="15811" y="8"/>
                    </a:cubicBezTo>
                    <a:lnTo>
                      <a:pt x="15811" y="8"/>
                    </a:lnTo>
                    <a:cubicBezTo>
                      <a:pt x="15809" y="8"/>
                      <a:pt x="15809" y="7"/>
                      <a:pt x="15809" y="6"/>
                    </a:cubicBezTo>
                    <a:cubicBezTo>
                      <a:pt x="15809" y="5"/>
                      <a:pt x="15809" y="4"/>
                      <a:pt x="15811" y="4"/>
                    </a:cubicBezTo>
                    <a:close/>
                    <a:moveTo>
                      <a:pt x="15819" y="4"/>
                    </a:moveTo>
                    <a:lnTo>
                      <a:pt x="15819" y="4"/>
                    </a:lnTo>
                    <a:cubicBezTo>
                      <a:pt x="15820" y="4"/>
                      <a:pt x="15821" y="5"/>
                      <a:pt x="15821" y="6"/>
                    </a:cubicBezTo>
                    <a:cubicBezTo>
                      <a:pt x="15821" y="7"/>
                      <a:pt x="15820" y="8"/>
                      <a:pt x="15819" y="8"/>
                    </a:cubicBezTo>
                    <a:lnTo>
                      <a:pt x="15819" y="8"/>
                    </a:lnTo>
                    <a:cubicBezTo>
                      <a:pt x="15817" y="8"/>
                      <a:pt x="15817" y="7"/>
                      <a:pt x="15817" y="6"/>
                    </a:cubicBezTo>
                    <a:cubicBezTo>
                      <a:pt x="15817" y="5"/>
                      <a:pt x="15817" y="4"/>
                      <a:pt x="15819" y="4"/>
                    </a:cubicBezTo>
                    <a:close/>
                    <a:moveTo>
                      <a:pt x="15827" y="4"/>
                    </a:moveTo>
                    <a:lnTo>
                      <a:pt x="15827" y="4"/>
                    </a:lnTo>
                    <a:cubicBezTo>
                      <a:pt x="15828" y="4"/>
                      <a:pt x="15829" y="5"/>
                      <a:pt x="15829" y="6"/>
                    </a:cubicBezTo>
                    <a:cubicBezTo>
                      <a:pt x="15829" y="7"/>
                      <a:pt x="15828" y="8"/>
                      <a:pt x="15827" y="8"/>
                    </a:cubicBezTo>
                    <a:lnTo>
                      <a:pt x="15827" y="8"/>
                    </a:lnTo>
                    <a:cubicBezTo>
                      <a:pt x="15826" y="8"/>
                      <a:pt x="15825" y="7"/>
                      <a:pt x="15825" y="6"/>
                    </a:cubicBezTo>
                    <a:cubicBezTo>
                      <a:pt x="15825" y="5"/>
                      <a:pt x="15826" y="4"/>
                      <a:pt x="15827" y="4"/>
                    </a:cubicBezTo>
                    <a:close/>
                    <a:moveTo>
                      <a:pt x="15835" y="4"/>
                    </a:moveTo>
                    <a:lnTo>
                      <a:pt x="15835" y="4"/>
                    </a:lnTo>
                    <a:cubicBezTo>
                      <a:pt x="15836" y="4"/>
                      <a:pt x="15837" y="5"/>
                      <a:pt x="15837" y="6"/>
                    </a:cubicBezTo>
                    <a:cubicBezTo>
                      <a:pt x="15837" y="7"/>
                      <a:pt x="15836" y="8"/>
                      <a:pt x="15835" y="8"/>
                    </a:cubicBezTo>
                    <a:lnTo>
                      <a:pt x="15835" y="8"/>
                    </a:lnTo>
                    <a:cubicBezTo>
                      <a:pt x="15834" y="8"/>
                      <a:pt x="15833" y="7"/>
                      <a:pt x="15833" y="6"/>
                    </a:cubicBezTo>
                    <a:cubicBezTo>
                      <a:pt x="15833" y="5"/>
                      <a:pt x="15834" y="4"/>
                      <a:pt x="15835" y="4"/>
                    </a:cubicBezTo>
                    <a:close/>
                    <a:moveTo>
                      <a:pt x="15843" y="4"/>
                    </a:moveTo>
                    <a:lnTo>
                      <a:pt x="15843" y="4"/>
                    </a:lnTo>
                    <a:cubicBezTo>
                      <a:pt x="15844" y="4"/>
                      <a:pt x="15845" y="5"/>
                      <a:pt x="15845" y="6"/>
                    </a:cubicBezTo>
                    <a:cubicBezTo>
                      <a:pt x="15845" y="7"/>
                      <a:pt x="15844" y="8"/>
                      <a:pt x="15843" y="8"/>
                    </a:cubicBezTo>
                    <a:lnTo>
                      <a:pt x="15843" y="8"/>
                    </a:lnTo>
                    <a:cubicBezTo>
                      <a:pt x="15842" y="8"/>
                      <a:pt x="15841" y="7"/>
                      <a:pt x="15841" y="6"/>
                    </a:cubicBezTo>
                    <a:cubicBezTo>
                      <a:pt x="15841" y="5"/>
                      <a:pt x="15842" y="4"/>
                      <a:pt x="15843" y="4"/>
                    </a:cubicBezTo>
                    <a:close/>
                    <a:moveTo>
                      <a:pt x="15851" y="4"/>
                    </a:moveTo>
                    <a:lnTo>
                      <a:pt x="15851" y="4"/>
                    </a:lnTo>
                    <a:cubicBezTo>
                      <a:pt x="15852" y="4"/>
                      <a:pt x="15853" y="5"/>
                      <a:pt x="15853" y="6"/>
                    </a:cubicBezTo>
                    <a:cubicBezTo>
                      <a:pt x="15853" y="7"/>
                      <a:pt x="15852" y="8"/>
                      <a:pt x="15851" y="8"/>
                    </a:cubicBezTo>
                    <a:lnTo>
                      <a:pt x="15851" y="8"/>
                    </a:lnTo>
                    <a:cubicBezTo>
                      <a:pt x="15850" y="8"/>
                      <a:pt x="15849" y="7"/>
                      <a:pt x="15849" y="6"/>
                    </a:cubicBezTo>
                    <a:cubicBezTo>
                      <a:pt x="15849" y="5"/>
                      <a:pt x="15850" y="4"/>
                      <a:pt x="15851" y="4"/>
                    </a:cubicBezTo>
                    <a:close/>
                    <a:moveTo>
                      <a:pt x="15859" y="4"/>
                    </a:moveTo>
                    <a:lnTo>
                      <a:pt x="15859" y="4"/>
                    </a:lnTo>
                    <a:cubicBezTo>
                      <a:pt x="15860" y="4"/>
                      <a:pt x="15861" y="5"/>
                      <a:pt x="15861" y="6"/>
                    </a:cubicBezTo>
                    <a:cubicBezTo>
                      <a:pt x="15861" y="7"/>
                      <a:pt x="15860" y="8"/>
                      <a:pt x="15859" y="8"/>
                    </a:cubicBezTo>
                    <a:lnTo>
                      <a:pt x="15859" y="8"/>
                    </a:lnTo>
                    <a:cubicBezTo>
                      <a:pt x="15858" y="8"/>
                      <a:pt x="15857" y="7"/>
                      <a:pt x="15857" y="6"/>
                    </a:cubicBezTo>
                    <a:cubicBezTo>
                      <a:pt x="15857" y="5"/>
                      <a:pt x="15858" y="4"/>
                      <a:pt x="15859" y="4"/>
                    </a:cubicBezTo>
                    <a:close/>
                    <a:moveTo>
                      <a:pt x="15867" y="4"/>
                    </a:moveTo>
                    <a:lnTo>
                      <a:pt x="15867" y="4"/>
                    </a:lnTo>
                    <a:cubicBezTo>
                      <a:pt x="15868" y="4"/>
                      <a:pt x="15869" y="5"/>
                      <a:pt x="15869" y="6"/>
                    </a:cubicBezTo>
                    <a:cubicBezTo>
                      <a:pt x="15869" y="7"/>
                      <a:pt x="15868" y="8"/>
                      <a:pt x="15867" y="8"/>
                    </a:cubicBezTo>
                    <a:lnTo>
                      <a:pt x="15867" y="8"/>
                    </a:lnTo>
                    <a:cubicBezTo>
                      <a:pt x="15866" y="8"/>
                      <a:pt x="15865" y="7"/>
                      <a:pt x="15865" y="6"/>
                    </a:cubicBezTo>
                    <a:cubicBezTo>
                      <a:pt x="15865" y="5"/>
                      <a:pt x="15866" y="4"/>
                      <a:pt x="15867" y="4"/>
                    </a:cubicBezTo>
                    <a:close/>
                    <a:moveTo>
                      <a:pt x="15875" y="4"/>
                    </a:moveTo>
                    <a:lnTo>
                      <a:pt x="15875" y="4"/>
                    </a:lnTo>
                    <a:cubicBezTo>
                      <a:pt x="15876" y="4"/>
                      <a:pt x="15877" y="5"/>
                      <a:pt x="15877" y="6"/>
                    </a:cubicBezTo>
                    <a:cubicBezTo>
                      <a:pt x="15877" y="7"/>
                      <a:pt x="15876" y="8"/>
                      <a:pt x="15875" y="8"/>
                    </a:cubicBezTo>
                    <a:lnTo>
                      <a:pt x="15875" y="8"/>
                    </a:lnTo>
                    <a:cubicBezTo>
                      <a:pt x="15874" y="8"/>
                      <a:pt x="15873" y="7"/>
                      <a:pt x="15873" y="6"/>
                    </a:cubicBezTo>
                    <a:cubicBezTo>
                      <a:pt x="15873" y="5"/>
                      <a:pt x="15874" y="4"/>
                      <a:pt x="15875" y="4"/>
                    </a:cubicBezTo>
                    <a:close/>
                    <a:moveTo>
                      <a:pt x="15883" y="4"/>
                    </a:moveTo>
                    <a:lnTo>
                      <a:pt x="15883" y="4"/>
                    </a:lnTo>
                    <a:cubicBezTo>
                      <a:pt x="15884" y="4"/>
                      <a:pt x="15885" y="5"/>
                      <a:pt x="15885" y="6"/>
                    </a:cubicBezTo>
                    <a:cubicBezTo>
                      <a:pt x="15885" y="7"/>
                      <a:pt x="15884" y="8"/>
                      <a:pt x="15883" y="8"/>
                    </a:cubicBezTo>
                    <a:lnTo>
                      <a:pt x="15883" y="8"/>
                    </a:lnTo>
                    <a:cubicBezTo>
                      <a:pt x="15882" y="8"/>
                      <a:pt x="15881" y="7"/>
                      <a:pt x="15881" y="6"/>
                    </a:cubicBezTo>
                    <a:cubicBezTo>
                      <a:pt x="15881" y="5"/>
                      <a:pt x="15882" y="4"/>
                      <a:pt x="15883" y="4"/>
                    </a:cubicBezTo>
                    <a:close/>
                    <a:moveTo>
                      <a:pt x="15891" y="4"/>
                    </a:moveTo>
                    <a:lnTo>
                      <a:pt x="15891" y="4"/>
                    </a:lnTo>
                    <a:cubicBezTo>
                      <a:pt x="15892" y="4"/>
                      <a:pt x="15893" y="5"/>
                      <a:pt x="15893" y="6"/>
                    </a:cubicBezTo>
                    <a:cubicBezTo>
                      <a:pt x="15893" y="7"/>
                      <a:pt x="15892" y="8"/>
                      <a:pt x="15891" y="8"/>
                    </a:cubicBezTo>
                    <a:lnTo>
                      <a:pt x="15891" y="8"/>
                    </a:lnTo>
                    <a:cubicBezTo>
                      <a:pt x="15890" y="8"/>
                      <a:pt x="15889" y="7"/>
                      <a:pt x="15889" y="6"/>
                    </a:cubicBezTo>
                    <a:cubicBezTo>
                      <a:pt x="15889" y="5"/>
                      <a:pt x="15890" y="4"/>
                      <a:pt x="15891" y="4"/>
                    </a:cubicBezTo>
                    <a:close/>
                    <a:moveTo>
                      <a:pt x="15899" y="4"/>
                    </a:moveTo>
                    <a:lnTo>
                      <a:pt x="15899" y="4"/>
                    </a:lnTo>
                    <a:cubicBezTo>
                      <a:pt x="15900" y="4"/>
                      <a:pt x="15901" y="5"/>
                      <a:pt x="15901" y="6"/>
                    </a:cubicBezTo>
                    <a:cubicBezTo>
                      <a:pt x="15901" y="7"/>
                      <a:pt x="15900" y="8"/>
                      <a:pt x="15899" y="8"/>
                    </a:cubicBezTo>
                    <a:lnTo>
                      <a:pt x="15899" y="8"/>
                    </a:lnTo>
                    <a:cubicBezTo>
                      <a:pt x="15898" y="8"/>
                      <a:pt x="15897" y="7"/>
                      <a:pt x="15897" y="6"/>
                    </a:cubicBezTo>
                    <a:cubicBezTo>
                      <a:pt x="15897" y="5"/>
                      <a:pt x="15898" y="4"/>
                      <a:pt x="15899" y="4"/>
                    </a:cubicBezTo>
                    <a:close/>
                    <a:moveTo>
                      <a:pt x="15907" y="4"/>
                    </a:moveTo>
                    <a:lnTo>
                      <a:pt x="15907" y="4"/>
                    </a:lnTo>
                    <a:cubicBezTo>
                      <a:pt x="15908" y="4"/>
                      <a:pt x="15909" y="5"/>
                      <a:pt x="15909" y="6"/>
                    </a:cubicBezTo>
                    <a:cubicBezTo>
                      <a:pt x="15909" y="7"/>
                      <a:pt x="15908" y="8"/>
                      <a:pt x="15907" y="8"/>
                    </a:cubicBezTo>
                    <a:lnTo>
                      <a:pt x="15907" y="8"/>
                    </a:lnTo>
                    <a:cubicBezTo>
                      <a:pt x="15906" y="8"/>
                      <a:pt x="15905" y="7"/>
                      <a:pt x="15905" y="6"/>
                    </a:cubicBezTo>
                    <a:cubicBezTo>
                      <a:pt x="15905" y="5"/>
                      <a:pt x="15906" y="4"/>
                      <a:pt x="15907" y="4"/>
                    </a:cubicBezTo>
                    <a:close/>
                    <a:moveTo>
                      <a:pt x="15915" y="4"/>
                    </a:moveTo>
                    <a:lnTo>
                      <a:pt x="15915" y="4"/>
                    </a:lnTo>
                    <a:cubicBezTo>
                      <a:pt x="15916" y="4"/>
                      <a:pt x="15917" y="5"/>
                      <a:pt x="15917" y="6"/>
                    </a:cubicBezTo>
                    <a:cubicBezTo>
                      <a:pt x="15917" y="7"/>
                      <a:pt x="15916" y="8"/>
                      <a:pt x="15915" y="8"/>
                    </a:cubicBezTo>
                    <a:lnTo>
                      <a:pt x="15915" y="8"/>
                    </a:lnTo>
                    <a:cubicBezTo>
                      <a:pt x="15914" y="8"/>
                      <a:pt x="15913" y="7"/>
                      <a:pt x="15913" y="6"/>
                    </a:cubicBezTo>
                    <a:cubicBezTo>
                      <a:pt x="15913" y="5"/>
                      <a:pt x="15914" y="4"/>
                      <a:pt x="15915" y="4"/>
                    </a:cubicBezTo>
                    <a:close/>
                    <a:moveTo>
                      <a:pt x="15923" y="4"/>
                    </a:moveTo>
                    <a:lnTo>
                      <a:pt x="15923" y="4"/>
                    </a:lnTo>
                    <a:cubicBezTo>
                      <a:pt x="15924" y="4"/>
                      <a:pt x="15925" y="5"/>
                      <a:pt x="15925" y="6"/>
                    </a:cubicBezTo>
                    <a:cubicBezTo>
                      <a:pt x="15925" y="7"/>
                      <a:pt x="15924" y="8"/>
                      <a:pt x="15923" y="8"/>
                    </a:cubicBezTo>
                    <a:lnTo>
                      <a:pt x="15923" y="8"/>
                    </a:lnTo>
                    <a:cubicBezTo>
                      <a:pt x="15922" y="8"/>
                      <a:pt x="15921" y="7"/>
                      <a:pt x="15921" y="6"/>
                    </a:cubicBezTo>
                    <a:cubicBezTo>
                      <a:pt x="15921" y="5"/>
                      <a:pt x="15922" y="4"/>
                      <a:pt x="15923" y="4"/>
                    </a:cubicBezTo>
                    <a:close/>
                    <a:moveTo>
                      <a:pt x="15931" y="4"/>
                    </a:moveTo>
                    <a:lnTo>
                      <a:pt x="15931" y="4"/>
                    </a:lnTo>
                    <a:cubicBezTo>
                      <a:pt x="15932" y="4"/>
                      <a:pt x="15933" y="5"/>
                      <a:pt x="15933" y="6"/>
                    </a:cubicBezTo>
                    <a:cubicBezTo>
                      <a:pt x="15933" y="7"/>
                      <a:pt x="15932" y="8"/>
                      <a:pt x="15931" y="8"/>
                    </a:cubicBezTo>
                    <a:lnTo>
                      <a:pt x="15931" y="8"/>
                    </a:lnTo>
                    <a:cubicBezTo>
                      <a:pt x="15930" y="8"/>
                      <a:pt x="15929" y="7"/>
                      <a:pt x="15929" y="6"/>
                    </a:cubicBezTo>
                    <a:cubicBezTo>
                      <a:pt x="15929" y="5"/>
                      <a:pt x="15930" y="4"/>
                      <a:pt x="15931" y="4"/>
                    </a:cubicBezTo>
                    <a:close/>
                    <a:moveTo>
                      <a:pt x="15939" y="4"/>
                    </a:moveTo>
                    <a:lnTo>
                      <a:pt x="15939" y="4"/>
                    </a:lnTo>
                    <a:cubicBezTo>
                      <a:pt x="15940" y="4"/>
                      <a:pt x="15941" y="5"/>
                      <a:pt x="15941" y="6"/>
                    </a:cubicBezTo>
                    <a:cubicBezTo>
                      <a:pt x="15941" y="7"/>
                      <a:pt x="15940" y="8"/>
                      <a:pt x="15939" y="8"/>
                    </a:cubicBezTo>
                    <a:lnTo>
                      <a:pt x="15939" y="8"/>
                    </a:lnTo>
                    <a:cubicBezTo>
                      <a:pt x="15938" y="8"/>
                      <a:pt x="15937" y="7"/>
                      <a:pt x="15937" y="6"/>
                    </a:cubicBezTo>
                    <a:cubicBezTo>
                      <a:pt x="15937" y="5"/>
                      <a:pt x="15938" y="4"/>
                      <a:pt x="15939" y="4"/>
                    </a:cubicBezTo>
                    <a:close/>
                    <a:moveTo>
                      <a:pt x="15947" y="4"/>
                    </a:moveTo>
                    <a:lnTo>
                      <a:pt x="15947" y="4"/>
                    </a:lnTo>
                    <a:cubicBezTo>
                      <a:pt x="15948" y="4"/>
                      <a:pt x="15949" y="5"/>
                      <a:pt x="15949" y="6"/>
                    </a:cubicBezTo>
                    <a:cubicBezTo>
                      <a:pt x="15949" y="7"/>
                      <a:pt x="15948" y="8"/>
                      <a:pt x="15947" y="8"/>
                    </a:cubicBezTo>
                    <a:lnTo>
                      <a:pt x="15947" y="8"/>
                    </a:lnTo>
                    <a:cubicBezTo>
                      <a:pt x="15946" y="8"/>
                      <a:pt x="15945" y="7"/>
                      <a:pt x="15945" y="6"/>
                    </a:cubicBezTo>
                    <a:cubicBezTo>
                      <a:pt x="15945" y="5"/>
                      <a:pt x="15946" y="4"/>
                      <a:pt x="15947" y="4"/>
                    </a:cubicBezTo>
                    <a:close/>
                    <a:moveTo>
                      <a:pt x="15955" y="4"/>
                    </a:moveTo>
                    <a:lnTo>
                      <a:pt x="15955" y="4"/>
                    </a:lnTo>
                    <a:cubicBezTo>
                      <a:pt x="15956" y="4"/>
                      <a:pt x="15957" y="5"/>
                      <a:pt x="15957" y="6"/>
                    </a:cubicBezTo>
                    <a:cubicBezTo>
                      <a:pt x="15957" y="7"/>
                      <a:pt x="15956" y="8"/>
                      <a:pt x="15955" y="8"/>
                    </a:cubicBezTo>
                    <a:lnTo>
                      <a:pt x="15955" y="8"/>
                    </a:lnTo>
                    <a:cubicBezTo>
                      <a:pt x="15954" y="8"/>
                      <a:pt x="15953" y="7"/>
                      <a:pt x="15953" y="6"/>
                    </a:cubicBezTo>
                    <a:cubicBezTo>
                      <a:pt x="15953" y="5"/>
                      <a:pt x="15954" y="4"/>
                      <a:pt x="15955" y="4"/>
                    </a:cubicBezTo>
                    <a:close/>
                    <a:moveTo>
                      <a:pt x="15963" y="4"/>
                    </a:moveTo>
                    <a:lnTo>
                      <a:pt x="15963" y="4"/>
                    </a:lnTo>
                    <a:cubicBezTo>
                      <a:pt x="15964" y="4"/>
                      <a:pt x="15965" y="5"/>
                      <a:pt x="15965" y="6"/>
                    </a:cubicBezTo>
                    <a:cubicBezTo>
                      <a:pt x="15965" y="7"/>
                      <a:pt x="15964" y="8"/>
                      <a:pt x="15963" y="8"/>
                    </a:cubicBezTo>
                    <a:lnTo>
                      <a:pt x="15963" y="8"/>
                    </a:lnTo>
                    <a:cubicBezTo>
                      <a:pt x="15962" y="8"/>
                      <a:pt x="15961" y="7"/>
                      <a:pt x="15961" y="6"/>
                    </a:cubicBezTo>
                    <a:cubicBezTo>
                      <a:pt x="15961" y="5"/>
                      <a:pt x="15962" y="4"/>
                      <a:pt x="15963" y="4"/>
                    </a:cubicBezTo>
                    <a:close/>
                    <a:moveTo>
                      <a:pt x="15971" y="4"/>
                    </a:moveTo>
                    <a:lnTo>
                      <a:pt x="15971" y="4"/>
                    </a:lnTo>
                    <a:cubicBezTo>
                      <a:pt x="15972" y="4"/>
                      <a:pt x="15973" y="5"/>
                      <a:pt x="15973" y="6"/>
                    </a:cubicBezTo>
                    <a:cubicBezTo>
                      <a:pt x="15973" y="7"/>
                      <a:pt x="15972" y="8"/>
                      <a:pt x="15971" y="8"/>
                    </a:cubicBezTo>
                    <a:lnTo>
                      <a:pt x="15971" y="8"/>
                    </a:lnTo>
                    <a:cubicBezTo>
                      <a:pt x="15970" y="8"/>
                      <a:pt x="15969" y="7"/>
                      <a:pt x="15969" y="6"/>
                    </a:cubicBezTo>
                    <a:cubicBezTo>
                      <a:pt x="15969" y="5"/>
                      <a:pt x="15970" y="4"/>
                      <a:pt x="15971" y="4"/>
                    </a:cubicBezTo>
                    <a:close/>
                    <a:moveTo>
                      <a:pt x="15979" y="4"/>
                    </a:moveTo>
                    <a:lnTo>
                      <a:pt x="15979" y="4"/>
                    </a:lnTo>
                    <a:cubicBezTo>
                      <a:pt x="15980" y="4"/>
                      <a:pt x="15981" y="5"/>
                      <a:pt x="15981" y="6"/>
                    </a:cubicBezTo>
                    <a:cubicBezTo>
                      <a:pt x="15981" y="7"/>
                      <a:pt x="15980" y="8"/>
                      <a:pt x="15979" y="8"/>
                    </a:cubicBezTo>
                    <a:lnTo>
                      <a:pt x="15979" y="8"/>
                    </a:lnTo>
                    <a:cubicBezTo>
                      <a:pt x="15978" y="8"/>
                      <a:pt x="15977" y="7"/>
                      <a:pt x="15977" y="6"/>
                    </a:cubicBezTo>
                    <a:cubicBezTo>
                      <a:pt x="15977" y="5"/>
                      <a:pt x="15978" y="4"/>
                      <a:pt x="15979" y="4"/>
                    </a:cubicBezTo>
                    <a:close/>
                    <a:moveTo>
                      <a:pt x="15987" y="4"/>
                    </a:moveTo>
                    <a:lnTo>
                      <a:pt x="15987" y="4"/>
                    </a:lnTo>
                    <a:cubicBezTo>
                      <a:pt x="15988" y="4"/>
                      <a:pt x="15989" y="5"/>
                      <a:pt x="15989" y="6"/>
                    </a:cubicBezTo>
                    <a:cubicBezTo>
                      <a:pt x="15989" y="7"/>
                      <a:pt x="15988" y="8"/>
                      <a:pt x="15987" y="8"/>
                    </a:cubicBezTo>
                    <a:lnTo>
                      <a:pt x="15987" y="8"/>
                    </a:lnTo>
                    <a:cubicBezTo>
                      <a:pt x="15986" y="8"/>
                      <a:pt x="15985" y="7"/>
                      <a:pt x="15985" y="6"/>
                    </a:cubicBezTo>
                    <a:cubicBezTo>
                      <a:pt x="15985" y="5"/>
                      <a:pt x="15986" y="4"/>
                      <a:pt x="15987" y="4"/>
                    </a:cubicBezTo>
                    <a:close/>
                    <a:moveTo>
                      <a:pt x="15995" y="4"/>
                    </a:moveTo>
                    <a:lnTo>
                      <a:pt x="15995" y="4"/>
                    </a:lnTo>
                    <a:cubicBezTo>
                      <a:pt x="15996" y="4"/>
                      <a:pt x="15997" y="5"/>
                      <a:pt x="15997" y="6"/>
                    </a:cubicBezTo>
                    <a:cubicBezTo>
                      <a:pt x="15997" y="7"/>
                      <a:pt x="15996" y="8"/>
                      <a:pt x="15995" y="8"/>
                    </a:cubicBezTo>
                    <a:lnTo>
                      <a:pt x="15995" y="8"/>
                    </a:lnTo>
                    <a:cubicBezTo>
                      <a:pt x="15994" y="8"/>
                      <a:pt x="15993" y="7"/>
                      <a:pt x="15993" y="6"/>
                    </a:cubicBezTo>
                    <a:cubicBezTo>
                      <a:pt x="15993" y="5"/>
                      <a:pt x="15994" y="4"/>
                      <a:pt x="15995" y="4"/>
                    </a:cubicBezTo>
                    <a:close/>
                    <a:moveTo>
                      <a:pt x="16003" y="4"/>
                    </a:moveTo>
                    <a:lnTo>
                      <a:pt x="16003" y="4"/>
                    </a:lnTo>
                    <a:cubicBezTo>
                      <a:pt x="16004" y="4"/>
                      <a:pt x="16005" y="5"/>
                      <a:pt x="16005" y="6"/>
                    </a:cubicBezTo>
                    <a:cubicBezTo>
                      <a:pt x="16005" y="7"/>
                      <a:pt x="16004" y="8"/>
                      <a:pt x="16003" y="8"/>
                    </a:cubicBezTo>
                    <a:lnTo>
                      <a:pt x="16003" y="8"/>
                    </a:lnTo>
                    <a:cubicBezTo>
                      <a:pt x="16002" y="8"/>
                      <a:pt x="16001" y="7"/>
                      <a:pt x="16001" y="6"/>
                    </a:cubicBezTo>
                    <a:cubicBezTo>
                      <a:pt x="16001" y="5"/>
                      <a:pt x="16002" y="4"/>
                      <a:pt x="16003" y="4"/>
                    </a:cubicBezTo>
                    <a:close/>
                    <a:moveTo>
                      <a:pt x="16011" y="4"/>
                    </a:moveTo>
                    <a:lnTo>
                      <a:pt x="16011" y="4"/>
                    </a:lnTo>
                    <a:cubicBezTo>
                      <a:pt x="16012" y="4"/>
                      <a:pt x="16013" y="5"/>
                      <a:pt x="16013" y="6"/>
                    </a:cubicBezTo>
                    <a:cubicBezTo>
                      <a:pt x="16013" y="7"/>
                      <a:pt x="16012" y="8"/>
                      <a:pt x="16011" y="8"/>
                    </a:cubicBezTo>
                    <a:lnTo>
                      <a:pt x="16011" y="8"/>
                    </a:lnTo>
                    <a:cubicBezTo>
                      <a:pt x="16010" y="8"/>
                      <a:pt x="16009" y="7"/>
                      <a:pt x="16009" y="6"/>
                    </a:cubicBezTo>
                    <a:cubicBezTo>
                      <a:pt x="16009" y="5"/>
                      <a:pt x="16010" y="4"/>
                      <a:pt x="16011" y="4"/>
                    </a:cubicBezTo>
                    <a:close/>
                    <a:moveTo>
                      <a:pt x="16019" y="4"/>
                    </a:moveTo>
                    <a:lnTo>
                      <a:pt x="16019" y="4"/>
                    </a:lnTo>
                    <a:cubicBezTo>
                      <a:pt x="16020" y="4"/>
                      <a:pt x="16021" y="5"/>
                      <a:pt x="16021" y="6"/>
                    </a:cubicBezTo>
                    <a:cubicBezTo>
                      <a:pt x="16021" y="7"/>
                      <a:pt x="16020" y="8"/>
                      <a:pt x="16019" y="8"/>
                    </a:cubicBezTo>
                    <a:lnTo>
                      <a:pt x="16019" y="8"/>
                    </a:lnTo>
                    <a:cubicBezTo>
                      <a:pt x="16018" y="8"/>
                      <a:pt x="16017" y="7"/>
                      <a:pt x="16017" y="6"/>
                    </a:cubicBezTo>
                    <a:cubicBezTo>
                      <a:pt x="16017" y="5"/>
                      <a:pt x="16018" y="4"/>
                      <a:pt x="16019" y="4"/>
                    </a:cubicBezTo>
                    <a:close/>
                    <a:moveTo>
                      <a:pt x="16027" y="4"/>
                    </a:moveTo>
                    <a:lnTo>
                      <a:pt x="16027" y="4"/>
                    </a:lnTo>
                    <a:cubicBezTo>
                      <a:pt x="16028" y="4"/>
                      <a:pt x="16029" y="5"/>
                      <a:pt x="16029" y="6"/>
                    </a:cubicBezTo>
                    <a:cubicBezTo>
                      <a:pt x="16029" y="7"/>
                      <a:pt x="16028" y="8"/>
                      <a:pt x="16027" y="8"/>
                    </a:cubicBezTo>
                    <a:lnTo>
                      <a:pt x="16027" y="8"/>
                    </a:lnTo>
                    <a:cubicBezTo>
                      <a:pt x="16026" y="8"/>
                      <a:pt x="16025" y="7"/>
                      <a:pt x="16025" y="6"/>
                    </a:cubicBezTo>
                    <a:cubicBezTo>
                      <a:pt x="16025" y="5"/>
                      <a:pt x="16026" y="4"/>
                      <a:pt x="16027" y="4"/>
                    </a:cubicBezTo>
                    <a:close/>
                    <a:moveTo>
                      <a:pt x="16035" y="4"/>
                    </a:moveTo>
                    <a:lnTo>
                      <a:pt x="16035" y="4"/>
                    </a:lnTo>
                    <a:cubicBezTo>
                      <a:pt x="16036" y="4"/>
                      <a:pt x="16037" y="5"/>
                      <a:pt x="16037" y="6"/>
                    </a:cubicBezTo>
                    <a:cubicBezTo>
                      <a:pt x="16037" y="7"/>
                      <a:pt x="16036" y="8"/>
                      <a:pt x="16035" y="8"/>
                    </a:cubicBezTo>
                    <a:lnTo>
                      <a:pt x="16035" y="8"/>
                    </a:lnTo>
                    <a:cubicBezTo>
                      <a:pt x="16034" y="8"/>
                      <a:pt x="16033" y="7"/>
                      <a:pt x="16033" y="6"/>
                    </a:cubicBezTo>
                    <a:cubicBezTo>
                      <a:pt x="16033" y="5"/>
                      <a:pt x="16034" y="4"/>
                      <a:pt x="16035" y="4"/>
                    </a:cubicBezTo>
                    <a:close/>
                    <a:moveTo>
                      <a:pt x="16043" y="4"/>
                    </a:moveTo>
                    <a:lnTo>
                      <a:pt x="16043" y="4"/>
                    </a:lnTo>
                    <a:cubicBezTo>
                      <a:pt x="16044" y="4"/>
                      <a:pt x="16045" y="5"/>
                      <a:pt x="16045" y="6"/>
                    </a:cubicBezTo>
                    <a:cubicBezTo>
                      <a:pt x="16045" y="7"/>
                      <a:pt x="16044" y="8"/>
                      <a:pt x="16043" y="8"/>
                    </a:cubicBezTo>
                    <a:lnTo>
                      <a:pt x="16043" y="8"/>
                    </a:lnTo>
                    <a:cubicBezTo>
                      <a:pt x="16042" y="8"/>
                      <a:pt x="16041" y="7"/>
                      <a:pt x="16041" y="6"/>
                    </a:cubicBezTo>
                    <a:cubicBezTo>
                      <a:pt x="16041" y="5"/>
                      <a:pt x="16042" y="4"/>
                      <a:pt x="16043" y="4"/>
                    </a:cubicBezTo>
                    <a:close/>
                    <a:moveTo>
                      <a:pt x="16051" y="4"/>
                    </a:moveTo>
                    <a:lnTo>
                      <a:pt x="16051" y="4"/>
                    </a:lnTo>
                    <a:cubicBezTo>
                      <a:pt x="16052" y="4"/>
                      <a:pt x="16053" y="5"/>
                      <a:pt x="16053" y="6"/>
                    </a:cubicBezTo>
                    <a:cubicBezTo>
                      <a:pt x="16053" y="7"/>
                      <a:pt x="16052" y="8"/>
                      <a:pt x="16051" y="8"/>
                    </a:cubicBezTo>
                    <a:lnTo>
                      <a:pt x="16051" y="8"/>
                    </a:lnTo>
                    <a:cubicBezTo>
                      <a:pt x="16050" y="8"/>
                      <a:pt x="16049" y="7"/>
                      <a:pt x="16049" y="6"/>
                    </a:cubicBezTo>
                    <a:cubicBezTo>
                      <a:pt x="16049" y="5"/>
                      <a:pt x="16050" y="4"/>
                      <a:pt x="16051" y="4"/>
                    </a:cubicBezTo>
                    <a:close/>
                    <a:moveTo>
                      <a:pt x="16059" y="4"/>
                    </a:moveTo>
                    <a:lnTo>
                      <a:pt x="16059" y="4"/>
                    </a:lnTo>
                    <a:cubicBezTo>
                      <a:pt x="16060" y="4"/>
                      <a:pt x="16061" y="5"/>
                      <a:pt x="16061" y="6"/>
                    </a:cubicBezTo>
                    <a:cubicBezTo>
                      <a:pt x="16061" y="7"/>
                      <a:pt x="16060" y="8"/>
                      <a:pt x="16059" y="8"/>
                    </a:cubicBezTo>
                    <a:lnTo>
                      <a:pt x="16059" y="8"/>
                    </a:lnTo>
                    <a:cubicBezTo>
                      <a:pt x="16058" y="8"/>
                      <a:pt x="16057" y="7"/>
                      <a:pt x="16057" y="6"/>
                    </a:cubicBezTo>
                    <a:cubicBezTo>
                      <a:pt x="16057" y="5"/>
                      <a:pt x="16058" y="4"/>
                      <a:pt x="16059" y="4"/>
                    </a:cubicBezTo>
                    <a:close/>
                    <a:moveTo>
                      <a:pt x="16067" y="4"/>
                    </a:moveTo>
                    <a:lnTo>
                      <a:pt x="16067" y="4"/>
                    </a:lnTo>
                    <a:cubicBezTo>
                      <a:pt x="16068" y="4"/>
                      <a:pt x="16069" y="5"/>
                      <a:pt x="16069" y="6"/>
                    </a:cubicBezTo>
                    <a:cubicBezTo>
                      <a:pt x="16069" y="7"/>
                      <a:pt x="16068" y="8"/>
                      <a:pt x="16067" y="8"/>
                    </a:cubicBezTo>
                    <a:lnTo>
                      <a:pt x="16067" y="8"/>
                    </a:lnTo>
                    <a:cubicBezTo>
                      <a:pt x="16066" y="8"/>
                      <a:pt x="16065" y="7"/>
                      <a:pt x="16065" y="6"/>
                    </a:cubicBezTo>
                    <a:cubicBezTo>
                      <a:pt x="16065" y="5"/>
                      <a:pt x="16066" y="4"/>
                      <a:pt x="16067" y="4"/>
                    </a:cubicBezTo>
                    <a:close/>
                    <a:moveTo>
                      <a:pt x="16075" y="4"/>
                    </a:moveTo>
                    <a:lnTo>
                      <a:pt x="16075" y="4"/>
                    </a:lnTo>
                    <a:cubicBezTo>
                      <a:pt x="16076" y="4"/>
                      <a:pt x="16077" y="5"/>
                      <a:pt x="16077" y="6"/>
                    </a:cubicBezTo>
                    <a:cubicBezTo>
                      <a:pt x="16077" y="7"/>
                      <a:pt x="16076" y="8"/>
                      <a:pt x="16075" y="8"/>
                    </a:cubicBezTo>
                    <a:lnTo>
                      <a:pt x="16075" y="8"/>
                    </a:lnTo>
                    <a:cubicBezTo>
                      <a:pt x="16074" y="8"/>
                      <a:pt x="16073" y="7"/>
                      <a:pt x="16073" y="6"/>
                    </a:cubicBezTo>
                    <a:cubicBezTo>
                      <a:pt x="16073" y="5"/>
                      <a:pt x="16074" y="4"/>
                      <a:pt x="16075" y="4"/>
                    </a:cubicBezTo>
                    <a:close/>
                    <a:moveTo>
                      <a:pt x="16083" y="4"/>
                    </a:moveTo>
                    <a:lnTo>
                      <a:pt x="16083" y="4"/>
                    </a:lnTo>
                    <a:cubicBezTo>
                      <a:pt x="16084" y="4"/>
                      <a:pt x="16085" y="5"/>
                      <a:pt x="16085" y="6"/>
                    </a:cubicBezTo>
                    <a:cubicBezTo>
                      <a:pt x="16085" y="7"/>
                      <a:pt x="16084" y="8"/>
                      <a:pt x="16083" y="8"/>
                    </a:cubicBezTo>
                    <a:lnTo>
                      <a:pt x="16083" y="8"/>
                    </a:lnTo>
                    <a:cubicBezTo>
                      <a:pt x="16082" y="8"/>
                      <a:pt x="16081" y="7"/>
                      <a:pt x="16081" y="6"/>
                    </a:cubicBezTo>
                    <a:cubicBezTo>
                      <a:pt x="16081" y="5"/>
                      <a:pt x="16082" y="4"/>
                      <a:pt x="16083" y="4"/>
                    </a:cubicBezTo>
                    <a:close/>
                    <a:moveTo>
                      <a:pt x="16091" y="4"/>
                    </a:moveTo>
                    <a:lnTo>
                      <a:pt x="16091" y="4"/>
                    </a:lnTo>
                    <a:cubicBezTo>
                      <a:pt x="16092" y="4"/>
                      <a:pt x="16093" y="5"/>
                      <a:pt x="16093" y="6"/>
                    </a:cubicBezTo>
                    <a:cubicBezTo>
                      <a:pt x="16093" y="7"/>
                      <a:pt x="16092" y="8"/>
                      <a:pt x="16091" y="8"/>
                    </a:cubicBezTo>
                    <a:lnTo>
                      <a:pt x="16091" y="8"/>
                    </a:lnTo>
                    <a:cubicBezTo>
                      <a:pt x="16090" y="8"/>
                      <a:pt x="16089" y="7"/>
                      <a:pt x="16089" y="6"/>
                    </a:cubicBezTo>
                    <a:cubicBezTo>
                      <a:pt x="16089" y="5"/>
                      <a:pt x="16090" y="4"/>
                      <a:pt x="16091" y="4"/>
                    </a:cubicBezTo>
                    <a:close/>
                    <a:moveTo>
                      <a:pt x="16099" y="4"/>
                    </a:moveTo>
                    <a:lnTo>
                      <a:pt x="16099" y="4"/>
                    </a:lnTo>
                    <a:cubicBezTo>
                      <a:pt x="16100" y="4"/>
                      <a:pt x="16101" y="5"/>
                      <a:pt x="16101" y="6"/>
                    </a:cubicBezTo>
                    <a:cubicBezTo>
                      <a:pt x="16101" y="7"/>
                      <a:pt x="16100" y="8"/>
                      <a:pt x="16099" y="8"/>
                    </a:cubicBezTo>
                    <a:lnTo>
                      <a:pt x="16099" y="8"/>
                    </a:lnTo>
                    <a:cubicBezTo>
                      <a:pt x="16098" y="8"/>
                      <a:pt x="16097" y="7"/>
                      <a:pt x="16097" y="6"/>
                    </a:cubicBezTo>
                    <a:cubicBezTo>
                      <a:pt x="16097" y="5"/>
                      <a:pt x="16098" y="4"/>
                      <a:pt x="16099" y="4"/>
                    </a:cubicBezTo>
                    <a:close/>
                    <a:moveTo>
                      <a:pt x="16107" y="4"/>
                    </a:moveTo>
                    <a:lnTo>
                      <a:pt x="16107" y="4"/>
                    </a:lnTo>
                    <a:cubicBezTo>
                      <a:pt x="16108" y="4"/>
                      <a:pt x="16109" y="5"/>
                      <a:pt x="16109" y="6"/>
                    </a:cubicBezTo>
                    <a:cubicBezTo>
                      <a:pt x="16109" y="7"/>
                      <a:pt x="16108" y="8"/>
                      <a:pt x="16107" y="8"/>
                    </a:cubicBezTo>
                    <a:lnTo>
                      <a:pt x="16107" y="8"/>
                    </a:lnTo>
                    <a:cubicBezTo>
                      <a:pt x="16106" y="8"/>
                      <a:pt x="16105" y="7"/>
                      <a:pt x="16105" y="6"/>
                    </a:cubicBezTo>
                    <a:cubicBezTo>
                      <a:pt x="16105" y="5"/>
                      <a:pt x="16106" y="4"/>
                      <a:pt x="16107" y="4"/>
                    </a:cubicBezTo>
                    <a:close/>
                    <a:moveTo>
                      <a:pt x="16115" y="4"/>
                    </a:moveTo>
                    <a:lnTo>
                      <a:pt x="16115" y="4"/>
                    </a:lnTo>
                    <a:cubicBezTo>
                      <a:pt x="16116" y="4"/>
                      <a:pt x="16117" y="5"/>
                      <a:pt x="16117" y="6"/>
                    </a:cubicBezTo>
                    <a:cubicBezTo>
                      <a:pt x="16117" y="7"/>
                      <a:pt x="16116" y="8"/>
                      <a:pt x="16115" y="8"/>
                    </a:cubicBezTo>
                    <a:lnTo>
                      <a:pt x="16115" y="8"/>
                    </a:lnTo>
                    <a:cubicBezTo>
                      <a:pt x="16114" y="8"/>
                      <a:pt x="16113" y="7"/>
                      <a:pt x="16113" y="6"/>
                    </a:cubicBezTo>
                    <a:cubicBezTo>
                      <a:pt x="16113" y="5"/>
                      <a:pt x="16114" y="4"/>
                      <a:pt x="16115" y="4"/>
                    </a:cubicBezTo>
                    <a:close/>
                    <a:moveTo>
                      <a:pt x="16123" y="4"/>
                    </a:moveTo>
                    <a:lnTo>
                      <a:pt x="16123" y="4"/>
                    </a:lnTo>
                    <a:cubicBezTo>
                      <a:pt x="16124" y="4"/>
                      <a:pt x="16125" y="5"/>
                      <a:pt x="16125" y="6"/>
                    </a:cubicBezTo>
                    <a:cubicBezTo>
                      <a:pt x="16125" y="7"/>
                      <a:pt x="16124" y="8"/>
                      <a:pt x="16123" y="8"/>
                    </a:cubicBezTo>
                    <a:lnTo>
                      <a:pt x="16123" y="8"/>
                    </a:lnTo>
                    <a:cubicBezTo>
                      <a:pt x="16122" y="8"/>
                      <a:pt x="16121" y="7"/>
                      <a:pt x="16121" y="6"/>
                    </a:cubicBezTo>
                    <a:cubicBezTo>
                      <a:pt x="16121" y="5"/>
                      <a:pt x="16122" y="4"/>
                      <a:pt x="16123" y="4"/>
                    </a:cubicBezTo>
                    <a:close/>
                    <a:moveTo>
                      <a:pt x="16131" y="4"/>
                    </a:moveTo>
                    <a:lnTo>
                      <a:pt x="16131" y="4"/>
                    </a:lnTo>
                    <a:cubicBezTo>
                      <a:pt x="16132" y="4"/>
                      <a:pt x="16133" y="5"/>
                      <a:pt x="16133" y="6"/>
                    </a:cubicBezTo>
                    <a:cubicBezTo>
                      <a:pt x="16133" y="7"/>
                      <a:pt x="16132" y="8"/>
                      <a:pt x="16131" y="8"/>
                    </a:cubicBezTo>
                    <a:lnTo>
                      <a:pt x="16131" y="8"/>
                    </a:lnTo>
                    <a:cubicBezTo>
                      <a:pt x="16130" y="8"/>
                      <a:pt x="16129" y="7"/>
                      <a:pt x="16129" y="6"/>
                    </a:cubicBezTo>
                    <a:cubicBezTo>
                      <a:pt x="16129" y="5"/>
                      <a:pt x="16130" y="4"/>
                      <a:pt x="16131" y="4"/>
                    </a:cubicBezTo>
                    <a:close/>
                    <a:moveTo>
                      <a:pt x="16139" y="4"/>
                    </a:moveTo>
                    <a:lnTo>
                      <a:pt x="16139" y="4"/>
                    </a:lnTo>
                    <a:cubicBezTo>
                      <a:pt x="16140" y="4"/>
                      <a:pt x="16141" y="5"/>
                      <a:pt x="16141" y="6"/>
                    </a:cubicBezTo>
                    <a:cubicBezTo>
                      <a:pt x="16141" y="7"/>
                      <a:pt x="16140" y="8"/>
                      <a:pt x="16139" y="8"/>
                    </a:cubicBezTo>
                    <a:lnTo>
                      <a:pt x="16139" y="8"/>
                    </a:lnTo>
                    <a:cubicBezTo>
                      <a:pt x="16138" y="8"/>
                      <a:pt x="16137" y="7"/>
                      <a:pt x="16137" y="6"/>
                    </a:cubicBezTo>
                    <a:cubicBezTo>
                      <a:pt x="16137" y="5"/>
                      <a:pt x="16138" y="4"/>
                      <a:pt x="16139" y="4"/>
                    </a:cubicBezTo>
                    <a:close/>
                    <a:moveTo>
                      <a:pt x="16147" y="4"/>
                    </a:moveTo>
                    <a:lnTo>
                      <a:pt x="16147" y="4"/>
                    </a:lnTo>
                    <a:cubicBezTo>
                      <a:pt x="16148" y="4"/>
                      <a:pt x="16149" y="5"/>
                      <a:pt x="16149" y="6"/>
                    </a:cubicBezTo>
                    <a:cubicBezTo>
                      <a:pt x="16149" y="7"/>
                      <a:pt x="16148" y="8"/>
                      <a:pt x="16147" y="8"/>
                    </a:cubicBezTo>
                    <a:lnTo>
                      <a:pt x="16147" y="8"/>
                    </a:lnTo>
                    <a:cubicBezTo>
                      <a:pt x="16146" y="8"/>
                      <a:pt x="16145" y="7"/>
                      <a:pt x="16145" y="6"/>
                    </a:cubicBezTo>
                    <a:cubicBezTo>
                      <a:pt x="16145" y="5"/>
                      <a:pt x="16146" y="4"/>
                      <a:pt x="16147" y="4"/>
                    </a:cubicBezTo>
                    <a:close/>
                    <a:moveTo>
                      <a:pt x="16155" y="4"/>
                    </a:moveTo>
                    <a:lnTo>
                      <a:pt x="16155" y="4"/>
                    </a:lnTo>
                    <a:cubicBezTo>
                      <a:pt x="16156" y="4"/>
                      <a:pt x="16157" y="5"/>
                      <a:pt x="16157" y="6"/>
                    </a:cubicBezTo>
                    <a:cubicBezTo>
                      <a:pt x="16157" y="7"/>
                      <a:pt x="16156" y="8"/>
                      <a:pt x="16155" y="8"/>
                    </a:cubicBezTo>
                    <a:lnTo>
                      <a:pt x="16155" y="8"/>
                    </a:lnTo>
                    <a:cubicBezTo>
                      <a:pt x="16154" y="8"/>
                      <a:pt x="16153" y="7"/>
                      <a:pt x="16153" y="6"/>
                    </a:cubicBezTo>
                    <a:cubicBezTo>
                      <a:pt x="16153" y="5"/>
                      <a:pt x="16154" y="4"/>
                      <a:pt x="16155" y="4"/>
                    </a:cubicBezTo>
                    <a:close/>
                    <a:moveTo>
                      <a:pt x="16163" y="4"/>
                    </a:moveTo>
                    <a:lnTo>
                      <a:pt x="16163" y="4"/>
                    </a:lnTo>
                    <a:cubicBezTo>
                      <a:pt x="16164" y="4"/>
                      <a:pt x="16165" y="5"/>
                      <a:pt x="16165" y="6"/>
                    </a:cubicBezTo>
                    <a:cubicBezTo>
                      <a:pt x="16165" y="7"/>
                      <a:pt x="16164" y="8"/>
                      <a:pt x="16163" y="8"/>
                    </a:cubicBezTo>
                    <a:lnTo>
                      <a:pt x="16163" y="8"/>
                    </a:lnTo>
                    <a:cubicBezTo>
                      <a:pt x="16162" y="8"/>
                      <a:pt x="16161" y="7"/>
                      <a:pt x="16161" y="6"/>
                    </a:cubicBezTo>
                    <a:cubicBezTo>
                      <a:pt x="16161" y="5"/>
                      <a:pt x="16162" y="4"/>
                      <a:pt x="16163" y="4"/>
                    </a:cubicBezTo>
                    <a:close/>
                    <a:moveTo>
                      <a:pt x="16171" y="4"/>
                    </a:moveTo>
                    <a:lnTo>
                      <a:pt x="16171" y="4"/>
                    </a:lnTo>
                    <a:cubicBezTo>
                      <a:pt x="16172" y="4"/>
                      <a:pt x="16173" y="5"/>
                      <a:pt x="16173" y="6"/>
                    </a:cubicBezTo>
                    <a:cubicBezTo>
                      <a:pt x="16173" y="7"/>
                      <a:pt x="16172" y="8"/>
                      <a:pt x="16171" y="8"/>
                    </a:cubicBezTo>
                    <a:lnTo>
                      <a:pt x="16171" y="8"/>
                    </a:lnTo>
                    <a:cubicBezTo>
                      <a:pt x="16170" y="8"/>
                      <a:pt x="16169" y="7"/>
                      <a:pt x="16169" y="6"/>
                    </a:cubicBezTo>
                    <a:cubicBezTo>
                      <a:pt x="16169" y="5"/>
                      <a:pt x="16170" y="4"/>
                      <a:pt x="16171" y="4"/>
                    </a:cubicBezTo>
                    <a:close/>
                    <a:moveTo>
                      <a:pt x="16179" y="4"/>
                    </a:moveTo>
                    <a:lnTo>
                      <a:pt x="16179" y="4"/>
                    </a:lnTo>
                    <a:cubicBezTo>
                      <a:pt x="16180" y="4"/>
                      <a:pt x="16181" y="5"/>
                      <a:pt x="16181" y="6"/>
                    </a:cubicBezTo>
                    <a:cubicBezTo>
                      <a:pt x="16181" y="7"/>
                      <a:pt x="16180" y="8"/>
                      <a:pt x="16179" y="8"/>
                    </a:cubicBezTo>
                    <a:lnTo>
                      <a:pt x="16179" y="8"/>
                    </a:lnTo>
                    <a:cubicBezTo>
                      <a:pt x="16178" y="8"/>
                      <a:pt x="16177" y="7"/>
                      <a:pt x="16177" y="6"/>
                    </a:cubicBezTo>
                    <a:cubicBezTo>
                      <a:pt x="16177" y="5"/>
                      <a:pt x="16178" y="4"/>
                      <a:pt x="16179" y="4"/>
                    </a:cubicBezTo>
                    <a:close/>
                    <a:moveTo>
                      <a:pt x="16187" y="4"/>
                    </a:moveTo>
                    <a:lnTo>
                      <a:pt x="16187" y="4"/>
                    </a:lnTo>
                    <a:cubicBezTo>
                      <a:pt x="16188" y="4"/>
                      <a:pt x="16189" y="5"/>
                      <a:pt x="16189" y="6"/>
                    </a:cubicBezTo>
                    <a:cubicBezTo>
                      <a:pt x="16189" y="7"/>
                      <a:pt x="16188" y="8"/>
                      <a:pt x="16187" y="8"/>
                    </a:cubicBezTo>
                    <a:lnTo>
                      <a:pt x="16187" y="8"/>
                    </a:lnTo>
                    <a:cubicBezTo>
                      <a:pt x="16186" y="8"/>
                      <a:pt x="16185" y="7"/>
                      <a:pt x="16185" y="6"/>
                    </a:cubicBezTo>
                    <a:cubicBezTo>
                      <a:pt x="16185" y="5"/>
                      <a:pt x="16186" y="4"/>
                      <a:pt x="16187" y="4"/>
                    </a:cubicBezTo>
                    <a:close/>
                    <a:moveTo>
                      <a:pt x="16195" y="4"/>
                    </a:moveTo>
                    <a:lnTo>
                      <a:pt x="16195" y="4"/>
                    </a:lnTo>
                    <a:cubicBezTo>
                      <a:pt x="16196" y="4"/>
                      <a:pt x="16197" y="5"/>
                      <a:pt x="16197" y="6"/>
                    </a:cubicBezTo>
                    <a:cubicBezTo>
                      <a:pt x="16197" y="7"/>
                      <a:pt x="16196" y="8"/>
                      <a:pt x="16195" y="8"/>
                    </a:cubicBezTo>
                    <a:lnTo>
                      <a:pt x="16195" y="8"/>
                    </a:lnTo>
                    <a:cubicBezTo>
                      <a:pt x="16194" y="8"/>
                      <a:pt x="16193" y="7"/>
                      <a:pt x="16193" y="6"/>
                    </a:cubicBezTo>
                    <a:cubicBezTo>
                      <a:pt x="16193" y="5"/>
                      <a:pt x="16194" y="4"/>
                      <a:pt x="16195" y="4"/>
                    </a:cubicBezTo>
                    <a:close/>
                    <a:moveTo>
                      <a:pt x="16203" y="4"/>
                    </a:moveTo>
                    <a:lnTo>
                      <a:pt x="16203" y="4"/>
                    </a:lnTo>
                    <a:cubicBezTo>
                      <a:pt x="16204" y="4"/>
                      <a:pt x="16205" y="5"/>
                      <a:pt x="16205" y="6"/>
                    </a:cubicBezTo>
                    <a:cubicBezTo>
                      <a:pt x="16205" y="7"/>
                      <a:pt x="16204" y="8"/>
                      <a:pt x="16203" y="8"/>
                    </a:cubicBezTo>
                    <a:lnTo>
                      <a:pt x="16203" y="8"/>
                    </a:lnTo>
                    <a:cubicBezTo>
                      <a:pt x="16202" y="8"/>
                      <a:pt x="16201" y="7"/>
                      <a:pt x="16201" y="6"/>
                    </a:cubicBezTo>
                    <a:cubicBezTo>
                      <a:pt x="16201" y="5"/>
                      <a:pt x="16202" y="4"/>
                      <a:pt x="16203" y="4"/>
                    </a:cubicBezTo>
                    <a:close/>
                    <a:moveTo>
                      <a:pt x="16211" y="4"/>
                    </a:moveTo>
                    <a:lnTo>
                      <a:pt x="16211" y="4"/>
                    </a:lnTo>
                    <a:cubicBezTo>
                      <a:pt x="16212" y="4"/>
                      <a:pt x="16213" y="5"/>
                      <a:pt x="16213" y="6"/>
                    </a:cubicBezTo>
                    <a:cubicBezTo>
                      <a:pt x="16213" y="7"/>
                      <a:pt x="16212" y="8"/>
                      <a:pt x="16211" y="8"/>
                    </a:cubicBezTo>
                    <a:lnTo>
                      <a:pt x="16211" y="8"/>
                    </a:lnTo>
                    <a:cubicBezTo>
                      <a:pt x="16210" y="8"/>
                      <a:pt x="16209" y="7"/>
                      <a:pt x="16209" y="6"/>
                    </a:cubicBezTo>
                    <a:cubicBezTo>
                      <a:pt x="16209" y="5"/>
                      <a:pt x="16210" y="4"/>
                      <a:pt x="16211" y="4"/>
                    </a:cubicBezTo>
                    <a:close/>
                    <a:moveTo>
                      <a:pt x="16219" y="4"/>
                    </a:moveTo>
                    <a:lnTo>
                      <a:pt x="16219" y="4"/>
                    </a:lnTo>
                    <a:cubicBezTo>
                      <a:pt x="16220" y="4"/>
                      <a:pt x="16221" y="5"/>
                      <a:pt x="16221" y="6"/>
                    </a:cubicBezTo>
                    <a:cubicBezTo>
                      <a:pt x="16221" y="7"/>
                      <a:pt x="16220" y="8"/>
                      <a:pt x="16219" y="8"/>
                    </a:cubicBezTo>
                    <a:lnTo>
                      <a:pt x="16219" y="8"/>
                    </a:lnTo>
                    <a:cubicBezTo>
                      <a:pt x="16218" y="8"/>
                      <a:pt x="16217" y="7"/>
                      <a:pt x="16217" y="6"/>
                    </a:cubicBezTo>
                    <a:cubicBezTo>
                      <a:pt x="16217" y="5"/>
                      <a:pt x="16218" y="4"/>
                      <a:pt x="16219" y="4"/>
                    </a:cubicBezTo>
                    <a:close/>
                    <a:moveTo>
                      <a:pt x="16227" y="4"/>
                    </a:moveTo>
                    <a:lnTo>
                      <a:pt x="16227" y="4"/>
                    </a:lnTo>
                    <a:cubicBezTo>
                      <a:pt x="16228" y="4"/>
                      <a:pt x="16229" y="5"/>
                      <a:pt x="16229" y="6"/>
                    </a:cubicBezTo>
                    <a:cubicBezTo>
                      <a:pt x="16229" y="7"/>
                      <a:pt x="16228" y="8"/>
                      <a:pt x="16227" y="8"/>
                    </a:cubicBezTo>
                    <a:lnTo>
                      <a:pt x="16227" y="8"/>
                    </a:lnTo>
                    <a:cubicBezTo>
                      <a:pt x="16226" y="8"/>
                      <a:pt x="16225" y="7"/>
                      <a:pt x="16225" y="6"/>
                    </a:cubicBezTo>
                    <a:cubicBezTo>
                      <a:pt x="16225" y="5"/>
                      <a:pt x="16226" y="4"/>
                      <a:pt x="16227" y="4"/>
                    </a:cubicBezTo>
                    <a:close/>
                    <a:moveTo>
                      <a:pt x="16235" y="4"/>
                    </a:moveTo>
                    <a:lnTo>
                      <a:pt x="16235" y="4"/>
                    </a:lnTo>
                    <a:cubicBezTo>
                      <a:pt x="16236" y="4"/>
                      <a:pt x="16237" y="5"/>
                      <a:pt x="16237" y="6"/>
                    </a:cubicBezTo>
                    <a:cubicBezTo>
                      <a:pt x="16237" y="7"/>
                      <a:pt x="16236" y="8"/>
                      <a:pt x="16235" y="8"/>
                    </a:cubicBezTo>
                    <a:lnTo>
                      <a:pt x="16235" y="8"/>
                    </a:lnTo>
                    <a:cubicBezTo>
                      <a:pt x="16234" y="8"/>
                      <a:pt x="16233" y="7"/>
                      <a:pt x="16233" y="6"/>
                    </a:cubicBezTo>
                    <a:cubicBezTo>
                      <a:pt x="16233" y="5"/>
                      <a:pt x="16234" y="4"/>
                      <a:pt x="16235" y="4"/>
                    </a:cubicBezTo>
                    <a:close/>
                    <a:moveTo>
                      <a:pt x="16243" y="4"/>
                    </a:moveTo>
                    <a:lnTo>
                      <a:pt x="16243" y="4"/>
                    </a:lnTo>
                    <a:cubicBezTo>
                      <a:pt x="16244" y="4"/>
                      <a:pt x="16245" y="5"/>
                      <a:pt x="16245" y="6"/>
                    </a:cubicBezTo>
                    <a:cubicBezTo>
                      <a:pt x="16245" y="7"/>
                      <a:pt x="16244" y="8"/>
                      <a:pt x="16243" y="8"/>
                    </a:cubicBezTo>
                    <a:lnTo>
                      <a:pt x="16243" y="8"/>
                    </a:lnTo>
                    <a:cubicBezTo>
                      <a:pt x="16242" y="8"/>
                      <a:pt x="16241" y="7"/>
                      <a:pt x="16241" y="6"/>
                    </a:cubicBezTo>
                    <a:cubicBezTo>
                      <a:pt x="16241" y="5"/>
                      <a:pt x="16242" y="4"/>
                      <a:pt x="16243" y="4"/>
                    </a:cubicBezTo>
                    <a:close/>
                    <a:moveTo>
                      <a:pt x="16251" y="4"/>
                    </a:moveTo>
                    <a:lnTo>
                      <a:pt x="16251" y="4"/>
                    </a:lnTo>
                    <a:cubicBezTo>
                      <a:pt x="16252" y="4"/>
                      <a:pt x="16253" y="5"/>
                      <a:pt x="16253" y="6"/>
                    </a:cubicBezTo>
                    <a:cubicBezTo>
                      <a:pt x="16253" y="7"/>
                      <a:pt x="16252" y="8"/>
                      <a:pt x="16251" y="8"/>
                    </a:cubicBezTo>
                    <a:lnTo>
                      <a:pt x="16251" y="8"/>
                    </a:lnTo>
                    <a:cubicBezTo>
                      <a:pt x="16250" y="8"/>
                      <a:pt x="16249" y="7"/>
                      <a:pt x="16249" y="6"/>
                    </a:cubicBezTo>
                    <a:cubicBezTo>
                      <a:pt x="16249" y="5"/>
                      <a:pt x="16250" y="4"/>
                      <a:pt x="16251" y="4"/>
                    </a:cubicBezTo>
                    <a:close/>
                    <a:moveTo>
                      <a:pt x="16259" y="4"/>
                    </a:moveTo>
                    <a:lnTo>
                      <a:pt x="16259" y="4"/>
                    </a:lnTo>
                    <a:cubicBezTo>
                      <a:pt x="16260" y="4"/>
                      <a:pt x="16261" y="5"/>
                      <a:pt x="16261" y="6"/>
                    </a:cubicBezTo>
                    <a:cubicBezTo>
                      <a:pt x="16261" y="7"/>
                      <a:pt x="16260" y="8"/>
                      <a:pt x="16259" y="8"/>
                    </a:cubicBezTo>
                    <a:lnTo>
                      <a:pt x="16259" y="8"/>
                    </a:lnTo>
                    <a:cubicBezTo>
                      <a:pt x="16258" y="8"/>
                      <a:pt x="16257" y="7"/>
                      <a:pt x="16257" y="6"/>
                    </a:cubicBezTo>
                    <a:cubicBezTo>
                      <a:pt x="16257" y="5"/>
                      <a:pt x="16258" y="4"/>
                      <a:pt x="16259" y="4"/>
                    </a:cubicBezTo>
                    <a:close/>
                    <a:moveTo>
                      <a:pt x="16267" y="4"/>
                    </a:moveTo>
                    <a:lnTo>
                      <a:pt x="16267" y="4"/>
                    </a:lnTo>
                    <a:cubicBezTo>
                      <a:pt x="16268" y="4"/>
                      <a:pt x="16269" y="5"/>
                      <a:pt x="16269" y="6"/>
                    </a:cubicBezTo>
                    <a:cubicBezTo>
                      <a:pt x="16269" y="7"/>
                      <a:pt x="16268" y="8"/>
                      <a:pt x="16267" y="8"/>
                    </a:cubicBezTo>
                    <a:lnTo>
                      <a:pt x="16267" y="8"/>
                    </a:lnTo>
                    <a:cubicBezTo>
                      <a:pt x="16266" y="8"/>
                      <a:pt x="16265" y="7"/>
                      <a:pt x="16265" y="6"/>
                    </a:cubicBezTo>
                    <a:cubicBezTo>
                      <a:pt x="16265" y="5"/>
                      <a:pt x="16266" y="4"/>
                      <a:pt x="16267" y="4"/>
                    </a:cubicBezTo>
                    <a:close/>
                    <a:moveTo>
                      <a:pt x="16275" y="4"/>
                    </a:moveTo>
                    <a:lnTo>
                      <a:pt x="16275" y="4"/>
                    </a:lnTo>
                    <a:cubicBezTo>
                      <a:pt x="16276" y="4"/>
                      <a:pt x="16277" y="5"/>
                      <a:pt x="16277" y="6"/>
                    </a:cubicBezTo>
                    <a:cubicBezTo>
                      <a:pt x="16277" y="7"/>
                      <a:pt x="16276" y="8"/>
                      <a:pt x="16275" y="8"/>
                    </a:cubicBezTo>
                    <a:lnTo>
                      <a:pt x="16275" y="8"/>
                    </a:lnTo>
                    <a:cubicBezTo>
                      <a:pt x="16274" y="8"/>
                      <a:pt x="16273" y="7"/>
                      <a:pt x="16273" y="6"/>
                    </a:cubicBezTo>
                    <a:cubicBezTo>
                      <a:pt x="16273" y="5"/>
                      <a:pt x="16274" y="4"/>
                      <a:pt x="16275" y="4"/>
                    </a:cubicBezTo>
                    <a:close/>
                    <a:moveTo>
                      <a:pt x="16283" y="4"/>
                    </a:moveTo>
                    <a:lnTo>
                      <a:pt x="16283" y="4"/>
                    </a:lnTo>
                    <a:cubicBezTo>
                      <a:pt x="16284" y="4"/>
                      <a:pt x="16285" y="5"/>
                      <a:pt x="16285" y="6"/>
                    </a:cubicBezTo>
                    <a:cubicBezTo>
                      <a:pt x="16285" y="7"/>
                      <a:pt x="16284" y="8"/>
                      <a:pt x="16283" y="8"/>
                    </a:cubicBezTo>
                    <a:lnTo>
                      <a:pt x="16283" y="8"/>
                    </a:lnTo>
                    <a:cubicBezTo>
                      <a:pt x="16282" y="8"/>
                      <a:pt x="16281" y="7"/>
                      <a:pt x="16281" y="6"/>
                    </a:cubicBezTo>
                    <a:cubicBezTo>
                      <a:pt x="16281" y="5"/>
                      <a:pt x="16282" y="4"/>
                      <a:pt x="16283" y="4"/>
                    </a:cubicBezTo>
                    <a:close/>
                    <a:moveTo>
                      <a:pt x="16291" y="4"/>
                    </a:moveTo>
                    <a:lnTo>
                      <a:pt x="16291" y="4"/>
                    </a:lnTo>
                    <a:cubicBezTo>
                      <a:pt x="16292" y="4"/>
                      <a:pt x="16293" y="5"/>
                      <a:pt x="16293" y="6"/>
                    </a:cubicBezTo>
                    <a:cubicBezTo>
                      <a:pt x="16293" y="7"/>
                      <a:pt x="16292" y="8"/>
                      <a:pt x="16291" y="8"/>
                    </a:cubicBezTo>
                    <a:lnTo>
                      <a:pt x="16291" y="8"/>
                    </a:lnTo>
                    <a:cubicBezTo>
                      <a:pt x="16290" y="8"/>
                      <a:pt x="16289" y="7"/>
                      <a:pt x="16289" y="6"/>
                    </a:cubicBezTo>
                    <a:cubicBezTo>
                      <a:pt x="16289" y="5"/>
                      <a:pt x="16290" y="4"/>
                      <a:pt x="16291" y="4"/>
                    </a:cubicBezTo>
                    <a:close/>
                    <a:moveTo>
                      <a:pt x="16299" y="4"/>
                    </a:moveTo>
                    <a:lnTo>
                      <a:pt x="16299" y="4"/>
                    </a:lnTo>
                    <a:cubicBezTo>
                      <a:pt x="16300" y="4"/>
                      <a:pt x="16301" y="5"/>
                      <a:pt x="16301" y="6"/>
                    </a:cubicBezTo>
                    <a:cubicBezTo>
                      <a:pt x="16301" y="7"/>
                      <a:pt x="16300" y="8"/>
                      <a:pt x="16299" y="8"/>
                    </a:cubicBezTo>
                    <a:lnTo>
                      <a:pt x="16299" y="8"/>
                    </a:lnTo>
                    <a:cubicBezTo>
                      <a:pt x="16298" y="8"/>
                      <a:pt x="16297" y="7"/>
                      <a:pt x="16297" y="6"/>
                    </a:cubicBezTo>
                    <a:cubicBezTo>
                      <a:pt x="16297" y="5"/>
                      <a:pt x="16298" y="4"/>
                      <a:pt x="16299" y="4"/>
                    </a:cubicBezTo>
                    <a:close/>
                    <a:moveTo>
                      <a:pt x="16307" y="4"/>
                    </a:moveTo>
                    <a:lnTo>
                      <a:pt x="16307" y="4"/>
                    </a:lnTo>
                    <a:cubicBezTo>
                      <a:pt x="16308" y="4"/>
                      <a:pt x="16309" y="5"/>
                      <a:pt x="16309" y="6"/>
                    </a:cubicBezTo>
                    <a:cubicBezTo>
                      <a:pt x="16309" y="7"/>
                      <a:pt x="16308" y="8"/>
                      <a:pt x="16307" y="8"/>
                    </a:cubicBezTo>
                    <a:lnTo>
                      <a:pt x="16307" y="8"/>
                    </a:lnTo>
                    <a:cubicBezTo>
                      <a:pt x="16306" y="8"/>
                      <a:pt x="16305" y="7"/>
                      <a:pt x="16305" y="6"/>
                    </a:cubicBezTo>
                    <a:cubicBezTo>
                      <a:pt x="16305" y="5"/>
                      <a:pt x="16306" y="4"/>
                      <a:pt x="16307" y="4"/>
                    </a:cubicBezTo>
                    <a:close/>
                    <a:moveTo>
                      <a:pt x="16315" y="4"/>
                    </a:moveTo>
                    <a:lnTo>
                      <a:pt x="16315" y="4"/>
                    </a:lnTo>
                    <a:cubicBezTo>
                      <a:pt x="16316" y="4"/>
                      <a:pt x="16317" y="5"/>
                      <a:pt x="16317" y="6"/>
                    </a:cubicBezTo>
                    <a:cubicBezTo>
                      <a:pt x="16317" y="7"/>
                      <a:pt x="16316" y="8"/>
                      <a:pt x="16315" y="8"/>
                    </a:cubicBezTo>
                    <a:lnTo>
                      <a:pt x="16315" y="8"/>
                    </a:lnTo>
                    <a:cubicBezTo>
                      <a:pt x="16314" y="8"/>
                      <a:pt x="16313" y="7"/>
                      <a:pt x="16313" y="6"/>
                    </a:cubicBezTo>
                    <a:cubicBezTo>
                      <a:pt x="16313" y="5"/>
                      <a:pt x="16314" y="4"/>
                      <a:pt x="16315" y="4"/>
                    </a:cubicBezTo>
                    <a:close/>
                    <a:moveTo>
                      <a:pt x="16323" y="4"/>
                    </a:moveTo>
                    <a:lnTo>
                      <a:pt x="16323" y="4"/>
                    </a:lnTo>
                    <a:cubicBezTo>
                      <a:pt x="16324" y="4"/>
                      <a:pt x="16325" y="5"/>
                      <a:pt x="16325" y="6"/>
                    </a:cubicBezTo>
                    <a:cubicBezTo>
                      <a:pt x="16325" y="7"/>
                      <a:pt x="16324" y="8"/>
                      <a:pt x="16323" y="8"/>
                    </a:cubicBezTo>
                    <a:lnTo>
                      <a:pt x="16323" y="8"/>
                    </a:lnTo>
                    <a:cubicBezTo>
                      <a:pt x="16322" y="8"/>
                      <a:pt x="16321" y="7"/>
                      <a:pt x="16321" y="6"/>
                    </a:cubicBezTo>
                    <a:cubicBezTo>
                      <a:pt x="16321" y="5"/>
                      <a:pt x="16322" y="4"/>
                      <a:pt x="16323" y="4"/>
                    </a:cubicBezTo>
                    <a:close/>
                    <a:moveTo>
                      <a:pt x="16331" y="4"/>
                    </a:moveTo>
                    <a:lnTo>
                      <a:pt x="16331" y="4"/>
                    </a:lnTo>
                    <a:cubicBezTo>
                      <a:pt x="16332" y="4"/>
                      <a:pt x="16333" y="5"/>
                      <a:pt x="16333" y="6"/>
                    </a:cubicBezTo>
                    <a:cubicBezTo>
                      <a:pt x="16333" y="7"/>
                      <a:pt x="16332" y="8"/>
                      <a:pt x="16331" y="8"/>
                    </a:cubicBezTo>
                    <a:lnTo>
                      <a:pt x="16331" y="8"/>
                    </a:lnTo>
                    <a:cubicBezTo>
                      <a:pt x="16330" y="8"/>
                      <a:pt x="16329" y="7"/>
                      <a:pt x="16329" y="6"/>
                    </a:cubicBezTo>
                    <a:cubicBezTo>
                      <a:pt x="16329" y="5"/>
                      <a:pt x="16330" y="4"/>
                      <a:pt x="16331" y="4"/>
                    </a:cubicBezTo>
                    <a:close/>
                    <a:moveTo>
                      <a:pt x="16339" y="4"/>
                    </a:moveTo>
                    <a:lnTo>
                      <a:pt x="16339" y="4"/>
                    </a:lnTo>
                    <a:cubicBezTo>
                      <a:pt x="16340" y="4"/>
                      <a:pt x="16341" y="5"/>
                      <a:pt x="16341" y="6"/>
                    </a:cubicBezTo>
                    <a:cubicBezTo>
                      <a:pt x="16341" y="7"/>
                      <a:pt x="16340" y="8"/>
                      <a:pt x="16339" y="8"/>
                    </a:cubicBezTo>
                    <a:lnTo>
                      <a:pt x="16339" y="8"/>
                    </a:lnTo>
                    <a:cubicBezTo>
                      <a:pt x="16338" y="8"/>
                      <a:pt x="16337" y="7"/>
                      <a:pt x="16337" y="6"/>
                    </a:cubicBezTo>
                    <a:cubicBezTo>
                      <a:pt x="16337" y="5"/>
                      <a:pt x="16338" y="4"/>
                      <a:pt x="16339" y="4"/>
                    </a:cubicBezTo>
                    <a:close/>
                    <a:moveTo>
                      <a:pt x="16347" y="4"/>
                    </a:moveTo>
                    <a:lnTo>
                      <a:pt x="16347" y="4"/>
                    </a:lnTo>
                    <a:cubicBezTo>
                      <a:pt x="16348" y="4"/>
                      <a:pt x="16349" y="5"/>
                      <a:pt x="16349" y="6"/>
                    </a:cubicBezTo>
                    <a:cubicBezTo>
                      <a:pt x="16349" y="7"/>
                      <a:pt x="16348" y="8"/>
                      <a:pt x="16347" y="8"/>
                    </a:cubicBezTo>
                    <a:lnTo>
                      <a:pt x="16347" y="8"/>
                    </a:lnTo>
                    <a:cubicBezTo>
                      <a:pt x="16346" y="8"/>
                      <a:pt x="16345" y="7"/>
                      <a:pt x="16345" y="6"/>
                    </a:cubicBezTo>
                    <a:cubicBezTo>
                      <a:pt x="16345" y="5"/>
                      <a:pt x="16346" y="4"/>
                      <a:pt x="16347" y="4"/>
                    </a:cubicBezTo>
                    <a:close/>
                    <a:moveTo>
                      <a:pt x="16355" y="4"/>
                    </a:moveTo>
                    <a:lnTo>
                      <a:pt x="16355" y="4"/>
                    </a:lnTo>
                    <a:cubicBezTo>
                      <a:pt x="16356" y="4"/>
                      <a:pt x="16357" y="5"/>
                      <a:pt x="16357" y="6"/>
                    </a:cubicBezTo>
                    <a:cubicBezTo>
                      <a:pt x="16357" y="7"/>
                      <a:pt x="16356" y="8"/>
                      <a:pt x="16355" y="8"/>
                    </a:cubicBezTo>
                    <a:lnTo>
                      <a:pt x="16355" y="8"/>
                    </a:lnTo>
                    <a:cubicBezTo>
                      <a:pt x="16354" y="8"/>
                      <a:pt x="16353" y="7"/>
                      <a:pt x="16353" y="6"/>
                    </a:cubicBezTo>
                    <a:cubicBezTo>
                      <a:pt x="16353" y="5"/>
                      <a:pt x="16354" y="4"/>
                      <a:pt x="16355" y="4"/>
                    </a:cubicBezTo>
                    <a:close/>
                    <a:moveTo>
                      <a:pt x="16363" y="4"/>
                    </a:moveTo>
                    <a:lnTo>
                      <a:pt x="16363" y="4"/>
                    </a:lnTo>
                    <a:cubicBezTo>
                      <a:pt x="16364" y="4"/>
                      <a:pt x="16365" y="5"/>
                      <a:pt x="16365" y="6"/>
                    </a:cubicBezTo>
                    <a:cubicBezTo>
                      <a:pt x="16365" y="7"/>
                      <a:pt x="16364" y="8"/>
                      <a:pt x="16363" y="8"/>
                    </a:cubicBezTo>
                    <a:lnTo>
                      <a:pt x="16363" y="8"/>
                    </a:lnTo>
                    <a:cubicBezTo>
                      <a:pt x="16362" y="8"/>
                      <a:pt x="16361" y="7"/>
                      <a:pt x="16361" y="6"/>
                    </a:cubicBezTo>
                    <a:cubicBezTo>
                      <a:pt x="16361" y="5"/>
                      <a:pt x="16362" y="4"/>
                      <a:pt x="16363" y="4"/>
                    </a:cubicBezTo>
                    <a:close/>
                    <a:moveTo>
                      <a:pt x="16371" y="4"/>
                    </a:moveTo>
                    <a:lnTo>
                      <a:pt x="16371" y="4"/>
                    </a:lnTo>
                    <a:cubicBezTo>
                      <a:pt x="16372" y="4"/>
                      <a:pt x="16373" y="5"/>
                      <a:pt x="16373" y="6"/>
                    </a:cubicBezTo>
                    <a:cubicBezTo>
                      <a:pt x="16373" y="7"/>
                      <a:pt x="16372" y="8"/>
                      <a:pt x="16371" y="8"/>
                    </a:cubicBezTo>
                    <a:lnTo>
                      <a:pt x="16371" y="8"/>
                    </a:lnTo>
                    <a:cubicBezTo>
                      <a:pt x="16370" y="8"/>
                      <a:pt x="16369" y="7"/>
                      <a:pt x="16369" y="6"/>
                    </a:cubicBezTo>
                    <a:cubicBezTo>
                      <a:pt x="16369" y="5"/>
                      <a:pt x="16370" y="4"/>
                      <a:pt x="16371" y="4"/>
                    </a:cubicBezTo>
                    <a:close/>
                    <a:moveTo>
                      <a:pt x="16379" y="4"/>
                    </a:moveTo>
                    <a:lnTo>
                      <a:pt x="16379" y="4"/>
                    </a:lnTo>
                    <a:cubicBezTo>
                      <a:pt x="16380" y="4"/>
                      <a:pt x="16381" y="5"/>
                      <a:pt x="16381" y="6"/>
                    </a:cubicBezTo>
                    <a:cubicBezTo>
                      <a:pt x="16381" y="7"/>
                      <a:pt x="16380" y="8"/>
                      <a:pt x="16379" y="8"/>
                    </a:cubicBezTo>
                    <a:lnTo>
                      <a:pt x="16379" y="8"/>
                    </a:lnTo>
                    <a:cubicBezTo>
                      <a:pt x="16378" y="8"/>
                      <a:pt x="16377" y="7"/>
                      <a:pt x="16377" y="6"/>
                    </a:cubicBezTo>
                    <a:cubicBezTo>
                      <a:pt x="16377" y="5"/>
                      <a:pt x="16378" y="4"/>
                      <a:pt x="16379" y="4"/>
                    </a:cubicBezTo>
                    <a:close/>
                    <a:moveTo>
                      <a:pt x="16387" y="4"/>
                    </a:moveTo>
                    <a:lnTo>
                      <a:pt x="16387" y="4"/>
                    </a:lnTo>
                    <a:cubicBezTo>
                      <a:pt x="16388" y="4"/>
                      <a:pt x="16389" y="5"/>
                      <a:pt x="16389" y="6"/>
                    </a:cubicBezTo>
                    <a:cubicBezTo>
                      <a:pt x="16389" y="7"/>
                      <a:pt x="16388" y="8"/>
                      <a:pt x="16387" y="8"/>
                    </a:cubicBezTo>
                    <a:lnTo>
                      <a:pt x="16387" y="8"/>
                    </a:lnTo>
                    <a:cubicBezTo>
                      <a:pt x="16386" y="8"/>
                      <a:pt x="16385" y="7"/>
                      <a:pt x="16385" y="6"/>
                    </a:cubicBezTo>
                    <a:cubicBezTo>
                      <a:pt x="16385" y="5"/>
                      <a:pt x="16386" y="4"/>
                      <a:pt x="16387" y="4"/>
                    </a:cubicBezTo>
                    <a:close/>
                    <a:moveTo>
                      <a:pt x="16395" y="4"/>
                    </a:moveTo>
                    <a:lnTo>
                      <a:pt x="16395" y="4"/>
                    </a:lnTo>
                    <a:cubicBezTo>
                      <a:pt x="16396" y="4"/>
                      <a:pt x="16397" y="5"/>
                      <a:pt x="16397" y="6"/>
                    </a:cubicBezTo>
                    <a:cubicBezTo>
                      <a:pt x="16397" y="7"/>
                      <a:pt x="16396" y="8"/>
                      <a:pt x="16395" y="8"/>
                    </a:cubicBezTo>
                    <a:lnTo>
                      <a:pt x="16395" y="8"/>
                    </a:lnTo>
                    <a:cubicBezTo>
                      <a:pt x="16394" y="8"/>
                      <a:pt x="16393" y="7"/>
                      <a:pt x="16393" y="6"/>
                    </a:cubicBezTo>
                    <a:cubicBezTo>
                      <a:pt x="16393" y="5"/>
                      <a:pt x="16394" y="4"/>
                      <a:pt x="16395" y="4"/>
                    </a:cubicBezTo>
                    <a:close/>
                    <a:moveTo>
                      <a:pt x="16403" y="4"/>
                    </a:moveTo>
                    <a:lnTo>
                      <a:pt x="16403" y="4"/>
                    </a:lnTo>
                    <a:cubicBezTo>
                      <a:pt x="16404" y="4"/>
                      <a:pt x="16405" y="5"/>
                      <a:pt x="16405" y="6"/>
                    </a:cubicBezTo>
                    <a:cubicBezTo>
                      <a:pt x="16405" y="7"/>
                      <a:pt x="16404" y="8"/>
                      <a:pt x="16403" y="8"/>
                    </a:cubicBezTo>
                    <a:lnTo>
                      <a:pt x="16403" y="8"/>
                    </a:lnTo>
                    <a:cubicBezTo>
                      <a:pt x="16402" y="8"/>
                      <a:pt x="16401" y="7"/>
                      <a:pt x="16401" y="6"/>
                    </a:cubicBezTo>
                    <a:cubicBezTo>
                      <a:pt x="16401" y="5"/>
                      <a:pt x="16402" y="4"/>
                      <a:pt x="16403" y="4"/>
                    </a:cubicBezTo>
                    <a:close/>
                    <a:moveTo>
                      <a:pt x="16411" y="4"/>
                    </a:moveTo>
                    <a:lnTo>
                      <a:pt x="16411" y="4"/>
                    </a:lnTo>
                    <a:cubicBezTo>
                      <a:pt x="16412" y="4"/>
                      <a:pt x="16413" y="5"/>
                      <a:pt x="16413" y="6"/>
                    </a:cubicBezTo>
                    <a:cubicBezTo>
                      <a:pt x="16413" y="7"/>
                      <a:pt x="16412" y="8"/>
                      <a:pt x="16411" y="8"/>
                    </a:cubicBezTo>
                    <a:lnTo>
                      <a:pt x="16411" y="8"/>
                    </a:lnTo>
                    <a:cubicBezTo>
                      <a:pt x="16410" y="8"/>
                      <a:pt x="16409" y="7"/>
                      <a:pt x="16409" y="6"/>
                    </a:cubicBezTo>
                    <a:cubicBezTo>
                      <a:pt x="16409" y="5"/>
                      <a:pt x="16410" y="4"/>
                      <a:pt x="16411" y="4"/>
                    </a:cubicBezTo>
                    <a:close/>
                    <a:moveTo>
                      <a:pt x="16419" y="4"/>
                    </a:moveTo>
                    <a:lnTo>
                      <a:pt x="16419" y="4"/>
                    </a:lnTo>
                    <a:cubicBezTo>
                      <a:pt x="16420" y="4"/>
                      <a:pt x="16421" y="5"/>
                      <a:pt x="16421" y="6"/>
                    </a:cubicBezTo>
                    <a:cubicBezTo>
                      <a:pt x="16421" y="7"/>
                      <a:pt x="16420" y="8"/>
                      <a:pt x="16419" y="8"/>
                    </a:cubicBezTo>
                    <a:lnTo>
                      <a:pt x="16419" y="8"/>
                    </a:lnTo>
                    <a:cubicBezTo>
                      <a:pt x="16418" y="8"/>
                      <a:pt x="16417" y="7"/>
                      <a:pt x="16417" y="6"/>
                    </a:cubicBezTo>
                    <a:cubicBezTo>
                      <a:pt x="16417" y="5"/>
                      <a:pt x="16418" y="4"/>
                      <a:pt x="16419" y="4"/>
                    </a:cubicBezTo>
                    <a:close/>
                    <a:moveTo>
                      <a:pt x="16427" y="4"/>
                    </a:moveTo>
                    <a:lnTo>
                      <a:pt x="16427" y="4"/>
                    </a:lnTo>
                    <a:cubicBezTo>
                      <a:pt x="16428" y="4"/>
                      <a:pt x="16429" y="5"/>
                      <a:pt x="16429" y="6"/>
                    </a:cubicBezTo>
                    <a:cubicBezTo>
                      <a:pt x="16429" y="7"/>
                      <a:pt x="16428" y="8"/>
                      <a:pt x="16427" y="8"/>
                    </a:cubicBezTo>
                    <a:lnTo>
                      <a:pt x="16427" y="8"/>
                    </a:lnTo>
                    <a:cubicBezTo>
                      <a:pt x="16426" y="8"/>
                      <a:pt x="16425" y="7"/>
                      <a:pt x="16425" y="6"/>
                    </a:cubicBezTo>
                    <a:cubicBezTo>
                      <a:pt x="16425" y="5"/>
                      <a:pt x="16426" y="4"/>
                      <a:pt x="16427" y="4"/>
                    </a:cubicBezTo>
                    <a:close/>
                    <a:moveTo>
                      <a:pt x="16435" y="4"/>
                    </a:moveTo>
                    <a:lnTo>
                      <a:pt x="16435" y="4"/>
                    </a:lnTo>
                    <a:cubicBezTo>
                      <a:pt x="16436" y="4"/>
                      <a:pt x="16437" y="5"/>
                      <a:pt x="16437" y="6"/>
                    </a:cubicBezTo>
                    <a:cubicBezTo>
                      <a:pt x="16437" y="7"/>
                      <a:pt x="16436" y="8"/>
                      <a:pt x="16435" y="8"/>
                    </a:cubicBezTo>
                    <a:lnTo>
                      <a:pt x="16435" y="8"/>
                    </a:lnTo>
                    <a:cubicBezTo>
                      <a:pt x="16434" y="8"/>
                      <a:pt x="16433" y="7"/>
                      <a:pt x="16433" y="6"/>
                    </a:cubicBezTo>
                    <a:cubicBezTo>
                      <a:pt x="16433" y="5"/>
                      <a:pt x="16434" y="4"/>
                      <a:pt x="16435" y="4"/>
                    </a:cubicBezTo>
                    <a:close/>
                    <a:moveTo>
                      <a:pt x="16443" y="4"/>
                    </a:moveTo>
                    <a:lnTo>
                      <a:pt x="16443" y="4"/>
                    </a:lnTo>
                    <a:cubicBezTo>
                      <a:pt x="16444" y="4"/>
                      <a:pt x="16445" y="5"/>
                      <a:pt x="16445" y="6"/>
                    </a:cubicBezTo>
                    <a:cubicBezTo>
                      <a:pt x="16445" y="7"/>
                      <a:pt x="16444" y="8"/>
                      <a:pt x="16443" y="8"/>
                    </a:cubicBezTo>
                    <a:lnTo>
                      <a:pt x="16443" y="8"/>
                    </a:lnTo>
                    <a:cubicBezTo>
                      <a:pt x="16442" y="8"/>
                      <a:pt x="16441" y="7"/>
                      <a:pt x="16441" y="6"/>
                    </a:cubicBezTo>
                    <a:cubicBezTo>
                      <a:pt x="16441" y="5"/>
                      <a:pt x="16442" y="4"/>
                      <a:pt x="16443" y="4"/>
                    </a:cubicBezTo>
                    <a:close/>
                    <a:moveTo>
                      <a:pt x="16451" y="4"/>
                    </a:moveTo>
                    <a:lnTo>
                      <a:pt x="16451" y="4"/>
                    </a:lnTo>
                    <a:cubicBezTo>
                      <a:pt x="16452" y="4"/>
                      <a:pt x="16453" y="5"/>
                      <a:pt x="16453" y="6"/>
                    </a:cubicBezTo>
                    <a:cubicBezTo>
                      <a:pt x="16453" y="7"/>
                      <a:pt x="16452" y="8"/>
                      <a:pt x="16451" y="8"/>
                    </a:cubicBezTo>
                    <a:lnTo>
                      <a:pt x="16451" y="8"/>
                    </a:lnTo>
                    <a:cubicBezTo>
                      <a:pt x="16450" y="8"/>
                      <a:pt x="16449" y="7"/>
                      <a:pt x="16449" y="6"/>
                    </a:cubicBezTo>
                    <a:cubicBezTo>
                      <a:pt x="16449" y="5"/>
                      <a:pt x="16450" y="4"/>
                      <a:pt x="16451" y="4"/>
                    </a:cubicBezTo>
                    <a:close/>
                    <a:moveTo>
                      <a:pt x="16459" y="4"/>
                    </a:moveTo>
                    <a:lnTo>
                      <a:pt x="16459" y="4"/>
                    </a:lnTo>
                    <a:cubicBezTo>
                      <a:pt x="16460" y="4"/>
                      <a:pt x="16461" y="5"/>
                      <a:pt x="16461" y="6"/>
                    </a:cubicBezTo>
                    <a:cubicBezTo>
                      <a:pt x="16461" y="7"/>
                      <a:pt x="16460" y="8"/>
                      <a:pt x="16459" y="8"/>
                    </a:cubicBezTo>
                    <a:lnTo>
                      <a:pt x="16459" y="8"/>
                    </a:lnTo>
                    <a:cubicBezTo>
                      <a:pt x="16458" y="8"/>
                      <a:pt x="16457" y="7"/>
                      <a:pt x="16457" y="6"/>
                    </a:cubicBezTo>
                    <a:cubicBezTo>
                      <a:pt x="16457" y="5"/>
                      <a:pt x="16458" y="4"/>
                      <a:pt x="16459" y="4"/>
                    </a:cubicBezTo>
                    <a:close/>
                    <a:moveTo>
                      <a:pt x="16467" y="4"/>
                    </a:moveTo>
                    <a:lnTo>
                      <a:pt x="16467" y="4"/>
                    </a:lnTo>
                    <a:cubicBezTo>
                      <a:pt x="16468" y="4"/>
                      <a:pt x="16469" y="5"/>
                      <a:pt x="16469" y="6"/>
                    </a:cubicBezTo>
                    <a:cubicBezTo>
                      <a:pt x="16469" y="7"/>
                      <a:pt x="16468" y="8"/>
                      <a:pt x="16467" y="8"/>
                    </a:cubicBezTo>
                    <a:lnTo>
                      <a:pt x="16467" y="8"/>
                    </a:lnTo>
                    <a:cubicBezTo>
                      <a:pt x="16466" y="8"/>
                      <a:pt x="16465" y="7"/>
                      <a:pt x="16465" y="6"/>
                    </a:cubicBezTo>
                    <a:cubicBezTo>
                      <a:pt x="16465" y="5"/>
                      <a:pt x="16466" y="4"/>
                      <a:pt x="16467" y="4"/>
                    </a:cubicBezTo>
                    <a:close/>
                    <a:moveTo>
                      <a:pt x="16475" y="4"/>
                    </a:moveTo>
                    <a:lnTo>
                      <a:pt x="16475" y="4"/>
                    </a:lnTo>
                    <a:cubicBezTo>
                      <a:pt x="16476" y="4"/>
                      <a:pt x="16477" y="5"/>
                      <a:pt x="16477" y="6"/>
                    </a:cubicBezTo>
                    <a:cubicBezTo>
                      <a:pt x="16477" y="7"/>
                      <a:pt x="16476" y="8"/>
                      <a:pt x="16475" y="8"/>
                    </a:cubicBezTo>
                    <a:lnTo>
                      <a:pt x="16475" y="8"/>
                    </a:lnTo>
                    <a:cubicBezTo>
                      <a:pt x="16474" y="8"/>
                      <a:pt x="16473" y="7"/>
                      <a:pt x="16473" y="6"/>
                    </a:cubicBezTo>
                    <a:cubicBezTo>
                      <a:pt x="16473" y="5"/>
                      <a:pt x="16474" y="4"/>
                      <a:pt x="16475" y="4"/>
                    </a:cubicBezTo>
                    <a:close/>
                    <a:moveTo>
                      <a:pt x="16483" y="4"/>
                    </a:moveTo>
                    <a:lnTo>
                      <a:pt x="16483" y="4"/>
                    </a:lnTo>
                    <a:cubicBezTo>
                      <a:pt x="16484" y="4"/>
                      <a:pt x="16485" y="5"/>
                      <a:pt x="16485" y="6"/>
                    </a:cubicBezTo>
                    <a:cubicBezTo>
                      <a:pt x="16485" y="7"/>
                      <a:pt x="16484" y="8"/>
                      <a:pt x="16483" y="8"/>
                    </a:cubicBezTo>
                    <a:lnTo>
                      <a:pt x="16483" y="8"/>
                    </a:lnTo>
                    <a:cubicBezTo>
                      <a:pt x="16482" y="8"/>
                      <a:pt x="16481" y="7"/>
                      <a:pt x="16481" y="6"/>
                    </a:cubicBezTo>
                    <a:cubicBezTo>
                      <a:pt x="16481" y="5"/>
                      <a:pt x="16482" y="4"/>
                      <a:pt x="16483" y="4"/>
                    </a:cubicBezTo>
                    <a:close/>
                    <a:moveTo>
                      <a:pt x="16491" y="4"/>
                    </a:moveTo>
                    <a:lnTo>
                      <a:pt x="16491" y="4"/>
                    </a:lnTo>
                    <a:cubicBezTo>
                      <a:pt x="16492" y="4"/>
                      <a:pt x="16493" y="5"/>
                      <a:pt x="16493" y="6"/>
                    </a:cubicBezTo>
                    <a:cubicBezTo>
                      <a:pt x="16493" y="7"/>
                      <a:pt x="16492" y="8"/>
                      <a:pt x="16491" y="8"/>
                    </a:cubicBezTo>
                    <a:lnTo>
                      <a:pt x="16491" y="8"/>
                    </a:lnTo>
                    <a:cubicBezTo>
                      <a:pt x="16490" y="8"/>
                      <a:pt x="16489" y="7"/>
                      <a:pt x="16489" y="6"/>
                    </a:cubicBezTo>
                    <a:cubicBezTo>
                      <a:pt x="16489" y="5"/>
                      <a:pt x="16490" y="4"/>
                      <a:pt x="16491" y="4"/>
                    </a:cubicBezTo>
                    <a:close/>
                    <a:moveTo>
                      <a:pt x="16499" y="4"/>
                    </a:moveTo>
                    <a:lnTo>
                      <a:pt x="16499" y="4"/>
                    </a:lnTo>
                    <a:cubicBezTo>
                      <a:pt x="16500" y="4"/>
                      <a:pt x="16501" y="5"/>
                      <a:pt x="16501" y="6"/>
                    </a:cubicBezTo>
                    <a:cubicBezTo>
                      <a:pt x="16501" y="7"/>
                      <a:pt x="16500" y="8"/>
                      <a:pt x="16499" y="8"/>
                    </a:cubicBezTo>
                    <a:lnTo>
                      <a:pt x="16499" y="8"/>
                    </a:lnTo>
                    <a:cubicBezTo>
                      <a:pt x="16498" y="8"/>
                      <a:pt x="16497" y="7"/>
                      <a:pt x="16497" y="6"/>
                    </a:cubicBezTo>
                    <a:cubicBezTo>
                      <a:pt x="16497" y="5"/>
                      <a:pt x="16498" y="4"/>
                      <a:pt x="16499" y="4"/>
                    </a:cubicBezTo>
                    <a:close/>
                    <a:moveTo>
                      <a:pt x="16507" y="4"/>
                    </a:moveTo>
                    <a:lnTo>
                      <a:pt x="16507" y="4"/>
                    </a:lnTo>
                    <a:cubicBezTo>
                      <a:pt x="16508" y="4"/>
                      <a:pt x="16509" y="5"/>
                      <a:pt x="16509" y="6"/>
                    </a:cubicBezTo>
                    <a:cubicBezTo>
                      <a:pt x="16509" y="7"/>
                      <a:pt x="16508" y="8"/>
                      <a:pt x="16507" y="8"/>
                    </a:cubicBezTo>
                    <a:lnTo>
                      <a:pt x="16507" y="8"/>
                    </a:lnTo>
                    <a:cubicBezTo>
                      <a:pt x="16506" y="8"/>
                      <a:pt x="16505" y="7"/>
                      <a:pt x="16505" y="6"/>
                    </a:cubicBezTo>
                    <a:cubicBezTo>
                      <a:pt x="16505" y="5"/>
                      <a:pt x="16506" y="4"/>
                      <a:pt x="16507" y="4"/>
                    </a:cubicBezTo>
                    <a:close/>
                    <a:moveTo>
                      <a:pt x="16515" y="4"/>
                    </a:moveTo>
                    <a:lnTo>
                      <a:pt x="16515" y="4"/>
                    </a:lnTo>
                    <a:cubicBezTo>
                      <a:pt x="16516" y="4"/>
                      <a:pt x="16517" y="5"/>
                      <a:pt x="16517" y="6"/>
                    </a:cubicBezTo>
                    <a:cubicBezTo>
                      <a:pt x="16517" y="7"/>
                      <a:pt x="16516" y="8"/>
                      <a:pt x="16515" y="8"/>
                    </a:cubicBezTo>
                    <a:lnTo>
                      <a:pt x="16515" y="8"/>
                    </a:lnTo>
                    <a:cubicBezTo>
                      <a:pt x="16514" y="8"/>
                      <a:pt x="16513" y="7"/>
                      <a:pt x="16513" y="6"/>
                    </a:cubicBezTo>
                    <a:cubicBezTo>
                      <a:pt x="16513" y="5"/>
                      <a:pt x="16514" y="4"/>
                      <a:pt x="16515" y="4"/>
                    </a:cubicBezTo>
                    <a:close/>
                    <a:moveTo>
                      <a:pt x="16523" y="4"/>
                    </a:moveTo>
                    <a:lnTo>
                      <a:pt x="16523" y="4"/>
                    </a:lnTo>
                    <a:cubicBezTo>
                      <a:pt x="16524" y="4"/>
                      <a:pt x="16525" y="5"/>
                      <a:pt x="16525" y="6"/>
                    </a:cubicBezTo>
                    <a:cubicBezTo>
                      <a:pt x="16525" y="7"/>
                      <a:pt x="16524" y="8"/>
                      <a:pt x="16523" y="8"/>
                    </a:cubicBezTo>
                    <a:lnTo>
                      <a:pt x="16523" y="8"/>
                    </a:lnTo>
                    <a:cubicBezTo>
                      <a:pt x="16522" y="8"/>
                      <a:pt x="16521" y="7"/>
                      <a:pt x="16521" y="6"/>
                    </a:cubicBezTo>
                    <a:cubicBezTo>
                      <a:pt x="16521" y="5"/>
                      <a:pt x="16522" y="4"/>
                      <a:pt x="16523" y="4"/>
                    </a:cubicBezTo>
                    <a:close/>
                    <a:moveTo>
                      <a:pt x="16531" y="4"/>
                    </a:moveTo>
                    <a:lnTo>
                      <a:pt x="16531" y="4"/>
                    </a:lnTo>
                    <a:cubicBezTo>
                      <a:pt x="16532" y="4"/>
                      <a:pt x="16533" y="5"/>
                      <a:pt x="16533" y="6"/>
                    </a:cubicBezTo>
                    <a:cubicBezTo>
                      <a:pt x="16533" y="7"/>
                      <a:pt x="16532" y="8"/>
                      <a:pt x="16531" y="8"/>
                    </a:cubicBezTo>
                    <a:lnTo>
                      <a:pt x="16531" y="8"/>
                    </a:lnTo>
                    <a:cubicBezTo>
                      <a:pt x="16530" y="8"/>
                      <a:pt x="16529" y="7"/>
                      <a:pt x="16529" y="6"/>
                    </a:cubicBezTo>
                    <a:cubicBezTo>
                      <a:pt x="16529" y="5"/>
                      <a:pt x="16530" y="4"/>
                      <a:pt x="16531" y="4"/>
                    </a:cubicBezTo>
                    <a:close/>
                    <a:moveTo>
                      <a:pt x="16539" y="4"/>
                    </a:moveTo>
                    <a:lnTo>
                      <a:pt x="16539" y="4"/>
                    </a:lnTo>
                    <a:cubicBezTo>
                      <a:pt x="16540" y="4"/>
                      <a:pt x="16541" y="5"/>
                      <a:pt x="16541" y="6"/>
                    </a:cubicBezTo>
                    <a:cubicBezTo>
                      <a:pt x="16541" y="7"/>
                      <a:pt x="16540" y="8"/>
                      <a:pt x="16539" y="8"/>
                    </a:cubicBezTo>
                    <a:lnTo>
                      <a:pt x="16539" y="8"/>
                    </a:lnTo>
                    <a:cubicBezTo>
                      <a:pt x="16538" y="8"/>
                      <a:pt x="16537" y="7"/>
                      <a:pt x="16537" y="6"/>
                    </a:cubicBezTo>
                    <a:cubicBezTo>
                      <a:pt x="16537" y="5"/>
                      <a:pt x="16538" y="4"/>
                      <a:pt x="16539" y="4"/>
                    </a:cubicBezTo>
                    <a:close/>
                    <a:moveTo>
                      <a:pt x="16547" y="4"/>
                    </a:moveTo>
                    <a:lnTo>
                      <a:pt x="16547" y="4"/>
                    </a:lnTo>
                    <a:cubicBezTo>
                      <a:pt x="16548" y="4"/>
                      <a:pt x="16549" y="5"/>
                      <a:pt x="16549" y="6"/>
                    </a:cubicBezTo>
                    <a:cubicBezTo>
                      <a:pt x="16549" y="7"/>
                      <a:pt x="16548" y="8"/>
                      <a:pt x="16547" y="8"/>
                    </a:cubicBezTo>
                    <a:lnTo>
                      <a:pt x="16547" y="8"/>
                    </a:lnTo>
                    <a:cubicBezTo>
                      <a:pt x="16546" y="8"/>
                      <a:pt x="16545" y="7"/>
                      <a:pt x="16545" y="6"/>
                    </a:cubicBezTo>
                    <a:cubicBezTo>
                      <a:pt x="16545" y="5"/>
                      <a:pt x="16546" y="4"/>
                      <a:pt x="16547" y="4"/>
                    </a:cubicBezTo>
                    <a:close/>
                    <a:moveTo>
                      <a:pt x="16555" y="4"/>
                    </a:moveTo>
                    <a:lnTo>
                      <a:pt x="16555" y="4"/>
                    </a:lnTo>
                    <a:cubicBezTo>
                      <a:pt x="16556" y="4"/>
                      <a:pt x="16557" y="5"/>
                      <a:pt x="16557" y="6"/>
                    </a:cubicBezTo>
                    <a:cubicBezTo>
                      <a:pt x="16557" y="7"/>
                      <a:pt x="16556" y="8"/>
                      <a:pt x="16555" y="8"/>
                    </a:cubicBezTo>
                    <a:lnTo>
                      <a:pt x="16555" y="8"/>
                    </a:lnTo>
                    <a:cubicBezTo>
                      <a:pt x="16554" y="8"/>
                      <a:pt x="16553" y="7"/>
                      <a:pt x="16553" y="6"/>
                    </a:cubicBezTo>
                    <a:cubicBezTo>
                      <a:pt x="16553" y="5"/>
                      <a:pt x="16554" y="4"/>
                      <a:pt x="16555" y="4"/>
                    </a:cubicBezTo>
                    <a:close/>
                    <a:moveTo>
                      <a:pt x="16563" y="4"/>
                    </a:moveTo>
                    <a:lnTo>
                      <a:pt x="16563" y="4"/>
                    </a:lnTo>
                    <a:cubicBezTo>
                      <a:pt x="16564" y="4"/>
                      <a:pt x="16565" y="5"/>
                      <a:pt x="16565" y="6"/>
                    </a:cubicBezTo>
                    <a:cubicBezTo>
                      <a:pt x="16565" y="7"/>
                      <a:pt x="16564" y="8"/>
                      <a:pt x="16563" y="8"/>
                    </a:cubicBezTo>
                    <a:lnTo>
                      <a:pt x="16563" y="8"/>
                    </a:lnTo>
                    <a:cubicBezTo>
                      <a:pt x="16562" y="8"/>
                      <a:pt x="16561" y="7"/>
                      <a:pt x="16561" y="6"/>
                    </a:cubicBezTo>
                    <a:cubicBezTo>
                      <a:pt x="16561" y="5"/>
                      <a:pt x="16562" y="4"/>
                      <a:pt x="16563" y="4"/>
                    </a:cubicBezTo>
                    <a:close/>
                    <a:moveTo>
                      <a:pt x="16571" y="4"/>
                    </a:moveTo>
                    <a:lnTo>
                      <a:pt x="16571" y="4"/>
                    </a:lnTo>
                    <a:cubicBezTo>
                      <a:pt x="16572" y="4"/>
                      <a:pt x="16573" y="5"/>
                      <a:pt x="16573" y="6"/>
                    </a:cubicBezTo>
                    <a:cubicBezTo>
                      <a:pt x="16573" y="7"/>
                      <a:pt x="16572" y="8"/>
                      <a:pt x="16571" y="8"/>
                    </a:cubicBezTo>
                    <a:lnTo>
                      <a:pt x="16571" y="8"/>
                    </a:lnTo>
                    <a:cubicBezTo>
                      <a:pt x="16570" y="8"/>
                      <a:pt x="16569" y="7"/>
                      <a:pt x="16569" y="6"/>
                    </a:cubicBezTo>
                    <a:cubicBezTo>
                      <a:pt x="16569" y="5"/>
                      <a:pt x="16570" y="4"/>
                      <a:pt x="16571" y="4"/>
                    </a:cubicBezTo>
                    <a:close/>
                    <a:moveTo>
                      <a:pt x="16579" y="4"/>
                    </a:moveTo>
                    <a:lnTo>
                      <a:pt x="16579" y="4"/>
                    </a:lnTo>
                    <a:cubicBezTo>
                      <a:pt x="16580" y="4"/>
                      <a:pt x="16581" y="5"/>
                      <a:pt x="16581" y="6"/>
                    </a:cubicBezTo>
                    <a:cubicBezTo>
                      <a:pt x="16581" y="7"/>
                      <a:pt x="16580" y="8"/>
                      <a:pt x="16579" y="8"/>
                    </a:cubicBezTo>
                    <a:lnTo>
                      <a:pt x="16579" y="8"/>
                    </a:lnTo>
                    <a:cubicBezTo>
                      <a:pt x="16578" y="8"/>
                      <a:pt x="16577" y="7"/>
                      <a:pt x="16577" y="6"/>
                    </a:cubicBezTo>
                    <a:cubicBezTo>
                      <a:pt x="16577" y="5"/>
                      <a:pt x="16578" y="4"/>
                      <a:pt x="16579" y="4"/>
                    </a:cubicBezTo>
                    <a:close/>
                    <a:moveTo>
                      <a:pt x="16587" y="4"/>
                    </a:moveTo>
                    <a:lnTo>
                      <a:pt x="16587" y="4"/>
                    </a:lnTo>
                    <a:cubicBezTo>
                      <a:pt x="16588" y="4"/>
                      <a:pt x="16589" y="5"/>
                      <a:pt x="16589" y="6"/>
                    </a:cubicBezTo>
                    <a:cubicBezTo>
                      <a:pt x="16589" y="7"/>
                      <a:pt x="16588" y="8"/>
                      <a:pt x="16587" y="8"/>
                    </a:cubicBezTo>
                    <a:lnTo>
                      <a:pt x="16587" y="8"/>
                    </a:lnTo>
                    <a:cubicBezTo>
                      <a:pt x="16586" y="8"/>
                      <a:pt x="16585" y="7"/>
                      <a:pt x="16585" y="6"/>
                    </a:cubicBezTo>
                    <a:cubicBezTo>
                      <a:pt x="16585" y="5"/>
                      <a:pt x="16586" y="4"/>
                      <a:pt x="16587" y="4"/>
                    </a:cubicBezTo>
                    <a:close/>
                    <a:moveTo>
                      <a:pt x="16595" y="4"/>
                    </a:moveTo>
                    <a:lnTo>
                      <a:pt x="16595" y="4"/>
                    </a:lnTo>
                    <a:cubicBezTo>
                      <a:pt x="16596" y="4"/>
                      <a:pt x="16597" y="5"/>
                      <a:pt x="16597" y="6"/>
                    </a:cubicBezTo>
                    <a:cubicBezTo>
                      <a:pt x="16597" y="7"/>
                      <a:pt x="16596" y="8"/>
                      <a:pt x="16595" y="8"/>
                    </a:cubicBezTo>
                    <a:lnTo>
                      <a:pt x="16595" y="8"/>
                    </a:lnTo>
                    <a:cubicBezTo>
                      <a:pt x="16594" y="8"/>
                      <a:pt x="16593" y="7"/>
                      <a:pt x="16593" y="6"/>
                    </a:cubicBezTo>
                    <a:cubicBezTo>
                      <a:pt x="16593" y="5"/>
                      <a:pt x="16594" y="4"/>
                      <a:pt x="16595" y="4"/>
                    </a:cubicBezTo>
                    <a:close/>
                    <a:moveTo>
                      <a:pt x="16603" y="4"/>
                    </a:moveTo>
                    <a:lnTo>
                      <a:pt x="16603" y="4"/>
                    </a:lnTo>
                    <a:cubicBezTo>
                      <a:pt x="16604" y="4"/>
                      <a:pt x="16605" y="5"/>
                      <a:pt x="16605" y="6"/>
                    </a:cubicBezTo>
                    <a:cubicBezTo>
                      <a:pt x="16605" y="7"/>
                      <a:pt x="16604" y="8"/>
                      <a:pt x="16603" y="8"/>
                    </a:cubicBezTo>
                    <a:lnTo>
                      <a:pt x="16603" y="8"/>
                    </a:lnTo>
                    <a:cubicBezTo>
                      <a:pt x="16602" y="8"/>
                      <a:pt x="16601" y="7"/>
                      <a:pt x="16601" y="6"/>
                    </a:cubicBezTo>
                    <a:cubicBezTo>
                      <a:pt x="16601" y="5"/>
                      <a:pt x="16602" y="4"/>
                      <a:pt x="16603" y="4"/>
                    </a:cubicBezTo>
                    <a:close/>
                    <a:moveTo>
                      <a:pt x="16611" y="4"/>
                    </a:moveTo>
                    <a:lnTo>
                      <a:pt x="16611" y="4"/>
                    </a:lnTo>
                    <a:cubicBezTo>
                      <a:pt x="16612" y="4"/>
                      <a:pt x="16613" y="5"/>
                      <a:pt x="16613" y="6"/>
                    </a:cubicBezTo>
                    <a:cubicBezTo>
                      <a:pt x="16613" y="7"/>
                      <a:pt x="16612" y="8"/>
                      <a:pt x="16611" y="8"/>
                    </a:cubicBezTo>
                    <a:lnTo>
                      <a:pt x="16611" y="8"/>
                    </a:lnTo>
                    <a:cubicBezTo>
                      <a:pt x="16610" y="8"/>
                      <a:pt x="16609" y="7"/>
                      <a:pt x="16609" y="6"/>
                    </a:cubicBezTo>
                    <a:cubicBezTo>
                      <a:pt x="16609" y="5"/>
                      <a:pt x="16610" y="4"/>
                      <a:pt x="16611" y="4"/>
                    </a:cubicBezTo>
                    <a:close/>
                    <a:moveTo>
                      <a:pt x="16619" y="4"/>
                    </a:moveTo>
                    <a:lnTo>
                      <a:pt x="16619" y="4"/>
                    </a:lnTo>
                    <a:cubicBezTo>
                      <a:pt x="16620" y="4"/>
                      <a:pt x="16621" y="5"/>
                      <a:pt x="16621" y="6"/>
                    </a:cubicBezTo>
                    <a:cubicBezTo>
                      <a:pt x="16621" y="7"/>
                      <a:pt x="16620" y="8"/>
                      <a:pt x="16619" y="8"/>
                    </a:cubicBezTo>
                    <a:lnTo>
                      <a:pt x="16619" y="8"/>
                    </a:lnTo>
                    <a:cubicBezTo>
                      <a:pt x="16618" y="8"/>
                      <a:pt x="16617" y="7"/>
                      <a:pt x="16617" y="6"/>
                    </a:cubicBezTo>
                    <a:cubicBezTo>
                      <a:pt x="16617" y="5"/>
                      <a:pt x="16618" y="4"/>
                      <a:pt x="16619" y="4"/>
                    </a:cubicBezTo>
                    <a:close/>
                    <a:moveTo>
                      <a:pt x="16627" y="4"/>
                    </a:moveTo>
                    <a:lnTo>
                      <a:pt x="16627" y="4"/>
                    </a:lnTo>
                    <a:cubicBezTo>
                      <a:pt x="16628" y="4"/>
                      <a:pt x="16629" y="5"/>
                      <a:pt x="16629" y="6"/>
                    </a:cubicBezTo>
                    <a:cubicBezTo>
                      <a:pt x="16629" y="7"/>
                      <a:pt x="16628" y="8"/>
                      <a:pt x="16627" y="8"/>
                    </a:cubicBezTo>
                    <a:lnTo>
                      <a:pt x="16627" y="8"/>
                    </a:lnTo>
                    <a:cubicBezTo>
                      <a:pt x="16626" y="8"/>
                      <a:pt x="16625" y="7"/>
                      <a:pt x="16625" y="6"/>
                    </a:cubicBezTo>
                    <a:cubicBezTo>
                      <a:pt x="16625" y="5"/>
                      <a:pt x="16626" y="4"/>
                      <a:pt x="16627" y="4"/>
                    </a:cubicBezTo>
                    <a:close/>
                    <a:moveTo>
                      <a:pt x="16635" y="4"/>
                    </a:moveTo>
                    <a:lnTo>
                      <a:pt x="16635" y="4"/>
                    </a:lnTo>
                    <a:cubicBezTo>
                      <a:pt x="16636" y="4"/>
                      <a:pt x="16637" y="5"/>
                      <a:pt x="16637" y="6"/>
                    </a:cubicBezTo>
                    <a:cubicBezTo>
                      <a:pt x="16637" y="7"/>
                      <a:pt x="16636" y="8"/>
                      <a:pt x="16635" y="8"/>
                    </a:cubicBezTo>
                    <a:lnTo>
                      <a:pt x="16635" y="8"/>
                    </a:lnTo>
                    <a:cubicBezTo>
                      <a:pt x="16634" y="8"/>
                      <a:pt x="16633" y="7"/>
                      <a:pt x="16633" y="6"/>
                    </a:cubicBezTo>
                    <a:cubicBezTo>
                      <a:pt x="16633" y="5"/>
                      <a:pt x="16634" y="4"/>
                      <a:pt x="16635" y="4"/>
                    </a:cubicBezTo>
                    <a:close/>
                    <a:moveTo>
                      <a:pt x="16643" y="4"/>
                    </a:moveTo>
                    <a:lnTo>
                      <a:pt x="16643" y="4"/>
                    </a:lnTo>
                    <a:cubicBezTo>
                      <a:pt x="16644" y="4"/>
                      <a:pt x="16645" y="5"/>
                      <a:pt x="16645" y="6"/>
                    </a:cubicBezTo>
                    <a:cubicBezTo>
                      <a:pt x="16645" y="7"/>
                      <a:pt x="16644" y="8"/>
                      <a:pt x="16643" y="8"/>
                    </a:cubicBezTo>
                    <a:lnTo>
                      <a:pt x="16643" y="8"/>
                    </a:lnTo>
                    <a:cubicBezTo>
                      <a:pt x="16642" y="8"/>
                      <a:pt x="16641" y="7"/>
                      <a:pt x="16641" y="6"/>
                    </a:cubicBezTo>
                    <a:cubicBezTo>
                      <a:pt x="16641" y="5"/>
                      <a:pt x="16642" y="4"/>
                      <a:pt x="16643" y="4"/>
                    </a:cubicBezTo>
                    <a:close/>
                    <a:moveTo>
                      <a:pt x="16651" y="4"/>
                    </a:moveTo>
                    <a:lnTo>
                      <a:pt x="16651" y="4"/>
                    </a:lnTo>
                    <a:cubicBezTo>
                      <a:pt x="16652" y="4"/>
                      <a:pt x="16653" y="5"/>
                      <a:pt x="16653" y="6"/>
                    </a:cubicBezTo>
                    <a:cubicBezTo>
                      <a:pt x="16653" y="7"/>
                      <a:pt x="16652" y="8"/>
                      <a:pt x="16651" y="8"/>
                    </a:cubicBezTo>
                    <a:lnTo>
                      <a:pt x="16651" y="8"/>
                    </a:lnTo>
                    <a:cubicBezTo>
                      <a:pt x="16650" y="8"/>
                      <a:pt x="16649" y="7"/>
                      <a:pt x="16649" y="6"/>
                    </a:cubicBezTo>
                    <a:cubicBezTo>
                      <a:pt x="16649" y="5"/>
                      <a:pt x="16650" y="4"/>
                      <a:pt x="16651" y="4"/>
                    </a:cubicBezTo>
                    <a:close/>
                    <a:moveTo>
                      <a:pt x="16659" y="4"/>
                    </a:moveTo>
                    <a:lnTo>
                      <a:pt x="16659" y="4"/>
                    </a:lnTo>
                    <a:cubicBezTo>
                      <a:pt x="16660" y="4"/>
                      <a:pt x="16661" y="5"/>
                      <a:pt x="16661" y="6"/>
                    </a:cubicBezTo>
                    <a:cubicBezTo>
                      <a:pt x="16661" y="7"/>
                      <a:pt x="16660" y="8"/>
                      <a:pt x="16659" y="8"/>
                    </a:cubicBezTo>
                    <a:lnTo>
                      <a:pt x="16659" y="8"/>
                    </a:lnTo>
                    <a:cubicBezTo>
                      <a:pt x="16658" y="8"/>
                      <a:pt x="16657" y="7"/>
                      <a:pt x="16657" y="6"/>
                    </a:cubicBezTo>
                    <a:cubicBezTo>
                      <a:pt x="16657" y="5"/>
                      <a:pt x="16658" y="4"/>
                      <a:pt x="16659" y="4"/>
                    </a:cubicBezTo>
                    <a:close/>
                    <a:moveTo>
                      <a:pt x="16667" y="4"/>
                    </a:moveTo>
                    <a:lnTo>
                      <a:pt x="16667" y="4"/>
                    </a:lnTo>
                    <a:cubicBezTo>
                      <a:pt x="16668" y="4"/>
                      <a:pt x="16669" y="5"/>
                      <a:pt x="16669" y="6"/>
                    </a:cubicBezTo>
                    <a:cubicBezTo>
                      <a:pt x="16669" y="7"/>
                      <a:pt x="16668" y="8"/>
                      <a:pt x="16667" y="8"/>
                    </a:cubicBezTo>
                    <a:lnTo>
                      <a:pt x="16667" y="8"/>
                    </a:lnTo>
                    <a:cubicBezTo>
                      <a:pt x="16666" y="8"/>
                      <a:pt x="16665" y="7"/>
                      <a:pt x="16665" y="6"/>
                    </a:cubicBezTo>
                    <a:cubicBezTo>
                      <a:pt x="16665" y="5"/>
                      <a:pt x="16666" y="4"/>
                      <a:pt x="16667" y="4"/>
                    </a:cubicBezTo>
                    <a:close/>
                    <a:moveTo>
                      <a:pt x="16675" y="4"/>
                    </a:moveTo>
                    <a:lnTo>
                      <a:pt x="16675" y="4"/>
                    </a:lnTo>
                    <a:cubicBezTo>
                      <a:pt x="16676" y="4"/>
                      <a:pt x="16677" y="5"/>
                      <a:pt x="16677" y="6"/>
                    </a:cubicBezTo>
                    <a:cubicBezTo>
                      <a:pt x="16677" y="7"/>
                      <a:pt x="16676" y="8"/>
                      <a:pt x="16675" y="8"/>
                    </a:cubicBezTo>
                    <a:lnTo>
                      <a:pt x="16675" y="8"/>
                    </a:lnTo>
                    <a:cubicBezTo>
                      <a:pt x="16674" y="8"/>
                      <a:pt x="16673" y="7"/>
                      <a:pt x="16673" y="6"/>
                    </a:cubicBezTo>
                    <a:cubicBezTo>
                      <a:pt x="16673" y="5"/>
                      <a:pt x="16674" y="4"/>
                      <a:pt x="16675" y="4"/>
                    </a:cubicBezTo>
                    <a:close/>
                    <a:moveTo>
                      <a:pt x="16683" y="4"/>
                    </a:moveTo>
                    <a:lnTo>
                      <a:pt x="16683" y="4"/>
                    </a:lnTo>
                    <a:cubicBezTo>
                      <a:pt x="16684" y="4"/>
                      <a:pt x="16685" y="5"/>
                      <a:pt x="16685" y="6"/>
                    </a:cubicBezTo>
                    <a:cubicBezTo>
                      <a:pt x="16685" y="7"/>
                      <a:pt x="16684" y="8"/>
                      <a:pt x="16683" y="8"/>
                    </a:cubicBezTo>
                    <a:lnTo>
                      <a:pt x="16683" y="8"/>
                    </a:lnTo>
                    <a:cubicBezTo>
                      <a:pt x="16682" y="8"/>
                      <a:pt x="16681" y="7"/>
                      <a:pt x="16681" y="6"/>
                    </a:cubicBezTo>
                    <a:cubicBezTo>
                      <a:pt x="16681" y="5"/>
                      <a:pt x="16682" y="4"/>
                      <a:pt x="16683" y="4"/>
                    </a:cubicBezTo>
                    <a:close/>
                    <a:moveTo>
                      <a:pt x="16691" y="4"/>
                    </a:moveTo>
                    <a:lnTo>
                      <a:pt x="16691" y="4"/>
                    </a:lnTo>
                    <a:cubicBezTo>
                      <a:pt x="16692" y="4"/>
                      <a:pt x="16693" y="5"/>
                      <a:pt x="16693" y="6"/>
                    </a:cubicBezTo>
                    <a:cubicBezTo>
                      <a:pt x="16693" y="7"/>
                      <a:pt x="16692" y="8"/>
                      <a:pt x="16691" y="8"/>
                    </a:cubicBezTo>
                    <a:lnTo>
                      <a:pt x="16691" y="8"/>
                    </a:lnTo>
                    <a:cubicBezTo>
                      <a:pt x="16690" y="8"/>
                      <a:pt x="16689" y="7"/>
                      <a:pt x="16689" y="6"/>
                    </a:cubicBezTo>
                    <a:cubicBezTo>
                      <a:pt x="16689" y="5"/>
                      <a:pt x="16690" y="4"/>
                      <a:pt x="16691" y="4"/>
                    </a:cubicBezTo>
                    <a:close/>
                    <a:moveTo>
                      <a:pt x="16699" y="4"/>
                    </a:moveTo>
                    <a:lnTo>
                      <a:pt x="16699" y="4"/>
                    </a:lnTo>
                    <a:cubicBezTo>
                      <a:pt x="16700" y="4"/>
                      <a:pt x="16701" y="5"/>
                      <a:pt x="16701" y="6"/>
                    </a:cubicBezTo>
                    <a:cubicBezTo>
                      <a:pt x="16701" y="7"/>
                      <a:pt x="16700" y="8"/>
                      <a:pt x="16699" y="8"/>
                    </a:cubicBezTo>
                    <a:lnTo>
                      <a:pt x="16699" y="8"/>
                    </a:lnTo>
                    <a:cubicBezTo>
                      <a:pt x="16698" y="8"/>
                      <a:pt x="16697" y="7"/>
                      <a:pt x="16697" y="6"/>
                    </a:cubicBezTo>
                    <a:cubicBezTo>
                      <a:pt x="16697" y="5"/>
                      <a:pt x="16698" y="4"/>
                      <a:pt x="16699" y="4"/>
                    </a:cubicBezTo>
                    <a:close/>
                    <a:moveTo>
                      <a:pt x="16707" y="4"/>
                    </a:moveTo>
                    <a:lnTo>
                      <a:pt x="16707" y="4"/>
                    </a:lnTo>
                    <a:cubicBezTo>
                      <a:pt x="16708" y="4"/>
                      <a:pt x="16709" y="5"/>
                      <a:pt x="16709" y="6"/>
                    </a:cubicBezTo>
                    <a:cubicBezTo>
                      <a:pt x="16709" y="7"/>
                      <a:pt x="16708" y="8"/>
                      <a:pt x="16707" y="8"/>
                    </a:cubicBezTo>
                    <a:lnTo>
                      <a:pt x="16707" y="8"/>
                    </a:lnTo>
                    <a:cubicBezTo>
                      <a:pt x="16706" y="8"/>
                      <a:pt x="16705" y="7"/>
                      <a:pt x="16705" y="6"/>
                    </a:cubicBezTo>
                    <a:cubicBezTo>
                      <a:pt x="16705" y="5"/>
                      <a:pt x="16706" y="4"/>
                      <a:pt x="16707" y="4"/>
                    </a:cubicBezTo>
                    <a:close/>
                    <a:moveTo>
                      <a:pt x="16715" y="4"/>
                    </a:moveTo>
                    <a:lnTo>
                      <a:pt x="16715" y="4"/>
                    </a:lnTo>
                    <a:cubicBezTo>
                      <a:pt x="16716" y="4"/>
                      <a:pt x="16717" y="5"/>
                      <a:pt x="16717" y="6"/>
                    </a:cubicBezTo>
                    <a:cubicBezTo>
                      <a:pt x="16717" y="7"/>
                      <a:pt x="16716" y="8"/>
                      <a:pt x="16715" y="8"/>
                    </a:cubicBezTo>
                    <a:lnTo>
                      <a:pt x="16715" y="8"/>
                    </a:lnTo>
                    <a:cubicBezTo>
                      <a:pt x="16714" y="8"/>
                      <a:pt x="16713" y="7"/>
                      <a:pt x="16713" y="6"/>
                    </a:cubicBezTo>
                    <a:cubicBezTo>
                      <a:pt x="16713" y="5"/>
                      <a:pt x="16714" y="4"/>
                      <a:pt x="16715" y="4"/>
                    </a:cubicBezTo>
                    <a:close/>
                    <a:moveTo>
                      <a:pt x="16723" y="4"/>
                    </a:moveTo>
                    <a:lnTo>
                      <a:pt x="16723" y="4"/>
                    </a:lnTo>
                    <a:cubicBezTo>
                      <a:pt x="16724" y="4"/>
                      <a:pt x="16725" y="5"/>
                      <a:pt x="16725" y="6"/>
                    </a:cubicBezTo>
                    <a:cubicBezTo>
                      <a:pt x="16725" y="7"/>
                      <a:pt x="16724" y="8"/>
                      <a:pt x="16723" y="8"/>
                    </a:cubicBezTo>
                    <a:lnTo>
                      <a:pt x="16723" y="8"/>
                    </a:lnTo>
                    <a:cubicBezTo>
                      <a:pt x="16722" y="8"/>
                      <a:pt x="16721" y="7"/>
                      <a:pt x="16721" y="6"/>
                    </a:cubicBezTo>
                    <a:cubicBezTo>
                      <a:pt x="16721" y="5"/>
                      <a:pt x="16722" y="4"/>
                      <a:pt x="16723" y="4"/>
                    </a:cubicBezTo>
                    <a:close/>
                    <a:moveTo>
                      <a:pt x="16731" y="4"/>
                    </a:moveTo>
                    <a:lnTo>
                      <a:pt x="16731" y="4"/>
                    </a:lnTo>
                    <a:cubicBezTo>
                      <a:pt x="16732" y="4"/>
                      <a:pt x="16733" y="5"/>
                      <a:pt x="16733" y="6"/>
                    </a:cubicBezTo>
                    <a:cubicBezTo>
                      <a:pt x="16733" y="7"/>
                      <a:pt x="16732" y="8"/>
                      <a:pt x="16731" y="8"/>
                    </a:cubicBezTo>
                    <a:lnTo>
                      <a:pt x="16731" y="8"/>
                    </a:lnTo>
                    <a:cubicBezTo>
                      <a:pt x="16730" y="8"/>
                      <a:pt x="16729" y="7"/>
                      <a:pt x="16729" y="6"/>
                    </a:cubicBezTo>
                    <a:cubicBezTo>
                      <a:pt x="16729" y="5"/>
                      <a:pt x="16730" y="4"/>
                      <a:pt x="16731" y="4"/>
                    </a:cubicBezTo>
                    <a:close/>
                    <a:moveTo>
                      <a:pt x="16739" y="4"/>
                    </a:moveTo>
                    <a:lnTo>
                      <a:pt x="16739" y="4"/>
                    </a:lnTo>
                    <a:cubicBezTo>
                      <a:pt x="16740" y="4"/>
                      <a:pt x="16741" y="5"/>
                      <a:pt x="16741" y="6"/>
                    </a:cubicBezTo>
                    <a:cubicBezTo>
                      <a:pt x="16741" y="7"/>
                      <a:pt x="16740" y="8"/>
                      <a:pt x="16739" y="8"/>
                    </a:cubicBezTo>
                    <a:lnTo>
                      <a:pt x="16739" y="8"/>
                    </a:lnTo>
                    <a:cubicBezTo>
                      <a:pt x="16738" y="8"/>
                      <a:pt x="16737" y="7"/>
                      <a:pt x="16737" y="6"/>
                    </a:cubicBezTo>
                    <a:cubicBezTo>
                      <a:pt x="16737" y="5"/>
                      <a:pt x="16738" y="4"/>
                      <a:pt x="16739" y="4"/>
                    </a:cubicBezTo>
                    <a:close/>
                    <a:moveTo>
                      <a:pt x="16747" y="4"/>
                    </a:moveTo>
                    <a:lnTo>
                      <a:pt x="16747" y="4"/>
                    </a:lnTo>
                    <a:cubicBezTo>
                      <a:pt x="16748" y="4"/>
                      <a:pt x="16749" y="5"/>
                      <a:pt x="16749" y="6"/>
                    </a:cubicBezTo>
                    <a:cubicBezTo>
                      <a:pt x="16749" y="7"/>
                      <a:pt x="16748" y="8"/>
                      <a:pt x="16747" y="8"/>
                    </a:cubicBezTo>
                    <a:lnTo>
                      <a:pt x="16747" y="8"/>
                    </a:lnTo>
                    <a:cubicBezTo>
                      <a:pt x="16746" y="8"/>
                      <a:pt x="16745" y="7"/>
                      <a:pt x="16745" y="6"/>
                    </a:cubicBezTo>
                    <a:cubicBezTo>
                      <a:pt x="16745" y="5"/>
                      <a:pt x="16746" y="4"/>
                      <a:pt x="16747" y="4"/>
                    </a:cubicBezTo>
                    <a:close/>
                    <a:moveTo>
                      <a:pt x="16755" y="4"/>
                    </a:moveTo>
                    <a:lnTo>
                      <a:pt x="16755" y="4"/>
                    </a:lnTo>
                    <a:cubicBezTo>
                      <a:pt x="16756" y="4"/>
                      <a:pt x="16757" y="5"/>
                      <a:pt x="16757" y="6"/>
                    </a:cubicBezTo>
                    <a:cubicBezTo>
                      <a:pt x="16757" y="7"/>
                      <a:pt x="16756" y="8"/>
                      <a:pt x="16755" y="8"/>
                    </a:cubicBezTo>
                    <a:lnTo>
                      <a:pt x="16755" y="8"/>
                    </a:lnTo>
                    <a:cubicBezTo>
                      <a:pt x="16754" y="8"/>
                      <a:pt x="16753" y="7"/>
                      <a:pt x="16753" y="6"/>
                    </a:cubicBezTo>
                    <a:cubicBezTo>
                      <a:pt x="16753" y="5"/>
                      <a:pt x="16754" y="4"/>
                      <a:pt x="16755" y="4"/>
                    </a:cubicBezTo>
                    <a:close/>
                    <a:moveTo>
                      <a:pt x="16763" y="4"/>
                    </a:moveTo>
                    <a:lnTo>
                      <a:pt x="16763" y="4"/>
                    </a:lnTo>
                    <a:cubicBezTo>
                      <a:pt x="16764" y="4"/>
                      <a:pt x="16765" y="5"/>
                      <a:pt x="16765" y="6"/>
                    </a:cubicBezTo>
                    <a:cubicBezTo>
                      <a:pt x="16765" y="7"/>
                      <a:pt x="16764" y="8"/>
                      <a:pt x="16763" y="8"/>
                    </a:cubicBezTo>
                    <a:lnTo>
                      <a:pt x="16763" y="8"/>
                    </a:lnTo>
                    <a:cubicBezTo>
                      <a:pt x="16762" y="8"/>
                      <a:pt x="16761" y="7"/>
                      <a:pt x="16761" y="6"/>
                    </a:cubicBezTo>
                    <a:cubicBezTo>
                      <a:pt x="16761" y="5"/>
                      <a:pt x="16762" y="4"/>
                      <a:pt x="16763" y="4"/>
                    </a:cubicBezTo>
                    <a:close/>
                    <a:moveTo>
                      <a:pt x="16771" y="4"/>
                    </a:moveTo>
                    <a:lnTo>
                      <a:pt x="16771" y="4"/>
                    </a:lnTo>
                    <a:cubicBezTo>
                      <a:pt x="16772" y="4"/>
                      <a:pt x="16773" y="5"/>
                      <a:pt x="16773" y="6"/>
                    </a:cubicBezTo>
                    <a:cubicBezTo>
                      <a:pt x="16773" y="7"/>
                      <a:pt x="16772" y="8"/>
                      <a:pt x="16771" y="8"/>
                    </a:cubicBezTo>
                    <a:lnTo>
                      <a:pt x="16771" y="8"/>
                    </a:lnTo>
                    <a:cubicBezTo>
                      <a:pt x="16770" y="8"/>
                      <a:pt x="16769" y="7"/>
                      <a:pt x="16769" y="6"/>
                    </a:cubicBezTo>
                    <a:cubicBezTo>
                      <a:pt x="16769" y="5"/>
                      <a:pt x="16770" y="4"/>
                      <a:pt x="16771" y="4"/>
                    </a:cubicBezTo>
                    <a:close/>
                    <a:moveTo>
                      <a:pt x="16779" y="4"/>
                    </a:moveTo>
                    <a:lnTo>
                      <a:pt x="16779" y="4"/>
                    </a:lnTo>
                    <a:cubicBezTo>
                      <a:pt x="16780" y="4"/>
                      <a:pt x="16781" y="5"/>
                      <a:pt x="16781" y="6"/>
                    </a:cubicBezTo>
                    <a:cubicBezTo>
                      <a:pt x="16781" y="7"/>
                      <a:pt x="16780" y="8"/>
                      <a:pt x="16779" y="8"/>
                    </a:cubicBezTo>
                    <a:lnTo>
                      <a:pt x="16779" y="8"/>
                    </a:lnTo>
                    <a:cubicBezTo>
                      <a:pt x="16778" y="8"/>
                      <a:pt x="16777" y="7"/>
                      <a:pt x="16777" y="6"/>
                    </a:cubicBezTo>
                    <a:cubicBezTo>
                      <a:pt x="16777" y="5"/>
                      <a:pt x="16778" y="4"/>
                      <a:pt x="16779" y="4"/>
                    </a:cubicBezTo>
                    <a:close/>
                    <a:moveTo>
                      <a:pt x="16787" y="4"/>
                    </a:moveTo>
                    <a:lnTo>
                      <a:pt x="16787" y="4"/>
                    </a:lnTo>
                    <a:cubicBezTo>
                      <a:pt x="16788" y="4"/>
                      <a:pt x="16789" y="5"/>
                      <a:pt x="16789" y="6"/>
                    </a:cubicBezTo>
                    <a:cubicBezTo>
                      <a:pt x="16789" y="7"/>
                      <a:pt x="16788" y="8"/>
                      <a:pt x="16787" y="8"/>
                    </a:cubicBezTo>
                    <a:lnTo>
                      <a:pt x="16787" y="8"/>
                    </a:lnTo>
                    <a:cubicBezTo>
                      <a:pt x="16786" y="8"/>
                      <a:pt x="16785" y="7"/>
                      <a:pt x="16785" y="6"/>
                    </a:cubicBezTo>
                    <a:cubicBezTo>
                      <a:pt x="16785" y="5"/>
                      <a:pt x="16786" y="4"/>
                      <a:pt x="16787" y="4"/>
                    </a:cubicBezTo>
                    <a:close/>
                    <a:moveTo>
                      <a:pt x="16795" y="4"/>
                    </a:moveTo>
                    <a:lnTo>
                      <a:pt x="16795" y="4"/>
                    </a:lnTo>
                    <a:cubicBezTo>
                      <a:pt x="16796" y="4"/>
                      <a:pt x="16797" y="5"/>
                      <a:pt x="16797" y="6"/>
                    </a:cubicBezTo>
                    <a:cubicBezTo>
                      <a:pt x="16797" y="7"/>
                      <a:pt x="16796" y="8"/>
                      <a:pt x="16795" y="8"/>
                    </a:cubicBezTo>
                    <a:lnTo>
                      <a:pt x="16795" y="8"/>
                    </a:lnTo>
                    <a:cubicBezTo>
                      <a:pt x="16794" y="8"/>
                      <a:pt x="16793" y="7"/>
                      <a:pt x="16793" y="6"/>
                    </a:cubicBezTo>
                    <a:cubicBezTo>
                      <a:pt x="16793" y="5"/>
                      <a:pt x="16794" y="4"/>
                      <a:pt x="16795" y="4"/>
                    </a:cubicBezTo>
                    <a:close/>
                    <a:moveTo>
                      <a:pt x="16803" y="4"/>
                    </a:moveTo>
                    <a:lnTo>
                      <a:pt x="16803" y="4"/>
                    </a:lnTo>
                    <a:cubicBezTo>
                      <a:pt x="16804" y="4"/>
                      <a:pt x="16805" y="5"/>
                      <a:pt x="16805" y="6"/>
                    </a:cubicBezTo>
                    <a:cubicBezTo>
                      <a:pt x="16805" y="7"/>
                      <a:pt x="16804" y="8"/>
                      <a:pt x="16803" y="8"/>
                    </a:cubicBezTo>
                    <a:lnTo>
                      <a:pt x="16803" y="8"/>
                    </a:lnTo>
                    <a:cubicBezTo>
                      <a:pt x="16802" y="8"/>
                      <a:pt x="16801" y="7"/>
                      <a:pt x="16801" y="6"/>
                    </a:cubicBezTo>
                    <a:cubicBezTo>
                      <a:pt x="16801" y="5"/>
                      <a:pt x="16802" y="4"/>
                      <a:pt x="16803" y="4"/>
                    </a:cubicBezTo>
                    <a:close/>
                    <a:moveTo>
                      <a:pt x="16811" y="4"/>
                    </a:moveTo>
                    <a:lnTo>
                      <a:pt x="16811" y="4"/>
                    </a:lnTo>
                    <a:cubicBezTo>
                      <a:pt x="16812" y="4"/>
                      <a:pt x="16813" y="5"/>
                      <a:pt x="16813" y="6"/>
                    </a:cubicBezTo>
                    <a:cubicBezTo>
                      <a:pt x="16813" y="7"/>
                      <a:pt x="16812" y="8"/>
                      <a:pt x="16811" y="8"/>
                    </a:cubicBezTo>
                    <a:lnTo>
                      <a:pt x="16811" y="8"/>
                    </a:lnTo>
                    <a:cubicBezTo>
                      <a:pt x="16810" y="8"/>
                      <a:pt x="16809" y="7"/>
                      <a:pt x="16809" y="6"/>
                    </a:cubicBezTo>
                    <a:cubicBezTo>
                      <a:pt x="16809" y="5"/>
                      <a:pt x="16810" y="4"/>
                      <a:pt x="16811" y="4"/>
                    </a:cubicBezTo>
                    <a:close/>
                    <a:moveTo>
                      <a:pt x="16819" y="4"/>
                    </a:moveTo>
                    <a:lnTo>
                      <a:pt x="16819" y="4"/>
                    </a:lnTo>
                    <a:cubicBezTo>
                      <a:pt x="16820" y="4"/>
                      <a:pt x="16821" y="5"/>
                      <a:pt x="16821" y="6"/>
                    </a:cubicBezTo>
                    <a:cubicBezTo>
                      <a:pt x="16821" y="7"/>
                      <a:pt x="16820" y="8"/>
                      <a:pt x="16819" y="8"/>
                    </a:cubicBezTo>
                    <a:lnTo>
                      <a:pt x="16819" y="8"/>
                    </a:lnTo>
                    <a:cubicBezTo>
                      <a:pt x="16818" y="8"/>
                      <a:pt x="16817" y="7"/>
                      <a:pt x="16817" y="6"/>
                    </a:cubicBezTo>
                    <a:cubicBezTo>
                      <a:pt x="16817" y="5"/>
                      <a:pt x="16818" y="4"/>
                      <a:pt x="16819" y="4"/>
                    </a:cubicBezTo>
                    <a:close/>
                    <a:moveTo>
                      <a:pt x="16827" y="4"/>
                    </a:moveTo>
                    <a:lnTo>
                      <a:pt x="16827" y="4"/>
                    </a:lnTo>
                    <a:cubicBezTo>
                      <a:pt x="16828" y="4"/>
                      <a:pt x="16829" y="5"/>
                      <a:pt x="16829" y="6"/>
                    </a:cubicBezTo>
                    <a:cubicBezTo>
                      <a:pt x="16829" y="7"/>
                      <a:pt x="16828" y="8"/>
                      <a:pt x="16827" y="8"/>
                    </a:cubicBezTo>
                    <a:lnTo>
                      <a:pt x="16827" y="8"/>
                    </a:lnTo>
                    <a:cubicBezTo>
                      <a:pt x="16826" y="8"/>
                      <a:pt x="16825" y="7"/>
                      <a:pt x="16825" y="6"/>
                    </a:cubicBezTo>
                    <a:cubicBezTo>
                      <a:pt x="16825" y="5"/>
                      <a:pt x="16826" y="4"/>
                      <a:pt x="16827" y="4"/>
                    </a:cubicBezTo>
                    <a:close/>
                    <a:moveTo>
                      <a:pt x="16835" y="4"/>
                    </a:moveTo>
                    <a:lnTo>
                      <a:pt x="16835" y="4"/>
                    </a:lnTo>
                    <a:cubicBezTo>
                      <a:pt x="16836" y="4"/>
                      <a:pt x="16837" y="5"/>
                      <a:pt x="16837" y="6"/>
                    </a:cubicBezTo>
                    <a:cubicBezTo>
                      <a:pt x="16837" y="7"/>
                      <a:pt x="16836" y="8"/>
                      <a:pt x="16835" y="8"/>
                    </a:cubicBezTo>
                    <a:lnTo>
                      <a:pt x="16835" y="8"/>
                    </a:lnTo>
                    <a:cubicBezTo>
                      <a:pt x="16834" y="8"/>
                      <a:pt x="16833" y="7"/>
                      <a:pt x="16833" y="6"/>
                    </a:cubicBezTo>
                    <a:cubicBezTo>
                      <a:pt x="16833" y="5"/>
                      <a:pt x="16834" y="4"/>
                      <a:pt x="16835" y="4"/>
                    </a:cubicBezTo>
                    <a:close/>
                    <a:moveTo>
                      <a:pt x="16843" y="4"/>
                    </a:moveTo>
                    <a:lnTo>
                      <a:pt x="16843" y="4"/>
                    </a:lnTo>
                    <a:cubicBezTo>
                      <a:pt x="16844" y="4"/>
                      <a:pt x="16845" y="5"/>
                      <a:pt x="16845" y="6"/>
                    </a:cubicBezTo>
                    <a:cubicBezTo>
                      <a:pt x="16845" y="7"/>
                      <a:pt x="16844" y="8"/>
                      <a:pt x="16843" y="8"/>
                    </a:cubicBezTo>
                    <a:lnTo>
                      <a:pt x="16843" y="8"/>
                    </a:lnTo>
                    <a:cubicBezTo>
                      <a:pt x="16842" y="8"/>
                      <a:pt x="16841" y="7"/>
                      <a:pt x="16841" y="6"/>
                    </a:cubicBezTo>
                    <a:cubicBezTo>
                      <a:pt x="16841" y="5"/>
                      <a:pt x="16842" y="4"/>
                      <a:pt x="16843" y="4"/>
                    </a:cubicBezTo>
                    <a:close/>
                    <a:moveTo>
                      <a:pt x="16851" y="4"/>
                    </a:moveTo>
                    <a:lnTo>
                      <a:pt x="16851" y="4"/>
                    </a:lnTo>
                    <a:cubicBezTo>
                      <a:pt x="16852" y="4"/>
                      <a:pt x="16853" y="5"/>
                      <a:pt x="16853" y="6"/>
                    </a:cubicBezTo>
                    <a:cubicBezTo>
                      <a:pt x="16853" y="7"/>
                      <a:pt x="16852" y="8"/>
                      <a:pt x="16851" y="8"/>
                    </a:cubicBezTo>
                    <a:lnTo>
                      <a:pt x="16851" y="8"/>
                    </a:lnTo>
                    <a:cubicBezTo>
                      <a:pt x="16850" y="8"/>
                      <a:pt x="16849" y="7"/>
                      <a:pt x="16849" y="6"/>
                    </a:cubicBezTo>
                    <a:cubicBezTo>
                      <a:pt x="16849" y="5"/>
                      <a:pt x="16850" y="4"/>
                      <a:pt x="16851" y="4"/>
                    </a:cubicBezTo>
                    <a:close/>
                    <a:moveTo>
                      <a:pt x="16859" y="4"/>
                    </a:moveTo>
                    <a:lnTo>
                      <a:pt x="16859" y="4"/>
                    </a:lnTo>
                    <a:cubicBezTo>
                      <a:pt x="16860" y="4"/>
                      <a:pt x="16861" y="5"/>
                      <a:pt x="16861" y="6"/>
                    </a:cubicBezTo>
                    <a:cubicBezTo>
                      <a:pt x="16861" y="7"/>
                      <a:pt x="16860" y="8"/>
                      <a:pt x="16859" y="8"/>
                    </a:cubicBezTo>
                    <a:lnTo>
                      <a:pt x="16859" y="8"/>
                    </a:lnTo>
                    <a:cubicBezTo>
                      <a:pt x="16858" y="8"/>
                      <a:pt x="16857" y="7"/>
                      <a:pt x="16857" y="6"/>
                    </a:cubicBezTo>
                    <a:cubicBezTo>
                      <a:pt x="16857" y="5"/>
                      <a:pt x="16858" y="4"/>
                      <a:pt x="16859" y="4"/>
                    </a:cubicBezTo>
                    <a:close/>
                    <a:moveTo>
                      <a:pt x="16867" y="4"/>
                    </a:moveTo>
                    <a:lnTo>
                      <a:pt x="16867" y="4"/>
                    </a:lnTo>
                    <a:cubicBezTo>
                      <a:pt x="16868" y="4"/>
                      <a:pt x="16869" y="5"/>
                      <a:pt x="16869" y="6"/>
                    </a:cubicBezTo>
                    <a:cubicBezTo>
                      <a:pt x="16869" y="7"/>
                      <a:pt x="16868" y="8"/>
                      <a:pt x="16867" y="8"/>
                    </a:cubicBezTo>
                    <a:lnTo>
                      <a:pt x="16867" y="8"/>
                    </a:lnTo>
                    <a:cubicBezTo>
                      <a:pt x="16866" y="8"/>
                      <a:pt x="16865" y="7"/>
                      <a:pt x="16865" y="6"/>
                    </a:cubicBezTo>
                    <a:cubicBezTo>
                      <a:pt x="16865" y="5"/>
                      <a:pt x="16866" y="4"/>
                      <a:pt x="16867" y="4"/>
                    </a:cubicBezTo>
                    <a:close/>
                    <a:moveTo>
                      <a:pt x="16875" y="4"/>
                    </a:moveTo>
                    <a:lnTo>
                      <a:pt x="16875" y="4"/>
                    </a:lnTo>
                    <a:cubicBezTo>
                      <a:pt x="16876" y="4"/>
                      <a:pt x="16877" y="5"/>
                      <a:pt x="16877" y="6"/>
                    </a:cubicBezTo>
                    <a:cubicBezTo>
                      <a:pt x="16877" y="7"/>
                      <a:pt x="16876" y="8"/>
                      <a:pt x="16875" y="8"/>
                    </a:cubicBezTo>
                    <a:lnTo>
                      <a:pt x="16875" y="8"/>
                    </a:lnTo>
                    <a:cubicBezTo>
                      <a:pt x="16874" y="8"/>
                      <a:pt x="16873" y="7"/>
                      <a:pt x="16873" y="6"/>
                    </a:cubicBezTo>
                    <a:cubicBezTo>
                      <a:pt x="16873" y="5"/>
                      <a:pt x="16874" y="4"/>
                      <a:pt x="16875" y="4"/>
                    </a:cubicBezTo>
                    <a:close/>
                    <a:moveTo>
                      <a:pt x="16883" y="4"/>
                    </a:moveTo>
                    <a:lnTo>
                      <a:pt x="16883" y="4"/>
                    </a:lnTo>
                    <a:cubicBezTo>
                      <a:pt x="16884" y="4"/>
                      <a:pt x="16885" y="5"/>
                      <a:pt x="16885" y="6"/>
                    </a:cubicBezTo>
                    <a:cubicBezTo>
                      <a:pt x="16885" y="7"/>
                      <a:pt x="16884" y="8"/>
                      <a:pt x="16883" y="8"/>
                    </a:cubicBezTo>
                    <a:lnTo>
                      <a:pt x="16883" y="8"/>
                    </a:lnTo>
                    <a:cubicBezTo>
                      <a:pt x="16882" y="8"/>
                      <a:pt x="16881" y="7"/>
                      <a:pt x="16881" y="6"/>
                    </a:cubicBezTo>
                    <a:cubicBezTo>
                      <a:pt x="16881" y="5"/>
                      <a:pt x="16882" y="4"/>
                      <a:pt x="16883" y="4"/>
                    </a:cubicBezTo>
                    <a:close/>
                    <a:moveTo>
                      <a:pt x="16891" y="4"/>
                    </a:moveTo>
                    <a:lnTo>
                      <a:pt x="16891" y="4"/>
                    </a:lnTo>
                    <a:cubicBezTo>
                      <a:pt x="16892" y="4"/>
                      <a:pt x="16893" y="5"/>
                      <a:pt x="16893" y="6"/>
                    </a:cubicBezTo>
                    <a:cubicBezTo>
                      <a:pt x="16893" y="7"/>
                      <a:pt x="16892" y="8"/>
                      <a:pt x="16891" y="8"/>
                    </a:cubicBezTo>
                    <a:lnTo>
                      <a:pt x="16891" y="8"/>
                    </a:lnTo>
                    <a:cubicBezTo>
                      <a:pt x="16890" y="8"/>
                      <a:pt x="16889" y="7"/>
                      <a:pt x="16889" y="6"/>
                    </a:cubicBezTo>
                    <a:cubicBezTo>
                      <a:pt x="16889" y="5"/>
                      <a:pt x="16890" y="4"/>
                      <a:pt x="16891" y="4"/>
                    </a:cubicBezTo>
                    <a:close/>
                    <a:moveTo>
                      <a:pt x="16899" y="4"/>
                    </a:moveTo>
                    <a:lnTo>
                      <a:pt x="16899" y="4"/>
                    </a:lnTo>
                    <a:cubicBezTo>
                      <a:pt x="16901" y="4"/>
                      <a:pt x="16901" y="5"/>
                      <a:pt x="16901" y="6"/>
                    </a:cubicBezTo>
                    <a:cubicBezTo>
                      <a:pt x="16901" y="7"/>
                      <a:pt x="16901" y="8"/>
                      <a:pt x="16899" y="8"/>
                    </a:cubicBezTo>
                    <a:lnTo>
                      <a:pt x="16899" y="8"/>
                    </a:lnTo>
                    <a:cubicBezTo>
                      <a:pt x="16898" y="8"/>
                      <a:pt x="16897" y="7"/>
                      <a:pt x="16897" y="6"/>
                    </a:cubicBezTo>
                    <a:cubicBezTo>
                      <a:pt x="16897" y="5"/>
                      <a:pt x="16898" y="4"/>
                      <a:pt x="16899" y="4"/>
                    </a:cubicBezTo>
                    <a:close/>
                    <a:moveTo>
                      <a:pt x="16907" y="4"/>
                    </a:moveTo>
                    <a:lnTo>
                      <a:pt x="16907" y="4"/>
                    </a:lnTo>
                    <a:cubicBezTo>
                      <a:pt x="16909" y="4"/>
                      <a:pt x="16909" y="5"/>
                      <a:pt x="16909" y="6"/>
                    </a:cubicBezTo>
                    <a:cubicBezTo>
                      <a:pt x="16909" y="7"/>
                      <a:pt x="16909" y="8"/>
                      <a:pt x="16907" y="8"/>
                    </a:cubicBezTo>
                    <a:lnTo>
                      <a:pt x="16907" y="8"/>
                    </a:lnTo>
                    <a:cubicBezTo>
                      <a:pt x="16906" y="8"/>
                      <a:pt x="16905" y="7"/>
                      <a:pt x="16905" y="6"/>
                    </a:cubicBezTo>
                    <a:cubicBezTo>
                      <a:pt x="16905" y="5"/>
                      <a:pt x="16906" y="4"/>
                      <a:pt x="16907" y="4"/>
                    </a:cubicBezTo>
                    <a:close/>
                    <a:moveTo>
                      <a:pt x="16915" y="4"/>
                    </a:moveTo>
                    <a:lnTo>
                      <a:pt x="16915" y="4"/>
                    </a:lnTo>
                    <a:cubicBezTo>
                      <a:pt x="16917" y="4"/>
                      <a:pt x="16917" y="5"/>
                      <a:pt x="16917" y="6"/>
                    </a:cubicBezTo>
                    <a:cubicBezTo>
                      <a:pt x="16917" y="7"/>
                      <a:pt x="16917" y="8"/>
                      <a:pt x="16915" y="8"/>
                    </a:cubicBezTo>
                    <a:lnTo>
                      <a:pt x="16915" y="8"/>
                    </a:lnTo>
                    <a:cubicBezTo>
                      <a:pt x="16914" y="8"/>
                      <a:pt x="16913" y="7"/>
                      <a:pt x="16913" y="6"/>
                    </a:cubicBezTo>
                    <a:cubicBezTo>
                      <a:pt x="16913" y="5"/>
                      <a:pt x="16914" y="4"/>
                      <a:pt x="16915" y="4"/>
                    </a:cubicBezTo>
                    <a:close/>
                    <a:moveTo>
                      <a:pt x="16923" y="4"/>
                    </a:moveTo>
                    <a:lnTo>
                      <a:pt x="16923" y="4"/>
                    </a:lnTo>
                    <a:cubicBezTo>
                      <a:pt x="16925" y="4"/>
                      <a:pt x="16925" y="5"/>
                      <a:pt x="16925" y="6"/>
                    </a:cubicBezTo>
                    <a:cubicBezTo>
                      <a:pt x="16925" y="7"/>
                      <a:pt x="16925" y="8"/>
                      <a:pt x="16923" y="8"/>
                    </a:cubicBezTo>
                    <a:lnTo>
                      <a:pt x="16923" y="8"/>
                    </a:lnTo>
                    <a:cubicBezTo>
                      <a:pt x="16922" y="8"/>
                      <a:pt x="16921" y="7"/>
                      <a:pt x="16921" y="6"/>
                    </a:cubicBezTo>
                    <a:cubicBezTo>
                      <a:pt x="16921" y="5"/>
                      <a:pt x="16922" y="4"/>
                      <a:pt x="16923" y="4"/>
                    </a:cubicBezTo>
                    <a:close/>
                    <a:moveTo>
                      <a:pt x="16931" y="4"/>
                    </a:moveTo>
                    <a:lnTo>
                      <a:pt x="16931" y="4"/>
                    </a:lnTo>
                    <a:cubicBezTo>
                      <a:pt x="16933" y="4"/>
                      <a:pt x="16933" y="5"/>
                      <a:pt x="16933" y="6"/>
                    </a:cubicBezTo>
                    <a:cubicBezTo>
                      <a:pt x="16933" y="7"/>
                      <a:pt x="16933" y="8"/>
                      <a:pt x="16931" y="8"/>
                    </a:cubicBezTo>
                    <a:lnTo>
                      <a:pt x="16931" y="8"/>
                    </a:lnTo>
                    <a:cubicBezTo>
                      <a:pt x="16930" y="8"/>
                      <a:pt x="16929" y="7"/>
                      <a:pt x="16929" y="6"/>
                    </a:cubicBezTo>
                    <a:cubicBezTo>
                      <a:pt x="16929" y="5"/>
                      <a:pt x="16930" y="4"/>
                      <a:pt x="16931" y="4"/>
                    </a:cubicBezTo>
                    <a:close/>
                    <a:moveTo>
                      <a:pt x="16939" y="4"/>
                    </a:moveTo>
                    <a:lnTo>
                      <a:pt x="16939" y="4"/>
                    </a:lnTo>
                    <a:cubicBezTo>
                      <a:pt x="16941" y="4"/>
                      <a:pt x="16941" y="5"/>
                      <a:pt x="16941" y="6"/>
                    </a:cubicBezTo>
                    <a:cubicBezTo>
                      <a:pt x="16941" y="7"/>
                      <a:pt x="16941" y="8"/>
                      <a:pt x="16939" y="8"/>
                    </a:cubicBezTo>
                    <a:lnTo>
                      <a:pt x="16939" y="8"/>
                    </a:lnTo>
                    <a:cubicBezTo>
                      <a:pt x="16938" y="8"/>
                      <a:pt x="16937" y="7"/>
                      <a:pt x="16937" y="6"/>
                    </a:cubicBezTo>
                    <a:cubicBezTo>
                      <a:pt x="16937" y="5"/>
                      <a:pt x="16938" y="4"/>
                      <a:pt x="16939" y="4"/>
                    </a:cubicBezTo>
                    <a:close/>
                    <a:moveTo>
                      <a:pt x="16947" y="4"/>
                    </a:moveTo>
                    <a:lnTo>
                      <a:pt x="16947" y="4"/>
                    </a:lnTo>
                    <a:cubicBezTo>
                      <a:pt x="16949" y="4"/>
                      <a:pt x="16949" y="5"/>
                      <a:pt x="16949" y="6"/>
                    </a:cubicBezTo>
                    <a:cubicBezTo>
                      <a:pt x="16949" y="7"/>
                      <a:pt x="16949" y="8"/>
                      <a:pt x="16947" y="8"/>
                    </a:cubicBezTo>
                    <a:lnTo>
                      <a:pt x="16947" y="8"/>
                    </a:lnTo>
                    <a:cubicBezTo>
                      <a:pt x="16946" y="8"/>
                      <a:pt x="16945" y="7"/>
                      <a:pt x="16945" y="6"/>
                    </a:cubicBezTo>
                    <a:cubicBezTo>
                      <a:pt x="16945" y="5"/>
                      <a:pt x="16946" y="4"/>
                      <a:pt x="16947" y="4"/>
                    </a:cubicBezTo>
                    <a:close/>
                    <a:moveTo>
                      <a:pt x="16955" y="4"/>
                    </a:moveTo>
                    <a:lnTo>
                      <a:pt x="16955" y="4"/>
                    </a:lnTo>
                    <a:cubicBezTo>
                      <a:pt x="16957" y="4"/>
                      <a:pt x="16957" y="5"/>
                      <a:pt x="16957" y="6"/>
                    </a:cubicBezTo>
                    <a:cubicBezTo>
                      <a:pt x="16957" y="7"/>
                      <a:pt x="16957" y="8"/>
                      <a:pt x="16955" y="8"/>
                    </a:cubicBezTo>
                    <a:lnTo>
                      <a:pt x="16955" y="8"/>
                    </a:lnTo>
                    <a:cubicBezTo>
                      <a:pt x="16954" y="8"/>
                      <a:pt x="16953" y="7"/>
                      <a:pt x="16953" y="6"/>
                    </a:cubicBezTo>
                    <a:cubicBezTo>
                      <a:pt x="16953" y="5"/>
                      <a:pt x="16954" y="4"/>
                      <a:pt x="16955" y="4"/>
                    </a:cubicBezTo>
                    <a:close/>
                    <a:moveTo>
                      <a:pt x="16963" y="4"/>
                    </a:moveTo>
                    <a:lnTo>
                      <a:pt x="16963" y="4"/>
                    </a:lnTo>
                    <a:cubicBezTo>
                      <a:pt x="16965" y="4"/>
                      <a:pt x="16965" y="5"/>
                      <a:pt x="16965" y="6"/>
                    </a:cubicBezTo>
                    <a:cubicBezTo>
                      <a:pt x="16965" y="7"/>
                      <a:pt x="16965" y="8"/>
                      <a:pt x="16963" y="8"/>
                    </a:cubicBezTo>
                    <a:lnTo>
                      <a:pt x="16963" y="8"/>
                    </a:lnTo>
                    <a:cubicBezTo>
                      <a:pt x="16962" y="8"/>
                      <a:pt x="16961" y="7"/>
                      <a:pt x="16961" y="6"/>
                    </a:cubicBezTo>
                    <a:cubicBezTo>
                      <a:pt x="16961" y="5"/>
                      <a:pt x="16962" y="4"/>
                      <a:pt x="16963" y="4"/>
                    </a:cubicBezTo>
                    <a:close/>
                    <a:moveTo>
                      <a:pt x="16971" y="4"/>
                    </a:moveTo>
                    <a:lnTo>
                      <a:pt x="16971" y="4"/>
                    </a:lnTo>
                    <a:cubicBezTo>
                      <a:pt x="16973" y="4"/>
                      <a:pt x="16973" y="5"/>
                      <a:pt x="16973" y="6"/>
                    </a:cubicBezTo>
                    <a:cubicBezTo>
                      <a:pt x="16973" y="7"/>
                      <a:pt x="16973" y="8"/>
                      <a:pt x="16971" y="8"/>
                    </a:cubicBezTo>
                    <a:lnTo>
                      <a:pt x="16971" y="8"/>
                    </a:lnTo>
                    <a:cubicBezTo>
                      <a:pt x="16970" y="8"/>
                      <a:pt x="16969" y="7"/>
                      <a:pt x="16969" y="6"/>
                    </a:cubicBezTo>
                    <a:cubicBezTo>
                      <a:pt x="16969" y="5"/>
                      <a:pt x="16970" y="4"/>
                      <a:pt x="16971" y="4"/>
                    </a:cubicBezTo>
                    <a:close/>
                    <a:moveTo>
                      <a:pt x="16979" y="4"/>
                    </a:moveTo>
                    <a:lnTo>
                      <a:pt x="16979" y="4"/>
                    </a:lnTo>
                    <a:cubicBezTo>
                      <a:pt x="16981" y="4"/>
                      <a:pt x="16981" y="5"/>
                      <a:pt x="16981" y="6"/>
                    </a:cubicBezTo>
                    <a:cubicBezTo>
                      <a:pt x="16981" y="7"/>
                      <a:pt x="16981" y="8"/>
                      <a:pt x="16979" y="8"/>
                    </a:cubicBezTo>
                    <a:lnTo>
                      <a:pt x="16979" y="8"/>
                    </a:lnTo>
                    <a:cubicBezTo>
                      <a:pt x="16978" y="8"/>
                      <a:pt x="16977" y="7"/>
                      <a:pt x="16977" y="6"/>
                    </a:cubicBezTo>
                    <a:cubicBezTo>
                      <a:pt x="16977" y="5"/>
                      <a:pt x="16978" y="4"/>
                      <a:pt x="16979" y="4"/>
                    </a:cubicBezTo>
                    <a:close/>
                    <a:moveTo>
                      <a:pt x="16987" y="4"/>
                    </a:moveTo>
                    <a:lnTo>
                      <a:pt x="16987" y="4"/>
                    </a:lnTo>
                    <a:cubicBezTo>
                      <a:pt x="16989" y="4"/>
                      <a:pt x="16989" y="5"/>
                      <a:pt x="16989" y="6"/>
                    </a:cubicBezTo>
                    <a:cubicBezTo>
                      <a:pt x="16989" y="7"/>
                      <a:pt x="16989" y="8"/>
                      <a:pt x="16987" y="8"/>
                    </a:cubicBezTo>
                    <a:lnTo>
                      <a:pt x="16987" y="8"/>
                    </a:lnTo>
                    <a:cubicBezTo>
                      <a:pt x="16986" y="8"/>
                      <a:pt x="16985" y="7"/>
                      <a:pt x="16985" y="6"/>
                    </a:cubicBezTo>
                    <a:cubicBezTo>
                      <a:pt x="16985" y="5"/>
                      <a:pt x="16986" y="4"/>
                      <a:pt x="16987" y="4"/>
                    </a:cubicBezTo>
                    <a:close/>
                    <a:moveTo>
                      <a:pt x="16995" y="4"/>
                    </a:moveTo>
                    <a:lnTo>
                      <a:pt x="16995" y="4"/>
                    </a:lnTo>
                    <a:cubicBezTo>
                      <a:pt x="16997" y="4"/>
                      <a:pt x="16997" y="5"/>
                      <a:pt x="16997" y="6"/>
                    </a:cubicBezTo>
                    <a:cubicBezTo>
                      <a:pt x="16997" y="7"/>
                      <a:pt x="16997" y="8"/>
                      <a:pt x="16995" y="8"/>
                    </a:cubicBezTo>
                    <a:lnTo>
                      <a:pt x="16995" y="8"/>
                    </a:lnTo>
                    <a:cubicBezTo>
                      <a:pt x="16994" y="8"/>
                      <a:pt x="16993" y="7"/>
                      <a:pt x="16993" y="6"/>
                    </a:cubicBezTo>
                    <a:cubicBezTo>
                      <a:pt x="16993" y="5"/>
                      <a:pt x="16994" y="4"/>
                      <a:pt x="16995" y="4"/>
                    </a:cubicBezTo>
                    <a:close/>
                    <a:moveTo>
                      <a:pt x="17003" y="4"/>
                    </a:moveTo>
                    <a:lnTo>
                      <a:pt x="17003" y="4"/>
                    </a:lnTo>
                    <a:cubicBezTo>
                      <a:pt x="17005" y="4"/>
                      <a:pt x="17005" y="5"/>
                      <a:pt x="17005" y="6"/>
                    </a:cubicBezTo>
                    <a:cubicBezTo>
                      <a:pt x="17005" y="7"/>
                      <a:pt x="17005" y="8"/>
                      <a:pt x="17003" y="8"/>
                    </a:cubicBezTo>
                    <a:lnTo>
                      <a:pt x="17003" y="8"/>
                    </a:lnTo>
                    <a:cubicBezTo>
                      <a:pt x="17002" y="8"/>
                      <a:pt x="17001" y="7"/>
                      <a:pt x="17001" y="6"/>
                    </a:cubicBezTo>
                    <a:cubicBezTo>
                      <a:pt x="17001" y="5"/>
                      <a:pt x="17002" y="4"/>
                      <a:pt x="17003" y="4"/>
                    </a:cubicBezTo>
                    <a:close/>
                    <a:moveTo>
                      <a:pt x="17011" y="4"/>
                    </a:moveTo>
                    <a:lnTo>
                      <a:pt x="17011" y="4"/>
                    </a:lnTo>
                    <a:cubicBezTo>
                      <a:pt x="17013" y="4"/>
                      <a:pt x="17013" y="5"/>
                      <a:pt x="17013" y="6"/>
                    </a:cubicBezTo>
                    <a:cubicBezTo>
                      <a:pt x="17013" y="7"/>
                      <a:pt x="17013" y="8"/>
                      <a:pt x="17011" y="8"/>
                    </a:cubicBezTo>
                    <a:lnTo>
                      <a:pt x="17011" y="8"/>
                    </a:lnTo>
                    <a:cubicBezTo>
                      <a:pt x="17010" y="8"/>
                      <a:pt x="17009" y="7"/>
                      <a:pt x="17009" y="6"/>
                    </a:cubicBezTo>
                    <a:cubicBezTo>
                      <a:pt x="17009" y="5"/>
                      <a:pt x="17010" y="4"/>
                      <a:pt x="17011" y="4"/>
                    </a:cubicBezTo>
                    <a:close/>
                    <a:moveTo>
                      <a:pt x="17019" y="4"/>
                    </a:moveTo>
                    <a:lnTo>
                      <a:pt x="17019" y="4"/>
                    </a:lnTo>
                    <a:cubicBezTo>
                      <a:pt x="17021" y="4"/>
                      <a:pt x="17021" y="5"/>
                      <a:pt x="17021" y="6"/>
                    </a:cubicBezTo>
                    <a:cubicBezTo>
                      <a:pt x="17021" y="7"/>
                      <a:pt x="17021" y="8"/>
                      <a:pt x="17019" y="8"/>
                    </a:cubicBezTo>
                    <a:lnTo>
                      <a:pt x="17019" y="8"/>
                    </a:lnTo>
                    <a:cubicBezTo>
                      <a:pt x="17018" y="8"/>
                      <a:pt x="17017" y="7"/>
                      <a:pt x="17017" y="6"/>
                    </a:cubicBezTo>
                    <a:cubicBezTo>
                      <a:pt x="17017" y="5"/>
                      <a:pt x="17018" y="4"/>
                      <a:pt x="17019" y="4"/>
                    </a:cubicBezTo>
                    <a:close/>
                    <a:moveTo>
                      <a:pt x="17027" y="4"/>
                    </a:moveTo>
                    <a:lnTo>
                      <a:pt x="17027" y="4"/>
                    </a:lnTo>
                    <a:cubicBezTo>
                      <a:pt x="17029" y="4"/>
                      <a:pt x="17029" y="5"/>
                      <a:pt x="17029" y="6"/>
                    </a:cubicBezTo>
                    <a:cubicBezTo>
                      <a:pt x="17029" y="7"/>
                      <a:pt x="17029" y="8"/>
                      <a:pt x="17027" y="8"/>
                    </a:cubicBezTo>
                    <a:lnTo>
                      <a:pt x="17027" y="8"/>
                    </a:lnTo>
                    <a:cubicBezTo>
                      <a:pt x="17026" y="8"/>
                      <a:pt x="17025" y="7"/>
                      <a:pt x="17025" y="6"/>
                    </a:cubicBezTo>
                    <a:cubicBezTo>
                      <a:pt x="17025" y="5"/>
                      <a:pt x="17026" y="4"/>
                      <a:pt x="17027" y="4"/>
                    </a:cubicBezTo>
                    <a:close/>
                    <a:moveTo>
                      <a:pt x="17035" y="4"/>
                    </a:moveTo>
                    <a:lnTo>
                      <a:pt x="17035" y="4"/>
                    </a:lnTo>
                    <a:cubicBezTo>
                      <a:pt x="17037" y="4"/>
                      <a:pt x="17037" y="5"/>
                      <a:pt x="17037" y="6"/>
                    </a:cubicBezTo>
                    <a:cubicBezTo>
                      <a:pt x="17037" y="7"/>
                      <a:pt x="17037" y="8"/>
                      <a:pt x="17035" y="8"/>
                    </a:cubicBezTo>
                    <a:lnTo>
                      <a:pt x="17035" y="8"/>
                    </a:lnTo>
                    <a:cubicBezTo>
                      <a:pt x="17034" y="8"/>
                      <a:pt x="17033" y="7"/>
                      <a:pt x="17033" y="6"/>
                    </a:cubicBezTo>
                    <a:cubicBezTo>
                      <a:pt x="17033" y="5"/>
                      <a:pt x="17034" y="4"/>
                      <a:pt x="17035" y="4"/>
                    </a:cubicBezTo>
                    <a:close/>
                    <a:moveTo>
                      <a:pt x="17044" y="4"/>
                    </a:moveTo>
                    <a:lnTo>
                      <a:pt x="17044" y="4"/>
                    </a:lnTo>
                    <a:cubicBezTo>
                      <a:pt x="17045" y="4"/>
                      <a:pt x="17046" y="5"/>
                      <a:pt x="17046" y="6"/>
                    </a:cubicBezTo>
                    <a:cubicBezTo>
                      <a:pt x="17046" y="7"/>
                      <a:pt x="17045" y="8"/>
                      <a:pt x="17044" y="8"/>
                    </a:cubicBezTo>
                    <a:lnTo>
                      <a:pt x="17044" y="8"/>
                    </a:lnTo>
                    <a:cubicBezTo>
                      <a:pt x="17042" y="8"/>
                      <a:pt x="17041" y="7"/>
                      <a:pt x="17041" y="6"/>
                    </a:cubicBezTo>
                    <a:cubicBezTo>
                      <a:pt x="17041" y="5"/>
                      <a:pt x="17042" y="4"/>
                      <a:pt x="17044" y="4"/>
                    </a:cubicBezTo>
                    <a:close/>
                    <a:moveTo>
                      <a:pt x="17052" y="4"/>
                    </a:moveTo>
                    <a:lnTo>
                      <a:pt x="17052" y="4"/>
                    </a:lnTo>
                    <a:cubicBezTo>
                      <a:pt x="17053" y="4"/>
                      <a:pt x="17054" y="5"/>
                      <a:pt x="17054" y="6"/>
                    </a:cubicBezTo>
                    <a:cubicBezTo>
                      <a:pt x="17054" y="7"/>
                      <a:pt x="17053" y="8"/>
                      <a:pt x="17052" y="8"/>
                    </a:cubicBezTo>
                    <a:lnTo>
                      <a:pt x="17052" y="8"/>
                    </a:lnTo>
                    <a:cubicBezTo>
                      <a:pt x="17050" y="8"/>
                      <a:pt x="17050" y="7"/>
                      <a:pt x="17050" y="6"/>
                    </a:cubicBezTo>
                    <a:cubicBezTo>
                      <a:pt x="17050" y="5"/>
                      <a:pt x="17050" y="4"/>
                      <a:pt x="17052" y="4"/>
                    </a:cubicBezTo>
                    <a:close/>
                    <a:moveTo>
                      <a:pt x="17060" y="4"/>
                    </a:moveTo>
                    <a:lnTo>
                      <a:pt x="17060" y="4"/>
                    </a:lnTo>
                    <a:cubicBezTo>
                      <a:pt x="17061" y="4"/>
                      <a:pt x="17062" y="5"/>
                      <a:pt x="17062" y="6"/>
                    </a:cubicBezTo>
                    <a:cubicBezTo>
                      <a:pt x="17062" y="7"/>
                      <a:pt x="17061" y="8"/>
                      <a:pt x="17060" y="8"/>
                    </a:cubicBezTo>
                    <a:lnTo>
                      <a:pt x="17060" y="8"/>
                    </a:lnTo>
                    <a:cubicBezTo>
                      <a:pt x="17058" y="8"/>
                      <a:pt x="17058" y="7"/>
                      <a:pt x="17058" y="6"/>
                    </a:cubicBezTo>
                    <a:cubicBezTo>
                      <a:pt x="17058" y="5"/>
                      <a:pt x="17058" y="4"/>
                      <a:pt x="17060" y="4"/>
                    </a:cubicBezTo>
                    <a:close/>
                    <a:moveTo>
                      <a:pt x="17068" y="4"/>
                    </a:moveTo>
                    <a:lnTo>
                      <a:pt x="17068" y="4"/>
                    </a:lnTo>
                    <a:cubicBezTo>
                      <a:pt x="17069" y="4"/>
                      <a:pt x="17070" y="5"/>
                      <a:pt x="17070" y="6"/>
                    </a:cubicBezTo>
                    <a:cubicBezTo>
                      <a:pt x="17070" y="7"/>
                      <a:pt x="17069" y="8"/>
                      <a:pt x="17068" y="8"/>
                    </a:cubicBezTo>
                    <a:lnTo>
                      <a:pt x="17068" y="8"/>
                    </a:lnTo>
                    <a:cubicBezTo>
                      <a:pt x="17066" y="8"/>
                      <a:pt x="17066" y="7"/>
                      <a:pt x="17066" y="6"/>
                    </a:cubicBezTo>
                    <a:cubicBezTo>
                      <a:pt x="17066" y="5"/>
                      <a:pt x="17066" y="4"/>
                      <a:pt x="17068" y="4"/>
                    </a:cubicBezTo>
                    <a:close/>
                    <a:moveTo>
                      <a:pt x="17076" y="4"/>
                    </a:moveTo>
                    <a:lnTo>
                      <a:pt x="17076" y="4"/>
                    </a:lnTo>
                    <a:cubicBezTo>
                      <a:pt x="17077" y="4"/>
                      <a:pt x="17078" y="5"/>
                      <a:pt x="17078" y="6"/>
                    </a:cubicBezTo>
                    <a:cubicBezTo>
                      <a:pt x="17078" y="7"/>
                      <a:pt x="17077" y="8"/>
                      <a:pt x="17076" y="8"/>
                    </a:cubicBezTo>
                    <a:lnTo>
                      <a:pt x="17076" y="8"/>
                    </a:lnTo>
                    <a:cubicBezTo>
                      <a:pt x="17074" y="8"/>
                      <a:pt x="17074" y="7"/>
                      <a:pt x="17074" y="6"/>
                    </a:cubicBezTo>
                    <a:cubicBezTo>
                      <a:pt x="17074" y="5"/>
                      <a:pt x="17074" y="4"/>
                      <a:pt x="17076" y="4"/>
                    </a:cubicBezTo>
                    <a:close/>
                    <a:moveTo>
                      <a:pt x="17084" y="4"/>
                    </a:moveTo>
                    <a:lnTo>
                      <a:pt x="17084" y="4"/>
                    </a:lnTo>
                    <a:cubicBezTo>
                      <a:pt x="17085" y="4"/>
                      <a:pt x="17086" y="5"/>
                      <a:pt x="17086" y="6"/>
                    </a:cubicBezTo>
                    <a:cubicBezTo>
                      <a:pt x="17086" y="7"/>
                      <a:pt x="17085" y="8"/>
                      <a:pt x="17084" y="8"/>
                    </a:cubicBezTo>
                    <a:lnTo>
                      <a:pt x="17084" y="8"/>
                    </a:lnTo>
                    <a:cubicBezTo>
                      <a:pt x="17082" y="8"/>
                      <a:pt x="17082" y="7"/>
                      <a:pt x="17082" y="6"/>
                    </a:cubicBezTo>
                    <a:cubicBezTo>
                      <a:pt x="17082" y="5"/>
                      <a:pt x="17082" y="4"/>
                      <a:pt x="17084" y="4"/>
                    </a:cubicBezTo>
                    <a:close/>
                    <a:moveTo>
                      <a:pt x="17092" y="4"/>
                    </a:moveTo>
                    <a:lnTo>
                      <a:pt x="17092" y="4"/>
                    </a:lnTo>
                    <a:cubicBezTo>
                      <a:pt x="17093" y="4"/>
                      <a:pt x="17094" y="5"/>
                      <a:pt x="17094" y="6"/>
                    </a:cubicBezTo>
                    <a:cubicBezTo>
                      <a:pt x="17094" y="7"/>
                      <a:pt x="17093" y="8"/>
                      <a:pt x="17092" y="8"/>
                    </a:cubicBezTo>
                    <a:lnTo>
                      <a:pt x="17092" y="8"/>
                    </a:lnTo>
                    <a:cubicBezTo>
                      <a:pt x="17090" y="8"/>
                      <a:pt x="17090" y="7"/>
                      <a:pt x="17090" y="6"/>
                    </a:cubicBezTo>
                    <a:cubicBezTo>
                      <a:pt x="17090" y="5"/>
                      <a:pt x="17090" y="4"/>
                      <a:pt x="17092" y="4"/>
                    </a:cubicBezTo>
                    <a:close/>
                    <a:moveTo>
                      <a:pt x="17100" y="4"/>
                    </a:moveTo>
                    <a:lnTo>
                      <a:pt x="17100" y="4"/>
                    </a:lnTo>
                    <a:cubicBezTo>
                      <a:pt x="17101" y="4"/>
                      <a:pt x="17102" y="5"/>
                      <a:pt x="17102" y="6"/>
                    </a:cubicBezTo>
                    <a:cubicBezTo>
                      <a:pt x="17102" y="7"/>
                      <a:pt x="17101" y="8"/>
                      <a:pt x="17100" y="8"/>
                    </a:cubicBezTo>
                    <a:lnTo>
                      <a:pt x="17100" y="8"/>
                    </a:lnTo>
                    <a:cubicBezTo>
                      <a:pt x="17098" y="8"/>
                      <a:pt x="17098" y="7"/>
                      <a:pt x="17098" y="6"/>
                    </a:cubicBezTo>
                    <a:cubicBezTo>
                      <a:pt x="17098" y="5"/>
                      <a:pt x="17098" y="4"/>
                      <a:pt x="17100" y="4"/>
                    </a:cubicBezTo>
                    <a:close/>
                    <a:moveTo>
                      <a:pt x="17108" y="4"/>
                    </a:moveTo>
                    <a:lnTo>
                      <a:pt x="17108" y="4"/>
                    </a:lnTo>
                    <a:cubicBezTo>
                      <a:pt x="17109" y="4"/>
                      <a:pt x="17110" y="5"/>
                      <a:pt x="17110" y="6"/>
                    </a:cubicBezTo>
                    <a:cubicBezTo>
                      <a:pt x="17110" y="7"/>
                      <a:pt x="17109" y="8"/>
                      <a:pt x="17108" y="8"/>
                    </a:cubicBezTo>
                    <a:lnTo>
                      <a:pt x="17108" y="8"/>
                    </a:lnTo>
                    <a:cubicBezTo>
                      <a:pt x="17106" y="8"/>
                      <a:pt x="17106" y="7"/>
                      <a:pt x="17106" y="6"/>
                    </a:cubicBezTo>
                    <a:cubicBezTo>
                      <a:pt x="17106" y="5"/>
                      <a:pt x="17106" y="4"/>
                      <a:pt x="17108" y="4"/>
                    </a:cubicBezTo>
                    <a:close/>
                    <a:moveTo>
                      <a:pt x="17116" y="4"/>
                    </a:moveTo>
                    <a:lnTo>
                      <a:pt x="17116" y="4"/>
                    </a:lnTo>
                    <a:cubicBezTo>
                      <a:pt x="17117" y="4"/>
                      <a:pt x="17118" y="5"/>
                      <a:pt x="17118" y="6"/>
                    </a:cubicBezTo>
                    <a:cubicBezTo>
                      <a:pt x="17118" y="7"/>
                      <a:pt x="17117" y="8"/>
                      <a:pt x="17116" y="8"/>
                    </a:cubicBezTo>
                    <a:lnTo>
                      <a:pt x="17116" y="8"/>
                    </a:lnTo>
                    <a:cubicBezTo>
                      <a:pt x="17114" y="8"/>
                      <a:pt x="17114" y="7"/>
                      <a:pt x="17114" y="6"/>
                    </a:cubicBezTo>
                    <a:cubicBezTo>
                      <a:pt x="17114" y="5"/>
                      <a:pt x="17114" y="4"/>
                      <a:pt x="17116" y="4"/>
                    </a:cubicBezTo>
                    <a:close/>
                    <a:moveTo>
                      <a:pt x="17124" y="4"/>
                    </a:moveTo>
                    <a:lnTo>
                      <a:pt x="17124" y="4"/>
                    </a:lnTo>
                    <a:cubicBezTo>
                      <a:pt x="17125" y="4"/>
                      <a:pt x="17126" y="5"/>
                      <a:pt x="17126" y="6"/>
                    </a:cubicBezTo>
                    <a:cubicBezTo>
                      <a:pt x="17126" y="7"/>
                      <a:pt x="17125" y="8"/>
                      <a:pt x="17124" y="8"/>
                    </a:cubicBezTo>
                    <a:lnTo>
                      <a:pt x="17124" y="8"/>
                    </a:lnTo>
                    <a:cubicBezTo>
                      <a:pt x="17122" y="8"/>
                      <a:pt x="17122" y="7"/>
                      <a:pt x="17122" y="6"/>
                    </a:cubicBezTo>
                    <a:cubicBezTo>
                      <a:pt x="17122" y="5"/>
                      <a:pt x="17122" y="4"/>
                      <a:pt x="17124" y="4"/>
                    </a:cubicBezTo>
                    <a:close/>
                    <a:moveTo>
                      <a:pt x="17132" y="4"/>
                    </a:moveTo>
                    <a:lnTo>
                      <a:pt x="17132" y="4"/>
                    </a:lnTo>
                    <a:cubicBezTo>
                      <a:pt x="17133" y="4"/>
                      <a:pt x="17134" y="5"/>
                      <a:pt x="17134" y="6"/>
                    </a:cubicBezTo>
                    <a:cubicBezTo>
                      <a:pt x="17134" y="7"/>
                      <a:pt x="17133" y="8"/>
                      <a:pt x="17132" y="8"/>
                    </a:cubicBezTo>
                    <a:lnTo>
                      <a:pt x="17132" y="8"/>
                    </a:lnTo>
                    <a:cubicBezTo>
                      <a:pt x="17130" y="8"/>
                      <a:pt x="17130" y="7"/>
                      <a:pt x="17130" y="6"/>
                    </a:cubicBezTo>
                    <a:cubicBezTo>
                      <a:pt x="17130" y="5"/>
                      <a:pt x="17130" y="4"/>
                      <a:pt x="17132" y="4"/>
                    </a:cubicBezTo>
                    <a:close/>
                    <a:moveTo>
                      <a:pt x="17140" y="4"/>
                    </a:moveTo>
                    <a:lnTo>
                      <a:pt x="17140" y="4"/>
                    </a:lnTo>
                    <a:cubicBezTo>
                      <a:pt x="17141" y="4"/>
                      <a:pt x="17142" y="5"/>
                      <a:pt x="17142" y="6"/>
                    </a:cubicBezTo>
                    <a:cubicBezTo>
                      <a:pt x="17142" y="7"/>
                      <a:pt x="17141" y="8"/>
                      <a:pt x="17140" y="8"/>
                    </a:cubicBezTo>
                    <a:lnTo>
                      <a:pt x="17140" y="8"/>
                    </a:lnTo>
                    <a:cubicBezTo>
                      <a:pt x="17138" y="8"/>
                      <a:pt x="17138" y="7"/>
                      <a:pt x="17138" y="6"/>
                    </a:cubicBezTo>
                    <a:cubicBezTo>
                      <a:pt x="17138" y="5"/>
                      <a:pt x="17138" y="4"/>
                      <a:pt x="17140" y="4"/>
                    </a:cubicBezTo>
                    <a:close/>
                    <a:moveTo>
                      <a:pt x="17148" y="4"/>
                    </a:moveTo>
                    <a:lnTo>
                      <a:pt x="17148" y="4"/>
                    </a:lnTo>
                    <a:cubicBezTo>
                      <a:pt x="17149" y="4"/>
                      <a:pt x="17150" y="5"/>
                      <a:pt x="17150" y="6"/>
                    </a:cubicBezTo>
                    <a:cubicBezTo>
                      <a:pt x="17150" y="7"/>
                      <a:pt x="17149" y="8"/>
                      <a:pt x="17148" y="8"/>
                    </a:cubicBezTo>
                    <a:lnTo>
                      <a:pt x="17148" y="8"/>
                    </a:lnTo>
                    <a:cubicBezTo>
                      <a:pt x="17146" y="8"/>
                      <a:pt x="17146" y="7"/>
                      <a:pt x="17146" y="6"/>
                    </a:cubicBezTo>
                    <a:cubicBezTo>
                      <a:pt x="17146" y="5"/>
                      <a:pt x="17146" y="4"/>
                      <a:pt x="17148" y="4"/>
                    </a:cubicBezTo>
                    <a:close/>
                    <a:moveTo>
                      <a:pt x="17156" y="4"/>
                    </a:moveTo>
                    <a:lnTo>
                      <a:pt x="17156" y="4"/>
                    </a:lnTo>
                    <a:cubicBezTo>
                      <a:pt x="17157" y="4"/>
                      <a:pt x="17158" y="5"/>
                      <a:pt x="17158" y="6"/>
                    </a:cubicBezTo>
                    <a:cubicBezTo>
                      <a:pt x="17158" y="7"/>
                      <a:pt x="17157" y="8"/>
                      <a:pt x="17156" y="8"/>
                    </a:cubicBezTo>
                    <a:lnTo>
                      <a:pt x="17156" y="8"/>
                    </a:lnTo>
                    <a:cubicBezTo>
                      <a:pt x="17154" y="8"/>
                      <a:pt x="17154" y="7"/>
                      <a:pt x="17154" y="6"/>
                    </a:cubicBezTo>
                    <a:cubicBezTo>
                      <a:pt x="17154" y="5"/>
                      <a:pt x="17154" y="4"/>
                      <a:pt x="17156" y="4"/>
                    </a:cubicBezTo>
                    <a:close/>
                    <a:moveTo>
                      <a:pt x="17164" y="4"/>
                    </a:moveTo>
                    <a:lnTo>
                      <a:pt x="17164" y="4"/>
                    </a:lnTo>
                    <a:cubicBezTo>
                      <a:pt x="17165" y="4"/>
                      <a:pt x="17166" y="5"/>
                      <a:pt x="17166" y="6"/>
                    </a:cubicBezTo>
                    <a:cubicBezTo>
                      <a:pt x="17166" y="7"/>
                      <a:pt x="17165" y="8"/>
                      <a:pt x="17164" y="8"/>
                    </a:cubicBezTo>
                    <a:lnTo>
                      <a:pt x="17164" y="8"/>
                    </a:lnTo>
                    <a:cubicBezTo>
                      <a:pt x="17162" y="8"/>
                      <a:pt x="17162" y="7"/>
                      <a:pt x="17162" y="6"/>
                    </a:cubicBezTo>
                    <a:cubicBezTo>
                      <a:pt x="17162" y="5"/>
                      <a:pt x="17162" y="4"/>
                      <a:pt x="17164" y="4"/>
                    </a:cubicBezTo>
                    <a:close/>
                    <a:moveTo>
                      <a:pt x="17172" y="4"/>
                    </a:moveTo>
                    <a:lnTo>
                      <a:pt x="17172" y="4"/>
                    </a:lnTo>
                    <a:cubicBezTo>
                      <a:pt x="17173" y="4"/>
                      <a:pt x="17174" y="5"/>
                      <a:pt x="17174" y="6"/>
                    </a:cubicBezTo>
                    <a:cubicBezTo>
                      <a:pt x="17174" y="7"/>
                      <a:pt x="17173" y="8"/>
                      <a:pt x="17172" y="8"/>
                    </a:cubicBezTo>
                    <a:lnTo>
                      <a:pt x="17172" y="8"/>
                    </a:lnTo>
                    <a:cubicBezTo>
                      <a:pt x="17170" y="8"/>
                      <a:pt x="17170" y="7"/>
                      <a:pt x="17170" y="6"/>
                    </a:cubicBezTo>
                    <a:cubicBezTo>
                      <a:pt x="17170" y="5"/>
                      <a:pt x="17170" y="4"/>
                      <a:pt x="17172" y="4"/>
                    </a:cubicBezTo>
                    <a:close/>
                    <a:moveTo>
                      <a:pt x="17180" y="4"/>
                    </a:moveTo>
                    <a:lnTo>
                      <a:pt x="17180" y="4"/>
                    </a:lnTo>
                    <a:cubicBezTo>
                      <a:pt x="17181" y="4"/>
                      <a:pt x="17182" y="5"/>
                      <a:pt x="17182" y="6"/>
                    </a:cubicBezTo>
                    <a:cubicBezTo>
                      <a:pt x="17182" y="7"/>
                      <a:pt x="17181" y="8"/>
                      <a:pt x="17180" y="8"/>
                    </a:cubicBezTo>
                    <a:lnTo>
                      <a:pt x="17180" y="8"/>
                    </a:lnTo>
                    <a:cubicBezTo>
                      <a:pt x="17178" y="8"/>
                      <a:pt x="17178" y="7"/>
                      <a:pt x="17178" y="6"/>
                    </a:cubicBezTo>
                    <a:cubicBezTo>
                      <a:pt x="17178" y="5"/>
                      <a:pt x="17178" y="4"/>
                      <a:pt x="17180" y="4"/>
                    </a:cubicBezTo>
                    <a:close/>
                    <a:moveTo>
                      <a:pt x="17188" y="4"/>
                    </a:moveTo>
                    <a:lnTo>
                      <a:pt x="17188" y="4"/>
                    </a:lnTo>
                    <a:cubicBezTo>
                      <a:pt x="17189" y="4"/>
                      <a:pt x="17190" y="5"/>
                      <a:pt x="17190" y="6"/>
                    </a:cubicBezTo>
                    <a:cubicBezTo>
                      <a:pt x="17190" y="7"/>
                      <a:pt x="17189" y="8"/>
                      <a:pt x="17188" y="8"/>
                    </a:cubicBezTo>
                    <a:lnTo>
                      <a:pt x="17188" y="8"/>
                    </a:lnTo>
                    <a:cubicBezTo>
                      <a:pt x="17187" y="8"/>
                      <a:pt x="17186" y="7"/>
                      <a:pt x="17186" y="6"/>
                    </a:cubicBezTo>
                    <a:cubicBezTo>
                      <a:pt x="17186" y="5"/>
                      <a:pt x="17187" y="4"/>
                      <a:pt x="17188" y="4"/>
                    </a:cubicBezTo>
                    <a:close/>
                    <a:moveTo>
                      <a:pt x="17196" y="4"/>
                    </a:moveTo>
                    <a:lnTo>
                      <a:pt x="17196" y="4"/>
                    </a:lnTo>
                    <a:cubicBezTo>
                      <a:pt x="17197" y="4"/>
                      <a:pt x="17198" y="5"/>
                      <a:pt x="17198" y="6"/>
                    </a:cubicBezTo>
                    <a:cubicBezTo>
                      <a:pt x="17198" y="7"/>
                      <a:pt x="17197" y="8"/>
                      <a:pt x="17196" y="8"/>
                    </a:cubicBezTo>
                    <a:lnTo>
                      <a:pt x="17196" y="8"/>
                    </a:lnTo>
                    <a:cubicBezTo>
                      <a:pt x="17195" y="8"/>
                      <a:pt x="17194" y="7"/>
                      <a:pt x="17194" y="6"/>
                    </a:cubicBezTo>
                    <a:cubicBezTo>
                      <a:pt x="17194" y="5"/>
                      <a:pt x="17195" y="4"/>
                      <a:pt x="17196" y="4"/>
                    </a:cubicBezTo>
                    <a:close/>
                    <a:moveTo>
                      <a:pt x="17204" y="4"/>
                    </a:moveTo>
                    <a:lnTo>
                      <a:pt x="17204" y="4"/>
                    </a:lnTo>
                    <a:cubicBezTo>
                      <a:pt x="17205" y="4"/>
                      <a:pt x="17206" y="5"/>
                      <a:pt x="17206" y="6"/>
                    </a:cubicBezTo>
                    <a:cubicBezTo>
                      <a:pt x="17206" y="7"/>
                      <a:pt x="17205" y="8"/>
                      <a:pt x="17204" y="8"/>
                    </a:cubicBezTo>
                    <a:lnTo>
                      <a:pt x="17204" y="8"/>
                    </a:lnTo>
                    <a:cubicBezTo>
                      <a:pt x="17203" y="8"/>
                      <a:pt x="17202" y="7"/>
                      <a:pt x="17202" y="6"/>
                    </a:cubicBezTo>
                    <a:cubicBezTo>
                      <a:pt x="17202" y="5"/>
                      <a:pt x="17203" y="4"/>
                      <a:pt x="17204" y="4"/>
                    </a:cubicBezTo>
                    <a:close/>
                    <a:moveTo>
                      <a:pt x="17212" y="4"/>
                    </a:moveTo>
                    <a:lnTo>
                      <a:pt x="17212" y="4"/>
                    </a:lnTo>
                    <a:cubicBezTo>
                      <a:pt x="17213" y="4"/>
                      <a:pt x="17214" y="5"/>
                      <a:pt x="17214" y="6"/>
                    </a:cubicBezTo>
                    <a:cubicBezTo>
                      <a:pt x="17214" y="7"/>
                      <a:pt x="17213" y="8"/>
                      <a:pt x="17212" y="8"/>
                    </a:cubicBezTo>
                    <a:lnTo>
                      <a:pt x="17212" y="8"/>
                    </a:lnTo>
                    <a:cubicBezTo>
                      <a:pt x="17211" y="8"/>
                      <a:pt x="17210" y="7"/>
                      <a:pt x="17210" y="6"/>
                    </a:cubicBezTo>
                    <a:cubicBezTo>
                      <a:pt x="17210" y="5"/>
                      <a:pt x="17211" y="4"/>
                      <a:pt x="17212" y="4"/>
                    </a:cubicBezTo>
                    <a:close/>
                    <a:moveTo>
                      <a:pt x="17220" y="4"/>
                    </a:moveTo>
                    <a:lnTo>
                      <a:pt x="17220" y="4"/>
                    </a:lnTo>
                    <a:cubicBezTo>
                      <a:pt x="17221" y="4"/>
                      <a:pt x="17222" y="5"/>
                      <a:pt x="17222" y="6"/>
                    </a:cubicBezTo>
                    <a:cubicBezTo>
                      <a:pt x="17222" y="7"/>
                      <a:pt x="17221" y="8"/>
                      <a:pt x="17220" y="8"/>
                    </a:cubicBezTo>
                    <a:lnTo>
                      <a:pt x="17220" y="8"/>
                    </a:lnTo>
                    <a:cubicBezTo>
                      <a:pt x="17219" y="8"/>
                      <a:pt x="17218" y="7"/>
                      <a:pt x="17218" y="6"/>
                    </a:cubicBezTo>
                    <a:cubicBezTo>
                      <a:pt x="17218" y="5"/>
                      <a:pt x="17219" y="4"/>
                      <a:pt x="17220" y="4"/>
                    </a:cubicBezTo>
                    <a:close/>
                    <a:moveTo>
                      <a:pt x="17228" y="4"/>
                    </a:moveTo>
                    <a:lnTo>
                      <a:pt x="17228" y="4"/>
                    </a:lnTo>
                    <a:cubicBezTo>
                      <a:pt x="17229" y="4"/>
                      <a:pt x="17230" y="5"/>
                      <a:pt x="17230" y="6"/>
                    </a:cubicBezTo>
                    <a:cubicBezTo>
                      <a:pt x="17230" y="7"/>
                      <a:pt x="17229" y="8"/>
                      <a:pt x="17228" y="8"/>
                    </a:cubicBezTo>
                    <a:lnTo>
                      <a:pt x="17228" y="8"/>
                    </a:lnTo>
                    <a:cubicBezTo>
                      <a:pt x="17227" y="8"/>
                      <a:pt x="17226" y="7"/>
                      <a:pt x="17226" y="6"/>
                    </a:cubicBezTo>
                    <a:cubicBezTo>
                      <a:pt x="17226" y="5"/>
                      <a:pt x="17227" y="4"/>
                      <a:pt x="17228" y="4"/>
                    </a:cubicBezTo>
                    <a:close/>
                    <a:moveTo>
                      <a:pt x="17236" y="4"/>
                    </a:moveTo>
                    <a:lnTo>
                      <a:pt x="17236" y="4"/>
                    </a:lnTo>
                    <a:cubicBezTo>
                      <a:pt x="17237" y="4"/>
                      <a:pt x="17238" y="5"/>
                      <a:pt x="17238" y="6"/>
                    </a:cubicBezTo>
                    <a:cubicBezTo>
                      <a:pt x="17238" y="7"/>
                      <a:pt x="17237" y="8"/>
                      <a:pt x="17236" y="8"/>
                    </a:cubicBezTo>
                    <a:lnTo>
                      <a:pt x="17236" y="8"/>
                    </a:lnTo>
                    <a:cubicBezTo>
                      <a:pt x="17235" y="8"/>
                      <a:pt x="17234" y="7"/>
                      <a:pt x="17234" y="6"/>
                    </a:cubicBezTo>
                    <a:cubicBezTo>
                      <a:pt x="17234" y="5"/>
                      <a:pt x="17235" y="4"/>
                      <a:pt x="17236" y="4"/>
                    </a:cubicBezTo>
                    <a:close/>
                    <a:moveTo>
                      <a:pt x="17244" y="4"/>
                    </a:moveTo>
                    <a:lnTo>
                      <a:pt x="17244" y="4"/>
                    </a:lnTo>
                    <a:cubicBezTo>
                      <a:pt x="17245" y="4"/>
                      <a:pt x="17246" y="5"/>
                      <a:pt x="17246" y="6"/>
                    </a:cubicBezTo>
                    <a:cubicBezTo>
                      <a:pt x="17246" y="7"/>
                      <a:pt x="17245" y="8"/>
                      <a:pt x="17244" y="8"/>
                    </a:cubicBezTo>
                    <a:lnTo>
                      <a:pt x="17244" y="8"/>
                    </a:lnTo>
                    <a:cubicBezTo>
                      <a:pt x="17243" y="8"/>
                      <a:pt x="17242" y="7"/>
                      <a:pt x="17242" y="6"/>
                    </a:cubicBezTo>
                    <a:cubicBezTo>
                      <a:pt x="17242" y="5"/>
                      <a:pt x="17243" y="4"/>
                      <a:pt x="17244" y="4"/>
                    </a:cubicBezTo>
                    <a:close/>
                    <a:moveTo>
                      <a:pt x="17252" y="4"/>
                    </a:moveTo>
                    <a:lnTo>
                      <a:pt x="17252" y="4"/>
                    </a:lnTo>
                    <a:cubicBezTo>
                      <a:pt x="17253" y="4"/>
                      <a:pt x="17254" y="5"/>
                      <a:pt x="17254" y="6"/>
                    </a:cubicBezTo>
                    <a:cubicBezTo>
                      <a:pt x="17254" y="7"/>
                      <a:pt x="17253" y="8"/>
                      <a:pt x="17252" y="8"/>
                    </a:cubicBezTo>
                    <a:lnTo>
                      <a:pt x="17252" y="8"/>
                    </a:lnTo>
                    <a:cubicBezTo>
                      <a:pt x="17251" y="8"/>
                      <a:pt x="17250" y="7"/>
                      <a:pt x="17250" y="6"/>
                    </a:cubicBezTo>
                    <a:cubicBezTo>
                      <a:pt x="17250" y="5"/>
                      <a:pt x="17251" y="4"/>
                      <a:pt x="17252" y="4"/>
                    </a:cubicBezTo>
                    <a:close/>
                    <a:moveTo>
                      <a:pt x="17260" y="4"/>
                    </a:moveTo>
                    <a:lnTo>
                      <a:pt x="17260" y="4"/>
                    </a:lnTo>
                    <a:cubicBezTo>
                      <a:pt x="17261" y="4"/>
                      <a:pt x="17262" y="5"/>
                      <a:pt x="17262" y="6"/>
                    </a:cubicBezTo>
                    <a:cubicBezTo>
                      <a:pt x="17262" y="7"/>
                      <a:pt x="17261" y="8"/>
                      <a:pt x="17260" y="8"/>
                    </a:cubicBezTo>
                    <a:lnTo>
                      <a:pt x="17260" y="8"/>
                    </a:lnTo>
                    <a:cubicBezTo>
                      <a:pt x="17259" y="8"/>
                      <a:pt x="17258" y="7"/>
                      <a:pt x="17258" y="6"/>
                    </a:cubicBezTo>
                    <a:cubicBezTo>
                      <a:pt x="17258" y="5"/>
                      <a:pt x="17259" y="4"/>
                      <a:pt x="17260" y="4"/>
                    </a:cubicBezTo>
                    <a:close/>
                    <a:moveTo>
                      <a:pt x="17268" y="4"/>
                    </a:moveTo>
                    <a:lnTo>
                      <a:pt x="17268" y="4"/>
                    </a:lnTo>
                    <a:cubicBezTo>
                      <a:pt x="17269" y="4"/>
                      <a:pt x="17270" y="5"/>
                      <a:pt x="17270" y="6"/>
                    </a:cubicBezTo>
                    <a:cubicBezTo>
                      <a:pt x="17270" y="7"/>
                      <a:pt x="17269" y="8"/>
                      <a:pt x="17268" y="8"/>
                    </a:cubicBezTo>
                    <a:lnTo>
                      <a:pt x="17268" y="8"/>
                    </a:lnTo>
                    <a:cubicBezTo>
                      <a:pt x="17267" y="8"/>
                      <a:pt x="17266" y="7"/>
                      <a:pt x="17266" y="6"/>
                    </a:cubicBezTo>
                    <a:cubicBezTo>
                      <a:pt x="17266" y="5"/>
                      <a:pt x="17267" y="4"/>
                      <a:pt x="17268" y="4"/>
                    </a:cubicBezTo>
                    <a:close/>
                    <a:moveTo>
                      <a:pt x="17276" y="4"/>
                    </a:moveTo>
                    <a:lnTo>
                      <a:pt x="17276" y="4"/>
                    </a:lnTo>
                    <a:cubicBezTo>
                      <a:pt x="17277" y="4"/>
                      <a:pt x="17278" y="5"/>
                      <a:pt x="17278" y="6"/>
                    </a:cubicBezTo>
                    <a:cubicBezTo>
                      <a:pt x="17278" y="7"/>
                      <a:pt x="17277" y="8"/>
                      <a:pt x="17276" y="8"/>
                    </a:cubicBezTo>
                    <a:lnTo>
                      <a:pt x="17276" y="8"/>
                    </a:lnTo>
                    <a:cubicBezTo>
                      <a:pt x="17275" y="8"/>
                      <a:pt x="17274" y="7"/>
                      <a:pt x="17274" y="6"/>
                    </a:cubicBezTo>
                    <a:cubicBezTo>
                      <a:pt x="17274" y="5"/>
                      <a:pt x="17275" y="4"/>
                      <a:pt x="17276" y="4"/>
                    </a:cubicBezTo>
                    <a:close/>
                    <a:moveTo>
                      <a:pt x="17284" y="4"/>
                    </a:moveTo>
                    <a:lnTo>
                      <a:pt x="17284" y="4"/>
                    </a:lnTo>
                    <a:cubicBezTo>
                      <a:pt x="17285" y="4"/>
                      <a:pt x="17286" y="5"/>
                      <a:pt x="17286" y="6"/>
                    </a:cubicBezTo>
                    <a:cubicBezTo>
                      <a:pt x="17286" y="7"/>
                      <a:pt x="17285" y="8"/>
                      <a:pt x="17284" y="8"/>
                    </a:cubicBezTo>
                    <a:lnTo>
                      <a:pt x="17284" y="8"/>
                    </a:lnTo>
                    <a:cubicBezTo>
                      <a:pt x="17283" y="8"/>
                      <a:pt x="17282" y="7"/>
                      <a:pt x="17282" y="6"/>
                    </a:cubicBezTo>
                    <a:cubicBezTo>
                      <a:pt x="17282" y="5"/>
                      <a:pt x="17283" y="4"/>
                      <a:pt x="17284" y="4"/>
                    </a:cubicBezTo>
                    <a:close/>
                    <a:moveTo>
                      <a:pt x="17292" y="4"/>
                    </a:moveTo>
                    <a:lnTo>
                      <a:pt x="17292" y="4"/>
                    </a:lnTo>
                    <a:cubicBezTo>
                      <a:pt x="17293" y="4"/>
                      <a:pt x="17294" y="5"/>
                      <a:pt x="17294" y="6"/>
                    </a:cubicBezTo>
                    <a:cubicBezTo>
                      <a:pt x="17294" y="7"/>
                      <a:pt x="17293" y="8"/>
                      <a:pt x="17292" y="8"/>
                    </a:cubicBezTo>
                    <a:lnTo>
                      <a:pt x="17292" y="8"/>
                    </a:lnTo>
                    <a:cubicBezTo>
                      <a:pt x="17291" y="8"/>
                      <a:pt x="17290" y="7"/>
                      <a:pt x="17290" y="6"/>
                    </a:cubicBezTo>
                    <a:cubicBezTo>
                      <a:pt x="17290" y="5"/>
                      <a:pt x="17291" y="4"/>
                      <a:pt x="17292" y="4"/>
                    </a:cubicBezTo>
                    <a:close/>
                    <a:moveTo>
                      <a:pt x="17300" y="4"/>
                    </a:moveTo>
                    <a:lnTo>
                      <a:pt x="17300" y="4"/>
                    </a:lnTo>
                    <a:cubicBezTo>
                      <a:pt x="17301" y="4"/>
                      <a:pt x="17302" y="5"/>
                      <a:pt x="17302" y="6"/>
                    </a:cubicBezTo>
                    <a:cubicBezTo>
                      <a:pt x="17302" y="7"/>
                      <a:pt x="17301" y="8"/>
                      <a:pt x="17300" y="8"/>
                    </a:cubicBezTo>
                    <a:lnTo>
                      <a:pt x="17300" y="8"/>
                    </a:lnTo>
                    <a:cubicBezTo>
                      <a:pt x="17299" y="8"/>
                      <a:pt x="17298" y="7"/>
                      <a:pt x="17298" y="6"/>
                    </a:cubicBezTo>
                    <a:cubicBezTo>
                      <a:pt x="17298" y="5"/>
                      <a:pt x="17299" y="4"/>
                      <a:pt x="17300" y="4"/>
                    </a:cubicBezTo>
                    <a:close/>
                    <a:moveTo>
                      <a:pt x="17308" y="4"/>
                    </a:moveTo>
                    <a:lnTo>
                      <a:pt x="17308" y="4"/>
                    </a:lnTo>
                    <a:cubicBezTo>
                      <a:pt x="17309" y="4"/>
                      <a:pt x="17310" y="5"/>
                      <a:pt x="17310" y="6"/>
                    </a:cubicBezTo>
                    <a:cubicBezTo>
                      <a:pt x="17310" y="7"/>
                      <a:pt x="17309" y="8"/>
                      <a:pt x="17308" y="8"/>
                    </a:cubicBezTo>
                    <a:lnTo>
                      <a:pt x="17308" y="8"/>
                    </a:lnTo>
                    <a:cubicBezTo>
                      <a:pt x="17307" y="8"/>
                      <a:pt x="17306" y="7"/>
                      <a:pt x="17306" y="6"/>
                    </a:cubicBezTo>
                    <a:cubicBezTo>
                      <a:pt x="17306" y="5"/>
                      <a:pt x="17307" y="4"/>
                      <a:pt x="17308" y="4"/>
                    </a:cubicBezTo>
                    <a:close/>
                    <a:moveTo>
                      <a:pt x="17316" y="4"/>
                    </a:moveTo>
                    <a:lnTo>
                      <a:pt x="17316" y="4"/>
                    </a:lnTo>
                    <a:cubicBezTo>
                      <a:pt x="17317" y="4"/>
                      <a:pt x="17318" y="5"/>
                      <a:pt x="17318" y="6"/>
                    </a:cubicBezTo>
                    <a:cubicBezTo>
                      <a:pt x="17318" y="7"/>
                      <a:pt x="17317" y="8"/>
                      <a:pt x="17316" y="8"/>
                    </a:cubicBezTo>
                    <a:lnTo>
                      <a:pt x="17316" y="8"/>
                    </a:lnTo>
                    <a:cubicBezTo>
                      <a:pt x="17315" y="8"/>
                      <a:pt x="17314" y="7"/>
                      <a:pt x="17314" y="6"/>
                    </a:cubicBezTo>
                    <a:cubicBezTo>
                      <a:pt x="17314" y="5"/>
                      <a:pt x="17315" y="4"/>
                      <a:pt x="17316" y="4"/>
                    </a:cubicBezTo>
                    <a:close/>
                    <a:moveTo>
                      <a:pt x="17324" y="4"/>
                    </a:moveTo>
                    <a:lnTo>
                      <a:pt x="17324" y="4"/>
                    </a:lnTo>
                    <a:cubicBezTo>
                      <a:pt x="17325" y="4"/>
                      <a:pt x="17326" y="5"/>
                      <a:pt x="17326" y="6"/>
                    </a:cubicBezTo>
                    <a:cubicBezTo>
                      <a:pt x="17326" y="7"/>
                      <a:pt x="17325" y="8"/>
                      <a:pt x="17324" y="8"/>
                    </a:cubicBezTo>
                    <a:lnTo>
                      <a:pt x="17324" y="8"/>
                    </a:lnTo>
                    <a:cubicBezTo>
                      <a:pt x="17323" y="8"/>
                      <a:pt x="17322" y="7"/>
                      <a:pt x="17322" y="6"/>
                    </a:cubicBezTo>
                    <a:cubicBezTo>
                      <a:pt x="17322" y="5"/>
                      <a:pt x="17323" y="4"/>
                      <a:pt x="17324" y="4"/>
                    </a:cubicBezTo>
                    <a:close/>
                    <a:moveTo>
                      <a:pt x="17332" y="4"/>
                    </a:moveTo>
                    <a:lnTo>
                      <a:pt x="17332" y="4"/>
                    </a:lnTo>
                    <a:cubicBezTo>
                      <a:pt x="17333" y="4"/>
                      <a:pt x="17334" y="5"/>
                      <a:pt x="17334" y="6"/>
                    </a:cubicBezTo>
                    <a:cubicBezTo>
                      <a:pt x="17334" y="7"/>
                      <a:pt x="17333" y="8"/>
                      <a:pt x="17332" y="8"/>
                    </a:cubicBezTo>
                    <a:lnTo>
                      <a:pt x="17332" y="8"/>
                    </a:lnTo>
                    <a:cubicBezTo>
                      <a:pt x="17331" y="8"/>
                      <a:pt x="17330" y="7"/>
                      <a:pt x="17330" y="6"/>
                    </a:cubicBezTo>
                    <a:cubicBezTo>
                      <a:pt x="17330" y="5"/>
                      <a:pt x="17331" y="4"/>
                      <a:pt x="17332" y="4"/>
                    </a:cubicBezTo>
                    <a:close/>
                    <a:moveTo>
                      <a:pt x="17340" y="4"/>
                    </a:moveTo>
                    <a:lnTo>
                      <a:pt x="17340" y="4"/>
                    </a:lnTo>
                    <a:cubicBezTo>
                      <a:pt x="17341" y="4"/>
                      <a:pt x="17342" y="5"/>
                      <a:pt x="17342" y="6"/>
                    </a:cubicBezTo>
                    <a:cubicBezTo>
                      <a:pt x="17342" y="7"/>
                      <a:pt x="17341" y="8"/>
                      <a:pt x="17340" y="8"/>
                    </a:cubicBezTo>
                    <a:lnTo>
                      <a:pt x="17340" y="8"/>
                    </a:lnTo>
                    <a:cubicBezTo>
                      <a:pt x="17339" y="8"/>
                      <a:pt x="17338" y="7"/>
                      <a:pt x="17338" y="6"/>
                    </a:cubicBezTo>
                    <a:cubicBezTo>
                      <a:pt x="17338" y="5"/>
                      <a:pt x="17339" y="4"/>
                      <a:pt x="17340" y="4"/>
                    </a:cubicBezTo>
                    <a:close/>
                    <a:moveTo>
                      <a:pt x="17348" y="4"/>
                    </a:moveTo>
                    <a:lnTo>
                      <a:pt x="17348" y="4"/>
                    </a:lnTo>
                    <a:cubicBezTo>
                      <a:pt x="17349" y="4"/>
                      <a:pt x="17350" y="5"/>
                      <a:pt x="17350" y="6"/>
                    </a:cubicBezTo>
                    <a:cubicBezTo>
                      <a:pt x="17350" y="7"/>
                      <a:pt x="17349" y="8"/>
                      <a:pt x="17348" y="8"/>
                    </a:cubicBezTo>
                    <a:lnTo>
                      <a:pt x="17348" y="8"/>
                    </a:lnTo>
                    <a:cubicBezTo>
                      <a:pt x="17347" y="8"/>
                      <a:pt x="17346" y="7"/>
                      <a:pt x="17346" y="6"/>
                    </a:cubicBezTo>
                    <a:cubicBezTo>
                      <a:pt x="17346" y="5"/>
                      <a:pt x="17347" y="4"/>
                      <a:pt x="17348" y="4"/>
                    </a:cubicBezTo>
                    <a:close/>
                    <a:moveTo>
                      <a:pt x="17356" y="4"/>
                    </a:moveTo>
                    <a:lnTo>
                      <a:pt x="17356" y="4"/>
                    </a:lnTo>
                    <a:cubicBezTo>
                      <a:pt x="17357" y="4"/>
                      <a:pt x="17358" y="5"/>
                      <a:pt x="17358" y="6"/>
                    </a:cubicBezTo>
                    <a:cubicBezTo>
                      <a:pt x="17358" y="7"/>
                      <a:pt x="17357" y="8"/>
                      <a:pt x="17356" y="8"/>
                    </a:cubicBezTo>
                    <a:lnTo>
                      <a:pt x="17356" y="8"/>
                    </a:lnTo>
                    <a:cubicBezTo>
                      <a:pt x="17355" y="8"/>
                      <a:pt x="17354" y="7"/>
                      <a:pt x="17354" y="6"/>
                    </a:cubicBezTo>
                    <a:cubicBezTo>
                      <a:pt x="17354" y="5"/>
                      <a:pt x="17355" y="4"/>
                      <a:pt x="17356" y="4"/>
                    </a:cubicBezTo>
                    <a:close/>
                    <a:moveTo>
                      <a:pt x="17364" y="4"/>
                    </a:moveTo>
                    <a:lnTo>
                      <a:pt x="17364" y="4"/>
                    </a:lnTo>
                    <a:cubicBezTo>
                      <a:pt x="17365" y="4"/>
                      <a:pt x="17366" y="5"/>
                      <a:pt x="17366" y="6"/>
                    </a:cubicBezTo>
                    <a:cubicBezTo>
                      <a:pt x="17366" y="7"/>
                      <a:pt x="17365" y="8"/>
                      <a:pt x="17364" y="8"/>
                    </a:cubicBezTo>
                    <a:lnTo>
                      <a:pt x="17364" y="8"/>
                    </a:lnTo>
                    <a:cubicBezTo>
                      <a:pt x="17363" y="8"/>
                      <a:pt x="17362" y="7"/>
                      <a:pt x="17362" y="6"/>
                    </a:cubicBezTo>
                    <a:cubicBezTo>
                      <a:pt x="17362" y="5"/>
                      <a:pt x="17363" y="4"/>
                      <a:pt x="17364" y="4"/>
                    </a:cubicBezTo>
                    <a:close/>
                    <a:moveTo>
                      <a:pt x="17372" y="4"/>
                    </a:moveTo>
                    <a:lnTo>
                      <a:pt x="17372" y="4"/>
                    </a:lnTo>
                    <a:cubicBezTo>
                      <a:pt x="17373" y="4"/>
                      <a:pt x="17374" y="5"/>
                      <a:pt x="17374" y="6"/>
                    </a:cubicBezTo>
                    <a:cubicBezTo>
                      <a:pt x="17374" y="7"/>
                      <a:pt x="17373" y="8"/>
                      <a:pt x="17372" y="8"/>
                    </a:cubicBezTo>
                    <a:lnTo>
                      <a:pt x="17372" y="8"/>
                    </a:lnTo>
                    <a:cubicBezTo>
                      <a:pt x="17371" y="8"/>
                      <a:pt x="17370" y="7"/>
                      <a:pt x="17370" y="6"/>
                    </a:cubicBezTo>
                    <a:cubicBezTo>
                      <a:pt x="17370" y="5"/>
                      <a:pt x="17371" y="4"/>
                      <a:pt x="17372" y="4"/>
                    </a:cubicBezTo>
                    <a:close/>
                    <a:moveTo>
                      <a:pt x="17380" y="4"/>
                    </a:moveTo>
                    <a:lnTo>
                      <a:pt x="17380" y="4"/>
                    </a:lnTo>
                    <a:cubicBezTo>
                      <a:pt x="17381" y="4"/>
                      <a:pt x="17382" y="5"/>
                      <a:pt x="17382" y="6"/>
                    </a:cubicBezTo>
                    <a:cubicBezTo>
                      <a:pt x="17382" y="7"/>
                      <a:pt x="17381" y="8"/>
                      <a:pt x="17380" y="8"/>
                    </a:cubicBezTo>
                    <a:lnTo>
                      <a:pt x="17380" y="8"/>
                    </a:lnTo>
                    <a:cubicBezTo>
                      <a:pt x="17379" y="8"/>
                      <a:pt x="17378" y="7"/>
                      <a:pt x="17378" y="6"/>
                    </a:cubicBezTo>
                    <a:cubicBezTo>
                      <a:pt x="17378" y="5"/>
                      <a:pt x="17379" y="4"/>
                      <a:pt x="17380" y="4"/>
                    </a:cubicBezTo>
                    <a:close/>
                    <a:moveTo>
                      <a:pt x="17388" y="4"/>
                    </a:moveTo>
                    <a:lnTo>
                      <a:pt x="17388" y="4"/>
                    </a:lnTo>
                    <a:cubicBezTo>
                      <a:pt x="17389" y="4"/>
                      <a:pt x="17390" y="5"/>
                      <a:pt x="17390" y="6"/>
                    </a:cubicBezTo>
                    <a:cubicBezTo>
                      <a:pt x="17390" y="7"/>
                      <a:pt x="17389" y="8"/>
                      <a:pt x="17388" y="8"/>
                    </a:cubicBezTo>
                    <a:lnTo>
                      <a:pt x="17388" y="8"/>
                    </a:lnTo>
                    <a:cubicBezTo>
                      <a:pt x="17387" y="8"/>
                      <a:pt x="17386" y="7"/>
                      <a:pt x="17386" y="6"/>
                    </a:cubicBezTo>
                    <a:cubicBezTo>
                      <a:pt x="17386" y="5"/>
                      <a:pt x="17387" y="4"/>
                      <a:pt x="17388" y="4"/>
                    </a:cubicBezTo>
                    <a:close/>
                    <a:moveTo>
                      <a:pt x="17396" y="4"/>
                    </a:moveTo>
                    <a:lnTo>
                      <a:pt x="17396" y="4"/>
                    </a:lnTo>
                    <a:cubicBezTo>
                      <a:pt x="17397" y="4"/>
                      <a:pt x="17398" y="5"/>
                      <a:pt x="17398" y="6"/>
                    </a:cubicBezTo>
                    <a:cubicBezTo>
                      <a:pt x="17398" y="7"/>
                      <a:pt x="17397" y="8"/>
                      <a:pt x="17396" y="8"/>
                    </a:cubicBezTo>
                    <a:lnTo>
                      <a:pt x="17396" y="8"/>
                    </a:lnTo>
                    <a:cubicBezTo>
                      <a:pt x="17395" y="8"/>
                      <a:pt x="17394" y="7"/>
                      <a:pt x="17394" y="6"/>
                    </a:cubicBezTo>
                    <a:cubicBezTo>
                      <a:pt x="17394" y="5"/>
                      <a:pt x="17395" y="4"/>
                      <a:pt x="17396" y="4"/>
                    </a:cubicBezTo>
                    <a:close/>
                    <a:moveTo>
                      <a:pt x="17404" y="4"/>
                    </a:moveTo>
                    <a:lnTo>
                      <a:pt x="17404" y="4"/>
                    </a:lnTo>
                    <a:cubicBezTo>
                      <a:pt x="17405" y="4"/>
                      <a:pt x="17406" y="5"/>
                      <a:pt x="17406" y="6"/>
                    </a:cubicBezTo>
                    <a:cubicBezTo>
                      <a:pt x="17406" y="7"/>
                      <a:pt x="17405" y="8"/>
                      <a:pt x="17404" y="8"/>
                    </a:cubicBezTo>
                    <a:lnTo>
                      <a:pt x="17404" y="8"/>
                    </a:lnTo>
                    <a:cubicBezTo>
                      <a:pt x="17403" y="8"/>
                      <a:pt x="17402" y="7"/>
                      <a:pt x="17402" y="6"/>
                    </a:cubicBezTo>
                    <a:cubicBezTo>
                      <a:pt x="17402" y="5"/>
                      <a:pt x="17403" y="4"/>
                      <a:pt x="17404" y="4"/>
                    </a:cubicBezTo>
                    <a:close/>
                    <a:moveTo>
                      <a:pt x="17412" y="4"/>
                    </a:moveTo>
                    <a:lnTo>
                      <a:pt x="17412" y="4"/>
                    </a:lnTo>
                    <a:cubicBezTo>
                      <a:pt x="17413" y="4"/>
                      <a:pt x="17414" y="5"/>
                      <a:pt x="17414" y="6"/>
                    </a:cubicBezTo>
                    <a:cubicBezTo>
                      <a:pt x="17414" y="7"/>
                      <a:pt x="17413" y="8"/>
                      <a:pt x="17412" y="8"/>
                    </a:cubicBezTo>
                    <a:lnTo>
                      <a:pt x="17412" y="8"/>
                    </a:lnTo>
                    <a:cubicBezTo>
                      <a:pt x="17411" y="8"/>
                      <a:pt x="17410" y="7"/>
                      <a:pt x="17410" y="6"/>
                    </a:cubicBezTo>
                    <a:cubicBezTo>
                      <a:pt x="17410" y="5"/>
                      <a:pt x="17411" y="4"/>
                      <a:pt x="17412" y="4"/>
                    </a:cubicBezTo>
                    <a:close/>
                    <a:moveTo>
                      <a:pt x="17420" y="4"/>
                    </a:moveTo>
                    <a:lnTo>
                      <a:pt x="17420" y="4"/>
                    </a:lnTo>
                    <a:cubicBezTo>
                      <a:pt x="17421" y="4"/>
                      <a:pt x="17422" y="5"/>
                      <a:pt x="17422" y="6"/>
                    </a:cubicBezTo>
                    <a:cubicBezTo>
                      <a:pt x="17422" y="7"/>
                      <a:pt x="17421" y="8"/>
                      <a:pt x="17420" y="8"/>
                    </a:cubicBezTo>
                    <a:lnTo>
                      <a:pt x="17420" y="8"/>
                    </a:lnTo>
                    <a:cubicBezTo>
                      <a:pt x="17419" y="8"/>
                      <a:pt x="17418" y="7"/>
                      <a:pt x="17418" y="6"/>
                    </a:cubicBezTo>
                    <a:cubicBezTo>
                      <a:pt x="17418" y="5"/>
                      <a:pt x="17419" y="4"/>
                      <a:pt x="17420" y="4"/>
                    </a:cubicBezTo>
                    <a:close/>
                    <a:moveTo>
                      <a:pt x="17428" y="4"/>
                    </a:moveTo>
                    <a:lnTo>
                      <a:pt x="17428" y="4"/>
                    </a:lnTo>
                    <a:cubicBezTo>
                      <a:pt x="17429" y="4"/>
                      <a:pt x="17430" y="5"/>
                      <a:pt x="17430" y="6"/>
                    </a:cubicBezTo>
                    <a:cubicBezTo>
                      <a:pt x="17430" y="7"/>
                      <a:pt x="17429" y="8"/>
                      <a:pt x="17428" y="8"/>
                    </a:cubicBezTo>
                    <a:lnTo>
                      <a:pt x="17428" y="8"/>
                    </a:lnTo>
                    <a:cubicBezTo>
                      <a:pt x="17427" y="8"/>
                      <a:pt x="17426" y="7"/>
                      <a:pt x="17426" y="6"/>
                    </a:cubicBezTo>
                    <a:cubicBezTo>
                      <a:pt x="17426" y="5"/>
                      <a:pt x="17427" y="4"/>
                      <a:pt x="17428" y="4"/>
                    </a:cubicBezTo>
                    <a:close/>
                    <a:moveTo>
                      <a:pt x="17436" y="4"/>
                    </a:moveTo>
                    <a:lnTo>
                      <a:pt x="17436" y="4"/>
                    </a:lnTo>
                    <a:cubicBezTo>
                      <a:pt x="17437" y="4"/>
                      <a:pt x="17438" y="5"/>
                      <a:pt x="17438" y="6"/>
                    </a:cubicBezTo>
                    <a:cubicBezTo>
                      <a:pt x="17438" y="7"/>
                      <a:pt x="17437" y="8"/>
                      <a:pt x="17436" y="8"/>
                    </a:cubicBezTo>
                    <a:lnTo>
                      <a:pt x="17436" y="8"/>
                    </a:lnTo>
                    <a:cubicBezTo>
                      <a:pt x="17435" y="8"/>
                      <a:pt x="17434" y="7"/>
                      <a:pt x="17434" y="6"/>
                    </a:cubicBezTo>
                    <a:cubicBezTo>
                      <a:pt x="17434" y="5"/>
                      <a:pt x="17435" y="4"/>
                      <a:pt x="17436" y="4"/>
                    </a:cubicBezTo>
                    <a:close/>
                    <a:moveTo>
                      <a:pt x="17444" y="4"/>
                    </a:moveTo>
                    <a:lnTo>
                      <a:pt x="17444" y="4"/>
                    </a:lnTo>
                    <a:cubicBezTo>
                      <a:pt x="17445" y="4"/>
                      <a:pt x="17446" y="5"/>
                      <a:pt x="17446" y="6"/>
                    </a:cubicBezTo>
                    <a:cubicBezTo>
                      <a:pt x="17446" y="7"/>
                      <a:pt x="17445" y="8"/>
                      <a:pt x="17444" y="8"/>
                    </a:cubicBezTo>
                    <a:lnTo>
                      <a:pt x="17444" y="8"/>
                    </a:lnTo>
                    <a:cubicBezTo>
                      <a:pt x="17443" y="8"/>
                      <a:pt x="17442" y="7"/>
                      <a:pt x="17442" y="6"/>
                    </a:cubicBezTo>
                    <a:cubicBezTo>
                      <a:pt x="17442" y="5"/>
                      <a:pt x="17443" y="4"/>
                      <a:pt x="17444" y="4"/>
                    </a:cubicBezTo>
                    <a:close/>
                    <a:moveTo>
                      <a:pt x="17452" y="4"/>
                    </a:moveTo>
                    <a:lnTo>
                      <a:pt x="17452" y="4"/>
                    </a:lnTo>
                    <a:cubicBezTo>
                      <a:pt x="17453" y="4"/>
                      <a:pt x="17454" y="5"/>
                      <a:pt x="17454" y="6"/>
                    </a:cubicBezTo>
                    <a:cubicBezTo>
                      <a:pt x="17454" y="7"/>
                      <a:pt x="17453" y="8"/>
                      <a:pt x="17452" y="8"/>
                    </a:cubicBezTo>
                    <a:lnTo>
                      <a:pt x="17452" y="8"/>
                    </a:lnTo>
                    <a:cubicBezTo>
                      <a:pt x="17451" y="8"/>
                      <a:pt x="17450" y="7"/>
                      <a:pt x="17450" y="6"/>
                    </a:cubicBezTo>
                    <a:cubicBezTo>
                      <a:pt x="17450" y="5"/>
                      <a:pt x="17451" y="4"/>
                      <a:pt x="17452" y="4"/>
                    </a:cubicBezTo>
                    <a:close/>
                    <a:moveTo>
                      <a:pt x="17460" y="4"/>
                    </a:moveTo>
                    <a:lnTo>
                      <a:pt x="17460" y="4"/>
                    </a:lnTo>
                    <a:cubicBezTo>
                      <a:pt x="17461" y="4"/>
                      <a:pt x="17462" y="5"/>
                      <a:pt x="17462" y="6"/>
                    </a:cubicBezTo>
                    <a:cubicBezTo>
                      <a:pt x="17462" y="7"/>
                      <a:pt x="17461" y="8"/>
                      <a:pt x="17460" y="8"/>
                    </a:cubicBezTo>
                    <a:lnTo>
                      <a:pt x="17460" y="8"/>
                    </a:lnTo>
                    <a:cubicBezTo>
                      <a:pt x="17459" y="8"/>
                      <a:pt x="17458" y="7"/>
                      <a:pt x="17458" y="6"/>
                    </a:cubicBezTo>
                    <a:cubicBezTo>
                      <a:pt x="17458" y="5"/>
                      <a:pt x="17459" y="4"/>
                      <a:pt x="17460" y="4"/>
                    </a:cubicBezTo>
                    <a:close/>
                    <a:moveTo>
                      <a:pt x="17468" y="4"/>
                    </a:moveTo>
                    <a:lnTo>
                      <a:pt x="17468" y="4"/>
                    </a:lnTo>
                    <a:cubicBezTo>
                      <a:pt x="17469" y="4"/>
                      <a:pt x="17470" y="5"/>
                      <a:pt x="17470" y="6"/>
                    </a:cubicBezTo>
                    <a:cubicBezTo>
                      <a:pt x="17470" y="7"/>
                      <a:pt x="17469" y="8"/>
                      <a:pt x="17468" y="8"/>
                    </a:cubicBezTo>
                    <a:lnTo>
                      <a:pt x="17468" y="8"/>
                    </a:lnTo>
                    <a:cubicBezTo>
                      <a:pt x="17467" y="8"/>
                      <a:pt x="17466" y="7"/>
                      <a:pt x="17466" y="6"/>
                    </a:cubicBezTo>
                    <a:cubicBezTo>
                      <a:pt x="17466" y="5"/>
                      <a:pt x="17467" y="4"/>
                      <a:pt x="17468" y="4"/>
                    </a:cubicBezTo>
                    <a:close/>
                    <a:moveTo>
                      <a:pt x="17476" y="4"/>
                    </a:moveTo>
                    <a:lnTo>
                      <a:pt x="17476" y="4"/>
                    </a:lnTo>
                    <a:cubicBezTo>
                      <a:pt x="17477" y="4"/>
                      <a:pt x="17478" y="5"/>
                      <a:pt x="17478" y="6"/>
                    </a:cubicBezTo>
                    <a:cubicBezTo>
                      <a:pt x="17478" y="7"/>
                      <a:pt x="17477" y="8"/>
                      <a:pt x="17476" y="8"/>
                    </a:cubicBezTo>
                    <a:lnTo>
                      <a:pt x="17476" y="8"/>
                    </a:lnTo>
                    <a:cubicBezTo>
                      <a:pt x="17475" y="8"/>
                      <a:pt x="17474" y="7"/>
                      <a:pt x="17474" y="6"/>
                    </a:cubicBezTo>
                    <a:cubicBezTo>
                      <a:pt x="17474" y="5"/>
                      <a:pt x="17475" y="4"/>
                      <a:pt x="17476" y="4"/>
                    </a:cubicBezTo>
                    <a:close/>
                    <a:moveTo>
                      <a:pt x="17484" y="4"/>
                    </a:moveTo>
                    <a:lnTo>
                      <a:pt x="17484" y="4"/>
                    </a:lnTo>
                    <a:cubicBezTo>
                      <a:pt x="17485" y="4"/>
                      <a:pt x="17486" y="5"/>
                      <a:pt x="17486" y="6"/>
                    </a:cubicBezTo>
                    <a:cubicBezTo>
                      <a:pt x="17486" y="7"/>
                      <a:pt x="17485" y="8"/>
                      <a:pt x="17484" y="8"/>
                    </a:cubicBezTo>
                    <a:lnTo>
                      <a:pt x="17484" y="8"/>
                    </a:lnTo>
                    <a:cubicBezTo>
                      <a:pt x="17483" y="8"/>
                      <a:pt x="17482" y="7"/>
                      <a:pt x="17482" y="6"/>
                    </a:cubicBezTo>
                    <a:cubicBezTo>
                      <a:pt x="17482" y="5"/>
                      <a:pt x="17483" y="4"/>
                      <a:pt x="17484" y="4"/>
                    </a:cubicBezTo>
                    <a:close/>
                    <a:moveTo>
                      <a:pt x="17492" y="4"/>
                    </a:moveTo>
                    <a:lnTo>
                      <a:pt x="17492" y="4"/>
                    </a:lnTo>
                    <a:cubicBezTo>
                      <a:pt x="17493" y="4"/>
                      <a:pt x="17494" y="5"/>
                      <a:pt x="17494" y="6"/>
                    </a:cubicBezTo>
                    <a:cubicBezTo>
                      <a:pt x="17494" y="7"/>
                      <a:pt x="17493" y="8"/>
                      <a:pt x="17492" y="8"/>
                    </a:cubicBezTo>
                    <a:lnTo>
                      <a:pt x="17492" y="8"/>
                    </a:lnTo>
                    <a:cubicBezTo>
                      <a:pt x="17491" y="8"/>
                      <a:pt x="17490" y="7"/>
                      <a:pt x="17490" y="6"/>
                    </a:cubicBezTo>
                    <a:cubicBezTo>
                      <a:pt x="17490" y="5"/>
                      <a:pt x="17491" y="4"/>
                      <a:pt x="17492" y="4"/>
                    </a:cubicBezTo>
                    <a:close/>
                    <a:moveTo>
                      <a:pt x="17500" y="4"/>
                    </a:moveTo>
                    <a:lnTo>
                      <a:pt x="17500" y="4"/>
                    </a:lnTo>
                    <a:cubicBezTo>
                      <a:pt x="17501" y="4"/>
                      <a:pt x="17502" y="5"/>
                      <a:pt x="17502" y="6"/>
                    </a:cubicBezTo>
                    <a:cubicBezTo>
                      <a:pt x="17502" y="7"/>
                      <a:pt x="17501" y="8"/>
                      <a:pt x="17500" y="8"/>
                    </a:cubicBezTo>
                    <a:lnTo>
                      <a:pt x="17500" y="8"/>
                    </a:lnTo>
                    <a:cubicBezTo>
                      <a:pt x="17499" y="8"/>
                      <a:pt x="17498" y="7"/>
                      <a:pt x="17498" y="6"/>
                    </a:cubicBezTo>
                    <a:cubicBezTo>
                      <a:pt x="17498" y="5"/>
                      <a:pt x="17499" y="4"/>
                      <a:pt x="17500" y="4"/>
                    </a:cubicBezTo>
                    <a:close/>
                    <a:moveTo>
                      <a:pt x="17508" y="4"/>
                    </a:moveTo>
                    <a:lnTo>
                      <a:pt x="17508" y="4"/>
                    </a:lnTo>
                    <a:cubicBezTo>
                      <a:pt x="17509" y="4"/>
                      <a:pt x="17510" y="5"/>
                      <a:pt x="17510" y="6"/>
                    </a:cubicBezTo>
                    <a:cubicBezTo>
                      <a:pt x="17510" y="7"/>
                      <a:pt x="17509" y="8"/>
                      <a:pt x="17508" y="8"/>
                    </a:cubicBezTo>
                    <a:lnTo>
                      <a:pt x="17508" y="8"/>
                    </a:lnTo>
                    <a:cubicBezTo>
                      <a:pt x="17507" y="8"/>
                      <a:pt x="17506" y="7"/>
                      <a:pt x="17506" y="6"/>
                    </a:cubicBezTo>
                    <a:cubicBezTo>
                      <a:pt x="17506" y="5"/>
                      <a:pt x="17507" y="4"/>
                      <a:pt x="17508" y="4"/>
                    </a:cubicBezTo>
                    <a:close/>
                    <a:moveTo>
                      <a:pt x="17516" y="4"/>
                    </a:moveTo>
                    <a:lnTo>
                      <a:pt x="17516" y="4"/>
                    </a:lnTo>
                    <a:cubicBezTo>
                      <a:pt x="17517" y="4"/>
                      <a:pt x="17518" y="5"/>
                      <a:pt x="17518" y="6"/>
                    </a:cubicBezTo>
                    <a:cubicBezTo>
                      <a:pt x="17518" y="7"/>
                      <a:pt x="17517" y="8"/>
                      <a:pt x="17516" y="8"/>
                    </a:cubicBezTo>
                    <a:lnTo>
                      <a:pt x="17516" y="8"/>
                    </a:lnTo>
                    <a:cubicBezTo>
                      <a:pt x="17515" y="8"/>
                      <a:pt x="17514" y="7"/>
                      <a:pt x="17514" y="6"/>
                    </a:cubicBezTo>
                    <a:cubicBezTo>
                      <a:pt x="17514" y="5"/>
                      <a:pt x="17515" y="4"/>
                      <a:pt x="17516" y="4"/>
                    </a:cubicBezTo>
                    <a:close/>
                    <a:moveTo>
                      <a:pt x="17524" y="4"/>
                    </a:moveTo>
                    <a:lnTo>
                      <a:pt x="17524" y="4"/>
                    </a:lnTo>
                    <a:cubicBezTo>
                      <a:pt x="17525" y="4"/>
                      <a:pt x="17526" y="5"/>
                      <a:pt x="17526" y="6"/>
                    </a:cubicBezTo>
                    <a:cubicBezTo>
                      <a:pt x="17526" y="7"/>
                      <a:pt x="17525" y="8"/>
                      <a:pt x="17524" y="8"/>
                    </a:cubicBezTo>
                    <a:lnTo>
                      <a:pt x="17524" y="8"/>
                    </a:lnTo>
                    <a:cubicBezTo>
                      <a:pt x="17523" y="8"/>
                      <a:pt x="17522" y="7"/>
                      <a:pt x="17522" y="6"/>
                    </a:cubicBezTo>
                    <a:cubicBezTo>
                      <a:pt x="17522" y="5"/>
                      <a:pt x="17523" y="4"/>
                      <a:pt x="17524" y="4"/>
                    </a:cubicBezTo>
                    <a:close/>
                    <a:moveTo>
                      <a:pt x="17532" y="4"/>
                    </a:moveTo>
                    <a:lnTo>
                      <a:pt x="17532" y="4"/>
                    </a:lnTo>
                    <a:cubicBezTo>
                      <a:pt x="17533" y="4"/>
                      <a:pt x="17534" y="5"/>
                      <a:pt x="17534" y="6"/>
                    </a:cubicBezTo>
                    <a:cubicBezTo>
                      <a:pt x="17534" y="7"/>
                      <a:pt x="17533" y="8"/>
                      <a:pt x="17532" y="8"/>
                    </a:cubicBezTo>
                    <a:lnTo>
                      <a:pt x="17532" y="8"/>
                    </a:lnTo>
                    <a:cubicBezTo>
                      <a:pt x="17531" y="8"/>
                      <a:pt x="17530" y="7"/>
                      <a:pt x="17530" y="6"/>
                    </a:cubicBezTo>
                    <a:cubicBezTo>
                      <a:pt x="17530" y="5"/>
                      <a:pt x="17531" y="4"/>
                      <a:pt x="17532" y="4"/>
                    </a:cubicBezTo>
                    <a:close/>
                    <a:moveTo>
                      <a:pt x="17540" y="4"/>
                    </a:moveTo>
                    <a:lnTo>
                      <a:pt x="17540" y="4"/>
                    </a:lnTo>
                    <a:cubicBezTo>
                      <a:pt x="17541" y="4"/>
                      <a:pt x="17542" y="5"/>
                      <a:pt x="17542" y="6"/>
                    </a:cubicBezTo>
                    <a:cubicBezTo>
                      <a:pt x="17542" y="8"/>
                      <a:pt x="17541" y="8"/>
                      <a:pt x="17540" y="8"/>
                    </a:cubicBezTo>
                    <a:lnTo>
                      <a:pt x="17540" y="8"/>
                    </a:lnTo>
                    <a:cubicBezTo>
                      <a:pt x="17539" y="8"/>
                      <a:pt x="17538" y="8"/>
                      <a:pt x="17538" y="6"/>
                    </a:cubicBezTo>
                    <a:cubicBezTo>
                      <a:pt x="17538" y="5"/>
                      <a:pt x="17539" y="4"/>
                      <a:pt x="17540" y="4"/>
                    </a:cubicBezTo>
                    <a:close/>
                    <a:moveTo>
                      <a:pt x="17548" y="4"/>
                    </a:moveTo>
                    <a:lnTo>
                      <a:pt x="17548" y="4"/>
                    </a:lnTo>
                    <a:cubicBezTo>
                      <a:pt x="17549" y="4"/>
                      <a:pt x="17550" y="5"/>
                      <a:pt x="17550" y="6"/>
                    </a:cubicBezTo>
                    <a:cubicBezTo>
                      <a:pt x="17550" y="8"/>
                      <a:pt x="17549" y="8"/>
                      <a:pt x="17548" y="8"/>
                    </a:cubicBezTo>
                    <a:lnTo>
                      <a:pt x="17548" y="8"/>
                    </a:lnTo>
                    <a:cubicBezTo>
                      <a:pt x="17547" y="8"/>
                      <a:pt x="17546" y="8"/>
                      <a:pt x="17546" y="6"/>
                    </a:cubicBezTo>
                    <a:cubicBezTo>
                      <a:pt x="17546" y="5"/>
                      <a:pt x="17547" y="4"/>
                      <a:pt x="17548" y="4"/>
                    </a:cubicBezTo>
                    <a:close/>
                    <a:moveTo>
                      <a:pt x="17556" y="4"/>
                    </a:moveTo>
                    <a:lnTo>
                      <a:pt x="17556" y="4"/>
                    </a:lnTo>
                    <a:cubicBezTo>
                      <a:pt x="17557" y="4"/>
                      <a:pt x="17558" y="5"/>
                      <a:pt x="17558" y="6"/>
                    </a:cubicBezTo>
                    <a:cubicBezTo>
                      <a:pt x="17558" y="8"/>
                      <a:pt x="17557" y="8"/>
                      <a:pt x="17556" y="8"/>
                    </a:cubicBezTo>
                    <a:lnTo>
                      <a:pt x="17556" y="8"/>
                    </a:lnTo>
                    <a:cubicBezTo>
                      <a:pt x="17555" y="8"/>
                      <a:pt x="17554" y="8"/>
                      <a:pt x="17554" y="6"/>
                    </a:cubicBezTo>
                    <a:cubicBezTo>
                      <a:pt x="17554" y="5"/>
                      <a:pt x="17555" y="4"/>
                      <a:pt x="17556" y="4"/>
                    </a:cubicBezTo>
                    <a:close/>
                    <a:moveTo>
                      <a:pt x="17564" y="4"/>
                    </a:moveTo>
                    <a:lnTo>
                      <a:pt x="17564" y="4"/>
                    </a:lnTo>
                    <a:cubicBezTo>
                      <a:pt x="17565" y="4"/>
                      <a:pt x="17566" y="5"/>
                      <a:pt x="17566" y="6"/>
                    </a:cubicBezTo>
                    <a:cubicBezTo>
                      <a:pt x="17566" y="8"/>
                      <a:pt x="17565" y="8"/>
                      <a:pt x="17564" y="8"/>
                    </a:cubicBezTo>
                    <a:lnTo>
                      <a:pt x="17564" y="8"/>
                    </a:lnTo>
                    <a:cubicBezTo>
                      <a:pt x="17563" y="8"/>
                      <a:pt x="17562" y="8"/>
                      <a:pt x="17562" y="6"/>
                    </a:cubicBezTo>
                    <a:cubicBezTo>
                      <a:pt x="17562" y="5"/>
                      <a:pt x="17563" y="4"/>
                      <a:pt x="17564" y="4"/>
                    </a:cubicBezTo>
                    <a:close/>
                    <a:moveTo>
                      <a:pt x="17572" y="4"/>
                    </a:moveTo>
                    <a:lnTo>
                      <a:pt x="17572" y="4"/>
                    </a:lnTo>
                    <a:cubicBezTo>
                      <a:pt x="17573" y="4"/>
                      <a:pt x="17574" y="5"/>
                      <a:pt x="17574" y="6"/>
                    </a:cubicBezTo>
                    <a:cubicBezTo>
                      <a:pt x="17574" y="8"/>
                      <a:pt x="17573" y="8"/>
                      <a:pt x="17572" y="8"/>
                    </a:cubicBezTo>
                    <a:lnTo>
                      <a:pt x="17572" y="8"/>
                    </a:lnTo>
                    <a:cubicBezTo>
                      <a:pt x="17571" y="8"/>
                      <a:pt x="17570" y="8"/>
                      <a:pt x="17570" y="6"/>
                    </a:cubicBezTo>
                    <a:cubicBezTo>
                      <a:pt x="17570" y="5"/>
                      <a:pt x="17571" y="4"/>
                      <a:pt x="17572" y="4"/>
                    </a:cubicBezTo>
                    <a:close/>
                    <a:moveTo>
                      <a:pt x="17580" y="4"/>
                    </a:moveTo>
                    <a:lnTo>
                      <a:pt x="17580" y="4"/>
                    </a:lnTo>
                    <a:cubicBezTo>
                      <a:pt x="17581" y="4"/>
                      <a:pt x="17582" y="5"/>
                      <a:pt x="17582" y="6"/>
                    </a:cubicBezTo>
                    <a:cubicBezTo>
                      <a:pt x="17582" y="8"/>
                      <a:pt x="17581" y="8"/>
                      <a:pt x="17580" y="8"/>
                    </a:cubicBezTo>
                    <a:lnTo>
                      <a:pt x="17580" y="8"/>
                    </a:lnTo>
                    <a:cubicBezTo>
                      <a:pt x="17579" y="8"/>
                      <a:pt x="17578" y="8"/>
                      <a:pt x="17578" y="6"/>
                    </a:cubicBezTo>
                    <a:cubicBezTo>
                      <a:pt x="17578" y="5"/>
                      <a:pt x="17579" y="4"/>
                      <a:pt x="17580" y="4"/>
                    </a:cubicBezTo>
                    <a:close/>
                    <a:moveTo>
                      <a:pt x="17588" y="4"/>
                    </a:moveTo>
                    <a:lnTo>
                      <a:pt x="17588" y="4"/>
                    </a:lnTo>
                    <a:cubicBezTo>
                      <a:pt x="17589" y="4"/>
                      <a:pt x="17590" y="5"/>
                      <a:pt x="17590" y="6"/>
                    </a:cubicBezTo>
                    <a:cubicBezTo>
                      <a:pt x="17590" y="8"/>
                      <a:pt x="17589" y="8"/>
                      <a:pt x="17588" y="8"/>
                    </a:cubicBezTo>
                    <a:lnTo>
                      <a:pt x="17588" y="8"/>
                    </a:lnTo>
                    <a:cubicBezTo>
                      <a:pt x="17587" y="8"/>
                      <a:pt x="17586" y="8"/>
                      <a:pt x="17586" y="6"/>
                    </a:cubicBezTo>
                    <a:cubicBezTo>
                      <a:pt x="17586" y="5"/>
                      <a:pt x="17587" y="4"/>
                      <a:pt x="17588" y="4"/>
                    </a:cubicBezTo>
                    <a:close/>
                    <a:moveTo>
                      <a:pt x="17596" y="4"/>
                    </a:moveTo>
                    <a:lnTo>
                      <a:pt x="17596" y="4"/>
                    </a:lnTo>
                    <a:cubicBezTo>
                      <a:pt x="17597" y="4"/>
                      <a:pt x="17598" y="5"/>
                      <a:pt x="17598" y="6"/>
                    </a:cubicBezTo>
                    <a:cubicBezTo>
                      <a:pt x="17598" y="8"/>
                      <a:pt x="17597" y="8"/>
                      <a:pt x="17596" y="8"/>
                    </a:cubicBezTo>
                    <a:lnTo>
                      <a:pt x="17596" y="8"/>
                    </a:lnTo>
                    <a:cubicBezTo>
                      <a:pt x="17595" y="8"/>
                      <a:pt x="17594" y="8"/>
                      <a:pt x="17594" y="6"/>
                    </a:cubicBezTo>
                    <a:cubicBezTo>
                      <a:pt x="17594" y="5"/>
                      <a:pt x="17595" y="4"/>
                      <a:pt x="17596" y="4"/>
                    </a:cubicBezTo>
                    <a:close/>
                    <a:moveTo>
                      <a:pt x="17604" y="4"/>
                    </a:moveTo>
                    <a:lnTo>
                      <a:pt x="17604" y="4"/>
                    </a:lnTo>
                    <a:cubicBezTo>
                      <a:pt x="17605" y="4"/>
                      <a:pt x="17606" y="5"/>
                      <a:pt x="17606" y="6"/>
                    </a:cubicBezTo>
                    <a:cubicBezTo>
                      <a:pt x="17606" y="8"/>
                      <a:pt x="17605" y="8"/>
                      <a:pt x="17604" y="8"/>
                    </a:cubicBezTo>
                    <a:lnTo>
                      <a:pt x="17604" y="8"/>
                    </a:lnTo>
                    <a:cubicBezTo>
                      <a:pt x="17603" y="8"/>
                      <a:pt x="17602" y="8"/>
                      <a:pt x="17602" y="6"/>
                    </a:cubicBezTo>
                    <a:cubicBezTo>
                      <a:pt x="17602" y="5"/>
                      <a:pt x="17603" y="4"/>
                      <a:pt x="17604" y="4"/>
                    </a:cubicBezTo>
                    <a:close/>
                    <a:moveTo>
                      <a:pt x="17612" y="4"/>
                    </a:moveTo>
                    <a:lnTo>
                      <a:pt x="17612" y="4"/>
                    </a:lnTo>
                    <a:cubicBezTo>
                      <a:pt x="17613" y="4"/>
                      <a:pt x="17614" y="5"/>
                      <a:pt x="17614" y="6"/>
                    </a:cubicBezTo>
                    <a:cubicBezTo>
                      <a:pt x="17614" y="8"/>
                      <a:pt x="17613" y="8"/>
                      <a:pt x="17612" y="8"/>
                    </a:cubicBezTo>
                    <a:lnTo>
                      <a:pt x="17612" y="8"/>
                    </a:lnTo>
                    <a:cubicBezTo>
                      <a:pt x="17611" y="8"/>
                      <a:pt x="17610" y="8"/>
                      <a:pt x="17610" y="6"/>
                    </a:cubicBezTo>
                    <a:cubicBezTo>
                      <a:pt x="17610" y="5"/>
                      <a:pt x="17611" y="4"/>
                      <a:pt x="17612" y="4"/>
                    </a:cubicBezTo>
                    <a:close/>
                    <a:moveTo>
                      <a:pt x="17620" y="4"/>
                    </a:moveTo>
                    <a:lnTo>
                      <a:pt x="17620" y="4"/>
                    </a:lnTo>
                    <a:cubicBezTo>
                      <a:pt x="17621" y="4"/>
                      <a:pt x="17622" y="5"/>
                      <a:pt x="17622" y="6"/>
                    </a:cubicBezTo>
                    <a:cubicBezTo>
                      <a:pt x="17622" y="8"/>
                      <a:pt x="17621" y="8"/>
                      <a:pt x="17620" y="8"/>
                    </a:cubicBezTo>
                    <a:lnTo>
                      <a:pt x="17620" y="8"/>
                    </a:lnTo>
                    <a:cubicBezTo>
                      <a:pt x="17619" y="8"/>
                      <a:pt x="17618" y="8"/>
                      <a:pt x="17618" y="6"/>
                    </a:cubicBezTo>
                    <a:cubicBezTo>
                      <a:pt x="17618" y="5"/>
                      <a:pt x="17619" y="4"/>
                      <a:pt x="17620" y="4"/>
                    </a:cubicBezTo>
                    <a:close/>
                    <a:moveTo>
                      <a:pt x="17628" y="4"/>
                    </a:moveTo>
                    <a:lnTo>
                      <a:pt x="17628" y="4"/>
                    </a:lnTo>
                    <a:cubicBezTo>
                      <a:pt x="17629" y="4"/>
                      <a:pt x="17630" y="5"/>
                      <a:pt x="17630" y="6"/>
                    </a:cubicBezTo>
                    <a:cubicBezTo>
                      <a:pt x="17630" y="8"/>
                      <a:pt x="17629" y="8"/>
                      <a:pt x="17628" y="8"/>
                    </a:cubicBezTo>
                    <a:lnTo>
                      <a:pt x="17628" y="8"/>
                    </a:lnTo>
                    <a:cubicBezTo>
                      <a:pt x="17627" y="8"/>
                      <a:pt x="17626" y="8"/>
                      <a:pt x="17626" y="6"/>
                    </a:cubicBezTo>
                    <a:cubicBezTo>
                      <a:pt x="17626" y="5"/>
                      <a:pt x="17627" y="4"/>
                      <a:pt x="17628" y="4"/>
                    </a:cubicBezTo>
                    <a:close/>
                    <a:moveTo>
                      <a:pt x="17636" y="4"/>
                    </a:moveTo>
                    <a:lnTo>
                      <a:pt x="17636" y="4"/>
                    </a:lnTo>
                    <a:cubicBezTo>
                      <a:pt x="17637" y="4"/>
                      <a:pt x="17638" y="5"/>
                      <a:pt x="17638" y="6"/>
                    </a:cubicBezTo>
                    <a:cubicBezTo>
                      <a:pt x="17638" y="8"/>
                      <a:pt x="17637" y="8"/>
                      <a:pt x="17636" y="8"/>
                    </a:cubicBezTo>
                    <a:lnTo>
                      <a:pt x="17636" y="8"/>
                    </a:lnTo>
                    <a:cubicBezTo>
                      <a:pt x="17635" y="8"/>
                      <a:pt x="17634" y="8"/>
                      <a:pt x="17634" y="6"/>
                    </a:cubicBezTo>
                    <a:cubicBezTo>
                      <a:pt x="17634" y="5"/>
                      <a:pt x="17635" y="4"/>
                      <a:pt x="17636" y="4"/>
                    </a:cubicBezTo>
                    <a:close/>
                    <a:moveTo>
                      <a:pt x="17644" y="4"/>
                    </a:moveTo>
                    <a:lnTo>
                      <a:pt x="17644" y="4"/>
                    </a:lnTo>
                    <a:cubicBezTo>
                      <a:pt x="17645" y="4"/>
                      <a:pt x="17646" y="5"/>
                      <a:pt x="17646" y="6"/>
                    </a:cubicBezTo>
                    <a:cubicBezTo>
                      <a:pt x="17646" y="8"/>
                      <a:pt x="17645" y="8"/>
                      <a:pt x="17644" y="8"/>
                    </a:cubicBezTo>
                    <a:lnTo>
                      <a:pt x="17644" y="8"/>
                    </a:lnTo>
                    <a:cubicBezTo>
                      <a:pt x="17643" y="8"/>
                      <a:pt x="17642" y="8"/>
                      <a:pt x="17642" y="6"/>
                    </a:cubicBezTo>
                    <a:cubicBezTo>
                      <a:pt x="17642" y="5"/>
                      <a:pt x="17643" y="4"/>
                      <a:pt x="17644" y="4"/>
                    </a:cubicBezTo>
                    <a:close/>
                    <a:moveTo>
                      <a:pt x="17652" y="4"/>
                    </a:moveTo>
                    <a:lnTo>
                      <a:pt x="17652" y="4"/>
                    </a:lnTo>
                    <a:cubicBezTo>
                      <a:pt x="17653" y="4"/>
                      <a:pt x="17654" y="5"/>
                      <a:pt x="17654" y="6"/>
                    </a:cubicBezTo>
                    <a:cubicBezTo>
                      <a:pt x="17654" y="8"/>
                      <a:pt x="17653" y="8"/>
                      <a:pt x="17652" y="8"/>
                    </a:cubicBezTo>
                    <a:lnTo>
                      <a:pt x="17652" y="8"/>
                    </a:lnTo>
                    <a:cubicBezTo>
                      <a:pt x="17651" y="8"/>
                      <a:pt x="17650" y="8"/>
                      <a:pt x="17650" y="6"/>
                    </a:cubicBezTo>
                    <a:cubicBezTo>
                      <a:pt x="17650" y="5"/>
                      <a:pt x="17651" y="4"/>
                      <a:pt x="17652" y="4"/>
                    </a:cubicBezTo>
                    <a:close/>
                    <a:moveTo>
                      <a:pt x="17660" y="4"/>
                    </a:moveTo>
                    <a:lnTo>
                      <a:pt x="17660" y="4"/>
                    </a:lnTo>
                    <a:cubicBezTo>
                      <a:pt x="17661" y="4"/>
                      <a:pt x="17662" y="5"/>
                      <a:pt x="17662" y="6"/>
                    </a:cubicBezTo>
                    <a:cubicBezTo>
                      <a:pt x="17662" y="8"/>
                      <a:pt x="17661" y="8"/>
                      <a:pt x="17660" y="8"/>
                    </a:cubicBezTo>
                    <a:lnTo>
                      <a:pt x="17660" y="8"/>
                    </a:lnTo>
                    <a:cubicBezTo>
                      <a:pt x="17659" y="8"/>
                      <a:pt x="17658" y="8"/>
                      <a:pt x="17658" y="6"/>
                    </a:cubicBezTo>
                    <a:cubicBezTo>
                      <a:pt x="17658" y="5"/>
                      <a:pt x="17659" y="4"/>
                      <a:pt x="17660" y="4"/>
                    </a:cubicBezTo>
                    <a:close/>
                    <a:moveTo>
                      <a:pt x="17668" y="4"/>
                    </a:moveTo>
                    <a:lnTo>
                      <a:pt x="17668" y="4"/>
                    </a:lnTo>
                    <a:cubicBezTo>
                      <a:pt x="17669" y="4"/>
                      <a:pt x="17670" y="5"/>
                      <a:pt x="17670" y="6"/>
                    </a:cubicBezTo>
                    <a:cubicBezTo>
                      <a:pt x="17670" y="8"/>
                      <a:pt x="17669" y="8"/>
                      <a:pt x="17668" y="8"/>
                    </a:cubicBezTo>
                    <a:lnTo>
                      <a:pt x="17668" y="8"/>
                    </a:lnTo>
                    <a:cubicBezTo>
                      <a:pt x="17667" y="8"/>
                      <a:pt x="17666" y="8"/>
                      <a:pt x="17666" y="6"/>
                    </a:cubicBezTo>
                    <a:cubicBezTo>
                      <a:pt x="17666" y="5"/>
                      <a:pt x="17667" y="4"/>
                      <a:pt x="17668" y="4"/>
                    </a:cubicBezTo>
                    <a:close/>
                    <a:moveTo>
                      <a:pt x="17676" y="4"/>
                    </a:moveTo>
                    <a:lnTo>
                      <a:pt x="17676" y="4"/>
                    </a:lnTo>
                    <a:cubicBezTo>
                      <a:pt x="17677" y="4"/>
                      <a:pt x="17678" y="5"/>
                      <a:pt x="17678" y="6"/>
                    </a:cubicBezTo>
                    <a:cubicBezTo>
                      <a:pt x="17678" y="8"/>
                      <a:pt x="17677" y="8"/>
                      <a:pt x="17676" y="8"/>
                    </a:cubicBezTo>
                    <a:lnTo>
                      <a:pt x="17676" y="8"/>
                    </a:lnTo>
                    <a:cubicBezTo>
                      <a:pt x="17675" y="8"/>
                      <a:pt x="17674" y="8"/>
                      <a:pt x="17674" y="6"/>
                    </a:cubicBezTo>
                    <a:cubicBezTo>
                      <a:pt x="17674" y="5"/>
                      <a:pt x="17675" y="4"/>
                      <a:pt x="17676" y="4"/>
                    </a:cubicBezTo>
                    <a:close/>
                    <a:moveTo>
                      <a:pt x="17684" y="4"/>
                    </a:moveTo>
                    <a:lnTo>
                      <a:pt x="17684" y="4"/>
                    </a:lnTo>
                    <a:cubicBezTo>
                      <a:pt x="17685" y="4"/>
                      <a:pt x="17686" y="5"/>
                      <a:pt x="17686" y="6"/>
                    </a:cubicBezTo>
                    <a:cubicBezTo>
                      <a:pt x="17686" y="8"/>
                      <a:pt x="17685" y="8"/>
                      <a:pt x="17684" y="8"/>
                    </a:cubicBezTo>
                    <a:lnTo>
                      <a:pt x="17684" y="8"/>
                    </a:lnTo>
                    <a:cubicBezTo>
                      <a:pt x="17683" y="8"/>
                      <a:pt x="17682" y="8"/>
                      <a:pt x="17682" y="6"/>
                    </a:cubicBezTo>
                    <a:cubicBezTo>
                      <a:pt x="17682" y="5"/>
                      <a:pt x="17683" y="4"/>
                      <a:pt x="17684" y="4"/>
                    </a:cubicBezTo>
                    <a:close/>
                    <a:moveTo>
                      <a:pt x="17692" y="4"/>
                    </a:moveTo>
                    <a:lnTo>
                      <a:pt x="17692" y="4"/>
                    </a:lnTo>
                    <a:cubicBezTo>
                      <a:pt x="17693" y="4"/>
                      <a:pt x="17694" y="5"/>
                      <a:pt x="17694" y="6"/>
                    </a:cubicBezTo>
                    <a:cubicBezTo>
                      <a:pt x="17694" y="8"/>
                      <a:pt x="17693" y="8"/>
                      <a:pt x="17692" y="8"/>
                    </a:cubicBezTo>
                    <a:lnTo>
                      <a:pt x="17692" y="8"/>
                    </a:lnTo>
                    <a:cubicBezTo>
                      <a:pt x="17691" y="8"/>
                      <a:pt x="17690" y="8"/>
                      <a:pt x="17690" y="6"/>
                    </a:cubicBezTo>
                    <a:cubicBezTo>
                      <a:pt x="17690" y="5"/>
                      <a:pt x="17691" y="4"/>
                      <a:pt x="17692" y="4"/>
                    </a:cubicBezTo>
                    <a:close/>
                    <a:moveTo>
                      <a:pt x="17700" y="4"/>
                    </a:moveTo>
                    <a:lnTo>
                      <a:pt x="17700" y="4"/>
                    </a:lnTo>
                    <a:cubicBezTo>
                      <a:pt x="17701" y="4"/>
                      <a:pt x="17702" y="5"/>
                      <a:pt x="17702" y="6"/>
                    </a:cubicBezTo>
                    <a:cubicBezTo>
                      <a:pt x="17702" y="8"/>
                      <a:pt x="17701" y="8"/>
                      <a:pt x="17700" y="8"/>
                    </a:cubicBezTo>
                    <a:lnTo>
                      <a:pt x="17700" y="8"/>
                    </a:lnTo>
                    <a:cubicBezTo>
                      <a:pt x="17699" y="8"/>
                      <a:pt x="17698" y="8"/>
                      <a:pt x="17698" y="6"/>
                    </a:cubicBezTo>
                    <a:cubicBezTo>
                      <a:pt x="17698" y="5"/>
                      <a:pt x="17699" y="4"/>
                      <a:pt x="17700" y="4"/>
                    </a:cubicBezTo>
                    <a:close/>
                    <a:moveTo>
                      <a:pt x="17708" y="4"/>
                    </a:moveTo>
                    <a:lnTo>
                      <a:pt x="17708" y="4"/>
                    </a:lnTo>
                    <a:cubicBezTo>
                      <a:pt x="17709" y="4"/>
                      <a:pt x="17710" y="5"/>
                      <a:pt x="17710" y="6"/>
                    </a:cubicBezTo>
                    <a:cubicBezTo>
                      <a:pt x="17710" y="8"/>
                      <a:pt x="17709" y="8"/>
                      <a:pt x="17708" y="8"/>
                    </a:cubicBezTo>
                    <a:lnTo>
                      <a:pt x="17708" y="8"/>
                    </a:lnTo>
                    <a:cubicBezTo>
                      <a:pt x="17707" y="8"/>
                      <a:pt x="17706" y="8"/>
                      <a:pt x="17706" y="6"/>
                    </a:cubicBezTo>
                    <a:cubicBezTo>
                      <a:pt x="17706" y="5"/>
                      <a:pt x="17707" y="4"/>
                      <a:pt x="17708" y="4"/>
                    </a:cubicBezTo>
                    <a:close/>
                    <a:moveTo>
                      <a:pt x="17716" y="4"/>
                    </a:moveTo>
                    <a:lnTo>
                      <a:pt x="17716" y="4"/>
                    </a:lnTo>
                    <a:cubicBezTo>
                      <a:pt x="17717" y="4"/>
                      <a:pt x="17718" y="5"/>
                      <a:pt x="17718" y="6"/>
                    </a:cubicBezTo>
                    <a:cubicBezTo>
                      <a:pt x="17718" y="8"/>
                      <a:pt x="17717" y="8"/>
                      <a:pt x="17716" y="8"/>
                    </a:cubicBezTo>
                    <a:lnTo>
                      <a:pt x="17716" y="8"/>
                    </a:lnTo>
                    <a:cubicBezTo>
                      <a:pt x="17715" y="8"/>
                      <a:pt x="17714" y="8"/>
                      <a:pt x="17714" y="6"/>
                    </a:cubicBezTo>
                    <a:cubicBezTo>
                      <a:pt x="17714" y="5"/>
                      <a:pt x="17715" y="4"/>
                      <a:pt x="17716" y="4"/>
                    </a:cubicBezTo>
                    <a:close/>
                    <a:moveTo>
                      <a:pt x="17724" y="4"/>
                    </a:moveTo>
                    <a:lnTo>
                      <a:pt x="17724" y="4"/>
                    </a:lnTo>
                    <a:cubicBezTo>
                      <a:pt x="17725" y="4"/>
                      <a:pt x="17726" y="5"/>
                      <a:pt x="17726" y="6"/>
                    </a:cubicBezTo>
                    <a:cubicBezTo>
                      <a:pt x="17726" y="8"/>
                      <a:pt x="17725" y="8"/>
                      <a:pt x="17724" y="8"/>
                    </a:cubicBezTo>
                    <a:lnTo>
                      <a:pt x="17724" y="8"/>
                    </a:lnTo>
                    <a:cubicBezTo>
                      <a:pt x="17723" y="8"/>
                      <a:pt x="17722" y="8"/>
                      <a:pt x="17722" y="6"/>
                    </a:cubicBezTo>
                    <a:cubicBezTo>
                      <a:pt x="17722" y="5"/>
                      <a:pt x="17723" y="4"/>
                      <a:pt x="17724" y="4"/>
                    </a:cubicBezTo>
                    <a:close/>
                    <a:moveTo>
                      <a:pt x="17732" y="4"/>
                    </a:moveTo>
                    <a:lnTo>
                      <a:pt x="17732" y="4"/>
                    </a:lnTo>
                    <a:cubicBezTo>
                      <a:pt x="17733" y="4"/>
                      <a:pt x="17734" y="5"/>
                      <a:pt x="17734" y="6"/>
                    </a:cubicBezTo>
                    <a:cubicBezTo>
                      <a:pt x="17734" y="8"/>
                      <a:pt x="17733" y="8"/>
                      <a:pt x="17732" y="8"/>
                    </a:cubicBezTo>
                    <a:lnTo>
                      <a:pt x="17732" y="8"/>
                    </a:lnTo>
                    <a:cubicBezTo>
                      <a:pt x="17731" y="8"/>
                      <a:pt x="17730" y="8"/>
                      <a:pt x="17730" y="6"/>
                    </a:cubicBezTo>
                    <a:cubicBezTo>
                      <a:pt x="17730" y="5"/>
                      <a:pt x="17731" y="4"/>
                      <a:pt x="17732" y="4"/>
                    </a:cubicBezTo>
                    <a:close/>
                    <a:moveTo>
                      <a:pt x="17740" y="4"/>
                    </a:moveTo>
                    <a:lnTo>
                      <a:pt x="17740" y="4"/>
                    </a:lnTo>
                    <a:cubicBezTo>
                      <a:pt x="17741" y="4"/>
                      <a:pt x="17742" y="5"/>
                      <a:pt x="17742" y="6"/>
                    </a:cubicBezTo>
                    <a:cubicBezTo>
                      <a:pt x="17742" y="8"/>
                      <a:pt x="17741" y="8"/>
                      <a:pt x="17740" y="8"/>
                    </a:cubicBezTo>
                    <a:lnTo>
                      <a:pt x="17740" y="8"/>
                    </a:lnTo>
                    <a:cubicBezTo>
                      <a:pt x="17739" y="8"/>
                      <a:pt x="17738" y="8"/>
                      <a:pt x="17738" y="6"/>
                    </a:cubicBezTo>
                    <a:cubicBezTo>
                      <a:pt x="17738" y="5"/>
                      <a:pt x="17739" y="4"/>
                      <a:pt x="17740" y="4"/>
                    </a:cubicBezTo>
                    <a:close/>
                    <a:moveTo>
                      <a:pt x="17748" y="4"/>
                    </a:moveTo>
                    <a:lnTo>
                      <a:pt x="17748" y="4"/>
                    </a:lnTo>
                    <a:cubicBezTo>
                      <a:pt x="17749" y="4"/>
                      <a:pt x="17750" y="5"/>
                      <a:pt x="17750" y="6"/>
                    </a:cubicBezTo>
                    <a:cubicBezTo>
                      <a:pt x="17750" y="8"/>
                      <a:pt x="17749" y="8"/>
                      <a:pt x="17748" y="8"/>
                    </a:cubicBezTo>
                    <a:lnTo>
                      <a:pt x="17748" y="8"/>
                    </a:lnTo>
                    <a:cubicBezTo>
                      <a:pt x="17747" y="8"/>
                      <a:pt x="17746" y="8"/>
                      <a:pt x="17746" y="6"/>
                    </a:cubicBezTo>
                    <a:cubicBezTo>
                      <a:pt x="17746" y="5"/>
                      <a:pt x="17747" y="4"/>
                      <a:pt x="17748" y="4"/>
                    </a:cubicBezTo>
                    <a:close/>
                    <a:moveTo>
                      <a:pt x="17756" y="4"/>
                    </a:moveTo>
                    <a:lnTo>
                      <a:pt x="17756" y="4"/>
                    </a:lnTo>
                    <a:cubicBezTo>
                      <a:pt x="17757" y="4"/>
                      <a:pt x="17758" y="5"/>
                      <a:pt x="17758" y="6"/>
                    </a:cubicBezTo>
                    <a:cubicBezTo>
                      <a:pt x="17758" y="8"/>
                      <a:pt x="17757" y="8"/>
                      <a:pt x="17756" y="8"/>
                    </a:cubicBezTo>
                    <a:lnTo>
                      <a:pt x="17756" y="8"/>
                    </a:lnTo>
                    <a:cubicBezTo>
                      <a:pt x="17755" y="8"/>
                      <a:pt x="17754" y="8"/>
                      <a:pt x="17754" y="6"/>
                    </a:cubicBezTo>
                    <a:cubicBezTo>
                      <a:pt x="17754" y="5"/>
                      <a:pt x="17755" y="4"/>
                      <a:pt x="17756" y="4"/>
                    </a:cubicBezTo>
                    <a:close/>
                    <a:moveTo>
                      <a:pt x="17764" y="4"/>
                    </a:moveTo>
                    <a:lnTo>
                      <a:pt x="17764" y="4"/>
                    </a:lnTo>
                    <a:cubicBezTo>
                      <a:pt x="17765" y="4"/>
                      <a:pt x="17766" y="5"/>
                      <a:pt x="17766" y="6"/>
                    </a:cubicBezTo>
                    <a:cubicBezTo>
                      <a:pt x="17766" y="8"/>
                      <a:pt x="17765" y="8"/>
                      <a:pt x="17764" y="8"/>
                    </a:cubicBezTo>
                    <a:lnTo>
                      <a:pt x="17764" y="8"/>
                    </a:lnTo>
                    <a:cubicBezTo>
                      <a:pt x="17763" y="8"/>
                      <a:pt x="17762" y="8"/>
                      <a:pt x="17762" y="6"/>
                    </a:cubicBezTo>
                    <a:cubicBezTo>
                      <a:pt x="17762" y="5"/>
                      <a:pt x="17763" y="4"/>
                      <a:pt x="17764" y="4"/>
                    </a:cubicBezTo>
                    <a:close/>
                    <a:moveTo>
                      <a:pt x="17772" y="4"/>
                    </a:moveTo>
                    <a:lnTo>
                      <a:pt x="17772" y="4"/>
                    </a:lnTo>
                    <a:cubicBezTo>
                      <a:pt x="17773" y="4"/>
                      <a:pt x="17774" y="5"/>
                      <a:pt x="17774" y="6"/>
                    </a:cubicBezTo>
                    <a:cubicBezTo>
                      <a:pt x="17774" y="8"/>
                      <a:pt x="17773" y="8"/>
                      <a:pt x="17772" y="8"/>
                    </a:cubicBezTo>
                    <a:lnTo>
                      <a:pt x="17772" y="8"/>
                    </a:lnTo>
                    <a:cubicBezTo>
                      <a:pt x="17771" y="8"/>
                      <a:pt x="17770" y="8"/>
                      <a:pt x="17770" y="6"/>
                    </a:cubicBezTo>
                    <a:cubicBezTo>
                      <a:pt x="17770" y="5"/>
                      <a:pt x="17771" y="4"/>
                      <a:pt x="17772" y="4"/>
                    </a:cubicBezTo>
                    <a:close/>
                    <a:moveTo>
                      <a:pt x="17780" y="4"/>
                    </a:moveTo>
                    <a:lnTo>
                      <a:pt x="17780" y="4"/>
                    </a:lnTo>
                    <a:cubicBezTo>
                      <a:pt x="17781" y="4"/>
                      <a:pt x="17782" y="5"/>
                      <a:pt x="17782" y="6"/>
                    </a:cubicBezTo>
                    <a:cubicBezTo>
                      <a:pt x="17782" y="8"/>
                      <a:pt x="17781" y="8"/>
                      <a:pt x="17780" y="8"/>
                    </a:cubicBezTo>
                    <a:lnTo>
                      <a:pt x="17780" y="8"/>
                    </a:lnTo>
                    <a:cubicBezTo>
                      <a:pt x="17779" y="8"/>
                      <a:pt x="17778" y="8"/>
                      <a:pt x="17778" y="6"/>
                    </a:cubicBezTo>
                    <a:cubicBezTo>
                      <a:pt x="17778" y="5"/>
                      <a:pt x="17779" y="4"/>
                      <a:pt x="17780" y="4"/>
                    </a:cubicBezTo>
                    <a:close/>
                    <a:moveTo>
                      <a:pt x="17788" y="4"/>
                    </a:moveTo>
                    <a:lnTo>
                      <a:pt x="17788" y="4"/>
                    </a:lnTo>
                    <a:cubicBezTo>
                      <a:pt x="17789" y="4"/>
                      <a:pt x="17790" y="5"/>
                      <a:pt x="17790" y="6"/>
                    </a:cubicBezTo>
                    <a:cubicBezTo>
                      <a:pt x="17790" y="8"/>
                      <a:pt x="17789" y="8"/>
                      <a:pt x="17788" y="8"/>
                    </a:cubicBezTo>
                    <a:lnTo>
                      <a:pt x="17788" y="8"/>
                    </a:lnTo>
                    <a:cubicBezTo>
                      <a:pt x="17787" y="8"/>
                      <a:pt x="17786" y="8"/>
                      <a:pt x="17786" y="6"/>
                    </a:cubicBezTo>
                    <a:cubicBezTo>
                      <a:pt x="17786" y="5"/>
                      <a:pt x="17787" y="4"/>
                      <a:pt x="17788" y="4"/>
                    </a:cubicBezTo>
                    <a:close/>
                    <a:moveTo>
                      <a:pt x="17796" y="4"/>
                    </a:moveTo>
                    <a:lnTo>
                      <a:pt x="17796" y="4"/>
                    </a:lnTo>
                    <a:cubicBezTo>
                      <a:pt x="17797" y="4"/>
                      <a:pt x="17798" y="5"/>
                      <a:pt x="17798" y="6"/>
                    </a:cubicBezTo>
                    <a:cubicBezTo>
                      <a:pt x="17798" y="8"/>
                      <a:pt x="17797" y="8"/>
                      <a:pt x="17796" y="8"/>
                    </a:cubicBezTo>
                    <a:lnTo>
                      <a:pt x="17796" y="8"/>
                    </a:lnTo>
                    <a:cubicBezTo>
                      <a:pt x="17795" y="8"/>
                      <a:pt x="17794" y="8"/>
                      <a:pt x="17794" y="6"/>
                    </a:cubicBezTo>
                    <a:cubicBezTo>
                      <a:pt x="17794" y="5"/>
                      <a:pt x="17795" y="4"/>
                      <a:pt x="17796" y="4"/>
                    </a:cubicBezTo>
                    <a:close/>
                    <a:moveTo>
                      <a:pt x="17804" y="4"/>
                    </a:moveTo>
                    <a:lnTo>
                      <a:pt x="17804" y="4"/>
                    </a:lnTo>
                    <a:cubicBezTo>
                      <a:pt x="17805" y="4"/>
                      <a:pt x="17806" y="5"/>
                      <a:pt x="17806" y="6"/>
                    </a:cubicBezTo>
                    <a:cubicBezTo>
                      <a:pt x="17806" y="8"/>
                      <a:pt x="17805" y="8"/>
                      <a:pt x="17804" y="8"/>
                    </a:cubicBezTo>
                    <a:lnTo>
                      <a:pt x="17804" y="8"/>
                    </a:lnTo>
                    <a:cubicBezTo>
                      <a:pt x="17803" y="8"/>
                      <a:pt x="17802" y="8"/>
                      <a:pt x="17802" y="6"/>
                    </a:cubicBezTo>
                    <a:cubicBezTo>
                      <a:pt x="17802" y="5"/>
                      <a:pt x="17803" y="4"/>
                      <a:pt x="17804" y="4"/>
                    </a:cubicBezTo>
                    <a:close/>
                    <a:moveTo>
                      <a:pt x="17812" y="4"/>
                    </a:moveTo>
                    <a:lnTo>
                      <a:pt x="17812" y="4"/>
                    </a:lnTo>
                    <a:cubicBezTo>
                      <a:pt x="17813" y="4"/>
                      <a:pt x="17814" y="5"/>
                      <a:pt x="17814" y="6"/>
                    </a:cubicBezTo>
                    <a:cubicBezTo>
                      <a:pt x="17814" y="8"/>
                      <a:pt x="17813" y="8"/>
                      <a:pt x="17812" y="8"/>
                    </a:cubicBezTo>
                    <a:lnTo>
                      <a:pt x="17812" y="8"/>
                    </a:lnTo>
                    <a:cubicBezTo>
                      <a:pt x="17811" y="8"/>
                      <a:pt x="17810" y="8"/>
                      <a:pt x="17810" y="6"/>
                    </a:cubicBezTo>
                    <a:cubicBezTo>
                      <a:pt x="17810" y="5"/>
                      <a:pt x="17811" y="4"/>
                      <a:pt x="17812" y="4"/>
                    </a:cubicBezTo>
                    <a:close/>
                    <a:moveTo>
                      <a:pt x="17820" y="4"/>
                    </a:moveTo>
                    <a:lnTo>
                      <a:pt x="17820" y="4"/>
                    </a:lnTo>
                    <a:cubicBezTo>
                      <a:pt x="17821" y="4"/>
                      <a:pt x="17822" y="5"/>
                      <a:pt x="17822" y="6"/>
                    </a:cubicBezTo>
                    <a:cubicBezTo>
                      <a:pt x="17822" y="8"/>
                      <a:pt x="17821" y="8"/>
                      <a:pt x="17820" y="8"/>
                    </a:cubicBezTo>
                    <a:lnTo>
                      <a:pt x="17820" y="8"/>
                    </a:lnTo>
                    <a:cubicBezTo>
                      <a:pt x="17819" y="8"/>
                      <a:pt x="17818" y="8"/>
                      <a:pt x="17818" y="6"/>
                    </a:cubicBezTo>
                    <a:cubicBezTo>
                      <a:pt x="17818" y="5"/>
                      <a:pt x="17819" y="4"/>
                      <a:pt x="17820" y="4"/>
                    </a:cubicBezTo>
                    <a:close/>
                    <a:moveTo>
                      <a:pt x="17828" y="4"/>
                    </a:moveTo>
                    <a:lnTo>
                      <a:pt x="17828" y="4"/>
                    </a:lnTo>
                    <a:cubicBezTo>
                      <a:pt x="17829" y="4"/>
                      <a:pt x="17830" y="5"/>
                      <a:pt x="17830" y="6"/>
                    </a:cubicBezTo>
                    <a:cubicBezTo>
                      <a:pt x="17830" y="8"/>
                      <a:pt x="17829" y="8"/>
                      <a:pt x="17828" y="8"/>
                    </a:cubicBezTo>
                    <a:lnTo>
                      <a:pt x="17828" y="8"/>
                    </a:lnTo>
                    <a:cubicBezTo>
                      <a:pt x="17827" y="8"/>
                      <a:pt x="17826" y="8"/>
                      <a:pt x="17826" y="6"/>
                    </a:cubicBezTo>
                    <a:cubicBezTo>
                      <a:pt x="17826" y="5"/>
                      <a:pt x="17827" y="4"/>
                      <a:pt x="17828" y="4"/>
                    </a:cubicBezTo>
                    <a:close/>
                    <a:moveTo>
                      <a:pt x="17836" y="4"/>
                    </a:moveTo>
                    <a:lnTo>
                      <a:pt x="17836" y="4"/>
                    </a:lnTo>
                    <a:cubicBezTo>
                      <a:pt x="17837" y="4"/>
                      <a:pt x="17838" y="5"/>
                      <a:pt x="17838" y="6"/>
                    </a:cubicBezTo>
                    <a:cubicBezTo>
                      <a:pt x="17838" y="8"/>
                      <a:pt x="17837" y="8"/>
                      <a:pt x="17836" y="8"/>
                    </a:cubicBezTo>
                    <a:lnTo>
                      <a:pt x="17836" y="8"/>
                    </a:lnTo>
                    <a:cubicBezTo>
                      <a:pt x="17835" y="8"/>
                      <a:pt x="17834" y="8"/>
                      <a:pt x="17834" y="6"/>
                    </a:cubicBezTo>
                    <a:cubicBezTo>
                      <a:pt x="17834" y="5"/>
                      <a:pt x="17835" y="4"/>
                      <a:pt x="17836" y="4"/>
                    </a:cubicBezTo>
                    <a:close/>
                    <a:moveTo>
                      <a:pt x="17844" y="4"/>
                    </a:moveTo>
                    <a:lnTo>
                      <a:pt x="17844" y="4"/>
                    </a:lnTo>
                    <a:cubicBezTo>
                      <a:pt x="17845" y="4"/>
                      <a:pt x="17846" y="5"/>
                      <a:pt x="17846" y="6"/>
                    </a:cubicBezTo>
                    <a:cubicBezTo>
                      <a:pt x="17846" y="8"/>
                      <a:pt x="17845" y="8"/>
                      <a:pt x="17844" y="8"/>
                    </a:cubicBezTo>
                    <a:lnTo>
                      <a:pt x="17844" y="8"/>
                    </a:lnTo>
                    <a:cubicBezTo>
                      <a:pt x="17843" y="8"/>
                      <a:pt x="17842" y="8"/>
                      <a:pt x="17842" y="6"/>
                    </a:cubicBezTo>
                    <a:cubicBezTo>
                      <a:pt x="17842" y="5"/>
                      <a:pt x="17843" y="4"/>
                      <a:pt x="17844" y="4"/>
                    </a:cubicBezTo>
                    <a:close/>
                    <a:moveTo>
                      <a:pt x="17852" y="4"/>
                    </a:moveTo>
                    <a:lnTo>
                      <a:pt x="17852" y="4"/>
                    </a:lnTo>
                    <a:cubicBezTo>
                      <a:pt x="17853" y="4"/>
                      <a:pt x="17854" y="5"/>
                      <a:pt x="17854" y="6"/>
                    </a:cubicBezTo>
                    <a:cubicBezTo>
                      <a:pt x="17854" y="8"/>
                      <a:pt x="17853" y="8"/>
                      <a:pt x="17852" y="8"/>
                    </a:cubicBezTo>
                    <a:lnTo>
                      <a:pt x="17852" y="8"/>
                    </a:lnTo>
                    <a:cubicBezTo>
                      <a:pt x="17851" y="8"/>
                      <a:pt x="17850" y="8"/>
                      <a:pt x="17850" y="6"/>
                    </a:cubicBezTo>
                    <a:cubicBezTo>
                      <a:pt x="17850" y="5"/>
                      <a:pt x="17851" y="4"/>
                      <a:pt x="17852" y="4"/>
                    </a:cubicBezTo>
                    <a:close/>
                    <a:moveTo>
                      <a:pt x="17860" y="4"/>
                    </a:moveTo>
                    <a:lnTo>
                      <a:pt x="17860" y="4"/>
                    </a:lnTo>
                    <a:cubicBezTo>
                      <a:pt x="17861" y="4"/>
                      <a:pt x="17862" y="5"/>
                      <a:pt x="17862" y="6"/>
                    </a:cubicBezTo>
                    <a:cubicBezTo>
                      <a:pt x="17862" y="8"/>
                      <a:pt x="17861" y="8"/>
                      <a:pt x="17860" y="8"/>
                    </a:cubicBezTo>
                    <a:lnTo>
                      <a:pt x="17860" y="8"/>
                    </a:lnTo>
                    <a:cubicBezTo>
                      <a:pt x="17859" y="8"/>
                      <a:pt x="17858" y="8"/>
                      <a:pt x="17858" y="6"/>
                    </a:cubicBezTo>
                    <a:cubicBezTo>
                      <a:pt x="17858" y="5"/>
                      <a:pt x="17859" y="4"/>
                      <a:pt x="17860" y="4"/>
                    </a:cubicBezTo>
                    <a:close/>
                    <a:moveTo>
                      <a:pt x="17868" y="4"/>
                    </a:moveTo>
                    <a:lnTo>
                      <a:pt x="17868" y="4"/>
                    </a:lnTo>
                    <a:cubicBezTo>
                      <a:pt x="17869" y="4"/>
                      <a:pt x="17870" y="5"/>
                      <a:pt x="17870" y="6"/>
                    </a:cubicBezTo>
                    <a:cubicBezTo>
                      <a:pt x="17870" y="8"/>
                      <a:pt x="17869" y="8"/>
                      <a:pt x="17868" y="8"/>
                    </a:cubicBezTo>
                    <a:lnTo>
                      <a:pt x="17868" y="8"/>
                    </a:lnTo>
                    <a:cubicBezTo>
                      <a:pt x="17867" y="8"/>
                      <a:pt x="17866" y="8"/>
                      <a:pt x="17866" y="6"/>
                    </a:cubicBezTo>
                    <a:cubicBezTo>
                      <a:pt x="17866" y="5"/>
                      <a:pt x="17867" y="4"/>
                      <a:pt x="17868" y="4"/>
                    </a:cubicBezTo>
                    <a:close/>
                    <a:moveTo>
                      <a:pt x="17876" y="4"/>
                    </a:moveTo>
                    <a:lnTo>
                      <a:pt x="17876" y="4"/>
                    </a:lnTo>
                    <a:cubicBezTo>
                      <a:pt x="17877" y="4"/>
                      <a:pt x="17878" y="5"/>
                      <a:pt x="17878" y="6"/>
                    </a:cubicBezTo>
                    <a:cubicBezTo>
                      <a:pt x="17878" y="8"/>
                      <a:pt x="17877" y="8"/>
                      <a:pt x="17876" y="8"/>
                    </a:cubicBezTo>
                    <a:lnTo>
                      <a:pt x="17876" y="8"/>
                    </a:lnTo>
                    <a:cubicBezTo>
                      <a:pt x="17875" y="8"/>
                      <a:pt x="17874" y="8"/>
                      <a:pt x="17874" y="6"/>
                    </a:cubicBezTo>
                    <a:cubicBezTo>
                      <a:pt x="17874" y="5"/>
                      <a:pt x="17875" y="4"/>
                      <a:pt x="17876" y="4"/>
                    </a:cubicBezTo>
                    <a:close/>
                    <a:moveTo>
                      <a:pt x="17884" y="4"/>
                    </a:moveTo>
                    <a:lnTo>
                      <a:pt x="17884" y="4"/>
                    </a:lnTo>
                    <a:cubicBezTo>
                      <a:pt x="17885" y="4"/>
                      <a:pt x="17886" y="5"/>
                      <a:pt x="17886" y="6"/>
                    </a:cubicBezTo>
                    <a:cubicBezTo>
                      <a:pt x="17886" y="8"/>
                      <a:pt x="17885" y="8"/>
                      <a:pt x="17884" y="8"/>
                    </a:cubicBezTo>
                    <a:lnTo>
                      <a:pt x="17884" y="8"/>
                    </a:lnTo>
                    <a:cubicBezTo>
                      <a:pt x="17883" y="8"/>
                      <a:pt x="17882" y="8"/>
                      <a:pt x="17882" y="6"/>
                    </a:cubicBezTo>
                    <a:cubicBezTo>
                      <a:pt x="17882" y="5"/>
                      <a:pt x="17883" y="4"/>
                      <a:pt x="17884" y="4"/>
                    </a:cubicBezTo>
                    <a:close/>
                    <a:moveTo>
                      <a:pt x="17892" y="4"/>
                    </a:moveTo>
                    <a:lnTo>
                      <a:pt x="17892" y="4"/>
                    </a:lnTo>
                    <a:cubicBezTo>
                      <a:pt x="17893" y="4"/>
                      <a:pt x="17894" y="5"/>
                      <a:pt x="17894" y="6"/>
                    </a:cubicBezTo>
                    <a:cubicBezTo>
                      <a:pt x="17894" y="8"/>
                      <a:pt x="17893" y="8"/>
                      <a:pt x="17892" y="8"/>
                    </a:cubicBezTo>
                    <a:lnTo>
                      <a:pt x="17892" y="8"/>
                    </a:lnTo>
                    <a:cubicBezTo>
                      <a:pt x="17891" y="8"/>
                      <a:pt x="17890" y="8"/>
                      <a:pt x="17890" y="6"/>
                    </a:cubicBezTo>
                    <a:cubicBezTo>
                      <a:pt x="17890" y="5"/>
                      <a:pt x="17891" y="4"/>
                      <a:pt x="17892" y="4"/>
                    </a:cubicBezTo>
                    <a:close/>
                    <a:moveTo>
                      <a:pt x="17900" y="4"/>
                    </a:moveTo>
                    <a:lnTo>
                      <a:pt x="17900" y="4"/>
                    </a:lnTo>
                    <a:cubicBezTo>
                      <a:pt x="17901" y="4"/>
                      <a:pt x="17902" y="5"/>
                      <a:pt x="17902" y="6"/>
                    </a:cubicBezTo>
                    <a:cubicBezTo>
                      <a:pt x="17902" y="8"/>
                      <a:pt x="17901" y="8"/>
                      <a:pt x="17900" y="8"/>
                    </a:cubicBezTo>
                    <a:lnTo>
                      <a:pt x="17900" y="8"/>
                    </a:lnTo>
                    <a:cubicBezTo>
                      <a:pt x="17899" y="8"/>
                      <a:pt x="17898" y="8"/>
                      <a:pt x="17898" y="6"/>
                    </a:cubicBezTo>
                    <a:cubicBezTo>
                      <a:pt x="17898" y="5"/>
                      <a:pt x="17899" y="4"/>
                      <a:pt x="17900" y="4"/>
                    </a:cubicBezTo>
                    <a:close/>
                    <a:moveTo>
                      <a:pt x="17908" y="4"/>
                    </a:moveTo>
                    <a:lnTo>
                      <a:pt x="17908" y="4"/>
                    </a:lnTo>
                    <a:cubicBezTo>
                      <a:pt x="17909" y="4"/>
                      <a:pt x="17910" y="5"/>
                      <a:pt x="17910" y="6"/>
                    </a:cubicBezTo>
                    <a:cubicBezTo>
                      <a:pt x="17910" y="8"/>
                      <a:pt x="17909" y="8"/>
                      <a:pt x="17908" y="8"/>
                    </a:cubicBezTo>
                    <a:lnTo>
                      <a:pt x="17908" y="8"/>
                    </a:lnTo>
                    <a:cubicBezTo>
                      <a:pt x="17907" y="8"/>
                      <a:pt x="17906" y="8"/>
                      <a:pt x="17906" y="6"/>
                    </a:cubicBezTo>
                    <a:cubicBezTo>
                      <a:pt x="17906" y="5"/>
                      <a:pt x="17907" y="4"/>
                      <a:pt x="17908" y="4"/>
                    </a:cubicBezTo>
                    <a:close/>
                    <a:moveTo>
                      <a:pt x="17916" y="4"/>
                    </a:moveTo>
                    <a:lnTo>
                      <a:pt x="17916" y="4"/>
                    </a:lnTo>
                    <a:cubicBezTo>
                      <a:pt x="17917" y="4"/>
                      <a:pt x="17918" y="5"/>
                      <a:pt x="17918" y="6"/>
                    </a:cubicBezTo>
                    <a:cubicBezTo>
                      <a:pt x="17918" y="8"/>
                      <a:pt x="17917" y="8"/>
                      <a:pt x="17916" y="8"/>
                    </a:cubicBezTo>
                    <a:lnTo>
                      <a:pt x="17916" y="8"/>
                    </a:lnTo>
                    <a:cubicBezTo>
                      <a:pt x="17915" y="8"/>
                      <a:pt x="17914" y="8"/>
                      <a:pt x="17914" y="6"/>
                    </a:cubicBezTo>
                    <a:cubicBezTo>
                      <a:pt x="17914" y="5"/>
                      <a:pt x="17915" y="4"/>
                      <a:pt x="17916" y="4"/>
                    </a:cubicBezTo>
                    <a:close/>
                    <a:moveTo>
                      <a:pt x="17924" y="4"/>
                    </a:moveTo>
                    <a:lnTo>
                      <a:pt x="17924" y="4"/>
                    </a:lnTo>
                    <a:cubicBezTo>
                      <a:pt x="17925" y="4"/>
                      <a:pt x="17926" y="5"/>
                      <a:pt x="17926" y="6"/>
                    </a:cubicBezTo>
                    <a:cubicBezTo>
                      <a:pt x="17926" y="8"/>
                      <a:pt x="17925" y="8"/>
                      <a:pt x="17924" y="8"/>
                    </a:cubicBezTo>
                    <a:lnTo>
                      <a:pt x="17924" y="8"/>
                    </a:lnTo>
                    <a:cubicBezTo>
                      <a:pt x="17923" y="8"/>
                      <a:pt x="17922" y="8"/>
                      <a:pt x="17922" y="6"/>
                    </a:cubicBezTo>
                    <a:cubicBezTo>
                      <a:pt x="17922" y="5"/>
                      <a:pt x="17923" y="4"/>
                      <a:pt x="17924" y="4"/>
                    </a:cubicBezTo>
                    <a:close/>
                    <a:moveTo>
                      <a:pt x="17932" y="4"/>
                    </a:moveTo>
                    <a:lnTo>
                      <a:pt x="17932" y="4"/>
                    </a:lnTo>
                    <a:cubicBezTo>
                      <a:pt x="17933" y="4"/>
                      <a:pt x="17934" y="5"/>
                      <a:pt x="17934" y="6"/>
                    </a:cubicBezTo>
                    <a:cubicBezTo>
                      <a:pt x="17934" y="8"/>
                      <a:pt x="17933" y="8"/>
                      <a:pt x="17932" y="8"/>
                    </a:cubicBezTo>
                    <a:lnTo>
                      <a:pt x="17932" y="8"/>
                    </a:lnTo>
                    <a:cubicBezTo>
                      <a:pt x="17931" y="8"/>
                      <a:pt x="17930" y="8"/>
                      <a:pt x="17930" y="6"/>
                    </a:cubicBezTo>
                    <a:cubicBezTo>
                      <a:pt x="17930" y="5"/>
                      <a:pt x="17931" y="4"/>
                      <a:pt x="17932" y="4"/>
                    </a:cubicBezTo>
                    <a:close/>
                    <a:moveTo>
                      <a:pt x="17940" y="4"/>
                    </a:moveTo>
                    <a:lnTo>
                      <a:pt x="17940" y="4"/>
                    </a:lnTo>
                    <a:cubicBezTo>
                      <a:pt x="17941" y="4"/>
                      <a:pt x="17942" y="5"/>
                      <a:pt x="17942" y="6"/>
                    </a:cubicBezTo>
                    <a:cubicBezTo>
                      <a:pt x="17942" y="8"/>
                      <a:pt x="17941" y="8"/>
                      <a:pt x="17940" y="8"/>
                    </a:cubicBezTo>
                    <a:lnTo>
                      <a:pt x="17940" y="8"/>
                    </a:lnTo>
                    <a:cubicBezTo>
                      <a:pt x="17939" y="8"/>
                      <a:pt x="17938" y="8"/>
                      <a:pt x="17938" y="6"/>
                    </a:cubicBezTo>
                    <a:cubicBezTo>
                      <a:pt x="17938" y="5"/>
                      <a:pt x="17939" y="4"/>
                      <a:pt x="17940" y="4"/>
                    </a:cubicBezTo>
                    <a:close/>
                    <a:moveTo>
                      <a:pt x="17948" y="4"/>
                    </a:moveTo>
                    <a:lnTo>
                      <a:pt x="17948" y="4"/>
                    </a:lnTo>
                    <a:cubicBezTo>
                      <a:pt x="17949" y="4"/>
                      <a:pt x="17950" y="5"/>
                      <a:pt x="17950" y="6"/>
                    </a:cubicBezTo>
                    <a:cubicBezTo>
                      <a:pt x="17950" y="8"/>
                      <a:pt x="17949" y="8"/>
                      <a:pt x="17948" y="8"/>
                    </a:cubicBezTo>
                    <a:lnTo>
                      <a:pt x="17948" y="8"/>
                    </a:lnTo>
                    <a:cubicBezTo>
                      <a:pt x="17947" y="8"/>
                      <a:pt x="17946" y="8"/>
                      <a:pt x="17946" y="6"/>
                    </a:cubicBezTo>
                    <a:cubicBezTo>
                      <a:pt x="17946" y="5"/>
                      <a:pt x="17947" y="4"/>
                      <a:pt x="17948" y="4"/>
                    </a:cubicBezTo>
                    <a:close/>
                    <a:moveTo>
                      <a:pt x="17956" y="4"/>
                    </a:moveTo>
                    <a:lnTo>
                      <a:pt x="17956" y="4"/>
                    </a:lnTo>
                    <a:cubicBezTo>
                      <a:pt x="17957" y="4"/>
                      <a:pt x="17958" y="5"/>
                      <a:pt x="17958" y="6"/>
                    </a:cubicBezTo>
                    <a:cubicBezTo>
                      <a:pt x="17958" y="8"/>
                      <a:pt x="17957" y="8"/>
                      <a:pt x="17956" y="8"/>
                    </a:cubicBezTo>
                    <a:lnTo>
                      <a:pt x="17956" y="8"/>
                    </a:lnTo>
                    <a:cubicBezTo>
                      <a:pt x="17955" y="8"/>
                      <a:pt x="17954" y="8"/>
                      <a:pt x="17954" y="6"/>
                    </a:cubicBezTo>
                    <a:cubicBezTo>
                      <a:pt x="17954" y="5"/>
                      <a:pt x="17955" y="4"/>
                      <a:pt x="17956" y="4"/>
                    </a:cubicBezTo>
                    <a:close/>
                    <a:moveTo>
                      <a:pt x="17964" y="4"/>
                    </a:moveTo>
                    <a:lnTo>
                      <a:pt x="17964" y="4"/>
                    </a:lnTo>
                    <a:cubicBezTo>
                      <a:pt x="17965" y="4"/>
                      <a:pt x="17966" y="5"/>
                      <a:pt x="17966" y="6"/>
                    </a:cubicBezTo>
                    <a:cubicBezTo>
                      <a:pt x="17966" y="8"/>
                      <a:pt x="17965" y="8"/>
                      <a:pt x="17964" y="8"/>
                    </a:cubicBezTo>
                    <a:lnTo>
                      <a:pt x="17964" y="8"/>
                    </a:lnTo>
                    <a:cubicBezTo>
                      <a:pt x="17963" y="8"/>
                      <a:pt x="17962" y="8"/>
                      <a:pt x="17962" y="6"/>
                    </a:cubicBezTo>
                    <a:cubicBezTo>
                      <a:pt x="17962" y="5"/>
                      <a:pt x="17963" y="4"/>
                      <a:pt x="17964" y="4"/>
                    </a:cubicBezTo>
                    <a:close/>
                    <a:moveTo>
                      <a:pt x="17972" y="5"/>
                    </a:moveTo>
                    <a:lnTo>
                      <a:pt x="17972" y="5"/>
                    </a:lnTo>
                    <a:cubicBezTo>
                      <a:pt x="17973" y="5"/>
                      <a:pt x="17974" y="5"/>
                      <a:pt x="17974" y="7"/>
                    </a:cubicBezTo>
                    <a:cubicBezTo>
                      <a:pt x="17974" y="8"/>
                      <a:pt x="17973" y="9"/>
                      <a:pt x="17972" y="9"/>
                    </a:cubicBezTo>
                    <a:lnTo>
                      <a:pt x="17972" y="9"/>
                    </a:lnTo>
                    <a:cubicBezTo>
                      <a:pt x="17971" y="9"/>
                      <a:pt x="17970" y="8"/>
                      <a:pt x="17970" y="7"/>
                    </a:cubicBezTo>
                    <a:cubicBezTo>
                      <a:pt x="17970" y="5"/>
                      <a:pt x="17971" y="5"/>
                      <a:pt x="17972" y="5"/>
                    </a:cubicBezTo>
                    <a:close/>
                    <a:moveTo>
                      <a:pt x="17980" y="5"/>
                    </a:moveTo>
                    <a:lnTo>
                      <a:pt x="17980" y="5"/>
                    </a:lnTo>
                    <a:cubicBezTo>
                      <a:pt x="17981" y="5"/>
                      <a:pt x="17982" y="5"/>
                      <a:pt x="17982" y="7"/>
                    </a:cubicBezTo>
                    <a:cubicBezTo>
                      <a:pt x="17982" y="8"/>
                      <a:pt x="17981" y="9"/>
                      <a:pt x="17980" y="9"/>
                    </a:cubicBezTo>
                    <a:lnTo>
                      <a:pt x="17980" y="9"/>
                    </a:lnTo>
                    <a:cubicBezTo>
                      <a:pt x="17979" y="9"/>
                      <a:pt x="17978" y="8"/>
                      <a:pt x="17978" y="7"/>
                    </a:cubicBezTo>
                    <a:cubicBezTo>
                      <a:pt x="17978" y="5"/>
                      <a:pt x="17979" y="5"/>
                      <a:pt x="17980" y="5"/>
                    </a:cubicBezTo>
                    <a:close/>
                    <a:moveTo>
                      <a:pt x="17988" y="5"/>
                    </a:moveTo>
                    <a:lnTo>
                      <a:pt x="17988" y="5"/>
                    </a:lnTo>
                    <a:cubicBezTo>
                      <a:pt x="17989" y="5"/>
                      <a:pt x="17990" y="5"/>
                      <a:pt x="17990" y="7"/>
                    </a:cubicBezTo>
                    <a:cubicBezTo>
                      <a:pt x="17990" y="8"/>
                      <a:pt x="17989" y="9"/>
                      <a:pt x="17988" y="9"/>
                    </a:cubicBezTo>
                    <a:lnTo>
                      <a:pt x="17988" y="9"/>
                    </a:lnTo>
                    <a:cubicBezTo>
                      <a:pt x="17987" y="9"/>
                      <a:pt x="17986" y="8"/>
                      <a:pt x="17986" y="7"/>
                    </a:cubicBezTo>
                    <a:cubicBezTo>
                      <a:pt x="17986" y="5"/>
                      <a:pt x="17987" y="5"/>
                      <a:pt x="17988" y="5"/>
                    </a:cubicBezTo>
                    <a:close/>
                    <a:moveTo>
                      <a:pt x="17996" y="5"/>
                    </a:moveTo>
                    <a:lnTo>
                      <a:pt x="17996" y="5"/>
                    </a:lnTo>
                    <a:cubicBezTo>
                      <a:pt x="17997" y="5"/>
                      <a:pt x="17998" y="5"/>
                      <a:pt x="17998" y="7"/>
                    </a:cubicBezTo>
                    <a:cubicBezTo>
                      <a:pt x="17998" y="8"/>
                      <a:pt x="17997" y="9"/>
                      <a:pt x="17996" y="9"/>
                    </a:cubicBezTo>
                    <a:lnTo>
                      <a:pt x="17996" y="9"/>
                    </a:lnTo>
                    <a:cubicBezTo>
                      <a:pt x="17995" y="9"/>
                      <a:pt x="17994" y="8"/>
                      <a:pt x="17994" y="7"/>
                    </a:cubicBezTo>
                    <a:cubicBezTo>
                      <a:pt x="17994" y="5"/>
                      <a:pt x="17995" y="5"/>
                      <a:pt x="17996" y="5"/>
                    </a:cubicBezTo>
                    <a:close/>
                    <a:moveTo>
                      <a:pt x="18004" y="5"/>
                    </a:moveTo>
                    <a:lnTo>
                      <a:pt x="18004" y="5"/>
                    </a:lnTo>
                    <a:cubicBezTo>
                      <a:pt x="18005" y="5"/>
                      <a:pt x="18006" y="5"/>
                      <a:pt x="18006" y="7"/>
                    </a:cubicBezTo>
                    <a:cubicBezTo>
                      <a:pt x="18006" y="8"/>
                      <a:pt x="18005" y="9"/>
                      <a:pt x="18004" y="9"/>
                    </a:cubicBezTo>
                    <a:lnTo>
                      <a:pt x="18004" y="9"/>
                    </a:lnTo>
                    <a:cubicBezTo>
                      <a:pt x="18003" y="9"/>
                      <a:pt x="18002" y="8"/>
                      <a:pt x="18002" y="7"/>
                    </a:cubicBezTo>
                    <a:cubicBezTo>
                      <a:pt x="18002" y="5"/>
                      <a:pt x="18003" y="5"/>
                      <a:pt x="18004" y="5"/>
                    </a:cubicBezTo>
                    <a:close/>
                    <a:moveTo>
                      <a:pt x="18012" y="5"/>
                    </a:moveTo>
                    <a:lnTo>
                      <a:pt x="18012" y="5"/>
                    </a:lnTo>
                    <a:cubicBezTo>
                      <a:pt x="18013" y="5"/>
                      <a:pt x="18014" y="5"/>
                      <a:pt x="18014" y="7"/>
                    </a:cubicBezTo>
                    <a:cubicBezTo>
                      <a:pt x="18014" y="8"/>
                      <a:pt x="18013" y="9"/>
                      <a:pt x="18012" y="9"/>
                    </a:cubicBezTo>
                    <a:lnTo>
                      <a:pt x="18012" y="9"/>
                    </a:lnTo>
                    <a:cubicBezTo>
                      <a:pt x="18011" y="9"/>
                      <a:pt x="18010" y="8"/>
                      <a:pt x="18010" y="7"/>
                    </a:cubicBezTo>
                    <a:cubicBezTo>
                      <a:pt x="18010" y="5"/>
                      <a:pt x="18011" y="5"/>
                      <a:pt x="18012" y="5"/>
                    </a:cubicBezTo>
                    <a:close/>
                    <a:moveTo>
                      <a:pt x="18020" y="5"/>
                    </a:moveTo>
                    <a:lnTo>
                      <a:pt x="18020" y="5"/>
                    </a:lnTo>
                    <a:cubicBezTo>
                      <a:pt x="18021" y="5"/>
                      <a:pt x="18022" y="5"/>
                      <a:pt x="18022" y="7"/>
                    </a:cubicBezTo>
                    <a:cubicBezTo>
                      <a:pt x="18022" y="8"/>
                      <a:pt x="18021" y="9"/>
                      <a:pt x="18020" y="9"/>
                    </a:cubicBezTo>
                    <a:lnTo>
                      <a:pt x="18020" y="9"/>
                    </a:lnTo>
                    <a:cubicBezTo>
                      <a:pt x="18019" y="9"/>
                      <a:pt x="18018" y="8"/>
                      <a:pt x="18018" y="7"/>
                    </a:cubicBezTo>
                    <a:cubicBezTo>
                      <a:pt x="18018" y="5"/>
                      <a:pt x="18019" y="5"/>
                      <a:pt x="18020" y="5"/>
                    </a:cubicBezTo>
                    <a:close/>
                    <a:moveTo>
                      <a:pt x="18028" y="5"/>
                    </a:moveTo>
                    <a:lnTo>
                      <a:pt x="18028" y="5"/>
                    </a:lnTo>
                    <a:cubicBezTo>
                      <a:pt x="18029" y="5"/>
                      <a:pt x="18030" y="5"/>
                      <a:pt x="18030" y="7"/>
                    </a:cubicBezTo>
                    <a:cubicBezTo>
                      <a:pt x="18030" y="8"/>
                      <a:pt x="18029" y="9"/>
                      <a:pt x="18028" y="9"/>
                    </a:cubicBezTo>
                    <a:lnTo>
                      <a:pt x="18028" y="9"/>
                    </a:lnTo>
                    <a:cubicBezTo>
                      <a:pt x="18027" y="9"/>
                      <a:pt x="18026" y="8"/>
                      <a:pt x="18026" y="7"/>
                    </a:cubicBezTo>
                    <a:cubicBezTo>
                      <a:pt x="18026" y="5"/>
                      <a:pt x="18027" y="5"/>
                      <a:pt x="18028" y="5"/>
                    </a:cubicBezTo>
                    <a:close/>
                    <a:moveTo>
                      <a:pt x="18036" y="5"/>
                    </a:moveTo>
                    <a:lnTo>
                      <a:pt x="18036" y="5"/>
                    </a:lnTo>
                    <a:cubicBezTo>
                      <a:pt x="18037" y="5"/>
                      <a:pt x="18038" y="5"/>
                      <a:pt x="18038" y="7"/>
                    </a:cubicBezTo>
                    <a:cubicBezTo>
                      <a:pt x="18038" y="8"/>
                      <a:pt x="18037" y="9"/>
                      <a:pt x="18036" y="9"/>
                    </a:cubicBezTo>
                    <a:lnTo>
                      <a:pt x="18036" y="9"/>
                    </a:lnTo>
                    <a:cubicBezTo>
                      <a:pt x="18035" y="9"/>
                      <a:pt x="18034" y="8"/>
                      <a:pt x="18034" y="7"/>
                    </a:cubicBezTo>
                    <a:cubicBezTo>
                      <a:pt x="18034" y="5"/>
                      <a:pt x="18035" y="5"/>
                      <a:pt x="18036" y="5"/>
                    </a:cubicBezTo>
                    <a:close/>
                    <a:moveTo>
                      <a:pt x="18044" y="5"/>
                    </a:moveTo>
                    <a:lnTo>
                      <a:pt x="18044" y="5"/>
                    </a:lnTo>
                    <a:cubicBezTo>
                      <a:pt x="18045" y="5"/>
                      <a:pt x="18046" y="5"/>
                      <a:pt x="18046" y="7"/>
                    </a:cubicBezTo>
                    <a:cubicBezTo>
                      <a:pt x="18046" y="8"/>
                      <a:pt x="18045" y="9"/>
                      <a:pt x="18044" y="9"/>
                    </a:cubicBezTo>
                    <a:lnTo>
                      <a:pt x="18044" y="9"/>
                    </a:lnTo>
                    <a:cubicBezTo>
                      <a:pt x="18043" y="9"/>
                      <a:pt x="18042" y="8"/>
                      <a:pt x="18042" y="7"/>
                    </a:cubicBezTo>
                    <a:cubicBezTo>
                      <a:pt x="18042" y="5"/>
                      <a:pt x="18043" y="5"/>
                      <a:pt x="18044" y="5"/>
                    </a:cubicBezTo>
                    <a:close/>
                    <a:moveTo>
                      <a:pt x="18052" y="5"/>
                    </a:moveTo>
                    <a:lnTo>
                      <a:pt x="18052" y="5"/>
                    </a:lnTo>
                    <a:cubicBezTo>
                      <a:pt x="18053" y="5"/>
                      <a:pt x="18054" y="5"/>
                      <a:pt x="18054" y="7"/>
                    </a:cubicBezTo>
                    <a:cubicBezTo>
                      <a:pt x="18054" y="8"/>
                      <a:pt x="18053" y="9"/>
                      <a:pt x="18052" y="9"/>
                    </a:cubicBezTo>
                    <a:lnTo>
                      <a:pt x="18052" y="9"/>
                    </a:lnTo>
                    <a:cubicBezTo>
                      <a:pt x="18051" y="9"/>
                      <a:pt x="18050" y="8"/>
                      <a:pt x="18050" y="7"/>
                    </a:cubicBezTo>
                    <a:cubicBezTo>
                      <a:pt x="18050" y="5"/>
                      <a:pt x="18051" y="5"/>
                      <a:pt x="18052" y="5"/>
                    </a:cubicBezTo>
                    <a:close/>
                    <a:moveTo>
                      <a:pt x="18060" y="5"/>
                    </a:moveTo>
                    <a:lnTo>
                      <a:pt x="18060" y="5"/>
                    </a:lnTo>
                    <a:cubicBezTo>
                      <a:pt x="18061" y="5"/>
                      <a:pt x="18062" y="5"/>
                      <a:pt x="18062" y="7"/>
                    </a:cubicBezTo>
                    <a:cubicBezTo>
                      <a:pt x="18062" y="8"/>
                      <a:pt x="18061" y="9"/>
                      <a:pt x="18060" y="9"/>
                    </a:cubicBezTo>
                    <a:lnTo>
                      <a:pt x="18060" y="9"/>
                    </a:lnTo>
                    <a:cubicBezTo>
                      <a:pt x="18059" y="9"/>
                      <a:pt x="18058" y="8"/>
                      <a:pt x="18058" y="7"/>
                    </a:cubicBezTo>
                    <a:cubicBezTo>
                      <a:pt x="18058" y="5"/>
                      <a:pt x="18059" y="5"/>
                      <a:pt x="18060" y="5"/>
                    </a:cubicBezTo>
                    <a:close/>
                    <a:moveTo>
                      <a:pt x="18068" y="5"/>
                    </a:moveTo>
                    <a:lnTo>
                      <a:pt x="18068" y="5"/>
                    </a:lnTo>
                    <a:cubicBezTo>
                      <a:pt x="18069" y="5"/>
                      <a:pt x="18070" y="5"/>
                      <a:pt x="18070" y="7"/>
                    </a:cubicBezTo>
                    <a:cubicBezTo>
                      <a:pt x="18070" y="8"/>
                      <a:pt x="18069" y="9"/>
                      <a:pt x="18068" y="9"/>
                    </a:cubicBezTo>
                    <a:lnTo>
                      <a:pt x="18068" y="9"/>
                    </a:lnTo>
                    <a:cubicBezTo>
                      <a:pt x="18067" y="9"/>
                      <a:pt x="18066" y="8"/>
                      <a:pt x="18066" y="7"/>
                    </a:cubicBezTo>
                    <a:cubicBezTo>
                      <a:pt x="18066" y="5"/>
                      <a:pt x="18067" y="5"/>
                      <a:pt x="18068" y="5"/>
                    </a:cubicBezTo>
                    <a:close/>
                    <a:moveTo>
                      <a:pt x="18076" y="5"/>
                    </a:moveTo>
                    <a:lnTo>
                      <a:pt x="18076" y="5"/>
                    </a:lnTo>
                    <a:cubicBezTo>
                      <a:pt x="18077" y="5"/>
                      <a:pt x="18078" y="5"/>
                      <a:pt x="18078" y="7"/>
                    </a:cubicBezTo>
                    <a:cubicBezTo>
                      <a:pt x="18078" y="8"/>
                      <a:pt x="18077" y="9"/>
                      <a:pt x="18076" y="9"/>
                    </a:cubicBezTo>
                    <a:lnTo>
                      <a:pt x="18076" y="9"/>
                    </a:lnTo>
                    <a:cubicBezTo>
                      <a:pt x="18075" y="9"/>
                      <a:pt x="18074" y="8"/>
                      <a:pt x="18074" y="7"/>
                    </a:cubicBezTo>
                    <a:cubicBezTo>
                      <a:pt x="18074" y="5"/>
                      <a:pt x="18075" y="5"/>
                      <a:pt x="18076" y="5"/>
                    </a:cubicBezTo>
                    <a:close/>
                    <a:moveTo>
                      <a:pt x="18084" y="5"/>
                    </a:moveTo>
                    <a:lnTo>
                      <a:pt x="18084" y="5"/>
                    </a:lnTo>
                    <a:cubicBezTo>
                      <a:pt x="18085" y="5"/>
                      <a:pt x="18086" y="5"/>
                      <a:pt x="18086" y="7"/>
                    </a:cubicBezTo>
                    <a:cubicBezTo>
                      <a:pt x="18086" y="8"/>
                      <a:pt x="18085" y="9"/>
                      <a:pt x="18084" y="9"/>
                    </a:cubicBezTo>
                    <a:lnTo>
                      <a:pt x="18084" y="9"/>
                    </a:lnTo>
                    <a:cubicBezTo>
                      <a:pt x="18083" y="9"/>
                      <a:pt x="18082" y="8"/>
                      <a:pt x="18082" y="7"/>
                    </a:cubicBezTo>
                    <a:cubicBezTo>
                      <a:pt x="18082" y="5"/>
                      <a:pt x="18083" y="5"/>
                      <a:pt x="18084" y="5"/>
                    </a:cubicBezTo>
                    <a:close/>
                    <a:moveTo>
                      <a:pt x="18092" y="5"/>
                    </a:moveTo>
                    <a:lnTo>
                      <a:pt x="18092" y="5"/>
                    </a:lnTo>
                    <a:cubicBezTo>
                      <a:pt x="18093" y="5"/>
                      <a:pt x="18094" y="5"/>
                      <a:pt x="18094" y="7"/>
                    </a:cubicBezTo>
                    <a:cubicBezTo>
                      <a:pt x="18094" y="8"/>
                      <a:pt x="18093" y="9"/>
                      <a:pt x="18092" y="9"/>
                    </a:cubicBezTo>
                    <a:lnTo>
                      <a:pt x="18092" y="9"/>
                    </a:lnTo>
                    <a:cubicBezTo>
                      <a:pt x="18091" y="9"/>
                      <a:pt x="18090" y="8"/>
                      <a:pt x="18090" y="7"/>
                    </a:cubicBezTo>
                    <a:cubicBezTo>
                      <a:pt x="18090" y="5"/>
                      <a:pt x="18091" y="5"/>
                      <a:pt x="18092" y="5"/>
                    </a:cubicBezTo>
                    <a:close/>
                    <a:moveTo>
                      <a:pt x="18100" y="5"/>
                    </a:moveTo>
                    <a:lnTo>
                      <a:pt x="18100" y="5"/>
                    </a:lnTo>
                    <a:cubicBezTo>
                      <a:pt x="18101" y="5"/>
                      <a:pt x="18102" y="5"/>
                      <a:pt x="18102" y="7"/>
                    </a:cubicBezTo>
                    <a:cubicBezTo>
                      <a:pt x="18102" y="8"/>
                      <a:pt x="18101" y="9"/>
                      <a:pt x="18100" y="9"/>
                    </a:cubicBezTo>
                    <a:lnTo>
                      <a:pt x="18100" y="9"/>
                    </a:lnTo>
                    <a:cubicBezTo>
                      <a:pt x="18099" y="9"/>
                      <a:pt x="18098" y="8"/>
                      <a:pt x="18098" y="7"/>
                    </a:cubicBezTo>
                    <a:cubicBezTo>
                      <a:pt x="18098" y="5"/>
                      <a:pt x="18099" y="5"/>
                      <a:pt x="18100" y="5"/>
                    </a:cubicBezTo>
                    <a:close/>
                    <a:moveTo>
                      <a:pt x="18108" y="5"/>
                    </a:moveTo>
                    <a:lnTo>
                      <a:pt x="18108" y="5"/>
                    </a:lnTo>
                    <a:cubicBezTo>
                      <a:pt x="18109" y="5"/>
                      <a:pt x="18110" y="5"/>
                      <a:pt x="18110" y="7"/>
                    </a:cubicBezTo>
                    <a:cubicBezTo>
                      <a:pt x="18110" y="8"/>
                      <a:pt x="18109" y="9"/>
                      <a:pt x="18108" y="9"/>
                    </a:cubicBezTo>
                    <a:lnTo>
                      <a:pt x="18108" y="9"/>
                    </a:lnTo>
                    <a:cubicBezTo>
                      <a:pt x="18107" y="9"/>
                      <a:pt x="18106" y="8"/>
                      <a:pt x="18106" y="7"/>
                    </a:cubicBezTo>
                    <a:cubicBezTo>
                      <a:pt x="18106" y="5"/>
                      <a:pt x="18107" y="5"/>
                      <a:pt x="18108" y="5"/>
                    </a:cubicBezTo>
                    <a:close/>
                    <a:moveTo>
                      <a:pt x="18116" y="5"/>
                    </a:moveTo>
                    <a:lnTo>
                      <a:pt x="18116" y="5"/>
                    </a:lnTo>
                    <a:cubicBezTo>
                      <a:pt x="18117" y="5"/>
                      <a:pt x="18118" y="5"/>
                      <a:pt x="18118" y="7"/>
                    </a:cubicBezTo>
                    <a:cubicBezTo>
                      <a:pt x="18118" y="8"/>
                      <a:pt x="18117" y="9"/>
                      <a:pt x="18116" y="9"/>
                    </a:cubicBezTo>
                    <a:lnTo>
                      <a:pt x="18116" y="9"/>
                    </a:lnTo>
                    <a:cubicBezTo>
                      <a:pt x="18115" y="9"/>
                      <a:pt x="18114" y="8"/>
                      <a:pt x="18114" y="7"/>
                    </a:cubicBezTo>
                    <a:cubicBezTo>
                      <a:pt x="18114" y="5"/>
                      <a:pt x="18115" y="5"/>
                      <a:pt x="18116" y="5"/>
                    </a:cubicBezTo>
                    <a:close/>
                    <a:moveTo>
                      <a:pt x="18124" y="5"/>
                    </a:moveTo>
                    <a:lnTo>
                      <a:pt x="18124" y="5"/>
                    </a:lnTo>
                    <a:cubicBezTo>
                      <a:pt x="18125" y="5"/>
                      <a:pt x="18126" y="5"/>
                      <a:pt x="18126" y="7"/>
                    </a:cubicBezTo>
                    <a:cubicBezTo>
                      <a:pt x="18126" y="8"/>
                      <a:pt x="18125" y="9"/>
                      <a:pt x="18124" y="9"/>
                    </a:cubicBezTo>
                    <a:lnTo>
                      <a:pt x="18124" y="9"/>
                    </a:lnTo>
                    <a:cubicBezTo>
                      <a:pt x="18123" y="9"/>
                      <a:pt x="18122" y="8"/>
                      <a:pt x="18122" y="7"/>
                    </a:cubicBezTo>
                    <a:cubicBezTo>
                      <a:pt x="18122" y="5"/>
                      <a:pt x="18123" y="5"/>
                      <a:pt x="18124" y="5"/>
                    </a:cubicBezTo>
                    <a:close/>
                    <a:moveTo>
                      <a:pt x="18132" y="5"/>
                    </a:moveTo>
                    <a:lnTo>
                      <a:pt x="18132" y="5"/>
                    </a:lnTo>
                    <a:cubicBezTo>
                      <a:pt x="18133" y="5"/>
                      <a:pt x="18134" y="5"/>
                      <a:pt x="18134" y="7"/>
                    </a:cubicBezTo>
                    <a:cubicBezTo>
                      <a:pt x="18134" y="8"/>
                      <a:pt x="18133" y="9"/>
                      <a:pt x="18132" y="9"/>
                    </a:cubicBezTo>
                    <a:lnTo>
                      <a:pt x="18132" y="9"/>
                    </a:lnTo>
                    <a:cubicBezTo>
                      <a:pt x="18131" y="9"/>
                      <a:pt x="18130" y="8"/>
                      <a:pt x="18130" y="7"/>
                    </a:cubicBezTo>
                    <a:cubicBezTo>
                      <a:pt x="18130" y="5"/>
                      <a:pt x="18131" y="5"/>
                      <a:pt x="18132" y="5"/>
                    </a:cubicBezTo>
                    <a:close/>
                    <a:moveTo>
                      <a:pt x="18140" y="5"/>
                    </a:moveTo>
                    <a:lnTo>
                      <a:pt x="18140" y="5"/>
                    </a:lnTo>
                    <a:cubicBezTo>
                      <a:pt x="18141" y="5"/>
                      <a:pt x="18142" y="5"/>
                      <a:pt x="18142" y="7"/>
                    </a:cubicBezTo>
                    <a:cubicBezTo>
                      <a:pt x="18142" y="8"/>
                      <a:pt x="18141" y="9"/>
                      <a:pt x="18140" y="9"/>
                    </a:cubicBezTo>
                    <a:lnTo>
                      <a:pt x="18140" y="9"/>
                    </a:lnTo>
                    <a:cubicBezTo>
                      <a:pt x="18139" y="9"/>
                      <a:pt x="18138" y="8"/>
                      <a:pt x="18138" y="7"/>
                    </a:cubicBezTo>
                    <a:cubicBezTo>
                      <a:pt x="18138" y="5"/>
                      <a:pt x="18139" y="5"/>
                      <a:pt x="18140" y="5"/>
                    </a:cubicBezTo>
                    <a:close/>
                    <a:moveTo>
                      <a:pt x="18148" y="5"/>
                    </a:moveTo>
                    <a:lnTo>
                      <a:pt x="18148" y="5"/>
                    </a:lnTo>
                    <a:cubicBezTo>
                      <a:pt x="18149" y="5"/>
                      <a:pt x="18150" y="5"/>
                      <a:pt x="18150" y="7"/>
                    </a:cubicBezTo>
                    <a:cubicBezTo>
                      <a:pt x="18150" y="8"/>
                      <a:pt x="18149" y="9"/>
                      <a:pt x="18148" y="9"/>
                    </a:cubicBezTo>
                    <a:lnTo>
                      <a:pt x="18148" y="9"/>
                    </a:lnTo>
                    <a:cubicBezTo>
                      <a:pt x="18147" y="9"/>
                      <a:pt x="18146" y="8"/>
                      <a:pt x="18146" y="7"/>
                    </a:cubicBezTo>
                    <a:cubicBezTo>
                      <a:pt x="18146" y="5"/>
                      <a:pt x="18147" y="5"/>
                      <a:pt x="18148" y="5"/>
                    </a:cubicBezTo>
                    <a:close/>
                    <a:moveTo>
                      <a:pt x="18156" y="5"/>
                    </a:moveTo>
                    <a:lnTo>
                      <a:pt x="18156" y="5"/>
                    </a:lnTo>
                    <a:cubicBezTo>
                      <a:pt x="18157" y="5"/>
                      <a:pt x="18158" y="5"/>
                      <a:pt x="18158" y="7"/>
                    </a:cubicBezTo>
                    <a:cubicBezTo>
                      <a:pt x="18158" y="8"/>
                      <a:pt x="18157" y="9"/>
                      <a:pt x="18156" y="9"/>
                    </a:cubicBezTo>
                    <a:lnTo>
                      <a:pt x="18156" y="9"/>
                    </a:lnTo>
                    <a:cubicBezTo>
                      <a:pt x="18155" y="9"/>
                      <a:pt x="18154" y="8"/>
                      <a:pt x="18154" y="7"/>
                    </a:cubicBezTo>
                    <a:cubicBezTo>
                      <a:pt x="18154" y="5"/>
                      <a:pt x="18155" y="5"/>
                      <a:pt x="18156" y="5"/>
                    </a:cubicBezTo>
                    <a:close/>
                    <a:moveTo>
                      <a:pt x="18164" y="5"/>
                    </a:moveTo>
                    <a:lnTo>
                      <a:pt x="18164" y="5"/>
                    </a:lnTo>
                    <a:cubicBezTo>
                      <a:pt x="18165" y="5"/>
                      <a:pt x="18166" y="5"/>
                      <a:pt x="18166" y="7"/>
                    </a:cubicBezTo>
                    <a:cubicBezTo>
                      <a:pt x="18166" y="8"/>
                      <a:pt x="18165" y="9"/>
                      <a:pt x="18164" y="9"/>
                    </a:cubicBezTo>
                    <a:lnTo>
                      <a:pt x="18164" y="9"/>
                    </a:lnTo>
                    <a:cubicBezTo>
                      <a:pt x="18163" y="9"/>
                      <a:pt x="18162" y="8"/>
                      <a:pt x="18162" y="7"/>
                    </a:cubicBezTo>
                    <a:cubicBezTo>
                      <a:pt x="18162" y="5"/>
                      <a:pt x="18163" y="5"/>
                      <a:pt x="18164" y="5"/>
                    </a:cubicBezTo>
                    <a:close/>
                    <a:moveTo>
                      <a:pt x="18172" y="5"/>
                    </a:moveTo>
                    <a:lnTo>
                      <a:pt x="18172" y="5"/>
                    </a:lnTo>
                    <a:cubicBezTo>
                      <a:pt x="18173" y="5"/>
                      <a:pt x="18174" y="5"/>
                      <a:pt x="18174" y="7"/>
                    </a:cubicBezTo>
                    <a:cubicBezTo>
                      <a:pt x="18174" y="8"/>
                      <a:pt x="18173" y="9"/>
                      <a:pt x="18172" y="9"/>
                    </a:cubicBezTo>
                    <a:lnTo>
                      <a:pt x="18172" y="9"/>
                    </a:lnTo>
                    <a:cubicBezTo>
                      <a:pt x="18171" y="9"/>
                      <a:pt x="18170" y="8"/>
                      <a:pt x="18170" y="7"/>
                    </a:cubicBezTo>
                    <a:cubicBezTo>
                      <a:pt x="18170" y="5"/>
                      <a:pt x="18171" y="5"/>
                      <a:pt x="18172" y="5"/>
                    </a:cubicBezTo>
                    <a:close/>
                    <a:moveTo>
                      <a:pt x="18180" y="5"/>
                    </a:moveTo>
                    <a:lnTo>
                      <a:pt x="18180" y="5"/>
                    </a:lnTo>
                    <a:cubicBezTo>
                      <a:pt x="18181" y="5"/>
                      <a:pt x="18182" y="5"/>
                      <a:pt x="18182" y="7"/>
                    </a:cubicBezTo>
                    <a:cubicBezTo>
                      <a:pt x="18182" y="8"/>
                      <a:pt x="18181" y="9"/>
                      <a:pt x="18180" y="9"/>
                    </a:cubicBezTo>
                    <a:lnTo>
                      <a:pt x="18180" y="9"/>
                    </a:lnTo>
                    <a:cubicBezTo>
                      <a:pt x="18179" y="9"/>
                      <a:pt x="18178" y="8"/>
                      <a:pt x="18178" y="7"/>
                    </a:cubicBezTo>
                    <a:cubicBezTo>
                      <a:pt x="18178" y="5"/>
                      <a:pt x="18179" y="5"/>
                      <a:pt x="18180" y="5"/>
                    </a:cubicBezTo>
                    <a:close/>
                    <a:moveTo>
                      <a:pt x="18188" y="5"/>
                    </a:moveTo>
                    <a:lnTo>
                      <a:pt x="18188" y="5"/>
                    </a:lnTo>
                    <a:cubicBezTo>
                      <a:pt x="18189" y="5"/>
                      <a:pt x="18190" y="5"/>
                      <a:pt x="18190" y="7"/>
                    </a:cubicBezTo>
                    <a:cubicBezTo>
                      <a:pt x="18190" y="8"/>
                      <a:pt x="18189" y="9"/>
                      <a:pt x="18188" y="9"/>
                    </a:cubicBezTo>
                    <a:lnTo>
                      <a:pt x="18188" y="9"/>
                    </a:lnTo>
                    <a:cubicBezTo>
                      <a:pt x="18187" y="9"/>
                      <a:pt x="18186" y="8"/>
                      <a:pt x="18186" y="7"/>
                    </a:cubicBezTo>
                    <a:cubicBezTo>
                      <a:pt x="18186" y="5"/>
                      <a:pt x="18187" y="5"/>
                      <a:pt x="18188" y="5"/>
                    </a:cubicBezTo>
                    <a:close/>
                    <a:moveTo>
                      <a:pt x="18196" y="5"/>
                    </a:moveTo>
                    <a:lnTo>
                      <a:pt x="18196" y="5"/>
                    </a:lnTo>
                    <a:cubicBezTo>
                      <a:pt x="18197" y="5"/>
                      <a:pt x="18198" y="5"/>
                      <a:pt x="18198" y="7"/>
                    </a:cubicBezTo>
                    <a:cubicBezTo>
                      <a:pt x="18198" y="8"/>
                      <a:pt x="18197" y="9"/>
                      <a:pt x="18196" y="9"/>
                    </a:cubicBezTo>
                    <a:lnTo>
                      <a:pt x="18196" y="9"/>
                    </a:lnTo>
                    <a:cubicBezTo>
                      <a:pt x="18195" y="9"/>
                      <a:pt x="18194" y="8"/>
                      <a:pt x="18194" y="7"/>
                    </a:cubicBezTo>
                    <a:cubicBezTo>
                      <a:pt x="18194" y="5"/>
                      <a:pt x="18195" y="5"/>
                      <a:pt x="18196" y="5"/>
                    </a:cubicBezTo>
                    <a:close/>
                    <a:moveTo>
                      <a:pt x="18204" y="5"/>
                    </a:moveTo>
                    <a:lnTo>
                      <a:pt x="18204" y="5"/>
                    </a:lnTo>
                    <a:cubicBezTo>
                      <a:pt x="18205" y="5"/>
                      <a:pt x="18206" y="5"/>
                      <a:pt x="18206" y="7"/>
                    </a:cubicBezTo>
                    <a:cubicBezTo>
                      <a:pt x="18206" y="8"/>
                      <a:pt x="18205" y="9"/>
                      <a:pt x="18204" y="9"/>
                    </a:cubicBezTo>
                    <a:lnTo>
                      <a:pt x="18204" y="9"/>
                    </a:lnTo>
                    <a:cubicBezTo>
                      <a:pt x="18203" y="9"/>
                      <a:pt x="18202" y="8"/>
                      <a:pt x="18202" y="7"/>
                    </a:cubicBezTo>
                    <a:cubicBezTo>
                      <a:pt x="18202" y="5"/>
                      <a:pt x="18203" y="5"/>
                      <a:pt x="18204" y="5"/>
                    </a:cubicBezTo>
                    <a:close/>
                    <a:moveTo>
                      <a:pt x="18212" y="5"/>
                    </a:moveTo>
                    <a:lnTo>
                      <a:pt x="18212" y="5"/>
                    </a:lnTo>
                    <a:cubicBezTo>
                      <a:pt x="18214" y="5"/>
                      <a:pt x="18214" y="5"/>
                      <a:pt x="18214" y="7"/>
                    </a:cubicBezTo>
                    <a:cubicBezTo>
                      <a:pt x="18214" y="8"/>
                      <a:pt x="18214" y="9"/>
                      <a:pt x="18212" y="9"/>
                    </a:cubicBezTo>
                    <a:lnTo>
                      <a:pt x="18212" y="9"/>
                    </a:lnTo>
                    <a:cubicBezTo>
                      <a:pt x="18211" y="9"/>
                      <a:pt x="18210" y="8"/>
                      <a:pt x="18210" y="7"/>
                    </a:cubicBezTo>
                    <a:cubicBezTo>
                      <a:pt x="18210" y="5"/>
                      <a:pt x="18211" y="5"/>
                      <a:pt x="18212" y="5"/>
                    </a:cubicBezTo>
                    <a:close/>
                    <a:moveTo>
                      <a:pt x="18220" y="5"/>
                    </a:moveTo>
                    <a:lnTo>
                      <a:pt x="18220" y="5"/>
                    </a:lnTo>
                    <a:cubicBezTo>
                      <a:pt x="18222" y="5"/>
                      <a:pt x="18222" y="5"/>
                      <a:pt x="18222" y="7"/>
                    </a:cubicBezTo>
                    <a:cubicBezTo>
                      <a:pt x="18222" y="8"/>
                      <a:pt x="18222" y="9"/>
                      <a:pt x="18220" y="9"/>
                    </a:cubicBezTo>
                    <a:lnTo>
                      <a:pt x="18220" y="9"/>
                    </a:lnTo>
                    <a:cubicBezTo>
                      <a:pt x="18219" y="9"/>
                      <a:pt x="18218" y="8"/>
                      <a:pt x="18218" y="7"/>
                    </a:cubicBezTo>
                    <a:cubicBezTo>
                      <a:pt x="18218" y="5"/>
                      <a:pt x="18219" y="5"/>
                      <a:pt x="18220" y="5"/>
                    </a:cubicBezTo>
                    <a:close/>
                    <a:moveTo>
                      <a:pt x="18228" y="5"/>
                    </a:moveTo>
                    <a:lnTo>
                      <a:pt x="18228" y="5"/>
                    </a:lnTo>
                    <a:cubicBezTo>
                      <a:pt x="18230" y="5"/>
                      <a:pt x="18230" y="5"/>
                      <a:pt x="18230" y="7"/>
                    </a:cubicBezTo>
                    <a:cubicBezTo>
                      <a:pt x="18230" y="8"/>
                      <a:pt x="18230" y="9"/>
                      <a:pt x="18228" y="9"/>
                    </a:cubicBezTo>
                    <a:lnTo>
                      <a:pt x="18228" y="9"/>
                    </a:lnTo>
                    <a:cubicBezTo>
                      <a:pt x="18227" y="9"/>
                      <a:pt x="18226" y="8"/>
                      <a:pt x="18226" y="7"/>
                    </a:cubicBezTo>
                    <a:cubicBezTo>
                      <a:pt x="18226" y="5"/>
                      <a:pt x="18227" y="5"/>
                      <a:pt x="18228" y="5"/>
                    </a:cubicBezTo>
                    <a:close/>
                    <a:moveTo>
                      <a:pt x="18236" y="5"/>
                    </a:moveTo>
                    <a:lnTo>
                      <a:pt x="18236" y="5"/>
                    </a:lnTo>
                    <a:cubicBezTo>
                      <a:pt x="18238" y="5"/>
                      <a:pt x="18238" y="5"/>
                      <a:pt x="18238" y="7"/>
                    </a:cubicBezTo>
                    <a:cubicBezTo>
                      <a:pt x="18238" y="8"/>
                      <a:pt x="18238" y="9"/>
                      <a:pt x="18236" y="9"/>
                    </a:cubicBezTo>
                    <a:lnTo>
                      <a:pt x="18236" y="9"/>
                    </a:lnTo>
                    <a:cubicBezTo>
                      <a:pt x="18235" y="9"/>
                      <a:pt x="18234" y="8"/>
                      <a:pt x="18234" y="7"/>
                    </a:cubicBezTo>
                    <a:cubicBezTo>
                      <a:pt x="18234" y="5"/>
                      <a:pt x="18235" y="5"/>
                      <a:pt x="18236" y="5"/>
                    </a:cubicBezTo>
                    <a:close/>
                    <a:moveTo>
                      <a:pt x="18244" y="5"/>
                    </a:moveTo>
                    <a:lnTo>
                      <a:pt x="18244" y="5"/>
                    </a:lnTo>
                    <a:cubicBezTo>
                      <a:pt x="18246" y="5"/>
                      <a:pt x="18246" y="5"/>
                      <a:pt x="18246" y="7"/>
                    </a:cubicBezTo>
                    <a:cubicBezTo>
                      <a:pt x="18246" y="8"/>
                      <a:pt x="18246" y="9"/>
                      <a:pt x="18244" y="9"/>
                    </a:cubicBezTo>
                    <a:lnTo>
                      <a:pt x="18244" y="9"/>
                    </a:lnTo>
                    <a:cubicBezTo>
                      <a:pt x="18243" y="9"/>
                      <a:pt x="18242" y="8"/>
                      <a:pt x="18242" y="7"/>
                    </a:cubicBezTo>
                    <a:cubicBezTo>
                      <a:pt x="18242" y="5"/>
                      <a:pt x="18243" y="5"/>
                      <a:pt x="18244" y="5"/>
                    </a:cubicBezTo>
                    <a:close/>
                    <a:moveTo>
                      <a:pt x="18252" y="5"/>
                    </a:moveTo>
                    <a:lnTo>
                      <a:pt x="18252" y="5"/>
                    </a:lnTo>
                    <a:cubicBezTo>
                      <a:pt x="18254" y="5"/>
                      <a:pt x="18254" y="5"/>
                      <a:pt x="18254" y="7"/>
                    </a:cubicBezTo>
                    <a:cubicBezTo>
                      <a:pt x="18254" y="8"/>
                      <a:pt x="18254" y="9"/>
                      <a:pt x="18252" y="9"/>
                    </a:cubicBezTo>
                    <a:lnTo>
                      <a:pt x="18252" y="9"/>
                    </a:lnTo>
                    <a:cubicBezTo>
                      <a:pt x="18251" y="9"/>
                      <a:pt x="18250" y="8"/>
                      <a:pt x="18250" y="7"/>
                    </a:cubicBezTo>
                    <a:cubicBezTo>
                      <a:pt x="18250" y="5"/>
                      <a:pt x="18251" y="5"/>
                      <a:pt x="18252" y="5"/>
                    </a:cubicBezTo>
                    <a:close/>
                    <a:moveTo>
                      <a:pt x="18260" y="5"/>
                    </a:moveTo>
                    <a:lnTo>
                      <a:pt x="18260" y="5"/>
                    </a:lnTo>
                    <a:cubicBezTo>
                      <a:pt x="18262" y="5"/>
                      <a:pt x="18262" y="5"/>
                      <a:pt x="18262" y="7"/>
                    </a:cubicBezTo>
                    <a:cubicBezTo>
                      <a:pt x="18262" y="8"/>
                      <a:pt x="18262" y="9"/>
                      <a:pt x="18260" y="9"/>
                    </a:cubicBezTo>
                    <a:lnTo>
                      <a:pt x="18260" y="9"/>
                    </a:lnTo>
                    <a:cubicBezTo>
                      <a:pt x="18259" y="9"/>
                      <a:pt x="18258" y="8"/>
                      <a:pt x="18258" y="7"/>
                    </a:cubicBezTo>
                    <a:cubicBezTo>
                      <a:pt x="18258" y="5"/>
                      <a:pt x="18259" y="5"/>
                      <a:pt x="18260" y="5"/>
                    </a:cubicBezTo>
                    <a:close/>
                    <a:moveTo>
                      <a:pt x="18268" y="5"/>
                    </a:moveTo>
                    <a:lnTo>
                      <a:pt x="18268" y="5"/>
                    </a:lnTo>
                    <a:cubicBezTo>
                      <a:pt x="18270" y="5"/>
                      <a:pt x="18270" y="5"/>
                      <a:pt x="18270" y="7"/>
                    </a:cubicBezTo>
                    <a:cubicBezTo>
                      <a:pt x="18270" y="8"/>
                      <a:pt x="18270" y="9"/>
                      <a:pt x="18268" y="9"/>
                    </a:cubicBezTo>
                    <a:lnTo>
                      <a:pt x="18268" y="9"/>
                    </a:lnTo>
                    <a:cubicBezTo>
                      <a:pt x="18267" y="9"/>
                      <a:pt x="18266" y="8"/>
                      <a:pt x="18266" y="7"/>
                    </a:cubicBezTo>
                    <a:cubicBezTo>
                      <a:pt x="18266" y="5"/>
                      <a:pt x="18267" y="5"/>
                      <a:pt x="18268" y="5"/>
                    </a:cubicBezTo>
                    <a:close/>
                    <a:moveTo>
                      <a:pt x="18276" y="5"/>
                    </a:moveTo>
                    <a:lnTo>
                      <a:pt x="18276" y="5"/>
                    </a:lnTo>
                    <a:cubicBezTo>
                      <a:pt x="18278" y="5"/>
                      <a:pt x="18278" y="5"/>
                      <a:pt x="18278" y="7"/>
                    </a:cubicBezTo>
                    <a:cubicBezTo>
                      <a:pt x="18278" y="8"/>
                      <a:pt x="18278" y="9"/>
                      <a:pt x="18276" y="9"/>
                    </a:cubicBezTo>
                    <a:lnTo>
                      <a:pt x="18276" y="9"/>
                    </a:lnTo>
                    <a:cubicBezTo>
                      <a:pt x="18275" y="9"/>
                      <a:pt x="18274" y="8"/>
                      <a:pt x="18274" y="7"/>
                    </a:cubicBezTo>
                    <a:cubicBezTo>
                      <a:pt x="18274" y="5"/>
                      <a:pt x="18275" y="5"/>
                      <a:pt x="18276" y="5"/>
                    </a:cubicBezTo>
                    <a:close/>
                    <a:moveTo>
                      <a:pt x="18284" y="5"/>
                    </a:moveTo>
                    <a:lnTo>
                      <a:pt x="18284" y="5"/>
                    </a:lnTo>
                    <a:cubicBezTo>
                      <a:pt x="18286" y="5"/>
                      <a:pt x="18286" y="5"/>
                      <a:pt x="18286" y="7"/>
                    </a:cubicBezTo>
                    <a:cubicBezTo>
                      <a:pt x="18286" y="8"/>
                      <a:pt x="18286" y="9"/>
                      <a:pt x="18284" y="9"/>
                    </a:cubicBezTo>
                    <a:lnTo>
                      <a:pt x="18284" y="9"/>
                    </a:lnTo>
                    <a:cubicBezTo>
                      <a:pt x="18283" y="9"/>
                      <a:pt x="18282" y="8"/>
                      <a:pt x="18282" y="7"/>
                    </a:cubicBezTo>
                    <a:cubicBezTo>
                      <a:pt x="18282" y="5"/>
                      <a:pt x="18283" y="5"/>
                      <a:pt x="18284" y="5"/>
                    </a:cubicBezTo>
                    <a:close/>
                    <a:moveTo>
                      <a:pt x="18292" y="5"/>
                    </a:moveTo>
                    <a:lnTo>
                      <a:pt x="18292" y="5"/>
                    </a:lnTo>
                    <a:cubicBezTo>
                      <a:pt x="18294" y="5"/>
                      <a:pt x="18294" y="5"/>
                      <a:pt x="18294" y="7"/>
                    </a:cubicBezTo>
                    <a:cubicBezTo>
                      <a:pt x="18294" y="8"/>
                      <a:pt x="18294" y="9"/>
                      <a:pt x="18292" y="9"/>
                    </a:cubicBezTo>
                    <a:lnTo>
                      <a:pt x="18292" y="9"/>
                    </a:lnTo>
                    <a:cubicBezTo>
                      <a:pt x="18291" y="9"/>
                      <a:pt x="18290" y="8"/>
                      <a:pt x="18290" y="7"/>
                    </a:cubicBezTo>
                    <a:cubicBezTo>
                      <a:pt x="18290" y="5"/>
                      <a:pt x="18291" y="5"/>
                      <a:pt x="18292" y="5"/>
                    </a:cubicBezTo>
                    <a:close/>
                    <a:moveTo>
                      <a:pt x="18300" y="5"/>
                    </a:moveTo>
                    <a:lnTo>
                      <a:pt x="18300" y="5"/>
                    </a:lnTo>
                    <a:cubicBezTo>
                      <a:pt x="18302" y="5"/>
                      <a:pt x="18302" y="5"/>
                      <a:pt x="18302" y="7"/>
                    </a:cubicBezTo>
                    <a:cubicBezTo>
                      <a:pt x="18302" y="8"/>
                      <a:pt x="18302" y="9"/>
                      <a:pt x="18300" y="9"/>
                    </a:cubicBezTo>
                    <a:lnTo>
                      <a:pt x="18300" y="9"/>
                    </a:lnTo>
                    <a:cubicBezTo>
                      <a:pt x="18299" y="9"/>
                      <a:pt x="18298" y="8"/>
                      <a:pt x="18298" y="7"/>
                    </a:cubicBezTo>
                    <a:cubicBezTo>
                      <a:pt x="18298" y="5"/>
                      <a:pt x="18299" y="5"/>
                      <a:pt x="18300" y="5"/>
                    </a:cubicBezTo>
                    <a:close/>
                    <a:moveTo>
                      <a:pt x="18308" y="5"/>
                    </a:moveTo>
                    <a:lnTo>
                      <a:pt x="18308" y="5"/>
                    </a:lnTo>
                    <a:cubicBezTo>
                      <a:pt x="18310" y="5"/>
                      <a:pt x="18310" y="5"/>
                      <a:pt x="18310" y="7"/>
                    </a:cubicBezTo>
                    <a:cubicBezTo>
                      <a:pt x="18310" y="8"/>
                      <a:pt x="18310" y="9"/>
                      <a:pt x="18308" y="9"/>
                    </a:cubicBezTo>
                    <a:lnTo>
                      <a:pt x="18308" y="9"/>
                    </a:lnTo>
                    <a:cubicBezTo>
                      <a:pt x="18307" y="9"/>
                      <a:pt x="18306" y="8"/>
                      <a:pt x="18306" y="7"/>
                    </a:cubicBezTo>
                    <a:cubicBezTo>
                      <a:pt x="18306" y="5"/>
                      <a:pt x="18307" y="5"/>
                      <a:pt x="18308" y="5"/>
                    </a:cubicBezTo>
                    <a:close/>
                    <a:moveTo>
                      <a:pt x="18316" y="5"/>
                    </a:moveTo>
                    <a:lnTo>
                      <a:pt x="18317" y="5"/>
                    </a:lnTo>
                    <a:cubicBezTo>
                      <a:pt x="18318" y="5"/>
                      <a:pt x="18319" y="5"/>
                      <a:pt x="18319" y="7"/>
                    </a:cubicBezTo>
                    <a:cubicBezTo>
                      <a:pt x="18319" y="8"/>
                      <a:pt x="18318" y="9"/>
                      <a:pt x="18317" y="9"/>
                    </a:cubicBezTo>
                    <a:lnTo>
                      <a:pt x="18316" y="9"/>
                    </a:lnTo>
                    <a:cubicBezTo>
                      <a:pt x="18315" y="9"/>
                      <a:pt x="18314" y="8"/>
                      <a:pt x="18314" y="7"/>
                    </a:cubicBezTo>
                    <a:cubicBezTo>
                      <a:pt x="18314" y="5"/>
                      <a:pt x="18315" y="5"/>
                      <a:pt x="18316" y="5"/>
                    </a:cubicBezTo>
                    <a:close/>
                    <a:moveTo>
                      <a:pt x="18325" y="5"/>
                    </a:moveTo>
                    <a:lnTo>
                      <a:pt x="18325" y="5"/>
                    </a:lnTo>
                    <a:cubicBezTo>
                      <a:pt x="18326" y="5"/>
                      <a:pt x="18327" y="5"/>
                      <a:pt x="18327" y="7"/>
                    </a:cubicBezTo>
                    <a:cubicBezTo>
                      <a:pt x="18327" y="8"/>
                      <a:pt x="18326" y="9"/>
                      <a:pt x="18325" y="9"/>
                    </a:cubicBezTo>
                    <a:lnTo>
                      <a:pt x="18325" y="9"/>
                    </a:lnTo>
                    <a:cubicBezTo>
                      <a:pt x="18323" y="9"/>
                      <a:pt x="18323" y="8"/>
                      <a:pt x="18323" y="7"/>
                    </a:cubicBezTo>
                    <a:cubicBezTo>
                      <a:pt x="18323" y="5"/>
                      <a:pt x="18323" y="5"/>
                      <a:pt x="18325" y="5"/>
                    </a:cubicBezTo>
                    <a:close/>
                    <a:moveTo>
                      <a:pt x="18333" y="5"/>
                    </a:moveTo>
                    <a:lnTo>
                      <a:pt x="18333" y="5"/>
                    </a:lnTo>
                    <a:cubicBezTo>
                      <a:pt x="18334" y="5"/>
                      <a:pt x="18335" y="5"/>
                      <a:pt x="18335" y="7"/>
                    </a:cubicBezTo>
                    <a:cubicBezTo>
                      <a:pt x="18335" y="8"/>
                      <a:pt x="18334" y="9"/>
                      <a:pt x="18333" y="9"/>
                    </a:cubicBezTo>
                    <a:lnTo>
                      <a:pt x="18333" y="9"/>
                    </a:lnTo>
                    <a:cubicBezTo>
                      <a:pt x="18331" y="9"/>
                      <a:pt x="18331" y="8"/>
                      <a:pt x="18331" y="7"/>
                    </a:cubicBezTo>
                    <a:cubicBezTo>
                      <a:pt x="18331" y="5"/>
                      <a:pt x="18331" y="5"/>
                      <a:pt x="18333" y="5"/>
                    </a:cubicBezTo>
                    <a:close/>
                    <a:moveTo>
                      <a:pt x="18341" y="5"/>
                    </a:moveTo>
                    <a:lnTo>
                      <a:pt x="18341" y="5"/>
                    </a:lnTo>
                    <a:cubicBezTo>
                      <a:pt x="18342" y="5"/>
                      <a:pt x="18343" y="5"/>
                      <a:pt x="18343" y="7"/>
                    </a:cubicBezTo>
                    <a:cubicBezTo>
                      <a:pt x="18343" y="8"/>
                      <a:pt x="18342" y="9"/>
                      <a:pt x="18341" y="9"/>
                    </a:cubicBezTo>
                    <a:lnTo>
                      <a:pt x="18341" y="9"/>
                    </a:lnTo>
                    <a:cubicBezTo>
                      <a:pt x="18339" y="9"/>
                      <a:pt x="18339" y="8"/>
                      <a:pt x="18339" y="7"/>
                    </a:cubicBezTo>
                    <a:cubicBezTo>
                      <a:pt x="18339" y="5"/>
                      <a:pt x="18339" y="5"/>
                      <a:pt x="18341" y="5"/>
                    </a:cubicBezTo>
                    <a:close/>
                    <a:moveTo>
                      <a:pt x="18349" y="5"/>
                    </a:moveTo>
                    <a:lnTo>
                      <a:pt x="18349" y="5"/>
                    </a:lnTo>
                    <a:cubicBezTo>
                      <a:pt x="18350" y="5"/>
                      <a:pt x="18351" y="5"/>
                      <a:pt x="18351" y="7"/>
                    </a:cubicBezTo>
                    <a:cubicBezTo>
                      <a:pt x="18351" y="8"/>
                      <a:pt x="18350" y="9"/>
                      <a:pt x="18349" y="9"/>
                    </a:cubicBezTo>
                    <a:lnTo>
                      <a:pt x="18349" y="9"/>
                    </a:lnTo>
                    <a:cubicBezTo>
                      <a:pt x="18347" y="9"/>
                      <a:pt x="18347" y="8"/>
                      <a:pt x="18347" y="7"/>
                    </a:cubicBezTo>
                    <a:cubicBezTo>
                      <a:pt x="18347" y="5"/>
                      <a:pt x="18347" y="5"/>
                      <a:pt x="18349" y="5"/>
                    </a:cubicBezTo>
                    <a:close/>
                    <a:moveTo>
                      <a:pt x="18357" y="5"/>
                    </a:moveTo>
                    <a:lnTo>
                      <a:pt x="18357" y="5"/>
                    </a:lnTo>
                    <a:cubicBezTo>
                      <a:pt x="18358" y="5"/>
                      <a:pt x="18359" y="5"/>
                      <a:pt x="18359" y="7"/>
                    </a:cubicBezTo>
                    <a:cubicBezTo>
                      <a:pt x="18359" y="8"/>
                      <a:pt x="18358" y="9"/>
                      <a:pt x="18357" y="9"/>
                    </a:cubicBezTo>
                    <a:lnTo>
                      <a:pt x="18357" y="9"/>
                    </a:lnTo>
                    <a:cubicBezTo>
                      <a:pt x="18355" y="9"/>
                      <a:pt x="18355" y="8"/>
                      <a:pt x="18355" y="7"/>
                    </a:cubicBezTo>
                    <a:cubicBezTo>
                      <a:pt x="18355" y="5"/>
                      <a:pt x="18355" y="5"/>
                      <a:pt x="18357" y="5"/>
                    </a:cubicBezTo>
                    <a:close/>
                    <a:moveTo>
                      <a:pt x="18365" y="5"/>
                    </a:moveTo>
                    <a:lnTo>
                      <a:pt x="18365" y="5"/>
                    </a:lnTo>
                    <a:cubicBezTo>
                      <a:pt x="18366" y="5"/>
                      <a:pt x="18367" y="5"/>
                      <a:pt x="18367" y="7"/>
                    </a:cubicBezTo>
                    <a:cubicBezTo>
                      <a:pt x="18367" y="8"/>
                      <a:pt x="18366" y="9"/>
                      <a:pt x="18365" y="9"/>
                    </a:cubicBezTo>
                    <a:lnTo>
                      <a:pt x="18365" y="9"/>
                    </a:lnTo>
                    <a:cubicBezTo>
                      <a:pt x="18363" y="9"/>
                      <a:pt x="18363" y="8"/>
                      <a:pt x="18363" y="7"/>
                    </a:cubicBezTo>
                    <a:cubicBezTo>
                      <a:pt x="18363" y="5"/>
                      <a:pt x="18363" y="5"/>
                      <a:pt x="18365" y="5"/>
                    </a:cubicBezTo>
                    <a:close/>
                    <a:moveTo>
                      <a:pt x="18373" y="5"/>
                    </a:moveTo>
                    <a:lnTo>
                      <a:pt x="18373" y="5"/>
                    </a:lnTo>
                    <a:cubicBezTo>
                      <a:pt x="18374" y="5"/>
                      <a:pt x="18375" y="5"/>
                      <a:pt x="18375" y="7"/>
                    </a:cubicBezTo>
                    <a:cubicBezTo>
                      <a:pt x="18375" y="8"/>
                      <a:pt x="18374" y="9"/>
                      <a:pt x="18373" y="9"/>
                    </a:cubicBezTo>
                    <a:lnTo>
                      <a:pt x="18373" y="9"/>
                    </a:lnTo>
                    <a:cubicBezTo>
                      <a:pt x="18371" y="9"/>
                      <a:pt x="18371" y="8"/>
                      <a:pt x="18371" y="7"/>
                    </a:cubicBezTo>
                    <a:cubicBezTo>
                      <a:pt x="18371" y="5"/>
                      <a:pt x="18371" y="5"/>
                      <a:pt x="18373" y="5"/>
                    </a:cubicBezTo>
                    <a:close/>
                    <a:moveTo>
                      <a:pt x="18381" y="5"/>
                    </a:moveTo>
                    <a:lnTo>
                      <a:pt x="18381" y="5"/>
                    </a:lnTo>
                    <a:cubicBezTo>
                      <a:pt x="18382" y="5"/>
                      <a:pt x="18383" y="5"/>
                      <a:pt x="18383" y="7"/>
                    </a:cubicBezTo>
                    <a:cubicBezTo>
                      <a:pt x="18383" y="8"/>
                      <a:pt x="18382" y="9"/>
                      <a:pt x="18381" y="9"/>
                    </a:cubicBezTo>
                    <a:lnTo>
                      <a:pt x="18381" y="9"/>
                    </a:lnTo>
                    <a:cubicBezTo>
                      <a:pt x="18379" y="9"/>
                      <a:pt x="18379" y="8"/>
                      <a:pt x="18379" y="7"/>
                    </a:cubicBezTo>
                    <a:cubicBezTo>
                      <a:pt x="18379" y="5"/>
                      <a:pt x="18379" y="5"/>
                      <a:pt x="18381" y="5"/>
                    </a:cubicBezTo>
                    <a:close/>
                    <a:moveTo>
                      <a:pt x="18389" y="5"/>
                    </a:moveTo>
                    <a:lnTo>
                      <a:pt x="18389" y="5"/>
                    </a:lnTo>
                    <a:cubicBezTo>
                      <a:pt x="18390" y="5"/>
                      <a:pt x="18391" y="5"/>
                      <a:pt x="18391" y="7"/>
                    </a:cubicBezTo>
                    <a:cubicBezTo>
                      <a:pt x="18391" y="8"/>
                      <a:pt x="18390" y="9"/>
                      <a:pt x="18389" y="9"/>
                    </a:cubicBezTo>
                    <a:lnTo>
                      <a:pt x="18389" y="9"/>
                    </a:lnTo>
                    <a:cubicBezTo>
                      <a:pt x="18387" y="9"/>
                      <a:pt x="18387" y="8"/>
                      <a:pt x="18387" y="7"/>
                    </a:cubicBezTo>
                    <a:cubicBezTo>
                      <a:pt x="18387" y="5"/>
                      <a:pt x="18387" y="5"/>
                      <a:pt x="18389" y="5"/>
                    </a:cubicBezTo>
                    <a:close/>
                    <a:moveTo>
                      <a:pt x="18397" y="5"/>
                    </a:moveTo>
                    <a:lnTo>
                      <a:pt x="18397" y="5"/>
                    </a:lnTo>
                    <a:cubicBezTo>
                      <a:pt x="18398" y="5"/>
                      <a:pt x="18399" y="5"/>
                      <a:pt x="18399" y="7"/>
                    </a:cubicBezTo>
                    <a:cubicBezTo>
                      <a:pt x="18399" y="8"/>
                      <a:pt x="18398" y="9"/>
                      <a:pt x="18397" y="9"/>
                    </a:cubicBezTo>
                    <a:lnTo>
                      <a:pt x="18397" y="9"/>
                    </a:lnTo>
                    <a:cubicBezTo>
                      <a:pt x="18395" y="9"/>
                      <a:pt x="18395" y="8"/>
                      <a:pt x="18395" y="7"/>
                    </a:cubicBezTo>
                    <a:cubicBezTo>
                      <a:pt x="18395" y="5"/>
                      <a:pt x="18395" y="5"/>
                      <a:pt x="18397" y="5"/>
                    </a:cubicBezTo>
                    <a:close/>
                    <a:moveTo>
                      <a:pt x="18405" y="5"/>
                    </a:moveTo>
                    <a:lnTo>
                      <a:pt x="18405" y="5"/>
                    </a:lnTo>
                    <a:cubicBezTo>
                      <a:pt x="18406" y="5"/>
                      <a:pt x="18407" y="6"/>
                      <a:pt x="18407" y="7"/>
                    </a:cubicBezTo>
                    <a:cubicBezTo>
                      <a:pt x="18407" y="8"/>
                      <a:pt x="18406" y="9"/>
                      <a:pt x="18405" y="9"/>
                    </a:cubicBezTo>
                    <a:lnTo>
                      <a:pt x="18405" y="9"/>
                    </a:lnTo>
                    <a:cubicBezTo>
                      <a:pt x="18403" y="9"/>
                      <a:pt x="18403" y="8"/>
                      <a:pt x="18403" y="7"/>
                    </a:cubicBezTo>
                    <a:cubicBezTo>
                      <a:pt x="18403" y="6"/>
                      <a:pt x="18403" y="5"/>
                      <a:pt x="18405" y="5"/>
                    </a:cubicBezTo>
                    <a:close/>
                    <a:moveTo>
                      <a:pt x="18413" y="5"/>
                    </a:moveTo>
                    <a:lnTo>
                      <a:pt x="18413" y="5"/>
                    </a:lnTo>
                    <a:cubicBezTo>
                      <a:pt x="18414" y="5"/>
                      <a:pt x="18415" y="6"/>
                      <a:pt x="18415" y="7"/>
                    </a:cubicBezTo>
                    <a:cubicBezTo>
                      <a:pt x="18415" y="8"/>
                      <a:pt x="18414" y="9"/>
                      <a:pt x="18413" y="9"/>
                    </a:cubicBezTo>
                    <a:lnTo>
                      <a:pt x="18413" y="9"/>
                    </a:lnTo>
                    <a:cubicBezTo>
                      <a:pt x="18411" y="9"/>
                      <a:pt x="18411" y="8"/>
                      <a:pt x="18411" y="7"/>
                    </a:cubicBezTo>
                    <a:cubicBezTo>
                      <a:pt x="18411" y="6"/>
                      <a:pt x="18411" y="5"/>
                      <a:pt x="18413" y="5"/>
                    </a:cubicBezTo>
                    <a:close/>
                    <a:moveTo>
                      <a:pt x="18421" y="5"/>
                    </a:moveTo>
                    <a:lnTo>
                      <a:pt x="18421" y="5"/>
                    </a:lnTo>
                    <a:cubicBezTo>
                      <a:pt x="18422" y="5"/>
                      <a:pt x="18423" y="6"/>
                      <a:pt x="18423" y="7"/>
                    </a:cubicBezTo>
                    <a:cubicBezTo>
                      <a:pt x="18423" y="8"/>
                      <a:pt x="18422" y="9"/>
                      <a:pt x="18421" y="9"/>
                    </a:cubicBezTo>
                    <a:lnTo>
                      <a:pt x="18421" y="9"/>
                    </a:lnTo>
                    <a:cubicBezTo>
                      <a:pt x="18419" y="9"/>
                      <a:pt x="18419" y="8"/>
                      <a:pt x="18419" y="7"/>
                    </a:cubicBezTo>
                    <a:cubicBezTo>
                      <a:pt x="18419" y="6"/>
                      <a:pt x="18419" y="5"/>
                      <a:pt x="18421" y="5"/>
                    </a:cubicBezTo>
                    <a:close/>
                    <a:moveTo>
                      <a:pt x="18429" y="5"/>
                    </a:moveTo>
                    <a:lnTo>
                      <a:pt x="18429" y="5"/>
                    </a:lnTo>
                    <a:cubicBezTo>
                      <a:pt x="18430" y="5"/>
                      <a:pt x="18431" y="6"/>
                      <a:pt x="18431" y="7"/>
                    </a:cubicBezTo>
                    <a:cubicBezTo>
                      <a:pt x="18431" y="8"/>
                      <a:pt x="18430" y="9"/>
                      <a:pt x="18429" y="9"/>
                    </a:cubicBezTo>
                    <a:lnTo>
                      <a:pt x="18429" y="9"/>
                    </a:lnTo>
                    <a:cubicBezTo>
                      <a:pt x="18428" y="9"/>
                      <a:pt x="18427" y="8"/>
                      <a:pt x="18427" y="7"/>
                    </a:cubicBezTo>
                    <a:cubicBezTo>
                      <a:pt x="18427" y="6"/>
                      <a:pt x="18428" y="5"/>
                      <a:pt x="18429" y="5"/>
                    </a:cubicBezTo>
                    <a:close/>
                    <a:moveTo>
                      <a:pt x="18437" y="5"/>
                    </a:moveTo>
                    <a:lnTo>
                      <a:pt x="18437" y="5"/>
                    </a:lnTo>
                    <a:cubicBezTo>
                      <a:pt x="18438" y="5"/>
                      <a:pt x="18439" y="6"/>
                      <a:pt x="18439" y="7"/>
                    </a:cubicBezTo>
                    <a:cubicBezTo>
                      <a:pt x="18439" y="8"/>
                      <a:pt x="18438" y="9"/>
                      <a:pt x="18437" y="9"/>
                    </a:cubicBezTo>
                    <a:lnTo>
                      <a:pt x="18437" y="9"/>
                    </a:lnTo>
                    <a:cubicBezTo>
                      <a:pt x="18436" y="9"/>
                      <a:pt x="18435" y="8"/>
                      <a:pt x="18435" y="7"/>
                    </a:cubicBezTo>
                    <a:cubicBezTo>
                      <a:pt x="18435" y="6"/>
                      <a:pt x="18436" y="5"/>
                      <a:pt x="18437" y="5"/>
                    </a:cubicBezTo>
                    <a:close/>
                    <a:moveTo>
                      <a:pt x="18445" y="5"/>
                    </a:moveTo>
                    <a:lnTo>
                      <a:pt x="18445" y="5"/>
                    </a:lnTo>
                    <a:cubicBezTo>
                      <a:pt x="18446" y="5"/>
                      <a:pt x="18447" y="6"/>
                      <a:pt x="18447" y="7"/>
                    </a:cubicBezTo>
                    <a:cubicBezTo>
                      <a:pt x="18447" y="8"/>
                      <a:pt x="18446" y="9"/>
                      <a:pt x="18445" y="9"/>
                    </a:cubicBezTo>
                    <a:lnTo>
                      <a:pt x="18445" y="9"/>
                    </a:lnTo>
                    <a:cubicBezTo>
                      <a:pt x="18444" y="9"/>
                      <a:pt x="18443" y="8"/>
                      <a:pt x="18443" y="7"/>
                    </a:cubicBezTo>
                    <a:cubicBezTo>
                      <a:pt x="18443" y="6"/>
                      <a:pt x="18444" y="5"/>
                      <a:pt x="18445" y="5"/>
                    </a:cubicBezTo>
                    <a:close/>
                    <a:moveTo>
                      <a:pt x="18453" y="5"/>
                    </a:moveTo>
                    <a:lnTo>
                      <a:pt x="18453" y="5"/>
                    </a:lnTo>
                    <a:cubicBezTo>
                      <a:pt x="18454" y="5"/>
                      <a:pt x="18455" y="6"/>
                      <a:pt x="18455" y="7"/>
                    </a:cubicBezTo>
                    <a:cubicBezTo>
                      <a:pt x="18455" y="8"/>
                      <a:pt x="18454" y="9"/>
                      <a:pt x="18453" y="9"/>
                    </a:cubicBezTo>
                    <a:lnTo>
                      <a:pt x="18453" y="9"/>
                    </a:lnTo>
                    <a:cubicBezTo>
                      <a:pt x="18452" y="9"/>
                      <a:pt x="18451" y="8"/>
                      <a:pt x="18451" y="7"/>
                    </a:cubicBezTo>
                    <a:cubicBezTo>
                      <a:pt x="18451" y="6"/>
                      <a:pt x="18452" y="5"/>
                      <a:pt x="18453" y="5"/>
                    </a:cubicBezTo>
                    <a:close/>
                    <a:moveTo>
                      <a:pt x="18461" y="5"/>
                    </a:moveTo>
                    <a:lnTo>
                      <a:pt x="18461" y="5"/>
                    </a:lnTo>
                    <a:cubicBezTo>
                      <a:pt x="18462" y="5"/>
                      <a:pt x="18463" y="6"/>
                      <a:pt x="18463" y="7"/>
                    </a:cubicBezTo>
                    <a:cubicBezTo>
                      <a:pt x="18463" y="8"/>
                      <a:pt x="18462" y="9"/>
                      <a:pt x="18461" y="9"/>
                    </a:cubicBezTo>
                    <a:lnTo>
                      <a:pt x="18461" y="9"/>
                    </a:lnTo>
                    <a:cubicBezTo>
                      <a:pt x="18460" y="9"/>
                      <a:pt x="18459" y="8"/>
                      <a:pt x="18459" y="7"/>
                    </a:cubicBezTo>
                    <a:cubicBezTo>
                      <a:pt x="18459" y="6"/>
                      <a:pt x="18460" y="5"/>
                      <a:pt x="18461" y="5"/>
                    </a:cubicBezTo>
                    <a:close/>
                    <a:moveTo>
                      <a:pt x="18469" y="5"/>
                    </a:moveTo>
                    <a:lnTo>
                      <a:pt x="18469" y="5"/>
                    </a:lnTo>
                    <a:cubicBezTo>
                      <a:pt x="18470" y="5"/>
                      <a:pt x="18471" y="6"/>
                      <a:pt x="18471" y="7"/>
                    </a:cubicBezTo>
                    <a:cubicBezTo>
                      <a:pt x="18471" y="8"/>
                      <a:pt x="18470" y="9"/>
                      <a:pt x="18469" y="9"/>
                    </a:cubicBezTo>
                    <a:lnTo>
                      <a:pt x="18469" y="9"/>
                    </a:lnTo>
                    <a:cubicBezTo>
                      <a:pt x="18468" y="9"/>
                      <a:pt x="18467" y="8"/>
                      <a:pt x="18467" y="7"/>
                    </a:cubicBezTo>
                    <a:cubicBezTo>
                      <a:pt x="18467" y="6"/>
                      <a:pt x="18468" y="5"/>
                      <a:pt x="18469" y="5"/>
                    </a:cubicBezTo>
                    <a:close/>
                    <a:moveTo>
                      <a:pt x="18477" y="5"/>
                    </a:moveTo>
                    <a:lnTo>
                      <a:pt x="18477" y="5"/>
                    </a:lnTo>
                    <a:cubicBezTo>
                      <a:pt x="18478" y="5"/>
                      <a:pt x="18479" y="6"/>
                      <a:pt x="18479" y="7"/>
                    </a:cubicBezTo>
                    <a:cubicBezTo>
                      <a:pt x="18479" y="8"/>
                      <a:pt x="18478" y="9"/>
                      <a:pt x="18477" y="9"/>
                    </a:cubicBezTo>
                    <a:lnTo>
                      <a:pt x="18477" y="9"/>
                    </a:lnTo>
                    <a:cubicBezTo>
                      <a:pt x="18476" y="9"/>
                      <a:pt x="18475" y="8"/>
                      <a:pt x="18475" y="7"/>
                    </a:cubicBezTo>
                    <a:cubicBezTo>
                      <a:pt x="18475" y="6"/>
                      <a:pt x="18476" y="5"/>
                      <a:pt x="18477" y="5"/>
                    </a:cubicBezTo>
                    <a:close/>
                    <a:moveTo>
                      <a:pt x="18485" y="5"/>
                    </a:moveTo>
                    <a:lnTo>
                      <a:pt x="18485" y="5"/>
                    </a:lnTo>
                    <a:cubicBezTo>
                      <a:pt x="18486" y="5"/>
                      <a:pt x="18487" y="6"/>
                      <a:pt x="18487" y="7"/>
                    </a:cubicBezTo>
                    <a:cubicBezTo>
                      <a:pt x="18487" y="8"/>
                      <a:pt x="18486" y="9"/>
                      <a:pt x="18485" y="9"/>
                    </a:cubicBezTo>
                    <a:lnTo>
                      <a:pt x="18485" y="9"/>
                    </a:lnTo>
                    <a:cubicBezTo>
                      <a:pt x="18484" y="9"/>
                      <a:pt x="18483" y="8"/>
                      <a:pt x="18483" y="7"/>
                    </a:cubicBezTo>
                    <a:cubicBezTo>
                      <a:pt x="18483" y="6"/>
                      <a:pt x="18484" y="5"/>
                      <a:pt x="18485" y="5"/>
                    </a:cubicBezTo>
                    <a:close/>
                    <a:moveTo>
                      <a:pt x="18493" y="5"/>
                    </a:moveTo>
                    <a:lnTo>
                      <a:pt x="18493" y="5"/>
                    </a:lnTo>
                    <a:cubicBezTo>
                      <a:pt x="18494" y="5"/>
                      <a:pt x="18495" y="6"/>
                      <a:pt x="18495" y="7"/>
                    </a:cubicBezTo>
                    <a:cubicBezTo>
                      <a:pt x="18495" y="8"/>
                      <a:pt x="18494" y="9"/>
                      <a:pt x="18493" y="9"/>
                    </a:cubicBezTo>
                    <a:lnTo>
                      <a:pt x="18493" y="9"/>
                    </a:lnTo>
                    <a:cubicBezTo>
                      <a:pt x="18492" y="9"/>
                      <a:pt x="18491" y="8"/>
                      <a:pt x="18491" y="7"/>
                    </a:cubicBezTo>
                    <a:cubicBezTo>
                      <a:pt x="18491" y="6"/>
                      <a:pt x="18492" y="5"/>
                      <a:pt x="18493" y="5"/>
                    </a:cubicBezTo>
                    <a:close/>
                    <a:moveTo>
                      <a:pt x="18501" y="5"/>
                    </a:moveTo>
                    <a:lnTo>
                      <a:pt x="18501" y="5"/>
                    </a:lnTo>
                    <a:cubicBezTo>
                      <a:pt x="18502" y="5"/>
                      <a:pt x="18503" y="6"/>
                      <a:pt x="18503" y="7"/>
                    </a:cubicBezTo>
                    <a:cubicBezTo>
                      <a:pt x="18503" y="8"/>
                      <a:pt x="18502" y="9"/>
                      <a:pt x="18501" y="9"/>
                    </a:cubicBezTo>
                    <a:lnTo>
                      <a:pt x="18501" y="9"/>
                    </a:lnTo>
                    <a:cubicBezTo>
                      <a:pt x="18500" y="9"/>
                      <a:pt x="18499" y="8"/>
                      <a:pt x="18499" y="7"/>
                    </a:cubicBezTo>
                    <a:cubicBezTo>
                      <a:pt x="18499" y="6"/>
                      <a:pt x="18500" y="5"/>
                      <a:pt x="18501" y="5"/>
                    </a:cubicBezTo>
                    <a:close/>
                    <a:moveTo>
                      <a:pt x="18509" y="5"/>
                    </a:moveTo>
                    <a:lnTo>
                      <a:pt x="18509" y="5"/>
                    </a:lnTo>
                    <a:cubicBezTo>
                      <a:pt x="18510" y="5"/>
                      <a:pt x="18511" y="6"/>
                      <a:pt x="18511" y="7"/>
                    </a:cubicBezTo>
                    <a:cubicBezTo>
                      <a:pt x="18511" y="8"/>
                      <a:pt x="18510" y="9"/>
                      <a:pt x="18509" y="9"/>
                    </a:cubicBezTo>
                    <a:lnTo>
                      <a:pt x="18509" y="9"/>
                    </a:lnTo>
                    <a:cubicBezTo>
                      <a:pt x="18508" y="9"/>
                      <a:pt x="18507" y="8"/>
                      <a:pt x="18507" y="7"/>
                    </a:cubicBezTo>
                    <a:cubicBezTo>
                      <a:pt x="18507" y="6"/>
                      <a:pt x="18508" y="5"/>
                      <a:pt x="18509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562040" y="3983040"/>
                <a:ext cx="6075360" cy="3240"/>
              </a:xfrm>
              <a:custGeom>
                <a:avLst/>
                <a:gdLst/>
                <a:ahLst/>
                <a:rect l="l" t="t" r="r" b="b"/>
                <a:pathLst>
                  <a:path w="18511" h="8">
                    <a:moveTo>
                      <a:pt x="2" y="0"/>
                    </a:moveTo>
                    <a:lnTo>
                      <a:pt x="2" y="0"/>
                    </a:lnTo>
                    <a:cubicBezTo>
                      <a:pt x="3" y="0"/>
                      <a:pt x="4" y="1"/>
                      <a:pt x="4" y="2"/>
                    </a:cubicBezTo>
                    <a:cubicBezTo>
                      <a:pt x="4" y="3"/>
                      <a:pt x="3" y="4"/>
                      <a:pt x="2" y="4"/>
                    </a:cubicBezTo>
                    <a:lnTo>
                      <a:pt x="2" y="4"/>
                    </a:lnTo>
                    <a:cubicBezTo>
                      <a:pt x="1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0"/>
                    </a:cubicBezTo>
                    <a:close/>
                    <a:moveTo>
                      <a:pt x="10" y="0"/>
                    </a:moveTo>
                    <a:lnTo>
                      <a:pt x="10" y="0"/>
                    </a:lnTo>
                    <a:cubicBezTo>
                      <a:pt x="11" y="0"/>
                      <a:pt x="12" y="1"/>
                      <a:pt x="12" y="2"/>
                    </a:cubicBezTo>
                    <a:cubicBezTo>
                      <a:pt x="12" y="3"/>
                      <a:pt x="11" y="4"/>
                      <a:pt x="10" y="4"/>
                    </a:cubicBezTo>
                    <a:lnTo>
                      <a:pt x="10" y="4"/>
                    </a:lnTo>
                    <a:cubicBezTo>
                      <a:pt x="9" y="4"/>
                      <a:pt x="8" y="3"/>
                      <a:pt x="8" y="2"/>
                    </a:cubicBezTo>
                    <a:cubicBezTo>
                      <a:pt x="8" y="1"/>
                      <a:pt x="9" y="0"/>
                      <a:pt x="10" y="0"/>
                    </a:cubicBezTo>
                    <a:close/>
                    <a:moveTo>
                      <a:pt x="18" y="0"/>
                    </a:moveTo>
                    <a:lnTo>
                      <a:pt x="18" y="0"/>
                    </a:lnTo>
                    <a:cubicBezTo>
                      <a:pt x="19" y="0"/>
                      <a:pt x="20" y="1"/>
                      <a:pt x="20" y="2"/>
                    </a:cubicBezTo>
                    <a:cubicBezTo>
                      <a:pt x="20" y="3"/>
                      <a:pt x="19" y="4"/>
                      <a:pt x="18" y="4"/>
                    </a:cubicBezTo>
                    <a:lnTo>
                      <a:pt x="18" y="4"/>
                    </a:lnTo>
                    <a:cubicBezTo>
                      <a:pt x="17" y="4"/>
                      <a:pt x="16" y="3"/>
                      <a:pt x="16" y="2"/>
                    </a:cubicBezTo>
                    <a:cubicBezTo>
                      <a:pt x="16" y="1"/>
                      <a:pt x="17" y="0"/>
                      <a:pt x="18" y="0"/>
                    </a:cubicBezTo>
                    <a:close/>
                    <a:moveTo>
                      <a:pt x="26" y="0"/>
                    </a:moveTo>
                    <a:lnTo>
                      <a:pt x="26" y="0"/>
                    </a:lnTo>
                    <a:cubicBezTo>
                      <a:pt x="27" y="0"/>
                      <a:pt x="28" y="1"/>
                      <a:pt x="28" y="2"/>
                    </a:cubicBezTo>
                    <a:cubicBezTo>
                      <a:pt x="28" y="3"/>
                      <a:pt x="27" y="4"/>
                      <a:pt x="26" y="4"/>
                    </a:cubicBezTo>
                    <a:lnTo>
                      <a:pt x="26" y="4"/>
                    </a:lnTo>
                    <a:cubicBezTo>
                      <a:pt x="25" y="4"/>
                      <a:pt x="24" y="3"/>
                      <a:pt x="24" y="2"/>
                    </a:cubicBezTo>
                    <a:cubicBezTo>
                      <a:pt x="24" y="1"/>
                      <a:pt x="25" y="0"/>
                      <a:pt x="26" y="0"/>
                    </a:cubicBezTo>
                    <a:close/>
                    <a:moveTo>
                      <a:pt x="34" y="0"/>
                    </a:moveTo>
                    <a:lnTo>
                      <a:pt x="34" y="0"/>
                    </a:lnTo>
                    <a:cubicBezTo>
                      <a:pt x="35" y="0"/>
                      <a:pt x="36" y="1"/>
                      <a:pt x="36" y="2"/>
                    </a:cubicBezTo>
                    <a:cubicBezTo>
                      <a:pt x="36" y="3"/>
                      <a:pt x="35" y="4"/>
                      <a:pt x="34" y="4"/>
                    </a:cubicBezTo>
                    <a:lnTo>
                      <a:pt x="34" y="4"/>
                    </a:lnTo>
                    <a:cubicBezTo>
                      <a:pt x="33" y="4"/>
                      <a:pt x="32" y="3"/>
                      <a:pt x="32" y="2"/>
                    </a:cubicBezTo>
                    <a:cubicBezTo>
                      <a:pt x="32" y="1"/>
                      <a:pt x="33" y="0"/>
                      <a:pt x="34" y="0"/>
                    </a:cubicBezTo>
                    <a:close/>
                    <a:moveTo>
                      <a:pt x="42" y="0"/>
                    </a:moveTo>
                    <a:lnTo>
                      <a:pt x="42" y="0"/>
                    </a:lnTo>
                    <a:cubicBezTo>
                      <a:pt x="43" y="0"/>
                      <a:pt x="44" y="1"/>
                      <a:pt x="44" y="2"/>
                    </a:cubicBezTo>
                    <a:cubicBezTo>
                      <a:pt x="44" y="3"/>
                      <a:pt x="43" y="4"/>
                      <a:pt x="42" y="4"/>
                    </a:cubicBezTo>
                    <a:lnTo>
                      <a:pt x="42" y="4"/>
                    </a:lnTo>
                    <a:cubicBezTo>
                      <a:pt x="41" y="4"/>
                      <a:pt x="40" y="3"/>
                      <a:pt x="40" y="2"/>
                    </a:cubicBezTo>
                    <a:cubicBezTo>
                      <a:pt x="40" y="1"/>
                      <a:pt x="41" y="0"/>
                      <a:pt x="42" y="0"/>
                    </a:cubicBezTo>
                    <a:close/>
                    <a:moveTo>
                      <a:pt x="50" y="0"/>
                    </a:moveTo>
                    <a:lnTo>
                      <a:pt x="50" y="0"/>
                    </a:lnTo>
                    <a:cubicBezTo>
                      <a:pt x="51" y="0"/>
                      <a:pt x="52" y="1"/>
                      <a:pt x="52" y="2"/>
                    </a:cubicBezTo>
                    <a:cubicBezTo>
                      <a:pt x="52" y="3"/>
                      <a:pt x="51" y="4"/>
                      <a:pt x="50" y="4"/>
                    </a:cubicBezTo>
                    <a:lnTo>
                      <a:pt x="50" y="4"/>
                    </a:lnTo>
                    <a:cubicBezTo>
                      <a:pt x="49" y="4"/>
                      <a:pt x="48" y="3"/>
                      <a:pt x="48" y="2"/>
                    </a:cubicBezTo>
                    <a:cubicBezTo>
                      <a:pt x="48" y="1"/>
                      <a:pt x="49" y="0"/>
                      <a:pt x="50" y="0"/>
                    </a:cubicBezTo>
                    <a:close/>
                    <a:moveTo>
                      <a:pt x="58" y="0"/>
                    </a:moveTo>
                    <a:lnTo>
                      <a:pt x="58" y="0"/>
                    </a:lnTo>
                    <a:cubicBezTo>
                      <a:pt x="59" y="0"/>
                      <a:pt x="60" y="1"/>
                      <a:pt x="60" y="2"/>
                    </a:cubicBezTo>
                    <a:cubicBezTo>
                      <a:pt x="60" y="3"/>
                      <a:pt x="59" y="4"/>
                      <a:pt x="58" y="4"/>
                    </a:cubicBezTo>
                    <a:lnTo>
                      <a:pt x="58" y="4"/>
                    </a:lnTo>
                    <a:cubicBezTo>
                      <a:pt x="57" y="4"/>
                      <a:pt x="56" y="3"/>
                      <a:pt x="56" y="2"/>
                    </a:cubicBezTo>
                    <a:cubicBezTo>
                      <a:pt x="56" y="1"/>
                      <a:pt x="57" y="0"/>
                      <a:pt x="58" y="0"/>
                    </a:cubicBezTo>
                    <a:close/>
                    <a:moveTo>
                      <a:pt x="66" y="0"/>
                    </a:moveTo>
                    <a:lnTo>
                      <a:pt x="66" y="0"/>
                    </a:lnTo>
                    <a:cubicBezTo>
                      <a:pt x="67" y="0"/>
                      <a:pt x="68" y="1"/>
                      <a:pt x="68" y="2"/>
                    </a:cubicBezTo>
                    <a:cubicBezTo>
                      <a:pt x="68" y="3"/>
                      <a:pt x="67" y="4"/>
                      <a:pt x="66" y="4"/>
                    </a:cubicBezTo>
                    <a:lnTo>
                      <a:pt x="66" y="4"/>
                    </a:lnTo>
                    <a:cubicBezTo>
                      <a:pt x="65" y="4"/>
                      <a:pt x="64" y="3"/>
                      <a:pt x="64" y="2"/>
                    </a:cubicBezTo>
                    <a:cubicBezTo>
                      <a:pt x="64" y="1"/>
                      <a:pt x="65" y="0"/>
                      <a:pt x="66" y="0"/>
                    </a:cubicBezTo>
                    <a:close/>
                    <a:moveTo>
                      <a:pt x="74" y="0"/>
                    </a:moveTo>
                    <a:lnTo>
                      <a:pt x="74" y="0"/>
                    </a:lnTo>
                    <a:cubicBezTo>
                      <a:pt x="75" y="0"/>
                      <a:pt x="76" y="1"/>
                      <a:pt x="76" y="2"/>
                    </a:cubicBezTo>
                    <a:cubicBezTo>
                      <a:pt x="76" y="3"/>
                      <a:pt x="75" y="4"/>
                      <a:pt x="74" y="4"/>
                    </a:cubicBezTo>
                    <a:lnTo>
                      <a:pt x="74" y="4"/>
                    </a:lnTo>
                    <a:cubicBezTo>
                      <a:pt x="73" y="4"/>
                      <a:pt x="72" y="3"/>
                      <a:pt x="72" y="2"/>
                    </a:cubicBezTo>
                    <a:cubicBezTo>
                      <a:pt x="72" y="1"/>
                      <a:pt x="73" y="0"/>
                      <a:pt x="74" y="0"/>
                    </a:cubicBezTo>
                    <a:close/>
                    <a:moveTo>
                      <a:pt x="82" y="0"/>
                    </a:moveTo>
                    <a:lnTo>
                      <a:pt x="82" y="0"/>
                    </a:lnTo>
                    <a:cubicBezTo>
                      <a:pt x="83" y="0"/>
                      <a:pt x="84" y="1"/>
                      <a:pt x="84" y="2"/>
                    </a:cubicBezTo>
                    <a:cubicBezTo>
                      <a:pt x="84" y="3"/>
                      <a:pt x="83" y="4"/>
                      <a:pt x="82" y="4"/>
                    </a:cubicBezTo>
                    <a:lnTo>
                      <a:pt x="82" y="4"/>
                    </a:lnTo>
                    <a:cubicBezTo>
                      <a:pt x="81" y="4"/>
                      <a:pt x="80" y="3"/>
                      <a:pt x="80" y="2"/>
                    </a:cubicBezTo>
                    <a:cubicBezTo>
                      <a:pt x="80" y="1"/>
                      <a:pt x="81" y="0"/>
                      <a:pt x="82" y="0"/>
                    </a:cubicBezTo>
                    <a:close/>
                    <a:moveTo>
                      <a:pt x="90" y="0"/>
                    </a:moveTo>
                    <a:lnTo>
                      <a:pt x="90" y="0"/>
                    </a:lnTo>
                    <a:cubicBezTo>
                      <a:pt x="91" y="0"/>
                      <a:pt x="92" y="1"/>
                      <a:pt x="92" y="2"/>
                    </a:cubicBezTo>
                    <a:cubicBezTo>
                      <a:pt x="92" y="3"/>
                      <a:pt x="91" y="4"/>
                      <a:pt x="90" y="4"/>
                    </a:cubicBezTo>
                    <a:lnTo>
                      <a:pt x="90" y="4"/>
                    </a:lnTo>
                    <a:cubicBezTo>
                      <a:pt x="89" y="4"/>
                      <a:pt x="88" y="3"/>
                      <a:pt x="88" y="2"/>
                    </a:cubicBezTo>
                    <a:cubicBezTo>
                      <a:pt x="88" y="1"/>
                      <a:pt x="89" y="0"/>
                      <a:pt x="90" y="0"/>
                    </a:cubicBezTo>
                    <a:close/>
                    <a:moveTo>
                      <a:pt x="98" y="0"/>
                    </a:moveTo>
                    <a:lnTo>
                      <a:pt x="98" y="0"/>
                    </a:lnTo>
                    <a:cubicBezTo>
                      <a:pt x="99" y="0"/>
                      <a:pt x="100" y="1"/>
                      <a:pt x="100" y="2"/>
                    </a:cubicBezTo>
                    <a:cubicBezTo>
                      <a:pt x="100" y="3"/>
                      <a:pt x="99" y="4"/>
                      <a:pt x="98" y="4"/>
                    </a:cubicBezTo>
                    <a:lnTo>
                      <a:pt x="98" y="4"/>
                    </a:lnTo>
                    <a:cubicBezTo>
                      <a:pt x="97" y="4"/>
                      <a:pt x="96" y="3"/>
                      <a:pt x="96" y="2"/>
                    </a:cubicBezTo>
                    <a:cubicBezTo>
                      <a:pt x="96" y="1"/>
                      <a:pt x="97" y="0"/>
                      <a:pt x="98" y="0"/>
                    </a:cubicBezTo>
                    <a:close/>
                    <a:moveTo>
                      <a:pt x="106" y="0"/>
                    </a:moveTo>
                    <a:lnTo>
                      <a:pt x="106" y="0"/>
                    </a:lnTo>
                    <a:cubicBezTo>
                      <a:pt x="107" y="0"/>
                      <a:pt x="108" y="1"/>
                      <a:pt x="108" y="2"/>
                    </a:cubicBezTo>
                    <a:cubicBezTo>
                      <a:pt x="108" y="3"/>
                      <a:pt x="107" y="4"/>
                      <a:pt x="106" y="4"/>
                    </a:cubicBezTo>
                    <a:lnTo>
                      <a:pt x="106" y="4"/>
                    </a:lnTo>
                    <a:cubicBezTo>
                      <a:pt x="105" y="4"/>
                      <a:pt x="104" y="3"/>
                      <a:pt x="104" y="2"/>
                    </a:cubicBezTo>
                    <a:cubicBezTo>
                      <a:pt x="104" y="1"/>
                      <a:pt x="105" y="0"/>
                      <a:pt x="106" y="0"/>
                    </a:cubicBezTo>
                    <a:close/>
                    <a:moveTo>
                      <a:pt x="114" y="0"/>
                    </a:moveTo>
                    <a:lnTo>
                      <a:pt x="114" y="0"/>
                    </a:lnTo>
                    <a:cubicBezTo>
                      <a:pt x="115" y="0"/>
                      <a:pt x="116" y="1"/>
                      <a:pt x="116" y="2"/>
                    </a:cubicBezTo>
                    <a:cubicBezTo>
                      <a:pt x="116" y="3"/>
                      <a:pt x="115" y="4"/>
                      <a:pt x="114" y="4"/>
                    </a:cubicBezTo>
                    <a:lnTo>
                      <a:pt x="114" y="4"/>
                    </a:lnTo>
                    <a:cubicBezTo>
                      <a:pt x="113" y="4"/>
                      <a:pt x="112" y="3"/>
                      <a:pt x="112" y="2"/>
                    </a:cubicBezTo>
                    <a:cubicBezTo>
                      <a:pt x="112" y="1"/>
                      <a:pt x="113" y="0"/>
                      <a:pt x="114" y="0"/>
                    </a:cubicBezTo>
                    <a:close/>
                    <a:moveTo>
                      <a:pt x="122" y="0"/>
                    </a:moveTo>
                    <a:lnTo>
                      <a:pt x="122" y="0"/>
                    </a:lnTo>
                    <a:cubicBezTo>
                      <a:pt x="123" y="0"/>
                      <a:pt x="124" y="1"/>
                      <a:pt x="124" y="2"/>
                    </a:cubicBezTo>
                    <a:cubicBezTo>
                      <a:pt x="124" y="3"/>
                      <a:pt x="123" y="4"/>
                      <a:pt x="122" y="4"/>
                    </a:cubicBezTo>
                    <a:lnTo>
                      <a:pt x="122" y="4"/>
                    </a:lnTo>
                    <a:cubicBezTo>
                      <a:pt x="121" y="4"/>
                      <a:pt x="120" y="3"/>
                      <a:pt x="120" y="2"/>
                    </a:cubicBezTo>
                    <a:cubicBezTo>
                      <a:pt x="120" y="1"/>
                      <a:pt x="121" y="0"/>
                      <a:pt x="122" y="0"/>
                    </a:cubicBezTo>
                    <a:close/>
                    <a:moveTo>
                      <a:pt x="130" y="0"/>
                    </a:moveTo>
                    <a:lnTo>
                      <a:pt x="130" y="0"/>
                    </a:lnTo>
                    <a:cubicBezTo>
                      <a:pt x="131" y="0"/>
                      <a:pt x="132" y="1"/>
                      <a:pt x="132" y="2"/>
                    </a:cubicBezTo>
                    <a:cubicBezTo>
                      <a:pt x="132" y="3"/>
                      <a:pt x="131" y="4"/>
                      <a:pt x="130" y="4"/>
                    </a:cubicBezTo>
                    <a:lnTo>
                      <a:pt x="130" y="4"/>
                    </a:lnTo>
                    <a:cubicBezTo>
                      <a:pt x="129" y="4"/>
                      <a:pt x="128" y="3"/>
                      <a:pt x="128" y="2"/>
                    </a:cubicBezTo>
                    <a:cubicBezTo>
                      <a:pt x="128" y="1"/>
                      <a:pt x="129" y="0"/>
                      <a:pt x="130" y="0"/>
                    </a:cubicBezTo>
                    <a:close/>
                    <a:moveTo>
                      <a:pt x="138" y="0"/>
                    </a:moveTo>
                    <a:lnTo>
                      <a:pt x="138" y="0"/>
                    </a:lnTo>
                    <a:cubicBezTo>
                      <a:pt x="139" y="0"/>
                      <a:pt x="140" y="1"/>
                      <a:pt x="140" y="2"/>
                    </a:cubicBezTo>
                    <a:cubicBezTo>
                      <a:pt x="140" y="3"/>
                      <a:pt x="139" y="4"/>
                      <a:pt x="138" y="4"/>
                    </a:cubicBezTo>
                    <a:lnTo>
                      <a:pt x="138" y="4"/>
                    </a:lnTo>
                    <a:cubicBezTo>
                      <a:pt x="137" y="4"/>
                      <a:pt x="136" y="3"/>
                      <a:pt x="136" y="2"/>
                    </a:cubicBezTo>
                    <a:cubicBezTo>
                      <a:pt x="136" y="1"/>
                      <a:pt x="137" y="0"/>
                      <a:pt x="138" y="0"/>
                    </a:cubicBezTo>
                    <a:close/>
                    <a:moveTo>
                      <a:pt x="146" y="0"/>
                    </a:moveTo>
                    <a:lnTo>
                      <a:pt x="146" y="0"/>
                    </a:lnTo>
                    <a:cubicBezTo>
                      <a:pt x="147" y="0"/>
                      <a:pt x="148" y="1"/>
                      <a:pt x="148" y="2"/>
                    </a:cubicBezTo>
                    <a:cubicBezTo>
                      <a:pt x="148" y="3"/>
                      <a:pt x="147" y="4"/>
                      <a:pt x="146" y="4"/>
                    </a:cubicBezTo>
                    <a:lnTo>
                      <a:pt x="146" y="4"/>
                    </a:lnTo>
                    <a:cubicBezTo>
                      <a:pt x="145" y="4"/>
                      <a:pt x="144" y="3"/>
                      <a:pt x="144" y="2"/>
                    </a:cubicBezTo>
                    <a:cubicBezTo>
                      <a:pt x="144" y="1"/>
                      <a:pt x="145" y="0"/>
                      <a:pt x="146" y="0"/>
                    </a:cubicBezTo>
                    <a:close/>
                    <a:moveTo>
                      <a:pt x="154" y="0"/>
                    </a:moveTo>
                    <a:lnTo>
                      <a:pt x="154" y="0"/>
                    </a:lnTo>
                    <a:cubicBezTo>
                      <a:pt x="155" y="0"/>
                      <a:pt x="156" y="1"/>
                      <a:pt x="156" y="2"/>
                    </a:cubicBezTo>
                    <a:cubicBezTo>
                      <a:pt x="156" y="3"/>
                      <a:pt x="155" y="4"/>
                      <a:pt x="154" y="4"/>
                    </a:cubicBezTo>
                    <a:lnTo>
                      <a:pt x="154" y="4"/>
                    </a:lnTo>
                    <a:cubicBezTo>
                      <a:pt x="153" y="4"/>
                      <a:pt x="152" y="3"/>
                      <a:pt x="152" y="2"/>
                    </a:cubicBezTo>
                    <a:cubicBezTo>
                      <a:pt x="152" y="1"/>
                      <a:pt x="153" y="0"/>
                      <a:pt x="154" y="0"/>
                    </a:cubicBezTo>
                    <a:close/>
                    <a:moveTo>
                      <a:pt x="162" y="0"/>
                    </a:moveTo>
                    <a:lnTo>
                      <a:pt x="162" y="0"/>
                    </a:lnTo>
                    <a:cubicBezTo>
                      <a:pt x="163" y="0"/>
                      <a:pt x="164" y="1"/>
                      <a:pt x="164" y="2"/>
                    </a:cubicBezTo>
                    <a:cubicBezTo>
                      <a:pt x="164" y="3"/>
                      <a:pt x="163" y="4"/>
                      <a:pt x="162" y="4"/>
                    </a:cubicBezTo>
                    <a:lnTo>
                      <a:pt x="162" y="4"/>
                    </a:lnTo>
                    <a:cubicBezTo>
                      <a:pt x="161" y="4"/>
                      <a:pt x="160" y="3"/>
                      <a:pt x="160" y="2"/>
                    </a:cubicBezTo>
                    <a:cubicBezTo>
                      <a:pt x="160" y="1"/>
                      <a:pt x="161" y="0"/>
                      <a:pt x="162" y="0"/>
                    </a:cubicBezTo>
                    <a:close/>
                    <a:moveTo>
                      <a:pt x="170" y="0"/>
                    </a:moveTo>
                    <a:lnTo>
                      <a:pt x="170" y="0"/>
                    </a:lnTo>
                    <a:cubicBezTo>
                      <a:pt x="171" y="0"/>
                      <a:pt x="172" y="1"/>
                      <a:pt x="172" y="2"/>
                    </a:cubicBezTo>
                    <a:cubicBezTo>
                      <a:pt x="172" y="3"/>
                      <a:pt x="171" y="4"/>
                      <a:pt x="170" y="4"/>
                    </a:cubicBezTo>
                    <a:lnTo>
                      <a:pt x="170" y="4"/>
                    </a:lnTo>
                    <a:cubicBezTo>
                      <a:pt x="169" y="4"/>
                      <a:pt x="168" y="3"/>
                      <a:pt x="168" y="2"/>
                    </a:cubicBezTo>
                    <a:cubicBezTo>
                      <a:pt x="168" y="1"/>
                      <a:pt x="169" y="0"/>
                      <a:pt x="170" y="0"/>
                    </a:cubicBezTo>
                    <a:close/>
                    <a:moveTo>
                      <a:pt x="178" y="0"/>
                    </a:moveTo>
                    <a:lnTo>
                      <a:pt x="178" y="0"/>
                    </a:lnTo>
                    <a:cubicBezTo>
                      <a:pt x="179" y="0"/>
                      <a:pt x="180" y="1"/>
                      <a:pt x="180" y="2"/>
                    </a:cubicBezTo>
                    <a:cubicBezTo>
                      <a:pt x="180" y="3"/>
                      <a:pt x="179" y="4"/>
                      <a:pt x="178" y="4"/>
                    </a:cubicBezTo>
                    <a:lnTo>
                      <a:pt x="178" y="4"/>
                    </a:lnTo>
                    <a:cubicBezTo>
                      <a:pt x="177" y="4"/>
                      <a:pt x="176" y="3"/>
                      <a:pt x="176" y="2"/>
                    </a:cubicBezTo>
                    <a:cubicBezTo>
                      <a:pt x="176" y="1"/>
                      <a:pt x="177" y="0"/>
                      <a:pt x="178" y="0"/>
                    </a:cubicBezTo>
                    <a:close/>
                    <a:moveTo>
                      <a:pt x="186" y="0"/>
                    </a:moveTo>
                    <a:lnTo>
                      <a:pt x="186" y="0"/>
                    </a:lnTo>
                    <a:cubicBezTo>
                      <a:pt x="187" y="0"/>
                      <a:pt x="188" y="1"/>
                      <a:pt x="188" y="2"/>
                    </a:cubicBezTo>
                    <a:cubicBezTo>
                      <a:pt x="188" y="3"/>
                      <a:pt x="187" y="4"/>
                      <a:pt x="186" y="4"/>
                    </a:cubicBezTo>
                    <a:lnTo>
                      <a:pt x="186" y="4"/>
                    </a:lnTo>
                    <a:cubicBezTo>
                      <a:pt x="185" y="4"/>
                      <a:pt x="184" y="3"/>
                      <a:pt x="184" y="2"/>
                    </a:cubicBezTo>
                    <a:cubicBezTo>
                      <a:pt x="184" y="1"/>
                      <a:pt x="185" y="0"/>
                      <a:pt x="186" y="0"/>
                    </a:cubicBezTo>
                    <a:close/>
                    <a:moveTo>
                      <a:pt x="194" y="0"/>
                    </a:moveTo>
                    <a:lnTo>
                      <a:pt x="194" y="0"/>
                    </a:lnTo>
                    <a:cubicBezTo>
                      <a:pt x="195" y="0"/>
                      <a:pt x="196" y="1"/>
                      <a:pt x="196" y="2"/>
                    </a:cubicBezTo>
                    <a:cubicBezTo>
                      <a:pt x="196" y="3"/>
                      <a:pt x="195" y="4"/>
                      <a:pt x="194" y="4"/>
                    </a:cubicBezTo>
                    <a:lnTo>
                      <a:pt x="194" y="4"/>
                    </a:lnTo>
                    <a:cubicBezTo>
                      <a:pt x="193" y="4"/>
                      <a:pt x="192" y="3"/>
                      <a:pt x="192" y="2"/>
                    </a:cubicBezTo>
                    <a:cubicBezTo>
                      <a:pt x="192" y="1"/>
                      <a:pt x="193" y="0"/>
                      <a:pt x="194" y="0"/>
                    </a:cubicBezTo>
                    <a:close/>
                    <a:moveTo>
                      <a:pt x="202" y="0"/>
                    </a:moveTo>
                    <a:lnTo>
                      <a:pt x="202" y="0"/>
                    </a:lnTo>
                    <a:cubicBezTo>
                      <a:pt x="203" y="0"/>
                      <a:pt x="204" y="1"/>
                      <a:pt x="204" y="2"/>
                    </a:cubicBezTo>
                    <a:cubicBezTo>
                      <a:pt x="204" y="3"/>
                      <a:pt x="203" y="4"/>
                      <a:pt x="202" y="4"/>
                    </a:cubicBezTo>
                    <a:lnTo>
                      <a:pt x="202" y="4"/>
                    </a:lnTo>
                    <a:cubicBezTo>
                      <a:pt x="201" y="4"/>
                      <a:pt x="200" y="3"/>
                      <a:pt x="200" y="2"/>
                    </a:cubicBezTo>
                    <a:cubicBezTo>
                      <a:pt x="200" y="1"/>
                      <a:pt x="201" y="0"/>
                      <a:pt x="202" y="0"/>
                    </a:cubicBezTo>
                    <a:close/>
                    <a:moveTo>
                      <a:pt x="210" y="0"/>
                    </a:moveTo>
                    <a:lnTo>
                      <a:pt x="210" y="0"/>
                    </a:lnTo>
                    <a:cubicBezTo>
                      <a:pt x="211" y="0"/>
                      <a:pt x="212" y="1"/>
                      <a:pt x="212" y="2"/>
                    </a:cubicBezTo>
                    <a:cubicBezTo>
                      <a:pt x="212" y="3"/>
                      <a:pt x="211" y="4"/>
                      <a:pt x="210" y="4"/>
                    </a:cubicBezTo>
                    <a:lnTo>
                      <a:pt x="210" y="4"/>
                    </a:lnTo>
                    <a:cubicBezTo>
                      <a:pt x="209" y="4"/>
                      <a:pt x="208" y="3"/>
                      <a:pt x="208" y="2"/>
                    </a:cubicBezTo>
                    <a:cubicBezTo>
                      <a:pt x="208" y="1"/>
                      <a:pt x="209" y="0"/>
                      <a:pt x="210" y="0"/>
                    </a:cubicBezTo>
                    <a:close/>
                    <a:moveTo>
                      <a:pt x="218" y="0"/>
                    </a:moveTo>
                    <a:lnTo>
                      <a:pt x="218" y="0"/>
                    </a:lnTo>
                    <a:cubicBezTo>
                      <a:pt x="219" y="0"/>
                      <a:pt x="220" y="1"/>
                      <a:pt x="220" y="2"/>
                    </a:cubicBezTo>
                    <a:cubicBezTo>
                      <a:pt x="220" y="3"/>
                      <a:pt x="219" y="4"/>
                      <a:pt x="218" y="4"/>
                    </a:cubicBezTo>
                    <a:lnTo>
                      <a:pt x="218" y="4"/>
                    </a:lnTo>
                    <a:cubicBezTo>
                      <a:pt x="217" y="4"/>
                      <a:pt x="216" y="3"/>
                      <a:pt x="216" y="2"/>
                    </a:cubicBezTo>
                    <a:cubicBezTo>
                      <a:pt x="216" y="1"/>
                      <a:pt x="217" y="0"/>
                      <a:pt x="218" y="0"/>
                    </a:cubicBezTo>
                    <a:close/>
                    <a:moveTo>
                      <a:pt x="226" y="0"/>
                    </a:moveTo>
                    <a:lnTo>
                      <a:pt x="226" y="0"/>
                    </a:lnTo>
                    <a:cubicBezTo>
                      <a:pt x="227" y="0"/>
                      <a:pt x="228" y="1"/>
                      <a:pt x="228" y="2"/>
                    </a:cubicBezTo>
                    <a:cubicBezTo>
                      <a:pt x="228" y="3"/>
                      <a:pt x="227" y="4"/>
                      <a:pt x="226" y="4"/>
                    </a:cubicBezTo>
                    <a:lnTo>
                      <a:pt x="226" y="4"/>
                    </a:lnTo>
                    <a:cubicBezTo>
                      <a:pt x="225" y="4"/>
                      <a:pt x="224" y="3"/>
                      <a:pt x="224" y="2"/>
                    </a:cubicBezTo>
                    <a:cubicBezTo>
                      <a:pt x="224" y="1"/>
                      <a:pt x="225" y="0"/>
                      <a:pt x="226" y="0"/>
                    </a:cubicBezTo>
                    <a:close/>
                    <a:moveTo>
                      <a:pt x="234" y="0"/>
                    </a:moveTo>
                    <a:lnTo>
                      <a:pt x="234" y="0"/>
                    </a:lnTo>
                    <a:cubicBezTo>
                      <a:pt x="235" y="0"/>
                      <a:pt x="236" y="1"/>
                      <a:pt x="236" y="2"/>
                    </a:cubicBezTo>
                    <a:cubicBezTo>
                      <a:pt x="236" y="3"/>
                      <a:pt x="235" y="4"/>
                      <a:pt x="234" y="4"/>
                    </a:cubicBezTo>
                    <a:lnTo>
                      <a:pt x="234" y="4"/>
                    </a:lnTo>
                    <a:cubicBezTo>
                      <a:pt x="233" y="4"/>
                      <a:pt x="232" y="3"/>
                      <a:pt x="232" y="2"/>
                    </a:cubicBezTo>
                    <a:cubicBezTo>
                      <a:pt x="232" y="1"/>
                      <a:pt x="233" y="0"/>
                      <a:pt x="234" y="0"/>
                    </a:cubicBezTo>
                    <a:close/>
                    <a:moveTo>
                      <a:pt x="242" y="0"/>
                    </a:moveTo>
                    <a:lnTo>
                      <a:pt x="242" y="0"/>
                    </a:lnTo>
                    <a:cubicBezTo>
                      <a:pt x="243" y="0"/>
                      <a:pt x="244" y="1"/>
                      <a:pt x="244" y="2"/>
                    </a:cubicBezTo>
                    <a:cubicBezTo>
                      <a:pt x="244" y="3"/>
                      <a:pt x="243" y="4"/>
                      <a:pt x="242" y="4"/>
                    </a:cubicBezTo>
                    <a:lnTo>
                      <a:pt x="242" y="4"/>
                    </a:lnTo>
                    <a:cubicBezTo>
                      <a:pt x="241" y="4"/>
                      <a:pt x="240" y="3"/>
                      <a:pt x="240" y="2"/>
                    </a:cubicBezTo>
                    <a:cubicBezTo>
                      <a:pt x="240" y="1"/>
                      <a:pt x="241" y="0"/>
                      <a:pt x="242" y="0"/>
                    </a:cubicBezTo>
                    <a:close/>
                    <a:moveTo>
                      <a:pt x="250" y="0"/>
                    </a:moveTo>
                    <a:lnTo>
                      <a:pt x="250" y="0"/>
                    </a:lnTo>
                    <a:cubicBezTo>
                      <a:pt x="251" y="0"/>
                      <a:pt x="252" y="1"/>
                      <a:pt x="252" y="2"/>
                    </a:cubicBezTo>
                    <a:cubicBezTo>
                      <a:pt x="252" y="3"/>
                      <a:pt x="251" y="4"/>
                      <a:pt x="250" y="4"/>
                    </a:cubicBezTo>
                    <a:lnTo>
                      <a:pt x="250" y="4"/>
                    </a:lnTo>
                    <a:cubicBezTo>
                      <a:pt x="249" y="4"/>
                      <a:pt x="248" y="3"/>
                      <a:pt x="248" y="2"/>
                    </a:cubicBezTo>
                    <a:cubicBezTo>
                      <a:pt x="248" y="1"/>
                      <a:pt x="249" y="0"/>
                      <a:pt x="250" y="0"/>
                    </a:cubicBezTo>
                    <a:close/>
                    <a:moveTo>
                      <a:pt x="258" y="0"/>
                    </a:moveTo>
                    <a:lnTo>
                      <a:pt x="258" y="0"/>
                    </a:lnTo>
                    <a:cubicBezTo>
                      <a:pt x="259" y="0"/>
                      <a:pt x="260" y="1"/>
                      <a:pt x="260" y="2"/>
                    </a:cubicBezTo>
                    <a:cubicBezTo>
                      <a:pt x="260" y="3"/>
                      <a:pt x="259" y="4"/>
                      <a:pt x="258" y="4"/>
                    </a:cubicBezTo>
                    <a:lnTo>
                      <a:pt x="258" y="4"/>
                    </a:lnTo>
                    <a:cubicBezTo>
                      <a:pt x="257" y="4"/>
                      <a:pt x="256" y="3"/>
                      <a:pt x="256" y="2"/>
                    </a:cubicBezTo>
                    <a:cubicBezTo>
                      <a:pt x="256" y="1"/>
                      <a:pt x="257" y="0"/>
                      <a:pt x="258" y="0"/>
                    </a:cubicBezTo>
                    <a:close/>
                    <a:moveTo>
                      <a:pt x="266" y="0"/>
                    </a:moveTo>
                    <a:lnTo>
                      <a:pt x="266" y="0"/>
                    </a:lnTo>
                    <a:cubicBezTo>
                      <a:pt x="267" y="0"/>
                      <a:pt x="268" y="1"/>
                      <a:pt x="268" y="2"/>
                    </a:cubicBezTo>
                    <a:cubicBezTo>
                      <a:pt x="268" y="3"/>
                      <a:pt x="267" y="4"/>
                      <a:pt x="266" y="4"/>
                    </a:cubicBezTo>
                    <a:lnTo>
                      <a:pt x="266" y="4"/>
                    </a:lnTo>
                    <a:cubicBezTo>
                      <a:pt x="265" y="4"/>
                      <a:pt x="264" y="3"/>
                      <a:pt x="264" y="2"/>
                    </a:cubicBezTo>
                    <a:cubicBezTo>
                      <a:pt x="264" y="1"/>
                      <a:pt x="265" y="0"/>
                      <a:pt x="266" y="0"/>
                    </a:cubicBezTo>
                    <a:close/>
                    <a:moveTo>
                      <a:pt x="274" y="0"/>
                    </a:moveTo>
                    <a:lnTo>
                      <a:pt x="274" y="0"/>
                    </a:lnTo>
                    <a:cubicBezTo>
                      <a:pt x="275" y="0"/>
                      <a:pt x="276" y="1"/>
                      <a:pt x="276" y="2"/>
                    </a:cubicBezTo>
                    <a:cubicBezTo>
                      <a:pt x="276" y="3"/>
                      <a:pt x="275" y="4"/>
                      <a:pt x="274" y="4"/>
                    </a:cubicBezTo>
                    <a:lnTo>
                      <a:pt x="274" y="4"/>
                    </a:lnTo>
                    <a:cubicBezTo>
                      <a:pt x="273" y="4"/>
                      <a:pt x="272" y="3"/>
                      <a:pt x="272" y="2"/>
                    </a:cubicBezTo>
                    <a:cubicBezTo>
                      <a:pt x="272" y="1"/>
                      <a:pt x="273" y="0"/>
                      <a:pt x="274" y="0"/>
                    </a:cubicBezTo>
                    <a:close/>
                    <a:moveTo>
                      <a:pt x="282" y="0"/>
                    </a:moveTo>
                    <a:lnTo>
                      <a:pt x="282" y="0"/>
                    </a:lnTo>
                    <a:cubicBezTo>
                      <a:pt x="283" y="0"/>
                      <a:pt x="284" y="1"/>
                      <a:pt x="284" y="2"/>
                    </a:cubicBezTo>
                    <a:cubicBezTo>
                      <a:pt x="284" y="3"/>
                      <a:pt x="283" y="4"/>
                      <a:pt x="282" y="4"/>
                    </a:cubicBezTo>
                    <a:lnTo>
                      <a:pt x="282" y="4"/>
                    </a:lnTo>
                    <a:cubicBezTo>
                      <a:pt x="281" y="4"/>
                      <a:pt x="280" y="3"/>
                      <a:pt x="280" y="2"/>
                    </a:cubicBezTo>
                    <a:cubicBezTo>
                      <a:pt x="280" y="1"/>
                      <a:pt x="281" y="0"/>
                      <a:pt x="282" y="0"/>
                    </a:cubicBezTo>
                    <a:close/>
                    <a:moveTo>
                      <a:pt x="290" y="0"/>
                    </a:moveTo>
                    <a:lnTo>
                      <a:pt x="290" y="0"/>
                    </a:lnTo>
                    <a:cubicBezTo>
                      <a:pt x="291" y="0"/>
                      <a:pt x="292" y="1"/>
                      <a:pt x="292" y="2"/>
                    </a:cubicBezTo>
                    <a:cubicBezTo>
                      <a:pt x="292" y="3"/>
                      <a:pt x="291" y="4"/>
                      <a:pt x="290" y="4"/>
                    </a:cubicBezTo>
                    <a:lnTo>
                      <a:pt x="290" y="4"/>
                    </a:lnTo>
                    <a:cubicBezTo>
                      <a:pt x="289" y="4"/>
                      <a:pt x="288" y="3"/>
                      <a:pt x="288" y="2"/>
                    </a:cubicBezTo>
                    <a:cubicBezTo>
                      <a:pt x="288" y="1"/>
                      <a:pt x="289" y="0"/>
                      <a:pt x="290" y="0"/>
                    </a:cubicBezTo>
                    <a:close/>
                    <a:moveTo>
                      <a:pt x="298" y="0"/>
                    </a:moveTo>
                    <a:lnTo>
                      <a:pt x="298" y="0"/>
                    </a:lnTo>
                    <a:cubicBezTo>
                      <a:pt x="299" y="0"/>
                      <a:pt x="300" y="1"/>
                      <a:pt x="300" y="2"/>
                    </a:cubicBezTo>
                    <a:cubicBezTo>
                      <a:pt x="300" y="3"/>
                      <a:pt x="299" y="4"/>
                      <a:pt x="298" y="4"/>
                    </a:cubicBezTo>
                    <a:lnTo>
                      <a:pt x="298" y="4"/>
                    </a:lnTo>
                    <a:cubicBezTo>
                      <a:pt x="297" y="4"/>
                      <a:pt x="296" y="3"/>
                      <a:pt x="296" y="2"/>
                    </a:cubicBezTo>
                    <a:cubicBezTo>
                      <a:pt x="296" y="1"/>
                      <a:pt x="297" y="0"/>
                      <a:pt x="298" y="0"/>
                    </a:cubicBezTo>
                    <a:close/>
                    <a:moveTo>
                      <a:pt x="306" y="0"/>
                    </a:moveTo>
                    <a:lnTo>
                      <a:pt x="306" y="0"/>
                    </a:lnTo>
                    <a:cubicBezTo>
                      <a:pt x="307" y="0"/>
                      <a:pt x="308" y="1"/>
                      <a:pt x="308" y="2"/>
                    </a:cubicBezTo>
                    <a:cubicBezTo>
                      <a:pt x="308" y="3"/>
                      <a:pt x="307" y="4"/>
                      <a:pt x="306" y="4"/>
                    </a:cubicBezTo>
                    <a:lnTo>
                      <a:pt x="306" y="4"/>
                    </a:lnTo>
                    <a:cubicBezTo>
                      <a:pt x="305" y="4"/>
                      <a:pt x="304" y="3"/>
                      <a:pt x="304" y="2"/>
                    </a:cubicBezTo>
                    <a:cubicBezTo>
                      <a:pt x="304" y="1"/>
                      <a:pt x="305" y="0"/>
                      <a:pt x="306" y="0"/>
                    </a:cubicBezTo>
                    <a:close/>
                    <a:moveTo>
                      <a:pt x="314" y="0"/>
                    </a:moveTo>
                    <a:lnTo>
                      <a:pt x="314" y="0"/>
                    </a:lnTo>
                    <a:cubicBezTo>
                      <a:pt x="315" y="0"/>
                      <a:pt x="316" y="1"/>
                      <a:pt x="316" y="2"/>
                    </a:cubicBezTo>
                    <a:cubicBezTo>
                      <a:pt x="316" y="3"/>
                      <a:pt x="315" y="4"/>
                      <a:pt x="314" y="4"/>
                    </a:cubicBezTo>
                    <a:lnTo>
                      <a:pt x="314" y="4"/>
                    </a:lnTo>
                    <a:cubicBezTo>
                      <a:pt x="313" y="4"/>
                      <a:pt x="312" y="3"/>
                      <a:pt x="312" y="2"/>
                    </a:cubicBezTo>
                    <a:cubicBezTo>
                      <a:pt x="312" y="1"/>
                      <a:pt x="313" y="0"/>
                      <a:pt x="314" y="0"/>
                    </a:cubicBezTo>
                    <a:close/>
                    <a:moveTo>
                      <a:pt x="322" y="0"/>
                    </a:moveTo>
                    <a:lnTo>
                      <a:pt x="322" y="0"/>
                    </a:lnTo>
                    <a:cubicBezTo>
                      <a:pt x="323" y="0"/>
                      <a:pt x="324" y="1"/>
                      <a:pt x="324" y="2"/>
                    </a:cubicBezTo>
                    <a:cubicBezTo>
                      <a:pt x="324" y="3"/>
                      <a:pt x="323" y="4"/>
                      <a:pt x="322" y="4"/>
                    </a:cubicBezTo>
                    <a:lnTo>
                      <a:pt x="322" y="4"/>
                    </a:lnTo>
                    <a:cubicBezTo>
                      <a:pt x="321" y="4"/>
                      <a:pt x="320" y="3"/>
                      <a:pt x="320" y="2"/>
                    </a:cubicBezTo>
                    <a:cubicBezTo>
                      <a:pt x="320" y="1"/>
                      <a:pt x="321" y="0"/>
                      <a:pt x="322" y="0"/>
                    </a:cubicBezTo>
                    <a:close/>
                    <a:moveTo>
                      <a:pt x="330" y="0"/>
                    </a:moveTo>
                    <a:lnTo>
                      <a:pt x="330" y="0"/>
                    </a:lnTo>
                    <a:cubicBezTo>
                      <a:pt x="331" y="0"/>
                      <a:pt x="332" y="1"/>
                      <a:pt x="332" y="2"/>
                    </a:cubicBezTo>
                    <a:cubicBezTo>
                      <a:pt x="332" y="3"/>
                      <a:pt x="331" y="4"/>
                      <a:pt x="330" y="4"/>
                    </a:cubicBezTo>
                    <a:lnTo>
                      <a:pt x="330" y="4"/>
                    </a:lnTo>
                    <a:cubicBezTo>
                      <a:pt x="329" y="4"/>
                      <a:pt x="328" y="3"/>
                      <a:pt x="328" y="2"/>
                    </a:cubicBezTo>
                    <a:cubicBezTo>
                      <a:pt x="328" y="1"/>
                      <a:pt x="329" y="0"/>
                      <a:pt x="330" y="0"/>
                    </a:cubicBezTo>
                    <a:close/>
                    <a:moveTo>
                      <a:pt x="338" y="0"/>
                    </a:moveTo>
                    <a:lnTo>
                      <a:pt x="338" y="0"/>
                    </a:lnTo>
                    <a:cubicBezTo>
                      <a:pt x="339" y="0"/>
                      <a:pt x="340" y="1"/>
                      <a:pt x="340" y="2"/>
                    </a:cubicBezTo>
                    <a:cubicBezTo>
                      <a:pt x="340" y="3"/>
                      <a:pt x="339" y="4"/>
                      <a:pt x="338" y="4"/>
                    </a:cubicBezTo>
                    <a:lnTo>
                      <a:pt x="338" y="4"/>
                    </a:lnTo>
                    <a:cubicBezTo>
                      <a:pt x="337" y="4"/>
                      <a:pt x="336" y="3"/>
                      <a:pt x="336" y="2"/>
                    </a:cubicBezTo>
                    <a:cubicBezTo>
                      <a:pt x="336" y="1"/>
                      <a:pt x="337" y="0"/>
                      <a:pt x="338" y="0"/>
                    </a:cubicBezTo>
                    <a:close/>
                    <a:moveTo>
                      <a:pt x="346" y="0"/>
                    </a:moveTo>
                    <a:lnTo>
                      <a:pt x="346" y="0"/>
                    </a:lnTo>
                    <a:cubicBezTo>
                      <a:pt x="347" y="0"/>
                      <a:pt x="348" y="1"/>
                      <a:pt x="348" y="2"/>
                    </a:cubicBezTo>
                    <a:cubicBezTo>
                      <a:pt x="348" y="3"/>
                      <a:pt x="347" y="4"/>
                      <a:pt x="346" y="4"/>
                    </a:cubicBezTo>
                    <a:lnTo>
                      <a:pt x="346" y="4"/>
                    </a:lnTo>
                    <a:cubicBezTo>
                      <a:pt x="345" y="4"/>
                      <a:pt x="344" y="3"/>
                      <a:pt x="344" y="2"/>
                    </a:cubicBezTo>
                    <a:cubicBezTo>
                      <a:pt x="344" y="1"/>
                      <a:pt x="345" y="0"/>
                      <a:pt x="346" y="0"/>
                    </a:cubicBezTo>
                    <a:close/>
                    <a:moveTo>
                      <a:pt x="354" y="0"/>
                    </a:moveTo>
                    <a:lnTo>
                      <a:pt x="354" y="0"/>
                    </a:lnTo>
                    <a:cubicBezTo>
                      <a:pt x="355" y="0"/>
                      <a:pt x="356" y="1"/>
                      <a:pt x="356" y="2"/>
                    </a:cubicBezTo>
                    <a:cubicBezTo>
                      <a:pt x="356" y="3"/>
                      <a:pt x="355" y="4"/>
                      <a:pt x="354" y="4"/>
                    </a:cubicBezTo>
                    <a:lnTo>
                      <a:pt x="354" y="4"/>
                    </a:lnTo>
                    <a:cubicBezTo>
                      <a:pt x="353" y="4"/>
                      <a:pt x="352" y="3"/>
                      <a:pt x="352" y="2"/>
                    </a:cubicBezTo>
                    <a:cubicBezTo>
                      <a:pt x="352" y="1"/>
                      <a:pt x="353" y="0"/>
                      <a:pt x="354" y="0"/>
                    </a:cubicBezTo>
                    <a:close/>
                    <a:moveTo>
                      <a:pt x="362" y="0"/>
                    </a:moveTo>
                    <a:lnTo>
                      <a:pt x="362" y="0"/>
                    </a:lnTo>
                    <a:cubicBezTo>
                      <a:pt x="363" y="0"/>
                      <a:pt x="364" y="1"/>
                      <a:pt x="364" y="2"/>
                    </a:cubicBezTo>
                    <a:cubicBezTo>
                      <a:pt x="364" y="3"/>
                      <a:pt x="363" y="4"/>
                      <a:pt x="362" y="4"/>
                    </a:cubicBezTo>
                    <a:lnTo>
                      <a:pt x="362" y="4"/>
                    </a:lnTo>
                    <a:cubicBezTo>
                      <a:pt x="361" y="4"/>
                      <a:pt x="360" y="3"/>
                      <a:pt x="360" y="2"/>
                    </a:cubicBezTo>
                    <a:cubicBezTo>
                      <a:pt x="360" y="1"/>
                      <a:pt x="361" y="0"/>
                      <a:pt x="362" y="0"/>
                    </a:cubicBezTo>
                    <a:close/>
                    <a:moveTo>
                      <a:pt x="370" y="0"/>
                    </a:moveTo>
                    <a:lnTo>
                      <a:pt x="370" y="0"/>
                    </a:lnTo>
                    <a:cubicBezTo>
                      <a:pt x="371" y="0"/>
                      <a:pt x="372" y="1"/>
                      <a:pt x="372" y="2"/>
                    </a:cubicBezTo>
                    <a:cubicBezTo>
                      <a:pt x="372" y="3"/>
                      <a:pt x="371" y="4"/>
                      <a:pt x="370" y="4"/>
                    </a:cubicBezTo>
                    <a:lnTo>
                      <a:pt x="370" y="4"/>
                    </a:lnTo>
                    <a:cubicBezTo>
                      <a:pt x="369" y="4"/>
                      <a:pt x="368" y="3"/>
                      <a:pt x="368" y="2"/>
                    </a:cubicBezTo>
                    <a:cubicBezTo>
                      <a:pt x="368" y="1"/>
                      <a:pt x="369" y="0"/>
                      <a:pt x="370" y="0"/>
                    </a:cubicBezTo>
                    <a:close/>
                    <a:moveTo>
                      <a:pt x="378" y="0"/>
                    </a:moveTo>
                    <a:lnTo>
                      <a:pt x="378" y="0"/>
                    </a:lnTo>
                    <a:cubicBezTo>
                      <a:pt x="379" y="0"/>
                      <a:pt x="380" y="1"/>
                      <a:pt x="380" y="2"/>
                    </a:cubicBezTo>
                    <a:cubicBezTo>
                      <a:pt x="380" y="3"/>
                      <a:pt x="379" y="4"/>
                      <a:pt x="378" y="4"/>
                    </a:cubicBezTo>
                    <a:lnTo>
                      <a:pt x="378" y="4"/>
                    </a:lnTo>
                    <a:cubicBezTo>
                      <a:pt x="377" y="4"/>
                      <a:pt x="376" y="3"/>
                      <a:pt x="376" y="2"/>
                    </a:cubicBezTo>
                    <a:cubicBezTo>
                      <a:pt x="376" y="1"/>
                      <a:pt x="377" y="0"/>
                      <a:pt x="378" y="0"/>
                    </a:cubicBezTo>
                    <a:close/>
                    <a:moveTo>
                      <a:pt x="386" y="0"/>
                    </a:moveTo>
                    <a:lnTo>
                      <a:pt x="386" y="0"/>
                    </a:lnTo>
                    <a:cubicBezTo>
                      <a:pt x="387" y="0"/>
                      <a:pt x="388" y="1"/>
                      <a:pt x="388" y="2"/>
                    </a:cubicBezTo>
                    <a:cubicBezTo>
                      <a:pt x="388" y="3"/>
                      <a:pt x="387" y="4"/>
                      <a:pt x="386" y="4"/>
                    </a:cubicBezTo>
                    <a:lnTo>
                      <a:pt x="386" y="4"/>
                    </a:lnTo>
                    <a:cubicBezTo>
                      <a:pt x="385" y="4"/>
                      <a:pt x="384" y="3"/>
                      <a:pt x="384" y="2"/>
                    </a:cubicBezTo>
                    <a:cubicBezTo>
                      <a:pt x="384" y="1"/>
                      <a:pt x="385" y="0"/>
                      <a:pt x="386" y="0"/>
                    </a:cubicBezTo>
                    <a:close/>
                    <a:moveTo>
                      <a:pt x="394" y="0"/>
                    </a:moveTo>
                    <a:lnTo>
                      <a:pt x="394" y="0"/>
                    </a:lnTo>
                    <a:cubicBezTo>
                      <a:pt x="395" y="0"/>
                      <a:pt x="396" y="1"/>
                      <a:pt x="396" y="2"/>
                    </a:cubicBezTo>
                    <a:cubicBezTo>
                      <a:pt x="396" y="3"/>
                      <a:pt x="395" y="4"/>
                      <a:pt x="394" y="4"/>
                    </a:cubicBezTo>
                    <a:lnTo>
                      <a:pt x="394" y="4"/>
                    </a:lnTo>
                    <a:cubicBezTo>
                      <a:pt x="393" y="4"/>
                      <a:pt x="392" y="3"/>
                      <a:pt x="392" y="2"/>
                    </a:cubicBezTo>
                    <a:cubicBezTo>
                      <a:pt x="392" y="1"/>
                      <a:pt x="393" y="0"/>
                      <a:pt x="394" y="0"/>
                    </a:cubicBezTo>
                    <a:close/>
                    <a:moveTo>
                      <a:pt x="402" y="0"/>
                    </a:moveTo>
                    <a:lnTo>
                      <a:pt x="402" y="0"/>
                    </a:lnTo>
                    <a:cubicBezTo>
                      <a:pt x="403" y="0"/>
                      <a:pt x="404" y="1"/>
                      <a:pt x="404" y="2"/>
                    </a:cubicBezTo>
                    <a:cubicBezTo>
                      <a:pt x="404" y="3"/>
                      <a:pt x="403" y="4"/>
                      <a:pt x="402" y="4"/>
                    </a:cubicBezTo>
                    <a:lnTo>
                      <a:pt x="402" y="4"/>
                    </a:lnTo>
                    <a:cubicBezTo>
                      <a:pt x="401" y="4"/>
                      <a:pt x="400" y="3"/>
                      <a:pt x="400" y="2"/>
                    </a:cubicBezTo>
                    <a:cubicBezTo>
                      <a:pt x="400" y="1"/>
                      <a:pt x="401" y="0"/>
                      <a:pt x="402" y="0"/>
                    </a:cubicBezTo>
                    <a:close/>
                    <a:moveTo>
                      <a:pt x="410" y="0"/>
                    </a:moveTo>
                    <a:lnTo>
                      <a:pt x="410" y="0"/>
                    </a:lnTo>
                    <a:cubicBezTo>
                      <a:pt x="411" y="0"/>
                      <a:pt x="412" y="1"/>
                      <a:pt x="412" y="2"/>
                    </a:cubicBezTo>
                    <a:cubicBezTo>
                      <a:pt x="412" y="3"/>
                      <a:pt x="411" y="4"/>
                      <a:pt x="410" y="4"/>
                    </a:cubicBezTo>
                    <a:lnTo>
                      <a:pt x="410" y="4"/>
                    </a:lnTo>
                    <a:cubicBezTo>
                      <a:pt x="409" y="4"/>
                      <a:pt x="408" y="3"/>
                      <a:pt x="408" y="2"/>
                    </a:cubicBezTo>
                    <a:cubicBezTo>
                      <a:pt x="408" y="1"/>
                      <a:pt x="409" y="0"/>
                      <a:pt x="410" y="0"/>
                    </a:cubicBezTo>
                    <a:close/>
                    <a:moveTo>
                      <a:pt x="418" y="0"/>
                    </a:moveTo>
                    <a:lnTo>
                      <a:pt x="418" y="0"/>
                    </a:lnTo>
                    <a:cubicBezTo>
                      <a:pt x="419" y="0"/>
                      <a:pt x="420" y="1"/>
                      <a:pt x="420" y="2"/>
                    </a:cubicBezTo>
                    <a:cubicBezTo>
                      <a:pt x="420" y="3"/>
                      <a:pt x="419" y="4"/>
                      <a:pt x="418" y="4"/>
                    </a:cubicBezTo>
                    <a:lnTo>
                      <a:pt x="418" y="4"/>
                    </a:lnTo>
                    <a:cubicBezTo>
                      <a:pt x="417" y="4"/>
                      <a:pt x="416" y="3"/>
                      <a:pt x="416" y="2"/>
                    </a:cubicBezTo>
                    <a:cubicBezTo>
                      <a:pt x="416" y="1"/>
                      <a:pt x="417" y="0"/>
                      <a:pt x="418" y="0"/>
                    </a:cubicBezTo>
                    <a:close/>
                    <a:moveTo>
                      <a:pt x="426" y="0"/>
                    </a:moveTo>
                    <a:lnTo>
                      <a:pt x="426" y="0"/>
                    </a:lnTo>
                    <a:cubicBezTo>
                      <a:pt x="427" y="0"/>
                      <a:pt x="428" y="1"/>
                      <a:pt x="428" y="2"/>
                    </a:cubicBezTo>
                    <a:cubicBezTo>
                      <a:pt x="428" y="3"/>
                      <a:pt x="427" y="4"/>
                      <a:pt x="426" y="4"/>
                    </a:cubicBezTo>
                    <a:lnTo>
                      <a:pt x="426" y="4"/>
                    </a:lnTo>
                    <a:cubicBezTo>
                      <a:pt x="425" y="4"/>
                      <a:pt x="424" y="3"/>
                      <a:pt x="424" y="2"/>
                    </a:cubicBezTo>
                    <a:cubicBezTo>
                      <a:pt x="424" y="1"/>
                      <a:pt x="425" y="0"/>
                      <a:pt x="426" y="0"/>
                    </a:cubicBezTo>
                    <a:close/>
                    <a:moveTo>
                      <a:pt x="434" y="0"/>
                    </a:moveTo>
                    <a:lnTo>
                      <a:pt x="434" y="0"/>
                    </a:lnTo>
                    <a:cubicBezTo>
                      <a:pt x="435" y="0"/>
                      <a:pt x="436" y="1"/>
                      <a:pt x="436" y="2"/>
                    </a:cubicBezTo>
                    <a:cubicBezTo>
                      <a:pt x="436" y="3"/>
                      <a:pt x="435" y="4"/>
                      <a:pt x="434" y="4"/>
                    </a:cubicBezTo>
                    <a:lnTo>
                      <a:pt x="434" y="4"/>
                    </a:lnTo>
                    <a:cubicBezTo>
                      <a:pt x="433" y="4"/>
                      <a:pt x="432" y="3"/>
                      <a:pt x="432" y="2"/>
                    </a:cubicBezTo>
                    <a:cubicBezTo>
                      <a:pt x="432" y="1"/>
                      <a:pt x="433" y="0"/>
                      <a:pt x="434" y="0"/>
                    </a:cubicBezTo>
                    <a:close/>
                    <a:moveTo>
                      <a:pt x="442" y="0"/>
                    </a:moveTo>
                    <a:lnTo>
                      <a:pt x="442" y="0"/>
                    </a:lnTo>
                    <a:cubicBezTo>
                      <a:pt x="443" y="0"/>
                      <a:pt x="444" y="1"/>
                      <a:pt x="444" y="2"/>
                    </a:cubicBezTo>
                    <a:cubicBezTo>
                      <a:pt x="444" y="3"/>
                      <a:pt x="443" y="4"/>
                      <a:pt x="442" y="4"/>
                    </a:cubicBezTo>
                    <a:lnTo>
                      <a:pt x="442" y="4"/>
                    </a:lnTo>
                    <a:cubicBezTo>
                      <a:pt x="441" y="4"/>
                      <a:pt x="440" y="3"/>
                      <a:pt x="440" y="2"/>
                    </a:cubicBezTo>
                    <a:cubicBezTo>
                      <a:pt x="440" y="1"/>
                      <a:pt x="441" y="0"/>
                      <a:pt x="442" y="0"/>
                    </a:cubicBezTo>
                    <a:close/>
                    <a:moveTo>
                      <a:pt x="450" y="0"/>
                    </a:moveTo>
                    <a:lnTo>
                      <a:pt x="450" y="0"/>
                    </a:lnTo>
                    <a:cubicBezTo>
                      <a:pt x="451" y="0"/>
                      <a:pt x="452" y="1"/>
                      <a:pt x="452" y="2"/>
                    </a:cubicBezTo>
                    <a:cubicBezTo>
                      <a:pt x="452" y="3"/>
                      <a:pt x="451" y="4"/>
                      <a:pt x="450" y="4"/>
                    </a:cubicBezTo>
                    <a:lnTo>
                      <a:pt x="450" y="4"/>
                    </a:lnTo>
                    <a:cubicBezTo>
                      <a:pt x="449" y="4"/>
                      <a:pt x="448" y="3"/>
                      <a:pt x="448" y="2"/>
                    </a:cubicBezTo>
                    <a:cubicBezTo>
                      <a:pt x="448" y="1"/>
                      <a:pt x="449" y="0"/>
                      <a:pt x="450" y="0"/>
                    </a:cubicBezTo>
                    <a:close/>
                    <a:moveTo>
                      <a:pt x="458" y="0"/>
                    </a:moveTo>
                    <a:lnTo>
                      <a:pt x="458" y="0"/>
                    </a:lnTo>
                    <a:cubicBezTo>
                      <a:pt x="459" y="0"/>
                      <a:pt x="460" y="1"/>
                      <a:pt x="460" y="2"/>
                    </a:cubicBezTo>
                    <a:cubicBezTo>
                      <a:pt x="460" y="3"/>
                      <a:pt x="459" y="4"/>
                      <a:pt x="458" y="4"/>
                    </a:cubicBezTo>
                    <a:lnTo>
                      <a:pt x="458" y="4"/>
                    </a:lnTo>
                    <a:cubicBezTo>
                      <a:pt x="457" y="4"/>
                      <a:pt x="456" y="3"/>
                      <a:pt x="456" y="2"/>
                    </a:cubicBezTo>
                    <a:cubicBezTo>
                      <a:pt x="456" y="1"/>
                      <a:pt x="457" y="0"/>
                      <a:pt x="458" y="0"/>
                    </a:cubicBezTo>
                    <a:close/>
                    <a:moveTo>
                      <a:pt x="466" y="0"/>
                    </a:moveTo>
                    <a:lnTo>
                      <a:pt x="466" y="0"/>
                    </a:lnTo>
                    <a:cubicBezTo>
                      <a:pt x="467" y="0"/>
                      <a:pt x="468" y="1"/>
                      <a:pt x="468" y="2"/>
                    </a:cubicBezTo>
                    <a:cubicBezTo>
                      <a:pt x="468" y="3"/>
                      <a:pt x="467" y="4"/>
                      <a:pt x="466" y="4"/>
                    </a:cubicBezTo>
                    <a:lnTo>
                      <a:pt x="466" y="4"/>
                    </a:lnTo>
                    <a:cubicBezTo>
                      <a:pt x="465" y="4"/>
                      <a:pt x="464" y="3"/>
                      <a:pt x="464" y="2"/>
                    </a:cubicBezTo>
                    <a:cubicBezTo>
                      <a:pt x="464" y="1"/>
                      <a:pt x="465" y="0"/>
                      <a:pt x="466" y="0"/>
                    </a:cubicBezTo>
                    <a:close/>
                    <a:moveTo>
                      <a:pt x="474" y="0"/>
                    </a:moveTo>
                    <a:lnTo>
                      <a:pt x="474" y="0"/>
                    </a:lnTo>
                    <a:cubicBezTo>
                      <a:pt x="475" y="0"/>
                      <a:pt x="476" y="1"/>
                      <a:pt x="476" y="2"/>
                    </a:cubicBezTo>
                    <a:cubicBezTo>
                      <a:pt x="476" y="3"/>
                      <a:pt x="475" y="4"/>
                      <a:pt x="474" y="4"/>
                    </a:cubicBezTo>
                    <a:lnTo>
                      <a:pt x="474" y="4"/>
                    </a:lnTo>
                    <a:cubicBezTo>
                      <a:pt x="473" y="4"/>
                      <a:pt x="472" y="3"/>
                      <a:pt x="472" y="2"/>
                    </a:cubicBezTo>
                    <a:cubicBezTo>
                      <a:pt x="472" y="1"/>
                      <a:pt x="473" y="0"/>
                      <a:pt x="474" y="0"/>
                    </a:cubicBezTo>
                    <a:close/>
                    <a:moveTo>
                      <a:pt x="482" y="0"/>
                    </a:moveTo>
                    <a:lnTo>
                      <a:pt x="482" y="0"/>
                    </a:lnTo>
                    <a:cubicBezTo>
                      <a:pt x="483" y="0"/>
                      <a:pt x="484" y="1"/>
                      <a:pt x="484" y="2"/>
                    </a:cubicBezTo>
                    <a:cubicBezTo>
                      <a:pt x="484" y="3"/>
                      <a:pt x="483" y="4"/>
                      <a:pt x="482" y="4"/>
                    </a:cubicBezTo>
                    <a:lnTo>
                      <a:pt x="482" y="4"/>
                    </a:lnTo>
                    <a:cubicBezTo>
                      <a:pt x="481" y="4"/>
                      <a:pt x="480" y="3"/>
                      <a:pt x="480" y="2"/>
                    </a:cubicBezTo>
                    <a:cubicBezTo>
                      <a:pt x="480" y="1"/>
                      <a:pt x="481" y="0"/>
                      <a:pt x="482" y="0"/>
                    </a:cubicBezTo>
                    <a:close/>
                    <a:moveTo>
                      <a:pt x="490" y="0"/>
                    </a:moveTo>
                    <a:lnTo>
                      <a:pt x="490" y="0"/>
                    </a:lnTo>
                    <a:cubicBezTo>
                      <a:pt x="491" y="0"/>
                      <a:pt x="492" y="1"/>
                      <a:pt x="492" y="2"/>
                    </a:cubicBezTo>
                    <a:cubicBezTo>
                      <a:pt x="492" y="3"/>
                      <a:pt x="491" y="4"/>
                      <a:pt x="490" y="4"/>
                    </a:cubicBezTo>
                    <a:lnTo>
                      <a:pt x="490" y="4"/>
                    </a:lnTo>
                    <a:cubicBezTo>
                      <a:pt x="489" y="4"/>
                      <a:pt x="488" y="3"/>
                      <a:pt x="488" y="2"/>
                    </a:cubicBezTo>
                    <a:cubicBezTo>
                      <a:pt x="488" y="1"/>
                      <a:pt x="489" y="0"/>
                      <a:pt x="490" y="0"/>
                    </a:cubicBezTo>
                    <a:close/>
                    <a:moveTo>
                      <a:pt x="498" y="0"/>
                    </a:moveTo>
                    <a:lnTo>
                      <a:pt x="498" y="0"/>
                    </a:lnTo>
                    <a:cubicBezTo>
                      <a:pt x="499" y="0"/>
                      <a:pt x="500" y="1"/>
                      <a:pt x="500" y="2"/>
                    </a:cubicBezTo>
                    <a:cubicBezTo>
                      <a:pt x="500" y="3"/>
                      <a:pt x="499" y="4"/>
                      <a:pt x="498" y="4"/>
                    </a:cubicBezTo>
                    <a:lnTo>
                      <a:pt x="498" y="4"/>
                    </a:lnTo>
                    <a:cubicBezTo>
                      <a:pt x="497" y="4"/>
                      <a:pt x="496" y="3"/>
                      <a:pt x="496" y="2"/>
                    </a:cubicBezTo>
                    <a:cubicBezTo>
                      <a:pt x="496" y="1"/>
                      <a:pt x="497" y="0"/>
                      <a:pt x="498" y="0"/>
                    </a:cubicBezTo>
                    <a:close/>
                    <a:moveTo>
                      <a:pt x="506" y="0"/>
                    </a:moveTo>
                    <a:lnTo>
                      <a:pt x="506" y="0"/>
                    </a:lnTo>
                    <a:cubicBezTo>
                      <a:pt x="507" y="0"/>
                      <a:pt x="508" y="1"/>
                      <a:pt x="508" y="2"/>
                    </a:cubicBezTo>
                    <a:cubicBezTo>
                      <a:pt x="508" y="3"/>
                      <a:pt x="507" y="4"/>
                      <a:pt x="506" y="4"/>
                    </a:cubicBezTo>
                    <a:lnTo>
                      <a:pt x="506" y="4"/>
                    </a:lnTo>
                    <a:cubicBezTo>
                      <a:pt x="505" y="4"/>
                      <a:pt x="504" y="3"/>
                      <a:pt x="504" y="2"/>
                    </a:cubicBezTo>
                    <a:cubicBezTo>
                      <a:pt x="504" y="1"/>
                      <a:pt x="505" y="0"/>
                      <a:pt x="506" y="0"/>
                    </a:cubicBezTo>
                    <a:close/>
                    <a:moveTo>
                      <a:pt x="514" y="0"/>
                    </a:moveTo>
                    <a:lnTo>
                      <a:pt x="514" y="0"/>
                    </a:lnTo>
                    <a:cubicBezTo>
                      <a:pt x="515" y="0"/>
                      <a:pt x="516" y="1"/>
                      <a:pt x="516" y="2"/>
                    </a:cubicBezTo>
                    <a:cubicBezTo>
                      <a:pt x="516" y="3"/>
                      <a:pt x="515" y="4"/>
                      <a:pt x="514" y="4"/>
                    </a:cubicBezTo>
                    <a:lnTo>
                      <a:pt x="514" y="4"/>
                    </a:lnTo>
                    <a:cubicBezTo>
                      <a:pt x="513" y="4"/>
                      <a:pt x="512" y="3"/>
                      <a:pt x="512" y="2"/>
                    </a:cubicBezTo>
                    <a:cubicBezTo>
                      <a:pt x="512" y="1"/>
                      <a:pt x="513" y="0"/>
                      <a:pt x="514" y="0"/>
                    </a:cubicBezTo>
                    <a:close/>
                    <a:moveTo>
                      <a:pt x="522" y="0"/>
                    </a:moveTo>
                    <a:lnTo>
                      <a:pt x="522" y="0"/>
                    </a:lnTo>
                    <a:cubicBezTo>
                      <a:pt x="523" y="0"/>
                      <a:pt x="524" y="1"/>
                      <a:pt x="524" y="2"/>
                    </a:cubicBezTo>
                    <a:cubicBezTo>
                      <a:pt x="524" y="3"/>
                      <a:pt x="523" y="4"/>
                      <a:pt x="522" y="4"/>
                    </a:cubicBezTo>
                    <a:lnTo>
                      <a:pt x="522" y="4"/>
                    </a:lnTo>
                    <a:cubicBezTo>
                      <a:pt x="521" y="4"/>
                      <a:pt x="520" y="3"/>
                      <a:pt x="520" y="2"/>
                    </a:cubicBezTo>
                    <a:cubicBezTo>
                      <a:pt x="520" y="1"/>
                      <a:pt x="521" y="0"/>
                      <a:pt x="522" y="0"/>
                    </a:cubicBezTo>
                    <a:close/>
                    <a:moveTo>
                      <a:pt x="530" y="0"/>
                    </a:moveTo>
                    <a:lnTo>
                      <a:pt x="530" y="0"/>
                    </a:lnTo>
                    <a:cubicBezTo>
                      <a:pt x="531" y="0"/>
                      <a:pt x="532" y="1"/>
                      <a:pt x="532" y="2"/>
                    </a:cubicBezTo>
                    <a:cubicBezTo>
                      <a:pt x="532" y="3"/>
                      <a:pt x="531" y="4"/>
                      <a:pt x="530" y="4"/>
                    </a:cubicBezTo>
                    <a:lnTo>
                      <a:pt x="530" y="4"/>
                    </a:lnTo>
                    <a:cubicBezTo>
                      <a:pt x="529" y="4"/>
                      <a:pt x="528" y="3"/>
                      <a:pt x="528" y="2"/>
                    </a:cubicBezTo>
                    <a:cubicBezTo>
                      <a:pt x="528" y="1"/>
                      <a:pt x="529" y="0"/>
                      <a:pt x="530" y="0"/>
                    </a:cubicBezTo>
                    <a:close/>
                    <a:moveTo>
                      <a:pt x="538" y="0"/>
                    </a:moveTo>
                    <a:lnTo>
                      <a:pt x="538" y="0"/>
                    </a:lnTo>
                    <a:cubicBezTo>
                      <a:pt x="539" y="0"/>
                      <a:pt x="540" y="1"/>
                      <a:pt x="540" y="2"/>
                    </a:cubicBezTo>
                    <a:cubicBezTo>
                      <a:pt x="540" y="3"/>
                      <a:pt x="539" y="4"/>
                      <a:pt x="538" y="4"/>
                    </a:cubicBezTo>
                    <a:lnTo>
                      <a:pt x="538" y="4"/>
                    </a:lnTo>
                    <a:cubicBezTo>
                      <a:pt x="537" y="4"/>
                      <a:pt x="536" y="3"/>
                      <a:pt x="536" y="2"/>
                    </a:cubicBezTo>
                    <a:cubicBezTo>
                      <a:pt x="536" y="1"/>
                      <a:pt x="537" y="0"/>
                      <a:pt x="538" y="0"/>
                    </a:cubicBezTo>
                    <a:close/>
                    <a:moveTo>
                      <a:pt x="546" y="0"/>
                    </a:moveTo>
                    <a:lnTo>
                      <a:pt x="546" y="0"/>
                    </a:lnTo>
                    <a:cubicBezTo>
                      <a:pt x="547" y="0"/>
                      <a:pt x="548" y="1"/>
                      <a:pt x="548" y="2"/>
                    </a:cubicBezTo>
                    <a:cubicBezTo>
                      <a:pt x="548" y="3"/>
                      <a:pt x="547" y="4"/>
                      <a:pt x="546" y="4"/>
                    </a:cubicBezTo>
                    <a:lnTo>
                      <a:pt x="546" y="4"/>
                    </a:lnTo>
                    <a:cubicBezTo>
                      <a:pt x="545" y="4"/>
                      <a:pt x="544" y="3"/>
                      <a:pt x="544" y="2"/>
                    </a:cubicBezTo>
                    <a:cubicBezTo>
                      <a:pt x="544" y="1"/>
                      <a:pt x="545" y="0"/>
                      <a:pt x="546" y="0"/>
                    </a:cubicBezTo>
                    <a:close/>
                    <a:moveTo>
                      <a:pt x="554" y="0"/>
                    </a:moveTo>
                    <a:lnTo>
                      <a:pt x="554" y="0"/>
                    </a:lnTo>
                    <a:cubicBezTo>
                      <a:pt x="555" y="0"/>
                      <a:pt x="556" y="1"/>
                      <a:pt x="556" y="2"/>
                    </a:cubicBezTo>
                    <a:cubicBezTo>
                      <a:pt x="556" y="3"/>
                      <a:pt x="555" y="4"/>
                      <a:pt x="554" y="4"/>
                    </a:cubicBezTo>
                    <a:lnTo>
                      <a:pt x="554" y="4"/>
                    </a:lnTo>
                    <a:cubicBezTo>
                      <a:pt x="553" y="4"/>
                      <a:pt x="552" y="3"/>
                      <a:pt x="552" y="2"/>
                    </a:cubicBezTo>
                    <a:cubicBezTo>
                      <a:pt x="552" y="1"/>
                      <a:pt x="553" y="0"/>
                      <a:pt x="554" y="0"/>
                    </a:cubicBezTo>
                    <a:close/>
                    <a:moveTo>
                      <a:pt x="562" y="0"/>
                    </a:moveTo>
                    <a:lnTo>
                      <a:pt x="562" y="0"/>
                    </a:lnTo>
                    <a:cubicBezTo>
                      <a:pt x="563" y="0"/>
                      <a:pt x="564" y="1"/>
                      <a:pt x="564" y="2"/>
                    </a:cubicBezTo>
                    <a:cubicBezTo>
                      <a:pt x="564" y="3"/>
                      <a:pt x="563" y="4"/>
                      <a:pt x="562" y="4"/>
                    </a:cubicBezTo>
                    <a:lnTo>
                      <a:pt x="562" y="4"/>
                    </a:lnTo>
                    <a:cubicBezTo>
                      <a:pt x="561" y="4"/>
                      <a:pt x="560" y="3"/>
                      <a:pt x="560" y="2"/>
                    </a:cubicBezTo>
                    <a:cubicBezTo>
                      <a:pt x="560" y="1"/>
                      <a:pt x="561" y="0"/>
                      <a:pt x="562" y="0"/>
                    </a:cubicBezTo>
                    <a:close/>
                    <a:moveTo>
                      <a:pt x="570" y="0"/>
                    </a:moveTo>
                    <a:lnTo>
                      <a:pt x="570" y="0"/>
                    </a:lnTo>
                    <a:cubicBezTo>
                      <a:pt x="571" y="0"/>
                      <a:pt x="572" y="1"/>
                      <a:pt x="572" y="2"/>
                    </a:cubicBezTo>
                    <a:cubicBezTo>
                      <a:pt x="572" y="3"/>
                      <a:pt x="571" y="4"/>
                      <a:pt x="570" y="4"/>
                    </a:cubicBezTo>
                    <a:lnTo>
                      <a:pt x="570" y="4"/>
                    </a:lnTo>
                    <a:cubicBezTo>
                      <a:pt x="569" y="4"/>
                      <a:pt x="568" y="3"/>
                      <a:pt x="568" y="2"/>
                    </a:cubicBezTo>
                    <a:cubicBezTo>
                      <a:pt x="568" y="1"/>
                      <a:pt x="569" y="0"/>
                      <a:pt x="570" y="0"/>
                    </a:cubicBezTo>
                    <a:close/>
                    <a:moveTo>
                      <a:pt x="578" y="0"/>
                    </a:moveTo>
                    <a:lnTo>
                      <a:pt x="578" y="0"/>
                    </a:lnTo>
                    <a:cubicBezTo>
                      <a:pt x="579" y="0"/>
                      <a:pt x="580" y="1"/>
                      <a:pt x="580" y="2"/>
                    </a:cubicBezTo>
                    <a:cubicBezTo>
                      <a:pt x="580" y="3"/>
                      <a:pt x="579" y="4"/>
                      <a:pt x="578" y="4"/>
                    </a:cubicBezTo>
                    <a:lnTo>
                      <a:pt x="578" y="4"/>
                    </a:lnTo>
                    <a:cubicBezTo>
                      <a:pt x="577" y="4"/>
                      <a:pt x="576" y="3"/>
                      <a:pt x="576" y="2"/>
                    </a:cubicBezTo>
                    <a:cubicBezTo>
                      <a:pt x="576" y="1"/>
                      <a:pt x="577" y="0"/>
                      <a:pt x="578" y="0"/>
                    </a:cubicBezTo>
                    <a:close/>
                    <a:moveTo>
                      <a:pt x="586" y="0"/>
                    </a:moveTo>
                    <a:lnTo>
                      <a:pt x="586" y="0"/>
                    </a:lnTo>
                    <a:cubicBezTo>
                      <a:pt x="587" y="0"/>
                      <a:pt x="588" y="1"/>
                      <a:pt x="588" y="2"/>
                    </a:cubicBezTo>
                    <a:cubicBezTo>
                      <a:pt x="588" y="3"/>
                      <a:pt x="587" y="4"/>
                      <a:pt x="586" y="4"/>
                    </a:cubicBezTo>
                    <a:lnTo>
                      <a:pt x="586" y="4"/>
                    </a:lnTo>
                    <a:cubicBezTo>
                      <a:pt x="585" y="4"/>
                      <a:pt x="584" y="3"/>
                      <a:pt x="584" y="2"/>
                    </a:cubicBezTo>
                    <a:cubicBezTo>
                      <a:pt x="584" y="1"/>
                      <a:pt x="585" y="0"/>
                      <a:pt x="586" y="0"/>
                    </a:cubicBezTo>
                    <a:close/>
                    <a:moveTo>
                      <a:pt x="594" y="0"/>
                    </a:moveTo>
                    <a:lnTo>
                      <a:pt x="594" y="0"/>
                    </a:lnTo>
                    <a:cubicBezTo>
                      <a:pt x="595" y="0"/>
                      <a:pt x="596" y="1"/>
                      <a:pt x="596" y="2"/>
                    </a:cubicBezTo>
                    <a:cubicBezTo>
                      <a:pt x="596" y="3"/>
                      <a:pt x="595" y="4"/>
                      <a:pt x="594" y="4"/>
                    </a:cubicBezTo>
                    <a:lnTo>
                      <a:pt x="594" y="4"/>
                    </a:lnTo>
                    <a:cubicBezTo>
                      <a:pt x="593" y="4"/>
                      <a:pt x="592" y="3"/>
                      <a:pt x="592" y="2"/>
                    </a:cubicBezTo>
                    <a:cubicBezTo>
                      <a:pt x="592" y="1"/>
                      <a:pt x="593" y="0"/>
                      <a:pt x="594" y="0"/>
                    </a:cubicBezTo>
                    <a:close/>
                    <a:moveTo>
                      <a:pt x="602" y="0"/>
                    </a:moveTo>
                    <a:lnTo>
                      <a:pt x="602" y="0"/>
                    </a:lnTo>
                    <a:cubicBezTo>
                      <a:pt x="603" y="0"/>
                      <a:pt x="604" y="1"/>
                      <a:pt x="604" y="2"/>
                    </a:cubicBezTo>
                    <a:cubicBezTo>
                      <a:pt x="604" y="3"/>
                      <a:pt x="603" y="4"/>
                      <a:pt x="602" y="4"/>
                    </a:cubicBezTo>
                    <a:lnTo>
                      <a:pt x="602" y="4"/>
                    </a:lnTo>
                    <a:cubicBezTo>
                      <a:pt x="601" y="4"/>
                      <a:pt x="600" y="3"/>
                      <a:pt x="600" y="2"/>
                    </a:cubicBezTo>
                    <a:cubicBezTo>
                      <a:pt x="600" y="1"/>
                      <a:pt x="601" y="0"/>
                      <a:pt x="602" y="0"/>
                    </a:cubicBezTo>
                    <a:close/>
                    <a:moveTo>
                      <a:pt x="610" y="0"/>
                    </a:moveTo>
                    <a:lnTo>
                      <a:pt x="610" y="0"/>
                    </a:lnTo>
                    <a:cubicBezTo>
                      <a:pt x="611" y="0"/>
                      <a:pt x="612" y="1"/>
                      <a:pt x="612" y="2"/>
                    </a:cubicBezTo>
                    <a:cubicBezTo>
                      <a:pt x="612" y="3"/>
                      <a:pt x="611" y="4"/>
                      <a:pt x="610" y="4"/>
                    </a:cubicBezTo>
                    <a:lnTo>
                      <a:pt x="610" y="4"/>
                    </a:lnTo>
                    <a:cubicBezTo>
                      <a:pt x="609" y="4"/>
                      <a:pt x="608" y="3"/>
                      <a:pt x="608" y="2"/>
                    </a:cubicBezTo>
                    <a:cubicBezTo>
                      <a:pt x="608" y="1"/>
                      <a:pt x="609" y="0"/>
                      <a:pt x="610" y="0"/>
                    </a:cubicBezTo>
                    <a:close/>
                    <a:moveTo>
                      <a:pt x="618" y="0"/>
                    </a:moveTo>
                    <a:lnTo>
                      <a:pt x="618" y="0"/>
                    </a:lnTo>
                    <a:cubicBezTo>
                      <a:pt x="619" y="0"/>
                      <a:pt x="620" y="1"/>
                      <a:pt x="620" y="2"/>
                    </a:cubicBezTo>
                    <a:cubicBezTo>
                      <a:pt x="620" y="3"/>
                      <a:pt x="619" y="4"/>
                      <a:pt x="618" y="4"/>
                    </a:cubicBezTo>
                    <a:lnTo>
                      <a:pt x="618" y="4"/>
                    </a:lnTo>
                    <a:cubicBezTo>
                      <a:pt x="617" y="4"/>
                      <a:pt x="616" y="3"/>
                      <a:pt x="616" y="2"/>
                    </a:cubicBezTo>
                    <a:cubicBezTo>
                      <a:pt x="616" y="1"/>
                      <a:pt x="617" y="0"/>
                      <a:pt x="618" y="0"/>
                    </a:cubicBezTo>
                    <a:close/>
                    <a:moveTo>
                      <a:pt x="626" y="0"/>
                    </a:moveTo>
                    <a:lnTo>
                      <a:pt x="626" y="0"/>
                    </a:lnTo>
                    <a:cubicBezTo>
                      <a:pt x="627" y="0"/>
                      <a:pt x="628" y="1"/>
                      <a:pt x="628" y="2"/>
                    </a:cubicBezTo>
                    <a:cubicBezTo>
                      <a:pt x="628" y="3"/>
                      <a:pt x="627" y="4"/>
                      <a:pt x="626" y="4"/>
                    </a:cubicBezTo>
                    <a:lnTo>
                      <a:pt x="626" y="4"/>
                    </a:lnTo>
                    <a:cubicBezTo>
                      <a:pt x="625" y="4"/>
                      <a:pt x="624" y="3"/>
                      <a:pt x="624" y="2"/>
                    </a:cubicBezTo>
                    <a:cubicBezTo>
                      <a:pt x="624" y="1"/>
                      <a:pt x="625" y="0"/>
                      <a:pt x="626" y="0"/>
                    </a:cubicBezTo>
                    <a:close/>
                    <a:moveTo>
                      <a:pt x="634" y="0"/>
                    </a:moveTo>
                    <a:lnTo>
                      <a:pt x="634" y="0"/>
                    </a:lnTo>
                    <a:cubicBezTo>
                      <a:pt x="635" y="0"/>
                      <a:pt x="636" y="1"/>
                      <a:pt x="636" y="2"/>
                    </a:cubicBezTo>
                    <a:cubicBezTo>
                      <a:pt x="636" y="3"/>
                      <a:pt x="635" y="4"/>
                      <a:pt x="634" y="4"/>
                    </a:cubicBezTo>
                    <a:lnTo>
                      <a:pt x="634" y="4"/>
                    </a:lnTo>
                    <a:cubicBezTo>
                      <a:pt x="633" y="4"/>
                      <a:pt x="632" y="3"/>
                      <a:pt x="632" y="2"/>
                    </a:cubicBezTo>
                    <a:cubicBezTo>
                      <a:pt x="632" y="1"/>
                      <a:pt x="633" y="0"/>
                      <a:pt x="634" y="0"/>
                    </a:cubicBezTo>
                    <a:close/>
                    <a:moveTo>
                      <a:pt x="642" y="0"/>
                    </a:moveTo>
                    <a:lnTo>
                      <a:pt x="642" y="0"/>
                    </a:lnTo>
                    <a:cubicBezTo>
                      <a:pt x="643" y="0"/>
                      <a:pt x="644" y="1"/>
                      <a:pt x="644" y="2"/>
                    </a:cubicBezTo>
                    <a:cubicBezTo>
                      <a:pt x="644" y="3"/>
                      <a:pt x="643" y="4"/>
                      <a:pt x="642" y="4"/>
                    </a:cubicBezTo>
                    <a:lnTo>
                      <a:pt x="642" y="4"/>
                    </a:lnTo>
                    <a:cubicBezTo>
                      <a:pt x="641" y="4"/>
                      <a:pt x="640" y="3"/>
                      <a:pt x="640" y="2"/>
                    </a:cubicBezTo>
                    <a:cubicBezTo>
                      <a:pt x="640" y="1"/>
                      <a:pt x="641" y="0"/>
                      <a:pt x="642" y="0"/>
                    </a:cubicBezTo>
                    <a:close/>
                    <a:moveTo>
                      <a:pt x="650" y="0"/>
                    </a:moveTo>
                    <a:lnTo>
                      <a:pt x="650" y="0"/>
                    </a:lnTo>
                    <a:cubicBezTo>
                      <a:pt x="651" y="0"/>
                      <a:pt x="652" y="1"/>
                      <a:pt x="652" y="2"/>
                    </a:cubicBezTo>
                    <a:cubicBezTo>
                      <a:pt x="652" y="3"/>
                      <a:pt x="651" y="4"/>
                      <a:pt x="650" y="4"/>
                    </a:cubicBezTo>
                    <a:lnTo>
                      <a:pt x="650" y="4"/>
                    </a:lnTo>
                    <a:cubicBezTo>
                      <a:pt x="649" y="4"/>
                      <a:pt x="648" y="3"/>
                      <a:pt x="648" y="2"/>
                    </a:cubicBezTo>
                    <a:cubicBezTo>
                      <a:pt x="648" y="1"/>
                      <a:pt x="649" y="0"/>
                      <a:pt x="650" y="0"/>
                    </a:cubicBezTo>
                    <a:close/>
                    <a:moveTo>
                      <a:pt x="658" y="0"/>
                    </a:moveTo>
                    <a:lnTo>
                      <a:pt x="658" y="0"/>
                    </a:lnTo>
                    <a:cubicBezTo>
                      <a:pt x="659" y="0"/>
                      <a:pt x="660" y="1"/>
                      <a:pt x="660" y="2"/>
                    </a:cubicBezTo>
                    <a:cubicBezTo>
                      <a:pt x="660" y="3"/>
                      <a:pt x="659" y="4"/>
                      <a:pt x="658" y="4"/>
                    </a:cubicBezTo>
                    <a:lnTo>
                      <a:pt x="658" y="4"/>
                    </a:lnTo>
                    <a:cubicBezTo>
                      <a:pt x="657" y="4"/>
                      <a:pt x="656" y="3"/>
                      <a:pt x="656" y="2"/>
                    </a:cubicBezTo>
                    <a:cubicBezTo>
                      <a:pt x="656" y="1"/>
                      <a:pt x="657" y="0"/>
                      <a:pt x="658" y="0"/>
                    </a:cubicBezTo>
                    <a:close/>
                    <a:moveTo>
                      <a:pt x="666" y="0"/>
                    </a:moveTo>
                    <a:lnTo>
                      <a:pt x="666" y="0"/>
                    </a:lnTo>
                    <a:cubicBezTo>
                      <a:pt x="667" y="0"/>
                      <a:pt x="668" y="1"/>
                      <a:pt x="668" y="2"/>
                    </a:cubicBezTo>
                    <a:cubicBezTo>
                      <a:pt x="668" y="3"/>
                      <a:pt x="667" y="4"/>
                      <a:pt x="666" y="4"/>
                    </a:cubicBezTo>
                    <a:lnTo>
                      <a:pt x="666" y="4"/>
                    </a:lnTo>
                    <a:cubicBezTo>
                      <a:pt x="665" y="4"/>
                      <a:pt x="664" y="3"/>
                      <a:pt x="664" y="2"/>
                    </a:cubicBezTo>
                    <a:cubicBezTo>
                      <a:pt x="664" y="1"/>
                      <a:pt x="665" y="0"/>
                      <a:pt x="666" y="0"/>
                    </a:cubicBezTo>
                    <a:close/>
                    <a:moveTo>
                      <a:pt x="674" y="0"/>
                    </a:moveTo>
                    <a:lnTo>
                      <a:pt x="674" y="0"/>
                    </a:lnTo>
                    <a:cubicBezTo>
                      <a:pt x="675" y="0"/>
                      <a:pt x="676" y="1"/>
                      <a:pt x="676" y="2"/>
                    </a:cubicBezTo>
                    <a:cubicBezTo>
                      <a:pt x="676" y="3"/>
                      <a:pt x="675" y="4"/>
                      <a:pt x="674" y="4"/>
                    </a:cubicBezTo>
                    <a:lnTo>
                      <a:pt x="674" y="4"/>
                    </a:lnTo>
                    <a:cubicBezTo>
                      <a:pt x="673" y="4"/>
                      <a:pt x="672" y="3"/>
                      <a:pt x="672" y="2"/>
                    </a:cubicBezTo>
                    <a:cubicBezTo>
                      <a:pt x="672" y="1"/>
                      <a:pt x="673" y="0"/>
                      <a:pt x="674" y="0"/>
                    </a:cubicBezTo>
                    <a:close/>
                    <a:moveTo>
                      <a:pt x="682" y="0"/>
                    </a:moveTo>
                    <a:lnTo>
                      <a:pt x="682" y="0"/>
                    </a:lnTo>
                    <a:cubicBezTo>
                      <a:pt x="683" y="0"/>
                      <a:pt x="684" y="1"/>
                      <a:pt x="684" y="2"/>
                    </a:cubicBezTo>
                    <a:cubicBezTo>
                      <a:pt x="684" y="3"/>
                      <a:pt x="683" y="4"/>
                      <a:pt x="682" y="4"/>
                    </a:cubicBezTo>
                    <a:lnTo>
                      <a:pt x="682" y="4"/>
                    </a:lnTo>
                    <a:cubicBezTo>
                      <a:pt x="681" y="4"/>
                      <a:pt x="680" y="3"/>
                      <a:pt x="680" y="2"/>
                    </a:cubicBezTo>
                    <a:cubicBezTo>
                      <a:pt x="680" y="1"/>
                      <a:pt x="681" y="0"/>
                      <a:pt x="682" y="0"/>
                    </a:cubicBezTo>
                    <a:close/>
                    <a:moveTo>
                      <a:pt x="690" y="0"/>
                    </a:moveTo>
                    <a:lnTo>
                      <a:pt x="690" y="0"/>
                    </a:lnTo>
                    <a:cubicBezTo>
                      <a:pt x="691" y="0"/>
                      <a:pt x="692" y="1"/>
                      <a:pt x="692" y="2"/>
                    </a:cubicBezTo>
                    <a:cubicBezTo>
                      <a:pt x="692" y="3"/>
                      <a:pt x="691" y="4"/>
                      <a:pt x="690" y="4"/>
                    </a:cubicBezTo>
                    <a:lnTo>
                      <a:pt x="690" y="4"/>
                    </a:lnTo>
                    <a:cubicBezTo>
                      <a:pt x="689" y="4"/>
                      <a:pt x="688" y="3"/>
                      <a:pt x="688" y="2"/>
                    </a:cubicBezTo>
                    <a:cubicBezTo>
                      <a:pt x="688" y="1"/>
                      <a:pt x="689" y="0"/>
                      <a:pt x="690" y="0"/>
                    </a:cubicBezTo>
                    <a:close/>
                    <a:moveTo>
                      <a:pt x="698" y="0"/>
                    </a:moveTo>
                    <a:lnTo>
                      <a:pt x="698" y="0"/>
                    </a:lnTo>
                    <a:cubicBezTo>
                      <a:pt x="699" y="0"/>
                      <a:pt x="700" y="1"/>
                      <a:pt x="700" y="2"/>
                    </a:cubicBezTo>
                    <a:cubicBezTo>
                      <a:pt x="700" y="3"/>
                      <a:pt x="699" y="4"/>
                      <a:pt x="698" y="4"/>
                    </a:cubicBezTo>
                    <a:lnTo>
                      <a:pt x="698" y="4"/>
                    </a:lnTo>
                    <a:cubicBezTo>
                      <a:pt x="697" y="4"/>
                      <a:pt x="696" y="3"/>
                      <a:pt x="696" y="2"/>
                    </a:cubicBezTo>
                    <a:cubicBezTo>
                      <a:pt x="696" y="1"/>
                      <a:pt x="697" y="0"/>
                      <a:pt x="698" y="0"/>
                    </a:cubicBezTo>
                    <a:close/>
                    <a:moveTo>
                      <a:pt x="706" y="0"/>
                    </a:moveTo>
                    <a:lnTo>
                      <a:pt x="706" y="0"/>
                    </a:lnTo>
                    <a:cubicBezTo>
                      <a:pt x="707" y="0"/>
                      <a:pt x="708" y="1"/>
                      <a:pt x="708" y="2"/>
                    </a:cubicBezTo>
                    <a:cubicBezTo>
                      <a:pt x="708" y="3"/>
                      <a:pt x="707" y="4"/>
                      <a:pt x="706" y="4"/>
                    </a:cubicBezTo>
                    <a:lnTo>
                      <a:pt x="706" y="4"/>
                    </a:lnTo>
                    <a:cubicBezTo>
                      <a:pt x="705" y="4"/>
                      <a:pt x="704" y="3"/>
                      <a:pt x="704" y="2"/>
                    </a:cubicBezTo>
                    <a:cubicBezTo>
                      <a:pt x="704" y="1"/>
                      <a:pt x="705" y="0"/>
                      <a:pt x="706" y="0"/>
                    </a:cubicBezTo>
                    <a:close/>
                    <a:moveTo>
                      <a:pt x="714" y="0"/>
                    </a:moveTo>
                    <a:lnTo>
                      <a:pt x="714" y="0"/>
                    </a:lnTo>
                    <a:cubicBezTo>
                      <a:pt x="715" y="0"/>
                      <a:pt x="716" y="1"/>
                      <a:pt x="716" y="2"/>
                    </a:cubicBezTo>
                    <a:cubicBezTo>
                      <a:pt x="716" y="3"/>
                      <a:pt x="715" y="4"/>
                      <a:pt x="714" y="4"/>
                    </a:cubicBezTo>
                    <a:lnTo>
                      <a:pt x="714" y="4"/>
                    </a:lnTo>
                    <a:cubicBezTo>
                      <a:pt x="713" y="4"/>
                      <a:pt x="712" y="3"/>
                      <a:pt x="712" y="2"/>
                    </a:cubicBezTo>
                    <a:cubicBezTo>
                      <a:pt x="712" y="1"/>
                      <a:pt x="713" y="0"/>
                      <a:pt x="714" y="0"/>
                    </a:cubicBezTo>
                    <a:close/>
                    <a:moveTo>
                      <a:pt x="722" y="0"/>
                    </a:moveTo>
                    <a:lnTo>
                      <a:pt x="722" y="0"/>
                    </a:lnTo>
                    <a:cubicBezTo>
                      <a:pt x="723" y="0"/>
                      <a:pt x="724" y="1"/>
                      <a:pt x="724" y="2"/>
                    </a:cubicBezTo>
                    <a:cubicBezTo>
                      <a:pt x="724" y="3"/>
                      <a:pt x="723" y="4"/>
                      <a:pt x="722" y="4"/>
                    </a:cubicBezTo>
                    <a:lnTo>
                      <a:pt x="722" y="4"/>
                    </a:lnTo>
                    <a:cubicBezTo>
                      <a:pt x="721" y="4"/>
                      <a:pt x="720" y="3"/>
                      <a:pt x="720" y="2"/>
                    </a:cubicBezTo>
                    <a:cubicBezTo>
                      <a:pt x="720" y="1"/>
                      <a:pt x="721" y="0"/>
                      <a:pt x="722" y="0"/>
                    </a:cubicBezTo>
                    <a:close/>
                    <a:moveTo>
                      <a:pt x="730" y="0"/>
                    </a:moveTo>
                    <a:lnTo>
                      <a:pt x="730" y="0"/>
                    </a:lnTo>
                    <a:cubicBezTo>
                      <a:pt x="731" y="0"/>
                      <a:pt x="732" y="1"/>
                      <a:pt x="732" y="2"/>
                    </a:cubicBezTo>
                    <a:cubicBezTo>
                      <a:pt x="732" y="3"/>
                      <a:pt x="731" y="4"/>
                      <a:pt x="730" y="4"/>
                    </a:cubicBezTo>
                    <a:lnTo>
                      <a:pt x="730" y="4"/>
                    </a:lnTo>
                    <a:cubicBezTo>
                      <a:pt x="729" y="4"/>
                      <a:pt x="728" y="3"/>
                      <a:pt x="728" y="2"/>
                    </a:cubicBezTo>
                    <a:cubicBezTo>
                      <a:pt x="728" y="1"/>
                      <a:pt x="729" y="0"/>
                      <a:pt x="730" y="0"/>
                    </a:cubicBezTo>
                    <a:close/>
                    <a:moveTo>
                      <a:pt x="738" y="0"/>
                    </a:moveTo>
                    <a:lnTo>
                      <a:pt x="738" y="0"/>
                    </a:lnTo>
                    <a:cubicBezTo>
                      <a:pt x="739" y="0"/>
                      <a:pt x="740" y="1"/>
                      <a:pt x="740" y="2"/>
                    </a:cubicBezTo>
                    <a:cubicBezTo>
                      <a:pt x="740" y="3"/>
                      <a:pt x="739" y="4"/>
                      <a:pt x="738" y="4"/>
                    </a:cubicBezTo>
                    <a:lnTo>
                      <a:pt x="738" y="4"/>
                    </a:lnTo>
                    <a:cubicBezTo>
                      <a:pt x="737" y="4"/>
                      <a:pt x="736" y="3"/>
                      <a:pt x="736" y="2"/>
                    </a:cubicBezTo>
                    <a:cubicBezTo>
                      <a:pt x="736" y="1"/>
                      <a:pt x="737" y="0"/>
                      <a:pt x="738" y="0"/>
                    </a:cubicBezTo>
                    <a:close/>
                    <a:moveTo>
                      <a:pt x="746" y="0"/>
                    </a:moveTo>
                    <a:lnTo>
                      <a:pt x="746" y="0"/>
                    </a:lnTo>
                    <a:cubicBezTo>
                      <a:pt x="747" y="0"/>
                      <a:pt x="748" y="1"/>
                      <a:pt x="748" y="2"/>
                    </a:cubicBezTo>
                    <a:cubicBezTo>
                      <a:pt x="748" y="3"/>
                      <a:pt x="747" y="4"/>
                      <a:pt x="746" y="4"/>
                    </a:cubicBezTo>
                    <a:lnTo>
                      <a:pt x="746" y="4"/>
                    </a:lnTo>
                    <a:cubicBezTo>
                      <a:pt x="745" y="4"/>
                      <a:pt x="744" y="3"/>
                      <a:pt x="744" y="2"/>
                    </a:cubicBezTo>
                    <a:cubicBezTo>
                      <a:pt x="744" y="1"/>
                      <a:pt x="745" y="0"/>
                      <a:pt x="746" y="0"/>
                    </a:cubicBezTo>
                    <a:close/>
                    <a:moveTo>
                      <a:pt x="754" y="0"/>
                    </a:moveTo>
                    <a:lnTo>
                      <a:pt x="754" y="0"/>
                    </a:lnTo>
                    <a:cubicBezTo>
                      <a:pt x="755" y="0"/>
                      <a:pt x="756" y="1"/>
                      <a:pt x="756" y="2"/>
                    </a:cubicBezTo>
                    <a:cubicBezTo>
                      <a:pt x="756" y="3"/>
                      <a:pt x="755" y="4"/>
                      <a:pt x="754" y="4"/>
                    </a:cubicBezTo>
                    <a:lnTo>
                      <a:pt x="754" y="4"/>
                    </a:lnTo>
                    <a:cubicBezTo>
                      <a:pt x="753" y="4"/>
                      <a:pt x="752" y="3"/>
                      <a:pt x="752" y="2"/>
                    </a:cubicBezTo>
                    <a:cubicBezTo>
                      <a:pt x="752" y="1"/>
                      <a:pt x="753" y="0"/>
                      <a:pt x="754" y="0"/>
                    </a:cubicBezTo>
                    <a:close/>
                    <a:moveTo>
                      <a:pt x="762" y="0"/>
                    </a:moveTo>
                    <a:lnTo>
                      <a:pt x="762" y="0"/>
                    </a:lnTo>
                    <a:cubicBezTo>
                      <a:pt x="763" y="0"/>
                      <a:pt x="764" y="1"/>
                      <a:pt x="764" y="2"/>
                    </a:cubicBezTo>
                    <a:cubicBezTo>
                      <a:pt x="764" y="3"/>
                      <a:pt x="763" y="4"/>
                      <a:pt x="762" y="4"/>
                    </a:cubicBezTo>
                    <a:lnTo>
                      <a:pt x="762" y="4"/>
                    </a:lnTo>
                    <a:cubicBezTo>
                      <a:pt x="761" y="4"/>
                      <a:pt x="760" y="3"/>
                      <a:pt x="760" y="2"/>
                    </a:cubicBezTo>
                    <a:cubicBezTo>
                      <a:pt x="760" y="1"/>
                      <a:pt x="761" y="0"/>
                      <a:pt x="762" y="0"/>
                    </a:cubicBezTo>
                    <a:close/>
                    <a:moveTo>
                      <a:pt x="770" y="0"/>
                    </a:moveTo>
                    <a:lnTo>
                      <a:pt x="770" y="0"/>
                    </a:lnTo>
                    <a:cubicBezTo>
                      <a:pt x="771" y="0"/>
                      <a:pt x="772" y="1"/>
                      <a:pt x="772" y="2"/>
                    </a:cubicBezTo>
                    <a:cubicBezTo>
                      <a:pt x="772" y="3"/>
                      <a:pt x="771" y="4"/>
                      <a:pt x="770" y="4"/>
                    </a:cubicBezTo>
                    <a:lnTo>
                      <a:pt x="770" y="4"/>
                    </a:lnTo>
                    <a:cubicBezTo>
                      <a:pt x="769" y="4"/>
                      <a:pt x="768" y="3"/>
                      <a:pt x="768" y="2"/>
                    </a:cubicBezTo>
                    <a:cubicBezTo>
                      <a:pt x="768" y="1"/>
                      <a:pt x="769" y="0"/>
                      <a:pt x="770" y="0"/>
                    </a:cubicBezTo>
                    <a:close/>
                    <a:moveTo>
                      <a:pt x="778" y="0"/>
                    </a:moveTo>
                    <a:lnTo>
                      <a:pt x="778" y="0"/>
                    </a:lnTo>
                    <a:cubicBezTo>
                      <a:pt x="779" y="0"/>
                      <a:pt x="780" y="1"/>
                      <a:pt x="780" y="2"/>
                    </a:cubicBezTo>
                    <a:cubicBezTo>
                      <a:pt x="780" y="3"/>
                      <a:pt x="779" y="4"/>
                      <a:pt x="778" y="4"/>
                    </a:cubicBezTo>
                    <a:lnTo>
                      <a:pt x="778" y="4"/>
                    </a:lnTo>
                    <a:cubicBezTo>
                      <a:pt x="777" y="4"/>
                      <a:pt x="776" y="3"/>
                      <a:pt x="776" y="2"/>
                    </a:cubicBezTo>
                    <a:cubicBezTo>
                      <a:pt x="776" y="1"/>
                      <a:pt x="777" y="0"/>
                      <a:pt x="778" y="0"/>
                    </a:cubicBezTo>
                    <a:close/>
                    <a:moveTo>
                      <a:pt x="786" y="0"/>
                    </a:moveTo>
                    <a:lnTo>
                      <a:pt x="786" y="0"/>
                    </a:lnTo>
                    <a:cubicBezTo>
                      <a:pt x="787" y="0"/>
                      <a:pt x="788" y="1"/>
                      <a:pt x="788" y="2"/>
                    </a:cubicBezTo>
                    <a:cubicBezTo>
                      <a:pt x="788" y="3"/>
                      <a:pt x="787" y="4"/>
                      <a:pt x="786" y="4"/>
                    </a:cubicBezTo>
                    <a:lnTo>
                      <a:pt x="786" y="4"/>
                    </a:lnTo>
                    <a:cubicBezTo>
                      <a:pt x="785" y="4"/>
                      <a:pt x="784" y="3"/>
                      <a:pt x="784" y="2"/>
                    </a:cubicBezTo>
                    <a:cubicBezTo>
                      <a:pt x="784" y="1"/>
                      <a:pt x="785" y="0"/>
                      <a:pt x="786" y="0"/>
                    </a:cubicBezTo>
                    <a:close/>
                    <a:moveTo>
                      <a:pt x="794" y="0"/>
                    </a:moveTo>
                    <a:lnTo>
                      <a:pt x="794" y="0"/>
                    </a:lnTo>
                    <a:cubicBezTo>
                      <a:pt x="795" y="0"/>
                      <a:pt x="796" y="1"/>
                      <a:pt x="796" y="2"/>
                    </a:cubicBezTo>
                    <a:cubicBezTo>
                      <a:pt x="796" y="3"/>
                      <a:pt x="795" y="4"/>
                      <a:pt x="794" y="4"/>
                    </a:cubicBezTo>
                    <a:lnTo>
                      <a:pt x="794" y="4"/>
                    </a:lnTo>
                    <a:cubicBezTo>
                      <a:pt x="793" y="4"/>
                      <a:pt x="792" y="3"/>
                      <a:pt x="792" y="2"/>
                    </a:cubicBezTo>
                    <a:cubicBezTo>
                      <a:pt x="792" y="1"/>
                      <a:pt x="793" y="0"/>
                      <a:pt x="794" y="0"/>
                    </a:cubicBezTo>
                    <a:close/>
                    <a:moveTo>
                      <a:pt x="802" y="0"/>
                    </a:moveTo>
                    <a:lnTo>
                      <a:pt x="802" y="0"/>
                    </a:lnTo>
                    <a:cubicBezTo>
                      <a:pt x="803" y="0"/>
                      <a:pt x="804" y="1"/>
                      <a:pt x="804" y="2"/>
                    </a:cubicBezTo>
                    <a:cubicBezTo>
                      <a:pt x="804" y="3"/>
                      <a:pt x="803" y="4"/>
                      <a:pt x="802" y="4"/>
                    </a:cubicBezTo>
                    <a:lnTo>
                      <a:pt x="802" y="4"/>
                    </a:lnTo>
                    <a:cubicBezTo>
                      <a:pt x="801" y="4"/>
                      <a:pt x="800" y="3"/>
                      <a:pt x="800" y="2"/>
                    </a:cubicBezTo>
                    <a:cubicBezTo>
                      <a:pt x="800" y="1"/>
                      <a:pt x="801" y="0"/>
                      <a:pt x="802" y="0"/>
                    </a:cubicBezTo>
                    <a:close/>
                    <a:moveTo>
                      <a:pt x="810" y="0"/>
                    </a:moveTo>
                    <a:lnTo>
                      <a:pt x="810" y="0"/>
                    </a:lnTo>
                    <a:cubicBezTo>
                      <a:pt x="811" y="0"/>
                      <a:pt x="812" y="1"/>
                      <a:pt x="812" y="2"/>
                    </a:cubicBezTo>
                    <a:cubicBezTo>
                      <a:pt x="812" y="3"/>
                      <a:pt x="811" y="4"/>
                      <a:pt x="810" y="4"/>
                    </a:cubicBezTo>
                    <a:lnTo>
                      <a:pt x="810" y="4"/>
                    </a:lnTo>
                    <a:cubicBezTo>
                      <a:pt x="809" y="4"/>
                      <a:pt x="808" y="3"/>
                      <a:pt x="808" y="2"/>
                    </a:cubicBezTo>
                    <a:cubicBezTo>
                      <a:pt x="808" y="1"/>
                      <a:pt x="809" y="0"/>
                      <a:pt x="810" y="0"/>
                    </a:cubicBezTo>
                    <a:close/>
                    <a:moveTo>
                      <a:pt x="818" y="0"/>
                    </a:moveTo>
                    <a:lnTo>
                      <a:pt x="818" y="0"/>
                    </a:lnTo>
                    <a:cubicBezTo>
                      <a:pt x="819" y="0"/>
                      <a:pt x="820" y="1"/>
                      <a:pt x="820" y="2"/>
                    </a:cubicBezTo>
                    <a:cubicBezTo>
                      <a:pt x="820" y="3"/>
                      <a:pt x="819" y="4"/>
                      <a:pt x="818" y="4"/>
                    </a:cubicBezTo>
                    <a:lnTo>
                      <a:pt x="818" y="4"/>
                    </a:lnTo>
                    <a:cubicBezTo>
                      <a:pt x="817" y="4"/>
                      <a:pt x="816" y="3"/>
                      <a:pt x="816" y="2"/>
                    </a:cubicBezTo>
                    <a:cubicBezTo>
                      <a:pt x="816" y="1"/>
                      <a:pt x="817" y="0"/>
                      <a:pt x="818" y="0"/>
                    </a:cubicBezTo>
                    <a:close/>
                    <a:moveTo>
                      <a:pt x="826" y="0"/>
                    </a:moveTo>
                    <a:lnTo>
                      <a:pt x="826" y="0"/>
                    </a:lnTo>
                    <a:cubicBezTo>
                      <a:pt x="827" y="0"/>
                      <a:pt x="828" y="1"/>
                      <a:pt x="828" y="2"/>
                    </a:cubicBezTo>
                    <a:cubicBezTo>
                      <a:pt x="828" y="3"/>
                      <a:pt x="827" y="4"/>
                      <a:pt x="826" y="4"/>
                    </a:cubicBezTo>
                    <a:lnTo>
                      <a:pt x="826" y="4"/>
                    </a:lnTo>
                    <a:cubicBezTo>
                      <a:pt x="825" y="4"/>
                      <a:pt x="824" y="3"/>
                      <a:pt x="824" y="2"/>
                    </a:cubicBezTo>
                    <a:cubicBezTo>
                      <a:pt x="824" y="1"/>
                      <a:pt x="825" y="0"/>
                      <a:pt x="826" y="0"/>
                    </a:cubicBezTo>
                    <a:close/>
                    <a:moveTo>
                      <a:pt x="834" y="0"/>
                    </a:moveTo>
                    <a:lnTo>
                      <a:pt x="834" y="0"/>
                    </a:lnTo>
                    <a:cubicBezTo>
                      <a:pt x="835" y="0"/>
                      <a:pt x="836" y="1"/>
                      <a:pt x="836" y="2"/>
                    </a:cubicBezTo>
                    <a:cubicBezTo>
                      <a:pt x="836" y="3"/>
                      <a:pt x="835" y="4"/>
                      <a:pt x="834" y="4"/>
                    </a:cubicBezTo>
                    <a:lnTo>
                      <a:pt x="834" y="4"/>
                    </a:lnTo>
                    <a:cubicBezTo>
                      <a:pt x="833" y="4"/>
                      <a:pt x="832" y="3"/>
                      <a:pt x="832" y="2"/>
                    </a:cubicBezTo>
                    <a:cubicBezTo>
                      <a:pt x="832" y="1"/>
                      <a:pt x="833" y="0"/>
                      <a:pt x="834" y="0"/>
                    </a:cubicBezTo>
                    <a:close/>
                    <a:moveTo>
                      <a:pt x="842" y="0"/>
                    </a:moveTo>
                    <a:lnTo>
                      <a:pt x="842" y="0"/>
                    </a:lnTo>
                    <a:cubicBezTo>
                      <a:pt x="843" y="0"/>
                      <a:pt x="844" y="1"/>
                      <a:pt x="844" y="2"/>
                    </a:cubicBezTo>
                    <a:cubicBezTo>
                      <a:pt x="844" y="3"/>
                      <a:pt x="843" y="4"/>
                      <a:pt x="842" y="4"/>
                    </a:cubicBezTo>
                    <a:lnTo>
                      <a:pt x="842" y="4"/>
                    </a:lnTo>
                    <a:cubicBezTo>
                      <a:pt x="841" y="4"/>
                      <a:pt x="840" y="3"/>
                      <a:pt x="840" y="2"/>
                    </a:cubicBezTo>
                    <a:cubicBezTo>
                      <a:pt x="840" y="1"/>
                      <a:pt x="841" y="0"/>
                      <a:pt x="842" y="0"/>
                    </a:cubicBezTo>
                    <a:close/>
                    <a:moveTo>
                      <a:pt x="850" y="0"/>
                    </a:moveTo>
                    <a:lnTo>
                      <a:pt x="850" y="0"/>
                    </a:lnTo>
                    <a:cubicBezTo>
                      <a:pt x="851" y="0"/>
                      <a:pt x="852" y="1"/>
                      <a:pt x="852" y="2"/>
                    </a:cubicBezTo>
                    <a:cubicBezTo>
                      <a:pt x="852" y="3"/>
                      <a:pt x="851" y="4"/>
                      <a:pt x="850" y="4"/>
                    </a:cubicBezTo>
                    <a:lnTo>
                      <a:pt x="850" y="4"/>
                    </a:lnTo>
                    <a:cubicBezTo>
                      <a:pt x="849" y="4"/>
                      <a:pt x="848" y="3"/>
                      <a:pt x="848" y="2"/>
                    </a:cubicBezTo>
                    <a:cubicBezTo>
                      <a:pt x="848" y="1"/>
                      <a:pt x="849" y="0"/>
                      <a:pt x="850" y="0"/>
                    </a:cubicBezTo>
                    <a:close/>
                    <a:moveTo>
                      <a:pt x="858" y="0"/>
                    </a:moveTo>
                    <a:lnTo>
                      <a:pt x="858" y="0"/>
                    </a:lnTo>
                    <a:cubicBezTo>
                      <a:pt x="859" y="0"/>
                      <a:pt x="860" y="1"/>
                      <a:pt x="860" y="2"/>
                    </a:cubicBezTo>
                    <a:cubicBezTo>
                      <a:pt x="860" y="3"/>
                      <a:pt x="859" y="4"/>
                      <a:pt x="858" y="4"/>
                    </a:cubicBezTo>
                    <a:lnTo>
                      <a:pt x="858" y="4"/>
                    </a:lnTo>
                    <a:cubicBezTo>
                      <a:pt x="857" y="4"/>
                      <a:pt x="856" y="3"/>
                      <a:pt x="856" y="2"/>
                    </a:cubicBezTo>
                    <a:cubicBezTo>
                      <a:pt x="856" y="1"/>
                      <a:pt x="857" y="0"/>
                      <a:pt x="858" y="0"/>
                    </a:cubicBezTo>
                    <a:close/>
                    <a:moveTo>
                      <a:pt x="866" y="0"/>
                    </a:moveTo>
                    <a:lnTo>
                      <a:pt x="866" y="0"/>
                    </a:lnTo>
                    <a:cubicBezTo>
                      <a:pt x="867" y="0"/>
                      <a:pt x="868" y="1"/>
                      <a:pt x="868" y="2"/>
                    </a:cubicBezTo>
                    <a:cubicBezTo>
                      <a:pt x="868" y="3"/>
                      <a:pt x="867" y="4"/>
                      <a:pt x="866" y="4"/>
                    </a:cubicBezTo>
                    <a:lnTo>
                      <a:pt x="866" y="4"/>
                    </a:lnTo>
                    <a:cubicBezTo>
                      <a:pt x="865" y="4"/>
                      <a:pt x="864" y="3"/>
                      <a:pt x="864" y="2"/>
                    </a:cubicBezTo>
                    <a:cubicBezTo>
                      <a:pt x="864" y="1"/>
                      <a:pt x="865" y="0"/>
                      <a:pt x="866" y="0"/>
                    </a:cubicBezTo>
                    <a:close/>
                    <a:moveTo>
                      <a:pt x="874" y="0"/>
                    </a:moveTo>
                    <a:lnTo>
                      <a:pt x="874" y="0"/>
                    </a:lnTo>
                    <a:cubicBezTo>
                      <a:pt x="875" y="0"/>
                      <a:pt x="876" y="1"/>
                      <a:pt x="876" y="2"/>
                    </a:cubicBezTo>
                    <a:cubicBezTo>
                      <a:pt x="876" y="3"/>
                      <a:pt x="875" y="4"/>
                      <a:pt x="874" y="4"/>
                    </a:cubicBezTo>
                    <a:lnTo>
                      <a:pt x="874" y="4"/>
                    </a:lnTo>
                    <a:cubicBezTo>
                      <a:pt x="873" y="4"/>
                      <a:pt x="872" y="3"/>
                      <a:pt x="872" y="2"/>
                    </a:cubicBezTo>
                    <a:cubicBezTo>
                      <a:pt x="872" y="1"/>
                      <a:pt x="873" y="0"/>
                      <a:pt x="874" y="0"/>
                    </a:cubicBezTo>
                    <a:close/>
                    <a:moveTo>
                      <a:pt x="882" y="0"/>
                    </a:moveTo>
                    <a:lnTo>
                      <a:pt x="882" y="0"/>
                    </a:lnTo>
                    <a:cubicBezTo>
                      <a:pt x="883" y="0"/>
                      <a:pt x="884" y="1"/>
                      <a:pt x="884" y="2"/>
                    </a:cubicBezTo>
                    <a:cubicBezTo>
                      <a:pt x="884" y="3"/>
                      <a:pt x="883" y="4"/>
                      <a:pt x="882" y="4"/>
                    </a:cubicBezTo>
                    <a:lnTo>
                      <a:pt x="882" y="4"/>
                    </a:lnTo>
                    <a:cubicBezTo>
                      <a:pt x="881" y="4"/>
                      <a:pt x="880" y="3"/>
                      <a:pt x="880" y="2"/>
                    </a:cubicBezTo>
                    <a:cubicBezTo>
                      <a:pt x="880" y="1"/>
                      <a:pt x="881" y="0"/>
                      <a:pt x="882" y="0"/>
                    </a:cubicBezTo>
                    <a:close/>
                    <a:moveTo>
                      <a:pt x="890" y="0"/>
                    </a:moveTo>
                    <a:lnTo>
                      <a:pt x="890" y="0"/>
                    </a:lnTo>
                    <a:cubicBezTo>
                      <a:pt x="891" y="0"/>
                      <a:pt x="892" y="1"/>
                      <a:pt x="892" y="2"/>
                    </a:cubicBezTo>
                    <a:cubicBezTo>
                      <a:pt x="892" y="3"/>
                      <a:pt x="891" y="4"/>
                      <a:pt x="890" y="4"/>
                    </a:cubicBezTo>
                    <a:lnTo>
                      <a:pt x="890" y="4"/>
                    </a:lnTo>
                    <a:cubicBezTo>
                      <a:pt x="889" y="4"/>
                      <a:pt x="888" y="3"/>
                      <a:pt x="888" y="2"/>
                    </a:cubicBezTo>
                    <a:cubicBezTo>
                      <a:pt x="888" y="1"/>
                      <a:pt x="889" y="0"/>
                      <a:pt x="890" y="0"/>
                    </a:cubicBezTo>
                    <a:close/>
                    <a:moveTo>
                      <a:pt x="898" y="0"/>
                    </a:moveTo>
                    <a:lnTo>
                      <a:pt x="898" y="0"/>
                    </a:lnTo>
                    <a:cubicBezTo>
                      <a:pt x="899" y="0"/>
                      <a:pt x="900" y="1"/>
                      <a:pt x="900" y="2"/>
                    </a:cubicBezTo>
                    <a:cubicBezTo>
                      <a:pt x="900" y="3"/>
                      <a:pt x="899" y="4"/>
                      <a:pt x="898" y="4"/>
                    </a:cubicBezTo>
                    <a:lnTo>
                      <a:pt x="898" y="4"/>
                    </a:lnTo>
                    <a:cubicBezTo>
                      <a:pt x="897" y="4"/>
                      <a:pt x="896" y="3"/>
                      <a:pt x="896" y="2"/>
                    </a:cubicBezTo>
                    <a:cubicBezTo>
                      <a:pt x="896" y="1"/>
                      <a:pt x="897" y="0"/>
                      <a:pt x="898" y="0"/>
                    </a:cubicBezTo>
                    <a:close/>
                    <a:moveTo>
                      <a:pt x="906" y="0"/>
                    </a:moveTo>
                    <a:lnTo>
                      <a:pt x="906" y="0"/>
                    </a:lnTo>
                    <a:cubicBezTo>
                      <a:pt x="907" y="0"/>
                      <a:pt x="908" y="1"/>
                      <a:pt x="908" y="2"/>
                    </a:cubicBezTo>
                    <a:cubicBezTo>
                      <a:pt x="908" y="3"/>
                      <a:pt x="907" y="4"/>
                      <a:pt x="906" y="4"/>
                    </a:cubicBezTo>
                    <a:lnTo>
                      <a:pt x="906" y="4"/>
                    </a:lnTo>
                    <a:cubicBezTo>
                      <a:pt x="905" y="4"/>
                      <a:pt x="904" y="3"/>
                      <a:pt x="904" y="2"/>
                    </a:cubicBezTo>
                    <a:cubicBezTo>
                      <a:pt x="904" y="1"/>
                      <a:pt x="905" y="0"/>
                      <a:pt x="906" y="0"/>
                    </a:cubicBezTo>
                    <a:close/>
                    <a:moveTo>
                      <a:pt x="914" y="0"/>
                    </a:moveTo>
                    <a:lnTo>
                      <a:pt x="914" y="0"/>
                    </a:lnTo>
                    <a:cubicBezTo>
                      <a:pt x="915" y="0"/>
                      <a:pt x="916" y="1"/>
                      <a:pt x="916" y="2"/>
                    </a:cubicBezTo>
                    <a:cubicBezTo>
                      <a:pt x="916" y="3"/>
                      <a:pt x="915" y="4"/>
                      <a:pt x="914" y="4"/>
                    </a:cubicBezTo>
                    <a:lnTo>
                      <a:pt x="914" y="4"/>
                    </a:lnTo>
                    <a:cubicBezTo>
                      <a:pt x="913" y="4"/>
                      <a:pt x="912" y="3"/>
                      <a:pt x="912" y="2"/>
                    </a:cubicBezTo>
                    <a:cubicBezTo>
                      <a:pt x="912" y="1"/>
                      <a:pt x="913" y="0"/>
                      <a:pt x="914" y="0"/>
                    </a:cubicBezTo>
                    <a:close/>
                    <a:moveTo>
                      <a:pt x="922" y="0"/>
                    </a:moveTo>
                    <a:lnTo>
                      <a:pt x="922" y="0"/>
                    </a:lnTo>
                    <a:cubicBezTo>
                      <a:pt x="923" y="0"/>
                      <a:pt x="924" y="1"/>
                      <a:pt x="924" y="2"/>
                    </a:cubicBezTo>
                    <a:cubicBezTo>
                      <a:pt x="924" y="3"/>
                      <a:pt x="923" y="4"/>
                      <a:pt x="922" y="4"/>
                    </a:cubicBezTo>
                    <a:lnTo>
                      <a:pt x="922" y="4"/>
                    </a:lnTo>
                    <a:cubicBezTo>
                      <a:pt x="921" y="4"/>
                      <a:pt x="920" y="3"/>
                      <a:pt x="920" y="2"/>
                    </a:cubicBezTo>
                    <a:cubicBezTo>
                      <a:pt x="920" y="1"/>
                      <a:pt x="921" y="0"/>
                      <a:pt x="922" y="0"/>
                    </a:cubicBezTo>
                    <a:close/>
                    <a:moveTo>
                      <a:pt x="930" y="0"/>
                    </a:moveTo>
                    <a:lnTo>
                      <a:pt x="930" y="0"/>
                    </a:lnTo>
                    <a:cubicBezTo>
                      <a:pt x="931" y="0"/>
                      <a:pt x="932" y="1"/>
                      <a:pt x="932" y="2"/>
                    </a:cubicBezTo>
                    <a:cubicBezTo>
                      <a:pt x="932" y="3"/>
                      <a:pt x="931" y="4"/>
                      <a:pt x="930" y="4"/>
                    </a:cubicBezTo>
                    <a:lnTo>
                      <a:pt x="930" y="4"/>
                    </a:lnTo>
                    <a:cubicBezTo>
                      <a:pt x="929" y="4"/>
                      <a:pt x="928" y="3"/>
                      <a:pt x="928" y="2"/>
                    </a:cubicBezTo>
                    <a:cubicBezTo>
                      <a:pt x="928" y="1"/>
                      <a:pt x="929" y="0"/>
                      <a:pt x="930" y="0"/>
                    </a:cubicBezTo>
                    <a:close/>
                    <a:moveTo>
                      <a:pt x="938" y="0"/>
                    </a:moveTo>
                    <a:lnTo>
                      <a:pt x="938" y="0"/>
                    </a:lnTo>
                    <a:cubicBezTo>
                      <a:pt x="939" y="0"/>
                      <a:pt x="940" y="1"/>
                      <a:pt x="940" y="2"/>
                    </a:cubicBezTo>
                    <a:cubicBezTo>
                      <a:pt x="940" y="3"/>
                      <a:pt x="939" y="4"/>
                      <a:pt x="938" y="4"/>
                    </a:cubicBezTo>
                    <a:lnTo>
                      <a:pt x="938" y="4"/>
                    </a:lnTo>
                    <a:cubicBezTo>
                      <a:pt x="937" y="4"/>
                      <a:pt x="936" y="3"/>
                      <a:pt x="936" y="2"/>
                    </a:cubicBezTo>
                    <a:cubicBezTo>
                      <a:pt x="936" y="1"/>
                      <a:pt x="937" y="0"/>
                      <a:pt x="938" y="0"/>
                    </a:cubicBezTo>
                    <a:close/>
                    <a:moveTo>
                      <a:pt x="946" y="0"/>
                    </a:moveTo>
                    <a:lnTo>
                      <a:pt x="946" y="0"/>
                    </a:lnTo>
                    <a:cubicBezTo>
                      <a:pt x="947" y="0"/>
                      <a:pt x="948" y="1"/>
                      <a:pt x="948" y="2"/>
                    </a:cubicBezTo>
                    <a:cubicBezTo>
                      <a:pt x="948" y="3"/>
                      <a:pt x="947" y="4"/>
                      <a:pt x="946" y="4"/>
                    </a:cubicBezTo>
                    <a:lnTo>
                      <a:pt x="946" y="4"/>
                    </a:lnTo>
                    <a:cubicBezTo>
                      <a:pt x="945" y="4"/>
                      <a:pt x="944" y="3"/>
                      <a:pt x="944" y="2"/>
                    </a:cubicBezTo>
                    <a:cubicBezTo>
                      <a:pt x="944" y="1"/>
                      <a:pt x="945" y="0"/>
                      <a:pt x="946" y="0"/>
                    </a:cubicBezTo>
                    <a:close/>
                    <a:moveTo>
                      <a:pt x="954" y="0"/>
                    </a:moveTo>
                    <a:lnTo>
                      <a:pt x="954" y="0"/>
                    </a:lnTo>
                    <a:cubicBezTo>
                      <a:pt x="955" y="0"/>
                      <a:pt x="956" y="1"/>
                      <a:pt x="956" y="2"/>
                    </a:cubicBezTo>
                    <a:cubicBezTo>
                      <a:pt x="956" y="3"/>
                      <a:pt x="955" y="4"/>
                      <a:pt x="954" y="4"/>
                    </a:cubicBezTo>
                    <a:lnTo>
                      <a:pt x="954" y="4"/>
                    </a:lnTo>
                    <a:cubicBezTo>
                      <a:pt x="953" y="4"/>
                      <a:pt x="952" y="3"/>
                      <a:pt x="952" y="2"/>
                    </a:cubicBezTo>
                    <a:cubicBezTo>
                      <a:pt x="952" y="1"/>
                      <a:pt x="953" y="0"/>
                      <a:pt x="954" y="0"/>
                    </a:cubicBezTo>
                    <a:close/>
                    <a:moveTo>
                      <a:pt x="962" y="0"/>
                    </a:moveTo>
                    <a:lnTo>
                      <a:pt x="962" y="0"/>
                    </a:lnTo>
                    <a:cubicBezTo>
                      <a:pt x="963" y="0"/>
                      <a:pt x="964" y="1"/>
                      <a:pt x="964" y="2"/>
                    </a:cubicBezTo>
                    <a:cubicBezTo>
                      <a:pt x="964" y="3"/>
                      <a:pt x="963" y="4"/>
                      <a:pt x="962" y="4"/>
                    </a:cubicBezTo>
                    <a:lnTo>
                      <a:pt x="962" y="4"/>
                    </a:lnTo>
                    <a:cubicBezTo>
                      <a:pt x="961" y="4"/>
                      <a:pt x="960" y="3"/>
                      <a:pt x="960" y="2"/>
                    </a:cubicBezTo>
                    <a:cubicBezTo>
                      <a:pt x="960" y="1"/>
                      <a:pt x="961" y="0"/>
                      <a:pt x="962" y="0"/>
                    </a:cubicBezTo>
                    <a:close/>
                    <a:moveTo>
                      <a:pt x="970" y="0"/>
                    </a:moveTo>
                    <a:lnTo>
                      <a:pt x="970" y="0"/>
                    </a:lnTo>
                    <a:cubicBezTo>
                      <a:pt x="971" y="0"/>
                      <a:pt x="972" y="1"/>
                      <a:pt x="972" y="2"/>
                    </a:cubicBezTo>
                    <a:cubicBezTo>
                      <a:pt x="972" y="3"/>
                      <a:pt x="971" y="4"/>
                      <a:pt x="970" y="4"/>
                    </a:cubicBezTo>
                    <a:lnTo>
                      <a:pt x="970" y="4"/>
                    </a:lnTo>
                    <a:cubicBezTo>
                      <a:pt x="969" y="4"/>
                      <a:pt x="968" y="3"/>
                      <a:pt x="968" y="2"/>
                    </a:cubicBezTo>
                    <a:cubicBezTo>
                      <a:pt x="968" y="1"/>
                      <a:pt x="969" y="0"/>
                      <a:pt x="970" y="0"/>
                    </a:cubicBezTo>
                    <a:close/>
                    <a:moveTo>
                      <a:pt x="978" y="0"/>
                    </a:moveTo>
                    <a:lnTo>
                      <a:pt x="978" y="0"/>
                    </a:lnTo>
                    <a:cubicBezTo>
                      <a:pt x="979" y="0"/>
                      <a:pt x="980" y="1"/>
                      <a:pt x="980" y="2"/>
                    </a:cubicBezTo>
                    <a:cubicBezTo>
                      <a:pt x="980" y="3"/>
                      <a:pt x="979" y="4"/>
                      <a:pt x="978" y="4"/>
                    </a:cubicBezTo>
                    <a:lnTo>
                      <a:pt x="978" y="4"/>
                    </a:lnTo>
                    <a:cubicBezTo>
                      <a:pt x="977" y="4"/>
                      <a:pt x="976" y="3"/>
                      <a:pt x="976" y="2"/>
                    </a:cubicBezTo>
                    <a:cubicBezTo>
                      <a:pt x="976" y="1"/>
                      <a:pt x="977" y="0"/>
                      <a:pt x="978" y="0"/>
                    </a:cubicBezTo>
                    <a:close/>
                    <a:moveTo>
                      <a:pt x="986" y="0"/>
                    </a:moveTo>
                    <a:lnTo>
                      <a:pt x="986" y="0"/>
                    </a:lnTo>
                    <a:cubicBezTo>
                      <a:pt x="987" y="0"/>
                      <a:pt x="988" y="1"/>
                      <a:pt x="988" y="2"/>
                    </a:cubicBezTo>
                    <a:cubicBezTo>
                      <a:pt x="988" y="3"/>
                      <a:pt x="987" y="4"/>
                      <a:pt x="986" y="4"/>
                    </a:cubicBezTo>
                    <a:lnTo>
                      <a:pt x="986" y="4"/>
                    </a:lnTo>
                    <a:cubicBezTo>
                      <a:pt x="985" y="4"/>
                      <a:pt x="984" y="3"/>
                      <a:pt x="984" y="2"/>
                    </a:cubicBezTo>
                    <a:cubicBezTo>
                      <a:pt x="984" y="1"/>
                      <a:pt x="985" y="0"/>
                      <a:pt x="986" y="0"/>
                    </a:cubicBezTo>
                    <a:close/>
                    <a:moveTo>
                      <a:pt x="994" y="0"/>
                    </a:moveTo>
                    <a:lnTo>
                      <a:pt x="994" y="0"/>
                    </a:lnTo>
                    <a:cubicBezTo>
                      <a:pt x="995" y="0"/>
                      <a:pt x="996" y="1"/>
                      <a:pt x="996" y="2"/>
                    </a:cubicBezTo>
                    <a:cubicBezTo>
                      <a:pt x="996" y="3"/>
                      <a:pt x="995" y="4"/>
                      <a:pt x="994" y="4"/>
                    </a:cubicBezTo>
                    <a:lnTo>
                      <a:pt x="994" y="4"/>
                    </a:lnTo>
                    <a:cubicBezTo>
                      <a:pt x="993" y="4"/>
                      <a:pt x="992" y="3"/>
                      <a:pt x="992" y="2"/>
                    </a:cubicBezTo>
                    <a:cubicBezTo>
                      <a:pt x="992" y="1"/>
                      <a:pt x="993" y="0"/>
                      <a:pt x="994" y="0"/>
                    </a:cubicBezTo>
                    <a:close/>
                    <a:moveTo>
                      <a:pt x="1002" y="0"/>
                    </a:moveTo>
                    <a:lnTo>
                      <a:pt x="1002" y="0"/>
                    </a:lnTo>
                    <a:cubicBezTo>
                      <a:pt x="1003" y="0"/>
                      <a:pt x="1004" y="1"/>
                      <a:pt x="1004" y="2"/>
                    </a:cubicBezTo>
                    <a:cubicBezTo>
                      <a:pt x="1004" y="3"/>
                      <a:pt x="1003" y="4"/>
                      <a:pt x="1002" y="4"/>
                    </a:cubicBezTo>
                    <a:lnTo>
                      <a:pt x="1002" y="4"/>
                    </a:lnTo>
                    <a:cubicBezTo>
                      <a:pt x="1001" y="4"/>
                      <a:pt x="1000" y="3"/>
                      <a:pt x="1000" y="2"/>
                    </a:cubicBezTo>
                    <a:cubicBezTo>
                      <a:pt x="1000" y="1"/>
                      <a:pt x="1001" y="0"/>
                      <a:pt x="1002" y="0"/>
                    </a:cubicBezTo>
                    <a:close/>
                    <a:moveTo>
                      <a:pt x="1010" y="0"/>
                    </a:moveTo>
                    <a:lnTo>
                      <a:pt x="1010" y="0"/>
                    </a:lnTo>
                    <a:cubicBezTo>
                      <a:pt x="1011" y="0"/>
                      <a:pt x="1012" y="1"/>
                      <a:pt x="1012" y="2"/>
                    </a:cubicBezTo>
                    <a:cubicBezTo>
                      <a:pt x="1012" y="3"/>
                      <a:pt x="1011" y="4"/>
                      <a:pt x="1010" y="4"/>
                    </a:cubicBezTo>
                    <a:lnTo>
                      <a:pt x="1010" y="4"/>
                    </a:lnTo>
                    <a:cubicBezTo>
                      <a:pt x="1009" y="4"/>
                      <a:pt x="1008" y="3"/>
                      <a:pt x="1008" y="2"/>
                    </a:cubicBezTo>
                    <a:cubicBezTo>
                      <a:pt x="1008" y="1"/>
                      <a:pt x="1009" y="0"/>
                      <a:pt x="1010" y="0"/>
                    </a:cubicBezTo>
                    <a:close/>
                    <a:moveTo>
                      <a:pt x="1018" y="0"/>
                    </a:moveTo>
                    <a:lnTo>
                      <a:pt x="1018" y="0"/>
                    </a:lnTo>
                    <a:cubicBezTo>
                      <a:pt x="1019" y="0"/>
                      <a:pt x="1020" y="1"/>
                      <a:pt x="1020" y="2"/>
                    </a:cubicBezTo>
                    <a:cubicBezTo>
                      <a:pt x="1020" y="3"/>
                      <a:pt x="1019" y="4"/>
                      <a:pt x="1018" y="4"/>
                    </a:cubicBezTo>
                    <a:lnTo>
                      <a:pt x="1018" y="4"/>
                    </a:lnTo>
                    <a:cubicBezTo>
                      <a:pt x="1017" y="4"/>
                      <a:pt x="1016" y="3"/>
                      <a:pt x="1016" y="2"/>
                    </a:cubicBezTo>
                    <a:cubicBezTo>
                      <a:pt x="1016" y="1"/>
                      <a:pt x="1017" y="0"/>
                      <a:pt x="1018" y="0"/>
                    </a:cubicBezTo>
                    <a:close/>
                    <a:moveTo>
                      <a:pt x="1026" y="0"/>
                    </a:moveTo>
                    <a:lnTo>
                      <a:pt x="1026" y="0"/>
                    </a:lnTo>
                    <a:cubicBezTo>
                      <a:pt x="1027" y="0"/>
                      <a:pt x="1028" y="1"/>
                      <a:pt x="1028" y="2"/>
                    </a:cubicBezTo>
                    <a:cubicBezTo>
                      <a:pt x="1028" y="3"/>
                      <a:pt x="1027" y="4"/>
                      <a:pt x="1026" y="4"/>
                    </a:cubicBezTo>
                    <a:lnTo>
                      <a:pt x="1026" y="4"/>
                    </a:lnTo>
                    <a:cubicBezTo>
                      <a:pt x="1025" y="4"/>
                      <a:pt x="1024" y="3"/>
                      <a:pt x="1024" y="2"/>
                    </a:cubicBezTo>
                    <a:cubicBezTo>
                      <a:pt x="1024" y="1"/>
                      <a:pt x="1025" y="0"/>
                      <a:pt x="1026" y="0"/>
                    </a:cubicBezTo>
                    <a:close/>
                    <a:moveTo>
                      <a:pt x="1034" y="0"/>
                    </a:moveTo>
                    <a:lnTo>
                      <a:pt x="1034" y="0"/>
                    </a:lnTo>
                    <a:cubicBezTo>
                      <a:pt x="1035" y="0"/>
                      <a:pt x="1036" y="1"/>
                      <a:pt x="1036" y="2"/>
                    </a:cubicBezTo>
                    <a:cubicBezTo>
                      <a:pt x="1036" y="3"/>
                      <a:pt x="1035" y="4"/>
                      <a:pt x="1034" y="4"/>
                    </a:cubicBezTo>
                    <a:lnTo>
                      <a:pt x="1034" y="4"/>
                    </a:lnTo>
                    <a:cubicBezTo>
                      <a:pt x="1033" y="4"/>
                      <a:pt x="1032" y="3"/>
                      <a:pt x="1032" y="2"/>
                    </a:cubicBezTo>
                    <a:cubicBezTo>
                      <a:pt x="1032" y="1"/>
                      <a:pt x="1033" y="0"/>
                      <a:pt x="1034" y="0"/>
                    </a:cubicBezTo>
                    <a:close/>
                    <a:moveTo>
                      <a:pt x="1042" y="0"/>
                    </a:moveTo>
                    <a:lnTo>
                      <a:pt x="1042" y="0"/>
                    </a:lnTo>
                    <a:cubicBezTo>
                      <a:pt x="1043" y="0"/>
                      <a:pt x="1044" y="1"/>
                      <a:pt x="1044" y="2"/>
                    </a:cubicBezTo>
                    <a:cubicBezTo>
                      <a:pt x="1044" y="3"/>
                      <a:pt x="1043" y="4"/>
                      <a:pt x="1042" y="4"/>
                    </a:cubicBezTo>
                    <a:lnTo>
                      <a:pt x="1042" y="4"/>
                    </a:lnTo>
                    <a:cubicBezTo>
                      <a:pt x="1041" y="4"/>
                      <a:pt x="1040" y="3"/>
                      <a:pt x="1040" y="2"/>
                    </a:cubicBezTo>
                    <a:cubicBezTo>
                      <a:pt x="1040" y="1"/>
                      <a:pt x="1041" y="0"/>
                      <a:pt x="1042" y="0"/>
                    </a:cubicBezTo>
                    <a:close/>
                    <a:moveTo>
                      <a:pt x="1050" y="0"/>
                    </a:moveTo>
                    <a:lnTo>
                      <a:pt x="1050" y="0"/>
                    </a:lnTo>
                    <a:cubicBezTo>
                      <a:pt x="1051" y="0"/>
                      <a:pt x="1052" y="1"/>
                      <a:pt x="1052" y="2"/>
                    </a:cubicBezTo>
                    <a:cubicBezTo>
                      <a:pt x="1052" y="3"/>
                      <a:pt x="1051" y="4"/>
                      <a:pt x="1050" y="4"/>
                    </a:cubicBezTo>
                    <a:lnTo>
                      <a:pt x="1050" y="4"/>
                    </a:lnTo>
                    <a:cubicBezTo>
                      <a:pt x="1049" y="4"/>
                      <a:pt x="1048" y="3"/>
                      <a:pt x="1048" y="2"/>
                    </a:cubicBezTo>
                    <a:cubicBezTo>
                      <a:pt x="1048" y="1"/>
                      <a:pt x="1049" y="0"/>
                      <a:pt x="1050" y="0"/>
                    </a:cubicBezTo>
                    <a:close/>
                    <a:moveTo>
                      <a:pt x="1058" y="0"/>
                    </a:moveTo>
                    <a:lnTo>
                      <a:pt x="1058" y="0"/>
                    </a:lnTo>
                    <a:cubicBezTo>
                      <a:pt x="1059" y="0"/>
                      <a:pt x="1060" y="1"/>
                      <a:pt x="1060" y="2"/>
                    </a:cubicBezTo>
                    <a:cubicBezTo>
                      <a:pt x="1060" y="3"/>
                      <a:pt x="1059" y="4"/>
                      <a:pt x="1058" y="4"/>
                    </a:cubicBezTo>
                    <a:lnTo>
                      <a:pt x="1058" y="4"/>
                    </a:lnTo>
                    <a:cubicBezTo>
                      <a:pt x="1057" y="4"/>
                      <a:pt x="1056" y="3"/>
                      <a:pt x="1056" y="2"/>
                    </a:cubicBezTo>
                    <a:cubicBezTo>
                      <a:pt x="1056" y="1"/>
                      <a:pt x="1057" y="0"/>
                      <a:pt x="1058" y="0"/>
                    </a:cubicBezTo>
                    <a:close/>
                    <a:moveTo>
                      <a:pt x="1066" y="0"/>
                    </a:moveTo>
                    <a:lnTo>
                      <a:pt x="1066" y="0"/>
                    </a:lnTo>
                    <a:cubicBezTo>
                      <a:pt x="1067" y="0"/>
                      <a:pt x="1068" y="1"/>
                      <a:pt x="1068" y="2"/>
                    </a:cubicBezTo>
                    <a:cubicBezTo>
                      <a:pt x="1068" y="3"/>
                      <a:pt x="1067" y="4"/>
                      <a:pt x="1066" y="4"/>
                    </a:cubicBezTo>
                    <a:lnTo>
                      <a:pt x="1066" y="4"/>
                    </a:lnTo>
                    <a:cubicBezTo>
                      <a:pt x="1065" y="4"/>
                      <a:pt x="1064" y="3"/>
                      <a:pt x="1064" y="2"/>
                    </a:cubicBezTo>
                    <a:cubicBezTo>
                      <a:pt x="1064" y="1"/>
                      <a:pt x="1065" y="0"/>
                      <a:pt x="1066" y="0"/>
                    </a:cubicBezTo>
                    <a:close/>
                    <a:moveTo>
                      <a:pt x="1074" y="0"/>
                    </a:moveTo>
                    <a:lnTo>
                      <a:pt x="1074" y="0"/>
                    </a:lnTo>
                    <a:cubicBezTo>
                      <a:pt x="1075" y="0"/>
                      <a:pt x="1076" y="1"/>
                      <a:pt x="1076" y="2"/>
                    </a:cubicBezTo>
                    <a:cubicBezTo>
                      <a:pt x="1076" y="3"/>
                      <a:pt x="1075" y="4"/>
                      <a:pt x="1074" y="4"/>
                    </a:cubicBezTo>
                    <a:lnTo>
                      <a:pt x="1074" y="4"/>
                    </a:lnTo>
                    <a:cubicBezTo>
                      <a:pt x="1073" y="4"/>
                      <a:pt x="1072" y="3"/>
                      <a:pt x="1072" y="2"/>
                    </a:cubicBezTo>
                    <a:cubicBezTo>
                      <a:pt x="1072" y="1"/>
                      <a:pt x="1073" y="0"/>
                      <a:pt x="1074" y="0"/>
                    </a:cubicBezTo>
                    <a:close/>
                    <a:moveTo>
                      <a:pt x="1082" y="0"/>
                    </a:moveTo>
                    <a:lnTo>
                      <a:pt x="1082" y="0"/>
                    </a:lnTo>
                    <a:cubicBezTo>
                      <a:pt x="1083" y="0"/>
                      <a:pt x="1084" y="1"/>
                      <a:pt x="1084" y="2"/>
                    </a:cubicBezTo>
                    <a:cubicBezTo>
                      <a:pt x="1084" y="3"/>
                      <a:pt x="1083" y="4"/>
                      <a:pt x="1082" y="4"/>
                    </a:cubicBezTo>
                    <a:lnTo>
                      <a:pt x="1082" y="4"/>
                    </a:lnTo>
                    <a:cubicBezTo>
                      <a:pt x="1081" y="4"/>
                      <a:pt x="1080" y="3"/>
                      <a:pt x="1080" y="2"/>
                    </a:cubicBezTo>
                    <a:cubicBezTo>
                      <a:pt x="1080" y="1"/>
                      <a:pt x="1081" y="0"/>
                      <a:pt x="1082" y="0"/>
                    </a:cubicBezTo>
                    <a:close/>
                    <a:moveTo>
                      <a:pt x="1090" y="0"/>
                    </a:moveTo>
                    <a:lnTo>
                      <a:pt x="1090" y="0"/>
                    </a:lnTo>
                    <a:cubicBezTo>
                      <a:pt x="1091" y="0"/>
                      <a:pt x="1092" y="1"/>
                      <a:pt x="1092" y="2"/>
                    </a:cubicBezTo>
                    <a:cubicBezTo>
                      <a:pt x="1092" y="3"/>
                      <a:pt x="1091" y="4"/>
                      <a:pt x="1090" y="4"/>
                    </a:cubicBezTo>
                    <a:lnTo>
                      <a:pt x="1090" y="4"/>
                    </a:lnTo>
                    <a:cubicBezTo>
                      <a:pt x="1089" y="4"/>
                      <a:pt x="1088" y="3"/>
                      <a:pt x="1088" y="2"/>
                    </a:cubicBezTo>
                    <a:cubicBezTo>
                      <a:pt x="1088" y="1"/>
                      <a:pt x="1089" y="0"/>
                      <a:pt x="1090" y="0"/>
                    </a:cubicBezTo>
                    <a:close/>
                    <a:moveTo>
                      <a:pt x="1098" y="0"/>
                    </a:moveTo>
                    <a:lnTo>
                      <a:pt x="1098" y="0"/>
                    </a:lnTo>
                    <a:cubicBezTo>
                      <a:pt x="1099" y="0"/>
                      <a:pt x="1100" y="1"/>
                      <a:pt x="1100" y="2"/>
                    </a:cubicBezTo>
                    <a:cubicBezTo>
                      <a:pt x="1100" y="3"/>
                      <a:pt x="1099" y="4"/>
                      <a:pt x="1098" y="4"/>
                    </a:cubicBezTo>
                    <a:lnTo>
                      <a:pt x="1098" y="4"/>
                    </a:lnTo>
                    <a:cubicBezTo>
                      <a:pt x="1097" y="4"/>
                      <a:pt x="1096" y="3"/>
                      <a:pt x="1096" y="2"/>
                    </a:cubicBezTo>
                    <a:cubicBezTo>
                      <a:pt x="1096" y="1"/>
                      <a:pt x="1097" y="0"/>
                      <a:pt x="1098" y="0"/>
                    </a:cubicBezTo>
                    <a:close/>
                    <a:moveTo>
                      <a:pt x="1106" y="0"/>
                    </a:moveTo>
                    <a:lnTo>
                      <a:pt x="1106" y="0"/>
                    </a:lnTo>
                    <a:cubicBezTo>
                      <a:pt x="1107" y="0"/>
                      <a:pt x="1108" y="1"/>
                      <a:pt x="1108" y="2"/>
                    </a:cubicBezTo>
                    <a:cubicBezTo>
                      <a:pt x="1108" y="3"/>
                      <a:pt x="1107" y="4"/>
                      <a:pt x="1106" y="4"/>
                    </a:cubicBezTo>
                    <a:lnTo>
                      <a:pt x="1106" y="4"/>
                    </a:lnTo>
                    <a:cubicBezTo>
                      <a:pt x="1105" y="4"/>
                      <a:pt x="1104" y="3"/>
                      <a:pt x="1104" y="2"/>
                    </a:cubicBezTo>
                    <a:cubicBezTo>
                      <a:pt x="1104" y="1"/>
                      <a:pt x="1105" y="0"/>
                      <a:pt x="1106" y="0"/>
                    </a:cubicBezTo>
                    <a:close/>
                    <a:moveTo>
                      <a:pt x="1114" y="0"/>
                    </a:moveTo>
                    <a:lnTo>
                      <a:pt x="1114" y="0"/>
                    </a:lnTo>
                    <a:cubicBezTo>
                      <a:pt x="1115" y="0"/>
                      <a:pt x="1116" y="1"/>
                      <a:pt x="1116" y="2"/>
                    </a:cubicBezTo>
                    <a:cubicBezTo>
                      <a:pt x="1116" y="3"/>
                      <a:pt x="1115" y="4"/>
                      <a:pt x="1114" y="4"/>
                    </a:cubicBezTo>
                    <a:lnTo>
                      <a:pt x="1114" y="4"/>
                    </a:lnTo>
                    <a:cubicBezTo>
                      <a:pt x="1113" y="4"/>
                      <a:pt x="1112" y="3"/>
                      <a:pt x="1112" y="2"/>
                    </a:cubicBezTo>
                    <a:cubicBezTo>
                      <a:pt x="1112" y="1"/>
                      <a:pt x="1113" y="0"/>
                      <a:pt x="1114" y="0"/>
                    </a:cubicBezTo>
                    <a:close/>
                    <a:moveTo>
                      <a:pt x="1122" y="0"/>
                    </a:moveTo>
                    <a:lnTo>
                      <a:pt x="1122" y="0"/>
                    </a:lnTo>
                    <a:cubicBezTo>
                      <a:pt x="1123" y="0"/>
                      <a:pt x="1124" y="1"/>
                      <a:pt x="1124" y="2"/>
                    </a:cubicBezTo>
                    <a:cubicBezTo>
                      <a:pt x="1124" y="3"/>
                      <a:pt x="1123" y="4"/>
                      <a:pt x="1122" y="4"/>
                    </a:cubicBezTo>
                    <a:lnTo>
                      <a:pt x="1122" y="4"/>
                    </a:lnTo>
                    <a:cubicBezTo>
                      <a:pt x="1121" y="4"/>
                      <a:pt x="1120" y="3"/>
                      <a:pt x="1120" y="2"/>
                    </a:cubicBezTo>
                    <a:cubicBezTo>
                      <a:pt x="1120" y="1"/>
                      <a:pt x="1121" y="0"/>
                      <a:pt x="1122" y="0"/>
                    </a:cubicBezTo>
                    <a:close/>
                    <a:moveTo>
                      <a:pt x="1130" y="0"/>
                    </a:moveTo>
                    <a:lnTo>
                      <a:pt x="1130" y="0"/>
                    </a:lnTo>
                    <a:cubicBezTo>
                      <a:pt x="1131" y="0"/>
                      <a:pt x="1132" y="1"/>
                      <a:pt x="1132" y="2"/>
                    </a:cubicBezTo>
                    <a:cubicBezTo>
                      <a:pt x="1132" y="3"/>
                      <a:pt x="1131" y="4"/>
                      <a:pt x="1130" y="4"/>
                    </a:cubicBezTo>
                    <a:lnTo>
                      <a:pt x="1130" y="4"/>
                    </a:lnTo>
                    <a:cubicBezTo>
                      <a:pt x="1129" y="4"/>
                      <a:pt x="1128" y="3"/>
                      <a:pt x="1128" y="2"/>
                    </a:cubicBezTo>
                    <a:cubicBezTo>
                      <a:pt x="1128" y="1"/>
                      <a:pt x="1129" y="0"/>
                      <a:pt x="1130" y="0"/>
                    </a:cubicBezTo>
                    <a:close/>
                    <a:moveTo>
                      <a:pt x="1138" y="0"/>
                    </a:moveTo>
                    <a:lnTo>
                      <a:pt x="1138" y="0"/>
                    </a:lnTo>
                    <a:cubicBezTo>
                      <a:pt x="1139" y="0"/>
                      <a:pt x="1140" y="1"/>
                      <a:pt x="1140" y="2"/>
                    </a:cubicBezTo>
                    <a:cubicBezTo>
                      <a:pt x="1140" y="3"/>
                      <a:pt x="1139" y="4"/>
                      <a:pt x="1138" y="4"/>
                    </a:cubicBezTo>
                    <a:lnTo>
                      <a:pt x="1138" y="4"/>
                    </a:lnTo>
                    <a:cubicBezTo>
                      <a:pt x="1137" y="4"/>
                      <a:pt x="1136" y="3"/>
                      <a:pt x="1136" y="2"/>
                    </a:cubicBezTo>
                    <a:cubicBezTo>
                      <a:pt x="1136" y="1"/>
                      <a:pt x="1137" y="0"/>
                      <a:pt x="1138" y="0"/>
                    </a:cubicBezTo>
                    <a:close/>
                    <a:moveTo>
                      <a:pt x="1146" y="0"/>
                    </a:moveTo>
                    <a:lnTo>
                      <a:pt x="1146" y="0"/>
                    </a:lnTo>
                    <a:cubicBezTo>
                      <a:pt x="1147" y="0"/>
                      <a:pt x="1148" y="1"/>
                      <a:pt x="1148" y="2"/>
                    </a:cubicBezTo>
                    <a:cubicBezTo>
                      <a:pt x="1148" y="3"/>
                      <a:pt x="1147" y="4"/>
                      <a:pt x="1146" y="4"/>
                    </a:cubicBezTo>
                    <a:lnTo>
                      <a:pt x="1146" y="4"/>
                    </a:lnTo>
                    <a:cubicBezTo>
                      <a:pt x="1145" y="4"/>
                      <a:pt x="1144" y="3"/>
                      <a:pt x="1144" y="2"/>
                    </a:cubicBezTo>
                    <a:cubicBezTo>
                      <a:pt x="1144" y="1"/>
                      <a:pt x="1145" y="0"/>
                      <a:pt x="1146" y="0"/>
                    </a:cubicBezTo>
                    <a:close/>
                    <a:moveTo>
                      <a:pt x="1154" y="0"/>
                    </a:moveTo>
                    <a:lnTo>
                      <a:pt x="1154" y="0"/>
                    </a:lnTo>
                    <a:cubicBezTo>
                      <a:pt x="1155" y="0"/>
                      <a:pt x="1156" y="1"/>
                      <a:pt x="1156" y="2"/>
                    </a:cubicBezTo>
                    <a:cubicBezTo>
                      <a:pt x="1156" y="3"/>
                      <a:pt x="1155" y="4"/>
                      <a:pt x="1154" y="4"/>
                    </a:cubicBezTo>
                    <a:lnTo>
                      <a:pt x="1154" y="4"/>
                    </a:lnTo>
                    <a:cubicBezTo>
                      <a:pt x="1153" y="4"/>
                      <a:pt x="1152" y="3"/>
                      <a:pt x="1152" y="2"/>
                    </a:cubicBezTo>
                    <a:cubicBezTo>
                      <a:pt x="1152" y="1"/>
                      <a:pt x="1153" y="0"/>
                      <a:pt x="1154" y="0"/>
                    </a:cubicBezTo>
                    <a:close/>
                    <a:moveTo>
                      <a:pt x="1162" y="0"/>
                    </a:moveTo>
                    <a:lnTo>
                      <a:pt x="1162" y="0"/>
                    </a:lnTo>
                    <a:cubicBezTo>
                      <a:pt x="1163" y="0"/>
                      <a:pt x="1164" y="1"/>
                      <a:pt x="1164" y="2"/>
                    </a:cubicBezTo>
                    <a:cubicBezTo>
                      <a:pt x="1164" y="3"/>
                      <a:pt x="1163" y="4"/>
                      <a:pt x="1162" y="4"/>
                    </a:cubicBezTo>
                    <a:lnTo>
                      <a:pt x="1162" y="4"/>
                    </a:lnTo>
                    <a:cubicBezTo>
                      <a:pt x="1161" y="4"/>
                      <a:pt x="1160" y="3"/>
                      <a:pt x="1160" y="2"/>
                    </a:cubicBezTo>
                    <a:cubicBezTo>
                      <a:pt x="1160" y="1"/>
                      <a:pt x="1161" y="0"/>
                      <a:pt x="1162" y="0"/>
                    </a:cubicBezTo>
                    <a:close/>
                    <a:moveTo>
                      <a:pt x="1170" y="0"/>
                    </a:moveTo>
                    <a:lnTo>
                      <a:pt x="1170" y="0"/>
                    </a:lnTo>
                    <a:cubicBezTo>
                      <a:pt x="1171" y="0"/>
                      <a:pt x="1172" y="1"/>
                      <a:pt x="1172" y="2"/>
                    </a:cubicBezTo>
                    <a:cubicBezTo>
                      <a:pt x="1172" y="3"/>
                      <a:pt x="1171" y="4"/>
                      <a:pt x="1170" y="4"/>
                    </a:cubicBezTo>
                    <a:lnTo>
                      <a:pt x="1170" y="4"/>
                    </a:lnTo>
                    <a:cubicBezTo>
                      <a:pt x="1169" y="4"/>
                      <a:pt x="1168" y="3"/>
                      <a:pt x="1168" y="2"/>
                    </a:cubicBezTo>
                    <a:cubicBezTo>
                      <a:pt x="1168" y="1"/>
                      <a:pt x="1169" y="0"/>
                      <a:pt x="1170" y="0"/>
                    </a:cubicBezTo>
                    <a:close/>
                    <a:moveTo>
                      <a:pt x="1178" y="0"/>
                    </a:moveTo>
                    <a:lnTo>
                      <a:pt x="1178" y="0"/>
                    </a:lnTo>
                    <a:cubicBezTo>
                      <a:pt x="1179" y="0"/>
                      <a:pt x="1180" y="1"/>
                      <a:pt x="1180" y="2"/>
                    </a:cubicBezTo>
                    <a:cubicBezTo>
                      <a:pt x="1180" y="3"/>
                      <a:pt x="1179" y="4"/>
                      <a:pt x="1178" y="4"/>
                    </a:cubicBezTo>
                    <a:lnTo>
                      <a:pt x="1178" y="4"/>
                    </a:lnTo>
                    <a:cubicBezTo>
                      <a:pt x="1177" y="4"/>
                      <a:pt x="1176" y="3"/>
                      <a:pt x="1176" y="2"/>
                    </a:cubicBezTo>
                    <a:cubicBezTo>
                      <a:pt x="1176" y="1"/>
                      <a:pt x="1177" y="0"/>
                      <a:pt x="1178" y="0"/>
                    </a:cubicBezTo>
                    <a:close/>
                    <a:moveTo>
                      <a:pt x="1186" y="0"/>
                    </a:moveTo>
                    <a:lnTo>
                      <a:pt x="1186" y="0"/>
                    </a:lnTo>
                    <a:cubicBezTo>
                      <a:pt x="1187" y="0"/>
                      <a:pt x="1188" y="1"/>
                      <a:pt x="1188" y="2"/>
                    </a:cubicBezTo>
                    <a:cubicBezTo>
                      <a:pt x="1188" y="3"/>
                      <a:pt x="1187" y="4"/>
                      <a:pt x="1186" y="4"/>
                    </a:cubicBezTo>
                    <a:lnTo>
                      <a:pt x="1186" y="4"/>
                    </a:lnTo>
                    <a:cubicBezTo>
                      <a:pt x="1185" y="4"/>
                      <a:pt x="1184" y="3"/>
                      <a:pt x="1184" y="2"/>
                    </a:cubicBezTo>
                    <a:cubicBezTo>
                      <a:pt x="1184" y="1"/>
                      <a:pt x="1185" y="0"/>
                      <a:pt x="1186" y="0"/>
                    </a:cubicBezTo>
                    <a:close/>
                    <a:moveTo>
                      <a:pt x="1194" y="0"/>
                    </a:moveTo>
                    <a:lnTo>
                      <a:pt x="1194" y="0"/>
                    </a:lnTo>
                    <a:cubicBezTo>
                      <a:pt x="1195" y="0"/>
                      <a:pt x="1196" y="1"/>
                      <a:pt x="1196" y="2"/>
                    </a:cubicBezTo>
                    <a:cubicBezTo>
                      <a:pt x="1196" y="3"/>
                      <a:pt x="1195" y="4"/>
                      <a:pt x="1194" y="4"/>
                    </a:cubicBezTo>
                    <a:lnTo>
                      <a:pt x="1194" y="4"/>
                    </a:lnTo>
                    <a:cubicBezTo>
                      <a:pt x="1193" y="4"/>
                      <a:pt x="1192" y="3"/>
                      <a:pt x="1192" y="2"/>
                    </a:cubicBezTo>
                    <a:cubicBezTo>
                      <a:pt x="1192" y="1"/>
                      <a:pt x="1193" y="0"/>
                      <a:pt x="1194" y="0"/>
                    </a:cubicBezTo>
                    <a:close/>
                    <a:moveTo>
                      <a:pt x="1202" y="0"/>
                    </a:moveTo>
                    <a:lnTo>
                      <a:pt x="1202" y="0"/>
                    </a:lnTo>
                    <a:cubicBezTo>
                      <a:pt x="1203" y="0"/>
                      <a:pt x="1204" y="1"/>
                      <a:pt x="1204" y="2"/>
                    </a:cubicBezTo>
                    <a:cubicBezTo>
                      <a:pt x="1204" y="3"/>
                      <a:pt x="1203" y="4"/>
                      <a:pt x="1202" y="4"/>
                    </a:cubicBezTo>
                    <a:lnTo>
                      <a:pt x="1202" y="4"/>
                    </a:lnTo>
                    <a:cubicBezTo>
                      <a:pt x="1201" y="4"/>
                      <a:pt x="1200" y="3"/>
                      <a:pt x="1200" y="2"/>
                    </a:cubicBezTo>
                    <a:cubicBezTo>
                      <a:pt x="1200" y="1"/>
                      <a:pt x="1201" y="0"/>
                      <a:pt x="1202" y="0"/>
                    </a:cubicBezTo>
                    <a:close/>
                    <a:moveTo>
                      <a:pt x="1210" y="0"/>
                    </a:moveTo>
                    <a:lnTo>
                      <a:pt x="1210" y="0"/>
                    </a:lnTo>
                    <a:cubicBezTo>
                      <a:pt x="1212" y="0"/>
                      <a:pt x="1212" y="1"/>
                      <a:pt x="1212" y="2"/>
                    </a:cubicBezTo>
                    <a:cubicBezTo>
                      <a:pt x="1212" y="3"/>
                      <a:pt x="1212" y="4"/>
                      <a:pt x="1210" y="4"/>
                    </a:cubicBezTo>
                    <a:lnTo>
                      <a:pt x="1210" y="4"/>
                    </a:lnTo>
                    <a:cubicBezTo>
                      <a:pt x="1209" y="4"/>
                      <a:pt x="1208" y="3"/>
                      <a:pt x="1208" y="2"/>
                    </a:cubicBezTo>
                    <a:cubicBezTo>
                      <a:pt x="1208" y="1"/>
                      <a:pt x="1209" y="0"/>
                      <a:pt x="1210" y="0"/>
                    </a:cubicBezTo>
                    <a:close/>
                    <a:moveTo>
                      <a:pt x="1218" y="0"/>
                    </a:moveTo>
                    <a:lnTo>
                      <a:pt x="1218" y="0"/>
                    </a:lnTo>
                    <a:cubicBezTo>
                      <a:pt x="1220" y="0"/>
                      <a:pt x="1220" y="1"/>
                      <a:pt x="1220" y="2"/>
                    </a:cubicBezTo>
                    <a:cubicBezTo>
                      <a:pt x="1220" y="3"/>
                      <a:pt x="1220" y="4"/>
                      <a:pt x="1218" y="4"/>
                    </a:cubicBezTo>
                    <a:lnTo>
                      <a:pt x="1218" y="4"/>
                    </a:lnTo>
                    <a:cubicBezTo>
                      <a:pt x="1217" y="4"/>
                      <a:pt x="1216" y="3"/>
                      <a:pt x="1216" y="2"/>
                    </a:cubicBezTo>
                    <a:cubicBezTo>
                      <a:pt x="1216" y="1"/>
                      <a:pt x="1217" y="0"/>
                      <a:pt x="1218" y="0"/>
                    </a:cubicBezTo>
                    <a:close/>
                    <a:moveTo>
                      <a:pt x="1226" y="0"/>
                    </a:moveTo>
                    <a:lnTo>
                      <a:pt x="1226" y="0"/>
                    </a:lnTo>
                    <a:cubicBezTo>
                      <a:pt x="1228" y="0"/>
                      <a:pt x="1228" y="1"/>
                      <a:pt x="1228" y="2"/>
                    </a:cubicBezTo>
                    <a:cubicBezTo>
                      <a:pt x="1228" y="3"/>
                      <a:pt x="1228" y="4"/>
                      <a:pt x="1226" y="4"/>
                    </a:cubicBezTo>
                    <a:lnTo>
                      <a:pt x="1226" y="4"/>
                    </a:lnTo>
                    <a:cubicBezTo>
                      <a:pt x="1225" y="4"/>
                      <a:pt x="1224" y="3"/>
                      <a:pt x="1224" y="2"/>
                    </a:cubicBezTo>
                    <a:cubicBezTo>
                      <a:pt x="1224" y="1"/>
                      <a:pt x="1225" y="0"/>
                      <a:pt x="1226" y="0"/>
                    </a:cubicBezTo>
                    <a:close/>
                    <a:moveTo>
                      <a:pt x="1234" y="0"/>
                    </a:moveTo>
                    <a:lnTo>
                      <a:pt x="1234" y="0"/>
                    </a:lnTo>
                    <a:cubicBezTo>
                      <a:pt x="1236" y="0"/>
                      <a:pt x="1236" y="1"/>
                      <a:pt x="1236" y="2"/>
                    </a:cubicBezTo>
                    <a:cubicBezTo>
                      <a:pt x="1236" y="3"/>
                      <a:pt x="1236" y="4"/>
                      <a:pt x="1234" y="4"/>
                    </a:cubicBezTo>
                    <a:lnTo>
                      <a:pt x="1234" y="4"/>
                    </a:lnTo>
                    <a:cubicBezTo>
                      <a:pt x="1233" y="4"/>
                      <a:pt x="1232" y="3"/>
                      <a:pt x="1232" y="2"/>
                    </a:cubicBezTo>
                    <a:cubicBezTo>
                      <a:pt x="1232" y="1"/>
                      <a:pt x="1233" y="0"/>
                      <a:pt x="1234" y="0"/>
                    </a:cubicBezTo>
                    <a:close/>
                    <a:moveTo>
                      <a:pt x="1242" y="0"/>
                    </a:moveTo>
                    <a:lnTo>
                      <a:pt x="1242" y="0"/>
                    </a:lnTo>
                    <a:cubicBezTo>
                      <a:pt x="1244" y="0"/>
                      <a:pt x="1244" y="1"/>
                      <a:pt x="1244" y="2"/>
                    </a:cubicBezTo>
                    <a:cubicBezTo>
                      <a:pt x="1244" y="3"/>
                      <a:pt x="1244" y="4"/>
                      <a:pt x="1242" y="4"/>
                    </a:cubicBezTo>
                    <a:lnTo>
                      <a:pt x="1242" y="4"/>
                    </a:lnTo>
                    <a:cubicBezTo>
                      <a:pt x="1241" y="4"/>
                      <a:pt x="1240" y="3"/>
                      <a:pt x="1240" y="2"/>
                    </a:cubicBezTo>
                    <a:cubicBezTo>
                      <a:pt x="1240" y="1"/>
                      <a:pt x="1241" y="0"/>
                      <a:pt x="1242" y="0"/>
                    </a:cubicBezTo>
                    <a:close/>
                    <a:moveTo>
                      <a:pt x="1250" y="0"/>
                    </a:moveTo>
                    <a:lnTo>
                      <a:pt x="1250" y="0"/>
                    </a:lnTo>
                    <a:cubicBezTo>
                      <a:pt x="1252" y="0"/>
                      <a:pt x="1252" y="1"/>
                      <a:pt x="1252" y="2"/>
                    </a:cubicBezTo>
                    <a:cubicBezTo>
                      <a:pt x="1252" y="3"/>
                      <a:pt x="1252" y="4"/>
                      <a:pt x="1250" y="4"/>
                    </a:cubicBezTo>
                    <a:lnTo>
                      <a:pt x="1250" y="4"/>
                    </a:lnTo>
                    <a:cubicBezTo>
                      <a:pt x="1249" y="4"/>
                      <a:pt x="1248" y="3"/>
                      <a:pt x="1248" y="2"/>
                    </a:cubicBezTo>
                    <a:cubicBezTo>
                      <a:pt x="1248" y="1"/>
                      <a:pt x="1249" y="0"/>
                      <a:pt x="1250" y="0"/>
                    </a:cubicBezTo>
                    <a:close/>
                    <a:moveTo>
                      <a:pt x="1258" y="0"/>
                    </a:moveTo>
                    <a:lnTo>
                      <a:pt x="1258" y="0"/>
                    </a:lnTo>
                    <a:cubicBezTo>
                      <a:pt x="1260" y="0"/>
                      <a:pt x="1260" y="1"/>
                      <a:pt x="1260" y="2"/>
                    </a:cubicBezTo>
                    <a:cubicBezTo>
                      <a:pt x="1260" y="3"/>
                      <a:pt x="1260" y="4"/>
                      <a:pt x="1258" y="4"/>
                    </a:cubicBezTo>
                    <a:lnTo>
                      <a:pt x="1258" y="4"/>
                    </a:lnTo>
                    <a:cubicBezTo>
                      <a:pt x="1257" y="4"/>
                      <a:pt x="1256" y="3"/>
                      <a:pt x="1256" y="2"/>
                    </a:cubicBezTo>
                    <a:cubicBezTo>
                      <a:pt x="1256" y="1"/>
                      <a:pt x="1257" y="0"/>
                      <a:pt x="1258" y="0"/>
                    </a:cubicBezTo>
                    <a:close/>
                    <a:moveTo>
                      <a:pt x="1266" y="0"/>
                    </a:moveTo>
                    <a:lnTo>
                      <a:pt x="1266" y="0"/>
                    </a:lnTo>
                    <a:cubicBezTo>
                      <a:pt x="1268" y="0"/>
                      <a:pt x="1268" y="1"/>
                      <a:pt x="1268" y="2"/>
                    </a:cubicBezTo>
                    <a:cubicBezTo>
                      <a:pt x="1268" y="3"/>
                      <a:pt x="1268" y="4"/>
                      <a:pt x="1266" y="4"/>
                    </a:cubicBezTo>
                    <a:lnTo>
                      <a:pt x="1266" y="4"/>
                    </a:lnTo>
                    <a:cubicBezTo>
                      <a:pt x="1265" y="4"/>
                      <a:pt x="1264" y="3"/>
                      <a:pt x="1264" y="2"/>
                    </a:cubicBezTo>
                    <a:cubicBezTo>
                      <a:pt x="1264" y="1"/>
                      <a:pt x="1265" y="0"/>
                      <a:pt x="1266" y="0"/>
                    </a:cubicBezTo>
                    <a:close/>
                    <a:moveTo>
                      <a:pt x="1274" y="0"/>
                    </a:moveTo>
                    <a:lnTo>
                      <a:pt x="1274" y="0"/>
                    </a:lnTo>
                    <a:cubicBezTo>
                      <a:pt x="1276" y="0"/>
                      <a:pt x="1276" y="1"/>
                      <a:pt x="1276" y="2"/>
                    </a:cubicBezTo>
                    <a:cubicBezTo>
                      <a:pt x="1276" y="3"/>
                      <a:pt x="1276" y="4"/>
                      <a:pt x="1274" y="4"/>
                    </a:cubicBezTo>
                    <a:lnTo>
                      <a:pt x="1274" y="4"/>
                    </a:lnTo>
                    <a:cubicBezTo>
                      <a:pt x="1273" y="4"/>
                      <a:pt x="1272" y="3"/>
                      <a:pt x="1272" y="2"/>
                    </a:cubicBezTo>
                    <a:cubicBezTo>
                      <a:pt x="1272" y="1"/>
                      <a:pt x="1273" y="0"/>
                      <a:pt x="1274" y="0"/>
                    </a:cubicBezTo>
                    <a:close/>
                    <a:moveTo>
                      <a:pt x="1282" y="0"/>
                    </a:moveTo>
                    <a:lnTo>
                      <a:pt x="1282" y="0"/>
                    </a:lnTo>
                    <a:cubicBezTo>
                      <a:pt x="1284" y="0"/>
                      <a:pt x="1284" y="1"/>
                      <a:pt x="1284" y="2"/>
                    </a:cubicBezTo>
                    <a:cubicBezTo>
                      <a:pt x="1284" y="3"/>
                      <a:pt x="1284" y="4"/>
                      <a:pt x="1282" y="4"/>
                    </a:cubicBezTo>
                    <a:lnTo>
                      <a:pt x="1282" y="4"/>
                    </a:lnTo>
                    <a:cubicBezTo>
                      <a:pt x="1281" y="4"/>
                      <a:pt x="1280" y="3"/>
                      <a:pt x="1280" y="2"/>
                    </a:cubicBezTo>
                    <a:cubicBezTo>
                      <a:pt x="1280" y="1"/>
                      <a:pt x="1281" y="0"/>
                      <a:pt x="1282" y="0"/>
                    </a:cubicBezTo>
                    <a:close/>
                    <a:moveTo>
                      <a:pt x="1290" y="0"/>
                    </a:moveTo>
                    <a:lnTo>
                      <a:pt x="1290" y="0"/>
                    </a:lnTo>
                    <a:cubicBezTo>
                      <a:pt x="1292" y="0"/>
                      <a:pt x="1292" y="1"/>
                      <a:pt x="1292" y="2"/>
                    </a:cubicBezTo>
                    <a:cubicBezTo>
                      <a:pt x="1292" y="3"/>
                      <a:pt x="1292" y="4"/>
                      <a:pt x="1290" y="4"/>
                    </a:cubicBezTo>
                    <a:lnTo>
                      <a:pt x="1290" y="4"/>
                    </a:lnTo>
                    <a:cubicBezTo>
                      <a:pt x="1289" y="4"/>
                      <a:pt x="1288" y="3"/>
                      <a:pt x="1288" y="2"/>
                    </a:cubicBezTo>
                    <a:cubicBezTo>
                      <a:pt x="1288" y="1"/>
                      <a:pt x="1289" y="0"/>
                      <a:pt x="1290" y="0"/>
                    </a:cubicBezTo>
                    <a:close/>
                    <a:moveTo>
                      <a:pt x="1298" y="0"/>
                    </a:moveTo>
                    <a:lnTo>
                      <a:pt x="1298" y="0"/>
                    </a:lnTo>
                    <a:cubicBezTo>
                      <a:pt x="1300" y="0"/>
                      <a:pt x="1300" y="1"/>
                      <a:pt x="1300" y="2"/>
                    </a:cubicBezTo>
                    <a:cubicBezTo>
                      <a:pt x="1300" y="3"/>
                      <a:pt x="1300" y="4"/>
                      <a:pt x="1298" y="4"/>
                    </a:cubicBezTo>
                    <a:lnTo>
                      <a:pt x="1298" y="4"/>
                    </a:lnTo>
                    <a:cubicBezTo>
                      <a:pt x="1297" y="4"/>
                      <a:pt x="1296" y="3"/>
                      <a:pt x="1296" y="2"/>
                    </a:cubicBezTo>
                    <a:cubicBezTo>
                      <a:pt x="1296" y="1"/>
                      <a:pt x="1297" y="0"/>
                      <a:pt x="1298" y="0"/>
                    </a:cubicBezTo>
                    <a:close/>
                    <a:moveTo>
                      <a:pt x="1306" y="0"/>
                    </a:moveTo>
                    <a:lnTo>
                      <a:pt x="1306" y="0"/>
                    </a:lnTo>
                    <a:cubicBezTo>
                      <a:pt x="1308" y="0"/>
                      <a:pt x="1308" y="1"/>
                      <a:pt x="1308" y="2"/>
                    </a:cubicBezTo>
                    <a:cubicBezTo>
                      <a:pt x="1308" y="3"/>
                      <a:pt x="1308" y="4"/>
                      <a:pt x="1306" y="4"/>
                    </a:cubicBezTo>
                    <a:lnTo>
                      <a:pt x="1306" y="4"/>
                    </a:lnTo>
                    <a:cubicBezTo>
                      <a:pt x="1305" y="4"/>
                      <a:pt x="1304" y="3"/>
                      <a:pt x="1304" y="2"/>
                    </a:cubicBezTo>
                    <a:cubicBezTo>
                      <a:pt x="1304" y="1"/>
                      <a:pt x="1305" y="0"/>
                      <a:pt x="1306" y="0"/>
                    </a:cubicBezTo>
                    <a:close/>
                    <a:moveTo>
                      <a:pt x="1314" y="0"/>
                    </a:moveTo>
                    <a:lnTo>
                      <a:pt x="1314" y="0"/>
                    </a:lnTo>
                    <a:cubicBezTo>
                      <a:pt x="1316" y="0"/>
                      <a:pt x="1316" y="1"/>
                      <a:pt x="1316" y="2"/>
                    </a:cubicBezTo>
                    <a:cubicBezTo>
                      <a:pt x="1316" y="3"/>
                      <a:pt x="1316" y="4"/>
                      <a:pt x="1314" y="4"/>
                    </a:cubicBezTo>
                    <a:lnTo>
                      <a:pt x="1314" y="4"/>
                    </a:lnTo>
                    <a:cubicBezTo>
                      <a:pt x="1313" y="4"/>
                      <a:pt x="1312" y="3"/>
                      <a:pt x="1312" y="2"/>
                    </a:cubicBezTo>
                    <a:cubicBezTo>
                      <a:pt x="1312" y="1"/>
                      <a:pt x="1313" y="0"/>
                      <a:pt x="1314" y="0"/>
                    </a:cubicBezTo>
                    <a:close/>
                    <a:moveTo>
                      <a:pt x="1322" y="0"/>
                    </a:moveTo>
                    <a:lnTo>
                      <a:pt x="1322" y="0"/>
                    </a:lnTo>
                    <a:cubicBezTo>
                      <a:pt x="1324" y="0"/>
                      <a:pt x="1324" y="1"/>
                      <a:pt x="1324" y="2"/>
                    </a:cubicBezTo>
                    <a:cubicBezTo>
                      <a:pt x="1324" y="3"/>
                      <a:pt x="1324" y="4"/>
                      <a:pt x="1322" y="4"/>
                    </a:cubicBezTo>
                    <a:lnTo>
                      <a:pt x="1322" y="4"/>
                    </a:lnTo>
                    <a:cubicBezTo>
                      <a:pt x="1321" y="4"/>
                      <a:pt x="1320" y="3"/>
                      <a:pt x="1320" y="2"/>
                    </a:cubicBezTo>
                    <a:cubicBezTo>
                      <a:pt x="1320" y="1"/>
                      <a:pt x="1321" y="0"/>
                      <a:pt x="1322" y="0"/>
                    </a:cubicBezTo>
                    <a:close/>
                    <a:moveTo>
                      <a:pt x="1330" y="0"/>
                    </a:moveTo>
                    <a:lnTo>
                      <a:pt x="1330" y="0"/>
                    </a:lnTo>
                    <a:cubicBezTo>
                      <a:pt x="1332" y="0"/>
                      <a:pt x="1332" y="1"/>
                      <a:pt x="1332" y="2"/>
                    </a:cubicBezTo>
                    <a:cubicBezTo>
                      <a:pt x="1332" y="3"/>
                      <a:pt x="1332" y="4"/>
                      <a:pt x="1330" y="4"/>
                    </a:cubicBezTo>
                    <a:lnTo>
                      <a:pt x="1330" y="4"/>
                    </a:lnTo>
                    <a:cubicBezTo>
                      <a:pt x="1329" y="4"/>
                      <a:pt x="1328" y="3"/>
                      <a:pt x="1328" y="2"/>
                    </a:cubicBezTo>
                    <a:cubicBezTo>
                      <a:pt x="1328" y="1"/>
                      <a:pt x="1329" y="0"/>
                      <a:pt x="1330" y="0"/>
                    </a:cubicBezTo>
                    <a:close/>
                    <a:moveTo>
                      <a:pt x="1338" y="0"/>
                    </a:moveTo>
                    <a:lnTo>
                      <a:pt x="1338" y="0"/>
                    </a:lnTo>
                    <a:cubicBezTo>
                      <a:pt x="1340" y="0"/>
                      <a:pt x="1340" y="1"/>
                      <a:pt x="1340" y="2"/>
                    </a:cubicBezTo>
                    <a:cubicBezTo>
                      <a:pt x="1340" y="3"/>
                      <a:pt x="1340" y="4"/>
                      <a:pt x="1338" y="4"/>
                    </a:cubicBezTo>
                    <a:lnTo>
                      <a:pt x="1338" y="4"/>
                    </a:lnTo>
                    <a:cubicBezTo>
                      <a:pt x="1337" y="4"/>
                      <a:pt x="1336" y="3"/>
                      <a:pt x="1336" y="2"/>
                    </a:cubicBezTo>
                    <a:cubicBezTo>
                      <a:pt x="1336" y="1"/>
                      <a:pt x="1337" y="0"/>
                      <a:pt x="1338" y="0"/>
                    </a:cubicBezTo>
                    <a:close/>
                    <a:moveTo>
                      <a:pt x="1346" y="0"/>
                    </a:moveTo>
                    <a:lnTo>
                      <a:pt x="1346" y="0"/>
                    </a:lnTo>
                    <a:cubicBezTo>
                      <a:pt x="1348" y="0"/>
                      <a:pt x="1348" y="1"/>
                      <a:pt x="1348" y="2"/>
                    </a:cubicBezTo>
                    <a:cubicBezTo>
                      <a:pt x="1348" y="3"/>
                      <a:pt x="1348" y="4"/>
                      <a:pt x="1346" y="4"/>
                    </a:cubicBezTo>
                    <a:lnTo>
                      <a:pt x="1346" y="4"/>
                    </a:lnTo>
                    <a:cubicBezTo>
                      <a:pt x="1345" y="4"/>
                      <a:pt x="1344" y="3"/>
                      <a:pt x="1344" y="2"/>
                    </a:cubicBezTo>
                    <a:cubicBezTo>
                      <a:pt x="1344" y="1"/>
                      <a:pt x="1345" y="0"/>
                      <a:pt x="1346" y="0"/>
                    </a:cubicBezTo>
                    <a:close/>
                    <a:moveTo>
                      <a:pt x="1354" y="0"/>
                    </a:moveTo>
                    <a:lnTo>
                      <a:pt x="1354" y="0"/>
                    </a:lnTo>
                    <a:cubicBezTo>
                      <a:pt x="1356" y="0"/>
                      <a:pt x="1356" y="1"/>
                      <a:pt x="1356" y="2"/>
                    </a:cubicBezTo>
                    <a:cubicBezTo>
                      <a:pt x="1356" y="3"/>
                      <a:pt x="1356" y="4"/>
                      <a:pt x="1354" y="4"/>
                    </a:cubicBezTo>
                    <a:lnTo>
                      <a:pt x="1354" y="4"/>
                    </a:lnTo>
                    <a:cubicBezTo>
                      <a:pt x="1353" y="4"/>
                      <a:pt x="1352" y="3"/>
                      <a:pt x="1352" y="2"/>
                    </a:cubicBezTo>
                    <a:cubicBezTo>
                      <a:pt x="1352" y="1"/>
                      <a:pt x="1353" y="0"/>
                      <a:pt x="1354" y="0"/>
                    </a:cubicBezTo>
                    <a:close/>
                    <a:moveTo>
                      <a:pt x="1362" y="0"/>
                    </a:moveTo>
                    <a:lnTo>
                      <a:pt x="1362" y="0"/>
                    </a:lnTo>
                    <a:cubicBezTo>
                      <a:pt x="1364" y="0"/>
                      <a:pt x="1364" y="1"/>
                      <a:pt x="1364" y="2"/>
                    </a:cubicBezTo>
                    <a:cubicBezTo>
                      <a:pt x="1364" y="3"/>
                      <a:pt x="1364" y="4"/>
                      <a:pt x="1362" y="4"/>
                    </a:cubicBezTo>
                    <a:lnTo>
                      <a:pt x="1362" y="4"/>
                    </a:lnTo>
                    <a:cubicBezTo>
                      <a:pt x="1361" y="4"/>
                      <a:pt x="1360" y="3"/>
                      <a:pt x="1360" y="2"/>
                    </a:cubicBezTo>
                    <a:cubicBezTo>
                      <a:pt x="1360" y="1"/>
                      <a:pt x="1361" y="0"/>
                      <a:pt x="1362" y="0"/>
                    </a:cubicBezTo>
                    <a:close/>
                    <a:moveTo>
                      <a:pt x="1370" y="0"/>
                    </a:moveTo>
                    <a:lnTo>
                      <a:pt x="1370" y="0"/>
                    </a:lnTo>
                    <a:cubicBezTo>
                      <a:pt x="1372" y="0"/>
                      <a:pt x="1372" y="1"/>
                      <a:pt x="1372" y="2"/>
                    </a:cubicBezTo>
                    <a:cubicBezTo>
                      <a:pt x="1372" y="3"/>
                      <a:pt x="1372" y="4"/>
                      <a:pt x="1370" y="4"/>
                    </a:cubicBezTo>
                    <a:lnTo>
                      <a:pt x="1370" y="4"/>
                    </a:lnTo>
                    <a:cubicBezTo>
                      <a:pt x="1369" y="4"/>
                      <a:pt x="1368" y="3"/>
                      <a:pt x="1368" y="2"/>
                    </a:cubicBezTo>
                    <a:cubicBezTo>
                      <a:pt x="1368" y="1"/>
                      <a:pt x="1369" y="0"/>
                      <a:pt x="1370" y="0"/>
                    </a:cubicBezTo>
                    <a:close/>
                    <a:moveTo>
                      <a:pt x="1378" y="0"/>
                    </a:moveTo>
                    <a:lnTo>
                      <a:pt x="1378" y="0"/>
                    </a:lnTo>
                    <a:cubicBezTo>
                      <a:pt x="1380" y="0"/>
                      <a:pt x="1380" y="1"/>
                      <a:pt x="1380" y="2"/>
                    </a:cubicBezTo>
                    <a:cubicBezTo>
                      <a:pt x="1380" y="3"/>
                      <a:pt x="1380" y="4"/>
                      <a:pt x="1378" y="4"/>
                    </a:cubicBezTo>
                    <a:lnTo>
                      <a:pt x="1378" y="4"/>
                    </a:lnTo>
                    <a:cubicBezTo>
                      <a:pt x="1377" y="4"/>
                      <a:pt x="1376" y="3"/>
                      <a:pt x="1376" y="2"/>
                    </a:cubicBezTo>
                    <a:cubicBezTo>
                      <a:pt x="1376" y="1"/>
                      <a:pt x="1377" y="0"/>
                      <a:pt x="1378" y="0"/>
                    </a:cubicBezTo>
                    <a:close/>
                    <a:moveTo>
                      <a:pt x="1386" y="0"/>
                    </a:moveTo>
                    <a:lnTo>
                      <a:pt x="1386" y="0"/>
                    </a:lnTo>
                    <a:cubicBezTo>
                      <a:pt x="1388" y="0"/>
                      <a:pt x="1388" y="1"/>
                      <a:pt x="1388" y="2"/>
                    </a:cubicBezTo>
                    <a:cubicBezTo>
                      <a:pt x="1388" y="3"/>
                      <a:pt x="1388" y="4"/>
                      <a:pt x="1386" y="4"/>
                    </a:cubicBezTo>
                    <a:lnTo>
                      <a:pt x="1386" y="4"/>
                    </a:lnTo>
                    <a:cubicBezTo>
                      <a:pt x="1385" y="4"/>
                      <a:pt x="1384" y="3"/>
                      <a:pt x="1384" y="2"/>
                    </a:cubicBezTo>
                    <a:cubicBezTo>
                      <a:pt x="1384" y="1"/>
                      <a:pt x="1385" y="0"/>
                      <a:pt x="1386" y="0"/>
                    </a:cubicBezTo>
                    <a:close/>
                    <a:moveTo>
                      <a:pt x="1394" y="0"/>
                    </a:moveTo>
                    <a:lnTo>
                      <a:pt x="1394" y="0"/>
                    </a:lnTo>
                    <a:cubicBezTo>
                      <a:pt x="1396" y="0"/>
                      <a:pt x="1396" y="1"/>
                      <a:pt x="1396" y="2"/>
                    </a:cubicBezTo>
                    <a:cubicBezTo>
                      <a:pt x="1396" y="3"/>
                      <a:pt x="1396" y="4"/>
                      <a:pt x="1394" y="4"/>
                    </a:cubicBezTo>
                    <a:lnTo>
                      <a:pt x="1394" y="4"/>
                    </a:lnTo>
                    <a:cubicBezTo>
                      <a:pt x="1393" y="4"/>
                      <a:pt x="1392" y="3"/>
                      <a:pt x="1392" y="2"/>
                    </a:cubicBezTo>
                    <a:cubicBezTo>
                      <a:pt x="1392" y="1"/>
                      <a:pt x="1393" y="0"/>
                      <a:pt x="1394" y="0"/>
                    </a:cubicBezTo>
                    <a:close/>
                    <a:moveTo>
                      <a:pt x="1402" y="0"/>
                    </a:moveTo>
                    <a:lnTo>
                      <a:pt x="1402" y="0"/>
                    </a:lnTo>
                    <a:cubicBezTo>
                      <a:pt x="1404" y="0"/>
                      <a:pt x="1404" y="1"/>
                      <a:pt x="1404" y="2"/>
                    </a:cubicBezTo>
                    <a:cubicBezTo>
                      <a:pt x="1404" y="3"/>
                      <a:pt x="1404" y="4"/>
                      <a:pt x="1402" y="4"/>
                    </a:cubicBezTo>
                    <a:lnTo>
                      <a:pt x="1402" y="4"/>
                    </a:lnTo>
                    <a:cubicBezTo>
                      <a:pt x="1401" y="4"/>
                      <a:pt x="1400" y="3"/>
                      <a:pt x="1400" y="2"/>
                    </a:cubicBezTo>
                    <a:cubicBezTo>
                      <a:pt x="1400" y="1"/>
                      <a:pt x="1401" y="0"/>
                      <a:pt x="1402" y="0"/>
                    </a:cubicBezTo>
                    <a:close/>
                    <a:moveTo>
                      <a:pt x="1410" y="0"/>
                    </a:moveTo>
                    <a:lnTo>
                      <a:pt x="1410" y="0"/>
                    </a:lnTo>
                    <a:cubicBezTo>
                      <a:pt x="1412" y="0"/>
                      <a:pt x="1412" y="1"/>
                      <a:pt x="1412" y="2"/>
                    </a:cubicBezTo>
                    <a:cubicBezTo>
                      <a:pt x="1412" y="3"/>
                      <a:pt x="1412" y="4"/>
                      <a:pt x="1410" y="4"/>
                    </a:cubicBezTo>
                    <a:lnTo>
                      <a:pt x="1410" y="4"/>
                    </a:lnTo>
                    <a:cubicBezTo>
                      <a:pt x="1409" y="4"/>
                      <a:pt x="1408" y="3"/>
                      <a:pt x="1408" y="2"/>
                    </a:cubicBezTo>
                    <a:cubicBezTo>
                      <a:pt x="1408" y="1"/>
                      <a:pt x="1409" y="0"/>
                      <a:pt x="1410" y="0"/>
                    </a:cubicBezTo>
                    <a:close/>
                    <a:moveTo>
                      <a:pt x="1418" y="0"/>
                    </a:moveTo>
                    <a:lnTo>
                      <a:pt x="1418" y="0"/>
                    </a:lnTo>
                    <a:cubicBezTo>
                      <a:pt x="1420" y="0"/>
                      <a:pt x="1420" y="1"/>
                      <a:pt x="1420" y="2"/>
                    </a:cubicBezTo>
                    <a:cubicBezTo>
                      <a:pt x="1420" y="3"/>
                      <a:pt x="1420" y="4"/>
                      <a:pt x="1418" y="4"/>
                    </a:cubicBezTo>
                    <a:lnTo>
                      <a:pt x="1418" y="4"/>
                    </a:lnTo>
                    <a:cubicBezTo>
                      <a:pt x="1417" y="4"/>
                      <a:pt x="1416" y="3"/>
                      <a:pt x="1416" y="2"/>
                    </a:cubicBezTo>
                    <a:cubicBezTo>
                      <a:pt x="1416" y="1"/>
                      <a:pt x="1417" y="0"/>
                      <a:pt x="1418" y="0"/>
                    </a:cubicBezTo>
                    <a:close/>
                    <a:moveTo>
                      <a:pt x="1426" y="0"/>
                    </a:moveTo>
                    <a:lnTo>
                      <a:pt x="1427" y="0"/>
                    </a:lnTo>
                    <a:cubicBezTo>
                      <a:pt x="1428" y="0"/>
                      <a:pt x="1429" y="1"/>
                      <a:pt x="1429" y="2"/>
                    </a:cubicBezTo>
                    <a:cubicBezTo>
                      <a:pt x="1429" y="3"/>
                      <a:pt x="1428" y="4"/>
                      <a:pt x="1427" y="4"/>
                    </a:cubicBezTo>
                    <a:lnTo>
                      <a:pt x="1426" y="4"/>
                    </a:lnTo>
                    <a:cubicBezTo>
                      <a:pt x="1425" y="4"/>
                      <a:pt x="1424" y="3"/>
                      <a:pt x="1424" y="2"/>
                    </a:cubicBezTo>
                    <a:cubicBezTo>
                      <a:pt x="1424" y="1"/>
                      <a:pt x="1425" y="0"/>
                      <a:pt x="1426" y="0"/>
                    </a:cubicBezTo>
                    <a:close/>
                    <a:moveTo>
                      <a:pt x="1435" y="0"/>
                    </a:moveTo>
                    <a:lnTo>
                      <a:pt x="1435" y="0"/>
                    </a:lnTo>
                    <a:cubicBezTo>
                      <a:pt x="1436" y="0"/>
                      <a:pt x="1437" y="1"/>
                      <a:pt x="1437" y="2"/>
                    </a:cubicBezTo>
                    <a:cubicBezTo>
                      <a:pt x="1437" y="3"/>
                      <a:pt x="1436" y="4"/>
                      <a:pt x="1435" y="4"/>
                    </a:cubicBezTo>
                    <a:lnTo>
                      <a:pt x="1435" y="4"/>
                    </a:lnTo>
                    <a:cubicBezTo>
                      <a:pt x="1433" y="4"/>
                      <a:pt x="1433" y="3"/>
                      <a:pt x="1433" y="2"/>
                    </a:cubicBezTo>
                    <a:cubicBezTo>
                      <a:pt x="1433" y="1"/>
                      <a:pt x="1433" y="0"/>
                      <a:pt x="1435" y="0"/>
                    </a:cubicBezTo>
                    <a:close/>
                    <a:moveTo>
                      <a:pt x="1443" y="0"/>
                    </a:moveTo>
                    <a:lnTo>
                      <a:pt x="1443" y="0"/>
                    </a:lnTo>
                    <a:cubicBezTo>
                      <a:pt x="1444" y="0"/>
                      <a:pt x="1445" y="1"/>
                      <a:pt x="1445" y="2"/>
                    </a:cubicBezTo>
                    <a:cubicBezTo>
                      <a:pt x="1445" y="3"/>
                      <a:pt x="1444" y="4"/>
                      <a:pt x="1443" y="4"/>
                    </a:cubicBezTo>
                    <a:lnTo>
                      <a:pt x="1443" y="4"/>
                    </a:lnTo>
                    <a:cubicBezTo>
                      <a:pt x="1441" y="4"/>
                      <a:pt x="1441" y="3"/>
                      <a:pt x="1441" y="2"/>
                    </a:cubicBezTo>
                    <a:cubicBezTo>
                      <a:pt x="1441" y="1"/>
                      <a:pt x="1441" y="0"/>
                      <a:pt x="1443" y="0"/>
                    </a:cubicBezTo>
                    <a:close/>
                    <a:moveTo>
                      <a:pt x="1451" y="0"/>
                    </a:moveTo>
                    <a:lnTo>
                      <a:pt x="1451" y="0"/>
                    </a:lnTo>
                    <a:cubicBezTo>
                      <a:pt x="1452" y="0"/>
                      <a:pt x="1453" y="1"/>
                      <a:pt x="1453" y="2"/>
                    </a:cubicBezTo>
                    <a:cubicBezTo>
                      <a:pt x="1453" y="3"/>
                      <a:pt x="1452" y="4"/>
                      <a:pt x="1451" y="4"/>
                    </a:cubicBezTo>
                    <a:lnTo>
                      <a:pt x="1451" y="4"/>
                    </a:lnTo>
                    <a:cubicBezTo>
                      <a:pt x="1449" y="4"/>
                      <a:pt x="1449" y="3"/>
                      <a:pt x="1449" y="2"/>
                    </a:cubicBezTo>
                    <a:cubicBezTo>
                      <a:pt x="1449" y="1"/>
                      <a:pt x="1449" y="0"/>
                      <a:pt x="1451" y="0"/>
                    </a:cubicBezTo>
                    <a:close/>
                    <a:moveTo>
                      <a:pt x="1459" y="0"/>
                    </a:moveTo>
                    <a:lnTo>
                      <a:pt x="1459" y="0"/>
                    </a:lnTo>
                    <a:cubicBezTo>
                      <a:pt x="1460" y="0"/>
                      <a:pt x="1461" y="1"/>
                      <a:pt x="1461" y="2"/>
                    </a:cubicBezTo>
                    <a:cubicBezTo>
                      <a:pt x="1461" y="3"/>
                      <a:pt x="1460" y="4"/>
                      <a:pt x="1459" y="4"/>
                    </a:cubicBezTo>
                    <a:lnTo>
                      <a:pt x="1459" y="4"/>
                    </a:lnTo>
                    <a:cubicBezTo>
                      <a:pt x="1457" y="4"/>
                      <a:pt x="1457" y="3"/>
                      <a:pt x="1457" y="2"/>
                    </a:cubicBezTo>
                    <a:cubicBezTo>
                      <a:pt x="1457" y="1"/>
                      <a:pt x="1457" y="0"/>
                      <a:pt x="1459" y="0"/>
                    </a:cubicBezTo>
                    <a:close/>
                    <a:moveTo>
                      <a:pt x="1467" y="0"/>
                    </a:moveTo>
                    <a:lnTo>
                      <a:pt x="1467" y="0"/>
                    </a:lnTo>
                    <a:cubicBezTo>
                      <a:pt x="1468" y="0"/>
                      <a:pt x="1469" y="1"/>
                      <a:pt x="1469" y="2"/>
                    </a:cubicBezTo>
                    <a:cubicBezTo>
                      <a:pt x="1469" y="3"/>
                      <a:pt x="1468" y="4"/>
                      <a:pt x="1467" y="4"/>
                    </a:cubicBezTo>
                    <a:lnTo>
                      <a:pt x="1467" y="4"/>
                    </a:lnTo>
                    <a:cubicBezTo>
                      <a:pt x="1465" y="4"/>
                      <a:pt x="1465" y="3"/>
                      <a:pt x="1465" y="2"/>
                    </a:cubicBezTo>
                    <a:cubicBezTo>
                      <a:pt x="1465" y="1"/>
                      <a:pt x="1465" y="0"/>
                      <a:pt x="1467" y="0"/>
                    </a:cubicBezTo>
                    <a:close/>
                    <a:moveTo>
                      <a:pt x="1475" y="0"/>
                    </a:moveTo>
                    <a:lnTo>
                      <a:pt x="1475" y="0"/>
                    </a:lnTo>
                    <a:cubicBezTo>
                      <a:pt x="1476" y="0"/>
                      <a:pt x="1477" y="1"/>
                      <a:pt x="1477" y="2"/>
                    </a:cubicBezTo>
                    <a:cubicBezTo>
                      <a:pt x="1477" y="3"/>
                      <a:pt x="1476" y="4"/>
                      <a:pt x="1475" y="4"/>
                    </a:cubicBezTo>
                    <a:lnTo>
                      <a:pt x="1475" y="4"/>
                    </a:lnTo>
                    <a:cubicBezTo>
                      <a:pt x="1473" y="4"/>
                      <a:pt x="1473" y="3"/>
                      <a:pt x="1473" y="2"/>
                    </a:cubicBezTo>
                    <a:cubicBezTo>
                      <a:pt x="1473" y="1"/>
                      <a:pt x="1473" y="0"/>
                      <a:pt x="1475" y="0"/>
                    </a:cubicBezTo>
                    <a:close/>
                    <a:moveTo>
                      <a:pt x="1483" y="0"/>
                    </a:moveTo>
                    <a:lnTo>
                      <a:pt x="1483" y="0"/>
                    </a:lnTo>
                    <a:cubicBezTo>
                      <a:pt x="1484" y="0"/>
                      <a:pt x="1485" y="1"/>
                      <a:pt x="1485" y="2"/>
                    </a:cubicBezTo>
                    <a:cubicBezTo>
                      <a:pt x="1485" y="3"/>
                      <a:pt x="1484" y="4"/>
                      <a:pt x="1483" y="4"/>
                    </a:cubicBezTo>
                    <a:lnTo>
                      <a:pt x="1483" y="4"/>
                    </a:lnTo>
                    <a:cubicBezTo>
                      <a:pt x="1481" y="4"/>
                      <a:pt x="1481" y="3"/>
                      <a:pt x="1481" y="2"/>
                    </a:cubicBezTo>
                    <a:cubicBezTo>
                      <a:pt x="1481" y="1"/>
                      <a:pt x="1481" y="0"/>
                      <a:pt x="1483" y="0"/>
                    </a:cubicBezTo>
                    <a:close/>
                    <a:moveTo>
                      <a:pt x="1491" y="0"/>
                    </a:moveTo>
                    <a:lnTo>
                      <a:pt x="1491" y="0"/>
                    </a:lnTo>
                    <a:cubicBezTo>
                      <a:pt x="1492" y="0"/>
                      <a:pt x="1493" y="1"/>
                      <a:pt x="1493" y="2"/>
                    </a:cubicBezTo>
                    <a:cubicBezTo>
                      <a:pt x="1493" y="3"/>
                      <a:pt x="1492" y="4"/>
                      <a:pt x="1491" y="4"/>
                    </a:cubicBezTo>
                    <a:lnTo>
                      <a:pt x="1491" y="4"/>
                    </a:lnTo>
                    <a:cubicBezTo>
                      <a:pt x="1489" y="4"/>
                      <a:pt x="1489" y="3"/>
                      <a:pt x="1489" y="2"/>
                    </a:cubicBezTo>
                    <a:cubicBezTo>
                      <a:pt x="1489" y="1"/>
                      <a:pt x="1489" y="0"/>
                      <a:pt x="1491" y="0"/>
                    </a:cubicBezTo>
                    <a:close/>
                    <a:moveTo>
                      <a:pt x="1499" y="0"/>
                    </a:moveTo>
                    <a:lnTo>
                      <a:pt x="1499" y="0"/>
                    </a:lnTo>
                    <a:cubicBezTo>
                      <a:pt x="1500" y="0"/>
                      <a:pt x="1501" y="1"/>
                      <a:pt x="1501" y="2"/>
                    </a:cubicBezTo>
                    <a:cubicBezTo>
                      <a:pt x="1501" y="3"/>
                      <a:pt x="1500" y="4"/>
                      <a:pt x="1499" y="4"/>
                    </a:cubicBezTo>
                    <a:lnTo>
                      <a:pt x="1499" y="4"/>
                    </a:lnTo>
                    <a:cubicBezTo>
                      <a:pt x="1497" y="4"/>
                      <a:pt x="1497" y="3"/>
                      <a:pt x="1497" y="2"/>
                    </a:cubicBezTo>
                    <a:cubicBezTo>
                      <a:pt x="1497" y="1"/>
                      <a:pt x="1497" y="0"/>
                      <a:pt x="1499" y="0"/>
                    </a:cubicBezTo>
                    <a:close/>
                    <a:moveTo>
                      <a:pt x="1507" y="0"/>
                    </a:moveTo>
                    <a:lnTo>
                      <a:pt x="1507" y="0"/>
                    </a:lnTo>
                    <a:cubicBezTo>
                      <a:pt x="1508" y="0"/>
                      <a:pt x="1509" y="1"/>
                      <a:pt x="1509" y="2"/>
                    </a:cubicBezTo>
                    <a:cubicBezTo>
                      <a:pt x="1509" y="3"/>
                      <a:pt x="1508" y="4"/>
                      <a:pt x="1507" y="4"/>
                    </a:cubicBezTo>
                    <a:lnTo>
                      <a:pt x="1507" y="4"/>
                    </a:lnTo>
                    <a:cubicBezTo>
                      <a:pt x="1505" y="4"/>
                      <a:pt x="1505" y="3"/>
                      <a:pt x="1505" y="2"/>
                    </a:cubicBezTo>
                    <a:cubicBezTo>
                      <a:pt x="1505" y="1"/>
                      <a:pt x="1505" y="0"/>
                      <a:pt x="1507" y="0"/>
                    </a:cubicBezTo>
                    <a:close/>
                    <a:moveTo>
                      <a:pt x="1515" y="0"/>
                    </a:moveTo>
                    <a:lnTo>
                      <a:pt x="1515" y="0"/>
                    </a:lnTo>
                    <a:cubicBezTo>
                      <a:pt x="1516" y="0"/>
                      <a:pt x="1517" y="1"/>
                      <a:pt x="1517" y="2"/>
                    </a:cubicBezTo>
                    <a:cubicBezTo>
                      <a:pt x="1517" y="3"/>
                      <a:pt x="1516" y="4"/>
                      <a:pt x="1515" y="4"/>
                    </a:cubicBezTo>
                    <a:lnTo>
                      <a:pt x="1515" y="4"/>
                    </a:lnTo>
                    <a:cubicBezTo>
                      <a:pt x="1513" y="4"/>
                      <a:pt x="1513" y="3"/>
                      <a:pt x="1513" y="2"/>
                    </a:cubicBezTo>
                    <a:cubicBezTo>
                      <a:pt x="1513" y="1"/>
                      <a:pt x="1513" y="0"/>
                      <a:pt x="1515" y="0"/>
                    </a:cubicBezTo>
                    <a:close/>
                    <a:moveTo>
                      <a:pt x="1523" y="0"/>
                    </a:moveTo>
                    <a:lnTo>
                      <a:pt x="1523" y="0"/>
                    </a:lnTo>
                    <a:cubicBezTo>
                      <a:pt x="1524" y="0"/>
                      <a:pt x="1525" y="1"/>
                      <a:pt x="1525" y="2"/>
                    </a:cubicBezTo>
                    <a:cubicBezTo>
                      <a:pt x="1525" y="3"/>
                      <a:pt x="1524" y="4"/>
                      <a:pt x="1523" y="4"/>
                    </a:cubicBezTo>
                    <a:lnTo>
                      <a:pt x="1523" y="4"/>
                    </a:lnTo>
                    <a:cubicBezTo>
                      <a:pt x="1521" y="4"/>
                      <a:pt x="1521" y="3"/>
                      <a:pt x="1521" y="2"/>
                    </a:cubicBezTo>
                    <a:cubicBezTo>
                      <a:pt x="1521" y="1"/>
                      <a:pt x="1521" y="0"/>
                      <a:pt x="1523" y="0"/>
                    </a:cubicBezTo>
                    <a:close/>
                    <a:moveTo>
                      <a:pt x="1531" y="0"/>
                    </a:moveTo>
                    <a:lnTo>
                      <a:pt x="1531" y="0"/>
                    </a:lnTo>
                    <a:cubicBezTo>
                      <a:pt x="1532" y="0"/>
                      <a:pt x="1533" y="1"/>
                      <a:pt x="1533" y="2"/>
                    </a:cubicBezTo>
                    <a:cubicBezTo>
                      <a:pt x="1533" y="3"/>
                      <a:pt x="1532" y="4"/>
                      <a:pt x="1531" y="4"/>
                    </a:cubicBezTo>
                    <a:lnTo>
                      <a:pt x="1531" y="4"/>
                    </a:lnTo>
                    <a:cubicBezTo>
                      <a:pt x="1529" y="4"/>
                      <a:pt x="1529" y="3"/>
                      <a:pt x="1529" y="2"/>
                    </a:cubicBezTo>
                    <a:cubicBezTo>
                      <a:pt x="1529" y="1"/>
                      <a:pt x="1529" y="0"/>
                      <a:pt x="1531" y="0"/>
                    </a:cubicBezTo>
                    <a:close/>
                    <a:moveTo>
                      <a:pt x="1539" y="0"/>
                    </a:moveTo>
                    <a:lnTo>
                      <a:pt x="1539" y="0"/>
                    </a:lnTo>
                    <a:cubicBezTo>
                      <a:pt x="1540" y="0"/>
                      <a:pt x="1541" y="1"/>
                      <a:pt x="1541" y="2"/>
                    </a:cubicBezTo>
                    <a:cubicBezTo>
                      <a:pt x="1541" y="3"/>
                      <a:pt x="1540" y="4"/>
                      <a:pt x="1539" y="4"/>
                    </a:cubicBezTo>
                    <a:lnTo>
                      <a:pt x="1539" y="4"/>
                    </a:lnTo>
                    <a:cubicBezTo>
                      <a:pt x="1537" y="4"/>
                      <a:pt x="1537" y="3"/>
                      <a:pt x="1537" y="2"/>
                    </a:cubicBezTo>
                    <a:cubicBezTo>
                      <a:pt x="1537" y="1"/>
                      <a:pt x="1537" y="0"/>
                      <a:pt x="1539" y="0"/>
                    </a:cubicBezTo>
                    <a:close/>
                    <a:moveTo>
                      <a:pt x="1547" y="0"/>
                    </a:moveTo>
                    <a:lnTo>
                      <a:pt x="1547" y="0"/>
                    </a:lnTo>
                    <a:cubicBezTo>
                      <a:pt x="1548" y="0"/>
                      <a:pt x="1549" y="1"/>
                      <a:pt x="1549" y="2"/>
                    </a:cubicBezTo>
                    <a:cubicBezTo>
                      <a:pt x="1549" y="3"/>
                      <a:pt x="1548" y="4"/>
                      <a:pt x="1547" y="4"/>
                    </a:cubicBezTo>
                    <a:lnTo>
                      <a:pt x="1547" y="4"/>
                    </a:lnTo>
                    <a:cubicBezTo>
                      <a:pt x="1545" y="4"/>
                      <a:pt x="1545" y="3"/>
                      <a:pt x="1545" y="2"/>
                    </a:cubicBezTo>
                    <a:cubicBezTo>
                      <a:pt x="1545" y="1"/>
                      <a:pt x="1545" y="0"/>
                      <a:pt x="1547" y="0"/>
                    </a:cubicBezTo>
                    <a:close/>
                    <a:moveTo>
                      <a:pt x="1555" y="0"/>
                    </a:moveTo>
                    <a:lnTo>
                      <a:pt x="1555" y="0"/>
                    </a:lnTo>
                    <a:cubicBezTo>
                      <a:pt x="1556" y="0"/>
                      <a:pt x="1557" y="1"/>
                      <a:pt x="1557" y="2"/>
                    </a:cubicBezTo>
                    <a:cubicBezTo>
                      <a:pt x="1557" y="3"/>
                      <a:pt x="1556" y="4"/>
                      <a:pt x="1555" y="4"/>
                    </a:cubicBezTo>
                    <a:lnTo>
                      <a:pt x="1555" y="4"/>
                    </a:lnTo>
                    <a:cubicBezTo>
                      <a:pt x="1553" y="4"/>
                      <a:pt x="1553" y="3"/>
                      <a:pt x="1553" y="2"/>
                    </a:cubicBezTo>
                    <a:cubicBezTo>
                      <a:pt x="1553" y="1"/>
                      <a:pt x="1553" y="0"/>
                      <a:pt x="1555" y="0"/>
                    </a:cubicBezTo>
                    <a:close/>
                    <a:moveTo>
                      <a:pt x="1563" y="0"/>
                    </a:moveTo>
                    <a:lnTo>
                      <a:pt x="1563" y="0"/>
                    </a:lnTo>
                    <a:cubicBezTo>
                      <a:pt x="1564" y="0"/>
                      <a:pt x="1565" y="1"/>
                      <a:pt x="1565" y="2"/>
                    </a:cubicBezTo>
                    <a:cubicBezTo>
                      <a:pt x="1565" y="3"/>
                      <a:pt x="1564" y="4"/>
                      <a:pt x="1563" y="4"/>
                    </a:cubicBezTo>
                    <a:lnTo>
                      <a:pt x="1563" y="4"/>
                    </a:lnTo>
                    <a:cubicBezTo>
                      <a:pt x="1561" y="4"/>
                      <a:pt x="1561" y="3"/>
                      <a:pt x="1561" y="2"/>
                    </a:cubicBezTo>
                    <a:cubicBezTo>
                      <a:pt x="1561" y="1"/>
                      <a:pt x="1561" y="0"/>
                      <a:pt x="1563" y="0"/>
                    </a:cubicBezTo>
                    <a:close/>
                    <a:moveTo>
                      <a:pt x="1571" y="0"/>
                    </a:moveTo>
                    <a:lnTo>
                      <a:pt x="1571" y="0"/>
                    </a:lnTo>
                    <a:cubicBezTo>
                      <a:pt x="1572" y="0"/>
                      <a:pt x="1573" y="1"/>
                      <a:pt x="1573" y="2"/>
                    </a:cubicBezTo>
                    <a:cubicBezTo>
                      <a:pt x="1573" y="3"/>
                      <a:pt x="1572" y="4"/>
                      <a:pt x="1571" y="4"/>
                    </a:cubicBezTo>
                    <a:lnTo>
                      <a:pt x="1571" y="4"/>
                    </a:lnTo>
                    <a:cubicBezTo>
                      <a:pt x="1569" y="4"/>
                      <a:pt x="1569" y="3"/>
                      <a:pt x="1569" y="2"/>
                    </a:cubicBezTo>
                    <a:cubicBezTo>
                      <a:pt x="1569" y="1"/>
                      <a:pt x="1569" y="0"/>
                      <a:pt x="1571" y="0"/>
                    </a:cubicBezTo>
                    <a:close/>
                    <a:moveTo>
                      <a:pt x="1579" y="0"/>
                    </a:moveTo>
                    <a:lnTo>
                      <a:pt x="1579" y="0"/>
                    </a:lnTo>
                    <a:cubicBezTo>
                      <a:pt x="1580" y="0"/>
                      <a:pt x="1581" y="1"/>
                      <a:pt x="1581" y="2"/>
                    </a:cubicBezTo>
                    <a:cubicBezTo>
                      <a:pt x="1581" y="3"/>
                      <a:pt x="1580" y="4"/>
                      <a:pt x="1579" y="4"/>
                    </a:cubicBezTo>
                    <a:lnTo>
                      <a:pt x="1579" y="4"/>
                    </a:lnTo>
                    <a:cubicBezTo>
                      <a:pt x="1577" y="4"/>
                      <a:pt x="1577" y="3"/>
                      <a:pt x="1577" y="2"/>
                    </a:cubicBezTo>
                    <a:cubicBezTo>
                      <a:pt x="1577" y="1"/>
                      <a:pt x="1577" y="0"/>
                      <a:pt x="1579" y="0"/>
                    </a:cubicBezTo>
                    <a:close/>
                    <a:moveTo>
                      <a:pt x="1587" y="0"/>
                    </a:moveTo>
                    <a:lnTo>
                      <a:pt x="1587" y="0"/>
                    </a:lnTo>
                    <a:cubicBezTo>
                      <a:pt x="1588" y="0"/>
                      <a:pt x="1589" y="1"/>
                      <a:pt x="1589" y="2"/>
                    </a:cubicBezTo>
                    <a:cubicBezTo>
                      <a:pt x="1589" y="3"/>
                      <a:pt x="1588" y="4"/>
                      <a:pt x="1587" y="4"/>
                    </a:cubicBezTo>
                    <a:lnTo>
                      <a:pt x="1587" y="4"/>
                    </a:lnTo>
                    <a:cubicBezTo>
                      <a:pt x="1585" y="4"/>
                      <a:pt x="1585" y="3"/>
                      <a:pt x="1585" y="2"/>
                    </a:cubicBezTo>
                    <a:cubicBezTo>
                      <a:pt x="1585" y="1"/>
                      <a:pt x="1585" y="0"/>
                      <a:pt x="1587" y="0"/>
                    </a:cubicBezTo>
                    <a:close/>
                    <a:moveTo>
                      <a:pt x="1595" y="0"/>
                    </a:moveTo>
                    <a:lnTo>
                      <a:pt x="1595" y="0"/>
                    </a:lnTo>
                    <a:cubicBezTo>
                      <a:pt x="1596" y="0"/>
                      <a:pt x="1597" y="1"/>
                      <a:pt x="1597" y="2"/>
                    </a:cubicBezTo>
                    <a:cubicBezTo>
                      <a:pt x="1597" y="3"/>
                      <a:pt x="1596" y="4"/>
                      <a:pt x="1595" y="4"/>
                    </a:cubicBezTo>
                    <a:lnTo>
                      <a:pt x="1595" y="4"/>
                    </a:lnTo>
                    <a:cubicBezTo>
                      <a:pt x="1593" y="4"/>
                      <a:pt x="1593" y="3"/>
                      <a:pt x="1593" y="2"/>
                    </a:cubicBezTo>
                    <a:cubicBezTo>
                      <a:pt x="1593" y="1"/>
                      <a:pt x="1593" y="0"/>
                      <a:pt x="1595" y="0"/>
                    </a:cubicBezTo>
                    <a:close/>
                    <a:moveTo>
                      <a:pt x="1603" y="0"/>
                    </a:moveTo>
                    <a:lnTo>
                      <a:pt x="1603" y="0"/>
                    </a:lnTo>
                    <a:cubicBezTo>
                      <a:pt x="1604" y="0"/>
                      <a:pt x="1605" y="1"/>
                      <a:pt x="1605" y="2"/>
                    </a:cubicBezTo>
                    <a:cubicBezTo>
                      <a:pt x="1605" y="3"/>
                      <a:pt x="1604" y="4"/>
                      <a:pt x="1603" y="4"/>
                    </a:cubicBezTo>
                    <a:lnTo>
                      <a:pt x="1603" y="4"/>
                    </a:lnTo>
                    <a:cubicBezTo>
                      <a:pt x="1601" y="4"/>
                      <a:pt x="1601" y="3"/>
                      <a:pt x="1601" y="2"/>
                    </a:cubicBezTo>
                    <a:cubicBezTo>
                      <a:pt x="1601" y="1"/>
                      <a:pt x="1601" y="0"/>
                      <a:pt x="1603" y="0"/>
                    </a:cubicBezTo>
                    <a:close/>
                    <a:moveTo>
                      <a:pt x="1611" y="0"/>
                    </a:moveTo>
                    <a:lnTo>
                      <a:pt x="1611" y="0"/>
                    </a:lnTo>
                    <a:cubicBezTo>
                      <a:pt x="1612" y="0"/>
                      <a:pt x="1613" y="1"/>
                      <a:pt x="1613" y="2"/>
                    </a:cubicBezTo>
                    <a:cubicBezTo>
                      <a:pt x="1613" y="3"/>
                      <a:pt x="1612" y="4"/>
                      <a:pt x="1611" y="4"/>
                    </a:cubicBezTo>
                    <a:lnTo>
                      <a:pt x="1611" y="4"/>
                    </a:lnTo>
                    <a:cubicBezTo>
                      <a:pt x="1609" y="4"/>
                      <a:pt x="1609" y="3"/>
                      <a:pt x="1609" y="2"/>
                    </a:cubicBezTo>
                    <a:cubicBezTo>
                      <a:pt x="1609" y="1"/>
                      <a:pt x="1609" y="0"/>
                      <a:pt x="1611" y="0"/>
                    </a:cubicBezTo>
                    <a:close/>
                    <a:moveTo>
                      <a:pt x="1619" y="0"/>
                    </a:moveTo>
                    <a:lnTo>
                      <a:pt x="1619" y="0"/>
                    </a:lnTo>
                    <a:cubicBezTo>
                      <a:pt x="1620" y="0"/>
                      <a:pt x="1621" y="1"/>
                      <a:pt x="1621" y="2"/>
                    </a:cubicBezTo>
                    <a:cubicBezTo>
                      <a:pt x="1621" y="3"/>
                      <a:pt x="1620" y="4"/>
                      <a:pt x="1619" y="4"/>
                    </a:cubicBezTo>
                    <a:lnTo>
                      <a:pt x="1619" y="4"/>
                    </a:lnTo>
                    <a:cubicBezTo>
                      <a:pt x="1617" y="4"/>
                      <a:pt x="1617" y="3"/>
                      <a:pt x="1617" y="2"/>
                    </a:cubicBezTo>
                    <a:cubicBezTo>
                      <a:pt x="1617" y="1"/>
                      <a:pt x="1617" y="0"/>
                      <a:pt x="1619" y="0"/>
                    </a:cubicBezTo>
                    <a:close/>
                    <a:moveTo>
                      <a:pt x="1627" y="0"/>
                    </a:moveTo>
                    <a:lnTo>
                      <a:pt x="1627" y="0"/>
                    </a:lnTo>
                    <a:cubicBezTo>
                      <a:pt x="1628" y="0"/>
                      <a:pt x="1629" y="1"/>
                      <a:pt x="1629" y="2"/>
                    </a:cubicBezTo>
                    <a:cubicBezTo>
                      <a:pt x="1629" y="3"/>
                      <a:pt x="1628" y="4"/>
                      <a:pt x="1627" y="4"/>
                    </a:cubicBezTo>
                    <a:lnTo>
                      <a:pt x="1627" y="4"/>
                    </a:lnTo>
                    <a:cubicBezTo>
                      <a:pt x="1625" y="4"/>
                      <a:pt x="1625" y="3"/>
                      <a:pt x="1625" y="2"/>
                    </a:cubicBezTo>
                    <a:cubicBezTo>
                      <a:pt x="1625" y="1"/>
                      <a:pt x="1625" y="0"/>
                      <a:pt x="1627" y="0"/>
                    </a:cubicBezTo>
                    <a:close/>
                    <a:moveTo>
                      <a:pt x="1635" y="0"/>
                    </a:moveTo>
                    <a:lnTo>
                      <a:pt x="1635" y="0"/>
                    </a:lnTo>
                    <a:cubicBezTo>
                      <a:pt x="1636" y="0"/>
                      <a:pt x="1637" y="1"/>
                      <a:pt x="1637" y="2"/>
                    </a:cubicBezTo>
                    <a:cubicBezTo>
                      <a:pt x="1637" y="3"/>
                      <a:pt x="1636" y="4"/>
                      <a:pt x="1635" y="4"/>
                    </a:cubicBezTo>
                    <a:lnTo>
                      <a:pt x="1635" y="4"/>
                    </a:lnTo>
                    <a:cubicBezTo>
                      <a:pt x="1633" y="4"/>
                      <a:pt x="1633" y="3"/>
                      <a:pt x="1633" y="2"/>
                    </a:cubicBezTo>
                    <a:cubicBezTo>
                      <a:pt x="1633" y="1"/>
                      <a:pt x="1633" y="0"/>
                      <a:pt x="1635" y="0"/>
                    </a:cubicBezTo>
                    <a:close/>
                    <a:moveTo>
                      <a:pt x="1643" y="0"/>
                    </a:moveTo>
                    <a:lnTo>
                      <a:pt x="1643" y="0"/>
                    </a:lnTo>
                    <a:cubicBezTo>
                      <a:pt x="1644" y="0"/>
                      <a:pt x="1645" y="1"/>
                      <a:pt x="1645" y="2"/>
                    </a:cubicBezTo>
                    <a:cubicBezTo>
                      <a:pt x="1645" y="3"/>
                      <a:pt x="1644" y="4"/>
                      <a:pt x="1643" y="4"/>
                    </a:cubicBezTo>
                    <a:lnTo>
                      <a:pt x="1643" y="4"/>
                    </a:lnTo>
                    <a:cubicBezTo>
                      <a:pt x="1641" y="4"/>
                      <a:pt x="1641" y="3"/>
                      <a:pt x="1641" y="2"/>
                    </a:cubicBezTo>
                    <a:cubicBezTo>
                      <a:pt x="1641" y="1"/>
                      <a:pt x="1641" y="0"/>
                      <a:pt x="1643" y="0"/>
                    </a:cubicBezTo>
                    <a:close/>
                    <a:moveTo>
                      <a:pt x="1651" y="0"/>
                    </a:moveTo>
                    <a:lnTo>
                      <a:pt x="1651" y="0"/>
                    </a:lnTo>
                    <a:cubicBezTo>
                      <a:pt x="1652" y="0"/>
                      <a:pt x="1653" y="1"/>
                      <a:pt x="1653" y="2"/>
                    </a:cubicBezTo>
                    <a:cubicBezTo>
                      <a:pt x="1653" y="3"/>
                      <a:pt x="1652" y="4"/>
                      <a:pt x="1651" y="4"/>
                    </a:cubicBezTo>
                    <a:lnTo>
                      <a:pt x="1651" y="4"/>
                    </a:lnTo>
                    <a:cubicBezTo>
                      <a:pt x="1650" y="4"/>
                      <a:pt x="1649" y="3"/>
                      <a:pt x="1649" y="2"/>
                    </a:cubicBezTo>
                    <a:cubicBezTo>
                      <a:pt x="1649" y="1"/>
                      <a:pt x="1650" y="0"/>
                      <a:pt x="1651" y="0"/>
                    </a:cubicBezTo>
                    <a:close/>
                    <a:moveTo>
                      <a:pt x="1659" y="0"/>
                    </a:moveTo>
                    <a:lnTo>
                      <a:pt x="1659" y="0"/>
                    </a:lnTo>
                    <a:cubicBezTo>
                      <a:pt x="1660" y="0"/>
                      <a:pt x="1661" y="1"/>
                      <a:pt x="1661" y="2"/>
                    </a:cubicBezTo>
                    <a:cubicBezTo>
                      <a:pt x="1661" y="3"/>
                      <a:pt x="1660" y="4"/>
                      <a:pt x="1659" y="4"/>
                    </a:cubicBezTo>
                    <a:lnTo>
                      <a:pt x="1659" y="4"/>
                    </a:lnTo>
                    <a:cubicBezTo>
                      <a:pt x="1658" y="4"/>
                      <a:pt x="1657" y="3"/>
                      <a:pt x="1657" y="2"/>
                    </a:cubicBezTo>
                    <a:cubicBezTo>
                      <a:pt x="1657" y="1"/>
                      <a:pt x="1658" y="0"/>
                      <a:pt x="1659" y="0"/>
                    </a:cubicBezTo>
                    <a:close/>
                    <a:moveTo>
                      <a:pt x="1667" y="0"/>
                    </a:moveTo>
                    <a:lnTo>
                      <a:pt x="1667" y="0"/>
                    </a:lnTo>
                    <a:cubicBezTo>
                      <a:pt x="1668" y="0"/>
                      <a:pt x="1669" y="1"/>
                      <a:pt x="1669" y="2"/>
                    </a:cubicBezTo>
                    <a:cubicBezTo>
                      <a:pt x="1669" y="3"/>
                      <a:pt x="1668" y="4"/>
                      <a:pt x="1667" y="4"/>
                    </a:cubicBezTo>
                    <a:lnTo>
                      <a:pt x="1667" y="4"/>
                    </a:lnTo>
                    <a:cubicBezTo>
                      <a:pt x="1666" y="4"/>
                      <a:pt x="1665" y="3"/>
                      <a:pt x="1665" y="2"/>
                    </a:cubicBezTo>
                    <a:cubicBezTo>
                      <a:pt x="1665" y="1"/>
                      <a:pt x="1666" y="0"/>
                      <a:pt x="1667" y="0"/>
                    </a:cubicBezTo>
                    <a:close/>
                    <a:moveTo>
                      <a:pt x="1675" y="0"/>
                    </a:moveTo>
                    <a:lnTo>
                      <a:pt x="1675" y="0"/>
                    </a:lnTo>
                    <a:cubicBezTo>
                      <a:pt x="1676" y="0"/>
                      <a:pt x="1677" y="1"/>
                      <a:pt x="1677" y="2"/>
                    </a:cubicBezTo>
                    <a:cubicBezTo>
                      <a:pt x="1677" y="3"/>
                      <a:pt x="1676" y="4"/>
                      <a:pt x="1675" y="4"/>
                    </a:cubicBezTo>
                    <a:lnTo>
                      <a:pt x="1675" y="4"/>
                    </a:lnTo>
                    <a:cubicBezTo>
                      <a:pt x="1674" y="4"/>
                      <a:pt x="1673" y="3"/>
                      <a:pt x="1673" y="2"/>
                    </a:cubicBezTo>
                    <a:cubicBezTo>
                      <a:pt x="1673" y="1"/>
                      <a:pt x="1674" y="0"/>
                      <a:pt x="1675" y="0"/>
                    </a:cubicBezTo>
                    <a:close/>
                    <a:moveTo>
                      <a:pt x="1683" y="0"/>
                    </a:moveTo>
                    <a:lnTo>
                      <a:pt x="1683" y="0"/>
                    </a:lnTo>
                    <a:cubicBezTo>
                      <a:pt x="1684" y="0"/>
                      <a:pt x="1685" y="1"/>
                      <a:pt x="1685" y="2"/>
                    </a:cubicBezTo>
                    <a:cubicBezTo>
                      <a:pt x="1685" y="3"/>
                      <a:pt x="1684" y="4"/>
                      <a:pt x="1683" y="4"/>
                    </a:cubicBezTo>
                    <a:lnTo>
                      <a:pt x="1683" y="4"/>
                    </a:lnTo>
                    <a:cubicBezTo>
                      <a:pt x="1682" y="4"/>
                      <a:pt x="1681" y="3"/>
                      <a:pt x="1681" y="2"/>
                    </a:cubicBezTo>
                    <a:cubicBezTo>
                      <a:pt x="1681" y="1"/>
                      <a:pt x="1682" y="0"/>
                      <a:pt x="1683" y="0"/>
                    </a:cubicBezTo>
                    <a:close/>
                    <a:moveTo>
                      <a:pt x="1691" y="0"/>
                    </a:moveTo>
                    <a:lnTo>
                      <a:pt x="1691" y="0"/>
                    </a:lnTo>
                    <a:cubicBezTo>
                      <a:pt x="1692" y="0"/>
                      <a:pt x="1693" y="1"/>
                      <a:pt x="1693" y="2"/>
                    </a:cubicBezTo>
                    <a:cubicBezTo>
                      <a:pt x="1693" y="3"/>
                      <a:pt x="1692" y="4"/>
                      <a:pt x="1691" y="4"/>
                    </a:cubicBezTo>
                    <a:lnTo>
                      <a:pt x="1691" y="4"/>
                    </a:lnTo>
                    <a:cubicBezTo>
                      <a:pt x="1690" y="4"/>
                      <a:pt x="1689" y="3"/>
                      <a:pt x="1689" y="2"/>
                    </a:cubicBezTo>
                    <a:cubicBezTo>
                      <a:pt x="1689" y="1"/>
                      <a:pt x="1690" y="0"/>
                      <a:pt x="1691" y="0"/>
                    </a:cubicBezTo>
                    <a:close/>
                    <a:moveTo>
                      <a:pt x="1699" y="0"/>
                    </a:moveTo>
                    <a:lnTo>
                      <a:pt x="1699" y="0"/>
                    </a:lnTo>
                    <a:cubicBezTo>
                      <a:pt x="1700" y="0"/>
                      <a:pt x="1701" y="1"/>
                      <a:pt x="1701" y="2"/>
                    </a:cubicBezTo>
                    <a:cubicBezTo>
                      <a:pt x="1701" y="3"/>
                      <a:pt x="1700" y="4"/>
                      <a:pt x="1699" y="4"/>
                    </a:cubicBezTo>
                    <a:lnTo>
                      <a:pt x="1699" y="4"/>
                    </a:lnTo>
                    <a:cubicBezTo>
                      <a:pt x="1698" y="4"/>
                      <a:pt x="1697" y="3"/>
                      <a:pt x="1697" y="2"/>
                    </a:cubicBezTo>
                    <a:cubicBezTo>
                      <a:pt x="1697" y="1"/>
                      <a:pt x="1698" y="0"/>
                      <a:pt x="1699" y="0"/>
                    </a:cubicBezTo>
                    <a:close/>
                    <a:moveTo>
                      <a:pt x="1707" y="0"/>
                    </a:moveTo>
                    <a:lnTo>
                      <a:pt x="1707" y="0"/>
                    </a:lnTo>
                    <a:cubicBezTo>
                      <a:pt x="1708" y="0"/>
                      <a:pt x="1709" y="1"/>
                      <a:pt x="1709" y="2"/>
                    </a:cubicBezTo>
                    <a:cubicBezTo>
                      <a:pt x="1709" y="3"/>
                      <a:pt x="1708" y="4"/>
                      <a:pt x="1707" y="4"/>
                    </a:cubicBezTo>
                    <a:lnTo>
                      <a:pt x="1707" y="4"/>
                    </a:lnTo>
                    <a:cubicBezTo>
                      <a:pt x="1706" y="4"/>
                      <a:pt x="1705" y="3"/>
                      <a:pt x="1705" y="2"/>
                    </a:cubicBezTo>
                    <a:cubicBezTo>
                      <a:pt x="1705" y="1"/>
                      <a:pt x="1706" y="0"/>
                      <a:pt x="1707" y="0"/>
                    </a:cubicBezTo>
                    <a:close/>
                    <a:moveTo>
                      <a:pt x="1715" y="0"/>
                    </a:moveTo>
                    <a:lnTo>
                      <a:pt x="1715" y="0"/>
                    </a:lnTo>
                    <a:cubicBezTo>
                      <a:pt x="1716" y="0"/>
                      <a:pt x="1717" y="1"/>
                      <a:pt x="1717" y="2"/>
                    </a:cubicBezTo>
                    <a:cubicBezTo>
                      <a:pt x="1717" y="3"/>
                      <a:pt x="1716" y="4"/>
                      <a:pt x="1715" y="4"/>
                    </a:cubicBezTo>
                    <a:lnTo>
                      <a:pt x="1715" y="4"/>
                    </a:lnTo>
                    <a:cubicBezTo>
                      <a:pt x="1714" y="4"/>
                      <a:pt x="1713" y="3"/>
                      <a:pt x="1713" y="2"/>
                    </a:cubicBezTo>
                    <a:cubicBezTo>
                      <a:pt x="1713" y="1"/>
                      <a:pt x="1714" y="0"/>
                      <a:pt x="1715" y="0"/>
                    </a:cubicBezTo>
                    <a:close/>
                    <a:moveTo>
                      <a:pt x="1723" y="0"/>
                    </a:moveTo>
                    <a:lnTo>
                      <a:pt x="1723" y="0"/>
                    </a:lnTo>
                    <a:cubicBezTo>
                      <a:pt x="1724" y="0"/>
                      <a:pt x="1725" y="1"/>
                      <a:pt x="1725" y="2"/>
                    </a:cubicBezTo>
                    <a:cubicBezTo>
                      <a:pt x="1725" y="3"/>
                      <a:pt x="1724" y="4"/>
                      <a:pt x="1723" y="4"/>
                    </a:cubicBezTo>
                    <a:lnTo>
                      <a:pt x="1723" y="4"/>
                    </a:lnTo>
                    <a:cubicBezTo>
                      <a:pt x="1722" y="4"/>
                      <a:pt x="1721" y="3"/>
                      <a:pt x="1721" y="2"/>
                    </a:cubicBezTo>
                    <a:cubicBezTo>
                      <a:pt x="1721" y="1"/>
                      <a:pt x="1722" y="0"/>
                      <a:pt x="1723" y="0"/>
                    </a:cubicBezTo>
                    <a:close/>
                    <a:moveTo>
                      <a:pt x="1731" y="0"/>
                    </a:moveTo>
                    <a:lnTo>
                      <a:pt x="1731" y="0"/>
                    </a:lnTo>
                    <a:cubicBezTo>
                      <a:pt x="1732" y="0"/>
                      <a:pt x="1733" y="1"/>
                      <a:pt x="1733" y="2"/>
                    </a:cubicBezTo>
                    <a:cubicBezTo>
                      <a:pt x="1733" y="3"/>
                      <a:pt x="1732" y="4"/>
                      <a:pt x="1731" y="4"/>
                    </a:cubicBezTo>
                    <a:lnTo>
                      <a:pt x="1731" y="4"/>
                    </a:lnTo>
                    <a:cubicBezTo>
                      <a:pt x="1730" y="4"/>
                      <a:pt x="1729" y="3"/>
                      <a:pt x="1729" y="2"/>
                    </a:cubicBezTo>
                    <a:cubicBezTo>
                      <a:pt x="1729" y="1"/>
                      <a:pt x="1730" y="0"/>
                      <a:pt x="1731" y="0"/>
                    </a:cubicBezTo>
                    <a:close/>
                    <a:moveTo>
                      <a:pt x="1739" y="0"/>
                    </a:moveTo>
                    <a:lnTo>
                      <a:pt x="1739" y="0"/>
                    </a:lnTo>
                    <a:cubicBezTo>
                      <a:pt x="1740" y="0"/>
                      <a:pt x="1741" y="1"/>
                      <a:pt x="1741" y="2"/>
                    </a:cubicBezTo>
                    <a:cubicBezTo>
                      <a:pt x="1741" y="3"/>
                      <a:pt x="1740" y="4"/>
                      <a:pt x="1739" y="4"/>
                    </a:cubicBezTo>
                    <a:lnTo>
                      <a:pt x="1739" y="4"/>
                    </a:lnTo>
                    <a:cubicBezTo>
                      <a:pt x="1738" y="4"/>
                      <a:pt x="1737" y="3"/>
                      <a:pt x="1737" y="2"/>
                    </a:cubicBezTo>
                    <a:cubicBezTo>
                      <a:pt x="1737" y="1"/>
                      <a:pt x="1738" y="0"/>
                      <a:pt x="1739" y="0"/>
                    </a:cubicBezTo>
                    <a:close/>
                    <a:moveTo>
                      <a:pt x="1747" y="0"/>
                    </a:moveTo>
                    <a:lnTo>
                      <a:pt x="1747" y="0"/>
                    </a:lnTo>
                    <a:cubicBezTo>
                      <a:pt x="1748" y="0"/>
                      <a:pt x="1749" y="1"/>
                      <a:pt x="1749" y="2"/>
                    </a:cubicBezTo>
                    <a:cubicBezTo>
                      <a:pt x="1749" y="3"/>
                      <a:pt x="1748" y="4"/>
                      <a:pt x="1747" y="4"/>
                    </a:cubicBezTo>
                    <a:lnTo>
                      <a:pt x="1747" y="4"/>
                    </a:lnTo>
                    <a:cubicBezTo>
                      <a:pt x="1746" y="4"/>
                      <a:pt x="1745" y="3"/>
                      <a:pt x="1745" y="2"/>
                    </a:cubicBezTo>
                    <a:cubicBezTo>
                      <a:pt x="1745" y="1"/>
                      <a:pt x="1746" y="0"/>
                      <a:pt x="1747" y="0"/>
                    </a:cubicBezTo>
                    <a:close/>
                    <a:moveTo>
                      <a:pt x="1755" y="0"/>
                    </a:moveTo>
                    <a:lnTo>
                      <a:pt x="1755" y="0"/>
                    </a:lnTo>
                    <a:cubicBezTo>
                      <a:pt x="1756" y="0"/>
                      <a:pt x="1757" y="1"/>
                      <a:pt x="1757" y="2"/>
                    </a:cubicBezTo>
                    <a:cubicBezTo>
                      <a:pt x="1757" y="3"/>
                      <a:pt x="1756" y="4"/>
                      <a:pt x="1755" y="4"/>
                    </a:cubicBezTo>
                    <a:lnTo>
                      <a:pt x="1755" y="4"/>
                    </a:lnTo>
                    <a:cubicBezTo>
                      <a:pt x="1754" y="4"/>
                      <a:pt x="1753" y="3"/>
                      <a:pt x="1753" y="2"/>
                    </a:cubicBezTo>
                    <a:cubicBezTo>
                      <a:pt x="1753" y="1"/>
                      <a:pt x="1754" y="0"/>
                      <a:pt x="1755" y="0"/>
                    </a:cubicBezTo>
                    <a:close/>
                    <a:moveTo>
                      <a:pt x="1763" y="0"/>
                    </a:moveTo>
                    <a:lnTo>
                      <a:pt x="1763" y="0"/>
                    </a:lnTo>
                    <a:cubicBezTo>
                      <a:pt x="1764" y="0"/>
                      <a:pt x="1765" y="1"/>
                      <a:pt x="1765" y="2"/>
                    </a:cubicBezTo>
                    <a:cubicBezTo>
                      <a:pt x="1765" y="3"/>
                      <a:pt x="1764" y="4"/>
                      <a:pt x="1763" y="4"/>
                    </a:cubicBezTo>
                    <a:lnTo>
                      <a:pt x="1763" y="4"/>
                    </a:lnTo>
                    <a:cubicBezTo>
                      <a:pt x="1762" y="4"/>
                      <a:pt x="1761" y="3"/>
                      <a:pt x="1761" y="2"/>
                    </a:cubicBezTo>
                    <a:cubicBezTo>
                      <a:pt x="1761" y="1"/>
                      <a:pt x="1762" y="0"/>
                      <a:pt x="1763" y="0"/>
                    </a:cubicBezTo>
                    <a:close/>
                    <a:moveTo>
                      <a:pt x="1771" y="0"/>
                    </a:moveTo>
                    <a:lnTo>
                      <a:pt x="1771" y="0"/>
                    </a:lnTo>
                    <a:cubicBezTo>
                      <a:pt x="1772" y="0"/>
                      <a:pt x="1773" y="1"/>
                      <a:pt x="1773" y="2"/>
                    </a:cubicBezTo>
                    <a:cubicBezTo>
                      <a:pt x="1773" y="3"/>
                      <a:pt x="1772" y="4"/>
                      <a:pt x="1771" y="4"/>
                    </a:cubicBezTo>
                    <a:lnTo>
                      <a:pt x="1771" y="4"/>
                    </a:lnTo>
                    <a:cubicBezTo>
                      <a:pt x="1770" y="4"/>
                      <a:pt x="1769" y="3"/>
                      <a:pt x="1769" y="2"/>
                    </a:cubicBezTo>
                    <a:cubicBezTo>
                      <a:pt x="1769" y="1"/>
                      <a:pt x="1770" y="0"/>
                      <a:pt x="1771" y="0"/>
                    </a:cubicBezTo>
                    <a:close/>
                    <a:moveTo>
                      <a:pt x="1779" y="0"/>
                    </a:moveTo>
                    <a:lnTo>
                      <a:pt x="1779" y="0"/>
                    </a:lnTo>
                    <a:cubicBezTo>
                      <a:pt x="1780" y="0"/>
                      <a:pt x="1781" y="1"/>
                      <a:pt x="1781" y="2"/>
                    </a:cubicBezTo>
                    <a:cubicBezTo>
                      <a:pt x="1781" y="3"/>
                      <a:pt x="1780" y="4"/>
                      <a:pt x="1779" y="4"/>
                    </a:cubicBezTo>
                    <a:lnTo>
                      <a:pt x="1779" y="4"/>
                    </a:lnTo>
                    <a:cubicBezTo>
                      <a:pt x="1778" y="4"/>
                      <a:pt x="1777" y="3"/>
                      <a:pt x="1777" y="2"/>
                    </a:cubicBezTo>
                    <a:cubicBezTo>
                      <a:pt x="1777" y="1"/>
                      <a:pt x="1778" y="0"/>
                      <a:pt x="1779" y="0"/>
                    </a:cubicBezTo>
                    <a:close/>
                    <a:moveTo>
                      <a:pt x="1787" y="0"/>
                    </a:moveTo>
                    <a:lnTo>
                      <a:pt x="1787" y="0"/>
                    </a:lnTo>
                    <a:cubicBezTo>
                      <a:pt x="1788" y="0"/>
                      <a:pt x="1789" y="1"/>
                      <a:pt x="1789" y="2"/>
                    </a:cubicBezTo>
                    <a:cubicBezTo>
                      <a:pt x="1789" y="3"/>
                      <a:pt x="1788" y="4"/>
                      <a:pt x="1787" y="4"/>
                    </a:cubicBezTo>
                    <a:lnTo>
                      <a:pt x="1787" y="4"/>
                    </a:lnTo>
                    <a:cubicBezTo>
                      <a:pt x="1786" y="4"/>
                      <a:pt x="1785" y="3"/>
                      <a:pt x="1785" y="2"/>
                    </a:cubicBezTo>
                    <a:cubicBezTo>
                      <a:pt x="1785" y="1"/>
                      <a:pt x="1786" y="0"/>
                      <a:pt x="1787" y="0"/>
                    </a:cubicBezTo>
                    <a:close/>
                    <a:moveTo>
                      <a:pt x="1795" y="0"/>
                    </a:moveTo>
                    <a:lnTo>
                      <a:pt x="1795" y="0"/>
                    </a:lnTo>
                    <a:cubicBezTo>
                      <a:pt x="1796" y="0"/>
                      <a:pt x="1797" y="1"/>
                      <a:pt x="1797" y="2"/>
                    </a:cubicBezTo>
                    <a:cubicBezTo>
                      <a:pt x="1797" y="3"/>
                      <a:pt x="1796" y="4"/>
                      <a:pt x="1795" y="4"/>
                    </a:cubicBezTo>
                    <a:lnTo>
                      <a:pt x="1795" y="4"/>
                    </a:lnTo>
                    <a:cubicBezTo>
                      <a:pt x="1794" y="4"/>
                      <a:pt x="1793" y="3"/>
                      <a:pt x="1793" y="2"/>
                    </a:cubicBezTo>
                    <a:cubicBezTo>
                      <a:pt x="1793" y="1"/>
                      <a:pt x="1794" y="0"/>
                      <a:pt x="1795" y="0"/>
                    </a:cubicBezTo>
                    <a:close/>
                    <a:moveTo>
                      <a:pt x="1803" y="0"/>
                    </a:moveTo>
                    <a:lnTo>
                      <a:pt x="1803" y="0"/>
                    </a:lnTo>
                    <a:cubicBezTo>
                      <a:pt x="1804" y="0"/>
                      <a:pt x="1805" y="1"/>
                      <a:pt x="1805" y="2"/>
                    </a:cubicBezTo>
                    <a:cubicBezTo>
                      <a:pt x="1805" y="3"/>
                      <a:pt x="1804" y="4"/>
                      <a:pt x="1803" y="4"/>
                    </a:cubicBezTo>
                    <a:lnTo>
                      <a:pt x="1803" y="4"/>
                    </a:lnTo>
                    <a:cubicBezTo>
                      <a:pt x="1802" y="4"/>
                      <a:pt x="1801" y="3"/>
                      <a:pt x="1801" y="2"/>
                    </a:cubicBezTo>
                    <a:cubicBezTo>
                      <a:pt x="1801" y="1"/>
                      <a:pt x="1802" y="0"/>
                      <a:pt x="1803" y="0"/>
                    </a:cubicBezTo>
                    <a:close/>
                    <a:moveTo>
                      <a:pt x="1811" y="0"/>
                    </a:moveTo>
                    <a:lnTo>
                      <a:pt x="1811" y="0"/>
                    </a:lnTo>
                    <a:cubicBezTo>
                      <a:pt x="1812" y="0"/>
                      <a:pt x="1813" y="1"/>
                      <a:pt x="1813" y="2"/>
                    </a:cubicBezTo>
                    <a:cubicBezTo>
                      <a:pt x="1813" y="3"/>
                      <a:pt x="1812" y="4"/>
                      <a:pt x="1811" y="4"/>
                    </a:cubicBezTo>
                    <a:lnTo>
                      <a:pt x="1811" y="4"/>
                    </a:lnTo>
                    <a:cubicBezTo>
                      <a:pt x="1810" y="4"/>
                      <a:pt x="1809" y="3"/>
                      <a:pt x="1809" y="2"/>
                    </a:cubicBezTo>
                    <a:cubicBezTo>
                      <a:pt x="1809" y="1"/>
                      <a:pt x="1810" y="0"/>
                      <a:pt x="1811" y="0"/>
                    </a:cubicBezTo>
                    <a:close/>
                    <a:moveTo>
                      <a:pt x="1819" y="0"/>
                    </a:moveTo>
                    <a:lnTo>
                      <a:pt x="1819" y="0"/>
                    </a:lnTo>
                    <a:cubicBezTo>
                      <a:pt x="1820" y="0"/>
                      <a:pt x="1821" y="1"/>
                      <a:pt x="1821" y="2"/>
                    </a:cubicBezTo>
                    <a:cubicBezTo>
                      <a:pt x="1821" y="3"/>
                      <a:pt x="1820" y="4"/>
                      <a:pt x="1819" y="4"/>
                    </a:cubicBezTo>
                    <a:lnTo>
                      <a:pt x="1819" y="4"/>
                    </a:lnTo>
                    <a:cubicBezTo>
                      <a:pt x="1818" y="4"/>
                      <a:pt x="1817" y="3"/>
                      <a:pt x="1817" y="2"/>
                    </a:cubicBezTo>
                    <a:cubicBezTo>
                      <a:pt x="1817" y="1"/>
                      <a:pt x="1818" y="0"/>
                      <a:pt x="1819" y="0"/>
                    </a:cubicBezTo>
                    <a:close/>
                    <a:moveTo>
                      <a:pt x="1827" y="0"/>
                    </a:moveTo>
                    <a:lnTo>
                      <a:pt x="1827" y="0"/>
                    </a:lnTo>
                    <a:cubicBezTo>
                      <a:pt x="1828" y="0"/>
                      <a:pt x="1829" y="1"/>
                      <a:pt x="1829" y="2"/>
                    </a:cubicBezTo>
                    <a:cubicBezTo>
                      <a:pt x="1829" y="3"/>
                      <a:pt x="1828" y="4"/>
                      <a:pt x="1827" y="4"/>
                    </a:cubicBezTo>
                    <a:lnTo>
                      <a:pt x="1827" y="4"/>
                    </a:lnTo>
                    <a:cubicBezTo>
                      <a:pt x="1826" y="4"/>
                      <a:pt x="1825" y="3"/>
                      <a:pt x="1825" y="2"/>
                    </a:cubicBezTo>
                    <a:cubicBezTo>
                      <a:pt x="1825" y="1"/>
                      <a:pt x="1826" y="0"/>
                      <a:pt x="1827" y="0"/>
                    </a:cubicBezTo>
                    <a:close/>
                    <a:moveTo>
                      <a:pt x="1835" y="0"/>
                    </a:moveTo>
                    <a:lnTo>
                      <a:pt x="1835" y="0"/>
                    </a:lnTo>
                    <a:cubicBezTo>
                      <a:pt x="1836" y="0"/>
                      <a:pt x="1837" y="1"/>
                      <a:pt x="1837" y="2"/>
                    </a:cubicBezTo>
                    <a:cubicBezTo>
                      <a:pt x="1837" y="3"/>
                      <a:pt x="1836" y="4"/>
                      <a:pt x="1835" y="4"/>
                    </a:cubicBezTo>
                    <a:lnTo>
                      <a:pt x="1835" y="4"/>
                    </a:lnTo>
                    <a:cubicBezTo>
                      <a:pt x="1834" y="4"/>
                      <a:pt x="1833" y="3"/>
                      <a:pt x="1833" y="2"/>
                    </a:cubicBezTo>
                    <a:cubicBezTo>
                      <a:pt x="1833" y="1"/>
                      <a:pt x="1834" y="0"/>
                      <a:pt x="1835" y="0"/>
                    </a:cubicBezTo>
                    <a:close/>
                    <a:moveTo>
                      <a:pt x="1843" y="0"/>
                    </a:moveTo>
                    <a:lnTo>
                      <a:pt x="1843" y="0"/>
                    </a:lnTo>
                    <a:cubicBezTo>
                      <a:pt x="1844" y="0"/>
                      <a:pt x="1845" y="1"/>
                      <a:pt x="1845" y="2"/>
                    </a:cubicBezTo>
                    <a:cubicBezTo>
                      <a:pt x="1845" y="3"/>
                      <a:pt x="1844" y="4"/>
                      <a:pt x="1843" y="4"/>
                    </a:cubicBezTo>
                    <a:lnTo>
                      <a:pt x="1843" y="4"/>
                    </a:lnTo>
                    <a:cubicBezTo>
                      <a:pt x="1842" y="4"/>
                      <a:pt x="1841" y="3"/>
                      <a:pt x="1841" y="2"/>
                    </a:cubicBezTo>
                    <a:cubicBezTo>
                      <a:pt x="1841" y="1"/>
                      <a:pt x="1842" y="0"/>
                      <a:pt x="1843" y="0"/>
                    </a:cubicBezTo>
                    <a:close/>
                    <a:moveTo>
                      <a:pt x="1851" y="0"/>
                    </a:moveTo>
                    <a:lnTo>
                      <a:pt x="1851" y="0"/>
                    </a:lnTo>
                    <a:cubicBezTo>
                      <a:pt x="1852" y="0"/>
                      <a:pt x="1853" y="1"/>
                      <a:pt x="1853" y="2"/>
                    </a:cubicBezTo>
                    <a:cubicBezTo>
                      <a:pt x="1853" y="3"/>
                      <a:pt x="1852" y="4"/>
                      <a:pt x="1851" y="4"/>
                    </a:cubicBezTo>
                    <a:lnTo>
                      <a:pt x="1851" y="4"/>
                    </a:lnTo>
                    <a:cubicBezTo>
                      <a:pt x="1850" y="4"/>
                      <a:pt x="1849" y="3"/>
                      <a:pt x="1849" y="2"/>
                    </a:cubicBezTo>
                    <a:cubicBezTo>
                      <a:pt x="1849" y="1"/>
                      <a:pt x="1850" y="0"/>
                      <a:pt x="1851" y="0"/>
                    </a:cubicBezTo>
                    <a:close/>
                    <a:moveTo>
                      <a:pt x="1859" y="0"/>
                    </a:moveTo>
                    <a:lnTo>
                      <a:pt x="1859" y="0"/>
                    </a:lnTo>
                    <a:cubicBezTo>
                      <a:pt x="1860" y="0"/>
                      <a:pt x="1861" y="1"/>
                      <a:pt x="1861" y="2"/>
                    </a:cubicBezTo>
                    <a:cubicBezTo>
                      <a:pt x="1861" y="3"/>
                      <a:pt x="1860" y="4"/>
                      <a:pt x="1859" y="4"/>
                    </a:cubicBezTo>
                    <a:lnTo>
                      <a:pt x="1859" y="4"/>
                    </a:lnTo>
                    <a:cubicBezTo>
                      <a:pt x="1858" y="4"/>
                      <a:pt x="1857" y="3"/>
                      <a:pt x="1857" y="2"/>
                    </a:cubicBezTo>
                    <a:cubicBezTo>
                      <a:pt x="1857" y="1"/>
                      <a:pt x="1858" y="0"/>
                      <a:pt x="1859" y="0"/>
                    </a:cubicBezTo>
                    <a:close/>
                    <a:moveTo>
                      <a:pt x="1867" y="0"/>
                    </a:moveTo>
                    <a:lnTo>
                      <a:pt x="1867" y="0"/>
                    </a:lnTo>
                    <a:cubicBezTo>
                      <a:pt x="1868" y="0"/>
                      <a:pt x="1869" y="1"/>
                      <a:pt x="1869" y="2"/>
                    </a:cubicBezTo>
                    <a:cubicBezTo>
                      <a:pt x="1869" y="3"/>
                      <a:pt x="1868" y="4"/>
                      <a:pt x="1867" y="4"/>
                    </a:cubicBezTo>
                    <a:lnTo>
                      <a:pt x="1867" y="4"/>
                    </a:lnTo>
                    <a:cubicBezTo>
                      <a:pt x="1866" y="4"/>
                      <a:pt x="1865" y="3"/>
                      <a:pt x="1865" y="2"/>
                    </a:cubicBezTo>
                    <a:cubicBezTo>
                      <a:pt x="1865" y="1"/>
                      <a:pt x="1866" y="0"/>
                      <a:pt x="1867" y="0"/>
                    </a:cubicBezTo>
                    <a:close/>
                    <a:moveTo>
                      <a:pt x="1875" y="0"/>
                    </a:moveTo>
                    <a:lnTo>
                      <a:pt x="1875" y="0"/>
                    </a:lnTo>
                    <a:cubicBezTo>
                      <a:pt x="1876" y="0"/>
                      <a:pt x="1877" y="1"/>
                      <a:pt x="1877" y="2"/>
                    </a:cubicBezTo>
                    <a:cubicBezTo>
                      <a:pt x="1877" y="3"/>
                      <a:pt x="1876" y="4"/>
                      <a:pt x="1875" y="4"/>
                    </a:cubicBezTo>
                    <a:lnTo>
                      <a:pt x="1875" y="4"/>
                    </a:lnTo>
                    <a:cubicBezTo>
                      <a:pt x="1874" y="4"/>
                      <a:pt x="1873" y="3"/>
                      <a:pt x="1873" y="2"/>
                    </a:cubicBezTo>
                    <a:cubicBezTo>
                      <a:pt x="1873" y="1"/>
                      <a:pt x="1874" y="0"/>
                      <a:pt x="1875" y="0"/>
                    </a:cubicBezTo>
                    <a:close/>
                    <a:moveTo>
                      <a:pt x="1883" y="0"/>
                    </a:moveTo>
                    <a:lnTo>
                      <a:pt x="1883" y="0"/>
                    </a:lnTo>
                    <a:cubicBezTo>
                      <a:pt x="1884" y="0"/>
                      <a:pt x="1885" y="1"/>
                      <a:pt x="1885" y="2"/>
                    </a:cubicBezTo>
                    <a:cubicBezTo>
                      <a:pt x="1885" y="3"/>
                      <a:pt x="1884" y="4"/>
                      <a:pt x="1883" y="4"/>
                    </a:cubicBezTo>
                    <a:lnTo>
                      <a:pt x="1883" y="4"/>
                    </a:lnTo>
                    <a:cubicBezTo>
                      <a:pt x="1882" y="4"/>
                      <a:pt x="1881" y="3"/>
                      <a:pt x="1881" y="2"/>
                    </a:cubicBezTo>
                    <a:cubicBezTo>
                      <a:pt x="1881" y="1"/>
                      <a:pt x="1882" y="0"/>
                      <a:pt x="1883" y="0"/>
                    </a:cubicBezTo>
                    <a:close/>
                    <a:moveTo>
                      <a:pt x="1891" y="0"/>
                    </a:moveTo>
                    <a:lnTo>
                      <a:pt x="1891" y="0"/>
                    </a:lnTo>
                    <a:cubicBezTo>
                      <a:pt x="1892" y="0"/>
                      <a:pt x="1893" y="1"/>
                      <a:pt x="1893" y="2"/>
                    </a:cubicBezTo>
                    <a:cubicBezTo>
                      <a:pt x="1893" y="3"/>
                      <a:pt x="1892" y="4"/>
                      <a:pt x="1891" y="4"/>
                    </a:cubicBezTo>
                    <a:lnTo>
                      <a:pt x="1891" y="4"/>
                    </a:lnTo>
                    <a:cubicBezTo>
                      <a:pt x="1890" y="4"/>
                      <a:pt x="1889" y="3"/>
                      <a:pt x="1889" y="2"/>
                    </a:cubicBezTo>
                    <a:cubicBezTo>
                      <a:pt x="1889" y="1"/>
                      <a:pt x="1890" y="0"/>
                      <a:pt x="1891" y="0"/>
                    </a:cubicBezTo>
                    <a:close/>
                    <a:moveTo>
                      <a:pt x="1899" y="0"/>
                    </a:moveTo>
                    <a:lnTo>
                      <a:pt x="1899" y="0"/>
                    </a:lnTo>
                    <a:cubicBezTo>
                      <a:pt x="1900" y="0"/>
                      <a:pt x="1901" y="1"/>
                      <a:pt x="1901" y="2"/>
                    </a:cubicBezTo>
                    <a:cubicBezTo>
                      <a:pt x="1901" y="3"/>
                      <a:pt x="1900" y="4"/>
                      <a:pt x="1899" y="4"/>
                    </a:cubicBezTo>
                    <a:lnTo>
                      <a:pt x="1899" y="4"/>
                    </a:lnTo>
                    <a:cubicBezTo>
                      <a:pt x="1898" y="4"/>
                      <a:pt x="1897" y="3"/>
                      <a:pt x="1897" y="2"/>
                    </a:cubicBezTo>
                    <a:cubicBezTo>
                      <a:pt x="1897" y="1"/>
                      <a:pt x="1898" y="0"/>
                      <a:pt x="1899" y="0"/>
                    </a:cubicBezTo>
                    <a:close/>
                    <a:moveTo>
                      <a:pt x="1907" y="0"/>
                    </a:moveTo>
                    <a:lnTo>
                      <a:pt x="1907" y="0"/>
                    </a:lnTo>
                    <a:cubicBezTo>
                      <a:pt x="1908" y="0"/>
                      <a:pt x="1909" y="1"/>
                      <a:pt x="1909" y="2"/>
                    </a:cubicBezTo>
                    <a:cubicBezTo>
                      <a:pt x="1909" y="3"/>
                      <a:pt x="1908" y="4"/>
                      <a:pt x="1907" y="4"/>
                    </a:cubicBezTo>
                    <a:lnTo>
                      <a:pt x="1907" y="4"/>
                    </a:lnTo>
                    <a:cubicBezTo>
                      <a:pt x="1906" y="4"/>
                      <a:pt x="1905" y="3"/>
                      <a:pt x="1905" y="2"/>
                    </a:cubicBezTo>
                    <a:cubicBezTo>
                      <a:pt x="1905" y="1"/>
                      <a:pt x="1906" y="0"/>
                      <a:pt x="1907" y="0"/>
                    </a:cubicBezTo>
                    <a:close/>
                    <a:moveTo>
                      <a:pt x="1915" y="0"/>
                    </a:moveTo>
                    <a:lnTo>
                      <a:pt x="1915" y="0"/>
                    </a:lnTo>
                    <a:cubicBezTo>
                      <a:pt x="1916" y="0"/>
                      <a:pt x="1917" y="1"/>
                      <a:pt x="1917" y="2"/>
                    </a:cubicBezTo>
                    <a:cubicBezTo>
                      <a:pt x="1917" y="3"/>
                      <a:pt x="1916" y="4"/>
                      <a:pt x="1915" y="4"/>
                    </a:cubicBezTo>
                    <a:lnTo>
                      <a:pt x="1915" y="4"/>
                    </a:lnTo>
                    <a:cubicBezTo>
                      <a:pt x="1914" y="4"/>
                      <a:pt x="1913" y="3"/>
                      <a:pt x="1913" y="2"/>
                    </a:cubicBezTo>
                    <a:cubicBezTo>
                      <a:pt x="1913" y="1"/>
                      <a:pt x="1914" y="0"/>
                      <a:pt x="1915" y="0"/>
                    </a:cubicBezTo>
                    <a:close/>
                    <a:moveTo>
                      <a:pt x="1923" y="0"/>
                    </a:moveTo>
                    <a:lnTo>
                      <a:pt x="1923" y="0"/>
                    </a:lnTo>
                    <a:cubicBezTo>
                      <a:pt x="1924" y="0"/>
                      <a:pt x="1925" y="1"/>
                      <a:pt x="1925" y="2"/>
                    </a:cubicBezTo>
                    <a:cubicBezTo>
                      <a:pt x="1925" y="3"/>
                      <a:pt x="1924" y="4"/>
                      <a:pt x="1923" y="4"/>
                    </a:cubicBezTo>
                    <a:lnTo>
                      <a:pt x="1923" y="4"/>
                    </a:lnTo>
                    <a:cubicBezTo>
                      <a:pt x="1922" y="4"/>
                      <a:pt x="1921" y="3"/>
                      <a:pt x="1921" y="2"/>
                    </a:cubicBezTo>
                    <a:cubicBezTo>
                      <a:pt x="1921" y="1"/>
                      <a:pt x="1922" y="0"/>
                      <a:pt x="1923" y="0"/>
                    </a:cubicBezTo>
                    <a:close/>
                    <a:moveTo>
                      <a:pt x="1931" y="0"/>
                    </a:moveTo>
                    <a:lnTo>
                      <a:pt x="1931" y="0"/>
                    </a:lnTo>
                    <a:cubicBezTo>
                      <a:pt x="1932" y="0"/>
                      <a:pt x="1933" y="1"/>
                      <a:pt x="1933" y="2"/>
                    </a:cubicBezTo>
                    <a:cubicBezTo>
                      <a:pt x="1933" y="3"/>
                      <a:pt x="1932" y="4"/>
                      <a:pt x="1931" y="4"/>
                    </a:cubicBezTo>
                    <a:lnTo>
                      <a:pt x="1931" y="4"/>
                    </a:lnTo>
                    <a:cubicBezTo>
                      <a:pt x="1930" y="4"/>
                      <a:pt x="1929" y="3"/>
                      <a:pt x="1929" y="2"/>
                    </a:cubicBezTo>
                    <a:cubicBezTo>
                      <a:pt x="1929" y="1"/>
                      <a:pt x="1930" y="0"/>
                      <a:pt x="1931" y="0"/>
                    </a:cubicBezTo>
                    <a:close/>
                    <a:moveTo>
                      <a:pt x="1939" y="0"/>
                    </a:moveTo>
                    <a:lnTo>
                      <a:pt x="1939" y="0"/>
                    </a:lnTo>
                    <a:cubicBezTo>
                      <a:pt x="1940" y="0"/>
                      <a:pt x="1941" y="1"/>
                      <a:pt x="1941" y="2"/>
                    </a:cubicBezTo>
                    <a:cubicBezTo>
                      <a:pt x="1941" y="3"/>
                      <a:pt x="1940" y="4"/>
                      <a:pt x="1939" y="4"/>
                    </a:cubicBezTo>
                    <a:lnTo>
                      <a:pt x="1939" y="4"/>
                    </a:lnTo>
                    <a:cubicBezTo>
                      <a:pt x="1938" y="4"/>
                      <a:pt x="1937" y="3"/>
                      <a:pt x="1937" y="2"/>
                    </a:cubicBezTo>
                    <a:cubicBezTo>
                      <a:pt x="1937" y="1"/>
                      <a:pt x="1938" y="0"/>
                      <a:pt x="1939" y="0"/>
                    </a:cubicBezTo>
                    <a:close/>
                    <a:moveTo>
                      <a:pt x="1947" y="0"/>
                    </a:moveTo>
                    <a:lnTo>
                      <a:pt x="1947" y="0"/>
                    </a:lnTo>
                    <a:cubicBezTo>
                      <a:pt x="1948" y="0"/>
                      <a:pt x="1949" y="1"/>
                      <a:pt x="1949" y="2"/>
                    </a:cubicBezTo>
                    <a:cubicBezTo>
                      <a:pt x="1949" y="3"/>
                      <a:pt x="1948" y="4"/>
                      <a:pt x="1947" y="4"/>
                    </a:cubicBezTo>
                    <a:lnTo>
                      <a:pt x="1947" y="4"/>
                    </a:lnTo>
                    <a:cubicBezTo>
                      <a:pt x="1946" y="4"/>
                      <a:pt x="1945" y="3"/>
                      <a:pt x="1945" y="2"/>
                    </a:cubicBezTo>
                    <a:cubicBezTo>
                      <a:pt x="1945" y="1"/>
                      <a:pt x="1946" y="0"/>
                      <a:pt x="1947" y="0"/>
                    </a:cubicBezTo>
                    <a:close/>
                    <a:moveTo>
                      <a:pt x="1955" y="0"/>
                    </a:moveTo>
                    <a:lnTo>
                      <a:pt x="1955" y="0"/>
                    </a:lnTo>
                    <a:cubicBezTo>
                      <a:pt x="1956" y="0"/>
                      <a:pt x="1957" y="1"/>
                      <a:pt x="1957" y="2"/>
                    </a:cubicBezTo>
                    <a:cubicBezTo>
                      <a:pt x="1957" y="3"/>
                      <a:pt x="1956" y="4"/>
                      <a:pt x="1955" y="4"/>
                    </a:cubicBezTo>
                    <a:lnTo>
                      <a:pt x="1955" y="4"/>
                    </a:lnTo>
                    <a:cubicBezTo>
                      <a:pt x="1954" y="4"/>
                      <a:pt x="1953" y="3"/>
                      <a:pt x="1953" y="2"/>
                    </a:cubicBezTo>
                    <a:cubicBezTo>
                      <a:pt x="1953" y="1"/>
                      <a:pt x="1954" y="0"/>
                      <a:pt x="1955" y="0"/>
                    </a:cubicBezTo>
                    <a:close/>
                    <a:moveTo>
                      <a:pt x="1963" y="0"/>
                    </a:moveTo>
                    <a:lnTo>
                      <a:pt x="1963" y="0"/>
                    </a:lnTo>
                    <a:cubicBezTo>
                      <a:pt x="1964" y="0"/>
                      <a:pt x="1965" y="1"/>
                      <a:pt x="1965" y="2"/>
                    </a:cubicBezTo>
                    <a:cubicBezTo>
                      <a:pt x="1965" y="3"/>
                      <a:pt x="1964" y="4"/>
                      <a:pt x="1963" y="4"/>
                    </a:cubicBezTo>
                    <a:lnTo>
                      <a:pt x="1963" y="4"/>
                    </a:lnTo>
                    <a:cubicBezTo>
                      <a:pt x="1962" y="4"/>
                      <a:pt x="1961" y="3"/>
                      <a:pt x="1961" y="2"/>
                    </a:cubicBezTo>
                    <a:cubicBezTo>
                      <a:pt x="1961" y="1"/>
                      <a:pt x="1962" y="0"/>
                      <a:pt x="1963" y="0"/>
                    </a:cubicBezTo>
                    <a:close/>
                    <a:moveTo>
                      <a:pt x="1971" y="0"/>
                    </a:moveTo>
                    <a:lnTo>
                      <a:pt x="1971" y="0"/>
                    </a:lnTo>
                    <a:cubicBezTo>
                      <a:pt x="1972" y="0"/>
                      <a:pt x="1973" y="1"/>
                      <a:pt x="1973" y="2"/>
                    </a:cubicBezTo>
                    <a:cubicBezTo>
                      <a:pt x="1973" y="3"/>
                      <a:pt x="1972" y="4"/>
                      <a:pt x="1971" y="4"/>
                    </a:cubicBezTo>
                    <a:lnTo>
                      <a:pt x="1971" y="4"/>
                    </a:lnTo>
                    <a:cubicBezTo>
                      <a:pt x="1970" y="4"/>
                      <a:pt x="1969" y="3"/>
                      <a:pt x="1969" y="2"/>
                    </a:cubicBezTo>
                    <a:cubicBezTo>
                      <a:pt x="1969" y="1"/>
                      <a:pt x="1970" y="0"/>
                      <a:pt x="1971" y="0"/>
                    </a:cubicBezTo>
                    <a:close/>
                    <a:moveTo>
                      <a:pt x="1979" y="0"/>
                    </a:moveTo>
                    <a:lnTo>
                      <a:pt x="1979" y="0"/>
                    </a:lnTo>
                    <a:cubicBezTo>
                      <a:pt x="1980" y="0"/>
                      <a:pt x="1981" y="1"/>
                      <a:pt x="1981" y="2"/>
                    </a:cubicBezTo>
                    <a:cubicBezTo>
                      <a:pt x="1981" y="3"/>
                      <a:pt x="1980" y="4"/>
                      <a:pt x="1979" y="4"/>
                    </a:cubicBezTo>
                    <a:lnTo>
                      <a:pt x="1979" y="4"/>
                    </a:lnTo>
                    <a:cubicBezTo>
                      <a:pt x="1978" y="4"/>
                      <a:pt x="1977" y="3"/>
                      <a:pt x="1977" y="2"/>
                    </a:cubicBezTo>
                    <a:cubicBezTo>
                      <a:pt x="1977" y="1"/>
                      <a:pt x="1978" y="0"/>
                      <a:pt x="1979" y="0"/>
                    </a:cubicBezTo>
                    <a:close/>
                    <a:moveTo>
                      <a:pt x="1987" y="0"/>
                    </a:moveTo>
                    <a:lnTo>
                      <a:pt x="1987" y="0"/>
                    </a:lnTo>
                    <a:cubicBezTo>
                      <a:pt x="1988" y="0"/>
                      <a:pt x="1989" y="1"/>
                      <a:pt x="1989" y="2"/>
                    </a:cubicBezTo>
                    <a:cubicBezTo>
                      <a:pt x="1989" y="3"/>
                      <a:pt x="1988" y="4"/>
                      <a:pt x="1987" y="4"/>
                    </a:cubicBezTo>
                    <a:lnTo>
                      <a:pt x="1987" y="4"/>
                    </a:lnTo>
                    <a:cubicBezTo>
                      <a:pt x="1986" y="4"/>
                      <a:pt x="1985" y="3"/>
                      <a:pt x="1985" y="2"/>
                    </a:cubicBezTo>
                    <a:cubicBezTo>
                      <a:pt x="1985" y="1"/>
                      <a:pt x="1986" y="0"/>
                      <a:pt x="1987" y="0"/>
                    </a:cubicBezTo>
                    <a:close/>
                    <a:moveTo>
                      <a:pt x="1995" y="0"/>
                    </a:moveTo>
                    <a:lnTo>
                      <a:pt x="1995" y="0"/>
                    </a:lnTo>
                    <a:cubicBezTo>
                      <a:pt x="1996" y="0"/>
                      <a:pt x="1997" y="1"/>
                      <a:pt x="1997" y="2"/>
                    </a:cubicBezTo>
                    <a:cubicBezTo>
                      <a:pt x="1997" y="3"/>
                      <a:pt x="1996" y="4"/>
                      <a:pt x="1995" y="4"/>
                    </a:cubicBezTo>
                    <a:lnTo>
                      <a:pt x="1995" y="4"/>
                    </a:lnTo>
                    <a:cubicBezTo>
                      <a:pt x="1994" y="4"/>
                      <a:pt x="1993" y="3"/>
                      <a:pt x="1993" y="2"/>
                    </a:cubicBezTo>
                    <a:cubicBezTo>
                      <a:pt x="1993" y="1"/>
                      <a:pt x="1994" y="0"/>
                      <a:pt x="1995" y="0"/>
                    </a:cubicBezTo>
                    <a:close/>
                    <a:moveTo>
                      <a:pt x="2003" y="0"/>
                    </a:moveTo>
                    <a:lnTo>
                      <a:pt x="2003" y="0"/>
                    </a:lnTo>
                    <a:cubicBezTo>
                      <a:pt x="2004" y="0"/>
                      <a:pt x="2005" y="1"/>
                      <a:pt x="2005" y="2"/>
                    </a:cubicBezTo>
                    <a:cubicBezTo>
                      <a:pt x="2005" y="3"/>
                      <a:pt x="2004" y="4"/>
                      <a:pt x="2003" y="4"/>
                    </a:cubicBezTo>
                    <a:lnTo>
                      <a:pt x="2003" y="4"/>
                    </a:lnTo>
                    <a:cubicBezTo>
                      <a:pt x="2002" y="4"/>
                      <a:pt x="2001" y="3"/>
                      <a:pt x="2001" y="2"/>
                    </a:cubicBezTo>
                    <a:cubicBezTo>
                      <a:pt x="2001" y="1"/>
                      <a:pt x="2002" y="0"/>
                      <a:pt x="2003" y="0"/>
                    </a:cubicBezTo>
                    <a:close/>
                    <a:moveTo>
                      <a:pt x="2011" y="0"/>
                    </a:moveTo>
                    <a:lnTo>
                      <a:pt x="2011" y="0"/>
                    </a:lnTo>
                    <a:cubicBezTo>
                      <a:pt x="2012" y="0"/>
                      <a:pt x="2013" y="1"/>
                      <a:pt x="2013" y="2"/>
                    </a:cubicBezTo>
                    <a:cubicBezTo>
                      <a:pt x="2013" y="3"/>
                      <a:pt x="2012" y="4"/>
                      <a:pt x="2011" y="4"/>
                    </a:cubicBezTo>
                    <a:lnTo>
                      <a:pt x="2011" y="4"/>
                    </a:lnTo>
                    <a:cubicBezTo>
                      <a:pt x="2010" y="4"/>
                      <a:pt x="2009" y="3"/>
                      <a:pt x="2009" y="2"/>
                    </a:cubicBezTo>
                    <a:cubicBezTo>
                      <a:pt x="2009" y="1"/>
                      <a:pt x="2010" y="0"/>
                      <a:pt x="2011" y="0"/>
                    </a:cubicBezTo>
                    <a:close/>
                    <a:moveTo>
                      <a:pt x="2019" y="0"/>
                    </a:moveTo>
                    <a:lnTo>
                      <a:pt x="2019" y="0"/>
                    </a:lnTo>
                    <a:cubicBezTo>
                      <a:pt x="2020" y="0"/>
                      <a:pt x="2021" y="1"/>
                      <a:pt x="2021" y="2"/>
                    </a:cubicBezTo>
                    <a:cubicBezTo>
                      <a:pt x="2021" y="3"/>
                      <a:pt x="2020" y="4"/>
                      <a:pt x="2019" y="4"/>
                    </a:cubicBezTo>
                    <a:lnTo>
                      <a:pt x="2019" y="4"/>
                    </a:lnTo>
                    <a:cubicBezTo>
                      <a:pt x="2018" y="4"/>
                      <a:pt x="2017" y="3"/>
                      <a:pt x="2017" y="2"/>
                    </a:cubicBezTo>
                    <a:cubicBezTo>
                      <a:pt x="2017" y="1"/>
                      <a:pt x="2018" y="0"/>
                      <a:pt x="2019" y="0"/>
                    </a:cubicBezTo>
                    <a:close/>
                    <a:moveTo>
                      <a:pt x="2027" y="0"/>
                    </a:moveTo>
                    <a:lnTo>
                      <a:pt x="2027" y="0"/>
                    </a:lnTo>
                    <a:cubicBezTo>
                      <a:pt x="2028" y="0"/>
                      <a:pt x="2029" y="1"/>
                      <a:pt x="2029" y="2"/>
                    </a:cubicBezTo>
                    <a:cubicBezTo>
                      <a:pt x="2029" y="3"/>
                      <a:pt x="2028" y="4"/>
                      <a:pt x="2027" y="4"/>
                    </a:cubicBezTo>
                    <a:lnTo>
                      <a:pt x="2027" y="4"/>
                    </a:lnTo>
                    <a:cubicBezTo>
                      <a:pt x="2026" y="4"/>
                      <a:pt x="2025" y="3"/>
                      <a:pt x="2025" y="2"/>
                    </a:cubicBezTo>
                    <a:cubicBezTo>
                      <a:pt x="2025" y="1"/>
                      <a:pt x="2026" y="0"/>
                      <a:pt x="2027" y="0"/>
                    </a:cubicBezTo>
                    <a:close/>
                    <a:moveTo>
                      <a:pt x="2035" y="0"/>
                    </a:moveTo>
                    <a:lnTo>
                      <a:pt x="2035" y="0"/>
                    </a:lnTo>
                    <a:cubicBezTo>
                      <a:pt x="2036" y="0"/>
                      <a:pt x="2037" y="1"/>
                      <a:pt x="2037" y="2"/>
                    </a:cubicBezTo>
                    <a:cubicBezTo>
                      <a:pt x="2037" y="3"/>
                      <a:pt x="2036" y="4"/>
                      <a:pt x="2035" y="4"/>
                    </a:cubicBezTo>
                    <a:lnTo>
                      <a:pt x="2035" y="4"/>
                    </a:lnTo>
                    <a:cubicBezTo>
                      <a:pt x="2034" y="4"/>
                      <a:pt x="2033" y="3"/>
                      <a:pt x="2033" y="2"/>
                    </a:cubicBezTo>
                    <a:cubicBezTo>
                      <a:pt x="2033" y="1"/>
                      <a:pt x="2034" y="0"/>
                      <a:pt x="2035" y="0"/>
                    </a:cubicBezTo>
                    <a:close/>
                    <a:moveTo>
                      <a:pt x="2043" y="0"/>
                    </a:moveTo>
                    <a:lnTo>
                      <a:pt x="2043" y="0"/>
                    </a:lnTo>
                    <a:cubicBezTo>
                      <a:pt x="2044" y="0"/>
                      <a:pt x="2045" y="1"/>
                      <a:pt x="2045" y="2"/>
                    </a:cubicBezTo>
                    <a:cubicBezTo>
                      <a:pt x="2045" y="3"/>
                      <a:pt x="2044" y="4"/>
                      <a:pt x="2043" y="4"/>
                    </a:cubicBezTo>
                    <a:lnTo>
                      <a:pt x="2043" y="4"/>
                    </a:lnTo>
                    <a:cubicBezTo>
                      <a:pt x="2042" y="4"/>
                      <a:pt x="2041" y="3"/>
                      <a:pt x="2041" y="2"/>
                    </a:cubicBezTo>
                    <a:cubicBezTo>
                      <a:pt x="2041" y="1"/>
                      <a:pt x="2042" y="0"/>
                      <a:pt x="2043" y="0"/>
                    </a:cubicBezTo>
                    <a:close/>
                    <a:moveTo>
                      <a:pt x="2051" y="0"/>
                    </a:moveTo>
                    <a:lnTo>
                      <a:pt x="2051" y="0"/>
                    </a:lnTo>
                    <a:cubicBezTo>
                      <a:pt x="2052" y="0"/>
                      <a:pt x="2053" y="1"/>
                      <a:pt x="2053" y="2"/>
                    </a:cubicBezTo>
                    <a:cubicBezTo>
                      <a:pt x="2053" y="3"/>
                      <a:pt x="2052" y="4"/>
                      <a:pt x="2051" y="4"/>
                    </a:cubicBezTo>
                    <a:lnTo>
                      <a:pt x="2051" y="4"/>
                    </a:lnTo>
                    <a:cubicBezTo>
                      <a:pt x="2050" y="4"/>
                      <a:pt x="2049" y="3"/>
                      <a:pt x="2049" y="2"/>
                    </a:cubicBezTo>
                    <a:cubicBezTo>
                      <a:pt x="2049" y="1"/>
                      <a:pt x="2050" y="0"/>
                      <a:pt x="2051" y="0"/>
                    </a:cubicBezTo>
                    <a:close/>
                    <a:moveTo>
                      <a:pt x="2059" y="0"/>
                    </a:moveTo>
                    <a:lnTo>
                      <a:pt x="2059" y="0"/>
                    </a:lnTo>
                    <a:cubicBezTo>
                      <a:pt x="2060" y="0"/>
                      <a:pt x="2061" y="1"/>
                      <a:pt x="2061" y="2"/>
                    </a:cubicBezTo>
                    <a:cubicBezTo>
                      <a:pt x="2061" y="3"/>
                      <a:pt x="2060" y="4"/>
                      <a:pt x="2059" y="4"/>
                    </a:cubicBezTo>
                    <a:lnTo>
                      <a:pt x="2059" y="4"/>
                    </a:lnTo>
                    <a:cubicBezTo>
                      <a:pt x="2058" y="4"/>
                      <a:pt x="2057" y="3"/>
                      <a:pt x="2057" y="2"/>
                    </a:cubicBezTo>
                    <a:cubicBezTo>
                      <a:pt x="2057" y="1"/>
                      <a:pt x="2058" y="0"/>
                      <a:pt x="2059" y="0"/>
                    </a:cubicBezTo>
                    <a:close/>
                    <a:moveTo>
                      <a:pt x="2067" y="0"/>
                    </a:moveTo>
                    <a:lnTo>
                      <a:pt x="2067" y="0"/>
                    </a:lnTo>
                    <a:cubicBezTo>
                      <a:pt x="2068" y="0"/>
                      <a:pt x="2069" y="1"/>
                      <a:pt x="2069" y="2"/>
                    </a:cubicBezTo>
                    <a:cubicBezTo>
                      <a:pt x="2069" y="3"/>
                      <a:pt x="2068" y="4"/>
                      <a:pt x="2067" y="4"/>
                    </a:cubicBezTo>
                    <a:lnTo>
                      <a:pt x="2067" y="4"/>
                    </a:lnTo>
                    <a:cubicBezTo>
                      <a:pt x="2066" y="4"/>
                      <a:pt x="2065" y="3"/>
                      <a:pt x="2065" y="2"/>
                    </a:cubicBezTo>
                    <a:cubicBezTo>
                      <a:pt x="2065" y="1"/>
                      <a:pt x="2066" y="0"/>
                      <a:pt x="2067" y="0"/>
                    </a:cubicBezTo>
                    <a:close/>
                    <a:moveTo>
                      <a:pt x="2075" y="0"/>
                    </a:moveTo>
                    <a:lnTo>
                      <a:pt x="2075" y="0"/>
                    </a:lnTo>
                    <a:cubicBezTo>
                      <a:pt x="2076" y="0"/>
                      <a:pt x="2077" y="1"/>
                      <a:pt x="2077" y="2"/>
                    </a:cubicBezTo>
                    <a:cubicBezTo>
                      <a:pt x="2077" y="3"/>
                      <a:pt x="2076" y="4"/>
                      <a:pt x="2075" y="4"/>
                    </a:cubicBezTo>
                    <a:lnTo>
                      <a:pt x="2075" y="4"/>
                    </a:lnTo>
                    <a:cubicBezTo>
                      <a:pt x="2074" y="4"/>
                      <a:pt x="2073" y="3"/>
                      <a:pt x="2073" y="2"/>
                    </a:cubicBezTo>
                    <a:cubicBezTo>
                      <a:pt x="2073" y="1"/>
                      <a:pt x="2074" y="0"/>
                      <a:pt x="2075" y="0"/>
                    </a:cubicBezTo>
                    <a:close/>
                    <a:moveTo>
                      <a:pt x="2083" y="0"/>
                    </a:moveTo>
                    <a:lnTo>
                      <a:pt x="2083" y="0"/>
                    </a:lnTo>
                    <a:cubicBezTo>
                      <a:pt x="2084" y="0"/>
                      <a:pt x="2085" y="1"/>
                      <a:pt x="2085" y="2"/>
                    </a:cubicBezTo>
                    <a:cubicBezTo>
                      <a:pt x="2085" y="3"/>
                      <a:pt x="2084" y="4"/>
                      <a:pt x="2083" y="4"/>
                    </a:cubicBezTo>
                    <a:lnTo>
                      <a:pt x="2083" y="4"/>
                    </a:lnTo>
                    <a:cubicBezTo>
                      <a:pt x="2082" y="4"/>
                      <a:pt x="2081" y="3"/>
                      <a:pt x="2081" y="2"/>
                    </a:cubicBezTo>
                    <a:cubicBezTo>
                      <a:pt x="2081" y="1"/>
                      <a:pt x="2082" y="0"/>
                      <a:pt x="2083" y="0"/>
                    </a:cubicBezTo>
                    <a:close/>
                    <a:moveTo>
                      <a:pt x="2091" y="0"/>
                    </a:moveTo>
                    <a:lnTo>
                      <a:pt x="2091" y="0"/>
                    </a:lnTo>
                    <a:cubicBezTo>
                      <a:pt x="2092" y="0"/>
                      <a:pt x="2093" y="1"/>
                      <a:pt x="2093" y="2"/>
                    </a:cubicBezTo>
                    <a:cubicBezTo>
                      <a:pt x="2093" y="3"/>
                      <a:pt x="2092" y="4"/>
                      <a:pt x="2091" y="4"/>
                    </a:cubicBezTo>
                    <a:lnTo>
                      <a:pt x="2091" y="4"/>
                    </a:lnTo>
                    <a:cubicBezTo>
                      <a:pt x="2090" y="4"/>
                      <a:pt x="2089" y="3"/>
                      <a:pt x="2089" y="2"/>
                    </a:cubicBezTo>
                    <a:cubicBezTo>
                      <a:pt x="2089" y="1"/>
                      <a:pt x="2090" y="0"/>
                      <a:pt x="2091" y="0"/>
                    </a:cubicBezTo>
                    <a:close/>
                    <a:moveTo>
                      <a:pt x="2099" y="0"/>
                    </a:moveTo>
                    <a:lnTo>
                      <a:pt x="2099" y="0"/>
                    </a:lnTo>
                    <a:cubicBezTo>
                      <a:pt x="2100" y="0"/>
                      <a:pt x="2101" y="1"/>
                      <a:pt x="2101" y="2"/>
                    </a:cubicBezTo>
                    <a:cubicBezTo>
                      <a:pt x="2101" y="3"/>
                      <a:pt x="2100" y="4"/>
                      <a:pt x="2099" y="4"/>
                    </a:cubicBezTo>
                    <a:lnTo>
                      <a:pt x="2099" y="4"/>
                    </a:lnTo>
                    <a:cubicBezTo>
                      <a:pt x="2098" y="4"/>
                      <a:pt x="2097" y="3"/>
                      <a:pt x="2097" y="2"/>
                    </a:cubicBezTo>
                    <a:cubicBezTo>
                      <a:pt x="2097" y="1"/>
                      <a:pt x="2098" y="0"/>
                      <a:pt x="2099" y="0"/>
                    </a:cubicBezTo>
                    <a:close/>
                    <a:moveTo>
                      <a:pt x="2107" y="0"/>
                    </a:moveTo>
                    <a:lnTo>
                      <a:pt x="2107" y="0"/>
                    </a:lnTo>
                    <a:cubicBezTo>
                      <a:pt x="2108" y="0"/>
                      <a:pt x="2109" y="1"/>
                      <a:pt x="2109" y="2"/>
                    </a:cubicBezTo>
                    <a:cubicBezTo>
                      <a:pt x="2109" y="3"/>
                      <a:pt x="2108" y="4"/>
                      <a:pt x="2107" y="4"/>
                    </a:cubicBezTo>
                    <a:lnTo>
                      <a:pt x="2107" y="4"/>
                    </a:lnTo>
                    <a:cubicBezTo>
                      <a:pt x="2106" y="4"/>
                      <a:pt x="2105" y="3"/>
                      <a:pt x="2105" y="2"/>
                    </a:cubicBezTo>
                    <a:cubicBezTo>
                      <a:pt x="2105" y="1"/>
                      <a:pt x="2106" y="0"/>
                      <a:pt x="2107" y="0"/>
                    </a:cubicBezTo>
                    <a:close/>
                    <a:moveTo>
                      <a:pt x="2115" y="0"/>
                    </a:moveTo>
                    <a:lnTo>
                      <a:pt x="2115" y="0"/>
                    </a:lnTo>
                    <a:cubicBezTo>
                      <a:pt x="2116" y="0"/>
                      <a:pt x="2117" y="1"/>
                      <a:pt x="2117" y="2"/>
                    </a:cubicBezTo>
                    <a:cubicBezTo>
                      <a:pt x="2117" y="3"/>
                      <a:pt x="2116" y="4"/>
                      <a:pt x="2115" y="4"/>
                    </a:cubicBezTo>
                    <a:lnTo>
                      <a:pt x="2115" y="4"/>
                    </a:lnTo>
                    <a:cubicBezTo>
                      <a:pt x="2114" y="4"/>
                      <a:pt x="2113" y="3"/>
                      <a:pt x="2113" y="2"/>
                    </a:cubicBezTo>
                    <a:cubicBezTo>
                      <a:pt x="2113" y="1"/>
                      <a:pt x="2114" y="0"/>
                      <a:pt x="2115" y="0"/>
                    </a:cubicBezTo>
                    <a:close/>
                    <a:moveTo>
                      <a:pt x="2123" y="0"/>
                    </a:moveTo>
                    <a:lnTo>
                      <a:pt x="2123" y="0"/>
                    </a:lnTo>
                    <a:cubicBezTo>
                      <a:pt x="2124" y="0"/>
                      <a:pt x="2125" y="1"/>
                      <a:pt x="2125" y="2"/>
                    </a:cubicBezTo>
                    <a:cubicBezTo>
                      <a:pt x="2125" y="3"/>
                      <a:pt x="2124" y="4"/>
                      <a:pt x="2123" y="4"/>
                    </a:cubicBezTo>
                    <a:lnTo>
                      <a:pt x="2123" y="4"/>
                    </a:lnTo>
                    <a:cubicBezTo>
                      <a:pt x="2122" y="4"/>
                      <a:pt x="2121" y="3"/>
                      <a:pt x="2121" y="2"/>
                    </a:cubicBezTo>
                    <a:cubicBezTo>
                      <a:pt x="2121" y="1"/>
                      <a:pt x="2122" y="0"/>
                      <a:pt x="2123" y="0"/>
                    </a:cubicBezTo>
                    <a:close/>
                    <a:moveTo>
                      <a:pt x="2131" y="0"/>
                    </a:moveTo>
                    <a:lnTo>
                      <a:pt x="2131" y="0"/>
                    </a:lnTo>
                    <a:cubicBezTo>
                      <a:pt x="2132" y="0"/>
                      <a:pt x="2133" y="1"/>
                      <a:pt x="2133" y="2"/>
                    </a:cubicBezTo>
                    <a:cubicBezTo>
                      <a:pt x="2133" y="4"/>
                      <a:pt x="2132" y="4"/>
                      <a:pt x="2131" y="4"/>
                    </a:cubicBezTo>
                    <a:lnTo>
                      <a:pt x="2131" y="4"/>
                    </a:lnTo>
                    <a:cubicBezTo>
                      <a:pt x="2130" y="4"/>
                      <a:pt x="2129" y="4"/>
                      <a:pt x="2129" y="2"/>
                    </a:cubicBezTo>
                    <a:cubicBezTo>
                      <a:pt x="2129" y="1"/>
                      <a:pt x="2130" y="0"/>
                      <a:pt x="2131" y="0"/>
                    </a:cubicBezTo>
                    <a:close/>
                    <a:moveTo>
                      <a:pt x="2139" y="0"/>
                    </a:moveTo>
                    <a:lnTo>
                      <a:pt x="2139" y="0"/>
                    </a:lnTo>
                    <a:cubicBezTo>
                      <a:pt x="2140" y="0"/>
                      <a:pt x="2141" y="1"/>
                      <a:pt x="2141" y="2"/>
                    </a:cubicBezTo>
                    <a:cubicBezTo>
                      <a:pt x="2141" y="4"/>
                      <a:pt x="2140" y="4"/>
                      <a:pt x="2139" y="4"/>
                    </a:cubicBezTo>
                    <a:lnTo>
                      <a:pt x="2139" y="4"/>
                    </a:lnTo>
                    <a:cubicBezTo>
                      <a:pt x="2138" y="4"/>
                      <a:pt x="2137" y="4"/>
                      <a:pt x="2137" y="2"/>
                    </a:cubicBezTo>
                    <a:cubicBezTo>
                      <a:pt x="2137" y="1"/>
                      <a:pt x="2138" y="0"/>
                      <a:pt x="2139" y="0"/>
                    </a:cubicBezTo>
                    <a:close/>
                    <a:moveTo>
                      <a:pt x="2147" y="0"/>
                    </a:moveTo>
                    <a:lnTo>
                      <a:pt x="2147" y="0"/>
                    </a:lnTo>
                    <a:cubicBezTo>
                      <a:pt x="2148" y="0"/>
                      <a:pt x="2149" y="1"/>
                      <a:pt x="2149" y="2"/>
                    </a:cubicBezTo>
                    <a:cubicBezTo>
                      <a:pt x="2149" y="4"/>
                      <a:pt x="2148" y="4"/>
                      <a:pt x="2147" y="4"/>
                    </a:cubicBezTo>
                    <a:lnTo>
                      <a:pt x="2147" y="4"/>
                    </a:lnTo>
                    <a:cubicBezTo>
                      <a:pt x="2146" y="4"/>
                      <a:pt x="2145" y="4"/>
                      <a:pt x="2145" y="2"/>
                    </a:cubicBezTo>
                    <a:cubicBezTo>
                      <a:pt x="2145" y="1"/>
                      <a:pt x="2146" y="0"/>
                      <a:pt x="2147" y="0"/>
                    </a:cubicBezTo>
                    <a:close/>
                    <a:moveTo>
                      <a:pt x="2155" y="0"/>
                    </a:moveTo>
                    <a:lnTo>
                      <a:pt x="2155" y="0"/>
                    </a:lnTo>
                    <a:cubicBezTo>
                      <a:pt x="2156" y="0"/>
                      <a:pt x="2157" y="1"/>
                      <a:pt x="2157" y="2"/>
                    </a:cubicBezTo>
                    <a:cubicBezTo>
                      <a:pt x="2157" y="4"/>
                      <a:pt x="2156" y="4"/>
                      <a:pt x="2155" y="4"/>
                    </a:cubicBezTo>
                    <a:lnTo>
                      <a:pt x="2155" y="4"/>
                    </a:lnTo>
                    <a:cubicBezTo>
                      <a:pt x="2154" y="4"/>
                      <a:pt x="2153" y="4"/>
                      <a:pt x="2153" y="2"/>
                    </a:cubicBezTo>
                    <a:cubicBezTo>
                      <a:pt x="2153" y="1"/>
                      <a:pt x="2154" y="0"/>
                      <a:pt x="2155" y="0"/>
                    </a:cubicBezTo>
                    <a:close/>
                    <a:moveTo>
                      <a:pt x="2163" y="0"/>
                    </a:moveTo>
                    <a:lnTo>
                      <a:pt x="2163" y="0"/>
                    </a:lnTo>
                    <a:cubicBezTo>
                      <a:pt x="2164" y="0"/>
                      <a:pt x="2165" y="1"/>
                      <a:pt x="2165" y="2"/>
                    </a:cubicBezTo>
                    <a:cubicBezTo>
                      <a:pt x="2165" y="4"/>
                      <a:pt x="2164" y="4"/>
                      <a:pt x="2163" y="4"/>
                    </a:cubicBezTo>
                    <a:lnTo>
                      <a:pt x="2163" y="4"/>
                    </a:lnTo>
                    <a:cubicBezTo>
                      <a:pt x="2162" y="4"/>
                      <a:pt x="2161" y="4"/>
                      <a:pt x="2161" y="2"/>
                    </a:cubicBezTo>
                    <a:cubicBezTo>
                      <a:pt x="2161" y="1"/>
                      <a:pt x="2162" y="0"/>
                      <a:pt x="2163" y="0"/>
                    </a:cubicBezTo>
                    <a:close/>
                    <a:moveTo>
                      <a:pt x="2171" y="0"/>
                    </a:moveTo>
                    <a:lnTo>
                      <a:pt x="2171" y="0"/>
                    </a:lnTo>
                    <a:cubicBezTo>
                      <a:pt x="2172" y="0"/>
                      <a:pt x="2173" y="1"/>
                      <a:pt x="2173" y="2"/>
                    </a:cubicBezTo>
                    <a:cubicBezTo>
                      <a:pt x="2173" y="4"/>
                      <a:pt x="2172" y="4"/>
                      <a:pt x="2171" y="4"/>
                    </a:cubicBezTo>
                    <a:lnTo>
                      <a:pt x="2171" y="4"/>
                    </a:lnTo>
                    <a:cubicBezTo>
                      <a:pt x="2170" y="4"/>
                      <a:pt x="2169" y="4"/>
                      <a:pt x="2169" y="2"/>
                    </a:cubicBezTo>
                    <a:cubicBezTo>
                      <a:pt x="2169" y="1"/>
                      <a:pt x="2170" y="0"/>
                      <a:pt x="2171" y="0"/>
                    </a:cubicBezTo>
                    <a:close/>
                    <a:moveTo>
                      <a:pt x="2179" y="0"/>
                    </a:moveTo>
                    <a:lnTo>
                      <a:pt x="2179" y="0"/>
                    </a:lnTo>
                    <a:cubicBezTo>
                      <a:pt x="2180" y="0"/>
                      <a:pt x="2181" y="1"/>
                      <a:pt x="2181" y="2"/>
                    </a:cubicBezTo>
                    <a:cubicBezTo>
                      <a:pt x="2181" y="4"/>
                      <a:pt x="2180" y="4"/>
                      <a:pt x="2179" y="4"/>
                    </a:cubicBezTo>
                    <a:lnTo>
                      <a:pt x="2179" y="4"/>
                    </a:lnTo>
                    <a:cubicBezTo>
                      <a:pt x="2178" y="4"/>
                      <a:pt x="2177" y="4"/>
                      <a:pt x="2177" y="2"/>
                    </a:cubicBezTo>
                    <a:cubicBezTo>
                      <a:pt x="2177" y="1"/>
                      <a:pt x="2178" y="0"/>
                      <a:pt x="2179" y="0"/>
                    </a:cubicBezTo>
                    <a:close/>
                    <a:moveTo>
                      <a:pt x="2187" y="0"/>
                    </a:moveTo>
                    <a:lnTo>
                      <a:pt x="2187" y="0"/>
                    </a:lnTo>
                    <a:cubicBezTo>
                      <a:pt x="2188" y="0"/>
                      <a:pt x="2189" y="1"/>
                      <a:pt x="2189" y="2"/>
                    </a:cubicBezTo>
                    <a:cubicBezTo>
                      <a:pt x="2189" y="4"/>
                      <a:pt x="2188" y="4"/>
                      <a:pt x="2187" y="4"/>
                    </a:cubicBezTo>
                    <a:lnTo>
                      <a:pt x="2187" y="4"/>
                    </a:lnTo>
                    <a:cubicBezTo>
                      <a:pt x="2186" y="4"/>
                      <a:pt x="2185" y="4"/>
                      <a:pt x="2185" y="2"/>
                    </a:cubicBezTo>
                    <a:cubicBezTo>
                      <a:pt x="2185" y="1"/>
                      <a:pt x="2186" y="0"/>
                      <a:pt x="2187" y="0"/>
                    </a:cubicBezTo>
                    <a:close/>
                    <a:moveTo>
                      <a:pt x="2195" y="0"/>
                    </a:moveTo>
                    <a:lnTo>
                      <a:pt x="2195" y="0"/>
                    </a:lnTo>
                    <a:cubicBezTo>
                      <a:pt x="2196" y="0"/>
                      <a:pt x="2197" y="1"/>
                      <a:pt x="2197" y="2"/>
                    </a:cubicBezTo>
                    <a:cubicBezTo>
                      <a:pt x="2197" y="4"/>
                      <a:pt x="2196" y="4"/>
                      <a:pt x="2195" y="4"/>
                    </a:cubicBezTo>
                    <a:lnTo>
                      <a:pt x="2195" y="4"/>
                    </a:lnTo>
                    <a:cubicBezTo>
                      <a:pt x="2194" y="4"/>
                      <a:pt x="2193" y="4"/>
                      <a:pt x="2193" y="2"/>
                    </a:cubicBezTo>
                    <a:cubicBezTo>
                      <a:pt x="2193" y="1"/>
                      <a:pt x="2194" y="0"/>
                      <a:pt x="2195" y="0"/>
                    </a:cubicBezTo>
                    <a:close/>
                    <a:moveTo>
                      <a:pt x="2203" y="0"/>
                    </a:moveTo>
                    <a:lnTo>
                      <a:pt x="2203" y="0"/>
                    </a:lnTo>
                    <a:cubicBezTo>
                      <a:pt x="2204" y="0"/>
                      <a:pt x="2205" y="1"/>
                      <a:pt x="2205" y="2"/>
                    </a:cubicBezTo>
                    <a:cubicBezTo>
                      <a:pt x="2205" y="4"/>
                      <a:pt x="2204" y="4"/>
                      <a:pt x="2203" y="4"/>
                    </a:cubicBezTo>
                    <a:lnTo>
                      <a:pt x="2203" y="4"/>
                    </a:lnTo>
                    <a:cubicBezTo>
                      <a:pt x="2202" y="4"/>
                      <a:pt x="2201" y="4"/>
                      <a:pt x="2201" y="2"/>
                    </a:cubicBezTo>
                    <a:cubicBezTo>
                      <a:pt x="2201" y="1"/>
                      <a:pt x="2202" y="0"/>
                      <a:pt x="2203" y="0"/>
                    </a:cubicBezTo>
                    <a:close/>
                    <a:moveTo>
                      <a:pt x="2211" y="0"/>
                    </a:moveTo>
                    <a:lnTo>
                      <a:pt x="2211" y="0"/>
                    </a:lnTo>
                    <a:cubicBezTo>
                      <a:pt x="2212" y="0"/>
                      <a:pt x="2213" y="1"/>
                      <a:pt x="2213" y="2"/>
                    </a:cubicBezTo>
                    <a:cubicBezTo>
                      <a:pt x="2213" y="4"/>
                      <a:pt x="2212" y="4"/>
                      <a:pt x="2211" y="4"/>
                    </a:cubicBezTo>
                    <a:lnTo>
                      <a:pt x="2211" y="4"/>
                    </a:lnTo>
                    <a:cubicBezTo>
                      <a:pt x="2210" y="4"/>
                      <a:pt x="2209" y="4"/>
                      <a:pt x="2209" y="2"/>
                    </a:cubicBezTo>
                    <a:cubicBezTo>
                      <a:pt x="2209" y="1"/>
                      <a:pt x="2210" y="0"/>
                      <a:pt x="2211" y="0"/>
                    </a:cubicBezTo>
                    <a:close/>
                    <a:moveTo>
                      <a:pt x="2219" y="0"/>
                    </a:moveTo>
                    <a:lnTo>
                      <a:pt x="2219" y="0"/>
                    </a:lnTo>
                    <a:cubicBezTo>
                      <a:pt x="2220" y="0"/>
                      <a:pt x="2221" y="1"/>
                      <a:pt x="2221" y="2"/>
                    </a:cubicBezTo>
                    <a:cubicBezTo>
                      <a:pt x="2221" y="4"/>
                      <a:pt x="2220" y="4"/>
                      <a:pt x="2219" y="4"/>
                    </a:cubicBezTo>
                    <a:lnTo>
                      <a:pt x="2219" y="4"/>
                    </a:lnTo>
                    <a:cubicBezTo>
                      <a:pt x="2218" y="4"/>
                      <a:pt x="2217" y="4"/>
                      <a:pt x="2217" y="2"/>
                    </a:cubicBezTo>
                    <a:cubicBezTo>
                      <a:pt x="2217" y="1"/>
                      <a:pt x="2218" y="0"/>
                      <a:pt x="2219" y="0"/>
                    </a:cubicBezTo>
                    <a:close/>
                    <a:moveTo>
                      <a:pt x="2227" y="0"/>
                    </a:moveTo>
                    <a:lnTo>
                      <a:pt x="2227" y="0"/>
                    </a:lnTo>
                    <a:cubicBezTo>
                      <a:pt x="2228" y="0"/>
                      <a:pt x="2229" y="1"/>
                      <a:pt x="2229" y="2"/>
                    </a:cubicBezTo>
                    <a:cubicBezTo>
                      <a:pt x="2229" y="4"/>
                      <a:pt x="2228" y="4"/>
                      <a:pt x="2227" y="4"/>
                    </a:cubicBezTo>
                    <a:lnTo>
                      <a:pt x="2227" y="4"/>
                    </a:lnTo>
                    <a:cubicBezTo>
                      <a:pt x="2226" y="4"/>
                      <a:pt x="2225" y="4"/>
                      <a:pt x="2225" y="2"/>
                    </a:cubicBezTo>
                    <a:cubicBezTo>
                      <a:pt x="2225" y="1"/>
                      <a:pt x="2226" y="0"/>
                      <a:pt x="2227" y="0"/>
                    </a:cubicBezTo>
                    <a:close/>
                    <a:moveTo>
                      <a:pt x="2235" y="0"/>
                    </a:moveTo>
                    <a:lnTo>
                      <a:pt x="2235" y="0"/>
                    </a:lnTo>
                    <a:cubicBezTo>
                      <a:pt x="2236" y="0"/>
                      <a:pt x="2237" y="1"/>
                      <a:pt x="2237" y="2"/>
                    </a:cubicBezTo>
                    <a:cubicBezTo>
                      <a:pt x="2237" y="4"/>
                      <a:pt x="2236" y="4"/>
                      <a:pt x="2235" y="4"/>
                    </a:cubicBezTo>
                    <a:lnTo>
                      <a:pt x="2235" y="4"/>
                    </a:lnTo>
                    <a:cubicBezTo>
                      <a:pt x="2234" y="4"/>
                      <a:pt x="2233" y="4"/>
                      <a:pt x="2233" y="2"/>
                    </a:cubicBezTo>
                    <a:cubicBezTo>
                      <a:pt x="2233" y="1"/>
                      <a:pt x="2234" y="0"/>
                      <a:pt x="2235" y="0"/>
                    </a:cubicBezTo>
                    <a:close/>
                    <a:moveTo>
                      <a:pt x="2243" y="0"/>
                    </a:moveTo>
                    <a:lnTo>
                      <a:pt x="2243" y="0"/>
                    </a:lnTo>
                    <a:cubicBezTo>
                      <a:pt x="2244" y="0"/>
                      <a:pt x="2245" y="1"/>
                      <a:pt x="2245" y="2"/>
                    </a:cubicBezTo>
                    <a:cubicBezTo>
                      <a:pt x="2245" y="4"/>
                      <a:pt x="2244" y="4"/>
                      <a:pt x="2243" y="4"/>
                    </a:cubicBezTo>
                    <a:lnTo>
                      <a:pt x="2243" y="4"/>
                    </a:lnTo>
                    <a:cubicBezTo>
                      <a:pt x="2242" y="4"/>
                      <a:pt x="2241" y="4"/>
                      <a:pt x="2241" y="2"/>
                    </a:cubicBezTo>
                    <a:cubicBezTo>
                      <a:pt x="2241" y="1"/>
                      <a:pt x="2242" y="0"/>
                      <a:pt x="2243" y="0"/>
                    </a:cubicBezTo>
                    <a:close/>
                    <a:moveTo>
                      <a:pt x="2251" y="0"/>
                    </a:moveTo>
                    <a:lnTo>
                      <a:pt x="2251" y="0"/>
                    </a:lnTo>
                    <a:cubicBezTo>
                      <a:pt x="2252" y="0"/>
                      <a:pt x="2253" y="1"/>
                      <a:pt x="2253" y="2"/>
                    </a:cubicBezTo>
                    <a:cubicBezTo>
                      <a:pt x="2253" y="4"/>
                      <a:pt x="2252" y="4"/>
                      <a:pt x="2251" y="4"/>
                    </a:cubicBezTo>
                    <a:lnTo>
                      <a:pt x="2251" y="4"/>
                    </a:lnTo>
                    <a:cubicBezTo>
                      <a:pt x="2250" y="4"/>
                      <a:pt x="2249" y="4"/>
                      <a:pt x="2249" y="2"/>
                    </a:cubicBezTo>
                    <a:cubicBezTo>
                      <a:pt x="2249" y="1"/>
                      <a:pt x="2250" y="0"/>
                      <a:pt x="2251" y="0"/>
                    </a:cubicBezTo>
                    <a:close/>
                    <a:moveTo>
                      <a:pt x="2259" y="0"/>
                    </a:moveTo>
                    <a:lnTo>
                      <a:pt x="2259" y="0"/>
                    </a:lnTo>
                    <a:cubicBezTo>
                      <a:pt x="2260" y="0"/>
                      <a:pt x="2261" y="1"/>
                      <a:pt x="2261" y="2"/>
                    </a:cubicBezTo>
                    <a:cubicBezTo>
                      <a:pt x="2261" y="4"/>
                      <a:pt x="2260" y="4"/>
                      <a:pt x="2259" y="4"/>
                    </a:cubicBezTo>
                    <a:lnTo>
                      <a:pt x="2259" y="4"/>
                    </a:lnTo>
                    <a:cubicBezTo>
                      <a:pt x="2258" y="4"/>
                      <a:pt x="2257" y="4"/>
                      <a:pt x="2257" y="2"/>
                    </a:cubicBezTo>
                    <a:cubicBezTo>
                      <a:pt x="2257" y="1"/>
                      <a:pt x="2258" y="0"/>
                      <a:pt x="2259" y="0"/>
                    </a:cubicBezTo>
                    <a:close/>
                    <a:moveTo>
                      <a:pt x="2267" y="0"/>
                    </a:moveTo>
                    <a:lnTo>
                      <a:pt x="2267" y="0"/>
                    </a:lnTo>
                    <a:cubicBezTo>
                      <a:pt x="2268" y="0"/>
                      <a:pt x="2269" y="1"/>
                      <a:pt x="2269" y="2"/>
                    </a:cubicBezTo>
                    <a:cubicBezTo>
                      <a:pt x="2269" y="4"/>
                      <a:pt x="2268" y="4"/>
                      <a:pt x="2267" y="4"/>
                    </a:cubicBezTo>
                    <a:lnTo>
                      <a:pt x="2267" y="4"/>
                    </a:lnTo>
                    <a:cubicBezTo>
                      <a:pt x="2266" y="4"/>
                      <a:pt x="2265" y="4"/>
                      <a:pt x="2265" y="2"/>
                    </a:cubicBezTo>
                    <a:cubicBezTo>
                      <a:pt x="2265" y="1"/>
                      <a:pt x="2266" y="0"/>
                      <a:pt x="2267" y="0"/>
                    </a:cubicBezTo>
                    <a:close/>
                    <a:moveTo>
                      <a:pt x="2275" y="0"/>
                    </a:moveTo>
                    <a:lnTo>
                      <a:pt x="2275" y="0"/>
                    </a:lnTo>
                    <a:cubicBezTo>
                      <a:pt x="2276" y="0"/>
                      <a:pt x="2277" y="1"/>
                      <a:pt x="2277" y="2"/>
                    </a:cubicBezTo>
                    <a:cubicBezTo>
                      <a:pt x="2277" y="4"/>
                      <a:pt x="2276" y="4"/>
                      <a:pt x="2275" y="4"/>
                    </a:cubicBezTo>
                    <a:lnTo>
                      <a:pt x="2275" y="4"/>
                    </a:lnTo>
                    <a:cubicBezTo>
                      <a:pt x="2274" y="4"/>
                      <a:pt x="2273" y="4"/>
                      <a:pt x="2273" y="2"/>
                    </a:cubicBezTo>
                    <a:cubicBezTo>
                      <a:pt x="2273" y="1"/>
                      <a:pt x="2274" y="0"/>
                      <a:pt x="2275" y="0"/>
                    </a:cubicBezTo>
                    <a:close/>
                    <a:moveTo>
                      <a:pt x="2283" y="0"/>
                    </a:moveTo>
                    <a:lnTo>
                      <a:pt x="2283" y="0"/>
                    </a:lnTo>
                    <a:cubicBezTo>
                      <a:pt x="2284" y="0"/>
                      <a:pt x="2285" y="1"/>
                      <a:pt x="2285" y="2"/>
                    </a:cubicBezTo>
                    <a:cubicBezTo>
                      <a:pt x="2285" y="4"/>
                      <a:pt x="2284" y="4"/>
                      <a:pt x="2283" y="4"/>
                    </a:cubicBezTo>
                    <a:lnTo>
                      <a:pt x="2283" y="4"/>
                    </a:lnTo>
                    <a:cubicBezTo>
                      <a:pt x="2282" y="4"/>
                      <a:pt x="2281" y="4"/>
                      <a:pt x="2281" y="2"/>
                    </a:cubicBezTo>
                    <a:cubicBezTo>
                      <a:pt x="2281" y="1"/>
                      <a:pt x="2282" y="0"/>
                      <a:pt x="2283" y="0"/>
                    </a:cubicBezTo>
                    <a:close/>
                    <a:moveTo>
                      <a:pt x="2291" y="0"/>
                    </a:moveTo>
                    <a:lnTo>
                      <a:pt x="2291" y="0"/>
                    </a:lnTo>
                    <a:cubicBezTo>
                      <a:pt x="2292" y="0"/>
                      <a:pt x="2293" y="1"/>
                      <a:pt x="2293" y="2"/>
                    </a:cubicBezTo>
                    <a:cubicBezTo>
                      <a:pt x="2293" y="4"/>
                      <a:pt x="2292" y="4"/>
                      <a:pt x="2291" y="4"/>
                    </a:cubicBezTo>
                    <a:lnTo>
                      <a:pt x="2291" y="4"/>
                    </a:lnTo>
                    <a:cubicBezTo>
                      <a:pt x="2290" y="4"/>
                      <a:pt x="2289" y="4"/>
                      <a:pt x="2289" y="2"/>
                    </a:cubicBezTo>
                    <a:cubicBezTo>
                      <a:pt x="2289" y="1"/>
                      <a:pt x="2290" y="0"/>
                      <a:pt x="2291" y="0"/>
                    </a:cubicBezTo>
                    <a:close/>
                    <a:moveTo>
                      <a:pt x="2299" y="0"/>
                    </a:moveTo>
                    <a:lnTo>
                      <a:pt x="2299" y="0"/>
                    </a:lnTo>
                    <a:cubicBezTo>
                      <a:pt x="2300" y="0"/>
                      <a:pt x="2301" y="1"/>
                      <a:pt x="2301" y="2"/>
                    </a:cubicBezTo>
                    <a:cubicBezTo>
                      <a:pt x="2301" y="4"/>
                      <a:pt x="2300" y="4"/>
                      <a:pt x="2299" y="4"/>
                    </a:cubicBezTo>
                    <a:lnTo>
                      <a:pt x="2299" y="4"/>
                    </a:lnTo>
                    <a:cubicBezTo>
                      <a:pt x="2298" y="4"/>
                      <a:pt x="2297" y="4"/>
                      <a:pt x="2297" y="2"/>
                    </a:cubicBezTo>
                    <a:cubicBezTo>
                      <a:pt x="2297" y="1"/>
                      <a:pt x="2298" y="0"/>
                      <a:pt x="2299" y="0"/>
                    </a:cubicBezTo>
                    <a:close/>
                    <a:moveTo>
                      <a:pt x="2307" y="0"/>
                    </a:moveTo>
                    <a:lnTo>
                      <a:pt x="2307" y="0"/>
                    </a:lnTo>
                    <a:cubicBezTo>
                      <a:pt x="2308" y="0"/>
                      <a:pt x="2309" y="1"/>
                      <a:pt x="2309" y="2"/>
                    </a:cubicBezTo>
                    <a:cubicBezTo>
                      <a:pt x="2309" y="4"/>
                      <a:pt x="2308" y="4"/>
                      <a:pt x="2307" y="4"/>
                    </a:cubicBezTo>
                    <a:lnTo>
                      <a:pt x="2307" y="4"/>
                    </a:lnTo>
                    <a:cubicBezTo>
                      <a:pt x="2306" y="4"/>
                      <a:pt x="2305" y="4"/>
                      <a:pt x="2305" y="2"/>
                    </a:cubicBezTo>
                    <a:cubicBezTo>
                      <a:pt x="2305" y="1"/>
                      <a:pt x="2306" y="0"/>
                      <a:pt x="2307" y="0"/>
                    </a:cubicBezTo>
                    <a:close/>
                    <a:moveTo>
                      <a:pt x="2315" y="0"/>
                    </a:moveTo>
                    <a:lnTo>
                      <a:pt x="2315" y="0"/>
                    </a:lnTo>
                    <a:cubicBezTo>
                      <a:pt x="2316" y="0"/>
                      <a:pt x="2317" y="1"/>
                      <a:pt x="2317" y="2"/>
                    </a:cubicBezTo>
                    <a:cubicBezTo>
                      <a:pt x="2317" y="4"/>
                      <a:pt x="2316" y="4"/>
                      <a:pt x="2315" y="4"/>
                    </a:cubicBezTo>
                    <a:lnTo>
                      <a:pt x="2315" y="4"/>
                    </a:lnTo>
                    <a:cubicBezTo>
                      <a:pt x="2314" y="4"/>
                      <a:pt x="2313" y="4"/>
                      <a:pt x="2313" y="2"/>
                    </a:cubicBezTo>
                    <a:cubicBezTo>
                      <a:pt x="2313" y="1"/>
                      <a:pt x="2314" y="0"/>
                      <a:pt x="2315" y="0"/>
                    </a:cubicBezTo>
                    <a:close/>
                    <a:moveTo>
                      <a:pt x="2323" y="0"/>
                    </a:moveTo>
                    <a:lnTo>
                      <a:pt x="2323" y="0"/>
                    </a:lnTo>
                    <a:cubicBezTo>
                      <a:pt x="2324" y="0"/>
                      <a:pt x="2325" y="1"/>
                      <a:pt x="2325" y="2"/>
                    </a:cubicBezTo>
                    <a:cubicBezTo>
                      <a:pt x="2325" y="4"/>
                      <a:pt x="2324" y="4"/>
                      <a:pt x="2323" y="4"/>
                    </a:cubicBezTo>
                    <a:lnTo>
                      <a:pt x="2323" y="4"/>
                    </a:lnTo>
                    <a:cubicBezTo>
                      <a:pt x="2322" y="4"/>
                      <a:pt x="2321" y="4"/>
                      <a:pt x="2321" y="2"/>
                    </a:cubicBezTo>
                    <a:cubicBezTo>
                      <a:pt x="2321" y="1"/>
                      <a:pt x="2322" y="0"/>
                      <a:pt x="2323" y="0"/>
                    </a:cubicBezTo>
                    <a:close/>
                    <a:moveTo>
                      <a:pt x="2331" y="0"/>
                    </a:moveTo>
                    <a:lnTo>
                      <a:pt x="2331" y="0"/>
                    </a:lnTo>
                    <a:cubicBezTo>
                      <a:pt x="2332" y="0"/>
                      <a:pt x="2333" y="1"/>
                      <a:pt x="2333" y="2"/>
                    </a:cubicBezTo>
                    <a:cubicBezTo>
                      <a:pt x="2333" y="4"/>
                      <a:pt x="2332" y="4"/>
                      <a:pt x="2331" y="4"/>
                    </a:cubicBezTo>
                    <a:lnTo>
                      <a:pt x="2331" y="4"/>
                    </a:lnTo>
                    <a:cubicBezTo>
                      <a:pt x="2330" y="4"/>
                      <a:pt x="2329" y="4"/>
                      <a:pt x="2329" y="2"/>
                    </a:cubicBezTo>
                    <a:cubicBezTo>
                      <a:pt x="2329" y="1"/>
                      <a:pt x="2330" y="0"/>
                      <a:pt x="2331" y="0"/>
                    </a:cubicBezTo>
                    <a:close/>
                    <a:moveTo>
                      <a:pt x="2339" y="0"/>
                    </a:moveTo>
                    <a:lnTo>
                      <a:pt x="2339" y="0"/>
                    </a:lnTo>
                    <a:cubicBezTo>
                      <a:pt x="2340" y="0"/>
                      <a:pt x="2341" y="1"/>
                      <a:pt x="2341" y="2"/>
                    </a:cubicBezTo>
                    <a:cubicBezTo>
                      <a:pt x="2341" y="4"/>
                      <a:pt x="2340" y="4"/>
                      <a:pt x="2339" y="4"/>
                    </a:cubicBezTo>
                    <a:lnTo>
                      <a:pt x="2339" y="4"/>
                    </a:lnTo>
                    <a:cubicBezTo>
                      <a:pt x="2338" y="4"/>
                      <a:pt x="2337" y="4"/>
                      <a:pt x="2337" y="2"/>
                    </a:cubicBezTo>
                    <a:cubicBezTo>
                      <a:pt x="2337" y="1"/>
                      <a:pt x="2338" y="0"/>
                      <a:pt x="2339" y="0"/>
                    </a:cubicBezTo>
                    <a:close/>
                    <a:moveTo>
                      <a:pt x="2347" y="0"/>
                    </a:moveTo>
                    <a:lnTo>
                      <a:pt x="2347" y="0"/>
                    </a:lnTo>
                    <a:cubicBezTo>
                      <a:pt x="2348" y="0"/>
                      <a:pt x="2349" y="1"/>
                      <a:pt x="2349" y="2"/>
                    </a:cubicBezTo>
                    <a:cubicBezTo>
                      <a:pt x="2349" y="4"/>
                      <a:pt x="2348" y="4"/>
                      <a:pt x="2347" y="4"/>
                    </a:cubicBezTo>
                    <a:lnTo>
                      <a:pt x="2347" y="4"/>
                    </a:lnTo>
                    <a:cubicBezTo>
                      <a:pt x="2346" y="4"/>
                      <a:pt x="2345" y="4"/>
                      <a:pt x="2345" y="2"/>
                    </a:cubicBezTo>
                    <a:cubicBezTo>
                      <a:pt x="2345" y="1"/>
                      <a:pt x="2346" y="0"/>
                      <a:pt x="2347" y="0"/>
                    </a:cubicBezTo>
                    <a:close/>
                    <a:moveTo>
                      <a:pt x="2355" y="0"/>
                    </a:moveTo>
                    <a:lnTo>
                      <a:pt x="2355" y="0"/>
                    </a:lnTo>
                    <a:cubicBezTo>
                      <a:pt x="2356" y="0"/>
                      <a:pt x="2357" y="1"/>
                      <a:pt x="2357" y="2"/>
                    </a:cubicBezTo>
                    <a:cubicBezTo>
                      <a:pt x="2357" y="4"/>
                      <a:pt x="2356" y="4"/>
                      <a:pt x="2355" y="4"/>
                    </a:cubicBezTo>
                    <a:lnTo>
                      <a:pt x="2355" y="4"/>
                    </a:lnTo>
                    <a:cubicBezTo>
                      <a:pt x="2354" y="4"/>
                      <a:pt x="2353" y="4"/>
                      <a:pt x="2353" y="2"/>
                    </a:cubicBezTo>
                    <a:cubicBezTo>
                      <a:pt x="2353" y="1"/>
                      <a:pt x="2354" y="0"/>
                      <a:pt x="2355" y="0"/>
                    </a:cubicBezTo>
                    <a:close/>
                    <a:moveTo>
                      <a:pt x="2363" y="0"/>
                    </a:moveTo>
                    <a:lnTo>
                      <a:pt x="2363" y="0"/>
                    </a:lnTo>
                    <a:cubicBezTo>
                      <a:pt x="2364" y="0"/>
                      <a:pt x="2365" y="1"/>
                      <a:pt x="2365" y="2"/>
                    </a:cubicBezTo>
                    <a:cubicBezTo>
                      <a:pt x="2365" y="4"/>
                      <a:pt x="2364" y="4"/>
                      <a:pt x="2363" y="4"/>
                    </a:cubicBezTo>
                    <a:lnTo>
                      <a:pt x="2363" y="4"/>
                    </a:lnTo>
                    <a:cubicBezTo>
                      <a:pt x="2362" y="4"/>
                      <a:pt x="2361" y="4"/>
                      <a:pt x="2361" y="2"/>
                    </a:cubicBezTo>
                    <a:cubicBezTo>
                      <a:pt x="2361" y="1"/>
                      <a:pt x="2362" y="0"/>
                      <a:pt x="2363" y="0"/>
                    </a:cubicBezTo>
                    <a:close/>
                    <a:moveTo>
                      <a:pt x="2371" y="0"/>
                    </a:moveTo>
                    <a:lnTo>
                      <a:pt x="2371" y="0"/>
                    </a:lnTo>
                    <a:cubicBezTo>
                      <a:pt x="2372" y="0"/>
                      <a:pt x="2373" y="1"/>
                      <a:pt x="2373" y="2"/>
                    </a:cubicBezTo>
                    <a:cubicBezTo>
                      <a:pt x="2373" y="4"/>
                      <a:pt x="2372" y="4"/>
                      <a:pt x="2371" y="4"/>
                    </a:cubicBezTo>
                    <a:lnTo>
                      <a:pt x="2371" y="4"/>
                    </a:lnTo>
                    <a:cubicBezTo>
                      <a:pt x="2370" y="4"/>
                      <a:pt x="2369" y="4"/>
                      <a:pt x="2369" y="2"/>
                    </a:cubicBezTo>
                    <a:cubicBezTo>
                      <a:pt x="2369" y="1"/>
                      <a:pt x="2370" y="0"/>
                      <a:pt x="2371" y="0"/>
                    </a:cubicBezTo>
                    <a:close/>
                    <a:moveTo>
                      <a:pt x="2379" y="0"/>
                    </a:moveTo>
                    <a:lnTo>
                      <a:pt x="2379" y="0"/>
                    </a:lnTo>
                    <a:cubicBezTo>
                      <a:pt x="2380" y="0"/>
                      <a:pt x="2381" y="1"/>
                      <a:pt x="2381" y="2"/>
                    </a:cubicBezTo>
                    <a:cubicBezTo>
                      <a:pt x="2381" y="4"/>
                      <a:pt x="2380" y="4"/>
                      <a:pt x="2379" y="4"/>
                    </a:cubicBezTo>
                    <a:lnTo>
                      <a:pt x="2379" y="4"/>
                    </a:lnTo>
                    <a:cubicBezTo>
                      <a:pt x="2378" y="4"/>
                      <a:pt x="2377" y="4"/>
                      <a:pt x="2377" y="2"/>
                    </a:cubicBezTo>
                    <a:cubicBezTo>
                      <a:pt x="2377" y="1"/>
                      <a:pt x="2378" y="0"/>
                      <a:pt x="2379" y="0"/>
                    </a:cubicBezTo>
                    <a:close/>
                    <a:moveTo>
                      <a:pt x="2387" y="0"/>
                    </a:moveTo>
                    <a:lnTo>
                      <a:pt x="2387" y="0"/>
                    </a:lnTo>
                    <a:cubicBezTo>
                      <a:pt x="2388" y="0"/>
                      <a:pt x="2389" y="1"/>
                      <a:pt x="2389" y="2"/>
                    </a:cubicBezTo>
                    <a:cubicBezTo>
                      <a:pt x="2389" y="4"/>
                      <a:pt x="2388" y="4"/>
                      <a:pt x="2387" y="4"/>
                    </a:cubicBezTo>
                    <a:lnTo>
                      <a:pt x="2387" y="4"/>
                    </a:lnTo>
                    <a:cubicBezTo>
                      <a:pt x="2386" y="4"/>
                      <a:pt x="2385" y="4"/>
                      <a:pt x="2385" y="2"/>
                    </a:cubicBezTo>
                    <a:cubicBezTo>
                      <a:pt x="2385" y="1"/>
                      <a:pt x="2386" y="0"/>
                      <a:pt x="2387" y="0"/>
                    </a:cubicBezTo>
                    <a:close/>
                    <a:moveTo>
                      <a:pt x="2395" y="0"/>
                    </a:moveTo>
                    <a:lnTo>
                      <a:pt x="2395" y="0"/>
                    </a:lnTo>
                    <a:cubicBezTo>
                      <a:pt x="2396" y="0"/>
                      <a:pt x="2397" y="1"/>
                      <a:pt x="2397" y="2"/>
                    </a:cubicBezTo>
                    <a:cubicBezTo>
                      <a:pt x="2397" y="4"/>
                      <a:pt x="2396" y="4"/>
                      <a:pt x="2395" y="4"/>
                    </a:cubicBezTo>
                    <a:lnTo>
                      <a:pt x="2395" y="4"/>
                    </a:lnTo>
                    <a:cubicBezTo>
                      <a:pt x="2394" y="4"/>
                      <a:pt x="2393" y="4"/>
                      <a:pt x="2393" y="2"/>
                    </a:cubicBezTo>
                    <a:cubicBezTo>
                      <a:pt x="2393" y="1"/>
                      <a:pt x="2394" y="0"/>
                      <a:pt x="2395" y="0"/>
                    </a:cubicBezTo>
                    <a:close/>
                    <a:moveTo>
                      <a:pt x="2403" y="0"/>
                    </a:moveTo>
                    <a:lnTo>
                      <a:pt x="2403" y="0"/>
                    </a:lnTo>
                    <a:cubicBezTo>
                      <a:pt x="2404" y="0"/>
                      <a:pt x="2405" y="1"/>
                      <a:pt x="2405" y="2"/>
                    </a:cubicBezTo>
                    <a:cubicBezTo>
                      <a:pt x="2405" y="4"/>
                      <a:pt x="2404" y="4"/>
                      <a:pt x="2403" y="4"/>
                    </a:cubicBezTo>
                    <a:lnTo>
                      <a:pt x="2403" y="4"/>
                    </a:lnTo>
                    <a:cubicBezTo>
                      <a:pt x="2402" y="4"/>
                      <a:pt x="2401" y="4"/>
                      <a:pt x="2401" y="2"/>
                    </a:cubicBezTo>
                    <a:cubicBezTo>
                      <a:pt x="2401" y="1"/>
                      <a:pt x="2402" y="0"/>
                      <a:pt x="2403" y="0"/>
                    </a:cubicBezTo>
                    <a:close/>
                    <a:moveTo>
                      <a:pt x="2411" y="0"/>
                    </a:moveTo>
                    <a:lnTo>
                      <a:pt x="2411" y="0"/>
                    </a:lnTo>
                    <a:cubicBezTo>
                      <a:pt x="2412" y="0"/>
                      <a:pt x="2413" y="1"/>
                      <a:pt x="2413" y="2"/>
                    </a:cubicBezTo>
                    <a:cubicBezTo>
                      <a:pt x="2413" y="4"/>
                      <a:pt x="2412" y="4"/>
                      <a:pt x="2411" y="4"/>
                    </a:cubicBezTo>
                    <a:lnTo>
                      <a:pt x="2411" y="4"/>
                    </a:lnTo>
                    <a:cubicBezTo>
                      <a:pt x="2410" y="4"/>
                      <a:pt x="2409" y="4"/>
                      <a:pt x="2409" y="2"/>
                    </a:cubicBezTo>
                    <a:cubicBezTo>
                      <a:pt x="2409" y="1"/>
                      <a:pt x="2410" y="0"/>
                      <a:pt x="2411" y="0"/>
                    </a:cubicBezTo>
                    <a:close/>
                    <a:moveTo>
                      <a:pt x="2419" y="0"/>
                    </a:moveTo>
                    <a:lnTo>
                      <a:pt x="2419" y="0"/>
                    </a:lnTo>
                    <a:cubicBezTo>
                      <a:pt x="2420" y="0"/>
                      <a:pt x="2421" y="1"/>
                      <a:pt x="2421" y="2"/>
                    </a:cubicBezTo>
                    <a:cubicBezTo>
                      <a:pt x="2421" y="4"/>
                      <a:pt x="2420" y="4"/>
                      <a:pt x="2419" y="4"/>
                    </a:cubicBezTo>
                    <a:lnTo>
                      <a:pt x="2419" y="4"/>
                    </a:lnTo>
                    <a:cubicBezTo>
                      <a:pt x="2418" y="4"/>
                      <a:pt x="2417" y="4"/>
                      <a:pt x="2417" y="2"/>
                    </a:cubicBezTo>
                    <a:cubicBezTo>
                      <a:pt x="2417" y="1"/>
                      <a:pt x="2418" y="0"/>
                      <a:pt x="2419" y="0"/>
                    </a:cubicBezTo>
                    <a:close/>
                    <a:moveTo>
                      <a:pt x="2427" y="0"/>
                    </a:moveTo>
                    <a:lnTo>
                      <a:pt x="2427" y="0"/>
                    </a:lnTo>
                    <a:cubicBezTo>
                      <a:pt x="2428" y="0"/>
                      <a:pt x="2429" y="1"/>
                      <a:pt x="2429" y="2"/>
                    </a:cubicBezTo>
                    <a:cubicBezTo>
                      <a:pt x="2429" y="4"/>
                      <a:pt x="2428" y="4"/>
                      <a:pt x="2427" y="4"/>
                    </a:cubicBezTo>
                    <a:lnTo>
                      <a:pt x="2427" y="4"/>
                    </a:lnTo>
                    <a:cubicBezTo>
                      <a:pt x="2426" y="4"/>
                      <a:pt x="2425" y="4"/>
                      <a:pt x="2425" y="2"/>
                    </a:cubicBezTo>
                    <a:cubicBezTo>
                      <a:pt x="2425" y="1"/>
                      <a:pt x="2426" y="0"/>
                      <a:pt x="2427" y="0"/>
                    </a:cubicBezTo>
                    <a:close/>
                    <a:moveTo>
                      <a:pt x="2435" y="0"/>
                    </a:moveTo>
                    <a:lnTo>
                      <a:pt x="2435" y="0"/>
                    </a:lnTo>
                    <a:cubicBezTo>
                      <a:pt x="2436" y="0"/>
                      <a:pt x="2437" y="1"/>
                      <a:pt x="2437" y="2"/>
                    </a:cubicBezTo>
                    <a:cubicBezTo>
                      <a:pt x="2437" y="4"/>
                      <a:pt x="2436" y="4"/>
                      <a:pt x="2435" y="4"/>
                    </a:cubicBezTo>
                    <a:lnTo>
                      <a:pt x="2435" y="4"/>
                    </a:lnTo>
                    <a:cubicBezTo>
                      <a:pt x="2434" y="4"/>
                      <a:pt x="2433" y="4"/>
                      <a:pt x="2433" y="2"/>
                    </a:cubicBezTo>
                    <a:cubicBezTo>
                      <a:pt x="2433" y="1"/>
                      <a:pt x="2434" y="0"/>
                      <a:pt x="2435" y="0"/>
                    </a:cubicBezTo>
                    <a:close/>
                    <a:moveTo>
                      <a:pt x="2443" y="0"/>
                    </a:moveTo>
                    <a:lnTo>
                      <a:pt x="2443" y="0"/>
                    </a:lnTo>
                    <a:cubicBezTo>
                      <a:pt x="2444" y="0"/>
                      <a:pt x="2445" y="1"/>
                      <a:pt x="2445" y="2"/>
                    </a:cubicBezTo>
                    <a:cubicBezTo>
                      <a:pt x="2445" y="4"/>
                      <a:pt x="2444" y="4"/>
                      <a:pt x="2443" y="4"/>
                    </a:cubicBezTo>
                    <a:lnTo>
                      <a:pt x="2443" y="4"/>
                    </a:lnTo>
                    <a:cubicBezTo>
                      <a:pt x="2442" y="4"/>
                      <a:pt x="2441" y="4"/>
                      <a:pt x="2441" y="2"/>
                    </a:cubicBezTo>
                    <a:cubicBezTo>
                      <a:pt x="2441" y="1"/>
                      <a:pt x="2442" y="0"/>
                      <a:pt x="2443" y="0"/>
                    </a:cubicBezTo>
                    <a:close/>
                    <a:moveTo>
                      <a:pt x="2451" y="0"/>
                    </a:moveTo>
                    <a:lnTo>
                      <a:pt x="2451" y="0"/>
                    </a:lnTo>
                    <a:cubicBezTo>
                      <a:pt x="2452" y="0"/>
                      <a:pt x="2453" y="1"/>
                      <a:pt x="2453" y="2"/>
                    </a:cubicBezTo>
                    <a:cubicBezTo>
                      <a:pt x="2453" y="4"/>
                      <a:pt x="2452" y="4"/>
                      <a:pt x="2451" y="4"/>
                    </a:cubicBezTo>
                    <a:lnTo>
                      <a:pt x="2451" y="4"/>
                    </a:lnTo>
                    <a:cubicBezTo>
                      <a:pt x="2450" y="4"/>
                      <a:pt x="2449" y="4"/>
                      <a:pt x="2449" y="2"/>
                    </a:cubicBezTo>
                    <a:cubicBezTo>
                      <a:pt x="2449" y="1"/>
                      <a:pt x="2450" y="0"/>
                      <a:pt x="2451" y="0"/>
                    </a:cubicBezTo>
                    <a:close/>
                    <a:moveTo>
                      <a:pt x="2459" y="0"/>
                    </a:moveTo>
                    <a:lnTo>
                      <a:pt x="2459" y="0"/>
                    </a:lnTo>
                    <a:cubicBezTo>
                      <a:pt x="2460" y="0"/>
                      <a:pt x="2461" y="1"/>
                      <a:pt x="2461" y="2"/>
                    </a:cubicBezTo>
                    <a:cubicBezTo>
                      <a:pt x="2461" y="4"/>
                      <a:pt x="2460" y="4"/>
                      <a:pt x="2459" y="4"/>
                    </a:cubicBezTo>
                    <a:lnTo>
                      <a:pt x="2459" y="4"/>
                    </a:lnTo>
                    <a:cubicBezTo>
                      <a:pt x="2458" y="4"/>
                      <a:pt x="2457" y="4"/>
                      <a:pt x="2457" y="2"/>
                    </a:cubicBezTo>
                    <a:cubicBezTo>
                      <a:pt x="2457" y="1"/>
                      <a:pt x="2458" y="0"/>
                      <a:pt x="2459" y="0"/>
                    </a:cubicBezTo>
                    <a:close/>
                    <a:moveTo>
                      <a:pt x="2467" y="0"/>
                    </a:moveTo>
                    <a:lnTo>
                      <a:pt x="2467" y="0"/>
                    </a:lnTo>
                    <a:cubicBezTo>
                      <a:pt x="2468" y="0"/>
                      <a:pt x="2469" y="1"/>
                      <a:pt x="2469" y="2"/>
                    </a:cubicBezTo>
                    <a:cubicBezTo>
                      <a:pt x="2469" y="4"/>
                      <a:pt x="2468" y="4"/>
                      <a:pt x="2467" y="4"/>
                    </a:cubicBezTo>
                    <a:lnTo>
                      <a:pt x="2467" y="4"/>
                    </a:lnTo>
                    <a:cubicBezTo>
                      <a:pt x="2466" y="4"/>
                      <a:pt x="2465" y="4"/>
                      <a:pt x="2465" y="2"/>
                    </a:cubicBezTo>
                    <a:cubicBezTo>
                      <a:pt x="2465" y="1"/>
                      <a:pt x="2466" y="0"/>
                      <a:pt x="2467" y="0"/>
                    </a:cubicBezTo>
                    <a:close/>
                    <a:moveTo>
                      <a:pt x="2475" y="0"/>
                    </a:moveTo>
                    <a:lnTo>
                      <a:pt x="2475" y="0"/>
                    </a:lnTo>
                    <a:cubicBezTo>
                      <a:pt x="2476" y="0"/>
                      <a:pt x="2477" y="1"/>
                      <a:pt x="2477" y="2"/>
                    </a:cubicBezTo>
                    <a:cubicBezTo>
                      <a:pt x="2477" y="4"/>
                      <a:pt x="2476" y="4"/>
                      <a:pt x="2475" y="4"/>
                    </a:cubicBezTo>
                    <a:lnTo>
                      <a:pt x="2475" y="4"/>
                    </a:lnTo>
                    <a:cubicBezTo>
                      <a:pt x="2474" y="4"/>
                      <a:pt x="2473" y="4"/>
                      <a:pt x="2473" y="2"/>
                    </a:cubicBezTo>
                    <a:cubicBezTo>
                      <a:pt x="2473" y="1"/>
                      <a:pt x="2474" y="0"/>
                      <a:pt x="2475" y="0"/>
                    </a:cubicBezTo>
                    <a:close/>
                    <a:moveTo>
                      <a:pt x="2483" y="0"/>
                    </a:moveTo>
                    <a:lnTo>
                      <a:pt x="2483" y="0"/>
                    </a:lnTo>
                    <a:cubicBezTo>
                      <a:pt x="2484" y="0"/>
                      <a:pt x="2485" y="1"/>
                      <a:pt x="2485" y="2"/>
                    </a:cubicBezTo>
                    <a:cubicBezTo>
                      <a:pt x="2485" y="4"/>
                      <a:pt x="2484" y="4"/>
                      <a:pt x="2483" y="4"/>
                    </a:cubicBezTo>
                    <a:lnTo>
                      <a:pt x="2483" y="4"/>
                    </a:lnTo>
                    <a:cubicBezTo>
                      <a:pt x="2482" y="4"/>
                      <a:pt x="2481" y="4"/>
                      <a:pt x="2481" y="2"/>
                    </a:cubicBezTo>
                    <a:cubicBezTo>
                      <a:pt x="2481" y="1"/>
                      <a:pt x="2482" y="0"/>
                      <a:pt x="2483" y="0"/>
                    </a:cubicBezTo>
                    <a:close/>
                    <a:moveTo>
                      <a:pt x="2491" y="0"/>
                    </a:moveTo>
                    <a:lnTo>
                      <a:pt x="2491" y="0"/>
                    </a:lnTo>
                    <a:cubicBezTo>
                      <a:pt x="2492" y="0"/>
                      <a:pt x="2493" y="1"/>
                      <a:pt x="2493" y="2"/>
                    </a:cubicBezTo>
                    <a:cubicBezTo>
                      <a:pt x="2493" y="4"/>
                      <a:pt x="2492" y="4"/>
                      <a:pt x="2491" y="4"/>
                    </a:cubicBezTo>
                    <a:lnTo>
                      <a:pt x="2491" y="4"/>
                    </a:lnTo>
                    <a:cubicBezTo>
                      <a:pt x="2490" y="4"/>
                      <a:pt x="2489" y="4"/>
                      <a:pt x="2489" y="2"/>
                    </a:cubicBezTo>
                    <a:cubicBezTo>
                      <a:pt x="2489" y="1"/>
                      <a:pt x="2490" y="0"/>
                      <a:pt x="2491" y="0"/>
                    </a:cubicBezTo>
                    <a:close/>
                    <a:moveTo>
                      <a:pt x="2499" y="0"/>
                    </a:moveTo>
                    <a:lnTo>
                      <a:pt x="2499" y="0"/>
                    </a:lnTo>
                    <a:cubicBezTo>
                      <a:pt x="2500" y="0"/>
                      <a:pt x="2501" y="1"/>
                      <a:pt x="2501" y="2"/>
                    </a:cubicBezTo>
                    <a:cubicBezTo>
                      <a:pt x="2501" y="4"/>
                      <a:pt x="2500" y="4"/>
                      <a:pt x="2499" y="4"/>
                    </a:cubicBezTo>
                    <a:lnTo>
                      <a:pt x="2499" y="4"/>
                    </a:lnTo>
                    <a:cubicBezTo>
                      <a:pt x="2498" y="4"/>
                      <a:pt x="2497" y="4"/>
                      <a:pt x="2497" y="2"/>
                    </a:cubicBezTo>
                    <a:cubicBezTo>
                      <a:pt x="2497" y="1"/>
                      <a:pt x="2498" y="0"/>
                      <a:pt x="2499" y="0"/>
                    </a:cubicBezTo>
                    <a:close/>
                    <a:moveTo>
                      <a:pt x="2507" y="0"/>
                    </a:moveTo>
                    <a:lnTo>
                      <a:pt x="2507" y="0"/>
                    </a:lnTo>
                    <a:cubicBezTo>
                      <a:pt x="2508" y="0"/>
                      <a:pt x="2509" y="1"/>
                      <a:pt x="2509" y="2"/>
                    </a:cubicBezTo>
                    <a:cubicBezTo>
                      <a:pt x="2509" y="4"/>
                      <a:pt x="2508" y="4"/>
                      <a:pt x="2507" y="4"/>
                    </a:cubicBezTo>
                    <a:lnTo>
                      <a:pt x="2507" y="4"/>
                    </a:lnTo>
                    <a:cubicBezTo>
                      <a:pt x="2506" y="4"/>
                      <a:pt x="2505" y="4"/>
                      <a:pt x="2505" y="2"/>
                    </a:cubicBezTo>
                    <a:cubicBezTo>
                      <a:pt x="2505" y="1"/>
                      <a:pt x="2506" y="0"/>
                      <a:pt x="2507" y="0"/>
                    </a:cubicBezTo>
                    <a:close/>
                    <a:moveTo>
                      <a:pt x="2515" y="0"/>
                    </a:moveTo>
                    <a:lnTo>
                      <a:pt x="2515" y="0"/>
                    </a:lnTo>
                    <a:cubicBezTo>
                      <a:pt x="2516" y="0"/>
                      <a:pt x="2517" y="1"/>
                      <a:pt x="2517" y="2"/>
                    </a:cubicBezTo>
                    <a:cubicBezTo>
                      <a:pt x="2517" y="4"/>
                      <a:pt x="2516" y="4"/>
                      <a:pt x="2515" y="4"/>
                    </a:cubicBezTo>
                    <a:lnTo>
                      <a:pt x="2515" y="4"/>
                    </a:lnTo>
                    <a:cubicBezTo>
                      <a:pt x="2514" y="4"/>
                      <a:pt x="2513" y="4"/>
                      <a:pt x="2513" y="2"/>
                    </a:cubicBezTo>
                    <a:cubicBezTo>
                      <a:pt x="2513" y="1"/>
                      <a:pt x="2514" y="0"/>
                      <a:pt x="2515" y="0"/>
                    </a:cubicBezTo>
                    <a:close/>
                    <a:moveTo>
                      <a:pt x="2523" y="0"/>
                    </a:moveTo>
                    <a:lnTo>
                      <a:pt x="2523" y="0"/>
                    </a:lnTo>
                    <a:cubicBezTo>
                      <a:pt x="2524" y="0"/>
                      <a:pt x="2525" y="1"/>
                      <a:pt x="2525" y="2"/>
                    </a:cubicBezTo>
                    <a:cubicBezTo>
                      <a:pt x="2525" y="4"/>
                      <a:pt x="2524" y="4"/>
                      <a:pt x="2523" y="4"/>
                    </a:cubicBezTo>
                    <a:lnTo>
                      <a:pt x="2523" y="4"/>
                    </a:lnTo>
                    <a:cubicBezTo>
                      <a:pt x="2522" y="4"/>
                      <a:pt x="2521" y="4"/>
                      <a:pt x="2521" y="2"/>
                    </a:cubicBezTo>
                    <a:cubicBezTo>
                      <a:pt x="2521" y="1"/>
                      <a:pt x="2522" y="0"/>
                      <a:pt x="2523" y="0"/>
                    </a:cubicBezTo>
                    <a:close/>
                    <a:moveTo>
                      <a:pt x="2531" y="0"/>
                    </a:moveTo>
                    <a:lnTo>
                      <a:pt x="2531" y="0"/>
                    </a:lnTo>
                    <a:cubicBezTo>
                      <a:pt x="2532" y="0"/>
                      <a:pt x="2533" y="1"/>
                      <a:pt x="2533" y="2"/>
                    </a:cubicBezTo>
                    <a:cubicBezTo>
                      <a:pt x="2533" y="4"/>
                      <a:pt x="2532" y="4"/>
                      <a:pt x="2531" y="4"/>
                    </a:cubicBezTo>
                    <a:lnTo>
                      <a:pt x="2531" y="4"/>
                    </a:lnTo>
                    <a:cubicBezTo>
                      <a:pt x="2530" y="4"/>
                      <a:pt x="2529" y="4"/>
                      <a:pt x="2529" y="2"/>
                    </a:cubicBezTo>
                    <a:cubicBezTo>
                      <a:pt x="2529" y="1"/>
                      <a:pt x="2530" y="0"/>
                      <a:pt x="2531" y="0"/>
                    </a:cubicBezTo>
                    <a:close/>
                    <a:moveTo>
                      <a:pt x="2539" y="0"/>
                    </a:moveTo>
                    <a:lnTo>
                      <a:pt x="2539" y="0"/>
                    </a:lnTo>
                    <a:cubicBezTo>
                      <a:pt x="2540" y="0"/>
                      <a:pt x="2541" y="1"/>
                      <a:pt x="2541" y="2"/>
                    </a:cubicBezTo>
                    <a:cubicBezTo>
                      <a:pt x="2541" y="4"/>
                      <a:pt x="2540" y="4"/>
                      <a:pt x="2539" y="4"/>
                    </a:cubicBezTo>
                    <a:lnTo>
                      <a:pt x="2539" y="4"/>
                    </a:lnTo>
                    <a:cubicBezTo>
                      <a:pt x="2538" y="4"/>
                      <a:pt x="2537" y="4"/>
                      <a:pt x="2537" y="2"/>
                    </a:cubicBezTo>
                    <a:cubicBezTo>
                      <a:pt x="2537" y="1"/>
                      <a:pt x="2538" y="0"/>
                      <a:pt x="2539" y="0"/>
                    </a:cubicBezTo>
                    <a:close/>
                    <a:moveTo>
                      <a:pt x="2547" y="0"/>
                    </a:moveTo>
                    <a:lnTo>
                      <a:pt x="2547" y="0"/>
                    </a:lnTo>
                    <a:cubicBezTo>
                      <a:pt x="2548" y="0"/>
                      <a:pt x="2549" y="1"/>
                      <a:pt x="2549" y="2"/>
                    </a:cubicBezTo>
                    <a:cubicBezTo>
                      <a:pt x="2549" y="4"/>
                      <a:pt x="2548" y="4"/>
                      <a:pt x="2547" y="4"/>
                    </a:cubicBezTo>
                    <a:lnTo>
                      <a:pt x="2547" y="4"/>
                    </a:lnTo>
                    <a:cubicBezTo>
                      <a:pt x="2546" y="4"/>
                      <a:pt x="2545" y="4"/>
                      <a:pt x="2545" y="2"/>
                    </a:cubicBezTo>
                    <a:cubicBezTo>
                      <a:pt x="2545" y="1"/>
                      <a:pt x="2546" y="0"/>
                      <a:pt x="2547" y="0"/>
                    </a:cubicBezTo>
                    <a:close/>
                    <a:moveTo>
                      <a:pt x="2555" y="0"/>
                    </a:moveTo>
                    <a:lnTo>
                      <a:pt x="2555" y="0"/>
                    </a:lnTo>
                    <a:cubicBezTo>
                      <a:pt x="2556" y="0"/>
                      <a:pt x="2557" y="1"/>
                      <a:pt x="2557" y="2"/>
                    </a:cubicBezTo>
                    <a:cubicBezTo>
                      <a:pt x="2557" y="4"/>
                      <a:pt x="2556" y="4"/>
                      <a:pt x="2555" y="4"/>
                    </a:cubicBezTo>
                    <a:lnTo>
                      <a:pt x="2555" y="4"/>
                    </a:lnTo>
                    <a:cubicBezTo>
                      <a:pt x="2554" y="4"/>
                      <a:pt x="2553" y="4"/>
                      <a:pt x="2553" y="2"/>
                    </a:cubicBezTo>
                    <a:cubicBezTo>
                      <a:pt x="2553" y="1"/>
                      <a:pt x="2554" y="0"/>
                      <a:pt x="2555" y="0"/>
                    </a:cubicBezTo>
                    <a:close/>
                    <a:moveTo>
                      <a:pt x="2563" y="0"/>
                    </a:moveTo>
                    <a:lnTo>
                      <a:pt x="2563" y="0"/>
                    </a:lnTo>
                    <a:cubicBezTo>
                      <a:pt x="2564" y="0"/>
                      <a:pt x="2565" y="1"/>
                      <a:pt x="2565" y="2"/>
                    </a:cubicBezTo>
                    <a:cubicBezTo>
                      <a:pt x="2565" y="4"/>
                      <a:pt x="2564" y="4"/>
                      <a:pt x="2563" y="4"/>
                    </a:cubicBezTo>
                    <a:lnTo>
                      <a:pt x="2563" y="4"/>
                    </a:lnTo>
                    <a:cubicBezTo>
                      <a:pt x="2562" y="4"/>
                      <a:pt x="2561" y="4"/>
                      <a:pt x="2561" y="2"/>
                    </a:cubicBezTo>
                    <a:cubicBezTo>
                      <a:pt x="2561" y="1"/>
                      <a:pt x="2562" y="0"/>
                      <a:pt x="2563" y="0"/>
                    </a:cubicBezTo>
                    <a:close/>
                    <a:moveTo>
                      <a:pt x="2571" y="0"/>
                    </a:moveTo>
                    <a:lnTo>
                      <a:pt x="2571" y="0"/>
                    </a:lnTo>
                    <a:cubicBezTo>
                      <a:pt x="2572" y="0"/>
                      <a:pt x="2573" y="1"/>
                      <a:pt x="2573" y="2"/>
                    </a:cubicBezTo>
                    <a:cubicBezTo>
                      <a:pt x="2573" y="4"/>
                      <a:pt x="2572" y="4"/>
                      <a:pt x="2571" y="4"/>
                    </a:cubicBezTo>
                    <a:lnTo>
                      <a:pt x="2571" y="4"/>
                    </a:lnTo>
                    <a:cubicBezTo>
                      <a:pt x="2570" y="4"/>
                      <a:pt x="2569" y="4"/>
                      <a:pt x="2569" y="2"/>
                    </a:cubicBezTo>
                    <a:cubicBezTo>
                      <a:pt x="2569" y="1"/>
                      <a:pt x="2570" y="0"/>
                      <a:pt x="2571" y="0"/>
                    </a:cubicBezTo>
                    <a:close/>
                    <a:moveTo>
                      <a:pt x="2579" y="0"/>
                    </a:moveTo>
                    <a:lnTo>
                      <a:pt x="2579" y="0"/>
                    </a:lnTo>
                    <a:cubicBezTo>
                      <a:pt x="2580" y="0"/>
                      <a:pt x="2581" y="1"/>
                      <a:pt x="2581" y="2"/>
                    </a:cubicBezTo>
                    <a:cubicBezTo>
                      <a:pt x="2581" y="4"/>
                      <a:pt x="2580" y="4"/>
                      <a:pt x="2579" y="4"/>
                    </a:cubicBezTo>
                    <a:lnTo>
                      <a:pt x="2579" y="4"/>
                    </a:lnTo>
                    <a:cubicBezTo>
                      <a:pt x="2578" y="4"/>
                      <a:pt x="2577" y="4"/>
                      <a:pt x="2577" y="2"/>
                    </a:cubicBezTo>
                    <a:cubicBezTo>
                      <a:pt x="2577" y="1"/>
                      <a:pt x="2578" y="0"/>
                      <a:pt x="2579" y="0"/>
                    </a:cubicBezTo>
                    <a:close/>
                    <a:moveTo>
                      <a:pt x="2587" y="0"/>
                    </a:moveTo>
                    <a:lnTo>
                      <a:pt x="2587" y="0"/>
                    </a:lnTo>
                    <a:cubicBezTo>
                      <a:pt x="2588" y="0"/>
                      <a:pt x="2589" y="1"/>
                      <a:pt x="2589" y="2"/>
                    </a:cubicBezTo>
                    <a:cubicBezTo>
                      <a:pt x="2589" y="4"/>
                      <a:pt x="2588" y="4"/>
                      <a:pt x="2587" y="4"/>
                    </a:cubicBezTo>
                    <a:lnTo>
                      <a:pt x="2587" y="4"/>
                    </a:lnTo>
                    <a:cubicBezTo>
                      <a:pt x="2586" y="4"/>
                      <a:pt x="2585" y="4"/>
                      <a:pt x="2585" y="2"/>
                    </a:cubicBezTo>
                    <a:cubicBezTo>
                      <a:pt x="2585" y="1"/>
                      <a:pt x="2586" y="0"/>
                      <a:pt x="2587" y="0"/>
                    </a:cubicBezTo>
                    <a:close/>
                    <a:moveTo>
                      <a:pt x="2595" y="0"/>
                    </a:moveTo>
                    <a:lnTo>
                      <a:pt x="2595" y="0"/>
                    </a:lnTo>
                    <a:cubicBezTo>
                      <a:pt x="2596" y="0"/>
                      <a:pt x="2597" y="1"/>
                      <a:pt x="2597" y="2"/>
                    </a:cubicBezTo>
                    <a:cubicBezTo>
                      <a:pt x="2597" y="4"/>
                      <a:pt x="2596" y="4"/>
                      <a:pt x="2595" y="4"/>
                    </a:cubicBezTo>
                    <a:lnTo>
                      <a:pt x="2595" y="4"/>
                    </a:lnTo>
                    <a:cubicBezTo>
                      <a:pt x="2594" y="4"/>
                      <a:pt x="2593" y="4"/>
                      <a:pt x="2593" y="2"/>
                    </a:cubicBezTo>
                    <a:cubicBezTo>
                      <a:pt x="2593" y="1"/>
                      <a:pt x="2594" y="0"/>
                      <a:pt x="2595" y="0"/>
                    </a:cubicBezTo>
                    <a:close/>
                    <a:moveTo>
                      <a:pt x="2603" y="0"/>
                    </a:moveTo>
                    <a:lnTo>
                      <a:pt x="2603" y="0"/>
                    </a:lnTo>
                    <a:cubicBezTo>
                      <a:pt x="2604" y="0"/>
                      <a:pt x="2605" y="1"/>
                      <a:pt x="2605" y="2"/>
                    </a:cubicBezTo>
                    <a:cubicBezTo>
                      <a:pt x="2605" y="4"/>
                      <a:pt x="2604" y="4"/>
                      <a:pt x="2603" y="4"/>
                    </a:cubicBezTo>
                    <a:lnTo>
                      <a:pt x="2603" y="4"/>
                    </a:lnTo>
                    <a:cubicBezTo>
                      <a:pt x="2602" y="4"/>
                      <a:pt x="2601" y="4"/>
                      <a:pt x="2601" y="2"/>
                    </a:cubicBezTo>
                    <a:cubicBezTo>
                      <a:pt x="2601" y="1"/>
                      <a:pt x="2602" y="0"/>
                      <a:pt x="2603" y="0"/>
                    </a:cubicBezTo>
                    <a:close/>
                    <a:moveTo>
                      <a:pt x="2611" y="0"/>
                    </a:moveTo>
                    <a:lnTo>
                      <a:pt x="2611" y="0"/>
                    </a:lnTo>
                    <a:cubicBezTo>
                      <a:pt x="2612" y="0"/>
                      <a:pt x="2613" y="1"/>
                      <a:pt x="2613" y="2"/>
                    </a:cubicBezTo>
                    <a:cubicBezTo>
                      <a:pt x="2613" y="4"/>
                      <a:pt x="2612" y="4"/>
                      <a:pt x="2611" y="4"/>
                    </a:cubicBezTo>
                    <a:lnTo>
                      <a:pt x="2611" y="4"/>
                    </a:lnTo>
                    <a:cubicBezTo>
                      <a:pt x="2610" y="4"/>
                      <a:pt x="2609" y="4"/>
                      <a:pt x="2609" y="2"/>
                    </a:cubicBezTo>
                    <a:cubicBezTo>
                      <a:pt x="2609" y="1"/>
                      <a:pt x="2610" y="0"/>
                      <a:pt x="2611" y="0"/>
                    </a:cubicBezTo>
                    <a:close/>
                    <a:moveTo>
                      <a:pt x="2619" y="0"/>
                    </a:moveTo>
                    <a:lnTo>
                      <a:pt x="2619" y="0"/>
                    </a:lnTo>
                    <a:cubicBezTo>
                      <a:pt x="2620" y="0"/>
                      <a:pt x="2621" y="1"/>
                      <a:pt x="2621" y="2"/>
                    </a:cubicBezTo>
                    <a:cubicBezTo>
                      <a:pt x="2621" y="4"/>
                      <a:pt x="2620" y="4"/>
                      <a:pt x="2619" y="4"/>
                    </a:cubicBezTo>
                    <a:lnTo>
                      <a:pt x="2619" y="4"/>
                    </a:lnTo>
                    <a:cubicBezTo>
                      <a:pt x="2618" y="4"/>
                      <a:pt x="2617" y="4"/>
                      <a:pt x="2617" y="2"/>
                    </a:cubicBezTo>
                    <a:cubicBezTo>
                      <a:pt x="2617" y="1"/>
                      <a:pt x="2618" y="0"/>
                      <a:pt x="2619" y="0"/>
                    </a:cubicBezTo>
                    <a:close/>
                    <a:moveTo>
                      <a:pt x="2627" y="0"/>
                    </a:moveTo>
                    <a:lnTo>
                      <a:pt x="2627" y="0"/>
                    </a:lnTo>
                    <a:cubicBezTo>
                      <a:pt x="2628" y="0"/>
                      <a:pt x="2629" y="1"/>
                      <a:pt x="2629" y="2"/>
                    </a:cubicBezTo>
                    <a:cubicBezTo>
                      <a:pt x="2629" y="4"/>
                      <a:pt x="2628" y="4"/>
                      <a:pt x="2627" y="4"/>
                    </a:cubicBezTo>
                    <a:lnTo>
                      <a:pt x="2627" y="4"/>
                    </a:lnTo>
                    <a:cubicBezTo>
                      <a:pt x="2626" y="4"/>
                      <a:pt x="2625" y="4"/>
                      <a:pt x="2625" y="2"/>
                    </a:cubicBezTo>
                    <a:cubicBezTo>
                      <a:pt x="2625" y="1"/>
                      <a:pt x="2626" y="0"/>
                      <a:pt x="2627" y="0"/>
                    </a:cubicBezTo>
                    <a:close/>
                    <a:moveTo>
                      <a:pt x="2635" y="0"/>
                    </a:moveTo>
                    <a:lnTo>
                      <a:pt x="2635" y="0"/>
                    </a:lnTo>
                    <a:cubicBezTo>
                      <a:pt x="2636" y="0"/>
                      <a:pt x="2637" y="1"/>
                      <a:pt x="2637" y="2"/>
                    </a:cubicBezTo>
                    <a:cubicBezTo>
                      <a:pt x="2637" y="4"/>
                      <a:pt x="2636" y="4"/>
                      <a:pt x="2635" y="4"/>
                    </a:cubicBezTo>
                    <a:lnTo>
                      <a:pt x="2635" y="4"/>
                    </a:lnTo>
                    <a:cubicBezTo>
                      <a:pt x="2634" y="4"/>
                      <a:pt x="2633" y="4"/>
                      <a:pt x="2633" y="2"/>
                    </a:cubicBezTo>
                    <a:cubicBezTo>
                      <a:pt x="2633" y="1"/>
                      <a:pt x="2634" y="0"/>
                      <a:pt x="2635" y="0"/>
                    </a:cubicBezTo>
                    <a:close/>
                    <a:moveTo>
                      <a:pt x="2643" y="0"/>
                    </a:moveTo>
                    <a:lnTo>
                      <a:pt x="2643" y="0"/>
                    </a:lnTo>
                    <a:cubicBezTo>
                      <a:pt x="2644" y="0"/>
                      <a:pt x="2645" y="1"/>
                      <a:pt x="2645" y="2"/>
                    </a:cubicBezTo>
                    <a:cubicBezTo>
                      <a:pt x="2645" y="4"/>
                      <a:pt x="2644" y="4"/>
                      <a:pt x="2643" y="4"/>
                    </a:cubicBezTo>
                    <a:lnTo>
                      <a:pt x="2643" y="4"/>
                    </a:lnTo>
                    <a:cubicBezTo>
                      <a:pt x="2642" y="4"/>
                      <a:pt x="2641" y="4"/>
                      <a:pt x="2641" y="2"/>
                    </a:cubicBezTo>
                    <a:cubicBezTo>
                      <a:pt x="2641" y="1"/>
                      <a:pt x="2642" y="0"/>
                      <a:pt x="2643" y="0"/>
                    </a:cubicBezTo>
                    <a:close/>
                    <a:moveTo>
                      <a:pt x="2651" y="0"/>
                    </a:moveTo>
                    <a:lnTo>
                      <a:pt x="2651" y="0"/>
                    </a:lnTo>
                    <a:cubicBezTo>
                      <a:pt x="2652" y="0"/>
                      <a:pt x="2653" y="1"/>
                      <a:pt x="2653" y="2"/>
                    </a:cubicBezTo>
                    <a:cubicBezTo>
                      <a:pt x="2653" y="4"/>
                      <a:pt x="2652" y="4"/>
                      <a:pt x="2651" y="4"/>
                    </a:cubicBezTo>
                    <a:lnTo>
                      <a:pt x="2651" y="4"/>
                    </a:lnTo>
                    <a:cubicBezTo>
                      <a:pt x="2650" y="4"/>
                      <a:pt x="2649" y="4"/>
                      <a:pt x="2649" y="2"/>
                    </a:cubicBezTo>
                    <a:cubicBezTo>
                      <a:pt x="2649" y="1"/>
                      <a:pt x="2650" y="0"/>
                      <a:pt x="2651" y="0"/>
                    </a:cubicBezTo>
                    <a:close/>
                    <a:moveTo>
                      <a:pt x="2659" y="0"/>
                    </a:moveTo>
                    <a:lnTo>
                      <a:pt x="2659" y="0"/>
                    </a:lnTo>
                    <a:cubicBezTo>
                      <a:pt x="2660" y="0"/>
                      <a:pt x="2661" y="1"/>
                      <a:pt x="2661" y="2"/>
                    </a:cubicBezTo>
                    <a:cubicBezTo>
                      <a:pt x="2661" y="4"/>
                      <a:pt x="2660" y="4"/>
                      <a:pt x="2659" y="4"/>
                    </a:cubicBezTo>
                    <a:lnTo>
                      <a:pt x="2659" y="4"/>
                    </a:lnTo>
                    <a:cubicBezTo>
                      <a:pt x="2658" y="4"/>
                      <a:pt x="2657" y="4"/>
                      <a:pt x="2657" y="2"/>
                    </a:cubicBezTo>
                    <a:cubicBezTo>
                      <a:pt x="2657" y="1"/>
                      <a:pt x="2658" y="0"/>
                      <a:pt x="2659" y="0"/>
                    </a:cubicBezTo>
                    <a:close/>
                    <a:moveTo>
                      <a:pt x="2667" y="0"/>
                    </a:moveTo>
                    <a:lnTo>
                      <a:pt x="2667" y="0"/>
                    </a:lnTo>
                    <a:cubicBezTo>
                      <a:pt x="2668" y="0"/>
                      <a:pt x="2669" y="1"/>
                      <a:pt x="2669" y="2"/>
                    </a:cubicBezTo>
                    <a:cubicBezTo>
                      <a:pt x="2669" y="4"/>
                      <a:pt x="2668" y="4"/>
                      <a:pt x="2667" y="4"/>
                    </a:cubicBezTo>
                    <a:lnTo>
                      <a:pt x="2667" y="4"/>
                    </a:lnTo>
                    <a:cubicBezTo>
                      <a:pt x="2666" y="4"/>
                      <a:pt x="2665" y="4"/>
                      <a:pt x="2665" y="2"/>
                    </a:cubicBezTo>
                    <a:cubicBezTo>
                      <a:pt x="2665" y="1"/>
                      <a:pt x="2666" y="0"/>
                      <a:pt x="2667" y="0"/>
                    </a:cubicBezTo>
                    <a:close/>
                    <a:moveTo>
                      <a:pt x="2675" y="0"/>
                    </a:moveTo>
                    <a:lnTo>
                      <a:pt x="2675" y="0"/>
                    </a:lnTo>
                    <a:cubicBezTo>
                      <a:pt x="2676" y="0"/>
                      <a:pt x="2677" y="1"/>
                      <a:pt x="2677" y="2"/>
                    </a:cubicBezTo>
                    <a:cubicBezTo>
                      <a:pt x="2677" y="4"/>
                      <a:pt x="2676" y="4"/>
                      <a:pt x="2675" y="4"/>
                    </a:cubicBezTo>
                    <a:lnTo>
                      <a:pt x="2675" y="4"/>
                    </a:lnTo>
                    <a:cubicBezTo>
                      <a:pt x="2674" y="4"/>
                      <a:pt x="2673" y="4"/>
                      <a:pt x="2673" y="2"/>
                    </a:cubicBezTo>
                    <a:cubicBezTo>
                      <a:pt x="2673" y="1"/>
                      <a:pt x="2674" y="0"/>
                      <a:pt x="2675" y="0"/>
                    </a:cubicBezTo>
                    <a:close/>
                    <a:moveTo>
                      <a:pt x="2683" y="0"/>
                    </a:moveTo>
                    <a:lnTo>
                      <a:pt x="2683" y="0"/>
                    </a:lnTo>
                    <a:cubicBezTo>
                      <a:pt x="2684" y="0"/>
                      <a:pt x="2685" y="1"/>
                      <a:pt x="2685" y="2"/>
                    </a:cubicBezTo>
                    <a:cubicBezTo>
                      <a:pt x="2685" y="4"/>
                      <a:pt x="2684" y="4"/>
                      <a:pt x="2683" y="4"/>
                    </a:cubicBezTo>
                    <a:lnTo>
                      <a:pt x="2683" y="4"/>
                    </a:lnTo>
                    <a:cubicBezTo>
                      <a:pt x="2682" y="4"/>
                      <a:pt x="2681" y="4"/>
                      <a:pt x="2681" y="2"/>
                    </a:cubicBezTo>
                    <a:cubicBezTo>
                      <a:pt x="2681" y="1"/>
                      <a:pt x="2682" y="0"/>
                      <a:pt x="2683" y="0"/>
                    </a:cubicBezTo>
                    <a:close/>
                    <a:moveTo>
                      <a:pt x="2691" y="0"/>
                    </a:moveTo>
                    <a:lnTo>
                      <a:pt x="2691" y="0"/>
                    </a:lnTo>
                    <a:cubicBezTo>
                      <a:pt x="2692" y="0"/>
                      <a:pt x="2693" y="1"/>
                      <a:pt x="2693" y="2"/>
                    </a:cubicBezTo>
                    <a:cubicBezTo>
                      <a:pt x="2693" y="4"/>
                      <a:pt x="2692" y="4"/>
                      <a:pt x="2691" y="4"/>
                    </a:cubicBezTo>
                    <a:lnTo>
                      <a:pt x="2691" y="4"/>
                    </a:lnTo>
                    <a:cubicBezTo>
                      <a:pt x="2690" y="4"/>
                      <a:pt x="2689" y="4"/>
                      <a:pt x="2689" y="2"/>
                    </a:cubicBezTo>
                    <a:cubicBezTo>
                      <a:pt x="2689" y="1"/>
                      <a:pt x="2690" y="0"/>
                      <a:pt x="2691" y="0"/>
                    </a:cubicBezTo>
                    <a:close/>
                    <a:moveTo>
                      <a:pt x="2699" y="0"/>
                    </a:moveTo>
                    <a:lnTo>
                      <a:pt x="2699" y="0"/>
                    </a:lnTo>
                    <a:cubicBezTo>
                      <a:pt x="2700" y="0"/>
                      <a:pt x="2701" y="1"/>
                      <a:pt x="2701" y="2"/>
                    </a:cubicBezTo>
                    <a:cubicBezTo>
                      <a:pt x="2701" y="4"/>
                      <a:pt x="2700" y="4"/>
                      <a:pt x="2699" y="4"/>
                    </a:cubicBezTo>
                    <a:lnTo>
                      <a:pt x="2699" y="4"/>
                    </a:lnTo>
                    <a:cubicBezTo>
                      <a:pt x="2698" y="4"/>
                      <a:pt x="2697" y="4"/>
                      <a:pt x="2697" y="2"/>
                    </a:cubicBezTo>
                    <a:cubicBezTo>
                      <a:pt x="2697" y="1"/>
                      <a:pt x="2698" y="0"/>
                      <a:pt x="2699" y="0"/>
                    </a:cubicBezTo>
                    <a:close/>
                    <a:moveTo>
                      <a:pt x="2707" y="0"/>
                    </a:moveTo>
                    <a:lnTo>
                      <a:pt x="2707" y="0"/>
                    </a:lnTo>
                    <a:cubicBezTo>
                      <a:pt x="2708" y="0"/>
                      <a:pt x="2709" y="1"/>
                      <a:pt x="2709" y="2"/>
                    </a:cubicBezTo>
                    <a:cubicBezTo>
                      <a:pt x="2709" y="4"/>
                      <a:pt x="2708" y="4"/>
                      <a:pt x="2707" y="4"/>
                    </a:cubicBezTo>
                    <a:lnTo>
                      <a:pt x="2707" y="4"/>
                    </a:lnTo>
                    <a:cubicBezTo>
                      <a:pt x="2706" y="4"/>
                      <a:pt x="2705" y="4"/>
                      <a:pt x="2705" y="2"/>
                    </a:cubicBezTo>
                    <a:cubicBezTo>
                      <a:pt x="2705" y="1"/>
                      <a:pt x="2706" y="0"/>
                      <a:pt x="2707" y="0"/>
                    </a:cubicBezTo>
                    <a:close/>
                    <a:moveTo>
                      <a:pt x="2715" y="0"/>
                    </a:moveTo>
                    <a:lnTo>
                      <a:pt x="2715" y="0"/>
                    </a:lnTo>
                    <a:cubicBezTo>
                      <a:pt x="2716" y="0"/>
                      <a:pt x="2717" y="1"/>
                      <a:pt x="2717" y="2"/>
                    </a:cubicBezTo>
                    <a:cubicBezTo>
                      <a:pt x="2717" y="4"/>
                      <a:pt x="2716" y="4"/>
                      <a:pt x="2715" y="4"/>
                    </a:cubicBezTo>
                    <a:lnTo>
                      <a:pt x="2715" y="4"/>
                    </a:lnTo>
                    <a:cubicBezTo>
                      <a:pt x="2714" y="4"/>
                      <a:pt x="2713" y="4"/>
                      <a:pt x="2713" y="2"/>
                    </a:cubicBezTo>
                    <a:cubicBezTo>
                      <a:pt x="2713" y="1"/>
                      <a:pt x="2714" y="0"/>
                      <a:pt x="2715" y="0"/>
                    </a:cubicBezTo>
                    <a:close/>
                    <a:moveTo>
                      <a:pt x="2723" y="0"/>
                    </a:moveTo>
                    <a:lnTo>
                      <a:pt x="2723" y="0"/>
                    </a:lnTo>
                    <a:cubicBezTo>
                      <a:pt x="2724" y="0"/>
                      <a:pt x="2725" y="1"/>
                      <a:pt x="2725" y="2"/>
                    </a:cubicBezTo>
                    <a:cubicBezTo>
                      <a:pt x="2725" y="4"/>
                      <a:pt x="2724" y="4"/>
                      <a:pt x="2723" y="4"/>
                    </a:cubicBezTo>
                    <a:lnTo>
                      <a:pt x="2723" y="4"/>
                    </a:lnTo>
                    <a:cubicBezTo>
                      <a:pt x="2722" y="4"/>
                      <a:pt x="2721" y="4"/>
                      <a:pt x="2721" y="2"/>
                    </a:cubicBezTo>
                    <a:cubicBezTo>
                      <a:pt x="2721" y="1"/>
                      <a:pt x="2722" y="0"/>
                      <a:pt x="2723" y="0"/>
                    </a:cubicBezTo>
                    <a:close/>
                    <a:moveTo>
                      <a:pt x="2731" y="0"/>
                    </a:moveTo>
                    <a:lnTo>
                      <a:pt x="2731" y="0"/>
                    </a:lnTo>
                    <a:cubicBezTo>
                      <a:pt x="2732" y="0"/>
                      <a:pt x="2733" y="1"/>
                      <a:pt x="2733" y="2"/>
                    </a:cubicBezTo>
                    <a:cubicBezTo>
                      <a:pt x="2733" y="4"/>
                      <a:pt x="2732" y="4"/>
                      <a:pt x="2731" y="4"/>
                    </a:cubicBezTo>
                    <a:lnTo>
                      <a:pt x="2731" y="4"/>
                    </a:lnTo>
                    <a:cubicBezTo>
                      <a:pt x="2730" y="4"/>
                      <a:pt x="2729" y="4"/>
                      <a:pt x="2729" y="2"/>
                    </a:cubicBezTo>
                    <a:cubicBezTo>
                      <a:pt x="2729" y="1"/>
                      <a:pt x="2730" y="0"/>
                      <a:pt x="2731" y="0"/>
                    </a:cubicBezTo>
                    <a:close/>
                    <a:moveTo>
                      <a:pt x="2739" y="0"/>
                    </a:moveTo>
                    <a:lnTo>
                      <a:pt x="2739" y="0"/>
                    </a:lnTo>
                    <a:cubicBezTo>
                      <a:pt x="2740" y="0"/>
                      <a:pt x="2741" y="1"/>
                      <a:pt x="2741" y="2"/>
                    </a:cubicBezTo>
                    <a:cubicBezTo>
                      <a:pt x="2741" y="4"/>
                      <a:pt x="2740" y="4"/>
                      <a:pt x="2739" y="4"/>
                    </a:cubicBezTo>
                    <a:lnTo>
                      <a:pt x="2739" y="4"/>
                    </a:lnTo>
                    <a:cubicBezTo>
                      <a:pt x="2738" y="4"/>
                      <a:pt x="2737" y="4"/>
                      <a:pt x="2737" y="2"/>
                    </a:cubicBezTo>
                    <a:cubicBezTo>
                      <a:pt x="2737" y="1"/>
                      <a:pt x="2738" y="0"/>
                      <a:pt x="2739" y="0"/>
                    </a:cubicBezTo>
                    <a:close/>
                    <a:moveTo>
                      <a:pt x="2747" y="0"/>
                    </a:moveTo>
                    <a:lnTo>
                      <a:pt x="2747" y="0"/>
                    </a:lnTo>
                    <a:cubicBezTo>
                      <a:pt x="2748" y="0"/>
                      <a:pt x="2749" y="1"/>
                      <a:pt x="2749" y="2"/>
                    </a:cubicBezTo>
                    <a:cubicBezTo>
                      <a:pt x="2749" y="4"/>
                      <a:pt x="2748" y="4"/>
                      <a:pt x="2747" y="4"/>
                    </a:cubicBezTo>
                    <a:lnTo>
                      <a:pt x="2747" y="4"/>
                    </a:lnTo>
                    <a:cubicBezTo>
                      <a:pt x="2746" y="4"/>
                      <a:pt x="2745" y="4"/>
                      <a:pt x="2745" y="2"/>
                    </a:cubicBezTo>
                    <a:cubicBezTo>
                      <a:pt x="2745" y="1"/>
                      <a:pt x="2746" y="0"/>
                      <a:pt x="2747" y="0"/>
                    </a:cubicBezTo>
                    <a:close/>
                    <a:moveTo>
                      <a:pt x="2755" y="0"/>
                    </a:moveTo>
                    <a:lnTo>
                      <a:pt x="2755" y="0"/>
                    </a:lnTo>
                    <a:cubicBezTo>
                      <a:pt x="2756" y="0"/>
                      <a:pt x="2757" y="1"/>
                      <a:pt x="2757" y="2"/>
                    </a:cubicBezTo>
                    <a:cubicBezTo>
                      <a:pt x="2757" y="4"/>
                      <a:pt x="2756" y="4"/>
                      <a:pt x="2755" y="4"/>
                    </a:cubicBezTo>
                    <a:lnTo>
                      <a:pt x="2755" y="4"/>
                    </a:lnTo>
                    <a:cubicBezTo>
                      <a:pt x="2754" y="4"/>
                      <a:pt x="2753" y="4"/>
                      <a:pt x="2753" y="2"/>
                    </a:cubicBezTo>
                    <a:cubicBezTo>
                      <a:pt x="2753" y="1"/>
                      <a:pt x="2754" y="0"/>
                      <a:pt x="2755" y="0"/>
                    </a:cubicBezTo>
                    <a:close/>
                    <a:moveTo>
                      <a:pt x="2763" y="0"/>
                    </a:moveTo>
                    <a:lnTo>
                      <a:pt x="2763" y="0"/>
                    </a:lnTo>
                    <a:cubicBezTo>
                      <a:pt x="2764" y="0"/>
                      <a:pt x="2765" y="1"/>
                      <a:pt x="2765" y="2"/>
                    </a:cubicBezTo>
                    <a:cubicBezTo>
                      <a:pt x="2765" y="4"/>
                      <a:pt x="2764" y="4"/>
                      <a:pt x="2763" y="4"/>
                    </a:cubicBezTo>
                    <a:lnTo>
                      <a:pt x="2763" y="4"/>
                    </a:lnTo>
                    <a:cubicBezTo>
                      <a:pt x="2762" y="4"/>
                      <a:pt x="2761" y="4"/>
                      <a:pt x="2761" y="2"/>
                    </a:cubicBezTo>
                    <a:cubicBezTo>
                      <a:pt x="2761" y="1"/>
                      <a:pt x="2762" y="0"/>
                      <a:pt x="2763" y="0"/>
                    </a:cubicBezTo>
                    <a:close/>
                    <a:moveTo>
                      <a:pt x="2771" y="0"/>
                    </a:moveTo>
                    <a:lnTo>
                      <a:pt x="2771" y="0"/>
                    </a:lnTo>
                    <a:cubicBezTo>
                      <a:pt x="2772" y="0"/>
                      <a:pt x="2773" y="1"/>
                      <a:pt x="2773" y="2"/>
                    </a:cubicBezTo>
                    <a:cubicBezTo>
                      <a:pt x="2773" y="4"/>
                      <a:pt x="2772" y="4"/>
                      <a:pt x="2771" y="4"/>
                    </a:cubicBezTo>
                    <a:lnTo>
                      <a:pt x="2771" y="4"/>
                    </a:lnTo>
                    <a:cubicBezTo>
                      <a:pt x="2770" y="4"/>
                      <a:pt x="2769" y="4"/>
                      <a:pt x="2769" y="2"/>
                    </a:cubicBezTo>
                    <a:cubicBezTo>
                      <a:pt x="2769" y="1"/>
                      <a:pt x="2770" y="0"/>
                      <a:pt x="2771" y="0"/>
                    </a:cubicBezTo>
                    <a:close/>
                    <a:moveTo>
                      <a:pt x="2779" y="0"/>
                    </a:moveTo>
                    <a:lnTo>
                      <a:pt x="2779" y="0"/>
                    </a:lnTo>
                    <a:cubicBezTo>
                      <a:pt x="2780" y="0"/>
                      <a:pt x="2781" y="1"/>
                      <a:pt x="2781" y="2"/>
                    </a:cubicBezTo>
                    <a:cubicBezTo>
                      <a:pt x="2781" y="4"/>
                      <a:pt x="2780" y="4"/>
                      <a:pt x="2779" y="4"/>
                    </a:cubicBezTo>
                    <a:lnTo>
                      <a:pt x="2779" y="4"/>
                    </a:lnTo>
                    <a:cubicBezTo>
                      <a:pt x="2778" y="4"/>
                      <a:pt x="2777" y="4"/>
                      <a:pt x="2777" y="2"/>
                    </a:cubicBezTo>
                    <a:cubicBezTo>
                      <a:pt x="2777" y="1"/>
                      <a:pt x="2778" y="0"/>
                      <a:pt x="2779" y="0"/>
                    </a:cubicBezTo>
                    <a:close/>
                    <a:moveTo>
                      <a:pt x="2787" y="0"/>
                    </a:moveTo>
                    <a:lnTo>
                      <a:pt x="2787" y="0"/>
                    </a:lnTo>
                    <a:cubicBezTo>
                      <a:pt x="2788" y="0"/>
                      <a:pt x="2789" y="1"/>
                      <a:pt x="2789" y="2"/>
                    </a:cubicBezTo>
                    <a:cubicBezTo>
                      <a:pt x="2789" y="4"/>
                      <a:pt x="2788" y="4"/>
                      <a:pt x="2787" y="4"/>
                    </a:cubicBezTo>
                    <a:lnTo>
                      <a:pt x="2787" y="4"/>
                    </a:lnTo>
                    <a:cubicBezTo>
                      <a:pt x="2786" y="4"/>
                      <a:pt x="2785" y="4"/>
                      <a:pt x="2785" y="2"/>
                    </a:cubicBezTo>
                    <a:cubicBezTo>
                      <a:pt x="2785" y="1"/>
                      <a:pt x="2786" y="0"/>
                      <a:pt x="2787" y="0"/>
                    </a:cubicBezTo>
                    <a:close/>
                    <a:moveTo>
                      <a:pt x="2795" y="0"/>
                    </a:moveTo>
                    <a:lnTo>
                      <a:pt x="2795" y="0"/>
                    </a:lnTo>
                    <a:cubicBezTo>
                      <a:pt x="2796" y="0"/>
                      <a:pt x="2797" y="1"/>
                      <a:pt x="2797" y="2"/>
                    </a:cubicBezTo>
                    <a:cubicBezTo>
                      <a:pt x="2797" y="4"/>
                      <a:pt x="2796" y="4"/>
                      <a:pt x="2795" y="4"/>
                    </a:cubicBezTo>
                    <a:lnTo>
                      <a:pt x="2795" y="4"/>
                    </a:lnTo>
                    <a:cubicBezTo>
                      <a:pt x="2794" y="4"/>
                      <a:pt x="2793" y="4"/>
                      <a:pt x="2793" y="2"/>
                    </a:cubicBezTo>
                    <a:cubicBezTo>
                      <a:pt x="2793" y="1"/>
                      <a:pt x="2794" y="0"/>
                      <a:pt x="2795" y="0"/>
                    </a:cubicBezTo>
                    <a:close/>
                    <a:moveTo>
                      <a:pt x="2803" y="0"/>
                    </a:moveTo>
                    <a:lnTo>
                      <a:pt x="2803" y="0"/>
                    </a:lnTo>
                    <a:cubicBezTo>
                      <a:pt x="2804" y="0"/>
                      <a:pt x="2805" y="1"/>
                      <a:pt x="2805" y="2"/>
                    </a:cubicBezTo>
                    <a:cubicBezTo>
                      <a:pt x="2805" y="4"/>
                      <a:pt x="2804" y="4"/>
                      <a:pt x="2803" y="4"/>
                    </a:cubicBezTo>
                    <a:lnTo>
                      <a:pt x="2803" y="4"/>
                    </a:lnTo>
                    <a:cubicBezTo>
                      <a:pt x="2802" y="4"/>
                      <a:pt x="2801" y="4"/>
                      <a:pt x="2801" y="2"/>
                    </a:cubicBezTo>
                    <a:cubicBezTo>
                      <a:pt x="2801" y="1"/>
                      <a:pt x="2802" y="0"/>
                      <a:pt x="2803" y="0"/>
                    </a:cubicBezTo>
                    <a:close/>
                    <a:moveTo>
                      <a:pt x="2811" y="0"/>
                    </a:moveTo>
                    <a:lnTo>
                      <a:pt x="2811" y="0"/>
                    </a:lnTo>
                    <a:cubicBezTo>
                      <a:pt x="2812" y="0"/>
                      <a:pt x="2813" y="1"/>
                      <a:pt x="2813" y="2"/>
                    </a:cubicBezTo>
                    <a:cubicBezTo>
                      <a:pt x="2813" y="4"/>
                      <a:pt x="2812" y="4"/>
                      <a:pt x="2811" y="4"/>
                    </a:cubicBezTo>
                    <a:lnTo>
                      <a:pt x="2811" y="4"/>
                    </a:lnTo>
                    <a:cubicBezTo>
                      <a:pt x="2810" y="4"/>
                      <a:pt x="2809" y="4"/>
                      <a:pt x="2809" y="2"/>
                    </a:cubicBezTo>
                    <a:cubicBezTo>
                      <a:pt x="2809" y="1"/>
                      <a:pt x="2810" y="0"/>
                      <a:pt x="2811" y="0"/>
                    </a:cubicBezTo>
                    <a:close/>
                    <a:moveTo>
                      <a:pt x="2819" y="0"/>
                    </a:moveTo>
                    <a:lnTo>
                      <a:pt x="2819" y="0"/>
                    </a:lnTo>
                    <a:cubicBezTo>
                      <a:pt x="2820" y="0"/>
                      <a:pt x="2821" y="1"/>
                      <a:pt x="2821" y="2"/>
                    </a:cubicBezTo>
                    <a:cubicBezTo>
                      <a:pt x="2821" y="4"/>
                      <a:pt x="2820" y="4"/>
                      <a:pt x="2819" y="4"/>
                    </a:cubicBezTo>
                    <a:lnTo>
                      <a:pt x="2819" y="4"/>
                    </a:lnTo>
                    <a:cubicBezTo>
                      <a:pt x="2818" y="4"/>
                      <a:pt x="2817" y="4"/>
                      <a:pt x="2817" y="2"/>
                    </a:cubicBezTo>
                    <a:cubicBezTo>
                      <a:pt x="2817" y="1"/>
                      <a:pt x="2818" y="0"/>
                      <a:pt x="2819" y="0"/>
                    </a:cubicBezTo>
                    <a:close/>
                    <a:moveTo>
                      <a:pt x="2827" y="0"/>
                    </a:moveTo>
                    <a:lnTo>
                      <a:pt x="2827" y="0"/>
                    </a:lnTo>
                    <a:cubicBezTo>
                      <a:pt x="2828" y="0"/>
                      <a:pt x="2829" y="1"/>
                      <a:pt x="2829" y="2"/>
                    </a:cubicBezTo>
                    <a:cubicBezTo>
                      <a:pt x="2829" y="4"/>
                      <a:pt x="2828" y="4"/>
                      <a:pt x="2827" y="4"/>
                    </a:cubicBezTo>
                    <a:lnTo>
                      <a:pt x="2827" y="4"/>
                    </a:lnTo>
                    <a:cubicBezTo>
                      <a:pt x="2826" y="4"/>
                      <a:pt x="2825" y="4"/>
                      <a:pt x="2825" y="2"/>
                    </a:cubicBezTo>
                    <a:cubicBezTo>
                      <a:pt x="2825" y="1"/>
                      <a:pt x="2826" y="0"/>
                      <a:pt x="2827" y="0"/>
                    </a:cubicBezTo>
                    <a:close/>
                    <a:moveTo>
                      <a:pt x="2835" y="0"/>
                    </a:moveTo>
                    <a:lnTo>
                      <a:pt x="2835" y="0"/>
                    </a:lnTo>
                    <a:cubicBezTo>
                      <a:pt x="2836" y="0"/>
                      <a:pt x="2837" y="1"/>
                      <a:pt x="2837" y="2"/>
                    </a:cubicBezTo>
                    <a:cubicBezTo>
                      <a:pt x="2837" y="4"/>
                      <a:pt x="2836" y="4"/>
                      <a:pt x="2835" y="4"/>
                    </a:cubicBezTo>
                    <a:lnTo>
                      <a:pt x="2835" y="4"/>
                    </a:lnTo>
                    <a:cubicBezTo>
                      <a:pt x="2834" y="4"/>
                      <a:pt x="2833" y="4"/>
                      <a:pt x="2833" y="2"/>
                    </a:cubicBezTo>
                    <a:cubicBezTo>
                      <a:pt x="2833" y="1"/>
                      <a:pt x="2834" y="0"/>
                      <a:pt x="2835" y="0"/>
                    </a:cubicBezTo>
                    <a:close/>
                    <a:moveTo>
                      <a:pt x="2843" y="0"/>
                    </a:moveTo>
                    <a:lnTo>
                      <a:pt x="2843" y="0"/>
                    </a:lnTo>
                    <a:cubicBezTo>
                      <a:pt x="2844" y="0"/>
                      <a:pt x="2845" y="1"/>
                      <a:pt x="2845" y="2"/>
                    </a:cubicBezTo>
                    <a:cubicBezTo>
                      <a:pt x="2845" y="4"/>
                      <a:pt x="2844" y="4"/>
                      <a:pt x="2843" y="4"/>
                    </a:cubicBezTo>
                    <a:lnTo>
                      <a:pt x="2843" y="4"/>
                    </a:lnTo>
                    <a:cubicBezTo>
                      <a:pt x="2842" y="4"/>
                      <a:pt x="2841" y="4"/>
                      <a:pt x="2841" y="2"/>
                    </a:cubicBezTo>
                    <a:cubicBezTo>
                      <a:pt x="2841" y="1"/>
                      <a:pt x="2842" y="0"/>
                      <a:pt x="2843" y="0"/>
                    </a:cubicBezTo>
                    <a:close/>
                    <a:moveTo>
                      <a:pt x="2851" y="0"/>
                    </a:moveTo>
                    <a:lnTo>
                      <a:pt x="2851" y="0"/>
                    </a:lnTo>
                    <a:cubicBezTo>
                      <a:pt x="2852" y="0"/>
                      <a:pt x="2853" y="1"/>
                      <a:pt x="2853" y="2"/>
                    </a:cubicBezTo>
                    <a:cubicBezTo>
                      <a:pt x="2853" y="4"/>
                      <a:pt x="2852" y="4"/>
                      <a:pt x="2851" y="4"/>
                    </a:cubicBezTo>
                    <a:lnTo>
                      <a:pt x="2851" y="4"/>
                    </a:lnTo>
                    <a:cubicBezTo>
                      <a:pt x="2850" y="4"/>
                      <a:pt x="2849" y="4"/>
                      <a:pt x="2849" y="2"/>
                    </a:cubicBezTo>
                    <a:cubicBezTo>
                      <a:pt x="2849" y="1"/>
                      <a:pt x="2850" y="0"/>
                      <a:pt x="2851" y="0"/>
                    </a:cubicBezTo>
                    <a:close/>
                    <a:moveTo>
                      <a:pt x="2859" y="0"/>
                    </a:moveTo>
                    <a:lnTo>
                      <a:pt x="2859" y="0"/>
                    </a:lnTo>
                    <a:cubicBezTo>
                      <a:pt x="2860" y="0"/>
                      <a:pt x="2861" y="1"/>
                      <a:pt x="2861" y="2"/>
                    </a:cubicBezTo>
                    <a:cubicBezTo>
                      <a:pt x="2861" y="4"/>
                      <a:pt x="2860" y="4"/>
                      <a:pt x="2859" y="4"/>
                    </a:cubicBezTo>
                    <a:lnTo>
                      <a:pt x="2859" y="4"/>
                    </a:lnTo>
                    <a:cubicBezTo>
                      <a:pt x="2858" y="4"/>
                      <a:pt x="2857" y="4"/>
                      <a:pt x="2857" y="2"/>
                    </a:cubicBezTo>
                    <a:cubicBezTo>
                      <a:pt x="2857" y="1"/>
                      <a:pt x="2858" y="0"/>
                      <a:pt x="2859" y="0"/>
                    </a:cubicBezTo>
                    <a:close/>
                    <a:moveTo>
                      <a:pt x="2867" y="0"/>
                    </a:moveTo>
                    <a:lnTo>
                      <a:pt x="2867" y="0"/>
                    </a:lnTo>
                    <a:cubicBezTo>
                      <a:pt x="2868" y="0"/>
                      <a:pt x="2869" y="1"/>
                      <a:pt x="2869" y="2"/>
                    </a:cubicBezTo>
                    <a:cubicBezTo>
                      <a:pt x="2869" y="4"/>
                      <a:pt x="2868" y="4"/>
                      <a:pt x="2867" y="4"/>
                    </a:cubicBezTo>
                    <a:lnTo>
                      <a:pt x="2867" y="4"/>
                    </a:lnTo>
                    <a:cubicBezTo>
                      <a:pt x="2866" y="4"/>
                      <a:pt x="2865" y="4"/>
                      <a:pt x="2865" y="2"/>
                    </a:cubicBezTo>
                    <a:cubicBezTo>
                      <a:pt x="2865" y="1"/>
                      <a:pt x="2866" y="0"/>
                      <a:pt x="2867" y="0"/>
                    </a:cubicBezTo>
                    <a:close/>
                    <a:moveTo>
                      <a:pt x="2875" y="0"/>
                    </a:moveTo>
                    <a:lnTo>
                      <a:pt x="2875" y="0"/>
                    </a:lnTo>
                    <a:cubicBezTo>
                      <a:pt x="2876" y="0"/>
                      <a:pt x="2877" y="1"/>
                      <a:pt x="2877" y="2"/>
                    </a:cubicBezTo>
                    <a:cubicBezTo>
                      <a:pt x="2877" y="4"/>
                      <a:pt x="2876" y="4"/>
                      <a:pt x="2875" y="4"/>
                    </a:cubicBezTo>
                    <a:lnTo>
                      <a:pt x="2875" y="4"/>
                    </a:lnTo>
                    <a:cubicBezTo>
                      <a:pt x="2874" y="4"/>
                      <a:pt x="2873" y="4"/>
                      <a:pt x="2873" y="2"/>
                    </a:cubicBezTo>
                    <a:cubicBezTo>
                      <a:pt x="2873" y="1"/>
                      <a:pt x="2874" y="0"/>
                      <a:pt x="2875" y="0"/>
                    </a:cubicBezTo>
                    <a:close/>
                    <a:moveTo>
                      <a:pt x="2883" y="0"/>
                    </a:moveTo>
                    <a:lnTo>
                      <a:pt x="2883" y="0"/>
                    </a:lnTo>
                    <a:cubicBezTo>
                      <a:pt x="2884" y="0"/>
                      <a:pt x="2885" y="1"/>
                      <a:pt x="2885" y="2"/>
                    </a:cubicBezTo>
                    <a:cubicBezTo>
                      <a:pt x="2885" y="4"/>
                      <a:pt x="2884" y="4"/>
                      <a:pt x="2883" y="4"/>
                    </a:cubicBezTo>
                    <a:lnTo>
                      <a:pt x="2883" y="4"/>
                    </a:lnTo>
                    <a:cubicBezTo>
                      <a:pt x="2882" y="4"/>
                      <a:pt x="2881" y="4"/>
                      <a:pt x="2881" y="2"/>
                    </a:cubicBezTo>
                    <a:cubicBezTo>
                      <a:pt x="2881" y="1"/>
                      <a:pt x="2882" y="0"/>
                      <a:pt x="2883" y="0"/>
                    </a:cubicBezTo>
                    <a:close/>
                    <a:moveTo>
                      <a:pt x="2891" y="0"/>
                    </a:moveTo>
                    <a:lnTo>
                      <a:pt x="2891" y="0"/>
                    </a:lnTo>
                    <a:cubicBezTo>
                      <a:pt x="2892" y="0"/>
                      <a:pt x="2893" y="1"/>
                      <a:pt x="2893" y="2"/>
                    </a:cubicBezTo>
                    <a:cubicBezTo>
                      <a:pt x="2893" y="4"/>
                      <a:pt x="2892" y="4"/>
                      <a:pt x="2891" y="4"/>
                    </a:cubicBezTo>
                    <a:lnTo>
                      <a:pt x="2891" y="4"/>
                    </a:lnTo>
                    <a:cubicBezTo>
                      <a:pt x="2890" y="4"/>
                      <a:pt x="2889" y="4"/>
                      <a:pt x="2889" y="2"/>
                    </a:cubicBezTo>
                    <a:cubicBezTo>
                      <a:pt x="2889" y="1"/>
                      <a:pt x="2890" y="0"/>
                      <a:pt x="2891" y="0"/>
                    </a:cubicBezTo>
                    <a:close/>
                    <a:moveTo>
                      <a:pt x="2899" y="0"/>
                    </a:moveTo>
                    <a:lnTo>
                      <a:pt x="2899" y="0"/>
                    </a:lnTo>
                    <a:cubicBezTo>
                      <a:pt x="2900" y="0"/>
                      <a:pt x="2901" y="1"/>
                      <a:pt x="2901" y="2"/>
                    </a:cubicBezTo>
                    <a:cubicBezTo>
                      <a:pt x="2901" y="4"/>
                      <a:pt x="2900" y="4"/>
                      <a:pt x="2899" y="4"/>
                    </a:cubicBezTo>
                    <a:lnTo>
                      <a:pt x="2899" y="4"/>
                    </a:lnTo>
                    <a:cubicBezTo>
                      <a:pt x="2898" y="4"/>
                      <a:pt x="2897" y="4"/>
                      <a:pt x="2897" y="2"/>
                    </a:cubicBezTo>
                    <a:cubicBezTo>
                      <a:pt x="2897" y="1"/>
                      <a:pt x="2898" y="0"/>
                      <a:pt x="2899" y="0"/>
                    </a:cubicBezTo>
                    <a:close/>
                    <a:moveTo>
                      <a:pt x="2907" y="0"/>
                    </a:moveTo>
                    <a:lnTo>
                      <a:pt x="2907" y="0"/>
                    </a:lnTo>
                    <a:cubicBezTo>
                      <a:pt x="2908" y="0"/>
                      <a:pt x="2909" y="1"/>
                      <a:pt x="2909" y="2"/>
                    </a:cubicBezTo>
                    <a:cubicBezTo>
                      <a:pt x="2909" y="4"/>
                      <a:pt x="2908" y="4"/>
                      <a:pt x="2907" y="4"/>
                    </a:cubicBezTo>
                    <a:lnTo>
                      <a:pt x="2907" y="4"/>
                    </a:lnTo>
                    <a:cubicBezTo>
                      <a:pt x="2906" y="4"/>
                      <a:pt x="2905" y="4"/>
                      <a:pt x="2905" y="2"/>
                    </a:cubicBezTo>
                    <a:cubicBezTo>
                      <a:pt x="2905" y="1"/>
                      <a:pt x="2906" y="0"/>
                      <a:pt x="2907" y="0"/>
                    </a:cubicBezTo>
                    <a:close/>
                    <a:moveTo>
                      <a:pt x="2915" y="0"/>
                    </a:moveTo>
                    <a:lnTo>
                      <a:pt x="2915" y="0"/>
                    </a:lnTo>
                    <a:cubicBezTo>
                      <a:pt x="2916" y="0"/>
                      <a:pt x="2917" y="1"/>
                      <a:pt x="2917" y="2"/>
                    </a:cubicBezTo>
                    <a:cubicBezTo>
                      <a:pt x="2917" y="4"/>
                      <a:pt x="2916" y="4"/>
                      <a:pt x="2915" y="4"/>
                    </a:cubicBezTo>
                    <a:lnTo>
                      <a:pt x="2915" y="4"/>
                    </a:lnTo>
                    <a:cubicBezTo>
                      <a:pt x="2914" y="4"/>
                      <a:pt x="2913" y="4"/>
                      <a:pt x="2913" y="2"/>
                    </a:cubicBezTo>
                    <a:cubicBezTo>
                      <a:pt x="2913" y="1"/>
                      <a:pt x="2914" y="0"/>
                      <a:pt x="2915" y="0"/>
                    </a:cubicBezTo>
                    <a:close/>
                    <a:moveTo>
                      <a:pt x="2923" y="0"/>
                    </a:moveTo>
                    <a:lnTo>
                      <a:pt x="2923" y="0"/>
                    </a:lnTo>
                    <a:cubicBezTo>
                      <a:pt x="2924" y="0"/>
                      <a:pt x="2925" y="1"/>
                      <a:pt x="2925" y="2"/>
                    </a:cubicBezTo>
                    <a:cubicBezTo>
                      <a:pt x="2925" y="4"/>
                      <a:pt x="2924" y="4"/>
                      <a:pt x="2923" y="4"/>
                    </a:cubicBezTo>
                    <a:lnTo>
                      <a:pt x="2923" y="4"/>
                    </a:lnTo>
                    <a:cubicBezTo>
                      <a:pt x="2922" y="4"/>
                      <a:pt x="2921" y="4"/>
                      <a:pt x="2921" y="2"/>
                    </a:cubicBezTo>
                    <a:cubicBezTo>
                      <a:pt x="2921" y="1"/>
                      <a:pt x="2922" y="0"/>
                      <a:pt x="2923" y="0"/>
                    </a:cubicBezTo>
                    <a:close/>
                    <a:moveTo>
                      <a:pt x="2931" y="0"/>
                    </a:moveTo>
                    <a:lnTo>
                      <a:pt x="2931" y="0"/>
                    </a:lnTo>
                    <a:cubicBezTo>
                      <a:pt x="2932" y="0"/>
                      <a:pt x="2933" y="1"/>
                      <a:pt x="2933" y="2"/>
                    </a:cubicBezTo>
                    <a:cubicBezTo>
                      <a:pt x="2933" y="4"/>
                      <a:pt x="2932" y="4"/>
                      <a:pt x="2931" y="4"/>
                    </a:cubicBezTo>
                    <a:lnTo>
                      <a:pt x="2931" y="4"/>
                    </a:lnTo>
                    <a:cubicBezTo>
                      <a:pt x="2930" y="4"/>
                      <a:pt x="2929" y="4"/>
                      <a:pt x="2929" y="2"/>
                    </a:cubicBezTo>
                    <a:cubicBezTo>
                      <a:pt x="2929" y="1"/>
                      <a:pt x="2930" y="0"/>
                      <a:pt x="2931" y="0"/>
                    </a:cubicBezTo>
                    <a:close/>
                    <a:moveTo>
                      <a:pt x="2939" y="0"/>
                    </a:moveTo>
                    <a:lnTo>
                      <a:pt x="2939" y="0"/>
                    </a:lnTo>
                    <a:cubicBezTo>
                      <a:pt x="2940" y="0"/>
                      <a:pt x="2941" y="1"/>
                      <a:pt x="2941" y="3"/>
                    </a:cubicBezTo>
                    <a:cubicBezTo>
                      <a:pt x="2941" y="4"/>
                      <a:pt x="2940" y="5"/>
                      <a:pt x="2939" y="5"/>
                    </a:cubicBezTo>
                    <a:lnTo>
                      <a:pt x="2939" y="5"/>
                    </a:lnTo>
                    <a:cubicBezTo>
                      <a:pt x="2938" y="5"/>
                      <a:pt x="2937" y="4"/>
                      <a:pt x="2937" y="3"/>
                    </a:cubicBezTo>
                    <a:cubicBezTo>
                      <a:pt x="2937" y="1"/>
                      <a:pt x="2938" y="0"/>
                      <a:pt x="2939" y="0"/>
                    </a:cubicBezTo>
                    <a:close/>
                    <a:moveTo>
                      <a:pt x="2947" y="1"/>
                    </a:moveTo>
                    <a:lnTo>
                      <a:pt x="2947" y="1"/>
                    </a:lnTo>
                    <a:cubicBezTo>
                      <a:pt x="2948" y="1"/>
                      <a:pt x="2949" y="1"/>
                      <a:pt x="2949" y="3"/>
                    </a:cubicBezTo>
                    <a:cubicBezTo>
                      <a:pt x="2949" y="4"/>
                      <a:pt x="2948" y="5"/>
                      <a:pt x="2947" y="5"/>
                    </a:cubicBezTo>
                    <a:lnTo>
                      <a:pt x="2947" y="5"/>
                    </a:lnTo>
                    <a:cubicBezTo>
                      <a:pt x="2946" y="5"/>
                      <a:pt x="2945" y="4"/>
                      <a:pt x="2945" y="3"/>
                    </a:cubicBezTo>
                    <a:cubicBezTo>
                      <a:pt x="2945" y="1"/>
                      <a:pt x="2946" y="1"/>
                      <a:pt x="2947" y="1"/>
                    </a:cubicBezTo>
                    <a:close/>
                    <a:moveTo>
                      <a:pt x="2955" y="1"/>
                    </a:moveTo>
                    <a:lnTo>
                      <a:pt x="2955" y="1"/>
                    </a:lnTo>
                    <a:cubicBezTo>
                      <a:pt x="2956" y="1"/>
                      <a:pt x="2957" y="1"/>
                      <a:pt x="2957" y="3"/>
                    </a:cubicBezTo>
                    <a:cubicBezTo>
                      <a:pt x="2957" y="4"/>
                      <a:pt x="2956" y="5"/>
                      <a:pt x="2955" y="5"/>
                    </a:cubicBezTo>
                    <a:lnTo>
                      <a:pt x="2955" y="5"/>
                    </a:lnTo>
                    <a:cubicBezTo>
                      <a:pt x="2954" y="5"/>
                      <a:pt x="2953" y="4"/>
                      <a:pt x="2953" y="3"/>
                    </a:cubicBezTo>
                    <a:cubicBezTo>
                      <a:pt x="2953" y="1"/>
                      <a:pt x="2954" y="1"/>
                      <a:pt x="2955" y="1"/>
                    </a:cubicBezTo>
                    <a:close/>
                    <a:moveTo>
                      <a:pt x="2963" y="1"/>
                    </a:moveTo>
                    <a:lnTo>
                      <a:pt x="2963" y="1"/>
                    </a:lnTo>
                    <a:cubicBezTo>
                      <a:pt x="2964" y="1"/>
                      <a:pt x="2965" y="1"/>
                      <a:pt x="2965" y="3"/>
                    </a:cubicBezTo>
                    <a:cubicBezTo>
                      <a:pt x="2965" y="4"/>
                      <a:pt x="2964" y="5"/>
                      <a:pt x="2963" y="5"/>
                    </a:cubicBezTo>
                    <a:lnTo>
                      <a:pt x="2963" y="5"/>
                    </a:lnTo>
                    <a:cubicBezTo>
                      <a:pt x="2962" y="5"/>
                      <a:pt x="2961" y="4"/>
                      <a:pt x="2961" y="3"/>
                    </a:cubicBezTo>
                    <a:cubicBezTo>
                      <a:pt x="2961" y="1"/>
                      <a:pt x="2962" y="1"/>
                      <a:pt x="2963" y="1"/>
                    </a:cubicBezTo>
                    <a:close/>
                    <a:moveTo>
                      <a:pt x="2971" y="1"/>
                    </a:moveTo>
                    <a:lnTo>
                      <a:pt x="2971" y="1"/>
                    </a:lnTo>
                    <a:cubicBezTo>
                      <a:pt x="2972" y="1"/>
                      <a:pt x="2973" y="1"/>
                      <a:pt x="2973" y="3"/>
                    </a:cubicBezTo>
                    <a:cubicBezTo>
                      <a:pt x="2973" y="4"/>
                      <a:pt x="2972" y="5"/>
                      <a:pt x="2971" y="5"/>
                    </a:cubicBezTo>
                    <a:lnTo>
                      <a:pt x="2971" y="5"/>
                    </a:lnTo>
                    <a:cubicBezTo>
                      <a:pt x="2970" y="5"/>
                      <a:pt x="2969" y="4"/>
                      <a:pt x="2969" y="3"/>
                    </a:cubicBezTo>
                    <a:cubicBezTo>
                      <a:pt x="2969" y="1"/>
                      <a:pt x="2970" y="1"/>
                      <a:pt x="2971" y="1"/>
                    </a:cubicBezTo>
                    <a:close/>
                    <a:moveTo>
                      <a:pt x="2979" y="1"/>
                    </a:moveTo>
                    <a:lnTo>
                      <a:pt x="2979" y="1"/>
                    </a:lnTo>
                    <a:cubicBezTo>
                      <a:pt x="2980" y="1"/>
                      <a:pt x="2981" y="1"/>
                      <a:pt x="2981" y="3"/>
                    </a:cubicBezTo>
                    <a:cubicBezTo>
                      <a:pt x="2981" y="4"/>
                      <a:pt x="2980" y="5"/>
                      <a:pt x="2979" y="5"/>
                    </a:cubicBezTo>
                    <a:lnTo>
                      <a:pt x="2979" y="5"/>
                    </a:lnTo>
                    <a:cubicBezTo>
                      <a:pt x="2978" y="5"/>
                      <a:pt x="2977" y="4"/>
                      <a:pt x="2977" y="3"/>
                    </a:cubicBezTo>
                    <a:cubicBezTo>
                      <a:pt x="2977" y="1"/>
                      <a:pt x="2978" y="1"/>
                      <a:pt x="2979" y="1"/>
                    </a:cubicBezTo>
                    <a:close/>
                    <a:moveTo>
                      <a:pt x="2987" y="1"/>
                    </a:moveTo>
                    <a:lnTo>
                      <a:pt x="2987" y="1"/>
                    </a:lnTo>
                    <a:cubicBezTo>
                      <a:pt x="2988" y="1"/>
                      <a:pt x="2989" y="1"/>
                      <a:pt x="2989" y="3"/>
                    </a:cubicBezTo>
                    <a:cubicBezTo>
                      <a:pt x="2989" y="4"/>
                      <a:pt x="2988" y="5"/>
                      <a:pt x="2987" y="5"/>
                    </a:cubicBezTo>
                    <a:lnTo>
                      <a:pt x="2987" y="5"/>
                    </a:lnTo>
                    <a:cubicBezTo>
                      <a:pt x="2986" y="5"/>
                      <a:pt x="2985" y="4"/>
                      <a:pt x="2985" y="3"/>
                    </a:cubicBezTo>
                    <a:cubicBezTo>
                      <a:pt x="2985" y="1"/>
                      <a:pt x="2986" y="1"/>
                      <a:pt x="2987" y="1"/>
                    </a:cubicBezTo>
                    <a:close/>
                    <a:moveTo>
                      <a:pt x="2995" y="1"/>
                    </a:moveTo>
                    <a:lnTo>
                      <a:pt x="2995" y="1"/>
                    </a:lnTo>
                    <a:cubicBezTo>
                      <a:pt x="2996" y="1"/>
                      <a:pt x="2997" y="1"/>
                      <a:pt x="2997" y="3"/>
                    </a:cubicBezTo>
                    <a:cubicBezTo>
                      <a:pt x="2997" y="4"/>
                      <a:pt x="2996" y="5"/>
                      <a:pt x="2995" y="5"/>
                    </a:cubicBezTo>
                    <a:lnTo>
                      <a:pt x="2995" y="5"/>
                    </a:lnTo>
                    <a:cubicBezTo>
                      <a:pt x="2994" y="5"/>
                      <a:pt x="2993" y="4"/>
                      <a:pt x="2993" y="3"/>
                    </a:cubicBezTo>
                    <a:cubicBezTo>
                      <a:pt x="2993" y="1"/>
                      <a:pt x="2994" y="1"/>
                      <a:pt x="2995" y="1"/>
                    </a:cubicBezTo>
                    <a:close/>
                    <a:moveTo>
                      <a:pt x="3003" y="1"/>
                    </a:moveTo>
                    <a:lnTo>
                      <a:pt x="3003" y="1"/>
                    </a:lnTo>
                    <a:cubicBezTo>
                      <a:pt x="3004" y="1"/>
                      <a:pt x="3005" y="1"/>
                      <a:pt x="3005" y="3"/>
                    </a:cubicBezTo>
                    <a:cubicBezTo>
                      <a:pt x="3005" y="4"/>
                      <a:pt x="3004" y="5"/>
                      <a:pt x="3003" y="5"/>
                    </a:cubicBezTo>
                    <a:lnTo>
                      <a:pt x="3003" y="5"/>
                    </a:lnTo>
                    <a:cubicBezTo>
                      <a:pt x="3002" y="5"/>
                      <a:pt x="3001" y="4"/>
                      <a:pt x="3001" y="3"/>
                    </a:cubicBezTo>
                    <a:cubicBezTo>
                      <a:pt x="3001" y="1"/>
                      <a:pt x="3002" y="1"/>
                      <a:pt x="3003" y="1"/>
                    </a:cubicBezTo>
                    <a:close/>
                    <a:moveTo>
                      <a:pt x="3011" y="1"/>
                    </a:moveTo>
                    <a:lnTo>
                      <a:pt x="3011" y="1"/>
                    </a:lnTo>
                    <a:cubicBezTo>
                      <a:pt x="3012" y="1"/>
                      <a:pt x="3013" y="1"/>
                      <a:pt x="3013" y="3"/>
                    </a:cubicBezTo>
                    <a:cubicBezTo>
                      <a:pt x="3013" y="4"/>
                      <a:pt x="3012" y="5"/>
                      <a:pt x="3011" y="5"/>
                    </a:cubicBezTo>
                    <a:lnTo>
                      <a:pt x="3011" y="5"/>
                    </a:lnTo>
                    <a:cubicBezTo>
                      <a:pt x="3010" y="5"/>
                      <a:pt x="3009" y="4"/>
                      <a:pt x="3009" y="3"/>
                    </a:cubicBezTo>
                    <a:cubicBezTo>
                      <a:pt x="3009" y="1"/>
                      <a:pt x="3010" y="1"/>
                      <a:pt x="3011" y="1"/>
                    </a:cubicBezTo>
                    <a:close/>
                    <a:moveTo>
                      <a:pt x="3019" y="1"/>
                    </a:moveTo>
                    <a:lnTo>
                      <a:pt x="3019" y="1"/>
                    </a:lnTo>
                    <a:cubicBezTo>
                      <a:pt x="3020" y="1"/>
                      <a:pt x="3021" y="1"/>
                      <a:pt x="3021" y="3"/>
                    </a:cubicBezTo>
                    <a:cubicBezTo>
                      <a:pt x="3021" y="4"/>
                      <a:pt x="3020" y="5"/>
                      <a:pt x="3019" y="5"/>
                    </a:cubicBezTo>
                    <a:lnTo>
                      <a:pt x="3019" y="5"/>
                    </a:lnTo>
                    <a:cubicBezTo>
                      <a:pt x="3018" y="5"/>
                      <a:pt x="3017" y="4"/>
                      <a:pt x="3017" y="3"/>
                    </a:cubicBezTo>
                    <a:cubicBezTo>
                      <a:pt x="3017" y="1"/>
                      <a:pt x="3018" y="1"/>
                      <a:pt x="3019" y="1"/>
                    </a:cubicBezTo>
                    <a:close/>
                    <a:moveTo>
                      <a:pt x="3027" y="1"/>
                    </a:moveTo>
                    <a:lnTo>
                      <a:pt x="3027" y="1"/>
                    </a:lnTo>
                    <a:cubicBezTo>
                      <a:pt x="3028" y="1"/>
                      <a:pt x="3029" y="1"/>
                      <a:pt x="3029" y="3"/>
                    </a:cubicBezTo>
                    <a:cubicBezTo>
                      <a:pt x="3029" y="4"/>
                      <a:pt x="3028" y="5"/>
                      <a:pt x="3027" y="5"/>
                    </a:cubicBezTo>
                    <a:lnTo>
                      <a:pt x="3027" y="5"/>
                    </a:lnTo>
                    <a:cubicBezTo>
                      <a:pt x="3026" y="5"/>
                      <a:pt x="3025" y="4"/>
                      <a:pt x="3025" y="3"/>
                    </a:cubicBezTo>
                    <a:cubicBezTo>
                      <a:pt x="3025" y="1"/>
                      <a:pt x="3026" y="1"/>
                      <a:pt x="3027" y="1"/>
                    </a:cubicBezTo>
                    <a:close/>
                    <a:moveTo>
                      <a:pt x="3035" y="1"/>
                    </a:moveTo>
                    <a:lnTo>
                      <a:pt x="3035" y="1"/>
                    </a:lnTo>
                    <a:cubicBezTo>
                      <a:pt x="3036" y="1"/>
                      <a:pt x="3037" y="1"/>
                      <a:pt x="3037" y="3"/>
                    </a:cubicBezTo>
                    <a:cubicBezTo>
                      <a:pt x="3037" y="4"/>
                      <a:pt x="3036" y="5"/>
                      <a:pt x="3035" y="5"/>
                    </a:cubicBezTo>
                    <a:lnTo>
                      <a:pt x="3035" y="5"/>
                    </a:lnTo>
                    <a:cubicBezTo>
                      <a:pt x="3034" y="5"/>
                      <a:pt x="3033" y="4"/>
                      <a:pt x="3033" y="3"/>
                    </a:cubicBezTo>
                    <a:cubicBezTo>
                      <a:pt x="3033" y="1"/>
                      <a:pt x="3034" y="1"/>
                      <a:pt x="3035" y="1"/>
                    </a:cubicBezTo>
                    <a:close/>
                    <a:moveTo>
                      <a:pt x="3043" y="1"/>
                    </a:moveTo>
                    <a:lnTo>
                      <a:pt x="3043" y="1"/>
                    </a:lnTo>
                    <a:cubicBezTo>
                      <a:pt x="3044" y="1"/>
                      <a:pt x="3045" y="1"/>
                      <a:pt x="3045" y="3"/>
                    </a:cubicBezTo>
                    <a:cubicBezTo>
                      <a:pt x="3045" y="4"/>
                      <a:pt x="3044" y="5"/>
                      <a:pt x="3043" y="5"/>
                    </a:cubicBezTo>
                    <a:lnTo>
                      <a:pt x="3043" y="5"/>
                    </a:lnTo>
                    <a:cubicBezTo>
                      <a:pt x="3042" y="5"/>
                      <a:pt x="3041" y="4"/>
                      <a:pt x="3041" y="3"/>
                    </a:cubicBezTo>
                    <a:cubicBezTo>
                      <a:pt x="3041" y="1"/>
                      <a:pt x="3042" y="1"/>
                      <a:pt x="3043" y="1"/>
                    </a:cubicBezTo>
                    <a:close/>
                    <a:moveTo>
                      <a:pt x="3051" y="1"/>
                    </a:moveTo>
                    <a:lnTo>
                      <a:pt x="3051" y="1"/>
                    </a:lnTo>
                    <a:cubicBezTo>
                      <a:pt x="3052" y="1"/>
                      <a:pt x="3053" y="1"/>
                      <a:pt x="3053" y="3"/>
                    </a:cubicBezTo>
                    <a:cubicBezTo>
                      <a:pt x="3053" y="4"/>
                      <a:pt x="3052" y="5"/>
                      <a:pt x="3051" y="5"/>
                    </a:cubicBezTo>
                    <a:lnTo>
                      <a:pt x="3051" y="5"/>
                    </a:lnTo>
                    <a:cubicBezTo>
                      <a:pt x="3050" y="5"/>
                      <a:pt x="3049" y="4"/>
                      <a:pt x="3049" y="3"/>
                    </a:cubicBezTo>
                    <a:cubicBezTo>
                      <a:pt x="3049" y="1"/>
                      <a:pt x="3050" y="1"/>
                      <a:pt x="3051" y="1"/>
                    </a:cubicBezTo>
                    <a:close/>
                    <a:moveTo>
                      <a:pt x="3059" y="1"/>
                    </a:moveTo>
                    <a:lnTo>
                      <a:pt x="3059" y="1"/>
                    </a:lnTo>
                    <a:cubicBezTo>
                      <a:pt x="3060" y="1"/>
                      <a:pt x="3061" y="1"/>
                      <a:pt x="3061" y="3"/>
                    </a:cubicBezTo>
                    <a:cubicBezTo>
                      <a:pt x="3061" y="4"/>
                      <a:pt x="3060" y="5"/>
                      <a:pt x="3059" y="5"/>
                    </a:cubicBezTo>
                    <a:lnTo>
                      <a:pt x="3059" y="5"/>
                    </a:lnTo>
                    <a:cubicBezTo>
                      <a:pt x="3058" y="5"/>
                      <a:pt x="3057" y="4"/>
                      <a:pt x="3057" y="3"/>
                    </a:cubicBezTo>
                    <a:cubicBezTo>
                      <a:pt x="3057" y="1"/>
                      <a:pt x="3058" y="1"/>
                      <a:pt x="3059" y="1"/>
                    </a:cubicBezTo>
                    <a:close/>
                    <a:moveTo>
                      <a:pt x="3067" y="1"/>
                    </a:moveTo>
                    <a:lnTo>
                      <a:pt x="3067" y="1"/>
                    </a:lnTo>
                    <a:cubicBezTo>
                      <a:pt x="3068" y="1"/>
                      <a:pt x="3069" y="1"/>
                      <a:pt x="3069" y="3"/>
                    </a:cubicBezTo>
                    <a:cubicBezTo>
                      <a:pt x="3069" y="4"/>
                      <a:pt x="3068" y="5"/>
                      <a:pt x="3067" y="5"/>
                    </a:cubicBezTo>
                    <a:lnTo>
                      <a:pt x="3067" y="5"/>
                    </a:lnTo>
                    <a:cubicBezTo>
                      <a:pt x="3066" y="5"/>
                      <a:pt x="3065" y="4"/>
                      <a:pt x="3065" y="3"/>
                    </a:cubicBezTo>
                    <a:cubicBezTo>
                      <a:pt x="3065" y="1"/>
                      <a:pt x="3066" y="1"/>
                      <a:pt x="3067" y="1"/>
                    </a:cubicBezTo>
                    <a:close/>
                    <a:moveTo>
                      <a:pt x="3075" y="1"/>
                    </a:moveTo>
                    <a:lnTo>
                      <a:pt x="3075" y="1"/>
                    </a:lnTo>
                    <a:cubicBezTo>
                      <a:pt x="3076" y="1"/>
                      <a:pt x="3077" y="1"/>
                      <a:pt x="3077" y="3"/>
                    </a:cubicBezTo>
                    <a:cubicBezTo>
                      <a:pt x="3077" y="4"/>
                      <a:pt x="3076" y="5"/>
                      <a:pt x="3075" y="5"/>
                    </a:cubicBezTo>
                    <a:lnTo>
                      <a:pt x="3075" y="5"/>
                    </a:lnTo>
                    <a:cubicBezTo>
                      <a:pt x="3074" y="5"/>
                      <a:pt x="3073" y="4"/>
                      <a:pt x="3073" y="3"/>
                    </a:cubicBezTo>
                    <a:cubicBezTo>
                      <a:pt x="3073" y="1"/>
                      <a:pt x="3074" y="1"/>
                      <a:pt x="3075" y="1"/>
                    </a:cubicBezTo>
                    <a:close/>
                    <a:moveTo>
                      <a:pt x="3083" y="1"/>
                    </a:moveTo>
                    <a:lnTo>
                      <a:pt x="3083" y="1"/>
                    </a:lnTo>
                    <a:cubicBezTo>
                      <a:pt x="3084" y="1"/>
                      <a:pt x="3085" y="1"/>
                      <a:pt x="3085" y="3"/>
                    </a:cubicBezTo>
                    <a:cubicBezTo>
                      <a:pt x="3085" y="4"/>
                      <a:pt x="3084" y="5"/>
                      <a:pt x="3083" y="5"/>
                    </a:cubicBezTo>
                    <a:lnTo>
                      <a:pt x="3083" y="5"/>
                    </a:lnTo>
                    <a:cubicBezTo>
                      <a:pt x="3082" y="5"/>
                      <a:pt x="3081" y="4"/>
                      <a:pt x="3081" y="3"/>
                    </a:cubicBezTo>
                    <a:cubicBezTo>
                      <a:pt x="3081" y="1"/>
                      <a:pt x="3082" y="1"/>
                      <a:pt x="3083" y="1"/>
                    </a:cubicBezTo>
                    <a:close/>
                    <a:moveTo>
                      <a:pt x="3091" y="1"/>
                    </a:moveTo>
                    <a:lnTo>
                      <a:pt x="3091" y="1"/>
                    </a:lnTo>
                    <a:cubicBezTo>
                      <a:pt x="3092" y="1"/>
                      <a:pt x="3093" y="1"/>
                      <a:pt x="3093" y="3"/>
                    </a:cubicBezTo>
                    <a:cubicBezTo>
                      <a:pt x="3093" y="4"/>
                      <a:pt x="3092" y="5"/>
                      <a:pt x="3091" y="5"/>
                    </a:cubicBezTo>
                    <a:lnTo>
                      <a:pt x="3091" y="5"/>
                    </a:lnTo>
                    <a:cubicBezTo>
                      <a:pt x="3090" y="5"/>
                      <a:pt x="3089" y="4"/>
                      <a:pt x="3089" y="3"/>
                    </a:cubicBezTo>
                    <a:cubicBezTo>
                      <a:pt x="3089" y="1"/>
                      <a:pt x="3090" y="1"/>
                      <a:pt x="3091" y="1"/>
                    </a:cubicBezTo>
                    <a:close/>
                    <a:moveTo>
                      <a:pt x="3099" y="1"/>
                    </a:moveTo>
                    <a:lnTo>
                      <a:pt x="3099" y="1"/>
                    </a:lnTo>
                    <a:cubicBezTo>
                      <a:pt x="3100" y="1"/>
                      <a:pt x="3101" y="1"/>
                      <a:pt x="3101" y="3"/>
                    </a:cubicBezTo>
                    <a:cubicBezTo>
                      <a:pt x="3101" y="4"/>
                      <a:pt x="3100" y="5"/>
                      <a:pt x="3099" y="5"/>
                    </a:cubicBezTo>
                    <a:lnTo>
                      <a:pt x="3099" y="5"/>
                    </a:lnTo>
                    <a:cubicBezTo>
                      <a:pt x="3098" y="5"/>
                      <a:pt x="3097" y="4"/>
                      <a:pt x="3097" y="3"/>
                    </a:cubicBezTo>
                    <a:cubicBezTo>
                      <a:pt x="3097" y="1"/>
                      <a:pt x="3098" y="1"/>
                      <a:pt x="3099" y="1"/>
                    </a:cubicBezTo>
                    <a:close/>
                    <a:moveTo>
                      <a:pt x="3107" y="1"/>
                    </a:moveTo>
                    <a:lnTo>
                      <a:pt x="3107" y="1"/>
                    </a:lnTo>
                    <a:cubicBezTo>
                      <a:pt x="3108" y="1"/>
                      <a:pt x="3109" y="1"/>
                      <a:pt x="3109" y="3"/>
                    </a:cubicBezTo>
                    <a:cubicBezTo>
                      <a:pt x="3109" y="4"/>
                      <a:pt x="3108" y="5"/>
                      <a:pt x="3107" y="5"/>
                    </a:cubicBezTo>
                    <a:lnTo>
                      <a:pt x="3107" y="5"/>
                    </a:lnTo>
                    <a:cubicBezTo>
                      <a:pt x="3106" y="5"/>
                      <a:pt x="3105" y="4"/>
                      <a:pt x="3105" y="3"/>
                    </a:cubicBezTo>
                    <a:cubicBezTo>
                      <a:pt x="3105" y="1"/>
                      <a:pt x="3106" y="1"/>
                      <a:pt x="3107" y="1"/>
                    </a:cubicBezTo>
                    <a:close/>
                    <a:moveTo>
                      <a:pt x="3115" y="1"/>
                    </a:moveTo>
                    <a:lnTo>
                      <a:pt x="3115" y="1"/>
                    </a:lnTo>
                    <a:cubicBezTo>
                      <a:pt x="3116" y="1"/>
                      <a:pt x="3117" y="1"/>
                      <a:pt x="3117" y="3"/>
                    </a:cubicBezTo>
                    <a:cubicBezTo>
                      <a:pt x="3117" y="4"/>
                      <a:pt x="3116" y="5"/>
                      <a:pt x="3115" y="5"/>
                    </a:cubicBezTo>
                    <a:lnTo>
                      <a:pt x="3115" y="5"/>
                    </a:lnTo>
                    <a:cubicBezTo>
                      <a:pt x="3114" y="5"/>
                      <a:pt x="3113" y="4"/>
                      <a:pt x="3113" y="3"/>
                    </a:cubicBezTo>
                    <a:cubicBezTo>
                      <a:pt x="3113" y="1"/>
                      <a:pt x="3114" y="1"/>
                      <a:pt x="3115" y="1"/>
                    </a:cubicBezTo>
                    <a:close/>
                    <a:moveTo>
                      <a:pt x="3123" y="1"/>
                    </a:moveTo>
                    <a:lnTo>
                      <a:pt x="3123" y="1"/>
                    </a:lnTo>
                    <a:cubicBezTo>
                      <a:pt x="3124" y="1"/>
                      <a:pt x="3125" y="1"/>
                      <a:pt x="3125" y="3"/>
                    </a:cubicBezTo>
                    <a:cubicBezTo>
                      <a:pt x="3125" y="4"/>
                      <a:pt x="3124" y="5"/>
                      <a:pt x="3123" y="5"/>
                    </a:cubicBezTo>
                    <a:lnTo>
                      <a:pt x="3123" y="5"/>
                    </a:lnTo>
                    <a:cubicBezTo>
                      <a:pt x="3122" y="5"/>
                      <a:pt x="3121" y="4"/>
                      <a:pt x="3121" y="3"/>
                    </a:cubicBezTo>
                    <a:cubicBezTo>
                      <a:pt x="3121" y="1"/>
                      <a:pt x="3122" y="1"/>
                      <a:pt x="3123" y="1"/>
                    </a:cubicBezTo>
                    <a:close/>
                    <a:moveTo>
                      <a:pt x="3131" y="1"/>
                    </a:moveTo>
                    <a:lnTo>
                      <a:pt x="3131" y="1"/>
                    </a:lnTo>
                    <a:cubicBezTo>
                      <a:pt x="3132" y="1"/>
                      <a:pt x="3133" y="1"/>
                      <a:pt x="3133" y="3"/>
                    </a:cubicBezTo>
                    <a:cubicBezTo>
                      <a:pt x="3133" y="4"/>
                      <a:pt x="3132" y="5"/>
                      <a:pt x="3131" y="5"/>
                    </a:cubicBezTo>
                    <a:lnTo>
                      <a:pt x="3131" y="5"/>
                    </a:lnTo>
                    <a:cubicBezTo>
                      <a:pt x="3130" y="5"/>
                      <a:pt x="3129" y="4"/>
                      <a:pt x="3129" y="3"/>
                    </a:cubicBezTo>
                    <a:cubicBezTo>
                      <a:pt x="3129" y="1"/>
                      <a:pt x="3130" y="1"/>
                      <a:pt x="3131" y="1"/>
                    </a:cubicBezTo>
                    <a:close/>
                    <a:moveTo>
                      <a:pt x="3139" y="1"/>
                    </a:moveTo>
                    <a:lnTo>
                      <a:pt x="3139" y="1"/>
                    </a:lnTo>
                    <a:cubicBezTo>
                      <a:pt x="3140" y="1"/>
                      <a:pt x="3141" y="1"/>
                      <a:pt x="3141" y="3"/>
                    </a:cubicBezTo>
                    <a:cubicBezTo>
                      <a:pt x="3141" y="4"/>
                      <a:pt x="3140" y="5"/>
                      <a:pt x="3139" y="5"/>
                    </a:cubicBezTo>
                    <a:lnTo>
                      <a:pt x="3139" y="5"/>
                    </a:lnTo>
                    <a:cubicBezTo>
                      <a:pt x="3138" y="5"/>
                      <a:pt x="3137" y="4"/>
                      <a:pt x="3137" y="3"/>
                    </a:cubicBezTo>
                    <a:cubicBezTo>
                      <a:pt x="3137" y="1"/>
                      <a:pt x="3138" y="1"/>
                      <a:pt x="3139" y="1"/>
                    </a:cubicBezTo>
                    <a:close/>
                    <a:moveTo>
                      <a:pt x="3147" y="1"/>
                    </a:moveTo>
                    <a:lnTo>
                      <a:pt x="3147" y="1"/>
                    </a:lnTo>
                    <a:cubicBezTo>
                      <a:pt x="3148" y="1"/>
                      <a:pt x="3149" y="1"/>
                      <a:pt x="3149" y="3"/>
                    </a:cubicBezTo>
                    <a:cubicBezTo>
                      <a:pt x="3149" y="4"/>
                      <a:pt x="3148" y="5"/>
                      <a:pt x="3147" y="5"/>
                    </a:cubicBezTo>
                    <a:lnTo>
                      <a:pt x="3147" y="5"/>
                    </a:lnTo>
                    <a:cubicBezTo>
                      <a:pt x="3146" y="5"/>
                      <a:pt x="3145" y="4"/>
                      <a:pt x="3145" y="3"/>
                    </a:cubicBezTo>
                    <a:cubicBezTo>
                      <a:pt x="3145" y="1"/>
                      <a:pt x="3146" y="1"/>
                      <a:pt x="3147" y="1"/>
                    </a:cubicBezTo>
                    <a:close/>
                    <a:moveTo>
                      <a:pt x="3155" y="1"/>
                    </a:moveTo>
                    <a:lnTo>
                      <a:pt x="3155" y="1"/>
                    </a:lnTo>
                    <a:cubicBezTo>
                      <a:pt x="3156" y="1"/>
                      <a:pt x="3157" y="1"/>
                      <a:pt x="3157" y="3"/>
                    </a:cubicBezTo>
                    <a:cubicBezTo>
                      <a:pt x="3157" y="4"/>
                      <a:pt x="3156" y="5"/>
                      <a:pt x="3155" y="5"/>
                    </a:cubicBezTo>
                    <a:lnTo>
                      <a:pt x="3155" y="5"/>
                    </a:lnTo>
                    <a:cubicBezTo>
                      <a:pt x="3154" y="5"/>
                      <a:pt x="3153" y="4"/>
                      <a:pt x="3153" y="3"/>
                    </a:cubicBezTo>
                    <a:cubicBezTo>
                      <a:pt x="3153" y="1"/>
                      <a:pt x="3154" y="1"/>
                      <a:pt x="3155" y="1"/>
                    </a:cubicBezTo>
                    <a:close/>
                    <a:moveTo>
                      <a:pt x="3163" y="1"/>
                    </a:moveTo>
                    <a:lnTo>
                      <a:pt x="3163" y="1"/>
                    </a:lnTo>
                    <a:cubicBezTo>
                      <a:pt x="3164" y="1"/>
                      <a:pt x="3165" y="1"/>
                      <a:pt x="3165" y="3"/>
                    </a:cubicBezTo>
                    <a:cubicBezTo>
                      <a:pt x="3165" y="4"/>
                      <a:pt x="3164" y="5"/>
                      <a:pt x="3163" y="5"/>
                    </a:cubicBezTo>
                    <a:lnTo>
                      <a:pt x="3163" y="5"/>
                    </a:lnTo>
                    <a:cubicBezTo>
                      <a:pt x="3162" y="5"/>
                      <a:pt x="3161" y="4"/>
                      <a:pt x="3161" y="3"/>
                    </a:cubicBezTo>
                    <a:cubicBezTo>
                      <a:pt x="3161" y="1"/>
                      <a:pt x="3162" y="1"/>
                      <a:pt x="3163" y="1"/>
                    </a:cubicBezTo>
                    <a:close/>
                    <a:moveTo>
                      <a:pt x="3171" y="1"/>
                    </a:moveTo>
                    <a:lnTo>
                      <a:pt x="3171" y="1"/>
                    </a:lnTo>
                    <a:cubicBezTo>
                      <a:pt x="3172" y="1"/>
                      <a:pt x="3173" y="1"/>
                      <a:pt x="3173" y="3"/>
                    </a:cubicBezTo>
                    <a:cubicBezTo>
                      <a:pt x="3173" y="4"/>
                      <a:pt x="3172" y="5"/>
                      <a:pt x="3171" y="5"/>
                    </a:cubicBezTo>
                    <a:lnTo>
                      <a:pt x="3171" y="5"/>
                    </a:lnTo>
                    <a:cubicBezTo>
                      <a:pt x="3170" y="5"/>
                      <a:pt x="3169" y="4"/>
                      <a:pt x="3169" y="3"/>
                    </a:cubicBezTo>
                    <a:cubicBezTo>
                      <a:pt x="3169" y="1"/>
                      <a:pt x="3170" y="1"/>
                      <a:pt x="3171" y="1"/>
                    </a:cubicBezTo>
                    <a:close/>
                    <a:moveTo>
                      <a:pt x="3179" y="1"/>
                    </a:moveTo>
                    <a:lnTo>
                      <a:pt x="3179" y="1"/>
                    </a:lnTo>
                    <a:cubicBezTo>
                      <a:pt x="3180" y="1"/>
                      <a:pt x="3181" y="1"/>
                      <a:pt x="3181" y="3"/>
                    </a:cubicBezTo>
                    <a:cubicBezTo>
                      <a:pt x="3181" y="4"/>
                      <a:pt x="3180" y="5"/>
                      <a:pt x="3179" y="5"/>
                    </a:cubicBezTo>
                    <a:lnTo>
                      <a:pt x="3179" y="5"/>
                    </a:lnTo>
                    <a:cubicBezTo>
                      <a:pt x="3178" y="5"/>
                      <a:pt x="3177" y="4"/>
                      <a:pt x="3177" y="3"/>
                    </a:cubicBezTo>
                    <a:cubicBezTo>
                      <a:pt x="3177" y="1"/>
                      <a:pt x="3178" y="1"/>
                      <a:pt x="3179" y="1"/>
                    </a:cubicBezTo>
                    <a:close/>
                    <a:moveTo>
                      <a:pt x="3187" y="1"/>
                    </a:moveTo>
                    <a:lnTo>
                      <a:pt x="3187" y="1"/>
                    </a:lnTo>
                    <a:cubicBezTo>
                      <a:pt x="3188" y="1"/>
                      <a:pt x="3189" y="1"/>
                      <a:pt x="3189" y="3"/>
                    </a:cubicBezTo>
                    <a:cubicBezTo>
                      <a:pt x="3189" y="4"/>
                      <a:pt x="3188" y="5"/>
                      <a:pt x="3187" y="5"/>
                    </a:cubicBezTo>
                    <a:lnTo>
                      <a:pt x="3187" y="5"/>
                    </a:lnTo>
                    <a:cubicBezTo>
                      <a:pt x="3186" y="5"/>
                      <a:pt x="3185" y="4"/>
                      <a:pt x="3185" y="3"/>
                    </a:cubicBezTo>
                    <a:cubicBezTo>
                      <a:pt x="3185" y="1"/>
                      <a:pt x="3186" y="1"/>
                      <a:pt x="3187" y="1"/>
                    </a:cubicBezTo>
                    <a:close/>
                    <a:moveTo>
                      <a:pt x="3195" y="1"/>
                    </a:moveTo>
                    <a:lnTo>
                      <a:pt x="3195" y="1"/>
                    </a:lnTo>
                    <a:cubicBezTo>
                      <a:pt x="3196" y="1"/>
                      <a:pt x="3197" y="1"/>
                      <a:pt x="3197" y="3"/>
                    </a:cubicBezTo>
                    <a:cubicBezTo>
                      <a:pt x="3197" y="4"/>
                      <a:pt x="3196" y="5"/>
                      <a:pt x="3195" y="5"/>
                    </a:cubicBezTo>
                    <a:lnTo>
                      <a:pt x="3195" y="5"/>
                    </a:lnTo>
                    <a:cubicBezTo>
                      <a:pt x="3194" y="5"/>
                      <a:pt x="3193" y="4"/>
                      <a:pt x="3193" y="3"/>
                    </a:cubicBezTo>
                    <a:cubicBezTo>
                      <a:pt x="3193" y="1"/>
                      <a:pt x="3194" y="1"/>
                      <a:pt x="3195" y="1"/>
                    </a:cubicBezTo>
                    <a:close/>
                    <a:moveTo>
                      <a:pt x="3203" y="1"/>
                    </a:moveTo>
                    <a:lnTo>
                      <a:pt x="3203" y="1"/>
                    </a:lnTo>
                    <a:cubicBezTo>
                      <a:pt x="3204" y="1"/>
                      <a:pt x="3205" y="1"/>
                      <a:pt x="3205" y="3"/>
                    </a:cubicBezTo>
                    <a:cubicBezTo>
                      <a:pt x="3205" y="4"/>
                      <a:pt x="3204" y="5"/>
                      <a:pt x="3203" y="5"/>
                    </a:cubicBezTo>
                    <a:lnTo>
                      <a:pt x="3203" y="5"/>
                    </a:lnTo>
                    <a:cubicBezTo>
                      <a:pt x="3202" y="5"/>
                      <a:pt x="3201" y="4"/>
                      <a:pt x="3201" y="3"/>
                    </a:cubicBezTo>
                    <a:cubicBezTo>
                      <a:pt x="3201" y="1"/>
                      <a:pt x="3202" y="1"/>
                      <a:pt x="3203" y="1"/>
                    </a:cubicBezTo>
                    <a:close/>
                    <a:moveTo>
                      <a:pt x="3211" y="1"/>
                    </a:moveTo>
                    <a:lnTo>
                      <a:pt x="3211" y="1"/>
                    </a:lnTo>
                    <a:cubicBezTo>
                      <a:pt x="3212" y="1"/>
                      <a:pt x="3213" y="1"/>
                      <a:pt x="3213" y="3"/>
                    </a:cubicBezTo>
                    <a:cubicBezTo>
                      <a:pt x="3213" y="4"/>
                      <a:pt x="3212" y="5"/>
                      <a:pt x="3211" y="5"/>
                    </a:cubicBezTo>
                    <a:lnTo>
                      <a:pt x="3211" y="5"/>
                    </a:lnTo>
                    <a:cubicBezTo>
                      <a:pt x="3210" y="5"/>
                      <a:pt x="3209" y="4"/>
                      <a:pt x="3209" y="3"/>
                    </a:cubicBezTo>
                    <a:cubicBezTo>
                      <a:pt x="3209" y="1"/>
                      <a:pt x="3210" y="1"/>
                      <a:pt x="3211" y="1"/>
                    </a:cubicBezTo>
                    <a:close/>
                    <a:moveTo>
                      <a:pt x="3219" y="1"/>
                    </a:moveTo>
                    <a:lnTo>
                      <a:pt x="3219" y="1"/>
                    </a:lnTo>
                    <a:cubicBezTo>
                      <a:pt x="3220" y="1"/>
                      <a:pt x="3221" y="1"/>
                      <a:pt x="3221" y="3"/>
                    </a:cubicBezTo>
                    <a:cubicBezTo>
                      <a:pt x="3221" y="4"/>
                      <a:pt x="3220" y="5"/>
                      <a:pt x="3219" y="5"/>
                    </a:cubicBezTo>
                    <a:lnTo>
                      <a:pt x="3219" y="5"/>
                    </a:lnTo>
                    <a:cubicBezTo>
                      <a:pt x="3218" y="5"/>
                      <a:pt x="3217" y="4"/>
                      <a:pt x="3217" y="3"/>
                    </a:cubicBezTo>
                    <a:cubicBezTo>
                      <a:pt x="3217" y="1"/>
                      <a:pt x="3218" y="1"/>
                      <a:pt x="3219" y="1"/>
                    </a:cubicBezTo>
                    <a:close/>
                    <a:moveTo>
                      <a:pt x="3227" y="1"/>
                    </a:moveTo>
                    <a:lnTo>
                      <a:pt x="3227" y="1"/>
                    </a:lnTo>
                    <a:cubicBezTo>
                      <a:pt x="3228" y="1"/>
                      <a:pt x="3229" y="1"/>
                      <a:pt x="3229" y="3"/>
                    </a:cubicBezTo>
                    <a:cubicBezTo>
                      <a:pt x="3229" y="4"/>
                      <a:pt x="3228" y="5"/>
                      <a:pt x="3227" y="5"/>
                    </a:cubicBezTo>
                    <a:lnTo>
                      <a:pt x="3227" y="5"/>
                    </a:lnTo>
                    <a:cubicBezTo>
                      <a:pt x="3226" y="5"/>
                      <a:pt x="3225" y="4"/>
                      <a:pt x="3225" y="3"/>
                    </a:cubicBezTo>
                    <a:cubicBezTo>
                      <a:pt x="3225" y="1"/>
                      <a:pt x="3226" y="1"/>
                      <a:pt x="3227" y="1"/>
                    </a:cubicBezTo>
                    <a:close/>
                    <a:moveTo>
                      <a:pt x="3235" y="1"/>
                    </a:moveTo>
                    <a:lnTo>
                      <a:pt x="3235" y="1"/>
                    </a:lnTo>
                    <a:cubicBezTo>
                      <a:pt x="3236" y="1"/>
                      <a:pt x="3237" y="1"/>
                      <a:pt x="3237" y="3"/>
                    </a:cubicBezTo>
                    <a:cubicBezTo>
                      <a:pt x="3237" y="4"/>
                      <a:pt x="3236" y="5"/>
                      <a:pt x="3235" y="5"/>
                    </a:cubicBezTo>
                    <a:lnTo>
                      <a:pt x="3235" y="5"/>
                    </a:lnTo>
                    <a:cubicBezTo>
                      <a:pt x="3234" y="5"/>
                      <a:pt x="3233" y="4"/>
                      <a:pt x="3233" y="3"/>
                    </a:cubicBezTo>
                    <a:cubicBezTo>
                      <a:pt x="3233" y="1"/>
                      <a:pt x="3234" y="1"/>
                      <a:pt x="3235" y="1"/>
                    </a:cubicBezTo>
                    <a:close/>
                    <a:moveTo>
                      <a:pt x="3243" y="1"/>
                    </a:moveTo>
                    <a:lnTo>
                      <a:pt x="3243" y="1"/>
                    </a:lnTo>
                    <a:cubicBezTo>
                      <a:pt x="3244" y="1"/>
                      <a:pt x="3245" y="1"/>
                      <a:pt x="3245" y="3"/>
                    </a:cubicBezTo>
                    <a:cubicBezTo>
                      <a:pt x="3245" y="4"/>
                      <a:pt x="3244" y="5"/>
                      <a:pt x="3243" y="5"/>
                    </a:cubicBezTo>
                    <a:lnTo>
                      <a:pt x="3243" y="5"/>
                    </a:lnTo>
                    <a:cubicBezTo>
                      <a:pt x="3242" y="5"/>
                      <a:pt x="3241" y="4"/>
                      <a:pt x="3241" y="3"/>
                    </a:cubicBezTo>
                    <a:cubicBezTo>
                      <a:pt x="3241" y="1"/>
                      <a:pt x="3242" y="1"/>
                      <a:pt x="3243" y="1"/>
                    </a:cubicBezTo>
                    <a:close/>
                    <a:moveTo>
                      <a:pt x="3251" y="1"/>
                    </a:moveTo>
                    <a:lnTo>
                      <a:pt x="3251" y="1"/>
                    </a:lnTo>
                    <a:cubicBezTo>
                      <a:pt x="3252" y="1"/>
                      <a:pt x="3253" y="1"/>
                      <a:pt x="3253" y="3"/>
                    </a:cubicBezTo>
                    <a:cubicBezTo>
                      <a:pt x="3253" y="4"/>
                      <a:pt x="3252" y="5"/>
                      <a:pt x="3251" y="5"/>
                    </a:cubicBezTo>
                    <a:lnTo>
                      <a:pt x="3251" y="5"/>
                    </a:lnTo>
                    <a:cubicBezTo>
                      <a:pt x="3250" y="5"/>
                      <a:pt x="3249" y="4"/>
                      <a:pt x="3249" y="3"/>
                    </a:cubicBezTo>
                    <a:cubicBezTo>
                      <a:pt x="3249" y="1"/>
                      <a:pt x="3250" y="1"/>
                      <a:pt x="3251" y="1"/>
                    </a:cubicBezTo>
                    <a:close/>
                    <a:moveTo>
                      <a:pt x="3259" y="1"/>
                    </a:moveTo>
                    <a:lnTo>
                      <a:pt x="3259" y="1"/>
                    </a:lnTo>
                    <a:cubicBezTo>
                      <a:pt x="3261" y="1"/>
                      <a:pt x="3261" y="1"/>
                      <a:pt x="3261" y="3"/>
                    </a:cubicBezTo>
                    <a:cubicBezTo>
                      <a:pt x="3261" y="4"/>
                      <a:pt x="3261" y="5"/>
                      <a:pt x="3259" y="5"/>
                    </a:cubicBezTo>
                    <a:lnTo>
                      <a:pt x="3259" y="5"/>
                    </a:lnTo>
                    <a:cubicBezTo>
                      <a:pt x="3258" y="5"/>
                      <a:pt x="3257" y="4"/>
                      <a:pt x="3257" y="3"/>
                    </a:cubicBezTo>
                    <a:cubicBezTo>
                      <a:pt x="3257" y="1"/>
                      <a:pt x="3258" y="1"/>
                      <a:pt x="3259" y="1"/>
                    </a:cubicBezTo>
                    <a:close/>
                    <a:moveTo>
                      <a:pt x="3267" y="1"/>
                    </a:moveTo>
                    <a:lnTo>
                      <a:pt x="3267" y="1"/>
                    </a:lnTo>
                    <a:cubicBezTo>
                      <a:pt x="3269" y="1"/>
                      <a:pt x="3269" y="1"/>
                      <a:pt x="3269" y="3"/>
                    </a:cubicBezTo>
                    <a:cubicBezTo>
                      <a:pt x="3269" y="4"/>
                      <a:pt x="3269" y="5"/>
                      <a:pt x="3267" y="5"/>
                    </a:cubicBezTo>
                    <a:lnTo>
                      <a:pt x="3267" y="5"/>
                    </a:lnTo>
                    <a:cubicBezTo>
                      <a:pt x="3266" y="5"/>
                      <a:pt x="3265" y="4"/>
                      <a:pt x="3265" y="3"/>
                    </a:cubicBezTo>
                    <a:cubicBezTo>
                      <a:pt x="3265" y="1"/>
                      <a:pt x="3266" y="1"/>
                      <a:pt x="3267" y="1"/>
                    </a:cubicBezTo>
                    <a:close/>
                    <a:moveTo>
                      <a:pt x="3275" y="1"/>
                    </a:moveTo>
                    <a:lnTo>
                      <a:pt x="3275" y="1"/>
                    </a:lnTo>
                    <a:cubicBezTo>
                      <a:pt x="3277" y="1"/>
                      <a:pt x="3277" y="1"/>
                      <a:pt x="3277" y="3"/>
                    </a:cubicBezTo>
                    <a:cubicBezTo>
                      <a:pt x="3277" y="4"/>
                      <a:pt x="3277" y="5"/>
                      <a:pt x="3275" y="5"/>
                    </a:cubicBezTo>
                    <a:lnTo>
                      <a:pt x="3275" y="5"/>
                    </a:lnTo>
                    <a:cubicBezTo>
                      <a:pt x="3274" y="5"/>
                      <a:pt x="3273" y="4"/>
                      <a:pt x="3273" y="3"/>
                    </a:cubicBezTo>
                    <a:cubicBezTo>
                      <a:pt x="3273" y="1"/>
                      <a:pt x="3274" y="1"/>
                      <a:pt x="3275" y="1"/>
                    </a:cubicBezTo>
                    <a:close/>
                    <a:moveTo>
                      <a:pt x="3283" y="1"/>
                    </a:moveTo>
                    <a:lnTo>
                      <a:pt x="3283" y="1"/>
                    </a:lnTo>
                    <a:cubicBezTo>
                      <a:pt x="3285" y="1"/>
                      <a:pt x="3285" y="1"/>
                      <a:pt x="3285" y="3"/>
                    </a:cubicBezTo>
                    <a:cubicBezTo>
                      <a:pt x="3285" y="4"/>
                      <a:pt x="3285" y="5"/>
                      <a:pt x="3283" y="5"/>
                    </a:cubicBezTo>
                    <a:lnTo>
                      <a:pt x="3283" y="5"/>
                    </a:lnTo>
                    <a:cubicBezTo>
                      <a:pt x="3282" y="5"/>
                      <a:pt x="3281" y="4"/>
                      <a:pt x="3281" y="3"/>
                    </a:cubicBezTo>
                    <a:cubicBezTo>
                      <a:pt x="3281" y="1"/>
                      <a:pt x="3282" y="1"/>
                      <a:pt x="3283" y="1"/>
                    </a:cubicBezTo>
                    <a:close/>
                    <a:moveTo>
                      <a:pt x="3291" y="1"/>
                    </a:moveTo>
                    <a:lnTo>
                      <a:pt x="3291" y="1"/>
                    </a:lnTo>
                    <a:cubicBezTo>
                      <a:pt x="3293" y="1"/>
                      <a:pt x="3293" y="1"/>
                      <a:pt x="3293" y="3"/>
                    </a:cubicBezTo>
                    <a:cubicBezTo>
                      <a:pt x="3293" y="4"/>
                      <a:pt x="3293" y="5"/>
                      <a:pt x="3291" y="5"/>
                    </a:cubicBezTo>
                    <a:lnTo>
                      <a:pt x="3291" y="5"/>
                    </a:lnTo>
                    <a:cubicBezTo>
                      <a:pt x="3290" y="5"/>
                      <a:pt x="3289" y="4"/>
                      <a:pt x="3289" y="3"/>
                    </a:cubicBezTo>
                    <a:cubicBezTo>
                      <a:pt x="3289" y="1"/>
                      <a:pt x="3290" y="1"/>
                      <a:pt x="3291" y="1"/>
                    </a:cubicBezTo>
                    <a:close/>
                    <a:moveTo>
                      <a:pt x="3299" y="1"/>
                    </a:moveTo>
                    <a:lnTo>
                      <a:pt x="3299" y="1"/>
                    </a:lnTo>
                    <a:cubicBezTo>
                      <a:pt x="3301" y="1"/>
                      <a:pt x="3301" y="1"/>
                      <a:pt x="3301" y="3"/>
                    </a:cubicBezTo>
                    <a:cubicBezTo>
                      <a:pt x="3301" y="4"/>
                      <a:pt x="3301" y="5"/>
                      <a:pt x="3299" y="5"/>
                    </a:cubicBezTo>
                    <a:lnTo>
                      <a:pt x="3299" y="5"/>
                    </a:lnTo>
                    <a:cubicBezTo>
                      <a:pt x="3298" y="5"/>
                      <a:pt x="3297" y="4"/>
                      <a:pt x="3297" y="3"/>
                    </a:cubicBezTo>
                    <a:cubicBezTo>
                      <a:pt x="3297" y="1"/>
                      <a:pt x="3298" y="1"/>
                      <a:pt x="3299" y="1"/>
                    </a:cubicBezTo>
                    <a:close/>
                    <a:moveTo>
                      <a:pt x="3307" y="1"/>
                    </a:moveTo>
                    <a:lnTo>
                      <a:pt x="3307" y="1"/>
                    </a:lnTo>
                    <a:cubicBezTo>
                      <a:pt x="3309" y="1"/>
                      <a:pt x="3309" y="1"/>
                      <a:pt x="3309" y="3"/>
                    </a:cubicBezTo>
                    <a:cubicBezTo>
                      <a:pt x="3309" y="4"/>
                      <a:pt x="3309" y="5"/>
                      <a:pt x="3307" y="5"/>
                    </a:cubicBezTo>
                    <a:lnTo>
                      <a:pt x="3307" y="5"/>
                    </a:lnTo>
                    <a:cubicBezTo>
                      <a:pt x="3306" y="5"/>
                      <a:pt x="3305" y="4"/>
                      <a:pt x="3305" y="3"/>
                    </a:cubicBezTo>
                    <a:cubicBezTo>
                      <a:pt x="3305" y="1"/>
                      <a:pt x="3306" y="1"/>
                      <a:pt x="3307" y="1"/>
                    </a:cubicBezTo>
                    <a:close/>
                    <a:moveTo>
                      <a:pt x="3315" y="1"/>
                    </a:moveTo>
                    <a:lnTo>
                      <a:pt x="3315" y="1"/>
                    </a:lnTo>
                    <a:cubicBezTo>
                      <a:pt x="3317" y="1"/>
                      <a:pt x="3317" y="1"/>
                      <a:pt x="3317" y="3"/>
                    </a:cubicBezTo>
                    <a:cubicBezTo>
                      <a:pt x="3317" y="4"/>
                      <a:pt x="3317" y="5"/>
                      <a:pt x="3315" y="5"/>
                    </a:cubicBezTo>
                    <a:lnTo>
                      <a:pt x="3315" y="5"/>
                    </a:lnTo>
                    <a:cubicBezTo>
                      <a:pt x="3314" y="5"/>
                      <a:pt x="3313" y="4"/>
                      <a:pt x="3313" y="3"/>
                    </a:cubicBezTo>
                    <a:cubicBezTo>
                      <a:pt x="3313" y="1"/>
                      <a:pt x="3314" y="1"/>
                      <a:pt x="3315" y="1"/>
                    </a:cubicBezTo>
                    <a:close/>
                    <a:moveTo>
                      <a:pt x="3323" y="1"/>
                    </a:moveTo>
                    <a:lnTo>
                      <a:pt x="3323" y="1"/>
                    </a:lnTo>
                    <a:cubicBezTo>
                      <a:pt x="3325" y="1"/>
                      <a:pt x="3325" y="1"/>
                      <a:pt x="3325" y="3"/>
                    </a:cubicBezTo>
                    <a:cubicBezTo>
                      <a:pt x="3325" y="4"/>
                      <a:pt x="3325" y="5"/>
                      <a:pt x="3323" y="5"/>
                    </a:cubicBezTo>
                    <a:lnTo>
                      <a:pt x="3323" y="5"/>
                    </a:lnTo>
                    <a:cubicBezTo>
                      <a:pt x="3322" y="5"/>
                      <a:pt x="3321" y="4"/>
                      <a:pt x="3321" y="3"/>
                    </a:cubicBezTo>
                    <a:cubicBezTo>
                      <a:pt x="3321" y="1"/>
                      <a:pt x="3322" y="1"/>
                      <a:pt x="3323" y="1"/>
                    </a:cubicBezTo>
                    <a:close/>
                    <a:moveTo>
                      <a:pt x="3331" y="1"/>
                    </a:moveTo>
                    <a:lnTo>
                      <a:pt x="3331" y="1"/>
                    </a:lnTo>
                    <a:cubicBezTo>
                      <a:pt x="3333" y="1"/>
                      <a:pt x="3333" y="1"/>
                      <a:pt x="3333" y="3"/>
                    </a:cubicBezTo>
                    <a:cubicBezTo>
                      <a:pt x="3333" y="4"/>
                      <a:pt x="3333" y="5"/>
                      <a:pt x="3331" y="5"/>
                    </a:cubicBezTo>
                    <a:lnTo>
                      <a:pt x="3331" y="5"/>
                    </a:lnTo>
                    <a:cubicBezTo>
                      <a:pt x="3330" y="5"/>
                      <a:pt x="3329" y="4"/>
                      <a:pt x="3329" y="3"/>
                    </a:cubicBezTo>
                    <a:cubicBezTo>
                      <a:pt x="3329" y="1"/>
                      <a:pt x="3330" y="1"/>
                      <a:pt x="3331" y="1"/>
                    </a:cubicBezTo>
                    <a:close/>
                    <a:moveTo>
                      <a:pt x="3339" y="1"/>
                    </a:moveTo>
                    <a:lnTo>
                      <a:pt x="3339" y="1"/>
                    </a:lnTo>
                    <a:cubicBezTo>
                      <a:pt x="3341" y="1"/>
                      <a:pt x="3341" y="1"/>
                      <a:pt x="3341" y="3"/>
                    </a:cubicBezTo>
                    <a:cubicBezTo>
                      <a:pt x="3341" y="4"/>
                      <a:pt x="3341" y="5"/>
                      <a:pt x="3339" y="5"/>
                    </a:cubicBezTo>
                    <a:lnTo>
                      <a:pt x="3339" y="5"/>
                    </a:lnTo>
                    <a:cubicBezTo>
                      <a:pt x="3338" y="5"/>
                      <a:pt x="3337" y="4"/>
                      <a:pt x="3337" y="3"/>
                    </a:cubicBezTo>
                    <a:cubicBezTo>
                      <a:pt x="3337" y="1"/>
                      <a:pt x="3338" y="1"/>
                      <a:pt x="3339" y="1"/>
                    </a:cubicBezTo>
                    <a:close/>
                    <a:moveTo>
                      <a:pt x="3347" y="1"/>
                    </a:moveTo>
                    <a:lnTo>
                      <a:pt x="3347" y="1"/>
                    </a:lnTo>
                    <a:cubicBezTo>
                      <a:pt x="3349" y="1"/>
                      <a:pt x="3349" y="1"/>
                      <a:pt x="3349" y="3"/>
                    </a:cubicBezTo>
                    <a:cubicBezTo>
                      <a:pt x="3349" y="4"/>
                      <a:pt x="3349" y="5"/>
                      <a:pt x="3347" y="5"/>
                    </a:cubicBezTo>
                    <a:lnTo>
                      <a:pt x="3347" y="5"/>
                    </a:lnTo>
                    <a:cubicBezTo>
                      <a:pt x="3346" y="5"/>
                      <a:pt x="3345" y="4"/>
                      <a:pt x="3345" y="3"/>
                    </a:cubicBezTo>
                    <a:cubicBezTo>
                      <a:pt x="3345" y="1"/>
                      <a:pt x="3346" y="1"/>
                      <a:pt x="3347" y="1"/>
                    </a:cubicBezTo>
                    <a:close/>
                    <a:moveTo>
                      <a:pt x="3355" y="1"/>
                    </a:moveTo>
                    <a:lnTo>
                      <a:pt x="3355" y="1"/>
                    </a:lnTo>
                    <a:cubicBezTo>
                      <a:pt x="3357" y="1"/>
                      <a:pt x="3357" y="1"/>
                      <a:pt x="3357" y="3"/>
                    </a:cubicBezTo>
                    <a:cubicBezTo>
                      <a:pt x="3357" y="4"/>
                      <a:pt x="3357" y="5"/>
                      <a:pt x="3355" y="5"/>
                    </a:cubicBezTo>
                    <a:lnTo>
                      <a:pt x="3355" y="5"/>
                    </a:lnTo>
                    <a:cubicBezTo>
                      <a:pt x="3354" y="5"/>
                      <a:pt x="3353" y="4"/>
                      <a:pt x="3353" y="3"/>
                    </a:cubicBezTo>
                    <a:cubicBezTo>
                      <a:pt x="3353" y="1"/>
                      <a:pt x="3354" y="1"/>
                      <a:pt x="3355" y="1"/>
                    </a:cubicBezTo>
                    <a:close/>
                    <a:moveTo>
                      <a:pt x="3363" y="1"/>
                    </a:moveTo>
                    <a:lnTo>
                      <a:pt x="3363" y="1"/>
                    </a:lnTo>
                    <a:cubicBezTo>
                      <a:pt x="3365" y="1"/>
                      <a:pt x="3365" y="1"/>
                      <a:pt x="3365" y="3"/>
                    </a:cubicBezTo>
                    <a:cubicBezTo>
                      <a:pt x="3365" y="4"/>
                      <a:pt x="3365" y="5"/>
                      <a:pt x="3363" y="5"/>
                    </a:cubicBezTo>
                    <a:lnTo>
                      <a:pt x="3363" y="5"/>
                    </a:lnTo>
                    <a:cubicBezTo>
                      <a:pt x="3362" y="5"/>
                      <a:pt x="3361" y="4"/>
                      <a:pt x="3361" y="3"/>
                    </a:cubicBezTo>
                    <a:cubicBezTo>
                      <a:pt x="3361" y="1"/>
                      <a:pt x="3362" y="1"/>
                      <a:pt x="3363" y="1"/>
                    </a:cubicBezTo>
                    <a:close/>
                    <a:moveTo>
                      <a:pt x="3371" y="1"/>
                    </a:moveTo>
                    <a:lnTo>
                      <a:pt x="3371" y="1"/>
                    </a:lnTo>
                    <a:cubicBezTo>
                      <a:pt x="3373" y="1"/>
                      <a:pt x="3373" y="2"/>
                      <a:pt x="3373" y="3"/>
                    </a:cubicBezTo>
                    <a:cubicBezTo>
                      <a:pt x="3373" y="4"/>
                      <a:pt x="3373" y="5"/>
                      <a:pt x="3371" y="5"/>
                    </a:cubicBezTo>
                    <a:lnTo>
                      <a:pt x="3371" y="5"/>
                    </a:lnTo>
                    <a:cubicBezTo>
                      <a:pt x="3370" y="5"/>
                      <a:pt x="3369" y="4"/>
                      <a:pt x="3369" y="3"/>
                    </a:cubicBezTo>
                    <a:cubicBezTo>
                      <a:pt x="3369" y="2"/>
                      <a:pt x="3370" y="1"/>
                      <a:pt x="3371" y="1"/>
                    </a:cubicBezTo>
                    <a:close/>
                    <a:moveTo>
                      <a:pt x="3379" y="1"/>
                    </a:moveTo>
                    <a:lnTo>
                      <a:pt x="3379" y="1"/>
                    </a:lnTo>
                    <a:cubicBezTo>
                      <a:pt x="3381" y="1"/>
                      <a:pt x="3381" y="2"/>
                      <a:pt x="3381" y="3"/>
                    </a:cubicBezTo>
                    <a:cubicBezTo>
                      <a:pt x="3381" y="4"/>
                      <a:pt x="3381" y="5"/>
                      <a:pt x="3379" y="5"/>
                    </a:cubicBezTo>
                    <a:lnTo>
                      <a:pt x="3379" y="5"/>
                    </a:lnTo>
                    <a:cubicBezTo>
                      <a:pt x="3378" y="5"/>
                      <a:pt x="3377" y="4"/>
                      <a:pt x="3377" y="3"/>
                    </a:cubicBezTo>
                    <a:cubicBezTo>
                      <a:pt x="3377" y="2"/>
                      <a:pt x="3378" y="1"/>
                      <a:pt x="3379" y="1"/>
                    </a:cubicBezTo>
                    <a:close/>
                    <a:moveTo>
                      <a:pt x="3387" y="1"/>
                    </a:moveTo>
                    <a:lnTo>
                      <a:pt x="3387" y="1"/>
                    </a:lnTo>
                    <a:cubicBezTo>
                      <a:pt x="3389" y="1"/>
                      <a:pt x="3389" y="2"/>
                      <a:pt x="3389" y="3"/>
                    </a:cubicBezTo>
                    <a:cubicBezTo>
                      <a:pt x="3389" y="4"/>
                      <a:pt x="3389" y="5"/>
                      <a:pt x="3387" y="5"/>
                    </a:cubicBezTo>
                    <a:lnTo>
                      <a:pt x="3387" y="5"/>
                    </a:lnTo>
                    <a:cubicBezTo>
                      <a:pt x="3386" y="5"/>
                      <a:pt x="3385" y="4"/>
                      <a:pt x="3385" y="3"/>
                    </a:cubicBezTo>
                    <a:cubicBezTo>
                      <a:pt x="3385" y="2"/>
                      <a:pt x="3386" y="1"/>
                      <a:pt x="3387" y="1"/>
                    </a:cubicBezTo>
                    <a:close/>
                    <a:moveTo>
                      <a:pt x="3395" y="1"/>
                    </a:moveTo>
                    <a:lnTo>
                      <a:pt x="3395" y="1"/>
                    </a:lnTo>
                    <a:cubicBezTo>
                      <a:pt x="3397" y="1"/>
                      <a:pt x="3397" y="2"/>
                      <a:pt x="3397" y="3"/>
                    </a:cubicBezTo>
                    <a:cubicBezTo>
                      <a:pt x="3397" y="4"/>
                      <a:pt x="3397" y="5"/>
                      <a:pt x="3395" y="5"/>
                    </a:cubicBezTo>
                    <a:lnTo>
                      <a:pt x="3395" y="5"/>
                    </a:lnTo>
                    <a:cubicBezTo>
                      <a:pt x="3394" y="5"/>
                      <a:pt x="3393" y="4"/>
                      <a:pt x="3393" y="3"/>
                    </a:cubicBezTo>
                    <a:cubicBezTo>
                      <a:pt x="3393" y="2"/>
                      <a:pt x="3394" y="1"/>
                      <a:pt x="3395" y="1"/>
                    </a:cubicBezTo>
                    <a:close/>
                    <a:moveTo>
                      <a:pt x="3403" y="1"/>
                    </a:moveTo>
                    <a:lnTo>
                      <a:pt x="3403" y="1"/>
                    </a:lnTo>
                    <a:cubicBezTo>
                      <a:pt x="3405" y="1"/>
                      <a:pt x="3405" y="2"/>
                      <a:pt x="3405" y="3"/>
                    </a:cubicBezTo>
                    <a:cubicBezTo>
                      <a:pt x="3405" y="4"/>
                      <a:pt x="3405" y="5"/>
                      <a:pt x="3403" y="5"/>
                    </a:cubicBezTo>
                    <a:lnTo>
                      <a:pt x="3403" y="5"/>
                    </a:lnTo>
                    <a:cubicBezTo>
                      <a:pt x="3402" y="5"/>
                      <a:pt x="3401" y="4"/>
                      <a:pt x="3401" y="3"/>
                    </a:cubicBezTo>
                    <a:cubicBezTo>
                      <a:pt x="3401" y="2"/>
                      <a:pt x="3402" y="1"/>
                      <a:pt x="3403" y="1"/>
                    </a:cubicBezTo>
                    <a:close/>
                    <a:moveTo>
                      <a:pt x="3411" y="1"/>
                    </a:moveTo>
                    <a:lnTo>
                      <a:pt x="3411" y="1"/>
                    </a:lnTo>
                    <a:cubicBezTo>
                      <a:pt x="3413" y="1"/>
                      <a:pt x="3413" y="2"/>
                      <a:pt x="3413" y="3"/>
                    </a:cubicBezTo>
                    <a:cubicBezTo>
                      <a:pt x="3413" y="4"/>
                      <a:pt x="3413" y="5"/>
                      <a:pt x="3411" y="5"/>
                    </a:cubicBezTo>
                    <a:lnTo>
                      <a:pt x="3411" y="5"/>
                    </a:lnTo>
                    <a:cubicBezTo>
                      <a:pt x="3410" y="5"/>
                      <a:pt x="3409" y="4"/>
                      <a:pt x="3409" y="3"/>
                    </a:cubicBezTo>
                    <a:cubicBezTo>
                      <a:pt x="3409" y="2"/>
                      <a:pt x="3410" y="1"/>
                      <a:pt x="3411" y="1"/>
                    </a:cubicBezTo>
                    <a:close/>
                    <a:moveTo>
                      <a:pt x="3419" y="1"/>
                    </a:moveTo>
                    <a:lnTo>
                      <a:pt x="3419" y="1"/>
                    </a:lnTo>
                    <a:cubicBezTo>
                      <a:pt x="3421" y="1"/>
                      <a:pt x="3421" y="2"/>
                      <a:pt x="3421" y="3"/>
                    </a:cubicBezTo>
                    <a:cubicBezTo>
                      <a:pt x="3421" y="4"/>
                      <a:pt x="3421" y="5"/>
                      <a:pt x="3419" y="5"/>
                    </a:cubicBezTo>
                    <a:lnTo>
                      <a:pt x="3419" y="5"/>
                    </a:lnTo>
                    <a:cubicBezTo>
                      <a:pt x="3418" y="5"/>
                      <a:pt x="3417" y="4"/>
                      <a:pt x="3417" y="3"/>
                    </a:cubicBezTo>
                    <a:cubicBezTo>
                      <a:pt x="3417" y="2"/>
                      <a:pt x="3418" y="1"/>
                      <a:pt x="3419" y="1"/>
                    </a:cubicBezTo>
                    <a:close/>
                    <a:moveTo>
                      <a:pt x="3427" y="1"/>
                    </a:moveTo>
                    <a:lnTo>
                      <a:pt x="3427" y="1"/>
                    </a:lnTo>
                    <a:cubicBezTo>
                      <a:pt x="3429" y="1"/>
                      <a:pt x="3429" y="2"/>
                      <a:pt x="3429" y="3"/>
                    </a:cubicBezTo>
                    <a:cubicBezTo>
                      <a:pt x="3429" y="4"/>
                      <a:pt x="3429" y="5"/>
                      <a:pt x="3427" y="5"/>
                    </a:cubicBezTo>
                    <a:lnTo>
                      <a:pt x="3427" y="5"/>
                    </a:lnTo>
                    <a:cubicBezTo>
                      <a:pt x="3426" y="5"/>
                      <a:pt x="3425" y="4"/>
                      <a:pt x="3425" y="3"/>
                    </a:cubicBezTo>
                    <a:cubicBezTo>
                      <a:pt x="3425" y="2"/>
                      <a:pt x="3426" y="1"/>
                      <a:pt x="3427" y="1"/>
                    </a:cubicBezTo>
                    <a:close/>
                    <a:moveTo>
                      <a:pt x="3435" y="1"/>
                    </a:moveTo>
                    <a:lnTo>
                      <a:pt x="3435" y="1"/>
                    </a:lnTo>
                    <a:cubicBezTo>
                      <a:pt x="3437" y="1"/>
                      <a:pt x="3437" y="2"/>
                      <a:pt x="3437" y="3"/>
                    </a:cubicBezTo>
                    <a:cubicBezTo>
                      <a:pt x="3437" y="4"/>
                      <a:pt x="3437" y="5"/>
                      <a:pt x="3435" y="5"/>
                    </a:cubicBezTo>
                    <a:lnTo>
                      <a:pt x="3435" y="5"/>
                    </a:lnTo>
                    <a:cubicBezTo>
                      <a:pt x="3434" y="5"/>
                      <a:pt x="3433" y="4"/>
                      <a:pt x="3433" y="3"/>
                    </a:cubicBezTo>
                    <a:cubicBezTo>
                      <a:pt x="3433" y="2"/>
                      <a:pt x="3434" y="1"/>
                      <a:pt x="3435" y="1"/>
                    </a:cubicBezTo>
                    <a:close/>
                    <a:moveTo>
                      <a:pt x="3443" y="1"/>
                    </a:moveTo>
                    <a:lnTo>
                      <a:pt x="3443" y="1"/>
                    </a:lnTo>
                    <a:cubicBezTo>
                      <a:pt x="3445" y="1"/>
                      <a:pt x="3445" y="2"/>
                      <a:pt x="3445" y="3"/>
                    </a:cubicBezTo>
                    <a:cubicBezTo>
                      <a:pt x="3445" y="4"/>
                      <a:pt x="3445" y="5"/>
                      <a:pt x="3443" y="5"/>
                    </a:cubicBezTo>
                    <a:lnTo>
                      <a:pt x="3443" y="5"/>
                    </a:lnTo>
                    <a:cubicBezTo>
                      <a:pt x="3442" y="5"/>
                      <a:pt x="3441" y="4"/>
                      <a:pt x="3441" y="3"/>
                    </a:cubicBezTo>
                    <a:cubicBezTo>
                      <a:pt x="3441" y="2"/>
                      <a:pt x="3442" y="1"/>
                      <a:pt x="3443" y="1"/>
                    </a:cubicBezTo>
                    <a:close/>
                    <a:moveTo>
                      <a:pt x="3451" y="1"/>
                    </a:moveTo>
                    <a:lnTo>
                      <a:pt x="3451" y="1"/>
                    </a:lnTo>
                    <a:cubicBezTo>
                      <a:pt x="3453" y="1"/>
                      <a:pt x="3453" y="2"/>
                      <a:pt x="3453" y="3"/>
                    </a:cubicBezTo>
                    <a:cubicBezTo>
                      <a:pt x="3453" y="4"/>
                      <a:pt x="3453" y="5"/>
                      <a:pt x="3451" y="5"/>
                    </a:cubicBezTo>
                    <a:lnTo>
                      <a:pt x="3451" y="5"/>
                    </a:lnTo>
                    <a:cubicBezTo>
                      <a:pt x="3450" y="5"/>
                      <a:pt x="3449" y="4"/>
                      <a:pt x="3449" y="3"/>
                    </a:cubicBezTo>
                    <a:cubicBezTo>
                      <a:pt x="3449" y="2"/>
                      <a:pt x="3450" y="1"/>
                      <a:pt x="3451" y="1"/>
                    </a:cubicBezTo>
                    <a:close/>
                    <a:moveTo>
                      <a:pt x="3459" y="1"/>
                    </a:moveTo>
                    <a:lnTo>
                      <a:pt x="3459" y="1"/>
                    </a:lnTo>
                    <a:cubicBezTo>
                      <a:pt x="3461" y="1"/>
                      <a:pt x="3461" y="2"/>
                      <a:pt x="3461" y="3"/>
                    </a:cubicBezTo>
                    <a:cubicBezTo>
                      <a:pt x="3461" y="4"/>
                      <a:pt x="3461" y="5"/>
                      <a:pt x="3459" y="5"/>
                    </a:cubicBezTo>
                    <a:lnTo>
                      <a:pt x="3459" y="5"/>
                    </a:lnTo>
                    <a:cubicBezTo>
                      <a:pt x="3458" y="5"/>
                      <a:pt x="3457" y="4"/>
                      <a:pt x="3457" y="3"/>
                    </a:cubicBezTo>
                    <a:cubicBezTo>
                      <a:pt x="3457" y="2"/>
                      <a:pt x="3458" y="1"/>
                      <a:pt x="3459" y="1"/>
                    </a:cubicBezTo>
                    <a:close/>
                    <a:moveTo>
                      <a:pt x="3467" y="1"/>
                    </a:moveTo>
                    <a:lnTo>
                      <a:pt x="3467" y="1"/>
                    </a:lnTo>
                    <a:cubicBezTo>
                      <a:pt x="3469" y="1"/>
                      <a:pt x="3469" y="2"/>
                      <a:pt x="3469" y="3"/>
                    </a:cubicBezTo>
                    <a:cubicBezTo>
                      <a:pt x="3469" y="4"/>
                      <a:pt x="3469" y="5"/>
                      <a:pt x="3467" y="5"/>
                    </a:cubicBezTo>
                    <a:lnTo>
                      <a:pt x="3467" y="5"/>
                    </a:lnTo>
                    <a:cubicBezTo>
                      <a:pt x="3466" y="5"/>
                      <a:pt x="3465" y="4"/>
                      <a:pt x="3465" y="3"/>
                    </a:cubicBezTo>
                    <a:cubicBezTo>
                      <a:pt x="3465" y="2"/>
                      <a:pt x="3466" y="1"/>
                      <a:pt x="3467" y="1"/>
                    </a:cubicBezTo>
                    <a:close/>
                    <a:moveTo>
                      <a:pt x="3475" y="1"/>
                    </a:moveTo>
                    <a:lnTo>
                      <a:pt x="3476" y="1"/>
                    </a:lnTo>
                    <a:cubicBezTo>
                      <a:pt x="3477" y="1"/>
                      <a:pt x="3478" y="2"/>
                      <a:pt x="3478" y="3"/>
                    </a:cubicBezTo>
                    <a:cubicBezTo>
                      <a:pt x="3478" y="4"/>
                      <a:pt x="3477" y="5"/>
                      <a:pt x="3476" y="5"/>
                    </a:cubicBezTo>
                    <a:lnTo>
                      <a:pt x="3475" y="5"/>
                    </a:lnTo>
                    <a:cubicBezTo>
                      <a:pt x="3474" y="5"/>
                      <a:pt x="3473" y="4"/>
                      <a:pt x="3473" y="3"/>
                    </a:cubicBezTo>
                    <a:cubicBezTo>
                      <a:pt x="3473" y="2"/>
                      <a:pt x="3474" y="1"/>
                      <a:pt x="3475" y="1"/>
                    </a:cubicBezTo>
                    <a:close/>
                    <a:moveTo>
                      <a:pt x="3484" y="1"/>
                    </a:moveTo>
                    <a:lnTo>
                      <a:pt x="3484" y="1"/>
                    </a:lnTo>
                    <a:cubicBezTo>
                      <a:pt x="3485" y="1"/>
                      <a:pt x="3486" y="2"/>
                      <a:pt x="3486" y="3"/>
                    </a:cubicBezTo>
                    <a:cubicBezTo>
                      <a:pt x="3486" y="4"/>
                      <a:pt x="3485" y="5"/>
                      <a:pt x="3484" y="5"/>
                    </a:cubicBezTo>
                    <a:lnTo>
                      <a:pt x="3484" y="5"/>
                    </a:lnTo>
                    <a:cubicBezTo>
                      <a:pt x="3482" y="5"/>
                      <a:pt x="3482" y="4"/>
                      <a:pt x="3482" y="3"/>
                    </a:cubicBezTo>
                    <a:cubicBezTo>
                      <a:pt x="3482" y="2"/>
                      <a:pt x="3482" y="1"/>
                      <a:pt x="3484" y="1"/>
                    </a:cubicBezTo>
                    <a:close/>
                    <a:moveTo>
                      <a:pt x="3492" y="1"/>
                    </a:moveTo>
                    <a:lnTo>
                      <a:pt x="3492" y="1"/>
                    </a:lnTo>
                    <a:cubicBezTo>
                      <a:pt x="3493" y="1"/>
                      <a:pt x="3494" y="2"/>
                      <a:pt x="3494" y="3"/>
                    </a:cubicBezTo>
                    <a:cubicBezTo>
                      <a:pt x="3494" y="4"/>
                      <a:pt x="3493" y="5"/>
                      <a:pt x="3492" y="5"/>
                    </a:cubicBezTo>
                    <a:lnTo>
                      <a:pt x="3492" y="5"/>
                    </a:lnTo>
                    <a:cubicBezTo>
                      <a:pt x="3490" y="5"/>
                      <a:pt x="3490" y="4"/>
                      <a:pt x="3490" y="3"/>
                    </a:cubicBezTo>
                    <a:cubicBezTo>
                      <a:pt x="3490" y="2"/>
                      <a:pt x="3490" y="1"/>
                      <a:pt x="3492" y="1"/>
                    </a:cubicBezTo>
                    <a:close/>
                    <a:moveTo>
                      <a:pt x="3500" y="1"/>
                    </a:moveTo>
                    <a:lnTo>
                      <a:pt x="3500" y="1"/>
                    </a:lnTo>
                    <a:cubicBezTo>
                      <a:pt x="3501" y="1"/>
                      <a:pt x="3502" y="2"/>
                      <a:pt x="3502" y="3"/>
                    </a:cubicBezTo>
                    <a:cubicBezTo>
                      <a:pt x="3502" y="4"/>
                      <a:pt x="3501" y="5"/>
                      <a:pt x="3500" y="5"/>
                    </a:cubicBezTo>
                    <a:lnTo>
                      <a:pt x="3500" y="5"/>
                    </a:lnTo>
                    <a:cubicBezTo>
                      <a:pt x="3498" y="5"/>
                      <a:pt x="3498" y="4"/>
                      <a:pt x="3498" y="3"/>
                    </a:cubicBezTo>
                    <a:cubicBezTo>
                      <a:pt x="3498" y="2"/>
                      <a:pt x="3498" y="1"/>
                      <a:pt x="3500" y="1"/>
                    </a:cubicBezTo>
                    <a:close/>
                    <a:moveTo>
                      <a:pt x="3508" y="1"/>
                    </a:moveTo>
                    <a:lnTo>
                      <a:pt x="3508" y="1"/>
                    </a:lnTo>
                    <a:cubicBezTo>
                      <a:pt x="3509" y="1"/>
                      <a:pt x="3510" y="2"/>
                      <a:pt x="3510" y="3"/>
                    </a:cubicBezTo>
                    <a:cubicBezTo>
                      <a:pt x="3510" y="4"/>
                      <a:pt x="3509" y="5"/>
                      <a:pt x="3508" y="5"/>
                    </a:cubicBezTo>
                    <a:lnTo>
                      <a:pt x="3508" y="5"/>
                    </a:lnTo>
                    <a:cubicBezTo>
                      <a:pt x="3506" y="5"/>
                      <a:pt x="3506" y="4"/>
                      <a:pt x="3506" y="3"/>
                    </a:cubicBezTo>
                    <a:cubicBezTo>
                      <a:pt x="3506" y="2"/>
                      <a:pt x="3506" y="1"/>
                      <a:pt x="3508" y="1"/>
                    </a:cubicBezTo>
                    <a:close/>
                    <a:moveTo>
                      <a:pt x="3516" y="1"/>
                    </a:moveTo>
                    <a:lnTo>
                      <a:pt x="3516" y="1"/>
                    </a:lnTo>
                    <a:cubicBezTo>
                      <a:pt x="3517" y="1"/>
                      <a:pt x="3518" y="2"/>
                      <a:pt x="3518" y="3"/>
                    </a:cubicBezTo>
                    <a:cubicBezTo>
                      <a:pt x="3518" y="4"/>
                      <a:pt x="3517" y="5"/>
                      <a:pt x="3516" y="5"/>
                    </a:cubicBezTo>
                    <a:lnTo>
                      <a:pt x="3516" y="5"/>
                    </a:lnTo>
                    <a:cubicBezTo>
                      <a:pt x="3514" y="5"/>
                      <a:pt x="3514" y="4"/>
                      <a:pt x="3514" y="3"/>
                    </a:cubicBezTo>
                    <a:cubicBezTo>
                      <a:pt x="3514" y="2"/>
                      <a:pt x="3514" y="1"/>
                      <a:pt x="3516" y="1"/>
                    </a:cubicBezTo>
                    <a:close/>
                    <a:moveTo>
                      <a:pt x="3524" y="1"/>
                    </a:moveTo>
                    <a:lnTo>
                      <a:pt x="3524" y="1"/>
                    </a:lnTo>
                    <a:cubicBezTo>
                      <a:pt x="3525" y="1"/>
                      <a:pt x="3526" y="2"/>
                      <a:pt x="3526" y="3"/>
                    </a:cubicBezTo>
                    <a:cubicBezTo>
                      <a:pt x="3526" y="4"/>
                      <a:pt x="3525" y="5"/>
                      <a:pt x="3524" y="5"/>
                    </a:cubicBezTo>
                    <a:lnTo>
                      <a:pt x="3524" y="5"/>
                    </a:lnTo>
                    <a:cubicBezTo>
                      <a:pt x="3522" y="5"/>
                      <a:pt x="3522" y="4"/>
                      <a:pt x="3522" y="3"/>
                    </a:cubicBezTo>
                    <a:cubicBezTo>
                      <a:pt x="3522" y="2"/>
                      <a:pt x="3522" y="1"/>
                      <a:pt x="3524" y="1"/>
                    </a:cubicBezTo>
                    <a:close/>
                    <a:moveTo>
                      <a:pt x="3532" y="1"/>
                    </a:moveTo>
                    <a:lnTo>
                      <a:pt x="3532" y="1"/>
                    </a:lnTo>
                    <a:cubicBezTo>
                      <a:pt x="3533" y="1"/>
                      <a:pt x="3534" y="2"/>
                      <a:pt x="3534" y="3"/>
                    </a:cubicBezTo>
                    <a:cubicBezTo>
                      <a:pt x="3534" y="4"/>
                      <a:pt x="3533" y="5"/>
                      <a:pt x="3532" y="5"/>
                    </a:cubicBezTo>
                    <a:lnTo>
                      <a:pt x="3532" y="5"/>
                    </a:lnTo>
                    <a:cubicBezTo>
                      <a:pt x="3530" y="5"/>
                      <a:pt x="3530" y="4"/>
                      <a:pt x="3530" y="3"/>
                    </a:cubicBezTo>
                    <a:cubicBezTo>
                      <a:pt x="3530" y="2"/>
                      <a:pt x="3530" y="1"/>
                      <a:pt x="3532" y="1"/>
                    </a:cubicBezTo>
                    <a:close/>
                    <a:moveTo>
                      <a:pt x="3540" y="1"/>
                    </a:moveTo>
                    <a:lnTo>
                      <a:pt x="3540" y="1"/>
                    </a:lnTo>
                    <a:cubicBezTo>
                      <a:pt x="3541" y="1"/>
                      <a:pt x="3542" y="2"/>
                      <a:pt x="3542" y="3"/>
                    </a:cubicBezTo>
                    <a:cubicBezTo>
                      <a:pt x="3542" y="4"/>
                      <a:pt x="3541" y="5"/>
                      <a:pt x="3540" y="5"/>
                    </a:cubicBezTo>
                    <a:lnTo>
                      <a:pt x="3540" y="5"/>
                    </a:lnTo>
                    <a:cubicBezTo>
                      <a:pt x="3538" y="5"/>
                      <a:pt x="3538" y="4"/>
                      <a:pt x="3538" y="3"/>
                    </a:cubicBezTo>
                    <a:cubicBezTo>
                      <a:pt x="3538" y="2"/>
                      <a:pt x="3538" y="1"/>
                      <a:pt x="3540" y="1"/>
                    </a:cubicBezTo>
                    <a:close/>
                    <a:moveTo>
                      <a:pt x="3548" y="1"/>
                    </a:moveTo>
                    <a:lnTo>
                      <a:pt x="3548" y="1"/>
                    </a:lnTo>
                    <a:cubicBezTo>
                      <a:pt x="3549" y="1"/>
                      <a:pt x="3550" y="2"/>
                      <a:pt x="3550" y="3"/>
                    </a:cubicBezTo>
                    <a:cubicBezTo>
                      <a:pt x="3550" y="4"/>
                      <a:pt x="3549" y="5"/>
                      <a:pt x="3548" y="5"/>
                    </a:cubicBezTo>
                    <a:lnTo>
                      <a:pt x="3548" y="5"/>
                    </a:lnTo>
                    <a:cubicBezTo>
                      <a:pt x="3546" y="5"/>
                      <a:pt x="3546" y="4"/>
                      <a:pt x="3546" y="3"/>
                    </a:cubicBezTo>
                    <a:cubicBezTo>
                      <a:pt x="3546" y="2"/>
                      <a:pt x="3546" y="1"/>
                      <a:pt x="3548" y="1"/>
                    </a:cubicBezTo>
                    <a:close/>
                    <a:moveTo>
                      <a:pt x="3556" y="1"/>
                    </a:moveTo>
                    <a:lnTo>
                      <a:pt x="3556" y="1"/>
                    </a:lnTo>
                    <a:cubicBezTo>
                      <a:pt x="3557" y="1"/>
                      <a:pt x="3558" y="2"/>
                      <a:pt x="3558" y="3"/>
                    </a:cubicBezTo>
                    <a:cubicBezTo>
                      <a:pt x="3558" y="4"/>
                      <a:pt x="3557" y="5"/>
                      <a:pt x="3556" y="5"/>
                    </a:cubicBezTo>
                    <a:lnTo>
                      <a:pt x="3556" y="5"/>
                    </a:lnTo>
                    <a:cubicBezTo>
                      <a:pt x="3554" y="5"/>
                      <a:pt x="3554" y="4"/>
                      <a:pt x="3554" y="3"/>
                    </a:cubicBezTo>
                    <a:cubicBezTo>
                      <a:pt x="3554" y="2"/>
                      <a:pt x="3554" y="1"/>
                      <a:pt x="3556" y="1"/>
                    </a:cubicBezTo>
                    <a:close/>
                    <a:moveTo>
                      <a:pt x="3564" y="1"/>
                    </a:moveTo>
                    <a:lnTo>
                      <a:pt x="3564" y="1"/>
                    </a:lnTo>
                    <a:cubicBezTo>
                      <a:pt x="3565" y="1"/>
                      <a:pt x="3566" y="2"/>
                      <a:pt x="3566" y="3"/>
                    </a:cubicBezTo>
                    <a:cubicBezTo>
                      <a:pt x="3566" y="4"/>
                      <a:pt x="3565" y="5"/>
                      <a:pt x="3564" y="5"/>
                    </a:cubicBezTo>
                    <a:lnTo>
                      <a:pt x="3564" y="5"/>
                    </a:lnTo>
                    <a:cubicBezTo>
                      <a:pt x="3562" y="5"/>
                      <a:pt x="3562" y="4"/>
                      <a:pt x="3562" y="3"/>
                    </a:cubicBezTo>
                    <a:cubicBezTo>
                      <a:pt x="3562" y="2"/>
                      <a:pt x="3562" y="1"/>
                      <a:pt x="3564" y="1"/>
                    </a:cubicBezTo>
                    <a:close/>
                    <a:moveTo>
                      <a:pt x="3572" y="1"/>
                    </a:moveTo>
                    <a:lnTo>
                      <a:pt x="3572" y="1"/>
                    </a:lnTo>
                    <a:cubicBezTo>
                      <a:pt x="3573" y="1"/>
                      <a:pt x="3574" y="2"/>
                      <a:pt x="3574" y="3"/>
                    </a:cubicBezTo>
                    <a:cubicBezTo>
                      <a:pt x="3574" y="4"/>
                      <a:pt x="3573" y="5"/>
                      <a:pt x="3572" y="5"/>
                    </a:cubicBezTo>
                    <a:lnTo>
                      <a:pt x="3572" y="5"/>
                    </a:lnTo>
                    <a:cubicBezTo>
                      <a:pt x="3570" y="5"/>
                      <a:pt x="3570" y="4"/>
                      <a:pt x="3570" y="3"/>
                    </a:cubicBezTo>
                    <a:cubicBezTo>
                      <a:pt x="3570" y="2"/>
                      <a:pt x="3570" y="1"/>
                      <a:pt x="3572" y="1"/>
                    </a:cubicBezTo>
                    <a:close/>
                    <a:moveTo>
                      <a:pt x="3580" y="1"/>
                    </a:moveTo>
                    <a:lnTo>
                      <a:pt x="3580" y="1"/>
                    </a:lnTo>
                    <a:cubicBezTo>
                      <a:pt x="3581" y="1"/>
                      <a:pt x="3582" y="2"/>
                      <a:pt x="3582" y="3"/>
                    </a:cubicBezTo>
                    <a:cubicBezTo>
                      <a:pt x="3582" y="4"/>
                      <a:pt x="3581" y="5"/>
                      <a:pt x="3580" y="5"/>
                    </a:cubicBezTo>
                    <a:lnTo>
                      <a:pt x="3580" y="5"/>
                    </a:lnTo>
                    <a:cubicBezTo>
                      <a:pt x="3578" y="5"/>
                      <a:pt x="3578" y="4"/>
                      <a:pt x="3578" y="3"/>
                    </a:cubicBezTo>
                    <a:cubicBezTo>
                      <a:pt x="3578" y="2"/>
                      <a:pt x="3578" y="1"/>
                      <a:pt x="3580" y="1"/>
                    </a:cubicBezTo>
                    <a:close/>
                    <a:moveTo>
                      <a:pt x="3588" y="1"/>
                    </a:moveTo>
                    <a:lnTo>
                      <a:pt x="3588" y="1"/>
                    </a:lnTo>
                    <a:cubicBezTo>
                      <a:pt x="3589" y="1"/>
                      <a:pt x="3590" y="2"/>
                      <a:pt x="3590" y="3"/>
                    </a:cubicBezTo>
                    <a:cubicBezTo>
                      <a:pt x="3590" y="4"/>
                      <a:pt x="3589" y="5"/>
                      <a:pt x="3588" y="5"/>
                    </a:cubicBezTo>
                    <a:lnTo>
                      <a:pt x="3588" y="5"/>
                    </a:lnTo>
                    <a:cubicBezTo>
                      <a:pt x="3586" y="5"/>
                      <a:pt x="3586" y="4"/>
                      <a:pt x="3586" y="3"/>
                    </a:cubicBezTo>
                    <a:cubicBezTo>
                      <a:pt x="3586" y="2"/>
                      <a:pt x="3586" y="1"/>
                      <a:pt x="3588" y="1"/>
                    </a:cubicBezTo>
                    <a:close/>
                    <a:moveTo>
                      <a:pt x="3596" y="1"/>
                    </a:moveTo>
                    <a:lnTo>
                      <a:pt x="3596" y="1"/>
                    </a:lnTo>
                    <a:cubicBezTo>
                      <a:pt x="3597" y="1"/>
                      <a:pt x="3598" y="2"/>
                      <a:pt x="3598" y="3"/>
                    </a:cubicBezTo>
                    <a:cubicBezTo>
                      <a:pt x="3598" y="4"/>
                      <a:pt x="3597" y="5"/>
                      <a:pt x="3596" y="5"/>
                    </a:cubicBezTo>
                    <a:lnTo>
                      <a:pt x="3596" y="5"/>
                    </a:lnTo>
                    <a:cubicBezTo>
                      <a:pt x="3594" y="5"/>
                      <a:pt x="3594" y="4"/>
                      <a:pt x="3594" y="3"/>
                    </a:cubicBezTo>
                    <a:cubicBezTo>
                      <a:pt x="3594" y="2"/>
                      <a:pt x="3594" y="1"/>
                      <a:pt x="3596" y="1"/>
                    </a:cubicBezTo>
                    <a:close/>
                    <a:moveTo>
                      <a:pt x="3604" y="1"/>
                    </a:moveTo>
                    <a:lnTo>
                      <a:pt x="3604" y="1"/>
                    </a:lnTo>
                    <a:cubicBezTo>
                      <a:pt x="3605" y="1"/>
                      <a:pt x="3606" y="2"/>
                      <a:pt x="3606" y="3"/>
                    </a:cubicBezTo>
                    <a:cubicBezTo>
                      <a:pt x="3606" y="4"/>
                      <a:pt x="3605" y="5"/>
                      <a:pt x="3604" y="5"/>
                    </a:cubicBezTo>
                    <a:lnTo>
                      <a:pt x="3604" y="5"/>
                    </a:lnTo>
                    <a:cubicBezTo>
                      <a:pt x="3602" y="5"/>
                      <a:pt x="3602" y="4"/>
                      <a:pt x="3602" y="3"/>
                    </a:cubicBezTo>
                    <a:cubicBezTo>
                      <a:pt x="3602" y="2"/>
                      <a:pt x="3602" y="1"/>
                      <a:pt x="3604" y="1"/>
                    </a:cubicBezTo>
                    <a:close/>
                    <a:moveTo>
                      <a:pt x="3612" y="1"/>
                    </a:moveTo>
                    <a:lnTo>
                      <a:pt x="3612" y="1"/>
                    </a:lnTo>
                    <a:cubicBezTo>
                      <a:pt x="3613" y="1"/>
                      <a:pt x="3614" y="2"/>
                      <a:pt x="3614" y="3"/>
                    </a:cubicBezTo>
                    <a:cubicBezTo>
                      <a:pt x="3614" y="4"/>
                      <a:pt x="3613" y="5"/>
                      <a:pt x="3612" y="5"/>
                    </a:cubicBezTo>
                    <a:lnTo>
                      <a:pt x="3612" y="5"/>
                    </a:lnTo>
                    <a:cubicBezTo>
                      <a:pt x="3610" y="5"/>
                      <a:pt x="3610" y="4"/>
                      <a:pt x="3610" y="3"/>
                    </a:cubicBezTo>
                    <a:cubicBezTo>
                      <a:pt x="3610" y="2"/>
                      <a:pt x="3610" y="1"/>
                      <a:pt x="3612" y="1"/>
                    </a:cubicBezTo>
                    <a:close/>
                    <a:moveTo>
                      <a:pt x="3620" y="1"/>
                    </a:moveTo>
                    <a:lnTo>
                      <a:pt x="3620" y="1"/>
                    </a:lnTo>
                    <a:cubicBezTo>
                      <a:pt x="3621" y="1"/>
                      <a:pt x="3622" y="2"/>
                      <a:pt x="3622" y="3"/>
                    </a:cubicBezTo>
                    <a:cubicBezTo>
                      <a:pt x="3622" y="4"/>
                      <a:pt x="3621" y="5"/>
                      <a:pt x="3620" y="5"/>
                    </a:cubicBezTo>
                    <a:lnTo>
                      <a:pt x="3620" y="5"/>
                    </a:lnTo>
                    <a:cubicBezTo>
                      <a:pt x="3618" y="5"/>
                      <a:pt x="3618" y="4"/>
                      <a:pt x="3618" y="3"/>
                    </a:cubicBezTo>
                    <a:cubicBezTo>
                      <a:pt x="3618" y="2"/>
                      <a:pt x="3618" y="1"/>
                      <a:pt x="3620" y="1"/>
                    </a:cubicBezTo>
                    <a:close/>
                    <a:moveTo>
                      <a:pt x="3628" y="1"/>
                    </a:moveTo>
                    <a:lnTo>
                      <a:pt x="3628" y="1"/>
                    </a:lnTo>
                    <a:cubicBezTo>
                      <a:pt x="3629" y="1"/>
                      <a:pt x="3630" y="2"/>
                      <a:pt x="3630" y="3"/>
                    </a:cubicBezTo>
                    <a:cubicBezTo>
                      <a:pt x="3630" y="4"/>
                      <a:pt x="3629" y="5"/>
                      <a:pt x="3628" y="5"/>
                    </a:cubicBezTo>
                    <a:lnTo>
                      <a:pt x="3628" y="5"/>
                    </a:lnTo>
                    <a:cubicBezTo>
                      <a:pt x="3626" y="5"/>
                      <a:pt x="3626" y="4"/>
                      <a:pt x="3626" y="3"/>
                    </a:cubicBezTo>
                    <a:cubicBezTo>
                      <a:pt x="3626" y="2"/>
                      <a:pt x="3626" y="1"/>
                      <a:pt x="3628" y="1"/>
                    </a:cubicBezTo>
                    <a:close/>
                    <a:moveTo>
                      <a:pt x="3636" y="1"/>
                    </a:moveTo>
                    <a:lnTo>
                      <a:pt x="3636" y="1"/>
                    </a:lnTo>
                    <a:cubicBezTo>
                      <a:pt x="3637" y="1"/>
                      <a:pt x="3638" y="2"/>
                      <a:pt x="3638" y="3"/>
                    </a:cubicBezTo>
                    <a:cubicBezTo>
                      <a:pt x="3638" y="4"/>
                      <a:pt x="3637" y="5"/>
                      <a:pt x="3636" y="5"/>
                    </a:cubicBezTo>
                    <a:lnTo>
                      <a:pt x="3636" y="5"/>
                    </a:lnTo>
                    <a:cubicBezTo>
                      <a:pt x="3634" y="5"/>
                      <a:pt x="3634" y="4"/>
                      <a:pt x="3634" y="3"/>
                    </a:cubicBezTo>
                    <a:cubicBezTo>
                      <a:pt x="3634" y="2"/>
                      <a:pt x="3634" y="1"/>
                      <a:pt x="3636" y="1"/>
                    </a:cubicBezTo>
                    <a:close/>
                    <a:moveTo>
                      <a:pt x="3644" y="1"/>
                    </a:moveTo>
                    <a:lnTo>
                      <a:pt x="3644" y="1"/>
                    </a:lnTo>
                    <a:cubicBezTo>
                      <a:pt x="3645" y="1"/>
                      <a:pt x="3646" y="2"/>
                      <a:pt x="3646" y="3"/>
                    </a:cubicBezTo>
                    <a:cubicBezTo>
                      <a:pt x="3646" y="4"/>
                      <a:pt x="3645" y="5"/>
                      <a:pt x="3644" y="5"/>
                    </a:cubicBezTo>
                    <a:lnTo>
                      <a:pt x="3644" y="5"/>
                    </a:lnTo>
                    <a:cubicBezTo>
                      <a:pt x="3642" y="5"/>
                      <a:pt x="3642" y="4"/>
                      <a:pt x="3642" y="3"/>
                    </a:cubicBezTo>
                    <a:cubicBezTo>
                      <a:pt x="3642" y="2"/>
                      <a:pt x="3642" y="1"/>
                      <a:pt x="3644" y="1"/>
                    </a:cubicBezTo>
                    <a:close/>
                    <a:moveTo>
                      <a:pt x="3652" y="1"/>
                    </a:moveTo>
                    <a:lnTo>
                      <a:pt x="3652" y="1"/>
                    </a:lnTo>
                    <a:cubicBezTo>
                      <a:pt x="3653" y="1"/>
                      <a:pt x="3654" y="2"/>
                      <a:pt x="3654" y="3"/>
                    </a:cubicBezTo>
                    <a:cubicBezTo>
                      <a:pt x="3654" y="4"/>
                      <a:pt x="3653" y="5"/>
                      <a:pt x="3652" y="5"/>
                    </a:cubicBezTo>
                    <a:lnTo>
                      <a:pt x="3652" y="5"/>
                    </a:lnTo>
                    <a:cubicBezTo>
                      <a:pt x="3650" y="5"/>
                      <a:pt x="3650" y="4"/>
                      <a:pt x="3650" y="3"/>
                    </a:cubicBezTo>
                    <a:cubicBezTo>
                      <a:pt x="3650" y="2"/>
                      <a:pt x="3650" y="1"/>
                      <a:pt x="3652" y="1"/>
                    </a:cubicBezTo>
                    <a:close/>
                    <a:moveTo>
                      <a:pt x="3660" y="1"/>
                    </a:moveTo>
                    <a:lnTo>
                      <a:pt x="3660" y="1"/>
                    </a:lnTo>
                    <a:cubicBezTo>
                      <a:pt x="3661" y="1"/>
                      <a:pt x="3662" y="2"/>
                      <a:pt x="3662" y="3"/>
                    </a:cubicBezTo>
                    <a:cubicBezTo>
                      <a:pt x="3662" y="4"/>
                      <a:pt x="3661" y="5"/>
                      <a:pt x="3660" y="5"/>
                    </a:cubicBezTo>
                    <a:lnTo>
                      <a:pt x="3660" y="5"/>
                    </a:lnTo>
                    <a:cubicBezTo>
                      <a:pt x="3658" y="5"/>
                      <a:pt x="3658" y="4"/>
                      <a:pt x="3658" y="3"/>
                    </a:cubicBezTo>
                    <a:cubicBezTo>
                      <a:pt x="3658" y="2"/>
                      <a:pt x="3658" y="1"/>
                      <a:pt x="3660" y="1"/>
                    </a:cubicBezTo>
                    <a:close/>
                    <a:moveTo>
                      <a:pt x="3668" y="1"/>
                    </a:moveTo>
                    <a:lnTo>
                      <a:pt x="3668" y="1"/>
                    </a:lnTo>
                    <a:cubicBezTo>
                      <a:pt x="3669" y="1"/>
                      <a:pt x="3670" y="2"/>
                      <a:pt x="3670" y="3"/>
                    </a:cubicBezTo>
                    <a:cubicBezTo>
                      <a:pt x="3670" y="4"/>
                      <a:pt x="3669" y="5"/>
                      <a:pt x="3668" y="5"/>
                    </a:cubicBezTo>
                    <a:lnTo>
                      <a:pt x="3668" y="5"/>
                    </a:lnTo>
                    <a:cubicBezTo>
                      <a:pt x="3666" y="5"/>
                      <a:pt x="3666" y="4"/>
                      <a:pt x="3666" y="3"/>
                    </a:cubicBezTo>
                    <a:cubicBezTo>
                      <a:pt x="3666" y="2"/>
                      <a:pt x="3666" y="1"/>
                      <a:pt x="3668" y="1"/>
                    </a:cubicBezTo>
                    <a:close/>
                    <a:moveTo>
                      <a:pt x="3676" y="1"/>
                    </a:moveTo>
                    <a:lnTo>
                      <a:pt x="3676" y="1"/>
                    </a:lnTo>
                    <a:cubicBezTo>
                      <a:pt x="3677" y="1"/>
                      <a:pt x="3678" y="2"/>
                      <a:pt x="3678" y="3"/>
                    </a:cubicBezTo>
                    <a:cubicBezTo>
                      <a:pt x="3678" y="4"/>
                      <a:pt x="3677" y="5"/>
                      <a:pt x="3676" y="5"/>
                    </a:cubicBezTo>
                    <a:lnTo>
                      <a:pt x="3676" y="5"/>
                    </a:lnTo>
                    <a:cubicBezTo>
                      <a:pt x="3674" y="5"/>
                      <a:pt x="3674" y="4"/>
                      <a:pt x="3674" y="3"/>
                    </a:cubicBezTo>
                    <a:cubicBezTo>
                      <a:pt x="3674" y="2"/>
                      <a:pt x="3674" y="1"/>
                      <a:pt x="3676" y="1"/>
                    </a:cubicBezTo>
                    <a:close/>
                    <a:moveTo>
                      <a:pt x="3684" y="1"/>
                    </a:moveTo>
                    <a:lnTo>
                      <a:pt x="3684" y="1"/>
                    </a:lnTo>
                    <a:cubicBezTo>
                      <a:pt x="3685" y="1"/>
                      <a:pt x="3686" y="2"/>
                      <a:pt x="3686" y="3"/>
                    </a:cubicBezTo>
                    <a:cubicBezTo>
                      <a:pt x="3686" y="4"/>
                      <a:pt x="3685" y="5"/>
                      <a:pt x="3684" y="5"/>
                    </a:cubicBezTo>
                    <a:lnTo>
                      <a:pt x="3684" y="5"/>
                    </a:lnTo>
                    <a:cubicBezTo>
                      <a:pt x="3682" y="5"/>
                      <a:pt x="3682" y="4"/>
                      <a:pt x="3682" y="3"/>
                    </a:cubicBezTo>
                    <a:cubicBezTo>
                      <a:pt x="3682" y="2"/>
                      <a:pt x="3682" y="1"/>
                      <a:pt x="3684" y="1"/>
                    </a:cubicBezTo>
                    <a:close/>
                    <a:moveTo>
                      <a:pt x="3692" y="1"/>
                    </a:moveTo>
                    <a:lnTo>
                      <a:pt x="3692" y="1"/>
                    </a:lnTo>
                    <a:cubicBezTo>
                      <a:pt x="3693" y="1"/>
                      <a:pt x="3694" y="2"/>
                      <a:pt x="3694" y="3"/>
                    </a:cubicBezTo>
                    <a:cubicBezTo>
                      <a:pt x="3694" y="4"/>
                      <a:pt x="3693" y="5"/>
                      <a:pt x="3692" y="5"/>
                    </a:cubicBezTo>
                    <a:lnTo>
                      <a:pt x="3692" y="5"/>
                    </a:lnTo>
                    <a:cubicBezTo>
                      <a:pt x="3690" y="5"/>
                      <a:pt x="3690" y="4"/>
                      <a:pt x="3690" y="3"/>
                    </a:cubicBezTo>
                    <a:cubicBezTo>
                      <a:pt x="3690" y="2"/>
                      <a:pt x="3690" y="1"/>
                      <a:pt x="3692" y="1"/>
                    </a:cubicBezTo>
                    <a:close/>
                    <a:moveTo>
                      <a:pt x="3700" y="1"/>
                    </a:moveTo>
                    <a:lnTo>
                      <a:pt x="3700" y="1"/>
                    </a:lnTo>
                    <a:cubicBezTo>
                      <a:pt x="3701" y="1"/>
                      <a:pt x="3702" y="2"/>
                      <a:pt x="3702" y="3"/>
                    </a:cubicBezTo>
                    <a:cubicBezTo>
                      <a:pt x="3702" y="4"/>
                      <a:pt x="3701" y="5"/>
                      <a:pt x="3700" y="5"/>
                    </a:cubicBezTo>
                    <a:lnTo>
                      <a:pt x="3700" y="5"/>
                    </a:lnTo>
                    <a:cubicBezTo>
                      <a:pt x="3699" y="5"/>
                      <a:pt x="3698" y="4"/>
                      <a:pt x="3698" y="3"/>
                    </a:cubicBezTo>
                    <a:cubicBezTo>
                      <a:pt x="3698" y="2"/>
                      <a:pt x="3699" y="1"/>
                      <a:pt x="3700" y="1"/>
                    </a:cubicBezTo>
                    <a:close/>
                    <a:moveTo>
                      <a:pt x="3708" y="1"/>
                    </a:moveTo>
                    <a:lnTo>
                      <a:pt x="3708" y="1"/>
                    </a:lnTo>
                    <a:cubicBezTo>
                      <a:pt x="3709" y="1"/>
                      <a:pt x="3710" y="2"/>
                      <a:pt x="3710" y="3"/>
                    </a:cubicBezTo>
                    <a:cubicBezTo>
                      <a:pt x="3710" y="4"/>
                      <a:pt x="3709" y="5"/>
                      <a:pt x="3708" y="5"/>
                    </a:cubicBezTo>
                    <a:lnTo>
                      <a:pt x="3708" y="5"/>
                    </a:lnTo>
                    <a:cubicBezTo>
                      <a:pt x="3707" y="5"/>
                      <a:pt x="3706" y="4"/>
                      <a:pt x="3706" y="3"/>
                    </a:cubicBezTo>
                    <a:cubicBezTo>
                      <a:pt x="3706" y="2"/>
                      <a:pt x="3707" y="1"/>
                      <a:pt x="3708" y="1"/>
                    </a:cubicBezTo>
                    <a:close/>
                    <a:moveTo>
                      <a:pt x="3716" y="1"/>
                    </a:moveTo>
                    <a:lnTo>
                      <a:pt x="3716" y="1"/>
                    </a:lnTo>
                    <a:cubicBezTo>
                      <a:pt x="3717" y="1"/>
                      <a:pt x="3718" y="2"/>
                      <a:pt x="3718" y="3"/>
                    </a:cubicBezTo>
                    <a:cubicBezTo>
                      <a:pt x="3718" y="4"/>
                      <a:pt x="3717" y="5"/>
                      <a:pt x="3716" y="5"/>
                    </a:cubicBezTo>
                    <a:lnTo>
                      <a:pt x="3716" y="5"/>
                    </a:lnTo>
                    <a:cubicBezTo>
                      <a:pt x="3715" y="5"/>
                      <a:pt x="3714" y="4"/>
                      <a:pt x="3714" y="3"/>
                    </a:cubicBezTo>
                    <a:cubicBezTo>
                      <a:pt x="3714" y="2"/>
                      <a:pt x="3715" y="1"/>
                      <a:pt x="3716" y="1"/>
                    </a:cubicBezTo>
                    <a:close/>
                    <a:moveTo>
                      <a:pt x="3724" y="1"/>
                    </a:moveTo>
                    <a:lnTo>
                      <a:pt x="3724" y="1"/>
                    </a:lnTo>
                    <a:cubicBezTo>
                      <a:pt x="3725" y="1"/>
                      <a:pt x="3726" y="2"/>
                      <a:pt x="3726" y="3"/>
                    </a:cubicBezTo>
                    <a:cubicBezTo>
                      <a:pt x="3726" y="4"/>
                      <a:pt x="3725" y="5"/>
                      <a:pt x="3724" y="5"/>
                    </a:cubicBezTo>
                    <a:lnTo>
                      <a:pt x="3724" y="5"/>
                    </a:lnTo>
                    <a:cubicBezTo>
                      <a:pt x="3723" y="5"/>
                      <a:pt x="3722" y="4"/>
                      <a:pt x="3722" y="3"/>
                    </a:cubicBezTo>
                    <a:cubicBezTo>
                      <a:pt x="3722" y="2"/>
                      <a:pt x="3723" y="1"/>
                      <a:pt x="3724" y="1"/>
                    </a:cubicBezTo>
                    <a:close/>
                    <a:moveTo>
                      <a:pt x="3732" y="1"/>
                    </a:moveTo>
                    <a:lnTo>
                      <a:pt x="3732" y="1"/>
                    </a:lnTo>
                    <a:cubicBezTo>
                      <a:pt x="3733" y="1"/>
                      <a:pt x="3734" y="2"/>
                      <a:pt x="3734" y="3"/>
                    </a:cubicBezTo>
                    <a:cubicBezTo>
                      <a:pt x="3734" y="4"/>
                      <a:pt x="3733" y="5"/>
                      <a:pt x="3732" y="5"/>
                    </a:cubicBezTo>
                    <a:lnTo>
                      <a:pt x="3732" y="5"/>
                    </a:lnTo>
                    <a:cubicBezTo>
                      <a:pt x="3731" y="5"/>
                      <a:pt x="3730" y="4"/>
                      <a:pt x="3730" y="3"/>
                    </a:cubicBezTo>
                    <a:cubicBezTo>
                      <a:pt x="3730" y="2"/>
                      <a:pt x="3731" y="1"/>
                      <a:pt x="3732" y="1"/>
                    </a:cubicBezTo>
                    <a:close/>
                    <a:moveTo>
                      <a:pt x="3740" y="1"/>
                    </a:moveTo>
                    <a:lnTo>
                      <a:pt x="3740" y="1"/>
                    </a:lnTo>
                    <a:cubicBezTo>
                      <a:pt x="3741" y="1"/>
                      <a:pt x="3742" y="2"/>
                      <a:pt x="3742" y="3"/>
                    </a:cubicBezTo>
                    <a:cubicBezTo>
                      <a:pt x="3742" y="4"/>
                      <a:pt x="3741" y="5"/>
                      <a:pt x="3740" y="5"/>
                    </a:cubicBezTo>
                    <a:lnTo>
                      <a:pt x="3740" y="5"/>
                    </a:lnTo>
                    <a:cubicBezTo>
                      <a:pt x="3739" y="5"/>
                      <a:pt x="3738" y="4"/>
                      <a:pt x="3738" y="3"/>
                    </a:cubicBezTo>
                    <a:cubicBezTo>
                      <a:pt x="3738" y="2"/>
                      <a:pt x="3739" y="1"/>
                      <a:pt x="3740" y="1"/>
                    </a:cubicBezTo>
                    <a:close/>
                    <a:moveTo>
                      <a:pt x="3748" y="1"/>
                    </a:moveTo>
                    <a:lnTo>
                      <a:pt x="3748" y="1"/>
                    </a:lnTo>
                    <a:cubicBezTo>
                      <a:pt x="3749" y="1"/>
                      <a:pt x="3750" y="2"/>
                      <a:pt x="3750" y="3"/>
                    </a:cubicBezTo>
                    <a:cubicBezTo>
                      <a:pt x="3750" y="4"/>
                      <a:pt x="3749" y="5"/>
                      <a:pt x="3748" y="5"/>
                    </a:cubicBezTo>
                    <a:lnTo>
                      <a:pt x="3748" y="5"/>
                    </a:lnTo>
                    <a:cubicBezTo>
                      <a:pt x="3747" y="5"/>
                      <a:pt x="3746" y="4"/>
                      <a:pt x="3746" y="3"/>
                    </a:cubicBezTo>
                    <a:cubicBezTo>
                      <a:pt x="3746" y="2"/>
                      <a:pt x="3747" y="1"/>
                      <a:pt x="3748" y="1"/>
                    </a:cubicBezTo>
                    <a:close/>
                    <a:moveTo>
                      <a:pt x="3756" y="1"/>
                    </a:moveTo>
                    <a:lnTo>
                      <a:pt x="3756" y="1"/>
                    </a:lnTo>
                    <a:cubicBezTo>
                      <a:pt x="3757" y="1"/>
                      <a:pt x="3758" y="2"/>
                      <a:pt x="3758" y="3"/>
                    </a:cubicBezTo>
                    <a:cubicBezTo>
                      <a:pt x="3758" y="4"/>
                      <a:pt x="3757" y="5"/>
                      <a:pt x="3756" y="5"/>
                    </a:cubicBezTo>
                    <a:lnTo>
                      <a:pt x="3756" y="5"/>
                    </a:lnTo>
                    <a:cubicBezTo>
                      <a:pt x="3755" y="5"/>
                      <a:pt x="3754" y="4"/>
                      <a:pt x="3754" y="3"/>
                    </a:cubicBezTo>
                    <a:cubicBezTo>
                      <a:pt x="3754" y="2"/>
                      <a:pt x="3755" y="1"/>
                      <a:pt x="3756" y="1"/>
                    </a:cubicBezTo>
                    <a:close/>
                    <a:moveTo>
                      <a:pt x="3764" y="1"/>
                    </a:moveTo>
                    <a:lnTo>
                      <a:pt x="3764" y="1"/>
                    </a:lnTo>
                    <a:cubicBezTo>
                      <a:pt x="3765" y="1"/>
                      <a:pt x="3766" y="2"/>
                      <a:pt x="3766" y="3"/>
                    </a:cubicBezTo>
                    <a:cubicBezTo>
                      <a:pt x="3766" y="4"/>
                      <a:pt x="3765" y="5"/>
                      <a:pt x="3764" y="5"/>
                    </a:cubicBezTo>
                    <a:lnTo>
                      <a:pt x="3764" y="5"/>
                    </a:lnTo>
                    <a:cubicBezTo>
                      <a:pt x="3763" y="5"/>
                      <a:pt x="3762" y="4"/>
                      <a:pt x="3762" y="3"/>
                    </a:cubicBezTo>
                    <a:cubicBezTo>
                      <a:pt x="3762" y="2"/>
                      <a:pt x="3763" y="1"/>
                      <a:pt x="3764" y="1"/>
                    </a:cubicBezTo>
                    <a:close/>
                    <a:moveTo>
                      <a:pt x="3772" y="1"/>
                    </a:moveTo>
                    <a:lnTo>
                      <a:pt x="3772" y="1"/>
                    </a:lnTo>
                    <a:cubicBezTo>
                      <a:pt x="3773" y="1"/>
                      <a:pt x="3774" y="2"/>
                      <a:pt x="3774" y="3"/>
                    </a:cubicBezTo>
                    <a:cubicBezTo>
                      <a:pt x="3774" y="4"/>
                      <a:pt x="3773" y="5"/>
                      <a:pt x="3772" y="5"/>
                    </a:cubicBezTo>
                    <a:lnTo>
                      <a:pt x="3772" y="5"/>
                    </a:lnTo>
                    <a:cubicBezTo>
                      <a:pt x="3771" y="5"/>
                      <a:pt x="3770" y="4"/>
                      <a:pt x="3770" y="3"/>
                    </a:cubicBezTo>
                    <a:cubicBezTo>
                      <a:pt x="3770" y="2"/>
                      <a:pt x="3771" y="1"/>
                      <a:pt x="3772" y="1"/>
                    </a:cubicBezTo>
                    <a:close/>
                    <a:moveTo>
                      <a:pt x="3780" y="1"/>
                    </a:moveTo>
                    <a:lnTo>
                      <a:pt x="3780" y="1"/>
                    </a:lnTo>
                    <a:cubicBezTo>
                      <a:pt x="3781" y="1"/>
                      <a:pt x="3782" y="2"/>
                      <a:pt x="3782" y="3"/>
                    </a:cubicBezTo>
                    <a:cubicBezTo>
                      <a:pt x="3782" y="4"/>
                      <a:pt x="3781" y="5"/>
                      <a:pt x="3780" y="5"/>
                    </a:cubicBezTo>
                    <a:lnTo>
                      <a:pt x="3780" y="5"/>
                    </a:lnTo>
                    <a:cubicBezTo>
                      <a:pt x="3779" y="5"/>
                      <a:pt x="3778" y="4"/>
                      <a:pt x="3778" y="3"/>
                    </a:cubicBezTo>
                    <a:cubicBezTo>
                      <a:pt x="3778" y="2"/>
                      <a:pt x="3779" y="1"/>
                      <a:pt x="3780" y="1"/>
                    </a:cubicBezTo>
                    <a:close/>
                    <a:moveTo>
                      <a:pt x="3788" y="1"/>
                    </a:moveTo>
                    <a:lnTo>
                      <a:pt x="3788" y="1"/>
                    </a:lnTo>
                    <a:cubicBezTo>
                      <a:pt x="3789" y="1"/>
                      <a:pt x="3790" y="2"/>
                      <a:pt x="3790" y="3"/>
                    </a:cubicBezTo>
                    <a:cubicBezTo>
                      <a:pt x="3790" y="4"/>
                      <a:pt x="3789" y="5"/>
                      <a:pt x="3788" y="5"/>
                    </a:cubicBezTo>
                    <a:lnTo>
                      <a:pt x="3788" y="5"/>
                    </a:lnTo>
                    <a:cubicBezTo>
                      <a:pt x="3787" y="5"/>
                      <a:pt x="3786" y="4"/>
                      <a:pt x="3786" y="3"/>
                    </a:cubicBezTo>
                    <a:cubicBezTo>
                      <a:pt x="3786" y="2"/>
                      <a:pt x="3787" y="1"/>
                      <a:pt x="3788" y="1"/>
                    </a:cubicBezTo>
                    <a:close/>
                    <a:moveTo>
                      <a:pt x="3796" y="1"/>
                    </a:moveTo>
                    <a:lnTo>
                      <a:pt x="3796" y="1"/>
                    </a:lnTo>
                    <a:cubicBezTo>
                      <a:pt x="3797" y="1"/>
                      <a:pt x="3798" y="2"/>
                      <a:pt x="3798" y="3"/>
                    </a:cubicBezTo>
                    <a:cubicBezTo>
                      <a:pt x="3798" y="4"/>
                      <a:pt x="3797" y="5"/>
                      <a:pt x="3796" y="5"/>
                    </a:cubicBezTo>
                    <a:lnTo>
                      <a:pt x="3796" y="5"/>
                    </a:lnTo>
                    <a:cubicBezTo>
                      <a:pt x="3795" y="5"/>
                      <a:pt x="3794" y="4"/>
                      <a:pt x="3794" y="3"/>
                    </a:cubicBezTo>
                    <a:cubicBezTo>
                      <a:pt x="3794" y="2"/>
                      <a:pt x="3795" y="1"/>
                      <a:pt x="3796" y="1"/>
                    </a:cubicBezTo>
                    <a:close/>
                    <a:moveTo>
                      <a:pt x="3804" y="1"/>
                    </a:moveTo>
                    <a:lnTo>
                      <a:pt x="3804" y="1"/>
                    </a:lnTo>
                    <a:cubicBezTo>
                      <a:pt x="3805" y="1"/>
                      <a:pt x="3806" y="2"/>
                      <a:pt x="3806" y="3"/>
                    </a:cubicBezTo>
                    <a:cubicBezTo>
                      <a:pt x="3806" y="4"/>
                      <a:pt x="3805" y="5"/>
                      <a:pt x="3804" y="5"/>
                    </a:cubicBezTo>
                    <a:lnTo>
                      <a:pt x="3804" y="5"/>
                    </a:lnTo>
                    <a:cubicBezTo>
                      <a:pt x="3803" y="5"/>
                      <a:pt x="3802" y="4"/>
                      <a:pt x="3802" y="3"/>
                    </a:cubicBezTo>
                    <a:cubicBezTo>
                      <a:pt x="3802" y="2"/>
                      <a:pt x="3803" y="1"/>
                      <a:pt x="3804" y="1"/>
                    </a:cubicBezTo>
                    <a:close/>
                    <a:moveTo>
                      <a:pt x="3812" y="1"/>
                    </a:moveTo>
                    <a:lnTo>
                      <a:pt x="3812" y="1"/>
                    </a:lnTo>
                    <a:cubicBezTo>
                      <a:pt x="3813" y="1"/>
                      <a:pt x="3814" y="2"/>
                      <a:pt x="3814" y="3"/>
                    </a:cubicBezTo>
                    <a:cubicBezTo>
                      <a:pt x="3814" y="4"/>
                      <a:pt x="3813" y="5"/>
                      <a:pt x="3812" y="5"/>
                    </a:cubicBezTo>
                    <a:lnTo>
                      <a:pt x="3812" y="5"/>
                    </a:lnTo>
                    <a:cubicBezTo>
                      <a:pt x="3811" y="5"/>
                      <a:pt x="3810" y="4"/>
                      <a:pt x="3810" y="3"/>
                    </a:cubicBezTo>
                    <a:cubicBezTo>
                      <a:pt x="3810" y="2"/>
                      <a:pt x="3811" y="1"/>
                      <a:pt x="3812" y="1"/>
                    </a:cubicBezTo>
                    <a:close/>
                    <a:moveTo>
                      <a:pt x="3820" y="1"/>
                    </a:moveTo>
                    <a:lnTo>
                      <a:pt x="3820" y="1"/>
                    </a:lnTo>
                    <a:cubicBezTo>
                      <a:pt x="3821" y="1"/>
                      <a:pt x="3822" y="2"/>
                      <a:pt x="3822" y="3"/>
                    </a:cubicBezTo>
                    <a:cubicBezTo>
                      <a:pt x="3822" y="4"/>
                      <a:pt x="3821" y="5"/>
                      <a:pt x="3820" y="5"/>
                    </a:cubicBezTo>
                    <a:lnTo>
                      <a:pt x="3820" y="5"/>
                    </a:lnTo>
                    <a:cubicBezTo>
                      <a:pt x="3819" y="5"/>
                      <a:pt x="3818" y="4"/>
                      <a:pt x="3818" y="3"/>
                    </a:cubicBezTo>
                    <a:cubicBezTo>
                      <a:pt x="3818" y="2"/>
                      <a:pt x="3819" y="1"/>
                      <a:pt x="3820" y="1"/>
                    </a:cubicBezTo>
                    <a:close/>
                    <a:moveTo>
                      <a:pt x="3828" y="1"/>
                    </a:moveTo>
                    <a:lnTo>
                      <a:pt x="3828" y="1"/>
                    </a:lnTo>
                    <a:cubicBezTo>
                      <a:pt x="3829" y="1"/>
                      <a:pt x="3830" y="2"/>
                      <a:pt x="3830" y="3"/>
                    </a:cubicBezTo>
                    <a:cubicBezTo>
                      <a:pt x="3830" y="4"/>
                      <a:pt x="3829" y="5"/>
                      <a:pt x="3828" y="5"/>
                    </a:cubicBezTo>
                    <a:lnTo>
                      <a:pt x="3828" y="5"/>
                    </a:lnTo>
                    <a:cubicBezTo>
                      <a:pt x="3827" y="5"/>
                      <a:pt x="3826" y="4"/>
                      <a:pt x="3826" y="3"/>
                    </a:cubicBezTo>
                    <a:cubicBezTo>
                      <a:pt x="3826" y="2"/>
                      <a:pt x="3827" y="1"/>
                      <a:pt x="3828" y="1"/>
                    </a:cubicBezTo>
                    <a:close/>
                    <a:moveTo>
                      <a:pt x="3836" y="1"/>
                    </a:moveTo>
                    <a:lnTo>
                      <a:pt x="3836" y="1"/>
                    </a:lnTo>
                    <a:cubicBezTo>
                      <a:pt x="3837" y="1"/>
                      <a:pt x="3838" y="2"/>
                      <a:pt x="3838" y="3"/>
                    </a:cubicBezTo>
                    <a:cubicBezTo>
                      <a:pt x="3838" y="4"/>
                      <a:pt x="3837" y="5"/>
                      <a:pt x="3836" y="5"/>
                    </a:cubicBezTo>
                    <a:lnTo>
                      <a:pt x="3836" y="5"/>
                    </a:lnTo>
                    <a:cubicBezTo>
                      <a:pt x="3835" y="5"/>
                      <a:pt x="3834" y="4"/>
                      <a:pt x="3834" y="3"/>
                    </a:cubicBezTo>
                    <a:cubicBezTo>
                      <a:pt x="3834" y="2"/>
                      <a:pt x="3835" y="1"/>
                      <a:pt x="3836" y="1"/>
                    </a:cubicBezTo>
                    <a:close/>
                    <a:moveTo>
                      <a:pt x="3844" y="1"/>
                    </a:moveTo>
                    <a:lnTo>
                      <a:pt x="3844" y="1"/>
                    </a:lnTo>
                    <a:cubicBezTo>
                      <a:pt x="3845" y="1"/>
                      <a:pt x="3846" y="2"/>
                      <a:pt x="3846" y="3"/>
                    </a:cubicBezTo>
                    <a:cubicBezTo>
                      <a:pt x="3846" y="4"/>
                      <a:pt x="3845" y="5"/>
                      <a:pt x="3844" y="5"/>
                    </a:cubicBezTo>
                    <a:lnTo>
                      <a:pt x="3844" y="5"/>
                    </a:lnTo>
                    <a:cubicBezTo>
                      <a:pt x="3843" y="5"/>
                      <a:pt x="3842" y="4"/>
                      <a:pt x="3842" y="3"/>
                    </a:cubicBezTo>
                    <a:cubicBezTo>
                      <a:pt x="3842" y="2"/>
                      <a:pt x="3843" y="1"/>
                      <a:pt x="3844" y="1"/>
                    </a:cubicBezTo>
                    <a:close/>
                    <a:moveTo>
                      <a:pt x="3852" y="1"/>
                    </a:moveTo>
                    <a:lnTo>
                      <a:pt x="3852" y="1"/>
                    </a:lnTo>
                    <a:cubicBezTo>
                      <a:pt x="3853" y="1"/>
                      <a:pt x="3854" y="2"/>
                      <a:pt x="3854" y="3"/>
                    </a:cubicBezTo>
                    <a:cubicBezTo>
                      <a:pt x="3854" y="4"/>
                      <a:pt x="3853" y="5"/>
                      <a:pt x="3852" y="5"/>
                    </a:cubicBezTo>
                    <a:lnTo>
                      <a:pt x="3852" y="5"/>
                    </a:lnTo>
                    <a:cubicBezTo>
                      <a:pt x="3851" y="5"/>
                      <a:pt x="3850" y="4"/>
                      <a:pt x="3850" y="3"/>
                    </a:cubicBezTo>
                    <a:cubicBezTo>
                      <a:pt x="3850" y="2"/>
                      <a:pt x="3851" y="1"/>
                      <a:pt x="3852" y="1"/>
                    </a:cubicBezTo>
                    <a:close/>
                    <a:moveTo>
                      <a:pt x="3860" y="1"/>
                    </a:moveTo>
                    <a:lnTo>
                      <a:pt x="3860" y="1"/>
                    </a:lnTo>
                    <a:cubicBezTo>
                      <a:pt x="3861" y="1"/>
                      <a:pt x="3862" y="2"/>
                      <a:pt x="3862" y="3"/>
                    </a:cubicBezTo>
                    <a:cubicBezTo>
                      <a:pt x="3862" y="4"/>
                      <a:pt x="3861" y="5"/>
                      <a:pt x="3860" y="5"/>
                    </a:cubicBezTo>
                    <a:lnTo>
                      <a:pt x="3860" y="5"/>
                    </a:lnTo>
                    <a:cubicBezTo>
                      <a:pt x="3859" y="5"/>
                      <a:pt x="3858" y="4"/>
                      <a:pt x="3858" y="3"/>
                    </a:cubicBezTo>
                    <a:cubicBezTo>
                      <a:pt x="3858" y="2"/>
                      <a:pt x="3859" y="1"/>
                      <a:pt x="3860" y="1"/>
                    </a:cubicBezTo>
                    <a:close/>
                    <a:moveTo>
                      <a:pt x="3868" y="1"/>
                    </a:moveTo>
                    <a:lnTo>
                      <a:pt x="3868" y="1"/>
                    </a:lnTo>
                    <a:cubicBezTo>
                      <a:pt x="3869" y="1"/>
                      <a:pt x="3870" y="2"/>
                      <a:pt x="3870" y="3"/>
                    </a:cubicBezTo>
                    <a:cubicBezTo>
                      <a:pt x="3870" y="4"/>
                      <a:pt x="3869" y="5"/>
                      <a:pt x="3868" y="5"/>
                    </a:cubicBezTo>
                    <a:lnTo>
                      <a:pt x="3868" y="5"/>
                    </a:lnTo>
                    <a:cubicBezTo>
                      <a:pt x="3867" y="5"/>
                      <a:pt x="3866" y="4"/>
                      <a:pt x="3866" y="3"/>
                    </a:cubicBezTo>
                    <a:cubicBezTo>
                      <a:pt x="3866" y="2"/>
                      <a:pt x="3867" y="1"/>
                      <a:pt x="3868" y="1"/>
                    </a:cubicBezTo>
                    <a:close/>
                    <a:moveTo>
                      <a:pt x="3876" y="1"/>
                    </a:moveTo>
                    <a:lnTo>
                      <a:pt x="3876" y="1"/>
                    </a:lnTo>
                    <a:cubicBezTo>
                      <a:pt x="3877" y="1"/>
                      <a:pt x="3878" y="2"/>
                      <a:pt x="3878" y="3"/>
                    </a:cubicBezTo>
                    <a:cubicBezTo>
                      <a:pt x="3878" y="4"/>
                      <a:pt x="3877" y="5"/>
                      <a:pt x="3876" y="5"/>
                    </a:cubicBezTo>
                    <a:lnTo>
                      <a:pt x="3876" y="5"/>
                    </a:lnTo>
                    <a:cubicBezTo>
                      <a:pt x="3875" y="5"/>
                      <a:pt x="3874" y="4"/>
                      <a:pt x="3874" y="3"/>
                    </a:cubicBezTo>
                    <a:cubicBezTo>
                      <a:pt x="3874" y="2"/>
                      <a:pt x="3875" y="1"/>
                      <a:pt x="3876" y="1"/>
                    </a:cubicBezTo>
                    <a:close/>
                    <a:moveTo>
                      <a:pt x="3884" y="1"/>
                    </a:moveTo>
                    <a:lnTo>
                      <a:pt x="3884" y="1"/>
                    </a:lnTo>
                    <a:cubicBezTo>
                      <a:pt x="3885" y="1"/>
                      <a:pt x="3886" y="2"/>
                      <a:pt x="3886" y="3"/>
                    </a:cubicBezTo>
                    <a:cubicBezTo>
                      <a:pt x="3886" y="4"/>
                      <a:pt x="3885" y="5"/>
                      <a:pt x="3884" y="5"/>
                    </a:cubicBezTo>
                    <a:lnTo>
                      <a:pt x="3884" y="5"/>
                    </a:lnTo>
                    <a:cubicBezTo>
                      <a:pt x="3883" y="5"/>
                      <a:pt x="3882" y="4"/>
                      <a:pt x="3882" y="3"/>
                    </a:cubicBezTo>
                    <a:cubicBezTo>
                      <a:pt x="3882" y="2"/>
                      <a:pt x="3883" y="1"/>
                      <a:pt x="3884" y="1"/>
                    </a:cubicBezTo>
                    <a:close/>
                    <a:moveTo>
                      <a:pt x="3892" y="1"/>
                    </a:moveTo>
                    <a:lnTo>
                      <a:pt x="3892" y="1"/>
                    </a:lnTo>
                    <a:cubicBezTo>
                      <a:pt x="3893" y="1"/>
                      <a:pt x="3894" y="2"/>
                      <a:pt x="3894" y="3"/>
                    </a:cubicBezTo>
                    <a:cubicBezTo>
                      <a:pt x="3894" y="4"/>
                      <a:pt x="3893" y="5"/>
                      <a:pt x="3892" y="5"/>
                    </a:cubicBezTo>
                    <a:lnTo>
                      <a:pt x="3892" y="5"/>
                    </a:lnTo>
                    <a:cubicBezTo>
                      <a:pt x="3891" y="5"/>
                      <a:pt x="3890" y="4"/>
                      <a:pt x="3890" y="3"/>
                    </a:cubicBezTo>
                    <a:cubicBezTo>
                      <a:pt x="3890" y="2"/>
                      <a:pt x="3891" y="1"/>
                      <a:pt x="3892" y="1"/>
                    </a:cubicBezTo>
                    <a:close/>
                    <a:moveTo>
                      <a:pt x="3900" y="1"/>
                    </a:moveTo>
                    <a:lnTo>
                      <a:pt x="3900" y="1"/>
                    </a:lnTo>
                    <a:cubicBezTo>
                      <a:pt x="3901" y="1"/>
                      <a:pt x="3902" y="2"/>
                      <a:pt x="3902" y="3"/>
                    </a:cubicBezTo>
                    <a:cubicBezTo>
                      <a:pt x="3902" y="4"/>
                      <a:pt x="3901" y="5"/>
                      <a:pt x="3900" y="5"/>
                    </a:cubicBezTo>
                    <a:lnTo>
                      <a:pt x="3900" y="5"/>
                    </a:lnTo>
                    <a:cubicBezTo>
                      <a:pt x="3899" y="5"/>
                      <a:pt x="3898" y="4"/>
                      <a:pt x="3898" y="3"/>
                    </a:cubicBezTo>
                    <a:cubicBezTo>
                      <a:pt x="3898" y="2"/>
                      <a:pt x="3899" y="1"/>
                      <a:pt x="3900" y="1"/>
                    </a:cubicBezTo>
                    <a:close/>
                    <a:moveTo>
                      <a:pt x="3908" y="1"/>
                    </a:moveTo>
                    <a:lnTo>
                      <a:pt x="3908" y="1"/>
                    </a:lnTo>
                    <a:cubicBezTo>
                      <a:pt x="3909" y="1"/>
                      <a:pt x="3910" y="2"/>
                      <a:pt x="3910" y="3"/>
                    </a:cubicBezTo>
                    <a:cubicBezTo>
                      <a:pt x="3910" y="4"/>
                      <a:pt x="3909" y="5"/>
                      <a:pt x="3908" y="5"/>
                    </a:cubicBezTo>
                    <a:lnTo>
                      <a:pt x="3908" y="5"/>
                    </a:lnTo>
                    <a:cubicBezTo>
                      <a:pt x="3907" y="5"/>
                      <a:pt x="3906" y="4"/>
                      <a:pt x="3906" y="3"/>
                    </a:cubicBezTo>
                    <a:cubicBezTo>
                      <a:pt x="3906" y="2"/>
                      <a:pt x="3907" y="1"/>
                      <a:pt x="3908" y="1"/>
                    </a:cubicBezTo>
                    <a:close/>
                    <a:moveTo>
                      <a:pt x="3916" y="1"/>
                    </a:moveTo>
                    <a:lnTo>
                      <a:pt x="3916" y="1"/>
                    </a:lnTo>
                    <a:cubicBezTo>
                      <a:pt x="3917" y="1"/>
                      <a:pt x="3918" y="2"/>
                      <a:pt x="3918" y="3"/>
                    </a:cubicBezTo>
                    <a:cubicBezTo>
                      <a:pt x="3918" y="4"/>
                      <a:pt x="3917" y="5"/>
                      <a:pt x="3916" y="5"/>
                    </a:cubicBezTo>
                    <a:lnTo>
                      <a:pt x="3916" y="5"/>
                    </a:lnTo>
                    <a:cubicBezTo>
                      <a:pt x="3915" y="5"/>
                      <a:pt x="3914" y="4"/>
                      <a:pt x="3914" y="3"/>
                    </a:cubicBezTo>
                    <a:cubicBezTo>
                      <a:pt x="3914" y="2"/>
                      <a:pt x="3915" y="1"/>
                      <a:pt x="3916" y="1"/>
                    </a:cubicBezTo>
                    <a:close/>
                    <a:moveTo>
                      <a:pt x="3924" y="1"/>
                    </a:moveTo>
                    <a:lnTo>
                      <a:pt x="3924" y="1"/>
                    </a:lnTo>
                    <a:cubicBezTo>
                      <a:pt x="3925" y="1"/>
                      <a:pt x="3926" y="2"/>
                      <a:pt x="3926" y="3"/>
                    </a:cubicBezTo>
                    <a:cubicBezTo>
                      <a:pt x="3926" y="4"/>
                      <a:pt x="3925" y="5"/>
                      <a:pt x="3924" y="5"/>
                    </a:cubicBezTo>
                    <a:lnTo>
                      <a:pt x="3924" y="5"/>
                    </a:lnTo>
                    <a:cubicBezTo>
                      <a:pt x="3923" y="5"/>
                      <a:pt x="3922" y="4"/>
                      <a:pt x="3922" y="3"/>
                    </a:cubicBezTo>
                    <a:cubicBezTo>
                      <a:pt x="3922" y="2"/>
                      <a:pt x="3923" y="1"/>
                      <a:pt x="3924" y="1"/>
                    </a:cubicBezTo>
                    <a:close/>
                    <a:moveTo>
                      <a:pt x="3932" y="1"/>
                    </a:moveTo>
                    <a:lnTo>
                      <a:pt x="3932" y="1"/>
                    </a:lnTo>
                    <a:cubicBezTo>
                      <a:pt x="3933" y="1"/>
                      <a:pt x="3934" y="2"/>
                      <a:pt x="3934" y="3"/>
                    </a:cubicBezTo>
                    <a:cubicBezTo>
                      <a:pt x="3934" y="4"/>
                      <a:pt x="3933" y="5"/>
                      <a:pt x="3932" y="5"/>
                    </a:cubicBezTo>
                    <a:lnTo>
                      <a:pt x="3932" y="5"/>
                    </a:lnTo>
                    <a:cubicBezTo>
                      <a:pt x="3931" y="5"/>
                      <a:pt x="3930" y="4"/>
                      <a:pt x="3930" y="3"/>
                    </a:cubicBezTo>
                    <a:cubicBezTo>
                      <a:pt x="3930" y="2"/>
                      <a:pt x="3931" y="1"/>
                      <a:pt x="3932" y="1"/>
                    </a:cubicBezTo>
                    <a:close/>
                    <a:moveTo>
                      <a:pt x="3940" y="1"/>
                    </a:moveTo>
                    <a:lnTo>
                      <a:pt x="3940" y="1"/>
                    </a:lnTo>
                    <a:cubicBezTo>
                      <a:pt x="3941" y="1"/>
                      <a:pt x="3942" y="2"/>
                      <a:pt x="3942" y="3"/>
                    </a:cubicBezTo>
                    <a:cubicBezTo>
                      <a:pt x="3942" y="4"/>
                      <a:pt x="3941" y="5"/>
                      <a:pt x="3940" y="5"/>
                    </a:cubicBezTo>
                    <a:lnTo>
                      <a:pt x="3940" y="5"/>
                    </a:lnTo>
                    <a:cubicBezTo>
                      <a:pt x="3939" y="5"/>
                      <a:pt x="3938" y="4"/>
                      <a:pt x="3938" y="3"/>
                    </a:cubicBezTo>
                    <a:cubicBezTo>
                      <a:pt x="3938" y="2"/>
                      <a:pt x="3939" y="1"/>
                      <a:pt x="3940" y="1"/>
                    </a:cubicBezTo>
                    <a:close/>
                    <a:moveTo>
                      <a:pt x="3948" y="1"/>
                    </a:moveTo>
                    <a:lnTo>
                      <a:pt x="3948" y="1"/>
                    </a:lnTo>
                    <a:cubicBezTo>
                      <a:pt x="3949" y="1"/>
                      <a:pt x="3950" y="2"/>
                      <a:pt x="3950" y="3"/>
                    </a:cubicBezTo>
                    <a:cubicBezTo>
                      <a:pt x="3950" y="4"/>
                      <a:pt x="3949" y="5"/>
                      <a:pt x="3948" y="5"/>
                    </a:cubicBezTo>
                    <a:lnTo>
                      <a:pt x="3948" y="5"/>
                    </a:lnTo>
                    <a:cubicBezTo>
                      <a:pt x="3947" y="5"/>
                      <a:pt x="3946" y="4"/>
                      <a:pt x="3946" y="3"/>
                    </a:cubicBezTo>
                    <a:cubicBezTo>
                      <a:pt x="3946" y="2"/>
                      <a:pt x="3947" y="1"/>
                      <a:pt x="3948" y="1"/>
                    </a:cubicBezTo>
                    <a:close/>
                    <a:moveTo>
                      <a:pt x="3956" y="1"/>
                    </a:moveTo>
                    <a:lnTo>
                      <a:pt x="3956" y="1"/>
                    </a:lnTo>
                    <a:cubicBezTo>
                      <a:pt x="3957" y="1"/>
                      <a:pt x="3958" y="2"/>
                      <a:pt x="3958" y="3"/>
                    </a:cubicBezTo>
                    <a:cubicBezTo>
                      <a:pt x="3958" y="4"/>
                      <a:pt x="3957" y="5"/>
                      <a:pt x="3956" y="5"/>
                    </a:cubicBezTo>
                    <a:lnTo>
                      <a:pt x="3956" y="5"/>
                    </a:lnTo>
                    <a:cubicBezTo>
                      <a:pt x="3955" y="5"/>
                      <a:pt x="3954" y="4"/>
                      <a:pt x="3954" y="3"/>
                    </a:cubicBezTo>
                    <a:cubicBezTo>
                      <a:pt x="3954" y="2"/>
                      <a:pt x="3955" y="1"/>
                      <a:pt x="3956" y="1"/>
                    </a:cubicBezTo>
                    <a:close/>
                    <a:moveTo>
                      <a:pt x="3964" y="1"/>
                    </a:moveTo>
                    <a:lnTo>
                      <a:pt x="3964" y="1"/>
                    </a:lnTo>
                    <a:cubicBezTo>
                      <a:pt x="3965" y="1"/>
                      <a:pt x="3966" y="2"/>
                      <a:pt x="3966" y="3"/>
                    </a:cubicBezTo>
                    <a:cubicBezTo>
                      <a:pt x="3966" y="4"/>
                      <a:pt x="3965" y="5"/>
                      <a:pt x="3964" y="5"/>
                    </a:cubicBezTo>
                    <a:lnTo>
                      <a:pt x="3964" y="5"/>
                    </a:lnTo>
                    <a:cubicBezTo>
                      <a:pt x="3963" y="5"/>
                      <a:pt x="3962" y="4"/>
                      <a:pt x="3962" y="3"/>
                    </a:cubicBezTo>
                    <a:cubicBezTo>
                      <a:pt x="3962" y="2"/>
                      <a:pt x="3963" y="1"/>
                      <a:pt x="3964" y="1"/>
                    </a:cubicBezTo>
                    <a:close/>
                    <a:moveTo>
                      <a:pt x="3972" y="1"/>
                    </a:moveTo>
                    <a:lnTo>
                      <a:pt x="3972" y="1"/>
                    </a:lnTo>
                    <a:cubicBezTo>
                      <a:pt x="3973" y="1"/>
                      <a:pt x="3974" y="2"/>
                      <a:pt x="3974" y="3"/>
                    </a:cubicBezTo>
                    <a:cubicBezTo>
                      <a:pt x="3974" y="4"/>
                      <a:pt x="3973" y="5"/>
                      <a:pt x="3972" y="5"/>
                    </a:cubicBezTo>
                    <a:lnTo>
                      <a:pt x="3972" y="5"/>
                    </a:lnTo>
                    <a:cubicBezTo>
                      <a:pt x="3971" y="5"/>
                      <a:pt x="3970" y="4"/>
                      <a:pt x="3970" y="3"/>
                    </a:cubicBezTo>
                    <a:cubicBezTo>
                      <a:pt x="3970" y="2"/>
                      <a:pt x="3971" y="1"/>
                      <a:pt x="3972" y="1"/>
                    </a:cubicBezTo>
                    <a:close/>
                    <a:moveTo>
                      <a:pt x="3980" y="1"/>
                    </a:moveTo>
                    <a:lnTo>
                      <a:pt x="3980" y="1"/>
                    </a:lnTo>
                    <a:cubicBezTo>
                      <a:pt x="3981" y="1"/>
                      <a:pt x="3982" y="2"/>
                      <a:pt x="3982" y="3"/>
                    </a:cubicBezTo>
                    <a:cubicBezTo>
                      <a:pt x="3982" y="4"/>
                      <a:pt x="3981" y="5"/>
                      <a:pt x="3980" y="5"/>
                    </a:cubicBezTo>
                    <a:lnTo>
                      <a:pt x="3980" y="5"/>
                    </a:lnTo>
                    <a:cubicBezTo>
                      <a:pt x="3979" y="5"/>
                      <a:pt x="3978" y="4"/>
                      <a:pt x="3978" y="3"/>
                    </a:cubicBezTo>
                    <a:cubicBezTo>
                      <a:pt x="3978" y="2"/>
                      <a:pt x="3979" y="1"/>
                      <a:pt x="3980" y="1"/>
                    </a:cubicBezTo>
                    <a:close/>
                    <a:moveTo>
                      <a:pt x="3988" y="1"/>
                    </a:moveTo>
                    <a:lnTo>
                      <a:pt x="3988" y="1"/>
                    </a:lnTo>
                    <a:cubicBezTo>
                      <a:pt x="3989" y="1"/>
                      <a:pt x="3990" y="2"/>
                      <a:pt x="3990" y="3"/>
                    </a:cubicBezTo>
                    <a:cubicBezTo>
                      <a:pt x="3990" y="4"/>
                      <a:pt x="3989" y="5"/>
                      <a:pt x="3988" y="5"/>
                    </a:cubicBezTo>
                    <a:lnTo>
                      <a:pt x="3988" y="5"/>
                    </a:lnTo>
                    <a:cubicBezTo>
                      <a:pt x="3987" y="5"/>
                      <a:pt x="3986" y="4"/>
                      <a:pt x="3986" y="3"/>
                    </a:cubicBezTo>
                    <a:cubicBezTo>
                      <a:pt x="3986" y="2"/>
                      <a:pt x="3987" y="1"/>
                      <a:pt x="3988" y="1"/>
                    </a:cubicBezTo>
                    <a:close/>
                    <a:moveTo>
                      <a:pt x="3996" y="1"/>
                    </a:moveTo>
                    <a:lnTo>
                      <a:pt x="3996" y="1"/>
                    </a:lnTo>
                    <a:cubicBezTo>
                      <a:pt x="3997" y="1"/>
                      <a:pt x="3998" y="2"/>
                      <a:pt x="3998" y="3"/>
                    </a:cubicBezTo>
                    <a:cubicBezTo>
                      <a:pt x="3998" y="4"/>
                      <a:pt x="3997" y="5"/>
                      <a:pt x="3996" y="5"/>
                    </a:cubicBezTo>
                    <a:lnTo>
                      <a:pt x="3996" y="5"/>
                    </a:lnTo>
                    <a:cubicBezTo>
                      <a:pt x="3995" y="5"/>
                      <a:pt x="3994" y="4"/>
                      <a:pt x="3994" y="3"/>
                    </a:cubicBezTo>
                    <a:cubicBezTo>
                      <a:pt x="3994" y="2"/>
                      <a:pt x="3995" y="1"/>
                      <a:pt x="3996" y="1"/>
                    </a:cubicBezTo>
                    <a:close/>
                    <a:moveTo>
                      <a:pt x="4004" y="1"/>
                    </a:moveTo>
                    <a:lnTo>
                      <a:pt x="4004" y="1"/>
                    </a:lnTo>
                    <a:cubicBezTo>
                      <a:pt x="4005" y="1"/>
                      <a:pt x="4006" y="2"/>
                      <a:pt x="4006" y="3"/>
                    </a:cubicBezTo>
                    <a:cubicBezTo>
                      <a:pt x="4006" y="4"/>
                      <a:pt x="4005" y="5"/>
                      <a:pt x="4004" y="5"/>
                    </a:cubicBezTo>
                    <a:lnTo>
                      <a:pt x="4004" y="5"/>
                    </a:lnTo>
                    <a:cubicBezTo>
                      <a:pt x="4003" y="5"/>
                      <a:pt x="4002" y="4"/>
                      <a:pt x="4002" y="3"/>
                    </a:cubicBezTo>
                    <a:cubicBezTo>
                      <a:pt x="4002" y="2"/>
                      <a:pt x="4003" y="1"/>
                      <a:pt x="4004" y="1"/>
                    </a:cubicBezTo>
                    <a:close/>
                    <a:moveTo>
                      <a:pt x="4012" y="1"/>
                    </a:moveTo>
                    <a:lnTo>
                      <a:pt x="4012" y="1"/>
                    </a:lnTo>
                    <a:cubicBezTo>
                      <a:pt x="4013" y="1"/>
                      <a:pt x="4014" y="2"/>
                      <a:pt x="4014" y="3"/>
                    </a:cubicBezTo>
                    <a:cubicBezTo>
                      <a:pt x="4014" y="4"/>
                      <a:pt x="4013" y="5"/>
                      <a:pt x="4012" y="5"/>
                    </a:cubicBezTo>
                    <a:lnTo>
                      <a:pt x="4012" y="5"/>
                    </a:lnTo>
                    <a:cubicBezTo>
                      <a:pt x="4011" y="5"/>
                      <a:pt x="4010" y="4"/>
                      <a:pt x="4010" y="3"/>
                    </a:cubicBezTo>
                    <a:cubicBezTo>
                      <a:pt x="4010" y="2"/>
                      <a:pt x="4011" y="1"/>
                      <a:pt x="4012" y="1"/>
                    </a:cubicBezTo>
                    <a:close/>
                    <a:moveTo>
                      <a:pt x="4020" y="1"/>
                    </a:moveTo>
                    <a:lnTo>
                      <a:pt x="4020" y="1"/>
                    </a:lnTo>
                    <a:cubicBezTo>
                      <a:pt x="4021" y="1"/>
                      <a:pt x="4022" y="2"/>
                      <a:pt x="4022" y="3"/>
                    </a:cubicBezTo>
                    <a:cubicBezTo>
                      <a:pt x="4022" y="4"/>
                      <a:pt x="4021" y="5"/>
                      <a:pt x="4020" y="5"/>
                    </a:cubicBezTo>
                    <a:lnTo>
                      <a:pt x="4020" y="5"/>
                    </a:lnTo>
                    <a:cubicBezTo>
                      <a:pt x="4019" y="5"/>
                      <a:pt x="4018" y="4"/>
                      <a:pt x="4018" y="3"/>
                    </a:cubicBezTo>
                    <a:cubicBezTo>
                      <a:pt x="4018" y="2"/>
                      <a:pt x="4019" y="1"/>
                      <a:pt x="4020" y="1"/>
                    </a:cubicBezTo>
                    <a:close/>
                    <a:moveTo>
                      <a:pt x="4028" y="1"/>
                    </a:moveTo>
                    <a:lnTo>
                      <a:pt x="4028" y="1"/>
                    </a:lnTo>
                    <a:cubicBezTo>
                      <a:pt x="4029" y="1"/>
                      <a:pt x="4030" y="2"/>
                      <a:pt x="4030" y="3"/>
                    </a:cubicBezTo>
                    <a:cubicBezTo>
                      <a:pt x="4030" y="4"/>
                      <a:pt x="4029" y="5"/>
                      <a:pt x="4028" y="5"/>
                    </a:cubicBezTo>
                    <a:lnTo>
                      <a:pt x="4028" y="5"/>
                    </a:lnTo>
                    <a:cubicBezTo>
                      <a:pt x="4027" y="5"/>
                      <a:pt x="4026" y="4"/>
                      <a:pt x="4026" y="3"/>
                    </a:cubicBezTo>
                    <a:cubicBezTo>
                      <a:pt x="4026" y="2"/>
                      <a:pt x="4027" y="1"/>
                      <a:pt x="4028" y="1"/>
                    </a:cubicBezTo>
                    <a:close/>
                    <a:moveTo>
                      <a:pt x="4036" y="1"/>
                    </a:moveTo>
                    <a:lnTo>
                      <a:pt x="4036" y="1"/>
                    </a:lnTo>
                    <a:cubicBezTo>
                      <a:pt x="4037" y="1"/>
                      <a:pt x="4038" y="2"/>
                      <a:pt x="4038" y="3"/>
                    </a:cubicBezTo>
                    <a:cubicBezTo>
                      <a:pt x="4038" y="4"/>
                      <a:pt x="4037" y="5"/>
                      <a:pt x="4036" y="5"/>
                    </a:cubicBezTo>
                    <a:lnTo>
                      <a:pt x="4036" y="5"/>
                    </a:lnTo>
                    <a:cubicBezTo>
                      <a:pt x="4035" y="5"/>
                      <a:pt x="4034" y="4"/>
                      <a:pt x="4034" y="3"/>
                    </a:cubicBezTo>
                    <a:cubicBezTo>
                      <a:pt x="4034" y="2"/>
                      <a:pt x="4035" y="1"/>
                      <a:pt x="4036" y="1"/>
                    </a:cubicBezTo>
                    <a:close/>
                    <a:moveTo>
                      <a:pt x="4044" y="1"/>
                    </a:moveTo>
                    <a:lnTo>
                      <a:pt x="4044" y="1"/>
                    </a:lnTo>
                    <a:cubicBezTo>
                      <a:pt x="4045" y="1"/>
                      <a:pt x="4046" y="2"/>
                      <a:pt x="4046" y="3"/>
                    </a:cubicBezTo>
                    <a:cubicBezTo>
                      <a:pt x="4046" y="4"/>
                      <a:pt x="4045" y="5"/>
                      <a:pt x="4044" y="5"/>
                    </a:cubicBezTo>
                    <a:lnTo>
                      <a:pt x="4044" y="5"/>
                    </a:lnTo>
                    <a:cubicBezTo>
                      <a:pt x="4043" y="5"/>
                      <a:pt x="4042" y="4"/>
                      <a:pt x="4042" y="3"/>
                    </a:cubicBezTo>
                    <a:cubicBezTo>
                      <a:pt x="4042" y="2"/>
                      <a:pt x="4043" y="1"/>
                      <a:pt x="4044" y="1"/>
                    </a:cubicBezTo>
                    <a:close/>
                    <a:moveTo>
                      <a:pt x="4052" y="1"/>
                    </a:moveTo>
                    <a:lnTo>
                      <a:pt x="4052" y="1"/>
                    </a:lnTo>
                    <a:cubicBezTo>
                      <a:pt x="4053" y="1"/>
                      <a:pt x="4054" y="2"/>
                      <a:pt x="4054" y="3"/>
                    </a:cubicBezTo>
                    <a:cubicBezTo>
                      <a:pt x="4054" y="4"/>
                      <a:pt x="4053" y="5"/>
                      <a:pt x="4052" y="5"/>
                    </a:cubicBezTo>
                    <a:lnTo>
                      <a:pt x="4052" y="5"/>
                    </a:lnTo>
                    <a:cubicBezTo>
                      <a:pt x="4051" y="5"/>
                      <a:pt x="4050" y="4"/>
                      <a:pt x="4050" y="3"/>
                    </a:cubicBezTo>
                    <a:cubicBezTo>
                      <a:pt x="4050" y="2"/>
                      <a:pt x="4051" y="1"/>
                      <a:pt x="4052" y="1"/>
                    </a:cubicBezTo>
                    <a:close/>
                    <a:moveTo>
                      <a:pt x="4060" y="1"/>
                    </a:moveTo>
                    <a:lnTo>
                      <a:pt x="4060" y="1"/>
                    </a:lnTo>
                    <a:cubicBezTo>
                      <a:pt x="4061" y="1"/>
                      <a:pt x="4062" y="2"/>
                      <a:pt x="4062" y="3"/>
                    </a:cubicBezTo>
                    <a:cubicBezTo>
                      <a:pt x="4062" y="4"/>
                      <a:pt x="4061" y="5"/>
                      <a:pt x="4060" y="5"/>
                    </a:cubicBezTo>
                    <a:lnTo>
                      <a:pt x="4060" y="5"/>
                    </a:lnTo>
                    <a:cubicBezTo>
                      <a:pt x="4059" y="5"/>
                      <a:pt x="4058" y="4"/>
                      <a:pt x="4058" y="3"/>
                    </a:cubicBezTo>
                    <a:cubicBezTo>
                      <a:pt x="4058" y="2"/>
                      <a:pt x="4059" y="1"/>
                      <a:pt x="4060" y="1"/>
                    </a:cubicBezTo>
                    <a:close/>
                    <a:moveTo>
                      <a:pt x="4068" y="1"/>
                    </a:moveTo>
                    <a:lnTo>
                      <a:pt x="4068" y="1"/>
                    </a:lnTo>
                    <a:cubicBezTo>
                      <a:pt x="4069" y="1"/>
                      <a:pt x="4070" y="2"/>
                      <a:pt x="4070" y="3"/>
                    </a:cubicBezTo>
                    <a:cubicBezTo>
                      <a:pt x="4070" y="4"/>
                      <a:pt x="4069" y="5"/>
                      <a:pt x="4068" y="5"/>
                    </a:cubicBezTo>
                    <a:lnTo>
                      <a:pt x="4068" y="5"/>
                    </a:lnTo>
                    <a:cubicBezTo>
                      <a:pt x="4067" y="5"/>
                      <a:pt x="4066" y="4"/>
                      <a:pt x="4066" y="3"/>
                    </a:cubicBezTo>
                    <a:cubicBezTo>
                      <a:pt x="4066" y="2"/>
                      <a:pt x="4067" y="1"/>
                      <a:pt x="4068" y="1"/>
                    </a:cubicBezTo>
                    <a:close/>
                    <a:moveTo>
                      <a:pt x="4076" y="1"/>
                    </a:moveTo>
                    <a:lnTo>
                      <a:pt x="4076" y="1"/>
                    </a:lnTo>
                    <a:cubicBezTo>
                      <a:pt x="4077" y="1"/>
                      <a:pt x="4078" y="2"/>
                      <a:pt x="4078" y="3"/>
                    </a:cubicBezTo>
                    <a:cubicBezTo>
                      <a:pt x="4078" y="4"/>
                      <a:pt x="4077" y="5"/>
                      <a:pt x="4076" y="5"/>
                    </a:cubicBezTo>
                    <a:lnTo>
                      <a:pt x="4076" y="5"/>
                    </a:lnTo>
                    <a:cubicBezTo>
                      <a:pt x="4075" y="5"/>
                      <a:pt x="4074" y="4"/>
                      <a:pt x="4074" y="3"/>
                    </a:cubicBezTo>
                    <a:cubicBezTo>
                      <a:pt x="4074" y="2"/>
                      <a:pt x="4075" y="1"/>
                      <a:pt x="4076" y="1"/>
                    </a:cubicBezTo>
                    <a:close/>
                    <a:moveTo>
                      <a:pt x="4084" y="1"/>
                    </a:moveTo>
                    <a:lnTo>
                      <a:pt x="4084" y="1"/>
                    </a:lnTo>
                    <a:cubicBezTo>
                      <a:pt x="4085" y="1"/>
                      <a:pt x="4086" y="2"/>
                      <a:pt x="4086" y="3"/>
                    </a:cubicBezTo>
                    <a:cubicBezTo>
                      <a:pt x="4086" y="4"/>
                      <a:pt x="4085" y="5"/>
                      <a:pt x="4084" y="5"/>
                    </a:cubicBezTo>
                    <a:lnTo>
                      <a:pt x="4084" y="5"/>
                    </a:lnTo>
                    <a:cubicBezTo>
                      <a:pt x="4083" y="5"/>
                      <a:pt x="4082" y="4"/>
                      <a:pt x="4082" y="3"/>
                    </a:cubicBezTo>
                    <a:cubicBezTo>
                      <a:pt x="4082" y="2"/>
                      <a:pt x="4083" y="1"/>
                      <a:pt x="4084" y="1"/>
                    </a:cubicBezTo>
                    <a:close/>
                    <a:moveTo>
                      <a:pt x="4092" y="1"/>
                    </a:moveTo>
                    <a:lnTo>
                      <a:pt x="4092" y="1"/>
                    </a:lnTo>
                    <a:cubicBezTo>
                      <a:pt x="4093" y="1"/>
                      <a:pt x="4094" y="2"/>
                      <a:pt x="4094" y="3"/>
                    </a:cubicBezTo>
                    <a:cubicBezTo>
                      <a:pt x="4094" y="4"/>
                      <a:pt x="4093" y="5"/>
                      <a:pt x="4092" y="5"/>
                    </a:cubicBezTo>
                    <a:lnTo>
                      <a:pt x="4092" y="5"/>
                    </a:lnTo>
                    <a:cubicBezTo>
                      <a:pt x="4091" y="5"/>
                      <a:pt x="4090" y="4"/>
                      <a:pt x="4090" y="3"/>
                    </a:cubicBezTo>
                    <a:cubicBezTo>
                      <a:pt x="4090" y="2"/>
                      <a:pt x="4091" y="1"/>
                      <a:pt x="4092" y="1"/>
                    </a:cubicBezTo>
                    <a:close/>
                    <a:moveTo>
                      <a:pt x="4100" y="1"/>
                    </a:moveTo>
                    <a:lnTo>
                      <a:pt x="4100" y="1"/>
                    </a:lnTo>
                    <a:cubicBezTo>
                      <a:pt x="4101" y="1"/>
                      <a:pt x="4102" y="2"/>
                      <a:pt x="4102" y="3"/>
                    </a:cubicBezTo>
                    <a:cubicBezTo>
                      <a:pt x="4102" y="4"/>
                      <a:pt x="4101" y="5"/>
                      <a:pt x="4100" y="5"/>
                    </a:cubicBezTo>
                    <a:lnTo>
                      <a:pt x="4100" y="5"/>
                    </a:lnTo>
                    <a:cubicBezTo>
                      <a:pt x="4099" y="5"/>
                      <a:pt x="4098" y="4"/>
                      <a:pt x="4098" y="3"/>
                    </a:cubicBezTo>
                    <a:cubicBezTo>
                      <a:pt x="4098" y="2"/>
                      <a:pt x="4099" y="1"/>
                      <a:pt x="4100" y="1"/>
                    </a:cubicBezTo>
                    <a:close/>
                    <a:moveTo>
                      <a:pt x="4108" y="1"/>
                    </a:moveTo>
                    <a:lnTo>
                      <a:pt x="4108" y="1"/>
                    </a:lnTo>
                    <a:cubicBezTo>
                      <a:pt x="4109" y="1"/>
                      <a:pt x="4110" y="2"/>
                      <a:pt x="4110" y="3"/>
                    </a:cubicBezTo>
                    <a:cubicBezTo>
                      <a:pt x="4110" y="4"/>
                      <a:pt x="4109" y="5"/>
                      <a:pt x="4108" y="5"/>
                    </a:cubicBezTo>
                    <a:lnTo>
                      <a:pt x="4108" y="5"/>
                    </a:lnTo>
                    <a:cubicBezTo>
                      <a:pt x="4107" y="5"/>
                      <a:pt x="4106" y="4"/>
                      <a:pt x="4106" y="3"/>
                    </a:cubicBezTo>
                    <a:cubicBezTo>
                      <a:pt x="4106" y="2"/>
                      <a:pt x="4107" y="1"/>
                      <a:pt x="4108" y="1"/>
                    </a:cubicBezTo>
                    <a:close/>
                    <a:moveTo>
                      <a:pt x="4116" y="1"/>
                    </a:moveTo>
                    <a:lnTo>
                      <a:pt x="4116" y="1"/>
                    </a:lnTo>
                    <a:cubicBezTo>
                      <a:pt x="4117" y="1"/>
                      <a:pt x="4118" y="2"/>
                      <a:pt x="4118" y="3"/>
                    </a:cubicBezTo>
                    <a:cubicBezTo>
                      <a:pt x="4118" y="4"/>
                      <a:pt x="4117" y="5"/>
                      <a:pt x="4116" y="5"/>
                    </a:cubicBezTo>
                    <a:lnTo>
                      <a:pt x="4116" y="5"/>
                    </a:lnTo>
                    <a:cubicBezTo>
                      <a:pt x="4115" y="5"/>
                      <a:pt x="4114" y="4"/>
                      <a:pt x="4114" y="3"/>
                    </a:cubicBezTo>
                    <a:cubicBezTo>
                      <a:pt x="4114" y="2"/>
                      <a:pt x="4115" y="1"/>
                      <a:pt x="4116" y="1"/>
                    </a:cubicBezTo>
                    <a:close/>
                    <a:moveTo>
                      <a:pt x="4124" y="1"/>
                    </a:moveTo>
                    <a:lnTo>
                      <a:pt x="4124" y="1"/>
                    </a:lnTo>
                    <a:cubicBezTo>
                      <a:pt x="4125" y="1"/>
                      <a:pt x="4126" y="2"/>
                      <a:pt x="4126" y="3"/>
                    </a:cubicBezTo>
                    <a:cubicBezTo>
                      <a:pt x="4126" y="4"/>
                      <a:pt x="4125" y="5"/>
                      <a:pt x="4124" y="5"/>
                    </a:cubicBezTo>
                    <a:lnTo>
                      <a:pt x="4124" y="5"/>
                    </a:lnTo>
                    <a:cubicBezTo>
                      <a:pt x="4123" y="5"/>
                      <a:pt x="4122" y="4"/>
                      <a:pt x="4122" y="3"/>
                    </a:cubicBezTo>
                    <a:cubicBezTo>
                      <a:pt x="4122" y="2"/>
                      <a:pt x="4123" y="1"/>
                      <a:pt x="4124" y="1"/>
                    </a:cubicBezTo>
                    <a:close/>
                    <a:moveTo>
                      <a:pt x="4132" y="1"/>
                    </a:moveTo>
                    <a:lnTo>
                      <a:pt x="4132" y="1"/>
                    </a:lnTo>
                    <a:cubicBezTo>
                      <a:pt x="4133" y="1"/>
                      <a:pt x="4134" y="2"/>
                      <a:pt x="4134" y="3"/>
                    </a:cubicBezTo>
                    <a:cubicBezTo>
                      <a:pt x="4134" y="4"/>
                      <a:pt x="4133" y="5"/>
                      <a:pt x="4132" y="5"/>
                    </a:cubicBezTo>
                    <a:lnTo>
                      <a:pt x="4132" y="5"/>
                    </a:lnTo>
                    <a:cubicBezTo>
                      <a:pt x="4131" y="5"/>
                      <a:pt x="4130" y="4"/>
                      <a:pt x="4130" y="3"/>
                    </a:cubicBezTo>
                    <a:cubicBezTo>
                      <a:pt x="4130" y="2"/>
                      <a:pt x="4131" y="1"/>
                      <a:pt x="4132" y="1"/>
                    </a:cubicBezTo>
                    <a:close/>
                    <a:moveTo>
                      <a:pt x="4140" y="1"/>
                    </a:moveTo>
                    <a:lnTo>
                      <a:pt x="4140" y="1"/>
                    </a:lnTo>
                    <a:cubicBezTo>
                      <a:pt x="4141" y="1"/>
                      <a:pt x="4142" y="2"/>
                      <a:pt x="4142" y="3"/>
                    </a:cubicBezTo>
                    <a:cubicBezTo>
                      <a:pt x="4142" y="4"/>
                      <a:pt x="4141" y="5"/>
                      <a:pt x="4140" y="5"/>
                    </a:cubicBezTo>
                    <a:lnTo>
                      <a:pt x="4140" y="5"/>
                    </a:lnTo>
                    <a:cubicBezTo>
                      <a:pt x="4139" y="5"/>
                      <a:pt x="4138" y="4"/>
                      <a:pt x="4138" y="3"/>
                    </a:cubicBezTo>
                    <a:cubicBezTo>
                      <a:pt x="4138" y="2"/>
                      <a:pt x="4139" y="1"/>
                      <a:pt x="4140" y="1"/>
                    </a:cubicBezTo>
                    <a:close/>
                    <a:moveTo>
                      <a:pt x="4148" y="1"/>
                    </a:moveTo>
                    <a:lnTo>
                      <a:pt x="4148" y="1"/>
                    </a:lnTo>
                    <a:cubicBezTo>
                      <a:pt x="4149" y="1"/>
                      <a:pt x="4150" y="2"/>
                      <a:pt x="4150" y="3"/>
                    </a:cubicBezTo>
                    <a:cubicBezTo>
                      <a:pt x="4150" y="4"/>
                      <a:pt x="4149" y="5"/>
                      <a:pt x="4148" y="5"/>
                    </a:cubicBezTo>
                    <a:lnTo>
                      <a:pt x="4148" y="5"/>
                    </a:lnTo>
                    <a:cubicBezTo>
                      <a:pt x="4147" y="5"/>
                      <a:pt x="4146" y="4"/>
                      <a:pt x="4146" y="3"/>
                    </a:cubicBezTo>
                    <a:cubicBezTo>
                      <a:pt x="4146" y="2"/>
                      <a:pt x="4147" y="1"/>
                      <a:pt x="4148" y="1"/>
                    </a:cubicBezTo>
                    <a:close/>
                    <a:moveTo>
                      <a:pt x="4156" y="1"/>
                    </a:moveTo>
                    <a:lnTo>
                      <a:pt x="4156" y="1"/>
                    </a:lnTo>
                    <a:cubicBezTo>
                      <a:pt x="4157" y="1"/>
                      <a:pt x="4158" y="2"/>
                      <a:pt x="4158" y="3"/>
                    </a:cubicBezTo>
                    <a:cubicBezTo>
                      <a:pt x="4158" y="4"/>
                      <a:pt x="4157" y="5"/>
                      <a:pt x="4156" y="5"/>
                    </a:cubicBezTo>
                    <a:lnTo>
                      <a:pt x="4156" y="5"/>
                    </a:lnTo>
                    <a:cubicBezTo>
                      <a:pt x="4155" y="5"/>
                      <a:pt x="4154" y="4"/>
                      <a:pt x="4154" y="3"/>
                    </a:cubicBezTo>
                    <a:cubicBezTo>
                      <a:pt x="4154" y="2"/>
                      <a:pt x="4155" y="1"/>
                      <a:pt x="4156" y="1"/>
                    </a:cubicBezTo>
                    <a:close/>
                    <a:moveTo>
                      <a:pt x="4164" y="1"/>
                    </a:moveTo>
                    <a:lnTo>
                      <a:pt x="4164" y="1"/>
                    </a:lnTo>
                    <a:cubicBezTo>
                      <a:pt x="4165" y="1"/>
                      <a:pt x="4166" y="2"/>
                      <a:pt x="4166" y="3"/>
                    </a:cubicBezTo>
                    <a:cubicBezTo>
                      <a:pt x="4166" y="4"/>
                      <a:pt x="4165" y="5"/>
                      <a:pt x="4164" y="5"/>
                    </a:cubicBezTo>
                    <a:lnTo>
                      <a:pt x="4164" y="5"/>
                    </a:lnTo>
                    <a:cubicBezTo>
                      <a:pt x="4163" y="5"/>
                      <a:pt x="4162" y="4"/>
                      <a:pt x="4162" y="3"/>
                    </a:cubicBezTo>
                    <a:cubicBezTo>
                      <a:pt x="4162" y="2"/>
                      <a:pt x="4163" y="1"/>
                      <a:pt x="4164" y="1"/>
                    </a:cubicBezTo>
                    <a:close/>
                    <a:moveTo>
                      <a:pt x="4172" y="1"/>
                    </a:moveTo>
                    <a:lnTo>
                      <a:pt x="4172" y="1"/>
                    </a:lnTo>
                    <a:cubicBezTo>
                      <a:pt x="4173" y="1"/>
                      <a:pt x="4174" y="2"/>
                      <a:pt x="4174" y="3"/>
                    </a:cubicBezTo>
                    <a:cubicBezTo>
                      <a:pt x="4174" y="4"/>
                      <a:pt x="4173" y="5"/>
                      <a:pt x="4172" y="5"/>
                    </a:cubicBezTo>
                    <a:lnTo>
                      <a:pt x="4172" y="5"/>
                    </a:lnTo>
                    <a:cubicBezTo>
                      <a:pt x="4171" y="5"/>
                      <a:pt x="4170" y="4"/>
                      <a:pt x="4170" y="3"/>
                    </a:cubicBezTo>
                    <a:cubicBezTo>
                      <a:pt x="4170" y="2"/>
                      <a:pt x="4171" y="1"/>
                      <a:pt x="4172" y="1"/>
                    </a:cubicBezTo>
                    <a:close/>
                    <a:moveTo>
                      <a:pt x="4180" y="1"/>
                    </a:moveTo>
                    <a:lnTo>
                      <a:pt x="4180" y="1"/>
                    </a:lnTo>
                    <a:cubicBezTo>
                      <a:pt x="4181" y="1"/>
                      <a:pt x="4182" y="2"/>
                      <a:pt x="4182" y="3"/>
                    </a:cubicBezTo>
                    <a:cubicBezTo>
                      <a:pt x="4182" y="4"/>
                      <a:pt x="4181" y="5"/>
                      <a:pt x="4180" y="5"/>
                    </a:cubicBezTo>
                    <a:lnTo>
                      <a:pt x="4180" y="5"/>
                    </a:lnTo>
                    <a:cubicBezTo>
                      <a:pt x="4179" y="5"/>
                      <a:pt x="4178" y="4"/>
                      <a:pt x="4178" y="3"/>
                    </a:cubicBezTo>
                    <a:cubicBezTo>
                      <a:pt x="4178" y="2"/>
                      <a:pt x="4179" y="1"/>
                      <a:pt x="4180" y="1"/>
                    </a:cubicBezTo>
                    <a:close/>
                    <a:moveTo>
                      <a:pt x="4188" y="1"/>
                    </a:moveTo>
                    <a:lnTo>
                      <a:pt x="4188" y="1"/>
                    </a:lnTo>
                    <a:cubicBezTo>
                      <a:pt x="4189" y="1"/>
                      <a:pt x="4190" y="2"/>
                      <a:pt x="4190" y="3"/>
                    </a:cubicBezTo>
                    <a:cubicBezTo>
                      <a:pt x="4190" y="4"/>
                      <a:pt x="4189" y="5"/>
                      <a:pt x="4188" y="5"/>
                    </a:cubicBezTo>
                    <a:lnTo>
                      <a:pt x="4188" y="5"/>
                    </a:lnTo>
                    <a:cubicBezTo>
                      <a:pt x="4187" y="5"/>
                      <a:pt x="4186" y="4"/>
                      <a:pt x="4186" y="3"/>
                    </a:cubicBezTo>
                    <a:cubicBezTo>
                      <a:pt x="4186" y="2"/>
                      <a:pt x="4187" y="1"/>
                      <a:pt x="4188" y="1"/>
                    </a:cubicBezTo>
                    <a:close/>
                    <a:moveTo>
                      <a:pt x="4196" y="1"/>
                    </a:moveTo>
                    <a:lnTo>
                      <a:pt x="4196" y="1"/>
                    </a:lnTo>
                    <a:cubicBezTo>
                      <a:pt x="4197" y="1"/>
                      <a:pt x="4198" y="2"/>
                      <a:pt x="4198" y="3"/>
                    </a:cubicBezTo>
                    <a:cubicBezTo>
                      <a:pt x="4198" y="4"/>
                      <a:pt x="4197" y="5"/>
                      <a:pt x="4196" y="5"/>
                    </a:cubicBezTo>
                    <a:lnTo>
                      <a:pt x="4196" y="5"/>
                    </a:lnTo>
                    <a:cubicBezTo>
                      <a:pt x="4195" y="5"/>
                      <a:pt x="4194" y="4"/>
                      <a:pt x="4194" y="3"/>
                    </a:cubicBezTo>
                    <a:cubicBezTo>
                      <a:pt x="4194" y="2"/>
                      <a:pt x="4195" y="1"/>
                      <a:pt x="4196" y="1"/>
                    </a:cubicBezTo>
                    <a:close/>
                    <a:moveTo>
                      <a:pt x="4204" y="1"/>
                    </a:moveTo>
                    <a:lnTo>
                      <a:pt x="4204" y="1"/>
                    </a:lnTo>
                    <a:cubicBezTo>
                      <a:pt x="4205" y="1"/>
                      <a:pt x="4206" y="2"/>
                      <a:pt x="4206" y="3"/>
                    </a:cubicBezTo>
                    <a:cubicBezTo>
                      <a:pt x="4206" y="4"/>
                      <a:pt x="4205" y="5"/>
                      <a:pt x="4204" y="5"/>
                    </a:cubicBezTo>
                    <a:lnTo>
                      <a:pt x="4204" y="5"/>
                    </a:lnTo>
                    <a:cubicBezTo>
                      <a:pt x="4203" y="5"/>
                      <a:pt x="4202" y="4"/>
                      <a:pt x="4202" y="3"/>
                    </a:cubicBezTo>
                    <a:cubicBezTo>
                      <a:pt x="4202" y="2"/>
                      <a:pt x="4203" y="1"/>
                      <a:pt x="4204" y="1"/>
                    </a:cubicBezTo>
                    <a:close/>
                    <a:moveTo>
                      <a:pt x="4212" y="1"/>
                    </a:moveTo>
                    <a:lnTo>
                      <a:pt x="4212" y="1"/>
                    </a:lnTo>
                    <a:cubicBezTo>
                      <a:pt x="4213" y="1"/>
                      <a:pt x="4214" y="2"/>
                      <a:pt x="4214" y="3"/>
                    </a:cubicBezTo>
                    <a:cubicBezTo>
                      <a:pt x="4214" y="4"/>
                      <a:pt x="4213" y="5"/>
                      <a:pt x="4212" y="5"/>
                    </a:cubicBezTo>
                    <a:lnTo>
                      <a:pt x="4212" y="5"/>
                    </a:lnTo>
                    <a:cubicBezTo>
                      <a:pt x="4211" y="5"/>
                      <a:pt x="4210" y="4"/>
                      <a:pt x="4210" y="3"/>
                    </a:cubicBezTo>
                    <a:cubicBezTo>
                      <a:pt x="4210" y="2"/>
                      <a:pt x="4211" y="1"/>
                      <a:pt x="4212" y="1"/>
                    </a:cubicBezTo>
                    <a:close/>
                    <a:moveTo>
                      <a:pt x="4220" y="1"/>
                    </a:moveTo>
                    <a:lnTo>
                      <a:pt x="4220" y="1"/>
                    </a:lnTo>
                    <a:cubicBezTo>
                      <a:pt x="4221" y="1"/>
                      <a:pt x="4222" y="2"/>
                      <a:pt x="4222" y="3"/>
                    </a:cubicBezTo>
                    <a:cubicBezTo>
                      <a:pt x="4222" y="4"/>
                      <a:pt x="4221" y="5"/>
                      <a:pt x="4220" y="5"/>
                    </a:cubicBezTo>
                    <a:lnTo>
                      <a:pt x="4220" y="5"/>
                    </a:lnTo>
                    <a:cubicBezTo>
                      <a:pt x="4219" y="5"/>
                      <a:pt x="4218" y="4"/>
                      <a:pt x="4218" y="3"/>
                    </a:cubicBezTo>
                    <a:cubicBezTo>
                      <a:pt x="4218" y="2"/>
                      <a:pt x="4219" y="1"/>
                      <a:pt x="4220" y="1"/>
                    </a:cubicBezTo>
                    <a:close/>
                    <a:moveTo>
                      <a:pt x="4228" y="1"/>
                    </a:moveTo>
                    <a:lnTo>
                      <a:pt x="4228" y="1"/>
                    </a:lnTo>
                    <a:cubicBezTo>
                      <a:pt x="4229" y="1"/>
                      <a:pt x="4230" y="2"/>
                      <a:pt x="4230" y="3"/>
                    </a:cubicBezTo>
                    <a:cubicBezTo>
                      <a:pt x="4230" y="4"/>
                      <a:pt x="4229" y="5"/>
                      <a:pt x="4228" y="5"/>
                    </a:cubicBezTo>
                    <a:lnTo>
                      <a:pt x="4228" y="5"/>
                    </a:lnTo>
                    <a:cubicBezTo>
                      <a:pt x="4227" y="5"/>
                      <a:pt x="4226" y="4"/>
                      <a:pt x="4226" y="3"/>
                    </a:cubicBezTo>
                    <a:cubicBezTo>
                      <a:pt x="4226" y="2"/>
                      <a:pt x="4227" y="1"/>
                      <a:pt x="4228" y="1"/>
                    </a:cubicBezTo>
                    <a:close/>
                    <a:moveTo>
                      <a:pt x="4236" y="1"/>
                    </a:moveTo>
                    <a:lnTo>
                      <a:pt x="4236" y="1"/>
                    </a:lnTo>
                    <a:cubicBezTo>
                      <a:pt x="4237" y="1"/>
                      <a:pt x="4238" y="2"/>
                      <a:pt x="4238" y="3"/>
                    </a:cubicBezTo>
                    <a:cubicBezTo>
                      <a:pt x="4238" y="4"/>
                      <a:pt x="4237" y="5"/>
                      <a:pt x="4236" y="5"/>
                    </a:cubicBezTo>
                    <a:lnTo>
                      <a:pt x="4236" y="5"/>
                    </a:lnTo>
                    <a:cubicBezTo>
                      <a:pt x="4235" y="5"/>
                      <a:pt x="4234" y="4"/>
                      <a:pt x="4234" y="3"/>
                    </a:cubicBezTo>
                    <a:cubicBezTo>
                      <a:pt x="4234" y="2"/>
                      <a:pt x="4235" y="1"/>
                      <a:pt x="4236" y="1"/>
                    </a:cubicBezTo>
                    <a:close/>
                    <a:moveTo>
                      <a:pt x="4244" y="1"/>
                    </a:moveTo>
                    <a:lnTo>
                      <a:pt x="4244" y="1"/>
                    </a:lnTo>
                    <a:cubicBezTo>
                      <a:pt x="4245" y="1"/>
                      <a:pt x="4246" y="2"/>
                      <a:pt x="4246" y="3"/>
                    </a:cubicBezTo>
                    <a:cubicBezTo>
                      <a:pt x="4246" y="4"/>
                      <a:pt x="4245" y="5"/>
                      <a:pt x="4244" y="5"/>
                    </a:cubicBezTo>
                    <a:lnTo>
                      <a:pt x="4244" y="5"/>
                    </a:lnTo>
                    <a:cubicBezTo>
                      <a:pt x="4243" y="5"/>
                      <a:pt x="4242" y="4"/>
                      <a:pt x="4242" y="3"/>
                    </a:cubicBezTo>
                    <a:cubicBezTo>
                      <a:pt x="4242" y="2"/>
                      <a:pt x="4243" y="1"/>
                      <a:pt x="4244" y="1"/>
                    </a:cubicBezTo>
                    <a:close/>
                    <a:moveTo>
                      <a:pt x="4252" y="1"/>
                    </a:moveTo>
                    <a:lnTo>
                      <a:pt x="4252" y="1"/>
                    </a:lnTo>
                    <a:cubicBezTo>
                      <a:pt x="4253" y="1"/>
                      <a:pt x="4254" y="2"/>
                      <a:pt x="4254" y="3"/>
                    </a:cubicBezTo>
                    <a:cubicBezTo>
                      <a:pt x="4254" y="4"/>
                      <a:pt x="4253" y="5"/>
                      <a:pt x="4252" y="5"/>
                    </a:cubicBezTo>
                    <a:lnTo>
                      <a:pt x="4252" y="5"/>
                    </a:lnTo>
                    <a:cubicBezTo>
                      <a:pt x="4251" y="5"/>
                      <a:pt x="4250" y="4"/>
                      <a:pt x="4250" y="3"/>
                    </a:cubicBezTo>
                    <a:cubicBezTo>
                      <a:pt x="4250" y="2"/>
                      <a:pt x="4251" y="1"/>
                      <a:pt x="4252" y="1"/>
                    </a:cubicBezTo>
                    <a:close/>
                    <a:moveTo>
                      <a:pt x="4260" y="1"/>
                    </a:moveTo>
                    <a:lnTo>
                      <a:pt x="4260" y="1"/>
                    </a:lnTo>
                    <a:cubicBezTo>
                      <a:pt x="4261" y="1"/>
                      <a:pt x="4262" y="2"/>
                      <a:pt x="4262" y="3"/>
                    </a:cubicBezTo>
                    <a:cubicBezTo>
                      <a:pt x="4262" y="4"/>
                      <a:pt x="4261" y="5"/>
                      <a:pt x="4260" y="5"/>
                    </a:cubicBezTo>
                    <a:lnTo>
                      <a:pt x="4260" y="5"/>
                    </a:lnTo>
                    <a:cubicBezTo>
                      <a:pt x="4259" y="5"/>
                      <a:pt x="4258" y="4"/>
                      <a:pt x="4258" y="3"/>
                    </a:cubicBezTo>
                    <a:cubicBezTo>
                      <a:pt x="4258" y="2"/>
                      <a:pt x="4259" y="1"/>
                      <a:pt x="4260" y="1"/>
                    </a:cubicBezTo>
                    <a:close/>
                    <a:moveTo>
                      <a:pt x="4268" y="1"/>
                    </a:moveTo>
                    <a:lnTo>
                      <a:pt x="4268" y="1"/>
                    </a:lnTo>
                    <a:cubicBezTo>
                      <a:pt x="4269" y="1"/>
                      <a:pt x="4270" y="2"/>
                      <a:pt x="4270" y="3"/>
                    </a:cubicBezTo>
                    <a:cubicBezTo>
                      <a:pt x="4270" y="4"/>
                      <a:pt x="4269" y="5"/>
                      <a:pt x="4268" y="5"/>
                    </a:cubicBezTo>
                    <a:lnTo>
                      <a:pt x="4268" y="5"/>
                    </a:lnTo>
                    <a:cubicBezTo>
                      <a:pt x="4267" y="5"/>
                      <a:pt x="4266" y="4"/>
                      <a:pt x="4266" y="3"/>
                    </a:cubicBezTo>
                    <a:cubicBezTo>
                      <a:pt x="4266" y="2"/>
                      <a:pt x="4267" y="1"/>
                      <a:pt x="4268" y="1"/>
                    </a:cubicBezTo>
                    <a:close/>
                    <a:moveTo>
                      <a:pt x="4276" y="1"/>
                    </a:moveTo>
                    <a:lnTo>
                      <a:pt x="4276" y="1"/>
                    </a:lnTo>
                    <a:cubicBezTo>
                      <a:pt x="4277" y="1"/>
                      <a:pt x="4278" y="2"/>
                      <a:pt x="4278" y="3"/>
                    </a:cubicBezTo>
                    <a:cubicBezTo>
                      <a:pt x="4278" y="4"/>
                      <a:pt x="4277" y="5"/>
                      <a:pt x="4276" y="5"/>
                    </a:cubicBezTo>
                    <a:lnTo>
                      <a:pt x="4276" y="5"/>
                    </a:lnTo>
                    <a:cubicBezTo>
                      <a:pt x="4275" y="5"/>
                      <a:pt x="4274" y="4"/>
                      <a:pt x="4274" y="3"/>
                    </a:cubicBezTo>
                    <a:cubicBezTo>
                      <a:pt x="4274" y="2"/>
                      <a:pt x="4275" y="1"/>
                      <a:pt x="4276" y="1"/>
                    </a:cubicBezTo>
                    <a:close/>
                    <a:moveTo>
                      <a:pt x="4284" y="1"/>
                    </a:moveTo>
                    <a:lnTo>
                      <a:pt x="4284" y="1"/>
                    </a:lnTo>
                    <a:cubicBezTo>
                      <a:pt x="4285" y="1"/>
                      <a:pt x="4286" y="2"/>
                      <a:pt x="4286" y="3"/>
                    </a:cubicBezTo>
                    <a:cubicBezTo>
                      <a:pt x="4286" y="4"/>
                      <a:pt x="4285" y="5"/>
                      <a:pt x="4284" y="5"/>
                    </a:cubicBezTo>
                    <a:lnTo>
                      <a:pt x="4284" y="5"/>
                    </a:lnTo>
                    <a:cubicBezTo>
                      <a:pt x="4283" y="5"/>
                      <a:pt x="4282" y="4"/>
                      <a:pt x="4282" y="3"/>
                    </a:cubicBezTo>
                    <a:cubicBezTo>
                      <a:pt x="4282" y="2"/>
                      <a:pt x="4283" y="1"/>
                      <a:pt x="4284" y="1"/>
                    </a:cubicBezTo>
                    <a:close/>
                    <a:moveTo>
                      <a:pt x="4292" y="1"/>
                    </a:moveTo>
                    <a:lnTo>
                      <a:pt x="4292" y="1"/>
                    </a:lnTo>
                    <a:cubicBezTo>
                      <a:pt x="4293" y="1"/>
                      <a:pt x="4294" y="2"/>
                      <a:pt x="4294" y="3"/>
                    </a:cubicBezTo>
                    <a:cubicBezTo>
                      <a:pt x="4294" y="4"/>
                      <a:pt x="4293" y="5"/>
                      <a:pt x="4292" y="5"/>
                    </a:cubicBezTo>
                    <a:lnTo>
                      <a:pt x="4292" y="5"/>
                    </a:lnTo>
                    <a:cubicBezTo>
                      <a:pt x="4291" y="5"/>
                      <a:pt x="4290" y="4"/>
                      <a:pt x="4290" y="3"/>
                    </a:cubicBezTo>
                    <a:cubicBezTo>
                      <a:pt x="4290" y="2"/>
                      <a:pt x="4291" y="1"/>
                      <a:pt x="4292" y="1"/>
                    </a:cubicBezTo>
                    <a:close/>
                    <a:moveTo>
                      <a:pt x="4300" y="1"/>
                    </a:moveTo>
                    <a:lnTo>
                      <a:pt x="4300" y="1"/>
                    </a:lnTo>
                    <a:cubicBezTo>
                      <a:pt x="4301" y="1"/>
                      <a:pt x="4302" y="2"/>
                      <a:pt x="4302" y="3"/>
                    </a:cubicBezTo>
                    <a:cubicBezTo>
                      <a:pt x="4302" y="4"/>
                      <a:pt x="4301" y="5"/>
                      <a:pt x="4300" y="5"/>
                    </a:cubicBezTo>
                    <a:lnTo>
                      <a:pt x="4300" y="5"/>
                    </a:lnTo>
                    <a:cubicBezTo>
                      <a:pt x="4299" y="5"/>
                      <a:pt x="4298" y="4"/>
                      <a:pt x="4298" y="3"/>
                    </a:cubicBezTo>
                    <a:cubicBezTo>
                      <a:pt x="4298" y="2"/>
                      <a:pt x="4299" y="1"/>
                      <a:pt x="4300" y="1"/>
                    </a:cubicBezTo>
                    <a:close/>
                    <a:moveTo>
                      <a:pt x="4308" y="1"/>
                    </a:moveTo>
                    <a:lnTo>
                      <a:pt x="4308" y="1"/>
                    </a:lnTo>
                    <a:cubicBezTo>
                      <a:pt x="4309" y="1"/>
                      <a:pt x="4310" y="2"/>
                      <a:pt x="4310" y="3"/>
                    </a:cubicBezTo>
                    <a:cubicBezTo>
                      <a:pt x="4310" y="4"/>
                      <a:pt x="4309" y="5"/>
                      <a:pt x="4308" y="5"/>
                    </a:cubicBezTo>
                    <a:lnTo>
                      <a:pt x="4308" y="5"/>
                    </a:lnTo>
                    <a:cubicBezTo>
                      <a:pt x="4307" y="5"/>
                      <a:pt x="4306" y="4"/>
                      <a:pt x="4306" y="3"/>
                    </a:cubicBezTo>
                    <a:cubicBezTo>
                      <a:pt x="4306" y="2"/>
                      <a:pt x="4307" y="1"/>
                      <a:pt x="4308" y="1"/>
                    </a:cubicBezTo>
                    <a:close/>
                    <a:moveTo>
                      <a:pt x="4316" y="1"/>
                    </a:moveTo>
                    <a:lnTo>
                      <a:pt x="4316" y="1"/>
                    </a:lnTo>
                    <a:cubicBezTo>
                      <a:pt x="4317" y="1"/>
                      <a:pt x="4318" y="2"/>
                      <a:pt x="4318" y="3"/>
                    </a:cubicBezTo>
                    <a:cubicBezTo>
                      <a:pt x="4318" y="4"/>
                      <a:pt x="4317" y="5"/>
                      <a:pt x="4316" y="5"/>
                    </a:cubicBezTo>
                    <a:lnTo>
                      <a:pt x="4316" y="5"/>
                    </a:lnTo>
                    <a:cubicBezTo>
                      <a:pt x="4315" y="5"/>
                      <a:pt x="4314" y="4"/>
                      <a:pt x="4314" y="3"/>
                    </a:cubicBezTo>
                    <a:cubicBezTo>
                      <a:pt x="4314" y="2"/>
                      <a:pt x="4315" y="1"/>
                      <a:pt x="4316" y="1"/>
                    </a:cubicBezTo>
                    <a:close/>
                    <a:moveTo>
                      <a:pt x="4324" y="1"/>
                    </a:moveTo>
                    <a:lnTo>
                      <a:pt x="4324" y="1"/>
                    </a:lnTo>
                    <a:cubicBezTo>
                      <a:pt x="4325" y="1"/>
                      <a:pt x="4326" y="2"/>
                      <a:pt x="4326" y="3"/>
                    </a:cubicBezTo>
                    <a:cubicBezTo>
                      <a:pt x="4326" y="4"/>
                      <a:pt x="4325" y="5"/>
                      <a:pt x="4324" y="5"/>
                    </a:cubicBezTo>
                    <a:lnTo>
                      <a:pt x="4324" y="5"/>
                    </a:lnTo>
                    <a:cubicBezTo>
                      <a:pt x="4323" y="5"/>
                      <a:pt x="4322" y="4"/>
                      <a:pt x="4322" y="3"/>
                    </a:cubicBezTo>
                    <a:cubicBezTo>
                      <a:pt x="4322" y="2"/>
                      <a:pt x="4323" y="1"/>
                      <a:pt x="4324" y="1"/>
                    </a:cubicBezTo>
                    <a:close/>
                    <a:moveTo>
                      <a:pt x="4332" y="1"/>
                    </a:moveTo>
                    <a:lnTo>
                      <a:pt x="4332" y="1"/>
                    </a:lnTo>
                    <a:cubicBezTo>
                      <a:pt x="4333" y="1"/>
                      <a:pt x="4334" y="2"/>
                      <a:pt x="4334" y="3"/>
                    </a:cubicBezTo>
                    <a:cubicBezTo>
                      <a:pt x="4334" y="4"/>
                      <a:pt x="4333" y="5"/>
                      <a:pt x="4332" y="5"/>
                    </a:cubicBezTo>
                    <a:lnTo>
                      <a:pt x="4332" y="5"/>
                    </a:lnTo>
                    <a:cubicBezTo>
                      <a:pt x="4331" y="5"/>
                      <a:pt x="4330" y="4"/>
                      <a:pt x="4330" y="3"/>
                    </a:cubicBezTo>
                    <a:cubicBezTo>
                      <a:pt x="4330" y="2"/>
                      <a:pt x="4331" y="1"/>
                      <a:pt x="4332" y="1"/>
                    </a:cubicBezTo>
                    <a:close/>
                    <a:moveTo>
                      <a:pt x="4340" y="1"/>
                    </a:moveTo>
                    <a:lnTo>
                      <a:pt x="4340" y="1"/>
                    </a:lnTo>
                    <a:cubicBezTo>
                      <a:pt x="4341" y="1"/>
                      <a:pt x="4342" y="2"/>
                      <a:pt x="4342" y="3"/>
                    </a:cubicBezTo>
                    <a:cubicBezTo>
                      <a:pt x="4342" y="4"/>
                      <a:pt x="4341" y="5"/>
                      <a:pt x="4340" y="5"/>
                    </a:cubicBezTo>
                    <a:lnTo>
                      <a:pt x="4340" y="5"/>
                    </a:lnTo>
                    <a:cubicBezTo>
                      <a:pt x="4339" y="5"/>
                      <a:pt x="4338" y="4"/>
                      <a:pt x="4338" y="3"/>
                    </a:cubicBezTo>
                    <a:cubicBezTo>
                      <a:pt x="4338" y="2"/>
                      <a:pt x="4339" y="1"/>
                      <a:pt x="4340" y="1"/>
                    </a:cubicBezTo>
                    <a:close/>
                    <a:moveTo>
                      <a:pt x="4348" y="1"/>
                    </a:moveTo>
                    <a:lnTo>
                      <a:pt x="4348" y="1"/>
                    </a:lnTo>
                    <a:cubicBezTo>
                      <a:pt x="4349" y="1"/>
                      <a:pt x="4350" y="2"/>
                      <a:pt x="4350" y="3"/>
                    </a:cubicBezTo>
                    <a:cubicBezTo>
                      <a:pt x="4350" y="4"/>
                      <a:pt x="4349" y="5"/>
                      <a:pt x="4348" y="5"/>
                    </a:cubicBezTo>
                    <a:lnTo>
                      <a:pt x="4348" y="5"/>
                    </a:lnTo>
                    <a:cubicBezTo>
                      <a:pt x="4347" y="5"/>
                      <a:pt x="4346" y="4"/>
                      <a:pt x="4346" y="3"/>
                    </a:cubicBezTo>
                    <a:cubicBezTo>
                      <a:pt x="4346" y="2"/>
                      <a:pt x="4347" y="1"/>
                      <a:pt x="4348" y="1"/>
                    </a:cubicBezTo>
                    <a:close/>
                    <a:moveTo>
                      <a:pt x="4356" y="1"/>
                    </a:moveTo>
                    <a:lnTo>
                      <a:pt x="4356" y="1"/>
                    </a:lnTo>
                    <a:cubicBezTo>
                      <a:pt x="4357" y="1"/>
                      <a:pt x="4358" y="2"/>
                      <a:pt x="4358" y="3"/>
                    </a:cubicBezTo>
                    <a:cubicBezTo>
                      <a:pt x="4358" y="4"/>
                      <a:pt x="4357" y="5"/>
                      <a:pt x="4356" y="5"/>
                    </a:cubicBezTo>
                    <a:lnTo>
                      <a:pt x="4356" y="5"/>
                    </a:lnTo>
                    <a:cubicBezTo>
                      <a:pt x="4355" y="5"/>
                      <a:pt x="4354" y="4"/>
                      <a:pt x="4354" y="3"/>
                    </a:cubicBezTo>
                    <a:cubicBezTo>
                      <a:pt x="4354" y="2"/>
                      <a:pt x="4355" y="1"/>
                      <a:pt x="4356" y="1"/>
                    </a:cubicBezTo>
                    <a:close/>
                    <a:moveTo>
                      <a:pt x="4364" y="1"/>
                    </a:moveTo>
                    <a:lnTo>
                      <a:pt x="4364" y="1"/>
                    </a:lnTo>
                    <a:cubicBezTo>
                      <a:pt x="4365" y="1"/>
                      <a:pt x="4366" y="2"/>
                      <a:pt x="4366" y="3"/>
                    </a:cubicBezTo>
                    <a:cubicBezTo>
                      <a:pt x="4366" y="4"/>
                      <a:pt x="4365" y="5"/>
                      <a:pt x="4364" y="5"/>
                    </a:cubicBezTo>
                    <a:lnTo>
                      <a:pt x="4364" y="5"/>
                    </a:lnTo>
                    <a:cubicBezTo>
                      <a:pt x="4363" y="5"/>
                      <a:pt x="4362" y="4"/>
                      <a:pt x="4362" y="3"/>
                    </a:cubicBezTo>
                    <a:cubicBezTo>
                      <a:pt x="4362" y="2"/>
                      <a:pt x="4363" y="1"/>
                      <a:pt x="4364" y="1"/>
                    </a:cubicBezTo>
                    <a:close/>
                    <a:moveTo>
                      <a:pt x="4372" y="1"/>
                    </a:moveTo>
                    <a:lnTo>
                      <a:pt x="4372" y="1"/>
                    </a:lnTo>
                    <a:cubicBezTo>
                      <a:pt x="4373" y="1"/>
                      <a:pt x="4374" y="2"/>
                      <a:pt x="4374" y="3"/>
                    </a:cubicBezTo>
                    <a:cubicBezTo>
                      <a:pt x="4374" y="4"/>
                      <a:pt x="4373" y="5"/>
                      <a:pt x="4372" y="5"/>
                    </a:cubicBezTo>
                    <a:lnTo>
                      <a:pt x="4372" y="5"/>
                    </a:lnTo>
                    <a:cubicBezTo>
                      <a:pt x="4371" y="5"/>
                      <a:pt x="4370" y="4"/>
                      <a:pt x="4370" y="3"/>
                    </a:cubicBezTo>
                    <a:cubicBezTo>
                      <a:pt x="4370" y="2"/>
                      <a:pt x="4371" y="1"/>
                      <a:pt x="4372" y="1"/>
                    </a:cubicBezTo>
                    <a:close/>
                    <a:moveTo>
                      <a:pt x="4380" y="1"/>
                    </a:moveTo>
                    <a:lnTo>
                      <a:pt x="4380" y="1"/>
                    </a:lnTo>
                    <a:cubicBezTo>
                      <a:pt x="4381" y="1"/>
                      <a:pt x="4382" y="2"/>
                      <a:pt x="4382" y="3"/>
                    </a:cubicBezTo>
                    <a:cubicBezTo>
                      <a:pt x="4382" y="4"/>
                      <a:pt x="4381" y="5"/>
                      <a:pt x="4380" y="5"/>
                    </a:cubicBezTo>
                    <a:lnTo>
                      <a:pt x="4380" y="5"/>
                    </a:lnTo>
                    <a:cubicBezTo>
                      <a:pt x="4379" y="5"/>
                      <a:pt x="4378" y="4"/>
                      <a:pt x="4378" y="3"/>
                    </a:cubicBezTo>
                    <a:cubicBezTo>
                      <a:pt x="4378" y="2"/>
                      <a:pt x="4379" y="1"/>
                      <a:pt x="4380" y="1"/>
                    </a:cubicBezTo>
                    <a:close/>
                    <a:moveTo>
                      <a:pt x="4388" y="1"/>
                    </a:moveTo>
                    <a:lnTo>
                      <a:pt x="4388" y="1"/>
                    </a:lnTo>
                    <a:cubicBezTo>
                      <a:pt x="4389" y="1"/>
                      <a:pt x="4390" y="2"/>
                      <a:pt x="4390" y="3"/>
                    </a:cubicBezTo>
                    <a:cubicBezTo>
                      <a:pt x="4390" y="4"/>
                      <a:pt x="4389" y="5"/>
                      <a:pt x="4388" y="5"/>
                    </a:cubicBezTo>
                    <a:lnTo>
                      <a:pt x="4388" y="5"/>
                    </a:lnTo>
                    <a:cubicBezTo>
                      <a:pt x="4387" y="5"/>
                      <a:pt x="4386" y="4"/>
                      <a:pt x="4386" y="3"/>
                    </a:cubicBezTo>
                    <a:cubicBezTo>
                      <a:pt x="4386" y="2"/>
                      <a:pt x="4387" y="1"/>
                      <a:pt x="4388" y="1"/>
                    </a:cubicBezTo>
                    <a:close/>
                    <a:moveTo>
                      <a:pt x="4396" y="1"/>
                    </a:moveTo>
                    <a:lnTo>
                      <a:pt x="4396" y="1"/>
                    </a:lnTo>
                    <a:cubicBezTo>
                      <a:pt x="4397" y="1"/>
                      <a:pt x="4398" y="2"/>
                      <a:pt x="4398" y="3"/>
                    </a:cubicBezTo>
                    <a:cubicBezTo>
                      <a:pt x="4398" y="4"/>
                      <a:pt x="4397" y="5"/>
                      <a:pt x="4396" y="5"/>
                    </a:cubicBezTo>
                    <a:lnTo>
                      <a:pt x="4396" y="5"/>
                    </a:lnTo>
                    <a:cubicBezTo>
                      <a:pt x="4395" y="5"/>
                      <a:pt x="4394" y="4"/>
                      <a:pt x="4394" y="3"/>
                    </a:cubicBezTo>
                    <a:cubicBezTo>
                      <a:pt x="4394" y="2"/>
                      <a:pt x="4395" y="1"/>
                      <a:pt x="4396" y="1"/>
                    </a:cubicBezTo>
                    <a:close/>
                    <a:moveTo>
                      <a:pt x="4404" y="1"/>
                    </a:moveTo>
                    <a:lnTo>
                      <a:pt x="4404" y="1"/>
                    </a:lnTo>
                    <a:cubicBezTo>
                      <a:pt x="4405" y="1"/>
                      <a:pt x="4406" y="2"/>
                      <a:pt x="4406" y="3"/>
                    </a:cubicBezTo>
                    <a:cubicBezTo>
                      <a:pt x="4406" y="4"/>
                      <a:pt x="4405" y="5"/>
                      <a:pt x="4404" y="5"/>
                    </a:cubicBezTo>
                    <a:lnTo>
                      <a:pt x="4404" y="5"/>
                    </a:lnTo>
                    <a:cubicBezTo>
                      <a:pt x="4403" y="5"/>
                      <a:pt x="4402" y="4"/>
                      <a:pt x="4402" y="3"/>
                    </a:cubicBezTo>
                    <a:cubicBezTo>
                      <a:pt x="4402" y="2"/>
                      <a:pt x="4403" y="1"/>
                      <a:pt x="4404" y="1"/>
                    </a:cubicBezTo>
                    <a:close/>
                    <a:moveTo>
                      <a:pt x="4412" y="1"/>
                    </a:moveTo>
                    <a:lnTo>
                      <a:pt x="4412" y="1"/>
                    </a:lnTo>
                    <a:cubicBezTo>
                      <a:pt x="4413" y="1"/>
                      <a:pt x="4414" y="2"/>
                      <a:pt x="4414" y="3"/>
                    </a:cubicBezTo>
                    <a:cubicBezTo>
                      <a:pt x="4414" y="4"/>
                      <a:pt x="4413" y="5"/>
                      <a:pt x="4412" y="5"/>
                    </a:cubicBezTo>
                    <a:lnTo>
                      <a:pt x="4412" y="5"/>
                    </a:lnTo>
                    <a:cubicBezTo>
                      <a:pt x="4411" y="5"/>
                      <a:pt x="4410" y="4"/>
                      <a:pt x="4410" y="3"/>
                    </a:cubicBezTo>
                    <a:cubicBezTo>
                      <a:pt x="4410" y="2"/>
                      <a:pt x="4411" y="1"/>
                      <a:pt x="4412" y="1"/>
                    </a:cubicBezTo>
                    <a:close/>
                    <a:moveTo>
                      <a:pt x="4420" y="1"/>
                    </a:moveTo>
                    <a:lnTo>
                      <a:pt x="4420" y="1"/>
                    </a:lnTo>
                    <a:cubicBezTo>
                      <a:pt x="4421" y="1"/>
                      <a:pt x="4422" y="2"/>
                      <a:pt x="4422" y="3"/>
                    </a:cubicBezTo>
                    <a:cubicBezTo>
                      <a:pt x="4422" y="4"/>
                      <a:pt x="4421" y="5"/>
                      <a:pt x="4420" y="5"/>
                    </a:cubicBezTo>
                    <a:lnTo>
                      <a:pt x="4420" y="5"/>
                    </a:lnTo>
                    <a:cubicBezTo>
                      <a:pt x="4419" y="5"/>
                      <a:pt x="4418" y="4"/>
                      <a:pt x="4418" y="3"/>
                    </a:cubicBezTo>
                    <a:cubicBezTo>
                      <a:pt x="4418" y="2"/>
                      <a:pt x="4419" y="1"/>
                      <a:pt x="4420" y="1"/>
                    </a:cubicBezTo>
                    <a:close/>
                    <a:moveTo>
                      <a:pt x="4428" y="1"/>
                    </a:moveTo>
                    <a:lnTo>
                      <a:pt x="4428" y="1"/>
                    </a:lnTo>
                    <a:cubicBezTo>
                      <a:pt x="4429" y="1"/>
                      <a:pt x="4430" y="2"/>
                      <a:pt x="4430" y="3"/>
                    </a:cubicBezTo>
                    <a:cubicBezTo>
                      <a:pt x="4430" y="4"/>
                      <a:pt x="4429" y="5"/>
                      <a:pt x="4428" y="5"/>
                    </a:cubicBezTo>
                    <a:lnTo>
                      <a:pt x="4428" y="5"/>
                    </a:lnTo>
                    <a:cubicBezTo>
                      <a:pt x="4427" y="5"/>
                      <a:pt x="4426" y="4"/>
                      <a:pt x="4426" y="3"/>
                    </a:cubicBezTo>
                    <a:cubicBezTo>
                      <a:pt x="4426" y="2"/>
                      <a:pt x="4427" y="1"/>
                      <a:pt x="4428" y="1"/>
                    </a:cubicBezTo>
                    <a:close/>
                    <a:moveTo>
                      <a:pt x="4436" y="1"/>
                    </a:moveTo>
                    <a:lnTo>
                      <a:pt x="4436" y="1"/>
                    </a:lnTo>
                    <a:cubicBezTo>
                      <a:pt x="4437" y="1"/>
                      <a:pt x="4438" y="2"/>
                      <a:pt x="4438" y="3"/>
                    </a:cubicBezTo>
                    <a:cubicBezTo>
                      <a:pt x="4438" y="4"/>
                      <a:pt x="4437" y="5"/>
                      <a:pt x="4436" y="5"/>
                    </a:cubicBezTo>
                    <a:lnTo>
                      <a:pt x="4436" y="5"/>
                    </a:lnTo>
                    <a:cubicBezTo>
                      <a:pt x="4435" y="5"/>
                      <a:pt x="4434" y="4"/>
                      <a:pt x="4434" y="3"/>
                    </a:cubicBezTo>
                    <a:cubicBezTo>
                      <a:pt x="4434" y="2"/>
                      <a:pt x="4435" y="1"/>
                      <a:pt x="4436" y="1"/>
                    </a:cubicBezTo>
                    <a:close/>
                    <a:moveTo>
                      <a:pt x="4444" y="1"/>
                    </a:moveTo>
                    <a:lnTo>
                      <a:pt x="4444" y="1"/>
                    </a:lnTo>
                    <a:cubicBezTo>
                      <a:pt x="4445" y="1"/>
                      <a:pt x="4446" y="2"/>
                      <a:pt x="4446" y="3"/>
                    </a:cubicBezTo>
                    <a:cubicBezTo>
                      <a:pt x="4446" y="4"/>
                      <a:pt x="4445" y="5"/>
                      <a:pt x="4444" y="5"/>
                    </a:cubicBezTo>
                    <a:lnTo>
                      <a:pt x="4444" y="5"/>
                    </a:lnTo>
                    <a:cubicBezTo>
                      <a:pt x="4443" y="5"/>
                      <a:pt x="4442" y="4"/>
                      <a:pt x="4442" y="3"/>
                    </a:cubicBezTo>
                    <a:cubicBezTo>
                      <a:pt x="4442" y="2"/>
                      <a:pt x="4443" y="1"/>
                      <a:pt x="4444" y="1"/>
                    </a:cubicBezTo>
                    <a:close/>
                    <a:moveTo>
                      <a:pt x="4452" y="1"/>
                    </a:moveTo>
                    <a:lnTo>
                      <a:pt x="4452" y="1"/>
                    </a:lnTo>
                    <a:cubicBezTo>
                      <a:pt x="4453" y="1"/>
                      <a:pt x="4454" y="2"/>
                      <a:pt x="4454" y="3"/>
                    </a:cubicBezTo>
                    <a:cubicBezTo>
                      <a:pt x="4454" y="4"/>
                      <a:pt x="4453" y="5"/>
                      <a:pt x="4452" y="5"/>
                    </a:cubicBezTo>
                    <a:lnTo>
                      <a:pt x="4452" y="5"/>
                    </a:lnTo>
                    <a:cubicBezTo>
                      <a:pt x="4451" y="5"/>
                      <a:pt x="4450" y="4"/>
                      <a:pt x="4450" y="3"/>
                    </a:cubicBezTo>
                    <a:cubicBezTo>
                      <a:pt x="4450" y="2"/>
                      <a:pt x="4451" y="1"/>
                      <a:pt x="4452" y="1"/>
                    </a:cubicBezTo>
                    <a:close/>
                    <a:moveTo>
                      <a:pt x="4460" y="1"/>
                    </a:moveTo>
                    <a:lnTo>
                      <a:pt x="4460" y="1"/>
                    </a:lnTo>
                    <a:cubicBezTo>
                      <a:pt x="4461" y="1"/>
                      <a:pt x="4462" y="2"/>
                      <a:pt x="4462" y="3"/>
                    </a:cubicBezTo>
                    <a:cubicBezTo>
                      <a:pt x="4462" y="4"/>
                      <a:pt x="4461" y="5"/>
                      <a:pt x="4460" y="5"/>
                    </a:cubicBezTo>
                    <a:lnTo>
                      <a:pt x="4460" y="5"/>
                    </a:lnTo>
                    <a:cubicBezTo>
                      <a:pt x="4459" y="5"/>
                      <a:pt x="4458" y="4"/>
                      <a:pt x="4458" y="3"/>
                    </a:cubicBezTo>
                    <a:cubicBezTo>
                      <a:pt x="4458" y="2"/>
                      <a:pt x="4459" y="1"/>
                      <a:pt x="4460" y="1"/>
                    </a:cubicBezTo>
                    <a:close/>
                    <a:moveTo>
                      <a:pt x="4468" y="1"/>
                    </a:moveTo>
                    <a:lnTo>
                      <a:pt x="4468" y="1"/>
                    </a:lnTo>
                    <a:cubicBezTo>
                      <a:pt x="4469" y="1"/>
                      <a:pt x="4470" y="2"/>
                      <a:pt x="4470" y="3"/>
                    </a:cubicBezTo>
                    <a:cubicBezTo>
                      <a:pt x="4470" y="4"/>
                      <a:pt x="4469" y="5"/>
                      <a:pt x="4468" y="5"/>
                    </a:cubicBezTo>
                    <a:lnTo>
                      <a:pt x="4468" y="5"/>
                    </a:lnTo>
                    <a:cubicBezTo>
                      <a:pt x="4467" y="5"/>
                      <a:pt x="4466" y="4"/>
                      <a:pt x="4466" y="3"/>
                    </a:cubicBezTo>
                    <a:cubicBezTo>
                      <a:pt x="4466" y="2"/>
                      <a:pt x="4467" y="1"/>
                      <a:pt x="4468" y="1"/>
                    </a:cubicBezTo>
                    <a:close/>
                    <a:moveTo>
                      <a:pt x="4476" y="1"/>
                    </a:moveTo>
                    <a:lnTo>
                      <a:pt x="4476" y="1"/>
                    </a:lnTo>
                    <a:cubicBezTo>
                      <a:pt x="4477" y="1"/>
                      <a:pt x="4478" y="2"/>
                      <a:pt x="4478" y="3"/>
                    </a:cubicBezTo>
                    <a:cubicBezTo>
                      <a:pt x="4478" y="4"/>
                      <a:pt x="4477" y="5"/>
                      <a:pt x="4476" y="5"/>
                    </a:cubicBezTo>
                    <a:lnTo>
                      <a:pt x="4476" y="5"/>
                    </a:lnTo>
                    <a:cubicBezTo>
                      <a:pt x="4475" y="5"/>
                      <a:pt x="4474" y="4"/>
                      <a:pt x="4474" y="3"/>
                    </a:cubicBezTo>
                    <a:cubicBezTo>
                      <a:pt x="4474" y="2"/>
                      <a:pt x="4475" y="1"/>
                      <a:pt x="4476" y="1"/>
                    </a:cubicBezTo>
                    <a:close/>
                    <a:moveTo>
                      <a:pt x="4484" y="1"/>
                    </a:moveTo>
                    <a:lnTo>
                      <a:pt x="4484" y="1"/>
                    </a:lnTo>
                    <a:cubicBezTo>
                      <a:pt x="4485" y="1"/>
                      <a:pt x="4486" y="2"/>
                      <a:pt x="4486" y="3"/>
                    </a:cubicBezTo>
                    <a:cubicBezTo>
                      <a:pt x="4486" y="4"/>
                      <a:pt x="4485" y="5"/>
                      <a:pt x="4484" y="5"/>
                    </a:cubicBezTo>
                    <a:lnTo>
                      <a:pt x="4484" y="5"/>
                    </a:lnTo>
                    <a:cubicBezTo>
                      <a:pt x="4483" y="5"/>
                      <a:pt x="4482" y="4"/>
                      <a:pt x="4482" y="3"/>
                    </a:cubicBezTo>
                    <a:cubicBezTo>
                      <a:pt x="4482" y="2"/>
                      <a:pt x="4483" y="1"/>
                      <a:pt x="4484" y="1"/>
                    </a:cubicBezTo>
                    <a:close/>
                    <a:moveTo>
                      <a:pt x="4492" y="1"/>
                    </a:moveTo>
                    <a:lnTo>
                      <a:pt x="4492" y="1"/>
                    </a:lnTo>
                    <a:cubicBezTo>
                      <a:pt x="4493" y="1"/>
                      <a:pt x="4494" y="2"/>
                      <a:pt x="4494" y="3"/>
                    </a:cubicBezTo>
                    <a:cubicBezTo>
                      <a:pt x="4494" y="4"/>
                      <a:pt x="4493" y="5"/>
                      <a:pt x="4492" y="5"/>
                    </a:cubicBezTo>
                    <a:lnTo>
                      <a:pt x="4492" y="5"/>
                    </a:lnTo>
                    <a:cubicBezTo>
                      <a:pt x="4491" y="5"/>
                      <a:pt x="4490" y="4"/>
                      <a:pt x="4490" y="3"/>
                    </a:cubicBezTo>
                    <a:cubicBezTo>
                      <a:pt x="4490" y="2"/>
                      <a:pt x="4491" y="1"/>
                      <a:pt x="4492" y="1"/>
                    </a:cubicBezTo>
                    <a:close/>
                    <a:moveTo>
                      <a:pt x="4500" y="1"/>
                    </a:moveTo>
                    <a:lnTo>
                      <a:pt x="4500" y="1"/>
                    </a:lnTo>
                    <a:cubicBezTo>
                      <a:pt x="4501" y="1"/>
                      <a:pt x="4502" y="2"/>
                      <a:pt x="4502" y="3"/>
                    </a:cubicBezTo>
                    <a:cubicBezTo>
                      <a:pt x="4502" y="4"/>
                      <a:pt x="4501" y="5"/>
                      <a:pt x="4500" y="5"/>
                    </a:cubicBezTo>
                    <a:lnTo>
                      <a:pt x="4500" y="5"/>
                    </a:lnTo>
                    <a:cubicBezTo>
                      <a:pt x="4499" y="5"/>
                      <a:pt x="4498" y="4"/>
                      <a:pt x="4498" y="3"/>
                    </a:cubicBezTo>
                    <a:cubicBezTo>
                      <a:pt x="4498" y="2"/>
                      <a:pt x="4499" y="1"/>
                      <a:pt x="4500" y="1"/>
                    </a:cubicBezTo>
                    <a:close/>
                    <a:moveTo>
                      <a:pt x="4508" y="1"/>
                    </a:moveTo>
                    <a:lnTo>
                      <a:pt x="4508" y="1"/>
                    </a:lnTo>
                    <a:cubicBezTo>
                      <a:pt x="4509" y="1"/>
                      <a:pt x="4510" y="2"/>
                      <a:pt x="4510" y="3"/>
                    </a:cubicBezTo>
                    <a:cubicBezTo>
                      <a:pt x="4510" y="4"/>
                      <a:pt x="4509" y="5"/>
                      <a:pt x="4508" y="5"/>
                    </a:cubicBezTo>
                    <a:lnTo>
                      <a:pt x="4508" y="5"/>
                    </a:lnTo>
                    <a:cubicBezTo>
                      <a:pt x="4507" y="5"/>
                      <a:pt x="4506" y="4"/>
                      <a:pt x="4506" y="3"/>
                    </a:cubicBezTo>
                    <a:cubicBezTo>
                      <a:pt x="4506" y="2"/>
                      <a:pt x="4507" y="1"/>
                      <a:pt x="4508" y="1"/>
                    </a:cubicBezTo>
                    <a:close/>
                    <a:moveTo>
                      <a:pt x="4516" y="1"/>
                    </a:moveTo>
                    <a:lnTo>
                      <a:pt x="4516" y="1"/>
                    </a:lnTo>
                    <a:cubicBezTo>
                      <a:pt x="4517" y="1"/>
                      <a:pt x="4518" y="2"/>
                      <a:pt x="4518" y="3"/>
                    </a:cubicBezTo>
                    <a:cubicBezTo>
                      <a:pt x="4518" y="4"/>
                      <a:pt x="4517" y="5"/>
                      <a:pt x="4516" y="5"/>
                    </a:cubicBezTo>
                    <a:lnTo>
                      <a:pt x="4516" y="5"/>
                    </a:lnTo>
                    <a:cubicBezTo>
                      <a:pt x="4515" y="5"/>
                      <a:pt x="4514" y="4"/>
                      <a:pt x="4514" y="3"/>
                    </a:cubicBezTo>
                    <a:cubicBezTo>
                      <a:pt x="4514" y="2"/>
                      <a:pt x="4515" y="1"/>
                      <a:pt x="4516" y="1"/>
                    </a:cubicBezTo>
                    <a:close/>
                    <a:moveTo>
                      <a:pt x="4524" y="1"/>
                    </a:moveTo>
                    <a:lnTo>
                      <a:pt x="4524" y="1"/>
                    </a:lnTo>
                    <a:cubicBezTo>
                      <a:pt x="4525" y="1"/>
                      <a:pt x="4526" y="2"/>
                      <a:pt x="4526" y="3"/>
                    </a:cubicBezTo>
                    <a:cubicBezTo>
                      <a:pt x="4526" y="4"/>
                      <a:pt x="4525" y="5"/>
                      <a:pt x="4524" y="5"/>
                    </a:cubicBezTo>
                    <a:lnTo>
                      <a:pt x="4524" y="5"/>
                    </a:lnTo>
                    <a:cubicBezTo>
                      <a:pt x="4523" y="5"/>
                      <a:pt x="4522" y="4"/>
                      <a:pt x="4522" y="3"/>
                    </a:cubicBezTo>
                    <a:cubicBezTo>
                      <a:pt x="4522" y="2"/>
                      <a:pt x="4523" y="1"/>
                      <a:pt x="4524" y="1"/>
                    </a:cubicBezTo>
                    <a:close/>
                    <a:moveTo>
                      <a:pt x="4532" y="1"/>
                    </a:moveTo>
                    <a:lnTo>
                      <a:pt x="4532" y="1"/>
                    </a:lnTo>
                    <a:cubicBezTo>
                      <a:pt x="4533" y="1"/>
                      <a:pt x="4534" y="2"/>
                      <a:pt x="4534" y="3"/>
                    </a:cubicBezTo>
                    <a:cubicBezTo>
                      <a:pt x="4534" y="4"/>
                      <a:pt x="4533" y="5"/>
                      <a:pt x="4532" y="5"/>
                    </a:cubicBezTo>
                    <a:lnTo>
                      <a:pt x="4532" y="5"/>
                    </a:lnTo>
                    <a:cubicBezTo>
                      <a:pt x="4531" y="5"/>
                      <a:pt x="4530" y="4"/>
                      <a:pt x="4530" y="3"/>
                    </a:cubicBezTo>
                    <a:cubicBezTo>
                      <a:pt x="4530" y="2"/>
                      <a:pt x="4531" y="1"/>
                      <a:pt x="4532" y="1"/>
                    </a:cubicBezTo>
                    <a:close/>
                    <a:moveTo>
                      <a:pt x="4540" y="1"/>
                    </a:moveTo>
                    <a:lnTo>
                      <a:pt x="4540" y="1"/>
                    </a:lnTo>
                    <a:cubicBezTo>
                      <a:pt x="4541" y="1"/>
                      <a:pt x="4542" y="2"/>
                      <a:pt x="4542" y="3"/>
                    </a:cubicBezTo>
                    <a:cubicBezTo>
                      <a:pt x="4542" y="4"/>
                      <a:pt x="4541" y="5"/>
                      <a:pt x="4540" y="5"/>
                    </a:cubicBezTo>
                    <a:lnTo>
                      <a:pt x="4540" y="5"/>
                    </a:lnTo>
                    <a:cubicBezTo>
                      <a:pt x="4539" y="5"/>
                      <a:pt x="4538" y="4"/>
                      <a:pt x="4538" y="3"/>
                    </a:cubicBezTo>
                    <a:cubicBezTo>
                      <a:pt x="4538" y="2"/>
                      <a:pt x="4539" y="1"/>
                      <a:pt x="4540" y="1"/>
                    </a:cubicBezTo>
                    <a:close/>
                    <a:moveTo>
                      <a:pt x="4548" y="1"/>
                    </a:moveTo>
                    <a:lnTo>
                      <a:pt x="4548" y="1"/>
                    </a:lnTo>
                    <a:cubicBezTo>
                      <a:pt x="4549" y="1"/>
                      <a:pt x="4550" y="2"/>
                      <a:pt x="4550" y="3"/>
                    </a:cubicBezTo>
                    <a:cubicBezTo>
                      <a:pt x="4550" y="4"/>
                      <a:pt x="4549" y="5"/>
                      <a:pt x="4548" y="5"/>
                    </a:cubicBezTo>
                    <a:lnTo>
                      <a:pt x="4548" y="5"/>
                    </a:lnTo>
                    <a:cubicBezTo>
                      <a:pt x="4547" y="5"/>
                      <a:pt x="4546" y="4"/>
                      <a:pt x="4546" y="3"/>
                    </a:cubicBezTo>
                    <a:cubicBezTo>
                      <a:pt x="4546" y="2"/>
                      <a:pt x="4547" y="1"/>
                      <a:pt x="4548" y="1"/>
                    </a:cubicBezTo>
                    <a:close/>
                    <a:moveTo>
                      <a:pt x="4556" y="1"/>
                    </a:moveTo>
                    <a:lnTo>
                      <a:pt x="4556" y="1"/>
                    </a:lnTo>
                    <a:cubicBezTo>
                      <a:pt x="4557" y="1"/>
                      <a:pt x="4558" y="2"/>
                      <a:pt x="4558" y="3"/>
                    </a:cubicBezTo>
                    <a:cubicBezTo>
                      <a:pt x="4558" y="4"/>
                      <a:pt x="4557" y="5"/>
                      <a:pt x="4556" y="5"/>
                    </a:cubicBezTo>
                    <a:lnTo>
                      <a:pt x="4556" y="5"/>
                    </a:lnTo>
                    <a:cubicBezTo>
                      <a:pt x="4555" y="5"/>
                      <a:pt x="4554" y="4"/>
                      <a:pt x="4554" y="3"/>
                    </a:cubicBezTo>
                    <a:cubicBezTo>
                      <a:pt x="4554" y="2"/>
                      <a:pt x="4555" y="1"/>
                      <a:pt x="4556" y="1"/>
                    </a:cubicBezTo>
                    <a:close/>
                    <a:moveTo>
                      <a:pt x="4564" y="1"/>
                    </a:moveTo>
                    <a:lnTo>
                      <a:pt x="4564" y="1"/>
                    </a:lnTo>
                    <a:cubicBezTo>
                      <a:pt x="4565" y="1"/>
                      <a:pt x="4566" y="2"/>
                      <a:pt x="4566" y="3"/>
                    </a:cubicBezTo>
                    <a:cubicBezTo>
                      <a:pt x="4566" y="4"/>
                      <a:pt x="4565" y="5"/>
                      <a:pt x="4564" y="5"/>
                    </a:cubicBezTo>
                    <a:lnTo>
                      <a:pt x="4564" y="5"/>
                    </a:lnTo>
                    <a:cubicBezTo>
                      <a:pt x="4563" y="5"/>
                      <a:pt x="4562" y="4"/>
                      <a:pt x="4562" y="3"/>
                    </a:cubicBezTo>
                    <a:cubicBezTo>
                      <a:pt x="4562" y="2"/>
                      <a:pt x="4563" y="1"/>
                      <a:pt x="4564" y="1"/>
                    </a:cubicBezTo>
                    <a:close/>
                    <a:moveTo>
                      <a:pt x="4572" y="1"/>
                    </a:moveTo>
                    <a:lnTo>
                      <a:pt x="4572" y="1"/>
                    </a:lnTo>
                    <a:cubicBezTo>
                      <a:pt x="4573" y="1"/>
                      <a:pt x="4574" y="2"/>
                      <a:pt x="4574" y="3"/>
                    </a:cubicBezTo>
                    <a:cubicBezTo>
                      <a:pt x="4574" y="4"/>
                      <a:pt x="4573" y="5"/>
                      <a:pt x="4572" y="5"/>
                    </a:cubicBezTo>
                    <a:lnTo>
                      <a:pt x="4572" y="5"/>
                    </a:lnTo>
                    <a:cubicBezTo>
                      <a:pt x="4571" y="5"/>
                      <a:pt x="4570" y="4"/>
                      <a:pt x="4570" y="3"/>
                    </a:cubicBezTo>
                    <a:cubicBezTo>
                      <a:pt x="4570" y="2"/>
                      <a:pt x="4571" y="1"/>
                      <a:pt x="4572" y="1"/>
                    </a:cubicBezTo>
                    <a:close/>
                    <a:moveTo>
                      <a:pt x="4580" y="1"/>
                    </a:moveTo>
                    <a:lnTo>
                      <a:pt x="4580" y="1"/>
                    </a:lnTo>
                    <a:cubicBezTo>
                      <a:pt x="4581" y="1"/>
                      <a:pt x="4582" y="2"/>
                      <a:pt x="4582" y="3"/>
                    </a:cubicBezTo>
                    <a:cubicBezTo>
                      <a:pt x="4582" y="4"/>
                      <a:pt x="4581" y="5"/>
                      <a:pt x="4580" y="5"/>
                    </a:cubicBezTo>
                    <a:lnTo>
                      <a:pt x="4580" y="5"/>
                    </a:lnTo>
                    <a:cubicBezTo>
                      <a:pt x="4579" y="5"/>
                      <a:pt x="4578" y="4"/>
                      <a:pt x="4578" y="3"/>
                    </a:cubicBezTo>
                    <a:cubicBezTo>
                      <a:pt x="4578" y="2"/>
                      <a:pt x="4579" y="1"/>
                      <a:pt x="4580" y="1"/>
                    </a:cubicBezTo>
                    <a:close/>
                    <a:moveTo>
                      <a:pt x="4588" y="1"/>
                    </a:moveTo>
                    <a:lnTo>
                      <a:pt x="4588" y="1"/>
                    </a:lnTo>
                    <a:cubicBezTo>
                      <a:pt x="4589" y="1"/>
                      <a:pt x="4590" y="2"/>
                      <a:pt x="4590" y="3"/>
                    </a:cubicBezTo>
                    <a:cubicBezTo>
                      <a:pt x="4590" y="4"/>
                      <a:pt x="4589" y="5"/>
                      <a:pt x="4588" y="5"/>
                    </a:cubicBezTo>
                    <a:lnTo>
                      <a:pt x="4588" y="5"/>
                    </a:lnTo>
                    <a:cubicBezTo>
                      <a:pt x="4587" y="5"/>
                      <a:pt x="4586" y="4"/>
                      <a:pt x="4586" y="3"/>
                    </a:cubicBezTo>
                    <a:cubicBezTo>
                      <a:pt x="4586" y="2"/>
                      <a:pt x="4587" y="1"/>
                      <a:pt x="4588" y="1"/>
                    </a:cubicBezTo>
                    <a:close/>
                    <a:moveTo>
                      <a:pt x="4596" y="1"/>
                    </a:moveTo>
                    <a:lnTo>
                      <a:pt x="4596" y="1"/>
                    </a:lnTo>
                    <a:cubicBezTo>
                      <a:pt x="4597" y="1"/>
                      <a:pt x="4598" y="2"/>
                      <a:pt x="4598" y="3"/>
                    </a:cubicBezTo>
                    <a:cubicBezTo>
                      <a:pt x="4598" y="4"/>
                      <a:pt x="4597" y="5"/>
                      <a:pt x="4596" y="5"/>
                    </a:cubicBezTo>
                    <a:lnTo>
                      <a:pt x="4596" y="5"/>
                    </a:lnTo>
                    <a:cubicBezTo>
                      <a:pt x="4595" y="5"/>
                      <a:pt x="4594" y="4"/>
                      <a:pt x="4594" y="3"/>
                    </a:cubicBezTo>
                    <a:cubicBezTo>
                      <a:pt x="4594" y="2"/>
                      <a:pt x="4595" y="1"/>
                      <a:pt x="4596" y="1"/>
                    </a:cubicBezTo>
                    <a:close/>
                    <a:moveTo>
                      <a:pt x="4604" y="1"/>
                    </a:moveTo>
                    <a:lnTo>
                      <a:pt x="4604" y="1"/>
                    </a:lnTo>
                    <a:cubicBezTo>
                      <a:pt x="4605" y="1"/>
                      <a:pt x="4606" y="2"/>
                      <a:pt x="4606" y="3"/>
                    </a:cubicBezTo>
                    <a:cubicBezTo>
                      <a:pt x="4606" y="4"/>
                      <a:pt x="4605" y="5"/>
                      <a:pt x="4604" y="5"/>
                    </a:cubicBezTo>
                    <a:lnTo>
                      <a:pt x="4604" y="5"/>
                    </a:lnTo>
                    <a:cubicBezTo>
                      <a:pt x="4603" y="5"/>
                      <a:pt x="4602" y="4"/>
                      <a:pt x="4602" y="3"/>
                    </a:cubicBezTo>
                    <a:cubicBezTo>
                      <a:pt x="4602" y="2"/>
                      <a:pt x="4603" y="1"/>
                      <a:pt x="4604" y="1"/>
                    </a:cubicBezTo>
                    <a:close/>
                    <a:moveTo>
                      <a:pt x="4612" y="1"/>
                    </a:moveTo>
                    <a:lnTo>
                      <a:pt x="4612" y="1"/>
                    </a:lnTo>
                    <a:cubicBezTo>
                      <a:pt x="4613" y="1"/>
                      <a:pt x="4614" y="2"/>
                      <a:pt x="4614" y="3"/>
                    </a:cubicBezTo>
                    <a:cubicBezTo>
                      <a:pt x="4614" y="4"/>
                      <a:pt x="4613" y="5"/>
                      <a:pt x="4612" y="5"/>
                    </a:cubicBezTo>
                    <a:lnTo>
                      <a:pt x="4612" y="5"/>
                    </a:lnTo>
                    <a:cubicBezTo>
                      <a:pt x="4611" y="5"/>
                      <a:pt x="4610" y="4"/>
                      <a:pt x="4610" y="3"/>
                    </a:cubicBezTo>
                    <a:cubicBezTo>
                      <a:pt x="4610" y="2"/>
                      <a:pt x="4611" y="1"/>
                      <a:pt x="4612" y="1"/>
                    </a:cubicBezTo>
                    <a:close/>
                    <a:moveTo>
                      <a:pt x="4620" y="1"/>
                    </a:moveTo>
                    <a:lnTo>
                      <a:pt x="4620" y="1"/>
                    </a:lnTo>
                    <a:cubicBezTo>
                      <a:pt x="4621" y="1"/>
                      <a:pt x="4622" y="2"/>
                      <a:pt x="4622" y="3"/>
                    </a:cubicBezTo>
                    <a:cubicBezTo>
                      <a:pt x="4622" y="4"/>
                      <a:pt x="4621" y="5"/>
                      <a:pt x="4620" y="5"/>
                    </a:cubicBezTo>
                    <a:lnTo>
                      <a:pt x="4620" y="5"/>
                    </a:lnTo>
                    <a:cubicBezTo>
                      <a:pt x="4619" y="5"/>
                      <a:pt x="4618" y="4"/>
                      <a:pt x="4618" y="3"/>
                    </a:cubicBezTo>
                    <a:cubicBezTo>
                      <a:pt x="4618" y="2"/>
                      <a:pt x="4619" y="1"/>
                      <a:pt x="4620" y="1"/>
                    </a:cubicBezTo>
                    <a:close/>
                    <a:moveTo>
                      <a:pt x="4628" y="1"/>
                    </a:moveTo>
                    <a:lnTo>
                      <a:pt x="4628" y="1"/>
                    </a:lnTo>
                    <a:cubicBezTo>
                      <a:pt x="4629" y="1"/>
                      <a:pt x="4630" y="2"/>
                      <a:pt x="4630" y="3"/>
                    </a:cubicBezTo>
                    <a:cubicBezTo>
                      <a:pt x="4630" y="4"/>
                      <a:pt x="4629" y="5"/>
                      <a:pt x="4628" y="5"/>
                    </a:cubicBezTo>
                    <a:lnTo>
                      <a:pt x="4628" y="5"/>
                    </a:lnTo>
                    <a:cubicBezTo>
                      <a:pt x="4627" y="5"/>
                      <a:pt x="4626" y="4"/>
                      <a:pt x="4626" y="3"/>
                    </a:cubicBezTo>
                    <a:cubicBezTo>
                      <a:pt x="4626" y="2"/>
                      <a:pt x="4627" y="1"/>
                      <a:pt x="4628" y="1"/>
                    </a:cubicBezTo>
                    <a:close/>
                    <a:moveTo>
                      <a:pt x="4636" y="1"/>
                    </a:moveTo>
                    <a:lnTo>
                      <a:pt x="4636" y="1"/>
                    </a:lnTo>
                    <a:cubicBezTo>
                      <a:pt x="4637" y="1"/>
                      <a:pt x="4638" y="2"/>
                      <a:pt x="4638" y="3"/>
                    </a:cubicBezTo>
                    <a:cubicBezTo>
                      <a:pt x="4638" y="4"/>
                      <a:pt x="4637" y="5"/>
                      <a:pt x="4636" y="5"/>
                    </a:cubicBezTo>
                    <a:lnTo>
                      <a:pt x="4636" y="5"/>
                    </a:lnTo>
                    <a:cubicBezTo>
                      <a:pt x="4635" y="5"/>
                      <a:pt x="4634" y="4"/>
                      <a:pt x="4634" y="3"/>
                    </a:cubicBezTo>
                    <a:cubicBezTo>
                      <a:pt x="4634" y="2"/>
                      <a:pt x="4635" y="1"/>
                      <a:pt x="4636" y="1"/>
                    </a:cubicBezTo>
                    <a:close/>
                    <a:moveTo>
                      <a:pt x="4644" y="1"/>
                    </a:moveTo>
                    <a:lnTo>
                      <a:pt x="4644" y="1"/>
                    </a:lnTo>
                    <a:cubicBezTo>
                      <a:pt x="4645" y="1"/>
                      <a:pt x="4646" y="2"/>
                      <a:pt x="4646" y="3"/>
                    </a:cubicBezTo>
                    <a:cubicBezTo>
                      <a:pt x="4646" y="4"/>
                      <a:pt x="4645" y="5"/>
                      <a:pt x="4644" y="5"/>
                    </a:cubicBezTo>
                    <a:lnTo>
                      <a:pt x="4644" y="5"/>
                    </a:lnTo>
                    <a:cubicBezTo>
                      <a:pt x="4643" y="5"/>
                      <a:pt x="4642" y="4"/>
                      <a:pt x="4642" y="3"/>
                    </a:cubicBezTo>
                    <a:cubicBezTo>
                      <a:pt x="4642" y="2"/>
                      <a:pt x="4643" y="1"/>
                      <a:pt x="4644" y="1"/>
                    </a:cubicBezTo>
                    <a:close/>
                    <a:moveTo>
                      <a:pt x="4652" y="1"/>
                    </a:moveTo>
                    <a:lnTo>
                      <a:pt x="4652" y="1"/>
                    </a:lnTo>
                    <a:cubicBezTo>
                      <a:pt x="4653" y="1"/>
                      <a:pt x="4654" y="2"/>
                      <a:pt x="4654" y="3"/>
                    </a:cubicBezTo>
                    <a:cubicBezTo>
                      <a:pt x="4654" y="4"/>
                      <a:pt x="4653" y="5"/>
                      <a:pt x="4652" y="5"/>
                    </a:cubicBezTo>
                    <a:lnTo>
                      <a:pt x="4652" y="5"/>
                    </a:lnTo>
                    <a:cubicBezTo>
                      <a:pt x="4651" y="5"/>
                      <a:pt x="4650" y="4"/>
                      <a:pt x="4650" y="3"/>
                    </a:cubicBezTo>
                    <a:cubicBezTo>
                      <a:pt x="4650" y="2"/>
                      <a:pt x="4651" y="1"/>
                      <a:pt x="4652" y="1"/>
                    </a:cubicBezTo>
                    <a:close/>
                    <a:moveTo>
                      <a:pt x="4660" y="1"/>
                    </a:moveTo>
                    <a:lnTo>
                      <a:pt x="4660" y="1"/>
                    </a:lnTo>
                    <a:cubicBezTo>
                      <a:pt x="4661" y="1"/>
                      <a:pt x="4662" y="2"/>
                      <a:pt x="4662" y="3"/>
                    </a:cubicBezTo>
                    <a:cubicBezTo>
                      <a:pt x="4662" y="4"/>
                      <a:pt x="4661" y="5"/>
                      <a:pt x="4660" y="5"/>
                    </a:cubicBezTo>
                    <a:lnTo>
                      <a:pt x="4660" y="5"/>
                    </a:lnTo>
                    <a:cubicBezTo>
                      <a:pt x="4659" y="5"/>
                      <a:pt x="4658" y="4"/>
                      <a:pt x="4658" y="3"/>
                    </a:cubicBezTo>
                    <a:cubicBezTo>
                      <a:pt x="4658" y="2"/>
                      <a:pt x="4659" y="1"/>
                      <a:pt x="4660" y="1"/>
                    </a:cubicBezTo>
                    <a:close/>
                    <a:moveTo>
                      <a:pt x="4668" y="1"/>
                    </a:moveTo>
                    <a:lnTo>
                      <a:pt x="4668" y="1"/>
                    </a:lnTo>
                    <a:cubicBezTo>
                      <a:pt x="4669" y="1"/>
                      <a:pt x="4670" y="2"/>
                      <a:pt x="4670" y="3"/>
                    </a:cubicBezTo>
                    <a:cubicBezTo>
                      <a:pt x="4670" y="4"/>
                      <a:pt x="4669" y="5"/>
                      <a:pt x="4668" y="5"/>
                    </a:cubicBezTo>
                    <a:lnTo>
                      <a:pt x="4668" y="5"/>
                    </a:lnTo>
                    <a:cubicBezTo>
                      <a:pt x="4667" y="5"/>
                      <a:pt x="4666" y="4"/>
                      <a:pt x="4666" y="3"/>
                    </a:cubicBezTo>
                    <a:cubicBezTo>
                      <a:pt x="4666" y="2"/>
                      <a:pt x="4667" y="1"/>
                      <a:pt x="4668" y="1"/>
                    </a:cubicBezTo>
                    <a:close/>
                    <a:moveTo>
                      <a:pt x="4676" y="1"/>
                    </a:moveTo>
                    <a:lnTo>
                      <a:pt x="4676" y="1"/>
                    </a:lnTo>
                    <a:cubicBezTo>
                      <a:pt x="4677" y="1"/>
                      <a:pt x="4678" y="2"/>
                      <a:pt x="4678" y="3"/>
                    </a:cubicBezTo>
                    <a:cubicBezTo>
                      <a:pt x="4678" y="4"/>
                      <a:pt x="4677" y="5"/>
                      <a:pt x="4676" y="5"/>
                    </a:cubicBezTo>
                    <a:lnTo>
                      <a:pt x="4676" y="5"/>
                    </a:lnTo>
                    <a:cubicBezTo>
                      <a:pt x="4675" y="5"/>
                      <a:pt x="4674" y="4"/>
                      <a:pt x="4674" y="3"/>
                    </a:cubicBezTo>
                    <a:cubicBezTo>
                      <a:pt x="4674" y="2"/>
                      <a:pt x="4675" y="1"/>
                      <a:pt x="4676" y="1"/>
                    </a:cubicBezTo>
                    <a:close/>
                    <a:moveTo>
                      <a:pt x="4684" y="1"/>
                    </a:moveTo>
                    <a:lnTo>
                      <a:pt x="4684" y="1"/>
                    </a:lnTo>
                    <a:cubicBezTo>
                      <a:pt x="4685" y="1"/>
                      <a:pt x="4686" y="2"/>
                      <a:pt x="4686" y="3"/>
                    </a:cubicBezTo>
                    <a:cubicBezTo>
                      <a:pt x="4686" y="4"/>
                      <a:pt x="4685" y="5"/>
                      <a:pt x="4684" y="5"/>
                    </a:cubicBezTo>
                    <a:lnTo>
                      <a:pt x="4684" y="5"/>
                    </a:lnTo>
                    <a:cubicBezTo>
                      <a:pt x="4683" y="5"/>
                      <a:pt x="4682" y="4"/>
                      <a:pt x="4682" y="3"/>
                    </a:cubicBezTo>
                    <a:cubicBezTo>
                      <a:pt x="4682" y="2"/>
                      <a:pt x="4683" y="1"/>
                      <a:pt x="4684" y="1"/>
                    </a:cubicBezTo>
                    <a:close/>
                    <a:moveTo>
                      <a:pt x="4692" y="1"/>
                    </a:moveTo>
                    <a:lnTo>
                      <a:pt x="4692" y="1"/>
                    </a:lnTo>
                    <a:cubicBezTo>
                      <a:pt x="4693" y="1"/>
                      <a:pt x="4694" y="2"/>
                      <a:pt x="4694" y="3"/>
                    </a:cubicBezTo>
                    <a:cubicBezTo>
                      <a:pt x="4694" y="4"/>
                      <a:pt x="4693" y="5"/>
                      <a:pt x="4692" y="5"/>
                    </a:cubicBezTo>
                    <a:lnTo>
                      <a:pt x="4692" y="5"/>
                    </a:lnTo>
                    <a:cubicBezTo>
                      <a:pt x="4691" y="5"/>
                      <a:pt x="4690" y="4"/>
                      <a:pt x="4690" y="3"/>
                    </a:cubicBezTo>
                    <a:cubicBezTo>
                      <a:pt x="4690" y="2"/>
                      <a:pt x="4691" y="1"/>
                      <a:pt x="4692" y="1"/>
                    </a:cubicBezTo>
                    <a:close/>
                    <a:moveTo>
                      <a:pt x="4700" y="1"/>
                    </a:moveTo>
                    <a:lnTo>
                      <a:pt x="4700" y="1"/>
                    </a:lnTo>
                    <a:cubicBezTo>
                      <a:pt x="4701" y="1"/>
                      <a:pt x="4702" y="2"/>
                      <a:pt x="4702" y="3"/>
                    </a:cubicBezTo>
                    <a:cubicBezTo>
                      <a:pt x="4702" y="4"/>
                      <a:pt x="4701" y="5"/>
                      <a:pt x="4700" y="5"/>
                    </a:cubicBezTo>
                    <a:lnTo>
                      <a:pt x="4700" y="5"/>
                    </a:lnTo>
                    <a:cubicBezTo>
                      <a:pt x="4699" y="5"/>
                      <a:pt x="4698" y="4"/>
                      <a:pt x="4698" y="3"/>
                    </a:cubicBezTo>
                    <a:cubicBezTo>
                      <a:pt x="4698" y="2"/>
                      <a:pt x="4699" y="1"/>
                      <a:pt x="4700" y="1"/>
                    </a:cubicBezTo>
                    <a:close/>
                    <a:moveTo>
                      <a:pt x="4708" y="1"/>
                    </a:moveTo>
                    <a:lnTo>
                      <a:pt x="4708" y="1"/>
                    </a:lnTo>
                    <a:cubicBezTo>
                      <a:pt x="4709" y="1"/>
                      <a:pt x="4710" y="2"/>
                      <a:pt x="4710" y="3"/>
                    </a:cubicBezTo>
                    <a:cubicBezTo>
                      <a:pt x="4710" y="4"/>
                      <a:pt x="4709" y="5"/>
                      <a:pt x="4708" y="5"/>
                    </a:cubicBezTo>
                    <a:lnTo>
                      <a:pt x="4708" y="5"/>
                    </a:lnTo>
                    <a:cubicBezTo>
                      <a:pt x="4707" y="5"/>
                      <a:pt x="4706" y="4"/>
                      <a:pt x="4706" y="3"/>
                    </a:cubicBezTo>
                    <a:cubicBezTo>
                      <a:pt x="4706" y="2"/>
                      <a:pt x="4707" y="1"/>
                      <a:pt x="4708" y="1"/>
                    </a:cubicBezTo>
                    <a:close/>
                    <a:moveTo>
                      <a:pt x="4716" y="1"/>
                    </a:moveTo>
                    <a:lnTo>
                      <a:pt x="4716" y="1"/>
                    </a:lnTo>
                    <a:cubicBezTo>
                      <a:pt x="4717" y="1"/>
                      <a:pt x="4718" y="2"/>
                      <a:pt x="4718" y="3"/>
                    </a:cubicBezTo>
                    <a:cubicBezTo>
                      <a:pt x="4718" y="4"/>
                      <a:pt x="4717" y="5"/>
                      <a:pt x="4716" y="5"/>
                    </a:cubicBezTo>
                    <a:lnTo>
                      <a:pt x="4716" y="5"/>
                    </a:lnTo>
                    <a:cubicBezTo>
                      <a:pt x="4715" y="5"/>
                      <a:pt x="4714" y="4"/>
                      <a:pt x="4714" y="3"/>
                    </a:cubicBezTo>
                    <a:cubicBezTo>
                      <a:pt x="4714" y="2"/>
                      <a:pt x="4715" y="1"/>
                      <a:pt x="4716" y="1"/>
                    </a:cubicBezTo>
                    <a:close/>
                    <a:moveTo>
                      <a:pt x="4724" y="1"/>
                    </a:moveTo>
                    <a:lnTo>
                      <a:pt x="4724" y="1"/>
                    </a:lnTo>
                    <a:cubicBezTo>
                      <a:pt x="4725" y="1"/>
                      <a:pt x="4726" y="2"/>
                      <a:pt x="4726" y="3"/>
                    </a:cubicBezTo>
                    <a:cubicBezTo>
                      <a:pt x="4726" y="4"/>
                      <a:pt x="4725" y="5"/>
                      <a:pt x="4724" y="5"/>
                    </a:cubicBezTo>
                    <a:lnTo>
                      <a:pt x="4724" y="5"/>
                    </a:lnTo>
                    <a:cubicBezTo>
                      <a:pt x="4723" y="5"/>
                      <a:pt x="4722" y="4"/>
                      <a:pt x="4722" y="3"/>
                    </a:cubicBezTo>
                    <a:cubicBezTo>
                      <a:pt x="4722" y="2"/>
                      <a:pt x="4723" y="1"/>
                      <a:pt x="4724" y="1"/>
                    </a:cubicBezTo>
                    <a:close/>
                    <a:moveTo>
                      <a:pt x="4732" y="1"/>
                    </a:moveTo>
                    <a:lnTo>
                      <a:pt x="4732" y="1"/>
                    </a:lnTo>
                    <a:cubicBezTo>
                      <a:pt x="4733" y="1"/>
                      <a:pt x="4734" y="2"/>
                      <a:pt x="4734" y="3"/>
                    </a:cubicBezTo>
                    <a:cubicBezTo>
                      <a:pt x="4734" y="4"/>
                      <a:pt x="4733" y="5"/>
                      <a:pt x="4732" y="5"/>
                    </a:cubicBezTo>
                    <a:lnTo>
                      <a:pt x="4732" y="5"/>
                    </a:lnTo>
                    <a:cubicBezTo>
                      <a:pt x="4731" y="5"/>
                      <a:pt x="4730" y="4"/>
                      <a:pt x="4730" y="3"/>
                    </a:cubicBezTo>
                    <a:cubicBezTo>
                      <a:pt x="4730" y="2"/>
                      <a:pt x="4731" y="1"/>
                      <a:pt x="4732" y="1"/>
                    </a:cubicBezTo>
                    <a:close/>
                    <a:moveTo>
                      <a:pt x="4740" y="1"/>
                    </a:moveTo>
                    <a:lnTo>
                      <a:pt x="4740" y="1"/>
                    </a:lnTo>
                    <a:cubicBezTo>
                      <a:pt x="4741" y="1"/>
                      <a:pt x="4742" y="2"/>
                      <a:pt x="4742" y="3"/>
                    </a:cubicBezTo>
                    <a:cubicBezTo>
                      <a:pt x="4742" y="4"/>
                      <a:pt x="4741" y="5"/>
                      <a:pt x="4740" y="5"/>
                    </a:cubicBezTo>
                    <a:lnTo>
                      <a:pt x="4740" y="5"/>
                    </a:lnTo>
                    <a:cubicBezTo>
                      <a:pt x="4739" y="5"/>
                      <a:pt x="4738" y="4"/>
                      <a:pt x="4738" y="3"/>
                    </a:cubicBezTo>
                    <a:cubicBezTo>
                      <a:pt x="4738" y="2"/>
                      <a:pt x="4739" y="1"/>
                      <a:pt x="4740" y="1"/>
                    </a:cubicBezTo>
                    <a:close/>
                    <a:moveTo>
                      <a:pt x="4748" y="1"/>
                    </a:moveTo>
                    <a:lnTo>
                      <a:pt x="4748" y="1"/>
                    </a:lnTo>
                    <a:cubicBezTo>
                      <a:pt x="4749" y="1"/>
                      <a:pt x="4750" y="2"/>
                      <a:pt x="4750" y="3"/>
                    </a:cubicBezTo>
                    <a:cubicBezTo>
                      <a:pt x="4750" y="4"/>
                      <a:pt x="4749" y="5"/>
                      <a:pt x="4748" y="5"/>
                    </a:cubicBezTo>
                    <a:lnTo>
                      <a:pt x="4748" y="5"/>
                    </a:lnTo>
                    <a:cubicBezTo>
                      <a:pt x="4747" y="5"/>
                      <a:pt x="4746" y="4"/>
                      <a:pt x="4746" y="3"/>
                    </a:cubicBezTo>
                    <a:cubicBezTo>
                      <a:pt x="4746" y="2"/>
                      <a:pt x="4747" y="1"/>
                      <a:pt x="4748" y="1"/>
                    </a:cubicBezTo>
                    <a:close/>
                    <a:moveTo>
                      <a:pt x="4756" y="1"/>
                    </a:moveTo>
                    <a:lnTo>
                      <a:pt x="4756" y="1"/>
                    </a:lnTo>
                    <a:cubicBezTo>
                      <a:pt x="4757" y="1"/>
                      <a:pt x="4758" y="2"/>
                      <a:pt x="4758" y="3"/>
                    </a:cubicBezTo>
                    <a:cubicBezTo>
                      <a:pt x="4758" y="4"/>
                      <a:pt x="4757" y="5"/>
                      <a:pt x="4756" y="5"/>
                    </a:cubicBezTo>
                    <a:lnTo>
                      <a:pt x="4756" y="5"/>
                    </a:lnTo>
                    <a:cubicBezTo>
                      <a:pt x="4755" y="5"/>
                      <a:pt x="4754" y="4"/>
                      <a:pt x="4754" y="3"/>
                    </a:cubicBezTo>
                    <a:cubicBezTo>
                      <a:pt x="4754" y="2"/>
                      <a:pt x="4755" y="1"/>
                      <a:pt x="4756" y="1"/>
                    </a:cubicBezTo>
                    <a:close/>
                    <a:moveTo>
                      <a:pt x="4764" y="1"/>
                    </a:moveTo>
                    <a:lnTo>
                      <a:pt x="4764" y="1"/>
                    </a:lnTo>
                    <a:cubicBezTo>
                      <a:pt x="4765" y="1"/>
                      <a:pt x="4766" y="2"/>
                      <a:pt x="4766" y="3"/>
                    </a:cubicBezTo>
                    <a:cubicBezTo>
                      <a:pt x="4766" y="4"/>
                      <a:pt x="4765" y="5"/>
                      <a:pt x="4764" y="5"/>
                    </a:cubicBezTo>
                    <a:lnTo>
                      <a:pt x="4764" y="5"/>
                    </a:lnTo>
                    <a:cubicBezTo>
                      <a:pt x="4763" y="5"/>
                      <a:pt x="4762" y="4"/>
                      <a:pt x="4762" y="3"/>
                    </a:cubicBezTo>
                    <a:cubicBezTo>
                      <a:pt x="4762" y="2"/>
                      <a:pt x="4763" y="1"/>
                      <a:pt x="4764" y="1"/>
                    </a:cubicBezTo>
                    <a:close/>
                    <a:moveTo>
                      <a:pt x="4772" y="1"/>
                    </a:moveTo>
                    <a:lnTo>
                      <a:pt x="4772" y="1"/>
                    </a:lnTo>
                    <a:cubicBezTo>
                      <a:pt x="4773" y="1"/>
                      <a:pt x="4774" y="2"/>
                      <a:pt x="4774" y="3"/>
                    </a:cubicBezTo>
                    <a:cubicBezTo>
                      <a:pt x="4774" y="4"/>
                      <a:pt x="4773" y="5"/>
                      <a:pt x="4772" y="5"/>
                    </a:cubicBezTo>
                    <a:lnTo>
                      <a:pt x="4772" y="5"/>
                    </a:lnTo>
                    <a:cubicBezTo>
                      <a:pt x="4771" y="5"/>
                      <a:pt x="4770" y="4"/>
                      <a:pt x="4770" y="3"/>
                    </a:cubicBezTo>
                    <a:cubicBezTo>
                      <a:pt x="4770" y="2"/>
                      <a:pt x="4771" y="1"/>
                      <a:pt x="4772" y="1"/>
                    </a:cubicBezTo>
                    <a:close/>
                    <a:moveTo>
                      <a:pt x="4780" y="1"/>
                    </a:moveTo>
                    <a:lnTo>
                      <a:pt x="4780" y="1"/>
                    </a:lnTo>
                    <a:cubicBezTo>
                      <a:pt x="4781" y="1"/>
                      <a:pt x="4782" y="2"/>
                      <a:pt x="4782" y="3"/>
                    </a:cubicBezTo>
                    <a:cubicBezTo>
                      <a:pt x="4782" y="4"/>
                      <a:pt x="4781" y="5"/>
                      <a:pt x="4780" y="5"/>
                    </a:cubicBezTo>
                    <a:lnTo>
                      <a:pt x="4780" y="5"/>
                    </a:lnTo>
                    <a:cubicBezTo>
                      <a:pt x="4779" y="5"/>
                      <a:pt x="4778" y="4"/>
                      <a:pt x="4778" y="3"/>
                    </a:cubicBezTo>
                    <a:cubicBezTo>
                      <a:pt x="4778" y="2"/>
                      <a:pt x="4779" y="1"/>
                      <a:pt x="4780" y="1"/>
                    </a:cubicBezTo>
                    <a:close/>
                    <a:moveTo>
                      <a:pt x="4788" y="1"/>
                    </a:moveTo>
                    <a:lnTo>
                      <a:pt x="4788" y="1"/>
                    </a:lnTo>
                    <a:cubicBezTo>
                      <a:pt x="4789" y="1"/>
                      <a:pt x="4790" y="2"/>
                      <a:pt x="4790" y="3"/>
                    </a:cubicBezTo>
                    <a:cubicBezTo>
                      <a:pt x="4790" y="4"/>
                      <a:pt x="4789" y="5"/>
                      <a:pt x="4788" y="5"/>
                    </a:cubicBezTo>
                    <a:lnTo>
                      <a:pt x="4788" y="5"/>
                    </a:lnTo>
                    <a:cubicBezTo>
                      <a:pt x="4787" y="5"/>
                      <a:pt x="4786" y="4"/>
                      <a:pt x="4786" y="3"/>
                    </a:cubicBezTo>
                    <a:cubicBezTo>
                      <a:pt x="4786" y="2"/>
                      <a:pt x="4787" y="1"/>
                      <a:pt x="4788" y="1"/>
                    </a:cubicBezTo>
                    <a:close/>
                    <a:moveTo>
                      <a:pt x="4796" y="1"/>
                    </a:moveTo>
                    <a:lnTo>
                      <a:pt x="4796" y="1"/>
                    </a:lnTo>
                    <a:cubicBezTo>
                      <a:pt x="4797" y="1"/>
                      <a:pt x="4798" y="2"/>
                      <a:pt x="4798" y="3"/>
                    </a:cubicBezTo>
                    <a:cubicBezTo>
                      <a:pt x="4798" y="4"/>
                      <a:pt x="4797" y="5"/>
                      <a:pt x="4796" y="5"/>
                    </a:cubicBezTo>
                    <a:lnTo>
                      <a:pt x="4796" y="5"/>
                    </a:lnTo>
                    <a:cubicBezTo>
                      <a:pt x="4795" y="5"/>
                      <a:pt x="4794" y="4"/>
                      <a:pt x="4794" y="3"/>
                    </a:cubicBezTo>
                    <a:cubicBezTo>
                      <a:pt x="4794" y="2"/>
                      <a:pt x="4795" y="1"/>
                      <a:pt x="4796" y="1"/>
                    </a:cubicBezTo>
                    <a:close/>
                    <a:moveTo>
                      <a:pt x="4804" y="1"/>
                    </a:moveTo>
                    <a:lnTo>
                      <a:pt x="4804" y="1"/>
                    </a:lnTo>
                    <a:cubicBezTo>
                      <a:pt x="4805" y="1"/>
                      <a:pt x="4806" y="2"/>
                      <a:pt x="4806" y="3"/>
                    </a:cubicBezTo>
                    <a:cubicBezTo>
                      <a:pt x="4806" y="4"/>
                      <a:pt x="4805" y="5"/>
                      <a:pt x="4804" y="5"/>
                    </a:cubicBezTo>
                    <a:lnTo>
                      <a:pt x="4804" y="5"/>
                    </a:lnTo>
                    <a:cubicBezTo>
                      <a:pt x="4803" y="5"/>
                      <a:pt x="4802" y="4"/>
                      <a:pt x="4802" y="3"/>
                    </a:cubicBezTo>
                    <a:cubicBezTo>
                      <a:pt x="4802" y="2"/>
                      <a:pt x="4803" y="1"/>
                      <a:pt x="4804" y="1"/>
                    </a:cubicBezTo>
                    <a:close/>
                    <a:moveTo>
                      <a:pt x="4812" y="1"/>
                    </a:moveTo>
                    <a:lnTo>
                      <a:pt x="4812" y="1"/>
                    </a:lnTo>
                    <a:cubicBezTo>
                      <a:pt x="4813" y="1"/>
                      <a:pt x="4814" y="2"/>
                      <a:pt x="4814" y="3"/>
                    </a:cubicBezTo>
                    <a:cubicBezTo>
                      <a:pt x="4814" y="4"/>
                      <a:pt x="4813" y="5"/>
                      <a:pt x="4812" y="5"/>
                    </a:cubicBezTo>
                    <a:lnTo>
                      <a:pt x="4812" y="5"/>
                    </a:lnTo>
                    <a:cubicBezTo>
                      <a:pt x="4811" y="5"/>
                      <a:pt x="4810" y="4"/>
                      <a:pt x="4810" y="3"/>
                    </a:cubicBezTo>
                    <a:cubicBezTo>
                      <a:pt x="4810" y="2"/>
                      <a:pt x="4811" y="1"/>
                      <a:pt x="4812" y="1"/>
                    </a:cubicBezTo>
                    <a:close/>
                    <a:moveTo>
                      <a:pt x="4820" y="1"/>
                    </a:moveTo>
                    <a:lnTo>
                      <a:pt x="4820" y="1"/>
                    </a:lnTo>
                    <a:cubicBezTo>
                      <a:pt x="4821" y="1"/>
                      <a:pt x="4822" y="2"/>
                      <a:pt x="4822" y="3"/>
                    </a:cubicBezTo>
                    <a:cubicBezTo>
                      <a:pt x="4822" y="4"/>
                      <a:pt x="4821" y="5"/>
                      <a:pt x="4820" y="5"/>
                    </a:cubicBezTo>
                    <a:lnTo>
                      <a:pt x="4820" y="5"/>
                    </a:lnTo>
                    <a:cubicBezTo>
                      <a:pt x="4819" y="5"/>
                      <a:pt x="4818" y="4"/>
                      <a:pt x="4818" y="3"/>
                    </a:cubicBezTo>
                    <a:cubicBezTo>
                      <a:pt x="4818" y="2"/>
                      <a:pt x="4819" y="1"/>
                      <a:pt x="4820" y="1"/>
                    </a:cubicBezTo>
                    <a:close/>
                    <a:moveTo>
                      <a:pt x="4828" y="1"/>
                    </a:moveTo>
                    <a:lnTo>
                      <a:pt x="4828" y="1"/>
                    </a:lnTo>
                    <a:cubicBezTo>
                      <a:pt x="4829" y="1"/>
                      <a:pt x="4830" y="2"/>
                      <a:pt x="4830" y="3"/>
                    </a:cubicBezTo>
                    <a:cubicBezTo>
                      <a:pt x="4830" y="4"/>
                      <a:pt x="4829" y="5"/>
                      <a:pt x="4828" y="5"/>
                    </a:cubicBezTo>
                    <a:lnTo>
                      <a:pt x="4828" y="5"/>
                    </a:lnTo>
                    <a:cubicBezTo>
                      <a:pt x="4827" y="5"/>
                      <a:pt x="4826" y="4"/>
                      <a:pt x="4826" y="3"/>
                    </a:cubicBezTo>
                    <a:cubicBezTo>
                      <a:pt x="4826" y="2"/>
                      <a:pt x="4827" y="1"/>
                      <a:pt x="4828" y="1"/>
                    </a:cubicBezTo>
                    <a:close/>
                    <a:moveTo>
                      <a:pt x="4836" y="1"/>
                    </a:moveTo>
                    <a:lnTo>
                      <a:pt x="4836" y="1"/>
                    </a:lnTo>
                    <a:cubicBezTo>
                      <a:pt x="4837" y="1"/>
                      <a:pt x="4838" y="2"/>
                      <a:pt x="4838" y="3"/>
                    </a:cubicBezTo>
                    <a:cubicBezTo>
                      <a:pt x="4838" y="4"/>
                      <a:pt x="4837" y="5"/>
                      <a:pt x="4836" y="5"/>
                    </a:cubicBezTo>
                    <a:lnTo>
                      <a:pt x="4836" y="5"/>
                    </a:lnTo>
                    <a:cubicBezTo>
                      <a:pt x="4835" y="5"/>
                      <a:pt x="4834" y="4"/>
                      <a:pt x="4834" y="3"/>
                    </a:cubicBezTo>
                    <a:cubicBezTo>
                      <a:pt x="4834" y="2"/>
                      <a:pt x="4835" y="1"/>
                      <a:pt x="4836" y="1"/>
                    </a:cubicBezTo>
                    <a:close/>
                    <a:moveTo>
                      <a:pt x="4844" y="1"/>
                    </a:moveTo>
                    <a:lnTo>
                      <a:pt x="4844" y="1"/>
                    </a:lnTo>
                    <a:cubicBezTo>
                      <a:pt x="4845" y="1"/>
                      <a:pt x="4846" y="2"/>
                      <a:pt x="4846" y="3"/>
                    </a:cubicBezTo>
                    <a:cubicBezTo>
                      <a:pt x="4846" y="4"/>
                      <a:pt x="4845" y="5"/>
                      <a:pt x="4844" y="5"/>
                    </a:cubicBezTo>
                    <a:lnTo>
                      <a:pt x="4844" y="5"/>
                    </a:lnTo>
                    <a:cubicBezTo>
                      <a:pt x="4843" y="5"/>
                      <a:pt x="4842" y="4"/>
                      <a:pt x="4842" y="3"/>
                    </a:cubicBezTo>
                    <a:cubicBezTo>
                      <a:pt x="4842" y="2"/>
                      <a:pt x="4843" y="1"/>
                      <a:pt x="4844" y="1"/>
                    </a:cubicBezTo>
                    <a:close/>
                    <a:moveTo>
                      <a:pt x="4852" y="1"/>
                    </a:moveTo>
                    <a:lnTo>
                      <a:pt x="4852" y="1"/>
                    </a:lnTo>
                    <a:cubicBezTo>
                      <a:pt x="4853" y="1"/>
                      <a:pt x="4854" y="2"/>
                      <a:pt x="4854" y="3"/>
                    </a:cubicBezTo>
                    <a:cubicBezTo>
                      <a:pt x="4854" y="4"/>
                      <a:pt x="4853" y="5"/>
                      <a:pt x="4852" y="5"/>
                    </a:cubicBezTo>
                    <a:lnTo>
                      <a:pt x="4852" y="5"/>
                    </a:lnTo>
                    <a:cubicBezTo>
                      <a:pt x="4851" y="5"/>
                      <a:pt x="4850" y="4"/>
                      <a:pt x="4850" y="3"/>
                    </a:cubicBezTo>
                    <a:cubicBezTo>
                      <a:pt x="4850" y="2"/>
                      <a:pt x="4851" y="1"/>
                      <a:pt x="4852" y="1"/>
                    </a:cubicBezTo>
                    <a:close/>
                    <a:moveTo>
                      <a:pt x="4860" y="1"/>
                    </a:moveTo>
                    <a:lnTo>
                      <a:pt x="4860" y="1"/>
                    </a:lnTo>
                    <a:cubicBezTo>
                      <a:pt x="4861" y="1"/>
                      <a:pt x="4862" y="2"/>
                      <a:pt x="4862" y="3"/>
                    </a:cubicBezTo>
                    <a:cubicBezTo>
                      <a:pt x="4862" y="4"/>
                      <a:pt x="4861" y="5"/>
                      <a:pt x="4860" y="5"/>
                    </a:cubicBezTo>
                    <a:lnTo>
                      <a:pt x="4860" y="5"/>
                    </a:lnTo>
                    <a:cubicBezTo>
                      <a:pt x="4859" y="5"/>
                      <a:pt x="4858" y="4"/>
                      <a:pt x="4858" y="3"/>
                    </a:cubicBezTo>
                    <a:cubicBezTo>
                      <a:pt x="4858" y="2"/>
                      <a:pt x="4859" y="1"/>
                      <a:pt x="4860" y="1"/>
                    </a:cubicBezTo>
                    <a:close/>
                    <a:moveTo>
                      <a:pt x="4868" y="1"/>
                    </a:moveTo>
                    <a:lnTo>
                      <a:pt x="4868" y="1"/>
                    </a:lnTo>
                    <a:cubicBezTo>
                      <a:pt x="4869" y="1"/>
                      <a:pt x="4870" y="2"/>
                      <a:pt x="4870" y="3"/>
                    </a:cubicBezTo>
                    <a:cubicBezTo>
                      <a:pt x="4870" y="4"/>
                      <a:pt x="4869" y="5"/>
                      <a:pt x="4868" y="5"/>
                    </a:cubicBezTo>
                    <a:lnTo>
                      <a:pt x="4868" y="5"/>
                    </a:lnTo>
                    <a:cubicBezTo>
                      <a:pt x="4867" y="5"/>
                      <a:pt x="4866" y="4"/>
                      <a:pt x="4866" y="3"/>
                    </a:cubicBezTo>
                    <a:cubicBezTo>
                      <a:pt x="4866" y="2"/>
                      <a:pt x="4867" y="1"/>
                      <a:pt x="4868" y="1"/>
                    </a:cubicBezTo>
                    <a:close/>
                    <a:moveTo>
                      <a:pt x="4876" y="1"/>
                    </a:moveTo>
                    <a:lnTo>
                      <a:pt x="4876" y="1"/>
                    </a:lnTo>
                    <a:cubicBezTo>
                      <a:pt x="4877" y="1"/>
                      <a:pt x="4878" y="2"/>
                      <a:pt x="4878" y="3"/>
                    </a:cubicBezTo>
                    <a:cubicBezTo>
                      <a:pt x="4878" y="4"/>
                      <a:pt x="4877" y="5"/>
                      <a:pt x="4876" y="5"/>
                    </a:cubicBezTo>
                    <a:lnTo>
                      <a:pt x="4876" y="5"/>
                    </a:lnTo>
                    <a:cubicBezTo>
                      <a:pt x="4875" y="5"/>
                      <a:pt x="4874" y="4"/>
                      <a:pt x="4874" y="3"/>
                    </a:cubicBezTo>
                    <a:cubicBezTo>
                      <a:pt x="4874" y="2"/>
                      <a:pt x="4875" y="1"/>
                      <a:pt x="4876" y="1"/>
                    </a:cubicBezTo>
                    <a:close/>
                    <a:moveTo>
                      <a:pt x="4884" y="1"/>
                    </a:moveTo>
                    <a:lnTo>
                      <a:pt x="4884" y="1"/>
                    </a:lnTo>
                    <a:cubicBezTo>
                      <a:pt x="4885" y="1"/>
                      <a:pt x="4886" y="2"/>
                      <a:pt x="4886" y="3"/>
                    </a:cubicBezTo>
                    <a:cubicBezTo>
                      <a:pt x="4886" y="4"/>
                      <a:pt x="4885" y="5"/>
                      <a:pt x="4884" y="5"/>
                    </a:cubicBezTo>
                    <a:lnTo>
                      <a:pt x="4884" y="5"/>
                    </a:lnTo>
                    <a:cubicBezTo>
                      <a:pt x="4883" y="5"/>
                      <a:pt x="4882" y="4"/>
                      <a:pt x="4882" y="3"/>
                    </a:cubicBezTo>
                    <a:cubicBezTo>
                      <a:pt x="4882" y="2"/>
                      <a:pt x="4883" y="1"/>
                      <a:pt x="4884" y="1"/>
                    </a:cubicBezTo>
                    <a:close/>
                    <a:moveTo>
                      <a:pt x="4892" y="1"/>
                    </a:moveTo>
                    <a:lnTo>
                      <a:pt x="4892" y="1"/>
                    </a:lnTo>
                    <a:cubicBezTo>
                      <a:pt x="4893" y="1"/>
                      <a:pt x="4894" y="2"/>
                      <a:pt x="4894" y="3"/>
                    </a:cubicBezTo>
                    <a:cubicBezTo>
                      <a:pt x="4894" y="4"/>
                      <a:pt x="4893" y="5"/>
                      <a:pt x="4892" y="5"/>
                    </a:cubicBezTo>
                    <a:lnTo>
                      <a:pt x="4892" y="5"/>
                    </a:lnTo>
                    <a:cubicBezTo>
                      <a:pt x="4891" y="5"/>
                      <a:pt x="4890" y="4"/>
                      <a:pt x="4890" y="3"/>
                    </a:cubicBezTo>
                    <a:cubicBezTo>
                      <a:pt x="4890" y="2"/>
                      <a:pt x="4891" y="1"/>
                      <a:pt x="4892" y="1"/>
                    </a:cubicBezTo>
                    <a:close/>
                    <a:moveTo>
                      <a:pt x="4900" y="1"/>
                    </a:moveTo>
                    <a:lnTo>
                      <a:pt x="4900" y="1"/>
                    </a:lnTo>
                    <a:cubicBezTo>
                      <a:pt x="4901" y="1"/>
                      <a:pt x="4902" y="2"/>
                      <a:pt x="4902" y="3"/>
                    </a:cubicBezTo>
                    <a:cubicBezTo>
                      <a:pt x="4902" y="4"/>
                      <a:pt x="4901" y="5"/>
                      <a:pt x="4900" y="5"/>
                    </a:cubicBezTo>
                    <a:lnTo>
                      <a:pt x="4900" y="5"/>
                    </a:lnTo>
                    <a:cubicBezTo>
                      <a:pt x="4899" y="5"/>
                      <a:pt x="4898" y="4"/>
                      <a:pt x="4898" y="3"/>
                    </a:cubicBezTo>
                    <a:cubicBezTo>
                      <a:pt x="4898" y="2"/>
                      <a:pt x="4899" y="1"/>
                      <a:pt x="4900" y="1"/>
                    </a:cubicBezTo>
                    <a:close/>
                    <a:moveTo>
                      <a:pt x="4908" y="1"/>
                    </a:moveTo>
                    <a:lnTo>
                      <a:pt x="4908" y="1"/>
                    </a:lnTo>
                    <a:cubicBezTo>
                      <a:pt x="4909" y="1"/>
                      <a:pt x="4910" y="2"/>
                      <a:pt x="4910" y="3"/>
                    </a:cubicBezTo>
                    <a:cubicBezTo>
                      <a:pt x="4910" y="4"/>
                      <a:pt x="4909" y="5"/>
                      <a:pt x="4908" y="5"/>
                    </a:cubicBezTo>
                    <a:lnTo>
                      <a:pt x="4908" y="5"/>
                    </a:lnTo>
                    <a:cubicBezTo>
                      <a:pt x="4907" y="5"/>
                      <a:pt x="4906" y="4"/>
                      <a:pt x="4906" y="3"/>
                    </a:cubicBezTo>
                    <a:cubicBezTo>
                      <a:pt x="4906" y="2"/>
                      <a:pt x="4907" y="1"/>
                      <a:pt x="4908" y="1"/>
                    </a:cubicBezTo>
                    <a:close/>
                    <a:moveTo>
                      <a:pt x="4916" y="1"/>
                    </a:moveTo>
                    <a:lnTo>
                      <a:pt x="4916" y="1"/>
                    </a:lnTo>
                    <a:cubicBezTo>
                      <a:pt x="4917" y="1"/>
                      <a:pt x="4918" y="2"/>
                      <a:pt x="4918" y="3"/>
                    </a:cubicBezTo>
                    <a:cubicBezTo>
                      <a:pt x="4918" y="4"/>
                      <a:pt x="4917" y="5"/>
                      <a:pt x="4916" y="5"/>
                    </a:cubicBezTo>
                    <a:lnTo>
                      <a:pt x="4916" y="5"/>
                    </a:lnTo>
                    <a:cubicBezTo>
                      <a:pt x="4915" y="5"/>
                      <a:pt x="4914" y="4"/>
                      <a:pt x="4914" y="3"/>
                    </a:cubicBezTo>
                    <a:cubicBezTo>
                      <a:pt x="4914" y="2"/>
                      <a:pt x="4915" y="1"/>
                      <a:pt x="4916" y="1"/>
                    </a:cubicBezTo>
                    <a:close/>
                    <a:moveTo>
                      <a:pt x="4924" y="1"/>
                    </a:moveTo>
                    <a:lnTo>
                      <a:pt x="4924" y="1"/>
                    </a:lnTo>
                    <a:cubicBezTo>
                      <a:pt x="4925" y="1"/>
                      <a:pt x="4926" y="2"/>
                      <a:pt x="4926" y="3"/>
                    </a:cubicBezTo>
                    <a:cubicBezTo>
                      <a:pt x="4926" y="4"/>
                      <a:pt x="4925" y="5"/>
                      <a:pt x="4924" y="5"/>
                    </a:cubicBezTo>
                    <a:lnTo>
                      <a:pt x="4924" y="5"/>
                    </a:lnTo>
                    <a:cubicBezTo>
                      <a:pt x="4923" y="5"/>
                      <a:pt x="4922" y="4"/>
                      <a:pt x="4922" y="3"/>
                    </a:cubicBezTo>
                    <a:cubicBezTo>
                      <a:pt x="4922" y="2"/>
                      <a:pt x="4923" y="1"/>
                      <a:pt x="4924" y="1"/>
                    </a:cubicBezTo>
                    <a:close/>
                    <a:moveTo>
                      <a:pt x="4932" y="1"/>
                    </a:moveTo>
                    <a:lnTo>
                      <a:pt x="4932" y="1"/>
                    </a:lnTo>
                    <a:cubicBezTo>
                      <a:pt x="4933" y="1"/>
                      <a:pt x="4934" y="2"/>
                      <a:pt x="4934" y="3"/>
                    </a:cubicBezTo>
                    <a:cubicBezTo>
                      <a:pt x="4934" y="4"/>
                      <a:pt x="4933" y="5"/>
                      <a:pt x="4932" y="5"/>
                    </a:cubicBezTo>
                    <a:lnTo>
                      <a:pt x="4932" y="5"/>
                    </a:lnTo>
                    <a:cubicBezTo>
                      <a:pt x="4931" y="5"/>
                      <a:pt x="4930" y="4"/>
                      <a:pt x="4930" y="3"/>
                    </a:cubicBezTo>
                    <a:cubicBezTo>
                      <a:pt x="4930" y="2"/>
                      <a:pt x="4931" y="1"/>
                      <a:pt x="4932" y="1"/>
                    </a:cubicBezTo>
                    <a:close/>
                    <a:moveTo>
                      <a:pt x="4940" y="1"/>
                    </a:moveTo>
                    <a:lnTo>
                      <a:pt x="4940" y="1"/>
                    </a:lnTo>
                    <a:cubicBezTo>
                      <a:pt x="4941" y="1"/>
                      <a:pt x="4942" y="2"/>
                      <a:pt x="4942" y="3"/>
                    </a:cubicBezTo>
                    <a:cubicBezTo>
                      <a:pt x="4942" y="4"/>
                      <a:pt x="4941" y="5"/>
                      <a:pt x="4940" y="5"/>
                    </a:cubicBezTo>
                    <a:lnTo>
                      <a:pt x="4940" y="5"/>
                    </a:lnTo>
                    <a:cubicBezTo>
                      <a:pt x="4939" y="5"/>
                      <a:pt x="4938" y="4"/>
                      <a:pt x="4938" y="3"/>
                    </a:cubicBezTo>
                    <a:cubicBezTo>
                      <a:pt x="4938" y="2"/>
                      <a:pt x="4939" y="1"/>
                      <a:pt x="4940" y="1"/>
                    </a:cubicBezTo>
                    <a:close/>
                    <a:moveTo>
                      <a:pt x="4948" y="1"/>
                    </a:moveTo>
                    <a:lnTo>
                      <a:pt x="4948" y="1"/>
                    </a:lnTo>
                    <a:cubicBezTo>
                      <a:pt x="4949" y="1"/>
                      <a:pt x="4950" y="2"/>
                      <a:pt x="4950" y="3"/>
                    </a:cubicBezTo>
                    <a:cubicBezTo>
                      <a:pt x="4950" y="4"/>
                      <a:pt x="4949" y="5"/>
                      <a:pt x="4948" y="5"/>
                    </a:cubicBezTo>
                    <a:lnTo>
                      <a:pt x="4948" y="5"/>
                    </a:lnTo>
                    <a:cubicBezTo>
                      <a:pt x="4947" y="5"/>
                      <a:pt x="4946" y="4"/>
                      <a:pt x="4946" y="3"/>
                    </a:cubicBezTo>
                    <a:cubicBezTo>
                      <a:pt x="4946" y="2"/>
                      <a:pt x="4947" y="1"/>
                      <a:pt x="4948" y="1"/>
                    </a:cubicBezTo>
                    <a:close/>
                    <a:moveTo>
                      <a:pt x="4956" y="1"/>
                    </a:moveTo>
                    <a:lnTo>
                      <a:pt x="4956" y="1"/>
                    </a:lnTo>
                    <a:cubicBezTo>
                      <a:pt x="4957" y="1"/>
                      <a:pt x="4958" y="2"/>
                      <a:pt x="4958" y="3"/>
                    </a:cubicBezTo>
                    <a:cubicBezTo>
                      <a:pt x="4958" y="4"/>
                      <a:pt x="4957" y="5"/>
                      <a:pt x="4956" y="5"/>
                    </a:cubicBezTo>
                    <a:lnTo>
                      <a:pt x="4956" y="5"/>
                    </a:lnTo>
                    <a:cubicBezTo>
                      <a:pt x="4955" y="5"/>
                      <a:pt x="4954" y="4"/>
                      <a:pt x="4954" y="3"/>
                    </a:cubicBezTo>
                    <a:cubicBezTo>
                      <a:pt x="4954" y="2"/>
                      <a:pt x="4955" y="1"/>
                      <a:pt x="4956" y="1"/>
                    </a:cubicBezTo>
                    <a:close/>
                    <a:moveTo>
                      <a:pt x="4964" y="1"/>
                    </a:moveTo>
                    <a:lnTo>
                      <a:pt x="4964" y="1"/>
                    </a:lnTo>
                    <a:cubicBezTo>
                      <a:pt x="4965" y="1"/>
                      <a:pt x="4966" y="2"/>
                      <a:pt x="4966" y="3"/>
                    </a:cubicBezTo>
                    <a:cubicBezTo>
                      <a:pt x="4966" y="4"/>
                      <a:pt x="4965" y="5"/>
                      <a:pt x="4964" y="5"/>
                    </a:cubicBezTo>
                    <a:lnTo>
                      <a:pt x="4964" y="5"/>
                    </a:lnTo>
                    <a:cubicBezTo>
                      <a:pt x="4963" y="5"/>
                      <a:pt x="4962" y="4"/>
                      <a:pt x="4962" y="3"/>
                    </a:cubicBezTo>
                    <a:cubicBezTo>
                      <a:pt x="4962" y="2"/>
                      <a:pt x="4963" y="1"/>
                      <a:pt x="4964" y="1"/>
                    </a:cubicBezTo>
                    <a:close/>
                    <a:moveTo>
                      <a:pt x="4972" y="1"/>
                    </a:moveTo>
                    <a:lnTo>
                      <a:pt x="4972" y="1"/>
                    </a:lnTo>
                    <a:cubicBezTo>
                      <a:pt x="4973" y="1"/>
                      <a:pt x="4974" y="2"/>
                      <a:pt x="4974" y="3"/>
                    </a:cubicBezTo>
                    <a:cubicBezTo>
                      <a:pt x="4974" y="4"/>
                      <a:pt x="4973" y="5"/>
                      <a:pt x="4972" y="5"/>
                    </a:cubicBezTo>
                    <a:lnTo>
                      <a:pt x="4972" y="5"/>
                    </a:lnTo>
                    <a:cubicBezTo>
                      <a:pt x="4971" y="5"/>
                      <a:pt x="4970" y="4"/>
                      <a:pt x="4970" y="3"/>
                    </a:cubicBezTo>
                    <a:cubicBezTo>
                      <a:pt x="4970" y="2"/>
                      <a:pt x="4971" y="1"/>
                      <a:pt x="4972" y="1"/>
                    </a:cubicBezTo>
                    <a:close/>
                    <a:moveTo>
                      <a:pt x="4980" y="1"/>
                    </a:moveTo>
                    <a:lnTo>
                      <a:pt x="4980" y="1"/>
                    </a:lnTo>
                    <a:cubicBezTo>
                      <a:pt x="4981" y="1"/>
                      <a:pt x="4982" y="2"/>
                      <a:pt x="4982" y="3"/>
                    </a:cubicBezTo>
                    <a:cubicBezTo>
                      <a:pt x="4982" y="4"/>
                      <a:pt x="4981" y="5"/>
                      <a:pt x="4980" y="5"/>
                    </a:cubicBezTo>
                    <a:lnTo>
                      <a:pt x="4980" y="5"/>
                    </a:lnTo>
                    <a:cubicBezTo>
                      <a:pt x="4979" y="5"/>
                      <a:pt x="4978" y="4"/>
                      <a:pt x="4978" y="3"/>
                    </a:cubicBezTo>
                    <a:cubicBezTo>
                      <a:pt x="4978" y="2"/>
                      <a:pt x="4979" y="1"/>
                      <a:pt x="4980" y="1"/>
                    </a:cubicBezTo>
                    <a:close/>
                    <a:moveTo>
                      <a:pt x="4988" y="1"/>
                    </a:moveTo>
                    <a:lnTo>
                      <a:pt x="4988" y="1"/>
                    </a:lnTo>
                    <a:cubicBezTo>
                      <a:pt x="4989" y="1"/>
                      <a:pt x="4990" y="2"/>
                      <a:pt x="4990" y="3"/>
                    </a:cubicBezTo>
                    <a:cubicBezTo>
                      <a:pt x="4990" y="4"/>
                      <a:pt x="4989" y="5"/>
                      <a:pt x="4988" y="5"/>
                    </a:cubicBezTo>
                    <a:lnTo>
                      <a:pt x="4988" y="5"/>
                    </a:lnTo>
                    <a:cubicBezTo>
                      <a:pt x="4987" y="5"/>
                      <a:pt x="4986" y="4"/>
                      <a:pt x="4986" y="3"/>
                    </a:cubicBezTo>
                    <a:cubicBezTo>
                      <a:pt x="4986" y="2"/>
                      <a:pt x="4987" y="1"/>
                      <a:pt x="4988" y="1"/>
                    </a:cubicBezTo>
                    <a:close/>
                    <a:moveTo>
                      <a:pt x="4996" y="1"/>
                    </a:moveTo>
                    <a:lnTo>
                      <a:pt x="4996" y="1"/>
                    </a:lnTo>
                    <a:cubicBezTo>
                      <a:pt x="4997" y="1"/>
                      <a:pt x="4998" y="2"/>
                      <a:pt x="4998" y="3"/>
                    </a:cubicBezTo>
                    <a:cubicBezTo>
                      <a:pt x="4998" y="4"/>
                      <a:pt x="4997" y="5"/>
                      <a:pt x="4996" y="5"/>
                    </a:cubicBezTo>
                    <a:lnTo>
                      <a:pt x="4996" y="5"/>
                    </a:lnTo>
                    <a:cubicBezTo>
                      <a:pt x="4995" y="5"/>
                      <a:pt x="4994" y="4"/>
                      <a:pt x="4994" y="3"/>
                    </a:cubicBezTo>
                    <a:cubicBezTo>
                      <a:pt x="4994" y="2"/>
                      <a:pt x="4995" y="1"/>
                      <a:pt x="4996" y="1"/>
                    </a:cubicBezTo>
                    <a:close/>
                    <a:moveTo>
                      <a:pt x="5004" y="1"/>
                    </a:moveTo>
                    <a:lnTo>
                      <a:pt x="5004" y="1"/>
                    </a:lnTo>
                    <a:cubicBezTo>
                      <a:pt x="5005" y="1"/>
                      <a:pt x="5006" y="2"/>
                      <a:pt x="5006" y="3"/>
                    </a:cubicBezTo>
                    <a:cubicBezTo>
                      <a:pt x="5006" y="4"/>
                      <a:pt x="5005" y="5"/>
                      <a:pt x="5004" y="5"/>
                    </a:cubicBezTo>
                    <a:lnTo>
                      <a:pt x="5004" y="5"/>
                    </a:lnTo>
                    <a:cubicBezTo>
                      <a:pt x="5003" y="5"/>
                      <a:pt x="5002" y="4"/>
                      <a:pt x="5002" y="3"/>
                    </a:cubicBezTo>
                    <a:cubicBezTo>
                      <a:pt x="5002" y="2"/>
                      <a:pt x="5003" y="1"/>
                      <a:pt x="5004" y="1"/>
                    </a:cubicBezTo>
                    <a:close/>
                    <a:moveTo>
                      <a:pt x="5012" y="1"/>
                    </a:moveTo>
                    <a:lnTo>
                      <a:pt x="5012" y="1"/>
                    </a:lnTo>
                    <a:cubicBezTo>
                      <a:pt x="5013" y="1"/>
                      <a:pt x="5014" y="2"/>
                      <a:pt x="5014" y="3"/>
                    </a:cubicBezTo>
                    <a:cubicBezTo>
                      <a:pt x="5014" y="4"/>
                      <a:pt x="5013" y="5"/>
                      <a:pt x="5012" y="5"/>
                    </a:cubicBezTo>
                    <a:lnTo>
                      <a:pt x="5012" y="5"/>
                    </a:lnTo>
                    <a:cubicBezTo>
                      <a:pt x="5011" y="5"/>
                      <a:pt x="5010" y="4"/>
                      <a:pt x="5010" y="3"/>
                    </a:cubicBezTo>
                    <a:cubicBezTo>
                      <a:pt x="5010" y="2"/>
                      <a:pt x="5011" y="1"/>
                      <a:pt x="5012" y="1"/>
                    </a:cubicBezTo>
                    <a:close/>
                    <a:moveTo>
                      <a:pt x="5020" y="1"/>
                    </a:moveTo>
                    <a:lnTo>
                      <a:pt x="5020" y="1"/>
                    </a:lnTo>
                    <a:cubicBezTo>
                      <a:pt x="5021" y="1"/>
                      <a:pt x="5022" y="2"/>
                      <a:pt x="5022" y="3"/>
                    </a:cubicBezTo>
                    <a:cubicBezTo>
                      <a:pt x="5022" y="4"/>
                      <a:pt x="5021" y="5"/>
                      <a:pt x="5020" y="5"/>
                    </a:cubicBezTo>
                    <a:lnTo>
                      <a:pt x="5020" y="5"/>
                    </a:lnTo>
                    <a:cubicBezTo>
                      <a:pt x="5019" y="5"/>
                      <a:pt x="5018" y="4"/>
                      <a:pt x="5018" y="3"/>
                    </a:cubicBezTo>
                    <a:cubicBezTo>
                      <a:pt x="5018" y="2"/>
                      <a:pt x="5019" y="1"/>
                      <a:pt x="5020" y="1"/>
                    </a:cubicBezTo>
                    <a:close/>
                    <a:moveTo>
                      <a:pt x="5028" y="1"/>
                    </a:moveTo>
                    <a:lnTo>
                      <a:pt x="5028" y="1"/>
                    </a:lnTo>
                    <a:cubicBezTo>
                      <a:pt x="5029" y="1"/>
                      <a:pt x="5030" y="2"/>
                      <a:pt x="5030" y="3"/>
                    </a:cubicBezTo>
                    <a:cubicBezTo>
                      <a:pt x="5030" y="4"/>
                      <a:pt x="5029" y="5"/>
                      <a:pt x="5028" y="5"/>
                    </a:cubicBezTo>
                    <a:lnTo>
                      <a:pt x="5028" y="5"/>
                    </a:lnTo>
                    <a:cubicBezTo>
                      <a:pt x="5027" y="5"/>
                      <a:pt x="5026" y="4"/>
                      <a:pt x="5026" y="3"/>
                    </a:cubicBezTo>
                    <a:cubicBezTo>
                      <a:pt x="5026" y="2"/>
                      <a:pt x="5027" y="1"/>
                      <a:pt x="5028" y="1"/>
                    </a:cubicBezTo>
                    <a:close/>
                    <a:moveTo>
                      <a:pt x="5036" y="1"/>
                    </a:moveTo>
                    <a:lnTo>
                      <a:pt x="5036" y="1"/>
                    </a:lnTo>
                    <a:cubicBezTo>
                      <a:pt x="5037" y="1"/>
                      <a:pt x="5038" y="2"/>
                      <a:pt x="5038" y="3"/>
                    </a:cubicBezTo>
                    <a:cubicBezTo>
                      <a:pt x="5038" y="4"/>
                      <a:pt x="5037" y="5"/>
                      <a:pt x="5036" y="5"/>
                    </a:cubicBezTo>
                    <a:lnTo>
                      <a:pt x="5036" y="5"/>
                    </a:lnTo>
                    <a:cubicBezTo>
                      <a:pt x="5035" y="5"/>
                      <a:pt x="5034" y="4"/>
                      <a:pt x="5034" y="3"/>
                    </a:cubicBezTo>
                    <a:cubicBezTo>
                      <a:pt x="5034" y="2"/>
                      <a:pt x="5035" y="1"/>
                      <a:pt x="5036" y="1"/>
                    </a:cubicBezTo>
                    <a:close/>
                    <a:moveTo>
                      <a:pt x="5044" y="1"/>
                    </a:moveTo>
                    <a:lnTo>
                      <a:pt x="5044" y="1"/>
                    </a:lnTo>
                    <a:cubicBezTo>
                      <a:pt x="5045" y="1"/>
                      <a:pt x="5046" y="2"/>
                      <a:pt x="5046" y="3"/>
                    </a:cubicBezTo>
                    <a:cubicBezTo>
                      <a:pt x="5046" y="4"/>
                      <a:pt x="5045" y="5"/>
                      <a:pt x="5044" y="5"/>
                    </a:cubicBezTo>
                    <a:lnTo>
                      <a:pt x="5044" y="5"/>
                    </a:lnTo>
                    <a:cubicBezTo>
                      <a:pt x="5043" y="5"/>
                      <a:pt x="5042" y="4"/>
                      <a:pt x="5042" y="3"/>
                    </a:cubicBezTo>
                    <a:cubicBezTo>
                      <a:pt x="5042" y="2"/>
                      <a:pt x="5043" y="1"/>
                      <a:pt x="5044" y="1"/>
                    </a:cubicBezTo>
                    <a:close/>
                    <a:moveTo>
                      <a:pt x="5052" y="1"/>
                    </a:moveTo>
                    <a:lnTo>
                      <a:pt x="5052" y="1"/>
                    </a:lnTo>
                    <a:cubicBezTo>
                      <a:pt x="5053" y="1"/>
                      <a:pt x="5054" y="2"/>
                      <a:pt x="5054" y="3"/>
                    </a:cubicBezTo>
                    <a:cubicBezTo>
                      <a:pt x="5054" y="4"/>
                      <a:pt x="5053" y="5"/>
                      <a:pt x="5052" y="5"/>
                    </a:cubicBezTo>
                    <a:lnTo>
                      <a:pt x="5052" y="5"/>
                    </a:lnTo>
                    <a:cubicBezTo>
                      <a:pt x="5051" y="5"/>
                      <a:pt x="5050" y="4"/>
                      <a:pt x="5050" y="3"/>
                    </a:cubicBezTo>
                    <a:cubicBezTo>
                      <a:pt x="5050" y="2"/>
                      <a:pt x="5051" y="1"/>
                      <a:pt x="5052" y="1"/>
                    </a:cubicBezTo>
                    <a:close/>
                    <a:moveTo>
                      <a:pt x="5060" y="1"/>
                    </a:moveTo>
                    <a:lnTo>
                      <a:pt x="5060" y="1"/>
                    </a:lnTo>
                    <a:cubicBezTo>
                      <a:pt x="5061" y="1"/>
                      <a:pt x="5062" y="2"/>
                      <a:pt x="5062" y="3"/>
                    </a:cubicBezTo>
                    <a:cubicBezTo>
                      <a:pt x="5062" y="4"/>
                      <a:pt x="5061" y="5"/>
                      <a:pt x="5060" y="5"/>
                    </a:cubicBezTo>
                    <a:lnTo>
                      <a:pt x="5060" y="5"/>
                    </a:lnTo>
                    <a:cubicBezTo>
                      <a:pt x="5059" y="5"/>
                      <a:pt x="5058" y="4"/>
                      <a:pt x="5058" y="3"/>
                    </a:cubicBezTo>
                    <a:cubicBezTo>
                      <a:pt x="5058" y="2"/>
                      <a:pt x="5059" y="1"/>
                      <a:pt x="5060" y="1"/>
                    </a:cubicBezTo>
                    <a:close/>
                    <a:moveTo>
                      <a:pt x="5068" y="1"/>
                    </a:moveTo>
                    <a:lnTo>
                      <a:pt x="5068" y="1"/>
                    </a:lnTo>
                    <a:cubicBezTo>
                      <a:pt x="5069" y="1"/>
                      <a:pt x="5070" y="2"/>
                      <a:pt x="5070" y="3"/>
                    </a:cubicBezTo>
                    <a:cubicBezTo>
                      <a:pt x="5070" y="4"/>
                      <a:pt x="5069" y="5"/>
                      <a:pt x="5068" y="5"/>
                    </a:cubicBezTo>
                    <a:lnTo>
                      <a:pt x="5068" y="5"/>
                    </a:lnTo>
                    <a:cubicBezTo>
                      <a:pt x="5067" y="5"/>
                      <a:pt x="5066" y="4"/>
                      <a:pt x="5066" y="3"/>
                    </a:cubicBezTo>
                    <a:cubicBezTo>
                      <a:pt x="5066" y="2"/>
                      <a:pt x="5067" y="1"/>
                      <a:pt x="5068" y="1"/>
                    </a:cubicBezTo>
                    <a:close/>
                    <a:moveTo>
                      <a:pt x="5076" y="1"/>
                    </a:moveTo>
                    <a:lnTo>
                      <a:pt x="5076" y="1"/>
                    </a:lnTo>
                    <a:cubicBezTo>
                      <a:pt x="5077" y="1"/>
                      <a:pt x="5078" y="2"/>
                      <a:pt x="5078" y="3"/>
                    </a:cubicBezTo>
                    <a:cubicBezTo>
                      <a:pt x="5078" y="4"/>
                      <a:pt x="5077" y="5"/>
                      <a:pt x="5076" y="5"/>
                    </a:cubicBezTo>
                    <a:lnTo>
                      <a:pt x="5076" y="5"/>
                    </a:lnTo>
                    <a:cubicBezTo>
                      <a:pt x="5075" y="5"/>
                      <a:pt x="5074" y="4"/>
                      <a:pt x="5074" y="3"/>
                    </a:cubicBezTo>
                    <a:cubicBezTo>
                      <a:pt x="5074" y="2"/>
                      <a:pt x="5075" y="1"/>
                      <a:pt x="5076" y="1"/>
                    </a:cubicBezTo>
                    <a:close/>
                    <a:moveTo>
                      <a:pt x="5084" y="1"/>
                    </a:moveTo>
                    <a:lnTo>
                      <a:pt x="5084" y="1"/>
                    </a:lnTo>
                    <a:cubicBezTo>
                      <a:pt x="5085" y="1"/>
                      <a:pt x="5086" y="2"/>
                      <a:pt x="5086" y="3"/>
                    </a:cubicBezTo>
                    <a:cubicBezTo>
                      <a:pt x="5086" y="4"/>
                      <a:pt x="5085" y="5"/>
                      <a:pt x="5084" y="5"/>
                    </a:cubicBezTo>
                    <a:lnTo>
                      <a:pt x="5084" y="5"/>
                    </a:lnTo>
                    <a:cubicBezTo>
                      <a:pt x="5083" y="5"/>
                      <a:pt x="5082" y="4"/>
                      <a:pt x="5082" y="3"/>
                    </a:cubicBezTo>
                    <a:cubicBezTo>
                      <a:pt x="5082" y="2"/>
                      <a:pt x="5083" y="1"/>
                      <a:pt x="5084" y="1"/>
                    </a:cubicBezTo>
                    <a:close/>
                    <a:moveTo>
                      <a:pt x="5092" y="1"/>
                    </a:moveTo>
                    <a:lnTo>
                      <a:pt x="5092" y="1"/>
                    </a:lnTo>
                    <a:cubicBezTo>
                      <a:pt x="5093" y="1"/>
                      <a:pt x="5094" y="2"/>
                      <a:pt x="5094" y="3"/>
                    </a:cubicBezTo>
                    <a:cubicBezTo>
                      <a:pt x="5094" y="4"/>
                      <a:pt x="5093" y="5"/>
                      <a:pt x="5092" y="5"/>
                    </a:cubicBezTo>
                    <a:lnTo>
                      <a:pt x="5092" y="5"/>
                    </a:lnTo>
                    <a:cubicBezTo>
                      <a:pt x="5091" y="5"/>
                      <a:pt x="5090" y="4"/>
                      <a:pt x="5090" y="3"/>
                    </a:cubicBezTo>
                    <a:cubicBezTo>
                      <a:pt x="5090" y="2"/>
                      <a:pt x="5091" y="1"/>
                      <a:pt x="5092" y="1"/>
                    </a:cubicBezTo>
                    <a:close/>
                    <a:moveTo>
                      <a:pt x="5100" y="1"/>
                    </a:moveTo>
                    <a:lnTo>
                      <a:pt x="5100" y="1"/>
                    </a:lnTo>
                    <a:cubicBezTo>
                      <a:pt x="5101" y="1"/>
                      <a:pt x="5102" y="2"/>
                      <a:pt x="5102" y="3"/>
                    </a:cubicBezTo>
                    <a:cubicBezTo>
                      <a:pt x="5102" y="4"/>
                      <a:pt x="5101" y="5"/>
                      <a:pt x="5100" y="5"/>
                    </a:cubicBezTo>
                    <a:lnTo>
                      <a:pt x="5100" y="5"/>
                    </a:lnTo>
                    <a:cubicBezTo>
                      <a:pt x="5099" y="5"/>
                      <a:pt x="5098" y="4"/>
                      <a:pt x="5098" y="3"/>
                    </a:cubicBezTo>
                    <a:cubicBezTo>
                      <a:pt x="5098" y="2"/>
                      <a:pt x="5099" y="1"/>
                      <a:pt x="5100" y="1"/>
                    </a:cubicBezTo>
                    <a:close/>
                    <a:moveTo>
                      <a:pt x="5108" y="1"/>
                    </a:moveTo>
                    <a:lnTo>
                      <a:pt x="5108" y="1"/>
                    </a:lnTo>
                    <a:cubicBezTo>
                      <a:pt x="5109" y="1"/>
                      <a:pt x="5110" y="2"/>
                      <a:pt x="5110" y="3"/>
                    </a:cubicBezTo>
                    <a:cubicBezTo>
                      <a:pt x="5110" y="4"/>
                      <a:pt x="5109" y="5"/>
                      <a:pt x="5108" y="5"/>
                    </a:cubicBezTo>
                    <a:lnTo>
                      <a:pt x="5108" y="5"/>
                    </a:lnTo>
                    <a:cubicBezTo>
                      <a:pt x="5107" y="5"/>
                      <a:pt x="5106" y="4"/>
                      <a:pt x="5106" y="3"/>
                    </a:cubicBezTo>
                    <a:cubicBezTo>
                      <a:pt x="5106" y="2"/>
                      <a:pt x="5107" y="1"/>
                      <a:pt x="5108" y="1"/>
                    </a:cubicBezTo>
                    <a:close/>
                    <a:moveTo>
                      <a:pt x="5116" y="1"/>
                    </a:moveTo>
                    <a:lnTo>
                      <a:pt x="5116" y="1"/>
                    </a:lnTo>
                    <a:cubicBezTo>
                      <a:pt x="5117" y="1"/>
                      <a:pt x="5118" y="2"/>
                      <a:pt x="5118" y="3"/>
                    </a:cubicBezTo>
                    <a:cubicBezTo>
                      <a:pt x="5118" y="4"/>
                      <a:pt x="5117" y="5"/>
                      <a:pt x="5116" y="5"/>
                    </a:cubicBezTo>
                    <a:lnTo>
                      <a:pt x="5116" y="5"/>
                    </a:lnTo>
                    <a:cubicBezTo>
                      <a:pt x="5115" y="5"/>
                      <a:pt x="5114" y="4"/>
                      <a:pt x="5114" y="3"/>
                    </a:cubicBezTo>
                    <a:cubicBezTo>
                      <a:pt x="5114" y="2"/>
                      <a:pt x="5115" y="1"/>
                      <a:pt x="5116" y="1"/>
                    </a:cubicBezTo>
                    <a:close/>
                    <a:moveTo>
                      <a:pt x="5124" y="1"/>
                    </a:moveTo>
                    <a:lnTo>
                      <a:pt x="5124" y="1"/>
                    </a:lnTo>
                    <a:cubicBezTo>
                      <a:pt x="5125" y="1"/>
                      <a:pt x="5126" y="2"/>
                      <a:pt x="5126" y="3"/>
                    </a:cubicBezTo>
                    <a:cubicBezTo>
                      <a:pt x="5126" y="4"/>
                      <a:pt x="5125" y="5"/>
                      <a:pt x="5124" y="5"/>
                    </a:cubicBezTo>
                    <a:lnTo>
                      <a:pt x="5124" y="5"/>
                    </a:lnTo>
                    <a:cubicBezTo>
                      <a:pt x="5123" y="5"/>
                      <a:pt x="5122" y="4"/>
                      <a:pt x="5122" y="3"/>
                    </a:cubicBezTo>
                    <a:cubicBezTo>
                      <a:pt x="5122" y="2"/>
                      <a:pt x="5123" y="1"/>
                      <a:pt x="5124" y="1"/>
                    </a:cubicBezTo>
                    <a:close/>
                    <a:moveTo>
                      <a:pt x="5132" y="1"/>
                    </a:moveTo>
                    <a:lnTo>
                      <a:pt x="5132" y="1"/>
                    </a:lnTo>
                    <a:cubicBezTo>
                      <a:pt x="5133" y="1"/>
                      <a:pt x="5134" y="2"/>
                      <a:pt x="5134" y="3"/>
                    </a:cubicBezTo>
                    <a:cubicBezTo>
                      <a:pt x="5134" y="4"/>
                      <a:pt x="5133" y="5"/>
                      <a:pt x="5132" y="5"/>
                    </a:cubicBezTo>
                    <a:lnTo>
                      <a:pt x="5132" y="5"/>
                    </a:lnTo>
                    <a:cubicBezTo>
                      <a:pt x="5131" y="5"/>
                      <a:pt x="5130" y="4"/>
                      <a:pt x="5130" y="3"/>
                    </a:cubicBezTo>
                    <a:cubicBezTo>
                      <a:pt x="5130" y="2"/>
                      <a:pt x="5131" y="1"/>
                      <a:pt x="5132" y="1"/>
                    </a:cubicBezTo>
                    <a:close/>
                    <a:moveTo>
                      <a:pt x="5140" y="1"/>
                    </a:moveTo>
                    <a:lnTo>
                      <a:pt x="5140" y="1"/>
                    </a:lnTo>
                    <a:cubicBezTo>
                      <a:pt x="5141" y="1"/>
                      <a:pt x="5142" y="2"/>
                      <a:pt x="5142" y="3"/>
                    </a:cubicBezTo>
                    <a:cubicBezTo>
                      <a:pt x="5142" y="4"/>
                      <a:pt x="5141" y="5"/>
                      <a:pt x="5140" y="5"/>
                    </a:cubicBezTo>
                    <a:lnTo>
                      <a:pt x="5140" y="5"/>
                    </a:lnTo>
                    <a:cubicBezTo>
                      <a:pt x="5139" y="5"/>
                      <a:pt x="5138" y="4"/>
                      <a:pt x="5138" y="3"/>
                    </a:cubicBezTo>
                    <a:cubicBezTo>
                      <a:pt x="5138" y="2"/>
                      <a:pt x="5139" y="1"/>
                      <a:pt x="5140" y="1"/>
                    </a:cubicBezTo>
                    <a:close/>
                    <a:moveTo>
                      <a:pt x="5148" y="1"/>
                    </a:moveTo>
                    <a:lnTo>
                      <a:pt x="5148" y="1"/>
                    </a:lnTo>
                    <a:cubicBezTo>
                      <a:pt x="5149" y="1"/>
                      <a:pt x="5150" y="2"/>
                      <a:pt x="5150" y="3"/>
                    </a:cubicBezTo>
                    <a:cubicBezTo>
                      <a:pt x="5150" y="4"/>
                      <a:pt x="5149" y="5"/>
                      <a:pt x="5148" y="5"/>
                    </a:cubicBezTo>
                    <a:lnTo>
                      <a:pt x="5148" y="5"/>
                    </a:lnTo>
                    <a:cubicBezTo>
                      <a:pt x="5147" y="5"/>
                      <a:pt x="5146" y="4"/>
                      <a:pt x="5146" y="3"/>
                    </a:cubicBezTo>
                    <a:cubicBezTo>
                      <a:pt x="5146" y="2"/>
                      <a:pt x="5147" y="1"/>
                      <a:pt x="5148" y="1"/>
                    </a:cubicBezTo>
                    <a:close/>
                    <a:moveTo>
                      <a:pt x="5156" y="1"/>
                    </a:moveTo>
                    <a:lnTo>
                      <a:pt x="5156" y="1"/>
                    </a:lnTo>
                    <a:cubicBezTo>
                      <a:pt x="5157" y="1"/>
                      <a:pt x="5158" y="2"/>
                      <a:pt x="5158" y="3"/>
                    </a:cubicBezTo>
                    <a:cubicBezTo>
                      <a:pt x="5158" y="4"/>
                      <a:pt x="5157" y="5"/>
                      <a:pt x="5156" y="5"/>
                    </a:cubicBezTo>
                    <a:lnTo>
                      <a:pt x="5156" y="5"/>
                    </a:lnTo>
                    <a:cubicBezTo>
                      <a:pt x="5155" y="5"/>
                      <a:pt x="5154" y="4"/>
                      <a:pt x="5154" y="3"/>
                    </a:cubicBezTo>
                    <a:cubicBezTo>
                      <a:pt x="5154" y="2"/>
                      <a:pt x="5155" y="1"/>
                      <a:pt x="5156" y="1"/>
                    </a:cubicBezTo>
                    <a:close/>
                    <a:moveTo>
                      <a:pt x="5164" y="1"/>
                    </a:moveTo>
                    <a:lnTo>
                      <a:pt x="5164" y="1"/>
                    </a:lnTo>
                    <a:cubicBezTo>
                      <a:pt x="5165" y="1"/>
                      <a:pt x="5166" y="2"/>
                      <a:pt x="5166" y="3"/>
                    </a:cubicBezTo>
                    <a:cubicBezTo>
                      <a:pt x="5166" y="4"/>
                      <a:pt x="5165" y="5"/>
                      <a:pt x="5164" y="5"/>
                    </a:cubicBezTo>
                    <a:lnTo>
                      <a:pt x="5164" y="5"/>
                    </a:lnTo>
                    <a:cubicBezTo>
                      <a:pt x="5163" y="5"/>
                      <a:pt x="5162" y="4"/>
                      <a:pt x="5162" y="3"/>
                    </a:cubicBezTo>
                    <a:cubicBezTo>
                      <a:pt x="5162" y="2"/>
                      <a:pt x="5163" y="1"/>
                      <a:pt x="5164" y="1"/>
                    </a:cubicBezTo>
                    <a:close/>
                    <a:moveTo>
                      <a:pt x="5172" y="1"/>
                    </a:moveTo>
                    <a:lnTo>
                      <a:pt x="5172" y="1"/>
                    </a:lnTo>
                    <a:cubicBezTo>
                      <a:pt x="5173" y="1"/>
                      <a:pt x="5174" y="2"/>
                      <a:pt x="5174" y="3"/>
                    </a:cubicBezTo>
                    <a:cubicBezTo>
                      <a:pt x="5174" y="4"/>
                      <a:pt x="5173" y="5"/>
                      <a:pt x="5172" y="5"/>
                    </a:cubicBezTo>
                    <a:lnTo>
                      <a:pt x="5172" y="5"/>
                    </a:lnTo>
                    <a:cubicBezTo>
                      <a:pt x="5171" y="5"/>
                      <a:pt x="5170" y="4"/>
                      <a:pt x="5170" y="3"/>
                    </a:cubicBezTo>
                    <a:cubicBezTo>
                      <a:pt x="5170" y="2"/>
                      <a:pt x="5171" y="1"/>
                      <a:pt x="5172" y="1"/>
                    </a:cubicBezTo>
                    <a:close/>
                    <a:moveTo>
                      <a:pt x="5180" y="1"/>
                    </a:moveTo>
                    <a:lnTo>
                      <a:pt x="5180" y="1"/>
                    </a:lnTo>
                    <a:cubicBezTo>
                      <a:pt x="5181" y="1"/>
                      <a:pt x="5182" y="2"/>
                      <a:pt x="5182" y="3"/>
                    </a:cubicBezTo>
                    <a:cubicBezTo>
                      <a:pt x="5182" y="4"/>
                      <a:pt x="5181" y="5"/>
                      <a:pt x="5180" y="5"/>
                    </a:cubicBezTo>
                    <a:lnTo>
                      <a:pt x="5180" y="5"/>
                    </a:lnTo>
                    <a:cubicBezTo>
                      <a:pt x="5179" y="5"/>
                      <a:pt x="5178" y="4"/>
                      <a:pt x="5178" y="3"/>
                    </a:cubicBezTo>
                    <a:cubicBezTo>
                      <a:pt x="5178" y="2"/>
                      <a:pt x="5179" y="1"/>
                      <a:pt x="5180" y="1"/>
                    </a:cubicBezTo>
                    <a:close/>
                    <a:moveTo>
                      <a:pt x="5188" y="1"/>
                    </a:moveTo>
                    <a:lnTo>
                      <a:pt x="5188" y="1"/>
                    </a:lnTo>
                    <a:cubicBezTo>
                      <a:pt x="5189" y="1"/>
                      <a:pt x="5190" y="2"/>
                      <a:pt x="5190" y="3"/>
                    </a:cubicBezTo>
                    <a:cubicBezTo>
                      <a:pt x="5190" y="4"/>
                      <a:pt x="5189" y="5"/>
                      <a:pt x="5188" y="5"/>
                    </a:cubicBezTo>
                    <a:lnTo>
                      <a:pt x="5188" y="5"/>
                    </a:lnTo>
                    <a:cubicBezTo>
                      <a:pt x="5187" y="5"/>
                      <a:pt x="5186" y="4"/>
                      <a:pt x="5186" y="3"/>
                    </a:cubicBezTo>
                    <a:cubicBezTo>
                      <a:pt x="5186" y="2"/>
                      <a:pt x="5187" y="1"/>
                      <a:pt x="5188" y="1"/>
                    </a:cubicBezTo>
                    <a:close/>
                    <a:moveTo>
                      <a:pt x="5196" y="1"/>
                    </a:moveTo>
                    <a:lnTo>
                      <a:pt x="5196" y="1"/>
                    </a:lnTo>
                    <a:cubicBezTo>
                      <a:pt x="5197" y="1"/>
                      <a:pt x="5198" y="2"/>
                      <a:pt x="5198" y="3"/>
                    </a:cubicBezTo>
                    <a:cubicBezTo>
                      <a:pt x="5198" y="4"/>
                      <a:pt x="5197" y="5"/>
                      <a:pt x="5196" y="5"/>
                    </a:cubicBezTo>
                    <a:lnTo>
                      <a:pt x="5196" y="5"/>
                    </a:lnTo>
                    <a:cubicBezTo>
                      <a:pt x="5195" y="5"/>
                      <a:pt x="5194" y="4"/>
                      <a:pt x="5194" y="3"/>
                    </a:cubicBezTo>
                    <a:cubicBezTo>
                      <a:pt x="5194" y="2"/>
                      <a:pt x="5195" y="1"/>
                      <a:pt x="5196" y="1"/>
                    </a:cubicBezTo>
                    <a:close/>
                    <a:moveTo>
                      <a:pt x="5204" y="1"/>
                    </a:moveTo>
                    <a:lnTo>
                      <a:pt x="5204" y="1"/>
                    </a:lnTo>
                    <a:cubicBezTo>
                      <a:pt x="5205" y="1"/>
                      <a:pt x="5206" y="2"/>
                      <a:pt x="5206" y="3"/>
                    </a:cubicBezTo>
                    <a:cubicBezTo>
                      <a:pt x="5206" y="4"/>
                      <a:pt x="5205" y="5"/>
                      <a:pt x="5204" y="5"/>
                    </a:cubicBezTo>
                    <a:lnTo>
                      <a:pt x="5204" y="5"/>
                    </a:lnTo>
                    <a:cubicBezTo>
                      <a:pt x="5203" y="5"/>
                      <a:pt x="5202" y="4"/>
                      <a:pt x="5202" y="3"/>
                    </a:cubicBezTo>
                    <a:cubicBezTo>
                      <a:pt x="5202" y="2"/>
                      <a:pt x="5203" y="1"/>
                      <a:pt x="5204" y="1"/>
                    </a:cubicBezTo>
                    <a:close/>
                    <a:moveTo>
                      <a:pt x="5212" y="1"/>
                    </a:moveTo>
                    <a:lnTo>
                      <a:pt x="5212" y="1"/>
                    </a:lnTo>
                    <a:cubicBezTo>
                      <a:pt x="5213" y="1"/>
                      <a:pt x="5214" y="2"/>
                      <a:pt x="5214" y="3"/>
                    </a:cubicBezTo>
                    <a:cubicBezTo>
                      <a:pt x="5214" y="4"/>
                      <a:pt x="5213" y="5"/>
                      <a:pt x="5212" y="5"/>
                    </a:cubicBezTo>
                    <a:lnTo>
                      <a:pt x="5212" y="5"/>
                    </a:lnTo>
                    <a:cubicBezTo>
                      <a:pt x="5211" y="5"/>
                      <a:pt x="5210" y="4"/>
                      <a:pt x="5210" y="3"/>
                    </a:cubicBezTo>
                    <a:cubicBezTo>
                      <a:pt x="5210" y="2"/>
                      <a:pt x="5211" y="1"/>
                      <a:pt x="5212" y="1"/>
                    </a:cubicBezTo>
                    <a:close/>
                    <a:moveTo>
                      <a:pt x="5220" y="1"/>
                    </a:moveTo>
                    <a:lnTo>
                      <a:pt x="5220" y="1"/>
                    </a:lnTo>
                    <a:cubicBezTo>
                      <a:pt x="5221" y="1"/>
                      <a:pt x="5222" y="2"/>
                      <a:pt x="5222" y="3"/>
                    </a:cubicBezTo>
                    <a:cubicBezTo>
                      <a:pt x="5222" y="4"/>
                      <a:pt x="5221" y="5"/>
                      <a:pt x="5220" y="5"/>
                    </a:cubicBezTo>
                    <a:lnTo>
                      <a:pt x="5220" y="5"/>
                    </a:lnTo>
                    <a:cubicBezTo>
                      <a:pt x="5219" y="5"/>
                      <a:pt x="5218" y="4"/>
                      <a:pt x="5218" y="3"/>
                    </a:cubicBezTo>
                    <a:cubicBezTo>
                      <a:pt x="5218" y="2"/>
                      <a:pt x="5219" y="1"/>
                      <a:pt x="5220" y="1"/>
                    </a:cubicBezTo>
                    <a:close/>
                    <a:moveTo>
                      <a:pt x="5228" y="1"/>
                    </a:moveTo>
                    <a:lnTo>
                      <a:pt x="5228" y="1"/>
                    </a:lnTo>
                    <a:cubicBezTo>
                      <a:pt x="5229" y="1"/>
                      <a:pt x="5230" y="2"/>
                      <a:pt x="5230" y="3"/>
                    </a:cubicBezTo>
                    <a:cubicBezTo>
                      <a:pt x="5230" y="4"/>
                      <a:pt x="5229" y="5"/>
                      <a:pt x="5228" y="5"/>
                    </a:cubicBezTo>
                    <a:lnTo>
                      <a:pt x="5228" y="5"/>
                    </a:lnTo>
                    <a:cubicBezTo>
                      <a:pt x="5227" y="5"/>
                      <a:pt x="5226" y="4"/>
                      <a:pt x="5226" y="3"/>
                    </a:cubicBezTo>
                    <a:cubicBezTo>
                      <a:pt x="5226" y="2"/>
                      <a:pt x="5227" y="1"/>
                      <a:pt x="5228" y="1"/>
                    </a:cubicBezTo>
                    <a:close/>
                    <a:moveTo>
                      <a:pt x="5236" y="1"/>
                    </a:moveTo>
                    <a:lnTo>
                      <a:pt x="5236" y="1"/>
                    </a:lnTo>
                    <a:cubicBezTo>
                      <a:pt x="5237" y="1"/>
                      <a:pt x="5238" y="2"/>
                      <a:pt x="5238" y="3"/>
                    </a:cubicBezTo>
                    <a:cubicBezTo>
                      <a:pt x="5238" y="4"/>
                      <a:pt x="5237" y="5"/>
                      <a:pt x="5236" y="5"/>
                    </a:cubicBezTo>
                    <a:lnTo>
                      <a:pt x="5236" y="5"/>
                    </a:lnTo>
                    <a:cubicBezTo>
                      <a:pt x="5235" y="5"/>
                      <a:pt x="5234" y="4"/>
                      <a:pt x="5234" y="3"/>
                    </a:cubicBezTo>
                    <a:cubicBezTo>
                      <a:pt x="5234" y="2"/>
                      <a:pt x="5235" y="1"/>
                      <a:pt x="5236" y="1"/>
                    </a:cubicBezTo>
                    <a:close/>
                    <a:moveTo>
                      <a:pt x="5244" y="1"/>
                    </a:moveTo>
                    <a:lnTo>
                      <a:pt x="5244" y="1"/>
                    </a:lnTo>
                    <a:cubicBezTo>
                      <a:pt x="5245" y="1"/>
                      <a:pt x="5246" y="2"/>
                      <a:pt x="5246" y="3"/>
                    </a:cubicBezTo>
                    <a:cubicBezTo>
                      <a:pt x="5246" y="4"/>
                      <a:pt x="5245" y="5"/>
                      <a:pt x="5244" y="5"/>
                    </a:cubicBezTo>
                    <a:lnTo>
                      <a:pt x="5244" y="5"/>
                    </a:lnTo>
                    <a:cubicBezTo>
                      <a:pt x="5243" y="5"/>
                      <a:pt x="5242" y="4"/>
                      <a:pt x="5242" y="3"/>
                    </a:cubicBezTo>
                    <a:cubicBezTo>
                      <a:pt x="5242" y="2"/>
                      <a:pt x="5243" y="1"/>
                      <a:pt x="5244" y="1"/>
                    </a:cubicBezTo>
                    <a:close/>
                    <a:moveTo>
                      <a:pt x="5252" y="1"/>
                    </a:moveTo>
                    <a:lnTo>
                      <a:pt x="5252" y="1"/>
                    </a:lnTo>
                    <a:cubicBezTo>
                      <a:pt x="5253" y="1"/>
                      <a:pt x="5254" y="2"/>
                      <a:pt x="5254" y="3"/>
                    </a:cubicBezTo>
                    <a:cubicBezTo>
                      <a:pt x="5254" y="4"/>
                      <a:pt x="5253" y="5"/>
                      <a:pt x="5252" y="5"/>
                    </a:cubicBezTo>
                    <a:lnTo>
                      <a:pt x="5252" y="5"/>
                    </a:lnTo>
                    <a:cubicBezTo>
                      <a:pt x="5251" y="5"/>
                      <a:pt x="5250" y="4"/>
                      <a:pt x="5250" y="3"/>
                    </a:cubicBezTo>
                    <a:cubicBezTo>
                      <a:pt x="5250" y="2"/>
                      <a:pt x="5251" y="1"/>
                      <a:pt x="5252" y="1"/>
                    </a:cubicBezTo>
                    <a:close/>
                    <a:moveTo>
                      <a:pt x="5260" y="1"/>
                    </a:moveTo>
                    <a:lnTo>
                      <a:pt x="5260" y="1"/>
                    </a:lnTo>
                    <a:cubicBezTo>
                      <a:pt x="5261" y="1"/>
                      <a:pt x="5262" y="2"/>
                      <a:pt x="5262" y="3"/>
                    </a:cubicBezTo>
                    <a:cubicBezTo>
                      <a:pt x="5262" y="4"/>
                      <a:pt x="5261" y="5"/>
                      <a:pt x="5260" y="5"/>
                    </a:cubicBezTo>
                    <a:lnTo>
                      <a:pt x="5260" y="5"/>
                    </a:lnTo>
                    <a:cubicBezTo>
                      <a:pt x="5259" y="5"/>
                      <a:pt x="5258" y="4"/>
                      <a:pt x="5258" y="3"/>
                    </a:cubicBezTo>
                    <a:cubicBezTo>
                      <a:pt x="5258" y="2"/>
                      <a:pt x="5259" y="1"/>
                      <a:pt x="5260" y="1"/>
                    </a:cubicBezTo>
                    <a:close/>
                    <a:moveTo>
                      <a:pt x="5268" y="1"/>
                    </a:moveTo>
                    <a:lnTo>
                      <a:pt x="5268" y="1"/>
                    </a:lnTo>
                    <a:cubicBezTo>
                      <a:pt x="5270" y="1"/>
                      <a:pt x="5270" y="2"/>
                      <a:pt x="5270" y="3"/>
                    </a:cubicBezTo>
                    <a:cubicBezTo>
                      <a:pt x="5270" y="4"/>
                      <a:pt x="5270" y="5"/>
                      <a:pt x="5268" y="5"/>
                    </a:cubicBezTo>
                    <a:lnTo>
                      <a:pt x="5268" y="5"/>
                    </a:lnTo>
                    <a:cubicBezTo>
                      <a:pt x="5267" y="5"/>
                      <a:pt x="5266" y="4"/>
                      <a:pt x="5266" y="3"/>
                    </a:cubicBezTo>
                    <a:cubicBezTo>
                      <a:pt x="5266" y="2"/>
                      <a:pt x="5267" y="1"/>
                      <a:pt x="5268" y="1"/>
                    </a:cubicBezTo>
                    <a:close/>
                    <a:moveTo>
                      <a:pt x="5276" y="1"/>
                    </a:moveTo>
                    <a:lnTo>
                      <a:pt x="5276" y="1"/>
                    </a:lnTo>
                    <a:cubicBezTo>
                      <a:pt x="5278" y="1"/>
                      <a:pt x="5278" y="2"/>
                      <a:pt x="5278" y="3"/>
                    </a:cubicBezTo>
                    <a:cubicBezTo>
                      <a:pt x="5278" y="4"/>
                      <a:pt x="5278" y="5"/>
                      <a:pt x="5276" y="5"/>
                    </a:cubicBezTo>
                    <a:lnTo>
                      <a:pt x="5276" y="5"/>
                    </a:lnTo>
                    <a:cubicBezTo>
                      <a:pt x="5275" y="5"/>
                      <a:pt x="5274" y="4"/>
                      <a:pt x="5274" y="3"/>
                    </a:cubicBezTo>
                    <a:cubicBezTo>
                      <a:pt x="5274" y="2"/>
                      <a:pt x="5275" y="1"/>
                      <a:pt x="5276" y="1"/>
                    </a:cubicBezTo>
                    <a:close/>
                    <a:moveTo>
                      <a:pt x="5284" y="1"/>
                    </a:moveTo>
                    <a:lnTo>
                      <a:pt x="5284" y="1"/>
                    </a:lnTo>
                    <a:cubicBezTo>
                      <a:pt x="5286" y="1"/>
                      <a:pt x="5286" y="2"/>
                      <a:pt x="5286" y="3"/>
                    </a:cubicBezTo>
                    <a:cubicBezTo>
                      <a:pt x="5286" y="4"/>
                      <a:pt x="5286" y="5"/>
                      <a:pt x="5284" y="5"/>
                    </a:cubicBezTo>
                    <a:lnTo>
                      <a:pt x="5284" y="5"/>
                    </a:lnTo>
                    <a:cubicBezTo>
                      <a:pt x="5283" y="5"/>
                      <a:pt x="5282" y="4"/>
                      <a:pt x="5282" y="3"/>
                    </a:cubicBezTo>
                    <a:cubicBezTo>
                      <a:pt x="5282" y="2"/>
                      <a:pt x="5283" y="1"/>
                      <a:pt x="5284" y="1"/>
                    </a:cubicBezTo>
                    <a:close/>
                    <a:moveTo>
                      <a:pt x="5292" y="1"/>
                    </a:moveTo>
                    <a:lnTo>
                      <a:pt x="5292" y="1"/>
                    </a:lnTo>
                    <a:cubicBezTo>
                      <a:pt x="5294" y="1"/>
                      <a:pt x="5294" y="2"/>
                      <a:pt x="5294" y="3"/>
                    </a:cubicBezTo>
                    <a:cubicBezTo>
                      <a:pt x="5294" y="4"/>
                      <a:pt x="5294" y="5"/>
                      <a:pt x="5292" y="5"/>
                    </a:cubicBezTo>
                    <a:lnTo>
                      <a:pt x="5292" y="5"/>
                    </a:lnTo>
                    <a:cubicBezTo>
                      <a:pt x="5291" y="5"/>
                      <a:pt x="5290" y="4"/>
                      <a:pt x="5290" y="3"/>
                    </a:cubicBezTo>
                    <a:cubicBezTo>
                      <a:pt x="5290" y="2"/>
                      <a:pt x="5291" y="1"/>
                      <a:pt x="5292" y="1"/>
                    </a:cubicBezTo>
                    <a:close/>
                    <a:moveTo>
                      <a:pt x="5300" y="1"/>
                    </a:moveTo>
                    <a:lnTo>
                      <a:pt x="5300" y="1"/>
                    </a:lnTo>
                    <a:cubicBezTo>
                      <a:pt x="5302" y="1"/>
                      <a:pt x="5302" y="2"/>
                      <a:pt x="5302" y="3"/>
                    </a:cubicBezTo>
                    <a:cubicBezTo>
                      <a:pt x="5302" y="4"/>
                      <a:pt x="5302" y="5"/>
                      <a:pt x="5300" y="5"/>
                    </a:cubicBezTo>
                    <a:lnTo>
                      <a:pt x="5300" y="5"/>
                    </a:lnTo>
                    <a:cubicBezTo>
                      <a:pt x="5299" y="5"/>
                      <a:pt x="5298" y="4"/>
                      <a:pt x="5298" y="3"/>
                    </a:cubicBezTo>
                    <a:cubicBezTo>
                      <a:pt x="5298" y="2"/>
                      <a:pt x="5299" y="1"/>
                      <a:pt x="5300" y="1"/>
                    </a:cubicBezTo>
                    <a:close/>
                    <a:moveTo>
                      <a:pt x="5308" y="1"/>
                    </a:moveTo>
                    <a:lnTo>
                      <a:pt x="5308" y="1"/>
                    </a:lnTo>
                    <a:cubicBezTo>
                      <a:pt x="5310" y="1"/>
                      <a:pt x="5310" y="2"/>
                      <a:pt x="5310" y="3"/>
                    </a:cubicBezTo>
                    <a:cubicBezTo>
                      <a:pt x="5310" y="4"/>
                      <a:pt x="5310" y="5"/>
                      <a:pt x="5308" y="5"/>
                    </a:cubicBezTo>
                    <a:lnTo>
                      <a:pt x="5308" y="5"/>
                    </a:lnTo>
                    <a:cubicBezTo>
                      <a:pt x="5307" y="5"/>
                      <a:pt x="5306" y="4"/>
                      <a:pt x="5306" y="3"/>
                    </a:cubicBezTo>
                    <a:cubicBezTo>
                      <a:pt x="5306" y="2"/>
                      <a:pt x="5307" y="1"/>
                      <a:pt x="5308" y="1"/>
                    </a:cubicBezTo>
                    <a:close/>
                    <a:moveTo>
                      <a:pt x="5316" y="1"/>
                    </a:moveTo>
                    <a:lnTo>
                      <a:pt x="5316" y="1"/>
                    </a:lnTo>
                    <a:cubicBezTo>
                      <a:pt x="5318" y="1"/>
                      <a:pt x="5318" y="2"/>
                      <a:pt x="5318" y="3"/>
                    </a:cubicBezTo>
                    <a:cubicBezTo>
                      <a:pt x="5318" y="4"/>
                      <a:pt x="5318" y="5"/>
                      <a:pt x="5316" y="5"/>
                    </a:cubicBezTo>
                    <a:lnTo>
                      <a:pt x="5316" y="5"/>
                    </a:lnTo>
                    <a:cubicBezTo>
                      <a:pt x="5315" y="5"/>
                      <a:pt x="5314" y="4"/>
                      <a:pt x="5314" y="3"/>
                    </a:cubicBezTo>
                    <a:cubicBezTo>
                      <a:pt x="5314" y="2"/>
                      <a:pt x="5315" y="1"/>
                      <a:pt x="5316" y="1"/>
                    </a:cubicBezTo>
                    <a:close/>
                    <a:moveTo>
                      <a:pt x="5324" y="1"/>
                    </a:moveTo>
                    <a:lnTo>
                      <a:pt x="5324" y="1"/>
                    </a:lnTo>
                    <a:cubicBezTo>
                      <a:pt x="5326" y="1"/>
                      <a:pt x="5326" y="2"/>
                      <a:pt x="5326" y="3"/>
                    </a:cubicBezTo>
                    <a:cubicBezTo>
                      <a:pt x="5326" y="4"/>
                      <a:pt x="5326" y="5"/>
                      <a:pt x="5324" y="5"/>
                    </a:cubicBezTo>
                    <a:lnTo>
                      <a:pt x="5324" y="5"/>
                    </a:lnTo>
                    <a:cubicBezTo>
                      <a:pt x="5323" y="5"/>
                      <a:pt x="5322" y="4"/>
                      <a:pt x="5322" y="3"/>
                    </a:cubicBezTo>
                    <a:cubicBezTo>
                      <a:pt x="5322" y="2"/>
                      <a:pt x="5323" y="1"/>
                      <a:pt x="5324" y="1"/>
                    </a:cubicBezTo>
                    <a:close/>
                    <a:moveTo>
                      <a:pt x="5332" y="1"/>
                    </a:moveTo>
                    <a:lnTo>
                      <a:pt x="5332" y="1"/>
                    </a:lnTo>
                    <a:cubicBezTo>
                      <a:pt x="5334" y="1"/>
                      <a:pt x="5334" y="2"/>
                      <a:pt x="5334" y="3"/>
                    </a:cubicBezTo>
                    <a:cubicBezTo>
                      <a:pt x="5334" y="4"/>
                      <a:pt x="5334" y="5"/>
                      <a:pt x="5332" y="5"/>
                    </a:cubicBezTo>
                    <a:lnTo>
                      <a:pt x="5332" y="5"/>
                    </a:lnTo>
                    <a:cubicBezTo>
                      <a:pt x="5331" y="5"/>
                      <a:pt x="5330" y="4"/>
                      <a:pt x="5330" y="3"/>
                    </a:cubicBezTo>
                    <a:cubicBezTo>
                      <a:pt x="5330" y="2"/>
                      <a:pt x="5331" y="1"/>
                      <a:pt x="5332" y="1"/>
                    </a:cubicBezTo>
                    <a:close/>
                    <a:moveTo>
                      <a:pt x="5340" y="1"/>
                    </a:moveTo>
                    <a:lnTo>
                      <a:pt x="5340" y="1"/>
                    </a:lnTo>
                    <a:cubicBezTo>
                      <a:pt x="5342" y="1"/>
                      <a:pt x="5342" y="2"/>
                      <a:pt x="5342" y="3"/>
                    </a:cubicBezTo>
                    <a:cubicBezTo>
                      <a:pt x="5342" y="4"/>
                      <a:pt x="5342" y="5"/>
                      <a:pt x="5340" y="5"/>
                    </a:cubicBezTo>
                    <a:lnTo>
                      <a:pt x="5340" y="5"/>
                    </a:lnTo>
                    <a:cubicBezTo>
                      <a:pt x="5339" y="5"/>
                      <a:pt x="5338" y="4"/>
                      <a:pt x="5338" y="3"/>
                    </a:cubicBezTo>
                    <a:cubicBezTo>
                      <a:pt x="5338" y="2"/>
                      <a:pt x="5339" y="1"/>
                      <a:pt x="5340" y="1"/>
                    </a:cubicBezTo>
                    <a:close/>
                    <a:moveTo>
                      <a:pt x="5348" y="1"/>
                    </a:moveTo>
                    <a:lnTo>
                      <a:pt x="5348" y="1"/>
                    </a:lnTo>
                    <a:cubicBezTo>
                      <a:pt x="5350" y="1"/>
                      <a:pt x="5350" y="2"/>
                      <a:pt x="5350" y="3"/>
                    </a:cubicBezTo>
                    <a:cubicBezTo>
                      <a:pt x="5350" y="4"/>
                      <a:pt x="5350" y="5"/>
                      <a:pt x="5348" y="5"/>
                    </a:cubicBezTo>
                    <a:lnTo>
                      <a:pt x="5348" y="5"/>
                    </a:lnTo>
                    <a:cubicBezTo>
                      <a:pt x="5347" y="5"/>
                      <a:pt x="5346" y="4"/>
                      <a:pt x="5346" y="3"/>
                    </a:cubicBezTo>
                    <a:cubicBezTo>
                      <a:pt x="5346" y="2"/>
                      <a:pt x="5347" y="1"/>
                      <a:pt x="5348" y="1"/>
                    </a:cubicBezTo>
                    <a:close/>
                    <a:moveTo>
                      <a:pt x="5356" y="1"/>
                    </a:moveTo>
                    <a:lnTo>
                      <a:pt x="5356" y="1"/>
                    </a:lnTo>
                    <a:cubicBezTo>
                      <a:pt x="5358" y="1"/>
                      <a:pt x="5358" y="2"/>
                      <a:pt x="5358" y="3"/>
                    </a:cubicBezTo>
                    <a:cubicBezTo>
                      <a:pt x="5358" y="4"/>
                      <a:pt x="5358" y="5"/>
                      <a:pt x="5356" y="5"/>
                    </a:cubicBezTo>
                    <a:lnTo>
                      <a:pt x="5356" y="5"/>
                    </a:lnTo>
                    <a:cubicBezTo>
                      <a:pt x="5355" y="5"/>
                      <a:pt x="5354" y="4"/>
                      <a:pt x="5354" y="3"/>
                    </a:cubicBezTo>
                    <a:cubicBezTo>
                      <a:pt x="5354" y="2"/>
                      <a:pt x="5355" y="1"/>
                      <a:pt x="5356" y="1"/>
                    </a:cubicBezTo>
                    <a:close/>
                    <a:moveTo>
                      <a:pt x="5364" y="1"/>
                    </a:moveTo>
                    <a:lnTo>
                      <a:pt x="5364" y="1"/>
                    </a:lnTo>
                    <a:cubicBezTo>
                      <a:pt x="5366" y="1"/>
                      <a:pt x="5366" y="2"/>
                      <a:pt x="5366" y="3"/>
                    </a:cubicBezTo>
                    <a:cubicBezTo>
                      <a:pt x="5366" y="4"/>
                      <a:pt x="5366" y="5"/>
                      <a:pt x="5364" y="5"/>
                    </a:cubicBezTo>
                    <a:lnTo>
                      <a:pt x="5364" y="5"/>
                    </a:lnTo>
                    <a:cubicBezTo>
                      <a:pt x="5363" y="5"/>
                      <a:pt x="5362" y="4"/>
                      <a:pt x="5362" y="3"/>
                    </a:cubicBezTo>
                    <a:cubicBezTo>
                      <a:pt x="5362" y="2"/>
                      <a:pt x="5363" y="1"/>
                      <a:pt x="5364" y="1"/>
                    </a:cubicBezTo>
                    <a:close/>
                    <a:moveTo>
                      <a:pt x="5372" y="1"/>
                    </a:moveTo>
                    <a:lnTo>
                      <a:pt x="5372" y="1"/>
                    </a:lnTo>
                    <a:cubicBezTo>
                      <a:pt x="5374" y="1"/>
                      <a:pt x="5374" y="2"/>
                      <a:pt x="5374" y="3"/>
                    </a:cubicBezTo>
                    <a:cubicBezTo>
                      <a:pt x="5374" y="4"/>
                      <a:pt x="5374" y="5"/>
                      <a:pt x="5372" y="5"/>
                    </a:cubicBezTo>
                    <a:lnTo>
                      <a:pt x="5372" y="5"/>
                    </a:lnTo>
                    <a:cubicBezTo>
                      <a:pt x="5371" y="5"/>
                      <a:pt x="5370" y="4"/>
                      <a:pt x="5370" y="3"/>
                    </a:cubicBezTo>
                    <a:cubicBezTo>
                      <a:pt x="5370" y="2"/>
                      <a:pt x="5371" y="1"/>
                      <a:pt x="5372" y="1"/>
                    </a:cubicBezTo>
                    <a:close/>
                    <a:moveTo>
                      <a:pt x="5380" y="1"/>
                    </a:moveTo>
                    <a:lnTo>
                      <a:pt x="5380" y="1"/>
                    </a:lnTo>
                    <a:cubicBezTo>
                      <a:pt x="5382" y="1"/>
                      <a:pt x="5382" y="2"/>
                      <a:pt x="5382" y="3"/>
                    </a:cubicBezTo>
                    <a:cubicBezTo>
                      <a:pt x="5382" y="4"/>
                      <a:pt x="5382" y="5"/>
                      <a:pt x="5380" y="5"/>
                    </a:cubicBezTo>
                    <a:lnTo>
                      <a:pt x="5380" y="5"/>
                    </a:lnTo>
                    <a:cubicBezTo>
                      <a:pt x="5379" y="5"/>
                      <a:pt x="5378" y="4"/>
                      <a:pt x="5378" y="3"/>
                    </a:cubicBezTo>
                    <a:cubicBezTo>
                      <a:pt x="5378" y="2"/>
                      <a:pt x="5379" y="1"/>
                      <a:pt x="5380" y="1"/>
                    </a:cubicBezTo>
                    <a:close/>
                    <a:moveTo>
                      <a:pt x="5388" y="1"/>
                    </a:moveTo>
                    <a:lnTo>
                      <a:pt x="5388" y="1"/>
                    </a:lnTo>
                    <a:cubicBezTo>
                      <a:pt x="5390" y="1"/>
                      <a:pt x="5390" y="2"/>
                      <a:pt x="5390" y="3"/>
                    </a:cubicBezTo>
                    <a:cubicBezTo>
                      <a:pt x="5390" y="4"/>
                      <a:pt x="5390" y="5"/>
                      <a:pt x="5388" y="5"/>
                    </a:cubicBezTo>
                    <a:lnTo>
                      <a:pt x="5388" y="5"/>
                    </a:lnTo>
                    <a:cubicBezTo>
                      <a:pt x="5387" y="5"/>
                      <a:pt x="5386" y="4"/>
                      <a:pt x="5386" y="3"/>
                    </a:cubicBezTo>
                    <a:cubicBezTo>
                      <a:pt x="5386" y="2"/>
                      <a:pt x="5387" y="1"/>
                      <a:pt x="5388" y="1"/>
                    </a:cubicBezTo>
                    <a:close/>
                    <a:moveTo>
                      <a:pt x="5396" y="1"/>
                    </a:moveTo>
                    <a:lnTo>
                      <a:pt x="5396" y="1"/>
                    </a:lnTo>
                    <a:cubicBezTo>
                      <a:pt x="5398" y="1"/>
                      <a:pt x="5398" y="2"/>
                      <a:pt x="5398" y="3"/>
                    </a:cubicBezTo>
                    <a:cubicBezTo>
                      <a:pt x="5398" y="4"/>
                      <a:pt x="5398" y="5"/>
                      <a:pt x="5396" y="5"/>
                    </a:cubicBezTo>
                    <a:lnTo>
                      <a:pt x="5396" y="5"/>
                    </a:lnTo>
                    <a:cubicBezTo>
                      <a:pt x="5395" y="5"/>
                      <a:pt x="5394" y="4"/>
                      <a:pt x="5394" y="3"/>
                    </a:cubicBezTo>
                    <a:cubicBezTo>
                      <a:pt x="5394" y="2"/>
                      <a:pt x="5395" y="1"/>
                      <a:pt x="5396" y="1"/>
                    </a:cubicBezTo>
                    <a:close/>
                    <a:moveTo>
                      <a:pt x="5404" y="1"/>
                    </a:moveTo>
                    <a:lnTo>
                      <a:pt x="5404" y="1"/>
                    </a:lnTo>
                    <a:cubicBezTo>
                      <a:pt x="5406" y="1"/>
                      <a:pt x="5406" y="2"/>
                      <a:pt x="5406" y="3"/>
                    </a:cubicBezTo>
                    <a:cubicBezTo>
                      <a:pt x="5406" y="4"/>
                      <a:pt x="5406" y="5"/>
                      <a:pt x="5404" y="5"/>
                    </a:cubicBezTo>
                    <a:lnTo>
                      <a:pt x="5404" y="5"/>
                    </a:lnTo>
                    <a:cubicBezTo>
                      <a:pt x="5403" y="5"/>
                      <a:pt x="5402" y="4"/>
                      <a:pt x="5402" y="3"/>
                    </a:cubicBezTo>
                    <a:cubicBezTo>
                      <a:pt x="5402" y="2"/>
                      <a:pt x="5403" y="1"/>
                      <a:pt x="5404" y="1"/>
                    </a:cubicBezTo>
                    <a:close/>
                    <a:moveTo>
                      <a:pt x="5412" y="1"/>
                    </a:moveTo>
                    <a:lnTo>
                      <a:pt x="5412" y="1"/>
                    </a:lnTo>
                    <a:cubicBezTo>
                      <a:pt x="5414" y="1"/>
                      <a:pt x="5414" y="2"/>
                      <a:pt x="5414" y="3"/>
                    </a:cubicBezTo>
                    <a:cubicBezTo>
                      <a:pt x="5414" y="4"/>
                      <a:pt x="5414" y="5"/>
                      <a:pt x="5412" y="5"/>
                    </a:cubicBezTo>
                    <a:lnTo>
                      <a:pt x="5412" y="5"/>
                    </a:lnTo>
                    <a:cubicBezTo>
                      <a:pt x="5411" y="5"/>
                      <a:pt x="5410" y="4"/>
                      <a:pt x="5410" y="3"/>
                    </a:cubicBezTo>
                    <a:cubicBezTo>
                      <a:pt x="5410" y="2"/>
                      <a:pt x="5411" y="1"/>
                      <a:pt x="5412" y="1"/>
                    </a:cubicBezTo>
                    <a:close/>
                    <a:moveTo>
                      <a:pt x="5420" y="1"/>
                    </a:moveTo>
                    <a:lnTo>
                      <a:pt x="5420" y="1"/>
                    </a:lnTo>
                    <a:cubicBezTo>
                      <a:pt x="5422" y="1"/>
                      <a:pt x="5422" y="2"/>
                      <a:pt x="5422" y="3"/>
                    </a:cubicBezTo>
                    <a:cubicBezTo>
                      <a:pt x="5422" y="4"/>
                      <a:pt x="5422" y="5"/>
                      <a:pt x="5420" y="5"/>
                    </a:cubicBezTo>
                    <a:lnTo>
                      <a:pt x="5420" y="5"/>
                    </a:lnTo>
                    <a:cubicBezTo>
                      <a:pt x="5419" y="5"/>
                      <a:pt x="5418" y="4"/>
                      <a:pt x="5418" y="3"/>
                    </a:cubicBezTo>
                    <a:cubicBezTo>
                      <a:pt x="5418" y="2"/>
                      <a:pt x="5419" y="1"/>
                      <a:pt x="5420" y="1"/>
                    </a:cubicBezTo>
                    <a:close/>
                    <a:moveTo>
                      <a:pt x="5428" y="1"/>
                    </a:moveTo>
                    <a:lnTo>
                      <a:pt x="5428" y="1"/>
                    </a:lnTo>
                    <a:cubicBezTo>
                      <a:pt x="5430" y="1"/>
                      <a:pt x="5430" y="2"/>
                      <a:pt x="5430" y="3"/>
                    </a:cubicBezTo>
                    <a:cubicBezTo>
                      <a:pt x="5430" y="4"/>
                      <a:pt x="5430" y="5"/>
                      <a:pt x="5428" y="5"/>
                    </a:cubicBezTo>
                    <a:lnTo>
                      <a:pt x="5428" y="5"/>
                    </a:lnTo>
                    <a:cubicBezTo>
                      <a:pt x="5427" y="5"/>
                      <a:pt x="5426" y="4"/>
                      <a:pt x="5426" y="3"/>
                    </a:cubicBezTo>
                    <a:cubicBezTo>
                      <a:pt x="5426" y="2"/>
                      <a:pt x="5427" y="1"/>
                      <a:pt x="5428" y="1"/>
                    </a:cubicBezTo>
                    <a:close/>
                    <a:moveTo>
                      <a:pt x="5436" y="1"/>
                    </a:moveTo>
                    <a:lnTo>
                      <a:pt x="5436" y="1"/>
                    </a:lnTo>
                    <a:cubicBezTo>
                      <a:pt x="5438" y="1"/>
                      <a:pt x="5438" y="2"/>
                      <a:pt x="5438" y="3"/>
                    </a:cubicBezTo>
                    <a:cubicBezTo>
                      <a:pt x="5438" y="4"/>
                      <a:pt x="5438" y="5"/>
                      <a:pt x="5436" y="5"/>
                    </a:cubicBezTo>
                    <a:lnTo>
                      <a:pt x="5436" y="5"/>
                    </a:lnTo>
                    <a:cubicBezTo>
                      <a:pt x="5435" y="5"/>
                      <a:pt x="5434" y="4"/>
                      <a:pt x="5434" y="3"/>
                    </a:cubicBezTo>
                    <a:cubicBezTo>
                      <a:pt x="5434" y="2"/>
                      <a:pt x="5435" y="1"/>
                      <a:pt x="5436" y="1"/>
                    </a:cubicBezTo>
                    <a:close/>
                    <a:moveTo>
                      <a:pt x="5444" y="1"/>
                    </a:moveTo>
                    <a:lnTo>
                      <a:pt x="5444" y="1"/>
                    </a:lnTo>
                    <a:cubicBezTo>
                      <a:pt x="5446" y="1"/>
                      <a:pt x="5446" y="2"/>
                      <a:pt x="5446" y="3"/>
                    </a:cubicBezTo>
                    <a:cubicBezTo>
                      <a:pt x="5446" y="4"/>
                      <a:pt x="5446" y="5"/>
                      <a:pt x="5444" y="5"/>
                    </a:cubicBezTo>
                    <a:lnTo>
                      <a:pt x="5444" y="5"/>
                    </a:lnTo>
                    <a:cubicBezTo>
                      <a:pt x="5443" y="5"/>
                      <a:pt x="5442" y="4"/>
                      <a:pt x="5442" y="3"/>
                    </a:cubicBezTo>
                    <a:cubicBezTo>
                      <a:pt x="5442" y="2"/>
                      <a:pt x="5443" y="1"/>
                      <a:pt x="5444" y="1"/>
                    </a:cubicBezTo>
                    <a:close/>
                    <a:moveTo>
                      <a:pt x="5452" y="1"/>
                    </a:moveTo>
                    <a:lnTo>
                      <a:pt x="5452" y="1"/>
                    </a:lnTo>
                    <a:cubicBezTo>
                      <a:pt x="5454" y="1"/>
                      <a:pt x="5454" y="2"/>
                      <a:pt x="5454" y="3"/>
                    </a:cubicBezTo>
                    <a:cubicBezTo>
                      <a:pt x="5454" y="4"/>
                      <a:pt x="5454" y="5"/>
                      <a:pt x="5452" y="5"/>
                    </a:cubicBezTo>
                    <a:lnTo>
                      <a:pt x="5452" y="5"/>
                    </a:lnTo>
                    <a:cubicBezTo>
                      <a:pt x="5451" y="5"/>
                      <a:pt x="5450" y="4"/>
                      <a:pt x="5450" y="3"/>
                    </a:cubicBezTo>
                    <a:cubicBezTo>
                      <a:pt x="5450" y="2"/>
                      <a:pt x="5451" y="1"/>
                      <a:pt x="5452" y="1"/>
                    </a:cubicBezTo>
                    <a:close/>
                    <a:moveTo>
                      <a:pt x="5460" y="1"/>
                    </a:moveTo>
                    <a:lnTo>
                      <a:pt x="5460" y="1"/>
                    </a:lnTo>
                    <a:cubicBezTo>
                      <a:pt x="5462" y="1"/>
                      <a:pt x="5462" y="2"/>
                      <a:pt x="5462" y="3"/>
                    </a:cubicBezTo>
                    <a:cubicBezTo>
                      <a:pt x="5462" y="4"/>
                      <a:pt x="5462" y="5"/>
                      <a:pt x="5460" y="5"/>
                    </a:cubicBezTo>
                    <a:lnTo>
                      <a:pt x="5460" y="5"/>
                    </a:lnTo>
                    <a:cubicBezTo>
                      <a:pt x="5459" y="5"/>
                      <a:pt x="5458" y="4"/>
                      <a:pt x="5458" y="3"/>
                    </a:cubicBezTo>
                    <a:cubicBezTo>
                      <a:pt x="5458" y="2"/>
                      <a:pt x="5459" y="1"/>
                      <a:pt x="5460" y="1"/>
                    </a:cubicBezTo>
                    <a:close/>
                    <a:moveTo>
                      <a:pt x="5468" y="1"/>
                    </a:moveTo>
                    <a:lnTo>
                      <a:pt x="5468" y="1"/>
                    </a:lnTo>
                    <a:cubicBezTo>
                      <a:pt x="5470" y="1"/>
                      <a:pt x="5470" y="2"/>
                      <a:pt x="5470" y="3"/>
                    </a:cubicBezTo>
                    <a:cubicBezTo>
                      <a:pt x="5470" y="4"/>
                      <a:pt x="5470" y="5"/>
                      <a:pt x="5468" y="5"/>
                    </a:cubicBezTo>
                    <a:lnTo>
                      <a:pt x="5468" y="5"/>
                    </a:lnTo>
                    <a:cubicBezTo>
                      <a:pt x="5467" y="5"/>
                      <a:pt x="5466" y="4"/>
                      <a:pt x="5466" y="3"/>
                    </a:cubicBezTo>
                    <a:cubicBezTo>
                      <a:pt x="5466" y="2"/>
                      <a:pt x="5467" y="1"/>
                      <a:pt x="5468" y="1"/>
                    </a:cubicBezTo>
                    <a:close/>
                    <a:moveTo>
                      <a:pt x="5476" y="1"/>
                    </a:moveTo>
                    <a:lnTo>
                      <a:pt x="5476" y="1"/>
                    </a:lnTo>
                    <a:cubicBezTo>
                      <a:pt x="5478" y="1"/>
                      <a:pt x="5478" y="2"/>
                      <a:pt x="5478" y="3"/>
                    </a:cubicBezTo>
                    <a:cubicBezTo>
                      <a:pt x="5478" y="4"/>
                      <a:pt x="5478" y="5"/>
                      <a:pt x="5476" y="5"/>
                    </a:cubicBezTo>
                    <a:lnTo>
                      <a:pt x="5476" y="5"/>
                    </a:lnTo>
                    <a:cubicBezTo>
                      <a:pt x="5475" y="5"/>
                      <a:pt x="5474" y="4"/>
                      <a:pt x="5474" y="3"/>
                    </a:cubicBezTo>
                    <a:cubicBezTo>
                      <a:pt x="5474" y="2"/>
                      <a:pt x="5475" y="1"/>
                      <a:pt x="5476" y="1"/>
                    </a:cubicBezTo>
                    <a:close/>
                    <a:moveTo>
                      <a:pt x="5484" y="1"/>
                    </a:moveTo>
                    <a:lnTo>
                      <a:pt x="5485" y="1"/>
                    </a:lnTo>
                    <a:cubicBezTo>
                      <a:pt x="5486" y="1"/>
                      <a:pt x="5487" y="2"/>
                      <a:pt x="5487" y="3"/>
                    </a:cubicBezTo>
                    <a:cubicBezTo>
                      <a:pt x="5487" y="4"/>
                      <a:pt x="5486" y="5"/>
                      <a:pt x="5485" y="5"/>
                    </a:cubicBezTo>
                    <a:lnTo>
                      <a:pt x="5484" y="5"/>
                    </a:lnTo>
                    <a:cubicBezTo>
                      <a:pt x="5483" y="5"/>
                      <a:pt x="5482" y="4"/>
                      <a:pt x="5482" y="3"/>
                    </a:cubicBezTo>
                    <a:cubicBezTo>
                      <a:pt x="5482" y="2"/>
                      <a:pt x="5483" y="1"/>
                      <a:pt x="5484" y="1"/>
                    </a:cubicBezTo>
                    <a:close/>
                    <a:moveTo>
                      <a:pt x="5493" y="1"/>
                    </a:moveTo>
                    <a:lnTo>
                      <a:pt x="5493" y="1"/>
                    </a:lnTo>
                    <a:cubicBezTo>
                      <a:pt x="5494" y="1"/>
                      <a:pt x="5495" y="2"/>
                      <a:pt x="5495" y="3"/>
                    </a:cubicBezTo>
                    <a:cubicBezTo>
                      <a:pt x="5495" y="4"/>
                      <a:pt x="5494" y="5"/>
                      <a:pt x="5493" y="5"/>
                    </a:cubicBezTo>
                    <a:lnTo>
                      <a:pt x="5493" y="5"/>
                    </a:lnTo>
                    <a:cubicBezTo>
                      <a:pt x="5491" y="5"/>
                      <a:pt x="5491" y="4"/>
                      <a:pt x="5491" y="3"/>
                    </a:cubicBezTo>
                    <a:cubicBezTo>
                      <a:pt x="5491" y="2"/>
                      <a:pt x="5491" y="1"/>
                      <a:pt x="5493" y="1"/>
                    </a:cubicBezTo>
                    <a:close/>
                    <a:moveTo>
                      <a:pt x="5501" y="1"/>
                    </a:moveTo>
                    <a:lnTo>
                      <a:pt x="5501" y="1"/>
                    </a:lnTo>
                    <a:cubicBezTo>
                      <a:pt x="5502" y="1"/>
                      <a:pt x="5503" y="2"/>
                      <a:pt x="5503" y="3"/>
                    </a:cubicBezTo>
                    <a:cubicBezTo>
                      <a:pt x="5503" y="4"/>
                      <a:pt x="5502" y="5"/>
                      <a:pt x="5501" y="5"/>
                    </a:cubicBezTo>
                    <a:lnTo>
                      <a:pt x="5501" y="5"/>
                    </a:lnTo>
                    <a:cubicBezTo>
                      <a:pt x="5499" y="5"/>
                      <a:pt x="5499" y="4"/>
                      <a:pt x="5499" y="3"/>
                    </a:cubicBezTo>
                    <a:cubicBezTo>
                      <a:pt x="5499" y="2"/>
                      <a:pt x="5499" y="1"/>
                      <a:pt x="5501" y="1"/>
                    </a:cubicBezTo>
                    <a:close/>
                    <a:moveTo>
                      <a:pt x="5509" y="1"/>
                    </a:moveTo>
                    <a:lnTo>
                      <a:pt x="5509" y="1"/>
                    </a:lnTo>
                    <a:cubicBezTo>
                      <a:pt x="5510" y="1"/>
                      <a:pt x="5511" y="2"/>
                      <a:pt x="5511" y="3"/>
                    </a:cubicBezTo>
                    <a:cubicBezTo>
                      <a:pt x="5511" y="4"/>
                      <a:pt x="5510" y="5"/>
                      <a:pt x="5509" y="5"/>
                    </a:cubicBezTo>
                    <a:lnTo>
                      <a:pt x="5509" y="5"/>
                    </a:lnTo>
                    <a:cubicBezTo>
                      <a:pt x="5507" y="5"/>
                      <a:pt x="5507" y="4"/>
                      <a:pt x="5507" y="3"/>
                    </a:cubicBezTo>
                    <a:cubicBezTo>
                      <a:pt x="5507" y="2"/>
                      <a:pt x="5507" y="1"/>
                      <a:pt x="5509" y="1"/>
                    </a:cubicBezTo>
                    <a:close/>
                    <a:moveTo>
                      <a:pt x="5517" y="1"/>
                    </a:moveTo>
                    <a:lnTo>
                      <a:pt x="5517" y="1"/>
                    </a:lnTo>
                    <a:cubicBezTo>
                      <a:pt x="5518" y="1"/>
                      <a:pt x="5519" y="2"/>
                      <a:pt x="5519" y="3"/>
                    </a:cubicBezTo>
                    <a:cubicBezTo>
                      <a:pt x="5519" y="4"/>
                      <a:pt x="5518" y="5"/>
                      <a:pt x="5517" y="5"/>
                    </a:cubicBezTo>
                    <a:lnTo>
                      <a:pt x="5517" y="5"/>
                    </a:lnTo>
                    <a:cubicBezTo>
                      <a:pt x="5515" y="5"/>
                      <a:pt x="5515" y="4"/>
                      <a:pt x="5515" y="3"/>
                    </a:cubicBezTo>
                    <a:cubicBezTo>
                      <a:pt x="5515" y="2"/>
                      <a:pt x="5515" y="1"/>
                      <a:pt x="5517" y="1"/>
                    </a:cubicBezTo>
                    <a:close/>
                    <a:moveTo>
                      <a:pt x="5525" y="1"/>
                    </a:moveTo>
                    <a:lnTo>
                      <a:pt x="5525" y="1"/>
                    </a:lnTo>
                    <a:cubicBezTo>
                      <a:pt x="5526" y="1"/>
                      <a:pt x="5527" y="2"/>
                      <a:pt x="5527" y="3"/>
                    </a:cubicBezTo>
                    <a:cubicBezTo>
                      <a:pt x="5527" y="4"/>
                      <a:pt x="5526" y="5"/>
                      <a:pt x="5525" y="5"/>
                    </a:cubicBezTo>
                    <a:lnTo>
                      <a:pt x="5525" y="5"/>
                    </a:lnTo>
                    <a:cubicBezTo>
                      <a:pt x="5523" y="5"/>
                      <a:pt x="5523" y="4"/>
                      <a:pt x="5523" y="3"/>
                    </a:cubicBezTo>
                    <a:cubicBezTo>
                      <a:pt x="5523" y="2"/>
                      <a:pt x="5523" y="1"/>
                      <a:pt x="5525" y="1"/>
                    </a:cubicBezTo>
                    <a:close/>
                    <a:moveTo>
                      <a:pt x="5533" y="1"/>
                    </a:moveTo>
                    <a:lnTo>
                      <a:pt x="5533" y="1"/>
                    </a:lnTo>
                    <a:cubicBezTo>
                      <a:pt x="5534" y="1"/>
                      <a:pt x="5535" y="2"/>
                      <a:pt x="5535" y="3"/>
                    </a:cubicBezTo>
                    <a:cubicBezTo>
                      <a:pt x="5535" y="4"/>
                      <a:pt x="5534" y="5"/>
                      <a:pt x="5533" y="5"/>
                    </a:cubicBezTo>
                    <a:lnTo>
                      <a:pt x="5533" y="5"/>
                    </a:lnTo>
                    <a:cubicBezTo>
                      <a:pt x="5531" y="5"/>
                      <a:pt x="5531" y="4"/>
                      <a:pt x="5531" y="3"/>
                    </a:cubicBezTo>
                    <a:cubicBezTo>
                      <a:pt x="5531" y="2"/>
                      <a:pt x="5531" y="1"/>
                      <a:pt x="5533" y="1"/>
                    </a:cubicBezTo>
                    <a:close/>
                    <a:moveTo>
                      <a:pt x="5541" y="1"/>
                    </a:moveTo>
                    <a:lnTo>
                      <a:pt x="5541" y="1"/>
                    </a:lnTo>
                    <a:cubicBezTo>
                      <a:pt x="5542" y="1"/>
                      <a:pt x="5543" y="2"/>
                      <a:pt x="5543" y="3"/>
                    </a:cubicBezTo>
                    <a:cubicBezTo>
                      <a:pt x="5543" y="4"/>
                      <a:pt x="5542" y="5"/>
                      <a:pt x="5541" y="5"/>
                    </a:cubicBezTo>
                    <a:lnTo>
                      <a:pt x="5541" y="5"/>
                    </a:lnTo>
                    <a:cubicBezTo>
                      <a:pt x="5539" y="5"/>
                      <a:pt x="5539" y="4"/>
                      <a:pt x="5539" y="3"/>
                    </a:cubicBezTo>
                    <a:cubicBezTo>
                      <a:pt x="5539" y="2"/>
                      <a:pt x="5539" y="1"/>
                      <a:pt x="5541" y="1"/>
                    </a:cubicBezTo>
                    <a:close/>
                    <a:moveTo>
                      <a:pt x="5549" y="1"/>
                    </a:moveTo>
                    <a:lnTo>
                      <a:pt x="5549" y="1"/>
                    </a:lnTo>
                    <a:cubicBezTo>
                      <a:pt x="5550" y="1"/>
                      <a:pt x="5551" y="2"/>
                      <a:pt x="5551" y="3"/>
                    </a:cubicBezTo>
                    <a:cubicBezTo>
                      <a:pt x="5551" y="4"/>
                      <a:pt x="5550" y="5"/>
                      <a:pt x="5549" y="5"/>
                    </a:cubicBezTo>
                    <a:lnTo>
                      <a:pt x="5549" y="5"/>
                    </a:lnTo>
                    <a:cubicBezTo>
                      <a:pt x="5547" y="5"/>
                      <a:pt x="5547" y="4"/>
                      <a:pt x="5547" y="3"/>
                    </a:cubicBezTo>
                    <a:cubicBezTo>
                      <a:pt x="5547" y="2"/>
                      <a:pt x="5547" y="1"/>
                      <a:pt x="5549" y="1"/>
                    </a:cubicBezTo>
                    <a:close/>
                    <a:moveTo>
                      <a:pt x="5557" y="1"/>
                    </a:moveTo>
                    <a:lnTo>
                      <a:pt x="5557" y="1"/>
                    </a:lnTo>
                    <a:cubicBezTo>
                      <a:pt x="5558" y="1"/>
                      <a:pt x="5559" y="2"/>
                      <a:pt x="5559" y="3"/>
                    </a:cubicBezTo>
                    <a:cubicBezTo>
                      <a:pt x="5559" y="4"/>
                      <a:pt x="5558" y="5"/>
                      <a:pt x="5557" y="5"/>
                    </a:cubicBezTo>
                    <a:lnTo>
                      <a:pt x="5557" y="5"/>
                    </a:lnTo>
                    <a:cubicBezTo>
                      <a:pt x="5555" y="5"/>
                      <a:pt x="5555" y="4"/>
                      <a:pt x="5555" y="3"/>
                    </a:cubicBezTo>
                    <a:cubicBezTo>
                      <a:pt x="5555" y="2"/>
                      <a:pt x="5555" y="1"/>
                      <a:pt x="5557" y="1"/>
                    </a:cubicBezTo>
                    <a:close/>
                    <a:moveTo>
                      <a:pt x="5565" y="1"/>
                    </a:moveTo>
                    <a:lnTo>
                      <a:pt x="5565" y="1"/>
                    </a:lnTo>
                    <a:cubicBezTo>
                      <a:pt x="5566" y="1"/>
                      <a:pt x="5567" y="2"/>
                      <a:pt x="5567" y="3"/>
                    </a:cubicBezTo>
                    <a:cubicBezTo>
                      <a:pt x="5567" y="4"/>
                      <a:pt x="5566" y="5"/>
                      <a:pt x="5565" y="5"/>
                    </a:cubicBezTo>
                    <a:lnTo>
                      <a:pt x="5565" y="5"/>
                    </a:lnTo>
                    <a:cubicBezTo>
                      <a:pt x="5563" y="5"/>
                      <a:pt x="5563" y="4"/>
                      <a:pt x="5563" y="3"/>
                    </a:cubicBezTo>
                    <a:cubicBezTo>
                      <a:pt x="5563" y="2"/>
                      <a:pt x="5563" y="1"/>
                      <a:pt x="5565" y="1"/>
                    </a:cubicBezTo>
                    <a:close/>
                    <a:moveTo>
                      <a:pt x="5573" y="1"/>
                    </a:moveTo>
                    <a:lnTo>
                      <a:pt x="5573" y="1"/>
                    </a:lnTo>
                    <a:cubicBezTo>
                      <a:pt x="5574" y="1"/>
                      <a:pt x="5575" y="2"/>
                      <a:pt x="5575" y="3"/>
                    </a:cubicBezTo>
                    <a:cubicBezTo>
                      <a:pt x="5575" y="4"/>
                      <a:pt x="5574" y="5"/>
                      <a:pt x="5573" y="5"/>
                    </a:cubicBezTo>
                    <a:lnTo>
                      <a:pt x="5573" y="5"/>
                    </a:lnTo>
                    <a:cubicBezTo>
                      <a:pt x="5571" y="5"/>
                      <a:pt x="5571" y="4"/>
                      <a:pt x="5571" y="3"/>
                    </a:cubicBezTo>
                    <a:cubicBezTo>
                      <a:pt x="5571" y="2"/>
                      <a:pt x="5571" y="1"/>
                      <a:pt x="5573" y="1"/>
                    </a:cubicBezTo>
                    <a:close/>
                    <a:moveTo>
                      <a:pt x="5581" y="1"/>
                    </a:moveTo>
                    <a:lnTo>
                      <a:pt x="5581" y="1"/>
                    </a:lnTo>
                    <a:cubicBezTo>
                      <a:pt x="5582" y="1"/>
                      <a:pt x="5583" y="2"/>
                      <a:pt x="5583" y="3"/>
                    </a:cubicBezTo>
                    <a:cubicBezTo>
                      <a:pt x="5583" y="4"/>
                      <a:pt x="5582" y="5"/>
                      <a:pt x="5581" y="5"/>
                    </a:cubicBezTo>
                    <a:lnTo>
                      <a:pt x="5581" y="5"/>
                    </a:lnTo>
                    <a:cubicBezTo>
                      <a:pt x="5579" y="5"/>
                      <a:pt x="5579" y="4"/>
                      <a:pt x="5579" y="3"/>
                    </a:cubicBezTo>
                    <a:cubicBezTo>
                      <a:pt x="5579" y="2"/>
                      <a:pt x="5579" y="1"/>
                      <a:pt x="5581" y="1"/>
                    </a:cubicBezTo>
                    <a:close/>
                    <a:moveTo>
                      <a:pt x="5589" y="1"/>
                    </a:moveTo>
                    <a:lnTo>
                      <a:pt x="5589" y="1"/>
                    </a:lnTo>
                    <a:cubicBezTo>
                      <a:pt x="5590" y="1"/>
                      <a:pt x="5591" y="2"/>
                      <a:pt x="5591" y="3"/>
                    </a:cubicBezTo>
                    <a:cubicBezTo>
                      <a:pt x="5591" y="4"/>
                      <a:pt x="5590" y="5"/>
                      <a:pt x="5589" y="5"/>
                    </a:cubicBezTo>
                    <a:lnTo>
                      <a:pt x="5589" y="5"/>
                    </a:lnTo>
                    <a:cubicBezTo>
                      <a:pt x="5587" y="5"/>
                      <a:pt x="5587" y="4"/>
                      <a:pt x="5587" y="3"/>
                    </a:cubicBezTo>
                    <a:cubicBezTo>
                      <a:pt x="5587" y="2"/>
                      <a:pt x="5587" y="1"/>
                      <a:pt x="5589" y="1"/>
                    </a:cubicBezTo>
                    <a:close/>
                    <a:moveTo>
                      <a:pt x="5597" y="1"/>
                    </a:moveTo>
                    <a:lnTo>
                      <a:pt x="5597" y="1"/>
                    </a:lnTo>
                    <a:cubicBezTo>
                      <a:pt x="5598" y="1"/>
                      <a:pt x="5599" y="2"/>
                      <a:pt x="5599" y="3"/>
                    </a:cubicBezTo>
                    <a:cubicBezTo>
                      <a:pt x="5599" y="4"/>
                      <a:pt x="5598" y="5"/>
                      <a:pt x="5597" y="5"/>
                    </a:cubicBezTo>
                    <a:lnTo>
                      <a:pt x="5597" y="5"/>
                    </a:lnTo>
                    <a:cubicBezTo>
                      <a:pt x="5595" y="5"/>
                      <a:pt x="5595" y="4"/>
                      <a:pt x="5595" y="3"/>
                    </a:cubicBezTo>
                    <a:cubicBezTo>
                      <a:pt x="5595" y="2"/>
                      <a:pt x="5595" y="1"/>
                      <a:pt x="5597" y="1"/>
                    </a:cubicBezTo>
                    <a:close/>
                    <a:moveTo>
                      <a:pt x="5605" y="1"/>
                    </a:moveTo>
                    <a:lnTo>
                      <a:pt x="5605" y="1"/>
                    </a:lnTo>
                    <a:cubicBezTo>
                      <a:pt x="5606" y="1"/>
                      <a:pt x="5607" y="2"/>
                      <a:pt x="5607" y="3"/>
                    </a:cubicBezTo>
                    <a:cubicBezTo>
                      <a:pt x="5607" y="4"/>
                      <a:pt x="5606" y="5"/>
                      <a:pt x="5605" y="5"/>
                    </a:cubicBezTo>
                    <a:lnTo>
                      <a:pt x="5605" y="5"/>
                    </a:lnTo>
                    <a:cubicBezTo>
                      <a:pt x="5603" y="5"/>
                      <a:pt x="5603" y="4"/>
                      <a:pt x="5603" y="3"/>
                    </a:cubicBezTo>
                    <a:cubicBezTo>
                      <a:pt x="5603" y="2"/>
                      <a:pt x="5603" y="1"/>
                      <a:pt x="5605" y="1"/>
                    </a:cubicBezTo>
                    <a:close/>
                    <a:moveTo>
                      <a:pt x="5613" y="1"/>
                    </a:moveTo>
                    <a:lnTo>
                      <a:pt x="5613" y="1"/>
                    </a:lnTo>
                    <a:cubicBezTo>
                      <a:pt x="5614" y="1"/>
                      <a:pt x="5615" y="2"/>
                      <a:pt x="5615" y="3"/>
                    </a:cubicBezTo>
                    <a:cubicBezTo>
                      <a:pt x="5615" y="4"/>
                      <a:pt x="5614" y="5"/>
                      <a:pt x="5613" y="5"/>
                    </a:cubicBezTo>
                    <a:lnTo>
                      <a:pt x="5613" y="5"/>
                    </a:lnTo>
                    <a:cubicBezTo>
                      <a:pt x="5611" y="5"/>
                      <a:pt x="5611" y="4"/>
                      <a:pt x="5611" y="3"/>
                    </a:cubicBezTo>
                    <a:cubicBezTo>
                      <a:pt x="5611" y="2"/>
                      <a:pt x="5611" y="1"/>
                      <a:pt x="5613" y="1"/>
                    </a:cubicBezTo>
                    <a:close/>
                    <a:moveTo>
                      <a:pt x="5621" y="1"/>
                    </a:moveTo>
                    <a:lnTo>
                      <a:pt x="5621" y="1"/>
                    </a:lnTo>
                    <a:cubicBezTo>
                      <a:pt x="5622" y="1"/>
                      <a:pt x="5623" y="2"/>
                      <a:pt x="5623" y="3"/>
                    </a:cubicBezTo>
                    <a:cubicBezTo>
                      <a:pt x="5623" y="4"/>
                      <a:pt x="5622" y="5"/>
                      <a:pt x="5621" y="5"/>
                    </a:cubicBezTo>
                    <a:lnTo>
                      <a:pt x="5621" y="5"/>
                    </a:lnTo>
                    <a:cubicBezTo>
                      <a:pt x="5619" y="5"/>
                      <a:pt x="5619" y="4"/>
                      <a:pt x="5619" y="3"/>
                    </a:cubicBezTo>
                    <a:cubicBezTo>
                      <a:pt x="5619" y="2"/>
                      <a:pt x="5619" y="1"/>
                      <a:pt x="5621" y="1"/>
                    </a:cubicBezTo>
                    <a:close/>
                    <a:moveTo>
                      <a:pt x="5629" y="1"/>
                    </a:moveTo>
                    <a:lnTo>
                      <a:pt x="5629" y="1"/>
                    </a:lnTo>
                    <a:cubicBezTo>
                      <a:pt x="5630" y="1"/>
                      <a:pt x="5631" y="2"/>
                      <a:pt x="5631" y="3"/>
                    </a:cubicBezTo>
                    <a:cubicBezTo>
                      <a:pt x="5631" y="4"/>
                      <a:pt x="5630" y="5"/>
                      <a:pt x="5629" y="5"/>
                    </a:cubicBezTo>
                    <a:lnTo>
                      <a:pt x="5629" y="5"/>
                    </a:lnTo>
                    <a:cubicBezTo>
                      <a:pt x="5627" y="5"/>
                      <a:pt x="5627" y="4"/>
                      <a:pt x="5627" y="3"/>
                    </a:cubicBezTo>
                    <a:cubicBezTo>
                      <a:pt x="5627" y="2"/>
                      <a:pt x="5627" y="1"/>
                      <a:pt x="5629" y="1"/>
                    </a:cubicBezTo>
                    <a:close/>
                    <a:moveTo>
                      <a:pt x="5637" y="1"/>
                    </a:moveTo>
                    <a:lnTo>
                      <a:pt x="5637" y="1"/>
                    </a:lnTo>
                    <a:cubicBezTo>
                      <a:pt x="5638" y="1"/>
                      <a:pt x="5639" y="2"/>
                      <a:pt x="5639" y="3"/>
                    </a:cubicBezTo>
                    <a:cubicBezTo>
                      <a:pt x="5639" y="4"/>
                      <a:pt x="5638" y="5"/>
                      <a:pt x="5637" y="5"/>
                    </a:cubicBezTo>
                    <a:lnTo>
                      <a:pt x="5637" y="5"/>
                    </a:lnTo>
                    <a:cubicBezTo>
                      <a:pt x="5635" y="5"/>
                      <a:pt x="5635" y="4"/>
                      <a:pt x="5635" y="3"/>
                    </a:cubicBezTo>
                    <a:cubicBezTo>
                      <a:pt x="5635" y="2"/>
                      <a:pt x="5635" y="1"/>
                      <a:pt x="5637" y="1"/>
                    </a:cubicBezTo>
                    <a:close/>
                    <a:moveTo>
                      <a:pt x="5645" y="1"/>
                    </a:moveTo>
                    <a:lnTo>
                      <a:pt x="5645" y="1"/>
                    </a:lnTo>
                    <a:cubicBezTo>
                      <a:pt x="5646" y="1"/>
                      <a:pt x="5647" y="2"/>
                      <a:pt x="5647" y="3"/>
                    </a:cubicBezTo>
                    <a:cubicBezTo>
                      <a:pt x="5647" y="4"/>
                      <a:pt x="5646" y="5"/>
                      <a:pt x="5645" y="5"/>
                    </a:cubicBezTo>
                    <a:lnTo>
                      <a:pt x="5645" y="5"/>
                    </a:lnTo>
                    <a:cubicBezTo>
                      <a:pt x="5643" y="5"/>
                      <a:pt x="5643" y="4"/>
                      <a:pt x="5643" y="3"/>
                    </a:cubicBezTo>
                    <a:cubicBezTo>
                      <a:pt x="5643" y="2"/>
                      <a:pt x="5643" y="1"/>
                      <a:pt x="5645" y="1"/>
                    </a:cubicBezTo>
                    <a:close/>
                    <a:moveTo>
                      <a:pt x="5653" y="1"/>
                    </a:moveTo>
                    <a:lnTo>
                      <a:pt x="5653" y="1"/>
                    </a:lnTo>
                    <a:cubicBezTo>
                      <a:pt x="5654" y="1"/>
                      <a:pt x="5655" y="2"/>
                      <a:pt x="5655" y="3"/>
                    </a:cubicBezTo>
                    <a:cubicBezTo>
                      <a:pt x="5655" y="4"/>
                      <a:pt x="5654" y="5"/>
                      <a:pt x="5653" y="5"/>
                    </a:cubicBezTo>
                    <a:lnTo>
                      <a:pt x="5653" y="5"/>
                    </a:lnTo>
                    <a:cubicBezTo>
                      <a:pt x="5651" y="5"/>
                      <a:pt x="5651" y="4"/>
                      <a:pt x="5651" y="3"/>
                    </a:cubicBezTo>
                    <a:cubicBezTo>
                      <a:pt x="5651" y="2"/>
                      <a:pt x="5651" y="1"/>
                      <a:pt x="5653" y="1"/>
                    </a:cubicBezTo>
                    <a:close/>
                    <a:moveTo>
                      <a:pt x="5661" y="1"/>
                    </a:moveTo>
                    <a:lnTo>
                      <a:pt x="5661" y="1"/>
                    </a:lnTo>
                    <a:cubicBezTo>
                      <a:pt x="5662" y="1"/>
                      <a:pt x="5663" y="2"/>
                      <a:pt x="5663" y="3"/>
                    </a:cubicBezTo>
                    <a:cubicBezTo>
                      <a:pt x="5663" y="4"/>
                      <a:pt x="5662" y="5"/>
                      <a:pt x="5661" y="5"/>
                    </a:cubicBezTo>
                    <a:lnTo>
                      <a:pt x="5661" y="5"/>
                    </a:lnTo>
                    <a:cubicBezTo>
                      <a:pt x="5659" y="5"/>
                      <a:pt x="5659" y="4"/>
                      <a:pt x="5659" y="3"/>
                    </a:cubicBezTo>
                    <a:cubicBezTo>
                      <a:pt x="5659" y="2"/>
                      <a:pt x="5659" y="1"/>
                      <a:pt x="5661" y="1"/>
                    </a:cubicBezTo>
                    <a:close/>
                    <a:moveTo>
                      <a:pt x="5669" y="1"/>
                    </a:moveTo>
                    <a:lnTo>
                      <a:pt x="5669" y="1"/>
                    </a:lnTo>
                    <a:cubicBezTo>
                      <a:pt x="5670" y="1"/>
                      <a:pt x="5671" y="2"/>
                      <a:pt x="5671" y="3"/>
                    </a:cubicBezTo>
                    <a:cubicBezTo>
                      <a:pt x="5671" y="4"/>
                      <a:pt x="5670" y="5"/>
                      <a:pt x="5669" y="5"/>
                    </a:cubicBezTo>
                    <a:lnTo>
                      <a:pt x="5669" y="5"/>
                    </a:lnTo>
                    <a:cubicBezTo>
                      <a:pt x="5667" y="5"/>
                      <a:pt x="5667" y="4"/>
                      <a:pt x="5667" y="3"/>
                    </a:cubicBezTo>
                    <a:cubicBezTo>
                      <a:pt x="5667" y="2"/>
                      <a:pt x="5667" y="1"/>
                      <a:pt x="5669" y="1"/>
                    </a:cubicBezTo>
                    <a:close/>
                    <a:moveTo>
                      <a:pt x="5677" y="1"/>
                    </a:moveTo>
                    <a:lnTo>
                      <a:pt x="5677" y="1"/>
                    </a:lnTo>
                    <a:cubicBezTo>
                      <a:pt x="5678" y="1"/>
                      <a:pt x="5679" y="2"/>
                      <a:pt x="5679" y="3"/>
                    </a:cubicBezTo>
                    <a:cubicBezTo>
                      <a:pt x="5679" y="4"/>
                      <a:pt x="5678" y="5"/>
                      <a:pt x="5677" y="5"/>
                    </a:cubicBezTo>
                    <a:lnTo>
                      <a:pt x="5677" y="5"/>
                    </a:lnTo>
                    <a:cubicBezTo>
                      <a:pt x="5675" y="5"/>
                      <a:pt x="5675" y="4"/>
                      <a:pt x="5675" y="3"/>
                    </a:cubicBezTo>
                    <a:cubicBezTo>
                      <a:pt x="5675" y="2"/>
                      <a:pt x="5675" y="1"/>
                      <a:pt x="5677" y="1"/>
                    </a:cubicBezTo>
                    <a:close/>
                    <a:moveTo>
                      <a:pt x="5685" y="1"/>
                    </a:moveTo>
                    <a:lnTo>
                      <a:pt x="5685" y="1"/>
                    </a:lnTo>
                    <a:cubicBezTo>
                      <a:pt x="5686" y="1"/>
                      <a:pt x="5687" y="2"/>
                      <a:pt x="5687" y="3"/>
                    </a:cubicBezTo>
                    <a:cubicBezTo>
                      <a:pt x="5687" y="4"/>
                      <a:pt x="5686" y="5"/>
                      <a:pt x="5685" y="5"/>
                    </a:cubicBezTo>
                    <a:lnTo>
                      <a:pt x="5685" y="5"/>
                    </a:lnTo>
                    <a:cubicBezTo>
                      <a:pt x="5683" y="5"/>
                      <a:pt x="5683" y="4"/>
                      <a:pt x="5683" y="3"/>
                    </a:cubicBezTo>
                    <a:cubicBezTo>
                      <a:pt x="5683" y="2"/>
                      <a:pt x="5683" y="1"/>
                      <a:pt x="5685" y="1"/>
                    </a:cubicBezTo>
                    <a:close/>
                    <a:moveTo>
                      <a:pt x="5693" y="1"/>
                    </a:moveTo>
                    <a:lnTo>
                      <a:pt x="5693" y="1"/>
                    </a:lnTo>
                    <a:cubicBezTo>
                      <a:pt x="5694" y="1"/>
                      <a:pt x="5695" y="2"/>
                      <a:pt x="5695" y="3"/>
                    </a:cubicBezTo>
                    <a:cubicBezTo>
                      <a:pt x="5695" y="4"/>
                      <a:pt x="5694" y="5"/>
                      <a:pt x="5693" y="5"/>
                    </a:cubicBezTo>
                    <a:lnTo>
                      <a:pt x="5693" y="5"/>
                    </a:lnTo>
                    <a:cubicBezTo>
                      <a:pt x="5691" y="5"/>
                      <a:pt x="5691" y="4"/>
                      <a:pt x="5691" y="3"/>
                    </a:cubicBezTo>
                    <a:cubicBezTo>
                      <a:pt x="5691" y="2"/>
                      <a:pt x="5691" y="1"/>
                      <a:pt x="5693" y="1"/>
                    </a:cubicBezTo>
                    <a:close/>
                    <a:moveTo>
                      <a:pt x="5701" y="1"/>
                    </a:moveTo>
                    <a:lnTo>
                      <a:pt x="5701" y="1"/>
                    </a:lnTo>
                    <a:cubicBezTo>
                      <a:pt x="5702" y="1"/>
                      <a:pt x="5703" y="2"/>
                      <a:pt x="5703" y="3"/>
                    </a:cubicBezTo>
                    <a:cubicBezTo>
                      <a:pt x="5703" y="4"/>
                      <a:pt x="5702" y="5"/>
                      <a:pt x="5701" y="5"/>
                    </a:cubicBezTo>
                    <a:lnTo>
                      <a:pt x="5701" y="5"/>
                    </a:lnTo>
                    <a:cubicBezTo>
                      <a:pt x="5699" y="5"/>
                      <a:pt x="5699" y="4"/>
                      <a:pt x="5699" y="3"/>
                    </a:cubicBezTo>
                    <a:cubicBezTo>
                      <a:pt x="5699" y="2"/>
                      <a:pt x="5699" y="1"/>
                      <a:pt x="5701" y="1"/>
                    </a:cubicBezTo>
                    <a:close/>
                    <a:moveTo>
                      <a:pt x="5709" y="1"/>
                    </a:moveTo>
                    <a:lnTo>
                      <a:pt x="5709" y="1"/>
                    </a:lnTo>
                    <a:cubicBezTo>
                      <a:pt x="5710" y="1"/>
                      <a:pt x="5711" y="2"/>
                      <a:pt x="5711" y="3"/>
                    </a:cubicBezTo>
                    <a:cubicBezTo>
                      <a:pt x="5711" y="4"/>
                      <a:pt x="5710" y="5"/>
                      <a:pt x="5709" y="5"/>
                    </a:cubicBezTo>
                    <a:lnTo>
                      <a:pt x="5709" y="5"/>
                    </a:lnTo>
                    <a:cubicBezTo>
                      <a:pt x="5708" y="5"/>
                      <a:pt x="5707" y="4"/>
                      <a:pt x="5707" y="3"/>
                    </a:cubicBezTo>
                    <a:cubicBezTo>
                      <a:pt x="5707" y="2"/>
                      <a:pt x="5708" y="1"/>
                      <a:pt x="5709" y="1"/>
                    </a:cubicBezTo>
                    <a:close/>
                    <a:moveTo>
                      <a:pt x="5717" y="1"/>
                    </a:moveTo>
                    <a:lnTo>
                      <a:pt x="5717" y="1"/>
                    </a:lnTo>
                    <a:cubicBezTo>
                      <a:pt x="5718" y="1"/>
                      <a:pt x="5719" y="2"/>
                      <a:pt x="5719" y="3"/>
                    </a:cubicBezTo>
                    <a:cubicBezTo>
                      <a:pt x="5719" y="4"/>
                      <a:pt x="5718" y="5"/>
                      <a:pt x="5717" y="5"/>
                    </a:cubicBezTo>
                    <a:lnTo>
                      <a:pt x="5717" y="5"/>
                    </a:lnTo>
                    <a:cubicBezTo>
                      <a:pt x="5716" y="5"/>
                      <a:pt x="5715" y="4"/>
                      <a:pt x="5715" y="3"/>
                    </a:cubicBezTo>
                    <a:cubicBezTo>
                      <a:pt x="5715" y="2"/>
                      <a:pt x="5716" y="1"/>
                      <a:pt x="5717" y="1"/>
                    </a:cubicBezTo>
                    <a:close/>
                    <a:moveTo>
                      <a:pt x="5725" y="1"/>
                    </a:moveTo>
                    <a:lnTo>
                      <a:pt x="5725" y="1"/>
                    </a:lnTo>
                    <a:cubicBezTo>
                      <a:pt x="5726" y="1"/>
                      <a:pt x="5727" y="2"/>
                      <a:pt x="5727" y="3"/>
                    </a:cubicBezTo>
                    <a:cubicBezTo>
                      <a:pt x="5727" y="4"/>
                      <a:pt x="5726" y="5"/>
                      <a:pt x="5725" y="5"/>
                    </a:cubicBezTo>
                    <a:lnTo>
                      <a:pt x="5725" y="5"/>
                    </a:lnTo>
                    <a:cubicBezTo>
                      <a:pt x="5724" y="5"/>
                      <a:pt x="5723" y="4"/>
                      <a:pt x="5723" y="3"/>
                    </a:cubicBezTo>
                    <a:cubicBezTo>
                      <a:pt x="5723" y="2"/>
                      <a:pt x="5724" y="1"/>
                      <a:pt x="5725" y="1"/>
                    </a:cubicBezTo>
                    <a:close/>
                    <a:moveTo>
                      <a:pt x="5733" y="1"/>
                    </a:moveTo>
                    <a:lnTo>
                      <a:pt x="5733" y="1"/>
                    </a:lnTo>
                    <a:cubicBezTo>
                      <a:pt x="5734" y="1"/>
                      <a:pt x="5735" y="2"/>
                      <a:pt x="5735" y="3"/>
                    </a:cubicBezTo>
                    <a:cubicBezTo>
                      <a:pt x="5735" y="4"/>
                      <a:pt x="5734" y="5"/>
                      <a:pt x="5733" y="5"/>
                    </a:cubicBezTo>
                    <a:lnTo>
                      <a:pt x="5733" y="5"/>
                    </a:lnTo>
                    <a:cubicBezTo>
                      <a:pt x="5732" y="5"/>
                      <a:pt x="5731" y="4"/>
                      <a:pt x="5731" y="3"/>
                    </a:cubicBezTo>
                    <a:cubicBezTo>
                      <a:pt x="5731" y="2"/>
                      <a:pt x="5732" y="1"/>
                      <a:pt x="5733" y="1"/>
                    </a:cubicBezTo>
                    <a:close/>
                    <a:moveTo>
                      <a:pt x="5741" y="1"/>
                    </a:moveTo>
                    <a:lnTo>
                      <a:pt x="5741" y="1"/>
                    </a:lnTo>
                    <a:cubicBezTo>
                      <a:pt x="5742" y="1"/>
                      <a:pt x="5743" y="2"/>
                      <a:pt x="5743" y="3"/>
                    </a:cubicBezTo>
                    <a:cubicBezTo>
                      <a:pt x="5743" y="4"/>
                      <a:pt x="5742" y="5"/>
                      <a:pt x="5741" y="5"/>
                    </a:cubicBezTo>
                    <a:lnTo>
                      <a:pt x="5741" y="5"/>
                    </a:lnTo>
                    <a:cubicBezTo>
                      <a:pt x="5740" y="5"/>
                      <a:pt x="5739" y="4"/>
                      <a:pt x="5739" y="3"/>
                    </a:cubicBezTo>
                    <a:cubicBezTo>
                      <a:pt x="5739" y="2"/>
                      <a:pt x="5740" y="1"/>
                      <a:pt x="5741" y="1"/>
                    </a:cubicBezTo>
                    <a:close/>
                    <a:moveTo>
                      <a:pt x="5749" y="1"/>
                    </a:moveTo>
                    <a:lnTo>
                      <a:pt x="5749" y="1"/>
                    </a:lnTo>
                    <a:cubicBezTo>
                      <a:pt x="5750" y="1"/>
                      <a:pt x="5751" y="2"/>
                      <a:pt x="5751" y="3"/>
                    </a:cubicBezTo>
                    <a:cubicBezTo>
                      <a:pt x="5751" y="4"/>
                      <a:pt x="5750" y="5"/>
                      <a:pt x="5749" y="5"/>
                    </a:cubicBezTo>
                    <a:lnTo>
                      <a:pt x="5749" y="5"/>
                    </a:lnTo>
                    <a:cubicBezTo>
                      <a:pt x="5748" y="5"/>
                      <a:pt x="5747" y="4"/>
                      <a:pt x="5747" y="3"/>
                    </a:cubicBezTo>
                    <a:cubicBezTo>
                      <a:pt x="5747" y="2"/>
                      <a:pt x="5748" y="1"/>
                      <a:pt x="5749" y="1"/>
                    </a:cubicBezTo>
                    <a:close/>
                    <a:moveTo>
                      <a:pt x="5757" y="1"/>
                    </a:moveTo>
                    <a:lnTo>
                      <a:pt x="5757" y="1"/>
                    </a:lnTo>
                    <a:cubicBezTo>
                      <a:pt x="5758" y="1"/>
                      <a:pt x="5759" y="2"/>
                      <a:pt x="5759" y="3"/>
                    </a:cubicBezTo>
                    <a:cubicBezTo>
                      <a:pt x="5759" y="4"/>
                      <a:pt x="5758" y="5"/>
                      <a:pt x="5757" y="5"/>
                    </a:cubicBezTo>
                    <a:lnTo>
                      <a:pt x="5757" y="5"/>
                    </a:lnTo>
                    <a:cubicBezTo>
                      <a:pt x="5756" y="5"/>
                      <a:pt x="5755" y="4"/>
                      <a:pt x="5755" y="3"/>
                    </a:cubicBezTo>
                    <a:cubicBezTo>
                      <a:pt x="5755" y="2"/>
                      <a:pt x="5756" y="1"/>
                      <a:pt x="5757" y="1"/>
                    </a:cubicBezTo>
                    <a:close/>
                    <a:moveTo>
                      <a:pt x="5765" y="1"/>
                    </a:moveTo>
                    <a:lnTo>
                      <a:pt x="5765" y="1"/>
                    </a:lnTo>
                    <a:cubicBezTo>
                      <a:pt x="5766" y="1"/>
                      <a:pt x="5767" y="2"/>
                      <a:pt x="5767" y="3"/>
                    </a:cubicBezTo>
                    <a:cubicBezTo>
                      <a:pt x="5767" y="4"/>
                      <a:pt x="5766" y="5"/>
                      <a:pt x="5765" y="5"/>
                    </a:cubicBezTo>
                    <a:lnTo>
                      <a:pt x="5765" y="5"/>
                    </a:lnTo>
                    <a:cubicBezTo>
                      <a:pt x="5764" y="5"/>
                      <a:pt x="5763" y="4"/>
                      <a:pt x="5763" y="3"/>
                    </a:cubicBezTo>
                    <a:cubicBezTo>
                      <a:pt x="5763" y="2"/>
                      <a:pt x="5764" y="1"/>
                      <a:pt x="5765" y="1"/>
                    </a:cubicBezTo>
                    <a:close/>
                    <a:moveTo>
                      <a:pt x="5773" y="1"/>
                    </a:moveTo>
                    <a:lnTo>
                      <a:pt x="5773" y="1"/>
                    </a:lnTo>
                    <a:cubicBezTo>
                      <a:pt x="5774" y="1"/>
                      <a:pt x="5775" y="2"/>
                      <a:pt x="5775" y="3"/>
                    </a:cubicBezTo>
                    <a:cubicBezTo>
                      <a:pt x="5775" y="4"/>
                      <a:pt x="5774" y="5"/>
                      <a:pt x="5773" y="5"/>
                    </a:cubicBezTo>
                    <a:lnTo>
                      <a:pt x="5773" y="5"/>
                    </a:lnTo>
                    <a:cubicBezTo>
                      <a:pt x="5772" y="5"/>
                      <a:pt x="5771" y="4"/>
                      <a:pt x="5771" y="3"/>
                    </a:cubicBezTo>
                    <a:cubicBezTo>
                      <a:pt x="5771" y="2"/>
                      <a:pt x="5772" y="1"/>
                      <a:pt x="5773" y="1"/>
                    </a:cubicBezTo>
                    <a:close/>
                    <a:moveTo>
                      <a:pt x="5781" y="1"/>
                    </a:moveTo>
                    <a:lnTo>
                      <a:pt x="5781" y="1"/>
                    </a:lnTo>
                    <a:cubicBezTo>
                      <a:pt x="5782" y="1"/>
                      <a:pt x="5783" y="2"/>
                      <a:pt x="5783" y="3"/>
                    </a:cubicBezTo>
                    <a:cubicBezTo>
                      <a:pt x="5783" y="4"/>
                      <a:pt x="5782" y="5"/>
                      <a:pt x="5781" y="5"/>
                    </a:cubicBezTo>
                    <a:lnTo>
                      <a:pt x="5781" y="5"/>
                    </a:lnTo>
                    <a:cubicBezTo>
                      <a:pt x="5780" y="5"/>
                      <a:pt x="5779" y="4"/>
                      <a:pt x="5779" y="3"/>
                    </a:cubicBezTo>
                    <a:cubicBezTo>
                      <a:pt x="5779" y="2"/>
                      <a:pt x="5780" y="1"/>
                      <a:pt x="5781" y="1"/>
                    </a:cubicBezTo>
                    <a:close/>
                    <a:moveTo>
                      <a:pt x="5789" y="1"/>
                    </a:moveTo>
                    <a:lnTo>
                      <a:pt x="5789" y="1"/>
                    </a:lnTo>
                    <a:cubicBezTo>
                      <a:pt x="5790" y="1"/>
                      <a:pt x="5791" y="2"/>
                      <a:pt x="5791" y="3"/>
                    </a:cubicBezTo>
                    <a:cubicBezTo>
                      <a:pt x="5791" y="4"/>
                      <a:pt x="5790" y="5"/>
                      <a:pt x="5789" y="5"/>
                    </a:cubicBezTo>
                    <a:lnTo>
                      <a:pt x="5789" y="5"/>
                    </a:lnTo>
                    <a:cubicBezTo>
                      <a:pt x="5788" y="5"/>
                      <a:pt x="5787" y="4"/>
                      <a:pt x="5787" y="3"/>
                    </a:cubicBezTo>
                    <a:cubicBezTo>
                      <a:pt x="5787" y="2"/>
                      <a:pt x="5788" y="1"/>
                      <a:pt x="5789" y="1"/>
                    </a:cubicBezTo>
                    <a:close/>
                    <a:moveTo>
                      <a:pt x="5797" y="1"/>
                    </a:moveTo>
                    <a:lnTo>
                      <a:pt x="5797" y="1"/>
                    </a:lnTo>
                    <a:cubicBezTo>
                      <a:pt x="5798" y="1"/>
                      <a:pt x="5799" y="2"/>
                      <a:pt x="5799" y="3"/>
                    </a:cubicBezTo>
                    <a:cubicBezTo>
                      <a:pt x="5799" y="4"/>
                      <a:pt x="5798" y="5"/>
                      <a:pt x="5797" y="5"/>
                    </a:cubicBezTo>
                    <a:lnTo>
                      <a:pt x="5797" y="5"/>
                    </a:lnTo>
                    <a:cubicBezTo>
                      <a:pt x="5796" y="5"/>
                      <a:pt x="5795" y="4"/>
                      <a:pt x="5795" y="3"/>
                    </a:cubicBezTo>
                    <a:cubicBezTo>
                      <a:pt x="5795" y="2"/>
                      <a:pt x="5796" y="1"/>
                      <a:pt x="5797" y="1"/>
                    </a:cubicBezTo>
                    <a:close/>
                    <a:moveTo>
                      <a:pt x="5805" y="1"/>
                    </a:moveTo>
                    <a:lnTo>
                      <a:pt x="5805" y="1"/>
                    </a:lnTo>
                    <a:cubicBezTo>
                      <a:pt x="5806" y="1"/>
                      <a:pt x="5807" y="2"/>
                      <a:pt x="5807" y="3"/>
                    </a:cubicBezTo>
                    <a:cubicBezTo>
                      <a:pt x="5807" y="4"/>
                      <a:pt x="5806" y="5"/>
                      <a:pt x="5805" y="5"/>
                    </a:cubicBezTo>
                    <a:lnTo>
                      <a:pt x="5805" y="5"/>
                    </a:lnTo>
                    <a:cubicBezTo>
                      <a:pt x="5804" y="5"/>
                      <a:pt x="5803" y="4"/>
                      <a:pt x="5803" y="3"/>
                    </a:cubicBezTo>
                    <a:cubicBezTo>
                      <a:pt x="5803" y="2"/>
                      <a:pt x="5804" y="1"/>
                      <a:pt x="5805" y="1"/>
                    </a:cubicBezTo>
                    <a:close/>
                    <a:moveTo>
                      <a:pt x="5813" y="1"/>
                    </a:moveTo>
                    <a:lnTo>
                      <a:pt x="5813" y="1"/>
                    </a:lnTo>
                    <a:cubicBezTo>
                      <a:pt x="5814" y="1"/>
                      <a:pt x="5815" y="2"/>
                      <a:pt x="5815" y="3"/>
                    </a:cubicBezTo>
                    <a:cubicBezTo>
                      <a:pt x="5815" y="4"/>
                      <a:pt x="5814" y="5"/>
                      <a:pt x="5813" y="5"/>
                    </a:cubicBezTo>
                    <a:lnTo>
                      <a:pt x="5813" y="5"/>
                    </a:lnTo>
                    <a:cubicBezTo>
                      <a:pt x="5812" y="5"/>
                      <a:pt x="5811" y="4"/>
                      <a:pt x="5811" y="3"/>
                    </a:cubicBezTo>
                    <a:cubicBezTo>
                      <a:pt x="5811" y="2"/>
                      <a:pt x="5812" y="1"/>
                      <a:pt x="5813" y="1"/>
                    </a:cubicBezTo>
                    <a:close/>
                    <a:moveTo>
                      <a:pt x="5821" y="1"/>
                    </a:moveTo>
                    <a:lnTo>
                      <a:pt x="5821" y="1"/>
                    </a:lnTo>
                    <a:cubicBezTo>
                      <a:pt x="5822" y="1"/>
                      <a:pt x="5823" y="2"/>
                      <a:pt x="5823" y="3"/>
                    </a:cubicBezTo>
                    <a:cubicBezTo>
                      <a:pt x="5823" y="4"/>
                      <a:pt x="5822" y="5"/>
                      <a:pt x="5821" y="5"/>
                    </a:cubicBezTo>
                    <a:lnTo>
                      <a:pt x="5821" y="5"/>
                    </a:lnTo>
                    <a:cubicBezTo>
                      <a:pt x="5820" y="5"/>
                      <a:pt x="5819" y="4"/>
                      <a:pt x="5819" y="3"/>
                    </a:cubicBezTo>
                    <a:cubicBezTo>
                      <a:pt x="5819" y="2"/>
                      <a:pt x="5820" y="1"/>
                      <a:pt x="5821" y="1"/>
                    </a:cubicBezTo>
                    <a:close/>
                    <a:moveTo>
                      <a:pt x="5829" y="1"/>
                    </a:moveTo>
                    <a:lnTo>
                      <a:pt x="5829" y="1"/>
                    </a:lnTo>
                    <a:cubicBezTo>
                      <a:pt x="5830" y="1"/>
                      <a:pt x="5831" y="2"/>
                      <a:pt x="5831" y="3"/>
                    </a:cubicBezTo>
                    <a:cubicBezTo>
                      <a:pt x="5831" y="4"/>
                      <a:pt x="5830" y="5"/>
                      <a:pt x="5829" y="5"/>
                    </a:cubicBezTo>
                    <a:lnTo>
                      <a:pt x="5829" y="5"/>
                    </a:lnTo>
                    <a:cubicBezTo>
                      <a:pt x="5828" y="5"/>
                      <a:pt x="5827" y="4"/>
                      <a:pt x="5827" y="3"/>
                    </a:cubicBezTo>
                    <a:cubicBezTo>
                      <a:pt x="5827" y="2"/>
                      <a:pt x="5828" y="1"/>
                      <a:pt x="5829" y="1"/>
                    </a:cubicBezTo>
                    <a:close/>
                    <a:moveTo>
                      <a:pt x="5837" y="1"/>
                    </a:moveTo>
                    <a:lnTo>
                      <a:pt x="5837" y="1"/>
                    </a:lnTo>
                    <a:cubicBezTo>
                      <a:pt x="5838" y="1"/>
                      <a:pt x="5839" y="2"/>
                      <a:pt x="5839" y="3"/>
                    </a:cubicBezTo>
                    <a:cubicBezTo>
                      <a:pt x="5839" y="4"/>
                      <a:pt x="5838" y="5"/>
                      <a:pt x="5837" y="5"/>
                    </a:cubicBezTo>
                    <a:lnTo>
                      <a:pt x="5837" y="5"/>
                    </a:lnTo>
                    <a:cubicBezTo>
                      <a:pt x="5836" y="5"/>
                      <a:pt x="5835" y="4"/>
                      <a:pt x="5835" y="3"/>
                    </a:cubicBezTo>
                    <a:cubicBezTo>
                      <a:pt x="5835" y="2"/>
                      <a:pt x="5836" y="1"/>
                      <a:pt x="5837" y="1"/>
                    </a:cubicBezTo>
                    <a:close/>
                    <a:moveTo>
                      <a:pt x="5845" y="1"/>
                    </a:moveTo>
                    <a:lnTo>
                      <a:pt x="5845" y="1"/>
                    </a:lnTo>
                    <a:cubicBezTo>
                      <a:pt x="5846" y="1"/>
                      <a:pt x="5847" y="2"/>
                      <a:pt x="5847" y="3"/>
                    </a:cubicBezTo>
                    <a:cubicBezTo>
                      <a:pt x="5847" y="4"/>
                      <a:pt x="5846" y="5"/>
                      <a:pt x="5845" y="5"/>
                    </a:cubicBezTo>
                    <a:lnTo>
                      <a:pt x="5845" y="5"/>
                    </a:lnTo>
                    <a:cubicBezTo>
                      <a:pt x="5844" y="5"/>
                      <a:pt x="5843" y="4"/>
                      <a:pt x="5843" y="3"/>
                    </a:cubicBezTo>
                    <a:cubicBezTo>
                      <a:pt x="5843" y="2"/>
                      <a:pt x="5844" y="1"/>
                      <a:pt x="5845" y="1"/>
                    </a:cubicBezTo>
                    <a:close/>
                    <a:moveTo>
                      <a:pt x="5853" y="1"/>
                    </a:moveTo>
                    <a:lnTo>
                      <a:pt x="5853" y="1"/>
                    </a:lnTo>
                    <a:cubicBezTo>
                      <a:pt x="5854" y="1"/>
                      <a:pt x="5855" y="2"/>
                      <a:pt x="5855" y="3"/>
                    </a:cubicBezTo>
                    <a:cubicBezTo>
                      <a:pt x="5855" y="4"/>
                      <a:pt x="5854" y="5"/>
                      <a:pt x="5853" y="5"/>
                    </a:cubicBezTo>
                    <a:lnTo>
                      <a:pt x="5853" y="5"/>
                    </a:lnTo>
                    <a:cubicBezTo>
                      <a:pt x="5852" y="5"/>
                      <a:pt x="5851" y="4"/>
                      <a:pt x="5851" y="3"/>
                    </a:cubicBezTo>
                    <a:cubicBezTo>
                      <a:pt x="5851" y="2"/>
                      <a:pt x="5852" y="1"/>
                      <a:pt x="5853" y="1"/>
                    </a:cubicBezTo>
                    <a:close/>
                    <a:moveTo>
                      <a:pt x="5861" y="1"/>
                    </a:moveTo>
                    <a:lnTo>
                      <a:pt x="5861" y="1"/>
                    </a:lnTo>
                    <a:cubicBezTo>
                      <a:pt x="5862" y="1"/>
                      <a:pt x="5863" y="2"/>
                      <a:pt x="5863" y="3"/>
                    </a:cubicBezTo>
                    <a:cubicBezTo>
                      <a:pt x="5863" y="4"/>
                      <a:pt x="5862" y="5"/>
                      <a:pt x="5861" y="5"/>
                    </a:cubicBezTo>
                    <a:lnTo>
                      <a:pt x="5861" y="5"/>
                    </a:lnTo>
                    <a:cubicBezTo>
                      <a:pt x="5860" y="5"/>
                      <a:pt x="5859" y="4"/>
                      <a:pt x="5859" y="3"/>
                    </a:cubicBezTo>
                    <a:cubicBezTo>
                      <a:pt x="5859" y="2"/>
                      <a:pt x="5860" y="1"/>
                      <a:pt x="5861" y="1"/>
                    </a:cubicBezTo>
                    <a:close/>
                    <a:moveTo>
                      <a:pt x="5869" y="1"/>
                    </a:moveTo>
                    <a:lnTo>
                      <a:pt x="5869" y="1"/>
                    </a:lnTo>
                    <a:cubicBezTo>
                      <a:pt x="5870" y="1"/>
                      <a:pt x="5871" y="2"/>
                      <a:pt x="5871" y="3"/>
                    </a:cubicBezTo>
                    <a:cubicBezTo>
                      <a:pt x="5871" y="4"/>
                      <a:pt x="5870" y="5"/>
                      <a:pt x="5869" y="5"/>
                    </a:cubicBezTo>
                    <a:lnTo>
                      <a:pt x="5869" y="5"/>
                    </a:lnTo>
                    <a:cubicBezTo>
                      <a:pt x="5868" y="5"/>
                      <a:pt x="5867" y="4"/>
                      <a:pt x="5867" y="3"/>
                    </a:cubicBezTo>
                    <a:cubicBezTo>
                      <a:pt x="5867" y="2"/>
                      <a:pt x="5868" y="1"/>
                      <a:pt x="5869" y="1"/>
                    </a:cubicBezTo>
                    <a:close/>
                    <a:moveTo>
                      <a:pt x="5877" y="1"/>
                    </a:moveTo>
                    <a:lnTo>
                      <a:pt x="5877" y="1"/>
                    </a:lnTo>
                    <a:cubicBezTo>
                      <a:pt x="5878" y="1"/>
                      <a:pt x="5879" y="2"/>
                      <a:pt x="5879" y="3"/>
                    </a:cubicBezTo>
                    <a:cubicBezTo>
                      <a:pt x="5879" y="4"/>
                      <a:pt x="5878" y="5"/>
                      <a:pt x="5877" y="5"/>
                    </a:cubicBezTo>
                    <a:lnTo>
                      <a:pt x="5877" y="5"/>
                    </a:lnTo>
                    <a:cubicBezTo>
                      <a:pt x="5876" y="5"/>
                      <a:pt x="5875" y="4"/>
                      <a:pt x="5875" y="3"/>
                    </a:cubicBezTo>
                    <a:cubicBezTo>
                      <a:pt x="5875" y="2"/>
                      <a:pt x="5876" y="1"/>
                      <a:pt x="5877" y="1"/>
                    </a:cubicBezTo>
                    <a:close/>
                    <a:moveTo>
                      <a:pt x="5885" y="1"/>
                    </a:moveTo>
                    <a:lnTo>
                      <a:pt x="5885" y="1"/>
                    </a:lnTo>
                    <a:cubicBezTo>
                      <a:pt x="5886" y="1"/>
                      <a:pt x="5887" y="2"/>
                      <a:pt x="5887" y="3"/>
                    </a:cubicBezTo>
                    <a:cubicBezTo>
                      <a:pt x="5887" y="4"/>
                      <a:pt x="5886" y="5"/>
                      <a:pt x="5885" y="5"/>
                    </a:cubicBezTo>
                    <a:lnTo>
                      <a:pt x="5885" y="5"/>
                    </a:lnTo>
                    <a:cubicBezTo>
                      <a:pt x="5884" y="5"/>
                      <a:pt x="5883" y="4"/>
                      <a:pt x="5883" y="3"/>
                    </a:cubicBezTo>
                    <a:cubicBezTo>
                      <a:pt x="5883" y="2"/>
                      <a:pt x="5884" y="1"/>
                      <a:pt x="5885" y="1"/>
                    </a:cubicBezTo>
                    <a:close/>
                    <a:moveTo>
                      <a:pt x="5893" y="1"/>
                    </a:moveTo>
                    <a:lnTo>
                      <a:pt x="5893" y="1"/>
                    </a:lnTo>
                    <a:cubicBezTo>
                      <a:pt x="5894" y="1"/>
                      <a:pt x="5895" y="2"/>
                      <a:pt x="5895" y="3"/>
                    </a:cubicBezTo>
                    <a:cubicBezTo>
                      <a:pt x="5895" y="4"/>
                      <a:pt x="5894" y="5"/>
                      <a:pt x="5893" y="5"/>
                    </a:cubicBezTo>
                    <a:lnTo>
                      <a:pt x="5893" y="5"/>
                    </a:lnTo>
                    <a:cubicBezTo>
                      <a:pt x="5892" y="5"/>
                      <a:pt x="5891" y="4"/>
                      <a:pt x="5891" y="3"/>
                    </a:cubicBezTo>
                    <a:cubicBezTo>
                      <a:pt x="5891" y="2"/>
                      <a:pt x="5892" y="1"/>
                      <a:pt x="5893" y="1"/>
                    </a:cubicBezTo>
                    <a:close/>
                    <a:moveTo>
                      <a:pt x="5901" y="1"/>
                    </a:moveTo>
                    <a:lnTo>
                      <a:pt x="5901" y="1"/>
                    </a:lnTo>
                    <a:cubicBezTo>
                      <a:pt x="5902" y="1"/>
                      <a:pt x="5903" y="2"/>
                      <a:pt x="5903" y="3"/>
                    </a:cubicBezTo>
                    <a:cubicBezTo>
                      <a:pt x="5903" y="4"/>
                      <a:pt x="5902" y="5"/>
                      <a:pt x="5901" y="5"/>
                    </a:cubicBezTo>
                    <a:lnTo>
                      <a:pt x="5901" y="5"/>
                    </a:lnTo>
                    <a:cubicBezTo>
                      <a:pt x="5900" y="5"/>
                      <a:pt x="5899" y="4"/>
                      <a:pt x="5899" y="3"/>
                    </a:cubicBezTo>
                    <a:cubicBezTo>
                      <a:pt x="5899" y="2"/>
                      <a:pt x="5900" y="1"/>
                      <a:pt x="5901" y="1"/>
                    </a:cubicBezTo>
                    <a:close/>
                    <a:moveTo>
                      <a:pt x="5909" y="1"/>
                    </a:moveTo>
                    <a:lnTo>
                      <a:pt x="5909" y="1"/>
                    </a:lnTo>
                    <a:cubicBezTo>
                      <a:pt x="5910" y="1"/>
                      <a:pt x="5911" y="2"/>
                      <a:pt x="5911" y="3"/>
                    </a:cubicBezTo>
                    <a:cubicBezTo>
                      <a:pt x="5911" y="4"/>
                      <a:pt x="5910" y="5"/>
                      <a:pt x="5909" y="5"/>
                    </a:cubicBezTo>
                    <a:lnTo>
                      <a:pt x="5909" y="5"/>
                    </a:lnTo>
                    <a:cubicBezTo>
                      <a:pt x="5908" y="5"/>
                      <a:pt x="5907" y="4"/>
                      <a:pt x="5907" y="3"/>
                    </a:cubicBezTo>
                    <a:cubicBezTo>
                      <a:pt x="5907" y="2"/>
                      <a:pt x="5908" y="1"/>
                      <a:pt x="5909" y="1"/>
                    </a:cubicBezTo>
                    <a:close/>
                    <a:moveTo>
                      <a:pt x="5917" y="1"/>
                    </a:moveTo>
                    <a:lnTo>
                      <a:pt x="5917" y="1"/>
                    </a:lnTo>
                    <a:cubicBezTo>
                      <a:pt x="5918" y="1"/>
                      <a:pt x="5919" y="2"/>
                      <a:pt x="5919" y="3"/>
                    </a:cubicBezTo>
                    <a:cubicBezTo>
                      <a:pt x="5919" y="4"/>
                      <a:pt x="5918" y="5"/>
                      <a:pt x="5917" y="5"/>
                    </a:cubicBezTo>
                    <a:lnTo>
                      <a:pt x="5917" y="5"/>
                    </a:lnTo>
                    <a:cubicBezTo>
                      <a:pt x="5916" y="5"/>
                      <a:pt x="5915" y="4"/>
                      <a:pt x="5915" y="3"/>
                    </a:cubicBezTo>
                    <a:cubicBezTo>
                      <a:pt x="5915" y="2"/>
                      <a:pt x="5916" y="1"/>
                      <a:pt x="5917" y="1"/>
                    </a:cubicBezTo>
                    <a:close/>
                    <a:moveTo>
                      <a:pt x="5925" y="1"/>
                    </a:moveTo>
                    <a:lnTo>
                      <a:pt x="5925" y="1"/>
                    </a:lnTo>
                    <a:cubicBezTo>
                      <a:pt x="5926" y="1"/>
                      <a:pt x="5927" y="2"/>
                      <a:pt x="5927" y="3"/>
                    </a:cubicBezTo>
                    <a:cubicBezTo>
                      <a:pt x="5927" y="4"/>
                      <a:pt x="5926" y="5"/>
                      <a:pt x="5925" y="5"/>
                    </a:cubicBezTo>
                    <a:lnTo>
                      <a:pt x="5925" y="5"/>
                    </a:lnTo>
                    <a:cubicBezTo>
                      <a:pt x="5924" y="5"/>
                      <a:pt x="5923" y="4"/>
                      <a:pt x="5923" y="3"/>
                    </a:cubicBezTo>
                    <a:cubicBezTo>
                      <a:pt x="5923" y="2"/>
                      <a:pt x="5924" y="1"/>
                      <a:pt x="5925" y="1"/>
                    </a:cubicBezTo>
                    <a:close/>
                    <a:moveTo>
                      <a:pt x="5933" y="1"/>
                    </a:moveTo>
                    <a:lnTo>
                      <a:pt x="5933" y="1"/>
                    </a:lnTo>
                    <a:cubicBezTo>
                      <a:pt x="5934" y="1"/>
                      <a:pt x="5935" y="2"/>
                      <a:pt x="5935" y="3"/>
                    </a:cubicBezTo>
                    <a:cubicBezTo>
                      <a:pt x="5935" y="4"/>
                      <a:pt x="5934" y="5"/>
                      <a:pt x="5933" y="5"/>
                    </a:cubicBezTo>
                    <a:lnTo>
                      <a:pt x="5933" y="5"/>
                    </a:lnTo>
                    <a:cubicBezTo>
                      <a:pt x="5932" y="5"/>
                      <a:pt x="5931" y="4"/>
                      <a:pt x="5931" y="3"/>
                    </a:cubicBezTo>
                    <a:cubicBezTo>
                      <a:pt x="5931" y="2"/>
                      <a:pt x="5932" y="1"/>
                      <a:pt x="5933" y="1"/>
                    </a:cubicBezTo>
                    <a:close/>
                    <a:moveTo>
                      <a:pt x="5941" y="1"/>
                    </a:moveTo>
                    <a:lnTo>
                      <a:pt x="5941" y="1"/>
                    </a:lnTo>
                    <a:cubicBezTo>
                      <a:pt x="5942" y="1"/>
                      <a:pt x="5943" y="2"/>
                      <a:pt x="5943" y="3"/>
                    </a:cubicBezTo>
                    <a:cubicBezTo>
                      <a:pt x="5943" y="4"/>
                      <a:pt x="5942" y="5"/>
                      <a:pt x="5941" y="5"/>
                    </a:cubicBezTo>
                    <a:lnTo>
                      <a:pt x="5941" y="5"/>
                    </a:lnTo>
                    <a:cubicBezTo>
                      <a:pt x="5940" y="5"/>
                      <a:pt x="5939" y="4"/>
                      <a:pt x="5939" y="3"/>
                    </a:cubicBezTo>
                    <a:cubicBezTo>
                      <a:pt x="5939" y="2"/>
                      <a:pt x="5940" y="1"/>
                      <a:pt x="5941" y="1"/>
                    </a:cubicBezTo>
                    <a:close/>
                    <a:moveTo>
                      <a:pt x="5949" y="1"/>
                    </a:moveTo>
                    <a:lnTo>
                      <a:pt x="5949" y="1"/>
                    </a:lnTo>
                    <a:cubicBezTo>
                      <a:pt x="5950" y="1"/>
                      <a:pt x="5951" y="2"/>
                      <a:pt x="5951" y="3"/>
                    </a:cubicBezTo>
                    <a:cubicBezTo>
                      <a:pt x="5951" y="4"/>
                      <a:pt x="5950" y="5"/>
                      <a:pt x="5949" y="5"/>
                    </a:cubicBezTo>
                    <a:lnTo>
                      <a:pt x="5949" y="5"/>
                    </a:lnTo>
                    <a:cubicBezTo>
                      <a:pt x="5948" y="5"/>
                      <a:pt x="5947" y="4"/>
                      <a:pt x="5947" y="3"/>
                    </a:cubicBezTo>
                    <a:cubicBezTo>
                      <a:pt x="5947" y="2"/>
                      <a:pt x="5948" y="1"/>
                      <a:pt x="5949" y="1"/>
                    </a:cubicBezTo>
                    <a:close/>
                    <a:moveTo>
                      <a:pt x="5957" y="1"/>
                    </a:moveTo>
                    <a:lnTo>
                      <a:pt x="5957" y="1"/>
                    </a:lnTo>
                    <a:cubicBezTo>
                      <a:pt x="5958" y="1"/>
                      <a:pt x="5959" y="2"/>
                      <a:pt x="5959" y="3"/>
                    </a:cubicBezTo>
                    <a:cubicBezTo>
                      <a:pt x="5959" y="4"/>
                      <a:pt x="5958" y="5"/>
                      <a:pt x="5957" y="5"/>
                    </a:cubicBezTo>
                    <a:lnTo>
                      <a:pt x="5957" y="5"/>
                    </a:lnTo>
                    <a:cubicBezTo>
                      <a:pt x="5956" y="5"/>
                      <a:pt x="5955" y="4"/>
                      <a:pt x="5955" y="3"/>
                    </a:cubicBezTo>
                    <a:cubicBezTo>
                      <a:pt x="5955" y="2"/>
                      <a:pt x="5956" y="1"/>
                      <a:pt x="5957" y="1"/>
                    </a:cubicBezTo>
                    <a:close/>
                    <a:moveTo>
                      <a:pt x="5965" y="1"/>
                    </a:moveTo>
                    <a:lnTo>
                      <a:pt x="5965" y="1"/>
                    </a:lnTo>
                    <a:cubicBezTo>
                      <a:pt x="5966" y="1"/>
                      <a:pt x="5967" y="2"/>
                      <a:pt x="5967" y="3"/>
                    </a:cubicBezTo>
                    <a:cubicBezTo>
                      <a:pt x="5967" y="4"/>
                      <a:pt x="5966" y="5"/>
                      <a:pt x="5965" y="5"/>
                    </a:cubicBezTo>
                    <a:lnTo>
                      <a:pt x="5965" y="5"/>
                    </a:lnTo>
                    <a:cubicBezTo>
                      <a:pt x="5964" y="5"/>
                      <a:pt x="5963" y="4"/>
                      <a:pt x="5963" y="3"/>
                    </a:cubicBezTo>
                    <a:cubicBezTo>
                      <a:pt x="5963" y="2"/>
                      <a:pt x="5964" y="1"/>
                      <a:pt x="5965" y="1"/>
                    </a:cubicBezTo>
                    <a:close/>
                    <a:moveTo>
                      <a:pt x="5973" y="1"/>
                    </a:moveTo>
                    <a:lnTo>
                      <a:pt x="5973" y="1"/>
                    </a:lnTo>
                    <a:cubicBezTo>
                      <a:pt x="5974" y="1"/>
                      <a:pt x="5975" y="2"/>
                      <a:pt x="5975" y="3"/>
                    </a:cubicBezTo>
                    <a:cubicBezTo>
                      <a:pt x="5975" y="4"/>
                      <a:pt x="5974" y="5"/>
                      <a:pt x="5973" y="5"/>
                    </a:cubicBezTo>
                    <a:lnTo>
                      <a:pt x="5973" y="5"/>
                    </a:lnTo>
                    <a:cubicBezTo>
                      <a:pt x="5972" y="5"/>
                      <a:pt x="5971" y="4"/>
                      <a:pt x="5971" y="3"/>
                    </a:cubicBezTo>
                    <a:cubicBezTo>
                      <a:pt x="5971" y="2"/>
                      <a:pt x="5972" y="1"/>
                      <a:pt x="5973" y="1"/>
                    </a:cubicBezTo>
                    <a:close/>
                    <a:moveTo>
                      <a:pt x="5981" y="1"/>
                    </a:moveTo>
                    <a:lnTo>
                      <a:pt x="5981" y="1"/>
                    </a:lnTo>
                    <a:cubicBezTo>
                      <a:pt x="5982" y="1"/>
                      <a:pt x="5983" y="2"/>
                      <a:pt x="5983" y="3"/>
                    </a:cubicBezTo>
                    <a:cubicBezTo>
                      <a:pt x="5983" y="4"/>
                      <a:pt x="5982" y="5"/>
                      <a:pt x="5981" y="5"/>
                    </a:cubicBezTo>
                    <a:lnTo>
                      <a:pt x="5981" y="5"/>
                    </a:lnTo>
                    <a:cubicBezTo>
                      <a:pt x="5980" y="5"/>
                      <a:pt x="5979" y="4"/>
                      <a:pt x="5979" y="3"/>
                    </a:cubicBezTo>
                    <a:cubicBezTo>
                      <a:pt x="5979" y="2"/>
                      <a:pt x="5980" y="1"/>
                      <a:pt x="5981" y="1"/>
                    </a:cubicBezTo>
                    <a:close/>
                    <a:moveTo>
                      <a:pt x="5989" y="1"/>
                    </a:moveTo>
                    <a:lnTo>
                      <a:pt x="5989" y="1"/>
                    </a:lnTo>
                    <a:cubicBezTo>
                      <a:pt x="5990" y="1"/>
                      <a:pt x="5991" y="2"/>
                      <a:pt x="5991" y="3"/>
                    </a:cubicBezTo>
                    <a:cubicBezTo>
                      <a:pt x="5991" y="4"/>
                      <a:pt x="5990" y="5"/>
                      <a:pt x="5989" y="5"/>
                    </a:cubicBezTo>
                    <a:lnTo>
                      <a:pt x="5989" y="5"/>
                    </a:lnTo>
                    <a:cubicBezTo>
                      <a:pt x="5988" y="5"/>
                      <a:pt x="5987" y="4"/>
                      <a:pt x="5987" y="3"/>
                    </a:cubicBezTo>
                    <a:cubicBezTo>
                      <a:pt x="5987" y="2"/>
                      <a:pt x="5988" y="1"/>
                      <a:pt x="5989" y="1"/>
                    </a:cubicBezTo>
                    <a:close/>
                    <a:moveTo>
                      <a:pt x="5997" y="1"/>
                    </a:moveTo>
                    <a:lnTo>
                      <a:pt x="5997" y="1"/>
                    </a:lnTo>
                    <a:cubicBezTo>
                      <a:pt x="5998" y="1"/>
                      <a:pt x="5999" y="2"/>
                      <a:pt x="5999" y="3"/>
                    </a:cubicBezTo>
                    <a:cubicBezTo>
                      <a:pt x="5999" y="4"/>
                      <a:pt x="5998" y="5"/>
                      <a:pt x="5997" y="5"/>
                    </a:cubicBezTo>
                    <a:lnTo>
                      <a:pt x="5997" y="5"/>
                    </a:lnTo>
                    <a:cubicBezTo>
                      <a:pt x="5996" y="5"/>
                      <a:pt x="5995" y="4"/>
                      <a:pt x="5995" y="3"/>
                    </a:cubicBezTo>
                    <a:cubicBezTo>
                      <a:pt x="5995" y="2"/>
                      <a:pt x="5996" y="1"/>
                      <a:pt x="5997" y="1"/>
                    </a:cubicBezTo>
                    <a:close/>
                    <a:moveTo>
                      <a:pt x="6005" y="1"/>
                    </a:moveTo>
                    <a:lnTo>
                      <a:pt x="6005" y="1"/>
                    </a:lnTo>
                    <a:cubicBezTo>
                      <a:pt x="6006" y="1"/>
                      <a:pt x="6007" y="2"/>
                      <a:pt x="6007" y="3"/>
                    </a:cubicBezTo>
                    <a:cubicBezTo>
                      <a:pt x="6007" y="4"/>
                      <a:pt x="6006" y="5"/>
                      <a:pt x="6005" y="5"/>
                    </a:cubicBezTo>
                    <a:lnTo>
                      <a:pt x="6005" y="5"/>
                    </a:lnTo>
                    <a:cubicBezTo>
                      <a:pt x="6004" y="5"/>
                      <a:pt x="6003" y="4"/>
                      <a:pt x="6003" y="3"/>
                    </a:cubicBezTo>
                    <a:cubicBezTo>
                      <a:pt x="6003" y="2"/>
                      <a:pt x="6004" y="1"/>
                      <a:pt x="6005" y="1"/>
                    </a:cubicBezTo>
                    <a:close/>
                    <a:moveTo>
                      <a:pt x="6013" y="1"/>
                    </a:moveTo>
                    <a:lnTo>
                      <a:pt x="6013" y="1"/>
                    </a:lnTo>
                    <a:cubicBezTo>
                      <a:pt x="6014" y="1"/>
                      <a:pt x="6015" y="2"/>
                      <a:pt x="6015" y="3"/>
                    </a:cubicBezTo>
                    <a:cubicBezTo>
                      <a:pt x="6015" y="4"/>
                      <a:pt x="6014" y="5"/>
                      <a:pt x="6013" y="5"/>
                    </a:cubicBezTo>
                    <a:lnTo>
                      <a:pt x="6013" y="5"/>
                    </a:lnTo>
                    <a:cubicBezTo>
                      <a:pt x="6012" y="5"/>
                      <a:pt x="6011" y="4"/>
                      <a:pt x="6011" y="3"/>
                    </a:cubicBezTo>
                    <a:cubicBezTo>
                      <a:pt x="6011" y="2"/>
                      <a:pt x="6012" y="1"/>
                      <a:pt x="6013" y="1"/>
                    </a:cubicBezTo>
                    <a:close/>
                    <a:moveTo>
                      <a:pt x="6021" y="1"/>
                    </a:moveTo>
                    <a:lnTo>
                      <a:pt x="6021" y="1"/>
                    </a:lnTo>
                    <a:cubicBezTo>
                      <a:pt x="6022" y="1"/>
                      <a:pt x="6023" y="2"/>
                      <a:pt x="6023" y="3"/>
                    </a:cubicBezTo>
                    <a:cubicBezTo>
                      <a:pt x="6023" y="4"/>
                      <a:pt x="6022" y="5"/>
                      <a:pt x="6021" y="5"/>
                    </a:cubicBezTo>
                    <a:lnTo>
                      <a:pt x="6021" y="5"/>
                    </a:lnTo>
                    <a:cubicBezTo>
                      <a:pt x="6020" y="5"/>
                      <a:pt x="6019" y="4"/>
                      <a:pt x="6019" y="3"/>
                    </a:cubicBezTo>
                    <a:cubicBezTo>
                      <a:pt x="6019" y="2"/>
                      <a:pt x="6020" y="1"/>
                      <a:pt x="6021" y="1"/>
                    </a:cubicBezTo>
                    <a:close/>
                    <a:moveTo>
                      <a:pt x="6029" y="1"/>
                    </a:moveTo>
                    <a:lnTo>
                      <a:pt x="6029" y="1"/>
                    </a:lnTo>
                    <a:cubicBezTo>
                      <a:pt x="6030" y="1"/>
                      <a:pt x="6031" y="2"/>
                      <a:pt x="6031" y="3"/>
                    </a:cubicBezTo>
                    <a:cubicBezTo>
                      <a:pt x="6031" y="4"/>
                      <a:pt x="6030" y="5"/>
                      <a:pt x="6029" y="5"/>
                    </a:cubicBezTo>
                    <a:lnTo>
                      <a:pt x="6029" y="5"/>
                    </a:lnTo>
                    <a:cubicBezTo>
                      <a:pt x="6028" y="5"/>
                      <a:pt x="6027" y="4"/>
                      <a:pt x="6027" y="3"/>
                    </a:cubicBezTo>
                    <a:cubicBezTo>
                      <a:pt x="6027" y="2"/>
                      <a:pt x="6028" y="1"/>
                      <a:pt x="6029" y="1"/>
                    </a:cubicBezTo>
                    <a:close/>
                    <a:moveTo>
                      <a:pt x="6037" y="1"/>
                    </a:moveTo>
                    <a:lnTo>
                      <a:pt x="6037" y="1"/>
                    </a:lnTo>
                    <a:cubicBezTo>
                      <a:pt x="6038" y="1"/>
                      <a:pt x="6039" y="2"/>
                      <a:pt x="6039" y="3"/>
                    </a:cubicBezTo>
                    <a:cubicBezTo>
                      <a:pt x="6039" y="4"/>
                      <a:pt x="6038" y="5"/>
                      <a:pt x="6037" y="5"/>
                    </a:cubicBezTo>
                    <a:lnTo>
                      <a:pt x="6037" y="5"/>
                    </a:lnTo>
                    <a:cubicBezTo>
                      <a:pt x="6036" y="5"/>
                      <a:pt x="6035" y="4"/>
                      <a:pt x="6035" y="3"/>
                    </a:cubicBezTo>
                    <a:cubicBezTo>
                      <a:pt x="6035" y="2"/>
                      <a:pt x="6036" y="1"/>
                      <a:pt x="6037" y="1"/>
                    </a:cubicBezTo>
                    <a:close/>
                    <a:moveTo>
                      <a:pt x="6045" y="1"/>
                    </a:moveTo>
                    <a:lnTo>
                      <a:pt x="6045" y="1"/>
                    </a:lnTo>
                    <a:cubicBezTo>
                      <a:pt x="6046" y="1"/>
                      <a:pt x="6047" y="2"/>
                      <a:pt x="6047" y="3"/>
                    </a:cubicBezTo>
                    <a:cubicBezTo>
                      <a:pt x="6047" y="4"/>
                      <a:pt x="6046" y="5"/>
                      <a:pt x="6045" y="5"/>
                    </a:cubicBezTo>
                    <a:lnTo>
                      <a:pt x="6045" y="5"/>
                    </a:lnTo>
                    <a:cubicBezTo>
                      <a:pt x="6044" y="5"/>
                      <a:pt x="6043" y="4"/>
                      <a:pt x="6043" y="3"/>
                    </a:cubicBezTo>
                    <a:cubicBezTo>
                      <a:pt x="6043" y="2"/>
                      <a:pt x="6044" y="1"/>
                      <a:pt x="6045" y="1"/>
                    </a:cubicBezTo>
                    <a:close/>
                    <a:moveTo>
                      <a:pt x="6053" y="1"/>
                    </a:moveTo>
                    <a:lnTo>
                      <a:pt x="6053" y="1"/>
                    </a:lnTo>
                    <a:cubicBezTo>
                      <a:pt x="6054" y="1"/>
                      <a:pt x="6055" y="2"/>
                      <a:pt x="6055" y="3"/>
                    </a:cubicBezTo>
                    <a:cubicBezTo>
                      <a:pt x="6055" y="4"/>
                      <a:pt x="6054" y="5"/>
                      <a:pt x="6053" y="5"/>
                    </a:cubicBezTo>
                    <a:lnTo>
                      <a:pt x="6053" y="5"/>
                    </a:lnTo>
                    <a:cubicBezTo>
                      <a:pt x="6052" y="5"/>
                      <a:pt x="6051" y="4"/>
                      <a:pt x="6051" y="3"/>
                    </a:cubicBezTo>
                    <a:cubicBezTo>
                      <a:pt x="6051" y="2"/>
                      <a:pt x="6052" y="1"/>
                      <a:pt x="6053" y="1"/>
                    </a:cubicBezTo>
                    <a:close/>
                    <a:moveTo>
                      <a:pt x="6061" y="1"/>
                    </a:moveTo>
                    <a:lnTo>
                      <a:pt x="6061" y="1"/>
                    </a:lnTo>
                    <a:cubicBezTo>
                      <a:pt x="6062" y="1"/>
                      <a:pt x="6063" y="2"/>
                      <a:pt x="6063" y="3"/>
                    </a:cubicBezTo>
                    <a:cubicBezTo>
                      <a:pt x="6063" y="4"/>
                      <a:pt x="6062" y="5"/>
                      <a:pt x="6061" y="5"/>
                    </a:cubicBezTo>
                    <a:lnTo>
                      <a:pt x="6061" y="5"/>
                    </a:lnTo>
                    <a:cubicBezTo>
                      <a:pt x="6060" y="5"/>
                      <a:pt x="6059" y="4"/>
                      <a:pt x="6059" y="3"/>
                    </a:cubicBezTo>
                    <a:cubicBezTo>
                      <a:pt x="6059" y="2"/>
                      <a:pt x="6060" y="1"/>
                      <a:pt x="6061" y="1"/>
                    </a:cubicBezTo>
                    <a:close/>
                    <a:moveTo>
                      <a:pt x="6069" y="1"/>
                    </a:moveTo>
                    <a:lnTo>
                      <a:pt x="6069" y="1"/>
                    </a:lnTo>
                    <a:cubicBezTo>
                      <a:pt x="6070" y="1"/>
                      <a:pt x="6071" y="2"/>
                      <a:pt x="6071" y="3"/>
                    </a:cubicBezTo>
                    <a:cubicBezTo>
                      <a:pt x="6071" y="4"/>
                      <a:pt x="6070" y="5"/>
                      <a:pt x="6069" y="5"/>
                    </a:cubicBezTo>
                    <a:lnTo>
                      <a:pt x="6069" y="5"/>
                    </a:lnTo>
                    <a:cubicBezTo>
                      <a:pt x="6068" y="5"/>
                      <a:pt x="6067" y="4"/>
                      <a:pt x="6067" y="3"/>
                    </a:cubicBezTo>
                    <a:cubicBezTo>
                      <a:pt x="6067" y="2"/>
                      <a:pt x="6068" y="1"/>
                      <a:pt x="6069" y="1"/>
                    </a:cubicBezTo>
                    <a:close/>
                    <a:moveTo>
                      <a:pt x="6077" y="1"/>
                    </a:moveTo>
                    <a:lnTo>
                      <a:pt x="6077" y="1"/>
                    </a:lnTo>
                    <a:cubicBezTo>
                      <a:pt x="6078" y="1"/>
                      <a:pt x="6079" y="2"/>
                      <a:pt x="6079" y="3"/>
                    </a:cubicBezTo>
                    <a:cubicBezTo>
                      <a:pt x="6079" y="4"/>
                      <a:pt x="6078" y="5"/>
                      <a:pt x="6077" y="5"/>
                    </a:cubicBezTo>
                    <a:lnTo>
                      <a:pt x="6077" y="5"/>
                    </a:lnTo>
                    <a:cubicBezTo>
                      <a:pt x="6076" y="5"/>
                      <a:pt x="6075" y="4"/>
                      <a:pt x="6075" y="3"/>
                    </a:cubicBezTo>
                    <a:cubicBezTo>
                      <a:pt x="6075" y="2"/>
                      <a:pt x="6076" y="1"/>
                      <a:pt x="6077" y="1"/>
                    </a:cubicBezTo>
                    <a:close/>
                    <a:moveTo>
                      <a:pt x="6085" y="1"/>
                    </a:moveTo>
                    <a:lnTo>
                      <a:pt x="6085" y="1"/>
                    </a:lnTo>
                    <a:cubicBezTo>
                      <a:pt x="6086" y="1"/>
                      <a:pt x="6087" y="2"/>
                      <a:pt x="6087" y="3"/>
                    </a:cubicBezTo>
                    <a:cubicBezTo>
                      <a:pt x="6087" y="4"/>
                      <a:pt x="6086" y="5"/>
                      <a:pt x="6085" y="5"/>
                    </a:cubicBezTo>
                    <a:lnTo>
                      <a:pt x="6085" y="5"/>
                    </a:lnTo>
                    <a:cubicBezTo>
                      <a:pt x="6084" y="5"/>
                      <a:pt x="6083" y="4"/>
                      <a:pt x="6083" y="3"/>
                    </a:cubicBezTo>
                    <a:cubicBezTo>
                      <a:pt x="6083" y="2"/>
                      <a:pt x="6084" y="1"/>
                      <a:pt x="6085" y="1"/>
                    </a:cubicBezTo>
                    <a:close/>
                    <a:moveTo>
                      <a:pt x="6093" y="1"/>
                    </a:moveTo>
                    <a:lnTo>
                      <a:pt x="6093" y="1"/>
                    </a:lnTo>
                    <a:cubicBezTo>
                      <a:pt x="6094" y="1"/>
                      <a:pt x="6095" y="2"/>
                      <a:pt x="6095" y="3"/>
                    </a:cubicBezTo>
                    <a:cubicBezTo>
                      <a:pt x="6095" y="4"/>
                      <a:pt x="6094" y="5"/>
                      <a:pt x="6093" y="5"/>
                    </a:cubicBezTo>
                    <a:lnTo>
                      <a:pt x="6093" y="5"/>
                    </a:lnTo>
                    <a:cubicBezTo>
                      <a:pt x="6092" y="5"/>
                      <a:pt x="6091" y="4"/>
                      <a:pt x="6091" y="3"/>
                    </a:cubicBezTo>
                    <a:cubicBezTo>
                      <a:pt x="6091" y="2"/>
                      <a:pt x="6092" y="1"/>
                      <a:pt x="6093" y="1"/>
                    </a:cubicBezTo>
                    <a:close/>
                    <a:moveTo>
                      <a:pt x="6101" y="1"/>
                    </a:moveTo>
                    <a:lnTo>
                      <a:pt x="6101" y="1"/>
                    </a:lnTo>
                    <a:cubicBezTo>
                      <a:pt x="6102" y="1"/>
                      <a:pt x="6103" y="2"/>
                      <a:pt x="6103" y="3"/>
                    </a:cubicBezTo>
                    <a:cubicBezTo>
                      <a:pt x="6103" y="4"/>
                      <a:pt x="6102" y="5"/>
                      <a:pt x="6101" y="5"/>
                    </a:cubicBezTo>
                    <a:lnTo>
                      <a:pt x="6101" y="5"/>
                    </a:lnTo>
                    <a:cubicBezTo>
                      <a:pt x="6100" y="5"/>
                      <a:pt x="6099" y="4"/>
                      <a:pt x="6099" y="3"/>
                    </a:cubicBezTo>
                    <a:cubicBezTo>
                      <a:pt x="6099" y="2"/>
                      <a:pt x="6100" y="1"/>
                      <a:pt x="6101" y="1"/>
                    </a:cubicBezTo>
                    <a:close/>
                    <a:moveTo>
                      <a:pt x="6109" y="1"/>
                    </a:moveTo>
                    <a:lnTo>
                      <a:pt x="6109" y="1"/>
                    </a:lnTo>
                    <a:cubicBezTo>
                      <a:pt x="6110" y="1"/>
                      <a:pt x="6111" y="2"/>
                      <a:pt x="6111" y="3"/>
                    </a:cubicBezTo>
                    <a:cubicBezTo>
                      <a:pt x="6111" y="4"/>
                      <a:pt x="6110" y="5"/>
                      <a:pt x="6109" y="5"/>
                    </a:cubicBezTo>
                    <a:lnTo>
                      <a:pt x="6109" y="5"/>
                    </a:lnTo>
                    <a:cubicBezTo>
                      <a:pt x="6108" y="5"/>
                      <a:pt x="6107" y="4"/>
                      <a:pt x="6107" y="3"/>
                    </a:cubicBezTo>
                    <a:cubicBezTo>
                      <a:pt x="6107" y="2"/>
                      <a:pt x="6108" y="1"/>
                      <a:pt x="6109" y="1"/>
                    </a:cubicBezTo>
                    <a:close/>
                    <a:moveTo>
                      <a:pt x="6117" y="1"/>
                    </a:moveTo>
                    <a:lnTo>
                      <a:pt x="6117" y="1"/>
                    </a:lnTo>
                    <a:cubicBezTo>
                      <a:pt x="6118" y="1"/>
                      <a:pt x="6119" y="2"/>
                      <a:pt x="6119" y="3"/>
                    </a:cubicBezTo>
                    <a:cubicBezTo>
                      <a:pt x="6119" y="4"/>
                      <a:pt x="6118" y="5"/>
                      <a:pt x="6117" y="5"/>
                    </a:cubicBezTo>
                    <a:lnTo>
                      <a:pt x="6117" y="5"/>
                    </a:lnTo>
                    <a:cubicBezTo>
                      <a:pt x="6116" y="5"/>
                      <a:pt x="6115" y="4"/>
                      <a:pt x="6115" y="3"/>
                    </a:cubicBezTo>
                    <a:cubicBezTo>
                      <a:pt x="6115" y="2"/>
                      <a:pt x="6116" y="1"/>
                      <a:pt x="6117" y="1"/>
                    </a:cubicBezTo>
                    <a:close/>
                    <a:moveTo>
                      <a:pt x="6125" y="1"/>
                    </a:moveTo>
                    <a:lnTo>
                      <a:pt x="6125" y="1"/>
                    </a:lnTo>
                    <a:cubicBezTo>
                      <a:pt x="6126" y="1"/>
                      <a:pt x="6127" y="2"/>
                      <a:pt x="6127" y="3"/>
                    </a:cubicBezTo>
                    <a:cubicBezTo>
                      <a:pt x="6127" y="4"/>
                      <a:pt x="6126" y="5"/>
                      <a:pt x="6125" y="5"/>
                    </a:cubicBezTo>
                    <a:lnTo>
                      <a:pt x="6125" y="5"/>
                    </a:lnTo>
                    <a:cubicBezTo>
                      <a:pt x="6124" y="5"/>
                      <a:pt x="6123" y="4"/>
                      <a:pt x="6123" y="3"/>
                    </a:cubicBezTo>
                    <a:cubicBezTo>
                      <a:pt x="6123" y="2"/>
                      <a:pt x="6124" y="1"/>
                      <a:pt x="6125" y="1"/>
                    </a:cubicBezTo>
                    <a:close/>
                    <a:moveTo>
                      <a:pt x="6133" y="1"/>
                    </a:moveTo>
                    <a:lnTo>
                      <a:pt x="6133" y="1"/>
                    </a:lnTo>
                    <a:cubicBezTo>
                      <a:pt x="6134" y="1"/>
                      <a:pt x="6135" y="2"/>
                      <a:pt x="6135" y="3"/>
                    </a:cubicBezTo>
                    <a:cubicBezTo>
                      <a:pt x="6135" y="4"/>
                      <a:pt x="6134" y="5"/>
                      <a:pt x="6133" y="5"/>
                    </a:cubicBezTo>
                    <a:lnTo>
                      <a:pt x="6133" y="5"/>
                    </a:lnTo>
                    <a:cubicBezTo>
                      <a:pt x="6132" y="5"/>
                      <a:pt x="6131" y="4"/>
                      <a:pt x="6131" y="3"/>
                    </a:cubicBezTo>
                    <a:cubicBezTo>
                      <a:pt x="6131" y="2"/>
                      <a:pt x="6132" y="1"/>
                      <a:pt x="6133" y="1"/>
                    </a:cubicBezTo>
                    <a:close/>
                    <a:moveTo>
                      <a:pt x="6141" y="1"/>
                    </a:moveTo>
                    <a:lnTo>
                      <a:pt x="6141" y="1"/>
                    </a:lnTo>
                    <a:cubicBezTo>
                      <a:pt x="6142" y="1"/>
                      <a:pt x="6143" y="2"/>
                      <a:pt x="6143" y="3"/>
                    </a:cubicBezTo>
                    <a:cubicBezTo>
                      <a:pt x="6143" y="4"/>
                      <a:pt x="6142" y="5"/>
                      <a:pt x="6141" y="5"/>
                    </a:cubicBezTo>
                    <a:lnTo>
                      <a:pt x="6141" y="5"/>
                    </a:lnTo>
                    <a:cubicBezTo>
                      <a:pt x="6140" y="5"/>
                      <a:pt x="6139" y="4"/>
                      <a:pt x="6139" y="3"/>
                    </a:cubicBezTo>
                    <a:cubicBezTo>
                      <a:pt x="6139" y="2"/>
                      <a:pt x="6140" y="1"/>
                      <a:pt x="6141" y="1"/>
                    </a:cubicBezTo>
                    <a:close/>
                    <a:moveTo>
                      <a:pt x="6149" y="1"/>
                    </a:moveTo>
                    <a:lnTo>
                      <a:pt x="6149" y="1"/>
                    </a:lnTo>
                    <a:cubicBezTo>
                      <a:pt x="6150" y="1"/>
                      <a:pt x="6151" y="2"/>
                      <a:pt x="6151" y="3"/>
                    </a:cubicBezTo>
                    <a:cubicBezTo>
                      <a:pt x="6151" y="4"/>
                      <a:pt x="6150" y="5"/>
                      <a:pt x="6149" y="5"/>
                    </a:cubicBezTo>
                    <a:lnTo>
                      <a:pt x="6149" y="5"/>
                    </a:lnTo>
                    <a:cubicBezTo>
                      <a:pt x="6148" y="5"/>
                      <a:pt x="6147" y="4"/>
                      <a:pt x="6147" y="3"/>
                    </a:cubicBezTo>
                    <a:cubicBezTo>
                      <a:pt x="6147" y="2"/>
                      <a:pt x="6148" y="1"/>
                      <a:pt x="6149" y="1"/>
                    </a:cubicBezTo>
                    <a:close/>
                    <a:moveTo>
                      <a:pt x="6157" y="1"/>
                    </a:moveTo>
                    <a:lnTo>
                      <a:pt x="6157" y="1"/>
                    </a:lnTo>
                    <a:cubicBezTo>
                      <a:pt x="6158" y="1"/>
                      <a:pt x="6159" y="2"/>
                      <a:pt x="6159" y="3"/>
                    </a:cubicBezTo>
                    <a:cubicBezTo>
                      <a:pt x="6159" y="4"/>
                      <a:pt x="6158" y="5"/>
                      <a:pt x="6157" y="5"/>
                    </a:cubicBezTo>
                    <a:lnTo>
                      <a:pt x="6157" y="5"/>
                    </a:lnTo>
                    <a:cubicBezTo>
                      <a:pt x="6156" y="5"/>
                      <a:pt x="6155" y="4"/>
                      <a:pt x="6155" y="3"/>
                    </a:cubicBezTo>
                    <a:cubicBezTo>
                      <a:pt x="6155" y="2"/>
                      <a:pt x="6156" y="1"/>
                      <a:pt x="6157" y="1"/>
                    </a:cubicBezTo>
                    <a:close/>
                    <a:moveTo>
                      <a:pt x="6165" y="1"/>
                    </a:moveTo>
                    <a:lnTo>
                      <a:pt x="6165" y="1"/>
                    </a:lnTo>
                    <a:cubicBezTo>
                      <a:pt x="6166" y="1"/>
                      <a:pt x="6167" y="2"/>
                      <a:pt x="6167" y="3"/>
                    </a:cubicBezTo>
                    <a:cubicBezTo>
                      <a:pt x="6167" y="4"/>
                      <a:pt x="6166" y="5"/>
                      <a:pt x="6165" y="5"/>
                    </a:cubicBezTo>
                    <a:lnTo>
                      <a:pt x="6165" y="5"/>
                    </a:lnTo>
                    <a:cubicBezTo>
                      <a:pt x="6164" y="5"/>
                      <a:pt x="6163" y="4"/>
                      <a:pt x="6163" y="3"/>
                    </a:cubicBezTo>
                    <a:cubicBezTo>
                      <a:pt x="6163" y="2"/>
                      <a:pt x="6164" y="1"/>
                      <a:pt x="6165" y="1"/>
                    </a:cubicBezTo>
                    <a:close/>
                    <a:moveTo>
                      <a:pt x="6173" y="1"/>
                    </a:moveTo>
                    <a:lnTo>
                      <a:pt x="6173" y="1"/>
                    </a:lnTo>
                    <a:cubicBezTo>
                      <a:pt x="6174" y="1"/>
                      <a:pt x="6175" y="2"/>
                      <a:pt x="6175" y="3"/>
                    </a:cubicBezTo>
                    <a:cubicBezTo>
                      <a:pt x="6175" y="4"/>
                      <a:pt x="6174" y="5"/>
                      <a:pt x="6173" y="5"/>
                    </a:cubicBezTo>
                    <a:lnTo>
                      <a:pt x="6173" y="5"/>
                    </a:lnTo>
                    <a:cubicBezTo>
                      <a:pt x="6172" y="5"/>
                      <a:pt x="6171" y="4"/>
                      <a:pt x="6171" y="3"/>
                    </a:cubicBezTo>
                    <a:cubicBezTo>
                      <a:pt x="6171" y="2"/>
                      <a:pt x="6172" y="1"/>
                      <a:pt x="6173" y="1"/>
                    </a:cubicBezTo>
                    <a:close/>
                    <a:moveTo>
                      <a:pt x="6181" y="1"/>
                    </a:moveTo>
                    <a:lnTo>
                      <a:pt x="6181" y="1"/>
                    </a:lnTo>
                    <a:cubicBezTo>
                      <a:pt x="6182" y="1"/>
                      <a:pt x="6183" y="2"/>
                      <a:pt x="6183" y="3"/>
                    </a:cubicBezTo>
                    <a:cubicBezTo>
                      <a:pt x="6183" y="4"/>
                      <a:pt x="6182" y="5"/>
                      <a:pt x="6181" y="5"/>
                    </a:cubicBezTo>
                    <a:lnTo>
                      <a:pt x="6181" y="5"/>
                    </a:lnTo>
                    <a:cubicBezTo>
                      <a:pt x="6180" y="5"/>
                      <a:pt x="6179" y="4"/>
                      <a:pt x="6179" y="3"/>
                    </a:cubicBezTo>
                    <a:cubicBezTo>
                      <a:pt x="6179" y="2"/>
                      <a:pt x="6180" y="1"/>
                      <a:pt x="6181" y="1"/>
                    </a:cubicBezTo>
                    <a:close/>
                    <a:moveTo>
                      <a:pt x="6189" y="1"/>
                    </a:moveTo>
                    <a:lnTo>
                      <a:pt x="6189" y="1"/>
                    </a:lnTo>
                    <a:cubicBezTo>
                      <a:pt x="6190" y="1"/>
                      <a:pt x="6191" y="2"/>
                      <a:pt x="6191" y="3"/>
                    </a:cubicBezTo>
                    <a:cubicBezTo>
                      <a:pt x="6191" y="4"/>
                      <a:pt x="6190" y="5"/>
                      <a:pt x="6189" y="5"/>
                    </a:cubicBezTo>
                    <a:lnTo>
                      <a:pt x="6189" y="5"/>
                    </a:lnTo>
                    <a:cubicBezTo>
                      <a:pt x="6188" y="5"/>
                      <a:pt x="6187" y="4"/>
                      <a:pt x="6187" y="3"/>
                    </a:cubicBezTo>
                    <a:cubicBezTo>
                      <a:pt x="6187" y="2"/>
                      <a:pt x="6188" y="1"/>
                      <a:pt x="6189" y="1"/>
                    </a:cubicBezTo>
                    <a:close/>
                    <a:moveTo>
                      <a:pt x="6197" y="1"/>
                    </a:moveTo>
                    <a:lnTo>
                      <a:pt x="6197" y="1"/>
                    </a:lnTo>
                    <a:cubicBezTo>
                      <a:pt x="6198" y="1"/>
                      <a:pt x="6199" y="2"/>
                      <a:pt x="6199" y="3"/>
                    </a:cubicBezTo>
                    <a:cubicBezTo>
                      <a:pt x="6199" y="4"/>
                      <a:pt x="6198" y="5"/>
                      <a:pt x="6197" y="5"/>
                    </a:cubicBezTo>
                    <a:lnTo>
                      <a:pt x="6197" y="5"/>
                    </a:lnTo>
                    <a:cubicBezTo>
                      <a:pt x="6196" y="5"/>
                      <a:pt x="6195" y="4"/>
                      <a:pt x="6195" y="3"/>
                    </a:cubicBezTo>
                    <a:cubicBezTo>
                      <a:pt x="6195" y="2"/>
                      <a:pt x="6196" y="1"/>
                      <a:pt x="6197" y="1"/>
                    </a:cubicBezTo>
                    <a:close/>
                    <a:moveTo>
                      <a:pt x="6205" y="1"/>
                    </a:moveTo>
                    <a:lnTo>
                      <a:pt x="6205" y="1"/>
                    </a:lnTo>
                    <a:cubicBezTo>
                      <a:pt x="6206" y="1"/>
                      <a:pt x="6207" y="2"/>
                      <a:pt x="6207" y="3"/>
                    </a:cubicBezTo>
                    <a:cubicBezTo>
                      <a:pt x="6207" y="4"/>
                      <a:pt x="6206" y="5"/>
                      <a:pt x="6205" y="5"/>
                    </a:cubicBezTo>
                    <a:lnTo>
                      <a:pt x="6205" y="5"/>
                    </a:lnTo>
                    <a:cubicBezTo>
                      <a:pt x="6204" y="5"/>
                      <a:pt x="6203" y="4"/>
                      <a:pt x="6203" y="3"/>
                    </a:cubicBezTo>
                    <a:cubicBezTo>
                      <a:pt x="6203" y="2"/>
                      <a:pt x="6204" y="1"/>
                      <a:pt x="6205" y="1"/>
                    </a:cubicBezTo>
                    <a:close/>
                    <a:moveTo>
                      <a:pt x="6213" y="1"/>
                    </a:moveTo>
                    <a:lnTo>
                      <a:pt x="6213" y="1"/>
                    </a:lnTo>
                    <a:cubicBezTo>
                      <a:pt x="6214" y="1"/>
                      <a:pt x="6215" y="2"/>
                      <a:pt x="6215" y="3"/>
                    </a:cubicBezTo>
                    <a:cubicBezTo>
                      <a:pt x="6215" y="4"/>
                      <a:pt x="6214" y="5"/>
                      <a:pt x="6213" y="5"/>
                    </a:cubicBezTo>
                    <a:lnTo>
                      <a:pt x="6213" y="5"/>
                    </a:lnTo>
                    <a:cubicBezTo>
                      <a:pt x="6212" y="5"/>
                      <a:pt x="6211" y="4"/>
                      <a:pt x="6211" y="3"/>
                    </a:cubicBezTo>
                    <a:cubicBezTo>
                      <a:pt x="6211" y="2"/>
                      <a:pt x="6212" y="1"/>
                      <a:pt x="6213" y="1"/>
                    </a:cubicBezTo>
                    <a:close/>
                    <a:moveTo>
                      <a:pt x="6221" y="1"/>
                    </a:moveTo>
                    <a:lnTo>
                      <a:pt x="6221" y="1"/>
                    </a:lnTo>
                    <a:cubicBezTo>
                      <a:pt x="6222" y="1"/>
                      <a:pt x="6223" y="2"/>
                      <a:pt x="6223" y="3"/>
                    </a:cubicBezTo>
                    <a:cubicBezTo>
                      <a:pt x="6223" y="4"/>
                      <a:pt x="6222" y="5"/>
                      <a:pt x="6221" y="5"/>
                    </a:cubicBezTo>
                    <a:lnTo>
                      <a:pt x="6221" y="5"/>
                    </a:lnTo>
                    <a:cubicBezTo>
                      <a:pt x="6220" y="5"/>
                      <a:pt x="6219" y="4"/>
                      <a:pt x="6219" y="3"/>
                    </a:cubicBezTo>
                    <a:cubicBezTo>
                      <a:pt x="6219" y="2"/>
                      <a:pt x="6220" y="1"/>
                      <a:pt x="6221" y="1"/>
                    </a:cubicBezTo>
                    <a:close/>
                    <a:moveTo>
                      <a:pt x="6229" y="1"/>
                    </a:moveTo>
                    <a:lnTo>
                      <a:pt x="6229" y="1"/>
                    </a:lnTo>
                    <a:cubicBezTo>
                      <a:pt x="6230" y="1"/>
                      <a:pt x="6231" y="2"/>
                      <a:pt x="6231" y="3"/>
                    </a:cubicBezTo>
                    <a:cubicBezTo>
                      <a:pt x="6231" y="4"/>
                      <a:pt x="6230" y="5"/>
                      <a:pt x="6229" y="5"/>
                    </a:cubicBezTo>
                    <a:lnTo>
                      <a:pt x="6229" y="5"/>
                    </a:lnTo>
                    <a:cubicBezTo>
                      <a:pt x="6228" y="5"/>
                      <a:pt x="6227" y="4"/>
                      <a:pt x="6227" y="3"/>
                    </a:cubicBezTo>
                    <a:cubicBezTo>
                      <a:pt x="6227" y="2"/>
                      <a:pt x="6228" y="1"/>
                      <a:pt x="6229" y="1"/>
                    </a:cubicBezTo>
                    <a:close/>
                    <a:moveTo>
                      <a:pt x="6237" y="1"/>
                    </a:moveTo>
                    <a:lnTo>
                      <a:pt x="6237" y="1"/>
                    </a:lnTo>
                    <a:cubicBezTo>
                      <a:pt x="6238" y="1"/>
                      <a:pt x="6239" y="2"/>
                      <a:pt x="6239" y="3"/>
                    </a:cubicBezTo>
                    <a:cubicBezTo>
                      <a:pt x="6239" y="4"/>
                      <a:pt x="6238" y="5"/>
                      <a:pt x="6237" y="5"/>
                    </a:cubicBezTo>
                    <a:lnTo>
                      <a:pt x="6237" y="5"/>
                    </a:lnTo>
                    <a:cubicBezTo>
                      <a:pt x="6236" y="5"/>
                      <a:pt x="6235" y="4"/>
                      <a:pt x="6235" y="3"/>
                    </a:cubicBezTo>
                    <a:cubicBezTo>
                      <a:pt x="6235" y="2"/>
                      <a:pt x="6236" y="1"/>
                      <a:pt x="6237" y="1"/>
                    </a:cubicBezTo>
                    <a:close/>
                    <a:moveTo>
                      <a:pt x="6245" y="1"/>
                    </a:moveTo>
                    <a:lnTo>
                      <a:pt x="6245" y="1"/>
                    </a:lnTo>
                    <a:cubicBezTo>
                      <a:pt x="6246" y="1"/>
                      <a:pt x="6247" y="2"/>
                      <a:pt x="6247" y="3"/>
                    </a:cubicBezTo>
                    <a:cubicBezTo>
                      <a:pt x="6247" y="4"/>
                      <a:pt x="6246" y="5"/>
                      <a:pt x="6245" y="5"/>
                    </a:cubicBezTo>
                    <a:lnTo>
                      <a:pt x="6245" y="5"/>
                    </a:lnTo>
                    <a:cubicBezTo>
                      <a:pt x="6244" y="5"/>
                      <a:pt x="6243" y="4"/>
                      <a:pt x="6243" y="3"/>
                    </a:cubicBezTo>
                    <a:cubicBezTo>
                      <a:pt x="6243" y="2"/>
                      <a:pt x="6244" y="1"/>
                      <a:pt x="6245" y="1"/>
                    </a:cubicBezTo>
                    <a:close/>
                    <a:moveTo>
                      <a:pt x="6253" y="1"/>
                    </a:moveTo>
                    <a:lnTo>
                      <a:pt x="6253" y="1"/>
                    </a:lnTo>
                    <a:cubicBezTo>
                      <a:pt x="6254" y="1"/>
                      <a:pt x="6255" y="2"/>
                      <a:pt x="6255" y="3"/>
                    </a:cubicBezTo>
                    <a:cubicBezTo>
                      <a:pt x="6255" y="4"/>
                      <a:pt x="6254" y="5"/>
                      <a:pt x="6253" y="5"/>
                    </a:cubicBezTo>
                    <a:lnTo>
                      <a:pt x="6253" y="5"/>
                    </a:lnTo>
                    <a:cubicBezTo>
                      <a:pt x="6252" y="5"/>
                      <a:pt x="6251" y="4"/>
                      <a:pt x="6251" y="3"/>
                    </a:cubicBezTo>
                    <a:cubicBezTo>
                      <a:pt x="6251" y="2"/>
                      <a:pt x="6252" y="1"/>
                      <a:pt x="6253" y="1"/>
                    </a:cubicBezTo>
                    <a:close/>
                    <a:moveTo>
                      <a:pt x="6261" y="1"/>
                    </a:moveTo>
                    <a:lnTo>
                      <a:pt x="6261" y="1"/>
                    </a:lnTo>
                    <a:cubicBezTo>
                      <a:pt x="6262" y="1"/>
                      <a:pt x="6263" y="2"/>
                      <a:pt x="6263" y="3"/>
                    </a:cubicBezTo>
                    <a:cubicBezTo>
                      <a:pt x="6263" y="4"/>
                      <a:pt x="6262" y="5"/>
                      <a:pt x="6261" y="5"/>
                    </a:cubicBezTo>
                    <a:lnTo>
                      <a:pt x="6261" y="5"/>
                    </a:lnTo>
                    <a:cubicBezTo>
                      <a:pt x="6260" y="5"/>
                      <a:pt x="6259" y="4"/>
                      <a:pt x="6259" y="3"/>
                    </a:cubicBezTo>
                    <a:cubicBezTo>
                      <a:pt x="6259" y="2"/>
                      <a:pt x="6260" y="1"/>
                      <a:pt x="6261" y="1"/>
                    </a:cubicBezTo>
                    <a:close/>
                    <a:moveTo>
                      <a:pt x="6269" y="1"/>
                    </a:moveTo>
                    <a:lnTo>
                      <a:pt x="6269" y="1"/>
                    </a:lnTo>
                    <a:cubicBezTo>
                      <a:pt x="6270" y="1"/>
                      <a:pt x="6271" y="2"/>
                      <a:pt x="6271" y="3"/>
                    </a:cubicBezTo>
                    <a:cubicBezTo>
                      <a:pt x="6271" y="4"/>
                      <a:pt x="6270" y="5"/>
                      <a:pt x="6269" y="5"/>
                    </a:cubicBezTo>
                    <a:lnTo>
                      <a:pt x="6269" y="5"/>
                    </a:lnTo>
                    <a:cubicBezTo>
                      <a:pt x="6268" y="5"/>
                      <a:pt x="6267" y="4"/>
                      <a:pt x="6267" y="3"/>
                    </a:cubicBezTo>
                    <a:cubicBezTo>
                      <a:pt x="6267" y="2"/>
                      <a:pt x="6268" y="1"/>
                      <a:pt x="6269" y="1"/>
                    </a:cubicBezTo>
                    <a:close/>
                    <a:moveTo>
                      <a:pt x="6277" y="1"/>
                    </a:moveTo>
                    <a:lnTo>
                      <a:pt x="6277" y="1"/>
                    </a:lnTo>
                    <a:cubicBezTo>
                      <a:pt x="6278" y="1"/>
                      <a:pt x="6279" y="2"/>
                      <a:pt x="6279" y="3"/>
                    </a:cubicBezTo>
                    <a:cubicBezTo>
                      <a:pt x="6279" y="4"/>
                      <a:pt x="6278" y="5"/>
                      <a:pt x="6277" y="5"/>
                    </a:cubicBezTo>
                    <a:lnTo>
                      <a:pt x="6277" y="5"/>
                    </a:lnTo>
                    <a:cubicBezTo>
                      <a:pt x="6276" y="5"/>
                      <a:pt x="6275" y="4"/>
                      <a:pt x="6275" y="3"/>
                    </a:cubicBezTo>
                    <a:cubicBezTo>
                      <a:pt x="6275" y="2"/>
                      <a:pt x="6276" y="1"/>
                      <a:pt x="6277" y="1"/>
                    </a:cubicBezTo>
                    <a:close/>
                    <a:moveTo>
                      <a:pt x="6285" y="1"/>
                    </a:moveTo>
                    <a:lnTo>
                      <a:pt x="6285" y="1"/>
                    </a:lnTo>
                    <a:cubicBezTo>
                      <a:pt x="6286" y="1"/>
                      <a:pt x="6287" y="2"/>
                      <a:pt x="6287" y="3"/>
                    </a:cubicBezTo>
                    <a:cubicBezTo>
                      <a:pt x="6287" y="4"/>
                      <a:pt x="6286" y="5"/>
                      <a:pt x="6285" y="5"/>
                    </a:cubicBezTo>
                    <a:lnTo>
                      <a:pt x="6285" y="5"/>
                    </a:lnTo>
                    <a:cubicBezTo>
                      <a:pt x="6284" y="5"/>
                      <a:pt x="6283" y="4"/>
                      <a:pt x="6283" y="3"/>
                    </a:cubicBezTo>
                    <a:cubicBezTo>
                      <a:pt x="6283" y="2"/>
                      <a:pt x="6284" y="1"/>
                      <a:pt x="6285" y="1"/>
                    </a:cubicBezTo>
                    <a:close/>
                    <a:moveTo>
                      <a:pt x="6293" y="1"/>
                    </a:moveTo>
                    <a:lnTo>
                      <a:pt x="6293" y="1"/>
                    </a:lnTo>
                    <a:cubicBezTo>
                      <a:pt x="6294" y="1"/>
                      <a:pt x="6295" y="2"/>
                      <a:pt x="6295" y="3"/>
                    </a:cubicBezTo>
                    <a:cubicBezTo>
                      <a:pt x="6295" y="4"/>
                      <a:pt x="6294" y="5"/>
                      <a:pt x="6293" y="5"/>
                    </a:cubicBezTo>
                    <a:lnTo>
                      <a:pt x="6293" y="5"/>
                    </a:lnTo>
                    <a:cubicBezTo>
                      <a:pt x="6292" y="5"/>
                      <a:pt x="6291" y="4"/>
                      <a:pt x="6291" y="3"/>
                    </a:cubicBezTo>
                    <a:cubicBezTo>
                      <a:pt x="6291" y="2"/>
                      <a:pt x="6292" y="1"/>
                      <a:pt x="6293" y="1"/>
                    </a:cubicBezTo>
                    <a:close/>
                    <a:moveTo>
                      <a:pt x="6301" y="1"/>
                    </a:moveTo>
                    <a:lnTo>
                      <a:pt x="6301" y="1"/>
                    </a:lnTo>
                    <a:cubicBezTo>
                      <a:pt x="6302" y="1"/>
                      <a:pt x="6303" y="2"/>
                      <a:pt x="6303" y="3"/>
                    </a:cubicBezTo>
                    <a:cubicBezTo>
                      <a:pt x="6303" y="4"/>
                      <a:pt x="6302" y="5"/>
                      <a:pt x="6301" y="5"/>
                    </a:cubicBezTo>
                    <a:lnTo>
                      <a:pt x="6301" y="5"/>
                    </a:lnTo>
                    <a:cubicBezTo>
                      <a:pt x="6300" y="5"/>
                      <a:pt x="6299" y="4"/>
                      <a:pt x="6299" y="3"/>
                    </a:cubicBezTo>
                    <a:cubicBezTo>
                      <a:pt x="6299" y="2"/>
                      <a:pt x="6300" y="1"/>
                      <a:pt x="6301" y="1"/>
                    </a:cubicBezTo>
                    <a:close/>
                    <a:moveTo>
                      <a:pt x="6309" y="1"/>
                    </a:moveTo>
                    <a:lnTo>
                      <a:pt x="6309" y="1"/>
                    </a:lnTo>
                    <a:cubicBezTo>
                      <a:pt x="6310" y="1"/>
                      <a:pt x="6311" y="2"/>
                      <a:pt x="6311" y="3"/>
                    </a:cubicBezTo>
                    <a:cubicBezTo>
                      <a:pt x="6311" y="4"/>
                      <a:pt x="6310" y="5"/>
                      <a:pt x="6309" y="5"/>
                    </a:cubicBezTo>
                    <a:lnTo>
                      <a:pt x="6309" y="5"/>
                    </a:lnTo>
                    <a:cubicBezTo>
                      <a:pt x="6308" y="5"/>
                      <a:pt x="6307" y="4"/>
                      <a:pt x="6307" y="3"/>
                    </a:cubicBezTo>
                    <a:cubicBezTo>
                      <a:pt x="6307" y="2"/>
                      <a:pt x="6308" y="1"/>
                      <a:pt x="6309" y="1"/>
                    </a:cubicBezTo>
                    <a:close/>
                    <a:moveTo>
                      <a:pt x="6317" y="1"/>
                    </a:moveTo>
                    <a:lnTo>
                      <a:pt x="6317" y="1"/>
                    </a:lnTo>
                    <a:cubicBezTo>
                      <a:pt x="6318" y="1"/>
                      <a:pt x="6319" y="2"/>
                      <a:pt x="6319" y="3"/>
                    </a:cubicBezTo>
                    <a:cubicBezTo>
                      <a:pt x="6319" y="4"/>
                      <a:pt x="6318" y="5"/>
                      <a:pt x="6317" y="5"/>
                    </a:cubicBezTo>
                    <a:lnTo>
                      <a:pt x="6317" y="5"/>
                    </a:lnTo>
                    <a:cubicBezTo>
                      <a:pt x="6316" y="5"/>
                      <a:pt x="6315" y="4"/>
                      <a:pt x="6315" y="3"/>
                    </a:cubicBezTo>
                    <a:cubicBezTo>
                      <a:pt x="6315" y="2"/>
                      <a:pt x="6316" y="1"/>
                      <a:pt x="6317" y="1"/>
                    </a:cubicBezTo>
                    <a:close/>
                    <a:moveTo>
                      <a:pt x="6325" y="1"/>
                    </a:moveTo>
                    <a:lnTo>
                      <a:pt x="6325" y="1"/>
                    </a:lnTo>
                    <a:cubicBezTo>
                      <a:pt x="6326" y="1"/>
                      <a:pt x="6327" y="2"/>
                      <a:pt x="6327" y="3"/>
                    </a:cubicBezTo>
                    <a:cubicBezTo>
                      <a:pt x="6327" y="4"/>
                      <a:pt x="6326" y="5"/>
                      <a:pt x="6325" y="5"/>
                    </a:cubicBezTo>
                    <a:lnTo>
                      <a:pt x="6325" y="5"/>
                    </a:lnTo>
                    <a:cubicBezTo>
                      <a:pt x="6324" y="5"/>
                      <a:pt x="6323" y="4"/>
                      <a:pt x="6323" y="3"/>
                    </a:cubicBezTo>
                    <a:cubicBezTo>
                      <a:pt x="6323" y="2"/>
                      <a:pt x="6324" y="1"/>
                      <a:pt x="6325" y="1"/>
                    </a:cubicBezTo>
                    <a:close/>
                    <a:moveTo>
                      <a:pt x="6333" y="1"/>
                    </a:moveTo>
                    <a:lnTo>
                      <a:pt x="6333" y="1"/>
                    </a:lnTo>
                    <a:cubicBezTo>
                      <a:pt x="6334" y="1"/>
                      <a:pt x="6335" y="2"/>
                      <a:pt x="6335" y="3"/>
                    </a:cubicBezTo>
                    <a:cubicBezTo>
                      <a:pt x="6335" y="4"/>
                      <a:pt x="6334" y="5"/>
                      <a:pt x="6333" y="5"/>
                    </a:cubicBezTo>
                    <a:lnTo>
                      <a:pt x="6333" y="5"/>
                    </a:lnTo>
                    <a:cubicBezTo>
                      <a:pt x="6332" y="5"/>
                      <a:pt x="6331" y="4"/>
                      <a:pt x="6331" y="3"/>
                    </a:cubicBezTo>
                    <a:cubicBezTo>
                      <a:pt x="6331" y="2"/>
                      <a:pt x="6332" y="1"/>
                      <a:pt x="6333" y="1"/>
                    </a:cubicBezTo>
                    <a:close/>
                    <a:moveTo>
                      <a:pt x="6341" y="1"/>
                    </a:moveTo>
                    <a:lnTo>
                      <a:pt x="6341" y="1"/>
                    </a:lnTo>
                    <a:cubicBezTo>
                      <a:pt x="6342" y="1"/>
                      <a:pt x="6343" y="2"/>
                      <a:pt x="6343" y="3"/>
                    </a:cubicBezTo>
                    <a:cubicBezTo>
                      <a:pt x="6343" y="4"/>
                      <a:pt x="6342" y="5"/>
                      <a:pt x="6341" y="5"/>
                    </a:cubicBezTo>
                    <a:lnTo>
                      <a:pt x="6341" y="5"/>
                    </a:lnTo>
                    <a:cubicBezTo>
                      <a:pt x="6340" y="5"/>
                      <a:pt x="6339" y="4"/>
                      <a:pt x="6339" y="3"/>
                    </a:cubicBezTo>
                    <a:cubicBezTo>
                      <a:pt x="6339" y="2"/>
                      <a:pt x="6340" y="1"/>
                      <a:pt x="6341" y="1"/>
                    </a:cubicBezTo>
                    <a:close/>
                    <a:moveTo>
                      <a:pt x="6349" y="1"/>
                    </a:moveTo>
                    <a:lnTo>
                      <a:pt x="6349" y="1"/>
                    </a:lnTo>
                    <a:cubicBezTo>
                      <a:pt x="6350" y="1"/>
                      <a:pt x="6351" y="2"/>
                      <a:pt x="6351" y="3"/>
                    </a:cubicBezTo>
                    <a:cubicBezTo>
                      <a:pt x="6351" y="4"/>
                      <a:pt x="6350" y="5"/>
                      <a:pt x="6349" y="5"/>
                    </a:cubicBezTo>
                    <a:lnTo>
                      <a:pt x="6349" y="5"/>
                    </a:lnTo>
                    <a:cubicBezTo>
                      <a:pt x="6348" y="5"/>
                      <a:pt x="6347" y="4"/>
                      <a:pt x="6347" y="3"/>
                    </a:cubicBezTo>
                    <a:cubicBezTo>
                      <a:pt x="6347" y="2"/>
                      <a:pt x="6348" y="1"/>
                      <a:pt x="6349" y="1"/>
                    </a:cubicBezTo>
                    <a:close/>
                    <a:moveTo>
                      <a:pt x="6357" y="1"/>
                    </a:moveTo>
                    <a:lnTo>
                      <a:pt x="6357" y="1"/>
                    </a:lnTo>
                    <a:cubicBezTo>
                      <a:pt x="6358" y="1"/>
                      <a:pt x="6359" y="2"/>
                      <a:pt x="6359" y="3"/>
                    </a:cubicBezTo>
                    <a:cubicBezTo>
                      <a:pt x="6359" y="4"/>
                      <a:pt x="6358" y="5"/>
                      <a:pt x="6357" y="5"/>
                    </a:cubicBezTo>
                    <a:lnTo>
                      <a:pt x="6357" y="5"/>
                    </a:lnTo>
                    <a:cubicBezTo>
                      <a:pt x="6356" y="5"/>
                      <a:pt x="6355" y="4"/>
                      <a:pt x="6355" y="3"/>
                    </a:cubicBezTo>
                    <a:cubicBezTo>
                      <a:pt x="6355" y="2"/>
                      <a:pt x="6356" y="1"/>
                      <a:pt x="6357" y="1"/>
                    </a:cubicBezTo>
                    <a:close/>
                    <a:moveTo>
                      <a:pt x="6365" y="1"/>
                    </a:moveTo>
                    <a:lnTo>
                      <a:pt x="6365" y="1"/>
                    </a:lnTo>
                    <a:cubicBezTo>
                      <a:pt x="6366" y="1"/>
                      <a:pt x="6367" y="2"/>
                      <a:pt x="6367" y="3"/>
                    </a:cubicBezTo>
                    <a:cubicBezTo>
                      <a:pt x="6367" y="4"/>
                      <a:pt x="6366" y="5"/>
                      <a:pt x="6365" y="5"/>
                    </a:cubicBezTo>
                    <a:lnTo>
                      <a:pt x="6365" y="5"/>
                    </a:lnTo>
                    <a:cubicBezTo>
                      <a:pt x="6364" y="5"/>
                      <a:pt x="6363" y="4"/>
                      <a:pt x="6363" y="3"/>
                    </a:cubicBezTo>
                    <a:cubicBezTo>
                      <a:pt x="6363" y="2"/>
                      <a:pt x="6364" y="1"/>
                      <a:pt x="6365" y="1"/>
                    </a:cubicBezTo>
                    <a:close/>
                    <a:moveTo>
                      <a:pt x="6373" y="1"/>
                    </a:moveTo>
                    <a:lnTo>
                      <a:pt x="6373" y="1"/>
                    </a:lnTo>
                    <a:cubicBezTo>
                      <a:pt x="6374" y="1"/>
                      <a:pt x="6375" y="2"/>
                      <a:pt x="6375" y="3"/>
                    </a:cubicBezTo>
                    <a:cubicBezTo>
                      <a:pt x="6375" y="4"/>
                      <a:pt x="6374" y="5"/>
                      <a:pt x="6373" y="5"/>
                    </a:cubicBezTo>
                    <a:lnTo>
                      <a:pt x="6373" y="5"/>
                    </a:lnTo>
                    <a:cubicBezTo>
                      <a:pt x="6372" y="5"/>
                      <a:pt x="6371" y="4"/>
                      <a:pt x="6371" y="3"/>
                    </a:cubicBezTo>
                    <a:cubicBezTo>
                      <a:pt x="6371" y="2"/>
                      <a:pt x="6372" y="1"/>
                      <a:pt x="6373" y="1"/>
                    </a:cubicBezTo>
                    <a:close/>
                    <a:moveTo>
                      <a:pt x="6381" y="1"/>
                    </a:moveTo>
                    <a:lnTo>
                      <a:pt x="6381" y="1"/>
                    </a:lnTo>
                    <a:cubicBezTo>
                      <a:pt x="6382" y="1"/>
                      <a:pt x="6383" y="2"/>
                      <a:pt x="6383" y="3"/>
                    </a:cubicBezTo>
                    <a:cubicBezTo>
                      <a:pt x="6383" y="4"/>
                      <a:pt x="6382" y="5"/>
                      <a:pt x="6381" y="5"/>
                    </a:cubicBezTo>
                    <a:lnTo>
                      <a:pt x="6381" y="5"/>
                    </a:lnTo>
                    <a:cubicBezTo>
                      <a:pt x="6380" y="5"/>
                      <a:pt x="6379" y="4"/>
                      <a:pt x="6379" y="3"/>
                    </a:cubicBezTo>
                    <a:cubicBezTo>
                      <a:pt x="6379" y="2"/>
                      <a:pt x="6380" y="1"/>
                      <a:pt x="6381" y="1"/>
                    </a:cubicBezTo>
                    <a:close/>
                    <a:moveTo>
                      <a:pt x="6389" y="1"/>
                    </a:moveTo>
                    <a:lnTo>
                      <a:pt x="6389" y="1"/>
                    </a:lnTo>
                    <a:cubicBezTo>
                      <a:pt x="6390" y="1"/>
                      <a:pt x="6391" y="2"/>
                      <a:pt x="6391" y="3"/>
                    </a:cubicBezTo>
                    <a:cubicBezTo>
                      <a:pt x="6391" y="4"/>
                      <a:pt x="6390" y="5"/>
                      <a:pt x="6389" y="5"/>
                    </a:cubicBezTo>
                    <a:lnTo>
                      <a:pt x="6389" y="5"/>
                    </a:lnTo>
                    <a:cubicBezTo>
                      <a:pt x="6388" y="5"/>
                      <a:pt x="6387" y="4"/>
                      <a:pt x="6387" y="3"/>
                    </a:cubicBezTo>
                    <a:cubicBezTo>
                      <a:pt x="6387" y="2"/>
                      <a:pt x="6388" y="1"/>
                      <a:pt x="6389" y="1"/>
                    </a:cubicBezTo>
                    <a:close/>
                    <a:moveTo>
                      <a:pt x="6397" y="1"/>
                    </a:moveTo>
                    <a:lnTo>
                      <a:pt x="6397" y="1"/>
                    </a:lnTo>
                    <a:cubicBezTo>
                      <a:pt x="6398" y="1"/>
                      <a:pt x="6399" y="2"/>
                      <a:pt x="6399" y="3"/>
                    </a:cubicBezTo>
                    <a:cubicBezTo>
                      <a:pt x="6399" y="4"/>
                      <a:pt x="6398" y="5"/>
                      <a:pt x="6397" y="5"/>
                    </a:cubicBezTo>
                    <a:lnTo>
                      <a:pt x="6397" y="5"/>
                    </a:lnTo>
                    <a:cubicBezTo>
                      <a:pt x="6396" y="5"/>
                      <a:pt x="6395" y="4"/>
                      <a:pt x="6395" y="3"/>
                    </a:cubicBezTo>
                    <a:cubicBezTo>
                      <a:pt x="6395" y="2"/>
                      <a:pt x="6396" y="1"/>
                      <a:pt x="6397" y="1"/>
                    </a:cubicBezTo>
                    <a:close/>
                    <a:moveTo>
                      <a:pt x="6405" y="1"/>
                    </a:moveTo>
                    <a:lnTo>
                      <a:pt x="6405" y="1"/>
                    </a:lnTo>
                    <a:cubicBezTo>
                      <a:pt x="6406" y="1"/>
                      <a:pt x="6407" y="2"/>
                      <a:pt x="6407" y="3"/>
                    </a:cubicBezTo>
                    <a:cubicBezTo>
                      <a:pt x="6407" y="4"/>
                      <a:pt x="6406" y="5"/>
                      <a:pt x="6405" y="5"/>
                    </a:cubicBezTo>
                    <a:lnTo>
                      <a:pt x="6405" y="5"/>
                    </a:lnTo>
                    <a:cubicBezTo>
                      <a:pt x="6404" y="5"/>
                      <a:pt x="6403" y="4"/>
                      <a:pt x="6403" y="3"/>
                    </a:cubicBezTo>
                    <a:cubicBezTo>
                      <a:pt x="6403" y="2"/>
                      <a:pt x="6404" y="1"/>
                      <a:pt x="6405" y="1"/>
                    </a:cubicBezTo>
                    <a:close/>
                    <a:moveTo>
                      <a:pt x="6413" y="1"/>
                    </a:moveTo>
                    <a:lnTo>
                      <a:pt x="6413" y="1"/>
                    </a:lnTo>
                    <a:cubicBezTo>
                      <a:pt x="6414" y="1"/>
                      <a:pt x="6415" y="2"/>
                      <a:pt x="6415" y="3"/>
                    </a:cubicBezTo>
                    <a:cubicBezTo>
                      <a:pt x="6415" y="4"/>
                      <a:pt x="6414" y="5"/>
                      <a:pt x="6413" y="5"/>
                    </a:cubicBezTo>
                    <a:lnTo>
                      <a:pt x="6413" y="5"/>
                    </a:lnTo>
                    <a:cubicBezTo>
                      <a:pt x="6412" y="5"/>
                      <a:pt x="6411" y="4"/>
                      <a:pt x="6411" y="3"/>
                    </a:cubicBezTo>
                    <a:cubicBezTo>
                      <a:pt x="6411" y="2"/>
                      <a:pt x="6412" y="1"/>
                      <a:pt x="6413" y="1"/>
                    </a:cubicBezTo>
                    <a:close/>
                    <a:moveTo>
                      <a:pt x="6421" y="1"/>
                    </a:moveTo>
                    <a:lnTo>
                      <a:pt x="6421" y="1"/>
                    </a:lnTo>
                    <a:cubicBezTo>
                      <a:pt x="6422" y="1"/>
                      <a:pt x="6423" y="2"/>
                      <a:pt x="6423" y="3"/>
                    </a:cubicBezTo>
                    <a:cubicBezTo>
                      <a:pt x="6423" y="4"/>
                      <a:pt x="6422" y="5"/>
                      <a:pt x="6421" y="5"/>
                    </a:cubicBezTo>
                    <a:lnTo>
                      <a:pt x="6421" y="5"/>
                    </a:lnTo>
                    <a:cubicBezTo>
                      <a:pt x="6420" y="5"/>
                      <a:pt x="6419" y="4"/>
                      <a:pt x="6419" y="3"/>
                    </a:cubicBezTo>
                    <a:cubicBezTo>
                      <a:pt x="6419" y="2"/>
                      <a:pt x="6420" y="1"/>
                      <a:pt x="6421" y="1"/>
                    </a:cubicBezTo>
                    <a:close/>
                    <a:moveTo>
                      <a:pt x="6429" y="1"/>
                    </a:moveTo>
                    <a:lnTo>
                      <a:pt x="6429" y="1"/>
                    </a:lnTo>
                    <a:cubicBezTo>
                      <a:pt x="6430" y="1"/>
                      <a:pt x="6431" y="2"/>
                      <a:pt x="6431" y="3"/>
                    </a:cubicBezTo>
                    <a:cubicBezTo>
                      <a:pt x="6431" y="4"/>
                      <a:pt x="6430" y="5"/>
                      <a:pt x="6429" y="5"/>
                    </a:cubicBezTo>
                    <a:lnTo>
                      <a:pt x="6429" y="5"/>
                    </a:lnTo>
                    <a:cubicBezTo>
                      <a:pt x="6428" y="5"/>
                      <a:pt x="6427" y="4"/>
                      <a:pt x="6427" y="3"/>
                    </a:cubicBezTo>
                    <a:cubicBezTo>
                      <a:pt x="6427" y="2"/>
                      <a:pt x="6428" y="1"/>
                      <a:pt x="6429" y="1"/>
                    </a:cubicBezTo>
                    <a:close/>
                    <a:moveTo>
                      <a:pt x="6437" y="1"/>
                    </a:moveTo>
                    <a:lnTo>
                      <a:pt x="6437" y="1"/>
                    </a:lnTo>
                    <a:cubicBezTo>
                      <a:pt x="6438" y="1"/>
                      <a:pt x="6439" y="2"/>
                      <a:pt x="6439" y="3"/>
                    </a:cubicBezTo>
                    <a:cubicBezTo>
                      <a:pt x="6439" y="4"/>
                      <a:pt x="6438" y="5"/>
                      <a:pt x="6437" y="5"/>
                    </a:cubicBezTo>
                    <a:lnTo>
                      <a:pt x="6437" y="5"/>
                    </a:lnTo>
                    <a:cubicBezTo>
                      <a:pt x="6436" y="5"/>
                      <a:pt x="6435" y="4"/>
                      <a:pt x="6435" y="3"/>
                    </a:cubicBezTo>
                    <a:cubicBezTo>
                      <a:pt x="6435" y="2"/>
                      <a:pt x="6436" y="1"/>
                      <a:pt x="6437" y="1"/>
                    </a:cubicBezTo>
                    <a:close/>
                    <a:moveTo>
                      <a:pt x="6445" y="1"/>
                    </a:moveTo>
                    <a:lnTo>
                      <a:pt x="6445" y="1"/>
                    </a:lnTo>
                    <a:cubicBezTo>
                      <a:pt x="6446" y="1"/>
                      <a:pt x="6447" y="2"/>
                      <a:pt x="6447" y="3"/>
                    </a:cubicBezTo>
                    <a:cubicBezTo>
                      <a:pt x="6447" y="4"/>
                      <a:pt x="6446" y="5"/>
                      <a:pt x="6445" y="5"/>
                    </a:cubicBezTo>
                    <a:lnTo>
                      <a:pt x="6445" y="5"/>
                    </a:lnTo>
                    <a:cubicBezTo>
                      <a:pt x="6444" y="5"/>
                      <a:pt x="6443" y="4"/>
                      <a:pt x="6443" y="3"/>
                    </a:cubicBezTo>
                    <a:cubicBezTo>
                      <a:pt x="6443" y="2"/>
                      <a:pt x="6444" y="1"/>
                      <a:pt x="6445" y="1"/>
                    </a:cubicBezTo>
                    <a:close/>
                    <a:moveTo>
                      <a:pt x="6453" y="1"/>
                    </a:moveTo>
                    <a:lnTo>
                      <a:pt x="6453" y="1"/>
                    </a:lnTo>
                    <a:cubicBezTo>
                      <a:pt x="6454" y="1"/>
                      <a:pt x="6455" y="2"/>
                      <a:pt x="6455" y="3"/>
                    </a:cubicBezTo>
                    <a:cubicBezTo>
                      <a:pt x="6455" y="4"/>
                      <a:pt x="6454" y="5"/>
                      <a:pt x="6453" y="5"/>
                    </a:cubicBezTo>
                    <a:lnTo>
                      <a:pt x="6453" y="5"/>
                    </a:lnTo>
                    <a:cubicBezTo>
                      <a:pt x="6452" y="5"/>
                      <a:pt x="6451" y="4"/>
                      <a:pt x="6451" y="3"/>
                    </a:cubicBezTo>
                    <a:cubicBezTo>
                      <a:pt x="6451" y="2"/>
                      <a:pt x="6452" y="1"/>
                      <a:pt x="6453" y="1"/>
                    </a:cubicBezTo>
                    <a:close/>
                    <a:moveTo>
                      <a:pt x="6461" y="1"/>
                    </a:moveTo>
                    <a:lnTo>
                      <a:pt x="6461" y="1"/>
                    </a:lnTo>
                    <a:cubicBezTo>
                      <a:pt x="6462" y="1"/>
                      <a:pt x="6463" y="2"/>
                      <a:pt x="6463" y="3"/>
                    </a:cubicBezTo>
                    <a:cubicBezTo>
                      <a:pt x="6463" y="4"/>
                      <a:pt x="6462" y="5"/>
                      <a:pt x="6461" y="5"/>
                    </a:cubicBezTo>
                    <a:lnTo>
                      <a:pt x="6461" y="5"/>
                    </a:lnTo>
                    <a:cubicBezTo>
                      <a:pt x="6460" y="5"/>
                      <a:pt x="6459" y="4"/>
                      <a:pt x="6459" y="3"/>
                    </a:cubicBezTo>
                    <a:cubicBezTo>
                      <a:pt x="6459" y="2"/>
                      <a:pt x="6460" y="1"/>
                      <a:pt x="6461" y="1"/>
                    </a:cubicBezTo>
                    <a:close/>
                    <a:moveTo>
                      <a:pt x="6469" y="1"/>
                    </a:moveTo>
                    <a:lnTo>
                      <a:pt x="6469" y="1"/>
                    </a:lnTo>
                    <a:cubicBezTo>
                      <a:pt x="6470" y="1"/>
                      <a:pt x="6471" y="2"/>
                      <a:pt x="6471" y="3"/>
                    </a:cubicBezTo>
                    <a:cubicBezTo>
                      <a:pt x="6471" y="4"/>
                      <a:pt x="6470" y="5"/>
                      <a:pt x="6469" y="5"/>
                    </a:cubicBezTo>
                    <a:lnTo>
                      <a:pt x="6469" y="5"/>
                    </a:lnTo>
                    <a:cubicBezTo>
                      <a:pt x="6468" y="5"/>
                      <a:pt x="6467" y="4"/>
                      <a:pt x="6467" y="3"/>
                    </a:cubicBezTo>
                    <a:cubicBezTo>
                      <a:pt x="6467" y="2"/>
                      <a:pt x="6468" y="1"/>
                      <a:pt x="6469" y="1"/>
                    </a:cubicBezTo>
                    <a:close/>
                    <a:moveTo>
                      <a:pt x="6477" y="1"/>
                    </a:moveTo>
                    <a:lnTo>
                      <a:pt x="6477" y="1"/>
                    </a:lnTo>
                    <a:cubicBezTo>
                      <a:pt x="6478" y="1"/>
                      <a:pt x="6479" y="2"/>
                      <a:pt x="6479" y="3"/>
                    </a:cubicBezTo>
                    <a:cubicBezTo>
                      <a:pt x="6479" y="4"/>
                      <a:pt x="6478" y="5"/>
                      <a:pt x="6477" y="5"/>
                    </a:cubicBezTo>
                    <a:lnTo>
                      <a:pt x="6477" y="5"/>
                    </a:lnTo>
                    <a:cubicBezTo>
                      <a:pt x="6476" y="5"/>
                      <a:pt x="6475" y="4"/>
                      <a:pt x="6475" y="3"/>
                    </a:cubicBezTo>
                    <a:cubicBezTo>
                      <a:pt x="6475" y="2"/>
                      <a:pt x="6476" y="1"/>
                      <a:pt x="6477" y="1"/>
                    </a:cubicBezTo>
                    <a:close/>
                    <a:moveTo>
                      <a:pt x="6485" y="1"/>
                    </a:moveTo>
                    <a:lnTo>
                      <a:pt x="6485" y="1"/>
                    </a:lnTo>
                    <a:cubicBezTo>
                      <a:pt x="6486" y="1"/>
                      <a:pt x="6487" y="2"/>
                      <a:pt x="6487" y="3"/>
                    </a:cubicBezTo>
                    <a:cubicBezTo>
                      <a:pt x="6487" y="4"/>
                      <a:pt x="6486" y="5"/>
                      <a:pt x="6485" y="5"/>
                    </a:cubicBezTo>
                    <a:lnTo>
                      <a:pt x="6485" y="5"/>
                    </a:lnTo>
                    <a:cubicBezTo>
                      <a:pt x="6484" y="5"/>
                      <a:pt x="6483" y="4"/>
                      <a:pt x="6483" y="3"/>
                    </a:cubicBezTo>
                    <a:cubicBezTo>
                      <a:pt x="6483" y="2"/>
                      <a:pt x="6484" y="1"/>
                      <a:pt x="6485" y="1"/>
                    </a:cubicBezTo>
                    <a:close/>
                    <a:moveTo>
                      <a:pt x="6493" y="1"/>
                    </a:moveTo>
                    <a:lnTo>
                      <a:pt x="6493" y="1"/>
                    </a:lnTo>
                    <a:cubicBezTo>
                      <a:pt x="6494" y="1"/>
                      <a:pt x="6495" y="2"/>
                      <a:pt x="6495" y="3"/>
                    </a:cubicBezTo>
                    <a:cubicBezTo>
                      <a:pt x="6495" y="4"/>
                      <a:pt x="6494" y="5"/>
                      <a:pt x="6493" y="5"/>
                    </a:cubicBezTo>
                    <a:lnTo>
                      <a:pt x="6493" y="5"/>
                    </a:lnTo>
                    <a:cubicBezTo>
                      <a:pt x="6492" y="5"/>
                      <a:pt x="6491" y="4"/>
                      <a:pt x="6491" y="3"/>
                    </a:cubicBezTo>
                    <a:cubicBezTo>
                      <a:pt x="6491" y="2"/>
                      <a:pt x="6492" y="1"/>
                      <a:pt x="6493" y="1"/>
                    </a:cubicBezTo>
                    <a:close/>
                    <a:moveTo>
                      <a:pt x="6501" y="1"/>
                    </a:moveTo>
                    <a:lnTo>
                      <a:pt x="6501" y="1"/>
                    </a:lnTo>
                    <a:cubicBezTo>
                      <a:pt x="6502" y="1"/>
                      <a:pt x="6503" y="2"/>
                      <a:pt x="6503" y="3"/>
                    </a:cubicBezTo>
                    <a:cubicBezTo>
                      <a:pt x="6503" y="4"/>
                      <a:pt x="6502" y="5"/>
                      <a:pt x="6501" y="5"/>
                    </a:cubicBezTo>
                    <a:lnTo>
                      <a:pt x="6501" y="5"/>
                    </a:lnTo>
                    <a:cubicBezTo>
                      <a:pt x="6500" y="5"/>
                      <a:pt x="6499" y="4"/>
                      <a:pt x="6499" y="3"/>
                    </a:cubicBezTo>
                    <a:cubicBezTo>
                      <a:pt x="6499" y="2"/>
                      <a:pt x="6500" y="1"/>
                      <a:pt x="6501" y="1"/>
                    </a:cubicBezTo>
                    <a:close/>
                    <a:moveTo>
                      <a:pt x="6509" y="1"/>
                    </a:moveTo>
                    <a:lnTo>
                      <a:pt x="6509" y="1"/>
                    </a:lnTo>
                    <a:cubicBezTo>
                      <a:pt x="6510" y="1"/>
                      <a:pt x="6511" y="2"/>
                      <a:pt x="6511" y="3"/>
                    </a:cubicBezTo>
                    <a:cubicBezTo>
                      <a:pt x="6511" y="4"/>
                      <a:pt x="6510" y="5"/>
                      <a:pt x="6509" y="5"/>
                    </a:cubicBezTo>
                    <a:lnTo>
                      <a:pt x="6509" y="5"/>
                    </a:lnTo>
                    <a:cubicBezTo>
                      <a:pt x="6508" y="5"/>
                      <a:pt x="6507" y="4"/>
                      <a:pt x="6507" y="3"/>
                    </a:cubicBezTo>
                    <a:cubicBezTo>
                      <a:pt x="6507" y="2"/>
                      <a:pt x="6508" y="1"/>
                      <a:pt x="6509" y="1"/>
                    </a:cubicBezTo>
                    <a:close/>
                    <a:moveTo>
                      <a:pt x="6517" y="1"/>
                    </a:moveTo>
                    <a:lnTo>
                      <a:pt x="6517" y="1"/>
                    </a:lnTo>
                    <a:cubicBezTo>
                      <a:pt x="6518" y="1"/>
                      <a:pt x="6519" y="2"/>
                      <a:pt x="6519" y="3"/>
                    </a:cubicBezTo>
                    <a:cubicBezTo>
                      <a:pt x="6519" y="4"/>
                      <a:pt x="6518" y="5"/>
                      <a:pt x="6517" y="5"/>
                    </a:cubicBezTo>
                    <a:lnTo>
                      <a:pt x="6517" y="5"/>
                    </a:lnTo>
                    <a:cubicBezTo>
                      <a:pt x="6516" y="5"/>
                      <a:pt x="6515" y="4"/>
                      <a:pt x="6515" y="3"/>
                    </a:cubicBezTo>
                    <a:cubicBezTo>
                      <a:pt x="6515" y="2"/>
                      <a:pt x="6516" y="1"/>
                      <a:pt x="6517" y="1"/>
                    </a:cubicBezTo>
                    <a:close/>
                    <a:moveTo>
                      <a:pt x="6525" y="1"/>
                    </a:moveTo>
                    <a:lnTo>
                      <a:pt x="6525" y="1"/>
                    </a:lnTo>
                    <a:cubicBezTo>
                      <a:pt x="6526" y="1"/>
                      <a:pt x="6527" y="2"/>
                      <a:pt x="6527" y="3"/>
                    </a:cubicBezTo>
                    <a:cubicBezTo>
                      <a:pt x="6527" y="4"/>
                      <a:pt x="6526" y="5"/>
                      <a:pt x="6525" y="5"/>
                    </a:cubicBezTo>
                    <a:lnTo>
                      <a:pt x="6525" y="5"/>
                    </a:lnTo>
                    <a:cubicBezTo>
                      <a:pt x="6524" y="5"/>
                      <a:pt x="6523" y="4"/>
                      <a:pt x="6523" y="3"/>
                    </a:cubicBezTo>
                    <a:cubicBezTo>
                      <a:pt x="6523" y="2"/>
                      <a:pt x="6524" y="1"/>
                      <a:pt x="6525" y="1"/>
                    </a:cubicBezTo>
                    <a:close/>
                    <a:moveTo>
                      <a:pt x="6533" y="1"/>
                    </a:moveTo>
                    <a:lnTo>
                      <a:pt x="6533" y="1"/>
                    </a:lnTo>
                    <a:cubicBezTo>
                      <a:pt x="6534" y="1"/>
                      <a:pt x="6535" y="2"/>
                      <a:pt x="6535" y="3"/>
                    </a:cubicBezTo>
                    <a:cubicBezTo>
                      <a:pt x="6535" y="4"/>
                      <a:pt x="6534" y="5"/>
                      <a:pt x="6533" y="5"/>
                    </a:cubicBezTo>
                    <a:lnTo>
                      <a:pt x="6533" y="5"/>
                    </a:lnTo>
                    <a:cubicBezTo>
                      <a:pt x="6532" y="5"/>
                      <a:pt x="6531" y="4"/>
                      <a:pt x="6531" y="3"/>
                    </a:cubicBezTo>
                    <a:cubicBezTo>
                      <a:pt x="6531" y="2"/>
                      <a:pt x="6532" y="1"/>
                      <a:pt x="6533" y="1"/>
                    </a:cubicBezTo>
                    <a:close/>
                    <a:moveTo>
                      <a:pt x="6541" y="1"/>
                    </a:moveTo>
                    <a:lnTo>
                      <a:pt x="6541" y="1"/>
                    </a:lnTo>
                    <a:cubicBezTo>
                      <a:pt x="6542" y="1"/>
                      <a:pt x="6543" y="2"/>
                      <a:pt x="6543" y="3"/>
                    </a:cubicBezTo>
                    <a:cubicBezTo>
                      <a:pt x="6543" y="4"/>
                      <a:pt x="6542" y="5"/>
                      <a:pt x="6541" y="5"/>
                    </a:cubicBezTo>
                    <a:lnTo>
                      <a:pt x="6541" y="5"/>
                    </a:lnTo>
                    <a:cubicBezTo>
                      <a:pt x="6540" y="5"/>
                      <a:pt x="6539" y="4"/>
                      <a:pt x="6539" y="3"/>
                    </a:cubicBezTo>
                    <a:cubicBezTo>
                      <a:pt x="6539" y="2"/>
                      <a:pt x="6540" y="1"/>
                      <a:pt x="6541" y="1"/>
                    </a:cubicBezTo>
                    <a:close/>
                    <a:moveTo>
                      <a:pt x="6549" y="1"/>
                    </a:moveTo>
                    <a:lnTo>
                      <a:pt x="6549" y="1"/>
                    </a:lnTo>
                    <a:cubicBezTo>
                      <a:pt x="6550" y="1"/>
                      <a:pt x="6551" y="2"/>
                      <a:pt x="6551" y="3"/>
                    </a:cubicBezTo>
                    <a:cubicBezTo>
                      <a:pt x="6551" y="4"/>
                      <a:pt x="6550" y="5"/>
                      <a:pt x="6549" y="5"/>
                    </a:cubicBezTo>
                    <a:lnTo>
                      <a:pt x="6549" y="5"/>
                    </a:lnTo>
                    <a:cubicBezTo>
                      <a:pt x="6548" y="5"/>
                      <a:pt x="6547" y="4"/>
                      <a:pt x="6547" y="3"/>
                    </a:cubicBezTo>
                    <a:cubicBezTo>
                      <a:pt x="6547" y="2"/>
                      <a:pt x="6548" y="1"/>
                      <a:pt x="6549" y="1"/>
                    </a:cubicBezTo>
                    <a:close/>
                    <a:moveTo>
                      <a:pt x="6557" y="1"/>
                    </a:moveTo>
                    <a:lnTo>
                      <a:pt x="6557" y="1"/>
                    </a:lnTo>
                    <a:cubicBezTo>
                      <a:pt x="6558" y="1"/>
                      <a:pt x="6559" y="2"/>
                      <a:pt x="6559" y="3"/>
                    </a:cubicBezTo>
                    <a:cubicBezTo>
                      <a:pt x="6559" y="4"/>
                      <a:pt x="6558" y="5"/>
                      <a:pt x="6557" y="5"/>
                    </a:cubicBezTo>
                    <a:lnTo>
                      <a:pt x="6557" y="5"/>
                    </a:lnTo>
                    <a:cubicBezTo>
                      <a:pt x="6556" y="5"/>
                      <a:pt x="6555" y="4"/>
                      <a:pt x="6555" y="3"/>
                    </a:cubicBezTo>
                    <a:cubicBezTo>
                      <a:pt x="6555" y="2"/>
                      <a:pt x="6556" y="1"/>
                      <a:pt x="6557" y="1"/>
                    </a:cubicBezTo>
                    <a:close/>
                    <a:moveTo>
                      <a:pt x="6565" y="1"/>
                    </a:moveTo>
                    <a:lnTo>
                      <a:pt x="6565" y="1"/>
                    </a:lnTo>
                    <a:cubicBezTo>
                      <a:pt x="6566" y="1"/>
                      <a:pt x="6567" y="2"/>
                      <a:pt x="6567" y="3"/>
                    </a:cubicBezTo>
                    <a:cubicBezTo>
                      <a:pt x="6567" y="4"/>
                      <a:pt x="6566" y="5"/>
                      <a:pt x="6565" y="5"/>
                    </a:cubicBezTo>
                    <a:lnTo>
                      <a:pt x="6565" y="5"/>
                    </a:lnTo>
                    <a:cubicBezTo>
                      <a:pt x="6564" y="5"/>
                      <a:pt x="6563" y="4"/>
                      <a:pt x="6563" y="3"/>
                    </a:cubicBezTo>
                    <a:cubicBezTo>
                      <a:pt x="6563" y="2"/>
                      <a:pt x="6564" y="1"/>
                      <a:pt x="6565" y="1"/>
                    </a:cubicBezTo>
                    <a:close/>
                    <a:moveTo>
                      <a:pt x="6573" y="1"/>
                    </a:moveTo>
                    <a:lnTo>
                      <a:pt x="6573" y="1"/>
                    </a:lnTo>
                    <a:cubicBezTo>
                      <a:pt x="6574" y="1"/>
                      <a:pt x="6575" y="2"/>
                      <a:pt x="6575" y="3"/>
                    </a:cubicBezTo>
                    <a:cubicBezTo>
                      <a:pt x="6575" y="4"/>
                      <a:pt x="6574" y="5"/>
                      <a:pt x="6573" y="5"/>
                    </a:cubicBezTo>
                    <a:lnTo>
                      <a:pt x="6573" y="5"/>
                    </a:lnTo>
                    <a:cubicBezTo>
                      <a:pt x="6572" y="5"/>
                      <a:pt x="6571" y="4"/>
                      <a:pt x="6571" y="3"/>
                    </a:cubicBezTo>
                    <a:cubicBezTo>
                      <a:pt x="6571" y="2"/>
                      <a:pt x="6572" y="1"/>
                      <a:pt x="6573" y="1"/>
                    </a:cubicBezTo>
                    <a:close/>
                    <a:moveTo>
                      <a:pt x="6581" y="1"/>
                    </a:moveTo>
                    <a:lnTo>
                      <a:pt x="6581" y="1"/>
                    </a:lnTo>
                    <a:cubicBezTo>
                      <a:pt x="6582" y="1"/>
                      <a:pt x="6583" y="2"/>
                      <a:pt x="6583" y="3"/>
                    </a:cubicBezTo>
                    <a:cubicBezTo>
                      <a:pt x="6583" y="4"/>
                      <a:pt x="6582" y="5"/>
                      <a:pt x="6581" y="5"/>
                    </a:cubicBezTo>
                    <a:lnTo>
                      <a:pt x="6581" y="5"/>
                    </a:lnTo>
                    <a:cubicBezTo>
                      <a:pt x="6580" y="5"/>
                      <a:pt x="6579" y="4"/>
                      <a:pt x="6579" y="3"/>
                    </a:cubicBezTo>
                    <a:cubicBezTo>
                      <a:pt x="6579" y="2"/>
                      <a:pt x="6580" y="1"/>
                      <a:pt x="6581" y="1"/>
                    </a:cubicBezTo>
                    <a:close/>
                    <a:moveTo>
                      <a:pt x="6589" y="1"/>
                    </a:moveTo>
                    <a:lnTo>
                      <a:pt x="6589" y="1"/>
                    </a:lnTo>
                    <a:cubicBezTo>
                      <a:pt x="6590" y="1"/>
                      <a:pt x="6591" y="2"/>
                      <a:pt x="6591" y="3"/>
                    </a:cubicBezTo>
                    <a:cubicBezTo>
                      <a:pt x="6591" y="4"/>
                      <a:pt x="6590" y="5"/>
                      <a:pt x="6589" y="5"/>
                    </a:cubicBezTo>
                    <a:lnTo>
                      <a:pt x="6589" y="5"/>
                    </a:lnTo>
                    <a:cubicBezTo>
                      <a:pt x="6588" y="5"/>
                      <a:pt x="6587" y="4"/>
                      <a:pt x="6587" y="3"/>
                    </a:cubicBezTo>
                    <a:cubicBezTo>
                      <a:pt x="6587" y="2"/>
                      <a:pt x="6588" y="1"/>
                      <a:pt x="6589" y="1"/>
                    </a:cubicBezTo>
                    <a:close/>
                    <a:moveTo>
                      <a:pt x="6597" y="1"/>
                    </a:moveTo>
                    <a:lnTo>
                      <a:pt x="6597" y="1"/>
                    </a:lnTo>
                    <a:cubicBezTo>
                      <a:pt x="6598" y="1"/>
                      <a:pt x="6599" y="2"/>
                      <a:pt x="6599" y="3"/>
                    </a:cubicBezTo>
                    <a:cubicBezTo>
                      <a:pt x="6599" y="4"/>
                      <a:pt x="6598" y="5"/>
                      <a:pt x="6597" y="5"/>
                    </a:cubicBezTo>
                    <a:lnTo>
                      <a:pt x="6597" y="5"/>
                    </a:lnTo>
                    <a:cubicBezTo>
                      <a:pt x="6596" y="5"/>
                      <a:pt x="6595" y="4"/>
                      <a:pt x="6595" y="3"/>
                    </a:cubicBezTo>
                    <a:cubicBezTo>
                      <a:pt x="6595" y="2"/>
                      <a:pt x="6596" y="1"/>
                      <a:pt x="6597" y="1"/>
                    </a:cubicBezTo>
                    <a:close/>
                    <a:moveTo>
                      <a:pt x="6605" y="1"/>
                    </a:moveTo>
                    <a:lnTo>
                      <a:pt x="6605" y="1"/>
                    </a:lnTo>
                    <a:cubicBezTo>
                      <a:pt x="6606" y="1"/>
                      <a:pt x="6607" y="2"/>
                      <a:pt x="6607" y="3"/>
                    </a:cubicBezTo>
                    <a:cubicBezTo>
                      <a:pt x="6607" y="4"/>
                      <a:pt x="6606" y="5"/>
                      <a:pt x="6605" y="5"/>
                    </a:cubicBezTo>
                    <a:lnTo>
                      <a:pt x="6605" y="5"/>
                    </a:lnTo>
                    <a:cubicBezTo>
                      <a:pt x="6604" y="5"/>
                      <a:pt x="6603" y="4"/>
                      <a:pt x="6603" y="3"/>
                    </a:cubicBezTo>
                    <a:cubicBezTo>
                      <a:pt x="6603" y="2"/>
                      <a:pt x="6604" y="1"/>
                      <a:pt x="6605" y="1"/>
                    </a:cubicBezTo>
                    <a:close/>
                    <a:moveTo>
                      <a:pt x="6613" y="1"/>
                    </a:moveTo>
                    <a:lnTo>
                      <a:pt x="6613" y="1"/>
                    </a:lnTo>
                    <a:cubicBezTo>
                      <a:pt x="6614" y="1"/>
                      <a:pt x="6615" y="2"/>
                      <a:pt x="6615" y="3"/>
                    </a:cubicBezTo>
                    <a:cubicBezTo>
                      <a:pt x="6615" y="5"/>
                      <a:pt x="6614" y="5"/>
                      <a:pt x="6613" y="5"/>
                    </a:cubicBezTo>
                    <a:lnTo>
                      <a:pt x="6613" y="5"/>
                    </a:lnTo>
                    <a:cubicBezTo>
                      <a:pt x="6612" y="5"/>
                      <a:pt x="6611" y="5"/>
                      <a:pt x="6611" y="3"/>
                    </a:cubicBezTo>
                    <a:cubicBezTo>
                      <a:pt x="6611" y="2"/>
                      <a:pt x="6612" y="1"/>
                      <a:pt x="6613" y="1"/>
                    </a:cubicBezTo>
                    <a:close/>
                    <a:moveTo>
                      <a:pt x="6621" y="1"/>
                    </a:moveTo>
                    <a:lnTo>
                      <a:pt x="6621" y="1"/>
                    </a:lnTo>
                    <a:cubicBezTo>
                      <a:pt x="6622" y="1"/>
                      <a:pt x="6623" y="2"/>
                      <a:pt x="6623" y="3"/>
                    </a:cubicBezTo>
                    <a:cubicBezTo>
                      <a:pt x="6623" y="5"/>
                      <a:pt x="6622" y="5"/>
                      <a:pt x="6621" y="5"/>
                    </a:cubicBezTo>
                    <a:lnTo>
                      <a:pt x="6621" y="5"/>
                    </a:lnTo>
                    <a:cubicBezTo>
                      <a:pt x="6620" y="5"/>
                      <a:pt x="6619" y="5"/>
                      <a:pt x="6619" y="3"/>
                    </a:cubicBezTo>
                    <a:cubicBezTo>
                      <a:pt x="6619" y="2"/>
                      <a:pt x="6620" y="1"/>
                      <a:pt x="6621" y="1"/>
                    </a:cubicBezTo>
                    <a:close/>
                    <a:moveTo>
                      <a:pt x="6629" y="1"/>
                    </a:moveTo>
                    <a:lnTo>
                      <a:pt x="6629" y="1"/>
                    </a:lnTo>
                    <a:cubicBezTo>
                      <a:pt x="6630" y="1"/>
                      <a:pt x="6631" y="2"/>
                      <a:pt x="6631" y="3"/>
                    </a:cubicBezTo>
                    <a:cubicBezTo>
                      <a:pt x="6631" y="5"/>
                      <a:pt x="6630" y="5"/>
                      <a:pt x="6629" y="5"/>
                    </a:cubicBezTo>
                    <a:lnTo>
                      <a:pt x="6629" y="5"/>
                    </a:lnTo>
                    <a:cubicBezTo>
                      <a:pt x="6628" y="5"/>
                      <a:pt x="6627" y="5"/>
                      <a:pt x="6627" y="3"/>
                    </a:cubicBezTo>
                    <a:cubicBezTo>
                      <a:pt x="6627" y="2"/>
                      <a:pt x="6628" y="1"/>
                      <a:pt x="6629" y="1"/>
                    </a:cubicBezTo>
                    <a:close/>
                    <a:moveTo>
                      <a:pt x="6637" y="1"/>
                    </a:moveTo>
                    <a:lnTo>
                      <a:pt x="6637" y="1"/>
                    </a:lnTo>
                    <a:cubicBezTo>
                      <a:pt x="6638" y="1"/>
                      <a:pt x="6639" y="2"/>
                      <a:pt x="6639" y="3"/>
                    </a:cubicBezTo>
                    <a:cubicBezTo>
                      <a:pt x="6639" y="5"/>
                      <a:pt x="6638" y="5"/>
                      <a:pt x="6637" y="5"/>
                    </a:cubicBezTo>
                    <a:lnTo>
                      <a:pt x="6637" y="5"/>
                    </a:lnTo>
                    <a:cubicBezTo>
                      <a:pt x="6636" y="5"/>
                      <a:pt x="6635" y="5"/>
                      <a:pt x="6635" y="3"/>
                    </a:cubicBezTo>
                    <a:cubicBezTo>
                      <a:pt x="6635" y="2"/>
                      <a:pt x="6636" y="1"/>
                      <a:pt x="6637" y="1"/>
                    </a:cubicBezTo>
                    <a:close/>
                    <a:moveTo>
                      <a:pt x="6645" y="1"/>
                    </a:moveTo>
                    <a:lnTo>
                      <a:pt x="6645" y="1"/>
                    </a:lnTo>
                    <a:cubicBezTo>
                      <a:pt x="6646" y="1"/>
                      <a:pt x="6647" y="2"/>
                      <a:pt x="6647" y="3"/>
                    </a:cubicBezTo>
                    <a:cubicBezTo>
                      <a:pt x="6647" y="5"/>
                      <a:pt x="6646" y="5"/>
                      <a:pt x="6645" y="5"/>
                    </a:cubicBezTo>
                    <a:lnTo>
                      <a:pt x="6645" y="5"/>
                    </a:lnTo>
                    <a:cubicBezTo>
                      <a:pt x="6644" y="5"/>
                      <a:pt x="6643" y="5"/>
                      <a:pt x="6643" y="3"/>
                    </a:cubicBezTo>
                    <a:cubicBezTo>
                      <a:pt x="6643" y="2"/>
                      <a:pt x="6644" y="1"/>
                      <a:pt x="6645" y="1"/>
                    </a:cubicBezTo>
                    <a:close/>
                    <a:moveTo>
                      <a:pt x="6653" y="1"/>
                    </a:moveTo>
                    <a:lnTo>
                      <a:pt x="6653" y="1"/>
                    </a:lnTo>
                    <a:cubicBezTo>
                      <a:pt x="6654" y="1"/>
                      <a:pt x="6655" y="2"/>
                      <a:pt x="6655" y="3"/>
                    </a:cubicBezTo>
                    <a:cubicBezTo>
                      <a:pt x="6655" y="5"/>
                      <a:pt x="6654" y="5"/>
                      <a:pt x="6653" y="5"/>
                    </a:cubicBezTo>
                    <a:lnTo>
                      <a:pt x="6653" y="5"/>
                    </a:lnTo>
                    <a:cubicBezTo>
                      <a:pt x="6652" y="5"/>
                      <a:pt x="6651" y="5"/>
                      <a:pt x="6651" y="3"/>
                    </a:cubicBezTo>
                    <a:cubicBezTo>
                      <a:pt x="6651" y="2"/>
                      <a:pt x="6652" y="1"/>
                      <a:pt x="6653" y="1"/>
                    </a:cubicBezTo>
                    <a:close/>
                    <a:moveTo>
                      <a:pt x="6661" y="1"/>
                    </a:moveTo>
                    <a:lnTo>
                      <a:pt x="6661" y="1"/>
                    </a:lnTo>
                    <a:cubicBezTo>
                      <a:pt x="6662" y="1"/>
                      <a:pt x="6663" y="2"/>
                      <a:pt x="6663" y="3"/>
                    </a:cubicBezTo>
                    <a:cubicBezTo>
                      <a:pt x="6663" y="5"/>
                      <a:pt x="6662" y="5"/>
                      <a:pt x="6661" y="5"/>
                    </a:cubicBezTo>
                    <a:lnTo>
                      <a:pt x="6661" y="5"/>
                    </a:lnTo>
                    <a:cubicBezTo>
                      <a:pt x="6660" y="5"/>
                      <a:pt x="6659" y="5"/>
                      <a:pt x="6659" y="3"/>
                    </a:cubicBezTo>
                    <a:cubicBezTo>
                      <a:pt x="6659" y="2"/>
                      <a:pt x="6660" y="1"/>
                      <a:pt x="6661" y="1"/>
                    </a:cubicBezTo>
                    <a:close/>
                    <a:moveTo>
                      <a:pt x="6669" y="1"/>
                    </a:moveTo>
                    <a:lnTo>
                      <a:pt x="6669" y="1"/>
                    </a:lnTo>
                    <a:cubicBezTo>
                      <a:pt x="6670" y="1"/>
                      <a:pt x="6671" y="2"/>
                      <a:pt x="6671" y="3"/>
                    </a:cubicBezTo>
                    <a:cubicBezTo>
                      <a:pt x="6671" y="5"/>
                      <a:pt x="6670" y="5"/>
                      <a:pt x="6669" y="5"/>
                    </a:cubicBezTo>
                    <a:lnTo>
                      <a:pt x="6669" y="5"/>
                    </a:lnTo>
                    <a:cubicBezTo>
                      <a:pt x="6668" y="5"/>
                      <a:pt x="6667" y="5"/>
                      <a:pt x="6667" y="3"/>
                    </a:cubicBezTo>
                    <a:cubicBezTo>
                      <a:pt x="6667" y="2"/>
                      <a:pt x="6668" y="1"/>
                      <a:pt x="6669" y="1"/>
                    </a:cubicBezTo>
                    <a:close/>
                    <a:moveTo>
                      <a:pt x="6677" y="1"/>
                    </a:moveTo>
                    <a:lnTo>
                      <a:pt x="6677" y="1"/>
                    </a:lnTo>
                    <a:cubicBezTo>
                      <a:pt x="6678" y="1"/>
                      <a:pt x="6679" y="2"/>
                      <a:pt x="6679" y="3"/>
                    </a:cubicBezTo>
                    <a:cubicBezTo>
                      <a:pt x="6679" y="5"/>
                      <a:pt x="6678" y="5"/>
                      <a:pt x="6677" y="5"/>
                    </a:cubicBezTo>
                    <a:lnTo>
                      <a:pt x="6677" y="5"/>
                    </a:lnTo>
                    <a:cubicBezTo>
                      <a:pt x="6676" y="5"/>
                      <a:pt x="6675" y="5"/>
                      <a:pt x="6675" y="3"/>
                    </a:cubicBezTo>
                    <a:cubicBezTo>
                      <a:pt x="6675" y="2"/>
                      <a:pt x="6676" y="1"/>
                      <a:pt x="6677" y="1"/>
                    </a:cubicBezTo>
                    <a:close/>
                    <a:moveTo>
                      <a:pt x="6685" y="1"/>
                    </a:moveTo>
                    <a:lnTo>
                      <a:pt x="6685" y="1"/>
                    </a:lnTo>
                    <a:cubicBezTo>
                      <a:pt x="6686" y="1"/>
                      <a:pt x="6687" y="2"/>
                      <a:pt x="6687" y="3"/>
                    </a:cubicBezTo>
                    <a:cubicBezTo>
                      <a:pt x="6687" y="5"/>
                      <a:pt x="6686" y="5"/>
                      <a:pt x="6685" y="5"/>
                    </a:cubicBezTo>
                    <a:lnTo>
                      <a:pt x="6685" y="5"/>
                    </a:lnTo>
                    <a:cubicBezTo>
                      <a:pt x="6684" y="5"/>
                      <a:pt x="6683" y="5"/>
                      <a:pt x="6683" y="3"/>
                    </a:cubicBezTo>
                    <a:cubicBezTo>
                      <a:pt x="6683" y="2"/>
                      <a:pt x="6684" y="1"/>
                      <a:pt x="6685" y="1"/>
                    </a:cubicBezTo>
                    <a:close/>
                    <a:moveTo>
                      <a:pt x="6693" y="1"/>
                    </a:moveTo>
                    <a:lnTo>
                      <a:pt x="6693" y="1"/>
                    </a:lnTo>
                    <a:cubicBezTo>
                      <a:pt x="6694" y="1"/>
                      <a:pt x="6695" y="2"/>
                      <a:pt x="6695" y="3"/>
                    </a:cubicBezTo>
                    <a:cubicBezTo>
                      <a:pt x="6695" y="5"/>
                      <a:pt x="6694" y="5"/>
                      <a:pt x="6693" y="5"/>
                    </a:cubicBezTo>
                    <a:lnTo>
                      <a:pt x="6693" y="5"/>
                    </a:lnTo>
                    <a:cubicBezTo>
                      <a:pt x="6692" y="5"/>
                      <a:pt x="6691" y="5"/>
                      <a:pt x="6691" y="3"/>
                    </a:cubicBezTo>
                    <a:cubicBezTo>
                      <a:pt x="6691" y="2"/>
                      <a:pt x="6692" y="1"/>
                      <a:pt x="6693" y="1"/>
                    </a:cubicBezTo>
                    <a:close/>
                    <a:moveTo>
                      <a:pt x="6701" y="1"/>
                    </a:moveTo>
                    <a:lnTo>
                      <a:pt x="6701" y="1"/>
                    </a:lnTo>
                    <a:cubicBezTo>
                      <a:pt x="6702" y="1"/>
                      <a:pt x="6703" y="2"/>
                      <a:pt x="6703" y="3"/>
                    </a:cubicBezTo>
                    <a:cubicBezTo>
                      <a:pt x="6703" y="5"/>
                      <a:pt x="6702" y="5"/>
                      <a:pt x="6701" y="5"/>
                    </a:cubicBezTo>
                    <a:lnTo>
                      <a:pt x="6701" y="5"/>
                    </a:lnTo>
                    <a:cubicBezTo>
                      <a:pt x="6700" y="5"/>
                      <a:pt x="6699" y="5"/>
                      <a:pt x="6699" y="3"/>
                    </a:cubicBezTo>
                    <a:cubicBezTo>
                      <a:pt x="6699" y="2"/>
                      <a:pt x="6700" y="1"/>
                      <a:pt x="6701" y="1"/>
                    </a:cubicBezTo>
                    <a:close/>
                    <a:moveTo>
                      <a:pt x="6709" y="1"/>
                    </a:moveTo>
                    <a:lnTo>
                      <a:pt x="6709" y="1"/>
                    </a:lnTo>
                    <a:cubicBezTo>
                      <a:pt x="6710" y="1"/>
                      <a:pt x="6711" y="2"/>
                      <a:pt x="6711" y="3"/>
                    </a:cubicBezTo>
                    <a:cubicBezTo>
                      <a:pt x="6711" y="5"/>
                      <a:pt x="6710" y="5"/>
                      <a:pt x="6709" y="5"/>
                    </a:cubicBezTo>
                    <a:lnTo>
                      <a:pt x="6709" y="5"/>
                    </a:lnTo>
                    <a:cubicBezTo>
                      <a:pt x="6708" y="5"/>
                      <a:pt x="6707" y="5"/>
                      <a:pt x="6707" y="3"/>
                    </a:cubicBezTo>
                    <a:cubicBezTo>
                      <a:pt x="6707" y="2"/>
                      <a:pt x="6708" y="1"/>
                      <a:pt x="6709" y="1"/>
                    </a:cubicBezTo>
                    <a:close/>
                    <a:moveTo>
                      <a:pt x="6717" y="1"/>
                    </a:moveTo>
                    <a:lnTo>
                      <a:pt x="6717" y="1"/>
                    </a:lnTo>
                    <a:cubicBezTo>
                      <a:pt x="6718" y="1"/>
                      <a:pt x="6719" y="2"/>
                      <a:pt x="6719" y="3"/>
                    </a:cubicBezTo>
                    <a:cubicBezTo>
                      <a:pt x="6719" y="5"/>
                      <a:pt x="6718" y="5"/>
                      <a:pt x="6717" y="5"/>
                    </a:cubicBezTo>
                    <a:lnTo>
                      <a:pt x="6717" y="5"/>
                    </a:lnTo>
                    <a:cubicBezTo>
                      <a:pt x="6716" y="5"/>
                      <a:pt x="6715" y="5"/>
                      <a:pt x="6715" y="3"/>
                    </a:cubicBezTo>
                    <a:cubicBezTo>
                      <a:pt x="6715" y="2"/>
                      <a:pt x="6716" y="1"/>
                      <a:pt x="6717" y="1"/>
                    </a:cubicBezTo>
                    <a:close/>
                    <a:moveTo>
                      <a:pt x="6725" y="1"/>
                    </a:moveTo>
                    <a:lnTo>
                      <a:pt x="6725" y="1"/>
                    </a:lnTo>
                    <a:cubicBezTo>
                      <a:pt x="6726" y="1"/>
                      <a:pt x="6727" y="2"/>
                      <a:pt x="6727" y="3"/>
                    </a:cubicBezTo>
                    <a:cubicBezTo>
                      <a:pt x="6727" y="5"/>
                      <a:pt x="6726" y="5"/>
                      <a:pt x="6725" y="5"/>
                    </a:cubicBezTo>
                    <a:lnTo>
                      <a:pt x="6725" y="5"/>
                    </a:lnTo>
                    <a:cubicBezTo>
                      <a:pt x="6724" y="5"/>
                      <a:pt x="6723" y="5"/>
                      <a:pt x="6723" y="3"/>
                    </a:cubicBezTo>
                    <a:cubicBezTo>
                      <a:pt x="6723" y="2"/>
                      <a:pt x="6724" y="1"/>
                      <a:pt x="6725" y="1"/>
                    </a:cubicBezTo>
                    <a:close/>
                    <a:moveTo>
                      <a:pt x="6733" y="1"/>
                    </a:moveTo>
                    <a:lnTo>
                      <a:pt x="6733" y="1"/>
                    </a:lnTo>
                    <a:cubicBezTo>
                      <a:pt x="6734" y="1"/>
                      <a:pt x="6735" y="2"/>
                      <a:pt x="6735" y="3"/>
                    </a:cubicBezTo>
                    <a:cubicBezTo>
                      <a:pt x="6735" y="5"/>
                      <a:pt x="6734" y="5"/>
                      <a:pt x="6733" y="5"/>
                    </a:cubicBezTo>
                    <a:lnTo>
                      <a:pt x="6733" y="5"/>
                    </a:lnTo>
                    <a:cubicBezTo>
                      <a:pt x="6732" y="5"/>
                      <a:pt x="6731" y="5"/>
                      <a:pt x="6731" y="3"/>
                    </a:cubicBezTo>
                    <a:cubicBezTo>
                      <a:pt x="6731" y="2"/>
                      <a:pt x="6732" y="1"/>
                      <a:pt x="6733" y="1"/>
                    </a:cubicBezTo>
                    <a:close/>
                    <a:moveTo>
                      <a:pt x="6741" y="1"/>
                    </a:moveTo>
                    <a:lnTo>
                      <a:pt x="6741" y="1"/>
                    </a:lnTo>
                    <a:cubicBezTo>
                      <a:pt x="6742" y="1"/>
                      <a:pt x="6743" y="2"/>
                      <a:pt x="6743" y="3"/>
                    </a:cubicBezTo>
                    <a:cubicBezTo>
                      <a:pt x="6743" y="5"/>
                      <a:pt x="6742" y="5"/>
                      <a:pt x="6741" y="5"/>
                    </a:cubicBezTo>
                    <a:lnTo>
                      <a:pt x="6741" y="5"/>
                    </a:lnTo>
                    <a:cubicBezTo>
                      <a:pt x="6740" y="5"/>
                      <a:pt x="6739" y="5"/>
                      <a:pt x="6739" y="3"/>
                    </a:cubicBezTo>
                    <a:cubicBezTo>
                      <a:pt x="6739" y="2"/>
                      <a:pt x="6740" y="1"/>
                      <a:pt x="6741" y="1"/>
                    </a:cubicBezTo>
                    <a:close/>
                    <a:moveTo>
                      <a:pt x="6749" y="1"/>
                    </a:moveTo>
                    <a:lnTo>
                      <a:pt x="6749" y="1"/>
                    </a:lnTo>
                    <a:cubicBezTo>
                      <a:pt x="6750" y="1"/>
                      <a:pt x="6751" y="2"/>
                      <a:pt x="6751" y="3"/>
                    </a:cubicBezTo>
                    <a:cubicBezTo>
                      <a:pt x="6751" y="5"/>
                      <a:pt x="6750" y="5"/>
                      <a:pt x="6749" y="5"/>
                    </a:cubicBezTo>
                    <a:lnTo>
                      <a:pt x="6749" y="5"/>
                    </a:lnTo>
                    <a:cubicBezTo>
                      <a:pt x="6748" y="5"/>
                      <a:pt x="6747" y="5"/>
                      <a:pt x="6747" y="3"/>
                    </a:cubicBezTo>
                    <a:cubicBezTo>
                      <a:pt x="6747" y="2"/>
                      <a:pt x="6748" y="1"/>
                      <a:pt x="6749" y="1"/>
                    </a:cubicBezTo>
                    <a:close/>
                    <a:moveTo>
                      <a:pt x="6757" y="1"/>
                    </a:moveTo>
                    <a:lnTo>
                      <a:pt x="6757" y="1"/>
                    </a:lnTo>
                    <a:cubicBezTo>
                      <a:pt x="6758" y="1"/>
                      <a:pt x="6759" y="2"/>
                      <a:pt x="6759" y="3"/>
                    </a:cubicBezTo>
                    <a:cubicBezTo>
                      <a:pt x="6759" y="5"/>
                      <a:pt x="6758" y="5"/>
                      <a:pt x="6757" y="5"/>
                    </a:cubicBezTo>
                    <a:lnTo>
                      <a:pt x="6757" y="5"/>
                    </a:lnTo>
                    <a:cubicBezTo>
                      <a:pt x="6756" y="5"/>
                      <a:pt x="6755" y="5"/>
                      <a:pt x="6755" y="3"/>
                    </a:cubicBezTo>
                    <a:cubicBezTo>
                      <a:pt x="6755" y="2"/>
                      <a:pt x="6756" y="1"/>
                      <a:pt x="6757" y="1"/>
                    </a:cubicBezTo>
                    <a:close/>
                    <a:moveTo>
                      <a:pt x="6765" y="1"/>
                    </a:moveTo>
                    <a:lnTo>
                      <a:pt x="6765" y="1"/>
                    </a:lnTo>
                    <a:cubicBezTo>
                      <a:pt x="6766" y="1"/>
                      <a:pt x="6767" y="2"/>
                      <a:pt x="6767" y="3"/>
                    </a:cubicBezTo>
                    <a:cubicBezTo>
                      <a:pt x="6767" y="5"/>
                      <a:pt x="6766" y="5"/>
                      <a:pt x="6765" y="5"/>
                    </a:cubicBezTo>
                    <a:lnTo>
                      <a:pt x="6765" y="5"/>
                    </a:lnTo>
                    <a:cubicBezTo>
                      <a:pt x="6764" y="5"/>
                      <a:pt x="6763" y="5"/>
                      <a:pt x="6763" y="3"/>
                    </a:cubicBezTo>
                    <a:cubicBezTo>
                      <a:pt x="6763" y="2"/>
                      <a:pt x="6764" y="1"/>
                      <a:pt x="6765" y="1"/>
                    </a:cubicBezTo>
                    <a:close/>
                    <a:moveTo>
                      <a:pt x="6773" y="1"/>
                    </a:moveTo>
                    <a:lnTo>
                      <a:pt x="6773" y="1"/>
                    </a:lnTo>
                    <a:cubicBezTo>
                      <a:pt x="6774" y="1"/>
                      <a:pt x="6775" y="2"/>
                      <a:pt x="6775" y="3"/>
                    </a:cubicBezTo>
                    <a:cubicBezTo>
                      <a:pt x="6775" y="5"/>
                      <a:pt x="6774" y="5"/>
                      <a:pt x="6773" y="5"/>
                    </a:cubicBezTo>
                    <a:lnTo>
                      <a:pt x="6773" y="5"/>
                    </a:lnTo>
                    <a:cubicBezTo>
                      <a:pt x="6772" y="5"/>
                      <a:pt x="6771" y="5"/>
                      <a:pt x="6771" y="3"/>
                    </a:cubicBezTo>
                    <a:cubicBezTo>
                      <a:pt x="6771" y="2"/>
                      <a:pt x="6772" y="1"/>
                      <a:pt x="6773" y="1"/>
                    </a:cubicBezTo>
                    <a:close/>
                    <a:moveTo>
                      <a:pt x="6781" y="1"/>
                    </a:moveTo>
                    <a:lnTo>
                      <a:pt x="6781" y="1"/>
                    </a:lnTo>
                    <a:cubicBezTo>
                      <a:pt x="6782" y="1"/>
                      <a:pt x="6783" y="2"/>
                      <a:pt x="6783" y="3"/>
                    </a:cubicBezTo>
                    <a:cubicBezTo>
                      <a:pt x="6783" y="5"/>
                      <a:pt x="6782" y="5"/>
                      <a:pt x="6781" y="5"/>
                    </a:cubicBezTo>
                    <a:lnTo>
                      <a:pt x="6781" y="5"/>
                    </a:lnTo>
                    <a:cubicBezTo>
                      <a:pt x="6780" y="5"/>
                      <a:pt x="6779" y="5"/>
                      <a:pt x="6779" y="3"/>
                    </a:cubicBezTo>
                    <a:cubicBezTo>
                      <a:pt x="6779" y="2"/>
                      <a:pt x="6780" y="1"/>
                      <a:pt x="6781" y="1"/>
                    </a:cubicBezTo>
                    <a:close/>
                    <a:moveTo>
                      <a:pt x="6789" y="1"/>
                    </a:moveTo>
                    <a:lnTo>
                      <a:pt x="6789" y="1"/>
                    </a:lnTo>
                    <a:cubicBezTo>
                      <a:pt x="6790" y="1"/>
                      <a:pt x="6791" y="2"/>
                      <a:pt x="6791" y="3"/>
                    </a:cubicBezTo>
                    <a:cubicBezTo>
                      <a:pt x="6791" y="5"/>
                      <a:pt x="6790" y="5"/>
                      <a:pt x="6789" y="5"/>
                    </a:cubicBezTo>
                    <a:lnTo>
                      <a:pt x="6789" y="5"/>
                    </a:lnTo>
                    <a:cubicBezTo>
                      <a:pt x="6788" y="5"/>
                      <a:pt x="6787" y="5"/>
                      <a:pt x="6787" y="3"/>
                    </a:cubicBezTo>
                    <a:cubicBezTo>
                      <a:pt x="6787" y="2"/>
                      <a:pt x="6788" y="1"/>
                      <a:pt x="6789" y="1"/>
                    </a:cubicBezTo>
                    <a:close/>
                    <a:moveTo>
                      <a:pt x="6797" y="1"/>
                    </a:moveTo>
                    <a:lnTo>
                      <a:pt x="6797" y="1"/>
                    </a:lnTo>
                    <a:cubicBezTo>
                      <a:pt x="6798" y="1"/>
                      <a:pt x="6799" y="2"/>
                      <a:pt x="6799" y="3"/>
                    </a:cubicBezTo>
                    <a:cubicBezTo>
                      <a:pt x="6799" y="5"/>
                      <a:pt x="6798" y="5"/>
                      <a:pt x="6797" y="5"/>
                    </a:cubicBezTo>
                    <a:lnTo>
                      <a:pt x="6797" y="5"/>
                    </a:lnTo>
                    <a:cubicBezTo>
                      <a:pt x="6796" y="5"/>
                      <a:pt x="6795" y="5"/>
                      <a:pt x="6795" y="3"/>
                    </a:cubicBezTo>
                    <a:cubicBezTo>
                      <a:pt x="6795" y="2"/>
                      <a:pt x="6796" y="1"/>
                      <a:pt x="6797" y="1"/>
                    </a:cubicBezTo>
                    <a:close/>
                    <a:moveTo>
                      <a:pt x="6805" y="1"/>
                    </a:moveTo>
                    <a:lnTo>
                      <a:pt x="6805" y="1"/>
                    </a:lnTo>
                    <a:cubicBezTo>
                      <a:pt x="6806" y="1"/>
                      <a:pt x="6807" y="2"/>
                      <a:pt x="6807" y="3"/>
                    </a:cubicBezTo>
                    <a:cubicBezTo>
                      <a:pt x="6807" y="5"/>
                      <a:pt x="6806" y="5"/>
                      <a:pt x="6805" y="5"/>
                    </a:cubicBezTo>
                    <a:lnTo>
                      <a:pt x="6805" y="5"/>
                    </a:lnTo>
                    <a:cubicBezTo>
                      <a:pt x="6804" y="5"/>
                      <a:pt x="6803" y="5"/>
                      <a:pt x="6803" y="3"/>
                    </a:cubicBezTo>
                    <a:cubicBezTo>
                      <a:pt x="6803" y="2"/>
                      <a:pt x="6804" y="1"/>
                      <a:pt x="6805" y="1"/>
                    </a:cubicBezTo>
                    <a:close/>
                    <a:moveTo>
                      <a:pt x="6813" y="1"/>
                    </a:moveTo>
                    <a:lnTo>
                      <a:pt x="6813" y="1"/>
                    </a:lnTo>
                    <a:cubicBezTo>
                      <a:pt x="6814" y="1"/>
                      <a:pt x="6815" y="2"/>
                      <a:pt x="6815" y="3"/>
                    </a:cubicBezTo>
                    <a:cubicBezTo>
                      <a:pt x="6815" y="5"/>
                      <a:pt x="6814" y="5"/>
                      <a:pt x="6813" y="5"/>
                    </a:cubicBezTo>
                    <a:lnTo>
                      <a:pt x="6813" y="5"/>
                    </a:lnTo>
                    <a:cubicBezTo>
                      <a:pt x="6812" y="5"/>
                      <a:pt x="6811" y="5"/>
                      <a:pt x="6811" y="3"/>
                    </a:cubicBezTo>
                    <a:cubicBezTo>
                      <a:pt x="6811" y="2"/>
                      <a:pt x="6812" y="1"/>
                      <a:pt x="6813" y="1"/>
                    </a:cubicBezTo>
                    <a:close/>
                    <a:moveTo>
                      <a:pt x="6821" y="1"/>
                    </a:moveTo>
                    <a:lnTo>
                      <a:pt x="6821" y="1"/>
                    </a:lnTo>
                    <a:cubicBezTo>
                      <a:pt x="6822" y="1"/>
                      <a:pt x="6823" y="2"/>
                      <a:pt x="6823" y="3"/>
                    </a:cubicBezTo>
                    <a:cubicBezTo>
                      <a:pt x="6823" y="5"/>
                      <a:pt x="6822" y="5"/>
                      <a:pt x="6821" y="5"/>
                    </a:cubicBezTo>
                    <a:lnTo>
                      <a:pt x="6821" y="5"/>
                    </a:lnTo>
                    <a:cubicBezTo>
                      <a:pt x="6820" y="5"/>
                      <a:pt x="6819" y="5"/>
                      <a:pt x="6819" y="3"/>
                    </a:cubicBezTo>
                    <a:cubicBezTo>
                      <a:pt x="6819" y="2"/>
                      <a:pt x="6820" y="1"/>
                      <a:pt x="6821" y="1"/>
                    </a:cubicBezTo>
                    <a:close/>
                    <a:moveTo>
                      <a:pt x="6829" y="1"/>
                    </a:moveTo>
                    <a:lnTo>
                      <a:pt x="6829" y="1"/>
                    </a:lnTo>
                    <a:cubicBezTo>
                      <a:pt x="6830" y="1"/>
                      <a:pt x="6831" y="2"/>
                      <a:pt x="6831" y="3"/>
                    </a:cubicBezTo>
                    <a:cubicBezTo>
                      <a:pt x="6831" y="5"/>
                      <a:pt x="6830" y="5"/>
                      <a:pt x="6829" y="5"/>
                    </a:cubicBezTo>
                    <a:lnTo>
                      <a:pt x="6829" y="5"/>
                    </a:lnTo>
                    <a:cubicBezTo>
                      <a:pt x="6828" y="5"/>
                      <a:pt x="6827" y="5"/>
                      <a:pt x="6827" y="3"/>
                    </a:cubicBezTo>
                    <a:cubicBezTo>
                      <a:pt x="6827" y="2"/>
                      <a:pt x="6828" y="1"/>
                      <a:pt x="6829" y="1"/>
                    </a:cubicBezTo>
                    <a:close/>
                    <a:moveTo>
                      <a:pt x="6837" y="1"/>
                    </a:moveTo>
                    <a:lnTo>
                      <a:pt x="6837" y="1"/>
                    </a:lnTo>
                    <a:cubicBezTo>
                      <a:pt x="6838" y="1"/>
                      <a:pt x="6839" y="2"/>
                      <a:pt x="6839" y="3"/>
                    </a:cubicBezTo>
                    <a:cubicBezTo>
                      <a:pt x="6839" y="5"/>
                      <a:pt x="6838" y="5"/>
                      <a:pt x="6837" y="5"/>
                    </a:cubicBezTo>
                    <a:lnTo>
                      <a:pt x="6837" y="5"/>
                    </a:lnTo>
                    <a:cubicBezTo>
                      <a:pt x="6836" y="5"/>
                      <a:pt x="6835" y="5"/>
                      <a:pt x="6835" y="3"/>
                    </a:cubicBezTo>
                    <a:cubicBezTo>
                      <a:pt x="6835" y="2"/>
                      <a:pt x="6836" y="1"/>
                      <a:pt x="6837" y="1"/>
                    </a:cubicBezTo>
                    <a:close/>
                    <a:moveTo>
                      <a:pt x="6845" y="1"/>
                    </a:moveTo>
                    <a:lnTo>
                      <a:pt x="6845" y="1"/>
                    </a:lnTo>
                    <a:cubicBezTo>
                      <a:pt x="6846" y="1"/>
                      <a:pt x="6847" y="2"/>
                      <a:pt x="6847" y="3"/>
                    </a:cubicBezTo>
                    <a:cubicBezTo>
                      <a:pt x="6847" y="5"/>
                      <a:pt x="6846" y="5"/>
                      <a:pt x="6845" y="5"/>
                    </a:cubicBezTo>
                    <a:lnTo>
                      <a:pt x="6845" y="5"/>
                    </a:lnTo>
                    <a:cubicBezTo>
                      <a:pt x="6844" y="5"/>
                      <a:pt x="6843" y="5"/>
                      <a:pt x="6843" y="3"/>
                    </a:cubicBezTo>
                    <a:cubicBezTo>
                      <a:pt x="6843" y="2"/>
                      <a:pt x="6844" y="1"/>
                      <a:pt x="6845" y="1"/>
                    </a:cubicBezTo>
                    <a:close/>
                    <a:moveTo>
                      <a:pt x="6853" y="1"/>
                    </a:moveTo>
                    <a:lnTo>
                      <a:pt x="6853" y="1"/>
                    </a:lnTo>
                    <a:cubicBezTo>
                      <a:pt x="6854" y="1"/>
                      <a:pt x="6855" y="2"/>
                      <a:pt x="6855" y="3"/>
                    </a:cubicBezTo>
                    <a:cubicBezTo>
                      <a:pt x="6855" y="5"/>
                      <a:pt x="6854" y="5"/>
                      <a:pt x="6853" y="5"/>
                    </a:cubicBezTo>
                    <a:lnTo>
                      <a:pt x="6853" y="5"/>
                    </a:lnTo>
                    <a:cubicBezTo>
                      <a:pt x="6852" y="5"/>
                      <a:pt x="6851" y="5"/>
                      <a:pt x="6851" y="3"/>
                    </a:cubicBezTo>
                    <a:cubicBezTo>
                      <a:pt x="6851" y="2"/>
                      <a:pt x="6852" y="1"/>
                      <a:pt x="6853" y="1"/>
                    </a:cubicBezTo>
                    <a:close/>
                    <a:moveTo>
                      <a:pt x="6861" y="1"/>
                    </a:moveTo>
                    <a:lnTo>
                      <a:pt x="6861" y="1"/>
                    </a:lnTo>
                    <a:cubicBezTo>
                      <a:pt x="6862" y="1"/>
                      <a:pt x="6863" y="2"/>
                      <a:pt x="6863" y="3"/>
                    </a:cubicBezTo>
                    <a:cubicBezTo>
                      <a:pt x="6863" y="5"/>
                      <a:pt x="6862" y="5"/>
                      <a:pt x="6861" y="5"/>
                    </a:cubicBezTo>
                    <a:lnTo>
                      <a:pt x="6861" y="5"/>
                    </a:lnTo>
                    <a:cubicBezTo>
                      <a:pt x="6860" y="5"/>
                      <a:pt x="6859" y="5"/>
                      <a:pt x="6859" y="3"/>
                    </a:cubicBezTo>
                    <a:cubicBezTo>
                      <a:pt x="6859" y="2"/>
                      <a:pt x="6860" y="1"/>
                      <a:pt x="6861" y="1"/>
                    </a:cubicBezTo>
                    <a:close/>
                    <a:moveTo>
                      <a:pt x="6869" y="1"/>
                    </a:moveTo>
                    <a:lnTo>
                      <a:pt x="6869" y="1"/>
                    </a:lnTo>
                    <a:cubicBezTo>
                      <a:pt x="6870" y="1"/>
                      <a:pt x="6871" y="2"/>
                      <a:pt x="6871" y="3"/>
                    </a:cubicBezTo>
                    <a:cubicBezTo>
                      <a:pt x="6871" y="5"/>
                      <a:pt x="6870" y="5"/>
                      <a:pt x="6869" y="5"/>
                    </a:cubicBezTo>
                    <a:lnTo>
                      <a:pt x="6869" y="5"/>
                    </a:lnTo>
                    <a:cubicBezTo>
                      <a:pt x="6868" y="5"/>
                      <a:pt x="6867" y="5"/>
                      <a:pt x="6867" y="3"/>
                    </a:cubicBezTo>
                    <a:cubicBezTo>
                      <a:pt x="6867" y="2"/>
                      <a:pt x="6868" y="1"/>
                      <a:pt x="6869" y="1"/>
                    </a:cubicBezTo>
                    <a:close/>
                    <a:moveTo>
                      <a:pt x="6877" y="1"/>
                    </a:moveTo>
                    <a:lnTo>
                      <a:pt x="6877" y="1"/>
                    </a:lnTo>
                    <a:cubicBezTo>
                      <a:pt x="6878" y="1"/>
                      <a:pt x="6879" y="2"/>
                      <a:pt x="6879" y="3"/>
                    </a:cubicBezTo>
                    <a:cubicBezTo>
                      <a:pt x="6879" y="5"/>
                      <a:pt x="6878" y="5"/>
                      <a:pt x="6877" y="5"/>
                    </a:cubicBezTo>
                    <a:lnTo>
                      <a:pt x="6877" y="5"/>
                    </a:lnTo>
                    <a:cubicBezTo>
                      <a:pt x="6876" y="5"/>
                      <a:pt x="6875" y="5"/>
                      <a:pt x="6875" y="3"/>
                    </a:cubicBezTo>
                    <a:cubicBezTo>
                      <a:pt x="6875" y="2"/>
                      <a:pt x="6876" y="1"/>
                      <a:pt x="6877" y="1"/>
                    </a:cubicBezTo>
                    <a:close/>
                    <a:moveTo>
                      <a:pt x="6885" y="1"/>
                    </a:moveTo>
                    <a:lnTo>
                      <a:pt x="6885" y="1"/>
                    </a:lnTo>
                    <a:cubicBezTo>
                      <a:pt x="6886" y="1"/>
                      <a:pt x="6887" y="2"/>
                      <a:pt x="6887" y="3"/>
                    </a:cubicBezTo>
                    <a:cubicBezTo>
                      <a:pt x="6887" y="5"/>
                      <a:pt x="6886" y="5"/>
                      <a:pt x="6885" y="5"/>
                    </a:cubicBezTo>
                    <a:lnTo>
                      <a:pt x="6885" y="5"/>
                    </a:lnTo>
                    <a:cubicBezTo>
                      <a:pt x="6884" y="5"/>
                      <a:pt x="6883" y="5"/>
                      <a:pt x="6883" y="3"/>
                    </a:cubicBezTo>
                    <a:cubicBezTo>
                      <a:pt x="6883" y="2"/>
                      <a:pt x="6884" y="1"/>
                      <a:pt x="6885" y="1"/>
                    </a:cubicBezTo>
                    <a:close/>
                    <a:moveTo>
                      <a:pt x="6893" y="1"/>
                    </a:moveTo>
                    <a:lnTo>
                      <a:pt x="6893" y="1"/>
                    </a:lnTo>
                    <a:cubicBezTo>
                      <a:pt x="6894" y="1"/>
                      <a:pt x="6895" y="2"/>
                      <a:pt x="6895" y="3"/>
                    </a:cubicBezTo>
                    <a:cubicBezTo>
                      <a:pt x="6895" y="5"/>
                      <a:pt x="6894" y="5"/>
                      <a:pt x="6893" y="5"/>
                    </a:cubicBezTo>
                    <a:lnTo>
                      <a:pt x="6893" y="5"/>
                    </a:lnTo>
                    <a:cubicBezTo>
                      <a:pt x="6892" y="5"/>
                      <a:pt x="6891" y="5"/>
                      <a:pt x="6891" y="3"/>
                    </a:cubicBezTo>
                    <a:cubicBezTo>
                      <a:pt x="6891" y="2"/>
                      <a:pt x="6892" y="1"/>
                      <a:pt x="6893" y="1"/>
                    </a:cubicBezTo>
                    <a:close/>
                    <a:moveTo>
                      <a:pt x="6901" y="1"/>
                    </a:moveTo>
                    <a:lnTo>
                      <a:pt x="6901" y="1"/>
                    </a:lnTo>
                    <a:cubicBezTo>
                      <a:pt x="6902" y="1"/>
                      <a:pt x="6903" y="2"/>
                      <a:pt x="6903" y="3"/>
                    </a:cubicBezTo>
                    <a:cubicBezTo>
                      <a:pt x="6903" y="5"/>
                      <a:pt x="6902" y="5"/>
                      <a:pt x="6901" y="5"/>
                    </a:cubicBezTo>
                    <a:lnTo>
                      <a:pt x="6901" y="5"/>
                    </a:lnTo>
                    <a:cubicBezTo>
                      <a:pt x="6900" y="5"/>
                      <a:pt x="6899" y="5"/>
                      <a:pt x="6899" y="3"/>
                    </a:cubicBezTo>
                    <a:cubicBezTo>
                      <a:pt x="6899" y="2"/>
                      <a:pt x="6900" y="1"/>
                      <a:pt x="6901" y="1"/>
                    </a:cubicBezTo>
                    <a:close/>
                    <a:moveTo>
                      <a:pt x="6909" y="1"/>
                    </a:moveTo>
                    <a:lnTo>
                      <a:pt x="6909" y="1"/>
                    </a:lnTo>
                    <a:cubicBezTo>
                      <a:pt x="6910" y="1"/>
                      <a:pt x="6911" y="2"/>
                      <a:pt x="6911" y="3"/>
                    </a:cubicBezTo>
                    <a:cubicBezTo>
                      <a:pt x="6911" y="5"/>
                      <a:pt x="6910" y="5"/>
                      <a:pt x="6909" y="5"/>
                    </a:cubicBezTo>
                    <a:lnTo>
                      <a:pt x="6909" y="5"/>
                    </a:lnTo>
                    <a:cubicBezTo>
                      <a:pt x="6908" y="5"/>
                      <a:pt x="6907" y="5"/>
                      <a:pt x="6907" y="3"/>
                    </a:cubicBezTo>
                    <a:cubicBezTo>
                      <a:pt x="6907" y="2"/>
                      <a:pt x="6908" y="1"/>
                      <a:pt x="6909" y="1"/>
                    </a:cubicBezTo>
                    <a:close/>
                    <a:moveTo>
                      <a:pt x="6917" y="1"/>
                    </a:moveTo>
                    <a:lnTo>
                      <a:pt x="6917" y="1"/>
                    </a:lnTo>
                    <a:cubicBezTo>
                      <a:pt x="6918" y="1"/>
                      <a:pt x="6919" y="2"/>
                      <a:pt x="6919" y="3"/>
                    </a:cubicBezTo>
                    <a:cubicBezTo>
                      <a:pt x="6919" y="5"/>
                      <a:pt x="6918" y="5"/>
                      <a:pt x="6917" y="5"/>
                    </a:cubicBezTo>
                    <a:lnTo>
                      <a:pt x="6917" y="5"/>
                    </a:lnTo>
                    <a:cubicBezTo>
                      <a:pt x="6916" y="5"/>
                      <a:pt x="6915" y="5"/>
                      <a:pt x="6915" y="3"/>
                    </a:cubicBezTo>
                    <a:cubicBezTo>
                      <a:pt x="6915" y="2"/>
                      <a:pt x="6916" y="1"/>
                      <a:pt x="6917" y="1"/>
                    </a:cubicBezTo>
                    <a:close/>
                    <a:moveTo>
                      <a:pt x="6925" y="1"/>
                    </a:moveTo>
                    <a:lnTo>
                      <a:pt x="6925" y="1"/>
                    </a:lnTo>
                    <a:cubicBezTo>
                      <a:pt x="6926" y="1"/>
                      <a:pt x="6927" y="2"/>
                      <a:pt x="6927" y="3"/>
                    </a:cubicBezTo>
                    <a:cubicBezTo>
                      <a:pt x="6927" y="5"/>
                      <a:pt x="6926" y="5"/>
                      <a:pt x="6925" y="5"/>
                    </a:cubicBezTo>
                    <a:lnTo>
                      <a:pt x="6925" y="5"/>
                    </a:lnTo>
                    <a:cubicBezTo>
                      <a:pt x="6924" y="5"/>
                      <a:pt x="6923" y="5"/>
                      <a:pt x="6923" y="3"/>
                    </a:cubicBezTo>
                    <a:cubicBezTo>
                      <a:pt x="6923" y="2"/>
                      <a:pt x="6924" y="1"/>
                      <a:pt x="6925" y="1"/>
                    </a:cubicBezTo>
                    <a:close/>
                    <a:moveTo>
                      <a:pt x="6933" y="1"/>
                    </a:moveTo>
                    <a:lnTo>
                      <a:pt x="6933" y="1"/>
                    </a:lnTo>
                    <a:cubicBezTo>
                      <a:pt x="6934" y="1"/>
                      <a:pt x="6935" y="2"/>
                      <a:pt x="6935" y="3"/>
                    </a:cubicBezTo>
                    <a:cubicBezTo>
                      <a:pt x="6935" y="5"/>
                      <a:pt x="6934" y="5"/>
                      <a:pt x="6933" y="5"/>
                    </a:cubicBezTo>
                    <a:lnTo>
                      <a:pt x="6933" y="5"/>
                    </a:lnTo>
                    <a:cubicBezTo>
                      <a:pt x="6932" y="5"/>
                      <a:pt x="6931" y="5"/>
                      <a:pt x="6931" y="3"/>
                    </a:cubicBezTo>
                    <a:cubicBezTo>
                      <a:pt x="6931" y="2"/>
                      <a:pt x="6932" y="1"/>
                      <a:pt x="6933" y="1"/>
                    </a:cubicBezTo>
                    <a:close/>
                    <a:moveTo>
                      <a:pt x="6941" y="1"/>
                    </a:moveTo>
                    <a:lnTo>
                      <a:pt x="6941" y="1"/>
                    </a:lnTo>
                    <a:cubicBezTo>
                      <a:pt x="6942" y="1"/>
                      <a:pt x="6943" y="2"/>
                      <a:pt x="6943" y="3"/>
                    </a:cubicBezTo>
                    <a:cubicBezTo>
                      <a:pt x="6943" y="5"/>
                      <a:pt x="6942" y="5"/>
                      <a:pt x="6941" y="5"/>
                    </a:cubicBezTo>
                    <a:lnTo>
                      <a:pt x="6941" y="5"/>
                    </a:lnTo>
                    <a:cubicBezTo>
                      <a:pt x="6940" y="5"/>
                      <a:pt x="6939" y="5"/>
                      <a:pt x="6939" y="3"/>
                    </a:cubicBezTo>
                    <a:cubicBezTo>
                      <a:pt x="6939" y="2"/>
                      <a:pt x="6940" y="1"/>
                      <a:pt x="6941" y="1"/>
                    </a:cubicBezTo>
                    <a:close/>
                    <a:moveTo>
                      <a:pt x="6949" y="1"/>
                    </a:moveTo>
                    <a:lnTo>
                      <a:pt x="6949" y="1"/>
                    </a:lnTo>
                    <a:cubicBezTo>
                      <a:pt x="6950" y="1"/>
                      <a:pt x="6951" y="2"/>
                      <a:pt x="6951" y="3"/>
                    </a:cubicBezTo>
                    <a:cubicBezTo>
                      <a:pt x="6951" y="5"/>
                      <a:pt x="6950" y="5"/>
                      <a:pt x="6949" y="5"/>
                    </a:cubicBezTo>
                    <a:lnTo>
                      <a:pt x="6949" y="5"/>
                    </a:lnTo>
                    <a:cubicBezTo>
                      <a:pt x="6948" y="5"/>
                      <a:pt x="6947" y="5"/>
                      <a:pt x="6947" y="3"/>
                    </a:cubicBezTo>
                    <a:cubicBezTo>
                      <a:pt x="6947" y="2"/>
                      <a:pt x="6948" y="1"/>
                      <a:pt x="6949" y="1"/>
                    </a:cubicBezTo>
                    <a:close/>
                    <a:moveTo>
                      <a:pt x="6957" y="1"/>
                    </a:moveTo>
                    <a:lnTo>
                      <a:pt x="6957" y="1"/>
                    </a:lnTo>
                    <a:cubicBezTo>
                      <a:pt x="6958" y="1"/>
                      <a:pt x="6959" y="2"/>
                      <a:pt x="6959" y="3"/>
                    </a:cubicBezTo>
                    <a:cubicBezTo>
                      <a:pt x="6959" y="5"/>
                      <a:pt x="6958" y="5"/>
                      <a:pt x="6957" y="5"/>
                    </a:cubicBezTo>
                    <a:lnTo>
                      <a:pt x="6957" y="5"/>
                    </a:lnTo>
                    <a:cubicBezTo>
                      <a:pt x="6956" y="5"/>
                      <a:pt x="6955" y="5"/>
                      <a:pt x="6955" y="3"/>
                    </a:cubicBezTo>
                    <a:cubicBezTo>
                      <a:pt x="6955" y="2"/>
                      <a:pt x="6956" y="1"/>
                      <a:pt x="6957" y="1"/>
                    </a:cubicBezTo>
                    <a:close/>
                    <a:moveTo>
                      <a:pt x="6965" y="1"/>
                    </a:moveTo>
                    <a:lnTo>
                      <a:pt x="6965" y="1"/>
                    </a:lnTo>
                    <a:cubicBezTo>
                      <a:pt x="6966" y="1"/>
                      <a:pt x="6967" y="2"/>
                      <a:pt x="6967" y="3"/>
                    </a:cubicBezTo>
                    <a:cubicBezTo>
                      <a:pt x="6967" y="5"/>
                      <a:pt x="6966" y="5"/>
                      <a:pt x="6965" y="5"/>
                    </a:cubicBezTo>
                    <a:lnTo>
                      <a:pt x="6965" y="5"/>
                    </a:lnTo>
                    <a:cubicBezTo>
                      <a:pt x="6964" y="5"/>
                      <a:pt x="6963" y="5"/>
                      <a:pt x="6963" y="3"/>
                    </a:cubicBezTo>
                    <a:cubicBezTo>
                      <a:pt x="6963" y="2"/>
                      <a:pt x="6964" y="1"/>
                      <a:pt x="6965" y="1"/>
                    </a:cubicBezTo>
                    <a:close/>
                    <a:moveTo>
                      <a:pt x="6973" y="1"/>
                    </a:moveTo>
                    <a:lnTo>
                      <a:pt x="6973" y="1"/>
                    </a:lnTo>
                    <a:cubicBezTo>
                      <a:pt x="6974" y="1"/>
                      <a:pt x="6975" y="2"/>
                      <a:pt x="6975" y="3"/>
                    </a:cubicBezTo>
                    <a:cubicBezTo>
                      <a:pt x="6975" y="5"/>
                      <a:pt x="6974" y="5"/>
                      <a:pt x="6973" y="5"/>
                    </a:cubicBezTo>
                    <a:lnTo>
                      <a:pt x="6973" y="5"/>
                    </a:lnTo>
                    <a:cubicBezTo>
                      <a:pt x="6972" y="5"/>
                      <a:pt x="6971" y="5"/>
                      <a:pt x="6971" y="3"/>
                    </a:cubicBezTo>
                    <a:cubicBezTo>
                      <a:pt x="6971" y="2"/>
                      <a:pt x="6972" y="1"/>
                      <a:pt x="6973" y="1"/>
                    </a:cubicBezTo>
                    <a:close/>
                    <a:moveTo>
                      <a:pt x="6981" y="1"/>
                    </a:moveTo>
                    <a:lnTo>
                      <a:pt x="6981" y="1"/>
                    </a:lnTo>
                    <a:cubicBezTo>
                      <a:pt x="6982" y="1"/>
                      <a:pt x="6983" y="2"/>
                      <a:pt x="6983" y="3"/>
                    </a:cubicBezTo>
                    <a:cubicBezTo>
                      <a:pt x="6983" y="5"/>
                      <a:pt x="6982" y="5"/>
                      <a:pt x="6981" y="5"/>
                    </a:cubicBezTo>
                    <a:lnTo>
                      <a:pt x="6981" y="5"/>
                    </a:lnTo>
                    <a:cubicBezTo>
                      <a:pt x="6980" y="5"/>
                      <a:pt x="6979" y="5"/>
                      <a:pt x="6979" y="3"/>
                    </a:cubicBezTo>
                    <a:cubicBezTo>
                      <a:pt x="6979" y="2"/>
                      <a:pt x="6980" y="1"/>
                      <a:pt x="6981" y="1"/>
                    </a:cubicBezTo>
                    <a:close/>
                    <a:moveTo>
                      <a:pt x="6989" y="1"/>
                    </a:moveTo>
                    <a:lnTo>
                      <a:pt x="6989" y="1"/>
                    </a:lnTo>
                    <a:cubicBezTo>
                      <a:pt x="6990" y="1"/>
                      <a:pt x="6991" y="2"/>
                      <a:pt x="6991" y="3"/>
                    </a:cubicBezTo>
                    <a:cubicBezTo>
                      <a:pt x="6991" y="5"/>
                      <a:pt x="6990" y="5"/>
                      <a:pt x="6989" y="5"/>
                    </a:cubicBezTo>
                    <a:lnTo>
                      <a:pt x="6989" y="5"/>
                    </a:lnTo>
                    <a:cubicBezTo>
                      <a:pt x="6988" y="5"/>
                      <a:pt x="6987" y="5"/>
                      <a:pt x="6987" y="3"/>
                    </a:cubicBezTo>
                    <a:cubicBezTo>
                      <a:pt x="6987" y="2"/>
                      <a:pt x="6988" y="1"/>
                      <a:pt x="6989" y="1"/>
                    </a:cubicBezTo>
                    <a:close/>
                    <a:moveTo>
                      <a:pt x="6997" y="1"/>
                    </a:moveTo>
                    <a:lnTo>
                      <a:pt x="6997" y="1"/>
                    </a:lnTo>
                    <a:cubicBezTo>
                      <a:pt x="6998" y="1"/>
                      <a:pt x="6999" y="2"/>
                      <a:pt x="6999" y="3"/>
                    </a:cubicBezTo>
                    <a:cubicBezTo>
                      <a:pt x="6999" y="5"/>
                      <a:pt x="6998" y="5"/>
                      <a:pt x="6997" y="5"/>
                    </a:cubicBezTo>
                    <a:lnTo>
                      <a:pt x="6997" y="5"/>
                    </a:lnTo>
                    <a:cubicBezTo>
                      <a:pt x="6996" y="5"/>
                      <a:pt x="6995" y="5"/>
                      <a:pt x="6995" y="3"/>
                    </a:cubicBezTo>
                    <a:cubicBezTo>
                      <a:pt x="6995" y="2"/>
                      <a:pt x="6996" y="1"/>
                      <a:pt x="6997" y="1"/>
                    </a:cubicBezTo>
                    <a:close/>
                    <a:moveTo>
                      <a:pt x="7005" y="1"/>
                    </a:moveTo>
                    <a:lnTo>
                      <a:pt x="7005" y="1"/>
                    </a:lnTo>
                    <a:cubicBezTo>
                      <a:pt x="7006" y="1"/>
                      <a:pt x="7007" y="2"/>
                      <a:pt x="7007" y="3"/>
                    </a:cubicBezTo>
                    <a:cubicBezTo>
                      <a:pt x="7007" y="5"/>
                      <a:pt x="7006" y="5"/>
                      <a:pt x="7005" y="5"/>
                    </a:cubicBezTo>
                    <a:lnTo>
                      <a:pt x="7005" y="5"/>
                    </a:lnTo>
                    <a:cubicBezTo>
                      <a:pt x="7004" y="5"/>
                      <a:pt x="7003" y="5"/>
                      <a:pt x="7003" y="3"/>
                    </a:cubicBezTo>
                    <a:cubicBezTo>
                      <a:pt x="7003" y="2"/>
                      <a:pt x="7004" y="1"/>
                      <a:pt x="7005" y="1"/>
                    </a:cubicBezTo>
                    <a:close/>
                    <a:moveTo>
                      <a:pt x="7013" y="1"/>
                    </a:moveTo>
                    <a:lnTo>
                      <a:pt x="7013" y="1"/>
                    </a:lnTo>
                    <a:cubicBezTo>
                      <a:pt x="7014" y="1"/>
                      <a:pt x="7015" y="2"/>
                      <a:pt x="7015" y="3"/>
                    </a:cubicBezTo>
                    <a:cubicBezTo>
                      <a:pt x="7015" y="5"/>
                      <a:pt x="7014" y="5"/>
                      <a:pt x="7013" y="5"/>
                    </a:cubicBezTo>
                    <a:lnTo>
                      <a:pt x="7013" y="5"/>
                    </a:lnTo>
                    <a:cubicBezTo>
                      <a:pt x="7012" y="5"/>
                      <a:pt x="7011" y="5"/>
                      <a:pt x="7011" y="3"/>
                    </a:cubicBezTo>
                    <a:cubicBezTo>
                      <a:pt x="7011" y="2"/>
                      <a:pt x="7012" y="1"/>
                      <a:pt x="7013" y="1"/>
                    </a:cubicBezTo>
                    <a:close/>
                    <a:moveTo>
                      <a:pt x="7021" y="1"/>
                    </a:moveTo>
                    <a:lnTo>
                      <a:pt x="7021" y="1"/>
                    </a:lnTo>
                    <a:cubicBezTo>
                      <a:pt x="7022" y="1"/>
                      <a:pt x="7023" y="2"/>
                      <a:pt x="7023" y="3"/>
                    </a:cubicBezTo>
                    <a:cubicBezTo>
                      <a:pt x="7023" y="5"/>
                      <a:pt x="7022" y="5"/>
                      <a:pt x="7021" y="5"/>
                    </a:cubicBezTo>
                    <a:lnTo>
                      <a:pt x="7021" y="5"/>
                    </a:lnTo>
                    <a:cubicBezTo>
                      <a:pt x="7020" y="5"/>
                      <a:pt x="7019" y="5"/>
                      <a:pt x="7019" y="3"/>
                    </a:cubicBezTo>
                    <a:cubicBezTo>
                      <a:pt x="7019" y="2"/>
                      <a:pt x="7020" y="1"/>
                      <a:pt x="7021" y="1"/>
                    </a:cubicBezTo>
                    <a:close/>
                    <a:moveTo>
                      <a:pt x="7029" y="1"/>
                    </a:moveTo>
                    <a:lnTo>
                      <a:pt x="7029" y="1"/>
                    </a:lnTo>
                    <a:cubicBezTo>
                      <a:pt x="7030" y="1"/>
                      <a:pt x="7031" y="2"/>
                      <a:pt x="7031" y="3"/>
                    </a:cubicBezTo>
                    <a:cubicBezTo>
                      <a:pt x="7031" y="5"/>
                      <a:pt x="7030" y="5"/>
                      <a:pt x="7029" y="5"/>
                    </a:cubicBezTo>
                    <a:lnTo>
                      <a:pt x="7029" y="5"/>
                    </a:lnTo>
                    <a:cubicBezTo>
                      <a:pt x="7028" y="5"/>
                      <a:pt x="7027" y="5"/>
                      <a:pt x="7027" y="3"/>
                    </a:cubicBezTo>
                    <a:cubicBezTo>
                      <a:pt x="7027" y="2"/>
                      <a:pt x="7028" y="1"/>
                      <a:pt x="7029" y="1"/>
                    </a:cubicBezTo>
                    <a:close/>
                    <a:moveTo>
                      <a:pt x="7037" y="1"/>
                    </a:moveTo>
                    <a:lnTo>
                      <a:pt x="7037" y="1"/>
                    </a:lnTo>
                    <a:cubicBezTo>
                      <a:pt x="7038" y="1"/>
                      <a:pt x="7039" y="2"/>
                      <a:pt x="7039" y="4"/>
                    </a:cubicBezTo>
                    <a:cubicBezTo>
                      <a:pt x="7039" y="5"/>
                      <a:pt x="7038" y="6"/>
                      <a:pt x="7037" y="6"/>
                    </a:cubicBezTo>
                    <a:lnTo>
                      <a:pt x="7037" y="6"/>
                    </a:lnTo>
                    <a:cubicBezTo>
                      <a:pt x="7036" y="6"/>
                      <a:pt x="7035" y="5"/>
                      <a:pt x="7035" y="4"/>
                    </a:cubicBezTo>
                    <a:cubicBezTo>
                      <a:pt x="7035" y="2"/>
                      <a:pt x="7036" y="1"/>
                      <a:pt x="7037" y="1"/>
                    </a:cubicBezTo>
                    <a:close/>
                    <a:moveTo>
                      <a:pt x="7045" y="2"/>
                    </a:moveTo>
                    <a:lnTo>
                      <a:pt x="7045" y="2"/>
                    </a:lnTo>
                    <a:cubicBezTo>
                      <a:pt x="7046" y="2"/>
                      <a:pt x="7047" y="2"/>
                      <a:pt x="7047" y="4"/>
                    </a:cubicBezTo>
                    <a:cubicBezTo>
                      <a:pt x="7047" y="5"/>
                      <a:pt x="7046" y="6"/>
                      <a:pt x="7045" y="6"/>
                    </a:cubicBezTo>
                    <a:lnTo>
                      <a:pt x="7045" y="6"/>
                    </a:lnTo>
                    <a:cubicBezTo>
                      <a:pt x="7044" y="6"/>
                      <a:pt x="7043" y="5"/>
                      <a:pt x="7043" y="4"/>
                    </a:cubicBezTo>
                    <a:cubicBezTo>
                      <a:pt x="7043" y="2"/>
                      <a:pt x="7044" y="2"/>
                      <a:pt x="7045" y="2"/>
                    </a:cubicBezTo>
                    <a:close/>
                    <a:moveTo>
                      <a:pt x="7053" y="2"/>
                    </a:moveTo>
                    <a:lnTo>
                      <a:pt x="7053" y="2"/>
                    </a:lnTo>
                    <a:cubicBezTo>
                      <a:pt x="7054" y="2"/>
                      <a:pt x="7055" y="2"/>
                      <a:pt x="7055" y="4"/>
                    </a:cubicBezTo>
                    <a:cubicBezTo>
                      <a:pt x="7055" y="5"/>
                      <a:pt x="7054" y="6"/>
                      <a:pt x="7053" y="6"/>
                    </a:cubicBezTo>
                    <a:lnTo>
                      <a:pt x="7053" y="6"/>
                    </a:lnTo>
                    <a:cubicBezTo>
                      <a:pt x="7052" y="6"/>
                      <a:pt x="7051" y="5"/>
                      <a:pt x="7051" y="4"/>
                    </a:cubicBezTo>
                    <a:cubicBezTo>
                      <a:pt x="7051" y="2"/>
                      <a:pt x="7052" y="2"/>
                      <a:pt x="7053" y="2"/>
                    </a:cubicBezTo>
                    <a:close/>
                    <a:moveTo>
                      <a:pt x="7061" y="2"/>
                    </a:moveTo>
                    <a:lnTo>
                      <a:pt x="7061" y="2"/>
                    </a:lnTo>
                    <a:cubicBezTo>
                      <a:pt x="7062" y="2"/>
                      <a:pt x="7063" y="2"/>
                      <a:pt x="7063" y="4"/>
                    </a:cubicBezTo>
                    <a:cubicBezTo>
                      <a:pt x="7063" y="5"/>
                      <a:pt x="7062" y="6"/>
                      <a:pt x="7061" y="6"/>
                    </a:cubicBezTo>
                    <a:lnTo>
                      <a:pt x="7061" y="6"/>
                    </a:lnTo>
                    <a:cubicBezTo>
                      <a:pt x="7060" y="6"/>
                      <a:pt x="7059" y="5"/>
                      <a:pt x="7059" y="4"/>
                    </a:cubicBezTo>
                    <a:cubicBezTo>
                      <a:pt x="7059" y="2"/>
                      <a:pt x="7060" y="2"/>
                      <a:pt x="7061" y="2"/>
                    </a:cubicBezTo>
                    <a:close/>
                    <a:moveTo>
                      <a:pt x="7069" y="2"/>
                    </a:moveTo>
                    <a:lnTo>
                      <a:pt x="7069" y="2"/>
                    </a:lnTo>
                    <a:cubicBezTo>
                      <a:pt x="7070" y="2"/>
                      <a:pt x="7071" y="2"/>
                      <a:pt x="7071" y="4"/>
                    </a:cubicBezTo>
                    <a:cubicBezTo>
                      <a:pt x="7071" y="5"/>
                      <a:pt x="7070" y="6"/>
                      <a:pt x="7069" y="6"/>
                    </a:cubicBezTo>
                    <a:lnTo>
                      <a:pt x="7069" y="6"/>
                    </a:lnTo>
                    <a:cubicBezTo>
                      <a:pt x="7068" y="6"/>
                      <a:pt x="7067" y="5"/>
                      <a:pt x="7067" y="4"/>
                    </a:cubicBezTo>
                    <a:cubicBezTo>
                      <a:pt x="7067" y="2"/>
                      <a:pt x="7068" y="2"/>
                      <a:pt x="7069" y="2"/>
                    </a:cubicBezTo>
                    <a:close/>
                    <a:moveTo>
                      <a:pt x="7077" y="2"/>
                    </a:moveTo>
                    <a:lnTo>
                      <a:pt x="7077" y="2"/>
                    </a:lnTo>
                    <a:cubicBezTo>
                      <a:pt x="7078" y="2"/>
                      <a:pt x="7079" y="2"/>
                      <a:pt x="7079" y="4"/>
                    </a:cubicBezTo>
                    <a:cubicBezTo>
                      <a:pt x="7079" y="5"/>
                      <a:pt x="7078" y="6"/>
                      <a:pt x="7077" y="6"/>
                    </a:cubicBezTo>
                    <a:lnTo>
                      <a:pt x="7077" y="6"/>
                    </a:lnTo>
                    <a:cubicBezTo>
                      <a:pt x="7076" y="6"/>
                      <a:pt x="7075" y="5"/>
                      <a:pt x="7075" y="4"/>
                    </a:cubicBezTo>
                    <a:cubicBezTo>
                      <a:pt x="7075" y="2"/>
                      <a:pt x="7076" y="2"/>
                      <a:pt x="7077" y="2"/>
                    </a:cubicBezTo>
                    <a:close/>
                    <a:moveTo>
                      <a:pt x="7085" y="2"/>
                    </a:moveTo>
                    <a:lnTo>
                      <a:pt x="7085" y="2"/>
                    </a:lnTo>
                    <a:cubicBezTo>
                      <a:pt x="7086" y="2"/>
                      <a:pt x="7087" y="2"/>
                      <a:pt x="7087" y="4"/>
                    </a:cubicBezTo>
                    <a:cubicBezTo>
                      <a:pt x="7087" y="5"/>
                      <a:pt x="7086" y="6"/>
                      <a:pt x="7085" y="6"/>
                    </a:cubicBezTo>
                    <a:lnTo>
                      <a:pt x="7085" y="6"/>
                    </a:lnTo>
                    <a:cubicBezTo>
                      <a:pt x="7084" y="6"/>
                      <a:pt x="7083" y="5"/>
                      <a:pt x="7083" y="4"/>
                    </a:cubicBezTo>
                    <a:cubicBezTo>
                      <a:pt x="7083" y="2"/>
                      <a:pt x="7084" y="2"/>
                      <a:pt x="7085" y="2"/>
                    </a:cubicBezTo>
                    <a:close/>
                    <a:moveTo>
                      <a:pt x="7093" y="2"/>
                    </a:moveTo>
                    <a:lnTo>
                      <a:pt x="7093" y="2"/>
                    </a:lnTo>
                    <a:cubicBezTo>
                      <a:pt x="7094" y="2"/>
                      <a:pt x="7095" y="2"/>
                      <a:pt x="7095" y="4"/>
                    </a:cubicBezTo>
                    <a:cubicBezTo>
                      <a:pt x="7095" y="5"/>
                      <a:pt x="7094" y="6"/>
                      <a:pt x="7093" y="6"/>
                    </a:cubicBezTo>
                    <a:lnTo>
                      <a:pt x="7093" y="6"/>
                    </a:lnTo>
                    <a:cubicBezTo>
                      <a:pt x="7092" y="6"/>
                      <a:pt x="7091" y="5"/>
                      <a:pt x="7091" y="4"/>
                    </a:cubicBezTo>
                    <a:cubicBezTo>
                      <a:pt x="7091" y="2"/>
                      <a:pt x="7092" y="2"/>
                      <a:pt x="7093" y="2"/>
                    </a:cubicBezTo>
                    <a:close/>
                    <a:moveTo>
                      <a:pt x="7101" y="2"/>
                    </a:moveTo>
                    <a:lnTo>
                      <a:pt x="7101" y="2"/>
                    </a:lnTo>
                    <a:cubicBezTo>
                      <a:pt x="7102" y="2"/>
                      <a:pt x="7103" y="2"/>
                      <a:pt x="7103" y="4"/>
                    </a:cubicBezTo>
                    <a:cubicBezTo>
                      <a:pt x="7103" y="5"/>
                      <a:pt x="7102" y="6"/>
                      <a:pt x="7101" y="6"/>
                    </a:cubicBezTo>
                    <a:lnTo>
                      <a:pt x="7101" y="6"/>
                    </a:lnTo>
                    <a:cubicBezTo>
                      <a:pt x="7100" y="6"/>
                      <a:pt x="7099" y="5"/>
                      <a:pt x="7099" y="4"/>
                    </a:cubicBezTo>
                    <a:cubicBezTo>
                      <a:pt x="7099" y="2"/>
                      <a:pt x="7100" y="2"/>
                      <a:pt x="7101" y="2"/>
                    </a:cubicBezTo>
                    <a:close/>
                    <a:moveTo>
                      <a:pt x="7109" y="2"/>
                    </a:moveTo>
                    <a:lnTo>
                      <a:pt x="7109" y="2"/>
                    </a:lnTo>
                    <a:cubicBezTo>
                      <a:pt x="7110" y="2"/>
                      <a:pt x="7111" y="2"/>
                      <a:pt x="7111" y="4"/>
                    </a:cubicBezTo>
                    <a:cubicBezTo>
                      <a:pt x="7111" y="5"/>
                      <a:pt x="7110" y="6"/>
                      <a:pt x="7109" y="6"/>
                    </a:cubicBezTo>
                    <a:lnTo>
                      <a:pt x="7109" y="6"/>
                    </a:lnTo>
                    <a:cubicBezTo>
                      <a:pt x="7108" y="6"/>
                      <a:pt x="7107" y="5"/>
                      <a:pt x="7107" y="4"/>
                    </a:cubicBezTo>
                    <a:cubicBezTo>
                      <a:pt x="7107" y="2"/>
                      <a:pt x="7108" y="2"/>
                      <a:pt x="7109" y="2"/>
                    </a:cubicBezTo>
                    <a:close/>
                    <a:moveTo>
                      <a:pt x="7117" y="2"/>
                    </a:moveTo>
                    <a:lnTo>
                      <a:pt x="7117" y="2"/>
                    </a:lnTo>
                    <a:cubicBezTo>
                      <a:pt x="7118" y="2"/>
                      <a:pt x="7119" y="2"/>
                      <a:pt x="7119" y="4"/>
                    </a:cubicBezTo>
                    <a:cubicBezTo>
                      <a:pt x="7119" y="5"/>
                      <a:pt x="7118" y="6"/>
                      <a:pt x="7117" y="6"/>
                    </a:cubicBezTo>
                    <a:lnTo>
                      <a:pt x="7117" y="6"/>
                    </a:lnTo>
                    <a:cubicBezTo>
                      <a:pt x="7116" y="6"/>
                      <a:pt x="7115" y="5"/>
                      <a:pt x="7115" y="4"/>
                    </a:cubicBezTo>
                    <a:cubicBezTo>
                      <a:pt x="7115" y="2"/>
                      <a:pt x="7116" y="2"/>
                      <a:pt x="7117" y="2"/>
                    </a:cubicBezTo>
                    <a:close/>
                    <a:moveTo>
                      <a:pt x="7125" y="2"/>
                    </a:moveTo>
                    <a:lnTo>
                      <a:pt x="7125" y="2"/>
                    </a:lnTo>
                    <a:cubicBezTo>
                      <a:pt x="7126" y="2"/>
                      <a:pt x="7127" y="2"/>
                      <a:pt x="7127" y="4"/>
                    </a:cubicBezTo>
                    <a:cubicBezTo>
                      <a:pt x="7127" y="5"/>
                      <a:pt x="7126" y="6"/>
                      <a:pt x="7125" y="6"/>
                    </a:cubicBezTo>
                    <a:lnTo>
                      <a:pt x="7125" y="6"/>
                    </a:lnTo>
                    <a:cubicBezTo>
                      <a:pt x="7124" y="6"/>
                      <a:pt x="7123" y="5"/>
                      <a:pt x="7123" y="4"/>
                    </a:cubicBezTo>
                    <a:cubicBezTo>
                      <a:pt x="7123" y="2"/>
                      <a:pt x="7124" y="2"/>
                      <a:pt x="7125" y="2"/>
                    </a:cubicBezTo>
                    <a:close/>
                    <a:moveTo>
                      <a:pt x="7133" y="2"/>
                    </a:moveTo>
                    <a:lnTo>
                      <a:pt x="7133" y="2"/>
                    </a:lnTo>
                    <a:cubicBezTo>
                      <a:pt x="7134" y="2"/>
                      <a:pt x="7135" y="2"/>
                      <a:pt x="7135" y="4"/>
                    </a:cubicBezTo>
                    <a:cubicBezTo>
                      <a:pt x="7135" y="5"/>
                      <a:pt x="7134" y="6"/>
                      <a:pt x="7133" y="6"/>
                    </a:cubicBezTo>
                    <a:lnTo>
                      <a:pt x="7133" y="6"/>
                    </a:lnTo>
                    <a:cubicBezTo>
                      <a:pt x="7132" y="6"/>
                      <a:pt x="7131" y="5"/>
                      <a:pt x="7131" y="4"/>
                    </a:cubicBezTo>
                    <a:cubicBezTo>
                      <a:pt x="7131" y="2"/>
                      <a:pt x="7132" y="2"/>
                      <a:pt x="7133" y="2"/>
                    </a:cubicBezTo>
                    <a:close/>
                    <a:moveTo>
                      <a:pt x="7141" y="2"/>
                    </a:moveTo>
                    <a:lnTo>
                      <a:pt x="7141" y="2"/>
                    </a:lnTo>
                    <a:cubicBezTo>
                      <a:pt x="7142" y="2"/>
                      <a:pt x="7143" y="2"/>
                      <a:pt x="7143" y="4"/>
                    </a:cubicBezTo>
                    <a:cubicBezTo>
                      <a:pt x="7143" y="5"/>
                      <a:pt x="7142" y="6"/>
                      <a:pt x="7141" y="6"/>
                    </a:cubicBezTo>
                    <a:lnTo>
                      <a:pt x="7141" y="6"/>
                    </a:lnTo>
                    <a:cubicBezTo>
                      <a:pt x="7140" y="6"/>
                      <a:pt x="7139" y="5"/>
                      <a:pt x="7139" y="4"/>
                    </a:cubicBezTo>
                    <a:cubicBezTo>
                      <a:pt x="7139" y="2"/>
                      <a:pt x="7140" y="2"/>
                      <a:pt x="7141" y="2"/>
                    </a:cubicBezTo>
                    <a:close/>
                    <a:moveTo>
                      <a:pt x="7149" y="2"/>
                    </a:moveTo>
                    <a:lnTo>
                      <a:pt x="7149" y="2"/>
                    </a:lnTo>
                    <a:cubicBezTo>
                      <a:pt x="7150" y="2"/>
                      <a:pt x="7151" y="2"/>
                      <a:pt x="7151" y="4"/>
                    </a:cubicBezTo>
                    <a:cubicBezTo>
                      <a:pt x="7151" y="5"/>
                      <a:pt x="7150" y="6"/>
                      <a:pt x="7149" y="6"/>
                    </a:cubicBezTo>
                    <a:lnTo>
                      <a:pt x="7149" y="6"/>
                    </a:lnTo>
                    <a:cubicBezTo>
                      <a:pt x="7148" y="6"/>
                      <a:pt x="7147" y="5"/>
                      <a:pt x="7147" y="4"/>
                    </a:cubicBezTo>
                    <a:cubicBezTo>
                      <a:pt x="7147" y="2"/>
                      <a:pt x="7148" y="2"/>
                      <a:pt x="7149" y="2"/>
                    </a:cubicBezTo>
                    <a:close/>
                    <a:moveTo>
                      <a:pt x="7157" y="2"/>
                    </a:moveTo>
                    <a:lnTo>
                      <a:pt x="7157" y="2"/>
                    </a:lnTo>
                    <a:cubicBezTo>
                      <a:pt x="7158" y="2"/>
                      <a:pt x="7159" y="2"/>
                      <a:pt x="7159" y="4"/>
                    </a:cubicBezTo>
                    <a:cubicBezTo>
                      <a:pt x="7159" y="5"/>
                      <a:pt x="7158" y="6"/>
                      <a:pt x="7157" y="6"/>
                    </a:cubicBezTo>
                    <a:lnTo>
                      <a:pt x="7157" y="6"/>
                    </a:lnTo>
                    <a:cubicBezTo>
                      <a:pt x="7156" y="6"/>
                      <a:pt x="7155" y="5"/>
                      <a:pt x="7155" y="4"/>
                    </a:cubicBezTo>
                    <a:cubicBezTo>
                      <a:pt x="7155" y="2"/>
                      <a:pt x="7156" y="2"/>
                      <a:pt x="7157" y="2"/>
                    </a:cubicBezTo>
                    <a:close/>
                    <a:moveTo>
                      <a:pt x="7165" y="2"/>
                    </a:moveTo>
                    <a:lnTo>
                      <a:pt x="7165" y="2"/>
                    </a:lnTo>
                    <a:cubicBezTo>
                      <a:pt x="7166" y="2"/>
                      <a:pt x="7167" y="2"/>
                      <a:pt x="7167" y="4"/>
                    </a:cubicBezTo>
                    <a:cubicBezTo>
                      <a:pt x="7167" y="5"/>
                      <a:pt x="7166" y="6"/>
                      <a:pt x="7165" y="6"/>
                    </a:cubicBezTo>
                    <a:lnTo>
                      <a:pt x="7165" y="6"/>
                    </a:lnTo>
                    <a:cubicBezTo>
                      <a:pt x="7164" y="6"/>
                      <a:pt x="7163" y="5"/>
                      <a:pt x="7163" y="4"/>
                    </a:cubicBezTo>
                    <a:cubicBezTo>
                      <a:pt x="7163" y="2"/>
                      <a:pt x="7164" y="2"/>
                      <a:pt x="7165" y="2"/>
                    </a:cubicBezTo>
                    <a:close/>
                    <a:moveTo>
                      <a:pt x="7173" y="2"/>
                    </a:moveTo>
                    <a:lnTo>
                      <a:pt x="7173" y="2"/>
                    </a:lnTo>
                    <a:cubicBezTo>
                      <a:pt x="7174" y="2"/>
                      <a:pt x="7175" y="2"/>
                      <a:pt x="7175" y="4"/>
                    </a:cubicBezTo>
                    <a:cubicBezTo>
                      <a:pt x="7175" y="5"/>
                      <a:pt x="7174" y="6"/>
                      <a:pt x="7173" y="6"/>
                    </a:cubicBezTo>
                    <a:lnTo>
                      <a:pt x="7173" y="6"/>
                    </a:lnTo>
                    <a:cubicBezTo>
                      <a:pt x="7172" y="6"/>
                      <a:pt x="7171" y="5"/>
                      <a:pt x="7171" y="4"/>
                    </a:cubicBezTo>
                    <a:cubicBezTo>
                      <a:pt x="7171" y="2"/>
                      <a:pt x="7172" y="2"/>
                      <a:pt x="7173" y="2"/>
                    </a:cubicBezTo>
                    <a:close/>
                    <a:moveTo>
                      <a:pt x="7181" y="2"/>
                    </a:moveTo>
                    <a:lnTo>
                      <a:pt x="7181" y="2"/>
                    </a:lnTo>
                    <a:cubicBezTo>
                      <a:pt x="7182" y="2"/>
                      <a:pt x="7183" y="2"/>
                      <a:pt x="7183" y="4"/>
                    </a:cubicBezTo>
                    <a:cubicBezTo>
                      <a:pt x="7183" y="5"/>
                      <a:pt x="7182" y="6"/>
                      <a:pt x="7181" y="6"/>
                    </a:cubicBezTo>
                    <a:lnTo>
                      <a:pt x="7181" y="6"/>
                    </a:lnTo>
                    <a:cubicBezTo>
                      <a:pt x="7180" y="6"/>
                      <a:pt x="7179" y="5"/>
                      <a:pt x="7179" y="4"/>
                    </a:cubicBezTo>
                    <a:cubicBezTo>
                      <a:pt x="7179" y="2"/>
                      <a:pt x="7180" y="2"/>
                      <a:pt x="7181" y="2"/>
                    </a:cubicBezTo>
                    <a:close/>
                    <a:moveTo>
                      <a:pt x="7189" y="2"/>
                    </a:moveTo>
                    <a:lnTo>
                      <a:pt x="7189" y="2"/>
                    </a:lnTo>
                    <a:cubicBezTo>
                      <a:pt x="7190" y="2"/>
                      <a:pt x="7191" y="2"/>
                      <a:pt x="7191" y="4"/>
                    </a:cubicBezTo>
                    <a:cubicBezTo>
                      <a:pt x="7191" y="5"/>
                      <a:pt x="7190" y="6"/>
                      <a:pt x="7189" y="6"/>
                    </a:cubicBezTo>
                    <a:lnTo>
                      <a:pt x="7189" y="6"/>
                    </a:lnTo>
                    <a:cubicBezTo>
                      <a:pt x="7188" y="6"/>
                      <a:pt x="7187" y="5"/>
                      <a:pt x="7187" y="4"/>
                    </a:cubicBezTo>
                    <a:cubicBezTo>
                      <a:pt x="7187" y="2"/>
                      <a:pt x="7188" y="2"/>
                      <a:pt x="7189" y="2"/>
                    </a:cubicBezTo>
                    <a:close/>
                    <a:moveTo>
                      <a:pt x="7197" y="2"/>
                    </a:moveTo>
                    <a:lnTo>
                      <a:pt x="7197" y="2"/>
                    </a:lnTo>
                    <a:cubicBezTo>
                      <a:pt x="7198" y="2"/>
                      <a:pt x="7199" y="2"/>
                      <a:pt x="7199" y="4"/>
                    </a:cubicBezTo>
                    <a:cubicBezTo>
                      <a:pt x="7199" y="5"/>
                      <a:pt x="7198" y="6"/>
                      <a:pt x="7197" y="6"/>
                    </a:cubicBezTo>
                    <a:lnTo>
                      <a:pt x="7197" y="6"/>
                    </a:lnTo>
                    <a:cubicBezTo>
                      <a:pt x="7196" y="6"/>
                      <a:pt x="7195" y="5"/>
                      <a:pt x="7195" y="4"/>
                    </a:cubicBezTo>
                    <a:cubicBezTo>
                      <a:pt x="7195" y="2"/>
                      <a:pt x="7196" y="2"/>
                      <a:pt x="7197" y="2"/>
                    </a:cubicBezTo>
                    <a:close/>
                    <a:moveTo>
                      <a:pt x="7205" y="2"/>
                    </a:moveTo>
                    <a:lnTo>
                      <a:pt x="7205" y="2"/>
                    </a:lnTo>
                    <a:cubicBezTo>
                      <a:pt x="7206" y="2"/>
                      <a:pt x="7207" y="2"/>
                      <a:pt x="7207" y="4"/>
                    </a:cubicBezTo>
                    <a:cubicBezTo>
                      <a:pt x="7207" y="5"/>
                      <a:pt x="7206" y="6"/>
                      <a:pt x="7205" y="6"/>
                    </a:cubicBezTo>
                    <a:lnTo>
                      <a:pt x="7205" y="6"/>
                    </a:lnTo>
                    <a:cubicBezTo>
                      <a:pt x="7204" y="6"/>
                      <a:pt x="7203" y="5"/>
                      <a:pt x="7203" y="4"/>
                    </a:cubicBezTo>
                    <a:cubicBezTo>
                      <a:pt x="7203" y="2"/>
                      <a:pt x="7204" y="2"/>
                      <a:pt x="7205" y="2"/>
                    </a:cubicBezTo>
                    <a:close/>
                    <a:moveTo>
                      <a:pt x="7213" y="2"/>
                    </a:moveTo>
                    <a:lnTo>
                      <a:pt x="7213" y="2"/>
                    </a:lnTo>
                    <a:cubicBezTo>
                      <a:pt x="7214" y="2"/>
                      <a:pt x="7215" y="2"/>
                      <a:pt x="7215" y="4"/>
                    </a:cubicBezTo>
                    <a:cubicBezTo>
                      <a:pt x="7215" y="5"/>
                      <a:pt x="7214" y="6"/>
                      <a:pt x="7213" y="6"/>
                    </a:cubicBezTo>
                    <a:lnTo>
                      <a:pt x="7213" y="6"/>
                    </a:lnTo>
                    <a:cubicBezTo>
                      <a:pt x="7212" y="6"/>
                      <a:pt x="7211" y="5"/>
                      <a:pt x="7211" y="4"/>
                    </a:cubicBezTo>
                    <a:cubicBezTo>
                      <a:pt x="7211" y="2"/>
                      <a:pt x="7212" y="2"/>
                      <a:pt x="7213" y="2"/>
                    </a:cubicBezTo>
                    <a:close/>
                    <a:moveTo>
                      <a:pt x="7221" y="2"/>
                    </a:moveTo>
                    <a:lnTo>
                      <a:pt x="7221" y="2"/>
                    </a:lnTo>
                    <a:cubicBezTo>
                      <a:pt x="7222" y="2"/>
                      <a:pt x="7223" y="2"/>
                      <a:pt x="7223" y="4"/>
                    </a:cubicBezTo>
                    <a:cubicBezTo>
                      <a:pt x="7223" y="5"/>
                      <a:pt x="7222" y="6"/>
                      <a:pt x="7221" y="6"/>
                    </a:cubicBezTo>
                    <a:lnTo>
                      <a:pt x="7221" y="6"/>
                    </a:lnTo>
                    <a:cubicBezTo>
                      <a:pt x="7220" y="6"/>
                      <a:pt x="7219" y="5"/>
                      <a:pt x="7219" y="4"/>
                    </a:cubicBezTo>
                    <a:cubicBezTo>
                      <a:pt x="7219" y="2"/>
                      <a:pt x="7220" y="2"/>
                      <a:pt x="7221" y="2"/>
                    </a:cubicBezTo>
                    <a:close/>
                    <a:moveTo>
                      <a:pt x="7229" y="2"/>
                    </a:moveTo>
                    <a:lnTo>
                      <a:pt x="7229" y="2"/>
                    </a:lnTo>
                    <a:cubicBezTo>
                      <a:pt x="7230" y="2"/>
                      <a:pt x="7231" y="2"/>
                      <a:pt x="7231" y="4"/>
                    </a:cubicBezTo>
                    <a:cubicBezTo>
                      <a:pt x="7231" y="5"/>
                      <a:pt x="7230" y="6"/>
                      <a:pt x="7229" y="6"/>
                    </a:cubicBezTo>
                    <a:lnTo>
                      <a:pt x="7229" y="6"/>
                    </a:lnTo>
                    <a:cubicBezTo>
                      <a:pt x="7228" y="6"/>
                      <a:pt x="7227" y="5"/>
                      <a:pt x="7227" y="4"/>
                    </a:cubicBezTo>
                    <a:cubicBezTo>
                      <a:pt x="7227" y="2"/>
                      <a:pt x="7228" y="2"/>
                      <a:pt x="7229" y="2"/>
                    </a:cubicBezTo>
                    <a:close/>
                    <a:moveTo>
                      <a:pt x="7237" y="2"/>
                    </a:moveTo>
                    <a:lnTo>
                      <a:pt x="7237" y="2"/>
                    </a:lnTo>
                    <a:cubicBezTo>
                      <a:pt x="7238" y="2"/>
                      <a:pt x="7239" y="2"/>
                      <a:pt x="7239" y="4"/>
                    </a:cubicBezTo>
                    <a:cubicBezTo>
                      <a:pt x="7239" y="5"/>
                      <a:pt x="7238" y="6"/>
                      <a:pt x="7237" y="6"/>
                    </a:cubicBezTo>
                    <a:lnTo>
                      <a:pt x="7237" y="6"/>
                    </a:lnTo>
                    <a:cubicBezTo>
                      <a:pt x="7236" y="6"/>
                      <a:pt x="7235" y="5"/>
                      <a:pt x="7235" y="4"/>
                    </a:cubicBezTo>
                    <a:cubicBezTo>
                      <a:pt x="7235" y="2"/>
                      <a:pt x="7236" y="2"/>
                      <a:pt x="7237" y="2"/>
                    </a:cubicBezTo>
                    <a:close/>
                    <a:moveTo>
                      <a:pt x="7245" y="2"/>
                    </a:moveTo>
                    <a:lnTo>
                      <a:pt x="7245" y="2"/>
                    </a:lnTo>
                    <a:cubicBezTo>
                      <a:pt x="7246" y="2"/>
                      <a:pt x="7247" y="2"/>
                      <a:pt x="7247" y="4"/>
                    </a:cubicBezTo>
                    <a:cubicBezTo>
                      <a:pt x="7247" y="5"/>
                      <a:pt x="7246" y="6"/>
                      <a:pt x="7245" y="6"/>
                    </a:cubicBezTo>
                    <a:lnTo>
                      <a:pt x="7245" y="6"/>
                    </a:lnTo>
                    <a:cubicBezTo>
                      <a:pt x="7244" y="6"/>
                      <a:pt x="7243" y="5"/>
                      <a:pt x="7243" y="4"/>
                    </a:cubicBezTo>
                    <a:cubicBezTo>
                      <a:pt x="7243" y="2"/>
                      <a:pt x="7244" y="2"/>
                      <a:pt x="7245" y="2"/>
                    </a:cubicBezTo>
                    <a:close/>
                    <a:moveTo>
                      <a:pt x="7253" y="2"/>
                    </a:moveTo>
                    <a:lnTo>
                      <a:pt x="7253" y="2"/>
                    </a:lnTo>
                    <a:cubicBezTo>
                      <a:pt x="7254" y="2"/>
                      <a:pt x="7255" y="2"/>
                      <a:pt x="7255" y="4"/>
                    </a:cubicBezTo>
                    <a:cubicBezTo>
                      <a:pt x="7255" y="5"/>
                      <a:pt x="7254" y="6"/>
                      <a:pt x="7253" y="6"/>
                    </a:cubicBezTo>
                    <a:lnTo>
                      <a:pt x="7253" y="6"/>
                    </a:lnTo>
                    <a:cubicBezTo>
                      <a:pt x="7252" y="6"/>
                      <a:pt x="7251" y="5"/>
                      <a:pt x="7251" y="4"/>
                    </a:cubicBezTo>
                    <a:cubicBezTo>
                      <a:pt x="7251" y="2"/>
                      <a:pt x="7252" y="2"/>
                      <a:pt x="7253" y="2"/>
                    </a:cubicBezTo>
                    <a:close/>
                    <a:moveTo>
                      <a:pt x="7261" y="2"/>
                    </a:moveTo>
                    <a:lnTo>
                      <a:pt x="7261" y="2"/>
                    </a:lnTo>
                    <a:cubicBezTo>
                      <a:pt x="7262" y="2"/>
                      <a:pt x="7263" y="2"/>
                      <a:pt x="7263" y="4"/>
                    </a:cubicBezTo>
                    <a:cubicBezTo>
                      <a:pt x="7263" y="5"/>
                      <a:pt x="7262" y="6"/>
                      <a:pt x="7261" y="6"/>
                    </a:cubicBezTo>
                    <a:lnTo>
                      <a:pt x="7261" y="6"/>
                    </a:lnTo>
                    <a:cubicBezTo>
                      <a:pt x="7260" y="6"/>
                      <a:pt x="7259" y="5"/>
                      <a:pt x="7259" y="4"/>
                    </a:cubicBezTo>
                    <a:cubicBezTo>
                      <a:pt x="7259" y="2"/>
                      <a:pt x="7260" y="2"/>
                      <a:pt x="7261" y="2"/>
                    </a:cubicBezTo>
                    <a:close/>
                    <a:moveTo>
                      <a:pt x="7269" y="2"/>
                    </a:moveTo>
                    <a:lnTo>
                      <a:pt x="7269" y="2"/>
                    </a:lnTo>
                    <a:cubicBezTo>
                      <a:pt x="7270" y="2"/>
                      <a:pt x="7271" y="2"/>
                      <a:pt x="7271" y="4"/>
                    </a:cubicBezTo>
                    <a:cubicBezTo>
                      <a:pt x="7271" y="5"/>
                      <a:pt x="7270" y="6"/>
                      <a:pt x="7269" y="6"/>
                    </a:cubicBezTo>
                    <a:lnTo>
                      <a:pt x="7269" y="6"/>
                    </a:lnTo>
                    <a:cubicBezTo>
                      <a:pt x="7268" y="6"/>
                      <a:pt x="7267" y="5"/>
                      <a:pt x="7267" y="4"/>
                    </a:cubicBezTo>
                    <a:cubicBezTo>
                      <a:pt x="7267" y="2"/>
                      <a:pt x="7268" y="2"/>
                      <a:pt x="7269" y="2"/>
                    </a:cubicBezTo>
                    <a:close/>
                    <a:moveTo>
                      <a:pt x="7277" y="2"/>
                    </a:moveTo>
                    <a:lnTo>
                      <a:pt x="7277" y="2"/>
                    </a:lnTo>
                    <a:cubicBezTo>
                      <a:pt x="7278" y="2"/>
                      <a:pt x="7279" y="2"/>
                      <a:pt x="7279" y="4"/>
                    </a:cubicBezTo>
                    <a:cubicBezTo>
                      <a:pt x="7279" y="5"/>
                      <a:pt x="7278" y="6"/>
                      <a:pt x="7277" y="6"/>
                    </a:cubicBezTo>
                    <a:lnTo>
                      <a:pt x="7277" y="6"/>
                    </a:lnTo>
                    <a:cubicBezTo>
                      <a:pt x="7276" y="6"/>
                      <a:pt x="7275" y="5"/>
                      <a:pt x="7275" y="4"/>
                    </a:cubicBezTo>
                    <a:cubicBezTo>
                      <a:pt x="7275" y="2"/>
                      <a:pt x="7276" y="2"/>
                      <a:pt x="7277" y="2"/>
                    </a:cubicBezTo>
                    <a:close/>
                    <a:moveTo>
                      <a:pt x="7285" y="2"/>
                    </a:moveTo>
                    <a:lnTo>
                      <a:pt x="7285" y="2"/>
                    </a:lnTo>
                    <a:cubicBezTo>
                      <a:pt x="7286" y="2"/>
                      <a:pt x="7287" y="2"/>
                      <a:pt x="7287" y="4"/>
                    </a:cubicBezTo>
                    <a:cubicBezTo>
                      <a:pt x="7287" y="5"/>
                      <a:pt x="7286" y="6"/>
                      <a:pt x="7285" y="6"/>
                    </a:cubicBezTo>
                    <a:lnTo>
                      <a:pt x="7285" y="6"/>
                    </a:lnTo>
                    <a:cubicBezTo>
                      <a:pt x="7284" y="6"/>
                      <a:pt x="7283" y="5"/>
                      <a:pt x="7283" y="4"/>
                    </a:cubicBezTo>
                    <a:cubicBezTo>
                      <a:pt x="7283" y="2"/>
                      <a:pt x="7284" y="2"/>
                      <a:pt x="7285" y="2"/>
                    </a:cubicBezTo>
                    <a:close/>
                    <a:moveTo>
                      <a:pt x="7293" y="2"/>
                    </a:moveTo>
                    <a:lnTo>
                      <a:pt x="7293" y="2"/>
                    </a:lnTo>
                    <a:cubicBezTo>
                      <a:pt x="7294" y="2"/>
                      <a:pt x="7295" y="2"/>
                      <a:pt x="7295" y="4"/>
                    </a:cubicBezTo>
                    <a:cubicBezTo>
                      <a:pt x="7295" y="5"/>
                      <a:pt x="7294" y="6"/>
                      <a:pt x="7293" y="6"/>
                    </a:cubicBezTo>
                    <a:lnTo>
                      <a:pt x="7293" y="6"/>
                    </a:lnTo>
                    <a:cubicBezTo>
                      <a:pt x="7292" y="6"/>
                      <a:pt x="7291" y="5"/>
                      <a:pt x="7291" y="4"/>
                    </a:cubicBezTo>
                    <a:cubicBezTo>
                      <a:pt x="7291" y="2"/>
                      <a:pt x="7292" y="2"/>
                      <a:pt x="7293" y="2"/>
                    </a:cubicBezTo>
                    <a:close/>
                    <a:moveTo>
                      <a:pt x="7301" y="2"/>
                    </a:moveTo>
                    <a:lnTo>
                      <a:pt x="7301" y="2"/>
                    </a:lnTo>
                    <a:cubicBezTo>
                      <a:pt x="7302" y="2"/>
                      <a:pt x="7303" y="2"/>
                      <a:pt x="7303" y="4"/>
                    </a:cubicBezTo>
                    <a:cubicBezTo>
                      <a:pt x="7303" y="5"/>
                      <a:pt x="7302" y="6"/>
                      <a:pt x="7301" y="6"/>
                    </a:cubicBezTo>
                    <a:lnTo>
                      <a:pt x="7301" y="6"/>
                    </a:lnTo>
                    <a:cubicBezTo>
                      <a:pt x="7300" y="6"/>
                      <a:pt x="7299" y="5"/>
                      <a:pt x="7299" y="4"/>
                    </a:cubicBezTo>
                    <a:cubicBezTo>
                      <a:pt x="7299" y="2"/>
                      <a:pt x="7300" y="2"/>
                      <a:pt x="7301" y="2"/>
                    </a:cubicBezTo>
                    <a:close/>
                    <a:moveTo>
                      <a:pt x="7309" y="2"/>
                    </a:moveTo>
                    <a:lnTo>
                      <a:pt x="7309" y="2"/>
                    </a:lnTo>
                    <a:cubicBezTo>
                      <a:pt x="7310" y="2"/>
                      <a:pt x="7311" y="2"/>
                      <a:pt x="7311" y="4"/>
                    </a:cubicBezTo>
                    <a:cubicBezTo>
                      <a:pt x="7311" y="5"/>
                      <a:pt x="7310" y="6"/>
                      <a:pt x="7309" y="6"/>
                    </a:cubicBezTo>
                    <a:lnTo>
                      <a:pt x="7309" y="6"/>
                    </a:lnTo>
                    <a:cubicBezTo>
                      <a:pt x="7308" y="6"/>
                      <a:pt x="7307" y="5"/>
                      <a:pt x="7307" y="4"/>
                    </a:cubicBezTo>
                    <a:cubicBezTo>
                      <a:pt x="7307" y="2"/>
                      <a:pt x="7308" y="2"/>
                      <a:pt x="7309" y="2"/>
                    </a:cubicBezTo>
                    <a:close/>
                    <a:moveTo>
                      <a:pt x="7317" y="2"/>
                    </a:moveTo>
                    <a:lnTo>
                      <a:pt x="7317" y="2"/>
                    </a:lnTo>
                    <a:cubicBezTo>
                      <a:pt x="7319" y="2"/>
                      <a:pt x="7319" y="2"/>
                      <a:pt x="7319" y="4"/>
                    </a:cubicBezTo>
                    <a:cubicBezTo>
                      <a:pt x="7319" y="5"/>
                      <a:pt x="7319" y="6"/>
                      <a:pt x="7317" y="6"/>
                    </a:cubicBezTo>
                    <a:lnTo>
                      <a:pt x="7317" y="6"/>
                    </a:lnTo>
                    <a:cubicBezTo>
                      <a:pt x="7316" y="6"/>
                      <a:pt x="7315" y="5"/>
                      <a:pt x="7315" y="4"/>
                    </a:cubicBezTo>
                    <a:cubicBezTo>
                      <a:pt x="7315" y="2"/>
                      <a:pt x="7316" y="2"/>
                      <a:pt x="7317" y="2"/>
                    </a:cubicBezTo>
                    <a:close/>
                    <a:moveTo>
                      <a:pt x="7325" y="2"/>
                    </a:moveTo>
                    <a:lnTo>
                      <a:pt x="7325" y="2"/>
                    </a:lnTo>
                    <a:cubicBezTo>
                      <a:pt x="7327" y="2"/>
                      <a:pt x="7327" y="2"/>
                      <a:pt x="7327" y="4"/>
                    </a:cubicBezTo>
                    <a:cubicBezTo>
                      <a:pt x="7327" y="5"/>
                      <a:pt x="7327" y="6"/>
                      <a:pt x="7325" y="6"/>
                    </a:cubicBezTo>
                    <a:lnTo>
                      <a:pt x="7325" y="6"/>
                    </a:lnTo>
                    <a:cubicBezTo>
                      <a:pt x="7324" y="6"/>
                      <a:pt x="7323" y="5"/>
                      <a:pt x="7323" y="4"/>
                    </a:cubicBezTo>
                    <a:cubicBezTo>
                      <a:pt x="7323" y="2"/>
                      <a:pt x="7324" y="2"/>
                      <a:pt x="7325" y="2"/>
                    </a:cubicBezTo>
                    <a:close/>
                    <a:moveTo>
                      <a:pt x="7333" y="2"/>
                    </a:moveTo>
                    <a:lnTo>
                      <a:pt x="7333" y="2"/>
                    </a:lnTo>
                    <a:cubicBezTo>
                      <a:pt x="7335" y="2"/>
                      <a:pt x="7335" y="2"/>
                      <a:pt x="7335" y="4"/>
                    </a:cubicBezTo>
                    <a:cubicBezTo>
                      <a:pt x="7335" y="5"/>
                      <a:pt x="7335" y="6"/>
                      <a:pt x="7333" y="6"/>
                    </a:cubicBezTo>
                    <a:lnTo>
                      <a:pt x="7333" y="6"/>
                    </a:lnTo>
                    <a:cubicBezTo>
                      <a:pt x="7332" y="6"/>
                      <a:pt x="7331" y="5"/>
                      <a:pt x="7331" y="4"/>
                    </a:cubicBezTo>
                    <a:cubicBezTo>
                      <a:pt x="7331" y="2"/>
                      <a:pt x="7332" y="2"/>
                      <a:pt x="7333" y="2"/>
                    </a:cubicBezTo>
                    <a:close/>
                    <a:moveTo>
                      <a:pt x="7341" y="2"/>
                    </a:moveTo>
                    <a:lnTo>
                      <a:pt x="7341" y="2"/>
                    </a:lnTo>
                    <a:cubicBezTo>
                      <a:pt x="7343" y="2"/>
                      <a:pt x="7343" y="2"/>
                      <a:pt x="7343" y="4"/>
                    </a:cubicBezTo>
                    <a:cubicBezTo>
                      <a:pt x="7343" y="5"/>
                      <a:pt x="7343" y="6"/>
                      <a:pt x="7341" y="6"/>
                    </a:cubicBezTo>
                    <a:lnTo>
                      <a:pt x="7341" y="6"/>
                    </a:lnTo>
                    <a:cubicBezTo>
                      <a:pt x="7340" y="6"/>
                      <a:pt x="7339" y="5"/>
                      <a:pt x="7339" y="4"/>
                    </a:cubicBezTo>
                    <a:cubicBezTo>
                      <a:pt x="7339" y="2"/>
                      <a:pt x="7340" y="2"/>
                      <a:pt x="7341" y="2"/>
                    </a:cubicBezTo>
                    <a:close/>
                    <a:moveTo>
                      <a:pt x="7349" y="2"/>
                    </a:moveTo>
                    <a:lnTo>
                      <a:pt x="7349" y="2"/>
                    </a:lnTo>
                    <a:cubicBezTo>
                      <a:pt x="7351" y="2"/>
                      <a:pt x="7351" y="2"/>
                      <a:pt x="7351" y="4"/>
                    </a:cubicBezTo>
                    <a:cubicBezTo>
                      <a:pt x="7351" y="5"/>
                      <a:pt x="7351" y="6"/>
                      <a:pt x="7349" y="6"/>
                    </a:cubicBezTo>
                    <a:lnTo>
                      <a:pt x="7349" y="6"/>
                    </a:lnTo>
                    <a:cubicBezTo>
                      <a:pt x="7348" y="6"/>
                      <a:pt x="7347" y="5"/>
                      <a:pt x="7347" y="4"/>
                    </a:cubicBezTo>
                    <a:cubicBezTo>
                      <a:pt x="7347" y="2"/>
                      <a:pt x="7348" y="2"/>
                      <a:pt x="7349" y="2"/>
                    </a:cubicBezTo>
                    <a:close/>
                    <a:moveTo>
                      <a:pt x="7357" y="2"/>
                    </a:moveTo>
                    <a:lnTo>
                      <a:pt x="7357" y="2"/>
                    </a:lnTo>
                    <a:cubicBezTo>
                      <a:pt x="7359" y="2"/>
                      <a:pt x="7359" y="2"/>
                      <a:pt x="7359" y="4"/>
                    </a:cubicBezTo>
                    <a:cubicBezTo>
                      <a:pt x="7359" y="5"/>
                      <a:pt x="7359" y="6"/>
                      <a:pt x="7357" y="6"/>
                    </a:cubicBezTo>
                    <a:lnTo>
                      <a:pt x="7357" y="6"/>
                    </a:lnTo>
                    <a:cubicBezTo>
                      <a:pt x="7356" y="6"/>
                      <a:pt x="7355" y="5"/>
                      <a:pt x="7355" y="4"/>
                    </a:cubicBezTo>
                    <a:cubicBezTo>
                      <a:pt x="7355" y="2"/>
                      <a:pt x="7356" y="2"/>
                      <a:pt x="7357" y="2"/>
                    </a:cubicBezTo>
                    <a:close/>
                    <a:moveTo>
                      <a:pt x="7365" y="2"/>
                    </a:moveTo>
                    <a:lnTo>
                      <a:pt x="7365" y="2"/>
                    </a:lnTo>
                    <a:cubicBezTo>
                      <a:pt x="7367" y="2"/>
                      <a:pt x="7367" y="2"/>
                      <a:pt x="7367" y="4"/>
                    </a:cubicBezTo>
                    <a:cubicBezTo>
                      <a:pt x="7367" y="5"/>
                      <a:pt x="7367" y="6"/>
                      <a:pt x="7365" y="6"/>
                    </a:cubicBezTo>
                    <a:lnTo>
                      <a:pt x="7365" y="6"/>
                    </a:lnTo>
                    <a:cubicBezTo>
                      <a:pt x="7364" y="6"/>
                      <a:pt x="7363" y="5"/>
                      <a:pt x="7363" y="4"/>
                    </a:cubicBezTo>
                    <a:cubicBezTo>
                      <a:pt x="7363" y="2"/>
                      <a:pt x="7364" y="2"/>
                      <a:pt x="7365" y="2"/>
                    </a:cubicBezTo>
                    <a:close/>
                    <a:moveTo>
                      <a:pt x="7373" y="2"/>
                    </a:moveTo>
                    <a:lnTo>
                      <a:pt x="7373" y="2"/>
                    </a:lnTo>
                    <a:cubicBezTo>
                      <a:pt x="7375" y="2"/>
                      <a:pt x="7375" y="2"/>
                      <a:pt x="7375" y="4"/>
                    </a:cubicBezTo>
                    <a:cubicBezTo>
                      <a:pt x="7375" y="5"/>
                      <a:pt x="7375" y="6"/>
                      <a:pt x="7373" y="6"/>
                    </a:cubicBezTo>
                    <a:lnTo>
                      <a:pt x="7373" y="6"/>
                    </a:lnTo>
                    <a:cubicBezTo>
                      <a:pt x="7372" y="6"/>
                      <a:pt x="7371" y="5"/>
                      <a:pt x="7371" y="4"/>
                    </a:cubicBezTo>
                    <a:cubicBezTo>
                      <a:pt x="7371" y="2"/>
                      <a:pt x="7372" y="2"/>
                      <a:pt x="7373" y="2"/>
                    </a:cubicBezTo>
                    <a:close/>
                    <a:moveTo>
                      <a:pt x="7381" y="2"/>
                    </a:moveTo>
                    <a:lnTo>
                      <a:pt x="7381" y="2"/>
                    </a:lnTo>
                    <a:cubicBezTo>
                      <a:pt x="7383" y="2"/>
                      <a:pt x="7383" y="2"/>
                      <a:pt x="7383" y="4"/>
                    </a:cubicBezTo>
                    <a:cubicBezTo>
                      <a:pt x="7383" y="5"/>
                      <a:pt x="7383" y="6"/>
                      <a:pt x="7381" y="6"/>
                    </a:cubicBezTo>
                    <a:lnTo>
                      <a:pt x="7381" y="6"/>
                    </a:lnTo>
                    <a:cubicBezTo>
                      <a:pt x="7380" y="6"/>
                      <a:pt x="7379" y="5"/>
                      <a:pt x="7379" y="4"/>
                    </a:cubicBezTo>
                    <a:cubicBezTo>
                      <a:pt x="7379" y="2"/>
                      <a:pt x="7380" y="2"/>
                      <a:pt x="7381" y="2"/>
                    </a:cubicBezTo>
                    <a:close/>
                    <a:moveTo>
                      <a:pt x="7389" y="2"/>
                    </a:moveTo>
                    <a:lnTo>
                      <a:pt x="7389" y="2"/>
                    </a:lnTo>
                    <a:cubicBezTo>
                      <a:pt x="7391" y="2"/>
                      <a:pt x="7391" y="2"/>
                      <a:pt x="7391" y="4"/>
                    </a:cubicBezTo>
                    <a:cubicBezTo>
                      <a:pt x="7391" y="5"/>
                      <a:pt x="7391" y="6"/>
                      <a:pt x="7389" y="6"/>
                    </a:cubicBezTo>
                    <a:lnTo>
                      <a:pt x="7389" y="6"/>
                    </a:lnTo>
                    <a:cubicBezTo>
                      <a:pt x="7388" y="6"/>
                      <a:pt x="7387" y="5"/>
                      <a:pt x="7387" y="4"/>
                    </a:cubicBezTo>
                    <a:cubicBezTo>
                      <a:pt x="7387" y="2"/>
                      <a:pt x="7388" y="2"/>
                      <a:pt x="7389" y="2"/>
                    </a:cubicBezTo>
                    <a:close/>
                    <a:moveTo>
                      <a:pt x="7397" y="2"/>
                    </a:moveTo>
                    <a:lnTo>
                      <a:pt x="7397" y="2"/>
                    </a:lnTo>
                    <a:cubicBezTo>
                      <a:pt x="7399" y="2"/>
                      <a:pt x="7399" y="2"/>
                      <a:pt x="7399" y="4"/>
                    </a:cubicBezTo>
                    <a:cubicBezTo>
                      <a:pt x="7399" y="5"/>
                      <a:pt x="7399" y="6"/>
                      <a:pt x="7397" y="6"/>
                    </a:cubicBezTo>
                    <a:lnTo>
                      <a:pt x="7397" y="6"/>
                    </a:lnTo>
                    <a:cubicBezTo>
                      <a:pt x="7396" y="6"/>
                      <a:pt x="7395" y="5"/>
                      <a:pt x="7395" y="4"/>
                    </a:cubicBezTo>
                    <a:cubicBezTo>
                      <a:pt x="7395" y="2"/>
                      <a:pt x="7396" y="2"/>
                      <a:pt x="7397" y="2"/>
                    </a:cubicBezTo>
                    <a:close/>
                    <a:moveTo>
                      <a:pt x="7405" y="2"/>
                    </a:moveTo>
                    <a:lnTo>
                      <a:pt x="7405" y="2"/>
                    </a:lnTo>
                    <a:cubicBezTo>
                      <a:pt x="7407" y="2"/>
                      <a:pt x="7407" y="2"/>
                      <a:pt x="7407" y="4"/>
                    </a:cubicBezTo>
                    <a:cubicBezTo>
                      <a:pt x="7407" y="5"/>
                      <a:pt x="7407" y="6"/>
                      <a:pt x="7405" y="6"/>
                    </a:cubicBezTo>
                    <a:lnTo>
                      <a:pt x="7405" y="6"/>
                    </a:lnTo>
                    <a:cubicBezTo>
                      <a:pt x="7404" y="6"/>
                      <a:pt x="7403" y="5"/>
                      <a:pt x="7403" y="4"/>
                    </a:cubicBezTo>
                    <a:cubicBezTo>
                      <a:pt x="7403" y="2"/>
                      <a:pt x="7404" y="2"/>
                      <a:pt x="7405" y="2"/>
                    </a:cubicBezTo>
                    <a:close/>
                    <a:moveTo>
                      <a:pt x="7413" y="2"/>
                    </a:moveTo>
                    <a:lnTo>
                      <a:pt x="7413" y="2"/>
                    </a:lnTo>
                    <a:cubicBezTo>
                      <a:pt x="7415" y="2"/>
                      <a:pt x="7415" y="2"/>
                      <a:pt x="7415" y="4"/>
                    </a:cubicBezTo>
                    <a:cubicBezTo>
                      <a:pt x="7415" y="5"/>
                      <a:pt x="7415" y="6"/>
                      <a:pt x="7413" y="6"/>
                    </a:cubicBezTo>
                    <a:lnTo>
                      <a:pt x="7413" y="6"/>
                    </a:lnTo>
                    <a:cubicBezTo>
                      <a:pt x="7412" y="6"/>
                      <a:pt x="7411" y="5"/>
                      <a:pt x="7411" y="4"/>
                    </a:cubicBezTo>
                    <a:cubicBezTo>
                      <a:pt x="7411" y="2"/>
                      <a:pt x="7412" y="2"/>
                      <a:pt x="7413" y="2"/>
                    </a:cubicBezTo>
                    <a:close/>
                    <a:moveTo>
                      <a:pt x="7421" y="2"/>
                    </a:moveTo>
                    <a:lnTo>
                      <a:pt x="7421" y="2"/>
                    </a:lnTo>
                    <a:cubicBezTo>
                      <a:pt x="7423" y="2"/>
                      <a:pt x="7423" y="2"/>
                      <a:pt x="7423" y="4"/>
                    </a:cubicBezTo>
                    <a:cubicBezTo>
                      <a:pt x="7423" y="5"/>
                      <a:pt x="7423" y="6"/>
                      <a:pt x="7421" y="6"/>
                    </a:cubicBezTo>
                    <a:lnTo>
                      <a:pt x="7421" y="6"/>
                    </a:lnTo>
                    <a:cubicBezTo>
                      <a:pt x="7420" y="6"/>
                      <a:pt x="7419" y="5"/>
                      <a:pt x="7419" y="4"/>
                    </a:cubicBezTo>
                    <a:cubicBezTo>
                      <a:pt x="7419" y="2"/>
                      <a:pt x="7420" y="2"/>
                      <a:pt x="7421" y="2"/>
                    </a:cubicBezTo>
                    <a:close/>
                    <a:moveTo>
                      <a:pt x="7429" y="2"/>
                    </a:moveTo>
                    <a:lnTo>
                      <a:pt x="7429" y="2"/>
                    </a:lnTo>
                    <a:cubicBezTo>
                      <a:pt x="7431" y="2"/>
                      <a:pt x="7431" y="2"/>
                      <a:pt x="7431" y="4"/>
                    </a:cubicBezTo>
                    <a:cubicBezTo>
                      <a:pt x="7431" y="5"/>
                      <a:pt x="7431" y="6"/>
                      <a:pt x="7429" y="6"/>
                    </a:cubicBezTo>
                    <a:lnTo>
                      <a:pt x="7429" y="6"/>
                    </a:lnTo>
                    <a:cubicBezTo>
                      <a:pt x="7428" y="6"/>
                      <a:pt x="7427" y="5"/>
                      <a:pt x="7427" y="4"/>
                    </a:cubicBezTo>
                    <a:cubicBezTo>
                      <a:pt x="7427" y="2"/>
                      <a:pt x="7428" y="2"/>
                      <a:pt x="7429" y="2"/>
                    </a:cubicBezTo>
                    <a:close/>
                    <a:moveTo>
                      <a:pt x="7437" y="2"/>
                    </a:moveTo>
                    <a:lnTo>
                      <a:pt x="7437" y="2"/>
                    </a:lnTo>
                    <a:cubicBezTo>
                      <a:pt x="7439" y="2"/>
                      <a:pt x="7439" y="2"/>
                      <a:pt x="7439" y="4"/>
                    </a:cubicBezTo>
                    <a:cubicBezTo>
                      <a:pt x="7439" y="5"/>
                      <a:pt x="7439" y="6"/>
                      <a:pt x="7437" y="6"/>
                    </a:cubicBezTo>
                    <a:lnTo>
                      <a:pt x="7437" y="6"/>
                    </a:lnTo>
                    <a:cubicBezTo>
                      <a:pt x="7436" y="6"/>
                      <a:pt x="7435" y="5"/>
                      <a:pt x="7435" y="4"/>
                    </a:cubicBezTo>
                    <a:cubicBezTo>
                      <a:pt x="7435" y="2"/>
                      <a:pt x="7436" y="2"/>
                      <a:pt x="7437" y="2"/>
                    </a:cubicBezTo>
                    <a:close/>
                    <a:moveTo>
                      <a:pt x="7445" y="2"/>
                    </a:moveTo>
                    <a:lnTo>
                      <a:pt x="7445" y="2"/>
                    </a:lnTo>
                    <a:cubicBezTo>
                      <a:pt x="7447" y="2"/>
                      <a:pt x="7447" y="2"/>
                      <a:pt x="7447" y="4"/>
                    </a:cubicBezTo>
                    <a:cubicBezTo>
                      <a:pt x="7447" y="5"/>
                      <a:pt x="7447" y="6"/>
                      <a:pt x="7445" y="6"/>
                    </a:cubicBezTo>
                    <a:lnTo>
                      <a:pt x="7445" y="6"/>
                    </a:lnTo>
                    <a:cubicBezTo>
                      <a:pt x="7444" y="6"/>
                      <a:pt x="7443" y="5"/>
                      <a:pt x="7443" y="4"/>
                    </a:cubicBezTo>
                    <a:cubicBezTo>
                      <a:pt x="7443" y="2"/>
                      <a:pt x="7444" y="2"/>
                      <a:pt x="7445" y="2"/>
                    </a:cubicBezTo>
                    <a:close/>
                    <a:moveTo>
                      <a:pt x="7453" y="2"/>
                    </a:moveTo>
                    <a:lnTo>
                      <a:pt x="7453" y="2"/>
                    </a:lnTo>
                    <a:cubicBezTo>
                      <a:pt x="7455" y="2"/>
                      <a:pt x="7455" y="2"/>
                      <a:pt x="7455" y="4"/>
                    </a:cubicBezTo>
                    <a:cubicBezTo>
                      <a:pt x="7455" y="5"/>
                      <a:pt x="7455" y="6"/>
                      <a:pt x="7453" y="6"/>
                    </a:cubicBezTo>
                    <a:lnTo>
                      <a:pt x="7453" y="6"/>
                    </a:lnTo>
                    <a:cubicBezTo>
                      <a:pt x="7452" y="6"/>
                      <a:pt x="7451" y="5"/>
                      <a:pt x="7451" y="4"/>
                    </a:cubicBezTo>
                    <a:cubicBezTo>
                      <a:pt x="7451" y="2"/>
                      <a:pt x="7452" y="2"/>
                      <a:pt x="7453" y="2"/>
                    </a:cubicBezTo>
                    <a:close/>
                    <a:moveTo>
                      <a:pt x="7461" y="2"/>
                    </a:moveTo>
                    <a:lnTo>
                      <a:pt x="7461" y="2"/>
                    </a:lnTo>
                    <a:cubicBezTo>
                      <a:pt x="7463" y="2"/>
                      <a:pt x="7463" y="2"/>
                      <a:pt x="7463" y="4"/>
                    </a:cubicBezTo>
                    <a:cubicBezTo>
                      <a:pt x="7463" y="5"/>
                      <a:pt x="7463" y="6"/>
                      <a:pt x="7461" y="6"/>
                    </a:cubicBezTo>
                    <a:lnTo>
                      <a:pt x="7461" y="6"/>
                    </a:lnTo>
                    <a:cubicBezTo>
                      <a:pt x="7460" y="6"/>
                      <a:pt x="7459" y="5"/>
                      <a:pt x="7459" y="4"/>
                    </a:cubicBezTo>
                    <a:cubicBezTo>
                      <a:pt x="7459" y="2"/>
                      <a:pt x="7460" y="2"/>
                      <a:pt x="7461" y="2"/>
                    </a:cubicBezTo>
                    <a:close/>
                    <a:moveTo>
                      <a:pt x="7469" y="2"/>
                    </a:moveTo>
                    <a:lnTo>
                      <a:pt x="7469" y="2"/>
                    </a:lnTo>
                    <a:cubicBezTo>
                      <a:pt x="7471" y="2"/>
                      <a:pt x="7471" y="3"/>
                      <a:pt x="7471" y="4"/>
                    </a:cubicBezTo>
                    <a:cubicBezTo>
                      <a:pt x="7471" y="5"/>
                      <a:pt x="7471" y="6"/>
                      <a:pt x="7469" y="6"/>
                    </a:cubicBezTo>
                    <a:lnTo>
                      <a:pt x="7469" y="6"/>
                    </a:lnTo>
                    <a:cubicBezTo>
                      <a:pt x="7468" y="6"/>
                      <a:pt x="7467" y="5"/>
                      <a:pt x="7467" y="4"/>
                    </a:cubicBezTo>
                    <a:cubicBezTo>
                      <a:pt x="7467" y="3"/>
                      <a:pt x="7468" y="2"/>
                      <a:pt x="7469" y="2"/>
                    </a:cubicBezTo>
                    <a:close/>
                    <a:moveTo>
                      <a:pt x="7477" y="2"/>
                    </a:moveTo>
                    <a:lnTo>
                      <a:pt x="7477" y="2"/>
                    </a:lnTo>
                    <a:cubicBezTo>
                      <a:pt x="7479" y="2"/>
                      <a:pt x="7479" y="3"/>
                      <a:pt x="7479" y="4"/>
                    </a:cubicBezTo>
                    <a:cubicBezTo>
                      <a:pt x="7479" y="5"/>
                      <a:pt x="7479" y="6"/>
                      <a:pt x="7477" y="6"/>
                    </a:cubicBezTo>
                    <a:lnTo>
                      <a:pt x="7477" y="6"/>
                    </a:lnTo>
                    <a:cubicBezTo>
                      <a:pt x="7476" y="6"/>
                      <a:pt x="7475" y="5"/>
                      <a:pt x="7475" y="4"/>
                    </a:cubicBezTo>
                    <a:cubicBezTo>
                      <a:pt x="7475" y="3"/>
                      <a:pt x="7476" y="2"/>
                      <a:pt x="7477" y="2"/>
                    </a:cubicBezTo>
                    <a:close/>
                    <a:moveTo>
                      <a:pt x="7485" y="2"/>
                    </a:moveTo>
                    <a:lnTo>
                      <a:pt x="7485" y="2"/>
                    </a:lnTo>
                    <a:cubicBezTo>
                      <a:pt x="7487" y="2"/>
                      <a:pt x="7487" y="3"/>
                      <a:pt x="7487" y="4"/>
                    </a:cubicBezTo>
                    <a:cubicBezTo>
                      <a:pt x="7487" y="5"/>
                      <a:pt x="7487" y="6"/>
                      <a:pt x="7485" y="6"/>
                    </a:cubicBezTo>
                    <a:lnTo>
                      <a:pt x="7485" y="6"/>
                    </a:lnTo>
                    <a:cubicBezTo>
                      <a:pt x="7484" y="6"/>
                      <a:pt x="7483" y="5"/>
                      <a:pt x="7483" y="4"/>
                    </a:cubicBezTo>
                    <a:cubicBezTo>
                      <a:pt x="7483" y="3"/>
                      <a:pt x="7484" y="2"/>
                      <a:pt x="7485" y="2"/>
                    </a:cubicBezTo>
                    <a:close/>
                    <a:moveTo>
                      <a:pt x="7493" y="2"/>
                    </a:moveTo>
                    <a:lnTo>
                      <a:pt x="7493" y="2"/>
                    </a:lnTo>
                    <a:cubicBezTo>
                      <a:pt x="7495" y="2"/>
                      <a:pt x="7495" y="3"/>
                      <a:pt x="7495" y="4"/>
                    </a:cubicBezTo>
                    <a:cubicBezTo>
                      <a:pt x="7495" y="5"/>
                      <a:pt x="7495" y="6"/>
                      <a:pt x="7493" y="6"/>
                    </a:cubicBezTo>
                    <a:lnTo>
                      <a:pt x="7493" y="6"/>
                    </a:lnTo>
                    <a:cubicBezTo>
                      <a:pt x="7492" y="6"/>
                      <a:pt x="7491" y="5"/>
                      <a:pt x="7491" y="4"/>
                    </a:cubicBezTo>
                    <a:cubicBezTo>
                      <a:pt x="7491" y="3"/>
                      <a:pt x="7492" y="2"/>
                      <a:pt x="7493" y="2"/>
                    </a:cubicBezTo>
                    <a:close/>
                    <a:moveTo>
                      <a:pt x="7501" y="2"/>
                    </a:moveTo>
                    <a:lnTo>
                      <a:pt x="7501" y="2"/>
                    </a:lnTo>
                    <a:cubicBezTo>
                      <a:pt x="7503" y="2"/>
                      <a:pt x="7503" y="3"/>
                      <a:pt x="7503" y="4"/>
                    </a:cubicBezTo>
                    <a:cubicBezTo>
                      <a:pt x="7503" y="5"/>
                      <a:pt x="7503" y="6"/>
                      <a:pt x="7501" y="6"/>
                    </a:cubicBezTo>
                    <a:lnTo>
                      <a:pt x="7501" y="6"/>
                    </a:lnTo>
                    <a:cubicBezTo>
                      <a:pt x="7500" y="6"/>
                      <a:pt x="7499" y="5"/>
                      <a:pt x="7499" y="4"/>
                    </a:cubicBezTo>
                    <a:cubicBezTo>
                      <a:pt x="7499" y="3"/>
                      <a:pt x="7500" y="2"/>
                      <a:pt x="7501" y="2"/>
                    </a:cubicBezTo>
                    <a:close/>
                    <a:moveTo>
                      <a:pt x="7509" y="2"/>
                    </a:moveTo>
                    <a:lnTo>
                      <a:pt x="7509" y="2"/>
                    </a:lnTo>
                    <a:cubicBezTo>
                      <a:pt x="7511" y="2"/>
                      <a:pt x="7511" y="3"/>
                      <a:pt x="7511" y="4"/>
                    </a:cubicBezTo>
                    <a:cubicBezTo>
                      <a:pt x="7511" y="5"/>
                      <a:pt x="7511" y="6"/>
                      <a:pt x="7509" y="6"/>
                    </a:cubicBezTo>
                    <a:lnTo>
                      <a:pt x="7509" y="6"/>
                    </a:lnTo>
                    <a:cubicBezTo>
                      <a:pt x="7508" y="6"/>
                      <a:pt x="7507" y="5"/>
                      <a:pt x="7507" y="4"/>
                    </a:cubicBezTo>
                    <a:cubicBezTo>
                      <a:pt x="7507" y="3"/>
                      <a:pt x="7508" y="2"/>
                      <a:pt x="7509" y="2"/>
                    </a:cubicBezTo>
                    <a:close/>
                    <a:moveTo>
                      <a:pt x="7517" y="2"/>
                    </a:moveTo>
                    <a:lnTo>
                      <a:pt x="7517" y="2"/>
                    </a:lnTo>
                    <a:cubicBezTo>
                      <a:pt x="7519" y="2"/>
                      <a:pt x="7519" y="3"/>
                      <a:pt x="7519" y="4"/>
                    </a:cubicBezTo>
                    <a:cubicBezTo>
                      <a:pt x="7519" y="5"/>
                      <a:pt x="7519" y="6"/>
                      <a:pt x="7517" y="6"/>
                    </a:cubicBezTo>
                    <a:lnTo>
                      <a:pt x="7517" y="6"/>
                    </a:lnTo>
                    <a:cubicBezTo>
                      <a:pt x="7516" y="6"/>
                      <a:pt x="7515" y="5"/>
                      <a:pt x="7515" y="4"/>
                    </a:cubicBezTo>
                    <a:cubicBezTo>
                      <a:pt x="7515" y="3"/>
                      <a:pt x="7516" y="2"/>
                      <a:pt x="7517" y="2"/>
                    </a:cubicBezTo>
                    <a:close/>
                    <a:moveTo>
                      <a:pt x="7525" y="2"/>
                    </a:moveTo>
                    <a:lnTo>
                      <a:pt x="7525" y="2"/>
                    </a:lnTo>
                    <a:cubicBezTo>
                      <a:pt x="7527" y="2"/>
                      <a:pt x="7527" y="3"/>
                      <a:pt x="7527" y="4"/>
                    </a:cubicBezTo>
                    <a:cubicBezTo>
                      <a:pt x="7527" y="5"/>
                      <a:pt x="7527" y="6"/>
                      <a:pt x="7525" y="6"/>
                    </a:cubicBezTo>
                    <a:lnTo>
                      <a:pt x="7525" y="6"/>
                    </a:lnTo>
                    <a:cubicBezTo>
                      <a:pt x="7524" y="6"/>
                      <a:pt x="7523" y="5"/>
                      <a:pt x="7523" y="4"/>
                    </a:cubicBezTo>
                    <a:cubicBezTo>
                      <a:pt x="7523" y="3"/>
                      <a:pt x="7524" y="2"/>
                      <a:pt x="7525" y="2"/>
                    </a:cubicBezTo>
                    <a:close/>
                    <a:moveTo>
                      <a:pt x="7533" y="2"/>
                    </a:moveTo>
                    <a:lnTo>
                      <a:pt x="7534" y="2"/>
                    </a:lnTo>
                    <a:cubicBezTo>
                      <a:pt x="7535" y="2"/>
                      <a:pt x="7536" y="3"/>
                      <a:pt x="7536" y="4"/>
                    </a:cubicBezTo>
                    <a:cubicBezTo>
                      <a:pt x="7536" y="5"/>
                      <a:pt x="7535" y="6"/>
                      <a:pt x="7534" y="6"/>
                    </a:cubicBezTo>
                    <a:lnTo>
                      <a:pt x="7533" y="6"/>
                    </a:lnTo>
                    <a:cubicBezTo>
                      <a:pt x="7532" y="6"/>
                      <a:pt x="7531" y="5"/>
                      <a:pt x="7531" y="4"/>
                    </a:cubicBezTo>
                    <a:cubicBezTo>
                      <a:pt x="7531" y="3"/>
                      <a:pt x="7532" y="2"/>
                      <a:pt x="7533" y="2"/>
                    </a:cubicBezTo>
                    <a:close/>
                    <a:moveTo>
                      <a:pt x="7542" y="2"/>
                    </a:moveTo>
                    <a:lnTo>
                      <a:pt x="7542" y="2"/>
                    </a:lnTo>
                    <a:cubicBezTo>
                      <a:pt x="7543" y="2"/>
                      <a:pt x="7544" y="3"/>
                      <a:pt x="7544" y="4"/>
                    </a:cubicBezTo>
                    <a:cubicBezTo>
                      <a:pt x="7544" y="5"/>
                      <a:pt x="7543" y="6"/>
                      <a:pt x="7542" y="6"/>
                    </a:cubicBezTo>
                    <a:lnTo>
                      <a:pt x="7542" y="6"/>
                    </a:lnTo>
                    <a:cubicBezTo>
                      <a:pt x="7540" y="6"/>
                      <a:pt x="7540" y="5"/>
                      <a:pt x="7540" y="4"/>
                    </a:cubicBezTo>
                    <a:cubicBezTo>
                      <a:pt x="7540" y="3"/>
                      <a:pt x="7540" y="2"/>
                      <a:pt x="7542" y="2"/>
                    </a:cubicBezTo>
                    <a:close/>
                    <a:moveTo>
                      <a:pt x="7550" y="2"/>
                    </a:moveTo>
                    <a:lnTo>
                      <a:pt x="7550" y="2"/>
                    </a:lnTo>
                    <a:cubicBezTo>
                      <a:pt x="7551" y="2"/>
                      <a:pt x="7552" y="3"/>
                      <a:pt x="7552" y="4"/>
                    </a:cubicBezTo>
                    <a:cubicBezTo>
                      <a:pt x="7552" y="5"/>
                      <a:pt x="7551" y="6"/>
                      <a:pt x="7550" y="6"/>
                    </a:cubicBezTo>
                    <a:lnTo>
                      <a:pt x="7550" y="6"/>
                    </a:lnTo>
                    <a:cubicBezTo>
                      <a:pt x="7548" y="6"/>
                      <a:pt x="7548" y="5"/>
                      <a:pt x="7548" y="4"/>
                    </a:cubicBezTo>
                    <a:cubicBezTo>
                      <a:pt x="7548" y="3"/>
                      <a:pt x="7548" y="2"/>
                      <a:pt x="7550" y="2"/>
                    </a:cubicBezTo>
                    <a:close/>
                    <a:moveTo>
                      <a:pt x="7558" y="2"/>
                    </a:moveTo>
                    <a:lnTo>
                      <a:pt x="7558" y="2"/>
                    </a:lnTo>
                    <a:cubicBezTo>
                      <a:pt x="7559" y="2"/>
                      <a:pt x="7560" y="3"/>
                      <a:pt x="7560" y="4"/>
                    </a:cubicBezTo>
                    <a:cubicBezTo>
                      <a:pt x="7560" y="5"/>
                      <a:pt x="7559" y="6"/>
                      <a:pt x="7558" y="6"/>
                    </a:cubicBezTo>
                    <a:lnTo>
                      <a:pt x="7558" y="6"/>
                    </a:lnTo>
                    <a:cubicBezTo>
                      <a:pt x="7556" y="6"/>
                      <a:pt x="7556" y="5"/>
                      <a:pt x="7556" y="4"/>
                    </a:cubicBezTo>
                    <a:cubicBezTo>
                      <a:pt x="7556" y="3"/>
                      <a:pt x="7556" y="2"/>
                      <a:pt x="7558" y="2"/>
                    </a:cubicBezTo>
                    <a:close/>
                    <a:moveTo>
                      <a:pt x="7566" y="2"/>
                    </a:moveTo>
                    <a:lnTo>
                      <a:pt x="7566" y="2"/>
                    </a:lnTo>
                    <a:cubicBezTo>
                      <a:pt x="7567" y="2"/>
                      <a:pt x="7568" y="3"/>
                      <a:pt x="7568" y="4"/>
                    </a:cubicBezTo>
                    <a:cubicBezTo>
                      <a:pt x="7568" y="5"/>
                      <a:pt x="7567" y="6"/>
                      <a:pt x="7566" y="6"/>
                    </a:cubicBezTo>
                    <a:lnTo>
                      <a:pt x="7566" y="6"/>
                    </a:lnTo>
                    <a:cubicBezTo>
                      <a:pt x="7564" y="6"/>
                      <a:pt x="7564" y="5"/>
                      <a:pt x="7564" y="4"/>
                    </a:cubicBezTo>
                    <a:cubicBezTo>
                      <a:pt x="7564" y="3"/>
                      <a:pt x="7564" y="2"/>
                      <a:pt x="7566" y="2"/>
                    </a:cubicBezTo>
                    <a:close/>
                    <a:moveTo>
                      <a:pt x="7574" y="2"/>
                    </a:moveTo>
                    <a:lnTo>
                      <a:pt x="7574" y="2"/>
                    </a:lnTo>
                    <a:cubicBezTo>
                      <a:pt x="7575" y="2"/>
                      <a:pt x="7576" y="3"/>
                      <a:pt x="7576" y="4"/>
                    </a:cubicBezTo>
                    <a:cubicBezTo>
                      <a:pt x="7576" y="5"/>
                      <a:pt x="7575" y="6"/>
                      <a:pt x="7574" y="6"/>
                    </a:cubicBezTo>
                    <a:lnTo>
                      <a:pt x="7574" y="6"/>
                    </a:lnTo>
                    <a:cubicBezTo>
                      <a:pt x="7572" y="6"/>
                      <a:pt x="7572" y="5"/>
                      <a:pt x="7572" y="4"/>
                    </a:cubicBezTo>
                    <a:cubicBezTo>
                      <a:pt x="7572" y="3"/>
                      <a:pt x="7572" y="2"/>
                      <a:pt x="7574" y="2"/>
                    </a:cubicBezTo>
                    <a:close/>
                    <a:moveTo>
                      <a:pt x="7582" y="2"/>
                    </a:moveTo>
                    <a:lnTo>
                      <a:pt x="7582" y="2"/>
                    </a:lnTo>
                    <a:cubicBezTo>
                      <a:pt x="7583" y="2"/>
                      <a:pt x="7584" y="3"/>
                      <a:pt x="7584" y="4"/>
                    </a:cubicBezTo>
                    <a:cubicBezTo>
                      <a:pt x="7584" y="5"/>
                      <a:pt x="7583" y="6"/>
                      <a:pt x="7582" y="6"/>
                    </a:cubicBezTo>
                    <a:lnTo>
                      <a:pt x="7582" y="6"/>
                    </a:lnTo>
                    <a:cubicBezTo>
                      <a:pt x="7580" y="6"/>
                      <a:pt x="7580" y="5"/>
                      <a:pt x="7580" y="4"/>
                    </a:cubicBezTo>
                    <a:cubicBezTo>
                      <a:pt x="7580" y="3"/>
                      <a:pt x="7580" y="2"/>
                      <a:pt x="7582" y="2"/>
                    </a:cubicBezTo>
                    <a:close/>
                    <a:moveTo>
                      <a:pt x="7590" y="2"/>
                    </a:moveTo>
                    <a:lnTo>
                      <a:pt x="7590" y="2"/>
                    </a:lnTo>
                    <a:cubicBezTo>
                      <a:pt x="7591" y="2"/>
                      <a:pt x="7592" y="3"/>
                      <a:pt x="7592" y="4"/>
                    </a:cubicBezTo>
                    <a:cubicBezTo>
                      <a:pt x="7592" y="5"/>
                      <a:pt x="7591" y="6"/>
                      <a:pt x="7590" y="6"/>
                    </a:cubicBezTo>
                    <a:lnTo>
                      <a:pt x="7590" y="6"/>
                    </a:lnTo>
                    <a:cubicBezTo>
                      <a:pt x="7588" y="6"/>
                      <a:pt x="7588" y="5"/>
                      <a:pt x="7588" y="4"/>
                    </a:cubicBezTo>
                    <a:cubicBezTo>
                      <a:pt x="7588" y="3"/>
                      <a:pt x="7588" y="2"/>
                      <a:pt x="7590" y="2"/>
                    </a:cubicBezTo>
                    <a:close/>
                    <a:moveTo>
                      <a:pt x="7598" y="2"/>
                    </a:moveTo>
                    <a:lnTo>
                      <a:pt x="7598" y="2"/>
                    </a:lnTo>
                    <a:cubicBezTo>
                      <a:pt x="7599" y="2"/>
                      <a:pt x="7600" y="3"/>
                      <a:pt x="7600" y="4"/>
                    </a:cubicBezTo>
                    <a:cubicBezTo>
                      <a:pt x="7600" y="5"/>
                      <a:pt x="7599" y="6"/>
                      <a:pt x="7598" y="6"/>
                    </a:cubicBezTo>
                    <a:lnTo>
                      <a:pt x="7598" y="6"/>
                    </a:lnTo>
                    <a:cubicBezTo>
                      <a:pt x="7596" y="6"/>
                      <a:pt x="7596" y="5"/>
                      <a:pt x="7596" y="4"/>
                    </a:cubicBezTo>
                    <a:cubicBezTo>
                      <a:pt x="7596" y="3"/>
                      <a:pt x="7596" y="2"/>
                      <a:pt x="7598" y="2"/>
                    </a:cubicBezTo>
                    <a:close/>
                    <a:moveTo>
                      <a:pt x="7606" y="2"/>
                    </a:moveTo>
                    <a:lnTo>
                      <a:pt x="7606" y="2"/>
                    </a:lnTo>
                    <a:cubicBezTo>
                      <a:pt x="7607" y="2"/>
                      <a:pt x="7608" y="3"/>
                      <a:pt x="7608" y="4"/>
                    </a:cubicBezTo>
                    <a:cubicBezTo>
                      <a:pt x="7608" y="5"/>
                      <a:pt x="7607" y="6"/>
                      <a:pt x="7606" y="6"/>
                    </a:cubicBezTo>
                    <a:lnTo>
                      <a:pt x="7606" y="6"/>
                    </a:lnTo>
                    <a:cubicBezTo>
                      <a:pt x="7604" y="6"/>
                      <a:pt x="7604" y="5"/>
                      <a:pt x="7604" y="4"/>
                    </a:cubicBezTo>
                    <a:cubicBezTo>
                      <a:pt x="7604" y="3"/>
                      <a:pt x="7604" y="2"/>
                      <a:pt x="7606" y="2"/>
                    </a:cubicBezTo>
                    <a:close/>
                    <a:moveTo>
                      <a:pt x="7614" y="2"/>
                    </a:moveTo>
                    <a:lnTo>
                      <a:pt x="7614" y="2"/>
                    </a:lnTo>
                    <a:cubicBezTo>
                      <a:pt x="7615" y="2"/>
                      <a:pt x="7616" y="3"/>
                      <a:pt x="7616" y="4"/>
                    </a:cubicBezTo>
                    <a:cubicBezTo>
                      <a:pt x="7616" y="5"/>
                      <a:pt x="7615" y="6"/>
                      <a:pt x="7614" y="6"/>
                    </a:cubicBezTo>
                    <a:lnTo>
                      <a:pt x="7614" y="6"/>
                    </a:lnTo>
                    <a:cubicBezTo>
                      <a:pt x="7612" y="6"/>
                      <a:pt x="7612" y="5"/>
                      <a:pt x="7612" y="4"/>
                    </a:cubicBezTo>
                    <a:cubicBezTo>
                      <a:pt x="7612" y="3"/>
                      <a:pt x="7612" y="2"/>
                      <a:pt x="7614" y="2"/>
                    </a:cubicBezTo>
                    <a:close/>
                    <a:moveTo>
                      <a:pt x="7622" y="2"/>
                    </a:moveTo>
                    <a:lnTo>
                      <a:pt x="7622" y="2"/>
                    </a:lnTo>
                    <a:cubicBezTo>
                      <a:pt x="7623" y="2"/>
                      <a:pt x="7624" y="3"/>
                      <a:pt x="7624" y="4"/>
                    </a:cubicBezTo>
                    <a:cubicBezTo>
                      <a:pt x="7624" y="5"/>
                      <a:pt x="7623" y="6"/>
                      <a:pt x="7622" y="6"/>
                    </a:cubicBezTo>
                    <a:lnTo>
                      <a:pt x="7622" y="6"/>
                    </a:lnTo>
                    <a:cubicBezTo>
                      <a:pt x="7620" y="6"/>
                      <a:pt x="7620" y="5"/>
                      <a:pt x="7620" y="4"/>
                    </a:cubicBezTo>
                    <a:cubicBezTo>
                      <a:pt x="7620" y="3"/>
                      <a:pt x="7620" y="2"/>
                      <a:pt x="7622" y="2"/>
                    </a:cubicBezTo>
                    <a:close/>
                    <a:moveTo>
                      <a:pt x="7630" y="2"/>
                    </a:moveTo>
                    <a:lnTo>
                      <a:pt x="7630" y="2"/>
                    </a:lnTo>
                    <a:cubicBezTo>
                      <a:pt x="7631" y="2"/>
                      <a:pt x="7632" y="3"/>
                      <a:pt x="7632" y="4"/>
                    </a:cubicBezTo>
                    <a:cubicBezTo>
                      <a:pt x="7632" y="5"/>
                      <a:pt x="7631" y="6"/>
                      <a:pt x="7630" y="6"/>
                    </a:cubicBezTo>
                    <a:lnTo>
                      <a:pt x="7630" y="6"/>
                    </a:lnTo>
                    <a:cubicBezTo>
                      <a:pt x="7628" y="6"/>
                      <a:pt x="7628" y="5"/>
                      <a:pt x="7628" y="4"/>
                    </a:cubicBezTo>
                    <a:cubicBezTo>
                      <a:pt x="7628" y="3"/>
                      <a:pt x="7628" y="2"/>
                      <a:pt x="7630" y="2"/>
                    </a:cubicBezTo>
                    <a:close/>
                    <a:moveTo>
                      <a:pt x="7638" y="2"/>
                    </a:moveTo>
                    <a:lnTo>
                      <a:pt x="7638" y="2"/>
                    </a:lnTo>
                    <a:cubicBezTo>
                      <a:pt x="7639" y="2"/>
                      <a:pt x="7640" y="3"/>
                      <a:pt x="7640" y="4"/>
                    </a:cubicBezTo>
                    <a:cubicBezTo>
                      <a:pt x="7640" y="5"/>
                      <a:pt x="7639" y="6"/>
                      <a:pt x="7638" y="6"/>
                    </a:cubicBezTo>
                    <a:lnTo>
                      <a:pt x="7638" y="6"/>
                    </a:lnTo>
                    <a:cubicBezTo>
                      <a:pt x="7636" y="6"/>
                      <a:pt x="7636" y="5"/>
                      <a:pt x="7636" y="4"/>
                    </a:cubicBezTo>
                    <a:cubicBezTo>
                      <a:pt x="7636" y="3"/>
                      <a:pt x="7636" y="2"/>
                      <a:pt x="7638" y="2"/>
                    </a:cubicBezTo>
                    <a:close/>
                    <a:moveTo>
                      <a:pt x="7646" y="2"/>
                    </a:moveTo>
                    <a:lnTo>
                      <a:pt x="7646" y="2"/>
                    </a:lnTo>
                    <a:cubicBezTo>
                      <a:pt x="7647" y="2"/>
                      <a:pt x="7648" y="3"/>
                      <a:pt x="7648" y="4"/>
                    </a:cubicBezTo>
                    <a:cubicBezTo>
                      <a:pt x="7648" y="5"/>
                      <a:pt x="7647" y="6"/>
                      <a:pt x="7646" y="6"/>
                    </a:cubicBezTo>
                    <a:lnTo>
                      <a:pt x="7646" y="6"/>
                    </a:lnTo>
                    <a:cubicBezTo>
                      <a:pt x="7644" y="6"/>
                      <a:pt x="7644" y="5"/>
                      <a:pt x="7644" y="4"/>
                    </a:cubicBezTo>
                    <a:cubicBezTo>
                      <a:pt x="7644" y="3"/>
                      <a:pt x="7644" y="2"/>
                      <a:pt x="7646" y="2"/>
                    </a:cubicBezTo>
                    <a:close/>
                    <a:moveTo>
                      <a:pt x="7654" y="2"/>
                    </a:moveTo>
                    <a:lnTo>
                      <a:pt x="7654" y="2"/>
                    </a:lnTo>
                    <a:cubicBezTo>
                      <a:pt x="7655" y="2"/>
                      <a:pt x="7656" y="3"/>
                      <a:pt x="7656" y="4"/>
                    </a:cubicBezTo>
                    <a:cubicBezTo>
                      <a:pt x="7656" y="5"/>
                      <a:pt x="7655" y="6"/>
                      <a:pt x="7654" y="6"/>
                    </a:cubicBezTo>
                    <a:lnTo>
                      <a:pt x="7654" y="6"/>
                    </a:lnTo>
                    <a:cubicBezTo>
                      <a:pt x="7652" y="6"/>
                      <a:pt x="7652" y="5"/>
                      <a:pt x="7652" y="4"/>
                    </a:cubicBezTo>
                    <a:cubicBezTo>
                      <a:pt x="7652" y="3"/>
                      <a:pt x="7652" y="2"/>
                      <a:pt x="7654" y="2"/>
                    </a:cubicBezTo>
                    <a:close/>
                    <a:moveTo>
                      <a:pt x="7662" y="2"/>
                    </a:moveTo>
                    <a:lnTo>
                      <a:pt x="7662" y="2"/>
                    </a:lnTo>
                    <a:cubicBezTo>
                      <a:pt x="7663" y="2"/>
                      <a:pt x="7664" y="3"/>
                      <a:pt x="7664" y="4"/>
                    </a:cubicBezTo>
                    <a:cubicBezTo>
                      <a:pt x="7664" y="5"/>
                      <a:pt x="7663" y="6"/>
                      <a:pt x="7662" y="6"/>
                    </a:cubicBezTo>
                    <a:lnTo>
                      <a:pt x="7662" y="6"/>
                    </a:lnTo>
                    <a:cubicBezTo>
                      <a:pt x="7660" y="6"/>
                      <a:pt x="7660" y="5"/>
                      <a:pt x="7660" y="4"/>
                    </a:cubicBezTo>
                    <a:cubicBezTo>
                      <a:pt x="7660" y="3"/>
                      <a:pt x="7660" y="2"/>
                      <a:pt x="7662" y="2"/>
                    </a:cubicBezTo>
                    <a:close/>
                    <a:moveTo>
                      <a:pt x="7670" y="2"/>
                    </a:moveTo>
                    <a:lnTo>
                      <a:pt x="7670" y="2"/>
                    </a:lnTo>
                    <a:cubicBezTo>
                      <a:pt x="7671" y="2"/>
                      <a:pt x="7672" y="3"/>
                      <a:pt x="7672" y="4"/>
                    </a:cubicBezTo>
                    <a:cubicBezTo>
                      <a:pt x="7672" y="5"/>
                      <a:pt x="7671" y="6"/>
                      <a:pt x="7670" y="6"/>
                    </a:cubicBezTo>
                    <a:lnTo>
                      <a:pt x="7670" y="6"/>
                    </a:lnTo>
                    <a:cubicBezTo>
                      <a:pt x="7668" y="6"/>
                      <a:pt x="7668" y="5"/>
                      <a:pt x="7668" y="4"/>
                    </a:cubicBezTo>
                    <a:cubicBezTo>
                      <a:pt x="7668" y="3"/>
                      <a:pt x="7668" y="2"/>
                      <a:pt x="7670" y="2"/>
                    </a:cubicBezTo>
                    <a:close/>
                    <a:moveTo>
                      <a:pt x="7678" y="2"/>
                    </a:moveTo>
                    <a:lnTo>
                      <a:pt x="7678" y="2"/>
                    </a:lnTo>
                    <a:cubicBezTo>
                      <a:pt x="7679" y="2"/>
                      <a:pt x="7680" y="3"/>
                      <a:pt x="7680" y="4"/>
                    </a:cubicBezTo>
                    <a:cubicBezTo>
                      <a:pt x="7680" y="5"/>
                      <a:pt x="7679" y="6"/>
                      <a:pt x="7678" y="6"/>
                    </a:cubicBezTo>
                    <a:lnTo>
                      <a:pt x="7678" y="6"/>
                    </a:lnTo>
                    <a:cubicBezTo>
                      <a:pt x="7676" y="6"/>
                      <a:pt x="7676" y="5"/>
                      <a:pt x="7676" y="4"/>
                    </a:cubicBezTo>
                    <a:cubicBezTo>
                      <a:pt x="7676" y="3"/>
                      <a:pt x="7676" y="2"/>
                      <a:pt x="7678" y="2"/>
                    </a:cubicBezTo>
                    <a:close/>
                    <a:moveTo>
                      <a:pt x="7686" y="2"/>
                    </a:moveTo>
                    <a:lnTo>
                      <a:pt x="7686" y="2"/>
                    </a:lnTo>
                    <a:cubicBezTo>
                      <a:pt x="7687" y="2"/>
                      <a:pt x="7688" y="3"/>
                      <a:pt x="7688" y="4"/>
                    </a:cubicBezTo>
                    <a:cubicBezTo>
                      <a:pt x="7688" y="5"/>
                      <a:pt x="7687" y="6"/>
                      <a:pt x="7686" y="6"/>
                    </a:cubicBezTo>
                    <a:lnTo>
                      <a:pt x="7686" y="6"/>
                    </a:lnTo>
                    <a:cubicBezTo>
                      <a:pt x="7684" y="6"/>
                      <a:pt x="7684" y="5"/>
                      <a:pt x="7684" y="4"/>
                    </a:cubicBezTo>
                    <a:cubicBezTo>
                      <a:pt x="7684" y="3"/>
                      <a:pt x="7684" y="2"/>
                      <a:pt x="7686" y="2"/>
                    </a:cubicBezTo>
                    <a:close/>
                    <a:moveTo>
                      <a:pt x="7694" y="2"/>
                    </a:moveTo>
                    <a:lnTo>
                      <a:pt x="7694" y="2"/>
                    </a:lnTo>
                    <a:cubicBezTo>
                      <a:pt x="7695" y="2"/>
                      <a:pt x="7696" y="3"/>
                      <a:pt x="7696" y="4"/>
                    </a:cubicBezTo>
                    <a:cubicBezTo>
                      <a:pt x="7696" y="5"/>
                      <a:pt x="7695" y="6"/>
                      <a:pt x="7694" y="6"/>
                    </a:cubicBezTo>
                    <a:lnTo>
                      <a:pt x="7694" y="6"/>
                    </a:lnTo>
                    <a:cubicBezTo>
                      <a:pt x="7692" y="6"/>
                      <a:pt x="7692" y="5"/>
                      <a:pt x="7692" y="4"/>
                    </a:cubicBezTo>
                    <a:cubicBezTo>
                      <a:pt x="7692" y="3"/>
                      <a:pt x="7692" y="2"/>
                      <a:pt x="7694" y="2"/>
                    </a:cubicBezTo>
                    <a:close/>
                    <a:moveTo>
                      <a:pt x="7702" y="2"/>
                    </a:moveTo>
                    <a:lnTo>
                      <a:pt x="7702" y="2"/>
                    </a:lnTo>
                    <a:cubicBezTo>
                      <a:pt x="7703" y="2"/>
                      <a:pt x="7704" y="3"/>
                      <a:pt x="7704" y="4"/>
                    </a:cubicBezTo>
                    <a:cubicBezTo>
                      <a:pt x="7704" y="5"/>
                      <a:pt x="7703" y="6"/>
                      <a:pt x="7702" y="6"/>
                    </a:cubicBezTo>
                    <a:lnTo>
                      <a:pt x="7702" y="6"/>
                    </a:lnTo>
                    <a:cubicBezTo>
                      <a:pt x="7700" y="6"/>
                      <a:pt x="7700" y="5"/>
                      <a:pt x="7700" y="4"/>
                    </a:cubicBezTo>
                    <a:cubicBezTo>
                      <a:pt x="7700" y="3"/>
                      <a:pt x="7700" y="2"/>
                      <a:pt x="7702" y="2"/>
                    </a:cubicBezTo>
                    <a:close/>
                    <a:moveTo>
                      <a:pt x="7710" y="2"/>
                    </a:moveTo>
                    <a:lnTo>
                      <a:pt x="7710" y="2"/>
                    </a:lnTo>
                    <a:cubicBezTo>
                      <a:pt x="7711" y="2"/>
                      <a:pt x="7712" y="3"/>
                      <a:pt x="7712" y="4"/>
                    </a:cubicBezTo>
                    <a:cubicBezTo>
                      <a:pt x="7712" y="5"/>
                      <a:pt x="7711" y="6"/>
                      <a:pt x="7710" y="6"/>
                    </a:cubicBezTo>
                    <a:lnTo>
                      <a:pt x="7710" y="6"/>
                    </a:lnTo>
                    <a:cubicBezTo>
                      <a:pt x="7708" y="6"/>
                      <a:pt x="7708" y="5"/>
                      <a:pt x="7708" y="4"/>
                    </a:cubicBezTo>
                    <a:cubicBezTo>
                      <a:pt x="7708" y="3"/>
                      <a:pt x="7708" y="2"/>
                      <a:pt x="7710" y="2"/>
                    </a:cubicBezTo>
                    <a:close/>
                    <a:moveTo>
                      <a:pt x="7718" y="2"/>
                    </a:moveTo>
                    <a:lnTo>
                      <a:pt x="7718" y="2"/>
                    </a:lnTo>
                    <a:cubicBezTo>
                      <a:pt x="7719" y="2"/>
                      <a:pt x="7720" y="3"/>
                      <a:pt x="7720" y="4"/>
                    </a:cubicBezTo>
                    <a:cubicBezTo>
                      <a:pt x="7720" y="5"/>
                      <a:pt x="7719" y="6"/>
                      <a:pt x="7718" y="6"/>
                    </a:cubicBezTo>
                    <a:lnTo>
                      <a:pt x="7718" y="6"/>
                    </a:lnTo>
                    <a:cubicBezTo>
                      <a:pt x="7716" y="6"/>
                      <a:pt x="7716" y="5"/>
                      <a:pt x="7716" y="4"/>
                    </a:cubicBezTo>
                    <a:cubicBezTo>
                      <a:pt x="7716" y="3"/>
                      <a:pt x="7716" y="2"/>
                      <a:pt x="7718" y="2"/>
                    </a:cubicBezTo>
                    <a:close/>
                    <a:moveTo>
                      <a:pt x="7726" y="2"/>
                    </a:moveTo>
                    <a:lnTo>
                      <a:pt x="7726" y="2"/>
                    </a:lnTo>
                    <a:cubicBezTo>
                      <a:pt x="7727" y="2"/>
                      <a:pt x="7728" y="3"/>
                      <a:pt x="7728" y="4"/>
                    </a:cubicBezTo>
                    <a:cubicBezTo>
                      <a:pt x="7728" y="5"/>
                      <a:pt x="7727" y="6"/>
                      <a:pt x="7726" y="6"/>
                    </a:cubicBezTo>
                    <a:lnTo>
                      <a:pt x="7726" y="6"/>
                    </a:lnTo>
                    <a:cubicBezTo>
                      <a:pt x="7724" y="6"/>
                      <a:pt x="7724" y="5"/>
                      <a:pt x="7724" y="4"/>
                    </a:cubicBezTo>
                    <a:cubicBezTo>
                      <a:pt x="7724" y="3"/>
                      <a:pt x="7724" y="2"/>
                      <a:pt x="7726" y="2"/>
                    </a:cubicBezTo>
                    <a:close/>
                    <a:moveTo>
                      <a:pt x="7734" y="2"/>
                    </a:moveTo>
                    <a:lnTo>
                      <a:pt x="7734" y="2"/>
                    </a:lnTo>
                    <a:cubicBezTo>
                      <a:pt x="7735" y="2"/>
                      <a:pt x="7736" y="3"/>
                      <a:pt x="7736" y="4"/>
                    </a:cubicBezTo>
                    <a:cubicBezTo>
                      <a:pt x="7736" y="5"/>
                      <a:pt x="7735" y="6"/>
                      <a:pt x="7734" y="6"/>
                    </a:cubicBezTo>
                    <a:lnTo>
                      <a:pt x="7734" y="6"/>
                    </a:lnTo>
                    <a:cubicBezTo>
                      <a:pt x="7732" y="6"/>
                      <a:pt x="7732" y="5"/>
                      <a:pt x="7732" y="4"/>
                    </a:cubicBezTo>
                    <a:cubicBezTo>
                      <a:pt x="7732" y="3"/>
                      <a:pt x="7732" y="2"/>
                      <a:pt x="7734" y="2"/>
                    </a:cubicBezTo>
                    <a:close/>
                    <a:moveTo>
                      <a:pt x="7742" y="2"/>
                    </a:moveTo>
                    <a:lnTo>
                      <a:pt x="7742" y="2"/>
                    </a:lnTo>
                    <a:cubicBezTo>
                      <a:pt x="7743" y="2"/>
                      <a:pt x="7744" y="3"/>
                      <a:pt x="7744" y="4"/>
                    </a:cubicBezTo>
                    <a:cubicBezTo>
                      <a:pt x="7744" y="5"/>
                      <a:pt x="7743" y="6"/>
                      <a:pt x="7742" y="6"/>
                    </a:cubicBezTo>
                    <a:lnTo>
                      <a:pt x="7742" y="6"/>
                    </a:lnTo>
                    <a:cubicBezTo>
                      <a:pt x="7740" y="6"/>
                      <a:pt x="7740" y="5"/>
                      <a:pt x="7740" y="4"/>
                    </a:cubicBezTo>
                    <a:cubicBezTo>
                      <a:pt x="7740" y="3"/>
                      <a:pt x="7740" y="2"/>
                      <a:pt x="7742" y="2"/>
                    </a:cubicBezTo>
                    <a:close/>
                    <a:moveTo>
                      <a:pt x="7750" y="2"/>
                    </a:moveTo>
                    <a:lnTo>
                      <a:pt x="7750" y="2"/>
                    </a:lnTo>
                    <a:cubicBezTo>
                      <a:pt x="7751" y="2"/>
                      <a:pt x="7752" y="3"/>
                      <a:pt x="7752" y="4"/>
                    </a:cubicBezTo>
                    <a:cubicBezTo>
                      <a:pt x="7752" y="5"/>
                      <a:pt x="7751" y="6"/>
                      <a:pt x="7750" y="6"/>
                    </a:cubicBezTo>
                    <a:lnTo>
                      <a:pt x="7750" y="6"/>
                    </a:lnTo>
                    <a:cubicBezTo>
                      <a:pt x="7748" y="6"/>
                      <a:pt x="7748" y="5"/>
                      <a:pt x="7748" y="4"/>
                    </a:cubicBezTo>
                    <a:cubicBezTo>
                      <a:pt x="7748" y="3"/>
                      <a:pt x="7748" y="2"/>
                      <a:pt x="7750" y="2"/>
                    </a:cubicBezTo>
                    <a:close/>
                    <a:moveTo>
                      <a:pt x="7758" y="2"/>
                    </a:moveTo>
                    <a:lnTo>
                      <a:pt x="7758" y="2"/>
                    </a:lnTo>
                    <a:cubicBezTo>
                      <a:pt x="7759" y="2"/>
                      <a:pt x="7760" y="3"/>
                      <a:pt x="7760" y="4"/>
                    </a:cubicBezTo>
                    <a:cubicBezTo>
                      <a:pt x="7760" y="5"/>
                      <a:pt x="7759" y="6"/>
                      <a:pt x="7758" y="6"/>
                    </a:cubicBezTo>
                    <a:lnTo>
                      <a:pt x="7758" y="6"/>
                    </a:lnTo>
                    <a:cubicBezTo>
                      <a:pt x="7757" y="6"/>
                      <a:pt x="7756" y="5"/>
                      <a:pt x="7756" y="4"/>
                    </a:cubicBezTo>
                    <a:cubicBezTo>
                      <a:pt x="7756" y="3"/>
                      <a:pt x="7757" y="2"/>
                      <a:pt x="7758" y="2"/>
                    </a:cubicBezTo>
                    <a:close/>
                    <a:moveTo>
                      <a:pt x="7766" y="2"/>
                    </a:moveTo>
                    <a:lnTo>
                      <a:pt x="7766" y="2"/>
                    </a:lnTo>
                    <a:cubicBezTo>
                      <a:pt x="7767" y="2"/>
                      <a:pt x="7768" y="3"/>
                      <a:pt x="7768" y="4"/>
                    </a:cubicBezTo>
                    <a:cubicBezTo>
                      <a:pt x="7768" y="5"/>
                      <a:pt x="7767" y="6"/>
                      <a:pt x="7766" y="6"/>
                    </a:cubicBezTo>
                    <a:lnTo>
                      <a:pt x="7766" y="6"/>
                    </a:lnTo>
                    <a:cubicBezTo>
                      <a:pt x="7765" y="6"/>
                      <a:pt x="7764" y="5"/>
                      <a:pt x="7764" y="4"/>
                    </a:cubicBezTo>
                    <a:cubicBezTo>
                      <a:pt x="7764" y="3"/>
                      <a:pt x="7765" y="2"/>
                      <a:pt x="7766" y="2"/>
                    </a:cubicBezTo>
                    <a:close/>
                    <a:moveTo>
                      <a:pt x="7774" y="2"/>
                    </a:moveTo>
                    <a:lnTo>
                      <a:pt x="7774" y="2"/>
                    </a:lnTo>
                    <a:cubicBezTo>
                      <a:pt x="7775" y="2"/>
                      <a:pt x="7776" y="3"/>
                      <a:pt x="7776" y="4"/>
                    </a:cubicBezTo>
                    <a:cubicBezTo>
                      <a:pt x="7776" y="5"/>
                      <a:pt x="7775" y="6"/>
                      <a:pt x="7774" y="6"/>
                    </a:cubicBezTo>
                    <a:lnTo>
                      <a:pt x="7774" y="6"/>
                    </a:lnTo>
                    <a:cubicBezTo>
                      <a:pt x="7773" y="6"/>
                      <a:pt x="7772" y="5"/>
                      <a:pt x="7772" y="4"/>
                    </a:cubicBezTo>
                    <a:cubicBezTo>
                      <a:pt x="7772" y="3"/>
                      <a:pt x="7773" y="2"/>
                      <a:pt x="7774" y="2"/>
                    </a:cubicBezTo>
                    <a:close/>
                    <a:moveTo>
                      <a:pt x="7782" y="2"/>
                    </a:moveTo>
                    <a:lnTo>
                      <a:pt x="7782" y="2"/>
                    </a:lnTo>
                    <a:cubicBezTo>
                      <a:pt x="7783" y="2"/>
                      <a:pt x="7784" y="3"/>
                      <a:pt x="7784" y="4"/>
                    </a:cubicBezTo>
                    <a:cubicBezTo>
                      <a:pt x="7784" y="5"/>
                      <a:pt x="7783" y="6"/>
                      <a:pt x="7782" y="6"/>
                    </a:cubicBezTo>
                    <a:lnTo>
                      <a:pt x="7782" y="6"/>
                    </a:lnTo>
                    <a:cubicBezTo>
                      <a:pt x="7781" y="6"/>
                      <a:pt x="7780" y="5"/>
                      <a:pt x="7780" y="4"/>
                    </a:cubicBezTo>
                    <a:cubicBezTo>
                      <a:pt x="7780" y="3"/>
                      <a:pt x="7781" y="2"/>
                      <a:pt x="7782" y="2"/>
                    </a:cubicBezTo>
                    <a:close/>
                    <a:moveTo>
                      <a:pt x="7790" y="2"/>
                    </a:moveTo>
                    <a:lnTo>
                      <a:pt x="7790" y="2"/>
                    </a:lnTo>
                    <a:cubicBezTo>
                      <a:pt x="7791" y="2"/>
                      <a:pt x="7792" y="3"/>
                      <a:pt x="7792" y="4"/>
                    </a:cubicBezTo>
                    <a:cubicBezTo>
                      <a:pt x="7792" y="5"/>
                      <a:pt x="7791" y="6"/>
                      <a:pt x="7790" y="6"/>
                    </a:cubicBezTo>
                    <a:lnTo>
                      <a:pt x="7790" y="6"/>
                    </a:lnTo>
                    <a:cubicBezTo>
                      <a:pt x="7789" y="6"/>
                      <a:pt x="7788" y="5"/>
                      <a:pt x="7788" y="4"/>
                    </a:cubicBezTo>
                    <a:cubicBezTo>
                      <a:pt x="7788" y="3"/>
                      <a:pt x="7789" y="2"/>
                      <a:pt x="7790" y="2"/>
                    </a:cubicBezTo>
                    <a:close/>
                    <a:moveTo>
                      <a:pt x="7798" y="2"/>
                    </a:moveTo>
                    <a:lnTo>
                      <a:pt x="7798" y="2"/>
                    </a:lnTo>
                    <a:cubicBezTo>
                      <a:pt x="7799" y="2"/>
                      <a:pt x="7800" y="3"/>
                      <a:pt x="7800" y="4"/>
                    </a:cubicBezTo>
                    <a:cubicBezTo>
                      <a:pt x="7800" y="5"/>
                      <a:pt x="7799" y="6"/>
                      <a:pt x="7798" y="6"/>
                    </a:cubicBezTo>
                    <a:lnTo>
                      <a:pt x="7798" y="6"/>
                    </a:lnTo>
                    <a:cubicBezTo>
                      <a:pt x="7797" y="6"/>
                      <a:pt x="7796" y="5"/>
                      <a:pt x="7796" y="4"/>
                    </a:cubicBezTo>
                    <a:cubicBezTo>
                      <a:pt x="7796" y="3"/>
                      <a:pt x="7797" y="2"/>
                      <a:pt x="7798" y="2"/>
                    </a:cubicBezTo>
                    <a:close/>
                    <a:moveTo>
                      <a:pt x="7806" y="2"/>
                    </a:moveTo>
                    <a:lnTo>
                      <a:pt x="7806" y="2"/>
                    </a:lnTo>
                    <a:cubicBezTo>
                      <a:pt x="7807" y="2"/>
                      <a:pt x="7808" y="3"/>
                      <a:pt x="7808" y="4"/>
                    </a:cubicBezTo>
                    <a:cubicBezTo>
                      <a:pt x="7808" y="5"/>
                      <a:pt x="7807" y="6"/>
                      <a:pt x="7806" y="6"/>
                    </a:cubicBezTo>
                    <a:lnTo>
                      <a:pt x="7806" y="6"/>
                    </a:lnTo>
                    <a:cubicBezTo>
                      <a:pt x="7805" y="6"/>
                      <a:pt x="7804" y="5"/>
                      <a:pt x="7804" y="4"/>
                    </a:cubicBezTo>
                    <a:cubicBezTo>
                      <a:pt x="7804" y="3"/>
                      <a:pt x="7805" y="2"/>
                      <a:pt x="7806" y="2"/>
                    </a:cubicBezTo>
                    <a:close/>
                    <a:moveTo>
                      <a:pt x="7814" y="2"/>
                    </a:moveTo>
                    <a:lnTo>
                      <a:pt x="7814" y="2"/>
                    </a:lnTo>
                    <a:cubicBezTo>
                      <a:pt x="7815" y="2"/>
                      <a:pt x="7816" y="3"/>
                      <a:pt x="7816" y="4"/>
                    </a:cubicBezTo>
                    <a:cubicBezTo>
                      <a:pt x="7816" y="5"/>
                      <a:pt x="7815" y="6"/>
                      <a:pt x="7814" y="6"/>
                    </a:cubicBezTo>
                    <a:lnTo>
                      <a:pt x="7814" y="6"/>
                    </a:lnTo>
                    <a:cubicBezTo>
                      <a:pt x="7813" y="6"/>
                      <a:pt x="7812" y="5"/>
                      <a:pt x="7812" y="4"/>
                    </a:cubicBezTo>
                    <a:cubicBezTo>
                      <a:pt x="7812" y="3"/>
                      <a:pt x="7813" y="2"/>
                      <a:pt x="7814" y="2"/>
                    </a:cubicBezTo>
                    <a:close/>
                    <a:moveTo>
                      <a:pt x="7822" y="2"/>
                    </a:moveTo>
                    <a:lnTo>
                      <a:pt x="7822" y="2"/>
                    </a:lnTo>
                    <a:cubicBezTo>
                      <a:pt x="7823" y="2"/>
                      <a:pt x="7824" y="3"/>
                      <a:pt x="7824" y="4"/>
                    </a:cubicBezTo>
                    <a:cubicBezTo>
                      <a:pt x="7824" y="5"/>
                      <a:pt x="7823" y="6"/>
                      <a:pt x="7822" y="6"/>
                    </a:cubicBezTo>
                    <a:lnTo>
                      <a:pt x="7822" y="6"/>
                    </a:lnTo>
                    <a:cubicBezTo>
                      <a:pt x="7821" y="6"/>
                      <a:pt x="7820" y="5"/>
                      <a:pt x="7820" y="4"/>
                    </a:cubicBezTo>
                    <a:cubicBezTo>
                      <a:pt x="7820" y="3"/>
                      <a:pt x="7821" y="2"/>
                      <a:pt x="7822" y="2"/>
                    </a:cubicBezTo>
                    <a:close/>
                    <a:moveTo>
                      <a:pt x="7830" y="2"/>
                    </a:moveTo>
                    <a:lnTo>
                      <a:pt x="7830" y="2"/>
                    </a:lnTo>
                    <a:cubicBezTo>
                      <a:pt x="7831" y="2"/>
                      <a:pt x="7832" y="3"/>
                      <a:pt x="7832" y="4"/>
                    </a:cubicBezTo>
                    <a:cubicBezTo>
                      <a:pt x="7832" y="5"/>
                      <a:pt x="7831" y="6"/>
                      <a:pt x="7830" y="6"/>
                    </a:cubicBezTo>
                    <a:lnTo>
                      <a:pt x="7830" y="6"/>
                    </a:lnTo>
                    <a:cubicBezTo>
                      <a:pt x="7829" y="6"/>
                      <a:pt x="7828" y="5"/>
                      <a:pt x="7828" y="4"/>
                    </a:cubicBezTo>
                    <a:cubicBezTo>
                      <a:pt x="7828" y="3"/>
                      <a:pt x="7829" y="2"/>
                      <a:pt x="7830" y="2"/>
                    </a:cubicBezTo>
                    <a:close/>
                    <a:moveTo>
                      <a:pt x="7838" y="2"/>
                    </a:moveTo>
                    <a:lnTo>
                      <a:pt x="7838" y="2"/>
                    </a:lnTo>
                    <a:cubicBezTo>
                      <a:pt x="7839" y="2"/>
                      <a:pt x="7840" y="3"/>
                      <a:pt x="7840" y="4"/>
                    </a:cubicBezTo>
                    <a:cubicBezTo>
                      <a:pt x="7840" y="5"/>
                      <a:pt x="7839" y="6"/>
                      <a:pt x="7838" y="6"/>
                    </a:cubicBezTo>
                    <a:lnTo>
                      <a:pt x="7838" y="6"/>
                    </a:lnTo>
                    <a:cubicBezTo>
                      <a:pt x="7837" y="6"/>
                      <a:pt x="7836" y="5"/>
                      <a:pt x="7836" y="4"/>
                    </a:cubicBezTo>
                    <a:cubicBezTo>
                      <a:pt x="7836" y="3"/>
                      <a:pt x="7837" y="2"/>
                      <a:pt x="7838" y="2"/>
                    </a:cubicBezTo>
                    <a:close/>
                    <a:moveTo>
                      <a:pt x="7846" y="2"/>
                    </a:moveTo>
                    <a:lnTo>
                      <a:pt x="7846" y="2"/>
                    </a:lnTo>
                    <a:cubicBezTo>
                      <a:pt x="7847" y="2"/>
                      <a:pt x="7848" y="3"/>
                      <a:pt x="7848" y="4"/>
                    </a:cubicBezTo>
                    <a:cubicBezTo>
                      <a:pt x="7848" y="5"/>
                      <a:pt x="7847" y="6"/>
                      <a:pt x="7846" y="6"/>
                    </a:cubicBezTo>
                    <a:lnTo>
                      <a:pt x="7846" y="6"/>
                    </a:lnTo>
                    <a:cubicBezTo>
                      <a:pt x="7845" y="6"/>
                      <a:pt x="7844" y="5"/>
                      <a:pt x="7844" y="4"/>
                    </a:cubicBezTo>
                    <a:cubicBezTo>
                      <a:pt x="7844" y="3"/>
                      <a:pt x="7845" y="2"/>
                      <a:pt x="7846" y="2"/>
                    </a:cubicBezTo>
                    <a:close/>
                    <a:moveTo>
                      <a:pt x="7854" y="2"/>
                    </a:moveTo>
                    <a:lnTo>
                      <a:pt x="7854" y="2"/>
                    </a:lnTo>
                    <a:cubicBezTo>
                      <a:pt x="7855" y="2"/>
                      <a:pt x="7856" y="3"/>
                      <a:pt x="7856" y="4"/>
                    </a:cubicBezTo>
                    <a:cubicBezTo>
                      <a:pt x="7856" y="5"/>
                      <a:pt x="7855" y="6"/>
                      <a:pt x="7854" y="6"/>
                    </a:cubicBezTo>
                    <a:lnTo>
                      <a:pt x="7854" y="6"/>
                    </a:lnTo>
                    <a:cubicBezTo>
                      <a:pt x="7853" y="6"/>
                      <a:pt x="7852" y="5"/>
                      <a:pt x="7852" y="4"/>
                    </a:cubicBezTo>
                    <a:cubicBezTo>
                      <a:pt x="7852" y="3"/>
                      <a:pt x="7853" y="2"/>
                      <a:pt x="7854" y="2"/>
                    </a:cubicBezTo>
                    <a:close/>
                    <a:moveTo>
                      <a:pt x="7862" y="2"/>
                    </a:moveTo>
                    <a:lnTo>
                      <a:pt x="7862" y="2"/>
                    </a:lnTo>
                    <a:cubicBezTo>
                      <a:pt x="7863" y="2"/>
                      <a:pt x="7864" y="3"/>
                      <a:pt x="7864" y="4"/>
                    </a:cubicBezTo>
                    <a:cubicBezTo>
                      <a:pt x="7864" y="5"/>
                      <a:pt x="7863" y="6"/>
                      <a:pt x="7862" y="6"/>
                    </a:cubicBezTo>
                    <a:lnTo>
                      <a:pt x="7862" y="6"/>
                    </a:lnTo>
                    <a:cubicBezTo>
                      <a:pt x="7861" y="6"/>
                      <a:pt x="7860" y="5"/>
                      <a:pt x="7860" y="4"/>
                    </a:cubicBezTo>
                    <a:cubicBezTo>
                      <a:pt x="7860" y="3"/>
                      <a:pt x="7861" y="2"/>
                      <a:pt x="7862" y="2"/>
                    </a:cubicBezTo>
                    <a:close/>
                    <a:moveTo>
                      <a:pt x="7870" y="2"/>
                    </a:moveTo>
                    <a:lnTo>
                      <a:pt x="7870" y="2"/>
                    </a:lnTo>
                    <a:cubicBezTo>
                      <a:pt x="7871" y="2"/>
                      <a:pt x="7872" y="3"/>
                      <a:pt x="7872" y="4"/>
                    </a:cubicBezTo>
                    <a:cubicBezTo>
                      <a:pt x="7872" y="5"/>
                      <a:pt x="7871" y="6"/>
                      <a:pt x="7870" y="6"/>
                    </a:cubicBezTo>
                    <a:lnTo>
                      <a:pt x="7870" y="6"/>
                    </a:lnTo>
                    <a:cubicBezTo>
                      <a:pt x="7869" y="6"/>
                      <a:pt x="7868" y="5"/>
                      <a:pt x="7868" y="4"/>
                    </a:cubicBezTo>
                    <a:cubicBezTo>
                      <a:pt x="7868" y="3"/>
                      <a:pt x="7869" y="2"/>
                      <a:pt x="7870" y="2"/>
                    </a:cubicBezTo>
                    <a:close/>
                    <a:moveTo>
                      <a:pt x="7878" y="2"/>
                    </a:moveTo>
                    <a:lnTo>
                      <a:pt x="7878" y="2"/>
                    </a:lnTo>
                    <a:cubicBezTo>
                      <a:pt x="7879" y="2"/>
                      <a:pt x="7880" y="3"/>
                      <a:pt x="7880" y="4"/>
                    </a:cubicBezTo>
                    <a:cubicBezTo>
                      <a:pt x="7880" y="5"/>
                      <a:pt x="7879" y="6"/>
                      <a:pt x="7878" y="6"/>
                    </a:cubicBezTo>
                    <a:lnTo>
                      <a:pt x="7878" y="6"/>
                    </a:lnTo>
                    <a:cubicBezTo>
                      <a:pt x="7877" y="6"/>
                      <a:pt x="7876" y="5"/>
                      <a:pt x="7876" y="4"/>
                    </a:cubicBezTo>
                    <a:cubicBezTo>
                      <a:pt x="7876" y="3"/>
                      <a:pt x="7877" y="2"/>
                      <a:pt x="7878" y="2"/>
                    </a:cubicBezTo>
                    <a:close/>
                    <a:moveTo>
                      <a:pt x="7886" y="2"/>
                    </a:moveTo>
                    <a:lnTo>
                      <a:pt x="7886" y="2"/>
                    </a:lnTo>
                    <a:cubicBezTo>
                      <a:pt x="7887" y="2"/>
                      <a:pt x="7888" y="3"/>
                      <a:pt x="7888" y="4"/>
                    </a:cubicBezTo>
                    <a:cubicBezTo>
                      <a:pt x="7888" y="5"/>
                      <a:pt x="7887" y="6"/>
                      <a:pt x="7886" y="6"/>
                    </a:cubicBezTo>
                    <a:lnTo>
                      <a:pt x="7886" y="6"/>
                    </a:lnTo>
                    <a:cubicBezTo>
                      <a:pt x="7885" y="6"/>
                      <a:pt x="7884" y="5"/>
                      <a:pt x="7884" y="4"/>
                    </a:cubicBezTo>
                    <a:cubicBezTo>
                      <a:pt x="7884" y="3"/>
                      <a:pt x="7885" y="2"/>
                      <a:pt x="7886" y="2"/>
                    </a:cubicBezTo>
                    <a:close/>
                    <a:moveTo>
                      <a:pt x="7894" y="2"/>
                    </a:moveTo>
                    <a:lnTo>
                      <a:pt x="7894" y="2"/>
                    </a:lnTo>
                    <a:cubicBezTo>
                      <a:pt x="7895" y="2"/>
                      <a:pt x="7896" y="3"/>
                      <a:pt x="7896" y="4"/>
                    </a:cubicBezTo>
                    <a:cubicBezTo>
                      <a:pt x="7896" y="5"/>
                      <a:pt x="7895" y="6"/>
                      <a:pt x="7894" y="6"/>
                    </a:cubicBezTo>
                    <a:lnTo>
                      <a:pt x="7894" y="6"/>
                    </a:lnTo>
                    <a:cubicBezTo>
                      <a:pt x="7893" y="6"/>
                      <a:pt x="7892" y="5"/>
                      <a:pt x="7892" y="4"/>
                    </a:cubicBezTo>
                    <a:cubicBezTo>
                      <a:pt x="7892" y="3"/>
                      <a:pt x="7893" y="2"/>
                      <a:pt x="7894" y="2"/>
                    </a:cubicBezTo>
                    <a:close/>
                    <a:moveTo>
                      <a:pt x="7902" y="2"/>
                    </a:moveTo>
                    <a:lnTo>
                      <a:pt x="7902" y="2"/>
                    </a:lnTo>
                    <a:cubicBezTo>
                      <a:pt x="7903" y="2"/>
                      <a:pt x="7904" y="3"/>
                      <a:pt x="7904" y="4"/>
                    </a:cubicBezTo>
                    <a:cubicBezTo>
                      <a:pt x="7904" y="5"/>
                      <a:pt x="7903" y="6"/>
                      <a:pt x="7902" y="6"/>
                    </a:cubicBezTo>
                    <a:lnTo>
                      <a:pt x="7902" y="6"/>
                    </a:lnTo>
                    <a:cubicBezTo>
                      <a:pt x="7901" y="6"/>
                      <a:pt x="7900" y="5"/>
                      <a:pt x="7900" y="4"/>
                    </a:cubicBezTo>
                    <a:cubicBezTo>
                      <a:pt x="7900" y="3"/>
                      <a:pt x="7901" y="2"/>
                      <a:pt x="7902" y="2"/>
                    </a:cubicBezTo>
                    <a:close/>
                    <a:moveTo>
                      <a:pt x="7910" y="2"/>
                    </a:moveTo>
                    <a:lnTo>
                      <a:pt x="7910" y="2"/>
                    </a:lnTo>
                    <a:cubicBezTo>
                      <a:pt x="7911" y="2"/>
                      <a:pt x="7912" y="3"/>
                      <a:pt x="7912" y="4"/>
                    </a:cubicBezTo>
                    <a:cubicBezTo>
                      <a:pt x="7912" y="5"/>
                      <a:pt x="7911" y="6"/>
                      <a:pt x="7910" y="6"/>
                    </a:cubicBezTo>
                    <a:lnTo>
                      <a:pt x="7910" y="6"/>
                    </a:lnTo>
                    <a:cubicBezTo>
                      <a:pt x="7909" y="6"/>
                      <a:pt x="7908" y="5"/>
                      <a:pt x="7908" y="4"/>
                    </a:cubicBezTo>
                    <a:cubicBezTo>
                      <a:pt x="7908" y="3"/>
                      <a:pt x="7909" y="2"/>
                      <a:pt x="7910" y="2"/>
                    </a:cubicBezTo>
                    <a:close/>
                    <a:moveTo>
                      <a:pt x="7918" y="2"/>
                    </a:moveTo>
                    <a:lnTo>
                      <a:pt x="7918" y="2"/>
                    </a:lnTo>
                    <a:cubicBezTo>
                      <a:pt x="7919" y="2"/>
                      <a:pt x="7920" y="3"/>
                      <a:pt x="7920" y="4"/>
                    </a:cubicBezTo>
                    <a:cubicBezTo>
                      <a:pt x="7920" y="5"/>
                      <a:pt x="7919" y="6"/>
                      <a:pt x="7918" y="6"/>
                    </a:cubicBezTo>
                    <a:lnTo>
                      <a:pt x="7918" y="6"/>
                    </a:lnTo>
                    <a:cubicBezTo>
                      <a:pt x="7917" y="6"/>
                      <a:pt x="7916" y="5"/>
                      <a:pt x="7916" y="4"/>
                    </a:cubicBezTo>
                    <a:cubicBezTo>
                      <a:pt x="7916" y="3"/>
                      <a:pt x="7917" y="2"/>
                      <a:pt x="7918" y="2"/>
                    </a:cubicBezTo>
                    <a:close/>
                    <a:moveTo>
                      <a:pt x="7926" y="2"/>
                    </a:moveTo>
                    <a:lnTo>
                      <a:pt x="7926" y="2"/>
                    </a:lnTo>
                    <a:cubicBezTo>
                      <a:pt x="7927" y="2"/>
                      <a:pt x="7928" y="3"/>
                      <a:pt x="7928" y="4"/>
                    </a:cubicBezTo>
                    <a:cubicBezTo>
                      <a:pt x="7928" y="5"/>
                      <a:pt x="7927" y="6"/>
                      <a:pt x="7926" y="6"/>
                    </a:cubicBezTo>
                    <a:lnTo>
                      <a:pt x="7926" y="6"/>
                    </a:lnTo>
                    <a:cubicBezTo>
                      <a:pt x="7925" y="6"/>
                      <a:pt x="7924" y="5"/>
                      <a:pt x="7924" y="4"/>
                    </a:cubicBezTo>
                    <a:cubicBezTo>
                      <a:pt x="7924" y="3"/>
                      <a:pt x="7925" y="2"/>
                      <a:pt x="7926" y="2"/>
                    </a:cubicBezTo>
                    <a:close/>
                    <a:moveTo>
                      <a:pt x="7934" y="2"/>
                    </a:moveTo>
                    <a:lnTo>
                      <a:pt x="7934" y="2"/>
                    </a:lnTo>
                    <a:cubicBezTo>
                      <a:pt x="7935" y="2"/>
                      <a:pt x="7936" y="3"/>
                      <a:pt x="7936" y="4"/>
                    </a:cubicBezTo>
                    <a:cubicBezTo>
                      <a:pt x="7936" y="5"/>
                      <a:pt x="7935" y="6"/>
                      <a:pt x="7934" y="6"/>
                    </a:cubicBezTo>
                    <a:lnTo>
                      <a:pt x="7934" y="6"/>
                    </a:lnTo>
                    <a:cubicBezTo>
                      <a:pt x="7933" y="6"/>
                      <a:pt x="7932" y="5"/>
                      <a:pt x="7932" y="4"/>
                    </a:cubicBezTo>
                    <a:cubicBezTo>
                      <a:pt x="7932" y="3"/>
                      <a:pt x="7933" y="2"/>
                      <a:pt x="7934" y="2"/>
                    </a:cubicBezTo>
                    <a:close/>
                    <a:moveTo>
                      <a:pt x="7942" y="2"/>
                    </a:moveTo>
                    <a:lnTo>
                      <a:pt x="7942" y="2"/>
                    </a:lnTo>
                    <a:cubicBezTo>
                      <a:pt x="7943" y="2"/>
                      <a:pt x="7944" y="3"/>
                      <a:pt x="7944" y="4"/>
                    </a:cubicBezTo>
                    <a:cubicBezTo>
                      <a:pt x="7944" y="5"/>
                      <a:pt x="7943" y="6"/>
                      <a:pt x="7942" y="6"/>
                    </a:cubicBezTo>
                    <a:lnTo>
                      <a:pt x="7942" y="6"/>
                    </a:lnTo>
                    <a:cubicBezTo>
                      <a:pt x="7941" y="6"/>
                      <a:pt x="7940" y="5"/>
                      <a:pt x="7940" y="4"/>
                    </a:cubicBezTo>
                    <a:cubicBezTo>
                      <a:pt x="7940" y="3"/>
                      <a:pt x="7941" y="2"/>
                      <a:pt x="7942" y="2"/>
                    </a:cubicBezTo>
                    <a:close/>
                    <a:moveTo>
                      <a:pt x="7950" y="2"/>
                    </a:moveTo>
                    <a:lnTo>
                      <a:pt x="7950" y="2"/>
                    </a:lnTo>
                    <a:cubicBezTo>
                      <a:pt x="7951" y="2"/>
                      <a:pt x="7952" y="3"/>
                      <a:pt x="7952" y="4"/>
                    </a:cubicBezTo>
                    <a:cubicBezTo>
                      <a:pt x="7952" y="5"/>
                      <a:pt x="7951" y="6"/>
                      <a:pt x="7950" y="6"/>
                    </a:cubicBezTo>
                    <a:lnTo>
                      <a:pt x="7950" y="6"/>
                    </a:lnTo>
                    <a:cubicBezTo>
                      <a:pt x="7949" y="6"/>
                      <a:pt x="7948" y="5"/>
                      <a:pt x="7948" y="4"/>
                    </a:cubicBezTo>
                    <a:cubicBezTo>
                      <a:pt x="7948" y="3"/>
                      <a:pt x="7949" y="2"/>
                      <a:pt x="7950" y="2"/>
                    </a:cubicBezTo>
                    <a:close/>
                    <a:moveTo>
                      <a:pt x="7958" y="2"/>
                    </a:moveTo>
                    <a:lnTo>
                      <a:pt x="7958" y="2"/>
                    </a:lnTo>
                    <a:cubicBezTo>
                      <a:pt x="7959" y="2"/>
                      <a:pt x="7960" y="3"/>
                      <a:pt x="7960" y="4"/>
                    </a:cubicBezTo>
                    <a:cubicBezTo>
                      <a:pt x="7960" y="5"/>
                      <a:pt x="7959" y="6"/>
                      <a:pt x="7958" y="6"/>
                    </a:cubicBezTo>
                    <a:lnTo>
                      <a:pt x="7958" y="6"/>
                    </a:lnTo>
                    <a:cubicBezTo>
                      <a:pt x="7957" y="6"/>
                      <a:pt x="7956" y="5"/>
                      <a:pt x="7956" y="4"/>
                    </a:cubicBezTo>
                    <a:cubicBezTo>
                      <a:pt x="7956" y="3"/>
                      <a:pt x="7957" y="2"/>
                      <a:pt x="7958" y="2"/>
                    </a:cubicBezTo>
                    <a:close/>
                    <a:moveTo>
                      <a:pt x="7966" y="2"/>
                    </a:moveTo>
                    <a:lnTo>
                      <a:pt x="7966" y="2"/>
                    </a:lnTo>
                    <a:cubicBezTo>
                      <a:pt x="7967" y="2"/>
                      <a:pt x="7968" y="3"/>
                      <a:pt x="7968" y="4"/>
                    </a:cubicBezTo>
                    <a:cubicBezTo>
                      <a:pt x="7968" y="5"/>
                      <a:pt x="7967" y="6"/>
                      <a:pt x="7966" y="6"/>
                    </a:cubicBezTo>
                    <a:lnTo>
                      <a:pt x="7966" y="6"/>
                    </a:lnTo>
                    <a:cubicBezTo>
                      <a:pt x="7965" y="6"/>
                      <a:pt x="7964" y="5"/>
                      <a:pt x="7964" y="4"/>
                    </a:cubicBezTo>
                    <a:cubicBezTo>
                      <a:pt x="7964" y="3"/>
                      <a:pt x="7965" y="2"/>
                      <a:pt x="7966" y="2"/>
                    </a:cubicBezTo>
                    <a:close/>
                    <a:moveTo>
                      <a:pt x="7974" y="2"/>
                    </a:moveTo>
                    <a:lnTo>
                      <a:pt x="7974" y="2"/>
                    </a:lnTo>
                    <a:cubicBezTo>
                      <a:pt x="7975" y="2"/>
                      <a:pt x="7976" y="3"/>
                      <a:pt x="7976" y="4"/>
                    </a:cubicBezTo>
                    <a:cubicBezTo>
                      <a:pt x="7976" y="5"/>
                      <a:pt x="7975" y="6"/>
                      <a:pt x="7974" y="6"/>
                    </a:cubicBezTo>
                    <a:lnTo>
                      <a:pt x="7974" y="6"/>
                    </a:lnTo>
                    <a:cubicBezTo>
                      <a:pt x="7973" y="6"/>
                      <a:pt x="7972" y="5"/>
                      <a:pt x="7972" y="4"/>
                    </a:cubicBezTo>
                    <a:cubicBezTo>
                      <a:pt x="7972" y="3"/>
                      <a:pt x="7973" y="2"/>
                      <a:pt x="7974" y="2"/>
                    </a:cubicBezTo>
                    <a:close/>
                    <a:moveTo>
                      <a:pt x="7982" y="2"/>
                    </a:moveTo>
                    <a:lnTo>
                      <a:pt x="7982" y="2"/>
                    </a:lnTo>
                    <a:cubicBezTo>
                      <a:pt x="7983" y="2"/>
                      <a:pt x="7984" y="3"/>
                      <a:pt x="7984" y="4"/>
                    </a:cubicBezTo>
                    <a:cubicBezTo>
                      <a:pt x="7984" y="5"/>
                      <a:pt x="7983" y="6"/>
                      <a:pt x="7982" y="6"/>
                    </a:cubicBezTo>
                    <a:lnTo>
                      <a:pt x="7982" y="6"/>
                    </a:lnTo>
                    <a:cubicBezTo>
                      <a:pt x="7981" y="6"/>
                      <a:pt x="7980" y="5"/>
                      <a:pt x="7980" y="4"/>
                    </a:cubicBezTo>
                    <a:cubicBezTo>
                      <a:pt x="7980" y="3"/>
                      <a:pt x="7981" y="2"/>
                      <a:pt x="7982" y="2"/>
                    </a:cubicBezTo>
                    <a:close/>
                    <a:moveTo>
                      <a:pt x="7990" y="2"/>
                    </a:moveTo>
                    <a:lnTo>
                      <a:pt x="7990" y="2"/>
                    </a:lnTo>
                    <a:cubicBezTo>
                      <a:pt x="7991" y="2"/>
                      <a:pt x="7992" y="3"/>
                      <a:pt x="7992" y="4"/>
                    </a:cubicBezTo>
                    <a:cubicBezTo>
                      <a:pt x="7992" y="5"/>
                      <a:pt x="7991" y="6"/>
                      <a:pt x="7990" y="6"/>
                    </a:cubicBezTo>
                    <a:lnTo>
                      <a:pt x="7990" y="6"/>
                    </a:lnTo>
                    <a:cubicBezTo>
                      <a:pt x="7989" y="6"/>
                      <a:pt x="7988" y="5"/>
                      <a:pt x="7988" y="4"/>
                    </a:cubicBezTo>
                    <a:cubicBezTo>
                      <a:pt x="7988" y="3"/>
                      <a:pt x="7989" y="2"/>
                      <a:pt x="7990" y="2"/>
                    </a:cubicBezTo>
                    <a:close/>
                    <a:moveTo>
                      <a:pt x="7998" y="2"/>
                    </a:moveTo>
                    <a:lnTo>
                      <a:pt x="7998" y="2"/>
                    </a:lnTo>
                    <a:cubicBezTo>
                      <a:pt x="7999" y="2"/>
                      <a:pt x="8000" y="3"/>
                      <a:pt x="8000" y="4"/>
                    </a:cubicBezTo>
                    <a:cubicBezTo>
                      <a:pt x="8000" y="5"/>
                      <a:pt x="7999" y="6"/>
                      <a:pt x="7998" y="6"/>
                    </a:cubicBezTo>
                    <a:lnTo>
                      <a:pt x="7998" y="6"/>
                    </a:lnTo>
                    <a:cubicBezTo>
                      <a:pt x="7997" y="6"/>
                      <a:pt x="7996" y="5"/>
                      <a:pt x="7996" y="4"/>
                    </a:cubicBezTo>
                    <a:cubicBezTo>
                      <a:pt x="7996" y="3"/>
                      <a:pt x="7997" y="2"/>
                      <a:pt x="7998" y="2"/>
                    </a:cubicBezTo>
                    <a:close/>
                    <a:moveTo>
                      <a:pt x="8006" y="2"/>
                    </a:moveTo>
                    <a:lnTo>
                      <a:pt x="8006" y="2"/>
                    </a:lnTo>
                    <a:cubicBezTo>
                      <a:pt x="8007" y="2"/>
                      <a:pt x="8008" y="3"/>
                      <a:pt x="8008" y="4"/>
                    </a:cubicBezTo>
                    <a:cubicBezTo>
                      <a:pt x="8008" y="5"/>
                      <a:pt x="8007" y="6"/>
                      <a:pt x="8006" y="6"/>
                    </a:cubicBezTo>
                    <a:lnTo>
                      <a:pt x="8006" y="6"/>
                    </a:lnTo>
                    <a:cubicBezTo>
                      <a:pt x="8005" y="6"/>
                      <a:pt x="8004" y="5"/>
                      <a:pt x="8004" y="4"/>
                    </a:cubicBezTo>
                    <a:cubicBezTo>
                      <a:pt x="8004" y="3"/>
                      <a:pt x="8005" y="2"/>
                      <a:pt x="8006" y="2"/>
                    </a:cubicBezTo>
                    <a:close/>
                    <a:moveTo>
                      <a:pt x="8014" y="2"/>
                    </a:moveTo>
                    <a:lnTo>
                      <a:pt x="8014" y="2"/>
                    </a:lnTo>
                    <a:cubicBezTo>
                      <a:pt x="8015" y="2"/>
                      <a:pt x="8016" y="3"/>
                      <a:pt x="8016" y="4"/>
                    </a:cubicBezTo>
                    <a:cubicBezTo>
                      <a:pt x="8016" y="5"/>
                      <a:pt x="8015" y="6"/>
                      <a:pt x="8014" y="6"/>
                    </a:cubicBezTo>
                    <a:lnTo>
                      <a:pt x="8014" y="6"/>
                    </a:lnTo>
                    <a:cubicBezTo>
                      <a:pt x="8013" y="6"/>
                      <a:pt x="8012" y="5"/>
                      <a:pt x="8012" y="4"/>
                    </a:cubicBezTo>
                    <a:cubicBezTo>
                      <a:pt x="8012" y="3"/>
                      <a:pt x="8013" y="2"/>
                      <a:pt x="8014" y="2"/>
                    </a:cubicBezTo>
                    <a:close/>
                    <a:moveTo>
                      <a:pt x="8022" y="2"/>
                    </a:moveTo>
                    <a:lnTo>
                      <a:pt x="8022" y="2"/>
                    </a:lnTo>
                    <a:cubicBezTo>
                      <a:pt x="8023" y="2"/>
                      <a:pt x="8024" y="3"/>
                      <a:pt x="8024" y="4"/>
                    </a:cubicBezTo>
                    <a:cubicBezTo>
                      <a:pt x="8024" y="5"/>
                      <a:pt x="8023" y="6"/>
                      <a:pt x="8022" y="6"/>
                    </a:cubicBezTo>
                    <a:lnTo>
                      <a:pt x="8022" y="6"/>
                    </a:lnTo>
                    <a:cubicBezTo>
                      <a:pt x="8021" y="6"/>
                      <a:pt x="8020" y="5"/>
                      <a:pt x="8020" y="4"/>
                    </a:cubicBezTo>
                    <a:cubicBezTo>
                      <a:pt x="8020" y="3"/>
                      <a:pt x="8021" y="2"/>
                      <a:pt x="8022" y="2"/>
                    </a:cubicBezTo>
                    <a:close/>
                    <a:moveTo>
                      <a:pt x="8030" y="2"/>
                    </a:moveTo>
                    <a:lnTo>
                      <a:pt x="8030" y="2"/>
                    </a:lnTo>
                    <a:cubicBezTo>
                      <a:pt x="8031" y="2"/>
                      <a:pt x="8032" y="3"/>
                      <a:pt x="8032" y="4"/>
                    </a:cubicBezTo>
                    <a:cubicBezTo>
                      <a:pt x="8032" y="5"/>
                      <a:pt x="8031" y="6"/>
                      <a:pt x="8030" y="6"/>
                    </a:cubicBezTo>
                    <a:lnTo>
                      <a:pt x="8030" y="6"/>
                    </a:lnTo>
                    <a:cubicBezTo>
                      <a:pt x="8029" y="6"/>
                      <a:pt x="8028" y="5"/>
                      <a:pt x="8028" y="4"/>
                    </a:cubicBezTo>
                    <a:cubicBezTo>
                      <a:pt x="8028" y="3"/>
                      <a:pt x="8029" y="2"/>
                      <a:pt x="8030" y="2"/>
                    </a:cubicBezTo>
                    <a:close/>
                    <a:moveTo>
                      <a:pt x="8038" y="2"/>
                    </a:moveTo>
                    <a:lnTo>
                      <a:pt x="8038" y="2"/>
                    </a:lnTo>
                    <a:cubicBezTo>
                      <a:pt x="8039" y="2"/>
                      <a:pt x="8040" y="3"/>
                      <a:pt x="8040" y="4"/>
                    </a:cubicBezTo>
                    <a:cubicBezTo>
                      <a:pt x="8040" y="5"/>
                      <a:pt x="8039" y="6"/>
                      <a:pt x="8038" y="6"/>
                    </a:cubicBezTo>
                    <a:lnTo>
                      <a:pt x="8038" y="6"/>
                    </a:lnTo>
                    <a:cubicBezTo>
                      <a:pt x="8037" y="6"/>
                      <a:pt x="8036" y="5"/>
                      <a:pt x="8036" y="4"/>
                    </a:cubicBezTo>
                    <a:cubicBezTo>
                      <a:pt x="8036" y="3"/>
                      <a:pt x="8037" y="2"/>
                      <a:pt x="8038" y="2"/>
                    </a:cubicBezTo>
                    <a:close/>
                    <a:moveTo>
                      <a:pt x="8046" y="2"/>
                    </a:moveTo>
                    <a:lnTo>
                      <a:pt x="8046" y="2"/>
                    </a:lnTo>
                    <a:cubicBezTo>
                      <a:pt x="8047" y="2"/>
                      <a:pt x="8048" y="3"/>
                      <a:pt x="8048" y="4"/>
                    </a:cubicBezTo>
                    <a:cubicBezTo>
                      <a:pt x="8048" y="5"/>
                      <a:pt x="8047" y="6"/>
                      <a:pt x="8046" y="6"/>
                    </a:cubicBezTo>
                    <a:lnTo>
                      <a:pt x="8046" y="6"/>
                    </a:lnTo>
                    <a:cubicBezTo>
                      <a:pt x="8045" y="6"/>
                      <a:pt x="8044" y="5"/>
                      <a:pt x="8044" y="4"/>
                    </a:cubicBezTo>
                    <a:cubicBezTo>
                      <a:pt x="8044" y="3"/>
                      <a:pt x="8045" y="2"/>
                      <a:pt x="8046" y="2"/>
                    </a:cubicBezTo>
                    <a:close/>
                    <a:moveTo>
                      <a:pt x="8054" y="2"/>
                    </a:moveTo>
                    <a:lnTo>
                      <a:pt x="8054" y="2"/>
                    </a:lnTo>
                    <a:cubicBezTo>
                      <a:pt x="8055" y="2"/>
                      <a:pt x="8056" y="3"/>
                      <a:pt x="8056" y="4"/>
                    </a:cubicBezTo>
                    <a:cubicBezTo>
                      <a:pt x="8056" y="5"/>
                      <a:pt x="8055" y="6"/>
                      <a:pt x="8054" y="6"/>
                    </a:cubicBezTo>
                    <a:lnTo>
                      <a:pt x="8054" y="6"/>
                    </a:lnTo>
                    <a:cubicBezTo>
                      <a:pt x="8053" y="6"/>
                      <a:pt x="8052" y="5"/>
                      <a:pt x="8052" y="4"/>
                    </a:cubicBezTo>
                    <a:cubicBezTo>
                      <a:pt x="8052" y="3"/>
                      <a:pt x="8053" y="2"/>
                      <a:pt x="8054" y="2"/>
                    </a:cubicBezTo>
                    <a:close/>
                    <a:moveTo>
                      <a:pt x="8062" y="2"/>
                    </a:moveTo>
                    <a:lnTo>
                      <a:pt x="8062" y="2"/>
                    </a:lnTo>
                    <a:cubicBezTo>
                      <a:pt x="8063" y="2"/>
                      <a:pt x="8064" y="3"/>
                      <a:pt x="8064" y="4"/>
                    </a:cubicBezTo>
                    <a:cubicBezTo>
                      <a:pt x="8064" y="5"/>
                      <a:pt x="8063" y="6"/>
                      <a:pt x="8062" y="6"/>
                    </a:cubicBezTo>
                    <a:lnTo>
                      <a:pt x="8062" y="6"/>
                    </a:lnTo>
                    <a:cubicBezTo>
                      <a:pt x="8061" y="6"/>
                      <a:pt x="8060" y="5"/>
                      <a:pt x="8060" y="4"/>
                    </a:cubicBezTo>
                    <a:cubicBezTo>
                      <a:pt x="8060" y="3"/>
                      <a:pt x="8061" y="2"/>
                      <a:pt x="8062" y="2"/>
                    </a:cubicBezTo>
                    <a:close/>
                    <a:moveTo>
                      <a:pt x="8070" y="2"/>
                    </a:moveTo>
                    <a:lnTo>
                      <a:pt x="8070" y="2"/>
                    </a:lnTo>
                    <a:cubicBezTo>
                      <a:pt x="8071" y="2"/>
                      <a:pt x="8072" y="3"/>
                      <a:pt x="8072" y="4"/>
                    </a:cubicBezTo>
                    <a:cubicBezTo>
                      <a:pt x="8072" y="5"/>
                      <a:pt x="8071" y="6"/>
                      <a:pt x="8070" y="6"/>
                    </a:cubicBezTo>
                    <a:lnTo>
                      <a:pt x="8070" y="6"/>
                    </a:lnTo>
                    <a:cubicBezTo>
                      <a:pt x="8069" y="6"/>
                      <a:pt x="8068" y="5"/>
                      <a:pt x="8068" y="4"/>
                    </a:cubicBezTo>
                    <a:cubicBezTo>
                      <a:pt x="8068" y="3"/>
                      <a:pt x="8069" y="2"/>
                      <a:pt x="8070" y="2"/>
                    </a:cubicBezTo>
                    <a:close/>
                    <a:moveTo>
                      <a:pt x="8078" y="2"/>
                    </a:moveTo>
                    <a:lnTo>
                      <a:pt x="8078" y="2"/>
                    </a:lnTo>
                    <a:cubicBezTo>
                      <a:pt x="8079" y="2"/>
                      <a:pt x="8080" y="3"/>
                      <a:pt x="8080" y="4"/>
                    </a:cubicBezTo>
                    <a:cubicBezTo>
                      <a:pt x="8080" y="5"/>
                      <a:pt x="8079" y="6"/>
                      <a:pt x="8078" y="6"/>
                    </a:cubicBezTo>
                    <a:lnTo>
                      <a:pt x="8078" y="6"/>
                    </a:lnTo>
                    <a:cubicBezTo>
                      <a:pt x="8077" y="6"/>
                      <a:pt x="8076" y="5"/>
                      <a:pt x="8076" y="4"/>
                    </a:cubicBezTo>
                    <a:cubicBezTo>
                      <a:pt x="8076" y="3"/>
                      <a:pt x="8077" y="2"/>
                      <a:pt x="8078" y="2"/>
                    </a:cubicBezTo>
                    <a:close/>
                    <a:moveTo>
                      <a:pt x="8086" y="2"/>
                    </a:moveTo>
                    <a:lnTo>
                      <a:pt x="8086" y="2"/>
                    </a:lnTo>
                    <a:cubicBezTo>
                      <a:pt x="8087" y="2"/>
                      <a:pt x="8088" y="3"/>
                      <a:pt x="8088" y="4"/>
                    </a:cubicBezTo>
                    <a:cubicBezTo>
                      <a:pt x="8088" y="5"/>
                      <a:pt x="8087" y="6"/>
                      <a:pt x="8086" y="6"/>
                    </a:cubicBezTo>
                    <a:lnTo>
                      <a:pt x="8086" y="6"/>
                    </a:lnTo>
                    <a:cubicBezTo>
                      <a:pt x="8085" y="6"/>
                      <a:pt x="8084" y="5"/>
                      <a:pt x="8084" y="4"/>
                    </a:cubicBezTo>
                    <a:cubicBezTo>
                      <a:pt x="8084" y="3"/>
                      <a:pt x="8085" y="2"/>
                      <a:pt x="8086" y="2"/>
                    </a:cubicBezTo>
                    <a:close/>
                    <a:moveTo>
                      <a:pt x="8094" y="2"/>
                    </a:moveTo>
                    <a:lnTo>
                      <a:pt x="8094" y="2"/>
                    </a:lnTo>
                    <a:cubicBezTo>
                      <a:pt x="8095" y="2"/>
                      <a:pt x="8096" y="3"/>
                      <a:pt x="8096" y="4"/>
                    </a:cubicBezTo>
                    <a:cubicBezTo>
                      <a:pt x="8096" y="5"/>
                      <a:pt x="8095" y="6"/>
                      <a:pt x="8094" y="6"/>
                    </a:cubicBezTo>
                    <a:lnTo>
                      <a:pt x="8094" y="6"/>
                    </a:lnTo>
                    <a:cubicBezTo>
                      <a:pt x="8093" y="6"/>
                      <a:pt x="8092" y="5"/>
                      <a:pt x="8092" y="4"/>
                    </a:cubicBezTo>
                    <a:cubicBezTo>
                      <a:pt x="8092" y="3"/>
                      <a:pt x="8093" y="2"/>
                      <a:pt x="8094" y="2"/>
                    </a:cubicBezTo>
                    <a:close/>
                    <a:moveTo>
                      <a:pt x="8102" y="2"/>
                    </a:moveTo>
                    <a:lnTo>
                      <a:pt x="8102" y="2"/>
                    </a:lnTo>
                    <a:cubicBezTo>
                      <a:pt x="8103" y="2"/>
                      <a:pt x="8104" y="3"/>
                      <a:pt x="8104" y="4"/>
                    </a:cubicBezTo>
                    <a:cubicBezTo>
                      <a:pt x="8104" y="5"/>
                      <a:pt x="8103" y="6"/>
                      <a:pt x="8102" y="6"/>
                    </a:cubicBezTo>
                    <a:lnTo>
                      <a:pt x="8102" y="6"/>
                    </a:lnTo>
                    <a:cubicBezTo>
                      <a:pt x="8101" y="6"/>
                      <a:pt x="8100" y="5"/>
                      <a:pt x="8100" y="4"/>
                    </a:cubicBezTo>
                    <a:cubicBezTo>
                      <a:pt x="8100" y="3"/>
                      <a:pt x="8101" y="2"/>
                      <a:pt x="8102" y="2"/>
                    </a:cubicBezTo>
                    <a:close/>
                    <a:moveTo>
                      <a:pt x="8110" y="2"/>
                    </a:moveTo>
                    <a:lnTo>
                      <a:pt x="8110" y="2"/>
                    </a:lnTo>
                    <a:cubicBezTo>
                      <a:pt x="8111" y="2"/>
                      <a:pt x="8112" y="3"/>
                      <a:pt x="8112" y="4"/>
                    </a:cubicBezTo>
                    <a:cubicBezTo>
                      <a:pt x="8112" y="5"/>
                      <a:pt x="8111" y="6"/>
                      <a:pt x="8110" y="6"/>
                    </a:cubicBezTo>
                    <a:lnTo>
                      <a:pt x="8110" y="6"/>
                    </a:lnTo>
                    <a:cubicBezTo>
                      <a:pt x="8109" y="6"/>
                      <a:pt x="8108" y="5"/>
                      <a:pt x="8108" y="4"/>
                    </a:cubicBezTo>
                    <a:cubicBezTo>
                      <a:pt x="8108" y="3"/>
                      <a:pt x="8109" y="2"/>
                      <a:pt x="8110" y="2"/>
                    </a:cubicBezTo>
                    <a:close/>
                    <a:moveTo>
                      <a:pt x="8118" y="2"/>
                    </a:moveTo>
                    <a:lnTo>
                      <a:pt x="8118" y="2"/>
                    </a:lnTo>
                    <a:cubicBezTo>
                      <a:pt x="8119" y="2"/>
                      <a:pt x="8120" y="3"/>
                      <a:pt x="8120" y="4"/>
                    </a:cubicBezTo>
                    <a:cubicBezTo>
                      <a:pt x="8120" y="5"/>
                      <a:pt x="8119" y="6"/>
                      <a:pt x="8118" y="6"/>
                    </a:cubicBezTo>
                    <a:lnTo>
                      <a:pt x="8118" y="6"/>
                    </a:lnTo>
                    <a:cubicBezTo>
                      <a:pt x="8117" y="6"/>
                      <a:pt x="8116" y="5"/>
                      <a:pt x="8116" y="4"/>
                    </a:cubicBezTo>
                    <a:cubicBezTo>
                      <a:pt x="8116" y="3"/>
                      <a:pt x="8117" y="2"/>
                      <a:pt x="8118" y="2"/>
                    </a:cubicBezTo>
                    <a:close/>
                    <a:moveTo>
                      <a:pt x="8126" y="2"/>
                    </a:moveTo>
                    <a:lnTo>
                      <a:pt x="8126" y="2"/>
                    </a:lnTo>
                    <a:cubicBezTo>
                      <a:pt x="8127" y="2"/>
                      <a:pt x="8128" y="3"/>
                      <a:pt x="8128" y="4"/>
                    </a:cubicBezTo>
                    <a:cubicBezTo>
                      <a:pt x="8128" y="5"/>
                      <a:pt x="8127" y="6"/>
                      <a:pt x="8126" y="6"/>
                    </a:cubicBezTo>
                    <a:lnTo>
                      <a:pt x="8126" y="6"/>
                    </a:lnTo>
                    <a:cubicBezTo>
                      <a:pt x="8125" y="6"/>
                      <a:pt x="8124" y="5"/>
                      <a:pt x="8124" y="4"/>
                    </a:cubicBezTo>
                    <a:cubicBezTo>
                      <a:pt x="8124" y="3"/>
                      <a:pt x="8125" y="2"/>
                      <a:pt x="8126" y="2"/>
                    </a:cubicBezTo>
                    <a:close/>
                    <a:moveTo>
                      <a:pt x="8134" y="2"/>
                    </a:moveTo>
                    <a:lnTo>
                      <a:pt x="8134" y="2"/>
                    </a:lnTo>
                    <a:cubicBezTo>
                      <a:pt x="8135" y="2"/>
                      <a:pt x="8136" y="3"/>
                      <a:pt x="8136" y="4"/>
                    </a:cubicBezTo>
                    <a:cubicBezTo>
                      <a:pt x="8136" y="5"/>
                      <a:pt x="8135" y="6"/>
                      <a:pt x="8134" y="6"/>
                    </a:cubicBezTo>
                    <a:lnTo>
                      <a:pt x="8134" y="6"/>
                    </a:lnTo>
                    <a:cubicBezTo>
                      <a:pt x="8133" y="6"/>
                      <a:pt x="8132" y="5"/>
                      <a:pt x="8132" y="4"/>
                    </a:cubicBezTo>
                    <a:cubicBezTo>
                      <a:pt x="8132" y="3"/>
                      <a:pt x="8133" y="2"/>
                      <a:pt x="8134" y="2"/>
                    </a:cubicBezTo>
                    <a:close/>
                    <a:moveTo>
                      <a:pt x="8142" y="2"/>
                    </a:moveTo>
                    <a:lnTo>
                      <a:pt x="8142" y="2"/>
                    </a:lnTo>
                    <a:cubicBezTo>
                      <a:pt x="8143" y="2"/>
                      <a:pt x="8144" y="3"/>
                      <a:pt x="8144" y="4"/>
                    </a:cubicBezTo>
                    <a:cubicBezTo>
                      <a:pt x="8144" y="5"/>
                      <a:pt x="8143" y="6"/>
                      <a:pt x="8142" y="6"/>
                    </a:cubicBezTo>
                    <a:lnTo>
                      <a:pt x="8142" y="6"/>
                    </a:lnTo>
                    <a:cubicBezTo>
                      <a:pt x="8141" y="6"/>
                      <a:pt x="8140" y="5"/>
                      <a:pt x="8140" y="4"/>
                    </a:cubicBezTo>
                    <a:cubicBezTo>
                      <a:pt x="8140" y="3"/>
                      <a:pt x="8141" y="2"/>
                      <a:pt x="8142" y="2"/>
                    </a:cubicBezTo>
                    <a:close/>
                    <a:moveTo>
                      <a:pt x="8150" y="2"/>
                    </a:moveTo>
                    <a:lnTo>
                      <a:pt x="8150" y="2"/>
                    </a:lnTo>
                    <a:cubicBezTo>
                      <a:pt x="8151" y="2"/>
                      <a:pt x="8152" y="3"/>
                      <a:pt x="8152" y="4"/>
                    </a:cubicBezTo>
                    <a:cubicBezTo>
                      <a:pt x="8152" y="5"/>
                      <a:pt x="8151" y="6"/>
                      <a:pt x="8150" y="6"/>
                    </a:cubicBezTo>
                    <a:lnTo>
                      <a:pt x="8150" y="6"/>
                    </a:lnTo>
                    <a:cubicBezTo>
                      <a:pt x="8149" y="6"/>
                      <a:pt x="8148" y="5"/>
                      <a:pt x="8148" y="4"/>
                    </a:cubicBezTo>
                    <a:cubicBezTo>
                      <a:pt x="8148" y="3"/>
                      <a:pt x="8149" y="2"/>
                      <a:pt x="8150" y="2"/>
                    </a:cubicBezTo>
                    <a:close/>
                    <a:moveTo>
                      <a:pt x="8158" y="2"/>
                    </a:moveTo>
                    <a:lnTo>
                      <a:pt x="8158" y="2"/>
                    </a:lnTo>
                    <a:cubicBezTo>
                      <a:pt x="8159" y="2"/>
                      <a:pt x="8160" y="3"/>
                      <a:pt x="8160" y="4"/>
                    </a:cubicBezTo>
                    <a:cubicBezTo>
                      <a:pt x="8160" y="5"/>
                      <a:pt x="8159" y="6"/>
                      <a:pt x="8158" y="6"/>
                    </a:cubicBezTo>
                    <a:lnTo>
                      <a:pt x="8158" y="6"/>
                    </a:lnTo>
                    <a:cubicBezTo>
                      <a:pt x="8157" y="6"/>
                      <a:pt x="8156" y="5"/>
                      <a:pt x="8156" y="4"/>
                    </a:cubicBezTo>
                    <a:cubicBezTo>
                      <a:pt x="8156" y="3"/>
                      <a:pt x="8157" y="2"/>
                      <a:pt x="8158" y="2"/>
                    </a:cubicBezTo>
                    <a:close/>
                    <a:moveTo>
                      <a:pt x="8166" y="2"/>
                    </a:moveTo>
                    <a:lnTo>
                      <a:pt x="8166" y="2"/>
                    </a:lnTo>
                    <a:cubicBezTo>
                      <a:pt x="8167" y="2"/>
                      <a:pt x="8168" y="3"/>
                      <a:pt x="8168" y="4"/>
                    </a:cubicBezTo>
                    <a:cubicBezTo>
                      <a:pt x="8168" y="5"/>
                      <a:pt x="8167" y="6"/>
                      <a:pt x="8166" y="6"/>
                    </a:cubicBezTo>
                    <a:lnTo>
                      <a:pt x="8166" y="6"/>
                    </a:lnTo>
                    <a:cubicBezTo>
                      <a:pt x="8165" y="6"/>
                      <a:pt x="8164" y="5"/>
                      <a:pt x="8164" y="4"/>
                    </a:cubicBezTo>
                    <a:cubicBezTo>
                      <a:pt x="8164" y="3"/>
                      <a:pt x="8165" y="2"/>
                      <a:pt x="8166" y="2"/>
                    </a:cubicBezTo>
                    <a:close/>
                    <a:moveTo>
                      <a:pt x="8174" y="2"/>
                    </a:moveTo>
                    <a:lnTo>
                      <a:pt x="8174" y="2"/>
                    </a:lnTo>
                    <a:cubicBezTo>
                      <a:pt x="8175" y="2"/>
                      <a:pt x="8176" y="3"/>
                      <a:pt x="8176" y="4"/>
                    </a:cubicBezTo>
                    <a:cubicBezTo>
                      <a:pt x="8176" y="5"/>
                      <a:pt x="8175" y="6"/>
                      <a:pt x="8174" y="6"/>
                    </a:cubicBezTo>
                    <a:lnTo>
                      <a:pt x="8174" y="6"/>
                    </a:lnTo>
                    <a:cubicBezTo>
                      <a:pt x="8173" y="6"/>
                      <a:pt x="8172" y="5"/>
                      <a:pt x="8172" y="4"/>
                    </a:cubicBezTo>
                    <a:cubicBezTo>
                      <a:pt x="8172" y="3"/>
                      <a:pt x="8173" y="2"/>
                      <a:pt x="8174" y="2"/>
                    </a:cubicBezTo>
                    <a:close/>
                    <a:moveTo>
                      <a:pt x="8182" y="2"/>
                    </a:moveTo>
                    <a:lnTo>
                      <a:pt x="8182" y="2"/>
                    </a:lnTo>
                    <a:cubicBezTo>
                      <a:pt x="8183" y="2"/>
                      <a:pt x="8184" y="3"/>
                      <a:pt x="8184" y="4"/>
                    </a:cubicBezTo>
                    <a:cubicBezTo>
                      <a:pt x="8184" y="5"/>
                      <a:pt x="8183" y="6"/>
                      <a:pt x="8182" y="6"/>
                    </a:cubicBezTo>
                    <a:lnTo>
                      <a:pt x="8182" y="6"/>
                    </a:lnTo>
                    <a:cubicBezTo>
                      <a:pt x="8181" y="6"/>
                      <a:pt x="8180" y="5"/>
                      <a:pt x="8180" y="4"/>
                    </a:cubicBezTo>
                    <a:cubicBezTo>
                      <a:pt x="8180" y="3"/>
                      <a:pt x="8181" y="2"/>
                      <a:pt x="8182" y="2"/>
                    </a:cubicBezTo>
                    <a:close/>
                    <a:moveTo>
                      <a:pt x="8190" y="2"/>
                    </a:moveTo>
                    <a:lnTo>
                      <a:pt x="8190" y="2"/>
                    </a:lnTo>
                    <a:cubicBezTo>
                      <a:pt x="8191" y="2"/>
                      <a:pt x="8192" y="3"/>
                      <a:pt x="8192" y="4"/>
                    </a:cubicBezTo>
                    <a:cubicBezTo>
                      <a:pt x="8192" y="5"/>
                      <a:pt x="8191" y="6"/>
                      <a:pt x="8190" y="6"/>
                    </a:cubicBezTo>
                    <a:lnTo>
                      <a:pt x="8190" y="6"/>
                    </a:lnTo>
                    <a:cubicBezTo>
                      <a:pt x="8189" y="6"/>
                      <a:pt x="8188" y="5"/>
                      <a:pt x="8188" y="4"/>
                    </a:cubicBezTo>
                    <a:cubicBezTo>
                      <a:pt x="8188" y="3"/>
                      <a:pt x="8189" y="2"/>
                      <a:pt x="8190" y="2"/>
                    </a:cubicBezTo>
                    <a:close/>
                    <a:moveTo>
                      <a:pt x="8198" y="2"/>
                    </a:moveTo>
                    <a:lnTo>
                      <a:pt x="8198" y="2"/>
                    </a:lnTo>
                    <a:cubicBezTo>
                      <a:pt x="8199" y="2"/>
                      <a:pt x="8200" y="3"/>
                      <a:pt x="8200" y="4"/>
                    </a:cubicBezTo>
                    <a:cubicBezTo>
                      <a:pt x="8200" y="5"/>
                      <a:pt x="8199" y="6"/>
                      <a:pt x="8198" y="6"/>
                    </a:cubicBezTo>
                    <a:lnTo>
                      <a:pt x="8198" y="6"/>
                    </a:lnTo>
                    <a:cubicBezTo>
                      <a:pt x="8197" y="6"/>
                      <a:pt x="8196" y="5"/>
                      <a:pt x="8196" y="4"/>
                    </a:cubicBezTo>
                    <a:cubicBezTo>
                      <a:pt x="8196" y="3"/>
                      <a:pt x="8197" y="2"/>
                      <a:pt x="8198" y="2"/>
                    </a:cubicBezTo>
                    <a:close/>
                    <a:moveTo>
                      <a:pt x="8206" y="2"/>
                    </a:moveTo>
                    <a:lnTo>
                      <a:pt x="8206" y="2"/>
                    </a:lnTo>
                    <a:cubicBezTo>
                      <a:pt x="8207" y="2"/>
                      <a:pt x="8208" y="3"/>
                      <a:pt x="8208" y="4"/>
                    </a:cubicBezTo>
                    <a:cubicBezTo>
                      <a:pt x="8208" y="5"/>
                      <a:pt x="8207" y="6"/>
                      <a:pt x="8206" y="6"/>
                    </a:cubicBezTo>
                    <a:lnTo>
                      <a:pt x="8206" y="6"/>
                    </a:lnTo>
                    <a:cubicBezTo>
                      <a:pt x="8205" y="6"/>
                      <a:pt x="8204" y="5"/>
                      <a:pt x="8204" y="4"/>
                    </a:cubicBezTo>
                    <a:cubicBezTo>
                      <a:pt x="8204" y="3"/>
                      <a:pt x="8205" y="2"/>
                      <a:pt x="8206" y="2"/>
                    </a:cubicBezTo>
                    <a:close/>
                    <a:moveTo>
                      <a:pt x="8214" y="2"/>
                    </a:moveTo>
                    <a:lnTo>
                      <a:pt x="8214" y="2"/>
                    </a:lnTo>
                    <a:cubicBezTo>
                      <a:pt x="8215" y="2"/>
                      <a:pt x="8216" y="3"/>
                      <a:pt x="8216" y="4"/>
                    </a:cubicBezTo>
                    <a:cubicBezTo>
                      <a:pt x="8216" y="5"/>
                      <a:pt x="8215" y="6"/>
                      <a:pt x="8214" y="6"/>
                    </a:cubicBezTo>
                    <a:lnTo>
                      <a:pt x="8214" y="6"/>
                    </a:lnTo>
                    <a:cubicBezTo>
                      <a:pt x="8213" y="6"/>
                      <a:pt x="8212" y="5"/>
                      <a:pt x="8212" y="4"/>
                    </a:cubicBezTo>
                    <a:cubicBezTo>
                      <a:pt x="8212" y="3"/>
                      <a:pt x="8213" y="2"/>
                      <a:pt x="8214" y="2"/>
                    </a:cubicBezTo>
                    <a:close/>
                    <a:moveTo>
                      <a:pt x="8222" y="2"/>
                    </a:moveTo>
                    <a:lnTo>
                      <a:pt x="8222" y="2"/>
                    </a:lnTo>
                    <a:cubicBezTo>
                      <a:pt x="8223" y="2"/>
                      <a:pt x="8224" y="3"/>
                      <a:pt x="8224" y="4"/>
                    </a:cubicBezTo>
                    <a:cubicBezTo>
                      <a:pt x="8224" y="5"/>
                      <a:pt x="8223" y="6"/>
                      <a:pt x="8222" y="6"/>
                    </a:cubicBezTo>
                    <a:lnTo>
                      <a:pt x="8222" y="6"/>
                    </a:lnTo>
                    <a:cubicBezTo>
                      <a:pt x="8221" y="6"/>
                      <a:pt x="8220" y="5"/>
                      <a:pt x="8220" y="4"/>
                    </a:cubicBezTo>
                    <a:cubicBezTo>
                      <a:pt x="8220" y="3"/>
                      <a:pt x="8221" y="2"/>
                      <a:pt x="8222" y="2"/>
                    </a:cubicBezTo>
                    <a:close/>
                    <a:moveTo>
                      <a:pt x="8230" y="2"/>
                    </a:moveTo>
                    <a:lnTo>
                      <a:pt x="8230" y="2"/>
                    </a:lnTo>
                    <a:cubicBezTo>
                      <a:pt x="8231" y="2"/>
                      <a:pt x="8232" y="3"/>
                      <a:pt x="8232" y="4"/>
                    </a:cubicBezTo>
                    <a:cubicBezTo>
                      <a:pt x="8232" y="5"/>
                      <a:pt x="8231" y="6"/>
                      <a:pt x="8230" y="6"/>
                    </a:cubicBezTo>
                    <a:lnTo>
                      <a:pt x="8230" y="6"/>
                    </a:lnTo>
                    <a:cubicBezTo>
                      <a:pt x="8229" y="6"/>
                      <a:pt x="8228" y="5"/>
                      <a:pt x="8228" y="4"/>
                    </a:cubicBezTo>
                    <a:cubicBezTo>
                      <a:pt x="8228" y="3"/>
                      <a:pt x="8229" y="2"/>
                      <a:pt x="8230" y="2"/>
                    </a:cubicBezTo>
                    <a:close/>
                    <a:moveTo>
                      <a:pt x="8238" y="2"/>
                    </a:moveTo>
                    <a:lnTo>
                      <a:pt x="8238" y="2"/>
                    </a:lnTo>
                    <a:cubicBezTo>
                      <a:pt x="8239" y="2"/>
                      <a:pt x="8240" y="3"/>
                      <a:pt x="8240" y="4"/>
                    </a:cubicBezTo>
                    <a:cubicBezTo>
                      <a:pt x="8240" y="5"/>
                      <a:pt x="8239" y="6"/>
                      <a:pt x="8238" y="6"/>
                    </a:cubicBezTo>
                    <a:lnTo>
                      <a:pt x="8238" y="6"/>
                    </a:lnTo>
                    <a:cubicBezTo>
                      <a:pt x="8237" y="6"/>
                      <a:pt x="8236" y="5"/>
                      <a:pt x="8236" y="4"/>
                    </a:cubicBezTo>
                    <a:cubicBezTo>
                      <a:pt x="8236" y="3"/>
                      <a:pt x="8237" y="2"/>
                      <a:pt x="8238" y="2"/>
                    </a:cubicBezTo>
                    <a:close/>
                    <a:moveTo>
                      <a:pt x="8246" y="2"/>
                    </a:moveTo>
                    <a:lnTo>
                      <a:pt x="8246" y="2"/>
                    </a:lnTo>
                    <a:cubicBezTo>
                      <a:pt x="8247" y="2"/>
                      <a:pt x="8248" y="3"/>
                      <a:pt x="8248" y="4"/>
                    </a:cubicBezTo>
                    <a:cubicBezTo>
                      <a:pt x="8248" y="5"/>
                      <a:pt x="8247" y="6"/>
                      <a:pt x="8246" y="6"/>
                    </a:cubicBezTo>
                    <a:lnTo>
                      <a:pt x="8246" y="6"/>
                    </a:lnTo>
                    <a:cubicBezTo>
                      <a:pt x="8245" y="6"/>
                      <a:pt x="8244" y="5"/>
                      <a:pt x="8244" y="4"/>
                    </a:cubicBezTo>
                    <a:cubicBezTo>
                      <a:pt x="8244" y="3"/>
                      <a:pt x="8245" y="2"/>
                      <a:pt x="8246" y="2"/>
                    </a:cubicBezTo>
                    <a:close/>
                    <a:moveTo>
                      <a:pt x="8254" y="2"/>
                    </a:moveTo>
                    <a:lnTo>
                      <a:pt x="8254" y="2"/>
                    </a:lnTo>
                    <a:cubicBezTo>
                      <a:pt x="8255" y="2"/>
                      <a:pt x="8256" y="3"/>
                      <a:pt x="8256" y="4"/>
                    </a:cubicBezTo>
                    <a:cubicBezTo>
                      <a:pt x="8256" y="5"/>
                      <a:pt x="8255" y="6"/>
                      <a:pt x="8254" y="6"/>
                    </a:cubicBezTo>
                    <a:lnTo>
                      <a:pt x="8254" y="6"/>
                    </a:lnTo>
                    <a:cubicBezTo>
                      <a:pt x="8253" y="6"/>
                      <a:pt x="8252" y="5"/>
                      <a:pt x="8252" y="4"/>
                    </a:cubicBezTo>
                    <a:cubicBezTo>
                      <a:pt x="8252" y="3"/>
                      <a:pt x="8253" y="2"/>
                      <a:pt x="8254" y="2"/>
                    </a:cubicBezTo>
                    <a:close/>
                    <a:moveTo>
                      <a:pt x="8262" y="2"/>
                    </a:moveTo>
                    <a:lnTo>
                      <a:pt x="8262" y="2"/>
                    </a:lnTo>
                    <a:cubicBezTo>
                      <a:pt x="8263" y="2"/>
                      <a:pt x="8264" y="3"/>
                      <a:pt x="8264" y="4"/>
                    </a:cubicBezTo>
                    <a:cubicBezTo>
                      <a:pt x="8264" y="5"/>
                      <a:pt x="8263" y="6"/>
                      <a:pt x="8262" y="6"/>
                    </a:cubicBezTo>
                    <a:lnTo>
                      <a:pt x="8262" y="6"/>
                    </a:lnTo>
                    <a:cubicBezTo>
                      <a:pt x="8261" y="6"/>
                      <a:pt x="8260" y="5"/>
                      <a:pt x="8260" y="4"/>
                    </a:cubicBezTo>
                    <a:cubicBezTo>
                      <a:pt x="8260" y="3"/>
                      <a:pt x="8261" y="2"/>
                      <a:pt x="8262" y="2"/>
                    </a:cubicBezTo>
                    <a:close/>
                    <a:moveTo>
                      <a:pt x="8270" y="2"/>
                    </a:moveTo>
                    <a:lnTo>
                      <a:pt x="8270" y="2"/>
                    </a:lnTo>
                    <a:cubicBezTo>
                      <a:pt x="8271" y="2"/>
                      <a:pt x="8272" y="3"/>
                      <a:pt x="8272" y="4"/>
                    </a:cubicBezTo>
                    <a:cubicBezTo>
                      <a:pt x="8272" y="5"/>
                      <a:pt x="8271" y="6"/>
                      <a:pt x="8270" y="6"/>
                    </a:cubicBezTo>
                    <a:lnTo>
                      <a:pt x="8270" y="6"/>
                    </a:lnTo>
                    <a:cubicBezTo>
                      <a:pt x="8269" y="6"/>
                      <a:pt x="8268" y="5"/>
                      <a:pt x="8268" y="4"/>
                    </a:cubicBezTo>
                    <a:cubicBezTo>
                      <a:pt x="8268" y="3"/>
                      <a:pt x="8269" y="2"/>
                      <a:pt x="8270" y="2"/>
                    </a:cubicBezTo>
                    <a:close/>
                    <a:moveTo>
                      <a:pt x="8278" y="2"/>
                    </a:moveTo>
                    <a:lnTo>
                      <a:pt x="8278" y="2"/>
                    </a:lnTo>
                    <a:cubicBezTo>
                      <a:pt x="8279" y="2"/>
                      <a:pt x="8280" y="3"/>
                      <a:pt x="8280" y="4"/>
                    </a:cubicBezTo>
                    <a:cubicBezTo>
                      <a:pt x="8280" y="5"/>
                      <a:pt x="8279" y="6"/>
                      <a:pt x="8278" y="6"/>
                    </a:cubicBezTo>
                    <a:lnTo>
                      <a:pt x="8278" y="6"/>
                    </a:lnTo>
                    <a:cubicBezTo>
                      <a:pt x="8277" y="6"/>
                      <a:pt x="8276" y="5"/>
                      <a:pt x="8276" y="4"/>
                    </a:cubicBezTo>
                    <a:cubicBezTo>
                      <a:pt x="8276" y="3"/>
                      <a:pt x="8277" y="2"/>
                      <a:pt x="8278" y="2"/>
                    </a:cubicBezTo>
                    <a:close/>
                    <a:moveTo>
                      <a:pt x="8286" y="2"/>
                    </a:moveTo>
                    <a:lnTo>
                      <a:pt x="8286" y="2"/>
                    </a:lnTo>
                    <a:cubicBezTo>
                      <a:pt x="8287" y="2"/>
                      <a:pt x="8288" y="3"/>
                      <a:pt x="8288" y="4"/>
                    </a:cubicBezTo>
                    <a:cubicBezTo>
                      <a:pt x="8288" y="5"/>
                      <a:pt x="8287" y="6"/>
                      <a:pt x="8286" y="6"/>
                    </a:cubicBezTo>
                    <a:lnTo>
                      <a:pt x="8286" y="6"/>
                    </a:lnTo>
                    <a:cubicBezTo>
                      <a:pt x="8285" y="6"/>
                      <a:pt x="8284" y="5"/>
                      <a:pt x="8284" y="4"/>
                    </a:cubicBezTo>
                    <a:cubicBezTo>
                      <a:pt x="8284" y="3"/>
                      <a:pt x="8285" y="2"/>
                      <a:pt x="8286" y="2"/>
                    </a:cubicBezTo>
                    <a:close/>
                    <a:moveTo>
                      <a:pt x="8294" y="2"/>
                    </a:moveTo>
                    <a:lnTo>
                      <a:pt x="8294" y="2"/>
                    </a:lnTo>
                    <a:cubicBezTo>
                      <a:pt x="8295" y="2"/>
                      <a:pt x="8296" y="3"/>
                      <a:pt x="8296" y="4"/>
                    </a:cubicBezTo>
                    <a:cubicBezTo>
                      <a:pt x="8296" y="5"/>
                      <a:pt x="8295" y="6"/>
                      <a:pt x="8294" y="6"/>
                    </a:cubicBezTo>
                    <a:lnTo>
                      <a:pt x="8294" y="6"/>
                    </a:lnTo>
                    <a:cubicBezTo>
                      <a:pt x="8293" y="6"/>
                      <a:pt x="8292" y="5"/>
                      <a:pt x="8292" y="4"/>
                    </a:cubicBezTo>
                    <a:cubicBezTo>
                      <a:pt x="8292" y="3"/>
                      <a:pt x="8293" y="2"/>
                      <a:pt x="8294" y="2"/>
                    </a:cubicBezTo>
                    <a:close/>
                    <a:moveTo>
                      <a:pt x="8302" y="2"/>
                    </a:moveTo>
                    <a:lnTo>
                      <a:pt x="8302" y="2"/>
                    </a:lnTo>
                    <a:cubicBezTo>
                      <a:pt x="8303" y="2"/>
                      <a:pt x="8304" y="3"/>
                      <a:pt x="8304" y="4"/>
                    </a:cubicBezTo>
                    <a:cubicBezTo>
                      <a:pt x="8304" y="5"/>
                      <a:pt x="8303" y="6"/>
                      <a:pt x="8302" y="6"/>
                    </a:cubicBezTo>
                    <a:lnTo>
                      <a:pt x="8302" y="6"/>
                    </a:lnTo>
                    <a:cubicBezTo>
                      <a:pt x="8301" y="6"/>
                      <a:pt x="8300" y="5"/>
                      <a:pt x="8300" y="4"/>
                    </a:cubicBezTo>
                    <a:cubicBezTo>
                      <a:pt x="8300" y="3"/>
                      <a:pt x="8301" y="2"/>
                      <a:pt x="8302" y="2"/>
                    </a:cubicBezTo>
                    <a:close/>
                    <a:moveTo>
                      <a:pt x="8310" y="2"/>
                    </a:moveTo>
                    <a:lnTo>
                      <a:pt x="8310" y="2"/>
                    </a:lnTo>
                    <a:cubicBezTo>
                      <a:pt x="8311" y="2"/>
                      <a:pt x="8312" y="3"/>
                      <a:pt x="8312" y="4"/>
                    </a:cubicBezTo>
                    <a:cubicBezTo>
                      <a:pt x="8312" y="5"/>
                      <a:pt x="8311" y="6"/>
                      <a:pt x="8310" y="6"/>
                    </a:cubicBezTo>
                    <a:lnTo>
                      <a:pt x="8310" y="6"/>
                    </a:lnTo>
                    <a:cubicBezTo>
                      <a:pt x="8309" y="6"/>
                      <a:pt x="8308" y="5"/>
                      <a:pt x="8308" y="4"/>
                    </a:cubicBezTo>
                    <a:cubicBezTo>
                      <a:pt x="8308" y="3"/>
                      <a:pt x="8309" y="2"/>
                      <a:pt x="8310" y="2"/>
                    </a:cubicBezTo>
                    <a:close/>
                    <a:moveTo>
                      <a:pt x="8318" y="2"/>
                    </a:moveTo>
                    <a:lnTo>
                      <a:pt x="8318" y="2"/>
                    </a:lnTo>
                    <a:cubicBezTo>
                      <a:pt x="8319" y="2"/>
                      <a:pt x="8320" y="3"/>
                      <a:pt x="8320" y="4"/>
                    </a:cubicBezTo>
                    <a:cubicBezTo>
                      <a:pt x="8320" y="5"/>
                      <a:pt x="8319" y="6"/>
                      <a:pt x="8318" y="6"/>
                    </a:cubicBezTo>
                    <a:lnTo>
                      <a:pt x="8318" y="6"/>
                    </a:lnTo>
                    <a:cubicBezTo>
                      <a:pt x="8317" y="6"/>
                      <a:pt x="8316" y="5"/>
                      <a:pt x="8316" y="4"/>
                    </a:cubicBezTo>
                    <a:cubicBezTo>
                      <a:pt x="8316" y="3"/>
                      <a:pt x="8317" y="2"/>
                      <a:pt x="8318" y="2"/>
                    </a:cubicBezTo>
                    <a:close/>
                    <a:moveTo>
                      <a:pt x="8326" y="2"/>
                    </a:moveTo>
                    <a:lnTo>
                      <a:pt x="8326" y="2"/>
                    </a:lnTo>
                    <a:cubicBezTo>
                      <a:pt x="8327" y="2"/>
                      <a:pt x="8328" y="3"/>
                      <a:pt x="8328" y="4"/>
                    </a:cubicBezTo>
                    <a:cubicBezTo>
                      <a:pt x="8328" y="5"/>
                      <a:pt x="8327" y="6"/>
                      <a:pt x="8326" y="6"/>
                    </a:cubicBezTo>
                    <a:lnTo>
                      <a:pt x="8326" y="6"/>
                    </a:lnTo>
                    <a:cubicBezTo>
                      <a:pt x="8325" y="6"/>
                      <a:pt x="8324" y="5"/>
                      <a:pt x="8324" y="4"/>
                    </a:cubicBezTo>
                    <a:cubicBezTo>
                      <a:pt x="8324" y="3"/>
                      <a:pt x="8325" y="2"/>
                      <a:pt x="8326" y="2"/>
                    </a:cubicBezTo>
                    <a:close/>
                    <a:moveTo>
                      <a:pt x="8334" y="2"/>
                    </a:moveTo>
                    <a:lnTo>
                      <a:pt x="8334" y="2"/>
                    </a:lnTo>
                    <a:cubicBezTo>
                      <a:pt x="8335" y="2"/>
                      <a:pt x="8336" y="3"/>
                      <a:pt x="8336" y="4"/>
                    </a:cubicBezTo>
                    <a:cubicBezTo>
                      <a:pt x="8336" y="5"/>
                      <a:pt x="8335" y="6"/>
                      <a:pt x="8334" y="6"/>
                    </a:cubicBezTo>
                    <a:lnTo>
                      <a:pt x="8334" y="6"/>
                    </a:lnTo>
                    <a:cubicBezTo>
                      <a:pt x="8333" y="6"/>
                      <a:pt x="8332" y="5"/>
                      <a:pt x="8332" y="4"/>
                    </a:cubicBezTo>
                    <a:cubicBezTo>
                      <a:pt x="8332" y="3"/>
                      <a:pt x="8333" y="2"/>
                      <a:pt x="8334" y="2"/>
                    </a:cubicBezTo>
                    <a:close/>
                    <a:moveTo>
                      <a:pt x="8342" y="2"/>
                    </a:moveTo>
                    <a:lnTo>
                      <a:pt x="8342" y="2"/>
                    </a:lnTo>
                    <a:cubicBezTo>
                      <a:pt x="8343" y="2"/>
                      <a:pt x="8344" y="3"/>
                      <a:pt x="8344" y="4"/>
                    </a:cubicBezTo>
                    <a:cubicBezTo>
                      <a:pt x="8344" y="5"/>
                      <a:pt x="8343" y="6"/>
                      <a:pt x="8342" y="6"/>
                    </a:cubicBezTo>
                    <a:lnTo>
                      <a:pt x="8342" y="6"/>
                    </a:lnTo>
                    <a:cubicBezTo>
                      <a:pt x="8341" y="6"/>
                      <a:pt x="8340" y="5"/>
                      <a:pt x="8340" y="4"/>
                    </a:cubicBezTo>
                    <a:cubicBezTo>
                      <a:pt x="8340" y="3"/>
                      <a:pt x="8341" y="2"/>
                      <a:pt x="8342" y="2"/>
                    </a:cubicBezTo>
                    <a:close/>
                    <a:moveTo>
                      <a:pt x="8350" y="2"/>
                    </a:moveTo>
                    <a:lnTo>
                      <a:pt x="8350" y="2"/>
                    </a:lnTo>
                    <a:cubicBezTo>
                      <a:pt x="8351" y="2"/>
                      <a:pt x="8352" y="3"/>
                      <a:pt x="8352" y="4"/>
                    </a:cubicBezTo>
                    <a:cubicBezTo>
                      <a:pt x="8352" y="5"/>
                      <a:pt x="8351" y="6"/>
                      <a:pt x="8350" y="6"/>
                    </a:cubicBezTo>
                    <a:lnTo>
                      <a:pt x="8350" y="6"/>
                    </a:lnTo>
                    <a:cubicBezTo>
                      <a:pt x="8349" y="6"/>
                      <a:pt x="8348" y="5"/>
                      <a:pt x="8348" y="4"/>
                    </a:cubicBezTo>
                    <a:cubicBezTo>
                      <a:pt x="8348" y="3"/>
                      <a:pt x="8349" y="2"/>
                      <a:pt x="8350" y="2"/>
                    </a:cubicBezTo>
                    <a:close/>
                    <a:moveTo>
                      <a:pt x="8358" y="2"/>
                    </a:moveTo>
                    <a:lnTo>
                      <a:pt x="8358" y="2"/>
                    </a:lnTo>
                    <a:cubicBezTo>
                      <a:pt x="8359" y="2"/>
                      <a:pt x="8360" y="3"/>
                      <a:pt x="8360" y="4"/>
                    </a:cubicBezTo>
                    <a:cubicBezTo>
                      <a:pt x="8360" y="5"/>
                      <a:pt x="8359" y="6"/>
                      <a:pt x="8358" y="6"/>
                    </a:cubicBezTo>
                    <a:lnTo>
                      <a:pt x="8358" y="6"/>
                    </a:lnTo>
                    <a:cubicBezTo>
                      <a:pt x="8357" y="6"/>
                      <a:pt x="8356" y="5"/>
                      <a:pt x="8356" y="4"/>
                    </a:cubicBezTo>
                    <a:cubicBezTo>
                      <a:pt x="8356" y="3"/>
                      <a:pt x="8357" y="2"/>
                      <a:pt x="8358" y="2"/>
                    </a:cubicBezTo>
                    <a:close/>
                    <a:moveTo>
                      <a:pt x="8366" y="2"/>
                    </a:moveTo>
                    <a:lnTo>
                      <a:pt x="8366" y="2"/>
                    </a:lnTo>
                    <a:cubicBezTo>
                      <a:pt x="8367" y="2"/>
                      <a:pt x="8368" y="3"/>
                      <a:pt x="8368" y="4"/>
                    </a:cubicBezTo>
                    <a:cubicBezTo>
                      <a:pt x="8368" y="5"/>
                      <a:pt x="8367" y="6"/>
                      <a:pt x="8366" y="6"/>
                    </a:cubicBezTo>
                    <a:lnTo>
                      <a:pt x="8366" y="6"/>
                    </a:lnTo>
                    <a:cubicBezTo>
                      <a:pt x="8365" y="6"/>
                      <a:pt x="8364" y="5"/>
                      <a:pt x="8364" y="4"/>
                    </a:cubicBezTo>
                    <a:cubicBezTo>
                      <a:pt x="8364" y="3"/>
                      <a:pt x="8365" y="2"/>
                      <a:pt x="8366" y="2"/>
                    </a:cubicBezTo>
                    <a:close/>
                    <a:moveTo>
                      <a:pt x="8374" y="2"/>
                    </a:moveTo>
                    <a:lnTo>
                      <a:pt x="8374" y="2"/>
                    </a:lnTo>
                    <a:cubicBezTo>
                      <a:pt x="8375" y="2"/>
                      <a:pt x="8376" y="3"/>
                      <a:pt x="8376" y="4"/>
                    </a:cubicBezTo>
                    <a:cubicBezTo>
                      <a:pt x="8376" y="5"/>
                      <a:pt x="8375" y="6"/>
                      <a:pt x="8374" y="6"/>
                    </a:cubicBezTo>
                    <a:lnTo>
                      <a:pt x="8374" y="6"/>
                    </a:lnTo>
                    <a:cubicBezTo>
                      <a:pt x="8373" y="6"/>
                      <a:pt x="8372" y="5"/>
                      <a:pt x="8372" y="4"/>
                    </a:cubicBezTo>
                    <a:cubicBezTo>
                      <a:pt x="8372" y="3"/>
                      <a:pt x="8373" y="2"/>
                      <a:pt x="8374" y="2"/>
                    </a:cubicBezTo>
                    <a:close/>
                    <a:moveTo>
                      <a:pt x="8382" y="2"/>
                    </a:moveTo>
                    <a:lnTo>
                      <a:pt x="8382" y="2"/>
                    </a:lnTo>
                    <a:cubicBezTo>
                      <a:pt x="8383" y="2"/>
                      <a:pt x="8384" y="3"/>
                      <a:pt x="8384" y="4"/>
                    </a:cubicBezTo>
                    <a:cubicBezTo>
                      <a:pt x="8384" y="5"/>
                      <a:pt x="8383" y="6"/>
                      <a:pt x="8382" y="6"/>
                    </a:cubicBezTo>
                    <a:lnTo>
                      <a:pt x="8382" y="6"/>
                    </a:lnTo>
                    <a:cubicBezTo>
                      <a:pt x="8381" y="6"/>
                      <a:pt x="8380" y="5"/>
                      <a:pt x="8380" y="4"/>
                    </a:cubicBezTo>
                    <a:cubicBezTo>
                      <a:pt x="8380" y="3"/>
                      <a:pt x="8381" y="2"/>
                      <a:pt x="8382" y="2"/>
                    </a:cubicBezTo>
                    <a:close/>
                    <a:moveTo>
                      <a:pt x="8390" y="2"/>
                    </a:moveTo>
                    <a:lnTo>
                      <a:pt x="8390" y="2"/>
                    </a:lnTo>
                    <a:cubicBezTo>
                      <a:pt x="8391" y="2"/>
                      <a:pt x="8392" y="3"/>
                      <a:pt x="8392" y="4"/>
                    </a:cubicBezTo>
                    <a:cubicBezTo>
                      <a:pt x="8392" y="5"/>
                      <a:pt x="8391" y="6"/>
                      <a:pt x="8390" y="6"/>
                    </a:cubicBezTo>
                    <a:lnTo>
                      <a:pt x="8390" y="6"/>
                    </a:lnTo>
                    <a:cubicBezTo>
                      <a:pt x="8389" y="6"/>
                      <a:pt x="8388" y="5"/>
                      <a:pt x="8388" y="4"/>
                    </a:cubicBezTo>
                    <a:cubicBezTo>
                      <a:pt x="8388" y="3"/>
                      <a:pt x="8389" y="2"/>
                      <a:pt x="8390" y="2"/>
                    </a:cubicBezTo>
                    <a:close/>
                    <a:moveTo>
                      <a:pt x="8398" y="2"/>
                    </a:moveTo>
                    <a:lnTo>
                      <a:pt x="8398" y="2"/>
                    </a:lnTo>
                    <a:cubicBezTo>
                      <a:pt x="8399" y="2"/>
                      <a:pt x="8400" y="3"/>
                      <a:pt x="8400" y="4"/>
                    </a:cubicBezTo>
                    <a:cubicBezTo>
                      <a:pt x="8400" y="5"/>
                      <a:pt x="8399" y="6"/>
                      <a:pt x="8398" y="6"/>
                    </a:cubicBezTo>
                    <a:lnTo>
                      <a:pt x="8398" y="6"/>
                    </a:lnTo>
                    <a:cubicBezTo>
                      <a:pt x="8397" y="6"/>
                      <a:pt x="8396" y="5"/>
                      <a:pt x="8396" y="4"/>
                    </a:cubicBezTo>
                    <a:cubicBezTo>
                      <a:pt x="8396" y="3"/>
                      <a:pt x="8397" y="2"/>
                      <a:pt x="8398" y="2"/>
                    </a:cubicBezTo>
                    <a:close/>
                    <a:moveTo>
                      <a:pt x="8406" y="2"/>
                    </a:moveTo>
                    <a:lnTo>
                      <a:pt x="8406" y="2"/>
                    </a:lnTo>
                    <a:cubicBezTo>
                      <a:pt x="8407" y="2"/>
                      <a:pt x="8408" y="3"/>
                      <a:pt x="8408" y="4"/>
                    </a:cubicBezTo>
                    <a:cubicBezTo>
                      <a:pt x="8408" y="5"/>
                      <a:pt x="8407" y="6"/>
                      <a:pt x="8406" y="6"/>
                    </a:cubicBezTo>
                    <a:lnTo>
                      <a:pt x="8406" y="6"/>
                    </a:lnTo>
                    <a:cubicBezTo>
                      <a:pt x="8405" y="6"/>
                      <a:pt x="8404" y="5"/>
                      <a:pt x="8404" y="4"/>
                    </a:cubicBezTo>
                    <a:cubicBezTo>
                      <a:pt x="8404" y="3"/>
                      <a:pt x="8405" y="2"/>
                      <a:pt x="8406" y="2"/>
                    </a:cubicBezTo>
                    <a:close/>
                    <a:moveTo>
                      <a:pt x="8414" y="2"/>
                    </a:moveTo>
                    <a:lnTo>
                      <a:pt x="8414" y="2"/>
                    </a:lnTo>
                    <a:cubicBezTo>
                      <a:pt x="8415" y="2"/>
                      <a:pt x="8416" y="3"/>
                      <a:pt x="8416" y="4"/>
                    </a:cubicBezTo>
                    <a:cubicBezTo>
                      <a:pt x="8416" y="5"/>
                      <a:pt x="8415" y="6"/>
                      <a:pt x="8414" y="6"/>
                    </a:cubicBezTo>
                    <a:lnTo>
                      <a:pt x="8414" y="6"/>
                    </a:lnTo>
                    <a:cubicBezTo>
                      <a:pt x="8413" y="6"/>
                      <a:pt x="8412" y="5"/>
                      <a:pt x="8412" y="4"/>
                    </a:cubicBezTo>
                    <a:cubicBezTo>
                      <a:pt x="8412" y="3"/>
                      <a:pt x="8413" y="2"/>
                      <a:pt x="8414" y="2"/>
                    </a:cubicBezTo>
                    <a:close/>
                    <a:moveTo>
                      <a:pt x="8422" y="2"/>
                    </a:moveTo>
                    <a:lnTo>
                      <a:pt x="8422" y="2"/>
                    </a:lnTo>
                    <a:cubicBezTo>
                      <a:pt x="8423" y="2"/>
                      <a:pt x="8424" y="3"/>
                      <a:pt x="8424" y="4"/>
                    </a:cubicBezTo>
                    <a:cubicBezTo>
                      <a:pt x="8424" y="5"/>
                      <a:pt x="8423" y="6"/>
                      <a:pt x="8422" y="6"/>
                    </a:cubicBezTo>
                    <a:lnTo>
                      <a:pt x="8422" y="6"/>
                    </a:lnTo>
                    <a:cubicBezTo>
                      <a:pt x="8421" y="6"/>
                      <a:pt x="8420" y="5"/>
                      <a:pt x="8420" y="4"/>
                    </a:cubicBezTo>
                    <a:cubicBezTo>
                      <a:pt x="8420" y="3"/>
                      <a:pt x="8421" y="2"/>
                      <a:pt x="8422" y="2"/>
                    </a:cubicBezTo>
                    <a:close/>
                    <a:moveTo>
                      <a:pt x="8430" y="2"/>
                    </a:moveTo>
                    <a:lnTo>
                      <a:pt x="8430" y="2"/>
                    </a:lnTo>
                    <a:cubicBezTo>
                      <a:pt x="8431" y="2"/>
                      <a:pt x="8432" y="3"/>
                      <a:pt x="8432" y="4"/>
                    </a:cubicBezTo>
                    <a:cubicBezTo>
                      <a:pt x="8432" y="5"/>
                      <a:pt x="8431" y="6"/>
                      <a:pt x="8430" y="6"/>
                    </a:cubicBezTo>
                    <a:lnTo>
                      <a:pt x="8430" y="6"/>
                    </a:lnTo>
                    <a:cubicBezTo>
                      <a:pt x="8429" y="6"/>
                      <a:pt x="8428" y="5"/>
                      <a:pt x="8428" y="4"/>
                    </a:cubicBezTo>
                    <a:cubicBezTo>
                      <a:pt x="8428" y="3"/>
                      <a:pt x="8429" y="2"/>
                      <a:pt x="8430" y="2"/>
                    </a:cubicBezTo>
                    <a:close/>
                    <a:moveTo>
                      <a:pt x="8438" y="2"/>
                    </a:moveTo>
                    <a:lnTo>
                      <a:pt x="8438" y="2"/>
                    </a:lnTo>
                    <a:cubicBezTo>
                      <a:pt x="8439" y="2"/>
                      <a:pt x="8440" y="3"/>
                      <a:pt x="8440" y="4"/>
                    </a:cubicBezTo>
                    <a:cubicBezTo>
                      <a:pt x="8440" y="5"/>
                      <a:pt x="8439" y="6"/>
                      <a:pt x="8438" y="6"/>
                    </a:cubicBezTo>
                    <a:lnTo>
                      <a:pt x="8438" y="6"/>
                    </a:lnTo>
                    <a:cubicBezTo>
                      <a:pt x="8437" y="6"/>
                      <a:pt x="8436" y="5"/>
                      <a:pt x="8436" y="4"/>
                    </a:cubicBezTo>
                    <a:cubicBezTo>
                      <a:pt x="8436" y="3"/>
                      <a:pt x="8437" y="2"/>
                      <a:pt x="8438" y="2"/>
                    </a:cubicBezTo>
                    <a:close/>
                    <a:moveTo>
                      <a:pt x="8446" y="2"/>
                    </a:moveTo>
                    <a:lnTo>
                      <a:pt x="8446" y="2"/>
                    </a:lnTo>
                    <a:cubicBezTo>
                      <a:pt x="8447" y="2"/>
                      <a:pt x="8448" y="3"/>
                      <a:pt x="8448" y="4"/>
                    </a:cubicBezTo>
                    <a:cubicBezTo>
                      <a:pt x="8448" y="5"/>
                      <a:pt x="8447" y="6"/>
                      <a:pt x="8446" y="6"/>
                    </a:cubicBezTo>
                    <a:lnTo>
                      <a:pt x="8446" y="6"/>
                    </a:lnTo>
                    <a:cubicBezTo>
                      <a:pt x="8445" y="6"/>
                      <a:pt x="8444" y="5"/>
                      <a:pt x="8444" y="4"/>
                    </a:cubicBezTo>
                    <a:cubicBezTo>
                      <a:pt x="8444" y="3"/>
                      <a:pt x="8445" y="2"/>
                      <a:pt x="8446" y="2"/>
                    </a:cubicBezTo>
                    <a:close/>
                    <a:moveTo>
                      <a:pt x="8454" y="2"/>
                    </a:moveTo>
                    <a:lnTo>
                      <a:pt x="8454" y="2"/>
                    </a:lnTo>
                    <a:cubicBezTo>
                      <a:pt x="8455" y="2"/>
                      <a:pt x="8456" y="3"/>
                      <a:pt x="8456" y="4"/>
                    </a:cubicBezTo>
                    <a:cubicBezTo>
                      <a:pt x="8456" y="5"/>
                      <a:pt x="8455" y="6"/>
                      <a:pt x="8454" y="6"/>
                    </a:cubicBezTo>
                    <a:lnTo>
                      <a:pt x="8454" y="6"/>
                    </a:lnTo>
                    <a:cubicBezTo>
                      <a:pt x="8453" y="6"/>
                      <a:pt x="8452" y="5"/>
                      <a:pt x="8452" y="4"/>
                    </a:cubicBezTo>
                    <a:cubicBezTo>
                      <a:pt x="8452" y="3"/>
                      <a:pt x="8453" y="2"/>
                      <a:pt x="8454" y="2"/>
                    </a:cubicBezTo>
                    <a:close/>
                    <a:moveTo>
                      <a:pt x="8462" y="2"/>
                    </a:moveTo>
                    <a:lnTo>
                      <a:pt x="8462" y="2"/>
                    </a:lnTo>
                    <a:cubicBezTo>
                      <a:pt x="8463" y="2"/>
                      <a:pt x="8464" y="3"/>
                      <a:pt x="8464" y="4"/>
                    </a:cubicBezTo>
                    <a:cubicBezTo>
                      <a:pt x="8464" y="5"/>
                      <a:pt x="8463" y="6"/>
                      <a:pt x="8462" y="6"/>
                    </a:cubicBezTo>
                    <a:lnTo>
                      <a:pt x="8462" y="6"/>
                    </a:lnTo>
                    <a:cubicBezTo>
                      <a:pt x="8461" y="6"/>
                      <a:pt x="8460" y="5"/>
                      <a:pt x="8460" y="4"/>
                    </a:cubicBezTo>
                    <a:cubicBezTo>
                      <a:pt x="8460" y="3"/>
                      <a:pt x="8461" y="2"/>
                      <a:pt x="8462" y="2"/>
                    </a:cubicBezTo>
                    <a:close/>
                    <a:moveTo>
                      <a:pt x="8470" y="2"/>
                    </a:moveTo>
                    <a:lnTo>
                      <a:pt x="8470" y="2"/>
                    </a:lnTo>
                    <a:cubicBezTo>
                      <a:pt x="8471" y="2"/>
                      <a:pt x="8472" y="3"/>
                      <a:pt x="8472" y="4"/>
                    </a:cubicBezTo>
                    <a:cubicBezTo>
                      <a:pt x="8472" y="5"/>
                      <a:pt x="8471" y="6"/>
                      <a:pt x="8470" y="6"/>
                    </a:cubicBezTo>
                    <a:lnTo>
                      <a:pt x="8470" y="6"/>
                    </a:lnTo>
                    <a:cubicBezTo>
                      <a:pt x="8469" y="6"/>
                      <a:pt x="8468" y="5"/>
                      <a:pt x="8468" y="4"/>
                    </a:cubicBezTo>
                    <a:cubicBezTo>
                      <a:pt x="8468" y="3"/>
                      <a:pt x="8469" y="2"/>
                      <a:pt x="8470" y="2"/>
                    </a:cubicBezTo>
                    <a:close/>
                    <a:moveTo>
                      <a:pt x="8478" y="2"/>
                    </a:moveTo>
                    <a:lnTo>
                      <a:pt x="8478" y="2"/>
                    </a:lnTo>
                    <a:cubicBezTo>
                      <a:pt x="8479" y="2"/>
                      <a:pt x="8480" y="3"/>
                      <a:pt x="8480" y="4"/>
                    </a:cubicBezTo>
                    <a:cubicBezTo>
                      <a:pt x="8480" y="5"/>
                      <a:pt x="8479" y="6"/>
                      <a:pt x="8478" y="6"/>
                    </a:cubicBezTo>
                    <a:lnTo>
                      <a:pt x="8478" y="6"/>
                    </a:lnTo>
                    <a:cubicBezTo>
                      <a:pt x="8477" y="6"/>
                      <a:pt x="8476" y="5"/>
                      <a:pt x="8476" y="4"/>
                    </a:cubicBezTo>
                    <a:cubicBezTo>
                      <a:pt x="8476" y="3"/>
                      <a:pt x="8477" y="2"/>
                      <a:pt x="8478" y="2"/>
                    </a:cubicBezTo>
                    <a:close/>
                    <a:moveTo>
                      <a:pt x="8486" y="2"/>
                    </a:moveTo>
                    <a:lnTo>
                      <a:pt x="8486" y="2"/>
                    </a:lnTo>
                    <a:cubicBezTo>
                      <a:pt x="8487" y="2"/>
                      <a:pt x="8488" y="3"/>
                      <a:pt x="8488" y="4"/>
                    </a:cubicBezTo>
                    <a:cubicBezTo>
                      <a:pt x="8488" y="5"/>
                      <a:pt x="8487" y="6"/>
                      <a:pt x="8486" y="6"/>
                    </a:cubicBezTo>
                    <a:lnTo>
                      <a:pt x="8486" y="6"/>
                    </a:lnTo>
                    <a:cubicBezTo>
                      <a:pt x="8485" y="6"/>
                      <a:pt x="8484" y="5"/>
                      <a:pt x="8484" y="4"/>
                    </a:cubicBezTo>
                    <a:cubicBezTo>
                      <a:pt x="8484" y="3"/>
                      <a:pt x="8485" y="2"/>
                      <a:pt x="8486" y="2"/>
                    </a:cubicBezTo>
                    <a:close/>
                    <a:moveTo>
                      <a:pt x="8494" y="2"/>
                    </a:moveTo>
                    <a:lnTo>
                      <a:pt x="8494" y="2"/>
                    </a:lnTo>
                    <a:cubicBezTo>
                      <a:pt x="8495" y="2"/>
                      <a:pt x="8496" y="3"/>
                      <a:pt x="8496" y="4"/>
                    </a:cubicBezTo>
                    <a:cubicBezTo>
                      <a:pt x="8496" y="5"/>
                      <a:pt x="8495" y="6"/>
                      <a:pt x="8494" y="6"/>
                    </a:cubicBezTo>
                    <a:lnTo>
                      <a:pt x="8494" y="6"/>
                    </a:lnTo>
                    <a:cubicBezTo>
                      <a:pt x="8493" y="6"/>
                      <a:pt x="8492" y="5"/>
                      <a:pt x="8492" y="4"/>
                    </a:cubicBezTo>
                    <a:cubicBezTo>
                      <a:pt x="8492" y="3"/>
                      <a:pt x="8493" y="2"/>
                      <a:pt x="8494" y="2"/>
                    </a:cubicBezTo>
                    <a:close/>
                    <a:moveTo>
                      <a:pt x="8502" y="2"/>
                    </a:moveTo>
                    <a:lnTo>
                      <a:pt x="8502" y="2"/>
                    </a:lnTo>
                    <a:cubicBezTo>
                      <a:pt x="8503" y="2"/>
                      <a:pt x="8504" y="3"/>
                      <a:pt x="8504" y="4"/>
                    </a:cubicBezTo>
                    <a:cubicBezTo>
                      <a:pt x="8504" y="5"/>
                      <a:pt x="8503" y="6"/>
                      <a:pt x="8502" y="6"/>
                    </a:cubicBezTo>
                    <a:lnTo>
                      <a:pt x="8502" y="6"/>
                    </a:lnTo>
                    <a:cubicBezTo>
                      <a:pt x="8501" y="6"/>
                      <a:pt x="8500" y="5"/>
                      <a:pt x="8500" y="4"/>
                    </a:cubicBezTo>
                    <a:cubicBezTo>
                      <a:pt x="8500" y="3"/>
                      <a:pt x="8501" y="2"/>
                      <a:pt x="8502" y="2"/>
                    </a:cubicBezTo>
                    <a:close/>
                    <a:moveTo>
                      <a:pt x="8510" y="2"/>
                    </a:moveTo>
                    <a:lnTo>
                      <a:pt x="8510" y="2"/>
                    </a:lnTo>
                    <a:cubicBezTo>
                      <a:pt x="8511" y="2"/>
                      <a:pt x="8512" y="3"/>
                      <a:pt x="8512" y="4"/>
                    </a:cubicBezTo>
                    <a:cubicBezTo>
                      <a:pt x="8512" y="5"/>
                      <a:pt x="8511" y="6"/>
                      <a:pt x="8510" y="6"/>
                    </a:cubicBezTo>
                    <a:lnTo>
                      <a:pt x="8510" y="6"/>
                    </a:lnTo>
                    <a:cubicBezTo>
                      <a:pt x="8509" y="6"/>
                      <a:pt x="8508" y="5"/>
                      <a:pt x="8508" y="4"/>
                    </a:cubicBezTo>
                    <a:cubicBezTo>
                      <a:pt x="8508" y="3"/>
                      <a:pt x="8509" y="2"/>
                      <a:pt x="8510" y="2"/>
                    </a:cubicBezTo>
                    <a:close/>
                    <a:moveTo>
                      <a:pt x="8518" y="2"/>
                    </a:moveTo>
                    <a:lnTo>
                      <a:pt x="8518" y="2"/>
                    </a:lnTo>
                    <a:cubicBezTo>
                      <a:pt x="8519" y="2"/>
                      <a:pt x="8520" y="3"/>
                      <a:pt x="8520" y="4"/>
                    </a:cubicBezTo>
                    <a:cubicBezTo>
                      <a:pt x="8520" y="5"/>
                      <a:pt x="8519" y="6"/>
                      <a:pt x="8518" y="6"/>
                    </a:cubicBezTo>
                    <a:lnTo>
                      <a:pt x="8518" y="6"/>
                    </a:lnTo>
                    <a:cubicBezTo>
                      <a:pt x="8517" y="6"/>
                      <a:pt x="8516" y="5"/>
                      <a:pt x="8516" y="4"/>
                    </a:cubicBezTo>
                    <a:cubicBezTo>
                      <a:pt x="8516" y="3"/>
                      <a:pt x="8517" y="2"/>
                      <a:pt x="8518" y="2"/>
                    </a:cubicBezTo>
                    <a:close/>
                    <a:moveTo>
                      <a:pt x="8526" y="2"/>
                    </a:moveTo>
                    <a:lnTo>
                      <a:pt x="8526" y="2"/>
                    </a:lnTo>
                    <a:cubicBezTo>
                      <a:pt x="8527" y="2"/>
                      <a:pt x="8528" y="3"/>
                      <a:pt x="8528" y="4"/>
                    </a:cubicBezTo>
                    <a:cubicBezTo>
                      <a:pt x="8528" y="5"/>
                      <a:pt x="8527" y="6"/>
                      <a:pt x="8526" y="6"/>
                    </a:cubicBezTo>
                    <a:lnTo>
                      <a:pt x="8526" y="6"/>
                    </a:lnTo>
                    <a:cubicBezTo>
                      <a:pt x="8525" y="6"/>
                      <a:pt x="8524" y="5"/>
                      <a:pt x="8524" y="4"/>
                    </a:cubicBezTo>
                    <a:cubicBezTo>
                      <a:pt x="8524" y="3"/>
                      <a:pt x="8525" y="2"/>
                      <a:pt x="8526" y="2"/>
                    </a:cubicBezTo>
                    <a:close/>
                    <a:moveTo>
                      <a:pt x="8534" y="2"/>
                    </a:moveTo>
                    <a:lnTo>
                      <a:pt x="8534" y="2"/>
                    </a:lnTo>
                    <a:cubicBezTo>
                      <a:pt x="8535" y="2"/>
                      <a:pt x="8536" y="3"/>
                      <a:pt x="8536" y="4"/>
                    </a:cubicBezTo>
                    <a:cubicBezTo>
                      <a:pt x="8536" y="5"/>
                      <a:pt x="8535" y="6"/>
                      <a:pt x="8534" y="6"/>
                    </a:cubicBezTo>
                    <a:lnTo>
                      <a:pt x="8534" y="6"/>
                    </a:lnTo>
                    <a:cubicBezTo>
                      <a:pt x="8533" y="6"/>
                      <a:pt x="8532" y="5"/>
                      <a:pt x="8532" y="4"/>
                    </a:cubicBezTo>
                    <a:cubicBezTo>
                      <a:pt x="8532" y="3"/>
                      <a:pt x="8533" y="2"/>
                      <a:pt x="8534" y="2"/>
                    </a:cubicBezTo>
                    <a:close/>
                    <a:moveTo>
                      <a:pt x="8542" y="2"/>
                    </a:moveTo>
                    <a:lnTo>
                      <a:pt x="8542" y="2"/>
                    </a:lnTo>
                    <a:cubicBezTo>
                      <a:pt x="8543" y="2"/>
                      <a:pt x="8544" y="3"/>
                      <a:pt x="8544" y="4"/>
                    </a:cubicBezTo>
                    <a:cubicBezTo>
                      <a:pt x="8544" y="5"/>
                      <a:pt x="8543" y="6"/>
                      <a:pt x="8542" y="6"/>
                    </a:cubicBezTo>
                    <a:lnTo>
                      <a:pt x="8542" y="6"/>
                    </a:lnTo>
                    <a:cubicBezTo>
                      <a:pt x="8541" y="6"/>
                      <a:pt x="8540" y="5"/>
                      <a:pt x="8540" y="4"/>
                    </a:cubicBezTo>
                    <a:cubicBezTo>
                      <a:pt x="8540" y="3"/>
                      <a:pt x="8541" y="2"/>
                      <a:pt x="8542" y="2"/>
                    </a:cubicBezTo>
                    <a:close/>
                    <a:moveTo>
                      <a:pt x="8550" y="2"/>
                    </a:moveTo>
                    <a:lnTo>
                      <a:pt x="8550" y="2"/>
                    </a:lnTo>
                    <a:cubicBezTo>
                      <a:pt x="8551" y="2"/>
                      <a:pt x="8552" y="3"/>
                      <a:pt x="8552" y="4"/>
                    </a:cubicBezTo>
                    <a:cubicBezTo>
                      <a:pt x="8552" y="5"/>
                      <a:pt x="8551" y="6"/>
                      <a:pt x="8550" y="6"/>
                    </a:cubicBezTo>
                    <a:lnTo>
                      <a:pt x="8550" y="6"/>
                    </a:lnTo>
                    <a:cubicBezTo>
                      <a:pt x="8549" y="6"/>
                      <a:pt x="8548" y="5"/>
                      <a:pt x="8548" y="4"/>
                    </a:cubicBezTo>
                    <a:cubicBezTo>
                      <a:pt x="8548" y="3"/>
                      <a:pt x="8549" y="2"/>
                      <a:pt x="8550" y="2"/>
                    </a:cubicBezTo>
                    <a:close/>
                    <a:moveTo>
                      <a:pt x="8558" y="2"/>
                    </a:moveTo>
                    <a:lnTo>
                      <a:pt x="8558" y="2"/>
                    </a:lnTo>
                    <a:cubicBezTo>
                      <a:pt x="8559" y="2"/>
                      <a:pt x="8560" y="3"/>
                      <a:pt x="8560" y="4"/>
                    </a:cubicBezTo>
                    <a:cubicBezTo>
                      <a:pt x="8560" y="5"/>
                      <a:pt x="8559" y="6"/>
                      <a:pt x="8558" y="6"/>
                    </a:cubicBezTo>
                    <a:lnTo>
                      <a:pt x="8558" y="6"/>
                    </a:lnTo>
                    <a:cubicBezTo>
                      <a:pt x="8557" y="6"/>
                      <a:pt x="8556" y="5"/>
                      <a:pt x="8556" y="4"/>
                    </a:cubicBezTo>
                    <a:cubicBezTo>
                      <a:pt x="8556" y="3"/>
                      <a:pt x="8557" y="2"/>
                      <a:pt x="8558" y="2"/>
                    </a:cubicBezTo>
                    <a:close/>
                    <a:moveTo>
                      <a:pt x="8566" y="2"/>
                    </a:moveTo>
                    <a:lnTo>
                      <a:pt x="8566" y="2"/>
                    </a:lnTo>
                    <a:cubicBezTo>
                      <a:pt x="8567" y="2"/>
                      <a:pt x="8568" y="3"/>
                      <a:pt x="8568" y="4"/>
                    </a:cubicBezTo>
                    <a:cubicBezTo>
                      <a:pt x="8568" y="5"/>
                      <a:pt x="8567" y="6"/>
                      <a:pt x="8566" y="6"/>
                    </a:cubicBezTo>
                    <a:lnTo>
                      <a:pt x="8566" y="6"/>
                    </a:lnTo>
                    <a:cubicBezTo>
                      <a:pt x="8565" y="6"/>
                      <a:pt x="8564" y="5"/>
                      <a:pt x="8564" y="4"/>
                    </a:cubicBezTo>
                    <a:cubicBezTo>
                      <a:pt x="8564" y="3"/>
                      <a:pt x="8565" y="2"/>
                      <a:pt x="8566" y="2"/>
                    </a:cubicBezTo>
                    <a:close/>
                    <a:moveTo>
                      <a:pt x="8574" y="2"/>
                    </a:moveTo>
                    <a:lnTo>
                      <a:pt x="8574" y="2"/>
                    </a:lnTo>
                    <a:cubicBezTo>
                      <a:pt x="8575" y="2"/>
                      <a:pt x="8576" y="3"/>
                      <a:pt x="8576" y="4"/>
                    </a:cubicBezTo>
                    <a:cubicBezTo>
                      <a:pt x="8576" y="5"/>
                      <a:pt x="8575" y="6"/>
                      <a:pt x="8574" y="6"/>
                    </a:cubicBezTo>
                    <a:lnTo>
                      <a:pt x="8574" y="6"/>
                    </a:lnTo>
                    <a:cubicBezTo>
                      <a:pt x="8573" y="6"/>
                      <a:pt x="8572" y="5"/>
                      <a:pt x="8572" y="4"/>
                    </a:cubicBezTo>
                    <a:cubicBezTo>
                      <a:pt x="8572" y="3"/>
                      <a:pt x="8573" y="2"/>
                      <a:pt x="8574" y="2"/>
                    </a:cubicBezTo>
                    <a:close/>
                    <a:moveTo>
                      <a:pt x="8582" y="2"/>
                    </a:moveTo>
                    <a:lnTo>
                      <a:pt x="8582" y="2"/>
                    </a:lnTo>
                    <a:cubicBezTo>
                      <a:pt x="8583" y="2"/>
                      <a:pt x="8584" y="3"/>
                      <a:pt x="8584" y="4"/>
                    </a:cubicBezTo>
                    <a:cubicBezTo>
                      <a:pt x="8584" y="5"/>
                      <a:pt x="8583" y="6"/>
                      <a:pt x="8582" y="6"/>
                    </a:cubicBezTo>
                    <a:lnTo>
                      <a:pt x="8582" y="6"/>
                    </a:lnTo>
                    <a:cubicBezTo>
                      <a:pt x="8581" y="6"/>
                      <a:pt x="8580" y="5"/>
                      <a:pt x="8580" y="4"/>
                    </a:cubicBezTo>
                    <a:cubicBezTo>
                      <a:pt x="8580" y="3"/>
                      <a:pt x="8581" y="2"/>
                      <a:pt x="8582" y="2"/>
                    </a:cubicBezTo>
                    <a:close/>
                    <a:moveTo>
                      <a:pt x="8590" y="2"/>
                    </a:moveTo>
                    <a:lnTo>
                      <a:pt x="8590" y="2"/>
                    </a:lnTo>
                    <a:cubicBezTo>
                      <a:pt x="8591" y="2"/>
                      <a:pt x="8592" y="3"/>
                      <a:pt x="8592" y="4"/>
                    </a:cubicBezTo>
                    <a:cubicBezTo>
                      <a:pt x="8592" y="5"/>
                      <a:pt x="8591" y="6"/>
                      <a:pt x="8590" y="6"/>
                    </a:cubicBezTo>
                    <a:lnTo>
                      <a:pt x="8590" y="6"/>
                    </a:lnTo>
                    <a:cubicBezTo>
                      <a:pt x="8589" y="6"/>
                      <a:pt x="8588" y="5"/>
                      <a:pt x="8588" y="4"/>
                    </a:cubicBezTo>
                    <a:cubicBezTo>
                      <a:pt x="8588" y="3"/>
                      <a:pt x="8589" y="2"/>
                      <a:pt x="8590" y="2"/>
                    </a:cubicBezTo>
                    <a:close/>
                    <a:moveTo>
                      <a:pt x="8598" y="2"/>
                    </a:moveTo>
                    <a:lnTo>
                      <a:pt x="8598" y="2"/>
                    </a:lnTo>
                    <a:cubicBezTo>
                      <a:pt x="8599" y="2"/>
                      <a:pt x="8600" y="3"/>
                      <a:pt x="8600" y="4"/>
                    </a:cubicBezTo>
                    <a:cubicBezTo>
                      <a:pt x="8600" y="5"/>
                      <a:pt x="8599" y="6"/>
                      <a:pt x="8598" y="6"/>
                    </a:cubicBezTo>
                    <a:lnTo>
                      <a:pt x="8598" y="6"/>
                    </a:lnTo>
                    <a:cubicBezTo>
                      <a:pt x="8597" y="6"/>
                      <a:pt x="8596" y="5"/>
                      <a:pt x="8596" y="4"/>
                    </a:cubicBezTo>
                    <a:cubicBezTo>
                      <a:pt x="8596" y="3"/>
                      <a:pt x="8597" y="2"/>
                      <a:pt x="8598" y="2"/>
                    </a:cubicBezTo>
                    <a:close/>
                    <a:moveTo>
                      <a:pt x="8606" y="2"/>
                    </a:moveTo>
                    <a:lnTo>
                      <a:pt x="8606" y="2"/>
                    </a:lnTo>
                    <a:cubicBezTo>
                      <a:pt x="8607" y="2"/>
                      <a:pt x="8608" y="3"/>
                      <a:pt x="8608" y="4"/>
                    </a:cubicBezTo>
                    <a:cubicBezTo>
                      <a:pt x="8608" y="5"/>
                      <a:pt x="8607" y="6"/>
                      <a:pt x="8606" y="6"/>
                    </a:cubicBezTo>
                    <a:lnTo>
                      <a:pt x="8606" y="6"/>
                    </a:lnTo>
                    <a:cubicBezTo>
                      <a:pt x="8605" y="6"/>
                      <a:pt x="8604" y="5"/>
                      <a:pt x="8604" y="4"/>
                    </a:cubicBezTo>
                    <a:cubicBezTo>
                      <a:pt x="8604" y="3"/>
                      <a:pt x="8605" y="2"/>
                      <a:pt x="8606" y="2"/>
                    </a:cubicBezTo>
                    <a:close/>
                    <a:moveTo>
                      <a:pt x="8614" y="2"/>
                    </a:moveTo>
                    <a:lnTo>
                      <a:pt x="8614" y="2"/>
                    </a:lnTo>
                    <a:cubicBezTo>
                      <a:pt x="8615" y="2"/>
                      <a:pt x="8616" y="3"/>
                      <a:pt x="8616" y="4"/>
                    </a:cubicBezTo>
                    <a:cubicBezTo>
                      <a:pt x="8616" y="5"/>
                      <a:pt x="8615" y="6"/>
                      <a:pt x="8614" y="6"/>
                    </a:cubicBezTo>
                    <a:lnTo>
                      <a:pt x="8614" y="6"/>
                    </a:lnTo>
                    <a:cubicBezTo>
                      <a:pt x="8613" y="6"/>
                      <a:pt x="8612" y="5"/>
                      <a:pt x="8612" y="4"/>
                    </a:cubicBezTo>
                    <a:cubicBezTo>
                      <a:pt x="8612" y="3"/>
                      <a:pt x="8613" y="2"/>
                      <a:pt x="8614" y="2"/>
                    </a:cubicBezTo>
                    <a:close/>
                    <a:moveTo>
                      <a:pt x="8622" y="2"/>
                    </a:moveTo>
                    <a:lnTo>
                      <a:pt x="8622" y="2"/>
                    </a:lnTo>
                    <a:cubicBezTo>
                      <a:pt x="8623" y="2"/>
                      <a:pt x="8624" y="3"/>
                      <a:pt x="8624" y="4"/>
                    </a:cubicBezTo>
                    <a:cubicBezTo>
                      <a:pt x="8624" y="5"/>
                      <a:pt x="8623" y="6"/>
                      <a:pt x="8622" y="6"/>
                    </a:cubicBezTo>
                    <a:lnTo>
                      <a:pt x="8622" y="6"/>
                    </a:lnTo>
                    <a:cubicBezTo>
                      <a:pt x="8621" y="6"/>
                      <a:pt x="8620" y="5"/>
                      <a:pt x="8620" y="4"/>
                    </a:cubicBezTo>
                    <a:cubicBezTo>
                      <a:pt x="8620" y="3"/>
                      <a:pt x="8621" y="2"/>
                      <a:pt x="8622" y="2"/>
                    </a:cubicBezTo>
                    <a:close/>
                    <a:moveTo>
                      <a:pt x="8630" y="2"/>
                    </a:moveTo>
                    <a:lnTo>
                      <a:pt x="8630" y="2"/>
                    </a:lnTo>
                    <a:cubicBezTo>
                      <a:pt x="8631" y="2"/>
                      <a:pt x="8632" y="3"/>
                      <a:pt x="8632" y="4"/>
                    </a:cubicBezTo>
                    <a:cubicBezTo>
                      <a:pt x="8632" y="5"/>
                      <a:pt x="8631" y="6"/>
                      <a:pt x="8630" y="6"/>
                    </a:cubicBezTo>
                    <a:lnTo>
                      <a:pt x="8630" y="6"/>
                    </a:lnTo>
                    <a:cubicBezTo>
                      <a:pt x="8629" y="6"/>
                      <a:pt x="8628" y="5"/>
                      <a:pt x="8628" y="4"/>
                    </a:cubicBezTo>
                    <a:cubicBezTo>
                      <a:pt x="8628" y="3"/>
                      <a:pt x="8629" y="2"/>
                      <a:pt x="8630" y="2"/>
                    </a:cubicBezTo>
                    <a:close/>
                    <a:moveTo>
                      <a:pt x="8638" y="2"/>
                    </a:moveTo>
                    <a:lnTo>
                      <a:pt x="8638" y="2"/>
                    </a:lnTo>
                    <a:cubicBezTo>
                      <a:pt x="8639" y="2"/>
                      <a:pt x="8640" y="3"/>
                      <a:pt x="8640" y="4"/>
                    </a:cubicBezTo>
                    <a:cubicBezTo>
                      <a:pt x="8640" y="5"/>
                      <a:pt x="8639" y="6"/>
                      <a:pt x="8638" y="6"/>
                    </a:cubicBezTo>
                    <a:lnTo>
                      <a:pt x="8638" y="6"/>
                    </a:lnTo>
                    <a:cubicBezTo>
                      <a:pt x="8637" y="6"/>
                      <a:pt x="8636" y="5"/>
                      <a:pt x="8636" y="4"/>
                    </a:cubicBezTo>
                    <a:cubicBezTo>
                      <a:pt x="8636" y="3"/>
                      <a:pt x="8637" y="2"/>
                      <a:pt x="8638" y="2"/>
                    </a:cubicBezTo>
                    <a:close/>
                    <a:moveTo>
                      <a:pt x="8646" y="2"/>
                    </a:moveTo>
                    <a:lnTo>
                      <a:pt x="8646" y="2"/>
                    </a:lnTo>
                    <a:cubicBezTo>
                      <a:pt x="8647" y="2"/>
                      <a:pt x="8648" y="3"/>
                      <a:pt x="8648" y="4"/>
                    </a:cubicBezTo>
                    <a:cubicBezTo>
                      <a:pt x="8648" y="5"/>
                      <a:pt x="8647" y="6"/>
                      <a:pt x="8646" y="6"/>
                    </a:cubicBezTo>
                    <a:lnTo>
                      <a:pt x="8646" y="6"/>
                    </a:lnTo>
                    <a:cubicBezTo>
                      <a:pt x="8645" y="6"/>
                      <a:pt x="8644" y="5"/>
                      <a:pt x="8644" y="4"/>
                    </a:cubicBezTo>
                    <a:cubicBezTo>
                      <a:pt x="8644" y="3"/>
                      <a:pt x="8645" y="2"/>
                      <a:pt x="8646" y="2"/>
                    </a:cubicBezTo>
                    <a:close/>
                    <a:moveTo>
                      <a:pt x="8654" y="2"/>
                    </a:moveTo>
                    <a:lnTo>
                      <a:pt x="8654" y="2"/>
                    </a:lnTo>
                    <a:cubicBezTo>
                      <a:pt x="8655" y="2"/>
                      <a:pt x="8656" y="3"/>
                      <a:pt x="8656" y="4"/>
                    </a:cubicBezTo>
                    <a:cubicBezTo>
                      <a:pt x="8656" y="5"/>
                      <a:pt x="8655" y="6"/>
                      <a:pt x="8654" y="6"/>
                    </a:cubicBezTo>
                    <a:lnTo>
                      <a:pt x="8654" y="6"/>
                    </a:lnTo>
                    <a:cubicBezTo>
                      <a:pt x="8653" y="6"/>
                      <a:pt x="8652" y="5"/>
                      <a:pt x="8652" y="4"/>
                    </a:cubicBezTo>
                    <a:cubicBezTo>
                      <a:pt x="8652" y="3"/>
                      <a:pt x="8653" y="2"/>
                      <a:pt x="8654" y="2"/>
                    </a:cubicBezTo>
                    <a:close/>
                    <a:moveTo>
                      <a:pt x="8662" y="2"/>
                    </a:moveTo>
                    <a:lnTo>
                      <a:pt x="8662" y="2"/>
                    </a:lnTo>
                    <a:cubicBezTo>
                      <a:pt x="8663" y="2"/>
                      <a:pt x="8664" y="3"/>
                      <a:pt x="8664" y="4"/>
                    </a:cubicBezTo>
                    <a:cubicBezTo>
                      <a:pt x="8664" y="5"/>
                      <a:pt x="8663" y="6"/>
                      <a:pt x="8662" y="6"/>
                    </a:cubicBezTo>
                    <a:lnTo>
                      <a:pt x="8662" y="6"/>
                    </a:lnTo>
                    <a:cubicBezTo>
                      <a:pt x="8661" y="6"/>
                      <a:pt x="8660" y="5"/>
                      <a:pt x="8660" y="4"/>
                    </a:cubicBezTo>
                    <a:cubicBezTo>
                      <a:pt x="8660" y="3"/>
                      <a:pt x="8661" y="2"/>
                      <a:pt x="8662" y="2"/>
                    </a:cubicBezTo>
                    <a:close/>
                    <a:moveTo>
                      <a:pt x="8670" y="2"/>
                    </a:moveTo>
                    <a:lnTo>
                      <a:pt x="8670" y="2"/>
                    </a:lnTo>
                    <a:cubicBezTo>
                      <a:pt x="8671" y="2"/>
                      <a:pt x="8672" y="3"/>
                      <a:pt x="8672" y="4"/>
                    </a:cubicBezTo>
                    <a:cubicBezTo>
                      <a:pt x="8672" y="5"/>
                      <a:pt x="8671" y="6"/>
                      <a:pt x="8670" y="6"/>
                    </a:cubicBezTo>
                    <a:lnTo>
                      <a:pt x="8670" y="6"/>
                    </a:lnTo>
                    <a:cubicBezTo>
                      <a:pt x="8669" y="6"/>
                      <a:pt x="8668" y="5"/>
                      <a:pt x="8668" y="4"/>
                    </a:cubicBezTo>
                    <a:cubicBezTo>
                      <a:pt x="8668" y="3"/>
                      <a:pt x="8669" y="2"/>
                      <a:pt x="8670" y="2"/>
                    </a:cubicBezTo>
                    <a:close/>
                    <a:moveTo>
                      <a:pt x="8678" y="2"/>
                    </a:moveTo>
                    <a:lnTo>
                      <a:pt x="8678" y="2"/>
                    </a:lnTo>
                    <a:cubicBezTo>
                      <a:pt x="8679" y="2"/>
                      <a:pt x="8680" y="3"/>
                      <a:pt x="8680" y="4"/>
                    </a:cubicBezTo>
                    <a:cubicBezTo>
                      <a:pt x="8680" y="5"/>
                      <a:pt x="8679" y="6"/>
                      <a:pt x="8678" y="6"/>
                    </a:cubicBezTo>
                    <a:lnTo>
                      <a:pt x="8678" y="6"/>
                    </a:lnTo>
                    <a:cubicBezTo>
                      <a:pt x="8677" y="6"/>
                      <a:pt x="8676" y="5"/>
                      <a:pt x="8676" y="4"/>
                    </a:cubicBezTo>
                    <a:cubicBezTo>
                      <a:pt x="8676" y="3"/>
                      <a:pt x="8677" y="2"/>
                      <a:pt x="8678" y="2"/>
                    </a:cubicBezTo>
                    <a:close/>
                    <a:moveTo>
                      <a:pt x="8686" y="2"/>
                    </a:moveTo>
                    <a:lnTo>
                      <a:pt x="8686" y="2"/>
                    </a:lnTo>
                    <a:cubicBezTo>
                      <a:pt x="8687" y="2"/>
                      <a:pt x="8688" y="3"/>
                      <a:pt x="8688" y="4"/>
                    </a:cubicBezTo>
                    <a:cubicBezTo>
                      <a:pt x="8688" y="5"/>
                      <a:pt x="8687" y="6"/>
                      <a:pt x="8686" y="6"/>
                    </a:cubicBezTo>
                    <a:lnTo>
                      <a:pt x="8686" y="6"/>
                    </a:lnTo>
                    <a:cubicBezTo>
                      <a:pt x="8685" y="6"/>
                      <a:pt x="8684" y="5"/>
                      <a:pt x="8684" y="4"/>
                    </a:cubicBezTo>
                    <a:cubicBezTo>
                      <a:pt x="8684" y="3"/>
                      <a:pt x="8685" y="2"/>
                      <a:pt x="8686" y="2"/>
                    </a:cubicBezTo>
                    <a:close/>
                    <a:moveTo>
                      <a:pt x="8694" y="2"/>
                    </a:moveTo>
                    <a:lnTo>
                      <a:pt x="8694" y="2"/>
                    </a:lnTo>
                    <a:cubicBezTo>
                      <a:pt x="8695" y="2"/>
                      <a:pt x="8696" y="3"/>
                      <a:pt x="8696" y="4"/>
                    </a:cubicBezTo>
                    <a:cubicBezTo>
                      <a:pt x="8696" y="5"/>
                      <a:pt x="8695" y="6"/>
                      <a:pt x="8694" y="6"/>
                    </a:cubicBezTo>
                    <a:lnTo>
                      <a:pt x="8694" y="6"/>
                    </a:lnTo>
                    <a:cubicBezTo>
                      <a:pt x="8693" y="6"/>
                      <a:pt x="8692" y="5"/>
                      <a:pt x="8692" y="4"/>
                    </a:cubicBezTo>
                    <a:cubicBezTo>
                      <a:pt x="8692" y="3"/>
                      <a:pt x="8693" y="2"/>
                      <a:pt x="8694" y="2"/>
                    </a:cubicBezTo>
                    <a:close/>
                    <a:moveTo>
                      <a:pt x="8702" y="2"/>
                    </a:moveTo>
                    <a:lnTo>
                      <a:pt x="8702" y="2"/>
                    </a:lnTo>
                    <a:cubicBezTo>
                      <a:pt x="8703" y="2"/>
                      <a:pt x="8704" y="3"/>
                      <a:pt x="8704" y="4"/>
                    </a:cubicBezTo>
                    <a:cubicBezTo>
                      <a:pt x="8704" y="5"/>
                      <a:pt x="8703" y="6"/>
                      <a:pt x="8702" y="6"/>
                    </a:cubicBezTo>
                    <a:lnTo>
                      <a:pt x="8702" y="6"/>
                    </a:lnTo>
                    <a:cubicBezTo>
                      <a:pt x="8701" y="6"/>
                      <a:pt x="8700" y="5"/>
                      <a:pt x="8700" y="4"/>
                    </a:cubicBezTo>
                    <a:cubicBezTo>
                      <a:pt x="8700" y="3"/>
                      <a:pt x="8701" y="2"/>
                      <a:pt x="8702" y="2"/>
                    </a:cubicBezTo>
                    <a:close/>
                    <a:moveTo>
                      <a:pt x="8710" y="2"/>
                    </a:moveTo>
                    <a:lnTo>
                      <a:pt x="8710" y="2"/>
                    </a:lnTo>
                    <a:cubicBezTo>
                      <a:pt x="8711" y="2"/>
                      <a:pt x="8712" y="3"/>
                      <a:pt x="8712" y="4"/>
                    </a:cubicBezTo>
                    <a:cubicBezTo>
                      <a:pt x="8712" y="5"/>
                      <a:pt x="8711" y="6"/>
                      <a:pt x="8710" y="6"/>
                    </a:cubicBezTo>
                    <a:lnTo>
                      <a:pt x="8710" y="6"/>
                    </a:lnTo>
                    <a:cubicBezTo>
                      <a:pt x="8709" y="6"/>
                      <a:pt x="8708" y="5"/>
                      <a:pt x="8708" y="4"/>
                    </a:cubicBezTo>
                    <a:cubicBezTo>
                      <a:pt x="8708" y="3"/>
                      <a:pt x="8709" y="2"/>
                      <a:pt x="8710" y="2"/>
                    </a:cubicBezTo>
                    <a:close/>
                    <a:moveTo>
                      <a:pt x="8718" y="2"/>
                    </a:moveTo>
                    <a:lnTo>
                      <a:pt x="8718" y="2"/>
                    </a:lnTo>
                    <a:cubicBezTo>
                      <a:pt x="8719" y="2"/>
                      <a:pt x="8720" y="3"/>
                      <a:pt x="8720" y="4"/>
                    </a:cubicBezTo>
                    <a:cubicBezTo>
                      <a:pt x="8720" y="5"/>
                      <a:pt x="8719" y="6"/>
                      <a:pt x="8718" y="6"/>
                    </a:cubicBezTo>
                    <a:lnTo>
                      <a:pt x="8718" y="6"/>
                    </a:lnTo>
                    <a:cubicBezTo>
                      <a:pt x="8717" y="6"/>
                      <a:pt x="8716" y="5"/>
                      <a:pt x="8716" y="4"/>
                    </a:cubicBezTo>
                    <a:cubicBezTo>
                      <a:pt x="8716" y="3"/>
                      <a:pt x="8717" y="2"/>
                      <a:pt x="8718" y="2"/>
                    </a:cubicBezTo>
                    <a:close/>
                    <a:moveTo>
                      <a:pt x="8726" y="2"/>
                    </a:moveTo>
                    <a:lnTo>
                      <a:pt x="8726" y="2"/>
                    </a:lnTo>
                    <a:cubicBezTo>
                      <a:pt x="8727" y="2"/>
                      <a:pt x="8728" y="3"/>
                      <a:pt x="8728" y="4"/>
                    </a:cubicBezTo>
                    <a:cubicBezTo>
                      <a:pt x="8728" y="5"/>
                      <a:pt x="8727" y="6"/>
                      <a:pt x="8726" y="6"/>
                    </a:cubicBezTo>
                    <a:lnTo>
                      <a:pt x="8726" y="6"/>
                    </a:lnTo>
                    <a:cubicBezTo>
                      <a:pt x="8725" y="6"/>
                      <a:pt x="8724" y="5"/>
                      <a:pt x="8724" y="4"/>
                    </a:cubicBezTo>
                    <a:cubicBezTo>
                      <a:pt x="8724" y="3"/>
                      <a:pt x="8725" y="2"/>
                      <a:pt x="8726" y="2"/>
                    </a:cubicBezTo>
                    <a:close/>
                    <a:moveTo>
                      <a:pt x="8734" y="2"/>
                    </a:moveTo>
                    <a:lnTo>
                      <a:pt x="8734" y="2"/>
                    </a:lnTo>
                    <a:cubicBezTo>
                      <a:pt x="8735" y="2"/>
                      <a:pt x="8736" y="3"/>
                      <a:pt x="8736" y="4"/>
                    </a:cubicBezTo>
                    <a:cubicBezTo>
                      <a:pt x="8736" y="5"/>
                      <a:pt x="8735" y="6"/>
                      <a:pt x="8734" y="6"/>
                    </a:cubicBezTo>
                    <a:lnTo>
                      <a:pt x="8734" y="6"/>
                    </a:lnTo>
                    <a:cubicBezTo>
                      <a:pt x="8733" y="6"/>
                      <a:pt x="8732" y="5"/>
                      <a:pt x="8732" y="4"/>
                    </a:cubicBezTo>
                    <a:cubicBezTo>
                      <a:pt x="8732" y="3"/>
                      <a:pt x="8733" y="2"/>
                      <a:pt x="8734" y="2"/>
                    </a:cubicBezTo>
                    <a:close/>
                    <a:moveTo>
                      <a:pt x="8742" y="2"/>
                    </a:moveTo>
                    <a:lnTo>
                      <a:pt x="8742" y="2"/>
                    </a:lnTo>
                    <a:cubicBezTo>
                      <a:pt x="8743" y="2"/>
                      <a:pt x="8744" y="3"/>
                      <a:pt x="8744" y="4"/>
                    </a:cubicBezTo>
                    <a:cubicBezTo>
                      <a:pt x="8744" y="5"/>
                      <a:pt x="8743" y="6"/>
                      <a:pt x="8742" y="6"/>
                    </a:cubicBezTo>
                    <a:lnTo>
                      <a:pt x="8742" y="6"/>
                    </a:lnTo>
                    <a:cubicBezTo>
                      <a:pt x="8741" y="6"/>
                      <a:pt x="8740" y="5"/>
                      <a:pt x="8740" y="4"/>
                    </a:cubicBezTo>
                    <a:cubicBezTo>
                      <a:pt x="8740" y="3"/>
                      <a:pt x="8741" y="2"/>
                      <a:pt x="8742" y="2"/>
                    </a:cubicBezTo>
                    <a:close/>
                    <a:moveTo>
                      <a:pt x="8750" y="2"/>
                    </a:moveTo>
                    <a:lnTo>
                      <a:pt x="8750" y="2"/>
                    </a:lnTo>
                    <a:cubicBezTo>
                      <a:pt x="8751" y="2"/>
                      <a:pt x="8752" y="3"/>
                      <a:pt x="8752" y="4"/>
                    </a:cubicBezTo>
                    <a:cubicBezTo>
                      <a:pt x="8752" y="5"/>
                      <a:pt x="8751" y="6"/>
                      <a:pt x="8750" y="6"/>
                    </a:cubicBezTo>
                    <a:lnTo>
                      <a:pt x="8750" y="6"/>
                    </a:lnTo>
                    <a:cubicBezTo>
                      <a:pt x="8749" y="6"/>
                      <a:pt x="8748" y="5"/>
                      <a:pt x="8748" y="4"/>
                    </a:cubicBezTo>
                    <a:cubicBezTo>
                      <a:pt x="8748" y="3"/>
                      <a:pt x="8749" y="2"/>
                      <a:pt x="8750" y="2"/>
                    </a:cubicBezTo>
                    <a:close/>
                    <a:moveTo>
                      <a:pt x="8758" y="2"/>
                    </a:moveTo>
                    <a:lnTo>
                      <a:pt x="8758" y="2"/>
                    </a:lnTo>
                    <a:cubicBezTo>
                      <a:pt x="8759" y="2"/>
                      <a:pt x="8760" y="3"/>
                      <a:pt x="8760" y="4"/>
                    </a:cubicBezTo>
                    <a:cubicBezTo>
                      <a:pt x="8760" y="5"/>
                      <a:pt x="8759" y="6"/>
                      <a:pt x="8758" y="6"/>
                    </a:cubicBezTo>
                    <a:lnTo>
                      <a:pt x="8758" y="6"/>
                    </a:lnTo>
                    <a:cubicBezTo>
                      <a:pt x="8757" y="6"/>
                      <a:pt x="8756" y="5"/>
                      <a:pt x="8756" y="4"/>
                    </a:cubicBezTo>
                    <a:cubicBezTo>
                      <a:pt x="8756" y="3"/>
                      <a:pt x="8757" y="2"/>
                      <a:pt x="8758" y="2"/>
                    </a:cubicBezTo>
                    <a:close/>
                    <a:moveTo>
                      <a:pt x="8766" y="2"/>
                    </a:moveTo>
                    <a:lnTo>
                      <a:pt x="8766" y="2"/>
                    </a:lnTo>
                    <a:cubicBezTo>
                      <a:pt x="8767" y="2"/>
                      <a:pt x="8768" y="3"/>
                      <a:pt x="8768" y="4"/>
                    </a:cubicBezTo>
                    <a:cubicBezTo>
                      <a:pt x="8768" y="5"/>
                      <a:pt x="8767" y="6"/>
                      <a:pt x="8766" y="6"/>
                    </a:cubicBezTo>
                    <a:lnTo>
                      <a:pt x="8766" y="6"/>
                    </a:lnTo>
                    <a:cubicBezTo>
                      <a:pt x="8765" y="6"/>
                      <a:pt x="8764" y="5"/>
                      <a:pt x="8764" y="4"/>
                    </a:cubicBezTo>
                    <a:cubicBezTo>
                      <a:pt x="8764" y="3"/>
                      <a:pt x="8765" y="2"/>
                      <a:pt x="8766" y="2"/>
                    </a:cubicBezTo>
                    <a:close/>
                    <a:moveTo>
                      <a:pt x="8774" y="2"/>
                    </a:moveTo>
                    <a:lnTo>
                      <a:pt x="8774" y="2"/>
                    </a:lnTo>
                    <a:cubicBezTo>
                      <a:pt x="8775" y="2"/>
                      <a:pt x="8776" y="3"/>
                      <a:pt x="8776" y="4"/>
                    </a:cubicBezTo>
                    <a:cubicBezTo>
                      <a:pt x="8776" y="5"/>
                      <a:pt x="8775" y="6"/>
                      <a:pt x="8774" y="6"/>
                    </a:cubicBezTo>
                    <a:lnTo>
                      <a:pt x="8774" y="6"/>
                    </a:lnTo>
                    <a:cubicBezTo>
                      <a:pt x="8773" y="6"/>
                      <a:pt x="8772" y="5"/>
                      <a:pt x="8772" y="4"/>
                    </a:cubicBezTo>
                    <a:cubicBezTo>
                      <a:pt x="8772" y="3"/>
                      <a:pt x="8773" y="2"/>
                      <a:pt x="8774" y="2"/>
                    </a:cubicBezTo>
                    <a:close/>
                    <a:moveTo>
                      <a:pt x="8782" y="2"/>
                    </a:moveTo>
                    <a:lnTo>
                      <a:pt x="8782" y="2"/>
                    </a:lnTo>
                    <a:cubicBezTo>
                      <a:pt x="8783" y="2"/>
                      <a:pt x="8784" y="3"/>
                      <a:pt x="8784" y="4"/>
                    </a:cubicBezTo>
                    <a:cubicBezTo>
                      <a:pt x="8784" y="5"/>
                      <a:pt x="8783" y="6"/>
                      <a:pt x="8782" y="6"/>
                    </a:cubicBezTo>
                    <a:lnTo>
                      <a:pt x="8782" y="6"/>
                    </a:lnTo>
                    <a:cubicBezTo>
                      <a:pt x="8781" y="6"/>
                      <a:pt x="8780" y="5"/>
                      <a:pt x="8780" y="4"/>
                    </a:cubicBezTo>
                    <a:cubicBezTo>
                      <a:pt x="8780" y="3"/>
                      <a:pt x="8781" y="2"/>
                      <a:pt x="8782" y="2"/>
                    </a:cubicBezTo>
                    <a:close/>
                    <a:moveTo>
                      <a:pt x="8790" y="2"/>
                    </a:moveTo>
                    <a:lnTo>
                      <a:pt x="8790" y="2"/>
                    </a:lnTo>
                    <a:cubicBezTo>
                      <a:pt x="8791" y="2"/>
                      <a:pt x="8792" y="3"/>
                      <a:pt x="8792" y="4"/>
                    </a:cubicBezTo>
                    <a:cubicBezTo>
                      <a:pt x="8792" y="5"/>
                      <a:pt x="8791" y="6"/>
                      <a:pt x="8790" y="6"/>
                    </a:cubicBezTo>
                    <a:lnTo>
                      <a:pt x="8790" y="6"/>
                    </a:lnTo>
                    <a:cubicBezTo>
                      <a:pt x="8789" y="6"/>
                      <a:pt x="8788" y="5"/>
                      <a:pt x="8788" y="4"/>
                    </a:cubicBezTo>
                    <a:cubicBezTo>
                      <a:pt x="8788" y="3"/>
                      <a:pt x="8789" y="2"/>
                      <a:pt x="8790" y="2"/>
                    </a:cubicBezTo>
                    <a:close/>
                    <a:moveTo>
                      <a:pt x="8798" y="2"/>
                    </a:moveTo>
                    <a:lnTo>
                      <a:pt x="8798" y="2"/>
                    </a:lnTo>
                    <a:cubicBezTo>
                      <a:pt x="8799" y="2"/>
                      <a:pt x="8800" y="3"/>
                      <a:pt x="8800" y="4"/>
                    </a:cubicBezTo>
                    <a:cubicBezTo>
                      <a:pt x="8800" y="5"/>
                      <a:pt x="8799" y="6"/>
                      <a:pt x="8798" y="6"/>
                    </a:cubicBezTo>
                    <a:lnTo>
                      <a:pt x="8798" y="6"/>
                    </a:lnTo>
                    <a:cubicBezTo>
                      <a:pt x="8797" y="6"/>
                      <a:pt x="8796" y="5"/>
                      <a:pt x="8796" y="4"/>
                    </a:cubicBezTo>
                    <a:cubicBezTo>
                      <a:pt x="8796" y="3"/>
                      <a:pt x="8797" y="2"/>
                      <a:pt x="8798" y="2"/>
                    </a:cubicBezTo>
                    <a:close/>
                    <a:moveTo>
                      <a:pt x="8806" y="2"/>
                    </a:moveTo>
                    <a:lnTo>
                      <a:pt x="8806" y="2"/>
                    </a:lnTo>
                    <a:cubicBezTo>
                      <a:pt x="8807" y="2"/>
                      <a:pt x="8808" y="3"/>
                      <a:pt x="8808" y="4"/>
                    </a:cubicBezTo>
                    <a:cubicBezTo>
                      <a:pt x="8808" y="5"/>
                      <a:pt x="8807" y="6"/>
                      <a:pt x="8806" y="6"/>
                    </a:cubicBezTo>
                    <a:lnTo>
                      <a:pt x="8806" y="6"/>
                    </a:lnTo>
                    <a:cubicBezTo>
                      <a:pt x="8805" y="6"/>
                      <a:pt x="8804" y="5"/>
                      <a:pt x="8804" y="4"/>
                    </a:cubicBezTo>
                    <a:cubicBezTo>
                      <a:pt x="8804" y="3"/>
                      <a:pt x="8805" y="2"/>
                      <a:pt x="8806" y="2"/>
                    </a:cubicBezTo>
                    <a:close/>
                    <a:moveTo>
                      <a:pt x="8814" y="2"/>
                    </a:moveTo>
                    <a:lnTo>
                      <a:pt x="8814" y="2"/>
                    </a:lnTo>
                    <a:cubicBezTo>
                      <a:pt x="8815" y="2"/>
                      <a:pt x="8816" y="3"/>
                      <a:pt x="8816" y="4"/>
                    </a:cubicBezTo>
                    <a:cubicBezTo>
                      <a:pt x="8816" y="5"/>
                      <a:pt x="8815" y="6"/>
                      <a:pt x="8814" y="6"/>
                    </a:cubicBezTo>
                    <a:lnTo>
                      <a:pt x="8814" y="6"/>
                    </a:lnTo>
                    <a:cubicBezTo>
                      <a:pt x="8813" y="6"/>
                      <a:pt x="8812" y="5"/>
                      <a:pt x="8812" y="4"/>
                    </a:cubicBezTo>
                    <a:cubicBezTo>
                      <a:pt x="8812" y="3"/>
                      <a:pt x="8813" y="2"/>
                      <a:pt x="8814" y="2"/>
                    </a:cubicBezTo>
                    <a:close/>
                    <a:moveTo>
                      <a:pt x="8822" y="2"/>
                    </a:moveTo>
                    <a:lnTo>
                      <a:pt x="8822" y="2"/>
                    </a:lnTo>
                    <a:cubicBezTo>
                      <a:pt x="8823" y="2"/>
                      <a:pt x="8824" y="3"/>
                      <a:pt x="8824" y="4"/>
                    </a:cubicBezTo>
                    <a:cubicBezTo>
                      <a:pt x="8824" y="5"/>
                      <a:pt x="8823" y="6"/>
                      <a:pt x="8822" y="6"/>
                    </a:cubicBezTo>
                    <a:lnTo>
                      <a:pt x="8822" y="6"/>
                    </a:lnTo>
                    <a:cubicBezTo>
                      <a:pt x="8821" y="6"/>
                      <a:pt x="8820" y="5"/>
                      <a:pt x="8820" y="4"/>
                    </a:cubicBezTo>
                    <a:cubicBezTo>
                      <a:pt x="8820" y="3"/>
                      <a:pt x="8821" y="2"/>
                      <a:pt x="8822" y="2"/>
                    </a:cubicBezTo>
                    <a:close/>
                    <a:moveTo>
                      <a:pt x="8830" y="2"/>
                    </a:moveTo>
                    <a:lnTo>
                      <a:pt x="8830" y="2"/>
                    </a:lnTo>
                    <a:cubicBezTo>
                      <a:pt x="8831" y="2"/>
                      <a:pt x="8832" y="3"/>
                      <a:pt x="8832" y="4"/>
                    </a:cubicBezTo>
                    <a:cubicBezTo>
                      <a:pt x="8832" y="5"/>
                      <a:pt x="8831" y="6"/>
                      <a:pt x="8830" y="6"/>
                    </a:cubicBezTo>
                    <a:lnTo>
                      <a:pt x="8830" y="6"/>
                    </a:lnTo>
                    <a:cubicBezTo>
                      <a:pt x="8829" y="6"/>
                      <a:pt x="8828" y="5"/>
                      <a:pt x="8828" y="4"/>
                    </a:cubicBezTo>
                    <a:cubicBezTo>
                      <a:pt x="8828" y="3"/>
                      <a:pt x="8829" y="2"/>
                      <a:pt x="8830" y="2"/>
                    </a:cubicBezTo>
                    <a:close/>
                    <a:moveTo>
                      <a:pt x="8838" y="2"/>
                    </a:moveTo>
                    <a:lnTo>
                      <a:pt x="8838" y="2"/>
                    </a:lnTo>
                    <a:cubicBezTo>
                      <a:pt x="8839" y="2"/>
                      <a:pt x="8840" y="3"/>
                      <a:pt x="8840" y="4"/>
                    </a:cubicBezTo>
                    <a:cubicBezTo>
                      <a:pt x="8840" y="5"/>
                      <a:pt x="8839" y="6"/>
                      <a:pt x="8838" y="6"/>
                    </a:cubicBezTo>
                    <a:lnTo>
                      <a:pt x="8838" y="6"/>
                    </a:lnTo>
                    <a:cubicBezTo>
                      <a:pt x="8837" y="6"/>
                      <a:pt x="8836" y="5"/>
                      <a:pt x="8836" y="4"/>
                    </a:cubicBezTo>
                    <a:cubicBezTo>
                      <a:pt x="8836" y="3"/>
                      <a:pt x="8837" y="2"/>
                      <a:pt x="8838" y="2"/>
                    </a:cubicBezTo>
                    <a:close/>
                    <a:moveTo>
                      <a:pt x="8846" y="2"/>
                    </a:moveTo>
                    <a:lnTo>
                      <a:pt x="8846" y="2"/>
                    </a:lnTo>
                    <a:cubicBezTo>
                      <a:pt x="8847" y="2"/>
                      <a:pt x="8848" y="3"/>
                      <a:pt x="8848" y="4"/>
                    </a:cubicBezTo>
                    <a:cubicBezTo>
                      <a:pt x="8848" y="5"/>
                      <a:pt x="8847" y="6"/>
                      <a:pt x="8846" y="6"/>
                    </a:cubicBezTo>
                    <a:lnTo>
                      <a:pt x="8846" y="6"/>
                    </a:lnTo>
                    <a:cubicBezTo>
                      <a:pt x="8845" y="6"/>
                      <a:pt x="8844" y="5"/>
                      <a:pt x="8844" y="4"/>
                    </a:cubicBezTo>
                    <a:cubicBezTo>
                      <a:pt x="8844" y="3"/>
                      <a:pt x="8845" y="2"/>
                      <a:pt x="8846" y="2"/>
                    </a:cubicBezTo>
                    <a:close/>
                    <a:moveTo>
                      <a:pt x="8854" y="2"/>
                    </a:moveTo>
                    <a:lnTo>
                      <a:pt x="8854" y="2"/>
                    </a:lnTo>
                    <a:cubicBezTo>
                      <a:pt x="8855" y="2"/>
                      <a:pt x="8856" y="3"/>
                      <a:pt x="8856" y="4"/>
                    </a:cubicBezTo>
                    <a:cubicBezTo>
                      <a:pt x="8856" y="5"/>
                      <a:pt x="8855" y="6"/>
                      <a:pt x="8854" y="6"/>
                    </a:cubicBezTo>
                    <a:lnTo>
                      <a:pt x="8854" y="6"/>
                    </a:lnTo>
                    <a:cubicBezTo>
                      <a:pt x="8853" y="6"/>
                      <a:pt x="8852" y="5"/>
                      <a:pt x="8852" y="4"/>
                    </a:cubicBezTo>
                    <a:cubicBezTo>
                      <a:pt x="8852" y="3"/>
                      <a:pt x="8853" y="2"/>
                      <a:pt x="8854" y="2"/>
                    </a:cubicBezTo>
                    <a:close/>
                    <a:moveTo>
                      <a:pt x="8862" y="2"/>
                    </a:moveTo>
                    <a:lnTo>
                      <a:pt x="8862" y="2"/>
                    </a:lnTo>
                    <a:cubicBezTo>
                      <a:pt x="8863" y="2"/>
                      <a:pt x="8864" y="3"/>
                      <a:pt x="8864" y="4"/>
                    </a:cubicBezTo>
                    <a:cubicBezTo>
                      <a:pt x="8864" y="5"/>
                      <a:pt x="8863" y="6"/>
                      <a:pt x="8862" y="6"/>
                    </a:cubicBezTo>
                    <a:lnTo>
                      <a:pt x="8862" y="6"/>
                    </a:lnTo>
                    <a:cubicBezTo>
                      <a:pt x="8861" y="6"/>
                      <a:pt x="8860" y="5"/>
                      <a:pt x="8860" y="4"/>
                    </a:cubicBezTo>
                    <a:cubicBezTo>
                      <a:pt x="8860" y="3"/>
                      <a:pt x="8861" y="2"/>
                      <a:pt x="8862" y="2"/>
                    </a:cubicBezTo>
                    <a:close/>
                    <a:moveTo>
                      <a:pt x="8870" y="2"/>
                    </a:moveTo>
                    <a:lnTo>
                      <a:pt x="8870" y="2"/>
                    </a:lnTo>
                    <a:cubicBezTo>
                      <a:pt x="8871" y="2"/>
                      <a:pt x="8872" y="3"/>
                      <a:pt x="8872" y="4"/>
                    </a:cubicBezTo>
                    <a:cubicBezTo>
                      <a:pt x="8872" y="5"/>
                      <a:pt x="8871" y="6"/>
                      <a:pt x="8870" y="6"/>
                    </a:cubicBezTo>
                    <a:lnTo>
                      <a:pt x="8870" y="6"/>
                    </a:lnTo>
                    <a:cubicBezTo>
                      <a:pt x="8869" y="6"/>
                      <a:pt x="8868" y="5"/>
                      <a:pt x="8868" y="4"/>
                    </a:cubicBezTo>
                    <a:cubicBezTo>
                      <a:pt x="8868" y="3"/>
                      <a:pt x="8869" y="2"/>
                      <a:pt x="8870" y="2"/>
                    </a:cubicBezTo>
                    <a:close/>
                    <a:moveTo>
                      <a:pt x="8878" y="2"/>
                    </a:moveTo>
                    <a:lnTo>
                      <a:pt x="8878" y="2"/>
                    </a:lnTo>
                    <a:cubicBezTo>
                      <a:pt x="8879" y="2"/>
                      <a:pt x="8880" y="3"/>
                      <a:pt x="8880" y="4"/>
                    </a:cubicBezTo>
                    <a:cubicBezTo>
                      <a:pt x="8880" y="5"/>
                      <a:pt x="8879" y="6"/>
                      <a:pt x="8878" y="6"/>
                    </a:cubicBezTo>
                    <a:lnTo>
                      <a:pt x="8878" y="6"/>
                    </a:lnTo>
                    <a:cubicBezTo>
                      <a:pt x="8877" y="6"/>
                      <a:pt x="8876" y="5"/>
                      <a:pt x="8876" y="4"/>
                    </a:cubicBezTo>
                    <a:cubicBezTo>
                      <a:pt x="8876" y="3"/>
                      <a:pt x="8877" y="2"/>
                      <a:pt x="8878" y="2"/>
                    </a:cubicBezTo>
                    <a:close/>
                    <a:moveTo>
                      <a:pt x="8886" y="2"/>
                    </a:moveTo>
                    <a:lnTo>
                      <a:pt x="8886" y="2"/>
                    </a:lnTo>
                    <a:cubicBezTo>
                      <a:pt x="8887" y="2"/>
                      <a:pt x="8888" y="3"/>
                      <a:pt x="8888" y="4"/>
                    </a:cubicBezTo>
                    <a:cubicBezTo>
                      <a:pt x="8888" y="5"/>
                      <a:pt x="8887" y="6"/>
                      <a:pt x="8886" y="6"/>
                    </a:cubicBezTo>
                    <a:lnTo>
                      <a:pt x="8886" y="6"/>
                    </a:lnTo>
                    <a:cubicBezTo>
                      <a:pt x="8885" y="6"/>
                      <a:pt x="8884" y="5"/>
                      <a:pt x="8884" y="4"/>
                    </a:cubicBezTo>
                    <a:cubicBezTo>
                      <a:pt x="8884" y="3"/>
                      <a:pt x="8885" y="2"/>
                      <a:pt x="8886" y="2"/>
                    </a:cubicBezTo>
                    <a:close/>
                    <a:moveTo>
                      <a:pt x="8894" y="2"/>
                    </a:moveTo>
                    <a:lnTo>
                      <a:pt x="8894" y="2"/>
                    </a:lnTo>
                    <a:cubicBezTo>
                      <a:pt x="8895" y="2"/>
                      <a:pt x="8896" y="3"/>
                      <a:pt x="8896" y="4"/>
                    </a:cubicBezTo>
                    <a:cubicBezTo>
                      <a:pt x="8896" y="5"/>
                      <a:pt x="8895" y="6"/>
                      <a:pt x="8894" y="6"/>
                    </a:cubicBezTo>
                    <a:lnTo>
                      <a:pt x="8894" y="6"/>
                    </a:lnTo>
                    <a:cubicBezTo>
                      <a:pt x="8893" y="6"/>
                      <a:pt x="8892" y="5"/>
                      <a:pt x="8892" y="4"/>
                    </a:cubicBezTo>
                    <a:cubicBezTo>
                      <a:pt x="8892" y="3"/>
                      <a:pt x="8893" y="2"/>
                      <a:pt x="8894" y="2"/>
                    </a:cubicBezTo>
                    <a:close/>
                    <a:moveTo>
                      <a:pt x="8902" y="2"/>
                    </a:moveTo>
                    <a:lnTo>
                      <a:pt x="8902" y="2"/>
                    </a:lnTo>
                    <a:cubicBezTo>
                      <a:pt x="8903" y="2"/>
                      <a:pt x="8904" y="3"/>
                      <a:pt x="8904" y="4"/>
                    </a:cubicBezTo>
                    <a:cubicBezTo>
                      <a:pt x="8904" y="5"/>
                      <a:pt x="8903" y="6"/>
                      <a:pt x="8902" y="6"/>
                    </a:cubicBezTo>
                    <a:lnTo>
                      <a:pt x="8902" y="6"/>
                    </a:lnTo>
                    <a:cubicBezTo>
                      <a:pt x="8901" y="6"/>
                      <a:pt x="8900" y="5"/>
                      <a:pt x="8900" y="4"/>
                    </a:cubicBezTo>
                    <a:cubicBezTo>
                      <a:pt x="8900" y="3"/>
                      <a:pt x="8901" y="2"/>
                      <a:pt x="8902" y="2"/>
                    </a:cubicBezTo>
                    <a:close/>
                    <a:moveTo>
                      <a:pt x="8910" y="2"/>
                    </a:moveTo>
                    <a:lnTo>
                      <a:pt x="8910" y="2"/>
                    </a:lnTo>
                    <a:cubicBezTo>
                      <a:pt x="8911" y="2"/>
                      <a:pt x="8912" y="3"/>
                      <a:pt x="8912" y="4"/>
                    </a:cubicBezTo>
                    <a:cubicBezTo>
                      <a:pt x="8912" y="5"/>
                      <a:pt x="8911" y="6"/>
                      <a:pt x="8910" y="6"/>
                    </a:cubicBezTo>
                    <a:lnTo>
                      <a:pt x="8910" y="6"/>
                    </a:lnTo>
                    <a:cubicBezTo>
                      <a:pt x="8909" y="6"/>
                      <a:pt x="8908" y="5"/>
                      <a:pt x="8908" y="4"/>
                    </a:cubicBezTo>
                    <a:cubicBezTo>
                      <a:pt x="8908" y="3"/>
                      <a:pt x="8909" y="2"/>
                      <a:pt x="8910" y="2"/>
                    </a:cubicBezTo>
                    <a:close/>
                    <a:moveTo>
                      <a:pt x="8918" y="2"/>
                    </a:moveTo>
                    <a:lnTo>
                      <a:pt x="8918" y="2"/>
                    </a:lnTo>
                    <a:cubicBezTo>
                      <a:pt x="8919" y="2"/>
                      <a:pt x="8920" y="3"/>
                      <a:pt x="8920" y="4"/>
                    </a:cubicBezTo>
                    <a:cubicBezTo>
                      <a:pt x="8920" y="5"/>
                      <a:pt x="8919" y="6"/>
                      <a:pt x="8918" y="6"/>
                    </a:cubicBezTo>
                    <a:lnTo>
                      <a:pt x="8918" y="6"/>
                    </a:lnTo>
                    <a:cubicBezTo>
                      <a:pt x="8917" y="6"/>
                      <a:pt x="8916" y="5"/>
                      <a:pt x="8916" y="4"/>
                    </a:cubicBezTo>
                    <a:cubicBezTo>
                      <a:pt x="8916" y="3"/>
                      <a:pt x="8917" y="2"/>
                      <a:pt x="8918" y="2"/>
                    </a:cubicBezTo>
                    <a:close/>
                    <a:moveTo>
                      <a:pt x="8926" y="2"/>
                    </a:moveTo>
                    <a:lnTo>
                      <a:pt x="8926" y="2"/>
                    </a:lnTo>
                    <a:cubicBezTo>
                      <a:pt x="8927" y="2"/>
                      <a:pt x="8928" y="3"/>
                      <a:pt x="8928" y="4"/>
                    </a:cubicBezTo>
                    <a:cubicBezTo>
                      <a:pt x="8928" y="5"/>
                      <a:pt x="8927" y="6"/>
                      <a:pt x="8926" y="6"/>
                    </a:cubicBezTo>
                    <a:lnTo>
                      <a:pt x="8926" y="6"/>
                    </a:lnTo>
                    <a:cubicBezTo>
                      <a:pt x="8925" y="6"/>
                      <a:pt x="8924" y="5"/>
                      <a:pt x="8924" y="4"/>
                    </a:cubicBezTo>
                    <a:cubicBezTo>
                      <a:pt x="8924" y="3"/>
                      <a:pt x="8925" y="2"/>
                      <a:pt x="8926" y="2"/>
                    </a:cubicBezTo>
                    <a:close/>
                    <a:moveTo>
                      <a:pt x="8934" y="2"/>
                    </a:moveTo>
                    <a:lnTo>
                      <a:pt x="8934" y="2"/>
                    </a:lnTo>
                    <a:cubicBezTo>
                      <a:pt x="8935" y="2"/>
                      <a:pt x="8936" y="3"/>
                      <a:pt x="8936" y="4"/>
                    </a:cubicBezTo>
                    <a:cubicBezTo>
                      <a:pt x="8936" y="5"/>
                      <a:pt x="8935" y="6"/>
                      <a:pt x="8934" y="6"/>
                    </a:cubicBezTo>
                    <a:lnTo>
                      <a:pt x="8934" y="6"/>
                    </a:lnTo>
                    <a:cubicBezTo>
                      <a:pt x="8933" y="6"/>
                      <a:pt x="8932" y="5"/>
                      <a:pt x="8932" y="4"/>
                    </a:cubicBezTo>
                    <a:cubicBezTo>
                      <a:pt x="8932" y="3"/>
                      <a:pt x="8933" y="2"/>
                      <a:pt x="8934" y="2"/>
                    </a:cubicBezTo>
                    <a:close/>
                    <a:moveTo>
                      <a:pt x="8942" y="2"/>
                    </a:moveTo>
                    <a:lnTo>
                      <a:pt x="8942" y="2"/>
                    </a:lnTo>
                    <a:cubicBezTo>
                      <a:pt x="8943" y="2"/>
                      <a:pt x="8944" y="3"/>
                      <a:pt x="8944" y="4"/>
                    </a:cubicBezTo>
                    <a:cubicBezTo>
                      <a:pt x="8944" y="5"/>
                      <a:pt x="8943" y="6"/>
                      <a:pt x="8942" y="6"/>
                    </a:cubicBezTo>
                    <a:lnTo>
                      <a:pt x="8942" y="6"/>
                    </a:lnTo>
                    <a:cubicBezTo>
                      <a:pt x="8941" y="6"/>
                      <a:pt x="8940" y="5"/>
                      <a:pt x="8940" y="4"/>
                    </a:cubicBezTo>
                    <a:cubicBezTo>
                      <a:pt x="8940" y="3"/>
                      <a:pt x="8941" y="2"/>
                      <a:pt x="8942" y="2"/>
                    </a:cubicBezTo>
                    <a:close/>
                    <a:moveTo>
                      <a:pt x="8950" y="2"/>
                    </a:moveTo>
                    <a:lnTo>
                      <a:pt x="8950" y="2"/>
                    </a:lnTo>
                    <a:cubicBezTo>
                      <a:pt x="8951" y="2"/>
                      <a:pt x="8952" y="3"/>
                      <a:pt x="8952" y="4"/>
                    </a:cubicBezTo>
                    <a:cubicBezTo>
                      <a:pt x="8952" y="5"/>
                      <a:pt x="8951" y="6"/>
                      <a:pt x="8950" y="6"/>
                    </a:cubicBezTo>
                    <a:lnTo>
                      <a:pt x="8950" y="6"/>
                    </a:lnTo>
                    <a:cubicBezTo>
                      <a:pt x="8949" y="6"/>
                      <a:pt x="8948" y="5"/>
                      <a:pt x="8948" y="4"/>
                    </a:cubicBezTo>
                    <a:cubicBezTo>
                      <a:pt x="8948" y="3"/>
                      <a:pt x="8949" y="2"/>
                      <a:pt x="8950" y="2"/>
                    </a:cubicBezTo>
                    <a:close/>
                    <a:moveTo>
                      <a:pt x="8958" y="2"/>
                    </a:moveTo>
                    <a:lnTo>
                      <a:pt x="8958" y="2"/>
                    </a:lnTo>
                    <a:cubicBezTo>
                      <a:pt x="8959" y="2"/>
                      <a:pt x="8960" y="3"/>
                      <a:pt x="8960" y="4"/>
                    </a:cubicBezTo>
                    <a:cubicBezTo>
                      <a:pt x="8960" y="5"/>
                      <a:pt x="8959" y="6"/>
                      <a:pt x="8958" y="6"/>
                    </a:cubicBezTo>
                    <a:lnTo>
                      <a:pt x="8958" y="6"/>
                    </a:lnTo>
                    <a:cubicBezTo>
                      <a:pt x="8957" y="6"/>
                      <a:pt x="8956" y="5"/>
                      <a:pt x="8956" y="4"/>
                    </a:cubicBezTo>
                    <a:cubicBezTo>
                      <a:pt x="8956" y="3"/>
                      <a:pt x="8957" y="2"/>
                      <a:pt x="8958" y="2"/>
                    </a:cubicBezTo>
                    <a:close/>
                    <a:moveTo>
                      <a:pt x="8966" y="2"/>
                    </a:moveTo>
                    <a:lnTo>
                      <a:pt x="8966" y="2"/>
                    </a:lnTo>
                    <a:cubicBezTo>
                      <a:pt x="8967" y="2"/>
                      <a:pt x="8968" y="3"/>
                      <a:pt x="8968" y="4"/>
                    </a:cubicBezTo>
                    <a:cubicBezTo>
                      <a:pt x="8968" y="5"/>
                      <a:pt x="8967" y="6"/>
                      <a:pt x="8966" y="6"/>
                    </a:cubicBezTo>
                    <a:lnTo>
                      <a:pt x="8966" y="6"/>
                    </a:lnTo>
                    <a:cubicBezTo>
                      <a:pt x="8965" y="6"/>
                      <a:pt x="8964" y="5"/>
                      <a:pt x="8964" y="4"/>
                    </a:cubicBezTo>
                    <a:cubicBezTo>
                      <a:pt x="8964" y="3"/>
                      <a:pt x="8965" y="2"/>
                      <a:pt x="8966" y="2"/>
                    </a:cubicBezTo>
                    <a:close/>
                    <a:moveTo>
                      <a:pt x="8974" y="2"/>
                    </a:moveTo>
                    <a:lnTo>
                      <a:pt x="8974" y="2"/>
                    </a:lnTo>
                    <a:cubicBezTo>
                      <a:pt x="8975" y="2"/>
                      <a:pt x="8976" y="3"/>
                      <a:pt x="8976" y="4"/>
                    </a:cubicBezTo>
                    <a:cubicBezTo>
                      <a:pt x="8976" y="5"/>
                      <a:pt x="8975" y="6"/>
                      <a:pt x="8974" y="6"/>
                    </a:cubicBezTo>
                    <a:lnTo>
                      <a:pt x="8974" y="6"/>
                    </a:lnTo>
                    <a:cubicBezTo>
                      <a:pt x="8973" y="6"/>
                      <a:pt x="8972" y="5"/>
                      <a:pt x="8972" y="4"/>
                    </a:cubicBezTo>
                    <a:cubicBezTo>
                      <a:pt x="8972" y="3"/>
                      <a:pt x="8973" y="2"/>
                      <a:pt x="8974" y="2"/>
                    </a:cubicBezTo>
                    <a:close/>
                    <a:moveTo>
                      <a:pt x="8982" y="2"/>
                    </a:moveTo>
                    <a:lnTo>
                      <a:pt x="8982" y="2"/>
                    </a:lnTo>
                    <a:cubicBezTo>
                      <a:pt x="8983" y="2"/>
                      <a:pt x="8984" y="3"/>
                      <a:pt x="8984" y="4"/>
                    </a:cubicBezTo>
                    <a:cubicBezTo>
                      <a:pt x="8984" y="5"/>
                      <a:pt x="8983" y="6"/>
                      <a:pt x="8982" y="6"/>
                    </a:cubicBezTo>
                    <a:lnTo>
                      <a:pt x="8982" y="6"/>
                    </a:lnTo>
                    <a:cubicBezTo>
                      <a:pt x="8981" y="6"/>
                      <a:pt x="8980" y="5"/>
                      <a:pt x="8980" y="4"/>
                    </a:cubicBezTo>
                    <a:cubicBezTo>
                      <a:pt x="8980" y="3"/>
                      <a:pt x="8981" y="2"/>
                      <a:pt x="8982" y="2"/>
                    </a:cubicBezTo>
                    <a:close/>
                    <a:moveTo>
                      <a:pt x="8990" y="2"/>
                    </a:moveTo>
                    <a:lnTo>
                      <a:pt x="8990" y="2"/>
                    </a:lnTo>
                    <a:cubicBezTo>
                      <a:pt x="8991" y="2"/>
                      <a:pt x="8992" y="3"/>
                      <a:pt x="8992" y="4"/>
                    </a:cubicBezTo>
                    <a:cubicBezTo>
                      <a:pt x="8992" y="5"/>
                      <a:pt x="8991" y="6"/>
                      <a:pt x="8990" y="6"/>
                    </a:cubicBezTo>
                    <a:lnTo>
                      <a:pt x="8990" y="6"/>
                    </a:lnTo>
                    <a:cubicBezTo>
                      <a:pt x="8989" y="6"/>
                      <a:pt x="8988" y="5"/>
                      <a:pt x="8988" y="4"/>
                    </a:cubicBezTo>
                    <a:cubicBezTo>
                      <a:pt x="8988" y="3"/>
                      <a:pt x="8989" y="2"/>
                      <a:pt x="8990" y="2"/>
                    </a:cubicBezTo>
                    <a:close/>
                    <a:moveTo>
                      <a:pt x="8998" y="2"/>
                    </a:moveTo>
                    <a:lnTo>
                      <a:pt x="8998" y="2"/>
                    </a:lnTo>
                    <a:cubicBezTo>
                      <a:pt x="8999" y="2"/>
                      <a:pt x="9000" y="3"/>
                      <a:pt x="9000" y="4"/>
                    </a:cubicBezTo>
                    <a:cubicBezTo>
                      <a:pt x="9000" y="5"/>
                      <a:pt x="8999" y="6"/>
                      <a:pt x="8998" y="6"/>
                    </a:cubicBezTo>
                    <a:lnTo>
                      <a:pt x="8998" y="6"/>
                    </a:lnTo>
                    <a:cubicBezTo>
                      <a:pt x="8997" y="6"/>
                      <a:pt x="8996" y="5"/>
                      <a:pt x="8996" y="4"/>
                    </a:cubicBezTo>
                    <a:cubicBezTo>
                      <a:pt x="8996" y="3"/>
                      <a:pt x="8997" y="2"/>
                      <a:pt x="8998" y="2"/>
                    </a:cubicBezTo>
                    <a:close/>
                    <a:moveTo>
                      <a:pt x="9006" y="2"/>
                    </a:moveTo>
                    <a:lnTo>
                      <a:pt x="9006" y="2"/>
                    </a:lnTo>
                    <a:cubicBezTo>
                      <a:pt x="9007" y="2"/>
                      <a:pt x="9008" y="3"/>
                      <a:pt x="9008" y="4"/>
                    </a:cubicBezTo>
                    <a:cubicBezTo>
                      <a:pt x="9008" y="5"/>
                      <a:pt x="9007" y="6"/>
                      <a:pt x="9006" y="6"/>
                    </a:cubicBezTo>
                    <a:lnTo>
                      <a:pt x="9006" y="6"/>
                    </a:lnTo>
                    <a:cubicBezTo>
                      <a:pt x="9005" y="6"/>
                      <a:pt x="9004" y="5"/>
                      <a:pt x="9004" y="4"/>
                    </a:cubicBezTo>
                    <a:cubicBezTo>
                      <a:pt x="9004" y="3"/>
                      <a:pt x="9005" y="2"/>
                      <a:pt x="9006" y="2"/>
                    </a:cubicBezTo>
                    <a:close/>
                    <a:moveTo>
                      <a:pt x="9014" y="2"/>
                    </a:moveTo>
                    <a:lnTo>
                      <a:pt x="9014" y="2"/>
                    </a:lnTo>
                    <a:cubicBezTo>
                      <a:pt x="9015" y="2"/>
                      <a:pt x="9016" y="3"/>
                      <a:pt x="9016" y="4"/>
                    </a:cubicBezTo>
                    <a:cubicBezTo>
                      <a:pt x="9016" y="5"/>
                      <a:pt x="9015" y="6"/>
                      <a:pt x="9014" y="6"/>
                    </a:cubicBezTo>
                    <a:lnTo>
                      <a:pt x="9014" y="6"/>
                    </a:lnTo>
                    <a:cubicBezTo>
                      <a:pt x="9013" y="6"/>
                      <a:pt x="9012" y="5"/>
                      <a:pt x="9012" y="4"/>
                    </a:cubicBezTo>
                    <a:cubicBezTo>
                      <a:pt x="9012" y="3"/>
                      <a:pt x="9013" y="2"/>
                      <a:pt x="9014" y="2"/>
                    </a:cubicBezTo>
                    <a:close/>
                    <a:moveTo>
                      <a:pt x="9022" y="2"/>
                    </a:moveTo>
                    <a:lnTo>
                      <a:pt x="9022" y="2"/>
                    </a:lnTo>
                    <a:cubicBezTo>
                      <a:pt x="9023" y="2"/>
                      <a:pt x="9024" y="3"/>
                      <a:pt x="9024" y="4"/>
                    </a:cubicBezTo>
                    <a:cubicBezTo>
                      <a:pt x="9024" y="5"/>
                      <a:pt x="9023" y="6"/>
                      <a:pt x="9022" y="6"/>
                    </a:cubicBezTo>
                    <a:lnTo>
                      <a:pt x="9022" y="6"/>
                    </a:lnTo>
                    <a:cubicBezTo>
                      <a:pt x="9021" y="6"/>
                      <a:pt x="9020" y="5"/>
                      <a:pt x="9020" y="4"/>
                    </a:cubicBezTo>
                    <a:cubicBezTo>
                      <a:pt x="9020" y="3"/>
                      <a:pt x="9021" y="2"/>
                      <a:pt x="9022" y="2"/>
                    </a:cubicBezTo>
                    <a:close/>
                    <a:moveTo>
                      <a:pt x="9030" y="2"/>
                    </a:moveTo>
                    <a:lnTo>
                      <a:pt x="9030" y="2"/>
                    </a:lnTo>
                    <a:cubicBezTo>
                      <a:pt x="9031" y="2"/>
                      <a:pt x="9032" y="3"/>
                      <a:pt x="9032" y="4"/>
                    </a:cubicBezTo>
                    <a:cubicBezTo>
                      <a:pt x="9032" y="5"/>
                      <a:pt x="9031" y="6"/>
                      <a:pt x="9030" y="6"/>
                    </a:cubicBezTo>
                    <a:lnTo>
                      <a:pt x="9030" y="6"/>
                    </a:lnTo>
                    <a:cubicBezTo>
                      <a:pt x="9029" y="6"/>
                      <a:pt x="9028" y="5"/>
                      <a:pt x="9028" y="4"/>
                    </a:cubicBezTo>
                    <a:cubicBezTo>
                      <a:pt x="9028" y="3"/>
                      <a:pt x="9029" y="2"/>
                      <a:pt x="9030" y="2"/>
                    </a:cubicBezTo>
                    <a:close/>
                    <a:moveTo>
                      <a:pt x="9038" y="2"/>
                    </a:moveTo>
                    <a:lnTo>
                      <a:pt x="9038" y="2"/>
                    </a:lnTo>
                    <a:cubicBezTo>
                      <a:pt x="9039" y="2"/>
                      <a:pt x="9040" y="3"/>
                      <a:pt x="9040" y="4"/>
                    </a:cubicBezTo>
                    <a:cubicBezTo>
                      <a:pt x="9040" y="5"/>
                      <a:pt x="9039" y="6"/>
                      <a:pt x="9038" y="6"/>
                    </a:cubicBezTo>
                    <a:lnTo>
                      <a:pt x="9038" y="6"/>
                    </a:lnTo>
                    <a:cubicBezTo>
                      <a:pt x="9037" y="6"/>
                      <a:pt x="9036" y="5"/>
                      <a:pt x="9036" y="4"/>
                    </a:cubicBezTo>
                    <a:cubicBezTo>
                      <a:pt x="9036" y="3"/>
                      <a:pt x="9037" y="2"/>
                      <a:pt x="9038" y="2"/>
                    </a:cubicBezTo>
                    <a:close/>
                    <a:moveTo>
                      <a:pt x="9046" y="2"/>
                    </a:moveTo>
                    <a:lnTo>
                      <a:pt x="9046" y="2"/>
                    </a:lnTo>
                    <a:cubicBezTo>
                      <a:pt x="9047" y="2"/>
                      <a:pt x="9048" y="3"/>
                      <a:pt x="9048" y="4"/>
                    </a:cubicBezTo>
                    <a:cubicBezTo>
                      <a:pt x="9048" y="5"/>
                      <a:pt x="9047" y="6"/>
                      <a:pt x="9046" y="6"/>
                    </a:cubicBezTo>
                    <a:lnTo>
                      <a:pt x="9046" y="6"/>
                    </a:lnTo>
                    <a:cubicBezTo>
                      <a:pt x="9045" y="6"/>
                      <a:pt x="9044" y="5"/>
                      <a:pt x="9044" y="4"/>
                    </a:cubicBezTo>
                    <a:cubicBezTo>
                      <a:pt x="9044" y="3"/>
                      <a:pt x="9045" y="2"/>
                      <a:pt x="9046" y="2"/>
                    </a:cubicBezTo>
                    <a:close/>
                    <a:moveTo>
                      <a:pt x="9054" y="2"/>
                    </a:moveTo>
                    <a:lnTo>
                      <a:pt x="9054" y="2"/>
                    </a:lnTo>
                    <a:cubicBezTo>
                      <a:pt x="9055" y="2"/>
                      <a:pt x="9056" y="3"/>
                      <a:pt x="9056" y="4"/>
                    </a:cubicBezTo>
                    <a:cubicBezTo>
                      <a:pt x="9056" y="5"/>
                      <a:pt x="9055" y="6"/>
                      <a:pt x="9054" y="6"/>
                    </a:cubicBezTo>
                    <a:lnTo>
                      <a:pt x="9054" y="6"/>
                    </a:lnTo>
                    <a:cubicBezTo>
                      <a:pt x="9053" y="6"/>
                      <a:pt x="9052" y="5"/>
                      <a:pt x="9052" y="4"/>
                    </a:cubicBezTo>
                    <a:cubicBezTo>
                      <a:pt x="9052" y="3"/>
                      <a:pt x="9053" y="2"/>
                      <a:pt x="9054" y="2"/>
                    </a:cubicBezTo>
                    <a:close/>
                    <a:moveTo>
                      <a:pt x="9062" y="2"/>
                    </a:moveTo>
                    <a:lnTo>
                      <a:pt x="9062" y="2"/>
                    </a:lnTo>
                    <a:cubicBezTo>
                      <a:pt x="9063" y="2"/>
                      <a:pt x="9064" y="3"/>
                      <a:pt x="9064" y="4"/>
                    </a:cubicBezTo>
                    <a:cubicBezTo>
                      <a:pt x="9064" y="5"/>
                      <a:pt x="9063" y="6"/>
                      <a:pt x="9062" y="6"/>
                    </a:cubicBezTo>
                    <a:lnTo>
                      <a:pt x="9062" y="6"/>
                    </a:lnTo>
                    <a:cubicBezTo>
                      <a:pt x="9061" y="6"/>
                      <a:pt x="9060" y="5"/>
                      <a:pt x="9060" y="4"/>
                    </a:cubicBezTo>
                    <a:cubicBezTo>
                      <a:pt x="9060" y="3"/>
                      <a:pt x="9061" y="2"/>
                      <a:pt x="9062" y="2"/>
                    </a:cubicBezTo>
                    <a:close/>
                    <a:moveTo>
                      <a:pt x="9070" y="2"/>
                    </a:moveTo>
                    <a:lnTo>
                      <a:pt x="9070" y="2"/>
                    </a:lnTo>
                    <a:cubicBezTo>
                      <a:pt x="9071" y="2"/>
                      <a:pt x="9072" y="3"/>
                      <a:pt x="9072" y="4"/>
                    </a:cubicBezTo>
                    <a:cubicBezTo>
                      <a:pt x="9072" y="5"/>
                      <a:pt x="9071" y="6"/>
                      <a:pt x="9070" y="6"/>
                    </a:cubicBezTo>
                    <a:lnTo>
                      <a:pt x="9070" y="6"/>
                    </a:lnTo>
                    <a:cubicBezTo>
                      <a:pt x="9069" y="6"/>
                      <a:pt x="9068" y="5"/>
                      <a:pt x="9068" y="4"/>
                    </a:cubicBezTo>
                    <a:cubicBezTo>
                      <a:pt x="9068" y="3"/>
                      <a:pt x="9069" y="2"/>
                      <a:pt x="9070" y="2"/>
                    </a:cubicBezTo>
                    <a:close/>
                    <a:moveTo>
                      <a:pt x="9078" y="2"/>
                    </a:moveTo>
                    <a:lnTo>
                      <a:pt x="9078" y="2"/>
                    </a:lnTo>
                    <a:cubicBezTo>
                      <a:pt x="9079" y="2"/>
                      <a:pt x="9080" y="3"/>
                      <a:pt x="9080" y="4"/>
                    </a:cubicBezTo>
                    <a:cubicBezTo>
                      <a:pt x="9080" y="5"/>
                      <a:pt x="9079" y="6"/>
                      <a:pt x="9078" y="6"/>
                    </a:cubicBezTo>
                    <a:lnTo>
                      <a:pt x="9078" y="6"/>
                    </a:lnTo>
                    <a:cubicBezTo>
                      <a:pt x="9077" y="6"/>
                      <a:pt x="9076" y="5"/>
                      <a:pt x="9076" y="4"/>
                    </a:cubicBezTo>
                    <a:cubicBezTo>
                      <a:pt x="9076" y="3"/>
                      <a:pt x="9077" y="2"/>
                      <a:pt x="9078" y="2"/>
                    </a:cubicBezTo>
                    <a:close/>
                    <a:moveTo>
                      <a:pt x="9086" y="2"/>
                    </a:moveTo>
                    <a:lnTo>
                      <a:pt x="9086" y="2"/>
                    </a:lnTo>
                    <a:cubicBezTo>
                      <a:pt x="9087" y="2"/>
                      <a:pt x="9088" y="3"/>
                      <a:pt x="9088" y="4"/>
                    </a:cubicBezTo>
                    <a:cubicBezTo>
                      <a:pt x="9088" y="5"/>
                      <a:pt x="9087" y="6"/>
                      <a:pt x="9086" y="6"/>
                    </a:cubicBezTo>
                    <a:lnTo>
                      <a:pt x="9086" y="6"/>
                    </a:lnTo>
                    <a:cubicBezTo>
                      <a:pt x="9085" y="6"/>
                      <a:pt x="9084" y="5"/>
                      <a:pt x="9084" y="4"/>
                    </a:cubicBezTo>
                    <a:cubicBezTo>
                      <a:pt x="9084" y="3"/>
                      <a:pt x="9085" y="2"/>
                      <a:pt x="9086" y="2"/>
                    </a:cubicBezTo>
                    <a:close/>
                    <a:moveTo>
                      <a:pt x="9094" y="2"/>
                    </a:moveTo>
                    <a:lnTo>
                      <a:pt x="9094" y="2"/>
                    </a:lnTo>
                    <a:cubicBezTo>
                      <a:pt x="9095" y="2"/>
                      <a:pt x="9096" y="3"/>
                      <a:pt x="9096" y="4"/>
                    </a:cubicBezTo>
                    <a:cubicBezTo>
                      <a:pt x="9096" y="5"/>
                      <a:pt x="9095" y="6"/>
                      <a:pt x="9094" y="6"/>
                    </a:cubicBezTo>
                    <a:lnTo>
                      <a:pt x="9094" y="6"/>
                    </a:lnTo>
                    <a:cubicBezTo>
                      <a:pt x="9093" y="6"/>
                      <a:pt x="9092" y="5"/>
                      <a:pt x="9092" y="4"/>
                    </a:cubicBezTo>
                    <a:cubicBezTo>
                      <a:pt x="9092" y="3"/>
                      <a:pt x="9093" y="2"/>
                      <a:pt x="9094" y="2"/>
                    </a:cubicBezTo>
                    <a:close/>
                    <a:moveTo>
                      <a:pt x="9102" y="2"/>
                    </a:moveTo>
                    <a:lnTo>
                      <a:pt x="9102" y="2"/>
                    </a:lnTo>
                    <a:cubicBezTo>
                      <a:pt x="9103" y="2"/>
                      <a:pt x="9104" y="3"/>
                      <a:pt x="9104" y="4"/>
                    </a:cubicBezTo>
                    <a:cubicBezTo>
                      <a:pt x="9104" y="5"/>
                      <a:pt x="9103" y="6"/>
                      <a:pt x="9102" y="6"/>
                    </a:cubicBezTo>
                    <a:lnTo>
                      <a:pt x="9102" y="6"/>
                    </a:lnTo>
                    <a:cubicBezTo>
                      <a:pt x="9101" y="6"/>
                      <a:pt x="9100" y="5"/>
                      <a:pt x="9100" y="4"/>
                    </a:cubicBezTo>
                    <a:cubicBezTo>
                      <a:pt x="9100" y="3"/>
                      <a:pt x="9101" y="2"/>
                      <a:pt x="9102" y="2"/>
                    </a:cubicBezTo>
                    <a:close/>
                    <a:moveTo>
                      <a:pt x="9110" y="2"/>
                    </a:moveTo>
                    <a:lnTo>
                      <a:pt x="9110" y="2"/>
                    </a:lnTo>
                    <a:cubicBezTo>
                      <a:pt x="9111" y="2"/>
                      <a:pt x="9112" y="3"/>
                      <a:pt x="9112" y="4"/>
                    </a:cubicBezTo>
                    <a:cubicBezTo>
                      <a:pt x="9112" y="5"/>
                      <a:pt x="9111" y="6"/>
                      <a:pt x="9110" y="6"/>
                    </a:cubicBezTo>
                    <a:lnTo>
                      <a:pt x="9110" y="6"/>
                    </a:lnTo>
                    <a:cubicBezTo>
                      <a:pt x="9109" y="6"/>
                      <a:pt x="9108" y="5"/>
                      <a:pt x="9108" y="4"/>
                    </a:cubicBezTo>
                    <a:cubicBezTo>
                      <a:pt x="9108" y="3"/>
                      <a:pt x="9109" y="2"/>
                      <a:pt x="9110" y="2"/>
                    </a:cubicBezTo>
                    <a:close/>
                    <a:moveTo>
                      <a:pt x="9118" y="2"/>
                    </a:moveTo>
                    <a:lnTo>
                      <a:pt x="9118" y="2"/>
                    </a:lnTo>
                    <a:cubicBezTo>
                      <a:pt x="9119" y="2"/>
                      <a:pt x="9120" y="3"/>
                      <a:pt x="9120" y="4"/>
                    </a:cubicBezTo>
                    <a:cubicBezTo>
                      <a:pt x="9120" y="5"/>
                      <a:pt x="9119" y="6"/>
                      <a:pt x="9118" y="6"/>
                    </a:cubicBezTo>
                    <a:lnTo>
                      <a:pt x="9118" y="6"/>
                    </a:lnTo>
                    <a:cubicBezTo>
                      <a:pt x="9117" y="6"/>
                      <a:pt x="9116" y="5"/>
                      <a:pt x="9116" y="4"/>
                    </a:cubicBezTo>
                    <a:cubicBezTo>
                      <a:pt x="9116" y="3"/>
                      <a:pt x="9117" y="2"/>
                      <a:pt x="9118" y="2"/>
                    </a:cubicBezTo>
                    <a:close/>
                    <a:moveTo>
                      <a:pt x="9126" y="2"/>
                    </a:moveTo>
                    <a:lnTo>
                      <a:pt x="9126" y="2"/>
                    </a:lnTo>
                    <a:cubicBezTo>
                      <a:pt x="9127" y="2"/>
                      <a:pt x="9128" y="3"/>
                      <a:pt x="9128" y="4"/>
                    </a:cubicBezTo>
                    <a:cubicBezTo>
                      <a:pt x="9128" y="5"/>
                      <a:pt x="9127" y="6"/>
                      <a:pt x="9126" y="6"/>
                    </a:cubicBezTo>
                    <a:lnTo>
                      <a:pt x="9126" y="6"/>
                    </a:lnTo>
                    <a:cubicBezTo>
                      <a:pt x="9125" y="6"/>
                      <a:pt x="9124" y="5"/>
                      <a:pt x="9124" y="4"/>
                    </a:cubicBezTo>
                    <a:cubicBezTo>
                      <a:pt x="9124" y="3"/>
                      <a:pt x="9125" y="2"/>
                      <a:pt x="9126" y="2"/>
                    </a:cubicBezTo>
                    <a:close/>
                    <a:moveTo>
                      <a:pt x="9134" y="2"/>
                    </a:moveTo>
                    <a:lnTo>
                      <a:pt x="9134" y="2"/>
                    </a:lnTo>
                    <a:cubicBezTo>
                      <a:pt x="9135" y="2"/>
                      <a:pt x="9136" y="3"/>
                      <a:pt x="9136" y="4"/>
                    </a:cubicBezTo>
                    <a:cubicBezTo>
                      <a:pt x="9136" y="5"/>
                      <a:pt x="9135" y="6"/>
                      <a:pt x="9134" y="6"/>
                    </a:cubicBezTo>
                    <a:lnTo>
                      <a:pt x="9134" y="6"/>
                    </a:lnTo>
                    <a:cubicBezTo>
                      <a:pt x="9133" y="6"/>
                      <a:pt x="9132" y="5"/>
                      <a:pt x="9132" y="4"/>
                    </a:cubicBezTo>
                    <a:cubicBezTo>
                      <a:pt x="9132" y="3"/>
                      <a:pt x="9133" y="2"/>
                      <a:pt x="9134" y="2"/>
                    </a:cubicBezTo>
                    <a:close/>
                    <a:moveTo>
                      <a:pt x="9142" y="2"/>
                    </a:moveTo>
                    <a:lnTo>
                      <a:pt x="9142" y="2"/>
                    </a:lnTo>
                    <a:cubicBezTo>
                      <a:pt x="9143" y="2"/>
                      <a:pt x="9144" y="3"/>
                      <a:pt x="9144" y="4"/>
                    </a:cubicBezTo>
                    <a:cubicBezTo>
                      <a:pt x="9144" y="5"/>
                      <a:pt x="9143" y="6"/>
                      <a:pt x="9142" y="6"/>
                    </a:cubicBezTo>
                    <a:lnTo>
                      <a:pt x="9142" y="6"/>
                    </a:lnTo>
                    <a:cubicBezTo>
                      <a:pt x="9141" y="6"/>
                      <a:pt x="9140" y="5"/>
                      <a:pt x="9140" y="4"/>
                    </a:cubicBezTo>
                    <a:cubicBezTo>
                      <a:pt x="9140" y="3"/>
                      <a:pt x="9141" y="2"/>
                      <a:pt x="9142" y="2"/>
                    </a:cubicBezTo>
                    <a:close/>
                    <a:moveTo>
                      <a:pt x="9150" y="2"/>
                    </a:moveTo>
                    <a:lnTo>
                      <a:pt x="9150" y="2"/>
                    </a:lnTo>
                    <a:cubicBezTo>
                      <a:pt x="9152" y="2"/>
                      <a:pt x="9152" y="3"/>
                      <a:pt x="9152" y="4"/>
                    </a:cubicBezTo>
                    <a:cubicBezTo>
                      <a:pt x="9152" y="5"/>
                      <a:pt x="9152" y="6"/>
                      <a:pt x="9150" y="6"/>
                    </a:cubicBezTo>
                    <a:lnTo>
                      <a:pt x="9150" y="6"/>
                    </a:lnTo>
                    <a:cubicBezTo>
                      <a:pt x="9149" y="6"/>
                      <a:pt x="9148" y="5"/>
                      <a:pt x="9148" y="4"/>
                    </a:cubicBezTo>
                    <a:cubicBezTo>
                      <a:pt x="9148" y="3"/>
                      <a:pt x="9149" y="2"/>
                      <a:pt x="9150" y="2"/>
                    </a:cubicBezTo>
                    <a:close/>
                    <a:moveTo>
                      <a:pt x="9158" y="2"/>
                    </a:moveTo>
                    <a:lnTo>
                      <a:pt x="9158" y="2"/>
                    </a:lnTo>
                    <a:cubicBezTo>
                      <a:pt x="9160" y="2"/>
                      <a:pt x="9160" y="3"/>
                      <a:pt x="9160" y="4"/>
                    </a:cubicBezTo>
                    <a:cubicBezTo>
                      <a:pt x="9160" y="5"/>
                      <a:pt x="9160" y="6"/>
                      <a:pt x="9158" y="6"/>
                    </a:cubicBezTo>
                    <a:lnTo>
                      <a:pt x="9158" y="6"/>
                    </a:lnTo>
                    <a:cubicBezTo>
                      <a:pt x="9157" y="6"/>
                      <a:pt x="9156" y="5"/>
                      <a:pt x="9156" y="4"/>
                    </a:cubicBezTo>
                    <a:cubicBezTo>
                      <a:pt x="9156" y="3"/>
                      <a:pt x="9157" y="2"/>
                      <a:pt x="9158" y="2"/>
                    </a:cubicBezTo>
                    <a:close/>
                    <a:moveTo>
                      <a:pt x="9166" y="2"/>
                    </a:moveTo>
                    <a:lnTo>
                      <a:pt x="9166" y="2"/>
                    </a:lnTo>
                    <a:cubicBezTo>
                      <a:pt x="9168" y="2"/>
                      <a:pt x="9168" y="3"/>
                      <a:pt x="9168" y="4"/>
                    </a:cubicBezTo>
                    <a:cubicBezTo>
                      <a:pt x="9168" y="5"/>
                      <a:pt x="9168" y="6"/>
                      <a:pt x="9166" y="6"/>
                    </a:cubicBezTo>
                    <a:lnTo>
                      <a:pt x="9166" y="6"/>
                    </a:lnTo>
                    <a:cubicBezTo>
                      <a:pt x="9165" y="6"/>
                      <a:pt x="9164" y="5"/>
                      <a:pt x="9164" y="4"/>
                    </a:cubicBezTo>
                    <a:cubicBezTo>
                      <a:pt x="9164" y="3"/>
                      <a:pt x="9165" y="2"/>
                      <a:pt x="9166" y="2"/>
                    </a:cubicBezTo>
                    <a:close/>
                    <a:moveTo>
                      <a:pt x="9174" y="2"/>
                    </a:moveTo>
                    <a:lnTo>
                      <a:pt x="9174" y="2"/>
                    </a:lnTo>
                    <a:cubicBezTo>
                      <a:pt x="9176" y="2"/>
                      <a:pt x="9176" y="3"/>
                      <a:pt x="9176" y="4"/>
                    </a:cubicBezTo>
                    <a:cubicBezTo>
                      <a:pt x="9176" y="5"/>
                      <a:pt x="9176" y="6"/>
                      <a:pt x="9174" y="6"/>
                    </a:cubicBezTo>
                    <a:lnTo>
                      <a:pt x="9174" y="6"/>
                    </a:lnTo>
                    <a:cubicBezTo>
                      <a:pt x="9173" y="6"/>
                      <a:pt x="9172" y="5"/>
                      <a:pt x="9172" y="4"/>
                    </a:cubicBezTo>
                    <a:cubicBezTo>
                      <a:pt x="9172" y="3"/>
                      <a:pt x="9173" y="2"/>
                      <a:pt x="9174" y="2"/>
                    </a:cubicBezTo>
                    <a:close/>
                    <a:moveTo>
                      <a:pt x="9182" y="2"/>
                    </a:moveTo>
                    <a:lnTo>
                      <a:pt x="9182" y="2"/>
                    </a:lnTo>
                    <a:cubicBezTo>
                      <a:pt x="9184" y="2"/>
                      <a:pt x="9184" y="3"/>
                      <a:pt x="9184" y="4"/>
                    </a:cubicBezTo>
                    <a:cubicBezTo>
                      <a:pt x="9184" y="5"/>
                      <a:pt x="9184" y="6"/>
                      <a:pt x="9182" y="6"/>
                    </a:cubicBezTo>
                    <a:lnTo>
                      <a:pt x="9182" y="6"/>
                    </a:lnTo>
                    <a:cubicBezTo>
                      <a:pt x="9181" y="6"/>
                      <a:pt x="9180" y="5"/>
                      <a:pt x="9180" y="4"/>
                    </a:cubicBezTo>
                    <a:cubicBezTo>
                      <a:pt x="9180" y="3"/>
                      <a:pt x="9181" y="2"/>
                      <a:pt x="9182" y="2"/>
                    </a:cubicBezTo>
                    <a:close/>
                    <a:moveTo>
                      <a:pt x="9190" y="2"/>
                    </a:moveTo>
                    <a:lnTo>
                      <a:pt x="9190" y="2"/>
                    </a:lnTo>
                    <a:cubicBezTo>
                      <a:pt x="9192" y="2"/>
                      <a:pt x="9192" y="3"/>
                      <a:pt x="9192" y="4"/>
                    </a:cubicBezTo>
                    <a:cubicBezTo>
                      <a:pt x="9192" y="5"/>
                      <a:pt x="9192" y="6"/>
                      <a:pt x="9190" y="6"/>
                    </a:cubicBezTo>
                    <a:lnTo>
                      <a:pt x="9190" y="6"/>
                    </a:lnTo>
                    <a:cubicBezTo>
                      <a:pt x="9189" y="6"/>
                      <a:pt x="9188" y="5"/>
                      <a:pt x="9188" y="4"/>
                    </a:cubicBezTo>
                    <a:cubicBezTo>
                      <a:pt x="9188" y="3"/>
                      <a:pt x="9189" y="2"/>
                      <a:pt x="9190" y="2"/>
                    </a:cubicBezTo>
                    <a:close/>
                    <a:moveTo>
                      <a:pt x="9198" y="2"/>
                    </a:moveTo>
                    <a:lnTo>
                      <a:pt x="9198" y="2"/>
                    </a:lnTo>
                    <a:cubicBezTo>
                      <a:pt x="9200" y="2"/>
                      <a:pt x="9200" y="3"/>
                      <a:pt x="9200" y="4"/>
                    </a:cubicBezTo>
                    <a:cubicBezTo>
                      <a:pt x="9200" y="5"/>
                      <a:pt x="9200" y="6"/>
                      <a:pt x="9198" y="6"/>
                    </a:cubicBezTo>
                    <a:lnTo>
                      <a:pt x="9198" y="6"/>
                    </a:lnTo>
                    <a:cubicBezTo>
                      <a:pt x="9197" y="6"/>
                      <a:pt x="9196" y="5"/>
                      <a:pt x="9196" y="4"/>
                    </a:cubicBezTo>
                    <a:cubicBezTo>
                      <a:pt x="9196" y="3"/>
                      <a:pt x="9197" y="2"/>
                      <a:pt x="9198" y="2"/>
                    </a:cubicBezTo>
                    <a:close/>
                    <a:moveTo>
                      <a:pt x="9206" y="2"/>
                    </a:moveTo>
                    <a:lnTo>
                      <a:pt x="9206" y="2"/>
                    </a:lnTo>
                    <a:cubicBezTo>
                      <a:pt x="9208" y="2"/>
                      <a:pt x="9208" y="3"/>
                      <a:pt x="9208" y="4"/>
                    </a:cubicBezTo>
                    <a:cubicBezTo>
                      <a:pt x="9208" y="5"/>
                      <a:pt x="9208" y="6"/>
                      <a:pt x="9206" y="6"/>
                    </a:cubicBezTo>
                    <a:lnTo>
                      <a:pt x="9206" y="6"/>
                    </a:lnTo>
                    <a:cubicBezTo>
                      <a:pt x="9205" y="6"/>
                      <a:pt x="9204" y="5"/>
                      <a:pt x="9204" y="4"/>
                    </a:cubicBezTo>
                    <a:cubicBezTo>
                      <a:pt x="9204" y="3"/>
                      <a:pt x="9205" y="2"/>
                      <a:pt x="9206" y="2"/>
                    </a:cubicBezTo>
                    <a:close/>
                    <a:moveTo>
                      <a:pt x="9214" y="2"/>
                    </a:moveTo>
                    <a:lnTo>
                      <a:pt x="9214" y="2"/>
                    </a:lnTo>
                    <a:cubicBezTo>
                      <a:pt x="9216" y="2"/>
                      <a:pt x="9216" y="3"/>
                      <a:pt x="9216" y="4"/>
                    </a:cubicBezTo>
                    <a:cubicBezTo>
                      <a:pt x="9216" y="5"/>
                      <a:pt x="9216" y="6"/>
                      <a:pt x="9214" y="6"/>
                    </a:cubicBezTo>
                    <a:lnTo>
                      <a:pt x="9214" y="6"/>
                    </a:lnTo>
                    <a:cubicBezTo>
                      <a:pt x="9213" y="6"/>
                      <a:pt x="9212" y="5"/>
                      <a:pt x="9212" y="4"/>
                    </a:cubicBezTo>
                    <a:cubicBezTo>
                      <a:pt x="9212" y="3"/>
                      <a:pt x="9213" y="2"/>
                      <a:pt x="9214" y="2"/>
                    </a:cubicBezTo>
                    <a:close/>
                    <a:moveTo>
                      <a:pt x="9222" y="2"/>
                    </a:moveTo>
                    <a:lnTo>
                      <a:pt x="9222" y="2"/>
                    </a:lnTo>
                    <a:cubicBezTo>
                      <a:pt x="9224" y="2"/>
                      <a:pt x="9224" y="3"/>
                      <a:pt x="9224" y="4"/>
                    </a:cubicBezTo>
                    <a:cubicBezTo>
                      <a:pt x="9224" y="5"/>
                      <a:pt x="9224" y="6"/>
                      <a:pt x="9222" y="6"/>
                    </a:cubicBezTo>
                    <a:lnTo>
                      <a:pt x="9222" y="6"/>
                    </a:lnTo>
                    <a:cubicBezTo>
                      <a:pt x="9221" y="6"/>
                      <a:pt x="9220" y="5"/>
                      <a:pt x="9220" y="4"/>
                    </a:cubicBezTo>
                    <a:cubicBezTo>
                      <a:pt x="9220" y="3"/>
                      <a:pt x="9221" y="2"/>
                      <a:pt x="9222" y="2"/>
                    </a:cubicBezTo>
                    <a:close/>
                    <a:moveTo>
                      <a:pt x="9230" y="2"/>
                    </a:moveTo>
                    <a:lnTo>
                      <a:pt x="9230" y="2"/>
                    </a:lnTo>
                    <a:cubicBezTo>
                      <a:pt x="9232" y="2"/>
                      <a:pt x="9232" y="3"/>
                      <a:pt x="9232" y="4"/>
                    </a:cubicBezTo>
                    <a:cubicBezTo>
                      <a:pt x="9232" y="5"/>
                      <a:pt x="9232" y="6"/>
                      <a:pt x="9230" y="6"/>
                    </a:cubicBezTo>
                    <a:lnTo>
                      <a:pt x="9230" y="6"/>
                    </a:lnTo>
                    <a:cubicBezTo>
                      <a:pt x="9229" y="6"/>
                      <a:pt x="9228" y="5"/>
                      <a:pt x="9228" y="4"/>
                    </a:cubicBezTo>
                    <a:cubicBezTo>
                      <a:pt x="9228" y="3"/>
                      <a:pt x="9229" y="2"/>
                      <a:pt x="9230" y="2"/>
                    </a:cubicBezTo>
                    <a:close/>
                    <a:moveTo>
                      <a:pt x="9238" y="2"/>
                    </a:moveTo>
                    <a:lnTo>
                      <a:pt x="9238" y="2"/>
                    </a:lnTo>
                    <a:cubicBezTo>
                      <a:pt x="9240" y="2"/>
                      <a:pt x="9240" y="3"/>
                      <a:pt x="9240" y="4"/>
                    </a:cubicBezTo>
                    <a:cubicBezTo>
                      <a:pt x="9240" y="5"/>
                      <a:pt x="9240" y="6"/>
                      <a:pt x="9238" y="6"/>
                    </a:cubicBezTo>
                    <a:lnTo>
                      <a:pt x="9238" y="6"/>
                    </a:lnTo>
                    <a:cubicBezTo>
                      <a:pt x="9237" y="6"/>
                      <a:pt x="9236" y="5"/>
                      <a:pt x="9236" y="4"/>
                    </a:cubicBezTo>
                    <a:cubicBezTo>
                      <a:pt x="9236" y="3"/>
                      <a:pt x="9237" y="2"/>
                      <a:pt x="9238" y="2"/>
                    </a:cubicBezTo>
                    <a:close/>
                    <a:moveTo>
                      <a:pt x="9246" y="2"/>
                    </a:moveTo>
                    <a:lnTo>
                      <a:pt x="9246" y="2"/>
                    </a:lnTo>
                    <a:cubicBezTo>
                      <a:pt x="9248" y="2"/>
                      <a:pt x="9248" y="3"/>
                      <a:pt x="9248" y="4"/>
                    </a:cubicBezTo>
                    <a:cubicBezTo>
                      <a:pt x="9248" y="5"/>
                      <a:pt x="9248" y="6"/>
                      <a:pt x="9246" y="6"/>
                    </a:cubicBezTo>
                    <a:lnTo>
                      <a:pt x="9246" y="6"/>
                    </a:lnTo>
                    <a:cubicBezTo>
                      <a:pt x="9245" y="6"/>
                      <a:pt x="9244" y="5"/>
                      <a:pt x="9244" y="4"/>
                    </a:cubicBezTo>
                    <a:cubicBezTo>
                      <a:pt x="9244" y="3"/>
                      <a:pt x="9245" y="2"/>
                      <a:pt x="9246" y="2"/>
                    </a:cubicBezTo>
                    <a:close/>
                    <a:moveTo>
                      <a:pt x="9254" y="2"/>
                    </a:moveTo>
                    <a:lnTo>
                      <a:pt x="9254" y="2"/>
                    </a:lnTo>
                    <a:cubicBezTo>
                      <a:pt x="9256" y="2"/>
                      <a:pt x="9256" y="3"/>
                      <a:pt x="9256" y="4"/>
                    </a:cubicBezTo>
                    <a:cubicBezTo>
                      <a:pt x="9256" y="5"/>
                      <a:pt x="9256" y="6"/>
                      <a:pt x="9254" y="6"/>
                    </a:cubicBezTo>
                    <a:lnTo>
                      <a:pt x="9254" y="6"/>
                    </a:lnTo>
                    <a:cubicBezTo>
                      <a:pt x="9253" y="6"/>
                      <a:pt x="9252" y="5"/>
                      <a:pt x="9252" y="4"/>
                    </a:cubicBezTo>
                    <a:cubicBezTo>
                      <a:pt x="9252" y="3"/>
                      <a:pt x="9253" y="2"/>
                      <a:pt x="9254" y="2"/>
                    </a:cubicBezTo>
                    <a:close/>
                    <a:moveTo>
                      <a:pt x="9262" y="2"/>
                    </a:moveTo>
                    <a:lnTo>
                      <a:pt x="9262" y="2"/>
                    </a:lnTo>
                    <a:cubicBezTo>
                      <a:pt x="9264" y="2"/>
                      <a:pt x="9264" y="3"/>
                      <a:pt x="9264" y="4"/>
                    </a:cubicBezTo>
                    <a:cubicBezTo>
                      <a:pt x="9264" y="5"/>
                      <a:pt x="9264" y="6"/>
                      <a:pt x="9262" y="6"/>
                    </a:cubicBezTo>
                    <a:lnTo>
                      <a:pt x="9262" y="6"/>
                    </a:lnTo>
                    <a:cubicBezTo>
                      <a:pt x="9261" y="6"/>
                      <a:pt x="9260" y="5"/>
                      <a:pt x="9260" y="4"/>
                    </a:cubicBezTo>
                    <a:cubicBezTo>
                      <a:pt x="9260" y="3"/>
                      <a:pt x="9261" y="2"/>
                      <a:pt x="9262" y="2"/>
                    </a:cubicBezTo>
                    <a:close/>
                    <a:moveTo>
                      <a:pt x="9270" y="2"/>
                    </a:moveTo>
                    <a:lnTo>
                      <a:pt x="9270" y="2"/>
                    </a:lnTo>
                    <a:cubicBezTo>
                      <a:pt x="9272" y="2"/>
                      <a:pt x="9272" y="3"/>
                      <a:pt x="9272" y="4"/>
                    </a:cubicBezTo>
                    <a:cubicBezTo>
                      <a:pt x="9272" y="5"/>
                      <a:pt x="9272" y="6"/>
                      <a:pt x="9270" y="6"/>
                    </a:cubicBezTo>
                    <a:lnTo>
                      <a:pt x="9270" y="6"/>
                    </a:lnTo>
                    <a:cubicBezTo>
                      <a:pt x="9269" y="6"/>
                      <a:pt x="9268" y="5"/>
                      <a:pt x="9268" y="4"/>
                    </a:cubicBezTo>
                    <a:cubicBezTo>
                      <a:pt x="9268" y="3"/>
                      <a:pt x="9269" y="2"/>
                      <a:pt x="9270" y="2"/>
                    </a:cubicBezTo>
                    <a:close/>
                    <a:moveTo>
                      <a:pt x="9278" y="2"/>
                    </a:moveTo>
                    <a:lnTo>
                      <a:pt x="9278" y="2"/>
                    </a:lnTo>
                    <a:cubicBezTo>
                      <a:pt x="9280" y="2"/>
                      <a:pt x="9280" y="3"/>
                      <a:pt x="9280" y="4"/>
                    </a:cubicBezTo>
                    <a:cubicBezTo>
                      <a:pt x="9280" y="5"/>
                      <a:pt x="9280" y="6"/>
                      <a:pt x="9278" y="6"/>
                    </a:cubicBezTo>
                    <a:lnTo>
                      <a:pt x="9278" y="6"/>
                    </a:lnTo>
                    <a:cubicBezTo>
                      <a:pt x="9277" y="6"/>
                      <a:pt x="9276" y="5"/>
                      <a:pt x="9276" y="4"/>
                    </a:cubicBezTo>
                    <a:cubicBezTo>
                      <a:pt x="9276" y="3"/>
                      <a:pt x="9277" y="2"/>
                      <a:pt x="9278" y="2"/>
                    </a:cubicBezTo>
                    <a:close/>
                    <a:moveTo>
                      <a:pt x="9286" y="2"/>
                    </a:moveTo>
                    <a:lnTo>
                      <a:pt x="9286" y="2"/>
                    </a:lnTo>
                    <a:cubicBezTo>
                      <a:pt x="9288" y="2"/>
                      <a:pt x="9288" y="3"/>
                      <a:pt x="9288" y="4"/>
                    </a:cubicBezTo>
                    <a:cubicBezTo>
                      <a:pt x="9288" y="5"/>
                      <a:pt x="9288" y="6"/>
                      <a:pt x="9286" y="6"/>
                    </a:cubicBezTo>
                    <a:lnTo>
                      <a:pt x="9286" y="6"/>
                    </a:lnTo>
                    <a:cubicBezTo>
                      <a:pt x="9285" y="6"/>
                      <a:pt x="9284" y="5"/>
                      <a:pt x="9284" y="4"/>
                    </a:cubicBezTo>
                    <a:cubicBezTo>
                      <a:pt x="9284" y="3"/>
                      <a:pt x="9285" y="2"/>
                      <a:pt x="9286" y="2"/>
                    </a:cubicBezTo>
                    <a:close/>
                    <a:moveTo>
                      <a:pt x="9294" y="2"/>
                    </a:moveTo>
                    <a:lnTo>
                      <a:pt x="9294" y="2"/>
                    </a:lnTo>
                    <a:cubicBezTo>
                      <a:pt x="9296" y="2"/>
                      <a:pt x="9296" y="3"/>
                      <a:pt x="9296" y="4"/>
                    </a:cubicBezTo>
                    <a:cubicBezTo>
                      <a:pt x="9296" y="5"/>
                      <a:pt x="9296" y="6"/>
                      <a:pt x="9294" y="6"/>
                    </a:cubicBezTo>
                    <a:lnTo>
                      <a:pt x="9294" y="6"/>
                    </a:lnTo>
                    <a:cubicBezTo>
                      <a:pt x="9293" y="6"/>
                      <a:pt x="9292" y="5"/>
                      <a:pt x="9292" y="4"/>
                    </a:cubicBezTo>
                    <a:cubicBezTo>
                      <a:pt x="9292" y="3"/>
                      <a:pt x="9293" y="2"/>
                      <a:pt x="9294" y="2"/>
                    </a:cubicBezTo>
                    <a:close/>
                    <a:moveTo>
                      <a:pt x="9302" y="2"/>
                    </a:moveTo>
                    <a:lnTo>
                      <a:pt x="9302" y="2"/>
                    </a:lnTo>
                    <a:cubicBezTo>
                      <a:pt x="9304" y="2"/>
                      <a:pt x="9304" y="3"/>
                      <a:pt x="9304" y="4"/>
                    </a:cubicBezTo>
                    <a:cubicBezTo>
                      <a:pt x="9304" y="5"/>
                      <a:pt x="9304" y="6"/>
                      <a:pt x="9302" y="6"/>
                    </a:cubicBezTo>
                    <a:lnTo>
                      <a:pt x="9302" y="6"/>
                    </a:lnTo>
                    <a:cubicBezTo>
                      <a:pt x="9301" y="6"/>
                      <a:pt x="9300" y="5"/>
                      <a:pt x="9300" y="4"/>
                    </a:cubicBezTo>
                    <a:cubicBezTo>
                      <a:pt x="9300" y="3"/>
                      <a:pt x="9301" y="2"/>
                      <a:pt x="9302" y="2"/>
                    </a:cubicBezTo>
                    <a:close/>
                    <a:moveTo>
                      <a:pt x="9310" y="2"/>
                    </a:moveTo>
                    <a:lnTo>
                      <a:pt x="9310" y="2"/>
                    </a:lnTo>
                    <a:cubicBezTo>
                      <a:pt x="9312" y="2"/>
                      <a:pt x="9312" y="3"/>
                      <a:pt x="9312" y="4"/>
                    </a:cubicBezTo>
                    <a:cubicBezTo>
                      <a:pt x="9312" y="5"/>
                      <a:pt x="9312" y="6"/>
                      <a:pt x="9310" y="6"/>
                    </a:cubicBezTo>
                    <a:lnTo>
                      <a:pt x="9310" y="6"/>
                    </a:lnTo>
                    <a:cubicBezTo>
                      <a:pt x="9309" y="6"/>
                      <a:pt x="9308" y="5"/>
                      <a:pt x="9308" y="4"/>
                    </a:cubicBezTo>
                    <a:cubicBezTo>
                      <a:pt x="9308" y="3"/>
                      <a:pt x="9309" y="2"/>
                      <a:pt x="9310" y="2"/>
                    </a:cubicBezTo>
                    <a:close/>
                    <a:moveTo>
                      <a:pt x="9318" y="2"/>
                    </a:moveTo>
                    <a:lnTo>
                      <a:pt x="9319" y="2"/>
                    </a:lnTo>
                    <a:cubicBezTo>
                      <a:pt x="9320" y="2"/>
                      <a:pt x="9321" y="3"/>
                      <a:pt x="9321" y="4"/>
                    </a:cubicBezTo>
                    <a:cubicBezTo>
                      <a:pt x="9321" y="5"/>
                      <a:pt x="9320" y="6"/>
                      <a:pt x="9319" y="6"/>
                    </a:cubicBezTo>
                    <a:lnTo>
                      <a:pt x="9318" y="6"/>
                    </a:lnTo>
                    <a:cubicBezTo>
                      <a:pt x="9317" y="6"/>
                      <a:pt x="9316" y="5"/>
                      <a:pt x="9316" y="4"/>
                    </a:cubicBezTo>
                    <a:cubicBezTo>
                      <a:pt x="9316" y="3"/>
                      <a:pt x="9317" y="2"/>
                      <a:pt x="9318" y="2"/>
                    </a:cubicBezTo>
                    <a:close/>
                    <a:moveTo>
                      <a:pt x="9327" y="2"/>
                    </a:moveTo>
                    <a:lnTo>
                      <a:pt x="9327" y="2"/>
                    </a:lnTo>
                    <a:cubicBezTo>
                      <a:pt x="9328" y="2"/>
                      <a:pt x="9329" y="3"/>
                      <a:pt x="9329" y="4"/>
                    </a:cubicBezTo>
                    <a:cubicBezTo>
                      <a:pt x="9329" y="5"/>
                      <a:pt x="9328" y="6"/>
                      <a:pt x="9327" y="6"/>
                    </a:cubicBezTo>
                    <a:lnTo>
                      <a:pt x="9327" y="6"/>
                    </a:lnTo>
                    <a:cubicBezTo>
                      <a:pt x="9325" y="6"/>
                      <a:pt x="9325" y="5"/>
                      <a:pt x="9325" y="4"/>
                    </a:cubicBezTo>
                    <a:cubicBezTo>
                      <a:pt x="9325" y="3"/>
                      <a:pt x="9325" y="2"/>
                      <a:pt x="9327" y="2"/>
                    </a:cubicBezTo>
                    <a:close/>
                    <a:moveTo>
                      <a:pt x="9335" y="2"/>
                    </a:moveTo>
                    <a:lnTo>
                      <a:pt x="9335" y="2"/>
                    </a:lnTo>
                    <a:cubicBezTo>
                      <a:pt x="9336" y="2"/>
                      <a:pt x="9337" y="3"/>
                      <a:pt x="9337" y="4"/>
                    </a:cubicBezTo>
                    <a:cubicBezTo>
                      <a:pt x="9337" y="5"/>
                      <a:pt x="9336" y="6"/>
                      <a:pt x="9335" y="6"/>
                    </a:cubicBezTo>
                    <a:lnTo>
                      <a:pt x="9335" y="6"/>
                    </a:lnTo>
                    <a:cubicBezTo>
                      <a:pt x="9333" y="6"/>
                      <a:pt x="9333" y="5"/>
                      <a:pt x="9333" y="4"/>
                    </a:cubicBezTo>
                    <a:cubicBezTo>
                      <a:pt x="9333" y="3"/>
                      <a:pt x="9333" y="2"/>
                      <a:pt x="9335" y="2"/>
                    </a:cubicBezTo>
                    <a:close/>
                    <a:moveTo>
                      <a:pt x="9343" y="2"/>
                    </a:moveTo>
                    <a:lnTo>
                      <a:pt x="9343" y="2"/>
                    </a:lnTo>
                    <a:cubicBezTo>
                      <a:pt x="9344" y="2"/>
                      <a:pt x="9345" y="3"/>
                      <a:pt x="9345" y="4"/>
                    </a:cubicBezTo>
                    <a:cubicBezTo>
                      <a:pt x="9345" y="5"/>
                      <a:pt x="9344" y="6"/>
                      <a:pt x="9343" y="6"/>
                    </a:cubicBezTo>
                    <a:lnTo>
                      <a:pt x="9343" y="6"/>
                    </a:lnTo>
                    <a:cubicBezTo>
                      <a:pt x="9341" y="6"/>
                      <a:pt x="9341" y="5"/>
                      <a:pt x="9341" y="4"/>
                    </a:cubicBezTo>
                    <a:cubicBezTo>
                      <a:pt x="9341" y="3"/>
                      <a:pt x="9341" y="2"/>
                      <a:pt x="9343" y="2"/>
                    </a:cubicBezTo>
                    <a:close/>
                    <a:moveTo>
                      <a:pt x="9351" y="2"/>
                    </a:moveTo>
                    <a:lnTo>
                      <a:pt x="9351" y="2"/>
                    </a:lnTo>
                    <a:cubicBezTo>
                      <a:pt x="9352" y="2"/>
                      <a:pt x="9353" y="3"/>
                      <a:pt x="9353" y="4"/>
                    </a:cubicBezTo>
                    <a:cubicBezTo>
                      <a:pt x="9353" y="5"/>
                      <a:pt x="9352" y="6"/>
                      <a:pt x="9351" y="6"/>
                    </a:cubicBezTo>
                    <a:lnTo>
                      <a:pt x="9351" y="6"/>
                    </a:lnTo>
                    <a:cubicBezTo>
                      <a:pt x="9349" y="6"/>
                      <a:pt x="9349" y="5"/>
                      <a:pt x="9349" y="4"/>
                    </a:cubicBezTo>
                    <a:cubicBezTo>
                      <a:pt x="9349" y="3"/>
                      <a:pt x="9349" y="2"/>
                      <a:pt x="9351" y="2"/>
                    </a:cubicBezTo>
                    <a:close/>
                    <a:moveTo>
                      <a:pt x="9359" y="2"/>
                    </a:moveTo>
                    <a:lnTo>
                      <a:pt x="9359" y="2"/>
                    </a:lnTo>
                    <a:cubicBezTo>
                      <a:pt x="9360" y="2"/>
                      <a:pt x="9361" y="3"/>
                      <a:pt x="9361" y="4"/>
                    </a:cubicBezTo>
                    <a:cubicBezTo>
                      <a:pt x="9361" y="5"/>
                      <a:pt x="9360" y="6"/>
                      <a:pt x="9359" y="6"/>
                    </a:cubicBezTo>
                    <a:lnTo>
                      <a:pt x="9359" y="6"/>
                    </a:lnTo>
                    <a:cubicBezTo>
                      <a:pt x="9357" y="6"/>
                      <a:pt x="9357" y="5"/>
                      <a:pt x="9357" y="4"/>
                    </a:cubicBezTo>
                    <a:cubicBezTo>
                      <a:pt x="9357" y="3"/>
                      <a:pt x="9357" y="2"/>
                      <a:pt x="9359" y="2"/>
                    </a:cubicBezTo>
                    <a:close/>
                    <a:moveTo>
                      <a:pt x="9367" y="2"/>
                    </a:moveTo>
                    <a:lnTo>
                      <a:pt x="9367" y="2"/>
                    </a:lnTo>
                    <a:cubicBezTo>
                      <a:pt x="9368" y="2"/>
                      <a:pt x="9369" y="3"/>
                      <a:pt x="9369" y="4"/>
                    </a:cubicBezTo>
                    <a:cubicBezTo>
                      <a:pt x="9369" y="5"/>
                      <a:pt x="9368" y="6"/>
                      <a:pt x="9367" y="6"/>
                    </a:cubicBezTo>
                    <a:lnTo>
                      <a:pt x="9367" y="6"/>
                    </a:lnTo>
                    <a:cubicBezTo>
                      <a:pt x="9365" y="6"/>
                      <a:pt x="9365" y="5"/>
                      <a:pt x="9365" y="4"/>
                    </a:cubicBezTo>
                    <a:cubicBezTo>
                      <a:pt x="9365" y="3"/>
                      <a:pt x="9365" y="2"/>
                      <a:pt x="9367" y="2"/>
                    </a:cubicBezTo>
                    <a:close/>
                    <a:moveTo>
                      <a:pt x="9375" y="2"/>
                    </a:moveTo>
                    <a:lnTo>
                      <a:pt x="9375" y="2"/>
                    </a:lnTo>
                    <a:cubicBezTo>
                      <a:pt x="9376" y="2"/>
                      <a:pt x="9377" y="3"/>
                      <a:pt x="9377" y="4"/>
                    </a:cubicBezTo>
                    <a:cubicBezTo>
                      <a:pt x="9377" y="5"/>
                      <a:pt x="9376" y="6"/>
                      <a:pt x="9375" y="6"/>
                    </a:cubicBezTo>
                    <a:lnTo>
                      <a:pt x="9375" y="6"/>
                    </a:lnTo>
                    <a:cubicBezTo>
                      <a:pt x="9373" y="6"/>
                      <a:pt x="9373" y="5"/>
                      <a:pt x="9373" y="4"/>
                    </a:cubicBezTo>
                    <a:cubicBezTo>
                      <a:pt x="9373" y="3"/>
                      <a:pt x="9373" y="2"/>
                      <a:pt x="9375" y="2"/>
                    </a:cubicBezTo>
                    <a:close/>
                    <a:moveTo>
                      <a:pt x="9383" y="2"/>
                    </a:moveTo>
                    <a:lnTo>
                      <a:pt x="9383" y="2"/>
                    </a:lnTo>
                    <a:cubicBezTo>
                      <a:pt x="9384" y="2"/>
                      <a:pt x="9385" y="3"/>
                      <a:pt x="9385" y="4"/>
                    </a:cubicBezTo>
                    <a:cubicBezTo>
                      <a:pt x="9385" y="5"/>
                      <a:pt x="9384" y="6"/>
                      <a:pt x="9383" y="6"/>
                    </a:cubicBezTo>
                    <a:lnTo>
                      <a:pt x="9383" y="6"/>
                    </a:lnTo>
                    <a:cubicBezTo>
                      <a:pt x="9381" y="6"/>
                      <a:pt x="9381" y="5"/>
                      <a:pt x="9381" y="4"/>
                    </a:cubicBezTo>
                    <a:cubicBezTo>
                      <a:pt x="9381" y="3"/>
                      <a:pt x="9381" y="2"/>
                      <a:pt x="9383" y="2"/>
                    </a:cubicBezTo>
                    <a:close/>
                    <a:moveTo>
                      <a:pt x="9391" y="2"/>
                    </a:moveTo>
                    <a:lnTo>
                      <a:pt x="9391" y="2"/>
                    </a:lnTo>
                    <a:cubicBezTo>
                      <a:pt x="9392" y="2"/>
                      <a:pt x="9393" y="3"/>
                      <a:pt x="9393" y="4"/>
                    </a:cubicBezTo>
                    <a:cubicBezTo>
                      <a:pt x="9393" y="5"/>
                      <a:pt x="9392" y="6"/>
                      <a:pt x="9391" y="6"/>
                    </a:cubicBezTo>
                    <a:lnTo>
                      <a:pt x="9391" y="6"/>
                    </a:lnTo>
                    <a:cubicBezTo>
                      <a:pt x="9389" y="6"/>
                      <a:pt x="9389" y="5"/>
                      <a:pt x="9389" y="4"/>
                    </a:cubicBezTo>
                    <a:cubicBezTo>
                      <a:pt x="9389" y="3"/>
                      <a:pt x="9389" y="2"/>
                      <a:pt x="9391" y="2"/>
                    </a:cubicBezTo>
                    <a:close/>
                    <a:moveTo>
                      <a:pt x="9399" y="2"/>
                    </a:moveTo>
                    <a:lnTo>
                      <a:pt x="9399" y="2"/>
                    </a:lnTo>
                    <a:cubicBezTo>
                      <a:pt x="9400" y="2"/>
                      <a:pt x="9401" y="3"/>
                      <a:pt x="9401" y="4"/>
                    </a:cubicBezTo>
                    <a:cubicBezTo>
                      <a:pt x="9401" y="5"/>
                      <a:pt x="9400" y="6"/>
                      <a:pt x="9399" y="6"/>
                    </a:cubicBezTo>
                    <a:lnTo>
                      <a:pt x="9399" y="6"/>
                    </a:lnTo>
                    <a:cubicBezTo>
                      <a:pt x="9397" y="6"/>
                      <a:pt x="9397" y="5"/>
                      <a:pt x="9397" y="4"/>
                    </a:cubicBezTo>
                    <a:cubicBezTo>
                      <a:pt x="9397" y="3"/>
                      <a:pt x="9397" y="2"/>
                      <a:pt x="9399" y="2"/>
                    </a:cubicBezTo>
                    <a:close/>
                    <a:moveTo>
                      <a:pt x="9407" y="2"/>
                    </a:moveTo>
                    <a:lnTo>
                      <a:pt x="9407" y="2"/>
                    </a:lnTo>
                    <a:cubicBezTo>
                      <a:pt x="9408" y="2"/>
                      <a:pt x="9409" y="3"/>
                      <a:pt x="9409" y="4"/>
                    </a:cubicBezTo>
                    <a:cubicBezTo>
                      <a:pt x="9409" y="5"/>
                      <a:pt x="9408" y="6"/>
                      <a:pt x="9407" y="6"/>
                    </a:cubicBezTo>
                    <a:lnTo>
                      <a:pt x="9407" y="6"/>
                    </a:lnTo>
                    <a:cubicBezTo>
                      <a:pt x="9405" y="6"/>
                      <a:pt x="9405" y="5"/>
                      <a:pt x="9405" y="4"/>
                    </a:cubicBezTo>
                    <a:cubicBezTo>
                      <a:pt x="9405" y="3"/>
                      <a:pt x="9405" y="2"/>
                      <a:pt x="9407" y="2"/>
                    </a:cubicBezTo>
                    <a:close/>
                    <a:moveTo>
                      <a:pt x="9415" y="2"/>
                    </a:moveTo>
                    <a:lnTo>
                      <a:pt x="9415" y="2"/>
                    </a:lnTo>
                    <a:cubicBezTo>
                      <a:pt x="9416" y="2"/>
                      <a:pt x="9417" y="3"/>
                      <a:pt x="9417" y="4"/>
                    </a:cubicBezTo>
                    <a:cubicBezTo>
                      <a:pt x="9417" y="5"/>
                      <a:pt x="9416" y="6"/>
                      <a:pt x="9415" y="6"/>
                    </a:cubicBezTo>
                    <a:lnTo>
                      <a:pt x="9415" y="6"/>
                    </a:lnTo>
                    <a:cubicBezTo>
                      <a:pt x="9413" y="6"/>
                      <a:pt x="9413" y="5"/>
                      <a:pt x="9413" y="4"/>
                    </a:cubicBezTo>
                    <a:cubicBezTo>
                      <a:pt x="9413" y="3"/>
                      <a:pt x="9413" y="2"/>
                      <a:pt x="9415" y="2"/>
                    </a:cubicBezTo>
                    <a:close/>
                    <a:moveTo>
                      <a:pt x="9423" y="2"/>
                    </a:moveTo>
                    <a:lnTo>
                      <a:pt x="9423" y="2"/>
                    </a:lnTo>
                    <a:cubicBezTo>
                      <a:pt x="9424" y="2"/>
                      <a:pt x="9425" y="3"/>
                      <a:pt x="9425" y="4"/>
                    </a:cubicBezTo>
                    <a:cubicBezTo>
                      <a:pt x="9425" y="5"/>
                      <a:pt x="9424" y="6"/>
                      <a:pt x="9423" y="6"/>
                    </a:cubicBezTo>
                    <a:lnTo>
                      <a:pt x="9423" y="6"/>
                    </a:lnTo>
                    <a:cubicBezTo>
                      <a:pt x="9421" y="6"/>
                      <a:pt x="9421" y="5"/>
                      <a:pt x="9421" y="4"/>
                    </a:cubicBezTo>
                    <a:cubicBezTo>
                      <a:pt x="9421" y="3"/>
                      <a:pt x="9421" y="2"/>
                      <a:pt x="9423" y="2"/>
                    </a:cubicBezTo>
                    <a:close/>
                    <a:moveTo>
                      <a:pt x="9431" y="2"/>
                    </a:moveTo>
                    <a:lnTo>
                      <a:pt x="9431" y="2"/>
                    </a:lnTo>
                    <a:cubicBezTo>
                      <a:pt x="9432" y="2"/>
                      <a:pt x="9433" y="3"/>
                      <a:pt x="9433" y="4"/>
                    </a:cubicBezTo>
                    <a:cubicBezTo>
                      <a:pt x="9433" y="5"/>
                      <a:pt x="9432" y="6"/>
                      <a:pt x="9431" y="6"/>
                    </a:cubicBezTo>
                    <a:lnTo>
                      <a:pt x="9431" y="6"/>
                    </a:lnTo>
                    <a:cubicBezTo>
                      <a:pt x="9429" y="6"/>
                      <a:pt x="9429" y="5"/>
                      <a:pt x="9429" y="4"/>
                    </a:cubicBezTo>
                    <a:cubicBezTo>
                      <a:pt x="9429" y="3"/>
                      <a:pt x="9429" y="2"/>
                      <a:pt x="9431" y="2"/>
                    </a:cubicBezTo>
                    <a:close/>
                    <a:moveTo>
                      <a:pt x="9439" y="2"/>
                    </a:moveTo>
                    <a:lnTo>
                      <a:pt x="9439" y="2"/>
                    </a:lnTo>
                    <a:cubicBezTo>
                      <a:pt x="9440" y="2"/>
                      <a:pt x="9441" y="3"/>
                      <a:pt x="9441" y="4"/>
                    </a:cubicBezTo>
                    <a:cubicBezTo>
                      <a:pt x="9441" y="5"/>
                      <a:pt x="9440" y="6"/>
                      <a:pt x="9439" y="6"/>
                    </a:cubicBezTo>
                    <a:lnTo>
                      <a:pt x="9439" y="6"/>
                    </a:lnTo>
                    <a:cubicBezTo>
                      <a:pt x="9437" y="6"/>
                      <a:pt x="9437" y="5"/>
                      <a:pt x="9437" y="4"/>
                    </a:cubicBezTo>
                    <a:cubicBezTo>
                      <a:pt x="9437" y="3"/>
                      <a:pt x="9437" y="2"/>
                      <a:pt x="9439" y="2"/>
                    </a:cubicBezTo>
                    <a:close/>
                    <a:moveTo>
                      <a:pt x="9447" y="2"/>
                    </a:moveTo>
                    <a:lnTo>
                      <a:pt x="9447" y="2"/>
                    </a:lnTo>
                    <a:cubicBezTo>
                      <a:pt x="9448" y="2"/>
                      <a:pt x="9449" y="3"/>
                      <a:pt x="9449" y="4"/>
                    </a:cubicBezTo>
                    <a:cubicBezTo>
                      <a:pt x="9449" y="5"/>
                      <a:pt x="9448" y="6"/>
                      <a:pt x="9447" y="6"/>
                    </a:cubicBezTo>
                    <a:lnTo>
                      <a:pt x="9447" y="6"/>
                    </a:lnTo>
                    <a:cubicBezTo>
                      <a:pt x="9445" y="6"/>
                      <a:pt x="9445" y="5"/>
                      <a:pt x="9445" y="4"/>
                    </a:cubicBezTo>
                    <a:cubicBezTo>
                      <a:pt x="9445" y="3"/>
                      <a:pt x="9445" y="2"/>
                      <a:pt x="9447" y="2"/>
                    </a:cubicBezTo>
                    <a:close/>
                    <a:moveTo>
                      <a:pt x="9455" y="2"/>
                    </a:moveTo>
                    <a:lnTo>
                      <a:pt x="9455" y="2"/>
                    </a:lnTo>
                    <a:cubicBezTo>
                      <a:pt x="9456" y="2"/>
                      <a:pt x="9457" y="3"/>
                      <a:pt x="9457" y="4"/>
                    </a:cubicBezTo>
                    <a:cubicBezTo>
                      <a:pt x="9457" y="5"/>
                      <a:pt x="9456" y="6"/>
                      <a:pt x="9455" y="6"/>
                    </a:cubicBezTo>
                    <a:lnTo>
                      <a:pt x="9455" y="6"/>
                    </a:lnTo>
                    <a:cubicBezTo>
                      <a:pt x="9453" y="6"/>
                      <a:pt x="9453" y="5"/>
                      <a:pt x="9453" y="4"/>
                    </a:cubicBezTo>
                    <a:cubicBezTo>
                      <a:pt x="9453" y="3"/>
                      <a:pt x="9453" y="2"/>
                      <a:pt x="9455" y="2"/>
                    </a:cubicBezTo>
                    <a:close/>
                    <a:moveTo>
                      <a:pt x="9463" y="2"/>
                    </a:moveTo>
                    <a:lnTo>
                      <a:pt x="9463" y="2"/>
                    </a:lnTo>
                    <a:cubicBezTo>
                      <a:pt x="9464" y="2"/>
                      <a:pt x="9465" y="3"/>
                      <a:pt x="9465" y="4"/>
                    </a:cubicBezTo>
                    <a:cubicBezTo>
                      <a:pt x="9465" y="5"/>
                      <a:pt x="9464" y="6"/>
                      <a:pt x="9463" y="6"/>
                    </a:cubicBezTo>
                    <a:lnTo>
                      <a:pt x="9463" y="6"/>
                    </a:lnTo>
                    <a:cubicBezTo>
                      <a:pt x="9461" y="6"/>
                      <a:pt x="9461" y="5"/>
                      <a:pt x="9461" y="4"/>
                    </a:cubicBezTo>
                    <a:cubicBezTo>
                      <a:pt x="9461" y="3"/>
                      <a:pt x="9461" y="2"/>
                      <a:pt x="9463" y="2"/>
                    </a:cubicBezTo>
                    <a:close/>
                    <a:moveTo>
                      <a:pt x="9471" y="2"/>
                    </a:moveTo>
                    <a:lnTo>
                      <a:pt x="9471" y="2"/>
                    </a:lnTo>
                    <a:cubicBezTo>
                      <a:pt x="9472" y="2"/>
                      <a:pt x="9473" y="3"/>
                      <a:pt x="9473" y="4"/>
                    </a:cubicBezTo>
                    <a:cubicBezTo>
                      <a:pt x="9473" y="5"/>
                      <a:pt x="9472" y="6"/>
                      <a:pt x="9471" y="6"/>
                    </a:cubicBezTo>
                    <a:lnTo>
                      <a:pt x="9471" y="6"/>
                    </a:lnTo>
                    <a:cubicBezTo>
                      <a:pt x="9469" y="6"/>
                      <a:pt x="9469" y="5"/>
                      <a:pt x="9469" y="4"/>
                    </a:cubicBezTo>
                    <a:cubicBezTo>
                      <a:pt x="9469" y="3"/>
                      <a:pt x="9469" y="2"/>
                      <a:pt x="9471" y="2"/>
                    </a:cubicBezTo>
                    <a:close/>
                    <a:moveTo>
                      <a:pt x="9479" y="2"/>
                    </a:moveTo>
                    <a:lnTo>
                      <a:pt x="9479" y="2"/>
                    </a:lnTo>
                    <a:cubicBezTo>
                      <a:pt x="9480" y="2"/>
                      <a:pt x="9481" y="3"/>
                      <a:pt x="9481" y="4"/>
                    </a:cubicBezTo>
                    <a:cubicBezTo>
                      <a:pt x="9481" y="5"/>
                      <a:pt x="9480" y="6"/>
                      <a:pt x="9479" y="6"/>
                    </a:cubicBezTo>
                    <a:lnTo>
                      <a:pt x="9479" y="6"/>
                    </a:lnTo>
                    <a:cubicBezTo>
                      <a:pt x="9477" y="6"/>
                      <a:pt x="9477" y="5"/>
                      <a:pt x="9477" y="4"/>
                    </a:cubicBezTo>
                    <a:cubicBezTo>
                      <a:pt x="9477" y="3"/>
                      <a:pt x="9477" y="2"/>
                      <a:pt x="9479" y="2"/>
                    </a:cubicBezTo>
                    <a:close/>
                    <a:moveTo>
                      <a:pt x="9487" y="2"/>
                    </a:moveTo>
                    <a:lnTo>
                      <a:pt x="9487" y="2"/>
                    </a:lnTo>
                    <a:cubicBezTo>
                      <a:pt x="9488" y="2"/>
                      <a:pt x="9489" y="3"/>
                      <a:pt x="9489" y="4"/>
                    </a:cubicBezTo>
                    <a:cubicBezTo>
                      <a:pt x="9489" y="5"/>
                      <a:pt x="9488" y="6"/>
                      <a:pt x="9487" y="6"/>
                    </a:cubicBezTo>
                    <a:lnTo>
                      <a:pt x="9487" y="6"/>
                    </a:lnTo>
                    <a:cubicBezTo>
                      <a:pt x="9485" y="6"/>
                      <a:pt x="9485" y="5"/>
                      <a:pt x="9485" y="4"/>
                    </a:cubicBezTo>
                    <a:cubicBezTo>
                      <a:pt x="9485" y="3"/>
                      <a:pt x="9485" y="2"/>
                      <a:pt x="9487" y="2"/>
                    </a:cubicBezTo>
                    <a:close/>
                    <a:moveTo>
                      <a:pt x="9495" y="2"/>
                    </a:moveTo>
                    <a:lnTo>
                      <a:pt x="9495" y="2"/>
                    </a:lnTo>
                    <a:cubicBezTo>
                      <a:pt x="9496" y="2"/>
                      <a:pt x="9497" y="3"/>
                      <a:pt x="9497" y="4"/>
                    </a:cubicBezTo>
                    <a:cubicBezTo>
                      <a:pt x="9497" y="5"/>
                      <a:pt x="9496" y="6"/>
                      <a:pt x="9495" y="6"/>
                    </a:cubicBezTo>
                    <a:lnTo>
                      <a:pt x="9495" y="6"/>
                    </a:lnTo>
                    <a:cubicBezTo>
                      <a:pt x="9493" y="6"/>
                      <a:pt x="9493" y="5"/>
                      <a:pt x="9493" y="4"/>
                    </a:cubicBezTo>
                    <a:cubicBezTo>
                      <a:pt x="9493" y="3"/>
                      <a:pt x="9493" y="2"/>
                      <a:pt x="9495" y="2"/>
                    </a:cubicBezTo>
                    <a:close/>
                    <a:moveTo>
                      <a:pt x="9503" y="2"/>
                    </a:moveTo>
                    <a:lnTo>
                      <a:pt x="9503" y="2"/>
                    </a:lnTo>
                    <a:cubicBezTo>
                      <a:pt x="9504" y="2"/>
                      <a:pt x="9505" y="3"/>
                      <a:pt x="9505" y="4"/>
                    </a:cubicBezTo>
                    <a:cubicBezTo>
                      <a:pt x="9505" y="5"/>
                      <a:pt x="9504" y="6"/>
                      <a:pt x="9503" y="6"/>
                    </a:cubicBezTo>
                    <a:lnTo>
                      <a:pt x="9503" y="6"/>
                    </a:lnTo>
                    <a:cubicBezTo>
                      <a:pt x="9502" y="6"/>
                      <a:pt x="9501" y="5"/>
                      <a:pt x="9501" y="4"/>
                    </a:cubicBezTo>
                    <a:cubicBezTo>
                      <a:pt x="9501" y="3"/>
                      <a:pt x="9502" y="2"/>
                      <a:pt x="9503" y="2"/>
                    </a:cubicBezTo>
                    <a:close/>
                    <a:moveTo>
                      <a:pt x="9511" y="2"/>
                    </a:moveTo>
                    <a:lnTo>
                      <a:pt x="9511" y="2"/>
                    </a:lnTo>
                    <a:cubicBezTo>
                      <a:pt x="9512" y="2"/>
                      <a:pt x="9513" y="3"/>
                      <a:pt x="9513" y="4"/>
                    </a:cubicBezTo>
                    <a:cubicBezTo>
                      <a:pt x="9513" y="5"/>
                      <a:pt x="9512" y="6"/>
                      <a:pt x="9511" y="6"/>
                    </a:cubicBezTo>
                    <a:lnTo>
                      <a:pt x="9511" y="6"/>
                    </a:lnTo>
                    <a:cubicBezTo>
                      <a:pt x="9510" y="6"/>
                      <a:pt x="9509" y="5"/>
                      <a:pt x="9509" y="4"/>
                    </a:cubicBezTo>
                    <a:cubicBezTo>
                      <a:pt x="9509" y="3"/>
                      <a:pt x="9510" y="2"/>
                      <a:pt x="9511" y="2"/>
                    </a:cubicBezTo>
                    <a:close/>
                    <a:moveTo>
                      <a:pt x="9519" y="2"/>
                    </a:moveTo>
                    <a:lnTo>
                      <a:pt x="9519" y="2"/>
                    </a:lnTo>
                    <a:cubicBezTo>
                      <a:pt x="9520" y="2"/>
                      <a:pt x="9521" y="3"/>
                      <a:pt x="9521" y="4"/>
                    </a:cubicBezTo>
                    <a:cubicBezTo>
                      <a:pt x="9521" y="5"/>
                      <a:pt x="9520" y="6"/>
                      <a:pt x="9519" y="6"/>
                    </a:cubicBezTo>
                    <a:lnTo>
                      <a:pt x="9519" y="6"/>
                    </a:lnTo>
                    <a:cubicBezTo>
                      <a:pt x="9518" y="6"/>
                      <a:pt x="9517" y="5"/>
                      <a:pt x="9517" y="4"/>
                    </a:cubicBezTo>
                    <a:cubicBezTo>
                      <a:pt x="9517" y="3"/>
                      <a:pt x="9518" y="2"/>
                      <a:pt x="9519" y="2"/>
                    </a:cubicBezTo>
                    <a:close/>
                    <a:moveTo>
                      <a:pt x="9527" y="2"/>
                    </a:moveTo>
                    <a:lnTo>
                      <a:pt x="9527" y="2"/>
                    </a:lnTo>
                    <a:cubicBezTo>
                      <a:pt x="9528" y="2"/>
                      <a:pt x="9529" y="3"/>
                      <a:pt x="9529" y="4"/>
                    </a:cubicBezTo>
                    <a:cubicBezTo>
                      <a:pt x="9529" y="5"/>
                      <a:pt x="9528" y="6"/>
                      <a:pt x="9527" y="6"/>
                    </a:cubicBezTo>
                    <a:lnTo>
                      <a:pt x="9527" y="6"/>
                    </a:lnTo>
                    <a:cubicBezTo>
                      <a:pt x="9526" y="6"/>
                      <a:pt x="9525" y="5"/>
                      <a:pt x="9525" y="4"/>
                    </a:cubicBezTo>
                    <a:cubicBezTo>
                      <a:pt x="9525" y="3"/>
                      <a:pt x="9526" y="2"/>
                      <a:pt x="9527" y="2"/>
                    </a:cubicBezTo>
                    <a:close/>
                    <a:moveTo>
                      <a:pt x="9535" y="2"/>
                    </a:moveTo>
                    <a:lnTo>
                      <a:pt x="9535" y="2"/>
                    </a:lnTo>
                    <a:cubicBezTo>
                      <a:pt x="9536" y="2"/>
                      <a:pt x="9537" y="3"/>
                      <a:pt x="9537" y="4"/>
                    </a:cubicBezTo>
                    <a:cubicBezTo>
                      <a:pt x="9537" y="5"/>
                      <a:pt x="9536" y="6"/>
                      <a:pt x="9535" y="6"/>
                    </a:cubicBezTo>
                    <a:lnTo>
                      <a:pt x="9535" y="6"/>
                    </a:lnTo>
                    <a:cubicBezTo>
                      <a:pt x="9534" y="6"/>
                      <a:pt x="9533" y="5"/>
                      <a:pt x="9533" y="4"/>
                    </a:cubicBezTo>
                    <a:cubicBezTo>
                      <a:pt x="9533" y="3"/>
                      <a:pt x="9534" y="2"/>
                      <a:pt x="9535" y="2"/>
                    </a:cubicBezTo>
                    <a:close/>
                    <a:moveTo>
                      <a:pt x="9543" y="2"/>
                    </a:moveTo>
                    <a:lnTo>
                      <a:pt x="9543" y="2"/>
                    </a:lnTo>
                    <a:cubicBezTo>
                      <a:pt x="9544" y="2"/>
                      <a:pt x="9545" y="3"/>
                      <a:pt x="9545" y="4"/>
                    </a:cubicBezTo>
                    <a:cubicBezTo>
                      <a:pt x="9545" y="5"/>
                      <a:pt x="9544" y="6"/>
                      <a:pt x="9543" y="6"/>
                    </a:cubicBezTo>
                    <a:lnTo>
                      <a:pt x="9543" y="6"/>
                    </a:lnTo>
                    <a:cubicBezTo>
                      <a:pt x="9542" y="6"/>
                      <a:pt x="9541" y="5"/>
                      <a:pt x="9541" y="4"/>
                    </a:cubicBezTo>
                    <a:cubicBezTo>
                      <a:pt x="9541" y="3"/>
                      <a:pt x="9542" y="2"/>
                      <a:pt x="9543" y="2"/>
                    </a:cubicBezTo>
                    <a:close/>
                    <a:moveTo>
                      <a:pt x="9551" y="2"/>
                    </a:moveTo>
                    <a:lnTo>
                      <a:pt x="9551" y="2"/>
                    </a:lnTo>
                    <a:cubicBezTo>
                      <a:pt x="9552" y="2"/>
                      <a:pt x="9553" y="3"/>
                      <a:pt x="9553" y="4"/>
                    </a:cubicBezTo>
                    <a:cubicBezTo>
                      <a:pt x="9553" y="5"/>
                      <a:pt x="9552" y="6"/>
                      <a:pt x="9551" y="6"/>
                    </a:cubicBezTo>
                    <a:lnTo>
                      <a:pt x="9551" y="6"/>
                    </a:lnTo>
                    <a:cubicBezTo>
                      <a:pt x="9550" y="6"/>
                      <a:pt x="9549" y="5"/>
                      <a:pt x="9549" y="4"/>
                    </a:cubicBezTo>
                    <a:cubicBezTo>
                      <a:pt x="9549" y="3"/>
                      <a:pt x="9550" y="2"/>
                      <a:pt x="9551" y="2"/>
                    </a:cubicBezTo>
                    <a:close/>
                    <a:moveTo>
                      <a:pt x="9559" y="2"/>
                    </a:moveTo>
                    <a:lnTo>
                      <a:pt x="9559" y="2"/>
                    </a:lnTo>
                    <a:cubicBezTo>
                      <a:pt x="9560" y="2"/>
                      <a:pt x="9561" y="3"/>
                      <a:pt x="9561" y="4"/>
                    </a:cubicBezTo>
                    <a:cubicBezTo>
                      <a:pt x="9561" y="5"/>
                      <a:pt x="9560" y="6"/>
                      <a:pt x="9559" y="6"/>
                    </a:cubicBezTo>
                    <a:lnTo>
                      <a:pt x="9559" y="6"/>
                    </a:lnTo>
                    <a:cubicBezTo>
                      <a:pt x="9558" y="6"/>
                      <a:pt x="9557" y="5"/>
                      <a:pt x="9557" y="4"/>
                    </a:cubicBezTo>
                    <a:cubicBezTo>
                      <a:pt x="9557" y="3"/>
                      <a:pt x="9558" y="2"/>
                      <a:pt x="9559" y="2"/>
                    </a:cubicBezTo>
                    <a:close/>
                    <a:moveTo>
                      <a:pt x="9567" y="2"/>
                    </a:moveTo>
                    <a:lnTo>
                      <a:pt x="9567" y="2"/>
                    </a:lnTo>
                    <a:cubicBezTo>
                      <a:pt x="9568" y="2"/>
                      <a:pt x="9569" y="3"/>
                      <a:pt x="9569" y="4"/>
                    </a:cubicBezTo>
                    <a:cubicBezTo>
                      <a:pt x="9569" y="5"/>
                      <a:pt x="9568" y="6"/>
                      <a:pt x="9567" y="6"/>
                    </a:cubicBezTo>
                    <a:lnTo>
                      <a:pt x="9567" y="6"/>
                    </a:lnTo>
                    <a:cubicBezTo>
                      <a:pt x="9566" y="6"/>
                      <a:pt x="9565" y="5"/>
                      <a:pt x="9565" y="4"/>
                    </a:cubicBezTo>
                    <a:cubicBezTo>
                      <a:pt x="9565" y="3"/>
                      <a:pt x="9566" y="2"/>
                      <a:pt x="9567" y="2"/>
                    </a:cubicBezTo>
                    <a:close/>
                    <a:moveTo>
                      <a:pt x="9575" y="2"/>
                    </a:moveTo>
                    <a:lnTo>
                      <a:pt x="9575" y="2"/>
                    </a:lnTo>
                    <a:cubicBezTo>
                      <a:pt x="9576" y="2"/>
                      <a:pt x="9577" y="3"/>
                      <a:pt x="9577" y="4"/>
                    </a:cubicBezTo>
                    <a:cubicBezTo>
                      <a:pt x="9577" y="5"/>
                      <a:pt x="9576" y="6"/>
                      <a:pt x="9575" y="6"/>
                    </a:cubicBezTo>
                    <a:lnTo>
                      <a:pt x="9575" y="6"/>
                    </a:lnTo>
                    <a:cubicBezTo>
                      <a:pt x="9574" y="6"/>
                      <a:pt x="9573" y="5"/>
                      <a:pt x="9573" y="4"/>
                    </a:cubicBezTo>
                    <a:cubicBezTo>
                      <a:pt x="9573" y="3"/>
                      <a:pt x="9574" y="2"/>
                      <a:pt x="9575" y="2"/>
                    </a:cubicBezTo>
                    <a:close/>
                    <a:moveTo>
                      <a:pt x="9583" y="2"/>
                    </a:moveTo>
                    <a:lnTo>
                      <a:pt x="9583" y="2"/>
                    </a:lnTo>
                    <a:cubicBezTo>
                      <a:pt x="9584" y="2"/>
                      <a:pt x="9585" y="3"/>
                      <a:pt x="9585" y="4"/>
                    </a:cubicBezTo>
                    <a:cubicBezTo>
                      <a:pt x="9585" y="5"/>
                      <a:pt x="9584" y="6"/>
                      <a:pt x="9583" y="6"/>
                    </a:cubicBezTo>
                    <a:lnTo>
                      <a:pt x="9583" y="6"/>
                    </a:lnTo>
                    <a:cubicBezTo>
                      <a:pt x="9582" y="6"/>
                      <a:pt x="9581" y="5"/>
                      <a:pt x="9581" y="4"/>
                    </a:cubicBezTo>
                    <a:cubicBezTo>
                      <a:pt x="9581" y="3"/>
                      <a:pt x="9582" y="2"/>
                      <a:pt x="9583" y="2"/>
                    </a:cubicBezTo>
                    <a:close/>
                    <a:moveTo>
                      <a:pt x="9591" y="2"/>
                    </a:moveTo>
                    <a:lnTo>
                      <a:pt x="9591" y="2"/>
                    </a:lnTo>
                    <a:cubicBezTo>
                      <a:pt x="9592" y="2"/>
                      <a:pt x="9593" y="3"/>
                      <a:pt x="9593" y="4"/>
                    </a:cubicBezTo>
                    <a:cubicBezTo>
                      <a:pt x="9593" y="5"/>
                      <a:pt x="9592" y="6"/>
                      <a:pt x="9591" y="6"/>
                    </a:cubicBezTo>
                    <a:lnTo>
                      <a:pt x="9591" y="6"/>
                    </a:lnTo>
                    <a:cubicBezTo>
                      <a:pt x="9590" y="6"/>
                      <a:pt x="9589" y="5"/>
                      <a:pt x="9589" y="4"/>
                    </a:cubicBezTo>
                    <a:cubicBezTo>
                      <a:pt x="9589" y="3"/>
                      <a:pt x="9590" y="2"/>
                      <a:pt x="9591" y="2"/>
                    </a:cubicBezTo>
                    <a:close/>
                    <a:moveTo>
                      <a:pt x="9599" y="2"/>
                    </a:moveTo>
                    <a:lnTo>
                      <a:pt x="9599" y="2"/>
                    </a:lnTo>
                    <a:cubicBezTo>
                      <a:pt x="9600" y="2"/>
                      <a:pt x="9601" y="3"/>
                      <a:pt x="9601" y="4"/>
                    </a:cubicBezTo>
                    <a:cubicBezTo>
                      <a:pt x="9601" y="5"/>
                      <a:pt x="9600" y="6"/>
                      <a:pt x="9599" y="6"/>
                    </a:cubicBezTo>
                    <a:lnTo>
                      <a:pt x="9599" y="6"/>
                    </a:lnTo>
                    <a:cubicBezTo>
                      <a:pt x="9598" y="6"/>
                      <a:pt x="9597" y="5"/>
                      <a:pt x="9597" y="4"/>
                    </a:cubicBezTo>
                    <a:cubicBezTo>
                      <a:pt x="9597" y="3"/>
                      <a:pt x="9598" y="2"/>
                      <a:pt x="9599" y="2"/>
                    </a:cubicBezTo>
                    <a:close/>
                    <a:moveTo>
                      <a:pt x="9607" y="2"/>
                    </a:moveTo>
                    <a:lnTo>
                      <a:pt x="9607" y="2"/>
                    </a:lnTo>
                    <a:cubicBezTo>
                      <a:pt x="9608" y="2"/>
                      <a:pt x="9609" y="3"/>
                      <a:pt x="9609" y="4"/>
                    </a:cubicBezTo>
                    <a:cubicBezTo>
                      <a:pt x="9609" y="5"/>
                      <a:pt x="9608" y="6"/>
                      <a:pt x="9607" y="6"/>
                    </a:cubicBezTo>
                    <a:lnTo>
                      <a:pt x="9607" y="6"/>
                    </a:lnTo>
                    <a:cubicBezTo>
                      <a:pt x="9606" y="6"/>
                      <a:pt x="9605" y="5"/>
                      <a:pt x="9605" y="4"/>
                    </a:cubicBezTo>
                    <a:cubicBezTo>
                      <a:pt x="9605" y="3"/>
                      <a:pt x="9606" y="2"/>
                      <a:pt x="9607" y="2"/>
                    </a:cubicBezTo>
                    <a:close/>
                    <a:moveTo>
                      <a:pt x="9615" y="2"/>
                    </a:moveTo>
                    <a:lnTo>
                      <a:pt x="9615" y="2"/>
                    </a:lnTo>
                    <a:cubicBezTo>
                      <a:pt x="9616" y="2"/>
                      <a:pt x="9617" y="3"/>
                      <a:pt x="9617" y="4"/>
                    </a:cubicBezTo>
                    <a:cubicBezTo>
                      <a:pt x="9617" y="5"/>
                      <a:pt x="9616" y="6"/>
                      <a:pt x="9615" y="6"/>
                    </a:cubicBezTo>
                    <a:lnTo>
                      <a:pt x="9615" y="6"/>
                    </a:lnTo>
                    <a:cubicBezTo>
                      <a:pt x="9614" y="6"/>
                      <a:pt x="9613" y="5"/>
                      <a:pt x="9613" y="4"/>
                    </a:cubicBezTo>
                    <a:cubicBezTo>
                      <a:pt x="9613" y="3"/>
                      <a:pt x="9614" y="2"/>
                      <a:pt x="9615" y="2"/>
                    </a:cubicBezTo>
                    <a:close/>
                    <a:moveTo>
                      <a:pt x="9623" y="2"/>
                    </a:moveTo>
                    <a:lnTo>
                      <a:pt x="9623" y="2"/>
                    </a:lnTo>
                    <a:cubicBezTo>
                      <a:pt x="9624" y="2"/>
                      <a:pt x="9625" y="3"/>
                      <a:pt x="9625" y="4"/>
                    </a:cubicBezTo>
                    <a:cubicBezTo>
                      <a:pt x="9625" y="5"/>
                      <a:pt x="9624" y="6"/>
                      <a:pt x="9623" y="6"/>
                    </a:cubicBezTo>
                    <a:lnTo>
                      <a:pt x="9623" y="6"/>
                    </a:lnTo>
                    <a:cubicBezTo>
                      <a:pt x="9622" y="6"/>
                      <a:pt x="9621" y="5"/>
                      <a:pt x="9621" y="4"/>
                    </a:cubicBezTo>
                    <a:cubicBezTo>
                      <a:pt x="9621" y="3"/>
                      <a:pt x="9622" y="2"/>
                      <a:pt x="9623" y="2"/>
                    </a:cubicBezTo>
                    <a:close/>
                    <a:moveTo>
                      <a:pt x="9631" y="2"/>
                    </a:moveTo>
                    <a:lnTo>
                      <a:pt x="9631" y="2"/>
                    </a:lnTo>
                    <a:cubicBezTo>
                      <a:pt x="9632" y="2"/>
                      <a:pt x="9633" y="3"/>
                      <a:pt x="9633" y="4"/>
                    </a:cubicBezTo>
                    <a:cubicBezTo>
                      <a:pt x="9633" y="5"/>
                      <a:pt x="9632" y="6"/>
                      <a:pt x="9631" y="6"/>
                    </a:cubicBezTo>
                    <a:lnTo>
                      <a:pt x="9631" y="6"/>
                    </a:lnTo>
                    <a:cubicBezTo>
                      <a:pt x="9630" y="6"/>
                      <a:pt x="9629" y="5"/>
                      <a:pt x="9629" y="4"/>
                    </a:cubicBezTo>
                    <a:cubicBezTo>
                      <a:pt x="9629" y="3"/>
                      <a:pt x="9630" y="2"/>
                      <a:pt x="9631" y="2"/>
                    </a:cubicBezTo>
                    <a:close/>
                    <a:moveTo>
                      <a:pt x="9639" y="2"/>
                    </a:moveTo>
                    <a:lnTo>
                      <a:pt x="9639" y="2"/>
                    </a:lnTo>
                    <a:cubicBezTo>
                      <a:pt x="9640" y="2"/>
                      <a:pt x="9641" y="3"/>
                      <a:pt x="9641" y="4"/>
                    </a:cubicBezTo>
                    <a:cubicBezTo>
                      <a:pt x="9641" y="5"/>
                      <a:pt x="9640" y="6"/>
                      <a:pt x="9639" y="6"/>
                    </a:cubicBezTo>
                    <a:lnTo>
                      <a:pt x="9639" y="6"/>
                    </a:lnTo>
                    <a:cubicBezTo>
                      <a:pt x="9638" y="6"/>
                      <a:pt x="9637" y="5"/>
                      <a:pt x="9637" y="4"/>
                    </a:cubicBezTo>
                    <a:cubicBezTo>
                      <a:pt x="9637" y="3"/>
                      <a:pt x="9638" y="2"/>
                      <a:pt x="9639" y="2"/>
                    </a:cubicBezTo>
                    <a:close/>
                    <a:moveTo>
                      <a:pt x="9647" y="2"/>
                    </a:moveTo>
                    <a:lnTo>
                      <a:pt x="9647" y="2"/>
                    </a:lnTo>
                    <a:cubicBezTo>
                      <a:pt x="9648" y="2"/>
                      <a:pt x="9649" y="3"/>
                      <a:pt x="9649" y="4"/>
                    </a:cubicBezTo>
                    <a:cubicBezTo>
                      <a:pt x="9649" y="5"/>
                      <a:pt x="9648" y="6"/>
                      <a:pt x="9647" y="6"/>
                    </a:cubicBezTo>
                    <a:lnTo>
                      <a:pt x="9647" y="6"/>
                    </a:lnTo>
                    <a:cubicBezTo>
                      <a:pt x="9646" y="6"/>
                      <a:pt x="9645" y="5"/>
                      <a:pt x="9645" y="4"/>
                    </a:cubicBezTo>
                    <a:cubicBezTo>
                      <a:pt x="9645" y="3"/>
                      <a:pt x="9646" y="2"/>
                      <a:pt x="9647" y="2"/>
                    </a:cubicBezTo>
                    <a:close/>
                    <a:moveTo>
                      <a:pt x="9655" y="2"/>
                    </a:moveTo>
                    <a:lnTo>
                      <a:pt x="9655" y="2"/>
                    </a:lnTo>
                    <a:cubicBezTo>
                      <a:pt x="9656" y="2"/>
                      <a:pt x="9657" y="3"/>
                      <a:pt x="9657" y="4"/>
                    </a:cubicBezTo>
                    <a:cubicBezTo>
                      <a:pt x="9657" y="5"/>
                      <a:pt x="9656" y="6"/>
                      <a:pt x="9655" y="6"/>
                    </a:cubicBezTo>
                    <a:lnTo>
                      <a:pt x="9655" y="6"/>
                    </a:lnTo>
                    <a:cubicBezTo>
                      <a:pt x="9654" y="6"/>
                      <a:pt x="9653" y="5"/>
                      <a:pt x="9653" y="4"/>
                    </a:cubicBezTo>
                    <a:cubicBezTo>
                      <a:pt x="9653" y="3"/>
                      <a:pt x="9654" y="2"/>
                      <a:pt x="9655" y="2"/>
                    </a:cubicBezTo>
                    <a:close/>
                    <a:moveTo>
                      <a:pt x="9663" y="2"/>
                    </a:moveTo>
                    <a:lnTo>
                      <a:pt x="9663" y="2"/>
                    </a:lnTo>
                    <a:cubicBezTo>
                      <a:pt x="9664" y="2"/>
                      <a:pt x="9665" y="3"/>
                      <a:pt x="9665" y="4"/>
                    </a:cubicBezTo>
                    <a:cubicBezTo>
                      <a:pt x="9665" y="5"/>
                      <a:pt x="9664" y="6"/>
                      <a:pt x="9663" y="6"/>
                    </a:cubicBezTo>
                    <a:lnTo>
                      <a:pt x="9663" y="6"/>
                    </a:lnTo>
                    <a:cubicBezTo>
                      <a:pt x="9662" y="6"/>
                      <a:pt x="9661" y="5"/>
                      <a:pt x="9661" y="4"/>
                    </a:cubicBezTo>
                    <a:cubicBezTo>
                      <a:pt x="9661" y="3"/>
                      <a:pt x="9662" y="2"/>
                      <a:pt x="9663" y="2"/>
                    </a:cubicBezTo>
                    <a:close/>
                    <a:moveTo>
                      <a:pt x="9671" y="2"/>
                    </a:moveTo>
                    <a:lnTo>
                      <a:pt x="9671" y="2"/>
                    </a:lnTo>
                    <a:cubicBezTo>
                      <a:pt x="9672" y="2"/>
                      <a:pt x="9673" y="3"/>
                      <a:pt x="9673" y="4"/>
                    </a:cubicBezTo>
                    <a:cubicBezTo>
                      <a:pt x="9673" y="5"/>
                      <a:pt x="9672" y="6"/>
                      <a:pt x="9671" y="6"/>
                    </a:cubicBezTo>
                    <a:lnTo>
                      <a:pt x="9671" y="6"/>
                    </a:lnTo>
                    <a:cubicBezTo>
                      <a:pt x="9670" y="6"/>
                      <a:pt x="9669" y="5"/>
                      <a:pt x="9669" y="4"/>
                    </a:cubicBezTo>
                    <a:cubicBezTo>
                      <a:pt x="9669" y="3"/>
                      <a:pt x="9670" y="2"/>
                      <a:pt x="9671" y="2"/>
                    </a:cubicBezTo>
                    <a:close/>
                    <a:moveTo>
                      <a:pt x="9679" y="2"/>
                    </a:moveTo>
                    <a:lnTo>
                      <a:pt x="9679" y="2"/>
                    </a:lnTo>
                    <a:cubicBezTo>
                      <a:pt x="9680" y="2"/>
                      <a:pt x="9681" y="3"/>
                      <a:pt x="9681" y="4"/>
                    </a:cubicBezTo>
                    <a:cubicBezTo>
                      <a:pt x="9681" y="5"/>
                      <a:pt x="9680" y="6"/>
                      <a:pt x="9679" y="6"/>
                    </a:cubicBezTo>
                    <a:lnTo>
                      <a:pt x="9679" y="6"/>
                    </a:lnTo>
                    <a:cubicBezTo>
                      <a:pt x="9678" y="6"/>
                      <a:pt x="9677" y="5"/>
                      <a:pt x="9677" y="4"/>
                    </a:cubicBezTo>
                    <a:cubicBezTo>
                      <a:pt x="9677" y="3"/>
                      <a:pt x="9678" y="2"/>
                      <a:pt x="9679" y="2"/>
                    </a:cubicBezTo>
                    <a:close/>
                    <a:moveTo>
                      <a:pt x="9687" y="2"/>
                    </a:moveTo>
                    <a:lnTo>
                      <a:pt x="9687" y="2"/>
                    </a:lnTo>
                    <a:cubicBezTo>
                      <a:pt x="9688" y="2"/>
                      <a:pt x="9689" y="3"/>
                      <a:pt x="9689" y="4"/>
                    </a:cubicBezTo>
                    <a:cubicBezTo>
                      <a:pt x="9689" y="5"/>
                      <a:pt x="9688" y="6"/>
                      <a:pt x="9687" y="6"/>
                    </a:cubicBezTo>
                    <a:lnTo>
                      <a:pt x="9687" y="6"/>
                    </a:lnTo>
                    <a:cubicBezTo>
                      <a:pt x="9686" y="6"/>
                      <a:pt x="9685" y="5"/>
                      <a:pt x="9685" y="4"/>
                    </a:cubicBezTo>
                    <a:cubicBezTo>
                      <a:pt x="9685" y="3"/>
                      <a:pt x="9686" y="2"/>
                      <a:pt x="9687" y="2"/>
                    </a:cubicBezTo>
                    <a:close/>
                    <a:moveTo>
                      <a:pt x="9695" y="2"/>
                    </a:moveTo>
                    <a:lnTo>
                      <a:pt x="9695" y="2"/>
                    </a:lnTo>
                    <a:cubicBezTo>
                      <a:pt x="9696" y="2"/>
                      <a:pt x="9697" y="3"/>
                      <a:pt x="9697" y="4"/>
                    </a:cubicBezTo>
                    <a:cubicBezTo>
                      <a:pt x="9697" y="5"/>
                      <a:pt x="9696" y="6"/>
                      <a:pt x="9695" y="6"/>
                    </a:cubicBezTo>
                    <a:lnTo>
                      <a:pt x="9695" y="6"/>
                    </a:lnTo>
                    <a:cubicBezTo>
                      <a:pt x="9694" y="6"/>
                      <a:pt x="9693" y="5"/>
                      <a:pt x="9693" y="4"/>
                    </a:cubicBezTo>
                    <a:cubicBezTo>
                      <a:pt x="9693" y="3"/>
                      <a:pt x="9694" y="2"/>
                      <a:pt x="9695" y="2"/>
                    </a:cubicBezTo>
                    <a:close/>
                    <a:moveTo>
                      <a:pt x="9703" y="2"/>
                    </a:moveTo>
                    <a:lnTo>
                      <a:pt x="9703" y="2"/>
                    </a:lnTo>
                    <a:cubicBezTo>
                      <a:pt x="9704" y="2"/>
                      <a:pt x="9705" y="3"/>
                      <a:pt x="9705" y="4"/>
                    </a:cubicBezTo>
                    <a:cubicBezTo>
                      <a:pt x="9705" y="5"/>
                      <a:pt x="9704" y="6"/>
                      <a:pt x="9703" y="6"/>
                    </a:cubicBezTo>
                    <a:lnTo>
                      <a:pt x="9703" y="6"/>
                    </a:lnTo>
                    <a:cubicBezTo>
                      <a:pt x="9702" y="6"/>
                      <a:pt x="9701" y="5"/>
                      <a:pt x="9701" y="4"/>
                    </a:cubicBezTo>
                    <a:cubicBezTo>
                      <a:pt x="9701" y="3"/>
                      <a:pt x="9702" y="2"/>
                      <a:pt x="9703" y="2"/>
                    </a:cubicBezTo>
                    <a:close/>
                    <a:moveTo>
                      <a:pt x="9711" y="2"/>
                    </a:moveTo>
                    <a:lnTo>
                      <a:pt x="9711" y="2"/>
                    </a:lnTo>
                    <a:cubicBezTo>
                      <a:pt x="9712" y="2"/>
                      <a:pt x="9713" y="3"/>
                      <a:pt x="9713" y="4"/>
                    </a:cubicBezTo>
                    <a:cubicBezTo>
                      <a:pt x="9713" y="5"/>
                      <a:pt x="9712" y="6"/>
                      <a:pt x="9711" y="6"/>
                    </a:cubicBezTo>
                    <a:lnTo>
                      <a:pt x="9711" y="6"/>
                    </a:lnTo>
                    <a:cubicBezTo>
                      <a:pt x="9710" y="6"/>
                      <a:pt x="9709" y="5"/>
                      <a:pt x="9709" y="4"/>
                    </a:cubicBezTo>
                    <a:cubicBezTo>
                      <a:pt x="9709" y="3"/>
                      <a:pt x="9710" y="2"/>
                      <a:pt x="9711" y="2"/>
                    </a:cubicBezTo>
                    <a:close/>
                    <a:moveTo>
                      <a:pt x="9719" y="2"/>
                    </a:moveTo>
                    <a:lnTo>
                      <a:pt x="9719" y="2"/>
                    </a:lnTo>
                    <a:cubicBezTo>
                      <a:pt x="9720" y="2"/>
                      <a:pt x="9721" y="3"/>
                      <a:pt x="9721" y="4"/>
                    </a:cubicBezTo>
                    <a:cubicBezTo>
                      <a:pt x="9721" y="5"/>
                      <a:pt x="9720" y="6"/>
                      <a:pt x="9719" y="6"/>
                    </a:cubicBezTo>
                    <a:lnTo>
                      <a:pt x="9719" y="6"/>
                    </a:lnTo>
                    <a:cubicBezTo>
                      <a:pt x="9718" y="6"/>
                      <a:pt x="9717" y="5"/>
                      <a:pt x="9717" y="4"/>
                    </a:cubicBezTo>
                    <a:cubicBezTo>
                      <a:pt x="9717" y="3"/>
                      <a:pt x="9718" y="2"/>
                      <a:pt x="9719" y="2"/>
                    </a:cubicBezTo>
                    <a:close/>
                    <a:moveTo>
                      <a:pt x="9727" y="2"/>
                    </a:moveTo>
                    <a:lnTo>
                      <a:pt x="9727" y="2"/>
                    </a:lnTo>
                    <a:cubicBezTo>
                      <a:pt x="9728" y="2"/>
                      <a:pt x="9729" y="3"/>
                      <a:pt x="9729" y="4"/>
                    </a:cubicBezTo>
                    <a:cubicBezTo>
                      <a:pt x="9729" y="5"/>
                      <a:pt x="9728" y="6"/>
                      <a:pt x="9727" y="6"/>
                    </a:cubicBezTo>
                    <a:lnTo>
                      <a:pt x="9727" y="6"/>
                    </a:lnTo>
                    <a:cubicBezTo>
                      <a:pt x="9726" y="6"/>
                      <a:pt x="9725" y="5"/>
                      <a:pt x="9725" y="4"/>
                    </a:cubicBezTo>
                    <a:cubicBezTo>
                      <a:pt x="9725" y="3"/>
                      <a:pt x="9726" y="2"/>
                      <a:pt x="9727" y="2"/>
                    </a:cubicBezTo>
                    <a:close/>
                    <a:moveTo>
                      <a:pt x="9735" y="2"/>
                    </a:moveTo>
                    <a:lnTo>
                      <a:pt x="9735" y="2"/>
                    </a:lnTo>
                    <a:cubicBezTo>
                      <a:pt x="9736" y="2"/>
                      <a:pt x="9737" y="3"/>
                      <a:pt x="9737" y="4"/>
                    </a:cubicBezTo>
                    <a:cubicBezTo>
                      <a:pt x="9737" y="5"/>
                      <a:pt x="9736" y="6"/>
                      <a:pt x="9735" y="6"/>
                    </a:cubicBezTo>
                    <a:lnTo>
                      <a:pt x="9735" y="6"/>
                    </a:lnTo>
                    <a:cubicBezTo>
                      <a:pt x="9734" y="6"/>
                      <a:pt x="9733" y="5"/>
                      <a:pt x="9733" y="4"/>
                    </a:cubicBezTo>
                    <a:cubicBezTo>
                      <a:pt x="9733" y="3"/>
                      <a:pt x="9734" y="2"/>
                      <a:pt x="9735" y="2"/>
                    </a:cubicBezTo>
                    <a:close/>
                    <a:moveTo>
                      <a:pt x="9743" y="2"/>
                    </a:moveTo>
                    <a:lnTo>
                      <a:pt x="9743" y="2"/>
                    </a:lnTo>
                    <a:cubicBezTo>
                      <a:pt x="9744" y="2"/>
                      <a:pt x="9745" y="3"/>
                      <a:pt x="9745" y="4"/>
                    </a:cubicBezTo>
                    <a:cubicBezTo>
                      <a:pt x="9745" y="5"/>
                      <a:pt x="9744" y="6"/>
                      <a:pt x="9743" y="6"/>
                    </a:cubicBezTo>
                    <a:lnTo>
                      <a:pt x="9743" y="6"/>
                    </a:lnTo>
                    <a:cubicBezTo>
                      <a:pt x="9742" y="6"/>
                      <a:pt x="9741" y="5"/>
                      <a:pt x="9741" y="4"/>
                    </a:cubicBezTo>
                    <a:cubicBezTo>
                      <a:pt x="9741" y="3"/>
                      <a:pt x="9742" y="2"/>
                      <a:pt x="9743" y="2"/>
                    </a:cubicBezTo>
                    <a:close/>
                    <a:moveTo>
                      <a:pt x="9751" y="2"/>
                    </a:moveTo>
                    <a:lnTo>
                      <a:pt x="9751" y="2"/>
                    </a:lnTo>
                    <a:cubicBezTo>
                      <a:pt x="9752" y="2"/>
                      <a:pt x="9753" y="3"/>
                      <a:pt x="9753" y="4"/>
                    </a:cubicBezTo>
                    <a:cubicBezTo>
                      <a:pt x="9753" y="5"/>
                      <a:pt x="9752" y="6"/>
                      <a:pt x="9751" y="6"/>
                    </a:cubicBezTo>
                    <a:lnTo>
                      <a:pt x="9751" y="6"/>
                    </a:lnTo>
                    <a:cubicBezTo>
                      <a:pt x="9750" y="6"/>
                      <a:pt x="9749" y="5"/>
                      <a:pt x="9749" y="4"/>
                    </a:cubicBezTo>
                    <a:cubicBezTo>
                      <a:pt x="9749" y="3"/>
                      <a:pt x="9750" y="2"/>
                      <a:pt x="9751" y="2"/>
                    </a:cubicBezTo>
                    <a:close/>
                    <a:moveTo>
                      <a:pt x="9759" y="2"/>
                    </a:moveTo>
                    <a:lnTo>
                      <a:pt x="9759" y="2"/>
                    </a:lnTo>
                    <a:cubicBezTo>
                      <a:pt x="9760" y="2"/>
                      <a:pt x="9761" y="3"/>
                      <a:pt x="9761" y="4"/>
                    </a:cubicBezTo>
                    <a:cubicBezTo>
                      <a:pt x="9761" y="5"/>
                      <a:pt x="9760" y="6"/>
                      <a:pt x="9759" y="6"/>
                    </a:cubicBezTo>
                    <a:lnTo>
                      <a:pt x="9759" y="6"/>
                    </a:lnTo>
                    <a:cubicBezTo>
                      <a:pt x="9758" y="6"/>
                      <a:pt x="9757" y="5"/>
                      <a:pt x="9757" y="4"/>
                    </a:cubicBezTo>
                    <a:cubicBezTo>
                      <a:pt x="9757" y="3"/>
                      <a:pt x="9758" y="2"/>
                      <a:pt x="9759" y="2"/>
                    </a:cubicBezTo>
                    <a:close/>
                    <a:moveTo>
                      <a:pt x="9767" y="2"/>
                    </a:moveTo>
                    <a:lnTo>
                      <a:pt x="9767" y="2"/>
                    </a:lnTo>
                    <a:cubicBezTo>
                      <a:pt x="9768" y="2"/>
                      <a:pt x="9769" y="3"/>
                      <a:pt x="9769" y="4"/>
                    </a:cubicBezTo>
                    <a:cubicBezTo>
                      <a:pt x="9769" y="5"/>
                      <a:pt x="9768" y="6"/>
                      <a:pt x="9767" y="6"/>
                    </a:cubicBezTo>
                    <a:lnTo>
                      <a:pt x="9767" y="6"/>
                    </a:lnTo>
                    <a:cubicBezTo>
                      <a:pt x="9766" y="6"/>
                      <a:pt x="9765" y="5"/>
                      <a:pt x="9765" y="4"/>
                    </a:cubicBezTo>
                    <a:cubicBezTo>
                      <a:pt x="9765" y="3"/>
                      <a:pt x="9766" y="2"/>
                      <a:pt x="9767" y="2"/>
                    </a:cubicBezTo>
                    <a:close/>
                    <a:moveTo>
                      <a:pt x="9775" y="2"/>
                    </a:moveTo>
                    <a:lnTo>
                      <a:pt x="9775" y="2"/>
                    </a:lnTo>
                    <a:cubicBezTo>
                      <a:pt x="9776" y="2"/>
                      <a:pt x="9777" y="3"/>
                      <a:pt x="9777" y="4"/>
                    </a:cubicBezTo>
                    <a:cubicBezTo>
                      <a:pt x="9777" y="5"/>
                      <a:pt x="9776" y="6"/>
                      <a:pt x="9775" y="6"/>
                    </a:cubicBezTo>
                    <a:lnTo>
                      <a:pt x="9775" y="6"/>
                    </a:lnTo>
                    <a:cubicBezTo>
                      <a:pt x="9774" y="6"/>
                      <a:pt x="9773" y="5"/>
                      <a:pt x="9773" y="4"/>
                    </a:cubicBezTo>
                    <a:cubicBezTo>
                      <a:pt x="9773" y="3"/>
                      <a:pt x="9774" y="2"/>
                      <a:pt x="9775" y="2"/>
                    </a:cubicBezTo>
                    <a:close/>
                    <a:moveTo>
                      <a:pt x="9783" y="2"/>
                    </a:moveTo>
                    <a:lnTo>
                      <a:pt x="9783" y="2"/>
                    </a:lnTo>
                    <a:cubicBezTo>
                      <a:pt x="9784" y="2"/>
                      <a:pt x="9785" y="3"/>
                      <a:pt x="9785" y="4"/>
                    </a:cubicBezTo>
                    <a:cubicBezTo>
                      <a:pt x="9785" y="5"/>
                      <a:pt x="9784" y="6"/>
                      <a:pt x="9783" y="6"/>
                    </a:cubicBezTo>
                    <a:lnTo>
                      <a:pt x="9783" y="6"/>
                    </a:lnTo>
                    <a:cubicBezTo>
                      <a:pt x="9782" y="6"/>
                      <a:pt x="9781" y="5"/>
                      <a:pt x="9781" y="4"/>
                    </a:cubicBezTo>
                    <a:cubicBezTo>
                      <a:pt x="9781" y="3"/>
                      <a:pt x="9782" y="2"/>
                      <a:pt x="9783" y="2"/>
                    </a:cubicBezTo>
                    <a:close/>
                    <a:moveTo>
                      <a:pt x="9791" y="2"/>
                    </a:moveTo>
                    <a:lnTo>
                      <a:pt x="9791" y="2"/>
                    </a:lnTo>
                    <a:cubicBezTo>
                      <a:pt x="9792" y="2"/>
                      <a:pt x="9793" y="3"/>
                      <a:pt x="9793" y="4"/>
                    </a:cubicBezTo>
                    <a:cubicBezTo>
                      <a:pt x="9793" y="5"/>
                      <a:pt x="9792" y="6"/>
                      <a:pt x="9791" y="6"/>
                    </a:cubicBezTo>
                    <a:lnTo>
                      <a:pt x="9791" y="6"/>
                    </a:lnTo>
                    <a:cubicBezTo>
                      <a:pt x="9790" y="6"/>
                      <a:pt x="9789" y="5"/>
                      <a:pt x="9789" y="4"/>
                    </a:cubicBezTo>
                    <a:cubicBezTo>
                      <a:pt x="9789" y="3"/>
                      <a:pt x="9790" y="2"/>
                      <a:pt x="9791" y="2"/>
                    </a:cubicBezTo>
                    <a:close/>
                    <a:moveTo>
                      <a:pt x="9799" y="2"/>
                    </a:moveTo>
                    <a:lnTo>
                      <a:pt x="9799" y="2"/>
                    </a:lnTo>
                    <a:cubicBezTo>
                      <a:pt x="9800" y="2"/>
                      <a:pt x="9801" y="3"/>
                      <a:pt x="9801" y="4"/>
                    </a:cubicBezTo>
                    <a:cubicBezTo>
                      <a:pt x="9801" y="5"/>
                      <a:pt x="9800" y="6"/>
                      <a:pt x="9799" y="6"/>
                    </a:cubicBezTo>
                    <a:lnTo>
                      <a:pt x="9799" y="6"/>
                    </a:lnTo>
                    <a:cubicBezTo>
                      <a:pt x="9798" y="6"/>
                      <a:pt x="9797" y="5"/>
                      <a:pt x="9797" y="4"/>
                    </a:cubicBezTo>
                    <a:cubicBezTo>
                      <a:pt x="9797" y="3"/>
                      <a:pt x="9798" y="2"/>
                      <a:pt x="9799" y="2"/>
                    </a:cubicBezTo>
                    <a:close/>
                    <a:moveTo>
                      <a:pt x="9807" y="2"/>
                    </a:moveTo>
                    <a:lnTo>
                      <a:pt x="9807" y="2"/>
                    </a:lnTo>
                    <a:cubicBezTo>
                      <a:pt x="9808" y="2"/>
                      <a:pt x="9809" y="3"/>
                      <a:pt x="9809" y="4"/>
                    </a:cubicBezTo>
                    <a:cubicBezTo>
                      <a:pt x="9809" y="5"/>
                      <a:pt x="9808" y="6"/>
                      <a:pt x="9807" y="6"/>
                    </a:cubicBezTo>
                    <a:lnTo>
                      <a:pt x="9807" y="6"/>
                    </a:lnTo>
                    <a:cubicBezTo>
                      <a:pt x="9806" y="6"/>
                      <a:pt x="9805" y="5"/>
                      <a:pt x="9805" y="4"/>
                    </a:cubicBezTo>
                    <a:cubicBezTo>
                      <a:pt x="9805" y="3"/>
                      <a:pt x="9806" y="2"/>
                      <a:pt x="9807" y="2"/>
                    </a:cubicBezTo>
                    <a:close/>
                    <a:moveTo>
                      <a:pt x="9815" y="2"/>
                    </a:moveTo>
                    <a:lnTo>
                      <a:pt x="9815" y="2"/>
                    </a:lnTo>
                    <a:cubicBezTo>
                      <a:pt x="9816" y="2"/>
                      <a:pt x="9817" y="3"/>
                      <a:pt x="9817" y="4"/>
                    </a:cubicBezTo>
                    <a:cubicBezTo>
                      <a:pt x="9817" y="5"/>
                      <a:pt x="9816" y="6"/>
                      <a:pt x="9815" y="6"/>
                    </a:cubicBezTo>
                    <a:lnTo>
                      <a:pt x="9815" y="6"/>
                    </a:lnTo>
                    <a:cubicBezTo>
                      <a:pt x="9814" y="6"/>
                      <a:pt x="9813" y="5"/>
                      <a:pt x="9813" y="4"/>
                    </a:cubicBezTo>
                    <a:cubicBezTo>
                      <a:pt x="9813" y="3"/>
                      <a:pt x="9814" y="2"/>
                      <a:pt x="9815" y="2"/>
                    </a:cubicBezTo>
                    <a:close/>
                    <a:moveTo>
                      <a:pt x="9823" y="2"/>
                    </a:moveTo>
                    <a:lnTo>
                      <a:pt x="9823" y="2"/>
                    </a:lnTo>
                    <a:cubicBezTo>
                      <a:pt x="9824" y="2"/>
                      <a:pt x="9825" y="3"/>
                      <a:pt x="9825" y="4"/>
                    </a:cubicBezTo>
                    <a:cubicBezTo>
                      <a:pt x="9825" y="5"/>
                      <a:pt x="9824" y="6"/>
                      <a:pt x="9823" y="6"/>
                    </a:cubicBezTo>
                    <a:lnTo>
                      <a:pt x="9823" y="6"/>
                    </a:lnTo>
                    <a:cubicBezTo>
                      <a:pt x="9822" y="6"/>
                      <a:pt x="9821" y="5"/>
                      <a:pt x="9821" y="4"/>
                    </a:cubicBezTo>
                    <a:cubicBezTo>
                      <a:pt x="9821" y="3"/>
                      <a:pt x="9822" y="2"/>
                      <a:pt x="9823" y="2"/>
                    </a:cubicBezTo>
                    <a:close/>
                    <a:moveTo>
                      <a:pt x="9831" y="2"/>
                    </a:moveTo>
                    <a:lnTo>
                      <a:pt x="9831" y="2"/>
                    </a:lnTo>
                    <a:cubicBezTo>
                      <a:pt x="9832" y="2"/>
                      <a:pt x="9833" y="3"/>
                      <a:pt x="9833" y="4"/>
                    </a:cubicBezTo>
                    <a:cubicBezTo>
                      <a:pt x="9833" y="5"/>
                      <a:pt x="9832" y="6"/>
                      <a:pt x="9831" y="6"/>
                    </a:cubicBezTo>
                    <a:lnTo>
                      <a:pt x="9831" y="6"/>
                    </a:lnTo>
                    <a:cubicBezTo>
                      <a:pt x="9830" y="6"/>
                      <a:pt x="9829" y="5"/>
                      <a:pt x="9829" y="4"/>
                    </a:cubicBezTo>
                    <a:cubicBezTo>
                      <a:pt x="9829" y="3"/>
                      <a:pt x="9830" y="2"/>
                      <a:pt x="9831" y="2"/>
                    </a:cubicBezTo>
                    <a:close/>
                    <a:moveTo>
                      <a:pt x="9839" y="2"/>
                    </a:moveTo>
                    <a:lnTo>
                      <a:pt x="9839" y="2"/>
                    </a:lnTo>
                    <a:cubicBezTo>
                      <a:pt x="9840" y="2"/>
                      <a:pt x="9841" y="3"/>
                      <a:pt x="9841" y="4"/>
                    </a:cubicBezTo>
                    <a:cubicBezTo>
                      <a:pt x="9841" y="5"/>
                      <a:pt x="9840" y="6"/>
                      <a:pt x="9839" y="6"/>
                    </a:cubicBezTo>
                    <a:lnTo>
                      <a:pt x="9839" y="6"/>
                    </a:lnTo>
                    <a:cubicBezTo>
                      <a:pt x="9838" y="6"/>
                      <a:pt x="9837" y="5"/>
                      <a:pt x="9837" y="4"/>
                    </a:cubicBezTo>
                    <a:cubicBezTo>
                      <a:pt x="9837" y="3"/>
                      <a:pt x="9838" y="2"/>
                      <a:pt x="9839" y="2"/>
                    </a:cubicBezTo>
                    <a:close/>
                    <a:moveTo>
                      <a:pt x="9847" y="2"/>
                    </a:moveTo>
                    <a:lnTo>
                      <a:pt x="9847" y="2"/>
                    </a:lnTo>
                    <a:cubicBezTo>
                      <a:pt x="9848" y="2"/>
                      <a:pt x="9849" y="3"/>
                      <a:pt x="9849" y="4"/>
                    </a:cubicBezTo>
                    <a:cubicBezTo>
                      <a:pt x="9849" y="5"/>
                      <a:pt x="9848" y="6"/>
                      <a:pt x="9847" y="6"/>
                    </a:cubicBezTo>
                    <a:lnTo>
                      <a:pt x="9847" y="6"/>
                    </a:lnTo>
                    <a:cubicBezTo>
                      <a:pt x="9846" y="6"/>
                      <a:pt x="9845" y="5"/>
                      <a:pt x="9845" y="4"/>
                    </a:cubicBezTo>
                    <a:cubicBezTo>
                      <a:pt x="9845" y="3"/>
                      <a:pt x="9846" y="2"/>
                      <a:pt x="9847" y="2"/>
                    </a:cubicBezTo>
                    <a:close/>
                    <a:moveTo>
                      <a:pt x="9855" y="2"/>
                    </a:moveTo>
                    <a:lnTo>
                      <a:pt x="9855" y="2"/>
                    </a:lnTo>
                    <a:cubicBezTo>
                      <a:pt x="9856" y="2"/>
                      <a:pt x="9857" y="3"/>
                      <a:pt x="9857" y="4"/>
                    </a:cubicBezTo>
                    <a:cubicBezTo>
                      <a:pt x="9857" y="5"/>
                      <a:pt x="9856" y="6"/>
                      <a:pt x="9855" y="6"/>
                    </a:cubicBezTo>
                    <a:lnTo>
                      <a:pt x="9855" y="6"/>
                    </a:lnTo>
                    <a:cubicBezTo>
                      <a:pt x="9854" y="6"/>
                      <a:pt x="9853" y="5"/>
                      <a:pt x="9853" y="4"/>
                    </a:cubicBezTo>
                    <a:cubicBezTo>
                      <a:pt x="9853" y="3"/>
                      <a:pt x="9854" y="2"/>
                      <a:pt x="9855" y="2"/>
                    </a:cubicBezTo>
                    <a:close/>
                    <a:moveTo>
                      <a:pt x="9863" y="2"/>
                    </a:moveTo>
                    <a:lnTo>
                      <a:pt x="9863" y="2"/>
                    </a:lnTo>
                    <a:cubicBezTo>
                      <a:pt x="9864" y="2"/>
                      <a:pt x="9865" y="3"/>
                      <a:pt x="9865" y="4"/>
                    </a:cubicBezTo>
                    <a:cubicBezTo>
                      <a:pt x="9865" y="5"/>
                      <a:pt x="9864" y="6"/>
                      <a:pt x="9863" y="6"/>
                    </a:cubicBezTo>
                    <a:lnTo>
                      <a:pt x="9863" y="6"/>
                    </a:lnTo>
                    <a:cubicBezTo>
                      <a:pt x="9862" y="6"/>
                      <a:pt x="9861" y="5"/>
                      <a:pt x="9861" y="4"/>
                    </a:cubicBezTo>
                    <a:cubicBezTo>
                      <a:pt x="9861" y="3"/>
                      <a:pt x="9862" y="2"/>
                      <a:pt x="9863" y="2"/>
                    </a:cubicBezTo>
                    <a:close/>
                    <a:moveTo>
                      <a:pt x="9871" y="2"/>
                    </a:moveTo>
                    <a:lnTo>
                      <a:pt x="9871" y="2"/>
                    </a:lnTo>
                    <a:cubicBezTo>
                      <a:pt x="9872" y="2"/>
                      <a:pt x="9873" y="3"/>
                      <a:pt x="9873" y="4"/>
                    </a:cubicBezTo>
                    <a:cubicBezTo>
                      <a:pt x="9873" y="5"/>
                      <a:pt x="9872" y="6"/>
                      <a:pt x="9871" y="6"/>
                    </a:cubicBezTo>
                    <a:lnTo>
                      <a:pt x="9871" y="6"/>
                    </a:lnTo>
                    <a:cubicBezTo>
                      <a:pt x="9870" y="6"/>
                      <a:pt x="9869" y="5"/>
                      <a:pt x="9869" y="4"/>
                    </a:cubicBezTo>
                    <a:cubicBezTo>
                      <a:pt x="9869" y="3"/>
                      <a:pt x="9870" y="2"/>
                      <a:pt x="9871" y="2"/>
                    </a:cubicBezTo>
                    <a:close/>
                    <a:moveTo>
                      <a:pt x="9879" y="2"/>
                    </a:moveTo>
                    <a:lnTo>
                      <a:pt x="9879" y="2"/>
                    </a:lnTo>
                    <a:cubicBezTo>
                      <a:pt x="9880" y="2"/>
                      <a:pt x="9881" y="3"/>
                      <a:pt x="9881" y="4"/>
                    </a:cubicBezTo>
                    <a:cubicBezTo>
                      <a:pt x="9881" y="5"/>
                      <a:pt x="9880" y="6"/>
                      <a:pt x="9879" y="6"/>
                    </a:cubicBezTo>
                    <a:lnTo>
                      <a:pt x="9879" y="6"/>
                    </a:lnTo>
                    <a:cubicBezTo>
                      <a:pt x="9878" y="6"/>
                      <a:pt x="9877" y="5"/>
                      <a:pt x="9877" y="4"/>
                    </a:cubicBezTo>
                    <a:cubicBezTo>
                      <a:pt x="9877" y="3"/>
                      <a:pt x="9878" y="2"/>
                      <a:pt x="9879" y="2"/>
                    </a:cubicBezTo>
                    <a:close/>
                    <a:moveTo>
                      <a:pt x="9887" y="2"/>
                    </a:moveTo>
                    <a:lnTo>
                      <a:pt x="9887" y="2"/>
                    </a:lnTo>
                    <a:cubicBezTo>
                      <a:pt x="9888" y="2"/>
                      <a:pt x="9889" y="3"/>
                      <a:pt x="9889" y="4"/>
                    </a:cubicBezTo>
                    <a:cubicBezTo>
                      <a:pt x="9889" y="5"/>
                      <a:pt x="9888" y="6"/>
                      <a:pt x="9887" y="6"/>
                    </a:cubicBezTo>
                    <a:lnTo>
                      <a:pt x="9887" y="6"/>
                    </a:lnTo>
                    <a:cubicBezTo>
                      <a:pt x="9886" y="6"/>
                      <a:pt x="9885" y="5"/>
                      <a:pt x="9885" y="4"/>
                    </a:cubicBezTo>
                    <a:cubicBezTo>
                      <a:pt x="9885" y="3"/>
                      <a:pt x="9886" y="2"/>
                      <a:pt x="9887" y="2"/>
                    </a:cubicBezTo>
                    <a:close/>
                    <a:moveTo>
                      <a:pt x="9895" y="2"/>
                    </a:moveTo>
                    <a:lnTo>
                      <a:pt x="9895" y="2"/>
                    </a:lnTo>
                    <a:cubicBezTo>
                      <a:pt x="9896" y="2"/>
                      <a:pt x="9897" y="3"/>
                      <a:pt x="9897" y="4"/>
                    </a:cubicBezTo>
                    <a:cubicBezTo>
                      <a:pt x="9897" y="5"/>
                      <a:pt x="9896" y="6"/>
                      <a:pt x="9895" y="6"/>
                    </a:cubicBezTo>
                    <a:lnTo>
                      <a:pt x="9895" y="6"/>
                    </a:lnTo>
                    <a:cubicBezTo>
                      <a:pt x="9894" y="6"/>
                      <a:pt x="9893" y="5"/>
                      <a:pt x="9893" y="4"/>
                    </a:cubicBezTo>
                    <a:cubicBezTo>
                      <a:pt x="9893" y="3"/>
                      <a:pt x="9894" y="2"/>
                      <a:pt x="9895" y="2"/>
                    </a:cubicBezTo>
                    <a:close/>
                    <a:moveTo>
                      <a:pt x="9903" y="2"/>
                    </a:moveTo>
                    <a:lnTo>
                      <a:pt x="9903" y="2"/>
                    </a:lnTo>
                    <a:cubicBezTo>
                      <a:pt x="9904" y="2"/>
                      <a:pt x="9905" y="3"/>
                      <a:pt x="9905" y="4"/>
                    </a:cubicBezTo>
                    <a:cubicBezTo>
                      <a:pt x="9905" y="5"/>
                      <a:pt x="9904" y="6"/>
                      <a:pt x="9903" y="6"/>
                    </a:cubicBezTo>
                    <a:lnTo>
                      <a:pt x="9903" y="6"/>
                    </a:lnTo>
                    <a:cubicBezTo>
                      <a:pt x="9902" y="6"/>
                      <a:pt x="9901" y="5"/>
                      <a:pt x="9901" y="4"/>
                    </a:cubicBezTo>
                    <a:cubicBezTo>
                      <a:pt x="9901" y="3"/>
                      <a:pt x="9902" y="2"/>
                      <a:pt x="9903" y="2"/>
                    </a:cubicBezTo>
                    <a:close/>
                    <a:moveTo>
                      <a:pt x="9911" y="2"/>
                    </a:moveTo>
                    <a:lnTo>
                      <a:pt x="9911" y="2"/>
                    </a:lnTo>
                    <a:cubicBezTo>
                      <a:pt x="9912" y="2"/>
                      <a:pt x="9913" y="3"/>
                      <a:pt x="9913" y="4"/>
                    </a:cubicBezTo>
                    <a:cubicBezTo>
                      <a:pt x="9913" y="5"/>
                      <a:pt x="9912" y="6"/>
                      <a:pt x="9911" y="6"/>
                    </a:cubicBezTo>
                    <a:lnTo>
                      <a:pt x="9911" y="6"/>
                    </a:lnTo>
                    <a:cubicBezTo>
                      <a:pt x="9910" y="6"/>
                      <a:pt x="9909" y="5"/>
                      <a:pt x="9909" y="4"/>
                    </a:cubicBezTo>
                    <a:cubicBezTo>
                      <a:pt x="9909" y="3"/>
                      <a:pt x="9910" y="2"/>
                      <a:pt x="9911" y="2"/>
                    </a:cubicBezTo>
                    <a:close/>
                    <a:moveTo>
                      <a:pt x="9919" y="2"/>
                    </a:moveTo>
                    <a:lnTo>
                      <a:pt x="9919" y="2"/>
                    </a:lnTo>
                    <a:cubicBezTo>
                      <a:pt x="9920" y="2"/>
                      <a:pt x="9921" y="3"/>
                      <a:pt x="9921" y="4"/>
                    </a:cubicBezTo>
                    <a:cubicBezTo>
                      <a:pt x="9921" y="5"/>
                      <a:pt x="9920" y="6"/>
                      <a:pt x="9919" y="6"/>
                    </a:cubicBezTo>
                    <a:lnTo>
                      <a:pt x="9919" y="6"/>
                    </a:lnTo>
                    <a:cubicBezTo>
                      <a:pt x="9918" y="6"/>
                      <a:pt x="9917" y="5"/>
                      <a:pt x="9917" y="4"/>
                    </a:cubicBezTo>
                    <a:cubicBezTo>
                      <a:pt x="9917" y="3"/>
                      <a:pt x="9918" y="2"/>
                      <a:pt x="9919" y="2"/>
                    </a:cubicBezTo>
                    <a:close/>
                    <a:moveTo>
                      <a:pt x="9927" y="2"/>
                    </a:moveTo>
                    <a:lnTo>
                      <a:pt x="9927" y="2"/>
                    </a:lnTo>
                    <a:cubicBezTo>
                      <a:pt x="9928" y="2"/>
                      <a:pt x="9929" y="3"/>
                      <a:pt x="9929" y="4"/>
                    </a:cubicBezTo>
                    <a:cubicBezTo>
                      <a:pt x="9929" y="5"/>
                      <a:pt x="9928" y="6"/>
                      <a:pt x="9927" y="6"/>
                    </a:cubicBezTo>
                    <a:lnTo>
                      <a:pt x="9927" y="6"/>
                    </a:lnTo>
                    <a:cubicBezTo>
                      <a:pt x="9926" y="6"/>
                      <a:pt x="9925" y="5"/>
                      <a:pt x="9925" y="4"/>
                    </a:cubicBezTo>
                    <a:cubicBezTo>
                      <a:pt x="9925" y="3"/>
                      <a:pt x="9926" y="2"/>
                      <a:pt x="9927" y="2"/>
                    </a:cubicBezTo>
                    <a:close/>
                    <a:moveTo>
                      <a:pt x="9935" y="2"/>
                    </a:moveTo>
                    <a:lnTo>
                      <a:pt x="9935" y="2"/>
                    </a:lnTo>
                    <a:cubicBezTo>
                      <a:pt x="9936" y="2"/>
                      <a:pt x="9937" y="3"/>
                      <a:pt x="9937" y="4"/>
                    </a:cubicBezTo>
                    <a:cubicBezTo>
                      <a:pt x="9937" y="5"/>
                      <a:pt x="9936" y="6"/>
                      <a:pt x="9935" y="6"/>
                    </a:cubicBezTo>
                    <a:lnTo>
                      <a:pt x="9935" y="6"/>
                    </a:lnTo>
                    <a:cubicBezTo>
                      <a:pt x="9934" y="6"/>
                      <a:pt x="9933" y="5"/>
                      <a:pt x="9933" y="4"/>
                    </a:cubicBezTo>
                    <a:cubicBezTo>
                      <a:pt x="9933" y="3"/>
                      <a:pt x="9934" y="2"/>
                      <a:pt x="9935" y="2"/>
                    </a:cubicBezTo>
                    <a:close/>
                    <a:moveTo>
                      <a:pt x="9943" y="2"/>
                    </a:moveTo>
                    <a:lnTo>
                      <a:pt x="9943" y="2"/>
                    </a:lnTo>
                    <a:cubicBezTo>
                      <a:pt x="9944" y="2"/>
                      <a:pt x="9945" y="3"/>
                      <a:pt x="9945" y="4"/>
                    </a:cubicBezTo>
                    <a:cubicBezTo>
                      <a:pt x="9945" y="5"/>
                      <a:pt x="9944" y="6"/>
                      <a:pt x="9943" y="6"/>
                    </a:cubicBezTo>
                    <a:lnTo>
                      <a:pt x="9943" y="6"/>
                    </a:lnTo>
                    <a:cubicBezTo>
                      <a:pt x="9942" y="6"/>
                      <a:pt x="9941" y="5"/>
                      <a:pt x="9941" y="4"/>
                    </a:cubicBezTo>
                    <a:cubicBezTo>
                      <a:pt x="9941" y="3"/>
                      <a:pt x="9942" y="2"/>
                      <a:pt x="9943" y="2"/>
                    </a:cubicBezTo>
                    <a:close/>
                    <a:moveTo>
                      <a:pt x="9951" y="2"/>
                    </a:moveTo>
                    <a:lnTo>
                      <a:pt x="9951" y="2"/>
                    </a:lnTo>
                    <a:cubicBezTo>
                      <a:pt x="9952" y="2"/>
                      <a:pt x="9953" y="3"/>
                      <a:pt x="9953" y="4"/>
                    </a:cubicBezTo>
                    <a:cubicBezTo>
                      <a:pt x="9953" y="5"/>
                      <a:pt x="9952" y="6"/>
                      <a:pt x="9951" y="6"/>
                    </a:cubicBezTo>
                    <a:lnTo>
                      <a:pt x="9951" y="6"/>
                    </a:lnTo>
                    <a:cubicBezTo>
                      <a:pt x="9950" y="6"/>
                      <a:pt x="9949" y="5"/>
                      <a:pt x="9949" y="4"/>
                    </a:cubicBezTo>
                    <a:cubicBezTo>
                      <a:pt x="9949" y="3"/>
                      <a:pt x="9950" y="2"/>
                      <a:pt x="9951" y="2"/>
                    </a:cubicBezTo>
                    <a:close/>
                    <a:moveTo>
                      <a:pt x="9959" y="2"/>
                    </a:moveTo>
                    <a:lnTo>
                      <a:pt x="9959" y="2"/>
                    </a:lnTo>
                    <a:cubicBezTo>
                      <a:pt x="9960" y="2"/>
                      <a:pt x="9961" y="3"/>
                      <a:pt x="9961" y="4"/>
                    </a:cubicBezTo>
                    <a:cubicBezTo>
                      <a:pt x="9961" y="5"/>
                      <a:pt x="9960" y="6"/>
                      <a:pt x="9959" y="6"/>
                    </a:cubicBezTo>
                    <a:lnTo>
                      <a:pt x="9959" y="6"/>
                    </a:lnTo>
                    <a:cubicBezTo>
                      <a:pt x="9958" y="6"/>
                      <a:pt x="9957" y="5"/>
                      <a:pt x="9957" y="4"/>
                    </a:cubicBezTo>
                    <a:cubicBezTo>
                      <a:pt x="9957" y="3"/>
                      <a:pt x="9958" y="2"/>
                      <a:pt x="9959" y="2"/>
                    </a:cubicBezTo>
                    <a:close/>
                    <a:moveTo>
                      <a:pt x="9967" y="2"/>
                    </a:moveTo>
                    <a:lnTo>
                      <a:pt x="9967" y="2"/>
                    </a:lnTo>
                    <a:cubicBezTo>
                      <a:pt x="9968" y="2"/>
                      <a:pt x="9969" y="3"/>
                      <a:pt x="9969" y="4"/>
                    </a:cubicBezTo>
                    <a:cubicBezTo>
                      <a:pt x="9969" y="5"/>
                      <a:pt x="9968" y="6"/>
                      <a:pt x="9967" y="6"/>
                    </a:cubicBezTo>
                    <a:lnTo>
                      <a:pt x="9967" y="6"/>
                    </a:lnTo>
                    <a:cubicBezTo>
                      <a:pt x="9966" y="6"/>
                      <a:pt x="9965" y="5"/>
                      <a:pt x="9965" y="4"/>
                    </a:cubicBezTo>
                    <a:cubicBezTo>
                      <a:pt x="9965" y="3"/>
                      <a:pt x="9966" y="2"/>
                      <a:pt x="9967" y="2"/>
                    </a:cubicBezTo>
                    <a:close/>
                    <a:moveTo>
                      <a:pt x="9975" y="2"/>
                    </a:moveTo>
                    <a:lnTo>
                      <a:pt x="9975" y="2"/>
                    </a:lnTo>
                    <a:cubicBezTo>
                      <a:pt x="9976" y="2"/>
                      <a:pt x="9977" y="3"/>
                      <a:pt x="9977" y="4"/>
                    </a:cubicBezTo>
                    <a:cubicBezTo>
                      <a:pt x="9977" y="5"/>
                      <a:pt x="9976" y="6"/>
                      <a:pt x="9975" y="6"/>
                    </a:cubicBezTo>
                    <a:lnTo>
                      <a:pt x="9975" y="6"/>
                    </a:lnTo>
                    <a:cubicBezTo>
                      <a:pt x="9974" y="6"/>
                      <a:pt x="9973" y="5"/>
                      <a:pt x="9973" y="4"/>
                    </a:cubicBezTo>
                    <a:cubicBezTo>
                      <a:pt x="9973" y="3"/>
                      <a:pt x="9974" y="2"/>
                      <a:pt x="9975" y="2"/>
                    </a:cubicBezTo>
                    <a:close/>
                    <a:moveTo>
                      <a:pt x="9983" y="2"/>
                    </a:moveTo>
                    <a:lnTo>
                      <a:pt x="9983" y="2"/>
                    </a:lnTo>
                    <a:cubicBezTo>
                      <a:pt x="9984" y="2"/>
                      <a:pt x="9985" y="3"/>
                      <a:pt x="9985" y="4"/>
                    </a:cubicBezTo>
                    <a:cubicBezTo>
                      <a:pt x="9985" y="5"/>
                      <a:pt x="9984" y="6"/>
                      <a:pt x="9983" y="6"/>
                    </a:cubicBezTo>
                    <a:lnTo>
                      <a:pt x="9983" y="6"/>
                    </a:lnTo>
                    <a:cubicBezTo>
                      <a:pt x="9982" y="6"/>
                      <a:pt x="9981" y="5"/>
                      <a:pt x="9981" y="4"/>
                    </a:cubicBezTo>
                    <a:cubicBezTo>
                      <a:pt x="9981" y="3"/>
                      <a:pt x="9982" y="2"/>
                      <a:pt x="9983" y="2"/>
                    </a:cubicBezTo>
                    <a:close/>
                    <a:moveTo>
                      <a:pt x="9991" y="2"/>
                    </a:moveTo>
                    <a:lnTo>
                      <a:pt x="9991" y="2"/>
                    </a:lnTo>
                    <a:cubicBezTo>
                      <a:pt x="9992" y="2"/>
                      <a:pt x="9993" y="3"/>
                      <a:pt x="9993" y="4"/>
                    </a:cubicBezTo>
                    <a:cubicBezTo>
                      <a:pt x="9993" y="5"/>
                      <a:pt x="9992" y="6"/>
                      <a:pt x="9991" y="6"/>
                    </a:cubicBezTo>
                    <a:lnTo>
                      <a:pt x="9991" y="6"/>
                    </a:lnTo>
                    <a:cubicBezTo>
                      <a:pt x="9990" y="6"/>
                      <a:pt x="9989" y="5"/>
                      <a:pt x="9989" y="4"/>
                    </a:cubicBezTo>
                    <a:cubicBezTo>
                      <a:pt x="9989" y="3"/>
                      <a:pt x="9990" y="2"/>
                      <a:pt x="9991" y="2"/>
                    </a:cubicBezTo>
                    <a:close/>
                    <a:moveTo>
                      <a:pt x="9999" y="2"/>
                    </a:moveTo>
                    <a:lnTo>
                      <a:pt x="9999" y="2"/>
                    </a:lnTo>
                    <a:cubicBezTo>
                      <a:pt x="10000" y="2"/>
                      <a:pt x="10001" y="3"/>
                      <a:pt x="10001" y="4"/>
                    </a:cubicBezTo>
                    <a:cubicBezTo>
                      <a:pt x="10001" y="5"/>
                      <a:pt x="10000" y="6"/>
                      <a:pt x="9999" y="6"/>
                    </a:cubicBezTo>
                    <a:lnTo>
                      <a:pt x="9999" y="6"/>
                    </a:lnTo>
                    <a:cubicBezTo>
                      <a:pt x="9998" y="6"/>
                      <a:pt x="9997" y="5"/>
                      <a:pt x="9997" y="4"/>
                    </a:cubicBezTo>
                    <a:cubicBezTo>
                      <a:pt x="9997" y="3"/>
                      <a:pt x="9998" y="2"/>
                      <a:pt x="9999" y="2"/>
                    </a:cubicBezTo>
                    <a:close/>
                    <a:moveTo>
                      <a:pt x="10007" y="2"/>
                    </a:moveTo>
                    <a:lnTo>
                      <a:pt x="10007" y="2"/>
                    </a:lnTo>
                    <a:cubicBezTo>
                      <a:pt x="10008" y="2"/>
                      <a:pt x="10009" y="3"/>
                      <a:pt x="10009" y="4"/>
                    </a:cubicBezTo>
                    <a:cubicBezTo>
                      <a:pt x="10009" y="5"/>
                      <a:pt x="10008" y="6"/>
                      <a:pt x="10007" y="6"/>
                    </a:cubicBezTo>
                    <a:lnTo>
                      <a:pt x="10007" y="6"/>
                    </a:lnTo>
                    <a:cubicBezTo>
                      <a:pt x="10006" y="6"/>
                      <a:pt x="10005" y="5"/>
                      <a:pt x="10005" y="4"/>
                    </a:cubicBezTo>
                    <a:cubicBezTo>
                      <a:pt x="10005" y="3"/>
                      <a:pt x="10006" y="2"/>
                      <a:pt x="10007" y="2"/>
                    </a:cubicBezTo>
                    <a:close/>
                    <a:moveTo>
                      <a:pt x="10015" y="2"/>
                    </a:moveTo>
                    <a:lnTo>
                      <a:pt x="10015" y="2"/>
                    </a:lnTo>
                    <a:cubicBezTo>
                      <a:pt x="10016" y="2"/>
                      <a:pt x="10017" y="3"/>
                      <a:pt x="10017" y="4"/>
                    </a:cubicBezTo>
                    <a:cubicBezTo>
                      <a:pt x="10017" y="5"/>
                      <a:pt x="10016" y="6"/>
                      <a:pt x="10015" y="6"/>
                    </a:cubicBezTo>
                    <a:lnTo>
                      <a:pt x="10015" y="6"/>
                    </a:lnTo>
                    <a:cubicBezTo>
                      <a:pt x="10014" y="6"/>
                      <a:pt x="10013" y="5"/>
                      <a:pt x="10013" y="4"/>
                    </a:cubicBezTo>
                    <a:cubicBezTo>
                      <a:pt x="10013" y="3"/>
                      <a:pt x="10014" y="2"/>
                      <a:pt x="10015" y="2"/>
                    </a:cubicBezTo>
                    <a:close/>
                    <a:moveTo>
                      <a:pt x="10023" y="2"/>
                    </a:moveTo>
                    <a:lnTo>
                      <a:pt x="10023" y="2"/>
                    </a:lnTo>
                    <a:cubicBezTo>
                      <a:pt x="10024" y="2"/>
                      <a:pt x="10025" y="3"/>
                      <a:pt x="10025" y="4"/>
                    </a:cubicBezTo>
                    <a:cubicBezTo>
                      <a:pt x="10025" y="5"/>
                      <a:pt x="10024" y="6"/>
                      <a:pt x="10023" y="6"/>
                    </a:cubicBezTo>
                    <a:lnTo>
                      <a:pt x="10023" y="6"/>
                    </a:lnTo>
                    <a:cubicBezTo>
                      <a:pt x="10022" y="6"/>
                      <a:pt x="10021" y="5"/>
                      <a:pt x="10021" y="4"/>
                    </a:cubicBezTo>
                    <a:cubicBezTo>
                      <a:pt x="10021" y="3"/>
                      <a:pt x="10022" y="2"/>
                      <a:pt x="10023" y="2"/>
                    </a:cubicBezTo>
                    <a:close/>
                    <a:moveTo>
                      <a:pt x="10031" y="2"/>
                    </a:moveTo>
                    <a:lnTo>
                      <a:pt x="10031" y="2"/>
                    </a:lnTo>
                    <a:cubicBezTo>
                      <a:pt x="10032" y="2"/>
                      <a:pt x="10033" y="3"/>
                      <a:pt x="10033" y="4"/>
                    </a:cubicBezTo>
                    <a:cubicBezTo>
                      <a:pt x="10033" y="5"/>
                      <a:pt x="10032" y="6"/>
                      <a:pt x="10031" y="6"/>
                    </a:cubicBezTo>
                    <a:lnTo>
                      <a:pt x="10031" y="6"/>
                    </a:lnTo>
                    <a:cubicBezTo>
                      <a:pt x="10030" y="6"/>
                      <a:pt x="10029" y="5"/>
                      <a:pt x="10029" y="4"/>
                    </a:cubicBezTo>
                    <a:cubicBezTo>
                      <a:pt x="10029" y="3"/>
                      <a:pt x="10030" y="2"/>
                      <a:pt x="10031" y="2"/>
                    </a:cubicBezTo>
                    <a:close/>
                    <a:moveTo>
                      <a:pt x="10039" y="2"/>
                    </a:moveTo>
                    <a:lnTo>
                      <a:pt x="10039" y="2"/>
                    </a:lnTo>
                    <a:cubicBezTo>
                      <a:pt x="10040" y="2"/>
                      <a:pt x="10041" y="3"/>
                      <a:pt x="10041" y="4"/>
                    </a:cubicBezTo>
                    <a:cubicBezTo>
                      <a:pt x="10041" y="5"/>
                      <a:pt x="10040" y="6"/>
                      <a:pt x="10039" y="6"/>
                    </a:cubicBezTo>
                    <a:lnTo>
                      <a:pt x="10039" y="6"/>
                    </a:lnTo>
                    <a:cubicBezTo>
                      <a:pt x="10038" y="6"/>
                      <a:pt x="10037" y="5"/>
                      <a:pt x="10037" y="4"/>
                    </a:cubicBezTo>
                    <a:cubicBezTo>
                      <a:pt x="10037" y="3"/>
                      <a:pt x="10038" y="2"/>
                      <a:pt x="10039" y="2"/>
                    </a:cubicBezTo>
                    <a:close/>
                    <a:moveTo>
                      <a:pt x="10047" y="2"/>
                    </a:moveTo>
                    <a:lnTo>
                      <a:pt x="10047" y="2"/>
                    </a:lnTo>
                    <a:cubicBezTo>
                      <a:pt x="10048" y="2"/>
                      <a:pt x="10049" y="3"/>
                      <a:pt x="10049" y="4"/>
                    </a:cubicBezTo>
                    <a:cubicBezTo>
                      <a:pt x="10049" y="5"/>
                      <a:pt x="10048" y="6"/>
                      <a:pt x="10047" y="6"/>
                    </a:cubicBezTo>
                    <a:lnTo>
                      <a:pt x="10047" y="6"/>
                    </a:lnTo>
                    <a:cubicBezTo>
                      <a:pt x="10046" y="6"/>
                      <a:pt x="10045" y="5"/>
                      <a:pt x="10045" y="4"/>
                    </a:cubicBezTo>
                    <a:cubicBezTo>
                      <a:pt x="10045" y="3"/>
                      <a:pt x="10046" y="2"/>
                      <a:pt x="10047" y="2"/>
                    </a:cubicBezTo>
                    <a:close/>
                    <a:moveTo>
                      <a:pt x="10055" y="2"/>
                    </a:moveTo>
                    <a:lnTo>
                      <a:pt x="10055" y="2"/>
                    </a:lnTo>
                    <a:cubicBezTo>
                      <a:pt x="10056" y="2"/>
                      <a:pt x="10057" y="3"/>
                      <a:pt x="10057" y="4"/>
                    </a:cubicBezTo>
                    <a:cubicBezTo>
                      <a:pt x="10057" y="5"/>
                      <a:pt x="10056" y="6"/>
                      <a:pt x="10055" y="6"/>
                    </a:cubicBezTo>
                    <a:lnTo>
                      <a:pt x="10055" y="6"/>
                    </a:lnTo>
                    <a:cubicBezTo>
                      <a:pt x="10054" y="6"/>
                      <a:pt x="10053" y="5"/>
                      <a:pt x="10053" y="4"/>
                    </a:cubicBezTo>
                    <a:cubicBezTo>
                      <a:pt x="10053" y="3"/>
                      <a:pt x="10054" y="2"/>
                      <a:pt x="10055" y="2"/>
                    </a:cubicBezTo>
                    <a:close/>
                    <a:moveTo>
                      <a:pt x="10063" y="2"/>
                    </a:moveTo>
                    <a:lnTo>
                      <a:pt x="10063" y="2"/>
                    </a:lnTo>
                    <a:cubicBezTo>
                      <a:pt x="10064" y="2"/>
                      <a:pt x="10065" y="3"/>
                      <a:pt x="10065" y="4"/>
                    </a:cubicBezTo>
                    <a:cubicBezTo>
                      <a:pt x="10065" y="5"/>
                      <a:pt x="10064" y="6"/>
                      <a:pt x="10063" y="6"/>
                    </a:cubicBezTo>
                    <a:lnTo>
                      <a:pt x="10063" y="6"/>
                    </a:lnTo>
                    <a:cubicBezTo>
                      <a:pt x="10062" y="6"/>
                      <a:pt x="10061" y="5"/>
                      <a:pt x="10061" y="4"/>
                    </a:cubicBezTo>
                    <a:cubicBezTo>
                      <a:pt x="10061" y="3"/>
                      <a:pt x="10062" y="2"/>
                      <a:pt x="10063" y="2"/>
                    </a:cubicBezTo>
                    <a:close/>
                    <a:moveTo>
                      <a:pt x="10071" y="2"/>
                    </a:moveTo>
                    <a:lnTo>
                      <a:pt x="10071" y="2"/>
                    </a:lnTo>
                    <a:cubicBezTo>
                      <a:pt x="10072" y="2"/>
                      <a:pt x="10073" y="3"/>
                      <a:pt x="10073" y="4"/>
                    </a:cubicBezTo>
                    <a:cubicBezTo>
                      <a:pt x="10073" y="5"/>
                      <a:pt x="10072" y="6"/>
                      <a:pt x="10071" y="6"/>
                    </a:cubicBezTo>
                    <a:lnTo>
                      <a:pt x="10071" y="6"/>
                    </a:lnTo>
                    <a:cubicBezTo>
                      <a:pt x="10070" y="6"/>
                      <a:pt x="10069" y="5"/>
                      <a:pt x="10069" y="4"/>
                    </a:cubicBezTo>
                    <a:cubicBezTo>
                      <a:pt x="10069" y="3"/>
                      <a:pt x="10070" y="2"/>
                      <a:pt x="10071" y="2"/>
                    </a:cubicBezTo>
                    <a:close/>
                    <a:moveTo>
                      <a:pt x="10079" y="2"/>
                    </a:moveTo>
                    <a:lnTo>
                      <a:pt x="10079" y="2"/>
                    </a:lnTo>
                    <a:cubicBezTo>
                      <a:pt x="10080" y="2"/>
                      <a:pt x="10081" y="3"/>
                      <a:pt x="10081" y="4"/>
                    </a:cubicBezTo>
                    <a:cubicBezTo>
                      <a:pt x="10081" y="5"/>
                      <a:pt x="10080" y="6"/>
                      <a:pt x="10079" y="6"/>
                    </a:cubicBezTo>
                    <a:lnTo>
                      <a:pt x="10079" y="6"/>
                    </a:lnTo>
                    <a:cubicBezTo>
                      <a:pt x="10078" y="6"/>
                      <a:pt x="10077" y="5"/>
                      <a:pt x="10077" y="4"/>
                    </a:cubicBezTo>
                    <a:cubicBezTo>
                      <a:pt x="10077" y="3"/>
                      <a:pt x="10078" y="2"/>
                      <a:pt x="10079" y="2"/>
                    </a:cubicBezTo>
                    <a:close/>
                    <a:moveTo>
                      <a:pt x="10087" y="2"/>
                    </a:moveTo>
                    <a:lnTo>
                      <a:pt x="10087" y="2"/>
                    </a:lnTo>
                    <a:cubicBezTo>
                      <a:pt x="10088" y="2"/>
                      <a:pt x="10089" y="3"/>
                      <a:pt x="10089" y="4"/>
                    </a:cubicBezTo>
                    <a:cubicBezTo>
                      <a:pt x="10089" y="5"/>
                      <a:pt x="10088" y="6"/>
                      <a:pt x="10087" y="6"/>
                    </a:cubicBezTo>
                    <a:lnTo>
                      <a:pt x="10087" y="6"/>
                    </a:lnTo>
                    <a:cubicBezTo>
                      <a:pt x="10086" y="6"/>
                      <a:pt x="10085" y="5"/>
                      <a:pt x="10085" y="4"/>
                    </a:cubicBezTo>
                    <a:cubicBezTo>
                      <a:pt x="10085" y="3"/>
                      <a:pt x="10086" y="2"/>
                      <a:pt x="10087" y="2"/>
                    </a:cubicBezTo>
                    <a:close/>
                    <a:moveTo>
                      <a:pt x="10095" y="2"/>
                    </a:moveTo>
                    <a:lnTo>
                      <a:pt x="10095" y="2"/>
                    </a:lnTo>
                    <a:cubicBezTo>
                      <a:pt x="10096" y="2"/>
                      <a:pt x="10097" y="3"/>
                      <a:pt x="10097" y="4"/>
                    </a:cubicBezTo>
                    <a:cubicBezTo>
                      <a:pt x="10097" y="5"/>
                      <a:pt x="10096" y="6"/>
                      <a:pt x="10095" y="6"/>
                    </a:cubicBezTo>
                    <a:lnTo>
                      <a:pt x="10095" y="6"/>
                    </a:lnTo>
                    <a:cubicBezTo>
                      <a:pt x="10094" y="6"/>
                      <a:pt x="10093" y="5"/>
                      <a:pt x="10093" y="4"/>
                    </a:cubicBezTo>
                    <a:cubicBezTo>
                      <a:pt x="10093" y="3"/>
                      <a:pt x="10094" y="2"/>
                      <a:pt x="10095" y="2"/>
                    </a:cubicBezTo>
                    <a:close/>
                    <a:moveTo>
                      <a:pt x="10103" y="2"/>
                    </a:moveTo>
                    <a:lnTo>
                      <a:pt x="10103" y="2"/>
                    </a:lnTo>
                    <a:cubicBezTo>
                      <a:pt x="10104" y="2"/>
                      <a:pt x="10105" y="3"/>
                      <a:pt x="10105" y="4"/>
                    </a:cubicBezTo>
                    <a:cubicBezTo>
                      <a:pt x="10105" y="5"/>
                      <a:pt x="10104" y="6"/>
                      <a:pt x="10103" y="6"/>
                    </a:cubicBezTo>
                    <a:lnTo>
                      <a:pt x="10103" y="6"/>
                    </a:lnTo>
                    <a:cubicBezTo>
                      <a:pt x="10102" y="6"/>
                      <a:pt x="10101" y="5"/>
                      <a:pt x="10101" y="4"/>
                    </a:cubicBezTo>
                    <a:cubicBezTo>
                      <a:pt x="10101" y="3"/>
                      <a:pt x="10102" y="2"/>
                      <a:pt x="10103" y="2"/>
                    </a:cubicBezTo>
                    <a:close/>
                    <a:moveTo>
                      <a:pt x="10111" y="2"/>
                    </a:moveTo>
                    <a:lnTo>
                      <a:pt x="10111" y="2"/>
                    </a:lnTo>
                    <a:cubicBezTo>
                      <a:pt x="10112" y="2"/>
                      <a:pt x="10113" y="3"/>
                      <a:pt x="10113" y="4"/>
                    </a:cubicBezTo>
                    <a:cubicBezTo>
                      <a:pt x="10113" y="5"/>
                      <a:pt x="10112" y="6"/>
                      <a:pt x="10111" y="6"/>
                    </a:cubicBezTo>
                    <a:lnTo>
                      <a:pt x="10111" y="6"/>
                    </a:lnTo>
                    <a:cubicBezTo>
                      <a:pt x="10110" y="6"/>
                      <a:pt x="10109" y="5"/>
                      <a:pt x="10109" y="4"/>
                    </a:cubicBezTo>
                    <a:cubicBezTo>
                      <a:pt x="10109" y="3"/>
                      <a:pt x="10110" y="2"/>
                      <a:pt x="10111" y="2"/>
                    </a:cubicBezTo>
                    <a:close/>
                    <a:moveTo>
                      <a:pt x="10119" y="2"/>
                    </a:moveTo>
                    <a:lnTo>
                      <a:pt x="10119" y="2"/>
                    </a:lnTo>
                    <a:cubicBezTo>
                      <a:pt x="10120" y="2"/>
                      <a:pt x="10121" y="3"/>
                      <a:pt x="10121" y="4"/>
                    </a:cubicBezTo>
                    <a:cubicBezTo>
                      <a:pt x="10121" y="5"/>
                      <a:pt x="10120" y="6"/>
                      <a:pt x="10119" y="6"/>
                    </a:cubicBezTo>
                    <a:lnTo>
                      <a:pt x="10119" y="6"/>
                    </a:lnTo>
                    <a:cubicBezTo>
                      <a:pt x="10118" y="6"/>
                      <a:pt x="10117" y="5"/>
                      <a:pt x="10117" y="4"/>
                    </a:cubicBezTo>
                    <a:cubicBezTo>
                      <a:pt x="10117" y="3"/>
                      <a:pt x="10118" y="2"/>
                      <a:pt x="10119" y="2"/>
                    </a:cubicBezTo>
                    <a:close/>
                    <a:moveTo>
                      <a:pt x="10127" y="2"/>
                    </a:moveTo>
                    <a:lnTo>
                      <a:pt x="10127" y="2"/>
                    </a:lnTo>
                    <a:cubicBezTo>
                      <a:pt x="10128" y="2"/>
                      <a:pt x="10129" y="3"/>
                      <a:pt x="10129" y="4"/>
                    </a:cubicBezTo>
                    <a:cubicBezTo>
                      <a:pt x="10129" y="5"/>
                      <a:pt x="10128" y="6"/>
                      <a:pt x="10127" y="6"/>
                    </a:cubicBezTo>
                    <a:lnTo>
                      <a:pt x="10127" y="6"/>
                    </a:lnTo>
                    <a:cubicBezTo>
                      <a:pt x="10126" y="6"/>
                      <a:pt x="10125" y="5"/>
                      <a:pt x="10125" y="4"/>
                    </a:cubicBezTo>
                    <a:cubicBezTo>
                      <a:pt x="10125" y="3"/>
                      <a:pt x="10126" y="2"/>
                      <a:pt x="10127" y="2"/>
                    </a:cubicBezTo>
                    <a:close/>
                    <a:moveTo>
                      <a:pt x="10135" y="2"/>
                    </a:moveTo>
                    <a:lnTo>
                      <a:pt x="10135" y="2"/>
                    </a:lnTo>
                    <a:cubicBezTo>
                      <a:pt x="10136" y="2"/>
                      <a:pt x="10137" y="3"/>
                      <a:pt x="10137" y="4"/>
                    </a:cubicBezTo>
                    <a:cubicBezTo>
                      <a:pt x="10137" y="5"/>
                      <a:pt x="10136" y="6"/>
                      <a:pt x="10135" y="6"/>
                    </a:cubicBezTo>
                    <a:lnTo>
                      <a:pt x="10135" y="6"/>
                    </a:lnTo>
                    <a:cubicBezTo>
                      <a:pt x="10134" y="6"/>
                      <a:pt x="10133" y="5"/>
                      <a:pt x="10133" y="4"/>
                    </a:cubicBezTo>
                    <a:cubicBezTo>
                      <a:pt x="10133" y="3"/>
                      <a:pt x="10134" y="2"/>
                      <a:pt x="10135" y="2"/>
                    </a:cubicBezTo>
                    <a:close/>
                    <a:moveTo>
                      <a:pt x="10143" y="2"/>
                    </a:moveTo>
                    <a:lnTo>
                      <a:pt x="10143" y="2"/>
                    </a:lnTo>
                    <a:cubicBezTo>
                      <a:pt x="10144" y="2"/>
                      <a:pt x="10145" y="3"/>
                      <a:pt x="10145" y="4"/>
                    </a:cubicBezTo>
                    <a:cubicBezTo>
                      <a:pt x="10145" y="5"/>
                      <a:pt x="10144" y="6"/>
                      <a:pt x="10143" y="6"/>
                    </a:cubicBezTo>
                    <a:lnTo>
                      <a:pt x="10143" y="6"/>
                    </a:lnTo>
                    <a:cubicBezTo>
                      <a:pt x="10142" y="6"/>
                      <a:pt x="10141" y="5"/>
                      <a:pt x="10141" y="4"/>
                    </a:cubicBezTo>
                    <a:cubicBezTo>
                      <a:pt x="10141" y="3"/>
                      <a:pt x="10142" y="2"/>
                      <a:pt x="10143" y="2"/>
                    </a:cubicBezTo>
                    <a:close/>
                    <a:moveTo>
                      <a:pt x="10151" y="2"/>
                    </a:moveTo>
                    <a:lnTo>
                      <a:pt x="10151" y="2"/>
                    </a:lnTo>
                    <a:cubicBezTo>
                      <a:pt x="10152" y="2"/>
                      <a:pt x="10153" y="3"/>
                      <a:pt x="10153" y="4"/>
                    </a:cubicBezTo>
                    <a:cubicBezTo>
                      <a:pt x="10153" y="5"/>
                      <a:pt x="10152" y="6"/>
                      <a:pt x="10151" y="6"/>
                    </a:cubicBezTo>
                    <a:lnTo>
                      <a:pt x="10151" y="6"/>
                    </a:lnTo>
                    <a:cubicBezTo>
                      <a:pt x="10150" y="6"/>
                      <a:pt x="10149" y="5"/>
                      <a:pt x="10149" y="4"/>
                    </a:cubicBezTo>
                    <a:cubicBezTo>
                      <a:pt x="10149" y="3"/>
                      <a:pt x="10150" y="2"/>
                      <a:pt x="10151" y="2"/>
                    </a:cubicBezTo>
                    <a:close/>
                    <a:moveTo>
                      <a:pt x="10159" y="2"/>
                    </a:moveTo>
                    <a:lnTo>
                      <a:pt x="10159" y="2"/>
                    </a:lnTo>
                    <a:cubicBezTo>
                      <a:pt x="10160" y="2"/>
                      <a:pt x="10161" y="3"/>
                      <a:pt x="10161" y="4"/>
                    </a:cubicBezTo>
                    <a:cubicBezTo>
                      <a:pt x="10161" y="5"/>
                      <a:pt x="10160" y="6"/>
                      <a:pt x="10159" y="6"/>
                    </a:cubicBezTo>
                    <a:lnTo>
                      <a:pt x="10159" y="6"/>
                    </a:lnTo>
                    <a:cubicBezTo>
                      <a:pt x="10158" y="6"/>
                      <a:pt x="10157" y="5"/>
                      <a:pt x="10157" y="4"/>
                    </a:cubicBezTo>
                    <a:cubicBezTo>
                      <a:pt x="10157" y="3"/>
                      <a:pt x="10158" y="2"/>
                      <a:pt x="10159" y="2"/>
                    </a:cubicBezTo>
                    <a:close/>
                    <a:moveTo>
                      <a:pt x="10167" y="2"/>
                    </a:moveTo>
                    <a:lnTo>
                      <a:pt x="10167" y="2"/>
                    </a:lnTo>
                    <a:cubicBezTo>
                      <a:pt x="10168" y="2"/>
                      <a:pt x="10169" y="3"/>
                      <a:pt x="10169" y="4"/>
                    </a:cubicBezTo>
                    <a:cubicBezTo>
                      <a:pt x="10169" y="5"/>
                      <a:pt x="10168" y="6"/>
                      <a:pt x="10167" y="6"/>
                    </a:cubicBezTo>
                    <a:lnTo>
                      <a:pt x="10167" y="6"/>
                    </a:lnTo>
                    <a:cubicBezTo>
                      <a:pt x="10166" y="6"/>
                      <a:pt x="10165" y="5"/>
                      <a:pt x="10165" y="4"/>
                    </a:cubicBezTo>
                    <a:cubicBezTo>
                      <a:pt x="10165" y="3"/>
                      <a:pt x="10166" y="2"/>
                      <a:pt x="10167" y="2"/>
                    </a:cubicBezTo>
                    <a:close/>
                    <a:moveTo>
                      <a:pt x="10175" y="2"/>
                    </a:moveTo>
                    <a:lnTo>
                      <a:pt x="10175" y="2"/>
                    </a:lnTo>
                    <a:cubicBezTo>
                      <a:pt x="10176" y="2"/>
                      <a:pt x="10177" y="3"/>
                      <a:pt x="10177" y="4"/>
                    </a:cubicBezTo>
                    <a:cubicBezTo>
                      <a:pt x="10177" y="5"/>
                      <a:pt x="10176" y="6"/>
                      <a:pt x="10175" y="6"/>
                    </a:cubicBezTo>
                    <a:lnTo>
                      <a:pt x="10175" y="6"/>
                    </a:lnTo>
                    <a:cubicBezTo>
                      <a:pt x="10174" y="6"/>
                      <a:pt x="10173" y="5"/>
                      <a:pt x="10173" y="4"/>
                    </a:cubicBezTo>
                    <a:cubicBezTo>
                      <a:pt x="10173" y="3"/>
                      <a:pt x="10174" y="2"/>
                      <a:pt x="10175" y="2"/>
                    </a:cubicBezTo>
                    <a:close/>
                    <a:moveTo>
                      <a:pt x="10183" y="2"/>
                    </a:moveTo>
                    <a:lnTo>
                      <a:pt x="10183" y="2"/>
                    </a:lnTo>
                    <a:cubicBezTo>
                      <a:pt x="10184" y="2"/>
                      <a:pt x="10185" y="3"/>
                      <a:pt x="10185" y="4"/>
                    </a:cubicBezTo>
                    <a:cubicBezTo>
                      <a:pt x="10185" y="5"/>
                      <a:pt x="10184" y="6"/>
                      <a:pt x="10183" y="6"/>
                    </a:cubicBezTo>
                    <a:lnTo>
                      <a:pt x="10183" y="6"/>
                    </a:lnTo>
                    <a:cubicBezTo>
                      <a:pt x="10182" y="6"/>
                      <a:pt x="10181" y="5"/>
                      <a:pt x="10181" y="4"/>
                    </a:cubicBezTo>
                    <a:cubicBezTo>
                      <a:pt x="10181" y="3"/>
                      <a:pt x="10182" y="2"/>
                      <a:pt x="10183" y="2"/>
                    </a:cubicBezTo>
                    <a:close/>
                    <a:moveTo>
                      <a:pt x="10191" y="2"/>
                    </a:moveTo>
                    <a:lnTo>
                      <a:pt x="10191" y="2"/>
                    </a:lnTo>
                    <a:cubicBezTo>
                      <a:pt x="10192" y="2"/>
                      <a:pt x="10193" y="3"/>
                      <a:pt x="10193" y="4"/>
                    </a:cubicBezTo>
                    <a:cubicBezTo>
                      <a:pt x="10193" y="5"/>
                      <a:pt x="10192" y="6"/>
                      <a:pt x="10191" y="6"/>
                    </a:cubicBezTo>
                    <a:lnTo>
                      <a:pt x="10191" y="6"/>
                    </a:lnTo>
                    <a:cubicBezTo>
                      <a:pt x="10190" y="6"/>
                      <a:pt x="10189" y="5"/>
                      <a:pt x="10189" y="4"/>
                    </a:cubicBezTo>
                    <a:cubicBezTo>
                      <a:pt x="10189" y="3"/>
                      <a:pt x="10190" y="2"/>
                      <a:pt x="10191" y="2"/>
                    </a:cubicBezTo>
                    <a:close/>
                    <a:moveTo>
                      <a:pt x="10199" y="2"/>
                    </a:moveTo>
                    <a:lnTo>
                      <a:pt x="10199" y="2"/>
                    </a:lnTo>
                    <a:cubicBezTo>
                      <a:pt x="10200" y="2"/>
                      <a:pt x="10201" y="3"/>
                      <a:pt x="10201" y="4"/>
                    </a:cubicBezTo>
                    <a:cubicBezTo>
                      <a:pt x="10201" y="5"/>
                      <a:pt x="10200" y="6"/>
                      <a:pt x="10199" y="6"/>
                    </a:cubicBezTo>
                    <a:lnTo>
                      <a:pt x="10199" y="6"/>
                    </a:lnTo>
                    <a:cubicBezTo>
                      <a:pt x="10198" y="6"/>
                      <a:pt x="10197" y="5"/>
                      <a:pt x="10197" y="4"/>
                    </a:cubicBezTo>
                    <a:cubicBezTo>
                      <a:pt x="10197" y="3"/>
                      <a:pt x="10198" y="2"/>
                      <a:pt x="10199" y="2"/>
                    </a:cubicBezTo>
                    <a:close/>
                    <a:moveTo>
                      <a:pt x="10207" y="2"/>
                    </a:moveTo>
                    <a:lnTo>
                      <a:pt x="10207" y="2"/>
                    </a:lnTo>
                    <a:cubicBezTo>
                      <a:pt x="10208" y="2"/>
                      <a:pt x="10209" y="3"/>
                      <a:pt x="10209" y="4"/>
                    </a:cubicBezTo>
                    <a:cubicBezTo>
                      <a:pt x="10209" y="5"/>
                      <a:pt x="10208" y="6"/>
                      <a:pt x="10207" y="6"/>
                    </a:cubicBezTo>
                    <a:lnTo>
                      <a:pt x="10207" y="6"/>
                    </a:lnTo>
                    <a:cubicBezTo>
                      <a:pt x="10206" y="6"/>
                      <a:pt x="10205" y="5"/>
                      <a:pt x="10205" y="4"/>
                    </a:cubicBezTo>
                    <a:cubicBezTo>
                      <a:pt x="10205" y="3"/>
                      <a:pt x="10206" y="2"/>
                      <a:pt x="10207" y="2"/>
                    </a:cubicBezTo>
                    <a:close/>
                    <a:moveTo>
                      <a:pt x="10215" y="2"/>
                    </a:moveTo>
                    <a:lnTo>
                      <a:pt x="10215" y="2"/>
                    </a:lnTo>
                    <a:cubicBezTo>
                      <a:pt x="10216" y="2"/>
                      <a:pt x="10217" y="3"/>
                      <a:pt x="10217" y="4"/>
                    </a:cubicBezTo>
                    <a:cubicBezTo>
                      <a:pt x="10217" y="5"/>
                      <a:pt x="10216" y="6"/>
                      <a:pt x="10215" y="6"/>
                    </a:cubicBezTo>
                    <a:lnTo>
                      <a:pt x="10215" y="6"/>
                    </a:lnTo>
                    <a:cubicBezTo>
                      <a:pt x="10214" y="6"/>
                      <a:pt x="10213" y="5"/>
                      <a:pt x="10213" y="4"/>
                    </a:cubicBezTo>
                    <a:cubicBezTo>
                      <a:pt x="10213" y="3"/>
                      <a:pt x="10214" y="2"/>
                      <a:pt x="10215" y="2"/>
                    </a:cubicBezTo>
                    <a:close/>
                    <a:moveTo>
                      <a:pt x="10223" y="2"/>
                    </a:moveTo>
                    <a:lnTo>
                      <a:pt x="10223" y="2"/>
                    </a:lnTo>
                    <a:cubicBezTo>
                      <a:pt x="10224" y="2"/>
                      <a:pt x="10225" y="3"/>
                      <a:pt x="10225" y="4"/>
                    </a:cubicBezTo>
                    <a:cubicBezTo>
                      <a:pt x="10225" y="5"/>
                      <a:pt x="10224" y="6"/>
                      <a:pt x="10223" y="6"/>
                    </a:cubicBezTo>
                    <a:lnTo>
                      <a:pt x="10223" y="6"/>
                    </a:lnTo>
                    <a:cubicBezTo>
                      <a:pt x="10222" y="6"/>
                      <a:pt x="10221" y="5"/>
                      <a:pt x="10221" y="4"/>
                    </a:cubicBezTo>
                    <a:cubicBezTo>
                      <a:pt x="10221" y="3"/>
                      <a:pt x="10222" y="2"/>
                      <a:pt x="10223" y="2"/>
                    </a:cubicBezTo>
                    <a:close/>
                    <a:moveTo>
                      <a:pt x="10231" y="2"/>
                    </a:moveTo>
                    <a:lnTo>
                      <a:pt x="10231" y="2"/>
                    </a:lnTo>
                    <a:cubicBezTo>
                      <a:pt x="10232" y="2"/>
                      <a:pt x="10233" y="3"/>
                      <a:pt x="10233" y="4"/>
                    </a:cubicBezTo>
                    <a:cubicBezTo>
                      <a:pt x="10233" y="5"/>
                      <a:pt x="10232" y="6"/>
                      <a:pt x="10231" y="6"/>
                    </a:cubicBezTo>
                    <a:lnTo>
                      <a:pt x="10231" y="6"/>
                    </a:lnTo>
                    <a:cubicBezTo>
                      <a:pt x="10230" y="6"/>
                      <a:pt x="10229" y="5"/>
                      <a:pt x="10229" y="4"/>
                    </a:cubicBezTo>
                    <a:cubicBezTo>
                      <a:pt x="10229" y="3"/>
                      <a:pt x="10230" y="2"/>
                      <a:pt x="10231" y="2"/>
                    </a:cubicBezTo>
                    <a:close/>
                    <a:moveTo>
                      <a:pt x="10239" y="2"/>
                    </a:moveTo>
                    <a:lnTo>
                      <a:pt x="10239" y="2"/>
                    </a:lnTo>
                    <a:cubicBezTo>
                      <a:pt x="10240" y="2"/>
                      <a:pt x="10241" y="3"/>
                      <a:pt x="10241" y="4"/>
                    </a:cubicBezTo>
                    <a:cubicBezTo>
                      <a:pt x="10241" y="5"/>
                      <a:pt x="10240" y="6"/>
                      <a:pt x="10239" y="6"/>
                    </a:cubicBezTo>
                    <a:lnTo>
                      <a:pt x="10239" y="6"/>
                    </a:lnTo>
                    <a:cubicBezTo>
                      <a:pt x="10238" y="6"/>
                      <a:pt x="10237" y="5"/>
                      <a:pt x="10237" y="4"/>
                    </a:cubicBezTo>
                    <a:cubicBezTo>
                      <a:pt x="10237" y="3"/>
                      <a:pt x="10238" y="2"/>
                      <a:pt x="10239" y="2"/>
                    </a:cubicBezTo>
                    <a:close/>
                    <a:moveTo>
                      <a:pt x="10247" y="2"/>
                    </a:moveTo>
                    <a:lnTo>
                      <a:pt x="10247" y="2"/>
                    </a:lnTo>
                    <a:cubicBezTo>
                      <a:pt x="10248" y="2"/>
                      <a:pt x="10249" y="3"/>
                      <a:pt x="10249" y="4"/>
                    </a:cubicBezTo>
                    <a:cubicBezTo>
                      <a:pt x="10249" y="5"/>
                      <a:pt x="10248" y="6"/>
                      <a:pt x="10247" y="6"/>
                    </a:cubicBezTo>
                    <a:lnTo>
                      <a:pt x="10247" y="6"/>
                    </a:lnTo>
                    <a:cubicBezTo>
                      <a:pt x="10246" y="6"/>
                      <a:pt x="10245" y="5"/>
                      <a:pt x="10245" y="4"/>
                    </a:cubicBezTo>
                    <a:cubicBezTo>
                      <a:pt x="10245" y="3"/>
                      <a:pt x="10246" y="2"/>
                      <a:pt x="10247" y="2"/>
                    </a:cubicBezTo>
                    <a:close/>
                    <a:moveTo>
                      <a:pt x="10255" y="2"/>
                    </a:moveTo>
                    <a:lnTo>
                      <a:pt x="10255" y="2"/>
                    </a:lnTo>
                    <a:cubicBezTo>
                      <a:pt x="10256" y="2"/>
                      <a:pt x="10257" y="3"/>
                      <a:pt x="10257" y="4"/>
                    </a:cubicBezTo>
                    <a:cubicBezTo>
                      <a:pt x="10257" y="5"/>
                      <a:pt x="10256" y="6"/>
                      <a:pt x="10255" y="6"/>
                    </a:cubicBezTo>
                    <a:lnTo>
                      <a:pt x="10255" y="6"/>
                    </a:lnTo>
                    <a:cubicBezTo>
                      <a:pt x="10254" y="6"/>
                      <a:pt x="10253" y="5"/>
                      <a:pt x="10253" y="4"/>
                    </a:cubicBezTo>
                    <a:cubicBezTo>
                      <a:pt x="10253" y="3"/>
                      <a:pt x="10254" y="2"/>
                      <a:pt x="10255" y="2"/>
                    </a:cubicBezTo>
                    <a:close/>
                    <a:moveTo>
                      <a:pt x="10263" y="2"/>
                    </a:moveTo>
                    <a:lnTo>
                      <a:pt x="10263" y="2"/>
                    </a:lnTo>
                    <a:cubicBezTo>
                      <a:pt x="10264" y="2"/>
                      <a:pt x="10265" y="3"/>
                      <a:pt x="10265" y="4"/>
                    </a:cubicBezTo>
                    <a:cubicBezTo>
                      <a:pt x="10265" y="5"/>
                      <a:pt x="10264" y="6"/>
                      <a:pt x="10263" y="6"/>
                    </a:cubicBezTo>
                    <a:lnTo>
                      <a:pt x="10263" y="6"/>
                    </a:lnTo>
                    <a:cubicBezTo>
                      <a:pt x="10262" y="6"/>
                      <a:pt x="10261" y="5"/>
                      <a:pt x="10261" y="4"/>
                    </a:cubicBezTo>
                    <a:cubicBezTo>
                      <a:pt x="10261" y="3"/>
                      <a:pt x="10262" y="2"/>
                      <a:pt x="10263" y="2"/>
                    </a:cubicBezTo>
                    <a:close/>
                    <a:moveTo>
                      <a:pt x="10271" y="2"/>
                    </a:moveTo>
                    <a:lnTo>
                      <a:pt x="10271" y="2"/>
                    </a:lnTo>
                    <a:cubicBezTo>
                      <a:pt x="10272" y="2"/>
                      <a:pt x="10273" y="3"/>
                      <a:pt x="10273" y="4"/>
                    </a:cubicBezTo>
                    <a:cubicBezTo>
                      <a:pt x="10273" y="5"/>
                      <a:pt x="10272" y="6"/>
                      <a:pt x="10271" y="6"/>
                    </a:cubicBezTo>
                    <a:lnTo>
                      <a:pt x="10271" y="6"/>
                    </a:lnTo>
                    <a:cubicBezTo>
                      <a:pt x="10270" y="6"/>
                      <a:pt x="10269" y="5"/>
                      <a:pt x="10269" y="4"/>
                    </a:cubicBezTo>
                    <a:cubicBezTo>
                      <a:pt x="10269" y="3"/>
                      <a:pt x="10270" y="2"/>
                      <a:pt x="10271" y="2"/>
                    </a:cubicBezTo>
                    <a:close/>
                    <a:moveTo>
                      <a:pt x="10279" y="2"/>
                    </a:moveTo>
                    <a:lnTo>
                      <a:pt x="10279" y="2"/>
                    </a:lnTo>
                    <a:cubicBezTo>
                      <a:pt x="10280" y="2"/>
                      <a:pt x="10281" y="3"/>
                      <a:pt x="10281" y="4"/>
                    </a:cubicBezTo>
                    <a:cubicBezTo>
                      <a:pt x="10281" y="5"/>
                      <a:pt x="10280" y="6"/>
                      <a:pt x="10279" y="6"/>
                    </a:cubicBezTo>
                    <a:lnTo>
                      <a:pt x="10279" y="6"/>
                    </a:lnTo>
                    <a:cubicBezTo>
                      <a:pt x="10278" y="6"/>
                      <a:pt x="10277" y="5"/>
                      <a:pt x="10277" y="4"/>
                    </a:cubicBezTo>
                    <a:cubicBezTo>
                      <a:pt x="10277" y="3"/>
                      <a:pt x="10278" y="2"/>
                      <a:pt x="10279" y="2"/>
                    </a:cubicBezTo>
                    <a:close/>
                    <a:moveTo>
                      <a:pt x="10287" y="2"/>
                    </a:moveTo>
                    <a:lnTo>
                      <a:pt x="10287" y="2"/>
                    </a:lnTo>
                    <a:cubicBezTo>
                      <a:pt x="10288" y="2"/>
                      <a:pt x="10289" y="3"/>
                      <a:pt x="10289" y="4"/>
                    </a:cubicBezTo>
                    <a:cubicBezTo>
                      <a:pt x="10289" y="5"/>
                      <a:pt x="10288" y="6"/>
                      <a:pt x="10287" y="6"/>
                    </a:cubicBezTo>
                    <a:lnTo>
                      <a:pt x="10287" y="6"/>
                    </a:lnTo>
                    <a:cubicBezTo>
                      <a:pt x="10286" y="6"/>
                      <a:pt x="10285" y="5"/>
                      <a:pt x="10285" y="4"/>
                    </a:cubicBezTo>
                    <a:cubicBezTo>
                      <a:pt x="10285" y="3"/>
                      <a:pt x="10286" y="2"/>
                      <a:pt x="10287" y="2"/>
                    </a:cubicBezTo>
                    <a:close/>
                    <a:moveTo>
                      <a:pt x="10295" y="2"/>
                    </a:moveTo>
                    <a:lnTo>
                      <a:pt x="10295" y="2"/>
                    </a:lnTo>
                    <a:cubicBezTo>
                      <a:pt x="10296" y="2"/>
                      <a:pt x="10297" y="3"/>
                      <a:pt x="10297" y="4"/>
                    </a:cubicBezTo>
                    <a:cubicBezTo>
                      <a:pt x="10297" y="5"/>
                      <a:pt x="10296" y="6"/>
                      <a:pt x="10295" y="6"/>
                    </a:cubicBezTo>
                    <a:lnTo>
                      <a:pt x="10295" y="6"/>
                    </a:lnTo>
                    <a:cubicBezTo>
                      <a:pt x="10294" y="6"/>
                      <a:pt x="10293" y="5"/>
                      <a:pt x="10293" y="4"/>
                    </a:cubicBezTo>
                    <a:cubicBezTo>
                      <a:pt x="10293" y="3"/>
                      <a:pt x="10294" y="2"/>
                      <a:pt x="10295" y="2"/>
                    </a:cubicBezTo>
                    <a:close/>
                    <a:moveTo>
                      <a:pt x="10303" y="2"/>
                    </a:moveTo>
                    <a:lnTo>
                      <a:pt x="10303" y="2"/>
                    </a:lnTo>
                    <a:cubicBezTo>
                      <a:pt x="10304" y="2"/>
                      <a:pt x="10305" y="3"/>
                      <a:pt x="10305" y="4"/>
                    </a:cubicBezTo>
                    <a:cubicBezTo>
                      <a:pt x="10305" y="5"/>
                      <a:pt x="10304" y="6"/>
                      <a:pt x="10303" y="6"/>
                    </a:cubicBezTo>
                    <a:lnTo>
                      <a:pt x="10303" y="6"/>
                    </a:lnTo>
                    <a:cubicBezTo>
                      <a:pt x="10302" y="6"/>
                      <a:pt x="10301" y="5"/>
                      <a:pt x="10301" y="4"/>
                    </a:cubicBezTo>
                    <a:cubicBezTo>
                      <a:pt x="10301" y="3"/>
                      <a:pt x="10302" y="2"/>
                      <a:pt x="10303" y="2"/>
                    </a:cubicBezTo>
                    <a:close/>
                    <a:moveTo>
                      <a:pt x="10311" y="2"/>
                    </a:moveTo>
                    <a:lnTo>
                      <a:pt x="10311" y="2"/>
                    </a:lnTo>
                    <a:cubicBezTo>
                      <a:pt x="10312" y="2"/>
                      <a:pt x="10313" y="3"/>
                      <a:pt x="10313" y="4"/>
                    </a:cubicBezTo>
                    <a:cubicBezTo>
                      <a:pt x="10313" y="5"/>
                      <a:pt x="10312" y="6"/>
                      <a:pt x="10311" y="6"/>
                    </a:cubicBezTo>
                    <a:lnTo>
                      <a:pt x="10311" y="6"/>
                    </a:lnTo>
                    <a:cubicBezTo>
                      <a:pt x="10310" y="6"/>
                      <a:pt x="10309" y="5"/>
                      <a:pt x="10309" y="4"/>
                    </a:cubicBezTo>
                    <a:cubicBezTo>
                      <a:pt x="10309" y="3"/>
                      <a:pt x="10310" y="2"/>
                      <a:pt x="10311" y="2"/>
                    </a:cubicBezTo>
                    <a:close/>
                    <a:moveTo>
                      <a:pt x="10319" y="2"/>
                    </a:moveTo>
                    <a:lnTo>
                      <a:pt x="10319" y="2"/>
                    </a:lnTo>
                    <a:cubicBezTo>
                      <a:pt x="10320" y="2"/>
                      <a:pt x="10321" y="3"/>
                      <a:pt x="10321" y="4"/>
                    </a:cubicBezTo>
                    <a:cubicBezTo>
                      <a:pt x="10321" y="5"/>
                      <a:pt x="10320" y="6"/>
                      <a:pt x="10319" y="6"/>
                    </a:cubicBezTo>
                    <a:lnTo>
                      <a:pt x="10319" y="6"/>
                    </a:lnTo>
                    <a:cubicBezTo>
                      <a:pt x="10318" y="6"/>
                      <a:pt x="10317" y="5"/>
                      <a:pt x="10317" y="4"/>
                    </a:cubicBezTo>
                    <a:cubicBezTo>
                      <a:pt x="10317" y="3"/>
                      <a:pt x="10318" y="2"/>
                      <a:pt x="10319" y="2"/>
                    </a:cubicBezTo>
                    <a:close/>
                    <a:moveTo>
                      <a:pt x="10327" y="2"/>
                    </a:moveTo>
                    <a:lnTo>
                      <a:pt x="10327" y="2"/>
                    </a:lnTo>
                    <a:cubicBezTo>
                      <a:pt x="10328" y="2"/>
                      <a:pt x="10329" y="3"/>
                      <a:pt x="10329" y="4"/>
                    </a:cubicBezTo>
                    <a:cubicBezTo>
                      <a:pt x="10329" y="5"/>
                      <a:pt x="10328" y="6"/>
                      <a:pt x="10327" y="6"/>
                    </a:cubicBezTo>
                    <a:lnTo>
                      <a:pt x="10327" y="6"/>
                    </a:lnTo>
                    <a:cubicBezTo>
                      <a:pt x="10326" y="6"/>
                      <a:pt x="10325" y="5"/>
                      <a:pt x="10325" y="4"/>
                    </a:cubicBezTo>
                    <a:cubicBezTo>
                      <a:pt x="10325" y="3"/>
                      <a:pt x="10326" y="2"/>
                      <a:pt x="10327" y="2"/>
                    </a:cubicBezTo>
                    <a:close/>
                    <a:moveTo>
                      <a:pt x="10335" y="2"/>
                    </a:moveTo>
                    <a:lnTo>
                      <a:pt x="10335" y="2"/>
                    </a:lnTo>
                    <a:cubicBezTo>
                      <a:pt x="10336" y="2"/>
                      <a:pt x="10337" y="3"/>
                      <a:pt x="10337" y="4"/>
                    </a:cubicBezTo>
                    <a:cubicBezTo>
                      <a:pt x="10337" y="5"/>
                      <a:pt x="10336" y="6"/>
                      <a:pt x="10335" y="6"/>
                    </a:cubicBezTo>
                    <a:lnTo>
                      <a:pt x="10335" y="6"/>
                    </a:lnTo>
                    <a:cubicBezTo>
                      <a:pt x="10334" y="6"/>
                      <a:pt x="10333" y="5"/>
                      <a:pt x="10333" y="4"/>
                    </a:cubicBezTo>
                    <a:cubicBezTo>
                      <a:pt x="10333" y="3"/>
                      <a:pt x="10334" y="2"/>
                      <a:pt x="10335" y="2"/>
                    </a:cubicBezTo>
                    <a:close/>
                    <a:moveTo>
                      <a:pt x="10343" y="2"/>
                    </a:moveTo>
                    <a:lnTo>
                      <a:pt x="10343" y="2"/>
                    </a:lnTo>
                    <a:cubicBezTo>
                      <a:pt x="10344" y="2"/>
                      <a:pt x="10345" y="3"/>
                      <a:pt x="10345" y="4"/>
                    </a:cubicBezTo>
                    <a:cubicBezTo>
                      <a:pt x="10345" y="5"/>
                      <a:pt x="10344" y="6"/>
                      <a:pt x="10343" y="6"/>
                    </a:cubicBezTo>
                    <a:lnTo>
                      <a:pt x="10343" y="6"/>
                    </a:lnTo>
                    <a:cubicBezTo>
                      <a:pt x="10342" y="6"/>
                      <a:pt x="10341" y="5"/>
                      <a:pt x="10341" y="4"/>
                    </a:cubicBezTo>
                    <a:cubicBezTo>
                      <a:pt x="10341" y="3"/>
                      <a:pt x="10342" y="2"/>
                      <a:pt x="10343" y="2"/>
                    </a:cubicBezTo>
                    <a:close/>
                    <a:moveTo>
                      <a:pt x="10351" y="2"/>
                    </a:moveTo>
                    <a:lnTo>
                      <a:pt x="10351" y="2"/>
                    </a:lnTo>
                    <a:cubicBezTo>
                      <a:pt x="10352" y="2"/>
                      <a:pt x="10353" y="3"/>
                      <a:pt x="10353" y="4"/>
                    </a:cubicBezTo>
                    <a:cubicBezTo>
                      <a:pt x="10353" y="5"/>
                      <a:pt x="10352" y="6"/>
                      <a:pt x="10351" y="6"/>
                    </a:cubicBezTo>
                    <a:lnTo>
                      <a:pt x="10351" y="6"/>
                    </a:lnTo>
                    <a:cubicBezTo>
                      <a:pt x="10350" y="6"/>
                      <a:pt x="10349" y="5"/>
                      <a:pt x="10349" y="4"/>
                    </a:cubicBezTo>
                    <a:cubicBezTo>
                      <a:pt x="10349" y="3"/>
                      <a:pt x="10350" y="2"/>
                      <a:pt x="10351" y="2"/>
                    </a:cubicBezTo>
                    <a:close/>
                    <a:moveTo>
                      <a:pt x="10359" y="2"/>
                    </a:moveTo>
                    <a:lnTo>
                      <a:pt x="10359" y="2"/>
                    </a:lnTo>
                    <a:cubicBezTo>
                      <a:pt x="10360" y="2"/>
                      <a:pt x="10361" y="3"/>
                      <a:pt x="10361" y="4"/>
                    </a:cubicBezTo>
                    <a:cubicBezTo>
                      <a:pt x="10361" y="5"/>
                      <a:pt x="10360" y="6"/>
                      <a:pt x="10359" y="6"/>
                    </a:cubicBezTo>
                    <a:lnTo>
                      <a:pt x="10359" y="6"/>
                    </a:lnTo>
                    <a:cubicBezTo>
                      <a:pt x="10358" y="6"/>
                      <a:pt x="10357" y="5"/>
                      <a:pt x="10357" y="4"/>
                    </a:cubicBezTo>
                    <a:cubicBezTo>
                      <a:pt x="10357" y="3"/>
                      <a:pt x="10358" y="2"/>
                      <a:pt x="10359" y="2"/>
                    </a:cubicBezTo>
                    <a:close/>
                    <a:moveTo>
                      <a:pt x="10367" y="2"/>
                    </a:moveTo>
                    <a:lnTo>
                      <a:pt x="10367" y="2"/>
                    </a:lnTo>
                    <a:cubicBezTo>
                      <a:pt x="10368" y="2"/>
                      <a:pt x="10369" y="3"/>
                      <a:pt x="10369" y="4"/>
                    </a:cubicBezTo>
                    <a:cubicBezTo>
                      <a:pt x="10369" y="5"/>
                      <a:pt x="10368" y="6"/>
                      <a:pt x="10367" y="6"/>
                    </a:cubicBezTo>
                    <a:lnTo>
                      <a:pt x="10367" y="6"/>
                    </a:lnTo>
                    <a:cubicBezTo>
                      <a:pt x="10366" y="6"/>
                      <a:pt x="10365" y="5"/>
                      <a:pt x="10365" y="4"/>
                    </a:cubicBezTo>
                    <a:cubicBezTo>
                      <a:pt x="10365" y="3"/>
                      <a:pt x="10366" y="2"/>
                      <a:pt x="10367" y="2"/>
                    </a:cubicBezTo>
                    <a:close/>
                    <a:moveTo>
                      <a:pt x="10375" y="2"/>
                    </a:moveTo>
                    <a:lnTo>
                      <a:pt x="10375" y="2"/>
                    </a:lnTo>
                    <a:cubicBezTo>
                      <a:pt x="10376" y="2"/>
                      <a:pt x="10377" y="3"/>
                      <a:pt x="10377" y="4"/>
                    </a:cubicBezTo>
                    <a:cubicBezTo>
                      <a:pt x="10377" y="5"/>
                      <a:pt x="10376" y="6"/>
                      <a:pt x="10375" y="6"/>
                    </a:cubicBezTo>
                    <a:lnTo>
                      <a:pt x="10375" y="6"/>
                    </a:lnTo>
                    <a:cubicBezTo>
                      <a:pt x="10374" y="6"/>
                      <a:pt x="10373" y="5"/>
                      <a:pt x="10373" y="4"/>
                    </a:cubicBezTo>
                    <a:cubicBezTo>
                      <a:pt x="10373" y="3"/>
                      <a:pt x="10374" y="2"/>
                      <a:pt x="10375" y="2"/>
                    </a:cubicBezTo>
                    <a:close/>
                    <a:moveTo>
                      <a:pt x="10383" y="2"/>
                    </a:moveTo>
                    <a:lnTo>
                      <a:pt x="10383" y="2"/>
                    </a:lnTo>
                    <a:cubicBezTo>
                      <a:pt x="10384" y="2"/>
                      <a:pt x="10385" y="3"/>
                      <a:pt x="10385" y="4"/>
                    </a:cubicBezTo>
                    <a:cubicBezTo>
                      <a:pt x="10385" y="5"/>
                      <a:pt x="10384" y="6"/>
                      <a:pt x="10383" y="6"/>
                    </a:cubicBezTo>
                    <a:lnTo>
                      <a:pt x="10383" y="6"/>
                    </a:lnTo>
                    <a:cubicBezTo>
                      <a:pt x="10382" y="6"/>
                      <a:pt x="10381" y="5"/>
                      <a:pt x="10381" y="4"/>
                    </a:cubicBezTo>
                    <a:cubicBezTo>
                      <a:pt x="10381" y="3"/>
                      <a:pt x="10382" y="2"/>
                      <a:pt x="10383" y="2"/>
                    </a:cubicBezTo>
                    <a:close/>
                    <a:moveTo>
                      <a:pt x="10391" y="2"/>
                    </a:moveTo>
                    <a:lnTo>
                      <a:pt x="10391" y="2"/>
                    </a:lnTo>
                    <a:cubicBezTo>
                      <a:pt x="10392" y="2"/>
                      <a:pt x="10393" y="3"/>
                      <a:pt x="10393" y="4"/>
                    </a:cubicBezTo>
                    <a:cubicBezTo>
                      <a:pt x="10393" y="5"/>
                      <a:pt x="10392" y="6"/>
                      <a:pt x="10391" y="6"/>
                    </a:cubicBezTo>
                    <a:lnTo>
                      <a:pt x="10391" y="6"/>
                    </a:lnTo>
                    <a:cubicBezTo>
                      <a:pt x="10390" y="6"/>
                      <a:pt x="10389" y="5"/>
                      <a:pt x="10389" y="4"/>
                    </a:cubicBezTo>
                    <a:cubicBezTo>
                      <a:pt x="10389" y="3"/>
                      <a:pt x="10390" y="2"/>
                      <a:pt x="10391" y="2"/>
                    </a:cubicBezTo>
                    <a:close/>
                    <a:moveTo>
                      <a:pt x="10399" y="2"/>
                    </a:moveTo>
                    <a:lnTo>
                      <a:pt x="10399" y="2"/>
                    </a:lnTo>
                    <a:cubicBezTo>
                      <a:pt x="10400" y="2"/>
                      <a:pt x="10401" y="3"/>
                      <a:pt x="10401" y="4"/>
                    </a:cubicBezTo>
                    <a:cubicBezTo>
                      <a:pt x="10401" y="5"/>
                      <a:pt x="10400" y="6"/>
                      <a:pt x="10399" y="6"/>
                    </a:cubicBezTo>
                    <a:lnTo>
                      <a:pt x="10399" y="6"/>
                    </a:lnTo>
                    <a:cubicBezTo>
                      <a:pt x="10398" y="6"/>
                      <a:pt x="10397" y="5"/>
                      <a:pt x="10397" y="4"/>
                    </a:cubicBezTo>
                    <a:cubicBezTo>
                      <a:pt x="10397" y="3"/>
                      <a:pt x="10398" y="2"/>
                      <a:pt x="10399" y="2"/>
                    </a:cubicBezTo>
                    <a:close/>
                    <a:moveTo>
                      <a:pt x="10407" y="2"/>
                    </a:moveTo>
                    <a:lnTo>
                      <a:pt x="10407" y="2"/>
                    </a:lnTo>
                    <a:cubicBezTo>
                      <a:pt x="10408" y="2"/>
                      <a:pt x="10409" y="3"/>
                      <a:pt x="10409" y="4"/>
                    </a:cubicBezTo>
                    <a:cubicBezTo>
                      <a:pt x="10409" y="5"/>
                      <a:pt x="10408" y="6"/>
                      <a:pt x="10407" y="6"/>
                    </a:cubicBezTo>
                    <a:lnTo>
                      <a:pt x="10407" y="6"/>
                    </a:lnTo>
                    <a:cubicBezTo>
                      <a:pt x="10406" y="6"/>
                      <a:pt x="10405" y="5"/>
                      <a:pt x="10405" y="4"/>
                    </a:cubicBezTo>
                    <a:cubicBezTo>
                      <a:pt x="10405" y="3"/>
                      <a:pt x="10406" y="2"/>
                      <a:pt x="10407" y="2"/>
                    </a:cubicBezTo>
                    <a:close/>
                    <a:moveTo>
                      <a:pt x="10415" y="2"/>
                    </a:moveTo>
                    <a:lnTo>
                      <a:pt x="10415" y="2"/>
                    </a:lnTo>
                    <a:cubicBezTo>
                      <a:pt x="10416" y="2"/>
                      <a:pt x="10417" y="3"/>
                      <a:pt x="10417" y="4"/>
                    </a:cubicBezTo>
                    <a:cubicBezTo>
                      <a:pt x="10417" y="5"/>
                      <a:pt x="10416" y="6"/>
                      <a:pt x="10415" y="6"/>
                    </a:cubicBezTo>
                    <a:lnTo>
                      <a:pt x="10415" y="6"/>
                    </a:lnTo>
                    <a:cubicBezTo>
                      <a:pt x="10414" y="6"/>
                      <a:pt x="10413" y="5"/>
                      <a:pt x="10413" y="4"/>
                    </a:cubicBezTo>
                    <a:cubicBezTo>
                      <a:pt x="10413" y="3"/>
                      <a:pt x="10414" y="2"/>
                      <a:pt x="10415" y="2"/>
                    </a:cubicBezTo>
                    <a:close/>
                    <a:moveTo>
                      <a:pt x="10423" y="2"/>
                    </a:moveTo>
                    <a:lnTo>
                      <a:pt x="10423" y="2"/>
                    </a:lnTo>
                    <a:cubicBezTo>
                      <a:pt x="10424" y="2"/>
                      <a:pt x="10425" y="3"/>
                      <a:pt x="10425" y="4"/>
                    </a:cubicBezTo>
                    <a:cubicBezTo>
                      <a:pt x="10425" y="5"/>
                      <a:pt x="10424" y="6"/>
                      <a:pt x="10423" y="6"/>
                    </a:cubicBezTo>
                    <a:lnTo>
                      <a:pt x="10423" y="6"/>
                    </a:lnTo>
                    <a:cubicBezTo>
                      <a:pt x="10422" y="6"/>
                      <a:pt x="10421" y="5"/>
                      <a:pt x="10421" y="4"/>
                    </a:cubicBezTo>
                    <a:cubicBezTo>
                      <a:pt x="10421" y="3"/>
                      <a:pt x="10422" y="2"/>
                      <a:pt x="10423" y="2"/>
                    </a:cubicBezTo>
                    <a:close/>
                    <a:moveTo>
                      <a:pt x="10431" y="2"/>
                    </a:moveTo>
                    <a:lnTo>
                      <a:pt x="10431" y="2"/>
                    </a:lnTo>
                    <a:cubicBezTo>
                      <a:pt x="10432" y="2"/>
                      <a:pt x="10433" y="3"/>
                      <a:pt x="10433" y="4"/>
                    </a:cubicBezTo>
                    <a:cubicBezTo>
                      <a:pt x="10433" y="5"/>
                      <a:pt x="10432" y="6"/>
                      <a:pt x="10431" y="6"/>
                    </a:cubicBezTo>
                    <a:lnTo>
                      <a:pt x="10431" y="6"/>
                    </a:lnTo>
                    <a:cubicBezTo>
                      <a:pt x="10430" y="6"/>
                      <a:pt x="10429" y="5"/>
                      <a:pt x="10429" y="4"/>
                    </a:cubicBezTo>
                    <a:cubicBezTo>
                      <a:pt x="10429" y="3"/>
                      <a:pt x="10430" y="2"/>
                      <a:pt x="10431" y="2"/>
                    </a:cubicBezTo>
                    <a:close/>
                    <a:moveTo>
                      <a:pt x="10439" y="2"/>
                    </a:moveTo>
                    <a:lnTo>
                      <a:pt x="10439" y="2"/>
                    </a:lnTo>
                    <a:cubicBezTo>
                      <a:pt x="10440" y="2"/>
                      <a:pt x="10441" y="3"/>
                      <a:pt x="10441" y="4"/>
                    </a:cubicBezTo>
                    <a:cubicBezTo>
                      <a:pt x="10441" y="5"/>
                      <a:pt x="10440" y="6"/>
                      <a:pt x="10439" y="6"/>
                    </a:cubicBezTo>
                    <a:lnTo>
                      <a:pt x="10439" y="6"/>
                    </a:lnTo>
                    <a:cubicBezTo>
                      <a:pt x="10438" y="6"/>
                      <a:pt x="10437" y="5"/>
                      <a:pt x="10437" y="4"/>
                    </a:cubicBezTo>
                    <a:cubicBezTo>
                      <a:pt x="10437" y="3"/>
                      <a:pt x="10438" y="2"/>
                      <a:pt x="10439" y="2"/>
                    </a:cubicBezTo>
                    <a:close/>
                    <a:moveTo>
                      <a:pt x="10447" y="2"/>
                    </a:moveTo>
                    <a:lnTo>
                      <a:pt x="10447" y="2"/>
                    </a:lnTo>
                    <a:cubicBezTo>
                      <a:pt x="10448" y="2"/>
                      <a:pt x="10449" y="3"/>
                      <a:pt x="10449" y="4"/>
                    </a:cubicBezTo>
                    <a:cubicBezTo>
                      <a:pt x="10449" y="5"/>
                      <a:pt x="10448" y="6"/>
                      <a:pt x="10447" y="6"/>
                    </a:cubicBezTo>
                    <a:lnTo>
                      <a:pt x="10447" y="6"/>
                    </a:lnTo>
                    <a:cubicBezTo>
                      <a:pt x="10446" y="6"/>
                      <a:pt x="10445" y="5"/>
                      <a:pt x="10445" y="4"/>
                    </a:cubicBezTo>
                    <a:cubicBezTo>
                      <a:pt x="10445" y="3"/>
                      <a:pt x="10446" y="2"/>
                      <a:pt x="10447" y="2"/>
                    </a:cubicBezTo>
                    <a:close/>
                    <a:moveTo>
                      <a:pt x="10455" y="2"/>
                    </a:moveTo>
                    <a:lnTo>
                      <a:pt x="10455" y="2"/>
                    </a:lnTo>
                    <a:cubicBezTo>
                      <a:pt x="10456" y="2"/>
                      <a:pt x="10457" y="3"/>
                      <a:pt x="10457" y="4"/>
                    </a:cubicBezTo>
                    <a:cubicBezTo>
                      <a:pt x="10457" y="5"/>
                      <a:pt x="10456" y="6"/>
                      <a:pt x="10455" y="6"/>
                    </a:cubicBezTo>
                    <a:lnTo>
                      <a:pt x="10455" y="6"/>
                    </a:lnTo>
                    <a:cubicBezTo>
                      <a:pt x="10454" y="6"/>
                      <a:pt x="10453" y="5"/>
                      <a:pt x="10453" y="4"/>
                    </a:cubicBezTo>
                    <a:cubicBezTo>
                      <a:pt x="10453" y="3"/>
                      <a:pt x="10454" y="2"/>
                      <a:pt x="10455" y="2"/>
                    </a:cubicBezTo>
                    <a:close/>
                    <a:moveTo>
                      <a:pt x="10463" y="2"/>
                    </a:moveTo>
                    <a:lnTo>
                      <a:pt x="10463" y="2"/>
                    </a:lnTo>
                    <a:cubicBezTo>
                      <a:pt x="10464" y="2"/>
                      <a:pt x="10465" y="3"/>
                      <a:pt x="10465" y="4"/>
                    </a:cubicBezTo>
                    <a:cubicBezTo>
                      <a:pt x="10465" y="5"/>
                      <a:pt x="10464" y="6"/>
                      <a:pt x="10463" y="6"/>
                    </a:cubicBezTo>
                    <a:lnTo>
                      <a:pt x="10463" y="6"/>
                    </a:lnTo>
                    <a:cubicBezTo>
                      <a:pt x="10462" y="6"/>
                      <a:pt x="10461" y="5"/>
                      <a:pt x="10461" y="4"/>
                    </a:cubicBezTo>
                    <a:cubicBezTo>
                      <a:pt x="10461" y="3"/>
                      <a:pt x="10462" y="2"/>
                      <a:pt x="10463" y="2"/>
                    </a:cubicBezTo>
                    <a:close/>
                    <a:moveTo>
                      <a:pt x="10471" y="2"/>
                    </a:moveTo>
                    <a:lnTo>
                      <a:pt x="10471" y="2"/>
                    </a:lnTo>
                    <a:cubicBezTo>
                      <a:pt x="10472" y="2"/>
                      <a:pt x="10473" y="3"/>
                      <a:pt x="10473" y="4"/>
                    </a:cubicBezTo>
                    <a:cubicBezTo>
                      <a:pt x="10473" y="5"/>
                      <a:pt x="10472" y="6"/>
                      <a:pt x="10471" y="6"/>
                    </a:cubicBezTo>
                    <a:lnTo>
                      <a:pt x="10471" y="6"/>
                    </a:lnTo>
                    <a:cubicBezTo>
                      <a:pt x="10470" y="6"/>
                      <a:pt x="10469" y="5"/>
                      <a:pt x="10469" y="4"/>
                    </a:cubicBezTo>
                    <a:cubicBezTo>
                      <a:pt x="10469" y="3"/>
                      <a:pt x="10470" y="2"/>
                      <a:pt x="10471" y="2"/>
                    </a:cubicBezTo>
                    <a:close/>
                    <a:moveTo>
                      <a:pt x="10479" y="2"/>
                    </a:moveTo>
                    <a:lnTo>
                      <a:pt x="10479" y="2"/>
                    </a:lnTo>
                    <a:cubicBezTo>
                      <a:pt x="10480" y="2"/>
                      <a:pt x="10481" y="3"/>
                      <a:pt x="10481" y="4"/>
                    </a:cubicBezTo>
                    <a:cubicBezTo>
                      <a:pt x="10481" y="5"/>
                      <a:pt x="10480" y="6"/>
                      <a:pt x="10479" y="6"/>
                    </a:cubicBezTo>
                    <a:lnTo>
                      <a:pt x="10479" y="6"/>
                    </a:lnTo>
                    <a:cubicBezTo>
                      <a:pt x="10478" y="6"/>
                      <a:pt x="10477" y="5"/>
                      <a:pt x="10477" y="4"/>
                    </a:cubicBezTo>
                    <a:cubicBezTo>
                      <a:pt x="10477" y="3"/>
                      <a:pt x="10478" y="2"/>
                      <a:pt x="10479" y="2"/>
                    </a:cubicBezTo>
                    <a:close/>
                    <a:moveTo>
                      <a:pt x="10487" y="2"/>
                    </a:moveTo>
                    <a:lnTo>
                      <a:pt x="10487" y="2"/>
                    </a:lnTo>
                    <a:cubicBezTo>
                      <a:pt x="10488" y="2"/>
                      <a:pt x="10489" y="3"/>
                      <a:pt x="10489" y="4"/>
                    </a:cubicBezTo>
                    <a:cubicBezTo>
                      <a:pt x="10489" y="5"/>
                      <a:pt x="10488" y="6"/>
                      <a:pt x="10487" y="6"/>
                    </a:cubicBezTo>
                    <a:lnTo>
                      <a:pt x="10487" y="6"/>
                    </a:lnTo>
                    <a:cubicBezTo>
                      <a:pt x="10486" y="6"/>
                      <a:pt x="10485" y="5"/>
                      <a:pt x="10485" y="4"/>
                    </a:cubicBezTo>
                    <a:cubicBezTo>
                      <a:pt x="10485" y="3"/>
                      <a:pt x="10486" y="2"/>
                      <a:pt x="10487" y="2"/>
                    </a:cubicBezTo>
                    <a:close/>
                    <a:moveTo>
                      <a:pt x="10495" y="2"/>
                    </a:moveTo>
                    <a:lnTo>
                      <a:pt x="10495" y="2"/>
                    </a:lnTo>
                    <a:cubicBezTo>
                      <a:pt x="10496" y="2"/>
                      <a:pt x="10497" y="3"/>
                      <a:pt x="10497" y="4"/>
                    </a:cubicBezTo>
                    <a:cubicBezTo>
                      <a:pt x="10497" y="5"/>
                      <a:pt x="10496" y="6"/>
                      <a:pt x="10495" y="6"/>
                    </a:cubicBezTo>
                    <a:lnTo>
                      <a:pt x="10495" y="6"/>
                    </a:lnTo>
                    <a:cubicBezTo>
                      <a:pt x="10494" y="6"/>
                      <a:pt x="10493" y="5"/>
                      <a:pt x="10493" y="4"/>
                    </a:cubicBezTo>
                    <a:cubicBezTo>
                      <a:pt x="10493" y="3"/>
                      <a:pt x="10494" y="2"/>
                      <a:pt x="10495" y="2"/>
                    </a:cubicBezTo>
                    <a:close/>
                    <a:moveTo>
                      <a:pt x="10503" y="2"/>
                    </a:moveTo>
                    <a:lnTo>
                      <a:pt x="10503" y="2"/>
                    </a:lnTo>
                    <a:cubicBezTo>
                      <a:pt x="10504" y="2"/>
                      <a:pt x="10505" y="3"/>
                      <a:pt x="10505" y="4"/>
                    </a:cubicBezTo>
                    <a:cubicBezTo>
                      <a:pt x="10505" y="5"/>
                      <a:pt x="10504" y="6"/>
                      <a:pt x="10503" y="6"/>
                    </a:cubicBezTo>
                    <a:lnTo>
                      <a:pt x="10503" y="6"/>
                    </a:lnTo>
                    <a:cubicBezTo>
                      <a:pt x="10502" y="6"/>
                      <a:pt x="10501" y="5"/>
                      <a:pt x="10501" y="4"/>
                    </a:cubicBezTo>
                    <a:cubicBezTo>
                      <a:pt x="10501" y="3"/>
                      <a:pt x="10502" y="2"/>
                      <a:pt x="10503" y="2"/>
                    </a:cubicBezTo>
                    <a:close/>
                    <a:moveTo>
                      <a:pt x="10511" y="2"/>
                    </a:moveTo>
                    <a:lnTo>
                      <a:pt x="10511" y="2"/>
                    </a:lnTo>
                    <a:cubicBezTo>
                      <a:pt x="10512" y="2"/>
                      <a:pt x="10513" y="3"/>
                      <a:pt x="10513" y="4"/>
                    </a:cubicBezTo>
                    <a:cubicBezTo>
                      <a:pt x="10513" y="5"/>
                      <a:pt x="10512" y="6"/>
                      <a:pt x="10511" y="6"/>
                    </a:cubicBezTo>
                    <a:lnTo>
                      <a:pt x="10511" y="6"/>
                    </a:lnTo>
                    <a:cubicBezTo>
                      <a:pt x="10510" y="6"/>
                      <a:pt x="10509" y="5"/>
                      <a:pt x="10509" y="4"/>
                    </a:cubicBezTo>
                    <a:cubicBezTo>
                      <a:pt x="10509" y="3"/>
                      <a:pt x="10510" y="2"/>
                      <a:pt x="10511" y="2"/>
                    </a:cubicBezTo>
                    <a:close/>
                    <a:moveTo>
                      <a:pt x="10519" y="2"/>
                    </a:moveTo>
                    <a:lnTo>
                      <a:pt x="10519" y="2"/>
                    </a:lnTo>
                    <a:cubicBezTo>
                      <a:pt x="10520" y="2"/>
                      <a:pt x="10521" y="3"/>
                      <a:pt x="10521" y="4"/>
                    </a:cubicBezTo>
                    <a:cubicBezTo>
                      <a:pt x="10521" y="5"/>
                      <a:pt x="10520" y="6"/>
                      <a:pt x="10519" y="6"/>
                    </a:cubicBezTo>
                    <a:lnTo>
                      <a:pt x="10519" y="6"/>
                    </a:lnTo>
                    <a:cubicBezTo>
                      <a:pt x="10518" y="6"/>
                      <a:pt x="10517" y="5"/>
                      <a:pt x="10517" y="4"/>
                    </a:cubicBezTo>
                    <a:cubicBezTo>
                      <a:pt x="10517" y="3"/>
                      <a:pt x="10518" y="2"/>
                      <a:pt x="10519" y="2"/>
                    </a:cubicBezTo>
                    <a:close/>
                    <a:moveTo>
                      <a:pt x="10527" y="2"/>
                    </a:moveTo>
                    <a:lnTo>
                      <a:pt x="10527" y="2"/>
                    </a:lnTo>
                    <a:cubicBezTo>
                      <a:pt x="10528" y="2"/>
                      <a:pt x="10529" y="3"/>
                      <a:pt x="10529" y="4"/>
                    </a:cubicBezTo>
                    <a:cubicBezTo>
                      <a:pt x="10529" y="5"/>
                      <a:pt x="10528" y="6"/>
                      <a:pt x="10527" y="6"/>
                    </a:cubicBezTo>
                    <a:lnTo>
                      <a:pt x="10527" y="6"/>
                    </a:lnTo>
                    <a:cubicBezTo>
                      <a:pt x="10526" y="6"/>
                      <a:pt x="10525" y="5"/>
                      <a:pt x="10525" y="4"/>
                    </a:cubicBezTo>
                    <a:cubicBezTo>
                      <a:pt x="10525" y="3"/>
                      <a:pt x="10526" y="2"/>
                      <a:pt x="10527" y="2"/>
                    </a:cubicBezTo>
                    <a:close/>
                    <a:moveTo>
                      <a:pt x="10535" y="2"/>
                    </a:moveTo>
                    <a:lnTo>
                      <a:pt x="10535" y="2"/>
                    </a:lnTo>
                    <a:cubicBezTo>
                      <a:pt x="10536" y="2"/>
                      <a:pt x="10537" y="3"/>
                      <a:pt x="10537" y="4"/>
                    </a:cubicBezTo>
                    <a:cubicBezTo>
                      <a:pt x="10537" y="5"/>
                      <a:pt x="10536" y="6"/>
                      <a:pt x="10535" y="6"/>
                    </a:cubicBezTo>
                    <a:lnTo>
                      <a:pt x="10535" y="6"/>
                    </a:lnTo>
                    <a:cubicBezTo>
                      <a:pt x="10534" y="6"/>
                      <a:pt x="10533" y="5"/>
                      <a:pt x="10533" y="4"/>
                    </a:cubicBezTo>
                    <a:cubicBezTo>
                      <a:pt x="10533" y="3"/>
                      <a:pt x="10534" y="2"/>
                      <a:pt x="10535" y="2"/>
                    </a:cubicBezTo>
                    <a:close/>
                    <a:moveTo>
                      <a:pt x="10543" y="2"/>
                    </a:moveTo>
                    <a:lnTo>
                      <a:pt x="10543" y="2"/>
                    </a:lnTo>
                    <a:cubicBezTo>
                      <a:pt x="10544" y="2"/>
                      <a:pt x="10545" y="3"/>
                      <a:pt x="10545" y="4"/>
                    </a:cubicBezTo>
                    <a:cubicBezTo>
                      <a:pt x="10545" y="5"/>
                      <a:pt x="10544" y="6"/>
                      <a:pt x="10543" y="6"/>
                    </a:cubicBezTo>
                    <a:lnTo>
                      <a:pt x="10543" y="6"/>
                    </a:lnTo>
                    <a:cubicBezTo>
                      <a:pt x="10542" y="6"/>
                      <a:pt x="10541" y="5"/>
                      <a:pt x="10541" y="4"/>
                    </a:cubicBezTo>
                    <a:cubicBezTo>
                      <a:pt x="10541" y="3"/>
                      <a:pt x="10542" y="2"/>
                      <a:pt x="10543" y="2"/>
                    </a:cubicBezTo>
                    <a:close/>
                    <a:moveTo>
                      <a:pt x="10551" y="2"/>
                    </a:moveTo>
                    <a:lnTo>
                      <a:pt x="10551" y="2"/>
                    </a:lnTo>
                    <a:cubicBezTo>
                      <a:pt x="10552" y="2"/>
                      <a:pt x="10553" y="3"/>
                      <a:pt x="10553" y="4"/>
                    </a:cubicBezTo>
                    <a:cubicBezTo>
                      <a:pt x="10553" y="5"/>
                      <a:pt x="10552" y="6"/>
                      <a:pt x="10551" y="6"/>
                    </a:cubicBezTo>
                    <a:lnTo>
                      <a:pt x="10551" y="6"/>
                    </a:lnTo>
                    <a:cubicBezTo>
                      <a:pt x="10550" y="6"/>
                      <a:pt x="10549" y="5"/>
                      <a:pt x="10549" y="4"/>
                    </a:cubicBezTo>
                    <a:cubicBezTo>
                      <a:pt x="10549" y="3"/>
                      <a:pt x="10550" y="2"/>
                      <a:pt x="10551" y="2"/>
                    </a:cubicBezTo>
                    <a:close/>
                    <a:moveTo>
                      <a:pt x="10559" y="2"/>
                    </a:moveTo>
                    <a:lnTo>
                      <a:pt x="10559" y="2"/>
                    </a:lnTo>
                    <a:cubicBezTo>
                      <a:pt x="10560" y="2"/>
                      <a:pt x="10561" y="3"/>
                      <a:pt x="10561" y="4"/>
                    </a:cubicBezTo>
                    <a:cubicBezTo>
                      <a:pt x="10561" y="5"/>
                      <a:pt x="10560" y="6"/>
                      <a:pt x="10559" y="6"/>
                    </a:cubicBezTo>
                    <a:lnTo>
                      <a:pt x="10559" y="6"/>
                    </a:lnTo>
                    <a:cubicBezTo>
                      <a:pt x="10558" y="6"/>
                      <a:pt x="10557" y="5"/>
                      <a:pt x="10557" y="4"/>
                    </a:cubicBezTo>
                    <a:cubicBezTo>
                      <a:pt x="10557" y="3"/>
                      <a:pt x="10558" y="2"/>
                      <a:pt x="10559" y="2"/>
                    </a:cubicBezTo>
                    <a:close/>
                    <a:moveTo>
                      <a:pt x="10567" y="2"/>
                    </a:moveTo>
                    <a:lnTo>
                      <a:pt x="10567" y="2"/>
                    </a:lnTo>
                    <a:cubicBezTo>
                      <a:pt x="10568" y="2"/>
                      <a:pt x="10569" y="3"/>
                      <a:pt x="10569" y="4"/>
                    </a:cubicBezTo>
                    <a:cubicBezTo>
                      <a:pt x="10569" y="5"/>
                      <a:pt x="10568" y="6"/>
                      <a:pt x="10567" y="6"/>
                    </a:cubicBezTo>
                    <a:lnTo>
                      <a:pt x="10567" y="6"/>
                    </a:lnTo>
                    <a:cubicBezTo>
                      <a:pt x="10566" y="6"/>
                      <a:pt x="10565" y="5"/>
                      <a:pt x="10565" y="4"/>
                    </a:cubicBezTo>
                    <a:cubicBezTo>
                      <a:pt x="10565" y="3"/>
                      <a:pt x="10566" y="2"/>
                      <a:pt x="10567" y="2"/>
                    </a:cubicBezTo>
                    <a:close/>
                    <a:moveTo>
                      <a:pt x="10575" y="2"/>
                    </a:moveTo>
                    <a:lnTo>
                      <a:pt x="10575" y="2"/>
                    </a:lnTo>
                    <a:cubicBezTo>
                      <a:pt x="10576" y="2"/>
                      <a:pt x="10577" y="3"/>
                      <a:pt x="10577" y="4"/>
                    </a:cubicBezTo>
                    <a:cubicBezTo>
                      <a:pt x="10577" y="5"/>
                      <a:pt x="10576" y="6"/>
                      <a:pt x="10575" y="6"/>
                    </a:cubicBezTo>
                    <a:lnTo>
                      <a:pt x="10575" y="6"/>
                    </a:lnTo>
                    <a:cubicBezTo>
                      <a:pt x="10574" y="6"/>
                      <a:pt x="10573" y="5"/>
                      <a:pt x="10573" y="4"/>
                    </a:cubicBezTo>
                    <a:cubicBezTo>
                      <a:pt x="10573" y="3"/>
                      <a:pt x="10574" y="2"/>
                      <a:pt x="10575" y="2"/>
                    </a:cubicBezTo>
                    <a:close/>
                    <a:moveTo>
                      <a:pt x="10583" y="2"/>
                    </a:moveTo>
                    <a:lnTo>
                      <a:pt x="10583" y="2"/>
                    </a:lnTo>
                    <a:cubicBezTo>
                      <a:pt x="10584" y="2"/>
                      <a:pt x="10585" y="3"/>
                      <a:pt x="10585" y="4"/>
                    </a:cubicBezTo>
                    <a:cubicBezTo>
                      <a:pt x="10585" y="5"/>
                      <a:pt x="10584" y="6"/>
                      <a:pt x="10583" y="6"/>
                    </a:cubicBezTo>
                    <a:lnTo>
                      <a:pt x="10583" y="6"/>
                    </a:lnTo>
                    <a:cubicBezTo>
                      <a:pt x="10582" y="6"/>
                      <a:pt x="10581" y="5"/>
                      <a:pt x="10581" y="4"/>
                    </a:cubicBezTo>
                    <a:cubicBezTo>
                      <a:pt x="10581" y="3"/>
                      <a:pt x="10582" y="2"/>
                      <a:pt x="10583" y="2"/>
                    </a:cubicBezTo>
                    <a:close/>
                    <a:moveTo>
                      <a:pt x="10591" y="2"/>
                    </a:moveTo>
                    <a:lnTo>
                      <a:pt x="10591" y="2"/>
                    </a:lnTo>
                    <a:cubicBezTo>
                      <a:pt x="10592" y="2"/>
                      <a:pt x="10593" y="3"/>
                      <a:pt x="10593" y="4"/>
                    </a:cubicBezTo>
                    <a:cubicBezTo>
                      <a:pt x="10593" y="5"/>
                      <a:pt x="10592" y="6"/>
                      <a:pt x="10591" y="6"/>
                    </a:cubicBezTo>
                    <a:lnTo>
                      <a:pt x="10591" y="6"/>
                    </a:lnTo>
                    <a:cubicBezTo>
                      <a:pt x="10590" y="6"/>
                      <a:pt x="10589" y="5"/>
                      <a:pt x="10589" y="4"/>
                    </a:cubicBezTo>
                    <a:cubicBezTo>
                      <a:pt x="10589" y="3"/>
                      <a:pt x="10590" y="2"/>
                      <a:pt x="10591" y="2"/>
                    </a:cubicBezTo>
                    <a:close/>
                    <a:moveTo>
                      <a:pt x="10599" y="2"/>
                    </a:moveTo>
                    <a:lnTo>
                      <a:pt x="10599" y="2"/>
                    </a:lnTo>
                    <a:cubicBezTo>
                      <a:pt x="10600" y="2"/>
                      <a:pt x="10601" y="3"/>
                      <a:pt x="10601" y="4"/>
                    </a:cubicBezTo>
                    <a:cubicBezTo>
                      <a:pt x="10601" y="5"/>
                      <a:pt x="10600" y="6"/>
                      <a:pt x="10599" y="6"/>
                    </a:cubicBezTo>
                    <a:lnTo>
                      <a:pt x="10599" y="6"/>
                    </a:lnTo>
                    <a:cubicBezTo>
                      <a:pt x="10598" y="6"/>
                      <a:pt x="10597" y="5"/>
                      <a:pt x="10597" y="4"/>
                    </a:cubicBezTo>
                    <a:cubicBezTo>
                      <a:pt x="10597" y="3"/>
                      <a:pt x="10598" y="2"/>
                      <a:pt x="10599" y="2"/>
                    </a:cubicBezTo>
                    <a:close/>
                    <a:moveTo>
                      <a:pt x="10607" y="2"/>
                    </a:moveTo>
                    <a:lnTo>
                      <a:pt x="10607" y="2"/>
                    </a:lnTo>
                    <a:cubicBezTo>
                      <a:pt x="10608" y="2"/>
                      <a:pt x="10609" y="3"/>
                      <a:pt x="10609" y="4"/>
                    </a:cubicBezTo>
                    <a:cubicBezTo>
                      <a:pt x="10609" y="5"/>
                      <a:pt x="10608" y="6"/>
                      <a:pt x="10607" y="6"/>
                    </a:cubicBezTo>
                    <a:lnTo>
                      <a:pt x="10607" y="6"/>
                    </a:lnTo>
                    <a:cubicBezTo>
                      <a:pt x="10606" y="6"/>
                      <a:pt x="10605" y="5"/>
                      <a:pt x="10605" y="4"/>
                    </a:cubicBezTo>
                    <a:cubicBezTo>
                      <a:pt x="10605" y="3"/>
                      <a:pt x="10606" y="2"/>
                      <a:pt x="10607" y="2"/>
                    </a:cubicBezTo>
                    <a:close/>
                    <a:moveTo>
                      <a:pt x="10615" y="2"/>
                    </a:moveTo>
                    <a:lnTo>
                      <a:pt x="10615" y="2"/>
                    </a:lnTo>
                    <a:cubicBezTo>
                      <a:pt x="10616" y="2"/>
                      <a:pt x="10617" y="3"/>
                      <a:pt x="10617" y="4"/>
                    </a:cubicBezTo>
                    <a:cubicBezTo>
                      <a:pt x="10617" y="5"/>
                      <a:pt x="10616" y="6"/>
                      <a:pt x="10615" y="6"/>
                    </a:cubicBezTo>
                    <a:lnTo>
                      <a:pt x="10615" y="6"/>
                    </a:lnTo>
                    <a:cubicBezTo>
                      <a:pt x="10614" y="6"/>
                      <a:pt x="10613" y="5"/>
                      <a:pt x="10613" y="4"/>
                    </a:cubicBezTo>
                    <a:cubicBezTo>
                      <a:pt x="10613" y="3"/>
                      <a:pt x="10614" y="2"/>
                      <a:pt x="10615" y="2"/>
                    </a:cubicBezTo>
                    <a:close/>
                    <a:moveTo>
                      <a:pt x="10623" y="2"/>
                    </a:moveTo>
                    <a:lnTo>
                      <a:pt x="10623" y="2"/>
                    </a:lnTo>
                    <a:cubicBezTo>
                      <a:pt x="10624" y="2"/>
                      <a:pt x="10625" y="3"/>
                      <a:pt x="10625" y="4"/>
                    </a:cubicBezTo>
                    <a:cubicBezTo>
                      <a:pt x="10625" y="5"/>
                      <a:pt x="10624" y="6"/>
                      <a:pt x="10623" y="6"/>
                    </a:cubicBezTo>
                    <a:lnTo>
                      <a:pt x="10623" y="6"/>
                    </a:lnTo>
                    <a:cubicBezTo>
                      <a:pt x="10622" y="6"/>
                      <a:pt x="10621" y="5"/>
                      <a:pt x="10621" y="4"/>
                    </a:cubicBezTo>
                    <a:cubicBezTo>
                      <a:pt x="10621" y="3"/>
                      <a:pt x="10622" y="2"/>
                      <a:pt x="10623" y="2"/>
                    </a:cubicBezTo>
                    <a:close/>
                    <a:moveTo>
                      <a:pt x="10631" y="2"/>
                    </a:moveTo>
                    <a:lnTo>
                      <a:pt x="10631" y="2"/>
                    </a:lnTo>
                    <a:cubicBezTo>
                      <a:pt x="10632" y="2"/>
                      <a:pt x="10633" y="3"/>
                      <a:pt x="10633" y="4"/>
                    </a:cubicBezTo>
                    <a:cubicBezTo>
                      <a:pt x="10633" y="5"/>
                      <a:pt x="10632" y="6"/>
                      <a:pt x="10631" y="6"/>
                    </a:cubicBezTo>
                    <a:lnTo>
                      <a:pt x="10631" y="6"/>
                    </a:lnTo>
                    <a:cubicBezTo>
                      <a:pt x="10630" y="6"/>
                      <a:pt x="10629" y="5"/>
                      <a:pt x="10629" y="4"/>
                    </a:cubicBezTo>
                    <a:cubicBezTo>
                      <a:pt x="10629" y="3"/>
                      <a:pt x="10630" y="2"/>
                      <a:pt x="10631" y="2"/>
                    </a:cubicBezTo>
                    <a:close/>
                    <a:moveTo>
                      <a:pt x="10639" y="2"/>
                    </a:moveTo>
                    <a:lnTo>
                      <a:pt x="10639" y="2"/>
                    </a:lnTo>
                    <a:cubicBezTo>
                      <a:pt x="10640" y="2"/>
                      <a:pt x="10641" y="3"/>
                      <a:pt x="10641" y="4"/>
                    </a:cubicBezTo>
                    <a:cubicBezTo>
                      <a:pt x="10641" y="5"/>
                      <a:pt x="10640" y="6"/>
                      <a:pt x="10639" y="6"/>
                    </a:cubicBezTo>
                    <a:lnTo>
                      <a:pt x="10639" y="6"/>
                    </a:lnTo>
                    <a:cubicBezTo>
                      <a:pt x="10638" y="6"/>
                      <a:pt x="10637" y="5"/>
                      <a:pt x="10637" y="4"/>
                    </a:cubicBezTo>
                    <a:cubicBezTo>
                      <a:pt x="10637" y="3"/>
                      <a:pt x="10638" y="2"/>
                      <a:pt x="10639" y="2"/>
                    </a:cubicBezTo>
                    <a:close/>
                    <a:moveTo>
                      <a:pt x="10647" y="2"/>
                    </a:moveTo>
                    <a:lnTo>
                      <a:pt x="10647" y="2"/>
                    </a:lnTo>
                    <a:cubicBezTo>
                      <a:pt x="10648" y="2"/>
                      <a:pt x="10649" y="3"/>
                      <a:pt x="10649" y="4"/>
                    </a:cubicBezTo>
                    <a:cubicBezTo>
                      <a:pt x="10649" y="5"/>
                      <a:pt x="10648" y="6"/>
                      <a:pt x="10647" y="6"/>
                    </a:cubicBezTo>
                    <a:lnTo>
                      <a:pt x="10647" y="6"/>
                    </a:lnTo>
                    <a:cubicBezTo>
                      <a:pt x="10646" y="6"/>
                      <a:pt x="10645" y="5"/>
                      <a:pt x="10645" y="4"/>
                    </a:cubicBezTo>
                    <a:cubicBezTo>
                      <a:pt x="10645" y="3"/>
                      <a:pt x="10646" y="2"/>
                      <a:pt x="10647" y="2"/>
                    </a:cubicBezTo>
                    <a:close/>
                    <a:moveTo>
                      <a:pt x="10655" y="2"/>
                    </a:moveTo>
                    <a:lnTo>
                      <a:pt x="10655" y="2"/>
                    </a:lnTo>
                    <a:cubicBezTo>
                      <a:pt x="10656" y="2"/>
                      <a:pt x="10657" y="3"/>
                      <a:pt x="10657" y="4"/>
                    </a:cubicBezTo>
                    <a:cubicBezTo>
                      <a:pt x="10657" y="5"/>
                      <a:pt x="10656" y="6"/>
                      <a:pt x="10655" y="6"/>
                    </a:cubicBezTo>
                    <a:lnTo>
                      <a:pt x="10655" y="6"/>
                    </a:lnTo>
                    <a:cubicBezTo>
                      <a:pt x="10654" y="6"/>
                      <a:pt x="10653" y="5"/>
                      <a:pt x="10653" y="4"/>
                    </a:cubicBezTo>
                    <a:cubicBezTo>
                      <a:pt x="10653" y="3"/>
                      <a:pt x="10654" y="2"/>
                      <a:pt x="10655" y="2"/>
                    </a:cubicBezTo>
                    <a:close/>
                    <a:moveTo>
                      <a:pt x="10663" y="2"/>
                    </a:moveTo>
                    <a:lnTo>
                      <a:pt x="10663" y="2"/>
                    </a:lnTo>
                    <a:cubicBezTo>
                      <a:pt x="10664" y="2"/>
                      <a:pt x="10665" y="3"/>
                      <a:pt x="10665" y="4"/>
                    </a:cubicBezTo>
                    <a:cubicBezTo>
                      <a:pt x="10665" y="5"/>
                      <a:pt x="10664" y="6"/>
                      <a:pt x="10663" y="6"/>
                    </a:cubicBezTo>
                    <a:lnTo>
                      <a:pt x="10663" y="6"/>
                    </a:lnTo>
                    <a:cubicBezTo>
                      <a:pt x="10662" y="6"/>
                      <a:pt x="10661" y="5"/>
                      <a:pt x="10661" y="4"/>
                    </a:cubicBezTo>
                    <a:cubicBezTo>
                      <a:pt x="10661" y="3"/>
                      <a:pt x="10662" y="2"/>
                      <a:pt x="10663" y="2"/>
                    </a:cubicBezTo>
                    <a:close/>
                    <a:moveTo>
                      <a:pt x="10671" y="2"/>
                    </a:moveTo>
                    <a:lnTo>
                      <a:pt x="10671" y="2"/>
                    </a:lnTo>
                    <a:cubicBezTo>
                      <a:pt x="10672" y="2"/>
                      <a:pt x="10673" y="3"/>
                      <a:pt x="10673" y="4"/>
                    </a:cubicBezTo>
                    <a:cubicBezTo>
                      <a:pt x="10673" y="5"/>
                      <a:pt x="10672" y="6"/>
                      <a:pt x="10671" y="6"/>
                    </a:cubicBezTo>
                    <a:lnTo>
                      <a:pt x="10671" y="6"/>
                    </a:lnTo>
                    <a:cubicBezTo>
                      <a:pt x="10670" y="6"/>
                      <a:pt x="10669" y="5"/>
                      <a:pt x="10669" y="4"/>
                    </a:cubicBezTo>
                    <a:cubicBezTo>
                      <a:pt x="10669" y="3"/>
                      <a:pt x="10670" y="2"/>
                      <a:pt x="10671" y="2"/>
                    </a:cubicBezTo>
                    <a:close/>
                    <a:moveTo>
                      <a:pt x="10679" y="2"/>
                    </a:moveTo>
                    <a:lnTo>
                      <a:pt x="10679" y="2"/>
                    </a:lnTo>
                    <a:cubicBezTo>
                      <a:pt x="10680" y="2"/>
                      <a:pt x="10681" y="3"/>
                      <a:pt x="10681" y="4"/>
                    </a:cubicBezTo>
                    <a:cubicBezTo>
                      <a:pt x="10681" y="5"/>
                      <a:pt x="10680" y="6"/>
                      <a:pt x="10679" y="6"/>
                    </a:cubicBezTo>
                    <a:lnTo>
                      <a:pt x="10679" y="6"/>
                    </a:lnTo>
                    <a:cubicBezTo>
                      <a:pt x="10678" y="6"/>
                      <a:pt x="10677" y="5"/>
                      <a:pt x="10677" y="4"/>
                    </a:cubicBezTo>
                    <a:cubicBezTo>
                      <a:pt x="10677" y="3"/>
                      <a:pt x="10678" y="2"/>
                      <a:pt x="10679" y="2"/>
                    </a:cubicBezTo>
                    <a:close/>
                    <a:moveTo>
                      <a:pt x="10687" y="2"/>
                    </a:moveTo>
                    <a:lnTo>
                      <a:pt x="10687" y="2"/>
                    </a:lnTo>
                    <a:cubicBezTo>
                      <a:pt x="10688" y="2"/>
                      <a:pt x="10689" y="3"/>
                      <a:pt x="10689" y="4"/>
                    </a:cubicBezTo>
                    <a:cubicBezTo>
                      <a:pt x="10689" y="5"/>
                      <a:pt x="10688" y="6"/>
                      <a:pt x="10687" y="6"/>
                    </a:cubicBezTo>
                    <a:lnTo>
                      <a:pt x="10687" y="6"/>
                    </a:lnTo>
                    <a:cubicBezTo>
                      <a:pt x="10686" y="6"/>
                      <a:pt x="10685" y="5"/>
                      <a:pt x="10685" y="4"/>
                    </a:cubicBezTo>
                    <a:cubicBezTo>
                      <a:pt x="10685" y="3"/>
                      <a:pt x="10686" y="2"/>
                      <a:pt x="10687" y="2"/>
                    </a:cubicBezTo>
                    <a:close/>
                    <a:moveTo>
                      <a:pt x="10695" y="2"/>
                    </a:moveTo>
                    <a:lnTo>
                      <a:pt x="10695" y="2"/>
                    </a:lnTo>
                    <a:cubicBezTo>
                      <a:pt x="10696" y="2"/>
                      <a:pt x="10697" y="3"/>
                      <a:pt x="10697" y="4"/>
                    </a:cubicBezTo>
                    <a:cubicBezTo>
                      <a:pt x="10697" y="5"/>
                      <a:pt x="10696" y="6"/>
                      <a:pt x="10695" y="6"/>
                    </a:cubicBezTo>
                    <a:lnTo>
                      <a:pt x="10695" y="6"/>
                    </a:lnTo>
                    <a:cubicBezTo>
                      <a:pt x="10694" y="6"/>
                      <a:pt x="10693" y="5"/>
                      <a:pt x="10693" y="4"/>
                    </a:cubicBezTo>
                    <a:cubicBezTo>
                      <a:pt x="10693" y="3"/>
                      <a:pt x="10694" y="2"/>
                      <a:pt x="10695" y="2"/>
                    </a:cubicBezTo>
                    <a:close/>
                    <a:moveTo>
                      <a:pt x="10703" y="2"/>
                    </a:moveTo>
                    <a:lnTo>
                      <a:pt x="10703" y="2"/>
                    </a:lnTo>
                    <a:cubicBezTo>
                      <a:pt x="10704" y="2"/>
                      <a:pt x="10705" y="3"/>
                      <a:pt x="10705" y="4"/>
                    </a:cubicBezTo>
                    <a:cubicBezTo>
                      <a:pt x="10705" y="5"/>
                      <a:pt x="10704" y="6"/>
                      <a:pt x="10703" y="6"/>
                    </a:cubicBezTo>
                    <a:lnTo>
                      <a:pt x="10703" y="6"/>
                    </a:lnTo>
                    <a:cubicBezTo>
                      <a:pt x="10702" y="6"/>
                      <a:pt x="10701" y="5"/>
                      <a:pt x="10701" y="4"/>
                    </a:cubicBezTo>
                    <a:cubicBezTo>
                      <a:pt x="10701" y="3"/>
                      <a:pt x="10702" y="2"/>
                      <a:pt x="10703" y="2"/>
                    </a:cubicBezTo>
                    <a:close/>
                    <a:moveTo>
                      <a:pt x="10711" y="2"/>
                    </a:moveTo>
                    <a:lnTo>
                      <a:pt x="10711" y="2"/>
                    </a:lnTo>
                    <a:cubicBezTo>
                      <a:pt x="10712" y="2"/>
                      <a:pt x="10713" y="3"/>
                      <a:pt x="10713" y="4"/>
                    </a:cubicBezTo>
                    <a:cubicBezTo>
                      <a:pt x="10713" y="6"/>
                      <a:pt x="10712" y="6"/>
                      <a:pt x="10711" y="6"/>
                    </a:cubicBezTo>
                    <a:lnTo>
                      <a:pt x="10711" y="6"/>
                    </a:lnTo>
                    <a:cubicBezTo>
                      <a:pt x="10710" y="6"/>
                      <a:pt x="10709" y="6"/>
                      <a:pt x="10709" y="4"/>
                    </a:cubicBezTo>
                    <a:cubicBezTo>
                      <a:pt x="10709" y="3"/>
                      <a:pt x="10710" y="2"/>
                      <a:pt x="10711" y="2"/>
                    </a:cubicBezTo>
                    <a:close/>
                    <a:moveTo>
                      <a:pt x="10719" y="2"/>
                    </a:moveTo>
                    <a:lnTo>
                      <a:pt x="10719" y="2"/>
                    </a:lnTo>
                    <a:cubicBezTo>
                      <a:pt x="10720" y="2"/>
                      <a:pt x="10721" y="3"/>
                      <a:pt x="10721" y="4"/>
                    </a:cubicBezTo>
                    <a:cubicBezTo>
                      <a:pt x="10721" y="6"/>
                      <a:pt x="10720" y="6"/>
                      <a:pt x="10719" y="6"/>
                    </a:cubicBezTo>
                    <a:lnTo>
                      <a:pt x="10719" y="6"/>
                    </a:lnTo>
                    <a:cubicBezTo>
                      <a:pt x="10718" y="6"/>
                      <a:pt x="10717" y="6"/>
                      <a:pt x="10717" y="4"/>
                    </a:cubicBezTo>
                    <a:cubicBezTo>
                      <a:pt x="10717" y="3"/>
                      <a:pt x="10718" y="2"/>
                      <a:pt x="10719" y="2"/>
                    </a:cubicBezTo>
                    <a:close/>
                    <a:moveTo>
                      <a:pt x="10727" y="2"/>
                    </a:moveTo>
                    <a:lnTo>
                      <a:pt x="10727" y="2"/>
                    </a:lnTo>
                    <a:cubicBezTo>
                      <a:pt x="10728" y="2"/>
                      <a:pt x="10729" y="3"/>
                      <a:pt x="10729" y="4"/>
                    </a:cubicBezTo>
                    <a:cubicBezTo>
                      <a:pt x="10729" y="6"/>
                      <a:pt x="10728" y="6"/>
                      <a:pt x="10727" y="6"/>
                    </a:cubicBezTo>
                    <a:lnTo>
                      <a:pt x="10727" y="6"/>
                    </a:lnTo>
                    <a:cubicBezTo>
                      <a:pt x="10726" y="6"/>
                      <a:pt x="10725" y="6"/>
                      <a:pt x="10725" y="4"/>
                    </a:cubicBezTo>
                    <a:cubicBezTo>
                      <a:pt x="10725" y="3"/>
                      <a:pt x="10726" y="2"/>
                      <a:pt x="10727" y="2"/>
                    </a:cubicBezTo>
                    <a:close/>
                    <a:moveTo>
                      <a:pt x="10735" y="2"/>
                    </a:moveTo>
                    <a:lnTo>
                      <a:pt x="10735" y="2"/>
                    </a:lnTo>
                    <a:cubicBezTo>
                      <a:pt x="10736" y="2"/>
                      <a:pt x="10737" y="3"/>
                      <a:pt x="10737" y="4"/>
                    </a:cubicBezTo>
                    <a:cubicBezTo>
                      <a:pt x="10737" y="6"/>
                      <a:pt x="10736" y="6"/>
                      <a:pt x="10735" y="6"/>
                    </a:cubicBezTo>
                    <a:lnTo>
                      <a:pt x="10735" y="6"/>
                    </a:lnTo>
                    <a:cubicBezTo>
                      <a:pt x="10734" y="6"/>
                      <a:pt x="10733" y="6"/>
                      <a:pt x="10733" y="4"/>
                    </a:cubicBezTo>
                    <a:cubicBezTo>
                      <a:pt x="10733" y="3"/>
                      <a:pt x="10734" y="2"/>
                      <a:pt x="10735" y="2"/>
                    </a:cubicBezTo>
                    <a:close/>
                    <a:moveTo>
                      <a:pt x="10743" y="2"/>
                    </a:moveTo>
                    <a:lnTo>
                      <a:pt x="10743" y="2"/>
                    </a:lnTo>
                    <a:cubicBezTo>
                      <a:pt x="10744" y="2"/>
                      <a:pt x="10745" y="3"/>
                      <a:pt x="10745" y="4"/>
                    </a:cubicBezTo>
                    <a:cubicBezTo>
                      <a:pt x="10745" y="6"/>
                      <a:pt x="10744" y="6"/>
                      <a:pt x="10743" y="6"/>
                    </a:cubicBezTo>
                    <a:lnTo>
                      <a:pt x="10743" y="6"/>
                    </a:lnTo>
                    <a:cubicBezTo>
                      <a:pt x="10742" y="6"/>
                      <a:pt x="10741" y="6"/>
                      <a:pt x="10741" y="4"/>
                    </a:cubicBezTo>
                    <a:cubicBezTo>
                      <a:pt x="10741" y="3"/>
                      <a:pt x="10742" y="2"/>
                      <a:pt x="10743" y="2"/>
                    </a:cubicBezTo>
                    <a:close/>
                    <a:moveTo>
                      <a:pt x="10751" y="2"/>
                    </a:moveTo>
                    <a:lnTo>
                      <a:pt x="10751" y="2"/>
                    </a:lnTo>
                    <a:cubicBezTo>
                      <a:pt x="10752" y="2"/>
                      <a:pt x="10753" y="3"/>
                      <a:pt x="10753" y="4"/>
                    </a:cubicBezTo>
                    <a:cubicBezTo>
                      <a:pt x="10753" y="6"/>
                      <a:pt x="10752" y="6"/>
                      <a:pt x="10751" y="6"/>
                    </a:cubicBezTo>
                    <a:lnTo>
                      <a:pt x="10751" y="6"/>
                    </a:lnTo>
                    <a:cubicBezTo>
                      <a:pt x="10750" y="6"/>
                      <a:pt x="10749" y="6"/>
                      <a:pt x="10749" y="4"/>
                    </a:cubicBezTo>
                    <a:cubicBezTo>
                      <a:pt x="10749" y="3"/>
                      <a:pt x="10750" y="2"/>
                      <a:pt x="10751" y="2"/>
                    </a:cubicBezTo>
                    <a:close/>
                    <a:moveTo>
                      <a:pt x="10759" y="2"/>
                    </a:moveTo>
                    <a:lnTo>
                      <a:pt x="10759" y="2"/>
                    </a:lnTo>
                    <a:cubicBezTo>
                      <a:pt x="10760" y="2"/>
                      <a:pt x="10761" y="3"/>
                      <a:pt x="10761" y="4"/>
                    </a:cubicBezTo>
                    <a:cubicBezTo>
                      <a:pt x="10761" y="6"/>
                      <a:pt x="10760" y="6"/>
                      <a:pt x="10759" y="6"/>
                    </a:cubicBezTo>
                    <a:lnTo>
                      <a:pt x="10759" y="6"/>
                    </a:lnTo>
                    <a:cubicBezTo>
                      <a:pt x="10758" y="6"/>
                      <a:pt x="10757" y="6"/>
                      <a:pt x="10757" y="4"/>
                    </a:cubicBezTo>
                    <a:cubicBezTo>
                      <a:pt x="10757" y="3"/>
                      <a:pt x="10758" y="2"/>
                      <a:pt x="10759" y="2"/>
                    </a:cubicBezTo>
                    <a:close/>
                    <a:moveTo>
                      <a:pt x="10767" y="2"/>
                    </a:moveTo>
                    <a:lnTo>
                      <a:pt x="10767" y="2"/>
                    </a:lnTo>
                    <a:cubicBezTo>
                      <a:pt x="10768" y="2"/>
                      <a:pt x="10769" y="3"/>
                      <a:pt x="10769" y="4"/>
                    </a:cubicBezTo>
                    <a:cubicBezTo>
                      <a:pt x="10769" y="6"/>
                      <a:pt x="10768" y="6"/>
                      <a:pt x="10767" y="6"/>
                    </a:cubicBezTo>
                    <a:lnTo>
                      <a:pt x="10767" y="6"/>
                    </a:lnTo>
                    <a:cubicBezTo>
                      <a:pt x="10766" y="6"/>
                      <a:pt x="10765" y="6"/>
                      <a:pt x="10765" y="4"/>
                    </a:cubicBezTo>
                    <a:cubicBezTo>
                      <a:pt x="10765" y="3"/>
                      <a:pt x="10766" y="2"/>
                      <a:pt x="10767" y="2"/>
                    </a:cubicBezTo>
                    <a:close/>
                    <a:moveTo>
                      <a:pt x="10775" y="2"/>
                    </a:moveTo>
                    <a:lnTo>
                      <a:pt x="10775" y="2"/>
                    </a:lnTo>
                    <a:cubicBezTo>
                      <a:pt x="10776" y="2"/>
                      <a:pt x="10777" y="3"/>
                      <a:pt x="10777" y="4"/>
                    </a:cubicBezTo>
                    <a:cubicBezTo>
                      <a:pt x="10777" y="6"/>
                      <a:pt x="10776" y="6"/>
                      <a:pt x="10775" y="6"/>
                    </a:cubicBezTo>
                    <a:lnTo>
                      <a:pt x="10775" y="6"/>
                    </a:lnTo>
                    <a:cubicBezTo>
                      <a:pt x="10774" y="6"/>
                      <a:pt x="10773" y="6"/>
                      <a:pt x="10773" y="4"/>
                    </a:cubicBezTo>
                    <a:cubicBezTo>
                      <a:pt x="10773" y="3"/>
                      <a:pt x="10774" y="2"/>
                      <a:pt x="10775" y="2"/>
                    </a:cubicBezTo>
                    <a:close/>
                    <a:moveTo>
                      <a:pt x="10783" y="2"/>
                    </a:moveTo>
                    <a:lnTo>
                      <a:pt x="10783" y="2"/>
                    </a:lnTo>
                    <a:cubicBezTo>
                      <a:pt x="10784" y="2"/>
                      <a:pt x="10785" y="3"/>
                      <a:pt x="10785" y="4"/>
                    </a:cubicBezTo>
                    <a:cubicBezTo>
                      <a:pt x="10785" y="6"/>
                      <a:pt x="10784" y="6"/>
                      <a:pt x="10783" y="6"/>
                    </a:cubicBezTo>
                    <a:lnTo>
                      <a:pt x="10783" y="6"/>
                    </a:lnTo>
                    <a:cubicBezTo>
                      <a:pt x="10782" y="6"/>
                      <a:pt x="10781" y="6"/>
                      <a:pt x="10781" y="4"/>
                    </a:cubicBezTo>
                    <a:cubicBezTo>
                      <a:pt x="10781" y="3"/>
                      <a:pt x="10782" y="2"/>
                      <a:pt x="10783" y="2"/>
                    </a:cubicBezTo>
                    <a:close/>
                    <a:moveTo>
                      <a:pt x="10791" y="2"/>
                    </a:moveTo>
                    <a:lnTo>
                      <a:pt x="10791" y="2"/>
                    </a:lnTo>
                    <a:cubicBezTo>
                      <a:pt x="10793" y="2"/>
                      <a:pt x="10793" y="3"/>
                      <a:pt x="10793" y="4"/>
                    </a:cubicBezTo>
                    <a:cubicBezTo>
                      <a:pt x="10793" y="6"/>
                      <a:pt x="10793" y="6"/>
                      <a:pt x="10791" y="6"/>
                    </a:cubicBezTo>
                    <a:lnTo>
                      <a:pt x="10791" y="6"/>
                    </a:lnTo>
                    <a:cubicBezTo>
                      <a:pt x="10790" y="6"/>
                      <a:pt x="10789" y="6"/>
                      <a:pt x="10789" y="4"/>
                    </a:cubicBezTo>
                    <a:cubicBezTo>
                      <a:pt x="10789" y="3"/>
                      <a:pt x="10790" y="2"/>
                      <a:pt x="10791" y="2"/>
                    </a:cubicBezTo>
                    <a:close/>
                    <a:moveTo>
                      <a:pt x="10799" y="2"/>
                    </a:moveTo>
                    <a:lnTo>
                      <a:pt x="10799" y="2"/>
                    </a:lnTo>
                    <a:cubicBezTo>
                      <a:pt x="10801" y="2"/>
                      <a:pt x="10801" y="3"/>
                      <a:pt x="10801" y="4"/>
                    </a:cubicBezTo>
                    <a:cubicBezTo>
                      <a:pt x="10801" y="6"/>
                      <a:pt x="10801" y="6"/>
                      <a:pt x="10799" y="6"/>
                    </a:cubicBezTo>
                    <a:lnTo>
                      <a:pt x="10799" y="6"/>
                    </a:lnTo>
                    <a:cubicBezTo>
                      <a:pt x="10798" y="6"/>
                      <a:pt x="10797" y="6"/>
                      <a:pt x="10797" y="4"/>
                    </a:cubicBezTo>
                    <a:cubicBezTo>
                      <a:pt x="10797" y="3"/>
                      <a:pt x="10798" y="2"/>
                      <a:pt x="10799" y="2"/>
                    </a:cubicBezTo>
                    <a:close/>
                    <a:moveTo>
                      <a:pt x="10807" y="2"/>
                    </a:moveTo>
                    <a:lnTo>
                      <a:pt x="10807" y="2"/>
                    </a:lnTo>
                    <a:cubicBezTo>
                      <a:pt x="10809" y="2"/>
                      <a:pt x="10809" y="3"/>
                      <a:pt x="10809" y="4"/>
                    </a:cubicBezTo>
                    <a:cubicBezTo>
                      <a:pt x="10809" y="6"/>
                      <a:pt x="10809" y="6"/>
                      <a:pt x="10807" y="6"/>
                    </a:cubicBezTo>
                    <a:lnTo>
                      <a:pt x="10807" y="6"/>
                    </a:lnTo>
                    <a:cubicBezTo>
                      <a:pt x="10806" y="6"/>
                      <a:pt x="10805" y="6"/>
                      <a:pt x="10805" y="4"/>
                    </a:cubicBezTo>
                    <a:cubicBezTo>
                      <a:pt x="10805" y="3"/>
                      <a:pt x="10806" y="2"/>
                      <a:pt x="10807" y="2"/>
                    </a:cubicBezTo>
                    <a:close/>
                    <a:moveTo>
                      <a:pt x="10815" y="2"/>
                    </a:moveTo>
                    <a:lnTo>
                      <a:pt x="10815" y="2"/>
                    </a:lnTo>
                    <a:cubicBezTo>
                      <a:pt x="10817" y="2"/>
                      <a:pt x="10817" y="3"/>
                      <a:pt x="10817" y="4"/>
                    </a:cubicBezTo>
                    <a:cubicBezTo>
                      <a:pt x="10817" y="6"/>
                      <a:pt x="10817" y="6"/>
                      <a:pt x="10815" y="6"/>
                    </a:cubicBezTo>
                    <a:lnTo>
                      <a:pt x="10815" y="6"/>
                    </a:lnTo>
                    <a:cubicBezTo>
                      <a:pt x="10814" y="6"/>
                      <a:pt x="10813" y="6"/>
                      <a:pt x="10813" y="4"/>
                    </a:cubicBezTo>
                    <a:cubicBezTo>
                      <a:pt x="10813" y="3"/>
                      <a:pt x="10814" y="2"/>
                      <a:pt x="10815" y="2"/>
                    </a:cubicBezTo>
                    <a:close/>
                    <a:moveTo>
                      <a:pt x="10823" y="2"/>
                    </a:moveTo>
                    <a:lnTo>
                      <a:pt x="10823" y="2"/>
                    </a:lnTo>
                    <a:cubicBezTo>
                      <a:pt x="10825" y="2"/>
                      <a:pt x="10825" y="3"/>
                      <a:pt x="10825" y="4"/>
                    </a:cubicBezTo>
                    <a:cubicBezTo>
                      <a:pt x="10825" y="6"/>
                      <a:pt x="10825" y="6"/>
                      <a:pt x="10823" y="6"/>
                    </a:cubicBezTo>
                    <a:lnTo>
                      <a:pt x="10823" y="6"/>
                    </a:lnTo>
                    <a:cubicBezTo>
                      <a:pt x="10822" y="6"/>
                      <a:pt x="10821" y="6"/>
                      <a:pt x="10821" y="4"/>
                    </a:cubicBezTo>
                    <a:cubicBezTo>
                      <a:pt x="10821" y="3"/>
                      <a:pt x="10822" y="2"/>
                      <a:pt x="10823" y="2"/>
                    </a:cubicBezTo>
                    <a:close/>
                    <a:moveTo>
                      <a:pt x="10831" y="2"/>
                    </a:moveTo>
                    <a:lnTo>
                      <a:pt x="10831" y="2"/>
                    </a:lnTo>
                    <a:cubicBezTo>
                      <a:pt x="10833" y="2"/>
                      <a:pt x="10833" y="3"/>
                      <a:pt x="10833" y="4"/>
                    </a:cubicBezTo>
                    <a:cubicBezTo>
                      <a:pt x="10833" y="6"/>
                      <a:pt x="10833" y="6"/>
                      <a:pt x="10831" y="6"/>
                    </a:cubicBezTo>
                    <a:lnTo>
                      <a:pt x="10831" y="6"/>
                    </a:lnTo>
                    <a:cubicBezTo>
                      <a:pt x="10830" y="6"/>
                      <a:pt x="10829" y="6"/>
                      <a:pt x="10829" y="4"/>
                    </a:cubicBezTo>
                    <a:cubicBezTo>
                      <a:pt x="10829" y="3"/>
                      <a:pt x="10830" y="2"/>
                      <a:pt x="10831" y="2"/>
                    </a:cubicBezTo>
                    <a:close/>
                    <a:moveTo>
                      <a:pt x="10839" y="2"/>
                    </a:moveTo>
                    <a:lnTo>
                      <a:pt x="10839" y="2"/>
                    </a:lnTo>
                    <a:cubicBezTo>
                      <a:pt x="10841" y="2"/>
                      <a:pt x="10841" y="3"/>
                      <a:pt x="10841" y="4"/>
                    </a:cubicBezTo>
                    <a:cubicBezTo>
                      <a:pt x="10841" y="6"/>
                      <a:pt x="10841" y="6"/>
                      <a:pt x="10839" y="6"/>
                    </a:cubicBezTo>
                    <a:lnTo>
                      <a:pt x="10839" y="6"/>
                    </a:lnTo>
                    <a:cubicBezTo>
                      <a:pt x="10838" y="6"/>
                      <a:pt x="10837" y="6"/>
                      <a:pt x="10837" y="4"/>
                    </a:cubicBezTo>
                    <a:cubicBezTo>
                      <a:pt x="10837" y="3"/>
                      <a:pt x="10838" y="2"/>
                      <a:pt x="10839" y="2"/>
                    </a:cubicBezTo>
                    <a:close/>
                    <a:moveTo>
                      <a:pt x="10847" y="2"/>
                    </a:moveTo>
                    <a:lnTo>
                      <a:pt x="10847" y="2"/>
                    </a:lnTo>
                    <a:cubicBezTo>
                      <a:pt x="10849" y="2"/>
                      <a:pt x="10849" y="3"/>
                      <a:pt x="10849" y="4"/>
                    </a:cubicBezTo>
                    <a:cubicBezTo>
                      <a:pt x="10849" y="6"/>
                      <a:pt x="10849" y="6"/>
                      <a:pt x="10847" y="6"/>
                    </a:cubicBezTo>
                    <a:lnTo>
                      <a:pt x="10847" y="6"/>
                    </a:lnTo>
                    <a:cubicBezTo>
                      <a:pt x="10846" y="6"/>
                      <a:pt x="10845" y="6"/>
                      <a:pt x="10845" y="4"/>
                    </a:cubicBezTo>
                    <a:cubicBezTo>
                      <a:pt x="10845" y="3"/>
                      <a:pt x="10846" y="2"/>
                      <a:pt x="10847" y="2"/>
                    </a:cubicBezTo>
                    <a:close/>
                    <a:moveTo>
                      <a:pt x="10855" y="2"/>
                    </a:moveTo>
                    <a:lnTo>
                      <a:pt x="10855" y="2"/>
                    </a:lnTo>
                    <a:cubicBezTo>
                      <a:pt x="10857" y="2"/>
                      <a:pt x="10857" y="3"/>
                      <a:pt x="10857" y="4"/>
                    </a:cubicBezTo>
                    <a:cubicBezTo>
                      <a:pt x="10857" y="6"/>
                      <a:pt x="10857" y="6"/>
                      <a:pt x="10855" y="6"/>
                    </a:cubicBezTo>
                    <a:lnTo>
                      <a:pt x="10855" y="6"/>
                    </a:lnTo>
                    <a:cubicBezTo>
                      <a:pt x="10854" y="6"/>
                      <a:pt x="10853" y="6"/>
                      <a:pt x="10853" y="4"/>
                    </a:cubicBezTo>
                    <a:cubicBezTo>
                      <a:pt x="10853" y="3"/>
                      <a:pt x="10854" y="2"/>
                      <a:pt x="10855" y="2"/>
                    </a:cubicBezTo>
                    <a:close/>
                    <a:moveTo>
                      <a:pt x="10863" y="2"/>
                    </a:moveTo>
                    <a:lnTo>
                      <a:pt x="10863" y="2"/>
                    </a:lnTo>
                    <a:cubicBezTo>
                      <a:pt x="10865" y="2"/>
                      <a:pt x="10865" y="3"/>
                      <a:pt x="10865" y="4"/>
                    </a:cubicBezTo>
                    <a:cubicBezTo>
                      <a:pt x="10865" y="6"/>
                      <a:pt x="10865" y="6"/>
                      <a:pt x="10863" y="6"/>
                    </a:cubicBezTo>
                    <a:lnTo>
                      <a:pt x="10863" y="6"/>
                    </a:lnTo>
                    <a:cubicBezTo>
                      <a:pt x="10862" y="6"/>
                      <a:pt x="10861" y="6"/>
                      <a:pt x="10861" y="4"/>
                    </a:cubicBezTo>
                    <a:cubicBezTo>
                      <a:pt x="10861" y="3"/>
                      <a:pt x="10862" y="2"/>
                      <a:pt x="10863" y="2"/>
                    </a:cubicBezTo>
                    <a:close/>
                    <a:moveTo>
                      <a:pt x="10871" y="2"/>
                    </a:moveTo>
                    <a:lnTo>
                      <a:pt x="10871" y="2"/>
                    </a:lnTo>
                    <a:cubicBezTo>
                      <a:pt x="10873" y="2"/>
                      <a:pt x="10873" y="3"/>
                      <a:pt x="10873" y="4"/>
                    </a:cubicBezTo>
                    <a:cubicBezTo>
                      <a:pt x="10873" y="6"/>
                      <a:pt x="10873" y="6"/>
                      <a:pt x="10871" y="6"/>
                    </a:cubicBezTo>
                    <a:lnTo>
                      <a:pt x="10871" y="6"/>
                    </a:lnTo>
                    <a:cubicBezTo>
                      <a:pt x="10870" y="6"/>
                      <a:pt x="10869" y="6"/>
                      <a:pt x="10869" y="4"/>
                    </a:cubicBezTo>
                    <a:cubicBezTo>
                      <a:pt x="10869" y="3"/>
                      <a:pt x="10870" y="2"/>
                      <a:pt x="10871" y="2"/>
                    </a:cubicBezTo>
                    <a:close/>
                    <a:moveTo>
                      <a:pt x="10879" y="2"/>
                    </a:moveTo>
                    <a:lnTo>
                      <a:pt x="10879" y="2"/>
                    </a:lnTo>
                    <a:cubicBezTo>
                      <a:pt x="10881" y="2"/>
                      <a:pt x="10881" y="3"/>
                      <a:pt x="10881" y="4"/>
                    </a:cubicBezTo>
                    <a:cubicBezTo>
                      <a:pt x="10881" y="6"/>
                      <a:pt x="10881" y="6"/>
                      <a:pt x="10879" y="6"/>
                    </a:cubicBezTo>
                    <a:lnTo>
                      <a:pt x="10879" y="6"/>
                    </a:lnTo>
                    <a:cubicBezTo>
                      <a:pt x="10878" y="6"/>
                      <a:pt x="10877" y="6"/>
                      <a:pt x="10877" y="4"/>
                    </a:cubicBezTo>
                    <a:cubicBezTo>
                      <a:pt x="10877" y="3"/>
                      <a:pt x="10878" y="2"/>
                      <a:pt x="10879" y="2"/>
                    </a:cubicBezTo>
                    <a:close/>
                    <a:moveTo>
                      <a:pt x="10887" y="2"/>
                    </a:moveTo>
                    <a:lnTo>
                      <a:pt x="10887" y="2"/>
                    </a:lnTo>
                    <a:cubicBezTo>
                      <a:pt x="10889" y="2"/>
                      <a:pt x="10889" y="3"/>
                      <a:pt x="10889" y="4"/>
                    </a:cubicBezTo>
                    <a:cubicBezTo>
                      <a:pt x="10889" y="6"/>
                      <a:pt x="10889" y="6"/>
                      <a:pt x="10887" y="6"/>
                    </a:cubicBezTo>
                    <a:lnTo>
                      <a:pt x="10887" y="6"/>
                    </a:lnTo>
                    <a:cubicBezTo>
                      <a:pt x="10886" y="6"/>
                      <a:pt x="10885" y="6"/>
                      <a:pt x="10885" y="4"/>
                    </a:cubicBezTo>
                    <a:cubicBezTo>
                      <a:pt x="10885" y="3"/>
                      <a:pt x="10886" y="2"/>
                      <a:pt x="10887" y="2"/>
                    </a:cubicBezTo>
                    <a:close/>
                    <a:moveTo>
                      <a:pt x="10895" y="2"/>
                    </a:moveTo>
                    <a:lnTo>
                      <a:pt x="10895" y="2"/>
                    </a:lnTo>
                    <a:cubicBezTo>
                      <a:pt x="10897" y="2"/>
                      <a:pt x="10897" y="3"/>
                      <a:pt x="10897" y="4"/>
                    </a:cubicBezTo>
                    <a:cubicBezTo>
                      <a:pt x="10897" y="6"/>
                      <a:pt x="10897" y="6"/>
                      <a:pt x="10895" y="6"/>
                    </a:cubicBezTo>
                    <a:lnTo>
                      <a:pt x="10895" y="6"/>
                    </a:lnTo>
                    <a:cubicBezTo>
                      <a:pt x="10894" y="6"/>
                      <a:pt x="10893" y="6"/>
                      <a:pt x="10893" y="4"/>
                    </a:cubicBezTo>
                    <a:cubicBezTo>
                      <a:pt x="10893" y="3"/>
                      <a:pt x="10894" y="2"/>
                      <a:pt x="10895" y="2"/>
                    </a:cubicBezTo>
                    <a:close/>
                    <a:moveTo>
                      <a:pt x="10903" y="2"/>
                    </a:moveTo>
                    <a:lnTo>
                      <a:pt x="10903" y="2"/>
                    </a:lnTo>
                    <a:cubicBezTo>
                      <a:pt x="10905" y="2"/>
                      <a:pt x="10905" y="3"/>
                      <a:pt x="10905" y="4"/>
                    </a:cubicBezTo>
                    <a:cubicBezTo>
                      <a:pt x="10905" y="6"/>
                      <a:pt x="10905" y="6"/>
                      <a:pt x="10903" y="6"/>
                    </a:cubicBezTo>
                    <a:lnTo>
                      <a:pt x="10903" y="6"/>
                    </a:lnTo>
                    <a:cubicBezTo>
                      <a:pt x="10902" y="6"/>
                      <a:pt x="10901" y="6"/>
                      <a:pt x="10901" y="4"/>
                    </a:cubicBezTo>
                    <a:cubicBezTo>
                      <a:pt x="10901" y="3"/>
                      <a:pt x="10902" y="2"/>
                      <a:pt x="10903" y="2"/>
                    </a:cubicBezTo>
                    <a:close/>
                    <a:moveTo>
                      <a:pt x="10911" y="2"/>
                    </a:moveTo>
                    <a:lnTo>
                      <a:pt x="10911" y="2"/>
                    </a:lnTo>
                    <a:cubicBezTo>
                      <a:pt x="10913" y="2"/>
                      <a:pt x="10913" y="3"/>
                      <a:pt x="10913" y="4"/>
                    </a:cubicBezTo>
                    <a:cubicBezTo>
                      <a:pt x="10913" y="6"/>
                      <a:pt x="10913" y="6"/>
                      <a:pt x="10911" y="6"/>
                    </a:cubicBezTo>
                    <a:lnTo>
                      <a:pt x="10911" y="6"/>
                    </a:lnTo>
                    <a:cubicBezTo>
                      <a:pt x="10910" y="6"/>
                      <a:pt x="10909" y="6"/>
                      <a:pt x="10909" y="4"/>
                    </a:cubicBezTo>
                    <a:cubicBezTo>
                      <a:pt x="10909" y="3"/>
                      <a:pt x="10910" y="2"/>
                      <a:pt x="10911" y="2"/>
                    </a:cubicBezTo>
                    <a:close/>
                    <a:moveTo>
                      <a:pt x="10919" y="2"/>
                    </a:moveTo>
                    <a:lnTo>
                      <a:pt x="10919" y="2"/>
                    </a:lnTo>
                    <a:cubicBezTo>
                      <a:pt x="10921" y="2"/>
                      <a:pt x="10921" y="3"/>
                      <a:pt x="10921" y="4"/>
                    </a:cubicBezTo>
                    <a:cubicBezTo>
                      <a:pt x="10921" y="6"/>
                      <a:pt x="10921" y="6"/>
                      <a:pt x="10919" y="6"/>
                    </a:cubicBezTo>
                    <a:lnTo>
                      <a:pt x="10919" y="6"/>
                    </a:lnTo>
                    <a:cubicBezTo>
                      <a:pt x="10918" y="6"/>
                      <a:pt x="10917" y="6"/>
                      <a:pt x="10917" y="4"/>
                    </a:cubicBezTo>
                    <a:cubicBezTo>
                      <a:pt x="10917" y="3"/>
                      <a:pt x="10918" y="2"/>
                      <a:pt x="10919" y="2"/>
                    </a:cubicBezTo>
                    <a:close/>
                    <a:moveTo>
                      <a:pt x="10927" y="2"/>
                    </a:moveTo>
                    <a:lnTo>
                      <a:pt x="10927" y="2"/>
                    </a:lnTo>
                    <a:cubicBezTo>
                      <a:pt x="10929" y="2"/>
                      <a:pt x="10929" y="3"/>
                      <a:pt x="10929" y="4"/>
                    </a:cubicBezTo>
                    <a:cubicBezTo>
                      <a:pt x="10929" y="6"/>
                      <a:pt x="10929" y="6"/>
                      <a:pt x="10927" y="6"/>
                    </a:cubicBezTo>
                    <a:lnTo>
                      <a:pt x="10927" y="6"/>
                    </a:lnTo>
                    <a:cubicBezTo>
                      <a:pt x="10926" y="6"/>
                      <a:pt x="10925" y="6"/>
                      <a:pt x="10925" y="4"/>
                    </a:cubicBezTo>
                    <a:cubicBezTo>
                      <a:pt x="10925" y="3"/>
                      <a:pt x="10926" y="2"/>
                      <a:pt x="10927" y="2"/>
                    </a:cubicBezTo>
                    <a:close/>
                    <a:moveTo>
                      <a:pt x="10935" y="2"/>
                    </a:moveTo>
                    <a:lnTo>
                      <a:pt x="10935" y="2"/>
                    </a:lnTo>
                    <a:cubicBezTo>
                      <a:pt x="10937" y="2"/>
                      <a:pt x="10937" y="3"/>
                      <a:pt x="10937" y="4"/>
                    </a:cubicBezTo>
                    <a:cubicBezTo>
                      <a:pt x="10937" y="6"/>
                      <a:pt x="10937" y="6"/>
                      <a:pt x="10935" y="6"/>
                    </a:cubicBezTo>
                    <a:lnTo>
                      <a:pt x="10935" y="6"/>
                    </a:lnTo>
                    <a:cubicBezTo>
                      <a:pt x="10934" y="6"/>
                      <a:pt x="10933" y="6"/>
                      <a:pt x="10933" y="4"/>
                    </a:cubicBezTo>
                    <a:cubicBezTo>
                      <a:pt x="10933" y="3"/>
                      <a:pt x="10934" y="2"/>
                      <a:pt x="10935" y="2"/>
                    </a:cubicBezTo>
                    <a:close/>
                    <a:moveTo>
                      <a:pt x="10943" y="2"/>
                    </a:moveTo>
                    <a:lnTo>
                      <a:pt x="10943" y="2"/>
                    </a:lnTo>
                    <a:cubicBezTo>
                      <a:pt x="10945" y="2"/>
                      <a:pt x="10945" y="3"/>
                      <a:pt x="10945" y="4"/>
                    </a:cubicBezTo>
                    <a:cubicBezTo>
                      <a:pt x="10945" y="6"/>
                      <a:pt x="10945" y="6"/>
                      <a:pt x="10943" y="6"/>
                    </a:cubicBezTo>
                    <a:lnTo>
                      <a:pt x="10943" y="6"/>
                    </a:lnTo>
                    <a:cubicBezTo>
                      <a:pt x="10942" y="6"/>
                      <a:pt x="10941" y="6"/>
                      <a:pt x="10941" y="4"/>
                    </a:cubicBezTo>
                    <a:cubicBezTo>
                      <a:pt x="10941" y="3"/>
                      <a:pt x="10942" y="2"/>
                      <a:pt x="10943" y="2"/>
                    </a:cubicBezTo>
                    <a:close/>
                    <a:moveTo>
                      <a:pt x="10951" y="2"/>
                    </a:moveTo>
                    <a:lnTo>
                      <a:pt x="10951" y="2"/>
                    </a:lnTo>
                    <a:cubicBezTo>
                      <a:pt x="10953" y="2"/>
                      <a:pt x="10953" y="3"/>
                      <a:pt x="10953" y="4"/>
                    </a:cubicBezTo>
                    <a:cubicBezTo>
                      <a:pt x="10953" y="6"/>
                      <a:pt x="10953" y="6"/>
                      <a:pt x="10951" y="6"/>
                    </a:cubicBezTo>
                    <a:lnTo>
                      <a:pt x="10951" y="6"/>
                    </a:lnTo>
                    <a:cubicBezTo>
                      <a:pt x="10950" y="6"/>
                      <a:pt x="10949" y="6"/>
                      <a:pt x="10949" y="4"/>
                    </a:cubicBezTo>
                    <a:cubicBezTo>
                      <a:pt x="10949" y="3"/>
                      <a:pt x="10950" y="2"/>
                      <a:pt x="10951" y="2"/>
                    </a:cubicBezTo>
                    <a:close/>
                    <a:moveTo>
                      <a:pt x="10959" y="2"/>
                    </a:moveTo>
                    <a:lnTo>
                      <a:pt x="10960" y="2"/>
                    </a:lnTo>
                    <a:cubicBezTo>
                      <a:pt x="10961" y="2"/>
                      <a:pt x="10962" y="3"/>
                      <a:pt x="10962" y="4"/>
                    </a:cubicBezTo>
                    <a:cubicBezTo>
                      <a:pt x="10962" y="6"/>
                      <a:pt x="10961" y="6"/>
                      <a:pt x="10960" y="6"/>
                    </a:cubicBezTo>
                    <a:lnTo>
                      <a:pt x="10959" y="6"/>
                    </a:lnTo>
                    <a:cubicBezTo>
                      <a:pt x="10958" y="6"/>
                      <a:pt x="10957" y="6"/>
                      <a:pt x="10957" y="4"/>
                    </a:cubicBezTo>
                    <a:cubicBezTo>
                      <a:pt x="10957" y="3"/>
                      <a:pt x="10958" y="2"/>
                      <a:pt x="10959" y="2"/>
                    </a:cubicBezTo>
                    <a:close/>
                    <a:moveTo>
                      <a:pt x="10968" y="2"/>
                    </a:moveTo>
                    <a:lnTo>
                      <a:pt x="10968" y="2"/>
                    </a:lnTo>
                    <a:cubicBezTo>
                      <a:pt x="10969" y="2"/>
                      <a:pt x="10970" y="3"/>
                      <a:pt x="10970" y="4"/>
                    </a:cubicBezTo>
                    <a:cubicBezTo>
                      <a:pt x="10970" y="6"/>
                      <a:pt x="10969" y="6"/>
                      <a:pt x="10968" y="6"/>
                    </a:cubicBezTo>
                    <a:lnTo>
                      <a:pt x="10968" y="6"/>
                    </a:lnTo>
                    <a:cubicBezTo>
                      <a:pt x="10966" y="6"/>
                      <a:pt x="10966" y="6"/>
                      <a:pt x="10966" y="4"/>
                    </a:cubicBezTo>
                    <a:cubicBezTo>
                      <a:pt x="10966" y="3"/>
                      <a:pt x="10966" y="2"/>
                      <a:pt x="10968" y="2"/>
                    </a:cubicBezTo>
                    <a:close/>
                    <a:moveTo>
                      <a:pt x="10976" y="2"/>
                    </a:moveTo>
                    <a:lnTo>
                      <a:pt x="10976" y="2"/>
                    </a:lnTo>
                    <a:cubicBezTo>
                      <a:pt x="10977" y="2"/>
                      <a:pt x="10978" y="3"/>
                      <a:pt x="10978" y="4"/>
                    </a:cubicBezTo>
                    <a:cubicBezTo>
                      <a:pt x="10978" y="6"/>
                      <a:pt x="10977" y="6"/>
                      <a:pt x="10976" y="6"/>
                    </a:cubicBezTo>
                    <a:lnTo>
                      <a:pt x="10976" y="6"/>
                    </a:lnTo>
                    <a:cubicBezTo>
                      <a:pt x="10974" y="6"/>
                      <a:pt x="10974" y="6"/>
                      <a:pt x="10974" y="4"/>
                    </a:cubicBezTo>
                    <a:cubicBezTo>
                      <a:pt x="10974" y="3"/>
                      <a:pt x="10974" y="2"/>
                      <a:pt x="10976" y="2"/>
                    </a:cubicBezTo>
                    <a:close/>
                    <a:moveTo>
                      <a:pt x="10984" y="2"/>
                    </a:moveTo>
                    <a:lnTo>
                      <a:pt x="10984" y="2"/>
                    </a:lnTo>
                    <a:cubicBezTo>
                      <a:pt x="10985" y="2"/>
                      <a:pt x="10986" y="3"/>
                      <a:pt x="10986" y="4"/>
                    </a:cubicBezTo>
                    <a:cubicBezTo>
                      <a:pt x="10986" y="6"/>
                      <a:pt x="10985" y="6"/>
                      <a:pt x="10984" y="6"/>
                    </a:cubicBezTo>
                    <a:lnTo>
                      <a:pt x="10984" y="6"/>
                    </a:lnTo>
                    <a:cubicBezTo>
                      <a:pt x="10982" y="6"/>
                      <a:pt x="10982" y="6"/>
                      <a:pt x="10982" y="4"/>
                    </a:cubicBezTo>
                    <a:cubicBezTo>
                      <a:pt x="10982" y="3"/>
                      <a:pt x="10982" y="2"/>
                      <a:pt x="10984" y="2"/>
                    </a:cubicBezTo>
                    <a:close/>
                    <a:moveTo>
                      <a:pt x="10992" y="2"/>
                    </a:moveTo>
                    <a:lnTo>
                      <a:pt x="10992" y="2"/>
                    </a:lnTo>
                    <a:cubicBezTo>
                      <a:pt x="10993" y="2"/>
                      <a:pt x="10994" y="3"/>
                      <a:pt x="10994" y="4"/>
                    </a:cubicBezTo>
                    <a:cubicBezTo>
                      <a:pt x="10994" y="6"/>
                      <a:pt x="10993" y="6"/>
                      <a:pt x="10992" y="6"/>
                    </a:cubicBezTo>
                    <a:lnTo>
                      <a:pt x="10992" y="6"/>
                    </a:lnTo>
                    <a:cubicBezTo>
                      <a:pt x="10990" y="6"/>
                      <a:pt x="10990" y="6"/>
                      <a:pt x="10990" y="4"/>
                    </a:cubicBezTo>
                    <a:cubicBezTo>
                      <a:pt x="10990" y="3"/>
                      <a:pt x="10990" y="2"/>
                      <a:pt x="10992" y="2"/>
                    </a:cubicBezTo>
                    <a:close/>
                    <a:moveTo>
                      <a:pt x="11000" y="2"/>
                    </a:moveTo>
                    <a:lnTo>
                      <a:pt x="11000" y="2"/>
                    </a:lnTo>
                    <a:cubicBezTo>
                      <a:pt x="11001" y="2"/>
                      <a:pt x="11002" y="3"/>
                      <a:pt x="11002" y="4"/>
                    </a:cubicBezTo>
                    <a:cubicBezTo>
                      <a:pt x="11002" y="6"/>
                      <a:pt x="11001" y="6"/>
                      <a:pt x="11000" y="6"/>
                    </a:cubicBezTo>
                    <a:lnTo>
                      <a:pt x="11000" y="6"/>
                    </a:lnTo>
                    <a:cubicBezTo>
                      <a:pt x="10998" y="6"/>
                      <a:pt x="10998" y="6"/>
                      <a:pt x="10998" y="4"/>
                    </a:cubicBezTo>
                    <a:cubicBezTo>
                      <a:pt x="10998" y="3"/>
                      <a:pt x="10998" y="2"/>
                      <a:pt x="11000" y="2"/>
                    </a:cubicBezTo>
                    <a:close/>
                    <a:moveTo>
                      <a:pt x="11008" y="2"/>
                    </a:moveTo>
                    <a:lnTo>
                      <a:pt x="11008" y="2"/>
                    </a:lnTo>
                    <a:cubicBezTo>
                      <a:pt x="11009" y="2"/>
                      <a:pt x="11010" y="3"/>
                      <a:pt x="11010" y="4"/>
                    </a:cubicBezTo>
                    <a:cubicBezTo>
                      <a:pt x="11010" y="6"/>
                      <a:pt x="11009" y="6"/>
                      <a:pt x="11008" y="6"/>
                    </a:cubicBezTo>
                    <a:lnTo>
                      <a:pt x="11008" y="6"/>
                    </a:lnTo>
                    <a:cubicBezTo>
                      <a:pt x="11006" y="6"/>
                      <a:pt x="11006" y="6"/>
                      <a:pt x="11006" y="4"/>
                    </a:cubicBezTo>
                    <a:cubicBezTo>
                      <a:pt x="11006" y="3"/>
                      <a:pt x="11006" y="2"/>
                      <a:pt x="11008" y="2"/>
                    </a:cubicBezTo>
                    <a:close/>
                    <a:moveTo>
                      <a:pt x="11016" y="2"/>
                    </a:moveTo>
                    <a:lnTo>
                      <a:pt x="11016" y="2"/>
                    </a:lnTo>
                    <a:cubicBezTo>
                      <a:pt x="11017" y="2"/>
                      <a:pt x="11018" y="3"/>
                      <a:pt x="11018" y="4"/>
                    </a:cubicBezTo>
                    <a:cubicBezTo>
                      <a:pt x="11018" y="6"/>
                      <a:pt x="11017" y="6"/>
                      <a:pt x="11016" y="6"/>
                    </a:cubicBezTo>
                    <a:lnTo>
                      <a:pt x="11016" y="6"/>
                    </a:lnTo>
                    <a:cubicBezTo>
                      <a:pt x="11014" y="6"/>
                      <a:pt x="11014" y="6"/>
                      <a:pt x="11014" y="4"/>
                    </a:cubicBezTo>
                    <a:cubicBezTo>
                      <a:pt x="11014" y="3"/>
                      <a:pt x="11014" y="2"/>
                      <a:pt x="11016" y="2"/>
                    </a:cubicBezTo>
                    <a:close/>
                    <a:moveTo>
                      <a:pt x="11024" y="2"/>
                    </a:moveTo>
                    <a:lnTo>
                      <a:pt x="11024" y="2"/>
                    </a:lnTo>
                    <a:cubicBezTo>
                      <a:pt x="11025" y="2"/>
                      <a:pt x="11026" y="3"/>
                      <a:pt x="11026" y="4"/>
                    </a:cubicBezTo>
                    <a:cubicBezTo>
                      <a:pt x="11026" y="6"/>
                      <a:pt x="11025" y="6"/>
                      <a:pt x="11024" y="6"/>
                    </a:cubicBezTo>
                    <a:lnTo>
                      <a:pt x="11024" y="6"/>
                    </a:lnTo>
                    <a:cubicBezTo>
                      <a:pt x="11022" y="6"/>
                      <a:pt x="11022" y="6"/>
                      <a:pt x="11022" y="4"/>
                    </a:cubicBezTo>
                    <a:cubicBezTo>
                      <a:pt x="11022" y="3"/>
                      <a:pt x="11022" y="2"/>
                      <a:pt x="11024" y="2"/>
                    </a:cubicBezTo>
                    <a:close/>
                    <a:moveTo>
                      <a:pt x="11032" y="2"/>
                    </a:moveTo>
                    <a:lnTo>
                      <a:pt x="11032" y="2"/>
                    </a:lnTo>
                    <a:cubicBezTo>
                      <a:pt x="11033" y="2"/>
                      <a:pt x="11034" y="3"/>
                      <a:pt x="11034" y="4"/>
                    </a:cubicBezTo>
                    <a:cubicBezTo>
                      <a:pt x="11034" y="6"/>
                      <a:pt x="11033" y="6"/>
                      <a:pt x="11032" y="6"/>
                    </a:cubicBezTo>
                    <a:lnTo>
                      <a:pt x="11032" y="6"/>
                    </a:lnTo>
                    <a:cubicBezTo>
                      <a:pt x="11030" y="6"/>
                      <a:pt x="11030" y="6"/>
                      <a:pt x="11030" y="4"/>
                    </a:cubicBezTo>
                    <a:cubicBezTo>
                      <a:pt x="11030" y="3"/>
                      <a:pt x="11030" y="2"/>
                      <a:pt x="11032" y="2"/>
                    </a:cubicBezTo>
                    <a:close/>
                    <a:moveTo>
                      <a:pt x="11040" y="2"/>
                    </a:moveTo>
                    <a:lnTo>
                      <a:pt x="11040" y="2"/>
                    </a:lnTo>
                    <a:cubicBezTo>
                      <a:pt x="11041" y="2"/>
                      <a:pt x="11042" y="3"/>
                      <a:pt x="11042" y="4"/>
                    </a:cubicBezTo>
                    <a:cubicBezTo>
                      <a:pt x="11042" y="6"/>
                      <a:pt x="11041" y="6"/>
                      <a:pt x="11040" y="6"/>
                    </a:cubicBezTo>
                    <a:lnTo>
                      <a:pt x="11040" y="6"/>
                    </a:lnTo>
                    <a:cubicBezTo>
                      <a:pt x="11038" y="6"/>
                      <a:pt x="11038" y="6"/>
                      <a:pt x="11038" y="4"/>
                    </a:cubicBezTo>
                    <a:cubicBezTo>
                      <a:pt x="11038" y="3"/>
                      <a:pt x="11038" y="2"/>
                      <a:pt x="11040" y="2"/>
                    </a:cubicBezTo>
                    <a:close/>
                    <a:moveTo>
                      <a:pt x="11048" y="2"/>
                    </a:moveTo>
                    <a:lnTo>
                      <a:pt x="11048" y="2"/>
                    </a:lnTo>
                    <a:cubicBezTo>
                      <a:pt x="11049" y="2"/>
                      <a:pt x="11050" y="3"/>
                      <a:pt x="11050" y="4"/>
                    </a:cubicBezTo>
                    <a:cubicBezTo>
                      <a:pt x="11050" y="6"/>
                      <a:pt x="11049" y="6"/>
                      <a:pt x="11048" y="6"/>
                    </a:cubicBezTo>
                    <a:lnTo>
                      <a:pt x="11048" y="6"/>
                    </a:lnTo>
                    <a:cubicBezTo>
                      <a:pt x="11046" y="6"/>
                      <a:pt x="11046" y="6"/>
                      <a:pt x="11046" y="4"/>
                    </a:cubicBezTo>
                    <a:cubicBezTo>
                      <a:pt x="11046" y="3"/>
                      <a:pt x="11046" y="2"/>
                      <a:pt x="11048" y="2"/>
                    </a:cubicBezTo>
                    <a:close/>
                    <a:moveTo>
                      <a:pt x="11056" y="2"/>
                    </a:moveTo>
                    <a:lnTo>
                      <a:pt x="11056" y="2"/>
                    </a:lnTo>
                    <a:cubicBezTo>
                      <a:pt x="11057" y="2"/>
                      <a:pt x="11058" y="3"/>
                      <a:pt x="11058" y="4"/>
                    </a:cubicBezTo>
                    <a:cubicBezTo>
                      <a:pt x="11058" y="6"/>
                      <a:pt x="11057" y="6"/>
                      <a:pt x="11056" y="6"/>
                    </a:cubicBezTo>
                    <a:lnTo>
                      <a:pt x="11056" y="6"/>
                    </a:lnTo>
                    <a:cubicBezTo>
                      <a:pt x="11054" y="6"/>
                      <a:pt x="11054" y="6"/>
                      <a:pt x="11054" y="4"/>
                    </a:cubicBezTo>
                    <a:cubicBezTo>
                      <a:pt x="11054" y="3"/>
                      <a:pt x="11054" y="2"/>
                      <a:pt x="11056" y="2"/>
                    </a:cubicBezTo>
                    <a:close/>
                    <a:moveTo>
                      <a:pt x="11064" y="2"/>
                    </a:moveTo>
                    <a:lnTo>
                      <a:pt x="11064" y="2"/>
                    </a:lnTo>
                    <a:cubicBezTo>
                      <a:pt x="11065" y="2"/>
                      <a:pt x="11066" y="3"/>
                      <a:pt x="11066" y="4"/>
                    </a:cubicBezTo>
                    <a:cubicBezTo>
                      <a:pt x="11066" y="6"/>
                      <a:pt x="11065" y="6"/>
                      <a:pt x="11064" y="6"/>
                    </a:cubicBezTo>
                    <a:lnTo>
                      <a:pt x="11064" y="6"/>
                    </a:lnTo>
                    <a:cubicBezTo>
                      <a:pt x="11062" y="6"/>
                      <a:pt x="11062" y="6"/>
                      <a:pt x="11062" y="4"/>
                    </a:cubicBezTo>
                    <a:cubicBezTo>
                      <a:pt x="11062" y="3"/>
                      <a:pt x="11062" y="2"/>
                      <a:pt x="11064" y="2"/>
                    </a:cubicBezTo>
                    <a:close/>
                    <a:moveTo>
                      <a:pt x="11072" y="2"/>
                    </a:moveTo>
                    <a:lnTo>
                      <a:pt x="11072" y="2"/>
                    </a:lnTo>
                    <a:cubicBezTo>
                      <a:pt x="11073" y="2"/>
                      <a:pt x="11074" y="3"/>
                      <a:pt x="11074" y="4"/>
                    </a:cubicBezTo>
                    <a:cubicBezTo>
                      <a:pt x="11074" y="6"/>
                      <a:pt x="11073" y="6"/>
                      <a:pt x="11072" y="6"/>
                    </a:cubicBezTo>
                    <a:lnTo>
                      <a:pt x="11072" y="6"/>
                    </a:lnTo>
                    <a:cubicBezTo>
                      <a:pt x="11070" y="6"/>
                      <a:pt x="11070" y="6"/>
                      <a:pt x="11070" y="4"/>
                    </a:cubicBezTo>
                    <a:cubicBezTo>
                      <a:pt x="11070" y="3"/>
                      <a:pt x="11070" y="2"/>
                      <a:pt x="11072" y="2"/>
                    </a:cubicBezTo>
                    <a:close/>
                    <a:moveTo>
                      <a:pt x="11080" y="2"/>
                    </a:moveTo>
                    <a:lnTo>
                      <a:pt x="11080" y="2"/>
                    </a:lnTo>
                    <a:cubicBezTo>
                      <a:pt x="11081" y="2"/>
                      <a:pt x="11082" y="3"/>
                      <a:pt x="11082" y="4"/>
                    </a:cubicBezTo>
                    <a:cubicBezTo>
                      <a:pt x="11082" y="6"/>
                      <a:pt x="11081" y="6"/>
                      <a:pt x="11080" y="6"/>
                    </a:cubicBezTo>
                    <a:lnTo>
                      <a:pt x="11080" y="6"/>
                    </a:lnTo>
                    <a:cubicBezTo>
                      <a:pt x="11078" y="6"/>
                      <a:pt x="11078" y="6"/>
                      <a:pt x="11078" y="4"/>
                    </a:cubicBezTo>
                    <a:cubicBezTo>
                      <a:pt x="11078" y="3"/>
                      <a:pt x="11078" y="2"/>
                      <a:pt x="11080" y="2"/>
                    </a:cubicBezTo>
                    <a:close/>
                    <a:moveTo>
                      <a:pt x="11088" y="2"/>
                    </a:moveTo>
                    <a:lnTo>
                      <a:pt x="11088" y="2"/>
                    </a:lnTo>
                    <a:cubicBezTo>
                      <a:pt x="11089" y="2"/>
                      <a:pt x="11090" y="3"/>
                      <a:pt x="11090" y="4"/>
                    </a:cubicBezTo>
                    <a:cubicBezTo>
                      <a:pt x="11090" y="6"/>
                      <a:pt x="11089" y="6"/>
                      <a:pt x="11088" y="6"/>
                    </a:cubicBezTo>
                    <a:lnTo>
                      <a:pt x="11088" y="6"/>
                    </a:lnTo>
                    <a:cubicBezTo>
                      <a:pt x="11086" y="6"/>
                      <a:pt x="11086" y="6"/>
                      <a:pt x="11086" y="4"/>
                    </a:cubicBezTo>
                    <a:cubicBezTo>
                      <a:pt x="11086" y="3"/>
                      <a:pt x="11086" y="2"/>
                      <a:pt x="11088" y="2"/>
                    </a:cubicBezTo>
                    <a:close/>
                    <a:moveTo>
                      <a:pt x="11096" y="2"/>
                    </a:moveTo>
                    <a:lnTo>
                      <a:pt x="11096" y="2"/>
                    </a:lnTo>
                    <a:cubicBezTo>
                      <a:pt x="11097" y="2"/>
                      <a:pt x="11098" y="3"/>
                      <a:pt x="11098" y="4"/>
                    </a:cubicBezTo>
                    <a:cubicBezTo>
                      <a:pt x="11098" y="6"/>
                      <a:pt x="11097" y="6"/>
                      <a:pt x="11096" y="6"/>
                    </a:cubicBezTo>
                    <a:lnTo>
                      <a:pt x="11096" y="6"/>
                    </a:lnTo>
                    <a:cubicBezTo>
                      <a:pt x="11094" y="6"/>
                      <a:pt x="11094" y="6"/>
                      <a:pt x="11094" y="4"/>
                    </a:cubicBezTo>
                    <a:cubicBezTo>
                      <a:pt x="11094" y="3"/>
                      <a:pt x="11094" y="2"/>
                      <a:pt x="11096" y="2"/>
                    </a:cubicBezTo>
                    <a:close/>
                    <a:moveTo>
                      <a:pt x="11104" y="2"/>
                    </a:moveTo>
                    <a:lnTo>
                      <a:pt x="11104" y="2"/>
                    </a:lnTo>
                    <a:cubicBezTo>
                      <a:pt x="11105" y="2"/>
                      <a:pt x="11106" y="3"/>
                      <a:pt x="11106" y="4"/>
                    </a:cubicBezTo>
                    <a:cubicBezTo>
                      <a:pt x="11106" y="6"/>
                      <a:pt x="11105" y="6"/>
                      <a:pt x="11104" y="6"/>
                    </a:cubicBezTo>
                    <a:lnTo>
                      <a:pt x="11104" y="6"/>
                    </a:lnTo>
                    <a:cubicBezTo>
                      <a:pt x="11102" y="6"/>
                      <a:pt x="11102" y="6"/>
                      <a:pt x="11102" y="4"/>
                    </a:cubicBezTo>
                    <a:cubicBezTo>
                      <a:pt x="11102" y="3"/>
                      <a:pt x="11102" y="2"/>
                      <a:pt x="11104" y="2"/>
                    </a:cubicBezTo>
                    <a:close/>
                    <a:moveTo>
                      <a:pt x="11112" y="2"/>
                    </a:moveTo>
                    <a:lnTo>
                      <a:pt x="11112" y="2"/>
                    </a:lnTo>
                    <a:cubicBezTo>
                      <a:pt x="11113" y="2"/>
                      <a:pt x="11114" y="3"/>
                      <a:pt x="11114" y="4"/>
                    </a:cubicBezTo>
                    <a:cubicBezTo>
                      <a:pt x="11114" y="6"/>
                      <a:pt x="11113" y="6"/>
                      <a:pt x="11112" y="6"/>
                    </a:cubicBezTo>
                    <a:lnTo>
                      <a:pt x="11112" y="6"/>
                    </a:lnTo>
                    <a:cubicBezTo>
                      <a:pt x="11110" y="6"/>
                      <a:pt x="11110" y="6"/>
                      <a:pt x="11110" y="4"/>
                    </a:cubicBezTo>
                    <a:cubicBezTo>
                      <a:pt x="11110" y="3"/>
                      <a:pt x="11110" y="2"/>
                      <a:pt x="11112" y="2"/>
                    </a:cubicBezTo>
                    <a:close/>
                    <a:moveTo>
                      <a:pt x="11120" y="2"/>
                    </a:moveTo>
                    <a:lnTo>
                      <a:pt x="11120" y="2"/>
                    </a:lnTo>
                    <a:cubicBezTo>
                      <a:pt x="11121" y="2"/>
                      <a:pt x="11122" y="3"/>
                      <a:pt x="11122" y="4"/>
                    </a:cubicBezTo>
                    <a:cubicBezTo>
                      <a:pt x="11122" y="6"/>
                      <a:pt x="11121" y="6"/>
                      <a:pt x="11120" y="6"/>
                    </a:cubicBezTo>
                    <a:lnTo>
                      <a:pt x="11120" y="6"/>
                    </a:lnTo>
                    <a:cubicBezTo>
                      <a:pt x="11118" y="6"/>
                      <a:pt x="11118" y="6"/>
                      <a:pt x="11118" y="4"/>
                    </a:cubicBezTo>
                    <a:cubicBezTo>
                      <a:pt x="11118" y="3"/>
                      <a:pt x="11118" y="2"/>
                      <a:pt x="11120" y="2"/>
                    </a:cubicBezTo>
                    <a:close/>
                    <a:moveTo>
                      <a:pt x="11128" y="2"/>
                    </a:moveTo>
                    <a:lnTo>
                      <a:pt x="11128" y="2"/>
                    </a:lnTo>
                    <a:cubicBezTo>
                      <a:pt x="11129" y="2"/>
                      <a:pt x="11130" y="3"/>
                      <a:pt x="11130" y="4"/>
                    </a:cubicBezTo>
                    <a:cubicBezTo>
                      <a:pt x="11130" y="6"/>
                      <a:pt x="11129" y="6"/>
                      <a:pt x="11128" y="6"/>
                    </a:cubicBezTo>
                    <a:lnTo>
                      <a:pt x="11128" y="6"/>
                    </a:lnTo>
                    <a:cubicBezTo>
                      <a:pt x="11126" y="6"/>
                      <a:pt x="11126" y="6"/>
                      <a:pt x="11126" y="4"/>
                    </a:cubicBezTo>
                    <a:cubicBezTo>
                      <a:pt x="11126" y="3"/>
                      <a:pt x="11126" y="2"/>
                      <a:pt x="11128" y="2"/>
                    </a:cubicBezTo>
                    <a:close/>
                    <a:moveTo>
                      <a:pt x="11136" y="2"/>
                    </a:moveTo>
                    <a:lnTo>
                      <a:pt x="11136" y="2"/>
                    </a:lnTo>
                    <a:cubicBezTo>
                      <a:pt x="11137" y="2"/>
                      <a:pt x="11138" y="3"/>
                      <a:pt x="11138" y="5"/>
                    </a:cubicBezTo>
                    <a:cubicBezTo>
                      <a:pt x="11138" y="6"/>
                      <a:pt x="11137" y="7"/>
                      <a:pt x="11136" y="7"/>
                    </a:cubicBezTo>
                    <a:lnTo>
                      <a:pt x="11136" y="7"/>
                    </a:lnTo>
                    <a:cubicBezTo>
                      <a:pt x="11134" y="7"/>
                      <a:pt x="11134" y="6"/>
                      <a:pt x="11134" y="5"/>
                    </a:cubicBezTo>
                    <a:cubicBezTo>
                      <a:pt x="11134" y="3"/>
                      <a:pt x="11134" y="2"/>
                      <a:pt x="11136" y="2"/>
                    </a:cubicBezTo>
                    <a:close/>
                    <a:moveTo>
                      <a:pt x="11144" y="3"/>
                    </a:moveTo>
                    <a:lnTo>
                      <a:pt x="11144" y="3"/>
                    </a:lnTo>
                    <a:cubicBezTo>
                      <a:pt x="11145" y="3"/>
                      <a:pt x="11146" y="3"/>
                      <a:pt x="11146" y="5"/>
                    </a:cubicBezTo>
                    <a:cubicBezTo>
                      <a:pt x="11146" y="6"/>
                      <a:pt x="11145" y="7"/>
                      <a:pt x="11144" y="7"/>
                    </a:cubicBezTo>
                    <a:lnTo>
                      <a:pt x="11144" y="7"/>
                    </a:lnTo>
                    <a:cubicBezTo>
                      <a:pt x="11143" y="7"/>
                      <a:pt x="11142" y="6"/>
                      <a:pt x="11142" y="5"/>
                    </a:cubicBezTo>
                    <a:cubicBezTo>
                      <a:pt x="11142" y="3"/>
                      <a:pt x="11143" y="3"/>
                      <a:pt x="11144" y="3"/>
                    </a:cubicBezTo>
                    <a:close/>
                    <a:moveTo>
                      <a:pt x="11152" y="3"/>
                    </a:moveTo>
                    <a:lnTo>
                      <a:pt x="11152" y="3"/>
                    </a:lnTo>
                    <a:cubicBezTo>
                      <a:pt x="11153" y="3"/>
                      <a:pt x="11154" y="3"/>
                      <a:pt x="11154" y="5"/>
                    </a:cubicBezTo>
                    <a:cubicBezTo>
                      <a:pt x="11154" y="6"/>
                      <a:pt x="11153" y="7"/>
                      <a:pt x="11152" y="7"/>
                    </a:cubicBezTo>
                    <a:lnTo>
                      <a:pt x="11152" y="7"/>
                    </a:lnTo>
                    <a:cubicBezTo>
                      <a:pt x="11151" y="7"/>
                      <a:pt x="11150" y="6"/>
                      <a:pt x="11150" y="5"/>
                    </a:cubicBezTo>
                    <a:cubicBezTo>
                      <a:pt x="11150" y="3"/>
                      <a:pt x="11151" y="3"/>
                      <a:pt x="11152" y="3"/>
                    </a:cubicBezTo>
                    <a:close/>
                    <a:moveTo>
                      <a:pt x="11160" y="3"/>
                    </a:moveTo>
                    <a:lnTo>
                      <a:pt x="11160" y="3"/>
                    </a:lnTo>
                    <a:cubicBezTo>
                      <a:pt x="11161" y="3"/>
                      <a:pt x="11162" y="3"/>
                      <a:pt x="11162" y="5"/>
                    </a:cubicBezTo>
                    <a:cubicBezTo>
                      <a:pt x="11162" y="6"/>
                      <a:pt x="11161" y="7"/>
                      <a:pt x="11160" y="7"/>
                    </a:cubicBezTo>
                    <a:lnTo>
                      <a:pt x="11160" y="7"/>
                    </a:lnTo>
                    <a:cubicBezTo>
                      <a:pt x="11159" y="7"/>
                      <a:pt x="11158" y="6"/>
                      <a:pt x="11158" y="5"/>
                    </a:cubicBezTo>
                    <a:cubicBezTo>
                      <a:pt x="11158" y="3"/>
                      <a:pt x="11159" y="3"/>
                      <a:pt x="11160" y="3"/>
                    </a:cubicBezTo>
                    <a:close/>
                    <a:moveTo>
                      <a:pt x="11168" y="3"/>
                    </a:moveTo>
                    <a:lnTo>
                      <a:pt x="11168" y="3"/>
                    </a:lnTo>
                    <a:cubicBezTo>
                      <a:pt x="11169" y="3"/>
                      <a:pt x="11170" y="3"/>
                      <a:pt x="11170" y="5"/>
                    </a:cubicBezTo>
                    <a:cubicBezTo>
                      <a:pt x="11170" y="6"/>
                      <a:pt x="11169" y="7"/>
                      <a:pt x="11168" y="7"/>
                    </a:cubicBezTo>
                    <a:lnTo>
                      <a:pt x="11168" y="7"/>
                    </a:lnTo>
                    <a:cubicBezTo>
                      <a:pt x="11167" y="7"/>
                      <a:pt x="11166" y="6"/>
                      <a:pt x="11166" y="5"/>
                    </a:cubicBezTo>
                    <a:cubicBezTo>
                      <a:pt x="11166" y="3"/>
                      <a:pt x="11167" y="3"/>
                      <a:pt x="11168" y="3"/>
                    </a:cubicBezTo>
                    <a:close/>
                    <a:moveTo>
                      <a:pt x="11176" y="3"/>
                    </a:moveTo>
                    <a:lnTo>
                      <a:pt x="11176" y="3"/>
                    </a:lnTo>
                    <a:cubicBezTo>
                      <a:pt x="11177" y="3"/>
                      <a:pt x="11178" y="3"/>
                      <a:pt x="11178" y="5"/>
                    </a:cubicBezTo>
                    <a:cubicBezTo>
                      <a:pt x="11178" y="6"/>
                      <a:pt x="11177" y="7"/>
                      <a:pt x="11176" y="7"/>
                    </a:cubicBezTo>
                    <a:lnTo>
                      <a:pt x="11176" y="7"/>
                    </a:lnTo>
                    <a:cubicBezTo>
                      <a:pt x="11175" y="7"/>
                      <a:pt x="11174" y="6"/>
                      <a:pt x="11174" y="5"/>
                    </a:cubicBezTo>
                    <a:cubicBezTo>
                      <a:pt x="11174" y="3"/>
                      <a:pt x="11175" y="3"/>
                      <a:pt x="11176" y="3"/>
                    </a:cubicBezTo>
                    <a:close/>
                    <a:moveTo>
                      <a:pt x="11184" y="3"/>
                    </a:moveTo>
                    <a:lnTo>
                      <a:pt x="11184" y="3"/>
                    </a:lnTo>
                    <a:cubicBezTo>
                      <a:pt x="11185" y="3"/>
                      <a:pt x="11186" y="3"/>
                      <a:pt x="11186" y="5"/>
                    </a:cubicBezTo>
                    <a:cubicBezTo>
                      <a:pt x="11186" y="6"/>
                      <a:pt x="11185" y="7"/>
                      <a:pt x="11184" y="7"/>
                    </a:cubicBezTo>
                    <a:lnTo>
                      <a:pt x="11184" y="7"/>
                    </a:lnTo>
                    <a:cubicBezTo>
                      <a:pt x="11183" y="7"/>
                      <a:pt x="11182" y="6"/>
                      <a:pt x="11182" y="5"/>
                    </a:cubicBezTo>
                    <a:cubicBezTo>
                      <a:pt x="11182" y="3"/>
                      <a:pt x="11183" y="3"/>
                      <a:pt x="11184" y="3"/>
                    </a:cubicBezTo>
                    <a:close/>
                    <a:moveTo>
                      <a:pt x="11192" y="3"/>
                    </a:moveTo>
                    <a:lnTo>
                      <a:pt x="11192" y="3"/>
                    </a:lnTo>
                    <a:cubicBezTo>
                      <a:pt x="11193" y="3"/>
                      <a:pt x="11194" y="3"/>
                      <a:pt x="11194" y="5"/>
                    </a:cubicBezTo>
                    <a:cubicBezTo>
                      <a:pt x="11194" y="6"/>
                      <a:pt x="11193" y="7"/>
                      <a:pt x="11192" y="7"/>
                    </a:cubicBezTo>
                    <a:lnTo>
                      <a:pt x="11192" y="7"/>
                    </a:lnTo>
                    <a:cubicBezTo>
                      <a:pt x="11191" y="7"/>
                      <a:pt x="11190" y="6"/>
                      <a:pt x="11190" y="5"/>
                    </a:cubicBezTo>
                    <a:cubicBezTo>
                      <a:pt x="11190" y="3"/>
                      <a:pt x="11191" y="3"/>
                      <a:pt x="11192" y="3"/>
                    </a:cubicBezTo>
                    <a:close/>
                    <a:moveTo>
                      <a:pt x="11200" y="3"/>
                    </a:moveTo>
                    <a:lnTo>
                      <a:pt x="11200" y="3"/>
                    </a:lnTo>
                    <a:cubicBezTo>
                      <a:pt x="11201" y="3"/>
                      <a:pt x="11202" y="3"/>
                      <a:pt x="11202" y="5"/>
                    </a:cubicBezTo>
                    <a:cubicBezTo>
                      <a:pt x="11202" y="6"/>
                      <a:pt x="11201" y="7"/>
                      <a:pt x="11200" y="7"/>
                    </a:cubicBezTo>
                    <a:lnTo>
                      <a:pt x="11200" y="7"/>
                    </a:lnTo>
                    <a:cubicBezTo>
                      <a:pt x="11199" y="7"/>
                      <a:pt x="11198" y="6"/>
                      <a:pt x="11198" y="5"/>
                    </a:cubicBezTo>
                    <a:cubicBezTo>
                      <a:pt x="11198" y="3"/>
                      <a:pt x="11199" y="3"/>
                      <a:pt x="11200" y="3"/>
                    </a:cubicBezTo>
                    <a:close/>
                    <a:moveTo>
                      <a:pt x="11208" y="3"/>
                    </a:moveTo>
                    <a:lnTo>
                      <a:pt x="11208" y="3"/>
                    </a:lnTo>
                    <a:cubicBezTo>
                      <a:pt x="11209" y="3"/>
                      <a:pt x="11210" y="3"/>
                      <a:pt x="11210" y="5"/>
                    </a:cubicBezTo>
                    <a:cubicBezTo>
                      <a:pt x="11210" y="6"/>
                      <a:pt x="11209" y="7"/>
                      <a:pt x="11208" y="7"/>
                    </a:cubicBezTo>
                    <a:lnTo>
                      <a:pt x="11208" y="7"/>
                    </a:lnTo>
                    <a:cubicBezTo>
                      <a:pt x="11207" y="7"/>
                      <a:pt x="11206" y="6"/>
                      <a:pt x="11206" y="5"/>
                    </a:cubicBezTo>
                    <a:cubicBezTo>
                      <a:pt x="11206" y="3"/>
                      <a:pt x="11207" y="3"/>
                      <a:pt x="11208" y="3"/>
                    </a:cubicBezTo>
                    <a:close/>
                    <a:moveTo>
                      <a:pt x="11216" y="3"/>
                    </a:moveTo>
                    <a:lnTo>
                      <a:pt x="11216" y="3"/>
                    </a:lnTo>
                    <a:cubicBezTo>
                      <a:pt x="11217" y="3"/>
                      <a:pt x="11218" y="3"/>
                      <a:pt x="11218" y="5"/>
                    </a:cubicBezTo>
                    <a:cubicBezTo>
                      <a:pt x="11218" y="6"/>
                      <a:pt x="11217" y="7"/>
                      <a:pt x="11216" y="7"/>
                    </a:cubicBezTo>
                    <a:lnTo>
                      <a:pt x="11216" y="7"/>
                    </a:lnTo>
                    <a:cubicBezTo>
                      <a:pt x="11215" y="7"/>
                      <a:pt x="11214" y="6"/>
                      <a:pt x="11214" y="5"/>
                    </a:cubicBezTo>
                    <a:cubicBezTo>
                      <a:pt x="11214" y="3"/>
                      <a:pt x="11215" y="3"/>
                      <a:pt x="11216" y="3"/>
                    </a:cubicBezTo>
                    <a:close/>
                    <a:moveTo>
                      <a:pt x="11224" y="3"/>
                    </a:moveTo>
                    <a:lnTo>
                      <a:pt x="11224" y="3"/>
                    </a:lnTo>
                    <a:cubicBezTo>
                      <a:pt x="11225" y="3"/>
                      <a:pt x="11226" y="3"/>
                      <a:pt x="11226" y="5"/>
                    </a:cubicBezTo>
                    <a:cubicBezTo>
                      <a:pt x="11226" y="6"/>
                      <a:pt x="11225" y="7"/>
                      <a:pt x="11224" y="7"/>
                    </a:cubicBezTo>
                    <a:lnTo>
                      <a:pt x="11224" y="7"/>
                    </a:lnTo>
                    <a:cubicBezTo>
                      <a:pt x="11223" y="7"/>
                      <a:pt x="11222" y="6"/>
                      <a:pt x="11222" y="5"/>
                    </a:cubicBezTo>
                    <a:cubicBezTo>
                      <a:pt x="11222" y="3"/>
                      <a:pt x="11223" y="3"/>
                      <a:pt x="11224" y="3"/>
                    </a:cubicBezTo>
                    <a:close/>
                    <a:moveTo>
                      <a:pt x="11232" y="3"/>
                    </a:moveTo>
                    <a:lnTo>
                      <a:pt x="11232" y="3"/>
                    </a:lnTo>
                    <a:cubicBezTo>
                      <a:pt x="11233" y="3"/>
                      <a:pt x="11234" y="3"/>
                      <a:pt x="11234" y="5"/>
                    </a:cubicBezTo>
                    <a:cubicBezTo>
                      <a:pt x="11234" y="6"/>
                      <a:pt x="11233" y="7"/>
                      <a:pt x="11232" y="7"/>
                    </a:cubicBezTo>
                    <a:lnTo>
                      <a:pt x="11232" y="7"/>
                    </a:lnTo>
                    <a:cubicBezTo>
                      <a:pt x="11231" y="7"/>
                      <a:pt x="11230" y="6"/>
                      <a:pt x="11230" y="5"/>
                    </a:cubicBezTo>
                    <a:cubicBezTo>
                      <a:pt x="11230" y="3"/>
                      <a:pt x="11231" y="3"/>
                      <a:pt x="11232" y="3"/>
                    </a:cubicBezTo>
                    <a:close/>
                    <a:moveTo>
                      <a:pt x="11240" y="3"/>
                    </a:moveTo>
                    <a:lnTo>
                      <a:pt x="11240" y="3"/>
                    </a:lnTo>
                    <a:cubicBezTo>
                      <a:pt x="11241" y="3"/>
                      <a:pt x="11242" y="3"/>
                      <a:pt x="11242" y="5"/>
                    </a:cubicBezTo>
                    <a:cubicBezTo>
                      <a:pt x="11242" y="6"/>
                      <a:pt x="11241" y="7"/>
                      <a:pt x="11240" y="7"/>
                    </a:cubicBezTo>
                    <a:lnTo>
                      <a:pt x="11240" y="7"/>
                    </a:lnTo>
                    <a:cubicBezTo>
                      <a:pt x="11239" y="7"/>
                      <a:pt x="11238" y="6"/>
                      <a:pt x="11238" y="5"/>
                    </a:cubicBezTo>
                    <a:cubicBezTo>
                      <a:pt x="11238" y="3"/>
                      <a:pt x="11239" y="3"/>
                      <a:pt x="11240" y="3"/>
                    </a:cubicBezTo>
                    <a:close/>
                    <a:moveTo>
                      <a:pt x="11248" y="3"/>
                    </a:moveTo>
                    <a:lnTo>
                      <a:pt x="11248" y="3"/>
                    </a:lnTo>
                    <a:cubicBezTo>
                      <a:pt x="11249" y="3"/>
                      <a:pt x="11250" y="3"/>
                      <a:pt x="11250" y="5"/>
                    </a:cubicBezTo>
                    <a:cubicBezTo>
                      <a:pt x="11250" y="6"/>
                      <a:pt x="11249" y="7"/>
                      <a:pt x="11248" y="7"/>
                    </a:cubicBezTo>
                    <a:lnTo>
                      <a:pt x="11248" y="7"/>
                    </a:lnTo>
                    <a:cubicBezTo>
                      <a:pt x="11247" y="7"/>
                      <a:pt x="11246" y="6"/>
                      <a:pt x="11246" y="5"/>
                    </a:cubicBezTo>
                    <a:cubicBezTo>
                      <a:pt x="11246" y="3"/>
                      <a:pt x="11247" y="3"/>
                      <a:pt x="11248" y="3"/>
                    </a:cubicBezTo>
                    <a:close/>
                    <a:moveTo>
                      <a:pt x="11256" y="3"/>
                    </a:moveTo>
                    <a:lnTo>
                      <a:pt x="11256" y="3"/>
                    </a:lnTo>
                    <a:cubicBezTo>
                      <a:pt x="11257" y="3"/>
                      <a:pt x="11258" y="3"/>
                      <a:pt x="11258" y="5"/>
                    </a:cubicBezTo>
                    <a:cubicBezTo>
                      <a:pt x="11258" y="6"/>
                      <a:pt x="11257" y="7"/>
                      <a:pt x="11256" y="7"/>
                    </a:cubicBezTo>
                    <a:lnTo>
                      <a:pt x="11256" y="7"/>
                    </a:lnTo>
                    <a:cubicBezTo>
                      <a:pt x="11255" y="7"/>
                      <a:pt x="11254" y="6"/>
                      <a:pt x="11254" y="5"/>
                    </a:cubicBezTo>
                    <a:cubicBezTo>
                      <a:pt x="11254" y="3"/>
                      <a:pt x="11255" y="3"/>
                      <a:pt x="11256" y="3"/>
                    </a:cubicBezTo>
                    <a:close/>
                    <a:moveTo>
                      <a:pt x="11264" y="3"/>
                    </a:moveTo>
                    <a:lnTo>
                      <a:pt x="11264" y="3"/>
                    </a:lnTo>
                    <a:cubicBezTo>
                      <a:pt x="11265" y="3"/>
                      <a:pt x="11266" y="3"/>
                      <a:pt x="11266" y="5"/>
                    </a:cubicBezTo>
                    <a:cubicBezTo>
                      <a:pt x="11266" y="6"/>
                      <a:pt x="11265" y="7"/>
                      <a:pt x="11264" y="7"/>
                    </a:cubicBezTo>
                    <a:lnTo>
                      <a:pt x="11264" y="7"/>
                    </a:lnTo>
                    <a:cubicBezTo>
                      <a:pt x="11263" y="7"/>
                      <a:pt x="11262" y="6"/>
                      <a:pt x="11262" y="5"/>
                    </a:cubicBezTo>
                    <a:cubicBezTo>
                      <a:pt x="11262" y="3"/>
                      <a:pt x="11263" y="3"/>
                      <a:pt x="11264" y="3"/>
                    </a:cubicBezTo>
                    <a:close/>
                    <a:moveTo>
                      <a:pt x="11272" y="3"/>
                    </a:moveTo>
                    <a:lnTo>
                      <a:pt x="11272" y="3"/>
                    </a:lnTo>
                    <a:cubicBezTo>
                      <a:pt x="11273" y="3"/>
                      <a:pt x="11274" y="3"/>
                      <a:pt x="11274" y="5"/>
                    </a:cubicBezTo>
                    <a:cubicBezTo>
                      <a:pt x="11274" y="6"/>
                      <a:pt x="11273" y="7"/>
                      <a:pt x="11272" y="7"/>
                    </a:cubicBezTo>
                    <a:lnTo>
                      <a:pt x="11272" y="7"/>
                    </a:lnTo>
                    <a:cubicBezTo>
                      <a:pt x="11271" y="7"/>
                      <a:pt x="11270" y="6"/>
                      <a:pt x="11270" y="5"/>
                    </a:cubicBezTo>
                    <a:cubicBezTo>
                      <a:pt x="11270" y="3"/>
                      <a:pt x="11271" y="3"/>
                      <a:pt x="11272" y="3"/>
                    </a:cubicBezTo>
                    <a:close/>
                    <a:moveTo>
                      <a:pt x="11280" y="3"/>
                    </a:moveTo>
                    <a:lnTo>
                      <a:pt x="11280" y="3"/>
                    </a:lnTo>
                    <a:cubicBezTo>
                      <a:pt x="11281" y="3"/>
                      <a:pt x="11282" y="3"/>
                      <a:pt x="11282" y="5"/>
                    </a:cubicBezTo>
                    <a:cubicBezTo>
                      <a:pt x="11282" y="6"/>
                      <a:pt x="11281" y="7"/>
                      <a:pt x="11280" y="7"/>
                    </a:cubicBezTo>
                    <a:lnTo>
                      <a:pt x="11280" y="7"/>
                    </a:lnTo>
                    <a:cubicBezTo>
                      <a:pt x="11279" y="7"/>
                      <a:pt x="11278" y="6"/>
                      <a:pt x="11278" y="5"/>
                    </a:cubicBezTo>
                    <a:cubicBezTo>
                      <a:pt x="11278" y="3"/>
                      <a:pt x="11279" y="3"/>
                      <a:pt x="11280" y="3"/>
                    </a:cubicBezTo>
                    <a:close/>
                    <a:moveTo>
                      <a:pt x="11288" y="3"/>
                    </a:moveTo>
                    <a:lnTo>
                      <a:pt x="11288" y="3"/>
                    </a:lnTo>
                    <a:cubicBezTo>
                      <a:pt x="11289" y="3"/>
                      <a:pt x="11290" y="3"/>
                      <a:pt x="11290" y="5"/>
                    </a:cubicBezTo>
                    <a:cubicBezTo>
                      <a:pt x="11290" y="6"/>
                      <a:pt x="11289" y="7"/>
                      <a:pt x="11288" y="7"/>
                    </a:cubicBezTo>
                    <a:lnTo>
                      <a:pt x="11288" y="7"/>
                    </a:lnTo>
                    <a:cubicBezTo>
                      <a:pt x="11287" y="7"/>
                      <a:pt x="11286" y="6"/>
                      <a:pt x="11286" y="5"/>
                    </a:cubicBezTo>
                    <a:cubicBezTo>
                      <a:pt x="11286" y="3"/>
                      <a:pt x="11287" y="3"/>
                      <a:pt x="11288" y="3"/>
                    </a:cubicBezTo>
                    <a:close/>
                    <a:moveTo>
                      <a:pt x="11296" y="3"/>
                    </a:moveTo>
                    <a:lnTo>
                      <a:pt x="11296" y="3"/>
                    </a:lnTo>
                    <a:cubicBezTo>
                      <a:pt x="11297" y="3"/>
                      <a:pt x="11298" y="3"/>
                      <a:pt x="11298" y="5"/>
                    </a:cubicBezTo>
                    <a:cubicBezTo>
                      <a:pt x="11298" y="6"/>
                      <a:pt x="11297" y="7"/>
                      <a:pt x="11296" y="7"/>
                    </a:cubicBezTo>
                    <a:lnTo>
                      <a:pt x="11296" y="7"/>
                    </a:lnTo>
                    <a:cubicBezTo>
                      <a:pt x="11295" y="7"/>
                      <a:pt x="11294" y="6"/>
                      <a:pt x="11294" y="5"/>
                    </a:cubicBezTo>
                    <a:cubicBezTo>
                      <a:pt x="11294" y="3"/>
                      <a:pt x="11295" y="3"/>
                      <a:pt x="11296" y="3"/>
                    </a:cubicBezTo>
                    <a:close/>
                    <a:moveTo>
                      <a:pt x="11304" y="3"/>
                    </a:moveTo>
                    <a:lnTo>
                      <a:pt x="11304" y="3"/>
                    </a:lnTo>
                    <a:cubicBezTo>
                      <a:pt x="11305" y="3"/>
                      <a:pt x="11306" y="3"/>
                      <a:pt x="11306" y="5"/>
                    </a:cubicBezTo>
                    <a:cubicBezTo>
                      <a:pt x="11306" y="6"/>
                      <a:pt x="11305" y="7"/>
                      <a:pt x="11304" y="7"/>
                    </a:cubicBezTo>
                    <a:lnTo>
                      <a:pt x="11304" y="7"/>
                    </a:lnTo>
                    <a:cubicBezTo>
                      <a:pt x="11303" y="7"/>
                      <a:pt x="11302" y="6"/>
                      <a:pt x="11302" y="5"/>
                    </a:cubicBezTo>
                    <a:cubicBezTo>
                      <a:pt x="11302" y="3"/>
                      <a:pt x="11303" y="3"/>
                      <a:pt x="11304" y="3"/>
                    </a:cubicBezTo>
                    <a:close/>
                    <a:moveTo>
                      <a:pt x="11312" y="3"/>
                    </a:moveTo>
                    <a:lnTo>
                      <a:pt x="11312" y="3"/>
                    </a:lnTo>
                    <a:cubicBezTo>
                      <a:pt x="11313" y="3"/>
                      <a:pt x="11314" y="3"/>
                      <a:pt x="11314" y="5"/>
                    </a:cubicBezTo>
                    <a:cubicBezTo>
                      <a:pt x="11314" y="6"/>
                      <a:pt x="11313" y="7"/>
                      <a:pt x="11312" y="7"/>
                    </a:cubicBezTo>
                    <a:lnTo>
                      <a:pt x="11312" y="7"/>
                    </a:lnTo>
                    <a:cubicBezTo>
                      <a:pt x="11311" y="7"/>
                      <a:pt x="11310" y="6"/>
                      <a:pt x="11310" y="5"/>
                    </a:cubicBezTo>
                    <a:cubicBezTo>
                      <a:pt x="11310" y="3"/>
                      <a:pt x="11311" y="3"/>
                      <a:pt x="11312" y="3"/>
                    </a:cubicBezTo>
                    <a:close/>
                    <a:moveTo>
                      <a:pt x="11320" y="3"/>
                    </a:moveTo>
                    <a:lnTo>
                      <a:pt x="11320" y="3"/>
                    </a:lnTo>
                    <a:cubicBezTo>
                      <a:pt x="11321" y="3"/>
                      <a:pt x="11322" y="3"/>
                      <a:pt x="11322" y="5"/>
                    </a:cubicBezTo>
                    <a:cubicBezTo>
                      <a:pt x="11322" y="6"/>
                      <a:pt x="11321" y="7"/>
                      <a:pt x="11320" y="7"/>
                    </a:cubicBezTo>
                    <a:lnTo>
                      <a:pt x="11320" y="7"/>
                    </a:lnTo>
                    <a:cubicBezTo>
                      <a:pt x="11319" y="7"/>
                      <a:pt x="11318" y="6"/>
                      <a:pt x="11318" y="5"/>
                    </a:cubicBezTo>
                    <a:cubicBezTo>
                      <a:pt x="11318" y="3"/>
                      <a:pt x="11319" y="3"/>
                      <a:pt x="11320" y="3"/>
                    </a:cubicBezTo>
                    <a:close/>
                    <a:moveTo>
                      <a:pt x="11328" y="3"/>
                    </a:moveTo>
                    <a:lnTo>
                      <a:pt x="11328" y="3"/>
                    </a:lnTo>
                    <a:cubicBezTo>
                      <a:pt x="11329" y="3"/>
                      <a:pt x="11330" y="3"/>
                      <a:pt x="11330" y="5"/>
                    </a:cubicBezTo>
                    <a:cubicBezTo>
                      <a:pt x="11330" y="6"/>
                      <a:pt x="11329" y="7"/>
                      <a:pt x="11328" y="7"/>
                    </a:cubicBezTo>
                    <a:lnTo>
                      <a:pt x="11328" y="7"/>
                    </a:lnTo>
                    <a:cubicBezTo>
                      <a:pt x="11327" y="7"/>
                      <a:pt x="11326" y="6"/>
                      <a:pt x="11326" y="5"/>
                    </a:cubicBezTo>
                    <a:cubicBezTo>
                      <a:pt x="11326" y="3"/>
                      <a:pt x="11327" y="3"/>
                      <a:pt x="11328" y="3"/>
                    </a:cubicBezTo>
                    <a:close/>
                    <a:moveTo>
                      <a:pt x="11336" y="3"/>
                    </a:moveTo>
                    <a:lnTo>
                      <a:pt x="11336" y="3"/>
                    </a:lnTo>
                    <a:cubicBezTo>
                      <a:pt x="11337" y="3"/>
                      <a:pt x="11338" y="3"/>
                      <a:pt x="11338" y="5"/>
                    </a:cubicBezTo>
                    <a:cubicBezTo>
                      <a:pt x="11338" y="6"/>
                      <a:pt x="11337" y="7"/>
                      <a:pt x="11336" y="7"/>
                    </a:cubicBezTo>
                    <a:lnTo>
                      <a:pt x="11336" y="7"/>
                    </a:lnTo>
                    <a:cubicBezTo>
                      <a:pt x="11335" y="7"/>
                      <a:pt x="11334" y="6"/>
                      <a:pt x="11334" y="5"/>
                    </a:cubicBezTo>
                    <a:cubicBezTo>
                      <a:pt x="11334" y="3"/>
                      <a:pt x="11335" y="3"/>
                      <a:pt x="11336" y="3"/>
                    </a:cubicBezTo>
                    <a:close/>
                    <a:moveTo>
                      <a:pt x="11344" y="3"/>
                    </a:moveTo>
                    <a:lnTo>
                      <a:pt x="11344" y="3"/>
                    </a:lnTo>
                    <a:cubicBezTo>
                      <a:pt x="11345" y="3"/>
                      <a:pt x="11346" y="3"/>
                      <a:pt x="11346" y="5"/>
                    </a:cubicBezTo>
                    <a:cubicBezTo>
                      <a:pt x="11346" y="6"/>
                      <a:pt x="11345" y="7"/>
                      <a:pt x="11344" y="7"/>
                    </a:cubicBezTo>
                    <a:lnTo>
                      <a:pt x="11344" y="7"/>
                    </a:lnTo>
                    <a:cubicBezTo>
                      <a:pt x="11343" y="7"/>
                      <a:pt x="11342" y="6"/>
                      <a:pt x="11342" y="5"/>
                    </a:cubicBezTo>
                    <a:cubicBezTo>
                      <a:pt x="11342" y="3"/>
                      <a:pt x="11343" y="3"/>
                      <a:pt x="11344" y="3"/>
                    </a:cubicBezTo>
                    <a:close/>
                    <a:moveTo>
                      <a:pt x="11352" y="3"/>
                    </a:moveTo>
                    <a:lnTo>
                      <a:pt x="11352" y="3"/>
                    </a:lnTo>
                    <a:cubicBezTo>
                      <a:pt x="11353" y="3"/>
                      <a:pt x="11354" y="3"/>
                      <a:pt x="11354" y="5"/>
                    </a:cubicBezTo>
                    <a:cubicBezTo>
                      <a:pt x="11354" y="6"/>
                      <a:pt x="11353" y="7"/>
                      <a:pt x="11352" y="7"/>
                    </a:cubicBezTo>
                    <a:lnTo>
                      <a:pt x="11352" y="7"/>
                    </a:lnTo>
                    <a:cubicBezTo>
                      <a:pt x="11351" y="7"/>
                      <a:pt x="11350" y="6"/>
                      <a:pt x="11350" y="5"/>
                    </a:cubicBezTo>
                    <a:cubicBezTo>
                      <a:pt x="11350" y="3"/>
                      <a:pt x="11351" y="3"/>
                      <a:pt x="11352" y="3"/>
                    </a:cubicBezTo>
                    <a:close/>
                    <a:moveTo>
                      <a:pt x="11360" y="3"/>
                    </a:moveTo>
                    <a:lnTo>
                      <a:pt x="11360" y="3"/>
                    </a:lnTo>
                    <a:cubicBezTo>
                      <a:pt x="11361" y="3"/>
                      <a:pt x="11362" y="3"/>
                      <a:pt x="11362" y="5"/>
                    </a:cubicBezTo>
                    <a:cubicBezTo>
                      <a:pt x="11362" y="6"/>
                      <a:pt x="11361" y="7"/>
                      <a:pt x="11360" y="7"/>
                    </a:cubicBezTo>
                    <a:lnTo>
                      <a:pt x="11360" y="7"/>
                    </a:lnTo>
                    <a:cubicBezTo>
                      <a:pt x="11359" y="7"/>
                      <a:pt x="11358" y="6"/>
                      <a:pt x="11358" y="5"/>
                    </a:cubicBezTo>
                    <a:cubicBezTo>
                      <a:pt x="11358" y="3"/>
                      <a:pt x="11359" y="3"/>
                      <a:pt x="11360" y="3"/>
                    </a:cubicBezTo>
                    <a:close/>
                    <a:moveTo>
                      <a:pt x="11368" y="3"/>
                    </a:moveTo>
                    <a:lnTo>
                      <a:pt x="11368" y="3"/>
                    </a:lnTo>
                    <a:cubicBezTo>
                      <a:pt x="11369" y="3"/>
                      <a:pt x="11370" y="3"/>
                      <a:pt x="11370" y="5"/>
                    </a:cubicBezTo>
                    <a:cubicBezTo>
                      <a:pt x="11370" y="6"/>
                      <a:pt x="11369" y="7"/>
                      <a:pt x="11368" y="7"/>
                    </a:cubicBezTo>
                    <a:lnTo>
                      <a:pt x="11368" y="7"/>
                    </a:lnTo>
                    <a:cubicBezTo>
                      <a:pt x="11367" y="7"/>
                      <a:pt x="11366" y="6"/>
                      <a:pt x="11366" y="5"/>
                    </a:cubicBezTo>
                    <a:cubicBezTo>
                      <a:pt x="11366" y="3"/>
                      <a:pt x="11367" y="3"/>
                      <a:pt x="11368" y="3"/>
                    </a:cubicBezTo>
                    <a:close/>
                    <a:moveTo>
                      <a:pt x="11376" y="3"/>
                    </a:moveTo>
                    <a:lnTo>
                      <a:pt x="11376" y="3"/>
                    </a:lnTo>
                    <a:cubicBezTo>
                      <a:pt x="11377" y="3"/>
                      <a:pt x="11378" y="3"/>
                      <a:pt x="11378" y="5"/>
                    </a:cubicBezTo>
                    <a:cubicBezTo>
                      <a:pt x="11378" y="6"/>
                      <a:pt x="11377" y="7"/>
                      <a:pt x="11376" y="7"/>
                    </a:cubicBezTo>
                    <a:lnTo>
                      <a:pt x="11376" y="7"/>
                    </a:lnTo>
                    <a:cubicBezTo>
                      <a:pt x="11375" y="7"/>
                      <a:pt x="11374" y="6"/>
                      <a:pt x="11374" y="5"/>
                    </a:cubicBezTo>
                    <a:cubicBezTo>
                      <a:pt x="11374" y="3"/>
                      <a:pt x="11375" y="3"/>
                      <a:pt x="11376" y="3"/>
                    </a:cubicBezTo>
                    <a:close/>
                    <a:moveTo>
                      <a:pt x="11384" y="3"/>
                    </a:moveTo>
                    <a:lnTo>
                      <a:pt x="11384" y="3"/>
                    </a:lnTo>
                    <a:cubicBezTo>
                      <a:pt x="11385" y="3"/>
                      <a:pt x="11386" y="3"/>
                      <a:pt x="11386" y="5"/>
                    </a:cubicBezTo>
                    <a:cubicBezTo>
                      <a:pt x="11386" y="6"/>
                      <a:pt x="11385" y="7"/>
                      <a:pt x="11384" y="7"/>
                    </a:cubicBezTo>
                    <a:lnTo>
                      <a:pt x="11384" y="7"/>
                    </a:lnTo>
                    <a:cubicBezTo>
                      <a:pt x="11383" y="7"/>
                      <a:pt x="11382" y="6"/>
                      <a:pt x="11382" y="5"/>
                    </a:cubicBezTo>
                    <a:cubicBezTo>
                      <a:pt x="11382" y="3"/>
                      <a:pt x="11383" y="3"/>
                      <a:pt x="11384" y="3"/>
                    </a:cubicBezTo>
                    <a:close/>
                    <a:moveTo>
                      <a:pt x="11392" y="3"/>
                    </a:moveTo>
                    <a:lnTo>
                      <a:pt x="11392" y="3"/>
                    </a:lnTo>
                    <a:cubicBezTo>
                      <a:pt x="11393" y="3"/>
                      <a:pt x="11394" y="3"/>
                      <a:pt x="11394" y="5"/>
                    </a:cubicBezTo>
                    <a:cubicBezTo>
                      <a:pt x="11394" y="6"/>
                      <a:pt x="11393" y="7"/>
                      <a:pt x="11392" y="7"/>
                    </a:cubicBezTo>
                    <a:lnTo>
                      <a:pt x="11392" y="7"/>
                    </a:lnTo>
                    <a:cubicBezTo>
                      <a:pt x="11391" y="7"/>
                      <a:pt x="11390" y="6"/>
                      <a:pt x="11390" y="5"/>
                    </a:cubicBezTo>
                    <a:cubicBezTo>
                      <a:pt x="11390" y="3"/>
                      <a:pt x="11391" y="3"/>
                      <a:pt x="11392" y="3"/>
                    </a:cubicBezTo>
                    <a:close/>
                    <a:moveTo>
                      <a:pt x="11400" y="3"/>
                    </a:moveTo>
                    <a:lnTo>
                      <a:pt x="11400" y="3"/>
                    </a:lnTo>
                    <a:cubicBezTo>
                      <a:pt x="11401" y="3"/>
                      <a:pt x="11402" y="3"/>
                      <a:pt x="11402" y="5"/>
                    </a:cubicBezTo>
                    <a:cubicBezTo>
                      <a:pt x="11402" y="6"/>
                      <a:pt x="11401" y="7"/>
                      <a:pt x="11400" y="7"/>
                    </a:cubicBezTo>
                    <a:lnTo>
                      <a:pt x="11400" y="7"/>
                    </a:lnTo>
                    <a:cubicBezTo>
                      <a:pt x="11399" y="7"/>
                      <a:pt x="11398" y="6"/>
                      <a:pt x="11398" y="5"/>
                    </a:cubicBezTo>
                    <a:cubicBezTo>
                      <a:pt x="11398" y="3"/>
                      <a:pt x="11399" y="3"/>
                      <a:pt x="11400" y="3"/>
                    </a:cubicBezTo>
                    <a:close/>
                    <a:moveTo>
                      <a:pt x="11408" y="3"/>
                    </a:moveTo>
                    <a:lnTo>
                      <a:pt x="11408" y="3"/>
                    </a:lnTo>
                    <a:cubicBezTo>
                      <a:pt x="11409" y="3"/>
                      <a:pt x="11410" y="3"/>
                      <a:pt x="11410" y="5"/>
                    </a:cubicBezTo>
                    <a:cubicBezTo>
                      <a:pt x="11410" y="6"/>
                      <a:pt x="11409" y="7"/>
                      <a:pt x="11408" y="7"/>
                    </a:cubicBezTo>
                    <a:lnTo>
                      <a:pt x="11408" y="7"/>
                    </a:lnTo>
                    <a:cubicBezTo>
                      <a:pt x="11407" y="7"/>
                      <a:pt x="11406" y="6"/>
                      <a:pt x="11406" y="5"/>
                    </a:cubicBezTo>
                    <a:cubicBezTo>
                      <a:pt x="11406" y="3"/>
                      <a:pt x="11407" y="3"/>
                      <a:pt x="11408" y="3"/>
                    </a:cubicBezTo>
                    <a:close/>
                    <a:moveTo>
                      <a:pt x="11416" y="3"/>
                    </a:moveTo>
                    <a:lnTo>
                      <a:pt x="11416" y="3"/>
                    </a:lnTo>
                    <a:cubicBezTo>
                      <a:pt x="11417" y="3"/>
                      <a:pt x="11418" y="3"/>
                      <a:pt x="11418" y="5"/>
                    </a:cubicBezTo>
                    <a:cubicBezTo>
                      <a:pt x="11418" y="6"/>
                      <a:pt x="11417" y="7"/>
                      <a:pt x="11416" y="7"/>
                    </a:cubicBezTo>
                    <a:lnTo>
                      <a:pt x="11416" y="7"/>
                    </a:lnTo>
                    <a:cubicBezTo>
                      <a:pt x="11415" y="7"/>
                      <a:pt x="11414" y="6"/>
                      <a:pt x="11414" y="5"/>
                    </a:cubicBezTo>
                    <a:cubicBezTo>
                      <a:pt x="11414" y="3"/>
                      <a:pt x="11415" y="3"/>
                      <a:pt x="11416" y="3"/>
                    </a:cubicBezTo>
                    <a:close/>
                    <a:moveTo>
                      <a:pt x="11424" y="3"/>
                    </a:moveTo>
                    <a:lnTo>
                      <a:pt x="11424" y="3"/>
                    </a:lnTo>
                    <a:cubicBezTo>
                      <a:pt x="11425" y="3"/>
                      <a:pt x="11426" y="3"/>
                      <a:pt x="11426" y="5"/>
                    </a:cubicBezTo>
                    <a:cubicBezTo>
                      <a:pt x="11426" y="6"/>
                      <a:pt x="11425" y="7"/>
                      <a:pt x="11424" y="7"/>
                    </a:cubicBezTo>
                    <a:lnTo>
                      <a:pt x="11424" y="7"/>
                    </a:lnTo>
                    <a:cubicBezTo>
                      <a:pt x="11423" y="7"/>
                      <a:pt x="11422" y="6"/>
                      <a:pt x="11422" y="5"/>
                    </a:cubicBezTo>
                    <a:cubicBezTo>
                      <a:pt x="11422" y="3"/>
                      <a:pt x="11423" y="3"/>
                      <a:pt x="11424" y="3"/>
                    </a:cubicBezTo>
                    <a:close/>
                    <a:moveTo>
                      <a:pt x="11432" y="3"/>
                    </a:moveTo>
                    <a:lnTo>
                      <a:pt x="11432" y="3"/>
                    </a:lnTo>
                    <a:cubicBezTo>
                      <a:pt x="11433" y="3"/>
                      <a:pt x="11434" y="3"/>
                      <a:pt x="11434" y="5"/>
                    </a:cubicBezTo>
                    <a:cubicBezTo>
                      <a:pt x="11434" y="6"/>
                      <a:pt x="11433" y="7"/>
                      <a:pt x="11432" y="7"/>
                    </a:cubicBezTo>
                    <a:lnTo>
                      <a:pt x="11432" y="7"/>
                    </a:lnTo>
                    <a:cubicBezTo>
                      <a:pt x="11431" y="7"/>
                      <a:pt x="11430" y="6"/>
                      <a:pt x="11430" y="5"/>
                    </a:cubicBezTo>
                    <a:cubicBezTo>
                      <a:pt x="11430" y="3"/>
                      <a:pt x="11431" y="3"/>
                      <a:pt x="11432" y="3"/>
                    </a:cubicBezTo>
                    <a:close/>
                    <a:moveTo>
                      <a:pt x="11440" y="3"/>
                    </a:moveTo>
                    <a:lnTo>
                      <a:pt x="11440" y="3"/>
                    </a:lnTo>
                    <a:cubicBezTo>
                      <a:pt x="11441" y="3"/>
                      <a:pt x="11442" y="3"/>
                      <a:pt x="11442" y="5"/>
                    </a:cubicBezTo>
                    <a:cubicBezTo>
                      <a:pt x="11442" y="6"/>
                      <a:pt x="11441" y="7"/>
                      <a:pt x="11440" y="7"/>
                    </a:cubicBezTo>
                    <a:lnTo>
                      <a:pt x="11440" y="7"/>
                    </a:lnTo>
                    <a:cubicBezTo>
                      <a:pt x="11439" y="7"/>
                      <a:pt x="11438" y="6"/>
                      <a:pt x="11438" y="5"/>
                    </a:cubicBezTo>
                    <a:cubicBezTo>
                      <a:pt x="11438" y="3"/>
                      <a:pt x="11439" y="3"/>
                      <a:pt x="11440" y="3"/>
                    </a:cubicBezTo>
                    <a:close/>
                    <a:moveTo>
                      <a:pt x="11448" y="3"/>
                    </a:moveTo>
                    <a:lnTo>
                      <a:pt x="11448" y="3"/>
                    </a:lnTo>
                    <a:cubicBezTo>
                      <a:pt x="11449" y="3"/>
                      <a:pt x="11450" y="3"/>
                      <a:pt x="11450" y="5"/>
                    </a:cubicBezTo>
                    <a:cubicBezTo>
                      <a:pt x="11450" y="6"/>
                      <a:pt x="11449" y="7"/>
                      <a:pt x="11448" y="7"/>
                    </a:cubicBezTo>
                    <a:lnTo>
                      <a:pt x="11448" y="7"/>
                    </a:lnTo>
                    <a:cubicBezTo>
                      <a:pt x="11447" y="7"/>
                      <a:pt x="11446" y="6"/>
                      <a:pt x="11446" y="5"/>
                    </a:cubicBezTo>
                    <a:cubicBezTo>
                      <a:pt x="11446" y="3"/>
                      <a:pt x="11447" y="3"/>
                      <a:pt x="11448" y="3"/>
                    </a:cubicBezTo>
                    <a:close/>
                    <a:moveTo>
                      <a:pt x="11456" y="3"/>
                    </a:moveTo>
                    <a:lnTo>
                      <a:pt x="11456" y="3"/>
                    </a:lnTo>
                    <a:cubicBezTo>
                      <a:pt x="11457" y="3"/>
                      <a:pt x="11458" y="3"/>
                      <a:pt x="11458" y="5"/>
                    </a:cubicBezTo>
                    <a:cubicBezTo>
                      <a:pt x="11458" y="6"/>
                      <a:pt x="11457" y="7"/>
                      <a:pt x="11456" y="7"/>
                    </a:cubicBezTo>
                    <a:lnTo>
                      <a:pt x="11456" y="7"/>
                    </a:lnTo>
                    <a:cubicBezTo>
                      <a:pt x="11455" y="7"/>
                      <a:pt x="11454" y="6"/>
                      <a:pt x="11454" y="5"/>
                    </a:cubicBezTo>
                    <a:cubicBezTo>
                      <a:pt x="11454" y="3"/>
                      <a:pt x="11455" y="3"/>
                      <a:pt x="11456" y="3"/>
                    </a:cubicBezTo>
                    <a:close/>
                    <a:moveTo>
                      <a:pt x="11464" y="3"/>
                    </a:moveTo>
                    <a:lnTo>
                      <a:pt x="11464" y="3"/>
                    </a:lnTo>
                    <a:cubicBezTo>
                      <a:pt x="11465" y="3"/>
                      <a:pt x="11466" y="3"/>
                      <a:pt x="11466" y="5"/>
                    </a:cubicBezTo>
                    <a:cubicBezTo>
                      <a:pt x="11466" y="6"/>
                      <a:pt x="11465" y="7"/>
                      <a:pt x="11464" y="7"/>
                    </a:cubicBezTo>
                    <a:lnTo>
                      <a:pt x="11464" y="7"/>
                    </a:lnTo>
                    <a:cubicBezTo>
                      <a:pt x="11463" y="7"/>
                      <a:pt x="11462" y="6"/>
                      <a:pt x="11462" y="5"/>
                    </a:cubicBezTo>
                    <a:cubicBezTo>
                      <a:pt x="11462" y="3"/>
                      <a:pt x="11463" y="3"/>
                      <a:pt x="11464" y="3"/>
                    </a:cubicBezTo>
                    <a:close/>
                    <a:moveTo>
                      <a:pt x="11472" y="3"/>
                    </a:moveTo>
                    <a:lnTo>
                      <a:pt x="11472" y="3"/>
                    </a:lnTo>
                    <a:cubicBezTo>
                      <a:pt x="11473" y="3"/>
                      <a:pt x="11474" y="3"/>
                      <a:pt x="11474" y="5"/>
                    </a:cubicBezTo>
                    <a:cubicBezTo>
                      <a:pt x="11474" y="6"/>
                      <a:pt x="11473" y="7"/>
                      <a:pt x="11472" y="7"/>
                    </a:cubicBezTo>
                    <a:lnTo>
                      <a:pt x="11472" y="7"/>
                    </a:lnTo>
                    <a:cubicBezTo>
                      <a:pt x="11471" y="7"/>
                      <a:pt x="11470" y="6"/>
                      <a:pt x="11470" y="5"/>
                    </a:cubicBezTo>
                    <a:cubicBezTo>
                      <a:pt x="11470" y="3"/>
                      <a:pt x="11471" y="3"/>
                      <a:pt x="11472" y="3"/>
                    </a:cubicBezTo>
                    <a:close/>
                    <a:moveTo>
                      <a:pt x="11480" y="3"/>
                    </a:moveTo>
                    <a:lnTo>
                      <a:pt x="11480" y="3"/>
                    </a:lnTo>
                    <a:cubicBezTo>
                      <a:pt x="11481" y="3"/>
                      <a:pt x="11482" y="3"/>
                      <a:pt x="11482" y="5"/>
                    </a:cubicBezTo>
                    <a:cubicBezTo>
                      <a:pt x="11482" y="6"/>
                      <a:pt x="11481" y="7"/>
                      <a:pt x="11480" y="7"/>
                    </a:cubicBezTo>
                    <a:lnTo>
                      <a:pt x="11480" y="7"/>
                    </a:lnTo>
                    <a:cubicBezTo>
                      <a:pt x="11479" y="7"/>
                      <a:pt x="11478" y="6"/>
                      <a:pt x="11478" y="5"/>
                    </a:cubicBezTo>
                    <a:cubicBezTo>
                      <a:pt x="11478" y="3"/>
                      <a:pt x="11479" y="3"/>
                      <a:pt x="11480" y="3"/>
                    </a:cubicBezTo>
                    <a:close/>
                    <a:moveTo>
                      <a:pt x="11488" y="3"/>
                    </a:moveTo>
                    <a:lnTo>
                      <a:pt x="11488" y="3"/>
                    </a:lnTo>
                    <a:cubicBezTo>
                      <a:pt x="11489" y="3"/>
                      <a:pt x="11490" y="3"/>
                      <a:pt x="11490" y="5"/>
                    </a:cubicBezTo>
                    <a:cubicBezTo>
                      <a:pt x="11490" y="6"/>
                      <a:pt x="11489" y="7"/>
                      <a:pt x="11488" y="7"/>
                    </a:cubicBezTo>
                    <a:lnTo>
                      <a:pt x="11488" y="7"/>
                    </a:lnTo>
                    <a:cubicBezTo>
                      <a:pt x="11487" y="7"/>
                      <a:pt x="11486" y="6"/>
                      <a:pt x="11486" y="5"/>
                    </a:cubicBezTo>
                    <a:cubicBezTo>
                      <a:pt x="11486" y="3"/>
                      <a:pt x="11487" y="3"/>
                      <a:pt x="11488" y="3"/>
                    </a:cubicBezTo>
                    <a:close/>
                    <a:moveTo>
                      <a:pt x="11496" y="3"/>
                    </a:moveTo>
                    <a:lnTo>
                      <a:pt x="11496" y="3"/>
                    </a:lnTo>
                    <a:cubicBezTo>
                      <a:pt x="11497" y="3"/>
                      <a:pt x="11498" y="3"/>
                      <a:pt x="11498" y="5"/>
                    </a:cubicBezTo>
                    <a:cubicBezTo>
                      <a:pt x="11498" y="6"/>
                      <a:pt x="11497" y="7"/>
                      <a:pt x="11496" y="7"/>
                    </a:cubicBezTo>
                    <a:lnTo>
                      <a:pt x="11496" y="7"/>
                    </a:lnTo>
                    <a:cubicBezTo>
                      <a:pt x="11495" y="7"/>
                      <a:pt x="11494" y="6"/>
                      <a:pt x="11494" y="5"/>
                    </a:cubicBezTo>
                    <a:cubicBezTo>
                      <a:pt x="11494" y="3"/>
                      <a:pt x="11495" y="3"/>
                      <a:pt x="11496" y="3"/>
                    </a:cubicBezTo>
                    <a:close/>
                    <a:moveTo>
                      <a:pt x="11504" y="3"/>
                    </a:moveTo>
                    <a:lnTo>
                      <a:pt x="11504" y="3"/>
                    </a:lnTo>
                    <a:cubicBezTo>
                      <a:pt x="11505" y="3"/>
                      <a:pt x="11506" y="3"/>
                      <a:pt x="11506" y="5"/>
                    </a:cubicBezTo>
                    <a:cubicBezTo>
                      <a:pt x="11506" y="6"/>
                      <a:pt x="11505" y="7"/>
                      <a:pt x="11504" y="7"/>
                    </a:cubicBezTo>
                    <a:lnTo>
                      <a:pt x="11504" y="7"/>
                    </a:lnTo>
                    <a:cubicBezTo>
                      <a:pt x="11503" y="7"/>
                      <a:pt x="11502" y="6"/>
                      <a:pt x="11502" y="5"/>
                    </a:cubicBezTo>
                    <a:cubicBezTo>
                      <a:pt x="11502" y="3"/>
                      <a:pt x="11503" y="3"/>
                      <a:pt x="11504" y="3"/>
                    </a:cubicBezTo>
                    <a:close/>
                    <a:moveTo>
                      <a:pt x="11512" y="3"/>
                    </a:moveTo>
                    <a:lnTo>
                      <a:pt x="11512" y="3"/>
                    </a:lnTo>
                    <a:cubicBezTo>
                      <a:pt x="11513" y="3"/>
                      <a:pt x="11514" y="3"/>
                      <a:pt x="11514" y="5"/>
                    </a:cubicBezTo>
                    <a:cubicBezTo>
                      <a:pt x="11514" y="6"/>
                      <a:pt x="11513" y="7"/>
                      <a:pt x="11512" y="7"/>
                    </a:cubicBezTo>
                    <a:lnTo>
                      <a:pt x="11512" y="7"/>
                    </a:lnTo>
                    <a:cubicBezTo>
                      <a:pt x="11511" y="7"/>
                      <a:pt x="11510" y="6"/>
                      <a:pt x="11510" y="5"/>
                    </a:cubicBezTo>
                    <a:cubicBezTo>
                      <a:pt x="11510" y="3"/>
                      <a:pt x="11511" y="3"/>
                      <a:pt x="11512" y="3"/>
                    </a:cubicBezTo>
                    <a:close/>
                    <a:moveTo>
                      <a:pt x="11520" y="3"/>
                    </a:moveTo>
                    <a:lnTo>
                      <a:pt x="11520" y="3"/>
                    </a:lnTo>
                    <a:cubicBezTo>
                      <a:pt x="11521" y="3"/>
                      <a:pt x="11522" y="3"/>
                      <a:pt x="11522" y="5"/>
                    </a:cubicBezTo>
                    <a:cubicBezTo>
                      <a:pt x="11522" y="6"/>
                      <a:pt x="11521" y="7"/>
                      <a:pt x="11520" y="7"/>
                    </a:cubicBezTo>
                    <a:lnTo>
                      <a:pt x="11520" y="7"/>
                    </a:lnTo>
                    <a:cubicBezTo>
                      <a:pt x="11519" y="7"/>
                      <a:pt x="11518" y="6"/>
                      <a:pt x="11518" y="5"/>
                    </a:cubicBezTo>
                    <a:cubicBezTo>
                      <a:pt x="11518" y="3"/>
                      <a:pt x="11519" y="3"/>
                      <a:pt x="11520" y="3"/>
                    </a:cubicBezTo>
                    <a:close/>
                    <a:moveTo>
                      <a:pt x="11528" y="3"/>
                    </a:moveTo>
                    <a:lnTo>
                      <a:pt x="11528" y="3"/>
                    </a:lnTo>
                    <a:cubicBezTo>
                      <a:pt x="11529" y="3"/>
                      <a:pt x="11530" y="3"/>
                      <a:pt x="11530" y="5"/>
                    </a:cubicBezTo>
                    <a:cubicBezTo>
                      <a:pt x="11530" y="6"/>
                      <a:pt x="11529" y="7"/>
                      <a:pt x="11528" y="7"/>
                    </a:cubicBezTo>
                    <a:lnTo>
                      <a:pt x="11528" y="7"/>
                    </a:lnTo>
                    <a:cubicBezTo>
                      <a:pt x="11527" y="7"/>
                      <a:pt x="11526" y="6"/>
                      <a:pt x="11526" y="5"/>
                    </a:cubicBezTo>
                    <a:cubicBezTo>
                      <a:pt x="11526" y="3"/>
                      <a:pt x="11527" y="3"/>
                      <a:pt x="11528" y="3"/>
                    </a:cubicBezTo>
                    <a:close/>
                    <a:moveTo>
                      <a:pt x="11536" y="3"/>
                    </a:moveTo>
                    <a:lnTo>
                      <a:pt x="11536" y="3"/>
                    </a:lnTo>
                    <a:cubicBezTo>
                      <a:pt x="11537" y="3"/>
                      <a:pt x="11538" y="3"/>
                      <a:pt x="11538" y="5"/>
                    </a:cubicBezTo>
                    <a:cubicBezTo>
                      <a:pt x="11538" y="6"/>
                      <a:pt x="11537" y="7"/>
                      <a:pt x="11536" y="7"/>
                    </a:cubicBezTo>
                    <a:lnTo>
                      <a:pt x="11536" y="7"/>
                    </a:lnTo>
                    <a:cubicBezTo>
                      <a:pt x="11535" y="7"/>
                      <a:pt x="11534" y="6"/>
                      <a:pt x="11534" y="5"/>
                    </a:cubicBezTo>
                    <a:cubicBezTo>
                      <a:pt x="11534" y="3"/>
                      <a:pt x="11535" y="3"/>
                      <a:pt x="11536" y="3"/>
                    </a:cubicBezTo>
                    <a:close/>
                    <a:moveTo>
                      <a:pt x="11544" y="3"/>
                    </a:moveTo>
                    <a:lnTo>
                      <a:pt x="11544" y="3"/>
                    </a:lnTo>
                    <a:cubicBezTo>
                      <a:pt x="11545" y="3"/>
                      <a:pt x="11546" y="3"/>
                      <a:pt x="11546" y="5"/>
                    </a:cubicBezTo>
                    <a:cubicBezTo>
                      <a:pt x="11546" y="6"/>
                      <a:pt x="11545" y="7"/>
                      <a:pt x="11544" y="7"/>
                    </a:cubicBezTo>
                    <a:lnTo>
                      <a:pt x="11544" y="7"/>
                    </a:lnTo>
                    <a:cubicBezTo>
                      <a:pt x="11543" y="7"/>
                      <a:pt x="11542" y="6"/>
                      <a:pt x="11542" y="5"/>
                    </a:cubicBezTo>
                    <a:cubicBezTo>
                      <a:pt x="11542" y="3"/>
                      <a:pt x="11543" y="3"/>
                      <a:pt x="11544" y="3"/>
                    </a:cubicBezTo>
                    <a:close/>
                    <a:moveTo>
                      <a:pt x="11552" y="3"/>
                    </a:moveTo>
                    <a:lnTo>
                      <a:pt x="11552" y="3"/>
                    </a:lnTo>
                    <a:cubicBezTo>
                      <a:pt x="11553" y="3"/>
                      <a:pt x="11554" y="3"/>
                      <a:pt x="11554" y="5"/>
                    </a:cubicBezTo>
                    <a:cubicBezTo>
                      <a:pt x="11554" y="6"/>
                      <a:pt x="11553" y="7"/>
                      <a:pt x="11552" y="7"/>
                    </a:cubicBezTo>
                    <a:lnTo>
                      <a:pt x="11552" y="7"/>
                    </a:lnTo>
                    <a:cubicBezTo>
                      <a:pt x="11551" y="7"/>
                      <a:pt x="11550" y="6"/>
                      <a:pt x="11550" y="5"/>
                    </a:cubicBezTo>
                    <a:cubicBezTo>
                      <a:pt x="11550" y="3"/>
                      <a:pt x="11551" y="3"/>
                      <a:pt x="11552" y="3"/>
                    </a:cubicBezTo>
                    <a:close/>
                    <a:moveTo>
                      <a:pt x="11560" y="3"/>
                    </a:moveTo>
                    <a:lnTo>
                      <a:pt x="11560" y="3"/>
                    </a:lnTo>
                    <a:cubicBezTo>
                      <a:pt x="11561" y="3"/>
                      <a:pt x="11562" y="3"/>
                      <a:pt x="11562" y="5"/>
                    </a:cubicBezTo>
                    <a:cubicBezTo>
                      <a:pt x="11562" y="6"/>
                      <a:pt x="11561" y="7"/>
                      <a:pt x="11560" y="7"/>
                    </a:cubicBezTo>
                    <a:lnTo>
                      <a:pt x="11560" y="7"/>
                    </a:lnTo>
                    <a:cubicBezTo>
                      <a:pt x="11559" y="7"/>
                      <a:pt x="11558" y="6"/>
                      <a:pt x="11558" y="5"/>
                    </a:cubicBezTo>
                    <a:cubicBezTo>
                      <a:pt x="11558" y="3"/>
                      <a:pt x="11559" y="3"/>
                      <a:pt x="11560" y="3"/>
                    </a:cubicBezTo>
                    <a:close/>
                    <a:moveTo>
                      <a:pt x="11568" y="3"/>
                    </a:moveTo>
                    <a:lnTo>
                      <a:pt x="11568" y="3"/>
                    </a:lnTo>
                    <a:cubicBezTo>
                      <a:pt x="11569" y="3"/>
                      <a:pt x="11570" y="4"/>
                      <a:pt x="11570" y="5"/>
                    </a:cubicBezTo>
                    <a:cubicBezTo>
                      <a:pt x="11570" y="6"/>
                      <a:pt x="11569" y="7"/>
                      <a:pt x="11568" y="7"/>
                    </a:cubicBezTo>
                    <a:lnTo>
                      <a:pt x="11568" y="7"/>
                    </a:lnTo>
                    <a:cubicBezTo>
                      <a:pt x="11567" y="7"/>
                      <a:pt x="11566" y="6"/>
                      <a:pt x="11566" y="5"/>
                    </a:cubicBezTo>
                    <a:cubicBezTo>
                      <a:pt x="11566" y="4"/>
                      <a:pt x="11567" y="3"/>
                      <a:pt x="11568" y="3"/>
                    </a:cubicBezTo>
                    <a:close/>
                    <a:moveTo>
                      <a:pt x="11576" y="3"/>
                    </a:moveTo>
                    <a:lnTo>
                      <a:pt x="11576" y="3"/>
                    </a:lnTo>
                    <a:cubicBezTo>
                      <a:pt x="11577" y="3"/>
                      <a:pt x="11578" y="4"/>
                      <a:pt x="11578" y="5"/>
                    </a:cubicBezTo>
                    <a:cubicBezTo>
                      <a:pt x="11578" y="6"/>
                      <a:pt x="11577" y="7"/>
                      <a:pt x="11576" y="7"/>
                    </a:cubicBezTo>
                    <a:lnTo>
                      <a:pt x="11576" y="7"/>
                    </a:lnTo>
                    <a:cubicBezTo>
                      <a:pt x="11575" y="7"/>
                      <a:pt x="11574" y="6"/>
                      <a:pt x="11574" y="5"/>
                    </a:cubicBezTo>
                    <a:cubicBezTo>
                      <a:pt x="11574" y="4"/>
                      <a:pt x="11575" y="3"/>
                      <a:pt x="11576" y="3"/>
                    </a:cubicBezTo>
                    <a:close/>
                    <a:moveTo>
                      <a:pt x="11584" y="3"/>
                    </a:moveTo>
                    <a:lnTo>
                      <a:pt x="11584" y="3"/>
                    </a:lnTo>
                    <a:cubicBezTo>
                      <a:pt x="11585" y="3"/>
                      <a:pt x="11586" y="4"/>
                      <a:pt x="11586" y="5"/>
                    </a:cubicBezTo>
                    <a:cubicBezTo>
                      <a:pt x="11586" y="6"/>
                      <a:pt x="11585" y="7"/>
                      <a:pt x="11584" y="7"/>
                    </a:cubicBezTo>
                    <a:lnTo>
                      <a:pt x="11584" y="7"/>
                    </a:lnTo>
                    <a:cubicBezTo>
                      <a:pt x="11583" y="7"/>
                      <a:pt x="11582" y="6"/>
                      <a:pt x="11582" y="5"/>
                    </a:cubicBezTo>
                    <a:cubicBezTo>
                      <a:pt x="11582" y="4"/>
                      <a:pt x="11583" y="3"/>
                      <a:pt x="11584" y="3"/>
                    </a:cubicBezTo>
                    <a:close/>
                    <a:moveTo>
                      <a:pt x="11592" y="3"/>
                    </a:moveTo>
                    <a:lnTo>
                      <a:pt x="11592" y="3"/>
                    </a:lnTo>
                    <a:cubicBezTo>
                      <a:pt x="11593" y="3"/>
                      <a:pt x="11594" y="4"/>
                      <a:pt x="11594" y="5"/>
                    </a:cubicBezTo>
                    <a:cubicBezTo>
                      <a:pt x="11594" y="6"/>
                      <a:pt x="11593" y="7"/>
                      <a:pt x="11592" y="7"/>
                    </a:cubicBezTo>
                    <a:lnTo>
                      <a:pt x="11592" y="7"/>
                    </a:lnTo>
                    <a:cubicBezTo>
                      <a:pt x="11591" y="7"/>
                      <a:pt x="11590" y="6"/>
                      <a:pt x="11590" y="5"/>
                    </a:cubicBezTo>
                    <a:cubicBezTo>
                      <a:pt x="11590" y="4"/>
                      <a:pt x="11591" y="3"/>
                      <a:pt x="11592" y="3"/>
                    </a:cubicBezTo>
                    <a:close/>
                    <a:moveTo>
                      <a:pt x="11600" y="3"/>
                    </a:moveTo>
                    <a:lnTo>
                      <a:pt x="11600" y="3"/>
                    </a:lnTo>
                    <a:cubicBezTo>
                      <a:pt x="11601" y="3"/>
                      <a:pt x="11602" y="4"/>
                      <a:pt x="11602" y="5"/>
                    </a:cubicBezTo>
                    <a:cubicBezTo>
                      <a:pt x="11602" y="6"/>
                      <a:pt x="11601" y="7"/>
                      <a:pt x="11600" y="7"/>
                    </a:cubicBezTo>
                    <a:lnTo>
                      <a:pt x="11600" y="7"/>
                    </a:lnTo>
                    <a:cubicBezTo>
                      <a:pt x="11599" y="7"/>
                      <a:pt x="11598" y="6"/>
                      <a:pt x="11598" y="5"/>
                    </a:cubicBezTo>
                    <a:cubicBezTo>
                      <a:pt x="11598" y="4"/>
                      <a:pt x="11599" y="3"/>
                      <a:pt x="11600" y="3"/>
                    </a:cubicBezTo>
                    <a:close/>
                    <a:moveTo>
                      <a:pt x="11608" y="3"/>
                    </a:moveTo>
                    <a:lnTo>
                      <a:pt x="11608" y="3"/>
                    </a:lnTo>
                    <a:cubicBezTo>
                      <a:pt x="11609" y="3"/>
                      <a:pt x="11610" y="4"/>
                      <a:pt x="11610" y="5"/>
                    </a:cubicBezTo>
                    <a:cubicBezTo>
                      <a:pt x="11610" y="6"/>
                      <a:pt x="11609" y="7"/>
                      <a:pt x="11608" y="7"/>
                    </a:cubicBezTo>
                    <a:lnTo>
                      <a:pt x="11608" y="7"/>
                    </a:lnTo>
                    <a:cubicBezTo>
                      <a:pt x="11607" y="7"/>
                      <a:pt x="11606" y="6"/>
                      <a:pt x="11606" y="5"/>
                    </a:cubicBezTo>
                    <a:cubicBezTo>
                      <a:pt x="11606" y="4"/>
                      <a:pt x="11607" y="3"/>
                      <a:pt x="11608" y="3"/>
                    </a:cubicBezTo>
                    <a:close/>
                    <a:moveTo>
                      <a:pt x="11616" y="3"/>
                    </a:moveTo>
                    <a:lnTo>
                      <a:pt x="11616" y="3"/>
                    </a:lnTo>
                    <a:cubicBezTo>
                      <a:pt x="11617" y="3"/>
                      <a:pt x="11618" y="4"/>
                      <a:pt x="11618" y="5"/>
                    </a:cubicBezTo>
                    <a:cubicBezTo>
                      <a:pt x="11618" y="6"/>
                      <a:pt x="11617" y="7"/>
                      <a:pt x="11616" y="7"/>
                    </a:cubicBezTo>
                    <a:lnTo>
                      <a:pt x="11616" y="7"/>
                    </a:lnTo>
                    <a:cubicBezTo>
                      <a:pt x="11615" y="7"/>
                      <a:pt x="11614" y="6"/>
                      <a:pt x="11614" y="5"/>
                    </a:cubicBezTo>
                    <a:cubicBezTo>
                      <a:pt x="11614" y="4"/>
                      <a:pt x="11615" y="3"/>
                      <a:pt x="11616" y="3"/>
                    </a:cubicBezTo>
                    <a:close/>
                    <a:moveTo>
                      <a:pt x="11624" y="3"/>
                    </a:moveTo>
                    <a:lnTo>
                      <a:pt x="11624" y="3"/>
                    </a:lnTo>
                    <a:cubicBezTo>
                      <a:pt x="11625" y="3"/>
                      <a:pt x="11626" y="4"/>
                      <a:pt x="11626" y="5"/>
                    </a:cubicBezTo>
                    <a:cubicBezTo>
                      <a:pt x="11626" y="6"/>
                      <a:pt x="11625" y="7"/>
                      <a:pt x="11624" y="7"/>
                    </a:cubicBezTo>
                    <a:lnTo>
                      <a:pt x="11624" y="7"/>
                    </a:lnTo>
                    <a:cubicBezTo>
                      <a:pt x="11623" y="7"/>
                      <a:pt x="11622" y="6"/>
                      <a:pt x="11622" y="5"/>
                    </a:cubicBezTo>
                    <a:cubicBezTo>
                      <a:pt x="11622" y="4"/>
                      <a:pt x="11623" y="3"/>
                      <a:pt x="11624" y="3"/>
                    </a:cubicBezTo>
                    <a:close/>
                    <a:moveTo>
                      <a:pt x="11632" y="3"/>
                    </a:moveTo>
                    <a:lnTo>
                      <a:pt x="11632" y="3"/>
                    </a:lnTo>
                    <a:cubicBezTo>
                      <a:pt x="11633" y="3"/>
                      <a:pt x="11634" y="4"/>
                      <a:pt x="11634" y="5"/>
                    </a:cubicBezTo>
                    <a:cubicBezTo>
                      <a:pt x="11634" y="6"/>
                      <a:pt x="11633" y="7"/>
                      <a:pt x="11632" y="7"/>
                    </a:cubicBezTo>
                    <a:lnTo>
                      <a:pt x="11632" y="7"/>
                    </a:lnTo>
                    <a:cubicBezTo>
                      <a:pt x="11631" y="7"/>
                      <a:pt x="11630" y="6"/>
                      <a:pt x="11630" y="5"/>
                    </a:cubicBezTo>
                    <a:cubicBezTo>
                      <a:pt x="11630" y="4"/>
                      <a:pt x="11631" y="3"/>
                      <a:pt x="11632" y="3"/>
                    </a:cubicBezTo>
                    <a:close/>
                    <a:moveTo>
                      <a:pt x="11640" y="3"/>
                    </a:moveTo>
                    <a:lnTo>
                      <a:pt x="11640" y="3"/>
                    </a:lnTo>
                    <a:cubicBezTo>
                      <a:pt x="11641" y="3"/>
                      <a:pt x="11642" y="4"/>
                      <a:pt x="11642" y="5"/>
                    </a:cubicBezTo>
                    <a:cubicBezTo>
                      <a:pt x="11642" y="6"/>
                      <a:pt x="11641" y="7"/>
                      <a:pt x="11640" y="7"/>
                    </a:cubicBezTo>
                    <a:lnTo>
                      <a:pt x="11640" y="7"/>
                    </a:lnTo>
                    <a:cubicBezTo>
                      <a:pt x="11639" y="7"/>
                      <a:pt x="11638" y="6"/>
                      <a:pt x="11638" y="5"/>
                    </a:cubicBezTo>
                    <a:cubicBezTo>
                      <a:pt x="11638" y="4"/>
                      <a:pt x="11639" y="3"/>
                      <a:pt x="11640" y="3"/>
                    </a:cubicBezTo>
                    <a:close/>
                    <a:moveTo>
                      <a:pt x="11648" y="3"/>
                    </a:moveTo>
                    <a:lnTo>
                      <a:pt x="11648" y="3"/>
                    </a:lnTo>
                    <a:cubicBezTo>
                      <a:pt x="11649" y="3"/>
                      <a:pt x="11650" y="4"/>
                      <a:pt x="11650" y="5"/>
                    </a:cubicBezTo>
                    <a:cubicBezTo>
                      <a:pt x="11650" y="6"/>
                      <a:pt x="11649" y="7"/>
                      <a:pt x="11648" y="7"/>
                    </a:cubicBezTo>
                    <a:lnTo>
                      <a:pt x="11648" y="7"/>
                    </a:lnTo>
                    <a:cubicBezTo>
                      <a:pt x="11647" y="7"/>
                      <a:pt x="11646" y="6"/>
                      <a:pt x="11646" y="5"/>
                    </a:cubicBezTo>
                    <a:cubicBezTo>
                      <a:pt x="11646" y="4"/>
                      <a:pt x="11647" y="3"/>
                      <a:pt x="11648" y="3"/>
                    </a:cubicBezTo>
                    <a:close/>
                    <a:moveTo>
                      <a:pt x="11656" y="3"/>
                    </a:moveTo>
                    <a:lnTo>
                      <a:pt x="11656" y="3"/>
                    </a:lnTo>
                    <a:cubicBezTo>
                      <a:pt x="11657" y="3"/>
                      <a:pt x="11658" y="4"/>
                      <a:pt x="11658" y="5"/>
                    </a:cubicBezTo>
                    <a:cubicBezTo>
                      <a:pt x="11658" y="6"/>
                      <a:pt x="11657" y="7"/>
                      <a:pt x="11656" y="7"/>
                    </a:cubicBezTo>
                    <a:lnTo>
                      <a:pt x="11656" y="7"/>
                    </a:lnTo>
                    <a:cubicBezTo>
                      <a:pt x="11655" y="7"/>
                      <a:pt x="11654" y="6"/>
                      <a:pt x="11654" y="5"/>
                    </a:cubicBezTo>
                    <a:cubicBezTo>
                      <a:pt x="11654" y="4"/>
                      <a:pt x="11655" y="3"/>
                      <a:pt x="11656" y="3"/>
                    </a:cubicBezTo>
                    <a:close/>
                    <a:moveTo>
                      <a:pt x="11664" y="3"/>
                    </a:moveTo>
                    <a:lnTo>
                      <a:pt x="11664" y="3"/>
                    </a:lnTo>
                    <a:cubicBezTo>
                      <a:pt x="11665" y="3"/>
                      <a:pt x="11666" y="4"/>
                      <a:pt x="11666" y="5"/>
                    </a:cubicBezTo>
                    <a:cubicBezTo>
                      <a:pt x="11666" y="6"/>
                      <a:pt x="11665" y="7"/>
                      <a:pt x="11664" y="7"/>
                    </a:cubicBezTo>
                    <a:lnTo>
                      <a:pt x="11664" y="7"/>
                    </a:lnTo>
                    <a:cubicBezTo>
                      <a:pt x="11663" y="7"/>
                      <a:pt x="11662" y="6"/>
                      <a:pt x="11662" y="5"/>
                    </a:cubicBezTo>
                    <a:cubicBezTo>
                      <a:pt x="11662" y="4"/>
                      <a:pt x="11663" y="3"/>
                      <a:pt x="11664" y="3"/>
                    </a:cubicBezTo>
                    <a:close/>
                    <a:moveTo>
                      <a:pt x="11672" y="3"/>
                    </a:moveTo>
                    <a:lnTo>
                      <a:pt x="11672" y="3"/>
                    </a:lnTo>
                    <a:cubicBezTo>
                      <a:pt x="11673" y="3"/>
                      <a:pt x="11674" y="4"/>
                      <a:pt x="11674" y="5"/>
                    </a:cubicBezTo>
                    <a:cubicBezTo>
                      <a:pt x="11674" y="6"/>
                      <a:pt x="11673" y="7"/>
                      <a:pt x="11672" y="7"/>
                    </a:cubicBezTo>
                    <a:lnTo>
                      <a:pt x="11672" y="7"/>
                    </a:lnTo>
                    <a:cubicBezTo>
                      <a:pt x="11671" y="7"/>
                      <a:pt x="11670" y="6"/>
                      <a:pt x="11670" y="5"/>
                    </a:cubicBezTo>
                    <a:cubicBezTo>
                      <a:pt x="11670" y="4"/>
                      <a:pt x="11671" y="3"/>
                      <a:pt x="11672" y="3"/>
                    </a:cubicBezTo>
                    <a:close/>
                    <a:moveTo>
                      <a:pt x="11680" y="3"/>
                    </a:moveTo>
                    <a:lnTo>
                      <a:pt x="11680" y="3"/>
                    </a:lnTo>
                    <a:cubicBezTo>
                      <a:pt x="11681" y="3"/>
                      <a:pt x="11682" y="4"/>
                      <a:pt x="11682" y="5"/>
                    </a:cubicBezTo>
                    <a:cubicBezTo>
                      <a:pt x="11682" y="6"/>
                      <a:pt x="11681" y="7"/>
                      <a:pt x="11680" y="7"/>
                    </a:cubicBezTo>
                    <a:lnTo>
                      <a:pt x="11680" y="7"/>
                    </a:lnTo>
                    <a:cubicBezTo>
                      <a:pt x="11679" y="7"/>
                      <a:pt x="11678" y="6"/>
                      <a:pt x="11678" y="5"/>
                    </a:cubicBezTo>
                    <a:cubicBezTo>
                      <a:pt x="11678" y="4"/>
                      <a:pt x="11679" y="3"/>
                      <a:pt x="11680" y="3"/>
                    </a:cubicBezTo>
                    <a:close/>
                    <a:moveTo>
                      <a:pt x="11688" y="3"/>
                    </a:moveTo>
                    <a:lnTo>
                      <a:pt x="11688" y="3"/>
                    </a:lnTo>
                    <a:cubicBezTo>
                      <a:pt x="11689" y="3"/>
                      <a:pt x="11690" y="4"/>
                      <a:pt x="11690" y="5"/>
                    </a:cubicBezTo>
                    <a:cubicBezTo>
                      <a:pt x="11690" y="6"/>
                      <a:pt x="11689" y="7"/>
                      <a:pt x="11688" y="7"/>
                    </a:cubicBezTo>
                    <a:lnTo>
                      <a:pt x="11688" y="7"/>
                    </a:lnTo>
                    <a:cubicBezTo>
                      <a:pt x="11687" y="7"/>
                      <a:pt x="11686" y="6"/>
                      <a:pt x="11686" y="5"/>
                    </a:cubicBezTo>
                    <a:cubicBezTo>
                      <a:pt x="11686" y="4"/>
                      <a:pt x="11687" y="3"/>
                      <a:pt x="11688" y="3"/>
                    </a:cubicBezTo>
                    <a:close/>
                    <a:moveTo>
                      <a:pt x="11696" y="3"/>
                    </a:moveTo>
                    <a:lnTo>
                      <a:pt x="11696" y="3"/>
                    </a:lnTo>
                    <a:cubicBezTo>
                      <a:pt x="11697" y="3"/>
                      <a:pt x="11698" y="4"/>
                      <a:pt x="11698" y="5"/>
                    </a:cubicBezTo>
                    <a:cubicBezTo>
                      <a:pt x="11698" y="6"/>
                      <a:pt x="11697" y="7"/>
                      <a:pt x="11696" y="7"/>
                    </a:cubicBezTo>
                    <a:lnTo>
                      <a:pt x="11696" y="7"/>
                    </a:lnTo>
                    <a:cubicBezTo>
                      <a:pt x="11695" y="7"/>
                      <a:pt x="11694" y="6"/>
                      <a:pt x="11694" y="5"/>
                    </a:cubicBezTo>
                    <a:cubicBezTo>
                      <a:pt x="11694" y="4"/>
                      <a:pt x="11695" y="3"/>
                      <a:pt x="11696" y="3"/>
                    </a:cubicBezTo>
                    <a:close/>
                    <a:moveTo>
                      <a:pt x="11704" y="3"/>
                    </a:moveTo>
                    <a:lnTo>
                      <a:pt x="11704" y="3"/>
                    </a:lnTo>
                    <a:cubicBezTo>
                      <a:pt x="11705" y="3"/>
                      <a:pt x="11706" y="4"/>
                      <a:pt x="11706" y="5"/>
                    </a:cubicBezTo>
                    <a:cubicBezTo>
                      <a:pt x="11706" y="6"/>
                      <a:pt x="11705" y="7"/>
                      <a:pt x="11704" y="7"/>
                    </a:cubicBezTo>
                    <a:lnTo>
                      <a:pt x="11704" y="7"/>
                    </a:lnTo>
                    <a:cubicBezTo>
                      <a:pt x="11703" y="7"/>
                      <a:pt x="11702" y="6"/>
                      <a:pt x="11702" y="5"/>
                    </a:cubicBezTo>
                    <a:cubicBezTo>
                      <a:pt x="11702" y="4"/>
                      <a:pt x="11703" y="3"/>
                      <a:pt x="11704" y="3"/>
                    </a:cubicBezTo>
                    <a:close/>
                    <a:moveTo>
                      <a:pt x="11712" y="3"/>
                    </a:moveTo>
                    <a:lnTo>
                      <a:pt x="11712" y="3"/>
                    </a:lnTo>
                    <a:cubicBezTo>
                      <a:pt x="11713" y="3"/>
                      <a:pt x="11714" y="4"/>
                      <a:pt x="11714" y="5"/>
                    </a:cubicBezTo>
                    <a:cubicBezTo>
                      <a:pt x="11714" y="6"/>
                      <a:pt x="11713" y="7"/>
                      <a:pt x="11712" y="7"/>
                    </a:cubicBezTo>
                    <a:lnTo>
                      <a:pt x="11712" y="7"/>
                    </a:lnTo>
                    <a:cubicBezTo>
                      <a:pt x="11711" y="7"/>
                      <a:pt x="11710" y="6"/>
                      <a:pt x="11710" y="5"/>
                    </a:cubicBezTo>
                    <a:cubicBezTo>
                      <a:pt x="11710" y="4"/>
                      <a:pt x="11711" y="3"/>
                      <a:pt x="11712" y="3"/>
                    </a:cubicBezTo>
                    <a:close/>
                    <a:moveTo>
                      <a:pt x="11720" y="3"/>
                    </a:moveTo>
                    <a:lnTo>
                      <a:pt x="11720" y="3"/>
                    </a:lnTo>
                    <a:cubicBezTo>
                      <a:pt x="11721" y="3"/>
                      <a:pt x="11722" y="4"/>
                      <a:pt x="11722" y="5"/>
                    </a:cubicBezTo>
                    <a:cubicBezTo>
                      <a:pt x="11722" y="6"/>
                      <a:pt x="11721" y="7"/>
                      <a:pt x="11720" y="7"/>
                    </a:cubicBezTo>
                    <a:lnTo>
                      <a:pt x="11720" y="7"/>
                    </a:lnTo>
                    <a:cubicBezTo>
                      <a:pt x="11719" y="7"/>
                      <a:pt x="11718" y="6"/>
                      <a:pt x="11718" y="5"/>
                    </a:cubicBezTo>
                    <a:cubicBezTo>
                      <a:pt x="11718" y="4"/>
                      <a:pt x="11719" y="3"/>
                      <a:pt x="11720" y="3"/>
                    </a:cubicBezTo>
                    <a:close/>
                    <a:moveTo>
                      <a:pt x="11728" y="3"/>
                    </a:moveTo>
                    <a:lnTo>
                      <a:pt x="11728" y="3"/>
                    </a:lnTo>
                    <a:cubicBezTo>
                      <a:pt x="11729" y="3"/>
                      <a:pt x="11730" y="4"/>
                      <a:pt x="11730" y="5"/>
                    </a:cubicBezTo>
                    <a:cubicBezTo>
                      <a:pt x="11730" y="6"/>
                      <a:pt x="11729" y="7"/>
                      <a:pt x="11728" y="7"/>
                    </a:cubicBezTo>
                    <a:lnTo>
                      <a:pt x="11728" y="7"/>
                    </a:lnTo>
                    <a:cubicBezTo>
                      <a:pt x="11727" y="7"/>
                      <a:pt x="11726" y="6"/>
                      <a:pt x="11726" y="5"/>
                    </a:cubicBezTo>
                    <a:cubicBezTo>
                      <a:pt x="11726" y="4"/>
                      <a:pt x="11727" y="3"/>
                      <a:pt x="11728" y="3"/>
                    </a:cubicBezTo>
                    <a:close/>
                    <a:moveTo>
                      <a:pt x="11736" y="3"/>
                    </a:moveTo>
                    <a:lnTo>
                      <a:pt x="11736" y="3"/>
                    </a:lnTo>
                    <a:cubicBezTo>
                      <a:pt x="11737" y="3"/>
                      <a:pt x="11738" y="4"/>
                      <a:pt x="11738" y="5"/>
                    </a:cubicBezTo>
                    <a:cubicBezTo>
                      <a:pt x="11738" y="6"/>
                      <a:pt x="11737" y="7"/>
                      <a:pt x="11736" y="7"/>
                    </a:cubicBezTo>
                    <a:lnTo>
                      <a:pt x="11736" y="7"/>
                    </a:lnTo>
                    <a:cubicBezTo>
                      <a:pt x="11735" y="7"/>
                      <a:pt x="11734" y="6"/>
                      <a:pt x="11734" y="5"/>
                    </a:cubicBezTo>
                    <a:cubicBezTo>
                      <a:pt x="11734" y="4"/>
                      <a:pt x="11735" y="3"/>
                      <a:pt x="11736" y="3"/>
                    </a:cubicBezTo>
                    <a:close/>
                    <a:moveTo>
                      <a:pt x="11744" y="3"/>
                    </a:moveTo>
                    <a:lnTo>
                      <a:pt x="11744" y="3"/>
                    </a:lnTo>
                    <a:cubicBezTo>
                      <a:pt x="11745" y="3"/>
                      <a:pt x="11746" y="4"/>
                      <a:pt x="11746" y="5"/>
                    </a:cubicBezTo>
                    <a:cubicBezTo>
                      <a:pt x="11746" y="6"/>
                      <a:pt x="11745" y="7"/>
                      <a:pt x="11744" y="7"/>
                    </a:cubicBezTo>
                    <a:lnTo>
                      <a:pt x="11744" y="7"/>
                    </a:lnTo>
                    <a:cubicBezTo>
                      <a:pt x="11743" y="7"/>
                      <a:pt x="11742" y="6"/>
                      <a:pt x="11742" y="5"/>
                    </a:cubicBezTo>
                    <a:cubicBezTo>
                      <a:pt x="11742" y="4"/>
                      <a:pt x="11743" y="3"/>
                      <a:pt x="11744" y="3"/>
                    </a:cubicBezTo>
                    <a:close/>
                    <a:moveTo>
                      <a:pt x="11752" y="3"/>
                    </a:moveTo>
                    <a:lnTo>
                      <a:pt x="11752" y="3"/>
                    </a:lnTo>
                    <a:cubicBezTo>
                      <a:pt x="11753" y="3"/>
                      <a:pt x="11754" y="4"/>
                      <a:pt x="11754" y="5"/>
                    </a:cubicBezTo>
                    <a:cubicBezTo>
                      <a:pt x="11754" y="6"/>
                      <a:pt x="11753" y="7"/>
                      <a:pt x="11752" y="7"/>
                    </a:cubicBezTo>
                    <a:lnTo>
                      <a:pt x="11752" y="7"/>
                    </a:lnTo>
                    <a:cubicBezTo>
                      <a:pt x="11751" y="7"/>
                      <a:pt x="11750" y="6"/>
                      <a:pt x="11750" y="5"/>
                    </a:cubicBezTo>
                    <a:cubicBezTo>
                      <a:pt x="11750" y="4"/>
                      <a:pt x="11751" y="3"/>
                      <a:pt x="11752" y="3"/>
                    </a:cubicBezTo>
                    <a:close/>
                    <a:moveTo>
                      <a:pt x="11760" y="3"/>
                    </a:moveTo>
                    <a:lnTo>
                      <a:pt x="11760" y="3"/>
                    </a:lnTo>
                    <a:cubicBezTo>
                      <a:pt x="11761" y="3"/>
                      <a:pt x="11762" y="4"/>
                      <a:pt x="11762" y="5"/>
                    </a:cubicBezTo>
                    <a:cubicBezTo>
                      <a:pt x="11762" y="6"/>
                      <a:pt x="11761" y="7"/>
                      <a:pt x="11760" y="7"/>
                    </a:cubicBezTo>
                    <a:lnTo>
                      <a:pt x="11760" y="7"/>
                    </a:lnTo>
                    <a:cubicBezTo>
                      <a:pt x="11759" y="7"/>
                      <a:pt x="11758" y="6"/>
                      <a:pt x="11758" y="5"/>
                    </a:cubicBezTo>
                    <a:cubicBezTo>
                      <a:pt x="11758" y="4"/>
                      <a:pt x="11759" y="3"/>
                      <a:pt x="11760" y="3"/>
                    </a:cubicBezTo>
                    <a:close/>
                    <a:moveTo>
                      <a:pt x="11768" y="3"/>
                    </a:moveTo>
                    <a:lnTo>
                      <a:pt x="11768" y="3"/>
                    </a:lnTo>
                    <a:cubicBezTo>
                      <a:pt x="11769" y="3"/>
                      <a:pt x="11770" y="4"/>
                      <a:pt x="11770" y="5"/>
                    </a:cubicBezTo>
                    <a:cubicBezTo>
                      <a:pt x="11770" y="6"/>
                      <a:pt x="11769" y="7"/>
                      <a:pt x="11768" y="7"/>
                    </a:cubicBezTo>
                    <a:lnTo>
                      <a:pt x="11768" y="7"/>
                    </a:lnTo>
                    <a:cubicBezTo>
                      <a:pt x="11767" y="7"/>
                      <a:pt x="11766" y="6"/>
                      <a:pt x="11766" y="5"/>
                    </a:cubicBezTo>
                    <a:cubicBezTo>
                      <a:pt x="11766" y="4"/>
                      <a:pt x="11767" y="3"/>
                      <a:pt x="11768" y="3"/>
                    </a:cubicBezTo>
                    <a:close/>
                    <a:moveTo>
                      <a:pt x="11776" y="3"/>
                    </a:moveTo>
                    <a:lnTo>
                      <a:pt x="11776" y="3"/>
                    </a:lnTo>
                    <a:cubicBezTo>
                      <a:pt x="11777" y="3"/>
                      <a:pt x="11778" y="4"/>
                      <a:pt x="11778" y="5"/>
                    </a:cubicBezTo>
                    <a:cubicBezTo>
                      <a:pt x="11778" y="6"/>
                      <a:pt x="11777" y="7"/>
                      <a:pt x="11776" y="7"/>
                    </a:cubicBezTo>
                    <a:lnTo>
                      <a:pt x="11776" y="7"/>
                    </a:lnTo>
                    <a:cubicBezTo>
                      <a:pt x="11775" y="7"/>
                      <a:pt x="11774" y="6"/>
                      <a:pt x="11774" y="5"/>
                    </a:cubicBezTo>
                    <a:cubicBezTo>
                      <a:pt x="11774" y="4"/>
                      <a:pt x="11775" y="3"/>
                      <a:pt x="11776" y="3"/>
                    </a:cubicBezTo>
                    <a:close/>
                    <a:moveTo>
                      <a:pt x="11784" y="3"/>
                    </a:moveTo>
                    <a:lnTo>
                      <a:pt x="11784" y="3"/>
                    </a:lnTo>
                    <a:cubicBezTo>
                      <a:pt x="11785" y="3"/>
                      <a:pt x="11786" y="4"/>
                      <a:pt x="11786" y="5"/>
                    </a:cubicBezTo>
                    <a:cubicBezTo>
                      <a:pt x="11786" y="6"/>
                      <a:pt x="11785" y="7"/>
                      <a:pt x="11784" y="7"/>
                    </a:cubicBezTo>
                    <a:lnTo>
                      <a:pt x="11784" y="7"/>
                    </a:lnTo>
                    <a:cubicBezTo>
                      <a:pt x="11783" y="7"/>
                      <a:pt x="11782" y="6"/>
                      <a:pt x="11782" y="5"/>
                    </a:cubicBezTo>
                    <a:cubicBezTo>
                      <a:pt x="11782" y="4"/>
                      <a:pt x="11783" y="3"/>
                      <a:pt x="11784" y="3"/>
                    </a:cubicBezTo>
                    <a:close/>
                    <a:moveTo>
                      <a:pt x="11792" y="3"/>
                    </a:moveTo>
                    <a:lnTo>
                      <a:pt x="11792" y="3"/>
                    </a:lnTo>
                    <a:cubicBezTo>
                      <a:pt x="11793" y="3"/>
                      <a:pt x="11794" y="4"/>
                      <a:pt x="11794" y="5"/>
                    </a:cubicBezTo>
                    <a:cubicBezTo>
                      <a:pt x="11794" y="6"/>
                      <a:pt x="11793" y="7"/>
                      <a:pt x="11792" y="7"/>
                    </a:cubicBezTo>
                    <a:lnTo>
                      <a:pt x="11792" y="7"/>
                    </a:lnTo>
                    <a:cubicBezTo>
                      <a:pt x="11791" y="7"/>
                      <a:pt x="11790" y="6"/>
                      <a:pt x="11790" y="5"/>
                    </a:cubicBezTo>
                    <a:cubicBezTo>
                      <a:pt x="11790" y="4"/>
                      <a:pt x="11791" y="3"/>
                      <a:pt x="11792" y="3"/>
                    </a:cubicBezTo>
                    <a:close/>
                    <a:moveTo>
                      <a:pt x="11800" y="3"/>
                    </a:moveTo>
                    <a:lnTo>
                      <a:pt x="11800" y="3"/>
                    </a:lnTo>
                    <a:cubicBezTo>
                      <a:pt x="11801" y="3"/>
                      <a:pt x="11802" y="4"/>
                      <a:pt x="11802" y="5"/>
                    </a:cubicBezTo>
                    <a:cubicBezTo>
                      <a:pt x="11802" y="6"/>
                      <a:pt x="11801" y="7"/>
                      <a:pt x="11800" y="7"/>
                    </a:cubicBezTo>
                    <a:lnTo>
                      <a:pt x="11800" y="7"/>
                    </a:lnTo>
                    <a:cubicBezTo>
                      <a:pt x="11799" y="7"/>
                      <a:pt x="11798" y="6"/>
                      <a:pt x="11798" y="5"/>
                    </a:cubicBezTo>
                    <a:cubicBezTo>
                      <a:pt x="11798" y="4"/>
                      <a:pt x="11799" y="3"/>
                      <a:pt x="11800" y="3"/>
                    </a:cubicBezTo>
                    <a:close/>
                    <a:moveTo>
                      <a:pt x="11808" y="3"/>
                    </a:moveTo>
                    <a:lnTo>
                      <a:pt x="11808" y="3"/>
                    </a:lnTo>
                    <a:cubicBezTo>
                      <a:pt x="11809" y="3"/>
                      <a:pt x="11810" y="4"/>
                      <a:pt x="11810" y="5"/>
                    </a:cubicBezTo>
                    <a:cubicBezTo>
                      <a:pt x="11810" y="6"/>
                      <a:pt x="11809" y="7"/>
                      <a:pt x="11808" y="7"/>
                    </a:cubicBezTo>
                    <a:lnTo>
                      <a:pt x="11808" y="7"/>
                    </a:lnTo>
                    <a:cubicBezTo>
                      <a:pt x="11807" y="7"/>
                      <a:pt x="11806" y="6"/>
                      <a:pt x="11806" y="5"/>
                    </a:cubicBezTo>
                    <a:cubicBezTo>
                      <a:pt x="11806" y="4"/>
                      <a:pt x="11807" y="3"/>
                      <a:pt x="11808" y="3"/>
                    </a:cubicBezTo>
                    <a:close/>
                    <a:moveTo>
                      <a:pt x="11816" y="3"/>
                    </a:moveTo>
                    <a:lnTo>
                      <a:pt x="11816" y="3"/>
                    </a:lnTo>
                    <a:cubicBezTo>
                      <a:pt x="11817" y="3"/>
                      <a:pt x="11818" y="4"/>
                      <a:pt x="11818" y="5"/>
                    </a:cubicBezTo>
                    <a:cubicBezTo>
                      <a:pt x="11818" y="6"/>
                      <a:pt x="11817" y="7"/>
                      <a:pt x="11816" y="7"/>
                    </a:cubicBezTo>
                    <a:lnTo>
                      <a:pt x="11816" y="7"/>
                    </a:lnTo>
                    <a:cubicBezTo>
                      <a:pt x="11815" y="7"/>
                      <a:pt x="11814" y="6"/>
                      <a:pt x="11814" y="5"/>
                    </a:cubicBezTo>
                    <a:cubicBezTo>
                      <a:pt x="11814" y="4"/>
                      <a:pt x="11815" y="3"/>
                      <a:pt x="11816" y="3"/>
                    </a:cubicBezTo>
                    <a:close/>
                    <a:moveTo>
                      <a:pt x="11824" y="3"/>
                    </a:moveTo>
                    <a:lnTo>
                      <a:pt x="11824" y="3"/>
                    </a:lnTo>
                    <a:cubicBezTo>
                      <a:pt x="11825" y="3"/>
                      <a:pt x="11826" y="4"/>
                      <a:pt x="11826" y="5"/>
                    </a:cubicBezTo>
                    <a:cubicBezTo>
                      <a:pt x="11826" y="6"/>
                      <a:pt x="11825" y="7"/>
                      <a:pt x="11824" y="7"/>
                    </a:cubicBezTo>
                    <a:lnTo>
                      <a:pt x="11824" y="7"/>
                    </a:lnTo>
                    <a:cubicBezTo>
                      <a:pt x="11823" y="7"/>
                      <a:pt x="11822" y="6"/>
                      <a:pt x="11822" y="5"/>
                    </a:cubicBezTo>
                    <a:cubicBezTo>
                      <a:pt x="11822" y="4"/>
                      <a:pt x="11823" y="3"/>
                      <a:pt x="11824" y="3"/>
                    </a:cubicBezTo>
                    <a:close/>
                    <a:moveTo>
                      <a:pt x="11832" y="3"/>
                    </a:moveTo>
                    <a:lnTo>
                      <a:pt x="11832" y="3"/>
                    </a:lnTo>
                    <a:cubicBezTo>
                      <a:pt x="11833" y="3"/>
                      <a:pt x="11834" y="4"/>
                      <a:pt x="11834" y="5"/>
                    </a:cubicBezTo>
                    <a:cubicBezTo>
                      <a:pt x="11834" y="6"/>
                      <a:pt x="11833" y="7"/>
                      <a:pt x="11832" y="7"/>
                    </a:cubicBezTo>
                    <a:lnTo>
                      <a:pt x="11832" y="7"/>
                    </a:lnTo>
                    <a:cubicBezTo>
                      <a:pt x="11831" y="7"/>
                      <a:pt x="11830" y="6"/>
                      <a:pt x="11830" y="5"/>
                    </a:cubicBezTo>
                    <a:cubicBezTo>
                      <a:pt x="11830" y="4"/>
                      <a:pt x="11831" y="3"/>
                      <a:pt x="11832" y="3"/>
                    </a:cubicBezTo>
                    <a:close/>
                    <a:moveTo>
                      <a:pt x="11840" y="3"/>
                    </a:moveTo>
                    <a:lnTo>
                      <a:pt x="11840" y="3"/>
                    </a:lnTo>
                    <a:cubicBezTo>
                      <a:pt x="11841" y="3"/>
                      <a:pt x="11842" y="4"/>
                      <a:pt x="11842" y="5"/>
                    </a:cubicBezTo>
                    <a:cubicBezTo>
                      <a:pt x="11842" y="6"/>
                      <a:pt x="11841" y="7"/>
                      <a:pt x="11840" y="7"/>
                    </a:cubicBezTo>
                    <a:lnTo>
                      <a:pt x="11840" y="7"/>
                    </a:lnTo>
                    <a:cubicBezTo>
                      <a:pt x="11839" y="7"/>
                      <a:pt x="11838" y="6"/>
                      <a:pt x="11838" y="5"/>
                    </a:cubicBezTo>
                    <a:cubicBezTo>
                      <a:pt x="11838" y="4"/>
                      <a:pt x="11839" y="3"/>
                      <a:pt x="11840" y="3"/>
                    </a:cubicBezTo>
                    <a:close/>
                    <a:moveTo>
                      <a:pt x="11848" y="3"/>
                    </a:moveTo>
                    <a:lnTo>
                      <a:pt x="11848" y="3"/>
                    </a:lnTo>
                    <a:cubicBezTo>
                      <a:pt x="11849" y="3"/>
                      <a:pt x="11850" y="4"/>
                      <a:pt x="11850" y="5"/>
                    </a:cubicBezTo>
                    <a:cubicBezTo>
                      <a:pt x="11850" y="6"/>
                      <a:pt x="11849" y="7"/>
                      <a:pt x="11848" y="7"/>
                    </a:cubicBezTo>
                    <a:lnTo>
                      <a:pt x="11848" y="7"/>
                    </a:lnTo>
                    <a:cubicBezTo>
                      <a:pt x="11847" y="7"/>
                      <a:pt x="11846" y="6"/>
                      <a:pt x="11846" y="5"/>
                    </a:cubicBezTo>
                    <a:cubicBezTo>
                      <a:pt x="11846" y="4"/>
                      <a:pt x="11847" y="3"/>
                      <a:pt x="11848" y="3"/>
                    </a:cubicBezTo>
                    <a:close/>
                    <a:moveTo>
                      <a:pt x="11856" y="3"/>
                    </a:moveTo>
                    <a:lnTo>
                      <a:pt x="11856" y="3"/>
                    </a:lnTo>
                    <a:cubicBezTo>
                      <a:pt x="11857" y="3"/>
                      <a:pt x="11858" y="4"/>
                      <a:pt x="11858" y="5"/>
                    </a:cubicBezTo>
                    <a:cubicBezTo>
                      <a:pt x="11858" y="6"/>
                      <a:pt x="11857" y="7"/>
                      <a:pt x="11856" y="7"/>
                    </a:cubicBezTo>
                    <a:lnTo>
                      <a:pt x="11856" y="7"/>
                    </a:lnTo>
                    <a:cubicBezTo>
                      <a:pt x="11855" y="7"/>
                      <a:pt x="11854" y="6"/>
                      <a:pt x="11854" y="5"/>
                    </a:cubicBezTo>
                    <a:cubicBezTo>
                      <a:pt x="11854" y="4"/>
                      <a:pt x="11855" y="3"/>
                      <a:pt x="11856" y="3"/>
                    </a:cubicBezTo>
                    <a:close/>
                    <a:moveTo>
                      <a:pt x="11864" y="3"/>
                    </a:moveTo>
                    <a:lnTo>
                      <a:pt x="11864" y="3"/>
                    </a:lnTo>
                    <a:cubicBezTo>
                      <a:pt x="11865" y="3"/>
                      <a:pt x="11866" y="4"/>
                      <a:pt x="11866" y="5"/>
                    </a:cubicBezTo>
                    <a:cubicBezTo>
                      <a:pt x="11866" y="6"/>
                      <a:pt x="11865" y="7"/>
                      <a:pt x="11864" y="7"/>
                    </a:cubicBezTo>
                    <a:lnTo>
                      <a:pt x="11864" y="7"/>
                    </a:lnTo>
                    <a:cubicBezTo>
                      <a:pt x="11863" y="7"/>
                      <a:pt x="11862" y="6"/>
                      <a:pt x="11862" y="5"/>
                    </a:cubicBezTo>
                    <a:cubicBezTo>
                      <a:pt x="11862" y="4"/>
                      <a:pt x="11863" y="3"/>
                      <a:pt x="11864" y="3"/>
                    </a:cubicBezTo>
                    <a:close/>
                    <a:moveTo>
                      <a:pt x="11872" y="3"/>
                    </a:moveTo>
                    <a:lnTo>
                      <a:pt x="11872" y="3"/>
                    </a:lnTo>
                    <a:cubicBezTo>
                      <a:pt x="11873" y="3"/>
                      <a:pt x="11874" y="4"/>
                      <a:pt x="11874" y="5"/>
                    </a:cubicBezTo>
                    <a:cubicBezTo>
                      <a:pt x="11874" y="6"/>
                      <a:pt x="11873" y="7"/>
                      <a:pt x="11872" y="7"/>
                    </a:cubicBezTo>
                    <a:lnTo>
                      <a:pt x="11872" y="7"/>
                    </a:lnTo>
                    <a:cubicBezTo>
                      <a:pt x="11871" y="7"/>
                      <a:pt x="11870" y="6"/>
                      <a:pt x="11870" y="5"/>
                    </a:cubicBezTo>
                    <a:cubicBezTo>
                      <a:pt x="11870" y="4"/>
                      <a:pt x="11871" y="3"/>
                      <a:pt x="11872" y="3"/>
                    </a:cubicBezTo>
                    <a:close/>
                    <a:moveTo>
                      <a:pt x="11880" y="3"/>
                    </a:moveTo>
                    <a:lnTo>
                      <a:pt x="11880" y="3"/>
                    </a:lnTo>
                    <a:cubicBezTo>
                      <a:pt x="11881" y="3"/>
                      <a:pt x="11882" y="4"/>
                      <a:pt x="11882" y="5"/>
                    </a:cubicBezTo>
                    <a:cubicBezTo>
                      <a:pt x="11882" y="6"/>
                      <a:pt x="11881" y="7"/>
                      <a:pt x="11880" y="7"/>
                    </a:cubicBezTo>
                    <a:lnTo>
                      <a:pt x="11880" y="7"/>
                    </a:lnTo>
                    <a:cubicBezTo>
                      <a:pt x="11879" y="7"/>
                      <a:pt x="11878" y="6"/>
                      <a:pt x="11878" y="5"/>
                    </a:cubicBezTo>
                    <a:cubicBezTo>
                      <a:pt x="11878" y="4"/>
                      <a:pt x="11879" y="3"/>
                      <a:pt x="11880" y="3"/>
                    </a:cubicBezTo>
                    <a:close/>
                    <a:moveTo>
                      <a:pt x="11888" y="3"/>
                    </a:moveTo>
                    <a:lnTo>
                      <a:pt x="11888" y="3"/>
                    </a:lnTo>
                    <a:cubicBezTo>
                      <a:pt x="11889" y="3"/>
                      <a:pt x="11890" y="4"/>
                      <a:pt x="11890" y="5"/>
                    </a:cubicBezTo>
                    <a:cubicBezTo>
                      <a:pt x="11890" y="6"/>
                      <a:pt x="11889" y="7"/>
                      <a:pt x="11888" y="7"/>
                    </a:cubicBezTo>
                    <a:lnTo>
                      <a:pt x="11888" y="7"/>
                    </a:lnTo>
                    <a:cubicBezTo>
                      <a:pt x="11887" y="7"/>
                      <a:pt x="11886" y="6"/>
                      <a:pt x="11886" y="5"/>
                    </a:cubicBezTo>
                    <a:cubicBezTo>
                      <a:pt x="11886" y="4"/>
                      <a:pt x="11887" y="3"/>
                      <a:pt x="11888" y="3"/>
                    </a:cubicBezTo>
                    <a:close/>
                    <a:moveTo>
                      <a:pt x="11896" y="3"/>
                    </a:moveTo>
                    <a:lnTo>
                      <a:pt x="11896" y="3"/>
                    </a:lnTo>
                    <a:cubicBezTo>
                      <a:pt x="11897" y="3"/>
                      <a:pt x="11898" y="4"/>
                      <a:pt x="11898" y="5"/>
                    </a:cubicBezTo>
                    <a:cubicBezTo>
                      <a:pt x="11898" y="6"/>
                      <a:pt x="11897" y="7"/>
                      <a:pt x="11896" y="7"/>
                    </a:cubicBezTo>
                    <a:lnTo>
                      <a:pt x="11896" y="7"/>
                    </a:lnTo>
                    <a:cubicBezTo>
                      <a:pt x="11895" y="7"/>
                      <a:pt x="11894" y="6"/>
                      <a:pt x="11894" y="5"/>
                    </a:cubicBezTo>
                    <a:cubicBezTo>
                      <a:pt x="11894" y="4"/>
                      <a:pt x="11895" y="3"/>
                      <a:pt x="11896" y="3"/>
                    </a:cubicBezTo>
                    <a:close/>
                    <a:moveTo>
                      <a:pt x="11904" y="3"/>
                    </a:moveTo>
                    <a:lnTo>
                      <a:pt x="11904" y="3"/>
                    </a:lnTo>
                    <a:cubicBezTo>
                      <a:pt x="11905" y="3"/>
                      <a:pt x="11906" y="4"/>
                      <a:pt x="11906" y="5"/>
                    </a:cubicBezTo>
                    <a:cubicBezTo>
                      <a:pt x="11906" y="6"/>
                      <a:pt x="11905" y="7"/>
                      <a:pt x="11904" y="7"/>
                    </a:cubicBezTo>
                    <a:lnTo>
                      <a:pt x="11904" y="7"/>
                    </a:lnTo>
                    <a:cubicBezTo>
                      <a:pt x="11903" y="7"/>
                      <a:pt x="11902" y="6"/>
                      <a:pt x="11902" y="5"/>
                    </a:cubicBezTo>
                    <a:cubicBezTo>
                      <a:pt x="11902" y="4"/>
                      <a:pt x="11903" y="3"/>
                      <a:pt x="11904" y="3"/>
                    </a:cubicBezTo>
                    <a:close/>
                    <a:moveTo>
                      <a:pt x="11912" y="3"/>
                    </a:moveTo>
                    <a:lnTo>
                      <a:pt x="11912" y="3"/>
                    </a:lnTo>
                    <a:cubicBezTo>
                      <a:pt x="11913" y="3"/>
                      <a:pt x="11914" y="4"/>
                      <a:pt x="11914" y="5"/>
                    </a:cubicBezTo>
                    <a:cubicBezTo>
                      <a:pt x="11914" y="6"/>
                      <a:pt x="11913" y="7"/>
                      <a:pt x="11912" y="7"/>
                    </a:cubicBezTo>
                    <a:lnTo>
                      <a:pt x="11912" y="7"/>
                    </a:lnTo>
                    <a:cubicBezTo>
                      <a:pt x="11911" y="7"/>
                      <a:pt x="11910" y="6"/>
                      <a:pt x="11910" y="5"/>
                    </a:cubicBezTo>
                    <a:cubicBezTo>
                      <a:pt x="11910" y="4"/>
                      <a:pt x="11911" y="3"/>
                      <a:pt x="11912" y="3"/>
                    </a:cubicBezTo>
                    <a:close/>
                    <a:moveTo>
                      <a:pt x="11920" y="3"/>
                    </a:moveTo>
                    <a:lnTo>
                      <a:pt x="11920" y="3"/>
                    </a:lnTo>
                    <a:cubicBezTo>
                      <a:pt x="11921" y="3"/>
                      <a:pt x="11922" y="4"/>
                      <a:pt x="11922" y="5"/>
                    </a:cubicBezTo>
                    <a:cubicBezTo>
                      <a:pt x="11922" y="6"/>
                      <a:pt x="11921" y="7"/>
                      <a:pt x="11920" y="7"/>
                    </a:cubicBezTo>
                    <a:lnTo>
                      <a:pt x="11920" y="7"/>
                    </a:lnTo>
                    <a:cubicBezTo>
                      <a:pt x="11919" y="7"/>
                      <a:pt x="11918" y="6"/>
                      <a:pt x="11918" y="5"/>
                    </a:cubicBezTo>
                    <a:cubicBezTo>
                      <a:pt x="11918" y="4"/>
                      <a:pt x="11919" y="3"/>
                      <a:pt x="11920" y="3"/>
                    </a:cubicBezTo>
                    <a:close/>
                    <a:moveTo>
                      <a:pt x="11928" y="3"/>
                    </a:moveTo>
                    <a:lnTo>
                      <a:pt x="11928" y="3"/>
                    </a:lnTo>
                    <a:cubicBezTo>
                      <a:pt x="11929" y="3"/>
                      <a:pt x="11930" y="4"/>
                      <a:pt x="11930" y="5"/>
                    </a:cubicBezTo>
                    <a:cubicBezTo>
                      <a:pt x="11930" y="6"/>
                      <a:pt x="11929" y="7"/>
                      <a:pt x="11928" y="7"/>
                    </a:cubicBezTo>
                    <a:lnTo>
                      <a:pt x="11928" y="7"/>
                    </a:lnTo>
                    <a:cubicBezTo>
                      <a:pt x="11927" y="7"/>
                      <a:pt x="11926" y="6"/>
                      <a:pt x="11926" y="5"/>
                    </a:cubicBezTo>
                    <a:cubicBezTo>
                      <a:pt x="11926" y="4"/>
                      <a:pt x="11927" y="3"/>
                      <a:pt x="11928" y="3"/>
                    </a:cubicBezTo>
                    <a:close/>
                    <a:moveTo>
                      <a:pt x="11936" y="3"/>
                    </a:moveTo>
                    <a:lnTo>
                      <a:pt x="11936" y="3"/>
                    </a:lnTo>
                    <a:cubicBezTo>
                      <a:pt x="11937" y="3"/>
                      <a:pt x="11938" y="4"/>
                      <a:pt x="11938" y="5"/>
                    </a:cubicBezTo>
                    <a:cubicBezTo>
                      <a:pt x="11938" y="6"/>
                      <a:pt x="11937" y="7"/>
                      <a:pt x="11936" y="7"/>
                    </a:cubicBezTo>
                    <a:lnTo>
                      <a:pt x="11936" y="7"/>
                    </a:lnTo>
                    <a:cubicBezTo>
                      <a:pt x="11935" y="7"/>
                      <a:pt x="11934" y="6"/>
                      <a:pt x="11934" y="5"/>
                    </a:cubicBezTo>
                    <a:cubicBezTo>
                      <a:pt x="11934" y="4"/>
                      <a:pt x="11935" y="3"/>
                      <a:pt x="11936" y="3"/>
                    </a:cubicBezTo>
                    <a:close/>
                    <a:moveTo>
                      <a:pt x="11944" y="3"/>
                    </a:moveTo>
                    <a:lnTo>
                      <a:pt x="11944" y="3"/>
                    </a:lnTo>
                    <a:cubicBezTo>
                      <a:pt x="11945" y="3"/>
                      <a:pt x="11946" y="4"/>
                      <a:pt x="11946" y="5"/>
                    </a:cubicBezTo>
                    <a:cubicBezTo>
                      <a:pt x="11946" y="6"/>
                      <a:pt x="11945" y="7"/>
                      <a:pt x="11944" y="7"/>
                    </a:cubicBezTo>
                    <a:lnTo>
                      <a:pt x="11944" y="7"/>
                    </a:lnTo>
                    <a:cubicBezTo>
                      <a:pt x="11943" y="7"/>
                      <a:pt x="11942" y="6"/>
                      <a:pt x="11942" y="5"/>
                    </a:cubicBezTo>
                    <a:cubicBezTo>
                      <a:pt x="11942" y="4"/>
                      <a:pt x="11943" y="3"/>
                      <a:pt x="11944" y="3"/>
                    </a:cubicBezTo>
                    <a:close/>
                    <a:moveTo>
                      <a:pt x="11952" y="3"/>
                    </a:moveTo>
                    <a:lnTo>
                      <a:pt x="11952" y="3"/>
                    </a:lnTo>
                    <a:cubicBezTo>
                      <a:pt x="11953" y="3"/>
                      <a:pt x="11954" y="4"/>
                      <a:pt x="11954" y="5"/>
                    </a:cubicBezTo>
                    <a:cubicBezTo>
                      <a:pt x="11954" y="6"/>
                      <a:pt x="11953" y="7"/>
                      <a:pt x="11952" y="7"/>
                    </a:cubicBezTo>
                    <a:lnTo>
                      <a:pt x="11952" y="7"/>
                    </a:lnTo>
                    <a:cubicBezTo>
                      <a:pt x="11951" y="7"/>
                      <a:pt x="11950" y="6"/>
                      <a:pt x="11950" y="5"/>
                    </a:cubicBezTo>
                    <a:cubicBezTo>
                      <a:pt x="11950" y="4"/>
                      <a:pt x="11951" y="3"/>
                      <a:pt x="11952" y="3"/>
                    </a:cubicBezTo>
                    <a:close/>
                    <a:moveTo>
                      <a:pt x="11960" y="3"/>
                    </a:moveTo>
                    <a:lnTo>
                      <a:pt x="11960" y="3"/>
                    </a:lnTo>
                    <a:cubicBezTo>
                      <a:pt x="11961" y="3"/>
                      <a:pt x="11962" y="4"/>
                      <a:pt x="11962" y="5"/>
                    </a:cubicBezTo>
                    <a:cubicBezTo>
                      <a:pt x="11962" y="6"/>
                      <a:pt x="11961" y="7"/>
                      <a:pt x="11960" y="7"/>
                    </a:cubicBezTo>
                    <a:lnTo>
                      <a:pt x="11960" y="7"/>
                    </a:lnTo>
                    <a:cubicBezTo>
                      <a:pt x="11959" y="7"/>
                      <a:pt x="11958" y="6"/>
                      <a:pt x="11958" y="5"/>
                    </a:cubicBezTo>
                    <a:cubicBezTo>
                      <a:pt x="11958" y="4"/>
                      <a:pt x="11959" y="3"/>
                      <a:pt x="11960" y="3"/>
                    </a:cubicBezTo>
                    <a:close/>
                    <a:moveTo>
                      <a:pt x="11968" y="3"/>
                    </a:moveTo>
                    <a:lnTo>
                      <a:pt x="11968" y="3"/>
                    </a:lnTo>
                    <a:cubicBezTo>
                      <a:pt x="11969" y="3"/>
                      <a:pt x="11970" y="4"/>
                      <a:pt x="11970" y="5"/>
                    </a:cubicBezTo>
                    <a:cubicBezTo>
                      <a:pt x="11970" y="6"/>
                      <a:pt x="11969" y="7"/>
                      <a:pt x="11968" y="7"/>
                    </a:cubicBezTo>
                    <a:lnTo>
                      <a:pt x="11968" y="7"/>
                    </a:lnTo>
                    <a:cubicBezTo>
                      <a:pt x="11967" y="7"/>
                      <a:pt x="11966" y="6"/>
                      <a:pt x="11966" y="5"/>
                    </a:cubicBezTo>
                    <a:cubicBezTo>
                      <a:pt x="11966" y="4"/>
                      <a:pt x="11967" y="3"/>
                      <a:pt x="11968" y="3"/>
                    </a:cubicBezTo>
                    <a:close/>
                    <a:moveTo>
                      <a:pt x="11976" y="3"/>
                    </a:moveTo>
                    <a:lnTo>
                      <a:pt x="11976" y="3"/>
                    </a:lnTo>
                    <a:cubicBezTo>
                      <a:pt x="11977" y="3"/>
                      <a:pt x="11978" y="4"/>
                      <a:pt x="11978" y="5"/>
                    </a:cubicBezTo>
                    <a:cubicBezTo>
                      <a:pt x="11978" y="6"/>
                      <a:pt x="11977" y="7"/>
                      <a:pt x="11976" y="7"/>
                    </a:cubicBezTo>
                    <a:lnTo>
                      <a:pt x="11976" y="7"/>
                    </a:lnTo>
                    <a:cubicBezTo>
                      <a:pt x="11975" y="7"/>
                      <a:pt x="11974" y="6"/>
                      <a:pt x="11974" y="5"/>
                    </a:cubicBezTo>
                    <a:cubicBezTo>
                      <a:pt x="11974" y="4"/>
                      <a:pt x="11975" y="3"/>
                      <a:pt x="11976" y="3"/>
                    </a:cubicBezTo>
                    <a:close/>
                    <a:moveTo>
                      <a:pt x="11984" y="3"/>
                    </a:moveTo>
                    <a:lnTo>
                      <a:pt x="11984" y="3"/>
                    </a:lnTo>
                    <a:cubicBezTo>
                      <a:pt x="11985" y="3"/>
                      <a:pt x="11986" y="4"/>
                      <a:pt x="11986" y="5"/>
                    </a:cubicBezTo>
                    <a:cubicBezTo>
                      <a:pt x="11986" y="6"/>
                      <a:pt x="11985" y="7"/>
                      <a:pt x="11984" y="7"/>
                    </a:cubicBezTo>
                    <a:lnTo>
                      <a:pt x="11984" y="7"/>
                    </a:lnTo>
                    <a:cubicBezTo>
                      <a:pt x="11983" y="7"/>
                      <a:pt x="11982" y="6"/>
                      <a:pt x="11982" y="5"/>
                    </a:cubicBezTo>
                    <a:cubicBezTo>
                      <a:pt x="11982" y="4"/>
                      <a:pt x="11983" y="3"/>
                      <a:pt x="11984" y="3"/>
                    </a:cubicBezTo>
                    <a:close/>
                    <a:moveTo>
                      <a:pt x="11992" y="3"/>
                    </a:moveTo>
                    <a:lnTo>
                      <a:pt x="11992" y="3"/>
                    </a:lnTo>
                    <a:cubicBezTo>
                      <a:pt x="11993" y="3"/>
                      <a:pt x="11994" y="4"/>
                      <a:pt x="11994" y="5"/>
                    </a:cubicBezTo>
                    <a:cubicBezTo>
                      <a:pt x="11994" y="6"/>
                      <a:pt x="11993" y="7"/>
                      <a:pt x="11992" y="7"/>
                    </a:cubicBezTo>
                    <a:lnTo>
                      <a:pt x="11992" y="7"/>
                    </a:lnTo>
                    <a:cubicBezTo>
                      <a:pt x="11991" y="7"/>
                      <a:pt x="11990" y="6"/>
                      <a:pt x="11990" y="5"/>
                    </a:cubicBezTo>
                    <a:cubicBezTo>
                      <a:pt x="11990" y="4"/>
                      <a:pt x="11991" y="3"/>
                      <a:pt x="11992" y="3"/>
                    </a:cubicBezTo>
                    <a:close/>
                    <a:moveTo>
                      <a:pt x="12000" y="3"/>
                    </a:moveTo>
                    <a:lnTo>
                      <a:pt x="12000" y="3"/>
                    </a:lnTo>
                    <a:cubicBezTo>
                      <a:pt x="12001" y="3"/>
                      <a:pt x="12002" y="4"/>
                      <a:pt x="12002" y="5"/>
                    </a:cubicBezTo>
                    <a:cubicBezTo>
                      <a:pt x="12002" y="6"/>
                      <a:pt x="12001" y="7"/>
                      <a:pt x="12000" y="7"/>
                    </a:cubicBezTo>
                    <a:lnTo>
                      <a:pt x="12000" y="7"/>
                    </a:lnTo>
                    <a:cubicBezTo>
                      <a:pt x="11999" y="7"/>
                      <a:pt x="11998" y="6"/>
                      <a:pt x="11998" y="5"/>
                    </a:cubicBezTo>
                    <a:cubicBezTo>
                      <a:pt x="11998" y="4"/>
                      <a:pt x="11999" y="3"/>
                      <a:pt x="12000" y="3"/>
                    </a:cubicBezTo>
                    <a:close/>
                    <a:moveTo>
                      <a:pt x="12008" y="3"/>
                    </a:moveTo>
                    <a:lnTo>
                      <a:pt x="12008" y="3"/>
                    </a:lnTo>
                    <a:cubicBezTo>
                      <a:pt x="12009" y="3"/>
                      <a:pt x="12010" y="4"/>
                      <a:pt x="12010" y="5"/>
                    </a:cubicBezTo>
                    <a:cubicBezTo>
                      <a:pt x="12010" y="6"/>
                      <a:pt x="12009" y="7"/>
                      <a:pt x="12008" y="7"/>
                    </a:cubicBezTo>
                    <a:lnTo>
                      <a:pt x="12008" y="7"/>
                    </a:lnTo>
                    <a:cubicBezTo>
                      <a:pt x="12007" y="7"/>
                      <a:pt x="12006" y="6"/>
                      <a:pt x="12006" y="5"/>
                    </a:cubicBezTo>
                    <a:cubicBezTo>
                      <a:pt x="12006" y="4"/>
                      <a:pt x="12007" y="3"/>
                      <a:pt x="12008" y="3"/>
                    </a:cubicBezTo>
                    <a:close/>
                    <a:moveTo>
                      <a:pt x="12016" y="3"/>
                    </a:moveTo>
                    <a:lnTo>
                      <a:pt x="12016" y="3"/>
                    </a:lnTo>
                    <a:cubicBezTo>
                      <a:pt x="12017" y="3"/>
                      <a:pt x="12018" y="4"/>
                      <a:pt x="12018" y="5"/>
                    </a:cubicBezTo>
                    <a:cubicBezTo>
                      <a:pt x="12018" y="6"/>
                      <a:pt x="12017" y="7"/>
                      <a:pt x="12016" y="7"/>
                    </a:cubicBezTo>
                    <a:lnTo>
                      <a:pt x="12016" y="7"/>
                    </a:lnTo>
                    <a:cubicBezTo>
                      <a:pt x="12015" y="7"/>
                      <a:pt x="12014" y="6"/>
                      <a:pt x="12014" y="5"/>
                    </a:cubicBezTo>
                    <a:cubicBezTo>
                      <a:pt x="12014" y="4"/>
                      <a:pt x="12015" y="3"/>
                      <a:pt x="12016" y="3"/>
                    </a:cubicBezTo>
                    <a:close/>
                    <a:moveTo>
                      <a:pt x="12024" y="3"/>
                    </a:moveTo>
                    <a:lnTo>
                      <a:pt x="12024" y="3"/>
                    </a:lnTo>
                    <a:cubicBezTo>
                      <a:pt x="12025" y="3"/>
                      <a:pt x="12026" y="4"/>
                      <a:pt x="12026" y="5"/>
                    </a:cubicBezTo>
                    <a:cubicBezTo>
                      <a:pt x="12026" y="6"/>
                      <a:pt x="12025" y="7"/>
                      <a:pt x="12024" y="7"/>
                    </a:cubicBezTo>
                    <a:lnTo>
                      <a:pt x="12024" y="7"/>
                    </a:lnTo>
                    <a:cubicBezTo>
                      <a:pt x="12023" y="7"/>
                      <a:pt x="12022" y="6"/>
                      <a:pt x="12022" y="5"/>
                    </a:cubicBezTo>
                    <a:cubicBezTo>
                      <a:pt x="12022" y="4"/>
                      <a:pt x="12023" y="3"/>
                      <a:pt x="12024" y="3"/>
                    </a:cubicBezTo>
                    <a:close/>
                    <a:moveTo>
                      <a:pt x="12032" y="3"/>
                    </a:moveTo>
                    <a:lnTo>
                      <a:pt x="12032" y="3"/>
                    </a:lnTo>
                    <a:cubicBezTo>
                      <a:pt x="12033" y="3"/>
                      <a:pt x="12034" y="4"/>
                      <a:pt x="12034" y="5"/>
                    </a:cubicBezTo>
                    <a:cubicBezTo>
                      <a:pt x="12034" y="6"/>
                      <a:pt x="12033" y="7"/>
                      <a:pt x="12032" y="7"/>
                    </a:cubicBezTo>
                    <a:lnTo>
                      <a:pt x="12032" y="7"/>
                    </a:lnTo>
                    <a:cubicBezTo>
                      <a:pt x="12031" y="7"/>
                      <a:pt x="12030" y="6"/>
                      <a:pt x="12030" y="5"/>
                    </a:cubicBezTo>
                    <a:cubicBezTo>
                      <a:pt x="12030" y="4"/>
                      <a:pt x="12031" y="3"/>
                      <a:pt x="12032" y="3"/>
                    </a:cubicBezTo>
                    <a:close/>
                    <a:moveTo>
                      <a:pt x="12040" y="3"/>
                    </a:moveTo>
                    <a:lnTo>
                      <a:pt x="12040" y="3"/>
                    </a:lnTo>
                    <a:cubicBezTo>
                      <a:pt x="12041" y="3"/>
                      <a:pt x="12042" y="4"/>
                      <a:pt x="12042" y="5"/>
                    </a:cubicBezTo>
                    <a:cubicBezTo>
                      <a:pt x="12042" y="6"/>
                      <a:pt x="12041" y="7"/>
                      <a:pt x="12040" y="7"/>
                    </a:cubicBezTo>
                    <a:lnTo>
                      <a:pt x="12040" y="7"/>
                    </a:lnTo>
                    <a:cubicBezTo>
                      <a:pt x="12039" y="7"/>
                      <a:pt x="12038" y="6"/>
                      <a:pt x="12038" y="5"/>
                    </a:cubicBezTo>
                    <a:cubicBezTo>
                      <a:pt x="12038" y="4"/>
                      <a:pt x="12039" y="3"/>
                      <a:pt x="12040" y="3"/>
                    </a:cubicBezTo>
                    <a:close/>
                    <a:moveTo>
                      <a:pt x="12048" y="3"/>
                    </a:moveTo>
                    <a:lnTo>
                      <a:pt x="12048" y="3"/>
                    </a:lnTo>
                    <a:cubicBezTo>
                      <a:pt x="12049" y="3"/>
                      <a:pt x="12050" y="4"/>
                      <a:pt x="12050" y="5"/>
                    </a:cubicBezTo>
                    <a:cubicBezTo>
                      <a:pt x="12050" y="6"/>
                      <a:pt x="12049" y="7"/>
                      <a:pt x="12048" y="7"/>
                    </a:cubicBezTo>
                    <a:lnTo>
                      <a:pt x="12048" y="7"/>
                    </a:lnTo>
                    <a:cubicBezTo>
                      <a:pt x="12047" y="7"/>
                      <a:pt x="12046" y="6"/>
                      <a:pt x="12046" y="5"/>
                    </a:cubicBezTo>
                    <a:cubicBezTo>
                      <a:pt x="12046" y="4"/>
                      <a:pt x="12047" y="3"/>
                      <a:pt x="12048" y="3"/>
                    </a:cubicBezTo>
                    <a:close/>
                    <a:moveTo>
                      <a:pt x="12056" y="3"/>
                    </a:moveTo>
                    <a:lnTo>
                      <a:pt x="12056" y="3"/>
                    </a:lnTo>
                    <a:cubicBezTo>
                      <a:pt x="12057" y="3"/>
                      <a:pt x="12058" y="4"/>
                      <a:pt x="12058" y="5"/>
                    </a:cubicBezTo>
                    <a:cubicBezTo>
                      <a:pt x="12058" y="6"/>
                      <a:pt x="12057" y="7"/>
                      <a:pt x="12056" y="7"/>
                    </a:cubicBezTo>
                    <a:lnTo>
                      <a:pt x="12056" y="7"/>
                    </a:lnTo>
                    <a:cubicBezTo>
                      <a:pt x="12055" y="7"/>
                      <a:pt x="12054" y="6"/>
                      <a:pt x="12054" y="5"/>
                    </a:cubicBezTo>
                    <a:cubicBezTo>
                      <a:pt x="12054" y="4"/>
                      <a:pt x="12055" y="3"/>
                      <a:pt x="12056" y="3"/>
                    </a:cubicBezTo>
                    <a:close/>
                    <a:moveTo>
                      <a:pt x="12064" y="3"/>
                    </a:moveTo>
                    <a:lnTo>
                      <a:pt x="12064" y="3"/>
                    </a:lnTo>
                    <a:cubicBezTo>
                      <a:pt x="12065" y="3"/>
                      <a:pt x="12066" y="4"/>
                      <a:pt x="12066" y="5"/>
                    </a:cubicBezTo>
                    <a:cubicBezTo>
                      <a:pt x="12066" y="6"/>
                      <a:pt x="12065" y="7"/>
                      <a:pt x="12064" y="7"/>
                    </a:cubicBezTo>
                    <a:lnTo>
                      <a:pt x="12064" y="7"/>
                    </a:lnTo>
                    <a:cubicBezTo>
                      <a:pt x="12063" y="7"/>
                      <a:pt x="12062" y="6"/>
                      <a:pt x="12062" y="5"/>
                    </a:cubicBezTo>
                    <a:cubicBezTo>
                      <a:pt x="12062" y="4"/>
                      <a:pt x="12063" y="3"/>
                      <a:pt x="12064" y="3"/>
                    </a:cubicBezTo>
                    <a:close/>
                    <a:moveTo>
                      <a:pt x="12072" y="3"/>
                    </a:moveTo>
                    <a:lnTo>
                      <a:pt x="12072" y="3"/>
                    </a:lnTo>
                    <a:cubicBezTo>
                      <a:pt x="12073" y="3"/>
                      <a:pt x="12074" y="4"/>
                      <a:pt x="12074" y="5"/>
                    </a:cubicBezTo>
                    <a:cubicBezTo>
                      <a:pt x="12074" y="6"/>
                      <a:pt x="12073" y="7"/>
                      <a:pt x="12072" y="7"/>
                    </a:cubicBezTo>
                    <a:lnTo>
                      <a:pt x="12072" y="7"/>
                    </a:lnTo>
                    <a:cubicBezTo>
                      <a:pt x="12071" y="7"/>
                      <a:pt x="12070" y="6"/>
                      <a:pt x="12070" y="5"/>
                    </a:cubicBezTo>
                    <a:cubicBezTo>
                      <a:pt x="12070" y="4"/>
                      <a:pt x="12071" y="3"/>
                      <a:pt x="12072" y="3"/>
                    </a:cubicBezTo>
                    <a:close/>
                    <a:moveTo>
                      <a:pt x="12080" y="3"/>
                    </a:moveTo>
                    <a:lnTo>
                      <a:pt x="12080" y="3"/>
                    </a:lnTo>
                    <a:cubicBezTo>
                      <a:pt x="12081" y="3"/>
                      <a:pt x="12082" y="4"/>
                      <a:pt x="12082" y="5"/>
                    </a:cubicBezTo>
                    <a:cubicBezTo>
                      <a:pt x="12082" y="6"/>
                      <a:pt x="12081" y="7"/>
                      <a:pt x="12080" y="7"/>
                    </a:cubicBezTo>
                    <a:lnTo>
                      <a:pt x="12080" y="7"/>
                    </a:lnTo>
                    <a:cubicBezTo>
                      <a:pt x="12079" y="7"/>
                      <a:pt x="12078" y="6"/>
                      <a:pt x="12078" y="5"/>
                    </a:cubicBezTo>
                    <a:cubicBezTo>
                      <a:pt x="12078" y="4"/>
                      <a:pt x="12079" y="3"/>
                      <a:pt x="12080" y="3"/>
                    </a:cubicBezTo>
                    <a:close/>
                    <a:moveTo>
                      <a:pt x="12088" y="3"/>
                    </a:moveTo>
                    <a:lnTo>
                      <a:pt x="12088" y="3"/>
                    </a:lnTo>
                    <a:cubicBezTo>
                      <a:pt x="12089" y="3"/>
                      <a:pt x="12090" y="4"/>
                      <a:pt x="12090" y="5"/>
                    </a:cubicBezTo>
                    <a:cubicBezTo>
                      <a:pt x="12090" y="6"/>
                      <a:pt x="12089" y="7"/>
                      <a:pt x="12088" y="7"/>
                    </a:cubicBezTo>
                    <a:lnTo>
                      <a:pt x="12088" y="7"/>
                    </a:lnTo>
                    <a:cubicBezTo>
                      <a:pt x="12087" y="7"/>
                      <a:pt x="12086" y="6"/>
                      <a:pt x="12086" y="5"/>
                    </a:cubicBezTo>
                    <a:cubicBezTo>
                      <a:pt x="12086" y="4"/>
                      <a:pt x="12087" y="3"/>
                      <a:pt x="12088" y="3"/>
                    </a:cubicBezTo>
                    <a:close/>
                    <a:moveTo>
                      <a:pt x="12096" y="3"/>
                    </a:moveTo>
                    <a:lnTo>
                      <a:pt x="12096" y="3"/>
                    </a:lnTo>
                    <a:cubicBezTo>
                      <a:pt x="12097" y="3"/>
                      <a:pt x="12098" y="4"/>
                      <a:pt x="12098" y="5"/>
                    </a:cubicBezTo>
                    <a:cubicBezTo>
                      <a:pt x="12098" y="6"/>
                      <a:pt x="12097" y="7"/>
                      <a:pt x="12096" y="7"/>
                    </a:cubicBezTo>
                    <a:lnTo>
                      <a:pt x="12096" y="7"/>
                    </a:lnTo>
                    <a:cubicBezTo>
                      <a:pt x="12095" y="7"/>
                      <a:pt x="12094" y="6"/>
                      <a:pt x="12094" y="5"/>
                    </a:cubicBezTo>
                    <a:cubicBezTo>
                      <a:pt x="12094" y="4"/>
                      <a:pt x="12095" y="3"/>
                      <a:pt x="12096" y="3"/>
                    </a:cubicBezTo>
                    <a:close/>
                    <a:moveTo>
                      <a:pt x="12104" y="3"/>
                    </a:moveTo>
                    <a:lnTo>
                      <a:pt x="12104" y="3"/>
                    </a:lnTo>
                    <a:cubicBezTo>
                      <a:pt x="12105" y="3"/>
                      <a:pt x="12106" y="4"/>
                      <a:pt x="12106" y="5"/>
                    </a:cubicBezTo>
                    <a:cubicBezTo>
                      <a:pt x="12106" y="6"/>
                      <a:pt x="12105" y="7"/>
                      <a:pt x="12104" y="7"/>
                    </a:cubicBezTo>
                    <a:lnTo>
                      <a:pt x="12104" y="7"/>
                    </a:lnTo>
                    <a:cubicBezTo>
                      <a:pt x="12103" y="7"/>
                      <a:pt x="12102" y="6"/>
                      <a:pt x="12102" y="5"/>
                    </a:cubicBezTo>
                    <a:cubicBezTo>
                      <a:pt x="12102" y="4"/>
                      <a:pt x="12103" y="3"/>
                      <a:pt x="12104" y="3"/>
                    </a:cubicBezTo>
                    <a:close/>
                    <a:moveTo>
                      <a:pt x="12112" y="3"/>
                    </a:moveTo>
                    <a:lnTo>
                      <a:pt x="12112" y="3"/>
                    </a:lnTo>
                    <a:cubicBezTo>
                      <a:pt x="12113" y="3"/>
                      <a:pt x="12114" y="4"/>
                      <a:pt x="12114" y="5"/>
                    </a:cubicBezTo>
                    <a:cubicBezTo>
                      <a:pt x="12114" y="6"/>
                      <a:pt x="12113" y="7"/>
                      <a:pt x="12112" y="7"/>
                    </a:cubicBezTo>
                    <a:lnTo>
                      <a:pt x="12112" y="7"/>
                    </a:lnTo>
                    <a:cubicBezTo>
                      <a:pt x="12111" y="7"/>
                      <a:pt x="12110" y="6"/>
                      <a:pt x="12110" y="5"/>
                    </a:cubicBezTo>
                    <a:cubicBezTo>
                      <a:pt x="12110" y="4"/>
                      <a:pt x="12111" y="3"/>
                      <a:pt x="12112" y="3"/>
                    </a:cubicBezTo>
                    <a:close/>
                    <a:moveTo>
                      <a:pt x="12120" y="3"/>
                    </a:moveTo>
                    <a:lnTo>
                      <a:pt x="12120" y="3"/>
                    </a:lnTo>
                    <a:cubicBezTo>
                      <a:pt x="12121" y="3"/>
                      <a:pt x="12122" y="4"/>
                      <a:pt x="12122" y="5"/>
                    </a:cubicBezTo>
                    <a:cubicBezTo>
                      <a:pt x="12122" y="6"/>
                      <a:pt x="12121" y="7"/>
                      <a:pt x="12120" y="7"/>
                    </a:cubicBezTo>
                    <a:lnTo>
                      <a:pt x="12120" y="7"/>
                    </a:lnTo>
                    <a:cubicBezTo>
                      <a:pt x="12119" y="7"/>
                      <a:pt x="12118" y="6"/>
                      <a:pt x="12118" y="5"/>
                    </a:cubicBezTo>
                    <a:cubicBezTo>
                      <a:pt x="12118" y="4"/>
                      <a:pt x="12119" y="3"/>
                      <a:pt x="12120" y="3"/>
                    </a:cubicBezTo>
                    <a:close/>
                    <a:moveTo>
                      <a:pt x="12128" y="3"/>
                    </a:moveTo>
                    <a:lnTo>
                      <a:pt x="12128" y="3"/>
                    </a:lnTo>
                    <a:cubicBezTo>
                      <a:pt x="12129" y="3"/>
                      <a:pt x="12130" y="4"/>
                      <a:pt x="12130" y="5"/>
                    </a:cubicBezTo>
                    <a:cubicBezTo>
                      <a:pt x="12130" y="6"/>
                      <a:pt x="12129" y="7"/>
                      <a:pt x="12128" y="7"/>
                    </a:cubicBezTo>
                    <a:lnTo>
                      <a:pt x="12128" y="7"/>
                    </a:lnTo>
                    <a:cubicBezTo>
                      <a:pt x="12127" y="7"/>
                      <a:pt x="12126" y="6"/>
                      <a:pt x="12126" y="5"/>
                    </a:cubicBezTo>
                    <a:cubicBezTo>
                      <a:pt x="12126" y="4"/>
                      <a:pt x="12127" y="3"/>
                      <a:pt x="12128" y="3"/>
                    </a:cubicBezTo>
                    <a:close/>
                    <a:moveTo>
                      <a:pt x="12136" y="3"/>
                    </a:moveTo>
                    <a:lnTo>
                      <a:pt x="12136" y="3"/>
                    </a:lnTo>
                    <a:cubicBezTo>
                      <a:pt x="12137" y="3"/>
                      <a:pt x="12138" y="4"/>
                      <a:pt x="12138" y="5"/>
                    </a:cubicBezTo>
                    <a:cubicBezTo>
                      <a:pt x="12138" y="6"/>
                      <a:pt x="12137" y="7"/>
                      <a:pt x="12136" y="7"/>
                    </a:cubicBezTo>
                    <a:lnTo>
                      <a:pt x="12136" y="7"/>
                    </a:lnTo>
                    <a:cubicBezTo>
                      <a:pt x="12135" y="7"/>
                      <a:pt x="12134" y="6"/>
                      <a:pt x="12134" y="5"/>
                    </a:cubicBezTo>
                    <a:cubicBezTo>
                      <a:pt x="12134" y="4"/>
                      <a:pt x="12135" y="3"/>
                      <a:pt x="12136" y="3"/>
                    </a:cubicBezTo>
                    <a:close/>
                    <a:moveTo>
                      <a:pt x="12144" y="3"/>
                    </a:moveTo>
                    <a:lnTo>
                      <a:pt x="12144" y="3"/>
                    </a:lnTo>
                    <a:cubicBezTo>
                      <a:pt x="12145" y="3"/>
                      <a:pt x="12146" y="4"/>
                      <a:pt x="12146" y="5"/>
                    </a:cubicBezTo>
                    <a:cubicBezTo>
                      <a:pt x="12146" y="6"/>
                      <a:pt x="12145" y="7"/>
                      <a:pt x="12144" y="7"/>
                    </a:cubicBezTo>
                    <a:lnTo>
                      <a:pt x="12144" y="7"/>
                    </a:lnTo>
                    <a:cubicBezTo>
                      <a:pt x="12143" y="7"/>
                      <a:pt x="12142" y="6"/>
                      <a:pt x="12142" y="5"/>
                    </a:cubicBezTo>
                    <a:cubicBezTo>
                      <a:pt x="12142" y="4"/>
                      <a:pt x="12143" y="3"/>
                      <a:pt x="12144" y="3"/>
                    </a:cubicBezTo>
                    <a:close/>
                    <a:moveTo>
                      <a:pt x="12152" y="3"/>
                    </a:moveTo>
                    <a:lnTo>
                      <a:pt x="12152" y="3"/>
                    </a:lnTo>
                    <a:cubicBezTo>
                      <a:pt x="12153" y="3"/>
                      <a:pt x="12154" y="4"/>
                      <a:pt x="12154" y="5"/>
                    </a:cubicBezTo>
                    <a:cubicBezTo>
                      <a:pt x="12154" y="6"/>
                      <a:pt x="12153" y="7"/>
                      <a:pt x="12152" y="7"/>
                    </a:cubicBezTo>
                    <a:lnTo>
                      <a:pt x="12152" y="7"/>
                    </a:lnTo>
                    <a:cubicBezTo>
                      <a:pt x="12151" y="7"/>
                      <a:pt x="12150" y="6"/>
                      <a:pt x="12150" y="5"/>
                    </a:cubicBezTo>
                    <a:cubicBezTo>
                      <a:pt x="12150" y="4"/>
                      <a:pt x="12151" y="3"/>
                      <a:pt x="12152" y="3"/>
                    </a:cubicBezTo>
                    <a:close/>
                    <a:moveTo>
                      <a:pt x="12160" y="3"/>
                    </a:moveTo>
                    <a:lnTo>
                      <a:pt x="12160" y="3"/>
                    </a:lnTo>
                    <a:cubicBezTo>
                      <a:pt x="12161" y="3"/>
                      <a:pt x="12162" y="4"/>
                      <a:pt x="12162" y="5"/>
                    </a:cubicBezTo>
                    <a:cubicBezTo>
                      <a:pt x="12162" y="6"/>
                      <a:pt x="12161" y="7"/>
                      <a:pt x="12160" y="7"/>
                    </a:cubicBezTo>
                    <a:lnTo>
                      <a:pt x="12160" y="7"/>
                    </a:lnTo>
                    <a:cubicBezTo>
                      <a:pt x="12159" y="7"/>
                      <a:pt x="12158" y="6"/>
                      <a:pt x="12158" y="5"/>
                    </a:cubicBezTo>
                    <a:cubicBezTo>
                      <a:pt x="12158" y="4"/>
                      <a:pt x="12159" y="3"/>
                      <a:pt x="12160" y="3"/>
                    </a:cubicBezTo>
                    <a:close/>
                    <a:moveTo>
                      <a:pt x="12168" y="3"/>
                    </a:moveTo>
                    <a:lnTo>
                      <a:pt x="12168" y="3"/>
                    </a:lnTo>
                    <a:cubicBezTo>
                      <a:pt x="12169" y="3"/>
                      <a:pt x="12170" y="4"/>
                      <a:pt x="12170" y="5"/>
                    </a:cubicBezTo>
                    <a:cubicBezTo>
                      <a:pt x="12170" y="6"/>
                      <a:pt x="12169" y="7"/>
                      <a:pt x="12168" y="7"/>
                    </a:cubicBezTo>
                    <a:lnTo>
                      <a:pt x="12168" y="7"/>
                    </a:lnTo>
                    <a:cubicBezTo>
                      <a:pt x="12167" y="7"/>
                      <a:pt x="12166" y="6"/>
                      <a:pt x="12166" y="5"/>
                    </a:cubicBezTo>
                    <a:cubicBezTo>
                      <a:pt x="12166" y="4"/>
                      <a:pt x="12167" y="3"/>
                      <a:pt x="12168" y="3"/>
                    </a:cubicBezTo>
                    <a:close/>
                    <a:moveTo>
                      <a:pt x="12176" y="3"/>
                    </a:moveTo>
                    <a:lnTo>
                      <a:pt x="12176" y="3"/>
                    </a:lnTo>
                    <a:cubicBezTo>
                      <a:pt x="12177" y="3"/>
                      <a:pt x="12178" y="4"/>
                      <a:pt x="12178" y="5"/>
                    </a:cubicBezTo>
                    <a:cubicBezTo>
                      <a:pt x="12178" y="6"/>
                      <a:pt x="12177" y="7"/>
                      <a:pt x="12176" y="7"/>
                    </a:cubicBezTo>
                    <a:lnTo>
                      <a:pt x="12176" y="7"/>
                    </a:lnTo>
                    <a:cubicBezTo>
                      <a:pt x="12175" y="7"/>
                      <a:pt x="12174" y="6"/>
                      <a:pt x="12174" y="5"/>
                    </a:cubicBezTo>
                    <a:cubicBezTo>
                      <a:pt x="12174" y="4"/>
                      <a:pt x="12175" y="3"/>
                      <a:pt x="12176" y="3"/>
                    </a:cubicBezTo>
                    <a:close/>
                    <a:moveTo>
                      <a:pt x="12184" y="3"/>
                    </a:moveTo>
                    <a:lnTo>
                      <a:pt x="12184" y="3"/>
                    </a:lnTo>
                    <a:cubicBezTo>
                      <a:pt x="12185" y="3"/>
                      <a:pt x="12186" y="4"/>
                      <a:pt x="12186" y="5"/>
                    </a:cubicBezTo>
                    <a:cubicBezTo>
                      <a:pt x="12186" y="6"/>
                      <a:pt x="12185" y="7"/>
                      <a:pt x="12184" y="7"/>
                    </a:cubicBezTo>
                    <a:lnTo>
                      <a:pt x="12184" y="7"/>
                    </a:lnTo>
                    <a:cubicBezTo>
                      <a:pt x="12183" y="7"/>
                      <a:pt x="12182" y="6"/>
                      <a:pt x="12182" y="5"/>
                    </a:cubicBezTo>
                    <a:cubicBezTo>
                      <a:pt x="12182" y="4"/>
                      <a:pt x="12183" y="3"/>
                      <a:pt x="12184" y="3"/>
                    </a:cubicBezTo>
                    <a:close/>
                    <a:moveTo>
                      <a:pt x="12192" y="3"/>
                    </a:moveTo>
                    <a:lnTo>
                      <a:pt x="12192" y="3"/>
                    </a:lnTo>
                    <a:cubicBezTo>
                      <a:pt x="12193" y="3"/>
                      <a:pt x="12194" y="4"/>
                      <a:pt x="12194" y="5"/>
                    </a:cubicBezTo>
                    <a:cubicBezTo>
                      <a:pt x="12194" y="6"/>
                      <a:pt x="12193" y="7"/>
                      <a:pt x="12192" y="7"/>
                    </a:cubicBezTo>
                    <a:lnTo>
                      <a:pt x="12192" y="7"/>
                    </a:lnTo>
                    <a:cubicBezTo>
                      <a:pt x="12191" y="7"/>
                      <a:pt x="12190" y="6"/>
                      <a:pt x="12190" y="5"/>
                    </a:cubicBezTo>
                    <a:cubicBezTo>
                      <a:pt x="12190" y="4"/>
                      <a:pt x="12191" y="3"/>
                      <a:pt x="12192" y="3"/>
                    </a:cubicBezTo>
                    <a:close/>
                    <a:moveTo>
                      <a:pt x="12200" y="3"/>
                    </a:moveTo>
                    <a:lnTo>
                      <a:pt x="12200" y="3"/>
                    </a:lnTo>
                    <a:cubicBezTo>
                      <a:pt x="12201" y="3"/>
                      <a:pt x="12202" y="4"/>
                      <a:pt x="12202" y="5"/>
                    </a:cubicBezTo>
                    <a:cubicBezTo>
                      <a:pt x="12202" y="6"/>
                      <a:pt x="12201" y="7"/>
                      <a:pt x="12200" y="7"/>
                    </a:cubicBezTo>
                    <a:lnTo>
                      <a:pt x="12200" y="7"/>
                    </a:lnTo>
                    <a:cubicBezTo>
                      <a:pt x="12199" y="7"/>
                      <a:pt x="12198" y="6"/>
                      <a:pt x="12198" y="5"/>
                    </a:cubicBezTo>
                    <a:cubicBezTo>
                      <a:pt x="12198" y="4"/>
                      <a:pt x="12199" y="3"/>
                      <a:pt x="12200" y="3"/>
                    </a:cubicBezTo>
                    <a:close/>
                    <a:moveTo>
                      <a:pt x="12208" y="3"/>
                    </a:moveTo>
                    <a:lnTo>
                      <a:pt x="12208" y="3"/>
                    </a:lnTo>
                    <a:cubicBezTo>
                      <a:pt x="12209" y="3"/>
                      <a:pt x="12210" y="4"/>
                      <a:pt x="12210" y="5"/>
                    </a:cubicBezTo>
                    <a:cubicBezTo>
                      <a:pt x="12210" y="6"/>
                      <a:pt x="12209" y="7"/>
                      <a:pt x="12208" y="7"/>
                    </a:cubicBezTo>
                    <a:lnTo>
                      <a:pt x="12208" y="7"/>
                    </a:lnTo>
                    <a:cubicBezTo>
                      <a:pt x="12207" y="7"/>
                      <a:pt x="12206" y="6"/>
                      <a:pt x="12206" y="5"/>
                    </a:cubicBezTo>
                    <a:cubicBezTo>
                      <a:pt x="12206" y="4"/>
                      <a:pt x="12207" y="3"/>
                      <a:pt x="12208" y="3"/>
                    </a:cubicBezTo>
                    <a:close/>
                    <a:moveTo>
                      <a:pt x="12216" y="3"/>
                    </a:moveTo>
                    <a:lnTo>
                      <a:pt x="12216" y="3"/>
                    </a:lnTo>
                    <a:cubicBezTo>
                      <a:pt x="12217" y="3"/>
                      <a:pt x="12218" y="4"/>
                      <a:pt x="12218" y="5"/>
                    </a:cubicBezTo>
                    <a:cubicBezTo>
                      <a:pt x="12218" y="6"/>
                      <a:pt x="12217" y="7"/>
                      <a:pt x="12216" y="7"/>
                    </a:cubicBezTo>
                    <a:lnTo>
                      <a:pt x="12216" y="7"/>
                    </a:lnTo>
                    <a:cubicBezTo>
                      <a:pt x="12215" y="7"/>
                      <a:pt x="12214" y="6"/>
                      <a:pt x="12214" y="5"/>
                    </a:cubicBezTo>
                    <a:cubicBezTo>
                      <a:pt x="12214" y="4"/>
                      <a:pt x="12215" y="3"/>
                      <a:pt x="12216" y="3"/>
                    </a:cubicBezTo>
                    <a:close/>
                    <a:moveTo>
                      <a:pt x="12224" y="3"/>
                    </a:moveTo>
                    <a:lnTo>
                      <a:pt x="12224" y="3"/>
                    </a:lnTo>
                    <a:cubicBezTo>
                      <a:pt x="12225" y="3"/>
                      <a:pt x="12226" y="4"/>
                      <a:pt x="12226" y="5"/>
                    </a:cubicBezTo>
                    <a:cubicBezTo>
                      <a:pt x="12226" y="6"/>
                      <a:pt x="12225" y="7"/>
                      <a:pt x="12224" y="7"/>
                    </a:cubicBezTo>
                    <a:lnTo>
                      <a:pt x="12224" y="7"/>
                    </a:lnTo>
                    <a:cubicBezTo>
                      <a:pt x="12223" y="7"/>
                      <a:pt x="12222" y="6"/>
                      <a:pt x="12222" y="5"/>
                    </a:cubicBezTo>
                    <a:cubicBezTo>
                      <a:pt x="12222" y="4"/>
                      <a:pt x="12223" y="3"/>
                      <a:pt x="12224" y="3"/>
                    </a:cubicBezTo>
                    <a:close/>
                    <a:moveTo>
                      <a:pt x="12232" y="3"/>
                    </a:moveTo>
                    <a:lnTo>
                      <a:pt x="12232" y="3"/>
                    </a:lnTo>
                    <a:cubicBezTo>
                      <a:pt x="12233" y="3"/>
                      <a:pt x="12234" y="4"/>
                      <a:pt x="12234" y="5"/>
                    </a:cubicBezTo>
                    <a:cubicBezTo>
                      <a:pt x="12234" y="6"/>
                      <a:pt x="12233" y="7"/>
                      <a:pt x="12232" y="7"/>
                    </a:cubicBezTo>
                    <a:lnTo>
                      <a:pt x="12232" y="7"/>
                    </a:lnTo>
                    <a:cubicBezTo>
                      <a:pt x="12231" y="7"/>
                      <a:pt x="12230" y="6"/>
                      <a:pt x="12230" y="5"/>
                    </a:cubicBezTo>
                    <a:cubicBezTo>
                      <a:pt x="12230" y="4"/>
                      <a:pt x="12231" y="3"/>
                      <a:pt x="12232" y="3"/>
                    </a:cubicBezTo>
                    <a:close/>
                    <a:moveTo>
                      <a:pt x="12240" y="3"/>
                    </a:moveTo>
                    <a:lnTo>
                      <a:pt x="12240" y="3"/>
                    </a:lnTo>
                    <a:cubicBezTo>
                      <a:pt x="12241" y="3"/>
                      <a:pt x="12242" y="4"/>
                      <a:pt x="12242" y="5"/>
                    </a:cubicBezTo>
                    <a:cubicBezTo>
                      <a:pt x="12242" y="6"/>
                      <a:pt x="12241" y="7"/>
                      <a:pt x="12240" y="7"/>
                    </a:cubicBezTo>
                    <a:lnTo>
                      <a:pt x="12240" y="7"/>
                    </a:lnTo>
                    <a:cubicBezTo>
                      <a:pt x="12239" y="7"/>
                      <a:pt x="12238" y="6"/>
                      <a:pt x="12238" y="5"/>
                    </a:cubicBezTo>
                    <a:cubicBezTo>
                      <a:pt x="12238" y="4"/>
                      <a:pt x="12239" y="3"/>
                      <a:pt x="12240" y="3"/>
                    </a:cubicBezTo>
                    <a:close/>
                    <a:moveTo>
                      <a:pt x="12248" y="3"/>
                    </a:moveTo>
                    <a:lnTo>
                      <a:pt x="12248" y="3"/>
                    </a:lnTo>
                    <a:cubicBezTo>
                      <a:pt x="12249" y="3"/>
                      <a:pt x="12250" y="4"/>
                      <a:pt x="12250" y="5"/>
                    </a:cubicBezTo>
                    <a:cubicBezTo>
                      <a:pt x="12250" y="6"/>
                      <a:pt x="12249" y="7"/>
                      <a:pt x="12248" y="7"/>
                    </a:cubicBezTo>
                    <a:lnTo>
                      <a:pt x="12248" y="7"/>
                    </a:lnTo>
                    <a:cubicBezTo>
                      <a:pt x="12247" y="7"/>
                      <a:pt x="12246" y="6"/>
                      <a:pt x="12246" y="5"/>
                    </a:cubicBezTo>
                    <a:cubicBezTo>
                      <a:pt x="12246" y="4"/>
                      <a:pt x="12247" y="3"/>
                      <a:pt x="12248" y="3"/>
                    </a:cubicBezTo>
                    <a:close/>
                    <a:moveTo>
                      <a:pt x="12256" y="3"/>
                    </a:moveTo>
                    <a:lnTo>
                      <a:pt x="12256" y="3"/>
                    </a:lnTo>
                    <a:cubicBezTo>
                      <a:pt x="12257" y="3"/>
                      <a:pt x="12258" y="4"/>
                      <a:pt x="12258" y="5"/>
                    </a:cubicBezTo>
                    <a:cubicBezTo>
                      <a:pt x="12258" y="6"/>
                      <a:pt x="12257" y="7"/>
                      <a:pt x="12256" y="7"/>
                    </a:cubicBezTo>
                    <a:lnTo>
                      <a:pt x="12256" y="7"/>
                    </a:lnTo>
                    <a:cubicBezTo>
                      <a:pt x="12255" y="7"/>
                      <a:pt x="12254" y="6"/>
                      <a:pt x="12254" y="5"/>
                    </a:cubicBezTo>
                    <a:cubicBezTo>
                      <a:pt x="12254" y="4"/>
                      <a:pt x="12255" y="3"/>
                      <a:pt x="12256" y="3"/>
                    </a:cubicBezTo>
                    <a:close/>
                    <a:moveTo>
                      <a:pt x="12264" y="3"/>
                    </a:moveTo>
                    <a:lnTo>
                      <a:pt x="12264" y="3"/>
                    </a:lnTo>
                    <a:cubicBezTo>
                      <a:pt x="12265" y="3"/>
                      <a:pt x="12266" y="4"/>
                      <a:pt x="12266" y="5"/>
                    </a:cubicBezTo>
                    <a:cubicBezTo>
                      <a:pt x="12266" y="6"/>
                      <a:pt x="12265" y="7"/>
                      <a:pt x="12264" y="7"/>
                    </a:cubicBezTo>
                    <a:lnTo>
                      <a:pt x="12264" y="7"/>
                    </a:lnTo>
                    <a:cubicBezTo>
                      <a:pt x="12263" y="7"/>
                      <a:pt x="12262" y="6"/>
                      <a:pt x="12262" y="5"/>
                    </a:cubicBezTo>
                    <a:cubicBezTo>
                      <a:pt x="12262" y="4"/>
                      <a:pt x="12263" y="3"/>
                      <a:pt x="12264" y="3"/>
                    </a:cubicBezTo>
                    <a:close/>
                    <a:moveTo>
                      <a:pt x="12272" y="3"/>
                    </a:moveTo>
                    <a:lnTo>
                      <a:pt x="12272" y="3"/>
                    </a:lnTo>
                    <a:cubicBezTo>
                      <a:pt x="12273" y="3"/>
                      <a:pt x="12274" y="4"/>
                      <a:pt x="12274" y="5"/>
                    </a:cubicBezTo>
                    <a:cubicBezTo>
                      <a:pt x="12274" y="6"/>
                      <a:pt x="12273" y="7"/>
                      <a:pt x="12272" y="7"/>
                    </a:cubicBezTo>
                    <a:lnTo>
                      <a:pt x="12272" y="7"/>
                    </a:lnTo>
                    <a:cubicBezTo>
                      <a:pt x="12271" y="7"/>
                      <a:pt x="12270" y="6"/>
                      <a:pt x="12270" y="5"/>
                    </a:cubicBezTo>
                    <a:cubicBezTo>
                      <a:pt x="12270" y="4"/>
                      <a:pt x="12271" y="3"/>
                      <a:pt x="12272" y="3"/>
                    </a:cubicBezTo>
                    <a:close/>
                    <a:moveTo>
                      <a:pt x="12280" y="3"/>
                    </a:moveTo>
                    <a:lnTo>
                      <a:pt x="12280" y="3"/>
                    </a:lnTo>
                    <a:cubicBezTo>
                      <a:pt x="12281" y="3"/>
                      <a:pt x="12282" y="4"/>
                      <a:pt x="12282" y="5"/>
                    </a:cubicBezTo>
                    <a:cubicBezTo>
                      <a:pt x="12282" y="6"/>
                      <a:pt x="12281" y="7"/>
                      <a:pt x="12280" y="7"/>
                    </a:cubicBezTo>
                    <a:lnTo>
                      <a:pt x="12280" y="7"/>
                    </a:lnTo>
                    <a:cubicBezTo>
                      <a:pt x="12279" y="7"/>
                      <a:pt x="12278" y="6"/>
                      <a:pt x="12278" y="5"/>
                    </a:cubicBezTo>
                    <a:cubicBezTo>
                      <a:pt x="12278" y="4"/>
                      <a:pt x="12279" y="3"/>
                      <a:pt x="12280" y="3"/>
                    </a:cubicBezTo>
                    <a:close/>
                    <a:moveTo>
                      <a:pt x="12288" y="3"/>
                    </a:moveTo>
                    <a:lnTo>
                      <a:pt x="12288" y="3"/>
                    </a:lnTo>
                    <a:cubicBezTo>
                      <a:pt x="12289" y="3"/>
                      <a:pt x="12290" y="4"/>
                      <a:pt x="12290" y="5"/>
                    </a:cubicBezTo>
                    <a:cubicBezTo>
                      <a:pt x="12290" y="6"/>
                      <a:pt x="12289" y="7"/>
                      <a:pt x="12288" y="7"/>
                    </a:cubicBezTo>
                    <a:lnTo>
                      <a:pt x="12288" y="7"/>
                    </a:lnTo>
                    <a:cubicBezTo>
                      <a:pt x="12287" y="7"/>
                      <a:pt x="12286" y="6"/>
                      <a:pt x="12286" y="5"/>
                    </a:cubicBezTo>
                    <a:cubicBezTo>
                      <a:pt x="12286" y="4"/>
                      <a:pt x="12287" y="3"/>
                      <a:pt x="12288" y="3"/>
                    </a:cubicBezTo>
                    <a:close/>
                    <a:moveTo>
                      <a:pt x="12296" y="3"/>
                    </a:moveTo>
                    <a:lnTo>
                      <a:pt x="12296" y="3"/>
                    </a:lnTo>
                    <a:cubicBezTo>
                      <a:pt x="12297" y="3"/>
                      <a:pt x="12298" y="4"/>
                      <a:pt x="12298" y="5"/>
                    </a:cubicBezTo>
                    <a:cubicBezTo>
                      <a:pt x="12298" y="6"/>
                      <a:pt x="12297" y="7"/>
                      <a:pt x="12296" y="7"/>
                    </a:cubicBezTo>
                    <a:lnTo>
                      <a:pt x="12296" y="7"/>
                    </a:lnTo>
                    <a:cubicBezTo>
                      <a:pt x="12295" y="7"/>
                      <a:pt x="12294" y="6"/>
                      <a:pt x="12294" y="5"/>
                    </a:cubicBezTo>
                    <a:cubicBezTo>
                      <a:pt x="12294" y="4"/>
                      <a:pt x="12295" y="3"/>
                      <a:pt x="12296" y="3"/>
                    </a:cubicBezTo>
                    <a:close/>
                    <a:moveTo>
                      <a:pt x="12304" y="3"/>
                    </a:moveTo>
                    <a:lnTo>
                      <a:pt x="12304" y="3"/>
                    </a:lnTo>
                    <a:cubicBezTo>
                      <a:pt x="12305" y="3"/>
                      <a:pt x="12306" y="4"/>
                      <a:pt x="12306" y="5"/>
                    </a:cubicBezTo>
                    <a:cubicBezTo>
                      <a:pt x="12306" y="6"/>
                      <a:pt x="12305" y="7"/>
                      <a:pt x="12304" y="7"/>
                    </a:cubicBezTo>
                    <a:lnTo>
                      <a:pt x="12304" y="7"/>
                    </a:lnTo>
                    <a:cubicBezTo>
                      <a:pt x="12303" y="7"/>
                      <a:pt x="12302" y="6"/>
                      <a:pt x="12302" y="5"/>
                    </a:cubicBezTo>
                    <a:cubicBezTo>
                      <a:pt x="12302" y="4"/>
                      <a:pt x="12303" y="3"/>
                      <a:pt x="12304" y="3"/>
                    </a:cubicBezTo>
                    <a:close/>
                    <a:moveTo>
                      <a:pt x="12312" y="3"/>
                    </a:moveTo>
                    <a:lnTo>
                      <a:pt x="12312" y="3"/>
                    </a:lnTo>
                    <a:cubicBezTo>
                      <a:pt x="12313" y="3"/>
                      <a:pt x="12314" y="4"/>
                      <a:pt x="12314" y="5"/>
                    </a:cubicBezTo>
                    <a:cubicBezTo>
                      <a:pt x="12314" y="6"/>
                      <a:pt x="12313" y="7"/>
                      <a:pt x="12312" y="7"/>
                    </a:cubicBezTo>
                    <a:lnTo>
                      <a:pt x="12312" y="7"/>
                    </a:lnTo>
                    <a:cubicBezTo>
                      <a:pt x="12311" y="7"/>
                      <a:pt x="12310" y="6"/>
                      <a:pt x="12310" y="5"/>
                    </a:cubicBezTo>
                    <a:cubicBezTo>
                      <a:pt x="12310" y="4"/>
                      <a:pt x="12311" y="3"/>
                      <a:pt x="12312" y="3"/>
                    </a:cubicBezTo>
                    <a:close/>
                    <a:moveTo>
                      <a:pt x="12320" y="3"/>
                    </a:moveTo>
                    <a:lnTo>
                      <a:pt x="12320" y="3"/>
                    </a:lnTo>
                    <a:cubicBezTo>
                      <a:pt x="12321" y="3"/>
                      <a:pt x="12322" y="4"/>
                      <a:pt x="12322" y="5"/>
                    </a:cubicBezTo>
                    <a:cubicBezTo>
                      <a:pt x="12322" y="6"/>
                      <a:pt x="12321" y="7"/>
                      <a:pt x="12320" y="7"/>
                    </a:cubicBezTo>
                    <a:lnTo>
                      <a:pt x="12320" y="7"/>
                    </a:lnTo>
                    <a:cubicBezTo>
                      <a:pt x="12319" y="7"/>
                      <a:pt x="12318" y="6"/>
                      <a:pt x="12318" y="5"/>
                    </a:cubicBezTo>
                    <a:cubicBezTo>
                      <a:pt x="12318" y="4"/>
                      <a:pt x="12319" y="3"/>
                      <a:pt x="12320" y="3"/>
                    </a:cubicBezTo>
                    <a:close/>
                    <a:moveTo>
                      <a:pt x="12328" y="3"/>
                    </a:moveTo>
                    <a:lnTo>
                      <a:pt x="12328" y="3"/>
                    </a:lnTo>
                    <a:cubicBezTo>
                      <a:pt x="12329" y="3"/>
                      <a:pt x="12330" y="4"/>
                      <a:pt x="12330" y="5"/>
                    </a:cubicBezTo>
                    <a:cubicBezTo>
                      <a:pt x="12330" y="6"/>
                      <a:pt x="12329" y="7"/>
                      <a:pt x="12328" y="7"/>
                    </a:cubicBezTo>
                    <a:lnTo>
                      <a:pt x="12328" y="7"/>
                    </a:lnTo>
                    <a:cubicBezTo>
                      <a:pt x="12327" y="7"/>
                      <a:pt x="12326" y="6"/>
                      <a:pt x="12326" y="5"/>
                    </a:cubicBezTo>
                    <a:cubicBezTo>
                      <a:pt x="12326" y="4"/>
                      <a:pt x="12327" y="3"/>
                      <a:pt x="12328" y="3"/>
                    </a:cubicBezTo>
                    <a:close/>
                    <a:moveTo>
                      <a:pt x="12336" y="3"/>
                    </a:moveTo>
                    <a:lnTo>
                      <a:pt x="12336" y="3"/>
                    </a:lnTo>
                    <a:cubicBezTo>
                      <a:pt x="12337" y="3"/>
                      <a:pt x="12338" y="4"/>
                      <a:pt x="12338" y="5"/>
                    </a:cubicBezTo>
                    <a:cubicBezTo>
                      <a:pt x="12338" y="6"/>
                      <a:pt x="12337" y="7"/>
                      <a:pt x="12336" y="7"/>
                    </a:cubicBezTo>
                    <a:lnTo>
                      <a:pt x="12336" y="7"/>
                    </a:lnTo>
                    <a:cubicBezTo>
                      <a:pt x="12335" y="7"/>
                      <a:pt x="12334" y="6"/>
                      <a:pt x="12334" y="5"/>
                    </a:cubicBezTo>
                    <a:cubicBezTo>
                      <a:pt x="12334" y="4"/>
                      <a:pt x="12335" y="3"/>
                      <a:pt x="12336" y="3"/>
                    </a:cubicBezTo>
                    <a:close/>
                    <a:moveTo>
                      <a:pt x="12344" y="3"/>
                    </a:moveTo>
                    <a:lnTo>
                      <a:pt x="12344" y="3"/>
                    </a:lnTo>
                    <a:cubicBezTo>
                      <a:pt x="12345" y="3"/>
                      <a:pt x="12346" y="4"/>
                      <a:pt x="12346" y="5"/>
                    </a:cubicBezTo>
                    <a:cubicBezTo>
                      <a:pt x="12346" y="6"/>
                      <a:pt x="12345" y="7"/>
                      <a:pt x="12344" y="7"/>
                    </a:cubicBezTo>
                    <a:lnTo>
                      <a:pt x="12344" y="7"/>
                    </a:lnTo>
                    <a:cubicBezTo>
                      <a:pt x="12343" y="7"/>
                      <a:pt x="12342" y="6"/>
                      <a:pt x="12342" y="5"/>
                    </a:cubicBezTo>
                    <a:cubicBezTo>
                      <a:pt x="12342" y="4"/>
                      <a:pt x="12343" y="3"/>
                      <a:pt x="12344" y="3"/>
                    </a:cubicBezTo>
                    <a:close/>
                    <a:moveTo>
                      <a:pt x="12352" y="3"/>
                    </a:moveTo>
                    <a:lnTo>
                      <a:pt x="12352" y="3"/>
                    </a:lnTo>
                    <a:cubicBezTo>
                      <a:pt x="12353" y="3"/>
                      <a:pt x="12354" y="4"/>
                      <a:pt x="12354" y="5"/>
                    </a:cubicBezTo>
                    <a:cubicBezTo>
                      <a:pt x="12354" y="6"/>
                      <a:pt x="12353" y="7"/>
                      <a:pt x="12352" y="7"/>
                    </a:cubicBezTo>
                    <a:lnTo>
                      <a:pt x="12352" y="7"/>
                    </a:lnTo>
                    <a:cubicBezTo>
                      <a:pt x="12351" y="7"/>
                      <a:pt x="12350" y="6"/>
                      <a:pt x="12350" y="5"/>
                    </a:cubicBezTo>
                    <a:cubicBezTo>
                      <a:pt x="12350" y="4"/>
                      <a:pt x="12351" y="3"/>
                      <a:pt x="12352" y="3"/>
                    </a:cubicBezTo>
                    <a:close/>
                    <a:moveTo>
                      <a:pt x="12360" y="3"/>
                    </a:moveTo>
                    <a:lnTo>
                      <a:pt x="12360" y="3"/>
                    </a:lnTo>
                    <a:cubicBezTo>
                      <a:pt x="12361" y="3"/>
                      <a:pt x="12362" y="4"/>
                      <a:pt x="12362" y="5"/>
                    </a:cubicBezTo>
                    <a:cubicBezTo>
                      <a:pt x="12362" y="6"/>
                      <a:pt x="12361" y="7"/>
                      <a:pt x="12360" y="7"/>
                    </a:cubicBezTo>
                    <a:lnTo>
                      <a:pt x="12360" y="7"/>
                    </a:lnTo>
                    <a:cubicBezTo>
                      <a:pt x="12359" y="7"/>
                      <a:pt x="12358" y="6"/>
                      <a:pt x="12358" y="5"/>
                    </a:cubicBezTo>
                    <a:cubicBezTo>
                      <a:pt x="12358" y="4"/>
                      <a:pt x="12359" y="3"/>
                      <a:pt x="12360" y="3"/>
                    </a:cubicBezTo>
                    <a:close/>
                    <a:moveTo>
                      <a:pt x="12368" y="3"/>
                    </a:moveTo>
                    <a:lnTo>
                      <a:pt x="12368" y="3"/>
                    </a:lnTo>
                    <a:cubicBezTo>
                      <a:pt x="12369" y="3"/>
                      <a:pt x="12370" y="4"/>
                      <a:pt x="12370" y="5"/>
                    </a:cubicBezTo>
                    <a:cubicBezTo>
                      <a:pt x="12370" y="6"/>
                      <a:pt x="12369" y="7"/>
                      <a:pt x="12368" y="7"/>
                    </a:cubicBezTo>
                    <a:lnTo>
                      <a:pt x="12368" y="7"/>
                    </a:lnTo>
                    <a:cubicBezTo>
                      <a:pt x="12367" y="7"/>
                      <a:pt x="12366" y="6"/>
                      <a:pt x="12366" y="5"/>
                    </a:cubicBezTo>
                    <a:cubicBezTo>
                      <a:pt x="12366" y="4"/>
                      <a:pt x="12367" y="3"/>
                      <a:pt x="12368" y="3"/>
                    </a:cubicBezTo>
                    <a:close/>
                    <a:moveTo>
                      <a:pt x="12376" y="3"/>
                    </a:moveTo>
                    <a:lnTo>
                      <a:pt x="12376" y="3"/>
                    </a:lnTo>
                    <a:cubicBezTo>
                      <a:pt x="12377" y="3"/>
                      <a:pt x="12378" y="4"/>
                      <a:pt x="12378" y="5"/>
                    </a:cubicBezTo>
                    <a:cubicBezTo>
                      <a:pt x="12378" y="6"/>
                      <a:pt x="12377" y="7"/>
                      <a:pt x="12376" y="7"/>
                    </a:cubicBezTo>
                    <a:lnTo>
                      <a:pt x="12376" y="7"/>
                    </a:lnTo>
                    <a:cubicBezTo>
                      <a:pt x="12375" y="7"/>
                      <a:pt x="12374" y="6"/>
                      <a:pt x="12374" y="5"/>
                    </a:cubicBezTo>
                    <a:cubicBezTo>
                      <a:pt x="12374" y="4"/>
                      <a:pt x="12375" y="3"/>
                      <a:pt x="12376" y="3"/>
                    </a:cubicBezTo>
                    <a:close/>
                    <a:moveTo>
                      <a:pt x="12384" y="3"/>
                    </a:moveTo>
                    <a:lnTo>
                      <a:pt x="12384" y="3"/>
                    </a:lnTo>
                    <a:cubicBezTo>
                      <a:pt x="12385" y="3"/>
                      <a:pt x="12386" y="4"/>
                      <a:pt x="12386" y="5"/>
                    </a:cubicBezTo>
                    <a:cubicBezTo>
                      <a:pt x="12386" y="6"/>
                      <a:pt x="12385" y="7"/>
                      <a:pt x="12384" y="7"/>
                    </a:cubicBezTo>
                    <a:lnTo>
                      <a:pt x="12384" y="7"/>
                    </a:lnTo>
                    <a:cubicBezTo>
                      <a:pt x="12383" y="7"/>
                      <a:pt x="12382" y="6"/>
                      <a:pt x="12382" y="5"/>
                    </a:cubicBezTo>
                    <a:cubicBezTo>
                      <a:pt x="12382" y="4"/>
                      <a:pt x="12383" y="3"/>
                      <a:pt x="12384" y="3"/>
                    </a:cubicBezTo>
                    <a:close/>
                    <a:moveTo>
                      <a:pt x="12392" y="3"/>
                    </a:moveTo>
                    <a:lnTo>
                      <a:pt x="12392" y="3"/>
                    </a:lnTo>
                    <a:cubicBezTo>
                      <a:pt x="12393" y="3"/>
                      <a:pt x="12394" y="4"/>
                      <a:pt x="12394" y="5"/>
                    </a:cubicBezTo>
                    <a:cubicBezTo>
                      <a:pt x="12394" y="6"/>
                      <a:pt x="12393" y="7"/>
                      <a:pt x="12392" y="7"/>
                    </a:cubicBezTo>
                    <a:lnTo>
                      <a:pt x="12392" y="7"/>
                    </a:lnTo>
                    <a:cubicBezTo>
                      <a:pt x="12391" y="7"/>
                      <a:pt x="12390" y="6"/>
                      <a:pt x="12390" y="5"/>
                    </a:cubicBezTo>
                    <a:cubicBezTo>
                      <a:pt x="12390" y="4"/>
                      <a:pt x="12391" y="3"/>
                      <a:pt x="12392" y="3"/>
                    </a:cubicBezTo>
                    <a:close/>
                    <a:moveTo>
                      <a:pt x="12400" y="3"/>
                    </a:moveTo>
                    <a:lnTo>
                      <a:pt x="12400" y="3"/>
                    </a:lnTo>
                    <a:cubicBezTo>
                      <a:pt x="12401" y="3"/>
                      <a:pt x="12402" y="4"/>
                      <a:pt x="12402" y="5"/>
                    </a:cubicBezTo>
                    <a:cubicBezTo>
                      <a:pt x="12402" y="6"/>
                      <a:pt x="12401" y="7"/>
                      <a:pt x="12400" y="7"/>
                    </a:cubicBezTo>
                    <a:lnTo>
                      <a:pt x="12400" y="7"/>
                    </a:lnTo>
                    <a:cubicBezTo>
                      <a:pt x="12399" y="7"/>
                      <a:pt x="12398" y="6"/>
                      <a:pt x="12398" y="5"/>
                    </a:cubicBezTo>
                    <a:cubicBezTo>
                      <a:pt x="12398" y="4"/>
                      <a:pt x="12399" y="3"/>
                      <a:pt x="12400" y="3"/>
                    </a:cubicBezTo>
                    <a:close/>
                    <a:moveTo>
                      <a:pt x="12408" y="3"/>
                    </a:moveTo>
                    <a:lnTo>
                      <a:pt x="12408" y="3"/>
                    </a:lnTo>
                    <a:cubicBezTo>
                      <a:pt x="12409" y="3"/>
                      <a:pt x="12410" y="4"/>
                      <a:pt x="12410" y="5"/>
                    </a:cubicBezTo>
                    <a:cubicBezTo>
                      <a:pt x="12410" y="6"/>
                      <a:pt x="12409" y="7"/>
                      <a:pt x="12408" y="7"/>
                    </a:cubicBezTo>
                    <a:lnTo>
                      <a:pt x="12408" y="7"/>
                    </a:lnTo>
                    <a:cubicBezTo>
                      <a:pt x="12407" y="7"/>
                      <a:pt x="12406" y="6"/>
                      <a:pt x="12406" y="5"/>
                    </a:cubicBezTo>
                    <a:cubicBezTo>
                      <a:pt x="12406" y="4"/>
                      <a:pt x="12407" y="3"/>
                      <a:pt x="12408" y="3"/>
                    </a:cubicBezTo>
                    <a:close/>
                    <a:moveTo>
                      <a:pt x="12416" y="3"/>
                    </a:moveTo>
                    <a:lnTo>
                      <a:pt x="12416" y="3"/>
                    </a:lnTo>
                    <a:cubicBezTo>
                      <a:pt x="12417" y="3"/>
                      <a:pt x="12418" y="4"/>
                      <a:pt x="12418" y="5"/>
                    </a:cubicBezTo>
                    <a:cubicBezTo>
                      <a:pt x="12418" y="6"/>
                      <a:pt x="12417" y="7"/>
                      <a:pt x="12416" y="7"/>
                    </a:cubicBezTo>
                    <a:lnTo>
                      <a:pt x="12416" y="7"/>
                    </a:lnTo>
                    <a:cubicBezTo>
                      <a:pt x="12415" y="7"/>
                      <a:pt x="12414" y="6"/>
                      <a:pt x="12414" y="5"/>
                    </a:cubicBezTo>
                    <a:cubicBezTo>
                      <a:pt x="12414" y="4"/>
                      <a:pt x="12415" y="3"/>
                      <a:pt x="12416" y="3"/>
                    </a:cubicBezTo>
                    <a:close/>
                    <a:moveTo>
                      <a:pt x="12424" y="3"/>
                    </a:moveTo>
                    <a:lnTo>
                      <a:pt x="12424" y="3"/>
                    </a:lnTo>
                    <a:cubicBezTo>
                      <a:pt x="12425" y="3"/>
                      <a:pt x="12426" y="4"/>
                      <a:pt x="12426" y="5"/>
                    </a:cubicBezTo>
                    <a:cubicBezTo>
                      <a:pt x="12426" y="6"/>
                      <a:pt x="12425" y="7"/>
                      <a:pt x="12424" y="7"/>
                    </a:cubicBezTo>
                    <a:lnTo>
                      <a:pt x="12424" y="7"/>
                    </a:lnTo>
                    <a:cubicBezTo>
                      <a:pt x="12423" y="7"/>
                      <a:pt x="12422" y="6"/>
                      <a:pt x="12422" y="5"/>
                    </a:cubicBezTo>
                    <a:cubicBezTo>
                      <a:pt x="12422" y="4"/>
                      <a:pt x="12423" y="3"/>
                      <a:pt x="12424" y="3"/>
                    </a:cubicBezTo>
                    <a:close/>
                    <a:moveTo>
                      <a:pt x="12432" y="3"/>
                    </a:moveTo>
                    <a:lnTo>
                      <a:pt x="12432" y="3"/>
                    </a:lnTo>
                    <a:cubicBezTo>
                      <a:pt x="12434" y="3"/>
                      <a:pt x="12434" y="4"/>
                      <a:pt x="12434" y="5"/>
                    </a:cubicBezTo>
                    <a:cubicBezTo>
                      <a:pt x="12434" y="6"/>
                      <a:pt x="12434" y="7"/>
                      <a:pt x="12432" y="7"/>
                    </a:cubicBezTo>
                    <a:lnTo>
                      <a:pt x="12432" y="7"/>
                    </a:lnTo>
                    <a:cubicBezTo>
                      <a:pt x="12431" y="7"/>
                      <a:pt x="12430" y="6"/>
                      <a:pt x="12430" y="5"/>
                    </a:cubicBezTo>
                    <a:cubicBezTo>
                      <a:pt x="12430" y="4"/>
                      <a:pt x="12431" y="3"/>
                      <a:pt x="12432" y="3"/>
                    </a:cubicBezTo>
                    <a:close/>
                    <a:moveTo>
                      <a:pt x="12440" y="3"/>
                    </a:moveTo>
                    <a:lnTo>
                      <a:pt x="12440" y="3"/>
                    </a:lnTo>
                    <a:cubicBezTo>
                      <a:pt x="12442" y="3"/>
                      <a:pt x="12442" y="4"/>
                      <a:pt x="12442" y="5"/>
                    </a:cubicBezTo>
                    <a:cubicBezTo>
                      <a:pt x="12442" y="6"/>
                      <a:pt x="12442" y="7"/>
                      <a:pt x="12440" y="7"/>
                    </a:cubicBezTo>
                    <a:lnTo>
                      <a:pt x="12440" y="7"/>
                    </a:lnTo>
                    <a:cubicBezTo>
                      <a:pt x="12439" y="7"/>
                      <a:pt x="12438" y="6"/>
                      <a:pt x="12438" y="5"/>
                    </a:cubicBezTo>
                    <a:cubicBezTo>
                      <a:pt x="12438" y="4"/>
                      <a:pt x="12439" y="3"/>
                      <a:pt x="12440" y="3"/>
                    </a:cubicBezTo>
                    <a:close/>
                    <a:moveTo>
                      <a:pt x="12448" y="3"/>
                    </a:moveTo>
                    <a:lnTo>
                      <a:pt x="12448" y="3"/>
                    </a:lnTo>
                    <a:cubicBezTo>
                      <a:pt x="12450" y="3"/>
                      <a:pt x="12450" y="4"/>
                      <a:pt x="12450" y="5"/>
                    </a:cubicBezTo>
                    <a:cubicBezTo>
                      <a:pt x="12450" y="6"/>
                      <a:pt x="12450" y="7"/>
                      <a:pt x="12448" y="7"/>
                    </a:cubicBezTo>
                    <a:lnTo>
                      <a:pt x="12448" y="7"/>
                    </a:lnTo>
                    <a:cubicBezTo>
                      <a:pt x="12447" y="7"/>
                      <a:pt x="12446" y="6"/>
                      <a:pt x="12446" y="5"/>
                    </a:cubicBezTo>
                    <a:cubicBezTo>
                      <a:pt x="12446" y="4"/>
                      <a:pt x="12447" y="3"/>
                      <a:pt x="12448" y="3"/>
                    </a:cubicBezTo>
                    <a:close/>
                    <a:moveTo>
                      <a:pt x="12456" y="3"/>
                    </a:moveTo>
                    <a:lnTo>
                      <a:pt x="12456" y="3"/>
                    </a:lnTo>
                    <a:cubicBezTo>
                      <a:pt x="12458" y="3"/>
                      <a:pt x="12458" y="4"/>
                      <a:pt x="12458" y="5"/>
                    </a:cubicBezTo>
                    <a:cubicBezTo>
                      <a:pt x="12458" y="6"/>
                      <a:pt x="12458" y="7"/>
                      <a:pt x="12456" y="7"/>
                    </a:cubicBezTo>
                    <a:lnTo>
                      <a:pt x="12456" y="7"/>
                    </a:lnTo>
                    <a:cubicBezTo>
                      <a:pt x="12455" y="7"/>
                      <a:pt x="12454" y="6"/>
                      <a:pt x="12454" y="5"/>
                    </a:cubicBezTo>
                    <a:cubicBezTo>
                      <a:pt x="12454" y="4"/>
                      <a:pt x="12455" y="3"/>
                      <a:pt x="12456" y="3"/>
                    </a:cubicBezTo>
                    <a:close/>
                    <a:moveTo>
                      <a:pt x="12464" y="3"/>
                    </a:moveTo>
                    <a:lnTo>
                      <a:pt x="12464" y="3"/>
                    </a:lnTo>
                    <a:cubicBezTo>
                      <a:pt x="12466" y="3"/>
                      <a:pt x="12466" y="4"/>
                      <a:pt x="12466" y="5"/>
                    </a:cubicBezTo>
                    <a:cubicBezTo>
                      <a:pt x="12466" y="6"/>
                      <a:pt x="12466" y="7"/>
                      <a:pt x="12464" y="7"/>
                    </a:cubicBezTo>
                    <a:lnTo>
                      <a:pt x="12464" y="7"/>
                    </a:lnTo>
                    <a:cubicBezTo>
                      <a:pt x="12463" y="7"/>
                      <a:pt x="12462" y="6"/>
                      <a:pt x="12462" y="5"/>
                    </a:cubicBezTo>
                    <a:cubicBezTo>
                      <a:pt x="12462" y="4"/>
                      <a:pt x="12463" y="3"/>
                      <a:pt x="12464" y="3"/>
                    </a:cubicBezTo>
                    <a:close/>
                    <a:moveTo>
                      <a:pt x="12472" y="3"/>
                    </a:moveTo>
                    <a:lnTo>
                      <a:pt x="12472" y="3"/>
                    </a:lnTo>
                    <a:cubicBezTo>
                      <a:pt x="12474" y="3"/>
                      <a:pt x="12474" y="4"/>
                      <a:pt x="12474" y="5"/>
                    </a:cubicBezTo>
                    <a:cubicBezTo>
                      <a:pt x="12474" y="6"/>
                      <a:pt x="12474" y="7"/>
                      <a:pt x="12472" y="7"/>
                    </a:cubicBezTo>
                    <a:lnTo>
                      <a:pt x="12472" y="7"/>
                    </a:lnTo>
                    <a:cubicBezTo>
                      <a:pt x="12471" y="7"/>
                      <a:pt x="12470" y="6"/>
                      <a:pt x="12470" y="5"/>
                    </a:cubicBezTo>
                    <a:cubicBezTo>
                      <a:pt x="12470" y="4"/>
                      <a:pt x="12471" y="3"/>
                      <a:pt x="12472" y="3"/>
                    </a:cubicBezTo>
                    <a:close/>
                    <a:moveTo>
                      <a:pt x="12480" y="3"/>
                    </a:moveTo>
                    <a:lnTo>
                      <a:pt x="12480" y="3"/>
                    </a:lnTo>
                    <a:cubicBezTo>
                      <a:pt x="12482" y="3"/>
                      <a:pt x="12482" y="4"/>
                      <a:pt x="12482" y="5"/>
                    </a:cubicBezTo>
                    <a:cubicBezTo>
                      <a:pt x="12482" y="6"/>
                      <a:pt x="12482" y="7"/>
                      <a:pt x="12480" y="7"/>
                    </a:cubicBezTo>
                    <a:lnTo>
                      <a:pt x="12480" y="7"/>
                    </a:lnTo>
                    <a:cubicBezTo>
                      <a:pt x="12479" y="7"/>
                      <a:pt x="12478" y="6"/>
                      <a:pt x="12478" y="5"/>
                    </a:cubicBezTo>
                    <a:cubicBezTo>
                      <a:pt x="12478" y="4"/>
                      <a:pt x="12479" y="3"/>
                      <a:pt x="12480" y="3"/>
                    </a:cubicBezTo>
                    <a:close/>
                    <a:moveTo>
                      <a:pt x="12488" y="3"/>
                    </a:moveTo>
                    <a:lnTo>
                      <a:pt x="12488" y="3"/>
                    </a:lnTo>
                    <a:cubicBezTo>
                      <a:pt x="12490" y="3"/>
                      <a:pt x="12490" y="4"/>
                      <a:pt x="12490" y="5"/>
                    </a:cubicBezTo>
                    <a:cubicBezTo>
                      <a:pt x="12490" y="6"/>
                      <a:pt x="12490" y="7"/>
                      <a:pt x="12488" y="7"/>
                    </a:cubicBezTo>
                    <a:lnTo>
                      <a:pt x="12488" y="7"/>
                    </a:lnTo>
                    <a:cubicBezTo>
                      <a:pt x="12487" y="7"/>
                      <a:pt x="12486" y="6"/>
                      <a:pt x="12486" y="5"/>
                    </a:cubicBezTo>
                    <a:cubicBezTo>
                      <a:pt x="12486" y="4"/>
                      <a:pt x="12487" y="3"/>
                      <a:pt x="12488" y="3"/>
                    </a:cubicBezTo>
                    <a:close/>
                    <a:moveTo>
                      <a:pt x="12496" y="3"/>
                    </a:moveTo>
                    <a:lnTo>
                      <a:pt x="12496" y="3"/>
                    </a:lnTo>
                    <a:cubicBezTo>
                      <a:pt x="12498" y="3"/>
                      <a:pt x="12498" y="4"/>
                      <a:pt x="12498" y="5"/>
                    </a:cubicBezTo>
                    <a:cubicBezTo>
                      <a:pt x="12498" y="6"/>
                      <a:pt x="12498" y="7"/>
                      <a:pt x="12496" y="7"/>
                    </a:cubicBezTo>
                    <a:lnTo>
                      <a:pt x="12496" y="7"/>
                    </a:lnTo>
                    <a:cubicBezTo>
                      <a:pt x="12495" y="7"/>
                      <a:pt x="12494" y="6"/>
                      <a:pt x="12494" y="5"/>
                    </a:cubicBezTo>
                    <a:cubicBezTo>
                      <a:pt x="12494" y="4"/>
                      <a:pt x="12495" y="3"/>
                      <a:pt x="12496" y="3"/>
                    </a:cubicBezTo>
                    <a:close/>
                    <a:moveTo>
                      <a:pt x="12504" y="3"/>
                    </a:moveTo>
                    <a:lnTo>
                      <a:pt x="12504" y="3"/>
                    </a:lnTo>
                    <a:cubicBezTo>
                      <a:pt x="12506" y="3"/>
                      <a:pt x="12506" y="4"/>
                      <a:pt x="12506" y="5"/>
                    </a:cubicBezTo>
                    <a:cubicBezTo>
                      <a:pt x="12506" y="6"/>
                      <a:pt x="12506" y="7"/>
                      <a:pt x="12504" y="7"/>
                    </a:cubicBezTo>
                    <a:lnTo>
                      <a:pt x="12504" y="7"/>
                    </a:lnTo>
                    <a:cubicBezTo>
                      <a:pt x="12503" y="7"/>
                      <a:pt x="12502" y="6"/>
                      <a:pt x="12502" y="5"/>
                    </a:cubicBezTo>
                    <a:cubicBezTo>
                      <a:pt x="12502" y="4"/>
                      <a:pt x="12503" y="3"/>
                      <a:pt x="12504" y="3"/>
                    </a:cubicBezTo>
                    <a:close/>
                    <a:moveTo>
                      <a:pt x="12512" y="3"/>
                    </a:moveTo>
                    <a:lnTo>
                      <a:pt x="12512" y="3"/>
                    </a:lnTo>
                    <a:cubicBezTo>
                      <a:pt x="12514" y="3"/>
                      <a:pt x="12514" y="4"/>
                      <a:pt x="12514" y="5"/>
                    </a:cubicBezTo>
                    <a:cubicBezTo>
                      <a:pt x="12514" y="6"/>
                      <a:pt x="12514" y="7"/>
                      <a:pt x="12512" y="7"/>
                    </a:cubicBezTo>
                    <a:lnTo>
                      <a:pt x="12512" y="7"/>
                    </a:lnTo>
                    <a:cubicBezTo>
                      <a:pt x="12511" y="7"/>
                      <a:pt x="12510" y="6"/>
                      <a:pt x="12510" y="5"/>
                    </a:cubicBezTo>
                    <a:cubicBezTo>
                      <a:pt x="12510" y="4"/>
                      <a:pt x="12511" y="3"/>
                      <a:pt x="12512" y="3"/>
                    </a:cubicBezTo>
                    <a:close/>
                    <a:moveTo>
                      <a:pt x="12520" y="3"/>
                    </a:moveTo>
                    <a:lnTo>
                      <a:pt x="12520" y="3"/>
                    </a:lnTo>
                    <a:cubicBezTo>
                      <a:pt x="12522" y="3"/>
                      <a:pt x="12522" y="4"/>
                      <a:pt x="12522" y="5"/>
                    </a:cubicBezTo>
                    <a:cubicBezTo>
                      <a:pt x="12522" y="6"/>
                      <a:pt x="12522" y="7"/>
                      <a:pt x="12520" y="7"/>
                    </a:cubicBezTo>
                    <a:lnTo>
                      <a:pt x="12520" y="7"/>
                    </a:lnTo>
                    <a:cubicBezTo>
                      <a:pt x="12519" y="7"/>
                      <a:pt x="12518" y="6"/>
                      <a:pt x="12518" y="5"/>
                    </a:cubicBezTo>
                    <a:cubicBezTo>
                      <a:pt x="12518" y="4"/>
                      <a:pt x="12519" y="3"/>
                      <a:pt x="12520" y="3"/>
                    </a:cubicBezTo>
                    <a:close/>
                    <a:moveTo>
                      <a:pt x="12528" y="3"/>
                    </a:moveTo>
                    <a:lnTo>
                      <a:pt x="12528" y="3"/>
                    </a:lnTo>
                    <a:cubicBezTo>
                      <a:pt x="12530" y="3"/>
                      <a:pt x="12530" y="4"/>
                      <a:pt x="12530" y="5"/>
                    </a:cubicBezTo>
                    <a:cubicBezTo>
                      <a:pt x="12530" y="6"/>
                      <a:pt x="12530" y="7"/>
                      <a:pt x="12528" y="7"/>
                    </a:cubicBezTo>
                    <a:lnTo>
                      <a:pt x="12528" y="7"/>
                    </a:lnTo>
                    <a:cubicBezTo>
                      <a:pt x="12527" y="7"/>
                      <a:pt x="12526" y="6"/>
                      <a:pt x="12526" y="5"/>
                    </a:cubicBezTo>
                    <a:cubicBezTo>
                      <a:pt x="12526" y="4"/>
                      <a:pt x="12527" y="3"/>
                      <a:pt x="12528" y="3"/>
                    </a:cubicBezTo>
                    <a:close/>
                    <a:moveTo>
                      <a:pt x="12536" y="3"/>
                    </a:moveTo>
                    <a:lnTo>
                      <a:pt x="12536" y="3"/>
                    </a:lnTo>
                    <a:cubicBezTo>
                      <a:pt x="12538" y="3"/>
                      <a:pt x="12538" y="4"/>
                      <a:pt x="12538" y="5"/>
                    </a:cubicBezTo>
                    <a:cubicBezTo>
                      <a:pt x="12538" y="6"/>
                      <a:pt x="12538" y="7"/>
                      <a:pt x="12536" y="7"/>
                    </a:cubicBezTo>
                    <a:lnTo>
                      <a:pt x="12536" y="7"/>
                    </a:lnTo>
                    <a:cubicBezTo>
                      <a:pt x="12535" y="7"/>
                      <a:pt x="12534" y="6"/>
                      <a:pt x="12534" y="5"/>
                    </a:cubicBezTo>
                    <a:cubicBezTo>
                      <a:pt x="12534" y="4"/>
                      <a:pt x="12535" y="3"/>
                      <a:pt x="12536" y="3"/>
                    </a:cubicBezTo>
                    <a:close/>
                    <a:moveTo>
                      <a:pt x="12544" y="3"/>
                    </a:moveTo>
                    <a:lnTo>
                      <a:pt x="12544" y="3"/>
                    </a:lnTo>
                    <a:cubicBezTo>
                      <a:pt x="12546" y="3"/>
                      <a:pt x="12546" y="4"/>
                      <a:pt x="12546" y="5"/>
                    </a:cubicBezTo>
                    <a:cubicBezTo>
                      <a:pt x="12546" y="6"/>
                      <a:pt x="12546" y="7"/>
                      <a:pt x="12544" y="7"/>
                    </a:cubicBezTo>
                    <a:lnTo>
                      <a:pt x="12544" y="7"/>
                    </a:lnTo>
                    <a:cubicBezTo>
                      <a:pt x="12543" y="7"/>
                      <a:pt x="12542" y="6"/>
                      <a:pt x="12542" y="5"/>
                    </a:cubicBezTo>
                    <a:cubicBezTo>
                      <a:pt x="12542" y="4"/>
                      <a:pt x="12543" y="3"/>
                      <a:pt x="12544" y="3"/>
                    </a:cubicBezTo>
                    <a:close/>
                    <a:moveTo>
                      <a:pt x="12552" y="3"/>
                    </a:moveTo>
                    <a:lnTo>
                      <a:pt x="12552" y="3"/>
                    </a:lnTo>
                    <a:cubicBezTo>
                      <a:pt x="12554" y="3"/>
                      <a:pt x="12554" y="4"/>
                      <a:pt x="12554" y="5"/>
                    </a:cubicBezTo>
                    <a:cubicBezTo>
                      <a:pt x="12554" y="6"/>
                      <a:pt x="12554" y="7"/>
                      <a:pt x="12552" y="7"/>
                    </a:cubicBezTo>
                    <a:lnTo>
                      <a:pt x="12552" y="7"/>
                    </a:lnTo>
                    <a:cubicBezTo>
                      <a:pt x="12551" y="7"/>
                      <a:pt x="12550" y="6"/>
                      <a:pt x="12550" y="5"/>
                    </a:cubicBezTo>
                    <a:cubicBezTo>
                      <a:pt x="12550" y="4"/>
                      <a:pt x="12551" y="3"/>
                      <a:pt x="12552" y="3"/>
                    </a:cubicBezTo>
                    <a:close/>
                    <a:moveTo>
                      <a:pt x="12560" y="3"/>
                    </a:moveTo>
                    <a:lnTo>
                      <a:pt x="12560" y="3"/>
                    </a:lnTo>
                    <a:cubicBezTo>
                      <a:pt x="12562" y="3"/>
                      <a:pt x="12562" y="4"/>
                      <a:pt x="12562" y="5"/>
                    </a:cubicBezTo>
                    <a:cubicBezTo>
                      <a:pt x="12562" y="6"/>
                      <a:pt x="12562" y="7"/>
                      <a:pt x="12560" y="7"/>
                    </a:cubicBezTo>
                    <a:lnTo>
                      <a:pt x="12560" y="7"/>
                    </a:lnTo>
                    <a:cubicBezTo>
                      <a:pt x="12559" y="7"/>
                      <a:pt x="12558" y="6"/>
                      <a:pt x="12558" y="5"/>
                    </a:cubicBezTo>
                    <a:cubicBezTo>
                      <a:pt x="12558" y="4"/>
                      <a:pt x="12559" y="3"/>
                      <a:pt x="12560" y="3"/>
                    </a:cubicBezTo>
                    <a:close/>
                    <a:moveTo>
                      <a:pt x="12568" y="3"/>
                    </a:moveTo>
                    <a:lnTo>
                      <a:pt x="12568" y="3"/>
                    </a:lnTo>
                    <a:cubicBezTo>
                      <a:pt x="12570" y="3"/>
                      <a:pt x="12570" y="4"/>
                      <a:pt x="12570" y="5"/>
                    </a:cubicBezTo>
                    <a:cubicBezTo>
                      <a:pt x="12570" y="6"/>
                      <a:pt x="12570" y="7"/>
                      <a:pt x="12568" y="7"/>
                    </a:cubicBezTo>
                    <a:lnTo>
                      <a:pt x="12568" y="7"/>
                    </a:lnTo>
                    <a:cubicBezTo>
                      <a:pt x="12567" y="7"/>
                      <a:pt x="12566" y="6"/>
                      <a:pt x="12566" y="5"/>
                    </a:cubicBezTo>
                    <a:cubicBezTo>
                      <a:pt x="12566" y="4"/>
                      <a:pt x="12567" y="3"/>
                      <a:pt x="12568" y="3"/>
                    </a:cubicBezTo>
                    <a:close/>
                    <a:moveTo>
                      <a:pt x="12576" y="3"/>
                    </a:moveTo>
                    <a:lnTo>
                      <a:pt x="12576" y="3"/>
                    </a:lnTo>
                    <a:cubicBezTo>
                      <a:pt x="12578" y="3"/>
                      <a:pt x="12578" y="4"/>
                      <a:pt x="12578" y="5"/>
                    </a:cubicBezTo>
                    <a:cubicBezTo>
                      <a:pt x="12578" y="6"/>
                      <a:pt x="12578" y="7"/>
                      <a:pt x="12576" y="7"/>
                    </a:cubicBezTo>
                    <a:lnTo>
                      <a:pt x="12576" y="7"/>
                    </a:lnTo>
                    <a:cubicBezTo>
                      <a:pt x="12575" y="7"/>
                      <a:pt x="12574" y="6"/>
                      <a:pt x="12574" y="5"/>
                    </a:cubicBezTo>
                    <a:cubicBezTo>
                      <a:pt x="12574" y="4"/>
                      <a:pt x="12575" y="3"/>
                      <a:pt x="12576" y="3"/>
                    </a:cubicBezTo>
                    <a:close/>
                    <a:moveTo>
                      <a:pt x="12584" y="3"/>
                    </a:moveTo>
                    <a:lnTo>
                      <a:pt x="12584" y="3"/>
                    </a:lnTo>
                    <a:cubicBezTo>
                      <a:pt x="12586" y="3"/>
                      <a:pt x="12586" y="4"/>
                      <a:pt x="12586" y="5"/>
                    </a:cubicBezTo>
                    <a:cubicBezTo>
                      <a:pt x="12586" y="6"/>
                      <a:pt x="12586" y="7"/>
                      <a:pt x="12584" y="7"/>
                    </a:cubicBezTo>
                    <a:lnTo>
                      <a:pt x="12584" y="7"/>
                    </a:lnTo>
                    <a:cubicBezTo>
                      <a:pt x="12583" y="7"/>
                      <a:pt x="12582" y="6"/>
                      <a:pt x="12582" y="5"/>
                    </a:cubicBezTo>
                    <a:cubicBezTo>
                      <a:pt x="12582" y="4"/>
                      <a:pt x="12583" y="3"/>
                      <a:pt x="12584" y="3"/>
                    </a:cubicBezTo>
                    <a:close/>
                    <a:moveTo>
                      <a:pt x="12592" y="3"/>
                    </a:moveTo>
                    <a:lnTo>
                      <a:pt x="12592" y="3"/>
                    </a:lnTo>
                    <a:cubicBezTo>
                      <a:pt x="12594" y="3"/>
                      <a:pt x="12594" y="4"/>
                      <a:pt x="12594" y="5"/>
                    </a:cubicBezTo>
                    <a:cubicBezTo>
                      <a:pt x="12594" y="6"/>
                      <a:pt x="12594" y="7"/>
                      <a:pt x="12592" y="7"/>
                    </a:cubicBezTo>
                    <a:lnTo>
                      <a:pt x="12592" y="7"/>
                    </a:lnTo>
                    <a:cubicBezTo>
                      <a:pt x="12591" y="7"/>
                      <a:pt x="12590" y="6"/>
                      <a:pt x="12590" y="5"/>
                    </a:cubicBezTo>
                    <a:cubicBezTo>
                      <a:pt x="12590" y="4"/>
                      <a:pt x="12591" y="3"/>
                      <a:pt x="12592" y="3"/>
                    </a:cubicBezTo>
                    <a:close/>
                    <a:moveTo>
                      <a:pt x="12600" y="3"/>
                    </a:moveTo>
                    <a:lnTo>
                      <a:pt x="12601" y="3"/>
                    </a:lnTo>
                    <a:cubicBezTo>
                      <a:pt x="12602" y="3"/>
                      <a:pt x="12603" y="4"/>
                      <a:pt x="12603" y="5"/>
                    </a:cubicBezTo>
                    <a:cubicBezTo>
                      <a:pt x="12603" y="6"/>
                      <a:pt x="12602" y="7"/>
                      <a:pt x="12601" y="7"/>
                    </a:cubicBezTo>
                    <a:lnTo>
                      <a:pt x="12600" y="7"/>
                    </a:lnTo>
                    <a:cubicBezTo>
                      <a:pt x="12599" y="7"/>
                      <a:pt x="12598" y="6"/>
                      <a:pt x="12598" y="5"/>
                    </a:cubicBezTo>
                    <a:cubicBezTo>
                      <a:pt x="12598" y="4"/>
                      <a:pt x="12599" y="3"/>
                      <a:pt x="12600" y="3"/>
                    </a:cubicBezTo>
                    <a:close/>
                    <a:moveTo>
                      <a:pt x="12609" y="3"/>
                    </a:moveTo>
                    <a:lnTo>
                      <a:pt x="12609" y="3"/>
                    </a:lnTo>
                    <a:cubicBezTo>
                      <a:pt x="12610" y="3"/>
                      <a:pt x="12611" y="4"/>
                      <a:pt x="12611" y="5"/>
                    </a:cubicBezTo>
                    <a:cubicBezTo>
                      <a:pt x="12611" y="6"/>
                      <a:pt x="12610" y="7"/>
                      <a:pt x="12609" y="7"/>
                    </a:cubicBezTo>
                    <a:lnTo>
                      <a:pt x="12609" y="7"/>
                    </a:lnTo>
                    <a:cubicBezTo>
                      <a:pt x="12607" y="7"/>
                      <a:pt x="12607" y="6"/>
                      <a:pt x="12607" y="5"/>
                    </a:cubicBezTo>
                    <a:cubicBezTo>
                      <a:pt x="12607" y="4"/>
                      <a:pt x="12607" y="3"/>
                      <a:pt x="12609" y="3"/>
                    </a:cubicBezTo>
                    <a:close/>
                    <a:moveTo>
                      <a:pt x="12617" y="3"/>
                    </a:moveTo>
                    <a:lnTo>
                      <a:pt x="12617" y="3"/>
                    </a:lnTo>
                    <a:cubicBezTo>
                      <a:pt x="12618" y="3"/>
                      <a:pt x="12619" y="4"/>
                      <a:pt x="12619" y="5"/>
                    </a:cubicBezTo>
                    <a:cubicBezTo>
                      <a:pt x="12619" y="6"/>
                      <a:pt x="12618" y="7"/>
                      <a:pt x="12617" y="7"/>
                    </a:cubicBezTo>
                    <a:lnTo>
                      <a:pt x="12617" y="7"/>
                    </a:lnTo>
                    <a:cubicBezTo>
                      <a:pt x="12615" y="7"/>
                      <a:pt x="12615" y="6"/>
                      <a:pt x="12615" y="5"/>
                    </a:cubicBezTo>
                    <a:cubicBezTo>
                      <a:pt x="12615" y="4"/>
                      <a:pt x="12615" y="3"/>
                      <a:pt x="12617" y="3"/>
                    </a:cubicBezTo>
                    <a:close/>
                    <a:moveTo>
                      <a:pt x="12625" y="3"/>
                    </a:moveTo>
                    <a:lnTo>
                      <a:pt x="12625" y="3"/>
                    </a:lnTo>
                    <a:cubicBezTo>
                      <a:pt x="12626" y="3"/>
                      <a:pt x="12627" y="4"/>
                      <a:pt x="12627" y="5"/>
                    </a:cubicBezTo>
                    <a:cubicBezTo>
                      <a:pt x="12627" y="6"/>
                      <a:pt x="12626" y="7"/>
                      <a:pt x="12625" y="7"/>
                    </a:cubicBezTo>
                    <a:lnTo>
                      <a:pt x="12625" y="7"/>
                    </a:lnTo>
                    <a:cubicBezTo>
                      <a:pt x="12623" y="7"/>
                      <a:pt x="12623" y="6"/>
                      <a:pt x="12623" y="5"/>
                    </a:cubicBezTo>
                    <a:cubicBezTo>
                      <a:pt x="12623" y="4"/>
                      <a:pt x="12623" y="3"/>
                      <a:pt x="12625" y="3"/>
                    </a:cubicBezTo>
                    <a:close/>
                    <a:moveTo>
                      <a:pt x="12633" y="3"/>
                    </a:moveTo>
                    <a:lnTo>
                      <a:pt x="12633" y="3"/>
                    </a:lnTo>
                    <a:cubicBezTo>
                      <a:pt x="12634" y="3"/>
                      <a:pt x="12635" y="4"/>
                      <a:pt x="12635" y="5"/>
                    </a:cubicBezTo>
                    <a:cubicBezTo>
                      <a:pt x="12635" y="6"/>
                      <a:pt x="12634" y="7"/>
                      <a:pt x="12633" y="7"/>
                    </a:cubicBezTo>
                    <a:lnTo>
                      <a:pt x="12633" y="7"/>
                    </a:lnTo>
                    <a:cubicBezTo>
                      <a:pt x="12631" y="7"/>
                      <a:pt x="12631" y="6"/>
                      <a:pt x="12631" y="5"/>
                    </a:cubicBezTo>
                    <a:cubicBezTo>
                      <a:pt x="12631" y="4"/>
                      <a:pt x="12631" y="3"/>
                      <a:pt x="12633" y="3"/>
                    </a:cubicBezTo>
                    <a:close/>
                    <a:moveTo>
                      <a:pt x="12641" y="3"/>
                    </a:moveTo>
                    <a:lnTo>
                      <a:pt x="12641" y="3"/>
                    </a:lnTo>
                    <a:cubicBezTo>
                      <a:pt x="12642" y="3"/>
                      <a:pt x="12643" y="4"/>
                      <a:pt x="12643" y="5"/>
                    </a:cubicBezTo>
                    <a:cubicBezTo>
                      <a:pt x="12643" y="6"/>
                      <a:pt x="12642" y="7"/>
                      <a:pt x="12641" y="7"/>
                    </a:cubicBezTo>
                    <a:lnTo>
                      <a:pt x="12641" y="7"/>
                    </a:lnTo>
                    <a:cubicBezTo>
                      <a:pt x="12639" y="7"/>
                      <a:pt x="12639" y="6"/>
                      <a:pt x="12639" y="5"/>
                    </a:cubicBezTo>
                    <a:cubicBezTo>
                      <a:pt x="12639" y="4"/>
                      <a:pt x="12639" y="3"/>
                      <a:pt x="12641" y="3"/>
                    </a:cubicBezTo>
                    <a:close/>
                    <a:moveTo>
                      <a:pt x="12649" y="3"/>
                    </a:moveTo>
                    <a:lnTo>
                      <a:pt x="12649" y="3"/>
                    </a:lnTo>
                    <a:cubicBezTo>
                      <a:pt x="12650" y="3"/>
                      <a:pt x="12651" y="4"/>
                      <a:pt x="12651" y="5"/>
                    </a:cubicBezTo>
                    <a:cubicBezTo>
                      <a:pt x="12651" y="6"/>
                      <a:pt x="12650" y="7"/>
                      <a:pt x="12649" y="7"/>
                    </a:cubicBezTo>
                    <a:lnTo>
                      <a:pt x="12649" y="7"/>
                    </a:lnTo>
                    <a:cubicBezTo>
                      <a:pt x="12647" y="7"/>
                      <a:pt x="12647" y="6"/>
                      <a:pt x="12647" y="5"/>
                    </a:cubicBezTo>
                    <a:cubicBezTo>
                      <a:pt x="12647" y="4"/>
                      <a:pt x="12647" y="3"/>
                      <a:pt x="12649" y="3"/>
                    </a:cubicBezTo>
                    <a:close/>
                    <a:moveTo>
                      <a:pt x="12657" y="3"/>
                    </a:moveTo>
                    <a:lnTo>
                      <a:pt x="12657" y="3"/>
                    </a:lnTo>
                    <a:cubicBezTo>
                      <a:pt x="12658" y="3"/>
                      <a:pt x="12659" y="4"/>
                      <a:pt x="12659" y="5"/>
                    </a:cubicBezTo>
                    <a:cubicBezTo>
                      <a:pt x="12659" y="6"/>
                      <a:pt x="12658" y="7"/>
                      <a:pt x="12657" y="7"/>
                    </a:cubicBezTo>
                    <a:lnTo>
                      <a:pt x="12657" y="7"/>
                    </a:lnTo>
                    <a:cubicBezTo>
                      <a:pt x="12655" y="7"/>
                      <a:pt x="12655" y="6"/>
                      <a:pt x="12655" y="5"/>
                    </a:cubicBezTo>
                    <a:cubicBezTo>
                      <a:pt x="12655" y="4"/>
                      <a:pt x="12655" y="3"/>
                      <a:pt x="12657" y="3"/>
                    </a:cubicBezTo>
                    <a:close/>
                    <a:moveTo>
                      <a:pt x="12665" y="3"/>
                    </a:moveTo>
                    <a:lnTo>
                      <a:pt x="12665" y="3"/>
                    </a:lnTo>
                    <a:cubicBezTo>
                      <a:pt x="12666" y="3"/>
                      <a:pt x="12667" y="4"/>
                      <a:pt x="12667" y="5"/>
                    </a:cubicBezTo>
                    <a:cubicBezTo>
                      <a:pt x="12667" y="6"/>
                      <a:pt x="12666" y="7"/>
                      <a:pt x="12665" y="7"/>
                    </a:cubicBezTo>
                    <a:lnTo>
                      <a:pt x="12665" y="7"/>
                    </a:lnTo>
                    <a:cubicBezTo>
                      <a:pt x="12663" y="7"/>
                      <a:pt x="12663" y="6"/>
                      <a:pt x="12663" y="5"/>
                    </a:cubicBezTo>
                    <a:cubicBezTo>
                      <a:pt x="12663" y="4"/>
                      <a:pt x="12663" y="3"/>
                      <a:pt x="12665" y="3"/>
                    </a:cubicBezTo>
                    <a:close/>
                    <a:moveTo>
                      <a:pt x="12673" y="3"/>
                    </a:moveTo>
                    <a:lnTo>
                      <a:pt x="12673" y="3"/>
                    </a:lnTo>
                    <a:cubicBezTo>
                      <a:pt x="12674" y="3"/>
                      <a:pt x="12675" y="4"/>
                      <a:pt x="12675" y="5"/>
                    </a:cubicBezTo>
                    <a:cubicBezTo>
                      <a:pt x="12675" y="6"/>
                      <a:pt x="12674" y="7"/>
                      <a:pt x="12673" y="7"/>
                    </a:cubicBezTo>
                    <a:lnTo>
                      <a:pt x="12673" y="7"/>
                    </a:lnTo>
                    <a:cubicBezTo>
                      <a:pt x="12671" y="7"/>
                      <a:pt x="12671" y="6"/>
                      <a:pt x="12671" y="5"/>
                    </a:cubicBezTo>
                    <a:cubicBezTo>
                      <a:pt x="12671" y="4"/>
                      <a:pt x="12671" y="3"/>
                      <a:pt x="12673" y="3"/>
                    </a:cubicBezTo>
                    <a:close/>
                    <a:moveTo>
                      <a:pt x="12681" y="3"/>
                    </a:moveTo>
                    <a:lnTo>
                      <a:pt x="12681" y="3"/>
                    </a:lnTo>
                    <a:cubicBezTo>
                      <a:pt x="12682" y="3"/>
                      <a:pt x="12683" y="4"/>
                      <a:pt x="12683" y="5"/>
                    </a:cubicBezTo>
                    <a:cubicBezTo>
                      <a:pt x="12683" y="6"/>
                      <a:pt x="12682" y="7"/>
                      <a:pt x="12681" y="7"/>
                    </a:cubicBezTo>
                    <a:lnTo>
                      <a:pt x="12681" y="7"/>
                    </a:lnTo>
                    <a:cubicBezTo>
                      <a:pt x="12679" y="7"/>
                      <a:pt x="12679" y="6"/>
                      <a:pt x="12679" y="5"/>
                    </a:cubicBezTo>
                    <a:cubicBezTo>
                      <a:pt x="12679" y="4"/>
                      <a:pt x="12679" y="3"/>
                      <a:pt x="12681" y="3"/>
                    </a:cubicBezTo>
                    <a:close/>
                    <a:moveTo>
                      <a:pt x="12689" y="3"/>
                    </a:moveTo>
                    <a:lnTo>
                      <a:pt x="12689" y="3"/>
                    </a:lnTo>
                    <a:cubicBezTo>
                      <a:pt x="12690" y="3"/>
                      <a:pt x="12691" y="4"/>
                      <a:pt x="12691" y="5"/>
                    </a:cubicBezTo>
                    <a:cubicBezTo>
                      <a:pt x="12691" y="6"/>
                      <a:pt x="12690" y="7"/>
                      <a:pt x="12689" y="7"/>
                    </a:cubicBezTo>
                    <a:lnTo>
                      <a:pt x="12689" y="7"/>
                    </a:lnTo>
                    <a:cubicBezTo>
                      <a:pt x="12687" y="7"/>
                      <a:pt x="12687" y="6"/>
                      <a:pt x="12687" y="5"/>
                    </a:cubicBezTo>
                    <a:cubicBezTo>
                      <a:pt x="12687" y="4"/>
                      <a:pt x="12687" y="3"/>
                      <a:pt x="12689" y="3"/>
                    </a:cubicBezTo>
                    <a:close/>
                    <a:moveTo>
                      <a:pt x="12697" y="3"/>
                    </a:moveTo>
                    <a:lnTo>
                      <a:pt x="12697" y="3"/>
                    </a:lnTo>
                    <a:cubicBezTo>
                      <a:pt x="12698" y="3"/>
                      <a:pt x="12699" y="4"/>
                      <a:pt x="12699" y="5"/>
                    </a:cubicBezTo>
                    <a:cubicBezTo>
                      <a:pt x="12699" y="6"/>
                      <a:pt x="12698" y="7"/>
                      <a:pt x="12697" y="7"/>
                    </a:cubicBezTo>
                    <a:lnTo>
                      <a:pt x="12697" y="7"/>
                    </a:lnTo>
                    <a:cubicBezTo>
                      <a:pt x="12695" y="7"/>
                      <a:pt x="12695" y="6"/>
                      <a:pt x="12695" y="5"/>
                    </a:cubicBezTo>
                    <a:cubicBezTo>
                      <a:pt x="12695" y="4"/>
                      <a:pt x="12695" y="3"/>
                      <a:pt x="12697" y="3"/>
                    </a:cubicBezTo>
                    <a:close/>
                    <a:moveTo>
                      <a:pt x="12705" y="3"/>
                    </a:moveTo>
                    <a:lnTo>
                      <a:pt x="12705" y="3"/>
                    </a:lnTo>
                    <a:cubicBezTo>
                      <a:pt x="12706" y="3"/>
                      <a:pt x="12707" y="4"/>
                      <a:pt x="12707" y="5"/>
                    </a:cubicBezTo>
                    <a:cubicBezTo>
                      <a:pt x="12707" y="6"/>
                      <a:pt x="12706" y="7"/>
                      <a:pt x="12705" y="7"/>
                    </a:cubicBezTo>
                    <a:lnTo>
                      <a:pt x="12705" y="7"/>
                    </a:lnTo>
                    <a:cubicBezTo>
                      <a:pt x="12703" y="7"/>
                      <a:pt x="12703" y="6"/>
                      <a:pt x="12703" y="5"/>
                    </a:cubicBezTo>
                    <a:cubicBezTo>
                      <a:pt x="12703" y="4"/>
                      <a:pt x="12703" y="3"/>
                      <a:pt x="12705" y="3"/>
                    </a:cubicBezTo>
                    <a:close/>
                    <a:moveTo>
                      <a:pt x="12713" y="3"/>
                    </a:moveTo>
                    <a:lnTo>
                      <a:pt x="12713" y="3"/>
                    </a:lnTo>
                    <a:cubicBezTo>
                      <a:pt x="12714" y="3"/>
                      <a:pt x="12715" y="4"/>
                      <a:pt x="12715" y="5"/>
                    </a:cubicBezTo>
                    <a:cubicBezTo>
                      <a:pt x="12715" y="6"/>
                      <a:pt x="12714" y="7"/>
                      <a:pt x="12713" y="7"/>
                    </a:cubicBezTo>
                    <a:lnTo>
                      <a:pt x="12713" y="7"/>
                    </a:lnTo>
                    <a:cubicBezTo>
                      <a:pt x="12711" y="7"/>
                      <a:pt x="12711" y="6"/>
                      <a:pt x="12711" y="5"/>
                    </a:cubicBezTo>
                    <a:cubicBezTo>
                      <a:pt x="12711" y="4"/>
                      <a:pt x="12711" y="3"/>
                      <a:pt x="12713" y="3"/>
                    </a:cubicBezTo>
                    <a:close/>
                    <a:moveTo>
                      <a:pt x="12721" y="3"/>
                    </a:moveTo>
                    <a:lnTo>
                      <a:pt x="12721" y="3"/>
                    </a:lnTo>
                    <a:cubicBezTo>
                      <a:pt x="12722" y="3"/>
                      <a:pt x="12723" y="4"/>
                      <a:pt x="12723" y="5"/>
                    </a:cubicBezTo>
                    <a:cubicBezTo>
                      <a:pt x="12723" y="6"/>
                      <a:pt x="12722" y="7"/>
                      <a:pt x="12721" y="7"/>
                    </a:cubicBezTo>
                    <a:lnTo>
                      <a:pt x="12721" y="7"/>
                    </a:lnTo>
                    <a:cubicBezTo>
                      <a:pt x="12719" y="7"/>
                      <a:pt x="12719" y="6"/>
                      <a:pt x="12719" y="5"/>
                    </a:cubicBezTo>
                    <a:cubicBezTo>
                      <a:pt x="12719" y="4"/>
                      <a:pt x="12719" y="3"/>
                      <a:pt x="12721" y="3"/>
                    </a:cubicBezTo>
                    <a:close/>
                    <a:moveTo>
                      <a:pt x="12729" y="3"/>
                    </a:moveTo>
                    <a:lnTo>
                      <a:pt x="12729" y="3"/>
                    </a:lnTo>
                    <a:cubicBezTo>
                      <a:pt x="12730" y="3"/>
                      <a:pt x="12731" y="4"/>
                      <a:pt x="12731" y="5"/>
                    </a:cubicBezTo>
                    <a:cubicBezTo>
                      <a:pt x="12731" y="6"/>
                      <a:pt x="12730" y="7"/>
                      <a:pt x="12729" y="7"/>
                    </a:cubicBezTo>
                    <a:lnTo>
                      <a:pt x="12729" y="7"/>
                    </a:lnTo>
                    <a:cubicBezTo>
                      <a:pt x="12727" y="7"/>
                      <a:pt x="12727" y="6"/>
                      <a:pt x="12727" y="5"/>
                    </a:cubicBezTo>
                    <a:cubicBezTo>
                      <a:pt x="12727" y="4"/>
                      <a:pt x="12727" y="3"/>
                      <a:pt x="12729" y="3"/>
                    </a:cubicBezTo>
                    <a:close/>
                    <a:moveTo>
                      <a:pt x="12737" y="3"/>
                    </a:moveTo>
                    <a:lnTo>
                      <a:pt x="12737" y="3"/>
                    </a:lnTo>
                    <a:cubicBezTo>
                      <a:pt x="12738" y="3"/>
                      <a:pt x="12739" y="4"/>
                      <a:pt x="12739" y="5"/>
                    </a:cubicBezTo>
                    <a:cubicBezTo>
                      <a:pt x="12739" y="6"/>
                      <a:pt x="12738" y="7"/>
                      <a:pt x="12737" y="7"/>
                    </a:cubicBezTo>
                    <a:lnTo>
                      <a:pt x="12737" y="7"/>
                    </a:lnTo>
                    <a:cubicBezTo>
                      <a:pt x="12735" y="7"/>
                      <a:pt x="12735" y="6"/>
                      <a:pt x="12735" y="5"/>
                    </a:cubicBezTo>
                    <a:cubicBezTo>
                      <a:pt x="12735" y="4"/>
                      <a:pt x="12735" y="3"/>
                      <a:pt x="12737" y="3"/>
                    </a:cubicBezTo>
                    <a:close/>
                    <a:moveTo>
                      <a:pt x="12745" y="3"/>
                    </a:moveTo>
                    <a:lnTo>
                      <a:pt x="12745" y="3"/>
                    </a:lnTo>
                    <a:cubicBezTo>
                      <a:pt x="12746" y="3"/>
                      <a:pt x="12747" y="4"/>
                      <a:pt x="12747" y="5"/>
                    </a:cubicBezTo>
                    <a:cubicBezTo>
                      <a:pt x="12747" y="6"/>
                      <a:pt x="12746" y="7"/>
                      <a:pt x="12745" y="7"/>
                    </a:cubicBezTo>
                    <a:lnTo>
                      <a:pt x="12745" y="7"/>
                    </a:lnTo>
                    <a:cubicBezTo>
                      <a:pt x="12743" y="7"/>
                      <a:pt x="12743" y="6"/>
                      <a:pt x="12743" y="5"/>
                    </a:cubicBezTo>
                    <a:cubicBezTo>
                      <a:pt x="12743" y="4"/>
                      <a:pt x="12743" y="3"/>
                      <a:pt x="12745" y="3"/>
                    </a:cubicBezTo>
                    <a:close/>
                    <a:moveTo>
                      <a:pt x="12753" y="3"/>
                    </a:moveTo>
                    <a:lnTo>
                      <a:pt x="12753" y="3"/>
                    </a:lnTo>
                    <a:cubicBezTo>
                      <a:pt x="12754" y="3"/>
                      <a:pt x="12755" y="4"/>
                      <a:pt x="12755" y="5"/>
                    </a:cubicBezTo>
                    <a:cubicBezTo>
                      <a:pt x="12755" y="6"/>
                      <a:pt x="12754" y="7"/>
                      <a:pt x="12753" y="7"/>
                    </a:cubicBezTo>
                    <a:lnTo>
                      <a:pt x="12753" y="7"/>
                    </a:lnTo>
                    <a:cubicBezTo>
                      <a:pt x="12751" y="7"/>
                      <a:pt x="12751" y="6"/>
                      <a:pt x="12751" y="5"/>
                    </a:cubicBezTo>
                    <a:cubicBezTo>
                      <a:pt x="12751" y="4"/>
                      <a:pt x="12751" y="3"/>
                      <a:pt x="12753" y="3"/>
                    </a:cubicBezTo>
                    <a:close/>
                    <a:moveTo>
                      <a:pt x="12761" y="3"/>
                    </a:moveTo>
                    <a:lnTo>
                      <a:pt x="12761" y="3"/>
                    </a:lnTo>
                    <a:cubicBezTo>
                      <a:pt x="12762" y="3"/>
                      <a:pt x="12763" y="4"/>
                      <a:pt x="12763" y="5"/>
                    </a:cubicBezTo>
                    <a:cubicBezTo>
                      <a:pt x="12763" y="6"/>
                      <a:pt x="12762" y="7"/>
                      <a:pt x="12761" y="7"/>
                    </a:cubicBezTo>
                    <a:lnTo>
                      <a:pt x="12761" y="7"/>
                    </a:lnTo>
                    <a:cubicBezTo>
                      <a:pt x="12759" y="7"/>
                      <a:pt x="12759" y="6"/>
                      <a:pt x="12759" y="5"/>
                    </a:cubicBezTo>
                    <a:cubicBezTo>
                      <a:pt x="12759" y="4"/>
                      <a:pt x="12759" y="3"/>
                      <a:pt x="12761" y="3"/>
                    </a:cubicBezTo>
                    <a:close/>
                    <a:moveTo>
                      <a:pt x="12769" y="3"/>
                    </a:moveTo>
                    <a:lnTo>
                      <a:pt x="12769" y="3"/>
                    </a:lnTo>
                    <a:cubicBezTo>
                      <a:pt x="12770" y="3"/>
                      <a:pt x="12771" y="4"/>
                      <a:pt x="12771" y="5"/>
                    </a:cubicBezTo>
                    <a:cubicBezTo>
                      <a:pt x="12771" y="6"/>
                      <a:pt x="12770" y="7"/>
                      <a:pt x="12769" y="7"/>
                    </a:cubicBezTo>
                    <a:lnTo>
                      <a:pt x="12769" y="7"/>
                    </a:lnTo>
                    <a:cubicBezTo>
                      <a:pt x="12767" y="7"/>
                      <a:pt x="12767" y="6"/>
                      <a:pt x="12767" y="5"/>
                    </a:cubicBezTo>
                    <a:cubicBezTo>
                      <a:pt x="12767" y="4"/>
                      <a:pt x="12767" y="3"/>
                      <a:pt x="12769" y="3"/>
                    </a:cubicBezTo>
                    <a:close/>
                    <a:moveTo>
                      <a:pt x="12777" y="3"/>
                    </a:moveTo>
                    <a:lnTo>
                      <a:pt x="12777" y="3"/>
                    </a:lnTo>
                    <a:cubicBezTo>
                      <a:pt x="12778" y="3"/>
                      <a:pt x="12779" y="4"/>
                      <a:pt x="12779" y="5"/>
                    </a:cubicBezTo>
                    <a:cubicBezTo>
                      <a:pt x="12779" y="6"/>
                      <a:pt x="12778" y="7"/>
                      <a:pt x="12777" y="7"/>
                    </a:cubicBezTo>
                    <a:lnTo>
                      <a:pt x="12777" y="7"/>
                    </a:lnTo>
                    <a:cubicBezTo>
                      <a:pt x="12776" y="7"/>
                      <a:pt x="12775" y="6"/>
                      <a:pt x="12775" y="5"/>
                    </a:cubicBezTo>
                    <a:cubicBezTo>
                      <a:pt x="12775" y="4"/>
                      <a:pt x="12776" y="3"/>
                      <a:pt x="12777" y="3"/>
                    </a:cubicBezTo>
                    <a:close/>
                    <a:moveTo>
                      <a:pt x="12785" y="3"/>
                    </a:moveTo>
                    <a:lnTo>
                      <a:pt x="12785" y="3"/>
                    </a:lnTo>
                    <a:cubicBezTo>
                      <a:pt x="12786" y="3"/>
                      <a:pt x="12787" y="4"/>
                      <a:pt x="12787" y="5"/>
                    </a:cubicBezTo>
                    <a:cubicBezTo>
                      <a:pt x="12787" y="6"/>
                      <a:pt x="12786" y="7"/>
                      <a:pt x="12785" y="7"/>
                    </a:cubicBezTo>
                    <a:lnTo>
                      <a:pt x="12785" y="7"/>
                    </a:lnTo>
                    <a:cubicBezTo>
                      <a:pt x="12784" y="7"/>
                      <a:pt x="12783" y="6"/>
                      <a:pt x="12783" y="5"/>
                    </a:cubicBezTo>
                    <a:cubicBezTo>
                      <a:pt x="12783" y="4"/>
                      <a:pt x="12784" y="3"/>
                      <a:pt x="12785" y="3"/>
                    </a:cubicBezTo>
                    <a:close/>
                    <a:moveTo>
                      <a:pt x="12793" y="3"/>
                    </a:moveTo>
                    <a:lnTo>
                      <a:pt x="12793" y="3"/>
                    </a:lnTo>
                    <a:cubicBezTo>
                      <a:pt x="12794" y="3"/>
                      <a:pt x="12795" y="4"/>
                      <a:pt x="12795" y="5"/>
                    </a:cubicBezTo>
                    <a:cubicBezTo>
                      <a:pt x="12795" y="6"/>
                      <a:pt x="12794" y="7"/>
                      <a:pt x="12793" y="7"/>
                    </a:cubicBezTo>
                    <a:lnTo>
                      <a:pt x="12793" y="7"/>
                    </a:lnTo>
                    <a:cubicBezTo>
                      <a:pt x="12792" y="7"/>
                      <a:pt x="12791" y="6"/>
                      <a:pt x="12791" y="5"/>
                    </a:cubicBezTo>
                    <a:cubicBezTo>
                      <a:pt x="12791" y="4"/>
                      <a:pt x="12792" y="3"/>
                      <a:pt x="12793" y="3"/>
                    </a:cubicBezTo>
                    <a:close/>
                    <a:moveTo>
                      <a:pt x="12801" y="3"/>
                    </a:moveTo>
                    <a:lnTo>
                      <a:pt x="12801" y="3"/>
                    </a:lnTo>
                    <a:cubicBezTo>
                      <a:pt x="12802" y="3"/>
                      <a:pt x="12803" y="4"/>
                      <a:pt x="12803" y="5"/>
                    </a:cubicBezTo>
                    <a:cubicBezTo>
                      <a:pt x="12803" y="6"/>
                      <a:pt x="12802" y="7"/>
                      <a:pt x="12801" y="7"/>
                    </a:cubicBezTo>
                    <a:lnTo>
                      <a:pt x="12801" y="7"/>
                    </a:lnTo>
                    <a:cubicBezTo>
                      <a:pt x="12800" y="7"/>
                      <a:pt x="12799" y="6"/>
                      <a:pt x="12799" y="5"/>
                    </a:cubicBezTo>
                    <a:cubicBezTo>
                      <a:pt x="12799" y="4"/>
                      <a:pt x="12800" y="3"/>
                      <a:pt x="12801" y="3"/>
                    </a:cubicBezTo>
                    <a:close/>
                    <a:moveTo>
                      <a:pt x="12809" y="3"/>
                    </a:moveTo>
                    <a:lnTo>
                      <a:pt x="12809" y="3"/>
                    </a:lnTo>
                    <a:cubicBezTo>
                      <a:pt x="12810" y="3"/>
                      <a:pt x="12811" y="4"/>
                      <a:pt x="12811" y="5"/>
                    </a:cubicBezTo>
                    <a:cubicBezTo>
                      <a:pt x="12811" y="6"/>
                      <a:pt x="12810" y="7"/>
                      <a:pt x="12809" y="7"/>
                    </a:cubicBezTo>
                    <a:lnTo>
                      <a:pt x="12809" y="7"/>
                    </a:lnTo>
                    <a:cubicBezTo>
                      <a:pt x="12808" y="7"/>
                      <a:pt x="12807" y="6"/>
                      <a:pt x="12807" y="5"/>
                    </a:cubicBezTo>
                    <a:cubicBezTo>
                      <a:pt x="12807" y="4"/>
                      <a:pt x="12808" y="3"/>
                      <a:pt x="12809" y="3"/>
                    </a:cubicBezTo>
                    <a:close/>
                    <a:moveTo>
                      <a:pt x="12817" y="3"/>
                    </a:moveTo>
                    <a:lnTo>
                      <a:pt x="12817" y="3"/>
                    </a:lnTo>
                    <a:cubicBezTo>
                      <a:pt x="12818" y="3"/>
                      <a:pt x="12819" y="4"/>
                      <a:pt x="12819" y="5"/>
                    </a:cubicBezTo>
                    <a:cubicBezTo>
                      <a:pt x="12819" y="6"/>
                      <a:pt x="12818" y="7"/>
                      <a:pt x="12817" y="7"/>
                    </a:cubicBezTo>
                    <a:lnTo>
                      <a:pt x="12817" y="7"/>
                    </a:lnTo>
                    <a:cubicBezTo>
                      <a:pt x="12816" y="7"/>
                      <a:pt x="12815" y="6"/>
                      <a:pt x="12815" y="5"/>
                    </a:cubicBezTo>
                    <a:cubicBezTo>
                      <a:pt x="12815" y="4"/>
                      <a:pt x="12816" y="3"/>
                      <a:pt x="12817" y="3"/>
                    </a:cubicBezTo>
                    <a:close/>
                    <a:moveTo>
                      <a:pt x="12825" y="3"/>
                    </a:moveTo>
                    <a:lnTo>
                      <a:pt x="12825" y="3"/>
                    </a:lnTo>
                    <a:cubicBezTo>
                      <a:pt x="12826" y="3"/>
                      <a:pt x="12827" y="4"/>
                      <a:pt x="12827" y="5"/>
                    </a:cubicBezTo>
                    <a:cubicBezTo>
                      <a:pt x="12827" y="6"/>
                      <a:pt x="12826" y="7"/>
                      <a:pt x="12825" y="7"/>
                    </a:cubicBezTo>
                    <a:lnTo>
                      <a:pt x="12825" y="7"/>
                    </a:lnTo>
                    <a:cubicBezTo>
                      <a:pt x="12824" y="7"/>
                      <a:pt x="12823" y="6"/>
                      <a:pt x="12823" y="5"/>
                    </a:cubicBezTo>
                    <a:cubicBezTo>
                      <a:pt x="12823" y="4"/>
                      <a:pt x="12824" y="3"/>
                      <a:pt x="12825" y="3"/>
                    </a:cubicBezTo>
                    <a:close/>
                    <a:moveTo>
                      <a:pt x="12833" y="3"/>
                    </a:moveTo>
                    <a:lnTo>
                      <a:pt x="12833" y="3"/>
                    </a:lnTo>
                    <a:cubicBezTo>
                      <a:pt x="12834" y="3"/>
                      <a:pt x="12835" y="4"/>
                      <a:pt x="12835" y="5"/>
                    </a:cubicBezTo>
                    <a:cubicBezTo>
                      <a:pt x="12835" y="6"/>
                      <a:pt x="12834" y="7"/>
                      <a:pt x="12833" y="7"/>
                    </a:cubicBezTo>
                    <a:lnTo>
                      <a:pt x="12833" y="7"/>
                    </a:lnTo>
                    <a:cubicBezTo>
                      <a:pt x="12832" y="7"/>
                      <a:pt x="12831" y="6"/>
                      <a:pt x="12831" y="5"/>
                    </a:cubicBezTo>
                    <a:cubicBezTo>
                      <a:pt x="12831" y="4"/>
                      <a:pt x="12832" y="3"/>
                      <a:pt x="12833" y="3"/>
                    </a:cubicBezTo>
                    <a:close/>
                    <a:moveTo>
                      <a:pt x="12841" y="3"/>
                    </a:moveTo>
                    <a:lnTo>
                      <a:pt x="12841" y="3"/>
                    </a:lnTo>
                    <a:cubicBezTo>
                      <a:pt x="12842" y="3"/>
                      <a:pt x="12843" y="4"/>
                      <a:pt x="12843" y="5"/>
                    </a:cubicBezTo>
                    <a:cubicBezTo>
                      <a:pt x="12843" y="6"/>
                      <a:pt x="12842" y="7"/>
                      <a:pt x="12841" y="7"/>
                    </a:cubicBezTo>
                    <a:lnTo>
                      <a:pt x="12841" y="7"/>
                    </a:lnTo>
                    <a:cubicBezTo>
                      <a:pt x="12840" y="7"/>
                      <a:pt x="12839" y="6"/>
                      <a:pt x="12839" y="5"/>
                    </a:cubicBezTo>
                    <a:cubicBezTo>
                      <a:pt x="12839" y="4"/>
                      <a:pt x="12840" y="3"/>
                      <a:pt x="12841" y="3"/>
                    </a:cubicBezTo>
                    <a:close/>
                    <a:moveTo>
                      <a:pt x="12849" y="3"/>
                    </a:moveTo>
                    <a:lnTo>
                      <a:pt x="12849" y="3"/>
                    </a:lnTo>
                    <a:cubicBezTo>
                      <a:pt x="12850" y="3"/>
                      <a:pt x="12851" y="4"/>
                      <a:pt x="12851" y="5"/>
                    </a:cubicBezTo>
                    <a:cubicBezTo>
                      <a:pt x="12851" y="6"/>
                      <a:pt x="12850" y="7"/>
                      <a:pt x="12849" y="7"/>
                    </a:cubicBezTo>
                    <a:lnTo>
                      <a:pt x="12849" y="7"/>
                    </a:lnTo>
                    <a:cubicBezTo>
                      <a:pt x="12848" y="7"/>
                      <a:pt x="12847" y="6"/>
                      <a:pt x="12847" y="5"/>
                    </a:cubicBezTo>
                    <a:cubicBezTo>
                      <a:pt x="12847" y="4"/>
                      <a:pt x="12848" y="3"/>
                      <a:pt x="12849" y="3"/>
                    </a:cubicBezTo>
                    <a:close/>
                    <a:moveTo>
                      <a:pt x="12857" y="3"/>
                    </a:moveTo>
                    <a:lnTo>
                      <a:pt x="12857" y="3"/>
                    </a:lnTo>
                    <a:cubicBezTo>
                      <a:pt x="12858" y="3"/>
                      <a:pt x="12859" y="4"/>
                      <a:pt x="12859" y="5"/>
                    </a:cubicBezTo>
                    <a:cubicBezTo>
                      <a:pt x="12859" y="6"/>
                      <a:pt x="12858" y="7"/>
                      <a:pt x="12857" y="7"/>
                    </a:cubicBezTo>
                    <a:lnTo>
                      <a:pt x="12857" y="7"/>
                    </a:lnTo>
                    <a:cubicBezTo>
                      <a:pt x="12856" y="7"/>
                      <a:pt x="12855" y="6"/>
                      <a:pt x="12855" y="5"/>
                    </a:cubicBezTo>
                    <a:cubicBezTo>
                      <a:pt x="12855" y="4"/>
                      <a:pt x="12856" y="3"/>
                      <a:pt x="12857" y="3"/>
                    </a:cubicBezTo>
                    <a:close/>
                    <a:moveTo>
                      <a:pt x="12865" y="3"/>
                    </a:moveTo>
                    <a:lnTo>
                      <a:pt x="12865" y="3"/>
                    </a:lnTo>
                    <a:cubicBezTo>
                      <a:pt x="12866" y="3"/>
                      <a:pt x="12867" y="4"/>
                      <a:pt x="12867" y="5"/>
                    </a:cubicBezTo>
                    <a:cubicBezTo>
                      <a:pt x="12867" y="6"/>
                      <a:pt x="12866" y="7"/>
                      <a:pt x="12865" y="7"/>
                    </a:cubicBezTo>
                    <a:lnTo>
                      <a:pt x="12865" y="7"/>
                    </a:lnTo>
                    <a:cubicBezTo>
                      <a:pt x="12864" y="7"/>
                      <a:pt x="12863" y="6"/>
                      <a:pt x="12863" y="5"/>
                    </a:cubicBezTo>
                    <a:cubicBezTo>
                      <a:pt x="12863" y="4"/>
                      <a:pt x="12864" y="3"/>
                      <a:pt x="12865" y="3"/>
                    </a:cubicBezTo>
                    <a:close/>
                    <a:moveTo>
                      <a:pt x="12873" y="3"/>
                    </a:moveTo>
                    <a:lnTo>
                      <a:pt x="12873" y="3"/>
                    </a:lnTo>
                    <a:cubicBezTo>
                      <a:pt x="12874" y="3"/>
                      <a:pt x="12875" y="4"/>
                      <a:pt x="12875" y="5"/>
                    </a:cubicBezTo>
                    <a:cubicBezTo>
                      <a:pt x="12875" y="6"/>
                      <a:pt x="12874" y="7"/>
                      <a:pt x="12873" y="7"/>
                    </a:cubicBezTo>
                    <a:lnTo>
                      <a:pt x="12873" y="7"/>
                    </a:lnTo>
                    <a:cubicBezTo>
                      <a:pt x="12872" y="7"/>
                      <a:pt x="12871" y="6"/>
                      <a:pt x="12871" y="5"/>
                    </a:cubicBezTo>
                    <a:cubicBezTo>
                      <a:pt x="12871" y="4"/>
                      <a:pt x="12872" y="3"/>
                      <a:pt x="12873" y="3"/>
                    </a:cubicBezTo>
                    <a:close/>
                    <a:moveTo>
                      <a:pt x="12881" y="3"/>
                    </a:moveTo>
                    <a:lnTo>
                      <a:pt x="12881" y="3"/>
                    </a:lnTo>
                    <a:cubicBezTo>
                      <a:pt x="12882" y="3"/>
                      <a:pt x="12883" y="4"/>
                      <a:pt x="12883" y="5"/>
                    </a:cubicBezTo>
                    <a:cubicBezTo>
                      <a:pt x="12883" y="6"/>
                      <a:pt x="12882" y="7"/>
                      <a:pt x="12881" y="7"/>
                    </a:cubicBezTo>
                    <a:lnTo>
                      <a:pt x="12881" y="7"/>
                    </a:lnTo>
                    <a:cubicBezTo>
                      <a:pt x="12880" y="7"/>
                      <a:pt x="12879" y="6"/>
                      <a:pt x="12879" y="5"/>
                    </a:cubicBezTo>
                    <a:cubicBezTo>
                      <a:pt x="12879" y="4"/>
                      <a:pt x="12880" y="3"/>
                      <a:pt x="12881" y="3"/>
                    </a:cubicBezTo>
                    <a:close/>
                    <a:moveTo>
                      <a:pt x="12889" y="3"/>
                    </a:moveTo>
                    <a:lnTo>
                      <a:pt x="12889" y="3"/>
                    </a:lnTo>
                    <a:cubicBezTo>
                      <a:pt x="12890" y="3"/>
                      <a:pt x="12891" y="4"/>
                      <a:pt x="12891" y="5"/>
                    </a:cubicBezTo>
                    <a:cubicBezTo>
                      <a:pt x="12891" y="6"/>
                      <a:pt x="12890" y="7"/>
                      <a:pt x="12889" y="7"/>
                    </a:cubicBezTo>
                    <a:lnTo>
                      <a:pt x="12889" y="7"/>
                    </a:lnTo>
                    <a:cubicBezTo>
                      <a:pt x="12888" y="7"/>
                      <a:pt x="12887" y="6"/>
                      <a:pt x="12887" y="5"/>
                    </a:cubicBezTo>
                    <a:cubicBezTo>
                      <a:pt x="12887" y="4"/>
                      <a:pt x="12888" y="3"/>
                      <a:pt x="12889" y="3"/>
                    </a:cubicBezTo>
                    <a:close/>
                    <a:moveTo>
                      <a:pt x="12897" y="3"/>
                    </a:moveTo>
                    <a:lnTo>
                      <a:pt x="12897" y="3"/>
                    </a:lnTo>
                    <a:cubicBezTo>
                      <a:pt x="12898" y="3"/>
                      <a:pt x="12899" y="4"/>
                      <a:pt x="12899" y="5"/>
                    </a:cubicBezTo>
                    <a:cubicBezTo>
                      <a:pt x="12899" y="6"/>
                      <a:pt x="12898" y="7"/>
                      <a:pt x="12897" y="7"/>
                    </a:cubicBezTo>
                    <a:lnTo>
                      <a:pt x="12897" y="7"/>
                    </a:lnTo>
                    <a:cubicBezTo>
                      <a:pt x="12896" y="7"/>
                      <a:pt x="12895" y="6"/>
                      <a:pt x="12895" y="5"/>
                    </a:cubicBezTo>
                    <a:cubicBezTo>
                      <a:pt x="12895" y="4"/>
                      <a:pt x="12896" y="3"/>
                      <a:pt x="12897" y="3"/>
                    </a:cubicBezTo>
                    <a:close/>
                    <a:moveTo>
                      <a:pt x="12905" y="3"/>
                    </a:moveTo>
                    <a:lnTo>
                      <a:pt x="12905" y="3"/>
                    </a:lnTo>
                    <a:cubicBezTo>
                      <a:pt x="12906" y="3"/>
                      <a:pt x="12907" y="4"/>
                      <a:pt x="12907" y="5"/>
                    </a:cubicBezTo>
                    <a:cubicBezTo>
                      <a:pt x="12907" y="6"/>
                      <a:pt x="12906" y="7"/>
                      <a:pt x="12905" y="7"/>
                    </a:cubicBezTo>
                    <a:lnTo>
                      <a:pt x="12905" y="7"/>
                    </a:lnTo>
                    <a:cubicBezTo>
                      <a:pt x="12904" y="7"/>
                      <a:pt x="12903" y="6"/>
                      <a:pt x="12903" y="5"/>
                    </a:cubicBezTo>
                    <a:cubicBezTo>
                      <a:pt x="12903" y="4"/>
                      <a:pt x="12904" y="3"/>
                      <a:pt x="12905" y="3"/>
                    </a:cubicBezTo>
                    <a:close/>
                    <a:moveTo>
                      <a:pt x="12913" y="3"/>
                    </a:moveTo>
                    <a:lnTo>
                      <a:pt x="12913" y="3"/>
                    </a:lnTo>
                    <a:cubicBezTo>
                      <a:pt x="12914" y="3"/>
                      <a:pt x="12915" y="4"/>
                      <a:pt x="12915" y="5"/>
                    </a:cubicBezTo>
                    <a:cubicBezTo>
                      <a:pt x="12915" y="6"/>
                      <a:pt x="12914" y="7"/>
                      <a:pt x="12913" y="7"/>
                    </a:cubicBezTo>
                    <a:lnTo>
                      <a:pt x="12913" y="7"/>
                    </a:lnTo>
                    <a:cubicBezTo>
                      <a:pt x="12912" y="7"/>
                      <a:pt x="12911" y="6"/>
                      <a:pt x="12911" y="5"/>
                    </a:cubicBezTo>
                    <a:cubicBezTo>
                      <a:pt x="12911" y="4"/>
                      <a:pt x="12912" y="3"/>
                      <a:pt x="12913" y="3"/>
                    </a:cubicBezTo>
                    <a:close/>
                    <a:moveTo>
                      <a:pt x="12921" y="3"/>
                    </a:moveTo>
                    <a:lnTo>
                      <a:pt x="12921" y="3"/>
                    </a:lnTo>
                    <a:cubicBezTo>
                      <a:pt x="12922" y="3"/>
                      <a:pt x="12923" y="4"/>
                      <a:pt x="12923" y="5"/>
                    </a:cubicBezTo>
                    <a:cubicBezTo>
                      <a:pt x="12923" y="6"/>
                      <a:pt x="12922" y="7"/>
                      <a:pt x="12921" y="7"/>
                    </a:cubicBezTo>
                    <a:lnTo>
                      <a:pt x="12921" y="7"/>
                    </a:lnTo>
                    <a:cubicBezTo>
                      <a:pt x="12920" y="7"/>
                      <a:pt x="12919" y="6"/>
                      <a:pt x="12919" y="5"/>
                    </a:cubicBezTo>
                    <a:cubicBezTo>
                      <a:pt x="12919" y="4"/>
                      <a:pt x="12920" y="3"/>
                      <a:pt x="12921" y="3"/>
                    </a:cubicBezTo>
                    <a:close/>
                    <a:moveTo>
                      <a:pt x="12929" y="3"/>
                    </a:moveTo>
                    <a:lnTo>
                      <a:pt x="12929" y="3"/>
                    </a:lnTo>
                    <a:cubicBezTo>
                      <a:pt x="12930" y="3"/>
                      <a:pt x="12931" y="4"/>
                      <a:pt x="12931" y="5"/>
                    </a:cubicBezTo>
                    <a:cubicBezTo>
                      <a:pt x="12931" y="6"/>
                      <a:pt x="12930" y="7"/>
                      <a:pt x="12929" y="7"/>
                    </a:cubicBezTo>
                    <a:lnTo>
                      <a:pt x="12929" y="7"/>
                    </a:lnTo>
                    <a:cubicBezTo>
                      <a:pt x="12928" y="7"/>
                      <a:pt x="12927" y="6"/>
                      <a:pt x="12927" y="5"/>
                    </a:cubicBezTo>
                    <a:cubicBezTo>
                      <a:pt x="12927" y="4"/>
                      <a:pt x="12928" y="3"/>
                      <a:pt x="12929" y="3"/>
                    </a:cubicBezTo>
                    <a:close/>
                    <a:moveTo>
                      <a:pt x="12937" y="3"/>
                    </a:moveTo>
                    <a:lnTo>
                      <a:pt x="12937" y="3"/>
                    </a:lnTo>
                    <a:cubicBezTo>
                      <a:pt x="12938" y="3"/>
                      <a:pt x="12939" y="4"/>
                      <a:pt x="12939" y="5"/>
                    </a:cubicBezTo>
                    <a:cubicBezTo>
                      <a:pt x="12939" y="6"/>
                      <a:pt x="12938" y="7"/>
                      <a:pt x="12937" y="7"/>
                    </a:cubicBezTo>
                    <a:lnTo>
                      <a:pt x="12937" y="7"/>
                    </a:lnTo>
                    <a:cubicBezTo>
                      <a:pt x="12936" y="7"/>
                      <a:pt x="12935" y="6"/>
                      <a:pt x="12935" y="5"/>
                    </a:cubicBezTo>
                    <a:cubicBezTo>
                      <a:pt x="12935" y="4"/>
                      <a:pt x="12936" y="3"/>
                      <a:pt x="12937" y="3"/>
                    </a:cubicBezTo>
                    <a:close/>
                    <a:moveTo>
                      <a:pt x="12945" y="3"/>
                    </a:moveTo>
                    <a:lnTo>
                      <a:pt x="12945" y="3"/>
                    </a:lnTo>
                    <a:cubicBezTo>
                      <a:pt x="12946" y="3"/>
                      <a:pt x="12947" y="4"/>
                      <a:pt x="12947" y="5"/>
                    </a:cubicBezTo>
                    <a:cubicBezTo>
                      <a:pt x="12947" y="6"/>
                      <a:pt x="12946" y="7"/>
                      <a:pt x="12945" y="7"/>
                    </a:cubicBezTo>
                    <a:lnTo>
                      <a:pt x="12945" y="7"/>
                    </a:lnTo>
                    <a:cubicBezTo>
                      <a:pt x="12944" y="7"/>
                      <a:pt x="12943" y="6"/>
                      <a:pt x="12943" y="5"/>
                    </a:cubicBezTo>
                    <a:cubicBezTo>
                      <a:pt x="12943" y="4"/>
                      <a:pt x="12944" y="3"/>
                      <a:pt x="12945" y="3"/>
                    </a:cubicBezTo>
                    <a:close/>
                    <a:moveTo>
                      <a:pt x="12953" y="3"/>
                    </a:moveTo>
                    <a:lnTo>
                      <a:pt x="12953" y="3"/>
                    </a:lnTo>
                    <a:cubicBezTo>
                      <a:pt x="12954" y="3"/>
                      <a:pt x="12955" y="4"/>
                      <a:pt x="12955" y="5"/>
                    </a:cubicBezTo>
                    <a:cubicBezTo>
                      <a:pt x="12955" y="6"/>
                      <a:pt x="12954" y="7"/>
                      <a:pt x="12953" y="7"/>
                    </a:cubicBezTo>
                    <a:lnTo>
                      <a:pt x="12953" y="7"/>
                    </a:lnTo>
                    <a:cubicBezTo>
                      <a:pt x="12952" y="7"/>
                      <a:pt x="12951" y="6"/>
                      <a:pt x="12951" y="5"/>
                    </a:cubicBezTo>
                    <a:cubicBezTo>
                      <a:pt x="12951" y="4"/>
                      <a:pt x="12952" y="3"/>
                      <a:pt x="12953" y="3"/>
                    </a:cubicBezTo>
                    <a:close/>
                    <a:moveTo>
                      <a:pt x="12961" y="3"/>
                    </a:moveTo>
                    <a:lnTo>
                      <a:pt x="12961" y="3"/>
                    </a:lnTo>
                    <a:cubicBezTo>
                      <a:pt x="12962" y="3"/>
                      <a:pt x="12963" y="4"/>
                      <a:pt x="12963" y="5"/>
                    </a:cubicBezTo>
                    <a:cubicBezTo>
                      <a:pt x="12963" y="6"/>
                      <a:pt x="12962" y="7"/>
                      <a:pt x="12961" y="7"/>
                    </a:cubicBezTo>
                    <a:lnTo>
                      <a:pt x="12961" y="7"/>
                    </a:lnTo>
                    <a:cubicBezTo>
                      <a:pt x="12960" y="7"/>
                      <a:pt x="12959" y="6"/>
                      <a:pt x="12959" y="5"/>
                    </a:cubicBezTo>
                    <a:cubicBezTo>
                      <a:pt x="12959" y="4"/>
                      <a:pt x="12960" y="3"/>
                      <a:pt x="12961" y="3"/>
                    </a:cubicBezTo>
                    <a:close/>
                    <a:moveTo>
                      <a:pt x="12969" y="3"/>
                    </a:moveTo>
                    <a:lnTo>
                      <a:pt x="12969" y="3"/>
                    </a:lnTo>
                    <a:cubicBezTo>
                      <a:pt x="12970" y="3"/>
                      <a:pt x="12971" y="4"/>
                      <a:pt x="12971" y="5"/>
                    </a:cubicBezTo>
                    <a:cubicBezTo>
                      <a:pt x="12971" y="6"/>
                      <a:pt x="12970" y="7"/>
                      <a:pt x="12969" y="7"/>
                    </a:cubicBezTo>
                    <a:lnTo>
                      <a:pt x="12969" y="7"/>
                    </a:lnTo>
                    <a:cubicBezTo>
                      <a:pt x="12968" y="7"/>
                      <a:pt x="12967" y="6"/>
                      <a:pt x="12967" y="5"/>
                    </a:cubicBezTo>
                    <a:cubicBezTo>
                      <a:pt x="12967" y="4"/>
                      <a:pt x="12968" y="3"/>
                      <a:pt x="12969" y="3"/>
                    </a:cubicBezTo>
                    <a:close/>
                    <a:moveTo>
                      <a:pt x="12977" y="3"/>
                    </a:moveTo>
                    <a:lnTo>
                      <a:pt x="12977" y="3"/>
                    </a:lnTo>
                    <a:cubicBezTo>
                      <a:pt x="12978" y="3"/>
                      <a:pt x="12979" y="4"/>
                      <a:pt x="12979" y="5"/>
                    </a:cubicBezTo>
                    <a:cubicBezTo>
                      <a:pt x="12979" y="6"/>
                      <a:pt x="12978" y="7"/>
                      <a:pt x="12977" y="7"/>
                    </a:cubicBezTo>
                    <a:lnTo>
                      <a:pt x="12977" y="7"/>
                    </a:lnTo>
                    <a:cubicBezTo>
                      <a:pt x="12976" y="7"/>
                      <a:pt x="12975" y="6"/>
                      <a:pt x="12975" y="5"/>
                    </a:cubicBezTo>
                    <a:cubicBezTo>
                      <a:pt x="12975" y="4"/>
                      <a:pt x="12976" y="3"/>
                      <a:pt x="12977" y="3"/>
                    </a:cubicBezTo>
                    <a:close/>
                    <a:moveTo>
                      <a:pt x="12985" y="3"/>
                    </a:moveTo>
                    <a:lnTo>
                      <a:pt x="12985" y="3"/>
                    </a:lnTo>
                    <a:cubicBezTo>
                      <a:pt x="12986" y="3"/>
                      <a:pt x="12987" y="4"/>
                      <a:pt x="12987" y="5"/>
                    </a:cubicBezTo>
                    <a:cubicBezTo>
                      <a:pt x="12987" y="6"/>
                      <a:pt x="12986" y="7"/>
                      <a:pt x="12985" y="7"/>
                    </a:cubicBezTo>
                    <a:lnTo>
                      <a:pt x="12985" y="7"/>
                    </a:lnTo>
                    <a:cubicBezTo>
                      <a:pt x="12984" y="7"/>
                      <a:pt x="12983" y="6"/>
                      <a:pt x="12983" y="5"/>
                    </a:cubicBezTo>
                    <a:cubicBezTo>
                      <a:pt x="12983" y="4"/>
                      <a:pt x="12984" y="3"/>
                      <a:pt x="12985" y="3"/>
                    </a:cubicBezTo>
                    <a:close/>
                    <a:moveTo>
                      <a:pt x="12993" y="3"/>
                    </a:moveTo>
                    <a:lnTo>
                      <a:pt x="12993" y="3"/>
                    </a:lnTo>
                    <a:cubicBezTo>
                      <a:pt x="12994" y="3"/>
                      <a:pt x="12995" y="4"/>
                      <a:pt x="12995" y="5"/>
                    </a:cubicBezTo>
                    <a:cubicBezTo>
                      <a:pt x="12995" y="6"/>
                      <a:pt x="12994" y="7"/>
                      <a:pt x="12993" y="7"/>
                    </a:cubicBezTo>
                    <a:lnTo>
                      <a:pt x="12993" y="7"/>
                    </a:lnTo>
                    <a:cubicBezTo>
                      <a:pt x="12992" y="7"/>
                      <a:pt x="12991" y="6"/>
                      <a:pt x="12991" y="5"/>
                    </a:cubicBezTo>
                    <a:cubicBezTo>
                      <a:pt x="12991" y="4"/>
                      <a:pt x="12992" y="3"/>
                      <a:pt x="12993" y="3"/>
                    </a:cubicBezTo>
                    <a:close/>
                    <a:moveTo>
                      <a:pt x="13001" y="3"/>
                    </a:moveTo>
                    <a:lnTo>
                      <a:pt x="13001" y="3"/>
                    </a:lnTo>
                    <a:cubicBezTo>
                      <a:pt x="13002" y="3"/>
                      <a:pt x="13003" y="4"/>
                      <a:pt x="13003" y="5"/>
                    </a:cubicBezTo>
                    <a:cubicBezTo>
                      <a:pt x="13003" y="6"/>
                      <a:pt x="13002" y="7"/>
                      <a:pt x="13001" y="7"/>
                    </a:cubicBezTo>
                    <a:lnTo>
                      <a:pt x="13001" y="7"/>
                    </a:lnTo>
                    <a:cubicBezTo>
                      <a:pt x="13000" y="7"/>
                      <a:pt x="12999" y="6"/>
                      <a:pt x="12999" y="5"/>
                    </a:cubicBezTo>
                    <a:cubicBezTo>
                      <a:pt x="12999" y="4"/>
                      <a:pt x="13000" y="3"/>
                      <a:pt x="13001" y="3"/>
                    </a:cubicBezTo>
                    <a:close/>
                    <a:moveTo>
                      <a:pt x="13009" y="3"/>
                    </a:moveTo>
                    <a:lnTo>
                      <a:pt x="13009" y="3"/>
                    </a:lnTo>
                    <a:cubicBezTo>
                      <a:pt x="13010" y="3"/>
                      <a:pt x="13011" y="4"/>
                      <a:pt x="13011" y="5"/>
                    </a:cubicBezTo>
                    <a:cubicBezTo>
                      <a:pt x="13011" y="6"/>
                      <a:pt x="13010" y="7"/>
                      <a:pt x="13009" y="7"/>
                    </a:cubicBezTo>
                    <a:lnTo>
                      <a:pt x="13009" y="7"/>
                    </a:lnTo>
                    <a:cubicBezTo>
                      <a:pt x="13008" y="7"/>
                      <a:pt x="13007" y="6"/>
                      <a:pt x="13007" y="5"/>
                    </a:cubicBezTo>
                    <a:cubicBezTo>
                      <a:pt x="13007" y="4"/>
                      <a:pt x="13008" y="3"/>
                      <a:pt x="13009" y="3"/>
                    </a:cubicBezTo>
                    <a:close/>
                    <a:moveTo>
                      <a:pt x="13017" y="3"/>
                    </a:moveTo>
                    <a:lnTo>
                      <a:pt x="13017" y="3"/>
                    </a:lnTo>
                    <a:cubicBezTo>
                      <a:pt x="13018" y="3"/>
                      <a:pt x="13019" y="4"/>
                      <a:pt x="13019" y="5"/>
                    </a:cubicBezTo>
                    <a:cubicBezTo>
                      <a:pt x="13019" y="6"/>
                      <a:pt x="13018" y="7"/>
                      <a:pt x="13017" y="7"/>
                    </a:cubicBezTo>
                    <a:lnTo>
                      <a:pt x="13017" y="7"/>
                    </a:lnTo>
                    <a:cubicBezTo>
                      <a:pt x="13016" y="7"/>
                      <a:pt x="13015" y="6"/>
                      <a:pt x="13015" y="5"/>
                    </a:cubicBezTo>
                    <a:cubicBezTo>
                      <a:pt x="13015" y="4"/>
                      <a:pt x="13016" y="3"/>
                      <a:pt x="13017" y="3"/>
                    </a:cubicBezTo>
                    <a:close/>
                    <a:moveTo>
                      <a:pt x="13025" y="3"/>
                    </a:moveTo>
                    <a:lnTo>
                      <a:pt x="13025" y="3"/>
                    </a:lnTo>
                    <a:cubicBezTo>
                      <a:pt x="13026" y="3"/>
                      <a:pt x="13027" y="4"/>
                      <a:pt x="13027" y="5"/>
                    </a:cubicBezTo>
                    <a:cubicBezTo>
                      <a:pt x="13027" y="6"/>
                      <a:pt x="13026" y="7"/>
                      <a:pt x="13025" y="7"/>
                    </a:cubicBezTo>
                    <a:lnTo>
                      <a:pt x="13025" y="7"/>
                    </a:lnTo>
                    <a:cubicBezTo>
                      <a:pt x="13024" y="7"/>
                      <a:pt x="13023" y="6"/>
                      <a:pt x="13023" y="5"/>
                    </a:cubicBezTo>
                    <a:cubicBezTo>
                      <a:pt x="13023" y="4"/>
                      <a:pt x="13024" y="3"/>
                      <a:pt x="13025" y="3"/>
                    </a:cubicBezTo>
                    <a:close/>
                    <a:moveTo>
                      <a:pt x="13033" y="3"/>
                    </a:moveTo>
                    <a:lnTo>
                      <a:pt x="13033" y="3"/>
                    </a:lnTo>
                    <a:cubicBezTo>
                      <a:pt x="13034" y="3"/>
                      <a:pt x="13035" y="4"/>
                      <a:pt x="13035" y="5"/>
                    </a:cubicBezTo>
                    <a:cubicBezTo>
                      <a:pt x="13035" y="6"/>
                      <a:pt x="13034" y="7"/>
                      <a:pt x="13033" y="7"/>
                    </a:cubicBezTo>
                    <a:lnTo>
                      <a:pt x="13033" y="7"/>
                    </a:lnTo>
                    <a:cubicBezTo>
                      <a:pt x="13032" y="7"/>
                      <a:pt x="13031" y="6"/>
                      <a:pt x="13031" y="5"/>
                    </a:cubicBezTo>
                    <a:cubicBezTo>
                      <a:pt x="13031" y="4"/>
                      <a:pt x="13032" y="3"/>
                      <a:pt x="13033" y="3"/>
                    </a:cubicBezTo>
                    <a:close/>
                    <a:moveTo>
                      <a:pt x="13041" y="3"/>
                    </a:moveTo>
                    <a:lnTo>
                      <a:pt x="13041" y="3"/>
                    </a:lnTo>
                    <a:cubicBezTo>
                      <a:pt x="13042" y="3"/>
                      <a:pt x="13043" y="4"/>
                      <a:pt x="13043" y="5"/>
                    </a:cubicBezTo>
                    <a:cubicBezTo>
                      <a:pt x="13043" y="6"/>
                      <a:pt x="13042" y="7"/>
                      <a:pt x="13041" y="7"/>
                    </a:cubicBezTo>
                    <a:lnTo>
                      <a:pt x="13041" y="7"/>
                    </a:lnTo>
                    <a:cubicBezTo>
                      <a:pt x="13040" y="7"/>
                      <a:pt x="13039" y="6"/>
                      <a:pt x="13039" y="5"/>
                    </a:cubicBezTo>
                    <a:cubicBezTo>
                      <a:pt x="13039" y="4"/>
                      <a:pt x="13040" y="3"/>
                      <a:pt x="13041" y="3"/>
                    </a:cubicBezTo>
                    <a:close/>
                    <a:moveTo>
                      <a:pt x="13049" y="3"/>
                    </a:moveTo>
                    <a:lnTo>
                      <a:pt x="13049" y="3"/>
                    </a:lnTo>
                    <a:cubicBezTo>
                      <a:pt x="13050" y="3"/>
                      <a:pt x="13051" y="4"/>
                      <a:pt x="13051" y="5"/>
                    </a:cubicBezTo>
                    <a:cubicBezTo>
                      <a:pt x="13051" y="6"/>
                      <a:pt x="13050" y="7"/>
                      <a:pt x="13049" y="7"/>
                    </a:cubicBezTo>
                    <a:lnTo>
                      <a:pt x="13049" y="7"/>
                    </a:lnTo>
                    <a:cubicBezTo>
                      <a:pt x="13048" y="7"/>
                      <a:pt x="13047" y="6"/>
                      <a:pt x="13047" y="5"/>
                    </a:cubicBezTo>
                    <a:cubicBezTo>
                      <a:pt x="13047" y="4"/>
                      <a:pt x="13048" y="3"/>
                      <a:pt x="13049" y="3"/>
                    </a:cubicBezTo>
                    <a:close/>
                    <a:moveTo>
                      <a:pt x="13057" y="3"/>
                    </a:moveTo>
                    <a:lnTo>
                      <a:pt x="13057" y="3"/>
                    </a:lnTo>
                    <a:cubicBezTo>
                      <a:pt x="13058" y="3"/>
                      <a:pt x="13059" y="4"/>
                      <a:pt x="13059" y="5"/>
                    </a:cubicBezTo>
                    <a:cubicBezTo>
                      <a:pt x="13059" y="6"/>
                      <a:pt x="13058" y="7"/>
                      <a:pt x="13057" y="7"/>
                    </a:cubicBezTo>
                    <a:lnTo>
                      <a:pt x="13057" y="7"/>
                    </a:lnTo>
                    <a:cubicBezTo>
                      <a:pt x="13056" y="7"/>
                      <a:pt x="13055" y="6"/>
                      <a:pt x="13055" y="5"/>
                    </a:cubicBezTo>
                    <a:cubicBezTo>
                      <a:pt x="13055" y="4"/>
                      <a:pt x="13056" y="3"/>
                      <a:pt x="13057" y="3"/>
                    </a:cubicBezTo>
                    <a:close/>
                    <a:moveTo>
                      <a:pt x="13065" y="3"/>
                    </a:moveTo>
                    <a:lnTo>
                      <a:pt x="13065" y="3"/>
                    </a:lnTo>
                    <a:cubicBezTo>
                      <a:pt x="13066" y="3"/>
                      <a:pt x="13067" y="4"/>
                      <a:pt x="13067" y="5"/>
                    </a:cubicBezTo>
                    <a:cubicBezTo>
                      <a:pt x="13067" y="6"/>
                      <a:pt x="13066" y="7"/>
                      <a:pt x="13065" y="7"/>
                    </a:cubicBezTo>
                    <a:lnTo>
                      <a:pt x="13065" y="7"/>
                    </a:lnTo>
                    <a:cubicBezTo>
                      <a:pt x="13064" y="7"/>
                      <a:pt x="13063" y="6"/>
                      <a:pt x="13063" y="5"/>
                    </a:cubicBezTo>
                    <a:cubicBezTo>
                      <a:pt x="13063" y="4"/>
                      <a:pt x="13064" y="3"/>
                      <a:pt x="13065" y="3"/>
                    </a:cubicBezTo>
                    <a:close/>
                    <a:moveTo>
                      <a:pt x="13073" y="3"/>
                    </a:moveTo>
                    <a:lnTo>
                      <a:pt x="13073" y="3"/>
                    </a:lnTo>
                    <a:cubicBezTo>
                      <a:pt x="13074" y="3"/>
                      <a:pt x="13075" y="4"/>
                      <a:pt x="13075" y="5"/>
                    </a:cubicBezTo>
                    <a:cubicBezTo>
                      <a:pt x="13075" y="6"/>
                      <a:pt x="13074" y="7"/>
                      <a:pt x="13073" y="7"/>
                    </a:cubicBezTo>
                    <a:lnTo>
                      <a:pt x="13073" y="7"/>
                    </a:lnTo>
                    <a:cubicBezTo>
                      <a:pt x="13072" y="7"/>
                      <a:pt x="13071" y="6"/>
                      <a:pt x="13071" y="5"/>
                    </a:cubicBezTo>
                    <a:cubicBezTo>
                      <a:pt x="13071" y="4"/>
                      <a:pt x="13072" y="3"/>
                      <a:pt x="13073" y="3"/>
                    </a:cubicBezTo>
                    <a:close/>
                    <a:moveTo>
                      <a:pt x="13081" y="3"/>
                    </a:moveTo>
                    <a:lnTo>
                      <a:pt x="13081" y="3"/>
                    </a:lnTo>
                    <a:cubicBezTo>
                      <a:pt x="13082" y="3"/>
                      <a:pt x="13083" y="4"/>
                      <a:pt x="13083" y="5"/>
                    </a:cubicBezTo>
                    <a:cubicBezTo>
                      <a:pt x="13083" y="6"/>
                      <a:pt x="13082" y="7"/>
                      <a:pt x="13081" y="7"/>
                    </a:cubicBezTo>
                    <a:lnTo>
                      <a:pt x="13081" y="7"/>
                    </a:lnTo>
                    <a:cubicBezTo>
                      <a:pt x="13080" y="7"/>
                      <a:pt x="13079" y="6"/>
                      <a:pt x="13079" y="5"/>
                    </a:cubicBezTo>
                    <a:cubicBezTo>
                      <a:pt x="13079" y="4"/>
                      <a:pt x="13080" y="3"/>
                      <a:pt x="13081" y="3"/>
                    </a:cubicBezTo>
                    <a:close/>
                    <a:moveTo>
                      <a:pt x="13089" y="3"/>
                    </a:moveTo>
                    <a:lnTo>
                      <a:pt x="13089" y="3"/>
                    </a:lnTo>
                    <a:cubicBezTo>
                      <a:pt x="13090" y="3"/>
                      <a:pt x="13091" y="4"/>
                      <a:pt x="13091" y="5"/>
                    </a:cubicBezTo>
                    <a:cubicBezTo>
                      <a:pt x="13091" y="6"/>
                      <a:pt x="13090" y="7"/>
                      <a:pt x="13089" y="7"/>
                    </a:cubicBezTo>
                    <a:lnTo>
                      <a:pt x="13089" y="7"/>
                    </a:lnTo>
                    <a:cubicBezTo>
                      <a:pt x="13088" y="7"/>
                      <a:pt x="13087" y="6"/>
                      <a:pt x="13087" y="5"/>
                    </a:cubicBezTo>
                    <a:cubicBezTo>
                      <a:pt x="13087" y="4"/>
                      <a:pt x="13088" y="3"/>
                      <a:pt x="13089" y="3"/>
                    </a:cubicBezTo>
                    <a:close/>
                    <a:moveTo>
                      <a:pt x="13097" y="3"/>
                    </a:moveTo>
                    <a:lnTo>
                      <a:pt x="13097" y="3"/>
                    </a:lnTo>
                    <a:cubicBezTo>
                      <a:pt x="13098" y="3"/>
                      <a:pt x="13099" y="4"/>
                      <a:pt x="13099" y="5"/>
                    </a:cubicBezTo>
                    <a:cubicBezTo>
                      <a:pt x="13099" y="6"/>
                      <a:pt x="13098" y="7"/>
                      <a:pt x="13097" y="7"/>
                    </a:cubicBezTo>
                    <a:lnTo>
                      <a:pt x="13097" y="7"/>
                    </a:lnTo>
                    <a:cubicBezTo>
                      <a:pt x="13096" y="7"/>
                      <a:pt x="13095" y="6"/>
                      <a:pt x="13095" y="5"/>
                    </a:cubicBezTo>
                    <a:cubicBezTo>
                      <a:pt x="13095" y="4"/>
                      <a:pt x="13096" y="3"/>
                      <a:pt x="13097" y="3"/>
                    </a:cubicBezTo>
                    <a:close/>
                    <a:moveTo>
                      <a:pt x="13105" y="3"/>
                    </a:moveTo>
                    <a:lnTo>
                      <a:pt x="13105" y="3"/>
                    </a:lnTo>
                    <a:cubicBezTo>
                      <a:pt x="13106" y="3"/>
                      <a:pt x="13107" y="4"/>
                      <a:pt x="13107" y="5"/>
                    </a:cubicBezTo>
                    <a:cubicBezTo>
                      <a:pt x="13107" y="6"/>
                      <a:pt x="13106" y="7"/>
                      <a:pt x="13105" y="7"/>
                    </a:cubicBezTo>
                    <a:lnTo>
                      <a:pt x="13105" y="7"/>
                    </a:lnTo>
                    <a:cubicBezTo>
                      <a:pt x="13104" y="7"/>
                      <a:pt x="13103" y="6"/>
                      <a:pt x="13103" y="5"/>
                    </a:cubicBezTo>
                    <a:cubicBezTo>
                      <a:pt x="13103" y="4"/>
                      <a:pt x="13104" y="3"/>
                      <a:pt x="13105" y="3"/>
                    </a:cubicBezTo>
                    <a:close/>
                    <a:moveTo>
                      <a:pt x="13113" y="3"/>
                    </a:moveTo>
                    <a:lnTo>
                      <a:pt x="13113" y="3"/>
                    </a:lnTo>
                    <a:cubicBezTo>
                      <a:pt x="13114" y="3"/>
                      <a:pt x="13115" y="4"/>
                      <a:pt x="13115" y="5"/>
                    </a:cubicBezTo>
                    <a:cubicBezTo>
                      <a:pt x="13115" y="6"/>
                      <a:pt x="13114" y="7"/>
                      <a:pt x="13113" y="7"/>
                    </a:cubicBezTo>
                    <a:lnTo>
                      <a:pt x="13113" y="7"/>
                    </a:lnTo>
                    <a:cubicBezTo>
                      <a:pt x="13112" y="7"/>
                      <a:pt x="13111" y="6"/>
                      <a:pt x="13111" y="5"/>
                    </a:cubicBezTo>
                    <a:cubicBezTo>
                      <a:pt x="13111" y="4"/>
                      <a:pt x="13112" y="3"/>
                      <a:pt x="13113" y="3"/>
                    </a:cubicBezTo>
                    <a:close/>
                    <a:moveTo>
                      <a:pt x="13121" y="3"/>
                    </a:moveTo>
                    <a:lnTo>
                      <a:pt x="13121" y="3"/>
                    </a:lnTo>
                    <a:cubicBezTo>
                      <a:pt x="13122" y="3"/>
                      <a:pt x="13123" y="4"/>
                      <a:pt x="13123" y="5"/>
                    </a:cubicBezTo>
                    <a:cubicBezTo>
                      <a:pt x="13123" y="6"/>
                      <a:pt x="13122" y="7"/>
                      <a:pt x="13121" y="7"/>
                    </a:cubicBezTo>
                    <a:lnTo>
                      <a:pt x="13121" y="7"/>
                    </a:lnTo>
                    <a:cubicBezTo>
                      <a:pt x="13120" y="7"/>
                      <a:pt x="13119" y="6"/>
                      <a:pt x="13119" y="5"/>
                    </a:cubicBezTo>
                    <a:cubicBezTo>
                      <a:pt x="13119" y="4"/>
                      <a:pt x="13120" y="3"/>
                      <a:pt x="13121" y="3"/>
                    </a:cubicBezTo>
                    <a:close/>
                    <a:moveTo>
                      <a:pt x="13129" y="3"/>
                    </a:moveTo>
                    <a:lnTo>
                      <a:pt x="13129" y="3"/>
                    </a:lnTo>
                    <a:cubicBezTo>
                      <a:pt x="13130" y="3"/>
                      <a:pt x="13131" y="4"/>
                      <a:pt x="13131" y="5"/>
                    </a:cubicBezTo>
                    <a:cubicBezTo>
                      <a:pt x="13131" y="6"/>
                      <a:pt x="13130" y="7"/>
                      <a:pt x="13129" y="7"/>
                    </a:cubicBezTo>
                    <a:lnTo>
                      <a:pt x="13129" y="7"/>
                    </a:lnTo>
                    <a:cubicBezTo>
                      <a:pt x="13128" y="7"/>
                      <a:pt x="13127" y="6"/>
                      <a:pt x="13127" y="5"/>
                    </a:cubicBezTo>
                    <a:cubicBezTo>
                      <a:pt x="13127" y="4"/>
                      <a:pt x="13128" y="3"/>
                      <a:pt x="13129" y="3"/>
                    </a:cubicBezTo>
                    <a:close/>
                    <a:moveTo>
                      <a:pt x="13137" y="3"/>
                    </a:moveTo>
                    <a:lnTo>
                      <a:pt x="13137" y="3"/>
                    </a:lnTo>
                    <a:cubicBezTo>
                      <a:pt x="13138" y="3"/>
                      <a:pt x="13139" y="4"/>
                      <a:pt x="13139" y="5"/>
                    </a:cubicBezTo>
                    <a:cubicBezTo>
                      <a:pt x="13139" y="6"/>
                      <a:pt x="13138" y="7"/>
                      <a:pt x="13137" y="7"/>
                    </a:cubicBezTo>
                    <a:lnTo>
                      <a:pt x="13137" y="7"/>
                    </a:lnTo>
                    <a:cubicBezTo>
                      <a:pt x="13136" y="7"/>
                      <a:pt x="13135" y="6"/>
                      <a:pt x="13135" y="5"/>
                    </a:cubicBezTo>
                    <a:cubicBezTo>
                      <a:pt x="13135" y="4"/>
                      <a:pt x="13136" y="3"/>
                      <a:pt x="13137" y="3"/>
                    </a:cubicBezTo>
                    <a:close/>
                    <a:moveTo>
                      <a:pt x="13145" y="3"/>
                    </a:moveTo>
                    <a:lnTo>
                      <a:pt x="13145" y="3"/>
                    </a:lnTo>
                    <a:cubicBezTo>
                      <a:pt x="13146" y="3"/>
                      <a:pt x="13147" y="4"/>
                      <a:pt x="13147" y="5"/>
                    </a:cubicBezTo>
                    <a:cubicBezTo>
                      <a:pt x="13147" y="6"/>
                      <a:pt x="13146" y="7"/>
                      <a:pt x="13145" y="7"/>
                    </a:cubicBezTo>
                    <a:lnTo>
                      <a:pt x="13145" y="7"/>
                    </a:lnTo>
                    <a:cubicBezTo>
                      <a:pt x="13144" y="7"/>
                      <a:pt x="13143" y="6"/>
                      <a:pt x="13143" y="5"/>
                    </a:cubicBezTo>
                    <a:cubicBezTo>
                      <a:pt x="13143" y="4"/>
                      <a:pt x="13144" y="3"/>
                      <a:pt x="13145" y="3"/>
                    </a:cubicBezTo>
                    <a:close/>
                    <a:moveTo>
                      <a:pt x="13153" y="3"/>
                    </a:moveTo>
                    <a:lnTo>
                      <a:pt x="13153" y="3"/>
                    </a:lnTo>
                    <a:cubicBezTo>
                      <a:pt x="13154" y="3"/>
                      <a:pt x="13155" y="4"/>
                      <a:pt x="13155" y="5"/>
                    </a:cubicBezTo>
                    <a:cubicBezTo>
                      <a:pt x="13155" y="6"/>
                      <a:pt x="13154" y="7"/>
                      <a:pt x="13153" y="7"/>
                    </a:cubicBezTo>
                    <a:lnTo>
                      <a:pt x="13153" y="7"/>
                    </a:lnTo>
                    <a:cubicBezTo>
                      <a:pt x="13152" y="7"/>
                      <a:pt x="13151" y="6"/>
                      <a:pt x="13151" y="5"/>
                    </a:cubicBezTo>
                    <a:cubicBezTo>
                      <a:pt x="13151" y="4"/>
                      <a:pt x="13152" y="3"/>
                      <a:pt x="13153" y="3"/>
                    </a:cubicBezTo>
                    <a:close/>
                    <a:moveTo>
                      <a:pt x="13161" y="3"/>
                    </a:moveTo>
                    <a:lnTo>
                      <a:pt x="13161" y="3"/>
                    </a:lnTo>
                    <a:cubicBezTo>
                      <a:pt x="13162" y="3"/>
                      <a:pt x="13163" y="4"/>
                      <a:pt x="13163" y="5"/>
                    </a:cubicBezTo>
                    <a:cubicBezTo>
                      <a:pt x="13163" y="6"/>
                      <a:pt x="13162" y="7"/>
                      <a:pt x="13161" y="7"/>
                    </a:cubicBezTo>
                    <a:lnTo>
                      <a:pt x="13161" y="7"/>
                    </a:lnTo>
                    <a:cubicBezTo>
                      <a:pt x="13160" y="7"/>
                      <a:pt x="13159" y="6"/>
                      <a:pt x="13159" y="5"/>
                    </a:cubicBezTo>
                    <a:cubicBezTo>
                      <a:pt x="13159" y="4"/>
                      <a:pt x="13160" y="3"/>
                      <a:pt x="13161" y="3"/>
                    </a:cubicBezTo>
                    <a:close/>
                    <a:moveTo>
                      <a:pt x="13169" y="3"/>
                    </a:moveTo>
                    <a:lnTo>
                      <a:pt x="13169" y="3"/>
                    </a:lnTo>
                    <a:cubicBezTo>
                      <a:pt x="13170" y="3"/>
                      <a:pt x="13171" y="4"/>
                      <a:pt x="13171" y="5"/>
                    </a:cubicBezTo>
                    <a:cubicBezTo>
                      <a:pt x="13171" y="6"/>
                      <a:pt x="13170" y="7"/>
                      <a:pt x="13169" y="7"/>
                    </a:cubicBezTo>
                    <a:lnTo>
                      <a:pt x="13169" y="7"/>
                    </a:lnTo>
                    <a:cubicBezTo>
                      <a:pt x="13168" y="7"/>
                      <a:pt x="13167" y="6"/>
                      <a:pt x="13167" y="5"/>
                    </a:cubicBezTo>
                    <a:cubicBezTo>
                      <a:pt x="13167" y="4"/>
                      <a:pt x="13168" y="3"/>
                      <a:pt x="13169" y="3"/>
                    </a:cubicBezTo>
                    <a:close/>
                    <a:moveTo>
                      <a:pt x="13177" y="3"/>
                    </a:moveTo>
                    <a:lnTo>
                      <a:pt x="13177" y="3"/>
                    </a:lnTo>
                    <a:cubicBezTo>
                      <a:pt x="13178" y="3"/>
                      <a:pt x="13179" y="4"/>
                      <a:pt x="13179" y="5"/>
                    </a:cubicBezTo>
                    <a:cubicBezTo>
                      <a:pt x="13179" y="6"/>
                      <a:pt x="13178" y="7"/>
                      <a:pt x="13177" y="7"/>
                    </a:cubicBezTo>
                    <a:lnTo>
                      <a:pt x="13177" y="7"/>
                    </a:lnTo>
                    <a:cubicBezTo>
                      <a:pt x="13176" y="7"/>
                      <a:pt x="13175" y="6"/>
                      <a:pt x="13175" y="5"/>
                    </a:cubicBezTo>
                    <a:cubicBezTo>
                      <a:pt x="13175" y="4"/>
                      <a:pt x="13176" y="3"/>
                      <a:pt x="13177" y="3"/>
                    </a:cubicBezTo>
                    <a:close/>
                    <a:moveTo>
                      <a:pt x="13185" y="3"/>
                    </a:moveTo>
                    <a:lnTo>
                      <a:pt x="13185" y="3"/>
                    </a:lnTo>
                    <a:cubicBezTo>
                      <a:pt x="13186" y="3"/>
                      <a:pt x="13187" y="4"/>
                      <a:pt x="13187" y="5"/>
                    </a:cubicBezTo>
                    <a:cubicBezTo>
                      <a:pt x="13187" y="6"/>
                      <a:pt x="13186" y="7"/>
                      <a:pt x="13185" y="7"/>
                    </a:cubicBezTo>
                    <a:lnTo>
                      <a:pt x="13185" y="7"/>
                    </a:lnTo>
                    <a:cubicBezTo>
                      <a:pt x="13184" y="7"/>
                      <a:pt x="13183" y="6"/>
                      <a:pt x="13183" y="5"/>
                    </a:cubicBezTo>
                    <a:cubicBezTo>
                      <a:pt x="13183" y="4"/>
                      <a:pt x="13184" y="3"/>
                      <a:pt x="13185" y="3"/>
                    </a:cubicBezTo>
                    <a:close/>
                    <a:moveTo>
                      <a:pt x="13193" y="3"/>
                    </a:moveTo>
                    <a:lnTo>
                      <a:pt x="13193" y="3"/>
                    </a:lnTo>
                    <a:cubicBezTo>
                      <a:pt x="13194" y="3"/>
                      <a:pt x="13195" y="4"/>
                      <a:pt x="13195" y="5"/>
                    </a:cubicBezTo>
                    <a:cubicBezTo>
                      <a:pt x="13195" y="6"/>
                      <a:pt x="13194" y="7"/>
                      <a:pt x="13193" y="7"/>
                    </a:cubicBezTo>
                    <a:lnTo>
                      <a:pt x="13193" y="7"/>
                    </a:lnTo>
                    <a:cubicBezTo>
                      <a:pt x="13192" y="7"/>
                      <a:pt x="13191" y="6"/>
                      <a:pt x="13191" y="5"/>
                    </a:cubicBezTo>
                    <a:cubicBezTo>
                      <a:pt x="13191" y="4"/>
                      <a:pt x="13192" y="3"/>
                      <a:pt x="13193" y="3"/>
                    </a:cubicBezTo>
                    <a:close/>
                    <a:moveTo>
                      <a:pt x="13201" y="3"/>
                    </a:moveTo>
                    <a:lnTo>
                      <a:pt x="13201" y="3"/>
                    </a:lnTo>
                    <a:cubicBezTo>
                      <a:pt x="13202" y="3"/>
                      <a:pt x="13203" y="4"/>
                      <a:pt x="13203" y="5"/>
                    </a:cubicBezTo>
                    <a:cubicBezTo>
                      <a:pt x="13203" y="6"/>
                      <a:pt x="13202" y="7"/>
                      <a:pt x="13201" y="7"/>
                    </a:cubicBezTo>
                    <a:lnTo>
                      <a:pt x="13201" y="7"/>
                    </a:lnTo>
                    <a:cubicBezTo>
                      <a:pt x="13200" y="7"/>
                      <a:pt x="13199" y="6"/>
                      <a:pt x="13199" y="5"/>
                    </a:cubicBezTo>
                    <a:cubicBezTo>
                      <a:pt x="13199" y="4"/>
                      <a:pt x="13200" y="3"/>
                      <a:pt x="13201" y="3"/>
                    </a:cubicBezTo>
                    <a:close/>
                    <a:moveTo>
                      <a:pt x="13209" y="3"/>
                    </a:moveTo>
                    <a:lnTo>
                      <a:pt x="13209" y="3"/>
                    </a:lnTo>
                    <a:cubicBezTo>
                      <a:pt x="13210" y="3"/>
                      <a:pt x="13211" y="4"/>
                      <a:pt x="13211" y="5"/>
                    </a:cubicBezTo>
                    <a:cubicBezTo>
                      <a:pt x="13211" y="6"/>
                      <a:pt x="13210" y="7"/>
                      <a:pt x="13209" y="7"/>
                    </a:cubicBezTo>
                    <a:lnTo>
                      <a:pt x="13209" y="7"/>
                    </a:lnTo>
                    <a:cubicBezTo>
                      <a:pt x="13208" y="7"/>
                      <a:pt x="13207" y="6"/>
                      <a:pt x="13207" y="5"/>
                    </a:cubicBezTo>
                    <a:cubicBezTo>
                      <a:pt x="13207" y="4"/>
                      <a:pt x="13208" y="3"/>
                      <a:pt x="13209" y="3"/>
                    </a:cubicBezTo>
                    <a:close/>
                    <a:moveTo>
                      <a:pt x="13217" y="3"/>
                    </a:moveTo>
                    <a:lnTo>
                      <a:pt x="13217" y="3"/>
                    </a:lnTo>
                    <a:cubicBezTo>
                      <a:pt x="13218" y="3"/>
                      <a:pt x="13219" y="4"/>
                      <a:pt x="13219" y="5"/>
                    </a:cubicBezTo>
                    <a:cubicBezTo>
                      <a:pt x="13219" y="6"/>
                      <a:pt x="13218" y="7"/>
                      <a:pt x="13217" y="7"/>
                    </a:cubicBezTo>
                    <a:lnTo>
                      <a:pt x="13217" y="7"/>
                    </a:lnTo>
                    <a:cubicBezTo>
                      <a:pt x="13216" y="7"/>
                      <a:pt x="13215" y="6"/>
                      <a:pt x="13215" y="5"/>
                    </a:cubicBezTo>
                    <a:cubicBezTo>
                      <a:pt x="13215" y="4"/>
                      <a:pt x="13216" y="3"/>
                      <a:pt x="13217" y="3"/>
                    </a:cubicBezTo>
                    <a:close/>
                    <a:moveTo>
                      <a:pt x="13225" y="3"/>
                    </a:moveTo>
                    <a:lnTo>
                      <a:pt x="13225" y="3"/>
                    </a:lnTo>
                    <a:cubicBezTo>
                      <a:pt x="13226" y="3"/>
                      <a:pt x="13227" y="4"/>
                      <a:pt x="13227" y="5"/>
                    </a:cubicBezTo>
                    <a:cubicBezTo>
                      <a:pt x="13227" y="6"/>
                      <a:pt x="13226" y="7"/>
                      <a:pt x="13225" y="7"/>
                    </a:cubicBezTo>
                    <a:lnTo>
                      <a:pt x="13225" y="7"/>
                    </a:lnTo>
                    <a:cubicBezTo>
                      <a:pt x="13224" y="7"/>
                      <a:pt x="13223" y="6"/>
                      <a:pt x="13223" y="5"/>
                    </a:cubicBezTo>
                    <a:cubicBezTo>
                      <a:pt x="13223" y="4"/>
                      <a:pt x="13224" y="3"/>
                      <a:pt x="13225" y="3"/>
                    </a:cubicBezTo>
                    <a:close/>
                    <a:moveTo>
                      <a:pt x="13233" y="3"/>
                    </a:moveTo>
                    <a:lnTo>
                      <a:pt x="13233" y="3"/>
                    </a:lnTo>
                    <a:cubicBezTo>
                      <a:pt x="13234" y="3"/>
                      <a:pt x="13235" y="4"/>
                      <a:pt x="13235" y="5"/>
                    </a:cubicBezTo>
                    <a:cubicBezTo>
                      <a:pt x="13235" y="6"/>
                      <a:pt x="13234" y="7"/>
                      <a:pt x="13233" y="7"/>
                    </a:cubicBezTo>
                    <a:lnTo>
                      <a:pt x="13233" y="7"/>
                    </a:lnTo>
                    <a:cubicBezTo>
                      <a:pt x="13232" y="7"/>
                      <a:pt x="13231" y="6"/>
                      <a:pt x="13231" y="5"/>
                    </a:cubicBezTo>
                    <a:cubicBezTo>
                      <a:pt x="13231" y="4"/>
                      <a:pt x="13232" y="3"/>
                      <a:pt x="13233" y="3"/>
                    </a:cubicBezTo>
                    <a:close/>
                    <a:moveTo>
                      <a:pt x="13241" y="3"/>
                    </a:moveTo>
                    <a:lnTo>
                      <a:pt x="13241" y="3"/>
                    </a:lnTo>
                    <a:cubicBezTo>
                      <a:pt x="13242" y="3"/>
                      <a:pt x="13243" y="4"/>
                      <a:pt x="13243" y="5"/>
                    </a:cubicBezTo>
                    <a:cubicBezTo>
                      <a:pt x="13243" y="6"/>
                      <a:pt x="13242" y="7"/>
                      <a:pt x="13241" y="7"/>
                    </a:cubicBezTo>
                    <a:lnTo>
                      <a:pt x="13241" y="7"/>
                    </a:lnTo>
                    <a:cubicBezTo>
                      <a:pt x="13240" y="7"/>
                      <a:pt x="13239" y="6"/>
                      <a:pt x="13239" y="5"/>
                    </a:cubicBezTo>
                    <a:cubicBezTo>
                      <a:pt x="13239" y="4"/>
                      <a:pt x="13240" y="3"/>
                      <a:pt x="13241" y="3"/>
                    </a:cubicBezTo>
                    <a:close/>
                    <a:moveTo>
                      <a:pt x="13249" y="3"/>
                    </a:moveTo>
                    <a:lnTo>
                      <a:pt x="13249" y="3"/>
                    </a:lnTo>
                    <a:cubicBezTo>
                      <a:pt x="13250" y="3"/>
                      <a:pt x="13251" y="4"/>
                      <a:pt x="13251" y="5"/>
                    </a:cubicBezTo>
                    <a:cubicBezTo>
                      <a:pt x="13251" y="6"/>
                      <a:pt x="13250" y="7"/>
                      <a:pt x="13249" y="7"/>
                    </a:cubicBezTo>
                    <a:lnTo>
                      <a:pt x="13249" y="7"/>
                    </a:lnTo>
                    <a:cubicBezTo>
                      <a:pt x="13248" y="7"/>
                      <a:pt x="13247" y="6"/>
                      <a:pt x="13247" y="5"/>
                    </a:cubicBezTo>
                    <a:cubicBezTo>
                      <a:pt x="13247" y="4"/>
                      <a:pt x="13248" y="3"/>
                      <a:pt x="13249" y="3"/>
                    </a:cubicBezTo>
                    <a:close/>
                    <a:moveTo>
                      <a:pt x="13257" y="3"/>
                    </a:moveTo>
                    <a:lnTo>
                      <a:pt x="13257" y="3"/>
                    </a:lnTo>
                    <a:cubicBezTo>
                      <a:pt x="13258" y="3"/>
                      <a:pt x="13259" y="4"/>
                      <a:pt x="13259" y="5"/>
                    </a:cubicBezTo>
                    <a:cubicBezTo>
                      <a:pt x="13259" y="6"/>
                      <a:pt x="13258" y="7"/>
                      <a:pt x="13257" y="7"/>
                    </a:cubicBezTo>
                    <a:lnTo>
                      <a:pt x="13257" y="7"/>
                    </a:lnTo>
                    <a:cubicBezTo>
                      <a:pt x="13256" y="7"/>
                      <a:pt x="13255" y="6"/>
                      <a:pt x="13255" y="5"/>
                    </a:cubicBezTo>
                    <a:cubicBezTo>
                      <a:pt x="13255" y="4"/>
                      <a:pt x="13256" y="3"/>
                      <a:pt x="13257" y="3"/>
                    </a:cubicBezTo>
                    <a:close/>
                    <a:moveTo>
                      <a:pt x="13265" y="3"/>
                    </a:moveTo>
                    <a:lnTo>
                      <a:pt x="13265" y="3"/>
                    </a:lnTo>
                    <a:cubicBezTo>
                      <a:pt x="13266" y="3"/>
                      <a:pt x="13267" y="4"/>
                      <a:pt x="13267" y="5"/>
                    </a:cubicBezTo>
                    <a:cubicBezTo>
                      <a:pt x="13267" y="6"/>
                      <a:pt x="13266" y="7"/>
                      <a:pt x="13265" y="7"/>
                    </a:cubicBezTo>
                    <a:lnTo>
                      <a:pt x="13265" y="7"/>
                    </a:lnTo>
                    <a:cubicBezTo>
                      <a:pt x="13264" y="7"/>
                      <a:pt x="13263" y="6"/>
                      <a:pt x="13263" y="5"/>
                    </a:cubicBezTo>
                    <a:cubicBezTo>
                      <a:pt x="13263" y="4"/>
                      <a:pt x="13264" y="3"/>
                      <a:pt x="13265" y="3"/>
                    </a:cubicBezTo>
                    <a:close/>
                    <a:moveTo>
                      <a:pt x="13273" y="3"/>
                    </a:moveTo>
                    <a:lnTo>
                      <a:pt x="13273" y="3"/>
                    </a:lnTo>
                    <a:cubicBezTo>
                      <a:pt x="13274" y="3"/>
                      <a:pt x="13275" y="4"/>
                      <a:pt x="13275" y="5"/>
                    </a:cubicBezTo>
                    <a:cubicBezTo>
                      <a:pt x="13275" y="6"/>
                      <a:pt x="13274" y="7"/>
                      <a:pt x="13273" y="7"/>
                    </a:cubicBezTo>
                    <a:lnTo>
                      <a:pt x="13273" y="7"/>
                    </a:lnTo>
                    <a:cubicBezTo>
                      <a:pt x="13272" y="7"/>
                      <a:pt x="13271" y="6"/>
                      <a:pt x="13271" y="5"/>
                    </a:cubicBezTo>
                    <a:cubicBezTo>
                      <a:pt x="13271" y="4"/>
                      <a:pt x="13272" y="3"/>
                      <a:pt x="13273" y="3"/>
                    </a:cubicBezTo>
                    <a:close/>
                    <a:moveTo>
                      <a:pt x="13281" y="3"/>
                    </a:moveTo>
                    <a:lnTo>
                      <a:pt x="13281" y="3"/>
                    </a:lnTo>
                    <a:cubicBezTo>
                      <a:pt x="13282" y="3"/>
                      <a:pt x="13283" y="4"/>
                      <a:pt x="13283" y="5"/>
                    </a:cubicBezTo>
                    <a:cubicBezTo>
                      <a:pt x="13283" y="6"/>
                      <a:pt x="13282" y="7"/>
                      <a:pt x="13281" y="7"/>
                    </a:cubicBezTo>
                    <a:lnTo>
                      <a:pt x="13281" y="7"/>
                    </a:lnTo>
                    <a:cubicBezTo>
                      <a:pt x="13280" y="7"/>
                      <a:pt x="13279" y="6"/>
                      <a:pt x="13279" y="5"/>
                    </a:cubicBezTo>
                    <a:cubicBezTo>
                      <a:pt x="13279" y="4"/>
                      <a:pt x="13280" y="3"/>
                      <a:pt x="13281" y="3"/>
                    </a:cubicBezTo>
                    <a:close/>
                    <a:moveTo>
                      <a:pt x="13289" y="3"/>
                    </a:moveTo>
                    <a:lnTo>
                      <a:pt x="13289" y="3"/>
                    </a:lnTo>
                    <a:cubicBezTo>
                      <a:pt x="13290" y="3"/>
                      <a:pt x="13291" y="4"/>
                      <a:pt x="13291" y="5"/>
                    </a:cubicBezTo>
                    <a:cubicBezTo>
                      <a:pt x="13291" y="6"/>
                      <a:pt x="13290" y="7"/>
                      <a:pt x="13289" y="7"/>
                    </a:cubicBezTo>
                    <a:lnTo>
                      <a:pt x="13289" y="7"/>
                    </a:lnTo>
                    <a:cubicBezTo>
                      <a:pt x="13288" y="7"/>
                      <a:pt x="13287" y="6"/>
                      <a:pt x="13287" y="5"/>
                    </a:cubicBezTo>
                    <a:cubicBezTo>
                      <a:pt x="13287" y="4"/>
                      <a:pt x="13288" y="3"/>
                      <a:pt x="13289" y="3"/>
                    </a:cubicBezTo>
                    <a:close/>
                    <a:moveTo>
                      <a:pt x="13297" y="3"/>
                    </a:moveTo>
                    <a:lnTo>
                      <a:pt x="13297" y="3"/>
                    </a:lnTo>
                    <a:cubicBezTo>
                      <a:pt x="13298" y="3"/>
                      <a:pt x="13299" y="4"/>
                      <a:pt x="13299" y="5"/>
                    </a:cubicBezTo>
                    <a:cubicBezTo>
                      <a:pt x="13299" y="6"/>
                      <a:pt x="13298" y="7"/>
                      <a:pt x="13297" y="7"/>
                    </a:cubicBezTo>
                    <a:lnTo>
                      <a:pt x="13297" y="7"/>
                    </a:lnTo>
                    <a:cubicBezTo>
                      <a:pt x="13296" y="7"/>
                      <a:pt x="13295" y="6"/>
                      <a:pt x="13295" y="5"/>
                    </a:cubicBezTo>
                    <a:cubicBezTo>
                      <a:pt x="13295" y="4"/>
                      <a:pt x="13296" y="3"/>
                      <a:pt x="13297" y="3"/>
                    </a:cubicBezTo>
                    <a:close/>
                    <a:moveTo>
                      <a:pt x="13305" y="3"/>
                    </a:moveTo>
                    <a:lnTo>
                      <a:pt x="13305" y="3"/>
                    </a:lnTo>
                    <a:cubicBezTo>
                      <a:pt x="13306" y="3"/>
                      <a:pt x="13307" y="4"/>
                      <a:pt x="13307" y="5"/>
                    </a:cubicBezTo>
                    <a:cubicBezTo>
                      <a:pt x="13307" y="6"/>
                      <a:pt x="13306" y="7"/>
                      <a:pt x="13305" y="7"/>
                    </a:cubicBezTo>
                    <a:lnTo>
                      <a:pt x="13305" y="7"/>
                    </a:lnTo>
                    <a:cubicBezTo>
                      <a:pt x="13304" y="7"/>
                      <a:pt x="13303" y="6"/>
                      <a:pt x="13303" y="5"/>
                    </a:cubicBezTo>
                    <a:cubicBezTo>
                      <a:pt x="13303" y="4"/>
                      <a:pt x="13304" y="3"/>
                      <a:pt x="13305" y="3"/>
                    </a:cubicBezTo>
                    <a:close/>
                    <a:moveTo>
                      <a:pt x="13313" y="3"/>
                    </a:moveTo>
                    <a:lnTo>
                      <a:pt x="13313" y="3"/>
                    </a:lnTo>
                    <a:cubicBezTo>
                      <a:pt x="13314" y="3"/>
                      <a:pt x="13315" y="4"/>
                      <a:pt x="13315" y="5"/>
                    </a:cubicBezTo>
                    <a:cubicBezTo>
                      <a:pt x="13315" y="6"/>
                      <a:pt x="13314" y="7"/>
                      <a:pt x="13313" y="7"/>
                    </a:cubicBezTo>
                    <a:lnTo>
                      <a:pt x="13313" y="7"/>
                    </a:lnTo>
                    <a:cubicBezTo>
                      <a:pt x="13312" y="7"/>
                      <a:pt x="13311" y="6"/>
                      <a:pt x="13311" y="5"/>
                    </a:cubicBezTo>
                    <a:cubicBezTo>
                      <a:pt x="13311" y="4"/>
                      <a:pt x="13312" y="3"/>
                      <a:pt x="13313" y="3"/>
                    </a:cubicBezTo>
                    <a:close/>
                    <a:moveTo>
                      <a:pt x="13321" y="3"/>
                    </a:moveTo>
                    <a:lnTo>
                      <a:pt x="13321" y="3"/>
                    </a:lnTo>
                    <a:cubicBezTo>
                      <a:pt x="13322" y="3"/>
                      <a:pt x="13323" y="4"/>
                      <a:pt x="13323" y="5"/>
                    </a:cubicBezTo>
                    <a:cubicBezTo>
                      <a:pt x="13323" y="6"/>
                      <a:pt x="13322" y="7"/>
                      <a:pt x="13321" y="7"/>
                    </a:cubicBezTo>
                    <a:lnTo>
                      <a:pt x="13321" y="7"/>
                    </a:lnTo>
                    <a:cubicBezTo>
                      <a:pt x="13320" y="7"/>
                      <a:pt x="13319" y="6"/>
                      <a:pt x="13319" y="5"/>
                    </a:cubicBezTo>
                    <a:cubicBezTo>
                      <a:pt x="13319" y="4"/>
                      <a:pt x="13320" y="3"/>
                      <a:pt x="13321" y="3"/>
                    </a:cubicBezTo>
                    <a:close/>
                    <a:moveTo>
                      <a:pt x="13329" y="3"/>
                    </a:moveTo>
                    <a:lnTo>
                      <a:pt x="13329" y="3"/>
                    </a:lnTo>
                    <a:cubicBezTo>
                      <a:pt x="13330" y="3"/>
                      <a:pt x="13331" y="4"/>
                      <a:pt x="13331" y="5"/>
                    </a:cubicBezTo>
                    <a:cubicBezTo>
                      <a:pt x="13331" y="6"/>
                      <a:pt x="13330" y="7"/>
                      <a:pt x="13329" y="7"/>
                    </a:cubicBezTo>
                    <a:lnTo>
                      <a:pt x="13329" y="7"/>
                    </a:lnTo>
                    <a:cubicBezTo>
                      <a:pt x="13328" y="7"/>
                      <a:pt x="13327" y="6"/>
                      <a:pt x="13327" y="5"/>
                    </a:cubicBezTo>
                    <a:cubicBezTo>
                      <a:pt x="13327" y="4"/>
                      <a:pt x="13328" y="3"/>
                      <a:pt x="13329" y="3"/>
                    </a:cubicBezTo>
                    <a:close/>
                    <a:moveTo>
                      <a:pt x="13337" y="3"/>
                    </a:moveTo>
                    <a:lnTo>
                      <a:pt x="13337" y="3"/>
                    </a:lnTo>
                    <a:cubicBezTo>
                      <a:pt x="13338" y="3"/>
                      <a:pt x="13339" y="4"/>
                      <a:pt x="13339" y="5"/>
                    </a:cubicBezTo>
                    <a:cubicBezTo>
                      <a:pt x="13339" y="6"/>
                      <a:pt x="13338" y="7"/>
                      <a:pt x="13337" y="7"/>
                    </a:cubicBezTo>
                    <a:lnTo>
                      <a:pt x="13337" y="7"/>
                    </a:lnTo>
                    <a:cubicBezTo>
                      <a:pt x="13336" y="7"/>
                      <a:pt x="13335" y="6"/>
                      <a:pt x="13335" y="5"/>
                    </a:cubicBezTo>
                    <a:cubicBezTo>
                      <a:pt x="13335" y="4"/>
                      <a:pt x="13336" y="3"/>
                      <a:pt x="13337" y="3"/>
                    </a:cubicBezTo>
                    <a:close/>
                    <a:moveTo>
                      <a:pt x="13345" y="3"/>
                    </a:moveTo>
                    <a:lnTo>
                      <a:pt x="13345" y="3"/>
                    </a:lnTo>
                    <a:cubicBezTo>
                      <a:pt x="13346" y="3"/>
                      <a:pt x="13347" y="4"/>
                      <a:pt x="13347" y="5"/>
                    </a:cubicBezTo>
                    <a:cubicBezTo>
                      <a:pt x="13347" y="6"/>
                      <a:pt x="13346" y="7"/>
                      <a:pt x="13345" y="7"/>
                    </a:cubicBezTo>
                    <a:lnTo>
                      <a:pt x="13345" y="7"/>
                    </a:lnTo>
                    <a:cubicBezTo>
                      <a:pt x="13344" y="7"/>
                      <a:pt x="13343" y="6"/>
                      <a:pt x="13343" y="5"/>
                    </a:cubicBezTo>
                    <a:cubicBezTo>
                      <a:pt x="13343" y="4"/>
                      <a:pt x="13344" y="3"/>
                      <a:pt x="13345" y="3"/>
                    </a:cubicBezTo>
                    <a:close/>
                    <a:moveTo>
                      <a:pt x="13353" y="3"/>
                    </a:moveTo>
                    <a:lnTo>
                      <a:pt x="13353" y="3"/>
                    </a:lnTo>
                    <a:cubicBezTo>
                      <a:pt x="13354" y="3"/>
                      <a:pt x="13355" y="4"/>
                      <a:pt x="13355" y="5"/>
                    </a:cubicBezTo>
                    <a:cubicBezTo>
                      <a:pt x="13355" y="6"/>
                      <a:pt x="13354" y="7"/>
                      <a:pt x="13353" y="7"/>
                    </a:cubicBezTo>
                    <a:lnTo>
                      <a:pt x="13353" y="7"/>
                    </a:lnTo>
                    <a:cubicBezTo>
                      <a:pt x="13352" y="7"/>
                      <a:pt x="13351" y="6"/>
                      <a:pt x="13351" y="5"/>
                    </a:cubicBezTo>
                    <a:cubicBezTo>
                      <a:pt x="13351" y="4"/>
                      <a:pt x="13352" y="3"/>
                      <a:pt x="13353" y="3"/>
                    </a:cubicBezTo>
                    <a:close/>
                    <a:moveTo>
                      <a:pt x="13361" y="3"/>
                    </a:moveTo>
                    <a:lnTo>
                      <a:pt x="13361" y="3"/>
                    </a:lnTo>
                    <a:cubicBezTo>
                      <a:pt x="13362" y="3"/>
                      <a:pt x="13363" y="4"/>
                      <a:pt x="13363" y="5"/>
                    </a:cubicBezTo>
                    <a:cubicBezTo>
                      <a:pt x="13363" y="6"/>
                      <a:pt x="13362" y="7"/>
                      <a:pt x="13361" y="7"/>
                    </a:cubicBezTo>
                    <a:lnTo>
                      <a:pt x="13361" y="7"/>
                    </a:lnTo>
                    <a:cubicBezTo>
                      <a:pt x="13360" y="7"/>
                      <a:pt x="13359" y="6"/>
                      <a:pt x="13359" y="5"/>
                    </a:cubicBezTo>
                    <a:cubicBezTo>
                      <a:pt x="13359" y="4"/>
                      <a:pt x="13360" y="3"/>
                      <a:pt x="13361" y="3"/>
                    </a:cubicBezTo>
                    <a:close/>
                    <a:moveTo>
                      <a:pt x="13369" y="3"/>
                    </a:moveTo>
                    <a:lnTo>
                      <a:pt x="13369" y="3"/>
                    </a:lnTo>
                    <a:cubicBezTo>
                      <a:pt x="13370" y="3"/>
                      <a:pt x="13371" y="4"/>
                      <a:pt x="13371" y="5"/>
                    </a:cubicBezTo>
                    <a:cubicBezTo>
                      <a:pt x="13371" y="6"/>
                      <a:pt x="13370" y="7"/>
                      <a:pt x="13369" y="7"/>
                    </a:cubicBezTo>
                    <a:lnTo>
                      <a:pt x="13369" y="7"/>
                    </a:lnTo>
                    <a:cubicBezTo>
                      <a:pt x="13368" y="7"/>
                      <a:pt x="13367" y="6"/>
                      <a:pt x="13367" y="5"/>
                    </a:cubicBezTo>
                    <a:cubicBezTo>
                      <a:pt x="13367" y="4"/>
                      <a:pt x="13368" y="3"/>
                      <a:pt x="13369" y="3"/>
                    </a:cubicBezTo>
                    <a:close/>
                    <a:moveTo>
                      <a:pt x="13377" y="3"/>
                    </a:moveTo>
                    <a:lnTo>
                      <a:pt x="13377" y="3"/>
                    </a:lnTo>
                    <a:cubicBezTo>
                      <a:pt x="13378" y="3"/>
                      <a:pt x="13379" y="4"/>
                      <a:pt x="13379" y="5"/>
                    </a:cubicBezTo>
                    <a:cubicBezTo>
                      <a:pt x="13379" y="6"/>
                      <a:pt x="13378" y="7"/>
                      <a:pt x="13377" y="7"/>
                    </a:cubicBezTo>
                    <a:lnTo>
                      <a:pt x="13377" y="7"/>
                    </a:lnTo>
                    <a:cubicBezTo>
                      <a:pt x="13376" y="7"/>
                      <a:pt x="13375" y="6"/>
                      <a:pt x="13375" y="5"/>
                    </a:cubicBezTo>
                    <a:cubicBezTo>
                      <a:pt x="13375" y="4"/>
                      <a:pt x="13376" y="3"/>
                      <a:pt x="13377" y="3"/>
                    </a:cubicBezTo>
                    <a:close/>
                    <a:moveTo>
                      <a:pt x="13385" y="3"/>
                    </a:moveTo>
                    <a:lnTo>
                      <a:pt x="13385" y="3"/>
                    </a:lnTo>
                    <a:cubicBezTo>
                      <a:pt x="13386" y="3"/>
                      <a:pt x="13387" y="4"/>
                      <a:pt x="13387" y="5"/>
                    </a:cubicBezTo>
                    <a:cubicBezTo>
                      <a:pt x="13387" y="6"/>
                      <a:pt x="13386" y="7"/>
                      <a:pt x="13385" y="7"/>
                    </a:cubicBezTo>
                    <a:lnTo>
                      <a:pt x="13385" y="7"/>
                    </a:lnTo>
                    <a:cubicBezTo>
                      <a:pt x="13384" y="7"/>
                      <a:pt x="13383" y="6"/>
                      <a:pt x="13383" y="5"/>
                    </a:cubicBezTo>
                    <a:cubicBezTo>
                      <a:pt x="13383" y="4"/>
                      <a:pt x="13384" y="3"/>
                      <a:pt x="13385" y="3"/>
                    </a:cubicBezTo>
                    <a:close/>
                    <a:moveTo>
                      <a:pt x="13393" y="3"/>
                    </a:moveTo>
                    <a:lnTo>
                      <a:pt x="13393" y="3"/>
                    </a:lnTo>
                    <a:cubicBezTo>
                      <a:pt x="13394" y="3"/>
                      <a:pt x="13395" y="4"/>
                      <a:pt x="13395" y="5"/>
                    </a:cubicBezTo>
                    <a:cubicBezTo>
                      <a:pt x="13395" y="6"/>
                      <a:pt x="13394" y="7"/>
                      <a:pt x="13393" y="7"/>
                    </a:cubicBezTo>
                    <a:lnTo>
                      <a:pt x="13393" y="7"/>
                    </a:lnTo>
                    <a:cubicBezTo>
                      <a:pt x="13392" y="7"/>
                      <a:pt x="13391" y="6"/>
                      <a:pt x="13391" y="5"/>
                    </a:cubicBezTo>
                    <a:cubicBezTo>
                      <a:pt x="13391" y="4"/>
                      <a:pt x="13392" y="3"/>
                      <a:pt x="13393" y="3"/>
                    </a:cubicBezTo>
                    <a:close/>
                    <a:moveTo>
                      <a:pt x="13401" y="3"/>
                    </a:moveTo>
                    <a:lnTo>
                      <a:pt x="13401" y="3"/>
                    </a:lnTo>
                    <a:cubicBezTo>
                      <a:pt x="13402" y="3"/>
                      <a:pt x="13403" y="4"/>
                      <a:pt x="13403" y="5"/>
                    </a:cubicBezTo>
                    <a:cubicBezTo>
                      <a:pt x="13403" y="6"/>
                      <a:pt x="13402" y="7"/>
                      <a:pt x="13401" y="7"/>
                    </a:cubicBezTo>
                    <a:lnTo>
                      <a:pt x="13401" y="7"/>
                    </a:lnTo>
                    <a:cubicBezTo>
                      <a:pt x="13400" y="7"/>
                      <a:pt x="13399" y="6"/>
                      <a:pt x="13399" y="5"/>
                    </a:cubicBezTo>
                    <a:cubicBezTo>
                      <a:pt x="13399" y="4"/>
                      <a:pt x="13400" y="3"/>
                      <a:pt x="13401" y="3"/>
                    </a:cubicBezTo>
                    <a:close/>
                    <a:moveTo>
                      <a:pt x="13409" y="3"/>
                    </a:moveTo>
                    <a:lnTo>
                      <a:pt x="13409" y="3"/>
                    </a:lnTo>
                    <a:cubicBezTo>
                      <a:pt x="13410" y="3"/>
                      <a:pt x="13411" y="4"/>
                      <a:pt x="13411" y="5"/>
                    </a:cubicBezTo>
                    <a:cubicBezTo>
                      <a:pt x="13411" y="6"/>
                      <a:pt x="13410" y="7"/>
                      <a:pt x="13409" y="7"/>
                    </a:cubicBezTo>
                    <a:lnTo>
                      <a:pt x="13409" y="7"/>
                    </a:lnTo>
                    <a:cubicBezTo>
                      <a:pt x="13408" y="7"/>
                      <a:pt x="13407" y="6"/>
                      <a:pt x="13407" y="5"/>
                    </a:cubicBezTo>
                    <a:cubicBezTo>
                      <a:pt x="13407" y="4"/>
                      <a:pt x="13408" y="3"/>
                      <a:pt x="13409" y="3"/>
                    </a:cubicBezTo>
                    <a:close/>
                    <a:moveTo>
                      <a:pt x="13417" y="3"/>
                    </a:moveTo>
                    <a:lnTo>
                      <a:pt x="13417" y="3"/>
                    </a:lnTo>
                    <a:cubicBezTo>
                      <a:pt x="13418" y="3"/>
                      <a:pt x="13419" y="4"/>
                      <a:pt x="13419" y="5"/>
                    </a:cubicBezTo>
                    <a:cubicBezTo>
                      <a:pt x="13419" y="6"/>
                      <a:pt x="13418" y="7"/>
                      <a:pt x="13417" y="7"/>
                    </a:cubicBezTo>
                    <a:lnTo>
                      <a:pt x="13417" y="7"/>
                    </a:lnTo>
                    <a:cubicBezTo>
                      <a:pt x="13416" y="7"/>
                      <a:pt x="13415" y="6"/>
                      <a:pt x="13415" y="5"/>
                    </a:cubicBezTo>
                    <a:cubicBezTo>
                      <a:pt x="13415" y="4"/>
                      <a:pt x="13416" y="3"/>
                      <a:pt x="13417" y="3"/>
                    </a:cubicBezTo>
                    <a:close/>
                    <a:moveTo>
                      <a:pt x="13425" y="3"/>
                    </a:moveTo>
                    <a:lnTo>
                      <a:pt x="13425" y="3"/>
                    </a:lnTo>
                    <a:cubicBezTo>
                      <a:pt x="13426" y="3"/>
                      <a:pt x="13427" y="4"/>
                      <a:pt x="13427" y="5"/>
                    </a:cubicBezTo>
                    <a:cubicBezTo>
                      <a:pt x="13427" y="6"/>
                      <a:pt x="13426" y="7"/>
                      <a:pt x="13425" y="7"/>
                    </a:cubicBezTo>
                    <a:lnTo>
                      <a:pt x="13425" y="7"/>
                    </a:lnTo>
                    <a:cubicBezTo>
                      <a:pt x="13424" y="7"/>
                      <a:pt x="13423" y="6"/>
                      <a:pt x="13423" y="5"/>
                    </a:cubicBezTo>
                    <a:cubicBezTo>
                      <a:pt x="13423" y="4"/>
                      <a:pt x="13424" y="3"/>
                      <a:pt x="13425" y="3"/>
                    </a:cubicBezTo>
                    <a:close/>
                    <a:moveTo>
                      <a:pt x="13433" y="3"/>
                    </a:moveTo>
                    <a:lnTo>
                      <a:pt x="13433" y="3"/>
                    </a:lnTo>
                    <a:cubicBezTo>
                      <a:pt x="13434" y="3"/>
                      <a:pt x="13435" y="4"/>
                      <a:pt x="13435" y="5"/>
                    </a:cubicBezTo>
                    <a:cubicBezTo>
                      <a:pt x="13435" y="6"/>
                      <a:pt x="13434" y="7"/>
                      <a:pt x="13433" y="7"/>
                    </a:cubicBezTo>
                    <a:lnTo>
                      <a:pt x="13433" y="7"/>
                    </a:lnTo>
                    <a:cubicBezTo>
                      <a:pt x="13432" y="7"/>
                      <a:pt x="13431" y="6"/>
                      <a:pt x="13431" y="5"/>
                    </a:cubicBezTo>
                    <a:cubicBezTo>
                      <a:pt x="13431" y="4"/>
                      <a:pt x="13432" y="3"/>
                      <a:pt x="13433" y="3"/>
                    </a:cubicBezTo>
                    <a:close/>
                    <a:moveTo>
                      <a:pt x="13441" y="3"/>
                    </a:moveTo>
                    <a:lnTo>
                      <a:pt x="13441" y="3"/>
                    </a:lnTo>
                    <a:cubicBezTo>
                      <a:pt x="13442" y="3"/>
                      <a:pt x="13443" y="4"/>
                      <a:pt x="13443" y="5"/>
                    </a:cubicBezTo>
                    <a:cubicBezTo>
                      <a:pt x="13443" y="6"/>
                      <a:pt x="13442" y="7"/>
                      <a:pt x="13441" y="7"/>
                    </a:cubicBezTo>
                    <a:lnTo>
                      <a:pt x="13441" y="7"/>
                    </a:lnTo>
                    <a:cubicBezTo>
                      <a:pt x="13440" y="7"/>
                      <a:pt x="13439" y="6"/>
                      <a:pt x="13439" y="5"/>
                    </a:cubicBezTo>
                    <a:cubicBezTo>
                      <a:pt x="13439" y="4"/>
                      <a:pt x="13440" y="3"/>
                      <a:pt x="13441" y="3"/>
                    </a:cubicBezTo>
                    <a:close/>
                    <a:moveTo>
                      <a:pt x="13449" y="3"/>
                    </a:moveTo>
                    <a:lnTo>
                      <a:pt x="13449" y="3"/>
                    </a:lnTo>
                    <a:cubicBezTo>
                      <a:pt x="13450" y="3"/>
                      <a:pt x="13451" y="4"/>
                      <a:pt x="13451" y="5"/>
                    </a:cubicBezTo>
                    <a:cubicBezTo>
                      <a:pt x="13451" y="6"/>
                      <a:pt x="13450" y="7"/>
                      <a:pt x="13449" y="7"/>
                    </a:cubicBezTo>
                    <a:lnTo>
                      <a:pt x="13449" y="7"/>
                    </a:lnTo>
                    <a:cubicBezTo>
                      <a:pt x="13448" y="7"/>
                      <a:pt x="13447" y="6"/>
                      <a:pt x="13447" y="5"/>
                    </a:cubicBezTo>
                    <a:cubicBezTo>
                      <a:pt x="13447" y="4"/>
                      <a:pt x="13448" y="3"/>
                      <a:pt x="13449" y="3"/>
                    </a:cubicBezTo>
                    <a:close/>
                    <a:moveTo>
                      <a:pt x="13457" y="3"/>
                    </a:moveTo>
                    <a:lnTo>
                      <a:pt x="13457" y="3"/>
                    </a:lnTo>
                    <a:cubicBezTo>
                      <a:pt x="13458" y="3"/>
                      <a:pt x="13459" y="4"/>
                      <a:pt x="13459" y="5"/>
                    </a:cubicBezTo>
                    <a:cubicBezTo>
                      <a:pt x="13459" y="6"/>
                      <a:pt x="13458" y="7"/>
                      <a:pt x="13457" y="7"/>
                    </a:cubicBezTo>
                    <a:lnTo>
                      <a:pt x="13457" y="7"/>
                    </a:lnTo>
                    <a:cubicBezTo>
                      <a:pt x="13456" y="7"/>
                      <a:pt x="13455" y="6"/>
                      <a:pt x="13455" y="5"/>
                    </a:cubicBezTo>
                    <a:cubicBezTo>
                      <a:pt x="13455" y="4"/>
                      <a:pt x="13456" y="3"/>
                      <a:pt x="13457" y="3"/>
                    </a:cubicBezTo>
                    <a:close/>
                    <a:moveTo>
                      <a:pt x="13465" y="3"/>
                    </a:moveTo>
                    <a:lnTo>
                      <a:pt x="13465" y="3"/>
                    </a:lnTo>
                    <a:cubicBezTo>
                      <a:pt x="13466" y="3"/>
                      <a:pt x="13467" y="4"/>
                      <a:pt x="13467" y="5"/>
                    </a:cubicBezTo>
                    <a:cubicBezTo>
                      <a:pt x="13467" y="6"/>
                      <a:pt x="13466" y="7"/>
                      <a:pt x="13465" y="7"/>
                    </a:cubicBezTo>
                    <a:lnTo>
                      <a:pt x="13465" y="7"/>
                    </a:lnTo>
                    <a:cubicBezTo>
                      <a:pt x="13464" y="7"/>
                      <a:pt x="13463" y="6"/>
                      <a:pt x="13463" y="5"/>
                    </a:cubicBezTo>
                    <a:cubicBezTo>
                      <a:pt x="13463" y="4"/>
                      <a:pt x="13464" y="3"/>
                      <a:pt x="13465" y="3"/>
                    </a:cubicBezTo>
                    <a:close/>
                    <a:moveTo>
                      <a:pt x="13473" y="3"/>
                    </a:moveTo>
                    <a:lnTo>
                      <a:pt x="13473" y="3"/>
                    </a:lnTo>
                    <a:cubicBezTo>
                      <a:pt x="13474" y="3"/>
                      <a:pt x="13475" y="4"/>
                      <a:pt x="13475" y="5"/>
                    </a:cubicBezTo>
                    <a:cubicBezTo>
                      <a:pt x="13475" y="6"/>
                      <a:pt x="13474" y="7"/>
                      <a:pt x="13473" y="7"/>
                    </a:cubicBezTo>
                    <a:lnTo>
                      <a:pt x="13473" y="7"/>
                    </a:lnTo>
                    <a:cubicBezTo>
                      <a:pt x="13472" y="7"/>
                      <a:pt x="13471" y="6"/>
                      <a:pt x="13471" y="5"/>
                    </a:cubicBezTo>
                    <a:cubicBezTo>
                      <a:pt x="13471" y="4"/>
                      <a:pt x="13472" y="3"/>
                      <a:pt x="13473" y="3"/>
                    </a:cubicBezTo>
                    <a:close/>
                    <a:moveTo>
                      <a:pt x="13481" y="3"/>
                    </a:moveTo>
                    <a:lnTo>
                      <a:pt x="13481" y="3"/>
                    </a:lnTo>
                    <a:cubicBezTo>
                      <a:pt x="13482" y="3"/>
                      <a:pt x="13483" y="4"/>
                      <a:pt x="13483" y="5"/>
                    </a:cubicBezTo>
                    <a:cubicBezTo>
                      <a:pt x="13483" y="6"/>
                      <a:pt x="13482" y="7"/>
                      <a:pt x="13481" y="7"/>
                    </a:cubicBezTo>
                    <a:lnTo>
                      <a:pt x="13481" y="7"/>
                    </a:lnTo>
                    <a:cubicBezTo>
                      <a:pt x="13480" y="7"/>
                      <a:pt x="13479" y="6"/>
                      <a:pt x="13479" y="5"/>
                    </a:cubicBezTo>
                    <a:cubicBezTo>
                      <a:pt x="13479" y="4"/>
                      <a:pt x="13480" y="3"/>
                      <a:pt x="13481" y="3"/>
                    </a:cubicBezTo>
                    <a:close/>
                    <a:moveTo>
                      <a:pt x="13489" y="3"/>
                    </a:moveTo>
                    <a:lnTo>
                      <a:pt x="13489" y="3"/>
                    </a:lnTo>
                    <a:cubicBezTo>
                      <a:pt x="13490" y="3"/>
                      <a:pt x="13491" y="4"/>
                      <a:pt x="13491" y="5"/>
                    </a:cubicBezTo>
                    <a:cubicBezTo>
                      <a:pt x="13491" y="6"/>
                      <a:pt x="13490" y="7"/>
                      <a:pt x="13489" y="7"/>
                    </a:cubicBezTo>
                    <a:lnTo>
                      <a:pt x="13489" y="7"/>
                    </a:lnTo>
                    <a:cubicBezTo>
                      <a:pt x="13488" y="7"/>
                      <a:pt x="13487" y="6"/>
                      <a:pt x="13487" y="5"/>
                    </a:cubicBezTo>
                    <a:cubicBezTo>
                      <a:pt x="13487" y="4"/>
                      <a:pt x="13488" y="3"/>
                      <a:pt x="13489" y="3"/>
                    </a:cubicBezTo>
                    <a:close/>
                    <a:moveTo>
                      <a:pt x="13497" y="3"/>
                    </a:moveTo>
                    <a:lnTo>
                      <a:pt x="13497" y="3"/>
                    </a:lnTo>
                    <a:cubicBezTo>
                      <a:pt x="13498" y="3"/>
                      <a:pt x="13499" y="4"/>
                      <a:pt x="13499" y="5"/>
                    </a:cubicBezTo>
                    <a:cubicBezTo>
                      <a:pt x="13499" y="6"/>
                      <a:pt x="13498" y="7"/>
                      <a:pt x="13497" y="7"/>
                    </a:cubicBezTo>
                    <a:lnTo>
                      <a:pt x="13497" y="7"/>
                    </a:lnTo>
                    <a:cubicBezTo>
                      <a:pt x="13496" y="7"/>
                      <a:pt x="13495" y="6"/>
                      <a:pt x="13495" y="5"/>
                    </a:cubicBezTo>
                    <a:cubicBezTo>
                      <a:pt x="13495" y="4"/>
                      <a:pt x="13496" y="3"/>
                      <a:pt x="13497" y="3"/>
                    </a:cubicBezTo>
                    <a:close/>
                    <a:moveTo>
                      <a:pt x="13505" y="3"/>
                    </a:moveTo>
                    <a:lnTo>
                      <a:pt x="13505" y="3"/>
                    </a:lnTo>
                    <a:cubicBezTo>
                      <a:pt x="13506" y="3"/>
                      <a:pt x="13507" y="4"/>
                      <a:pt x="13507" y="5"/>
                    </a:cubicBezTo>
                    <a:cubicBezTo>
                      <a:pt x="13507" y="6"/>
                      <a:pt x="13506" y="7"/>
                      <a:pt x="13505" y="7"/>
                    </a:cubicBezTo>
                    <a:lnTo>
                      <a:pt x="13505" y="7"/>
                    </a:lnTo>
                    <a:cubicBezTo>
                      <a:pt x="13504" y="7"/>
                      <a:pt x="13503" y="6"/>
                      <a:pt x="13503" y="5"/>
                    </a:cubicBezTo>
                    <a:cubicBezTo>
                      <a:pt x="13503" y="4"/>
                      <a:pt x="13504" y="3"/>
                      <a:pt x="13505" y="3"/>
                    </a:cubicBezTo>
                    <a:close/>
                    <a:moveTo>
                      <a:pt x="13513" y="3"/>
                    </a:moveTo>
                    <a:lnTo>
                      <a:pt x="13513" y="3"/>
                    </a:lnTo>
                    <a:cubicBezTo>
                      <a:pt x="13514" y="3"/>
                      <a:pt x="13515" y="4"/>
                      <a:pt x="13515" y="5"/>
                    </a:cubicBezTo>
                    <a:cubicBezTo>
                      <a:pt x="13515" y="6"/>
                      <a:pt x="13514" y="7"/>
                      <a:pt x="13513" y="7"/>
                    </a:cubicBezTo>
                    <a:lnTo>
                      <a:pt x="13513" y="7"/>
                    </a:lnTo>
                    <a:cubicBezTo>
                      <a:pt x="13512" y="7"/>
                      <a:pt x="13511" y="6"/>
                      <a:pt x="13511" y="5"/>
                    </a:cubicBezTo>
                    <a:cubicBezTo>
                      <a:pt x="13511" y="4"/>
                      <a:pt x="13512" y="3"/>
                      <a:pt x="13513" y="3"/>
                    </a:cubicBezTo>
                    <a:close/>
                    <a:moveTo>
                      <a:pt x="13521" y="3"/>
                    </a:moveTo>
                    <a:lnTo>
                      <a:pt x="13521" y="3"/>
                    </a:lnTo>
                    <a:cubicBezTo>
                      <a:pt x="13522" y="3"/>
                      <a:pt x="13523" y="4"/>
                      <a:pt x="13523" y="5"/>
                    </a:cubicBezTo>
                    <a:cubicBezTo>
                      <a:pt x="13523" y="6"/>
                      <a:pt x="13522" y="7"/>
                      <a:pt x="13521" y="7"/>
                    </a:cubicBezTo>
                    <a:lnTo>
                      <a:pt x="13521" y="7"/>
                    </a:lnTo>
                    <a:cubicBezTo>
                      <a:pt x="13520" y="7"/>
                      <a:pt x="13519" y="6"/>
                      <a:pt x="13519" y="5"/>
                    </a:cubicBezTo>
                    <a:cubicBezTo>
                      <a:pt x="13519" y="4"/>
                      <a:pt x="13520" y="3"/>
                      <a:pt x="13521" y="3"/>
                    </a:cubicBezTo>
                    <a:close/>
                    <a:moveTo>
                      <a:pt x="13529" y="3"/>
                    </a:moveTo>
                    <a:lnTo>
                      <a:pt x="13529" y="3"/>
                    </a:lnTo>
                    <a:cubicBezTo>
                      <a:pt x="13530" y="3"/>
                      <a:pt x="13531" y="4"/>
                      <a:pt x="13531" y="5"/>
                    </a:cubicBezTo>
                    <a:cubicBezTo>
                      <a:pt x="13531" y="6"/>
                      <a:pt x="13530" y="7"/>
                      <a:pt x="13529" y="7"/>
                    </a:cubicBezTo>
                    <a:lnTo>
                      <a:pt x="13529" y="7"/>
                    </a:lnTo>
                    <a:cubicBezTo>
                      <a:pt x="13528" y="7"/>
                      <a:pt x="13527" y="6"/>
                      <a:pt x="13527" y="5"/>
                    </a:cubicBezTo>
                    <a:cubicBezTo>
                      <a:pt x="13527" y="4"/>
                      <a:pt x="13528" y="3"/>
                      <a:pt x="13529" y="3"/>
                    </a:cubicBezTo>
                    <a:close/>
                    <a:moveTo>
                      <a:pt x="13537" y="3"/>
                    </a:moveTo>
                    <a:lnTo>
                      <a:pt x="13537" y="3"/>
                    </a:lnTo>
                    <a:cubicBezTo>
                      <a:pt x="13538" y="3"/>
                      <a:pt x="13539" y="4"/>
                      <a:pt x="13539" y="5"/>
                    </a:cubicBezTo>
                    <a:cubicBezTo>
                      <a:pt x="13539" y="6"/>
                      <a:pt x="13538" y="7"/>
                      <a:pt x="13537" y="7"/>
                    </a:cubicBezTo>
                    <a:lnTo>
                      <a:pt x="13537" y="7"/>
                    </a:lnTo>
                    <a:cubicBezTo>
                      <a:pt x="13536" y="7"/>
                      <a:pt x="13535" y="6"/>
                      <a:pt x="13535" y="5"/>
                    </a:cubicBezTo>
                    <a:cubicBezTo>
                      <a:pt x="13535" y="4"/>
                      <a:pt x="13536" y="3"/>
                      <a:pt x="13537" y="3"/>
                    </a:cubicBezTo>
                    <a:close/>
                    <a:moveTo>
                      <a:pt x="13545" y="3"/>
                    </a:moveTo>
                    <a:lnTo>
                      <a:pt x="13545" y="3"/>
                    </a:lnTo>
                    <a:cubicBezTo>
                      <a:pt x="13546" y="3"/>
                      <a:pt x="13547" y="4"/>
                      <a:pt x="13547" y="5"/>
                    </a:cubicBezTo>
                    <a:cubicBezTo>
                      <a:pt x="13547" y="6"/>
                      <a:pt x="13546" y="7"/>
                      <a:pt x="13545" y="7"/>
                    </a:cubicBezTo>
                    <a:lnTo>
                      <a:pt x="13545" y="7"/>
                    </a:lnTo>
                    <a:cubicBezTo>
                      <a:pt x="13544" y="7"/>
                      <a:pt x="13543" y="6"/>
                      <a:pt x="13543" y="5"/>
                    </a:cubicBezTo>
                    <a:cubicBezTo>
                      <a:pt x="13543" y="4"/>
                      <a:pt x="13544" y="3"/>
                      <a:pt x="13545" y="3"/>
                    </a:cubicBezTo>
                    <a:close/>
                    <a:moveTo>
                      <a:pt x="13553" y="3"/>
                    </a:moveTo>
                    <a:lnTo>
                      <a:pt x="13553" y="3"/>
                    </a:lnTo>
                    <a:cubicBezTo>
                      <a:pt x="13554" y="3"/>
                      <a:pt x="13555" y="4"/>
                      <a:pt x="13555" y="5"/>
                    </a:cubicBezTo>
                    <a:cubicBezTo>
                      <a:pt x="13555" y="6"/>
                      <a:pt x="13554" y="7"/>
                      <a:pt x="13553" y="7"/>
                    </a:cubicBezTo>
                    <a:lnTo>
                      <a:pt x="13553" y="7"/>
                    </a:lnTo>
                    <a:cubicBezTo>
                      <a:pt x="13552" y="7"/>
                      <a:pt x="13551" y="6"/>
                      <a:pt x="13551" y="5"/>
                    </a:cubicBezTo>
                    <a:cubicBezTo>
                      <a:pt x="13551" y="4"/>
                      <a:pt x="13552" y="3"/>
                      <a:pt x="13553" y="3"/>
                    </a:cubicBezTo>
                    <a:close/>
                    <a:moveTo>
                      <a:pt x="13561" y="3"/>
                    </a:moveTo>
                    <a:lnTo>
                      <a:pt x="13561" y="3"/>
                    </a:lnTo>
                    <a:cubicBezTo>
                      <a:pt x="13562" y="3"/>
                      <a:pt x="13563" y="4"/>
                      <a:pt x="13563" y="5"/>
                    </a:cubicBezTo>
                    <a:cubicBezTo>
                      <a:pt x="13563" y="6"/>
                      <a:pt x="13562" y="7"/>
                      <a:pt x="13561" y="7"/>
                    </a:cubicBezTo>
                    <a:lnTo>
                      <a:pt x="13561" y="7"/>
                    </a:lnTo>
                    <a:cubicBezTo>
                      <a:pt x="13560" y="7"/>
                      <a:pt x="13559" y="6"/>
                      <a:pt x="13559" y="5"/>
                    </a:cubicBezTo>
                    <a:cubicBezTo>
                      <a:pt x="13559" y="4"/>
                      <a:pt x="13560" y="3"/>
                      <a:pt x="13561" y="3"/>
                    </a:cubicBezTo>
                    <a:close/>
                    <a:moveTo>
                      <a:pt x="13569" y="3"/>
                    </a:moveTo>
                    <a:lnTo>
                      <a:pt x="13569" y="3"/>
                    </a:lnTo>
                    <a:cubicBezTo>
                      <a:pt x="13570" y="3"/>
                      <a:pt x="13571" y="4"/>
                      <a:pt x="13571" y="5"/>
                    </a:cubicBezTo>
                    <a:cubicBezTo>
                      <a:pt x="13571" y="6"/>
                      <a:pt x="13570" y="7"/>
                      <a:pt x="13569" y="7"/>
                    </a:cubicBezTo>
                    <a:lnTo>
                      <a:pt x="13569" y="7"/>
                    </a:lnTo>
                    <a:cubicBezTo>
                      <a:pt x="13568" y="7"/>
                      <a:pt x="13567" y="6"/>
                      <a:pt x="13567" y="5"/>
                    </a:cubicBezTo>
                    <a:cubicBezTo>
                      <a:pt x="13567" y="4"/>
                      <a:pt x="13568" y="3"/>
                      <a:pt x="13569" y="3"/>
                    </a:cubicBezTo>
                    <a:close/>
                    <a:moveTo>
                      <a:pt x="13577" y="3"/>
                    </a:moveTo>
                    <a:lnTo>
                      <a:pt x="13577" y="3"/>
                    </a:lnTo>
                    <a:cubicBezTo>
                      <a:pt x="13578" y="3"/>
                      <a:pt x="13579" y="4"/>
                      <a:pt x="13579" y="5"/>
                    </a:cubicBezTo>
                    <a:cubicBezTo>
                      <a:pt x="13579" y="6"/>
                      <a:pt x="13578" y="7"/>
                      <a:pt x="13577" y="7"/>
                    </a:cubicBezTo>
                    <a:lnTo>
                      <a:pt x="13577" y="7"/>
                    </a:lnTo>
                    <a:cubicBezTo>
                      <a:pt x="13576" y="7"/>
                      <a:pt x="13575" y="6"/>
                      <a:pt x="13575" y="5"/>
                    </a:cubicBezTo>
                    <a:cubicBezTo>
                      <a:pt x="13575" y="4"/>
                      <a:pt x="13576" y="3"/>
                      <a:pt x="13577" y="3"/>
                    </a:cubicBezTo>
                    <a:close/>
                    <a:moveTo>
                      <a:pt x="13585" y="3"/>
                    </a:moveTo>
                    <a:lnTo>
                      <a:pt x="13585" y="3"/>
                    </a:lnTo>
                    <a:cubicBezTo>
                      <a:pt x="13586" y="3"/>
                      <a:pt x="13587" y="4"/>
                      <a:pt x="13587" y="5"/>
                    </a:cubicBezTo>
                    <a:cubicBezTo>
                      <a:pt x="13587" y="6"/>
                      <a:pt x="13586" y="7"/>
                      <a:pt x="13585" y="7"/>
                    </a:cubicBezTo>
                    <a:lnTo>
                      <a:pt x="13585" y="7"/>
                    </a:lnTo>
                    <a:cubicBezTo>
                      <a:pt x="13584" y="7"/>
                      <a:pt x="13583" y="6"/>
                      <a:pt x="13583" y="5"/>
                    </a:cubicBezTo>
                    <a:cubicBezTo>
                      <a:pt x="13583" y="4"/>
                      <a:pt x="13584" y="3"/>
                      <a:pt x="13585" y="3"/>
                    </a:cubicBezTo>
                    <a:close/>
                    <a:moveTo>
                      <a:pt x="13593" y="3"/>
                    </a:moveTo>
                    <a:lnTo>
                      <a:pt x="13593" y="3"/>
                    </a:lnTo>
                    <a:cubicBezTo>
                      <a:pt x="13594" y="3"/>
                      <a:pt x="13595" y="4"/>
                      <a:pt x="13595" y="5"/>
                    </a:cubicBezTo>
                    <a:cubicBezTo>
                      <a:pt x="13595" y="6"/>
                      <a:pt x="13594" y="7"/>
                      <a:pt x="13593" y="7"/>
                    </a:cubicBezTo>
                    <a:lnTo>
                      <a:pt x="13593" y="7"/>
                    </a:lnTo>
                    <a:cubicBezTo>
                      <a:pt x="13592" y="7"/>
                      <a:pt x="13591" y="6"/>
                      <a:pt x="13591" y="5"/>
                    </a:cubicBezTo>
                    <a:cubicBezTo>
                      <a:pt x="13591" y="4"/>
                      <a:pt x="13592" y="3"/>
                      <a:pt x="13593" y="3"/>
                    </a:cubicBezTo>
                    <a:close/>
                    <a:moveTo>
                      <a:pt x="13601" y="3"/>
                    </a:moveTo>
                    <a:lnTo>
                      <a:pt x="13601" y="3"/>
                    </a:lnTo>
                    <a:cubicBezTo>
                      <a:pt x="13602" y="3"/>
                      <a:pt x="13603" y="4"/>
                      <a:pt x="13603" y="5"/>
                    </a:cubicBezTo>
                    <a:cubicBezTo>
                      <a:pt x="13603" y="6"/>
                      <a:pt x="13602" y="7"/>
                      <a:pt x="13601" y="7"/>
                    </a:cubicBezTo>
                    <a:lnTo>
                      <a:pt x="13601" y="7"/>
                    </a:lnTo>
                    <a:cubicBezTo>
                      <a:pt x="13600" y="7"/>
                      <a:pt x="13599" y="6"/>
                      <a:pt x="13599" y="5"/>
                    </a:cubicBezTo>
                    <a:cubicBezTo>
                      <a:pt x="13599" y="4"/>
                      <a:pt x="13600" y="3"/>
                      <a:pt x="13601" y="3"/>
                    </a:cubicBezTo>
                    <a:close/>
                    <a:moveTo>
                      <a:pt x="13609" y="3"/>
                    </a:moveTo>
                    <a:lnTo>
                      <a:pt x="13609" y="3"/>
                    </a:lnTo>
                    <a:cubicBezTo>
                      <a:pt x="13610" y="3"/>
                      <a:pt x="13611" y="4"/>
                      <a:pt x="13611" y="5"/>
                    </a:cubicBezTo>
                    <a:cubicBezTo>
                      <a:pt x="13611" y="6"/>
                      <a:pt x="13610" y="7"/>
                      <a:pt x="13609" y="7"/>
                    </a:cubicBezTo>
                    <a:lnTo>
                      <a:pt x="13609" y="7"/>
                    </a:lnTo>
                    <a:cubicBezTo>
                      <a:pt x="13608" y="7"/>
                      <a:pt x="13607" y="6"/>
                      <a:pt x="13607" y="5"/>
                    </a:cubicBezTo>
                    <a:cubicBezTo>
                      <a:pt x="13607" y="4"/>
                      <a:pt x="13608" y="3"/>
                      <a:pt x="13609" y="3"/>
                    </a:cubicBezTo>
                    <a:close/>
                    <a:moveTo>
                      <a:pt x="13617" y="3"/>
                    </a:moveTo>
                    <a:lnTo>
                      <a:pt x="13617" y="3"/>
                    </a:lnTo>
                    <a:cubicBezTo>
                      <a:pt x="13618" y="3"/>
                      <a:pt x="13619" y="4"/>
                      <a:pt x="13619" y="5"/>
                    </a:cubicBezTo>
                    <a:cubicBezTo>
                      <a:pt x="13619" y="6"/>
                      <a:pt x="13618" y="7"/>
                      <a:pt x="13617" y="7"/>
                    </a:cubicBezTo>
                    <a:lnTo>
                      <a:pt x="13617" y="7"/>
                    </a:lnTo>
                    <a:cubicBezTo>
                      <a:pt x="13616" y="7"/>
                      <a:pt x="13615" y="6"/>
                      <a:pt x="13615" y="5"/>
                    </a:cubicBezTo>
                    <a:cubicBezTo>
                      <a:pt x="13615" y="4"/>
                      <a:pt x="13616" y="3"/>
                      <a:pt x="13617" y="3"/>
                    </a:cubicBezTo>
                    <a:close/>
                    <a:moveTo>
                      <a:pt x="13625" y="3"/>
                    </a:moveTo>
                    <a:lnTo>
                      <a:pt x="13625" y="3"/>
                    </a:lnTo>
                    <a:cubicBezTo>
                      <a:pt x="13626" y="3"/>
                      <a:pt x="13627" y="4"/>
                      <a:pt x="13627" y="5"/>
                    </a:cubicBezTo>
                    <a:cubicBezTo>
                      <a:pt x="13627" y="6"/>
                      <a:pt x="13626" y="7"/>
                      <a:pt x="13625" y="7"/>
                    </a:cubicBezTo>
                    <a:lnTo>
                      <a:pt x="13625" y="7"/>
                    </a:lnTo>
                    <a:cubicBezTo>
                      <a:pt x="13624" y="7"/>
                      <a:pt x="13623" y="6"/>
                      <a:pt x="13623" y="5"/>
                    </a:cubicBezTo>
                    <a:cubicBezTo>
                      <a:pt x="13623" y="4"/>
                      <a:pt x="13624" y="3"/>
                      <a:pt x="13625" y="3"/>
                    </a:cubicBezTo>
                    <a:close/>
                    <a:moveTo>
                      <a:pt x="13633" y="3"/>
                    </a:moveTo>
                    <a:lnTo>
                      <a:pt x="13633" y="3"/>
                    </a:lnTo>
                    <a:cubicBezTo>
                      <a:pt x="13634" y="3"/>
                      <a:pt x="13635" y="4"/>
                      <a:pt x="13635" y="5"/>
                    </a:cubicBezTo>
                    <a:cubicBezTo>
                      <a:pt x="13635" y="6"/>
                      <a:pt x="13634" y="7"/>
                      <a:pt x="13633" y="7"/>
                    </a:cubicBezTo>
                    <a:lnTo>
                      <a:pt x="13633" y="7"/>
                    </a:lnTo>
                    <a:cubicBezTo>
                      <a:pt x="13632" y="7"/>
                      <a:pt x="13631" y="6"/>
                      <a:pt x="13631" y="5"/>
                    </a:cubicBezTo>
                    <a:cubicBezTo>
                      <a:pt x="13631" y="4"/>
                      <a:pt x="13632" y="3"/>
                      <a:pt x="13633" y="3"/>
                    </a:cubicBezTo>
                    <a:close/>
                    <a:moveTo>
                      <a:pt x="13641" y="3"/>
                    </a:moveTo>
                    <a:lnTo>
                      <a:pt x="13641" y="3"/>
                    </a:lnTo>
                    <a:cubicBezTo>
                      <a:pt x="13642" y="3"/>
                      <a:pt x="13643" y="4"/>
                      <a:pt x="13643" y="5"/>
                    </a:cubicBezTo>
                    <a:cubicBezTo>
                      <a:pt x="13643" y="6"/>
                      <a:pt x="13642" y="7"/>
                      <a:pt x="13641" y="7"/>
                    </a:cubicBezTo>
                    <a:lnTo>
                      <a:pt x="13641" y="7"/>
                    </a:lnTo>
                    <a:cubicBezTo>
                      <a:pt x="13640" y="7"/>
                      <a:pt x="13639" y="6"/>
                      <a:pt x="13639" y="5"/>
                    </a:cubicBezTo>
                    <a:cubicBezTo>
                      <a:pt x="13639" y="4"/>
                      <a:pt x="13640" y="3"/>
                      <a:pt x="13641" y="3"/>
                    </a:cubicBezTo>
                    <a:close/>
                    <a:moveTo>
                      <a:pt x="13649" y="3"/>
                    </a:moveTo>
                    <a:lnTo>
                      <a:pt x="13649" y="3"/>
                    </a:lnTo>
                    <a:cubicBezTo>
                      <a:pt x="13650" y="3"/>
                      <a:pt x="13651" y="4"/>
                      <a:pt x="13651" y="5"/>
                    </a:cubicBezTo>
                    <a:cubicBezTo>
                      <a:pt x="13651" y="6"/>
                      <a:pt x="13650" y="7"/>
                      <a:pt x="13649" y="7"/>
                    </a:cubicBezTo>
                    <a:lnTo>
                      <a:pt x="13649" y="7"/>
                    </a:lnTo>
                    <a:cubicBezTo>
                      <a:pt x="13648" y="7"/>
                      <a:pt x="13647" y="6"/>
                      <a:pt x="13647" y="5"/>
                    </a:cubicBezTo>
                    <a:cubicBezTo>
                      <a:pt x="13647" y="4"/>
                      <a:pt x="13648" y="3"/>
                      <a:pt x="13649" y="3"/>
                    </a:cubicBezTo>
                    <a:close/>
                    <a:moveTo>
                      <a:pt x="13657" y="3"/>
                    </a:moveTo>
                    <a:lnTo>
                      <a:pt x="13657" y="3"/>
                    </a:lnTo>
                    <a:cubicBezTo>
                      <a:pt x="13658" y="3"/>
                      <a:pt x="13659" y="4"/>
                      <a:pt x="13659" y="5"/>
                    </a:cubicBezTo>
                    <a:cubicBezTo>
                      <a:pt x="13659" y="6"/>
                      <a:pt x="13658" y="7"/>
                      <a:pt x="13657" y="7"/>
                    </a:cubicBezTo>
                    <a:lnTo>
                      <a:pt x="13657" y="7"/>
                    </a:lnTo>
                    <a:cubicBezTo>
                      <a:pt x="13656" y="7"/>
                      <a:pt x="13655" y="6"/>
                      <a:pt x="13655" y="5"/>
                    </a:cubicBezTo>
                    <a:cubicBezTo>
                      <a:pt x="13655" y="4"/>
                      <a:pt x="13656" y="3"/>
                      <a:pt x="13657" y="3"/>
                    </a:cubicBezTo>
                    <a:close/>
                    <a:moveTo>
                      <a:pt x="13665" y="3"/>
                    </a:moveTo>
                    <a:lnTo>
                      <a:pt x="13665" y="3"/>
                    </a:lnTo>
                    <a:cubicBezTo>
                      <a:pt x="13666" y="3"/>
                      <a:pt x="13667" y="4"/>
                      <a:pt x="13667" y="5"/>
                    </a:cubicBezTo>
                    <a:cubicBezTo>
                      <a:pt x="13667" y="6"/>
                      <a:pt x="13666" y="7"/>
                      <a:pt x="13665" y="7"/>
                    </a:cubicBezTo>
                    <a:lnTo>
                      <a:pt x="13665" y="7"/>
                    </a:lnTo>
                    <a:cubicBezTo>
                      <a:pt x="13664" y="7"/>
                      <a:pt x="13663" y="6"/>
                      <a:pt x="13663" y="5"/>
                    </a:cubicBezTo>
                    <a:cubicBezTo>
                      <a:pt x="13663" y="4"/>
                      <a:pt x="13664" y="3"/>
                      <a:pt x="13665" y="3"/>
                    </a:cubicBezTo>
                    <a:close/>
                    <a:moveTo>
                      <a:pt x="13673" y="3"/>
                    </a:moveTo>
                    <a:lnTo>
                      <a:pt x="13673" y="3"/>
                    </a:lnTo>
                    <a:cubicBezTo>
                      <a:pt x="13674" y="3"/>
                      <a:pt x="13675" y="4"/>
                      <a:pt x="13675" y="5"/>
                    </a:cubicBezTo>
                    <a:cubicBezTo>
                      <a:pt x="13675" y="6"/>
                      <a:pt x="13674" y="7"/>
                      <a:pt x="13673" y="7"/>
                    </a:cubicBezTo>
                    <a:lnTo>
                      <a:pt x="13673" y="7"/>
                    </a:lnTo>
                    <a:cubicBezTo>
                      <a:pt x="13672" y="7"/>
                      <a:pt x="13671" y="6"/>
                      <a:pt x="13671" y="5"/>
                    </a:cubicBezTo>
                    <a:cubicBezTo>
                      <a:pt x="13671" y="4"/>
                      <a:pt x="13672" y="3"/>
                      <a:pt x="13673" y="3"/>
                    </a:cubicBezTo>
                    <a:close/>
                    <a:moveTo>
                      <a:pt x="13681" y="3"/>
                    </a:moveTo>
                    <a:lnTo>
                      <a:pt x="13681" y="3"/>
                    </a:lnTo>
                    <a:cubicBezTo>
                      <a:pt x="13682" y="3"/>
                      <a:pt x="13683" y="4"/>
                      <a:pt x="13683" y="5"/>
                    </a:cubicBezTo>
                    <a:cubicBezTo>
                      <a:pt x="13683" y="6"/>
                      <a:pt x="13682" y="7"/>
                      <a:pt x="13681" y="7"/>
                    </a:cubicBezTo>
                    <a:lnTo>
                      <a:pt x="13681" y="7"/>
                    </a:lnTo>
                    <a:cubicBezTo>
                      <a:pt x="13680" y="7"/>
                      <a:pt x="13679" y="6"/>
                      <a:pt x="13679" y="5"/>
                    </a:cubicBezTo>
                    <a:cubicBezTo>
                      <a:pt x="13679" y="4"/>
                      <a:pt x="13680" y="3"/>
                      <a:pt x="13681" y="3"/>
                    </a:cubicBezTo>
                    <a:close/>
                    <a:moveTo>
                      <a:pt x="13689" y="3"/>
                    </a:moveTo>
                    <a:lnTo>
                      <a:pt x="13689" y="3"/>
                    </a:lnTo>
                    <a:cubicBezTo>
                      <a:pt x="13690" y="3"/>
                      <a:pt x="13691" y="4"/>
                      <a:pt x="13691" y="5"/>
                    </a:cubicBezTo>
                    <a:cubicBezTo>
                      <a:pt x="13691" y="6"/>
                      <a:pt x="13690" y="7"/>
                      <a:pt x="13689" y="7"/>
                    </a:cubicBezTo>
                    <a:lnTo>
                      <a:pt x="13689" y="7"/>
                    </a:lnTo>
                    <a:cubicBezTo>
                      <a:pt x="13688" y="7"/>
                      <a:pt x="13687" y="6"/>
                      <a:pt x="13687" y="5"/>
                    </a:cubicBezTo>
                    <a:cubicBezTo>
                      <a:pt x="13687" y="4"/>
                      <a:pt x="13688" y="3"/>
                      <a:pt x="13689" y="3"/>
                    </a:cubicBezTo>
                    <a:close/>
                    <a:moveTo>
                      <a:pt x="13697" y="3"/>
                    </a:moveTo>
                    <a:lnTo>
                      <a:pt x="13697" y="3"/>
                    </a:lnTo>
                    <a:cubicBezTo>
                      <a:pt x="13698" y="3"/>
                      <a:pt x="13699" y="4"/>
                      <a:pt x="13699" y="5"/>
                    </a:cubicBezTo>
                    <a:cubicBezTo>
                      <a:pt x="13699" y="6"/>
                      <a:pt x="13698" y="7"/>
                      <a:pt x="13697" y="7"/>
                    </a:cubicBezTo>
                    <a:lnTo>
                      <a:pt x="13697" y="7"/>
                    </a:lnTo>
                    <a:cubicBezTo>
                      <a:pt x="13696" y="7"/>
                      <a:pt x="13695" y="6"/>
                      <a:pt x="13695" y="5"/>
                    </a:cubicBezTo>
                    <a:cubicBezTo>
                      <a:pt x="13695" y="4"/>
                      <a:pt x="13696" y="3"/>
                      <a:pt x="13697" y="3"/>
                    </a:cubicBezTo>
                    <a:close/>
                    <a:moveTo>
                      <a:pt x="13705" y="3"/>
                    </a:moveTo>
                    <a:lnTo>
                      <a:pt x="13705" y="3"/>
                    </a:lnTo>
                    <a:cubicBezTo>
                      <a:pt x="13706" y="3"/>
                      <a:pt x="13707" y="4"/>
                      <a:pt x="13707" y="5"/>
                    </a:cubicBezTo>
                    <a:cubicBezTo>
                      <a:pt x="13707" y="6"/>
                      <a:pt x="13706" y="7"/>
                      <a:pt x="13705" y="7"/>
                    </a:cubicBezTo>
                    <a:lnTo>
                      <a:pt x="13705" y="7"/>
                    </a:lnTo>
                    <a:cubicBezTo>
                      <a:pt x="13704" y="7"/>
                      <a:pt x="13703" y="6"/>
                      <a:pt x="13703" y="5"/>
                    </a:cubicBezTo>
                    <a:cubicBezTo>
                      <a:pt x="13703" y="4"/>
                      <a:pt x="13704" y="3"/>
                      <a:pt x="13705" y="3"/>
                    </a:cubicBezTo>
                    <a:close/>
                    <a:moveTo>
                      <a:pt x="13713" y="3"/>
                    </a:moveTo>
                    <a:lnTo>
                      <a:pt x="13713" y="3"/>
                    </a:lnTo>
                    <a:cubicBezTo>
                      <a:pt x="13714" y="3"/>
                      <a:pt x="13715" y="4"/>
                      <a:pt x="13715" y="5"/>
                    </a:cubicBezTo>
                    <a:cubicBezTo>
                      <a:pt x="13715" y="6"/>
                      <a:pt x="13714" y="7"/>
                      <a:pt x="13713" y="7"/>
                    </a:cubicBezTo>
                    <a:lnTo>
                      <a:pt x="13713" y="7"/>
                    </a:lnTo>
                    <a:cubicBezTo>
                      <a:pt x="13712" y="7"/>
                      <a:pt x="13711" y="6"/>
                      <a:pt x="13711" y="5"/>
                    </a:cubicBezTo>
                    <a:cubicBezTo>
                      <a:pt x="13711" y="4"/>
                      <a:pt x="13712" y="3"/>
                      <a:pt x="13713" y="3"/>
                    </a:cubicBezTo>
                    <a:close/>
                    <a:moveTo>
                      <a:pt x="13721" y="3"/>
                    </a:moveTo>
                    <a:lnTo>
                      <a:pt x="13721" y="3"/>
                    </a:lnTo>
                    <a:cubicBezTo>
                      <a:pt x="13722" y="3"/>
                      <a:pt x="13723" y="4"/>
                      <a:pt x="13723" y="5"/>
                    </a:cubicBezTo>
                    <a:cubicBezTo>
                      <a:pt x="13723" y="6"/>
                      <a:pt x="13722" y="7"/>
                      <a:pt x="13721" y="7"/>
                    </a:cubicBezTo>
                    <a:lnTo>
                      <a:pt x="13721" y="7"/>
                    </a:lnTo>
                    <a:cubicBezTo>
                      <a:pt x="13720" y="7"/>
                      <a:pt x="13719" y="6"/>
                      <a:pt x="13719" y="5"/>
                    </a:cubicBezTo>
                    <a:cubicBezTo>
                      <a:pt x="13719" y="4"/>
                      <a:pt x="13720" y="3"/>
                      <a:pt x="13721" y="3"/>
                    </a:cubicBezTo>
                    <a:close/>
                    <a:moveTo>
                      <a:pt x="13729" y="3"/>
                    </a:moveTo>
                    <a:lnTo>
                      <a:pt x="13729" y="3"/>
                    </a:lnTo>
                    <a:cubicBezTo>
                      <a:pt x="13730" y="3"/>
                      <a:pt x="13731" y="4"/>
                      <a:pt x="13731" y="5"/>
                    </a:cubicBezTo>
                    <a:cubicBezTo>
                      <a:pt x="13731" y="6"/>
                      <a:pt x="13730" y="7"/>
                      <a:pt x="13729" y="7"/>
                    </a:cubicBezTo>
                    <a:lnTo>
                      <a:pt x="13729" y="7"/>
                    </a:lnTo>
                    <a:cubicBezTo>
                      <a:pt x="13728" y="7"/>
                      <a:pt x="13727" y="6"/>
                      <a:pt x="13727" y="5"/>
                    </a:cubicBezTo>
                    <a:cubicBezTo>
                      <a:pt x="13727" y="4"/>
                      <a:pt x="13728" y="3"/>
                      <a:pt x="13729" y="3"/>
                    </a:cubicBezTo>
                    <a:close/>
                    <a:moveTo>
                      <a:pt x="13737" y="3"/>
                    </a:moveTo>
                    <a:lnTo>
                      <a:pt x="13737" y="3"/>
                    </a:lnTo>
                    <a:cubicBezTo>
                      <a:pt x="13738" y="3"/>
                      <a:pt x="13739" y="4"/>
                      <a:pt x="13739" y="5"/>
                    </a:cubicBezTo>
                    <a:cubicBezTo>
                      <a:pt x="13739" y="6"/>
                      <a:pt x="13738" y="7"/>
                      <a:pt x="13737" y="7"/>
                    </a:cubicBezTo>
                    <a:lnTo>
                      <a:pt x="13737" y="7"/>
                    </a:lnTo>
                    <a:cubicBezTo>
                      <a:pt x="13736" y="7"/>
                      <a:pt x="13735" y="6"/>
                      <a:pt x="13735" y="5"/>
                    </a:cubicBezTo>
                    <a:cubicBezTo>
                      <a:pt x="13735" y="4"/>
                      <a:pt x="13736" y="3"/>
                      <a:pt x="13737" y="3"/>
                    </a:cubicBezTo>
                    <a:close/>
                    <a:moveTo>
                      <a:pt x="13745" y="3"/>
                    </a:moveTo>
                    <a:lnTo>
                      <a:pt x="13745" y="3"/>
                    </a:lnTo>
                    <a:cubicBezTo>
                      <a:pt x="13746" y="3"/>
                      <a:pt x="13747" y="4"/>
                      <a:pt x="13747" y="5"/>
                    </a:cubicBezTo>
                    <a:cubicBezTo>
                      <a:pt x="13747" y="6"/>
                      <a:pt x="13746" y="7"/>
                      <a:pt x="13745" y="7"/>
                    </a:cubicBezTo>
                    <a:lnTo>
                      <a:pt x="13745" y="7"/>
                    </a:lnTo>
                    <a:cubicBezTo>
                      <a:pt x="13744" y="7"/>
                      <a:pt x="13743" y="6"/>
                      <a:pt x="13743" y="5"/>
                    </a:cubicBezTo>
                    <a:cubicBezTo>
                      <a:pt x="13743" y="4"/>
                      <a:pt x="13744" y="3"/>
                      <a:pt x="13745" y="3"/>
                    </a:cubicBezTo>
                    <a:close/>
                    <a:moveTo>
                      <a:pt x="13753" y="3"/>
                    </a:moveTo>
                    <a:lnTo>
                      <a:pt x="13753" y="3"/>
                    </a:lnTo>
                    <a:cubicBezTo>
                      <a:pt x="13754" y="3"/>
                      <a:pt x="13755" y="4"/>
                      <a:pt x="13755" y="5"/>
                    </a:cubicBezTo>
                    <a:cubicBezTo>
                      <a:pt x="13755" y="6"/>
                      <a:pt x="13754" y="7"/>
                      <a:pt x="13753" y="7"/>
                    </a:cubicBezTo>
                    <a:lnTo>
                      <a:pt x="13753" y="7"/>
                    </a:lnTo>
                    <a:cubicBezTo>
                      <a:pt x="13752" y="7"/>
                      <a:pt x="13751" y="6"/>
                      <a:pt x="13751" y="5"/>
                    </a:cubicBezTo>
                    <a:cubicBezTo>
                      <a:pt x="13751" y="4"/>
                      <a:pt x="13752" y="3"/>
                      <a:pt x="13753" y="3"/>
                    </a:cubicBezTo>
                    <a:close/>
                    <a:moveTo>
                      <a:pt x="13761" y="3"/>
                    </a:moveTo>
                    <a:lnTo>
                      <a:pt x="13761" y="3"/>
                    </a:lnTo>
                    <a:cubicBezTo>
                      <a:pt x="13762" y="3"/>
                      <a:pt x="13763" y="4"/>
                      <a:pt x="13763" y="5"/>
                    </a:cubicBezTo>
                    <a:cubicBezTo>
                      <a:pt x="13763" y="6"/>
                      <a:pt x="13762" y="7"/>
                      <a:pt x="13761" y="7"/>
                    </a:cubicBezTo>
                    <a:lnTo>
                      <a:pt x="13761" y="7"/>
                    </a:lnTo>
                    <a:cubicBezTo>
                      <a:pt x="13760" y="7"/>
                      <a:pt x="13759" y="6"/>
                      <a:pt x="13759" y="5"/>
                    </a:cubicBezTo>
                    <a:cubicBezTo>
                      <a:pt x="13759" y="4"/>
                      <a:pt x="13760" y="3"/>
                      <a:pt x="13761" y="3"/>
                    </a:cubicBezTo>
                    <a:close/>
                    <a:moveTo>
                      <a:pt x="13769" y="3"/>
                    </a:moveTo>
                    <a:lnTo>
                      <a:pt x="13769" y="3"/>
                    </a:lnTo>
                    <a:cubicBezTo>
                      <a:pt x="13770" y="3"/>
                      <a:pt x="13771" y="4"/>
                      <a:pt x="13771" y="5"/>
                    </a:cubicBezTo>
                    <a:cubicBezTo>
                      <a:pt x="13771" y="6"/>
                      <a:pt x="13770" y="7"/>
                      <a:pt x="13769" y="7"/>
                    </a:cubicBezTo>
                    <a:lnTo>
                      <a:pt x="13769" y="7"/>
                    </a:lnTo>
                    <a:cubicBezTo>
                      <a:pt x="13768" y="7"/>
                      <a:pt x="13767" y="6"/>
                      <a:pt x="13767" y="5"/>
                    </a:cubicBezTo>
                    <a:cubicBezTo>
                      <a:pt x="13767" y="4"/>
                      <a:pt x="13768" y="3"/>
                      <a:pt x="13769" y="3"/>
                    </a:cubicBezTo>
                    <a:close/>
                    <a:moveTo>
                      <a:pt x="13777" y="3"/>
                    </a:moveTo>
                    <a:lnTo>
                      <a:pt x="13777" y="3"/>
                    </a:lnTo>
                    <a:cubicBezTo>
                      <a:pt x="13778" y="3"/>
                      <a:pt x="13779" y="4"/>
                      <a:pt x="13779" y="5"/>
                    </a:cubicBezTo>
                    <a:cubicBezTo>
                      <a:pt x="13779" y="6"/>
                      <a:pt x="13778" y="7"/>
                      <a:pt x="13777" y="7"/>
                    </a:cubicBezTo>
                    <a:lnTo>
                      <a:pt x="13777" y="7"/>
                    </a:lnTo>
                    <a:cubicBezTo>
                      <a:pt x="13776" y="7"/>
                      <a:pt x="13775" y="6"/>
                      <a:pt x="13775" y="5"/>
                    </a:cubicBezTo>
                    <a:cubicBezTo>
                      <a:pt x="13775" y="4"/>
                      <a:pt x="13776" y="3"/>
                      <a:pt x="13777" y="3"/>
                    </a:cubicBezTo>
                    <a:close/>
                    <a:moveTo>
                      <a:pt x="13785" y="3"/>
                    </a:moveTo>
                    <a:lnTo>
                      <a:pt x="13785" y="3"/>
                    </a:lnTo>
                    <a:cubicBezTo>
                      <a:pt x="13786" y="3"/>
                      <a:pt x="13787" y="4"/>
                      <a:pt x="13787" y="5"/>
                    </a:cubicBezTo>
                    <a:cubicBezTo>
                      <a:pt x="13787" y="6"/>
                      <a:pt x="13786" y="7"/>
                      <a:pt x="13785" y="7"/>
                    </a:cubicBezTo>
                    <a:lnTo>
                      <a:pt x="13785" y="7"/>
                    </a:lnTo>
                    <a:cubicBezTo>
                      <a:pt x="13784" y="7"/>
                      <a:pt x="13783" y="6"/>
                      <a:pt x="13783" y="5"/>
                    </a:cubicBezTo>
                    <a:cubicBezTo>
                      <a:pt x="13783" y="4"/>
                      <a:pt x="13784" y="3"/>
                      <a:pt x="13785" y="3"/>
                    </a:cubicBezTo>
                    <a:close/>
                    <a:moveTo>
                      <a:pt x="13793" y="3"/>
                    </a:moveTo>
                    <a:lnTo>
                      <a:pt x="13793" y="3"/>
                    </a:lnTo>
                    <a:cubicBezTo>
                      <a:pt x="13794" y="3"/>
                      <a:pt x="13795" y="4"/>
                      <a:pt x="13795" y="5"/>
                    </a:cubicBezTo>
                    <a:cubicBezTo>
                      <a:pt x="13795" y="6"/>
                      <a:pt x="13794" y="7"/>
                      <a:pt x="13793" y="7"/>
                    </a:cubicBezTo>
                    <a:lnTo>
                      <a:pt x="13793" y="7"/>
                    </a:lnTo>
                    <a:cubicBezTo>
                      <a:pt x="13792" y="7"/>
                      <a:pt x="13791" y="6"/>
                      <a:pt x="13791" y="5"/>
                    </a:cubicBezTo>
                    <a:cubicBezTo>
                      <a:pt x="13791" y="4"/>
                      <a:pt x="13792" y="3"/>
                      <a:pt x="13793" y="3"/>
                    </a:cubicBezTo>
                    <a:close/>
                    <a:moveTo>
                      <a:pt x="13801" y="3"/>
                    </a:moveTo>
                    <a:lnTo>
                      <a:pt x="13801" y="3"/>
                    </a:lnTo>
                    <a:cubicBezTo>
                      <a:pt x="13802" y="3"/>
                      <a:pt x="13803" y="4"/>
                      <a:pt x="13803" y="5"/>
                    </a:cubicBezTo>
                    <a:cubicBezTo>
                      <a:pt x="13803" y="6"/>
                      <a:pt x="13802" y="7"/>
                      <a:pt x="13801" y="7"/>
                    </a:cubicBezTo>
                    <a:lnTo>
                      <a:pt x="13801" y="7"/>
                    </a:lnTo>
                    <a:cubicBezTo>
                      <a:pt x="13800" y="7"/>
                      <a:pt x="13799" y="6"/>
                      <a:pt x="13799" y="5"/>
                    </a:cubicBezTo>
                    <a:cubicBezTo>
                      <a:pt x="13799" y="4"/>
                      <a:pt x="13800" y="3"/>
                      <a:pt x="13801" y="3"/>
                    </a:cubicBezTo>
                    <a:close/>
                    <a:moveTo>
                      <a:pt x="13809" y="3"/>
                    </a:moveTo>
                    <a:lnTo>
                      <a:pt x="13809" y="3"/>
                    </a:lnTo>
                    <a:cubicBezTo>
                      <a:pt x="13810" y="3"/>
                      <a:pt x="13811" y="4"/>
                      <a:pt x="13811" y="5"/>
                    </a:cubicBezTo>
                    <a:cubicBezTo>
                      <a:pt x="13811" y="6"/>
                      <a:pt x="13810" y="7"/>
                      <a:pt x="13809" y="7"/>
                    </a:cubicBezTo>
                    <a:lnTo>
                      <a:pt x="13809" y="7"/>
                    </a:lnTo>
                    <a:cubicBezTo>
                      <a:pt x="13808" y="7"/>
                      <a:pt x="13807" y="6"/>
                      <a:pt x="13807" y="5"/>
                    </a:cubicBezTo>
                    <a:cubicBezTo>
                      <a:pt x="13807" y="4"/>
                      <a:pt x="13808" y="3"/>
                      <a:pt x="13809" y="3"/>
                    </a:cubicBezTo>
                    <a:close/>
                    <a:moveTo>
                      <a:pt x="13817" y="3"/>
                    </a:moveTo>
                    <a:lnTo>
                      <a:pt x="13817" y="3"/>
                    </a:lnTo>
                    <a:cubicBezTo>
                      <a:pt x="13818" y="3"/>
                      <a:pt x="13819" y="4"/>
                      <a:pt x="13819" y="5"/>
                    </a:cubicBezTo>
                    <a:cubicBezTo>
                      <a:pt x="13819" y="6"/>
                      <a:pt x="13818" y="7"/>
                      <a:pt x="13817" y="7"/>
                    </a:cubicBezTo>
                    <a:lnTo>
                      <a:pt x="13817" y="7"/>
                    </a:lnTo>
                    <a:cubicBezTo>
                      <a:pt x="13816" y="7"/>
                      <a:pt x="13815" y="6"/>
                      <a:pt x="13815" y="5"/>
                    </a:cubicBezTo>
                    <a:cubicBezTo>
                      <a:pt x="13815" y="4"/>
                      <a:pt x="13816" y="3"/>
                      <a:pt x="13817" y="3"/>
                    </a:cubicBezTo>
                    <a:close/>
                    <a:moveTo>
                      <a:pt x="13825" y="3"/>
                    </a:moveTo>
                    <a:lnTo>
                      <a:pt x="13825" y="3"/>
                    </a:lnTo>
                    <a:cubicBezTo>
                      <a:pt x="13826" y="3"/>
                      <a:pt x="13827" y="4"/>
                      <a:pt x="13827" y="5"/>
                    </a:cubicBezTo>
                    <a:cubicBezTo>
                      <a:pt x="13827" y="6"/>
                      <a:pt x="13826" y="7"/>
                      <a:pt x="13825" y="7"/>
                    </a:cubicBezTo>
                    <a:lnTo>
                      <a:pt x="13825" y="7"/>
                    </a:lnTo>
                    <a:cubicBezTo>
                      <a:pt x="13824" y="7"/>
                      <a:pt x="13823" y="6"/>
                      <a:pt x="13823" y="5"/>
                    </a:cubicBezTo>
                    <a:cubicBezTo>
                      <a:pt x="13823" y="4"/>
                      <a:pt x="13824" y="3"/>
                      <a:pt x="13825" y="3"/>
                    </a:cubicBezTo>
                    <a:close/>
                    <a:moveTo>
                      <a:pt x="13833" y="3"/>
                    </a:moveTo>
                    <a:lnTo>
                      <a:pt x="13833" y="3"/>
                    </a:lnTo>
                    <a:cubicBezTo>
                      <a:pt x="13834" y="3"/>
                      <a:pt x="13835" y="4"/>
                      <a:pt x="13835" y="5"/>
                    </a:cubicBezTo>
                    <a:cubicBezTo>
                      <a:pt x="13835" y="6"/>
                      <a:pt x="13834" y="7"/>
                      <a:pt x="13833" y="7"/>
                    </a:cubicBezTo>
                    <a:lnTo>
                      <a:pt x="13833" y="7"/>
                    </a:lnTo>
                    <a:cubicBezTo>
                      <a:pt x="13832" y="7"/>
                      <a:pt x="13831" y="6"/>
                      <a:pt x="13831" y="5"/>
                    </a:cubicBezTo>
                    <a:cubicBezTo>
                      <a:pt x="13831" y="4"/>
                      <a:pt x="13832" y="3"/>
                      <a:pt x="13833" y="3"/>
                    </a:cubicBezTo>
                    <a:close/>
                    <a:moveTo>
                      <a:pt x="13841" y="3"/>
                    </a:moveTo>
                    <a:lnTo>
                      <a:pt x="13841" y="3"/>
                    </a:lnTo>
                    <a:cubicBezTo>
                      <a:pt x="13842" y="3"/>
                      <a:pt x="13843" y="4"/>
                      <a:pt x="13843" y="5"/>
                    </a:cubicBezTo>
                    <a:cubicBezTo>
                      <a:pt x="13843" y="6"/>
                      <a:pt x="13842" y="7"/>
                      <a:pt x="13841" y="7"/>
                    </a:cubicBezTo>
                    <a:lnTo>
                      <a:pt x="13841" y="7"/>
                    </a:lnTo>
                    <a:cubicBezTo>
                      <a:pt x="13840" y="7"/>
                      <a:pt x="13839" y="6"/>
                      <a:pt x="13839" y="5"/>
                    </a:cubicBezTo>
                    <a:cubicBezTo>
                      <a:pt x="13839" y="4"/>
                      <a:pt x="13840" y="3"/>
                      <a:pt x="13841" y="3"/>
                    </a:cubicBezTo>
                    <a:close/>
                    <a:moveTo>
                      <a:pt x="13849" y="3"/>
                    </a:moveTo>
                    <a:lnTo>
                      <a:pt x="13849" y="3"/>
                    </a:lnTo>
                    <a:cubicBezTo>
                      <a:pt x="13850" y="3"/>
                      <a:pt x="13851" y="4"/>
                      <a:pt x="13851" y="5"/>
                    </a:cubicBezTo>
                    <a:cubicBezTo>
                      <a:pt x="13851" y="6"/>
                      <a:pt x="13850" y="7"/>
                      <a:pt x="13849" y="7"/>
                    </a:cubicBezTo>
                    <a:lnTo>
                      <a:pt x="13849" y="7"/>
                    </a:lnTo>
                    <a:cubicBezTo>
                      <a:pt x="13848" y="7"/>
                      <a:pt x="13847" y="6"/>
                      <a:pt x="13847" y="5"/>
                    </a:cubicBezTo>
                    <a:cubicBezTo>
                      <a:pt x="13847" y="4"/>
                      <a:pt x="13848" y="3"/>
                      <a:pt x="13849" y="3"/>
                    </a:cubicBezTo>
                    <a:close/>
                    <a:moveTo>
                      <a:pt x="13857" y="3"/>
                    </a:moveTo>
                    <a:lnTo>
                      <a:pt x="13857" y="3"/>
                    </a:lnTo>
                    <a:cubicBezTo>
                      <a:pt x="13858" y="3"/>
                      <a:pt x="13859" y="4"/>
                      <a:pt x="13859" y="5"/>
                    </a:cubicBezTo>
                    <a:cubicBezTo>
                      <a:pt x="13859" y="6"/>
                      <a:pt x="13858" y="7"/>
                      <a:pt x="13857" y="7"/>
                    </a:cubicBezTo>
                    <a:lnTo>
                      <a:pt x="13857" y="7"/>
                    </a:lnTo>
                    <a:cubicBezTo>
                      <a:pt x="13856" y="7"/>
                      <a:pt x="13855" y="6"/>
                      <a:pt x="13855" y="5"/>
                    </a:cubicBezTo>
                    <a:cubicBezTo>
                      <a:pt x="13855" y="4"/>
                      <a:pt x="13856" y="3"/>
                      <a:pt x="13857" y="3"/>
                    </a:cubicBezTo>
                    <a:close/>
                    <a:moveTo>
                      <a:pt x="13865" y="3"/>
                    </a:moveTo>
                    <a:lnTo>
                      <a:pt x="13865" y="3"/>
                    </a:lnTo>
                    <a:cubicBezTo>
                      <a:pt x="13866" y="3"/>
                      <a:pt x="13867" y="4"/>
                      <a:pt x="13867" y="5"/>
                    </a:cubicBezTo>
                    <a:cubicBezTo>
                      <a:pt x="13867" y="6"/>
                      <a:pt x="13866" y="7"/>
                      <a:pt x="13865" y="7"/>
                    </a:cubicBezTo>
                    <a:lnTo>
                      <a:pt x="13865" y="7"/>
                    </a:lnTo>
                    <a:cubicBezTo>
                      <a:pt x="13864" y="7"/>
                      <a:pt x="13863" y="6"/>
                      <a:pt x="13863" y="5"/>
                    </a:cubicBezTo>
                    <a:cubicBezTo>
                      <a:pt x="13863" y="4"/>
                      <a:pt x="13864" y="3"/>
                      <a:pt x="13865" y="3"/>
                    </a:cubicBezTo>
                    <a:close/>
                    <a:moveTo>
                      <a:pt x="13873" y="3"/>
                    </a:moveTo>
                    <a:lnTo>
                      <a:pt x="13873" y="3"/>
                    </a:lnTo>
                    <a:cubicBezTo>
                      <a:pt x="13874" y="3"/>
                      <a:pt x="13875" y="4"/>
                      <a:pt x="13875" y="5"/>
                    </a:cubicBezTo>
                    <a:cubicBezTo>
                      <a:pt x="13875" y="6"/>
                      <a:pt x="13874" y="7"/>
                      <a:pt x="13873" y="7"/>
                    </a:cubicBezTo>
                    <a:lnTo>
                      <a:pt x="13873" y="7"/>
                    </a:lnTo>
                    <a:cubicBezTo>
                      <a:pt x="13872" y="7"/>
                      <a:pt x="13871" y="6"/>
                      <a:pt x="13871" y="5"/>
                    </a:cubicBezTo>
                    <a:cubicBezTo>
                      <a:pt x="13871" y="4"/>
                      <a:pt x="13872" y="3"/>
                      <a:pt x="13873" y="3"/>
                    </a:cubicBezTo>
                    <a:close/>
                    <a:moveTo>
                      <a:pt x="13881" y="3"/>
                    </a:moveTo>
                    <a:lnTo>
                      <a:pt x="13881" y="3"/>
                    </a:lnTo>
                    <a:cubicBezTo>
                      <a:pt x="13882" y="3"/>
                      <a:pt x="13883" y="4"/>
                      <a:pt x="13883" y="5"/>
                    </a:cubicBezTo>
                    <a:cubicBezTo>
                      <a:pt x="13883" y="6"/>
                      <a:pt x="13882" y="7"/>
                      <a:pt x="13881" y="7"/>
                    </a:cubicBezTo>
                    <a:lnTo>
                      <a:pt x="13881" y="7"/>
                    </a:lnTo>
                    <a:cubicBezTo>
                      <a:pt x="13880" y="7"/>
                      <a:pt x="13879" y="6"/>
                      <a:pt x="13879" y="5"/>
                    </a:cubicBezTo>
                    <a:cubicBezTo>
                      <a:pt x="13879" y="4"/>
                      <a:pt x="13880" y="3"/>
                      <a:pt x="13881" y="3"/>
                    </a:cubicBezTo>
                    <a:close/>
                    <a:moveTo>
                      <a:pt x="13889" y="3"/>
                    </a:moveTo>
                    <a:lnTo>
                      <a:pt x="13889" y="3"/>
                    </a:lnTo>
                    <a:cubicBezTo>
                      <a:pt x="13890" y="3"/>
                      <a:pt x="13891" y="4"/>
                      <a:pt x="13891" y="5"/>
                    </a:cubicBezTo>
                    <a:cubicBezTo>
                      <a:pt x="13891" y="6"/>
                      <a:pt x="13890" y="7"/>
                      <a:pt x="13889" y="7"/>
                    </a:cubicBezTo>
                    <a:lnTo>
                      <a:pt x="13889" y="7"/>
                    </a:lnTo>
                    <a:cubicBezTo>
                      <a:pt x="13888" y="7"/>
                      <a:pt x="13887" y="6"/>
                      <a:pt x="13887" y="5"/>
                    </a:cubicBezTo>
                    <a:cubicBezTo>
                      <a:pt x="13887" y="4"/>
                      <a:pt x="13888" y="3"/>
                      <a:pt x="13889" y="3"/>
                    </a:cubicBezTo>
                    <a:close/>
                    <a:moveTo>
                      <a:pt x="13897" y="3"/>
                    </a:moveTo>
                    <a:lnTo>
                      <a:pt x="13897" y="3"/>
                    </a:lnTo>
                    <a:cubicBezTo>
                      <a:pt x="13898" y="3"/>
                      <a:pt x="13899" y="4"/>
                      <a:pt x="13899" y="5"/>
                    </a:cubicBezTo>
                    <a:cubicBezTo>
                      <a:pt x="13899" y="6"/>
                      <a:pt x="13898" y="7"/>
                      <a:pt x="13897" y="7"/>
                    </a:cubicBezTo>
                    <a:lnTo>
                      <a:pt x="13897" y="7"/>
                    </a:lnTo>
                    <a:cubicBezTo>
                      <a:pt x="13896" y="7"/>
                      <a:pt x="13895" y="6"/>
                      <a:pt x="13895" y="5"/>
                    </a:cubicBezTo>
                    <a:cubicBezTo>
                      <a:pt x="13895" y="4"/>
                      <a:pt x="13896" y="3"/>
                      <a:pt x="13897" y="3"/>
                    </a:cubicBezTo>
                    <a:close/>
                    <a:moveTo>
                      <a:pt x="13905" y="3"/>
                    </a:moveTo>
                    <a:lnTo>
                      <a:pt x="13905" y="3"/>
                    </a:lnTo>
                    <a:cubicBezTo>
                      <a:pt x="13906" y="3"/>
                      <a:pt x="13907" y="4"/>
                      <a:pt x="13907" y="5"/>
                    </a:cubicBezTo>
                    <a:cubicBezTo>
                      <a:pt x="13907" y="6"/>
                      <a:pt x="13906" y="7"/>
                      <a:pt x="13905" y="7"/>
                    </a:cubicBezTo>
                    <a:lnTo>
                      <a:pt x="13905" y="7"/>
                    </a:lnTo>
                    <a:cubicBezTo>
                      <a:pt x="13904" y="7"/>
                      <a:pt x="13903" y="6"/>
                      <a:pt x="13903" y="5"/>
                    </a:cubicBezTo>
                    <a:cubicBezTo>
                      <a:pt x="13903" y="4"/>
                      <a:pt x="13904" y="3"/>
                      <a:pt x="13905" y="3"/>
                    </a:cubicBezTo>
                    <a:close/>
                    <a:moveTo>
                      <a:pt x="13913" y="3"/>
                    </a:moveTo>
                    <a:lnTo>
                      <a:pt x="13913" y="3"/>
                    </a:lnTo>
                    <a:cubicBezTo>
                      <a:pt x="13914" y="3"/>
                      <a:pt x="13915" y="4"/>
                      <a:pt x="13915" y="5"/>
                    </a:cubicBezTo>
                    <a:cubicBezTo>
                      <a:pt x="13915" y="6"/>
                      <a:pt x="13914" y="7"/>
                      <a:pt x="13913" y="7"/>
                    </a:cubicBezTo>
                    <a:lnTo>
                      <a:pt x="13913" y="7"/>
                    </a:lnTo>
                    <a:cubicBezTo>
                      <a:pt x="13912" y="7"/>
                      <a:pt x="13911" y="6"/>
                      <a:pt x="13911" y="5"/>
                    </a:cubicBezTo>
                    <a:cubicBezTo>
                      <a:pt x="13911" y="4"/>
                      <a:pt x="13912" y="3"/>
                      <a:pt x="13913" y="3"/>
                    </a:cubicBezTo>
                    <a:close/>
                    <a:moveTo>
                      <a:pt x="13921" y="3"/>
                    </a:moveTo>
                    <a:lnTo>
                      <a:pt x="13921" y="3"/>
                    </a:lnTo>
                    <a:cubicBezTo>
                      <a:pt x="13922" y="3"/>
                      <a:pt x="13923" y="4"/>
                      <a:pt x="13923" y="5"/>
                    </a:cubicBezTo>
                    <a:cubicBezTo>
                      <a:pt x="13923" y="6"/>
                      <a:pt x="13922" y="7"/>
                      <a:pt x="13921" y="7"/>
                    </a:cubicBezTo>
                    <a:lnTo>
                      <a:pt x="13921" y="7"/>
                    </a:lnTo>
                    <a:cubicBezTo>
                      <a:pt x="13920" y="7"/>
                      <a:pt x="13919" y="6"/>
                      <a:pt x="13919" y="5"/>
                    </a:cubicBezTo>
                    <a:cubicBezTo>
                      <a:pt x="13919" y="4"/>
                      <a:pt x="13920" y="3"/>
                      <a:pt x="13921" y="3"/>
                    </a:cubicBezTo>
                    <a:close/>
                    <a:moveTo>
                      <a:pt x="13929" y="3"/>
                    </a:moveTo>
                    <a:lnTo>
                      <a:pt x="13929" y="3"/>
                    </a:lnTo>
                    <a:cubicBezTo>
                      <a:pt x="13930" y="3"/>
                      <a:pt x="13931" y="4"/>
                      <a:pt x="13931" y="5"/>
                    </a:cubicBezTo>
                    <a:cubicBezTo>
                      <a:pt x="13931" y="6"/>
                      <a:pt x="13930" y="7"/>
                      <a:pt x="13929" y="7"/>
                    </a:cubicBezTo>
                    <a:lnTo>
                      <a:pt x="13929" y="7"/>
                    </a:lnTo>
                    <a:cubicBezTo>
                      <a:pt x="13928" y="7"/>
                      <a:pt x="13927" y="6"/>
                      <a:pt x="13927" y="5"/>
                    </a:cubicBezTo>
                    <a:cubicBezTo>
                      <a:pt x="13927" y="4"/>
                      <a:pt x="13928" y="3"/>
                      <a:pt x="13929" y="3"/>
                    </a:cubicBezTo>
                    <a:close/>
                    <a:moveTo>
                      <a:pt x="13937" y="3"/>
                    </a:moveTo>
                    <a:lnTo>
                      <a:pt x="13937" y="3"/>
                    </a:lnTo>
                    <a:cubicBezTo>
                      <a:pt x="13938" y="3"/>
                      <a:pt x="13939" y="4"/>
                      <a:pt x="13939" y="5"/>
                    </a:cubicBezTo>
                    <a:cubicBezTo>
                      <a:pt x="13939" y="6"/>
                      <a:pt x="13938" y="7"/>
                      <a:pt x="13937" y="7"/>
                    </a:cubicBezTo>
                    <a:lnTo>
                      <a:pt x="13937" y="7"/>
                    </a:lnTo>
                    <a:cubicBezTo>
                      <a:pt x="13936" y="7"/>
                      <a:pt x="13935" y="6"/>
                      <a:pt x="13935" y="5"/>
                    </a:cubicBezTo>
                    <a:cubicBezTo>
                      <a:pt x="13935" y="4"/>
                      <a:pt x="13936" y="3"/>
                      <a:pt x="13937" y="3"/>
                    </a:cubicBezTo>
                    <a:close/>
                    <a:moveTo>
                      <a:pt x="13945" y="3"/>
                    </a:moveTo>
                    <a:lnTo>
                      <a:pt x="13945" y="3"/>
                    </a:lnTo>
                    <a:cubicBezTo>
                      <a:pt x="13946" y="3"/>
                      <a:pt x="13947" y="4"/>
                      <a:pt x="13947" y="5"/>
                    </a:cubicBezTo>
                    <a:cubicBezTo>
                      <a:pt x="13947" y="6"/>
                      <a:pt x="13946" y="7"/>
                      <a:pt x="13945" y="7"/>
                    </a:cubicBezTo>
                    <a:lnTo>
                      <a:pt x="13945" y="7"/>
                    </a:lnTo>
                    <a:cubicBezTo>
                      <a:pt x="13944" y="7"/>
                      <a:pt x="13943" y="6"/>
                      <a:pt x="13943" y="5"/>
                    </a:cubicBezTo>
                    <a:cubicBezTo>
                      <a:pt x="13943" y="4"/>
                      <a:pt x="13944" y="3"/>
                      <a:pt x="13945" y="3"/>
                    </a:cubicBezTo>
                    <a:close/>
                    <a:moveTo>
                      <a:pt x="13953" y="3"/>
                    </a:moveTo>
                    <a:lnTo>
                      <a:pt x="13953" y="3"/>
                    </a:lnTo>
                    <a:cubicBezTo>
                      <a:pt x="13954" y="3"/>
                      <a:pt x="13955" y="4"/>
                      <a:pt x="13955" y="5"/>
                    </a:cubicBezTo>
                    <a:cubicBezTo>
                      <a:pt x="13955" y="6"/>
                      <a:pt x="13954" y="7"/>
                      <a:pt x="13953" y="7"/>
                    </a:cubicBezTo>
                    <a:lnTo>
                      <a:pt x="13953" y="7"/>
                    </a:lnTo>
                    <a:cubicBezTo>
                      <a:pt x="13952" y="7"/>
                      <a:pt x="13951" y="6"/>
                      <a:pt x="13951" y="5"/>
                    </a:cubicBezTo>
                    <a:cubicBezTo>
                      <a:pt x="13951" y="4"/>
                      <a:pt x="13952" y="3"/>
                      <a:pt x="13953" y="3"/>
                    </a:cubicBezTo>
                    <a:close/>
                    <a:moveTo>
                      <a:pt x="13961" y="3"/>
                    </a:moveTo>
                    <a:lnTo>
                      <a:pt x="13961" y="3"/>
                    </a:lnTo>
                    <a:cubicBezTo>
                      <a:pt x="13962" y="3"/>
                      <a:pt x="13963" y="4"/>
                      <a:pt x="13963" y="5"/>
                    </a:cubicBezTo>
                    <a:cubicBezTo>
                      <a:pt x="13963" y="6"/>
                      <a:pt x="13962" y="7"/>
                      <a:pt x="13961" y="7"/>
                    </a:cubicBezTo>
                    <a:lnTo>
                      <a:pt x="13961" y="7"/>
                    </a:lnTo>
                    <a:cubicBezTo>
                      <a:pt x="13960" y="7"/>
                      <a:pt x="13959" y="6"/>
                      <a:pt x="13959" y="5"/>
                    </a:cubicBezTo>
                    <a:cubicBezTo>
                      <a:pt x="13959" y="4"/>
                      <a:pt x="13960" y="3"/>
                      <a:pt x="13961" y="3"/>
                    </a:cubicBezTo>
                    <a:close/>
                    <a:moveTo>
                      <a:pt x="13969" y="3"/>
                    </a:moveTo>
                    <a:lnTo>
                      <a:pt x="13969" y="3"/>
                    </a:lnTo>
                    <a:cubicBezTo>
                      <a:pt x="13970" y="3"/>
                      <a:pt x="13971" y="4"/>
                      <a:pt x="13971" y="5"/>
                    </a:cubicBezTo>
                    <a:cubicBezTo>
                      <a:pt x="13971" y="6"/>
                      <a:pt x="13970" y="7"/>
                      <a:pt x="13969" y="7"/>
                    </a:cubicBezTo>
                    <a:lnTo>
                      <a:pt x="13969" y="7"/>
                    </a:lnTo>
                    <a:cubicBezTo>
                      <a:pt x="13968" y="7"/>
                      <a:pt x="13967" y="6"/>
                      <a:pt x="13967" y="5"/>
                    </a:cubicBezTo>
                    <a:cubicBezTo>
                      <a:pt x="13967" y="4"/>
                      <a:pt x="13968" y="3"/>
                      <a:pt x="13969" y="3"/>
                    </a:cubicBezTo>
                    <a:close/>
                    <a:moveTo>
                      <a:pt x="13977" y="3"/>
                    </a:moveTo>
                    <a:lnTo>
                      <a:pt x="13977" y="3"/>
                    </a:lnTo>
                    <a:cubicBezTo>
                      <a:pt x="13978" y="3"/>
                      <a:pt x="13979" y="4"/>
                      <a:pt x="13979" y="5"/>
                    </a:cubicBezTo>
                    <a:cubicBezTo>
                      <a:pt x="13979" y="6"/>
                      <a:pt x="13978" y="7"/>
                      <a:pt x="13977" y="7"/>
                    </a:cubicBezTo>
                    <a:lnTo>
                      <a:pt x="13977" y="7"/>
                    </a:lnTo>
                    <a:cubicBezTo>
                      <a:pt x="13976" y="7"/>
                      <a:pt x="13975" y="6"/>
                      <a:pt x="13975" y="5"/>
                    </a:cubicBezTo>
                    <a:cubicBezTo>
                      <a:pt x="13975" y="4"/>
                      <a:pt x="13976" y="3"/>
                      <a:pt x="13977" y="3"/>
                    </a:cubicBezTo>
                    <a:close/>
                    <a:moveTo>
                      <a:pt x="13985" y="3"/>
                    </a:moveTo>
                    <a:lnTo>
                      <a:pt x="13985" y="3"/>
                    </a:lnTo>
                    <a:cubicBezTo>
                      <a:pt x="13986" y="3"/>
                      <a:pt x="13987" y="4"/>
                      <a:pt x="13987" y="5"/>
                    </a:cubicBezTo>
                    <a:cubicBezTo>
                      <a:pt x="13987" y="6"/>
                      <a:pt x="13986" y="7"/>
                      <a:pt x="13985" y="7"/>
                    </a:cubicBezTo>
                    <a:lnTo>
                      <a:pt x="13985" y="7"/>
                    </a:lnTo>
                    <a:cubicBezTo>
                      <a:pt x="13984" y="7"/>
                      <a:pt x="13983" y="6"/>
                      <a:pt x="13983" y="5"/>
                    </a:cubicBezTo>
                    <a:cubicBezTo>
                      <a:pt x="13983" y="4"/>
                      <a:pt x="13984" y="3"/>
                      <a:pt x="13985" y="3"/>
                    </a:cubicBezTo>
                    <a:close/>
                    <a:moveTo>
                      <a:pt x="13993" y="3"/>
                    </a:moveTo>
                    <a:lnTo>
                      <a:pt x="13993" y="3"/>
                    </a:lnTo>
                    <a:cubicBezTo>
                      <a:pt x="13994" y="3"/>
                      <a:pt x="13995" y="4"/>
                      <a:pt x="13995" y="5"/>
                    </a:cubicBezTo>
                    <a:cubicBezTo>
                      <a:pt x="13995" y="6"/>
                      <a:pt x="13994" y="7"/>
                      <a:pt x="13993" y="7"/>
                    </a:cubicBezTo>
                    <a:lnTo>
                      <a:pt x="13993" y="7"/>
                    </a:lnTo>
                    <a:cubicBezTo>
                      <a:pt x="13992" y="7"/>
                      <a:pt x="13991" y="6"/>
                      <a:pt x="13991" y="5"/>
                    </a:cubicBezTo>
                    <a:cubicBezTo>
                      <a:pt x="13991" y="4"/>
                      <a:pt x="13992" y="3"/>
                      <a:pt x="13993" y="3"/>
                    </a:cubicBezTo>
                    <a:close/>
                    <a:moveTo>
                      <a:pt x="14001" y="3"/>
                    </a:moveTo>
                    <a:lnTo>
                      <a:pt x="14001" y="3"/>
                    </a:lnTo>
                    <a:cubicBezTo>
                      <a:pt x="14002" y="3"/>
                      <a:pt x="14003" y="4"/>
                      <a:pt x="14003" y="5"/>
                    </a:cubicBezTo>
                    <a:cubicBezTo>
                      <a:pt x="14003" y="6"/>
                      <a:pt x="14002" y="7"/>
                      <a:pt x="14001" y="7"/>
                    </a:cubicBezTo>
                    <a:lnTo>
                      <a:pt x="14001" y="7"/>
                    </a:lnTo>
                    <a:cubicBezTo>
                      <a:pt x="14000" y="7"/>
                      <a:pt x="13999" y="6"/>
                      <a:pt x="13999" y="5"/>
                    </a:cubicBezTo>
                    <a:cubicBezTo>
                      <a:pt x="13999" y="4"/>
                      <a:pt x="14000" y="3"/>
                      <a:pt x="14001" y="3"/>
                    </a:cubicBezTo>
                    <a:close/>
                    <a:moveTo>
                      <a:pt x="14009" y="3"/>
                    </a:moveTo>
                    <a:lnTo>
                      <a:pt x="14009" y="3"/>
                    </a:lnTo>
                    <a:cubicBezTo>
                      <a:pt x="14010" y="3"/>
                      <a:pt x="14011" y="4"/>
                      <a:pt x="14011" y="5"/>
                    </a:cubicBezTo>
                    <a:cubicBezTo>
                      <a:pt x="14011" y="6"/>
                      <a:pt x="14010" y="7"/>
                      <a:pt x="14009" y="7"/>
                    </a:cubicBezTo>
                    <a:lnTo>
                      <a:pt x="14009" y="7"/>
                    </a:lnTo>
                    <a:cubicBezTo>
                      <a:pt x="14008" y="7"/>
                      <a:pt x="14007" y="6"/>
                      <a:pt x="14007" y="5"/>
                    </a:cubicBezTo>
                    <a:cubicBezTo>
                      <a:pt x="14007" y="4"/>
                      <a:pt x="14008" y="3"/>
                      <a:pt x="14009" y="3"/>
                    </a:cubicBezTo>
                    <a:close/>
                    <a:moveTo>
                      <a:pt x="14017" y="3"/>
                    </a:moveTo>
                    <a:lnTo>
                      <a:pt x="14017" y="3"/>
                    </a:lnTo>
                    <a:cubicBezTo>
                      <a:pt x="14018" y="3"/>
                      <a:pt x="14019" y="4"/>
                      <a:pt x="14019" y="5"/>
                    </a:cubicBezTo>
                    <a:cubicBezTo>
                      <a:pt x="14019" y="6"/>
                      <a:pt x="14018" y="7"/>
                      <a:pt x="14017" y="7"/>
                    </a:cubicBezTo>
                    <a:lnTo>
                      <a:pt x="14017" y="7"/>
                    </a:lnTo>
                    <a:cubicBezTo>
                      <a:pt x="14016" y="7"/>
                      <a:pt x="14015" y="6"/>
                      <a:pt x="14015" y="5"/>
                    </a:cubicBezTo>
                    <a:cubicBezTo>
                      <a:pt x="14015" y="4"/>
                      <a:pt x="14016" y="3"/>
                      <a:pt x="14017" y="3"/>
                    </a:cubicBezTo>
                    <a:close/>
                    <a:moveTo>
                      <a:pt x="14025" y="3"/>
                    </a:moveTo>
                    <a:lnTo>
                      <a:pt x="14025" y="3"/>
                    </a:lnTo>
                    <a:cubicBezTo>
                      <a:pt x="14026" y="3"/>
                      <a:pt x="14027" y="4"/>
                      <a:pt x="14027" y="5"/>
                    </a:cubicBezTo>
                    <a:cubicBezTo>
                      <a:pt x="14027" y="6"/>
                      <a:pt x="14026" y="7"/>
                      <a:pt x="14025" y="7"/>
                    </a:cubicBezTo>
                    <a:lnTo>
                      <a:pt x="14025" y="7"/>
                    </a:lnTo>
                    <a:cubicBezTo>
                      <a:pt x="14024" y="7"/>
                      <a:pt x="14023" y="6"/>
                      <a:pt x="14023" y="5"/>
                    </a:cubicBezTo>
                    <a:cubicBezTo>
                      <a:pt x="14023" y="4"/>
                      <a:pt x="14024" y="3"/>
                      <a:pt x="14025" y="3"/>
                    </a:cubicBezTo>
                    <a:close/>
                    <a:moveTo>
                      <a:pt x="14033" y="3"/>
                    </a:moveTo>
                    <a:lnTo>
                      <a:pt x="14033" y="3"/>
                    </a:lnTo>
                    <a:cubicBezTo>
                      <a:pt x="14034" y="3"/>
                      <a:pt x="14035" y="4"/>
                      <a:pt x="14035" y="5"/>
                    </a:cubicBezTo>
                    <a:cubicBezTo>
                      <a:pt x="14035" y="6"/>
                      <a:pt x="14034" y="7"/>
                      <a:pt x="14033" y="7"/>
                    </a:cubicBezTo>
                    <a:lnTo>
                      <a:pt x="14033" y="7"/>
                    </a:lnTo>
                    <a:cubicBezTo>
                      <a:pt x="14032" y="7"/>
                      <a:pt x="14031" y="6"/>
                      <a:pt x="14031" y="5"/>
                    </a:cubicBezTo>
                    <a:cubicBezTo>
                      <a:pt x="14031" y="4"/>
                      <a:pt x="14032" y="3"/>
                      <a:pt x="14033" y="3"/>
                    </a:cubicBezTo>
                    <a:close/>
                    <a:moveTo>
                      <a:pt x="14041" y="3"/>
                    </a:moveTo>
                    <a:lnTo>
                      <a:pt x="14041" y="3"/>
                    </a:lnTo>
                    <a:cubicBezTo>
                      <a:pt x="14042" y="3"/>
                      <a:pt x="14043" y="4"/>
                      <a:pt x="14043" y="5"/>
                    </a:cubicBezTo>
                    <a:cubicBezTo>
                      <a:pt x="14043" y="6"/>
                      <a:pt x="14042" y="7"/>
                      <a:pt x="14041" y="7"/>
                    </a:cubicBezTo>
                    <a:lnTo>
                      <a:pt x="14041" y="7"/>
                    </a:lnTo>
                    <a:cubicBezTo>
                      <a:pt x="14040" y="7"/>
                      <a:pt x="14039" y="6"/>
                      <a:pt x="14039" y="5"/>
                    </a:cubicBezTo>
                    <a:cubicBezTo>
                      <a:pt x="14039" y="4"/>
                      <a:pt x="14040" y="3"/>
                      <a:pt x="14041" y="3"/>
                    </a:cubicBezTo>
                    <a:close/>
                    <a:moveTo>
                      <a:pt x="14049" y="3"/>
                    </a:moveTo>
                    <a:lnTo>
                      <a:pt x="14049" y="3"/>
                    </a:lnTo>
                    <a:cubicBezTo>
                      <a:pt x="14050" y="3"/>
                      <a:pt x="14051" y="4"/>
                      <a:pt x="14051" y="5"/>
                    </a:cubicBezTo>
                    <a:cubicBezTo>
                      <a:pt x="14051" y="6"/>
                      <a:pt x="14050" y="7"/>
                      <a:pt x="14049" y="7"/>
                    </a:cubicBezTo>
                    <a:lnTo>
                      <a:pt x="14049" y="7"/>
                    </a:lnTo>
                    <a:cubicBezTo>
                      <a:pt x="14048" y="7"/>
                      <a:pt x="14047" y="6"/>
                      <a:pt x="14047" y="5"/>
                    </a:cubicBezTo>
                    <a:cubicBezTo>
                      <a:pt x="14047" y="4"/>
                      <a:pt x="14048" y="3"/>
                      <a:pt x="14049" y="3"/>
                    </a:cubicBezTo>
                    <a:close/>
                    <a:moveTo>
                      <a:pt x="14057" y="3"/>
                    </a:moveTo>
                    <a:lnTo>
                      <a:pt x="14057" y="3"/>
                    </a:lnTo>
                    <a:cubicBezTo>
                      <a:pt x="14058" y="3"/>
                      <a:pt x="14059" y="4"/>
                      <a:pt x="14059" y="5"/>
                    </a:cubicBezTo>
                    <a:cubicBezTo>
                      <a:pt x="14059" y="6"/>
                      <a:pt x="14058" y="7"/>
                      <a:pt x="14057" y="7"/>
                    </a:cubicBezTo>
                    <a:lnTo>
                      <a:pt x="14057" y="7"/>
                    </a:lnTo>
                    <a:cubicBezTo>
                      <a:pt x="14056" y="7"/>
                      <a:pt x="14055" y="6"/>
                      <a:pt x="14055" y="5"/>
                    </a:cubicBezTo>
                    <a:cubicBezTo>
                      <a:pt x="14055" y="4"/>
                      <a:pt x="14056" y="3"/>
                      <a:pt x="14057" y="3"/>
                    </a:cubicBezTo>
                    <a:close/>
                    <a:moveTo>
                      <a:pt x="14065" y="3"/>
                    </a:moveTo>
                    <a:lnTo>
                      <a:pt x="14065" y="3"/>
                    </a:lnTo>
                    <a:cubicBezTo>
                      <a:pt x="14066" y="3"/>
                      <a:pt x="14067" y="4"/>
                      <a:pt x="14067" y="5"/>
                    </a:cubicBezTo>
                    <a:cubicBezTo>
                      <a:pt x="14067" y="6"/>
                      <a:pt x="14066" y="7"/>
                      <a:pt x="14065" y="7"/>
                    </a:cubicBezTo>
                    <a:lnTo>
                      <a:pt x="14065" y="7"/>
                    </a:lnTo>
                    <a:cubicBezTo>
                      <a:pt x="14064" y="7"/>
                      <a:pt x="14063" y="6"/>
                      <a:pt x="14063" y="5"/>
                    </a:cubicBezTo>
                    <a:cubicBezTo>
                      <a:pt x="14063" y="4"/>
                      <a:pt x="14064" y="3"/>
                      <a:pt x="14065" y="3"/>
                    </a:cubicBezTo>
                    <a:close/>
                    <a:moveTo>
                      <a:pt x="14073" y="3"/>
                    </a:moveTo>
                    <a:lnTo>
                      <a:pt x="14073" y="3"/>
                    </a:lnTo>
                    <a:cubicBezTo>
                      <a:pt x="14074" y="3"/>
                      <a:pt x="14075" y="4"/>
                      <a:pt x="14075" y="5"/>
                    </a:cubicBezTo>
                    <a:cubicBezTo>
                      <a:pt x="14075" y="6"/>
                      <a:pt x="14074" y="7"/>
                      <a:pt x="14073" y="7"/>
                    </a:cubicBezTo>
                    <a:lnTo>
                      <a:pt x="14073" y="7"/>
                    </a:lnTo>
                    <a:cubicBezTo>
                      <a:pt x="14072" y="7"/>
                      <a:pt x="14071" y="6"/>
                      <a:pt x="14071" y="5"/>
                    </a:cubicBezTo>
                    <a:cubicBezTo>
                      <a:pt x="14071" y="4"/>
                      <a:pt x="14072" y="3"/>
                      <a:pt x="14073" y="3"/>
                    </a:cubicBezTo>
                    <a:close/>
                    <a:moveTo>
                      <a:pt x="14081" y="3"/>
                    </a:moveTo>
                    <a:lnTo>
                      <a:pt x="14081" y="3"/>
                    </a:lnTo>
                    <a:cubicBezTo>
                      <a:pt x="14082" y="3"/>
                      <a:pt x="14083" y="4"/>
                      <a:pt x="14083" y="5"/>
                    </a:cubicBezTo>
                    <a:cubicBezTo>
                      <a:pt x="14083" y="6"/>
                      <a:pt x="14082" y="7"/>
                      <a:pt x="14081" y="7"/>
                    </a:cubicBezTo>
                    <a:lnTo>
                      <a:pt x="14081" y="7"/>
                    </a:lnTo>
                    <a:cubicBezTo>
                      <a:pt x="14080" y="7"/>
                      <a:pt x="14079" y="6"/>
                      <a:pt x="14079" y="5"/>
                    </a:cubicBezTo>
                    <a:cubicBezTo>
                      <a:pt x="14079" y="4"/>
                      <a:pt x="14080" y="3"/>
                      <a:pt x="14081" y="3"/>
                    </a:cubicBezTo>
                    <a:close/>
                    <a:moveTo>
                      <a:pt x="14089" y="3"/>
                    </a:moveTo>
                    <a:lnTo>
                      <a:pt x="14089" y="3"/>
                    </a:lnTo>
                    <a:cubicBezTo>
                      <a:pt x="14090" y="3"/>
                      <a:pt x="14091" y="4"/>
                      <a:pt x="14091" y="5"/>
                    </a:cubicBezTo>
                    <a:cubicBezTo>
                      <a:pt x="14091" y="6"/>
                      <a:pt x="14090" y="7"/>
                      <a:pt x="14089" y="7"/>
                    </a:cubicBezTo>
                    <a:lnTo>
                      <a:pt x="14089" y="7"/>
                    </a:lnTo>
                    <a:cubicBezTo>
                      <a:pt x="14088" y="7"/>
                      <a:pt x="14087" y="6"/>
                      <a:pt x="14087" y="5"/>
                    </a:cubicBezTo>
                    <a:cubicBezTo>
                      <a:pt x="14087" y="4"/>
                      <a:pt x="14088" y="3"/>
                      <a:pt x="14089" y="3"/>
                    </a:cubicBezTo>
                    <a:close/>
                    <a:moveTo>
                      <a:pt x="14097" y="3"/>
                    </a:moveTo>
                    <a:lnTo>
                      <a:pt x="14097" y="3"/>
                    </a:lnTo>
                    <a:cubicBezTo>
                      <a:pt x="14098" y="3"/>
                      <a:pt x="14099" y="4"/>
                      <a:pt x="14099" y="5"/>
                    </a:cubicBezTo>
                    <a:cubicBezTo>
                      <a:pt x="14099" y="6"/>
                      <a:pt x="14098" y="7"/>
                      <a:pt x="14097" y="7"/>
                    </a:cubicBezTo>
                    <a:lnTo>
                      <a:pt x="14097" y="7"/>
                    </a:lnTo>
                    <a:cubicBezTo>
                      <a:pt x="14096" y="7"/>
                      <a:pt x="14095" y="6"/>
                      <a:pt x="14095" y="5"/>
                    </a:cubicBezTo>
                    <a:cubicBezTo>
                      <a:pt x="14095" y="4"/>
                      <a:pt x="14096" y="3"/>
                      <a:pt x="14097" y="3"/>
                    </a:cubicBezTo>
                    <a:close/>
                    <a:moveTo>
                      <a:pt x="14105" y="3"/>
                    </a:moveTo>
                    <a:lnTo>
                      <a:pt x="14105" y="3"/>
                    </a:lnTo>
                    <a:cubicBezTo>
                      <a:pt x="14106" y="3"/>
                      <a:pt x="14107" y="4"/>
                      <a:pt x="14107" y="5"/>
                    </a:cubicBezTo>
                    <a:cubicBezTo>
                      <a:pt x="14107" y="6"/>
                      <a:pt x="14106" y="7"/>
                      <a:pt x="14105" y="7"/>
                    </a:cubicBezTo>
                    <a:lnTo>
                      <a:pt x="14105" y="7"/>
                    </a:lnTo>
                    <a:cubicBezTo>
                      <a:pt x="14104" y="7"/>
                      <a:pt x="14103" y="6"/>
                      <a:pt x="14103" y="5"/>
                    </a:cubicBezTo>
                    <a:cubicBezTo>
                      <a:pt x="14103" y="4"/>
                      <a:pt x="14104" y="3"/>
                      <a:pt x="14105" y="3"/>
                    </a:cubicBezTo>
                    <a:close/>
                    <a:moveTo>
                      <a:pt x="14113" y="3"/>
                    </a:moveTo>
                    <a:lnTo>
                      <a:pt x="14113" y="3"/>
                    </a:lnTo>
                    <a:cubicBezTo>
                      <a:pt x="14114" y="3"/>
                      <a:pt x="14115" y="4"/>
                      <a:pt x="14115" y="5"/>
                    </a:cubicBezTo>
                    <a:cubicBezTo>
                      <a:pt x="14115" y="6"/>
                      <a:pt x="14114" y="7"/>
                      <a:pt x="14113" y="7"/>
                    </a:cubicBezTo>
                    <a:lnTo>
                      <a:pt x="14113" y="7"/>
                    </a:lnTo>
                    <a:cubicBezTo>
                      <a:pt x="14112" y="7"/>
                      <a:pt x="14111" y="6"/>
                      <a:pt x="14111" y="5"/>
                    </a:cubicBezTo>
                    <a:cubicBezTo>
                      <a:pt x="14111" y="4"/>
                      <a:pt x="14112" y="3"/>
                      <a:pt x="14113" y="3"/>
                    </a:cubicBezTo>
                    <a:close/>
                    <a:moveTo>
                      <a:pt x="14121" y="3"/>
                    </a:moveTo>
                    <a:lnTo>
                      <a:pt x="14121" y="3"/>
                    </a:lnTo>
                    <a:cubicBezTo>
                      <a:pt x="14122" y="3"/>
                      <a:pt x="14123" y="4"/>
                      <a:pt x="14123" y="5"/>
                    </a:cubicBezTo>
                    <a:cubicBezTo>
                      <a:pt x="14123" y="6"/>
                      <a:pt x="14122" y="7"/>
                      <a:pt x="14121" y="7"/>
                    </a:cubicBezTo>
                    <a:lnTo>
                      <a:pt x="14121" y="7"/>
                    </a:lnTo>
                    <a:cubicBezTo>
                      <a:pt x="14120" y="7"/>
                      <a:pt x="14119" y="6"/>
                      <a:pt x="14119" y="5"/>
                    </a:cubicBezTo>
                    <a:cubicBezTo>
                      <a:pt x="14119" y="4"/>
                      <a:pt x="14120" y="3"/>
                      <a:pt x="14121" y="3"/>
                    </a:cubicBezTo>
                    <a:close/>
                    <a:moveTo>
                      <a:pt x="14129" y="3"/>
                    </a:moveTo>
                    <a:lnTo>
                      <a:pt x="14129" y="3"/>
                    </a:lnTo>
                    <a:cubicBezTo>
                      <a:pt x="14130" y="3"/>
                      <a:pt x="14131" y="4"/>
                      <a:pt x="14131" y="5"/>
                    </a:cubicBezTo>
                    <a:cubicBezTo>
                      <a:pt x="14131" y="6"/>
                      <a:pt x="14130" y="7"/>
                      <a:pt x="14129" y="7"/>
                    </a:cubicBezTo>
                    <a:lnTo>
                      <a:pt x="14129" y="7"/>
                    </a:lnTo>
                    <a:cubicBezTo>
                      <a:pt x="14128" y="7"/>
                      <a:pt x="14127" y="6"/>
                      <a:pt x="14127" y="5"/>
                    </a:cubicBezTo>
                    <a:cubicBezTo>
                      <a:pt x="14127" y="4"/>
                      <a:pt x="14128" y="3"/>
                      <a:pt x="14129" y="3"/>
                    </a:cubicBezTo>
                    <a:close/>
                    <a:moveTo>
                      <a:pt x="14137" y="3"/>
                    </a:moveTo>
                    <a:lnTo>
                      <a:pt x="14137" y="3"/>
                    </a:lnTo>
                    <a:cubicBezTo>
                      <a:pt x="14138" y="3"/>
                      <a:pt x="14139" y="4"/>
                      <a:pt x="14139" y="5"/>
                    </a:cubicBezTo>
                    <a:cubicBezTo>
                      <a:pt x="14139" y="6"/>
                      <a:pt x="14138" y="7"/>
                      <a:pt x="14137" y="7"/>
                    </a:cubicBezTo>
                    <a:lnTo>
                      <a:pt x="14137" y="7"/>
                    </a:lnTo>
                    <a:cubicBezTo>
                      <a:pt x="14136" y="7"/>
                      <a:pt x="14135" y="6"/>
                      <a:pt x="14135" y="5"/>
                    </a:cubicBezTo>
                    <a:cubicBezTo>
                      <a:pt x="14135" y="4"/>
                      <a:pt x="14136" y="3"/>
                      <a:pt x="14137" y="3"/>
                    </a:cubicBezTo>
                    <a:close/>
                    <a:moveTo>
                      <a:pt x="14145" y="3"/>
                    </a:moveTo>
                    <a:lnTo>
                      <a:pt x="14145" y="3"/>
                    </a:lnTo>
                    <a:cubicBezTo>
                      <a:pt x="14146" y="3"/>
                      <a:pt x="14147" y="4"/>
                      <a:pt x="14147" y="5"/>
                    </a:cubicBezTo>
                    <a:cubicBezTo>
                      <a:pt x="14147" y="6"/>
                      <a:pt x="14146" y="7"/>
                      <a:pt x="14145" y="7"/>
                    </a:cubicBezTo>
                    <a:lnTo>
                      <a:pt x="14145" y="7"/>
                    </a:lnTo>
                    <a:cubicBezTo>
                      <a:pt x="14144" y="7"/>
                      <a:pt x="14143" y="6"/>
                      <a:pt x="14143" y="5"/>
                    </a:cubicBezTo>
                    <a:cubicBezTo>
                      <a:pt x="14143" y="4"/>
                      <a:pt x="14144" y="3"/>
                      <a:pt x="14145" y="3"/>
                    </a:cubicBezTo>
                    <a:close/>
                    <a:moveTo>
                      <a:pt x="14153" y="3"/>
                    </a:moveTo>
                    <a:lnTo>
                      <a:pt x="14153" y="3"/>
                    </a:lnTo>
                    <a:cubicBezTo>
                      <a:pt x="14154" y="3"/>
                      <a:pt x="14155" y="4"/>
                      <a:pt x="14155" y="5"/>
                    </a:cubicBezTo>
                    <a:cubicBezTo>
                      <a:pt x="14155" y="6"/>
                      <a:pt x="14154" y="7"/>
                      <a:pt x="14153" y="7"/>
                    </a:cubicBezTo>
                    <a:lnTo>
                      <a:pt x="14153" y="7"/>
                    </a:lnTo>
                    <a:cubicBezTo>
                      <a:pt x="14152" y="7"/>
                      <a:pt x="14151" y="6"/>
                      <a:pt x="14151" y="5"/>
                    </a:cubicBezTo>
                    <a:cubicBezTo>
                      <a:pt x="14151" y="4"/>
                      <a:pt x="14152" y="3"/>
                      <a:pt x="14153" y="3"/>
                    </a:cubicBezTo>
                    <a:close/>
                    <a:moveTo>
                      <a:pt x="14161" y="3"/>
                    </a:moveTo>
                    <a:lnTo>
                      <a:pt x="14161" y="3"/>
                    </a:lnTo>
                    <a:cubicBezTo>
                      <a:pt x="14162" y="3"/>
                      <a:pt x="14163" y="4"/>
                      <a:pt x="14163" y="5"/>
                    </a:cubicBezTo>
                    <a:cubicBezTo>
                      <a:pt x="14163" y="6"/>
                      <a:pt x="14162" y="7"/>
                      <a:pt x="14161" y="7"/>
                    </a:cubicBezTo>
                    <a:lnTo>
                      <a:pt x="14161" y="7"/>
                    </a:lnTo>
                    <a:cubicBezTo>
                      <a:pt x="14160" y="7"/>
                      <a:pt x="14159" y="6"/>
                      <a:pt x="14159" y="5"/>
                    </a:cubicBezTo>
                    <a:cubicBezTo>
                      <a:pt x="14159" y="4"/>
                      <a:pt x="14160" y="3"/>
                      <a:pt x="14161" y="3"/>
                    </a:cubicBezTo>
                    <a:close/>
                    <a:moveTo>
                      <a:pt x="14169" y="3"/>
                    </a:moveTo>
                    <a:lnTo>
                      <a:pt x="14169" y="3"/>
                    </a:lnTo>
                    <a:cubicBezTo>
                      <a:pt x="14171" y="3"/>
                      <a:pt x="14171" y="4"/>
                      <a:pt x="14171" y="5"/>
                    </a:cubicBezTo>
                    <a:cubicBezTo>
                      <a:pt x="14171" y="6"/>
                      <a:pt x="14171" y="7"/>
                      <a:pt x="14169" y="7"/>
                    </a:cubicBezTo>
                    <a:lnTo>
                      <a:pt x="14169" y="7"/>
                    </a:lnTo>
                    <a:cubicBezTo>
                      <a:pt x="14168" y="7"/>
                      <a:pt x="14167" y="6"/>
                      <a:pt x="14167" y="5"/>
                    </a:cubicBezTo>
                    <a:cubicBezTo>
                      <a:pt x="14167" y="4"/>
                      <a:pt x="14168" y="3"/>
                      <a:pt x="14169" y="3"/>
                    </a:cubicBezTo>
                    <a:close/>
                    <a:moveTo>
                      <a:pt x="14177" y="3"/>
                    </a:moveTo>
                    <a:lnTo>
                      <a:pt x="14177" y="3"/>
                    </a:lnTo>
                    <a:cubicBezTo>
                      <a:pt x="14179" y="3"/>
                      <a:pt x="14179" y="4"/>
                      <a:pt x="14179" y="5"/>
                    </a:cubicBezTo>
                    <a:cubicBezTo>
                      <a:pt x="14179" y="6"/>
                      <a:pt x="14179" y="7"/>
                      <a:pt x="14177" y="7"/>
                    </a:cubicBezTo>
                    <a:lnTo>
                      <a:pt x="14177" y="7"/>
                    </a:lnTo>
                    <a:cubicBezTo>
                      <a:pt x="14176" y="7"/>
                      <a:pt x="14175" y="6"/>
                      <a:pt x="14175" y="5"/>
                    </a:cubicBezTo>
                    <a:cubicBezTo>
                      <a:pt x="14175" y="4"/>
                      <a:pt x="14176" y="3"/>
                      <a:pt x="14177" y="3"/>
                    </a:cubicBezTo>
                    <a:close/>
                    <a:moveTo>
                      <a:pt x="14185" y="3"/>
                    </a:moveTo>
                    <a:lnTo>
                      <a:pt x="14185" y="3"/>
                    </a:lnTo>
                    <a:cubicBezTo>
                      <a:pt x="14187" y="3"/>
                      <a:pt x="14187" y="4"/>
                      <a:pt x="14187" y="5"/>
                    </a:cubicBezTo>
                    <a:cubicBezTo>
                      <a:pt x="14187" y="6"/>
                      <a:pt x="14187" y="7"/>
                      <a:pt x="14185" y="7"/>
                    </a:cubicBezTo>
                    <a:lnTo>
                      <a:pt x="14185" y="7"/>
                    </a:lnTo>
                    <a:cubicBezTo>
                      <a:pt x="14184" y="7"/>
                      <a:pt x="14183" y="6"/>
                      <a:pt x="14183" y="5"/>
                    </a:cubicBezTo>
                    <a:cubicBezTo>
                      <a:pt x="14183" y="4"/>
                      <a:pt x="14184" y="3"/>
                      <a:pt x="14185" y="3"/>
                    </a:cubicBezTo>
                    <a:close/>
                    <a:moveTo>
                      <a:pt x="14193" y="3"/>
                    </a:moveTo>
                    <a:lnTo>
                      <a:pt x="14193" y="3"/>
                    </a:lnTo>
                    <a:cubicBezTo>
                      <a:pt x="14195" y="3"/>
                      <a:pt x="14195" y="4"/>
                      <a:pt x="14195" y="5"/>
                    </a:cubicBezTo>
                    <a:cubicBezTo>
                      <a:pt x="14195" y="6"/>
                      <a:pt x="14195" y="7"/>
                      <a:pt x="14193" y="7"/>
                    </a:cubicBezTo>
                    <a:lnTo>
                      <a:pt x="14193" y="7"/>
                    </a:lnTo>
                    <a:cubicBezTo>
                      <a:pt x="14192" y="7"/>
                      <a:pt x="14191" y="6"/>
                      <a:pt x="14191" y="5"/>
                    </a:cubicBezTo>
                    <a:cubicBezTo>
                      <a:pt x="14191" y="4"/>
                      <a:pt x="14192" y="3"/>
                      <a:pt x="14193" y="3"/>
                    </a:cubicBezTo>
                    <a:close/>
                    <a:moveTo>
                      <a:pt x="14201" y="3"/>
                    </a:moveTo>
                    <a:lnTo>
                      <a:pt x="14201" y="3"/>
                    </a:lnTo>
                    <a:cubicBezTo>
                      <a:pt x="14203" y="3"/>
                      <a:pt x="14203" y="4"/>
                      <a:pt x="14203" y="5"/>
                    </a:cubicBezTo>
                    <a:cubicBezTo>
                      <a:pt x="14203" y="6"/>
                      <a:pt x="14203" y="7"/>
                      <a:pt x="14201" y="7"/>
                    </a:cubicBezTo>
                    <a:lnTo>
                      <a:pt x="14201" y="7"/>
                    </a:lnTo>
                    <a:cubicBezTo>
                      <a:pt x="14200" y="7"/>
                      <a:pt x="14199" y="6"/>
                      <a:pt x="14199" y="5"/>
                    </a:cubicBezTo>
                    <a:cubicBezTo>
                      <a:pt x="14199" y="4"/>
                      <a:pt x="14200" y="3"/>
                      <a:pt x="14201" y="3"/>
                    </a:cubicBezTo>
                    <a:close/>
                    <a:moveTo>
                      <a:pt x="14209" y="3"/>
                    </a:moveTo>
                    <a:lnTo>
                      <a:pt x="14209" y="3"/>
                    </a:lnTo>
                    <a:cubicBezTo>
                      <a:pt x="14211" y="3"/>
                      <a:pt x="14211" y="4"/>
                      <a:pt x="14211" y="5"/>
                    </a:cubicBezTo>
                    <a:cubicBezTo>
                      <a:pt x="14211" y="6"/>
                      <a:pt x="14211" y="7"/>
                      <a:pt x="14209" y="7"/>
                    </a:cubicBezTo>
                    <a:lnTo>
                      <a:pt x="14209" y="7"/>
                    </a:lnTo>
                    <a:cubicBezTo>
                      <a:pt x="14208" y="7"/>
                      <a:pt x="14207" y="6"/>
                      <a:pt x="14207" y="5"/>
                    </a:cubicBezTo>
                    <a:cubicBezTo>
                      <a:pt x="14207" y="4"/>
                      <a:pt x="14208" y="3"/>
                      <a:pt x="14209" y="3"/>
                    </a:cubicBezTo>
                    <a:close/>
                    <a:moveTo>
                      <a:pt x="14217" y="3"/>
                    </a:moveTo>
                    <a:lnTo>
                      <a:pt x="14217" y="3"/>
                    </a:lnTo>
                    <a:cubicBezTo>
                      <a:pt x="14219" y="3"/>
                      <a:pt x="14219" y="4"/>
                      <a:pt x="14219" y="5"/>
                    </a:cubicBezTo>
                    <a:cubicBezTo>
                      <a:pt x="14219" y="6"/>
                      <a:pt x="14219" y="7"/>
                      <a:pt x="14217" y="7"/>
                    </a:cubicBezTo>
                    <a:lnTo>
                      <a:pt x="14217" y="7"/>
                    </a:lnTo>
                    <a:cubicBezTo>
                      <a:pt x="14216" y="7"/>
                      <a:pt x="14215" y="6"/>
                      <a:pt x="14215" y="5"/>
                    </a:cubicBezTo>
                    <a:cubicBezTo>
                      <a:pt x="14215" y="4"/>
                      <a:pt x="14216" y="3"/>
                      <a:pt x="14217" y="3"/>
                    </a:cubicBezTo>
                    <a:close/>
                    <a:moveTo>
                      <a:pt x="14225" y="3"/>
                    </a:moveTo>
                    <a:lnTo>
                      <a:pt x="14225" y="3"/>
                    </a:lnTo>
                    <a:cubicBezTo>
                      <a:pt x="14227" y="3"/>
                      <a:pt x="14227" y="4"/>
                      <a:pt x="14227" y="5"/>
                    </a:cubicBezTo>
                    <a:cubicBezTo>
                      <a:pt x="14227" y="6"/>
                      <a:pt x="14227" y="7"/>
                      <a:pt x="14225" y="7"/>
                    </a:cubicBezTo>
                    <a:lnTo>
                      <a:pt x="14225" y="7"/>
                    </a:lnTo>
                    <a:cubicBezTo>
                      <a:pt x="14224" y="7"/>
                      <a:pt x="14223" y="6"/>
                      <a:pt x="14223" y="5"/>
                    </a:cubicBezTo>
                    <a:cubicBezTo>
                      <a:pt x="14223" y="4"/>
                      <a:pt x="14224" y="3"/>
                      <a:pt x="14225" y="3"/>
                    </a:cubicBezTo>
                    <a:close/>
                    <a:moveTo>
                      <a:pt x="14233" y="3"/>
                    </a:moveTo>
                    <a:lnTo>
                      <a:pt x="14233" y="3"/>
                    </a:lnTo>
                    <a:cubicBezTo>
                      <a:pt x="14235" y="3"/>
                      <a:pt x="14235" y="4"/>
                      <a:pt x="14235" y="5"/>
                    </a:cubicBezTo>
                    <a:cubicBezTo>
                      <a:pt x="14235" y="6"/>
                      <a:pt x="14235" y="7"/>
                      <a:pt x="14233" y="7"/>
                    </a:cubicBezTo>
                    <a:lnTo>
                      <a:pt x="14233" y="7"/>
                    </a:lnTo>
                    <a:cubicBezTo>
                      <a:pt x="14232" y="7"/>
                      <a:pt x="14231" y="6"/>
                      <a:pt x="14231" y="5"/>
                    </a:cubicBezTo>
                    <a:cubicBezTo>
                      <a:pt x="14231" y="4"/>
                      <a:pt x="14232" y="3"/>
                      <a:pt x="14233" y="3"/>
                    </a:cubicBezTo>
                    <a:close/>
                    <a:moveTo>
                      <a:pt x="14241" y="3"/>
                    </a:moveTo>
                    <a:lnTo>
                      <a:pt x="14241" y="3"/>
                    </a:lnTo>
                    <a:cubicBezTo>
                      <a:pt x="14243" y="3"/>
                      <a:pt x="14243" y="4"/>
                      <a:pt x="14243" y="5"/>
                    </a:cubicBezTo>
                    <a:cubicBezTo>
                      <a:pt x="14243" y="6"/>
                      <a:pt x="14243" y="7"/>
                      <a:pt x="14241" y="7"/>
                    </a:cubicBezTo>
                    <a:lnTo>
                      <a:pt x="14241" y="7"/>
                    </a:lnTo>
                    <a:cubicBezTo>
                      <a:pt x="14240" y="7"/>
                      <a:pt x="14239" y="6"/>
                      <a:pt x="14239" y="5"/>
                    </a:cubicBezTo>
                    <a:cubicBezTo>
                      <a:pt x="14239" y="4"/>
                      <a:pt x="14240" y="3"/>
                      <a:pt x="14241" y="3"/>
                    </a:cubicBezTo>
                    <a:close/>
                    <a:moveTo>
                      <a:pt x="14249" y="3"/>
                    </a:moveTo>
                    <a:lnTo>
                      <a:pt x="14249" y="3"/>
                    </a:lnTo>
                    <a:cubicBezTo>
                      <a:pt x="14251" y="3"/>
                      <a:pt x="14251" y="4"/>
                      <a:pt x="14251" y="5"/>
                    </a:cubicBezTo>
                    <a:cubicBezTo>
                      <a:pt x="14251" y="6"/>
                      <a:pt x="14251" y="7"/>
                      <a:pt x="14249" y="7"/>
                    </a:cubicBezTo>
                    <a:lnTo>
                      <a:pt x="14249" y="7"/>
                    </a:lnTo>
                    <a:cubicBezTo>
                      <a:pt x="14248" y="7"/>
                      <a:pt x="14247" y="6"/>
                      <a:pt x="14247" y="5"/>
                    </a:cubicBezTo>
                    <a:cubicBezTo>
                      <a:pt x="14247" y="4"/>
                      <a:pt x="14248" y="3"/>
                      <a:pt x="14249" y="3"/>
                    </a:cubicBezTo>
                    <a:close/>
                    <a:moveTo>
                      <a:pt x="14257" y="3"/>
                    </a:moveTo>
                    <a:lnTo>
                      <a:pt x="14257" y="3"/>
                    </a:lnTo>
                    <a:cubicBezTo>
                      <a:pt x="14259" y="3"/>
                      <a:pt x="14259" y="4"/>
                      <a:pt x="14259" y="5"/>
                    </a:cubicBezTo>
                    <a:cubicBezTo>
                      <a:pt x="14259" y="6"/>
                      <a:pt x="14259" y="7"/>
                      <a:pt x="14257" y="7"/>
                    </a:cubicBezTo>
                    <a:lnTo>
                      <a:pt x="14257" y="7"/>
                    </a:lnTo>
                    <a:cubicBezTo>
                      <a:pt x="14256" y="7"/>
                      <a:pt x="14255" y="6"/>
                      <a:pt x="14255" y="5"/>
                    </a:cubicBezTo>
                    <a:cubicBezTo>
                      <a:pt x="14255" y="4"/>
                      <a:pt x="14256" y="3"/>
                      <a:pt x="14257" y="3"/>
                    </a:cubicBezTo>
                    <a:close/>
                    <a:moveTo>
                      <a:pt x="14265" y="3"/>
                    </a:moveTo>
                    <a:lnTo>
                      <a:pt x="14265" y="3"/>
                    </a:lnTo>
                    <a:cubicBezTo>
                      <a:pt x="14267" y="3"/>
                      <a:pt x="14267" y="4"/>
                      <a:pt x="14267" y="5"/>
                    </a:cubicBezTo>
                    <a:cubicBezTo>
                      <a:pt x="14267" y="6"/>
                      <a:pt x="14267" y="7"/>
                      <a:pt x="14265" y="7"/>
                    </a:cubicBezTo>
                    <a:lnTo>
                      <a:pt x="14265" y="7"/>
                    </a:lnTo>
                    <a:cubicBezTo>
                      <a:pt x="14264" y="7"/>
                      <a:pt x="14263" y="6"/>
                      <a:pt x="14263" y="5"/>
                    </a:cubicBezTo>
                    <a:cubicBezTo>
                      <a:pt x="14263" y="4"/>
                      <a:pt x="14264" y="3"/>
                      <a:pt x="14265" y="3"/>
                    </a:cubicBezTo>
                    <a:close/>
                    <a:moveTo>
                      <a:pt x="14273" y="3"/>
                    </a:moveTo>
                    <a:lnTo>
                      <a:pt x="14273" y="3"/>
                    </a:lnTo>
                    <a:cubicBezTo>
                      <a:pt x="14275" y="3"/>
                      <a:pt x="14275" y="4"/>
                      <a:pt x="14275" y="5"/>
                    </a:cubicBezTo>
                    <a:cubicBezTo>
                      <a:pt x="14275" y="6"/>
                      <a:pt x="14275" y="7"/>
                      <a:pt x="14273" y="7"/>
                    </a:cubicBezTo>
                    <a:lnTo>
                      <a:pt x="14273" y="7"/>
                    </a:lnTo>
                    <a:cubicBezTo>
                      <a:pt x="14272" y="7"/>
                      <a:pt x="14271" y="6"/>
                      <a:pt x="14271" y="5"/>
                    </a:cubicBezTo>
                    <a:cubicBezTo>
                      <a:pt x="14271" y="4"/>
                      <a:pt x="14272" y="3"/>
                      <a:pt x="14273" y="3"/>
                    </a:cubicBezTo>
                    <a:close/>
                    <a:moveTo>
                      <a:pt x="14281" y="3"/>
                    </a:moveTo>
                    <a:lnTo>
                      <a:pt x="14281" y="3"/>
                    </a:lnTo>
                    <a:cubicBezTo>
                      <a:pt x="14283" y="3"/>
                      <a:pt x="14283" y="4"/>
                      <a:pt x="14283" y="5"/>
                    </a:cubicBezTo>
                    <a:cubicBezTo>
                      <a:pt x="14283" y="6"/>
                      <a:pt x="14283" y="7"/>
                      <a:pt x="14281" y="7"/>
                    </a:cubicBezTo>
                    <a:lnTo>
                      <a:pt x="14281" y="7"/>
                    </a:lnTo>
                    <a:cubicBezTo>
                      <a:pt x="14280" y="7"/>
                      <a:pt x="14279" y="6"/>
                      <a:pt x="14279" y="5"/>
                    </a:cubicBezTo>
                    <a:cubicBezTo>
                      <a:pt x="14279" y="4"/>
                      <a:pt x="14280" y="3"/>
                      <a:pt x="14281" y="3"/>
                    </a:cubicBezTo>
                    <a:close/>
                    <a:moveTo>
                      <a:pt x="14289" y="3"/>
                    </a:moveTo>
                    <a:lnTo>
                      <a:pt x="14289" y="3"/>
                    </a:lnTo>
                    <a:cubicBezTo>
                      <a:pt x="14291" y="3"/>
                      <a:pt x="14291" y="4"/>
                      <a:pt x="14291" y="5"/>
                    </a:cubicBezTo>
                    <a:cubicBezTo>
                      <a:pt x="14291" y="6"/>
                      <a:pt x="14291" y="7"/>
                      <a:pt x="14289" y="7"/>
                    </a:cubicBezTo>
                    <a:lnTo>
                      <a:pt x="14289" y="7"/>
                    </a:lnTo>
                    <a:cubicBezTo>
                      <a:pt x="14288" y="7"/>
                      <a:pt x="14287" y="6"/>
                      <a:pt x="14287" y="5"/>
                    </a:cubicBezTo>
                    <a:cubicBezTo>
                      <a:pt x="14287" y="4"/>
                      <a:pt x="14288" y="3"/>
                      <a:pt x="14289" y="3"/>
                    </a:cubicBezTo>
                    <a:close/>
                    <a:moveTo>
                      <a:pt x="14297" y="3"/>
                    </a:moveTo>
                    <a:lnTo>
                      <a:pt x="14297" y="3"/>
                    </a:lnTo>
                    <a:cubicBezTo>
                      <a:pt x="14299" y="3"/>
                      <a:pt x="14299" y="4"/>
                      <a:pt x="14299" y="5"/>
                    </a:cubicBezTo>
                    <a:cubicBezTo>
                      <a:pt x="14299" y="6"/>
                      <a:pt x="14299" y="7"/>
                      <a:pt x="14297" y="7"/>
                    </a:cubicBezTo>
                    <a:lnTo>
                      <a:pt x="14297" y="7"/>
                    </a:lnTo>
                    <a:cubicBezTo>
                      <a:pt x="14296" y="7"/>
                      <a:pt x="14295" y="6"/>
                      <a:pt x="14295" y="5"/>
                    </a:cubicBezTo>
                    <a:cubicBezTo>
                      <a:pt x="14295" y="4"/>
                      <a:pt x="14296" y="3"/>
                      <a:pt x="14297" y="3"/>
                    </a:cubicBezTo>
                    <a:close/>
                    <a:moveTo>
                      <a:pt x="14305" y="3"/>
                    </a:moveTo>
                    <a:lnTo>
                      <a:pt x="14306" y="3"/>
                    </a:lnTo>
                    <a:cubicBezTo>
                      <a:pt x="14307" y="3"/>
                      <a:pt x="14308" y="4"/>
                      <a:pt x="14308" y="5"/>
                    </a:cubicBezTo>
                    <a:cubicBezTo>
                      <a:pt x="14308" y="6"/>
                      <a:pt x="14307" y="7"/>
                      <a:pt x="14306" y="7"/>
                    </a:cubicBezTo>
                    <a:lnTo>
                      <a:pt x="14305" y="7"/>
                    </a:lnTo>
                    <a:cubicBezTo>
                      <a:pt x="14304" y="7"/>
                      <a:pt x="14303" y="6"/>
                      <a:pt x="14303" y="5"/>
                    </a:cubicBezTo>
                    <a:cubicBezTo>
                      <a:pt x="14303" y="4"/>
                      <a:pt x="14304" y="3"/>
                      <a:pt x="14305" y="3"/>
                    </a:cubicBezTo>
                    <a:close/>
                    <a:moveTo>
                      <a:pt x="14314" y="3"/>
                    </a:moveTo>
                    <a:lnTo>
                      <a:pt x="14314" y="3"/>
                    </a:lnTo>
                    <a:cubicBezTo>
                      <a:pt x="14315" y="3"/>
                      <a:pt x="14316" y="4"/>
                      <a:pt x="14316" y="5"/>
                    </a:cubicBezTo>
                    <a:cubicBezTo>
                      <a:pt x="14316" y="6"/>
                      <a:pt x="14315" y="7"/>
                      <a:pt x="14314" y="7"/>
                    </a:cubicBezTo>
                    <a:lnTo>
                      <a:pt x="14314" y="7"/>
                    </a:lnTo>
                    <a:cubicBezTo>
                      <a:pt x="14312" y="7"/>
                      <a:pt x="14312" y="6"/>
                      <a:pt x="14312" y="5"/>
                    </a:cubicBezTo>
                    <a:cubicBezTo>
                      <a:pt x="14312" y="4"/>
                      <a:pt x="14312" y="3"/>
                      <a:pt x="14314" y="3"/>
                    </a:cubicBezTo>
                    <a:close/>
                    <a:moveTo>
                      <a:pt x="14322" y="3"/>
                    </a:moveTo>
                    <a:lnTo>
                      <a:pt x="14322" y="3"/>
                    </a:lnTo>
                    <a:cubicBezTo>
                      <a:pt x="14323" y="3"/>
                      <a:pt x="14324" y="4"/>
                      <a:pt x="14324" y="5"/>
                    </a:cubicBezTo>
                    <a:cubicBezTo>
                      <a:pt x="14324" y="6"/>
                      <a:pt x="14323" y="7"/>
                      <a:pt x="14322" y="7"/>
                    </a:cubicBezTo>
                    <a:lnTo>
                      <a:pt x="14322" y="7"/>
                    </a:lnTo>
                    <a:cubicBezTo>
                      <a:pt x="14320" y="7"/>
                      <a:pt x="14320" y="6"/>
                      <a:pt x="14320" y="5"/>
                    </a:cubicBezTo>
                    <a:cubicBezTo>
                      <a:pt x="14320" y="4"/>
                      <a:pt x="14320" y="3"/>
                      <a:pt x="14322" y="3"/>
                    </a:cubicBezTo>
                    <a:close/>
                    <a:moveTo>
                      <a:pt x="14330" y="3"/>
                    </a:moveTo>
                    <a:lnTo>
                      <a:pt x="14330" y="3"/>
                    </a:lnTo>
                    <a:cubicBezTo>
                      <a:pt x="14331" y="3"/>
                      <a:pt x="14332" y="4"/>
                      <a:pt x="14332" y="5"/>
                    </a:cubicBezTo>
                    <a:cubicBezTo>
                      <a:pt x="14332" y="6"/>
                      <a:pt x="14331" y="7"/>
                      <a:pt x="14330" y="7"/>
                    </a:cubicBezTo>
                    <a:lnTo>
                      <a:pt x="14330" y="7"/>
                    </a:lnTo>
                    <a:cubicBezTo>
                      <a:pt x="14328" y="7"/>
                      <a:pt x="14328" y="6"/>
                      <a:pt x="14328" y="5"/>
                    </a:cubicBezTo>
                    <a:cubicBezTo>
                      <a:pt x="14328" y="4"/>
                      <a:pt x="14328" y="3"/>
                      <a:pt x="14330" y="3"/>
                    </a:cubicBezTo>
                    <a:close/>
                    <a:moveTo>
                      <a:pt x="14338" y="3"/>
                    </a:moveTo>
                    <a:lnTo>
                      <a:pt x="14338" y="3"/>
                    </a:lnTo>
                    <a:cubicBezTo>
                      <a:pt x="14339" y="3"/>
                      <a:pt x="14340" y="4"/>
                      <a:pt x="14340" y="5"/>
                    </a:cubicBezTo>
                    <a:cubicBezTo>
                      <a:pt x="14340" y="6"/>
                      <a:pt x="14339" y="7"/>
                      <a:pt x="14338" y="7"/>
                    </a:cubicBezTo>
                    <a:lnTo>
                      <a:pt x="14338" y="7"/>
                    </a:lnTo>
                    <a:cubicBezTo>
                      <a:pt x="14336" y="7"/>
                      <a:pt x="14336" y="6"/>
                      <a:pt x="14336" y="5"/>
                    </a:cubicBezTo>
                    <a:cubicBezTo>
                      <a:pt x="14336" y="4"/>
                      <a:pt x="14336" y="3"/>
                      <a:pt x="14338" y="3"/>
                    </a:cubicBezTo>
                    <a:close/>
                    <a:moveTo>
                      <a:pt x="14346" y="3"/>
                    </a:moveTo>
                    <a:lnTo>
                      <a:pt x="14346" y="3"/>
                    </a:lnTo>
                    <a:cubicBezTo>
                      <a:pt x="14347" y="3"/>
                      <a:pt x="14348" y="4"/>
                      <a:pt x="14348" y="5"/>
                    </a:cubicBezTo>
                    <a:cubicBezTo>
                      <a:pt x="14348" y="6"/>
                      <a:pt x="14347" y="7"/>
                      <a:pt x="14346" y="7"/>
                    </a:cubicBezTo>
                    <a:lnTo>
                      <a:pt x="14346" y="7"/>
                    </a:lnTo>
                    <a:cubicBezTo>
                      <a:pt x="14344" y="7"/>
                      <a:pt x="14344" y="6"/>
                      <a:pt x="14344" y="5"/>
                    </a:cubicBezTo>
                    <a:cubicBezTo>
                      <a:pt x="14344" y="4"/>
                      <a:pt x="14344" y="3"/>
                      <a:pt x="14346" y="3"/>
                    </a:cubicBezTo>
                    <a:close/>
                    <a:moveTo>
                      <a:pt x="14354" y="3"/>
                    </a:moveTo>
                    <a:lnTo>
                      <a:pt x="14354" y="3"/>
                    </a:lnTo>
                    <a:cubicBezTo>
                      <a:pt x="14355" y="3"/>
                      <a:pt x="14356" y="4"/>
                      <a:pt x="14356" y="5"/>
                    </a:cubicBezTo>
                    <a:cubicBezTo>
                      <a:pt x="14356" y="6"/>
                      <a:pt x="14355" y="7"/>
                      <a:pt x="14354" y="7"/>
                    </a:cubicBezTo>
                    <a:lnTo>
                      <a:pt x="14354" y="7"/>
                    </a:lnTo>
                    <a:cubicBezTo>
                      <a:pt x="14352" y="7"/>
                      <a:pt x="14352" y="6"/>
                      <a:pt x="14352" y="5"/>
                    </a:cubicBezTo>
                    <a:cubicBezTo>
                      <a:pt x="14352" y="4"/>
                      <a:pt x="14352" y="3"/>
                      <a:pt x="14354" y="3"/>
                    </a:cubicBezTo>
                    <a:close/>
                    <a:moveTo>
                      <a:pt x="14362" y="3"/>
                    </a:moveTo>
                    <a:lnTo>
                      <a:pt x="14362" y="3"/>
                    </a:lnTo>
                    <a:cubicBezTo>
                      <a:pt x="14363" y="3"/>
                      <a:pt x="14364" y="4"/>
                      <a:pt x="14364" y="5"/>
                    </a:cubicBezTo>
                    <a:cubicBezTo>
                      <a:pt x="14364" y="6"/>
                      <a:pt x="14363" y="7"/>
                      <a:pt x="14362" y="7"/>
                    </a:cubicBezTo>
                    <a:lnTo>
                      <a:pt x="14362" y="7"/>
                    </a:lnTo>
                    <a:cubicBezTo>
                      <a:pt x="14360" y="7"/>
                      <a:pt x="14360" y="6"/>
                      <a:pt x="14360" y="5"/>
                    </a:cubicBezTo>
                    <a:cubicBezTo>
                      <a:pt x="14360" y="4"/>
                      <a:pt x="14360" y="3"/>
                      <a:pt x="14362" y="3"/>
                    </a:cubicBezTo>
                    <a:close/>
                    <a:moveTo>
                      <a:pt x="14370" y="3"/>
                    </a:moveTo>
                    <a:lnTo>
                      <a:pt x="14370" y="3"/>
                    </a:lnTo>
                    <a:cubicBezTo>
                      <a:pt x="14371" y="3"/>
                      <a:pt x="14372" y="4"/>
                      <a:pt x="14372" y="5"/>
                    </a:cubicBezTo>
                    <a:cubicBezTo>
                      <a:pt x="14372" y="6"/>
                      <a:pt x="14371" y="7"/>
                      <a:pt x="14370" y="7"/>
                    </a:cubicBezTo>
                    <a:lnTo>
                      <a:pt x="14370" y="7"/>
                    </a:lnTo>
                    <a:cubicBezTo>
                      <a:pt x="14368" y="7"/>
                      <a:pt x="14368" y="6"/>
                      <a:pt x="14368" y="5"/>
                    </a:cubicBezTo>
                    <a:cubicBezTo>
                      <a:pt x="14368" y="4"/>
                      <a:pt x="14368" y="3"/>
                      <a:pt x="14370" y="3"/>
                    </a:cubicBezTo>
                    <a:close/>
                    <a:moveTo>
                      <a:pt x="14378" y="3"/>
                    </a:moveTo>
                    <a:lnTo>
                      <a:pt x="14378" y="3"/>
                    </a:lnTo>
                    <a:cubicBezTo>
                      <a:pt x="14379" y="3"/>
                      <a:pt x="14380" y="4"/>
                      <a:pt x="14380" y="5"/>
                    </a:cubicBezTo>
                    <a:cubicBezTo>
                      <a:pt x="14380" y="6"/>
                      <a:pt x="14379" y="7"/>
                      <a:pt x="14378" y="7"/>
                    </a:cubicBezTo>
                    <a:lnTo>
                      <a:pt x="14378" y="7"/>
                    </a:lnTo>
                    <a:cubicBezTo>
                      <a:pt x="14376" y="7"/>
                      <a:pt x="14376" y="6"/>
                      <a:pt x="14376" y="5"/>
                    </a:cubicBezTo>
                    <a:cubicBezTo>
                      <a:pt x="14376" y="4"/>
                      <a:pt x="14376" y="3"/>
                      <a:pt x="14378" y="3"/>
                    </a:cubicBezTo>
                    <a:close/>
                    <a:moveTo>
                      <a:pt x="14386" y="3"/>
                    </a:moveTo>
                    <a:lnTo>
                      <a:pt x="14386" y="3"/>
                    </a:lnTo>
                    <a:cubicBezTo>
                      <a:pt x="14387" y="3"/>
                      <a:pt x="14388" y="4"/>
                      <a:pt x="14388" y="5"/>
                    </a:cubicBezTo>
                    <a:cubicBezTo>
                      <a:pt x="14388" y="6"/>
                      <a:pt x="14387" y="7"/>
                      <a:pt x="14386" y="7"/>
                    </a:cubicBezTo>
                    <a:lnTo>
                      <a:pt x="14386" y="7"/>
                    </a:lnTo>
                    <a:cubicBezTo>
                      <a:pt x="14384" y="7"/>
                      <a:pt x="14384" y="6"/>
                      <a:pt x="14384" y="5"/>
                    </a:cubicBezTo>
                    <a:cubicBezTo>
                      <a:pt x="14384" y="4"/>
                      <a:pt x="14384" y="3"/>
                      <a:pt x="14386" y="3"/>
                    </a:cubicBezTo>
                    <a:close/>
                    <a:moveTo>
                      <a:pt x="14394" y="3"/>
                    </a:moveTo>
                    <a:lnTo>
                      <a:pt x="14394" y="3"/>
                    </a:lnTo>
                    <a:cubicBezTo>
                      <a:pt x="14395" y="3"/>
                      <a:pt x="14396" y="4"/>
                      <a:pt x="14396" y="5"/>
                    </a:cubicBezTo>
                    <a:cubicBezTo>
                      <a:pt x="14396" y="6"/>
                      <a:pt x="14395" y="7"/>
                      <a:pt x="14394" y="7"/>
                    </a:cubicBezTo>
                    <a:lnTo>
                      <a:pt x="14394" y="7"/>
                    </a:lnTo>
                    <a:cubicBezTo>
                      <a:pt x="14392" y="7"/>
                      <a:pt x="14392" y="6"/>
                      <a:pt x="14392" y="5"/>
                    </a:cubicBezTo>
                    <a:cubicBezTo>
                      <a:pt x="14392" y="4"/>
                      <a:pt x="14392" y="3"/>
                      <a:pt x="14394" y="3"/>
                    </a:cubicBezTo>
                    <a:close/>
                    <a:moveTo>
                      <a:pt x="14402" y="3"/>
                    </a:moveTo>
                    <a:lnTo>
                      <a:pt x="14402" y="3"/>
                    </a:lnTo>
                    <a:cubicBezTo>
                      <a:pt x="14403" y="3"/>
                      <a:pt x="14404" y="4"/>
                      <a:pt x="14404" y="5"/>
                    </a:cubicBezTo>
                    <a:cubicBezTo>
                      <a:pt x="14404" y="6"/>
                      <a:pt x="14403" y="7"/>
                      <a:pt x="14402" y="7"/>
                    </a:cubicBezTo>
                    <a:lnTo>
                      <a:pt x="14402" y="7"/>
                    </a:lnTo>
                    <a:cubicBezTo>
                      <a:pt x="14400" y="7"/>
                      <a:pt x="14400" y="6"/>
                      <a:pt x="14400" y="5"/>
                    </a:cubicBezTo>
                    <a:cubicBezTo>
                      <a:pt x="14400" y="4"/>
                      <a:pt x="14400" y="3"/>
                      <a:pt x="14402" y="3"/>
                    </a:cubicBezTo>
                    <a:close/>
                    <a:moveTo>
                      <a:pt x="14410" y="3"/>
                    </a:moveTo>
                    <a:lnTo>
                      <a:pt x="14410" y="3"/>
                    </a:lnTo>
                    <a:cubicBezTo>
                      <a:pt x="14411" y="3"/>
                      <a:pt x="14412" y="4"/>
                      <a:pt x="14412" y="5"/>
                    </a:cubicBezTo>
                    <a:cubicBezTo>
                      <a:pt x="14412" y="6"/>
                      <a:pt x="14411" y="7"/>
                      <a:pt x="14410" y="7"/>
                    </a:cubicBezTo>
                    <a:lnTo>
                      <a:pt x="14410" y="7"/>
                    </a:lnTo>
                    <a:cubicBezTo>
                      <a:pt x="14408" y="7"/>
                      <a:pt x="14408" y="6"/>
                      <a:pt x="14408" y="5"/>
                    </a:cubicBezTo>
                    <a:cubicBezTo>
                      <a:pt x="14408" y="4"/>
                      <a:pt x="14408" y="3"/>
                      <a:pt x="14410" y="3"/>
                    </a:cubicBezTo>
                    <a:close/>
                    <a:moveTo>
                      <a:pt x="14418" y="3"/>
                    </a:moveTo>
                    <a:lnTo>
                      <a:pt x="14418" y="3"/>
                    </a:lnTo>
                    <a:cubicBezTo>
                      <a:pt x="14419" y="3"/>
                      <a:pt x="14420" y="4"/>
                      <a:pt x="14420" y="5"/>
                    </a:cubicBezTo>
                    <a:cubicBezTo>
                      <a:pt x="14420" y="6"/>
                      <a:pt x="14419" y="7"/>
                      <a:pt x="14418" y="7"/>
                    </a:cubicBezTo>
                    <a:lnTo>
                      <a:pt x="14418" y="7"/>
                    </a:lnTo>
                    <a:cubicBezTo>
                      <a:pt x="14416" y="7"/>
                      <a:pt x="14416" y="6"/>
                      <a:pt x="14416" y="5"/>
                    </a:cubicBezTo>
                    <a:cubicBezTo>
                      <a:pt x="14416" y="4"/>
                      <a:pt x="14416" y="3"/>
                      <a:pt x="14418" y="3"/>
                    </a:cubicBezTo>
                    <a:close/>
                    <a:moveTo>
                      <a:pt x="14426" y="3"/>
                    </a:moveTo>
                    <a:lnTo>
                      <a:pt x="14426" y="3"/>
                    </a:lnTo>
                    <a:cubicBezTo>
                      <a:pt x="14427" y="3"/>
                      <a:pt x="14428" y="4"/>
                      <a:pt x="14428" y="5"/>
                    </a:cubicBezTo>
                    <a:cubicBezTo>
                      <a:pt x="14428" y="6"/>
                      <a:pt x="14427" y="7"/>
                      <a:pt x="14426" y="7"/>
                    </a:cubicBezTo>
                    <a:lnTo>
                      <a:pt x="14426" y="7"/>
                    </a:lnTo>
                    <a:cubicBezTo>
                      <a:pt x="14424" y="7"/>
                      <a:pt x="14424" y="6"/>
                      <a:pt x="14424" y="5"/>
                    </a:cubicBezTo>
                    <a:cubicBezTo>
                      <a:pt x="14424" y="4"/>
                      <a:pt x="14424" y="3"/>
                      <a:pt x="14426" y="3"/>
                    </a:cubicBezTo>
                    <a:close/>
                    <a:moveTo>
                      <a:pt x="14434" y="3"/>
                    </a:moveTo>
                    <a:lnTo>
                      <a:pt x="14434" y="3"/>
                    </a:lnTo>
                    <a:cubicBezTo>
                      <a:pt x="14435" y="3"/>
                      <a:pt x="14436" y="4"/>
                      <a:pt x="14436" y="5"/>
                    </a:cubicBezTo>
                    <a:cubicBezTo>
                      <a:pt x="14436" y="6"/>
                      <a:pt x="14435" y="7"/>
                      <a:pt x="14434" y="7"/>
                    </a:cubicBezTo>
                    <a:lnTo>
                      <a:pt x="14434" y="7"/>
                    </a:lnTo>
                    <a:cubicBezTo>
                      <a:pt x="14432" y="7"/>
                      <a:pt x="14432" y="6"/>
                      <a:pt x="14432" y="5"/>
                    </a:cubicBezTo>
                    <a:cubicBezTo>
                      <a:pt x="14432" y="4"/>
                      <a:pt x="14432" y="3"/>
                      <a:pt x="14434" y="3"/>
                    </a:cubicBezTo>
                    <a:close/>
                    <a:moveTo>
                      <a:pt x="14442" y="3"/>
                    </a:moveTo>
                    <a:lnTo>
                      <a:pt x="14442" y="3"/>
                    </a:lnTo>
                    <a:cubicBezTo>
                      <a:pt x="14443" y="3"/>
                      <a:pt x="14444" y="4"/>
                      <a:pt x="14444" y="5"/>
                    </a:cubicBezTo>
                    <a:cubicBezTo>
                      <a:pt x="14444" y="6"/>
                      <a:pt x="14443" y="7"/>
                      <a:pt x="14442" y="7"/>
                    </a:cubicBezTo>
                    <a:lnTo>
                      <a:pt x="14442" y="7"/>
                    </a:lnTo>
                    <a:cubicBezTo>
                      <a:pt x="14440" y="7"/>
                      <a:pt x="14440" y="6"/>
                      <a:pt x="14440" y="5"/>
                    </a:cubicBezTo>
                    <a:cubicBezTo>
                      <a:pt x="14440" y="4"/>
                      <a:pt x="14440" y="3"/>
                      <a:pt x="14442" y="3"/>
                    </a:cubicBezTo>
                    <a:close/>
                    <a:moveTo>
                      <a:pt x="14450" y="3"/>
                    </a:moveTo>
                    <a:lnTo>
                      <a:pt x="14450" y="3"/>
                    </a:lnTo>
                    <a:cubicBezTo>
                      <a:pt x="14451" y="3"/>
                      <a:pt x="14452" y="4"/>
                      <a:pt x="14452" y="5"/>
                    </a:cubicBezTo>
                    <a:cubicBezTo>
                      <a:pt x="14452" y="6"/>
                      <a:pt x="14451" y="7"/>
                      <a:pt x="14450" y="7"/>
                    </a:cubicBezTo>
                    <a:lnTo>
                      <a:pt x="14450" y="7"/>
                    </a:lnTo>
                    <a:cubicBezTo>
                      <a:pt x="14448" y="7"/>
                      <a:pt x="14448" y="6"/>
                      <a:pt x="14448" y="5"/>
                    </a:cubicBezTo>
                    <a:cubicBezTo>
                      <a:pt x="14448" y="4"/>
                      <a:pt x="14448" y="3"/>
                      <a:pt x="14450" y="3"/>
                    </a:cubicBezTo>
                    <a:close/>
                    <a:moveTo>
                      <a:pt x="14458" y="3"/>
                    </a:moveTo>
                    <a:lnTo>
                      <a:pt x="14458" y="3"/>
                    </a:lnTo>
                    <a:cubicBezTo>
                      <a:pt x="14459" y="3"/>
                      <a:pt x="14460" y="4"/>
                      <a:pt x="14460" y="5"/>
                    </a:cubicBezTo>
                    <a:cubicBezTo>
                      <a:pt x="14460" y="6"/>
                      <a:pt x="14459" y="7"/>
                      <a:pt x="14458" y="7"/>
                    </a:cubicBezTo>
                    <a:lnTo>
                      <a:pt x="14458" y="7"/>
                    </a:lnTo>
                    <a:cubicBezTo>
                      <a:pt x="14457" y="7"/>
                      <a:pt x="14456" y="6"/>
                      <a:pt x="14456" y="5"/>
                    </a:cubicBezTo>
                    <a:cubicBezTo>
                      <a:pt x="14456" y="4"/>
                      <a:pt x="14457" y="3"/>
                      <a:pt x="14458" y="3"/>
                    </a:cubicBezTo>
                    <a:close/>
                    <a:moveTo>
                      <a:pt x="14466" y="3"/>
                    </a:moveTo>
                    <a:lnTo>
                      <a:pt x="14466" y="3"/>
                    </a:lnTo>
                    <a:cubicBezTo>
                      <a:pt x="14467" y="3"/>
                      <a:pt x="14468" y="4"/>
                      <a:pt x="14468" y="5"/>
                    </a:cubicBezTo>
                    <a:cubicBezTo>
                      <a:pt x="14468" y="6"/>
                      <a:pt x="14467" y="7"/>
                      <a:pt x="14466" y="7"/>
                    </a:cubicBezTo>
                    <a:lnTo>
                      <a:pt x="14466" y="7"/>
                    </a:lnTo>
                    <a:cubicBezTo>
                      <a:pt x="14465" y="7"/>
                      <a:pt x="14464" y="6"/>
                      <a:pt x="14464" y="5"/>
                    </a:cubicBezTo>
                    <a:cubicBezTo>
                      <a:pt x="14464" y="4"/>
                      <a:pt x="14465" y="3"/>
                      <a:pt x="14466" y="3"/>
                    </a:cubicBezTo>
                    <a:close/>
                    <a:moveTo>
                      <a:pt x="14474" y="3"/>
                    </a:moveTo>
                    <a:lnTo>
                      <a:pt x="14474" y="3"/>
                    </a:lnTo>
                    <a:cubicBezTo>
                      <a:pt x="14475" y="3"/>
                      <a:pt x="14476" y="4"/>
                      <a:pt x="14476" y="5"/>
                    </a:cubicBezTo>
                    <a:cubicBezTo>
                      <a:pt x="14476" y="6"/>
                      <a:pt x="14475" y="7"/>
                      <a:pt x="14474" y="7"/>
                    </a:cubicBezTo>
                    <a:lnTo>
                      <a:pt x="14474" y="7"/>
                    </a:lnTo>
                    <a:cubicBezTo>
                      <a:pt x="14473" y="7"/>
                      <a:pt x="14472" y="6"/>
                      <a:pt x="14472" y="5"/>
                    </a:cubicBezTo>
                    <a:cubicBezTo>
                      <a:pt x="14472" y="4"/>
                      <a:pt x="14473" y="3"/>
                      <a:pt x="14474" y="3"/>
                    </a:cubicBezTo>
                    <a:close/>
                    <a:moveTo>
                      <a:pt x="14482" y="3"/>
                    </a:moveTo>
                    <a:lnTo>
                      <a:pt x="14482" y="3"/>
                    </a:lnTo>
                    <a:cubicBezTo>
                      <a:pt x="14483" y="3"/>
                      <a:pt x="14484" y="4"/>
                      <a:pt x="14484" y="5"/>
                    </a:cubicBezTo>
                    <a:cubicBezTo>
                      <a:pt x="14484" y="6"/>
                      <a:pt x="14483" y="7"/>
                      <a:pt x="14482" y="7"/>
                    </a:cubicBezTo>
                    <a:lnTo>
                      <a:pt x="14482" y="7"/>
                    </a:lnTo>
                    <a:cubicBezTo>
                      <a:pt x="14481" y="7"/>
                      <a:pt x="14480" y="6"/>
                      <a:pt x="14480" y="5"/>
                    </a:cubicBezTo>
                    <a:cubicBezTo>
                      <a:pt x="14480" y="4"/>
                      <a:pt x="14481" y="3"/>
                      <a:pt x="14482" y="3"/>
                    </a:cubicBezTo>
                    <a:close/>
                    <a:moveTo>
                      <a:pt x="14490" y="3"/>
                    </a:moveTo>
                    <a:lnTo>
                      <a:pt x="14490" y="3"/>
                    </a:lnTo>
                    <a:cubicBezTo>
                      <a:pt x="14491" y="3"/>
                      <a:pt x="14492" y="4"/>
                      <a:pt x="14492" y="5"/>
                    </a:cubicBezTo>
                    <a:cubicBezTo>
                      <a:pt x="14492" y="6"/>
                      <a:pt x="14491" y="7"/>
                      <a:pt x="14490" y="7"/>
                    </a:cubicBezTo>
                    <a:lnTo>
                      <a:pt x="14490" y="7"/>
                    </a:lnTo>
                    <a:cubicBezTo>
                      <a:pt x="14489" y="7"/>
                      <a:pt x="14488" y="6"/>
                      <a:pt x="14488" y="5"/>
                    </a:cubicBezTo>
                    <a:cubicBezTo>
                      <a:pt x="14488" y="4"/>
                      <a:pt x="14489" y="3"/>
                      <a:pt x="14490" y="3"/>
                    </a:cubicBezTo>
                    <a:close/>
                    <a:moveTo>
                      <a:pt x="14498" y="3"/>
                    </a:moveTo>
                    <a:lnTo>
                      <a:pt x="14498" y="3"/>
                    </a:lnTo>
                    <a:cubicBezTo>
                      <a:pt x="14499" y="3"/>
                      <a:pt x="14500" y="4"/>
                      <a:pt x="14500" y="5"/>
                    </a:cubicBezTo>
                    <a:cubicBezTo>
                      <a:pt x="14500" y="6"/>
                      <a:pt x="14499" y="7"/>
                      <a:pt x="14498" y="7"/>
                    </a:cubicBezTo>
                    <a:lnTo>
                      <a:pt x="14498" y="7"/>
                    </a:lnTo>
                    <a:cubicBezTo>
                      <a:pt x="14497" y="7"/>
                      <a:pt x="14496" y="6"/>
                      <a:pt x="14496" y="5"/>
                    </a:cubicBezTo>
                    <a:cubicBezTo>
                      <a:pt x="14496" y="4"/>
                      <a:pt x="14497" y="3"/>
                      <a:pt x="14498" y="3"/>
                    </a:cubicBezTo>
                    <a:close/>
                    <a:moveTo>
                      <a:pt x="14506" y="3"/>
                    </a:moveTo>
                    <a:lnTo>
                      <a:pt x="14506" y="3"/>
                    </a:lnTo>
                    <a:cubicBezTo>
                      <a:pt x="14507" y="3"/>
                      <a:pt x="14508" y="4"/>
                      <a:pt x="14508" y="5"/>
                    </a:cubicBezTo>
                    <a:cubicBezTo>
                      <a:pt x="14508" y="6"/>
                      <a:pt x="14507" y="7"/>
                      <a:pt x="14506" y="7"/>
                    </a:cubicBezTo>
                    <a:lnTo>
                      <a:pt x="14506" y="7"/>
                    </a:lnTo>
                    <a:cubicBezTo>
                      <a:pt x="14505" y="7"/>
                      <a:pt x="14504" y="6"/>
                      <a:pt x="14504" y="5"/>
                    </a:cubicBezTo>
                    <a:cubicBezTo>
                      <a:pt x="14504" y="4"/>
                      <a:pt x="14505" y="3"/>
                      <a:pt x="14506" y="3"/>
                    </a:cubicBezTo>
                    <a:close/>
                    <a:moveTo>
                      <a:pt x="14514" y="3"/>
                    </a:moveTo>
                    <a:lnTo>
                      <a:pt x="14514" y="3"/>
                    </a:lnTo>
                    <a:cubicBezTo>
                      <a:pt x="14515" y="3"/>
                      <a:pt x="14516" y="4"/>
                      <a:pt x="14516" y="5"/>
                    </a:cubicBezTo>
                    <a:cubicBezTo>
                      <a:pt x="14516" y="6"/>
                      <a:pt x="14515" y="7"/>
                      <a:pt x="14514" y="7"/>
                    </a:cubicBezTo>
                    <a:lnTo>
                      <a:pt x="14514" y="7"/>
                    </a:lnTo>
                    <a:cubicBezTo>
                      <a:pt x="14513" y="7"/>
                      <a:pt x="14512" y="6"/>
                      <a:pt x="14512" y="5"/>
                    </a:cubicBezTo>
                    <a:cubicBezTo>
                      <a:pt x="14512" y="4"/>
                      <a:pt x="14513" y="3"/>
                      <a:pt x="14514" y="3"/>
                    </a:cubicBezTo>
                    <a:close/>
                    <a:moveTo>
                      <a:pt x="14522" y="3"/>
                    </a:moveTo>
                    <a:lnTo>
                      <a:pt x="14522" y="3"/>
                    </a:lnTo>
                    <a:cubicBezTo>
                      <a:pt x="14523" y="3"/>
                      <a:pt x="14524" y="4"/>
                      <a:pt x="14524" y="5"/>
                    </a:cubicBezTo>
                    <a:cubicBezTo>
                      <a:pt x="14524" y="6"/>
                      <a:pt x="14523" y="7"/>
                      <a:pt x="14522" y="7"/>
                    </a:cubicBezTo>
                    <a:lnTo>
                      <a:pt x="14522" y="7"/>
                    </a:lnTo>
                    <a:cubicBezTo>
                      <a:pt x="14521" y="7"/>
                      <a:pt x="14520" y="6"/>
                      <a:pt x="14520" y="5"/>
                    </a:cubicBezTo>
                    <a:cubicBezTo>
                      <a:pt x="14520" y="4"/>
                      <a:pt x="14521" y="3"/>
                      <a:pt x="14522" y="3"/>
                    </a:cubicBezTo>
                    <a:close/>
                    <a:moveTo>
                      <a:pt x="14530" y="3"/>
                    </a:moveTo>
                    <a:lnTo>
                      <a:pt x="14530" y="3"/>
                    </a:lnTo>
                    <a:cubicBezTo>
                      <a:pt x="14531" y="3"/>
                      <a:pt x="14532" y="4"/>
                      <a:pt x="14532" y="5"/>
                    </a:cubicBezTo>
                    <a:cubicBezTo>
                      <a:pt x="14532" y="6"/>
                      <a:pt x="14531" y="7"/>
                      <a:pt x="14530" y="7"/>
                    </a:cubicBezTo>
                    <a:lnTo>
                      <a:pt x="14530" y="7"/>
                    </a:lnTo>
                    <a:cubicBezTo>
                      <a:pt x="14529" y="7"/>
                      <a:pt x="14528" y="6"/>
                      <a:pt x="14528" y="5"/>
                    </a:cubicBezTo>
                    <a:cubicBezTo>
                      <a:pt x="14528" y="4"/>
                      <a:pt x="14529" y="3"/>
                      <a:pt x="14530" y="3"/>
                    </a:cubicBezTo>
                    <a:close/>
                    <a:moveTo>
                      <a:pt x="14538" y="3"/>
                    </a:moveTo>
                    <a:lnTo>
                      <a:pt x="14538" y="3"/>
                    </a:lnTo>
                    <a:cubicBezTo>
                      <a:pt x="14539" y="3"/>
                      <a:pt x="14540" y="4"/>
                      <a:pt x="14540" y="5"/>
                    </a:cubicBezTo>
                    <a:cubicBezTo>
                      <a:pt x="14540" y="6"/>
                      <a:pt x="14539" y="7"/>
                      <a:pt x="14538" y="7"/>
                    </a:cubicBezTo>
                    <a:lnTo>
                      <a:pt x="14538" y="7"/>
                    </a:lnTo>
                    <a:cubicBezTo>
                      <a:pt x="14537" y="7"/>
                      <a:pt x="14536" y="6"/>
                      <a:pt x="14536" y="5"/>
                    </a:cubicBezTo>
                    <a:cubicBezTo>
                      <a:pt x="14536" y="4"/>
                      <a:pt x="14537" y="3"/>
                      <a:pt x="14538" y="3"/>
                    </a:cubicBezTo>
                    <a:close/>
                    <a:moveTo>
                      <a:pt x="14546" y="3"/>
                    </a:moveTo>
                    <a:lnTo>
                      <a:pt x="14546" y="3"/>
                    </a:lnTo>
                    <a:cubicBezTo>
                      <a:pt x="14547" y="3"/>
                      <a:pt x="14548" y="4"/>
                      <a:pt x="14548" y="5"/>
                    </a:cubicBezTo>
                    <a:cubicBezTo>
                      <a:pt x="14548" y="6"/>
                      <a:pt x="14547" y="7"/>
                      <a:pt x="14546" y="7"/>
                    </a:cubicBezTo>
                    <a:lnTo>
                      <a:pt x="14546" y="7"/>
                    </a:lnTo>
                    <a:cubicBezTo>
                      <a:pt x="14545" y="7"/>
                      <a:pt x="14544" y="6"/>
                      <a:pt x="14544" y="5"/>
                    </a:cubicBezTo>
                    <a:cubicBezTo>
                      <a:pt x="14544" y="4"/>
                      <a:pt x="14545" y="3"/>
                      <a:pt x="14546" y="3"/>
                    </a:cubicBezTo>
                    <a:close/>
                    <a:moveTo>
                      <a:pt x="14554" y="3"/>
                    </a:moveTo>
                    <a:lnTo>
                      <a:pt x="14554" y="3"/>
                    </a:lnTo>
                    <a:cubicBezTo>
                      <a:pt x="14555" y="3"/>
                      <a:pt x="14556" y="4"/>
                      <a:pt x="14556" y="5"/>
                    </a:cubicBezTo>
                    <a:cubicBezTo>
                      <a:pt x="14556" y="6"/>
                      <a:pt x="14555" y="7"/>
                      <a:pt x="14554" y="7"/>
                    </a:cubicBezTo>
                    <a:lnTo>
                      <a:pt x="14554" y="7"/>
                    </a:lnTo>
                    <a:cubicBezTo>
                      <a:pt x="14553" y="7"/>
                      <a:pt x="14552" y="6"/>
                      <a:pt x="14552" y="5"/>
                    </a:cubicBezTo>
                    <a:cubicBezTo>
                      <a:pt x="14552" y="4"/>
                      <a:pt x="14553" y="3"/>
                      <a:pt x="14554" y="3"/>
                    </a:cubicBezTo>
                    <a:close/>
                    <a:moveTo>
                      <a:pt x="14562" y="3"/>
                    </a:moveTo>
                    <a:lnTo>
                      <a:pt x="14562" y="3"/>
                    </a:lnTo>
                    <a:cubicBezTo>
                      <a:pt x="14563" y="3"/>
                      <a:pt x="14564" y="4"/>
                      <a:pt x="14564" y="5"/>
                    </a:cubicBezTo>
                    <a:cubicBezTo>
                      <a:pt x="14564" y="6"/>
                      <a:pt x="14563" y="7"/>
                      <a:pt x="14562" y="7"/>
                    </a:cubicBezTo>
                    <a:lnTo>
                      <a:pt x="14562" y="7"/>
                    </a:lnTo>
                    <a:cubicBezTo>
                      <a:pt x="14561" y="7"/>
                      <a:pt x="14560" y="6"/>
                      <a:pt x="14560" y="5"/>
                    </a:cubicBezTo>
                    <a:cubicBezTo>
                      <a:pt x="14560" y="4"/>
                      <a:pt x="14561" y="3"/>
                      <a:pt x="14562" y="3"/>
                    </a:cubicBezTo>
                    <a:close/>
                    <a:moveTo>
                      <a:pt x="14570" y="3"/>
                    </a:moveTo>
                    <a:lnTo>
                      <a:pt x="14570" y="3"/>
                    </a:lnTo>
                    <a:cubicBezTo>
                      <a:pt x="14571" y="3"/>
                      <a:pt x="14572" y="4"/>
                      <a:pt x="14572" y="5"/>
                    </a:cubicBezTo>
                    <a:cubicBezTo>
                      <a:pt x="14572" y="6"/>
                      <a:pt x="14571" y="7"/>
                      <a:pt x="14570" y="7"/>
                    </a:cubicBezTo>
                    <a:lnTo>
                      <a:pt x="14570" y="7"/>
                    </a:lnTo>
                    <a:cubicBezTo>
                      <a:pt x="14569" y="7"/>
                      <a:pt x="14568" y="6"/>
                      <a:pt x="14568" y="5"/>
                    </a:cubicBezTo>
                    <a:cubicBezTo>
                      <a:pt x="14568" y="4"/>
                      <a:pt x="14569" y="3"/>
                      <a:pt x="14570" y="3"/>
                    </a:cubicBezTo>
                    <a:close/>
                    <a:moveTo>
                      <a:pt x="14578" y="3"/>
                    </a:moveTo>
                    <a:lnTo>
                      <a:pt x="14578" y="3"/>
                    </a:lnTo>
                    <a:cubicBezTo>
                      <a:pt x="14579" y="3"/>
                      <a:pt x="14580" y="4"/>
                      <a:pt x="14580" y="5"/>
                    </a:cubicBezTo>
                    <a:cubicBezTo>
                      <a:pt x="14580" y="6"/>
                      <a:pt x="14579" y="7"/>
                      <a:pt x="14578" y="7"/>
                    </a:cubicBezTo>
                    <a:lnTo>
                      <a:pt x="14578" y="7"/>
                    </a:lnTo>
                    <a:cubicBezTo>
                      <a:pt x="14577" y="7"/>
                      <a:pt x="14576" y="6"/>
                      <a:pt x="14576" y="5"/>
                    </a:cubicBezTo>
                    <a:cubicBezTo>
                      <a:pt x="14576" y="4"/>
                      <a:pt x="14577" y="3"/>
                      <a:pt x="14578" y="3"/>
                    </a:cubicBezTo>
                    <a:close/>
                    <a:moveTo>
                      <a:pt x="14586" y="3"/>
                    </a:moveTo>
                    <a:lnTo>
                      <a:pt x="14586" y="3"/>
                    </a:lnTo>
                    <a:cubicBezTo>
                      <a:pt x="14587" y="3"/>
                      <a:pt x="14588" y="4"/>
                      <a:pt x="14588" y="5"/>
                    </a:cubicBezTo>
                    <a:cubicBezTo>
                      <a:pt x="14588" y="6"/>
                      <a:pt x="14587" y="7"/>
                      <a:pt x="14586" y="7"/>
                    </a:cubicBezTo>
                    <a:lnTo>
                      <a:pt x="14586" y="7"/>
                    </a:lnTo>
                    <a:cubicBezTo>
                      <a:pt x="14585" y="7"/>
                      <a:pt x="14584" y="6"/>
                      <a:pt x="14584" y="5"/>
                    </a:cubicBezTo>
                    <a:cubicBezTo>
                      <a:pt x="14584" y="4"/>
                      <a:pt x="14585" y="3"/>
                      <a:pt x="14586" y="3"/>
                    </a:cubicBezTo>
                    <a:close/>
                    <a:moveTo>
                      <a:pt x="14594" y="3"/>
                    </a:moveTo>
                    <a:lnTo>
                      <a:pt x="14594" y="3"/>
                    </a:lnTo>
                    <a:cubicBezTo>
                      <a:pt x="14595" y="3"/>
                      <a:pt x="14596" y="4"/>
                      <a:pt x="14596" y="5"/>
                    </a:cubicBezTo>
                    <a:cubicBezTo>
                      <a:pt x="14596" y="6"/>
                      <a:pt x="14595" y="7"/>
                      <a:pt x="14594" y="7"/>
                    </a:cubicBezTo>
                    <a:lnTo>
                      <a:pt x="14594" y="7"/>
                    </a:lnTo>
                    <a:cubicBezTo>
                      <a:pt x="14593" y="7"/>
                      <a:pt x="14592" y="6"/>
                      <a:pt x="14592" y="5"/>
                    </a:cubicBezTo>
                    <a:cubicBezTo>
                      <a:pt x="14592" y="4"/>
                      <a:pt x="14593" y="3"/>
                      <a:pt x="14594" y="3"/>
                    </a:cubicBezTo>
                    <a:close/>
                    <a:moveTo>
                      <a:pt x="14602" y="3"/>
                    </a:moveTo>
                    <a:lnTo>
                      <a:pt x="14602" y="3"/>
                    </a:lnTo>
                    <a:cubicBezTo>
                      <a:pt x="14603" y="3"/>
                      <a:pt x="14604" y="4"/>
                      <a:pt x="14604" y="5"/>
                    </a:cubicBezTo>
                    <a:cubicBezTo>
                      <a:pt x="14604" y="6"/>
                      <a:pt x="14603" y="7"/>
                      <a:pt x="14602" y="7"/>
                    </a:cubicBezTo>
                    <a:lnTo>
                      <a:pt x="14602" y="7"/>
                    </a:lnTo>
                    <a:cubicBezTo>
                      <a:pt x="14601" y="7"/>
                      <a:pt x="14600" y="6"/>
                      <a:pt x="14600" y="5"/>
                    </a:cubicBezTo>
                    <a:cubicBezTo>
                      <a:pt x="14600" y="4"/>
                      <a:pt x="14601" y="3"/>
                      <a:pt x="14602" y="3"/>
                    </a:cubicBezTo>
                    <a:close/>
                    <a:moveTo>
                      <a:pt x="14610" y="3"/>
                    </a:moveTo>
                    <a:lnTo>
                      <a:pt x="14610" y="3"/>
                    </a:lnTo>
                    <a:cubicBezTo>
                      <a:pt x="14611" y="3"/>
                      <a:pt x="14612" y="4"/>
                      <a:pt x="14612" y="5"/>
                    </a:cubicBezTo>
                    <a:cubicBezTo>
                      <a:pt x="14612" y="6"/>
                      <a:pt x="14611" y="7"/>
                      <a:pt x="14610" y="7"/>
                    </a:cubicBezTo>
                    <a:lnTo>
                      <a:pt x="14610" y="7"/>
                    </a:lnTo>
                    <a:cubicBezTo>
                      <a:pt x="14609" y="7"/>
                      <a:pt x="14608" y="6"/>
                      <a:pt x="14608" y="5"/>
                    </a:cubicBezTo>
                    <a:cubicBezTo>
                      <a:pt x="14608" y="4"/>
                      <a:pt x="14609" y="3"/>
                      <a:pt x="14610" y="3"/>
                    </a:cubicBezTo>
                    <a:close/>
                    <a:moveTo>
                      <a:pt x="14618" y="3"/>
                    </a:moveTo>
                    <a:lnTo>
                      <a:pt x="14618" y="3"/>
                    </a:lnTo>
                    <a:cubicBezTo>
                      <a:pt x="14619" y="3"/>
                      <a:pt x="14620" y="4"/>
                      <a:pt x="14620" y="5"/>
                    </a:cubicBezTo>
                    <a:cubicBezTo>
                      <a:pt x="14620" y="6"/>
                      <a:pt x="14619" y="7"/>
                      <a:pt x="14618" y="7"/>
                    </a:cubicBezTo>
                    <a:lnTo>
                      <a:pt x="14618" y="7"/>
                    </a:lnTo>
                    <a:cubicBezTo>
                      <a:pt x="14617" y="7"/>
                      <a:pt x="14616" y="6"/>
                      <a:pt x="14616" y="5"/>
                    </a:cubicBezTo>
                    <a:cubicBezTo>
                      <a:pt x="14616" y="4"/>
                      <a:pt x="14617" y="3"/>
                      <a:pt x="14618" y="3"/>
                    </a:cubicBezTo>
                    <a:close/>
                    <a:moveTo>
                      <a:pt x="14626" y="3"/>
                    </a:moveTo>
                    <a:lnTo>
                      <a:pt x="14626" y="3"/>
                    </a:lnTo>
                    <a:cubicBezTo>
                      <a:pt x="14627" y="3"/>
                      <a:pt x="14628" y="4"/>
                      <a:pt x="14628" y="5"/>
                    </a:cubicBezTo>
                    <a:cubicBezTo>
                      <a:pt x="14628" y="6"/>
                      <a:pt x="14627" y="7"/>
                      <a:pt x="14626" y="7"/>
                    </a:cubicBezTo>
                    <a:lnTo>
                      <a:pt x="14626" y="7"/>
                    </a:lnTo>
                    <a:cubicBezTo>
                      <a:pt x="14625" y="7"/>
                      <a:pt x="14624" y="6"/>
                      <a:pt x="14624" y="5"/>
                    </a:cubicBezTo>
                    <a:cubicBezTo>
                      <a:pt x="14624" y="4"/>
                      <a:pt x="14625" y="3"/>
                      <a:pt x="14626" y="3"/>
                    </a:cubicBezTo>
                    <a:close/>
                    <a:moveTo>
                      <a:pt x="14634" y="3"/>
                    </a:moveTo>
                    <a:lnTo>
                      <a:pt x="14634" y="3"/>
                    </a:lnTo>
                    <a:cubicBezTo>
                      <a:pt x="14635" y="3"/>
                      <a:pt x="14636" y="4"/>
                      <a:pt x="14636" y="5"/>
                    </a:cubicBezTo>
                    <a:cubicBezTo>
                      <a:pt x="14636" y="6"/>
                      <a:pt x="14635" y="7"/>
                      <a:pt x="14634" y="7"/>
                    </a:cubicBezTo>
                    <a:lnTo>
                      <a:pt x="14634" y="7"/>
                    </a:lnTo>
                    <a:cubicBezTo>
                      <a:pt x="14633" y="7"/>
                      <a:pt x="14632" y="6"/>
                      <a:pt x="14632" y="5"/>
                    </a:cubicBezTo>
                    <a:cubicBezTo>
                      <a:pt x="14632" y="4"/>
                      <a:pt x="14633" y="3"/>
                      <a:pt x="14634" y="3"/>
                    </a:cubicBezTo>
                    <a:close/>
                    <a:moveTo>
                      <a:pt x="14642" y="3"/>
                    </a:moveTo>
                    <a:lnTo>
                      <a:pt x="14642" y="3"/>
                    </a:lnTo>
                    <a:cubicBezTo>
                      <a:pt x="14643" y="3"/>
                      <a:pt x="14644" y="4"/>
                      <a:pt x="14644" y="5"/>
                    </a:cubicBezTo>
                    <a:cubicBezTo>
                      <a:pt x="14644" y="6"/>
                      <a:pt x="14643" y="7"/>
                      <a:pt x="14642" y="7"/>
                    </a:cubicBezTo>
                    <a:lnTo>
                      <a:pt x="14642" y="7"/>
                    </a:lnTo>
                    <a:cubicBezTo>
                      <a:pt x="14641" y="7"/>
                      <a:pt x="14640" y="6"/>
                      <a:pt x="14640" y="5"/>
                    </a:cubicBezTo>
                    <a:cubicBezTo>
                      <a:pt x="14640" y="4"/>
                      <a:pt x="14641" y="3"/>
                      <a:pt x="14642" y="3"/>
                    </a:cubicBezTo>
                    <a:close/>
                    <a:moveTo>
                      <a:pt x="14650" y="3"/>
                    </a:moveTo>
                    <a:lnTo>
                      <a:pt x="14650" y="3"/>
                    </a:lnTo>
                    <a:cubicBezTo>
                      <a:pt x="14651" y="3"/>
                      <a:pt x="14652" y="4"/>
                      <a:pt x="14652" y="5"/>
                    </a:cubicBezTo>
                    <a:cubicBezTo>
                      <a:pt x="14652" y="6"/>
                      <a:pt x="14651" y="7"/>
                      <a:pt x="14650" y="7"/>
                    </a:cubicBezTo>
                    <a:lnTo>
                      <a:pt x="14650" y="7"/>
                    </a:lnTo>
                    <a:cubicBezTo>
                      <a:pt x="14649" y="7"/>
                      <a:pt x="14648" y="6"/>
                      <a:pt x="14648" y="5"/>
                    </a:cubicBezTo>
                    <a:cubicBezTo>
                      <a:pt x="14648" y="4"/>
                      <a:pt x="14649" y="3"/>
                      <a:pt x="14650" y="3"/>
                    </a:cubicBezTo>
                    <a:close/>
                    <a:moveTo>
                      <a:pt x="14658" y="3"/>
                    </a:moveTo>
                    <a:lnTo>
                      <a:pt x="14658" y="3"/>
                    </a:lnTo>
                    <a:cubicBezTo>
                      <a:pt x="14659" y="3"/>
                      <a:pt x="14660" y="4"/>
                      <a:pt x="14660" y="5"/>
                    </a:cubicBezTo>
                    <a:cubicBezTo>
                      <a:pt x="14660" y="6"/>
                      <a:pt x="14659" y="7"/>
                      <a:pt x="14658" y="7"/>
                    </a:cubicBezTo>
                    <a:lnTo>
                      <a:pt x="14658" y="7"/>
                    </a:lnTo>
                    <a:cubicBezTo>
                      <a:pt x="14657" y="7"/>
                      <a:pt x="14656" y="6"/>
                      <a:pt x="14656" y="5"/>
                    </a:cubicBezTo>
                    <a:cubicBezTo>
                      <a:pt x="14656" y="4"/>
                      <a:pt x="14657" y="3"/>
                      <a:pt x="14658" y="3"/>
                    </a:cubicBezTo>
                    <a:close/>
                    <a:moveTo>
                      <a:pt x="14666" y="3"/>
                    </a:moveTo>
                    <a:lnTo>
                      <a:pt x="14666" y="3"/>
                    </a:lnTo>
                    <a:cubicBezTo>
                      <a:pt x="14667" y="3"/>
                      <a:pt x="14668" y="4"/>
                      <a:pt x="14668" y="5"/>
                    </a:cubicBezTo>
                    <a:cubicBezTo>
                      <a:pt x="14668" y="6"/>
                      <a:pt x="14667" y="7"/>
                      <a:pt x="14666" y="7"/>
                    </a:cubicBezTo>
                    <a:lnTo>
                      <a:pt x="14666" y="7"/>
                    </a:lnTo>
                    <a:cubicBezTo>
                      <a:pt x="14665" y="7"/>
                      <a:pt x="14664" y="6"/>
                      <a:pt x="14664" y="5"/>
                    </a:cubicBezTo>
                    <a:cubicBezTo>
                      <a:pt x="14664" y="4"/>
                      <a:pt x="14665" y="3"/>
                      <a:pt x="14666" y="3"/>
                    </a:cubicBezTo>
                    <a:close/>
                    <a:moveTo>
                      <a:pt x="14674" y="3"/>
                    </a:moveTo>
                    <a:lnTo>
                      <a:pt x="14674" y="3"/>
                    </a:lnTo>
                    <a:cubicBezTo>
                      <a:pt x="14675" y="3"/>
                      <a:pt x="14676" y="4"/>
                      <a:pt x="14676" y="5"/>
                    </a:cubicBezTo>
                    <a:cubicBezTo>
                      <a:pt x="14676" y="6"/>
                      <a:pt x="14675" y="7"/>
                      <a:pt x="14674" y="7"/>
                    </a:cubicBezTo>
                    <a:lnTo>
                      <a:pt x="14674" y="7"/>
                    </a:lnTo>
                    <a:cubicBezTo>
                      <a:pt x="14673" y="7"/>
                      <a:pt x="14672" y="6"/>
                      <a:pt x="14672" y="5"/>
                    </a:cubicBezTo>
                    <a:cubicBezTo>
                      <a:pt x="14672" y="4"/>
                      <a:pt x="14673" y="3"/>
                      <a:pt x="14674" y="3"/>
                    </a:cubicBezTo>
                    <a:close/>
                    <a:moveTo>
                      <a:pt x="14682" y="3"/>
                    </a:moveTo>
                    <a:lnTo>
                      <a:pt x="14682" y="3"/>
                    </a:lnTo>
                    <a:cubicBezTo>
                      <a:pt x="14683" y="3"/>
                      <a:pt x="14684" y="4"/>
                      <a:pt x="14684" y="5"/>
                    </a:cubicBezTo>
                    <a:cubicBezTo>
                      <a:pt x="14684" y="6"/>
                      <a:pt x="14683" y="7"/>
                      <a:pt x="14682" y="7"/>
                    </a:cubicBezTo>
                    <a:lnTo>
                      <a:pt x="14682" y="7"/>
                    </a:lnTo>
                    <a:cubicBezTo>
                      <a:pt x="14681" y="7"/>
                      <a:pt x="14680" y="6"/>
                      <a:pt x="14680" y="5"/>
                    </a:cubicBezTo>
                    <a:cubicBezTo>
                      <a:pt x="14680" y="4"/>
                      <a:pt x="14681" y="3"/>
                      <a:pt x="14682" y="3"/>
                    </a:cubicBezTo>
                    <a:close/>
                    <a:moveTo>
                      <a:pt x="14690" y="3"/>
                    </a:moveTo>
                    <a:lnTo>
                      <a:pt x="14690" y="3"/>
                    </a:lnTo>
                    <a:cubicBezTo>
                      <a:pt x="14691" y="3"/>
                      <a:pt x="14692" y="4"/>
                      <a:pt x="14692" y="5"/>
                    </a:cubicBezTo>
                    <a:cubicBezTo>
                      <a:pt x="14692" y="6"/>
                      <a:pt x="14691" y="7"/>
                      <a:pt x="14690" y="7"/>
                    </a:cubicBezTo>
                    <a:lnTo>
                      <a:pt x="14690" y="7"/>
                    </a:lnTo>
                    <a:cubicBezTo>
                      <a:pt x="14689" y="7"/>
                      <a:pt x="14688" y="6"/>
                      <a:pt x="14688" y="5"/>
                    </a:cubicBezTo>
                    <a:cubicBezTo>
                      <a:pt x="14688" y="4"/>
                      <a:pt x="14689" y="3"/>
                      <a:pt x="14690" y="3"/>
                    </a:cubicBezTo>
                    <a:close/>
                    <a:moveTo>
                      <a:pt x="14698" y="3"/>
                    </a:moveTo>
                    <a:lnTo>
                      <a:pt x="14698" y="3"/>
                    </a:lnTo>
                    <a:cubicBezTo>
                      <a:pt x="14699" y="3"/>
                      <a:pt x="14700" y="4"/>
                      <a:pt x="14700" y="5"/>
                    </a:cubicBezTo>
                    <a:cubicBezTo>
                      <a:pt x="14700" y="6"/>
                      <a:pt x="14699" y="7"/>
                      <a:pt x="14698" y="7"/>
                    </a:cubicBezTo>
                    <a:lnTo>
                      <a:pt x="14698" y="7"/>
                    </a:lnTo>
                    <a:cubicBezTo>
                      <a:pt x="14697" y="7"/>
                      <a:pt x="14696" y="6"/>
                      <a:pt x="14696" y="5"/>
                    </a:cubicBezTo>
                    <a:cubicBezTo>
                      <a:pt x="14696" y="4"/>
                      <a:pt x="14697" y="3"/>
                      <a:pt x="14698" y="3"/>
                    </a:cubicBezTo>
                    <a:close/>
                    <a:moveTo>
                      <a:pt x="14706" y="3"/>
                    </a:moveTo>
                    <a:lnTo>
                      <a:pt x="14706" y="3"/>
                    </a:lnTo>
                    <a:cubicBezTo>
                      <a:pt x="14707" y="3"/>
                      <a:pt x="14708" y="4"/>
                      <a:pt x="14708" y="5"/>
                    </a:cubicBezTo>
                    <a:cubicBezTo>
                      <a:pt x="14708" y="6"/>
                      <a:pt x="14707" y="7"/>
                      <a:pt x="14706" y="7"/>
                    </a:cubicBezTo>
                    <a:lnTo>
                      <a:pt x="14706" y="7"/>
                    </a:lnTo>
                    <a:cubicBezTo>
                      <a:pt x="14705" y="7"/>
                      <a:pt x="14704" y="6"/>
                      <a:pt x="14704" y="5"/>
                    </a:cubicBezTo>
                    <a:cubicBezTo>
                      <a:pt x="14704" y="4"/>
                      <a:pt x="14705" y="3"/>
                      <a:pt x="14706" y="3"/>
                    </a:cubicBezTo>
                    <a:close/>
                    <a:moveTo>
                      <a:pt x="14714" y="3"/>
                    </a:moveTo>
                    <a:lnTo>
                      <a:pt x="14714" y="3"/>
                    </a:lnTo>
                    <a:cubicBezTo>
                      <a:pt x="14715" y="3"/>
                      <a:pt x="14716" y="4"/>
                      <a:pt x="14716" y="5"/>
                    </a:cubicBezTo>
                    <a:cubicBezTo>
                      <a:pt x="14716" y="6"/>
                      <a:pt x="14715" y="7"/>
                      <a:pt x="14714" y="7"/>
                    </a:cubicBezTo>
                    <a:lnTo>
                      <a:pt x="14714" y="7"/>
                    </a:lnTo>
                    <a:cubicBezTo>
                      <a:pt x="14713" y="7"/>
                      <a:pt x="14712" y="6"/>
                      <a:pt x="14712" y="5"/>
                    </a:cubicBezTo>
                    <a:cubicBezTo>
                      <a:pt x="14712" y="4"/>
                      <a:pt x="14713" y="3"/>
                      <a:pt x="14714" y="3"/>
                    </a:cubicBezTo>
                    <a:close/>
                    <a:moveTo>
                      <a:pt x="14722" y="3"/>
                    </a:moveTo>
                    <a:lnTo>
                      <a:pt x="14722" y="3"/>
                    </a:lnTo>
                    <a:cubicBezTo>
                      <a:pt x="14723" y="3"/>
                      <a:pt x="14724" y="4"/>
                      <a:pt x="14724" y="5"/>
                    </a:cubicBezTo>
                    <a:cubicBezTo>
                      <a:pt x="14724" y="6"/>
                      <a:pt x="14723" y="7"/>
                      <a:pt x="14722" y="7"/>
                    </a:cubicBezTo>
                    <a:lnTo>
                      <a:pt x="14722" y="7"/>
                    </a:lnTo>
                    <a:cubicBezTo>
                      <a:pt x="14721" y="7"/>
                      <a:pt x="14720" y="6"/>
                      <a:pt x="14720" y="5"/>
                    </a:cubicBezTo>
                    <a:cubicBezTo>
                      <a:pt x="14720" y="4"/>
                      <a:pt x="14721" y="3"/>
                      <a:pt x="14722" y="3"/>
                    </a:cubicBezTo>
                    <a:close/>
                    <a:moveTo>
                      <a:pt x="14730" y="3"/>
                    </a:moveTo>
                    <a:lnTo>
                      <a:pt x="14730" y="3"/>
                    </a:lnTo>
                    <a:cubicBezTo>
                      <a:pt x="14731" y="3"/>
                      <a:pt x="14732" y="4"/>
                      <a:pt x="14732" y="5"/>
                    </a:cubicBezTo>
                    <a:cubicBezTo>
                      <a:pt x="14732" y="6"/>
                      <a:pt x="14731" y="7"/>
                      <a:pt x="14730" y="7"/>
                    </a:cubicBezTo>
                    <a:lnTo>
                      <a:pt x="14730" y="7"/>
                    </a:lnTo>
                    <a:cubicBezTo>
                      <a:pt x="14729" y="7"/>
                      <a:pt x="14728" y="6"/>
                      <a:pt x="14728" y="5"/>
                    </a:cubicBezTo>
                    <a:cubicBezTo>
                      <a:pt x="14728" y="4"/>
                      <a:pt x="14729" y="3"/>
                      <a:pt x="14730" y="3"/>
                    </a:cubicBezTo>
                    <a:close/>
                    <a:moveTo>
                      <a:pt x="14738" y="3"/>
                    </a:moveTo>
                    <a:lnTo>
                      <a:pt x="14738" y="3"/>
                    </a:lnTo>
                    <a:cubicBezTo>
                      <a:pt x="14739" y="3"/>
                      <a:pt x="14740" y="4"/>
                      <a:pt x="14740" y="5"/>
                    </a:cubicBezTo>
                    <a:cubicBezTo>
                      <a:pt x="14740" y="6"/>
                      <a:pt x="14739" y="7"/>
                      <a:pt x="14738" y="7"/>
                    </a:cubicBezTo>
                    <a:lnTo>
                      <a:pt x="14738" y="7"/>
                    </a:lnTo>
                    <a:cubicBezTo>
                      <a:pt x="14737" y="7"/>
                      <a:pt x="14736" y="6"/>
                      <a:pt x="14736" y="5"/>
                    </a:cubicBezTo>
                    <a:cubicBezTo>
                      <a:pt x="14736" y="4"/>
                      <a:pt x="14737" y="3"/>
                      <a:pt x="14738" y="3"/>
                    </a:cubicBezTo>
                    <a:close/>
                    <a:moveTo>
                      <a:pt x="14746" y="3"/>
                    </a:moveTo>
                    <a:lnTo>
                      <a:pt x="14746" y="3"/>
                    </a:lnTo>
                    <a:cubicBezTo>
                      <a:pt x="14747" y="3"/>
                      <a:pt x="14748" y="4"/>
                      <a:pt x="14748" y="5"/>
                    </a:cubicBezTo>
                    <a:cubicBezTo>
                      <a:pt x="14748" y="6"/>
                      <a:pt x="14747" y="7"/>
                      <a:pt x="14746" y="7"/>
                    </a:cubicBezTo>
                    <a:lnTo>
                      <a:pt x="14746" y="7"/>
                    </a:lnTo>
                    <a:cubicBezTo>
                      <a:pt x="14745" y="7"/>
                      <a:pt x="14744" y="6"/>
                      <a:pt x="14744" y="5"/>
                    </a:cubicBezTo>
                    <a:cubicBezTo>
                      <a:pt x="14744" y="4"/>
                      <a:pt x="14745" y="3"/>
                      <a:pt x="14746" y="3"/>
                    </a:cubicBezTo>
                    <a:close/>
                    <a:moveTo>
                      <a:pt x="14754" y="3"/>
                    </a:moveTo>
                    <a:lnTo>
                      <a:pt x="14754" y="3"/>
                    </a:lnTo>
                    <a:cubicBezTo>
                      <a:pt x="14755" y="3"/>
                      <a:pt x="14756" y="4"/>
                      <a:pt x="14756" y="5"/>
                    </a:cubicBezTo>
                    <a:cubicBezTo>
                      <a:pt x="14756" y="6"/>
                      <a:pt x="14755" y="7"/>
                      <a:pt x="14754" y="7"/>
                    </a:cubicBezTo>
                    <a:lnTo>
                      <a:pt x="14754" y="7"/>
                    </a:lnTo>
                    <a:cubicBezTo>
                      <a:pt x="14753" y="7"/>
                      <a:pt x="14752" y="6"/>
                      <a:pt x="14752" y="5"/>
                    </a:cubicBezTo>
                    <a:cubicBezTo>
                      <a:pt x="14752" y="4"/>
                      <a:pt x="14753" y="3"/>
                      <a:pt x="14754" y="3"/>
                    </a:cubicBezTo>
                    <a:close/>
                    <a:moveTo>
                      <a:pt x="14762" y="3"/>
                    </a:moveTo>
                    <a:lnTo>
                      <a:pt x="14762" y="3"/>
                    </a:lnTo>
                    <a:cubicBezTo>
                      <a:pt x="14763" y="3"/>
                      <a:pt x="14764" y="4"/>
                      <a:pt x="14764" y="5"/>
                    </a:cubicBezTo>
                    <a:cubicBezTo>
                      <a:pt x="14764" y="6"/>
                      <a:pt x="14763" y="7"/>
                      <a:pt x="14762" y="7"/>
                    </a:cubicBezTo>
                    <a:lnTo>
                      <a:pt x="14762" y="7"/>
                    </a:lnTo>
                    <a:cubicBezTo>
                      <a:pt x="14761" y="7"/>
                      <a:pt x="14760" y="6"/>
                      <a:pt x="14760" y="5"/>
                    </a:cubicBezTo>
                    <a:cubicBezTo>
                      <a:pt x="14760" y="4"/>
                      <a:pt x="14761" y="3"/>
                      <a:pt x="14762" y="3"/>
                    </a:cubicBezTo>
                    <a:close/>
                    <a:moveTo>
                      <a:pt x="14770" y="3"/>
                    </a:moveTo>
                    <a:lnTo>
                      <a:pt x="14770" y="3"/>
                    </a:lnTo>
                    <a:cubicBezTo>
                      <a:pt x="14771" y="3"/>
                      <a:pt x="14772" y="4"/>
                      <a:pt x="14772" y="5"/>
                    </a:cubicBezTo>
                    <a:cubicBezTo>
                      <a:pt x="14772" y="6"/>
                      <a:pt x="14771" y="7"/>
                      <a:pt x="14770" y="7"/>
                    </a:cubicBezTo>
                    <a:lnTo>
                      <a:pt x="14770" y="7"/>
                    </a:lnTo>
                    <a:cubicBezTo>
                      <a:pt x="14769" y="7"/>
                      <a:pt x="14768" y="6"/>
                      <a:pt x="14768" y="5"/>
                    </a:cubicBezTo>
                    <a:cubicBezTo>
                      <a:pt x="14768" y="4"/>
                      <a:pt x="14769" y="3"/>
                      <a:pt x="14770" y="3"/>
                    </a:cubicBezTo>
                    <a:close/>
                    <a:moveTo>
                      <a:pt x="14778" y="3"/>
                    </a:moveTo>
                    <a:lnTo>
                      <a:pt x="14778" y="3"/>
                    </a:lnTo>
                    <a:cubicBezTo>
                      <a:pt x="14779" y="3"/>
                      <a:pt x="14780" y="4"/>
                      <a:pt x="14780" y="5"/>
                    </a:cubicBezTo>
                    <a:cubicBezTo>
                      <a:pt x="14780" y="6"/>
                      <a:pt x="14779" y="7"/>
                      <a:pt x="14778" y="7"/>
                    </a:cubicBezTo>
                    <a:lnTo>
                      <a:pt x="14778" y="7"/>
                    </a:lnTo>
                    <a:cubicBezTo>
                      <a:pt x="14777" y="7"/>
                      <a:pt x="14776" y="6"/>
                      <a:pt x="14776" y="5"/>
                    </a:cubicBezTo>
                    <a:cubicBezTo>
                      <a:pt x="14776" y="4"/>
                      <a:pt x="14777" y="3"/>
                      <a:pt x="14778" y="3"/>
                    </a:cubicBezTo>
                    <a:close/>
                    <a:moveTo>
                      <a:pt x="14786" y="3"/>
                    </a:moveTo>
                    <a:lnTo>
                      <a:pt x="14786" y="3"/>
                    </a:lnTo>
                    <a:cubicBezTo>
                      <a:pt x="14787" y="3"/>
                      <a:pt x="14788" y="4"/>
                      <a:pt x="14788" y="5"/>
                    </a:cubicBezTo>
                    <a:cubicBezTo>
                      <a:pt x="14788" y="6"/>
                      <a:pt x="14787" y="7"/>
                      <a:pt x="14786" y="7"/>
                    </a:cubicBezTo>
                    <a:lnTo>
                      <a:pt x="14786" y="7"/>
                    </a:lnTo>
                    <a:cubicBezTo>
                      <a:pt x="14785" y="7"/>
                      <a:pt x="14784" y="6"/>
                      <a:pt x="14784" y="5"/>
                    </a:cubicBezTo>
                    <a:cubicBezTo>
                      <a:pt x="14784" y="4"/>
                      <a:pt x="14785" y="3"/>
                      <a:pt x="14786" y="3"/>
                    </a:cubicBezTo>
                    <a:close/>
                    <a:moveTo>
                      <a:pt x="14794" y="3"/>
                    </a:moveTo>
                    <a:lnTo>
                      <a:pt x="14794" y="3"/>
                    </a:lnTo>
                    <a:cubicBezTo>
                      <a:pt x="14795" y="3"/>
                      <a:pt x="14796" y="4"/>
                      <a:pt x="14796" y="5"/>
                    </a:cubicBezTo>
                    <a:cubicBezTo>
                      <a:pt x="14796" y="6"/>
                      <a:pt x="14795" y="7"/>
                      <a:pt x="14794" y="7"/>
                    </a:cubicBezTo>
                    <a:lnTo>
                      <a:pt x="14794" y="7"/>
                    </a:lnTo>
                    <a:cubicBezTo>
                      <a:pt x="14793" y="7"/>
                      <a:pt x="14792" y="6"/>
                      <a:pt x="14792" y="5"/>
                    </a:cubicBezTo>
                    <a:cubicBezTo>
                      <a:pt x="14792" y="4"/>
                      <a:pt x="14793" y="3"/>
                      <a:pt x="14794" y="3"/>
                    </a:cubicBezTo>
                    <a:close/>
                    <a:moveTo>
                      <a:pt x="14802" y="3"/>
                    </a:moveTo>
                    <a:lnTo>
                      <a:pt x="14802" y="3"/>
                    </a:lnTo>
                    <a:cubicBezTo>
                      <a:pt x="14803" y="3"/>
                      <a:pt x="14804" y="4"/>
                      <a:pt x="14804" y="5"/>
                    </a:cubicBezTo>
                    <a:cubicBezTo>
                      <a:pt x="14804" y="6"/>
                      <a:pt x="14803" y="7"/>
                      <a:pt x="14802" y="7"/>
                    </a:cubicBezTo>
                    <a:lnTo>
                      <a:pt x="14802" y="7"/>
                    </a:lnTo>
                    <a:cubicBezTo>
                      <a:pt x="14801" y="7"/>
                      <a:pt x="14800" y="6"/>
                      <a:pt x="14800" y="5"/>
                    </a:cubicBezTo>
                    <a:cubicBezTo>
                      <a:pt x="14800" y="4"/>
                      <a:pt x="14801" y="3"/>
                      <a:pt x="14802" y="3"/>
                    </a:cubicBezTo>
                    <a:close/>
                    <a:moveTo>
                      <a:pt x="14810" y="3"/>
                    </a:moveTo>
                    <a:lnTo>
                      <a:pt x="14810" y="3"/>
                    </a:lnTo>
                    <a:cubicBezTo>
                      <a:pt x="14811" y="3"/>
                      <a:pt x="14812" y="4"/>
                      <a:pt x="14812" y="5"/>
                    </a:cubicBezTo>
                    <a:cubicBezTo>
                      <a:pt x="14812" y="7"/>
                      <a:pt x="14811" y="7"/>
                      <a:pt x="14810" y="7"/>
                    </a:cubicBezTo>
                    <a:lnTo>
                      <a:pt x="14810" y="7"/>
                    </a:lnTo>
                    <a:cubicBezTo>
                      <a:pt x="14809" y="7"/>
                      <a:pt x="14808" y="7"/>
                      <a:pt x="14808" y="5"/>
                    </a:cubicBezTo>
                    <a:cubicBezTo>
                      <a:pt x="14808" y="4"/>
                      <a:pt x="14809" y="3"/>
                      <a:pt x="14810" y="3"/>
                    </a:cubicBezTo>
                    <a:close/>
                    <a:moveTo>
                      <a:pt x="14818" y="3"/>
                    </a:moveTo>
                    <a:lnTo>
                      <a:pt x="14818" y="3"/>
                    </a:lnTo>
                    <a:cubicBezTo>
                      <a:pt x="14819" y="3"/>
                      <a:pt x="14820" y="4"/>
                      <a:pt x="14820" y="5"/>
                    </a:cubicBezTo>
                    <a:cubicBezTo>
                      <a:pt x="14820" y="7"/>
                      <a:pt x="14819" y="7"/>
                      <a:pt x="14818" y="7"/>
                    </a:cubicBezTo>
                    <a:lnTo>
                      <a:pt x="14818" y="7"/>
                    </a:lnTo>
                    <a:cubicBezTo>
                      <a:pt x="14817" y="7"/>
                      <a:pt x="14816" y="7"/>
                      <a:pt x="14816" y="5"/>
                    </a:cubicBezTo>
                    <a:cubicBezTo>
                      <a:pt x="14816" y="4"/>
                      <a:pt x="14817" y="3"/>
                      <a:pt x="14818" y="3"/>
                    </a:cubicBezTo>
                    <a:close/>
                    <a:moveTo>
                      <a:pt x="14826" y="3"/>
                    </a:moveTo>
                    <a:lnTo>
                      <a:pt x="14826" y="3"/>
                    </a:lnTo>
                    <a:cubicBezTo>
                      <a:pt x="14827" y="3"/>
                      <a:pt x="14828" y="4"/>
                      <a:pt x="14828" y="5"/>
                    </a:cubicBezTo>
                    <a:cubicBezTo>
                      <a:pt x="14828" y="7"/>
                      <a:pt x="14827" y="7"/>
                      <a:pt x="14826" y="7"/>
                    </a:cubicBezTo>
                    <a:lnTo>
                      <a:pt x="14826" y="7"/>
                    </a:lnTo>
                    <a:cubicBezTo>
                      <a:pt x="14825" y="7"/>
                      <a:pt x="14824" y="7"/>
                      <a:pt x="14824" y="5"/>
                    </a:cubicBezTo>
                    <a:cubicBezTo>
                      <a:pt x="14824" y="4"/>
                      <a:pt x="14825" y="3"/>
                      <a:pt x="14826" y="3"/>
                    </a:cubicBezTo>
                    <a:close/>
                    <a:moveTo>
                      <a:pt x="14834" y="3"/>
                    </a:moveTo>
                    <a:lnTo>
                      <a:pt x="14834" y="3"/>
                    </a:lnTo>
                    <a:cubicBezTo>
                      <a:pt x="14835" y="3"/>
                      <a:pt x="14836" y="4"/>
                      <a:pt x="14836" y="5"/>
                    </a:cubicBezTo>
                    <a:cubicBezTo>
                      <a:pt x="14836" y="7"/>
                      <a:pt x="14835" y="7"/>
                      <a:pt x="14834" y="7"/>
                    </a:cubicBezTo>
                    <a:lnTo>
                      <a:pt x="14834" y="7"/>
                    </a:lnTo>
                    <a:cubicBezTo>
                      <a:pt x="14833" y="7"/>
                      <a:pt x="14832" y="7"/>
                      <a:pt x="14832" y="5"/>
                    </a:cubicBezTo>
                    <a:cubicBezTo>
                      <a:pt x="14832" y="4"/>
                      <a:pt x="14833" y="3"/>
                      <a:pt x="14834" y="3"/>
                    </a:cubicBezTo>
                    <a:close/>
                    <a:moveTo>
                      <a:pt x="14842" y="3"/>
                    </a:moveTo>
                    <a:lnTo>
                      <a:pt x="14842" y="3"/>
                    </a:lnTo>
                    <a:cubicBezTo>
                      <a:pt x="14843" y="3"/>
                      <a:pt x="14844" y="4"/>
                      <a:pt x="14844" y="5"/>
                    </a:cubicBezTo>
                    <a:cubicBezTo>
                      <a:pt x="14844" y="7"/>
                      <a:pt x="14843" y="7"/>
                      <a:pt x="14842" y="7"/>
                    </a:cubicBezTo>
                    <a:lnTo>
                      <a:pt x="14842" y="7"/>
                    </a:lnTo>
                    <a:cubicBezTo>
                      <a:pt x="14841" y="7"/>
                      <a:pt x="14840" y="7"/>
                      <a:pt x="14840" y="5"/>
                    </a:cubicBezTo>
                    <a:cubicBezTo>
                      <a:pt x="14840" y="4"/>
                      <a:pt x="14841" y="3"/>
                      <a:pt x="14842" y="3"/>
                    </a:cubicBezTo>
                    <a:close/>
                    <a:moveTo>
                      <a:pt x="14850" y="3"/>
                    </a:moveTo>
                    <a:lnTo>
                      <a:pt x="14850" y="3"/>
                    </a:lnTo>
                    <a:cubicBezTo>
                      <a:pt x="14851" y="3"/>
                      <a:pt x="14852" y="4"/>
                      <a:pt x="14852" y="5"/>
                    </a:cubicBezTo>
                    <a:cubicBezTo>
                      <a:pt x="14852" y="7"/>
                      <a:pt x="14851" y="7"/>
                      <a:pt x="14850" y="7"/>
                    </a:cubicBezTo>
                    <a:lnTo>
                      <a:pt x="14850" y="7"/>
                    </a:lnTo>
                    <a:cubicBezTo>
                      <a:pt x="14849" y="7"/>
                      <a:pt x="14848" y="7"/>
                      <a:pt x="14848" y="5"/>
                    </a:cubicBezTo>
                    <a:cubicBezTo>
                      <a:pt x="14848" y="4"/>
                      <a:pt x="14849" y="3"/>
                      <a:pt x="14850" y="3"/>
                    </a:cubicBezTo>
                    <a:close/>
                    <a:moveTo>
                      <a:pt x="14858" y="3"/>
                    </a:moveTo>
                    <a:lnTo>
                      <a:pt x="14858" y="3"/>
                    </a:lnTo>
                    <a:cubicBezTo>
                      <a:pt x="14859" y="3"/>
                      <a:pt x="14860" y="4"/>
                      <a:pt x="14860" y="5"/>
                    </a:cubicBezTo>
                    <a:cubicBezTo>
                      <a:pt x="14860" y="7"/>
                      <a:pt x="14859" y="7"/>
                      <a:pt x="14858" y="7"/>
                    </a:cubicBezTo>
                    <a:lnTo>
                      <a:pt x="14858" y="7"/>
                    </a:lnTo>
                    <a:cubicBezTo>
                      <a:pt x="14857" y="7"/>
                      <a:pt x="14856" y="7"/>
                      <a:pt x="14856" y="5"/>
                    </a:cubicBezTo>
                    <a:cubicBezTo>
                      <a:pt x="14856" y="4"/>
                      <a:pt x="14857" y="3"/>
                      <a:pt x="14858" y="3"/>
                    </a:cubicBezTo>
                    <a:close/>
                    <a:moveTo>
                      <a:pt x="14866" y="3"/>
                    </a:moveTo>
                    <a:lnTo>
                      <a:pt x="14866" y="3"/>
                    </a:lnTo>
                    <a:cubicBezTo>
                      <a:pt x="14867" y="3"/>
                      <a:pt x="14868" y="4"/>
                      <a:pt x="14868" y="5"/>
                    </a:cubicBezTo>
                    <a:cubicBezTo>
                      <a:pt x="14868" y="7"/>
                      <a:pt x="14867" y="7"/>
                      <a:pt x="14866" y="7"/>
                    </a:cubicBezTo>
                    <a:lnTo>
                      <a:pt x="14866" y="7"/>
                    </a:lnTo>
                    <a:cubicBezTo>
                      <a:pt x="14865" y="7"/>
                      <a:pt x="14864" y="7"/>
                      <a:pt x="14864" y="5"/>
                    </a:cubicBezTo>
                    <a:cubicBezTo>
                      <a:pt x="14864" y="4"/>
                      <a:pt x="14865" y="3"/>
                      <a:pt x="14866" y="3"/>
                    </a:cubicBezTo>
                    <a:close/>
                    <a:moveTo>
                      <a:pt x="14874" y="3"/>
                    </a:moveTo>
                    <a:lnTo>
                      <a:pt x="14874" y="3"/>
                    </a:lnTo>
                    <a:cubicBezTo>
                      <a:pt x="14875" y="3"/>
                      <a:pt x="14876" y="4"/>
                      <a:pt x="14876" y="5"/>
                    </a:cubicBezTo>
                    <a:cubicBezTo>
                      <a:pt x="14876" y="7"/>
                      <a:pt x="14875" y="7"/>
                      <a:pt x="14874" y="7"/>
                    </a:cubicBezTo>
                    <a:lnTo>
                      <a:pt x="14874" y="7"/>
                    </a:lnTo>
                    <a:cubicBezTo>
                      <a:pt x="14873" y="7"/>
                      <a:pt x="14872" y="7"/>
                      <a:pt x="14872" y="5"/>
                    </a:cubicBezTo>
                    <a:cubicBezTo>
                      <a:pt x="14872" y="4"/>
                      <a:pt x="14873" y="3"/>
                      <a:pt x="14874" y="3"/>
                    </a:cubicBezTo>
                    <a:close/>
                    <a:moveTo>
                      <a:pt x="14882" y="3"/>
                    </a:moveTo>
                    <a:lnTo>
                      <a:pt x="14882" y="3"/>
                    </a:lnTo>
                    <a:cubicBezTo>
                      <a:pt x="14883" y="3"/>
                      <a:pt x="14884" y="4"/>
                      <a:pt x="14884" y="5"/>
                    </a:cubicBezTo>
                    <a:cubicBezTo>
                      <a:pt x="14884" y="7"/>
                      <a:pt x="14883" y="7"/>
                      <a:pt x="14882" y="7"/>
                    </a:cubicBezTo>
                    <a:lnTo>
                      <a:pt x="14882" y="7"/>
                    </a:lnTo>
                    <a:cubicBezTo>
                      <a:pt x="14881" y="7"/>
                      <a:pt x="14880" y="7"/>
                      <a:pt x="14880" y="5"/>
                    </a:cubicBezTo>
                    <a:cubicBezTo>
                      <a:pt x="14880" y="4"/>
                      <a:pt x="14881" y="3"/>
                      <a:pt x="14882" y="3"/>
                    </a:cubicBezTo>
                    <a:close/>
                    <a:moveTo>
                      <a:pt x="14890" y="3"/>
                    </a:moveTo>
                    <a:lnTo>
                      <a:pt x="14890" y="3"/>
                    </a:lnTo>
                    <a:cubicBezTo>
                      <a:pt x="14891" y="3"/>
                      <a:pt x="14892" y="4"/>
                      <a:pt x="14892" y="5"/>
                    </a:cubicBezTo>
                    <a:cubicBezTo>
                      <a:pt x="14892" y="7"/>
                      <a:pt x="14891" y="7"/>
                      <a:pt x="14890" y="7"/>
                    </a:cubicBezTo>
                    <a:lnTo>
                      <a:pt x="14890" y="7"/>
                    </a:lnTo>
                    <a:cubicBezTo>
                      <a:pt x="14889" y="7"/>
                      <a:pt x="14888" y="7"/>
                      <a:pt x="14888" y="5"/>
                    </a:cubicBezTo>
                    <a:cubicBezTo>
                      <a:pt x="14888" y="4"/>
                      <a:pt x="14889" y="3"/>
                      <a:pt x="14890" y="3"/>
                    </a:cubicBezTo>
                    <a:close/>
                    <a:moveTo>
                      <a:pt x="14898" y="3"/>
                    </a:moveTo>
                    <a:lnTo>
                      <a:pt x="14898" y="3"/>
                    </a:lnTo>
                    <a:cubicBezTo>
                      <a:pt x="14899" y="3"/>
                      <a:pt x="14900" y="4"/>
                      <a:pt x="14900" y="5"/>
                    </a:cubicBezTo>
                    <a:cubicBezTo>
                      <a:pt x="14900" y="7"/>
                      <a:pt x="14899" y="7"/>
                      <a:pt x="14898" y="7"/>
                    </a:cubicBezTo>
                    <a:lnTo>
                      <a:pt x="14898" y="7"/>
                    </a:lnTo>
                    <a:cubicBezTo>
                      <a:pt x="14897" y="7"/>
                      <a:pt x="14896" y="7"/>
                      <a:pt x="14896" y="5"/>
                    </a:cubicBezTo>
                    <a:cubicBezTo>
                      <a:pt x="14896" y="4"/>
                      <a:pt x="14897" y="3"/>
                      <a:pt x="14898" y="3"/>
                    </a:cubicBezTo>
                    <a:close/>
                    <a:moveTo>
                      <a:pt x="14906" y="3"/>
                    </a:moveTo>
                    <a:lnTo>
                      <a:pt x="14906" y="3"/>
                    </a:lnTo>
                    <a:cubicBezTo>
                      <a:pt x="14907" y="3"/>
                      <a:pt x="14908" y="4"/>
                      <a:pt x="14908" y="5"/>
                    </a:cubicBezTo>
                    <a:cubicBezTo>
                      <a:pt x="14908" y="7"/>
                      <a:pt x="14907" y="7"/>
                      <a:pt x="14906" y="7"/>
                    </a:cubicBezTo>
                    <a:lnTo>
                      <a:pt x="14906" y="7"/>
                    </a:lnTo>
                    <a:cubicBezTo>
                      <a:pt x="14905" y="7"/>
                      <a:pt x="14904" y="7"/>
                      <a:pt x="14904" y="5"/>
                    </a:cubicBezTo>
                    <a:cubicBezTo>
                      <a:pt x="14904" y="4"/>
                      <a:pt x="14905" y="3"/>
                      <a:pt x="14906" y="3"/>
                    </a:cubicBezTo>
                    <a:close/>
                    <a:moveTo>
                      <a:pt x="14914" y="3"/>
                    </a:moveTo>
                    <a:lnTo>
                      <a:pt x="14914" y="3"/>
                    </a:lnTo>
                    <a:cubicBezTo>
                      <a:pt x="14915" y="3"/>
                      <a:pt x="14916" y="4"/>
                      <a:pt x="14916" y="5"/>
                    </a:cubicBezTo>
                    <a:cubicBezTo>
                      <a:pt x="14916" y="7"/>
                      <a:pt x="14915" y="7"/>
                      <a:pt x="14914" y="7"/>
                    </a:cubicBezTo>
                    <a:lnTo>
                      <a:pt x="14914" y="7"/>
                    </a:lnTo>
                    <a:cubicBezTo>
                      <a:pt x="14913" y="7"/>
                      <a:pt x="14912" y="7"/>
                      <a:pt x="14912" y="5"/>
                    </a:cubicBezTo>
                    <a:cubicBezTo>
                      <a:pt x="14912" y="4"/>
                      <a:pt x="14913" y="3"/>
                      <a:pt x="14914" y="3"/>
                    </a:cubicBezTo>
                    <a:close/>
                    <a:moveTo>
                      <a:pt x="14922" y="3"/>
                    </a:moveTo>
                    <a:lnTo>
                      <a:pt x="14922" y="3"/>
                    </a:lnTo>
                    <a:cubicBezTo>
                      <a:pt x="14923" y="3"/>
                      <a:pt x="14924" y="4"/>
                      <a:pt x="14924" y="5"/>
                    </a:cubicBezTo>
                    <a:cubicBezTo>
                      <a:pt x="14924" y="7"/>
                      <a:pt x="14923" y="7"/>
                      <a:pt x="14922" y="7"/>
                    </a:cubicBezTo>
                    <a:lnTo>
                      <a:pt x="14922" y="7"/>
                    </a:lnTo>
                    <a:cubicBezTo>
                      <a:pt x="14921" y="7"/>
                      <a:pt x="14920" y="7"/>
                      <a:pt x="14920" y="5"/>
                    </a:cubicBezTo>
                    <a:cubicBezTo>
                      <a:pt x="14920" y="4"/>
                      <a:pt x="14921" y="3"/>
                      <a:pt x="14922" y="3"/>
                    </a:cubicBezTo>
                    <a:close/>
                    <a:moveTo>
                      <a:pt x="14930" y="3"/>
                    </a:moveTo>
                    <a:lnTo>
                      <a:pt x="14930" y="3"/>
                    </a:lnTo>
                    <a:cubicBezTo>
                      <a:pt x="14931" y="3"/>
                      <a:pt x="14932" y="4"/>
                      <a:pt x="14932" y="5"/>
                    </a:cubicBezTo>
                    <a:cubicBezTo>
                      <a:pt x="14932" y="7"/>
                      <a:pt x="14931" y="7"/>
                      <a:pt x="14930" y="7"/>
                    </a:cubicBezTo>
                    <a:lnTo>
                      <a:pt x="14930" y="7"/>
                    </a:lnTo>
                    <a:cubicBezTo>
                      <a:pt x="14929" y="7"/>
                      <a:pt x="14928" y="7"/>
                      <a:pt x="14928" y="5"/>
                    </a:cubicBezTo>
                    <a:cubicBezTo>
                      <a:pt x="14928" y="4"/>
                      <a:pt x="14929" y="3"/>
                      <a:pt x="14930" y="3"/>
                    </a:cubicBezTo>
                    <a:close/>
                    <a:moveTo>
                      <a:pt x="14938" y="3"/>
                    </a:moveTo>
                    <a:lnTo>
                      <a:pt x="14938" y="3"/>
                    </a:lnTo>
                    <a:cubicBezTo>
                      <a:pt x="14939" y="3"/>
                      <a:pt x="14940" y="4"/>
                      <a:pt x="14940" y="5"/>
                    </a:cubicBezTo>
                    <a:cubicBezTo>
                      <a:pt x="14940" y="7"/>
                      <a:pt x="14939" y="7"/>
                      <a:pt x="14938" y="7"/>
                    </a:cubicBezTo>
                    <a:lnTo>
                      <a:pt x="14938" y="7"/>
                    </a:lnTo>
                    <a:cubicBezTo>
                      <a:pt x="14937" y="7"/>
                      <a:pt x="14936" y="7"/>
                      <a:pt x="14936" y="5"/>
                    </a:cubicBezTo>
                    <a:cubicBezTo>
                      <a:pt x="14936" y="4"/>
                      <a:pt x="14937" y="3"/>
                      <a:pt x="14938" y="3"/>
                    </a:cubicBezTo>
                    <a:close/>
                    <a:moveTo>
                      <a:pt x="14946" y="3"/>
                    </a:moveTo>
                    <a:lnTo>
                      <a:pt x="14946" y="3"/>
                    </a:lnTo>
                    <a:cubicBezTo>
                      <a:pt x="14947" y="3"/>
                      <a:pt x="14948" y="4"/>
                      <a:pt x="14948" y="5"/>
                    </a:cubicBezTo>
                    <a:cubicBezTo>
                      <a:pt x="14948" y="7"/>
                      <a:pt x="14947" y="7"/>
                      <a:pt x="14946" y="7"/>
                    </a:cubicBezTo>
                    <a:lnTo>
                      <a:pt x="14946" y="7"/>
                    </a:lnTo>
                    <a:cubicBezTo>
                      <a:pt x="14945" y="7"/>
                      <a:pt x="14944" y="7"/>
                      <a:pt x="14944" y="5"/>
                    </a:cubicBezTo>
                    <a:cubicBezTo>
                      <a:pt x="14944" y="4"/>
                      <a:pt x="14945" y="3"/>
                      <a:pt x="14946" y="3"/>
                    </a:cubicBezTo>
                    <a:close/>
                    <a:moveTo>
                      <a:pt x="14954" y="3"/>
                    </a:moveTo>
                    <a:lnTo>
                      <a:pt x="14954" y="3"/>
                    </a:lnTo>
                    <a:cubicBezTo>
                      <a:pt x="14955" y="3"/>
                      <a:pt x="14956" y="4"/>
                      <a:pt x="14956" y="5"/>
                    </a:cubicBezTo>
                    <a:cubicBezTo>
                      <a:pt x="14956" y="7"/>
                      <a:pt x="14955" y="7"/>
                      <a:pt x="14954" y="7"/>
                    </a:cubicBezTo>
                    <a:lnTo>
                      <a:pt x="14954" y="7"/>
                    </a:lnTo>
                    <a:cubicBezTo>
                      <a:pt x="14953" y="7"/>
                      <a:pt x="14952" y="7"/>
                      <a:pt x="14952" y="5"/>
                    </a:cubicBezTo>
                    <a:cubicBezTo>
                      <a:pt x="14952" y="4"/>
                      <a:pt x="14953" y="3"/>
                      <a:pt x="14954" y="3"/>
                    </a:cubicBezTo>
                    <a:close/>
                    <a:moveTo>
                      <a:pt x="14962" y="3"/>
                    </a:moveTo>
                    <a:lnTo>
                      <a:pt x="14962" y="3"/>
                    </a:lnTo>
                    <a:cubicBezTo>
                      <a:pt x="14963" y="3"/>
                      <a:pt x="14964" y="4"/>
                      <a:pt x="14964" y="5"/>
                    </a:cubicBezTo>
                    <a:cubicBezTo>
                      <a:pt x="14964" y="7"/>
                      <a:pt x="14963" y="7"/>
                      <a:pt x="14962" y="7"/>
                    </a:cubicBezTo>
                    <a:lnTo>
                      <a:pt x="14962" y="7"/>
                    </a:lnTo>
                    <a:cubicBezTo>
                      <a:pt x="14961" y="7"/>
                      <a:pt x="14960" y="7"/>
                      <a:pt x="14960" y="5"/>
                    </a:cubicBezTo>
                    <a:cubicBezTo>
                      <a:pt x="14960" y="4"/>
                      <a:pt x="14961" y="3"/>
                      <a:pt x="14962" y="3"/>
                    </a:cubicBezTo>
                    <a:close/>
                    <a:moveTo>
                      <a:pt x="14970" y="3"/>
                    </a:moveTo>
                    <a:lnTo>
                      <a:pt x="14970" y="3"/>
                    </a:lnTo>
                    <a:cubicBezTo>
                      <a:pt x="14971" y="3"/>
                      <a:pt x="14972" y="4"/>
                      <a:pt x="14972" y="5"/>
                    </a:cubicBezTo>
                    <a:cubicBezTo>
                      <a:pt x="14972" y="7"/>
                      <a:pt x="14971" y="7"/>
                      <a:pt x="14970" y="7"/>
                    </a:cubicBezTo>
                    <a:lnTo>
                      <a:pt x="14970" y="7"/>
                    </a:lnTo>
                    <a:cubicBezTo>
                      <a:pt x="14969" y="7"/>
                      <a:pt x="14968" y="7"/>
                      <a:pt x="14968" y="5"/>
                    </a:cubicBezTo>
                    <a:cubicBezTo>
                      <a:pt x="14968" y="4"/>
                      <a:pt x="14969" y="3"/>
                      <a:pt x="14970" y="3"/>
                    </a:cubicBezTo>
                    <a:close/>
                    <a:moveTo>
                      <a:pt x="14978" y="3"/>
                    </a:moveTo>
                    <a:lnTo>
                      <a:pt x="14978" y="3"/>
                    </a:lnTo>
                    <a:cubicBezTo>
                      <a:pt x="14979" y="3"/>
                      <a:pt x="14980" y="4"/>
                      <a:pt x="14980" y="5"/>
                    </a:cubicBezTo>
                    <a:cubicBezTo>
                      <a:pt x="14980" y="7"/>
                      <a:pt x="14979" y="7"/>
                      <a:pt x="14978" y="7"/>
                    </a:cubicBezTo>
                    <a:lnTo>
                      <a:pt x="14978" y="7"/>
                    </a:lnTo>
                    <a:cubicBezTo>
                      <a:pt x="14977" y="7"/>
                      <a:pt x="14976" y="7"/>
                      <a:pt x="14976" y="5"/>
                    </a:cubicBezTo>
                    <a:cubicBezTo>
                      <a:pt x="14976" y="4"/>
                      <a:pt x="14977" y="3"/>
                      <a:pt x="14978" y="3"/>
                    </a:cubicBezTo>
                    <a:close/>
                    <a:moveTo>
                      <a:pt x="14986" y="3"/>
                    </a:moveTo>
                    <a:lnTo>
                      <a:pt x="14986" y="3"/>
                    </a:lnTo>
                    <a:cubicBezTo>
                      <a:pt x="14987" y="3"/>
                      <a:pt x="14988" y="4"/>
                      <a:pt x="14988" y="5"/>
                    </a:cubicBezTo>
                    <a:cubicBezTo>
                      <a:pt x="14988" y="7"/>
                      <a:pt x="14987" y="7"/>
                      <a:pt x="14986" y="7"/>
                    </a:cubicBezTo>
                    <a:lnTo>
                      <a:pt x="14986" y="7"/>
                    </a:lnTo>
                    <a:cubicBezTo>
                      <a:pt x="14985" y="7"/>
                      <a:pt x="14984" y="7"/>
                      <a:pt x="14984" y="5"/>
                    </a:cubicBezTo>
                    <a:cubicBezTo>
                      <a:pt x="14984" y="4"/>
                      <a:pt x="14985" y="3"/>
                      <a:pt x="14986" y="3"/>
                    </a:cubicBezTo>
                    <a:close/>
                    <a:moveTo>
                      <a:pt x="14994" y="3"/>
                    </a:moveTo>
                    <a:lnTo>
                      <a:pt x="14994" y="3"/>
                    </a:lnTo>
                    <a:cubicBezTo>
                      <a:pt x="14995" y="3"/>
                      <a:pt x="14996" y="4"/>
                      <a:pt x="14996" y="5"/>
                    </a:cubicBezTo>
                    <a:cubicBezTo>
                      <a:pt x="14996" y="7"/>
                      <a:pt x="14995" y="7"/>
                      <a:pt x="14994" y="7"/>
                    </a:cubicBezTo>
                    <a:lnTo>
                      <a:pt x="14994" y="7"/>
                    </a:lnTo>
                    <a:cubicBezTo>
                      <a:pt x="14993" y="7"/>
                      <a:pt x="14992" y="7"/>
                      <a:pt x="14992" y="5"/>
                    </a:cubicBezTo>
                    <a:cubicBezTo>
                      <a:pt x="14992" y="4"/>
                      <a:pt x="14993" y="3"/>
                      <a:pt x="14994" y="3"/>
                    </a:cubicBezTo>
                    <a:close/>
                    <a:moveTo>
                      <a:pt x="15002" y="3"/>
                    </a:moveTo>
                    <a:lnTo>
                      <a:pt x="15002" y="3"/>
                    </a:lnTo>
                    <a:cubicBezTo>
                      <a:pt x="15003" y="3"/>
                      <a:pt x="15004" y="4"/>
                      <a:pt x="15004" y="5"/>
                    </a:cubicBezTo>
                    <a:cubicBezTo>
                      <a:pt x="15004" y="7"/>
                      <a:pt x="15003" y="7"/>
                      <a:pt x="15002" y="7"/>
                    </a:cubicBezTo>
                    <a:lnTo>
                      <a:pt x="15002" y="7"/>
                    </a:lnTo>
                    <a:cubicBezTo>
                      <a:pt x="15001" y="7"/>
                      <a:pt x="15000" y="7"/>
                      <a:pt x="15000" y="5"/>
                    </a:cubicBezTo>
                    <a:cubicBezTo>
                      <a:pt x="15000" y="4"/>
                      <a:pt x="15001" y="3"/>
                      <a:pt x="15002" y="3"/>
                    </a:cubicBezTo>
                    <a:close/>
                    <a:moveTo>
                      <a:pt x="15010" y="3"/>
                    </a:moveTo>
                    <a:lnTo>
                      <a:pt x="15010" y="3"/>
                    </a:lnTo>
                    <a:cubicBezTo>
                      <a:pt x="15011" y="3"/>
                      <a:pt x="15012" y="4"/>
                      <a:pt x="15012" y="5"/>
                    </a:cubicBezTo>
                    <a:cubicBezTo>
                      <a:pt x="15012" y="7"/>
                      <a:pt x="15011" y="7"/>
                      <a:pt x="15010" y="7"/>
                    </a:cubicBezTo>
                    <a:lnTo>
                      <a:pt x="15010" y="7"/>
                    </a:lnTo>
                    <a:cubicBezTo>
                      <a:pt x="15009" y="7"/>
                      <a:pt x="15008" y="7"/>
                      <a:pt x="15008" y="5"/>
                    </a:cubicBezTo>
                    <a:cubicBezTo>
                      <a:pt x="15008" y="4"/>
                      <a:pt x="15009" y="3"/>
                      <a:pt x="15010" y="3"/>
                    </a:cubicBezTo>
                    <a:close/>
                    <a:moveTo>
                      <a:pt x="15018" y="3"/>
                    </a:moveTo>
                    <a:lnTo>
                      <a:pt x="15018" y="3"/>
                    </a:lnTo>
                    <a:cubicBezTo>
                      <a:pt x="15019" y="3"/>
                      <a:pt x="15020" y="4"/>
                      <a:pt x="15020" y="5"/>
                    </a:cubicBezTo>
                    <a:cubicBezTo>
                      <a:pt x="15020" y="7"/>
                      <a:pt x="15019" y="7"/>
                      <a:pt x="15018" y="7"/>
                    </a:cubicBezTo>
                    <a:lnTo>
                      <a:pt x="15018" y="7"/>
                    </a:lnTo>
                    <a:cubicBezTo>
                      <a:pt x="15017" y="7"/>
                      <a:pt x="15016" y="7"/>
                      <a:pt x="15016" y="5"/>
                    </a:cubicBezTo>
                    <a:cubicBezTo>
                      <a:pt x="15016" y="4"/>
                      <a:pt x="15017" y="3"/>
                      <a:pt x="15018" y="3"/>
                    </a:cubicBezTo>
                    <a:close/>
                    <a:moveTo>
                      <a:pt x="15026" y="3"/>
                    </a:moveTo>
                    <a:lnTo>
                      <a:pt x="15026" y="3"/>
                    </a:lnTo>
                    <a:cubicBezTo>
                      <a:pt x="15027" y="3"/>
                      <a:pt x="15028" y="4"/>
                      <a:pt x="15028" y="5"/>
                    </a:cubicBezTo>
                    <a:cubicBezTo>
                      <a:pt x="15028" y="7"/>
                      <a:pt x="15027" y="7"/>
                      <a:pt x="15026" y="7"/>
                    </a:cubicBezTo>
                    <a:lnTo>
                      <a:pt x="15026" y="7"/>
                    </a:lnTo>
                    <a:cubicBezTo>
                      <a:pt x="15025" y="7"/>
                      <a:pt x="15024" y="7"/>
                      <a:pt x="15024" y="5"/>
                    </a:cubicBezTo>
                    <a:cubicBezTo>
                      <a:pt x="15024" y="4"/>
                      <a:pt x="15025" y="3"/>
                      <a:pt x="15026" y="3"/>
                    </a:cubicBezTo>
                    <a:close/>
                    <a:moveTo>
                      <a:pt x="15034" y="3"/>
                    </a:moveTo>
                    <a:lnTo>
                      <a:pt x="15034" y="3"/>
                    </a:lnTo>
                    <a:cubicBezTo>
                      <a:pt x="15035" y="3"/>
                      <a:pt x="15036" y="4"/>
                      <a:pt x="15036" y="5"/>
                    </a:cubicBezTo>
                    <a:cubicBezTo>
                      <a:pt x="15036" y="7"/>
                      <a:pt x="15035" y="7"/>
                      <a:pt x="15034" y="7"/>
                    </a:cubicBezTo>
                    <a:lnTo>
                      <a:pt x="15034" y="7"/>
                    </a:lnTo>
                    <a:cubicBezTo>
                      <a:pt x="15033" y="7"/>
                      <a:pt x="15032" y="7"/>
                      <a:pt x="15032" y="5"/>
                    </a:cubicBezTo>
                    <a:cubicBezTo>
                      <a:pt x="15032" y="4"/>
                      <a:pt x="15033" y="3"/>
                      <a:pt x="15034" y="3"/>
                    </a:cubicBezTo>
                    <a:close/>
                    <a:moveTo>
                      <a:pt x="15042" y="3"/>
                    </a:moveTo>
                    <a:lnTo>
                      <a:pt x="15042" y="3"/>
                    </a:lnTo>
                    <a:cubicBezTo>
                      <a:pt x="15043" y="3"/>
                      <a:pt x="15044" y="4"/>
                      <a:pt x="15044" y="5"/>
                    </a:cubicBezTo>
                    <a:cubicBezTo>
                      <a:pt x="15044" y="7"/>
                      <a:pt x="15043" y="7"/>
                      <a:pt x="15042" y="7"/>
                    </a:cubicBezTo>
                    <a:lnTo>
                      <a:pt x="15042" y="7"/>
                    </a:lnTo>
                    <a:cubicBezTo>
                      <a:pt x="15041" y="7"/>
                      <a:pt x="15040" y="7"/>
                      <a:pt x="15040" y="5"/>
                    </a:cubicBezTo>
                    <a:cubicBezTo>
                      <a:pt x="15040" y="4"/>
                      <a:pt x="15041" y="3"/>
                      <a:pt x="15042" y="3"/>
                    </a:cubicBezTo>
                    <a:close/>
                    <a:moveTo>
                      <a:pt x="15050" y="3"/>
                    </a:moveTo>
                    <a:lnTo>
                      <a:pt x="15050" y="3"/>
                    </a:lnTo>
                    <a:cubicBezTo>
                      <a:pt x="15051" y="3"/>
                      <a:pt x="15052" y="4"/>
                      <a:pt x="15052" y="5"/>
                    </a:cubicBezTo>
                    <a:cubicBezTo>
                      <a:pt x="15052" y="7"/>
                      <a:pt x="15051" y="7"/>
                      <a:pt x="15050" y="7"/>
                    </a:cubicBezTo>
                    <a:lnTo>
                      <a:pt x="15050" y="7"/>
                    </a:lnTo>
                    <a:cubicBezTo>
                      <a:pt x="15049" y="7"/>
                      <a:pt x="15048" y="7"/>
                      <a:pt x="15048" y="5"/>
                    </a:cubicBezTo>
                    <a:cubicBezTo>
                      <a:pt x="15048" y="4"/>
                      <a:pt x="15049" y="3"/>
                      <a:pt x="15050" y="3"/>
                    </a:cubicBezTo>
                    <a:close/>
                    <a:moveTo>
                      <a:pt x="15058" y="3"/>
                    </a:moveTo>
                    <a:lnTo>
                      <a:pt x="15058" y="3"/>
                    </a:lnTo>
                    <a:cubicBezTo>
                      <a:pt x="15059" y="3"/>
                      <a:pt x="15060" y="4"/>
                      <a:pt x="15060" y="5"/>
                    </a:cubicBezTo>
                    <a:cubicBezTo>
                      <a:pt x="15060" y="7"/>
                      <a:pt x="15059" y="7"/>
                      <a:pt x="15058" y="7"/>
                    </a:cubicBezTo>
                    <a:lnTo>
                      <a:pt x="15058" y="7"/>
                    </a:lnTo>
                    <a:cubicBezTo>
                      <a:pt x="15057" y="7"/>
                      <a:pt x="15056" y="7"/>
                      <a:pt x="15056" y="5"/>
                    </a:cubicBezTo>
                    <a:cubicBezTo>
                      <a:pt x="15056" y="4"/>
                      <a:pt x="15057" y="3"/>
                      <a:pt x="15058" y="3"/>
                    </a:cubicBezTo>
                    <a:close/>
                    <a:moveTo>
                      <a:pt x="15066" y="3"/>
                    </a:moveTo>
                    <a:lnTo>
                      <a:pt x="15066" y="3"/>
                    </a:lnTo>
                    <a:cubicBezTo>
                      <a:pt x="15067" y="3"/>
                      <a:pt x="15068" y="4"/>
                      <a:pt x="15068" y="5"/>
                    </a:cubicBezTo>
                    <a:cubicBezTo>
                      <a:pt x="15068" y="7"/>
                      <a:pt x="15067" y="7"/>
                      <a:pt x="15066" y="7"/>
                    </a:cubicBezTo>
                    <a:lnTo>
                      <a:pt x="15066" y="7"/>
                    </a:lnTo>
                    <a:cubicBezTo>
                      <a:pt x="15065" y="7"/>
                      <a:pt x="15064" y="7"/>
                      <a:pt x="15064" y="5"/>
                    </a:cubicBezTo>
                    <a:cubicBezTo>
                      <a:pt x="15064" y="4"/>
                      <a:pt x="15065" y="3"/>
                      <a:pt x="15066" y="3"/>
                    </a:cubicBezTo>
                    <a:close/>
                    <a:moveTo>
                      <a:pt x="15074" y="3"/>
                    </a:moveTo>
                    <a:lnTo>
                      <a:pt x="15074" y="3"/>
                    </a:lnTo>
                    <a:cubicBezTo>
                      <a:pt x="15075" y="3"/>
                      <a:pt x="15076" y="4"/>
                      <a:pt x="15076" y="5"/>
                    </a:cubicBezTo>
                    <a:cubicBezTo>
                      <a:pt x="15076" y="7"/>
                      <a:pt x="15075" y="7"/>
                      <a:pt x="15074" y="7"/>
                    </a:cubicBezTo>
                    <a:lnTo>
                      <a:pt x="15074" y="7"/>
                    </a:lnTo>
                    <a:cubicBezTo>
                      <a:pt x="15073" y="7"/>
                      <a:pt x="15072" y="7"/>
                      <a:pt x="15072" y="5"/>
                    </a:cubicBezTo>
                    <a:cubicBezTo>
                      <a:pt x="15072" y="4"/>
                      <a:pt x="15073" y="3"/>
                      <a:pt x="15074" y="3"/>
                    </a:cubicBezTo>
                    <a:close/>
                    <a:moveTo>
                      <a:pt x="15082" y="3"/>
                    </a:moveTo>
                    <a:lnTo>
                      <a:pt x="15082" y="3"/>
                    </a:lnTo>
                    <a:cubicBezTo>
                      <a:pt x="15083" y="3"/>
                      <a:pt x="15084" y="4"/>
                      <a:pt x="15084" y="5"/>
                    </a:cubicBezTo>
                    <a:cubicBezTo>
                      <a:pt x="15084" y="7"/>
                      <a:pt x="15083" y="7"/>
                      <a:pt x="15082" y="7"/>
                    </a:cubicBezTo>
                    <a:lnTo>
                      <a:pt x="15082" y="7"/>
                    </a:lnTo>
                    <a:cubicBezTo>
                      <a:pt x="15081" y="7"/>
                      <a:pt x="15080" y="7"/>
                      <a:pt x="15080" y="5"/>
                    </a:cubicBezTo>
                    <a:cubicBezTo>
                      <a:pt x="15080" y="4"/>
                      <a:pt x="15081" y="3"/>
                      <a:pt x="15082" y="3"/>
                    </a:cubicBezTo>
                    <a:close/>
                    <a:moveTo>
                      <a:pt x="15090" y="3"/>
                    </a:moveTo>
                    <a:lnTo>
                      <a:pt x="15090" y="3"/>
                    </a:lnTo>
                    <a:cubicBezTo>
                      <a:pt x="15091" y="3"/>
                      <a:pt x="15092" y="4"/>
                      <a:pt x="15092" y="5"/>
                    </a:cubicBezTo>
                    <a:cubicBezTo>
                      <a:pt x="15092" y="7"/>
                      <a:pt x="15091" y="7"/>
                      <a:pt x="15090" y="7"/>
                    </a:cubicBezTo>
                    <a:lnTo>
                      <a:pt x="15090" y="7"/>
                    </a:lnTo>
                    <a:cubicBezTo>
                      <a:pt x="15089" y="7"/>
                      <a:pt x="15088" y="7"/>
                      <a:pt x="15088" y="5"/>
                    </a:cubicBezTo>
                    <a:cubicBezTo>
                      <a:pt x="15088" y="4"/>
                      <a:pt x="15089" y="3"/>
                      <a:pt x="15090" y="3"/>
                    </a:cubicBezTo>
                    <a:close/>
                    <a:moveTo>
                      <a:pt x="15098" y="3"/>
                    </a:moveTo>
                    <a:lnTo>
                      <a:pt x="15098" y="3"/>
                    </a:lnTo>
                    <a:cubicBezTo>
                      <a:pt x="15099" y="3"/>
                      <a:pt x="15100" y="4"/>
                      <a:pt x="15100" y="5"/>
                    </a:cubicBezTo>
                    <a:cubicBezTo>
                      <a:pt x="15100" y="7"/>
                      <a:pt x="15099" y="7"/>
                      <a:pt x="15098" y="7"/>
                    </a:cubicBezTo>
                    <a:lnTo>
                      <a:pt x="15098" y="7"/>
                    </a:lnTo>
                    <a:cubicBezTo>
                      <a:pt x="15097" y="7"/>
                      <a:pt x="15096" y="7"/>
                      <a:pt x="15096" y="5"/>
                    </a:cubicBezTo>
                    <a:cubicBezTo>
                      <a:pt x="15096" y="4"/>
                      <a:pt x="15097" y="3"/>
                      <a:pt x="15098" y="3"/>
                    </a:cubicBezTo>
                    <a:close/>
                    <a:moveTo>
                      <a:pt x="15106" y="3"/>
                    </a:moveTo>
                    <a:lnTo>
                      <a:pt x="15106" y="3"/>
                    </a:lnTo>
                    <a:cubicBezTo>
                      <a:pt x="15107" y="3"/>
                      <a:pt x="15108" y="4"/>
                      <a:pt x="15108" y="5"/>
                    </a:cubicBezTo>
                    <a:cubicBezTo>
                      <a:pt x="15108" y="7"/>
                      <a:pt x="15107" y="7"/>
                      <a:pt x="15106" y="7"/>
                    </a:cubicBezTo>
                    <a:lnTo>
                      <a:pt x="15106" y="7"/>
                    </a:lnTo>
                    <a:cubicBezTo>
                      <a:pt x="15105" y="7"/>
                      <a:pt x="15104" y="7"/>
                      <a:pt x="15104" y="5"/>
                    </a:cubicBezTo>
                    <a:cubicBezTo>
                      <a:pt x="15104" y="4"/>
                      <a:pt x="15105" y="3"/>
                      <a:pt x="15106" y="3"/>
                    </a:cubicBezTo>
                    <a:close/>
                    <a:moveTo>
                      <a:pt x="15114" y="3"/>
                    </a:moveTo>
                    <a:lnTo>
                      <a:pt x="15114" y="3"/>
                    </a:lnTo>
                    <a:cubicBezTo>
                      <a:pt x="15115" y="3"/>
                      <a:pt x="15116" y="4"/>
                      <a:pt x="15116" y="5"/>
                    </a:cubicBezTo>
                    <a:cubicBezTo>
                      <a:pt x="15116" y="7"/>
                      <a:pt x="15115" y="7"/>
                      <a:pt x="15114" y="7"/>
                    </a:cubicBezTo>
                    <a:lnTo>
                      <a:pt x="15114" y="7"/>
                    </a:lnTo>
                    <a:cubicBezTo>
                      <a:pt x="15113" y="7"/>
                      <a:pt x="15112" y="7"/>
                      <a:pt x="15112" y="5"/>
                    </a:cubicBezTo>
                    <a:cubicBezTo>
                      <a:pt x="15112" y="4"/>
                      <a:pt x="15113" y="3"/>
                      <a:pt x="15114" y="3"/>
                    </a:cubicBezTo>
                    <a:close/>
                    <a:moveTo>
                      <a:pt x="15122" y="3"/>
                    </a:moveTo>
                    <a:lnTo>
                      <a:pt x="15122" y="3"/>
                    </a:lnTo>
                    <a:cubicBezTo>
                      <a:pt x="15123" y="3"/>
                      <a:pt x="15124" y="4"/>
                      <a:pt x="15124" y="5"/>
                    </a:cubicBezTo>
                    <a:cubicBezTo>
                      <a:pt x="15124" y="7"/>
                      <a:pt x="15123" y="7"/>
                      <a:pt x="15122" y="7"/>
                    </a:cubicBezTo>
                    <a:lnTo>
                      <a:pt x="15122" y="7"/>
                    </a:lnTo>
                    <a:cubicBezTo>
                      <a:pt x="15121" y="7"/>
                      <a:pt x="15120" y="7"/>
                      <a:pt x="15120" y="5"/>
                    </a:cubicBezTo>
                    <a:cubicBezTo>
                      <a:pt x="15120" y="4"/>
                      <a:pt x="15121" y="3"/>
                      <a:pt x="15122" y="3"/>
                    </a:cubicBezTo>
                    <a:close/>
                    <a:moveTo>
                      <a:pt x="15130" y="3"/>
                    </a:moveTo>
                    <a:lnTo>
                      <a:pt x="15130" y="3"/>
                    </a:lnTo>
                    <a:cubicBezTo>
                      <a:pt x="15131" y="3"/>
                      <a:pt x="15132" y="4"/>
                      <a:pt x="15132" y="5"/>
                    </a:cubicBezTo>
                    <a:cubicBezTo>
                      <a:pt x="15132" y="7"/>
                      <a:pt x="15131" y="7"/>
                      <a:pt x="15130" y="7"/>
                    </a:cubicBezTo>
                    <a:lnTo>
                      <a:pt x="15130" y="7"/>
                    </a:lnTo>
                    <a:cubicBezTo>
                      <a:pt x="15129" y="7"/>
                      <a:pt x="15128" y="7"/>
                      <a:pt x="15128" y="5"/>
                    </a:cubicBezTo>
                    <a:cubicBezTo>
                      <a:pt x="15128" y="4"/>
                      <a:pt x="15129" y="3"/>
                      <a:pt x="15130" y="3"/>
                    </a:cubicBezTo>
                    <a:close/>
                    <a:moveTo>
                      <a:pt x="15138" y="3"/>
                    </a:moveTo>
                    <a:lnTo>
                      <a:pt x="15138" y="3"/>
                    </a:lnTo>
                    <a:cubicBezTo>
                      <a:pt x="15139" y="3"/>
                      <a:pt x="15140" y="4"/>
                      <a:pt x="15140" y="5"/>
                    </a:cubicBezTo>
                    <a:cubicBezTo>
                      <a:pt x="15140" y="7"/>
                      <a:pt x="15139" y="7"/>
                      <a:pt x="15138" y="7"/>
                    </a:cubicBezTo>
                    <a:lnTo>
                      <a:pt x="15138" y="7"/>
                    </a:lnTo>
                    <a:cubicBezTo>
                      <a:pt x="15137" y="7"/>
                      <a:pt x="15136" y="7"/>
                      <a:pt x="15136" y="5"/>
                    </a:cubicBezTo>
                    <a:cubicBezTo>
                      <a:pt x="15136" y="4"/>
                      <a:pt x="15137" y="3"/>
                      <a:pt x="15138" y="3"/>
                    </a:cubicBezTo>
                    <a:close/>
                    <a:moveTo>
                      <a:pt x="15146" y="3"/>
                    </a:moveTo>
                    <a:lnTo>
                      <a:pt x="15146" y="3"/>
                    </a:lnTo>
                    <a:cubicBezTo>
                      <a:pt x="15147" y="3"/>
                      <a:pt x="15148" y="4"/>
                      <a:pt x="15148" y="5"/>
                    </a:cubicBezTo>
                    <a:cubicBezTo>
                      <a:pt x="15148" y="7"/>
                      <a:pt x="15147" y="7"/>
                      <a:pt x="15146" y="7"/>
                    </a:cubicBezTo>
                    <a:lnTo>
                      <a:pt x="15146" y="7"/>
                    </a:lnTo>
                    <a:cubicBezTo>
                      <a:pt x="15145" y="7"/>
                      <a:pt x="15144" y="7"/>
                      <a:pt x="15144" y="5"/>
                    </a:cubicBezTo>
                    <a:cubicBezTo>
                      <a:pt x="15144" y="4"/>
                      <a:pt x="15145" y="3"/>
                      <a:pt x="15146" y="3"/>
                    </a:cubicBezTo>
                    <a:close/>
                    <a:moveTo>
                      <a:pt x="15154" y="3"/>
                    </a:moveTo>
                    <a:lnTo>
                      <a:pt x="15154" y="3"/>
                    </a:lnTo>
                    <a:cubicBezTo>
                      <a:pt x="15155" y="3"/>
                      <a:pt x="15156" y="4"/>
                      <a:pt x="15156" y="5"/>
                    </a:cubicBezTo>
                    <a:cubicBezTo>
                      <a:pt x="15156" y="7"/>
                      <a:pt x="15155" y="7"/>
                      <a:pt x="15154" y="7"/>
                    </a:cubicBezTo>
                    <a:lnTo>
                      <a:pt x="15154" y="7"/>
                    </a:lnTo>
                    <a:cubicBezTo>
                      <a:pt x="15153" y="7"/>
                      <a:pt x="15152" y="7"/>
                      <a:pt x="15152" y="5"/>
                    </a:cubicBezTo>
                    <a:cubicBezTo>
                      <a:pt x="15152" y="4"/>
                      <a:pt x="15153" y="3"/>
                      <a:pt x="15154" y="3"/>
                    </a:cubicBezTo>
                    <a:close/>
                    <a:moveTo>
                      <a:pt x="15162" y="3"/>
                    </a:moveTo>
                    <a:lnTo>
                      <a:pt x="15162" y="3"/>
                    </a:lnTo>
                    <a:cubicBezTo>
                      <a:pt x="15163" y="3"/>
                      <a:pt x="15164" y="4"/>
                      <a:pt x="15164" y="5"/>
                    </a:cubicBezTo>
                    <a:cubicBezTo>
                      <a:pt x="15164" y="7"/>
                      <a:pt x="15163" y="7"/>
                      <a:pt x="15162" y="7"/>
                    </a:cubicBezTo>
                    <a:lnTo>
                      <a:pt x="15162" y="7"/>
                    </a:lnTo>
                    <a:cubicBezTo>
                      <a:pt x="15161" y="7"/>
                      <a:pt x="15160" y="7"/>
                      <a:pt x="15160" y="5"/>
                    </a:cubicBezTo>
                    <a:cubicBezTo>
                      <a:pt x="15160" y="4"/>
                      <a:pt x="15161" y="3"/>
                      <a:pt x="15162" y="3"/>
                    </a:cubicBezTo>
                    <a:close/>
                    <a:moveTo>
                      <a:pt x="15170" y="3"/>
                    </a:moveTo>
                    <a:lnTo>
                      <a:pt x="15170" y="3"/>
                    </a:lnTo>
                    <a:cubicBezTo>
                      <a:pt x="15171" y="3"/>
                      <a:pt x="15172" y="4"/>
                      <a:pt x="15172" y="5"/>
                    </a:cubicBezTo>
                    <a:cubicBezTo>
                      <a:pt x="15172" y="7"/>
                      <a:pt x="15171" y="7"/>
                      <a:pt x="15170" y="7"/>
                    </a:cubicBezTo>
                    <a:lnTo>
                      <a:pt x="15170" y="7"/>
                    </a:lnTo>
                    <a:cubicBezTo>
                      <a:pt x="15169" y="7"/>
                      <a:pt x="15168" y="7"/>
                      <a:pt x="15168" y="5"/>
                    </a:cubicBezTo>
                    <a:cubicBezTo>
                      <a:pt x="15168" y="4"/>
                      <a:pt x="15169" y="3"/>
                      <a:pt x="15170" y="3"/>
                    </a:cubicBezTo>
                    <a:close/>
                    <a:moveTo>
                      <a:pt x="15178" y="3"/>
                    </a:moveTo>
                    <a:lnTo>
                      <a:pt x="15178" y="3"/>
                    </a:lnTo>
                    <a:cubicBezTo>
                      <a:pt x="15179" y="3"/>
                      <a:pt x="15180" y="4"/>
                      <a:pt x="15180" y="5"/>
                    </a:cubicBezTo>
                    <a:cubicBezTo>
                      <a:pt x="15180" y="7"/>
                      <a:pt x="15179" y="7"/>
                      <a:pt x="15178" y="7"/>
                    </a:cubicBezTo>
                    <a:lnTo>
                      <a:pt x="15178" y="7"/>
                    </a:lnTo>
                    <a:cubicBezTo>
                      <a:pt x="15177" y="7"/>
                      <a:pt x="15176" y="7"/>
                      <a:pt x="15176" y="5"/>
                    </a:cubicBezTo>
                    <a:cubicBezTo>
                      <a:pt x="15176" y="4"/>
                      <a:pt x="15177" y="3"/>
                      <a:pt x="15178" y="3"/>
                    </a:cubicBezTo>
                    <a:close/>
                    <a:moveTo>
                      <a:pt x="15186" y="3"/>
                    </a:moveTo>
                    <a:lnTo>
                      <a:pt x="15186" y="3"/>
                    </a:lnTo>
                    <a:cubicBezTo>
                      <a:pt x="15187" y="3"/>
                      <a:pt x="15188" y="4"/>
                      <a:pt x="15188" y="5"/>
                    </a:cubicBezTo>
                    <a:cubicBezTo>
                      <a:pt x="15188" y="7"/>
                      <a:pt x="15187" y="7"/>
                      <a:pt x="15186" y="7"/>
                    </a:cubicBezTo>
                    <a:lnTo>
                      <a:pt x="15186" y="7"/>
                    </a:lnTo>
                    <a:cubicBezTo>
                      <a:pt x="15185" y="7"/>
                      <a:pt x="15184" y="7"/>
                      <a:pt x="15184" y="5"/>
                    </a:cubicBezTo>
                    <a:cubicBezTo>
                      <a:pt x="15184" y="4"/>
                      <a:pt x="15185" y="3"/>
                      <a:pt x="15186" y="3"/>
                    </a:cubicBezTo>
                    <a:close/>
                    <a:moveTo>
                      <a:pt x="15194" y="3"/>
                    </a:moveTo>
                    <a:lnTo>
                      <a:pt x="15194" y="3"/>
                    </a:lnTo>
                    <a:cubicBezTo>
                      <a:pt x="15195" y="3"/>
                      <a:pt x="15196" y="4"/>
                      <a:pt x="15196" y="5"/>
                    </a:cubicBezTo>
                    <a:cubicBezTo>
                      <a:pt x="15196" y="7"/>
                      <a:pt x="15195" y="7"/>
                      <a:pt x="15194" y="7"/>
                    </a:cubicBezTo>
                    <a:lnTo>
                      <a:pt x="15194" y="7"/>
                    </a:lnTo>
                    <a:cubicBezTo>
                      <a:pt x="15193" y="7"/>
                      <a:pt x="15192" y="7"/>
                      <a:pt x="15192" y="5"/>
                    </a:cubicBezTo>
                    <a:cubicBezTo>
                      <a:pt x="15192" y="4"/>
                      <a:pt x="15193" y="3"/>
                      <a:pt x="15194" y="3"/>
                    </a:cubicBezTo>
                    <a:close/>
                    <a:moveTo>
                      <a:pt x="15202" y="3"/>
                    </a:moveTo>
                    <a:lnTo>
                      <a:pt x="15202" y="3"/>
                    </a:lnTo>
                    <a:cubicBezTo>
                      <a:pt x="15203" y="3"/>
                      <a:pt x="15204" y="4"/>
                      <a:pt x="15204" y="5"/>
                    </a:cubicBezTo>
                    <a:cubicBezTo>
                      <a:pt x="15204" y="7"/>
                      <a:pt x="15203" y="7"/>
                      <a:pt x="15202" y="7"/>
                    </a:cubicBezTo>
                    <a:lnTo>
                      <a:pt x="15202" y="7"/>
                    </a:lnTo>
                    <a:cubicBezTo>
                      <a:pt x="15201" y="7"/>
                      <a:pt x="15200" y="7"/>
                      <a:pt x="15200" y="5"/>
                    </a:cubicBezTo>
                    <a:cubicBezTo>
                      <a:pt x="15200" y="4"/>
                      <a:pt x="15201" y="3"/>
                      <a:pt x="15202" y="3"/>
                    </a:cubicBezTo>
                    <a:close/>
                    <a:moveTo>
                      <a:pt x="15210" y="3"/>
                    </a:moveTo>
                    <a:lnTo>
                      <a:pt x="15210" y="3"/>
                    </a:lnTo>
                    <a:cubicBezTo>
                      <a:pt x="15211" y="3"/>
                      <a:pt x="15212" y="4"/>
                      <a:pt x="15212" y="5"/>
                    </a:cubicBezTo>
                    <a:cubicBezTo>
                      <a:pt x="15212" y="7"/>
                      <a:pt x="15211" y="7"/>
                      <a:pt x="15210" y="7"/>
                    </a:cubicBezTo>
                    <a:lnTo>
                      <a:pt x="15210" y="7"/>
                    </a:lnTo>
                    <a:cubicBezTo>
                      <a:pt x="15209" y="7"/>
                      <a:pt x="15208" y="7"/>
                      <a:pt x="15208" y="5"/>
                    </a:cubicBezTo>
                    <a:cubicBezTo>
                      <a:pt x="15208" y="4"/>
                      <a:pt x="15209" y="3"/>
                      <a:pt x="15210" y="3"/>
                    </a:cubicBezTo>
                    <a:close/>
                    <a:moveTo>
                      <a:pt x="15218" y="3"/>
                    </a:moveTo>
                    <a:lnTo>
                      <a:pt x="15218" y="3"/>
                    </a:lnTo>
                    <a:cubicBezTo>
                      <a:pt x="15219" y="3"/>
                      <a:pt x="15220" y="4"/>
                      <a:pt x="15220" y="5"/>
                    </a:cubicBezTo>
                    <a:cubicBezTo>
                      <a:pt x="15220" y="7"/>
                      <a:pt x="15219" y="7"/>
                      <a:pt x="15218" y="7"/>
                    </a:cubicBezTo>
                    <a:lnTo>
                      <a:pt x="15218" y="7"/>
                    </a:lnTo>
                    <a:cubicBezTo>
                      <a:pt x="15217" y="7"/>
                      <a:pt x="15216" y="7"/>
                      <a:pt x="15216" y="5"/>
                    </a:cubicBezTo>
                    <a:cubicBezTo>
                      <a:pt x="15216" y="4"/>
                      <a:pt x="15217" y="3"/>
                      <a:pt x="15218" y="3"/>
                    </a:cubicBezTo>
                    <a:close/>
                    <a:moveTo>
                      <a:pt x="15226" y="3"/>
                    </a:moveTo>
                    <a:lnTo>
                      <a:pt x="15226" y="3"/>
                    </a:lnTo>
                    <a:cubicBezTo>
                      <a:pt x="15227" y="3"/>
                      <a:pt x="15228" y="4"/>
                      <a:pt x="15228" y="5"/>
                    </a:cubicBezTo>
                    <a:cubicBezTo>
                      <a:pt x="15228" y="7"/>
                      <a:pt x="15227" y="7"/>
                      <a:pt x="15226" y="7"/>
                    </a:cubicBezTo>
                    <a:lnTo>
                      <a:pt x="15226" y="7"/>
                    </a:lnTo>
                    <a:cubicBezTo>
                      <a:pt x="15225" y="7"/>
                      <a:pt x="15224" y="7"/>
                      <a:pt x="15224" y="5"/>
                    </a:cubicBezTo>
                    <a:cubicBezTo>
                      <a:pt x="15224" y="4"/>
                      <a:pt x="15225" y="3"/>
                      <a:pt x="15226" y="3"/>
                    </a:cubicBezTo>
                    <a:close/>
                    <a:moveTo>
                      <a:pt x="15234" y="3"/>
                    </a:moveTo>
                    <a:lnTo>
                      <a:pt x="15234" y="3"/>
                    </a:lnTo>
                    <a:cubicBezTo>
                      <a:pt x="15235" y="3"/>
                      <a:pt x="15236" y="4"/>
                      <a:pt x="15236" y="6"/>
                    </a:cubicBezTo>
                    <a:cubicBezTo>
                      <a:pt x="15236" y="7"/>
                      <a:pt x="15235" y="8"/>
                      <a:pt x="15234" y="8"/>
                    </a:cubicBezTo>
                    <a:lnTo>
                      <a:pt x="15234" y="8"/>
                    </a:lnTo>
                    <a:cubicBezTo>
                      <a:pt x="15233" y="8"/>
                      <a:pt x="15232" y="7"/>
                      <a:pt x="15232" y="6"/>
                    </a:cubicBezTo>
                    <a:cubicBezTo>
                      <a:pt x="15232" y="4"/>
                      <a:pt x="15233" y="3"/>
                      <a:pt x="15234" y="3"/>
                    </a:cubicBezTo>
                    <a:close/>
                    <a:moveTo>
                      <a:pt x="15242" y="4"/>
                    </a:moveTo>
                    <a:lnTo>
                      <a:pt x="15242" y="4"/>
                    </a:lnTo>
                    <a:cubicBezTo>
                      <a:pt x="15243" y="4"/>
                      <a:pt x="15244" y="4"/>
                      <a:pt x="15244" y="6"/>
                    </a:cubicBezTo>
                    <a:cubicBezTo>
                      <a:pt x="15244" y="7"/>
                      <a:pt x="15243" y="8"/>
                      <a:pt x="15242" y="8"/>
                    </a:cubicBezTo>
                    <a:lnTo>
                      <a:pt x="15242" y="8"/>
                    </a:lnTo>
                    <a:cubicBezTo>
                      <a:pt x="15241" y="8"/>
                      <a:pt x="15240" y="7"/>
                      <a:pt x="15240" y="6"/>
                    </a:cubicBezTo>
                    <a:cubicBezTo>
                      <a:pt x="15240" y="4"/>
                      <a:pt x="15241" y="4"/>
                      <a:pt x="15242" y="4"/>
                    </a:cubicBezTo>
                    <a:close/>
                    <a:moveTo>
                      <a:pt x="15250" y="4"/>
                    </a:moveTo>
                    <a:lnTo>
                      <a:pt x="15250" y="4"/>
                    </a:lnTo>
                    <a:cubicBezTo>
                      <a:pt x="15251" y="4"/>
                      <a:pt x="15252" y="4"/>
                      <a:pt x="15252" y="6"/>
                    </a:cubicBezTo>
                    <a:cubicBezTo>
                      <a:pt x="15252" y="7"/>
                      <a:pt x="15251" y="8"/>
                      <a:pt x="15250" y="8"/>
                    </a:cubicBezTo>
                    <a:lnTo>
                      <a:pt x="15250" y="8"/>
                    </a:lnTo>
                    <a:cubicBezTo>
                      <a:pt x="15249" y="8"/>
                      <a:pt x="15248" y="7"/>
                      <a:pt x="15248" y="6"/>
                    </a:cubicBezTo>
                    <a:cubicBezTo>
                      <a:pt x="15248" y="4"/>
                      <a:pt x="15249" y="4"/>
                      <a:pt x="15250" y="4"/>
                    </a:cubicBezTo>
                    <a:close/>
                    <a:moveTo>
                      <a:pt x="15258" y="4"/>
                    </a:moveTo>
                    <a:lnTo>
                      <a:pt x="15258" y="4"/>
                    </a:lnTo>
                    <a:cubicBezTo>
                      <a:pt x="15259" y="4"/>
                      <a:pt x="15260" y="4"/>
                      <a:pt x="15260" y="6"/>
                    </a:cubicBezTo>
                    <a:cubicBezTo>
                      <a:pt x="15260" y="7"/>
                      <a:pt x="15259" y="8"/>
                      <a:pt x="15258" y="8"/>
                    </a:cubicBezTo>
                    <a:lnTo>
                      <a:pt x="15258" y="8"/>
                    </a:lnTo>
                    <a:cubicBezTo>
                      <a:pt x="15257" y="8"/>
                      <a:pt x="15256" y="7"/>
                      <a:pt x="15256" y="6"/>
                    </a:cubicBezTo>
                    <a:cubicBezTo>
                      <a:pt x="15256" y="4"/>
                      <a:pt x="15257" y="4"/>
                      <a:pt x="15258" y="4"/>
                    </a:cubicBezTo>
                    <a:close/>
                    <a:moveTo>
                      <a:pt x="15266" y="4"/>
                    </a:moveTo>
                    <a:lnTo>
                      <a:pt x="15266" y="4"/>
                    </a:lnTo>
                    <a:cubicBezTo>
                      <a:pt x="15267" y="4"/>
                      <a:pt x="15268" y="4"/>
                      <a:pt x="15268" y="6"/>
                    </a:cubicBezTo>
                    <a:cubicBezTo>
                      <a:pt x="15268" y="7"/>
                      <a:pt x="15267" y="8"/>
                      <a:pt x="15266" y="8"/>
                    </a:cubicBezTo>
                    <a:lnTo>
                      <a:pt x="15266" y="8"/>
                    </a:lnTo>
                    <a:cubicBezTo>
                      <a:pt x="15265" y="8"/>
                      <a:pt x="15264" y="7"/>
                      <a:pt x="15264" y="6"/>
                    </a:cubicBezTo>
                    <a:cubicBezTo>
                      <a:pt x="15264" y="4"/>
                      <a:pt x="15265" y="4"/>
                      <a:pt x="15266" y="4"/>
                    </a:cubicBezTo>
                    <a:close/>
                    <a:moveTo>
                      <a:pt x="15274" y="4"/>
                    </a:moveTo>
                    <a:lnTo>
                      <a:pt x="15274" y="4"/>
                    </a:lnTo>
                    <a:cubicBezTo>
                      <a:pt x="15275" y="4"/>
                      <a:pt x="15276" y="4"/>
                      <a:pt x="15276" y="6"/>
                    </a:cubicBezTo>
                    <a:cubicBezTo>
                      <a:pt x="15276" y="7"/>
                      <a:pt x="15275" y="8"/>
                      <a:pt x="15274" y="8"/>
                    </a:cubicBezTo>
                    <a:lnTo>
                      <a:pt x="15274" y="8"/>
                    </a:lnTo>
                    <a:cubicBezTo>
                      <a:pt x="15273" y="8"/>
                      <a:pt x="15272" y="7"/>
                      <a:pt x="15272" y="6"/>
                    </a:cubicBezTo>
                    <a:cubicBezTo>
                      <a:pt x="15272" y="4"/>
                      <a:pt x="15273" y="4"/>
                      <a:pt x="15274" y="4"/>
                    </a:cubicBezTo>
                    <a:close/>
                    <a:moveTo>
                      <a:pt x="15282" y="4"/>
                    </a:moveTo>
                    <a:lnTo>
                      <a:pt x="15282" y="4"/>
                    </a:lnTo>
                    <a:cubicBezTo>
                      <a:pt x="15283" y="4"/>
                      <a:pt x="15284" y="4"/>
                      <a:pt x="15284" y="6"/>
                    </a:cubicBezTo>
                    <a:cubicBezTo>
                      <a:pt x="15284" y="7"/>
                      <a:pt x="15283" y="8"/>
                      <a:pt x="15282" y="8"/>
                    </a:cubicBezTo>
                    <a:lnTo>
                      <a:pt x="15282" y="8"/>
                    </a:lnTo>
                    <a:cubicBezTo>
                      <a:pt x="15281" y="8"/>
                      <a:pt x="15280" y="7"/>
                      <a:pt x="15280" y="6"/>
                    </a:cubicBezTo>
                    <a:cubicBezTo>
                      <a:pt x="15280" y="4"/>
                      <a:pt x="15281" y="4"/>
                      <a:pt x="15282" y="4"/>
                    </a:cubicBezTo>
                    <a:close/>
                    <a:moveTo>
                      <a:pt x="15290" y="4"/>
                    </a:moveTo>
                    <a:lnTo>
                      <a:pt x="15290" y="4"/>
                    </a:lnTo>
                    <a:cubicBezTo>
                      <a:pt x="15291" y="4"/>
                      <a:pt x="15292" y="4"/>
                      <a:pt x="15292" y="6"/>
                    </a:cubicBezTo>
                    <a:cubicBezTo>
                      <a:pt x="15292" y="7"/>
                      <a:pt x="15291" y="8"/>
                      <a:pt x="15290" y="8"/>
                    </a:cubicBezTo>
                    <a:lnTo>
                      <a:pt x="15290" y="8"/>
                    </a:lnTo>
                    <a:cubicBezTo>
                      <a:pt x="15289" y="8"/>
                      <a:pt x="15288" y="7"/>
                      <a:pt x="15288" y="6"/>
                    </a:cubicBezTo>
                    <a:cubicBezTo>
                      <a:pt x="15288" y="4"/>
                      <a:pt x="15289" y="4"/>
                      <a:pt x="15290" y="4"/>
                    </a:cubicBezTo>
                    <a:close/>
                    <a:moveTo>
                      <a:pt x="15298" y="4"/>
                    </a:moveTo>
                    <a:lnTo>
                      <a:pt x="15298" y="4"/>
                    </a:lnTo>
                    <a:cubicBezTo>
                      <a:pt x="15299" y="4"/>
                      <a:pt x="15300" y="4"/>
                      <a:pt x="15300" y="6"/>
                    </a:cubicBezTo>
                    <a:cubicBezTo>
                      <a:pt x="15300" y="7"/>
                      <a:pt x="15299" y="8"/>
                      <a:pt x="15298" y="8"/>
                    </a:cubicBezTo>
                    <a:lnTo>
                      <a:pt x="15298" y="8"/>
                    </a:lnTo>
                    <a:cubicBezTo>
                      <a:pt x="15297" y="8"/>
                      <a:pt x="15296" y="7"/>
                      <a:pt x="15296" y="6"/>
                    </a:cubicBezTo>
                    <a:cubicBezTo>
                      <a:pt x="15296" y="4"/>
                      <a:pt x="15297" y="4"/>
                      <a:pt x="15298" y="4"/>
                    </a:cubicBezTo>
                    <a:close/>
                    <a:moveTo>
                      <a:pt x="15306" y="4"/>
                    </a:moveTo>
                    <a:lnTo>
                      <a:pt x="15306" y="4"/>
                    </a:lnTo>
                    <a:cubicBezTo>
                      <a:pt x="15307" y="4"/>
                      <a:pt x="15308" y="4"/>
                      <a:pt x="15308" y="6"/>
                    </a:cubicBezTo>
                    <a:cubicBezTo>
                      <a:pt x="15308" y="7"/>
                      <a:pt x="15307" y="8"/>
                      <a:pt x="15306" y="8"/>
                    </a:cubicBezTo>
                    <a:lnTo>
                      <a:pt x="15306" y="8"/>
                    </a:lnTo>
                    <a:cubicBezTo>
                      <a:pt x="15305" y="8"/>
                      <a:pt x="15304" y="7"/>
                      <a:pt x="15304" y="6"/>
                    </a:cubicBezTo>
                    <a:cubicBezTo>
                      <a:pt x="15304" y="4"/>
                      <a:pt x="15305" y="4"/>
                      <a:pt x="15306" y="4"/>
                    </a:cubicBezTo>
                    <a:close/>
                    <a:moveTo>
                      <a:pt x="15314" y="4"/>
                    </a:moveTo>
                    <a:lnTo>
                      <a:pt x="15314" y="4"/>
                    </a:lnTo>
                    <a:cubicBezTo>
                      <a:pt x="15315" y="4"/>
                      <a:pt x="15316" y="4"/>
                      <a:pt x="15316" y="6"/>
                    </a:cubicBezTo>
                    <a:cubicBezTo>
                      <a:pt x="15316" y="7"/>
                      <a:pt x="15315" y="8"/>
                      <a:pt x="15314" y="8"/>
                    </a:cubicBezTo>
                    <a:lnTo>
                      <a:pt x="15314" y="8"/>
                    </a:lnTo>
                    <a:cubicBezTo>
                      <a:pt x="15313" y="8"/>
                      <a:pt x="15312" y="7"/>
                      <a:pt x="15312" y="6"/>
                    </a:cubicBezTo>
                    <a:cubicBezTo>
                      <a:pt x="15312" y="4"/>
                      <a:pt x="15313" y="4"/>
                      <a:pt x="15314" y="4"/>
                    </a:cubicBezTo>
                    <a:close/>
                    <a:moveTo>
                      <a:pt x="15322" y="4"/>
                    </a:moveTo>
                    <a:lnTo>
                      <a:pt x="15322" y="4"/>
                    </a:lnTo>
                    <a:cubicBezTo>
                      <a:pt x="15323" y="4"/>
                      <a:pt x="15324" y="4"/>
                      <a:pt x="15324" y="6"/>
                    </a:cubicBezTo>
                    <a:cubicBezTo>
                      <a:pt x="15324" y="7"/>
                      <a:pt x="15323" y="8"/>
                      <a:pt x="15322" y="8"/>
                    </a:cubicBezTo>
                    <a:lnTo>
                      <a:pt x="15322" y="8"/>
                    </a:lnTo>
                    <a:cubicBezTo>
                      <a:pt x="15321" y="8"/>
                      <a:pt x="15320" y="7"/>
                      <a:pt x="15320" y="6"/>
                    </a:cubicBezTo>
                    <a:cubicBezTo>
                      <a:pt x="15320" y="4"/>
                      <a:pt x="15321" y="4"/>
                      <a:pt x="15322" y="4"/>
                    </a:cubicBezTo>
                    <a:close/>
                    <a:moveTo>
                      <a:pt x="15330" y="4"/>
                    </a:moveTo>
                    <a:lnTo>
                      <a:pt x="15330" y="4"/>
                    </a:lnTo>
                    <a:cubicBezTo>
                      <a:pt x="15331" y="4"/>
                      <a:pt x="15332" y="4"/>
                      <a:pt x="15332" y="6"/>
                    </a:cubicBezTo>
                    <a:cubicBezTo>
                      <a:pt x="15332" y="7"/>
                      <a:pt x="15331" y="8"/>
                      <a:pt x="15330" y="8"/>
                    </a:cubicBezTo>
                    <a:lnTo>
                      <a:pt x="15330" y="8"/>
                    </a:lnTo>
                    <a:cubicBezTo>
                      <a:pt x="15329" y="8"/>
                      <a:pt x="15328" y="7"/>
                      <a:pt x="15328" y="6"/>
                    </a:cubicBezTo>
                    <a:cubicBezTo>
                      <a:pt x="15328" y="4"/>
                      <a:pt x="15329" y="4"/>
                      <a:pt x="15330" y="4"/>
                    </a:cubicBezTo>
                    <a:close/>
                    <a:moveTo>
                      <a:pt x="15338" y="4"/>
                    </a:moveTo>
                    <a:lnTo>
                      <a:pt x="15338" y="4"/>
                    </a:lnTo>
                    <a:cubicBezTo>
                      <a:pt x="15339" y="4"/>
                      <a:pt x="15340" y="4"/>
                      <a:pt x="15340" y="6"/>
                    </a:cubicBezTo>
                    <a:cubicBezTo>
                      <a:pt x="15340" y="7"/>
                      <a:pt x="15339" y="8"/>
                      <a:pt x="15338" y="8"/>
                    </a:cubicBezTo>
                    <a:lnTo>
                      <a:pt x="15338" y="8"/>
                    </a:lnTo>
                    <a:cubicBezTo>
                      <a:pt x="15337" y="8"/>
                      <a:pt x="15336" y="7"/>
                      <a:pt x="15336" y="6"/>
                    </a:cubicBezTo>
                    <a:cubicBezTo>
                      <a:pt x="15336" y="4"/>
                      <a:pt x="15337" y="4"/>
                      <a:pt x="15338" y="4"/>
                    </a:cubicBezTo>
                    <a:close/>
                    <a:moveTo>
                      <a:pt x="15346" y="4"/>
                    </a:moveTo>
                    <a:lnTo>
                      <a:pt x="15346" y="4"/>
                    </a:lnTo>
                    <a:cubicBezTo>
                      <a:pt x="15347" y="4"/>
                      <a:pt x="15348" y="4"/>
                      <a:pt x="15348" y="6"/>
                    </a:cubicBezTo>
                    <a:cubicBezTo>
                      <a:pt x="15348" y="7"/>
                      <a:pt x="15347" y="8"/>
                      <a:pt x="15346" y="8"/>
                    </a:cubicBezTo>
                    <a:lnTo>
                      <a:pt x="15346" y="8"/>
                    </a:lnTo>
                    <a:cubicBezTo>
                      <a:pt x="15345" y="8"/>
                      <a:pt x="15344" y="7"/>
                      <a:pt x="15344" y="6"/>
                    </a:cubicBezTo>
                    <a:cubicBezTo>
                      <a:pt x="15344" y="4"/>
                      <a:pt x="15345" y="4"/>
                      <a:pt x="15346" y="4"/>
                    </a:cubicBezTo>
                    <a:close/>
                    <a:moveTo>
                      <a:pt x="15354" y="4"/>
                    </a:moveTo>
                    <a:lnTo>
                      <a:pt x="15354" y="4"/>
                    </a:lnTo>
                    <a:cubicBezTo>
                      <a:pt x="15355" y="4"/>
                      <a:pt x="15356" y="4"/>
                      <a:pt x="15356" y="6"/>
                    </a:cubicBezTo>
                    <a:cubicBezTo>
                      <a:pt x="15356" y="7"/>
                      <a:pt x="15355" y="8"/>
                      <a:pt x="15354" y="8"/>
                    </a:cubicBezTo>
                    <a:lnTo>
                      <a:pt x="15354" y="8"/>
                    </a:lnTo>
                    <a:cubicBezTo>
                      <a:pt x="15353" y="8"/>
                      <a:pt x="15352" y="7"/>
                      <a:pt x="15352" y="6"/>
                    </a:cubicBezTo>
                    <a:cubicBezTo>
                      <a:pt x="15352" y="4"/>
                      <a:pt x="15353" y="4"/>
                      <a:pt x="15354" y="4"/>
                    </a:cubicBezTo>
                    <a:close/>
                    <a:moveTo>
                      <a:pt x="15362" y="4"/>
                    </a:moveTo>
                    <a:lnTo>
                      <a:pt x="15362" y="4"/>
                    </a:lnTo>
                    <a:cubicBezTo>
                      <a:pt x="15363" y="4"/>
                      <a:pt x="15364" y="4"/>
                      <a:pt x="15364" y="6"/>
                    </a:cubicBezTo>
                    <a:cubicBezTo>
                      <a:pt x="15364" y="7"/>
                      <a:pt x="15363" y="8"/>
                      <a:pt x="15362" y="8"/>
                    </a:cubicBezTo>
                    <a:lnTo>
                      <a:pt x="15362" y="8"/>
                    </a:lnTo>
                    <a:cubicBezTo>
                      <a:pt x="15361" y="8"/>
                      <a:pt x="15360" y="7"/>
                      <a:pt x="15360" y="6"/>
                    </a:cubicBezTo>
                    <a:cubicBezTo>
                      <a:pt x="15360" y="4"/>
                      <a:pt x="15361" y="4"/>
                      <a:pt x="15362" y="4"/>
                    </a:cubicBezTo>
                    <a:close/>
                    <a:moveTo>
                      <a:pt x="15370" y="4"/>
                    </a:moveTo>
                    <a:lnTo>
                      <a:pt x="15370" y="4"/>
                    </a:lnTo>
                    <a:cubicBezTo>
                      <a:pt x="15371" y="4"/>
                      <a:pt x="15372" y="4"/>
                      <a:pt x="15372" y="6"/>
                    </a:cubicBezTo>
                    <a:cubicBezTo>
                      <a:pt x="15372" y="7"/>
                      <a:pt x="15371" y="8"/>
                      <a:pt x="15370" y="8"/>
                    </a:cubicBezTo>
                    <a:lnTo>
                      <a:pt x="15370" y="8"/>
                    </a:lnTo>
                    <a:cubicBezTo>
                      <a:pt x="15369" y="8"/>
                      <a:pt x="15368" y="7"/>
                      <a:pt x="15368" y="6"/>
                    </a:cubicBezTo>
                    <a:cubicBezTo>
                      <a:pt x="15368" y="4"/>
                      <a:pt x="15369" y="4"/>
                      <a:pt x="15370" y="4"/>
                    </a:cubicBezTo>
                    <a:close/>
                    <a:moveTo>
                      <a:pt x="15378" y="4"/>
                    </a:moveTo>
                    <a:lnTo>
                      <a:pt x="15378" y="4"/>
                    </a:lnTo>
                    <a:cubicBezTo>
                      <a:pt x="15379" y="4"/>
                      <a:pt x="15380" y="4"/>
                      <a:pt x="15380" y="6"/>
                    </a:cubicBezTo>
                    <a:cubicBezTo>
                      <a:pt x="15380" y="7"/>
                      <a:pt x="15379" y="8"/>
                      <a:pt x="15378" y="8"/>
                    </a:cubicBezTo>
                    <a:lnTo>
                      <a:pt x="15378" y="8"/>
                    </a:lnTo>
                    <a:cubicBezTo>
                      <a:pt x="15377" y="8"/>
                      <a:pt x="15376" y="7"/>
                      <a:pt x="15376" y="6"/>
                    </a:cubicBezTo>
                    <a:cubicBezTo>
                      <a:pt x="15376" y="4"/>
                      <a:pt x="15377" y="4"/>
                      <a:pt x="15378" y="4"/>
                    </a:cubicBezTo>
                    <a:close/>
                    <a:moveTo>
                      <a:pt x="15386" y="4"/>
                    </a:moveTo>
                    <a:lnTo>
                      <a:pt x="15386" y="4"/>
                    </a:lnTo>
                    <a:cubicBezTo>
                      <a:pt x="15387" y="4"/>
                      <a:pt x="15388" y="4"/>
                      <a:pt x="15388" y="6"/>
                    </a:cubicBezTo>
                    <a:cubicBezTo>
                      <a:pt x="15388" y="7"/>
                      <a:pt x="15387" y="8"/>
                      <a:pt x="15386" y="8"/>
                    </a:cubicBezTo>
                    <a:lnTo>
                      <a:pt x="15386" y="8"/>
                    </a:lnTo>
                    <a:cubicBezTo>
                      <a:pt x="15385" y="8"/>
                      <a:pt x="15384" y="7"/>
                      <a:pt x="15384" y="6"/>
                    </a:cubicBezTo>
                    <a:cubicBezTo>
                      <a:pt x="15384" y="4"/>
                      <a:pt x="15385" y="4"/>
                      <a:pt x="15386" y="4"/>
                    </a:cubicBezTo>
                    <a:close/>
                    <a:moveTo>
                      <a:pt x="15394" y="4"/>
                    </a:moveTo>
                    <a:lnTo>
                      <a:pt x="15394" y="4"/>
                    </a:lnTo>
                    <a:cubicBezTo>
                      <a:pt x="15395" y="4"/>
                      <a:pt x="15396" y="4"/>
                      <a:pt x="15396" y="6"/>
                    </a:cubicBezTo>
                    <a:cubicBezTo>
                      <a:pt x="15396" y="7"/>
                      <a:pt x="15395" y="8"/>
                      <a:pt x="15394" y="8"/>
                    </a:cubicBezTo>
                    <a:lnTo>
                      <a:pt x="15394" y="8"/>
                    </a:lnTo>
                    <a:cubicBezTo>
                      <a:pt x="15393" y="8"/>
                      <a:pt x="15392" y="7"/>
                      <a:pt x="15392" y="6"/>
                    </a:cubicBezTo>
                    <a:cubicBezTo>
                      <a:pt x="15392" y="4"/>
                      <a:pt x="15393" y="4"/>
                      <a:pt x="15394" y="4"/>
                    </a:cubicBezTo>
                    <a:close/>
                    <a:moveTo>
                      <a:pt x="15402" y="4"/>
                    </a:moveTo>
                    <a:lnTo>
                      <a:pt x="15402" y="4"/>
                    </a:lnTo>
                    <a:cubicBezTo>
                      <a:pt x="15403" y="4"/>
                      <a:pt x="15404" y="4"/>
                      <a:pt x="15404" y="6"/>
                    </a:cubicBezTo>
                    <a:cubicBezTo>
                      <a:pt x="15404" y="7"/>
                      <a:pt x="15403" y="8"/>
                      <a:pt x="15402" y="8"/>
                    </a:cubicBezTo>
                    <a:lnTo>
                      <a:pt x="15402" y="8"/>
                    </a:lnTo>
                    <a:cubicBezTo>
                      <a:pt x="15401" y="8"/>
                      <a:pt x="15400" y="7"/>
                      <a:pt x="15400" y="6"/>
                    </a:cubicBezTo>
                    <a:cubicBezTo>
                      <a:pt x="15400" y="4"/>
                      <a:pt x="15401" y="4"/>
                      <a:pt x="15402" y="4"/>
                    </a:cubicBezTo>
                    <a:close/>
                    <a:moveTo>
                      <a:pt x="15410" y="4"/>
                    </a:moveTo>
                    <a:lnTo>
                      <a:pt x="15410" y="4"/>
                    </a:lnTo>
                    <a:cubicBezTo>
                      <a:pt x="15411" y="4"/>
                      <a:pt x="15412" y="4"/>
                      <a:pt x="15412" y="6"/>
                    </a:cubicBezTo>
                    <a:cubicBezTo>
                      <a:pt x="15412" y="7"/>
                      <a:pt x="15411" y="8"/>
                      <a:pt x="15410" y="8"/>
                    </a:cubicBezTo>
                    <a:lnTo>
                      <a:pt x="15410" y="8"/>
                    </a:lnTo>
                    <a:cubicBezTo>
                      <a:pt x="15409" y="8"/>
                      <a:pt x="15408" y="7"/>
                      <a:pt x="15408" y="6"/>
                    </a:cubicBezTo>
                    <a:cubicBezTo>
                      <a:pt x="15408" y="4"/>
                      <a:pt x="15409" y="4"/>
                      <a:pt x="15410" y="4"/>
                    </a:cubicBezTo>
                    <a:close/>
                    <a:moveTo>
                      <a:pt x="15418" y="4"/>
                    </a:moveTo>
                    <a:lnTo>
                      <a:pt x="15418" y="4"/>
                    </a:lnTo>
                    <a:cubicBezTo>
                      <a:pt x="15419" y="4"/>
                      <a:pt x="15420" y="4"/>
                      <a:pt x="15420" y="6"/>
                    </a:cubicBezTo>
                    <a:cubicBezTo>
                      <a:pt x="15420" y="7"/>
                      <a:pt x="15419" y="8"/>
                      <a:pt x="15418" y="8"/>
                    </a:cubicBezTo>
                    <a:lnTo>
                      <a:pt x="15418" y="8"/>
                    </a:lnTo>
                    <a:cubicBezTo>
                      <a:pt x="15417" y="8"/>
                      <a:pt x="15416" y="7"/>
                      <a:pt x="15416" y="6"/>
                    </a:cubicBezTo>
                    <a:cubicBezTo>
                      <a:pt x="15416" y="4"/>
                      <a:pt x="15417" y="4"/>
                      <a:pt x="15418" y="4"/>
                    </a:cubicBezTo>
                    <a:close/>
                    <a:moveTo>
                      <a:pt x="15426" y="4"/>
                    </a:moveTo>
                    <a:lnTo>
                      <a:pt x="15426" y="4"/>
                    </a:lnTo>
                    <a:cubicBezTo>
                      <a:pt x="15427" y="4"/>
                      <a:pt x="15428" y="4"/>
                      <a:pt x="15428" y="6"/>
                    </a:cubicBezTo>
                    <a:cubicBezTo>
                      <a:pt x="15428" y="7"/>
                      <a:pt x="15427" y="8"/>
                      <a:pt x="15426" y="8"/>
                    </a:cubicBezTo>
                    <a:lnTo>
                      <a:pt x="15426" y="8"/>
                    </a:lnTo>
                    <a:cubicBezTo>
                      <a:pt x="15425" y="8"/>
                      <a:pt x="15424" y="7"/>
                      <a:pt x="15424" y="6"/>
                    </a:cubicBezTo>
                    <a:cubicBezTo>
                      <a:pt x="15424" y="4"/>
                      <a:pt x="15425" y="4"/>
                      <a:pt x="15426" y="4"/>
                    </a:cubicBezTo>
                    <a:close/>
                    <a:moveTo>
                      <a:pt x="15434" y="4"/>
                    </a:moveTo>
                    <a:lnTo>
                      <a:pt x="15434" y="4"/>
                    </a:lnTo>
                    <a:cubicBezTo>
                      <a:pt x="15435" y="4"/>
                      <a:pt x="15436" y="4"/>
                      <a:pt x="15436" y="6"/>
                    </a:cubicBezTo>
                    <a:cubicBezTo>
                      <a:pt x="15436" y="7"/>
                      <a:pt x="15435" y="8"/>
                      <a:pt x="15434" y="8"/>
                    </a:cubicBezTo>
                    <a:lnTo>
                      <a:pt x="15434" y="8"/>
                    </a:lnTo>
                    <a:cubicBezTo>
                      <a:pt x="15433" y="8"/>
                      <a:pt x="15432" y="7"/>
                      <a:pt x="15432" y="6"/>
                    </a:cubicBezTo>
                    <a:cubicBezTo>
                      <a:pt x="15432" y="4"/>
                      <a:pt x="15433" y="4"/>
                      <a:pt x="15434" y="4"/>
                    </a:cubicBezTo>
                    <a:close/>
                    <a:moveTo>
                      <a:pt x="15442" y="4"/>
                    </a:moveTo>
                    <a:lnTo>
                      <a:pt x="15442" y="4"/>
                    </a:lnTo>
                    <a:cubicBezTo>
                      <a:pt x="15443" y="4"/>
                      <a:pt x="15444" y="4"/>
                      <a:pt x="15444" y="6"/>
                    </a:cubicBezTo>
                    <a:cubicBezTo>
                      <a:pt x="15444" y="7"/>
                      <a:pt x="15443" y="8"/>
                      <a:pt x="15442" y="8"/>
                    </a:cubicBezTo>
                    <a:lnTo>
                      <a:pt x="15442" y="8"/>
                    </a:lnTo>
                    <a:cubicBezTo>
                      <a:pt x="15441" y="8"/>
                      <a:pt x="15440" y="7"/>
                      <a:pt x="15440" y="6"/>
                    </a:cubicBezTo>
                    <a:cubicBezTo>
                      <a:pt x="15440" y="4"/>
                      <a:pt x="15441" y="4"/>
                      <a:pt x="15442" y="4"/>
                    </a:cubicBezTo>
                    <a:close/>
                    <a:moveTo>
                      <a:pt x="15450" y="4"/>
                    </a:moveTo>
                    <a:lnTo>
                      <a:pt x="15450" y="4"/>
                    </a:lnTo>
                    <a:cubicBezTo>
                      <a:pt x="15451" y="4"/>
                      <a:pt x="15452" y="4"/>
                      <a:pt x="15452" y="6"/>
                    </a:cubicBezTo>
                    <a:cubicBezTo>
                      <a:pt x="15452" y="7"/>
                      <a:pt x="15451" y="8"/>
                      <a:pt x="15450" y="8"/>
                    </a:cubicBezTo>
                    <a:lnTo>
                      <a:pt x="15450" y="8"/>
                    </a:lnTo>
                    <a:cubicBezTo>
                      <a:pt x="15449" y="8"/>
                      <a:pt x="15448" y="7"/>
                      <a:pt x="15448" y="6"/>
                    </a:cubicBezTo>
                    <a:cubicBezTo>
                      <a:pt x="15448" y="4"/>
                      <a:pt x="15449" y="4"/>
                      <a:pt x="15450" y="4"/>
                    </a:cubicBezTo>
                    <a:close/>
                    <a:moveTo>
                      <a:pt x="15458" y="4"/>
                    </a:moveTo>
                    <a:lnTo>
                      <a:pt x="15458" y="4"/>
                    </a:lnTo>
                    <a:cubicBezTo>
                      <a:pt x="15459" y="4"/>
                      <a:pt x="15460" y="4"/>
                      <a:pt x="15460" y="6"/>
                    </a:cubicBezTo>
                    <a:cubicBezTo>
                      <a:pt x="15460" y="7"/>
                      <a:pt x="15459" y="8"/>
                      <a:pt x="15458" y="8"/>
                    </a:cubicBezTo>
                    <a:lnTo>
                      <a:pt x="15458" y="8"/>
                    </a:lnTo>
                    <a:cubicBezTo>
                      <a:pt x="15457" y="8"/>
                      <a:pt x="15456" y="7"/>
                      <a:pt x="15456" y="6"/>
                    </a:cubicBezTo>
                    <a:cubicBezTo>
                      <a:pt x="15456" y="4"/>
                      <a:pt x="15457" y="4"/>
                      <a:pt x="15458" y="4"/>
                    </a:cubicBezTo>
                    <a:close/>
                    <a:moveTo>
                      <a:pt x="15466" y="4"/>
                    </a:moveTo>
                    <a:lnTo>
                      <a:pt x="15466" y="4"/>
                    </a:lnTo>
                    <a:cubicBezTo>
                      <a:pt x="15467" y="4"/>
                      <a:pt x="15468" y="4"/>
                      <a:pt x="15468" y="6"/>
                    </a:cubicBezTo>
                    <a:cubicBezTo>
                      <a:pt x="15468" y="7"/>
                      <a:pt x="15467" y="8"/>
                      <a:pt x="15466" y="8"/>
                    </a:cubicBezTo>
                    <a:lnTo>
                      <a:pt x="15466" y="8"/>
                    </a:lnTo>
                    <a:cubicBezTo>
                      <a:pt x="15465" y="8"/>
                      <a:pt x="15464" y="7"/>
                      <a:pt x="15464" y="6"/>
                    </a:cubicBezTo>
                    <a:cubicBezTo>
                      <a:pt x="15464" y="4"/>
                      <a:pt x="15465" y="4"/>
                      <a:pt x="15466" y="4"/>
                    </a:cubicBezTo>
                    <a:close/>
                    <a:moveTo>
                      <a:pt x="15474" y="4"/>
                    </a:moveTo>
                    <a:lnTo>
                      <a:pt x="15474" y="4"/>
                    </a:lnTo>
                    <a:cubicBezTo>
                      <a:pt x="15475" y="4"/>
                      <a:pt x="15476" y="4"/>
                      <a:pt x="15476" y="6"/>
                    </a:cubicBezTo>
                    <a:cubicBezTo>
                      <a:pt x="15476" y="7"/>
                      <a:pt x="15475" y="8"/>
                      <a:pt x="15474" y="8"/>
                    </a:cubicBezTo>
                    <a:lnTo>
                      <a:pt x="15474" y="8"/>
                    </a:lnTo>
                    <a:cubicBezTo>
                      <a:pt x="15473" y="8"/>
                      <a:pt x="15472" y="7"/>
                      <a:pt x="15472" y="6"/>
                    </a:cubicBezTo>
                    <a:cubicBezTo>
                      <a:pt x="15472" y="4"/>
                      <a:pt x="15473" y="4"/>
                      <a:pt x="15474" y="4"/>
                    </a:cubicBezTo>
                    <a:close/>
                    <a:moveTo>
                      <a:pt x="15482" y="4"/>
                    </a:moveTo>
                    <a:lnTo>
                      <a:pt x="15482" y="4"/>
                    </a:lnTo>
                    <a:cubicBezTo>
                      <a:pt x="15483" y="4"/>
                      <a:pt x="15484" y="4"/>
                      <a:pt x="15484" y="6"/>
                    </a:cubicBezTo>
                    <a:cubicBezTo>
                      <a:pt x="15484" y="7"/>
                      <a:pt x="15483" y="8"/>
                      <a:pt x="15482" y="8"/>
                    </a:cubicBezTo>
                    <a:lnTo>
                      <a:pt x="15482" y="8"/>
                    </a:lnTo>
                    <a:cubicBezTo>
                      <a:pt x="15481" y="8"/>
                      <a:pt x="15480" y="7"/>
                      <a:pt x="15480" y="6"/>
                    </a:cubicBezTo>
                    <a:cubicBezTo>
                      <a:pt x="15480" y="4"/>
                      <a:pt x="15481" y="4"/>
                      <a:pt x="15482" y="4"/>
                    </a:cubicBezTo>
                    <a:close/>
                    <a:moveTo>
                      <a:pt x="15490" y="4"/>
                    </a:moveTo>
                    <a:lnTo>
                      <a:pt x="15490" y="4"/>
                    </a:lnTo>
                    <a:cubicBezTo>
                      <a:pt x="15491" y="4"/>
                      <a:pt x="15492" y="4"/>
                      <a:pt x="15492" y="6"/>
                    </a:cubicBezTo>
                    <a:cubicBezTo>
                      <a:pt x="15492" y="7"/>
                      <a:pt x="15491" y="8"/>
                      <a:pt x="15490" y="8"/>
                    </a:cubicBezTo>
                    <a:lnTo>
                      <a:pt x="15490" y="8"/>
                    </a:lnTo>
                    <a:cubicBezTo>
                      <a:pt x="15489" y="8"/>
                      <a:pt x="15488" y="7"/>
                      <a:pt x="15488" y="6"/>
                    </a:cubicBezTo>
                    <a:cubicBezTo>
                      <a:pt x="15488" y="4"/>
                      <a:pt x="15489" y="4"/>
                      <a:pt x="15490" y="4"/>
                    </a:cubicBezTo>
                    <a:close/>
                    <a:moveTo>
                      <a:pt x="15498" y="4"/>
                    </a:moveTo>
                    <a:lnTo>
                      <a:pt x="15498" y="4"/>
                    </a:lnTo>
                    <a:cubicBezTo>
                      <a:pt x="15499" y="4"/>
                      <a:pt x="15500" y="4"/>
                      <a:pt x="15500" y="6"/>
                    </a:cubicBezTo>
                    <a:cubicBezTo>
                      <a:pt x="15500" y="7"/>
                      <a:pt x="15499" y="8"/>
                      <a:pt x="15498" y="8"/>
                    </a:cubicBezTo>
                    <a:lnTo>
                      <a:pt x="15498" y="8"/>
                    </a:lnTo>
                    <a:cubicBezTo>
                      <a:pt x="15497" y="8"/>
                      <a:pt x="15496" y="7"/>
                      <a:pt x="15496" y="6"/>
                    </a:cubicBezTo>
                    <a:cubicBezTo>
                      <a:pt x="15496" y="4"/>
                      <a:pt x="15497" y="4"/>
                      <a:pt x="15498" y="4"/>
                    </a:cubicBezTo>
                    <a:close/>
                    <a:moveTo>
                      <a:pt x="15506" y="4"/>
                    </a:moveTo>
                    <a:lnTo>
                      <a:pt x="15506" y="4"/>
                    </a:lnTo>
                    <a:cubicBezTo>
                      <a:pt x="15507" y="4"/>
                      <a:pt x="15508" y="4"/>
                      <a:pt x="15508" y="6"/>
                    </a:cubicBezTo>
                    <a:cubicBezTo>
                      <a:pt x="15508" y="7"/>
                      <a:pt x="15507" y="8"/>
                      <a:pt x="15506" y="8"/>
                    </a:cubicBezTo>
                    <a:lnTo>
                      <a:pt x="15506" y="8"/>
                    </a:lnTo>
                    <a:cubicBezTo>
                      <a:pt x="15505" y="8"/>
                      <a:pt x="15504" y="7"/>
                      <a:pt x="15504" y="6"/>
                    </a:cubicBezTo>
                    <a:cubicBezTo>
                      <a:pt x="15504" y="4"/>
                      <a:pt x="15505" y="4"/>
                      <a:pt x="15506" y="4"/>
                    </a:cubicBezTo>
                    <a:close/>
                    <a:moveTo>
                      <a:pt x="15514" y="4"/>
                    </a:moveTo>
                    <a:lnTo>
                      <a:pt x="15514" y="4"/>
                    </a:lnTo>
                    <a:cubicBezTo>
                      <a:pt x="15515" y="4"/>
                      <a:pt x="15516" y="4"/>
                      <a:pt x="15516" y="6"/>
                    </a:cubicBezTo>
                    <a:cubicBezTo>
                      <a:pt x="15516" y="7"/>
                      <a:pt x="15515" y="8"/>
                      <a:pt x="15514" y="8"/>
                    </a:cubicBezTo>
                    <a:lnTo>
                      <a:pt x="15514" y="8"/>
                    </a:lnTo>
                    <a:cubicBezTo>
                      <a:pt x="15513" y="8"/>
                      <a:pt x="15512" y="7"/>
                      <a:pt x="15512" y="6"/>
                    </a:cubicBezTo>
                    <a:cubicBezTo>
                      <a:pt x="15512" y="4"/>
                      <a:pt x="15513" y="4"/>
                      <a:pt x="15514" y="4"/>
                    </a:cubicBezTo>
                    <a:close/>
                    <a:moveTo>
                      <a:pt x="15522" y="4"/>
                    </a:moveTo>
                    <a:lnTo>
                      <a:pt x="15522" y="4"/>
                    </a:lnTo>
                    <a:cubicBezTo>
                      <a:pt x="15523" y="4"/>
                      <a:pt x="15524" y="4"/>
                      <a:pt x="15524" y="6"/>
                    </a:cubicBezTo>
                    <a:cubicBezTo>
                      <a:pt x="15524" y="7"/>
                      <a:pt x="15523" y="8"/>
                      <a:pt x="15522" y="8"/>
                    </a:cubicBezTo>
                    <a:lnTo>
                      <a:pt x="15522" y="8"/>
                    </a:lnTo>
                    <a:cubicBezTo>
                      <a:pt x="15521" y="8"/>
                      <a:pt x="15520" y="7"/>
                      <a:pt x="15520" y="6"/>
                    </a:cubicBezTo>
                    <a:cubicBezTo>
                      <a:pt x="15520" y="4"/>
                      <a:pt x="15521" y="4"/>
                      <a:pt x="15522" y="4"/>
                    </a:cubicBezTo>
                    <a:close/>
                    <a:moveTo>
                      <a:pt x="15530" y="4"/>
                    </a:moveTo>
                    <a:lnTo>
                      <a:pt x="15530" y="4"/>
                    </a:lnTo>
                    <a:cubicBezTo>
                      <a:pt x="15532" y="4"/>
                      <a:pt x="15532" y="4"/>
                      <a:pt x="15532" y="6"/>
                    </a:cubicBezTo>
                    <a:cubicBezTo>
                      <a:pt x="15532" y="7"/>
                      <a:pt x="15532" y="8"/>
                      <a:pt x="15530" y="8"/>
                    </a:cubicBezTo>
                    <a:lnTo>
                      <a:pt x="15530" y="8"/>
                    </a:lnTo>
                    <a:cubicBezTo>
                      <a:pt x="15529" y="8"/>
                      <a:pt x="15528" y="7"/>
                      <a:pt x="15528" y="6"/>
                    </a:cubicBezTo>
                    <a:cubicBezTo>
                      <a:pt x="15528" y="4"/>
                      <a:pt x="15529" y="4"/>
                      <a:pt x="15530" y="4"/>
                    </a:cubicBezTo>
                    <a:close/>
                    <a:moveTo>
                      <a:pt x="15538" y="4"/>
                    </a:moveTo>
                    <a:lnTo>
                      <a:pt x="15538" y="4"/>
                    </a:lnTo>
                    <a:cubicBezTo>
                      <a:pt x="15540" y="4"/>
                      <a:pt x="15540" y="4"/>
                      <a:pt x="15540" y="6"/>
                    </a:cubicBezTo>
                    <a:cubicBezTo>
                      <a:pt x="15540" y="7"/>
                      <a:pt x="15540" y="8"/>
                      <a:pt x="15538" y="8"/>
                    </a:cubicBezTo>
                    <a:lnTo>
                      <a:pt x="15538" y="8"/>
                    </a:lnTo>
                    <a:cubicBezTo>
                      <a:pt x="15537" y="8"/>
                      <a:pt x="15536" y="7"/>
                      <a:pt x="15536" y="6"/>
                    </a:cubicBezTo>
                    <a:cubicBezTo>
                      <a:pt x="15536" y="4"/>
                      <a:pt x="15537" y="4"/>
                      <a:pt x="15538" y="4"/>
                    </a:cubicBezTo>
                    <a:close/>
                    <a:moveTo>
                      <a:pt x="15546" y="4"/>
                    </a:moveTo>
                    <a:lnTo>
                      <a:pt x="15546" y="4"/>
                    </a:lnTo>
                    <a:cubicBezTo>
                      <a:pt x="15548" y="4"/>
                      <a:pt x="15548" y="4"/>
                      <a:pt x="15548" y="6"/>
                    </a:cubicBezTo>
                    <a:cubicBezTo>
                      <a:pt x="15548" y="7"/>
                      <a:pt x="15548" y="8"/>
                      <a:pt x="15546" y="8"/>
                    </a:cubicBezTo>
                    <a:lnTo>
                      <a:pt x="15546" y="8"/>
                    </a:lnTo>
                    <a:cubicBezTo>
                      <a:pt x="15545" y="8"/>
                      <a:pt x="15544" y="7"/>
                      <a:pt x="15544" y="6"/>
                    </a:cubicBezTo>
                    <a:cubicBezTo>
                      <a:pt x="15544" y="4"/>
                      <a:pt x="15545" y="4"/>
                      <a:pt x="15546" y="4"/>
                    </a:cubicBezTo>
                    <a:close/>
                    <a:moveTo>
                      <a:pt x="15554" y="4"/>
                    </a:moveTo>
                    <a:lnTo>
                      <a:pt x="15554" y="4"/>
                    </a:lnTo>
                    <a:cubicBezTo>
                      <a:pt x="15556" y="4"/>
                      <a:pt x="15556" y="4"/>
                      <a:pt x="15556" y="6"/>
                    </a:cubicBezTo>
                    <a:cubicBezTo>
                      <a:pt x="15556" y="7"/>
                      <a:pt x="15556" y="8"/>
                      <a:pt x="15554" y="8"/>
                    </a:cubicBezTo>
                    <a:lnTo>
                      <a:pt x="15554" y="8"/>
                    </a:lnTo>
                    <a:cubicBezTo>
                      <a:pt x="15553" y="8"/>
                      <a:pt x="15552" y="7"/>
                      <a:pt x="15552" y="6"/>
                    </a:cubicBezTo>
                    <a:cubicBezTo>
                      <a:pt x="15552" y="4"/>
                      <a:pt x="15553" y="4"/>
                      <a:pt x="15554" y="4"/>
                    </a:cubicBezTo>
                    <a:close/>
                    <a:moveTo>
                      <a:pt x="15562" y="4"/>
                    </a:moveTo>
                    <a:lnTo>
                      <a:pt x="15562" y="4"/>
                    </a:lnTo>
                    <a:cubicBezTo>
                      <a:pt x="15564" y="4"/>
                      <a:pt x="15564" y="4"/>
                      <a:pt x="15564" y="6"/>
                    </a:cubicBezTo>
                    <a:cubicBezTo>
                      <a:pt x="15564" y="7"/>
                      <a:pt x="15564" y="8"/>
                      <a:pt x="15562" y="8"/>
                    </a:cubicBezTo>
                    <a:lnTo>
                      <a:pt x="15562" y="8"/>
                    </a:lnTo>
                    <a:cubicBezTo>
                      <a:pt x="15561" y="8"/>
                      <a:pt x="15560" y="7"/>
                      <a:pt x="15560" y="6"/>
                    </a:cubicBezTo>
                    <a:cubicBezTo>
                      <a:pt x="15560" y="4"/>
                      <a:pt x="15561" y="4"/>
                      <a:pt x="15562" y="4"/>
                    </a:cubicBezTo>
                    <a:close/>
                    <a:moveTo>
                      <a:pt x="15570" y="4"/>
                    </a:moveTo>
                    <a:lnTo>
                      <a:pt x="15570" y="4"/>
                    </a:lnTo>
                    <a:cubicBezTo>
                      <a:pt x="15572" y="4"/>
                      <a:pt x="15572" y="4"/>
                      <a:pt x="15572" y="6"/>
                    </a:cubicBezTo>
                    <a:cubicBezTo>
                      <a:pt x="15572" y="7"/>
                      <a:pt x="15572" y="8"/>
                      <a:pt x="15570" y="8"/>
                    </a:cubicBezTo>
                    <a:lnTo>
                      <a:pt x="15570" y="8"/>
                    </a:lnTo>
                    <a:cubicBezTo>
                      <a:pt x="15569" y="8"/>
                      <a:pt x="15568" y="7"/>
                      <a:pt x="15568" y="6"/>
                    </a:cubicBezTo>
                    <a:cubicBezTo>
                      <a:pt x="15568" y="4"/>
                      <a:pt x="15569" y="4"/>
                      <a:pt x="15570" y="4"/>
                    </a:cubicBezTo>
                    <a:close/>
                    <a:moveTo>
                      <a:pt x="15578" y="4"/>
                    </a:moveTo>
                    <a:lnTo>
                      <a:pt x="15578" y="4"/>
                    </a:lnTo>
                    <a:cubicBezTo>
                      <a:pt x="15580" y="4"/>
                      <a:pt x="15580" y="4"/>
                      <a:pt x="15580" y="6"/>
                    </a:cubicBezTo>
                    <a:cubicBezTo>
                      <a:pt x="15580" y="7"/>
                      <a:pt x="15580" y="8"/>
                      <a:pt x="15578" y="8"/>
                    </a:cubicBezTo>
                    <a:lnTo>
                      <a:pt x="15578" y="8"/>
                    </a:lnTo>
                    <a:cubicBezTo>
                      <a:pt x="15577" y="8"/>
                      <a:pt x="15576" y="7"/>
                      <a:pt x="15576" y="6"/>
                    </a:cubicBezTo>
                    <a:cubicBezTo>
                      <a:pt x="15576" y="4"/>
                      <a:pt x="15577" y="4"/>
                      <a:pt x="15578" y="4"/>
                    </a:cubicBezTo>
                    <a:close/>
                    <a:moveTo>
                      <a:pt x="15586" y="4"/>
                    </a:moveTo>
                    <a:lnTo>
                      <a:pt x="15586" y="4"/>
                    </a:lnTo>
                    <a:cubicBezTo>
                      <a:pt x="15588" y="4"/>
                      <a:pt x="15588" y="4"/>
                      <a:pt x="15588" y="6"/>
                    </a:cubicBezTo>
                    <a:cubicBezTo>
                      <a:pt x="15588" y="7"/>
                      <a:pt x="15588" y="8"/>
                      <a:pt x="15586" y="8"/>
                    </a:cubicBezTo>
                    <a:lnTo>
                      <a:pt x="15586" y="8"/>
                    </a:lnTo>
                    <a:cubicBezTo>
                      <a:pt x="15585" y="8"/>
                      <a:pt x="15584" y="7"/>
                      <a:pt x="15584" y="6"/>
                    </a:cubicBezTo>
                    <a:cubicBezTo>
                      <a:pt x="15584" y="4"/>
                      <a:pt x="15585" y="4"/>
                      <a:pt x="15586" y="4"/>
                    </a:cubicBezTo>
                    <a:close/>
                    <a:moveTo>
                      <a:pt x="15594" y="4"/>
                    </a:moveTo>
                    <a:lnTo>
                      <a:pt x="15594" y="4"/>
                    </a:lnTo>
                    <a:cubicBezTo>
                      <a:pt x="15596" y="4"/>
                      <a:pt x="15596" y="4"/>
                      <a:pt x="15596" y="6"/>
                    </a:cubicBezTo>
                    <a:cubicBezTo>
                      <a:pt x="15596" y="7"/>
                      <a:pt x="15596" y="8"/>
                      <a:pt x="15594" y="8"/>
                    </a:cubicBezTo>
                    <a:lnTo>
                      <a:pt x="15594" y="8"/>
                    </a:lnTo>
                    <a:cubicBezTo>
                      <a:pt x="15593" y="8"/>
                      <a:pt x="15592" y="7"/>
                      <a:pt x="15592" y="6"/>
                    </a:cubicBezTo>
                    <a:cubicBezTo>
                      <a:pt x="15592" y="4"/>
                      <a:pt x="15593" y="4"/>
                      <a:pt x="15594" y="4"/>
                    </a:cubicBezTo>
                    <a:close/>
                    <a:moveTo>
                      <a:pt x="15602" y="4"/>
                    </a:moveTo>
                    <a:lnTo>
                      <a:pt x="15602" y="4"/>
                    </a:lnTo>
                    <a:cubicBezTo>
                      <a:pt x="15604" y="4"/>
                      <a:pt x="15604" y="4"/>
                      <a:pt x="15604" y="6"/>
                    </a:cubicBezTo>
                    <a:cubicBezTo>
                      <a:pt x="15604" y="7"/>
                      <a:pt x="15604" y="8"/>
                      <a:pt x="15602" y="8"/>
                    </a:cubicBezTo>
                    <a:lnTo>
                      <a:pt x="15602" y="8"/>
                    </a:lnTo>
                    <a:cubicBezTo>
                      <a:pt x="15601" y="8"/>
                      <a:pt x="15600" y="7"/>
                      <a:pt x="15600" y="6"/>
                    </a:cubicBezTo>
                    <a:cubicBezTo>
                      <a:pt x="15600" y="4"/>
                      <a:pt x="15601" y="4"/>
                      <a:pt x="15602" y="4"/>
                    </a:cubicBezTo>
                    <a:close/>
                    <a:moveTo>
                      <a:pt x="15610" y="4"/>
                    </a:moveTo>
                    <a:lnTo>
                      <a:pt x="15610" y="4"/>
                    </a:lnTo>
                    <a:cubicBezTo>
                      <a:pt x="15612" y="4"/>
                      <a:pt x="15612" y="4"/>
                      <a:pt x="15612" y="6"/>
                    </a:cubicBezTo>
                    <a:cubicBezTo>
                      <a:pt x="15612" y="7"/>
                      <a:pt x="15612" y="8"/>
                      <a:pt x="15610" y="8"/>
                    </a:cubicBezTo>
                    <a:lnTo>
                      <a:pt x="15610" y="8"/>
                    </a:lnTo>
                    <a:cubicBezTo>
                      <a:pt x="15609" y="8"/>
                      <a:pt x="15608" y="7"/>
                      <a:pt x="15608" y="6"/>
                    </a:cubicBezTo>
                    <a:cubicBezTo>
                      <a:pt x="15608" y="4"/>
                      <a:pt x="15609" y="4"/>
                      <a:pt x="15610" y="4"/>
                    </a:cubicBezTo>
                    <a:close/>
                    <a:moveTo>
                      <a:pt x="15618" y="4"/>
                    </a:moveTo>
                    <a:lnTo>
                      <a:pt x="15618" y="4"/>
                    </a:lnTo>
                    <a:cubicBezTo>
                      <a:pt x="15620" y="4"/>
                      <a:pt x="15620" y="4"/>
                      <a:pt x="15620" y="6"/>
                    </a:cubicBezTo>
                    <a:cubicBezTo>
                      <a:pt x="15620" y="7"/>
                      <a:pt x="15620" y="8"/>
                      <a:pt x="15618" y="8"/>
                    </a:cubicBezTo>
                    <a:lnTo>
                      <a:pt x="15618" y="8"/>
                    </a:lnTo>
                    <a:cubicBezTo>
                      <a:pt x="15617" y="8"/>
                      <a:pt x="15616" y="7"/>
                      <a:pt x="15616" y="6"/>
                    </a:cubicBezTo>
                    <a:cubicBezTo>
                      <a:pt x="15616" y="4"/>
                      <a:pt x="15617" y="4"/>
                      <a:pt x="15618" y="4"/>
                    </a:cubicBezTo>
                    <a:close/>
                    <a:moveTo>
                      <a:pt x="15626" y="4"/>
                    </a:moveTo>
                    <a:lnTo>
                      <a:pt x="15626" y="4"/>
                    </a:lnTo>
                    <a:cubicBezTo>
                      <a:pt x="15628" y="4"/>
                      <a:pt x="15628" y="4"/>
                      <a:pt x="15628" y="6"/>
                    </a:cubicBezTo>
                    <a:cubicBezTo>
                      <a:pt x="15628" y="7"/>
                      <a:pt x="15628" y="8"/>
                      <a:pt x="15626" y="8"/>
                    </a:cubicBezTo>
                    <a:lnTo>
                      <a:pt x="15626" y="8"/>
                    </a:lnTo>
                    <a:cubicBezTo>
                      <a:pt x="15625" y="8"/>
                      <a:pt x="15624" y="7"/>
                      <a:pt x="15624" y="6"/>
                    </a:cubicBezTo>
                    <a:cubicBezTo>
                      <a:pt x="15624" y="4"/>
                      <a:pt x="15625" y="4"/>
                      <a:pt x="15626" y="4"/>
                    </a:cubicBezTo>
                    <a:close/>
                    <a:moveTo>
                      <a:pt x="15634" y="4"/>
                    </a:moveTo>
                    <a:lnTo>
                      <a:pt x="15634" y="4"/>
                    </a:lnTo>
                    <a:cubicBezTo>
                      <a:pt x="15636" y="4"/>
                      <a:pt x="15636" y="4"/>
                      <a:pt x="15636" y="6"/>
                    </a:cubicBezTo>
                    <a:cubicBezTo>
                      <a:pt x="15636" y="7"/>
                      <a:pt x="15636" y="8"/>
                      <a:pt x="15634" y="8"/>
                    </a:cubicBezTo>
                    <a:lnTo>
                      <a:pt x="15634" y="8"/>
                    </a:lnTo>
                    <a:cubicBezTo>
                      <a:pt x="15633" y="8"/>
                      <a:pt x="15632" y="7"/>
                      <a:pt x="15632" y="6"/>
                    </a:cubicBezTo>
                    <a:cubicBezTo>
                      <a:pt x="15632" y="4"/>
                      <a:pt x="15633" y="4"/>
                      <a:pt x="15634" y="4"/>
                    </a:cubicBezTo>
                    <a:close/>
                    <a:moveTo>
                      <a:pt x="15642" y="4"/>
                    </a:moveTo>
                    <a:lnTo>
                      <a:pt x="15642" y="4"/>
                    </a:lnTo>
                    <a:cubicBezTo>
                      <a:pt x="15644" y="4"/>
                      <a:pt x="15644" y="4"/>
                      <a:pt x="15644" y="6"/>
                    </a:cubicBezTo>
                    <a:cubicBezTo>
                      <a:pt x="15644" y="7"/>
                      <a:pt x="15644" y="8"/>
                      <a:pt x="15642" y="8"/>
                    </a:cubicBezTo>
                    <a:lnTo>
                      <a:pt x="15642" y="8"/>
                    </a:lnTo>
                    <a:cubicBezTo>
                      <a:pt x="15641" y="8"/>
                      <a:pt x="15640" y="7"/>
                      <a:pt x="15640" y="6"/>
                    </a:cubicBezTo>
                    <a:cubicBezTo>
                      <a:pt x="15640" y="4"/>
                      <a:pt x="15641" y="4"/>
                      <a:pt x="15642" y="4"/>
                    </a:cubicBezTo>
                    <a:close/>
                    <a:moveTo>
                      <a:pt x="15650" y="4"/>
                    </a:moveTo>
                    <a:lnTo>
                      <a:pt x="15650" y="4"/>
                    </a:lnTo>
                    <a:cubicBezTo>
                      <a:pt x="15652" y="4"/>
                      <a:pt x="15652" y="4"/>
                      <a:pt x="15652" y="6"/>
                    </a:cubicBezTo>
                    <a:cubicBezTo>
                      <a:pt x="15652" y="7"/>
                      <a:pt x="15652" y="8"/>
                      <a:pt x="15650" y="8"/>
                    </a:cubicBezTo>
                    <a:lnTo>
                      <a:pt x="15650" y="8"/>
                    </a:lnTo>
                    <a:cubicBezTo>
                      <a:pt x="15649" y="8"/>
                      <a:pt x="15648" y="7"/>
                      <a:pt x="15648" y="6"/>
                    </a:cubicBezTo>
                    <a:cubicBezTo>
                      <a:pt x="15648" y="4"/>
                      <a:pt x="15649" y="4"/>
                      <a:pt x="15650" y="4"/>
                    </a:cubicBezTo>
                    <a:close/>
                    <a:moveTo>
                      <a:pt x="15658" y="4"/>
                    </a:moveTo>
                    <a:lnTo>
                      <a:pt x="15658" y="4"/>
                    </a:lnTo>
                    <a:cubicBezTo>
                      <a:pt x="15660" y="4"/>
                      <a:pt x="15660" y="4"/>
                      <a:pt x="15660" y="6"/>
                    </a:cubicBezTo>
                    <a:cubicBezTo>
                      <a:pt x="15660" y="7"/>
                      <a:pt x="15660" y="8"/>
                      <a:pt x="15658" y="8"/>
                    </a:cubicBezTo>
                    <a:lnTo>
                      <a:pt x="15658" y="8"/>
                    </a:lnTo>
                    <a:cubicBezTo>
                      <a:pt x="15657" y="8"/>
                      <a:pt x="15656" y="7"/>
                      <a:pt x="15656" y="6"/>
                    </a:cubicBezTo>
                    <a:cubicBezTo>
                      <a:pt x="15656" y="4"/>
                      <a:pt x="15657" y="4"/>
                      <a:pt x="15658" y="4"/>
                    </a:cubicBezTo>
                    <a:close/>
                    <a:moveTo>
                      <a:pt x="15666" y="4"/>
                    </a:moveTo>
                    <a:lnTo>
                      <a:pt x="15666" y="4"/>
                    </a:lnTo>
                    <a:cubicBezTo>
                      <a:pt x="15668" y="4"/>
                      <a:pt x="15668" y="5"/>
                      <a:pt x="15668" y="6"/>
                    </a:cubicBezTo>
                    <a:cubicBezTo>
                      <a:pt x="15668" y="7"/>
                      <a:pt x="15668" y="8"/>
                      <a:pt x="15666" y="8"/>
                    </a:cubicBezTo>
                    <a:lnTo>
                      <a:pt x="15666" y="8"/>
                    </a:lnTo>
                    <a:cubicBezTo>
                      <a:pt x="15665" y="8"/>
                      <a:pt x="15664" y="7"/>
                      <a:pt x="15664" y="6"/>
                    </a:cubicBezTo>
                    <a:cubicBezTo>
                      <a:pt x="15664" y="5"/>
                      <a:pt x="15665" y="4"/>
                      <a:pt x="15666" y="4"/>
                    </a:cubicBezTo>
                    <a:close/>
                    <a:moveTo>
                      <a:pt x="15674" y="4"/>
                    </a:moveTo>
                    <a:lnTo>
                      <a:pt x="15675" y="4"/>
                    </a:lnTo>
                    <a:cubicBezTo>
                      <a:pt x="15676" y="4"/>
                      <a:pt x="15677" y="5"/>
                      <a:pt x="15677" y="6"/>
                    </a:cubicBezTo>
                    <a:cubicBezTo>
                      <a:pt x="15677" y="7"/>
                      <a:pt x="15676" y="8"/>
                      <a:pt x="15675" y="8"/>
                    </a:cubicBezTo>
                    <a:lnTo>
                      <a:pt x="15674" y="8"/>
                    </a:lnTo>
                    <a:cubicBezTo>
                      <a:pt x="15673" y="8"/>
                      <a:pt x="15672" y="7"/>
                      <a:pt x="15672" y="6"/>
                    </a:cubicBezTo>
                    <a:cubicBezTo>
                      <a:pt x="15672" y="5"/>
                      <a:pt x="15673" y="4"/>
                      <a:pt x="15674" y="4"/>
                    </a:cubicBezTo>
                    <a:close/>
                    <a:moveTo>
                      <a:pt x="15683" y="4"/>
                    </a:moveTo>
                    <a:lnTo>
                      <a:pt x="15683" y="4"/>
                    </a:lnTo>
                    <a:cubicBezTo>
                      <a:pt x="15684" y="4"/>
                      <a:pt x="15685" y="5"/>
                      <a:pt x="15685" y="6"/>
                    </a:cubicBezTo>
                    <a:cubicBezTo>
                      <a:pt x="15685" y="7"/>
                      <a:pt x="15684" y="8"/>
                      <a:pt x="15683" y="8"/>
                    </a:cubicBezTo>
                    <a:lnTo>
                      <a:pt x="15683" y="8"/>
                    </a:lnTo>
                    <a:cubicBezTo>
                      <a:pt x="15681" y="8"/>
                      <a:pt x="15681" y="7"/>
                      <a:pt x="15681" y="6"/>
                    </a:cubicBezTo>
                    <a:cubicBezTo>
                      <a:pt x="15681" y="5"/>
                      <a:pt x="15681" y="4"/>
                      <a:pt x="15683" y="4"/>
                    </a:cubicBezTo>
                    <a:close/>
                    <a:moveTo>
                      <a:pt x="15691" y="4"/>
                    </a:moveTo>
                    <a:lnTo>
                      <a:pt x="15691" y="4"/>
                    </a:lnTo>
                    <a:cubicBezTo>
                      <a:pt x="15692" y="4"/>
                      <a:pt x="15693" y="5"/>
                      <a:pt x="15693" y="6"/>
                    </a:cubicBezTo>
                    <a:cubicBezTo>
                      <a:pt x="15693" y="7"/>
                      <a:pt x="15692" y="8"/>
                      <a:pt x="15691" y="8"/>
                    </a:cubicBezTo>
                    <a:lnTo>
                      <a:pt x="15691" y="8"/>
                    </a:lnTo>
                    <a:cubicBezTo>
                      <a:pt x="15689" y="8"/>
                      <a:pt x="15689" y="7"/>
                      <a:pt x="15689" y="6"/>
                    </a:cubicBezTo>
                    <a:cubicBezTo>
                      <a:pt x="15689" y="5"/>
                      <a:pt x="15689" y="4"/>
                      <a:pt x="15691" y="4"/>
                    </a:cubicBezTo>
                    <a:close/>
                    <a:moveTo>
                      <a:pt x="15699" y="4"/>
                    </a:moveTo>
                    <a:lnTo>
                      <a:pt x="15699" y="4"/>
                    </a:lnTo>
                    <a:cubicBezTo>
                      <a:pt x="15700" y="4"/>
                      <a:pt x="15701" y="5"/>
                      <a:pt x="15701" y="6"/>
                    </a:cubicBezTo>
                    <a:cubicBezTo>
                      <a:pt x="15701" y="7"/>
                      <a:pt x="15700" y="8"/>
                      <a:pt x="15699" y="8"/>
                    </a:cubicBezTo>
                    <a:lnTo>
                      <a:pt x="15699" y="8"/>
                    </a:lnTo>
                    <a:cubicBezTo>
                      <a:pt x="15697" y="8"/>
                      <a:pt x="15697" y="7"/>
                      <a:pt x="15697" y="6"/>
                    </a:cubicBezTo>
                    <a:cubicBezTo>
                      <a:pt x="15697" y="5"/>
                      <a:pt x="15697" y="4"/>
                      <a:pt x="15699" y="4"/>
                    </a:cubicBezTo>
                    <a:close/>
                    <a:moveTo>
                      <a:pt x="15707" y="4"/>
                    </a:moveTo>
                    <a:lnTo>
                      <a:pt x="15707" y="4"/>
                    </a:lnTo>
                    <a:cubicBezTo>
                      <a:pt x="15708" y="4"/>
                      <a:pt x="15709" y="5"/>
                      <a:pt x="15709" y="6"/>
                    </a:cubicBezTo>
                    <a:cubicBezTo>
                      <a:pt x="15709" y="7"/>
                      <a:pt x="15708" y="8"/>
                      <a:pt x="15707" y="8"/>
                    </a:cubicBezTo>
                    <a:lnTo>
                      <a:pt x="15707" y="8"/>
                    </a:lnTo>
                    <a:cubicBezTo>
                      <a:pt x="15705" y="8"/>
                      <a:pt x="15705" y="7"/>
                      <a:pt x="15705" y="6"/>
                    </a:cubicBezTo>
                    <a:cubicBezTo>
                      <a:pt x="15705" y="5"/>
                      <a:pt x="15705" y="4"/>
                      <a:pt x="15707" y="4"/>
                    </a:cubicBezTo>
                    <a:close/>
                    <a:moveTo>
                      <a:pt x="15715" y="4"/>
                    </a:moveTo>
                    <a:lnTo>
                      <a:pt x="15715" y="4"/>
                    </a:lnTo>
                    <a:cubicBezTo>
                      <a:pt x="15716" y="4"/>
                      <a:pt x="15717" y="5"/>
                      <a:pt x="15717" y="6"/>
                    </a:cubicBezTo>
                    <a:cubicBezTo>
                      <a:pt x="15717" y="7"/>
                      <a:pt x="15716" y="8"/>
                      <a:pt x="15715" y="8"/>
                    </a:cubicBezTo>
                    <a:lnTo>
                      <a:pt x="15715" y="8"/>
                    </a:lnTo>
                    <a:cubicBezTo>
                      <a:pt x="15713" y="8"/>
                      <a:pt x="15713" y="7"/>
                      <a:pt x="15713" y="6"/>
                    </a:cubicBezTo>
                    <a:cubicBezTo>
                      <a:pt x="15713" y="5"/>
                      <a:pt x="15713" y="4"/>
                      <a:pt x="15715" y="4"/>
                    </a:cubicBezTo>
                    <a:close/>
                    <a:moveTo>
                      <a:pt x="15723" y="4"/>
                    </a:moveTo>
                    <a:lnTo>
                      <a:pt x="15723" y="4"/>
                    </a:lnTo>
                    <a:cubicBezTo>
                      <a:pt x="15724" y="4"/>
                      <a:pt x="15725" y="5"/>
                      <a:pt x="15725" y="6"/>
                    </a:cubicBezTo>
                    <a:cubicBezTo>
                      <a:pt x="15725" y="7"/>
                      <a:pt x="15724" y="8"/>
                      <a:pt x="15723" y="8"/>
                    </a:cubicBezTo>
                    <a:lnTo>
                      <a:pt x="15723" y="8"/>
                    </a:lnTo>
                    <a:cubicBezTo>
                      <a:pt x="15721" y="8"/>
                      <a:pt x="15721" y="7"/>
                      <a:pt x="15721" y="6"/>
                    </a:cubicBezTo>
                    <a:cubicBezTo>
                      <a:pt x="15721" y="5"/>
                      <a:pt x="15721" y="4"/>
                      <a:pt x="15723" y="4"/>
                    </a:cubicBezTo>
                    <a:close/>
                    <a:moveTo>
                      <a:pt x="15731" y="4"/>
                    </a:moveTo>
                    <a:lnTo>
                      <a:pt x="15731" y="4"/>
                    </a:lnTo>
                    <a:cubicBezTo>
                      <a:pt x="15732" y="4"/>
                      <a:pt x="15733" y="5"/>
                      <a:pt x="15733" y="6"/>
                    </a:cubicBezTo>
                    <a:cubicBezTo>
                      <a:pt x="15733" y="7"/>
                      <a:pt x="15732" y="8"/>
                      <a:pt x="15731" y="8"/>
                    </a:cubicBezTo>
                    <a:lnTo>
                      <a:pt x="15731" y="8"/>
                    </a:lnTo>
                    <a:cubicBezTo>
                      <a:pt x="15729" y="8"/>
                      <a:pt x="15729" y="7"/>
                      <a:pt x="15729" y="6"/>
                    </a:cubicBezTo>
                    <a:cubicBezTo>
                      <a:pt x="15729" y="5"/>
                      <a:pt x="15729" y="4"/>
                      <a:pt x="15731" y="4"/>
                    </a:cubicBezTo>
                    <a:close/>
                    <a:moveTo>
                      <a:pt x="15739" y="4"/>
                    </a:moveTo>
                    <a:lnTo>
                      <a:pt x="15739" y="4"/>
                    </a:lnTo>
                    <a:cubicBezTo>
                      <a:pt x="15740" y="4"/>
                      <a:pt x="15741" y="5"/>
                      <a:pt x="15741" y="6"/>
                    </a:cubicBezTo>
                    <a:cubicBezTo>
                      <a:pt x="15741" y="7"/>
                      <a:pt x="15740" y="8"/>
                      <a:pt x="15739" y="8"/>
                    </a:cubicBezTo>
                    <a:lnTo>
                      <a:pt x="15739" y="8"/>
                    </a:lnTo>
                    <a:cubicBezTo>
                      <a:pt x="15737" y="8"/>
                      <a:pt x="15737" y="7"/>
                      <a:pt x="15737" y="6"/>
                    </a:cubicBezTo>
                    <a:cubicBezTo>
                      <a:pt x="15737" y="5"/>
                      <a:pt x="15737" y="4"/>
                      <a:pt x="15739" y="4"/>
                    </a:cubicBezTo>
                    <a:close/>
                    <a:moveTo>
                      <a:pt x="15747" y="4"/>
                    </a:moveTo>
                    <a:lnTo>
                      <a:pt x="15747" y="4"/>
                    </a:lnTo>
                    <a:cubicBezTo>
                      <a:pt x="15748" y="4"/>
                      <a:pt x="15749" y="5"/>
                      <a:pt x="15749" y="6"/>
                    </a:cubicBezTo>
                    <a:cubicBezTo>
                      <a:pt x="15749" y="7"/>
                      <a:pt x="15748" y="8"/>
                      <a:pt x="15747" y="8"/>
                    </a:cubicBezTo>
                    <a:lnTo>
                      <a:pt x="15747" y="8"/>
                    </a:lnTo>
                    <a:cubicBezTo>
                      <a:pt x="15745" y="8"/>
                      <a:pt x="15745" y="7"/>
                      <a:pt x="15745" y="6"/>
                    </a:cubicBezTo>
                    <a:cubicBezTo>
                      <a:pt x="15745" y="5"/>
                      <a:pt x="15745" y="4"/>
                      <a:pt x="15747" y="4"/>
                    </a:cubicBezTo>
                    <a:close/>
                    <a:moveTo>
                      <a:pt x="15755" y="4"/>
                    </a:moveTo>
                    <a:lnTo>
                      <a:pt x="15755" y="4"/>
                    </a:lnTo>
                    <a:cubicBezTo>
                      <a:pt x="15756" y="4"/>
                      <a:pt x="15757" y="5"/>
                      <a:pt x="15757" y="6"/>
                    </a:cubicBezTo>
                    <a:cubicBezTo>
                      <a:pt x="15757" y="7"/>
                      <a:pt x="15756" y="8"/>
                      <a:pt x="15755" y="8"/>
                    </a:cubicBezTo>
                    <a:lnTo>
                      <a:pt x="15755" y="8"/>
                    </a:lnTo>
                    <a:cubicBezTo>
                      <a:pt x="15753" y="8"/>
                      <a:pt x="15753" y="7"/>
                      <a:pt x="15753" y="6"/>
                    </a:cubicBezTo>
                    <a:cubicBezTo>
                      <a:pt x="15753" y="5"/>
                      <a:pt x="15753" y="4"/>
                      <a:pt x="15755" y="4"/>
                    </a:cubicBezTo>
                    <a:close/>
                    <a:moveTo>
                      <a:pt x="15763" y="4"/>
                    </a:moveTo>
                    <a:lnTo>
                      <a:pt x="15763" y="4"/>
                    </a:lnTo>
                    <a:cubicBezTo>
                      <a:pt x="15764" y="4"/>
                      <a:pt x="15765" y="5"/>
                      <a:pt x="15765" y="6"/>
                    </a:cubicBezTo>
                    <a:cubicBezTo>
                      <a:pt x="15765" y="7"/>
                      <a:pt x="15764" y="8"/>
                      <a:pt x="15763" y="8"/>
                    </a:cubicBezTo>
                    <a:lnTo>
                      <a:pt x="15763" y="8"/>
                    </a:lnTo>
                    <a:cubicBezTo>
                      <a:pt x="15761" y="8"/>
                      <a:pt x="15761" y="7"/>
                      <a:pt x="15761" y="6"/>
                    </a:cubicBezTo>
                    <a:cubicBezTo>
                      <a:pt x="15761" y="5"/>
                      <a:pt x="15761" y="4"/>
                      <a:pt x="15763" y="4"/>
                    </a:cubicBezTo>
                    <a:close/>
                    <a:moveTo>
                      <a:pt x="15771" y="4"/>
                    </a:moveTo>
                    <a:lnTo>
                      <a:pt x="15771" y="4"/>
                    </a:lnTo>
                    <a:cubicBezTo>
                      <a:pt x="15772" y="4"/>
                      <a:pt x="15773" y="5"/>
                      <a:pt x="15773" y="6"/>
                    </a:cubicBezTo>
                    <a:cubicBezTo>
                      <a:pt x="15773" y="7"/>
                      <a:pt x="15772" y="8"/>
                      <a:pt x="15771" y="8"/>
                    </a:cubicBezTo>
                    <a:lnTo>
                      <a:pt x="15771" y="8"/>
                    </a:lnTo>
                    <a:cubicBezTo>
                      <a:pt x="15769" y="8"/>
                      <a:pt x="15769" y="7"/>
                      <a:pt x="15769" y="6"/>
                    </a:cubicBezTo>
                    <a:cubicBezTo>
                      <a:pt x="15769" y="5"/>
                      <a:pt x="15769" y="4"/>
                      <a:pt x="15771" y="4"/>
                    </a:cubicBezTo>
                    <a:close/>
                    <a:moveTo>
                      <a:pt x="15779" y="4"/>
                    </a:moveTo>
                    <a:lnTo>
                      <a:pt x="15779" y="4"/>
                    </a:lnTo>
                    <a:cubicBezTo>
                      <a:pt x="15780" y="4"/>
                      <a:pt x="15781" y="5"/>
                      <a:pt x="15781" y="6"/>
                    </a:cubicBezTo>
                    <a:cubicBezTo>
                      <a:pt x="15781" y="7"/>
                      <a:pt x="15780" y="8"/>
                      <a:pt x="15779" y="8"/>
                    </a:cubicBezTo>
                    <a:lnTo>
                      <a:pt x="15779" y="8"/>
                    </a:lnTo>
                    <a:cubicBezTo>
                      <a:pt x="15777" y="8"/>
                      <a:pt x="15777" y="7"/>
                      <a:pt x="15777" y="6"/>
                    </a:cubicBezTo>
                    <a:cubicBezTo>
                      <a:pt x="15777" y="5"/>
                      <a:pt x="15777" y="4"/>
                      <a:pt x="15779" y="4"/>
                    </a:cubicBezTo>
                    <a:close/>
                    <a:moveTo>
                      <a:pt x="15787" y="4"/>
                    </a:moveTo>
                    <a:lnTo>
                      <a:pt x="15787" y="4"/>
                    </a:lnTo>
                    <a:cubicBezTo>
                      <a:pt x="15788" y="4"/>
                      <a:pt x="15789" y="5"/>
                      <a:pt x="15789" y="6"/>
                    </a:cubicBezTo>
                    <a:cubicBezTo>
                      <a:pt x="15789" y="7"/>
                      <a:pt x="15788" y="8"/>
                      <a:pt x="15787" y="8"/>
                    </a:cubicBezTo>
                    <a:lnTo>
                      <a:pt x="15787" y="8"/>
                    </a:lnTo>
                    <a:cubicBezTo>
                      <a:pt x="15785" y="8"/>
                      <a:pt x="15785" y="7"/>
                      <a:pt x="15785" y="6"/>
                    </a:cubicBezTo>
                    <a:cubicBezTo>
                      <a:pt x="15785" y="5"/>
                      <a:pt x="15785" y="4"/>
                      <a:pt x="15787" y="4"/>
                    </a:cubicBezTo>
                    <a:close/>
                    <a:moveTo>
                      <a:pt x="15795" y="4"/>
                    </a:moveTo>
                    <a:lnTo>
                      <a:pt x="15795" y="4"/>
                    </a:lnTo>
                    <a:cubicBezTo>
                      <a:pt x="15796" y="4"/>
                      <a:pt x="15797" y="5"/>
                      <a:pt x="15797" y="6"/>
                    </a:cubicBezTo>
                    <a:cubicBezTo>
                      <a:pt x="15797" y="7"/>
                      <a:pt x="15796" y="8"/>
                      <a:pt x="15795" y="8"/>
                    </a:cubicBezTo>
                    <a:lnTo>
                      <a:pt x="15795" y="8"/>
                    </a:lnTo>
                    <a:cubicBezTo>
                      <a:pt x="15793" y="8"/>
                      <a:pt x="15793" y="7"/>
                      <a:pt x="15793" y="6"/>
                    </a:cubicBezTo>
                    <a:cubicBezTo>
                      <a:pt x="15793" y="5"/>
                      <a:pt x="15793" y="4"/>
                      <a:pt x="15795" y="4"/>
                    </a:cubicBezTo>
                    <a:close/>
                    <a:moveTo>
                      <a:pt x="15803" y="4"/>
                    </a:moveTo>
                    <a:lnTo>
                      <a:pt x="15803" y="4"/>
                    </a:lnTo>
                    <a:cubicBezTo>
                      <a:pt x="15804" y="4"/>
                      <a:pt x="15805" y="5"/>
                      <a:pt x="15805" y="6"/>
                    </a:cubicBezTo>
                    <a:cubicBezTo>
                      <a:pt x="15805" y="7"/>
                      <a:pt x="15804" y="8"/>
                      <a:pt x="15803" y="8"/>
                    </a:cubicBezTo>
                    <a:lnTo>
                      <a:pt x="15803" y="8"/>
                    </a:lnTo>
                    <a:cubicBezTo>
                      <a:pt x="15801" y="8"/>
                      <a:pt x="15801" y="7"/>
                      <a:pt x="15801" y="6"/>
                    </a:cubicBezTo>
                    <a:cubicBezTo>
                      <a:pt x="15801" y="5"/>
                      <a:pt x="15801" y="4"/>
                      <a:pt x="15803" y="4"/>
                    </a:cubicBezTo>
                    <a:close/>
                    <a:moveTo>
                      <a:pt x="15811" y="4"/>
                    </a:moveTo>
                    <a:lnTo>
                      <a:pt x="15811" y="4"/>
                    </a:lnTo>
                    <a:cubicBezTo>
                      <a:pt x="15812" y="4"/>
                      <a:pt x="15813" y="5"/>
                      <a:pt x="15813" y="6"/>
                    </a:cubicBezTo>
                    <a:cubicBezTo>
                      <a:pt x="15813" y="7"/>
                      <a:pt x="15812" y="8"/>
                      <a:pt x="15811" y="8"/>
                    </a:cubicBezTo>
                    <a:lnTo>
                      <a:pt x="15811" y="8"/>
                    </a:lnTo>
                    <a:cubicBezTo>
                      <a:pt x="15809" y="8"/>
                      <a:pt x="15809" y="7"/>
                      <a:pt x="15809" y="6"/>
                    </a:cubicBezTo>
                    <a:cubicBezTo>
                      <a:pt x="15809" y="5"/>
                      <a:pt x="15809" y="4"/>
                      <a:pt x="15811" y="4"/>
                    </a:cubicBezTo>
                    <a:close/>
                    <a:moveTo>
                      <a:pt x="15819" y="4"/>
                    </a:moveTo>
                    <a:lnTo>
                      <a:pt x="15819" y="4"/>
                    </a:lnTo>
                    <a:cubicBezTo>
                      <a:pt x="15820" y="4"/>
                      <a:pt x="15821" y="5"/>
                      <a:pt x="15821" y="6"/>
                    </a:cubicBezTo>
                    <a:cubicBezTo>
                      <a:pt x="15821" y="7"/>
                      <a:pt x="15820" y="8"/>
                      <a:pt x="15819" y="8"/>
                    </a:cubicBezTo>
                    <a:lnTo>
                      <a:pt x="15819" y="8"/>
                    </a:lnTo>
                    <a:cubicBezTo>
                      <a:pt x="15817" y="8"/>
                      <a:pt x="15817" y="7"/>
                      <a:pt x="15817" y="6"/>
                    </a:cubicBezTo>
                    <a:cubicBezTo>
                      <a:pt x="15817" y="5"/>
                      <a:pt x="15817" y="4"/>
                      <a:pt x="15819" y="4"/>
                    </a:cubicBezTo>
                    <a:close/>
                    <a:moveTo>
                      <a:pt x="15827" y="4"/>
                    </a:moveTo>
                    <a:lnTo>
                      <a:pt x="15827" y="4"/>
                    </a:lnTo>
                    <a:cubicBezTo>
                      <a:pt x="15828" y="4"/>
                      <a:pt x="15829" y="5"/>
                      <a:pt x="15829" y="6"/>
                    </a:cubicBezTo>
                    <a:cubicBezTo>
                      <a:pt x="15829" y="7"/>
                      <a:pt x="15828" y="8"/>
                      <a:pt x="15827" y="8"/>
                    </a:cubicBezTo>
                    <a:lnTo>
                      <a:pt x="15827" y="8"/>
                    </a:lnTo>
                    <a:cubicBezTo>
                      <a:pt x="15826" y="8"/>
                      <a:pt x="15825" y="7"/>
                      <a:pt x="15825" y="6"/>
                    </a:cubicBezTo>
                    <a:cubicBezTo>
                      <a:pt x="15825" y="5"/>
                      <a:pt x="15826" y="4"/>
                      <a:pt x="15827" y="4"/>
                    </a:cubicBezTo>
                    <a:close/>
                    <a:moveTo>
                      <a:pt x="15835" y="4"/>
                    </a:moveTo>
                    <a:lnTo>
                      <a:pt x="15835" y="4"/>
                    </a:lnTo>
                    <a:cubicBezTo>
                      <a:pt x="15836" y="4"/>
                      <a:pt x="15837" y="5"/>
                      <a:pt x="15837" y="6"/>
                    </a:cubicBezTo>
                    <a:cubicBezTo>
                      <a:pt x="15837" y="7"/>
                      <a:pt x="15836" y="8"/>
                      <a:pt x="15835" y="8"/>
                    </a:cubicBezTo>
                    <a:lnTo>
                      <a:pt x="15835" y="8"/>
                    </a:lnTo>
                    <a:cubicBezTo>
                      <a:pt x="15834" y="8"/>
                      <a:pt x="15833" y="7"/>
                      <a:pt x="15833" y="6"/>
                    </a:cubicBezTo>
                    <a:cubicBezTo>
                      <a:pt x="15833" y="5"/>
                      <a:pt x="15834" y="4"/>
                      <a:pt x="15835" y="4"/>
                    </a:cubicBezTo>
                    <a:close/>
                    <a:moveTo>
                      <a:pt x="15843" y="4"/>
                    </a:moveTo>
                    <a:lnTo>
                      <a:pt x="15843" y="4"/>
                    </a:lnTo>
                    <a:cubicBezTo>
                      <a:pt x="15844" y="4"/>
                      <a:pt x="15845" y="5"/>
                      <a:pt x="15845" y="6"/>
                    </a:cubicBezTo>
                    <a:cubicBezTo>
                      <a:pt x="15845" y="7"/>
                      <a:pt x="15844" y="8"/>
                      <a:pt x="15843" y="8"/>
                    </a:cubicBezTo>
                    <a:lnTo>
                      <a:pt x="15843" y="8"/>
                    </a:lnTo>
                    <a:cubicBezTo>
                      <a:pt x="15842" y="8"/>
                      <a:pt x="15841" y="7"/>
                      <a:pt x="15841" y="6"/>
                    </a:cubicBezTo>
                    <a:cubicBezTo>
                      <a:pt x="15841" y="5"/>
                      <a:pt x="15842" y="4"/>
                      <a:pt x="15843" y="4"/>
                    </a:cubicBezTo>
                    <a:close/>
                    <a:moveTo>
                      <a:pt x="15851" y="4"/>
                    </a:moveTo>
                    <a:lnTo>
                      <a:pt x="15851" y="4"/>
                    </a:lnTo>
                    <a:cubicBezTo>
                      <a:pt x="15852" y="4"/>
                      <a:pt x="15853" y="5"/>
                      <a:pt x="15853" y="6"/>
                    </a:cubicBezTo>
                    <a:cubicBezTo>
                      <a:pt x="15853" y="7"/>
                      <a:pt x="15852" y="8"/>
                      <a:pt x="15851" y="8"/>
                    </a:cubicBezTo>
                    <a:lnTo>
                      <a:pt x="15851" y="8"/>
                    </a:lnTo>
                    <a:cubicBezTo>
                      <a:pt x="15850" y="8"/>
                      <a:pt x="15849" y="7"/>
                      <a:pt x="15849" y="6"/>
                    </a:cubicBezTo>
                    <a:cubicBezTo>
                      <a:pt x="15849" y="5"/>
                      <a:pt x="15850" y="4"/>
                      <a:pt x="15851" y="4"/>
                    </a:cubicBezTo>
                    <a:close/>
                    <a:moveTo>
                      <a:pt x="15859" y="4"/>
                    </a:moveTo>
                    <a:lnTo>
                      <a:pt x="15859" y="4"/>
                    </a:lnTo>
                    <a:cubicBezTo>
                      <a:pt x="15860" y="4"/>
                      <a:pt x="15861" y="5"/>
                      <a:pt x="15861" y="6"/>
                    </a:cubicBezTo>
                    <a:cubicBezTo>
                      <a:pt x="15861" y="7"/>
                      <a:pt x="15860" y="8"/>
                      <a:pt x="15859" y="8"/>
                    </a:cubicBezTo>
                    <a:lnTo>
                      <a:pt x="15859" y="8"/>
                    </a:lnTo>
                    <a:cubicBezTo>
                      <a:pt x="15858" y="8"/>
                      <a:pt x="15857" y="7"/>
                      <a:pt x="15857" y="6"/>
                    </a:cubicBezTo>
                    <a:cubicBezTo>
                      <a:pt x="15857" y="5"/>
                      <a:pt x="15858" y="4"/>
                      <a:pt x="15859" y="4"/>
                    </a:cubicBezTo>
                    <a:close/>
                    <a:moveTo>
                      <a:pt x="15867" y="4"/>
                    </a:moveTo>
                    <a:lnTo>
                      <a:pt x="15867" y="4"/>
                    </a:lnTo>
                    <a:cubicBezTo>
                      <a:pt x="15868" y="4"/>
                      <a:pt x="15869" y="5"/>
                      <a:pt x="15869" y="6"/>
                    </a:cubicBezTo>
                    <a:cubicBezTo>
                      <a:pt x="15869" y="7"/>
                      <a:pt x="15868" y="8"/>
                      <a:pt x="15867" y="8"/>
                    </a:cubicBezTo>
                    <a:lnTo>
                      <a:pt x="15867" y="8"/>
                    </a:lnTo>
                    <a:cubicBezTo>
                      <a:pt x="15866" y="8"/>
                      <a:pt x="15865" y="7"/>
                      <a:pt x="15865" y="6"/>
                    </a:cubicBezTo>
                    <a:cubicBezTo>
                      <a:pt x="15865" y="5"/>
                      <a:pt x="15866" y="4"/>
                      <a:pt x="15867" y="4"/>
                    </a:cubicBezTo>
                    <a:close/>
                    <a:moveTo>
                      <a:pt x="15875" y="4"/>
                    </a:moveTo>
                    <a:lnTo>
                      <a:pt x="15875" y="4"/>
                    </a:lnTo>
                    <a:cubicBezTo>
                      <a:pt x="15876" y="4"/>
                      <a:pt x="15877" y="5"/>
                      <a:pt x="15877" y="6"/>
                    </a:cubicBezTo>
                    <a:cubicBezTo>
                      <a:pt x="15877" y="7"/>
                      <a:pt x="15876" y="8"/>
                      <a:pt x="15875" y="8"/>
                    </a:cubicBezTo>
                    <a:lnTo>
                      <a:pt x="15875" y="8"/>
                    </a:lnTo>
                    <a:cubicBezTo>
                      <a:pt x="15874" y="8"/>
                      <a:pt x="15873" y="7"/>
                      <a:pt x="15873" y="6"/>
                    </a:cubicBezTo>
                    <a:cubicBezTo>
                      <a:pt x="15873" y="5"/>
                      <a:pt x="15874" y="4"/>
                      <a:pt x="15875" y="4"/>
                    </a:cubicBezTo>
                    <a:close/>
                    <a:moveTo>
                      <a:pt x="15883" y="4"/>
                    </a:moveTo>
                    <a:lnTo>
                      <a:pt x="15883" y="4"/>
                    </a:lnTo>
                    <a:cubicBezTo>
                      <a:pt x="15884" y="4"/>
                      <a:pt x="15885" y="5"/>
                      <a:pt x="15885" y="6"/>
                    </a:cubicBezTo>
                    <a:cubicBezTo>
                      <a:pt x="15885" y="7"/>
                      <a:pt x="15884" y="8"/>
                      <a:pt x="15883" y="8"/>
                    </a:cubicBezTo>
                    <a:lnTo>
                      <a:pt x="15883" y="8"/>
                    </a:lnTo>
                    <a:cubicBezTo>
                      <a:pt x="15882" y="8"/>
                      <a:pt x="15881" y="7"/>
                      <a:pt x="15881" y="6"/>
                    </a:cubicBezTo>
                    <a:cubicBezTo>
                      <a:pt x="15881" y="5"/>
                      <a:pt x="15882" y="4"/>
                      <a:pt x="15883" y="4"/>
                    </a:cubicBezTo>
                    <a:close/>
                    <a:moveTo>
                      <a:pt x="15891" y="4"/>
                    </a:moveTo>
                    <a:lnTo>
                      <a:pt x="15891" y="4"/>
                    </a:lnTo>
                    <a:cubicBezTo>
                      <a:pt x="15892" y="4"/>
                      <a:pt x="15893" y="5"/>
                      <a:pt x="15893" y="6"/>
                    </a:cubicBezTo>
                    <a:cubicBezTo>
                      <a:pt x="15893" y="7"/>
                      <a:pt x="15892" y="8"/>
                      <a:pt x="15891" y="8"/>
                    </a:cubicBezTo>
                    <a:lnTo>
                      <a:pt x="15891" y="8"/>
                    </a:lnTo>
                    <a:cubicBezTo>
                      <a:pt x="15890" y="8"/>
                      <a:pt x="15889" y="7"/>
                      <a:pt x="15889" y="6"/>
                    </a:cubicBezTo>
                    <a:cubicBezTo>
                      <a:pt x="15889" y="5"/>
                      <a:pt x="15890" y="4"/>
                      <a:pt x="15891" y="4"/>
                    </a:cubicBezTo>
                    <a:close/>
                    <a:moveTo>
                      <a:pt x="15899" y="4"/>
                    </a:moveTo>
                    <a:lnTo>
                      <a:pt x="15899" y="4"/>
                    </a:lnTo>
                    <a:cubicBezTo>
                      <a:pt x="15900" y="4"/>
                      <a:pt x="15901" y="5"/>
                      <a:pt x="15901" y="6"/>
                    </a:cubicBezTo>
                    <a:cubicBezTo>
                      <a:pt x="15901" y="7"/>
                      <a:pt x="15900" y="8"/>
                      <a:pt x="15899" y="8"/>
                    </a:cubicBezTo>
                    <a:lnTo>
                      <a:pt x="15899" y="8"/>
                    </a:lnTo>
                    <a:cubicBezTo>
                      <a:pt x="15898" y="8"/>
                      <a:pt x="15897" y="7"/>
                      <a:pt x="15897" y="6"/>
                    </a:cubicBezTo>
                    <a:cubicBezTo>
                      <a:pt x="15897" y="5"/>
                      <a:pt x="15898" y="4"/>
                      <a:pt x="15899" y="4"/>
                    </a:cubicBezTo>
                    <a:close/>
                    <a:moveTo>
                      <a:pt x="15907" y="4"/>
                    </a:moveTo>
                    <a:lnTo>
                      <a:pt x="15907" y="4"/>
                    </a:lnTo>
                    <a:cubicBezTo>
                      <a:pt x="15908" y="4"/>
                      <a:pt x="15909" y="5"/>
                      <a:pt x="15909" y="6"/>
                    </a:cubicBezTo>
                    <a:cubicBezTo>
                      <a:pt x="15909" y="7"/>
                      <a:pt x="15908" y="8"/>
                      <a:pt x="15907" y="8"/>
                    </a:cubicBezTo>
                    <a:lnTo>
                      <a:pt x="15907" y="8"/>
                    </a:lnTo>
                    <a:cubicBezTo>
                      <a:pt x="15906" y="8"/>
                      <a:pt x="15905" y="7"/>
                      <a:pt x="15905" y="6"/>
                    </a:cubicBezTo>
                    <a:cubicBezTo>
                      <a:pt x="15905" y="5"/>
                      <a:pt x="15906" y="4"/>
                      <a:pt x="15907" y="4"/>
                    </a:cubicBezTo>
                    <a:close/>
                    <a:moveTo>
                      <a:pt x="15915" y="4"/>
                    </a:moveTo>
                    <a:lnTo>
                      <a:pt x="15915" y="4"/>
                    </a:lnTo>
                    <a:cubicBezTo>
                      <a:pt x="15916" y="4"/>
                      <a:pt x="15917" y="5"/>
                      <a:pt x="15917" y="6"/>
                    </a:cubicBezTo>
                    <a:cubicBezTo>
                      <a:pt x="15917" y="7"/>
                      <a:pt x="15916" y="8"/>
                      <a:pt x="15915" y="8"/>
                    </a:cubicBezTo>
                    <a:lnTo>
                      <a:pt x="15915" y="8"/>
                    </a:lnTo>
                    <a:cubicBezTo>
                      <a:pt x="15914" y="8"/>
                      <a:pt x="15913" y="7"/>
                      <a:pt x="15913" y="6"/>
                    </a:cubicBezTo>
                    <a:cubicBezTo>
                      <a:pt x="15913" y="5"/>
                      <a:pt x="15914" y="4"/>
                      <a:pt x="15915" y="4"/>
                    </a:cubicBezTo>
                    <a:close/>
                    <a:moveTo>
                      <a:pt x="15923" y="4"/>
                    </a:moveTo>
                    <a:lnTo>
                      <a:pt x="15923" y="4"/>
                    </a:lnTo>
                    <a:cubicBezTo>
                      <a:pt x="15924" y="4"/>
                      <a:pt x="15925" y="5"/>
                      <a:pt x="15925" y="6"/>
                    </a:cubicBezTo>
                    <a:cubicBezTo>
                      <a:pt x="15925" y="7"/>
                      <a:pt x="15924" y="8"/>
                      <a:pt x="15923" y="8"/>
                    </a:cubicBezTo>
                    <a:lnTo>
                      <a:pt x="15923" y="8"/>
                    </a:lnTo>
                    <a:cubicBezTo>
                      <a:pt x="15922" y="8"/>
                      <a:pt x="15921" y="7"/>
                      <a:pt x="15921" y="6"/>
                    </a:cubicBezTo>
                    <a:cubicBezTo>
                      <a:pt x="15921" y="5"/>
                      <a:pt x="15922" y="4"/>
                      <a:pt x="15923" y="4"/>
                    </a:cubicBezTo>
                    <a:close/>
                    <a:moveTo>
                      <a:pt x="15931" y="4"/>
                    </a:moveTo>
                    <a:lnTo>
                      <a:pt x="15931" y="4"/>
                    </a:lnTo>
                    <a:cubicBezTo>
                      <a:pt x="15932" y="4"/>
                      <a:pt x="15933" y="5"/>
                      <a:pt x="15933" y="6"/>
                    </a:cubicBezTo>
                    <a:cubicBezTo>
                      <a:pt x="15933" y="7"/>
                      <a:pt x="15932" y="8"/>
                      <a:pt x="15931" y="8"/>
                    </a:cubicBezTo>
                    <a:lnTo>
                      <a:pt x="15931" y="8"/>
                    </a:lnTo>
                    <a:cubicBezTo>
                      <a:pt x="15930" y="8"/>
                      <a:pt x="15929" y="7"/>
                      <a:pt x="15929" y="6"/>
                    </a:cubicBezTo>
                    <a:cubicBezTo>
                      <a:pt x="15929" y="5"/>
                      <a:pt x="15930" y="4"/>
                      <a:pt x="15931" y="4"/>
                    </a:cubicBezTo>
                    <a:close/>
                    <a:moveTo>
                      <a:pt x="15939" y="4"/>
                    </a:moveTo>
                    <a:lnTo>
                      <a:pt x="15939" y="4"/>
                    </a:lnTo>
                    <a:cubicBezTo>
                      <a:pt x="15940" y="4"/>
                      <a:pt x="15941" y="5"/>
                      <a:pt x="15941" y="6"/>
                    </a:cubicBezTo>
                    <a:cubicBezTo>
                      <a:pt x="15941" y="7"/>
                      <a:pt x="15940" y="8"/>
                      <a:pt x="15939" y="8"/>
                    </a:cubicBezTo>
                    <a:lnTo>
                      <a:pt x="15939" y="8"/>
                    </a:lnTo>
                    <a:cubicBezTo>
                      <a:pt x="15938" y="8"/>
                      <a:pt x="15937" y="7"/>
                      <a:pt x="15937" y="6"/>
                    </a:cubicBezTo>
                    <a:cubicBezTo>
                      <a:pt x="15937" y="5"/>
                      <a:pt x="15938" y="4"/>
                      <a:pt x="15939" y="4"/>
                    </a:cubicBezTo>
                    <a:close/>
                    <a:moveTo>
                      <a:pt x="15947" y="4"/>
                    </a:moveTo>
                    <a:lnTo>
                      <a:pt x="15947" y="4"/>
                    </a:lnTo>
                    <a:cubicBezTo>
                      <a:pt x="15948" y="4"/>
                      <a:pt x="15949" y="5"/>
                      <a:pt x="15949" y="6"/>
                    </a:cubicBezTo>
                    <a:cubicBezTo>
                      <a:pt x="15949" y="7"/>
                      <a:pt x="15948" y="8"/>
                      <a:pt x="15947" y="8"/>
                    </a:cubicBezTo>
                    <a:lnTo>
                      <a:pt x="15947" y="8"/>
                    </a:lnTo>
                    <a:cubicBezTo>
                      <a:pt x="15946" y="8"/>
                      <a:pt x="15945" y="7"/>
                      <a:pt x="15945" y="6"/>
                    </a:cubicBezTo>
                    <a:cubicBezTo>
                      <a:pt x="15945" y="5"/>
                      <a:pt x="15946" y="4"/>
                      <a:pt x="15947" y="4"/>
                    </a:cubicBezTo>
                    <a:close/>
                    <a:moveTo>
                      <a:pt x="15955" y="4"/>
                    </a:moveTo>
                    <a:lnTo>
                      <a:pt x="15955" y="4"/>
                    </a:lnTo>
                    <a:cubicBezTo>
                      <a:pt x="15956" y="4"/>
                      <a:pt x="15957" y="5"/>
                      <a:pt x="15957" y="6"/>
                    </a:cubicBezTo>
                    <a:cubicBezTo>
                      <a:pt x="15957" y="7"/>
                      <a:pt x="15956" y="8"/>
                      <a:pt x="15955" y="8"/>
                    </a:cubicBezTo>
                    <a:lnTo>
                      <a:pt x="15955" y="8"/>
                    </a:lnTo>
                    <a:cubicBezTo>
                      <a:pt x="15954" y="8"/>
                      <a:pt x="15953" y="7"/>
                      <a:pt x="15953" y="6"/>
                    </a:cubicBezTo>
                    <a:cubicBezTo>
                      <a:pt x="15953" y="5"/>
                      <a:pt x="15954" y="4"/>
                      <a:pt x="15955" y="4"/>
                    </a:cubicBezTo>
                    <a:close/>
                    <a:moveTo>
                      <a:pt x="15963" y="4"/>
                    </a:moveTo>
                    <a:lnTo>
                      <a:pt x="15963" y="4"/>
                    </a:lnTo>
                    <a:cubicBezTo>
                      <a:pt x="15964" y="4"/>
                      <a:pt x="15965" y="5"/>
                      <a:pt x="15965" y="6"/>
                    </a:cubicBezTo>
                    <a:cubicBezTo>
                      <a:pt x="15965" y="7"/>
                      <a:pt x="15964" y="8"/>
                      <a:pt x="15963" y="8"/>
                    </a:cubicBezTo>
                    <a:lnTo>
                      <a:pt x="15963" y="8"/>
                    </a:lnTo>
                    <a:cubicBezTo>
                      <a:pt x="15962" y="8"/>
                      <a:pt x="15961" y="7"/>
                      <a:pt x="15961" y="6"/>
                    </a:cubicBezTo>
                    <a:cubicBezTo>
                      <a:pt x="15961" y="5"/>
                      <a:pt x="15962" y="4"/>
                      <a:pt x="15963" y="4"/>
                    </a:cubicBezTo>
                    <a:close/>
                    <a:moveTo>
                      <a:pt x="15971" y="4"/>
                    </a:moveTo>
                    <a:lnTo>
                      <a:pt x="15971" y="4"/>
                    </a:lnTo>
                    <a:cubicBezTo>
                      <a:pt x="15972" y="4"/>
                      <a:pt x="15973" y="5"/>
                      <a:pt x="15973" y="6"/>
                    </a:cubicBezTo>
                    <a:cubicBezTo>
                      <a:pt x="15973" y="7"/>
                      <a:pt x="15972" y="8"/>
                      <a:pt x="15971" y="8"/>
                    </a:cubicBezTo>
                    <a:lnTo>
                      <a:pt x="15971" y="8"/>
                    </a:lnTo>
                    <a:cubicBezTo>
                      <a:pt x="15970" y="8"/>
                      <a:pt x="15969" y="7"/>
                      <a:pt x="15969" y="6"/>
                    </a:cubicBezTo>
                    <a:cubicBezTo>
                      <a:pt x="15969" y="5"/>
                      <a:pt x="15970" y="4"/>
                      <a:pt x="15971" y="4"/>
                    </a:cubicBezTo>
                    <a:close/>
                    <a:moveTo>
                      <a:pt x="15979" y="4"/>
                    </a:moveTo>
                    <a:lnTo>
                      <a:pt x="15979" y="4"/>
                    </a:lnTo>
                    <a:cubicBezTo>
                      <a:pt x="15980" y="4"/>
                      <a:pt x="15981" y="5"/>
                      <a:pt x="15981" y="6"/>
                    </a:cubicBezTo>
                    <a:cubicBezTo>
                      <a:pt x="15981" y="7"/>
                      <a:pt x="15980" y="8"/>
                      <a:pt x="15979" y="8"/>
                    </a:cubicBezTo>
                    <a:lnTo>
                      <a:pt x="15979" y="8"/>
                    </a:lnTo>
                    <a:cubicBezTo>
                      <a:pt x="15978" y="8"/>
                      <a:pt x="15977" y="7"/>
                      <a:pt x="15977" y="6"/>
                    </a:cubicBezTo>
                    <a:cubicBezTo>
                      <a:pt x="15977" y="5"/>
                      <a:pt x="15978" y="4"/>
                      <a:pt x="15979" y="4"/>
                    </a:cubicBezTo>
                    <a:close/>
                    <a:moveTo>
                      <a:pt x="15987" y="4"/>
                    </a:moveTo>
                    <a:lnTo>
                      <a:pt x="15987" y="4"/>
                    </a:lnTo>
                    <a:cubicBezTo>
                      <a:pt x="15988" y="4"/>
                      <a:pt x="15989" y="5"/>
                      <a:pt x="15989" y="6"/>
                    </a:cubicBezTo>
                    <a:cubicBezTo>
                      <a:pt x="15989" y="7"/>
                      <a:pt x="15988" y="8"/>
                      <a:pt x="15987" y="8"/>
                    </a:cubicBezTo>
                    <a:lnTo>
                      <a:pt x="15987" y="8"/>
                    </a:lnTo>
                    <a:cubicBezTo>
                      <a:pt x="15986" y="8"/>
                      <a:pt x="15985" y="7"/>
                      <a:pt x="15985" y="6"/>
                    </a:cubicBezTo>
                    <a:cubicBezTo>
                      <a:pt x="15985" y="5"/>
                      <a:pt x="15986" y="4"/>
                      <a:pt x="15987" y="4"/>
                    </a:cubicBezTo>
                    <a:close/>
                    <a:moveTo>
                      <a:pt x="15995" y="4"/>
                    </a:moveTo>
                    <a:lnTo>
                      <a:pt x="15995" y="4"/>
                    </a:lnTo>
                    <a:cubicBezTo>
                      <a:pt x="15996" y="4"/>
                      <a:pt x="15997" y="5"/>
                      <a:pt x="15997" y="6"/>
                    </a:cubicBezTo>
                    <a:cubicBezTo>
                      <a:pt x="15997" y="7"/>
                      <a:pt x="15996" y="8"/>
                      <a:pt x="15995" y="8"/>
                    </a:cubicBezTo>
                    <a:lnTo>
                      <a:pt x="15995" y="8"/>
                    </a:lnTo>
                    <a:cubicBezTo>
                      <a:pt x="15994" y="8"/>
                      <a:pt x="15993" y="7"/>
                      <a:pt x="15993" y="6"/>
                    </a:cubicBezTo>
                    <a:cubicBezTo>
                      <a:pt x="15993" y="5"/>
                      <a:pt x="15994" y="4"/>
                      <a:pt x="15995" y="4"/>
                    </a:cubicBezTo>
                    <a:close/>
                    <a:moveTo>
                      <a:pt x="16003" y="4"/>
                    </a:moveTo>
                    <a:lnTo>
                      <a:pt x="16003" y="4"/>
                    </a:lnTo>
                    <a:cubicBezTo>
                      <a:pt x="16004" y="4"/>
                      <a:pt x="16005" y="5"/>
                      <a:pt x="16005" y="6"/>
                    </a:cubicBezTo>
                    <a:cubicBezTo>
                      <a:pt x="16005" y="7"/>
                      <a:pt x="16004" y="8"/>
                      <a:pt x="16003" y="8"/>
                    </a:cubicBezTo>
                    <a:lnTo>
                      <a:pt x="16003" y="8"/>
                    </a:lnTo>
                    <a:cubicBezTo>
                      <a:pt x="16002" y="8"/>
                      <a:pt x="16001" y="7"/>
                      <a:pt x="16001" y="6"/>
                    </a:cubicBezTo>
                    <a:cubicBezTo>
                      <a:pt x="16001" y="5"/>
                      <a:pt x="16002" y="4"/>
                      <a:pt x="16003" y="4"/>
                    </a:cubicBezTo>
                    <a:close/>
                    <a:moveTo>
                      <a:pt x="16011" y="4"/>
                    </a:moveTo>
                    <a:lnTo>
                      <a:pt x="16011" y="4"/>
                    </a:lnTo>
                    <a:cubicBezTo>
                      <a:pt x="16012" y="4"/>
                      <a:pt x="16013" y="5"/>
                      <a:pt x="16013" y="6"/>
                    </a:cubicBezTo>
                    <a:cubicBezTo>
                      <a:pt x="16013" y="7"/>
                      <a:pt x="16012" y="8"/>
                      <a:pt x="16011" y="8"/>
                    </a:cubicBezTo>
                    <a:lnTo>
                      <a:pt x="16011" y="8"/>
                    </a:lnTo>
                    <a:cubicBezTo>
                      <a:pt x="16010" y="8"/>
                      <a:pt x="16009" y="7"/>
                      <a:pt x="16009" y="6"/>
                    </a:cubicBezTo>
                    <a:cubicBezTo>
                      <a:pt x="16009" y="5"/>
                      <a:pt x="16010" y="4"/>
                      <a:pt x="16011" y="4"/>
                    </a:cubicBezTo>
                    <a:close/>
                    <a:moveTo>
                      <a:pt x="16019" y="4"/>
                    </a:moveTo>
                    <a:lnTo>
                      <a:pt x="16019" y="4"/>
                    </a:lnTo>
                    <a:cubicBezTo>
                      <a:pt x="16020" y="4"/>
                      <a:pt x="16021" y="5"/>
                      <a:pt x="16021" y="6"/>
                    </a:cubicBezTo>
                    <a:cubicBezTo>
                      <a:pt x="16021" y="7"/>
                      <a:pt x="16020" y="8"/>
                      <a:pt x="16019" y="8"/>
                    </a:cubicBezTo>
                    <a:lnTo>
                      <a:pt x="16019" y="8"/>
                    </a:lnTo>
                    <a:cubicBezTo>
                      <a:pt x="16018" y="8"/>
                      <a:pt x="16017" y="7"/>
                      <a:pt x="16017" y="6"/>
                    </a:cubicBezTo>
                    <a:cubicBezTo>
                      <a:pt x="16017" y="5"/>
                      <a:pt x="16018" y="4"/>
                      <a:pt x="16019" y="4"/>
                    </a:cubicBezTo>
                    <a:close/>
                    <a:moveTo>
                      <a:pt x="16027" y="4"/>
                    </a:moveTo>
                    <a:lnTo>
                      <a:pt x="16027" y="4"/>
                    </a:lnTo>
                    <a:cubicBezTo>
                      <a:pt x="16028" y="4"/>
                      <a:pt x="16029" y="5"/>
                      <a:pt x="16029" y="6"/>
                    </a:cubicBezTo>
                    <a:cubicBezTo>
                      <a:pt x="16029" y="7"/>
                      <a:pt x="16028" y="8"/>
                      <a:pt x="16027" y="8"/>
                    </a:cubicBezTo>
                    <a:lnTo>
                      <a:pt x="16027" y="8"/>
                    </a:lnTo>
                    <a:cubicBezTo>
                      <a:pt x="16026" y="8"/>
                      <a:pt x="16025" y="7"/>
                      <a:pt x="16025" y="6"/>
                    </a:cubicBezTo>
                    <a:cubicBezTo>
                      <a:pt x="16025" y="5"/>
                      <a:pt x="16026" y="4"/>
                      <a:pt x="16027" y="4"/>
                    </a:cubicBezTo>
                    <a:close/>
                    <a:moveTo>
                      <a:pt x="16035" y="4"/>
                    </a:moveTo>
                    <a:lnTo>
                      <a:pt x="16035" y="4"/>
                    </a:lnTo>
                    <a:cubicBezTo>
                      <a:pt x="16036" y="4"/>
                      <a:pt x="16037" y="5"/>
                      <a:pt x="16037" y="6"/>
                    </a:cubicBezTo>
                    <a:cubicBezTo>
                      <a:pt x="16037" y="7"/>
                      <a:pt x="16036" y="8"/>
                      <a:pt x="16035" y="8"/>
                    </a:cubicBezTo>
                    <a:lnTo>
                      <a:pt x="16035" y="8"/>
                    </a:lnTo>
                    <a:cubicBezTo>
                      <a:pt x="16034" y="8"/>
                      <a:pt x="16033" y="7"/>
                      <a:pt x="16033" y="6"/>
                    </a:cubicBezTo>
                    <a:cubicBezTo>
                      <a:pt x="16033" y="5"/>
                      <a:pt x="16034" y="4"/>
                      <a:pt x="16035" y="4"/>
                    </a:cubicBezTo>
                    <a:close/>
                    <a:moveTo>
                      <a:pt x="16043" y="4"/>
                    </a:moveTo>
                    <a:lnTo>
                      <a:pt x="16043" y="4"/>
                    </a:lnTo>
                    <a:cubicBezTo>
                      <a:pt x="16044" y="4"/>
                      <a:pt x="16045" y="5"/>
                      <a:pt x="16045" y="6"/>
                    </a:cubicBezTo>
                    <a:cubicBezTo>
                      <a:pt x="16045" y="7"/>
                      <a:pt x="16044" y="8"/>
                      <a:pt x="16043" y="8"/>
                    </a:cubicBezTo>
                    <a:lnTo>
                      <a:pt x="16043" y="8"/>
                    </a:lnTo>
                    <a:cubicBezTo>
                      <a:pt x="16042" y="8"/>
                      <a:pt x="16041" y="7"/>
                      <a:pt x="16041" y="6"/>
                    </a:cubicBezTo>
                    <a:cubicBezTo>
                      <a:pt x="16041" y="5"/>
                      <a:pt x="16042" y="4"/>
                      <a:pt x="16043" y="4"/>
                    </a:cubicBezTo>
                    <a:close/>
                    <a:moveTo>
                      <a:pt x="16051" y="4"/>
                    </a:moveTo>
                    <a:lnTo>
                      <a:pt x="16051" y="4"/>
                    </a:lnTo>
                    <a:cubicBezTo>
                      <a:pt x="16052" y="4"/>
                      <a:pt x="16053" y="5"/>
                      <a:pt x="16053" y="6"/>
                    </a:cubicBezTo>
                    <a:cubicBezTo>
                      <a:pt x="16053" y="7"/>
                      <a:pt x="16052" y="8"/>
                      <a:pt x="16051" y="8"/>
                    </a:cubicBezTo>
                    <a:lnTo>
                      <a:pt x="16051" y="8"/>
                    </a:lnTo>
                    <a:cubicBezTo>
                      <a:pt x="16050" y="8"/>
                      <a:pt x="16049" y="7"/>
                      <a:pt x="16049" y="6"/>
                    </a:cubicBezTo>
                    <a:cubicBezTo>
                      <a:pt x="16049" y="5"/>
                      <a:pt x="16050" y="4"/>
                      <a:pt x="16051" y="4"/>
                    </a:cubicBezTo>
                    <a:close/>
                    <a:moveTo>
                      <a:pt x="16059" y="4"/>
                    </a:moveTo>
                    <a:lnTo>
                      <a:pt x="16059" y="4"/>
                    </a:lnTo>
                    <a:cubicBezTo>
                      <a:pt x="16060" y="4"/>
                      <a:pt x="16061" y="5"/>
                      <a:pt x="16061" y="6"/>
                    </a:cubicBezTo>
                    <a:cubicBezTo>
                      <a:pt x="16061" y="7"/>
                      <a:pt x="16060" y="8"/>
                      <a:pt x="16059" y="8"/>
                    </a:cubicBezTo>
                    <a:lnTo>
                      <a:pt x="16059" y="8"/>
                    </a:lnTo>
                    <a:cubicBezTo>
                      <a:pt x="16058" y="8"/>
                      <a:pt x="16057" y="7"/>
                      <a:pt x="16057" y="6"/>
                    </a:cubicBezTo>
                    <a:cubicBezTo>
                      <a:pt x="16057" y="5"/>
                      <a:pt x="16058" y="4"/>
                      <a:pt x="16059" y="4"/>
                    </a:cubicBezTo>
                    <a:close/>
                    <a:moveTo>
                      <a:pt x="16067" y="4"/>
                    </a:moveTo>
                    <a:lnTo>
                      <a:pt x="16067" y="4"/>
                    </a:lnTo>
                    <a:cubicBezTo>
                      <a:pt x="16068" y="4"/>
                      <a:pt x="16069" y="5"/>
                      <a:pt x="16069" y="6"/>
                    </a:cubicBezTo>
                    <a:cubicBezTo>
                      <a:pt x="16069" y="7"/>
                      <a:pt x="16068" y="8"/>
                      <a:pt x="16067" y="8"/>
                    </a:cubicBezTo>
                    <a:lnTo>
                      <a:pt x="16067" y="8"/>
                    </a:lnTo>
                    <a:cubicBezTo>
                      <a:pt x="16066" y="8"/>
                      <a:pt x="16065" y="7"/>
                      <a:pt x="16065" y="6"/>
                    </a:cubicBezTo>
                    <a:cubicBezTo>
                      <a:pt x="16065" y="5"/>
                      <a:pt x="16066" y="4"/>
                      <a:pt x="16067" y="4"/>
                    </a:cubicBezTo>
                    <a:close/>
                    <a:moveTo>
                      <a:pt x="16075" y="4"/>
                    </a:moveTo>
                    <a:lnTo>
                      <a:pt x="16075" y="4"/>
                    </a:lnTo>
                    <a:cubicBezTo>
                      <a:pt x="16076" y="4"/>
                      <a:pt x="16077" y="5"/>
                      <a:pt x="16077" y="6"/>
                    </a:cubicBezTo>
                    <a:cubicBezTo>
                      <a:pt x="16077" y="7"/>
                      <a:pt x="16076" y="8"/>
                      <a:pt x="16075" y="8"/>
                    </a:cubicBezTo>
                    <a:lnTo>
                      <a:pt x="16075" y="8"/>
                    </a:lnTo>
                    <a:cubicBezTo>
                      <a:pt x="16074" y="8"/>
                      <a:pt x="16073" y="7"/>
                      <a:pt x="16073" y="6"/>
                    </a:cubicBezTo>
                    <a:cubicBezTo>
                      <a:pt x="16073" y="5"/>
                      <a:pt x="16074" y="4"/>
                      <a:pt x="16075" y="4"/>
                    </a:cubicBezTo>
                    <a:close/>
                    <a:moveTo>
                      <a:pt x="16083" y="4"/>
                    </a:moveTo>
                    <a:lnTo>
                      <a:pt x="16083" y="4"/>
                    </a:lnTo>
                    <a:cubicBezTo>
                      <a:pt x="16084" y="4"/>
                      <a:pt x="16085" y="5"/>
                      <a:pt x="16085" y="6"/>
                    </a:cubicBezTo>
                    <a:cubicBezTo>
                      <a:pt x="16085" y="7"/>
                      <a:pt x="16084" y="8"/>
                      <a:pt x="16083" y="8"/>
                    </a:cubicBezTo>
                    <a:lnTo>
                      <a:pt x="16083" y="8"/>
                    </a:lnTo>
                    <a:cubicBezTo>
                      <a:pt x="16082" y="8"/>
                      <a:pt x="16081" y="7"/>
                      <a:pt x="16081" y="6"/>
                    </a:cubicBezTo>
                    <a:cubicBezTo>
                      <a:pt x="16081" y="5"/>
                      <a:pt x="16082" y="4"/>
                      <a:pt x="16083" y="4"/>
                    </a:cubicBezTo>
                    <a:close/>
                    <a:moveTo>
                      <a:pt x="16091" y="4"/>
                    </a:moveTo>
                    <a:lnTo>
                      <a:pt x="16091" y="4"/>
                    </a:lnTo>
                    <a:cubicBezTo>
                      <a:pt x="16092" y="4"/>
                      <a:pt x="16093" y="5"/>
                      <a:pt x="16093" y="6"/>
                    </a:cubicBezTo>
                    <a:cubicBezTo>
                      <a:pt x="16093" y="7"/>
                      <a:pt x="16092" y="8"/>
                      <a:pt x="16091" y="8"/>
                    </a:cubicBezTo>
                    <a:lnTo>
                      <a:pt x="16091" y="8"/>
                    </a:lnTo>
                    <a:cubicBezTo>
                      <a:pt x="16090" y="8"/>
                      <a:pt x="16089" y="7"/>
                      <a:pt x="16089" y="6"/>
                    </a:cubicBezTo>
                    <a:cubicBezTo>
                      <a:pt x="16089" y="5"/>
                      <a:pt x="16090" y="4"/>
                      <a:pt x="16091" y="4"/>
                    </a:cubicBezTo>
                    <a:close/>
                    <a:moveTo>
                      <a:pt x="16099" y="4"/>
                    </a:moveTo>
                    <a:lnTo>
                      <a:pt x="16099" y="4"/>
                    </a:lnTo>
                    <a:cubicBezTo>
                      <a:pt x="16100" y="4"/>
                      <a:pt x="16101" y="5"/>
                      <a:pt x="16101" y="6"/>
                    </a:cubicBezTo>
                    <a:cubicBezTo>
                      <a:pt x="16101" y="7"/>
                      <a:pt x="16100" y="8"/>
                      <a:pt x="16099" y="8"/>
                    </a:cubicBezTo>
                    <a:lnTo>
                      <a:pt x="16099" y="8"/>
                    </a:lnTo>
                    <a:cubicBezTo>
                      <a:pt x="16098" y="8"/>
                      <a:pt x="16097" y="7"/>
                      <a:pt x="16097" y="6"/>
                    </a:cubicBezTo>
                    <a:cubicBezTo>
                      <a:pt x="16097" y="5"/>
                      <a:pt x="16098" y="4"/>
                      <a:pt x="16099" y="4"/>
                    </a:cubicBezTo>
                    <a:close/>
                    <a:moveTo>
                      <a:pt x="16107" y="4"/>
                    </a:moveTo>
                    <a:lnTo>
                      <a:pt x="16107" y="4"/>
                    </a:lnTo>
                    <a:cubicBezTo>
                      <a:pt x="16108" y="4"/>
                      <a:pt x="16109" y="5"/>
                      <a:pt x="16109" y="6"/>
                    </a:cubicBezTo>
                    <a:cubicBezTo>
                      <a:pt x="16109" y="7"/>
                      <a:pt x="16108" y="8"/>
                      <a:pt x="16107" y="8"/>
                    </a:cubicBezTo>
                    <a:lnTo>
                      <a:pt x="16107" y="8"/>
                    </a:lnTo>
                    <a:cubicBezTo>
                      <a:pt x="16106" y="8"/>
                      <a:pt x="16105" y="7"/>
                      <a:pt x="16105" y="6"/>
                    </a:cubicBezTo>
                    <a:cubicBezTo>
                      <a:pt x="16105" y="5"/>
                      <a:pt x="16106" y="4"/>
                      <a:pt x="16107" y="4"/>
                    </a:cubicBezTo>
                    <a:close/>
                    <a:moveTo>
                      <a:pt x="16115" y="4"/>
                    </a:moveTo>
                    <a:lnTo>
                      <a:pt x="16115" y="4"/>
                    </a:lnTo>
                    <a:cubicBezTo>
                      <a:pt x="16116" y="4"/>
                      <a:pt x="16117" y="5"/>
                      <a:pt x="16117" y="6"/>
                    </a:cubicBezTo>
                    <a:cubicBezTo>
                      <a:pt x="16117" y="7"/>
                      <a:pt x="16116" y="8"/>
                      <a:pt x="16115" y="8"/>
                    </a:cubicBezTo>
                    <a:lnTo>
                      <a:pt x="16115" y="8"/>
                    </a:lnTo>
                    <a:cubicBezTo>
                      <a:pt x="16114" y="8"/>
                      <a:pt x="16113" y="7"/>
                      <a:pt x="16113" y="6"/>
                    </a:cubicBezTo>
                    <a:cubicBezTo>
                      <a:pt x="16113" y="5"/>
                      <a:pt x="16114" y="4"/>
                      <a:pt x="16115" y="4"/>
                    </a:cubicBezTo>
                    <a:close/>
                    <a:moveTo>
                      <a:pt x="16123" y="4"/>
                    </a:moveTo>
                    <a:lnTo>
                      <a:pt x="16123" y="4"/>
                    </a:lnTo>
                    <a:cubicBezTo>
                      <a:pt x="16124" y="4"/>
                      <a:pt x="16125" y="5"/>
                      <a:pt x="16125" y="6"/>
                    </a:cubicBezTo>
                    <a:cubicBezTo>
                      <a:pt x="16125" y="7"/>
                      <a:pt x="16124" y="8"/>
                      <a:pt x="16123" y="8"/>
                    </a:cubicBezTo>
                    <a:lnTo>
                      <a:pt x="16123" y="8"/>
                    </a:lnTo>
                    <a:cubicBezTo>
                      <a:pt x="16122" y="8"/>
                      <a:pt x="16121" y="7"/>
                      <a:pt x="16121" y="6"/>
                    </a:cubicBezTo>
                    <a:cubicBezTo>
                      <a:pt x="16121" y="5"/>
                      <a:pt x="16122" y="4"/>
                      <a:pt x="16123" y="4"/>
                    </a:cubicBezTo>
                    <a:close/>
                    <a:moveTo>
                      <a:pt x="16131" y="4"/>
                    </a:moveTo>
                    <a:lnTo>
                      <a:pt x="16131" y="4"/>
                    </a:lnTo>
                    <a:cubicBezTo>
                      <a:pt x="16132" y="4"/>
                      <a:pt x="16133" y="5"/>
                      <a:pt x="16133" y="6"/>
                    </a:cubicBezTo>
                    <a:cubicBezTo>
                      <a:pt x="16133" y="7"/>
                      <a:pt x="16132" y="8"/>
                      <a:pt x="16131" y="8"/>
                    </a:cubicBezTo>
                    <a:lnTo>
                      <a:pt x="16131" y="8"/>
                    </a:lnTo>
                    <a:cubicBezTo>
                      <a:pt x="16130" y="8"/>
                      <a:pt x="16129" y="7"/>
                      <a:pt x="16129" y="6"/>
                    </a:cubicBezTo>
                    <a:cubicBezTo>
                      <a:pt x="16129" y="5"/>
                      <a:pt x="16130" y="4"/>
                      <a:pt x="16131" y="4"/>
                    </a:cubicBezTo>
                    <a:close/>
                    <a:moveTo>
                      <a:pt x="16139" y="4"/>
                    </a:moveTo>
                    <a:lnTo>
                      <a:pt x="16139" y="4"/>
                    </a:lnTo>
                    <a:cubicBezTo>
                      <a:pt x="16140" y="4"/>
                      <a:pt x="16141" y="5"/>
                      <a:pt x="16141" y="6"/>
                    </a:cubicBezTo>
                    <a:cubicBezTo>
                      <a:pt x="16141" y="7"/>
                      <a:pt x="16140" y="8"/>
                      <a:pt x="16139" y="8"/>
                    </a:cubicBezTo>
                    <a:lnTo>
                      <a:pt x="16139" y="8"/>
                    </a:lnTo>
                    <a:cubicBezTo>
                      <a:pt x="16138" y="8"/>
                      <a:pt x="16137" y="7"/>
                      <a:pt x="16137" y="6"/>
                    </a:cubicBezTo>
                    <a:cubicBezTo>
                      <a:pt x="16137" y="5"/>
                      <a:pt x="16138" y="4"/>
                      <a:pt x="16139" y="4"/>
                    </a:cubicBezTo>
                    <a:close/>
                    <a:moveTo>
                      <a:pt x="16147" y="4"/>
                    </a:moveTo>
                    <a:lnTo>
                      <a:pt x="16147" y="4"/>
                    </a:lnTo>
                    <a:cubicBezTo>
                      <a:pt x="16148" y="4"/>
                      <a:pt x="16149" y="5"/>
                      <a:pt x="16149" y="6"/>
                    </a:cubicBezTo>
                    <a:cubicBezTo>
                      <a:pt x="16149" y="7"/>
                      <a:pt x="16148" y="8"/>
                      <a:pt x="16147" y="8"/>
                    </a:cubicBezTo>
                    <a:lnTo>
                      <a:pt x="16147" y="8"/>
                    </a:lnTo>
                    <a:cubicBezTo>
                      <a:pt x="16146" y="8"/>
                      <a:pt x="16145" y="7"/>
                      <a:pt x="16145" y="6"/>
                    </a:cubicBezTo>
                    <a:cubicBezTo>
                      <a:pt x="16145" y="5"/>
                      <a:pt x="16146" y="4"/>
                      <a:pt x="16147" y="4"/>
                    </a:cubicBezTo>
                    <a:close/>
                    <a:moveTo>
                      <a:pt x="16155" y="4"/>
                    </a:moveTo>
                    <a:lnTo>
                      <a:pt x="16155" y="4"/>
                    </a:lnTo>
                    <a:cubicBezTo>
                      <a:pt x="16156" y="4"/>
                      <a:pt x="16157" y="5"/>
                      <a:pt x="16157" y="6"/>
                    </a:cubicBezTo>
                    <a:cubicBezTo>
                      <a:pt x="16157" y="7"/>
                      <a:pt x="16156" y="8"/>
                      <a:pt x="16155" y="8"/>
                    </a:cubicBezTo>
                    <a:lnTo>
                      <a:pt x="16155" y="8"/>
                    </a:lnTo>
                    <a:cubicBezTo>
                      <a:pt x="16154" y="8"/>
                      <a:pt x="16153" y="7"/>
                      <a:pt x="16153" y="6"/>
                    </a:cubicBezTo>
                    <a:cubicBezTo>
                      <a:pt x="16153" y="5"/>
                      <a:pt x="16154" y="4"/>
                      <a:pt x="16155" y="4"/>
                    </a:cubicBezTo>
                    <a:close/>
                    <a:moveTo>
                      <a:pt x="16163" y="4"/>
                    </a:moveTo>
                    <a:lnTo>
                      <a:pt x="16163" y="4"/>
                    </a:lnTo>
                    <a:cubicBezTo>
                      <a:pt x="16164" y="4"/>
                      <a:pt x="16165" y="5"/>
                      <a:pt x="16165" y="6"/>
                    </a:cubicBezTo>
                    <a:cubicBezTo>
                      <a:pt x="16165" y="7"/>
                      <a:pt x="16164" y="8"/>
                      <a:pt x="16163" y="8"/>
                    </a:cubicBezTo>
                    <a:lnTo>
                      <a:pt x="16163" y="8"/>
                    </a:lnTo>
                    <a:cubicBezTo>
                      <a:pt x="16162" y="8"/>
                      <a:pt x="16161" y="7"/>
                      <a:pt x="16161" y="6"/>
                    </a:cubicBezTo>
                    <a:cubicBezTo>
                      <a:pt x="16161" y="5"/>
                      <a:pt x="16162" y="4"/>
                      <a:pt x="16163" y="4"/>
                    </a:cubicBezTo>
                    <a:close/>
                    <a:moveTo>
                      <a:pt x="16171" y="4"/>
                    </a:moveTo>
                    <a:lnTo>
                      <a:pt x="16171" y="4"/>
                    </a:lnTo>
                    <a:cubicBezTo>
                      <a:pt x="16172" y="4"/>
                      <a:pt x="16173" y="5"/>
                      <a:pt x="16173" y="6"/>
                    </a:cubicBezTo>
                    <a:cubicBezTo>
                      <a:pt x="16173" y="7"/>
                      <a:pt x="16172" y="8"/>
                      <a:pt x="16171" y="8"/>
                    </a:cubicBezTo>
                    <a:lnTo>
                      <a:pt x="16171" y="8"/>
                    </a:lnTo>
                    <a:cubicBezTo>
                      <a:pt x="16170" y="8"/>
                      <a:pt x="16169" y="7"/>
                      <a:pt x="16169" y="6"/>
                    </a:cubicBezTo>
                    <a:cubicBezTo>
                      <a:pt x="16169" y="5"/>
                      <a:pt x="16170" y="4"/>
                      <a:pt x="16171" y="4"/>
                    </a:cubicBezTo>
                    <a:close/>
                    <a:moveTo>
                      <a:pt x="16179" y="4"/>
                    </a:moveTo>
                    <a:lnTo>
                      <a:pt x="16179" y="4"/>
                    </a:lnTo>
                    <a:cubicBezTo>
                      <a:pt x="16180" y="4"/>
                      <a:pt x="16181" y="5"/>
                      <a:pt x="16181" y="6"/>
                    </a:cubicBezTo>
                    <a:cubicBezTo>
                      <a:pt x="16181" y="7"/>
                      <a:pt x="16180" y="8"/>
                      <a:pt x="16179" y="8"/>
                    </a:cubicBezTo>
                    <a:lnTo>
                      <a:pt x="16179" y="8"/>
                    </a:lnTo>
                    <a:cubicBezTo>
                      <a:pt x="16178" y="8"/>
                      <a:pt x="16177" y="7"/>
                      <a:pt x="16177" y="6"/>
                    </a:cubicBezTo>
                    <a:cubicBezTo>
                      <a:pt x="16177" y="5"/>
                      <a:pt x="16178" y="4"/>
                      <a:pt x="16179" y="4"/>
                    </a:cubicBezTo>
                    <a:close/>
                    <a:moveTo>
                      <a:pt x="16187" y="4"/>
                    </a:moveTo>
                    <a:lnTo>
                      <a:pt x="16187" y="4"/>
                    </a:lnTo>
                    <a:cubicBezTo>
                      <a:pt x="16188" y="4"/>
                      <a:pt x="16189" y="5"/>
                      <a:pt x="16189" y="6"/>
                    </a:cubicBezTo>
                    <a:cubicBezTo>
                      <a:pt x="16189" y="7"/>
                      <a:pt x="16188" y="8"/>
                      <a:pt x="16187" y="8"/>
                    </a:cubicBezTo>
                    <a:lnTo>
                      <a:pt x="16187" y="8"/>
                    </a:lnTo>
                    <a:cubicBezTo>
                      <a:pt x="16186" y="8"/>
                      <a:pt x="16185" y="7"/>
                      <a:pt x="16185" y="6"/>
                    </a:cubicBezTo>
                    <a:cubicBezTo>
                      <a:pt x="16185" y="5"/>
                      <a:pt x="16186" y="4"/>
                      <a:pt x="16187" y="4"/>
                    </a:cubicBezTo>
                    <a:close/>
                    <a:moveTo>
                      <a:pt x="16195" y="4"/>
                    </a:moveTo>
                    <a:lnTo>
                      <a:pt x="16195" y="4"/>
                    </a:lnTo>
                    <a:cubicBezTo>
                      <a:pt x="16196" y="4"/>
                      <a:pt x="16197" y="5"/>
                      <a:pt x="16197" y="6"/>
                    </a:cubicBezTo>
                    <a:cubicBezTo>
                      <a:pt x="16197" y="7"/>
                      <a:pt x="16196" y="8"/>
                      <a:pt x="16195" y="8"/>
                    </a:cubicBezTo>
                    <a:lnTo>
                      <a:pt x="16195" y="8"/>
                    </a:lnTo>
                    <a:cubicBezTo>
                      <a:pt x="16194" y="8"/>
                      <a:pt x="16193" y="7"/>
                      <a:pt x="16193" y="6"/>
                    </a:cubicBezTo>
                    <a:cubicBezTo>
                      <a:pt x="16193" y="5"/>
                      <a:pt x="16194" y="4"/>
                      <a:pt x="16195" y="4"/>
                    </a:cubicBezTo>
                    <a:close/>
                    <a:moveTo>
                      <a:pt x="16203" y="4"/>
                    </a:moveTo>
                    <a:lnTo>
                      <a:pt x="16203" y="4"/>
                    </a:lnTo>
                    <a:cubicBezTo>
                      <a:pt x="16204" y="4"/>
                      <a:pt x="16205" y="5"/>
                      <a:pt x="16205" y="6"/>
                    </a:cubicBezTo>
                    <a:cubicBezTo>
                      <a:pt x="16205" y="7"/>
                      <a:pt x="16204" y="8"/>
                      <a:pt x="16203" y="8"/>
                    </a:cubicBezTo>
                    <a:lnTo>
                      <a:pt x="16203" y="8"/>
                    </a:lnTo>
                    <a:cubicBezTo>
                      <a:pt x="16202" y="8"/>
                      <a:pt x="16201" y="7"/>
                      <a:pt x="16201" y="6"/>
                    </a:cubicBezTo>
                    <a:cubicBezTo>
                      <a:pt x="16201" y="5"/>
                      <a:pt x="16202" y="4"/>
                      <a:pt x="16203" y="4"/>
                    </a:cubicBezTo>
                    <a:close/>
                    <a:moveTo>
                      <a:pt x="16211" y="4"/>
                    </a:moveTo>
                    <a:lnTo>
                      <a:pt x="16211" y="4"/>
                    </a:lnTo>
                    <a:cubicBezTo>
                      <a:pt x="16212" y="4"/>
                      <a:pt x="16213" y="5"/>
                      <a:pt x="16213" y="6"/>
                    </a:cubicBezTo>
                    <a:cubicBezTo>
                      <a:pt x="16213" y="7"/>
                      <a:pt x="16212" y="8"/>
                      <a:pt x="16211" y="8"/>
                    </a:cubicBezTo>
                    <a:lnTo>
                      <a:pt x="16211" y="8"/>
                    </a:lnTo>
                    <a:cubicBezTo>
                      <a:pt x="16210" y="8"/>
                      <a:pt x="16209" y="7"/>
                      <a:pt x="16209" y="6"/>
                    </a:cubicBezTo>
                    <a:cubicBezTo>
                      <a:pt x="16209" y="5"/>
                      <a:pt x="16210" y="4"/>
                      <a:pt x="16211" y="4"/>
                    </a:cubicBezTo>
                    <a:close/>
                    <a:moveTo>
                      <a:pt x="16219" y="4"/>
                    </a:moveTo>
                    <a:lnTo>
                      <a:pt x="16219" y="4"/>
                    </a:lnTo>
                    <a:cubicBezTo>
                      <a:pt x="16220" y="4"/>
                      <a:pt x="16221" y="5"/>
                      <a:pt x="16221" y="6"/>
                    </a:cubicBezTo>
                    <a:cubicBezTo>
                      <a:pt x="16221" y="7"/>
                      <a:pt x="16220" y="8"/>
                      <a:pt x="16219" y="8"/>
                    </a:cubicBezTo>
                    <a:lnTo>
                      <a:pt x="16219" y="8"/>
                    </a:lnTo>
                    <a:cubicBezTo>
                      <a:pt x="16218" y="8"/>
                      <a:pt x="16217" y="7"/>
                      <a:pt x="16217" y="6"/>
                    </a:cubicBezTo>
                    <a:cubicBezTo>
                      <a:pt x="16217" y="5"/>
                      <a:pt x="16218" y="4"/>
                      <a:pt x="16219" y="4"/>
                    </a:cubicBezTo>
                    <a:close/>
                    <a:moveTo>
                      <a:pt x="16227" y="4"/>
                    </a:moveTo>
                    <a:lnTo>
                      <a:pt x="16227" y="4"/>
                    </a:lnTo>
                    <a:cubicBezTo>
                      <a:pt x="16228" y="4"/>
                      <a:pt x="16229" y="5"/>
                      <a:pt x="16229" y="6"/>
                    </a:cubicBezTo>
                    <a:cubicBezTo>
                      <a:pt x="16229" y="7"/>
                      <a:pt x="16228" y="8"/>
                      <a:pt x="16227" y="8"/>
                    </a:cubicBezTo>
                    <a:lnTo>
                      <a:pt x="16227" y="8"/>
                    </a:lnTo>
                    <a:cubicBezTo>
                      <a:pt x="16226" y="8"/>
                      <a:pt x="16225" y="7"/>
                      <a:pt x="16225" y="6"/>
                    </a:cubicBezTo>
                    <a:cubicBezTo>
                      <a:pt x="16225" y="5"/>
                      <a:pt x="16226" y="4"/>
                      <a:pt x="16227" y="4"/>
                    </a:cubicBezTo>
                    <a:close/>
                    <a:moveTo>
                      <a:pt x="16235" y="4"/>
                    </a:moveTo>
                    <a:lnTo>
                      <a:pt x="16235" y="4"/>
                    </a:lnTo>
                    <a:cubicBezTo>
                      <a:pt x="16236" y="4"/>
                      <a:pt x="16237" y="5"/>
                      <a:pt x="16237" y="6"/>
                    </a:cubicBezTo>
                    <a:cubicBezTo>
                      <a:pt x="16237" y="7"/>
                      <a:pt x="16236" y="8"/>
                      <a:pt x="16235" y="8"/>
                    </a:cubicBezTo>
                    <a:lnTo>
                      <a:pt x="16235" y="8"/>
                    </a:lnTo>
                    <a:cubicBezTo>
                      <a:pt x="16234" y="8"/>
                      <a:pt x="16233" y="7"/>
                      <a:pt x="16233" y="6"/>
                    </a:cubicBezTo>
                    <a:cubicBezTo>
                      <a:pt x="16233" y="5"/>
                      <a:pt x="16234" y="4"/>
                      <a:pt x="16235" y="4"/>
                    </a:cubicBezTo>
                    <a:close/>
                    <a:moveTo>
                      <a:pt x="16243" y="4"/>
                    </a:moveTo>
                    <a:lnTo>
                      <a:pt x="16243" y="4"/>
                    </a:lnTo>
                    <a:cubicBezTo>
                      <a:pt x="16244" y="4"/>
                      <a:pt x="16245" y="5"/>
                      <a:pt x="16245" y="6"/>
                    </a:cubicBezTo>
                    <a:cubicBezTo>
                      <a:pt x="16245" y="7"/>
                      <a:pt x="16244" y="8"/>
                      <a:pt x="16243" y="8"/>
                    </a:cubicBezTo>
                    <a:lnTo>
                      <a:pt x="16243" y="8"/>
                    </a:lnTo>
                    <a:cubicBezTo>
                      <a:pt x="16242" y="8"/>
                      <a:pt x="16241" y="7"/>
                      <a:pt x="16241" y="6"/>
                    </a:cubicBezTo>
                    <a:cubicBezTo>
                      <a:pt x="16241" y="5"/>
                      <a:pt x="16242" y="4"/>
                      <a:pt x="16243" y="4"/>
                    </a:cubicBezTo>
                    <a:close/>
                    <a:moveTo>
                      <a:pt x="16251" y="4"/>
                    </a:moveTo>
                    <a:lnTo>
                      <a:pt x="16251" y="4"/>
                    </a:lnTo>
                    <a:cubicBezTo>
                      <a:pt x="16252" y="4"/>
                      <a:pt x="16253" y="5"/>
                      <a:pt x="16253" y="6"/>
                    </a:cubicBezTo>
                    <a:cubicBezTo>
                      <a:pt x="16253" y="7"/>
                      <a:pt x="16252" y="8"/>
                      <a:pt x="16251" y="8"/>
                    </a:cubicBezTo>
                    <a:lnTo>
                      <a:pt x="16251" y="8"/>
                    </a:lnTo>
                    <a:cubicBezTo>
                      <a:pt x="16250" y="8"/>
                      <a:pt x="16249" y="7"/>
                      <a:pt x="16249" y="6"/>
                    </a:cubicBezTo>
                    <a:cubicBezTo>
                      <a:pt x="16249" y="5"/>
                      <a:pt x="16250" y="4"/>
                      <a:pt x="16251" y="4"/>
                    </a:cubicBezTo>
                    <a:close/>
                    <a:moveTo>
                      <a:pt x="16259" y="4"/>
                    </a:moveTo>
                    <a:lnTo>
                      <a:pt x="16259" y="4"/>
                    </a:lnTo>
                    <a:cubicBezTo>
                      <a:pt x="16260" y="4"/>
                      <a:pt x="16261" y="5"/>
                      <a:pt x="16261" y="6"/>
                    </a:cubicBezTo>
                    <a:cubicBezTo>
                      <a:pt x="16261" y="7"/>
                      <a:pt x="16260" y="8"/>
                      <a:pt x="16259" y="8"/>
                    </a:cubicBezTo>
                    <a:lnTo>
                      <a:pt x="16259" y="8"/>
                    </a:lnTo>
                    <a:cubicBezTo>
                      <a:pt x="16258" y="8"/>
                      <a:pt x="16257" y="7"/>
                      <a:pt x="16257" y="6"/>
                    </a:cubicBezTo>
                    <a:cubicBezTo>
                      <a:pt x="16257" y="5"/>
                      <a:pt x="16258" y="4"/>
                      <a:pt x="16259" y="4"/>
                    </a:cubicBezTo>
                    <a:close/>
                    <a:moveTo>
                      <a:pt x="16267" y="4"/>
                    </a:moveTo>
                    <a:lnTo>
                      <a:pt x="16267" y="4"/>
                    </a:lnTo>
                    <a:cubicBezTo>
                      <a:pt x="16268" y="4"/>
                      <a:pt x="16269" y="5"/>
                      <a:pt x="16269" y="6"/>
                    </a:cubicBezTo>
                    <a:cubicBezTo>
                      <a:pt x="16269" y="7"/>
                      <a:pt x="16268" y="8"/>
                      <a:pt x="16267" y="8"/>
                    </a:cubicBezTo>
                    <a:lnTo>
                      <a:pt x="16267" y="8"/>
                    </a:lnTo>
                    <a:cubicBezTo>
                      <a:pt x="16266" y="8"/>
                      <a:pt x="16265" y="7"/>
                      <a:pt x="16265" y="6"/>
                    </a:cubicBezTo>
                    <a:cubicBezTo>
                      <a:pt x="16265" y="5"/>
                      <a:pt x="16266" y="4"/>
                      <a:pt x="16267" y="4"/>
                    </a:cubicBezTo>
                    <a:close/>
                    <a:moveTo>
                      <a:pt x="16275" y="4"/>
                    </a:moveTo>
                    <a:lnTo>
                      <a:pt x="16275" y="4"/>
                    </a:lnTo>
                    <a:cubicBezTo>
                      <a:pt x="16276" y="4"/>
                      <a:pt x="16277" y="5"/>
                      <a:pt x="16277" y="6"/>
                    </a:cubicBezTo>
                    <a:cubicBezTo>
                      <a:pt x="16277" y="7"/>
                      <a:pt x="16276" y="8"/>
                      <a:pt x="16275" y="8"/>
                    </a:cubicBezTo>
                    <a:lnTo>
                      <a:pt x="16275" y="8"/>
                    </a:lnTo>
                    <a:cubicBezTo>
                      <a:pt x="16274" y="8"/>
                      <a:pt x="16273" y="7"/>
                      <a:pt x="16273" y="6"/>
                    </a:cubicBezTo>
                    <a:cubicBezTo>
                      <a:pt x="16273" y="5"/>
                      <a:pt x="16274" y="4"/>
                      <a:pt x="16275" y="4"/>
                    </a:cubicBezTo>
                    <a:close/>
                    <a:moveTo>
                      <a:pt x="16283" y="4"/>
                    </a:moveTo>
                    <a:lnTo>
                      <a:pt x="16283" y="4"/>
                    </a:lnTo>
                    <a:cubicBezTo>
                      <a:pt x="16284" y="4"/>
                      <a:pt x="16285" y="5"/>
                      <a:pt x="16285" y="6"/>
                    </a:cubicBezTo>
                    <a:cubicBezTo>
                      <a:pt x="16285" y="7"/>
                      <a:pt x="16284" y="8"/>
                      <a:pt x="16283" y="8"/>
                    </a:cubicBezTo>
                    <a:lnTo>
                      <a:pt x="16283" y="8"/>
                    </a:lnTo>
                    <a:cubicBezTo>
                      <a:pt x="16282" y="8"/>
                      <a:pt x="16281" y="7"/>
                      <a:pt x="16281" y="6"/>
                    </a:cubicBezTo>
                    <a:cubicBezTo>
                      <a:pt x="16281" y="5"/>
                      <a:pt x="16282" y="4"/>
                      <a:pt x="16283" y="4"/>
                    </a:cubicBezTo>
                    <a:close/>
                    <a:moveTo>
                      <a:pt x="16291" y="4"/>
                    </a:moveTo>
                    <a:lnTo>
                      <a:pt x="16291" y="4"/>
                    </a:lnTo>
                    <a:cubicBezTo>
                      <a:pt x="16292" y="4"/>
                      <a:pt x="16293" y="5"/>
                      <a:pt x="16293" y="6"/>
                    </a:cubicBezTo>
                    <a:cubicBezTo>
                      <a:pt x="16293" y="7"/>
                      <a:pt x="16292" y="8"/>
                      <a:pt x="16291" y="8"/>
                    </a:cubicBezTo>
                    <a:lnTo>
                      <a:pt x="16291" y="8"/>
                    </a:lnTo>
                    <a:cubicBezTo>
                      <a:pt x="16290" y="8"/>
                      <a:pt x="16289" y="7"/>
                      <a:pt x="16289" y="6"/>
                    </a:cubicBezTo>
                    <a:cubicBezTo>
                      <a:pt x="16289" y="5"/>
                      <a:pt x="16290" y="4"/>
                      <a:pt x="16291" y="4"/>
                    </a:cubicBezTo>
                    <a:close/>
                    <a:moveTo>
                      <a:pt x="16299" y="4"/>
                    </a:moveTo>
                    <a:lnTo>
                      <a:pt x="16299" y="4"/>
                    </a:lnTo>
                    <a:cubicBezTo>
                      <a:pt x="16300" y="4"/>
                      <a:pt x="16301" y="5"/>
                      <a:pt x="16301" y="6"/>
                    </a:cubicBezTo>
                    <a:cubicBezTo>
                      <a:pt x="16301" y="7"/>
                      <a:pt x="16300" y="8"/>
                      <a:pt x="16299" y="8"/>
                    </a:cubicBezTo>
                    <a:lnTo>
                      <a:pt x="16299" y="8"/>
                    </a:lnTo>
                    <a:cubicBezTo>
                      <a:pt x="16298" y="8"/>
                      <a:pt x="16297" y="7"/>
                      <a:pt x="16297" y="6"/>
                    </a:cubicBezTo>
                    <a:cubicBezTo>
                      <a:pt x="16297" y="5"/>
                      <a:pt x="16298" y="4"/>
                      <a:pt x="16299" y="4"/>
                    </a:cubicBezTo>
                    <a:close/>
                    <a:moveTo>
                      <a:pt x="16307" y="4"/>
                    </a:moveTo>
                    <a:lnTo>
                      <a:pt x="16307" y="4"/>
                    </a:lnTo>
                    <a:cubicBezTo>
                      <a:pt x="16308" y="4"/>
                      <a:pt x="16309" y="5"/>
                      <a:pt x="16309" y="6"/>
                    </a:cubicBezTo>
                    <a:cubicBezTo>
                      <a:pt x="16309" y="7"/>
                      <a:pt x="16308" y="8"/>
                      <a:pt x="16307" y="8"/>
                    </a:cubicBezTo>
                    <a:lnTo>
                      <a:pt x="16307" y="8"/>
                    </a:lnTo>
                    <a:cubicBezTo>
                      <a:pt x="16306" y="8"/>
                      <a:pt x="16305" y="7"/>
                      <a:pt x="16305" y="6"/>
                    </a:cubicBezTo>
                    <a:cubicBezTo>
                      <a:pt x="16305" y="5"/>
                      <a:pt x="16306" y="4"/>
                      <a:pt x="16307" y="4"/>
                    </a:cubicBezTo>
                    <a:close/>
                    <a:moveTo>
                      <a:pt x="16315" y="4"/>
                    </a:moveTo>
                    <a:lnTo>
                      <a:pt x="16315" y="4"/>
                    </a:lnTo>
                    <a:cubicBezTo>
                      <a:pt x="16316" y="4"/>
                      <a:pt x="16317" y="5"/>
                      <a:pt x="16317" y="6"/>
                    </a:cubicBezTo>
                    <a:cubicBezTo>
                      <a:pt x="16317" y="7"/>
                      <a:pt x="16316" y="8"/>
                      <a:pt x="16315" y="8"/>
                    </a:cubicBezTo>
                    <a:lnTo>
                      <a:pt x="16315" y="8"/>
                    </a:lnTo>
                    <a:cubicBezTo>
                      <a:pt x="16314" y="8"/>
                      <a:pt x="16313" y="7"/>
                      <a:pt x="16313" y="6"/>
                    </a:cubicBezTo>
                    <a:cubicBezTo>
                      <a:pt x="16313" y="5"/>
                      <a:pt x="16314" y="4"/>
                      <a:pt x="16315" y="4"/>
                    </a:cubicBezTo>
                    <a:close/>
                    <a:moveTo>
                      <a:pt x="16323" y="4"/>
                    </a:moveTo>
                    <a:lnTo>
                      <a:pt x="16323" y="4"/>
                    </a:lnTo>
                    <a:cubicBezTo>
                      <a:pt x="16324" y="4"/>
                      <a:pt x="16325" y="5"/>
                      <a:pt x="16325" y="6"/>
                    </a:cubicBezTo>
                    <a:cubicBezTo>
                      <a:pt x="16325" y="7"/>
                      <a:pt x="16324" y="8"/>
                      <a:pt x="16323" y="8"/>
                    </a:cubicBezTo>
                    <a:lnTo>
                      <a:pt x="16323" y="8"/>
                    </a:lnTo>
                    <a:cubicBezTo>
                      <a:pt x="16322" y="8"/>
                      <a:pt x="16321" y="7"/>
                      <a:pt x="16321" y="6"/>
                    </a:cubicBezTo>
                    <a:cubicBezTo>
                      <a:pt x="16321" y="5"/>
                      <a:pt x="16322" y="4"/>
                      <a:pt x="16323" y="4"/>
                    </a:cubicBezTo>
                    <a:close/>
                    <a:moveTo>
                      <a:pt x="16331" y="4"/>
                    </a:moveTo>
                    <a:lnTo>
                      <a:pt x="16331" y="4"/>
                    </a:lnTo>
                    <a:cubicBezTo>
                      <a:pt x="16332" y="4"/>
                      <a:pt x="16333" y="5"/>
                      <a:pt x="16333" y="6"/>
                    </a:cubicBezTo>
                    <a:cubicBezTo>
                      <a:pt x="16333" y="7"/>
                      <a:pt x="16332" y="8"/>
                      <a:pt x="16331" y="8"/>
                    </a:cubicBezTo>
                    <a:lnTo>
                      <a:pt x="16331" y="8"/>
                    </a:lnTo>
                    <a:cubicBezTo>
                      <a:pt x="16330" y="8"/>
                      <a:pt x="16329" y="7"/>
                      <a:pt x="16329" y="6"/>
                    </a:cubicBezTo>
                    <a:cubicBezTo>
                      <a:pt x="16329" y="5"/>
                      <a:pt x="16330" y="4"/>
                      <a:pt x="16331" y="4"/>
                    </a:cubicBezTo>
                    <a:close/>
                    <a:moveTo>
                      <a:pt x="16339" y="4"/>
                    </a:moveTo>
                    <a:lnTo>
                      <a:pt x="16339" y="4"/>
                    </a:lnTo>
                    <a:cubicBezTo>
                      <a:pt x="16340" y="4"/>
                      <a:pt x="16341" y="5"/>
                      <a:pt x="16341" y="6"/>
                    </a:cubicBezTo>
                    <a:cubicBezTo>
                      <a:pt x="16341" y="7"/>
                      <a:pt x="16340" y="8"/>
                      <a:pt x="16339" y="8"/>
                    </a:cubicBezTo>
                    <a:lnTo>
                      <a:pt x="16339" y="8"/>
                    </a:lnTo>
                    <a:cubicBezTo>
                      <a:pt x="16338" y="8"/>
                      <a:pt x="16337" y="7"/>
                      <a:pt x="16337" y="6"/>
                    </a:cubicBezTo>
                    <a:cubicBezTo>
                      <a:pt x="16337" y="5"/>
                      <a:pt x="16338" y="4"/>
                      <a:pt x="16339" y="4"/>
                    </a:cubicBezTo>
                    <a:close/>
                    <a:moveTo>
                      <a:pt x="16347" y="4"/>
                    </a:moveTo>
                    <a:lnTo>
                      <a:pt x="16347" y="4"/>
                    </a:lnTo>
                    <a:cubicBezTo>
                      <a:pt x="16348" y="4"/>
                      <a:pt x="16349" y="5"/>
                      <a:pt x="16349" y="6"/>
                    </a:cubicBezTo>
                    <a:cubicBezTo>
                      <a:pt x="16349" y="7"/>
                      <a:pt x="16348" y="8"/>
                      <a:pt x="16347" y="8"/>
                    </a:cubicBezTo>
                    <a:lnTo>
                      <a:pt x="16347" y="8"/>
                    </a:lnTo>
                    <a:cubicBezTo>
                      <a:pt x="16346" y="8"/>
                      <a:pt x="16345" y="7"/>
                      <a:pt x="16345" y="6"/>
                    </a:cubicBezTo>
                    <a:cubicBezTo>
                      <a:pt x="16345" y="5"/>
                      <a:pt x="16346" y="4"/>
                      <a:pt x="16347" y="4"/>
                    </a:cubicBezTo>
                    <a:close/>
                    <a:moveTo>
                      <a:pt x="16355" y="4"/>
                    </a:moveTo>
                    <a:lnTo>
                      <a:pt x="16355" y="4"/>
                    </a:lnTo>
                    <a:cubicBezTo>
                      <a:pt x="16356" y="4"/>
                      <a:pt x="16357" y="5"/>
                      <a:pt x="16357" y="6"/>
                    </a:cubicBezTo>
                    <a:cubicBezTo>
                      <a:pt x="16357" y="7"/>
                      <a:pt x="16356" y="8"/>
                      <a:pt x="16355" y="8"/>
                    </a:cubicBezTo>
                    <a:lnTo>
                      <a:pt x="16355" y="8"/>
                    </a:lnTo>
                    <a:cubicBezTo>
                      <a:pt x="16354" y="8"/>
                      <a:pt x="16353" y="7"/>
                      <a:pt x="16353" y="6"/>
                    </a:cubicBezTo>
                    <a:cubicBezTo>
                      <a:pt x="16353" y="5"/>
                      <a:pt x="16354" y="4"/>
                      <a:pt x="16355" y="4"/>
                    </a:cubicBezTo>
                    <a:close/>
                    <a:moveTo>
                      <a:pt x="16363" y="4"/>
                    </a:moveTo>
                    <a:lnTo>
                      <a:pt x="16363" y="4"/>
                    </a:lnTo>
                    <a:cubicBezTo>
                      <a:pt x="16364" y="4"/>
                      <a:pt x="16365" y="5"/>
                      <a:pt x="16365" y="6"/>
                    </a:cubicBezTo>
                    <a:cubicBezTo>
                      <a:pt x="16365" y="7"/>
                      <a:pt x="16364" y="8"/>
                      <a:pt x="16363" y="8"/>
                    </a:cubicBezTo>
                    <a:lnTo>
                      <a:pt x="16363" y="8"/>
                    </a:lnTo>
                    <a:cubicBezTo>
                      <a:pt x="16362" y="8"/>
                      <a:pt x="16361" y="7"/>
                      <a:pt x="16361" y="6"/>
                    </a:cubicBezTo>
                    <a:cubicBezTo>
                      <a:pt x="16361" y="5"/>
                      <a:pt x="16362" y="4"/>
                      <a:pt x="16363" y="4"/>
                    </a:cubicBezTo>
                    <a:close/>
                    <a:moveTo>
                      <a:pt x="16371" y="4"/>
                    </a:moveTo>
                    <a:lnTo>
                      <a:pt x="16371" y="4"/>
                    </a:lnTo>
                    <a:cubicBezTo>
                      <a:pt x="16372" y="4"/>
                      <a:pt x="16373" y="5"/>
                      <a:pt x="16373" y="6"/>
                    </a:cubicBezTo>
                    <a:cubicBezTo>
                      <a:pt x="16373" y="7"/>
                      <a:pt x="16372" y="8"/>
                      <a:pt x="16371" y="8"/>
                    </a:cubicBezTo>
                    <a:lnTo>
                      <a:pt x="16371" y="8"/>
                    </a:lnTo>
                    <a:cubicBezTo>
                      <a:pt x="16370" y="8"/>
                      <a:pt x="16369" y="7"/>
                      <a:pt x="16369" y="6"/>
                    </a:cubicBezTo>
                    <a:cubicBezTo>
                      <a:pt x="16369" y="5"/>
                      <a:pt x="16370" y="4"/>
                      <a:pt x="16371" y="4"/>
                    </a:cubicBezTo>
                    <a:close/>
                    <a:moveTo>
                      <a:pt x="16379" y="4"/>
                    </a:moveTo>
                    <a:lnTo>
                      <a:pt x="16379" y="4"/>
                    </a:lnTo>
                    <a:cubicBezTo>
                      <a:pt x="16380" y="4"/>
                      <a:pt x="16381" y="5"/>
                      <a:pt x="16381" y="6"/>
                    </a:cubicBezTo>
                    <a:cubicBezTo>
                      <a:pt x="16381" y="7"/>
                      <a:pt x="16380" y="8"/>
                      <a:pt x="16379" y="8"/>
                    </a:cubicBezTo>
                    <a:lnTo>
                      <a:pt x="16379" y="8"/>
                    </a:lnTo>
                    <a:cubicBezTo>
                      <a:pt x="16378" y="8"/>
                      <a:pt x="16377" y="7"/>
                      <a:pt x="16377" y="6"/>
                    </a:cubicBezTo>
                    <a:cubicBezTo>
                      <a:pt x="16377" y="5"/>
                      <a:pt x="16378" y="4"/>
                      <a:pt x="16379" y="4"/>
                    </a:cubicBezTo>
                    <a:close/>
                    <a:moveTo>
                      <a:pt x="16387" y="4"/>
                    </a:moveTo>
                    <a:lnTo>
                      <a:pt x="16387" y="4"/>
                    </a:lnTo>
                    <a:cubicBezTo>
                      <a:pt x="16388" y="4"/>
                      <a:pt x="16389" y="5"/>
                      <a:pt x="16389" y="6"/>
                    </a:cubicBezTo>
                    <a:cubicBezTo>
                      <a:pt x="16389" y="7"/>
                      <a:pt x="16388" y="8"/>
                      <a:pt x="16387" y="8"/>
                    </a:cubicBezTo>
                    <a:lnTo>
                      <a:pt x="16387" y="8"/>
                    </a:lnTo>
                    <a:cubicBezTo>
                      <a:pt x="16386" y="8"/>
                      <a:pt x="16385" y="7"/>
                      <a:pt x="16385" y="6"/>
                    </a:cubicBezTo>
                    <a:cubicBezTo>
                      <a:pt x="16385" y="5"/>
                      <a:pt x="16386" y="4"/>
                      <a:pt x="16387" y="4"/>
                    </a:cubicBezTo>
                    <a:close/>
                    <a:moveTo>
                      <a:pt x="16395" y="4"/>
                    </a:moveTo>
                    <a:lnTo>
                      <a:pt x="16395" y="4"/>
                    </a:lnTo>
                    <a:cubicBezTo>
                      <a:pt x="16396" y="4"/>
                      <a:pt x="16397" y="5"/>
                      <a:pt x="16397" y="6"/>
                    </a:cubicBezTo>
                    <a:cubicBezTo>
                      <a:pt x="16397" y="7"/>
                      <a:pt x="16396" y="8"/>
                      <a:pt x="16395" y="8"/>
                    </a:cubicBezTo>
                    <a:lnTo>
                      <a:pt x="16395" y="8"/>
                    </a:lnTo>
                    <a:cubicBezTo>
                      <a:pt x="16394" y="8"/>
                      <a:pt x="16393" y="7"/>
                      <a:pt x="16393" y="6"/>
                    </a:cubicBezTo>
                    <a:cubicBezTo>
                      <a:pt x="16393" y="5"/>
                      <a:pt x="16394" y="4"/>
                      <a:pt x="16395" y="4"/>
                    </a:cubicBezTo>
                    <a:close/>
                    <a:moveTo>
                      <a:pt x="16403" y="4"/>
                    </a:moveTo>
                    <a:lnTo>
                      <a:pt x="16403" y="4"/>
                    </a:lnTo>
                    <a:cubicBezTo>
                      <a:pt x="16404" y="4"/>
                      <a:pt x="16405" y="5"/>
                      <a:pt x="16405" y="6"/>
                    </a:cubicBezTo>
                    <a:cubicBezTo>
                      <a:pt x="16405" y="7"/>
                      <a:pt x="16404" y="8"/>
                      <a:pt x="16403" y="8"/>
                    </a:cubicBezTo>
                    <a:lnTo>
                      <a:pt x="16403" y="8"/>
                    </a:lnTo>
                    <a:cubicBezTo>
                      <a:pt x="16402" y="8"/>
                      <a:pt x="16401" y="7"/>
                      <a:pt x="16401" y="6"/>
                    </a:cubicBezTo>
                    <a:cubicBezTo>
                      <a:pt x="16401" y="5"/>
                      <a:pt x="16402" y="4"/>
                      <a:pt x="16403" y="4"/>
                    </a:cubicBezTo>
                    <a:close/>
                    <a:moveTo>
                      <a:pt x="16411" y="4"/>
                    </a:moveTo>
                    <a:lnTo>
                      <a:pt x="16411" y="4"/>
                    </a:lnTo>
                    <a:cubicBezTo>
                      <a:pt x="16412" y="4"/>
                      <a:pt x="16413" y="5"/>
                      <a:pt x="16413" y="6"/>
                    </a:cubicBezTo>
                    <a:cubicBezTo>
                      <a:pt x="16413" y="7"/>
                      <a:pt x="16412" y="8"/>
                      <a:pt x="16411" y="8"/>
                    </a:cubicBezTo>
                    <a:lnTo>
                      <a:pt x="16411" y="8"/>
                    </a:lnTo>
                    <a:cubicBezTo>
                      <a:pt x="16410" y="8"/>
                      <a:pt x="16409" y="7"/>
                      <a:pt x="16409" y="6"/>
                    </a:cubicBezTo>
                    <a:cubicBezTo>
                      <a:pt x="16409" y="5"/>
                      <a:pt x="16410" y="4"/>
                      <a:pt x="16411" y="4"/>
                    </a:cubicBezTo>
                    <a:close/>
                    <a:moveTo>
                      <a:pt x="16419" y="4"/>
                    </a:moveTo>
                    <a:lnTo>
                      <a:pt x="16419" y="4"/>
                    </a:lnTo>
                    <a:cubicBezTo>
                      <a:pt x="16420" y="4"/>
                      <a:pt x="16421" y="5"/>
                      <a:pt x="16421" y="6"/>
                    </a:cubicBezTo>
                    <a:cubicBezTo>
                      <a:pt x="16421" y="7"/>
                      <a:pt x="16420" y="8"/>
                      <a:pt x="16419" y="8"/>
                    </a:cubicBezTo>
                    <a:lnTo>
                      <a:pt x="16419" y="8"/>
                    </a:lnTo>
                    <a:cubicBezTo>
                      <a:pt x="16418" y="8"/>
                      <a:pt x="16417" y="7"/>
                      <a:pt x="16417" y="6"/>
                    </a:cubicBezTo>
                    <a:cubicBezTo>
                      <a:pt x="16417" y="5"/>
                      <a:pt x="16418" y="4"/>
                      <a:pt x="16419" y="4"/>
                    </a:cubicBezTo>
                    <a:close/>
                    <a:moveTo>
                      <a:pt x="16427" y="4"/>
                    </a:moveTo>
                    <a:lnTo>
                      <a:pt x="16427" y="4"/>
                    </a:lnTo>
                    <a:cubicBezTo>
                      <a:pt x="16428" y="4"/>
                      <a:pt x="16429" y="5"/>
                      <a:pt x="16429" y="6"/>
                    </a:cubicBezTo>
                    <a:cubicBezTo>
                      <a:pt x="16429" y="7"/>
                      <a:pt x="16428" y="8"/>
                      <a:pt x="16427" y="8"/>
                    </a:cubicBezTo>
                    <a:lnTo>
                      <a:pt x="16427" y="8"/>
                    </a:lnTo>
                    <a:cubicBezTo>
                      <a:pt x="16426" y="8"/>
                      <a:pt x="16425" y="7"/>
                      <a:pt x="16425" y="6"/>
                    </a:cubicBezTo>
                    <a:cubicBezTo>
                      <a:pt x="16425" y="5"/>
                      <a:pt x="16426" y="4"/>
                      <a:pt x="16427" y="4"/>
                    </a:cubicBezTo>
                    <a:close/>
                    <a:moveTo>
                      <a:pt x="16435" y="4"/>
                    </a:moveTo>
                    <a:lnTo>
                      <a:pt x="16435" y="4"/>
                    </a:lnTo>
                    <a:cubicBezTo>
                      <a:pt x="16436" y="4"/>
                      <a:pt x="16437" y="5"/>
                      <a:pt x="16437" y="6"/>
                    </a:cubicBezTo>
                    <a:cubicBezTo>
                      <a:pt x="16437" y="7"/>
                      <a:pt x="16436" y="8"/>
                      <a:pt x="16435" y="8"/>
                    </a:cubicBezTo>
                    <a:lnTo>
                      <a:pt x="16435" y="8"/>
                    </a:lnTo>
                    <a:cubicBezTo>
                      <a:pt x="16434" y="8"/>
                      <a:pt x="16433" y="7"/>
                      <a:pt x="16433" y="6"/>
                    </a:cubicBezTo>
                    <a:cubicBezTo>
                      <a:pt x="16433" y="5"/>
                      <a:pt x="16434" y="4"/>
                      <a:pt x="16435" y="4"/>
                    </a:cubicBezTo>
                    <a:close/>
                    <a:moveTo>
                      <a:pt x="16443" y="4"/>
                    </a:moveTo>
                    <a:lnTo>
                      <a:pt x="16443" y="4"/>
                    </a:lnTo>
                    <a:cubicBezTo>
                      <a:pt x="16444" y="4"/>
                      <a:pt x="16445" y="5"/>
                      <a:pt x="16445" y="6"/>
                    </a:cubicBezTo>
                    <a:cubicBezTo>
                      <a:pt x="16445" y="7"/>
                      <a:pt x="16444" y="8"/>
                      <a:pt x="16443" y="8"/>
                    </a:cubicBezTo>
                    <a:lnTo>
                      <a:pt x="16443" y="8"/>
                    </a:lnTo>
                    <a:cubicBezTo>
                      <a:pt x="16442" y="8"/>
                      <a:pt x="16441" y="7"/>
                      <a:pt x="16441" y="6"/>
                    </a:cubicBezTo>
                    <a:cubicBezTo>
                      <a:pt x="16441" y="5"/>
                      <a:pt x="16442" y="4"/>
                      <a:pt x="16443" y="4"/>
                    </a:cubicBezTo>
                    <a:close/>
                    <a:moveTo>
                      <a:pt x="16451" y="4"/>
                    </a:moveTo>
                    <a:lnTo>
                      <a:pt x="16451" y="4"/>
                    </a:lnTo>
                    <a:cubicBezTo>
                      <a:pt x="16452" y="4"/>
                      <a:pt x="16453" y="5"/>
                      <a:pt x="16453" y="6"/>
                    </a:cubicBezTo>
                    <a:cubicBezTo>
                      <a:pt x="16453" y="7"/>
                      <a:pt x="16452" y="8"/>
                      <a:pt x="16451" y="8"/>
                    </a:cubicBezTo>
                    <a:lnTo>
                      <a:pt x="16451" y="8"/>
                    </a:lnTo>
                    <a:cubicBezTo>
                      <a:pt x="16450" y="8"/>
                      <a:pt x="16449" y="7"/>
                      <a:pt x="16449" y="6"/>
                    </a:cubicBezTo>
                    <a:cubicBezTo>
                      <a:pt x="16449" y="5"/>
                      <a:pt x="16450" y="4"/>
                      <a:pt x="16451" y="4"/>
                    </a:cubicBezTo>
                    <a:close/>
                    <a:moveTo>
                      <a:pt x="16459" y="4"/>
                    </a:moveTo>
                    <a:lnTo>
                      <a:pt x="16459" y="4"/>
                    </a:lnTo>
                    <a:cubicBezTo>
                      <a:pt x="16460" y="4"/>
                      <a:pt x="16461" y="5"/>
                      <a:pt x="16461" y="6"/>
                    </a:cubicBezTo>
                    <a:cubicBezTo>
                      <a:pt x="16461" y="7"/>
                      <a:pt x="16460" y="8"/>
                      <a:pt x="16459" y="8"/>
                    </a:cubicBezTo>
                    <a:lnTo>
                      <a:pt x="16459" y="8"/>
                    </a:lnTo>
                    <a:cubicBezTo>
                      <a:pt x="16458" y="8"/>
                      <a:pt x="16457" y="7"/>
                      <a:pt x="16457" y="6"/>
                    </a:cubicBezTo>
                    <a:cubicBezTo>
                      <a:pt x="16457" y="5"/>
                      <a:pt x="16458" y="4"/>
                      <a:pt x="16459" y="4"/>
                    </a:cubicBezTo>
                    <a:close/>
                    <a:moveTo>
                      <a:pt x="16467" y="4"/>
                    </a:moveTo>
                    <a:lnTo>
                      <a:pt x="16467" y="4"/>
                    </a:lnTo>
                    <a:cubicBezTo>
                      <a:pt x="16468" y="4"/>
                      <a:pt x="16469" y="5"/>
                      <a:pt x="16469" y="6"/>
                    </a:cubicBezTo>
                    <a:cubicBezTo>
                      <a:pt x="16469" y="7"/>
                      <a:pt x="16468" y="8"/>
                      <a:pt x="16467" y="8"/>
                    </a:cubicBezTo>
                    <a:lnTo>
                      <a:pt x="16467" y="8"/>
                    </a:lnTo>
                    <a:cubicBezTo>
                      <a:pt x="16466" y="8"/>
                      <a:pt x="16465" y="7"/>
                      <a:pt x="16465" y="6"/>
                    </a:cubicBezTo>
                    <a:cubicBezTo>
                      <a:pt x="16465" y="5"/>
                      <a:pt x="16466" y="4"/>
                      <a:pt x="16467" y="4"/>
                    </a:cubicBezTo>
                    <a:close/>
                    <a:moveTo>
                      <a:pt x="16475" y="4"/>
                    </a:moveTo>
                    <a:lnTo>
                      <a:pt x="16475" y="4"/>
                    </a:lnTo>
                    <a:cubicBezTo>
                      <a:pt x="16476" y="4"/>
                      <a:pt x="16477" y="5"/>
                      <a:pt x="16477" y="6"/>
                    </a:cubicBezTo>
                    <a:cubicBezTo>
                      <a:pt x="16477" y="7"/>
                      <a:pt x="16476" y="8"/>
                      <a:pt x="16475" y="8"/>
                    </a:cubicBezTo>
                    <a:lnTo>
                      <a:pt x="16475" y="8"/>
                    </a:lnTo>
                    <a:cubicBezTo>
                      <a:pt x="16474" y="8"/>
                      <a:pt x="16473" y="7"/>
                      <a:pt x="16473" y="6"/>
                    </a:cubicBezTo>
                    <a:cubicBezTo>
                      <a:pt x="16473" y="5"/>
                      <a:pt x="16474" y="4"/>
                      <a:pt x="16475" y="4"/>
                    </a:cubicBezTo>
                    <a:close/>
                    <a:moveTo>
                      <a:pt x="16483" y="4"/>
                    </a:moveTo>
                    <a:lnTo>
                      <a:pt x="16483" y="4"/>
                    </a:lnTo>
                    <a:cubicBezTo>
                      <a:pt x="16484" y="4"/>
                      <a:pt x="16485" y="5"/>
                      <a:pt x="16485" y="6"/>
                    </a:cubicBezTo>
                    <a:cubicBezTo>
                      <a:pt x="16485" y="7"/>
                      <a:pt x="16484" y="8"/>
                      <a:pt x="16483" y="8"/>
                    </a:cubicBezTo>
                    <a:lnTo>
                      <a:pt x="16483" y="8"/>
                    </a:lnTo>
                    <a:cubicBezTo>
                      <a:pt x="16482" y="8"/>
                      <a:pt x="16481" y="7"/>
                      <a:pt x="16481" y="6"/>
                    </a:cubicBezTo>
                    <a:cubicBezTo>
                      <a:pt x="16481" y="5"/>
                      <a:pt x="16482" y="4"/>
                      <a:pt x="16483" y="4"/>
                    </a:cubicBezTo>
                    <a:close/>
                    <a:moveTo>
                      <a:pt x="16491" y="4"/>
                    </a:moveTo>
                    <a:lnTo>
                      <a:pt x="16491" y="4"/>
                    </a:lnTo>
                    <a:cubicBezTo>
                      <a:pt x="16492" y="4"/>
                      <a:pt x="16493" y="5"/>
                      <a:pt x="16493" y="6"/>
                    </a:cubicBezTo>
                    <a:cubicBezTo>
                      <a:pt x="16493" y="7"/>
                      <a:pt x="16492" y="8"/>
                      <a:pt x="16491" y="8"/>
                    </a:cubicBezTo>
                    <a:lnTo>
                      <a:pt x="16491" y="8"/>
                    </a:lnTo>
                    <a:cubicBezTo>
                      <a:pt x="16490" y="8"/>
                      <a:pt x="16489" y="7"/>
                      <a:pt x="16489" y="6"/>
                    </a:cubicBezTo>
                    <a:cubicBezTo>
                      <a:pt x="16489" y="5"/>
                      <a:pt x="16490" y="4"/>
                      <a:pt x="16491" y="4"/>
                    </a:cubicBezTo>
                    <a:close/>
                    <a:moveTo>
                      <a:pt x="16499" y="4"/>
                    </a:moveTo>
                    <a:lnTo>
                      <a:pt x="16499" y="4"/>
                    </a:lnTo>
                    <a:cubicBezTo>
                      <a:pt x="16500" y="4"/>
                      <a:pt x="16501" y="5"/>
                      <a:pt x="16501" y="6"/>
                    </a:cubicBezTo>
                    <a:cubicBezTo>
                      <a:pt x="16501" y="7"/>
                      <a:pt x="16500" y="8"/>
                      <a:pt x="16499" y="8"/>
                    </a:cubicBezTo>
                    <a:lnTo>
                      <a:pt x="16499" y="8"/>
                    </a:lnTo>
                    <a:cubicBezTo>
                      <a:pt x="16498" y="8"/>
                      <a:pt x="16497" y="7"/>
                      <a:pt x="16497" y="6"/>
                    </a:cubicBezTo>
                    <a:cubicBezTo>
                      <a:pt x="16497" y="5"/>
                      <a:pt x="16498" y="4"/>
                      <a:pt x="16499" y="4"/>
                    </a:cubicBezTo>
                    <a:close/>
                    <a:moveTo>
                      <a:pt x="16507" y="4"/>
                    </a:moveTo>
                    <a:lnTo>
                      <a:pt x="16507" y="4"/>
                    </a:lnTo>
                    <a:cubicBezTo>
                      <a:pt x="16508" y="4"/>
                      <a:pt x="16509" y="5"/>
                      <a:pt x="16509" y="6"/>
                    </a:cubicBezTo>
                    <a:cubicBezTo>
                      <a:pt x="16509" y="7"/>
                      <a:pt x="16508" y="8"/>
                      <a:pt x="16507" y="8"/>
                    </a:cubicBezTo>
                    <a:lnTo>
                      <a:pt x="16507" y="8"/>
                    </a:lnTo>
                    <a:cubicBezTo>
                      <a:pt x="16506" y="8"/>
                      <a:pt x="16505" y="7"/>
                      <a:pt x="16505" y="6"/>
                    </a:cubicBezTo>
                    <a:cubicBezTo>
                      <a:pt x="16505" y="5"/>
                      <a:pt x="16506" y="4"/>
                      <a:pt x="16507" y="4"/>
                    </a:cubicBezTo>
                    <a:close/>
                    <a:moveTo>
                      <a:pt x="16515" y="4"/>
                    </a:moveTo>
                    <a:lnTo>
                      <a:pt x="16515" y="4"/>
                    </a:lnTo>
                    <a:cubicBezTo>
                      <a:pt x="16516" y="4"/>
                      <a:pt x="16517" y="5"/>
                      <a:pt x="16517" y="6"/>
                    </a:cubicBezTo>
                    <a:cubicBezTo>
                      <a:pt x="16517" y="7"/>
                      <a:pt x="16516" y="8"/>
                      <a:pt x="16515" y="8"/>
                    </a:cubicBezTo>
                    <a:lnTo>
                      <a:pt x="16515" y="8"/>
                    </a:lnTo>
                    <a:cubicBezTo>
                      <a:pt x="16514" y="8"/>
                      <a:pt x="16513" y="7"/>
                      <a:pt x="16513" y="6"/>
                    </a:cubicBezTo>
                    <a:cubicBezTo>
                      <a:pt x="16513" y="5"/>
                      <a:pt x="16514" y="4"/>
                      <a:pt x="16515" y="4"/>
                    </a:cubicBezTo>
                    <a:close/>
                    <a:moveTo>
                      <a:pt x="16523" y="4"/>
                    </a:moveTo>
                    <a:lnTo>
                      <a:pt x="16523" y="4"/>
                    </a:lnTo>
                    <a:cubicBezTo>
                      <a:pt x="16524" y="4"/>
                      <a:pt x="16525" y="5"/>
                      <a:pt x="16525" y="6"/>
                    </a:cubicBezTo>
                    <a:cubicBezTo>
                      <a:pt x="16525" y="7"/>
                      <a:pt x="16524" y="8"/>
                      <a:pt x="16523" y="8"/>
                    </a:cubicBezTo>
                    <a:lnTo>
                      <a:pt x="16523" y="8"/>
                    </a:lnTo>
                    <a:cubicBezTo>
                      <a:pt x="16522" y="8"/>
                      <a:pt x="16521" y="7"/>
                      <a:pt x="16521" y="6"/>
                    </a:cubicBezTo>
                    <a:cubicBezTo>
                      <a:pt x="16521" y="5"/>
                      <a:pt x="16522" y="4"/>
                      <a:pt x="16523" y="4"/>
                    </a:cubicBezTo>
                    <a:close/>
                    <a:moveTo>
                      <a:pt x="16531" y="4"/>
                    </a:moveTo>
                    <a:lnTo>
                      <a:pt x="16531" y="4"/>
                    </a:lnTo>
                    <a:cubicBezTo>
                      <a:pt x="16532" y="4"/>
                      <a:pt x="16533" y="5"/>
                      <a:pt x="16533" y="6"/>
                    </a:cubicBezTo>
                    <a:cubicBezTo>
                      <a:pt x="16533" y="7"/>
                      <a:pt x="16532" y="8"/>
                      <a:pt x="16531" y="8"/>
                    </a:cubicBezTo>
                    <a:lnTo>
                      <a:pt x="16531" y="8"/>
                    </a:lnTo>
                    <a:cubicBezTo>
                      <a:pt x="16530" y="8"/>
                      <a:pt x="16529" y="7"/>
                      <a:pt x="16529" y="6"/>
                    </a:cubicBezTo>
                    <a:cubicBezTo>
                      <a:pt x="16529" y="5"/>
                      <a:pt x="16530" y="4"/>
                      <a:pt x="16531" y="4"/>
                    </a:cubicBezTo>
                    <a:close/>
                    <a:moveTo>
                      <a:pt x="16539" y="4"/>
                    </a:moveTo>
                    <a:lnTo>
                      <a:pt x="16539" y="4"/>
                    </a:lnTo>
                    <a:cubicBezTo>
                      <a:pt x="16540" y="4"/>
                      <a:pt x="16541" y="5"/>
                      <a:pt x="16541" y="6"/>
                    </a:cubicBezTo>
                    <a:cubicBezTo>
                      <a:pt x="16541" y="7"/>
                      <a:pt x="16540" y="8"/>
                      <a:pt x="16539" y="8"/>
                    </a:cubicBezTo>
                    <a:lnTo>
                      <a:pt x="16539" y="8"/>
                    </a:lnTo>
                    <a:cubicBezTo>
                      <a:pt x="16538" y="8"/>
                      <a:pt x="16537" y="7"/>
                      <a:pt x="16537" y="6"/>
                    </a:cubicBezTo>
                    <a:cubicBezTo>
                      <a:pt x="16537" y="5"/>
                      <a:pt x="16538" y="4"/>
                      <a:pt x="16539" y="4"/>
                    </a:cubicBezTo>
                    <a:close/>
                    <a:moveTo>
                      <a:pt x="16547" y="4"/>
                    </a:moveTo>
                    <a:lnTo>
                      <a:pt x="16547" y="4"/>
                    </a:lnTo>
                    <a:cubicBezTo>
                      <a:pt x="16548" y="4"/>
                      <a:pt x="16549" y="5"/>
                      <a:pt x="16549" y="6"/>
                    </a:cubicBezTo>
                    <a:cubicBezTo>
                      <a:pt x="16549" y="7"/>
                      <a:pt x="16548" y="8"/>
                      <a:pt x="16547" y="8"/>
                    </a:cubicBezTo>
                    <a:lnTo>
                      <a:pt x="16547" y="8"/>
                    </a:lnTo>
                    <a:cubicBezTo>
                      <a:pt x="16546" y="8"/>
                      <a:pt x="16545" y="7"/>
                      <a:pt x="16545" y="6"/>
                    </a:cubicBezTo>
                    <a:cubicBezTo>
                      <a:pt x="16545" y="5"/>
                      <a:pt x="16546" y="4"/>
                      <a:pt x="16547" y="4"/>
                    </a:cubicBezTo>
                    <a:close/>
                    <a:moveTo>
                      <a:pt x="16555" y="4"/>
                    </a:moveTo>
                    <a:lnTo>
                      <a:pt x="16555" y="4"/>
                    </a:lnTo>
                    <a:cubicBezTo>
                      <a:pt x="16556" y="4"/>
                      <a:pt x="16557" y="5"/>
                      <a:pt x="16557" y="6"/>
                    </a:cubicBezTo>
                    <a:cubicBezTo>
                      <a:pt x="16557" y="7"/>
                      <a:pt x="16556" y="8"/>
                      <a:pt x="16555" y="8"/>
                    </a:cubicBezTo>
                    <a:lnTo>
                      <a:pt x="16555" y="8"/>
                    </a:lnTo>
                    <a:cubicBezTo>
                      <a:pt x="16554" y="8"/>
                      <a:pt x="16553" y="7"/>
                      <a:pt x="16553" y="6"/>
                    </a:cubicBezTo>
                    <a:cubicBezTo>
                      <a:pt x="16553" y="5"/>
                      <a:pt x="16554" y="4"/>
                      <a:pt x="16555" y="4"/>
                    </a:cubicBezTo>
                    <a:close/>
                    <a:moveTo>
                      <a:pt x="16563" y="4"/>
                    </a:moveTo>
                    <a:lnTo>
                      <a:pt x="16563" y="4"/>
                    </a:lnTo>
                    <a:cubicBezTo>
                      <a:pt x="16564" y="4"/>
                      <a:pt x="16565" y="5"/>
                      <a:pt x="16565" y="6"/>
                    </a:cubicBezTo>
                    <a:cubicBezTo>
                      <a:pt x="16565" y="7"/>
                      <a:pt x="16564" y="8"/>
                      <a:pt x="16563" y="8"/>
                    </a:cubicBezTo>
                    <a:lnTo>
                      <a:pt x="16563" y="8"/>
                    </a:lnTo>
                    <a:cubicBezTo>
                      <a:pt x="16562" y="8"/>
                      <a:pt x="16561" y="7"/>
                      <a:pt x="16561" y="6"/>
                    </a:cubicBezTo>
                    <a:cubicBezTo>
                      <a:pt x="16561" y="5"/>
                      <a:pt x="16562" y="4"/>
                      <a:pt x="16563" y="4"/>
                    </a:cubicBezTo>
                    <a:close/>
                    <a:moveTo>
                      <a:pt x="16571" y="4"/>
                    </a:moveTo>
                    <a:lnTo>
                      <a:pt x="16571" y="4"/>
                    </a:lnTo>
                    <a:cubicBezTo>
                      <a:pt x="16572" y="4"/>
                      <a:pt x="16573" y="5"/>
                      <a:pt x="16573" y="6"/>
                    </a:cubicBezTo>
                    <a:cubicBezTo>
                      <a:pt x="16573" y="7"/>
                      <a:pt x="16572" y="8"/>
                      <a:pt x="16571" y="8"/>
                    </a:cubicBezTo>
                    <a:lnTo>
                      <a:pt x="16571" y="8"/>
                    </a:lnTo>
                    <a:cubicBezTo>
                      <a:pt x="16570" y="8"/>
                      <a:pt x="16569" y="7"/>
                      <a:pt x="16569" y="6"/>
                    </a:cubicBezTo>
                    <a:cubicBezTo>
                      <a:pt x="16569" y="5"/>
                      <a:pt x="16570" y="4"/>
                      <a:pt x="16571" y="4"/>
                    </a:cubicBezTo>
                    <a:close/>
                    <a:moveTo>
                      <a:pt x="16579" y="4"/>
                    </a:moveTo>
                    <a:lnTo>
                      <a:pt x="16579" y="4"/>
                    </a:lnTo>
                    <a:cubicBezTo>
                      <a:pt x="16580" y="4"/>
                      <a:pt x="16581" y="5"/>
                      <a:pt x="16581" y="6"/>
                    </a:cubicBezTo>
                    <a:cubicBezTo>
                      <a:pt x="16581" y="7"/>
                      <a:pt x="16580" y="8"/>
                      <a:pt x="16579" y="8"/>
                    </a:cubicBezTo>
                    <a:lnTo>
                      <a:pt x="16579" y="8"/>
                    </a:lnTo>
                    <a:cubicBezTo>
                      <a:pt x="16578" y="8"/>
                      <a:pt x="16577" y="7"/>
                      <a:pt x="16577" y="6"/>
                    </a:cubicBezTo>
                    <a:cubicBezTo>
                      <a:pt x="16577" y="5"/>
                      <a:pt x="16578" y="4"/>
                      <a:pt x="16579" y="4"/>
                    </a:cubicBezTo>
                    <a:close/>
                    <a:moveTo>
                      <a:pt x="16587" y="4"/>
                    </a:moveTo>
                    <a:lnTo>
                      <a:pt x="16587" y="4"/>
                    </a:lnTo>
                    <a:cubicBezTo>
                      <a:pt x="16588" y="4"/>
                      <a:pt x="16589" y="5"/>
                      <a:pt x="16589" y="6"/>
                    </a:cubicBezTo>
                    <a:cubicBezTo>
                      <a:pt x="16589" y="7"/>
                      <a:pt x="16588" y="8"/>
                      <a:pt x="16587" y="8"/>
                    </a:cubicBezTo>
                    <a:lnTo>
                      <a:pt x="16587" y="8"/>
                    </a:lnTo>
                    <a:cubicBezTo>
                      <a:pt x="16586" y="8"/>
                      <a:pt x="16585" y="7"/>
                      <a:pt x="16585" y="6"/>
                    </a:cubicBezTo>
                    <a:cubicBezTo>
                      <a:pt x="16585" y="5"/>
                      <a:pt x="16586" y="4"/>
                      <a:pt x="16587" y="4"/>
                    </a:cubicBezTo>
                    <a:close/>
                    <a:moveTo>
                      <a:pt x="16595" y="4"/>
                    </a:moveTo>
                    <a:lnTo>
                      <a:pt x="16595" y="4"/>
                    </a:lnTo>
                    <a:cubicBezTo>
                      <a:pt x="16596" y="4"/>
                      <a:pt x="16597" y="5"/>
                      <a:pt x="16597" y="6"/>
                    </a:cubicBezTo>
                    <a:cubicBezTo>
                      <a:pt x="16597" y="7"/>
                      <a:pt x="16596" y="8"/>
                      <a:pt x="16595" y="8"/>
                    </a:cubicBezTo>
                    <a:lnTo>
                      <a:pt x="16595" y="8"/>
                    </a:lnTo>
                    <a:cubicBezTo>
                      <a:pt x="16594" y="8"/>
                      <a:pt x="16593" y="7"/>
                      <a:pt x="16593" y="6"/>
                    </a:cubicBezTo>
                    <a:cubicBezTo>
                      <a:pt x="16593" y="5"/>
                      <a:pt x="16594" y="4"/>
                      <a:pt x="16595" y="4"/>
                    </a:cubicBezTo>
                    <a:close/>
                    <a:moveTo>
                      <a:pt x="16603" y="4"/>
                    </a:moveTo>
                    <a:lnTo>
                      <a:pt x="16603" y="4"/>
                    </a:lnTo>
                    <a:cubicBezTo>
                      <a:pt x="16604" y="4"/>
                      <a:pt x="16605" y="5"/>
                      <a:pt x="16605" y="6"/>
                    </a:cubicBezTo>
                    <a:cubicBezTo>
                      <a:pt x="16605" y="7"/>
                      <a:pt x="16604" y="8"/>
                      <a:pt x="16603" y="8"/>
                    </a:cubicBezTo>
                    <a:lnTo>
                      <a:pt x="16603" y="8"/>
                    </a:lnTo>
                    <a:cubicBezTo>
                      <a:pt x="16602" y="8"/>
                      <a:pt x="16601" y="7"/>
                      <a:pt x="16601" y="6"/>
                    </a:cubicBezTo>
                    <a:cubicBezTo>
                      <a:pt x="16601" y="5"/>
                      <a:pt x="16602" y="4"/>
                      <a:pt x="16603" y="4"/>
                    </a:cubicBezTo>
                    <a:close/>
                    <a:moveTo>
                      <a:pt x="16611" y="4"/>
                    </a:moveTo>
                    <a:lnTo>
                      <a:pt x="16611" y="4"/>
                    </a:lnTo>
                    <a:cubicBezTo>
                      <a:pt x="16612" y="4"/>
                      <a:pt x="16613" y="5"/>
                      <a:pt x="16613" y="6"/>
                    </a:cubicBezTo>
                    <a:cubicBezTo>
                      <a:pt x="16613" y="7"/>
                      <a:pt x="16612" y="8"/>
                      <a:pt x="16611" y="8"/>
                    </a:cubicBezTo>
                    <a:lnTo>
                      <a:pt x="16611" y="8"/>
                    </a:lnTo>
                    <a:cubicBezTo>
                      <a:pt x="16610" y="8"/>
                      <a:pt x="16609" y="7"/>
                      <a:pt x="16609" y="6"/>
                    </a:cubicBezTo>
                    <a:cubicBezTo>
                      <a:pt x="16609" y="5"/>
                      <a:pt x="16610" y="4"/>
                      <a:pt x="16611" y="4"/>
                    </a:cubicBezTo>
                    <a:close/>
                    <a:moveTo>
                      <a:pt x="16619" y="4"/>
                    </a:moveTo>
                    <a:lnTo>
                      <a:pt x="16619" y="4"/>
                    </a:lnTo>
                    <a:cubicBezTo>
                      <a:pt x="16620" y="4"/>
                      <a:pt x="16621" y="5"/>
                      <a:pt x="16621" y="6"/>
                    </a:cubicBezTo>
                    <a:cubicBezTo>
                      <a:pt x="16621" y="7"/>
                      <a:pt x="16620" y="8"/>
                      <a:pt x="16619" y="8"/>
                    </a:cubicBezTo>
                    <a:lnTo>
                      <a:pt x="16619" y="8"/>
                    </a:lnTo>
                    <a:cubicBezTo>
                      <a:pt x="16618" y="8"/>
                      <a:pt x="16617" y="7"/>
                      <a:pt x="16617" y="6"/>
                    </a:cubicBezTo>
                    <a:cubicBezTo>
                      <a:pt x="16617" y="5"/>
                      <a:pt x="16618" y="4"/>
                      <a:pt x="16619" y="4"/>
                    </a:cubicBezTo>
                    <a:close/>
                    <a:moveTo>
                      <a:pt x="16627" y="4"/>
                    </a:moveTo>
                    <a:lnTo>
                      <a:pt x="16627" y="4"/>
                    </a:lnTo>
                    <a:cubicBezTo>
                      <a:pt x="16628" y="4"/>
                      <a:pt x="16629" y="5"/>
                      <a:pt x="16629" y="6"/>
                    </a:cubicBezTo>
                    <a:cubicBezTo>
                      <a:pt x="16629" y="7"/>
                      <a:pt x="16628" y="8"/>
                      <a:pt x="16627" y="8"/>
                    </a:cubicBezTo>
                    <a:lnTo>
                      <a:pt x="16627" y="8"/>
                    </a:lnTo>
                    <a:cubicBezTo>
                      <a:pt x="16626" y="8"/>
                      <a:pt x="16625" y="7"/>
                      <a:pt x="16625" y="6"/>
                    </a:cubicBezTo>
                    <a:cubicBezTo>
                      <a:pt x="16625" y="5"/>
                      <a:pt x="16626" y="4"/>
                      <a:pt x="16627" y="4"/>
                    </a:cubicBezTo>
                    <a:close/>
                    <a:moveTo>
                      <a:pt x="16635" y="4"/>
                    </a:moveTo>
                    <a:lnTo>
                      <a:pt x="16635" y="4"/>
                    </a:lnTo>
                    <a:cubicBezTo>
                      <a:pt x="16636" y="4"/>
                      <a:pt x="16637" y="5"/>
                      <a:pt x="16637" y="6"/>
                    </a:cubicBezTo>
                    <a:cubicBezTo>
                      <a:pt x="16637" y="7"/>
                      <a:pt x="16636" y="8"/>
                      <a:pt x="16635" y="8"/>
                    </a:cubicBezTo>
                    <a:lnTo>
                      <a:pt x="16635" y="8"/>
                    </a:lnTo>
                    <a:cubicBezTo>
                      <a:pt x="16634" y="8"/>
                      <a:pt x="16633" y="7"/>
                      <a:pt x="16633" y="6"/>
                    </a:cubicBezTo>
                    <a:cubicBezTo>
                      <a:pt x="16633" y="5"/>
                      <a:pt x="16634" y="4"/>
                      <a:pt x="16635" y="4"/>
                    </a:cubicBezTo>
                    <a:close/>
                    <a:moveTo>
                      <a:pt x="16643" y="4"/>
                    </a:moveTo>
                    <a:lnTo>
                      <a:pt x="16643" y="4"/>
                    </a:lnTo>
                    <a:cubicBezTo>
                      <a:pt x="16644" y="4"/>
                      <a:pt x="16645" y="5"/>
                      <a:pt x="16645" y="6"/>
                    </a:cubicBezTo>
                    <a:cubicBezTo>
                      <a:pt x="16645" y="7"/>
                      <a:pt x="16644" y="8"/>
                      <a:pt x="16643" y="8"/>
                    </a:cubicBezTo>
                    <a:lnTo>
                      <a:pt x="16643" y="8"/>
                    </a:lnTo>
                    <a:cubicBezTo>
                      <a:pt x="16642" y="8"/>
                      <a:pt x="16641" y="7"/>
                      <a:pt x="16641" y="6"/>
                    </a:cubicBezTo>
                    <a:cubicBezTo>
                      <a:pt x="16641" y="5"/>
                      <a:pt x="16642" y="4"/>
                      <a:pt x="16643" y="4"/>
                    </a:cubicBezTo>
                    <a:close/>
                    <a:moveTo>
                      <a:pt x="16651" y="4"/>
                    </a:moveTo>
                    <a:lnTo>
                      <a:pt x="16651" y="4"/>
                    </a:lnTo>
                    <a:cubicBezTo>
                      <a:pt x="16652" y="4"/>
                      <a:pt x="16653" y="5"/>
                      <a:pt x="16653" y="6"/>
                    </a:cubicBezTo>
                    <a:cubicBezTo>
                      <a:pt x="16653" y="7"/>
                      <a:pt x="16652" y="8"/>
                      <a:pt x="16651" y="8"/>
                    </a:cubicBezTo>
                    <a:lnTo>
                      <a:pt x="16651" y="8"/>
                    </a:lnTo>
                    <a:cubicBezTo>
                      <a:pt x="16650" y="8"/>
                      <a:pt x="16649" y="7"/>
                      <a:pt x="16649" y="6"/>
                    </a:cubicBezTo>
                    <a:cubicBezTo>
                      <a:pt x="16649" y="5"/>
                      <a:pt x="16650" y="4"/>
                      <a:pt x="16651" y="4"/>
                    </a:cubicBezTo>
                    <a:close/>
                    <a:moveTo>
                      <a:pt x="16659" y="4"/>
                    </a:moveTo>
                    <a:lnTo>
                      <a:pt x="16659" y="4"/>
                    </a:lnTo>
                    <a:cubicBezTo>
                      <a:pt x="16660" y="4"/>
                      <a:pt x="16661" y="5"/>
                      <a:pt x="16661" y="6"/>
                    </a:cubicBezTo>
                    <a:cubicBezTo>
                      <a:pt x="16661" y="7"/>
                      <a:pt x="16660" y="8"/>
                      <a:pt x="16659" y="8"/>
                    </a:cubicBezTo>
                    <a:lnTo>
                      <a:pt x="16659" y="8"/>
                    </a:lnTo>
                    <a:cubicBezTo>
                      <a:pt x="16658" y="8"/>
                      <a:pt x="16657" y="7"/>
                      <a:pt x="16657" y="6"/>
                    </a:cubicBezTo>
                    <a:cubicBezTo>
                      <a:pt x="16657" y="5"/>
                      <a:pt x="16658" y="4"/>
                      <a:pt x="16659" y="4"/>
                    </a:cubicBezTo>
                    <a:close/>
                    <a:moveTo>
                      <a:pt x="16667" y="4"/>
                    </a:moveTo>
                    <a:lnTo>
                      <a:pt x="16667" y="4"/>
                    </a:lnTo>
                    <a:cubicBezTo>
                      <a:pt x="16668" y="4"/>
                      <a:pt x="16669" y="5"/>
                      <a:pt x="16669" y="6"/>
                    </a:cubicBezTo>
                    <a:cubicBezTo>
                      <a:pt x="16669" y="7"/>
                      <a:pt x="16668" y="8"/>
                      <a:pt x="16667" y="8"/>
                    </a:cubicBezTo>
                    <a:lnTo>
                      <a:pt x="16667" y="8"/>
                    </a:lnTo>
                    <a:cubicBezTo>
                      <a:pt x="16666" y="8"/>
                      <a:pt x="16665" y="7"/>
                      <a:pt x="16665" y="6"/>
                    </a:cubicBezTo>
                    <a:cubicBezTo>
                      <a:pt x="16665" y="5"/>
                      <a:pt x="16666" y="4"/>
                      <a:pt x="16667" y="4"/>
                    </a:cubicBezTo>
                    <a:close/>
                    <a:moveTo>
                      <a:pt x="16675" y="4"/>
                    </a:moveTo>
                    <a:lnTo>
                      <a:pt x="16675" y="4"/>
                    </a:lnTo>
                    <a:cubicBezTo>
                      <a:pt x="16676" y="4"/>
                      <a:pt x="16677" y="5"/>
                      <a:pt x="16677" y="6"/>
                    </a:cubicBezTo>
                    <a:cubicBezTo>
                      <a:pt x="16677" y="7"/>
                      <a:pt x="16676" y="8"/>
                      <a:pt x="16675" y="8"/>
                    </a:cubicBezTo>
                    <a:lnTo>
                      <a:pt x="16675" y="8"/>
                    </a:lnTo>
                    <a:cubicBezTo>
                      <a:pt x="16674" y="8"/>
                      <a:pt x="16673" y="7"/>
                      <a:pt x="16673" y="6"/>
                    </a:cubicBezTo>
                    <a:cubicBezTo>
                      <a:pt x="16673" y="5"/>
                      <a:pt x="16674" y="4"/>
                      <a:pt x="16675" y="4"/>
                    </a:cubicBezTo>
                    <a:close/>
                    <a:moveTo>
                      <a:pt x="16683" y="4"/>
                    </a:moveTo>
                    <a:lnTo>
                      <a:pt x="16683" y="4"/>
                    </a:lnTo>
                    <a:cubicBezTo>
                      <a:pt x="16684" y="4"/>
                      <a:pt x="16685" y="5"/>
                      <a:pt x="16685" y="6"/>
                    </a:cubicBezTo>
                    <a:cubicBezTo>
                      <a:pt x="16685" y="7"/>
                      <a:pt x="16684" y="8"/>
                      <a:pt x="16683" y="8"/>
                    </a:cubicBezTo>
                    <a:lnTo>
                      <a:pt x="16683" y="8"/>
                    </a:lnTo>
                    <a:cubicBezTo>
                      <a:pt x="16682" y="8"/>
                      <a:pt x="16681" y="7"/>
                      <a:pt x="16681" y="6"/>
                    </a:cubicBezTo>
                    <a:cubicBezTo>
                      <a:pt x="16681" y="5"/>
                      <a:pt x="16682" y="4"/>
                      <a:pt x="16683" y="4"/>
                    </a:cubicBezTo>
                    <a:close/>
                    <a:moveTo>
                      <a:pt x="16691" y="4"/>
                    </a:moveTo>
                    <a:lnTo>
                      <a:pt x="16691" y="4"/>
                    </a:lnTo>
                    <a:cubicBezTo>
                      <a:pt x="16692" y="4"/>
                      <a:pt x="16693" y="5"/>
                      <a:pt x="16693" y="6"/>
                    </a:cubicBezTo>
                    <a:cubicBezTo>
                      <a:pt x="16693" y="7"/>
                      <a:pt x="16692" y="8"/>
                      <a:pt x="16691" y="8"/>
                    </a:cubicBezTo>
                    <a:lnTo>
                      <a:pt x="16691" y="8"/>
                    </a:lnTo>
                    <a:cubicBezTo>
                      <a:pt x="16690" y="8"/>
                      <a:pt x="16689" y="7"/>
                      <a:pt x="16689" y="6"/>
                    </a:cubicBezTo>
                    <a:cubicBezTo>
                      <a:pt x="16689" y="5"/>
                      <a:pt x="16690" y="4"/>
                      <a:pt x="16691" y="4"/>
                    </a:cubicBezTo>
                    <a:close/>
                    <a:moveTo>
                      <a:pt x="16699" y="4"/>
                    </a:moveTo>
                    <a:lnTo>
                      <a:pt x="16699" y="4"/>
                    </a:lnTo>
                    <a:cubicBezTo>
                      <a:pt x="16700" y="4"/>
                      <a:pt x="16701" y="5"/>
                      <a:pt x="16701" y="6"/>
                    </a:cubicBezTo>
                    <a:cubicBezTo>
                      <a:pt x="16701" y="7"/>
                      <a:pt x="16700" y="8"/>
                      <a:pt x="16699" y="8"/>
                    </a:cubicBezTo>
                    <a:lnTo>
                      <a:pt x="16699" y="8"/>
                    </a:lnTo>
                    <a:cubicBezTo>
                      <a:pt x="16698" y="8"/>
                      <a:pt x="16697" y="7"/>
                      <a:pt x="16697" y="6"/>
                    </a:cubicBezTo>
                    <a:cubicBezTo>
                      <a:pt x="16697" y="5"/>
                      <a:pt x="16698" y="4"/>
                      <a:pt x="16699" y="4"/>
                    </a:cubicBezTo>
                    <a:close/>
                    <a:moveTo>
                      <a:pt x="16707" y="4"/>
                    </a:moveTo>
                    <a:lnTo>
                      <a:pt x="16707" y="4"/>
                    </a:lnTo>
                    <a:cubicBezTo>
                      <a:pt x="16708" y="4"/>
                      <a:pt x="16709" y="5"/>
                      <a:pt x="16709" y="6"/>
                    </a:cubicBezTo>
                    <a:cubicBezTo>
                      <a:pt x="16709" y="7"/>
                      <a:pt x="16708" y="8"/>
                      <a:pt x="16707" y="8"/>
                    </a:cubicBezTo>
                    <a:lnTo>
                      <a:pt x="16707" y="8"/>
                    </a:lnTo>
                    <a:cubicBezTo>
                      <a:pt x="16706" y="8"/>
                      <a:pt x="16705" y="7"/>
                      <a:pt x="16705" y="6"/>
                    </a:cubicBezTo>
                    <a:cubicBezTo>
                      <a:pt x="16705" y="5"/>
                      <a:pt x="16706" y="4"/>
                      <a:pt x="16707" y="4"/>
                    </a:cubicBezTo>
                    <a:close/>
                    <a:moveTo>
                      <a:pt x="16715" y="4"/>
                    </a:moveTo>
                    <a:lnTo>
                      <a:pt x="16715" y="4"/>
                    </a:lnTo>
                    <a:cubicBezTo>
                      <a:pt x="16716" y="4"/>
                      <a:pt x="16717" y="5"/>
                      <a:pt x="16717" y="6"/>
                    </a:cubicBezTo>
                    <a:cubicBezTo>
                      <a:pt x="16717" y="7"/>
                      <a:pt x="16716" y="8"/>
                      <a:pt x="16715" y="8"/>
                    </a:cubicBezTo>
                    <a:lnTo>
                      <a:pt x="16715" y="8"/>
                    </a:lnTo>
                    <a:cubicBezTo>
                      <a:pt x="16714" y="8"/>
                      <a:pt x="16713" y="7"/>
                      <a:pt x="16713" y="6"/>
                    </a:cubicBezTo>
                    <a:cubicBezTo>
                      <a:pt x="16713" y="5"/>
                      <a:pt x="16714" y="4"/>
                      <a:pt x="16715" y="4"/>
                    </a:cubicBezTo>
                    <a:close/>
                    <a:moveTo>
                      <a:pt x="16723" y="4"/>
                    </a:moveTo>
                    <a:lnTo>
                      <a:pt x="16723" y="4"/>
                    </a:lnTo>
                    <a:cubicBezTo>
                      <a:pt x="16724" y="4"/>
                      <a:pt x="16725" y="5"/>
                      <a:pt x="16725" y="6"/>
                    </a:cubicBezTo>
                    <a:cubicBezTo>
                      <a:pt x="16725" y="7"/>
                      <a:pt x="16724" y="8"/>
                      <a:pt x="16723" y="8"/>
                    </a:cubicBezTo>
                    <a:lnTo>
                      <a:pt x="16723" y="8"/>
                    </a:lnTo>
                    <a:cubicBezTo>
                      <a:pt x="16722" y="8"/>
                      <a:pt x="16721" y="7"/>
                      <a:pt x="16721" y="6"/>
                    </a:cubicBezTo>
                    <a:cubicBezTo>
                      <a:pt x="16721" y="5"/>
                      <a:pt x="16722" y="4"/>
                      <a:pt x="16723" y="4"/>
                    </a:cubicBezTo>
                    <a:close/>
                    <a:moveTo>
                      <a:pt x="16731" y="4"/>
                    </a:moveTo>
                    <a:lnTo>
                      <a:pt x="16731" y="4"/>
                    </a:lnTo>
                    <a:cubicBezTo>
                      <a:pt x="16732" y="4"/>
                      <a:pt x="16733" y="5"/>
                      <a:pt x="16733" y="6"/>
                    </a:cubicBezTo>
                    <a:cubicBezTo>
                      <a:pt x="16733" y="7"/>
                      <a:pt x="16732" y="8"/>
                      <a:pt x="16731" y="8"/>
                    </a:cubicBezTo>
                    <a:lnTo>
                      <a:pt x="16731" y="8"/>
                    </a:lnTo>
                    <a:cubicBezTo>
                      <a:pt x="16730" y="8"/>
                      <a:pt x="16729" y="7"/>
                      <a:pt x="16729" y="6"/>
                    </a:cubicBezTo>
                    <a:cubicBezTo>
                      <a:pt x="16729" y="5"/>
                      <a:pt x="16730" y="4"/>
                      <a:pt x="16731" y="4"/>
                    </a:cubicBezTo>
                    <a:close/>
                    <a:moveTo>
                      <a:pt x="16739" y="4"/>
                    </a:moveTo>
                    <a:lnTo>
                      <a:pt x="16739" y="4"/>
                    </a:lnTo>
                    <a:cubicBezTo>
                      <a:pt x="16740" y="4"/>
                      <a:pt x="16741" y="5"/>
                      <a:pt x="16741" y="6"/>
                    </a:cubicBezTo>
                    <a:cubicBezTo>
                      <a:pt x="16741" y="7"/>
                      <a:pt x="16740" y="8"/>
                      <a:pt x="16739" y="8"/>
                    </a:cubicBezTo>
                    <a:lnTo>
                      <a:pt x="16739" y="8"/>
                    </a:lnTo>
                    <a:cubicBezTo>
                      <a:pt x="16738" y="8"/>
                      <a:pt x="16737" y="7"/>
                      <a:pt x="16737" y="6"/>
                    </a:cubicBezTo>
                    <a:cubicBezTo>
                      <a:pt x="16737" y="5"/>
                      <a:pt x="16738" y="4"/>
                      <a:pt x="16739" y="4"/>
                    </a:cubicBezTo>
                    <a:close/>
                    <a:moveTo>
                      <a:pt x="16747" y="4"/>
                    </a:moveTo>
                    <a:lnTo>
                      <a:pt x="16747" y="4"/>
                    </a:lnTo>
                    <a:cubicBezTo>
                      <a:pt x="16748" y="4"/>
                      <a:pt x="16749" y="5"/>
                      <a:pt x="16749" y="6"/>
                    </a:cubicBezTo>
                    <a:cubicBezTo>
                      <a:pt x="16749" y="7"/>
                      <a:pt x="16748" y="8"/>
                      <a:pt x="16747" y="8"/>
                    </a:cubicBezTo>
                    <a:lnTo>
                      <a:pt x="16747" y="8"/>
                    </a:lnTo>
                    <a:cubicBezTo>
                      <a:pt x="16746" y="8"/>
                      <a:pt x="16745" y="7"/>
                      <a:pt x="16745" y="6"/>
                    </a:cubicBezTo>
                    <a:cubicBezTo>
                      <a:pt x="16745" y="5"/>
                      <a:pt x="16746" y="4"/>
                      <a:pt x="16747" y="4"/>
                    </a:cubicBezTo>
                    <a:close/>
                    <a:moveTo>
                      <a:pt x="16755" y="4"/>
                    </a:moveTo>
                    <a:lnTo>
                      <a:pt x="16755" y="4"/>
                    </a:lnTo>
                    <a:cubicBezTo>
                      <a:pt x="16756" y="4"/>
                      <a:pt x="16757" y="5"/>
                      <a:pt x="16757" y="6"/>
                    </a:cubicBezTo>
                    <a:cubicBezTo>
                      <a:pt x="16757" y="7"/>
                      <a:pt x="16756" y="8"/>
                      <a:pt x="16755" y="8"/>
                    </a:cubicBezTo>
                    <a:lnTo>
                      <a:pt x="16755" y="8"/>
                    </a:lnTo>
                    <a:cubicBezTo>
                      <a:pt x="16754" y="8"/>
                      <a:pt x="16753" y="7"/>
                      <a:pt x="16753" y="6"/>
                    </a:cubicBezTo>
                    <a:cubicBezTo>
                      <a:pt x="16753" y="5"/>
                      <a:pt x="16754" y="4"/>
                      <a:pt x="16755" y="4"/>
                    </a:cubicBezTo>
                    <a:close/>
                    <a:moveTo>
                      <a:pt x="16763" y="4"/>
                    </a:moveTo>
                    <a:lnTo>
                      <a:pt x="16763" y="4"/>
                    </a:lnTo>
                    <a:cubicBezTo>
                      <a:pt x="16764" y="4"/>
                      <a:pt x="16765" y="5"/>
                      <a:pt x="16765" y="6"/>
                    </a:cubicBezTo>
                    <a:cubicBezTo>
                      <a:pt x="16765" y="7"/>
                      <a:pt x="16764" y="8"/>
                      <a:pt x="16763" y="8"/>
                    </a:cubicBezTo>
                    <a:lnTo>
                      <a:pt x="16763" y="8"/>
                    </a:lnTo>
                    <a:cubicBezTo>
                      <a:pt x="16762" y="8"/>
                      <a:pt x="16761" y="7"/>
                      <a:pt x="16761" y="6"/>
                    </a:cubicBezTo>
                    <a:cubicBezTo>
                      <a:pt x="16761" y="5"/>
                      <a:pt x="16762" y="4"/>
                      <a:pt x="16763" y="4"/>
                    </a:cubicBezTo>
                    <a:close/>
                    <a:moveTo>
                      <a:pt x="16771" y="4"/>
                    </a:moveTo>
                    <a:lnTo>
                      <a:pt x="16771" y="4"/>
                    </a:lnTo>
                    <a:cubicBezTo>
                      <a:pt x="16772" y="4"/>
                      <a:pt x="16773" y="5"/>
                      <a:pt x="16773" y="6"/>
                    </a:cubicBezTo>
                    <a:cubicBezTo>
                      <a:pt x="16773" y="7"/>
                      <a:pt x="16772" y="8"/>
                      <a:pt x="16771" y="8"/>
                    </a:cubicBezTo>
                    <a:lnTo>
                      <a:pt x="16771" y="8"/>
                    </a:lnTo>
                    <a:cubicBezTo>
                      <a:pt x="16770" y="8"/>
                      <a:pt x="16769" y="7"/>
                      <a:pt x="16769" y="6"/>
                    </a:cubicBezTo>
                    <a:cubicBezTo>
                      <a:pt x="16769" y="5"/>
                      <a:pt x="16770" y="4"/>
                      <a:pt x="16771" y="4"/>
                    </a:cubicBezTo>
                    <a:close/>
                    <a:moveTo>
                      <a:pt x="16779" y="4"/>
                    </a:moveTo>
                    <a:lnTo>
                      <a:pt x="16779" y="4"/>
                    </a:lnTo>
                    <a:cubicBezTo>
                      <a:pt x="16780" y="4"/>
                      <a:pt x="16781" y="5"/>
                      <a:pt x="16781" y="6"/>
                    </a:cubicBezTo>
                    <a:cubicBezTo>
                      <a:pt x="16781" y="7"/>
                      <a:pt x="16780" y="8"/>
                      <a:pt x="16779" y="8"/>
                    </a:cubicBezTo>
                    <a:lnTo>
                      <a:pt x="16779" y="8"/>
                    </a:lnTo>
                    <a:cubicBezTo>
                      <a:pt x="16778" y="8"/>
                      <a:pt x="16777" y="7"/>
                      <a:pt x="16777" y="6"/>
                    </a:cubicBezTo>
                    <a:cubicBezTo>
                      <a:pt x="16777" y="5"/>
                      <a:pt x="16778" y="4"/>
                      <a:pt x="16779" y="4"/>
                    </a:cubicBezTo>
                    <a:close/>
                    <a:moveTo>
                      <a:pt x="16787" y="4"/>
                    </a:moveTo>
                    <a:lnTo>
                      <a:pt x="16787" y="4"/>
                    </a:lnTo>
                    <a:cubicBezTo>
                      <a:pt x="16788" y="4"/>
                      <a:pt x="16789" y="5"/>
                      <a:pt x="16789" y="6"/>
                    </a:cubicBezTo>
                    <a:cubicBezTo>
                      <a:pt x="16789" y="7"/>
                      <a:pt x="16788" y="8"/>
                      <a:pt x="16787" y="8"/>
                    </a:cubicBezTo>
                    <a:lnTo>
                      <a:pt x="16787" y="8"/>
                    </a:lnTo>
                    <a:cubicBezTo>
                      <a:pt x="16786" y="8"/>
                      <a:pt x="16785" y="7"/>
                      <a:pt x="16785" y="6"/>
                    </a:cubicBezTo>
                    <a:cubicBezTo>
                      <a:pt x="16785" y="5"/>
                      <a:pt x="16786" y="4"/>
                      <a:pt x="16787" y="4"/>
                    </a:cubicBezTo>
                    <a:close/>
                    <a:moveTo>
                      <a:pt x="16795" y="4"/>
                    </a:moveTo>
                    <a:lnTo>
                      <a:pt x="16795" y="4"/>
                    </a:lnTo>
                    <a:cubicBezTo>
                      <a:pt x="16796" y="4"/>
                      <a:pt x="16797" y="5"/>
                      <a:pt x="16797" y="6"/>
                    </a:cubicBezTo>
                    <a:cubicBezTo>
                      <a:pt x="16797" y="7"/>
                      <a:pt x="16796" y="8"/>
                      <a:pt x="16795" y="8"/>
                    </a:cubicBezTo>
                    <a:lnTo>
                      <a:pt x="16795" y="8"/>
                    </a:lnTo>
                    <a:cubicBezTo>
                      <a:pt x="16794" y="8"/>
                      <a:pt x="16793" y="7"/>
                      <a:pt x="16793" y="6"/>
                    </a:cubicBezTo>
                    <a:cubicBezTo>
                      <a:pt x="16793" y="5"/>
                      <a:pt x="16794" y="4"/>
                      <a:pt x="16795" y="4"/>
                    </a:cubicBezTo>
                    <a:close/>
                    <a:moveTo>
                      <a:pt x="16803" y="4"/>
                    </a:moveTo>
                    <a:lnTo>
                      <a:pt x="16803" y="4"/>
                    </a:lnTo>
                    <a:cubicBezTo>
                      <a:pt x="16804" y="4"/>
                      <a:pt x="16805" y="5"/>
                      <a:pt x="16805" y="6"/>
                    </a:cubicBezTo>
                    <a:cubicBezTo>
                      <a:pt x="16805" y="7"/>
                      <a:pt x="16804" y="8"/>
                      <a:pt x="16803" y="8"/>
                    </a:cubicBezTo>
                    <a:lnTo>
                      <a:pt x="16803" y="8"/>
                    </a:lnTo>
                    <a:cubicBezTo>
                      <a:pt x="16802" y="8"/>
                      <a:pt x="16801" y="7"/>
                      <a:pt x="16801" y="6"/>
                    </a:cubicBezTo>
                    <a:cubicBezTo>
                      <a:pt x="16801" y="5"/>
                      <a:pt x="16802" y="4"/>
                      <a:pt x="16803" y="4"/>
                    </a:cubicBezTo>
                    <a:close/>
                    <a:moveTo>
                      <a:pt x="16811" y="4"/>
                    </a:moveTo>
                    <a:lnTo>
                      <a:pt x="16811" y="4"/>
                    </a:lnTo>
                    <a:cubicBezTo>
                      <a:pt x="16812" y="4"/>
                      <a:pt x="16813" y="5"/>
                      <a:pt x="16813" y="6"/>
                    </a:cubicBezTo>
                    <a:cubicBezTo>
                      <a:pt x="16813" y="7"/>
                      <a:pt x="16812" y="8"/>
                      <a:pt x="16811" y="8"/>
                    </a:cubicBezTo>
                    <a:lnTo>
                      <a:pt x="16811" y="8"/>
                    </a:lnTo>
                    <a:cubicBezTo>
                      <a:pt x="16810" y="8"/>
                      <a:pt x="16809" y="7"/>
                      <a:pt x="16809" y="6"/>
                    </a:cubicBezTo>
                    <a:cubicBezTo>
                      <a:pt x="16809" y="5"/>
                      <a:pt x="16810" y="4"/>
                      <a:pt x="16811" y="4"/>
                    </a:cubicBezTo>
                    <a:close/>
                    <a:moveTo>
                      <a:pt x="16819" y="4"/>
                    </a:moveTo>
                    <a:lnTo>
                      <a:pt x="16819" y="4"/>
                    </a:lnTo>
                    <a:cubicBezTo>
                      <a:pt x="16820" y="4"/>
                      <a:pt x="16821" y="5"/>
                      <a:pt x="16821" y="6"/>
                    </a:cubicBezTo>
                    <a:cubicBezTo>
                      <a:pt x="16821" y="7"/>
                      <a:pt x="16820" y="8"/>
                      <a:pt x="16819" y="8"/>
                    </a:cubicBezTo>
                    <a:lnTo>
                      <a:pt x="16819" y="8"/>
                    </a:lnTo>
                    <a:cubicBezTo>
                      <a:pt x="16818" y="8"/>
                      <a:pt x="16817" y="7"/>
                      <a:pt x="16817" y="6"/>
                    </a:cubicBezTo>
                    <a:cubicBezTo>
                      <a:pt x="16817" y="5"/>
                      <a:pt x="16818" y="4"/>
                      <a:pt x="16819" y="4"/>
                    </a:cubicBezTo>
                    <a:close/>
                    <a:moveTo>
                      <a:pt x="16827" y="4"/>
                    </a:moveTo>
                    <a:lnTo>
                      <a:pt x="16827" y="4"/>
                    </a:lnTo>
                    <a:cubicBezTo>
                      <a:pt x="16828" y="4"/>
                      <a:pt x="16829" y="5"/>
                      <a:pt x="16829" y="6"/>
                    </a:cubicBezTo>
                    <a:cubicBezTo>
                      <a:pt x="16829" y="7"/>
                      <a:pt x="16828" y="8"/>
                      <a:pt x="16827" y="8"/>
                    </a:cubicBezTo>
                    <a:lnTo>
                      <a:pt x="16827" y="8"/>
                    </a:lnTo>
                    <a:cubicBezTo>
                      <a:pt x="16826" y="8"/>
                      <a:pt x="16825" y="7"/>
                      <a:pt x="16825" y="6"/>
                    </a:cubicBezTo>
                    <a:cubicBezTo>
                      <a:pt x="16825" y="5"/>
                      <a:pt x="16826" y="4"/>
                      <a:pt x="16827" y="4"/>
                    </a:cubicBezTo>
                    <a:close/>
                    <a:moveTo>
                      <a:pt x="16835" y="4"/>
                    </a:moveTo>
                    <a:lnTo>
                      <a:pt x="16835" y="4"/>
                    </a:lnTo>
                    <a:cubicBezTo>
                      <a:pt x="16836" y="4"/>
                      <a:pt x="16837" y="5"/>
                      <a:pt x="16837" y="6"/>
                    </a:cubicBezTo>
                    <a:cubicBezTo>
                      <a:pt x="16837" y="7"/>
                      <a:pt x="16836" y="8"/>
                      <a:pt x="16835" y="8"/>
                    </a:cubicBezTo>
                    <a:lnTo>
                      <a:pt x="16835" y="8"/>
                    </a:lnTo>
                    <a:cubicBezTo>
                      <a:pt x="16834" y="8"/>
                      <a:pt x="16833" y="7"/>
                      <a:pt x="16833" y="6"/>
                    </a:cubicBezTo>
                    <a:cubicBezTo>
                      <a:pt x="16833" y="5"/>
                      <a:pt x="16834" y="4"/>
                      <a:pt x="16835" y="4"/>
                    </a:cubicBezTo>
                    <a:close/>
                    <a:moveTo>
                      <a:pt x="16843" y="4"/>
                    </a:moveTo>
                    <a:lnTo>
                      <a:pt x="16843" y="4"/>
                    </a:lnTo>
                    <a:cubicBezTo>
                      <a:pt x="16844" y="4"/>
                      <a:pt x="16845" y="5"/>
                      <a:pt x="16845" y="6"/>
                    </a:cubicBezTo>
                    <a:cubicBezTo>
                      <a:pt x="16845" y="7"/>
                      <a:pt x="16844" y="8"/>
                      <a:pt x="16843" y="8"/>
                    </a:cubicBezTo>
                    <a:lnTo>
                      <a:pt x="16843" y="8"/>
                    </a:lnTo>
                    <a:cubicBezTo>
                      <a:pt x="16842" y="8"/>
                      <a:pt x="16841" y="7"/>
                      <a:pt x="16841" y="6"/>
                    </a:cubicBezTo>
                    <a:cubicBezTo>
                      <a:pt x="16841" y="5"/>
                      <a:pt x="16842" y="4"/>
                      <a:pt x="16843" y="4"/>
                    </a:cubicBezTo>
                    <a:close/>
                    <a:moveTo>
                      <a:pt x="16851" y="4"/>
                    </a:moveTo>
                    <a:lnTo>
                      <a:pt x="16851" y="4"/>
                    </a:lnTo>
                    <a:cubicBezTo>
                      <a:pt x="16852" y="4"/>
                      <a:pt x="16853" y="5"/>
                      <a:pt x="16853" y="6"/>
                    </a:cubicBezTo>
                    <a:cubicBezTo>
                      <a:pt x="16853" y="7"/>
                      <a:pt x="16852" y="8"/>
                      <a:pt x="16851" y="8"/>
                    </a:cubicBezTo>
                    <a:lnTo>
                      <a:pt x="16851" y="8"/>
                    </a:lnTo>
                    <a:cubicBezTo>
                      <a:pt x="16850" y="8"/>
                      <a:pt x="16849" y="7"/>
                      <a:pt x="16849" y="6"/>
                    </a:cubicBezTo>
                    <a:cubicBezTo>
                      <a:pt x="16849" y="5"/>
                      <a:pt x="16850" y="4"/>
                      <a:pt x="16851" y="4"/>
                    </a:cubicBezTo>
                    <a:close/>
                    <a:moveTo>
                      <a:pt x="16859" y="4"/>
                    </a:moveTo>
                    <a:lnTo>
                      <a:pt x="16859" y="4"/>
                    </a:lnTo>
                    <a:cubicBezTo>
                      <a:pt x="16860" y="4"/>
                      <a:pt x="16861" y="5"/>
                      <a:pt x="16861" y="6"/>
                    </a:cubicBezTo>
                    <a:cubicBezTo>
                      <a:pt x="16861" y="7"/>
                      <a:pt x="16860" y="8"/>
                      <a:pt x="16859" y="8"/>
                    </a:cubicBezTo>
                    <a:lnTo>
                      <a:pt x="16859" y="8"/>
                    </a:lnTo>
                    <a:cubicBezTo>
                      <a:pt x="16858" y="8"/>
                      <a:pt x="16857" y="7"/>
                      <a:pt x="16857" y="6"/>
                    </a:cubicBezTo>
                    <a:cubicBezTo>
                      <a:pt x="16857" y="5"/>
                      <a:pt x="16858" y="4"/>
                      <a:pt x="16859" y="4"/>
                    </a:cubicBezTo>
                    <a:close/>
                    <a:moveTo>
                      <a:pt x="16867" y="4"/>
                    </a:moveTo>
                    <a:lnTo>
                      <a:pt x="16867" y="4"/>
                    </a:lnTo>
                    <a:cubicBezTo>
                      <a:pt x="16868" y="4"/>
                      <a:pt x="16869" y="5"/>
                      <a:pt x="16869" y="6"/>
                    </a:cubicBezTo>
                    <a:cubicBezTo>
                      <a:pt x="16869" y="7"/>
                      <a:pt x="16868" y="8"/>
                      <a:pt x="16867" y="8"/>
                    </a:cubicBezTo>
                    <a:lnTo>
                      <a:pt x="16867" y="8"/>
                    </a:lnTo>
                    <a:cubicBezTo>
                      <a:pt x="16866" y="8"/>
                      <a:pt x="16865" y="7"/>
                      <a:pt x="16865" y="6"/>
                    </a:cubicBezTo>
                    <a:cubicBezTo>
                      <a:pt x="16865" y="5"/>
                      <a:pt x="16866" y="4"/>
                      <a:pt x="16867" y="4"/>
                    </a:cubicBezTo>
                    <a:close/>
                    <a:moveTo>
                      <a:pt x="16875" y="4"/>
                    </a:moveTo>
                    <a:lnTo>
                      <a:pt x="16875" y="4"/>
                    </a:lnTo>
                    <a:cubicBezTo>
                      <a:pt x="16876" y="4"/>
                      <a:pt x="16877" y="5"/>
                      <a:pt x="16877" y="6"/>
                    </a:cubicBezTo>
                    <a:cubicBezTo>
                      <a:pt x="16877" y="7"/>
                      <a:pt x="16876" y="8"/>
                      <a:pt x="16875" y="8"/>
                    </a:cubicBezTo>
                    <a:lnTo>
                      <a:pt x="16875" y="8"/>
                    </a:lnTo>
                    <a:cubicBezTo>
                      <a:pt x="16874" y="8"/>
                      <a:pt x="16873" y="7"/>
                      <a:pt x="16873" y="6"/>
                    </a:cubicBezTo>
                    <a:cubicBezTo>
                      <a:pt x="16873" y="5"/>
                      <a:pt x="16874" y="4"/>
                      <a:pt x="16875" y="4"/>
                    </a:cubicBezTo>
                    <a:close/>
                    <a:moveTo>
                      <a:pt x="16883" y="4"/>
                    </a:moveTo>
                    <a:lnTo>
                      <a:pt x="16883" y="4"/>
                    </a:lnTo>
                    <a:cubicBezTo>
                      <a:pt x="16884" y="4"/>
                      <a:pt x="16885" y="5"/>
                      <a:pt x="16885" y="6"/>
                    </a:cubicBezTo>
                    <a:cubicBezTo>
                      <a:pt x="16885" y="7"/>
                      <a:pt x="16884" y="8"/>
                      <a:pt x="16883" y="8"/>
                    </a:cubicBezTo>
                    <a:lnTo>
                      <a:pt x="16883" y="8"/>
                    </a:lnTo>
                    <a:cubicBezTo>
                      <a:pt x="16882" y="8"/>
                      <a:pt x="16881" y="7"/>
                      <a:pt x="16881" y="6"/>
                    </a:cubicBezTo>
                    <a:cubicBezTo>
                      <a:pt x="16881" y="5"/>
                      <a:pt x="16882" y="4"/>
                      <a:pt x="16883" y="4"/>
                    </a:cubicBezTo>
                    <a:close/>
                    <a:moveTo>
                      <a:pt x="16891" y="4"/>
                    </a:moveTo>
                    <a:lnTo>
                      <a:pt x="16891" y="4"/>
                    </a:lnTo>
                    <a:cubicBezTo>
                      <a:pt x="16892" y="4"/>
                      <a:pt x="16893" y="5"/>
                      <a:pt x="16893" y="6"/>
                    </a:cubicBezTo>
                    <a:cubicBezTo>
                      <a:pt x="16893" y="7"/>
                      <a:pt x="16892" y="8"/>
                      <a:pt x="16891" y="8"/>
                    </a:cubicBezTo>
                    <a:lnTo>
                      <a:pt x="16891" y="8"/>
                    </a:lnTo>
                    <a:cubicBezTo>
                      <a:pt x="16890" y="8"/>
                      <a:pt x="16889" y="7"/>
                      <a:pt x="16889" y="6"/>
                    </a:cubicBezTo>
                    <a:cubicBezTo>
                      <a:pt x="16889" y="5"/>
                      <a:pt x="16890" y="4"/>
                      <a:pt x="16891" y="4"/>
                    </a:cubicBezTo>
                    <a:close/>
                    <a:moveTo>
                      <a:pt x="16899" y="4"/>
                    </a:moveTo>
                    <a:lnTo>
                      <a:pt x="16899" y="4"/>
                    </a:lnTo>
                    <a:cubicBezTo>
                      <a:pt x="16901" y="4"/>
                      <a:pt x="16901" y="5"/>
                      <a:pt x="16901" y="6"/>
                    </a:cubicBezTo>
                    <a:cubicBezTo>
                      <a:pt x="16901" y="7"/>
                      <a:pt x="16901" y="8"/>
                      <a:pt x="16899" y="8"/>
                    </a:cubicBezTo>
                    <a:lnTo>
                      <a:pt x="16899" y="8"/>
                    </a:lnTo>
                    <a:cubicBezTo>
                      <a:pt x="16898" y="8"/>
                      <a:pt x="16897" y="7"/>
                      <a:pt x="16897" y="6"/>
                    </a:cubicBezTo>
                    <a:cubicBezTo>
                      <a:pt x="16897" y="5"/>
                      <a:pt x="16898" y="4"/>
                      <a:pt x="16899" y="4"/>
                    </a:cubicBezTo>
                    <a:close/>
                    <a:moveTo>
                      <a:pt x="16907" y="4"/>
                    </a:moveTo>
                    <a:lnTo>
                      <a:pt x="16907" y="4"/>
                    </a:lnTo>
                    <a:cubicBezTo>
                      <a:pt x="16909" y="4"/>
                      <a:pt x="16909" y="5"/>
                      <a:pt x="16909" y="6"/>
                    </a:cubicBezTo>
                    <a:cubicBezTo>
                      <a:pt x="16909" y="7"/>
                      <a:pt x="16909" y="8"/>
                      <a:pt x="16907" y="8"/>
                    </a:cubicBezTo>
                    <a:lnTo>
                      <a:pt x="16907" y="8"/>
                    </a:lnTo>
                    <a:cubicBezTo>
                      <a:pt x="16906" y="8"/>
                      <a:pt x="16905" y="7"/>
                      <a:pt x="16905" y="6"/>
                    </a:cubicBezTo>
                    <a:cubicBezTo>
                      <a:pt x="16905" y="5"/>
                      <a:pt x="16906" y="4"/>
                      <a:pt x="16907" y="4"/>
                    </a:cubicBezTo>
                    <a:close/>
                    <a:moveTo>
                      <a:pt x="16915" y="4"/>
                    </a:moveTo>
                    <a:lnTo>
                      <a:pt x="16915" y="4"/>
                    </a:lnTo>
                    <a:cubicBezTo>
                      <a:pt x="16917" y="4"/>
                      <a:pt x="16917" y="5"/>
                      <a:pt x="16917" y="6"/>
                    </a:cubicBezTo>
                    <a:cubicBezTo>
                      <a:pt x="16917" y="7"/>
                      <a:pt x="16917" y="8"/>
                      <a:pt x="16915" y="8"/>
                    </a:cubicBezTo>
                    <a:lnTo>
                      <a:pt x="16915" y="8"/>
                    </a:lnTo>
                    <a:cubicBezTo>
                      <a:pt x="16914" y="8"/>
                      <a:pt x="16913" y="7"/>
                      <a:pt x="16913" y="6"/>
                    </a:cubicBezTo>
                    <a:cubicBezTo>
                      <a:pt x="16913" y="5"/>
                      <a:pt x="16914" y="4"/>
                      <a:pt x="16915" y="4"/>
                    </a:cubicBezTo>
                    <a:close/>
                    <a:moveTo>
                      <a:pt x="16923" y="4"/>
                    </a:moveTo>
                    <a:lnTo>
                      <a:pt x="16923" y="4"/>
                    </a:lnTo>
                    <a:cubicBezTo>
                      <a:pt x="16925" y="4"/>
                      <a:pt x="16925" y="5"/>
                      <a:pt x="16925" y="6"/>
                    </a:cubicBezTo>
                    <a:cubicBezTo>
                      <a:pt x="16925" y="7"/>
                      <a:pt x="16925" y="8"/>
                      <a:pt x="16923" y="8"/>
                    </a:cubicBezTo>
                    <a:lnTo>
                      <a:pt x="16923" y="8"/>
                    </a:lnTo>
                    <a:cubicBezTo>
                      <a:pt x="16922" y="8"/>
                      <a:pt x="16921" y="7"/>
                      <a:pt x="16921" y="6"/>
                    </a:cubicBezTo>
                    <a:cubicBezTo>
                      <a:pt x="16921" y="5"/>
                      <a:pt x="16922" y="4"/>
                      <a:pt x="16923" y="4"/>
                    </a:cubicBezTo>
                    <a:close/>
                    <a:moveTo>
                      <a:pt x="16931" y="4"/>
                    </a:moveTo>
                    <a:lnTo>
                      <a:pt x="16931" y="4"/>
                    </a:lnTo>
                    <a:cubicBezTo>
                      <a:pt x="16933" y="4"/>
                      <a:pt x="16933" y="5"/>
                      <a:pt x="16933" y="6"/>
                    </a:cubicBezTo>
                    <a:cubicBezTo>
                      <a:pt x="16933" y="7"/>
                      <a:pt x="16933" y="8"/>
                      <a:pt x="16931" y="8"/>
                    </a:cubicBezTo>
                    <a:lnTo>
                      <a:pt x="16931" y="8"/>
                    </a:lnTo>
                    <a:cubicBezTo>
                      <a:pt x="16930" y="8"/>
                      <a:pt x="16929" y="7"/>
                      <a:pt x="16929" y="6"/>
                    </a:cubicBezTo>
                    <a:cubicBezTo>
                      <a:pt x="16929" y="5"/>
                      <a:pt x="16930" y="4"/>
                      <a:pt x="16931" y="4"/>
                    </a:cubicBezTo>
                    <a:close/>
                    <a:moveTo>
                      <a:pt x="16939" y="4"/>
                    </a:moveTo>
                    <a:lnTo>
                      <a:pt x="16939" y="4"/>
                    </a:lnTo>
                    <a:cubicBezTo>
                      <a:pt x="16941" y="4"/>
                      <a:pt x="16941" y="5"/>
                      <a:pt x="16941" y="6"/>
                    </a:cubicBezTo>
                    <a:cubicBezTo>
                      <a:pt x="16941" y="7"/>
                      <a:pt x="16941" y="8"/>
                      <a:pt x="16939" y="8"/>
                    </a:cubicBezTo>
                    <a:lnTo>
                      <a:pt x="16939" y="8"/>
                    </a:lnTo>
                    <a:cubicBezTo>
                      <a:pt x="16938" y="8"/>
                      <a:pt x="16937" y="7"/>
                      <a:pt x="16937" y="6"/>
                    </a:cubicBezTo>
                    <a:cubicBezTo>
                      <a:pt x="16937" y="5"/>
                      <a:pt x="16938" y="4"/>
                      <a:pt x="16939" y="4"/>
                    </a:cubicBezTo>
                    <a:close/>
                    <a:moveTo>
                      <a:pt x="16947" y="4"/>
                    </a:moveTo>
                    <a:lnTo>
                      <a:pt x="16947" y="4"/>
                    </a:lnTo>
                    <a:cubicBezTo>
                      <a:pt x="16949" y="4"/>
                      <a:pt x="16949" y="5"/>
                      <a:pt x="16949" y="6"/>
                    </a:cubicBezTo>
                    <a:cubicBezTo>
                      <a:pt x="16949" y="7"/>
                      <a:pt x="16949" y="8"/>
                      <a:pt x="16947" y="8"/>
                    </a:cubicBezTo>
                    <a:lnTo>
                      <a:pt x="16947" y="8"/>
                    </a:lnTo>
                    <a:cubicBezTo>
                      <a:pt x="16946" y="8"/>
                      <a:pt x="16945" y="7"/>
                      <a:pt x="16945" y="6"/>
                    </a:cubicBezTo>
                    <a:cubicBezTo>
                      <a:pt x="16945" y="5"/>
                      <a:pt x="16946" y="4"/>
                      <a:pt x="16947" y="4"/>
                    </a:cubicBezTo>
                    <a:close/>
                    <a:moveTo>
                      <a:pt x="16955" y="4"/>
                    </a:moveTo>
                    <a:lnTo>
                      <a:pt x="16955" y="4"/>
                    </a:lnTo>
                    <a:cubicBezTo>
                      <a:pt x="16957" y="4"/>
                      <a:pt x="16957" y="5"/>
                      <a:pt x="16957" y="6"/>
                    </a:cubicBezTo>
                    <a:cubicBezTo>
                      <a:pt x="16957" y="7"/>
                      <a:pt x="16957" y="8"/>
                      <a:pt x="16955" y="8"/>
                    </a:cubicBezTo>
                    <a:lnTo>
                      <a:pt x="16955" y="8"/>
                    </a:lnTo>
                    <a:cubicBezTo>
                      <a:pt x="16954" y="8"/>
                      <a:pt x="16953" y="7"/>
                      <a:pt x="16953" y="6"/>
                    </a:cubicBezTo>
                    <a:cubicBezTo>
                      <a:pt x="16953" y="5"/>
                      <a:pt x="16954" y="4"/>
                      <a:pt x="16955" y="4"/>
                    </a:cubicBezTo>
                    <a:close/>
                    <a:moveTo>
                      <a:pt x="16963" y="4"/>
                    </a:moveTo>
                    <a:lnTo>
                      <a:pt x="16963" y="4"/>
                    </a:lnTo>
                    <a:cubicBezTo>
                      <a:pt x="16965" y="4"/>
                      <a:pt x="16965" y="5"/>
                      <a:pt x="16965" y="6"/>
                    </a:cubicBezTo>
                    <a:cubicBezTo>
                      <a:pt x="16965" y="7"/>
                      <a:pt x="16965" y="8"/>
                      <a:pt x="16963" y="8"/>
                    </a:cubicBezTo>
                    <a:lnTo>
                      <a:pt x="16963" y="8"/>
                    </a:lnTo>
                    <a:cubicBezTo>
                      <a:pt x="16962" y="8"/>
                      <a:pt x="16961" y="7"/>
                      <a:pt x="16961" y="6"/>
                    </a:cubicBezTo>
                    <a:cubicBezTo>
                      <a:pt x="16961" y="5"/>
                      <a:pt x="16962" y="4"/>
                      <a:pt x="16963" y="4"/>
                    </a:cubicBezTo>
                    <a:close/>
                    <a:moveTo>
                      <a:pt x="16971" y="4"/>
                    </a:moveTo>
                    <a:lnTo>
                      <a:pt x="16971" y="4"/>
                    </a:lnTo>
                    <a:cubicBezTo>
                      <a:pt x="16973" y="4"/>
                      <a:pt x="16973" y="5"/>
                      <a:pt x="16973" y="6"/>
                    </a:cubicBezTo>
                    <a:cubicBezTo>
                      <a:pt x="16973" y="7"/>
                      <a:pt x="16973" y="8"/>
                      <a:pt x="16971" y="8"/>
                    </a:cubicBezTo>
                    <a:lnTo>
                      <a:pt x="16971" y="8"/>
                    </a:lnTo>
                    <a:cubicBezTo>
                      <a:pt x="16970" y="8"/>
                      <a:pt x="16969" y="7"/>
                      <a:pt x="16969" y="6"/>
                    </a:cubicBezTo>
                    <a:cubicBezTo>
                      <a:pt x="16969" y="5"/>
                      <a:pt x="16970" y="4"/>
                      <a:pt x="16971" y="4"/>
                    </a:cubicBezTo>
                    <a:close/>
                    <a:moveTo>
                      <a:pt x="16979" y="4"/>
                    </a:moveTo>
                    <a:lnTo>
                      <a:pt x="16979" y="4"/>
                    </a:lnTo>
                    <a:cubicBezTo>
                      <a:pt x="16981" y="4"/>
                      <a:pt x="16981" y="5"/>
                      <a:pt x="16981" y="6"/>
                    </a:cubicBezTo>
                    <a:cubicBezTo>
                      <a:pt x="16981" y="7"/>
                      <a:pt x="16981" y="8"/>
                      <a:pt x="16979" y="8"/>
                    </a:cubicBezTo>
                    <a:lnTo>
                      <a:pt x="16979" y="8"/>
                    </a:lnTo>
                    <a:cubicBezTo>
                      <a:pt x="16978" y="8"/>
                      <a:pt x="16977" y="7"/>
                      <a:pt x="16977" y="6"/>
                    </a:cubicBezTo>
                    <a:cubicBezTo>
                      <a:pt x="16977" y="5"/>
                      <a:pt x="16978" y="4"/>
                      <a:pt x="16979" y="4"/>
                    </a:cubicBezTo>
                    <a:close/>
                    <a:moveTo>
                      <a:pt x="16987" y="4"/>
                    </a:moveTo>
                    <a:lnTo>
                      <a:pt x="16987" y="4"/>
                    </a:lnTo>
                    <a:cubicBezTo>
                      <a:pt x="16989" y="4"/>
                      <a:pt x="16989" y="5"/>
                      <a:pt x="16989" y="6"/>
                    </a:cubicBezTo>
                    <a:cubicBezTo>
                      <a:pt x="16989" y="7"/>
                      <a:pt x="16989" y="8"/>
                      <a:pt x="16987" y="8"/>
                    </a:cubicBezTo>
                    <a:lnTo>
                      <a:pt x="16987" y="8"/>
                    </a:lnTo>
                    <a:cubicBezTo>
                      <a:pt x="16986" y="8"/>
                      <a:pt x="16985" y="7"/>
                      <a:pt x="16985" y="6"/>
                    </a:cubicBezTo>
                    <a:cubicBezTo>
                      <a:pt x="16985" y="5"/>
                      <a:pt x="16986" y="4"/>
                      <a:pt x="16987" y="4"/>
                    </a:cubicBezTo>
                    <a:close/>
                    <a:moveTo>
                      <a:pt x="16995" y="4"/>
                    </a:moveTo>
                    <a:lnTo>
                      <a:pt x="16995" y="4"/>
                    </a:lnTo>
                    <a:cubicBezTo>
                      <a:pt x="16997" y="4"/>
                      <a:pt x="16997" y="5"/>
                      <a:pt x="16997" y="6"/>
                    </a:cubicBezTo>
                    <a:cubicBezTo>
                      <a:pt x="16997" y="7"/>
                      <a:pt x="16997" y="8"/>
                      <a:pt x="16995" y="8"/>
                    </a:cubicBezTo>
                    <a:lnTo>
                      <a:pt x="16995" y="8"/>
                    </a:lnTo>
                    <a:cubicBezTo>
                      <a:pt x="16994" y="8"/>
                      <a:pt x="16993" y="7"/>
                      <a:pt x="16993" y="6"/>
                    </a:cubicBezTo>
                    <a:cubicBezTo>
                      <a:pt x="16993" y="5"/>
                      <a:pt x="16994" y="4"/>
                      <a:pt x="16995" y="4"/>
                    </a:cubicBezTo>
                    <a:close/>
                    <a:moveTo>
                      <a:pt x="17003" y="4"/>
                    </a:moveTo>
                    <a:lnTo>
                      <a:pt x="17003" y="4"/>
                    </a:lnTo>
                    <a:cubicBezTo>
                      <a:pt x="17005" y="4"/>
                      <a:pt x="17005" y="5"/>
                      <a:pt x="17005" y="6"/>
                    </a:cubicBezTo>
                    <a:cubicBezTo>
                      <a:pt x="17005" y="7"/>
                      <a:pt x="17005" y="8"/>
                      <a:pt x="17003" y="8"/>
                    </a:cubicBezTo>
                    <a:lnTo>
                      <a:pt x="17003" y="8"/>
                    </a:lnTo>
                    <a:cubicBezTo>
                      <a:pt x="17002" y="8"/>
                      <a:pt x="17001" y="7"/>
                      <a:pt x="17001" y="6"/>
                    </a:cubicBezTo>
                    <a:cubicBezTo>
                      <a:pt x="17001" y="5"/>
                      <a:pt x="17002" y="4"/>
                      <a:pt x="17003" y="4"/>
                    </a:cubicBezTo>
                    <a:close/>
                    <a:moveTo>
                      <a:pt x="17011" y="4"/>
                    </a:moveTo>
                    <a:lnTo>
                      <a:pt x="17011" y="4"/>
                    </a:lnTo>
                    <a:cubicBezTo>
                      <a:pt x="17013" y="4"/>
                      <a:pt x="17013" y="5"/>
                      <a:pt x="17013" y="6"/>
                    </a:cubicBezTo>
                    <a:cubicBezTo>
                      <a:pt x="17013" y="7"/>
                      <a:pt x="17013" y="8"/>
                      <a:pt x="17011" y="8"/>
                    </a:cubicBezTo>
                    <a:lnTo>
                      <a:pt x="17011" y="8"/>
                    </a:lnTo>
                    <a:cubicBezTo>
                      <a:pt x="17010" y="8"/>
                      <a:pt x="17009" y="7"/>
                      <a:pt x="17009" y="6"/>
                    </a:cubicBezTo>
                    <a:cubicBezTo>
                      <a:pt x="17009" y="5"/>
                      <a:pt x="17010" y="4"/>
                      <a:pt x="17011" y="4"/>
                    </a:cubicBezTo>
                    <a:close/>
                    <a:moveTo>
                      <a:pt x="17019" y="4"/>
                    </a:moveTo>
                    <a:lnTo>
                      <a:pt x="17019" y="4"/>
                    </a:lnTo>
                    <a:cubicBezTo>
                      <a:pt x="17021" y="4"/>
                      <a:pt x="17021" y="5"/>
                      <a:pt x="17021" y="6"/>
                    </a:cubicBezTo>
                    <a:cubicBezTo>
                      <a:pt x="17021" y="7"/>
                      <a:pt x="17021" y="8"/>
                      <a:pt x="17019" y="8"/>
                    </a:cubicBezTo>
                    <a:lnTo>
                      <a:pt x="17019" y="8"/>
                    </a:lnTo>
                    <a:cubicBezTo>
                      <a:pt x="17018" y="8"/>
                      <a:pt x="17017" y="7"/>
                      <a:pt x="17017" y="6"/>
                    </a:cubicBezTo>
                    <a:cubicBezTo>
                      <a:pt x="17017" y="5"/>
                      <a:pt x="17018" y="4"/>
                      <a:pt x="17019" y="4"/>
                    </a:cubicBezTo>
                    <a:close/>
                    <a:moveTo>
                      <a:pt x="17027" y="4"/>
                    </a:moveTo>
                    <a:lnTo>
                      <a:pt x="17027" y="4"/>
                    </a:lnTo>
                    <a:cubicBezTo>
                      <a:pt x="17029" y="4"/>
                      <a:pt x="17029" y="5"/>
                      <a:pt x="17029" y="6"/>
                    </a:cubicBezTo>
                    <a:cubicBezTo>
                      <a:pt x="17029" y="7"/>
                      <a:pt x="17029" y="8"/>
                      <a:pt x="17027" y="8"/>
                    </a:cubicBezTo>
                    <a:lnTo>
                      <a:pt x="17027" y="8"/>
                    </a:lnTo>
                    <a:cubicBezTo>
                      <a:pt x="17026" y="8"/>
                      <a:pt x="17025" y="7"/>
                      <a:pt x="17025" y="6"/>
                    </a:cubicBezTo>
                    <a:cubicBezTo>
                      <a:pt x="17025" y="5"/>
                      <a:pt x="17026" y="4"/>
                      <a:pt x="17027" y="4"/>
                    </a:cubicBezTo>
                    <a:close/>
                    <a:moveTo>
                      <a:pt x="17035" y="4"/>
                    </a:moveTo>
                    <a:lnTo>
                      <a:pt x="17035" y="4"/>
                    </a:lnTo>
                    <a:cubicBezTo>
                      <a:pt x="17037" y="4"/>
                      <a:pt x="17037" y="5"/>
                      <a:pt x="17037" y="6"/>
                    </a:cubicBezTo>
                    <a:cubicBezTo>
                      <a:pt x="17037" y="7"/>
                      <a:pt x="17037" y="8"/>
                      <a:pt x="17035" y="8"/>
                    </a:cubicBezTo>
                    <a:lnTo>
                      <a:pt x="17035" y="8"/>
                    </a:lnTo>
                    <a:cubicBezTo>
                      <a:pt x="17034" y="8"/>
                      <a:pt x="17033" y="7"/>
                      <a:pt x="17033" y="6"/>
                    </a:cubicBezTo>
                    <a:cubicBezTo>
                      <a:pt x="17033" y="5"/>
                      <a:pt x="17034" y="4"/>
                      <a:pt x="17035" y="4"/>
                    </a:cubicBezTo>
                    <a:close/>
                    <a:moveTo>
                      <a:pt x="17044" y="4"/>
                    </a:moveTo>
                    <a:lnTo>
                      <a:pt x="17044" y="4"/>
                    </a:lnTo>
                    <a:cubicBezTo>
                      <a:pt x="17045" y="4"/>
                      <a:pt x="17046" y="5"/>
                      <a:pt x="17046" y="6"/>
                    </a:cubicBezTo>
                    <a:cubicBezTo>
                      <a:pt x="17046" y="7"/>
                      <a:pt x="17045" y="8"/>
                      <a:pt x="17044" y="8"/>
                    </a:cubicBezTo>
                    <a:lnTo>
                      <a:pt x="17044" y="8"/>
                    </a:lnTo>
                    <a:cubicBezTo>
                      <a:pt x="17042" y="8"/>
                      <a:pt x="17041" y="7"/>
                      <a:pt x="17041" y="6"/>
                    </a:cubicBezTo>
                    <a:cubicBezTo>
                      <a:pt x="17041" y="5"/>
                      <a:pt x="17042" y="4"/>
                      <a:pt x="17044" y="4"/>
                    </a:cubicBezTo>
                    <a:close/>
                    <a:moveTo>
                      <a:pt x="17052" y="4"/>
                    </a:moveTo>
                    <a:lnTo>
                      <a:pt x="17052" y="4"/>
                    </a:lnTo>
                    <a:cubicBezTo>
                      <a:pt x="17053" y="4"/>
                      <a:pt x="17054" y="5"/>
                      <a:pt x="17054" y="6"/>
                    </a:cubicBezTo>
                    <a:cubicBezTo>
                      <a:pt x="17054" y="7"/>
                      <a:pt x="17053" y="8"/>
                      <a:pt x="17052" y="8"/>
                    </a:cubicBezTo>
                    <a:lnTo>
                      <a:pt x="17052" y="8"/>
                    </a:lnTo>
                    <a:cubicBezTo>
                      <a:pt x="17050" y="8"/>
                      <a:pt x="17050" y="7"/>
                      <a:pt x="17050" y="6"/>
                    </a:cubicBezTo>
                    <a:cubicBezTo>
                      <a:pt x="17050" y="5"/>
                      <a:pt x="17050" y="4"/>
                      <a:pt x="17052" y="4"/>
                    </a:cubicBezTo>
                    <a:close/>
                    <a:moveTo>
                      <a:pt x="17060" y="4"/>
                    </a:moveTo>
                    <a:lnTo>
                      <a:pt x="17060" y="4"/>
                    </a:lnTo>
                    <a:cubicBezTo>
                      <a:pt x="17061" y="4"/>
                      <a:pt x="17062" y="5"/>
                      <a:pt x="17062" y="6"/>
                    </a:cubicBezTo>
                    <a:cubicBezTo>
                      <a:pt x="17062" y="7"/>
                      <a:pt x="17061" y="8"/>
                      <a:pt x="17060" y="8"/>
                    </a:cubicBezTo>
                    <a:lnTo>
                      <a:pt x="17060" y="8"/>
                    </a:lnTo>
                    <a:cubicBezTo>
                      <a:pt x="17058" y="8"/>
                      <a:pt x="17058" y="7"/>
                      <a:pt x="17058" y="6"/>
                    </a:cubicBezTo>
                    <a:cubicBezTo>
                      <a:pt x="17058" y="5"/>
                      <a:pt x="17058" y="4"/>
                      <a:pt x="17060" y="4"/>
                    </a:cubicBezTo>
                    <a:close/>
                    <a:moveTo>
                      <a:pt x="17068" y="4"/>
                    </a:moveTo>
                    <a:lnTo>
                      <a:pt x="17068" y="4"/>
                    </a:lnTo>
                    <a:cubicBezTo>
                      <a:pt x="17069" y="4"/>
                      <a:pt x="17070" y="5"/>
                      <a:pt x="17070" y="6"/>
                    </a:cubicBezTo>
                    <a:cubicBezTo>
                      <a:pt x="17070" y="7"/>
                      <a:pt x="17069" y="8"/>
                      <a:pt x="17068" y="8"/>
                    </a:cubicBezTo>
                    <a:lnTo>
                      <a:pt x="17068" y="8"/>
                    </a:lnTo>
                    <a:cubicBezTo>
                      <a:pt x="17066" y="8"/>
                      <a:pt x="17066" y="7"/>
                      <a:pt x="17066" y="6"/>
                    </a:cubicBezTo>
                    <a:cubicBezTo>
                      <a:pt x="17066" y="5"/>
                      <a:pt x="17066" y="4"/>
                      <a:pt x="17068" y="4"/>
                    </a:cubicBezTo>
                    <a:close/>
                    <a:moveTo>
                      <a:pt x="17076" y="4"/>
                    </a:moveTo>
                    <a:lnTo>
                      <a:pt x="17076" y="4"/>
                    </a:lnTo>
                    <a:cubicBezTo>
                      <a:pt x="17077" y="4"/>
                      <a:pt x="17078" y="5"/>
                      <a:pt x="17078" y="6"/>
                    </a:cubicBezTo>
                    <a:cubicBezTo>
                      <a:pt x="17078" y="7"/>
                      <a:pt x="17077" y="8"/>
                      <a:pt x="17076" y="8"/>
                    </a:cubicBezTo>
                    <a:lnTo>
                      <a:pt x="17076" y="8"/>
                    </a:lnTo>
                    <a:cubicBezTo>
                      <a:pt x="17074" y="8"/>
                      <a:pt x="17074" y="7"/>
                      <a:pt x="17074" y="6"/>
                    </a:cubicBezTo>
                    <a:cubicBezTo>
                      <a:pt x="17074" y="5"/>
                      <a:pt x="17074" y="4"/>
                      <a:pt x="17076" y="4"/>
                    </a:cubicBezTo>
                    <a:close/>
                    <a:moveTo>
                      <a:pt x="17084" y="4"/>
                    </a:moveTo>
                    <a:lnTo>
                      <a:pt x="17084" y="4"/>
                    </a:lnTo>
                    <a:cubicBezTo>
                      <a:pt x="17085" y="4"/>
                      <a:pt x="17086" y="5"/>
                      <a:pt x="17086" y="6"/>
                    </a:cubicBezTo>
                    <a:cubicBezTo>
                      <a:pt x="17086" y="7"/>
                      <a:pt x="17085" y="8"/>
                      <a:pt x="17084" y="8"/>
                    </a:cubicBezTo>
                    <a:lnTo>
                      <a:pt x="17084" y="8"/>
                    </a:lnTo>
                    <a:cubicBezTo>
                      <a:pt x="17082" y="8"/>
                      <a:pt x="17082" y="7"/>
                      <a:pt x="17082" y="6"/>
                    </a:cubicBezTo>
                    <a:cubicBezTo>
                      <a:pt x="17082" y="5"/>
                      <a:pt x="17082" y="4"/>
                      <a:pt x="17084" y="4"/>
                    </a:cubicBezTo>
                    <a:close/>
                    <a:moveTo>
                      <a:pt x="17092" y="4"/>
                    </a:moveTo>
                    <a:lnTo>
                      <a:pt x="17092" y="4"/>
                    </a:lnTo>
                    <a:cubicBezTo>
                      <a:pt x="17093" y="4"/>
                      <a:pt x="17094" y="5"/>
                      <a:pt x="17094" y="6"/>
                    </a:cubicBezTo>
                    <a:cubicBezTo>
                      <a:pt x="17094" y="7"/>
                      <a:pt x="17093" y="8"/>
                      <a:pt x="17092" y="8"/>
                    </a:cubicBezTo>
                    <a:lnTo>
                      <a:pt x="17092" y="8"/>
                    </a:lnTo>
                    <a:cubicBezTo>
                      <a:pt x="17090" y="8"/>
                      <a:pt x="17090" y="7"/>
                      <a:pt x="17090" y="6"/>
                    </a:cubicBezTo>
                    <a:cubicBezTo>
                      <a:pt x="17090" y="5"/>
                      <a:pt x="17090" y="4"/>
                      <a:pt x="17092" y="4"/>
                    </a:cubicBezTo>
                    <a:close/>
                    <a:moveTo>
                      <a:pt x="17100" y="4"/>
                    </a:moveTo>
                    <a:lnTo>
                      <a:pt x="17100" y="4"/>
                    </a:lnTo>
                    <a:cubicBezTo>
                      <a:pt x="17101" y="4"/>
                      <a:pt x="17102" y="5"/>
                      <a:pt x="17102" y="6"/>
                    </a:cubicBezTo>
                    <a:cubicBezTo>
                      <a:pt x="17102" y="7"/>
                      <a:pt x="17101" y="8"/>
                      <a:pt x="17100" y="8"/>
                    </a:cubicBezTo>
                    <a:lnTo>
                      <a:pt x="17100" y="8"/>
                    </a:lnTo>
                    <a:cubicBezTo>
                      <a:pt x="17098" y="8"/>
                      <a:pt x="17098" y="7"/>
                      <a:pt x="17098" y="6"/>
                    </a:cubicBezTo>
                    <a:cubicBezTo>
                      <a:pt x="17098" y="5"/>
                      <a:pt x="17098" y="4"/>
                      <a:pt x="17100" y="4"/>
                    </a:cubicBezTo>
                    <a:close/>
                    <a:moveTo>
                      <a:pt x="17108" y="4"/>
                    </a:moveTo>
                    <a:lnTo>
                      <a:pt x="17108" y="4"/>
                    </a:lnTo>
                    <a:cubicBezTo>
                      <a:pt x="17109" y="4"/>
                      <a:pt x="17110" y="5"/>
                      <a:pt x="17110" y="6"/>
                    </a:cubicBezTo>
                    <a:cubicBezTo>
                      <a:pt x="17110" y="7"/>
                      <a:pt x="17109" y="8"/>
                      <a:pt x="17108" y="8"/>
                    </a:cubicBezTo>
                    <a:lnTo>
                      <a:pt x="17108" y="8"/>
                    </a:lnTo>
                    <a:cubicBezTo>
                      <a:pt x="17106" y="8"/>
                      <a:pt x="17106" y="7"/>
                      <a:pt x="17106" y="6"/>
                    </a:cubicBezTo>
                    <a:cubicBezTo>
                      <a:pt x="17106" y="5"/>
                      <a:pt x="17106" y="4"/>
                      <a:pt x="17108" y="4"/>
                    </a:cubicBezTo>
                    <a:close/>
                    <a:moveTo>
                      <a:pt x="17116" y="4"/>
                    </a:moveTo>
                    <a:lnTo>
                      <a:pt x="17116" y="4"/>
                    </a:lnTo>
                    <a:cubicBezTo>
                      <a:pt x="17117" y="4"/>
                      <a:pt x="17118" y="5"/>
                      <a:pt x="17118" y="6"/>
                    </a:cubicBezTo>
                    <a:cubicBezTo>
                      <a:pt x="17118" y="7"/>
                      <a:pt x="17117" y="8"/>
                      <a:pt x="17116" y="8"/>
                    </a:cubicBezTo>
                    <a:lnTo>
                      <a:pt x="17116" y="8"/>
                    </a:lnTo>
                    <a:cubicBezTo>
                      <a:pt x="17114" y="8"/>
                      <a:pt x="17114" y="7"/>
                      <a:pt x="17114" y="6"/>
                    </a:cubicBezTo>
                    <a:cubicBezTo>
                      <a:pt x="17114" y="5"/>
                      <a:pt x="17114" y="4"/>
                      <a:pt x="17116" y="4"/>
                    </a:cubicBezTo>
                    <a:close/>
                    <a:moveTo>
                      <a:pt x="17124" y="4"/>
                    </a:moveTo>
                    <a:lnTo>
                      <a:pt x="17124" y="4"/>
                    </a:lnTo>
                    <a:cubicBezTo>
                      <a:pt x="17125" y="4"/>
                      <a:pt x="17126" y="5"/>
                      <a:pt x="17126" y="6"/>
                    </a:cubicBezTo>
                    <a:cubicBezTo>
                      <a:pt x="17126" y="7"/>
                      <a:pt x="17125" y="8"/>
                      <a:pt x="17124" y="8"/>
                    </a:cubicBezTo>
                    <a:lnTo>
                      <a:pt x="17124" y="8"/>
                    </a:lnTo>
                    <a:cubicBezTo>
                      <a:pt x="17122" y="8"/>
                      <a:pt x="17122" y="7"/>
                      <a:pt x="17122" y="6"/>
                    </a:cubicBezTo>
                    <a:cubicBezTo>
                      <a:pt x="17122" y="5"/>
                      <a:pt x="17122" y="4"/>
                      <a:pt x="17124" y="4"/>
                    </a:cubicBezTo>
                    <a:close/>
                    <a:moveTo>
                      <a:pt x="17132" y="4"/>
                    </a:moveTo>
                    <a:lnTo>
                      <a:pt x="17132" y="4"/>
                    </a:lnTo>
                    <a:cubicBezTo>
                      <a:pt x="17133" y="4"/>
                      <a:pt x="17134" y="5"/>
                      <a:pt x="17134" y="6"/>
                    </a:cubicBezTo>
                    <a:cubicBezTo>
                      <a:pt x="17134" y="7"/>
                      <a:pt x="17133" y="8"/>
                      <a:pt x="17132" y="8"/>
                    </a:cubicBezTo>
                    <a:lnTo>
                      <a:pt x="17132" y="8"/>
                    </a:lnTo>
                    <a:cubicBezTo>
                      <a:pt x="17130" y="8"/>
                      <a:pt x="17130" y="7"/>
                      <a:pt x="17130" y="6"/>
                    </a:cubicBezTo>
                    <a:cubicBezTo>
                      <a:pt x="17130" y="5"/>
                      <a:pt x="17130" y="4"/>
                      <a:pt x="17132" y="4"/>
                    </a:cubicBezTo>
                    <a:close/>
                    <a:moveTo>
                      <a:pt x="17140" y="4"/>
                    </a:moveTo>
                    <a:lnTo>
                      <a:pt x="17140" y="4"/>
                    </a:lnTo>
                    <a:cubicBezTo>
                      <a:pt x="17141" y="4"/>
                      <a:pt x="17142" y="5"/>
                      <a:pt x="17142" y="6"/>
                    </a:cubicBezTo>
                    <a:cubicBezTo>
                      <a:pt x="17142" y="7"/>
                      <a:pt x="17141" y="8"/>
                      <a:pt x="17140" y="8"/>
                    </a:cubicBezTo>
                    <a:lnTo>
                      <a:pt x="17140" y="8"/>
                    </a:lnTo>
                    <a:cubicBezTo>
                      <a:pt x="17138" y="8"/>
                      <a:pt x="17138" y="7"/>
                      <a:pt x="17138" y="6"/>
                    </a:cubicBezTo>
                    <a:cubicBezTo>
                      <a:pt x="17138" y="5"/>
                      <a:pt x="17138" y="4"/>
                      <a:pt x="17140" y="4"/>
                    </a:cubicBezTo>
                    <a:close/>
                    <a:moveTo>
                      <a:pt x="17148" y="4"/>
                    </a:moveTo>
                    <a:lnTo>
                      <a:pt x="17148" y="4"/>
                    </a:lnTo>
                    <a:cubicBezTo>
                      <a:pt x="17149" y="4"/>
                      <a:pt x="17150" y="5"/>
                      <a:pt x="17150" y="6"/>
                    </a:cubicBezTo>
                    <a:cubicBezTo>
                      <a:pt x="17150" y="7"/>
                      <a:pt x="17149" y="8"/>
                      <a:pt x="17148" y="8"/>
                    </a:cubicBezTo>
                    <a:lnTo>
                      <a:pt x="17148" y="8"/>
                    </a:lnTo>
                    <a:cubicBezTo>
                      <a:pt x="17146" y="8"/>
                      <a:pt x="17146" y="7"/>
                      <a:pt x="17146" y="6"/>
                    </a:cubicBezTo>
                    <a:cubicBezTo>
                      <a:pt x="17146" y="5"/>
                      <a:pt x="17146" y="4"/>
                      <a:pt x="17148" y="4"/>
                    </a:cubicBezTo>
                    <a:close/>
                    <a:moveTo>
                      <a:pt x="17156" y="4"/>
                    </a:moveTo>
                    <a:lnTo>
                      <a:pt x="17156" y="4"/>
                    </a:lnTo>
                    <a:cubicBezTo>
                      <a:pt x="17157" y="4"/>
                      <a:pt x="17158" y="5"/>
                      <a:pt x="17158" y="6"/>
                    </a:cubicBezTo>
                    <a:cubicBezTo>
                      <a:pt x="17158" y="7"/>
                      <a:pt x="17157" y="8"/>
                      <a:pt x="17156" y="8"/>
                    </a:cubicBezTo>
                    <a:lnTo>
                      <a:pt x="17156" y="8"/>
                    </a:lnTo>
                    <a:cubicBezTo>
                      <a:pt x="17154" y="8"/>
                      <a:pt x="17154" y="7"/>
                      <a:pt x="17154" y="6"/>
                    </a:cubicBezTo>
                    <a:cubicBezTo>
                      <a:pt x="17154" y="5"/>
                      <a:pt x="17154" y="4"/>
                      <a:pt x="17156" y="4"/>
                    </a:cubicBezTo>
                    <a:close/>
                    <a:moveTo>
                      <a:pt x="17164" y="4"/>
                    </a:moveTo>
                    <a:lnTo>
                      <a:pt x="17164" y="4"/>
                    </a:lnTo>
                    <a:cubicBezTo>
                      <a:pt x="17165" y="4"/>
                      <a:pt x="17166" y="5"/>
                      <a:pt x="17166" y="6"/>
                    </a:cubicBezTo>
                    <a:cubicBezTo>
                      <a:pt x="17166" y="7"/>
                      <a:pt x="17165" y="8"/>
                      <a:pt x="17164" y="8"/>
                    </a:cubicBezTo>
                    <a:lnTo>
                      <a:pt x="17164" y="8"/>
                    </a:lnTo>
                    <a:cubicBezTo>
                      <a:pt x="17162" y="8"/>
                      <a:pt x="17162" y="7"/>
                      <a:pt x="17162" y="6"/>
                    </a:cubicBezTo>
                    <a:cubicBezTo>
                      <a:pt x="17162" y="5"/>
                      <a:pt x="17162" y="4"/>
                      <a:pt x="17164" y="4"/>
                    </a:cubicBezTo>
                    <a:close/>
                    <a:moveTo>
                      <a:pt x="17172" y="4"/>
                    </a:moveTo>
                    <a:lnTo>
                      <a:pt x="17172" y="4"/>
                    </a:lnTo>
                    <a:cubicBezTo>
                      <a:pt x="17173" y="4"/>
                      <a:pt x="17174" y="5"/>
                      <a:pt x="17174" y="6"/>
                    </a:cubicBezTo>
                    <a:cubicBezTo>
                      <a:pt x="17174" y="7"/>
                      <a:pt x="17173" y="8"/>
                      <a:pt x="17172" y="8"/>
                    </a:cubicBezTo>
                    <a:lnTo>
                      <a:pt x="17172" y="8"/>
                    </a:lnTo>
                    <a:cubicBezTo>
                      <a:pt x="17170" y="8"/>
                      <a:pt x="17170" y="7"/>
                      <a:pt x="17170" y="6"/>
                    </a:cubicBezTo>
                    <a:cubicBezTo>
                      <a:pt x="17170" y="5"/>
                      <a:pt x="17170" y="4"/>
                      <a:pt x="17172" y="4"/>
                    </a:cubicBezTo>
                    <a:close/>
                    <a:moveTo>
                      <a:pt x="17180" y="4"/>
                    </a:moveTo>
                    <a:lnTo>
                      <a:pt x="17180" y="4"/>
                    </a:lnTo>
                    <a:cubicBezTo>
                      <a:pt x="17181" y="4"/>
                      <a:pt x="17182" y="5"/>
                      <a:pt x="17182" y="6"/>
                    </a:cubicBezTo>
                    <a:cubicBezTo>
                      <a:pt x="17182" y="7"/>
                      <a:pt x="17181" y="8"/>
                      <a:pt x="17180" y="8"/>
                    </a:cubicBezTo>
                    <a:lnTo>
                      <a:pt x="17180" y="8"/>
                    </a:lnTo>
                    <a:cubicBezTo>
                      <a:pt x="17178" y="8"/>
                      <a:pt x="17178" y="7"/>
                      <a:pt x="17178" y="6"/>
                    </a:cubicBezTo>
                    <a:cubicBezTo>
                      <a:pt x="17178" y="5"/>
                      <a:pt x="17178" y="4"/>
                      <a:pt x="17180" y="4"/>
                    </a:cubicBezTo>
                    <a:close/>
                    <a:moveTo>
                      <a:pt x="17188" y="4"/>
                    </a:moveTo>
                    <a:lnTo>
                      <a:pt x="17188" y="4"/>
                    </a:lnTo>
                    <a:cubicBezTo>
                      <a:pt x="17189" y="4"/>
                      <a:pt x="17190" y="5"/>
                      <a:pt x="17190" y="6"/>
                    </a:cubicBezTo>
                    <a:cubicBezTo>
                      <a:pt x="17190" y="7"/>
                      <a:pt x="17189" y="8"/>
                      <a:pt x="17188" y="8"/>
                    </a:cubicBezTo>
                    <a:lnTo>
                      <a:pt x="17188" y="8"/>
                    </a:lnTo>
                    <a:cubicBezTo>
                      <a:pt x="17187" y="8"/>
                      <a:pt x="17186" y="7"/>
                      <a:pt x="17186" y="6"/>
                    </a:cubicBezTo>
                    <a:cubicBezTo>
                      <a:pt x="17186" y="5"/>
                      <a:pt x="17187" y="4"/>
                      <a:pt x="17188" y="4"/>
                    </a:cubicBezTo>
                    <a:close/>
                    <a:moveTo>
                      <a:pt x="17196" y="4"/>
                    </a:moveTo>
                    <a:lnTo>
                      <a:pt x="17196" y="4"/>
                    </a:lnTo>
                    <a:cubicBezTo>
                      <a:pt x="17197" y="4"/>
                      <a:pt x="17198" y="5"/>
                      <a:pt x="17198" y="6"/>
                    </a:cubicBezTo>
                    <a:cubicBezTo>
                      <a:pt x="17198" y="7"/>
                      <a:pt x="17197" y="8"/>
                      <a:pt x="17196" y="8"/>
                    </a:cubicBezTo>
                    <a:lnTo>
                      <a:pt x="17196" y="8"/>
                    </a:lnTo>
                    <a:cubicBezTo>
                      <a:pt x="17195" y="8"/>
                      <a:pt x="17194" y="7"/>
                      <a:pt x="17194" y="6"/>
                    </a:cubicBezTo>
                    <a:cubicBezTo>
                      <a:pt x="17194" y="5"/>
                      <a:pt x="17195" y="4"/>
                      <a:pt x="17196" y="4"/>
                    </a:cubicBezTo>
                    <a:close/>
                    <a:moveTo>
                      <a:pt x="17204" y="4"/>
                    </a:moveTo>
                    <a:lnTo>
                      <a:pt x="17204" y="4"/>
                    </a:lnTo>
                    <a:cubicBezTo>
                      <a:pt x="17205" y="4"/>
                      <a:pt x="17206" y="5"/>
                      <a:pt x="17206" y="6"/>
                    </a:cubicBezTo>
                    <a:cubicBezTo>
                      <a:pt x="17206" y="7"/>
                      <a:pt x="17205" y="8"/>
                      <a:pt x="17204" y="8"/>
                    </a:cubicBezTo>
                    <a:lnTo>
                      <a:pt x="17204" y="8"/>
                    </a:lnTo>
                    <a:cubicBezTo>
                      <a:pt x="17203" y="8"/>
                      <a:pt x="17202" y="7"/>
                      <a:pt x="17202" y="6"/>
                    </a:cubicBezTo>
                    <a:cubicBezTo>
                      <a:pt x="17202" y="5"/>
                      <a:pt x="17203" y="4"/>
                      <a:pt x="17204" y="4"/>
                    </a:cubicBezTo>
                    <a:close/>
                    <a:moveTo>
                      <a:pt x="17212" y="4"/>
                    </a:moveTo>
                    <a:lnTo>
                      <a:pt x="17212" y="4"/>
                    </a:lnTo>
                    <a:cubicBezTo>
                      <a:pt x="17213" y="4"/>
                      <a:pt x="17214" y="5"/>
                      <a:pt x="17214" y="6"/>
                    </a:cubicBezTo>
                    <a:cubicBezTo>
                      <a:pt x="17214" y="7"/>
                      <a:pt x="17213" y="8"/>
                      <a:pt x="17212" y="8"/>
                    </a:cubicBezTo>
                    <a:lnTo>
                      <a:pt x="17212" y="8"/>
                    </a:lnTo>
                    <a:cubicBezTo>
                      <a:pt x="17211" y="8"/>
                      <a:pt x="17210" y="7"/>
                      <a:pt x="17210" y="6"/>
                    </a:cubicBezTo>
                    <a:cubicBezTo>
                      <a:pt x="17210" y="5"/>
                      <a:pt x="17211" y="4"/>
                      <a:pt x="17212" y="4"/>
                    </a:cubicBezTo>
                    <a:close/>
                    <a:moveTo>
                      <a:pt x="17220" y="4"/>
                    </a:moveTo>
                    <a:lnTo>
                      <a:pt x="17220" y="4"/>
                    </a:lnTo>
                    <a:cubicBezTo>
                      <a:pt x="17221" y="4"/>
                      <a:pt x="17222" y="5"/>
                      <a:pt x="17222" y="6"/>
                    </a:cubicBezTo>
                    <a:cubicBezTo>
                      <a:pt x="17222" y="7"/>
                      <a:pt x="17221" y="8"/>
                      <a:pt x="17220" y="8"/>
                    </a:cubicBezTo>
                    <a:lnTo>
                      <a:pt x="17220" y="8"/>
                    </a:lnTo>
                    <a:cubicBezTo>
                      <a:pt x="17219" y="8"/>
                      <a:pt x="17218" y="7"/>
                      <a:pt x="17218" y="6"/>
                    </a:cubicBezTo>
                    <a:cubicBezTo>
                      <a:pt x="17218" y="5"/>
                      <a:pt x="17219" y="4"/>
                      <a:pt x="17220" y="4"/>
                    </a:cubicBezTo>
                    <a:close/>
                    <a:moveTo>
                      <a:pt x="17228" y="4"/>
                    </a:moveTo>
                    <a:lnTo>
                      <a:pt x="17228" y="4"/>
                    </a:lnTo>
                    <a:cubicBezTo>
                      <a:pt x="17229" y="4"/>
                      <a:pt x="17230" y="5"/>
                      <a:pt x="17230" y="6"/>
                    </a:cubicBezTo>
                    <a:cubicBezTo>
                      <a:pt x="17230" y="7"/>
                      <a:pt x="17229" y="8"/>
                      <a:pt x="17228" y="8"/>
                    </a:cubicBezTo>
                    <a:lnTo>
                      <a:pt x="17228" y="8"/>
                    </a:lnTo>
                    <a:cubicBezTo>
                      <a:pt x="17227" y="8"/>
                      <a:pt x="17226" y="7"/>
                      <a:pt x="17226" y="6"/>
                    </a:cubicBezTo>
                    <a:cubicBezTo>
                      <a:pt x="17226" y="5"/>
                      <a:pt x="17227" y="4"/>
                      <a:pt x="17228" y="4"/>
                    </a:cubicBezTo>
                    <a:close/>
                    <a:moveTo>
                      <a:pt x="17236" y="4"/>
                    </a:moveTo>
                    <a:lnTo>
                      <a:pt x="17236" y="4"/>
                    </a:lnTo>
                    <a:cubicBezTo>
                      <a:pt x="17237" y="4"/>
                      <a:pt x="17238" y="5"/>
                      <a:pt x="17238" y="6"/>
                    </a:cubicBezTo>
                    <a:cubicBezTo>
                      <a:pt x="17238" y="7"/>
                      <a:pt x="17237" y="8"/>
                      <a:pt x="17236" y="8"/>
                    </a:cubicBezTo>
                    <a:lnTo>
                      <a:pt x="17236" y="8"/>
                    </a:lnTo>
                    <a:cubicBezTo>
                      <a:pt x="17235" y="8"/>
                      <a:pt x="17234" y="7"/>
                      <a:pt x="17234" y="6"/>
                    </a:cubicBezTo>
                    <a:cubicBezTo>
                      <a:pt x="17234" y="5"/>
                      <a:pt x="17235" y="4"/>
                      <a:pt x="17236" y="4"/>
                    </a:cubicBezTo>
                    <a:close/>
                    <a:moveTo>
                      <a:pt x="17244" y="4"/>
                    </a:moveTo>
                    <a:lnTo>
                      <a:pt x="17244" y="4"/>
                    </a:lnTo>
                    <a:cubicBezTo>
                      <a:pt x="17245" y="4"/>
                      <a:pt x="17246" y="5"/>
                      <a:pt x="17246" y="6"/>
                    </a:cubicBezTo>
                    <a:cubicBezTo>
                      <a:pt x="17246" y="7"/>
                      <a:pt x="17245" y="8"/>
                      <a:pt x="17244" y="8"/>
                    </a:cubicBezTo>
                    <a:lnTo>
                      <a:pt x="17244" y="8"/>
                    </a:lnTo>
                    <a:cubicBezTo>
                      <a:pt x="17243" y="8"/>
                      <a:pt x="17242" y="7"/>
                      <a:pt x="17242" y="6"/>
                    </a:cubicBezTo>
                    <a:cubicBezTo>
                      <a:pt x="17242" y="5"/>
                      <a:pt x="17243" y="4"/>
                      <a:pt x="17244" y="4"/>
                    </a:cubicBezTo>
                    <a:close/>
                    <a:moveTo>
                      <a:pt x="17252" y="4"/>
                    </a:moveTo>
                    <a:lnTo>
                      <a:pt x="17252" y="4"/>
                    </a:lnTo>
                    <a:cubicBezTo>
                      <a:pt x="17253" y="4"/>
                      <a:pt x="17254" y="5"/>
                      <a:pt x="17254" y="6"/>
                    </a:cubicBezTo>
                    <a:cubicBezTo>
                      <a:pt x="17254" y="7"/>
                      <a:pt x="17253" y="8"/>
                      <a:pt x="17252" y="8"/>
                    </a:cubicBezTo>
                    <a:lnTo>
                      <a:pt x="17252" y="8"/>
                    </a:lnTo>
                    <a:cubicBezTo>
                      <a:pt x="17251" y="8"/>
                      <a:pt x="17250" y="7"/>
                      <a:pt x="17250" y="6"/>
                    </a:cubicBezTo>
                    <a:cubicBezTo>
                      <a:pt x="17250" y="5"/>
                      <a:pt x="17251" y="4"/>
                      <a:pt x="17252" y="4"/>
                    </a:cubicBezTo>
                    <a:close/>
                    <a:moveTo>
                      <a:pt x="17260" y="4"/>
                    </a:moveTo>
                    <a:lnTo>
                      <a:pt x="17260" y="4"/>
                    </a:lnTo>
                    <a:cubicBezTo>
                      <a:pt x="17261" y="4"/>
                      <a:pt x="17262" y="5"/>
                      <a:pt x="17262" y="6"/>
                    </a:cubicBezTo>
                    <a:cubicBezTo>
                      <a:pt x="17262" y="7"/>
                      <a:pt x="17261" y="8"/>
                      <a:pt x="17260" y="8"/>
                    </a:cubicBezTo>
                    <a:lnTo>
                      <a:pt x="17260" y="8"/>
                    </a:lnTo>
                    <a:cubicBezTo>
                      <a:pt x="17259" y="8"/>
                      <a:pt x="17258" y="7"/>
                      <a:pt x="17258" y="6"/>
                    </a:cubicBezTo>
                    <a:cubicBezTo>
                      <a:pt x="17258" y="5"/>
                      <a:pt x="17259" y="4"/>
                      <a:pt x="17260" y="4"/>
                    </a:cubicBezTo>
                    <a:close/>
                    <a:moveTo>
                      <a:pt x="17268" y="4"/>
                    </a:moveTo>
                    <a:lnTo>
                      <a:pt x="17268" y="4"/>
                    </a:lnTo>
                    <a:cubicBezTo>
                      <a:pt x="17269" y="4"/>
                      <a:pt x="17270" y="5"/>
                      <a:pt x="17270" y="6"/>
                    </a:cubicBezTo>
                    <a:cubicBezTo>
                      <a:pt x="17270" y="7"/>
                      <a:pt x="17269" y="8"/>
                      <a:pt x="17268" y="8"/>
                    </a:cubicBezTo>
                    <a:lnTo>
                      <a:pt x="17268" y="8"/>
                    </a:lnTo>
                    <a:cubicBezTo>
                      <a:pt x="17267" y="8"/>
                      <a:pt x="17266" y="7"/>
                      <a:pt x="17266" y="6"/>
                    </a:cubicBezTo>
                    <a:cubicBezTo>
                      <a:pt x="17266" y="5"/>
                      <a:pt x="17267" y="4"/>
                      <a:pt x="17268" y="4"/>
                    </a:cubicBezTo>
                    <a:close/>
                    <a:moveTo>
                      <a:pt x="17276" y="4"/>
                    </a:moveTo>
                    <a:lnTo>
                      <a:pt x="17276" y="4"/>
                    </a:lnTo>
                    <a:cubicBezTo>
                      <a:pt x="17277" y="4"/>
                      <a:pt x="17278" y="5"/>
                      <a:pt x="17278" y="6"/>
                    </a:cubicBezTo>
                    <a:cubicBezTo>
                      <a:pt x="17278" y="7"/>
                      <a:pt x="17277" y="8"/>
                      <a:pt x="17276" y="8"/>
                    </a:cubicBezTo>
                    <a:lnTo>
                      <a:pt x="17276" y="8"/>
                    </a:lnTo>
                    <a:cubicBezTo>
                      <a:pt x="17275" y="8"/>
                      <a:pt x="17274" y="7"/>
                      <a:pt x="17274" y="6"/>
                    </a:cubicBezTo>
                    <a:cubicBezTo>
                      <a:pt x="17274" y="5"/>
                      <a:pt x="17275" y="4"/>
                      <a:pt x="17276" y="4"/>
                    </a:cubicBezTo>
                    <a:close/>
                    <a:moveTo>
                      <a:pt x="17284" y="4"/>
                    </a:moveTo>
                    <a:lnTo>
                      <a:pt x="17284" y="4"/>
                    </a:lnTo>
                    <a:cubicBezTo>
                      <a:pt x="17285" y="4"/>
                      <a:pt x="17286" y="5"/>
                      <a:pt x="17286" y="6"/>
                    </a:cubicBezTo>
                    <a:cubicBezTo>
                      <a:pt x="17286" y="7"/>
                      <a:pt x="17285" y="8"/>
                      <a:pt x="17284" y="8"/>
                    </a:cubicBezTo>
                    <a:lnTo>
                      <a:pt x="17284" y="8"/>
                    </a:lnTo>
                    <a:cubicBezTo>
                      <a:pt x="17283" y="8"/>
                      <a:pt x="17282" y="7"/>
                      <a:pt x="17282" y="6"/>
                    </a:cubicBezTo>
                    <a:cubicBezTo>
                      <a:pt x="17282" y="5"/>
                      <a:pt x="17283" y="4"/>
                      <a:pt x="17284" y="4"/>
                    </a:cubicBezTo>
                    <a:close/>
                    <a:moveTo>
                      <a:pt x="17292" y="4"/>
                    </a:moveTo>
                    <a:lnTo>
                      <a:pt x="17292" y="4"/>
                    </a:lnTo>
                    <a:cubicBezTo>
                      <a:pt x="17293" y="4"/>
                      <a:pt x="17294" y="5"/>
                      <a:pt x="17294" y="6"/>
                    </a:cubicBezTo>
                    <a:cubicBezTo>
                      <a:pt x="17294" y="7"/>
                      <a:pt x="17293" y="8"/>
                      <a:pt x="17292" y="8"/>
                    </a:cubicBezTo>
                    <a:lnTo>
                      <a:pt x="17292" y="8"/>
                    </a:lnTo>
                    <a:cubicBezTo>
                      <a:pt x="17291" y="8"/>
                      <a:pt x="17290" y="7"/>
                      <a:pt x="17290" y="6"/>
                    </a:cubicBezTo>
                    <a:cubicBezTo>
                      <a:pt x="17290" y="5"/>
                      <a:pt x="17291" y="4"/>
                      <a:pt x="17292" y="4"/>
                    </a:cubicBezTo>
                    <a:close/>
                    <a:moveTo>
                      <a:pt x="17300" y="4"/>
                    </a:moveTo>
                    <a:lnTo>
                      <a:pt x="17300" y="4"/>
                    </a:lnTo>
                    <a:cubicBezTo>
                      <a:pt x="17301" y="4"/>
                      <a:pt x="17302" y="5"/>
                      <a:pt x="17302" y="6"/>
                    </a:cubicBezTo>
                    <a:cubicBezTo>
                      <a:pt x="17302" y="7"/>
                      <a:pt x="17301" y="8"/>
                      <a:pt x="17300" y="8"/>
                    </a:cubicBezTo>
                    <a:lnTo>
                      <a:pt x="17300" y="8"/>
                    </a:lnTo>
                    <a:cubicBezTo>
                      <a:pt x="17299" y="8"/>
                      <a:pt x="17298" y="7"/>
                      <a:pt x="17298" y="6"/>
                    </a:cubicBezTo>
                    <a:cubicBezTo>
                      <a:pt x="17298" y="5"/>
                      <a:pt x="17299" y="4"/>
                      <a:pt x="17300" y="4"/>
                    </a:cubicBezTo>
                    <a:close/>
                    <a:moveTo>
                      <a:pt x="17308" y="4"/>
                    </a:moveTo>
                    <a:lnTo>
                      <a:pt x="17308" y="4"/>
                    </a:lnTo>
                    <a:cubicBezTo>
                      <a:pt x="17309" y="4"/>
                      <a:pt x="17310" y="5"/>
                      <a:pt x="17310" y="6"/>
                    </a:cubicBezTo>
                    <a:cubicBezTo>
                      <a:pt x="17310" y="7"/>
                      <a:pt x="17309" y="8"/>
                      <a:pt x="17308" y="8"/>
                    </a:cubicBezTo>
                    <a:lnTo>
                      <a:pt x="17308" y="8"/>
                    </a:lnTo>
                    <a:cubicBezTo>
                      <a:pt x="17307" y="8"/>
                      <a:pt x="17306" y="7"/>
                      <a:pt x="17306" y="6"/>
                    </a:cubicBezTo>
                    <a:cubicBezTo>
                      <a:pt x="17306" y="5"/>
                      <a:pt x="17307" y="4"/>
                      <a:pt x="17308" y="4"/>
                    </a:cubicBezTo>
                    <a:close/>
                    <a:moveTo>
                      <a:pt x="17316" y="4"/>
                    </a:moveTo>
                    <a:lnTo>
                      <a:pt x="17316" y="4"/>
                    </a:lnTo>
                    <a:cubicBezTo>
                      <a:pt x="17317" y="4"/>
                      <a:pt x="17318" y="5"/>
                      <a:pt x="17318" y="6"/>
                    </a:cubicBezTo>
                    <a:cubicBezTo>
                      <a:pt x="17318" y="7"/>
                      <a:pt x="17317" y="8"/>
                      <a:pt x="17316" y="8"/>
                    </a:cubicBezTo>
                    <a:lnTo>
                      <a:pt x="17316" y="8"/>
                    </a:lnTo>
                    <a:cubicBezTo>
                      <a:pt x="17315" y="8"/>
                      <a:pt x="17314" y="7"/>
                      <a:pt x="17314" y="6"/>
                    </a:cubicBezTo>
                    <a:cubicBezTo>
                      <a:pt x="17314" y="5"/>
                      <a:pt x="17315" y="4"/>
                      <a:pt x="17316" y="4"/>
                    </a:cubicBezTo>
                    <a:close/>
                    <a:moveTo>
                      <a:pt x="17324" y="4"/>
                    </a:moveTo>
                    <a:lnTo>
                      <a:pt x="17324" y="4"/>
                    </a:lnTo>
                    <a:cubicBezTo>
                      <a:pt x="17325" y="4"/>
                      <a:pt x="17326" y="5"/>
                      <a:pt x="17326" y="6"/>
                    </a:cubicBezTo>
                    <a:cubicBezTo>
                      <a:pt x="17326" y="7"/>
                      <a:pt x="17325" y="8"/>
                      <a:pt x="17324" y="8"/>
                    </a:cubicBezTo>
                    <a:lnTo>
                      <a:pt x="17324" y="8"/>
                    </a:lnTo>
                    <a:cubicBezTo>
                      <a:pt x="17323" y="8"/>
                      <a:pt x="17322" y="7"/>
                      <a:pt x="17322" y="6"/>
                    </a:cubicBezTo>
                    <a:cubicBezTo>
                      <a:pt x="17322" y="5"/>
                      <a:pt x="17323" y="4"/>
                      <a:pt x="17324" y="4"/>
                    </a:cubicBezTo>
                    <a:close/>
                    <a:moveTo>
                      <a:pt x="17332" y="4"/>
                    </a:moveTo>
                    <a:lnTo>
                      <a:pt x="17332" y="4"/>
                    </a:lnTo>
                    <a:cubicBezTo>
                      <a:pt x="17333" y="4"/>
                      <a:pt x="17334" y="5"/>
                      <a:pt x="17334" y="6"/>
                    </a:cubicBezTo>
                    <a:cubicBezTo>
                      <a:pt x="17334" y="7"/>
                      <a:pt x="17333" y="8"/>
                      <a:pt x="17332" y="8"/>
                    </a:cubicBezTo>
                    <a:lnTo>
                      <a:pt x="17332" y="8"/>
                    </a:lnTo>
                    <a:cubicBezTo>
                      <a:pt x="17331" y="8"/>
                      <a:pt x="17330" y="7"/>
                      <a:pt x="17330" y="6"/>
                    </a:cubicBezTo>
                    <a:cubicBezTo>
                      <a:pt x="17330" y="5"/>
                      <a:pt x="17331" y="4"/>
                      <a:pt x="17332" y="4"/>
                    </a:cubicBezTo>
                    <a:close/>
                    <a:moveTo>
                      <a:pt x="17340" y="4"/>
                    </a:moveTo>
                    <a:lnTo>
                      <a:pt x="17340" y="4"/>
                    </a:lnTo>
                    <a:cubicBezTo>
                      <a:pt x="17341" y="4"/>
                      <a:pt x="17342" y="5"/>
                      <a:pt x="17342" y="6"/>
                    </a:cubicBezTo>
                    <a:cubicBezTo>
                      <a:pt x="17342" y="7"/>
                      <a:pt x="17341" y="8"/>
                      <a:pt x="17340" y="8"/>
                    </a:cubicBezTo>
                    <a:lnTo>
                      <a:pt x="17340" y="8"/>
                    </a:lnTo>
                    <a:cubicBezTo>
                      <a:pt x="17339" y="8"/>
                      <a:pt x="17338" y="7"/>
                      <a:pt x="17338" y="6"/>
                    </a:cubicBezTo>
                    <a:cubicBezTo>
                      <a:pt x="17338" y="5"/>
                      <a:pt x="17339" y="4"/>
                      <a:pt x="17340" y="4"/>
                    </a:cubicBezTo>
                    <a:close/>
                    <a:moveTo>
                      <a:pt x="17348" y="4"/>
                    </a:moveTo>
                    <a:lnTo>
                      <a:pt x="17348" y="4"/>
                    </a:lnTo>
                    <a:cubicBezTo>
                      <a:pt x="17349" y="4"/>
                      <a:pt x="17350" y="5"/>
                      <a:pt x="17350" y="6"/>
                    </a:cubicBezTo>
                    <a:cubicBezTo>
                      <a:pt x="17350" y="7"/>
                      <a:pt x="17349" y="8"/>
                      <a:pt x="17348" y="8"/>
                    </a:cubicBezTo>
                    <a:lnTo>
                      <a:pt x="17348" y="8"/>
                    </a:lnTo>
                    <a:cubicBezTo>
                      <a:pt x="17347" y="8"/>
                      <a:pt x="17346" y="7"/>
                      <a:pt x="17346" y="6"/>
                    </a:cubicBezTo>
                    <a:cubicBezTo>
                      <a:pt x="17346" y="5"/>
                      <a:pt x="17347" y="4"/>
                      <a:pt x="17348" y="4"/>
                    </a:cubicBezTo>
                    <a:close/>
                    <a:moveTo>
                      <a:pt x="17356" y="4"/>
                    </a:moveTo>
                    <a:lnTo>
                      <a:pt x="17356" y="4"/>
                    </a:lnTo>
                    <a:cubicBezTo>
                      <a:pt x="17357" y="4"/>
                      <a:pt x="17358" y="5"/>
                      <a:pt x="17358" y="6"/>
                    </a:cubicBezTo>
                    <a:cubicBezTo>
                      <a:pt x="17358" y="7"/>
                      <a:pt x="17357" y="8"/>
                      <a:pt x="17356" y="8"/>
                    </a:cubicBezTo>
                    <a:lnTo>
                      <a:pt x="17356" y="8"/>
                    </a:lnTo>
                    <a:cubicBezTo>
                      <a:pt x="17355" y="8"/>
                      <a:pt x="17354" y="7"/>
                      <a:pt x="17354" y="6"/>
                    </a:cubicBezTo>
                    <a:cubicBezTo>
                      <a:pt x="17354" y="5"/>
                      <a:pt x="17355" y="4"/>
                      <a:pt x="17356" y="4"/>
                    </a:cubicBezTo>
                    <a:close/>
                    <a:moveTo>
                      <a:pt x="17364" y="4"/>
                    </a:moveTo>
                    <a:lnTo>
                      <a:pt x="17364" y="4"/>
                    </a:lnTo>
                    <a:cubicBezTo>
                      <a:pt x="17365" y="4"/>
                      <a:pt x="17366" y="5"/>
                      <a:pt x="17366" y="6"/>
                    </a:cubicBezTo>
                    <a:cubicBezTo>
                      <a:pt x="17366" y="7"/>
                      <a:pt x="17365" y="8"/>
                      <a:pt x="17364" y="8"/>
                    </a:cubicBezTo>
                    <a:lnTo>
                      <a:pt x="17364" y="8"/>
                    </a:lnTo>
                    <a:cubicBezTo>
                      <a:pt x="17363" y="8"/>
                      <a:pt x="17362" y="7"/>
                      <a:pt x="17362" y="6"/>
                    </a:cubicBezTo>
                    <a:cubicBezTo>
                      <a:pt x="17362" y="5"/>
                      <a:pt x="17363" y="4"/>
                      <a:pt x="17364" y="4"/>
                    </a:cubicBezTo>
                    <a:close/>
                    <a:moveTo>
                      <a:pt x="17372" y="4"/>
                    </a:moveTo>
                    <a:lnTo>
                      <a:pt x="17372" y="4"/>
                    </a:lnTo>
                    <a:cubicBezTo>
                      <a:pt x="17373" y="4"/>
                      <a:pt x="17374" y="5"/>
                      <a:pt x="17374" y="6"/>
                    </a:cubicBezTo>
                    <a:cubicBezTo>
                      <a:pt x="17374" y="7"/>
                      <a:pt x="17373" y="8"/>
                      <a:pt x="17372" y="8"/>
                    </a:cubicBezTo>
                    <a:lnTo>
                      <a:pt x="17372" y="8"/>
                    </a:lnTo>
                    <a:cubicBezTo>
                      <a:pt x="17371" y="8"/>
                      <a:pt x="17370" y="7"/>
                      <a:pt x="17370" y="6"/>
                    </a:cubicBezTo>
                    <a:cubicBezTo>
                      <a:pt x="17370" y="5"/>
                      <a:pt x="17371" y="4"/>
                      <a:pt x="17372" y="4"/>
                    </a:cubicBezTo>
                    <a:close/>
                    <a:moveTo>
                      <a:pt x="17380" y="4"/>
                    </a:moveTo>
                    <a:lnTo>
                      <a:pt x="17380" y="4"/>
                    </a:lnTo>
                    <a:cubicBezTo>
                      <a:pt x="17381" y="4"/>
                      <a:pt x="17382" y="5"/>
                      <a:pt x="17382" y="6"/>
                    </a:cubicBezTo>
                    <a:cubicBezTo>
                      <a:pt x="17382" y="7"/>
                      <a:pt x="17381" y="8"/>
                      <a:pt x="17380" y="8"/>
                    </a:cubicBezTo>
                    <a:lnTo>
                      <a:pt x="17380" y="8"/>
                    </a:lnTo>
                    <a:cubicBezTo>
                      <a:pt x="17379" y="8"/>
                      <a:pt x="17378" y="7"/>
                      <a:pt x="17378" y="6"/>
                    </a:cubicBezTo>
                    <a:cubicBezTo>
                      <a:pt x="17378" y="5"/>
                      <a:pt x="17379" y="4"/>
                      <a:pt x="17380" y="4"/>
                    </a:cubicBezTo>
                    <a:close/>
                    <a:moveTo>
                      <a:pt x="17388" y="4"/>
                    </a:moveTo>
                    <a:lnTo>
                      <a:pt x="17388" y="4"/>
                    </a:lnTo>
                    <a:cubicBezTo>
                      <a:pt x="17389" y="4"/>
                      <a:pt x="17390" y="5"/>
                      <a:pt x="17390" y="6"/>
                    </a:cubicBezTo>
                    <a:cubicBezTo>
                      <a:pt x="17390" y="7"/>
                      <a:pt x="17389" y="8"/>
                      <a:pt x="17388" y="8"/>
                    </a:cubicBezTo>
                    <a:lnTo>
                      <a:pt x="17388" y="8"/>
                    </a:lnTo>
                    <a:cubicBezTo>
                      <a:pt x="17387" y="8"/>
                      <a:pt x="17386" y="7"/>
                      <a:pt x="17386" y="6"/>
                    </a:cubicBezTo>
                    <a:cubicBezTo>
                      <a:pt x="17386" y="5"/>
                      <a:pt x="17387" y="4"/>
                      <a:pt x="17388" y="4"/>
                    </a:cubicBezTo>
                    <a:close/>
                    <a:moveTo>
                      <a:pt x="17396" y="4"/>
                    </a:moveTo>
                    <a:lnTo>
                      <a:pt x="17396" y="4"/>
                    </a:lnTo>
                    <a:cubicBezTo>
                      <a:pt x="17397" y="4"/>
                      <a:pt x="17398" y="5"/>
                      <a:pt x="17398" y="6"/>
                    </a:cubicBezTo>
                    <a:cubicBezTo>
                      <a:pt x="17398" y="7"/>
                      <a:pt x="17397" y="8"/>
                      <a:pt x="17396" y="8"/>
                    </a:cubicBezTo>
                    <a:lnTo>
                      <a:pt x="17396" y="8"/>
                    </a:lnTo>
                    <a:cubicBezTo>
                      <a:pt x="17395" y="8"/>
                      <a:pt x="17394" y="7"/>
                      <a:pt x="17394" y="6"/>
                    </a:cubicBezTo>
                    <a:cubicBezTo>
                      <a:pt x="17394" y="5"/>
                      <a:pt x="17395" y="4"/>
                      <a:pt x="17396" y="4"/>
                    </a:cubicBezTo>
                    <a:close/>
                    <a:moveTo>
                      <a:pt x="17404" y="4"/>
                    </a:moveTo>
                    <a:lnTo>
                      <a:pt x="17404" y="4"/>
                    </a:lnTo>
                    <a:cubicBezTo>
                      <a:pt x="17405" y="4"/>
                      <a:pt x="17406" y="5"/>
                      <a:pt x="17406" y="6"/>
                    </a:cubicBezTo>
                    <a:cubicBezTo>
                      <a:pt x="17406" y="7"/>
                      <a:pt x="17405" y="8"/>
                      <a:pt x="17404" y="8"/>
                    </a:cubicBezTo>
                    <a:lnTo>
                      <a:pt x="17404" y="8"/>
                    </a:lnTo>
                    <a:cubicBezTo>
                      <a:pt x="17403" y="8"/>
                      <a:pt x="17402" y="7"/>
                      <a:pt x="17402" y="6"/>
                    </a:cubicBezTo>
                    <a:cubicBezTo>
                      <a:pt x="17402" y="5"/>
                      <a:pt x="17403" y="4"/>
                      <a:pt x="17404" y="4"/>
                    </a:cubicBezTo>
                    <a:close/>
                    <a:moveTo>
                      <a:pt x="17412" y="4"/>
                    </a:moveTo>
                    <a:lnTo>
                      <a:pt x="17412" y="4"/>
                    </a:lnTo>
                    <a:cubicBezTo>
                      <a:pt x="17413" y="4"/>
                      <a:pt x="17414" y="5"/>
                      <a:pt x="17414" y="6"/>
                    </a:cubicBezTo>
                    <a:cubicBezTo>
                      <a:pt x="17414" y="7"/>
                      <a:pt x="17413" y="8"/>
                      <a:pt x="17412" y="8"/>
                    </a:cubicBezTo>
                    <a:lnTo>
                      <a:pt x="17412" y="8"/>
                    </a:lnTo>
                    <a:cubicBezTo>
                      <a:pt x="17411" y="8"/>
                      <a:pt x="17410" y="7"/>
                      <a:pt x="17410" y="6"/>
                    </a:cubicBezTo>
                    <a:cubicBezTo>
                      <a:pt x="17410" y="5"/>
                      <a:pt x="17411" y="4"/>
                      <a:pt x="17412" y="4"/>
                    </a:cubicBezTo>
                    <a:close/>
                    <a:moveTo>
                      <a:pt x="17420" y="4"/>
                    </a:moveTo>
                    <a:lnTo>
                      <a:pt x="17420" y="4"/>
                    </a:lnTo>
                    <a:cubicBezTo>
                      <a:pt x="17421" y="4"/>
                      <a:pt x="17422" y="5"/>
                      <a:pt x="17422" y="6"/>
                    </a:cubicBezTo>
                    <a:cubicBezTo>
                      <a:pt x="17422" y="7"/>
                      <a:pt x="17421" y="8"/>
                      <a:pt x="17420" y="8"/>
                    </a:cubicBezTo>
                    <a:lnTo>
                      <a:pt x="17420" y="8"/>
                    </a:lnTo>
                    <a:cubicBezTo>
                      <a:pt x="17419" y="8"/>
                      <a:pt x="17418" y="7"/>
                      <a:pt x="17418" y="6"/>
                    </a:cubicBezTo>
                    <a:cubicBezTo>
                      <a:pt x="17418" y="5"/>
                      <a:pt x="17419" y="4"/>
                      <a:pt x="17420" y="4"/>
                    </a:cubicBezTo>
                    <a:close/>
                    <a:moveTo>
                      <a:pt x="17428" y="4"/>
                    </a:moveTo>
                    <a:lnTo>
                      <a:pt x="17428" y="4"/>
                    </a:lnTo>
                    <a:cubicBezTo>
                      <a:pt x="17429" y="4"/>
                      <a:pt x="17430" y="5"/>
                      <a:pt x="17430" y="6"/>
                    </a:cubicBezTo>
                    <a:cubicBezTo>
                      <a:pt x="17430" y="7"/>
                      <a:pt x="17429" y="8"/>
                      <a:pt x="17428" y="8"/>
                    </a:cubicBezTo>
                    <a:lnTo>
                      <a:pt x="17428" y="8"/>
                    </a:lnTo>
                    <a:cubicBezTo>
                      <a:pt x="17427" y="8"/>
                      <a:pt x="17426" y="7"/>
                      <a:pt x="17426" y="6"/>
                    </a:cubicBezTo>
                    <a:cubicBezTo>
                      <a:pt x="17426" y="5"/>
                      <a:pt x="17427" y="4"/>
                      <a:pt x="17428" y="4"/>
                    </a:cubicBezTo>
                    <a:close/>
                    <a:moveTo>
                      <a:pt x="17436" y="4"/>
                    </a:moveTo>
                    <a:lnTo>
                      <a:pt x="17436" y="4"/>
                    </a:lnTo>
                    <a:cubicBezTo>
                      <a:pt x="17437" y="4"/>
                      <a:pt x="17438" y="5"/>
                      <a:pt x="17438" y="6"/>
                    </a:cubicBezTo>
                    <a:cubicBezTo>
                      <a:pt x="17438" y="7"/>
                      <a:pt x="17437" y="8"/>
                      <a:pt x="17436" y="8"/>
                    </a:cubicBezTo>
                    <a:lnTo>
                      <a:pt x="17436" y="8"/>
                    </a:lnTo>
                    <a:cubicBezTo>
                      <a:pt x="17435" y="8"/>
                      <a:pt x="17434" y="7"/>
                      <a:pt x="17434" y="6"/>
                    </a:cubicBezTo>
                    <a:cubicBezTo>
                      <a:pt x="17434" y="5"/>
                      <a:pt x="17435" y="4"/>
                      <a:pt x="17436" y="4"/>
                    </a:cubicBezTo>
                    <a:close/>
                    <a:moveTo>
                      <a:pt x="17444" y="4"/>
                    </a:moveTo>
                    <a:lnTo>
                      <a:pt x="17444" y="4"/>
                    </a:lnTo>
                    <a:cubicBezTo>
                      <a:pt x="17445" y="4"/>
                      <a:pt x="17446" y="5"/>
                      <a:pt x="17446" y="6"/>
                    </a:cubicBezTo>
                    <a:cubicBezTo>
                      <a:pt x="17446" y="7"/>
                      <a:pt x="17445" y="8"/>
                      <a:pt x="17444" y="8"/>
                    </a:cubicBezTo>
                    <a:lnTo>
                      <a:pt x="17444" y="8"/>
                    </a:lnTo>
                    <a:cubicBezTo>
                      <a:pt x="17443" y="8"/>
                      <a:pt x="17442" y="7"/>
                      <a:pt x="17442" y="6"/>
                    </a:cubicBezTo>
                    <a:cubicBezTo>
                      <a:pt x="17442" y="5"/>
                      <a:pt x="17443" y="4"/>
                      <a:pt x="17444" y="4"/>
                    </a:cubicBezTo>
                    <a:close/>
                    <a:moveTo>
                      <a:pt x="17452" y="4"/>
                    </a:moveTo>
                    <a:lnTo>
                      <a:pt x="17452" y="4"/>
                    </a:lnTo>
                    <a:cubicBezTo>
                      <a:pt x="17453" y="4"/>
                      <a:pt x="17454" y="5"/>
                      <a:pt x="17454" y="6"/>
                    </a:cubicBezTo>
                    <a:cubicBezTo>
                      <a:pt x="17454" y="7"/>
                      <a:pt x="17453" y="8"/>
                      <a:pt x="17452" y="8"/>
                    </a:cubicBezTo>
                    <a:lnTo>
                      <a:pt x="17452" y="8"/>
                    </a:lnTo>
                    <a:cubicBezTo>
                      <a:pt x="17451" y="8"/>
                      <a:pt x="17450" y="7"/>
                      <a:pt x="17450" y="6"/>
                    </a:cubicBezTo>
                    <a:cubicBezTo>
                      <a:pt x="17450" y="5"/>
                      <a:pt x="17451" y="4"/>
                      <a:pt x="17452" y="4"/>
                    </a:cubicBezTo>
                    <a:close/>
                    <a:moveTo>
                      <a:pt x="17460" y="4"/>
                    </a:moveTo>
                    <a:lnTo>
                      <a:pt x="17460" y="4"/>
                    </a:lnTo>
                    <a:cubicBezTo>
                      <a:pt x="17461" y="4"/>
                      <a:pt x="17462" y="5"/>
                      <a:pt x="17462" y="6"/>
                    </a:cubicBezTo>
                    <a:cubicBezTo>
                      <a:pt x="17462" y="7"/>
                      <a:pt x="17461" y="8"/>
                      <a:pt x="17460" y="8"/>
                    </a:cubicBezTo>
                    <a:lnTo>
                      <a:pt x="17460" y="8"/>
                    </a:lnTo>
                    <a:cubicBezTo>
                      <a:pt x="17459" y="8"/>
                      <a:pt x="17458" y="7"/>
                      <a:pt x="17458" y="6"/>
                    </a:cubicBezTo>
                    <a:cubicBezTo>
                      <a:pt x="17458" y="5"/>
                      <a:pt x="17459" y="4"/>
                      <a:pt x="17460" y="4"/>
                    </a:cubicBezTo>
                    <a:close/>
                    <a:moveTo>
                      <a:pt x="17468" y="4"/>
                    </a:moveTo>
                    <a:lnTo>
                      <a:pt x="17468" y="4"/>
                    </a:lnTo>
                    <a:cubicBezTo>
                      <a:pt x="17469" y="4"/>
                      <a:pt x="17470" y="5"/>
                      <a:pt x="17470" y="6"/>
                    </a:cubicBezTo>
                    <a:cubicBezTo>
                      <a:pt x="17470" y="7"/>
                      <a:pt x="17469" y="8"/>
                      <a:pt x="17468" y="8"/>
                    </a:cubicBezTo>
                    <a:lnTo>
                      <a:pt x="17468" y="8"/>
                    </a:lnTo>
                    <a:cubicBezTo>
                      <a:pt x="17467" y="8"/>
                      <a:pt x="17466" y="7"/>
                      <a:pt x="17466" y="6"/>
                    </a:cubicBezTo>
                    <a:cubicBezTo>
                      <a:pt x="17466" y="5"/>
                      <a:pt x="17467" y="4"/>
                      <a:pt x="17468" y="4"/>
                    </a:cubicBezTo>
                    <a:close/>
                    <a:moveTo>
                      <a:pt x="17476" y="4"/>
                    </a:moveTo>
                    <a:lnTo>
                      <a:pt x="17476" y="4"/>
                    </a:lnTo>
                    <a:cubicBezTo>
                      <a:pt x="17477" y="4"/>
                      <a:pt x="17478" y="5"/>
                      <a:pt x="17478" y="6"/>
                    </a:cubicBezTo>
                    <a:cubicBezTo>
                      <a:pt x="17478" y="7"/>
                      <a:pt x="17477" y="8"/>
                      <a:pt x="17476" y="8"/>
                    </a:cubicBezTo>
                    <a:lnTo>
                      <a:pt x="17476" y="8"/>
                    </a:lnTo>
                    <a:cubicBezTo>
                      <a:pt x="17475" y="8"/>
                      <a:pt x="17474" y="7"/>
                      <a:pt x="17474" y="6"/>
                    </a:cubicBezTo>
                    <a:cubicBezTo>
                      <a:pt x="17474" y="5"/>
                      <a:pt x="17475" y="4"/>
                      <a:pt x="17476" y="4"/>
                    </a:cubicBezTo>
                    <a:close/>
                    <a:moveTo>
                      <a:pt x="17484" y="4"/>
                    </a:moveTo>
                    <a:lnTo>
                      <a:pt x="17484" y="4"/>
                    </a:lnTo>
                    <a:cubicBezTo>
                      <a:pt x="17485" y="4"/>
                      <a:pt x="17486" y="5"/>
                      <a:pt x="17486" y="6"/>
                    </a:cubicBezTo>
                    <a:cubicBezTo>
                      <a:pt x="17486" y="7"/>
                      <a:pt x="17485" y="8"/>
                      <a:pt x="17484" y="8"/>
                    </a:cubicBezTo>
                    <a:lnTo>
                      <a:pt x="17484" y="8"/>
                    </a:lnTo>
                    <a:cubicBezTo>
                      <a:pt x="17483" y="8"/>
                      <a:pt x="17482" y="7"/>
                      <a:pt x="17482" y="6"/>
                    </a:cubicBezTo>
                    <a:cubicBezTo>
                      <a:pt x="17482" y="5"/>
                      <a:pt x="17483" y="4"/>
                      <a:pt x="17484" y="4"/>
                    </a:cubicBezTo>
                    <a:close/>
                    <a:moveTo>
                      <a:pt x="17492" y="4"/>
                    </a:moveTo>
                    <a:lnTo>
                      <a:pt x="17492" y="4"/>
                    </a:lnTo>
                    <a:cubicBezTo>
                      <a:pt x="17493" y="4"/>
                      <a:pt x="17494" y="5"/>
                      <a:pt x="17494" y="6"/>
                    </a:cubicBezTo>
                    <a:cubicBezTo>
                      <a:pt x="17494" y="7"/>
                      <a:pt x="17493" y="8"/>
                      <a:pt x="17492" y="8"/>
                    </a:cubicBezTo>
                    <a:lnTo>
                      <a:pt x="17492" y="8"/>
                    </a:lnTo>
                    <a:cubicBezTo>
                      <a:pt x="17491" y="8"/>
                      <a:pt x="17490" y="7"/>
                      <a:pt x="17490" y="6"/>
                    </a:cubicBezTo>
                    <a:cubicBezTo>
                      <a:pt x="17490" y="5"/>
                      <a:pt x="17491" y="4"/>
                      <a:pt x="17492" y="4"/>
                    </a:cubicBezTo>
                    <a:close/>
                    <a:moveTo>
                      <a:pt x="17500" y="4"/>
                    </a:moveTo>
                    <a:lnTo>
                      <a:pt x="17500" y="4"/>
                    </a:lnTo>
                    <a:cubicBezTo>
                      <a:pt x="17501" y="4"/>
                      <a:pt x="17502" y="5"/>
                      <a:pt x="17502" y="6"/>
                    </a:cubicBezTo>
                    <a:cubicBezTo>
                      <a:pt x="17502" y="7"/>
                      <a:pt x="17501" y="8"/>
                      <a:pt x="17500" y="8"/>
                    </a:cubicBezTo>
                    <a:lnTo>
                      <a:pt x="17500" y="8"/>
                    </a:lnTo>
                    <a:cubicBezTo>
                      <a:pt x="17499" y="8"/>
                      <a:pt x="17498" y="7"/>
                      <a:pt x="17498" y="6"/>
                    </a:cubicBezTo>
                    <a:cubicBezTo>
                      <a:pt x="17498" y="5"/>
                      <a:pt x="17499" y="4"/>
                      <a:pt x="17500" y="4"/>
                    </a:cubicBezTo>
                    <a:close/>
                    <a:moveTo>
                      <a:pt x="17508" y="4"/>
                    </a:moveTo>
                    <a:lnTo>
                      <a:pt x="17508" y="4"/>
                    </a:lnTo>
                    <a:cubicBezTo>
                      <a:pt x="17509" y="4"/>
                      <a:pt x="17510" y="5"/>
                      <a:pt x="17510" y="6"/>
                    </a:cubicBezTo>
                    <a:cubicBezTo>
                      <a:pt x="17510" y="7"/>
                      <a:pt x="17509" y="8"/>
                      <a:pt x="17508" y="8"/>
                    </a:cubicBezTo>
                    <a:lnTo>
                      <a:pt x="17508" y="8"/>
                    </a:lnTo>
                    <a:cubicBezTo>
                      <a:pt x="17507" y="8"/>
                      <a:pt x="17506" y="7"/>
                      <a:pt x="17506" y="6"/>
                    </a:cubicBezTo>
                    <a:cubicBezTo>
                      <a:pt x="17506" y="5"/>
                      <a:pt x="17507" y="4"/>
                      <a:pt x="17508" y="4"/>
                    </a:cubicBezTo>
                    <a:close/>
                    <a:moveTo>
                      <a:pt x="17516" y="4"/>
                    </a:moveTo>
                    <a:lnTo>
                      <a:pt x="17516" y="4"/>
                    </a:lnTo>
                    <a:cubicBezTo>
                      <a:pt x="17517" y="4"/>
                      <a:pt x="17518" y="5"/>
                      <a:pt x="17518" y="6"/>
                    </a:cubicBezTo>
                    <a:cubicBezTo>
                      <a:pt x="17518" y="7"/>
                      <a:pt x="17517" y="8"/>
                      <a:pt x="17516" y="8"/>
                    </a:cubicBezTo>
                    <a:lnTo>
                      <a:pt x="17516" y="8"/>
                    </a:lnTo>
                    <a:cubicBezTo>
                      <a:pt x="17515" y="8"/>
                      <a:pt x="17514" y="7"/>
                      <a:pt x="17514" y="6"/>
                    </a:cubicBezTo>
                    <a:cubicBezTo>
                      <a:pt x="17514" y="5"/>
                      <a:pt x="17515" y="4"/>
                      <a:pt x="17516" y="4"/>
                    </a:cubicBezTo>
                    <a:close/>
                    <a:moveTo>
                      <a:pt x="17524" y="4"/>
                    </a:moveTo>
                    <a:lnTo>
                      <a:pt x="17524" y="4"/>
                    </a:lnTo>
                    <a:cubicBezTo>
                      <a:pt x="17525" y="4"/>
                      <a:pt x="17526" y="5"/>
                      <a:pt x="17526" y="6"/>
                    </a:cubicBezTo>
                    <a:cubicBezTo>
                      <a:pt x="17526" y="7"/>
                      <a:pt x="17525" y="8"/>
                      <a:pt x="17524" y="8"/>
                    </a:cubicBezTo>
                    <a:lnTo>
                      <a:pt x="17524" y="8"/>
                    </a:lnTo>
                    <a:cubicBezTo>
                      <a:pt x="17523" y="8"/>
                      <a:pt x="17522" y="7"/>
                      <a:pt x="17522" y="6"/>
                    </a:cubicBezTo>
                    <a:cubicBezTo>
                      <a:pt x="17522" y="5"/>
                      <a:pt x="17523" y="4"/>
                      <a:pt x="17524" y="4"/>
                    </a:cubicBezTo>
                    <a:close/>
                    <a:moveTo>
                      <a:pt x="17532" y="4"/>
                    </a:moveTo>
                    <a:lnTo>
                      <a:pt x="17532" y="4"/>
                    </a:lnTo>
                    <a:cubicBezTo>
                      <a:pt x="17533" y="4"/>
                      <a:pt x="17534" y="5"/>
                      <a:pt x="17534" y="6"/>
                    </a:cubicBezTo>
                    <a:cubicBezTo>
                      <a:pt x="17534" y="7"/>
                      <a:pt x="17533" y="8"/>
                      <a:pt x="17532" y="8"/>
                    </a:cubicBezTo>
                    <a:lnTo>
                      <a:pt x="17532" y="8"/>
                    </a:lnTo>
                    <a:cubicBezTo>
                      <a:pt x="17531" y="8"/>
                      <a:pt x="17530" y="7"/>
                      <a:pt x="17530" y="6"/>
                    </a:cubicBezTo>
                    <a:cubicBezTo>
                      <a:pt x="17530" y="5"/>
                      <a:pt x="17531" y="4"/>
                      <a:pt x="17532" y="4"/>
                    </a:cubicBezTo>
                    <a:close/>
                    <a:moveTo>
                      <a:pt x="17540" y="4"/>
                    </a:moveTo>
                    <a:lnTo>
                      <a:pt x="17540" y="4"/>
                    </a:lnTo>
                    <a:cubicBezTo>
                      <a:pt x="17541" y="4"/>
                      <a:pt x="17542" y="5"/>
                      <a:pt x="17542" y="6"/>
                    </a:cubicBezTo>
                    <a:cubicBezTo>
                      <a:pt x="17542" y="7"/>
                      <a:pt x="17541" y="8"/>
                      <a:pt x="17540" y="8"/>
                    </a:cubicBezTo>
                    <a:lnTo>
                      <a:pt x="17540" y="8"/>
                    </a:lnTo>
                    <a:cubicBezTo>
                      <a:pt x="17539" y="8"/>
                      <a:pt x="17538" y="7"/>
                      <a:pt x="17538" y="6"/>
                    </a:cubicBezTo>
                    <a:cubicBezTo>
                      <a:pt x="17538" y="5"/>
                      <a:pt x="17539" y="4"/>
                      <a:pt x="17540" y="4"/>
                    </a:cubicBezTo>
                    <a:close/>
                    <a:moveTo>
                      <a:pt x="17548" y="4"/>
                    </a:moveTo>
                    <a:lnTo>
                      <a:pt x="17548" y="4"/>
                    </a:lnTo>
                    <a:cubicBezTo>
                      <a:pt x="17549" y="4"/>
                      <a:pt x="17550" y="5"/>
                      <a:pt x="17550" y="6"/>
                    </a:cubicBezTo>
                    <a:cubicBezTo>
                      <a:pt x="17550" y="7"/>
                      <a:pt x="17549" y="8"/>
                      <a:pt x="17548" y="8"/>
                    </a:cubicBezTo>
                    <a:lnTo>
                      <a:pt x="17548" y="8"/>
                    </a:lnTo>
                    <a:cubicBezTo>
                      <a:pt x="17547" y="8"/>
                      <a:pt x="17546" y="7"/>
                      <a:pt x="17546" y="6"/>
                    </a:cubicBezTo>
                    <a:cubicBezTo>
                      <a:pt x="17546" y="5"/>
                      <a:pt x="17547" y="4"/>
                      <a:pt x="17548" y="4"/>
                    </a:cubicBezTo>
                    <a:close/>
                    <a:moveTo>
                      <a:pt x="17556" y="4"/>
                    </a:moveTo>
                    <a:lnTo>
                      <a:pt x="17556" y="4"/>
                    </a:lnTo>
                    <a:cubicBezTo>
                      <a:pt x="17557" y="4"/>
                      <a:pt x="17558" y="5"/>
                      <a:pt x="17558" y="6"/>
                    </a:cubicBezTo>
                    <a:cubicBezTo>
                      <a:pt x="17558" y="7"/>
                      <a:pt x="17557" y="8"/>
                      <a:pt x="17556" y="8"/>
                    </a:cubicBezTo>
                    <a:lnTo>
                      <a:pt x="17556" y="8"/>
                    </a:lnTo>
                    <a:cubicBezTo>
                      <a:pt x="17555" y="8"/>
                      <a:pt x="17554" y="7"/>
                      <a:pt x="17554" y="6"/>
                    </a:cubicBezTo>
                    <a:cubicBezTo>
                      <a:pt x="17554" y="5"/>
                      <a:pt x="17555" y="4"/>
                      <a:pt x="17556" y="4"/>
                    </a:cubicBezTo>
                    <a:close/>
                    <a:moveTo>
                      <a:pt x="17564" y="4"/>
                    </a:moveTo>
                    <a:lnTo>
                      <a:pt x="17564" y="4"/>
                    </a:lnTo>
                    <a:cubicBezTo>
                      <a:pt x="17565" y="4"/>
                      <a:pt x="17566" y="5"/>
                      <a:pt x="17566" y="6"/>
                    </a:cubicBezTo>
                    <a:cubicBezTo>
                      <a:pt x="17566" y="7"/>
                      <a:pt x="17565" y="8"/>
                      <a:pt x="17564" y="8"/>
                    </a:cubicBezTo>
                    <a:lnTo>
                      <a:pt x="17564" y="8"/>
                    </a:lnTo>
                    <a:cubicBezTo>
                      <a:pt x="17563" y="8"/>
                      <a:pt x="17562" y="7"/>
                      <a:pt x="17562" y="6"/>
                    </a:cubicBezTo>
                    <a:cubicBezTo>
                      <a:pt x="17562" y="5"/>
                      <a:pt x="17563" y="4"/>
                      <a:pt x="17564" y="4"/>
                    </a:cubicBezTo>
                    <a:close/>
                    <a:moveTo>
                      <a:pt x="17572" y="4"/>
                    </a:moveTo>
                    <a:lnTo>
                      <a:pt x="17572" y="4"/>
                    </a:lnTo>
                    <a:cubicBezTo>
                      <a:pt x="17573" y="4"/>
                      <a:pt x="17574" y="5"/>
                      <a:pt x="17574" y="6"/>
                    </a:cubicBezTo>
                    <a:cubicBezTo>
                      <a:pt x="17574" y="7"/>
                      <a:pt x="17573" y="8"/>
                      <a:pt x="17572" y="8"/>
                    </a:cubicBezTo>
                    <a:lnTo>
                      <a:pt x="17572" y="8"/>
                    </a:lnTo>
                    <a:cubicBezTo>
                      <a:pt x="17571" y="8"/>
                      <a:pt x="17570" y="7"/>
                      <a:pt x="17570" y="6"/>
                    </a:cubicBezTo>
                    <a:cubicBezTo>
                      <a:pt x="17570" y="5"/>
                      <a:pt x="17571" y="4"/>
                      <a:pt x="17572" y="4"/>
                    </a:cubicBezTo>
                    <a:close/>
                    <a:moveTo>
                      <a:pt x="17580" y="4"/>
                    </a:moveTo>
                    <a:lnTo>
                      <a:pt x="17580" y="4"/>
                    </a:lnTo>
                    <a:cubicBezTo>
                      <a:pt x="17581" y="4"/>
                      <a:pt x="17582" y="5"/>
                      <a:pt x="17582" y="6"/>
                    </a:cubicBezTo>
                    <a:cubicBezTo>
                      <a:pt x="17582" y="7"/>
                      <a:pt x="17581" y="8"/>
                      <a:pt x="17580" y="8"/>
                    </a:cubicBezTo>
                    <a:lnTo>
                      <a:pt x="17580" y="8"/>
                    </a:lnTo>
                    <a:cubicBezTo>
                      <a:pt x="17579" y="8"/>
                      <a:pt x="17578" y="7"/>
                      <a:pt x="17578" y="6"/>
                    </a:cubicBezTo>
                    <a:cubicBezTo>
                      <a:pt x="17578" y="5"/>
                      <a:pt x="17579" y="4"/>
                      <a:pt x="17580" y="4"/>
                    </a:cubicBezTo>
                    <a:close/>
                    <a:moveTo>
                      <a:pt x="17588" y="4"/>
                    </a:moveTo>
                    <a:lnTo>
                      <a:pt x="17588" y="4"/>
                    </a:lnTo>
                    <a:cubicBezTo>
                      <a:pt x="17589" y="4"/>
                      <a:pt x="17590" y="5"/>
                      <a:pt x="17590" y="6"/>
                    </a:cubicBezTo>
                    <a:cubicBezTo>
                      <a:pt x="17590" y="7"/>
                      <a:pt x="17589" y="8"/>
                      <a:pt x="17588" y="8"/>
                    </a:cubicBezTo>
                    <a:lnTo>
                      <a:pt x="17588" y="8"/>
                    </a:lnTo>
                    <a:cubicBezTo>
                      <a:pt x="17587" y="8"/>
                      <a:pt x="17586" y="7"/>
                      <a:pt x="17586" y="6"/>
                    </a:cubicBezTo>
                    <a:cubicBezTo>
                      <a:pt x="17586" y="5"/>
                      <a:pt x="17587" y="4"/>
                      <a:pt x="17588" y="4"/>
                    </a:cubicBezTo>
                    <a:close/>
                    <a:moveTo>
                      <a:pt x="17596" y="4"/>
                    </a:moveTo>
                    <a:lnTo>
                      <a:pt x="17596" y="4"/>
                    </a:lnTo>
                    <a:cubicBezTo>
                      <a:pt x="17597" y="4"/>
                      <a:pt x="17598" y="5"/>
                      <a:pt x="17598" y="6"/>
                    </a:cubicBezTo>
                    <a:cubicBezTo>
                      <a:pt x="17598" y="7"/>
                      <a:pt x="17597" y="8"/>
                      <a:pt x="17596" y="8"/>
                    </a:cubicBezTo>
                    <a:lnTo>
                      <a:pt x="17596" y="8"/>
                    </a:lnTo>
                    <a:cubicBezTo>
                      <a:pt x="17595" y="8"/>
                      <a:pt x="17594" y="7"/>
                      <a:pt x="17594" y="6"/>
                    </a:cubicBezTo>
                    <a:cubicBezTo>
                      <a:pt x="17594" y="5"/>
                      <a:pt x="17595" y="4"/>
                      <a:pt x="17596" y="4"/>
                    </a:cubicBezTo>
                    <a:close/>
                    <a:moveTo>
                      <a:pt x="17604" y="4"/>
                    </a:moveTo>
                    <a:lnTo>
                      <a:pt x="17604" y="4"/>
                    </a:lnTo>
                    <a:cubicBezTo>
                      <a:pt x="17605" y="4"/>
                      <a:pt x="17606" y="5"/>
                      <a:pt x="17606" y="6"/>
                    </a:cubicBezTo>
                    <a:cubicBezTo>
                      <a:pt x="17606" y="7"/>
                      <a:pt x="17605" y="8"/>
                      <a:pt x="17604" y="8"/>
                    </a:cubicBezTo>
                    <a:lnTo>
                      <a:pt x="17604" y="8"/>
                    </a:lnTo>
                    <a:cubicBezTo>
                      <a:pt x="17603" y="8"/>
                      <a:pt x="17602" y="7"/>
                      <a:pt x="17602" y="6"/>
                    </a:cubicBezTo>
                    <a:cubicBezTo>
                      <a:pt x="17602" y="5"/>
                      <a:pt x="17603" y="4"/>
                      <a:pt x="17604" y="4"/>
                    </a:cubicBezTo>
                    <a:close/>
                    <a:moveTo>
                      <a:pt x="17612" y="4"/>
                    </a:moveTo>
                    <a:lnTo>
                      <a:pt x="17612" y="4"/>
                    </a:lnTo>
                    <a:cubicBezTo>
                      <a:pt x="17613" y="4"/>
                      <a:pt x="17614" y="5"/>
                      <a:pt x="17614" y="6"/>
                    </a:cubicBezTo>
                    <a:cubicBezTo>
                      <a:pt x="17614" y="7"/>
                      <a:pt x="17613" y="8"/>
                      <a:pt x="17612" y="8"/>
                    </a:cubicBezTo>
                    <a:lnTo>
                      <a:pt x="17612" y="8"/>
                    </a:lnTo>
                    <a:cubicBezTo>
                      <a:pt x="17611" y="8"/>
                      <a:pt x="17610" y="7"/>
                      <a:pt x="17610" y="6"/>
                    </a:cubicBezTo>
                    <a:cubicBezTo>
                      <a:pt x="17610" y="5"/>
                      <a:pt x="17611" y="4"/>
                      <a:pt x="17612" y="4"/>
                    </a:cubicBezTo>
                    <a:close/>
                    <a:moveTo>
                      <a:pt x="17620" y="4"/>
                    </a:moveTo>
                    <a:lnTo>
                      <a:pt x="17620" y="4"/>
                    </a:lnTo>
                    <a:cubicBezTo>
                      <a:pt x="17621" y="4"/>
                      <a:pt x="17622" y="5"/>
                      <a:pt x="17622" y="6"/>
                    </a:cubicBezTo>
                    <a:cubicBezTo>
                      <a:pt x="17622" y="7"/>
                      <a:pt x="17621" y="8"/>
                      <a:pt x="17620" y="8"/>
                    </a:cubicBezTo>
                    <a:lnTo>
                      <a:pt x="17620" y="8"/>
                    </a:lnTo>
                    <a:cubicBezTo>
                      <a:pt x="17619" y="8"/>
                      <a:pt x="17618" y="7"/>
                      <a:pt x="17618" y="6"/>
                    </a:cubicBezTo>
                    <a:cubicBezTo>
                      <a:pt x="17618" y="5"/>
                      <a:pt x="17619" y="4"/>
                      <a:pt x="17620" y="4"/>
                    </a:cubicBezTo>
                    <a:close/>
                    <a:moveTo>
                      <a:pt x="17628" y="4"/>
                    </a:moveTo>
                    <a:lnTo>
                      <a:pt x="17628" y="4"/>
                    </a:lnTo>
                    <a:cubicBezTo>
                      <a:pt x="17629" y="4"/>
                      <a:pt x="17630" y="5"/>
                      <a:pt x="17630" y="6"/>
                    </a:cubicBezTo>
                    <a:cubicBezTo>
                      <a:pt x="17630" y="7"/>
                      <a:pt x="17629" y="8"/>
                      <a:pt x="17628" y="8"/>
                    </a:cubicBezTo>
                    <a:lnTo>
                      <a:pt x="17628" y="8"/>
                    </a:lnTo>
                    <a:cubicBezTo>
                      <a:pt x="17627" y="8"/>
                      <a:pt x="17626" y="7"/>
                      <a:pt x="17626" y="6"/>
                    </a:cubicBezTo>
                    <a:cubicBezTo>
                      <a:pt x="17626" y="5"/>
                      <a:pt x="17627" y="4"/>
                      <a:pt x="17628" y="4"/>
                    </a:cubicBezTo>
                    <a:close/>
                    <a:moveTo>
                      <a:pt x="17636" y="4"/>
                    </a:moveTo>
                    <a:lnTo>
                      <a:pt x="17636" y="4"/>
                    </a:lnTo>
                    <a:cubicBezTo>
                      <a:pt x="17637" y="4"/>
                      <a:pt x="17638" y="5"/>
                      <a:pt x="17638" y="6"/>
                    </a:cubicBezTo>
                    <a:cubicBezTo>
                      <a:pt x="17638" y="7"/>
                      <a:pt x="17637" y="8"/>
                      <a:pt x="17636" y="8"/>
                    </a:cubicBezTo>
                    <a:lnTo>
                      <a:pt x="17636" y="8"/>
                    </a:lnTo>
                    <a:cubicBezTo>
                      <a:pt x="17635" y="8"/>
                      <a:pt x="17634" y="7"/>
                      <a:pt x="17634" y="6"/>
                    </a:cubicBezTo>
                    <a:cubicBezTo>
                      <a:pt x="17634" y="5"/>
                      <a:pt x="17635" y="4"/>
                      <a:pt x="17636" y="4"/>
                    </a:cubicBezTo>
                    <a:close/>
                    <a:moveTo>
                      <a:pt x="17644" y="4"/>
                    </a:moveTo>
                    <a:lnTo>
                      <a:pt x="17644" y="4"/>
                    </a:lnTo>
                    <a:cubicBezTo>
                      <a:pt x="17645" y="4"/>
                      <a:pt x="17646" y="5"/>
                      <a:pt x="17646" y="6"/>
                    </a:cubicBezTo>
                    <a:cubicBezTo>
                      <a:pt x="17646" y="7"/>
                      <a:pt x="17645" y="8"/>
                      <a:pt x="17644" y="8"/>
                    </a:cubicBezTo>
                    <a:lnTo>
                      <a:pt x="17644" y="8"/>
                    </a:lnTo>
                    <a:cubicBezTo>
                      <a:pt x="17643" y="8"/>
                      <a:pt x="17642" y="7"/>
                      <a:pt x="17642" y="6"/>
                    </a:cubicBezTo>
                    <a:cubicBezTo>
                      <a:pt x="17642" y="5"/>
                      <a:pt x="17643" y="4"/>
                      <a:pt x="17644" y="4"/>
                    </a:cubicBezTo>
                    <a:close/>
                    <a:moveTo>
                      <a:pt x="17652" y="4"/>
                    </a:moveTo>
                    <a:lnTo>
                      <a:pt x="17652" y="4"/>
                    </a:lnTo>
                    <a:cubicBezTo>
                      <a:pt x="17653" y="4"/>
                      <a:pt x="17654" y="5"/>
                      <a:pt x="17654" y="6"/>
                    </a:cubicBezTo>
                    <a:cubicBezTo>
                      <a:pt x="17654" y="7"/>
                      <a:pt x="17653" y="8"/>
                      <a:pt x="17652" y="8"/>
                    </a:cubicBezTo>
                    <a:lnTo>
                      <a:pt x="17652" y="8"/>
                    </a:lnTo>
                    <a:cubicBezTo>
                      <a:pt x="17651" y="8"/>
                      <a:pt x="17650" y="7"/>
                      <a:pt x="17650" y="6"/>
                    </a:cubicBezTo>
                    <a:cubicBezTo>
                      <a:pt x="17650" y="5"/>
                      <a:pt x="17651" y="4"/>
                      <a:pt x="17652" y="4"/>
                    </a:cubicBezTo>
                    <a:close/>
                    <a:moveTo>
                      <a:pt x="17660" y="4"/>
                    </a:moveTo>
                    <a:lnTo>
                      <a:pt x="17660" y="4"/>
                    </a:lnTo>
                    <a:cubicBezTo>
                      <a:pt x="17661" y="4"/>
                      <a:pt x="17662" y="5"/>
                      <a:pt x="17662" y="6"/>
                    </a:cubicBezTo>
                    <a:cubicBezTo>
                      <a:pt x="17662" y="7"/>
                      <a:pt x="17661" y="8"/>
                      <a:pt x="17660" y="8"/>
                    </a:cubicBezTo>
                    <a:lnTo>
                      <a:pt x="17660" y="8"/>
                    </a:lnTo>
                    <a:cubicBezTo>
                      <a:pt x="17659" y="8"/>
                      <a:pt x="17658" y="7"/>
                      <a:pt x="17658" y="6"/>
                    </a:cubicBezTo>
                    <a:cubicBezTo>
                      <a:pt x="17658" y="5"/>
                      <a:pt x="17659" y="4"/>
                      <a:pt x="17660" y="4"/>
                    </a:cubicBezTo>
                    <a:close/>
                    <a:moveTo>
                      <a:pt x="17668" y="4"/>
                    </a:moveTo>
                    <a:lnTo>
                      <a:pt x="17668" y="4"/>
                    </a:lnTo>
                    <a:cubicBezTo>
                      <a:pt x="17669" y="4"/>
                      <a:pt x="17670" y="5"/>
                      <a:pt x="17670" y="6"/>
                    </a:cubicBezTo>
                    <a:cubicBezTo>
                      <a:pt x="17670" y="7"/>
                      <a:pt x="17669" y="8"/>
                      <a:pt x="17668" y="8"/>
                    </a:cubicBezTo>
                    <a:lnTo>
                      <a:pt x="17668" y="8"/>
                    </a:lnTo>
                    <a:cubicBezTo>
                      <a:pt x="17667" y="8"/>
                      <a:pt x="17666" y="7"/>
                      <a:pt x="17666" y="6"/>
                    </a:cubicBezTo>
                    <a:cubicBezTo>
                      <a:pt x="17666" y="5"/>
                      <a:pt x="17667" y="4"/>
                      <a:pt x="17668" y="4"/>
                    </a:cubicBezTo>
                    <a:close/>
                    <a:moveTo>
                      <a:pt x="17676" y="4"/>
                    </a:moveTo>
                    <a:lnTo>
                      <a:pt x="17676" y="4"/>
                    </a:lnTo>
                    <a:cubicBezTo>
                      <a:pt x="17677" y="4"/>
                      <a:pt x="17678" y="5"/>
                      <a:pt x="17678" y="6"/>
                    </a:cubicBezTo>
                    <a:cubicBezTo>
                      <a:pt x="17678" y="7"/>
                      <a:pt x="17677" y="8"/>
                      <a:pt x="17676" y="8"/>
                    </a:cubicBezTo>
                    <a:lnTo>
                      <a:pt x="17676" y="8"/>
                    </a:lnTo>
                    <a:cubicBezTo>
                      <a:pt x="17675" y="8"/>
                      <a:pt x="17674" y="7"/>
                      <a:pt x="17674" y="6"/>
                    </a:cubicBezTo>
                    <a:cubicBezTo>
                      <a:pt x="17674" y="5"/>
                      <a:pt x="17675" y="4"/>
                      <a:pt x="17676" y="4"/>
                    </a:cubicBezTo>
                    <a:close/>
                    <a:moveTo>
                      <a:pt x="17684" y="4"/>
                    </a:moveTo>
                    <a:lnTo>
                      <a:pt x="17684" y="4"/>
                    </a:lnTo>
                    <a:cubicBezTo>
                      <a:pt x="17685" y="4"/>
                      <a:pt x="17686" y="5"/>
                      <a:pt x="17686" y="6"/>
                    </a:cubicBezTo>
                    <a:cubicBezTo>
                      <a:pt x="17686" y="7"/>
                      <a:pt x="17685" y="8"/>
                      <a:pt x="17684" y="8"/>
                    </a:cubicBezTo>
                    <a:lnTo>
                      <a:pt x="17684" y="8"/>
                    </a:lnTo>
                    <a:cubicBezTo>
                      <a:pt x="17683" y="8"/>
                      <a:pt x="17682" y="7"/>
                      <a:pt x="17682" y="6"/>
                    </a:cubicBezTo>
                    <a:cubicBezTo>
                      <a:pt x="17682" y="5"/>
                      <a:pt x="17683" y="4"/>
                      <a:pt x="17684" y="4"/>
                    </a:cubicBezTo>
                    <a:close/>
                    <a:moveTo>
                      <a:pt x="17692" y="4"/>
                    </a:moveTo>
                    <a:lnTo>
                      <a:pt x="17692" y="4"/>
                    </a:lnTo>
                    <a:cubicBezTo>
                      <a:pt x="17693" y="4"/>
                      <a:pt x="17694" y="5"/>
                      <a:pt x="17694" y="6"/>
                    </a:cubicBezTo>
                    <a:cubicBezTo>
                      <a:pt x="17694" y="7"/>
                      <a:pt x="17693" y="8"/>
                      <a:pt x="17692" y="8"/>
                    </a:cubicBezTo>
                    <a:lnTo>
                      <a:pt x="17692" y="8"/>
                    </a:lnTo>
                    <a:cubicBezTo>
                      <a:pt x="17691" y="8"/>
                      <a:pt x="17690" y="7"/>
                      <a:pt x="17690" y="6"/>
                    </a:cubicBezTo>
                    <a:cubicBezTo>
                      <a:pt x="17690" y="5"/>
                      <a:pt x="17691" y="4"/>
                      <a:pt x="17692" y="4"/>
                    </a:cubicBezTo>
                    <a:close/>
                    <a:moveTo>
                      <a:pt x="17700" y="4"/>
                    </a:moveTo>
                    <a:lnTo>
                      <a:pt x="17700" y="4"/>
                    </a:lnTo>
                    <a:cubicBezTo>
                      <a:pt x="17701" y="4"/>
                      <a:pt x="17702" y="5"/>
                      <a:pt x="17702" y="6"/>
                    </a:cubicBezTo>
                    <a:cubicBezTo>
                      <a:pt x="17702" y="7"/>
                      <a:pt x="17701" y="8"/>
                      <a:pt x="17700" y="8"/>
                    </a:cubicBezTo>
                    <a:lnTo>
                      <a:pt x="17700" y="8"/>
                    </a:lnTo>
                    <a:cubicBezTo>
                      <a:pt x="17699" y="8"/>
                      <a:pt x="17698" y="7"/>
                      <a:pt x="17698" y="6"/>
                    </a:cubicBezTo>
                    <a:cubicBezTo>
                      <a:pt x="17698" y="5"/>
                      <a:pt x="17699" y="4"/>
                      <a:pt x="17700" y="4"/>
                    </a:cubicBezTo>
                    <a:close/>
                    <a:moveTo>
                      <a:pt x="17708" y="4"/>
                    </a:moveTo>
                    <a:lnTo>
                      <a:pt x="17708" y="4"/>
                    </a:lnTo>
                    <a:cubicBezTo>
                      <a:pt x="17709" y="4"/>
                      <a:pt x="17710" y="5"/>
                      <a:pt x="17710" y="6"/>
                    </a:cubicBezTo>
                    <a:cubicBezTo>
                      <a:pt x="17710" y="7"/>
                      <a:pt x="17709" y="8"/>
                      <a:pt x="17708" y="8"/>
                    </a:cubicBezTo>
                    <a:lnTo>
                      <a:pt x="17708" y="8"/>
                    </a:lnTo>
                    <a:cubicBezTo>
                      <a:pt x="17707" y="8"/>
                      <a:pt x="17706" y="7"/>
                      <a:pt x="17706" y="6"/>
                    </a:cubicBezTo>
                    <a:cubicBezTo>
                      <a:pt x="17706" y="5"/>
                      <a:pt x="17707" y="4"/>
                      <a:pt x="17708" y="4"/>
                    </a:cubicBezTo>
                    <a:close/>
                    <a:moveTo>
                      <a:pt x="17716" y="4"/>
                    </a:moveTo>
                    <a:lnTo>
                      <a:pt x="17716" y="4"/>
                    </a:lnTo>
                    <a:cubicBezTo>
                      <a:pt x="17717" y="4"/>
                      <a:pt x="17718" y="5"/>
                      <a:pt x="17718" y="6"/>
                    </a:cubicBezTo>
                    <a:cubicBezTo>
                      <a:pt x="17718" y="7"/>
                      <a:pt x="17717" y="8"/>
                      <a:pt x="17716" y="8"/>
                    </a:cubicBezTo>
                    <a:lnTo>
                      <a:pt x="17716" y="8"/>
                    </a:lnTo>
                    <a:cubicBezTo>
                      <a:pt x="17715" y="8"/>
                      <a:pt x="17714" y="7"/>
                      <a:pt x="17714" y="6"/>
                    </a:cubicBezTo>
                    <a:cubicBezTo>
                      <a:pt x="17714" y="5"/>
                      <a:pt x="17715" y="4"/>
                      <a:pt x="17716" y="4"/>
                    </a:cubicBezTo>
                    <a:close/>
                    <a:moveTo>
                      <a:pt x="17724" y="4"/>
                    </a:moveTo>
                    <a:lnTo>
                      <a:pt x="17724" y="4"/>
                    </a:lnTo>
                    <a:cubicBezTo>
                      <a:pt x="17725" y="4"/>
                      <a:pt x="17726" y="5"/>
                      <a:pt x="17726" y="6"/>
                    </a:cubicBezTo>
                    <a:cubicBezTo>
                      <a:pt x="17726" y="7"/>
                      <a:pt x="17725" y="8"/>
                      <a:pt x="17724" y="8"/>
                    </a:cubicBezTo>
                    <a:lnTo>
                      <a:pt x="17724" y="8"/>
                    </a:lnTo>
                    <a:cubicBezTo>
                      <a:pt x="17723" y="8"/>
                      <a:pt x="17722" y="7"/>
                      <a:pt x="17722" y="6"/>
                    </a:cubicBezTo>
                    <a:cubicBezTo>
                      <a:pt x="17722" y="5"/>
                      <a:pt x="17723" y="4"/>
                      <a:pt x="17724" y="4"/>
                    </a:cubicBezTo>
                    <a:close/>
                    <a:moveTo>
                      <a:pt x="17732" y="4"/>
                    </a:moveTo>
                    <a:lnTo>
                      <a:pt x="17732" y="4"/>
                    </a:lnTo>
                    <a:cubicBezTo>
                      <a:pt x="17733" y="4"/>
                      <a:pt x="17734" y="5"/>
                      <a:pt x="17734" y="6"/>
                    </a:cubicBezTo>
                    <a:cubicBezTo>
                      <a:pt x="17734" y="7"/>
                      <a:pt x="17733" y="8"/>
                      <a:pt x="17732" y="8"/>
                    </a:cubicBezTo>
                    <a:lnTo>
                      <a:pt x="17732" y="8"/>
                    </a:lnTo>
                    <a:cubicBezTo>
                      <a:pt x="17731" y="8"/>
                      <a:pt x="17730" y="7"/>
                      <a:pt x="17730" y="6"/>
                    </a:cubicBezTo>
                    <a:cubicBezTo>
                      <a:pt x="17730" y="5"/>
                      <a:pt x="17731" y="4"/>
                      <a:pt x="17732" y="4"/>
                    </a:cubicBezTo>
                    <a:close/>
                    <a:moveTo>
                      <a:pt x="17740" y="4"/>
                    </a:moveTo>
                    <a:lnTo>
                      <a:pt x="17740" y="4"/>
                    </a:lnTo>
                    <a:cubicBezTo>
                      <a:pt x="17741" y="4"/>
                      <a:pt x="17742" y="5"/>
                      <a:pt x="17742" y="6"/>
                    </a:cubicBezTo>
                    <a:cubicBezTo>
                      <a:pt x="17742" y="7"/>
                      <a:pt x="17741" y="8"/>
                      <a:pt x="17740" y="8"/>
                    </a:cubicBezTo>
                    <a:lnTo>
                      <a:pt x="17740" y="8"/>
                    </a:lnTo>
                    <a:cubicBezTo>
                      <a:pt x="17739" y="8"/>
                      <a:pt x="17738" y="7"/>
                      <a:pt x="17738" y="6"/>
                    </a:cubicBezTo>
                    <a:cubicBezTo>
                      <a:pt x="17738" y="5"/>
                      <a:pt x="17739" y="4"/>
                      <a:pt x="17740" y="4"/>
                    </a:cubicBezTo>
                    <a:close/>
                    <a:moveTo>
                      <a:pt x="17748" y="4"/>
                    </a:moveTo>
                    <a:lnTo>
                      <a:pt x="17748" y="4"/>
                    </a:lnTo>
                    <a:cubicBezTo>
                      <a:pt x="17749" y="4"/>
                      <a:pt x="17750" y="5"/>
                      <a:pt x="17750" y="6"/>
                    </a:cubicBezTo>
                    <a:cubicBezTo>
                      <a:pt x="17750" y="7"/>
                      <a:pt x="17749" y="8"/>
                      <a:pt x="17748" y="8"/>
                    </a:cubicBezTo>
                    <a:lnTo>
                      <a:pt x="17748" y="8"/>
                    </a:lnTo>
                    <a:cubicBezTo>
                      <a:pt x="17747" y="8"/>
                      <a:pt x="17746" y="7"/>
                      <a:pt x="17746" y="6"/>
                    </a:cubicBezTo>
                    <a:cubicBezTo>
                      <a:pt x="17746" y="5"/>
                      <a:pt x="17747" y="4"/>
                      <a:pt x="17748" y="4"/>
                    </a:cubicBezTo>
                    <a:close/>
                    <a:moveTo>
                      <a:pt x="17756" y="4"/>
                    </a:moveTo>
                    <a:lnTo>
                      <a:pt x="17756" y="4"/>
                    </a:lnTo>
                    <a:cubicBezTo>
                      <a:pt x="17757" y="4"/>
                      <a:pt x="17758" y="5"/>
                      <a:pt x="17758" y="6"/>
                    </a:cubicBezTo>
                    <a:cubicBezTo>
                      <a:pt x="17758" y="7"/>
                      <a:pt x="17757" y="8"/>
                      <a:pt x="17756" y="8"/>
                    </a:cubicBezTo>
                    <a:lnTo>
                      <a:pt x="17756" y="8"/>
                    </a:lnTo>
                    <a:cubicBezTo>
                      <a:pt x="17755" y="8"/>
                      <a:pt x="17754" y="7"/>
                      <a:pt x="17754" y="6"/>
                    </a:cubicBezTo>
                    <a:cubicBezTo>
                      <a:pt x="17754" y="5"/>
                      <a:pt x="17755" y="4"/>
                      <a:pt x="17756" y="4"/>
                    </a:cubicBezTo>
                    <a:close/>
                    <a:moveTo>
                      <a:pt x="17764" y="4"/>
                    </a:moveTo>
                    <a:lnTo>
                      <a:pt x="17764" y="4"/>
                    </a:lnTo>
                    <a:cubicBezTo>
                      <a:pt x="17765" y="4"/>
                      <a:pt x="17766" y="5"/>
                      <a:pt x="17766" y="6"/>
                    </a:cubicBezTo>
                    <a:cubicBezTo>
                      <a:pt x="17766" y="7"/>
                      <a:pt x="17765" y="8"/>
                      <a:pt x="17764" y="8"/>
                    </a:cubicBezTo>
                    <a:lnTo>
                      <a:pt x="17764" y="8"/>
                    </a:lnTo>
                    <a:cubicBezTo>
                      <a:pt x="17763" y="8"/>
                      <a:pt x="17762" y="7"/>
                      <a:pt x="17762" y="6"/>
                    </a:cubicBezTo>
                    <a:cubicBezTo>
                      <a:pt x="17762" y="5"/>
                      <a:pt x="17763" y="4"/>
                      <a:pt x="17764" y="4"/>
                    </a:cubicBezTo>
                    <a:close/>
                    <a:moveTo>
                      <a:pt x="17772" y="4"/>
                    </a:moveTo>
                    <a:lnTo>
                      <a:pt x="17772" y="4"/>
                    </a:lnTo>
                    <a:cubicBezTo>
                      <a:pt x="17773" y="4"/>
                      <a:pt x="17774" y="5"/>
                      <a:pt x="17774" y="6"/>
                    </a:cubicBezTo>
                    <a:cubicBezTo>
                      <a:pt x="17774" y="7"/>
                      <a:pt x="17773" y="8"/>
                      <a:pt x="17772" y="8"/>
                    </a:cubicBezTo>
                    <a:lnTo>
                      <a:pt x="17772" y="8"/>
                    </a:lnTo>
                    <a:cubicBezTo>
                      <a:pt x="17771" y="8"/>
                      <a:pt x="17770" y="7"/>
                      <a:pt x="17770" y="6"/>
                    </a:cubicBezTo>
                    <a:cubicBezTo>
                      <a:pt x="17770" y="5"/>
                      <a:pt x="17771" y="4"/>
                      <a:pt x="17772" y="4"/>
                    </a:cubicBezTo>
                    <a:close/>
                    <a:moveTo>
                      <a:pt x="17780" y="4"/>
                    </a:moveTo>
                    <a:lnTo>
                      <a:pt x="17780" y="4"/>
                    </a:lnTo>
                    <a:cubicBezTo>
                      <a:pt x="17781" y="4"/>
                      <a:pt x="17782" y="5"/>
                      <a:pt x="17782" y="6"/>
                    </a:cubicBezTo>
                    <a:cubicBezTo>
                      <a:pt x="17782" y="7"/>
                      <a:pt x="17781" y="8"/>
                      <a:pt x="17780" y="8"/>
                    </a:cubicBezTo>
                    <a:lnTo>
                      <a:pt x="17780" y="8"/>
                    </a:lnTo>
                    <a:cubicBezTo>
                      <a:pt x="17779" y="8"/>
                      <a:pt x="17778" y="7"/>
                      <a:pt x="17778" y="6"/>
                    </a:cubicBezTo>
                    <a:cubicBezTo>
                      <a:pt x="17778" y="5"/>
                      <a:pt x="17779" y="4"/>
                      <a:pt x="17780" y="4"/>
                    </a:cubicBezTo>
                    <a:close/>
                    <a:moveTo>
                      <a:pt x="17788" y="4"/>
                    </a:moveTo>
                    <a:lnTo>
                      <a:pt x="17788" y="4"/>
                    </a:lnTo>
                    <a:cubicBezTo>
                      <a:pt x="17789" y="4"/>
                      <a:pt x="17790" y="5"/>
                      <a:pt x="17790" y="6"/>
                    </a:cubicBezTo>
                    <a:cubicBezTo>
                      <a:pt x="17790" y="7"/>
                      <a:pt x="17789" y="8"/>
                      <a:pt x="17788" y="8"/>
                    </a:cubicBezTo>
                    <a:lnTo>
                      <a:pt x="17788" y="8"/>
                    </a:lnTo>
                    <a:cubicBezTo>
                      <a:pt x="17787" y="8"/>
                      <a:pt x="17786" y="7"/>
                      <a:pt x="17786" y="6"/>
                    </a:cubicBezTo>
                    <a:cubicBezTo>
                      <a:pt x="17786" y="5"/>
                      <a:pt x="17787" y="4"/>
                      <a:pt x="17788" y="4"/>
                    </a:cubicBezTo>
                    <a:close/>
                    <a:moveTo>
                      <a:pt x="17796" y="4"/>
                    </a:moveTo>
                    <a:lnTo>
                      <a:pt x="17796" y="4"/>
                    </a:lnTo>
                    <a:cubicBezTo>
                      <a:pt x="17797" y="4"/>
                      <a:pt x="17798" y="5"/>
                      <a:pt x="17798" y="6"/>
                    </a:cubicBezTo>
                    <a:cubicBezTo>
                      <a:pt x="17798" y="7"/>
                      <a:pt x="17797" y="8"/>
                      <a:pt x="17796" y="8"/>
                    </a:cubicBezTo>
                    <a:lnTo>
                      <a:pt x="17796" y="8"/>
                    </a:lnTo>
                    <a:cubicBezTo>
                      <a:pt x="17795" y="8"/>
                      <a:pt x="17794" y="7"/>
                      <a:pt x="17794" y="6"/>
                    </a:cubicBezTo>
                    <a:cubicBezTo>
                      <a:pt x="17794" y="5"/>
                      <a:pt x="17795" y="4"/>
                      <a:pt x="17796" y="4"/>
                    </a:cubicBezTo>
                    <a:close/>
                    <a:moveTo>
                      <a:pt x="17804" y="4"/>
                    </a:moveTo>
                    <a:lnTo>
                      <a:pt x="17804" y="4"/>
                    </a:lnTo>
                    <a:cubicBezTo>
                      <a:pt x="17805" y="4"/>
                      <a:pt x="17806" y="5"/>
                      <a:pt x="17806" y="6"/>
                    </a:cubicBezTo>
                    <a:cubicBezTo>
                      <a:pt x="17806" y="7"/>
                      <a:pt x="17805" y="8"/>
                      <a:pt x="17804" y="8"/>
                    </a:cubicBezTo>
                    <a:lnTo>
                      <a:pt x="17804" y="8"/>
                    </a:lnTo>
                    <a:cubicBezTo>
                      <a:pt x="17803" y="8"/>
                      <a:pt x="17802" y="7"/>
                      <a:pt x="17802" y="6"/>
                    </a:cubicBezTo>
                    <a:cubicBezTo>
                      <a:pt x="17802" y="5"/>
                      <a:pt x="17803" y="4"/>
                      <a:pt x="17804" y="4"/>
                    </a:cubicBezTo>
                    <a:close/>
                    <a:moveTo>
                      <a:pt x="17812" y="4"/>
                    </a:moveTo>
                    <a:lnTo>
                      <a:pt x="17812" y="4"/>
                    </a:lnTo>
                    <a:cubicBezTo>
                      <a:pt x="17813" y="4"/>
                      <a:pt x="17814" y="5"/>
                      <a:pt x="17814" y="6"/>
                    </a:cubicBezTo>
                    <a:cubicBezTo>
                      <a:pt x="17814" y="7"/>
                      <a:pt x="17813" y="8"/>
                      <a:pt x="17812" y="8"/>
                    </a:cubicBezTo>
                    <a:lnTo>
                      <a:pt x="17812" y="8"/>
                    </a:lnTo>
                    <a:cubicBezTo>
                      <a:pt x="17811" y="8"/>
                      <a:pt x="17810" y="7"/>
                      <a:pt x="17810" y="6"/>
                    </a:cubicBezTo>
                    <a:cubicBezTo>
                      <a:pt x="17810" y="5"/>
                      <a:pt x="17811" y="4"/>
                      <a:pt x="17812" y="4"/>
                    </a:cubicBezTo>
                    <a:close/>
                    <a:moveTo>
                      <a:pt x="17820" y="4"/>
                    </a:moveTo>
                    <a:lnTo>
                      <a:pt x="17820" y="4"/>
                    </a:lnTo>
                    <a:cubicBezTo>
                      <a:pt x="17821" y="4"/>
                      <a:pt x="17822" y="5"/>
                      <a:pt x="17822" y="6"/>
                    </a:cubicBezTo>
                    <a:cubicBezTo>
                      <a:pt x="17822" y="7"/>
                      <a:pt x="17821" y="8"/>
                      <a:pt x="17820" y="8"/>
                    </a:cubicBezTo>
                    <a:lnTo>
                      <a:pt x="17820" y="8"/>
                    </a:lnTo>
                    <a:cubicBezTo>
                      <a:pt x="17819" y="8"/>
                      <a:pt x="17818" y="7"/>
                      <a:pt x="17818" y="6"/>
                    </a:cubicBezTo>
                    <a:cubicBezTo>
                      <a:pt x="17818" y="5"/>
                      <a:pt x="17819" y="4"/>
                      <a:pt x="17820" y="4"/>
                    </a:cubicBezTo>
                    <a:close/>
                    <a:moveTo>
                      <a:pt x="17828" y="4"/>
                    </a:moveTo>
                    <a:lnTo>
                      <a:pt x="17828" y="4"/>
                    </a:lnTo>
                    <a:cubicBezTo>
                      <a:pt x="17829" y="4"/>
                      <a:pt x="17830" y="5"/>
                      <a:pt x="17830" y="6"/>
                    </a:cubicBezTo>
                    <a:cubicBezTo>
                      <a:pt x="17830" y="7"/>
                      <a:pt x="17829" y="8"/>
                      <a:pt x="17828" y="8"/>
                    </a:cubicBezTo>
                    <a:lnTo>
                      <a:pt x="17828" y="8"/>
                    </a:lnTo>
                    <a:cubicBezTo>
                      <a:pt x="17827" y="8"/>
                      <a:pt x="17826" y="7"/>
                      <a:pt x="17826" y="6"/>
                    </a:cubicBezTo>
                    <a:cubicBezTo>
                      <a:pt x="17826" y="5"/>
                      <a:pt x="17827" y="4"/>
                      <a:pt x="17828" y="4"/>
                    </a:cubicBezTo>
                    <a:close/>
                    <a:moveTo>
                      <a:pt x="17836" y="4"/>
                    </a:moveTo>
                    <a:lnTo>
                      <a:pt x="17836" y="4"/>
                    </a:lnTo>
                    <a:cubicBezTo>
                      <a:pt x="17837" y="4"/>
                      <a:pt x="17838" y="5"/>
                      <a:pt x="17838" y="6"/>
                    </a:cubicBezTo>
                    <a:cubicBezTo>
                      <a:pt x="17838" y="7"/>
                      <a:pt x="17837" y="8"/>
                      <a:pt x="17836" y="8"/>
                    </a:cubicBezTo>
                    <a:lnTo>
                      <a:pt x="17836" y="8"/>
                    </a:lnTo>
                    <a:cubicBezTo>
                      <a:pt x="17835" y="8"/>
                      <a:pt x="17834" y="7"/>
                      <a:pt x="17834" y="6"/>
                    </a:cubicBezTo>
                    <a:cubicBezTo>
                      <a:pt x="17834" y="5"/>
                      <a:pt x="17835" y="4"/>
                      <a:pt x="17836" y="4"/>
                    </a:cubicBezTo>
                    <a:close/>
                    <a:moveTo>
                      <a:pt x="17844" y="4"/>
                    </a:moveTo>
                    <a:lnTo>
                      <a:pt x="17844" y="4"/>
                    </a:lnTo>
                    <a:cubicBezTo>
                      <a:pt x="17845" y="4"/>
                      <a:pt x="17846" y="5"/>
                      <a:pt x="17846" y="6"/>
                    </a:cubicBezTo>
                    <a:cubicBezTo>
                      <a:pt x="17846" y="7"/>
                      <a:pt x="17845" y="8"/>
                      <a:pt x="17844" y="8"/>
                    </a:cubicBezTo>
                    <a:lnTo>
                      <a:pt x="17844" y="8"/>
                    </a:lnTo>
                    <a:cubicBezTo>
                      <a:pt x="17843" y="8"/>
                      <a:pt x="17842" y="7"/>
                      <a:pt x="17842" y="6"/>
                    </a:cubicBezTo>
                    <a:cubicBezTo>
                      <a:pt x="17842" y="5"/>
                      <a:pt x="17843" y="4"/>
                      <a:pt x="17844" y="4"/>
                    </a:cubicBezTo>
                    <a:close/>
                    <a:moveTo>
                      <a:pt x="17852" y="4"/>
                    </a:moveTo>
                    <a:lnTo>
                      <a:pt x="17852" y="4"/>
                    </a:lnTo>
                    <a:cubicBezTo>
                      <a:pt x="17853" y="4"/>
                      <a:pt x="17854" y="5"/>
                      <a:pt x="17854" y="6"/>
                    </a:cubicBezTo>
                    <a:cubicBezTo>
                      <a:pt x="17854" y="7"/>
                      <a:pt x="17853" y="8"/>
                      <a:pt x="17852" y="8"/>
                    </a:cubicBezTo>
                    <a:lnTo>
                      <a:pt x="17852" y="8"/>
                    </a:lnTo>
                    <a:cubicBezTo>
                      <a:pt x="17851" y="8"/>
                      <a:pt x="17850" y="7"/>
                      <a:pt x="17850" y="6"/>
                    </a:cubicBezTo>
                    <a:cubicBezTo>
                      <a:pt x="17850" y="5"/>
                      <a:pt x="17851" y="4"/>
                      <a:pt x="17852" y="4"/>
                    </a:cubicBezTo>
                    <a:close/>
                    <a:moveTo>
                      <a:pt x="17860" y="4"/>
                    </a:moveTo>
                    <a:lnTo>
                      <a:pt x="17860" y="4"/>
                    </a:lnTo>
                    <a:cubicBezTo>
                      <a:pt x="17861" y="4"/>
                      <a:pt x="17862" y="5"/>
                      <a:pt x="17862" y="6"/>
                    </a:cubicBezTo>
                    <a:cubicBezTo>
                      <a:pt x="17862" y="7"/>
                      <a:pt x="17861" y="8"/>
                      <a:pt x="17860" y="8"/>
                    </a:cubicBezTo>
                    <a:lnTo>
                      <a:pt x="17860" y="8"/>
                    </a:lnTo>
                    <a:cubicBezTo>
                      <a:pt x="17859" y="8"/>
                      <a:pt x="17858" y="7"/>
                      <a:pt x="17858" y="6"/>
                    </a:cubicBezTo>
                    <a:cubicBezTo>
                      <a:pt x="17858" y="5"/>
                      <a:pt x="17859" y="4"/>
                      <a:pt x="17860" y="4"/>
                    </a:cubicBezTo>
                    <a:close/>
                    <a:moveTo>
                      <a:pt x="17868" y="4"/>
                    </a:moveTo>
                    <a:lnTo>
                      <a:pt x="17868" y="4"/>
                    </a:lnTo>
                    <a:cubicBezTo>
                      <a:pt x="17869" y="4"/>
                      <a:pt x="17870" y="5"/>
                      <a:pt x="17870" y="6"/>
                    </a:cubicBezTo>
                    <a:cubicBezTo>
                      <a:pt x="17870" y="7"/>
                      <a:pt x="17869" y="8"/>
                      <a:pt x="17868" y="8"/>
                    </a:cubicBezTo>
                    <a:lnTo>
                      <a:pt x="17868" y="8"/>
                    </a:lnTo>
                    <a:cubicBezTo>
                      <a:pt x="17867" y="8"/>
                      <a:pt x="17866" y="7"/>
                      <a:pt x="17866" y="6"/>
                    </a:cubicBezTo>
                    <a:cubicBezTo>
                      <a:pt x="17866" y="5"/>
                      <a:pt x="17867" y="4"/>
                      <a:pt x="17868" y="4"/>
                    </a:cubicBezTo>
                    <a:close/>
                    <a:moveTo>
                      <a:pt x="17876" y="4"/>
                    </a:moveTo>
                    <a:lnTo>
                      <a:pt x="17876" y="4"/>
                    </a:lnTo>
                    <a:cubicBezTo>
                      <a:pt x="17877" y="4"/>
                      <a:pt x="17878" y="5"/>
                      <a:pt x="17878" y="6"/>
                    </a:cubicBezTo>
                    <a:cubicBezTo>
                      <a:pt x="17878" y="7"/>
                      <a:pt x="17877" y="8"/>
                      <a:pt x="17876" y="8"/>
                    </a:cubicBezTo>
                    <a:lnTo>
                      <a:pt x="17876" y="8"/>
                    </a:lnTo>
                    <a:cubicBezTo>
                      <a:pt x="17875" y="8"/>
                      <a:pt x="17874" y="7"/>
                      <a:pt x="17874" y="6"/>
                    </a:cubicBezTo>
                    <a:cubicBezTo>
                      <a:pt x="17874" y="5"/>
                      <a:pt x="17875" y="4"/>
                      <a:pt x="17876" y="4"/>
                    </a:cubicBezTo>
                    <a:close/>
                    <a:moveTo>
                      <a:pt x="17884" y="4"/>
                    </a:moveTo>
                    <a:lnTo>
                      <a:pt x="17884" y="4"/>
                    </a:lnTo>
                    <a:cubicBezTo>
                      <a:pt x="17885" y="4"/>
                      <a:pt x="17886" y="5"/>
                      <a:pt x="17886" y="6"/>
                    </a:cubicBezTo>
                    <a:cubicBezTo>
                      <a:pt x="17886" y="7"/>
                      <a:pt x="17885" y="8"/>
                      <a:pt x="17884" y="8"/>
                    </a:cubicBezTo>
                    <a:lnTo>
                      <a:pt x="17884" y="8"/>
                    </a:lnTo>
                    <a:cubicBezTo>
                      <a:pt x="17883" y="8"/>
                      <a:pt x="17882" y="7"/>
                      <a:pt x="17882" y="6"/>
                    </a:cubicBezTo>
                    <a:cubicBezTo>
                      <a:pt x="17882" y="5"/>
                      <a:pt x="17883" y="4"/>
                      <a:pt x="17884" y="4"/>
                    </a:cubicBezTo>
                    <a:close/>
                    <a:moveTo>
                      <a:pt x="17892" y="4"/>
                    </a:moveTo>
                    <a:lnTo>
                      <a:pt x="17892" y="4"/>
                    </a:lnTo>
                    <a:cubicBezTo>
                      <a:pt x="17893" y="4"/>
                      <a:pt x="17894" y="5"/>
                      <a:pt x="17894" y="6"/>
                    </a:cubicBezTo>
                    <a:cubicBezTo>
                      <a:pt x="17894" y="7"/>
                      <a:pt x="17893" y="8"/>
                      <a:pt x="17892" y="8"/>
                    </a:cubicBezTo>
                    <a:lnTo>
                      <a:pt x="17892" y="8"/>
                    </a:lnTo>
                    <a:cubicBezTo>
                      <a:pt x="17891" y="8"/>
                      <a:pt x="17890" y="7"/>
                      <a:pt x="17890" y="6"/>
                    </a:cubicBezTo>
                    <a:cubicBezTo>
                      <a:pt x="17890" y="5"/>
                      <a:pt x="17891" y="4"/>
                      <a:pt x="17892" y="4"/>
                    </a:cubicBezTo>
                    <a:close/>
                    <a:moveTo>
                      <a:pt x="17900" y="4"/>
                    </a:moveTo>
                    <a:lnTo>
                      <a:pt x="17900" y="4"/>
                    </a:lnTo>
                    <a:cubicBezTo>
                      <a:pt x="17901" y="4"/>
                      <a:pt x="17902" y="5"/>
                      <a:pt x="17902" y="6"/>
                    </a:cubicBezTo>
                    <a:cubicBezTo>
                      <a:pt x="17902" y="7"/>
                      <a:pt x="17901" y="8"/>
                      <a:pt x="17900" y="8"/>
                    </a:cubicBezTo>
                    <a:lnTo>
                      <a:pt x="17900" y="8"/>
                    </a:lnTo>
                    <a:cubicBezTo>
                      <a:pt x="17899" y="8"/>
                      <a:pt x="17898" y="7"/>
                      <a:pt x="17898" y="6"/>
                    </a:cubicBezTo>
                    <a:cubicBezTo>
                      <a:pt x="17898" y="5"/>
                      <a:pt x="17899" y="4"/>
                      <a:pt x="17900" y="4"/>
                    </a:cubicBezTo>
                    <a:close/>
                    <a:moveTo>
                      <a:pt x="17908" y="4"/>
                    </a:moveTo>
                    <a:lnTo>
                      <a:pt x="17908" y="4"/>
                    </a:lnTo>
                    <a:cubicBezTo>
                      <a:pt x="17909" y="4"/>
                      <a:pt x="17910" y="5"/>
                      <a:pt x="17910" y="6"/>
                    </a:cubicBezTo>
                    <a:cubicBezTo>
                      <a:pt x="17910" y="7"/>
                      <a:pt x="17909" y="8"/>
                      <a:pt x="17908" y="8"/>
                    </a:cubicBezTo>
                    <a:lnTo>
                      <a:pt x="17908" y="8"/>
                    </a:lnTo>
                    <a:cubicBezTo>
                      <a:pt x="17907" y="8"/>
                      <a:pt x="17906" y="7"/>
                      <a:pt x="17906" y="6"/>
                    </a:cubicBezTo>
                    <a:cubicBezTo>
                      <a:pt x="17906" y="5"/>
                      <a:pt x="17907" y="4"/>
                      <a:pt x="17908" y="4"/>
                    </a:cubicBezTo>
                    <a:close/>
                    <a:moveTo>
                      <a:pt x="17916" y="4"/>
                    </a:moveTo>
                    <a:lnTo>
                      <a:pt x="17916" y="4"/>
                    </a:lnTo>
                    <a:cubicBezTo>
                      <a:pt x="17917" y="4"/>
                      <a:pt x="17918" y="5"/>
                      <a:pt x="17918" y="6"/>
                    </a:cubicBezTo>
                    <a:cubicBezTo>
                      <a:pt x="17918" y="7"/>
                      <a:pt x="17917" y="8"/>
                      <a:pt x="17916" y="8"/>
                    </a:cubicBezTo>
                    <a:lnTo>
                      <a:pt x="17916" y="8"/>
                    </a:lnTo>
                    <a:cubicBezTo>
                      <a:pt x="17915" y="8"/>
                      <a:pt x="17914" y="7"/>
                      <a:pt x="17914" y="6"/>
                    </a:cubicBezTo>
                    <a:cubicBezTo>
                      <a:pt x="17914" y="5"/>
                      <a:pt x="17915" y="4"/>
                      <a:pt x="17916" y="4"/>
                    </a:cubicBezTo>
                    <a:close/>
                    <a:moveTo>
                      <a:pt x="17924" y="4"/>
                    </a:moveTo>
                    <a:lnTo>
                      <a:pt x="17924" y="4"/>
                    </a:lnTo>
                    <a:cubicBezTo>
                      <a:pt x="17925" y="4"/>
                      <a:pt x="17926" y="5"/>
                      <a:pt x="17926" y="6"/>
                    </a:cubicBezTo>
                    <a:cubicBezTo>
                      <a:pt x="17926" y="7"/>
                      <a:pt x="17925" y="8"/>
                      <a:pt x="17924" y="8"/>
                    </a:cubicBezTo>
                    <a:lnTo>
                      <a:pt x="17924" y="8"/>
                    </a:lnTo>
                    <a:cubicBezTo>
                      <a:pt x="17923" y="8"/>
                      <a:pt x="17922" y="7"/>
                      <a:pt x="17922" y="6"/>
                    </a:cubicBezTo>
                    <a:cubicBezTo>
                      <a:pt x="17922" y="5"/>
                      <a:pt x="17923" y="4"/>
                      <a:pt x="17924" y="4"/>
                    </a:cubicBezTo>
                    <a:close/>
                    <a:moveTo>
                      <a:pt x="17932" y="4"/>
                    </a:moveTo>
                    <a:lnTo>
                      <a:pt x="17932" y="4"/>
                    </a:lnTo>
                    <a:cubicBezTo>
                      <a:pt x="17933" y="4"/>
                      <a:pt x="17934" y="5"/>
                      <a:pt x="17934" y="6"/>
                    </a:cubicBezTo>
                    <a:cubicBezTo>
                      <a:pt x="17934" y="7"/>
                      <a:pt x="17933" y="8"/>
                      <a:pt x="17932" y="8"/>
                    </a:cubicBezTo>
                    <a:lnTo>
                      <a:pt x="17932" y="8"/>
                    </a:lnTo>
                    <a:cubicBezTo>
                      <a:pt x="17931" y="8"/>
                      <a:pt x="17930" y="7"/>
                      <a:pt x="17930" y="6"/>
                    </a:cubicBezTo>
                    <a:cubicBezTo>
                      <a:pt x="17930" y="5"/>
                      <a:pt x="17931" y="4"/>
                      <a:pt x="17932" y="4"/>
                    </a:cubicBezTo>
                    <a:close/>
                    <a:moveTo>
                      <a:pt x="17940" y="4"/>
                    </a:moveTo>
                    <a:lnTo>
                      <a:pt x="17940" y="4"/>
                    </a:lnTo>
                    <a:cubicBezTo>
                      <a:pt x="17941" y="4"/>
                      <a:pt x="17942" y="5"/>
                      <a:pt x="17942" y="6"/>
                    </a:cubicBezTo>
                    <a:cubicBezTo>
                      <a:pt x="17942" y="7"/>
                      <a:pt x="17941" y="8"/>
                      <a:pt x="17940" y="8"/>
                    </a:cubicBezTo>
                    <a:lnTo>
                      <a:pt x="17940" y="8"/>
                    </a:lnTo>
                    <a:cubicBezTo>
                      <a:pt x="17939" y="8"/>
                      <a:pt x="17938" y="7"/>
                      <a:pt x="17938" y="6"/>
                    </a:cubicBezTo>
                    <a:cubicBezTo>
                      <a:pt x="17938" y="5"/>
                      <a:pt x="17939" y="4"/>
                      <a:pt x="17940" y="4"/>
                    </a:cubicBezTo>
                    <a:close/>
                    <a:moveTo>
                      <a:pt x="17948" y="4"/>
                    </a:moveTo>
                    <a:lnTo>
                      <a:pt x="17948" y="4"/>
                    </a:lnTo>
                    <a:cubicBezTo>
                      <a:pt x="17949" y="4"/>
                      <a:pt x="17950" y="5"/>
                      <a:pt x="17950" y="6"/>
                    </a:cubicBezTo>
                    <a:cubicBezTo>
                      <a:pt x="17950" y="7"/>
                      <a:pt x="17949" y="8"/>
                      <a:pt x="17948" y="8"/>
                    </a:cubicBezTo>
                    <a:lnTo>
                      <a:pt x="17948" y="8"/>
                    </a:lnTo>
                    <a:cubicBezTo>
                      <a:pt x="17947" y="8"/>
                      <a:pt x="17946" y="7"/>
                      <a:pt x="17946" y="6"/>
                    </a:cubicBezTo>
                    <a:cubicBezTo>
                      <a:pt x="17946" y="5"/>
                      <a:pt x="17947" y="4"/>
                      <a:pt x="17948" y="4"/>
                    </a:cubicBezTo>
                    <a:close/>
                    <a:moveTo>
                      <a:pt x="17956" y="4"/>
                    </a:moveTo>
                    <a:lnTo>
                      <a:pt x="17956" y="4"/>
                    </a:lnTo>
                    <a:cubicBezTo>
                      <a:pt x="17957" y="4"/>
                      <a:pt x="17958" y="5"/>
                      <a:pt x="17958" y="6"/>
                    </a:cubicBezTo>
                    <a:cubicBezTo>
                      <a:pt x="17958" y="7"/>
                      <a:pt x="17957" y="8"/>
                      <a:pt x="17956" y="8"/>
                    </a:cubicBezTo>
                    <a:lnTo>
                      <a:pt x="17956" y="8"/>
                    </a:lnTo>
                    <a:cubicBezTo>
                      <a:pt x="17955" y="8"/>
                      <a:pt x="17954" y="7"/>
                      <a:pt x="17954" y="6"/>
                    </a:cubicBezTo>
                    <a:cubicBezTo>
                      <a:pt x="17954" y="5"/>
                      <a:pt x="17955" y="4"/>
                      <a:pt x="17956" y="4"/>
                    </a:cubicBezTo>
                    <a:close/>
                    <a:moveTo>
                      <a:pt x="17964" y="4"/>
                    </a:moveTo>
                    <a:lnTo>
                      <a:pt x="17964" y="4"/>
                    </a:lnTo>
                    <a:cubicBezTo>
                      <a:pt x="17965" y="4"/>
                      <a:pt x="17966" y="5"/>
                      <a:pt x="17966" y="6"/>
                    </a:cubicBezTo>
                    <a:cubicBezTo>
                      <a:pt x="17966" y="7"/>
                      <a:pt x="17965" y="8"/>
                      <a:pt x="17964" y="8"/>
                    </a:cubicBezTo>
                    <a:lnTo>
                      <a:pt x="17964" y="8"/>
                    </a:lnTo>
                    <a:cubicBezTo>
                      <a:pt x="17963" y="8"/>
                      <a:pt x="17962" y="7"/>
                      <a:pt x="17962" y="6"/>
                    </a:cubicBezTo>
                    <a:cubicBezTo>
                      <a:pt x="17962" y="5"/>
                      <a:pt x="17963" y="4"/>
                      <a:pt x="17964" y="4"/>
                    </a:cubicBezTo>
                    <a:close/>
                    <a:moveTo>
                      <a:pt x="17972" y="4"/>
                    </a:moveTo>
                    <a:lnTo>
                      <a:pt x="17972" y="4"/>
                    </a:lnTo>
                    <a:cubicBezTo>
                      <a:pt x="17973" y="4"/>
                      <a:pt x="17974" y="5"/>
                      <a:pt x="17974" y="6"/>
                    </a:cubicBezTo>
                    <a:cubicBezTo>
                      <a:pt x="17974" y="7"/>
                      <a:pt x="17973" y="8"/>
                      <a:pt x="17972" y="8"/>
                    </a:cubicBezTo>
                    <a:lnTo>
                      <a:pt x="17972" y="8"/>
                    </a:lnTo>
                    <a:cubicBezTo>
                      <a:pt x="17971" y="8"/>
                      <a:pt x="17970" y="7"/>
                      <a:pt x="17970" y="6"/>
                    </a:cubicBezTo>
                    <a:cubicBezTo>
                      <a:pt x="17970" y="5"/>
                      <a:pt x="17971" y="4"/>
                      <a:pt x="17972" y="4"/>
                    </a:cubicBezTo>
                    <a:close/>
                    <a:moveTo>
                      <a:pt x="17980" y="4"/>
                    </a:moveTo>
                    <a:lnTo>
                      <a:pt x="17980" y="4"/>
                    </a:lnTo>
                    <a:cubicBezTo>
                      <a:pt x="17981" y="4"/>
                      <a:pt x="17982" y="5"/>
                      <a:pt x="17982" y="6"/>
                    </a:cubicBezTo>
                    <a:cubicBezTo>
                      <a:pt x="17982" y="7"/>
                      <a:pt x="17981" y="8"/>
                      <a:pt x="17980" y="8"/>
                    </a:cubicBezTo>
                    <a:lnTo>
                      <a:pt x="17980" y="8"/>
                    </a:lnTo>
                    <a:cubicBezTo>
                      <a:pt x="17979" y="8"/>
                      <a:pt x="17978" y="7"/>
                      <a:pt x="17978" y="6"/>
                    </a:cubicBezTo>
                    <a:cubicBezTo>
                      <a:pt x="17978" y="5"/>
                      <a:pt x="17979" y="4"/>
                      <a:pt x="17980" y="4"/>
                    </a:cubicBezTo>
                    <a:close/>
                    <a:moveTo>
                      <a:pt x="17988" y="4"/>
                    </a:moveTo>
                    <a:lnTo>
                      <a:pt x="17988" y="4"/>
                    </a:lnTo>
                    <a:cubicBezTo>
                      <a:pt x="17989" y="4"/>
                      <a:pt x="17990" y="5"/>
                      <a:pt x="17990" y="6"/>
                    </a:cubicBezTo>
                    <a:cubicBezTo>
                      <a:pt x="17990" y="7"/>
                      <a:pt x="17989" y="8"/>
                      <a:pt x="17988" y="8"/>
                    </a:cubicBezTo>
                    <a:lnTo>
                      <a:pt x="17988" y="8"/>
                    </a:lnTo>
                    <a:cubicBezTo>
                      <a:pt x="17987" y="8"/>
                      <a:pt x="17986" y="7"/>
                      <a:pt x="17986" y="6"/>
                    </a:cubicBezTo>
                    <a:cubicBezTo>
                      <a:pt x="17986" y="5"/>
                      <a:pt x="17987" y="4"/>
                      <a:pt x="17988" y="4"/>
                    </a:cubicBezTo>
                    <a:close/>
                    <a:moveTo>
                      <a:pt x="17996" y="4"/>
                    </a:moveTo>
                    <a:lnTo>
                      <a:pt x="17996" y="4"/>
                    </a:lnTo>
                    <a:cubicBezTo>
                      <a:pt x="17997" y="4"/>
                      <a:pt x="17998" y="5"/>
                      <a:pt x="17998" y="6"/>
                    </a:cubicBezTo>
                    <a:cubicBezTo>
                      <a:pt x="17998" y="7"/>
                      <a:pt x="17997" y="8"/>
                      <a:pt x="17996" y="8"/>
                    </a:cubicBezTo>
                    <a:lnTo>
                      <a:pt x="17996" y="8"/>
                    </a:lnTo>
                    <a:cubicBezTo>
                      <a:pt x="17995" y="8"/>
                      <a:pt x="17994" y="7"/>
                      <a:pt x="17994" y="6"/>
                    </a:cubicBezTo>
                    <a:cubicBezTo>
                      <a:pt x="17994" y="5"/>
                      <a:pt x="17995" y="4"/>
                      <a:pt x="17996" y="4"/>
                    </a:cubicBezTo>
                    <a:close/>
                    <a:moveTo>
                      <a:pt x="18004" y="4"/>
                    </a:moveTo>
                    <a:lnTo>
                      <a:pt x="18004" y="4"/>
                    </a:lnTo>
                    <a:cubicBezTo>
                      <a:pt x="18005" y="4"/>
                      <a:pt x="18006" y="5"/>
                      <a:pt x="18006" y="6"/>
                    </a:cubicBezTo>
                    <a:cubicBezTo>
                      <a:pt x="18006" y="7"/>
                      <a:pt x="18005" y="8"/>
                      <a:pt x="18004" y="8"/>
                    </a:cubicBezTo>
                    <a:lnTo>
                      <a:pt x="18004" y="8"/>
                    </a:lnTo>
                    <a:cubicBezTo>
                      <a:pt x="18003" y="8"/>
                      <a:pt x="18002" y="7"/>
                      <a:pt x="18002" y="6"/>
                    </a:cubicBezTo>
                    <a:cubicBezTo>
                      <a:pt x="18002" y="5"/>
                      <a:pt x="18003" y="4"/>
                      <a:pt x="18004" y="4"/>
                    </a:cubicBezTo>
                    <a:close/>
                    <a:moveTo>
                      <a:pt x="18012" y="4"/>
                    </a:moveTo>
                    <a:lnTo>
                      <a:pt x="18012" y="4"/>
                    </a:lnTo>
                    <a:cubicBezTo>
                      <a:pt x="18013" y="4"/>
                      <a:pt x="18014" y="5"/>
                      <a:pt x="18014" y="6"/>
                    </a:cubicBezTo>
                    <a:cubicBezTo>
                      <a:pt x="18014" y="7"/>
                      <a:pt x="18013" y="8"/>
                      <a:pt x="18012" y="8"/>
                    </a:cubicBezTo>
                    <a:lnTo>
                      <a:pt x="18012" y="8"/>
                    </a:lnTo>
                    <a:cubicBezTo>
                      <a:pt x="18011" y="8"/>
                      <a:pt x="18010" y="7"/>
                      <a:pt x="18010" y="6"/>
                    </a:cubicBezTo>
                    <a:cubicBezTo>
                      <a:pt x="18010" y="5"/>
                      <a:pt x="18011" y="4"/>
                      <a:pt x="18012" y="4"/>
                    </a:cubicBezTo>
                    <a:close/>
                    <a:moveTo>
                      <a:pt x="18020" y="4"/>
                    </a:moveTo>
                    <a:lnTo>
                      <a:pt x="18020" y="4"/>
                    </a:lnTo>
                    <a:cubicBezTo>
                      <a:pt x="18021" y="4"/>
                      <a:pt x="18022" y="5"/>
                      <a:pt x="18022" y="6"/>
                    </a:cubicBezTo>
                    <a:cubicBezTo>
                      <a:pt x="18022" y="7"/>
                      <a:pt x="18021" y="8"/>
                      <a:pt x="18020" y="8"/>
                    </a:cubicBezTo>
                    <a:lnTo>
                      <a:pt x="18020" y="8"/>
                    </a:lnTo>
                    <a:cubicBezTo>
                      <a:pt x="18019" y="8"/>
                      <a:pt x="18018" y="7"/>
                      <a:pt x="18018" y="6"/>
                    </a:cubicBezTo>
                    <a:cubicBezTo>
                      <a:pt x="18018" y="5"/>
                      <a:pt x="18019" y="4"/>
                      <a:pt x="18020" y="4"/>
                    </a:cubicBezTo>
                    <a:close/>
                    <a:moveTo>
                      <a:pt x="18028" y="4"/>
                    </a:moveTo>
                    <a:lnTo>
                      <a:pt x="18028" y="4"/>
                    </a:lnTo>
                    <a:cubicBezTo>
                      <a:pt x="18029" y="4"/>
                      <a:pt x="18030" y="5"/>
                      <a:pt x="18030" y="6"/>
                    </a:cubicBezTo>
                    <a:cubicBezTo>
                      <a:pt x="18030" y="7"/>
                      <a:pt x="18029" y="8"/>
                      <a:pt x="18028" y="8"/>
                    </a:cubicBezTo>
                    <a:lnTo>
                      <a:pt x="18028" y="8"/>
                    </a:lnTo>
                    <a:cubicBezTo>
                      <a:pt x="18027" y="8"/>
                      <a:pt x="18026" y="7"/>
                      <a:pt x="18026" y="6"/>
                    </a:cubicBezTo>
                    <a:cubicBezTo>
                      <a:pt x="18026" y="5"/>
                      <a:pt x="18027" y="4"/>
                      <a:pt x="18028" y="4"/>
                    </a:cubicBezTo>
                    <a:close/>
                    <a:moveTo>
                      <a:pt x="18036" y="4"/>
                    </a:moveTo>
                    <a:lnTo>
                      <a:pt x="18036" y="4"/>
                    </a:lnTo>
                    <a:cubicBezTo>
                      <a:pt x="18037" y="4"/>
                      <a:pt x="18038" y="5"/>
                      <a:pt x="18038" y="6"/>
                    </a:cubicBezTo>
                    <a:cubicBezTo>
                      <a:pt x="18038" y="7"/>
                      <a:pt x="18037" y="8"/>
                      <a:pt x="18036" y="8"/>
                    </a:cubicBezTo>
                    <a:lnTo>
                      <a:pt x="18036" y="8"/>
                    </a:lnTo>
                    <a:cubicBezTo>
                      <a:pt x="18035" y="8"/>
                      <a:pt x="18034" y="7"/>
                      <a:pt x="18034" y="6"/>
                    </a:cubicBezTo>
                    <a:cubicBezTo>
                      <a:pt x="18034" y="5"/>
                      <a:pt x="18035" y="4"/>
                      <a:pt x="18036" y="4"/>
                    </a:cubicBezTo>
                    <a:close/>
                    <a:moveTo>
                      <a:pt x="18044" y="4"/>
                    </a:moveTo>
                    <a:lnTo>
                      <a:pt x="18044" y="4"/>
                    </a:lnTo>
                    <a:cubicBezTo>
                      <a:pt x="18045" y="4"/>
                      <a:pt x="18046" y="5"/>
                      <a:pt x="18046" y="6"/>
                    </a:cubicBezTo>
                    <a:cubicBezTo>
                      <a:pt x="18046" y="7"/>
                      <a:pt x="18045" y="8"/>
                      <a:pt x="18044" y="8"/>
                    </a:cubicBezTo>
                    <a:lnTo>
                      <a:pt x="18044" y="8"/>
                    </a:lnTo>
                    <a:cubicBezTo>
                      <a:pt x="18043" y="8"/>
                      <a:pt x="18042" y="7"/>
                      <a:pt x="18042" y="6"/>
                    </a:cubicBezTo>
                    <a:cubicBezTo>
                      <a:pt x="18042" y="5"/>
                      <a:pt x="18043" y="4"/>
                      <a:pt x="18044" y="4"/>
                    </a:cubicBezTo>
                    <a:close/>
                    <a:moveTo>
                      <a:pt x="18052" y="4"/>
                    </a:moveTo>
                    <a:lnTo>
                      <a:pt x="18052" y="4"/>
                    </a:lnTo>
                    <a:cubicBezTo>
                      <a:pt x="18053" y="4"/>
                      <a:pt x="18054" y="5"/>
                      <a:pt x="18054" y="6"/>
                    </a:cubicBezTo>
                    <a:cubicBezTo>
                      <a:pt x="18054" y="7"/>
                      <a:pt x="18053" y="8"/>
                      <a:pt x="18052" y="8"/>
                    </a:cubicBezTo>
                    <a:lnTo>
                      <a:pt x="18052" y="8"/>
                    </a:lnTo>
                    <a:cubicBezTo>
                      <a:pt x="18051" y="8"/>
                      <a:pt x="18050" y="7"/>
                      <a:pt x="18050" y="6"/>
                    </a:cubicBezTo>
                    <a:cubicBezTo>
                      <a:pt x="18050" y="5"/>
                      <a:pt x="18051" y="4"/>
                      <a:pt x="18052" y="4"/>
                    </a:cubicBezTo>
                    <a:close/>
                    <a:moveTo>
                      <a:pt x="18060" y="4"/>
                    </a:moveTo>
                    <a:lnTo>
                      <a:pt x="18060" y="4"/>
                    </a:lnTo>
                    <a:cubicBezTo>
                      <a:pt x="18061" y="4"/>
                      <a:pt x="18062" y="5"/>
                      <a:pt x="18062" y="6"/>
                    </a:cubicBezTo>
                    <a:cubicBezTo>
                      <a:pt x="18062" y="7"/>
                      <a:pt x="18061" y="8"/>
                      <a:pt x="18060" y="8"/>
                    </a:cubicBezTo>
                    <a:lnTo>
                      <a:pt x="18060" y="8"/>
                    </a:lnTo>
                    <a:cubicBezTo>
                      <a:pt x="18059" y="8"/>
                      <a:pt x="18058" y="7"/>
                      <a:pt x="18058" y="6"/>
                    </a:cubicBezTo>
                    <a:cubicBezTo>
                      <a:pt x="18058" y="5"/>
                      <a:pt x="18059" y="4"/>
                      <a:pt x="18060" y="4"/>
                    </a:cubicBezTo>
                    <a:close/>
                    <a:moveTo>
                      <a:pt x="18068" y="4"/>
                    </a:moveTo>
                    <a:lnTo>
                      <a:pt x="18068" y="4"/>
                    </a:lnTo>
                    <a:cubicBezTo>
                      <a:pt x="18069" y="4"/>
                      <a:pt x="18070" y="5"/>
                      <a:pt x="18070" y="6"/>
                    </a:cubicBezTo>
                    <a:cubicBezTo>
                      <a:pt x="18070" y="7"/>
                      <a:pt x="18069" y="8"/>
                      <a:pt x="18068" y="8"/>
                    </a:cubicBezTo>
                    <a:lnTo>
                      <a:pt x="18068" y="8"/>
                    </a:lnTo>
                    <a:cubicBezTo>
                      <a:pt x="18067" y="8"/>
                      <a:pt x="18066" y="7"/>
                      <a:pt x="18066" y="6"/>
                    </a:cubicBezTo>
                    <a:cubicBezTo>
                      <a:pt x="18066" y="5"/>
                      <a:pt x="18067" y="4"/>
                      <a:pt x="18068" y="4"/>
                    </a:cubicBezTo>
                    <a:close/>
                    <a:moveTo>
                      <a:pt x="18076" y="4"/>
                    </a:moveTo>
                    <a:lnTo>
                      <a:pt x="18076" y="4"/>
                    </a:lnTo>
                    <a:cubicBezTo>
                      <a:pt x="18077" y="4"/>
                      <a:pt x="18078" y="5"/>
                      <a:pt x="18078" y="6"/>
                    </a:cubicBezTo>
                    <a:cubicBezTo>
                      <a:pt x="18078" y="7"/>
                      <a:pt x="18077" y="8"/>
                      <a:pt x="18076" y="8"/>
                    </a:cubicBezTo>
                    <a:lnTo>
                      <a:pt x="18076" y="8"/>
                    </a:lnTo>
                    <a:cubicBezTo>
                      <a:pt x="18075" y="8"/>
                      <a:pt x="18074" y="7"/>
                      <a:pt x="18074" y="6"/>
                    </a:cubicBezTo>
                    <a:cubicBezTo>
                      <a:pt x="18074" y="5"/>
                      <a:pt x="18075" y="4"/>
                      <a:pt x="18076" y="4"/>
                    </a:cubicBezTo>
                    <a:close/>
                    <a:moveTo>
                      <a:pt x="18084" y="4"/>
                    </a:moveTo>
                    <a:lnTo>
                      <a:pt x="18084" y="4"/>
                    </a:lnTo>
                    <a:cubicBezTo>
                      <a:pt x="18085" y="4"/>
                      <a:pt x="18086" y="5"/>
                      <a:pt x="18086" y="6"/>
                    </a:cubicBezTo>
                    <a:cubicBezTo>
                      <a:pt x="18086" y="7"/>
                      <a:pt x="18085" y="8"/>
                      <a:pt x="18084" y="8"/>
                    </a:cubicBezTo>
                    <a:lnTo>
                      <a:pt x="18084" y="8"/>
                    </a:lnTo>
                    <a:cubicBezTo>
                      <a:pt x="18083" y="8"/>
                      <a:pt x="18082" y="7"/>
                      <a:pt x="18082" y="6"/>
                    </a:cubicBezTo>
                    <a:cubicBezTo>
                      <a:pt x="18082" y="5"/>
                      <a:pt x="18083" y="4"/>
                      <a:pt x="18084" y="4"/>
                    </a:cubicBezTo>
                    <a:close/>
                    <a:moveTo>
                      <a:pt x="18092" y="4"/>
                    </a:moveTo>
                    <a:lnTo>
                      <a:pt x="18092" y="4"/>
                    </a:lnTo>
                    <a:cubicBezTo>
                      <a:pt x="18093" y="4"/>
                      <a:pt x="18094" y="5"/>
                      <a:pt x="18094" y="6"/>
                    </a:cubicBezTo>
                    <a:cubicBezTo>
                      <a:pt x="18094" y="7"/>
                      <a:pt x="18093" y="8"/>
                      <a:pt x="18092" y="8"/>
                    </a:cubicBezTo>
                    <a:lnTo>
                      <a:pt x="18092" y="8"/>
                    </a:lnTo>
                    <a:cubicBezTo>
                      <a:pt x="18091" y="8"/>
                      <a:pt x="18090" y="7"/>
                      <a:pt x="18090" y="6"/>
                    </a:cubicBezTo>
                    <a:cubicBezTo>
                      <a:pt x="18090" y="5"/>
                      <a:pt x="18091" y="4"/>
                      <a:pt x="18092" y="4"/>
                    </a:cubicBezTo>
                    <a:close/>
                    <a:moveTo>
                      <a:pt x="18100" y="4"/>
                    </a:moveTo>
                    <a:lnTo>
                      <a:pt x="18100" y="4"/>
                    </a:lnTo>
                    <a:cubicBezTo>
                      <a:pt x="18101" y="4"/>
                      <a:pt x="18102" y="5"/>
                      <a:pt x="18102" y="6"/>
                    </a:cubicBezTo>
                    <a:cubicBezTo>
                      <a:pt x="18102" y="7"/>
                      <a:pt x="18101" y="8"/>
                      <a:pt x="18100" y="8"/>
                    </a:cubicBezTo>
                    <a:lnTo>
                      <a:pt x="18100" y="8"/>
                    </a:lnTo>
                    <a:cubicBezTo>
                      <a:pt x="18099" y="8"/>
                      <a:pt x="18098" y="7"/>
                      <a:pt x="18098" y="6"/>
                    </a:cubicBezTo>
                    <a:cubicBezTo>
                      <a:pt x="18098" y="5"/>
                      <a:pt x="18099" y="4"/>
                      <a:pt x="18100" y="4"/>
                    </a:cubicBezTo>
                    <a:close/>
                    <a:moveTo>
                      <a:pt x="18108" y="4"/>
                    </a:moveTo>
                    <a:lnTo>
                      <a:pt x="18108" y="4"/>
                    </a:lnTo>
                    <a:cubicBezTo>
                      <a:pt x="18109" y="4"/>
                      <a:pt x="18110" y="5"/>
                      <a:pt x="18110" y="6"/>
                    </a:cubicBezTo>
                    <a:cubicBezTo>
                      <a:pt x="18110" y="7"/>
                      <a:pt x="18109" y="8"/>
                      <a:pt x="18108" y="8"/>
                    </a:cubicBezTo>
                    <a:lnTo>
                      <a:pt x="18108" y="8"/>
                    </a:lnTo>
                    <a:cubicBezTo>
                      <a:pt x="18107" y="8"/>
                      <a:pt x="18106" y="7"/>
                      <a:pt x="18106" y="6"/>
                    </a:cubicBezTo>
                    <a:cubicBezTo>
                      <a:pt x="18106" y="5"/>
                      <a:pt x="18107" y="4"/>
                      <a:pt x="18108" y="4"/>
                    </a:cubicBezTo>
                    <a:close/>
                    <a:moveTo>
                      <a:pt x="18116" y="4"/>
                    </a:moveTo>
                    <a:lnTo>
                      <a:pt x="18116" y="4"/>
                    </a:lnTo>
                    <a:cubicBezTo>
                      <a:pt x="18117" y="4"/>
                      <a:pt x="18118" y="5"/>
                      <a:pt x="18118" y="6"/>
                    </a:cubicBezTo>
                    <a:cubicBezTo>
                      <a:pt x="18118" y="7"/>
                      <a:pt x="18117" y="8"/>
                      <a:pt x="18116" y="8"/>
                    </a:cubicBezTo>
                    <a:lnTo>
                      <a:pt x="18116" y="8"/>
                    </a:lnTo>
                    <a:cubicBezTo>
                      <a:pt x="18115" y="8"/>
                      <a:pt x="18114" y="7"/>
                      <a:pt x="18114" y="6"/>
                    </a:cubicBezTo>
                    <a:cubicBezTo>
                      <a:pt x="18114" y="5"/>
                      <a:pt x="18115" y="4"/>
                      <a:pt x="18116" y="4"/>
                    </a:cubicBezTo>
                    <a:close/>
                    <a:moveTo>
                      <a:pt x="18124" y="4"/>
                    </a:moveTo>
                    <a:lnTo>
                      <a:pt x="18124" y="4"/>
                    </a:lnTo>
                    <a:cubicBezTo>
                      <a:pt x="18125" y="4"/>
                      <a:pt x="18126" y="5"/>
                      <a:pt x="18126" y="6"/>
                    </a:cubicBezTo>
                    <a:cubicBezTo>
                      <a:pt x="18126" y="7"/>
                      <a:pt x="18125" y="8"/>
                      <a:pt x="18124" y="8"/>
                    </a:cubicBezTo>
                    <a:lnTo>
                      <a:pt x="18124" y="8"/>
                    </a:lnTo>
                    <a:cubicBezTo>
                      <a:pt x="18123" y="8"/>
                      <a:pt x="18122" y="7"/>
                      <a:pt x="18122" y="6"/>
                    </a:cubicBezTo>
                    <a:cubicBezTo>
                      <a:pt x="18122" y="5"/>
                      <a:pt x="18123" y="4"/>
                      <a:pt x="18124" y="4"/>
                    </a:cubicBezTo>
                    <a:close/>
                    <a:moveTo>
                      <a:pt x="18132" y="4"/>
                    </a:moveTo>
                    <a:lnTo>
                      <a:pt x="18132" y="4"/>
                    </a:lnTo>
                    <a:cubicBezTo>
                      <a:pt x="18133" y="4"/>
                      <a:pt x="18134" y="5"/>
                      <a:pt x="18134" y="6"/>
                    </a:cubicBezTo>
                    <a:cubicBezTo>
                      <a:pt x="18134" y="7"/>
                      <a:pt x="18133" y="8"/>
                      <a:pt x="18132" y="8"/>
                    </a:cubicBezTo>
                    <a:lnTo>
                      <a:pt x="18132" y="8"/>
                    </a:lnTo>
                    <a:cubicBezTo>
                      <a:pt x="18131" y="8"/>
                      <a:pt x="18130" y="7"/>
                      <a:pt x="18130" y="6"/>
                    </a:cubicBezTo>
                    <a:cubicBezTo>
                      <a:pt x="18130" y="5"/>
                      <a:pt x="18131" y="4"/>
                      <a:pt x="18132" y="4"/>
                    </a:cubicBezTo>
                    <a:close/>
                    <a:moveTo>
                      <a:pt x="18140" y="4"/>
                    </a:moveTo>
                    <a:lnTo>
                      <a:pt x="18140" y="4"/>
                    </a:lnTo>
                    <a:cubicBezTo>
                      <a:pt x="18141" y="4"/>
                      <a:pt x="18142" y="5"/>
                      <a:pt x="18142" y="6"/>
                    </a:cubicBezTo>
                    <a:cubicBezTo>
                      <a:pt x="18142" y="7"/>
                      <a:pt x="18141" y="8"/>
                      <a:pt x="18140" y="8"/>
                    </a:cubicBezTo>
                    <a:lnTo>
                      <a:pt x="18140" y="8"/>
                    </a:lnTo>
                    <a:cubicBezTo>
                      <a:pt x="18139" y="8"/>
                      <a:pt x="18138" y="7"/>
                      <a:pt x="18138" y="6"/>
                    </a:cubicBezTo>
                    <a:cubicBezTo>
                      <a:pt x="18138" y="5"/>
                      <a:pt x="18139" y="4"/>
                      <a:pt x="18140" y="4"/>
                    </a:cubicBezTo>
                    <a:close/>
                    <a:moveTo>
                      <a:pt x="18148" y="4"/>
                    </a:moveTo>
                    <a:lnTo>
                      <a:pt x="18148" y="4"/>
                    </a:lnTo>
                    <a:cubicBezTo>
                      <a:pt x="18149" y="4"/>
                      <a:pt x="18150" y="5"/>
                      <a:pt x="18150" y="6"/>
                    </a:cubicBezTo>
                    <a:cubicBezTo>
                      <a:pt x="18150" y="7"/>
                      <a:pt x="18149" y="8"/>
                      <a:pt x="18148" y="8"/>
                    </a:cubicBezTo>
                    <a:lnTo>
                      <a:pt x="18148" y="8"/>
                    </a:lnTo>
                    <a:cubicBezTo>
                      <a:pt x="18147" y="8"/>
                      <a:pt x="18146" y="7"/>
                      <a:pt x="18146" y="6"/>
                    </a:cubicBezTo>
                    <a:cubicBezTo>
                      <a:pt x="18146" y="5"/>
                      <a:pt x="18147" y="4"/>
                      <a:pt x="18148" y="4"/>
                    </a:cubicBezTo>
                    <a:close/>
                    <a:moveTo>
                      <a:pt x="18156" y="4"/>
                    </a:moveTo>
                    <a:lnTo>
                      <a:pt x="18156" y="4"/>
                    </a:lnTo>
                    <a:cubicBezTo>
                      <a:pt x="18157" y="4"/>
                      <a:pt x="18158" y="5"/>
                      <a:pt x="18158" y="6"/>
                    </a:cubicBezTo>
                    <a:cubicBezTo>
                      <a:pt x="18158" y="7"/>
                      <a:pt x="18157" y="8"/>
                      <a:pt x="18156" y="8"/>
                    </a:cubicBezTo>
                    <a:lnTo>
                      <a:pt x="18156" y="8"/>
                    </a:lnTo>
                    <a:cubicBezTo>
                      <a:pt x="18155" y="8"/>
                      <a:pt x="18154" y="7"/>
                      <a:pt x="18154" y="6"/>
                    </a:cubicBezTo>
                    <a:cubicBezTo>
                      <a:pt x="18154" y="5"/>
                      <a:pt x="18155" y="4"/>
                      <a:pt x="18156" y="4"/>
                    </a:cubicBezTo>
                    <a:close/>
                    <a:moveTo>
                      <a:pt x="18164" y="4"/>
                    </a:moveTo>
                    <a:lnTo>
                      <a:pt x="18164" y="4"/>
                    </a:lnTo>
                    <a:cubicBezTo>
                      <a:pt x="18165" y="4"/>
                      <a:pt x="18166" y="5"/>
                      <a:pt x="18166" y="6"/>
                    </a:cubicBezTo>
                    <a:cubicBezTo>
                      <a:pt x="18166" y="7"/>
                      <a:pt x="18165" y="8"/>
                      <a:pt x="18164" y="8"/>
                    </a:cubicBezTo>
                    <a:lnTo>
                      <a:pt x="18164" y="8"/>
                    </a:lnTo>
                    <a:cubicBezTo>
                      <a:pt x="18163" y="8"/>
                      <a:pt x="18162" y="7"/>
                      <a:pt x="18162" y="6"/>
                    </a:cubicBezTo>
                    <a:cubicBezTo>
                      <a:pt x="18162" y="5"/>
                      <a:pt x="18163" y="4"/>
                      <a:pt x="18164" y="4"/>
                    </a:cubicBezTo>
                    <a:close/>
                    <a:moveTo>
                      <a:pt x="18172" y="4"/>
                    </a:moveTo>
                    <a:lnTo>
                      <a:pt x="18172" y="4"/>
                    </a:lnTo>
                    <a:cubicBezTo>
                      <a:pt x="18173" y="4"/>
                      <a:pt x="18174" y="5"/>
                      <a:pt x="18174" y="6"/>
                    </a:cubicBezTo>
                    <a:cubicBezTo>
                      <a:pt x="18174" y="7"/>
                      <a:pt x="18173" y="8"/>
                      <a:pt x="18172" y="8"/>
                    </a:cubicBezTo>
                    <a:lnTo>
                      <a:pt x="18172" y="8"/>
                    </a:lnTo>
                    <a:cubicBezTo>
                      <a:pt x="18171" y="8"/>
                      <a:pt x="18170" y="7"/>
                      <a:pt x="18170" y="6"/>
                    </a:cubicBezTo>
                    <a:cubicBezTo>
                      <a:pt x="18170" y="5"/>
                      <a:pt x="18171" y="4"/>
                      <a:pt x="18172" y="4"/>
                    </a:cubicBezTo>
                    <a:close/>
                    <a:moveTo>
                      <a:pt x="18180" y="4"/>
                    </a:moveTo>
                    <a:lnTo>
                      <a:pt x="18180" y="4"/>
                    </a:lnTo>
                    <a:cubicBezTo>
                      <a:pt x="18181" y="4"/>
                      <a:pt x="18182" y="5"/>
                      <a:pt x="18182" y="6"/>
                    </a:cubicBezTo>
                    <a:cubicBezTo>
                      <a:pt x="18182" y="7"/>
                      <a:pt x="18181" y="8"/>
                      <a:pt x="18180" y="8"/>
                    </a:cubicBezTo>
                    <a:lnTo>
                      <a:pt x="18180" y="8"/>
                    </a:lnTo>
                    <a:cubicBezTo>
                      <a:pt x="18179" y="8"/>
                      <a:pt x="18178" y="7"/>
                      <a:pt x="18178" y="6"/>
                    </a:cubicBezTo>
                    <a:cubicBezTo>
                      <a:pt x="18178" y="5"/>
                      <a:pt x="18179" y="4"/>
                      <a:pt x="18180" y="4"/>
                    </a:cubicBezTo>
                    <a:close/>
                    <a:moveTo>
                      <a:pt x="18188" y="4"/>
                    </a:moveTo>
                    <a:lnTo>
                      <a:pt x="18188" y="4"/>
                    </a:lnTo>
                    <a:cubicBezTo>
                      <a:pt x="18189" y="4"/>
                      <a:pt x="18190" y="5"/>
                      <a:pt x="18190" y="6"/>
                    </a:cubicBezTo>
                    <a:cubicBezTo>
                      <a:pt x="18190" y="7"/>
                      <a:pt x="18189" y="8"/>
                      <a:pt x="18188" y="8"/>
                    </a:cubicBezTo>
                    <a:lnTo>
                      <a:pt x="18188" y="8"/>
                    </a:lnTo>
                    <a:cubicBezTo>
                      <a:pt x="18187" y="8"/>
                      <a:pt x="18186" y="7"/>
                      <a:pt x="18186" y="6"/>
                    </a:cubicBezTo>
                    <a:cubicBezTo>
                      <a:pt x="18186" y="5"/>
                      <a:pt x="18187" y="4"/>
                      <a:pt x="18188" y="4"/>
                    </a:cubicBezTo>
                    <a:close/>
                    <a:moveTo>
                      <a:pt x="18196" y="4"/>
                    </a:moveTo>
                    <a:lnTo>
                      <a:pt x="18196" y="4"/>
                    </a:lnTo>
                    <a:cubicBezTo>
                      <a:pt x="18197" y="4"/>
                      <a:pt x="18198" y="5"/>
                      <a:pt x="18198" y="6"/>
                    </a:cubicBezTo>
                    <a:cubicBezTo>
                      <a:pt x="18198" y="7"/>
                      <a:pt x="18197" y="8"/>
                      <a:pt x="18196" y="8"/>
                    </a:cubicBezTo>
                    <a:lnTo>
                      <a:pt x="18196" y="8"/>
                    </a:lnTo>
                    <a:cubicBezTo>
                      <a:pt x="18195" y="8"/>
                      <a:pt x="18194" y="7"/>
                      <a:pt x="18194" y="6"/>
                    </a:cubicBezTo>
                    <a:cubicBezTo>
                      <a:pt x="18194" y="5"/>
                      <a:pt x="18195" y="4"/>
                      <a:pt x="18196" y="4"/>
                    </a:cubicBezTo>
                    <a:close/>
                    <a:moveTo>
                      <a:pt x="18204" y="4"/>
                    </a:moveTo>
                    <a:lnTo>
                      <a:pt x="18204" y="4"/>
                    </a:lnTo>
                    <a:cubicBezTo>
                      <a:pt x="18205" y="4"/>
                      <a:pt x="18206" y="5"/>
                      <a:pt x="18206" y="6"/>
                    </a:cubicBezTo>
                    <a:cubicBezTo>
                      <a:pt x="18206" y="7"/>
                      <a:pt x="18205" y="8"/>
                      <a:pt x="18204" y="8"/>
                    </a:cubicBezTo>
                    <a:lnTo>
                      <a:pt x="18204" y="8"/>
                    </a:lnTo>
                    <a:cubicBezTo>
                      <a:pt x="18203" y="8"/>
                      <a:pt x="18202" y="7"/>
                      <a:pt x="18202" y="6"/>
                    </a:cubicBezTo>
                    <a:cubicBezTo>
                      <a:pt x="18202" y="5"/>
                      <a:pt x="18203" y="4"/>
                      <a:pt x="18204" y="4"/>
                    </a:cubicBezTo>
                    <a:close/>
                    <a:moveTo>
                      <a:pt x="18212" y="4"/>
                    </a:moveTo>
                    <a:lnTo>
                      <a:pt x="18212" y="4"/>
                    </a:lnTo>
                    <a:cubicBezTo>
                      <a:pt x="18214" y="4"/>
                      <a:pt x="18214" y="5"/>
                      <a:pt x="18214" y="6"/>
                    </a:cubicBezTo>
                    <a:cubicBezTo>
                      <a:pt x="18214" y="7"/>
                      <a:pt x="18214" y="8"/>
                      <a:pt x="18212" y="8"/>
                    </a:cubicBezTo>
                    <a:lnTo>
                      <a:pt x="18212" y="8"/>
                    </a:lnTo>
                    <a:cubicBezTo>
                      <a:pt x="18211" y="8"/>
                      <a:pt x="18210" y="7"/>
                      <a:pt x="18210" y="6"/>
                    </a:cubicBezTo>
                    <a:cubicBezTo>
                      <a:pt x="18210" y="5"/>
                      <a:pt x="18211" y="4"/>
                      <a:pt x="18212" y="4"/>
                    </a:cubicBezTo>
                    <a:close/>
                    <a:moveTo>
                      <a:pt x="18220" y="4"/>
                    </a:moveTo>
                    <a:lnTo>
                      <a:pt x="18220" y="4"/>
                    </a:lnTo>
                    <a:cubicBezTo>
                      <a:pt x="18222" y="4"/>
                      <a:pt x="18222" y="5"/>
                      <a:pt x="18222" y="6"/>
                    </a:cubicBezTo>
                    <a:cubicBezTo>
                      <a:pt x="18222" y="7"/>
                      <a:pt x="18222" y="8"/>
                      <a:pt x="18220" y="8"/>
                    </a:cubicBezTo>
                    <a:lnTo>
                      <a:pt x="18220" y="8"/>
                    </a:lnTo>
                    <a:cubicBezTo>
                      <a:pt x="18219" y="8"/>
                      <a:pt x="18218" y="7"/>
                      <a:pt x="18218" y="6"/>
                    </a:cubicBezTo>
                    <a:cubicBezTo>
                      <a:pt x="18218" y="5"/>
                      <a:pt x="18219" y="4"/>
                      <a:pt x="18220" y="4"/>
                    </a:cubicBezTo>
                    <a:close/>
                    <a:moveTo>
                      <a:pt x="18228" y="4"/>
                    </a:moveTo>
                    <a:lnTo>
                      <a:pt x="18228" y="4"/>
                    </a:lnTo>
                    <a:cubicBezTo>
                      <a:pt x="18230" y="4"/>
                      <a:pt x="18230" y="5"/>
                      <a:pt x="18230" y="6"/>
                    </a:cubicBezTo>
                    <a:cubicBezTo>
                      <a:pt x="18230" y="7"/>
                      <a:pt x="18230" y="8"/>
                      <a:pt x="18228" y="8"/>
                    </a:cubicBezTo>
                    <a:lnTo>
                      <a:pt x="18228" y="8"/>
                    </a:lnTo>
                    <a:cubicBezTo>
                      <a:pt x="18227" y="8"/>
                      <a:pt x="18226" y="7"/>
                      <a:pt x="18226" y="6"/>
                    </a:cubicBezTo>
                    <a:cubicBezTo>
                      <a:pt x="18226" y="5"/>
                      <a:pt x="18227" y="4"/>
                      <a:pt x="18228" y="4"/>
                    </a:cubicBezTo>
                    <a:close/>
                    <a:moveTo>
                      <a:pt x="18236" y="4"/>
                    </a:moveTo>
                    <a:lnTo>
                      <a:pt x="18236" y="4"/>
                    </a:lnTo>
                    <a:cubicBezTo>
                      <a:pt x="18238" y="4"/>
                      <a:pt x="18238" y="5"/>
                      <a:pt x="18238" y="6"/>
                    </a:cubicBezTo>
                    <a:cubicBezTo>
                      <a:pt x="18238" y="7"/>
                      <a:pt x="18238" y="8"/>
                      <a:pt x="18236" y="8"/>
                    </a:cubicBezTo>
                    <a:lnTo>
                      <a:pt x="18236" y="8"/>
                    </a:lnTo>
                    <a:cubicBezTo>
                      <a:pt x="18235" y="8"/>
                      <a:pt x="18234" y="7"/>
                      <a:pt x="18234" y="6"/>
                    </a:cubicBezTo>
                    <a:cubicBezTo>
                      <a:pt x="18234" y="5"/>
                      <a:pt x="18235" y="4"/>
                      <a:pt x="18236" y="4"/>
                    </a:cubicBezTo>
                    <a:close/>
                    <a:moveTo>
                      <a:pt x="18244" y="4"/>
                    </a:moveTo>
                    <a:lnTo>
                      <a:pt x="18244" y="4"/>
                    </a:lnTo>
                    <a:cubicBezTo>
                      <a:pt x="18246" y="4"/>
                      <a:pt x="18246" y="5"/>
                      <a:pt x="18246" y="6"/>
                    </a:cubicBezTo>
                    <a:cubicBezTo>
                      <a:pt x="18246" y="7"/>
                      <a:pt x="18246" y="8"/>
                      <a:pt x="18244" y="8"/>
                    </a:cubicBezTo>
                    <a:lnTo>
                      <a:pt x="18244" y="8"/>
                    </a:lnTo>
                    <a:cubicBezTo>
                      <a:pt x="18243" y="8"/>
                      <a:pt x="18242" y="7"/>
                      <a:pt x="18242" y="6"/>
                    </a:cubicBezTo>
                    <a:cubicBezTo>
                      <a:pt x="18242" y="5"/>
                      <a:pt x="18243" y="4"/>
                      <a:pt x="18244" y="4"/>
                    </a:cubicBezTo>
                    <a:close/>
                    <a:moveTo>
                      <a:pt x="18252" y="4"/>
                    </a:moveTo>
                    <a:lnTo>
                      <a:pt x="18252" y="4"/>
                    </a:lnTo>
                    <a:cubicBezTo>
                      <a:pt x="18254" y="4"/>
                      <a:pt x="18254" y="5"/>
                      <a:pt x="18254" y="6"/>
                    </a:cubicBezTo>
                    <a:cubicBezTo>
                      <a:pt x="18254" y="7"/>
                      <a:pt x="18254" y="8"/>
                      <a:pt x="18252" y="8"/>
                    </a:cubicBezTo>
                    <a:lnTo>
                      <a:pt x="18252" y="8"/>
                    </a:lnTo>
                    <a:cubicBezTo>
                      <a:pt x="18251" y="8"/>
                      <a:pt x="18250" y="7"/>
                      <a:pt x="18250" y="6"/>
                    </a:cubicBezTo>
                    <a:cubicBezTo>
                      <a:pt x="18250" y="5"/>
                      <a:pt x="18251" y="4"/>
                      <a:pt x="18252" y="4"/>
                    </a:cubicBezTo>
                    <a:close/>
                    <a:moveTo>
                      <a:pt x="18260" y="4"/>
                    </a:moveTo>
                    <a:lnTo>
                      <a:pt x="18260" y="4"/>
                    </a:lnTo>
                    <a:cubicBezTo>
                      <a:pt x="18262" y="4"/>
                      <a:pt x="18262" y="5"/>
                      <a:pt x="18262" y="6"/>
                    </a:cubicBezTo>
                    <a:cubicBezTo>
                      <a:pt x="18262" y="7"/>
                      <a:pt x="18262" y="8"/>
                      <a:pt x="18260" y="8"/>
                    </a:cubicBezTo>
                    <a:lnTo>
                      <a:pt x="18260" y="8"/>
                    </a:lnTo>
                    <a:cubicBezTo>
                      <a:pt x="18259" y="8"/>
                      <a:pt x="18258" y="7"/>
                      <a:pt x="18258" y="6"/>
                    </a:cubicBezTo>
                    <a:cubicBezTo>
                      <a:pt x="18258" y="5"/>
                      <a:pt x="18259" y="4"/>
                      <a:pt x="18260" y="4"/>
                    </a:cubicBezTo>
                    <a:close/>
                    <a:moveTo>
                      <a:pt x="18268" y="4"/>
                    </a:moveTo>
                    <a:lnTo>
                      <a:pt x="18268" y="4"/>
                    </a:lnTo>
                    <a:cubicBezTo>
                      <a:pt x="18270" y="4"/>
                      <a:pt x="18270" y="5"/>
                      <a:pt x="18270" y="6"/>
                    </a:cubicBezTo>
                    <a:cubicBezTo>
                      <a:pt x="18270" y="7"/>
                      <a:pt x="18270" y="8"/>
                      <a:pt x="18268" y="8"/>
                    </a:cubicBezTo>
                    <a:lnTo>
                      <a:pt x="18268" y="8"/>
                    </a:lnTo>
                    <a:cubicBezTo>
                      <a:pt x="18267" y="8"/>
                      <a:pt x="18266" y="7"/>
                      <a:pt x="18266" y="6"/>
                    </a:cubicBezTo>
                    <a:cubicBezTo>
                      <a:pt x="18266" y="5"/>
                      <a:pt x="18267" y="4"/>
                      <a:pt x="18268" y="4"/>
                    </a:cubicBezTo>
                    <a:close/>
                    <a:moveTo>
                      <a:pt x="18276" y="4"/>
                    </a:moveTo>
                    <a:lnTo>
                      <a:pt x="18276" y="4"/>
                    </a:lnTo>
                    <a:cubicBezTo>
                      <a:pt x="18278" y="4"/>
                      <a:pt x="18278" y="5"/>
                      <a:pt x="18278" y="6"/>
                    </a:cubicBezTo>
                    <a:cubicBezTo>
                      <a:pt x="18278" y="7"/>
                      <a:pt x="18278" y="8"/>
                      <a:pt x="18276" y="8"/>
                    </a:cubicBezTo>
                    <a:lnTo>
                      <a:pt x="18276" y="8"/>
                    </a:lnTo>
                    <a:cubicBezTo>
                      <a:pt x="18275" y="8"/>
                      <a:pt x="18274" y="7"/>
                      <a:pt x="18274" y="6"/>
                    </a:cubicBezTo>
                    <a:cubicBezTo>
                      <a:pt x="18274" y="5"/>
                      <a:pt x="18275" y="4"/>
                      <a:pt x="18276" y="4"/>
                    </a:cubicBezTo>
                    <a:close/>
                    <a:moveTo>
                      <a:pt x="18284" y="4"/>
                    </a:moveTo>
                    <a:lnTo>
                      <a:pt x="18284" y="4"/>
                    </a:lnTo>
                    <a:cubicBezTo>
                      <a:pt x="18286" y="4"/>
                      <a:pt x="18286" y="5"/>
                      <a:pt x="18286" y="6"/>
                    </a:cubicBezTo>
                    <a:cubicBezTo>
                      <a:pt x="18286" y="7"/>
                      <a:pt x="18286" y="8"/>
                      <a:pt x="18284" y="8"/>
                    </a:cubicBezTo>
                    <a:lnTo>
                      <a:pt x="18284" y="8"/>
                    </a:lnTo>
                    <a:cubicBezTo>
                      <a:pt x="18283" y="8"/>
                      <a:pt x="18282" y="7"/>
                      <a:pt x="18282" y="6"/>
                    </a:cubicBezTo>
                    <a:cubicBezTo>
                      <a:pt x="18282" y="5"/>
                      <a:pt x="18283" y="4"/>
                      <a:pt x="18284" y="4"/>
                    </a:cubicBezTo>
                    <a:close/>
                    <a:moveTo>
                      <a:pt x="18292" y="4"/>
                    </a:moveTo>
                    <a:lnTo>
                      <a:pt x="18292" y="4"/>
                    </a:lnTo>
                    <a:cubicBezTo>
                      <a:pt x="18294" y="4"/>
                      <a:pt x="18294" y="5"/>
                      <a:pt x="18294" y="6"/>
                    </a:cubicBezTo>
                    <a:cubicBezTo>
                      <a:pt x="18294" y="7"/>
                      <a:pt x="18294" y="8"/>
                      <a:pt x="18292" y="8"/>
                    </a:cubicBezTo>
                    <a:lnTo>
                      <a:pt x="18292" y="8"/>
                    </a:lnTo>
                    <a:cubicBezTo>
                      <a:pt x="18291" y="8"/>
                      <a:pt x="18290" y="7"/>
                      <a:pt x="18290" y="6"/>
                    </a:cubicBezTo>
                    <a:cubicBezTo>
                      <a:pt x="18290" y="5"/>
                      <a:pt x="18291" y="4"/>
                      <a:pt x="18292" y="4"/>
                    </a:cubicBezTo>
                    <a:close/>
                    <a:moveTo>
                      <a:pt x="18300" y="4"/>
                    </a:moveTo>
                    <a:lnTo>
                      <a:pt x="18300" y="4"/>
                    </a:lnTo>
                    <a:cubicBezTo>
                      <a:pt x="18302" y="4"/>
                      <a:pt x="18302" y="5"/>
                      <a:pt x="18302" y="6"/>
                    </a:cubicBezTo>
                    <a:cubicBezTo>
                      <a:pt x="18302" y="7"/>
                      <a:pt x="18302" y="8"/>
                      <a:pt x="18300" y="8"/>
                    </a:cubicBezTo>
                    <a:lnTo>
                      <a:pt x="18300" y="8"/>
                    </a:lnTo>
                    <a:cubicBezTo>
                      <a:pt x="18299" y="8"/>
                      <a:pt x="18298" y="7"/>
                      <a:pt x="18298" y="6"/>
                    </a:cubicBezTo>
                    <a:cubicBezTo>
                      <a:pt x="18298" y="5"/>
                      <a:pt x="18299" y="4"/>
                      <a:pt x="18300" y="4"/>
                    </a:cubicBezTo>
                    <a:close/>
                    <a:moveTo>
                      <a:pt x="18308" y="4"/>
                    </a:moveTo>
                    <a:lnTo>
                      <a:pt x="18308" y="4"/>
                    </a:lnTo>
                    <a:cubicBezTo>
                      <a:pt x="18310" y="4"/>
                      <a:pt x="18310" y="5"/>
                      <a:pt x="18310" y="6"/>
                    </a:cubicBezTo>
                    <a:cubicBezTo>
                      <a:pt x="18310" y="7"/>
                      <a:pt x="18310" y="8"/>
                      <a:pt x="18308" y="8"/>
                    </a:cubicBezTo>
                    <a:lnTo>
                      <a:pt x="18308" y="8"/>
                    </a:lnTo>
                    <a:cubicBezTo>
                      <a:pt x="18307" y="8"/>
                      <a:pt x="18306" y="7"/>
                      <a:pt x="18306" y="6"/>
                    </a:cubicBezTo>
                    <a:cubicBezTo>
                      <a:pt x="18306" y="5"/>
                      <a:pt x="18307" y="4"/>
                      <a:pt x="18308" y="4"/>
                    </a:cubicBezTo>
                    <a:close/>
                    <a:moveTo>
                      <a:pt x="18316" y="4"/>
                    </a:moveTo>
                    <a:lnTo>
                      <a:pt x="18317" y="4"/>
                    </a:lnTo>
                    <a:cubicBezTo>
                      <a:pt x="18318" y="4"/>
                      <a:pt x="18319" y="5"/>
                      <a:pt x="18319" y="6"/>
                    </a:cubicBezTo>
                    <a:cubicBezTo>
                      <a:pt x="18319" y="7"/>
                      <a:pt x="18318" y="8"/>
                      <a:pt x="18317" y="8"/>
                    </a:cubicBezTo>
                    <a:lnTo>
                      <a:pt x="18316" y="8"/>
                    </a:lnTo>
                    <a:cubicBezTo>
                      <a:pt x="18315" y="8"/>
                      <a:pt x="18314" y="7"/>
                      <a:pt x="18314" y="6"/>
                    </a:cubicBezTo>
                    <a:cubicBezTo>
                      <a:pt x="18314" y="5"/>
                      <a:pt x="18315" y="4"/>
                      <a:pt x="18316" y="4"/>
                    </a:cubicBezTo>
                    <a:close/>
                    <a:moveTo>
                      <a:pt x="18325" y="4"/>
                    </a:moveTo>
                    <a:lnTo>
                      <a:pt x="18325" y="4"/>
                    </a:lnTo>
                    <a:cubicBezTo>
                      <a:pt x="18326" y="4"/>
                      <a:pt x="18327" y="5"/>
                      <a:pt x="18327" y="6"/>
                    </a:cubicBezTo>
                    <a:cubicBezTo>
                      <a:pt x="18327" y="7"/>
                      <a:pt x="18326" y="8"/>
                      <a:pt x="18325" y="8"/>
                    </a:cubicBezTo>
                    <a:lnTo>
                      <a:pt x="18325" y="8"/>
                    </a:lnTo>
                    <a:cubicBezTo>
                      <a:pt x="18323" y="8"/>
                      <a:pt x="18323" y="7"/>
                      <a:pt x="18323" y="6"/>
                    </a:cubicBezTo>
                    <a:cubicBezTo>
                      <a:pt x="18323" y="5"/>
                      <a:pt x="18323" y="4"/>
                      <a:pt x="18325" y="4"/>
                    </a:cubicBezTo>
                    <a:close/>
                    <a:moveTo>
                      <a:pt x="18333" y="4"/>
                    </a:moveTo>
                    <a:lnTo>
                      <a:pt x="18333" y="4"/>
                    </a:lnTo>
                    <a:cubicBezTo>
                      <a:pt x="18334" y="4"/>
                      <a:pt x="18335" y="5"/>
                      <a:pt x="18335" y="6"/>
                    </a:cubicBezTo>
                    <a:cubicBezTo>
                      <a:pt x="18335" y="7"/>
                      <a:pt x="18334" y="8"/>
                      <a:pt x="18333" y="8"/>
                    </a:cubicBezTo>
                    <a:lnTo>
                      <a:pt x="18333" y="8"/>
                    </a:lnTo>
                    <a:cubicBezTo>
                      <a:pt x="18331" y="8"/>
                      <a:pt x="18331" y="7"/>
                      <a:pt x="18331" y="6"/>
                    </a:cubicBezTo>
                    <a:cubicBezTo>
                      <a:pt x="18331" y="5"/>
                      <a:pt x="18331" y="4"/>
                      <a:pt x="18333" y="4"/>
                    </a:cubicBezTo>
                    <a:close/>
                    <a:moveTo>
                      <a:pt x="18341" y="4"/>
                    </a:moveTo>
                    <a:lnTo>
                      <a:pt x="18341" y="4"/>
                    </a:lnTo>
                    <a:cubicBezTo>
                      <a:pt x="18342" y="4"/>
                      <a:pt x="18343" y="5"/>
                      <a:pt x="18343" y="6"/>
                    </a:cubicBezTo>
                    <a:cubicBezTo>
                      <a:pt x="18343" y="7"/>
                      <a:pt x="18342" y="8"/>
                      <a:pt x="18341" y="8"/>
                    </a:cubicBezTo>
                    <a:lnTo>
                      <a:pt x="18341" y="8"/>
                    </a:lnTo>
                    <a:cubicBezTo>
                      <a:pt x="18339" y="8"/>
                      <a:pt x="18339" y="7"/>
                      <a:pt x="18339" y="6"/>
                    </a:cubicBezTo>
                    <a:cubicBezTo>
                      <a:pt x="18339" y="5"/>
                      <a:pt x="18339" y="4"/>
                      <a:pt x="18341" y="4"/>
                    </a:cubicBezTo>
                    <a:close/>
                    <a:moveTo>
                      <a:pt x="18349" y="4"/>
                    </a:moveTo>
                    <a:lnTo>
                      <a:pt x="18349" y="4"/>
                    </a:lnTo>
                    <a:cubicBezTo>
                      <a:pt x="18350" y="4"/>
                      <a:pt x="18351" y="5"/>
                      <a:pt x="18351" y="6"/>
                    </a:cubicBezTo>
                    <a:cubicBezTo>
                      <a:pt x="18351" y="7"/>
                      <a:pt x="18350" y="8"/>
                      <a:pt x="18349" y="8"/>
                    </a:cubicBezTo>
                    <a:lnTo>
                      <a:pt x="18349" y="8"/>
                    </a:lnTo>
                    <a:cubicBezTo>
                      <a:pt x="18347" y="8"/>
                      <a:pt x="18347" y="7"/>
                      <a:pt x="18347" y="6"/>
                    </a:cubicBezTo>
                    <a:cubicBezTo>
                      <a:pt x="18347" y="5"/>
                      <a:pt x="18347" y="4"/>
                      <a:pt x="18349" y="4"/>
                    </a:cubicBezTo>
                    <a:close/>
                    <a:moveTo>
                      <a:pt x="18357" y="4"/>
                    </a:moveTo>
                    <a:lnTo>
                      <a:pt x="18357" y="4"/>
                    </a:lnTo>
                    <a:cubicBezTo>
                      <a:pt x="18358" y="4"/>
                      <a:pt x="18359" y="5"/>
                      <a:pt x="18359" y="6"/>
                    </a:cubicBezTo>
                    <a:cubicBezTo>
                      <a:pt x="18359" y="7"/>
                      <a:pt x="18358" y="8"/>
                      <a:pt x="18357" y="8"/>
                    </a:cubicBezTo>
                    <a:lnTo>
                      <a:pt x="18357" y="8"/>
                    </a:lnTo>
                    <a:cubicBezTo>
                      <a:pt x="18355" y="8"/>
                      <a:pt x="18355" y="7"/>
                      <a:pt x="18355" y="6"/>
                    </a:cubicBezTo>
                    <a:cubicBezTo>
                      <a:pt x="18355" y="5"/>
                      <a:pt x="18355" y="4"/>
                      <a:pt x="18357" y="4"/>
                    </a:cubicBezTo>
                    <a:close/>
                    <a:moveTo>
                      <a:pt x="18365" y="4"/>
                    </a:moveTo>
                    <a:lnTo>
                      <a:pt x="18365" y="4"/>
                    </a:lnTo>
                    <a:cubicBezTo>
                      <a:pt x="18366" y="4"/>
                      <a:pt x="18367" y="5"/>
                      <a:pt x="18367" y="6"/>
                    </a:cubicBezTo>
                    <a:cubicBezTo>
                      <a:pt x="18367" y="7"/>
                      <a:pt x="18366" y="8"/>
                      <a:pt x="18365" y="8"/>
                    </a:cubicBezTo>
                    <a:lnTo>
                      <a:pt x="18365" y="8"/>
                    </a:lnTo>
                    <a:cubicBezTo>
                      <a:pt x="18363" y="8"/>
                      <a:pt x="18363" y="7"/>
                      <a:pt x="18363" y="6"/>
                    </a:cubicBezTo>
                    <a:cubicBezTo>
                      <a:pt x="18363" y="5"/>
                      <a:pt x="18363" y="4"/>
                      <a:pt x="18365" y="4"/>
                    </a:cubicBezTo>
                    <a:close/>
                    <a:moveTo>
                      <a:pt x="18373" y="4"/>
                    </a:moveTo>
                    <a:lnTo>
                      <a:pt x="18373" y="4"/>
                    </a:lnTo>
                    <a:cubicBezTo>
                      <a:pt x="18374" y="4"/>
                      <a:pt x="18375" y="5"/>
                      <a:pt x="18375" y="6"/>
                    </a:cubicBezTo>
                    <a:cubicBezTo>
                      <a:pt x="18375" y="7"/>
                      <a:pt x="18374" y="8"/>
                      <a:pt x="18373" y="8"/>
                    </a:cubicBezTo>
                    <a:lnTo>
                      <a:pt x="18373" y="8"/>
                    </a:lnTo>
                    <a:cubicBezTo>
                      <a:pt x="18371" y="8"/>
                      <a:pt x="18371" y="7"/>
                      <a:pt x="18371" y="6"/>
                    </a:cubicBezTo>
                    <a:cubicBezTo>
                      <a:pt x="18371" y="5"/>
                      <a:pt x="18371" y="4"/>
                      <a:pt x="18373" y="4"/>
                    </a:cubicBezTo>
                    <a:close/>
                    <a:moveTo>
                      <a:pt x="18381" y="4"/>
                    </a:moveTo>
                    <a:lnTo>
                      <a:pt x="18381" y="4"/>
                    </a:lnTo>
                    <a:cubicBezTo>
                      <a:pt x="18382" y="4"/>
                      <a:pt x="18383" y="5"/>
                      <a:pt x="18383" y="6"/>
                    </a:cubicBezTo>
                    <a:cubicBezTo>
                      <a:pt x="18383" y="7"/>
                      <a:pt x="18382" y="8"/>
                      <a:pt x="18381" y="8"/>
                    </a:cubicBezTo>
                    <a:lnTo>
                      <a:pt x="18381" y="8"/>
                    </a:lnTo>
                    <a:cubicBezTo>
                      <a:pt x="18379" y="8"/>
                      <a:pt x="18379" y="7"/>
                      <a:pt x="18379" y="6"/>
                    </a:cubicBezTo>
                    <a:cubicBezTo>
                      <a:pt x="18379" y="5"/>
                      <a:pt x="18379" y="4"/>
                      <a:pt x="18381" y="4"/>
                    </a:cubicBezTo>
                    <a:close/>
                    <a:moveTo>
                      <a:pt x="18389" y="4"/>
                    </a:moveTo>
                    <a:lnTo>
                      <a:pt x="18389" y="4"/>
                    </a:lnTo>
                    <a:cubicBezTo>
                      <a:pt x="18390" y="4"/>
                      <a:pt x="18391" y="5"/>
                      <a:pt x="18391" y="6"/>
                    </a:cubicBezTo>
                    <a:cubicBezTo>
                      <a:pt x="18391" y="7"/>
                      <a:pt x="18390" y="8"/>
                      <a:pt x="18389" y="8"/>
                    </a:cubicBezTo>
                    <a:lnTo>
                      <a:pt x="18389" y="8"/>
                    </a:lnTo>
                    <a:cubicBezTo>
                      <a:pt x="18387" y="8"/>
                      <a:pt x="18387" y="7"/>
                      <a:pt x="18387" y="6"/>
                    </a:cubicBezTo>
                    <a:cubicBezTo>
                      <a:pt x="18387" y="5"/>
                      <a:pt x="18387" y="4"/>
                      <a:pt x="18389" y="4"/>
                    </a:cubicBezTo>
                    <a:close/>
                    <a:moveTo>
                      <a:pt x="18397" y="4"/>
                    </a:moveTo>
                    <a:lnTo>
                      <a:pt x="18397" y="4"/>
                    </a:lnTo>
                    <a:cubicBezTo>
                      <a:pt x="18398" y="4"/>
                      <a:pt x="18399" y="5"/>
                      <a:pt x="18399" y="6"/>
                    </a:cubicBezTo>
                    <a:cubicBezTo>
                      <a:pt x="18399" y="7"/>
                      <a:pt x="18398" y="8"/>
                      <a:pt x="18397" y="8"/>
                    </a:cubicBezTo>
                    <a:lnTo>
                      <a:pt x="18397" y="8"/>
                    </a:lnTo>
                    <a:cubicBezTo>
                      <a:pt x="18395" y="8"/>
                      <a:pt x="18395" y="7"/>
                      <a:pt x="18395" y="6"/>
                    </a:cubicBezTo>
                    <a:cubicBezTo>
                      <a:pt x="18395" y="5"/>
                      <a:pt x="18395" y="4"/>
                      <a:pt x="18397" y="4"/>
                    </a:cubicBezTo>
                    <a:close/>
                    <a:moveTo>
                      <a:pt x="18405" y="4"/>
                    </a:moveTo>
                    <a:lnTo>
                      <a:pt x="18405" y="4"/>
                    </a:lnTo>
                    <a:cubicBezTo>
                      <a:pt x="18406" y="4"/>
                      <a:pt x="18407" y="5"/>
                      <a:pt x="18407" y="6"/>
                    </a:cubicBezTo>
                    <a:cubicBezTo>
                      <a:pt x="18407" y="7"/>
                      <a:pt x="18406" y="8"/>
                      <a:pt x="18405" y="8"/>
                    </a:cubicBezTo>
                    <a:lnTo>
                      <a:pt x="18405" y="8"/>
                    </a:lnTo>
                    <a:cubicBezTo>
                      <a:pt x="18403" y="8"/>
                      <a:pt x="18403" y="7"/>
                      <a:pt x="18403" y="6"/>
                    </a:cubicBezTo>
                    <a:cubicBezTo>
                      <a:pt x="18403" y="5"/>
                      <a:pt x="18403" y="4"/>
                      <a:pt x="18405" y="4"/>
                    </a:cubicBezTo>
                    <a:close/>
                    <a:moveTo>
                      <a:pt x="18413" y="4"/>
                    </a:moveTo>
                    <a:lnTo>
                      <a:pt x="18413" y="4"/>
                    </a:lnTo>
                    <a:cubicBezTo>
                      <a:pt x="18414" y="4"/>
                      <a:pt x="18415" y="5"/>
                      <a:pt x="18415" y="6"/>
                    </a:cubicBezTo>
                    <a:cubicBezTo>
                      <a:pt x="18415" y="7"/>
                      <a:pt x="18414" y="8"/>
                      <a:pt x="18413" y="8"/>
                    </a:cubicBezTo>
                    <a:lnTo>
                      <a:pt x="18413" y="8"/>
                    </a:lnTo>
                    <a:cubicBezTo>
                      <a:pt x="18411" y="8"/>
                      <a:pt x="18411" y="7"/>
                      <a:pt x="18411" y="6"/>
                    </a:cubicBezTo>
                    <a:cubicBezTo>
                      <a:pt x="18411" y="5"/>
                      <a:pt x="18411" y="4"/>
                      <a:pt x="18413" y="4"/>
                    </a:cubicBezTo>
                    <a:close/>
                    <a:moveTo>
                      <a:pt x="18421" y="4"/>
                    </a:moveTo>
                    <a:lnTo>
                      <a:pt x="18421" y="4"/>
                    </a:lnTo>
                    <a:cubicBezTo>
                      <a:pt x="18422" y="4"/>
                      <a:pt x="18423" y="5"/>
                      <a:pt x="18423" y="6"/>
                    </a:cubicBezTo>
                    <a:cubicBezTo>
                      <a:pt x="18423" y="7"/>
                      <a:pt x="18422" y="8"/>
                      <a:pt x="18421" y="8"/>
                    </a:cubicBezTo>
                    <a:lnTo>
                      <a:pt x="18421" y="8"/>
                    </a:lnTo>
                    <a:cubicBezTo>
                      <a:pt x="18419" y="8"/>
                      <a:pt x="18419" y="7"/>
                      <a:pt x="18419" y="6"/>
                    </a:cubicBezTo>
                    <a:cubicBezTo>
                      <a:pt x="18419" y="5"/>
                      <a:pt x="18419" y="4"/>
                      <a:pt x="18421" y="4"/>
                    </a:cubicBezTo>
                    <a:close/>
                    <a:moveTo>
                      <a:pt x="18429" y="4"/>
                    </a:moveTo>
                    <a:lnTo>
                      <a:pt x="18429" y="4"/>
                    </a:lnTo>
                    <a:cubicBezTo>
                      <a:pt x="18430" y="4"/>
                      <a:pt x="18431" y="5"/>
                      <a:pt x="18431" y="6"/>
                    </a:cubicBezTo>
                    <a:cubicBezTo>
                      <a:pt x="18431" y="7"/>
                      <a:pt x="18430" y="8"/>
                      <a:pt x="18429" y="8"/>
                    </a:cubicBezTo>
                    <a:lnTo>
                      <a:pt x="18429" y="8"/>
                    </a:lnTo>
                    <a:cubicBezTo>
                      <a:pt x="18428" y="8"/>
                      <a:pt x="18427" y="7"/>
                      <a:pt x="18427" y="6"/>
                    </a:cubicBezTo>
                    <a:cubicBezTo>
                      <a:pt x="18427" y="5"/>
                      <a:pt x="18428" y="4"/>
                      <a:pt x="18429" y="4"/>
                    </a:cubicBezTo>
                    <a:close/>
                    <a:moveTo>
                      <a:pt x="18437" y="4"/>
                    </a:moveTo>
                    <a:lnTo>
                      <a:pt x="18437" y="4"/>
                    </a:lnTo>
                    <a:cubicBezTo>
                      <a:pt x="18438" y="4"/>
                      <a:pt x="18439" y="5"/>
                      <a:pt x="18439" y="6"/>
                    </a:cubicBezTo>
                    <a:cubicBezTo>
                      <a:pt x="18439" y="7"/>
                      <a:pt x="18438" y="8"/>
                      <a:pt x="18437" y="8"/>
                    </a:cubicBezTo>
                    <a:lnTo>
                      <a:pt x="18437" y="8"/>
                    </a:lnTo>
                    <a:cubicBezTo>
                      <a:pt x="18436" y="8"/>
                      <a:pt x="18435" y="7"/>
                      <a:pt x="18435" y="6"/>
                    </a:cubicBezTo>
                    <a:cubicBezTo>
                      <a:pt x="18435" y="5"/>
                      <a:pt x="18436" y="4"/>
                      <a:pt x="18437" y="4"/>
                    </a:cubicBezTo>
                    <a:close/>
                    <a:moveTo>
                      <a:pt x="18445" y="4"/>
                    </a:moveTo>
                    <a:lnTo>
                      <a:pt x="18445" y="4"/>
                    </a:lnTo>
                    <a:cubicBezTo>
                      <a:pt x="18446" y="4"/>
                      <a:pt x="18447" y="5"/>
                      <a:pt x="18447" y="6"/>
                    </a:cubicBezTo>
                    <a:cubicBezTo>
                      <a:pt x="18447" y="7"/>
                      <a:pt x="18446" y="8"/>
                      <a:pt x="18445" y="8"/>
                    </a:cubicBezTo>
                    <a:lnTo>
                      <a:pt x="18445" y="8"/>
                    </a:lnTo>
                    <a:cubicBezTo>
                      <a:pt x="18444" y="8"/>
                      <a:pt x="18443" y="7"/>
                      <a:pt x="18443" y="6"/>
                    </a:cubicBezTo>
                    <a:cubicBezTo>
                      <a:pt x="18443" y="5"/>
                      <a:pt x="18444" y="4"/>
                      <a:pt x="18445" y="4"/>
                    </a:cubicBezTo>
                    <a:close/>
                    <a:moveTo>
                      <a:pt x="18453" y="4"/>
                    </a:moveTo>
                    <a:lnTo>
                      <a:pt x="18453" y="4"/>
                    </a:lnTo>
                    <a:cubicBezTo>
                      <a:pt x="18454" y="4"/>
                      <a:pt x="18455" y="5"/>
                      <a:pt x="18455" y="6"/>
                    </a:cubicBezTo>
                    <a:cubicBezTo>
                      <a:pt x="18455" y="7"/>
                      <a:pt x="18454" y="8"/>
                      <a:pt x="18453" y="8"/>
                    </a:cubicBezTo>
                    <a:lnTo>
                      <a:pt x="18453" y="8"/>
                    </a:lnTo>
                    <a:cubicBezTo>
                      <a:pt x="18452" y="8"/>
                      <a:pt x="18451" y="7"/>
                      <a:pt x="18451" y="6"/>
                    </a:cubicBezTo>
                    <a:cubicBezTo>
                      <a:pt x="18451" y="5"/>
                      <a:pt x="18452" y="4"/>
                      <a:pt x="18453" y="4"/>
                    </a:cubicBezTo>
                    <a:close/>
                    <a:moveTo>
                      <a:pt x="18461" y="4"/>
                    </a:moveTo>
                    <a:lnTo>
                      <a:pt x="18461" y="4"/>
                    </a:lnTo>
                    <a:cubicBezTo>
                      <a:pt x="18462" y="4"/>
                      <a:pt x="18463" y="5"/>
                      <a:pt x="18463" y="6"/>
                    </a:cubicBezTo>
                    <a:cubicBezTo>
                      <a:pt x="18463" y="7"/>
                      <a:pt x="18462" y="8"/>
                      <a:pt x="18461" y="8"/>
                    </a:cubicBezTo>
                    <a:lnTo>
                      <a:pt x="18461" y="8"/>
                    </a:lnTo>
                    <a:cubicBezTo>
                      <a:pt x="18460" y="8"/>
                      <a:pt x="18459" y="7"/>
                      <a:pt x="18459" y="6"/>
                    </a:cubicBezTo>
                    <a:cubicBezTo>
                      <a:pt x="18459" y="5"/>
                      <a:pt x="18460" y="4"/>
                      <a:pt x="18461" y="4"/>
                    </a:cubicBezTo>
                    <a:close/>
                    <a:moveTo>
                      <a:pt x="18469" y="4"/>
                    </a:moveTo>
                    <a:lnTo>
                      <a:pt x="18469" y="4"/>
                    </a:lnTo>
                    <a:cubicBezTo>
                      <a:pt x="18470" y="4"/>
                      <a:pt x="18471" y="5"/>
                      <a:pt x="18471" y="6"/>
                    </a:cubicBezTo>
                    <a:cubicBezTo>
                      <a:pt x="18471" y="7"/>
                      <a:pt x="18470" y="8"/>
                      <a:pt x="18469" y="8"/>
                    </a:cubicBezTo>
                    <a:lnTo>
                      <a:pt x="18469" y="8"/>
                    </a:lnTo>
                    <a:cubicBezTo>
                      <a:pt x="18468" y="8"/>
                      <a:pt x="18467" y="7"/>
                      <a:pt x="18467" y="6"/>
                    </a:cubicBezTo>
                    <a:cubicBezTo>
                      <a:pt x="18467" y="5"/>
                      <a:pt x="18468" y="4"/>
                      <a:pt x="18469" y="4"/>
                    </a:cubicBezTo>
                    <a:close/>
                    <a:moveTo>
                      <a:pt x="18477" y="4"/>
                    </a:moveTo>
                    <a:lnTo>
                      <a:pt x="18477" y="4"/>
                    </a:lnTo>
                    <a:cubicBezTo>
                      <a:pt x="18478" y="4"/>
                      <a:pt x="18479" y="5"/>
                      <a:pt x="18479" y="6"/>
                    </a:cubicBezTo>
                    <a:cubicBezTo>
                      <a:pt x="18479" y="7"/>
                      <a:pt x="18478" y="8"/>
                      <a:pt x="18477" y="8"/>
                    </a:cubicBezTo>
                    <a:lnTo>
                      <a:pt x="18477" y="8"/>
                    </a:lnTo>
                    <a:cubicBezTo>
                      <a:pt x="18476" y="8"/>
                      <a:pt x="18475" y="7"/>
                      <a:pt x="18475" y="6"/>
                    </a:cubicBezTo>
                    <a:cubicBezTo>
                      <a:pt x="18475" y="5"/>
                      <a:pt x="18476" y="4"/>
                      <a:pt x="18477" y="4"/>
                    </a:cubicBezTo>
                    <a:close/>
                    <a:moveTo>
                      <a:pt x="18485" y="4"/>
                    </a:moveTo>
                    <a:lnTo>
                      <a:pt x="18485" y="4"/>
                    </a:lnTo>
                    <a:cubicBezTo>
                      <a:pt x="18486" y="4"/>
                      <a:pt x="18487" y="5"/>
                      <a:pt x="18487" y="6"/>
                    </a:cubicBezTo>
                    <a:cubicBezTo>
                      <a:pt x="18487" y="7"/>
                      <a:pt x="18486" y="8"/>
                      <a:pt x="18485" y="8"/>
                    </a:cubicBezTo>
                    <a:lnTo>
                      <a:pt x="18485" y="8"/>
                    </a:lnTo>
                    <a:cubicBezTo>
                      <a:pt x="18484" y="8"/>
                      <a:pt x="18483" y="7"/>
                      <a:pt x="18483" y="6"/>
                    </a:cubicBezTo>
                    <a:cubicBezTo>
                      <a:pt x="18483" y="5"/>
                      <a:pt x="18484" y="4"/>
                      <a:pt x="18485" y="4"/>
                    </a:cubicBezTo>
                    <a:close/>
                    <a:moveTo>
                      <a:pt x="18493" y="4"/>
                    </a:moveTo>
                    <a:lnTo>
                      <a:pt x="18493" y="4"/>
                    </a:lnTo>
                    <a:cubicBezTo>
                      <a:pt x="18494" y="4"/>
                      <a:pt x="18495" y="5"/>
                      <a:pt x="18495" y="6"/>
                    </a:cubicBezTo>
                    <a:cubicBezTo>
                      <a:pt x="18495" y="7"/>
                      <a:pt x="18494" y="8"/>
                      <a:pt x="18493" y="8"/>
                    </a:cubicBezTo>
                    <a:lnTo>
                      <a:pt x="18493" y="8"/>
                    </a:lnTo>
                    <a:cubicBezTo>
                      <a:pt x="18492" y="8"/>
                      <a:pt x="18491" y="7"/>
                      <a:pt x="18491" y="6"/>
                    </a:cubicBezTo>
                    <a:cubicBezTo>
                      <a:pt x="18491" y="5"/>
                      <a:pt x="18492" y="4"/>
                      <a:pt x="18493" y="4"/>
                    </a:cubicBezTo>
                    <a:close/>
                    <a:moveTo>
                      <a:pt x="18501" y="4"/>
                    </a:moveTo>
                    <a:lnTo>
                      <a:pt x="18501" y="4"/>
                    </a:lnTo>
                    <a:cubicBezTo>
                      <a:pt x="18502" y="4"/>
                      <a:pt x="18503" y="5"/>
                      <a:pt x="18503" y="6"/>
                    </a:cubicBezTo>
                    <a:cubicBezTo>
                      <a:pt x="18503" y="7"/>
                      <a:pt x="18502" y="8"/>
                      <a:pt x="18501" y="8"/>
                    </a:cubicBezTo>
                    <a:lnTo>
                      <a:pt x="18501" y="8"/>
                    </a:lnTo>
                    <a:cubicBezTo>
                      <a:pt x="18500" y="8"/>
                      <a:pt x="18499" y="7"/>
                      <a:pt x="18499" y="6"/>
                    </a:cubicBezTo>
                    <a:cubicBezTo>
                      <a:pt x="18499" y="5"/>
                      <a:pt x="18500" y="4"/>
                      <a:pt x="18501" y="4"/>
                    </a:cubicBezTo>
                    <a:close/>
                    <a:moveTo>
                      <a:pt x="18509" y="4"/>
                    </a:moveTo>
                    <a:lnTo>
                      <a:pt x="18509" y="4"/>
                    </a:lnTo>
                    <a:cubicBezTo>
                      <a:pt x="18510" y="4"/>
                      <a:pt x="18511" y="5"/>
                      <a:pt x="18511" y="6"/>
                    </a:cubicBezTo>
                    <a:cubicBezTo>
                      <a:pt x="18511" y="7"/>
                      <a:pt x="18510" y="8"/>
                      <a:pt x="18509" y="8"/>
                    </a:cubicBezTo>
                    <a:lnTo>
                      <a:pt x="18509" y="8"/>
                    </a:lnTo>
                    <a:cubicBezTo>
                      <a:pt x="18508" y="8"/>
                      <a:pt x="18507" y="7"/>
                      <a:pt x="18507" y="6"/>
                    </a:cubicBezTo>
                    <a:cubicBezTo>
                      <a:pt x="18507" y="5"/>
                      <a:pt x="18508" y="4"/>
                      <a:pt x="18509" y="4"/>
                    </a:cubicBez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562040" y="3502080"/>
                <a:ext cx="6075360" cy="3240"/>
              </a:xfrm>
              <a:custGeom>
                <a:avLst/>
                <a:gdLst/>
                <a:ahLst/>
                <a:rect l="l" t="t" r="r" b="b"/>
                <a:pathLst>
                  <a:path w="18511" h="9">
                    <a:moveTo>
                      <a:pt x="2" y="0"/>
                    </a:moveTo>
                    <a:lnTo>
                      <a:pt x="2" y="0"/>
                    </a:lnTo>
                    <a:cubicBezTo>
                      <a:pt x="3" y="0"/>
                      <a:pt x="4" y="1"/>
                      <a:pt x="4" y="2"/>
                    </a:cubicBezTo>
                    <a:cubicBezTo>
                      <a:pt x="4" y="4"/>
                      <a:pt x="3" y="4"/>
                      <a:pt x="2" y="4"/>
                    </a:cubicBezTo>
                    <a:lnTo>
                      <a:pt x="2" y="4"/>
                    </a:lnTo>
                    <a:cubicBezTo>
                      <a:pt x="1" y="4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0"/>
                    </a:cubicBezTo>
                    <a:close/>
                    <a:moveTo>
                      <a:pt x="10" y="0"/>
                    </a:moveTo>
                    <a:lnTo>
                      <a:pt x="10" y="0"/>
                    </a:lnTo>
                    <a:cubicBezTo>
                      <a:pt x="11" y="0"/>
                      <a:pt x="12" y="1"/>
                      <a:pt x="12" y="2"/>
                    </a:cubicBezTo>
                    <a:cubicBezTo>
                      <a:pt x="12" y="4"/>
                      <a:pt x="11" y="4"/>
                      <a:pt x="10" y="4"/>
                    </a:cubicBezTo>
                    <a:lnTo>
                      <a:pt x="10" y="4"/>
                    </a:lnTo>
                    <a:cubicBezTo>
                      <a:pt x="9" y="4"/>
                      <a:pt x="8" y="4"/>
                      <a:pt x="8" y="2"/>
                    </a:cubicBezTo>
                    <a:cubicBezTo>
                      <a:pt x="8" y="1"/>
                      <a:pt x="9" y="0"/>
                      <a:pt x="10" y="0"/>
                    </a:cubicBezTo>
                    <a:close/>
                    <a:moveTo>
                      <a:pt x="18" y="0"/>
                    </a:moveTo>
                    <a:lnTo>
                      <a:pt x="18" y="0"/>
                    </a:lnTo>
                    <a:cubicBezTo>
                      <a:pt x="19" y="0"/>
                      <a:pt x="20" y="1"/>
                      <a:pt x="20" y="2"/>
                    </a:cubicBezTo>
                    <a:cubicBezTo>
                      <a:pt x="20" y="4"/>
                      <a:pt x="19" y="4"/>
                      <a:pt x="18" y="4"/>
                    </a:cubicBezTo>
                    <a:lnTo>
                      <a:pt x="18" y="4"/>
                    </a:lnTo>
                    <a:cubicBezTo>
                      <a:pt x="17" y="4"/>
                      <a:pt x="16" y="4"/>
                      <a:pt x="16" y="2"/>
                    </a:cubicBezTo>
                    <a:cubicBezTo>
                      <a:pt x="16" y="1"/>
                      <a:pt x="17" y="0"/>
                      <a:pt x="18" y="0"/>
                    </a:cubicBezTo>
                    <a:close/>
                    <a:moveTo>
                      <a:pt x="26" y="0"/>
                    </a:moveTo>
                    <a:lnTo>
                      <a:pt x="26" y="0"/>
                    </a:lnTo>
                    <a:cubicBezTo>
                      <a:pt x="27" y="0"/>
                      <a:pt x="28" y="1"/>
                      <a:pt x="28" y="2"/>
                    </a:cubicBezTo>
                    <a:cubicBezTo>
                      <a:pt x="28" y="4"/>
                      <a:pt x="27" y="4"/>
                      <a:pt x="26" y="4"/>
                    </a:cubicBezTo>
                    <a:lnTo>
                      <a:pt x="26" y="4"/>
                    </a:lnTo>
                    <a:cubicBezTo>
                      <a:pt x="25" y="4"/>
                      <a:pt x="24" y="4"/>
                      <a:pt x="24" y="2"/>
                    </a:cubicBezTo>
                    <a:cubicBezTo>
                      <a:pt x="24" y="1"/>
                      <a:pt x="25" y="0"/>
                      <a:pt x="26" y="0"/>
                    </a:cubicBezTo>
                    <a:close/>
                    <a:moveTo>
                      <a:pt x="34" y="0"/>
                    </a:moveTo>
                    <a:lnTo>
                      <a:pt x="34" y="0"/>
                    </a:lnTo>
                    <a:cubicBezTo>
                      <a:pt x="35" y="0"/>
                      <a:pt x="36" y="1"/>
                      <a:pt x="36" y="2"/>
                    </a:cubicBezTo>
                    <a:cubicBezTo>
                      <a:pt x="36" y="4"/>
                      <a:pt x="35" y="4"/>
                      <a:pt x="34" y="4"/>
                    </a:cubicBezTo>
                    <a:lnTo>
                      <a:pt x="34" y="4"/>
                    </a:lnTo>
                    <a:cubicBezTo>
                      <a:pt x="33" y="4"/>
                      <a:pt x="32" y="4"/>
                      <a:pt x="32" y="2"/>
                    </a:cubicBezTo>
                    <a:cubicBezTo>
                      <a:pt x="32" y="1"/>
                      <a:pt x="33" y="0"/>
                      <a:pt x="34" y="0"/>
                    </a:cubicBezTo>
                    <a:close/>
                    <a:moveTo>
                      <a:pt x="42" y="0"/>
                    </a:moveTo>
                    <a:lnTo>
                      <a:pt x="42" y="0"/>
                    </a:lnTo>
                    <a:cubicBezTo>
                      <a:pt x="43" y="0"/>
                      <a:pt x="44" y="1"/>
                      <a:pt x="44" y="2"/>
                    </a:cubicBezTo>
                    <a:cubicBezTo>
                      <a:pt x="44" y="4"/>
                      <a:pt x="43" y="4"/>
                      <a:pt x="42" y="4"/>
                    </a:cubicBezTo>
                    <a:lnTo>
                      <a:pt x="42" y="4"/>
                    </a:lnTo>
                    <a:cubicBezTo>
                      <a:pt x="41" y="4"/>
                      <a:pt x="40" y="4"/>
                      <a:pt x="40" y="2"/>
                    </a:cubicBezTo>
                    <a:cubicBezTo>
                      <a:pt x="40" y="1"/>
                      <a:pt x="41" y="0"/>
                      <a:pt x="42" y="0"/>
                    </a:cubicBezTo>
                    <a:close/>
                    <a:moveTo>
                      <a:pt x="50" y="0"/>
                    </a:moveTo>
                    <a:lnTo>
                      <a:pt x="50" y="0"/>
                    </a:lnTo>
                    <a:cubicBezTo>
                      <a:pt x="51" y="0"/>
                      <a:pt x="52" y="1"/>
                      <a:pt x="52" y="2"/>
                    </a:cubicBezTo>
                    <a:cubicBezTo>
                      <a:pt x="52" y="4"/>
                      <a:pt x="51" y="4"/>
                      <a:pt x="50" y="4"/>
                    </a:cubicBezTo>
                    <a:lnTo>
                      <a:pt x="50" y="4"/>
                    </a:lnTo>
                    <a:cubicBezTo>
                      <a:pt x="49" y="4"/>
                      <a:pt x="48" y="4"/>
                      <a:pt x="48" y="2"/>
                    </a:cubicBezTo>
                    <a:cubicBezTo>
                      <a:pt x="48" y="1"/>
                      <a:pt x="49" y="0"/>
                      <a:pt x="50" y="0"/>
                    </a:cubicBezTo>
                    <a:close/>
                    <a:moveTo>
                      <a:pt x="58" y="0"/>
                    </a:moveTo>
                    <a:lnTo>
                      <a:pt x="58" y="0"/>
                    </a:lnTo>
                    <a:cubicBezTo>
                      <a:pt x="59" y="0"/>
                      <a:pt x="60" y="1"/>
                      <a:pt x="60" y="2"/>
                    </a:cubicBezTo>
                    <a:cubicBezTo>
                      <a:pt x="60" y="4"/>
                      <a:pt x="59" y="4"/>
                      <a:pt x="58" y="4"/>
                    </a:cubicBezTo>
                    <a:lnTo>
                      <a:pt x="58" y="4"/>
                    </a:lnTo>
                    <a:cubicBezTo>
                      <a:pt x="57" y="4"/>
                      <a:pt x="56" y="4"/>
                      <a:pt x="56" y="2"/>
                    </a:cubicBezTo>
                    <a:cubicBezTo>
                      <a:pt x="56" y="1"/>
                      <a:pt x="57" y="0"/>
                      <a:pt x="58" y="0"/>
                    </a:cubicBezTo>
                    <a:close/>
                    <a:moveTo>
                      <a:pt x="66" y="0"/>
                    </a:moveTo>
                    <a:lnTo>
                      <a:pt x="66" y="0"/>
                    </a:lnTo>
                    <a:cubicBezTo>
                      <a:pt x="67" y="0"/>
                      <a:pt x="68" y="1"/>
                      <a:pt x="68" y="2"/>
                    </a:cubicBezTo>
                    <a:cubicBezTo>
                      <a:pt x="68" y="4"/>
                      <a:pt x="67" y="4"/>
                      <a:pt x="66" y="4"/>
                    </a:cubicBezTo>
                    <a:lnTo>
                      <a:pt x="66" y="4"/>
                    </a:lnTo>
                    <a:cubicBezTo>
                      <a:pt x="65" y="4"/>
                      <a:pt x="64" y="4"/>
                      <a:pt x="64" y="2"/>
                    </a:cubicBezTo>
                    <a:cubicBezTo>
                      <a:pt x="64" y="1"/>
                      <a:pt x="65" y="0"/>
                      <a:pt x="66" y="0"/>
                    </a:cubicBezTo>
                    <a:close/>
                    <a:moveTo>
                      <a:pt x="74" y="0"/>
                    </a:moveTo>
                    <a:lnTo>
                      <a:pt x="74" y="0"/>
                    </a:lnTo>
                    <a:cubicBezTo>
                      <a:pt x="75" y="0"/>
                      <a:pt x="76" y="1"/>
                      <a:pt x="76" y="2"/>
                    </a:cubicBezTo>
                    <a:cubicBezTo>
                      <a:pt x="76" y="4"/>
                      <a:pt x="75" y="4"/>
                      <a:pt x="74" y="4"/>
                    </a:cubicBezTo>
                    <a:lnTo>
                      <a:pt x="74" y="4"/>
                    </a:lnTo>
                    <a:cubicBezTo>
                      <a:pt x="73" y="4"/>
                      <a:pt x="72" y="4"/>
                      <a:pt x="72" y="2"/>
                    </a:cubicBezTo>
                    <a:cubicBezTo>
                      <a:pt x="72" y="1"/>
                      <a:pt x="73" y="0"/>
                      <a:pt x="74" y="0"/>
                    </a:cubicBezTo>
                    <a:close/>
                    <a:moveTo>
                      <a:pt x="82" y="0"/>
                    </a:moveTo>
                    <a:lnTo>
                      <a:pt x="82" y="0"/>
                    </a:lnTo>
                    <a:cubicBezTo>
                      <a:pt x="83" y="0"/>
                      <a:pt x="84" y="1"/>
                      <a:pt x="84" y="2"/>
                    </a:cubicBezTo>
                    <a:cubicBezTo>
                      <a:pt x="84" y="4"/>
                      <a:pt x="83" y="4"/>
                      <a:pt x="82" y="4"/>
                    </a:cubicBezTo>
                    <a:lnTo>
                      <a:pt x="82" y="4"/>
                    </a:lnTo>
                    <a:cubicBezTo>
                      <a:pt x="81" y="4"/>
                      <a:pt x="80" y="4"/>
                      <a:pt x="80" y="2"/>
                    </a:cubicBezTo>
                    <a:cubicBezTo>
                      <a:pt x="80" y="1"/>
                      <a:pt x="81" y="0"/>
                      <a:pt x="82" y="0"/>
                    </a:cubicBezTo>
                    <a:close/>
                    <a:moveTo>
                      <a:pt x="90" y="0"/>
                    </a:moveTo>
                    <a:lnTo>
                      <a:pt x="90" y="0"/>
                    </a:lnTo>
                    <a:cubicBezTo>
                      <a:pt x="91" y="0"/>
                      <a:pt x="92" y="1"/>
                      <a:pt x="92" y="2"/>
                    </a:cubicBezTo>
                    <a:cubicBezTo>
                      <a:pt x="92" y="4"/>
                      <a:pt x="91" y="4"/>
                      <a:pt x="90" y="4"/>
                    </a:cubicBezTo>
                    <a:lnTo>
                      <a:pt x="90" y="4"/>
                    </a:lnTo>
                    <a:cubicBezTo>
                      <a:pt x="89" y="4"/>
                      <a:pt x="88" y="4"/>
                      <a:pt x="88" y="2"/>
                    </a:cubicBezTo>
                    <a:cubicBezTo>
                      <a:pt x="88" y="1"/>
                      <a:pt x="89" y="0"/>
                      <a:pt x="90" y="0"/>
                    </a:cubicBezTo>
                    <a:close/>
                    <a:moveTo>
                      <a:pt x="98" y="0"/>
                    </a:moveTo>
                    <a:lnTo>
                      <a:pt x="98" y="0"/>
                    </a:lnTo>
                    <a:cubicBezTo>
                      <a:pt x="99" y="0"/>
                      <a:pt x="100" y="1"/>
                      <a:pt x="100" y="2"/>
                    </a:cubicBezTo>
                    <a:cubicBezTo>
                      <a:pt x="100" y="4"/>
                      <a:pt x="99" y="4"/>
                      <a:pt x="98" y="4"/>
                    </a:cubicBezTo>
                    <a:lnTo>
                      <a:pt x="98" y="4"/>
                    </a:lnTo>
                    <a:cubicBezTo>
                      <a:pt x="97" y="4"/>
                      <a:pt x="96" y="4"/>
                      <a:pt x="96" y="2"/>
                    </a:cubicBezTo>
                    <a:cubicBezTo>
                      <a:pt x="96" y="1"/>
                      <a:pt x="97" y="0"/>
                      <a:pt x="98" y="0"/>
                    </a:cubicBezTo>
                    <a:close/>
                    <a:moveTo>
                      <a:pt x="106" y="0"/>
                    </a:moveTo>
                    <a:lnTo>
                      <a:pt x="106" y="0"/>
                    </a:lnTo>
                    <a:cubicBezTo>
                      <a:pt x="107" y="0"/>
                      <a:pt x="108" y="1"/>
                      <a:pt x="108" y="2"/>
                    </a:cubicBezTo>
                    <a:cubicBezTo>
                      <a:pt x="108" y="4"/>
                      <a:pt x="107" y="4"/>
                      <a:pt x="106" y="4"/>
                    </a:cubicBezTo>
                    <a:lnTo>
                      <a:pt x="106" y="4"/>
                    </a:lnTo>
                    <a:cubicBezTo>
                      <a:pt x="105" y="4"/>
                      <a:pt x="104" y="4"/>
                      <a:pt x="104" y="2"/>
                    </a:cubicBezTo>
                    <a:cubicBezTo>
                      <a:pt x="104" y="1"/>
                      <a:pt x="105" y="0"/>
                      <a:pt x="106" y="0"/>
                    </a:cubicBezTo>
                    <a:close/>
                    <a:moveTo>
                      <a:pt x="114" y="0"/>
                    </a:moveTo>
                    <a:lnTo>
                      <a:pt x="114" y="0"/>
                    </a:lnTo>
                    <a:cubicBezTo>
                      <a:pt x="115" y="0"/>
                      <a:pt x="116" y="1"/>
                      <a:pt x="116" y="2"/>
                    </a:cubicBezTo>
                    <a:cubicBezTo>
                      <a:pt x="116" y="4"/>
                      <a:pt x="115" y="4"/>
                      <a:pt x="114" y="4"/>
                    </a:cubicBezTo>
                    <a:lnTo>
                      <a:pt x="114" y="4"/>
                    </a:lnTo>
                    <a:cubicBezTo>
                      <a:pt x="113" y="4"/>
                      <a:pt x="112" y="4"/>
                      <a:pt x="112" y="2"/>
                    </a:cubicBezTo>
                    <a:cubicBezTo>
                      <a:pt x="112" y="1"/>
                      <a:pt x="113" y="0"/>
                      <a:pt x="114" y="0"/>
                    </a:cubicBezTo>
                    <a:close/>
                    <a:moveTo>
                      <a:pt x="122" y="0"/>
                    </a:moveTo>
                    <a:lnTo>
                      <a:pt x="122" y="0"/>
                    </a:lnTo>
                    <a:cubicBezTo>
                      <a:pt x="123" y="0"/>
                      <a:pt x="124" y="1"/>
                      <a:pt x="124" y="2"/>
                    </a:cubicBezTo>
                    <a:cubicBezTo>
                      <a:pt x="124" y="4"/>
                      <a:pt x="123" y="4"/>
                      <a:pt x="122" y="4"/>
                    </a:cubicBezTo>
                    <a:lnTo>
                      <a:pt x="122" y="4"/>
                    </a:lnTo>
                    <a:cubicBezTo>
                      <a:pt x="121" y="4"/>
                      <a:pt x="120" y="4"/>
                      <a:pt x="120" y="2"/>
                    </a:cubicBezTo>
                    <a:cubicBezTo>
                      <a:pt x="120" y="1"/>
                      <a:pt x="121" y="0"/>
                      <a:pt x="122" y="0"/>
                    </a:cubicBezTo>
                    <a:close/>
                    <a:moveTo>
                      <a:pt x="130" y="0"/>
                    </a:moveTo>
                    <a:lnTo>
                      <a:pt x="130" y="0"/>
                    </a:lnTo>
                    <a:cubicBezTo>
                      <a:pt x="131" y="0"/>
                      <a:pt x="132" y="1"/>
                      <a:pt x="132" y="2"/>
                    </a:cubicBezTo>
                    <a:cubicBezTo>
                      <a:pt x="132" y="4"/>
                      <a:pt x="131" y="4"/>
                      <a:pt x="130" y="4"/>
                    </a:cubicBezTo>
                    <a:lnTo>
                      <a:pt x="130" y="4"/>
                    </a:lnTo>
                    <a:cubicBezTo>
                      <a:pt x="129" y="4"/>
                      <a:pt x="128" y="4"/>
                      <a:pt x="128" y="2"/>
                    </a:cubicBezTo>
                    <a:cubicBezTo>
                      <a:pt x="128" y="1"/>
                      <a:pt x="129" y="0"/>
                      <a:pt x="130" y="0"/>
                    </a:cubicBezTo>
                    <a:close/>
                    <a:moveTo>
                      <a:pt x="138" y="0"/>
                    </a:moveTo>
                    <a:lnTo>
                      <a:pt x="138" y="0"/>
                    </a:lnTo>
                    <a:cubicBezTo>
                      <a:pt x="139" y="0"/>
                      <a:pt x="140" y="1"/>
                      <a:pt x="140" y="2"/>
                    </a:cubicBezTo>
                    <a:cubicBezTo>
                      <a:pt x="140" y="4"/>
                      <a:pt x="139" y="4"/>
                      <a:pt x="138" y="4"/>
                    </a:cubicBezTo>
                    <a:lnTo>
                      <a:pt x="138" y="4"/>
                    </a:lnTo>
                    <a:cubicBezTo>
                      <a:pt x="137" y="4"/>
                      <a:pt x="136" y="4"/>
                      <a:pt x="136" y="2"/>
                    </a:cubicBezTo>
                    <a:cubicBezTo>
                      <a:pt x="136" y="1"/>
                      <a:pt x="137" y="0"/>
                      <a:pt x="138" y="0"/>
                    </a:cubicBezTo>
                    <a:close/>
                    <a:moveTo>
                      <a:pt x="146" y="0"/>
                    </a:moveTo>
                    <a:lnTo>
                      <a:pt x="146" y="0"/>
                    </a:lnTo>
                    <a:cubicBezTo>
                      <a:pt x="147" y="0"/>
                      <a:pt x="148" y="1"/>
                      <a:pt x="148" y="2"/>
                    </a:cubicBezTo>
                    <a:cubicBezTo>
                      <a:pt x="148" y="4"/>
                      <a:pt x="147" y="4"/>
                      <a:pt x="146" y="4"/>
                    </a:cubicBezTo>
                    <a:lnTo>
                      <a:pt x="146" y="4"/>
                    </a:lnTo>
                    <a:cubicBezTo>
                      <a:pt x="145" y="4"/>
                      <a:pt x="144" y="4"/>
                      <a:pt x="144" y="2"/>
                    </a:cubicBezTo>
                    <a:cubicBezTo>
                      <a:pt x="144" y="1"/>
                      <a:pt x="145" y="0"/>
                      <a:pt x="146" y="0"/>
                    </a:cubicBezTo>
                    <a:close/>
                    <a:moveTo>
                      <a:pt x="154" y="0"/>
                    </a:moveTo>
                    <a:lnTo>
                      <a:pt x="154" y="0"/>
                    </a:lnTo>
                    <a:cubicBezTo>
                      <a:pt x="155" y="0"/>
                      <a:pt x="156" y="1"/>
                      <a:pt x="156" y="2"/>
                    </a:cubicBezTo>
                    <a:cubicBezTo>
                      <a:pt x="156" y="4"/>
                      <a:pt x="155" y="4"/>
                      <a:pt x="154" y="4"/>
                    </a:cubicBezTo>
                    <a:lnTo>
                      <a:pt x="154" y="4"/>
                    </a:lnTo>
                    <a:cubicBezTo>
                      <a:pt x="153" y="4"/>
                      <a:pt x="152" y="4"/>
                      <a:pt x="152" y="2"/>
                    </a:cubicBezTo>
                    <a:cubicBezTo>
                      <a:pt x="152" y="1"/>
                      <a:pt x="153" y="0"/>
                      <a:pt x="154" y="0"/>
                    </a:cubicBezTo>
                    <a:close/>
                    <a:moveTo>
                      <a:pt x="162" y="0"/>
                    </a:moveTo>
                    <a:lnTo>
                      <a:pt x="162" y="0"/>
                    </a:lnTo>
                    <a:cubicBezTo>
                      <a:pt x="163" y="0"/>
                      <a:pt x="164" y="1"/>
                      <a:pt x="164" y="2"/>
                    </a:cubicBezTo>
                    <a:cubicBezTo>
                      <a:pt x="164" y="4"/>
                      <a:pt x="163" y="4"/>
                      <a:pt x="162" y="4"/>
                    </a:cubicBezTo>
                    <a:lnTo>
                      <a:pt x="162" y="4"/>
                    </a:lnTo>
                    <a:cubicBezTo>
                      <a:pt x="161" y="4"/>
                      <a:pt x="160" y="4"/>
                      <a:pt x="160" y="2"/>
                    </a:cubicBezTo>
                    <a:cubicBezTo>
                      <a:pt x="160" y="1"/>
                      <a:pt x="161" y="0"/>
                      <a:pt x="162" y="0"/>
                    </a:cubicBezTo>
                    <a:close/>
                    <a:moveTo>
                      <a:pt x="170" y="0"/>
                    </a:moveTo>
                    <a:lnTo>
                      <a:pt x="170" y="0"/>
                    </a:lnTo>
                    <a:cubicBezTo>
                      <a:pt x="171" y="0"/>
                      <a:pt x="172" y="1"/>
                      <a:pt x="172" y="2"/>
                    </a:cubicBezTo>
                    <a:cubicBezTo>
                      <a:pt x="172" y="4"/>
                      <a:pt x="171" y="4"/>
                      <a:pt x="170" y="4"/>
                    </a:cubicBezTo>
                    <a:lnTo>
                      <a:pt x="170" y="4"/>
                    </a:lnTo>
                    <a:cubicBezTo>
                      <a:pt x="169" y="4"/>
                      <a:pt x="168" y="4"/>
                      <a:pt x="168" y="2"/>
                    </a:cubicBezTo>
                    <a:cubicBezTo>
                      <a:pt x="168" y="1"/>
                      <a:pt x="169" y="0"/>
                      <a:pt x="170" y="0"/>
                    </a:cubicBezTo>
                    <a:close/>
                    <a:moveTo>
                      <a:pt x="178" y="1"/>
                    </a:moveTo>
                    <a:lnTo>
                      <a:pt x="178" y="1"/>
                    </a:lnTo>
                    <a:cubicBezTo>
                      <a:pt x="179" y="1"/>
                      <a:pt x="180" y="1"/>
                      <a:pt x="180" y="3"/>
                    </a:cubicBezTo>
                    <a:cubicBezTo>
                      <a:pt x="180" y="4"/>
                      <a:pt x="179" y="5"/>
                      <a:pt x="178" y="5"/>
                    </a:cubicBezTo>
                    <a:lnTo>
                      <a:pt x="178" y="5"/>
                    </a:lnTo>
                    <a:cubicBezTo>
                      <a:pt x="177" y="5"/>
                      <a:pt x="176" y="4"/>
                      <a:pt x="176" y="3"/>
                    </a:cubicBezTo>
                    <a:cubicBezTo>
                      <a:pt x="176" y="1"/>
                      <a:pt x="177" y="1"/>
                      <a:pt x="178" y="1"/>
                    </a:cubicBezTo>
                    <a:close/>
                    <a:moveTo>
                      <a:pt x="186" y="1"/>
                    </a:moveTo>
                    <a:lnTo>
                      <a:pt x="186" y="1"/>
                    </a:lnTo>
                    <a:cubicBezTo>
                      <a:pt x="187" y="1"/>
                      <a:pt x="188" y="1"/>
                      <a:pt x="188" y="3"/>
                    </a:cubicBezTo>
                    <a:cubicBezTo>
                      <a:pt x="188" y="4"/>
                      <a:pt x="187" y="5"/>
                      <a:pt x="186" y="5"/>
                    </a:cubicBezTo>
                    <a:lnTo>
                      <a:pt x="186" y="5"/>
                    </a:lnTo>
                    <a:cubicBezTo>
                      <a:pt x="185" y="5"/>
                      <a:pt x="184" y="4"/>
                      <a:pt x="184" y="3"/>
                    </a:cubicBezTo>
                    <a:cubicBezTo>
                      <a:pt x="184" y="1"/>
                      <a:pt x="185" y="1"/>
                      <a:pt x="186" y="1"/>
                    </a:cubicBezTo>
                    <a:close/>
                    <a:moveTo>
                      <a:pt x="194" y="1"/>
                    </a:moveTo>
                    <a:lnTo>
                      <a:pt x="194" y="1"/>
                    </a:lnTo>
                    <a:cubicBezTo>
                      <a:pt x="195" y="1"/>
                      <a:pt x="196" y="1"/>
                      <a:pt x="196" y="3"/>
                    </a:cubicBezTo>
                    <a:cubicBezTo>
                      <a:pt x="196" y="4"/>
                      <a:pt x="195" y="5"/>
                      <a:pt x="194" y="5"/>
                    </a:cubicBezTo>
                    <a:lnTo>
                      <a:pt x="194" y="5"/>
                    </a:lnTo>
                    <a:cubicBezTo>
                      <a:pt x="193" y="5"/>
                      <a:pt x="192" y="4"/>
                      <a:pt x="192" y="3"/>
                    </a:cubicBezTo>
                    <a:cubicBezTo>
                      <a:pt x="192" y="1"/>
                      <a:pt x="193" y="1"/>
                      <a:pt x="194" y="1"/>
                    </a:cubicBezTo>
                    <a:close/>
                    <a:moveTo>
                      <a:pt x="202" y="1"/>
                    </a:moveTo>
                    <a:lnTo>
                      <a:pt x="202" y="1"/>
                    </a:lnTo>
                    <a:cubicBezTo>
                      <a:pt x="203" y="1"/>
                      <a:pt x="204" y="1"/>
                      <a:pt x="204" y="3"/>
                    </a:cubicBezTo>
                    <a:cubicBezTo>
                      <a:pt x="204" y="4"/>
                      <a:pt x="203" y="5"/>
                      <a:pt x="202" y="5"/>
                    </a:cubicBezTo>
                    <a:lnTo>
                      <a:pt x="202" y="5"/>
                    </a:lnTo>
                    <a:cubicBezTo>
                      <a:pt x="201" y="5"/>
                      <a:pt x="200" y="4"/>
                      <a:pt x="200" y="3"/>
                    </a:cubicBezTo>
                    <a:cubicBezTo>
                      <a:pt x="200" y="1"/>
                      <a:pt x="201" y="1"/>
                      <a:pt x="202" y="1"/>
                    </a:cubicBezTo>
                    <a:close/>
                    <a:moveTo>
                      <a:pt x="210" y="1"/>
                    </a:moveTo>
                    <a:lnTo>
                      <a:pt x="210" y="1"/>
                    </a:lnTo>
                    <a:cubicBezTo>
                      <a:pt x="211" y="1"/>
                      <a:pt x="212" y="1"/>
                      <a:pt x="212" y="3"/>
                    </a:cubicBezTo>
                    <a:cubicBezTo>
                      <a:pt x="212" y="4"/>
                      <a:pt x="211" y="5"/>
                      <a:pt x="210" y="5"/>
                    </a:cubicBezTo>
                    <a:lnTo>
                      <a:pt x="210" y="5"/>
                    </a:lnTo>
                    <a:cubicBezTo>
                      <a:pt x="209" y="5"/>
                      <a:pt x="208" y="4"/>
                      <a:pt x="208" y="3"/>
                    </a:cubicBezTo>
                    <a:cubicBezTo>
                      <a:pt x="208" y="1"/>
                      <a:pt x="209" y="1"/>
                      <a:pt x="210" y="1"/>
                    </a:cubicBezTo>
                    <a:close/>
                    <a:moveTo>
                      <a:pt x="218" y="1"/>
                    </a:moveTo>
                    <a:lnTo>
                      <a:pt x="218" y="1"/>
                    </a:lnTo>
                    <a:cubicBezTo>
                      <a:pt x="219" y="1"/>
                      <a:pt x="220" y="1"/>
                      <a:pt x="220" y="3"/>
                    </a:cubicBezTo>
                    <a:cubicBezTo>
                      <a:pt x="220" y="4"/>
                      <a:pt x="219" y="5"/>
                      <a:pt x="218" y="5"/>
                    </a:cubicBezTo>
                    <a:lnTo>
                      <a:pt x="218" y="5"/>
                    </a:lnTo>
                    <a:cubicBezTo>
                      <a:pt x="217" y="5"/>
                      <a:pt x="216" y="4"/>
                      <a:pt x="216" y="3"/>
                    </a:cubicBezTo>
                    <a:cubicBezTo>
                      <a:pt x="216" y="1"/>
                      <a:pt x="217" y="1"/>
                      <a:pt x="218" y="1"/>
                    </a:cubicBezTo>
                    <a:close/>
                    <a:moveTo>
                      <a:pt x="226" y="1"/>
                    </a:moveTo>
                    <a:lnTo>
                      <a:pt x="226" y="1"/>
                    </a:lnTo>
                    <a:cubicBezTo>
                      <a:pt x="227" y="1"/>
                      <a:pt x="228" y="1"/>
                      <a:pt x="228" y="3"/>
                    </a:cubicBezTo>
                    <a:cubicBezTo>
                      <a:pt x="228" y="4"/>
                      <a:pt x="227" y="5"/>
                      <a:pt x="226" y="5"/>
                    </a:cubicBezTo>
                    <a:lnTo>
                      <a:pt x="226" y="5"/>
                    </a:lnTo>
                    <a:cubicBezTo>
                      <a:pt x="225" y="5"/>
                      <a:pt x="224" y="4"/>
                      <a:pt x="224" y="3"/>
                    </a:cubicBezTo>
                    <a:cubicBezTo>
                      <a:pt x="224" y="1"/>
                      <a:pt x="225" y="1"/>
                      <a:pt x="226" y="1"/>
                    </a:cubicBezTo>
                    <a:close/>
                    <a:moveTo>
                      <a:pt x="234" y="1"/>
                    </a:moveTo>
                    <a:lnTo>
                      <a:pt x="234" y="1"/>
                    </a:lnTo>
                    <a:cubicBezTo>
                      <a:pt x="235" y="1"/>
                      <a:pt x="236" y="1"/>
                      <a:pt x="236" y="3"/>
                    </a:cubicBezTo>
                    <a:cubicBezTo>
                      <a:pt x="236" y="4"/>
                      <a:pt x="235" y="5"/>
                      <a:pt x="234" y="5"/>
                    </a:cubicBezTo>
                    <a:lnTo>
                      <a:pt x="234" y="5"/>
                    </a:lnTo>
                    <a:cubicBezTo>
                      <a:pt x="233" y="5"/>
                      <a:pt x="232" y="4"/>
                      <a:pt x="232" y="3"/>
                    </a:cubicBezTo>
                    <a:cubicBezTo>
                      <a:pt x="232" y="1"/>
                      <a:pt x="233" y="1"/>
                      <a:pt x="234" y="1"/>
                    </a:cubicBezTo>
                    <a:close/>
                    <a:moveTo>
                      <a:pt x="242" y="1"/>
                    </a:moveTo>
                    <a:lnTo>
                      <a:pt x="242" y="1"/>
                    </a:lnTo>
                    <a:cubicBezTo>
                      <a:pt x="243" y="1"/>
                      <a:pt x="244" y="1"/>
                      <a:pt x="244" y="3"/>
                    </a:cubicBezTo>
                    <a:cubicBezTo>
                      <a:pt x="244" y="4"/>
                      <a:pt x="243" y="5"/>
                      <a:pt x="242" y="5"/>
                    </a:cubicBezTo>
                    <a:lnTo>
                      <a:pt x="242" y="5"/>
                    </a:lnTo>
                    <a:cubicBezTo>
                      <a:pt x="241" y="5"/>
                      <a:pt x="240" y="4"/>
                      <a:pt x="240" y="3"/>
                    </a:cubicBezTo>
                    <a:cubicBezTo>
                      <a:pt x="240" y="1"/>
                      <a:pt x="241" y="1"/>
                      <a:pt x="242" y="1"/>
                    </a:cubicBezTo>
                    <a:close/>
                    <a:moveTo>
                      <a:pt x="250" y="1"/>
                    </a:moveTo>
                    <a:lnTo>
                      <a:pt x="250" y="1"/>
                    </a:lnTo>
                    <a:cubicBezTo>
                      <a:pt x="251" y="1"/>
                      <a:pt x="252" y="1"/>
                      <a:pt x="252" y="3"/>
                    </a:cubicBezTo>
                    <a:cubicBezTo>
                      <a:pt x="252" y="4"/>
                      <a:pt x="251" y="5"/>
                      <a:pt x="250" y="5"/>
                    </a:cubicBezTo>
                    <a:lnTo>
                      <a:pt x="250" y="5"/>
                    </a:lnTo>
                    <a:cubicBezTo>
                      <a:pt x="249" y="5"/>
                      <a:pt x="248" y="4"/>
                      <a:pt x="248" y="3"/>
                    </a:cubicBezTo>
                    <a:cubicBezTo>
                      <a:pt x="248" y="1"/>
                      <a:pt x="249" y="1"/>
                      <a:pt x="250" y="1"/>
                    </a:cubicBezTo>
                    <a:close/>
                    <a:moveTo>
                      <a:pt x="258" y="1"/>
                    </a:moveTo>
                    <a:lnTo>
                      <a:pt x="258" y="1"/>
                    </a:lnTo>
                    <a:cubicBezTo>
                      <a:pt x="259" y="1"/>
                      <a:pt x="260" y="1"/>
                      <a:pt x="260" y="3"/>
                    </a:cubicBezTo>
                    <a:cubicBezTo>
                      <a:pt x="260" y="4"/>
                      <a:pt x="259" y="5"/>
                      <a:pt x="258" y="5"/>
                    </a:cubicBezTo>
                    <a:lnTo>
                      <a:pt x="258" y="5"/>
                    </a:lnTo>
                    <a:cubicBezTo>
                      <a:pt x="257" y="5"/>
                      <a:pt x="256" y="4"/>
                      <a:pt x="256" y="3"/>
                    </a:cubicBezTo>
                    <a:cubicBezTo>
                      <a:pt x="256" y="1"/>
                      <a:pt x="257" y="1"/>
                      <a:pt x="258" y="1"/>
                    </a:cubicBezTo>
                    <a:close/>
                    <a:moveTo>
                      <a:pt x="266" y="1"/>
                    </a:moveTo>
                    <a:lnTo>
                      <a:pt x="266" y="1"/>
                    </a:lnTo>
                    <a:cubicBezTo>
                      <a:pt x="267" y="1"/>
                      <a:pt x="268" y="1"/>
                      <a:pt x="268" y="3"/>
                    </a:cubicBezTo>
                    <a:cubicBezTo>
                      <a:pt x="268" y="4"/>
                      <a:pt x="267" y="5"/>
                      <a:pt x="266" y="5"/>
                    </a:cubicBezTo>
                    <a:lnTo>
                      <a:pt x="266" y="5"/>
                    </a:lnTo>
                    <a:cubicBezTo>
                      <a:pt x="265" y="5"/>
                      <a:pt x="264" y="4"/>
                      <a:pt x="264" y="3"/>
                    </a:cubicBezTo>
                    <a:cubicBezTo>
                      <a:pt x="264" y="1"/>
                      <a:pt x="265" y="1"/>
                      <a:pt x="266" y="1"/>
                    </a:cubicBezTo>
                    <a:close/>
                    <a:moveTo>
                      <a:pt x="274" y="1"/>
                    </a:moveTo>
                    <a:lnTo>
                      <a:pt x="274" y="1"/>
                    </a:lnTo>
                    <a:cubicBezTo>
                      <a:pt x="275" y="1"/>
                      <a:pt x="276" y="1"/>
                      <a:pt x="276" y="3"/>
                    </a:cubicBezTo>
                    <a:cubicBezTo>
                      <a:pt x="276" y="4"/>
                      <a:pt x="275" y="5"/>
                      <a:pt x="274" y="5"/>
                    </a:cubicBezTo>
                    <a:lnTo>
                      <a:pt x="274" y="5"/>
                    </a:lnTo>
                    <a:cubicBezTo>
                      <a:pt x="273" y="5"/>
                      <a:pt x="272" y="4"/>
                      <a:pt x="272" y="3"/>
                    </a:cubicBezTo>
                    <a:cubicBezTo>
                      <a:pt x="272" y="1"/>
                      <a:pt x="273" y="1"/>
                      <a:pt x="274" y="1"/>
                    </a:cubicBezTo>
                    <a:close/>
                    <a:moveTo>
                      <a:pt x="282" y="1"/>
                    </a:moveTo>
                    <a:lnTo>
                      <a:pt x="282" y="1"/>
                    </a:lnTo>
                    <a:cubicBezTo>
                      <a:pt x="283" y="1"/>
                      <a:pt x="284" y="1"/>
                      <a:pt x="284" y="3"/>
                    </a:cubicBezTo>
                    <a:cubicBezTo>
                      <a:pt x="284" y="4"/>
                      <a:pt x="283" y="5"/>
                      <a:pt x="282" y="5"/>
                    </a:cubicBezTo>
                    <a:lnTo>
                      <a:pt x="282" y="5"/>
                    </a:lnTo>
                    <a:cubicBezTo>
                      <a:pt x="281" y="5"/>
                      <a:pt x="280" y="4"/>
                      <a:pt x="280" y="3"/>
                    </a:cubicBezTo>
                    <a:cubicBezTo>
                      <a:pt x="280" y="1"/>
                      <a:pt x="281" y="1"/>
                      <a:pt x="282" y="1"/>
                    </a:cubicBezTo>
                    <a:close/>
                    <a:moveTo>
                      <a:pt x="290" y="1"/>
                    </a:moveTo>
                    <a:lnTo>
                      <a:pt x="290" y="1"/>
                    </a:lnTo>
                    <a:cubicBezTo>
                      <a:pt x="291" y="1"/>
                      <a:pt x="292" y="1"/>
                      <a:pt x="292" y="3"/>
                    </a:cubicBezTo>
                    <a:cubicBezTo>
                      <a:pt x="292" y="4"/>
                      <a:pt x="291" y="5"/>
                      <a:pt x="290" y="5"/>
                    </a:cubicBezTo>
                    <a:lnTo>
                      <a:pt x="290" y="5"/>
                    </a:lnTo>
                    <a:cubicBezTo>
                      <a:pt x="289" y="5"/>
                      <a:pt x="288" y="4"/>
                      <a:pt x="288" y="3"/>
                    </a:cubicBezTo>
                    <a:cubicBezTo>
                      <a:pt x="288" y="1"/>
                      <a:pt x="289" y="1"/>
                      <a:pt x="290" y="1"/>
                    </a:cubicBezTo>
                    <a:close/>
                    <a:moveTo>
                      <a:pt x="298" y="1"/>
                    </a:moveTo>
                    <a:lnTo>
                      <a:pt x="298" y="1"/>
                    </a:lnTo>
                    <a:cubicBezTo>
                      <a:pt x="299" y="1"/>
                      <a:pt x="300" y="1"/>
                      <a:pt x="300" y="3"/>
                    </a:cubicBezTo>
                    <a:cubicBezTo>
                      <a:pt x="300" y="4"/>
                      <a:pt x="299" y="5"/>
                      <a:pt x="298" y="5"/>
                    </a:cubicBezTo>
                    <a:lnTo>
                      <a:pt x="298" y="5"/>
                    </a:lnTo>
                    <a:cubicBezTo>
                      <a:pt x="297" y="5"/>
                      <a:pt x="296" y="4"/>
                      <a:pt x="296" y="3"/>
                    </a:cubicBezTo>
                    <a:cubicBezTo>
                      <a:pt x="296" y="1"/>
                      <a:pt x="297" y="1"/>
                      <a:pt x="298" y="1"/>
                    </a:cubicBezTo>
                    <a:close/>
                    <a:moveTo>
                      <a:pt x="306" y="1"/>
                    </a:moveTo>
                    <a:lnTo>
                      <a:pt x="306" y="1"/>
                    </a:lnTo>
                    <a:cubicBezTo>
                      <a:pt x="307" y="1"/>
                      <a:pt x="308" y="1"/>
                      <a:pt x="308" y="3"/>
                    </a:cubicBezTo>
                    <a:cubicBezTo>
                      <a:pt x="308" y="4"/>
                      <a:pt x="307" y="5"/>
                      <a:pt x="306" y="5"/>
                    </a:cubicBezTo>
                    <a:lnTo>
                      <a:pt x="306" y="5"/>
                    </a:lnTo>
                    <a:cubicBezTo>
                      <a:pt x="305" y="5"/>
                      <a:pt x="304" y="4"/>
                      <a:pt x="304" y="3"/>
                    </a:cubicBezTo>
                    <a:cubicBezTo>
                      <a:pt x="304" y="1"/>
                      <a:pt x="305" y="1"/>
                      <a:pt x="306" y="1"/>
                    </a:cubicBezTo>
                    <a:close/>
                    <a:moveTo>
                      <a:pt x="314" y="1"/>
                    </a:moveTo>
                    <a:lnTo>
                      <a:pt x="314" y="1"/>
                    </a:lnTo>
                    <a:cubicBezTo>
                      <a:pt x="315" y="1"/>
                      <a:pt x="316" y="1"/>
                      <a:pt x="316" y="3"/>
                    </a:cubicBezTo>
                    <a:cubicBezTo>
                      <a:pt x="316" y="4"/>
                      <a:pt x="315" y="5"/>
                      <a:pt x="314" y="5"/>
                    </a:cubicBezTo>
                    <a:lnTo>
                      <a:pt x="314" y="5"/>
                    </a:lnTo>
                    <a:cubicBezTo>
                      <a:pt x="313" y="5"/>
                      <a:pt x="312" y="4"/>
                      <a:pt x="312" y="3"/>
                    </a:cubicBezTo>
                    <a:cubicBezTo>
                      <a:pt x="312" y="1"/>
                      <a:pt x="313" y="1"/>
                      <a:pt x="314" y="1"/>
                    </a:cubicBezTo>
                    <a:close/>
                    <a:moveTo>
                      <a:pt x="322" y="1"/>
                    </a:moveTo>
                    <a:lnTo>
                      <a:pt x="322" y="1"/>
                    </a:lnTo>
                    <a:cubicBezTo>
                      <a:pt x="323" y="1"/>
                      <a:pt x="324" y="1"/>
                      <a:pt x="324" y="3"/>
                    </a:cubicBezTo>
                    <a:cubicBezTo>
                      <a:pt x="324" y="4"/>
                      <a:pt x="323" y="5"/>
                      <a:pt x="322" y="5"/>
                    </a:cubicBezTo>
                    <a:lnTo>
                      <a:pt x="322" y="5"/>
                    </a:lnTo>
                    <a:cubicBezTo>
                      <a:pt x="321" y="5"/>
                      <a:pt x="320" y="4"/>
                      <a:pt x="320" y="3"/>
                    </a:cubicBezTo>
                    <a:cubicBezTo>
                      <a:pt x="320" y="1"/>
                      <a:pt x="321" y="1"/>
                      <a:pt x="322" y="1"/>
                    </a:cubicBezTo>
                    <a:close/>
                    <a:moveTo>
                      <a:pt x="330" y="1"/>
                    </a:moveTo>
                    <a:lnTo>
                      <a:pt x="330" y="1"/>
                    </a:lnTo>
                    <a:cubicBezTo>
                      <a:pt x="331" y="1"/>
                      <a:pt x="332" y="1"/>
                      <a:pt x="332" y="3"/>
                    </a:cubicBezTo>
                    <a:cubicBezTo>
                      <a:pt x="332" y="4"/>
                      <a:pt x="331" y="5"/>
                      <a:pt x="330" y="5"/>
                    </a:cubicBezTo>
                    <a:lnTo>
                      <a:pt x="330" y="5"/>
                    </a:lnTo>
                    <a:cubicBezTo>
                      <a:pt x="329" y="5"/>
                      <a:pt x="328" y="4"/>
                      <a:pt x="328" y="3"/>
                    </a:cubicBezTo>
                    <a:cubicBezTo>
                      <a:pt x="328" y="1"/>
                      <a:pt x="329" y="1"/>
                      <a:pt x="330" y="1"/>
                    </a:cubicBezTo>
                    <a:close/>
                    <a:moveTo>
                      <a:pt x="338" y="1"/>
                    </a:moveTo>
                    <a:lnTo>
                      <a:pt x="338" y="1"/>
                    </a:lnTo>
                    <a:cubicBezTo>
                      <a:pt x="339" y="1"/>
                      <a:pt x="340" y="1"/>
                      <a:pt x="340" y="3"/>
                    </a:cubicBezTo>
                    <a:cubicBezTo>
                      <a:pt x="340" y="4"/>
                      <a:pt x="339" y="5"/>
                      <a:pt x="338" y="5"/>
                    </a:cubicBezTo>
                    <a:lnTo>
                      <a:pt x="338" y="5"/>
                    </a:lnTo>
                    <a:cubicBezTo>
                      <a:pt x="337" y="5"/>
                      <a:pt x="336" y="4"/>
                      <a:pt x="336" y="3"/>
                    </a:cubicBezTo>
                    <a:cubicBezTo>
                      <a:pt x="336" y="1"/>
                      <a:pt x="337" y="1"/>
                      <a:pt x="338" y="1"/>
                    </a:cubicBezTo>
                    <a:close/>
                    <a:moveTo>
                      <a:pt x="346" y="1"/>
                    </a:moveTo>
                    <a:lnTo>
                      <a:pt x="346" y="1"/>
                    </a:lnTo>
                    <a:cubicBezTo>
                      <a:pt x="347" y="1"/>
                      <a:pt x="348" y="1"/>
                      <a:pt x="348" y="3"/>
                    </a:cubicBezTo>
                    <a:cubicBezTo>
                      <a:pt x="348" y="4"/>
                      <a:pt x="347" y="5"/>
                      <a:pt x="346" y="5"/>
                    </a:cubicBezTo>
                    <a:lnTo>
                      <a:pt x="346" y="5"/>
                    </a:lnTo>
                    <a:cubicBezTo>
                      <a:pt x="345" y="5"/>
                      <a:pt x="344" y="4"/>
                      <a:pt x="344" y="3"/>
                    </a:cubicBezTo>
                    <a:cubicBezTo>
                      <a:pt x="344" y="1"/>
                      <a:pt x="345" y="1"/>
                      <a:pt x="346" y="1"/>
                    </a:cubicBezTo>
                    <a:close/>
                    <a:moveTo>
                      <a:pt x="354" y="1"/>
                    </a:moveTo>
                    <a:lnTo>
                      <a:pt x="354" y="1"/>
                    </a:lnTo>
                    <a:cubicBezTo>
                      <a:pt x="355" y="1"/>
                      <a:pt x="356" y="1"/>
                      <a:pt x="356" y="3"/>
                    </a:cubicBezTo>
                    <a:cubicBezTo>
                      <a:pt x="356" y="4"/>
                      <a:pt x="355" y="5"/>
                      <a:pt x="354" y="5"/>
                    </a:cubicBezTo>
                    <a:lnTo>
                      <a:pt x="354" y="5"/>
                    </a:lnTo>
                    <a:cubicBezTo>
                      <a:pt x="353" y="5"/>
                      <a:pt x="352" y="4"/>
                      <a:pt x="352" y="3"/>
                    </a:cubicBezTo>
                    <a:cubicBezTo>
                      <a:pt x="352" y="1"/>
                      <a:pt x="353" y="1"/>
                      <a:pt x="354" y="1"/>
                    </a:cubicBezTo>
                    <a:close/>
                    <a:moveTo>
                      <a:pt x="362" y="1"/>
                    </a:moveTo>
                    <a:lnTo>
                      <a:pt x="362" y="1"/>
                    </a:lnTo>
                    <a:cubicBezTo>
                      <a:pt x="363" y="1"/>
                      <a:pt x="364" y="1"/>
                      <a:pt x="364" y="3"/>
                    </a:cubicBezTo>
                    <a:cubicBezTo>
                      <a:pt x="364" y="4"/>
                      <a:pt x="363" y="5"/>
                      <a:pt x="362" y="5"/>
                    </a:cubicBezTo>
                    <a:lnTo>
                      <a:pt x="362" y="5"/>
                    </a:lnTo>
                    <a:cubicBezTo>
                      <a:pt x="361" y="5"/>
                      <a:pt x="360" y="4"/>
                      <a:pt x="360" y="3"/>
                    </a:cubicBezTo>
                    <a:cubicBezTo>
                      <a:pt x="360" y="1"/>
                      <a:pt x="361" y="1"/>
                      <a:pt x="362" y="1"/>
                    </a:cubicBezTo>
                    <a:close/>
                    <a:moveTo>
                      <a:pt x="370" y="1"/>
                    </a:moveTo>
                    <a:lnTo>
                      <a:pt x="370" y="1"/>
                    </a:lnTo>
                    <a:cubicBezTo>
                      <a:pt x="371" y="1"/>
                      <a:pt x="372" y="1"/>
                      <a:pt x="372" y="3"/>
                    </a:cubicBezTo>
                    <a:cubicBezTo>
                      <a:pt x="372" y="4"/>
                      <a:pt x="371" y="5"/>
                      <a:pt x="370" y="5"/>
                    </a:cubicBezTo>
                    <a:lnTo>
                      <a:pt x="370" y="5"/>
                    </a:lnTo>
                    <a:cubicBezTo>
                      <a:pt x="369" y="5"/>
                      <a:pt x="368" y="4"/>
                      <a:pt x="368" y="3"/>
                    </a:cubicBezTo>
                    <a:cubicBezTo>
                      <a:pt x="368" y="1"/>
                      <a:pt x="369" y="1"/>
                      <a:pt x="370" y="1"/>
                    </a:cubicBezTo>
                    <a:close/>
                    <a:moveTo>
                      <a:pt x="378" y="1"/>
                    </a:moveTo>
                    <a:lnTo>
                      <a:pt x="378" y="1"/>
                    </a:lnTo>
                    <a:cubicBezTo>
                      <a:pt x="379" y="1"/>
                      <a:pt x="380" y="1"/>
                      <a:pt x="380" y="3"/>
                    </a:cubicBezTo>
                    <a:cubicBezTo>
                      <a:pt x="380" y="4"/>
                      <a:pt x="379" y="5"/>
                      <a:pt x="378" y="5"/>
                    </a:cubicBezTo>
                    <a:lnTo>
                      <a:pt x="378" y="5"/>
                    </a:lnTo>
                    <a:cubicBezTo>
                      <a:pt x="377" y="5"/>
                      <a:pt x="376" y="4"/>
                      <a:pt x="376" y="3"/>
                    </a:cubicBezTo>
                    <a:cubicBezTo>
                      <a:pt x="376" y="1"/>
                      <a:pt x="377" y="1"/>
                      <a:pt x="378" y="1"/>
                    </a:cubicBezTo>
                    <a:close/>
                    <a:moveTo>
                      <a:pt x="386" y="1"/>
                    </a:moveTo>
                    <a:lnTo>
                      <a:pt x="386" y="1"/>
                    </a:lnTo>
                    <a:cubicBezTo>
                      <a:pt x="387" y="1"/>
                      <a:pt x="388" y="1"/>
                      <a:pt x="388" y="3"/>
                    </a:cubicBezTo>
                    <a:cubicBezTo>
                      <a:pt x="388" y="4"/>
                      <a:pt x="387" y="5"/>
                      <a:pt x="386" y="5"/>
                    </a:cubicBezTo>
                    <a:lnTo>
                      <a:pt x="386" y="5"/>
                    </a:lnTo>
                    <a:cubicBezTo>
                      <a:pt x="385" y="5"/>
                      <a:pt x="384" y="4"/>
                      <a:pt x="384" y="3"/>
                    </a:cubicBezTo>
                    <a:cubicBezTo>
                      <a:pt x="384" y="1"/>
                      <a:pt x="385" y="1"/>
                      <a:pt x="386" y="1"/>
                    </a:cubicBezTo>
                    <a:close/>
                    <a:moveTo>
                      <a:pt x="394" y="1"/>
                    </a:moveTo>
                    <a:lnTo>
                      <a:pt x="394" y="1"/>
                    </a:lnTo>
                    <a:cubicBezTo>
                      <a:pt x="395" y="1"/>
                      <a:pt x="396" y="1"/>
                      <a:pt x="396" y="3"/>
                    </a:cubicBezTo>
                    <a:cubicBezTo>
                      <a:pt x="396" y="4"/>
                      <a:pt x="395" y="5"/>
                      <a:pt x="394" y="5"/>
                    </a:cubicBezTo>
                    <a:lnTo>
                      <a:pt x="394" y="5"/>
                    </a:lnTo>
                    <a:cubicBezTo>
                      <a:pt x="393" y="5"/>
                      <a:pt x="392" y="4"/>
                      <a:pt x="392" y="3"/>
                    </a:cubicBezTo>
                    <a:cubicBezTo>
                      <a:pt x="392" y="1"/>
                      <a:pt x="393" y="1"/>
                      <a:pt x="394" y="1"/>
                    </a:cubicBezTo>
                    <a:close/>
                    <a:moveTo>
                      <a:pt x="402" y="1"/>
                    </a:moveTo>
                    <a:lnTo>
                      <a:pt x="402" y="1"/>
                    </a:lnTo>
                    <a:cubicBezTo>
                      <a:pt x="403" y="1"/>
                      <a:pt x="404" y="1"/>
                      <a:pt x="404" y="3"/>
                    </a:cubicBezTo>
                    <a:cubicBezTo>
                      <a:pt x="404" y="4"/>
                      <a:pt x="403" y="5"/>
                      <a:pt x="402" y="5"/>
                    </a:cubicBezTo>
                    <a:lnTo>
                      <a:pt x="402" y="5"/>
                    </a:lnTo>
                    <a:cubicBezTo>
                      <a:pt x="401" y="5"/>
                      <a:pt x="400" y="4"/>
                      <a:pt x="400" y="3"/>
                    </a:cubicBezTo>
                    <a:cubicBezTo>
                      <a:pt x="400" y="1"/>
                      <a:pt x="401" y="1"/>
                      <a:pt x="402" y="1"/>
                    </a:cubicBezTo>
                    <a:close/>
                    <a:moveTo>
                      <a:pt x="410" y="1"/>
                    </a:moveTo>
                    <a:lnTo>
                      <a:pt x="410" y="1"/>
                    </a:lnTo>
                    <a:cubicBezTo>
                      <a:pt x="411" y="1"/>
                      <a:pt x="412" y="1"/>
                      <a:pt x="412" y="3"/>
                    </a:cubicBezTo>
                    <a:cubicBezTo>
                      <a:pt x="412" y="4"/>
                      <a:pt x="411" y="5"/>
                      <a:pt x="410" y="5"/>
                    </a:cubicBezTo>
                    <a:lnTo>
                      <a:pt x="410" y="5"/>
                    </a:lnTo>
                    <a:cubicBezTo>
                      <a:pt x="409" y="5"/>
                      <a:pt x="408" y="4"/>
                      <a:pt x="408" y="3"/>
                    </a:cubicBezTo>
                    <a:cubicBezTo>
                      <a:pt x="408" y="1"/>
                      <a:pt x="409" y="1"/>
                      <a:pt x="410" y="1"/>
                    </a:cubicBezTo>
                    <a:close/>
                    <a:moveTo>
                      <a:pt x="418" y="1"/>
                    </a:moveTo>
                    <a:lnTo>
                      <a:pt x="418" y="1"/>
                    </a:lnTo>
                    <a:cubicBezTo>
                      <a:pt x="419" y="1"/>
                      <a:pt x="420" y="1"/>
                      <a:pt x="420" y="3"/>
                    </a:cubicBezTo>
                    <a:cubicBezTo>
                      <a:pt x="420" y="4"/>
                      <a:pt x="419" y="5"/>
                      <a:pt x="418" y="5"/>
                    </a:cubicBezTo>
                    <a:lnTo>
                      <a:pt x="418" y="5"/>
                    </a:lnTo>
                    <a:cubicBezTo>
                      <a:pt x="417" y="5"/>
                      <a:pt x="416" y="4"/>
                      <a:pt x="416" y="3"/>
                    </a:cubicBezTo>
                    <a:cubicBezTo>
                      <a:pt x="416" y="1"/>
                      <a:pt x="417" y="1"/>
                      <a:pt x="418" y="1"/>
                    </a:cubicBezTo>
                    <a:close/>
                    <a:moveTo>
                      <a:pt x="426" y="1"/>
                    </a:moveTo>
                    <a:lnTo>
                      <a:pt x="426" y="1"/>
                    </a:lnTo>
                    <a:cubicBezTo>
                      <a:pt x="427" y="1"/>
                      <a:pt x="428" y="1"/>
                      <a:pt x="428" y="3"/>
                    </a:cubicBezTo>
                    <a:cubicBezTo>
                      <a:pt x="428" y="4"/>
                      <a:pt x="427" y="5"/>
                      <a:pt x="426" y="5"/>
                    </a:cubicBezTo>
                    <a:lnTo>
                      <a:pt x="426" y="5"/>
                    </a:lnTo>
                    <a:cubicBezTo>
                      <a:pt x="425" y="5"/>
                      <a:pt x="424" y="4"/>
                      <a:pt x="424" y="3"/>
                    </a:cubicBezTo>
                    <a:cubicBezTo>
                      <a:pt x="424" y="1"/>
                      <a:pt x="425" y="1"/>
                      <a:pt x="426" y="1"/>
                    </a:cubicBezTo>
                    <a:close/>
                    <a:moveTo>
                      <a:pt x="434" y="1"/>
                    </a:moveTo>
                    <a:lnTo>
                      <a:pt x="434" y="1"/>
                    </a:lnTo>
                    <a:cubicBezTo>
                      <a:pt x="435" y="1"/>
                      <a:pt x="436" y="1"/>
                      <a:pt x="436" y="3"/>
                    </a:cubicBezTo>
                    <a:cubicBezTo>
                      <a:pt x="436" y="4"/>
                      <a:pt x="435" y="5"/>
                      <a:pt x="434" y="5"/>
                    </a:cubicBezTo>
                    <a:lnTo>
                      <a:pt x="434" y="5"/>
                    </a:lnTo>
                    <a:cubicBezTo>
                      <a:pt x="433" y="5"/>
                      <a:pt x="432" y="4"/>
                      <a:pt x="432" y="3"/>
                    </a:cubicBezTo>
                    <a:cubicBezTo>
                      <a:pt x="432" y="1"/>
                      <a:pt x="433" y="1"/>
                      <a:pt x="434" y="1"/>
                    </a:cubicBezTo>
                    <a:close/>
                    <a:moveTo>
                      <a:pt x="442" y="1"/>
                    </a:moveTo>
                    <a:lnTo>
                      <a:pt x="442" y="1"/>
                    </a:lnTo>
                    <a:cubicBezTo>
                      <a:pt x="443" y="1"/>
                      <a:pt x="444" y="1"/>
                      <a:pt x="444" y="3"/>
                    </a:cubicBezTo>
                    <a:cubicBezTo>
                      <a:pt x="444" y="4"/>
                      <a:pt x="443" y="5"/>
                      <a:pt x="442" y="5"/>
                    </a:cubicBezTo>
                    <a:lnTo>
                      <a:pt x="442" y="5"/>
                    </a:lnTo>
                    <a:cubicBezTo>
                      <a:pt x="441" y="5"/>
                      <a:pt x="440" y="4"/>
                      <a:pt x="440" y="3"/>
                    </a:cubicBezTo>
                    <a:cubicBezTo>
                      <a:pt x="440" y="1"/>
                      <a:pt x="441" y="1"/>
                      <a:pt x="442" y="1"/>
                    </a:cubicBezTo>
                    <a:close/>
                    <a:moveTo>
                      <a:pt x="450" y="1"/>
                    </a:moveTo>
                    <a:lnTo>
                      <a:pt x="450" y="1"/>
                    </a:lnTo>
                    <a:cubicBezTo>
                      <a:pt x="451" y="1"/>
                      <a:pt x="452" y="1"/>
                      <a:pt x="452" y="3"/>
                    </a:cubicBezTo>
                    <a:cubicBezTo>
                      <a:pt x="452" y="4"/>
                      <a:pt x="451" y="5"/>
                      <a:pt x="450" y="5"/>
                    </a:cubicBezTo>
                    <a:lnTo>
                      <a:pt x="450" y="5"/>
                    </a:lnTo>
                    <a:cubicBezTo>
                      <a:pt x="449" y="5"/>
                      <a:pt x="448" y="4"/>
                      <a:pt x="448" y="3"/>
                    </a:cubicBezTo>
                    <a:cubicBezTo>
                      <a:pt x="448" y="1"/>
                      <a:pt x="449" y="1"/>
                      <a:pt x="450" y="1"/>
                    </a:cubicBezTo>
                    <a:close/>
                    <a:moveTo>
                      <a:pt x="458" y="1"/>
                    </a:moveTo>
                    <a:lnTo>
                      <a:pt x="458" y="1"/>
                    </a:lnTo>
                    <a:cubicBezTo>
                      <a:pt x="459" y="1"/>
                      <a:pt x="460" y="1"/>
                      <a:pt x="460" y="3"/>
                    </a:cubicBezTo>
                    <a:cubicBezTo>
                      <a:pt x="460" y="4"/>
                      <a:pt x="459" y="5"/>
                      <a:pt x="458" y="5"/>
                    </a:cubicBezTo>
                    <a:lnTo>
                      <a:pt x="458" y="5"/>
                    </a:lnTo>
                    <a:cubicBezTo>
                      <a:pt x="457" y="5"/>
                      <a:pt x="456" y="4"/>
                      <a:pt x="456" y="3"/>
                    </a:cubicBezTo>
                    <a:cubicBezTo>
                      <a:pt x="456" y="1"/>
                      <a:pt x="457" y="1"/>
                      <a:pt x="458" y="1"/>
                    </a:cubicBezTo>
                    <a:close/>
                    <a:moveTo>
                      <a:pt x="466" y="1"/>
                    </a:moveTo>
                    <a:lnTo>
                      <a:pt x="466" y="1"/>
                    </a:lnTo>
                    <a:cubicBezTo>
                      <a:pt x="467" y="1"/>
                      <a:pt x="468" y="1"/>
                      <a:pt x="468" y="3"/>
                    </a:cubicBezTo>
                    <a:cubicBezTo>
                      <a:pt x="468" y="4"/>
                      <a:pt x="467" y="5"/>
                      <a:pt x="466" y="5"/>
                    </a:cubicBezTo>
                    <a:lnTo>
                      <a:pt x="466" y="5"/>
                    </a:lnTo>
                    <a:cubicBezTo>
                      <a:pt x="465" y="5"/>
                      <a:pt x="464" y="4"/>
                      <a:pt x="464" y="3"/>
                    </a:cubicBezTo>
                    <a:cubicBezTo>
                      <a:pt x="464" y="1"/>
                      <a:pt x="465" y="1"/>
                      <a:pt x="466" y="1"/>
                    </a:cubicBezTo>
                    <a:close/>
                    <a:moveTo>
                      <a:pt x="474" y="1"/>
                    </a:moveTo>
                    <a:lnTo>
                      <a:pt x="474" y="1"/>
                    </a:lnTo>
                    <a:cubicBezTo>
                      <a:pt x="475" y="1"/>
                      <a:pt x="476" y="1"/>
                      <a:pt x="476" y="3"/>
                    </a:cubicBezTo>
                    <a:cubicBezTo>
                      <a:pt x="476" y="4"/>
                      <a:pt x="475" y="5"/>
                      <a:pt x="474" y="5"/>
                    </a:cubicBezTo>
                    <a:lnTo>
                      <a:pt x="474" y="5"/>
                    </a:lnTo>
                    <a:cubicBezTo>
                      <a:pt x="473" y="5"/>
                      <a:pt x="472" y="4"/>
                      <a:pt x="472" y="3"/>
                    </a:cubicBezTo>
                    <a:cubicBezTo>
                      <a:pt x="472" y="1"/>
                      <a:pt x="473" y="1"/>
                      <a:pt x="474" y="1"/>
                    </a:cubicBezTo>
                    <a:close/>
                    <a:moveTo>
                      <a:pt x="482" y="1"/>
                    </a:moveTo>
                    <a:lnTo>
                      <a:pt x="482" y="1"/>
                    </a:lnTo>
                    <a:cubicBezTo>
                      <a:pt x="483" y="1"/>
                      <a:pt x="484" y="1"/>
                      <a:pt x="484" y="3"/>
                    </a:cubicBezTo>
                    <a:cubicBezTo>
                      <a:pt x="484" y="4"/>
                      <a:pt x="483" y="5"/>
                      <a:pt x="482" y="5"/>
                    </a:cubicBezTo>
                    <a:lnTo>
                      <a:pt x="482" y="5"/>
                    </a:lnTo>
                    <a:cubicBezTo>
                      <a:pt x="481" y="5"/>
                      <a:pt x="480" y="4"/>
                      <a:pt x="480" y="3"/>
                    </a:cubicBezTo>
                    <a:cubicBezTo>
                      <a:pt x="480" y="1"/>
                      <a:pt x="481" y="1"/>
                      <a:pt x="482" y="1"/>
                    </a:cubicBezTo>
                    <a:close/>
                    <a:moveTo>
                      <a:pt x="490" y="1"/>
                    </a:moveTo>
                    <a:lnTo>
                      <a:pt x="490" y="1"/>
                    </a:lnTo>
                    <a:cubicBezTo>
                      <a:pt x="491" y="1"/>
                      <a:pt x="492" y="1"/>
                      <a:pt x="492" y="3"/>
                    </a:cubicBezTo>
                    <a:cubicBezTo>
                      <a:pt x="492" y="4"/>
                      <a:pt x="491" y="5"/>
                      <a:pt x="490" y="5"/>
                    </a:cubicBezTo>
                    <a:lnTo>
                      <a:pt x="490" y="5"/>
                    </a:lnTo>
                    <a:cubicBezTo>
                      <a:pt x="489" y="5"/>
                      <a:pt x="488" y="4"/>
                      <a:pt x="488" y="3"/>
                    </a:cubicBezTo>
                    <a:cubicBezTo>
                      <a:pt x="488" y="1"/>
                      <a:pt x="489" y="1"/>
                      <a:pt x="490" y="1"/>
                    </a:cubicBezTo>
                    <a:close/>
                    <a:moveTo>
                      <a:pt x="498" y="1"/>
                    </a:moveTo>
                    <a:lnTo>
                      <a:pt x="498" y="1"/>
                    </a:lnTo>
                    <a:cubicBezTo>
                      <a:pt x="499" y="1"/>
                      <a:pt x="500" y="1"/>
                      <a:pt x="500" y="3"/>
                    </a:cubicBezTo>
                    <a:cubicBezTo>
                      <a:pt x="500" y="4"/>
                      <a:pt x="499" y="5"/>
                      <a:pt x="498" y="5"/>
                    </a:cubicBezTo>
                    <a:lnTo>
                      <a:pt x="498" y="5"/>
                    </a:lnTo>
                    <a:cubicBezTo>
                      <a:pt x="497" y="5"/>
                      <a:pt x="496" y="4"/>
                      <a:pt x="496" y="3"/>
                    </a:cubicBezTo>
                    <a:cubicBezTo>
                      <a:pt x="496" y="1"/>
                      <a:pt x="497" y="1"/>
                      <a:pt x="498" y="1"/>
                    </a:cubicBezTo>
                    <a:close/>
                    <a:moveTo>
                      <a:pt x="506" y="1"/>
                    </a:moveTo>
                    <a:lnTo>
                      <a:pt x="506" y="1"/>
                    </a:lnTo>
                    <a:cubicBezTo>
                      <a:pt x="507" y="1"/>
                      <a:pt x="508" y="1"/>
                      <a:pt x="508" y="3"/>
                    </a:cubicBezTo>
                    <a:cubicBezTo>
                      <a:pt x="508" y="4"/>
                      <a:pt x="507" y="5"/>
                      <a:pt x="506" y="5"/>
                    </a:cubicBezTo>
                    <a:lnTo>
                      <a:pt x="506" y="5"/>
                    </a:lnTo>
                    <a:cubicBezTo>
                      <a:pt x="505" y="5"/>
                      <a:pt x="504" y="4"/>
                      <a:pt x="504" y="3"/>
                    </a:cubicBezTo>
                    <a:cubicBezTo>
                      <a:pt x="504" y="1"/>
                      <a:pt x="505" y="1"/>
                      <a:pt x="506" y="1"/>
                    </a:cubicBezTo>
                    <a:close/>
                    <a:moveTo>
                      <a:pt x="514" y="1"/>
                    </a:moveTo>
                    <a:lnTo>
                      <a:pt x="514" y="1"/>
                    </a:lnTo>
                    <a:cubicBezTo>
                      <a:pt x="515" y="1"/>
                      <a:pt x="516" y="1"/>
                      <a:pt x="516" y="3"/>
                    </a:cubicBezTo>
                    <a:cubicBezTo>
                      <a:pt x="516" y="4"/>
                      <a:pt x="515" y="5"/>
                      <a:pt x="514" y="5"/>
                    </a:cubicBezTo>
                    <a:lnTo>
                      <a:pt x="514" y="5"/>
                    </a:lnTo>
                    <a:cubicBezTo>
                      <a:pt x="513" y="5"/>
                      <a:pt x="512" y="4"/>
                      <a:pt x="512" y="3"/>
                    </a:cubicBezTo>
                    <a:cubicBezTo>
                      <a:pt x="512" y="1"/>
                      <a:pt x="513" y="1"/>
                      <a:pt x="514" y="1"/>
                    </a:cubicBezTo>
                    <a:close/>
                    <a:moveTo>
                      <a:pt x="522" y="1"/>
                    </a:moveTo>
                    <a:lnTo>
                      <a:pt x="522" y="1"/>
                    </a:lnTo>
                    <a:cubicBezTo>
                      <a:pt x="523" y="1"/>
                      <a:pt x="524" y="1"/>
                      <a:pt x="524" y="3"/>
                    </a:cubicBezTo>
                    <a:cubicBezTo>
                      <a:pt x="524" y="4"/>
                      <a:pt x="523" y="5"/>
                      <a:pt x="522" y="5"/>
                    </a:cubicBezTo>
                    <a:lnTo>
                      <a:pt x="522" y="5"/>
                    </a:lnTo>
                    <a:cubicBezTo>
                      <a:pt x="521" y="5"/>
                      <a:pt x="520" y="4"/>
                      <a:pt x="520" y="3"/>
                    </a:cubicBezTo>
                    <a:cubicBezTo>
                      <a:pt x="520" y="1"/>
                      <a:pt x="521" y="1"/>
                      <a:pt x="522" y="1"/>
                    </a:cubicBezTo>
                    <a:close/>
                    <a:moveTo>
                      <a:pt x="530" y="1"/>
                    </a:moveTo>
                    <a:lnTo>
                      <a:pt x="530" y="1"/>
                    </a:lnTo>
                    <a:cubicBezTo>
                      <a:pt x="531" y="1"/>
                      <a:pt x="532" y="1"/>
                      <a:pt x="532" y="3"/>
                    </a:cubicBezTo>
                    <a:cubicBezTo>
                      <a:pt x="532" y="4"/>
                      <a:pt x="531" y="5"/>
                      <a:pt x="530" y="5"/>
                    </a:cubicBezTo>
                    <a:lnTo>
                      <a:pt x="530" y="5"/>
                    </a:lnTo>
                    <a:cubicBezTo>
                      <a:pt x="529" y="5"/>
                      <a:pt x="528" y="4"/>
                      <a:pt x="528" y="3"/>
                    </a:cubicBezTo>
                    <a:cubicBezTo>
                      <a:pt x="528" y="1"/>
                      <a:pt x="529" y="1"/>
                      <a:pt x="530" y="1"/>
                    </a:cubicBezTo>
                    <a:close/>
                    <a:moveTo>
                      <a:pt x="538" y="1"/>
                    </a:moveTo>
                    <a:lnTo>
                      <a:pt x="538" y="1"/>
                    </a:lnTo>
                    <a:cubicBezTo>
                      <a:pt x="539" y="1"/>
                      <a:pt x="540" y="1"/>
                      <a:pt x="540" y="3"/>
                    </a:cubicBezTo>
                    <a:cubicBezTo>
                      <a:pt x="540" y="4"/>
                      <a:pt x="539" y="5"/>
                      <a:pt x="538" y="5"/>
                    </a:cubicBezTo>
                    <a:lnTo>
                      <a:pt x="538" y="5"/>
                    </a:lnTo>
                    <a:cubicBezTo>
                      <a:pt x="537" y="5"/>
                      <a:pt x="536" y="4"/>
                      <a:pt x="536" y="3"/>
                    </a:cubicBezTo>
                    <a:cubicBezTo>
                      <a:pt x="536" y="1"/>
                      <a:pt x="537" y="1"/>
                      <a:pt x="538" y="1"/>
                    </a:cubicBezTo>
                    <a:close/>
                    <a:moveTo>
                      <a:pt x="546" y="1"/>
                    </a:moveTo>
                    <a:lnTo>
                      <a:pt x="546" y="1"/>
                    </a:lnTo>
                    <a:cubicBezTo>
                      <a:pt x="547" y="1"/>
                      <a:pt x="548" y="1"/>
                      <a:pt x="548" y="3"/>
                    </a:cubicBezTo>
                    <a:cubicBezTo>
                      <a:pt x="548" y="4"/>
                      <a:pt x="547" y="5"/>
                      <a:pt x="546" y="5"/>
                    </a:cubicBezTo>
                    <a:lnTo>
                      <a:pt x="546" y="5"/>
                    </a:lnTo>
                    <a:cubicBezTo>
                      <a:pt x="545" y="5"/>
                      <a:pt x="544" y="4"/>
                      <a:pt x="544" y="3"/>
                    </a:cubicBezTo>
                    <a:cubicBezTo>
                      <a:pt x="544" y="1"/>
                      <a:pt x="545" y="1"/>
                      <a:pt x="546" y="1"/>
                    </a:cubicBezTo>
                    <a:close/>
                    <a:moveTo>
                      <a:pt x="554" y="1"/>
                    </a:moveTo>
                    <a:lnTo>
                      <a:pt x="554" y="1"/>
                    </a:lnTo>
                    <a:cubicBezTo>
                      <a:pt x="555" y="1"/>
                      <a:pt x="556" y="1"/>
                      <a:pt x="556" y="3"/>
                    </a:cubicBezTo>
                    <a:cubicBezTo>
                      <a:pt x="556" y="4"/>
                      <a:pt x="555" y="5"/>
                      <a:pt x="554" y="5"/>
                    </a:cubicBezTo>
                    <a:lnTo>
                      <a:pt x="554" y="5"/>
                    </a:lnTo>
                    <a:cubicBezTo>
                      <a:pt x="553" y="5"/>
                      <a:pt x="552" y="4"/>
                      <a:pt x="552" y="3"/>
                    </a:cubicBezTo>
                    <a:cubicBezTo>
                      <a:pt x="552" y="1"/>
                      <a:pt x="553" y="1"/>
                      <a:pt x="554" y="1"/>
                    </a:cubicBezTo>
                    <a:close/>
                    <a:moveTo>
                      <a:pt x="562" y="1"/>
                    </a:moveTo>
                    <a:lnTo>
                      <a:pt x="562" y="1"/>
                    </a:lnTo>
                    <a:cubicBezTo>
                      <a:pt x="563" y="1"/>
                      <a:pt x="564" y="1"/>
                      <a:pt x="564" y="3"/>
                    </a:cubicBezTo>
                    <a:cubicBezTo>
                      <a:pt x="564" y="4"/>
                      <a:pt x="563" y="5"/>
                      <a:pt x="562" y="5"/>
                    </a:cubicBezTo>
                    <a:lnTo>
                      <a:pt x="562" y="5"/>
                    </a:lnTo>
                    <a:cubicBezTo>
                      <a:pt x="561" y="5"/>
                      <a:pt x="560" y="4"/>
                      <a:pt x="560" y="3"/>
                    </a:cubicBezTo>
                    <a:cubicBezTo>
                      <a:pt x="560" y="1"/>
                      <a:pt x="561" y="1"/>
                      <a:pt x="562" y="1"/>
                    </a:cubicBezTo>
                    <a:close/>
                    <a:moveTo>
                      <a:pt x="570" y="1"/>
                    </a:moveTo>
                    <a:lnTo>
                      <a:pt x="570" y="1"/>
                    </a:lnTo>
                    <a:cubicBezTo>
                      <a:pt x="571" y="1"/>
                      <a:pt x="572" y="1"/>
                      <a:pt x="572" y="3"/>
                    </a:cubicBezTo>
                    <a:cubicBezTo>
                      <a:pt x="572" y="4"/>
                      <a:pt x="571" y="5"/>
                      <a:pt x="570" y="5"/>
                    </a:cubicBezTo>
                    <a:lnTo>
                      <a:pt x="570" y="5"/>
                    </a:lnTo>
                    <a:cubicBezTo>
                      <a:pt x="569" y="5"/>
                      <a:pt x="568" y="4"/>
                      <a:pt x="568" y="3"/>
                    </a:cubicBezTo>
                    <a:cubicBezTo>
                      <a:pt x="568" y="1"/>
                      <a:pt x="569" y="1"/>
                      <a:pt x="570" y="1"/>
                    </a:cubicBezTo>
                    <a:close/>
                    <a:moveTo>
                      <a:pt x="578" y="1"/>
                    </a:moveTo>
                    <a:lnTo>
                      <a:pt x="578" y="1"/>
                    </a:lnTo>
                    <a:cubicBezTo>
                      <a:pt x="579" y="1"/>
                      <a:pt x="580" y="1"/>
                      <a:pt x="580" y="3"/>
                    </a:cubicBezTo>
                    <a:cubicBezTo>
                      <a:pt x="580" y="4"/>
                      <a:pt x="579" y="5"/>
                      <a:pt x="578" y="5"/>
                    </a:cubicBezTo>
                    <a:lnTo>
                      <a:pt x="578" y="5"/>
                    </a:lnTo>
                    <a:cubicBezTo>
                      <a:pt x="577" y="5"/>
                      <a:pt x="576" y="4"/>
                      <a:pt x="576" y="3"/>
                    </a:cubicBezTo>
                    <a:cubicBezTo>
                      <a:pt x="576" y="1"/>
                      <a:pt x="577" y="1"/>
                      <a:pt x="578" y="1"/>
                    </a:cubicBezTo>
                    <a:close/>
                    <a:moveTo>
                      <a:pt x="586" y="1"/>
                    </a:moveTo>
                    <a:lnTo>
                      <a:pt x="586" y="1"/>
                    </a:lnTo>
                    <a:cubicBezTo>
                      <a:pt x="587" y="1"/>
                      <a:pt x="588" y="1"/>
                      <a:pt x="588" y="3"/>
                    </a:cubicBezTo>
                    <a:cubicBezTo>
                      <a:pt x="588" y="4"/>
                      <a:pt x="587" y="5"/>
                      <a:pt x="586" y="5"/>
                    </a:cubicBezTo>
                    <a:lnTo>
                      <a:pt x="586" y="5"/>
                    </a:lnTo>
                    <a:cubicBezTo>
                      <a:pt x="585" y="5"/>
                      <a:pt x="584" y="4"/>
                      <a:pt x="584" y="3"/>
                    </a:cubicBezTo>
                    <a:cubicBezTo>
                      <a:pt x="584" y="1"/>
                      <a:pt x="585" y="1"/>
                      <a:pt x="586" y="1"/>
                    </a:cubicBezTo>
                    <a:close/>
                    <a:moveTo>
                      <a:pt x="594" y="1"/>
                    </a:moveTo>
                    <a:lnTo>
                      <a:pt x="594" y="1"/>
                    </a:lnTo>
                    <a:cubicBezTo>
                      <a:pt x="595" y="1"/>
                      <a:pt x="596" y="1"/>
                      <a:pt x="596" y="3"/>
                    </a:cubicBezTo>
                    <a:cubicBezTo>
                      <a:pt x="596" y="4"/>
                      <a:pt x="595" y="5"/>
                      <a:pt x="594" y="5"/>
                    </a:cubicBezTo>
                    <a:lnTo>
                      <a:pt x="594" y="5"/>
                    </a:lnTo>
                    <a:cubicBezTo>
                      <a:pt x="593" y="5"/>
                      <a:pt x="592" y="4"/>
                      <a:pt x="592" y="3"/>
                    </a:cubicBezTo>
                    <a:cubicBezTo>
                      <a:pt x="592" y="1"/>
                      <a:pt x="593" y="1"/>
                      <a:pt x="594" y="1"/>
                    </a:cubicBezTo>
                    <a:close/>
                    <a:moveTo>
                      <a:pt x="602" y="1"/>
                    </a:moveTo>
                    <a:lnTo>
                      <a:pt x="602" y="1"/>
                    </a:lnTo>
                    <a:cubicBezTo>
                      <a:pt x="603" y="1"/>
                      <a:pt x="604" y="1"/>
                      <a:pt x="604" y="3"/>
                    </a:cubicBezTo>
                    <a:cubicBezTo>
                      <a:pt x="604" y="4"/>
                      <a:pt x="603" y="5"/>
                      <a:pt x="602" y="5"/>
                    </a:cubicBezTo>
                    <a:lnTo>
                      <a:pt x="602" y="5"/>
                    </a:lnTo>
                    <a:cubicBezTo>
                      <a:pt x="601" y="5"/>
                      <a:pt x="600" y="4"/>
                      <a:pt x="600" y="3"/>
                    </a:cubicBezTo>
                    <a:cubicBezTo>
                      <a:pt x="600" y="1"/>
                      <a:pt x="601" y="1"/>
                      <a:pt x="602" y="1"/>
                    </a:cubicBezTo>
                    <a:close/>
                    <a:moveTo>
                      <a:pt x="610" y="1"/>
                    </a:moveTo>
                    <a:lnTo>
                      <a:pt x="610" y="1"/>
                    </a:lnTo>
                    <a:cubicBezTo>
                      <a:pt x="611" y="1"/>
                      <a:pt x="612" y="1"/>
                      <a:pt x="612" y="3"/>
                    </a:cubicBezTo>
                    <a:cubicBezTo>
                      <a:pt x="612" y="4"/>
                      <a:pt x="611" y="5"/>
                      <a:pt x="610" y="5"/>
                    </a:cubicBezTo>
                    <a:lnTo>
                      <a:pt x="610" y="5"/>
                    </a:lnTo>
                    <a:cubicBezTo>
                      <a:pt x="609" y="5"/>
                      <a:pt x="608" y="4"/>
                      <a:pt x="608" y="3"/>
                    </a:cubicBezTo>
                    <a:cubicBezTo>
                      <a:pt x="608" y="1"/>
                      <a:pt x="609" y="1"/>
                      <a:pt x="610" y="1"/>
                    </a:cubicBezTo>
                    <a:close/>
                    <a:moveTo>
                      <a:pt x="618" y="1"/>
                    </a:moveTo>
                    <a:lnTo>
                      <a:pt x="618" y="1"/>
                    </a:lnTo>
                    <a:cubicBezTo>
                      <a:pt x="619" y="1"/>
                      <a:pt x="620" y="1"/>
                      <a:pt x="620" y="3"/>
                    </a:cubicBezTo>
                    <a:cubicBezTo>
                      <a:pt x="620" y="4"/>
                      <a:pt x="619" y="5"/>
                      <a:pt x="618" y="5"/>
                    </a:cubicBezTo>
                    <a:lnTo>
                      <a:pt x="618" y="5"/>
                    </a:lnTo>
                    <a:cubicBezTo>
                      <a:pt x="617" y="5"/>
                      <a:pt x="616" y="4"/>
                      <a:pt x="616" y="3"/>
                    </a:cubicBezTo>
                    <a:cubicBezTo>
                      <a:pt x="616" y="1"/>
                      <a:pt x="617" y="1"/>
                      <a:pt x="618" y="1"/>
                    </a:cubicBezTo>
                    <a:close/>
                    <a:moveTo>
                      <a:pt x="626" y="1"/>
                    </a:moveTo>
                    <a:lnTo>
                      <a:pt x="626" y="1"/>
                    </a:lnTo>
                    <a:cubicBezTo>
                      <a:pt x="627" y="1"/>
                      <a:pt x="628" y="1"/>
                      <a:pt x="628" y="3"/>
                    </a:cubicBezTo>
                    <a:cubicBezTo>
                      <a:pt x="628" y="4"/>
                      <a:pt x="627" y="5"/>
                      <a:pt x="626" y="5"/>
                    </a:cubicBezTo>
                    <a:lnTo>
                      <a:pt x="626" y="5"/>
                    </a:lnTo>
                    <a:cubicBezTo>
                      <a:pt x="625" y="5"/>
                      <a:pt x="624" y="4"/>
                      <a:pt x="624" y="3"/>
                    </a:cubicBezTo>
                    <a:cubicBezTo>
                      <a:pt x="624" y="1"/>
                      <a:pt x="625" y="1"/>
                      <a:pt x="626" y="1"/>
                    </a:cubicBezTo>
                    <a:close/>
                    <a:moveTo>
                      <a:pt x="634" y="1"/>
                    </a:moveTo>
                    <a:lnTo>
                      <a:pt x="634" y="1"/>
                    </a:lnTo>
                    <a:cubicBezTo>
                      <a:pt x="635" y="1"/>
                      <a:pt x="636" y="1"/>
                      <a:pt x="636" y="3"/>
                    </a:cubicBezTo>
                    <a:cubicBezTo>
                      <a:pt x="636" y="4"/>
                      <a:pt x="635" y="5"/>
                      <a:pt x="634" y="5"/>
                    </a:cubicBezTo>
                    <a:lnTo>
                      <a:pt x="634" y="5"/>
                    </a:lnTo>
                    <a:cubicBezTo>
                      <a:pt x="633" y="5"/>
                      <a:pt x="632" y="4"/>
                      <a:pt x="632" y="3"/>
                    </a:cubicBezTo>
                    <a:cubicBezTo>
                      <a:pt x="632" y="1"/>
                      <a:pt x="633" y="1"/>
                      <a:pt x="634" y="1"/>
                    </a:cubicBezTo>
                    <a:close/>
                    <a:moveTo>
                      <a:pt x="642" y="1"/>
                    </a:moveTo>
                    <a:lnTo>
                      <a:pt x="642" y="1"/>
                    </a:lnTo>
                    <a:cubicBezTo>
                      <a:pt x="643" y="1"/>
                      <a:pt x="644" y="1"/>
                      <a:pt x="644" y="3"/>
                    </a:cubicBezTo>
                    <a:cubicBezTo>
                      <a:pt x="644" y="4"/>
                      <a:pt x="643" y="5"/>
                      <a:pt x="642" y="5"/>
                    </a:cubicBezTo>
                    <a:lnTo>
                      <a:pt x="642" y="5"/>
                    </a:lnTo>
                    <a:cubicBezTo>
                      <a:pt x="641" y="5"/>
                      <a:pt x="640" y="4"/>
                      <a:pt x="640" y="3"/>
                    </a:cubicBezTo>
                    <a:cubicBezTo>
                      <a:pt x="640" y="1"/>
                      <a:pt x="641" y="1"/>
                      <a:pt x="642" y="1"/>
                    </a:cubicBezTo>
                    <a:close/>
                    <a:moveTo>
                      <a:pt x="650" y="1"/>
                    </a:moveTo>
                    <a:lnTo>
                      <a:pt x="650" y="1"/>
                    </a:lnTo>
                    <a:cubicBezTo>
                      <a:pt x="651" y="1"/>
                      <a:pt x="652" y="1"/>
                      <a:pt x="652" y="3"/>
                    </a:cubicBezTo>
                    <a:cubicBezTo>
                      <a:pt x="652" y="4"/>
                      <a:pt x="651" y="5"/>
                      <a:pt x="650" y="5"/>
                    </a:cubicBezTo>
                    <a:lnTo>
                      <a:pt x="650" y="5"/>
                    </a:lnTo>
                    <a:cubicBezTo>
                      <a:pt x="649" y="5"/>
                      <a:pt x="648" y="4"/>
                      <a:pt x="648" y="3"/>
                    </a:cubicBezTo>
                    <a:cubicBezTo>
                      <a:pt x="648" y="1"/>
                      <a:pt x="649" y="1"/>
                      <a:pt x="650" y="1"/>
                    </a:cubicBezTo>
                    <a:close/>
                    <a:moveTo>
                      <a:pt x="658" y="1"/>
                    </a:moveTo>
                    <a:lnTo>
                      <a:pt x="658" y="1"/>
                    </a:lnTo>
                    <a:cubicBezTo>
                      <a:pt x="659" y="1"/>
                      <a:pt x="660" y="1"/>
                      <a:pt x="660" y="3"/>
                    </a:cubicBezTo>
                    <a:cubicBezTo>
                      <a:pt x="660" y="4"/>
                      <a:pt x="659" y="5"/>
                      <a:pt x="658" y="5"/>
                    </a:cubicBezTo>
                    <a:lnTo>
                      <a:pt x="658" y="5"/>
                    </a:lnTo>
                    <a:cubicBezTo>
                      <a:pt x="657" y="5"/>
                      <a:pt x="656" y="4"/>
                      <a:pt x="656" y="3"/>
                    </a:cubicBezTo>
                    <a:cubicBezTo>
                      <a:pt x="656" y="1"/>
                      <a:pt x="657" y="1"/>
                      <a:pt x="658" y="1"/>
                    </a:cubicBezTo>
                    <a:close/>
                    <a:moveTo>
                      <a:pt x="666" y="1"/>
                    </a:moveTo>
                    <a:lnTo>
                      <a:pt x="666" y="1"/>
                    </a:lnTo>
                    <a:cubicBezTo>
                      <a:pt x="667" y="1"/>
                      <a:pt x="668" y="1"/>
                      <a:pt x="668" y="3"/>
                    </a:cubicBezTo>
                    <a:cubicBezTo>
                      <a:pt x="668" y="4"/>
                      <a:pt x="667" y="5"/>
                      <a:pt x="666" y="5"/>
                    </a:cubicBezTo>
                    <a:lnTo>
                      <a:pt x="666" y="5"/>
                    </a:lnTo>
                    <a:cubicBezTo>
                      <a:pt x="665" y="5"/>
                      <a:pt x="664" y="4"/>
                      <a:pt x="664" y="3"/>
                    </a:cubicBezTo>
                    <a:cubicBezTo>
                      <a:pt x="664" y="1"/>
                      <a:pt x="665" y="1"/>
                      <a:pt x="666" y="1"/>
                    </a:cubicBezTo>
                    <a:close/>
                    <a:moveTo>
                      <a:pt x="674" y="1"/>
                    </a:moveTo>
                    <a:lnTo>
                      <a:pt x="674" y="1"/>
                    </a:lnTo>
                    <a:cubicBezTo>
                      <a:pt x="675" y="1"/>
                      <a:pt x="676" y="1"/>
                      <a:pt x="676" y="3"/>
                    </a:cubicBezTo>
                    <a:cubicBezTo>
                      <a:pt x="676" y="4"/>
                      <a:pt x="675" y="5"/>
                      <a:pt x="674" y="5"/>
                    </a:cubicBezTo>
                    <a:lnTo>
                      <a:pt x="674" y="5"/>
                    </a:lnTo>
                    <a:cubicBezTo>
                      <a:pt x="673" y="5"/>
                      <a:pt x="672" y="4"/>
                      <a:pt x="672" y="3"/>
                    </a:cubicBezTo>
                    <a:cubicBezTo>
                      <a:pt x="672" y="1"/>
                      <a:pt x="673" y="1"/>
                      <a:pt x="674" y="1"/>
                    </a:cubicBezTo>
                    <a:close/>
                    <a:moveTo>
                      <a:pt x="682" y="1"/>
                    </a:moveTo>
                    <a:lnTo>
                      <a:pt x="682" y="1"/>
                    </a:lnTo>
                    <a:cubicBezTo>
                      <a:pt x="683" y="1"/>
                      <a:pt x="684" y="1"/>
                      <a:pt x="684" y="3"/>
                    </a:cubicBezTo>
                    <a:cubicBezTo>
                      <a:pt x="684" y="4"/>
                      <a:pt x="683" y="5"/>
                      <a:pt x="682" y="5"/>
                    </a:cubicBezTo>
                    <a:lnTo>
                      <a:pt x="682" y="5"/>
                    </a:lnTo>
                    <a:cubicBezTo>
                      <a:pt x="681" y="5"/>
                      <a:pt x="680" y="4"/>
                      <a:pt x="680" y="3"/>
                    </a:cubicBezTo>
                    <a:cubicBezTo>
                      <a:pt x="680" y="1"/>
                      <a:pt x="681" y="1"/>
                      <a:pt x="682" y="1"/>
                    </a:cubicBezTo>
                    <a:close/>
                    <a:moveTo>
                      <a:pt x="690" y="1"/>
                    </a:moveTo>
                    <a:lnTo>
                      <a:pt x="690" y="1"/>
                    </a:lnTo>
                    <a:cubicBezTo>
                      <a:pt x="691" y="1"/>
                      <a:pt x="692" y="1"/>
                      <a:pt x="692" y="3"/>
                    </a:cubicBezTo>
                    <a:cubicBezTo>
                      <a:pt x="692" y="4"/>
                      <a:pt x="691" y="5"/>
                      <a:pt x="690" y="5"/>
                    </a:cubicBezTo>
                    <a:lnTo>
                      <a:pt x="690" y="5"/>
                    </a:lnTo>
                    <a:cubicBezTo>
                      <a:pt x="689" y="5"/>
                      <a:pt x="688" y="4"/>
                      <a:pt x="688" y="3"/>
                    </a:cubicBezTo>
                    <a:cubicBezTo>
                      <a:pt x="688" y="1"/>
                      <a:pt x="689" y="1"/>
                      <a:pt x="690" y="1"/>
                    </a:cubicBezTo>
                    <a:close/>
                    <a:moveTo>
                      <a:pt x="698" y="1"/>
                    </a:moveTo>
                    <a:lnTo>
                      <a:pt x="698" y="1"/>
                    </a:lnTo>
                    <a:cubicBezTo>
                      <a:pt x="699" y="1"/>
                      <a:pt x="700" y="1"/>
                      <a:pt x="700" y="3"/>
                    </a:cubicBezTo>
                    <a:cubicBezTo>
                      <a:pt x="700" y="4"/>
                      <a:pt x="699" y="5"/>
                      <a:pt x="698" y="5"/>
                    </a:cubicBezTo>
                    <a:lnTo>
                      <a:pt x="698" y="5"/>
                    </a:lnTo>
                    <a:cubicBezTo>
                      <a:pt x="697" y="5"/>
                      <a:pt x="696" y="4"/>
                      <a:pt x="696" y="3"/>
                    </a:cubicBezTo>
                    <a:cubicBezTo>
                      <a:pt x="696" y="1"/>
                      <a:pt x="697" y="1"/>
                      <a:pt x="698" y="1"/>
                    </a:cubicBezTo>
                    <a:close/>
                    <a:moveTo>
                      <a:pt x="706" y="1"/>
                    </a:moveTo>
                    <a:lnTo>
                      <a:pt x="706" y="1"/>
                    </a:lnTo>
                    <a:cubicBezTo>
                      <a:pt x="707" y="1"/>
                      <a:pt x="708" y="1"/>
                      <a:pt x="708" y="3"/>
                    </a:cubicBezTo>
                    <a:cubicBezTo>
                      <a:pt x="708" y="4"/>
                      <a:pt x="707" y="5"/>
                      <a:pt x="706" y="5"/>
                    </a:cubicBezTo>
                    <a:lnTo>
                      <a:pt x="706" y="5"/>
                    </a:lnTo>
                    <a:cubicBezTo>
                      <a:pt x="705" y="5"/>
                      <a:pt x="704" y="4"/>
                      <a:pt x="704" y="3"/>
                    </a:cubicBezTo>
                    <a:cubicBezTo>
                      <a:pt x="704" y="1"/>
                      <a:pt x="705" y="1"/>
                      <a:pt x="706" y="1"/>
                    </a:cubicBezTo>
                    <a:close/>
                    <a:moveTo>
                      <a:pt x="714" y="1"/>
                    </a:moveTo>
                    <a:lnTo>
                      <a:pt x="714" y="1"/>
                    </a:lnTo>
                    <a:cubicBezTo>
                      <a:pt x="715" y="1"/>
                      <a:pt x="716" y="1"/>
                      <a:pt x="716" y="3"/>
                    </a:cubicBezTo>
                    <a:cubicBezTo>
                      <a:pt x="716" y="4"/>
                      <a:pt x="715" y="5"/>
                      <a:pt x="714" y="5"/>
                    </a:cubicBezTo>
                    <a:lnTo>
                      <a:pt x="714" y="5"/>
                    </a:lnTo>
                    <a:cubicBezTo>
                      <a:pt x="713" y="5"/>
                      <a:pt x="712" y="4"/>
                      <a:pt x="712" y="3"/>
                    </a:cubicBezTo>
                    <a:cubicBezTo>
                      <a:pt x="712" y="1"/>
                      <a:pt x="713" y="1"/>
                      <a:pt x="714" y="1"/>
                    </a:cubicBezTo>
                    <a:close/>
                    <a:moveTo>
                      <a:pt x="722" y="1"/>
                    </a:moveTo>
                    <a:lnTo>
                      <a:pt x="722" y="1"/>
                    </a:lnTo>
                    <a:cubicBezTo>
                      <a:pt x="723" y="1"/>
                      <a:pt x="724" y="1"/>
                      <a:pt x="724" y="3"/>
                    </a:cubicBezTo>
                    <a:cubicBezTo>
                      <a:pt x="724" y="4"/>
                      <a:pt x="723" y="5"/>
                      <a:pt x="722" y="5"/>
                    </a:cubicBezTo>
                    <a:lnTo>
                      <a:pt x="722" y="5"/>
                    </a:lnTo>
                    <a:cubicBezTo>
                      <a:pt x="721" y="5"/>
                      <a:pt x="720" y="4"/>
                      <a:pt x="720" y="3"/>
                    </a:cubicBezTo>
                    <a:cubicBezTo>
                      <a:pt x="720" y="1"/>
                      <a:pt x="721" y="1"/>
                      <a:pt x="722" y="1"/>
                    </a:cubicBezTo>
                    <a:close/>
                    <a:moveTo>
                      <a:pt x="730" y="1"/>
                    </a:moveTo>
                    <a:lnTo>
                      <a:pt x="730" y="1"/>
                    </a:lnTo>
                    <a:cubicBezTo>
                      <a:pt x="731" y="1"/>
                      <a:pt x="732" y="1"/>
                      <a:pt x="732" y="3"/>
                    </a:cubicBezTo>
                    <a:cubicBezTo>
                      <a:pt x="732" y="4"/>
                      <a:pt x="731" y="5"/>
                      <a:pt x="730" y="5"/>
                    </a:cubicBezTo>
                    <a:lnTo>
                      <a:pt x="730" y="5"/>
                    </a:lnTo>
                    <a:cubicBezTo>
                      <a:pt x="729" y="5"/>
                      <a:pt x="728" y="4"/>
                      <a:pt x="728" y="3"/>
                    </a:cubicBezTo>
                    <a:cubicBezTo>
                      <a:pt x="728" y="1"/>
                      <a:pt x="729" y="1"/>
                      <a:pt x="730" y="1"/>
                    </a:cubicBezTo>
                    <a:close/>
                    <a:moveTo>
                      <a:pt x="738" y="1"/>
                    </a:moveTo>
                    <a:lnTo>
                      <a:pt x="738" y="1"/>
                    </a:lnTo>
                    <a:cubicBezTo>
                      <a:pt x="739" y="1"/>
                      <a:pt x="740" y="1"/>
                      <a:pt x="740" y="3"/>
                    </a:cubicBezTo>
                    <a:cubicBezTo>
                      <a:pt x="740" y="4"/>
                      <a:pt x="739" y="5"/>
                      <a:pt x="738" y="5"/>
                    </a:cubicBezTo>
                    <a:lnTo>
                      <a:pt x="738" y="5"/>
                    </a:lnTo>
                    <a:cubicBezTo>
                      <a:pt x="737" y="5"/>
                      <a:pt x="736" y="4"/>
                      <a:pt x="736" y="3"/>
                    </a:cubicBezTo>
                    <a:cubicBezTo>
                      <a:pt x="736" y="1"/>
                      <a:pt x="737" y="1"/>
                      <a:pt x="738" y="1"/>
                    </a:cubicBezTo>
                    <a:close/>
                    <a:moveTo>
                      <a:pt x="746" y="1"/>
                    </a:moveTo>
                    <a:lnTo>
                      <a:pt x="746" y="1"/>
                    </a:lnTo>
                    <a:cubicBezTo>
                      <a:pt x="747" y="1"/>
                      <a:pt x="748" y="2"/>
                      <a:pt x="748" y="3"/>
                    </a:cubicBezTo>
                    <a:cubicBezTo>
                      <a:pt x="748" y="4"/>
                      <a:pt x="747" y="5"/>
                      <a:pt x="746" y="5"/>
                    </a:cubicBezTo>
                    <a:lnTo>
                      <a:pt x="746" y="5"/>
                    </a:lnTo>
                    <a:cubicBezTo>
                      <a:pt x="745" y="5"/>
                      <a:pt x="744" y="4"/>
                      <a:pt x="744" y="3"/>
                    </a:cubicBezTo>
                    <a:cubicBezTo>
                      <a:pt x="744" y="2"/>
                      <a:pt x="745" y="1"/>
                      <a:pt x="746" y="1"/>
                    </a:cubicBezTo>
                    <a:close/>
                    <a:moveTo>
                      <a:pt x="754" y="1"/>
                    </a:moveTo>
                    <a:lnTo>
                      <a:pt x="754" y="1"/>
                    </a:lnTo>
                    <a:cubicBezTo>
                      <a:pt x="755" y="1"/>
                      <a:pt x="756" y="2"/>
                      <a:pt x="756" y="3"/>
                    </a:cubicBezTo>
                    <a:cubicBezTo>
                      <a:pt x="756" y="4"/>
                      <a:pt x="755" y="5"/>
                      <a:pt x="754" y="5"/>
                    </a:cubicBezTo>
                    <a:lnTo>
                      <a:pt x="754" y="5"/>
                    </a:lnTo>
                    <a:cubicBezTo>
                      <a:pt x="753" y="5"/>
                      <a:pt x="752" y="4"/>
                      <a:pt x="752" y="3"/>
                    </a:cubicBezTo>
                    <a:cubicBezTo>
                      <a:pt x="752" y="2"/>
                      <a:pt x="753" y="1"/>
                      <a:pt x="754" y="1"/>
                    </a:cubicBezTo>
                    <a:close/>
                    <a:moveTo>
                      <a:pt x="762" y="1"/>
                    </a:moveTo>
                    <a:lnTo>
                      <a:pt x="762" y="1"/>
                    </a:lnTo>
                    <a:cubicBezTo>
                      <a:pt x="763" y="1"/>
                      <a:pt x="764" y="2"/>
                      <a:pt x="764" y="3"/>
                    </a:cubicBezTo>
                    <a:cubicBezTo>
                      <a:pt x="764" y="4"/>
                      <a:pt x="763" y="5"/>
                      <a:pt x="762" y="5"/>
                    </a:cubicBezTo>
                    <a:lnTo>
                      <a:pt x="762" y="5"/>
                    </a:lnTo>
                    <a:cubicBezTo>
                      <a:pt x="761" y="5"/>
                      <a:pt x="760" y="4"/>
                      <a:pt x="760" y="3"/>
                    </a:cubicBezTo>
                    <a:cubicBezTo>
                      <a:pt x="760" y="2"/>
                      <a:pt x="761" y="1"/>
                      <a:pt x="762" y="1"/>
                    </a:cubicBezTo>
                    <a:close/>
                    <a:moveTo>
                      <a:pt x="770" y="1"/>
                    </a:moveTo>
                    <a:lnTo>
                      <a:pt x="770" y="1"/>
                    </a:lnTo>
                    <a:cubicBezTo>
                      <a:pt x="771" y="1"/>
                      <a:pt x="772" y="2"/>
                      <a:pt x="772" y="3"/>
                    </a:cubicBezTo>
                    <a:cubicBezTo>
                      <a:pt x="772" y="4"/>
                      <a:pt x="771" y="5"/>
                      <a:pt x="770" y="5"/>
                    </a:cubicBezTo>
                    <a:lnTo>
                      <a:pt x="770" y="5"/>
                    </a:lnTo>
                    <a:cubicBezTo>
                      <a:pt x="769" y="5"/>
                      <a:pt x="768" y="4"/>
                      <a:pt x="768" y="3"/>
                    </a:cubicBezTo>
                    <a:cubicBezTo>
                      <a:pt x="768" y="2"/>
                      <a:pt x="769" y="1"/>
                      <a:pt x="770" y="1"/>
                    </a:cubicBezTo>
                    <a:close/>
                    <a:moveTo>
                      <a:pt x="778" y="1"/>
                    </a:moveTo>
                    <a:lnTo>
                      <a:pt x="778" y="1"/>
                    </a:lnTo>
                    <a:cubicBezTo>
                      <a:pt x="779" y="1"/>
                      <a:pt x="780" y="2"/>
                      <a:pt x="780" y="3"/>
                    </a:cubicBezTo>
                    <a:cubicBezTo>
                      <a:pt x="780" y="4"/>
                      <a:pt x="779" y="5"/>
                      <a:pt x="778" y="5"/>
                    </a:cubicBezTo>
                    <a:lnTo>
                      <a:pt x="778" y="5"/>
                    </a:lnTo>
                    <a:cubicBezTo>
                      <a:pt x="777" y="5"/>
                      <a:pt x="776" y="4"/>
                      <a:pt x="776" y="3"/>
                    </a:cubicBezTo>
                    <a:cubicBezTo>
                      <a:pt x="776" y="2"/>
                      <a:pt x="777" y="1"/>
                      <a:pt x="778" y="1"/>
                    </a:cubicBezTo>
                    <a:close/>
                    <a:moveTo>
                      <a:pt x="786" y="1"/>
                    </a:moveTo>
                    <a:lnTo>
                      <a:pt x="786" y="1"/>
                    </a:lnTo>
                    <a:cubicBezTo>
                      <a:pt x="787" y="1"/>
                      <a:pt x="788" y="2"/>
                      <a:pt x="788" y="3"/>
                    </a:cubicBezTo>
                    <a:cubicBezTo>
                      <a:pt x="788" y="4"/>
                      <a:pt x="787" y="5"/>
                      <a:pt x="786" y="5"/>
                    </a:cubicBezTo>
                    <a:lnTo>
                      <a:pt x="786" y="5"/>
                    </a:lnTo>
                    <a:cubicBezTo>
                      <a:pt x="785" y="5"/>
                      <a:pt x="784" y="4"/>
                      <a:pt x="784" y="3"/>
                    </a:cubicBezTo>
                    <a:cubicBezTo>
                      <a:pt x="784" y="2"/>
                      <a:pt x="785" y="1"/>
                      <a:pt x="786" y="1"/>
                    </a:cubicBezTo>
                    <a:close/>
                    <a:moveTo>
                      <a:pt x="794" y="1"/>
                    </a:moveTo>
                    <a:lnTo>
                      <a:pt x="794" y="1"/>
                    </a:lnTo>
                    <a:cubicBezTo>
                      <a:pt x="795" y="1"/>
                      <a:pt x="796" y="2"/>
                      <a:pt x="796" y="3"/>
                    </a:cubicBezTo>
                    <a:cubicBezTo>
                      <a:pt x="796" y="4"/>
                      <a:pt x="795" y="5"/>
                      <a:pt x="794" y="5"/>
                    </a:cubicBezTo>
                    <a:lnTo>
                      <a:pt x="794" y="5"/>
                    </a:lnTo>
                    <a:cubicBezTo>
                      <a:pt x="793" y="5"/>
                      <a:pt x="792" y="4"/>
                      <a:pt x="792" y="3"/>
                    </a:cubicBezTo>
                    <a:cubicBezTo>
                      <a:pt x="792" y="2"/>
                      <a:pt x="793" y="1"/>
                      <a:pt x="794" y="1"/>
                    </a:cubicBezTo>
                    <a:close/>
                    <a:moveTo>
                      <a:pt x="802" y="1"/>
                    </a:moveTo>
                    <a:lnTo>
                      <a:pt x="802" y="1"/>
                    </a:lnTo>
                    <a:cubicBezTo>
                      <a:pt x="803" y="1"/>
                      <a:pt x="804" y="2"/>
                      <a:pt x="804" y="3"/>
                    </a:cubicBezTo>
                    <a:cubicBezTo>
                      <a:pt x="804" y="4"/>
                      <a:pt x="803" y="5"/>
                      <a:pt x="802" y="5"/>
                    </a:cubicBezTo>
                    <a:lnTo>
                      <a:pt x="802" y="5"/>
                    </a:lnTo>
                    <a:cubicBezTo>
                      <a:pt x="801" y="5"/>
                      <a:pt x="800" y="4"/>
                      <a:pt x="800" y="3"/>
                    </a:cubicBezTo>
                    <a:cubicBezTo>
                      <a:pt x="800" y="2"/>
                      <a:pt x="801" y="1"/>
                      <a:pt x="802" y="1"/>
                    </a:cubicBezTo>
                    <a:close/>
                    <a:moveTo>
                      <a:pt x="810" y="1"/>
                    </a:moveTo>
                    <a:lnTo>
                      <a:pt x="810" y="1"/>
                    </a:lnTo>
                    <a:cubicBezTo>
                      <a:pt x="811" y="1"/>
                      <a:pt x="812" y="2"/>
                      <a:pt x="812" y="3"/>
                    </a:cubicBezTo>
                    <a:cubicBezTo>
                      <a:pt x="812" y="4"/>
                      <a:pt x="811" y="5"/>
                      <a:pt x="810" y="5"/>
                    </a:cubicBezTo>
                    <a:lnTo>
                      <a:pt x="810" y="5"/>
                    </a:lnTo>
                    <a:cubicBezTo>
                      <a:pt x="809" y="5"/>
                      <a:pt x="808" y="4"/>
                      <a:pt x="808" y="3"/>
                    </a:cubicBezTo>
                    <a:cubicBezTo>
                      <a:pt x="808" y="2"/>
                      <a:pt x="809" y="1"/>
                      <a:pt x="810" y="1"/>
                    </a:cubicBezTo>
                    <a:close/>
                    <a:moveTo>
                      <a:pt x="818" y="1"/>
                    </a:moveTo>
                    <a:lnTo>
                      <a:pt x="818" y="1"/>
                    </a:lnTo>
                    <a:cubicBezTo>
                      <a:pt x="819" y="1"/>
                      <a:pt x="820" y="2"/>
                      <a:pt x="820" y="3"/>
                    </a:cubicBezTo>
                    <a:cubicBezTo>
                      <a:pt x="820" y="4"/>
                      <a:pt x="819" y="5"/>
                      <a:pt x="818" y="5"/>
                    </a:cubicBezTo>
                    <a:lnTo>
                      <a:pt x="818" y="5"/>
                    </a:lnTo>
                    <a:cubicBezTo>
                      <a:pt x="817" y="5"/>
                      <a:pt x="816" y="4"/>
                      <a:pt x="816" y="3"/>
                    </a:cubicBezTo>
                    <a:cubicBezTo>
                      <a:pt x="816" y="2"/>
                      <a:pt x="817" y="1"/>
                      <a:pt x="818" y="1"/>
                    </a:cubicBezTo>
                    <a:close/>
                    <a:moveTo>
                      <a:pt x="826" y="1"/>
                    </a:moveTo>
                    <a:lnTo>
                      <a:pt x="826" y="1"/>
                    </a:lnTo>
                    <a:cubicBezTo>
                      <a:pt x="827" y="1"/>
                      <a:pt x="828" y="2"/>
                      <a:pt x="828" y="3"/>
                    </a:cubicBezTo>
                    <a:cubicBezTo>
                      <a:pt x="828" y="4"/>
                      <a:pt x="827" y="5"/>
                      <a:pt x="826" y="5"/>
                    </a:cubicBezTo>
                    <a:lnTo>
                      <a:pt x="826" y="5"/>
                    </a:lnTo>
                    <a:cubicBezTo>
                      <a:pt x="825" y="5"/>
                      <a:pt x="824" y="4"/>
                      <a:pt x="824" y="3"/>
                    </a:cubicBezTo>
                    <a:cubicBezTo>
                      <a:pt x="824" y="2"/>
                      <a:pt x="825" y="1"/>
                      <a:pt x="826" y="1"/>
                    </a:cubicBezTo>
                    <a:close/>
                    <a:moveTo>
                      <a:pt x="834" y="1"/>
                    </a:moveTo>
                    <a:lnTo>
                      <a:pt x="834" y="1"/>
                    </a:lnTo>
                    <a:cubicBezTo>
                      <a:pt x="835" y="1"/>
                      <a:pt x="836" y="2"/>
                      <a:pt x="836" y="3"/>
                    </a:cubicBezTo>
                    <a:cubicBezTo>
                      <a:pt x="836" y="4"/>
                      <a:pt x="835" y="5"/>
                      <a:pt x="834" y="5"/>
                    </a:cubicBezTo>
                    <a:lnTo>
                      <a:pt x="834" y="5"/>
                    </a:lnTo>
                    <a:cubicBezTo>
                      <a:pt x="833" y="5"/>
                      <a:pt x="832" y="4"/>
                      <a:pt x="832" y="3"/>
                    </a:cubicBezTo>
                    <a:cubicBezTo>
                      <a:pt x="832" y="2"/>
                      <a:pt x="833" y="1"/>
                      <a:pt x="834" y="1"/>
                    </a:cubicBezTo>
                    <a:close/>
                    <a:moveTo>
                      <a:pt x="842" y="1"/>
                    </a:moveTo>
                    <a:lnTo>
                      <a:pt x="842" y="1"/>
                    </a:lnTo>
                    <a:cubicBezTo>
                      <a:pt x="843" y="1"/>
                      <a:pt x="844" y="2"/>
                      <a:pt x="844" y="3"/>
                    </a:cubicBezTo>
                    <a:cubicBezTo>
                      <a:pt x="844" y="4"/>
                      <a:pt x="843" y="5"/>
                      <a:pt x="842" y="5"/>
                    </a:cubicBezTo>
                    <a:lnTo>
                      <a:pt x="842" y="5"/>
                    </a:lnTo>
                    <a:cubicBezTo>
                      <a:pt x="841" y="5"/>
                      <a:pt x="840" y="4"/>
                      <a:pt x="840" y="3"/>
                    </a:cubicBezTo>
                    <a:cubicBezTo>
                      <a:pt x="840" y="2"/>
                      <a:pt x="841" y="1"/>
                      <a:pt x="842" y="1"/>
                    </a:cubicBezTo>
                    <a:close/>
                    <a:moveTo>
                      <a:pt x="850" y="1"/>
                    </a:moveTo>
                    <a:lnTo>
                      <a:pt x="850" y="1"/>
                    </a:lnTo>
                    <a:cubicBezTo>
                      <a:pt x="851" y="1"/>
                      <a:pt x="852" y="2"/>
                      <a:pt x="852" y="3"/>
                    </a:cubicBezTo>
                    <a:cubicBezTo>
                      <a:pt x="852" y="4"/>
                      <a:pt x="851" y="5"/>
                      <a:pt x="850" y="5"/>
                    </a:cubicBezTo>
                    <a:lnTo>
                      <a:pt x="850" y="5"/>
                    </a:lnTo>
                    <a:cubicBezTo>
                      <a:pt x="849" y="5"/>
                      <a:pt x="848" y="4"/>
                      <a:pt x="848" y="3"/>
                    </a:cubicBezTo>
                    <a:cubicBezTo>
                      <a:pt x="848" y="2"/>
                      <a:pt x="849" y="1"/>
                      <a:pt x="850" y="1"/>
                    </a:cubicBezTo>
                    <a:close/>
                    <a:moveTo>
                      <a:pt x="858" y="1"/>
                    </a:moveTo>
                    <a:lnTo>
                      <a:pt x="858" y="1"/>
                    </a:lnTo>
                    <a:cubicBezTo>
                      <a:pt x="859" y="1"/>
                      <a:pt x="860" y="2"/>
                      <a:pt x="860" y="3"/>
                    </a:cubicBezTo>
                    <a:cubicBezTo>
                      <a:pt x="860" y="4"/>
                      <a:pt x="859" y="5"/>
                      <a:pt x="858" y="5"/>
                    </a:cubicBezTo>
                    <a:lnTo>
                      <a:pt x="858" y="5"/>
                    </a:lnTo>
                    <a:cubicBezTo>
                      <a:pt x="857" y="5"/>
                      <a:pt x="856" y="4"/>
                      <a:pt x="856" y="3"/>
                    </a:cubicBezTo>
                    <a:cubicBezTo>
                      <a:pt x="856" y="2"/>
                      <a:pt x="857" y="1"/>
                      <a:pt x="858" y="1"/>
                    </a:cubicBezTo>
                    <a:close/>
                    <a:moveTo>
                      <a:pt x="866" y="1"/>
                    </a:moveTo>
                    <a:lnTo>
                      <a:pt x="866" y="1"/>
                    </a:lnTo>
                    <a:cubicBezTo>
                      <a:pt x="867" y="1"/>
                      <a:pt x="868" y="2"/>
                      <a:pt x="868" y="3"/>
                    </a:cubicBezTo>
                    <a:cubicBezTo>
                      <a:pt x="868" y="4"/>
                      <a:pt x="867" y="5"/>
                      <a:pt x="866" y="5"/>
                    </a:cubicBezTo>
                    <a:lnTo>
                      <a:pt x="866" y="5"/>
                    </a:lnTo>
                    <a:cubicBezTo>
                      <a:pt x="865" y="5"/>
                      <a:pt x="864" y="4"/>
                      <a:pt x="864" y="3"/>
                    </a:cubicBezTo>
                    <a:cubicBezTo>
                      <a:pt x="864" y="2"/>
                      <a:pt x="865" y="1"/>
                      <a:pt x="866" y="1"/>
                    </a:cubicBezTo>
                    <a:close/>
                    <a:moveTo>
                      <a:pt x="874" y="1"/>
                    </a:moveTo>
                    <a:lnTo>
                      <a:pt x="874" y="1"/>
                    </a:lnTo>
                    <a:cubicBezTo>
                      <a:pt x="875" y="1"/>
                      <a:pt x="876" y="2"/>
                      <a:pt x="876" y="3"/>
                    </a:cubicBezTo>
                    <a:cubicBezTo>
                      <a:pt x="876" y="4"/>
                      <a:pt x="875" y="5"/>
                      <a:pt x="874" y="5"/>
                    </a:cubicBezTo>
                    <a:lnTo>
                      <a:pt x="874" y="5"/>
                    </a:lnTo>
                    <a:cubicBezTo>
                      <a:pt x="873" y="5"/>
                      <a:pt x="872" y="4"/>
                      <a:pt x="872" y="3"/>
                    </a:cubicBezTo>
                    <a:cubicBezTo>
                      <a:pt x="872" y="2"/>
                      <a:pt x="873" y="1"/>
                      <a:pt x="874" y="1"/>
                    </a:cubicBezTo>
                    <a:close/>
                    <a:moveTo>
                      <a:pt x="882" y="1"/>
                    </a:moveTo>
                    <a:lnTo>
                      <a:pt x="882" y="1"/>
                    </a:lnTo>
                    <a:cubicBezTo>
                      <a:pt x="883" y="1"/>
                      <a:pt x="884" y="2"/>
                      <a:pt x="884" y="3"/>
                    </a:cubicBezTo>
                    <a:cubicBezTo>
                      <a:pt x="884" y="4"/>
                      <a:pt x="883" y="5"/>
                      <a:pt x="882" y="5"/>
                    </a:cubicBezTo>
                    <a:lnTo>
                      <a:pt x="882" y="5"/>
                    </a:lnTo>
                    <a:cubicBezTo>
                      <a:pt x="881" y="5"/>
                      <a:pt x="880" y="4"/>
                      <a:pt x="880" y="3"/>
                    </a:cubicBezTo>
                    <a:cubicBezTo>
                      <a:pt x="880" y="2"/>
                      <a:pt x="881" y="1"/>
                      <a:pt x="882" y="1"/>
                    </a:cubicBezTo>
                    <a:close/>
                    <a:moveTo>
                      <a:pt x="890" y="1"/>
                    </a:moveTo>
                    <a:lnTo>
                      <a:pt x="890" y="1"/>
                    </a:lnTo>
                    <a:cubicBezTo>
                      <a:pt x="891" y="1"/>
                      <a:pt x="892" y="2"/>
                      <a:pt x="892" y="3"/>
                    </a:cubicBezTo>
                    <a:cubicBezTo>
                      <a:pt x="892" y="4"/>
                      <a:pt x="891" y="5"/>
                      <a:pt x="890" y="5"/>
                    </a:cubicBezTo>
                    <a:lnTo>
                      <a:pt x="890" y="5"/>
                    </a:lnTo>
                    <a:cubicBezTo>
                      <a:pt x="889" y="5"/>
                      <a:pt x="888" y="4"/>
                      <a:pt x="888" y="3"/>
                    </a:cubicBezTo>
                    <a:cubicBezTo>
                      <a:pt x="888" y="2"/>
                      <a:pt x="889" y="1"/>
                      <a:pt x="890" y="1"/>
                    </a:cubicBezTo>
                    <a:close/>
                    <a:moveTo>
                      <a:pt x="898" y="1"/>
                    </a:moveTo>
                    <a:lnTo>
                      <a:pt x="898" y="1"/>
                    </a:lnTo>
                    <a:cubicBezTo>
                      <a:pt x="899" y="1"/>
                      <a:pt x="900" y="2"/>
                      <a:pt x="900" y="3"/>
                    </a:cubicBezTo>
                    <a:cubicBezTo>
                      <a:pt x="900" y="4"/>
                      <a:pt x="899" y="5"/>
                      <a:pt x="898" y="5"/>
                    </a:cubicBezTo>
                    <a:lnTo>
                      <a:pt x="898" y="5"/>
                    </a:lnTo>
                    <a:cubicBezTo>
                      <a:pt x="897" y="5"/>
                      <a:pt x="896" y="4"/>
                      <a:pt x="896" y="3"/>
                    </a:cubicBezTo>
                    <a:cubicBezTo>
                      <a:pt x="896" y="2"/>
                      <a:pt x="897" y="1"/>
                      <a:pt x="898" y="1"/>
                    </a:cubicBezTo>
                    <a:close/>
                    <a:moveTo>
                      <a:pt x="906" y="1"/>
                    </a:moveTo>
                    <a:lnTo>
                      <a:pt x="906" y="1"/>
                    </a:lnTo>
                    <a:cubicBezTo>
                      <a:pt x="907" y="1"/>
                      <a:pt x="908" y="2"/>
                      <a:pt x="908" y="3"/>
                    </a:cubicBezTo>
                    <a:cubicBezTo>
                      <a:pt x="908" y="4"/>
                      <a:pt x="907" y="5"/>
                      <a:pt x="906" y="5"/>
                    </a:cubicBezTo>
                    <a:lnTo>
                      <a:pt x="906" y="5"/>
                    </a:lnTo>
                    <a:cubicBezTo>
                      <a:pt x="905" y="5"/>
                      <a:pt x="904" y="4"/>
                      <a:pt x="904" y="3"/>
                    </a:cubicBezTo>
                    <a:cubicBezTo>
                      <a:pt x="904" y="2"/>
                      <a:pt x="905" y="1"/>
                      <a:pt x="906" y="1"/>
                    </a:cubicBezTo>
                    <a:close/>
                    <a:moveTo>
                      <a:pt x="914" y="1"/>
                    </a:moveTo>
                    <a:lnTo>
                      <a:pt x="914" y="1"/>
                    </a:lnTo>
                    <a:cubicBezTo>
                      <a:pt x="915" y="1"/>
                      <a:pt x="916" y="2"/>
                      <a:pt x="916" y="3"/>
                    </a:cubicBezTo>
                    <a:cubicBezTo>
                      <a:pt x="916" y="4"/>
                      <a:pt x="915" y="5"/>
                      <a:pt x="914" y="5"/>
                    </a:cubicBezTo>
                    <a:lnTo>
                      <a:pt x="914" y="5"/>
                    </a:lnTo>
                    <a:cubicBezTo>
                      <a:pt x="913" y="5"/>
                      <a:pt x="912" y="4"/>
                      <a:pt x="912" y="3"/>
                    </a:cubicBezTo>
                    <a:cubicBezTo>
                      <a:pt x="912" y="2"/>
                      <a:pt x="913" y="1"/>
                      <a:pt x="914" y="1"/>
                    </a:cubicBezTo>
                    <a:close/>
                    <a:moveTo>
                      <a:pt x="922" y="1"/>
                    </a:moveTo>
                    <a:lnTo>
                      <a:pt x="922" y="1"/>
                    </a:lnTo>
                    <a:cubicBezTo>
                      <a:pt x="923" y="1"/>
                      <a:pt x="924" y="2"/>
                      <a:pt x="924" y="3"/>
                    </a:cubicBezTo>
                    <a:cubicBezTo>
                      <a:pt x="924" y="4"/>
                      <a:pt x="923" y="5"/>
                      <a:pt x="922" y="5"/>
                    </a:cubicBezTo>
                    <a:lnTo>
                      <a:pt x="922" y="5"/>
                    </a:lnTo>
                    <a:cubicBezTo>
                      <a:pt x="921" y="5"/>
                      <a:pt x="920" y="4"/>
                      <a:pt x="920" y="3"/>
                    </a:cubicBezTo>
                    <a:cubicBezTo>
                      <a:pt x="920" y="2"/>
                      <a:pt x="921" y="1"/>
                      <a:pt x="922" y="1"/>
                    </a:cubicBezTo>
                    <a:close/>
                    <a:moveTo>
                      <a:pt x="930" y="1"/>
                    </a:moveTo>
                    <a:lnTo>
                      <a:pt x="930" y="1"/>
                    </a:lnTo>
                    <a:cubicBezTo>
                      <a:pt x="931" y="1"/>
                      <a:pt x="932" y="2"/>
                      <a:pt x="932" y="3"/>
                    </a:cubicBezTo>
                    <a:cubicBezTo>
                      <a:pt x="932" y="4"/>
                      <a:pt x="931" y="5"/>
                      <a:pt x="930" y="5"/>
                    </a:cubicBezTo>
                    <a:lnTo>
                      <a:pt x="930" y="5"/>
                    </a:lnTo>
                    <a:cubicBezTo>
                      <a:pt x="929" y="5"/>
                      <a:pt x="928" y="4"/>
                      <a:pt x="928" y="3"/>
                    </a:cubicBezTo>
                    <a:cubicBezTo>
                      <a:pt x="928" y="2"/>
                      <a:pt x="929" y="1"/>
                      <a:pt x="930" y="1"/>
                    </a:cubicBezTo>
                    <a:close/>
                    <a:moveTo>
                      <a:pt x="938" y="1"/>
                    </a:moveTo>
                    <a:lnTo>
                      <a:pt x="938" y="1"/>
                    </a:lnTo>
                    <a:cubicBezTo>
                      <a:pt x="939" y="1"/>
                      <a:pt x="940" y="2"/>
                      <a:pt x="940" y="3"/>
                    </a:cubicBezTo>
                    <a:cubicBezTo>
                      <a:pt x="940" y="4"/>
                      <a:pt x="939" y="5"/>
                      <a:pt x="938" y="5"/>
                    </a:cubicBezTo>
                    <a:lnTo>
                      <a:pt x="938" y="5"/>
                    </a:lnTo>
                    <a:cubicBezTo>
                      <a:pt x="937" y="5"/>
                      <a:pt x="936" y="4"/>
                      <a:pt x="936" y="3"/>
                    </a:cubicBezTo>
                    <a:cubicBezTo>
                      <a:pt x="936" y="2"/>
                      <a:pt x="937" y="1"/>
                      <a:pt x="938" y="1"/>
                    </a:cubicBezTo>
                    <a:close/>
                    <a:moveTo>
                      <a:pt x="946" y="1"/>
                    </a:moveTo>
                    <a:lnTo>
                      <a:pt x="946" y="1"/>
                    </a:lnTo>
                    <a:cubicBezTo>
                      <a:pt x="947" y="1"/>
                      <a:pt x="948" y="2"/>
                      <a:pt x="948" y="3"/>
                    </a:cubicBezTo>
                    <a:cubicBezTo>
                      <a:pt x="948" y="4"/>
                      <a:pt x="947" y="5"/>
                      <a:pt x="946" y="5"/>
                    </a:cubicBezTo>
                    <a:lnTo>
                      <a:pt x="946" y="5"/>
                    </a:lnTo>
                    <a:cubicBezTo>
                      <a:pt x="945" y="5"/>
                      <a:pt x="944" y="4"/>
                      <a:pt x="944" y="3"/>
                    </a:cubicBezTo>
                    <a:cubicBezTo>
                      <a:pt x="944" y="2"/>
                      <a:pt x="945" y="1"/>
                      <a:pt x="946" y="1"/>
                    </a:cubicBezTo>
                    <a:close/>
                    <a:moveTo>
                      <a:pt x="954" y="1"/>
                    </a:moveTo>
                    <a:lnTo>
                      <a:pt x="954" y="1"/>
                    </a:lnTo>
                    <a:cubicBezTo>
                      <a:pt x="955" y="1"/>
                      <a:pt x="956" y="2"/>
                      <a:pt x="956" y="3"/>
                    </a:cubicBezTo>
                    <a:cubicBezTo>
                      <a:pt x="956" y="4"/>
                      <a:pt x="955" y="5"/>
                      <a:pt x="954" y="5"/>
                    </a:cubicBezTo>
                    <a:lnTo>
                      <a:pt x="954" y="5"/>
                    </a:lnTo>
                    <a:cubicBezTo>
                      <a:pt x="953" y="5"/>
                      <a:pt x="952" y="4"/>
                      <a:pt x="952" y="3"/>
                    </a:cubicBezTo>
                    <a:cubicBezTo>
                      <a:pt x="952" y="2"/>
                      <a:pt x="953" y="1"/>
                      <a:pt x="954" y="1"/>
                    </a:cubicBezTo>
                    <a:close/>
                    <a:moveTo>
                      <a:pt x="962" y="1"/>
                    </a:moveTo>
                    <a:lnTo>
                      <a:pt x="962" y="1"/>
                    </a:lnTo>
                    <a:cubicBezTo>
                      <a:pt x="963" y="1"/>
                      <a:pt x="964" y="2"/>
                      <a:pt x="964" y="3"/>
                    </a:cubicBezTo>
                    <a:cubicBezTo>
                      <a:pt x="964" y="4"/>
                      <a:pt x="963" y="5"/>
                      <a:pt x="962" y="5"/>
                    </a:cubicBezTo>
                    <a:lnTo>
                      <a:pt x="962" y="5"/>
                    </a:lnTo>
                    <a:cubicBezTo>
                      <a:pt x="961" y="5"/>
                      <a:pt x="960" y="4"/>
                      <a:pt x="960" y="3"/>
                    </a:cubicBezTo>
                    <a:cubicBezTo>
                      <a:pt x="960" y="2"/>
                      <a:pt x="961" y="1"/>
                      <a:pt x="962" y="1"/>
                    </a:cubicBezTo>
                    <a:close/>
                    <a:moveTo>
                      <a:pt x="970" y="1"/>
                    </a:moveTo>
                    <a:lnTo>
                      <a:pt x="970" y="1"/>
                    </a:lnTo>
                    <a:cubicBezTo>
                      <a:pt x="971" y="1"/>
                      <a:pt x="972" y="2"/>
                      <a:pt x="972" y="3"/>
                    </a:cubicBezTo>
                    <a:cubicBezTo>
                      <a:pt x="972" y="4"/>
                      <a:pt x="971" y="5"/>
                      <a:pt x="970" y="5"/>
                    </a:cubicBezTo>
                    <a:lnTo>
                      <a:pt x="970" y="5"/>
                    </a:lnTo>
                    <a:cubicBezTo>
                      <a:pt x="969" y="5"/>
                      <a:pt x="968" y="4"/>
                      <a:pt x="968" y="3"/>
                    </a:cubicBezTo>
                    <a:cubicBezTo>
                      <a:pt x="968" y="2"/>
                      <a:pt x="969" y="1"/>
                      <a:pt x="970" y="1"/>
                    </a:cubicBezTo>
                    <a:close/>
                    <a:moveTo>
                      <a:pt x="978" y="1"/>
                    </a:moveTo>
                    <a:lnTo>
                      <a:pt x="978" y="1"/>
                    </a:lnTo>
                    <a:cubicBezTo>
                      <a:pt x="979" y="1"/>
                      <a:pt x="980" y="2"/>
                      <a:pt x="980" y="3"/>
                    </a:cubicBezTo>
                    <a:cubicBezTo>
                      <a:pt x="980" y="4"/>
                      <a:pt x="979" y="5"/>
                      <a:pt x="978" y="5"/>
                    </a:cubicBezTo>
                    <a:lnTo>
                      <a:pt x="978" y="5"/>
                    </a:lnTo>
                    <a:cubicBezTo>
                      <a:pt x="977" y="5"/>
                      <a:pt x="976" y="4"/>
                      <a:pt x="976" y="3"/>
                    </a:cubicBezTo>
                    <a:cubicBezTo>
                      <a:pt x="976" y="2"/>
                      <a:pt x="977" y="1"/>
                      <a:pt x="978" y="1"/>
                    </a:cubicBezTo>
                    <a:close/>
                    <a:moveTo>
                      <a:pt x="986" y="1"/>
                    </a:moveTo>
                    <a:lnTo>
                      <a:pt x="986" y="1"/>
                    </a:lnTo>
                    <a:cubicBezTo>
                      <a:pt x="987" y="1"/>
                      <a:pt x="988" y="2"/>
                      <a:pt x="988" y="3"/>
                    </a:cubicBezTo>
                    <a:cubicBezTo>
                      <a:pt x="988" y="4"/>
                      <a:pt x="987" y="5"/>
                      <a:pt x="986" y="5"/>
                    </a:cubicBezTo>
                    <a:lnTo>
                      <a:pt x="986" y="5"/>
                    </a:lnTo>
                    <a:cubicBezTo>
                      <a:pt x="985" y="5"/>
                      <a:pt x="984" y="4"/>
                      <a:pt x="984" y="3"/>
                    </a:cubicBezTo>
                    <a:cubicBezTo>
                      <a:pt x="984" y="2"/>
                      <a:pt x="985" y="1"/>
                      <a:pt x="986" y="1"/>
                    </a:cubicBezTo>
                    <a:close/>
                    <a:moveTo>
                      <a:pt x="994" y="1"/>
                    </a:moveTo>
                    <a:lnTo>
                      <a:pt x="994" y="1"/>
                    </a:lnTo>
                    <a:cubicBezTo>
                      <a:pt x="995" y="1"/>
                      <a:pt x="996" y="2"/>
                      <a:pt x="996" y="3"/>
                    </a:cubicBezTo>
                    <a:cubicBezTo>
                      <a:pt x="996" y="4"/>
                      <a:pt x="995" y="5"/>
                      <a:pt x="994" y="5"/>
                    </a:cubicBezTo>
                    <a:lnTo>
                      <a:pt x="994" y="5"/>
                    </a:lnTo>
                    <a:cubicBezTo>
                      <a:pt x="993" y="5"/>
                      <a:pt x="992" y="4"/>
                      <a:pt x="992" y="3"/>
                    </a:cubicBezTo>
                    <a:cubicBezTo>
                      <a:pt x="992" y="2"/>
                      <a:pt x="993" y="1"/>
                      <a:pt x="994" y="1"/>
                    </a:cubicBezTo>
                    <a:close/>
                    <a:moveTo>
                      <a:pt x="1002" y="1"/>
                    </a:moveTo>
                    <a:lnTo>
                      <a:pt x="1002" y="1"/>
                    </a:lnTo>
                    <a:cubicBezTo>
                      <a:pt x="1003" y="1"/>
                      <a:pt x="1004" y="2"/>
                      <a:pt x="1004" y="3"/>
                    </a:cubicBezTo>
                    <a:cubicBezTo>
                      <a:pt x="1004" y="4"/>
                      <a:pt x="1003" y="5"/>
                      <a:pt x="1002" y="5"/>
                    </a:cubicBezTo>
                    <a:lnTo>
                      <a:pt x="1002" y="5"/>
                    </a:lnTo>
                    <a:cubicBezTo>
                      <a:pt x="1001" y="5"/>
                      <a:pt x="1000" y="4"/>
                      <a:pt x="1000" y="3"/>
                    </a:cubicBezTo>
                    <a:cubicBezTo>
                      <a:pt x="1000" y="2"/>
                      <a:pt x="1001" y="1"/>
                      <a:pt x="1002" y="1"/>
                    </a:cubicBezTo>
                    <a:close/>
                    <a:moveTo>
                      <a:pt x="1010" y="1"/>
                    </a:moveTo>
                    <a:lnTo>
                      <a:pt x="1010" y="1"/>
                    </a:lnTo>
                    <a:cubicBezTo>
                      <a:pt x="1011" y="1"/>
                      <a:pt x="1012" y="2"/>
                      <a:pt x="1012" y="3"/>
                    </a:cubicBezTo>
                    <a:cubicBezTo>
                      <a:pt x="1012" y="4"/>
                      <a:pt x="1011" y="5"/>
                      <a:pt x="1010" y="5"/>
                    </a:cubicBezTo>
                    <a:lnTo>
                      <a:pt x="1010" y="5"/>
                    </a:lnTo>
                    <a:cubicBezTo>
                      <a:pt x="1009" y="5"/>
                      <a:pt x="1008" y="4"/>
                      <a:pt x="1008" y="3"/>
                    </a:cubicBezTo>
                    <a:cubicBezTo>
                      <a:pt x="1008" y="2"/>
                      <a:pt x="1009" y="1"/>
                      <a:pt x="1010" y="1"/>
                    </a:cubicBezTo>
                    <a:close/>
                    <a:moveTo>
                      <a:pt x="1018" y="1"/>
                    </a:moveTo>
                    <a:lnTo>
                      <a:pt x="1018" y="1"/>
                    </a:lnTo>
                    <a:cubicBezTo>
                      <a:pt x="1019" y="1"/>
                      <a:pt x="1020" y="2"/>
                      <a:pt x="1020" y="3"/>
                    </a:cubicBezTo>
                    <a:cubicBezTo>
                      <a:pt x="1020" y="4"/>
                      <a:pt x="1019" y="5"/>
                      <a:pt x="1018" y="5"/>
                    </a:cubicBezTo>
                    <a:lnTo>
                      <a:pt x="1018" y="5"/>
                    </a:lnTo>
                    <a:cubicBezTo>
                      <a:pt x="1017" y="5"/>
                      <a:pt x="1016" y="4"/>
                      <a:pt x="1016" y="3"/>
                    </a:cubicBezTo>
                    <a:cubicBezTo>
                      <a:pt x="1016" y="2"/>
                      <a:pt x="1017" y="1"/>
                      <a:pt x="1018" y="1"/>
                    </a:cubicBezTo>
                    <a:close/>
                    <a:moveTo>
                      <a:pt x="1026" y="1"/>
                    </a:moveTo>
                    <a:lnTo>
                      <a:pt x="1026" y="1"/>
                    </a:lnTo>
                    <a:cubicBezTo>
                      <a:pt x="1027" y="1"/>
                      <a:pt x="1028" y="2"/>
                      <a:pt x="1028" y="3"/>
                    </a:cubicBezTo>
                    <a:cubicBezTo>
                      <a:pt x="1028" y="4"/>
                      <a:pt x="1027" y="5"/>
                      <a:pt x="1026" y="5"/>
                    </a:cubicBezTo>
                    <a:lnTo>
                      <a:pt x="1026" y="5"/>
                    </a:lnTo>
                    <a:cubicBezTo>
                      <a:pt x="1025" y="5"/>
                      <a:pt x="1024" y="4"/>
                      <a:pt x="1024" y="3"/>
                    </a:cubicBezTo>
                    <a:cubicBezTo>
                      <a:pt x="1024" y="2"/>
                      <a:pt x="1025" y="1"/>
                      <a:pt x="1026" y="1"/>
                    </a:cubicBezTo>
                    <a:close/>
                    <a:moveTo>
                      <a:pt x="1034" y="1"/>
                    </a:moveTo>
                    <a:lnTo>
                      <a:pt x="1034" y="1"/>
                    </a:lnTo>
                    <a:cubicBezTo>
                      <a:pt x="1035" y="1"/>
                      <a:pt x="1036" y="2"/>
                      <a:pt x="1036" y="3"/>
                    </a:cubicBezTo>
                    <a:cubicBezTo>
                      <a:pt x="1036" y="4"/>
                      <a:pt x="1035" y="5"/>
                      <a:pt x="1034" y="5"/>
                    </a:cubicBezTo>
                    <a:lnTo>
                      <a:pt x="1034" y="5"/>
                    </a:lnTo>
                    <a:cubicBezTo>
                      <a:pt x="1033" y="5"/>
                      <a:pt x="1032" y="4"/>
                      <a:pt x="1032" y="3"/>
                    </a:cubicBezTo>
                    <a:cubicBezTo>
                      <a:pt x="1032" y="2"/>
                      <a:pt x="1033" y="1"/>
                      <a:pt x="1034" y="1"/>
                    </a:cubicBezTo>
                    <a:close/>
                    <a:moveTo>
                      <a:pt x="1042" y="1"/>
                    </a:moveTo>
                    <a:lnTo>
                      <a:pt x="1042" y="1"/>
                    </a:lnTo>
                    <a:cubicBezTo>
                      <a:pt x="1043" y="1"/>
                      <a:pt x="1044" y="2"/>
                      <a:pt x="1044" y="3"/>
                    </a:cubicBezTo>
                    <a:cubicBezTo>
                      <a:pt x="1044" y="4"/>
                      <a:pt x="1043" y="5"/>
                      <a:pt x="1042" y="5"/>
                    </a:cubicBezTo>
                    <a:lnTo>
                      <a:pt x="1042" y="5"/>
                    </a:lnTo>
                    <a:cubicBezTo>
                      <a:pt x="1041" y="5"/>
                      <a:pt x="1040" y="4"/>
                      <a:pt x="1040" y="3"/>
                    </a:cubicBezTo>
                    <a:cubicBezTo>
                      <a:pt x="1040" y="2"/>
                      <a:pt x="1041" y="1"/>
                      <a:pt x="1042" y="1"/>
                    </a:cubicBezTo>
                    <a:close/>
                    <a:moveTo>
                      <a:pt x="1050" y="1"/>
                    </a:moveTo>
                    <a:lnTo>
                      <a:pt x="1050" y="1"/>
                    </a:lnTo>
                    <a:cubicBezTo>
                      <a:pt x="1051" y="1"/>
                      <a:pt x="1052" y="2"/>
                      <a:pt x="1052" y="3"/>
                    </a:cubicBezTo>
                    <a:cubicBezTo>
                      <a:pt x="1052" y="4"/>
                      <a:pt x="1051" y="5"/>
                      <a:pt x="1050" y="5"/>
                    </a:cubicBezTo>
                    <a:lnTo>
                      <a:pt x="1050" y="5"/>
                    </a:lnTo>
                    <a:cubicBezTo>
                      <a:pt x="1049" y="5"/>
                      <a:pt x="1048" y="4"/>
                      <a:pt x="1048" y="3"/>
                    </a:cubicBezTo>
                    <a:cubicBezTo>
                      <a:pt x="1048" y="2"/>
                      <a:pt x="1049" y="1"/>
                      <a:pt x="1050" y="1"/>
                    </a:cubicBezTo>
                    <a:close/>
                    <a:moveTo>
                      <a:pt x="1058" y="1"/>
                    </a:moveTo>
                    <a:lnTo>
                      <a:pt x="1058" y="1"/>
                    </a:lnTo>
                    <a:cubicBezTo>
                      <a:pt x="1059" y="1"/>
                      <a:pt x="1060" y="2"/>
                      <a:pt x="1060" y="3"/>
                    </a:cubicBezTo>
                    <a:cubicBezTo>
                      <a:pt x="1060" y="4"/>
                      <a:pt x="1059" y="5"/>
                      <a:pt x="1058" y="5"/>
                    </a:cubicBezTo>
                    <a:lnTo>
                      <a:pt x="1058" y="5"/>
                    </a:lnTo>
                    <a:cubicBezTo>
                      <a:pt x="1057" y="5"/>
                      <a:pt x="1056" y="4"/>
                      <a:pt x="1056" y="3"/>
                    </a:cubicBezTo>
                    <a:cubicBezTo>
                      <a:pt x="1056" y="2"/>
                      <a:pt x="1057" y="1"/>
                      <a:pt x="1058" y="1"/>
                    </a:cubicBezTo>
                    <a:close/>
                    <a:moveTo>
                      <a:pt x="1066" y="1"/>
                    </a:moveTo>
                    <a:lnTo>
                      <a:pt x="1066" y="1"/>
                    </a:lnTo>
                    <a:cubicBezTo>
                      <a:pt x="1067" y="1"/>
                      <a:pt x="1068" y="2"/>
                      <a:pt x="1068" y="3"/>
                    </a:cubicBezTo>
                    <a:cubicBezTo>
                      <a:pt x="1068" y="4"/>
                      <a:pt x="1067" y="5"/>
                      <a:pt x="1066" y="5"/>
                    </a:cubicBezTo>
                    <a:lnTo>
                      <a:pt x="1066" y="5"/>
                    </a:lnTo>
                    <a:cubicBezTo>
                      <a:pt x="1065" y="5"/>
                      <a:pt x="1064" y="4"/>
                      <a:pt x="1064" y="3"/>
                    </a:cubicBezTo>
                    <a:cubicBezTo>
                      <a:pt x="1064" y="2"/>
                      <a:pt x="1065" y="1"/>
                      <a:pt x="1066" y="1"/>
                    </a:cubicBezTo>
                    <a:close/>
                    <a:moveTo>
                      <a:pt x="1074" y="1"/>
                    </a:moveTo>
                    <a:lnTo>
                      <a:pt x="1074" y="1"/>
                    </a:lnTo>
                    <a:cubicBezTo>
                      <a:pt x="1075" y="1"/>
                      <a:pt x="1076" y="2"/>
                      <a:pt x="1076" y="3"/>
                    </a:cubicBezTo>
                    <a:cubicBezTo>
                      <a:pt x="1076" y="4"/>
                      <a:pt x="1075" y="5"/>
                      <a:pt x="1074" y="5"/>
                    </a:cubicBezTo>
                    <a:lnTo>
                      <a:pt x="1074" y="5"/>
                    </a:lnTo>
                    <a:cubicBezTo>
                      <a:pt x="1073" y="5"/>
                      <a:pt x="1072" y="4"/>
                      <a:pt x="1072" y="3"/>
                    </a:cubicBezTo>
                    <a:cubicBezTo>
                      <a:pt x="1072" y="2"/>
                      <a:pt x="1073" y="1"/>
                      <a:pt x="1074" y="1"/>
                    </a:cubicBezTo>
                    <a:close/>
                    <a:moveTo>
                      <a:pt x="1082" y="1"/>
                    </a:moveTo>
                    <a:lnTo>
                      <a:pt x="1082" y="1"/>
                    </a:lnTo>
                    <a:cubicBezTo>
                      <a:pt x="1083" y="1"/>
                      <a:pt x="1084" y="2"/>
                      <a:pt x="1084" y="3"/>
                    </a:cubicBezTo>
                    <a:cubicBezTo>
                      <a:pt x="1084" y="4"/>
                      <a:pt x="1083" y="5"/>
                      <a:pt x="1082" y="5"/>
                    </a:cubicBezTo>
                    <a:lnTo>
                      <a:pt x="1082" y="5"/>
                    </a:lnTo>
                    <a:cubicBezTo>
                      <a:pt x="1081" y="5"/>
                      <a:pt x="1080" y="4"/>
                      <a:pt x="1080" y="3"/>
                    </a:cubicBezTo>
                    <a:cubicBezTo>
                      <a:pt x="1080" y="2"/>
                      <a:pt x="1081" y="1"/>
                      <a:pt x="1082" y="1"/>
                    </a:cubicBezTo>
                    <a:close/>
                    <a:moveTo>
                      <a:pt x="1090" y="1"/>
                    </a:moveTo>
                    <a:lnTo>
                      <a:pt x="1090" y="1"/>
                    </a:lnTo>
                    <a:cubicBezTo>
                      <a:pt x="1091" y="1"/>
                      <a:pt x="1092" y="2"/>
                      <a:pt x="1092" y="3"/>
                    </a:cubicBezTo>
                    <a:cubicBezTo>
                      <a:pt x="1092" y="4"/>
                      <a:pt x="1091" y="5"/>
                      <a:pt x="1090" y="5"/>
                    </a:cubicBezTo>
                    <a:lnTo>
                      <a:pt x="1090" y="5"/>
                    </a:lnTo>
                    <a:cubicBezTo>
                      <a:pt x="1089" y="5"/>
                      <a:pt x="1088" y="4"/>
                      <a:pt x="1088" y="3"/>
                    </a:cubicBezTo>
                    <a:cubicBezTo>
                      <a:pt x="1088" y="2"/>
                      <a:pt x="1089" y="1"/>
                      <a:pt x="1090" y="1"/>
                    </a:cubicBezTo>
                    <a:close/>
                    <a:moveTo>
                      <a:pt x="1098" y="1"/>
                    </a:moveTo>
                    <a:lnTo>
                      <a:pt x="1098" y="1"/>
                    </a:lnTo>
                    <a:cubicBezTo>
                      <a:pt x="1099" y="1"/>
                      <a:pt x="1100" y="2"/>
                      <a:pt x="1100" y="3"/>
                    </a:cubicBezTo>
                    <a:cubicBezTo>
                      <a:pt x="1100" y="4"/>
                      <a:pt x="1099" y="5"/>
                      <a:pt x="1098" y="5"/>
                    </a:cubicBezTo>
                    <a:lnTo>
                      <a:pt x="1098" y="5"/>
                    </a:lnTo>
                    <a:cubicBezTo>
                      <a:pt x="1097" y="5"/>
                      <a:pt x="1096" y="4"/>
                      <a:pt x="1096" y="3"/>
                    </a:cubicBezTo>
                    <a:cubicBezTo>
                      <a:pt x="1096" y="2"/>
                      <a:pt x="1097" y="1"/>
                      <a:pt x="1098" y="1"/>
                    </a:cubicBezTo>
                    <a:close/>
                    <a:moveTo>
                      <a:pt x="1106" y="1"/>
                    </a:moveTo>
                    <a:lnTo>
                      <a:pt x="1106" y="1"/>
                    </a:lnTo>
                    <a:cubicBezTo>
                      <a:pt x="1107" y="1"/>
                      <a:pt x="1108" y="2"/>
                      <a:pt x="1108" y="3"/>
                    </a:cubicBezTo>
                    <a:cubicBezTo>
                      <a:pt x="1108" y="4"/>
                      <a:pt x="1107" y="5"/>
                      <a:pt x="1106" y="5"/>
                    </a:cubicBezTo>
                    <a:lnTo>
                      <a:pt x="1106" y="5"/>
                    </a:lnTo>
                    <a:cubicBezTo>
                      <a:pt x="1105" y="5"/>
                      <a:pt x="1104" y="4"/>
                      <a:pt x="1104" y="3"/>
                    </a:cubicBezTo>
                    <a:cubicBezTo>
                      <a:pt x="1104" y="2"/>
                      <a:pt x="1105" y="1"/>
                      <a:pt x="1106" y="1"/>
                    </a:cubicBezTo>
                    <a:close/>
                    <a:moveTo>
                      <a:pt x="1114" y="1"/>
                    </a:moveTo>
                    <a:lnTo>
                      <a:pt x="1114" y="1"/>
                    </a:lnTo>
                    <a:cubicBezTo>
                      <a:pt x="1115" y="1"/>
                      <a:pt x="1116" y="2"/>
                      <a:pt x="1116" y="3"/>
                    </a:cubicBezTo>
                    <a:cubicBezTo>
                      <a:pt x="1116" y="4"/>
                      <a:pt x="1115" y="5"/>
                      <a:pt x="1114" y="5"/>
                    </a:cubicBezTo>
                    <a:lnTo>
                      <a:pt x="1114" y="5"/>
                    </a:lnTo>
                    <a:cubicBezTo>
                      <a:pt x="1113" y="5"/>
                      <a:pt x="1112" y="4"/>
                      <a:pt x="1112" y="3"/>
                    </a:cubicBezTo>
                    <a:cubicBezTo>
                      <a:pt x="1112" y="2"/>
                      <a:pt x="1113" y="1"/>
                      <a:pt x="1114" y="1"/>
                    </a:cubicBezTo>
                    <a:close/>
                    <a:moveTo>
                      <a:pt x="1122" y="1"/>
                    </a:moveTo>
                    <a:lnTo>
                      <a:pt x="1122" y="1"/>
                    </a:lnTo>
                    <a:cubicBezTo>
                      <a:pt x="1123" y="1"/>
                      <a:pt x="1124" y="2"/>
                      <a:pt x="1124" y="3"/>
                    </a:cubicBezTo>
                    <a:cubicBezTo>
                      <a:pt x="1124" y="4"/>
                      <a:pt x="1123" y="5"/>
                      <a:pt x="1122" y="5"/>
                    </a:cubicBezTo>
                    <a:lnTo>
                      <a:pt x="1122" y="5"/>
                    </a:lnTo>
                    <a:cubicBezTo>
                      <a:pt x="1121" y="5"/>
                      <a:pt x="1120" y="4"/>
                      <a:pt x="1120" y="3"/>
                    </a:cubicBezTo>
                    <a:cubicBezTo>
                      <a:pt x="1120" y="2"/>
                      <a:pt x="1121" y="1"/>
                      <a:pt x="1122" y="1"/>
                    </a:cubicBezTo>
                    <a:close/>
                    <a:moveTo>
                      <a:pt x="1130" y="1"/>
                    </a:moveTo>
                    <a:lnTo>
                      <a:pt x="1130" y="1"/>
                    </a:lnTo>
                    <a:cubicBezTo>
                      <a:pt x="1131" y="1"/>
                      <a:pt x="1132" y="2"/>
                      <a:pt x="1132" y="3"/>
                    </a:cubicBezTo>
                    <a:cubicBezTo>
                      <a:pt x="1132" y="4"/>
                      <a:pt x="1131" y="5"/>
                      <a:pt x="1130" y="5"/>
                    </a:cubicBezTo>
                    <a:lnTo>
                      <a:pt x="1130" y="5"/>
                    </a:lnTo>
                    <a:cubicBezTo>
                      <a:pt x="1129" y="5"/>
                      <a:pt x="1128" y="4"/>
                      <a:pt x="1128" y="3"/>
                    </a:cubicBezTo>
                    <a:cubicBezTo>
                      <a:pt x="1128" y="2"/>
                      <a:pt x="1129" y="1"/>
                      <a:pt x="1130" y="1"/>
                    </a:cubicBezTo>
                    <a:close/>
                    <a:moveTo>
                      <a:pt x="1138" y="1"/>
                    </a:moveTo>
                    <a:lnTo>
                      <a:pt x="1138" y="1"/>
                    </a:lnTo>
                    <a:cubicBezTo>
                      <a:pt x="1139" y="1"/>
                      <a:pt x="1140" y="2"/>
                      <a:pt x="1140" y="3"/>
                    </a:cubicBezTo>
                    <a:cubicBezTo>
                      <a:pt x="1140" y="4"/>
                      <a:pt x="1139" y="5"/>
                      <a:pt x="1138" y="5"/>
                    </a:cubicBezTo>
                    <a:lnTo>
                      <a:pt x="1138" y="5"/>
                    </a:lnTo>
                    <a:cubicBezTo>
                      <a:pt x="1137" y="5"/>
                      <a:pt x="1136" y="4"/>
                      <a:pt x="1136" y="3"/>
                    </a:cubicBezTo>
                    <a:cubicBezTo>
                      <a:pt x="1136" y="2"/>
                      <a:pt x="1137" y="1"/>
                      <a:pt x="1138" y="1"/>
                    </a:cubicBezTo>
                    <a:close/>
                    <a:moveTo>
                      <a:pt x="1146" y="1"/>
                    </a:moveTo>
                    <a:lnTo>
                      <a:pt x="1146" y="1"/>
                    </a:lnTo>
                    <a:cubicBezTo>
                      <a:pt x="1147" y="1"/>
                      <a:pt x="1148" y="2"/>
                      <a:pt x="1148" y="3"/>
                    </a:cubicBezTo>
                    <a:cubicBezTo>
                      <a:pt x="1148" y="4"/>
                      <a:pt x="1147" y="5"/>
                      <a:pt x="1146" y="5"/>
                    </a:cubicBezTo>
                    <a:lnTo>
                      <a:pt x="1146" y="5"/>
                    </a:lnTo>
                    <a:cubicBezTo>
                      <a:pt x="1145" y="5"/>
                      <a:pt x="1144" y="4"/>
                      <a:pt x="1144" y="3"/>
                    </a:cubicBezTo>
                    <a:cubicBezTo>
                      <a:pt x="1144" y="2"/>
                      <a:pt x="1145" y="1"/>
                      <a:pt x="1146" y="1"/>
                    </a:cubicBezTo>
                    <a:close/>
                    <a:moveTo>
                      <a:pt x="1154" y="1"/>
                    </a:moveTo>
                    <a:lnTo>
                      <a:pt x="1154" y="1"/>
                    </a:lnTo>
                    <a:cubicBezTo>
                      <a:pt x="1155" y="1"/>
                      <a:pt x="1156" y="2"/>
                      <a:pt x="1156" y="3"/>
                    </a:cubicBezTo>
                    <a:cubicBezTo>
                      <a:pt x="1156" y="4"/>
                      <a:pt x="1155" y="5"/>
                      <a:pt x="1154" y="5"/>
                    </a:cubicBezTo>
                    <a:lnTo>
                      <a:pt x="1154" y="5"/>
                    </a:lnTo>
                    <a:cubicBezTo>
                      <a:pt x="1153" y="5"/>
                      <a:pt x="1152" y="4"/>
                      <a:pt x="1152" y="3"/>
                    </a:cubicBezTo>
                    <a:cubicBezTo>
                      <a:pt x="1152" y="2"/>
                      <a:pt x="1153" y="1"/>
                      <a:pt x="1154" y="1"/>
                    </a:cubicBezTo>
                    <a:close/>
                    <a:moveTo>
                      <a:pt x="1162" y="1"/>
                    </a:moveTo>
                    <a:lnTo>
                      <a:pt x="1162" y="1"/>
                    </a:lnTo>
                    <a:cubicBezTo>
                      <a:pt x="1163" y="1"/>
                      <a:pt x="1164" y="2"/>
                      <a:pt x="1164" y="3"/>
                    </a:cubicBezTo>
                    <a:cubicBezTo>
                      <a:pt x="1164" y="4"/>
                      <a:pt x="1163" y="5"/>
                      <a:pt x="1162" y="5"/>
                    </a:cubicBezTo>
                    <a:lnTo>
                      <a:pt x="1162" y="5"/>
                    </a:lnTo>
                    <a:cubicBezTo>
                      <a:pt x="1161" y="5"/>
                      <a:pt x="1160" y="4"/>
                      <a:pt x="1160" y="3"/>
                    </a:cubicBezTo>
                    <a:cubicBezTo>
                      <a:pt x="1160" y="2"/>
                      <a:pt x="1161" y="1"/>
                      <a:pt x="1162" y="1"/>
                    </a:cubicBezTo>
                    <a:close/>
                    <a:moveTo>
                      <a:pt x="1170" y="1"/>
                    </a:moveTo>
                    <a:lnTo>
                      <a:pt x="1170" y="1"/>
                    </a:lnTo>
                    <a:cubicBezTo>
                      <a:pt x="1171" y="1"/>
                      <a:pt x="1172" y="2"/>
                      <a:pt x="1172" y="3"/>
                    </a:cubicBezTo>
                    <a:cubicBezTo>
                      <a:pt x="1172" y="4"/>
                      <a:pt x="1171" y="5"/>
                      <a:pt x="1170" y="5"/>
                    </a:cubicBezTo>
                    <a:lnTo>
                      <a:pt x="1170" y="5"/>
                    </a:lnTo>
                    <a:cubicBezTo>
                      <a:pt x="1169" y="5"/>
                      <a:pt x="1168" y="4"/>
                      <a:pt x="1168" y="3"/>
                    </a:cubicBezTo>
                    <a:cubicBezTo>
                      <a:pt x="1168" y="2"/>
                      <a:pt x="1169" y="1"/>
                      <a:pt x="1170" y="1"/>
                    </a:cubicBezTo>
                    <a:close/>
                    <a:moveTo>
                      <a:pt x="1178" y="1"/>
                    </a:moveTo>
                    <a:lnTo>
                      <a:pt x="1178" y="1"/>
                    </a:lnTo>
                    <a:cubicBezTo>
                      <a:pt x="1179" y="1"/>
                      <a:pt x="1180" y="2"/>
                      <a:pt x="1180" y="3"/>
                    </a:cubicBezTo>
                    <a:cubicBezTo>
                      <a:pt x="1180" y="4"/>
                      <a:pt x="1179" y="5"/>
                      <a:pt x="1178" y="5"/>
                    </a:cubicBezTo>
                    <a:lnTo>
                      <a:pt x="1178" y="5"/>
                    </a:lnTo>
                    <a:cubicBezTo>
                      <a:pt x="1177" y="5"/>
                      <a:pt x="1176" y="4"/>
                      <a:pt x="1176" y="3"/>
                    </a:cubicBezTo>
                    <a:cubicBezTo>
                      <a:pt x="1176" y="2"/>
                      <a:pt x="1177" y="1"/>
                      <a:pt x="1178" y="1"/>
                    </a:cubicBezTo>
                    <a:close/>
                    <a:moveTo>
                      <a:pt x="1186" y="1"/>
                    </a:moveTo>
                    <a:lnTo>
                      <a:pt x="1186" y="1"/>
                    </a:lnTo>
                    <a:cubicBezTo>
                      <a:pt x="1187" y="1"/>
                      <a:pt x="1188" y="2"/>
                      <a:pt x="1188" y="3"/>
                    </a:cubicBezTo>
                    <a:cubicBezTo>
                      <a:pt x="1188" y="4"/>
                      <a:pt x="1187" y="5"/>
                      <a:pt x="1186" y="5"/>
                    </a:cubicBezTo>
                    <a:lnTo>
                      <a:pt x="1186" y="5"/>
                    </a:lnTo>
                    <a:cubicBezTo>
                      <a:pt x="1185" y="5"/>
                      <a:pt x="1184" y="4"/>
                      <a:pt x="1184" y="3"/>
                    </a:cubicBezTo>
                    <a:cubicBezTo>
                      <a:pt x="1184" y="2"/>
                      <a:pt x="1185" y="1"/>
                      <a:pt x="1186" y="1"/>
                    </a:cubicBezTo>
                    <a:close/>
                    <a:moveTo>
                      <a:pt x="1194" y="1"/>
                    </a:moveTo>
                    <a:lnTo>
                      <a:pt x="1194" y="1"/>
                    </a:lnTo>
                    <a:cubicBezTo>
                      <a:pt x="1195" y="1"/>
                      <a:pt x="1196" y="2"/>
                      <a:pt x="1196" y="3"/>
                    </a:cubicBezTo>
                    <a:cubicBezTo>
                      <a:pt x="1196" y="4"/>
                      <a:pt x="1195" y="5"/>
                      <a:pt x="1194" y="5"/>
                    </a:cubicBezTo>
                    <a:lnTo>
                      <a:pt x="1194" y="5"/>
                    </a:lnTo>
                    <a:cubicBezTo>
                      <a:pt x="1193" y="5"/>
                      <a:pt x="1192" y="4"/>
                      <a:pt x="1192" y="3"/>
                    </a:cubicBezTo>
                    <a:cubicBezTo>
                      <a:pt x="1192" y="2"/>
                      <a:pt x="1193" y="1"/>
                      <a:pt x="1194" y="1"/>
                    </a:cubicBezTo>
                    <a:close/>
                    <a:moveTo>
                      <a:pt x="1202" y="1"/>
                    </a:moveTo>
                    <a:lnTo>
                      <a:pt x="1202" y="1"/>
                    </a:lnTo>
                    <a:cubicBezTo>
                      <a:pt x="1203" y="1"/>
                      <a:pt x="1204" y="2"/>
                      <a:pt x="1204" y="3"/>
                    </a:cubicBezTo>
                    <a:cubicBezTo>
                      <a:pt x="1204" y="4"/>
                      <a:pt x="1203" y="5"/>
                      <a:pt x="1202" y="5"/>
                    </a:cubicBezTo>
                    <a:lnTo>
                      <a:pt x="1202" y="5"/>
                    </a:lnTo>
                    <a:cubicBezTo>
                      <a:pt x="1201" y="5"/>
                      <a:pt x="1200" y="4"/>
                      <a:pt x="1200" y="3"/>
                    </a:cubicBezTo>
                    <a:cubicBezTo>
                      <a:pt x="1200" y="2"/>
                      <a:pt x="1201" y="1"/>
                      <a:pt x="1202" y="1"/>
                    </a:cubicBezTo>
                    <a:close/>
                    <a:moveTo>
                      <a:pt x="1210" y="1"/>
                    </a:moveTo>
                    <a:lnTo>
                      <a:pt x="1210" y="1"/>
                    </a:lnTo>
                    <a:cubicBezTo>
                      <a:pt x="1212" y="1"/>
                      <a:pt x="1212" y="2"/>
                      <a:pt x="1212" y="3"/>
                    </a:cubicBezTo>
                    <a:cubicBezTo>
                      <a:pt x="1212" y="4"/>
                      <a:pt x="1212" y="5"/>
                      <a:pt x="1210" y="5"/>
                    </a:cubicBezTo>
                    <a:lnTo>
                      <a:pt x="1210" y="5"/>
                    </a:lnTo>
                    <a:cubicBezTo>
                      <a:pt x="1209" y="5"/>
                      <a:pt x="1208" y="4"/>
                      <a:pt x="1208" y="3"/>
                    </a:cubicBezTo>
                    <a:cubicBezTo>
                      <a:pt x="1208" y="2"/>
                      <a:pt x="1209" y="1"/>
                      <a:pt x="1210" y="1"/>
                    </a:cubicBezTo>
                    <a:close/>
                    <a:moveTo>
                      <a:pt x="1218" y="1"/>
                    </a:moveTo>
                    <a:lnTo>
                      <a:pt x="1218" y="1"/>
                    </a:lnTo>
                    <a:cubicBezTo>
                      <a:pt x="1220" y="1"/>
                      <a:pt x="1220" y="2"/>
                      <a:pt x="1220" y="3"/>
                    </a:cubicBezTo>
                    <a:cubicBezTo>
                      <a:pt x="1220" y="4"/>
                      <a:pt x="1220" y="5"/>
                      <a:pt x="1218" y="5"/>
                    </a:cubicBezTo>
                    <a:lnTo>
                      <a:pt x="1218" y="5"/>
                    </a:lnTo>
                    <a:cubicBezTo>
                      <a:pt x="1217" y="5"/>
                      <a:pt x="1216" y="4"/>
                      <a:pt x="1216" y="3"/>
                    </a:cubicBezTo>
                    <a:cubicBezTo>
                      <a:pt x="1216" y="2"/>
                      <a:pt x="1217" y="1"/>
                      <a:pt x="1218" y="1"/>
                    </a:cubicBezTo>
                    <a:close/>
                    <a:moveTo>
                      <a:pt x="1226" y="1"/>
                    </a:moveTo>
                    <a:lnTo>
                      <a:pt x="1226" y="1"/>
                    </a:lnTo>
                    <a:cubicBezTo>
                      <a:pt x="1228" y="1"/>
                      <a:pt x="1228" y="2"/>
                      <a:pt x="1228" y="3"/>
                    </a:cubicBezTo>
                    <a:cubicBezTo>
                      <a:pt x="1228" y="4"/>
                      <a:pt x="1228" y="5"/>
                      <a:pt x="1226" y="5"/>
                    </a:cubicBezTo>
                    <a:lnTo>
                      <a:pt x="1226" y="5"/>
                    </a:lnTo>
                    <a:cubicBezTo>
                      <a:pt x="1225" y="5"/>
                      <a:pt x="1224" y="4"/>
                      <a:pt x="1224" y="3"/>
                    </a:cubicBezTo>
                    <a:cubicBezTo>
                      <a:pt x="1224" y="2"/>
                      <a:pt x="1225" y="1"/>
                      <a:pt x="1226" y="1"/>
                    </a:cubicBezTo>
                    <a:close/>
                    <a:moveTo>
                      <a:pt x="1234" y="1"/>
                    </a:moveTo>
                    <a:lnTo>
                      <a:pt x="1234" y="1"/>
                    </a:lnTo>
                    <a:cubicBezTo>
                      <a:pt x="1236" y="1"/>
                      <a:pt x="1236" y="2"/>
                      <a:pt x="1236" y="3"/>
                    </a:cubicBezTo>
                    <a:cubicBezTo>
                      <a:pt x="1236" y="4"/>
                      <a:pt x="1236" y="5"/>
                      <a:pt x="1234" y="5"/>
                    </a:cubicBezTo>
                    <a:lnTo>
                      <a:pt x="1234" y="5"/>
                    </a:lnTo>
                    <a:cubicBezTo>
                      <a:pt x="1233" y="5"/>
                      <a:pt x="1232" y="4"/>
                      <a:pt x="1232" y="3"/>
                    </a:cubicBezTo>
                    <a:cubicBezTo>
                      <a:pt x="1232" y="2"/>
                      <a:pt x="1233" y="1"/>
                      <a:pt x="1234" y="1"/>
                    </a:cubicBezTo>
                    <a:close/>
                    <a:moveTo>
                      <a:pt x="1242" y="1"/>
                    </a:moveTo>
                    <a:lnTo>
                      <a:pt x="1242" y="1"/>
                    </a:lnTo>
                    <a:cubicBezTo>
                      <a:pt x="1244" y="1"/>
                      <a:pt x="1244" y="2"/>
                      <a:pt x="1244" y="3"/>
                    </a:cubicBezTo>
                    <a:cubicBezTo>
                      <a:pt x="1244" y="4"/>
                      <a:pt x="1244" y="5"/>
                      <a:pt x="1242" y="5"/>
                    </a:cubicBezTo>
                    <a:lnTo>
                      <a:pt x="1242" y="5"/>
                    </a:lnTo>
                    <a:cubicBezTo>
                      <a:pt x="1241" y="5"/>
                      <a:pt x="1240" y="4"/>
                      <a:pt x="1240" y="3"/>
                    </a:cubicBezTo>
                    <a:cubicBezTo>
                      <a:pt x="1240" y="2"/>
                      <a:pt x="1241" y="1"/>
                      <a:pt x="1242" y="1"/>
                    </a:cubicBezTo>
                    <a:close/>
                    <a:moveTo>
                      <a:pt x="1250" y="1"/>
                    </a:moveTo>
                    <a:lnTo>
                      <a:pt x="1250" y="1"/>
                    </a:lnTo>
                    <a:cubicBezTo>
                      <a:pt x="1252" y="1"/>
                      <a:pt x="1252" y="2"/>
                      <a:pt x="1252" y="3"/>
                    </a:cubicBezTo>
                    <a:cubicBezTo>
                      <a:pt x="1252" y="4"/>
                      <a:pt x="1252" y="5"/>
                      <a:pt x="1250" y="5"/>
                    </a:cubicBezTo>
                    <a:lnTo>
                      <a:pt x="1250" y="5"/>
                    </a:lnTo>
                    <a:cubicBezTo>
                      <a:pt x="1249" y="5"/>
                      <a:pt x="1248" y="4"/>
                      <a:pt x="1248" y="3"/>
                    </a:cubicBezTo>
                    <a:cubicBezTo>
                      <a:pt x="1248" y="2"/>
                      <a:pt x="1249" y="1"/>
                      <a:pt x="1250" y="1"/>
                    </a:cubicBezTo>
                    <a:close/>
                    <a:moveTo>
                      <a:pt x="1258" y="1"/>
                    </a:moveTo>
                    <a:lnTo>
                      <a:pt x="1258" y="1"/>
                    </a:lnTo>
                    <a:cubicBezTo>
                      <a:pt x="1260" y="1"/>
                      <a:pt x="1260" y="2"/>
                      <a:pt x="1260" y="3"/>
                    </a:cubicBezTo>
                    <a:cubicBezTo>
                      <a:pt x="1260" y="4"/>
                      <a:pt x="1260" y="5"/>
                      <a:pt x="1258" y="5"/>
                    </a:cubicBezTo>
                    <a:lnTo>
                      <a:pt x="1258" y="5"/>
                    </a:lnTo>
                    <a:cubicBezTo>
                      <a:pt x="1257" y="5"/>
                      <a:pt x="1256" y="4"/>
                      <a:pt x="1256" y="3"/>
                    </a:cubicBezTo>
                    <a:cubicBezTo>
                      <a:pt x="1256" y="2"/>
                      <a:pt x="1257" y="1"/>
                      <a:pt x="1258" y="1"/>
                    </a:cubicBezTo>
                    <a:close/>
                    <a:moveTo>
                      <a:pt x="1266" y="1"/>
                    </a:moveTo>
                    <a:lnTo>
                      <a:pt x="1266" y="1"/>
                    </a:lnTo>
                    <a:cubicBezTo>
                      <a:pt x="1268" y="1"/>
                      <a:pt x="1268" y="2"/>
                      <a:pt x="1268" y="3"/>
                    </a:cubicBezTo>
                    <a:cubicBezTo>
                      <a:pt x="1268" y="4"/>
                      <a:pt x="1268" y="5"/>
                      <a:pt x="1266" y="5"/>
                    </a:cubicBezTo>
                    <a:lnTo>
                      <a:pt x="1266" y="5"/>
                    </a:lnTo>
                    <a:cubicBezTo>
                      <a:pt x="1265" y="5"/>
                      <a:pt x="1264" y="4"/>
                      <a:pt x="1264" y="3"/>
                    </a:cubicBezTo>
                    <a:cubicBezTo>
                      <a:pt x="1264" y="2"/>
                      <a:pt x="1265" y="1"/>
                      <a:pt x="1266" y="1"/>
                    </a:cubicBezTo>
                    <a:close/>
                    <a:moveTo>
                      <a:pt x="1274" y="1"/>
                    </a:moveTo>
                    <a:lnTo>
                      <a:pt x="1274" y="1"/>
                    </a:lnTo>
                    <a:cubicBezTo>
                      <a:pt x="1276" y="1"/>
                      <a:pt x="1276" y="2"/>
                      <a:pt x="1276" y="3"/>
                    </a:cubicBezTo>
                    <a:cubicBezTo>
                      <a:pt x="1276" y="4"/>
                      <a:pt x="1276" y="5"/>
                      <a:pt x="1274" y="5"/>
                    </a:cubicBezTo>
                    <a:lnTo>
                      <a:pt x="1274" y="5"/>
                    </a:lnTo>
                    <a:cubicBezTo>
                      <a:pt x="1273" y="5"/>
                      <a:pt x="1272" y="4"/>
                      <a:pt x="1272" y="3"/>
                    </a:cubicBezTo>
                    <a:cubicBezTo>
                      <a:pt x="1272" y="2"/>
                      <a:pt x="1273" y="1"/>
                      <a:pt x="1274" y="1"/>
                    </a:cubicBezTo>
                    <a:close/>
                    <a:moveTo>
                      <a:pt x="1282" y="1"/>
                    </a:moveTo>
                    <a:lnTo>
                      <a:pt x="1282" y="1"/>
                    </a:lnTo>
                    <a:cubicBezTo>
                      <a:pt x="1284" y="1"/>
                      <a:pt x="1284" y="2"/>
                      <a:pt x="1284" y="3"/>
                    </a:cubicBezTo>
                    <a:cubicBezTo>
                      <a:pt x="1284" y="4"/>
                      <a:pt x="1284" y="5"/>
                      <a:pt x="1282" y="5"/>
                    </a:cubicBezTo>
                    <a:lnTo>
                      <a:pt x="1282" y="5"/>
                    </a:lnTo>
                    <a:cubicBezTo>
                      <a:pt x="1281" y="5"/>
                      <a:pt x="1280" y="4"/>
                      <a:pt x="1280" y="3"/>
                    </a:cubicBezTo>
                    <a:cubicBezTo>
                      <a:pt x="1280" y="2"/>
                      <a:pt x="1281" y="1"/>
                      <a:pt x="1282" y="1"/>
                    </a:cubicBezTo>
                    <a:close/>
                    <a:moveTo>
                      <a:pt x="1290" y="1"/>
                    </a:moveTo>
                    <a:lnTo>
                      <a:pt x="1290" y="1"/>
                    </a:lnTo>
                    <a:cubicBezTo>
                      <a:pt x="1292" y="1"/>
                      <a:pt x="1292" y="2"/>
                      <a:pt x="1292" y="3"/>
                    </a:cubicBezTo>
                    <a:cubicBezTo>
                      <a:pt x="1292" y="4"/>
                      <a:pt x="1292" y="5"/>
                      <a:pt x="1290" y="5"/>
                    </a:cubicBezTo>
                    <a:lnTo>
                      <a:pt x="1290" y="5"/>
                    </a:lnTo>
                    <a:cubicBezTo>
                      <a:pt x="1289" y="5"/>
                      <a:pt x="1288" y="4"/>
                      <a:pt x="1288" y="3"/>
                    </a:cubicBezTo>
                    <a:cubicBezTo>
                      <a:pt x="1288" y="2"/>
                      <a:pt x="1289" y="1"/>
                      <a:pt x="1290" y="1"/>
                    </a:cubicBezTo>
                    <a:close/>
                    <a:moveTo>
                      <a:pt x="1298" y="1"/>
                    </a:moveTo>
                    <a:lnTo>
                      <a:pt x="1298" y="1"/>
                    </a:lnTo>
                    <a:cubicBezTo>
                      <a:pt x="1300" y="1"/>
                      <a:pt x="1300" y="2"/>
                      <a:pt x="1300" y="3"/>
                    </a:cubicBezTo>
                    <a:cubicBezTo>
                      <a:pt x="1300" y="4"/>
                      <a:pt x="1300" y="5"/>
                      <a:pt x="1298" y="5"/>
                    </a:cubicBezTo>
                    <a:lnTo>
                      <a:pt x="1298" y="5"/>
                    </a:lnTo>
                    <a:cubicBezTo>
                      <a:pt x="1297" y="5"/>
                      <a:pt x="1296" y="4"/>
                      <a:pt x="1296" y="3"/>
                    </a:cubicBezTo>
                    <a:cubicBezTo>
                      <a:pt x="1296" y="2"/>
                      <a:pt x="1297" y="1"/>
                      <a:pt x="1298" y="1"/>
                    </a:cubicBezTo>
                    <a:close/>
                    <a:moveTo>
                      <a:pt x="1306" y="1"/>
                    </a:moveTo>
                    <a:lnTo>
                      <a:pt x="1306" y="1"/>
                    </a:lnTo>
                    <a:cubicBezTo>
                      <a:pt x="1308" y="1"/>
                      <a:pt x="1308" y="2"/>
                      <a:pt x="1308" y="3"/>
                    </a:cubicBezTo>
                    <a:cubicBezTo>
                      <a:pt x="1308" y="4"/>
                      <a:pt x="1308" y="5"/>
                      <a:pt x="1306" y="5"/>
                    </a:cubicBezTo>
                    <a:lnTo>
                      <a:pt x="1306" y="5"/>
                    </a:lnTo>
                    <a:cubicBezTo>
                      <a:pt x="1305" y="5"/>
                      <a:pt x="1304" y="4"/>
                      <a:pt x="1304" y="3"/>
                    </a:cubicBezTo>
                    <a:cubicBezTo>
                      <a:pt x="1304" y="2"/>
                      <a:pt x="1305" y="1"/>
                      <a:pt x="1306" y="1"/>
                    </a:cubicBezTo>
                    <a:close/>
                    <a:moveTo>
                      <a:pt x="1314" y="1"/>
                    </a:moveTo>
                    <a:lnTo>
                      <a:pt x="1314" y="1"/>
                    </a:lnTo>
                    <a:cubicBezTo>
                      <a:pt x="1316" y="1"/>
                      <a:pt x="1316" y="2"/>
                      <a:pt x="1316" y="3"/>
                    </a:cubicBezTo>
                    <a:cubicBezTo>
                      <a:pt x="1316" y="4"/>
                      <a:pt x="1316" y="5"/>
                      <a:pt x="1314" y="5"/>
                    </a:cubicBezTo>
                    <a:lnTo>
                      <a:pt x="1314" y="5"/>
                    </a:lnTo>
                    <a:cubicBezTo>
                      <a:pt x="1313" y="5"/>
                      <a:pt x="1312" y="4"/>
                      <a:pt x="1312" y="3"/>
                    </a:cubicBezTo>
                    <a:cubicBezTo>
                      <a:pt x="1312" y="2"/>
                      <a:pt x="1313" y="1"/>
                      <a:pt x="1314" y="1"/>
                    </a:cubicBezTo>
                    <a:close/>
                    <a:moveTo>
                      <a:pt x="1322" y="1"/>
                    </a:moveTo>
                    <a:lnTo>
                      <a:pt x="1322" y="1"/>
                    </a:lnTo>
                    <a:cubicBezTo>
                      <a:pt x="1324" y="1"/>
                      <a:pt x="1324" y="2"/>
                      <a:pt x="1324" y="3"/>
                    </a:cubicBezTo>
                    <a:cubicBezTo>
                      <a:pt x="1324" y="4"/>
                      <a:pt x="1324" y="5"/>
                      <a:pt x="1322" y="5"/>
                    </a:cubicBezTo>
                    <a:lnTo>
                      <a:pt x="1322" y="5"/>
                    </a:lnTo>
                    <a:cubicBezTo>
                      <a:pt x="1321" y="5"/>
                      <a:pt x="1320" y="4"/>
                      <a:pt x="1320" y="3"/>
                    </a:cubicBezTo>
                    <a:cubicBezTo>
                      <a:pt x="1320" y="2"/>
                      <a:pt x="1321" y="1"/>
                      <a:pt x="1322" y="1"/>
                    </a:cubicBezTo>
                    <a:close/>
                    <a:moveTo>
                      <a:pt x="1330" y="1"/>
                    </a:moveTo>
                    <a:lnTo>
                      <a:pt x="1330" y="1"/>
                    </a:lnTo>
                    <a:cubicBezTo>
                      <a:pt x="1332" y="1"/>
                      <a:pt x="1332" y="2"/>
                      <a:pt x="1332" y="3"/>
                    </a:cubicBezTo>
                    <a:cubicBezTo>
                      <a:pt x="1332" y="4"/>
                      <a:pt x="1332" y="5"/>
                      <a:pt x="1330" y="5"/>
                    </a:cubicBezTo>
                    <a:lnTo>
                      <a:pt x="1330" y="5"/>
                    </a:lnTo>
                    <a:cubicBezTo>
                      <a:pt x="1329" y="5"/>
                      <a:pt x="1328" y="4"/>
                      <a:pt x="1328" y="3"/>
                    </a:cubicBezTo>
                    <a:cubicBezTo>
                      <a:pt x="1328" y="2"/>
                      <a:pt x="1329" y="1"/>
                      <a:pt x="1330" y="1"/>
                    </a:cubicBezTo>
                    <a:close/>
                    <a:moveTo>
                      <a:pt x="1338" y="1"/>
                    </a:moveTo>
                    <a:lnTo>
                      <a:pt x="1338" y="1"/>
                    </a:lnTo>
                    <a:cubicBezTo>
                      <a:pt x="1340" y="1"/>
                      <a:pt x="1340" y="2"/>
                      <a:pt x="1340" y="3"/>
                    </a:cubicBezTo>
                    <a:cubicBezTo>
                      <a:pt x="1340" y="4"/>
                      <a:pt x="1340" y="5"/>
                      <a:pt x="1338" y="5"/>
                    </a:cubicBezTo>
                    <a:lnTo>
                      <a:pt x="1338" y="5"/>
                    </a:lnTo>
                    <a:cubicBezTo>
                      <a:pt x="1337" y="5"/>
                      <a:pt x="1336" y="4"/>
                      <a:pt x="1336" y="3"/>
                    </a:cubicBezTo>
                    <a:cubicBezTo>
                      <a:pt x="1336" y="2"/>
                      <a:pt x="1337" y="1"/>
                      <a:pt x="1338" y="1"/>
                    </a:cubicBezTo>
                    <a:close/>
                    <a:moveTo>
                      <a:pt x="1346" y="1"/>
                    </a:moveTo>
                    <a:lnTo>
                      <a:pt x="1346" y="1"/>
                    </a:lnTo>
                    <a:cubicBezTo>
                      <a:pt x="1348" y="1"/>
                      <a:pt x="1348" y="2"/>
                      <a:pt x="1348" y="3"/>
                    </a:cubicBezTo>
                    <a:cubicBezTo>
                      <a:pt x="1348" y="4"/>
                      <a:pt x="1348" y="5"/>
                      <a:pt x="1346" y="5"/>
                    </a:cubicBezTo>
                    <a:lnTo>
                      <a:pt x="1346" y="5"/>
                    </a:lnTo>
                    <a:cubicBezTo>
                      <a:pt x="1345" y="5"/>
                      <a:pt x="1344" y="4"/>
                      <a:pt x="1344" y="3"/>
                    </a:cubicBezTo>
                    <a:cubicBezTo>
                      <a:pt x="1344" y="2"/>
                      <a:pt x="1345" y="1"/>
                      <a:pt x="1346" y="1"/>
                    </a:cubicBezTo>
                    <a:close/>
                    <a:moveTo>
                      <a:pt x="1354" y="1"/>
                    </a:moveTo>
                    <a:lnTo>
                      <a:pt x="1354" y="1"/>
                    </a:lnTo>
                    <a:cubicBezTo>
                      <a:pt x="1356" y="1"/>
                      <a:pt x="1356" y="2"/>
                      <a:pt x="1356" y="3"/>
                    </a:cubicBezTo>
                    <a:cubicBezTo>
                      <a:pt x="1356" y="4"/>
                      <a:pt x="1356" y="5"/>
                      <a:pt x="1354" y="5"/>
                    </a:cubicBezTo>
                    <a:lnTo>
                      <a:pt x="1354" y="5"/>
                    </a:lnTo>
                    <a:cubicBezTo>
                      <a:pt x="1353" y="5"/>
                      <a:pt x="1352" y="4"/>
                      <a:pt x="1352" y="3"/>
                    </a:cubicBezTo>
                    <a:cubicBezTo>
                      <a:pt x="1352" y="2"/>
                      <a:pt x="1353" y="1"/>
                      <a:pt x="1354" y="1"/>
                    </a:cubicBezTo>
                    <a:close/>
                    <a:moveTo>
                      <a:pt x="1362" y="1"/>
                    </a:moveTo>
                    <a:lnTo>
                      <a:pt x="1362" y="1"/>
                    </a:lnTo>
                    <a:cubicBezTo>
                      <a:pt x="1364" y="1"/>
                      <a:pt x="1364" y="2"/>
                      <a:pt x="1364" y="3"/>
                    </a:cubicBezTo>
                    <a:cubicBezTo>
                      <a:pt x="1364" y="4"/>
                      <a:pt x="1364" y="5"/>
                      <a:pt x="1362" y="5"/>
                    </a:cubicBezTo>
                    <a:lnTo>
                      <a:pt x="1362" y="5"/>
                    </a:lnTo>
                    <a:cubicBezTo>
                      <a:pt x="1361" y="5"/>
                      <a:pt x="1360" y="4"/>
                      <a:pt x="1360" y="3"/>
                    </a:cubicBezTo>
                    <a:cubicBezTo>
                      <a:pt x="1360" y="2"/>
                      <a:pt x="1361" y="1"/>
                      <a:pt x="1362" y="1"/>
                    </a:cubicBezTo>
                    <a:close/>
                    <a:moveTo>
                      <a:pt x="1370" y="1"/>
                    </a:moveTo>
                    <a:lnTo>
                      <a:pt x="1370" y="1"/>
                    </a:lnTo>
                    <a:cubicBezTo>
                      <a:pt x="1372" y="1"/>
                      <a:pt x="1372" y="2"/>
                      <a:pt x="1372" y="3"/>
                    </a:cubicBezTo>
                    <a:cubicBezTo>
                      <a:pt x="1372" y="4"/>
                      <a:pt x="1372" y="5"/>
                      <a:pt x="1370" y="5"/>
                    </a:cubicBezTo>
                    <a:lnTo>
                      <a:pt x="1370" y="5"/>
                    </a:lnTo>
                    <a:cubicBezTo>
                      <a:pt x="1369" y="5"/>
                      <a:pt x="1368" y="4"/>
                      <a:pt x="1368" y="3"/>
                    </a:cubicBezTo>
                    <a:cubicBezTo>
                      <a:pt x="1368" y="2"/>
                      <a:pt x="1369" y="1"/>
                      <a:pt x="1370" y="1"/>
                    </a:cubicBezTo>
                    <a:close/>
                    <a:moveTo>
                      <a:pt x="1378" y="1"/>
                    </a:moveTo>
                    <a:lnTo>
                      <a:pt x="1378" y="1"/>
                    </a:lnTo>
                    <a:cubicBezTo>
                      <a:pt x="1380" y="1"/>
                      <a:pt x="1380" y="2"/>
                      <a:pt x="1380" y="3"/>
                    </a:cubicBezTo>
                    <a:cubicBezTo>
                      <a:pt x="1380" y="4"/>
                      <a:pt x="1380" y="5"/>
                      <a:pt x="1378" y="5"/>
                    </a:cubicBezTo>
                    <a:lnTo>
                      <a:pt x="1378" y="5"/>
                    </a:lnTo>
                    <a:cubicBezTo>
                      <a:pt x="1377" y="5"/>
                      <a:pt x="1376" y="4"/>
                      <a:pt x="1376" y="3"/>
                    </a:cubicBezTo>
                    <a:cubicBezTo>
                      <a:pt x="1376" y="2"/>
                      <a:pt x="1377" y="1"/>
                      <a:pt x="1378" y="1"/>
                    </a:cubicBezTo>
                    <a:close/>
                    <a:moveTo>
                      <a:pt x="1386" y="1"/>
                    </a:moveTo>
                    <a:lnTo>
                      <a:pt x="1386" y="1"/>
                    </a:lnTo>
                    <a:cubicBezTo>
                      <a:pt x="1388" y="1"/>
                      <a:pt x="1388" y="2"/>
                      <a:pt x="1388" y="3"/>
                    </a:cubicBezTo>
                    <a:cubicBezTo>
                      <a:pt x="1388" y="4"/>
                      <a:pt x="1388" y="5"/>
                      <a:pt x="1386" y="5"/>
                    </a:cubicBezTo>
                    <a:lnTo>
                      <a:pt x="1386" y="5"/>
                    </a:lnTo>
                    <a:cubicBezTo>
                      <a:pt x="1385" y="5"/>
                      <a:pt x="1384" y="4"/>
                      <a:pt x="1384" y="3"/>
                    </a:cubicBezTo>
                    <a:cubicBezTo>
                      <a:pt x="1384" y="2"/>
                      <a:pt x="1385" y="1"/>
                      <a:pt x="1386" y="1"/>
                    </a:cubicBezTo>
                    <a:close/>
                    <a:moveTo>
                      <a:pt x="1394" y="1"/>
                    </a:moveTo>
                    <a:lnTo>
                      <a:pt x="1394" y="1"/>
                    </a:lnTo>
                    <a:cubicBezTo>
                      <a:pt x="1396" y="1"/>
                      <a:pt x="1396" y="2"/>
                      <a:pt x="1396" y="3"/>
                    </a:cubicBezTo>
                    <a:cubicBezTo>
                      <a:pt x="1396" y="4"/>
                      <a:pt x="1396" y="5"/>
                      <a:pt x="1394" y="5"/>
                    </a:cubicBezTo>
                    <a:lnTo>
                      <a:pt x="1394" y="5"/>
                    </a:lnTo>
                    <a:cubicBezTo>
                      <a:pt x="1393" y="5"/>
                      <a:pt x="1392" y="4"/>
                      <a:pt x="1392" y="3"/>
                    </a:cubicBezTo>
                    <a:cubicBezTo>
                      <a:pt x="1392" y="2"/>
                      <a:pt x="1393" y="1"/>
                      <a:pt x="1394" y="1"/>
                    </a:cubicBezTo>
                    <a:close/>
                    <a:moveTo>
                      <a:pt x="1402" y="1"/>
                    </a:moveTo>
                    <a:lnTo>
                      <a:pt x="1402" y="1"/>
                    </a:lnTo>
                    <a:cubicBezTo>
                      <a:pt x="1404" y="1"/>
                      <a:pt x="1404" y="2"/>
                      <a:pt x="1404" y="3"/>
                    </a:cubicBezTo>
                    <a:cubicBezTo>
                      <a:pt x="1404" y="4"/>
                      <a:pt x="1404" y="5"/>
                      <a:pt x="1402" y="5"/>
                    </a:cubicBezTo>
                    <a:lnTo>
                      <a:pt x="1402" y="5"/>
                    </a:lnTo>
                    <a:cubicBezTo>
                      <a:pt x="1401" y="5"/>
                      <a:pt x="1400" y="4"/>
                      <a:pt x="1400" y="3"/>
                    </a:cubicBezTo>
                    <a:cubicBezTo>
                      <a:pt x="1400" y="2"/>
                      <a:pt x="1401" y="1"/>
                      <a:pt x="1402" y="1"/>
                    </a:cubicBezTo>
                    <a:close/>
                    <a:moveTo>
                      <a:pt x="1410" y="1"/>
                    </a:moveTo>
                    <a:lnTo>
                      <a:pt x="1410" y="1"/>
                    </a:lnTo>
                    <a:cubicBezTo>
                      <a:pt x="1412" y="1"/>
                      <a:pt x="1412" y="2"/>
                      <a:pt x="1412" y="3"/>
                    </a:cubicBezTo>
                    <a:cubicBezTo>
                      <a:pt x="1412" y="4"/>
                      <a:pt x="1412" y="5"/>
                      <a:pt x="1410" y="5"/>
                    </a:cubicBezTo>
                    <a:lnTo>
                      <a:pt x="1410" y="5"/>
                    </a:lnTo>
                    <a:cubicBezTo>
                      <a:pt x="1409" y="5"/>
                      <a:pt x="1408" y="4"/>
                      <a:pt x="1408" y="3"/>
                    </a:cubicBezTo>
                    <a:cubicBezTo>
                      <a:pt x="1408" y="2"/>
                      <a:pt x="1409" y="1"/>
                      <a:pt x="1410" y="1"/>
                    </a:cubicBezTo>
                    <a:close/>
                    <a:moveTo>
                      <a:pt x="1418" y="1"/>
                    </a:moveTo>
                    <a:lnTo>
                      <a:pt x="1418" y="1"/>
                    </a:lnTo>
                    <a:cubicBezTo>
                      <a:pt x="1420" y="1"/>
                      <a:pt x="1420" y="2"/>
                      <a:pt x="1420" y="3"/>
                    </a:cubicBezTo>
                    <a:cubicBezTo>
                      <a:pt x="1420" y="4"/>
                      <a:pt x="1420" y="5"/>
                      <a:pt x="1418" y="5"/>
                    </a:cubicBezTo>
                    <a:lnTo>
                      <a:pt x="1418" y="5"/>
                    </a:lnTo>
                    <a:cubicBezTo>
                      <a:pt x="1417" y="5"/>
                      <a:pt x="1416" y="4"/>
                      <a:pt x="1416" y="3"/>
                    </a:cubicBezTo>
                    <a:cubicBezTo>
                      <a:pt x="1416" y="2"/>
                      <a:pt x="1417" y="1"/>
                      <a:pt x="1418" y="1"/>
                    </a:cubicBezTo>
                    <a:close/>
                    <a:moveTo>
                      <a:pt x="1426" y="1"/>
                    </a:moveTo>
                    <a:lnTo>
                      <a:pt x="1427" y="1"/>
                    </a:lnTo>
                    <a:cubicBezTo>
                      <a:pt x="1428" y="1"/>
                      <a:pt x="1429" y="2"/>
                      <a:pt x="1429" y="3"/>
                    </a:cubicBezTo>
                    <a:cubicBezTo>
                      <a:pt x="1429" y="4"/>
                      <a:pt x="1428" y="5"/>
                      <a:pt x="1427" y="5"/>
                    </a:cubicBezTo>
                    <a:lnTo>
                      <a:pt x="1426" y="5"/>
                    </a:lnTo>
                    <a:cubicBezTo>
                      <a:pt x="1425" y="5"/>
                      <a:pt x="1424" y="4"/>
                      <a:pt x="1424" y="3"/>
                    </a:cubicBezTo>
                    <a:cubicBezTo>
                      <a:pt x="1424" y="2"/>
                      <a:pt x="1425" y="1"/>
                      <a:pt x="1426" y="1"/>
                    </a:cubicBezTo>
                    <a:close/>
                    <a:moveTo>
                      <a:pt x="1435" y="1"/>
                    </a:moveTo>
                    <a:lnTo>
                      <a:pt x="1435" y="1"/>
                    </a:lnTo>
                    <a:cubicBezTo>
                      <a:pt x="1436" y="1"/>
                      <a:pt x="1437" y="2"/>
                      <a:pt x="1437" y="3"/>
                    </a:cubicBezTo>
                    <a:cubicBezTo>
                      <a:pt x="1437" y="4"/>
                      <a:pt x="1436" y="5"/>
                      <a:pt x="1435" y="5"/>
                    </a:cubicBezTo>
                    <a:lnTo>
                      <a:pt x="1435" y="5"/>
                    </a:lnTo>
                    <a:cubicBezTo>
                      <a:pt x="1433" y="5"/>
                      <a:pt x="1433" y="4"/>
                      <a:pt x="1433" y="3"/>
                    </a:cubicBezTo>
                    <a:cubicBezTo>
                      <a:pt x="1433" y="2"/>
                      <a:pt x="1433" y="1"/>
                      <a:pt x="1435" y="1"/>
                    </a:cubicBezTo>
                    <a:close/>
                    <a:moveTo>
                      <a:pt x="1443" y="1"/>
                    </a:moveTo>
                    <a:lnTo>
                      <a:pt x="1443" y="1"/>
                    </a:lnTo>
                    <a:cubicBezTo>
                      <a:pt x="1444" y="1"/>
                      <a:pt x="1445" y="2"/>
                      <a:pt x="1445" y="3"/>
                    </a:cubicBezTo>
                    <a:cubicBezTo>
                      <a:pt x="1445" y="4"/>
                      <a:pt x="1444" y="5"/>
                      <a:pt x="1443" y="5"/>
                    </a:cubicBezTo>
                    <a:lnTo>
                      <a:pt x="1443" y="5"/>
                    </a:lnTo>
                    <a:cubicBezTo>
                      <a:pt x="1441" y="5"/>
                      <a:pt x="1441" y="4"/>
                      <a:pt x="1441" y="3"/>
                    </a:cubicBezTo>
                    <a:cubicBezTo>
                      <a:pt x="1441" y="2"/>
                      <a:pt x="1441" y="1"/>
                      <a:pt x="1443" y="1"/>
                    </a:cubicBezTo>
                    <a:close/>
                    <a:moveTo>
                      <a:pt x="1451" y="1"/>
                    </a:moveTo>
                    <a:lnTo>
                      <a:pt x="1451" y="1"/>
                    </a:lnTo>
                    <a:cubicBezTo>
                      <a:pt x="1452" y="1"/>
                      <a:pt x="1453" y="2"/>
                      <a:pt x="1453" y="3"/>
                    </a:cubicBezTo>
                    <a:cubicBezTo>
                      <a:pt x="1453" y="4"/>
                      <a:pt x="1452" y="5"/>
                      <a:pt x="1451" y="5"/>
                    </a:cubicBezTo>
                    <a:lnTo>
                      <a:pt x="1451" y="5"/>
                    </a:lnTo>
                    <a:cubicBezTo>
                      <a:pt x="1449" y="5"/>
                      <a:pt x="1449" y="4"/>
                      <a:pt x="1449" y="3"/>
                    </a:cubicBezTo>
                    <a:cubicBezTo>
                      <a:pt x="1449" y="2"/>
                      <a:pt x="1449" y="1"/>
                      <a:pt x="1451" y="1"/>
                    </a:cubicBezTo>
                    <a:close/>
                    <a:moveTo>
                      <a:pt x="1459" y="1"/>
                    </a:moveTo>
                    <a:lnTo>
                      <a:pt x="1459" y="1"/>
                    </a:lnTo>
                    <a:cubicBezTo>
                      <a:pt x="1460" y="1"/>
                      <a:pt x="1461" y="2"/>
                      <a:pt x="1461" y="3"/>
                    </a:cubicBezTo>
                    <a:cubicBezTo>
                      <a:pt x="1461" y="4"/>
                      <a:pt x="1460" y="5"/>
                      <a:pt x="1459" y="5"/>
                    </a:cubicBezTo>
                    <a:lnTo>
                      <a:pt x="1459" y="5"/>
                    </a:lnTo>
                    <a:cubicBezTo>
                      <a:pt x="1457" y="5"/>
                      <a:pt x="1457" y="4"/>
                      <a:pt x="1457" y="3"/>
                    </a:cubicBezTo>
                    <a:cubicBezTo>
                      <a:pt x="1457" y="2"/>
                      <a:pt x="1457" y="1"/>
                      <a:pt x="1459" y="1"/>
                    </a:cubicBezTo>
                    <a:close/>
                    <a:moveTo>
                      <a:pt x="1467" y="1"/>
                    </a:moveTo>
                    <a:lnTo>
                      <a:pt x="1467" y="1"/>
                    </a:lnTo>
                    <a:cubicBezTo>
                      <a:pt x="1468" y="1"/>
                      <a:pt x="1469" y="2"/>
                      <a:pt x="1469" y="3"/>
                    </a:cubicBezTo>
                    <a:cubicBezTo>
                      <a:pt x="1469" y="4"/>
                      <a:pt x="1468" y="5"/>
                      <a:pt x="1467" y="5"/>
                    </a:cubicBezTo>
                    <a:lnTo>
                      <a:pt x="1467" y="5"/>
                    </a:lnTo>
                    <a:cubicBezTo>
                      <a:pt x="1465" y="5"/>
                      <a:pt x="1465" y="4"/>
                      <a:pt x="1465" y="3"/>
                    </a:cubicBezTo>
                    <a:cubicBezTo>
                      <a:pt x="1465" y="2"/>
                      <a:pt x="1465" y="1"/>
                      <a:pt x="1467" y="1"/>
                    </a:cubicBezTo>
                    <a:close/>
                    <a:moveTo>
                      <a:pt x="1475" y="1"/>
                    </a:moveTo>
                    <a:lnTo>
                      <a:pt x="1475" y="1"/>
                    </a:lnTo>
                    <a:cubicBezTo>
                      <a:pt x="1476" y="1"/>
                      <a:pt x="1477" y="2"/>
                      <a:pt x="1477" y="3"/>
                    </a:cubicBezTo>
                    <a:cubicBezTo>
                      <a:pt x="1477" y="4"/>
                      <a:pt x="1476" y="5"/>
                      <a:pt x="1475" y="5"/>
                    </a:cubicBezTo>
                    <a:lnTo>
                      <a:pt x="1475" y="5"/>
                    </a:lnTo>
                    <a:cubicBezTo>
                      <a:pt x="1473" y="5"/>
                      <a:pt x="1473" y="4"/>
                      <a:pt x="1473" y="3"/>
                    </a:cubicBezTo>
                    <a:cubicBezTo>
                      <a:pt x="1473" y="2"/>
                      <a:pt x="1473" y="1"/>
                      <a:pt x="1475" y="1"/>
                    </a:cubicBezTo>
                    <a:close/>
                    <a:moveTo>
                      <a:pt x="1483" y="1"/>
                    </a:moveTo>
                    <a:lnTo>
                      <a:pt x="1483" y="1"/>
                    </a:lnTo>
                    <a:cubicBezTo>
                      <a:pt x="1484" y="1"/>
                      <a:pt x="1485" y="2"/>
                      <a:pt x="1485" y="3"/>
                    </a:cubicBezTo>
                    <a:cubicBezTo>
                      <a:pt x="1485" y="4"/>
                      <a:pt x="1484" y="5"/>
                      <a:pt x="1483" y="5"/>
                    </a:cubicBezTo>
                    <a:lnTo>
                      <a:pt x="1483" y="5"/>
                    </a:lnTo>
                    <a:cubicBezTo>
                      <a:pt x="1481" y="5"/>
                      <a:pt x="1481" y="4"/>
                      <a:pt x="1481" y="3"/>
                    </a:cubicBezTo>
                    <a:cubicBezTo>
                      <a:pt x="1481" y="2"/>
                      <a:pt x="1481" y="1"/>
                      <a:pt x="1483" y="1"/>
                    </a:cubicBezTo>
                    <a:close/>
                    <a:moveTo>
                      <a:pt x="1491" y="1"/>
                    </a:moveTo>
                    <a:lnTo>
                      <a:pt x="1491" y="1"/>
                    </a:lnTo>
                    <a:cubicBezTo>
                      <a:pt x="1492" y="1"/>
                      <a:pt x="1493" y="2"/>
                      <a:pt x="1493" y="3"/>
                    </a:cubicBezTo>
                    <a:cubicBezTo>
                      <a:pt x="1493" y="4"/>
                      <a:pt x="1492" y="5"/>
                      <a:pt x="1491" y="5"/>
                    </a:cubicBezTo>
                    <a:lnTo>
                      <a:pt x="1491" y="5"/>
                    </a:lnTo>
                    <a:cubicBezTo>
                      <a:pt x="1489" y="5"/>
                      <a:pt x="1489" y="4"/>
                      <a:pt x="1489" y="3"/>
                    </a:cubicBezTo>
                    <a:cubicBezTo>
                      <a:pt x="1489" y="2"/>
                      <a:pt x="1489" y="1"/>
                      <a:pt x="1491" y="1"/>
                    </a:cubicBezTo>
                    <a:close/>
                    <a:moveTo>
                      <a:pt x="1499" y="1"/>
                    </a:moveTo>
                    <a:lnTo>
                      <a:pt x="1499" y="1"/>
                    </a:lnTo>
                    <a:cubicBezTo>
                      <a:pt x="1500" y="1"/>
                      <a:pt x="1501" y="2"/>
                      <a:pt x="1501" y="3"/>
                    </a:cubicBezTo>
                    <a:cubicBezTo>
                      <a:pt x="1501" y="4"/>
                      <a:pt x="1500" y="5"/>
                      <a:pt x="1499" y="5"/>
                    </a:cubicBezTo>
                    <a:lnTo>
                      <a:pt x="1499" y="5"/>
                    </a:lnTo>
                    <a:cubicBezTo>
                      <a:pt x="1497" y="5"/>
                      <a:pt x="1497" y="4"/>
                      <a:pt x="1497" y="3"/>
                    </a:cubicBezTo>
                    <a:cubicBezTo>
                      <a:pt x="1497" y="2"/>
                      <a:pt x="1497" y="1"/>
                      <a:pt x="1499" y="1"/>
                    </a:cubicBezTo>
                    <a:close/>
                    <a:moveTo>
                      <a:pt x="1507" y="1"/>
                    </a:moveTo>
                    <a:lnTo>
                      <a:pt x="1507" y="1"/>
                    </a:lnTo>
                    <a:cubicBezTo>
                      <a:pt x="1508" y="1"/>
                      <a:pt x="1509" y="2"/>
                      <a:pt x="1509" y="3"/>
                    </a:cubicBezTo>
                    <a:cubicBezTo>
                      <a:pt x="1509" y="4"/>
                      <a:pt x="1508" y="5"/>
                      <a:pt x="1507" y="5"/>
                    </a:cubicBezTo>
                    <a:lnTo>
                      <a:pt x="1507" y="5"/>
                    </a:lnTo>
                    <a:cubicBezTo>
                      <a:pt x="1505" y="5"/>
                      <a:pt x="1505" y="4"/>
                      <a:pt x="1505" y="3"/>
                    </a:cubicBezTo>
                    <a:cubicBezTo>
                      <a:pt x="1505" y="2"/>
                      <a:pt x="1505" y="1"/>
                      <a:pt x="1507" y="1"/>
                    </a:cubicBezTo>
                    <a:close/>
                    <a:moveTo>
                      <a:pt x="1515" y="1"/>
                    </a:moveTo>
                    <a:lnTo>
                      <a:pt x="1515" y="1"/>
                    </a:lnTo>
                    <a:cubicBezTo>
                      <a:pt x="1516" y="1"/>
                      <a:pt x="1517" y="2"/>
                      <a:pt x="1517" y="3"/>
                    </a:cubicBezTo>
                    <a:cubicBezTo>
                      <a:pt x="1517" y="4"/>
                      <a:pt x="1516" y="5"/>
                      <a:pt x="1515" y="5"/>
                    </a:cubicBezTo>
                    <a:lnTo>
                      <a:pt x="1515" y="5"/>
                    </a:lnTo>
                    <a:cubicBezTo>
                      <a:pt x="1513" y="5"/>
                      <a:pt x="1513" y="4"/>
                      <a:pt x="1513" y="3"/>
                    </a:cubicBezTo>
                    <a:cubicBezTo>
                      <a:pt x="1513" y="2"/>
                      <a:pt x="1513" y="1"/>
                      <a:pt x="1515" y="1"/>
                    </a:cubicBezTo>
                    <a:close/>
                    <a:moveTo>
                      <a:pt x="1523" y="1"/>
                    </a:moveTo>
                    <a:lnTo>
                      <a:pt x="1523" y="1"/>
                    </a:lnTo>
                    <a:cubicBezTo>
                      <a:pt x="1524" y="1"/>
                      <a:pt x="1525" y="2"/>
                      <a:pt x="1525" y="3"/>
                    </a:cubicBezTo>
                    <a:cubicBezTo>
                      <a:pt x="1525" y="4"/>
                      <a:pt x="1524" y="5"/>
                      <a:pt x="1523" y="5"/>
                    </a:cubicBezTo>
                    <a:lnTo>
                      <a:pt x="1523" y="5"/>
                    </a:lnTo>
                    <a:cubicBezTo>
                      <a:pt x="1521" y="5"/>
                      <a:pt x="1521" y="4"/>
                      <a:pt x="1521" y="3"/>
                    </a:cubicBezTo>
                    <a:cubicBezTo>
                      <a:pt x="1521" y="2"/>
                      <a:pt x="1521" y="1"/>
                      <a:pt x="1523" y="1"/>
                    </a:cubicBezTo>
                    <a:close/>
                    <a:moveTo>
                      <a:pt x="1531" y="1"/>
                    </a:moveTo>
                    <a:lnTo>
                      <a:pt x="1531" y="1"/>
                    </a:lnTo>
                    <a:cubicBezTo>
                      <a:pt x="1532" y="1"/>
                      <a:pt x="1533" y="2"/>
                      <a:pt x="1533" y="3"/>
                    </a:cubicBezTo>
                    <a:cubicBezTo>
                      <a:pt x="1533" y="4"/>
                      <a:pt x="1532" y="5"/>
                      <a:pt x="1531" y="5"/>
                    </a:cubicBezTo>
                    <a:lnTo>
                      <a:pt x="1531" y="5"/>
                    </a:lnTo>
                    <a:cubicBezTo>
                      <a:pt x="1529" y="5"/>
                      <a:pt x="1529" y="4"/>
                      <a:pt x="1529" y="3"/>
                    </a:cubicBezTo>
                    <a:cubicBezTo>
                      <a:pt x="1529" y="2"/>
                      <a:pt x="1529" y="1"/>
                      <a:pt x="1531" y="1"/>
                    </a:cubicBezTo>
                    <a:close/>
                    <a:moveTo>
                      <a:pt x="1539" y="1"/>
                    </a:moveTo>
                    <a:lnTo>
                      <a:pt x="1539" y="1"/>
                    </a:lnTo>
                    <a:cubicBezTo>
                      <a:pt x="1540" y="1"/>
                      <a:pt x="1541" y="2"/>
                      <a:pt x="1541" y="3"/>
                    </a:cubicBezTo>
                    <a:cubicBezTo>
                      <a:pt x="1541" y="4"/>
                      <a:pt x="1540" y="5"/>
                      <a:pt x="1539" y="5"/>
                    </a:cubicBezTo>
                    <a:lnTo>
                      <a:pt x="1539" y="5"/>
                    </a:lnTo>
                    <a:cubicBezTo>
                      <a:pt x="1537" y="5"/>
                      <a:pt x="1537" y="4"/>
                      <a:pt x="1537" y="3"/>
                    </a:cubicBezTo>
                    <a:cubicBezTo>
                      <a:pt x="1537" y="2"/>
                      <a:pt x="1537" y="1"/>
                      <a:pt x="1539" y="1"/>
                    </a:cubicBezTo>
                    <a:close/>
                    <a:moveTo>
                      <a:pt x="1547" y="1"/>
                    </a:moveTo>
                    <a:lnTo>
                      <a:pt x="1547" y="1"/>
                    </a:lnTo>
                    <a:cubicBezTo>
                      <a:pt x="1548" y="1"/>
                      <a:pt x="1549" y="2"/>
                      <a:pt x="1549" y="3"/>
                    </a:cubicBezTo>
                    <a:cubicBezTo>
                      <a:pt x="1549" y="4"/>
                      <a:pt x="1548" y="5"/>
                      <a:pt x="1547" y="5"/>
                    </a:cubicBezTo>
                    <a:lnTo>
                      <a:pt x="1547" y="5"/>
                    </a:lnTo>
                    <a:cubicBezTo>
                      <a:pt x="1545" y="5"/>
                      <a:pt x="1545" y="4"/>
                      <a:pt x="1545" y="3"/>
                    </a:cubicBezTo>
                    <a:cubicBezTo>
                      <a:pt x="1545" y="2"/>
                      <a:pt x="1545" y="1"/>
                      <a:pt x="1547" y="1"/>
                    </a:cubicBezTo>
                    <a:close/>
                    <a:moveTo>
                      <a:pt x="1555" y="1"/>
                    </a:moveTo>
                    <a:lnTo>
                      <a:pt x="1555" y="1"/>
                    </a:lnTo>
                    <a:cubicBezTo>
                      <a:pt x="1556" y="1"/>
                      <a:pt x="1557" y="2"/>
                      <a:pt x="1557" y="3"/>
                    </a:cubicBezTo>
                    <a:cubicBezTo>
                      <a:pt x="1557" y="4"/>
                      <a:pt x="1556" y="5"/>
                      <a:pt x="1555" y="5"/>
                    </a:cubicBezTo>
                    <a:lnTo>
                      <a:pt x="1555" y="5"/>
                    </a:lnTo>
                    <a:cubicBezTo>
                      <a:pt x="1553" y="5"/>
                      <a:pt x="1553" y="4"/>
                      <a:pt x="1553" y="3"/>
                    </a:cubicBezTo>
                    <a:cubicBezTo>
                      <a:pt x="1553" y="2"/>
                      <a:pt x="1553" y="1"/>
                      <a:pt x="1555" y="1"/>
                    </a:cubicBezTo>
                    <a:close/>
                    <a:moveTo>
                      <a:pt x="1563" y="1"/>
                    </a:moveTo>
                    <a:lnTo>
                      <a:pt x="1563" y="1"/>
                    </a:lnTo>
                    <a:cubicBezTo>
                      <a:pt x="1564" y="1"/>
                      <a:pt x="1565" y="2"/>
                      <a:pt x="1565" y="3"/>
                    </a:cubicBezTo>
                    <a:cubicBezTo>
                      <a:pt x="1565" y="4"/>
                      <a:pt x="1564" y="5"/>
                      <a:pt x="1563" y="5"/>
                    </a:cubicBezTo>
                    <a:lnTo>
                      <a:pt x="1563" y="5"/>
                    </a:lnTo>
                    <a:cubicBezTo>
                      <a:pt x="1561" y="5"/>
                      <a:pt x="1561" y="4"/>
                      <a:pt x="1561" y="3"/>
                    </a:cubicBezTo>
                    <a:cubicBezTo>
                      <a:pt x="1561" y="2"/>
                      <a:pt x="1561" y="1"/>
                      <a:pt x="1563" y="1"/>
                    </a:cubicBezTo>
                    <a:close/>
                    <a:moveTo>
                      <a:pt x="1571" y="1"/>
                    </a:moveTo>
                    <a:lnTo>
                      <a:pt x="1571" y="1"/>
                    </a:lnTo>
                    <a:cubicBezTo>
                      <a:pt x="1572" y="1"/>
                      <a:pt x="1573" y="2"/>
                      <a:pt x="1573" y="3"/>
                    </a:cubicBezTo>
                    <a:cubicBezTo>
                      <a:pt x="1573" y="4"/>
                      <a:pt x="1572" y="5"/>
                      <a:pt x="1571" y="5"/>
                    </a:cubicBezTo>
                    <a:lnTo>
                      <a:pt x="1571" y="5"/>
                    </a:lnTo>
                    <a:cubicBezTo>
                      <a:pt x="1569" y="5"/>
                      <a:pt x="1569" y="4"/>
                      <a:pt x="1569" y="3"/>
                    </a:cubicBezTo>
                    <a:cubicBezTo>
                      <a:pt x="1569" y="2"/>
                      <a:pt x="1569" y="1"/>
                      <a:pt x="1571" y="1"/>
                    </a:cubicBezTo>
                    <a:close/>
                    <a:moveTo>
                      <a:pt x="1579" y="1"/>
                    </a:moveTo>
                    <a:lnTo>
                      <a:pt x="1579" y="1"/>
                    </a:lnTo>
                    <a:cubicBezTo>
                      <a:pt x="1580" y="1"/>
                      <a:pt x="1581" y="2"/>
                      <a:pt x="1581" y="3"/>
                    </a:cubicBezTo>
                    <a:cubicBezTo>
                      <a:pt x="1581" y="4"/>
                      <a:pt x="1580" y="5"/>
                      <a:pt x="1579" y="5"/>
                    </a:cubicBezTo>
                    <a:lnTo>
                      <a:pt x="1579" y="5"/>
                    </a:lnTo>
                    <a:cubicBezTo>
                      <a:pt x="1577" y="5"/>
                      <a:pt x="1577" y="4"/>
                      <a:pt x="1577" y="3"/>
                    </a:cubicBezTo>
                    <a:cubicBezTo>
                      <a:pt x="1577" y="2"/>
                      <a:pt x="1577" y="1"/>
                      <a:pt x="1579" y="1"/>
                    </a:cubicBezTo>
                    <a:close/>
                    <a:moveTo>
                      <a:pt x="1587" y="1"/>
                    </a:moveTo>
                    <a:lnTo>
                      <a:pt x="1587" y="1"/>
                    </a:lnTo>
                    <a:cubicBezTo>
                      <a:pt x="1588" y="1"/>
                      <a:pt x="1589" y="2"/>
                      <a:pt x="1589" y="3"/>
                    </a:cubicBezTo>
                    <a:cubicBezTo>
                      <a:pt x="1589" y="4"/>
                      <a:pt x="1588" y="5"/>
                      <a:pt x="1587" y="5"/>
                    </a:cubicBezTo>
                    <a:lnTo>
                      <a:pt x="1587" y="5"/>
                    </a:lnTo>
                    <a:cubicBezTo>
                      <a:pt x="1585" y="5"/>
                      <a:pt x="1585" y="4"/>
                      <a:pt x="1585" y="3"/>
                    </a:cubicBezTo>
                    <a:cubicBezTo>
                      <a:pt x="1585" y="2"/>
                      <a:pt x="1585" y="1"/>
                      <a:pt x="1587" y="1"/>
                    </a:cubicBezTo>
                    <a:close/>
                    <a:moveTo>
                      <a:pt x="1595" y="1"/>
                    </a:moveTo>
                    <a:lnTo>
                      <a:pt x="1595" y="1"/>
                    </a:lnTo>
                    <a:cubicBezTo>
                      <a:pt x="1596" y="1"/>
                      <a:pt x="1597" y="2"/>
                      <a:pt x="1597" y="3"/>
                    </a:cubicBezTo>
                    <a:cubicBezTo>
                      <a:pt x="1597" y="4"/>
                      <a:pt x="1596" y="5"/>
                      <a:pt x="1595" y="5"/>
                    </a:cubicBezTo>
                    <a:lnTo>
                      <a:pt x="1595" y="5"/>
                    </a:lnTo>
                    <a:cubicBezTo>
                      <a:pt x="1593" y="5"/>
                      <a:pt x="1593" y="4"/>
                      <a:pt x="1593" y="3"/>
                    </a:cubicBezTo>
                    <a:cubicBezTo>
                      <a:pt x="1593" y="2"/>
                      <a:pt x="1593" y="1"/>
                      <a:pt x="1595" y="1"/>
                    </a:cubicBezTo>
                    <a:close/>
                    <a:moveTo>
                      <a:pt x="1603" y="1"/>
                    </a:moveTo>
                    <a:lnTo>
                      <a:pt x="1603" y="1"/>
                    </a:lnTo>
                    <a:cubicBezTo>
                      <a:pt x="1604" y="1"/>
                      <a:pt x="1605" y="2"/>
                      <a:pt x="1605" y="3"/>
                    </a:cubicBezTo>
                    <a:cubicBezTo>
                      <a:pt x="1605" y="4"/>
                      <a:pt x="1604" y="5"/>
                      <a:pt x="1603" y="5"/>
                    </a:cubicBezTo>
                    <a:lnTo>
                      <a:pt x="1603" y="5"/>
                    </a:lnTo>
                    <a:cubicBezTo>
                      <a:pt x="1601" y="5"/>
                      <a:pt x="1601" y="4"/>
                      <a:pt x="1601" y="3"/>
                    </a:cubicBezTo>
                    <a:cubicBezTo>
                      <a:pt x="1601" y="2"/>
                      <a:pt x="1601" y="1"/>
                      <a:pt x="1603" y="1"/>
                    </a:cubicBezTo>
                    <a:close/>
                    <a:moveTo>
                      <a:pt x="1611" y="1"/>
                    </a:moveTo>
                    <a:lnTo>
                      <a:pt x="1611" y="1"/>
                    </a:lnTo>
                    <a:cubicBezTo>
                      <a:pt x="1612" y="1"/>
                      <a:pt x="1613" y="2"/>
                      <a:pt x="1613" y="3"/>
                    </a:cubicBezTo>
                    <a:cubicBezTo>
                      <a:pt x="1613" y="4"/>
                      <a:pt x="1612" y="5"/>
                      <a:pt x="1611" y="5"/>
                    </a:cubicBezTo>
                    <a:lnTo>
                      <a:pt x="1611" y="5"/>
                    </a:lnTo>
                    <a:cubicBezTo>
                      <a:pt x="1609" y="5"/>
                      <a:pt x="1609" y="4"/>
                      <a:pt x="1609" y="3"/>
                    </a:cubicBezTo>
                    <a:cubicBezTo>
                      <a:pt x="1609" y="2"/>
                      <a:pt x="1609" y="1"/>
                      <a:pt x="1611" y="1"/>
                    </a:cubicBezTo>
                    <a:close/>
                    <a:moveTo>
                      <a:pt x="1619" y="1"/>
                    </a:moveTo>
                    <a:lnTo>
                      <a:pt x="1619" y="1"/>
                    </a:lnTo>
                    <a:cubicBezTo>
                      <a:pt x="1620" y="1"/>
                      <a:pt x="1621" y="2"/>
                      <a:pt x="1621" y="3"/>
                    </a:cubicBezTo>
                    <a:cubicBezTo>
                      <a:pt x="1621" y="4"/>
                      <a:pt x="1620" y="5"/>
                      <a:pt x="1619" y="5"/>
                    </a:cubicBezTo>
                    <a:lnTo>
                      <a:pt x="1619" y="5"/>
                    </a:lnTo>
                    <a:cubicBezTo>
                      <a:pt x="1617" y="5"/>
                      <a:pt x="1617" y="4"/>
                      <a:pt x="1617" y="3"/>
                    </a:cubicBezTo>
                    <a:cubicBezTo>
                      <a:pt x="1617" y="2"/>
                      <a:pt x="1617" y="1"/>
                      <a:pt x="1619" y="1"/>
                    </a:cubicBezTo>
                    <a:close/>
                    <a:moveTo>
                      <a:pt x="1627" y="1"/>
                    </a:moveTo>
                    <a:lnTo>
                      <a:pt x="1627" y="1"/>
                    </a:lnTo>
                    <a:cubicBezTo>
                      <a:pt x="1628" y="1"/>
                      <a:pt x="1629" y="2"/>
                      <a:pt x="1629" y="3"/>
                    </a:cubicBezTo>
                    <a:cubicBezTo>
                      <a:pt x="1629" y="4"/>
                      <a:pt x="1628" y="5"/>
                      <a:pt x="1627" y="5"/>
                    </a:cubicBezTo>
                    <a:lnTo>
                      <a:pt x="1627" y="5"/>
                    </a:lnTo>
                    <a:cubicBezTo>
                      <a:pt x="1625" y="5"/>
                      <a:pt x="1625" y="4"/>
                      <a:pt x="1625" y="3"/>
                    </a:cubicBezTo>
                    <a:cubicBezTo>
                      <a:pt x="1625" y="2"/>
                      <a:pt x="1625" y="1"/>
                      <a:pt x="1627" y="1"/>
                    </a:cubicBezTo>
                    <a:close/>
                    <a:moveTo>
                      <a:pt x="1635" y="1"/>
                    </a:moveTo>
                    <a:lnTo>
                      <a:pt x="1635" y="1"/>
                    </a:lnTo>
                    <a:cubicBezTo>
                      <a:pt x="1636" y="1"/>
                      <a:pt x="1637" y="2"/>
                      <a:pt x="1637" y="3"/>
                    </a:cubicBezTo>
                    <a:cubicBezTo>
                      <a:pt x="1637" y="4"/>
                      <a:pt x="1636" y="5"/>
                      <a:pt x="1635" y="5"/>
                    </a:cubicBezTo>
                    <a:lnTo>
                      <a:pt x="1635" y="5"/>
                    </a:lnTo>
                    <a:cubicBezTo>
                      <a:pt x="1633" y="5"/>
                      <a:pt x="1633" y="4"/>
                      <a:pt x="1633" y="3"/>
                    </a:cubicBezTo>
                    <a:cubicBezTo>
                      <a:pt x="1633" y="2"/>
                      <a:pt x="1633" y="1"/>
                      <a:pt x="1635" y="1"/>
                    </a:cubicBezTo>
                    <a:close/>
                    <a:moveTo>
                      <a:pt x="1643" y="1"/>
                    </a:moveTo>
                    <a:lnTo>
                      <a:pt x="1643" y="1"/>
                    </a:lnTo>
                    <a:cubicBezTo>
                      <a:pt x="1644" y="1"/>
                      <a:pt x="1645" y="2"/>
                      <a:pt x="1645" y="3"/>
                    </a:cubicBezTo>
                    <a:cubicBezTo>
                      <a:pt x="1645" y="4"/>
                      <a:pt x="1644" y="5"/>
                      <a:pt x="1643" y="5"/>
                    </a:cubicBezTo>
                    <a:lnTo>
                      <a:pt x="1643" y="5"/>
                    </a:lnTo>
                    <a:cubicBezTo>
                      <a:pt x="1641" y="5"/>
                      <a:pt x="1641" y="4"/>
                      <a:pt x="1641" y="3"/>
                    </a:cubicBezTo>
                    <a:cubicBezTo>
                      <a:pt x="1641" y="2"/>
                      <a:pt x="1641" y="1"/>
                      <a:pt x="1643" y="1"/>
                    </a:cubicBezTo>
                    <a:close/>
                    <a:moveTo>
                      <a:pt x="1651" y="1"/>
                    </a:moveTo>
                    <a:lnTo>
                      <a:pt x="1651" y="1"/>
                    </a:lnTo>
                    <a:cubicBezTo>
                      <a:pt x="1652" y="1"/>
                      <a:pt x="1653" y="2"/>
                      <a:pt x="1653" y="3"/>
                    </a:cubicBezTo>
                    <a:cubicBezTo>
                      <a:pt x="1653" y="4"/>
                      <a:pt x="1652" y="5"/>
                      <a:pt x="1651" y="5"/>
                    </a:cubicBezTo>
                    <a:lnTo>
                      <a:pt x="1651" y="5"/>
                    </a:lnTo>
                    <a:cubicBezTo>
                      <a:pt x="1650" y="5"/>
                      <a:pt x="1649" y="4"/>
                      <a:pt x="1649" y="3"/>
                    </a:cubicBezTo>
                    <a:cubicBezTo>
                      <a:pt x="1649" y="2"/>
                      <a:pt x="1650" y="1"/>
                      <a:pt x="1651" y="1"/>
                    </a:cubicBezTo>
                    <a:close/>
                    <a:moveTo>
                      <a:pt x="1659" y="1"/>
                    </a:moveTo>
                    <a:lnTo>
                      <a:pt x="1659" y="1"/>
                    </a:lnTo>
                    <a:cubicBezTo>
                      <a:pt x="1660" y="1"/>
                      <a:pt x="1661" y="2"/>
                      <a:pt x="1661" y="3"/>
                    </a:cubicBezTo>
                    <a:cubicBezTo>
                      <a:pt x="1661" y="4"/>
                      <a:pt x="1660" y="5"/>
                      <a:pt x="1659" y="5"/>
                    </a:cubicBezTo>
                    <a:lnTo>
                      <a:pt x="1659" y="5"/>
                    </a:lnTo>
                    <a:cubicBezTo>
                      <a:pt x="1658" y="5"/>
                      <a:pt x="1657" y="4"/>
                      <a:pt x="1657" y="3"/>
                    </a:cubicBezTo>
                    <a:cubicBezTo>
                      <a:pt x="1657" y="2"/>
                      <a:pt x="1658" y="1"/>
                      <a:pt x="1659" y="1"/>
                    </a:cubicBezTo>
                    <a:close/>
                    <a:moveTo>
                      <a:pt x="1667" y="1"/>
                    </a:moveTo>
                    <a:lnTo>
                      <a:pt x="1667" y="1"/>
                    </a:lnTo>
                    <a:cubicBezTo>
                      <a:pt x="1668" y="1"/>
                      <a:pt x="1669" y="2"/>
                      <a:pt x="1669" y="3"/>
                    </a:cubicBezTo>
                    <a:cubicBezTo>
                      <a:pt x="1669" y="4"/>
                      <a:pt x="1668" y="5"/>
                      <a:pt x="1667" y="5"/>
                    </a:cubicBezTo>
                    <a:lnTo>
                      <a:pt x="1667" y="5"/>
                    </a:lnTo>
                    <a:cubicBezTo>
                      <a:pt x="1666" y="5"/>
                      <a:pt x="1665" y="4"/>
                      <a:pt x="1665" y="3"/>
                    </a:cubicBezTo>
                    <a:cubicBezTo>
                      <a:pt x="1665" y="2"/>
                      <a:pt x="1666" y="1"/>
                      <a:pt x="1667" y="1"/>
                    </a:cubicBezTo>
                    <a:close/>
                    <a:moveTo>
                      <a:pt x="1675" y="1"/>
                    </a:moveTo>
                    <a:lnTo>
                      <a:pt x="1675" y="1"/>
                    </a:lnTo>
                    <a:cubicBezTo>
                      <a:pt x="1676" y="1"/>
                      <a:pt x="1677" y="2"/>
                      <a:pt x="1677" y="3"/>
                    </a:cubicBezTo>
                    <a:cubicBezTo>
                      <a:pt x="1677" y="4"/>
                      <a:pt x="1676" y="5"/>
                      <a:pt x="1675" y="5"/>
                    </a:cubicBezTo>
                    <a:lnTo>
                      <a:pt x="1675" y="5"/>
                    </a:lnTo>
                    <a:cubicBezTo>
                      <a:pt x="1674" y="5"/>
                      <a:pt x="1673" y="4"/>
                      <a:pt x="1673" y="3"/>
                    </a:cubicBezTo>
                    <a:cubicBezTo>
                      <a:pt x="1673" y="2"/>
                      <a:pt x="1674" y="1"/>
                      <a:pt x="1675" y="1"/>
                    </a:cubicBezTo>
                    <a:close/>
                    <a:moveTo>
                      <a:pt x="1683" y="1"/>
                    </a:moveTo>
                    <a:lnTo>
                      <a:pt x="1683" y="1"/>
                    </a:lnTo>
                    <a:cubicBezTo>
                      <a:pt x="1684" y="1"/>
                      <a:pt x="1685" y="2"/>
                      <a:pt x="1685" y="3"/>
                    </a:cubicBezTo>
                    <a:cubicBezTo>
                      <a:pt x="1685" y="4"/>
                      <a:pt x="1684" y="5"/>
                      <a:pt x="1683" y="5"/>
                    </a:cubicBezTo>
                    <a:lnTo>
                      <a:pt x="1683" y="5"/>
                    </a:lnTo>
                    <a:cubicBezTo>
                      <a:pt x="1682" y="5"/>
                      <a:pt x="1681" y="4"/>
                      <a:pt x="1681" y="3"/>
                    </a:cubicBezTo>
                    <a:cubicBezTo>
                      <a:pt x="1681" y="2"/>
                      <a:pt x="1682" y="1"/>
                      <a:pt x="1683" y="1"/>
                    </a:cubicBezTo>
                    <a:close/>
                    <a:moveTo>
                      <a:pt x="1691" y="1"/>
                    </a:moveTo>
                    <a:lnTo>
                      <a:pt x="1691" y="1"/>
                    </a:lnTo>
                    <a:cubicBezTo>
                      <a:pt x="1692" y="1"/>
                      <a:pt x="1693" y="2"/>
                      <a:pt x="1693" y="3"/>
                    </a:cubicBezTo>
                    <a:cubicBezTo>
                      <a:pt x="1693" y="4"/>
                      <a:pt x="1692" y="5"/>
                      <a:pt x="1691" y="5"/>
                    </a:cubicBezTo>
                    <a:lnTo>
                      <a:pt x="1691" y="5"/>
                    </a:lnTo>
                    <a:cubicBezTo>
                      <a:pt x="1690" y="5"/>
                      <a:pt x="1689" y="4"/>
                      <a:pt x="1689" y="3"/>
                    </a:cubicBezTo>
                    <a:cubicBezTo>
                      <a:pt x="1689" y="2"/>
                      <a:pt x="1690" y="1"/>
                      <a:pt x="1691" y="1"/>
                    </a:cubicBezTo>
                    <a:close/>
                    <a:moveTo>
                      <a:pt x="1699" y="1"/>
                    </a:moveTo>
                    <a:lnTo>
                      <a:pt x="1699" y="1"/>
                    </a:lnTo>
                    <a:cubicBezTo>
                      <a:pt x="1700" y="1"/>
                      <a:pt x="1701" y="2"/>
                      <a:pt x="1701" y="3"/>
                    </a:cubicBezTo>
                    <a:cubicBezTo>
                      <a:pt x="1701" y="4"/>
                      <a:pt x="1700" y="5"/>
                      <a:pt x="1699" y="5"/>
                    </a:cubicBezTo>
                    <a:lnTo>
                      <a:pt x="1699" y="5"/>
                    </a:lnTo>
                    <a:cubicBezTo>
                      <a:pt x="1698" y="5"/>
                      <a:pt x="1697" y="4"/>
                      <a:pt x="1697" y="3"/>
                    </a:cubicBezTo>
                    <a:cubicBezTo>
                      <a:pt x="1697" y="2"/>
                      <a:pt x="1698" y="1"/>
                      <a:pt x="1699" y="1"/>
                    </a:cubicBezTo>
                    <a:close/>
                    <a:moveTo>
                      <a:pt x="1707" y="1"/>
                    </a:moveTo>
                    <a:lnTo>
                      <a:pt x="1707" y="1"/>
                    </a:lnTo>
                    <a:cubicBezTo>
                      <a:pt x="1708" y="1"/>
                      <a:pt x="1709" y="2"/>
                      <a:pt x="1709" y="3"/>
                    </a:cubicBezTo>
                    <a:cubicBezTo>
                      <a:pt x="1709" y="4"/>
                      <a:pt x="1708" y="5"/>
                      <a:pt x="1707" y="5"/>
                    </a:cubicBezTo>
                    <a:lnTo>
                      <a:pt x="1707" y="5"/>
                    </a:lnTo>
                    <a:cubicBezTo>
                      <a:pt x="1706" y="5"/>
                      <a:pt x="1705" y="4"/>
                      <a:pt x="1705" y="3"/>
                    </a:cubicBezTo>
                    <a:cubicBezTo>
                      <a:pt x="1705" y="2"/>
                      <a:pt x="1706" y="1"/>
                      <a:pt x="1707" y="1"/>
                    </a:cubicBezTo>
                    <a:close/>
                    <a:moveTo>
                      <a:pt x="1715" y="1"/>
                    </a:moveTo>
                    <a:lnTo>
                      <a:pt x="1715" y="1"/>
                    </a:lnTo>
                    <a:cubicBezTo>
                      <a:pt x="1716" y="1"/>
                      <a:pt x="1717" y="2"/>
                      <a:pt x="1717" y="3"/>
                    </a:cubicBezTo>
                    <a:cubicBezTo>
                      <a:pt x="1717" y="4"/>
                      <a:pt x="1716" y="5"/>
                      <a:pt x="1715" y="5"/>
                    </a:cubicBezTo>
                    <a:lnTo>
                      <a:pt x="1715" y="5"/>
                    </a:lnTo>
                    <a:cubicBezTo>
                      <a:pt x="1714" y="5"/>
                      <a:pt x="1713" y="4"/>
                      <a:pt x="1713" y="3"/>
                    </a:cubicBezTo>
                    <a:cubicBezTo>
                      <a:pt x="1713" y="2"/>
                      <a:pt x="1714" y="1"/>
                      <a:pt x="1715" y="1"/>
                    </a:cubicBezTo>
                    <a:close/>
                    <a:moveTo>
                      <a:pt x="1723" y="1"/>
                    </a:moveTo>
                    <a:lnTo>
                      <a:pt x="1723" y="1"/>
                    </a:lnTo>
                    <a:cubicBezTo>
                      <a:pt x="1724" y="1"/>
                      <a:pt x="1725" y="2"/>
                      <a:pt x="1725" y="3"/>
                    </a:cubicBezTo>
                    <a:cubicBezTo>
                      <a:pt x="1725" y="4"/>
                      <a:pt x="1724" y="5"/>
                      <a:pt x="1723" y="5"/>
                    </a:cubicBezTo>
                    <a:lnTo>
                      <a:pt x="1723" y="5"/>
                    </a:lnTo>
                    <a:cubicBezTo>
                      <a:pt x="1722" y="5"/>
                      <a:pt x="1721" y="4"/>
                      <a:pt x="1721" y="3"/>
                    </a:cubicBezTo>
                    <a:cubicBezTo>
                      <a:pt x="1721" y="2"/>
                      <a:pt x="1722" y="1"/>
                      <a:pt x="1723" y="1"/>
                    </a:cubicBezTo>
                    <a:close/>
                    <a:moveTo>
                      <a:pt x="1731" y="1"/>
                    </a:moveTo>
                    <a:lnTo>
                      <a:pt x="1731" y="1"/>
                    </a:lnTo>
                    <a:cubicBezTo>
                      <a:pt x="1732" y="1"/>
                      <a:pt x="1733" y="2"/>
                      <a:pt x="1733" y="3"/>
                    </a:cubicBezTo>
                    <a:cubicBezTo>
                      <a:pt x="1733" y="4"/>
                      <a:pt x="1732" y="5"/>
                      <a:pt x="1731" y="5"/>
                    </a:cubicBezTo>
                    <a:lnTo>
                      <a:pt x="1731" y="5"/>
                    </a:lnTo>
                    <a:cubicBezTo>
                      <a:pt x="1730" y="5"/>
                      <a:pt x="1729" y="4"/>
                      <a:pt x="1729" y="3"/>
                    </a:cubicBezTo>
                    <a:cubicBezTo>
                      <a:pt x="1729" y="2"/>
                      <a:pt x="1730" y="1"/>
                      <a:pt x="1731" y="1"/>
                    </a:cubicBezTo>
                    <a:close/>
                    <a:moveTo>
                      <a:pt x="1739" y="1"/>
                    </a:moveTo>
                    <a:lnTo>
                      <a:pt x="1739" y="1"/>
                    </a:lnTo>
                    <a:cubicBezTo>
                      <a:pt x="1740" y="1"/>
                      <a:pt x="1741" y="2"/>
                      <a:pt x="1741" y="3"/>
                    </a:cubicBezTo>
                    <a:cubicBezTo>
                      <a:pt x="1741" y="4"/>
                      <a:pt x="1740" y="5"/>
                      <a:pt x="1739" y="5"/>
                    </a:cubicBezTo>
                    <a:lnTo>
                      <a:pt x="1739" y="5"/>
                    </a:lnTo>
                    <a:cubicBezTo>
                      <a:pt x="1738" y="5"/>
                      <a:pt x="1737" y="4"/>
                      <a:pt x="1737" y="3"/>
                    </a:cubicBezTo>
                    <a:cubicBezTo>
                      <a:pt x="1737" y="2"/>
                      <a:pt x="1738" y="1"/>
                      <a:pt x="1739" y="1"/>
                    </a:cubicBezTo>
                    <a:close/>
                    <a:moveTo>
                      <a:pt x="1747" y="1"/>
                    </a:moveTo>
                    <a:lnTo>
                      <a:pt x="1747" y="1"/>
                    </a:lnTo>
                    <a:cubicBezTo>
                      <a:pt x="1748" y="1"/>
                      <a:pt x="1749" y="2"/>
                      <a:pt x="1749" y="3"/>
                    </a:cubicBezTo>
                    <a:cubicBezTo>
                      <a:pt x="1749" y="4"/>
                      <a:pt x="1748" y="5"/>
                      <a:pt x="1747" y="5"/>
                    </a:cubicBezTo>
                    <a:lnTo>
                      <a:pt x="1747" y="5"/>
                    </a:lnTo>
                    <a:cubicBezTo>
                      <a:pt x="1746" y="5"/>
                      <a:pt x="1745" y="4"/>
                      <a:pt x="1745" y="3"/>
                    </a:cubicBezTo>
                    <a:cubicBezTo>
                      <a:pt x="1745" y="2"/>
                      <a:pt x="1746" y="1"/>
                      <a:pt x="1747" y="1"/>
                    </a:cubicBezTo>
                    <a:close/>
                    <a:moveTo>
                      <a:pt x="1755" y="1"/>
                    </a:moveTo>
                    <a:lnTo>
                      <a:pt x="1755" y="1"/>
                    </a:lnTo>
                    <a:cubicBezTo>
                      <a:pt x="1756" y="1"/>
                      <a:pt x="1757" y="2"/>
                      <a:pt x="1757" y="3"/>
                    </a:cubicBezTo>
                    <a:cubicBezTo>
                      <a:pt x="1757" y="4"/>
                      <a:pt x="1756" y="5"/>
                      <a:pt x="1755" y="5"/>
                    </a:cubicBezTo>
                    <a:lnTo>
                      <a:pt x="1755" y="5"/>
                    </a:lnTo>
                    <a:cubicBezTo>
                      <a:pt x="1754" y="5"/>
                      <a:pt x="1753" y="4"/>
                      <a:pt x="1753" y="3"/>
                    </a:cubicBezTo>
                    <a:cubicBezTo>
                      <a:pt x="1753" y="2"/>
                      <a:pt x="1754" y="1"/>
                      <a:pt x="1755" y="1"/>
                    </a:cubicBezTo>
                    <a:close/>
                    <a:moveTo>
                      <a:pt x="1763" y="1"/>
                    </a:moveTo>
                    <a:lnTo>
                      <a:pt x="1763" y="1"/>
                    </a:lnTo>
                    <a:cubicBezTo>
                      <a:pt x="1764" y="1"/>
                      <a:pt x="1765" y="2"/>
                      <a:pt x="1765" y="3"/>
                    </a:cubicBezTo>
                    <a:cubicBezTo>
                      <a:pt x="1765" y="4"/>
                      <a:pt x="1764" y="5"/>
                      <a:pt x="1763" y="5"/>
                    </a:cubicBezTo>
                    <a:lnTo>
                      <a:pt x="1763" y="5"/>
                    </a:lnTo>
                    <a:cubicBezTo>
                      <a:pt x="1762" y="5"/>
                      <a:pt x="1761" y="4"/>
                      <a:pt x="1761" y="3"/>
                    </a:cubicBezTo>
                    <a:cubicBezTo>
                      <a:pt x="1761" y="2"/>
                      <a:pt x="1762" y="1"/>
                      <a:pt x="1763" y="1"/>
                    </a:cubicBezTo>
                    <a:close/>
                    <a:moveTo>
                      <a:pt x="1771" y="1"/>
                    </a:moveTo>
                    <a:lnTo>
                      <a:pt x="1771" y="1"/>
                    </a:lnTo>
                    <a:cubicBezTo>
                      <a:pt x="1772" y="1"/>
                      <a:pt x="1773" y="2"/>
                      <a:pt x="1773" y="3"/>
                    </a:cubicBezTo>
                    <a:cubicBezTo>
                      <a:pt x="1773" y="4"/>
                      <a:pt x="1772" y="5"/>
                      <a:pt x="1771" y="5"/>
                    </a:cubicBezTo>
                    <a:lnTo>
                      <a:pt x="1771" y="5"/>
                    </a:lnTo>
                    <a:cubicBezTo>
                      <a:pt x="1770" y="5"/>
                      <a:pt x="1769" y="4"/>
                      <a:pt x="1769" y="3"/>
                    </a:cubicBezTo>
                    <a:cubicBezTo>
                      <a:pt x="1769" y="2"/>
                      <a:pt x="1770" y="1"/>
                      <a:pt x="1771" y="1"/>
                    </a:cubicBezTo>
                    <a:close/>
                    <a:moveTo>
                      <a:pt x="1779" y="1"/>
                    </a:moveTo>
                    <a:lnTo>
                      <a:pt x="1779" y="1"/>
                    </a:lnTo>
                    <a:cubicBezTo>
                      <a:pt x="1780" y="1"/>
                      <a:pt x="1781" y="2"/>
                      <a:pt x="1781" y="3"/>
                    </a:cubicBezTo>
                    <a:cubicBezTo>
                      <a:pt x="1781" y="4"/>
                      <a:pt x="1780" y="5"/>
                      <a:pt x="1779" y="5"/>
                    </a:cubicBezTo>
                    <a:lnTo>
                      <a:pt x="1779" y="5"/>
                    </a:lnTo>
                    <a:cubicBezTo>
                      <a:pt x="1778" y="5"/>
                      <a:pt x="1777" y="4"/>
                      <a:pt x="1777" y="3"/>
                    </a:cubicBezTo>
                    <a:cubicBezTo>
                      <a:pt x="1777" y="2"/>
                      <a:pt x="1778" y="1"/>
                      <a:pt x="1779" y="1"/>
                    </a:cubicBezTo>
                    <a:close/>
                    <a:moveTo>
                      <a:pt x="1787" y="1"/>
                    </a:moveTo>
                    <a:lnTo>
                      <a:pt x="1787" y="1"/>
                    </a:lnTo>
                    <a:cubicBezTo>
                      <a:pt x="1788" y="1"/>
                      <a:pt x="1789" y="2"/>
                      <a:pt x="1789" y="3"/>
                    </a:cubicBezTo>
                    <a:cubicBezTo>
                      <a:pt x="1789" y="4"/>
                      <a:pt x="1788" y="5"/>
                      <a:pt x="1787" y="5"/>
                    </a:cubicBezTo>
                    <a:lnTo>
                      <a:pt x="1787" y="5"/>
                    </a:lnTo>
                    <a:cubicBezTo>
                      <a:pt x="1786" y="5"/>
                      <a:pt x="1785" y="4"/>
                      <a:pt x="1785" y="3"/>
                    </a:cubicBezTo>
                    <a:cubicBezTo>
                      <a:pt x="1785" y="2"/>
                      <a:pt x="1786" y="1"/>
                      <a:pt x="1787" y="1"/>
                    </a:cubicBezTo>
                    <a:close/>
                    <a:moveTo>
                      <a:pt x="1795" y="1"/>
                    </a:moveTo>
                    <a:lnTo>
                      <a:pt x="1795" y="1"/>
                    </a:lnTo>
                    <a:cubicBezTo>
                      <a:pt x="1796" y="1"/>
                      <a:pt x="1797" y="2"/>
                      <a:pt x="1797" y="3"/>
                    </a:cubicBezTo>
                    <a:cubicBezTo>
                      <a:pt x="1797" y="4"/>
                      <a:pt x="1796" y="5"/>
                      <a:pt x="1795" y="5"/>
                    </a:cubicBezTo>
                    <a:lnTo>
                      <a:pt x="1795" y="5"/>
                    </a:lnTo>
                    <a:cubicBezTo>
                      <a:pt x="1794" y="5"/>
                      <a:pt x="1793" y="4"/>
                      <a:pt x="1793" y="3"/>
                    </a:cubicBezTo>
                    <a:cubicBezTo>
                      <a:pt x="1793" y="2"/>
                      <a:pt x="1794" y="1"/>
                      <a:pt x="1795" y="1"/>
                    </a:cubicBezTo>
                    <a:close/>
                    <a:moveTo>
                      <a:pt x="1803" y="1"/>
                    </a:moveTo>
                    <a:lnTo>
                      <a:pt x="1803" y="1"/>
                    </a:lnTo>
                    <a:cubicBezTo>
                      <a:pt x="1804" y="1"/>
                      <a:pt x="1805" y="2"/>
                      <a:pt x="1805" y="3"/>
                    </a:cubicBezTo>
                    <a:cubicBezTo>
                      <a:pt x="1805" y="4"/>
                      <a:pt x="1804" y="5"/>
                      <a:pt x="1803" y="5"/>
                    </a:cubicBezTo>
                    <a:lnTo>
                      <a:pt x="1803" y="5"/>
                    </a:lnTo>
                    <a:cubicBezTo>
                      <a:pt x="1802" y="5"/>
                      <a:pt x="1801" y="4"/>
                      <a:pt x="1801" y="3"/>
                    </a:cubicBezTo>
                    <a:cubicBezTo>
                      <a:pt x="1801" y="2"/>
                      <a:pt x="1802" y="1"/>
                      <a:pt x="1803" y="1"/>
                    </a:cubicBezTo>
                    <a:close/>
                    <a:moveTo>
                      <a:pt x="1811" y="1"/>
                    </a:moveTo>
                    <a:lnTo>
                      <a:pt x="1811" y="1"/>
                    </a:lnTo>
                    <a:cubicBezTo>
                      <a:pt x="1812" y="1"/>
                      <a:pt x="1813" y="2"/>
                      <a:pt x="1813" y="3"/>
                    </a:cubicBezTo>
                    <a:cubicBezTo>
                      <a:pt x="1813" y="4"/>
                      <a:pt x="1812" y="5"/>
                      <a:pt x="1811" y="5"/>
                    </a:cubicBezTo>
                    <a:lnTo>
                      <a:pt x="1811" y="5"/>
                    </a:lnTo>
                    <a:cubicBezTo>
                      <a:pt x="1810" y="5"/>
                      <a:pt x="1809" y="4"/>
                      <a:pt x="1809" y="3"/>
                    </a:cubicBezTo>
                    <a:cubicBezTo>
                      <a:pt x="1809" y="2"/>
                      <a:pt x="1810" y="1"/>
                      <a:pt x="1811" y="1"/>
                    </a:cubicBezTo>
                    <a:close/>
                    <a:moveTo>
                      <a:pt x="1819" y="1"/>
                    </a:moveTo>
                    <a:lnTo>
                      <a:pt x="1819" y="1"/>
                    </a:lnTo>
                    <a:cubicBezTo>
                      <a:pt x="1820" y="1"/>
                      <a:pt x="1821" y="2"/>
                      <a:pt x="1821" y="3"/>
                    </a:cubicBezTo>
                    <a:cubicBezTo>
                      <a:pt x="1821" y="4"/>
                      <a:pt x="1820" y="5"/>
                      <a:pt x="1819" y="5"/>
                    </a:cubicBezTo>
                    <a:lnTo>
                      <a:pt x="1819" y="5"/>
                    </a:lnTo>
                    <a:cubicBezTo>
                      <a:pt x="1818" y="5"/>
                      <a:pt x="1817" y="4"/>
                      <a:pt x="1817" y="3"/>
                    </a:cubicBezTo>
                    <a:cubicBezTo>
                      <a:pt x="1817" y="2"/>
                      <a:pt x="1818" y="1"/>
                      <a:pt x="1819" y="1"/>
                    </a:cubicBezTo>
                    <a:close/>
                    <a:moveTo>
                      <a:pt x="1827" y="1"/>
                    </a:moveTo>
                    <a:lnTo>
                      <a:pt x="1827" y="1"/>
                    </a:lnTo>
                    <a:cubicBezTo>
                      <a:pt x="1828" y="1"/>
                      <a:pt x="1829" y="2"/>
                      <a:pt x="1829" y="3"/>
                    </a:cubicBezTo>
                    <a:cubicBezTo>
                      <a:pt x="1829" y="4"/>
                      <a:pt x="1828" y="5"/>
                      <a:pt x="1827" y="5"/>
                    </a:cubicBezTo>
                    <a:lnTo>
                      <a:pt x="1827" y="5"/>
                    </a:lnTo>
                    <a:cubicBezTo>
                      <a:pt x="1826" y="5"/>
                      <a:pt x="1825" y="4"/>
                      <a:pt x="1825" y="3"/>
                    </a:cubicBezTo>
                    <a:cubicBezTo>
                      <a:pt x="1825" y="2"/>
                      <a:pt x="1826" y="1"/>
                      <a:pt x="1827" y="1"/>
                    </a:cubicBezTo>
                    <a:close/>
                    <a:moveTo>
                      <a:pt x="1835" y="1"/>
                    </a:moveTo>
                    <a:lnTo>
                      <a:pt x="1835" y="1"/>
                    </a:lnTo>
                    <a:cubicBezTo>
                      <a:pt x="1836" y="1"/>
                      <a:pt x="1837" y="2"/>
                      <a:pt x="1837" y="3"/>
                    </a:cubicBezTo>
                    <a:cubicBezTo>
                      <a:pt x="1837" y="4"/>
                      <a:pt x="1836" y="5"/>
                      <a:pt x="1835" y="5"/>
                    </a:cubicBezTo>
                    <a:lnTo>
                      <a:pt x="1835" y="5"/>
                    </a:lnTo>
                    <a:cubicBezTo>
                      <a:pt x="1834" y="5"/>
                      <a:pt x="1833" y="4"/>
                      <a:pt x="1833" y="3"/>
                    </a:cubicBezTo>
                    <a:cubicBezTo>
                      <a:pt x="1833" y="2"/>
                      <a:pt x="1834" y="1"/>
                      <a:pt x="1835" y="1"/>
                    </a:cubicBezTo>
                    <a:close/>
                    <a:moveTo>
                      <a:pt x="1843" y="1"/>
                    </a:moveTo>
                    <a:lnTo>
                      <a:pt x="1843" y="1"/>
                    </a:lnTo>
                    <a:cubicBezTo>
                      <a:pt x="1844" y="1"/>
                      <a:pt x="1845" y="2"/>
                      <a:pt x="1845" y="3"/>
                    </a:cubicBezTo>
                    <a:cubicBezTo>
                      <a:pt x="1845" y="4"/>
                      <a:pt x="1844" y="5"/>
                      <a:pt x="1843" y="5"/>
                    </a:cubicBezTo>
                    <a:lnTo>
                      <a:pt x="1843" y="5"/>
                    </a:lnTo>
                    <a:cubicBezTo>
                      <a:pt x="1842" y="5"/>
                      <a:pt x="1841" y="4"/>
                      <a:pt x="1841" y="3"/>
                    </a:cubicBezTo>
                    <a:cubicBezTo>
                      <a:pt x="1841" y="2"/>
                      <a:pt x="1842" y="1"/>
                      <a:pt x="1843" y="1"/>
                    </a:cubicBezTo>
                    <a:close/>
                    <a:moveTo>
                      <a:pt x="1851" y="1"/>
                    </a:moveTo>
                    <a:lnTo>
                      <a:pt x="1851" y="1"/>
                    </a:lnTo>
                    <a:cubicBezTo>
                      <a:pt x="1852" y="1"/>
                      <a:pt x="1853" y="2"/>
                      <a:pt x="1853" y="3"/>
                    </a:cubicBezTo>
                    <a:cubicBezTo>
                      <a:pt x="1853" y="4"/>
                      <a:pt x="1852" y="5"/>
                      <a:pt x="1851" y="5"/>
                    </a:cubicBezTo>
                    <a:lnTo>
                      <a:pt x="1851" y="5"/>
                    </a:lnTo>
                    <a:cubicBezTo>
                      <a:pt x="1850" y="5"/>
                      <a:pt x="1849" y="4"/>
                      <a:pt x="1849" y="3"/>
                    </a:cubicBezTo>
                    <a:cubicBezTo>
                      <a:pt x="1849" y="2"/>
                      <a:pt x="1850" y="1"/>
                      <a:pt x="1851" y="1"/>
                    </a:cubicBezTo>
                    <a:close/>
                    <a:moveTo>
                      <a:pt x="1859" y="1"/>
                    </a:moveTo>
                    <a:lnTo>
                      <a:pt x="1859" y="1"/>
                    </a:lnTo>
                    <a:cubicBezTo>
                      <a:pt x="1860" y="1"/>
                      <a:pt x="1861" y="2"/>
                      <a:pt x="1861" y="3"/>
                    </a:cubicBezTo>
                    <a:cubicBezTo>
                      <a:pt x="1861" y="4"/>
                      <a:pt x="1860" y="5"/>
                      <a:pt x="1859" y="5"/>
                    </a:cubicBezTo>
                    <a:lnTo>
                      <a:pt x="1859" y="5"/>
                    </a:lnTo>
                    <a:cubicBezTo>
                      <a:pt x="1858" y="5"/>
                      <a:pt x="1857" y="4"/>
                      <a:pt x="1857" y="3"/>
                    </a:cubicBezTo>
                    <a:cubicBezTo>
                      <a:pt x="1857" y="2"/>
                      <a:pt x="1858" y="1"/>
                      <a:pt x="1859" y="1"/>
                    </a:cubicBezTo>
                    <a:close/>
                    <a:moveTo>
                      <a:pt x="1867" y="1"/>
                    </a:moveTo>
                    <a:lnTo>
                      <a:pt x="1867" y="1"/>
                    </a:lnTo>
                    <a:cubicBezTo>
                      <a:pt x="1868" y="1"/>
                      <a:pt x="1869" y="2"/>
                      <a:pt x="1869" y="3"/>
                    </a:cubicBezTo>
                    <a:cubicBezTo>
                      <a:pt x="1869" y="4"/>
                      <a:pt x="1868" y="5"/>
                      <a:pt x="1867" y="5"/>
                    </a:cubicBezTo>
                    <a:lnTo>
                      <a:pt x="1867" y="5"/>
                    </a:lnTo>
                    <a:cubicBezTo>
                      <a:pt x="1866" y="5"/>
                      <a:pt x="1865" y="4"/>
                      <a:pt x="1865" y="3"/>
                    </a:cubicBezTo>
                    <a:cubicBezTo>
                      <a:pt x="1865" y="2"/>
                      <a:pt x="1866" y="1"/>
                      <a:pt x="1867" y="1"/>
                    </a:cubicBezTo>
                    <a:close/>
                    <a:moveTo>
                      <a:pt x="1875" y="1"/>
                    </a:moveTo>
                    <a:lnTo>
                      <a:pt x="1875" y="1"/>
                    </a:lnTo>
                    <a:cubicBezTo>
                      <a:pt x="1876" y="1"/>
                      <a:pt x="1877" y="2"/>
                      <a:pt x="1877" y="3"/>
                    </a:cubicBezTo>
                    <a:cubicBezTo>
                      <a:pt x="1877" y="4"/>
                      <a:pt x="1876" y="5"/>
                      <a:pt x="1875" y="5"/>
                    </a:cubicBezTo>
                    <a:lnTo>
                      <a:pt x="1875" y="5"/>
                    </a:lnTo>
                    <a:cubicBezTo>
                      <a:pt x="1874" y="5"/>
                      <a:pt x="1873" y="4"/>
                      <a:pt x="1873" y="3"/>
                    </a:cubicBezTo>
                    <a:cubicBezTo>
                      <a:pt x="1873" y="2"/>
                      <a:pt x="1874" y="1"/>
                      <a:pt x="1875" y="1"/>
                    </a:cubicBezTo>
                    <a:close/>
                    <a:moveTo>
                      <a:pt x="1883" y="1"/>
                    </a:moveTo>
                    <a:lnTo>
                      <a:pt x="1883" y="1"/>
                    </a:lnTo>
                    <a:cubicBezTo>
                      <a:pt x="1884" y="1"/>
                      <a:pt x="1885" y="2"/>
                      <a:pt x="1885" y="3"/>
                    </a:cubicBezTo>
                    <a:cubicBezTo>
                      <a:pt x="1885" y="4"/>
                      <a:pt x="1884" y="5"/>
                      <a:pt x="1883" y="5"/>
                    </a:cubicBezTo>
                    <a:lnTo>
                      <a:pt x="1883" y="5"/>
                    </a:lnTo>
                    <a:cubicBezTo>
                      <a:pt x="1882" y="5"/>
                      <a:pt x="1881" y="4"/>
                      <a:pt x="1881" y="3"/>
                    </a:cubicBezTo>
                    <a:cubicBezTo>
                      <a:pt x="1881" y="2"/>
                      <a:pt x="1882" y="1"/>
                      <a:pt x="1883" y="1"/>
                    </a:cubicBezTo>
                    <a:close/>
                    <a:moveTo>
                      <a:pt x="1891" y="1"/>
                    </a:moveTo>
                    <a:lnTo>
                      <a:pt x="1891" y="1"/>
                    </a:lnTo>
                    <a:cubicBezTo>
                      <a:pt x="1892" y="1"/>
                      <a:pt x="1893" y="2"/>
                      <a:pt x="1893" y="3"/>
                    </a:cubicBezTo>
                    <a:cubicBezTo>
                      <a:pt x="1893" y="4"/>
                      <a:pt x="1892" y="5"/>
                      <a:pt x="1891" y="5"/>
                    </a:cubicBezTo>
                    <a:lnTo>
                      <a:pt x="1891" y="5"/>
                    </a:lnTo>
                    <a:cubicBezTo>
                      <a:pt x="1890" y="5"/>
                      <a:pt x="1889" y="4"/>
                      <a:pt x="1889" y="3"/>
                    </a:cubicBezTo>
                    <a:cubicBezTo>
                      <a:pt x="1889" y="2"/>
                      <a:pt x="1890" y="1"/>
                      <a:pt x="1891" y="1"/>
                    </a:cubicBezTo>
                    <a:close/>
                    <a:moveTo>
                      <a:pt x="1899" y="1"/>
                    </a:moveTo>
                    <a:lnTo>
                      <a:pt x="1899" y="1"/>
                    </a:lnTo>
                    <a:cubicBezTo>
                      <a:pt x="1900" y="1"/>
                      <a:pt x="1901" y="2"/>
                      <a:pt x="1901" y="3"/>
                    </a:cubicBezTo>
                    <a:cubicBezTo>
                      <a:pt x="1901" y="4"/>
                      <a:pt x="1900" y="5"/>
                      <a:pt x="1899" y="5"/>
                    </a:cubicBezTo>
                    <a:lnTo>
                      <a:pt x="1899" y="5"/>
                    </a:lnTo>
                    <a:cubicBezTo>
                      <a:pt x="1898" y="5"/>
                      <a:pt x="1897" y="4"/>
                      <a:pt x="1897" y="3"/>
                    </a:cubicBezTo>
                    <a:cubicBezTo>
                      <a:pt x="1897" y="2"/>
                      <a:pt x="1898" y="1"/>
                      <a:pt x="1899" y="1"/>
                    </a:cubicBezTo>
                    <a:close/>
                    <a:moveTo>
                      <a:pt x="1907" y="1"/>
                    </a:moveTo>
                    <a:lnTo>
                      <a:pt x="1907" y="1"/>
                    </a:lnTo>
                    <a:cubicBezTo>
                      <a:pt x="1908" y="1"/>
                      <a:pt x="1909" y="2"/>
                      <a:pt x="1909" y="3"/>
                    </a:cubicBezTo>
                    <a:cubicBezTo>
                      <a:pt x="1909" y="4"/>
                      <a:pt x="1908" y="5"/>
                      <a:pt x="1907" y="5"/>
                    </a:cubicBezTo>
                    <a:lnTo>
                      <a:pt x="1907" y="5"/>
                    </a:lnTo>
                    <a:cubicBezTo>
                      <a:pt x="1906" y="5"/>
                      <a:pt x="1905" y="4"/>
                      <a:pt x="1905" y="3"/>
                    </a:cubicBezTo>
                    <a:cubicBezTo>
                      <a:pt x="1905" y="2"/>
                      <a:pt x="1906" y="1"/>
                      <a:pt x="1907" y="1"/>
                    </a:cubicBezTo>
                    <a:close/>
                    <a:moveTo>
                      <a:pt x="1915" y="1"/>
                    </a:moveTo>
                    <a:lnTo>
                      <a:pt x="1915" y="1"/>
                    </a:lnTo>
                    <a:cubicBezTo>
                      <a:pt x="1916" y="1"/>
                      <a:pt x="1917" y="2"/>
                      <a:pt x="1917" y="3"/>
                    </a:cubicBezTo>
                    <a:cubicBezTo>
                      <a:pt x="1917" y="4"/>
                      <a:pt x="1916" y="5"/>
                      <a:pt x="1915" y="5"/>
                    </a:cubicBezTo>
                    <a:lnTo>
                      <a:pt x="1915" y="5"/>
                    </a:lnTo>
                    <a:cubicBezTo>
                      <a:pt x="1914" y="5"/>
                      <a:pt x="1913" y="4"/>
                      <a:pt x="1913" y="3"/>
                    </a:cubicBezTo>
                    <a:cubicBezTo>
                      <a:pt x="1913" y="2"/>
                      <a:pt x="1914" y="1"/>
                      <a:pt x="1915" y="1"/>
                    </a:cubicBezTo>
                    <a:close/>
                    <a:moveTo>
                      <a:pt x="1923" y="1"/>
                    </a:moveTo>
                    <a:lnTo>
                      <a:pt x="1923" y="1"/>
                    </a:lnTo>
                    <a:cubicBezTo>
                      <a:pt x="1924" y="1"/>
                      <a:pt x="1925" y="2"/>
                      <a:pt x="1925" y="3"/>
                    </a:cubicBezTo>
                    <a:cubicBezTo>
                      <a:pt x="1925" y="4"/>
                      <a:pt x="1924" y="5"/>
                      <a:pt x="1923" y="5"/>
                    </a:cubicBezTo>
                    <a:lnTo>
                      <a:pt x="1923" y="5"/>
                    </a:lnTo>
                    <a:cubicBezTo>
                      <a:pt x="1922" y="5"/>
                      <a:pt x="1921" y="4"/>
                      <a:pt x="1921" y="3"/>
                    </a:cubicBezTo>
                    <a:cubicBezTo>
                      <a:pt x="1921" y="2"/>
                      <a:pt x="1922" y="1"/>
                      <a:pt x="1923" y="1"/>
                    </a:cubicBezTo>
                    <a:close/>
                    <a:moveTo>
                      <a:pt x="1931" y="1"/>
                    </a:moveTo>
                    <a:lnTo>
                      <a:pt x="1931" y="1"/>
                    </a:lnTo>
                    <a:cubicBezTo>
                      <a:pt x="1932" y="1"/>
                      <a:pt x="1933" y="2"/>
                      <a:pt x="1933" y="3"/>
                    </a:cubicBezTo>
                    <a:cubicBezTo>
                      <a:pt x="1933" y="4"/>
                      <a:pt x="1932" y="5"/>
                      <a:pt x="1931" y="5"/>
                    </a:cubicBezTo>
                    <a:lnTo>
                      <a:pt x="1931" y="5"/>
                    </a:lnTo>
                    <a:cubicBezTo>
                      <a:pt x="1930" y="5"/>
                      <a:pt x="1929" y="4"/>
                      <a:pt x="1929" y="3"/>
                    </a:cubicBezTo>
                    <a:cubicBezTo>
                      <a:pt x="1929" y="2"/>
                      <a:pt x="1930" y="1"/>
                      <a:pt x="1931" y="1"/>
                    </a:cubicBezTo>
                    <a:close/>
                    <a:moveTo>
                      <a:pt x="1939" y="1"/>
                    </a:moveTo>
                    <a:lnTo>
                      <a:pt x="1939" y="1"/>
                    </a:lnTo>
                    <a:cubicBezTo>
                      <a:pt x="1940" y="1"/>
                      <a:pt x="1941" y="2"/>
                      <a:pt x="1941" y="3"/>
                    </a:cubicBezTo>
                    <a:cubicBezTo>
                      <a:pt x="1941" y="4"/>
                      <a:pt x="1940" y="5"/>
                      <a:pt x="1939" y="5"/>
                    </a:cubicBezTo>
                    <a:lnTo>
                      <a:pt x="1939" y="5"/>
                    </a:lnTo>
                    <a:cubicBezTo>
                      <a:pt x="1938" y="5"/>
                      <a:pt x="1937" y="4"/>
                      <a:pt x="1937" y="3"/>
                    </a:cubicBezTo>
                    <a:cubicBezTo>
                      <a:pt x="1937" y="2"/>
                      <a:pt x="1938" y="1"/>
                      <a:pt x="1939" y="1"/>
                    </a:cubicBezTo>
                    <a:close/>
                    <a:moveTo>
                      <a:pt x="1947" y="1"/>
                    </a:moveTo>
                    <a:lnTo>
                      <a:pt x="1947" y="1"/>
                    </a:lnTo>
                    <a:cubicBezTo>
                      <a:pt x="1948" y="1"/>
                      <a:pt x="1949" y="2"/>
                      <a:pt x="1949" y="3"/>
                    </a:cubicBezTo>
                    <a:cubicBezTo>
                      <a:pt x="1949" y="4"/>
                      <a:pt x="1948" y="5"/>
                      <a:pt x="1947" y="5"/>
                    </a:cubicBezTo>
                    <a:lnTo>
                      <a:pt x="1947" y="5"/>
                    </a:lnTo>
                    <a:cubicBezTo>
                      <a:pt x="1946" y="5"/>
                      <a:pt x="1945" y="4"/>
                      <a:pt x="1945" y="3"/>
                    </a:cubicBezTo>
                    <a:cubicBezTo>
                      <a:pt x="1945" y="2"/>
                      <a:pt x="1946" y="1"/>
                      <a:pt x="1947" y="1"/>
                    </a:cubicBezTo>
                    <a:close/>
                    <a:moveTo>
                      <a:pt x="1955" y="1"/>
                    </a:moveTo>
                    <a:lnTo>
                      <a:pt x="1955" y="1"/>
                    </a:lnTo>
                    <a:cubicBezTo>
                      <a:pt x="1956" y="1"/>
                      <a:pt x="1957" y="2"/>
                      <a:pt x="1957" y="3"/>
                    </a:cubicBezTo>
                    <a:cubicBezTo>
                      <a:pt x="1957" y="4"/>
                      <a:pt x="1956" y="5"/>
                      <a:pt x="1955" y="5"/>
                    </a:cubicBezTo>
                    <a:lnTo>
                      <a:pt x="1955" y="5"/>
                    </a:lnTo>
                    <a:cubicBezTo>
                      <a:pt x="1954" y="5"/>
                      <a:pt x="1953" y="4"/>
                      <a:pt x="1953" y="3"/>
                    </a:cubicBezTo>
                    <a:cubicBezTo>
                      <a:pt x="1953" y="2"/>
                      <a:pt x="1954" y="1"/>
                      <a:pt x="1955" y="1"/>
                    </a:cubicBezTo>
                    <a:close/>
                    <a:moveTo>
                      <a:pt x="1963" y="1"/>
                    </a:moveTo>
                    <a:lnTo>
                      <a:pt x="1963" y="1"/>
                    </a:lnTo>
                    <a:cubicBezTo>
                      <a:pt x="1964" y="1"/>
                      <a:pt x="1965" y="2"/>
                      <a:pt x="1965" y="3"/>
                    </a:cubicBezTo>
                    <a:cubicBezTo>
                      <a:pt x="1965" y="4"/>
                      <a:pt x="1964" y="5"/>
                      <a:pt x="1963" y="5"/>
                    </a:cubicBezTo>
                    <a:lnTo>
                      <a:pt x="1963" y="5"/>
                    </a:lnTo>
                    <a:cubicBezTo>
                      <a:pt x="1962" y="5"/>
                      <a:pt x="1961" y="4"/>
                      <a:pt x="1961" y="3"/>
                    </a:cubicBezTo>
                    <a:cubicBezTo>
                      <a:pt x="1961" y="2"/>
                      <a:pt x="1962" y="1"/>
                      <a:pt x="1963" y="1"/>
                    </a:cubicBezTo>
                    <a:close/>
                    <a:moveTo>
                      <a:pt x="1971" y="1"/>
                    </a:moveTo>
                    <a:lnTo>
                      <a:pt x="1971" y="1"/>
                    </a:lnTo>
                    <a:cubicBezTo>
                      <a:pt x="1972" y="1"/>
                      <a:pt x="1973" y="2"/>
                      <a:pt x="1973" y="3"/>
                    </a:cubicBezTo>
                    <a:cubicBezTo>
                      <a:pt x="1973" y="4"/>
                      <a:pt x="1972" y="5"/>
                      <a:pt x="1971" y="5"/>
                    </a:cubicBezTo>
                    <a:lnTo>
                      <a:pt x="1971" y="5"/>
                    </a:lnTo>
                    <a:cubicBezTo>
                      <a:pt x="1970" y="5"/>
                      <a:pt x="1969" y="4"/>
                      <a:pt x="1969" y="3"/>
                    </a:cubicBezTo>
                    <a:cubicBezTo>
                      <a:pt x="1969" y="2"/>
                      <a:pt x="1970" y="1"/>
                      <a:pt x="1971" y="1"/>
                    </a:cubicBezTo>
                    <a:close/>
                    <a:moveTo>
                      <a:pt x="1979" y="1"/>
                    </a:moveTo>
                    <a:lnTo>
                      <a:pt x="1979" y="1"/>
                    </a:lnTo>
                    <a:cubicBezTo>
                      <a:pt x="1980" y="1"/>
                      <a:pt x="1981" y="2"/>
                      <a:pt x="1981" y="3"/>
                    </a:cubicBezTo>
                    <a:cubicBezTo>
                      <a:pt x="1981" y="4"/>
                      <a:pt x="1980" y="5"/>
                      <a:pt x="1979" y="5"/>
                    </a:cubicBezTo>
                    <a:lnTo>
                      <a:pt x="1979" y="5"/>
                    </a:lnTo>
                    <a:cubicBezTo>
                      <a:pt x="1978" y="5"/>
                      <a:pt x="1977" y="4"/>
                      <a:pt x="1977" y="3"/>
                    </a:cubicBezTo>
                    <a:cubicBezTo>
                      <a:pt x="1977" y="2"/>
                      <a:pt x="1978" y="1"/>
                      <a:pt x="1979" y="1"/>
                    </a:cubicBezTo>
                    <a:close/>
                    <a:moveTo>
                      <a:pt x="1987" y="1"/>
                    </a:moveTo>
                    <a:lnTo>
                      <a:pt x="1987" y="1"/>
                    </a:lnTo>
                    <a:cubicBezTo>
                      <a:pt x="1988" y="1"/>
                      <a:pt x="1989" y="2"/>
                      <a:pt x="1989" y="3"/>
                    </a:cubicBezTo>
                    <a:cubicBezTo>
                      <a:pt x="1989" y="4"/>
                      <a:pt x="1988" y="5"/>
                      <a:pt x="1987" y="5"/>
                    </a:cubicBezTo>
                    <a:lnTo>
                      <a:pt x="1987" y="5"/>
                    </a:lnTo>
                    <a:cubicBezTo>
                      <a:pt x="1986" y="5"/>
                      <a:pt x="1985" y="4"/>
                      <a:pt x="1985" y="3"/>
                    </a:cubicBezTo>
                    <a:cubicBezTo>
                      <a:pt x="1985" y="2"/>
                      <a:pt x="1986" y="1"/>
                      <a:pt x="1987" y="1"/>
                    </a:cubicBezTo>
                    <a:close/>
                    <a:moveTo>
                      <a:pt x="1995" y="1"/>
                    </a:moveTo>
                    <a:lnTo>
                      <a:pt x="1995" y="1"/>
                    </a:lnTo>
                    <a:cubicBezTo>
                      <a:pt x="1996" y="1"/>
                      <a:pt x="1997" y="2"/>
                      <a:pt x="1997" y="3"/>
                    </a:cubicBezTo>
                    <a:cubicBezTo>
                      <a:pt x="1997" y="4"/>
                      <a:pt x="1996" y="5"/>
                      <a:pt x="1995" y="5"/>
                    </a:cubicBezTo>
                    <a:lnTo>
                      <a:pt x="1995" y="5"/>
                    </a:lnTo>
                    <a:cubicBezTo>
                      <a:pt x="1994" y="5"/>
                      <a:pt x="1993" y="4"/>
                      <a:pt x="1993" y="3"/>
                    </a:cubicBezTo>
                    <a:cubicBezTo>
                      <a:pt x="1993" y="2"/>
                      <a:pt x="1994" y="1"/>
                      <a:pt x="1995" y="1"/>
                    </a:cubicBezTo>
                    <a:close/>
                    <a:moveTo>
                      <a:pt x="2003" y="1"/>
                    </a:moveTo>
                    <a:lnTo>
                      <a:pt x="2003" y="1"/>
                    </a:lnTo>
                    <a:cubicBezTo>
                      <a:pt x="2004" y="1"/>
                      <a:pt x="2005" y="2"/>
                      <a:pt x="2005" y="3"/>
                    </a:cubicBezTo>
                    <a:cubicBezTo>
                      <a:pt x="2005" y="4"/>
                      <a:pt x="2004" y="5"/>
                      <a:pt x="2003" y="5"/>
                    </a:cubicBezTo>
                    <a:lnTo>
                      <a:pt x="2003" y="5"/>
                    </a:lnTo>
                    <a:cubicBezTo>
                      <a:pt x="2002" y="5"/>
                      <a:pt x="2001" y="4"/>
                      <a:pt x="2001" y="3"/>
                    </a:cubicBezTo>
                    <a:cubicBezTo>
                      <a:pt x="2001" y="2"/>
                      <a:pt x="2002" y="1"/>
                      <a:pt x="2003" y="1"/>
                    </a:cubicBezTo>
                    <a:close/>
                    <a:moveTo>
                      <a:pt x="2011" y="1"/>
                    </a:moveTo>
                    <a:lnTo>
                      <a:pt x="2011" y="1"/>
                    </a:lnTo>
                    <a:cubicBezTo>
                      <a:pt x="2012" y="1"/>
                      <a:pt x="2013" y="2"/>
                      <a:pt x="2013" y="3"/>
                    </a:cubicBezTo>
                    <a:cubicBezTo>
                      <a:pt x="2013" y="4"/>
                      <a:pt x="2012" y="5"/>
                      <a:pt x="2011" y="5"/>
                    </a:cubicBezTo>
                    <a:lnTo>
                      <a:pt x="2011" y="5"/>
                    </a:lnTo>
                    <a:cubicBezTo>
                      <a:pt x="2010" y="5"/>
                      <a:pt x="2009" y="4"/>
                      <a:pt x="2009" y="3"/>
                    </a:cubicBezTo>
                    <a:cubicBezTo>
                      <a:pt x="2009" y="2"/>
                      <a:pt x="2010" y="1"/>
                      <a:pt x="2011" y="1"/>
                    </a:cubicBezTo>
                    <a:close/>
                    <a:moveTo>
                      <a:pt x="2019" y="1"/>
                    </a:moveTo>
                    <a:lnTo>
                      <a:pt x="2019" y="1"/>
                    </a:lnTo>
                    <a:cubicBezTo>
                      <a:pt x="2020" y="1"/>
                      <a:pt x="2021" y="2"/>
                      <a:pt x="2021" y="3"/>
                    </a:cubicBezTo>
                    <a:cubicBezTo>
                      <a:pt x="2021" y="4"/>
                      <a:pt x="2020" y="5"/>
                      <a:pt x="2019" y="5"/>
                    </a:cubicBezTo>
                    <a:lnTo>
                      <a:pt x="2019" y="5"/>
                    </a:lnTo>
                    <a:cubicBezTo>
                      <a:pt x="2018" y="5"/>
                      <a:pt x="2017" y="4"/>
                      <a:pt x="2017" y="3"/>
                    </a:cubicBezTo>
                    <a:cubicBezTo>
                      <a:pt x="2017" y="2"/>
                      <a:pt x="2018" y="1"/>
                      <a:pt x="2019" y="1"/>
                    </a:cubicBezTo>
                    <a:close/>
                    <a:moveTo>
                      <a:pt x="2027" y="1"/>
                    </a:moveTo>
                    <a:lnTo>
                      <a:pt x="2027" y="1"/>
                    </a:lnTo>
                    <a:cubicBezTo>
                      <a:pt x="2028" y="1"/>
                      <a:pt x="2029" y="2"/>
                      <a:pt x="2029" y="3"/>
                    </a:cubicBezTo>
                    <a:cubicBezTo>
                      <a:pt x="2029" y="4"/>
                      <a:pt x="2028" y="5"/>
                      <a:pt x="2027" y="5"/>
                    </a:cubicBezTo>
                    <a:lnTo>
                      <a:pt x="2027" y="5"/>
                    </a:lnTo>
                    <a:cubicBezTo>
                      <a:pt x="2026" y="5"/>
                      <a:pt x="2025" y="4"/>
                      <a:pt x="2025" y="3"/>
                    </a:cubicBezTo>
                    <a:cubicBezTo>
                      <a:pt x="2025" y="2"/>
                      <a:pt x="2026" y="1"/>
                      <a:pt x="2027" y="1"/>
                    </a:cubicBezTo>
                    <a:close/>
                    <a:moveTo>
                      <a:pt x="2035" y="1"/>
                    </a:moveTo>
                    <a:lnTo>
                      <a:pt x="2035" y="1"/>
                    </a:lnTo>
                    <a:cubicBezTo>
                      <a:pt x="2036" y="1"/>
                      <a:pt x="2037" y="2"/>
                      <a:pt x="2037" y="3"/>
                    </a:cubicBezTo>
                    <a:cubicBezTo>
                      <a:pt x="2037" y="4"/>
                      <a:pt x="2036" y="5"/>
                      <a:pt x="2035" y="5"/>
                    </a:cubicBezTo>
                    <a:lnTo>
                      <a:pt x="2035" y="5"/>
                    </a:lnTo>
                    <a:cubicBezTo>
                      <a:pt x="2034" y="5"/>
                      <a:pt x="2033" y="4"/>
                      <a:pt x="2033" y="3"/>
                    </a:cubicBezTo>
                    <a:cubicBezTo>
                      <a:pt x="2033" y="2"/>
                      <a:pt x="2034" y="1"/>
                      <a:pt x="2035" y="1"/>
                    </a:cubicBezTo>
                    <a:close/>
                    <a:moveTo>
                      <a:pt x="2043" y="1"/>
                    </a:moveTo>
                    <a:lnTo>
                      <a:pt x="2043" y="1"/>
                    </a:lnTo>
                    <a:cubicBezTo>
                      <a:pt x="2044" y="1"/>
                      <a:pt x="2045" y="2"/>
                      <a:pt x="2045" y="3"/>
                    </a:cubicBezTo>
                    <a:cubicBezTo>
                      <a:pt x="2045" y="4"/>
                      <a:pt x="2044" y="5"/>
                      <a:pt x="2043" y="5"/>
                    </a:cubicBezTo>
                    <a:lnTo>
                      <a:pt x="2043" y="5"/>
                    </a:lnTo>
                    <a:cubicBezTo>
                      <a:pt x="2042" y="5"/>
                      <a:pt x="2041" y="4"/>
                      <a:pt x="2041" y="3"/>
                    </a:cubicBezTo>
                    <a:cubicBezTo>
                      <a:pt x="2041" y="2"/>
                      <a:pt x="2042" y="1"/>
                      <a:pt x="2043" y="1"/>
                    </a:cubicBezTo>
                    <a:close/>
                    <a:moveTo>
                      <a:pt x="2051" y="1"/>
                    </a:moveTo>
                    <a:lnTo>
                      <a:pt x="2051" y="1"/>
                    </a:lnTo>
                    <a:cubicBezTo>
                      <a:pt x="2052" y="1"/>
                      <a:pt x="2053" y="2"/>
                      <a:pt x="2053" y="3"/>
                    </a:cubicBezTo>
                    <a:cubicBezTo>
                      <a:pt x="2053" y="4"/>
                      <a:pt x="2052" y="5"/>
                      <a:pt x="2051" y="5"/>
                    </a:cubicBezTo>
                    <a:lnTo>
                      <a:pt x="2051" y="5"/>
                    </a:lnTo>
                    <a:cubicBezTo>
                      <a:pt x="2050" y="5"/>
                      <a:pt x="2049" y="4"/>
                      <a:pt x="2049" y="3"/>
                    </a:cubicBezTo>
                    <a:cubicBezTo>
                      <a:pt x="2049" y="2"/>
                      <a:pt x="2050" y="1"/>
                      <a:pt x="2051" y="1"/>
                    </a:cubicBezTo>
                    <a:close/>
                    <a:moveTo>
                      <a:pt x="2059" y="1"/>
                    </a:moveTo>
                    <a:lnTo>
                      <a:pt x="2059" y="1"/>
                    </a:lnTo>
                    <a:cubicBezTo>
                      <a:pt x="2060" y="1"/>
                      <a:pt x="2061" y="2"/>
                      <a:pt x="2061" y="3"/>
                    </a:cubicBezTo>
                    <a:cubicBezTo>
                      <a:pt x="2061" y="4"/>
                      <a:pt x="2060" y="5"/>
                      <a:pt x="2059" y="5"/>
                    </a:cubicBezTo>
                    <a:lnTo>
                      <a:pt x="2059" y="5"/>
                    </a:lnTo>
                    <a:cubicBezTo>
                      <a:pt x="2058" y="5"/>
                      <a:pt x="2057" y="4"/>
                      <a:pt x="2057" y="3"/>
                    </a:cubicBezTo>
                    <a:cubicBezTo>
                      <a:pt x="2057" y="2"/>
                      <a:pt x="2058" y="1"/>
                      <a:pt x="2059" y="1"/>
                    </a:cubicBezTo>
                    <a:close/>
                    <a:moveTo>
                      <a:pt x="2067" y="1"/>
                    </a:moveTo>
                    <a:lnTo>
                      <a:pt x="2067" y="1"/>
                    </a:lnTo>
                    <a:cubicBezTo>
                      <a:pt x="2068" y="1"/>
                      <a:pt x="2069" y="2"/>
                      <a:pt x="2069" y="3"/>
                    </a:cubicBezTo>
                    <a:cubicBezTo>
                      <a:pt x="2069" y="4"/>
                      <a:pt x="2068" y="5"/>
                      <a:pt x="2067" y="5"/>
                    </a:cubicBezTo>
                    <a:lnTo>
                      <a:pt x="2067" y="5"/>
                    </a:lnTo>
                    <a:cubicBezTo>
                      <a:pt x="2066" y="5"/>
                      <a:pt x="2065" y="4"/>
                      <a:pt x="2065" y="3"/>
                    </a:cubicBezTo>
                    <a:cubicBezTo>
                      <a:pt x="2065" y="2"/>
                      <a:pt x="2066" y="1"/>
                      <a:pt x="2067" y="1"/>
                    </a:cubicBezTo>
                    <a:close/>
                    <a:moveTo>
                      <a:pt x="2075" y="1"/>
                    </a:moveTo>
                    <a:lnTo>
                      <a:pt x="2075" y="1"/>
                    </a:lnTo>
                    <a:cubicBezTo>
                      <a:pt x="2076" y="1"/>
                      <a:pt x="2077" y="2"/>
                      <a:pt x="2077" y="3"/>
                    </a:cubicBezTo>
                    <a:cubicBezTo>
                      <a:pt x="2077" y="4"/>
                      <a:pt x="2076" y="5"/>
                      <a:pt x="2075" y="5"/>
                    </a:cubicBezTo>
                    <a:lnTo>
                      <a:pt x="2075" y="5"/>
                    </a:lnTo>
                    <a:cubicBezTo>
                      <a:pt x="2074" y="5"/>
                      <a:pt x="2073" y="4"/>
                      <a:pt x="2073" y="3"/>
                    </a:cubicBezTo>
                    <a:cubicBezTo>
                      <a:pt x="2073" y="2"/>
                      <a:pt x="2074" y="1"/>
                      <a:pt x="2075" y="1"/>
                    </a:cubicBezTo>
                    <a:close/>
                    <a:moveTo>
                      <a:pt x="2083" y="1"/>
                    </a:moveTo>
                    <a:lnTo>
                      <a:pt x="2083" y="1"/>
                    </a:lnTo>
                    <a:cubicBezTo>
                      <a:pt x="2084" y="1"/>
                      <a:pt x="2085" y="2"/>
                      <a:pt x="2085" y="3"/>
                    </a:cubicBezTo>
                    <a:cubicBezTo>
                      <a:pt x="2085" y="4"/>
                      <a:pt x="2084" y="5"/>
                      <a:pt x="2083" y="5"/>
                    </a:cubicBezTo>
                    <a:lnTo>
                      <a:pt x="2083" y="5"/>
                    </a:lnTo>
                    <a:cubicBezTo>
                      <a:pt x="2082" y="5"/>
                      <a:pt x="2081" y="4"/>
                      <a:pt x="2081" y="3"/>
                    </a:cubicBezTo>
                    <a:cubicBezTo>
                      <a:pt x="2081" y="2"/>
                      <a:pt x="2082" y="1"/>
                      <a:pt x="2083" y="1"/>
                    </a:cubicBezTo>
                    <a:close/>
                    <a:moveTo>
                      <a:pt x="2091" y="1"/>
                    </a:moveTo>
                    <a:lnTo>
                      <a:pt x="2091" y="1"/>
                    </a:lnTo>
                    <a:cubicBezTo>
                      <a:pt x="2092" y="1"/>
                      <a:pt x="2093" y="2"/>
                      <a:pt x="2093" y="3"/>
                    </a:cubicBezTo>
                    <a:cubicBezTo>
                      <a:pt x="2093" y="4"/>
                      <a:pt x="2092" y="5"/>
                      <a:pt x="2091" y="5"/>
                    </a:cubicBezTo>
                    <a:lnTo>
                      <a:pt x="2091" y="5"/>
                    </a:lnTo>
                    <a:cubicBezTo>
                      <a:pt x="2090" y="5"/>
                      <a:pt x="2089" y="4"/>
                      <a:pt x="2089" y="3"/>
                    </a:cubicBezTo>
                    <a:cubicBezTo>
                      <a:pt x="2089" y="2"/>
                      <a:pt x="2090" y="1"/>
                      <a:pt x="2091" y="1"/>
                    </a:cubicBezTo>
                    <a:close/>
                    <a:moveTo>
                      <a:pt x="2099" y="1"/>
                    </a:moveTo>
                    <a:lnTo>
                      <a:pt x="2099" y="1"/>
                    </a:lnTo>
                    <a:cubicBezTo>
                      <a:pt x="2100" y="1"/>
                      <a:pt x="2101" y="2"/>
                      <a:pt x="2101" y="3"/>
                    </a:cubicBezTo>
                    <a:cubicBezTo>
                      <a:pt x="2101" y="4"/>
                      <a:pt x="2100" y="5"/>
                      <a:pt x="2099" y="5"/>
                    </a:cubicBezTo>
                    <a:lnTo>
                      <a:pt x="2099" y="5"/>
                    </a:lnTo>
                    <a:cubicBezTo>
                      <a:pt x="2098" y="5"/>
                      <a:pt x="2097" y="4"/>
                      <a:pt x="2097" y="3"/>
                    </a:cubicBezTo>
                    <a:cubicBezTo>
                      <a:pt x="2097" y="2"/>
                      <a:pt x="2098" y="1"/>
                      <a:pt x="2099" y="1"/>
                    </a:cubicBezTo>
                    <a:close/>
                    <a:moveTo>
                      <a:pt x="2107" y="1"/>
                    </a:moveTo>
                    <a:lnTo>
                      <a:pt x="2107" y="1"/>
                    </a:lnTo>
                    <a:cubicBezTo>
                      <a:pt x="2108" y="1"/>
                      <a:pt x="2109" y="2"/>
                      <a:pt x="2109" y="3"/>
                    </a:cubicBezTo>
                    <a:cubicBezTo>
                      <a:pt x="2109" y="4"/>
                      <a:pt x="2108" y="5"/>
                      <a:pt x="2107" y="5"/>
                    </a:cubicBezTo>
                    <a:lnTo>
                      <a:pt x="2107" y="5"/>
                    </a:lnTo>
                    <a:cubicBezTo>
                      <a:pt x="2106" y="5"/>
                      <a:pt x="2105" y="4"/>
                      <a:pt x="2105" y="3"/>
                    </a:cubicBezTo>
                    <a:cubicBezTo>
                      <a:pt x="2105" y="2"/>
                      <a:pt x="2106" y="1"/>
                      <a:pt x="2107" y="1"/>
                    </a:cubicBezTo>
                    <a:close/>
                    <a:moveTo>
                      <a:pt x="2115" y="1"/>
                    </a:moveTo>
                    <a:lnTo>
                      <a:pt x="2115" y="1"/>
                    </a:lnTo>
                    <a:cubicBezTo>
                      <a:pt x="2116" y="1"/>
                      <a:pt x="2117" y="2"/>
                      <a:pt x="2117" y="3"/>
                    </a:cubicBezTo>
                    <a:cubicBezTo>
                      <a:pt x="2117" y="4"/>
                      <a:pt x="2116" y="5"/>
                      <a:pt x="2115" y="5"/>
                    </a:cubicBezTo>
                    <a:lnTo>
                      <a:pt x="2115" y="5"/>
                    </a:lnTo>
                    <a:cubicBezTo>
                      <a:pt x="2114" y="5"/>
                      <a:pt x="2113" y="4"/>
                      <a:pt x="2113" y="3"/>
                    </a:cubicBezTo>
                    <a:cubicBezTo>
                      <a:pt x="2113" y="2"/>
                      <a:pt x="2114" y="1"/>
                      <a:pt x="2115" y="1"/>
                    </a:cubicBezTo>
                    <a:close/>
                    <a:moveTo>
                      <a:pt x="2123" y="1"/>
                    </a:moveTo>
                    <a:lnTo>
                      <a:pt x="2123" y="1"/>
                    </a:lnTo>
                    <a:cubicBezTo>
                      <a:pt x="2124" y="1"/>
                      <a:pt x="2125" y="2"/>
                      <a:pt x="2125" y="3"/>
                    </a:cubicBezTo>
                    <a:cubicBezTo>
                      <a:pt x="2125" y="4"/>
                      <a:pt x="2124" y="5"/>
                      <a:pt x="2123" y="5"/>
                    </a:cubicBezTo>
                    <a:lnTo>
                      <a:pt x="2123" y="5"/>
                    </a:lnTo>
                    <a:cubicBezTo>
                      <a:pt x="2122" y="5"/>
                      <a:pt x="2121" y="4"/>
                      <a:pt x="2121" y="3"/>
                    </a:cubicBezTo>
                    <a:cubicBezTo>
                      <a:pt x="2121" y="2"/>
                      <a:pt x="2122" y="1"/>
                      <a:pt x="2123" y="1"/>
                    </a:cubicBezTo>
                    <a:close/>
                    <a:moveTo>
                      <a:pt x="2131" y="1"/>
                    </a:moveTo>
                    <a:lnTo>
                      <a:pt x="2131" y="1"/>
                    </a:lnTo>
                    <a:cubicBezTo>
                      <a:pt x="2132" y="1"/>
                      <a:pt x="2133" y="2"/>
                      <a:pt x="2133" y="3"/>
                    </a:cubicBezTo>
                    <a:cubicBezTo>
                      <a:pt x="2133" y="4"/>
                      <a:pt x="2132" y="5"/>
                      <a:pt x="2131" y="5"/>
                    </a:cubicBezTo>
                    <a:lnTo>
                      <a:pt x="2131" y="5"/>
                    </a:lnTo>
                    <a:cubicBezTo>
                      <a:pt x="2130" y="5"/>
                      <a:pt x="2129" y="4"/>
                      <a:pt x="2129" y="3"/>
                    </a:cubicBezTo>
                    <a:cubicBezTo>
                      <a:pt x="2129" y="2"/>
                      <a:pt x="2130" y="1"/>
                      <a:pt x="2131" y="1"/>
                    </a:cubicBezTo>
                    <a:close/>
                    <a:moveTo>
                      <a:pt x="2139" y="1"/>
                    </a:moveTo>
                    <a:lnTo>
                      <a:pt x="2139" y="1"/>
                    </a:lnTo>
                    <a:cubicBezTo>
                      <a:pt x="2140" y="1"/>
                      <a:pt x="2141" y="2"/>
                      <a:pt x="2141" y="3"/>
                    </a:cubicBezTo>
                    <a:cubicBezTo>
                      <a:pt x="2141" y="4"/>
                      <a:pt x="2140" y="5"/>
                      <a:pt x="2139" y="5"/>
                    </a:cubicBezTo>
                    <a:lnTo>
                      <a:pt x="2139" y="5"/>
                    </a:lnTo>
                    <a:cubicBezTo>
                      <a:pt x="2138" y="5"/>
                      <a:pt x="2137" y="4"/>
                      <a:pt x="2137" y="3"/>
                    </a:cubicBezTo>
                    <a:cubicBezTo>
                      <a:pt x="2137" y="2"/>
                      <a:pt x="2138" y="1"/>
                      <a:pt x="2139" y="1"/>
                    </a:cubicBezTo>
                    <a:close/>
                    <a:moveTo>
                      <a:pt x="2147" y="1"/>
                    </a:moveTo>
                    <a:lnTo>
                      <a:pt x="2147" y="1"/>
                    </a:lnTo>
                    <a:cubicBezTo>
                      <a:pt x="2148" y="1"/>
                      <a:pt x="2149" y="2"/>
                      <a:pt x="2149" y="3"/>
                    </a:cubicBezTo>
                    <a:cubicBezTo>
                      <a:pt x="2149" y="4"/>
                      <a:pt x="2148" y="5"/>
                      <a:pt x="2147" y="5"/>
                    </a:cubicBezTo>
                    <a:lnTo>
                      <a:pt x="2147" y="5"/>
                    </a:lnTo>
                    <a:cubicBezTo>
                      <a:pt x="2146" y="5"/>
                      <a:pt x="2145" y="4"/>
                      <a:pt x="2145" y="3"/>
                    </a:cubicBezTo>
                    <a:cubicBezTo>
                      <a:pt x="2145" y="2"/>
                      <a:pt x="2146" y="1"/>
                      <a:pt x="2147" y="1"/>
                    </a:cubicBezTo>
                    <a:close/>
                    <a:moveTo>
                      <a:pt x="2155" y="1"/>
                    </a:moveTo>
                    <a:lnTo>
                      <a:pt x="2155" y="1"/>
                    </a:lnTo>
                    <a:cubicBezTo>
                      <a:pt x="2156" y="1"/>
                      <a:pt x="2157" y="2"/>
                      <a:pt x="2157" y="3"/>
                    </a:cubicBezTo>
                    <a:cubicBezTo>
                      <a:pt x="2157" y="4"/>
                      <a:pt x="2156" y="5"/>
                      <a:pt x="2155" y="5"/>
                    </a:cubicBezTo>
                    <a:lnTo>
                      <a:pt x="2155" y="5"/>
                    </a:lnTo>
                    <a:cubicBezTo>
                      <a:pt x="2154" y="5"/>
                      <a:pt x="2153" y="4"/>
                      <a:pt x="2153" y="3"/>
                    </a:cubicBezTo>
                    <a:cubicBezTo>
                      <a:pt x="2153" y="2"/>
                      <a:pt x="2154" y="1"/>
                      <a:pt x="2155" y="1"/>
                    </a:cubicBezTo>
                    <a:close/>
                    <a:moveTo>
                      <a:pt x="2163" y="1"/>
                    </a:moveTo>
                    <a:lnTo>
                      <a:pt x="2163" y="1"/>
                    </a:lnTo>
                    <a:cubicBezTo>
                      <a:pt x="2164" y="1"/>
                      <a:pt x="2165" y="2"/>
                      <a:pt x="2165" y="3"/>
                    </a:cubicBezTo>
                    <a:cubicBezTo>
                      <a:pt x="2165" y="4"/>
                      <a:pt x="2164" y="5"/>
                      <a:pt x="2163" y="5"/>
                    </a:cubicBezTo>
                    <a:lnTo>
                      <a:pt x="2163" y="5"/>
                    </a:lnTo>
                    <a:cubicBezTo>
                      <a:pt x="2162" y="5"/>
                      <a:pt x="2161" y="4"/>
                      <a:pt x="2161" y="3"/>
                    </a:cubicBezTo>
                    <a:cubicBezTo>
                      <a:pt x="2161" y="2"/>
                      <a:pt x="2162" y="1"/>
                      <a:pt x="2163" y="1"/>
                    </a:cubicBezTo>
                    <a:close/>
                    <a:moveTo>
                      <a:pt x="2171" y="1"/>
                    </a:moveTo>
                    <a:lnTo>
                      <a:pt x="2171" y="1"/>
                    </a:lnTo>
                    <a:cubicBezTo>
                      <a:pt x="2172" y="1"/>
                      <a:pt x="2173" y="2"/>
                      <a:pt x="2173" y="3"/>
                    </a:cubicBezTo>
                    <a:cubicBezTo>
                      <a:pt x="2173" y="4"/>
                      <a:pt x="2172" y="5"/>
                      <a:pt x="2171" y="5"/>
                    </a:cubicBezTo>
                    <a:lnTo>
                      <a:pt x="2171" y="5"/>
                    </a:lnTo>
                    <a:cubicBezTo>
                      <a:pt x="2170" y="5"/>
                      <a:pt x="2169" y="4"/>
                      <a:pt x="2169" y="3"/>
                    </a:cubicBezTo>
                    <a:cubicBezTo>
                      <a:pt x="2169" y="2"/>
                      <a:pt x="2170" y="1"/>
                      <a:pt x="2171" y="1"/>
                    </a:cubicBezTo>
                    <a:close/>
                    <a:moveTo>
                      <a:pt x="2179" y="1"/>
                    </a:moveTo>
                    <a:lnTo>
                      <a:pt x="2179" y="1"/>
                    </a:lnTo>
                    <a:cubicBezTo>
                      <a:pt x="2180" y="1"/>
                      <a:pt x="2181" y="2"/>
                      <a:pt x="2181" y="3"/>
                    </a:cubicBezTo>
                    <a:cubicBezTo>
                      <a:pt x="2181" y="4"/>
                      <a:pt x="2180" y="5"/>
                      <a:pt x="2179" y="5"/>
                    </a:cubicBezTo>
                    <a:lnTo>
                      <a:pt x="2179" y="5"/>
                    </a:lnTo>
                    <a:cubicBezTo>
                      <a:pt x="2178" y="5"/>
                      <a:pt x="2177" y="4"/>
                      <a:pt x="2177" y="3"/>
                    </a:cubicBezTo>
                    <a:cubicBezTo>
                      <a:pt x="2177" y="2"/>
                      <a:pt x="2178" y="1"/>
                      <a:pt x="2179" y="1"/>
                    </a:cubicBezTo>
                    <a:close/>
                    <a:moveTo>
                      <a:pt x="2187" y="1"/>
                    </a:moveTo>
                    <a:lnTo>
                      <a:pt x="2187" y="1"/>
                    </a:lnTo>
                    <a:cubicBezTo>
                      <a:pt x="2188" y="1"/>
                      <a:pt x="2189" y="2"/>
                      <a:pt x="2189" y="3"/>
                    </a:cubicBezTo>
                    <a:cubicBezTo>
                      <a:pt x="2189" y="4"/>
                      <a:pt x="2188" y="5"/>
                      <a:pt x="2187" y="5"/>
                    </a:cubicBezTo>
                    <a:lnTo>
                      <a:pt x="2187" y="5"/>
                    </a:lnTo>
                    <a:cubicBezTo>
                      <a:pt x="2186" y="5"/>
                      <a:pt x="2185" y="4"/>
                      <a:pt x="2185" y="3"/>
                    </a:cubicBezTo>
                    <a:cubicBezTo>
                      <a:pt x="2185" y="2"/>
                      <a:pt x="2186" y="1"/>
                      <a:pt x="2187" y="1"/>
                    </a:cubicBezTo>
                    <a:close/>
                    <a:moveTo>
                      <a:pt x="2195" y="1"/>
                    </a:moveTo>
                    <a:lnTo>
                      <a:pt x="2195" y="1"/>
                    </a:lnTo>
                    <a:cubicBezTo>
                      <a:pt x="2196" y="1"/>
                      <a:pt x="2197" y="2"/>
                      <a:pt x="2197" y="3"/>
                    </a:cubicBezTo>
                    <a:cubicBezTo>
                      <a:pt x="2197" y="4"/>
                      <a:pt x="2196" y="5"/>
                      <a:pt x="2195" y="5"/>
                    </a:cubicBezTo>
                    <a:lnTo>
                      <a:pt x="2195" y="5"/>
                    </a:lnTo>
                    <a:cubicBezTo>
                      <a:pt x="2194" y="5"/>
                      <a:pt x="2193" y="4"/>
                      <a:pt x="2193" y="3"/>
                    </a:cubicBezTo>
                    <a:cubicBezTo>
                      <a:pt x="2193" y="2"/>
                      <a:pt x="2194" y="1"/>
                      <a:pt x="2195" y="1"/>
                    </a:cubicBezTo>
                    <a:close/>
                    <a:moveTo>
                      <a:pt x="2203" y="1"/>
                    </a:moveTo>
                    <a:lnTo>
                      <a:pt x="2203" y="1"/>
                    </a:lnTo>
                    <a:cubicBezTo>
                      <a:pt x="2204" y="1"/>
                      <a:pt x="2205" y="2"/>
                      <a:pt x="2205" y="3"/>
                    </a:cubicBezTo>
                    <a:cubicBezTo>
                      <a:pt x="2205" y="4"/>
                      <a:pt x="2204" y="5"/>
                      <a:pt x="2203" y="5"/>
                    </a:cubicBezTo>
                    <a:lnTo>
                      <a:pt x="2203" y="5"/>
                    </a:lnTo>
                    <a:cubicBezTo>
                      <a:pt x="2202" y="5"/>
                      <a:pt x="2201" y="4"/>
                      <a:pt x="2201" y="3"/>
                    </a:cubicBezTo>
                    <a:cubicBezTo>
                      <a:pt x="2201" y="2"/>
                      <a:pt x="2202" y="1"/>
                      <a:pt x="2203" y="1"/>
                    </a:cubicBezTo>
                    <a:close/>
                    <a:moveTo>
                      <a:pt x="2211" y="1"/>
                    </a:moveTo>
                    <a:lnTo>
                      <a:pt x="2211" y="1"/>
                    </a:lnTo>
                    <a:cubicBezTo>
                      <a:pt x="2212" y="1"/>
                      <a:pt x="2213" y="2"/>
                      <a:pt x="2213" y="3"/>
                    </a:cubicBezTo>
                    <a:cubicBezTo>
                      <a:pt x="2213" y="4"/>
                      <a:pt x="2212" y="5"/>
                      <a:pt x="2211" y="5"/>
                    </a:cubicBezTo>
                    <a:lnTo>
                      <a:pt x="2211" y="5"/>
                    </a:lnTo>
                    <a:cubicBezTo>
                      <a:pt x="2210" y="5"/>
                      <a:pt x="2209" y="4"/>
                      <a:pt x="2209" y="3"/>
                    </a:cubicBezTo>
                    <a:cubicBezTo>
                      <a:pt x="2209" y="2"/>
                      <a:pt x="2210" y="1"/>
                      <a:pt x="2211" y="1"/>
                    </a:cubicBezTo>
                    <a:close/>
                    <a:moveTo>
                      <a:pt x="2219" y="1"/>
                    </a:moveTo>
                    <a:lnTo>
                      <a:pt x="2219" y="1"/>
                    </a:lnTo>
                    <a:cubicBezTo>
                      <a:pt x="2220" y="1"/>
                      <a:pt x="2221" y="2"/>
                      <a:pt x="2221" y="3"/>
                    </a:cubicBezTo>
                    <a:cubicBezTo>
                      <a:pt x="2221" y="4"/>
                      <a:pt x="2220" y="5"/>
                      <a:pt x="2219" y="5"/>
                    </a:cubicBezTo>
                    <a:lnTo>
                      <a:pt x="2219" y="5"/>
                    </a:lnTo>
                    <a:cubicBezTo>
                      <a:pt x="2218" y="5"/>
                      <a:pt x="2217" y="4"/>
                      <a:pt x="2217" y="3"/>
                    </a:cubicBezTo>
                    <a:cubicBezTo>
                      <a:pt x="2217" y="2"/>
                      <a:pt x="2218" y="1"/>
                      <a:pt x="2219" y="1"/>
                    </a:cubicBezTo>
                    <a:close/>
                    <a:moveTo>
                      <a:pt x="2227" y="1"/>
                    </a:moveTo>
                    <a:lnTo>
                      <a:pt x="2227" y="1"/>
                    </a:lnTo>
                    <a:cubicBezTo>
                      <a:pt x="2228" y="1"/>
                      <a:pt x="2229" y="2"/>
                      <a:pt x="2229" y="3"/>
                    </a:cubicBezTo>
                    <a:cubicBezTo>
                      <a:pt x="2229" y="4"/>
                      <a:pt x="2228" y="5"/>
                      <a:pt x="2227" y="5"/>
                    </a:cubicBezTo>
                    <a:lnTo>
                      <a:pt x="2227" y="5"/>
                    </a:lnTo>
                    <a:cubicBezTo>
                      <a:pt x="2226" y="5"/>
                      <a:pt x="2225" y="4"/>
                      <a:pt x="2225" y="3"/>
                    </a:cubicBezTo>
                    <a:cubicBezTo>
                      <a:pt x="2225" y="2"/>
                      <a:pt x="2226" y="1"/>
                      <a:pt x="2227" y="1"/>
                    </a:cubicBezTo>
                    <a:close/>
                    <a:moveTo>
                      <a:pt x="2235" y="1"/>
                    </a:moveTo>
                    <a:lnTo>
                      <a:pt x="2235" y="1"/>
                    </a:lnTo>
                    <a:cubicBezTo>
                      <a:pt x="2236" y="1"/>
                      <a:pt x="2237" y="2"/>
                      <a:pt x="2237" y="3"/>
                    </a:cubicBezTo>
                    <a:cubicBezTo>
                      <a:pt x="2237" y="4"/>
                      <a:pt x="2236" y="5"/>
                      <a:pt x="2235" y="5"/>
                    </a:cubicBezTo>
                    <a:lnTo>
                      <a:pt x="2235" y="5"/>
                    </a:lnTo>
                    <a:cubicBezTo>
                      <a:pt x="2234" y="5"/>
                      <a:pt x="2233" y="4"/>
                      <a:pt x="2233" y="3"/>
                    </a:cubicBezTo>
                    <a:cubicBezTo>
                      <a:pt x="2233" y="2"/>
                      <a:pt x="2234" y="1"/>
                      <a:pt x="2235" y="1"/>
                    </a:cubicBezTo>
                    <a:close/>
                    <a:moveTo>
                      <a:pt x="2243" y="1"/>
                    </a:moveTo>
                    <a:lnTo>
                      <a:pt x="2243" y="1"/>
                    </a:lnTo>
                    <a:cubicBezTo>
                      <a:pt x="2244" y="1"/>
                      <a:pt x="2245" y="2"/>
                      <a:pt x="2245" y="3"/>
                    </a:cubicBezTo>
                    <a:cubicBezTo>
                      <a:pt x="2245" y="4"/>
                      <a:pt x="2244" y="5"/>
                      <a:pt x="2243" y="5"/>
                    </a:cubicBezTo>
                    <a:lnTo>
                      <a:pt x="2243" y="5"/>
                    </a:lnTo>
                    <a:cubicBezTo>
                      <a:pt x="2242" y="5"/>
                      <a:pt x="2241" y="4"/>
                      <a:pt x="2241" y="3"/>
                    </a:cubicBezTo>
                    <a:cubicBezTo>
                      <a:pt x="2241" y="2"/>
                      <a:pt x="2242" y="1"/>
                      <a:pt x="2243" y="1"/>
                    </a:cubicBezTo>
                    <a:close/>
                    <a:moveTo>
                      <a:pt x="2251" y="1"/>
                    </a:moveTo>
                    <a:lnTo>
                      <a:pt x="2251" y="1"/>
                    </a:lnTo>
                    <a:cubicBezTo>
                      <a:pt x="2252" y="1"/>
                      <a:pt x="2253" y="2"/>
                      <a:pt x="2253" y="3"/>
                    </a:cubicBezTo>
                    <a:cubicBezTo>
                      <a:pt x="2253" y="4"/>
                      <a:pt x="2252" y="5"/>
                      <a:pt x="2251" y="5"/>
                    </a:cubicBezTo>
                    <a:lnTo>
                      <a:pt x="2251" y="5"/>
                    </a:lnTo>
                    <a:cubicBezTo>
                      <a:pt x="2250" y="5"/>
                      <a:pt x="2249" y="4"/>
                      <a:pt x="2249" y="3"/>
                    </a:cubicBezTo>
                    <a:cubicBezTo>
                      <a:pt x="2249" y="2"/>
                      <a:pt x="2250" y="1"/>
                      <a:pt x="2251" y="1"/>
                    </a:cubicBezTo>
                    <a:close/>
                    <a:moveTo>
                      <a:pt x="2259" y="1"/>
                    </a:moveTo>
                    <a:lnTo>
                      <a:pt x="2259" y="1"/>
                    </a:lnTo>
                    <a:cubicBezTo>
                      <a:pt x="2260" y="1"/>
                      <a:pt x="2261" y="2"/>
                      <a:pt x="2261" y="3"/>
                    </a:cubicBezTo>
                    <a:cubicBezTo>
                      <a:pt x="2261" y="4"/>
                      <a:pt x="2260" y="5"/>
                      <a:pt x="2259" y="5"/>
                    </a:cubicBezTo>
                    <a:lnTo>
                      <a:pt x="2259" y="5"/>
                    </a:lnTo>
                    <a:cubicBezTo>
                      <a:pt x="2258" y="5"/>
                      <a:pt x="2257" y="4"/>
                      <a:pt x="2257" y="3"/>
                    </a:cubicBezTo>
                    <a:cubicBezTo>
                      <a:pt x="2257" y="2"/>
                      <a:pt x="2258" y="1"/>
                      <a:pt x="2259" y="1"/>
                    </a:cubicBezTo>
                    <a:close/>
                    <a:moveTo>
                      <a:pt x="2267" y="1"/>
                    </a:moveTo>
                    <a:lnTo>
                      <a:pt x="2267" y="1"/>
                    </a:lnTo>
                    <a:cubicBezTo>
                      <a:pt x="2268" y="1"/>
                      <a:pt x="2269" y="2"/>
                      <a:pt x="2269" y="3"/>
                    </a:cubicBezTo>
                    <a:cubicBezTo>
                      <a:pt x="2269" y="4"/>
                      <a:pt x="2268" y="5"/>
                      <a:pt x="2267" y="5"/>
                    </a:cubicBezTo>
                    <a:lnTo>
                      <a:pt x="2267" y="5"/>
                    </a:lnTo>
                    <a:cubicBezTo>
                      <a:pt x="2266" y="5"/>
                      <a:pt x="2265" y="4"/>
                      <a:pt x="2265" y="3"/>
                    </a:cubicBezTo>
                    <a:cubicBezTo>
                      <a:pt x="2265" y="2"/>
                      <a:pt x="2266" y="1"/>
                      <a:pt x="2267" y="1"/>
                    </a:cubicBezTo>
                    <a:close/>
                    <a:moveTo>
                      <a:pt x="2275" y="1"/>
                    </a:moveTo>
                    <a:lnTo>
                      <a:pt x="2275" y="1"/>
                    </a:lnTo>
                    <a:cubicBezTo>
                      <a:pt x="2276" y="1"/>
                      <a:pt x="2277" y="2"/>
                      <a:pt x="2277" y="3"/>
                    </a:cubicBezTo>
                    <a:cubicBezTo>
                      <a:pt x="2277" y="4"/>
                      <a:pt x="2276" y="5"/>
                      <a:pt x="2275" y="5"/>
                    </a:cubicBezTo>
                    <a:lnTo>
                      <a:pt x="2275" y="5"/>
                    </a:lnTo>
                    <a:cubicBezTo>
                      <a:pt x="2274" y="5"/>
                      <a:pt x="2273" y="4"/>
                      <a:pt x="2273" y="3"/>
                    </a:cubicBezTo>
                    <a:cubicBezTo>
                      <a:pt x="2273" y="2"/>
                      <a:pt x="2274" y="1"/>
                      <a:pt x="2275" y="1"/>
                    </a:cubicBezTo>
                    <a:close/>
                    <a:moveTo>
                      <a:pt x="2283" y="1"/>
                    </a:moveTo>
                    <a:lnTo>
                      <a:pt x="2283" y="1"/>
                    </a:lnTo>
                    <a:cubicBezTo>
                      <a:pt x="2284" y="1"/>
                      <a:pt x="2285" y="2"/>
                      <a:pt x="2285" y="3"/>
                    </a:cubicBezTo>
                    <a:cubicBezTo>
                      <a:pt x="2285" y="4"/>
                      <a:pt x="2284" y="5"/>
                      <a:pt x="2283" y="5"/>
                    </a:cubicBezTo>
                    <a:lnTo>
                      <a:pt x="2283" y="5"/>
                    </a:lnTo>
                    <a:cubicBezTo>
                      <a:pt x="2282" y="5"/>
                      <a:pt x="2281" y="4"/>
                      <a:pt x="2281" y="3"/>
                    </a:cubicBezTo>
                    <a:cubicBezTo>
                      <a:pt x="2281" y="2"/>
                      <a:pt x="2282" y="1"/>
                      <a:pt x="2283" y="1"/>
                    </a:cubicBezTo>
                    <a:close/>
                    <a:moveTo>
                      <a:pt x="2291" y="1"/>
                    </a:moveTo>
                    <a:lnTo>
                      <a:pt x="2291" y="1"/>
                    </a:lnTo>
                    <a:cubicBezTo>
                      <a:pt x="2292" y="1"/>
                      <a:pt x="2293" y="2"/>
                      <a:pt x="2293" y="3"/>
                    </a:cubicBezTo>
                    <a:cubicBezTo>
                      <a:pt x="2293" y="4"/>
                      <a:pt x="2292" y="5"/>
                      <a:pt x="2291" y="5"/>
                    </a:cubicBezTo>
                    <a:lnTo>
                      <a:pt x="2291" y="5"/>
                    </a:lnTo>
                    <a:cubicBezTo>
                      <a:pt x="2290" y="5"/>
                      <a:pt x="2289" y="4"/>
                      <a:pt x="2289" y="3"/>
                    </a:cubicBezTo>
                    <a:cubicBezTo>
                      <a:pt x="2289" y="2"/>
                      <a:pt x="2290" y="1"/>
                      <a:pt x="2291" y="1"/>
                    </a:cubicBezTo>
                    <a:close/>
                    <a:moveTo>
                      <a:pt x="2299" y="1"/>
                    </a:moveTo>
                    <a:lnTo>
                      <a:pt x="2299" y="1"/>
                    </a:lnTo>
                    <a:cubicBezTo>
                      <a:pt x="2300" y="1"/>
                      <a:pt x="2301" y="2"/>
                      <a:pt x="2301" y="3"/>
                    </a:cubicBezTo>
                    <a:cubicBezTo>
                      <a:pt x="2301" y="4"/>
                      <a:pt x="2300" y="5"/>
                      <a:pt x="2299" y="5"/>
                    </a:cubicBezTo>
                    <a:lnTo>
                      <a:pt x="2299" y="5"/>
                    </a:lnTo>
                    <a:cubicBezTo>
                      <a:pt x="2298" y="5"/>
                      <a:pt x="2297" y="4"/>
                      <a:pt x="2297" y="3"/>
                    </a:cubicBezTo>
                    <a:cubicBezTo>
                      <a:pt x="2297" y="2"/>
                      <a:pt x="2298" y="1"/>
                      <a:pt x="2299" y="1"/>
                    </a:cubicBezTo>
                    <a:close/>
                    <a:moveTo>
                      <a:pt x="2307" y="1"/>
                    </a:moveTo>
                    <a:lnTo>
                      <a:pt x="2307" y="1"/>
                    </a:lnTo>
                    <a:cubicBezTo>
                      <a:pt x="2308" y="1"/>
                      <a:pt x="2309" y="2"/>
                      <a:pt x="2309" y="3"/>
                    </a:cubicBezTo>
                    <a:cubicBezTo>
                      <a:pt x="2309" y="4"/>
                      <a:pt x="2308" y="5"/>
                      <a:pt x="2307" y="5"/>
                    </a:cubicBezTo>
                    <a:lnTo>
                      <a:pt x="2307" y="5"/>
                    </a:lnTo>
                    <a:cubicBezTo>
                      <a:pt x="2306" y="5"/>
                      <a:pt x="2305" y="4"/>
                      <a:pt x="2305" y="3"/>
                    </a:cubicBezTo>
                    <a:cubicBezTo>
                      <a:pt x="2305" y="2"/>
                      <a:pt x="2306" y="1"/>
                      <a:pt x="2307" y="1"/>
                    </a:cubicBezTo>
                    <a:close/>
                    <a:moveTo>
                      <a:pt x="2315" y="1"/>
                    </a:moveTo>
                    <a:lnTo>
                      <a:pt x="2315" y="1"/>
                    </a:lnTo>
                    <a:cubicBezTo>
                      <a:pt x="2316" y="1"/>
                      <a:pt x="2317" y="2"/>
                      <a:pt x="2317" y="3"/>
                    </a:cubicBezTo>
                    <a:cubicBezTo>
                      <a:pt x="2317" y="4"/>
                      <a:pt x="2316" y="5"/>
                      <a:pt x="2315" y="5"/>
                    </a:cubicBezTo>
                    <a:lnTo>
                      <a:pt x="2315" y="5"/>
                    </a:lnTo>
                    <a:cubicBezTo>
                      <a:pt x="2314" y="5"/>
                      <a:pt x="2313" y="4"/>
                      <a:pt x="2313" y="3"/>
                    </a:cubicBezTo>
                    <a:cubicBezTo>
                      <a:pt x="2313" y="2"/>
                      <a:pt x="2314" y="1"/>
                      <a:pt x="2315" y="1"/>
                    </a:cubicBezTo>
                    <a:close/>
                    <a:moveTo>
                      <a:pt x="2323" y="1"/>
                    </a:moveTo>
                    <a:lnTo>
                      <a:pt x="2323" y="1"/>
                    </a:lnTo>
                    <a:cubicBezTo>
                      <a:pt x="2324" y="1"/>
                      <a:pt x="2325" y="2"/>
                      <a:pt x="2325" y="3"/>
                    </a:cubicBezTo>
                    <a:cubicBezTo>
                      <a:pt x="2325" y="4"/>
                      <a:pt x="2324" y="5"/>
                      <a:pt x="2323" y="5"/>
                    </a:cubicBezTo>
                    <a:lnTo>
                      <a:pt x="2323" y="5"/>
                    </a:lnTo>
                    <a:cubicBezTo>
                      <a:pt x="2322" y="5"/>
                      <a:pt x="2321" y="4"/>
                      <a:pt x="2321" y="3"/>
                    </a:cubicBezTo>
                    <a:cubicBezTo>
                      <a:pt x="2321" y="2"/>
                      <a:pt x="2322" y="1"/>
                      <a:pt x="2323" y="1"/>
                    </a:cubicBezTo>
                    <a:close/>
                    <a:moveTo>
                      <a:pt x="2331" y="1"/>
                    </a:moveTo>
                    <a:lnTo>
                      <a:pt x="2331" y="1"/>
                    </a:lnTo>
                    <a:cubicBezTo>
                      <a:pt x="2332" y="1"/>
                      <a:pt x="2333" y="2"/>
                      <a:pt x="2333" y="3"/>
                    </a:cubicBezTo>
                    <a:cubicBezTo>
                      <a:pt x="2333" y="4"/>
                      <a:pt x="2332" y="5"/>
                      <a:pt x="2331" y="5"/>
                    </a:cubicBezTo>
                    <a:lnTo>
                      <a:pt x="2331" y="5"/>
                    </a:lnTo>
                    <a:cubicBezTo>
                      <a:pt x="2330" y="5"/>
                      <a:pt x="2329" y="4"/>
                      <a:pt x="2329" y="3"/>
                    </a:cubicBezTo>
                    <a:cubicBezTo>
                      <a:pt x="2329" y="2"/>
                      <a:pt x="2330" y="1"/>
                      <a:pt x="2331" y="1"/>
                    </a:cubicBezTo>
                    <a:close/>
                    <a:moveTo>
                      <a:pt x="2339" y="1"/>
                    </a:moveTo>
                    <a:lnTo>
                      <a:pt x="2339" y="1"/>
                    </a:lnTo>
                    <a:cubicBezTo>
                      <a:pt x="2340" y="1"/>
                      <a:pt x="2341" y="2"/>
                      <a:pt x="2341" y="3"/>
                    </a:cubicBezTo>
                    <a:cubicBezTo>
                      <a:pt x="2341" y="4"/>
                      <a:pt x="2340" y="5"/>
                      <a:pt x="2339" y="5"/>
                    </a:cubicBezTo>
                    <a:lnTo>
                      <a:pt x="2339" y="5"/>
                    </a:lnTo>
                    <a:cubicBezTo>
                      <a:pt x="2338" y="5"/>
                      <a:pt x="2337" y="4"/>
                      <a:pt x="2337" y="3"/>
                    </a:cubicBezTo>
                    <a:cubicBezTo>
                      <a:pt x="2337" y="2"/>
                      <a:pt x="2338" y="1"/>
                      <a:pt x="2339" y="1"/>
                    </a:cubicBezTo>
                    <a:close/>
                    <a:moveTo>
                      <a:pt x="2347" y="1"/>
                    </a:moveTo>
                    <a:lnTo>
                      <a:pt x="2347" y="1"/>
                    </a:lnTo>
                    <a:cubicBezTo>
                      <a:pt x="2348" y="1"/>
                      <a:pt x="2349" y="2"/>
                      <a:pt x="2349" y="3"/>
                    </a:cubicBezTo>
                    <a:cubicBezTo>
                      <a:pt x="2349" y="4"/>
                      <a:pt x="2348" y="5"/>
                      <a:pt x="2347" y="5"/>
                    </a:cubicBezTo>
                    <a:lnTo>
                      <a:pt x="2347" y="5"/>
                    </a:lnTo>
                    <a:cubicBezTo>
                      <a:pt x="2346" y="5"/>
                      <a:pt x="2345" y="4"/>
                      <a:pt x="2345" y="3"/>
                    </a:cubicBezTo>
                    <a:cubicBezTo>
                      <a:pt x="2345" y="2"/>
                      <a:pt x="2346" y="1"/>
                      <a:pt x="2347" y="1"/>
                    </a:cubicBezTo>
                    <a:close/>
                    <a:moveTo>
                      <a:pt x="2355" y="1"/>
                    </a:moveTo>
                    <a:lnTo>
                      <a:pt x="2355" y="1"/>
                    </a:lnTo>
                    <a:cubicBezTo>
                      <a:pt x="2356" y="1"/>
                      <a:pt x="2357" y="2"/>
                      <a:pt x="2357" y="3"/>
                    </a:cubicBezTo>
                    <a:cubicBezTo>
                      <a:pt x="2357" y="4"/>
                      <a:pt x="2356" y="5"/>
                      <a:pt x="2355" y="5"/>
                    </a:cubicBezTo>
                    <a:lnTo>
                      <a:pt x="2355" y="5"/>
                    </a:lnTo>
                    <a:cubicBezTo>
                      <a:pt x="2354" y="5"/>
                      <a:pt x="2353" y="4"/>
                      <a:pt x="2353" y="3"/>
                    </a:cubicBezTo>
                    <a:cubicBezTo>
                      <a:pt x="2353" y="2"/>
                      <a:pt x="2354" y="1"/>
                      <a:pt x="2355" y="1"/>
                    </a:cubicBezTo>
                    <a:close/>
                    <a:moveTo>
                      <a:pt x="2363" y="1"/>
                    </a:moveTo>
                    <a:lnTo>
                      <a:pt x="2363" y="1"/>
                    </a:lnTo>
                    <a:cubicBezTo>
                      <a:pt x="2364" y="1"/>
                      <a:pt x="2365" y="2"/>
                      <a:pt x="2365" y="3"/>
                    </a:cubicBezTo>
                    <a:cubicBezTo>
                      <a:pt x="2365" y="4"/>
                      <a:pt x="2364" y="5"/>
                      <a:pt x="2363" y="5"/>
                    </a:cubicBezTo>
                    <a:lnTo>
                      <a:pt x="2363" y="5"/>
                    </a:lnTo>
                    <a:cubicBezTo>
                      <a:pt x="2362" y="5"/>
                      <a:pt x="2361" y="4"/>
                      <a:pt x="2361" y="3"/>
                    </a:cubicBezTo>
                    <a:cubicBezTo>
                      <a:pt x="2361" y="2"/>
                      <a:pt x="2362" y="1"/>
                      <a:pt x="2363" y="1"/>
                    </a:cubicBezTo>
                    <a:close/>
                    <a:moveTo>
                      <a:pt x="2371" y="1"/>
                    </a:moveTo>
                    <a:lnTo>
                      <a:pt x="2371" y="1"/>
                    </a:lnTo>
                    <a:cubicBezTo>
                      <a:pt x="2372" y="1"/>
                      <a:pt x="2373" y="2"/>
                      <a:pt x="2373" y="3"/>
                    </a:cubicBezTo>
                    <a:cubicBezTo>
                      <a:pt x="2373" y="4"/>
                      <a:pt x="2372" y="5"/>
                      <a:pt x="2371" y="5"/>
                    </a:cubicBezTo>
                    <a:lnTo>
                      <a:pt x="2371" y="5"/>
                    </a:lnTo>
                    <a:cubicBezTo>
                      <a:pt x="2370" y="5"/>
                      <a:pt x="2369" y="4"/>
                      <a:pt x="2369" y="3"/>
                    </a:cubicBezTo>
                    <a:cubicBezTo>
                      <a:pt x="2369" y="2"/>
                      <a:pt x="2370" y="1"/>
                      <a:pt x="2371" y="1"/>
                    </a:cubicBezTo>
                    <a:close/>
                    <a:moveTo>
                      <a:pt x="2379" y="1"/>
                    </a:moveTo>
                    <a:lnTo>
                      <a:pt x="2379" y="1"/>
                    </a:lnTo>
                    <a:cubicBezTo>
                      <a:pt x="2380" y="1"/>
                      <a:pt x="2381" y="2"/>
                      <a:pt x="2381" y="3"/>
                    </a:cubicBezTo>
                    <a:cubicBezTo>
                      <a:pt x="2381" y="4"/>
                      <a:pt x="2380" y="5"/>
                      <a:pt x="2379" y="5"/>
                    </a:cubicBezTo>
                    <a:lnTo>
                      <a:pt x="2379" y="5"/>
                    </a:lnTo>
                    <a:cubicBezTo>
                      <a:pt x="2378" y="5"/>
                      <a:pt x="2377" y="4"/>
                      <a:pt x="2377" y="3"/>
                    </a:cubicBezTo>
                    <a:cubicBezTo>
                      <a:pt x="2377" y="2"/>
                      <a:pt x="2378" y="1"/>
                      <a:pt x="2379" y="1"/>
                    </a:cubicBezTo>
                    <a:close/>
                    <a:moveTo>
                      <a:pt x="2387" y="1"/>
                    </a:moveTo>
                    <a:lnTo>
                      <a:pt x="2387" y="1"/>
                    </a:lnTo>
                    <a:cubicBezTo>
                      <a:pt x="2388" y="1"/>
                      <a:pt x="2389" y="2"/>
                      <a:pt x="2389" y="3"/>
                    </a:cubicBezTo>
                    <a:cubicBezTo>
                      <a:pt x="2389" y="4"/>
                      <a:pt x="2388" y="5"/>
                      <a:pt x="2387" y="5"/>
                    </a:cubicBezTo>
                    <a:lnTo>
                      <a:pt x="2387" y="5"/>
                    </a:lnTo>
                    <a:cubicBezTo>
                      <a:pt x="2386" y="5"/>
                      <a:pt x="2385" y="4"/>
                      <a:pt x="2385" y="3"/>
                    </a:cubicBezTo>
                    <a:cubicBezTo>
                      <a:pt x="2385" y="2"/>
                      <a:pt x="2386" y="1"/>
                      <a:pt x="2387" y="1"/>
                    </a:cubicBezTo>
                    <a:close/>
                    <a:moveTo>
                      <a:pt x="2395" y="1"/>
                    </a:moveTo>
                    <a:lnTo>
                      <a:pt x="2395" y="1"/>
                    </a:lnTo>
                    <a:cubicBezTo>
                      <a:pt x="2396" y="1"/>
                      <a:pt x="2397" y="2"/>
                      <a:pt x="2397" y="3"/>
                    </a:cubicBezTo>
                    <a:cubicBezTo>
                      <a:pt x="2397" y="4"/>
                      <a:pt x="2396" y="5"/>
                      <a:pt x="2395" y="5"/>
                    </a:cubicBezTo>
                    <a:lnTo>
                      <a:pt x="2395" y="5"/>
                    </a:lnTo>
                    <a:cubicBezTo>
                      <a:pt x="2394" y="5"/>
                      <a:pt x="2393" y="4"/>
                      <a:pt x="2393" y="3"/>
                    </a:cubicBezTo>
                    <a:cubicBezTo>
                      <a:pt x="2393" y="2"/>
                      <a:pt x="2394" y="1"/>
                      <a:pt x="2395" y="1"/>
                    </a:cubicBezTo>
                    <a:close/>
                    <a:moveTo>
                      <a:pt x="2403" y="1"/>
                    </a:moveTo>
                    <a:lnTo>
                      <a:pt x="2403" y="1"/>
                    </a:lnTo>
                    <a:cubicBezTo>
                      <a:pt x="2404" y="1"/>
                      <a:pt x="2405" y="2"/>
                      <a:pt x="2405" y="3"/>
                    </a:cubicBezTo>
                    <a:cubicBezTo>
                      <a:pt x="2405" y="4"/>
                      <a:pt x="2404" y="5"/>
                      <a:pt x="2403" y="5"/>
                    </a:cubicBezTo>
                    <a:lnTo>
                      <a:pt x="2403" y="5"/>
                    </a:lnTo>
                    <a:cubicBezTo>
                      <a:pt x="2402" y="5"/>
                      <a:pt x="2401" y="4"/>
                      <a:pt x="2401" y="3"/>
                    </a:cubicBezTo>
                    <a:cubicBezTo>
                      <a:pt x="2401" y="2"/>
                      <a:pt x="2402" y="1"/>
                      <a:pt x="2403" y="1"/>
                    </a:cubicBezTo>
                    <a:close/>
                    <a:moveTo>
                      <a:pt x="2411" y="1"/>
                    </a:moveTo>
                    <a:lnTo>
                      <a:pt x="2411" y="1"/>
                    </a:lnTo>
                    <a:cubicBezTo>
                      <a:pt x="2412" y="1"/>
                      <a:pt x="2413" y="2"/>
                      <a:pt x="2413" y="3"/>
                    </a:cubicBezTo>
                    <a:cubicBezTo>
                      <a:pt x="2413" y="4"/>
                      <a:pt x="2412" y="5"/>
                      <a:pt x="2411" y="5"/>
                    </a:cubicBezTo>
                    <a:lnTo>
                      <a:pt x="2411" y="5"/>
                    </a:lnTo>
                    <a:cubicBezTo>
                      <a:pt x="2410" y="5"/>
                      <a:pt x="2409" y="4"/>
                      <a:pt x="2409" y="3"/>
                    </a:cubicBezTo>
                    <a:cubicBezTo>
                      <a:pt x="2409" y="2"/>
                      <a:pt x="2410" y="1"/>
                      <a:pt x="2411" y="1"/>
                    </a:cubicBezTo>
                    <a:close/>
                    <a:moveTo>
                      <a:pt x="2419" y="1"/>
                    </a:moveTo>
                    <a:lnTo>
                      <a:pt x="2419" y="1"/>
                    </a:lnTo>
                    <a:cubicBezTo>
                      <a:pt x="2420" y="1"/>
                      <a:pt x="2421" y="2"/>
                      <a:pt x="2421" y="3"/>
                    </a:cubicBezTo>
                    <a:cubicBezTo>
                      <a:pt x="2421" y="4"/>
                      <a:pt x="2420" y="5"/>
                      <a:pt x="2419" y="5"/>
                    </a:cubicBezTo>
                    <a:lnTo>
                      <a:pt x="2419" y="5"/>
                    </a:lnTo>
                    <a:cubicBezTo>
                      <a:pt x="2418" y="5"/>
                      <a:pt x="2417" y="4"/>
                      <a:pt x="2417" y="3"/>
                    </a:cubicBezTo>
                    <a:cubicBezTo>
                      <a:pt x="2417" y="2"/>
                      <a:pt x="2418" y="1"/>
                      <a:pt x="2419" y="1"/>
                    </a:cubicBezTo>
                    <a:close/>
                    <a:moveTo>
                      <a:pt x="2427" y="1"/>
                    </a:moveTo>
                    <a:lnTo>
                      <a:pt x="2427" y="1"/>
                    </a:lnTo>
                    <a:cubicBezTo>
                      <a:pt x="2428" y="1"/>
                      <a:pt x="2429" y="2"/>
                      <a:pt x="2429" y="3"/>
                    </a:cubicBezTo>
                    <a:cubicBezTo>
                      <a:pt x="2429" y="4"/>
                      <a:pt x="2428" y="5"/>
                      <a:pt x="2427" y="5"/>
                    </a:cubicBezTo>
                    <a:lnTo>
                      <a:pt x="2427" y="5"/>
                    </a:lnTo>
                    <a:cubicBezTo>
                      <a:pt x="2426" y="5"/>
                      <a:pt x="2425" y="4"/>
                      <a:pt x="2425" y="3"/>
                    </a:cubicBezTo>
                    <a:cubicBezTo>
                      <a:pt x="2425" y="2"/>
                      <a:pt x="2426" y="1"/>
                      <a:pt x="2427" y="1"/>
                    </a:cubicBezTo>
                    <a:close/>
                    <a:moveTo>
                      <a:pt x="2435" y="1"/>
                    </a:moveTo>
                    <a:lnTo>
                      <a:pt x="2435" y="1"/>
                    </a:lnTo>
                    <a:cubicBezTo>
                      <a:pt x="2436" y="1"/>
                      <a:pt x="2437" y="2"/>
                      <a:pt x="2437" y="3"/>
                    </a:cubicBezTo>
                    <a:cubicBezTo>
                      <a:pt x="2437" y="4"/>
                      <a:pt x="2436" y="5"/>
                      <a:pt x="2435" y="5"/>
                    </a:cubicBezTo>
                    <a:lnTo>
                      <a:pt x="2435" y="5"/>
                    </a:lnTo>
                    <a:cubicBezTo>
                      <a:pt x="2434" y="5"/>
                      <a:pt x="2433" y="4"/>
                      <a:pt x="2433" y="3"/>
                    </a:cubicBezTo>
                    <a:cubicBezTo>
                      <a:pt x="2433" y="2"/>
                      <a:pt x="2434" y="1"/>
                      <a:pt x="2435" y="1"/>
                    </a:cubicBezTo>
                    <a:close/>
                    <a:moveTo>
                      <a:pt x="2443" y="1"/>
                    </a:moveTo>
                    <a:lnTo>
                      <a:pt x="2443" y="1"/>
                    </a:lnTo>
                    <a:cubicBezTo>
                      <a:pt x="2444" y="1"/>
                      <a:pt x="2445" y="2"/>
                      <a:pt x="2445" y="3"/>
                    </a:cubicBezTo>
                    <a:cubicBezTo>
                      <a:pt x="2445" y="4"/>
                      <a:pt x="2444" y="5"/>
                      <a:pt x="2443" y="5"/>
                    </a:cubicBezTo>
                    <a:lnTo>
                      <a:pt x="2443" y="5"/>
                    </a:lnTo>
                    <a:cubicBezTo>
                      <a:pt x="2442" y="5"/>
                      <a:pt x="2441" y="4"/>
                      <a:pt x="2441" y="3"/>
                    </a:cubicBezTo>
                    <a:cubicBezTo>
                      <a:pt x="2441" y="2"/>
                      <a:pt x="2442" y="1"/>
                      <a:pt x="2443" y="1"/>
                    </a:cubicBezTo>
                    <a:close/>
                    <a:moveTo>
                      <a:pt x="2451" y="1"/>
                    </a:moveTo>
                    <a:lnTo>
                      <a:pt x="2451" y="1"/>
                    </a:lnTo>
                    <a:cubicBezTo>
                      <a:pt x="2452" y="1"/>
                      <a:pt x="2453" y="2"/>
                      <a:pt x="2453" y="3"/>
                    </a:cubicBezTo>
                    <a:cubicBezTo>
                      <a:pt x="2453" y="4"/>
                      <a:pt x="2452" y="5"/>
                      <a:pt x="2451" y="5"/>
                    </a:cubicBezTo>
                    <a:lnTo>
                      <a:pt x="2451" y="5"/>
                    </a:lnTo>
                    <a:cubicBezTo>
                      <a:pt x="2450" y="5"/>
                      <a:pt x="2449" y="4"/>
                      <a:pt x="2449" y="3"/>
                    </a:cubicBezTo>
                    <a:cubicBezTo>
                      <a:pt x="2449" y="2"/>
                      <a:pt x="2450" y="1"/>
                      <a:pt x="2451" y="1"/>
                    </a:cubicBezTo>
                    <a:close/>
                    <a:moveTo>
                      <a:pt x="2459" y="1"/>
                    </a:moveTo>
                    <a:lnTo>
                      <a:pt x="2459" y="1"/>
                    </a:lnTo>
                    <a:cubicBezTo>
                      <a:pt x="2460" y="1"/>
                      <a:pt x="2461" y="2"/>
                      <a:pt x="2461" y="3"/>
                    </a:cubicBezTo>
                    <a:cubicBezTo>
                      <a:pt x="2461" y="4"/>
                      <a:pt x="2460" y="5"/>
                      <a:pt x="2459" y="5"/>
                    </a:cubicBezTo>
                    <a:lnTo>
                      <a:pt x="2459" y="5"/>
                    </a:lnTo>
                    <a:cubicBezTo>
                      <a:pt x="2458" y="5"/>
                      <a:pt x="2457" y="4"/>
                      <a:pt x="2457" y="3"/>
                    </a:cubicBezTo>
                    <a:cubicBezTo>
                      <a:pt x="2457" y="2"/>
                      <a:pt x="2458" y="1"/>
                      <a:pt x="2459" y="1"/>
                    </a:cubicBezTo>
                    <a:close/>
                    <a:moveTo>
                      <a:pt x="2467" y="1"/>
                    </a:moveTo>
                    <a:lnTo>
                      <a:pt x="2467" y="1"/>
                    </a:lnTo>
                    <a:cubicBezTo>
                      <a:pt x="2468" y="1"/>
                      <a:pt x="2469" y="2"/>
                      <a:pt x="2469" y="3"/>
                    </a:cubicBezTo>
                    <a:cubicBezTo>
                      <a:pt x="2469" y="4"/>
                      <a:pt x="2468" y="5"/>
                      <a:pt x="2467" y="5"/>
                    </a:cubicBezTo>
                    <a:lnTo>
                      <a:pt x="2467" y="5"/>
                    </a:lnTo>
                    <a:cubicBezTo>
                      <a:pt x="2466" y="5"/>
                      <a:pt x="2465" y="4"/>
                      <a:pt x="2465" y="3"/>
                    </a:cubicBezTo>
                    <a:cubicBezTo>
                      <a:pt x="2465" y="2"/>
                      <a:pt x="2466" y="1"/>
                      <a:pt x="2467" y="1"/>
                    </a:cubicBezTo>
                    <a:close/>
                    <a:moveTo>
                      <a:pt x="2475" y="1"/>
                    </a:moveTo>
                    <a:lnTo>
                      <a:pt x="2475" y="1"/>
                    </a:lnTo>
                    <a:cubicBezTo>
                      <a:pt x="2476" y="1"/>
                      <a:pt x="2477" y="2"/>
                      <a:pt x="2477" y="3"/>
                    </a:cubicBezTo>
                    <a:cubicBezTo>
                      <a:pt x="2477" y="4"/>
                      <a:pt x="2476" y="5"/>
                      <a:pt x="2475" y="5"/>
                    </a:cubicBezTo>
                    <a:lnTo>
                      <a:pt x="2475" y="5"/>
                    </a:lnTo>
                    <a:cubicBezTo>
                      <a:pt x="2474" y="5"/>
                      <a:pt x="2473" y="4"/>
                      <a:pt x="2473" y="3"/>
                    </a:cubicBezTo>
                    <a:cubicBezTo>
                      <a:pt x="2473" y="2"/>
                      <a:pt x="2474" y="1"/>
                      <a:pt x="2475" y="1"/>
                    </a:cubicBezTo>
                    <a:close/>
                    <a:moveTo>
                      <a:pt x="2483" y="1"/>
                    </a:moveTo>
                    <a:lnTo>
                      <a:pt x="2483" y="1"/>
                    </a:lnTo>
                    <a:cubicBezTo>
                      <a:pt x="2484" y="1"/>
                      <a:pt x="2485" y="2"/>
                      <a:pt x="2485" y="3"/>
                    </a:cubicBezTo>
                    <a:cubicBezTo>
                      <a:pt x="2485" y="4"/>
                      <a:pt x="2484" y="5"/>
                      <a:pt x="2483" y="5"/>
                    </a:cubicBezTo>
                    <a:lnTo>
                      <a:pt x="2483" y="5"/>
                    </a:lnTo>
                    <a:cubicBezTo>
                      <a:pt x="2482" y="5"/>
                      <a:pt x="2481" y="4"/>
                      <a:pt x="2481" y="3"/>
                    </a:cubicBezTo>
                    <a:cubicBezTo>
                      <a:pt x="2481" y="2"/>
                      <a:pt x="2482" y="1"/>
                      <a:pt x="2483" y="1"/>
                    </a:cubicBezTo>
                    <a:close/>
                    <a:moveTo>
                      <a:pt x="2491" y="1"/>
                    </a:moveTo>
                    <a:lnTo>
                      <a:pt x="2491" y="1"/>
                    </a:lnTo>
                    <a:cubicBezTo>
                      <a:pt x="2492" y="1"/>
                      <a:pt x="2493" y="2"/>
                      <a:pt x="2493" y="3"/>
                    </a:cubicBezTo>
                    <a:cubicBezTo>
                      <a:pt x="2493" y="4"/>
                      <a:pt x="2492" y="5"/>
                      <a:pt x="2491" y="5"/>
                    </a:cubicBezTo>
                    <a:lnTo>
                      <a:pt x="2491" y="5"/>
                    </a:lnTo>
                    <a:cubicBezTo>
                      <a:pt x="2490" y="5"/>
                      <a:pt x="2489" y="4"/>
                      <a:pt x="2489" y="3"/>
                    </a:cubicBezTo>
                    <a:cubicBezTo>
                      <a:pt x="2489" y="2"/>
                      <a:pt x="2490" y="1"/>
                      <a:pt x="2491" y="1"/>
                    </a:cubicBezTo>
                    <a:close/>
                    <a:moveTo>
                      <a:pt x="2499" y="1"/>
                    </a:moveTo>
                    <a:lnTo>
                      <a:pt x="2499" y="1"/>
                    </a:lnTo>
                    <a:cubicBezTo>
                      <a:pt x="2500" y="1"/>
                      <a:pt x="2501" y="2"/>
                      <a:pt x="2501" y="3"/>
                    </a:cubicBezTo>
                    <a:cubicBezTo>
                      <a:pt x="2501" y="4"/>
                      <a:pt x="2500" y="5"/>
                      <a:pt x="2499" y="5"/>
                    </a:cubicBezTo>
                    <a:lnTo>
                      <a:pt x="2499" y="5"/>
                    </a:lnTo>
                    <a:cubicBezTo>
                      <a:pt x="2498" y="5"/>
                      <a:pt x="2497" y="4"/>
                      <a:pt x="2497" y="3"/>
                    </a:cubicBezTo>
                    <a:cubicBezTo>
                      <a:pt x="2497" y="2"/>
                      <a:pt x="2498" y="1"/>
                      <a:pt x="2499" y="1"/>
                    </a:cubicBezTo>
                    <a:close/>
                    <a:moveTo>
                      <a:pt x="2507" y="1"/>
                    </a:moveTo>
                    <a:lnTo>
                      <a:pt x="2507" y="1"/>
                    </a:lnTo>
                    <a:cubicBezTo>
                      <a:pt x="2508" y="1"/>
                      <a:pt x="2509" y="2"/>
                      <a:pt x="2509" y="3"/>
                    </a:cubicBezTo>
                    <a:cubicBezTo>
                      <a:pt x="2509" y="4"/>
                      <a:pt x="2508" y="5"/>
                      <a:pt x="2507" y="5"/>
                    </a:cubicBezTo>
                    <a:lnTo>
                      <a:pt x="2507" y="5"/>
                    </a:lnTo>
                    <a:cubicBezTo>
                      <a:pt x="2506" y="5"/>
                      <a:pt x="2505" y="4"/>
                      <a:pt x="2505" y="3"/>
                    </a:cubicBezTo>
                    <a:cubicBezTo>
                      <a:pt x="2505" y="2"/>
                      <a:pt x="2506" y="1"/>
                      <a:pt x="2507" y="1"/>
                    </a:cubicBezTo>
                    <a:close/>
                    <a:moveTo>
                      <a:pt x="2515" y="1"/>
                    </a:moveTo>
                    <a:lnTo>
                      <a:pt x="2515" y="1"/>
                    </a:lnTo>
                    <a:cubicBezTo>
                      <a:pt x="2516" y="1"/>
                      <a:pt x="2517" y="2"/>
                      <a:pt x="2517" y="3"/>
                    </a:cubicBezTo>
                    <a:cubicBezTo>
                      <a:pt x="2517" y="4"/>
                      <a:pt x="2516" y="5"/>
                      <a:pt x="2515" y="5"/>
                    </a:cubicBezTo>
                    <a:lnTo>
                      <a:pt x="2515" y="5"/>
                    </a:lnTo>
                    <a:cubicBezTo>
                      <a:pt x="2514" y="5"/>
                      <a:pt x="2513" y="4"/>
                      <a:pt x="2513" y="3"/>
                    </a:cubicBezTo>
                    <a:cubicBezTo>
                      <a:pt x="2513" y="2"/>
                      <a:pt x="2514" y="1"/>
                      <a:pt x="2515" y="1"/>
                    </a:cubicBezTo>
                    <a:close/>
                    <a:moveTo>
                      <a:pt x="2523" y="1"/>
                    </a:moveTo>
                    <a:lnTo>
                      <a:pt x="2523" y="1"/>
                    </a:lnTo>
                    <a:cubicBezTo>
                      <a:pt x="2524" y="1"/>
                      <a:pt x="2525" y="2"/>
                      <a:pt x="2525" y="3"/>
                    </a:cubicBezTo>
                    <a:cubicBezTo>
                      <a:pt x="2525" y="4"/>
                      <a:pt x="2524" y="5"/>
                      <a:pt x="2523" y="5"/>
                    </a:cubicBezTo>
                    <a:lnTo>
                      <a:pt x="2523" y="5"/>
                    </a:lnTo>
                    <a:cubicBezTo>
                      <a:pt x="2522" y="5"/>
                      <a:pt x="2521" y="4"/>
                      <a:pt x="2521" y="3"/>
                    </a:cubicBezTo>
                    <a:cubicBezTo>
                      <a:pt x="2521" y="2"/>
                      <a:pt x="2522" y="1"/>
                      <a:pt x="2523" y="1"/>
                    </a:cubicBezTo>
                    <a:close/>
                    <a:moveTo>
                      <a:pt x="2531" y="1"/>
                    </a:moveTo>
                    <a:lnTo>
                      <a:pt x="2531" y="1"/>
                    </a:lnTo>
                    <a:cubicBezTo>
                      <a:pt x="2532" y="1"/>
                      <a:pt x="2533" y="2"/>
                      <a:pt x="2533" y="3"/>
                    </a:cubicBezTo>
                    <a:cubicBezTo>
                      <a:pt x="2533" y="4"/>
                      <a:pt x="2532" y="5"/>
                      <a:pt x="2531" y="5"/>
                    </a:cubicBezTo>
                    <a:lnTo>
                      <a:pt x="2531" y="5"/>
                    </a:lnTo>
                    <a:cubicBezTo>
                      <a:pt x="2530" y="5"/>
                      <a:pt x="2529" y="4"/>
                      <a:pt x="2529" y="3"/>
                    </a:cubicBezTo>
                    <a:cubicBezTo>
                      <a:pt x="2529" y="2"/>
                      <a:pt x="2530" y="1"/>
                      <a:pt x="2531" y="1"/>
                    </a:cubicBezTo>
                    <a:close/>
                    <a:moveTo>
                      <a:pt x="2539" y="1"/>
                    </a:moveTo>
                    <a:lnTo>
                      <a:pt x="2539" y="1"/>
                    </a:lnTo>
                    <a:cubicBezTo>
                      <a:pt x="2540" y="1"/>
                      <a:pt x="2541" y="2"/>
                      <a:pt x="2541" y="3"/>
                    </a:cubicBezTo>
                    <a:cubicBezTo>
                      <a:pt x="2541" y="4"/>
                      <a:pt x="2540" y="5"/>
                      <a:pt x="2539" y="5"/>
                    </a:cubicBezTo>
                    <a:lnTo>
                      <a:pt x="2539" y="5"/>
                    </a:lnTo>
                    <a:cubicBezTo>
                      <a:pt x="2538" y="5"/>
                      <a:pt x="2537" y="4"/>
                      <a:pt x="2537" y="3"/>
                    </a:cubicBezTo>
                    <a:cubicBezTo>
                      <a:pt x="2537" y="2"/>
                      <a:pt x="2538" y="1"/>
                      <a:pt x="2539" y="1"/>
                    </a:cubicBezTo>
                    <a:close/>
                    <a:moveTo>
                      <a:pt x="2547" y="1"/>
                    </a:moveTo>
                    <a:lnTo>
                      <a:pt x="2547" y="1"/>
                    </a:lnTo>
                    <a:cubicBezTo>
                      <a:pt x="2548" y="1"/>
                      <a:pt x="2549" y="2"/>
                      <a:pt x="2549" y="3"/>
                    </a:cubicBezTo>
                    <a:cubicBezTo>
                      <a:pt x="2549" y="4"/>
                      <a:pt x="2548" y="5"/>
                      <a:pt x="2547" y="5"/>
                    </a:cubicBezTo>
                    <a:lnTo>
                      <a:pt x="2547" y="5"/>
                    </a:lnTo>
                    <a:cubicBezTo>
                      <a:pt x="2546" y="5"/>
                      <a:pt x="2545" y="4"/>
                      <a:pt x="2545" y="3"/>
                    </a:cubicBezTo>
                    <a:cubicBezTo>
                      <a:pt x="2545" y="2"/>
                      <a:pt x="2546" y="1"/>
                      <a:pt x="2547" y="1"/>
                    </a:cubicBezTo>
                    <a:close/>
                    <a:moveTo>
                      <a:pt x="2555" y="1"/>
                    </a:moveTo>
                    <a:lnTo>
                      <a:pt x="2555" y="1"/>
                    </a:lnTo>
                    <a:cubicBezTo>
                      <a:pt x="2556" y="1"/>
                      <a:pt x="2557" y="2"/>
                      <a:pt x="2557" y="3"/>
                    </a:cubicBezTo>
                    <a:cubicBezTo>
                      <a:pt x="2557" y="4"/>
                      <a:pt x="2556" y="5"/>
                      <a:pt x="2555" y="5"/>
                    </a:cubicBezTo>
                    <a:lnTo>
                      <a:pt x="2555" y="5"/>
                    </a:lnTo>
                    <a:cubicBezTo>
                      <a:pt x="2554" y="5"/>
                      <a:pt x="2553" y="4"/>
                      <a:pt x="2553" y="3"/>
                    </a:cubicBezTo>
                    <a:cubicBezTo>
                      <a:pt x="2553" y="2"/>
                      <a:pt x="2554" y="1"/>
                      <a:pt x="2555" y="1"/>
                    </a:cubicBezTo>
                    <a:close/>
                    <a:moveTo>
                      <a:pt x="2563" y="1"/>
                    </a:moveTo>
                    <a:lnTo>
                      <a:pt x="2563" y="1"/>
                    </a:lnTo>
                    <a:cubicBezTo>
                      <a:pt x="2564" y="1"/>
                      <a:pt x="2565" y="2"/>
                      <a:pt x="2565" y="3"/>
                    </a:cubicBezTo>
                    <a:cubicBezTo>
                      <a:pt x="2565" y="4"/>
                      <a:pt x="2564" y="5"/>
                      <a:pt x="2563" y="5"/>
                    </a:cubicBezTo>
                    <a:lnTo>
                      <a:pt x="2563" y="5"/>
                    </a:lnTo>
                    <a:cubicBezTo>
                      <a:pt x="2562" y="5"/>
                      <a:pt x="2561" y="4"/>
                      <a:pt x="2561" y="3"/>
                    </a:cubicBezTo>
                    <a:cubicBezTo>
                      <a:pt x="2561" y="2"/>
                      <a:pt x="2562" y="1"/>
                      <a:pt x="2563" y="1"/>
                    </a:cubicBezTo>
                    <a:close/>
                    <a:moveTo>
                      <a:pt x="2571" y="1"/>
                    </a:moveTo>
                    <a:lnTo>
                      <a:pt x="2571" y="1"/>
                    </a:lnTo>
                    <a:cubicBezTo>
                      <a:pt x="2572" y="1"/>
                      <a:pt x="2573" y="2"/>
                      <a:pt x="2573" y="3"/>
                    </a:cubicBezTo>
                    <a:cubicBezTo>
                      <a:pt x="2573" y="4"/>
                      <a:pt x="2572" y="5"/>
                      <a:pt x="2571" y="5"/>
                    </a:cubicBezTo>
                    <a:lnTo>
                      <a:pt x="2571" y="5"/>
                    </a:lnTo>
                    <a:cubicBezTo>
                      <a:pt x="2570" y="5"/>
                      <a:pt x="2569" y="4"/>
                      <a:pt x="2569" y="3"/>
                    </a:cubicBezTo>
                    <a:cubicBezTo>
                      <a:pt x="2569" y="2"/>
                      <a:pt x="2570" y="1"/>
                      <a:pt x="2571" y="1"/>
                    </a:cubicBezTo>
                    <a:close/>
                    <a:moveTo>
                      <a:pt x="2579" y="1"/>
                    </a:moveTo>
                    <a:lnTo>
                      <a:pt x="2579" y="1"/>
                    </a:lnTo>
                    <a:cubicBezTo>
                      <a:pt x="2580" y="1"/>
                      <a:pt x="2581" y="2"/>
                      <a:pt x="2581" y="3"/>
                    </a:cubicBezTo>
                    <a:cubicBezTo>
                      <a:pt x="2581" y="4"/>
                      <a:pt x="2580" y="5"/>
                      <a:pt x="2579" y="5"/>
                    </a:cubicBezTo>
                    <a:lnTo>
                      <a:pt x="2579" y="5"/>
                    </a:lnTo>
                    <a:cubicBezTo>
                      <a:pt x="2578" y="5"/>
                      <a:pt x="2577" y="4"/>
                      <a:pt x="2577" y="3"/>
                    </a:cubicBezTo>
                    <a:cubicBezTo>
                      <a:pt x="2577" y="2"/>
                      <a:pt x="2578" y="1"/>
                      <a:pt x="2579" y="1"/>
                    </a:cubicBezTo>
                    <a:close/>
                    <a:moveTo>
                      <a:pt x="2587" y="1"/>
                    </a:moveTo>
                    <a:lnTo>
                      <a:pt x="2587" y="1"/>
                    </a:lnTo>
                    <a:cubicBezTo>
                      <a:pt x="2588" y="1"/>
                      <a:pt x="2589" y="2"/>
                      <a:pt x="2589" y="3"/>
                    </a:cubicBezTo>
                    <a:cubicBezTo>
                      <a:pt x="2589" y="4"/>
                      <a:pt x="2588" y="5"/>
                      <a:pt x="2587" y="5"/>
                    </a:cubicBezTo>
                    <a:lnTo>
                      <a:pt x="2587" y="5"/>
                    </a:lnTo>
                    <a:cubicBezTo>
                      <a:pt x="2586" y="5"/>
                      <a:pt x="2585" y="4"/>
                      <a:pt x="2585" y="3"/>
                    </a:cubicBezTo>
                    <a:cubicBezTo>
                      <a:pt x="2585" y="2"/>
                      <a:pt x="2586" y="1"/>
                      <a:pt x="2587" y="1"/>
                    </a:cubicBezTo>
                    <a:close/>
                    <a:moveTo>
                      <a:pt x="2595" y="1"/>
                    </a:moveTo>
                    <a:lnTo>
                      <a:pt x="2595" y="1"/>
                    </a:lnTo>
                    <a:cubicBezTo>
                      <a:pt x="2596" y="1"/>
                      <a:pt x="2597" y="2"/>
                      <a:pt x="2597" y="3"/>
                    </a:cubicBezTo>
                    <a:cubicBezTo>
                      <a:pt x="2597" y="4"/>
                      <a:pt x="2596" y="5"/>
                      <a:pt x="2595" y="5"/>
                    </a:cubicBezTo>
                    <a:lnTo>
                      <a:pt x="2595" y="5"/>
                    </a:lnTo>
                    <a:cubicBezTo>
                      <a:pt x="2594" y="5"/>
                      <a:pt x="2593" y="4"/>
                      <a:pt x="2593" y="3"/>
                    </a:cubicBezTo>
                    <a:cubicBezTo>
                      <a:pt x="2593" y="2"/>
                      <a:pt x="2594" y="1"/>
                      <a:pt x="2595" y="1"/>
                    </a:cubicBezTo>
                    <a:close/>
                    <a:moveTo>
                      <a:pt x="2603" y="1"/>
                    </a:moveTo>
                    <a:lnTo>
                      <a:pt x="2603" y="1"/>
                    </a:lnTo>
                    <a:cubicBezTo>
                      <a:pt x="2604" y="1"/>
                      <a:pt x="2605" y="2"/>
                      <a:pt x="2605" y="3"/>
                    </a:cubicBezTo>
                    <a:cubicBezTo>
                      <a:pt x="2605" y="4"/>
                      <a:pt x="2604" y="5"/>
                      <a:pt x="2603" y="5"/>
                    </a:cubicBezTo>
                    <a:lnTo>
                      <a:pt x="2603" y="5"/>
                    </a:lnTo>
                    <a:cubicBezTo>
                      <a:pt x="2602" y="5"/>
                      <a:pt x="2601" y="4"/>
                      <a:pt x="2601" y="3"/>
                    </a:cubicBezTo>
                    <a:cubicBezTo>
                      <a:pt x="2601" y="2"/>
                      <a:pt x="2602" y="1"/>
                      <a:pt x="2603" y="1"/>
                    </a:cubicBezTo>
                    <a:close/>
                    <a:moveTo>
                      <a:pt x="2611" y="1"/>
                    </a:moveTo>
                    <a:lnTo>
                      <a:pt x="2611" y="1"/>
                    </a:lnTo>
                    <a:cubicBezTo>
                      <a:pt x="2612" y="1"/>
                      <a:pt x="2613" y="2"/>
                      <a:pt x="2613" y="3"/>
                    </a:cubicBezTo>
                    <a:cubicBezTo>
                      <a:pt x="2613" y="4"/>
                      <a:pt x="2612" y="5"/>
                      <a:pt x="2611" y="5"/>
                    </a:cubicBezTo>
                    <a:lnTo>
                      <a:pt x="2611" y="5"/>
                    </a:lnTo>
                    <a:cubicBezTo>
                      <a:pt x="2610" y="5"/>
                      <a:pt x="2609" y="4"/>
                      <a:pt x="2609" y="3"/>
                    </a:cubicBezTo>
                    <a:cubicBezTo>
                      <a:pt x="2609" y="2"/>
                      <a:pt x="2610" y="1"/>
                      <a:pt x="2611" y="1"/>
                    </a:cubicBezTo>
                    <a:close/>
                    <a:moveTo>
                      <a:pt x="2619" y="1"/>
                    </a:moveTo>
                    <a:lnTo>
                      <a:pt x="2619" y="1"/>
                    </a:lnTo>
                    <a:cubicBezTo>
                      <a:pt x="2620" y="1"/>
                      <a:pt x="2621" y="2"/>
                      <a:pt x="2621" y="3"/>
                    </a:cubicBezTo>
                    <a:cubicBezTo>
                      <a:pt x="2621" y="4"/>
                      <a:pt x="2620" y="5"/>
                      <a:pt x="2619" y="5"/>
                    </a:cubicBezTo>
                    <a:lnTo>
                      <a:pt x="2619" y="5"/>
                    </a:lnTo>
                    <a:cubicBezTo>
                      <a:pt x="2618" y="5"/>
                      <a:pt x="2617" y="4"/>
                      <a:pt x="2617" y="3"/>
                    </a:cubicBezTo>
                    <a:cubicBezTo>
                      <a:pt x="2617" y="2"/>
                      <a:pt x="2618" y="1"/>
                      <a:pt x="2619" y="1"/>
                    </a:cubicBezTo>
                    <a:close/>
                    <a:moveTo>
                      <a:pt x="2627" y="1"/>
                    </a:moveTo>
                    <a:lnTo>
                      <a:pt x="2627" y="1"/>
                    </a:lnTo>
                    <a:cubicBezTo>
                      <a:pt x="2628" y="1"/>
                      <a:pt x="2629" y="2"/>
                      <a:pt x="2629" y="3"/>
                    </a:cubicBezTo>
                    <a:cubicBezTo>
                      <a:pt x="2629" y="4"/>
                      <a:pt x="2628" y="5"/>
                      <a:pt x="2627" y="5"/>
                    </a:cubicBezTo>
                    <a:lnTo>
                      <a:pt x="2627" y="5"/>
                    </a:lnTo>
                    <a:cubicBezTo>
                      <a:pt x="2626" y="5"/>
                      <a:pt x="2625" y="4"/>
                      <a:pt x="2625" y="3"/>
                    </a:cubicBezTo>
                    <a:cubicBezTo>
                      <a:pt x="2625" y="2"/>
                      <a:pt x="2626" y="1"/>
                      <a:pt x="2627" y="1"/>
                    </a:cubicBezTo>
                    <a:close/>
                    <a:moveTo>
                      <a:pt x="2635" y="1"/>
                    </a:moveTo>
                    <a:lnTo>
                      <a:pt x="2635" y="1"/>
                    </a:lnTo>
                    <a:cubicBezTo>
                      <a:pt x="2636" y="1"/>
                      <a:pt x="2637" y="2"/>
                      <a:pt x="2637" y="3"/>
                    </a:cubicBezTo>
                    <a:cubicBezTo>
                      <a:pt x="2637" y="4"/>
                      <a:pt x="2636" y="5"/>
                      <a:pt x="2635" y="5"/>
                    </a:cubicBezTo>
                    <a:lnTo>
                      <a:pt x="2635" y="5"/>
                    </a:lnTo>
                    <a:cubicBezTo>
                      <a:pt x="2634" y="5"/>
                      <a:pt x="2633" y="4"/>
                      <a:pt x="2633" y="3"/>
                    </a:cubicBezTo>
                    <a:cubicBezTo>
                      <a:pt x="2633" y="2"/>
                      <a:pt x="2634" y="1"/>
                      <a:pt x="2635" y="1"/>
                    </a:cubicBezTo>
                    <a:close/>
                    <a:moveTo>
                      <a:pt x="2643" y="1"/>
                    </a:moveTo>
                    <a:lnTo>
                      <a:pt x="2643" y="1"/>
                    </a:lnTo>
                    <a:cubicBezTo>
                      <a:pt x="2644" y="1"/>
                      <a:pt x="2645" y="2"/>
                      <a:pt x="2645" y="3"/>
                    </a:cubicBezTo>
                    <a:cubicBezTo>
                      <a:pt x="2645" y="4"/>
                      <a:pt x="2644" y="5"/>
                      <a:pt x="2643" y="5"/>
                    </a:cubicBezTo>
                    <a:lnTo>
                      <a:pt x="2643" y="5"/>
                    </a:lnTo>
                    <a:cubicBezTo>
                      <a:pt x="2642" y="5"/>
                      <a:pt x="2641" y="4"/>
                      <a:pt x="2641" y="3"/>
                    </a:cubicBezTo>
                    <a:cubicBezTo>
                      <a:pt x="2641" y="2"/>
                      <a:pt x="2642" y="1"/>
                      <a:pt x="2643" y="1"/>
                    </a:cubicBezTo>
                    <a:close/>
                    <a:moveTo>
                      <a:pt x="2651" y="1"/>
                    </a:moveTo>
                    <a:lnTo>
                      <a:pt x="2651" y="1"/>
                    </a:lnTo>
                    <a:cubicBezTo>
                      <a:pt x="2652" y="1"/>
                      <a:pt x="2653" y="2"/>
                      <a:pt x="2653" y="3"/>
                    </a:cubicBezTo>
                    <a:cubicBezTo>
                      <a:pt x="2653" y="4"/>
                      <a:pt x="2652" y="5"/>
                      <a:pt x="2651" y="5"/>
                    </a:cubicBezTo>
                    <a:lnTo>
                      <a:pt x="2651" y="5"/>
                    </a:lnTo>
                    <a:cubicBezTo>
                      <a:pt x="2650" y="5"/>
                      <a:pt x="2649" y="4"/>
                      <a:pt x="2649" y="3"/>
                    </a:cubicBezTo>
                    <a:cubicBezTo>
                      <a:pt x="2649" y="2"/>
                      <a:pt x="2650" y="1"/>
                      <a:pt x="2651" y="1"/>
                    </a:cubicBezTo>
                    <a:close/>
                    <a:moveTo>
                      <a:pt x="2659" y="1"/>
                    </a:moveTo>
                    <a:lnTo>
                      <a:pt x="2659" y="1"/>
                    </a:lnTo>
                    <a:cubicBezTo>
                      <a:pt x="2660" y="1"/>
                      <a:pt x="2661" y="2"/>
                      <a:pt x="2661" y="3"/>
                    </a:cubicBezTo>
                    <a:cubicBezTo>
                      <a:pt x="2661" y="4"/>
                      <a:pt x="2660" y="5"/>
                      <a:pt x="2659" y="5"/>
                    </a:cubicBezTo>
                    <a:lnTo>
                      <a:pt x="2659" y="5"/>
                    </a:lnTo>
                    <a:cubicBezTo>
                      <a:pt x="2658" y="5"/>
                      <a:pt x="2657" y="4"/>
                      <a:pt x="2657" y="3"/>
                    </a:cubicBezTo>
                    <a:cubicBezTo>
                      <a:pt x="2657" y="2"/>
                      <a:pt x="2658" y="1"/>
                      <a:pt x="2659" y="1"/>
                    </a:cubicBezTo>
                    <a:close/>
                    <a:moveTo>
                      <a:pt x="2667" y="1"/>
                    </a:moveTo>
                    <a:lnTo>
                      <a:pt x="2667" y="1"/>
                    </a:lnTo>
                    <a:cubicBezTo>
                      <a:pt x="2668" y="1"/>
                      <a:pt x="2669" y="2"/>
                      <a:pt x="2669" y="3"/>
                    </a:cubicBezTo>
                    <a:cubicBezTo>
                      <a:pt x="2669" y="4"/>
                      <a:pt x="2668" y="5"/>
                      <a:pt x="2667" y="5"/>
                    </a:cubicBezTo>
                    <a:lnTo>
                      <a:pt x="2667" y="5"/>
                    </a:lnTo>
                    <a:cubicBezTo>
                      <a:pt x="2666" y="5"/>
                      <a:pt x="2665" y="4"/>
                      <a:pt x="2665" y="3"/>
                    </a:cubicBezTo>
                    <a:cubicBezTo>
                      <a:pt x="2665" y="2"/>
                      <a:pt x="2666" y="1"/>
                      <a:pt x="2667" y="1"/>
                    </a:cubicBezTo>
                    <a:close/>
                    <a:moveTo>
                      <a:pt x="2675" y="1"/>
                    </a:moveTo>
                    <a:lnTo>
                      <a:pt x="2675" y="1"/>
                    </a:lnTo>
                    <a:cubicBezTo>
                      <a:pt x="2676" y="1"/>
                      <a:pt x="2677" y="2"/>
                      <a:pt x="2677" y="3"/>
                    </a:cubicBezTo>
                    <a:cubicBezTo>
                      <a:pt x="2677" y="4"/>
                      <a:pt x="2676" y="5"/>
                      <a:pt x="2675" y="5"/>
                    </a:cubicBezTo>
                    <a:lnTo>
                      <a:pt x="2675" y="5"/>
                    </a:lnTo>
                    <a:cubicBezTo>
                      <a:pt x="2674" y="5"/>
                      <a:pt x="2673" y="4"/>
                      <a:pt x="2673" y="3"/>
                    </a:cubicBezTo>
                    <a:cubicBezTo>
                      <a:pt x="2673" y="2"/>
                      <a:pt x="2674" y="1"/>
                      <a:pt x="2675" y="1"/>
                    </a:cubicBezTo>
                    <a:close/>
                    <a:moveTo>
                      <a:pt x="2683" y="1"/>
                    </a:moveTo>
                    <a:lnTo>
                      <a:pt x="2683" y="1"/>
                    </a:lnTo>
                    <a:cubicBezTo>
                      <a:pt x="2684" y="1"/>
                      <a:pt x="2685" y="2"/>
                      <a:pt x="2685" y="3"/>
                    </a:cubicBezTo>
                    <a:cubicBezTo>
                      <a:pt x="2685" y="4"/>
                      <a:pt x="2684" y="5"/>
                      <a:pt x="2683" y="5"/>
                    </a:cubicBezTo>
                    <a:lnTo>
                      <a:pt x="2683" y="5"/>
                    </a:lnTo>
                    <a:cubicBezTo>
                      <a:pt x="2682" y="5"/>
                      <a:pt x="2681" y="4"/>
                      <a:pt x="2681" y="3"/>
                    </a:cubicBezTo>
                    <a:cubicBezTo>
                      <a:pt x="2681" y="2"/>
                      <a:pt x="2682" y="1"/>
                      <a:pt x="2683" y="1"/>
                    </a:cubicBezTo>
                    <a:close/>
                    <a:moveTo>
                      <a:pt x="2691" y="1"/>
                    </a:moveTo>
                    <a:lnTo>
                      <a:pt x="2691" y="1"/>
                    </a:lnTo>
                    <a:cubicBezTo>
                      <a:pt x="2692" y="1"/>
                      <a:pt x="2693" y="2"/>
                      <a:pt x="2693" y="3"/>
                    </a:cubicBezTo>
                    <a:cubicBezTo>
                      <a:pt x="2693" y="4"/>
                      <a:pt x="2692" y="5"/>
                      <a:pt x="2691" y="5"/>
                    </a:cubicBezTo>
                    <a:lnTo>
                      <a:pt x="2691" y="5"/>
                    </a:lnTo>
                    <a:cubicBezTo>
                      <a:pt x="2690" y="5"/>
                      <a:pt x="2689" y="4"/>
                      <a:pt x="2689" y="3"/>
                    </a:cubicBezTo>
                    <a:cubicBezTo>
                      <a:pt x="2689" y="2"/>
                      <a:pt x="2690" y="1"/>
                      <a:pt x="2691" y="1"/>
                    </a:cubicBezTo>
                    <a:close/>
                    <a:moveTo>
                      <a:pt x="2699" y="1"/>
                    </a:moveTo>
                    <a:lnTo>
                      <a:pt x="2699" y="1"/>
                    </a:lnTo>
                    <a:cubicBezTo>
                      <a:pt x="2700" y="1"/>
                      <a:pt x="2701" y="2"/>
                      <a:pt x="2701" y="3"/>
                    </a:cubicBezTo>
                    <a:cubicBezTo>
                      <a:pt x="2701" y="4"/>
                      <a:pt x="2700" y="5"/>
                      <a:pt x="2699" y="5"/>
                    </a:cubicBezTo>
                    <a:lnTo>
                      <a:pt x="2699" y="5"/>
                    </a:lnTo>
                    <a:cubicBezTo>
                      <a:pt x="2698" y="5"/>
                      <a:pt x="2697" y="4"/>
                      <a:pt x="2697" y="3"/>
                    </a:cubicBezTo>
                    <a:cubicBezTo>
                      <a:pt x="2697" y="2"/>
                      <a:pt x="2698" y="1"/>
                      <a:pt x="2699" y="1"/>
                    </a:cubicBezTo>
                    <a:close/>
                    <a:moveTo>
                      <a:pt x="2707" y="1"/>
                    </a:moveTo>
                    <a:lnTo>
                      <a:pt x="2707" y="1"/>
                    </a:lnTo>
                    <a:cubicBezTo>
                      <a:pt x="2708" y="1"/>
                      <a:pt x="2709" y="2"/>
                      <a:pt x="2709" y="3"/>
                    </a:cubicBezTo>
                    <a:cubicBezTo>
                      <a:pt x="2709" y="4"/>
                      <a:pt x="2708" y="5"/>
                      <a:pt x="2707" y="5"/>
                    </a:cubicBezTo>
                    <a:lnTo>
                      <a:pt x="2707" y="5"/>
                    </a:lnTo>
                    <a:cubicBezTo>
                      <a:pt x="2706" y="5"/>
                      <a:pt x="2705" y="4"/>
                      <a:pt x="2705" y="3"/>
                    </a:cubicBezTo>
                    <a:cubicBezTo>
                      <a:pt x="2705" y="2"/>
                      <a:pt x="2706" y="1"/>
                      <a:pt x="2707" y="1"/>
                    </a:cubicBezTo>
                    <a:close/>
                    <a:moveTo>
                      <a:pt x="2715" y="1"/>
                    </a:moveTo>
                    <a:lnTo>
                      <a:pt x="2715" y="1"/>
                    </a:lnTo>
                    <a:cubicBezTo>
                      <a:pt x="2716" y="1"/>
                      <a:pt x="2717" y="2"/>
                      <a:pt x="2717" y="3"/>
                    </a:cubicBezTo>
                    <a:cubicBezTo>
                      <a:pt x="2717" y="4"/>
                      <a:pt x="2716" y="5"/>
                      <a:pt x="2715" y="5"/>
                    </a:cubicBezTo>
                    <a:lnTo>
                      <a:pt x="2715" y="5"/>
                    </a:lnTo>
                    <a:cubicBezTo>
                      <a:pt x="2714" y="5"/>
                      <a:pt x="2713" y="4"/>
                      <a:pt x="2713" y="3"/>
                    </a:cubicBezTo>
                    <a:cubicBezTo>
                      <a:pt x="2713" y="2"/>
                      <a:pt x="2714" y="1"/>
                      <a:pt x="2715" y="1"/>
                    </a:cubicBezTo>
                    <a:close/>
                    <a:moveTo>
                      <a:pt x="2723" y="1"/>
                    </a:moveTo>
                    <a:lnTo>
                      <a:pt x="2723" y="1"/>
                    </a:lnTo>
                    <a:cubicBezTo>
                      <a:pt x="2724" y="1"/>
                      <a:pt x="2725" y="2"/>
                      <a:pt x="2725" y="3"/>
                    </a:cubicBezTo>
                    <a:cubicBezTo>
                      <a:pt x="2725" y="4"/>
                      <a:pt x="2724" y="5"/>
                      <a:pt x="2723" y="5"/>
                    </a:cubicBezTo>
                    <a:lnTo>
                      <a:pt x="2723" y="5"/>
                    </a:lnTo>
                    <a:cubicBezTo>
                      <a:pt x="2722" y="5"/>
                      <a:pt x="2721" y="4"/>
                      <a:pt x="2721" y="3"/>
                    </a:cubicBezTo>
                    <a:cubicBezTo>
                      <a:pt x="2721" y="2"/>
                      <a:pt x="2722" y="1"/>
                      <a:pt x="2723" y="1"/>
                    </a:cubicBezTo>
                    <a:close/>
                    <a:moveTo>
                      <a:pt x="2731" y="1"/>
                    </a:moveTo>
                    <a:lnTo>
                      <a:pt x="2731" y="1"/>
                    </a:lnTo>
                    <a:cubicBezTo>
                      <a:pt x="2732" y="1"/>
                      <a:pt x="2733" y="2"/>
                      <a:pt x="2733" y="3"/>
                    </a:cubicBezTo>
                    <a:cubicBezTo>
                      <a:pt x="2733" y="4"/>
                      <a:pt x="2732" y="5"/>
                      <a:pt x="2731" y="5"/>
                    </a:cubicBezTo>
                    <a:lnTo>
                      <a:pt x="2731" y="5"/>
                    </a:lnTo>
                    <a:cubicBezTo>
                      <a:pt x="2730" y="5"/>
                      <a:pt x="2729" y="4"/>
                      <a:pt x="2729" y="3"/>
                    </a:cubicBezTo>
                    <a:cubicBezTo>
                      <a:pt x="2729" y="2"/>
                      <a:pt x="2730" y="1"/>
                      <a:pt x="2731" y="1"/>
                    </a:cubicBezTo>
                    <a:close/>
                    <a:moveTo>
                      <a:pt x="2739" y="1"/>
                    </a:moveTo>
                    <a:lnTo>
                      <a:pt x="2739" y="1"/>
                    </a:lnTo>
                    <a:cubicBezTo>
                      <a:pt x="2740" y="1"/>
                      <a:pt x="2741" y="2"/>
                      <a:pt x="2741" y="3"/>
                    </a:cubicBezTo>
                    <a:cubicBezTo>
                      <a:pt x="2741" y="4"/>
                      <a:pt x="2740" y="5"/>
                      <a:pt x="2739" y="5"/>
                    </a:cubicBezTo>
                    <a:lnTo>
                      <a:pt x="2739" y="5"/>
                    </a:lnTo>
                    <a:cubicBezTo>
                      <a:pt x="2738" y="5"/>
                      <a:pt x="2737" y="4"/>
                      <a:pt x="2737" y="3"/>
                    </a:cubicBezTo>
                    <a:cubicBezTo>
                      <a:pt x="2737" y="2"/>
                      <a:pt x="2738" y="1"/>
                      <a:pt x="2739" y="1"/>
                    </a:cubicBezTo>
                    <a:close/>
                    <a:moveTo>
                      <a:pt x="2747" y="1"/>
                    </a:moveTo>
                    <a:lnTo>
                      <a:pt x="2747" y="1"/>
                    </a:lnTo>
                    <a:cubicBezTo>
                      <a:pt x="2748" y="1"/>
                      <a:pt x="2749" y="2"/>
                      <a:pt x="2749" y="3"/>
                    </a:cubicBezTo>
                    <a:cubicBezTo>
                      <a:pt x="2749" y="4"/>
                      <a:pt x="2748" y="5"/>
                      <a:pt x="2747" y="5"/>
                    </a:cubicBezTo>
                    <a:lnTo>
                      <a:pt x="2747" y="5"/>
                    </a:lnTo>
                    <a:cubicBezTo>
                      <a:pt x="2746" y="5"/>
                      <a:pt x="2745" y="4"/>
                      <a:pt x="2745" y="3"/>
                    </a:cubicBezTo>
                    <a:cubicBezTo>
                      <a:pt x="2745" y="2"/>
                      <a:pt x="2746" y="1"/>
                      <a:pt x="2747" y="1"/>
                    </a:cubicBezTo>
                    <a:close/>
                    <a:moveTo>
                      <a:pt x="2755" y="1"/>
                    </a:moveTo>
                    <a:lnTo>
                      <a:pt x="2755" y="1"/>
                    </a:lnTo>
                    <a:cubicBezTo>
                      <a:pt x="2756" y="1"/>
                      <a:pt x="2757" y="2"/>
                      <a:pt x="2757" y="3"/>
                    </a:cubicBezTo>
                    <a:cubicBezTo>
                      <a:pt x="2757" y="4"/>
                      <a:pt x="2756" y="5"/>
                      <a:pt x="2755" y="5"/>
                    </a:cubicBezTo>
                    <a:lnTo>
                      <a:pt x="2755" y="5"/>
                    </a:lnTo>
                    <a:cubicBezTo>
                      <a:pt x="2754" y="5"/>
                      <a:pt x="2753" y="4"/>
                      <a:pt x="2753" y="3"/>
                    </a:cubicBezTo>
                    <a:cubicBezTo>
                      <a:pt x="2753" y="2"/>
                      <a:pt x="2754" y="1"/>
                      <a:pt x="2755" y="1"/>
                    </a:cubicBezTo>
                    <a:close/>
                    <a:moveTo>
                      <a:pt x="2763" y="1"/>
                    </a:moveTo>
                    <a:lnTo>
                      <a:pt x="2763" y="1"/>
                    </a:lnTo>
                    <a:cubicBezTo>
                      <a:pt x="2764" y="1"/>
                      <a:pt x="2765" y="2"/>
                      <a:pt x="2765" y="3"/>
                    </a:cubicBezTo>
                    <a:cubicBezTo>
                      <a:pt x="2765" y="4"/>
                      <a:pt x="2764" y="5"/>
                      <a:pt x="2763" y="5"/>
                    </a:cubicBezTo>
                    <a:lnTo>
                      <a:pt x="2763" y="5"/>
                    </a:lnTo>
                    <a:cubicBezTo>
                      <a:pt x="2762" y="5"/>
                      <a:pt x="2761" y="4"/>
                      <a:pt x="2761" y="3"/>
                    </a:cubicBezTo>
                    <a:cubicBezTo>
                      <a:pt x="2761" y="2"/>
                      <a:pt x="2762" y="1"/>
                      <a:pt x="2763" y="1"/>
                    </a:cubicBezTo>
                    <a:close/>
                    <a:moveTo>
                      <a:pt x="2771" y="1"/>
                    </a:moveTo>
                    <a:lnTo>
                      <a:pt x="2771" y="1"/>
                    </a:lnTo>
                    <a:cubicBezTo>
                      <a:pt x="2772" y="1"/>
                      <a:pt x="2773" y="2"/>
                      <a:pt x="2773" y="3"/>
                    </a:cubicBezTo>
                    <a:cubicBezTo>
                      <a:pt x="2773" y="4"/>
                      <a:pt x="2772" y="5"/>
                      <a:pt x="2771" y="5"/>
                    </a:cubicBezTo>
                    <a:lnTo>
                      <a:pt x="2771" y="5"/>
                    </a:lnTo>
                    <a:cubicBezTo>
                      <a:pt x="2770" y="5"/>
                      <a:pt x="2769" y="4"/>
                      <a:pt x="2769" y="3"/>
                    </a:cubicBezTo>
                    <a:cubicBezTo>
                      <a:pt x="2769" y="2"/>
                      <a:pt x="2770" y="1"/>
                      <a:pt x="2771" y="1"/>
                    </a:cubicBezTo>
                    <a:close/>
                    <a:moveTo>
                      <a:pt x="2779" y="1"/>
                    </a:moveTo>
                    <a:lnTo>
                      <a:pt x="2779" y="1"/>
                    </a:lnTo>
                    <a:cubicBezTo>
                      <a:pt x="2780" y="1"/>
                      <a:pt x="2781" y="2"/>
                      <a:pt x="2781" y="3"/>
                    </a:cubicBezTo>
                    <a:cubicBezTo>
                      <a:pt x="2781" y="4"/>
                      <a:pt x="2780" y="5"/>
                      <a:pt x="2779" y="5"/>
                    </a:cubicBezTo>
                    <a:lnTo>
                      <a:pt x="2779" y="5"/>
                    </a:lnTo>
                    <a:cubicBezTo>
                      <a:pt x="2778" y="5"/>
                      <a:pt x="2777" y="4"/>
                      <a:pt x="2777" y="3"/>
                    </a:cubicBezTo>
                    <a:cubicBezTo>
                      <a:pt x="2777" y="2"/>
                      <a:pt x="2778" y="1"/>
                      <a:pt x="2779" y="1"/>
                    </a:cubicBezTo>
                    <a:close/>
                    <a:moveTo>
                      <a:pt x="2787" y="1"/>
                    </a:moveTo>
                    <a:lnTo>
                      <a:pt x="2787" y="1"/>
                    </a:lnTo>
                    <a:cubicBezTo>
                      <a:pt x="2788" y="1"/>
                      <a:pt x="2789" y="2"/>
                      <a:pt x="2789" y="3"/>
                    </a:cubicBezTo>
                    <a:cubicBezTo>
                      <a:pt x="2789" y="4"/>
                      <a:pt x="2788" y="5"/>
                      <a:pt x="2787" y="5"/>
                    </a:cubicBezTo>
                    <a:lnTo>
                      <a:pt x="2787" y="5"/>
                    </a:lnTo>
                    <a:cubicBezTo>
                      <a:pt x="2786" y="5"/>
                      <a:pt x="2785" y="4"/>
                      <a:pt x="2785" y="3"/>
                    </a:cubicBezTo>
                    <a:cubicBezTo>
                      <a:pt x="2785" y="2"/>
                      <a:pt x="2786" y="1"/>
                      <a:pt x="2787" y="1"/>
                    </a:cubicBezTo>
                    <a:close/>
                    <a:moveTo>
                      <a:pt x="2795" y="1"/>
                    </a:moveTo>
                    <a:lnTo>
                      <a:pt x="2795" y="1"/>
                    </a:lnTo>
                    <a:cubicBezTo>
                      <a:pt x="2796" y="1"/>
                      <a:pt x="2797" y="2"/>
                      <a:pt x="2797" y="3"/>
                    </a:cubicBezTo>
                    <a:cubicBezTo>
                      <a:pt x="2797" y="4"/>
                      <a:pt x="2796" y="5"/>
                      <a:pt x="2795" y="5"/>
                    </a:cubicBezTo>
                    <a:lnTo>
                      <a:pt x="2795" y="5"/>
                    </a:lnTo>
                    <a:cubicBezTo>
                      <a:pt x="2794" y="5"/>
                      <a:pt x="2793" y="4"/>
                      <a:pt x="2793" y="3"/>
                    </a:cubicBezTo>
                    <a:cubicBezTo>
                      <a:pt x="2793" y="2"/>
                      <a:pt x="2794" y="1"/>
                      <a:pt x="2795" y="1"/>
                    </a:cubicBezTo>
                    <a:close/>
                    <a:moveTo>
                      <a:pt x="2803" y="1"/>
                    </a:moveTo>
                    <a:lnTo>
                      <a:pt x="2803" y="1"/>
                    </a:lnTo>
                    <a:cubicBezTo>
                      <a:pt x="2804" y="1"/>
                      <a:pt x="2805" y="2"/>
                      <a:pt x="2805" y="3"/>
                    </a:cubicBezTo>
                    <a:cubicBezTo>
                      <a:pt x="2805" y="4"/>
                      <a:pt x="2804" y="5"/>
                      <a:pt x="2803" y="5"/>
                    </a:cubicBezTo>
                    <a:lnTo>
                      <a:pt x="2803" y="5"/>
                    </a:lnTo>
                    <a:cubicBezTo>
                      <a:pt x="2802" y="5"/>
                      <a:pt x="2801" y="4"/>
                      <a:pt x="2801" y="3"/>
                    </a:cubicBezTo>
                    <a:cubicBezTo>
                      <a:pt x="2801" y="2"/>
                      <a:pt x="2802" y="1"/>
                      <a:pt x="2803" y="1"/>
                    </a:cubicBezTo>
                    <a:close/>
                    <a:moveTo>
                      <a:pt x="2811" y="1"/>
                    </a:moveTo>
                    <a:lnTo>
                      <a:pt x="2811" y="1"/>
                    </a:lnTo>
                    <a:cubicBezTo>
                      <a:pt x="2812" y="1"/>
                      <a:pt x="2813" y="2"/>
                      <a:pt x="2813" y="3"/>
                    </a:cubicBezTo>
                    <a:cubicBezTo>
                      <a:pt x="2813" y="4"/>
                      <a:pt x="2812" y="5"/>
                      <a:pt x="2811" y="5"/>
                    </a:cubicBezTo>
                    <a:lnTo>
                      <a:pt x="2811" y="5"/>
                    </a:lnTo>
                    <a:cubicBezTo>
                      <a:pt x="2810" y="5"/>
                      <a:pt x="2809" y="4"/>
                      <a:pt x="2809" y="3"/>
                    </a:cubicBezTo>
                    <a:cubicBezTo>
                      <a:pt x="2809" y="2"/>
                      <a:pt x="2810" y="1"/>
                      <a:pt x="2811" y="1"/>
                    </a:cubicBezTo>
                    <a:close/>
                    <a:moveTo>
                      <a:pt x="2819" y="1"/>
                    </a:moveTo>
                    <a:lnTo>
                      <a:pt x="2819" y="1"/>
                    </a:lnTo>
                    <a:cubicBezTo>
                      <a:pt x="2820" y="1"/>
                      <a:pt x="2821" y="2"/>
                      <a:pt x="2821" y="3"/>
                    </a:cubicBezTo>
                    <a:cubicBezTo>
                      <a:pt x="2821" y="4"/>
                      <a:pt x="2820" y="5"/>
                      <a:pt x="2819" y="5"/>
                    </a:cubicBezTo>
                    <a:lnTo>
                      <a:pt x="2819" y="5"/>
                    </a:lnTo>
                    <a:cubicBezTo>
                      <a:pt x="2818" y="5"/>
                      <a:pt x="2817" y="4"/>
                      <a:pt x="2817" y="3"/>
                    </a:cubicBezTo>
                    <a:cubicBezTo>
                      <a:pt x="2817" y="2"/>
                      <a:pt x="2818" y="1"/>
                      <a:pt x="2819" y="1"/>
                    </a:cubicBezTo>
                    <a:close/>
                    <a:moveTo>
                      <a:pt x="2827" y="1"/>
                    </a:moveTo>
                    <a:lnTo>
                      <a:pt x="2827" y="1"/>
                    </a:lnTo>
                    <a:cubicBezTo>
                      <a:pt x="2828" y="1"/>
                      <a:pt x="2829" y="2"/>
                      <a:pt x="2829" y="3"/>
                    </a:cubicBezTo>
                    <a:cubicBezTo>
                      <a:pt x="2829" y="4"/>
                      <a:pt x="2828" y="5"/>
                      <a:pt x="2827" y="5"/>
                    </a:cubicBezTo>
                    <a:lnTo>
                      <a:pt x="2827" y="5"/>
                    </a:lnTo>
                    <a:cubicBezTo>
                      <a:pt x="2826" y="5"/>
                      <a:pt x="2825" y="4"/>
                      <a:pt x="2825" y="3"/>
                    </a:cubicBezTo>
                    <a:cubicBezTo>
                      <a:pt x="2825" y="2"/>
                      <a:pt x="2826" y="1"/>
                      <a:pt x="2827" y="1"/>
                    </a:cubicBezTo>
                    <a:close/>
                    <a:moveTo>
                      <a:pt x="2835" y="1"/>
                    </a:moveTo>
                    <a:lnTo>
                      <a:pt x="2835" y="1"/>
                    </a:lnTo>
                    <a:cubicBezTo>
                      <a:pt x="2836" y="1"/>
                      <a:pt x="2837" y="2"/>
                      <a:pt x="2837" y="3"/>
                    </a:cubicBezTo>
                    <a:cubicBezTo>
                      <a:pt x="2837" y="4"/>
                      <a:pt x="2836" y="5"/>
                      <a:pt x="2835" y="5"/>
                    </a:cubicBezTo>
                    <a:lnTo>
                      <a:pt x="2835" y="5"/>
                    </a:lnTo>
                    <a:cubicBezTo>
                      <a:pt x="2834" y="5"/>
                      <a:pt x="2833" y="4"/>
                      <a:pt x="2833" y="3"/>
                    </a:cubicBezTo>
                    <a:cubicBezTo>
                      <a:pt x="2833" y="2"/>
                      <a:pt x="2834" y="1"/>
                      <a:pt x="2835" y="1"/>
                    </a:cubicBezTo>
                    <a:close/>
                    <a:moveTo>
                      <a:pt x="2843" y="1"/>
                    </a:moveTo>
                    <a:lnTo>
                      <a:pt x="2843" y="1"/>
                    </a:lnTo>
                    <a:cubicBezTo>
                      <a:pt x="2844" y="1"/>
                      <a:pt x="2845" y="2"/>
                      <a:pt x="2845" y="3"/>
                    </a:cubicBezTo>
                    <a:cubicBezTo>
                      <a:pt x="2845" y="4"/>
                      <a:pt x="2844" y="5"/>
                      <a:pt x="2843" y="5"/>
                    </a:cubicBezTo>
                    <a:lnTo>
                      <a:pt x="2843" y="5"/>
                    </a:lnTo>
                    <a:cubicBezTo>
                      <a:pt x="2842" y="5"/>
                      <a:pt x="2841" y="4"/>
                      <a:pt x="2841" y="3"/>
                    </a:cubicBezTo>
                    <a:cubicBezTo>
                      <a:pt x="2841" y="2"/>
                      <a:pt x="2842" y="1"/>
                      <a:pt x="2843" y="1"/>
                    </a:cubicBezTo>
                    <a:close/>
                    <a:moveTo>
                      <a:pt x="2851" y="1"/>
                    </a:moveTo>
                    <a:lnTo>
                      <a:pt x="2851" y="1"/>
                    </a:lnTo>
                    <a:cubicBezTo>
                      <a:pt x="2852" y="1"/>
                      <a:pt x="2853" y="2"/>
                      <a:pt x="2853" y="3"/>
                    </a:cubicBezTo>
                    <a:cubicBezTo>
                      <a:pt x="2853" y="4"/>
                      <a:pt x="2852" y="5"/>
                      <a:pt x="2851" y="5"/>
                    </a:cubicBezTo>
                    <a:lnTo>
                      <a:pt x="2851" y="5"/>
                    </a:lnTo>
                    <a:cubicBezTo>
                      <a:pt x="2850" y="5"/>
                      <a:pt x="2849" y="4"/>
                      <a:pt x="2849" y="3"/>
                    </a:cubicBezTo>
                    <a:cubicBezTo>
                      <a:pt x="2849" y="2"/>
                      <a:pt x="2850" y="1"/>
                      <a:pt x="2851" y="1"/>
                    </a:cubicBezTo>
                    <a:close/>
                    <a:moveTo>
                      <a:pt x="2859" y="1"/>
                    </a:moveTo>
                    <a:lnTo>
                      <a:pt x="2859" y="1"/>
                    </a:lnTo>
                    <a:cubicBezTo>
                      <a:pt x="2860" y="1"/>
                      <a:pt x="2861" y="2"/>
                      <a:pt x="2861" y="3"/>
                    </a:cubicBezTo>
                    <a:cubicBezTo>
                      <a:pt x="2861" y="4"/>
                      <a:pt x="2860" y="5"/>
                      <a:pt x="2859" y="5"/>
                    </a:cubicBezTo>
                    <a:lnTo>
                      <a:pt x="2859" y="5"/>
                    </a:lnTo>
                    <a:cubicBezTo>
                      <a:pt x="2858" y="5"/>
                      <a:pt x="2857" y="4"/>
                      <a:pt x="2857" y="3"/>
                    </a:cubicBezTo>
                    <a:cubicBezTo>
                      <a:pt x="2857" y="2"/>
                      <a:pt x="2858" y="1"/>
                      <a:pt x="2859" y="1"/>
                    </a:cubicBezTo>
                    <a:close/>
                    <a:moveTo>
                      <a:pt x="2867" y="1"/>
                    </a:moveTo>
                    <a:lnTo>
                      <a:pt x="2867" y="1"/>
                    </a:lnTo>
                    <a:cubicBezTo>
                      <a:pt x="2868" y="1"/>
                      <a:pt x="2869" y="2"/>
                      <a:pt x="2869" y="3"/>
                    </a:cubicBezTo>
                    <a:cubicBezTo>
                      <a:pt x="2869" y="4"/>
                      <a:pt x="2868" y="5"/>
                      <a:pt x="2867" y="5"/>
                    </a:cubicBezTo>
                    <a:lnTo>
                      <a:pt x="2867" y="5"/>
                    </a:lnTo>
                    <a:cubicBezTo>
                      <a:pt x="2866" y="5"/>
                      <a:pt x="2865" y="4"/>
                      <a:pt x="2865" y="3"/>
                    </a:cubicBezTo>
                    <a:cubicBezTo>
                      <a:pt x="2865" y="2"/>
                      <a:pt x="2866" y="1"/>
                      <a:pt x="2867" y="1"/>
                    </a:cubicBezTo>
                    <a:close/>
                    <a:moveTo>
                      <a:pt x="2875" y="1"/>
                    </a:moveTo>
                    <a:lnTo>
                      <a:pt x="2875" y="1"/>
                    </a:lnTo>
                    <a:cubicBezTo>
                      <a:pt x="2876" y="1"/>
                      <a:pt x="2877" y="2"/>
                      <a:pt x="2877" y="3"/>
                    </a:cubicBezTo>
                    <a:cubicBezTo>
                      <a:pt x="2877" y="4"/>
                      <a:pt x="2876" y="5"/>
                      <a:pt x="2875" y="5"/>
                    </a:cubicBezTo>
                    <a:lnTo>
                      <a:pt x="2875" y="5"/>
                    </a:lnTo>
                    <a:cubicBezTo>
                      <a:pt x="2874" y="5"/>
                      <a:pt x="2873" y="4"/>
                      <a:pt x="2873" y="3"/>
                    </a:cubicBezTo>
                    <a:cubicBezTo>
                      <a:pt x="2873" y="2"/>
                      <a:pt x="2874" y="1"/>
                      <a:pt x="2875" y="1"/>
                    </a:cubicBezTo>
                    <a:close/>
                    <a:moveTo>
                      <a:pt x="2883" y="1"/>
                    </a:moveTo>
                    <a:lnTo>
                      <a:pt x="2883" y="1"/>
                    </a:lnTo>
                    <a:cubicBezTo>
                      <a:pt x="2884" y="1"/>
                      <a:pt x="2885" y="2"/>
                      <a:pt x="2885" y="3"/>
                    </a:cubicBezTo>
                    <a:cubicBezTo>
                      <a:pt x="2885" y="4"/>
                      <a:pt x="2884" y="5"/>
                      <a:pt x="2883" y="5"/>
                    </a:cubicBezTo>
                    <a:lnTo>
                      <a:pt x="2883" y="5"/>
                    </a:lnTo>
                    <a:cubicBezTo>
                      <a:pt x="2882" y="5"/>
                      <a:pt x="2881" y="4"/>
                      <a:pt x="2881" y="3"/>
                    </a:cubicBezTo>
                    <a:cubicBezTo>
                      <a:pt x="2881" y="2"/>
                      <a:pt x="2882" y="1"/>
                      <a:pt x="2883" y="1"/>
                    </a:cubicBezTo>
                    <a:close/>
                    <a:moveTo>
                      <a:pt x="2891" y="1"/>
                    </a:moveTo>
                    <a:lnTo>
                      <a:pt x="2891" y="1"/>
                    </a:lnTo>
                    <a:cubicBezTo>
                      <a:pt x="2892" y="1"/>
                      <a:pt x="2893" y="2"/>
                      <a:pt x="2893" y="3"/>
                    </a:cubicBezTo>
                    <a:cubicBezTo>
                      <a:pt x="2893" y="4"/>
                      <a:pt x="2892" y="5"/>
                      <a:pt x="2891" y="5"/>
                    </a:cubicBezTo>
                    <a:lnTo>
                      <a:pt x="2891" y="5"/>
                    </a:lnTo>
                    <a:cubicBezTo>
                      <a:pt x="2890" y="5"/>
                      <a:pt x="2889" y="4"/>
                      <a:pt x="2889" y="3"/>
                    </a:cubicBezTo>
                    <a:cubicBezTo>
                      <a:pt x="2889" y="2"/>
                      <a:pt x="2890" y="1"/>
                      <a:pt x="2891" y="1"/>
                    </a:cubicBezTo>
                    <a:close/>
                    <a:moveTo>
                      <a:pt x="2899" y="1"/>
                    </a:moveTo>
                    <a:lnTo>
                      <a:pt x="2899" y="1"/>
                    </a:lnTo>
                    <a:cubicBezTo>
                      <a:pt x="2900" y="1"/>
                      <a:pt x="2901" y="2"/>
                      <a:pt x="2901" y="3"/>
                    </a:cubicBezTo>
                    <a:cubicBezTo>
                      <a:pt x="2901" y="4"/>
                      <a:pt x="2900" y="5"/>
                      <a:pt x="2899" y="5"/>
                    </a:cubicBezTo>
                    <a:lnTo>
                      <a:pt x="2899" y="5"/>
                    </a:lnTo>
                    <a:cubicBezTo>
                      <a:pt x="2898" y="5"/>
                      <a:pt x="2897" y="4"/>
                      <a:pt x="2897" y="3"/>
                    </a:cubicBezTo>
                    <a:cubicBezTo>
                      <a:pt x="2897" y="2"/>
                      <a:pt x="2898" y="1"/>
                      <a:pt x="2899" y="1"/>
                    </a:cubicBezTo>
                    <a:close/>
                    <a:moveTo>
                      <a:pt x="2907" y="1"/>
                    </a:moveTo>
                    <a:lnTo>
                      <a:pt x="2907" y="1"/>
                    </a:lnTo>
                    <a:cubicBezTo>
                      <a:pt x="2908" y="1"/>
                      <a:pt x="2909" y="2"/>
                      <a:pt x="2909" y="3"/>
                    </a:cubicBezTo>
                    <a:cubicBezTo>
                      <a:pt x="2909" y="4"/>
                      <a:pt x="2908" y="5"/>
                      <a:pt x="2907" y="5"/>
                    </a:cubicBezTo>
                    <a:lnTo>
                      <a:pt x="2907" y="5"/>
                    </a:lnTo>
                    <a:cubicBezTo>
                      <a:pt x="2906" y="5"/>
                      <a:pt x="2905" y="4"/>
                      <a:pt x="2905" y="3"/>
                    </a:cubicBezTo>
                    <a:cubicBezTo>
                      <a:pt x="2905" y="2"/>
                      <a:pt x="2906" y="1"/>
                      <a:pt x="2907" y="1"/>
                    </a:cubicBezTo>
                    <a:close/>
                    <a:moveTo>
                      <a:pt x="2915" y="1"/>
                    </a:moveTo>
                    <a:lnTo>
                      <a:pt x="2915" y="1"/>
                    </a:lnTo>
                    <a:cubicBezTo>
                      <a:pt x="2916" y="1"/>
                      <a:pt x="2917" y="2"/>
                      <a:pt x="2917" y="3"/>
                    </a:cubicBezTo>
                    <a:cubicBezTo>
                      <a:pt x="2917" y="4"/>
                      <a:pt x="2916" y="5"/>
                      <a:pt x="2915" y="5"/>
                    </a:cubicBezTo>
                    <a:lnTo>
                      <a:pt x="2915" y="5"/>
                    </a:lnTo>
                    <a:cubicBezTo>
                      <a:pt x="2914" y="5"/>
                      <a:pt x="2913" y="4"/>
                      <a:pt x="2913" y="3"/>
                    </a:cubicBezTo>
                    <a:cubicBezTo>
                      <a:pt x="2913" y="2"/>
                      <a:pt x="2914" y="1"/>
                      <a:pt x="2915" y="1"/>
                    </a:cubicBezTo>
                    <a:close/>
                    <a:moveTo>
                      <a:pt x="2923" y="1"/>
                    </a:moveTo>
                    <a:lnTo>
                      <a:pt x="2923" y="1"/>
                    </a:lnTo>
                    <a:cubicBezTo>
                      <a:pt x="2924" y="1"/>
                      <a:pt x="2925" y="2"/>
                      <a:pt x="2925" y="3"/>
                    </a:cubicBezTo>
                    <a:cubicBezTo>
                      <a:pt x="2925" y="4"/>
                      <a:pt x="2924" y="5"/>
                      <a:pt x="2923" y="5"/>
                    </a:cubicBezTo>
                    <a:lnTo>
                      <a:pt x="2923" y="5"/>
                    </a:lnTo>
                    <a:cubicBezTo>
                      <a:pt x="2922" y="5"/>
                      <a:pt x="2921" y="4"/>
                      <a:pt x="2921" y="3"/>
                    </a:cubicBezTo>
                    <a:cubicBezTo>
                      <a:pt x="2921" y="2"/>
                      <a:pt x="2922" y="1"/>
                      <a:pt x="2923" y="1"/>
                    </a:cubicBezTo>
                    <a:close/>
                    <a:moveTo>
                      <a:pt x="2931" y="1"/>
                    </a:moveTo>
                    <a:lnTo>
                      <a:pt x="2931" y="1"/>
                    </a:lnTo>
                    <a:cubicBezTo>
                      <a:pt x="2932" y="1"/>
                      <a:pt x="2933" y="2"/>
                      <a:pt x="2933" y="3"/>
                    </a:cubicBezTo>
                    <a:cubicBezTo>
                      <a:pt x="2933" y="4"/>
                      <a:pt x="2932" y="5"/>
                      <a:pt x="2931" y="5"/>
                    </a:cubicBezTo>
                    <a:lnTo>
                      <a:pt x="2931" y="5"/>
                    </a:lnTo>
                    <a:cubicBezTo>
                      <a:pt x="2930" y="5"/>
                      <a:pt x="2929" y="4"/>
                      <a:pt x="2929" y="3"/>
                    </a:cubicBezTo>
                    <a:cubicBezTo>
                      <a:pt x="2929" y="2"/>
                      <a:pt x="2930" y="1"/>
                      <a:pt x="2931" y="1"/>
                    </a:cubicBezTo>
                    <a:close/>
                    <a:moveTo>
                      <a:pt x="2939" y="1"/>
                    </a:moveTo>
                    <a:lnTo>
                      <a:pt x="2939" y="1"/>
                    </a:lnTo>
                    <a:cubicBezTo>
                      <a:pt x="2940" y="1"/>
                      <a:pt x="2941" y="2"/>
                      <a:pt x="2941" y="3"/>
                    </a:cubicBezTo>
                    <a:cubicBezTo>
                      <a:pt x="2941" y="4"/>
                      <a:pt x="2940" y="5"/>
                      <a:pt x="2939" y="5"/>
                    </a:cubicBezTo>
                    <a:lnTo>
                      <a:pt x="2939" y="5"/>
                    </a:lnTo>
                    <a:cubicBezTo>
                      <a:pt x="2938" y="5"/>
                      <a:pt x="2937" y="4"/>
                      <a:pt x="2937" y="3"/>
                    </a:cubicBezTo>
                    <a:cubicBezTo>
                      <a:pt x="2937" y="2"/>
                      <a:pt x="2938" y="1"/>
                      <a:pt x="2939" y="1"/>
                    </a:cubicBezTo>
                    <a:close/>
                    <a:moveTo>
                      <a:pt x="2947" y="1"/>
                    </a:moveTo>
                    <a:lnTo>
                      <a:pt x="2947" y="1"/>
                    </a:lnTo>
                    <a:cubicBezTo>
                      <a:pt x="2948" y="1"/>
                      <a:pt x="2949" y="2"/>
                      <a:pt x="2949" y="3"/>
                    </a:cubicBezTo>
                    <a:cubicBezTo>
                      <a:pt x="2949" y="4"/>
                      <a:pt x="2948" y="5"/>
                      <a:pt x="2947" y="5"/>
                    </a:cubicBezTo>
                    <a:lnTo>
                      <a:pt x="2947" y="5"/>
                    </a:lnTo>
                    <a:cubicBezTo>
                      <a:pt x="2946" y="5"/>
                      <a:pt x="2945" y="4"/>
                      <a:pt x="2945" y="3"/>
                    </a:cubicBezTo>
                    <a:cubicBezTo>
                      <a:pt x="2945" y="2"/>
                      <a:pt x="2946" y="1"/>
                      <a:pt x="2947" y="1"/>
                    </a:cubicBezTo>
                    <a:close/>
                    <a:moveTo>
                      <a:pt x="2955" y="1"/>
                    </a:moveTo>
                    <a:lnTo>
                      <a:pt x="2955" y="1"/>
                    </a:lnTo>
                    <a:cubicBezTo>
                      <a:pt x="2956" y="1"/>
                      <a:pt x="2957" y="2"/>
                      <a:pt x="2957" y="3"/>
                    </a:cubicBezTo>
                    <a:cubicBezTo>
                      <a:pt x="2957" y="4"/>
                      <a:pt x="2956" y="5"/>
                      <a:pt x="2955" y="5"/>
                    </a:cubicBezTo>
                    <a:lnTo>
                      <a:pt x="2955" y="5"/>
                    </a:lnTo>
                    <a:cubicBezTo>
                      <a:pt x="2954" y="5"/>
                      <a:pt x="2953" y="4"/>
                      <a:pt x="2953" y="3"/>
                    </a:cubicBezTo>
                    <a:cubicBezTo>
                      <a:pt x="2953" y="2"/>
                      <a:pt x="2954" y="1"/>
                      <a:pt x="2955" y="1"/>
                    </a:cubicBezTo>
                    <a:close/>
                    <a:moveTo>
                      <a:pt x="2963" y="1"/>
                    </a:moveTo>
                    <a:lnTo>
                      <a:pt x="2963" y="1"/>
                    </a:lnTo>
                    <a:cubicBezTo>
                      <a:pt x="2964" y="1"/>
                      <a:pt x="2965" y="2"/>
                      <a:pt x="2965" y="3"/>
                    </a:cubicBezTo>
                    <a:cubicBezTo>
                      <a:pt x="2965" y="4"/>
                      <a:pt x="2964" y="5"/>
                      <a:pt x="2963" y="5"/>
                    </a:cubicBezTo>
                    <a:lnTo>
                      <a:pt x="2963" y="5"/>
                    </a:lnTo>
                    <a:cubicBezTo>
                      <a:pt x="2962" y="5"/>
                      <a:pt x="2961" y="4"/>
                      <a:pt x="2961" y="3"/>
                    </a:cubicBezTo>
                    <a:cubicBezTo>
                      <a:pt x="2961" y="2"/>
                      <a:pt x="2962" y="1"/>
                      <a:pt x="2963" y="1"/>
                    </a:cubicBezTo>
                    <a:close/>
                    <a:moveTo>
                      <a:pt x="2971" y="1"/>
                    </a:moveTo>
                    <a:lnTo>
                      <a:pt x="2971" y="1"/>
                    </a:lnTo>
                    <a:cubicBezTo>
                      <a:pt x="2972" y="1"/>
                      <a:pt x="2973" y="2"/>
                      <a:pt x="2973" y="3"/>
                    </a:cubicBezTo>
                    <a:cubicBezTo>
                      <a:pt x="2973" y="4"/>
                      <a:pt x="2972" y="5"/>
                      <a:pt x="2971" y="5"/>
                    </a:cubicBezTo>
                    <a:lnTo>
                      <a:pt x="2971" y="5"/>
                    </a:lnTo>
                    <a:cubicBezTo>
                      <a:pt x="2970" y="5"/>
                      <a:pt x="2969" y="4"/>
                      <a:pt x="2969" y="3"/>
                    </a:cubicBezTo>
                    <a:cubicBezTo>
                      <a:pt x="2969" y="2"/>
                      <a:pt x="2970" y="1"/>
                      <a:pt x="2971" y="1"/>
                    </a:cubicBezTo>
                    <a:close/>
                    <a:moveTo>
                      <a:pt x="2979" y="1"/>
                    </a:moveTo>
                    <a:lnTo>
                      <a:pt x="2979" y="1"/>
                    </a:lnTo>
                    <a:cubicBezTo>
                      <a:pt x="2980" y="1"/>
                      <a:pt x="2981" y="2"/>
                      <a:pt x="2981" y="3"/>
                    </a:cubicBezTo>
                    <a:cubicBezTo>
                      <a:pt x="2981" y="4"/>
                      <a:pt x="2980" y="5"/>
                      <a:pt x="2979" y="5"/>
                    </a:cubicBezTo>
                    <a:lnTo>
                      <a:pt x="2979" y="5"/>
                    </a:lnTo>
                    <a:cubicBezTo>
                      <a:pt x="2978" y="5"/>
                      <a:pt x="2977" y="4"/>
                      <a:pt x="2977" y="3"/>
                    </a:cubicBezTo>
                    <a:cubicBezTo>
                      <a:pt x="2977" y="2"/>
                      <a:pt x="2978" y="1"/>
                      <a:pt x="2979" y="1"/>
                    </a:cubicBezTo>
                    <a:close/>
                    <a:moveTo>
                      <a:pt x="2987" y="1"/>
                    </a:moveTo>
                    <a:lnTo>
                      <a:pt x="2987" y="1"/>
                    </a:lnTo>
                    <a:cubicBezTo>
                      <a:pt x="2988" y="1"/>
                      <a:pt x="2989" y="2"/>
                      <a:pt x="2989" y="3"/>
                    </a:cubicBezTo>
                    <a:cubicBezTo>
                      <a:pt x="2989" y="4"/>
                      <a:pt x="2988" y="5"/>
                      <a:pt x="2987" y="5"/>
                    </a:cubicBezTo>
                    <a:lnTo>
                      <a:pt x="2987" y="5"/>
                    </a:lnTo>
                    <a:cubicBezTo>
                      <a:pt x="2986" y="5"/>
                      <a:pt x="2985" y="4"/>
                      <a:pt x="2985" y="3"/>
                    </a:cubicBezTo>
                    <a:cubicBezTo>
                      <a:pt x="2985" y="2"/>
                      <a:pt x="2986" y="1"/>
                      <a:pt x="2987" y="1"/>
                    </a:cubicBezTo>
                    <a:close/>
                    <a:moveTo>
                      <a:pt x="2995" y="1"/>
                    </a:moveTo>
                    <a:lnTo>
                      <a:pt x="2995" y="1"/>
                    </a:lnTo>
                    <a:cubicBezTo>
                      <a:pt x="2996" y="1"/>
                      <a:pt x="2997" y="2"/>
                      <a:pt x="2997" y="3"/>
                    </a:cubicBezTo>
                    <a:cubicBezTo>
                      <a:pt x="2997" y="4"/>
                      <a:pt x="2996" y="5"/>
                      <a:pt x="2995" y="5"/>
                    </a:cubicBezTo>
                    <a:lnTo>
                      <a:pt x="2995" y="5"/>
                    </a:lnTo>
                    <a:cubicBezTo>
                      <a:pt x="2994" y="5"/>
                      <a:pt x="2993" y="4"/>
                      <a:pt x="2993" y="3"/>
                    </a:cubicBezTo>
                    <a:cubicBezTo>
                      <a:pt x="2993" y="2"/>
                      <a:pt x="2994" y="1"/>
                      <a:pt x="2995" y="1"/>
                    </a:cubicBezTo>
                    <a:close/>
                    <a:moveTo>
                      <a:pt x="3003" y="1"/>
                    </a:moveTo>
                    <a:lnTo>
                      <a:pt x="3003" y="1"/>
                    </a:lnTo>
                    <a:cubicBezTo>
                      <a:pt x="3004" y="1"/>
                      <a:pt x="3005" y="2"/>
                      <a:pt x="3005" y="3"/>
                    </a:cubicBezTo>
                    <a:cubicBezTo>
                      <a:pt x="3005" y="4"/>
                      <a:pt x="3004" y="5"/>
                      <a:pt x="3003" y="5"/>
                    </a:cubicBezTo>
                    <a:lnTo>
                      <a:pt x="3003" y="5"/>
                    </a:lnTo>
                    <a:cubicBezTo>
                      <a:pt x="3002" y="5"/>
                      <a:pt x="3001" y="4"/>
                      <a:pt x="3001" y="3"/>
                    </a:cubicBezTo>
                    <a:cubicBezTo>
                      <a:pt x="3001" y="2"/>
                      <a:pt x="3002" y="1"/>
                      <a:pt x="3003" y="1"/>
                    </a:cubicBezTo>
                    <a:close/>
                    <a:moveTo>
                      <a:pt x="3011" y="1"/>
                    </a:moveTo>
                    <a:lnTo>
                      <a:pt x="3011" y="1"/>
                    </a:lnTo>
                    <a:cubicBezTo>
                      <a:pt x="3012" y="1"/>
                      <a:pt x="3013" y="2"/>
                      <a:pt x="3013" y="3"/>
                    </a:cubicBezTo>
                    <a:cubicBezTo>
                      <a:pt x="3013" y="4"/>
                      <a:pt x="3012" y="5"/>
                      <a:pt x="3011" y="5"/>
                    </a:cubicBezTo>
                    <a:lnTo>
                      <a:pt x="3011" y="5"/>
                    </a:lnTo>
                    <a:cubicBezTo>
                      <a:pt x="3010" y="5"/>
                      <a:pt x="3009" y="4"/>
                      <a:pt x="3009" y="3"/>
                    </a:cubicBezTo>
                    <a:cubicBezTo>
                      <a:pt x="3009" y="2"/>
                      <a:pt x="3010" y="1"/>
                      <a:pt x="3011" y="1"/>
                    </a:cubicBezTo>
                    <a:close/>
                    <a:moveTo>
                      <a:pt x="3019" y="1"/>
                    </a:moveTo>
                    <a:lnTo>
                      <a:pt x="3019" y="1"/>
                    </a:lnTo>
                    <a:cubicBezTo>
                      <a:pt x="3020" y="1"/>
                      <a:pt x="3021" y="2"/>
                      <a:pt x="3021" y="3"/>
                    </a:cubicBezTo>
                    <a:cubicBezTo>
                      <a:pt x="3021" y="4"/>
                      <a:pt x="3020" y="5"/>
                      <a:pt x="3019" y="5"/>
                    </a:cubicBezTo>
                    <a:lnTo>
                      <a:pt x="3019" y="5"/>
                    </a:lnTo>
                    <a:cubicBezTo>
                      <a:pt x="3018" y="5"/>
                      <a:pt x="3017" y="4"/>
                      <a:pt x="3017" y="3"/>
                    </a:cubicBezTo>
                    <a:cubicBezTo>
                      <a:pt x="3017" y="2"/>
                      <a:pt x="3018" y="1"/>
                      <a:pt x="3019" y="1"/>
                    </a:cubicBezTo>
                    <a:close/>
                    <a:moveTo>
                      <a:pt x="3027" y="1"/>
                    </a:moveTo>
                    <a:lnTo>
                      <a:pt x="3027" y="1"/>
                    </a:lnTo>
                    <a:cubicBezTo>
                      <a:pt x="3028" y="1"/>
                      <a:pt x="3029" y="2"/>
                      <a:pt x="3029" y="3"/>
                    </a:cubicBezTo>
                    <a:cubicBezTo>
                      <a:pt x="3029" y="4"/>
                      <a:pt x="3028" y="5"/>
                      <a:pt x="3027" y="5"/>
                    </a:cubicBezTo>
                    <a:lnTo>
                      <a:pt x="3027" y="5"/>
                    </a:lnTo>
                    <a:cubicBezTo>
                      <a:pt x="3026" y="5"/>
                      <a:pt x="3025" y="4"/>
                      <a:pt x="3025" y="3"/>
                    </a:cubicBezTo>
                    <a:cubicBezTo>
                      <a:pt x="3025" y="2"/>
                      <a:pt x="3026" y="1"/>
                      <a:pt x="3027" y="1"/>
                    </a:cubicBezTo>
                    <a:close/>
                    <a:moveTo>
                      <a:pt x="3035" y="1"/>
                    </a:moveTo>
                    <a:lnTo>
                      <a:pt x="3035" y="1"/>
                    </a:lnTo>
                    <a:cubicBezTo>
                      <a:pt x="3036" y="1"/>
                      <a:pt x="3037" y="2"/>
                      <a:pt x="3037" y="3"/>
                    </a:cubicBezTo>
                    <a:cubicBezTo>
                      <a:pt x="3037" y="4"/>
                      <a:pt x="3036" y="5"/>
                      <a:pt x="3035" y="5"/>
                    </a:cubicBezTo>
                    <a:lnTo>
                      <a:pt x="3035" y="5"/>
                    </a:lnTo>
                    <a:cubicBezTo>
                      <a:pt x="3034" y="5"/>
                      <a:pt x="3033" y="4"/>
                      <a:pt x="3033" y="3"/>
                    </a:cubicBezTo>
                    <a:cubicBezTo>
                      <a:pt x="3033" y="2"/>
                      <a:pt x="3034" y="1"/>
                      <a:pt x="3035" y="1"/>
                    </a:cubicBezTo>
                    <a:close/>
                    <a:moveTo>
                      <a:pt x="3043" y="1"/>
                    </a:moveTo>
                    <a:lnTo>
                      <a:pt x="3043" y="1"/>
                    </a:lnTo>
                    <a:cubicBezTo>
                      <a:pt x="3044" y="1"/>
                      <a:pt x="3045" y="2"/>
                      <a:pt x="3045" y="3"/>
                    </a:cubicBezTo>
                    <a:cubicBezTo>
                      <a:pt x="3045" y="4"/>
                      <a:pt x="3044" y="5"/>
                      <a:pt x="3043" y="5"/>
                    </a:cubicBezTo>
                    <a:lnTo>
                      <a:pt x="3043" y="5"/>
                    </a:lnTo>
                    <a:cubicBezTo>
                      <a:pt x="3042" y="5"/>
                      <a:pt x="3041" y="4"/>
                      <a:pt x="3041" y="3"/>
                    </a:cubicBezTo>
                    <a:cubicBezTo>
                      <a:pt x="3041" y="2"/>
                      <a:pt x="3042" y="1"/>
                      <a:pt x="3043" y="1"/>
                    </a:cubicBezTo>
                    <a:close/>
                    <a:moveTo>
                      <a:pt x="3051" y="1"/>
                    </a:moveTo>
                    <a:lnTo>
                      <a:pt x="3051" y="1"/>
                    </a:lnTo>
                    <a:cubicBezTo>
                      <a:pt x="3052" y="1"/>
                      <a:pt x="3053" y="2"/>
                      <a:pt x="3053" y="3"/>
                    </a:cubicBezTo>
                    <a:cubicBezTo>
                      <a:pt x="3053" y="4"/>
                      <a:pt x="3052" y="5"/>
                      <a:pt x="3051" y="5"/>
                    </a:cubicBezTo>
                    <a:lnTo>
                      <a:pt x="3051" y="5"/>
                    </a:lnTo>
                    <a:cubicBezTo>
                      <a:pt x="3050" y="5"/>
                      <a:pt x="3049" y="4"/>
                      <a:pt x="3049" y="3"/>
                    </a:cubicBezTo>
                    <a:cubicBezTo>
                      <a:pt x="3049" y="2"/>
                      <a:pt x="3050" y="1"/>
                      <a:pt x="3051" y="1"/>
                    </a:cubicBezTo>
                    <a:close/>
                    <a:moveTo>
                      <a:pt x="3059" y="1"/>
                    </a:moveTo>
                    <a:lnTo>
                      <a:pt x="3059" y="1"/>
                    </a:lnTo>
                    <a:cubicBezTo>
                      <a:pt x="3060" y="1"/>
                      <a:pt x="3061" y="2"/>
                      <a:pt x="3061" y="3"/>
                    </a:cubicBezTo>
                    <a:cubicBezTo>
                      <a:pt x="3061" y="4"/>
                      <a:pt x="3060" y="5"/>
                      <a:pt x="3059" y="5"/>
                    </a:cubicBezTo>
                    <a:lnTo>
                      <a:pt x="3059" y="5"/>
                    </a:lnTo>
                    <a:cubicBezTo>
                      <a:pt x="3058" y="5"/>
                      <a:pt x="3057" y="4"/>
                      <a:pt x="3057" y="3"/>
                    </a:cubicBezTo>
                    <a:cubicBezTo>
                      <a:pt x="3057" y="2"/>
                      <a:pt x="3058" y="1"/>
                      <a:pt x="3059" y="1"/>
                    </a:cubicBezTo>
                    <a:close/>
                    <a:moveTo>
                      <a:pt x="3067" y="1"/>
                    </a:moveTo>
                    <a:lnTo>
                      <a:pt x="3067" y="1"/>
                    </a:lnTo>
                    <a:cubicBezTo>
                      <a:pt x="3068" y="1"/>
                      <a:pt x="3069" y="2"/>
                      <a:pt x="3069" y="3"/>
                    </a:cubicBezTo>
                    <a:cubicBezTo>
                      <a:pt x="3069" y="4"/>
                      <a:pt x="3068" y="5"/>
                      <a:pt x="3067" y="5"/>
                    </a:cubicBezTo>
                    <a:lnTo>
                      <a:pt x="3067" y="5"/>
                    </a:lnTo>
                    <a:cubicBezTo>
                      <a:pt x="3066" y="5"/>
                      <a:pt x="3065" y="4"/>
                      <a:pt x="3065" y="3"/>
                    </a:cubicBezTo>
                    <a:cubicBezTo>
                      <a:pt x="3065" y="2"/>
                      <a:pt x="3066" y="1"/>
                      <a:pt x="3067" y="1"/>
                    </a:cubicBezTo>
                    <a:close/>
                    <a:moveTo>
                      <a:pt x="3075" y="1"/>
                    </a:moveTo>
                    <a:lnTo>
                      <a:pt x="3075" y="1"/>
                    </a:lnTo>
                    <a:cubicBezTo>
                      <a:pt x="3076" y="1"/>
                      <a:pt x="3077" y="2"/>
                      <a:pt x="3077" y="3"/>
                    </a:cubicBezTo>
                    <a:cubicBezTo>
                      <a:pt x="3077" y="4"/>
                      <a:pt x="3076" y="5"/>
                      <a:pt x="3075" y="5"/>
                    </a:cubicBezTo>
                    <a:lnTo>
                      <a:pt x="3075" y="5"/>
                    </a:lnTo>
                    <a:cubicBezTo>
                      <a:pt x="3074" y="5"/>
                      <a:pt x="3073" y="4"/>
                      <a:pt x="3073" y="3"/>
                    </a:cubicBezTo>
                    <a:cubicBezTo>
                      <a:pt x="3073" y="2"/>
                      <a:pt x="3074" y="1"/>
                      <a:pt x="3075" y="1"/>
                    </a:cubicBezTo>
                    <a:close/>
                    <a:moveTo>
                      <a:pt x="3083" y="1"/>
                    </a:moveTo>
                    <a:lnTo>
                      <a:pt x="3083" y="1"/>
                    </a:lnTo>
                    <a:cubicBezTo>
                      <a:pt x="3084" y="1"/>
                      <a:pt x="3085" y="2"/>
                      <a:pt x="3085" y="3"/>
                    </a:cubicBezTo>
                    <a:cubicBezTo>
                      <a:pt x="3085" y="4"/>
                      <a:pt x="3084" y="5"/>
                      <a:pt x="3083" y="5"/>
                    </a:cubicBezTo>
                    <a:lnTo>
                      <a:pt x="3083" y="5"/>
                    </a:lnTo>
                    <a:cubicBezTo>
                      <a:pt x="3082" y="5"/>
                      <a:pt x="3081" y="4"/>
                      <a:pt x="3081" y="3"/>
                    </a:cubicBezTo>
                    <a:cubicBezTo>
                      <a:pt x="3081" y="2"/>
                      <a:pt x="3082" y="1"/>
                      <a:pt x="3083" y="1"/>
                    </a:cubicBezTo>
                    <a:close/>
                    <a:moveTo>
                      <a:pt x="3091" y="1"/>
                    </a:moveTo>
                    <a:lnTo>
                      <a:pt x="3091" y="1"/>
                    </a:lnTo>
                    <a:cubicBezTo>
                      <a:pt x="3092" y="1"/>
                      <a:pt x="3093" y="2"/>
                      <a:pt x="3093" y="3"/>
                    </a:cubicBezTo>
                    <a:cubicBezTo>
                      <a:pt x="3093" y="4"/>
                      <a:pt x="3092" y="5"/>
                      <a:pt x="3091" y="5"/>
                    </a:cubicBezTo>
                    <a:lnTo>
                      <a:pt x="3091" y="5"/>
                    </a:lnTo>
                    <a:cubicBezTo>
                      <a:pt x="3090" y="5"/>
                      <a:pt x="3089" y="4"/>
                      <a:pt x="3089" y="3"/>
                    </a:cubicBezTo>
                    <a:cubicBezTo>
                      <a:pt x="3089" y="2"/>
                      <a:pt x="3090" y="1"/>
                      <a:pt x="3091" y="1"/>
                    </a:cubicBezTo>
                    <a:close/>
                    <a:moveTo>
                      <a:pt x="3099" y="1"/>
                    </a:moveTo>
                    <a:lnTo>
                      <a:pt x="3099" y="1"/>
                    </a:lnTo>
                    <a:cubicBezTo>
                      <a:pt x="3100" y="1"/>
                      <a:pt x="3101" y="2"/>
                      <a:pt x="3101" y="3"/>
                    </a:cubicBezTo>
                    <a:cubicBezTo>
                      <a:pt x="3101" y="4"/>
                      <a:pt x="3100" y="5"/>
                      <a:pt x="3099" y="5"/>
                    </a:cubicBezTo>
                    <a:lnTo>
                      <a:pt x="3099" y="5"/>
                    </a:lnTo>
                    <a:cubicBezTo>
                      <a:pt x="3098" y="5"/>
                      <a:pt x="3097" y="4"/>
                      <a:pt x="3097" y="3"/>
                    </a:cubicBezTo>
                    <a:cubicBezTo>
                      <a:pt x="3097" y="2"/>
                      <a:pt x="3098" y="1"/>
                      <a:pt x="3099" y="1"/>
                    </a:cubicBezTo>
                    <a:close/>
                    <a:moveTo>
                      <a:pt x="3107" y="1"/>
                    </a:moveTo>
                    <a:lnTo>
                      <a:pt x="3107" y="1"/>
                    </a:lnTo>
                    <a:cubicBezTo>
                      <a:pt x="3108" y="1"/>
                      <a:pt x="3109" y="2"/>
                      <a:pt x="3109" y="3"/>
                    </a:cubicBezTo>
                    <a:cubicBezTo>
                      <a:pt x="3109" y="4"/>
                      <a:pt x="3108" y="5"/>
                      <a:pt x="3107" y="5"/>
                    </a:cubicBezTo>
                    <a:lnTo>
                      <a:pt x="3107" y="5"/>
                    </a:lnTo>
                    <a:cubicBezTo>
                      <a:pt x="3106" y="5"/>
                      <a:pt x="3105" y="4"/>
                      <a:pt x="3105" y="3"/>
                    </a:cubicBezTo>
                    <a:cubicBezTo>
                      <a:pt x="3105" y="2"/>
                      <a:pt x="3106" y="1"/>
                      <a:pt x="3107" y="1"/>
                    </a:cubicBezTo>
                    <a:close/>
                    <a:moveTo>
                      <a:pt x="3115" y="1"/>
                    </a:moveTo>
                    <a:lnTo>
                      <a:pt x="3115" y="1"/>
                    </a:lnTo>
                    <a:cubicBezTo>
                      <a:pt x="3116" y="1"/>
                      <a:pt x="3117" y="2"/>
                      <a:pt x="3117" y="3"/>
                    </a:cubicBezTo>
                    <a:cubicBezTo>
                      <a:pt x="3117" y="4"/>
                      <a:pt x="3116" y="5"/>
                      <a:pt x="3115" y="5"/>
                    </a:cubicBezTo>
                    <a:lnTo>
                      <a:pt x="3115" y="5"/>
                    </a:lnTo>
                    <a:cubicBezTo>
                      <a:pt x="3114" y="5"/>
                      <a:pt x="3113" y="4"/>
                      <a:pt x="3113" y="3"/>
                    </a:cubicBezTo>
                    <a:cubicBezTo>
                      <a:pt x="3113" y="2"/>
                      <a:pt x="3114" y="1"/>
                      <a:pt x="3115" y="1"/>
                    </a:cubicBezTo>
                    <a:close/>
                    <a:moveTo>
                      <a:pt x="3123" y="1"/>
                    </a:moveTo>
                    <a:lnTo>
                      <a:pt x="3123" y="1"/>
                    </a:lnTo>
                    <a:cubicBezTo>
                      <a:pt x="3124" y="1"/>
                      <a:pt x="3125" y="2"/>
                      <a:pt x="3125" y="3"/>
                    </a:cubicBezTo>
                    <a:cubicBezTo>
                      <a:pt x="3125" y="4"/>
                      <a:pt x="3124" y="5"/>
                      <a:pt x="3123" y="5"/>
                    </a:cubicBezTo>
                    <a:lnTo>
                      <a:pt x="3123" y="5"/>
                    </a:lnTo>
                    <a:cubicBezTo>
                      <a:pt x="3122" y="5"/>
                      <a:pt x="3121" y="4"/>
                      <a:pt x="3121" y="3"/>
                    </a:cubicBezTo>
                    <a:cubicBezTo>
                      <a:pt x="3121" y="2"/>
                      <a:pt x="3122" y="1"/>
                      <a:pt x="3123" y="1"/>
                    </a:cubicBezTo>
                    <a:close/>
                    <a:moveTo>
                      <a:pt x="3131" y="1"/>
                    </a:moveTo>
                    <a:lnTo>
                      <a:pt x="3131" y="1"/>
                    </a:lnTo>
                    <a:cubicBezTo>
                      <a:pt x="3132" y="1"/>
                      <a:pt x="3133" y="2"/>
                      <a:pt x="3133" y="3"/>
                    </a:cubicBezTo>
                    <a:cubicBezTo>
                      <a:pt x="3133" y="4"/>
                      <a:pt x="3132" y="5"/>
                      <a:pt x="3131" y="5"/>
                    </a:cubicBezTo>
                    <a:lnTo>
                      <a:pt x="3131" y="5"/>
                    </a:lnTo>
                    <a:cubicBezTo>
                      <a:pt x="3130" y="5"/>
                      <a:pt x="3129" y="4"/>
                      <a:pt x="3129" y="3"/>
                    </a:cubicBezTo>
                    <a:cubicBezTo>
                      <a:pt x="3129" y="2"/>
                      <a:pt x="3130" y="1"/>
                      <a:pt x="3131" y="1"/>
                    </a:cubicBezTo>
                    <a:close/>
                    <a:moveTo>
                      <a:pt x="3139" y="1"/>
                    </a:moveTo>
                    <a:lnTo>
                      <a:pt x="3139" y="1"/>
                    </a:lnTo>
                    <a:cubicBezTo>
                      <a:pt x="3140" y="1"/>
                      <a:pt x="3141" y="2"/>
                      <a:pt x="3141" y="3"/>
                    </a:cubicBezTo>
                    <a:cubicBezTo>
                      <a:pt x="3141" y="4"/>
                      <a:pt x="3140" y="5"/>
                      <a:pt x="3139" y="5"/>
                    </a:cubicBezTo>
                    <a:lnTo>
                      <a:pt x="3139" y="5"/>
                    </a:lnTo>
                    <a:cubicBezTo>
                      <a:pt x="3138" y="5"/>
                      <a:pt x="3137" y="4"/>
                      <a:pt x="3137" y="3"/>
                    </a:cubicBezTo>
                    <a:cubicBezTo>
                      <a:pt x="3137" y="2"/>
                      <a:pt x="3138" y="1"/>
                      <a:pt x="3139" y="1"/>
                    </a:cubicBezTo>
                    <a:close/>
                    <a:moveTo>
                      <a:pt x="3147" y="1"/>
                    </a:moveTo>
                    <a:lnTo>
                      <a:pt x="3147" y="1"/>
                    </a:lnTo>
                    <a:cubicBezTo>
                      <a:pt x="3148" y="1"/>
                      <a:pt x="3149" y="2"/>
                      <a:pt x="3149" y="3"/>
                    </a:cubicBezTo>
                    <a:cubicBezTo>
                      <a:pt x="3149" y="4"/>
                      <a:pt x="3148" y="5"/>
                      <a:pt x="3147" y="5"/>
                    </a:cubicBezTo>
                    <a:lnTo>
                      <a:pt x="3147" y="5"/>
                    </a:lnTo>
                    <a:cubicBezTo>
                      <a:pt x="3146" y="5"/>
                      <a:pt x="3145" y="4"/>
                      <a:pt x="3145" y="3"/>
                    </a:cubicBezTo>
                    <a:cubicBezTo>
                      <a:pt x="3145" y="2"/>
                      <a:pt x="3146" y="1"/>
                      <a:pt x="3147" y="1"/>
                    </a:cubicBezTo>
                    <a:close/>
                    <a:moveTo>
                      <a:pt x="3155" y="1"/>
                    </a:moveTo>
                    <a:lnTo>
                      <a:pt x="3155" y="1"/>
                    </a:lnTo>
                    <a:cubicBezTo>
                      <a:pt x="3156" y="1"/>
                      <a:pt x="3157" y="2"/>
                      <a:pt x="3157" y="3"/>
                    </a:cubicBezTo>
                    <a:cubicBezTo>
                      <a:pt x="3157" y="4"/>
                      <a:pt x="3156" y="5"/>
                      <a:pt x="3155" y="5"/>
                    </a:cubicBezTo>
                    <a:lnTo>
                      <a:pt x="3155" y="5"/>
                    </a:lnTo>
                    <a:cubicBezTo>
                      <a:pt x="3154" y="5"/>
                      <a:pt x="3153" y="4"/>
                      <a:pt x="3153" y="3"/>
                    </a:cubicBezTo>
                    <a:cubicBezTo>
                      <a:pt x="3153" y="2"/>
                      <a:pt x="3154" y="1"/>
                      <a:pt x="3155" y="1"/>
                    </a:cubicBezTo>
                    <a:close/>
                    <a:moveTo>
                      <a:pt x="3163" y="1"/>
                    </a:moveTo>
                    <a:lnTo>
                      <a:pt x="3163" y="1"/>
                    </a:lnTo>
                    <a:cubicBezTo>
                      <a:pt x="3164" y="1"/>
                      <a:pt x="3165" y="2"/>
                      <a:pt x="3165" y="3"/>
                    </a:cubicBezTo>
                    <a:cubicBezTo>
                      <a:pt x="3165" y="4"/>
                      <a:pt x="3164" y="5"/>
                      <a:pt x="3163" y="5"/>
                    </a:cubicBezTo>
                    <a:lnTo>
                      <a:pt x="3163" y="5"/>
                    </a:lnTo>
                    <a:cubicBezTo>
                      <a:pt x="3162" y="5"/>
                      <a:pt x="3161" y="4"/>
                      <a:pt x="3161" y="3"/>
                    </a:cubicBezTo>
                    <a:cubicBezTo>
                      <a:pt x="3161" y="2"/>
                      <a:pt x="3162" y="1"/>
                      <a:pt x="3163" y="1"/>
                    </a:cubicBezTo>
                    <a:close/>
                    <a:moveTo>
                      <a:pt x="3171" y="1"/>
                    </a:moveTo>
                    <a:lnTo>
                      <a:pt x="3171" y="1"/>
                    </a:lnTo>
                    <a:cubicBezTo>
                      <a:pt x="3172" y="1"/>
                      <a:pt x="3173" y="2"/>
                      <a:pt x="3173" y="3"/>
                    </a:cubicBezTo>
                    <a:cubicBezTo>
                      <a:pt x="3173" y="4"/>
                      <a:pt x="3172" y="5"/>
                      <a:pt x="3171" y="5"/>
                    </a:cubicBezTo>
                    <a:lnTo>
                      <a:pt x="3171" y="5"/>
                    </a:lnTo>
                    <a:cubicBezTo>
                      <a:pt x="3170" y="5"/>
                      <a:pt x="3169" y="4"/>
                      <a:pt x="3169" y="3"/>
                    </a:cubicBezTo>
                    <a:cubicBezTo>
                      <a:pt x="3169" y="2"/>
                      <a:pt x="3170" y="1"/>
                      <a:pt x="3171" y="1"/>
                    </a:cubicBezTo>
                    <a:close/>
                    <a:moveTo>
                      <a:pt x="3179" y="1"/>
                    </a:moveTo>
                    <a:lnTo>
                      <a:pt x="3179" y="1"/>
                    </a:lnTo>
                    <a:cubicBezTo>
                      <a:pt x="3180" y="1"/>
                      <a:pt x="3181" y="2"/>
                      <a:pt x="3181" y="3"/>
                    </a:cubicBezTo>
                    <a:cubicBezTo>
                      <a:pt x="3181" y="4"/>
                      <a:pt x="3180" y="5"/>
                      <a:pt x="3179" y="5"/>
                    </a:cubicBezTo>
                    <a:lnTo>
                      <a:pt x="3179" y="5"/>
                    </a:lnTo>
                    <a:cubicBezTo>
                      <a:pt x="3178" y="5"/>
                      <a:pt x="3177" y="4"/>
                      <a:pt x="3177" y="3"/>
                    </a:cubicBezTo>
                    <a:cubicBezTo>
                      <a:pt x="3177" y="2"/>
                      <a:pt x="3178" y="1"/>
                      <a:pt x="3179" y="1"/>
                    </a:cubicBezTo>
                    <a:close/>
                    <a:moveTo>
                      <a:pt x="3187" y="1"/>
                    </a:moveTo>
                    <a:lnTo>
                      <a:pt x="3187" y="1"/>
                    </a:lnTo>
                    <a:cubicBezTo>
                      <a:pt x="3188" y="1"/>
                      <a:pt x="3189" y="2"/>
                      <a:pt x="3189" y="3"/>
                    </a:cubicBezTo>
                    <a:cubicBezTo>
                      <a:pt x="3189" y="4"/>
                      <a:pt x="3188" y="5"/>
                      <a:pt x="3187" y="5"/>
                    </a:cubicBezTo>
                    <a:lnTo>
                      <a:pt x="3187" y="5"/>
                    </a:lnTo>
                    <a:cubicBezTo>
                      <a:pt x="3186" y="5"/>
                      <a:pt x="3185" y="4"/>
                      <a:pt x="3185" y="3"/>
                    </a:cubicBezTo>
                    <a:cubicBezTo>
                      <a:pt x="3185" y="2"/>
                      <a:pt x="3186" y="1"/>
                      <a:pt x="3187" y="1"/>
                    </a:cubicBezTo>
                    <a:close/>
                    <a:moveTo>
                      <a:pt x="3195" y="1"/>
                    </a:moveTo>
                    <a:lnTo>
                      <a:pt x="3195" y="1"/>
                    </a:lnTo>
                    <a:cubicBezTo>
                      <a:pt x="3196" y="1"/>
                      <a:pt x="3197" y="2"/>
                      <a:pt x="3197" y="3"/>
                    </a:cubicBezTo>
                    <a:cubicBezTo>
                      <a:pt x="3197" y="4"/>
                      <a:pt x="3196" y="5"/>
                      <a:pt x="3195" y="5"/>
                    </a:cubicBezTo>
                    <a:lnTo>
                      <a:pt x="3195" y="5"/>
                    </a:lnTo>
                    <a:cubicBezTo>
                      <a:pt x="3194" y="5"/>
                      <a:pt x="3193" y="4"/>
                      <a:pt x="3193" y="3"/>
                    </a:cubicBezTo>
                    <a:cubicBezTo>
                      <a:pt x="3193" y="2"/>
                      <a:pt x="3194" y="1"/>
                      <a:pt x="3195" y="1"/>
                    </a:cubicBezTo>
                    <a:close/>
                    <a:moveTo>
                      <a:pt x="3203" y="1"/>
                    </a:moveTo>
                    <a:lnTo>
                      <a:pt x="3203" y="1"/>
                    </a:lnTo>
                    <a:cubicBezTo>
                      <a:pt x="3204" y="1"/>
                      <a:pt x="3205" y="2"/>
                      <a:pt x="3205" y="3"/>
                    </a:cubicBezTo>
                    <a:cubicBezTo>
                      <a:pt x="3205" y="4"/>
                      <a:pt x="3204" y="5"/>
                      <a:pt x="3203" y="5"/>
                    </a:cubicBezTo>
                    <a:lnTo>
                      <a:pt x="3203" y="5"/>
                    </a:lnTo>
                    <a:cubicBezTo>
                      <a:pt x="3202" y="5"/>
                      <a:pt x="3201" y="4"/>
                      <a:pt x="3201" y="3"/>
                    </a:cubicBezTo>
                    <a:cubicBezTo>
                      <a:pt x="3201" y="2"/>
                      <a:pt x="3202" y="1"/>
                      <a:pt x="3203" y="1"/>
                    </a:cubicBezTo>
                    <a:close/>
                    <a:moveTo>
                      <a:pt x="3211" y="1"/>
                    </a:moveTo>
                    <a:lnTo>
                      <a:pt x="3211" y="1"/>
                    </a:lnTo>
                    <a:cubicBezTo>
                      <a:pt x="3212" y="1"/>
                      <a:pt x="3213" y="2"/>
                      <a:pt x="3213" y="3"/>
                    </a:cubicBezTo>
                    <a:cubicBezTo>
                      <a:pt x="3213" y="4"/>
                      <a:pt x="3212" y="5"/>
                      <a:pt x="3211" y="5"/>
                    </a:cubicBezTo>
                    <a:lnTo>
                      <a:pt x="3211" y="5"/>
                    </a:lnTo>
                    <a:cubicBezTo>
                      <a:pt x="3210" y="5"/>
                      <a:pt x="3209" y="4"/>
                      <a:pt x="3209" y="3"/>
                    </a:cubicBezTo>
                    <a:cubicBezTo>
                      <a:pt x="3209" y="2"/>
                      <a:pt x="3210" y="1"/>
                      <a:pt x="3211" y="1"/>
                    </a:cubicBezTo>
                    <a:close/>
                    <a:moveTo>
                      <a:pt x="3219" y="1"/>
                    </a:moveTo>
                    <a:lnTo>
                      <a:pt x="3219" y="1"/>
                    </a:lnTo>
                    <a:cubicBezTo>
                      <a:pt x="3220" y="1"/>
                      <a:pt x="3221" y="2"/>
                      <a:pt x="3221" y="3"/>
                    </a:cubicBezTo>
                    <a:cubicBezTo>
                      <a:pt x="3221" y="4"/>
                      <a:pt x="3220" y="5"/>
                      <a:pt x="3219" y="5"/>
                    </a:cubicBezTo>
                    <a:lnTo>
                      <a:pt x="3219" y="5"/>
                    </a:lnTo>
                    <a:cubicBezTo>
                      <a:pt x="3218" y="5"/>
                      <a:pt x="3217" y="4"/>
                      <a:pt x="3217" y="3"/>
                    </a:cubicBezTo>
                    <a:cubicBezTo>
                      <a:pt x="3217" y="2"/>
                      <a:pt x="3218" y="1"/>
                      <a:pt x="3219" y="1"/>
                    </a:cubicBezTo>
                    <a:close/>
                    <a:moveTo>
                      <a:pt x="3227" y="1"/>
                    </a:moveTo>
                    <a:lnTo>
                      <a:pt x="3227" y="1"/>
                    </a:lnTo>
                    <a:cubicBezTo>
                      <a:pt x="3228" y="1"/>
                      <a:pt x="3229" y="2"/>
                      <a:pt x="3229" y="3"/>
                    </a:cubicBezTo>
                    <a:cubicBezTo>
                      <a:pt x="3229" y="4"/>
                      <a:pt x="3228" y="5"/>
                      <a:pt x="3227" y="5"/>
                    </a:cubicBezTo>
                    <a:lnTo>
                      <a:pt x="3227" y="5"/>
                    </a:lnTo>
                    <a:cubicBezTo>
                      <a:pt x="3226" y="5"/>
                      <a:pt x="3225" y="4"/>
                      <a:pt x="3225" y="3"/>
                    </a:cubicBezTo>
                    <a:cubicBezTo>
                      <a:pt x="3225" y="2"/>
                      <a:pt x="3226" y="1"/>
                      <a:pt x="3227" y="1"/>
                    </a:cubicBezTo>
                    <a:close/>
                    <a:moveTo>
                      <a:pt x="3235" y="1"/>
                    </a:moveTo>
                    <a:lnTo>
                      <a:pt x="3235" y="1"/>
                    </a:lnTo>
                    <a:cubicBezTo>
                      <a:pt x="3236" y="1"/>
                      <a:pt x="3237" y="2"/>
                      <a:pt x="3237" y="3"/>
                    </a:cubicBezTo>
                    <a:cubicBezTo>
                      <a:pt x="3237" y="4"/>
                      <a:pt x="3236" y="5"/>
                      <a:pt x="3235" y="5"/>
                    </a:cubicBezTo>
                    <a:lnTo>
                      <a:pt x="3235" y="5"/>
                    </a:lnTo>
                    <a:cubicBezTo>
                      <a:pt x="3234" y="5"/>
                      <a:pt x="3233" y="4"/>
                      <a:pt x="3233" y="3"/>
                    </a:cubicBezTo>
                    <a:cubicBezTo>
                      <a:pt x="3233" y="2"/>
                      <a:pt x="3234" y="1"/>
                      <a:pt x="3235" y="1"/>
                    </a:cubicBezTo>
                    <a:close/>
                    <a:moveTo>
                      <a:pt x="3243" y="1"/>
                    </a:moveTo>
                    <a:lnTo>
                      <a:pt x="3243" y="1"/>
                    </a:lnTo>
                    <a:cubicBezTo>
                      <a:pt x="3244" y="1"/>
                      <a:pt x="3245" y="2"/>
                      <a:pt x="3245" y="3"/>
                    </a:cubicBezTo>
                    <a:cubicBezTo>
                      <a:pt x="3245" y="4"/>
                      <a:pt x="3244" y="5"/>
                      <a:pt x="3243" y="5"/>
                    </a:cubicBezTo>
                    <a:lnTo>
                      <a:pt x="3243" y="5"/>
                    </a:lnTo>
                    <a:cubicBezTo>
                      <a:pt x="3242" y="5"/>
                      <a:pt x="3241" y="4"/>
                      <a:pt x="3241" y="3"/>
                    </a:cubicBezTo>
                    <a:cubicBezTo>
                      <a:pt x="3241" y="2"/>
                      <a:pt x="3242" y="1"/>
                      <a:pt x="3243" y="1"/>
                    </a:cubicBezTo>
                    <a:close/>
                    <a:moveTo>
                      <a:pt x="3251" y="1"/>
                    </a:moveTo>
                    <a:lnTo>
                      <a:pt x="3251" y="1"/>
                    </a:lnTo>
                    <a:cubicBezTo>
                      <a:pt x="3252" y="1"/>
                      <a:pt x="3253" y="2"/>
                      <a:pt x="3253" y="3"/>
                    </a:cubicBezTo>
                    <a:cubicBezTo>
                      <a:pt x="3253" y="4"/>
                      <a:pt x="3252" y="5"/>
                      <a:pt x="3251" y="5"/>
                    </a:cubicBezTo>
                    <a:lnTo>
                      <a:pt x="3251" y="5"/>
                    </a:lnTo>
                    <a:cubicBezTo>
                      <a:pt x="3250" y="5"/>
                      <a:pt x="3249" y="4"/>
                      <a:pt x="3249" y="3"/>
                    </a:cubicBezTo>
                    <a:cubicBezTo>
                      <a:pt x="3249" y="2"/>
                      <a:pt x="3250" y="1"/>
                      <a:pt x="3251" y="1"/>
                    </a:cubicBezTo>
                    <a:close/>
                    <a:moveTo>
                      <a:pt x="3259" y="1"/>
                    </a:moveTo>
                    <a:lnTo>
                      <a:pt x="3259" y="1"/>
                    </a:lnTo>
                    <a:cubicBezTo>
                      <a:pt x="3261" y="1"/>
                      <a:pt x="3261" y="2"/>
                      <a:pt x="3261" y="3"/>
                    </a:cubicBezTo>
                    <a:cubicBezTo>
                      <a:pt x="3261" y="4"/>
                      <a:pt x="3261" y="5"/>
                      <a:pt x="3259" y="5"/>
                    </a:cubicBezTo>
                    <a:lnTo>
                      <a:pt x="3259" y="5"/>
                    </a:lnTo>
                    <a:cubicBezTo>
                      <a:pt x="3258" y="5"/>
                      <a:pt x="3257" y="4"/>
                      <a:pt x="3257" y="3"/>
                    </a:cubicBezTo>
                    <a:cubicBezTo>
                      <a:pt x="3257" y="2"/>
                      <a:pt x="3258" y="1"/>
                      <a:pt x="3259" y="1"/>
                    </a:cubicBezTo>
                    <a:close/>
                    <a:moveTo>
                      <a:pt x="3267" y="1"/>
                    </a:moveTo>
                    <a:lnTo>
                      <a:pt x="3267" y="1"/>
                    </a:lnTo>
                    <a:cubicBezTo>
                      <a:pt x="3269" y="1"/>
                      <a:pt x="3269" y="2"/>
                      <a:pt x="3269" y="3"/>
                    </a:cubicBezTo>
                    <a:cubicBezTo>
                      <a:pt x="3269" y="4"/>
                      <a:pt x="3269" y="5"/>
                      <a:pt x="3267" y="5"/>
                    </a:cubicBezTo>
                    <a:lnTo>
                      <a:pt x="3267" y="5"/>
                    </a:lnTo>
                    <a:cubicBezTo>
                      <a:pt x="3266" y="5"/>
                      <a:pt x="3265" y="4"/>
                      <a:pt x="3265" y="3"/>
                    </a:cubicBezTo>
                    <a:cubicBezTo>
                      <a:pt x="3265" y="2"/>
                      <a:pt x="3266" y="1"/>
                      <a:pt x="3267" y="1"/>
                    </a:cubicBezTo>
                    <a:close/>
                    <a:moveTo>
                      <a:pt x="3275" y="1"/>
                    </a:moveTo>
                    <a:lnTo>
                      <a:pt x="3275" y="1"/>
                    </a:lnTo>
                    <a:cubicBezTo>
                      <a:pt x="3277" y="1"/>
                      <a:pt x="3277" y="2"/>
                      <a:pt x="3277" y="3"/>
                    </a:cubicBezTo>
                    <a:cubicBezTo>
                      <a:pt x="3277" y="4"/>
                      <a:pt x="3277" y="5"/>
                      <a:pt x="3275" y="5"/>
                    </a:cubicBezTo>
                    <a:lnTo>
                      <a:pt x="3275" y="5"/>
                    </a:lnTo>
                    <a:cubicBezTo>
                      <a:pt x="3274" y="5"/>
                      <a:pt x="3273" y="4"/>
                      <a:pt x="3273" y="3"/>
                    </a:cubicBezTo>
                    <a:cubicBezTo>
                      <a:pt x="3273" y="2"/>
                      <a:pt x="3274" y="1"/>
                      <a:pt x="3275" y="1"/>
                    </a:cubicBezTo>
                    <a:close/>
                    <a:moveTo>
                      <a:pt x="3283" y="1"/>
                    </a:moveTo>
                    <a:lnTo>
                      <a:pt x="3283" y="1"/>
                    </a:lnTo>
                    <a:cubicBezTo>
                      <a:pt x="3285" y="1"/>
                      <a:pt x="3285" y="2"/>
                      <a:pt x="3285" y="3"/>
                    </a:cubicBezTo>
                    <a:cubicBezTo>
                      <a:pt x="3285" y="4"/>
                      <a:pt x="3285" y="5"/>
                      <a:pt x="3283" y="5"/>
                    </a:cubicBezTo>
                    <a:lnTo>
                      <a:pt x="3283" y="5"/>
                    </a:lnTo>
                    <a:cubicBezTo>
                      <a:pt x="3282" y="5"/>
                      <a:pt x="3281" y="4"/>
                      <a:pt x="3281" y="3"/>
                    </a:cubicBezTo>
                    <a:cubicBezTo>
                      <a:pt x="3281" y="2"/>
                      <a:pt x="3282" y="1"/>
                      <a:pt x="3283" y="1"/>
                    </a:cubicBezTo>
                    <a:close/>
                    <a:moveTo>
                      <a:pt x="3291" y="1"/>
                    </a:moveTo>
                    <a:lnTo>
                      <a:pt x="3291" y="1"/>
                    </a:lnTo>
                    <a:cubicBezTo>
                      <a:pt x="3293" y="1"/>
                      <a:pt x="3293" y="2"/>
                      <a:pt x="3293" y="3"/>
                    </a:cubicBezTo>
                    <a:cubicBezTo>
                      <a:pt x="3293" y="4"/>
                      <a:pt x="3293" y="5"/>
                      <a:pt x="3291" y="5"/>
                    </a:cubicBezTo>
                    <a:lnTo>
                      <a:pt x="3291" y="5"/>
                    </a:lnTo>
                    <a:cubicBezTo>
                      <a:pt x="3290" y="5"/>
                      <a:pt x="3289" y="4"/>
                      <a:pt x="3289" y="3"/>
                    </a:cubicBezTo>
                    <a:cubicBezTo>
                      <a:pt x="3289" y="2"/>
                      <a:pt x="3290" y="1"/>
                      <a:pt x="3291" y="1"/>
                    </a:cubicBezTo>
                    <a:close/>
                    <a:moveTo>
                      <a:pt x="3299" y="1"/>
                    </a:moveTo>
                    <a:lnTo>
                      <a:pt x="3299" y="1"/>
                    </a:lnTo>
                    <a:cubicBezTo>
                      <a:pt x="3301" y="1"/>
                      <a:pt x="3301" y="2"/>
                      <a:pt x="3301" y="3"/>
                    </a:cubicBezTo>
                    <a:cubicBezTo>
                      <a:pt x="3301" y="4"/>
                      <a:pt x="3301" y="5"/>
                      <a:pt x="3299" y="5"/>
                    </a:cubicBezTo>
                    <a:lnTo>
                      <a:pt x="3299" y="5"/>
                    </a:lnTo>
                    <a:cubicBezTo>
                      <a:pt x="3298" y="5"/>
                      <a:pt x="3297" y="4"/>
                      <a:pt x="3297" y="3"/>
                    </a:cubicBezTo>
                    <a:cubicBezTo>
                      <a:pt x="3297" y="2"/>
                      <a:pt x="3298" y="1"/>
                      <a:pt x="3299" y="1"/>
                    </a:cubicBezTo>
                    <a:close/>
                    <a:moveTo>
                      <a:pt x="3307" y="1"/>
                    </a:moveTo>
                    <a:lnTo>
                      <a:pt x="3307" y="1"/>
                    </a:lnTo>
                    <a:cubicBezTo>
                      <a:pt x="3309" y="1"/>
                      <a:pt x="3309" y="2"/>
                      <a:pt x="3309" y="3"/>
                    </a:cubicBezTo>
                    <a:cubicBezTo>
                      <a:pt x="3309" y="4"/>
                      <a:pt x="3309" y="5"/>
                      <a:pt x="3307" y="5"/>
                    </a:cubicBezTo>
                    <a:lnTo>
                      <a:pt x="3307" y="5"/>
                    </a:lnTo>
                    <a:cubicBezTo>
                      <a:pt x="3306" y="5"/>
                      <a:pt x="3305" y="4"/>
                      <a:pt x="3305" y="3"/>
                    </a:cubicBezTo>
                    <a:cubicBezTo>
                      <a:pt x="3305" y="2"/>
                      <a:pt x="3306" y="1"/>
                      <a:pt x="3307" y="1"/>
                    </a:cubicBezTo>
                    <a:close/>
                    <a:moveTo>
                      <a:pt x="3315" y="1"/>
                    </a:moveTo>
                    <a:lnTo>
                      <a:pt x="3315" y="1"/>
                    </a:lnTo>
                    <a:cubicBezTo>
                      <a:pt x="3317" y="1"/>
                      <a:pt x="3317" y="2"/>
                      <a:pt x="3317" y="3"/>
                    </a:cubicBezTo>
                    <a:cubicBezTo>
                      <a:pt x="3317" y="4"/>
                      <a:pt x="3317" y="5"/>
                      <a:pt x="3315" y="5"/>
                    </a:cubicBezTo>
                    <a:lnTo>
                      <a:pt x="3315" y="5"/>
                    </a:lnTo>
                    <a:cubicBezTo>
                      <a:pt x="3314" y="5"/>
                      <a:pt x="3313" y="4"/>
                      <a:pt x="3313" y="3"/>
                    </a:cubicBezTo>
                    <a:cubicBezTo>
                      <a:pt x="3313" y="2"/>
                      <a:pt x="3314" y="1"/>
                      <a:pt x="3315" y="1"/>
                    </a:cubicBezTo>
                    <a:close/>
                    <a:moveTo>
                      <a:pt x="3323" y="1"/>
                    </a:moveTo>
                    <a:lnTo>
                      <a:pt x="3323" y="1"/>
                    </a:lnTo>
                    <a:cubicBezTo>
                      <a:pt x="3325" y="1"/>
                      <a:pt x="3325" y="2"/>
                      <a:pt x="3325" y="3"/>
                    </a:cubicBezTo>
                    <a:cubicBezTo>
                      <a:pt x="3325" y="4"/>
                      <a:pt x="3325" y="5"/>
                      <a:pt x="3323" y="5"/>
                    </a:cubicBezTo>
                    <a:lnTo>
                      <a:pt x="3323" y="5"/>
                    </a:lnTo>
                    <a:cubicBezTo>
                      <a:pt x="3322" y="5"/>
                      <a:pt x="3321" y="4"/>
                      <a:pt x="3321" y="3"/>
                    </a:cubicBezTo>
                    <a:cubicBezTo>
                      <a:pt x="3321" y="2"/>
                      <a:pt x="3322" y="1"/>
                      <a:pt x="3323" y="1"/>
                    </a:cubicBezTo>
                    <a:close/>
                    <a:moveTo>
                      <a:pt x="3331" y="1"/>
                    </a:moveTo>
                    <a:lnTo>
                      <a:pt x="3331" y="1"/>
                    </a:lnTo>
                    <a:cubicBezTo>
                      <a:pt x="3333" y="1"/>
                      <a:pt x="3333" y="2"/>
                      <a:pt x="3333" y="3"/>
                    </a:cubicBezTo>
                    <a:cubicBezTo>
                      <a:pt x="3333" y="4"/>
                      <a:pt x="3333" y="5"/>
                      <a:pt x="3331" y="5"/>
                    </a:cubicBezTo>
                    <a:lnTo>
                      <a:pt x="3331" y="5"/>
                    </a:lnTo>
                    <a:cubicBezTo>
                      <a:pt x="3330" y="5"/>
                      <a:pt x="3329" y="4"/>
                      <a:pt x="3329" y="3"/>
                    </a:cubicBezTo>
                    <a:cubicBezTo>
                      <a:pt x="3329" y="2"/>
                      <a:pt x="3330" y="1"/>
                      <a:pt x="3331" y="1"/>
                    </a:cubicBezTo>
                    <a:close/>
                    <a:moveTo>
                      <a:pt x="3339" y="1"/>
                    </a:moveTo>
                    <a:lnTo>
                      <a:pt x="3339" y="1"/>
                    </a:lnTo>
                    <a:cubicBezTo>
                      <a:pt x="3341" y="1"/>
                      <a:pt x="3341" y="2"/>
                      <a:pt x="3341" y="3"/>
                    </a:cubicBezTo>
                    <a:cubicBezTo>
                      <a:pt x="3341" y="4"/>
                      <a:pt x="3341" y="5"/>
                      <a:pt x="3339" y="5"/>
                    </a:cubicBezTo>
                    <a:lnTo>
                      <a:pt x="3339" y="5"/>
                    </a:lnTo>
                    <a:cubicBezTo>
                      <a:pt x="3338" y="5"/>
                      <a:pt x="3337" y="4"/>
                      <a:pt x="3337" y="3"/>
                    </a:cubicBezTo>
                    <a:cubicBezTo>
                      <a:pt x="3337" y="2"/>
                      <a:pt x="3338" y="1"/>
                      <a:pt x="3339" y="1"/>
                    </a:cubicBezTo>
                    <a:close/>
                    <a:moveTo>
                      <a:pt x="3347" y="1"/>
                    </a:moveTo>
                    <a:lnTo>
                      <a:pt x="3347" y="1"/>
                    </a:lnTo>
                    <a:cubicBezTo>
                      <a:pt x="3349" y="1"/>
                      <a:pt x="3349" y="2"/>
                      <a:pt x="3349" y="3"/>
                    </a:cubicBezTo>
                    <a:cubicBezTo>
                      <a:pt x="3349" y="4"/>
                      <a:pt x="3349" y="5"/>
                      <a:pt x="3347" y="5"/>
                    </a:cubicBezTo>
                    <a:lnTo>
                      <a:pt x="3347" y="5"/>
                    </a:lnTo>
                    <a:cubicBezTo>
                      <a:pt x="3346" y="5"/>
                      <a:pt x="3345" y="4"/>
                      <a:pt x="3345" y="3"/>
                    </a:cubicBezTo>
                    <a:cubicBezTo>
                      <a:pt x="3345" y="2"/>
                      <a:pt x="3346" y="1"/>
                      <a:pt x="3347" y="1"/>
                    </a:cubicBezTo>
                    <a:close/>
                    <a:moveTo>
                      <a:pt x="3355" y="1"/>
                    </a:moveTo>
                    <a:lnTo>
                      <a:pt x="3355" y="1"/>
                    </a:lnTo>
                    <a:cubicBezTo>
                      <a:pt x="3357" y="1"/>
                      <a:pt x="3357" y="2"/>
                      <a:pt x="3357" y="3"/>
                    </a:cubicBezTo>
                    <a:cubicBezTo>
                      <a:pt x="3357" y="4"/>
                      <a:pt x="3357" y="5"/>
                      <a:pt x="3355" y="5"/>
                    </a:cubicBezTo>
                    <a:lnTo>
                      <a:pt x="3355" y="5"/>
                    </a:lnTo>
                    <a:cubicBezTo>
                      <a:pt x="3354" y="5"/>
                      <a:pt x="3353" y="4"/>
                      <a:pt x="3353" y="3"/>
                    </a:cubicBezTo>
                    <a:cubicBezTo>
                      <a:pt x="3353" y="2"/>
                      <a:pt x="3354" y="1"/>
                      <a:pt x="3355" y="1"/>
                    </a:cubicBezTo>
                    <a:close/>
                    <a:moveTo>
                      <a:pt x="3363" y="1"/>
                    </a:moveTo>
                    <a:lnTo>
                      <a:pt x="3363" y="1"/>
                    </a:lnTo>
                    <a:cubicBezTo>
                      <a:pt x="3365" y="1"/>
                      <a:pt x="3365" y="2"/>
                      <a:pt x="3365" y="3"/>
                    </a:cubicBezTo>
                    <a:cubicBezTo>
                      <a:pt x="3365" y="4"/>
                      <a:pt x="3365" y="5"/>
                      <a:pt x="3363" y="5"/>
                    </a:cubicBezTo>
                    <a:lnTo>
                      <a:pt x="3363" y="5"/>
                    </a:lnTo>
                    <a:cubicBezTo>
                      <a:pt x="3362" y="5"/>
                      <a:pt x="3361" y="4"/>
                      <a:pt x="3361" y="3"/>
                    </a:cubicBezTo>
                    <a:cubicBezTo>
                      <a:pt x="3361" y="2"/>
                      <a:pt x="3362" y="1"/>
                      <a:pt x="3363" y="1"/>
                    </a:cubicBezTo>
                    <a:close/>
                    <a:moveTo>
                      <a:pt x="3371" y="1"/>
                    </a:moveTo>
                    <a:lnTo>
                      <a:pt x="3371" y="1"/>
                    </a:lnTo>
                    <a:cubicBezTo>
                      <a:pt x="3373" y="1"/>
                      <a:pt x="3373" y="2"/>
                      <a:pt x="3373" y="3"/>
                    </a:cubicBezTo>
                    <a:cubicBezTo>
                      <a:pt x="3373" y="4"/>
                      <a:pt x="3373" y="5"/>
                      <a:pt x="3371" y="5"/>
                    </a:cubicBezTo>
                    <a:lnTo>
                      <a:pt x="3371" y="5"/>
                    </a:lnTo>
                    <a:cubicBezTo>
                      <a:pt x="3370" y="5"/>
                      <a:pt x="3369" y="4"/>
                      <a:pt x="3369" y="3"/>
                    </a:cubicBezTo>
                    <a:cubicBezTo>
                      <a:pt x="3369" y="2"/>
                      <a:pt x="3370" y="1"/>
                      <a:pt x="3371" y="1"/>
                    </a:cubicBezTo>
                    <a:close/>
                    <a:moveTo>
                      <a:pt x="3379" y="1"/>
                    </a:moveTo>
                    <a:lnTo>
                      <a:pt x="3379" y="1"/>
                    </a:lnTo>
                    <a:cubicBezTo>
                      <a:pt x="3381" y="1"/>
                      <a:pt x="3381" y="2"/>
                      <a:pt x="3381" y="3"/>
                    </a:cubicBezTo>
                    <a:cubicBezTo>
                      <a:pt x="3381" y="4"/>
                      <a:pt x="3381" y="5"/>
                      <a:pt x="3379" y="5"/>
                    </a:cubicBezTo>
                    <a:lnTo>
                      <a:pt x="3379" y="5"/>
                    </a:lnTo>
                    <a:cubicBezTo>
                      <a:pt x="3378" y="5"/>
                      <a:pt x="3377" y="4"/>
                      <a:pt x="3377" y="3"/>
                    </a:cubicBezTo>
                    <a:cubicBezTo>
                      <a:pt x="3377" y="2"/>
                      <a:pt x="3378" y="1"/>
                      <a:pt x="3379" y="1"/>
                    </a:cubicBezTo>
                    <a:close/>
                    <a:moveTo>
                      <a:pt x="3387" y="1"/>
                    </a:moveTo>
                    <a:lnTo>
                      <a:pt x="3387" y="1"/>
                    </a:lnTo>
                    <a:cubicBezTo>
                      <a:pt x="3389" y="1"/>
                      <a:pt x="3389" y="2"/>
                      <a:pt x="3389" y="3"/>
                    </a:cubicBezTo>
                    <a:cubicBezTo>
                      <a:pt x="3389" y="4"/>
                      <a:pt x="3389" y="5"/>
                      <a:pt x="3387" y="5"/>
                    </a:cubicBezTo>
                    <a:lnTo>
                      <a:pt x="3387" y="5"/>
                    </a:lnTo>
                    <a:cubicBezTo>
                      <a:pt x="3386" y="5"/>
                      <a:pt x="3385" y="4"/>
                      <a:pt x="3385" y="3"/>
                    </a:cubicBezTo>
                    <a:cubicBezTo>
                      <a:pt x="3385" y="2"/>
                      <a:pt x="3386" y="1"/>
                      <a:pt x="3387" y="1"/>
                    </a:cubicBezTo>
                    <a:close/>
                    <a:moveTo>
                      <a:pt x="3395" y="1"/>
                    </a:moveTo>
                    <a:lnTo>
                      <a:pt x="3395" y="1"/>
                    </a:lnTo>
                    <a:cubicBezTo>
                      <a:pt x="3397" y="1"/>
                      <a:pt x="3397" y="2"/>
                      <a:pt x="3397" y="3"/>
                    </a:cubicBezTo>
                    <a:cubicBezTo>
                      <a:pt x="3397" y="4"/>
                      <a:pt x="3397" y="5"/>
                      <a:pt x="3395" y="5"/>
                    </a:cubicBezTo>
                    <a:lnTo>
                      <a:pt x="3395" y="5"/>
                    </a:lnTo>
                    <a:cubicBezTo>
                      <a:pt x="3394" y="5"/>
                      <a:pt x="3393" y="4"/>
                      <a:pt x="3393" y="3"/>
                    </a:cubicBezTo>
                    <a:cubicBezTo>
                      <a:pt x="3393" y="2"/>
                      <a:pt x="3394" y="1"/>
                      <a:pt x="3395" y="1"/>
                    </a:cubicBezTo>
                    <a:close/>
                    <a:moveTo>
                      <a:pt x="3403" y="1"/>
                    </a:moveTo>
                    <a:lnTo>
                      <a:pt x="3403" y="1"/>
                    </a:lnTo>
                    <a:cubicBezTo>
                      <a:pt x="3405" y="1"/>
                      <a:pt x="3405" y="2"/>
                      <a:pt x="3405" y="3"/>
                    </a:cubicBezTo>
                    <a:cubicBezTo>
                      <a:pt x="3405" y="4"/>
                      <a:pt x="3405" y="5"/>
                      <a:pt x="3403" y="5"/>
                    </a:cubicBezTo>
                    <a:lnTo>
                      <a:pt x="3403" y="5"/>
                    </a:lnTo>
                    <a:cubicBezTo>
                      <a:pt x="3402" y="5"/>
                      <a:pt x="3401" y="4"/>
                      <a:pt x="3401" y="3"/>
                    </a:cubicBezTo>
                    <a:cubicBezTo>
                      <a:pt x="3401" y="2"/>
                      <a:pt x="3402" y="1"/>
                      <a:pt x="3403" y="1"/>
                    </a:cubicBezTo>
                    <a:close/>
                    <a:moveTo>
                      <a:pt x="3411" y="1"/>
                    </a:moveTo>
                    <a:lnTo>
                      <a:pt x="3411" y="1"/>
                    </a:lnTo>
                    <a:cubicBezTo>
                      <a:pt x="3413" y="1"/>
                      <a:pt x="3413" y="2"/>
                      <a:pt x="3413" y="3"/>
                    </a:cubicBezTo>
                    <a:cubicBezTo>
                      <a:pt x="3413" y="4"/>
                      <a:pt x="3413" y="5"/>
                      <a:pt x="3411" y="5"/>
                    </a:cubicBezTo>
                    <a:lnTo>
                      <a:pt x="3411" y="5"/>
                    </a:lnTo>
                    <a:cubicBezTo>
                      <a:pt x="3410" y="5"/>
                      <a:pt x="3409" y="4"/>
                      <a:pt x="3409" y="3"/>
                    </a:cubicBezTo>
                    <a:cubicBezTo>
                      <a:pt x="3409" y="2"/>
                      <a:pt x="3410" y="1"/>
                      <a:pt x="3411" y="1"/>
                    </a:cubicBezTo>
                    <a:close/>
                    <a:moveTo>
                      <a:pt x="3419" y="1"/>
                    </a:moveTo>
                    <a:lnTo>
                      <a:pt x="3419" y="1"/>
                    </a:lnTo>
                    <a:cubicBezTo>
                      <a:pt x="3421" y="1"/>
                      <a:pt x="3421" y="2"/>
                      <a:pt x="3421" y="3"/>
                    </a:cubicBezTo>
                    <a:cubicBezTo>
                      <a:pt x="3421" y="4"/>
                      <a:pt x="3421" y="5"/>
                      <a:pt x="3419" y="5"/>
                    </a:cubicBezTo>
                    <a:lnTo>
                      <a:pt x="3419" y="5"/>
                    </a:lnTo>
                    <a:cubicBezTo>
                      <a:pt x="3418" y="5"/>
                      <a:pt x="3417" y="4"/>
                      <a:pt x="3417" y="3"/>
                    </a:cubicBezTo>
                    <a:cubicBezTo>
                      <a:pt x="3417" y="2"/>
                      <a:pt x="3418" y="1"/>
                      <a:pt x="3419" y="1"/>
                    </a:cubicBezTo>
                    <a:close/>
                    <a:moveTo>
                      <a:pt x="3427" y="1"/>
                    </a:moveTo>
                    <a:lnTo>
                      <a:pt x="3427" y="1"/>
                    </a:lnTo>
                    <a:cubicBezTo>
                      <a:pt x="3429" y="1"/>
                      <a:pt x="3429" y="2"/>
                      <a:pt x="3429" y="3"/>
                    </a:cubicBezTo>
                    <a:cubicBezTo>
                      <a:pt x="3429" y="4"/>
                      <a:pt x="3429" y="5"/>
                      <a:pt x="3427" y="5"/>
                    </a:cubicBezTo>
                    <a:lnTo>
                      <a:pt x="3427" y="5"/>
                    </a:lnTo>
                    <a:cubicBezTo>
                      <a:pt x="3426" y="5"/>
                      <a:pt x="3425" y="4"/>
                      <a:pt x="3425" y="3"/>
                    </a:cubicBezTo>
                    <a:cubicBezTo>
                      <a:pt x="3425" y="2"/>
                      <a:pt x="3426" y="1"/>
                      <a:pt x="3427" y="1"/>
                    </a:cubicBezTo>
                    <a:close/>
                    <a:moveTo>
                      <a:pt x="3435" y="1"/>
                    </a:moveTo>
                    <a:lnTo>
                      <a:pt x="3435" y="1"/>
                    </a:lnTo>
                    <a:cubicBezTo>
                      <a:pt x="3437" y="1"/>
                      <a:pt x="3437" y="2"/>
                      <a:pt x="3437" y="3"/>
                    </a:cubicBezTo>
                    <a:cubicBezTo>
                      <a:pt x="3437" y="4"/>
                      <a:pt x="3437" y="5"/>
                      <a:pt x="3435" y="5"/>
                    </a:cubicBezTo>
                    <a:lnTo>
                      <a:pt x="3435" y="5"/>
                    </a:lnTo>
                    <a:cubicBezTo>
                      <a:pt x="3434" y="5"/>
                      <a:pt x="3433" y="4"/>
                      <a:pt x="3433" y="3"/>
                    </a:cubicBezTo>
                    <a:cubicBezTo>
                      <a:pt x="3433" y="2"/>
                      <a:pt x="3434" y="1"/>
                      <a:pt x="3435" y="1"/>
                    </a:cubicBezTo>
                    <a:close/>
                    <a:moveTo>
                      <a:pt x="3443" y="1"/>
                    </a:moveTo>
                    <a:lnTo>
                      <a:pt x="3443" y="1"/>
                    </a:lnTo>
                    <a:cubicBezTo>
                      <a:pt x="3445" y="1"/>
                      <a:pt x="3445" y="2"/>
                      <a:pt x="3445" y="3"/>
                    </a:cubicBezTo>
                    <a:cubicBezTo>
                      <a:pt x="3445" y="4"/>
                      <a:pt x="3445" y="5"/>
                      <a:pt x="3443" y="5"/>
                    </a:cubicBezTo>
                    <a:lnTo>
                      <a:pt x="3443" y="5"/>
                    </a:lnTo>
                    <a:cubicBezTo>
                      <a:pt x="3442" y="5"/>
                      <a:pt x="3441" y="4"/>
                      <a:pt x="3441" y="3"/>
                    </a:cubicBezTo>
                    <a:cubicBezTo>
                      <a:pt x="3441" y="2"/>
                      <a:pt x="3442" y="1"/>
                      <a:pt x="3443" y="1"/>
                    </a:cubicBezTo>
                    <a:close/>
                    <a:moveTo>
                      <a:pt x="3451" y="1"/>
                    </a:moveTo>
                    <a:lnTo>
                      <a:pt x="3451" y="1"/>
                    </a:lnTo>
                    <a:cubicBezTo>
                      <a:pt x="3453" y="1"/>
                      <a:pt x="3453" y="2"/>
                      <a:pt x="3453" y="3"/>
                    </a:cubicBezTo>
                    <a:cubicBezTo>
                      <a:pt x="3453" y="4"/>
                      <a:pt x="3453" y="5"/>
                      <a:pt x="3451" y="5"/>
                    </a:cubicBezTo>
                    <a:lnTo>
                      <a:pt x="3451" y="5"/>
                    </a:lnTo>
                    <a:cubicBezTo>
                      <a:pt x="3450" y="5"/>
                      <a:pt x="3449" y="4"/>
                      <a:pt x="3449" y="3"/>
                    </a:cubicBezTo>
                    <a:cubicBezTo>
                      <a:pt x="3449" y="2"/>
                      <a:pt x="3450" y="1"/>
                      <a:pt x="3451" y="1"/>
                    </a:cubicBezTo>
                    <a:close/>
                    <a:moveTo>
                      <a:pt x="3459" y="1"/>
                    </a:moveTo>
                    <a:lnTo>
                      <a:pt x="3459" y="1"/>
                    </a:lnTo>
                    <a:cubicBezTo>
                      <a:pt x="3461" y="1"/>
                      <a:pt x="3461" y="2"/>
                      <a:pt x="3461" y="3"/>
                    </a:cubicBezTo>
                    <a:cubicBezTo>
                      <a:pt x="3461" y="4"/>
                      <a:pt x="3461" y="5"/>
                      <a:pt x="3459" y="5"/>
                    </a:cubicBezTo>
                    <a:lnTo>
                      <a:pt x="3459" y="5"/>
                    </a:lnTo>
                    <a:cubicBezTo>
                      <a:pt x="3458" y="5"/>
                      <a:pt x="3457" y="4"/>
                      <a:pt x="3457" y="3"/>
                    </a:cubicBezTo>
                    <a:cubicBezTo>
                      <a:pt x="3457" y="2"/>
                      <a:pt x="3458" y="1"/>
                      <a:pt x="3459" y="1"/>
                    </a:cubicBezTo>
                    <a:close/>
                    <a:moveTo>
                      <a:pt x="3467" y="1"/>
                    </a:moveTo>
                    <a:lnTo>
                      <a:pt x="3467" y="1"/>
                    </a:lnTo>
                    <a:cubicBezTo>
                      <a:pt x="3469" y="1"/>
                      <a:pt x="3469" y="2"/>
                      <a:pt x="3469" y="3"/>
                    </a:cubicBezTo>
                    <a:cubicBezTo>
                      <a:pt x="3469" y="4"/>
                      <a:pt x="3469" y="5"/>
                      <a:pt x="3467" y="5"/>
                    </a:cubicBezTo>
                    <a:lnTo>
                      <a:pt x="3467" y="5"/>
                    </a:lnTo>
                    <a:cubicBezTo>
                      <a:pt x="3466" y="5"/>
                      <a:pt x="3465" y="4"/>
                      <a:pt x="3465" y="3"/>
                    </a:cubicBezTo>
                    <a:cubicBezTo>
                      <a:pt x="3465" y="2"/>
                      <a:pt x="3466" y="1"/>
                      <a:pt x="3467" y="1"/>
                    </a:cubicBezTo>
                    <a:close/>
                    <a:moveTo>
                      <a:pt x="3475" y="1"/>
                    </a:moveTo>
                    <a:lnTo>
                      <a:pt x="3476" y="1"/>
                    </a:lnTo>
                    <a:cubicBezTo>
                      <a:pt x="3477" y="1"/>
                      <a:pt x="3478" y="2"/>
                      <a:pt x="3478" y="3"/>
                    </a:cubicBezTo>
                    <a:cubicBezTo>
                      <a:pt x="3478" y="4"/>
                      <a:pt x="3477" y="5"/>
                      <a:pt x="3476" y="5"/>
                    </a:cubicBezTo>
                    <a:lnTo>
                      <a:pt x="3475" y="5"/>
                    </a:lnTo>
                    <a:cubicBezTo>
                      <a:pt x="3474" y="5"/>
                      <a:pt x="3473" y="4"/>
                      <a:pt x="3473" y="3"/>
                    </a:cubicBezTo>
                    <a:cubicBezTo>
                      <a:pt x="3473" y="2"/>
                      <a:pt x="3474" y="1"/>
                      <a:pt x="3475" y="1"/>
                    </a:cubicBezTo>
                    <a:close/>
                    <a:moveTo>
                      <a:pt x="3484" y="1"/>
                    </a:moveTo>
                    <a:lnTo>
                      <a:pt x="3484" y="1"/>
                    </a:lnTo>
                    <a:cubicBezTo>
                      <a:pt x="3485" y="1"/>
                      <a:pt x="3486" y="2"/>
                      <a:pt x="3486" y="3"/>
                    </a:cubicBezTo>
                    <a:cubicBezTo>
                      <a:pt x="3486" y="4"/>
                      <a:pt x="3485" y="5"/>
                      <a:pt x="3484" y="5"/>
                    </a:cubicBezTo>
                    <a:lnTo>
                      <a:pt x="3484" y="5"/>
                    </a:lnTo>
                    <a:cubicBezTo>
                      <a:pt x="3482" y="5"/>
                      <a:pt x="3482" y="4"/>
                      <a:pt x="3482" y="3"/>
                    </a:cubicBezTo>
                    <a:cubicBezTo>
                      <a:pt x="3482" y="2"/>
                      <a:pt x="3482" y="1"/>
                      <a:pt x="3484" y="1"/>
                    </a:cubicBezTo>
                    <a:close/>
                    <a:moveTo>
                      <a:pt x="3492" y="1"/>
                    </a:moveTo>
                    <a:lnTo>
                      <a:pt x="3492" y="1"/>
                    </a:lnTo>
                    <a:cubicBezTo>
                      <a:pt x="3493" y="1"/>
                      <a:pt x="3494" y="2"/>
                      <a:pt x="3494" y="3"/>
                    </a:cubicBezTo>
                    <a:cubicBezTo>
                      <a:pt x="3494" y="4"/>
                      <a:pt x="3493" y="5"/>
                      <a:pt x="3492" y="5"/>
                    </a:cubicBezTo>
                    <a:lnTo>
                      <a:pt x="3492" y="5"/>
                    </a:lnTo>
                    <a:cubicBezTo>
                      <a:pt x="3490" y="5"/>
                      <a:pt x="3490" y="4"/>
                      <a:pt x="3490" y="3"/>
                    </a:cubicBezTo>
                    <a:cubicBezTo>
                      <a:pt x="3490" y="2"/>
                      <a:pt x="3490" y="1"/>
                      <a:pt x="3492" y="1"/>
                    </a:cubicBezTo>
                    <a:close/>
                    <a:moveTo>
                      <a:pt x="3500" y="1"/>
                    </a:moveTo>
                    <a:lnTo>
                      <a:pt x="3500" y="1"/>
                    </a:lnTo>
                    <a:cubicBezTo>
                      <a:pt x="3501" y="1"/>
                      <a:pt x="3502" y="2"/>
                      <a:pt x="3502" y="3"/>
                    </a:cubicBezTo>
                    <a:cubicBezTo>
                      <a:pt x="3502" y="4"/>
                      <a:pt x="3501" y="5"/>
                      <a:pt x="3500" y="5"/>
                    </a:cubicBezTo>
                    <a:lnTo>
                      <a:pt x="3500" y="5"/>
                    </a:lnTo>
                    <a:cubicBezTo>
                      <a:pt x="3498" y="5"/>
                      <a:pt x="3498" y="4"/>
                      <a:pt x="3498" y="3"/>
                    </a:cubicBezTo>
                    <a:cubicBezTo>
                      <a:pt x="3498" y="2"/>
                      <a:pt x="3498" y="1"/>
                      <a:pt x="3500" y="1"/>
                    </a:cubicBezTo>
                    <a:close/>
                    <a:moveTo>
                      <a:pt x="3508" y="1"/>
                    </a:moveTo>
                    <a:lnTo>
                      <a:pt x="3508" y="1"/>
                    </a:lnTo>
                    <a:cubicBezTo>
                      <a:pt x="3509" y="1"/>
                      <a:pt x="3510" y="2"/>
                      <a:pt x="3510" y="3"/>
                    </a:cubicBezTo>
                    <a:cubicBezTo>
                      <a:pt x="3510" y="4"/>
                      <a:pt x="3509" y="5"/>
                      <a:pt x="3508" y="5"/>
                    </a:cubicBezTo>
                    <a:lnTo>
                      <a:pt x="3508" y="5"/>
                    </a:lnTo>
                    <a:cubicBezTo>
                      <a:pt x="3506" y="5"/>
                      <a:pt x="3506" y="4"/>
                      <a:pt x="3506" y="3"/>
                    </a:cubicBezTo>
                    <a:cubicBezTo>
                      <a:pt x="3506" y="2"/>
                      <a:pt x="3506" y="1"/>
                      <a:pt x="3508" y="1"/>
                    </a:cubicBezTo>
                    <a:close/>
                    <a:moveTo>
                      <a:pt x="3516" y="1"/>
                    </a:moveTo>
                    <a:lnTo>
                      <a:pt x="3516" y="1"/>
                    </a:lnTo>
                    <a:cubicBezTo>
                      <a:pt x="3517" y="1"/>
                      <a:pt x="3518" y="2"/>
                      <a:pt x="3518" y="3"/>
                    </a:cubicBezTo>
                    <a:cubicBezTo>
                      <a:pt x="3518" y="4"/>
                      <a:pt x="3517" y="5"/>
                      <a:pt x="3516" y="5"/>
                    </a:cubicBezTo>
                    <a:lnTo>
                      <a:pt x="3516" y="5"/>
                    </a:lnTo>
                    <a:cubicBezTo>
                      <a:pt x="3514" y="5"/>
                      <a:pt x="3514" y="4"/>
                      <a:pt x="3514" y="3"/>
                    </a:cubicBezTo>
                    <a:cubicBezTo>
                      <a:pt x="3514" y="2"/>
                      <a:pt x="3514" y="1"/>
                      <a:pt x="3516" y="1"/>
                    </a:cubicBezTo>
                    <a:close/>
                    <a:moveTo>
                      <a:pt x="3524" y="1"/>
                    </a:moveTo>
                    <a:lnTo>
                      <a:pt x="3524" y="1"/>
                    </a:lnTo>
                    <a:cubicBezTo>
                      <a:pt x="3525" y="1"/>
                      <a:pt x="3526" y="2"/>
                      <a:pt x="3526" y="3"/>
                    </a:cubicBezTo>
                    <a:cubicBezTo>
                      <a:pt x="3526" y="4"/>
                      <a:pt x="3525" y="5"/>
                      <a:pt x="3524" y="5"/>
                    </a:cubicBezTo>
                    <a:lnTo>
                      <a:pt x="3524" y="5"/>
                    </a:lnTo>
                    <a:cubicBezTo>
                      <a:pt x="3522" y="5"/>
                      <a:pt x="3522" y="4"/>
                      <a:pt x="3522" y="3"/>
                    </a:cubicBezTo>
                    <a:cubicBezTo>
                      <a:pt x="3522" y="2"/>
                      <a:pt x="3522" y="1"/>
                      <a:pt x="3524" y="1"/>
                    </a:cubicBezTo>
                    <a:close/>
                    <a:moveTo>
                      <a:pt x="3532" y="1"/>
                    </a:moveTo>
                    <a:lnTo>
                      <a:pt x="3532" y="1"/>
                    </a:lnTo>
                    <a:cubicBezTo>
                      <a:pt x="3533" y="1"/>
                      <a:pt x="3534" y="2"/>
                      <a:pt x="3534" y="3"/>
                    </a:cubicBezTo>
                    <a:cubicBezTo>
                      <a:pt x="3534" y="4"/>
                      <a:pt x="3533" y="5"/>
                      <a:pt x="3532" y="5"/>
                    </a:cubicBezTo>
                    <a:lnTo>
                      <a:pt x="3532" y="5"/>
                    </a:lnTo>
                    <a:cubicBezTo>
                      <a:pt x="3530" y="5"/>
                      <a:pt x="3530" y="4"/>
                      <a:pt x="3530" y="3"/>
                    </a:cubicBezTo>
                    <a:cubicBezTo>
                      <a:pt x="3530" y="2"/>
                      <a:pt x="3530" y="1"/>
                      <a:pt x="3532" y="1"/>
                    </a:cubicBezTo>
                    <a:close/>
                    <a:moveTo>
                      <a:pt x="3540" y="1"/>
                    </a:moveTo>
                    <a:lnTo>
                      <a:pt x="3540" y="1"/>
                    </a:lnTo>
                    <a:cubicBezTo>
                      <a:pt x="3541" y="1"/>
                      <a:pt x="3542" y="2"/>
                      <a:pt x="3542" y="3"/>
                    </a:cubicBezTo>
                    <a:cubicBezTo>
                      <a:pt x="3542" y="4"/>
                      <a:pt x="3541" y="5"/>
                      <a:pt x="3540" y="5"/>
                    </a:cubicBezTo>
                    <a:lnTo>
                      <a:pt x="3540" y="5"/>
                    </a:lnTo>
                    <a:cubicBezTo>
                      <a:pt x="3538" y="5"/>
                      <a:pt x="3538" y="4"/>
                      <a:pt x="3538" y="3"/>
                    </a:cubicBezTo>
                    <a:cubicBezTo>
                      <a:pt x="3538" y="2"/>
                      <a:pt x="3538" y="1"/>
                      <a:pt x="3540" y="1"/>
                    </a:cubicBezTo>
                    <a:close/>
                    <a:moveTo>
                      <a:pt x="3548" y="1"/>
                    </a:moveTo>
                    <a:lnTo>
                      <a:pt x="3548" y="1"/>
                    </a:lnTo>
                    <a:cubicBezTo>
                      <a:pt x="3549" y="1"/>
                      <a:pt x="3550" y="2"/>
                      <a:pt x="3550" y="3"/>
                    </a:cubicBezTo>
                    <a:cubicBezTo>
                      <a:pt x="3550" y="4"/>
                      <a:pt x="3549" y="5"/>
                      <a:pt x="3548" y="5"/>
                    </a:cubicBezTo>
                    <a:lnTo>
                      <a:pt x="3548" y="5"/>
                    </a:lnTo>
                    <a:cubicBezTo>
                      <a:pt x="3546" y="5"/>
                      <a:pt x="3546" y="4"/>
                      <a:pt x="3546" y="3"/>
                    </a:cubicBezTo>
                    <a:cubicBezTo>
                      <a:pt x="3546" y="2"/>
                      <a:pt x="3546" y="1"/>
                      <a:pt x="3548" y="1"/>
                    </a:cubicBezTo>
                    <a:close/>
                    <a:moveTo>
                      <a:pt x="3556" y="1"/>
                    </a:moveTo>
                    <a:lnTo>
                      <a:pt x="3556" y="1"/>
                    </a:lnTo>
                    <a:cubicBezTo>
                      <a:pt x="3557" y="1"/>
                      <a:pt x="3558" y="2"/>
                      <a:pt x="3558" y="3"/>
                    </a:cubicBezTo>
                    <a:cubicBezTo>
                      <a:pt x="3558" y="4"/>
                      <a:pt x="3557" y="5"/>
                      <a:pt x="3556" y="5"/>
                    </a:cubicBezTo>
                    <a:lnTo>
                      <a:pt x="3556" y="5"/>
                    </a:lnTo>
                    <a:cubicBezTo>
                      <a:pt x="3554" y="5"/>
                      <a:pt x="3554" y="4"/>
                      <a:pt x="3554" y="3"/>
                    </a:cubicBezTo>
                    <a:cubicBezTo>
                      <a:pt x="3554" y="2"/>
                      <a:pt x="3554" y="1"/>
                      <a:pt x="3556" y="1"/>
                    </a:cubicBezTo>
                    <a:close/>
                    <a:moveTo>
                      <a:pt x="3564" y="1"/>
                    </a:moveTo>
                    <a:lnTo>
                      <a:pt x="3564" y="1"/>
                    </a:lnTo>
                    <a:cubicBezTo>
                      <a:pt x="3565" y="1"/>
                      <a:pt x="3566" y="2"/>
                      <a:pt x="3566" y="3"/>
                    </a:cubicBezTo>
                    <a:cubicBezTo>
                      <a:pt x="3566" y="4"/>
                      <a:pt x="3565" y="5"/>
                      <a:pt x="3564" y="5"/>
                    </a:cubicBezTo>
                    <a:lnTo>
                      <a:pt x="3564" y="5"/>
                    </a:lnTo>
                    <a:cubicBezTo>
                      <a:pt x="3562" y="5"/>
                      <a:pt x="3562" y="4"/>
                      <a:pt x="3562" y="3"/>
                    </a:cubicBezTo>
                    <a:cubicBezTo>
                      <a:pt x="3562" y="2"/>
                      <a:pt x="3562" y="1"/>
                      <a:pt x="3564" y="1"/>
                    </a:cubicBezTo>
                    <a:close/>
                    <a:moveTo>
                      <a:pt x="3572" y="1"/>
                    </a:moveTo>
                    <a:lnTo>
                      <a:pt x="3572" y="1"/>
                    </a:lnTo>
                    <a:cubicBezTo>
                      <a:pt x="3573" y="1"/>
                      <a:pt x="3574" y="2"/>
                      <a:pt x="3574" y="3"/>
                    </a:cubicBezTo>
                    <a:cubicBezTo>
                      <a:pt x="3574" y="4"/>
                      <a:pt x="3573" y="5"/>
                      <a:pt x="3572" y="5"/>
                    </a:cubicBezTo>
                    <a:lnTo>
                      <a:pt x="3572" y="5"/>
                    </a:lnTo>
                    <a:cubicBezTo>
                      <a:pt x="3570" y="5"/>
                      <a:pt x="3570" y="4"/>
                      <a:pt x="3570" y="3"/>
                    </a:cubicBezTo>
                    <a:cubicBezTo>
                      <a:pt x="3570" y="2"/>
                      <a:pt x="3570" y="1"/>
                      <a:pt x="3572" y="1"/>
                    </a:cubicBezTo>
                    <a:close/>
                    <a:moveTo>
                      <a:pt x="3580" y="1"/>
                    </a:moveTo>
                    <a:lnTo>
                      <a:pt x="3580" y="1"/>
                    </a:lnTo>
                    <a:cubicBezTo>
                      <a:pt x="3581" y="1"/>
                      <a:pt x="3582" y="2"/>
                      <a:pt x="3582" y="3"/>
                    </a:cubicBezTo>
                    <a:cubicBezTo>
                      <a:pt x="3582" y="4"/>
                      <a:pt x="3581" y="5"/>
                      <a:pt x="3580" y="5"/>
                    </a:cubicBezTo>
                    <a:lnTo>
                      <a:pt x="3580" y="5"/>
                    </a:lnTo>
                    <a:cubicBezTo>
                      <a:pt x="3578" y="5"/>
                      <a:pt x="3578" y="4"/>
                      <a:pt x="3578" y="3"/>
                    </a:cubicBezTo>
                    <a:cubicBezTo>
                      <a:pt x="3578" y="2"/>
                      <a:pt x="3578" y="1"/>
                      <a:pt x="3580" y="1"/>
                    </a:cubicBezTo>
                    <a:close/>
                    <a:moveTo>
                      <a:pt x="3588" y="1"/>
                    </a:moveTo>
                    <a:lnTo>
                      <a:pt x="3588" y="1"/>
                    </a:lnTo>
                    <a:cubicBezTo>
                      <a:pt x="3589" y="1"/>
                      <a:pt x="3590" y="2"/>
                      <a:pt x="3590" y="3"/>
                    </a:cubicBezTo>
                    <a:cubicBezTo>
                      <a:pt x="3590" y="4"/>
                      <a:pt x="3589" y="5"/>
                      <a:pt x="3588" y="5"/>
                    </a:cubicBezTo>
                    <a:lnTo>
                      <a:pt x="3588" y="5"/>
                    </a:lnTo>
                    <a:cubicBezTo>
                      <a:pt x="3586" y="5"/>
                      <a:pt x="3586" y="4"/>
                      <a:pt x="3586" y="3"/>
                    </a:cubicBezTo>
                    <a:cubicBezTo>
                      <a:pt x="3586" y="2"/>
                      <a:pt x="3586" y="1"/>
                      <a:pt x="3588" y="1"/>
                    </a:cubicBezTo>
                    <a:close/>
                    <a:moveTo>
                      <a:pt x="3596" y="1"/>
                    </a:moveTo>
                    <a:lnTo>
                      <a:pt x="3596" y="1"/>
                    </a:lnTo>
                    <a:cubicBezTo>
                      <a:pt x="3597" y="1"/>
                      <a:pt x="3598" y="2"/>
                      <a:pt x="3598" y="3"/>
                    </a:cubicBezTo>
                    <a:cubicBezTo>
                      <a:pt x="3598" y="4"/>
                      <a:pt x="3597" y="5"/>
                      <a:pt x="3596" y="5"/>
                    </a:cubicBezTo>
                    <a:lnTo>
                      <a:pt x="3596" y="5"/>
                    </a:lnTo>
                    <a:cubicBezTo>
                      <a:pt x="3594" y="5"/>
                      <a:pt x="3594" y="4"/>
                      <a:pt x="3594" y="3"/>
                    </a:cubicBezTo>
                    <a:cubicBezTo>
                      <a:pt x="3594" y="2"/>
                      <a:pt x="3594" y="1"/>
                      <a:pt x="3596" y="1"/>
                    </a:cubicBezTo>
                    <a:close/>
                    <a:moveTo>
                      <a:pt x="3604" y="1"/>
                    </a:moveTo>
                    <a:lnTo>
                      <a:pt x="3604" y="1"/>
                    </a:lnTo>
                    <a:cubicBezTo>
                      <a:pt x="3605" y="1"/>
                      <a:pt x="3606" y="2"/>
                      <a:pt x="3606" y="3"/>
                    </a:cubicBezTo>
                    <a:cubicBezTo>
                      <a:pt x="3606" y="4"/>
                      <a:pt x="3605" y="5"/>
                      <a:pt x="3604" y="5"/>
                    </a:cubicBezTo>
                    <a:lnTo>
                      <a:pt x="3604" y="5"/>
                    </a:lnTo>
                    <a:cubicBezTo>
                      <a:pt x="3602" y="5"/>
                      <a:pt x="3602" y="4"/>
                      <a:pt x="3602" y="3"/>
                    </a:cubicBezTo>
                    <a:cubicBezTo>
                      <a:pt x="3602" y="2"/>
                      <a:pt x="3602" y="1"/>
                      <a:pt x="3604" y="1"/>
                    </a:cubicBezTo>
                    <a:close/>
                    <a:moveTo>
                      <a:pt x="3612" y="1"/>
                    </a:moveTo>
                    <a:lnTo>
                      <a:pt x="3612" y="1"/>
                    </a:lnTo>
                    <a:cubicBezTo>
                      <a:pt x="3613" y="1"/>
                      <a:pt x="3614" y="2"/>
                      <a:pt x="3614" y="3"/>
                    </a:cubicBezTo>
                    <a:cubicBezTo>
                      <a:pt x="3614" y="4"/>
                      <a:pt x="3613" y="5"/>
                      <a:pt x="3612" y="5"/>
                    </a:cubicBezTo>
                    <a:lnTo>
                      <a:pt x="3612" y="5"/>
                    </a:lnTo>
                    <a:cubicBezTo>
                      <a:pt x="3610" y="5"/>
                      <a:pt x="3610" y="4"/>
                      <a:pt x="3610" y="3"/>
                    </a:cubicBezTo>
                    <a:cubicBezTo>
                      <a:pt x="3610" y="2"/>
                      <a:pt x="3610" y="1"/>
                      <a:pt x="3612" y="1"/>
                    </a:cubicBezTo>
                    <a:close/>
                    <a:moveTo>
                      <a:pt x="3620" y="1"/>
                    </a:moveTo>
                    <a:lnTo>
                      <a:pt x="3620" y="1"/>
                    </a:lnTo>
                    <a:cubicBezTo>
                      <a:pt x="3621" y="1"/>
                      <a:pt x="3622" y="2"/>
                      <a:pt x="3622" y="3"/>
                    </a:cubicBezTo>
                    <a:cubicBezTo>
                      <a:pt x="3622" y="4"/>
                      <a:pt x="3621" y="5"/>
                      <a:pt x="3620" y="5"/>
                    </a:cubicBezTo>
                    <a:lnTo>
                      <a:pt x="3620" y="5"/>
                    </a:lnTo>
                    <a:cubicBezTo>
                      <a:pt x="3618" y="5"/>
                      <a:pt x="3618" y="4"/>
                      <a:pt x="3618" y="3"/>
                    </a:cubicBezTo>
                    <a:cubicBezTo>
                      <a:pt x="3618" y="2"/>
                      <a:pt x="3618" y="1"/>
                      <a:pt x="3620" y="1"/>
                    </a:cubicBezTo>
                    <a:close/>
                    <a:moveTo>
                      <a:pt x="3628" y="1"/>
                    </a:moveTo>
                    <a:lnTo>
                      <a:pt x="3628" y="1"/>
                    </a:lnTo>
                    <a:cubicBezTo>
                      <a:pt x="3629" y="1"/>
                      <a:pt x="3630" y="2"/>
                      <a:pt x="3630" y="3"/>
                    </a:cubicBezTo>
                    <a:cubicBezTo>
                      <a:pt x="3630" y="4"/>
                      <a:pt x="3629" y="5"/>
                      <a:pt x="3628" y="5"/>
                    </a:cubicBezTo>
                    <a:lnTo>
                      <a:pt x="3628" y="5"/>
                    </a:lnTo>
                    <a:cubicBezTo>
                      <a:pt x="3626" y="5"/>
                      <a:pt x="3626" y="4"/>
                      <a:pt x="3626" y="3"/>
                    </a:cubicBezTo>
                    <a:cubicBezTo>
                      <a:pt x="3626" y="2"/>
                      <a:pt x="3626" y="1"/>
                      <a:pt x="3628" y="1"/>
                    </a:cubicBezTo>
                    <a:close/>
                    <a:moveTo>
                      <a:pt x="3636" y="1"/>
                    </a:moveTo>
                    <a:lnTo>
                      <a:pt x="3636" y="1"/>
                    </a:lnTo>
                    <a:cubicBezTo>
                      <a:pt x="3637" y="1"/>
                      <a:pt x="3638" y="2"/>
                      <a:pt x="3638" y="3"/>
                    </a:cubicBezTo>
                    <a:cubicBezTo>
                      <a:pt x="3638" y="4"/>
                      <a:pt x="3637" y="5"/>
                      <a:pt x="3636" y="5"/>
                    </a:cubicBezTo>
                    <a:lnTo>
                      <a:pt x="3636" y="5"/>
                    </a:lnTo>
                    <a:cubicBezTo>
                      <a:pt x="3634" y="5"/>
                      <a:pt x="3634" y="4"/>
                      <a:pt x="3634" y="3"/>
                    </a:cubicBezTo>
                    <a:cubicBezTo>
                      <a:pt x="3634" y="2"/>
                      <a:pt x="3634" y="1"/>
                      <a:pt x="3636" y="1"/>
                    </a:cubicBezTo>
                    <a:close/>
                    <a:moveTo>
                      <a:pt x="3644" y="1"/>
                    </a:moveTo>
                    <a:lnTo>
                      <a:pt x="3644" y="1"/>
                    </a:lnTo>
                    <a:cubicBezTo>
                      <a:pt x="3645" y="1"/>
                      <a:pt x="3646" y="2"/>
                      <a:pt x="3646" y="3"/>
                    </a:cubicBezTo>
                    <a:cubicBezTo>
                      <a:pt x="3646" y="4"/>
                      <a:pt x="3645" y="5"/>
                      <a:pt x="3644" y="5"/>
                    </a:cubicBezTo>
                    <a:lnTo>
                      <a:pt x="3644" y="5"/>
                    </a:lnTo>
                    <a:cubicBezTo>
                      <a:pt x="3642" y="5"/>
                      <a:pt x="3642" y="4"/>
                      <a:pt x="3642" y="3"/>
                    </a:cubicBezTo>
                    <a:cubicBezTo>
                      <a:pt x="3642" y="2"/>
                      <a:pt x="3642" y="1"/>
                      <a:pt x="3644" y="1"/>
                    </a:cubicBezTo>
                    <a:close/>
                    <a:moveTo>
                      <a:pt x="3652" y="1"/>
                    </a:moveTo>
                    <a:lnTo>
                      <a:pt x="3652" y="1"/>
                    </a:lnTo>
                    <a:cubicBezTo>
                      <a:pt x="3653" y="1"/>
                      <a:pt x="3654" y="2"/>
                      <a:pt x="3654" y="3"/>
                    </a:cubicBezTo>
                    <a:cubicBezTo>
                      <a:pt x="3654" y="4"/>
                      <a:pt x="3653" y="5"/>
                      <a:pt x="3652" y="5"/>
                    </a:cubicBezTo>
                    <a:lnTo>
                      <a:pt x="3652" y="5"/>
                    </a:lnTo>
                    <a:cubicBezTo>
                      <a:pt x="3650" y="5"/>
                      <a:pt x="3650" y="4"/>
                      <a:pt x="3650" y="3"/>
                    </a:cubicBezTo>
                    <a:cubicBezTo>
                      <a:pt x="3650" y="2"/>
                      <a:pt x="3650" y="1"/>
                      <a:pt x="3652" y="1"/>
                    </a:cubicBezTo>
                    <a:close/>
                    <a:moveTo>
                      <a:pt x="3660" y="1"/>
                    </a:moveTo>
                    <a:lnTo>
                      <a:pt x="3660" y="1"/>
                    </a:lnTo>
                    <a:cubicBezTo>
                      <a:pt x="3661" y="1"/>
                      <a:pt x="3662" y="2"/>
                      <a:pt x="3662" y="3"/>
                    </a:cubicBezTo>
                    <a:cubicBezTo>
                      <a:pt x="3662" y="4"/>
                      <a:pt x="3661" y="5"/>
                      <a:pt x="3660" y="5"/>
                    </a:cubicBezTo>
                    <a:lnTo>
                      <a:pt x="3660" y="5"/>
                    </a:lnTo>
                    <a:cubicBezTo>
                      <a:pt x="3658" y="5"/>
                      <a:pt x="3658" y="4"/>
                      <a:pt x="3658" y="3"/>
                    </a:cubicBezTo>
                    <a:cubicBezTo>
                      <a:pt x="3658" y="2"/>
                      <a:pt x="3658" y="1"/>
                      <a:pt x="3660" y="1"/>
                    </a:cubicBezTo>
                    <a:close/>
                    <a:moveTo>
                      <a:pt x="3668" y="1"/>
                    </a:moveTo>
                    <a:lnTo>
                      <a:pt x="3668" y="1"/>
                    </a:lnTo>
                    <a:cubicBezTo>
                      <a:pt x="3669" y="1"/>
                      <a:pt x="3670" y="2"/>
                      <a:pt x="3670" y="3"/>
                    </a:cubicBezTo>
                    <a:cubicBezTo>
                      <a:pt x="3670" y="4"/>
                      <a:pt x="3669" y="5"/>
                      <a:pt x="3668" y="5"/>
                    </a:cubicBezTo>
                    <a:lnTo>
                      <a:pt x="3668" y="5"/>
                    </a:lnTo>
                    <a:cubicBezTo>
                      <a:pt x="3666" y="5"/>
                      <a:pt x="3666" y="4"/>
                      <a:pt x="3666" y="3"/>
                    </a:cubicBezTo>
                    <a:cubicBezTo>
                      <a:pt x="3666" y="2"/>
                      <a:pt x="3666" y="1"/>
                      <a:pt x="3668" y="1"/>
                    </a:cubicBezTo>
                    <a:close/>
                    <a:moveTo>
                      <a:pt x="3676" y="1"/>
                    </a:moveTo>
                    <a:lnTo>
                      <a:pt x="3676" y="1"/>
                    </a:lnTo>
                    <a:cubicBezTo>
                      <a:pt x="3677" y="1"/>
                      <a:pt x="3678" y="2"/>
                      <a:pt x="3678" y="3"/>
                    </a:cubicBezTo>
                    <a:cubicBezTo>
                      <a:pt x="3678" y="4"/>
                      <a:pt x="3677" y="5"/>
                      <a:pt x="3676" y="5"/>
                    </a:cubicBezTo>
                    <a:lnTo>
                      <a:pt x="3676" y="5"/>
                    </a:lnTo>
                    <a:cubicBezTo>
                      <a:pt x="3674" y="5"/>
                      <a:pt x="3674" y="4"/>
                      <a:pt x="3674" y="3"/>
                    </a:cubicBezTo>
                    <a:cubicBezTo>
                      <a:pt x="3674" y="2"/>
                      <a:pt x="3674" y="1"/>
                      <a:pt x="3676" y="1"/>
                    </a:cubicBezTo>
                    <a:close/>
                    <a:moveTo>
                      <a:pt x="3684" y="1"/>
                    </a:moveTo>
                    <a:lnTo>
                      <a:pt x="3684" y="1"/>
                    </a:lnTo>
                    <a:cubicBezTo>
                      <a:pt x="3685" y="1"/>
                      <a:pt x="3686" y="2"/>
                      <a:pt x="3686" y="3"/>
                    </a:cubicBezTo>
                    <a:cubicBezTo>
                      <a:pt x="3686" y="4"/>
                      <a:pt x="3685" y="5"/>
                      <a:pt x="3684" y="5"/>
                    </a:cubicBezTo>
                    <a:lnTo>
                      <a:pt x="3684" y="5"/>
                    </a:lnTo>
                    <a:cubicBezTo>
                      <a:pt x="3682" y="5"/>
                      <a:pt x="3682" y="4"/>
                      <a:pt x="3682" y="3"/>
                    </a:cubicBezTo>
                    <a:cubicBezTo>
                      <a:pt x="3682" y="2"/>
                      <a:pt x="3682" y="1"/>
                      <a:pt x="3684" y="1"/>
                    </a:cubicBezTo>
                    <a:close/>
                    <a:moveTo>
                      <a:pt x="3692" y="1"/>
                    </a:moveTo>
                    <a:lnTo>
                      <a:pt x="3692" y="1"/>
                    </a:lnTo>
                    <a:cubicBezTo>
                      <a:pt x="3693" y="1"/>
                      <a:pt x="3694" y="2"/>
                      <a:pt x="3694" y="3"/>
                    </a:cubicBezTo>
                    <a:cubicBezTo>
                      <a:pt x="3694" y="4"/>
                      <a:pt x="3693" y="5"/>
                      <a:pt x="3692" y="5"/>
                    </a:cubicBezTo>
                    <a:lnTo>
                      <a:pt x="3692" y="5"/>
                    </a:lnTo>
                    <a:cubicBezTo>
                      <a:pt x="3690" y="5"/>
                      <a:pt x="3690" y="4"/>
                      <a:pt x="3690" y="3"/>
                    </a:cubicBezTo>
                    <a:cubicBezTo>
                      <a:pt x="3690" y="2"/>
                      <a:pt x="3690" y="1"/>
                      <a:pt x="3692" y="1"/>
                    </a:cubicBezTo>
                    <a:close/>
                    <a:moveTo>
                      <a:pt x="3700" y="1"/>
                    </a:moveTo>
                    <a:lnTo>
                      <a:pt x="3700" y="1"/>
                    </a:lnTo>
                    <a:cubicBezTo>
                      <a:pt x="3701" y="1"/>
                      <a:pt x="3702" y="2"/>
                      <a:pt x="3702" y="3"/>
                    </a:cubicBezTo>
                    <a:cubicBezTo>
                      <a:pt x="3702" y="4"/>
                      <a:pt x="3701" y="5"/>
                      <a:pt x="3700" y="5"/>
                    </a:cubicBezTo>
                    <a:lnTo>
                      <a:pt x="3700" y="5"/>
                    </a:lnTo>
                    <a:cubicBezTo>
                      <a:pt x="3699" y="5"/>
                      <a:pt x="3698" y="4"/>
                      <a:pt x="3698" y="3"/>
                    </a:cubicBezTo>
                    <a:cubicBezTo>
                      <a:pt x="3698" y="2"/>
                      <a:pt x="3699" y="1"/>
                      <a:pt x="3700" y="1"/>
                    </a:cubicBezTo>
                    <a:close/>
                    <a:moveTo>
                      <a:pt x="3708" y="1"/>
                    </a:moveTo>
                    <a:lnTo>
                      <a:pt x="3708" y="1"/>
                    </a:lnTo>
                    <a:cubicBezTo>
                      <a:pt x="3709" y="1"/>
                      <a:pt x="3710" y="2"/>
                      <a:pt x="3710" y="3"/>
                    </a:cubicBezTo>
                    <a:cubicBezTo>
                      <a:pt x="3710" y="4"/>
                      <a:pt x="3709" y="5"/>
                      <a:pt x="3708" y="5"/>
                    </a:cubicBezTo>
                    <a:lnTo>
                      <a:pt x="3708" y="5"/>
                    </a:lnTo>
                    <a:cubicBezTo>
                      <a:pt x="3707" y="5"/>
                      <a:pt x="3706" y="4"/>
                      <a:pt x="3706" y="3"/>
                    </a:cubicBezTo>
                    <a:cubicBezTo>
                      <a:pt x="3706" y="2"/>
                      <a:pt x="3707" y="1"/>
                      <a:pt x="3708" y="1"/>
                    </a:cubicBezTo>
                    <a:close/>
                    <a:moveTo>
                      <a:pt x="3716" y="1"/>
                    </a:moveTo>
                    <a:lnTo>
                      <a:pt x="3716" y="1"/>
                    </a:lnTo>
                    <a:cubicBezTo>
                      <a:pt x="3717" y="1"/>
                      <a:pt x="3718" y="2"/>
                      <a:pt x="3718" y="3"/>
                    </a:cubicBezTo>
                    <a:cubicBezTo>
                      <a:pt x="3718" y="4"/>
                      <a:pt x="3717" y="5"/>
                      <a:pt x="3716" y="5"/>
                    </a:cubicBezTo>
                    <a:lnTo>
                      <a:pt x="3716" y="5"/>
                    </a:lnTo>
                    <a:cubicBezTo>
                      <a:pt x="3715" y="5"/>
                      <a:pt x="3714" y="4"/>
                      <a:pt x="3714" y="3"/>
                    </a:cubicBezTo>
                    <a:cubicBezTo>
                      <a:pt x="3714" y="2"/>
                      <a:pt x="3715" y="1"/>
                      <a:pt x="3716" y="1"/>
                    </a:cubicBezTo>
                    <a:close/>
                    <a:moveTo>
                      <a:pt x="3724" y="1"/>
                    </a:moveTo>
                    <a:lnTo>
                      <a:pt x="3724" y="1"/>
                    </a:lnTo>
                    <a:cubicBezTo>
                      <a:pt x="3725" y="1"/>
                      <a:pt x="3726" y="2"/>
                      <a:pt x="3726" y="3"/>
                    </a:cubicBezTo>
                    <a:cubicBezTo>
                      <a:pt x="3726" y="4"/>
                      <a:pt x="3725" y="5"/>
                      <a:pt x="3724" y="5"/>
                    </a:cubicBezTo>
                    <a:lnTo>
                      <a:pt x="3724" y="5"/>
                    </a:lnTo>
                    <a:cubicBezTo>
                      <a:pt x="3723" y="5"/>
                      <a:pt x="3722" y="4"/>
                      <a:pt x="3722" y="3"/>
                    </a:cubicBezTo>
                    <a:cubicBezTo>
                      <a:pt x="3722" y="2"/>
                      <a:pt x="3723" y="1"/>
                      <a:pt x="3724" y="1"/>
                    </a:cubicBezTo>
                    <a:close/>
                    <a:moveTo>
                      <a:pt x="3732" y="1"/>
                    </a:moveTo>
                    <a:lnTo>
                      <a:pt x="3732" y="1"/>
                    </a:lnTo>
                    <a:cubicBezTo>
                      <a:pt x="3733" y="1"/>
                      <a:pt x="3734" y="2"/>
                      <a:pt x="3734" y="3"/>
                    </a:cubicBezTo>
                    <a:cubicBezTo>
                      <a:pt x="3734" y="4"/>
                      <a:pt x="3733" y="5"/>
                      <a:pt x="3732" y="5"/>
                    </a:cubicBezTo>
                    <a:lnTo>
                      <a:pt x="3732" y="5"/>
                    </a:lnTo>
                    <a:cubicBezTo>
                      <a:pt x="3731" y="5"/>
                      <a:pt x="3730" y="4"/>
                      <a:pt x="3730" y="3"/>
                    </a:cubicBezTo>
                    <a:cubicBezTo>
                      <a:pt x="3730" y="2"/>
                      <a:pt x="3731" y="1"/>
                      <a:pt x="3732" y="1"/>
                    </a:cubicBezTo>
                    <a:close/>
                    <a:moveTo>
                      <a:pt x="3740" y="1"/>
                    </a:moveTo>
                    <a:lnTo>
                      <a:pt x="3740" y="1"/>
                    </a:lnTo>
                    <a:cubicBezTo>
                      <a:pt x="3741" y="1"/>
                      <a:pt x="3742" y="2"/>
                      <a:pt x="3742" y="3"/>
                    </a:cubicBezTo>
                    <a:cubicBezTo>
                      <a:pt x="3742" y="4"/>
                      <a:pt x="3741" y="5"/>
                      <a:pt x="3740" y="5"/>
                    </a:cubicBezTo>
                    <a:lnTo>
                      <a:pt x="3740" y="5"/>
                    </a:lnTo>
                    <a:cubicBezTo>
                      <a:pt x="3739" y="5"/>
                      <a:pt x="3738" y="4"/>
                      <a:pt x="3738" y="3"/>
                    </a:cubicBezTo>
                    <a:cubicBezTo>
                      <a:pt x="3738" y="2"/>
                      <a:pt x="3739" y="1"/>
                      <a:pt x="3740" y="1"/>
                    </a:cubicBezTo>
                    <a:close/>
                    <a:moveTo>
                      <a:pt x="3748" y="1"/>
                    </a:moveTo>
                    <a:lnTo>
                      <a:pt x="3748" y="1"/>
                    </a:lnTo>
                    <a:cubicBezTo>
                      <a:pt x="3749" y="1"/>
                      <a:pt x="3750" y="2"/>
                      <a:pt x="3750" y="3"/>
                    </a:cubicBezTo>
                    <a:cubicBezTo>
                      <a:pt x="3750" y="4"/>
                      <a:pt x="3749" y="5"/>
                      <a:pt x="3748" y="5"/>
                    </a:cubicBezTo>
                    <a:lnTo>
                      <a:pt x="3748" y="5"/>
                    </a:lnTo>
                    <a:cubicBezTo>
                      <a:pt x="3747" y="5"/>
                      <a:pt x="3746" y="4"/>
                      <a:pt x="3746" y="3"/>
                    </a:cubicBezTo>
                    <a:cubicBezTo>
                      <a:pt x="3746" y="2"/>
                      <a:pt x="3747" y="1"/>
                      <a:pt x="3748" y="1"/>
                    </a:cubicBezTo>
                    <a:close/>
                    <a:moveTo>
                      <a:pt x="3756" y="1"/>
                    </a:moveTo>
                    <a:lnTo>
                      <a:pt x="3756" y="1"/>
                    </a:lnTo>
                    <a:cubicBezTo>
                      <a:pt x="3757" y="1"/>
                      <a:pt x="3758" y="2"/>
                      <a:pt x="3758" y="3"/>
                    </a:cubicBezTo>
                    <a:cubicBezTo>
                      <a:pt x="3758" y="4"/>
                      <a:pt x="3757" y="5"/>
                      <a:pt x="3756" y="5"/>
                    </a:cubicBezTo>
                    <a:lnTo>
                      <a:pt x="3756" y="5"/>
                    </a:lnTo>
                    <a:cubicBezTo>
                      <a:pt x="3755" y="5"/>
                      <a:pt x="3754" y="4"/>
                      <a:pt x="3754" y="3"/>
                    </a:cubicBezTo>
                    <a:cubicBezTo>
                      <a:pt x="3754" y="2"/>
                      <a:pt x="3755" y="1"/>
                      <a:pt x="3756" y="1"/>
                    </a:cubicBezTo>
                    <a:close/>
                    <a:moveTo>
                      <a:pt x="3764" y="1"/>
                    </a:moveTo>
                    <a:lnTo>
                      <a:pt x="3764" y="1"/>
                    </a:lnTo>
                    <a:cubicBezTo>
                      <a:pt x="3765" y="1"/>
                      <a:pt x="3766" y="2"/>
                      <a:pt x="3766" y="3"/>
                    </a:cubicBezTo>
                    <a:cubicBezTo>
                      <a:pt x="3766" y="4"/>
                      <a:pt x="3765" y="5"/>
                      <a:pt x="3764" y="5"/>
                    </a:cubicBezTo>
                    <a:lnTo>
                      <a:pt x="3764" y="5"/>
                    </a:lnTo>
                    <a:cubicBezTo>
                      <a:pt x="3763" y="5"/>
                      <a:pt x="3762" y="4"/>
                      <a:pt x="3762" y="3"/>
                    </a:cubicBezTo>
                    <a:cubicBezTo>
                      <a:pt x="3762" y="2"/>
                      <a:pt x="3763" y="1"/>
                      <a:pt x="3764" y="1"/>
                    </a:cubicBezTo>
                    <a:close/>
                    <a:moveTo>
                      <a:pt x="3772" y="1"/>
                    </a:moveTo>
                    <a:lnTo>
                      <a:pt x="3772" y="1"/>
                    </a:lnTo>
                    <a:cubicBezTo>
                      <a:pt x="3773" y="1"/>
                      <a:pt x="3774" y="2"/>
                      <a:pt x="3774" y="3"/>
                    </a:cubicBezTo>
                    <a:cubicBezTo>
                      <a:pt x="3774" y="4"/>
                      <a:pt x="3773" y="5"/>
                      <a:pt x="3772" y="5"/>
                    </a:cubicBezTo>
                    <a:lnTo>
                      <a:pt x="3772" y="5"/>
                    </a:lnTo>
                    <a:cubicBezTo>
                      <a:pt x="3771" y="5"/>
                      <a:pt x="3770" y="4"/>
                      <a:pt x="3770" y="3"/>
                    </a:cubicBezTo>
                    <a:cubicBezTo>
                      <a:pt x="3770" y="2"/>
                      <a:pt x="3771" y="1"/>
                      <a:pt x="3772" y="1"/>
                    </a:cubicBezTo>
                    <a:close/>
                    <a:moveTo>
                      <a:pt x="3780" y="1"/>
                    </a:moveTo>
                    <a:lnTo>
                      <a:pt x="3780" y="1"/>
                    </a:lnTo>
                    <a:cubicBezTo>
                      <a:pt x="3781" y="1"/>
                      <a:pt x="3782" y="2"/>
                      <a:pt x="3782" y="3"/>
                    </a:cubicBezTo>
                    <a:cubicBezTo>
                      <a:pt x="3782" y="4"/>
                      <a:pt x="3781" y="5"/>
                      <a:pt x="3780" y="5"/>
                    </a:cubicBezTo>
                    <a:lnTo>
                      <a:pt x="3780" y="5"/>
                    </a:lnTo>
                    <a:cubicBezTo>
                      <a:pt x="3779" y="5"/>
                      <a:pt x="3778" y="4"/>
                      <a:pt x="3778" y="3"/>
                    </a:cubicBezTo>
                    <a:cubicBezTo>
                      <a:pt x="3778" y="2"/>
                      <a:pt x="3779" y="1"/>
                      <a:pt x="3780" y="1"/>
                    </a:cubicBezTo>
                    <a:close/>
                    <a:moveTo>
                      <a:pt x="3788" y="1"/>
                    </a:moveTo>
                    <a:lnTo>
                      <a:pt x="3788" y="1"/>
                    </a:lnTo>
                    <a:cubicBezTo>
                      <a:pt x="3789" y="1"/>
                      <a:pt x="3790" y="2"/>
                      <a:pt x="3790" y="3"/>
                    </a:cubicBezTo>
                    <a:cubicBezTo>
                      <a:pt x="3790" y="4"/>
                      <a:pt x="3789" y="5"/>
                      <a:pt x="3788" y="5"/>
                    </a:cubicBezTo>
                    <a:lnTo>
                      <a:pt x="3788" y="5"/>
                    </a:lnTo>
                    <a:cubicBezTo>
                      <a:pt x="3787" y="5"/>
                      <a:pt x="3786" y="4"/>
                      <a:pt x="3786" y="3"/>
                    </a:cubicBezTo>
                    <a:cubicBezTo>
                      <a:pt x="3786" y="2"/>
                      <a:pt x="3787" y="1"/>
                      <a:pt x="3788" y="1"/>
                    </a:cubicBezTo>
                    <a:close/>
                    <a:moveTo>
                      <a:pt x="3796" y="1"/>
                    </a:moveTo>
                    <a:lnTo>
                      <a:pt x="3796" y="1"/>
                    </a:lnTo>
                    <a:cubicBezTo>
                      <a:pt x="3797" y="1"/>
                      <a:pt x="3798" y="2"/>
                      <a:pt x="3798" y="3"/>
                    </a:cubicBezTo>
                    <a:cubicBezTo>
                      <a:pt x="3798" y="4"/>
                      <a:pt x="3797" y="5"/>
                      <a:pt x="3796" y="5"/>
                    </a:cubicBezTo>
                    <a:lnTo>
                      <a:pt x="3796" y="5"/>
                    </a:lnTo>
                    <a:cubicBezTo>
                      <a:pt x="3795" y="5"/>
                      <a:pt x="3794" y="4"/>
                      <a:pt x="3794" y="3"/>
                    </a:cubicBezTo>
                    <a:cubicBezTo>
                      <a:pt x="3794" y="2"/>
                      <a:pt x="3795" y="1"/>
                      <a:pt x="3796" y="1"/>
                    </a:cubicBezTo>
                    <a:close/>
                    <a:moveTo>
                      <a:pt x="3804" y="1"/>
                    </a:moveTo>
                    <a:lnTo>
                      <a:pt x="3804" y="1"/>
                    </a:lnTo>
                    <a:cubicBezTo>
                      <a:pt x="3805" y="1"/>
                      <a:pt x="3806" y="2"/>
                      <a:pt x="3806" y="3"/>
                    </a:cubicBezTo>
                    <a:cubicBezTo>
                      <a:pt x="3806" y="4"/>
                      <a:pt x="3805" y="5"/>
                      <a:pt x="3804" y="5"/>
                    </a:cubicBezTo>
                    <a:lnTo>
                      <a:pt x="3804" y="5"/>
                    </a:lnTo>
                    <a:cubicBezTo>
                      <a:pt x="3803" y="5"/>
                      <a:pt x="3802" y="4"/>
                      <a:pt x="3802" y="3"/>
                    </a:cubicBezTo>
                    <a:cubicBezTo>
                      <a:pt x="3802" y="2"/>
                      <a:pt x="3803" y="1"/>
                      <a:pt x="3804" y="1"/>
                    </a:cubicBezTo>
                    <a:close/>
                    <a:moveTo>
                      <a:pt x="3812" y="1"/>
                    </a:moveTo>
                    <a:lnTo>
                      <a:pt x="3812" y="1"/>
                    </a:lnTo>
                    <a:cubicBezTo>
                      <a:pt x="3813" y="1"/>
                      <a:pt x="3814" y="2"/>
                      <a:pt x="3814" y="3"/>
                    </a:cubicBezTo>
                    <a:cubicBezTo>
                      <a:pt x="3814" y="4"/>
                      <a:pt x="3813" y="5"/>
                      <a:pt x="3812" y="5"/>
                    </a:cubicBezTo>
                    <a:lnTo>
                      <a:pt x="3812" y="5"/>
                    </a:lnTo>
                    <a:cubicBezTo>
                      <a:pt x="3811" y="5"/>
                      <a:pt x="3810" y="4"/>
                      <a:pt x="3810" y="3"/>
                    </a:cubicBezTo>
                    <a:cubicBezTo>
                      <a:pt x="3810" y="2"/>
                      <a:pt x="3811" y="1"/>
                      <a:pt x="3812" y="1"/>
                    </a:cubicBezTo>
                    <a:close/>
                    <a:moveTo>
                      <a:pt x="3820" y="1"/>
                    </a:moveTo>
                    <a:lnTo>
                      <a:pt x="3820" y="1"/>
                    </a:lnTo>
                    <a:cubicBezTo>
                      <a:pt x="3821" y="1"/>
                      <a:pt x="3822" y="2"/>
                      <a:pt x="3822" y="3"/>
                    </a:cubicBezTo>
                    <a:cubicBezTo>
                      <a:pt x="3822" y="4"/>
                      <a:pt x="3821" y="5"/>
                      <a:pt x="3820" y="5"/>
                    </a:cubicBezTo>
                    <a:lnTo>
                      <a:pt x="3820" y="5"/>
                    </a:lnTo>
                    <a:cubicBezTo>
                      <a:pt x="3819" y="5"/>
                      <a:pt x="3818" y="4"/>
                      <a:pt x="3818" y="3"/>
                    </a:cubicBezTo>
                    <a:cubicBezTo>
                      <a:pt x="3818" y="2"/>
                      <a:pt x="3819" y="1"/>
                      <a:pt x="3820" y="1"/>
                    </a:cubicBezTo>
                    <a:close/>
                    <a:moveTo>
                      <a:pt x="3828" y="1"/>
                    </a:moveTo>
                    <a:lnTo>
                      <a:pt x="3828" y="1"/>
                    </a:lnTo>
                    <a:cubicBezTo>
                      <a:pt x="3829" y="1"/>
                      <a:pt x="3830" y="2"/>
                      <a:pt x="3830" y="3"/>
                    </a:cubicBezTo>
                    <a:cubicBezTo>
                      <a:pt x="3830" y="4"/>
                      <a:pt x="3829" y="5"/>
                      <a:pt x="3828" y="5"/>
                    </a:cubicBezTo>
                    <a:lnTo>
                      <a:pt x="3828" y="5"/>
                    </a:lnTo>
                    <a:cubicBezTo>
                      <a:pt x="3827" y="5"/>
                      <a:pt x="3826" y="4"/>
                      <a:pt x="3826" y="3"/>
                    </a:cubicBezTo>
                    <a:cubicBezTo>
                      <a:pt x="3826" y="2"/>
                      <a:pt x="3827" y="1"/>
                      <a:pt x="3828" y="1"/>
                    </a:cubicBezTo>
                    <a:close/>
                    <a:moveTo>
                      <a:pt x="3836" y="1"/>
                    </a:moveTo>
                    <a:lnTo>
                      <a:pt x="3836" y="1"/>
                    </a:lnTo>
                    <a:cubicBezTo>
                      <a:pt x="3837" y="1"/>
                      <a:pt x="3838" y="2"/>
                      <a:pt x="3838" y="3"/>
                    </a:cubicBezTo>
                    <a:cubicBezTo>
                      <a:pt x="3838" y="4"/>
                      <a:pt x="3837" y="5"/>
                      <a:pt x="3836" y="5"/>
                    </a:cubicBezTo>
                    <a:lnTo>
                      <a:pt x="3836" y="5"/>
                    </a:lnTo>
                    <a:cubicBezTo>
                      <a:pt x="3835" y="5"/>
                      <a:pt x="3834" y="4"/>
                      <a:pt x="3834" y="3"/>
                    </a:cubicBezTo>
                    <a:cubicBezTo>
                      <a:pt x="3834" y="2"/>
                      <a:pt x="3835" y="1"/>
                      <a:pt x="3836" y="1"/>
                    </a:cubicBezTo>
                    <a:close/>
                    <a:moveTo>
                      <a:pt x="3844" y="1"/>
                    </a:moveTo>
                    <a:lnTo>
                      <a:pt x="3844" y="1"/>
                    </a:lnTo>
                    <a:cubicBezTo>
                      <a:pt x="3845" y="1"/>
                      <a:pt x="3846" y="2"/>
                      <a:pt x="3846" y="3"/>
                    </a:cubicBezTo>
                    <a:cubicBezTo>
                      <a:pt x="3846" y="4"/>
                      <a:pt x="3845" y="5"/>
                      <a:pt x="3844" y="5"/>
                    </a:cubicBezTo>
                    <a:lnTo>
                      <a:pt x="3844" y="5"/>
                    </a:lnTo>
                    <a:cubicBezTo>
                      <a:pt x="3843" y="5"/>
                      <a:pt x="3842" y="4"/>
                      <a:pt x="3842" y="3"/>
                    </a:cubicBezTo>
                    <a:cubicBezTo>
                      <a:pt x="3842" y="2"/>
                      <a:pt x="3843" y="1"/>
                      <a:pt x="3844" y="1"/>
                    </a:cubicBezTo>
                    <a:close/>
                    <a:moveTo>
                      <a:pt x="3852" y="1"/>
                    </a:moveTo>
                    <a:lnTo>
                      <a:pt x="3852" y="1"/>
                    </a:lnTo>
                    <a:cubicBezTo>
                      <a:pt x="3853" y="1"/>
                      <a:pt x="3854" y="2"/>
                      <a:pt x="3854" y="3"/>
                    </a:cubicBezTo>
                    <a:cubicBezTo>
                      <a:pt x="3854" y="4"/>
                      <a:pt x="3853" y="5"/>
                      <a:pt x="3852" y="5"/>
                    </a:cubicBezTo>
                    <a:lnTo>
                      <a:pt x="3852" y="5"/>
                    </a:lnTo>
                    <a:cubicBezTo>
                      <a:pt x="3851" y="5"/>
                      <a:pt x="3850" y="4"/>
                      <a:pt x="3850" y="3"/>
                    </a:cubicBezTo>
                    <a:cubicBezTo>
                      <a:pt x="3850" y="2"/>
                      <a:pt x="3851" y="1"/>
                      <a:pt x="3852" y="1"/>
                    </a:cubicBezTo>
                    <a:close/>
                    <a:moveTo>
                      <a:pt x="3860" y="1"/>
                    </a:moveTo>
                    <a:lnTo>
                      <a:pt x="3860" y="1"/>
                    </a:lnTo>
                    <a:cubicBezTo>
                      <a:pt x="3861" y="1"/>
                      <a:pt x="3862" y="2"/>
                      <a:pt x="3862" y="3"/>
                    </a:cubicBezTo>
                    <a:cubicBezTo>
                      <a:pt x="3862" y="4"/>
                      <a:pt x="3861" y="5"/>
                      <a:pt x="3860" y="5"/>
                    </a:cubicBezTo>
                    <a:lnTo>
                      <a:pt x="3860" y="5"/>
                    </a:lnTo>
                    <a:cubicBezTo>
                      <a:pt x="3859" y="5"/>
                      <a:pt x="3858" y="4"/>
                      <a:pt x="3858" y="3"/>
                    </a:cubicBezTo>
                    <a:cubicBezTo>
                      <a:pt x="3858" y="2"/>
                      <a:pt x="3859" y="1"/>
                      <a:pt x="3860" y="1"/>
                    </a:cubicBezTo>
                    <a:close/>
                    <a:moveTo>
                      <a:pt x="3868" y="1"/>
                    </a:moveTo>
                    <a:lnTo>
                      <a:pt x="3868" y="1"/>
                    </a:lnTo>
                    <a:cubicBezTo>
                      <a:pt x="3869" y="1"/>
                      <a:pt x="3870" y="2"/>
                      <a:pt x="3870" y="3"/>
                    </a:cubicBezTo>
                    <a:cubicBezTo>
                      <a:pt x="3870" y="4"/>
                      <a:pt x="3869" y="5"/>
                      <a:pt x="3868" y="5"/>
                    </a:cubicBezTo>
                    <a:lnTo>
                      <a:pt x="3868" y="5"/>
                    </a:lnTo>
                    <a:cubicBezTo>
                      <a:pt x="3867" y="5"/>
                      <a:pt x="3866" y="4"/>
                      <a:pt x="3866" y="3"/>
                    </a:cubicBezTo>
                    <a:cubicBezTo>
                      <a:pt x="3866" y="2"/>
                      <a:pt x="3867" y="1"/>
                      <a:pt x="3868" y="1"/>
                    </a:cubicBezTo>
                    <a:close/>
                    <a:moveTo>
                      <a:pt x="3876" y="1"/>
                    </a:moveTo>
                    <a:lnTo>
                      <a:pt x="3876" y="1"/>
                    </a:lnTo>
                    <a:cubicBezTo>
                      <a:pt x="3877" y="1"/>
                      <a:pt x="3878" y="2"/>
                      <a:pt x="3878" y="3"/>
                    </a:cubicBezTo>
                    <a:cubicBezTo>
                      <a:pt x="3878" y="4"/>
                      <a:pt x="3877" y="5"/>
                      <a:pt x="3876" y="5"/>
                    </a:cubicBezTo>
                    <a:lnTo>
                      <a:pt x="3876" y="5"/>
                    </a:lnTo>
                    <a:cubicBezTo>
                      <a:pt x="3875" y="5"/>
                      <a:pt x="3874" y="4"/>
                      <a:pt x="3874" y="3"/>
                    </a:cubicBezTo>
                    <a:cubicBezTo>
                      <a:pt x="3874" y="2"/>
                      <a:pt x="3875" y="1"/>
                      <a:pt x="3876" y="1"/>
                    </a:cubicBezTo>
                    <a:close/>
                    <a:moveTo>
                      <a:pt x="3884" y="1"/>
                    </a:moveTo>
                    <a:lnTo>
                      <a:pt x="3884" y="1"/>
                    </a:lnTo>
                    <a:cubicBezTo>
                      <a:pt x="3885" y="1"/>
                      <a:pt x="3886" y="2"/>
                      <a:pt x="3886" y="3"/>
                    </a:cubicBezTo>
                    <a:cubicBezTo>
                      <a:pt x="3886" y="4"/>
                      <a:pt x="3885" y="5"/>
                      <a:pt x="3884" y="5"/>
                    </a:cubicBezTo>
                    <a:lnTo>
                      <a:pt x="3884" y="5"/>
                    </a:lnTo>
                    <a:cubicBezTo>
                      <a:pt x="3883" y="5"/>
                      <a:pt x="3882" y="4"/>
                      <a:pt x="3882" y="3"/>
                    </a:cubicBezTo>
                    <a:cubicBezTo>
                      <a:pt x="3882" y="2"/>
                      <a:pt x="3883" y="1"/>
                      <a:pt x="3884" y="1"/>
                    </a:cubicBezTo>
                    <a:close/>
                    <a:moveTo>
                      <a:pt x="3892" y="1"/>
                    </a:moveTo>
                    <a:lnTo>
                      <a:pt x="3892" y="1"/>
                    </a:lnTo>
                    <a:cubicBezTo>
                      <a:pt x="3893" y="1"/>
                      <a:pt x="3894" y="2"/>
                      <a:pt x="3894" y="3"/>
                    </a:cubicBezTo>
                    <a:cubicBezTo>
                      <a:pt x="3894" y="4"/>
                      <a:pt x="3893" y="5"/>
                      <a:pt x="3892" y="5"/>
                    </a:cubicBezTo>
                    <a:lnTo>
                      <a:pt x="3892" y="5"/>
                    </a:lnTo>
                    <a:cubicBezTo>
                      <a:pt x="3891" y="5"/>
                      <a:pt x="3890" y="4"/>
                      <a:pt x="3890" y="3"/>
                    </a:cubicBezTo>
                    <a:cubicBezTo>
                      <a:pt x="3890" y="2"/>
                      <a:pt x="3891" y="1"/>
                      <a:pt x="3892" y="1"/>
                    </a:cubicBezTo>
                    <a:close/>
                    <a:moveTo>
                      <a:pt x="3900" y="1"/>
                    </a:moveTo>
                    <a:lnTo>
                      <a:pt x="3900" y="1"/>
                    </a:lnTo>
                    <a:cubicBezTo>
                      <a:pt x="3901" y="1"/>
                      <a:pt x="3902" y="2"/>
                      <a:pt x="3902" y="3"/>
                    </a:cubicBezTo>
                    <a:cubicBezTo>
                      <a:pt x="3902" y="4"/>
                      <a:pt x="3901" y="5"/>
                      <a:pt x="3900" y="5"/>
                    </a:cubicBezTo>
                    <a:lnTo>
                      <a:pt x="3900" y="5"/>
                    </a:lnTo>
                    <a:cubicBezTo>
                      <a:pt x="3899" y="5"/>
                      <a:pt x="3898" y="4"/>
                      <a:pt x="3898" y="3"/>
                    </a:cubicBezTo>
                    <a:cubicBezTo>
                      <a:pt x="3898" y="2"/>
                      <a:pt x="3899" y="1"/>
                      <a:pt x="3900" y="1"/>
                    </a:cubicBezTo>
                    <a:close/>
                    <a:moveTo>
                      <a:pt x="3908" y="1"/>
                    </a:moveTo>
                    <a:lnTo>
                      <a:pt x="3908" y="1"/>
                    </a:lnTo>
                    <a:cubicBezTo>
                      <a:pt x="3909" y="1"/>
                      <a:pt x="3910" y="2"/>
                      <a:pt x="3910" y="3"/>
                    </a:cubicBezTo>
                    <a:cubicBezTo>
                      <a:pt x="3910" y="4"/>
                      <a:pt x="3909" y="5"/>
                      <a:pt x="3908" y="5"/>
                    </a:cubicBezTo>
                    <a:lnTo>
                      <a:pt x="3908" y="5"/>
                    </a:lnTo>
                    <a:cubicBezTo>
                      <a:pt x="3907" y="5"/>
                      <a:pt x="3906" y="4"/>
                      <a:pt x="3906" y="3"/>
                    </a:cubicBezTo>
                    <a:cubicBezTo>
                      <a:pt x="3906" y="2"/>
                      <a:pt x="3907" y="1"/>
                      <a:pt x="3908" y="1"/>
                    </a:cubicBezTo>
                    <a:close/>
                    <a:moveTo>
                      <a:pt x="3916" y="1"/>
                    </a:moveTo>
                    <a:lnTo>
                      <a:pt x="3916" y="1"/>
                    </a:lnTo>
                    <a:cubicBezTo>
                      <a:pt x="3917" y="1"/>
                      <a:pt x="3918" y="2"/>
                      <a:pt x="3918" y="3"/>
                    </a:cubicBezTo>
                    <a:cubicBezTo>
                      <a:pt x="3918" y="4"/>
                      <a:pt x="3917" y="5"/>
                      <a:pt x="3916" y="5"/>
                    </a:cubicBezTo>
                    <a:lnTo>
                      <a:pt x="3916" y="5"/>
                    </a:lnTo>
                    <a:cubicBezTo>
                      <a:pt x="3915" y="5"/>
                      <a:pt x="3914" y="4"/>
                      <a:pt x="3914" y="3"/>
                    </a:cubicBezTo>
                    <a:cubicBezTo>
                      <a:pt x="3914" y="2"/>
                      <a:pt x="3915" y="1"/>
                      <a:pt x="3916" y="1"/>
                    </a:cubicBezTo>
                    <a:close/>
                    <a:moveTo>
                      <a:pt x="3924" y="1"/>
                    </a:moveTo>
                    <a:lnTo>
                      <a:pt x="3924" y="1"/>
                    </a:lnTo>
                    <a:cubicBezTo>
                      <a:pt x="3925" y="1"/>
                      <a:pt x="3926" y="2"/>
                      <a:pt x="3926" y="3"/>
                    </a:cubicBezTo>
                    <a:cubicBezTo>
                      <a:pt x="3926" y="4"/>
                      <a:pt x="3925" y="5"/>
                      <a:pt x="3924" y="5"/>
                    </a:cubicBezTo>
                    <a:lnTo>
                      <a:pt x="3924" y="5"/>
                    </a:lnTo>
                    <a:cubicBezTo>
                      <a:pt x="3923" y="5"/>
                      <a:pt x="3922" y="4"/>
                      <a:pt x="3922" y="3"/>
                    </a:cubicBezTo>
                    <a:cubicBezTo>
                      <a:pt x="3922" y="2"/>
                      <a:pt x="3923" y="1"/>
                      <a:pt x="3924" y="1"/>
                    </a:cubicBezTo>
                    <a:close/>
                    <a:moveTo>
                      <a:pt x="3932" y="1"/>
                    </a:moveTo>
                    <a:lnTo>
                      <a:pt x="3932" y="1"/>
                    </a:lnTo>
                    <a:cubicBezTo>
                      <a:pt x="3933" y="1"/>
                      <a:pt x="3934" y="2"/>
                      <a:pt x="3934" y="3"/>
                    </a:cubicBezTo>
                    <a:cubicBezTo>
                      <a:pt x="3934" y="4"/>
                      <a:pt x="3933" y="5"/>
                      <a:pt x="3932" y="5"/>
                    </a:cubicBezTo>
                    <a:lnTo>
                      <a:pt x="3932" y="5"/>
                    </a:lnTo>
                    <a:cubicBezTo>
                      <a:pt x="3931" y="5"/>
                      <a:pt x="3930" y="4"/>
                      <a:pt x="3930" y="3"/>
                    </a:cubicBezTo>
                    <a:cubicBezTo>
                      <a:pt x="3930" y="2"/>
                      <a:pt x="3931" y="1"/>
                      <a:pt x="3932" y="1"/>
                    </a:cubicBezTo>
                    <a:close/>
                    <a:moveTo>
                      <a:pt x="3940" y="1"/>
                    </a:moveTo>
                    <a:lnTo>
                      <a:pt x="3940" y="1"/>
                    </a:lnTo>
                    <a:cubicBezTo>
                      <a:pt x="3941" y="1"/>
                      <a:pt x="3942" y="2"/>
                      <a:pt x="3942" y="3"/>
                    </a:cubicBezTo>
                    <a:cubicBezTo>
                      <a:pt x="3942" y="4"/>
                      <a:pt x="3941" y="5"/>
                      <a:pt x="3940" y="5"/>
                    </a:cubicBezTo>
                    <a:lnTo>
                      <a:pt x="3940" y="5"/>
                    </a:lnTo>
                    <a:cubicBezTo>
                      <a:pt x="3939" y="5"/>
                      <a:pt x="3938" y="4"/>
                      <a:pt x="3938" y="3"/>
                    </a:cubicBezTo>
                    <a:cubicBezTo>
                      <a:pt x="3938" y="2"/>
                      <a:pt x="3939" y="1"/>
                      <a:pt x="3940" y="1"/>
                    </a:cubicBezTo>
                    <a:close/>
                    <a:moveTo>
                      <a:pt x="3948" y="1"/>
                    </a:moveTo>
                    <a:lnTo>
                      <a:pt x="3948" y="1"/>
                    </a:lnTo>
                    <a:cubicBezTo>
                      <a:pt x="3949" y="1"/>
                      <a:pt x="3950" y="2"/>
                      <a:pt x="3950" y="3"/>
                    </a:cubicBezTo>
                    <a:cubicBezTo>
                      <a:pt x="3950" y="4"/>
                      <a:pt x="3949" y="5"/>
                      <a:pt x="3948" y="5"/>
                    </a:cubicBezTo>
                    <a:lnTo>
                      <a:pt x="3948" y="5"/>
                    </a:lnTo>
                    <a:cubicBezTo>
                      <a:pt x="3947" y="5"/>
                      <a:pt x="3946" y="4"/>
                      <a:pt x="3946" y="3"/>
                    </a:cubicBezTo>
                    <a:cubicBezTo>
                      <a:pt x="3946" y="2"/>
                      <a:pt x="3947" y="1"/>
                      <a:pt x="3948" y="1"/>
                    </a:cubicBezTo>
                    <a:close/>
                    <a:moveTo>
                      <a:pt x="3956" y="1"/>
                    </a:moveTo>
                    <a:lnTo>
                      <a:pt x="3956" y="1"/>
                    </a:lnTo>
                    <a:cubicBezTo>
                      <a:pt x="3957" y="1"/>
                      <a:pt x="3958" y="2"/>
                      <a:pt x="3958" y="3"/>
                    </a:cubicBezTo>
                    <a:cubicBezTo>
                      <a:pt x="3958" y="4"/>
                      <a:pt x="3957" y="5"/>
                      <a:pt x="3956" y="5"/>
                    </a:cubicBezTo>
                    <a:lnTo>
                      <a:pt x="3956" y="5"/>
                    </a:lnTo>
                    <a:cubicBezTo>
                      <a:pt x="3955" y="5"/>
                      <a:pt x="3954" y="4"/>
                      <a:pt x="3954" y="3"/>
                    </a:cubicBezTo>
                    <a:cubicBezTo>
                      <a:pt x="3954" y="2"/>
                      <a:pt x="3955" y="1"/>
                      <a:pt x="3956" y="1"/>
                    </a:cubicBezTo>
                    <a:close/>
                    <a:moveTo>
                      <a:pt x="3964" y="1"/>
                    </a:moveTo>
                    <a:lnTo>
                      <a:pt x="3964" y="1"/>
                    </a:lnTo>
                    <a:cubicBezTo>
                      <a:pt x="3965" y="1"/>
                      <a:pt x="3966" y="2"/>
                      <a:pt x="3966" y="3"/>
                    </a:cubicBezTo>
                    <a:cubicBezTo>
                      <a:pt x="3966" y="4"/>
                      <a:pt x="3965" y="5"/>
                      <a:pt x="3964" y="5"/>
                    </a:cubicBezTo>
                    <a:lnTo>
                      <a:pt x="3964" y="5"/>
                    </a:lnTo>
                    <a:cubicBezTo>
                      <a:pt x="3963" y="5"/>
                      <a:pt x="3962" y="4"/>
                      <a:pt x="3962" y="3"/>
                    </a:cubicBezTo>
                    <a:cubicBezTo>
                      <a:pt x="3962" y="2"/>
                      <a:pt x="3963" y="1"/>
                      <a:pt x="3964" y="1"/>
                    </a:cubicBezTo>
                    <a:close/>
                    <a:moveTo>
                      <a:pt x="3972" y="1"/>
                    </a:moveTo>
                    <a:lnTo>
                      <a:pt x="3972" y="1"/>
                    </a:lnTo>
                    <a:cubicBezTo>
                      <a:pt x="3973" y="1"/>
                      <a:pt x="3974" y="2"/>
                      <a:pt x="3974" y="3"/>
                    </a:cubicBezTo>
                    <a:cubicBezTo>
                      <a:pt x="3974" y="4"/>
                      <a:pt x="3973" y="5"/>
                      <a:pt x="3972" y="5"/>
                    </a:cubicBezTo>
                    <a:lnTo>
                      <a:pt x="3972" y="5"/>
                    </a:lnTo>
                    <a:cubicBezTo>
                      <a:pt x="3971" y="5"/>
                      <a:pt x="3970" y="4"/>
                      <a:pt x="3970" y="3"/>
                    </a:cubicBezTo>
                    <a:cubicBezTo>
                      <a:pt x="3970" y="2"/>
                      <a:pt x="3971" y="1"/>
                      <a:pt x="3972" y="1"/>
                    </a:cubicBezTo>
                    <a:close/>
                    <a:moveTo>
                      <a:pt x="3980" y="1"/>
                    </a:moveTo>
                    <a:lnTo>
                      <a:pt x="3980" y="1"/>
                    </a:lnTo>
                    <a:cubicBezTo>
                      <a:pt x="3981" y="1"/>
                      <a:pt x="3982" y="2"/>
                      <a:pt x="3982" y="3"/>
                    </a:cubicBezTo>
                    <a:cubicBezTo>
                      <a:pt x="3982" y="4"/>
                      <a:pt x="3981" y="5"/>
                      <a:pt x="3980" y="5"/>
                    </a:cubicBezTo>
                    <a:lnTo>
                      <a:pt x="3980" y="5"/>
                    </a:lnTo>
                    <a:cubicBezTo>
                      <a:pt x="3979" y="5"/>
                      <a:pt x="3978" y="4"/>
                      <a:pt x="3978" y="3"/>
                    </a:cubicBezTo>
                    <a:cubicBezTo>
                      <a:pt x="3978" y="2"/>
                      <a:pt x="3979" y="1"/>
                      <a:pt x="3980" y="1"/>
                    </a:cubicBezTo>
                    <a:close/>
                    <a:moveTo>
                      <a:pt x="3988" y="1"/>
                    </a:moveTo>
                    <a:lnTo>
                      <a:pt x="3988" y="1"/>
                    </a:lnTo>
                    <a:cubicBezTo>
                      <a:pt x="3989" y="1"/>
                      <a:pt x="3990" y="2"/>
                      <a:pt x="3990" y="3"/>
                    </a:cubicBezTo>
                    <a:cubicBezTo>
                      <a:pt x="3990" y="4"/>
                      <a:pt x="3989" y="5"/>
                      <a:pt x="3988" y="5"/>
                    </a:cubicBezTo>
                    <a:lnTo>
                      <a:pt x="3988" y="5"/>
                    </a:lnTo>
                    <a:cubicBezTo>
                      <a:pt x="3987" y="5"/>
                      <a:pt x="3986" y="4"/>
                      <a:pt x="3986" y="3"/>
                    </a:cubicBezTo>
                    <a:cubicBezTo>
                      <a:pt x="3986" y="2"/>
                      <a:pt x="3987" y="1"/>
                      <a:pt x="3988" y="1"/>
                    </a:cubicBezTo>
                    <a:close/>
                    <a:moveTo>
                      <a:pt x="3996" y="1"/>
                    </a:moveTo>
                    <a:lnTo>
                      <a:pt x="3996" y="1"/>
                    </a:lnTo>
                    <a:cubicBezTo>
                      <a:pt x="3997" y="1"/>
                      <a:pt x="3998" y="2"/>
                      <a:pt x="3998" y="3"/>
                    </a:cubicBezTo>
                    <a:cubicBezTo>
                      <a:pt x="3998" y="4"/>
                      <a:pt x="3997" y="5"/>
                      <a:pt x="3996" y="5"/>
                    </a:cubicBezTo>
                    <a:lnTo>
                      <a:pt x="3996" y="5"/>
                    </a:lnTo>
                    <a:cubicBezTo>
                      <a:pt x="3995" y="5"/>
                      <a:pt x="3994" y="4"/>
                      <a:pt x="3994" y="3"/>
                    </a:cubicBezTo>
                    <a:cubicBezTo>
                      <a:pt x="3994" y="2"/>
                      <a:pt x="3995" y="1"/>
                      <a:pt x="3996" y="1"/>
                    </a:cubicBezTo>
                    <a:close/>
                    <a:moveTo>
                      <a:pt x="4004" y="1"/>
                    </a:moveTo>
                    <a:lnTo>
                      <a:pt x="4004" y="1"/>
                    </a:lnTo>
                    <a:cubicBezTo>
                      <a:pt x="4005" y="1"/>
                      <a:pt x="4006" y="2"/>
                      <a:pt x="4006" y="3"/>
                    </a:cubicBezTo>
                    <a:cubicBezTo>
                      <a:pt x="4006" y="4"/>
                      <a:pt x="4005" y="5"/>
                      <a:pt x="4004" y="5"/>
                    </a:cubicBezTo>
                    <a:lnTo>
                      <a:pt x="4004" y="5"/>
                    </a:lnTo>
                    <a:cubicBezTo>
                      <a:pt x="4003" y="5"/>
                      <a:pt x="4002" y="4"/>
                      <a:pt x="4002" y="3"/>
                    </a:cubicBezTo>
                    <a:cubicBezTo>
                      <a:pt x="4002" y="2"/>
                      <a:pt x="4003" y="1"/>
                      <a:pt x="4004" y="1"/>
                    </a:cubicBezTo>
                    <a:close/>
                    <a:moveTo>
                      <a:pt x="4012" y="1"/>
                    </a:moveTo>
                    <a:lnTo>
                      <a:pt x="4012" y="1"/>
                    </a:lnTo>
                    <a:cubicBezTo>
                      <a:pt x="4013" y="1"/>
                      <a:pt x="4014" y="2"/>
                      <a:pt x="4014" y="3"/>
                    </a:cubicBezTo>
                    <a:cubicBezTo>
                      <a:pt x="4014" y="4"/>
                      <a:pt x="4013" y="5"/>
                      <a:pt x="4012" y="5"/>
                    </a:cubicBezTo>
                    <a:lnTo>
                      <a:pt x="4012" y="5"/>
                    </a:lnTo>
                    <a:cubicBezTo>
                      <a:pt x="4011" y="5"/>
                      <a:pt x="4010" y="4"/>
                      <a:pt x="4010" y="3"/>
                    </a:cubicBezTo>
                    <a:cubicBezTo>
                      <a:pt x="4010" y="2"/>
                      <a:pt x="4011" y="1"/>
                      <a:pt x="4012" y="1"/>
                    </a:cubicBezTo>
                    <a:close/>
                    <a:moveTo>
                      <a:pt x="4020" y="1"/>
                    </a:moveTo>
                    <a:lnTo>
                      <a:pt x="4020" y="1"/>
                    </a:lnTo>
                    <a:cubicBezTo>
                      <a:pt x="4021" y="1"/>
                      <a:pt x="4022" y="2"/>
                      <a:pt x="4022" y="3"/>
                    </a:cubicBezTo>
                    <a:cubicBezTo>
                      <a:pt x="4022" y="4"/>
                      <a:pt x="4021" y="5"/>
                      <a:pt x="4020" y="5"/>
                    </a:cubicBezTo>
                    <a:lnTo>
                      <a:pt x="4020" y="5"/>
                    </a:lnTo>
                    <a:cubicBezTo>
                      <a:pt x="4019" y="5"/>
                      <a:pt x="4018" y="4"/>
                      <a:pt x="4018" y="3"/>
                    </a:cubicBezTo>
                    <a:cubicBezTo>
                      <a:pt x="4018" y="2"/>
                      <a:pt x="4019" y="1"/>
                      <a:pt x="4020" y="1"/>
                    </a:cubicBezTo>
                    <a:close/>
                    <a:moveTo>
                      <a:pt x="4028" y="1"/>
                    </a:moveTo>
                    <a:lnTo>
                      <a:pt x="4028" y="1"/>
                    </a:lnTo>
                    <a:cubicBezTo>
                      <a:pt x="4029" y="1"/>
                      <a:pt x="4030" y="2"/>
                      <a:pt x="4030" y="3"/>
                    </a:cubicBezTo>
                    <a:cubicBezTo>
                      <a:pt x="4030" y="4"/>
                      <a:pt x="4029" y="5"/>
                      <a:pt x="4028" y="5"/>
                    </a:cubicBezTo>
                    <a:lnTo>
                      <a:pt x="4028" y="5"/>
                    </a:lnTo>
                    <a:cubicBezTo>
                      <a:pt x="4027" y="5"/>
                      <a:pt x="4026" y="4"/>
                      <a:pt x="4026" y="3"/>
                    </a:cubicBezTo>
                    <a:cubicBezTo>
                      <a:pt x="4026" y="2"/>
                      <a:pt x="4027" y="1"/>
                      <a:pt x="4028" y="1"/>
                    </a:cubicBezTo>
                    <a:close/>
                    <a:moveTo>
                      <a:pt x="4036" y="1"/>
                    </a:moveTo>
                    <a:lnTo>
                      <a:pt x="4036" y="1"/>
                    </a:lnTo>
                    <a:cubicBezTo>
                      <a:pt x="4037" y="1"/>
                      <a:pt x="4038" y="2"/>
                      <a:pt x="4038" y="3"/>
                    </a:cubicBezTo>
                    <a:cubicBezTo>
                      <a:pt x="4038" y="4"/>
                      <a:pt x="4037" y="5"/>
                      <a:pt x="4036" y="5"/>
                    </a:cubicBezTo>
                    <a:lnTo>
                      <a:pt x="4036" y="5"/>
                    </a:lnTo>
                    <a:cubicBezTo>
                      <a:pt x="4035" y="5"/>
                      <a:pt x="4034" y="4"/>
                      <a:pt x="4034" y="3"/>
                    </a:cubicBezTo>
                    <a:cubicBezTo>
                      <a:pt x="4034" y="2"/>
                      <a:pt x="4035" y="1"/>
                      <a:pt x="4036" y="1"/>
                    </a:cubicBezTo>
                    <a:close/>
                    <a:moveTo>
                      <a:pt x="4044" y="1"/>
                    </a:moveTo>
                    <a:lnTo>
                      <a:pt x="4044" y="1"/>
                    </a:lnTo>
                    <a:cubicBezTo>
                      <a:pt x="4045" y="1"/>
                      <a:pt x="4046" y="2"/>
                      <a:pt x="4046" y="3"/>
                    </a:cubicBezTo>
                    <a:cubicBezTo>
                      <a:pt x="4046" y="4"/>
                      <a:pt x="4045" y="5"/>
                      <a:pt x="4044" y="5"/>
                    </a:cubicBezTo>
                    <a:lnTo>
                      <a:pt x="4044" y="5"/>
                    </a:lnTo>
                    <a:cubicBezTo>
                      <a:pt x="4043" y="5"/>
                      <a:pt x="4042" y="4"/>
                      <a:pt x="4042" y="3"/>
                    </a:cubicBezTo>
                    <a:cubicBezTo>
                      <a:pt x="4042" y="2"/>
                      <a:pt x="4043" y="1"/>
                      <a:pt x="4044" y="1"/>
                    </a:cubicBezTo>
                    <a:close/>
                    <a:moveTo>
                      <a:pt x="4052" y="1"/>
                    </a:moveTo>
                    <a:lnTo>
                      <a:pt x="4052" y="1"/>
                    </a:lnTo>
                    <a:cubicBezTo>
                      <a:pt x="4053" y="1"/>
                      <a:pt x="4054" y="2"/>
                      <a:pt x="4054" y="3"/>
                    </a:cubicBezTo>
                    <a:cubicBezTo>
                      <a:pt x="4054" y="4"/>
                      <a:pt x="4053" y="5"/>
                      <a:pt x="4052" y="5"/>
                    </a:cubicBezTo>
                    <a:lnTo>
                      <a:pt x="4052" y="5"/>
                    </a:lnTo>
                    <a:cubicBezTo>
                      <a:pt x="4051" y="5"/>
                      <a:pt x="4050" y="4"/>
                      <a:pt x="4050" y="3"/>
                    </a:cubicBezTo>
                    <a:cubicBezTo>
                      <a:pt x="4050" y="2"/>
                      <a:pt x="4051" y="1"/>
                      <a:pt x="4052" y="1"/>
                    </a:cubicBezTo>
                    <a:close/>
                    <a:moveTo>
                      <a:pt x="4060" y="1"/>
                    </a:moveTo>
                    <a:lnTo>
                      <a:pt x="4060" y="1"/>
                    </a:lnTo>
                    <a:cubicBezTo>
                      <a:pt x="4061" y="1"/>
                      <a:pt x="4062" y="2"/>
                      <a:pt x="4062" y="3"/>
                    </a:cubicBezTo>
                    <a:cubicBezTo>
                      <a:pt x="4062" y="4"/>
                      <a:pt x="4061" y="5"/>
                      <a:pt x="4060" y="5"/>
                    </a:cubicBezTo>
                    <a:lnTo>
                      <a:pt x="4060" y="5"/>
                    </a:lnTo>
                    <a:cubicBezTo>
                      <a:pt x="4059" y="5"/>
                      <a:pt x="4058" y="4"/>
                      <a:pt x="4058" y="3"/>
                    </a:cubicBezTo>
                    <a:cubicBezTo>
                      <a:pt x="4058" y="2"/>
                      <a:pt x="4059" y="1"/>
                      <a:pt x="4060" y="1"/>
                    </a:cubicBezTo>
                    <a:close/>
                    <a:moveTo>
                      <a:pt x="4068" y="1"/>
                    </a:moveTo>
                    <a:lnTo>
                      <a:pt x="4068" y="1"/>
                    </a:lnTo>
                    <a:cubicBezTo>
                      <a:pt x="4069" y="1"/>
                      <a:pt x="4070" y="2"/>
                      <a:pt x="4070" y="3"/>
                    </a:cubicBezTo>
                    <a:cubicBezTo>
                      <a:pt x="4070" y="4"/>
                      <a:pt x="4069" y="5"/>
                      <a:pt x="4068" y="5"/>
                    </a:cubicBezTo>
                    <a:lnTo>
                      <a:pt x="4068" y="5"/>
                    </a:lnTo>
                    <a:cubicBezTo>
                      <a:pt x="4067" y="5"/>
                      <a:pt x="4066" y="4"/>
                      <a:pt x="4066" y="3"/>
                    </a:cubicBezTo>
                    <a:cubicBezTo>
                      <a:pt x="4066" y="2"/>
                      <a:pt x="4067" y="1"/>
                      <a:pt x="4068" y="1"/>
                    </a:cubicBezTo>
                    <a:close/>
                    <a:moveTo>
                      <a:pt x="4076" y="1"/>
                    </a:moveTo>
                    <a:lnTo>
                      <a:pt x="4076" y="1"/>
                    </a:lnTo>
                    <a:cubicBezTo>
                      <a:pt x="4077" y="1"/>
                      <a:pt x="4078" y="2"/>
                      <a:pt x="4078" y="3"/>
                    </a:cubicBezTo>
                    <a:cubicBezTo>
                      <a:pt x="4078" y="4"/>
                      <a:pt x="4077" y="5"/>
                      <a:pt x="4076" y="5"/>
                    </a:cubicBezTo>
                    <a:lnTo>
                      <a:pt x="4076" y="5"/>
                    </a:lnTo>
                    <a:cubicBezTo>
                      <a:pt x="4075" y="5"/>
                      <a:pt x="4074" y="4"/>
                      <a:pt x="4074" y="3"/>
                    </a:cubicBezTo>
                    <a:cubicBezTo>
                      <a:pt x="4074" y="2"/>
                      <a:pt x="4075" y="1"/>
                      <a:pt x="4076" y="1"/>
                    </a:cubicBezTo>
                    <a:close/>
                    <a:moveTo>
                      <a:pt x="4084" y="1"/>
                    </a:moveTo>
                    <a:lnTo>
                      <a:pt x="4084" y="1"/>
                    </a:lnTo>
                    <a:cubicBezTo>
                      <a:pt x="4085" y="1"/>
                      <a:pt x="4086" y="2"/>
                      <a:pt x="4086" y="3"/>
                    </a:cubicBezTo>
                    <a:cubicBezTo>
                      <a:pt x="4086" y="4"/>
                      <a:pt x="4085" y="5"/>
                      <a:pt x="4084" y="5"/>
                    </a:cubicBezTo>
                    <a:lnTo>
                      <a:pt x="4084" y="5"/>
                    </a:lnTo>
                    <a:cubicBezTo>
                      <a:pt x="4083" y="5"/>
                      <a:pt x="4082" y="4"/>
                      <a:pt x="4082" y="3"/>
                    </a:cubicBezTo>
                    <a:cubicBezTo>
                      <a:pt x="4082" y="2"/>
                      <a:pt x="4083" y="1"/>
                      <a:pt x="4084" y="1"/>
                    </a:cubicBezTo>
                    <a:close/>
                    <a:moveTo>
                      <a:pt x="4092" y="1"/>
                    </a:moveTo>
                    <a:lnTo>
                      <a:pt x="4092" y="1"/>
                    </a:lnTo>
                    <a:cubicBezTo>
                      <a:pt x="4093" y="1"/>
                      <a:pt x="4094" y="2"/>
                      <a:pt x="4094" y="3"/>
                    </a:cubicBezTo>
                    <a:cubicBezTo>
                      <a:pt x="4094" y="4"/>
                      <a:pt x="4093" y="5"/>
                      <a:pt x="4092" y="5"/>
                    </a:cubicBezTo>
                    <a:lnTo>
                      <a:pt x="4092" y="5"/>
                    </a:lnTo>
                    <a:cubicBezTo>
                      <a:pt x="4091" y="5"/>
                      <a:pt x="4090" y="4"/>
                      <a:pt x="4090" y="3"/>
                    </a:cubicBezTo>
                    <a:cubicBezTo>
                      <a:pt x="4090" y="2"/>
                      <a:pt x="4091" y="1"/>
                      <a:pt x="4092" y="1"/>
                    </a:cubicBezTo>
                    <a:close/>
                    <a:moveTo>
                      <a:pt x="4100" y="1"/>
                    </a:moveTo>
                    <a:lnTo>
                      <a:pt x="4100" y="1"/>
                    </a:lnTo>
                    <a:cubicBezTo>
                      <a:pt x="4101" y="1"/>
                      <a:pt x="4102" y="2"/>
                      <a:pt x="4102" y="3"/>
                    </a:cubicBezTo>
                    <a:cubicBezTo>
                      <a:pt x="4102" y="4"/>
                      <a:pt x="4101" y="5"/>
                      <a:pt x="4100" y="5"/>
                    </a:cubicBezTo>
                    <a:lnTo>
                      <a:pt x="4100" y="5"/>
                    </a:lnTo>
                    <a:cubicBezTo>
                      <a:pt x="4099" y="5"/>
                      <a:pt x="4098" y="4"/>
                      <a:pt x="4098" y="3"/>
                    </a:cubicBezTo>
                    <a:cubicBezTo>
                      <a:pt x="4098" y="2"/>
                      <a:pt x="4099" y="1"/>
                      <a:pt x="4100" y="1"/>
                    </a:cubicBezTo>
                    <a:close/>
                    <a:moveTo>
                      <a:pt x="4108" y="1"/>
                    </a:moveTo>
                    <a:lnTo>
                      <a:pt x="4108" y="1"/>
                    </a:lnTo>
                    <a:cubicBezTo>
                      <a:pt x="4109" y="1"/>
                      <a:pt x="4110" y="2"/>
                      <a:pt x="4110" y="3"/>
                    </a:cubicBezTo>
                    <a:cubicBezTo>
                      <a:pt x="4110" y="4"/>
                      <a:pt x="4109" y="5"/>
                      <a:pt x="4108" y="5"/>
                    </a:cubicBezTo>
                    <a:lnTo>
                      <a:pt x="4108" y="5"/>
                    </a:lnTo>
                    <a:cubicBezTo>
                      <a:pt x="4107" y="5"/>
                      <a:pt x="4106" y="4"/>
                      <a:pt x="4106" y="3"/>
                    </a:cubicBezTo>
                    <a:cubicBezTo>
                      <a:pt x="4106" y="2"/>
                      <a:pt x="4107" y="1"/>
                      <a:pt x="4108" y="1"/>
                    </a:cubicBezTo>
                    <a:close/>
                    <a:moveTo>
                      <a:pt x="4116" y="1"/>
                    </a:moveTo>
                    <a:lnTo>
                      <a:pt x="4116" y="1"/>
                    </a:lnTo>
                    <a:cubicBezTo>
                      <a:pt x="4117" y="1"/>
                      <a:pt x="4118" y="2"/>
                      <a:pt x="4118" y="3"/>
                    </a:cubicBezTo>
                    <a:cubicBezTo>
                      <a:pt x="4118" y="4"/>
                      <a:pt x="4117" y="5"/>
                      <a:pt x="4116" y="5"/>
                    </a:cubicBezTo>
                    <a:lnTo>
                      <a:pt x="4116" y="5"/>
                    </a:lnTo>
                    <a:cubicBezTo>
                      <a:pt x="4115" y="5"/>
                      <a:pt x="4114" y="4"/>
                      <a:pt x="4114" y="3"/>
                    </a:cubicBezTo>
                    <a:cubicBezTo>
                      <a:pt x="4114" y="2"/>
                      <a:pt x="4115" y="1"/>
                      <a:pt x="4116" y="1"/>
                    </a:cubicBezTo>
                    <a:close/>
                    <a:moveTo>
                      <a:pt x="4124" y="1"/>
                    </a:moveTo>
                    <a:lnTo>
                      <a:pt x="4124" y="1"/>
                    </a:lnTo>
                    <a:cubicBezTo>
                      <a:pt x="4125" y="1"/>
                      <a:pt x="4126" y="2"/>
                      <a:pt x="4126" y="3"/>
                    </a:cubicBezTo>
                    <a:cubicBezTo>
                      <a:pt x="4126" y="4"/>
                      <a:pt x="4125" y="5"/>
                      <a:pt x="4124" y="5"/>
                    </a:cubicBezTo>
                    <a:lnTo>
                      <a:pt x="4124" y="5"/>
                    </a:lnTo>
                    <a:cubicBezTo>
                      <a:pt x="4123" y="5"/>
                      <a:pt x="4122" y="4"/>
                      <a:pt x="4122" y="3"/>
                    </a:cubicBezTo>
                    <a:cubicBezTo>
                      <a:pt x="4122" y="2"/>
                      <a:pt x="4123" y="1"/>
                      <a:pt x="4124" y="1"/>
                    </a:cubicBezTo>
                    <a:close/>
                    <a:moveTo>
                      <a:pt x="4132" y="1"/>
                    </a:moveTo>
                    <a:lnTo>
                      <a:pt x="4132" y="1"/>
                    </a:lnTo>
                    <a:cubicBezTo>
                      <a:pt x="4133" y="1"/>
                      <a:pt x="4134" y="2"/>
                      <a:pt x="4134" y="3"/>
                    </a:cubicBezTo>
                    <a:cubicBezTo>
                      <a:pt x="4134" y="4"/>
                      <a:pt x="4133" y="5"/>
                      <a:pt x="4132" y="5"/>
                    </a:cubicBezTo>
                    <a:lnTo>
                      <a:pt x="4132" y="5"/>
                    </a:lnTo>
                    <a:cubicBezTo>
                      <a:pt x="4131" y="5"/>
                      <a:pt x="4130" y="4"/>
                      <a:pt x="4130" y="3"/>
                    </a:cubicBezTo>
                    <a:cubicBezTo>
                      <a:pt x="4130" y="2"/>
                      <a:pt x="4131" y="1"/>
                      <a:pt x="4132" y="1"/>
                    </a:cubicBezTo>
                    <a:close/>
                    <a:moveTo>
                      <a:pt x="4140" y="1"/>
                    </a:moveTo>
                    <a:lnTo>
                      <a:pt x="4140" y="1"/>
                    </a:lnTo>
                    <a:cubicBezTo>
                      <a:pt x="4141" y="1"/>
                      <a:pt x="4142" y="2"/>
                      <a:pt x="4142" y="3"/>
                    </a:cubicBezTo>
                    <a:cubicBezTo>
                      <a:pt x="4142" y="4"/>
                      <a:pt x="4141" y="5"/>
                      <a:pt x="4140" y="5"/>
                    </a:cubicBezTo>
                    <a:lnTo>
                      <a:pt x="4140" y="5"/>
                    </a:lnTo>
                    <a:cubicBezTo>
                      <a:pt x="4139" y="5"/>
                      <a:pt x="4138" y="4"/>
                      <a:pt x="4138" y="3"/>
                    </a:cubicBezTo>
                    <a:cubicBezTo>
                      <a:pt x="4138" y="2"/>
                      <a:pt x="4139" y="1"/>
                      <a:pt x="4140" y="1"/>
                    </a:cubicBezTo>
                    <a:close/>
                    <a:moveTo>
                      <a:pt x="4148" y="1"/>
                    </a:moveTo>
                    <a:lnTo>
                      <a:pt x="4148" y="1"/>
                    </a:lnTo>
                    <a:cubicBezTo>
                      <a:pt x="4149" y="1"/>
                      <a:pt x="4150" y="2"/>
                      <a:pt x="4150" y="3"/>
                    </a:cubicBezTo>
                    <a:cubicBezTo>
                      <a:pt x="4150" y="4"/>
                      <a:pt x="4149" y="5"/>
                      <a:pt x="4148" y="5"/>
                    </a:cubicBezTo>
                    <a:lnTo>
                      <a:pt x="4148" y="5"/>
                    </a:lnTo>
                    <a:cubicBezTo>
                      <a:pt x="4147" y="5"/>
                      <a:pt x="4146" y="4"/>
                      <a:pt x="4146" y="3"/>
                    </a:cubicBezTo>
                    <a:cubicBezTo>
                      <a:pt x="4146" y="2"/>
                      <a:pt x="4147" y="1"/>
                      <a:pt x="4148" y="1"/>
                    </a:cubicBezTo>
                    <a:close/>
                    <a:moveTo>
                      <a:pt x="4156" y="1"/>
                    </a:moveTo>
                    <a:lnTo>
                      <a:pt x="4156" y="1"/>
                    </a:lnTo>
                    <a:cubicBezTo>
                      <a:pt x="4157" y="1"/>
                      <a:pt x="4158" y="2"/>
                      <a:pt x="4158" y="3"/>
                    </a:cubicBezTo>
                    <a:cubicBezTo>
                      <a:pt x="4158" y="4"/>
                      <a:pt x="4157" y="5"/>
                      <a:pt x="4156" y="5"/>
                    </a:cubicBezTo>
                    <a:lnTo>
                      <a:pt x="4156" y="5"/>
                    </a:lnTo>
                    <a:cubicBezTo>
                      <a:pt x="4155" y="5"/>
                      <a:pt x="4154" y="4"/>
                      <a:pt x="4154" y="3"/>
                    </a:cubicBezTo>
                    <a:cubicBezTo>
                      <a:pt x="4154" y="2"/>
                      <a:pt x="4155" y="1"/>
                      <a:pt x="4156" y="1"/>
                    </a:cubicBezTo>
                    <a:close/>
                    <a:moveTo>
                      <a:pt x="4164" y="1"/>
                    </a:moveTo>
                    <a:lnTo>
                      <a:pt x="4164" y="1"/>
                    </a:lnTo>
                    <a:cubicBezTo>
                      <a:pt x="4165" y="1"/>
                      <a:pt x="4166" y="2"/>
                      <a:pt x="4166" y="3"/>
                    </a:cubicBezTo>
                    <a:cubicBezTo>
                      <a:pt x="4166" y="4"/>
                      <a:pt x="4165" y="5"/>
                      <a:pt x="4164" y="5"/>
                    </a:cubicBezTo>
                    <a:lnTo>
                      <a:pt x="4164" y="5"/>
                    </a:lnTo>
                    <a:cubicBezTo>
                      <a:pt x="4163" y="5"/>
                      <a:pt x="4162" y="4"/>
                      <a:pt x="4162" y="3"/>
                    </a:cubicBezTo>
                    <a:cubicBezTo>
                      <a:pt x="4162" y="2"/>
                      <a:pt x="4163" y="1"/>
                      <a:pt x="4164" y="1"/>
                    </a:cubicBezTo>
                    <a:close/>
                    <a:moveTo>
                      <a:pt x="4172" y="1"/>
                    </a:moveTo>
                    <a:lnTo>
                      <a:pt x="4172" y="1"/>
                    </a:lnTo>
                    <a:cubicBezTo>
                      <a:pt x="4173" y="1"/>
                      <a:pt x="4174" y="2"/>
                      <a:pt x="4174" y="3"/>
                    </a:cubicBezTo>
                    <a:cubicBezTo>
                      <a:pt x="4174" y="4"/>
                      <a:pt x="4173" y="5"/>
                      <a:pt x="4172" y="5"/>
                    </a:cubicBezTo>
                    <a:lnTo>
                      <a:pt x="4172" y="5"/>
                    </a:lnTo>
                    <a:cubicBezTo>
                      <a:pt x="4171" y="5"/>
                      <a:pt x="4170" y="4"/>
                      <a:pt x="4170" y="3"/>
                    </a:cubicBezTo>
                    <a:cubicBezTo>
                      <a:pt x="4170" y="2"/>
                      <a:pt x="4171" y="1"/>
                      <a:pt x="4172" y="1"/>
                    </a:cubicBezTo>
                    <a:close/>
                    <a:moveTo>
                      <a:pt x="4180" y="1"/>
                    </a:moveTo>
                    <a:lnTo>
                      <a:pt x="4180" y="1"/>
                    </a:lnTo>
                    <a:cubicBezTo>
                      <a:pt x="4181" y="1"/>
                      <a:pt x="4182" y="2"/>
                      <a:pt x="4182" y="3"/>
                    </a:cubicBezTo>
                    <a:cubicBezTo>
                      <a:pt x="4182" y="4"/>
                      <a:pt x="4181" y="5"/>
                      <a:pt x="4180" y="5"/>
                    </a:cubicBezTo>
                    <a:lnTo>
                      <a:pt x="4180" y="5"/>
                    </a:lnTo>
                    <a:cubicBezTo>
                      <a:pt x="4179" y="5"/>
                      <a:pt x="4178" y="4"/>
                      <a:pt x="4178" y="3"/>
                    </a:cubicBezTo>
                    <a:cubicBezTo>
                      <a:pt x="4178" y="2"/>
                      <a:pt x="4179" y="1"/>
                      <a:pt x="4180" y="1"/>
                    </a:cubicBezTo>
                    <a:close/>
                    <a:moveTo>
                      <a:pt x="4188" y="1"/>
                    </a:moveTo>
                    <a:lnTo>
                      <a:pt x="4188" y="1"/>
                    </a:lnTo>
                    <a:cubicBezTo>
                      <a:pt x="4189" y="1"/>
                      <a:pt x="4190" y="2"/>
                      <a:pt x="4190" y="3"/>
                    </a:cubicBezTo>
                    <a:cubicBezTo>
                      <a:pt x="4190" y="4"/>
                      <a:pt x="4189" y="5"/>
                      <a:pt x="4188" y="5"/>
                    </a:cubicBezTo>
                    <a:lnTo>
                      <a:pt x="4188" y="5"/>
                    </a:lnTo>
                    <a:cubicBezTo>
                      <a:pt x="4187" y="5"/>
                      <a:pt x="4186" y="4"/>
                      <a:pt x="4186" y="3"/>
                    </a:cubicBezTo>
                    <a:cubicBezTo>
                      <a:pt x="4186" y="2"/>
                      <a:pt x="4187" y="1"/>
                      <a:pt x="4188" y="1"/>
                    </a:cubicBezTo>
                    <a:close/>
                    <a:moveTo>
                      <a:pt x="4196" y="1"/>
                    </a:moveTo>
                    <a:lnTo>
                      <a:pt x="4196" y="1"/>
                    </a:lnTo>
                    <a:cubicBezTo>
                      <a:pt x="4197" y="1"/>
                      <a:pt x="4198" y="2"/>
                      <a:pt x="4198" y="3"/>
                    </a:cubicBezTo>
                    <a:cubicBezTo>
                      <a:pt x="4198" y="4"/>
                      <a:pt x="4197" y="5"/>
                      <a:pt x="4196" y="5"/>
                    </a:cubicBezTo>
                    <a:lnTo>
                      <a:pt x="4196" y="5"/>
                    </a:lnTo>
                    <a:cubicBezTo>
                      <a:pt x="4195" y="5"/>
                      <a:pt x="4194" y="4"/>
                      <a:pt x="4194" y="3"/>
                    </a:cubicBezTo>
                    <a:cubicBezTo>
                      <a:pt x="4194" y="2"/>
                      <a:pt x="4195" y="1"/>
                      <a:pt x="4196" y="1"/>
                    </a:cubicBezTo>
                    <a:close/>
                    <a:moveTo>
                      <a:pt x="4204" y="1"/>
                    </a:moveTo>
                    <a:lnTo>
                      <a:pt x="4204" y="1"/>
                    </a:lnTo>
                    <a:cubicBezTo>
                      <a:pt x="4205" y="1"/>
                      <a:pt x="4206" y="2"/>
                      <a:pt x="4206" y="3"/>
                    </a:cubicBezTo>
                    <a:cubicBezTo>
                      <a:pt x="4206" y="4"/>
                      <a:pt x="4205" y="5"/>
                      <a:pt x="4204" y="5"/>
                    </a:cubicBezTo>
                    <a:lnTo>
                      <a:pt x="4204" y="5"/>
                    </a:lnTo>
                    <a:cubicBezTo>
                      <a:pt x="4203" y="5"/>
                      <a:pt x="4202" y="4"/>
                      <a:pt x="4202" y="3"/>
                    </a:cubicBezTo>
                    <a:cubicBezTo>
                      <a:pt x="4202" y="2"/>
                      <a:pt x="4203" y="1"/>
                      <a:pt x="4204" y="1"/>
                    </a:cubicBezTo>
                    <a:close/>
                    <a:moveTo>
                      <a:pt x="4212" y="1"/>
                    </a:moveTo>
                    <a:lnTo>
                      <a:pt x="4212" y="1"/>
                    </a:lnTo>
                    <a:cubicBezTo>
                      <a:pt x="4213" y="1"/>
                      <a:pt x="4214" y="2"/>
                      <a:pt x="4214" y="3"/>
                    </a:cubicBezTo>
                    <a:cubicBezTo>
                      <a:pt x="4214" y="4"/>
                      <a:pt x="4213" y="5"/>
                      <a:pt x="4212" y="5"/>
                    </a:cubicBezTo>
                    <a:lnTo>
                      <a:pt x="4212" y="5"/>
                    </a:lnTo>
                    <a:cubicBezTo>
                      <a:pt x="4211" y="5"/>
                      <a:pt x="4210" y="4"/>
                      <a:pt x="4210" y="3"/>
                    </a:cubicBezTo>
                    <a:cubicBezTo>
                      <a:pt x="4210" y="2"/>
                      <a:pt x="4211" y="1"/>
                      <a:pt x="4212" y="1"/>
                    </a:cubicBezTo>
                    <a:close/>
                    <a:moveTo>
                      <a:pt x="4220" y="1"/>
                    </a:moveTo>
                    <a:lnTo>
                      <a:pt x="4220" y="1"/>
                    </a:lnTo>
                    <a:cubicBezTo>
                      <a:pt x="4221" y="1"/>
                      <a:pt x="4222" y="2"/>
                      <a:pt x="4222" y="3"/>
                    </a:cubicBezTo>
                    <a:cubicBezTo>
                      <a:pt x="4222" y="4"/>
                      <a:pt x="4221" y="5"/>
                      <a:pt x="4220" y="5"/>
                    </a:cubicBezTo>
                    <a:lnTo>
                      <a:pt x="4220" y="5"/>
                    </a:lnTo>
                    <a:cubicBezTo>
                      <a:pt x="4219" y="5"/>
                      <a:pt x="4218" y="4"/>
                      <a:pt x="4218" y="3"/>
                    </a:cubicBezTo>
                    <a:cubicBezTo>
                      <a:pt x="4218" y="2"/>
                      <a:pt x="4219" y="1"/>
                      <a:pt x="4220" y="1"/>
                    </a:cubicBezTo>
                    <a:close/>
                    <a:moveTo>
                      <a:pt x="4228" y="1"/>
                    </a:moveTo>
                    <a:lnTo>
                      <a:pt x="4228" y="1"/>
                    </a:lnTo>
                    <a:cubicBezTo>
                      <a:pt x="4229" y="1"/>
                      <a:pt x="4230" y="2"/>
                      <a:pt x="4230" y="3"/>
                    </a:cubicBezTo>
                    <a:cubicBezTo>
                      <a:pt x="4230" y="4"/>
                      <a:pt x="4229" y="5"/>
                      <a:pt x="4228" y="5"/>
                    </a:cubicBezTo>
                    <a:lnTo>
                      <a:pt x="4228" y="5"/>
                    </a:lnTo>
                    <a:cubicBezTo>
                      <a:pt x="4227" y="5"/>
                      <a:pt x="4226" y="4"/>
                      <a:pt x="4226" y="3"/>
                    </a:cubicBezTo>
                    <a:cubicBezTo>
                      <a:pt x="4226" y="2"/>
                      <a:pt x="4227" y="1"/>
                      <a:pt x="4228" y="1"/>
                    </a:cubicBezTo>
                    <a:close/>
                    <a:moveTo>
                      <a:pt x="4236" y="1"/>
                    </a:moveTo>
                    <a:lnTo>
                      <a:pt x="4236" y="1"/>
                    </a:lnTo>
                    <a:cubicBezTo>
                      <a:pt x="4237" y="1"/>
                      <a:pt x="4238" y="2"/>
                      <a:pt x="4238" y="3"/>
                    </a:cubicBezTo>
                    <a:cubicBezTo>
                      <a:pt x="4238" y="4"/>
                      <a:pt x="4237" y="5"/>
                      <a:pt x="4236" y="5"/>
                    </a:cubicBezTo>
                    <a:lnTo>
                      <a:pt x="4236" y="5"/>
                    </a:lnTo>
                    <a:cubicBezTo>
                      <a:pt x="4235" y="5"/>
                      <a:pt x="4234" y="4"/>
                      <a:pt x="4234" y="3"/>
                    </a:cubicBezTo>
                    <a:cubicBezTo>
                      <a:pt x="4234" y="2"/>
                      <a:pt x="4235" y="1"/>
                      <a:pt x="4236" y="1"/>
                    </a:cubicBezTo>
                    <a:close/>
                    <a:moveTo>
                      <a:pt x="4244" y="1"/>
                    </a:moveTo>
                    <a:lnTo>
                      <a:pt x="4244" y="1"/>
                    </a:lnTo>
                    <a:cubicBezTo>
                      <a:pt x="4245" y="1"/>
                      <a:pt x="4246" y="2"/>
                      <a:pt x="4246" y="3"/>
                    </a:cubicBezTo>
                    <a:cubicBezTo>
                      <a:pt x="4246" y="4"/>
                      <a:pt x="4245" y="5"/>
                      <a:pt x="4244" y="5"/>
                    </a:cubicBezTo>
                    <a:lnTo>
                      <a:pt x="4244" y="5"/>
                    </a:lnTo>
                    <a:cubicBezTo>
                      <a:pt x="4243" y="5"/>
                      <a:pt x="4242" y="4"/>
                      <a:pt x="4242" y="3"/>
                    </a:cubicBezTo>
                    <a:cubicBezTo>
                      <a:pt x="4242" y="2"/>
                      <a:pt x="4243" y="1"/>
                      <a:pt x="4244" y="1"/>
                    </a:cubicBezTo>
                    <a:close/>
                    <a:moveTo>
                      <a:pt x="4252" y="1"/>
                    </a:moveTo>
                    <a:lnTo>
                      <a:pt x="4252" y="1"/>
                    </a:lnTo>
                    <a:cubicBezTo>
                      <a:pt x="4253" y="1"/>
                      <a:pt x="4254" y="2"/>
                      <a:pt x="4254" y="3"/>
                    </a:cubicBezTo>
                    <a:cubicBezTo>
                      <a:pt x="4254" y="4"/>
                      <a:pt x="4253" y="5"/>
                      <a:pt x="4252" y="5"/>
                    </a:cubicBezTo>
                    <a:lnTo>
                      <a:pt x="4252" y="5"/>
                    </a:lnTo>
                    <a:cubicBezTo>
                      <a:pt x="4251" y="5"/>
                      <a:pt x="4250" y="4"/>
                      <a:pt x="4250" y="3"/>
                    </a:cubicBezTo>
                    <a:cubicBezTo>
                      <a:pt x="4250" y="2"/>
                      <a:pt x="4251" y="1"/>
                      <a:pt x="4252" y="1"/>
                    </a:cubicBezTo>
                    <a:close/>
                    <a:moveTo>
                      <a:pt x="4260" y="1"/>
                    </a:moveTo>
                    <a:lnTo>
                      <a:pt x="4260" y="1"/>
                    </a:lnTo>
                    <a:cubicBezTo>
                      <a:pt x="4261" y="1"/>
                      <a:pt x="4262" y="2"/>
                      <a:pt x="4262" y="3"/>
                    </a:cubicBezTo>
                    <a:cubicBezTo>
                      <a:pt x="4262" y="4"/>
                      <a:pt x="4261" y="5"/>
                      <a:pt x="4260" y="5"/>
                    </a:cubicBezTo>
                    <a:lnTo>
                      <a:pt x="4260" y="5"/>
                    </a:lnTo>
                    <a:cubicBezTo>
                      <a:pt x="4259" y="5"/>
                      <a:pt x="4258" y="4"/>
                      <a:pt x="4258" y="3"/>
                    </a:cubicBezTo>
                    <a:cubicBezTo>
                      <a:pt x="4258" y="2"/>
                      <a:pt x="4259" y="1"/>
                      <a:pt x="4260" y="1"/>
                    </a:cubicBezTo>
                    <a:close/>
                    <a:moveTo>
                      <a:pt x="4268" y="1"/>
                    </a:moveTo>
                    <a:lnTo>
                      <a:pt x="4268" y="1"/>
                    </a:lnTo>
                    <a:cubicBezTo>
                      <a:pt x="4269" y="1"/>
                      <a:pt x="4270" y="2"/>
                      <a:pt x="4270" y="3"/>
                    </a:cubicBezTo>
                    <a:cubicBezTo>
                      <a:pt x="4270" y="4"/>
                      <a:pt x="4269" y="5"/>
                      <a:pt x="4268" y="5"/>
                    </a:cubicBezTo>
                    <a:lnTo>
                      <a:pt x="4268" y="5"/>
                    </a:lnTo>
                    <a:cubicBezTo>
                      <a:pt x="4267" y="5"/>
                      <a:pt x="4266" y="4"/>
                      <a:pt x="4266" y="3"/>
                    </a:cubicBezTo>
                    <a:cubicBezTo>
                      <a:pt x="4266" y="2"/>
                      <a:pt x="4267" y="1"/>
                      <a:pt x="4268" y="1"/>
                    </a:cubicBezTo>
                    <a:close/>
                    <a:moveTo>
                      <a:pt x="4276" y="1"/>
                    </a:moveTo>
                    <a:lnTo>
                      <a:pt x="4276" y="1"/>
                    </a:lnTo>
                    <a:cubicBezTo>
                      <a:pt x="4277" y="1"/>
                      <a:pt x="4278" y="2"/>
                      <a:pt x="4278" y="3"/>
                    </a:cubicBezTo>
                    <a:cubicBezTo>
                      <a:pt x="4278" y="4"/>
                      <a:pt x="4277" y="5"/>
                      <a:pt x="4276" y="5"/>
                    </a:cubicBezTo>
                    <a:lnTo>
                      <a:pt x="4276" y="5"/>
                    </a:lnTo>
                    <a:cubicBezTo>
                      <a:pt x="4275" y="5"/>
                      <a:pt x="4274" y="4"/>
                      <a:pt x="4274" y="3"/>
                    </a:cubicBezTo>
                    <a:cubicBezTo>
                      <a:pt x="4274" y="2"/>
                      <a:pt x="4275" y="1"/>
                      <a:pt x="4276" y="1"/>
                    </a:cubicBezTo>
                    <a:close/>
                    <a:moveTo>
                      <a:pt x="4284" y="1"/>
                    </a:moveTo>
                    <a:lnTo>
                      <a:pt x="4284" y="1"/>
                    </a:lnTo>
                    <a:cubicBezTo>
                      <a:pt x="4285" y="1"/>
                      <a:pt x="4286" y="2"/>
                      <a:pt x="4286" y="3"/>
                    </a:cubicBezTo>
                    <a:cubicBezTo>
                      <a:pt x="4286" y="4"/>
                      <a:pt x="4285" y="5"/>
                      <a:pt x="4284" y="5"/>
                    </a:cubicBezTo>
                    <a:lnTo>
                      <a:pt x="4284" y="5"/>
                    </a:lnTo>
                    <a:cubicBezTo>
                      <a:pt x="4283" y="5"/>
                      <a:pt x="4282" y="4"/>
                      <a:pt x="4282" y="3"/>
                    </a:cubicBezTo>
                    <a:cubicBezTo>
                      <a:pt x="4282" y="2"/>
                      <a:pt x="4283" y="1"/>
                      <a:pt x="4284" y="1"/>
                    </a:cubicBezTo>
                    <a:close/>
                    <a:moveTo>
                      <a:pt x="4292" y="1"/>
                    </a:moveTo>
                    <a:lnTo>
                      <a:pt x="4292" y="1"/>
                    </a:lnTo>
                    <a:cubicBezTo>
                      <a:pt x="4293" y="1"/>
                      <a:pt x="4294" y="2"/>
                      <a:pt x="4294" y="3"/>
                    </a:cubicBezTo>
                    <a:cubicBezTo>
                      <a:pt x="4294" y="4"/>
                      <a:pt x="4293" y="5"/>
                      <a:pt x="4292" y="5"/>
                    </a:cubicBezTo>
                    <a:lnTo>
                      <a:pt x="4292" y="5"/>
                    </a:lnTo>
                    <a:cubicBezTo>
                      <a:pt x="4291" y="5"/>
                      <a:pt x="4290" y="4"/>
                      <a:pt x="4290" y="3"/>
                    </a:cubicBezTo>
                    <a:cubicBezTo>
                      <a:pt x="4290" y="2"/>
                      <a:pt x="4291" y="1"/>
                      <a:pt x="4292" y="1"/>
                    </a:cubicBezTo>
                    <a:close/>
                    <a:moveTo>
                      <a:pt x="4300" y="1"/>
                    </a:moveTo>
                    <a:lnTo>
                      <a:pt x="4300" y="1"/>
                    </a:lnTo>
                    <a:cubicBezTo>
                      <a:pt x="4301" y="1"/>
                      <a:pt x="4302" y="2"/>
                      <a:pt x="4302" y="3"/>
                    </a:cubicBezTo>
                    <a:cubicBezTo>
                      <a:pt x="4302" y="4"/>
                      <a:pt x="4301" y="5"/>
                      <a:pt x="4300" y="5"/>
                    </a:cubicBezTo>
                    <a:lnTo>
                      <a:pt x="4300" y="5"/>
                    </a:lnTo>
                    <a:cubicBezTo>
                      <a:pt x="4299" y="5"/>
                      <a:pt x="4298" y="4"/>
                      <a:pt x="4298" y="3"/>
                    </a:cubicBezTo>
                    <a:cubicBezTo>
                      <a:pt x="4298" y="2"/>
                      <a:pt x="4299" y="1"/>
                      <a:pt x="4300" y="1"/>
                    </a:cubicBezTo>
                    <a:close/>
                    <a:moveTo>
                      <a:pt x="4308" y="1"/>
                    </a:moveTo>
                    <a:lnTo>
                      <a:pt x="4308" y="1"/>
                    </a:lnTo>
                    <a:cubicBezTo>
                      <a:pt x="4309" y="1"/>
                      <a:pt x="4310" y="2"/>
                      <a:pt x="4310" y="3"/>
                    </a:cubicBezTo>
                    <a:cubicBezTo>
                      <a:pt x="4310" y="4"/>
                      <a:pt x="4309" y="5"/>
                      <a:pt x="4308" y="5"/>
                    </a:cubicBezTo>
                    <a:lnTo>
                      <a:pt x="4308" y="5"/>
                    </a:lnTo>
                    <a:cubicBezTo>
                      <a:pt x="4307" y="5"/>
                      <a:pt x="4306" y="4"/>
                      <a:pt x="4306" y="3"/>
                    </a:cubicBezTo>
                    <a:cubicBezTo>
                      <a:pt x="4306" y="2"/>
                      <a:pt x="4307" y="1"/>
                      <a:pt x="4308" y="1"/>
                    </a:cubicBezTo>
                    <a:close/>
                    <a:moveTo>
                      <a:pt x="4316" y="1"/>
                    </a:moveTo>
                    <a:lnTo>
                      <a:pt x="4316" y="1"/>
                    </a:lnTo>
                    <a:cubicBezTo>
                      <a:pt x="4317" y="1"/>
                      <a:pt x="4318" y="2"/>
                      <a:pt x="4318" y="3"/>
                    </a:cubicBezTo>
                    <a:cubicBezTo>
                      <a:pt x="4318" y="4"/>
                      <a:pt x="4317" y="5"/>
                      <a:pt x="4316" y="5"/>
                    </a:cubicBezTo>
                    <a:lnTo>
                      <a:pt x="4316" y="5"/>
                    </a:lnTo>
                    <a:cubicBezTo>
                      <a:pt x="4315" y="5"/>
                      <a:pt x="4314" y="4"/>
                      <a:pt x="4314" y="3"/>
                    </a:cubicBezTo>
                    <a:cubicBezTo>
                      <a:pt x="4314" y="2"/>
                      <a:pt x="4315" y="1"/>
                      <a:pt x="4316" y="1"/>
                    </a:cubicBezTo>
                    <a:close/>
                    <a:moveTo>
                      <a:pt x="4324" y="1"/>
                    </a:moveTo>
                    <a:lnTo>
                      <a:pt x="4324" y="1"/>
                    </a:lnTo>
                    <a:cubicBezTo>
                      <a:pt x="4325" y="1"/>
                      <a:pt x="4326" y="2"/>
                      <a:pt x="4326" y="3"/>
                    </a:cubicBezTo>
                    <a:cubicBezTo>
                      <a:pt x="4326" y="4"/>
                      <a:pt x="4325" y="5"/>
                      <a:pt x="4324" y="5"/>
                    </a:cubicBezTo>
                    <a:lnTo>
                      <a:pt x="4324" y="5"/>
                    </a:lnTo>
                    <a:cubicBezTo>
                      <a:pt x="4323" y="5"/>
                      <a:pt x="4322" y="4"/>
                      <a:pt x="4322" y="3"/>
                    </a:cubicBezTo>
                    <a:cubicBezTo>
                      <a:pt x="4322" y="2"/>
                      <a:pt x="4323" y="1"/>
                      <a:pt x="4324" y="1"/>
                    </a:cubicBezTo>
                    <a:close/>
                    <a:moveTo>
                      <a:pt x="4332" y="1"/>
                    </a:moveTo>
                    <a:lnTo>
                      <a:pt x="4332" y="1"/>
                    </a:lnTo>
                    <a:cubicBezTo>
                      <a:pt x="4333" y="1"/>
                      <a:pt x="4334" y="2"/>
                      <a:pt x="4334" y="3"/>
                    </a:cubicBezTo>
                    <a:cubicBezTo>
                      <a:pt x="4334" y="4"/>
                      <a:pt x="4333" y="5"/>
                      <a:pt x="4332" y="5"/>
                    </a:cubicBezTo>
                    <a:lnTo>
                      <a:pt x="4332" y="5"/>
                    </a:lnTo>
                    <a:cubicBezTo>
                      <a:pt x="4331" y="5"/>
                      <a:pt x="4330" y="4"/>
                      <a:pt x="4330" y="3"/>
                    </a:cubicBezTo>
                    <a:cubicBezTo>
                      <a:pt x="4330" y="2"/>
                      <a:pt x="4331" y="1"/>
                      <a:pt x="4332" y="1"/>
                    </a:cubicBezTo>
                    <a:close/>
                    <a:moveTo>
                      <a:pt x="4340" y="1"/>
                    </a:moveTo>
                    <a:lnTo>
                      <a:pt x="4340" y="1"/>
                    </a:lnTo>
                    <a:cubicBezTo>
                      <a:pt x="4341" y="1"/>
                      <a:pt x="4342" y="2"/>
                      <a:pt x="4342" y="3"/>
                    </a:cubicBezTo>
                    <a:cubicBezTo>
                      <a:pt x="4342" y="4"/>
                      <a:pt x="4341" y="5"/>
                      <a:pt x="4340" y="5"/>
                    </a:cubicBezTo>
                    <a:lnTo>
                      <a:pt x="4340" y="5"/>
                    </a:lnTo>
                    <a:cubicBezTo>
                      <a:pt x="4339" y="5"/>
                      <a:pt x="4338" y="4"/>
                      <a:pt x="4338" y="3"/>
                    </a:cubicBezTo>
                    <a:cubicBezTo>
                      <a:pt x="4338" y="2"/>
                      <a:pt x="4339" y="1"/>
                      <a:pt x="4340" y="1"/>
                    </a:cubicBezTo>
                    <a:close/>
                    <a:moveTo>
                      <a:pt x="4348" y="1"/>
                    </a:moveTo>
                    <a:lnTo>
                      <a:pt x="4348" y="1"/>
                    </a:lnTo>
                    <a:cubicBezTo>
                      <a:pt x="4349" y="1"/>
                      <a:pt x="4350" y="2"/>
                      <a:pt x="4350" y="3"/>
                    </a:cubicBezTo>
                    <a:cubicBezTo>
                      <a:pt x="4350" y="4"/>
                      <a:pt x="4349" y="5"/>
                      <a:pt x="4348" y="5"/>
                    </a:cubicBezTo>
                    <a:lnTo>
                      <a:pt x="4348" y="5"/>
                    </a:lnTo>
                    <a:cubicBezTo>
                      <a:pt x="4347" y="5"/>
                      <a:pt x="4346" y="4"/>
                      <a:pt x="4346" y="3"/>
                    </a:cubicBezTo>
                    <a:cubicBezTo>
                      <a:pt x="4346" y="2"/>
                      <a:pt x="4347" y="1"/>
                      <a:pt x="4348" y="1"/>
                    </a:cubicBezTo>
                    <a:close/>
                    <a:moveTo>
                      <a:pt x="4356" y="1"/>
                    </a:moveTo>
                    <a:lnTo>
                      <a:pt x="4356" y="1"/>
                    </a:lnTo>
                    <a:cubicBezTo>
                      <a:pt x="4357" y="1"/>
                      <a:pt x="4358" y="2"/>
                      <a:pt x="4358" y="3"/>
                    </a:cubicBezTo>
                    <a:cubicBezTo>
                      <a:pt x="4358" y="4"/>
                      <a:pt x="4357" y="5"/>
                      <a:pt x="4356" y="5"/>
                    </a:cubicBezTo>
                    <a:lnTo>
                      <a:pt x="4356" y="5"/>
                    </a:lnTo>
                    <a:cubicBezTo>
                      <a:pt x="4355" y="5"/>
                      <a:pt x="4354" y="4"/>
                      <a:pt x="4354" y="3"/>
                    </a:cubicBezTo>
                    <a:cubicBezTo>
                      <a:pt x="4354" y="2"/>
                      <a:pt x="4355" y="1"/>
                      <a:pt x="4356" y="1"/>
                    </a:cubicBezTo>
                    <a:close/>
                    <a:moveTo>
                      <a:pt x="4364" y="1"/>
                    </a:moveTo>
                    <a:lnTo>
                      <a:pt x="4364" y="1"/>
                    </a:lnTo>
                    <a:cubicBezTo>
                      <a:pt x="4365" y="1"/>
                      <a:pt x="4366" y="2"/>
                      <a:pt x="4366" y="3"/>
                    </a:cubicBezTo>
                    <a:cubicBezTo>
                      <a:pt x="4366" y="4"/>
                      <a:pt x="4365" y="5"/>
                      <a:pt x="4364" y="5"/>
                    </a:cubicBezTo>
                    <a:lnTo>
                      <a:pt x="4364" y="5"/>
                    </a:lnTo>
                    <a:cubicBezTo>
                      <a:pt x="4363" y="5"/>
                      <a:pt x="4362" y="4"/>
                      <a:pt x="4362" y="3"/>
                    </a:cubicBezTo>
                    <a:cubicBezTo>
                      <a:pt x="4362" y="2"/>
                      <a:pt x="4363" y="1"/>
                      <a:pt x="4364" y="1"/>
                    </a:cubicBezTo>
                    <a:close/>
                    <a:moveTo>
                      <a:pt x="4372" y="1"/>
                    </a:moveTo>
                    <a:lnTo>
                      <a:pt x="4372" y="1"/>
                    </a:lnTo>
                    <a:cubicBezTo>
                      <a:pt x="4373" y="1"/>
                      <a:pt x="4374" y="2"/>
                      <a:pt x="4374" y="3"/>
                    </a:cubicBezTo>
                    <a:cubicBezTo>
                      <a:pt x="4374" y="4"/>
                      <a:pt x="4373" y="5"/>
                      <a:pt x="4372" y="5"/>
                    </a:cubicBezTo>
                    <a:lnTo>
                      <a:pt x="4372" y="5"/>
                    </a:lnTo>
                    <a:cubicBezTo>
                      <a:pt x="4371" y="5"/>
                      <a:pt x="4370" y="4"/>
                      <a:pt x="4370" y="3"/>
                    </a:cubicBezTo>
                    <a:cubicBezTo>
                      <a:pt x="4370" y="2"/>
                      <a:pt x="4371" y="1"/>
                      <a:pt x="4372" y="1"/>
                    </a:cubicBezTo>
                    <a:close/>
                    <a:moveTo>
                      <a:pt x="4380" y="1"/>
                    </a:moveTo>
                    <a:lnTo>
                      <a:pt x="4380" y="1"/>
                    </a:lnTo>
                    <a:cubicBezTo>
                      <a:pt x="4381" y="1"/>
                      <a:pt x="4382" y="2"/>
                      <a:pt x="4382" y="3"/>
                    </a:cubicBezTo>
                    <a:cubicBezTo>
                      <a:pt x="4382" y="4"/>
                      <a:pt x="4381" y="5"/>
                      <a:pt x="4380" y="5"/>
                    </a:cubicBezTo>
                    <a:lnTo>
                      <a:pt x="4380" y="5"/>
                    </a:lnTo>
                    <a:cubicBezTo>
                      <a:pt x="4379" y="5"/>
                      <a:pt x="4378" y="4"/>
                      <a:pt x="4378" y="3"/>
                    </a:cubicBezTo>
                    <a:cubicBezTo>
                      <a:pt x="4378" y="2"/>
                      <a:pt x="4379" y="1"/>
                      <a:pt x="4380" y="1"/>
                    </a:cubicBezTo>
                    <a:close/>
                    <a:moveTo>
                      <a:pt x="4388" y="1"/>
                    </a:moveTo>
                    <a:lnTo>
                      <a:pt x="4388" y="1"/>
                    </a:lnTo>
                    <a:cubicBezTo>
                      <a:pt x="4389" y="1"/>
                      <a:pt x="4390" y="2"/>
                      <a:pt x="4390" y="3"/>
                    </a:cubicBezTo>
                    <a:cubicBezTo>
                      <a:pt x="4390" y="4"/>
                      <a:pt x="4389" y="5"/>
                      <a:pt x="4388" y="5"/>
                    </a:cubicBezTo>
                    <a:lnTo>
                      <a:pt x="4388" y="5"/>
                    </a:lnTo>
                    <a:cubicBezTo>
                      <a:pt x="4387" y="5"/>
                      <a:pt x="4386" y="4"/>
                      <a:pt x="4386" y="3"/>
                    </a:cubicBezTo>
                    <a:cubicBezTo>
                      <a:pt x="4386" y="2"/>
                      <a:pt x="4387" y="1"/>
                      <a:pt x="4388" y="1"/>
                    </a:cubicBezTo>
                    <a:close/>
                    <a:moveTo>
                      <a:pt x="4396" y="1"/>
                    </a:moveTo>
                    <a:lnTo>
                      <a:pt x="4396" y="1"/>
                    </a:lnTo>
                    <a:cubicBezTo>
                      <a:pt x="4397" y="1"/>
                      <a:pt x="4398" y="2"/>
                      <a:pt x="4398" y="3"/>
                    </a:cubicBezTo>
                    <a:cubicBezTo>
                      <a:pt x="4398" y="4"/>
                      <a:pt x="4397" y="5"/>
                      <a:pt x="4396" y="5"/>
                    </a:cubicBezTo>
                    <a:lnTo>
                      <a:pt x="4396" y="5"/>
                    </a:lnTo>
                    <a:cubicBezTo>
                      <a:pt x="4395" y="5"/>
                      <a:pt x="4394" y="4"/>
                      <a:pt x="4394" y="3"/>
                    </a:cubicBezTo>
                    <a:cubicBezTo>
                      <a:pt x="4394" y="2"/>
                      <a:pt x="4395" y="1"/>
                      <a:pt x="4396" y="1"/>
                    </a:cubicBezTo>
                    <a:close/>
                    <a:moveTo>
                      <a:pt x="4404" y="1"/>
                    </a:moveTo>
                    <a:lnTo>
                      <a:pt x="4404" y="1"/>
                    </a:lnTo>
                    <a:cubicBezTo>
                      <a:pt x="4405" y="1"/>
                      <a:pt x="4406" y="2"/>
                      <a:pt x="4406" y="3"/>
                    </a:cubicBezTo>
                    <a:cubicBezTo>
                      <a:pt x="4406" y="4"/>
                      <a:pt x="4405" y="5"/>
                      <a:pt x="4404" y="5"/>
                    </a:cubicBezTo>
                    <a:lnTo>
                      <a:pt x="4404" y="5"/>
                    </a:lnTo>
                    <a:cubicBezTo>
                      <a:pt x="4403" y="5"/>
                      <a:pt x="4402" y="4"/>
                      <a:pt x="4402" y="3"/>
                    </a:cubicBezTo>
                    <a:cubicBezTo>
                      <a:pt x="4402" y="2"/>
                      <a:pt x="4403" y="1"/>
                      <a:pt x="4404" y="1"/>
                    </a:cubicBezTo>
                    <a:close/>
                    <a:moveTo>
                      <a:pt x="4412" y="1"/>
                    </a:moveTo>
                    <a:lnTo>
                      <a:pt x="4412" y="1"/>
                    </a:lnTo>
                    <a:cubicBezTo>
                      <a:pt x="4413" y="1"/>
                      <a:pt x="4414" y="2"/>
                      <a:pt x="4414" y="3"/>
                    </a:cubicBezTo>
                    <a:cubicBezTo>
                      <a:pt x="4414" y="4"/>
                      <a:pt x="4413" y="5"/>
                      <a:pt x="4412" y="5"/>
                    </a:cubicBezTo>
                    <a:lnTo>
                      <a:pt x="4412" y="5"/>
                    </a:lnTo>
                    <a:cubicBezTo>
                      <a:pt x="4411" y="5"/>
                      <a:pt x="4410" y="4"/>
                      <a:pt x="4410" y="3"/>
                    </a:cubicBezTo>
                    <a:cubicBezTo>
                      <a:pt x="4410" y="2"/>
                      <a:pt x="4411" y="1"/>
                      <a:pt x="4412" y="1"/>
                    </a:cubicBezTo>
                    <a:close/>
                    <a:moveTo>
                      <a:pt x="4420" y="1"/>
                    </a:moveTo>
                    <a:lnTo>
                      <a:pt x="4420" y="1"/>
                    </a:lnTo>
                    <a:cubicBezTo>
                      <a:pt x="4421" y="1"/>
                      <a:pt x="4422" y="2"/>
                      <a:pt x="4422" y="3"/>
                    </a:cubicBezTo>
                    <a:cubicBezTo>
                      <a:pt x="4422" y="4"/>
                      <a:pt x="4421" y="5"/>
                      <a:pt x="4420" y="5"/>
                    </a:cubicBezTo>
                    <a:lnTo>
                      <a:pt x="4420" y="5"/>
                    </a:lnTo>
                    <a:cubicBezTo>
                      <a:pt x="4419" y="5"/>
                      <a:pt x="4418" y="4"/>
                      <a:pt x="4418" y="3"/>
                    </a:cubicBezTo>
                    <a:cubicBezTo>
                      <a:pt x="4418" y="2"/>
                      <a:pt x="4419" y="1"/>
                      <a:pt x="4420" y="1"/>
                    </a:cubicBezTo>
                    <a:close/>
                    <a:moveTo>
                      <a:pt x="4428" y="1"/>
                    </a:moveTo>
                    <a:lnTo>
                      <a:pt x="4428" y="1"/>
                    </a:lnTo>
                    <a:cubicBezTo>
                      <a:pt x="4429" y="1"/>
                      <a:pt x="4430" y="2"/>
                      <a:pt x="4430" y="3"/>
                    </a:cubicBezTo>
                    <a:cubicBezTo>
                      <a:pt x="4430" y="4"/>
                      <a:pt x="4429" y="5"/>
                      <a:pt x="4428" y="5"/>
                    </a:cubicBezTo>
                    <a:lnTo>
                      <a:pt x="4428" y="5"/>
                    </a:lnTo>
                    <a:cubicBezTo>
                      <a:pt x="4427" y="5"/>
                      <a:pt x="4426" y="4"/>
                      <a:pt x="4426" y="3"/>
                    </a:cubicBezTo>
                    <a:cubicBezTo>
                      <a:pt x="4426" y="2"/>
                      <a:pt x="4427" y="1"/>
                      <a:pt x="4428" y="1"/>
                    </a:cubicBezTo>
                    <a:close/>
                    <a:moveTo>
                      <a:pt x="4436" y="1"/>
                    </a:moveTo>
                    <a:lnTo>
                      <a:pt x="4436" y="1"/>
                    </a:lnTo>
                    <a:cubicBezTo>
                      <a:pt x="4437" y="1"/>
                      <a:pt x="4438" y="2"/>
                      <a:pt x="4438" y="3"/>
                    </a:cubicBezTo>
                    <a:cubicBezTo>
                      <a:pt x="4438" y="4"/>
                      <a:pt x="4437" y="5"/>
                      <a:pt x="4436" y="5"/>
                    </a:cubicBezTo>
                    <a:lnTo>
                      <a:pt x="4436" y="5"/>
                    </a:lnTo>
                    <a:cubicBezTo>
                      <a:pt x="4435" y="5"/>
                      <a:pt x="4434" y="4"/>
                      <a:pt x="4434" y="3"/>
                    </a:cubicBezTo>
                    <a:cubicBezTo>
                      <a:pt x="4434" y="2"/>
                      <a:pt x="4435" y="1"/>
                      <a:pt x="4436" y="1"/>
                    </a:cubicBezTo>
                    <a:close/>
                    <a:moveTo>
                      <a:pt x="4444" y="1"/>
                    </a:moveTo>
                    <a:lnTo>
                      <a:pt x="4444" y="1"/>
                    </a:lnTo>
                    <a:cubicBezTo>
                      <a:pt x="4445" y="1"/>
                      <a:pt x="4446" y="2"/>
                      <a:pt x="4446" y="3"/>
                    </a:cubicBezTo>
                    <a:cubicBezTo>
                      <a:pt x="4446" y="4"/>
                      <a:pt x="4445" y="5"/>
                      <a:pt x="4444" y="5"/>
                    </a:cubicBezTo>
                    <a:lnTo>
                      <a:pt x="4444" y="5"/>
                    </a:lnTo>
                    <a:cubicBezTo>
                      <a:pt x="4443" y="5"/>
                      <a:pt x="4442" y="4"/>
                      <a:pt x="4442" y="3"/>
                    </a:cubicBezTo>
                    <a:cubicBezTo>
                      <a:pt x="4442" y="2"/>
                      <a:pt x="4443" y="1"/>
                      <a:pt x="4444" y="1"/>
                    </a:cubicBezTo>
                    <a:close/>
                    <a:moveTo>
                      <a:pt x="4452" y="1"/>
                    </a:moveTo>
                    <a:lnTo>
                      <a:pt x="4452" y="1"/>
                    </a:lnTo>
                    <a:cubicBezTo>
                      <a:pt x="4453" y="1"/>
                      <a:pt x="4454" y="2"/>
                      <a:pt x="4454" y="3"/>
                    </a:cubicBezTo>
                    <a:cubicBezTo>
                      <a:pt x="4454" y="4"/>
                      <a:pt x="4453" y="5"/>
                      <a:pt x="4452" y="5"/>
                    </a:cubicBezTo>
                    <a:lnTo>
                      <a:pt x="4452" y="5"/>
                    </a:lnTo>
                    <a:cubicBezTo>
                      <a:pt x="4451" y="5"/>
                      <a:pt x="4450" y="4"/>
                      <a:pt x="4450" y="3"/>
                    </a:cubicBezTo>
                    <a:cubicBezTo>
                      <a:pt x="4450" y="2"/>
                      <a:pt x="4451" y="1"/>
                      <a:pt x="4452" y="1"/>
                    </a:cubicBezTo>
                    <a:close/>
                    <a:moveTo>
                      <a:pt x="4460" y="1"/>
                    </a:moveTo>
                    <a:lnTo>
                      <a:pt x="4460" y="1"/>
                    </a:lnTo>
                    <a:cubicBezTo>
                      <a:pt x="4461" y="1"/>
                      <a:pt x="4462" y="2"/>
                      <a:pt x="4462" y="3"/>
                    </a:cubicBezTo>
                    <a:cubicBezTo>
                      <a:pt x="4462" y="4"/>
                      <a:pt x="4461" y="5"/>
                      <a:pt x="4460" y="5"/>
                    </a:cubicBezTo>
                    <a:lnTo>
                      <a:pt x="4460" y="5"/>
                    </a:lnTo>
                    <a:cubicBezTo>
                      <a:pt x="4459" y="5"/>
                      <a:pt x="4458" y="4"/>
                      <a:pt x="4458" y="3"/>
                    </a:cubicBezTo>
                    <a:cubicBezTo>
                      <a:pt x="4458" y="2"/>
                      <a:pt x="4459" y="1"/>
                      <a:pt x="4460" y="1"/>
                    </a:cubicBezTo>
                    <a:close/>
                    <a:moveTo>
                      <a:pt x="4468" y="1"/>
                    </a:moveTo>
                    <a:lnTo>
                      <a:pt x="4468" y="1"/>
                    </a:lnTo>
                    <a:cubicBezTo>
                      <a:pt x="4469" y="1"/>
                      <a:pt x="4470" y="2"/>
                      <a:pt x="4470" y="3"/>
                    </a:cubicBezTo>
                    <a:cubicBezTo>
                      <a:pt x="4470" y="4"/>
                      <a:pt x="4469" y="5"/>
                      <a:pt x="4468" y="5"/>
                    </a:cubicBezTo>
                    <a:lnTo>
                      <a:pt x="4468" y="5"/>
                    </a:lnTo>
                    <a:cubicBezTo>
                      <a:pt x="4467" y="5"/>
                      <a:pt x="4466" y="4"/>
                      <a:pt x="4466" y="3"/>
                    </a:cubicBezTo>
                    <a:cubicBezTo>
                      <a:pt x="4466" y="2"/>
                      <a:pt x="4467" y="1"/>
                      <a:pt x="4468" y="1"/>
                    </a:cubicBezTo>
                    <a:close/>
                    <a:moveTo>
                      <a:pt x="4476" y="1"/>
                    </a:moveTo>
                    <a:lnTo>
                      <a:pt x="4476" y="1"/>
                    </a:lnTo>
                    <a:cubicBezTo>
                      <a:pt x="4477" y="1"/>
                      <a:pt x="4478" y="2"/>
                      <a:pt x="4478" y="3"/>
                    </a:cubicBezTo>
                    <a:cubicBezTo>
                      <a:pt x="4478" y="4"/>
                      <a:pt x="4477" y="5"/>
                      <a:pt x="4476" y="5"/>
                    </a:cubicBezTo>
                    <a:lnTo>
                      <a:pt x="4476" y="5"/>
                    </a:lnTo>
                    <a:cubicBezTo>
                      <a:pt x="4475" y="5"/>
                      <a:pt x="4474" y="4"/>
                      <a:pt x="4474" y="3"/>
                    </a:cubicBezTo>
                    <a:cubicBezTo>
                      <a:pt x="4474" y="2"/>
                      <a:pt x="4475" y="1"/>
                      <a:pt x="4476" y="1"/>
                    </a:cubicBezTo>
                    <a:close/>
                    <a:moveTo>
                      <a:pt x="4484" y="1"/>
                    </a:moveTo>
                    <a:lnTo>
                      <a:pt x="4484" y="1"/>
                    </a:lnTo>
                    <a:cubicBezTo>
                      <a:pt x="4485" y="1"/>
                      <a:pt x="4486" y="2"/>
                      <a:pt x="4486" y="3"/>
                    </a:cubicBezTo>
                    <a:cubicBezTo>
                      <a:pt x="4486" y="4"/>
                      <a:pt x="4485" y="5"/>
                      <a:pt x="4484" y="5"/>
                    </a:cubicBezTo>
                    <a:lnTo>
                      <a:pt x="4484" y="5"/>
                    </a:lnTo>
                    <a:cubicBezTo>
                      <a:pt x="4483" y="5"/>
                      <a:pt x="4482" y="4"/>
                      <a:pt x="4482" y="3"/>
                    </a:cubicBezTo>
                    <a:cubicBezTo>
                      <a:pt x="4482" y="2"/>
                      <a:pt x="4483" y="1"/>
                      <a:pt x="4484" y="1"/>
                    </a:cubicBezTo>
                    <a:close/>
                    <a:moveTo>
                      <a:pt x="4492" y="1"/>
                    </a:moveTo>
                    <a:lnTo>
                      <a:pt x="4492" y="1"/>
                    </a:lnTo>
                    <a:cubicBezTo>
                      <a:pt x="4493" y="1"/>
                      <a:pt x="4494" y="2"/>
                      <a:pt x="4494" y="3"/>
                    </a:cubicBezTo>
                    <a:cubicBezTo>
                      <a:pt x="4494" y="4"/>
                      <a:pt x="4493" y="5"/>
                      <a:pt x="4492" y="5"/>
                    </a:cubicBezTo>
                    <a:lnTo>
                      <a:pt x="4492" y="5"/>
                    </a:lnTo>
                    <a:cubicBezTo>
                      <a:pt x="4491" y="5"/>
                      <a:pt x="4490" y="4"/>
                      <a:pt x="4490" y="3"/>
                    </a:cubicBezTo>
                    <a:cubicBezTo>
                      <a:pt x="4490" y="2"/>
                      <a:pt x="4491" y="1"/>
                      <a:pt x="4492" y="1"/>
                    </a:cubicBezTo>
                    <a:close/>
                    <a:moveTo>
                      <a:pt x="4500" y="1"/>
                    </a:moveTo>
                    <a:lnTo>
                      <a:pt x="4500" y="1"/>
                    </a:lnTo>
                    <a:cubicBezTo>
                      <a:pt x="4501" y="1"/>
                      <a:pt x="4502" y="2"/>
                      <a:pt x="4502" y="3"/>
                    </a:cubicBezTo>
                    <a:cubicBezTo>
                      <a:pt x="4502" y="4"/>
                      <a:pt x="4501" y="5"/>
                      <a:pt x="4500" y="5"/>
                    </a:cubicBezTo>
                    <a:lnTo>
                      <a:pt x="4500" y="5"/>
                    </a:lnTo>
                    <a:cubicBezTo>
                      <a:pt x="4499" y="5"/>
                      <a:pt x="4498" y="4"/>
                      <a:pt x="4498" y="3"/>
                    </a:cubicBezTo>
                    <a:cubicBezTo>
                      <a:pt x="4498" y="2"/>
                      <a:pt x="4499" y="1"/>
                      <a:pt x="4500" y="1"/>
                    </a:cubicBezTo>
                    <a:close/>
                    <a:moveTo>
                      <a:pt x="4508" y="1"/>
                    </a:moveTo>
                    <a:lnTo>
                      <a:pt x="4508" y="1"/>
                    </a:lnTo>
                    <a:cubicBezTo>
                      <a:pt x="4509" y="1"/>
                      <a:pt x="4510" y="2"/>
                      <a:pt x="4510" y="3"/>
                    </a:cubicBezTo>
                    <a:cubicBezTo>
                      <a:pt x="4510" y="4"/>
                      <a:pt x="4509" y="5"/>
                      <a:pt x="4508" y="5"/>
                    </a:cubicBezTo>
                    <a:lnTo>
                      <a:pt x="4508" y="5"/>
                    </a:lnTo>
                    <a:cubicBezTo>
                      <a:pt x="4507" y="5"/>
                      <a:pt x="4506" y="4"/>
                      <a:pt x="4506" y="3"/>
                    </a:cubicBezTo>
                    <a:cubicBezTo>
                      <a:pt x="4506" y="2"/>
                      <a:pt x="4507" y="1"/>
                      <a:pt x="4508" y="1"/>
                    </a:cubicBezTo>
                    <a:close/>
                    <a:moveTo>
                      <a:pt x="4516" y="1"/>
                    </a:moveTo>
                    <a:lnTo>
                      <a:pt x="4516" y="1"/>
                    </a:lnTo>
                    <a:cubicBezTo>
                      <a:pt x="4517" y="1"/>
                      <a:pt x="4518" y="2"/>
                      <a:pt x="4518" y="3"/>
                    </a:cubicBezTo>
                    <a:cubicBezTo>
                      <a:pt x="4518" y="4"/>
                      <a:pt x="4517" y="5"/>
                      <a:pt x="4516" y="5"/>
                    </a:cubicBezTo>
                    <a:lnTo>
                      <a:pt x="4516" y="5"/>
                    </a:lnTo>
                    <a:cubicBezTo>
                      <a:pt x="4515" y="5"/>
                      <a:pt x="4514" y="4"/>
                      <a:pt x="4514" y="3"/>
                    </a:cubicBezTo>
                    <a:cubicBezTo>
                      <a:pt x="4514" y="2"/>
                      <a:pt x="4515" y="1"/>
                      <a:pt x="4516" y="1"/>
                    </a:cubicBezTo>
                    <a:close/>
                    <a:moveTo>
                      <a:pt x="4524" y="1"/>
                    </a:moveTo>
                    <a:lnTo>
                      <a:pt x="4524" y="1"/>
                    </a:lnTo>
                    <a:cubicBezTo>
                      <a:pt x="4525" y="1"/>
                      <a:pt x="4526" y="2"/>
                      <a:pt x="4526" y="3"/>
                    </a:cubicBezTo>
                    <a:cubicBezTo>
                      <a:pt x="4526" y="4"/>
                      <a:pt x="4525" y="5"/>
                      <a:pt x="4524" y="5"/>
                    </a:cubicBezTo>
                    <a:lnTo>
                      <a:pt x="4524" y="5"/>
                    </a:lnTo>
                    <a:cubicBezTo>
                      <a:pt x="4523" y="5"/>
                      <a:pt x="4522" y="4"/>
                      <a:pt x="4522" y="3"/>
                    </a:cubicBezTo>
                    <a:cubicBezTo>
                      <a:pt x="4522" y="2"/>
                      <a:pt x="4523" y="1"/>
                      <a:pt x="4524" y="1"/>
                    </a:cubicBezTo>
                    <a:close/>
                    <a:moveTo>
                      <a:pt x="4532" y="1"/>
                    </a:moveTo>
                    <a:lnTo>
                      <a:pt x="4532" y="1"/>
                    </a:lnTo>
                    <a:cubicBezTo>
                      <a:pt x="4533" y="1"/>
                      <a:pt x="4534" y="2"/>
                      <a:pt x="4534" y="3"/>
                    </a:cubicBezTo>
                    <a:cubicBezTo>
                      <a:pt x="4534" y="4"/>
                      <a:pt x="4533" y="5"/>
                      <a:pt x="4532" y="5"/>
                    </a:cubicBezTo>
                    <a:lnTo>
                      <a:pt x="4532" y="5"/>
                    </a:lnTo>
                    <a:cubicBezTo>
                      <a:pt x="4531" y="5"/>
                      <a:pt x="4530" y="4"/>
                      <a:pt x="4530" y="3"/>
                    </a:cubicBezTo>
                    <a:cubicBezTo>
                      <a:pt x="4530" y="2"/>
                      <a:pt x="4531" y="1"/>
                      <a:pt x="4532" y="1"/>
                    </a:cubicBezTo>
                    <a:close/>
                    <a:moveTo>
                      <a:pt x="4540" y="1"/>
                    </a:moveTo>
                    <a:lnTo>
                      <a:pt x="4540" y="1"/>
                    </a:lnTo>
                    <a:cubicBezTo>
                      <a:pt x="4541" y="1"/>
                      <a:pt x="4542" y="2"/>
                      <a:pt x="4542" y="3"/>
                    </a:cubicBezTo>
                    <a:cubicBezTo>
                      <a:pt x="4542" y="4"/>
                      <a:pt x="4541" y="5"/>
                      <a:pt x="4540" y="5"/>
                    </a:cubicBezTo>
                    <a:lnTo>
                      <a:pt x="4540" y="5"/>
                    </a:lnTo>
                    <a:cubicBezTo>
                      <a:pt x="4539" y="5"/>
                      <a:pt x="4538" y="4"/>
                      <a:pt x="4538" y="3"/>
                    </a:cubicBezTo>
                    <a:cubicBezTo>
                      <a:pt x="4538" y="2"/>
                      <a:pt x="4539" y="1"/>
                      <a:pt x="4540" y="1"/>
                    </a:cubicBezTo>
                    <a:close/>
                    <a:moveTo>
                      <a:pt x="4548" y="1"/>
                    </a:moveTo>
                    <a:lnTo>
                      <a:pt x="4548" y="1"/>
                    </a:lnTo>
                    <a:cubicBezTo>
                      <a:pt x="4549" y="1"/>
                      <a:pt x="4550" y="2"/>
                      <a:pt x="4550" y="3"/>
                    </a:cubicBezTo>
                    <a:cubicBezTo>
                      <a:pt x="4550" y="4"/>
                      <a:pt x="4549" y="5"/>
                      <a:pt x="4548" y="5"/>
                    </a:cubicBezTo>
                    <a:lnTo>
                      <a:pt x="4548" y="5"/>
                    </a:lnTo>
                    <a:cubicBezTo>
                      <a:pt x="4547" y="5"/>
                      <a:pt x="4546" y="4"/>
                      <a:pt x="4546" y="3"/>
                    </a:cubicBezTo>
                    <a:cubicBezTo>
                      <a:pt x="4546" y="2"/>
                      <a:pt x="4547" y="1"/>
                      <a:pt x="4548" y="1"/>
                    </a:cubicBezTo>
                    <a:close/>
                    <a:moveTo>
                      <a:pt x="4556" y="1"/>
                    </a:moveTo>
                    <a:lnTo>
                      <a:pt x="4556" y="1"/>
                    </a:lnTo>
                    <a:cubicBezTo>
                      <a:pt x="4557" y="1"/>
                      <a:pt x="4558" y="2"/>
                      <a:pt x="4558" y="3"/>
                    </a:cubicBezTo>
                    <a:cubicBezTo>
                      <a:pt x="4558" y="4"/>
                      <a:pt x="4557" y="5"/>
                      <a:pt x="4556" y="5"/>
                    </a:cubicBezTo>
                    <a:lnTo>
                      <a:pt x="4556" y="5"/>
                    </a:lnTo>
                    <a:cubicBezTo>
                      <a:pt x="4555" y="5"/>
                      <a:pt x="4554" y="4"/>
                      <a:pt x="4554" y="3"/>
                    </a:cubicBezTo>
                    <a:cubicBezTo>
                      <a:pt x="4554" y="2"/>
                      <a:pt x="4555" y="1"/>
                      <a:pt x="4556" y="1"/>
                    </a:cubicBezTo>
                    <a:close/>
                    <a:moveTo>
                      <a:pt x="4564" y="1"/>
                    </a:moveTo>
                    <a:lnTo>
                      <a:pt x="4564" y="1"/>
                    </a:lnTo>
                    <a:cubicBezTo>
                      <a:pt x="4565" y="1"/>
                      <a:pt x="4566" y="2"/>
                      <a:pt x="4566" y="3"/>
                    </a:cubicBezTo>
                    <a:cubicBezTo>
                      <a:pt x="4566" y="4"/>
                      <a:pt x="4565" y="5"/>
                      <a:pt x="4564" y="5"/>
                    </a:cubicBezTo>
                    <a:lnTo>
                      <a:pt x="4564" y="5"/>
                    </a:lnTo>
                    <a:cubicBezTo>
                      <a:pt x="4563" y="5"/>
                      <a:pt x="4562" y="4"/>
                      <a:pt x="4562" y="3"/>
                    </a:cubicBezTo>
                    <a:cubicBezTo>
                      <a:pt x="4562" y="2"/>
                      <a:pt x="4563" y="1"/>
                      <a:pt x="4564" y="1"/>
                    </a:cubicBezTo>
                    <a:close/>
                    <a:moveTo>
                      <a:pt x="4572" y="1"/>
                    </a:moveTo>
                    <a:lnTo>
                      <a:pt x="4572" y="1"/>
                    </a:lnTo>
                    <a:cubicBezTo>
                      <a:pt x="4573" y="1"/>
                      <a:pt x="4574" y="2"/>
                      <a:pt x="4574" y="3"/>
                    </a:cubicBezTo>
                    <a:cubicBezTo>
                      <a:pt x="4574" y="4"/>
                      <a:pt x="4573" y="5"/>
                      <a:pt x="4572" y="5"/>
                    </a:cubicBezTo>
                    <a:lnTo>
                      <a:pt x="4572" y="5"/>
                    </a:lnTo>
                    <a:cubicBezTo>
                      <a:pt x="4571" y="5"/>
                      <a:pt x="4570" y="4"/>
                      <a:pt x="4570" y="3"/>
                    </a:cubicBezTo>
                    <a:cubicBezTo>
                      <a:pt x="4570" y="2"/>
                      <a:pt x="4571" y="1"/>
                      <a:pt x="4572" y="1"/>
                    </a:cubicBezTo>
                    <a:close/>
                    <a:moveTo>
                      <a:pt x="4580" y="1"/>
                    </a:moveTo>
                    <a:lnTo>
                      <a:pt x="4580" y="1"/>
                    </a:lnTo>
                    <a:cubicBezTo>
                      <a:pt x="4581" y="1"/>
                      <a:pt x="4582" y="2"/>
                      <a:pt x="4582" y="3"/>
                    </a:cubicBezTo>
                    <a:cubicBezTo>
                      <a:pt x="4582" y="4"/>
                      <a:pt x="4581" y="5"/>
                      <a:pt x="4580" y="5"/>
                    </a:cubicBezTo>
                    <a:lnTo>
                      <a:pt x="4580" y="5"/>
                    </a:lnTo>
                    <a:cubicBezTo>
                      <a:pt x="4579" y="5"/>
                      <a:pt x="4578" y="4"/>
                      <a:pt x="4578" y="3"/>
                    </a:cubicBezTo>
                    <a:cubicBezTo>
                      <a:pt x="4578" y="2"/>
                      <a:pt x="4579" y="1"/>
                      <a:pt x="4580" y="1"/>
                    </a:cubicBezTo>
                    <a:close/>
                    <a:moveTo>
                      <a:pt x="4588" y="1"/>
                    </a:moveTo>
                    <a:lnTo>
                      <a:pt x="4588" y="1"/>
                    </a:lnTo>
                    <a:cubicBezTo>
                      <a:pt x="4589" y="1"/>
                      <a:pt x="4590" y="2"/>
                      <a:pt x="4590" y="3"/>
                    </a:cubicBezTo>
                    <a:cubicBezTo>
                      <a:pt x="4590" y="4"/>
                      <a:pt x="4589" y="5"/>
                      <a:pt x="4588" y="5"/>
                    </a:cubicBezTo>
                    <a:lnTo>
                      <a:pt x="4588" y="5"/>
                    </a:lnTo>
                    <a:cubicBezTo>
                      <a:pt x="4587" y="5"/>
                      <a:pt x="4586" y="4"/>
                      <a:pt x="4586" y="3"/>
                    </a:cubicBezTo>
                    <a:cubicBezTo>
                      <a:pt x="4586" y="2"/>
                      <a:pt x="4587" y="1"/>
                      <a:pt x="4588" y="1"/>
                    </a:cubicBezTo>
                    <a:close/>
                    <a:moveTo>
                      <a:pt x="4596" y="1"/>
                    </a:moveTo>
                    <a:lnTo>
                      <a:pt x="4596" y="1"/>
                    </a:lnTo>
                    <a:cubicBezTo>
                      <a:pt x="4597" y="1"/>
                      <a:pt x="4598" y="2"/>
                      <a:pt x="4598" y="3"/>
                    </a:cubicBezTo>
                    <a:cubicBezTo>
                      <a:pt x="4598" y="4"/>
                      <a:pt x="4597" y="5"/>
                      <a:pt x="4596" y="5"/>
                    </a:cubicBezTo>
                    <a:lnTo>
                      <a:pt x="4596" y="5"/>
                    </a:lnTo>
                    <a:cubicBezTo>
                      <a:pt x="4595" y="5"/>
                      <a:pt x="4594" y="4"/>
                      <a:pt x="4594" y="3"/>
                    </a:cubicBezTo>
                    <a:cubicBezTo>
                      <a:pt x="4594" y="2"/>
                      <a:pt x="4595" y="1"/>
                      <a:pt x="4596" y="1"/>
                    </a:cubicBezTo>
                    <a:close/>
                    <a:moveTo>
                      <a:pt x="4604" y="1"/>
                    </a:moveTo>
                    <a:lnTo>
                      <a:pt x="4604" y="1"/>
                    </a:lnTo>
                    <a:cubicBezTo>
                      <a:pt x="4605" y="1"/>
                      <a:pt x="4606" y="2"/>
                      <a:pt x="4606" y="3"/>
                    </a:cubicBezTo>
                    <a:cubicBezTo>
                      <a:pt x="4606" y="4"/>
                      <a:pt x="4605" y="5"/>
                      <a:pt x="4604" y="5"/>
                    </a:cubicBezTo>
                    <a:lnTo>
                      <a:pt x="4604" y="5"/>
                    </a:lnTo>
                    <a:cubicBezTo>
                      <a:pt x="4603" y="5"/>
                      <a:pt x="4602" y="4"/>
                      <a:pt x="4602" y="3"/>
                    </a:cubicBezTo>
                    <a:cubicBezTo>
                      <a:pt x="4602" y="2"/>
                      <a:pt x="4603" y="1"/>
                      <a:pt x="4604" y="1"/>
                    </a:cubicBezTo>
                    <a:close/>
                    <a:moveTo>
                      <a:pt x="4612" y="1"/>
                    </a:moveTo>
                    <a:lnTo>
                      <a:pt x="4612" y="1"/>
                    </a:lnTo>
                    <a:cubicBezTo>
                      <a:pt x="4613" y="1"/>
                      <a:pt x="4614" y="2"/>
                      <a:pt x="4614" y="3"/>
                    </a:cubicBezTo>
                    <a:cubicBezTo>
                      <a:pt x="4614" y="4"/>
                      <a:pt x="4613" y="5"/>
                      <a:pt x="4612" y="5"/>
                    </a:cubicBezTo>
                    <a:lnTo>
                      <a:pt x="4612" y="5"/>
                    </a:lnTo>
                    <a:cubicBezTo>
                      <a:pt x="4611" y="5"/>
                      <a:pt x="4610" y="4"/>
                      <a:pt x="4610" y="3"/>
                    </a:cubicBezTo>
                    <a:cubicBezTo>
                      <a:pt x="4610" y="2"/>
                      <a:pt x="4611" y="1"/>
                      <a:pt x="4612" y="1"/>
                    </a:cubicBezTo>
                    <a:close/>
                    <a:moveTo>
                      <a:pt x="4620" y="1"/>
                    </a:moveTo>
                    <a:lnTo>
                      <a:pt x="4620" y="1"/>
                    </a:lnTo>
                    <a:cubicBezTo>
                      <a:pt x="4621" y="1"/>
                      <a:pt x="4622" y="2"/>
                      <a:pt x="4622" y="3"/>
                    </a:cubicBezTo>
                    <a:cubicBezTo>
                      <a:pt x="4622" y="4"/>
                      <a:pt x="4621" y="5"/>
                      <a:pt x="4620" y="5"/>
                    </a:cubicBezTo>
                    <a:lnTo>
                      <a:pt x="4620" y="5"/>
                    </a:lnTo>
                    <a:cubicBezTo>
                      <a:pt x="4619" y="5"/>
                      <a:pt x="4618" y="4"/>
                      <a:pt x="4618" y="3"/>
                    </a:cubicBezTo>
                    <a:cubicBezTo>
                      <a:pt x="4618" y="2"/>
                      <a:pt x="4619" y="1"/>
                      <a:pt x="4620" y="1"/>
                    </a:cubicBezTo>
                    <a:close/>
                    <a:moveTo>
                      <a:pt x="4628" y="1"/>
                    </a:moveTo>
                    <a:lnTo>
                      <a:pt x="4628" y="1"/>
                    </a:lnTo>
                    <a:cubicBezTo>
                      <a:pt x="4629" y="1"/>
                      <a:pt x="4630" y="2"/>
                      <a:pt x="4630" y="3"/>
                    </a:cubicBezTo>
                    <a:cubicBezTo>
                      <a:pt x="4630" y="4"/>
                      <a:pt x="4629" y="5"/>
                      <a:pt x="4628" y="5"/>
                    </a:cubicBezTo>
                    <a:lnTo>
                      <a:pt x="4628" y="5"/>
                    </a:lnTo>
                    <a:cubicBezTo>
                      <a:pt x="4627" y="5"/>
                      <a:pt x="4626" y="4"/>
                      <a:pt x="4626" y="3"/>
                    </a:cubicBezTo>
                    <a:cubicBezTo>
                      <a:pt x="4626" y="2"/>
                      <a:pt x="4627" y="1"/>
                      <a:pt x="4628" y="1"/>
                    </a:cubicBezTo>
                    <a:close/>
                    <a:moveTo>
                      <a:pt x="4636" y="1"/>
                    </a:moveTo>
                    <a:lnTo>
                      <a:pt x="4636" y="1"/>
                    </a:lnTo>
                    <a:cubicBezTo>
                      <a:pt x="4637" y="1"/>
                      <a:pt x="4638" y="2"/>
                      <a:pt x="4638" y="3"/>
                    </a:cubicBezTo>
                    <a:cubicBezTo>
                      <a:pt x="4638" y="4"/>
                      <a:pt x="4637" y="5"/>
                      <a:pt x="4636" y="5"/>
                    </a:cubicBezTo>
                    <a:lnTo>
                      <a:pt x="4636" y="5"/>
                    </a:lnTo>
                    <a:cubicBezTo>
                      <a:pt x="4635" y="5"/>
                      <a:pt x="4634" y="4"/>
                      <a:pt x="4634" y="3"/>
                    </a:cubicBezTo>
                    <a:cubicBezTo>
                      <a:pt x="4634" y="2"/>
                      <a:pt x="4635" y="1"/>
                      <a:pt x="4636" y="1"/>
                    </a:cubicBezTo>
                    <a:close/>
                    <a:moveTo>
                      <a:pt x="4644" y="1"/>
                    </a:moveTo>
                    <a:lnTo>
                      <a:pt x="4644" y="1"/>
                    </a:lnTo>
                    <a:cubicBezTo>
                      <a:pt x="4645" y="1"/>
                      <a:pt x="4646" y="2"/>
                      <a:pt x="4646" y="3"/>
                    </a:cubicBezTo>
                    <a:cubicBezTo>
                      <a:pt x="4646" y="4"/>
                      <a:pt x="4645" y="5"/>
                      <a:pt x="4644" y="5"/>
                    </a:cubicBezTo>
                    <a:lnTo>
                      <a:pt x="4644" y="5"/>
                    </a:lnTo>
                    <a:cubicBezTo>
                      <a:pt x="4643" y="5"/>
                      <a:pt x="4642" y="4"/>
                      <a:pt x="4642" y="3"/>
                    </a:cubicBezTo>
                    <a:cubicBezTo>
                      <a:pt x="4642" y="2"/>
                      <a:pt x="4643" y="1"/>
                      <a:pt x="4644" y="1"/>
                    </a:cubicBezTo>
                    <a:close/>
                    <a:moveTo>
                      <a:pt x="4652" y="1"/>
                    </a:moveTo>
                    <a:lnTo>
                      <a:pt x="4652" y="1"/>
                    </a:lnTo>
                    <a:cubicBezTo>
                      <a:pt x="4653" y="1"/>
                      <a:pt x="4654" y="2"/>
                      <a:pt x="4654" y="3"/>
                    </a:cubicBezTo>
                    <a:cubicBezTo>
                      <a:pt x="4654" y="4"/>
                      <a:pt x="4653" y="5"/>
                      <a:pt x="4652" y="5"/>
                    </a:cubicBezTo>
                    <a:lnTo>
                      <a:pt x="4652" y="5"/>
                    </a:lnTo>
                    <a:cubicBezTo>
                      <a:pt x="4651" y="5"/>
                      <a:pt x="4650" y="4"/>
                      <a:pt x="4650" y="3"/>
                    </a:cubicBezTo>
                    <a:cubicBezTo>
                      <a:pt x="4650" y="2"/>
                      <a:pt x="4651" y="1"/>
                      <a:pt x="4652" y="1"/>
                    </a:cubicBezTo>
                    <a:close/>
                    <a:moveTo>
                      <a:pt x="4660" y="1"/>
                    </a:moveTo>
                    <a:lnTo>
                      <a:pt x="4660" y="1"/>
                    </a:lnTo>
                    <a:cubicBezTo>
                      <a:pt x="4661" y="1"/>
                      <a:pt x="4662" y="2"/>
                      <a:pt x="4662" y="3"/>
                    </a:cubicBezTo>
                    <a:cubicBezTo>
                      <a:pt x="4662" y="4"/>
                      <a:pt x="4661" y="5"/>
                      <a:pt x="4660" y="5"/>
                    </a:cubicBezTo>
                    <a:lnTo>
                      <a:pt x="4660" y="5"/>
                    </a:lnTo>
                    <a:cubicBezTo>
                      <a:pt x="4659" y="5"/>
                      <a:pt x="4658" y="4"/>
                      <a:pt x="4658" y="3"/>
                    </a:cubicBezTo>
                    <a:cubicBezTo>
                      <a:pt x="4658" y="2"/>
                      <a:pt x="4659" y="1"/>
                      <a:pt x="4660" y="1"/>
                    </a:cubicBezTo>
                    <a:close/>
                    <a:moveTo>
                      <a:pt x="4668" y="1"/>
                    </a:moveTo>
                    <a:lnTo>
                      <a:pt x="4668" y="1"/>
                    </a:lnTo>
                    <a:cubicBezTo>
                      <a:pt x="4669" y="1"/>
                      <a:pt x="4670" y="2"/>
                      <a:pt x="4670" y="3"/>
                    </a:cubicBezTo>
                    <a:cubicBezTo>
                      <a:pt x="4670" y="4"/>
                      <a:pt x="4669" y="5"/>
                      <a:pt x="4668" y="5"/>
                    </a:cubicBezTo>
                    <a:lnTo>
                      <a:pt x="4668" y="5"/>
                    </a:lnTo>
                    <a:cubicBezTo>
                      <a:pt x="4667" y="5"/>
                      <a:pt x="4666" y="4"/>
                      <a:pt x="4666" y="3"/>
                    </a:cubicBezTo>
                    <a:cubicBezTo>
                      <a:pt x="4666" y="2"/>
                      <a:pt x="4667" y="1"/>
                      <a:pt x="4668" y="1"/>
                    </a:cubicBezTo>
                    <a:close/>
                    <a:moveTo>
                      <a:pt x="4676" y="1"/>
                    </a:moveTo>
                    <a:lnTo>
                      <a:pt x="4676" y="1"/>
                    </a:lnTo>
                    <a:cubicBezTo>
                      <a:pt x="4677" y="1"/>
                      <a:pt x="4678" y="2"/>
                      <a:pt x="4678" y="3"/>
                    </a:cubicBezTo>
                    <a:cubicBezTo>
                      <a:pt x="4678" y="4"/>
                      <a:pt x="4677" y="5"/>
                      <a:pt x="4676" y="5"/>
                    </a:cubicBezTo>
                    <a:lnTo>
                      <a:pt x="4676" y="5"/>
                    </a:lnTo>
                    <a:cubicBezTo>
                      <a:pt x="4675" y="5"/>
                      <a:pt x="4674" y="4"/>
                      <a:pt x="4674" y="3"/>
                    </a:cubicBezTo>
                    <a:cubicBezTo>
                      <a:pt x="4674" y="2"/>
                      <a:pt x="4675" y="1"/>
                      <a:pt x="4676" y="1"/>
                    </a:cubicBezTo>
                    <a:close/>
                    <a:moveTo>
                      <a:pt x="4684" y="1"/>
                    </a:moveTo>
                    <a:lnTo>
                      <a:pt x="4684" y="1"/>
                    </a:lnTo>
                    <a:cubicBezTo>
                      <a:pt x="4685" y="1"/>
                      <a:pt x="4686" y="2"/>
                      <a:pt x="4686" y="3"/>
                    </a:cubicBezTo>
                    <a:cubicBezTo>
                      <a:pt x="4686" y="4"/>
                      <a:pt x="4685" y="5"/>
                      <a:pt x="4684" y="5"/>
                    </a:cubicBezTo>
                    <a:lnTo>
                      <a:pt x="4684" y="5"/>
                    </a:lnTo>
                    <a:cubicBezTo>
                      <a:pt x="4683" y="5"/>
                      <a:pt x="4682" y="4"/>
                      <a:pt x="4682" y="3"/>
                    </a:cubicBezTo>
                    <a:cubicBezTo>
                      <a:pt x="4682" y="2"/>
                      <a:pt x="4683" y="1"/>
                      <a:pt x="4684" y="1"/>
                    </a:cubicBezTo>
                    <a:close/>
                    <a:moveTo>
                      <a:pt x="4692" y="1"/>
                    </a:moveTo>
                    <a:lnTo>
                      <a:pt x="4692" y="1"/>
                    </a:lnTo>
                    <a:cubicBezTo>
                      <a:pt x="4693" y="1"/>
                      <a:pt x="4694" y="2"/>
                      <a:pt x="4694" y="3"/>
                    </a:cubicBezTo>
                    <a:cubicBezTo>
                      <a:pt x="4694" y="4"/>
                      <a:pt x="4693" y="5"/>
                      <a:pt x="4692" y="5"/>
                    </a:cubicBezTo>
                    <a:lnTo>
                      <a:pt x="4692" y="5"/>
                    </a:lnTo>
                    <a:cubicBezTo>
                      <a:pt x="4691" y="5"/>
                      <a:pt x="4690" y="4"/>
                      <a:pt x="4690" y="3"/>
                    </a:cubicBezTo>
                    <a:cubicBezTo>
                      <a:pt x="4690" y="2"/>
                      <a:pt x="4691" y="1"/>
                      <a:pt x="4692" y="1"/>
                    </a:cubicBezTo>
                    <a:close/>
                    <a:moveTo>
                      <a:pt x="4700" y="1"/>
                    </a:moveTo>
                    <a:lnTo>
                      <a:pt x="4700" y="1"/>
                    </a:lnTo>
                    <a:cubicBezTo>
                      <a:pt x="4701" y="1"/>
                      <a:pt x="4702" y="2"/>
                      <a:pt x="4702" y="3"/>
                    </a:cubicBezTo>
                    <a:cubicBezTo>
                      <a:pt x="4702" y="4"/>
                      <a:pt x="4701" y="5"/>
                      <a:pt x="4700" y="5"/>
                    </a:cubicBezTo>
                    <a:lnTo>
                      <a:pt x="4700" y="5"/>
                    </a:lnTo>
                    <a:cubicBezTo>
                      <a:pt x="4699" y="5"/>
                      <a:pt x="4698" y="4"/>
                      <a:pt x="4698" y="3"/>
                    </a:cubicBezTo>
                    <a:cubicBezTo>
                      <a:pt x="4698" y="2"/>
                      <a:pt x="4699" y="1"/>
                      <a:pt x="4700" y="1"/>
                    </a:cubicBezTo>
                    <a:close/>
                    <a:moveTo>
                      <a:pt x="4708" y="1"/>
                    </a:moveTo>
                    <a:lnTo>
                      <a:pt x="4708" y="1"/>
                    </a:lnTo>
                    <a:cubicBezTo>
                      <a:pt x="4709" y="1"/>
                      <a:pt x="4710" y="2"/>
                      <a:pt x="4710" y="3"/>
                    </a:cubicBezTo>
                    <a:cubicBezTo>
                      <a:pt x="4710" y="4"/>
                      <a:pt x="4709" y="5"/>
                      <a:pt x="4708" y="5"/>
                    </a:cubicBezTo>
                    <a:lnTo>
                      <a:pt x="4708" y="5"/>
                    </a:lnTo>
                    <a:cubicBezTo>
                      <a:pt x="4707" y="5"/>
                      <a:pt x="4706" y="4"/>
                      <a:pt x="4706" y="3"/>
                    </a:cubicBezTo>
                    <a:cubicBezTo>
                      <a:pt x="4706" y="2"/>
                      <a:pt x="4707" y="1"/>
                      <a:pt x="4708" y="1"/>
                    </a:cubicBezTo>
                    <a:close/>
                    <a:moveTo>
                      <a:pt x="4716" y="1"/>
                    </a:moveTo>
                    <a:lnTo>
                      <a:pt x="4716" y="1"/>
                    </a:lnTo>
                    <a:cubicBezTo>
                      <a:pt x="4717" y="1"/>
                      <a:pt x="4718" y="2"/>
                      <a:pt x="4718" y="3"/>
                    </a:cubicBezTo>
                    <a:cubicBezTo>
                      <a:pt x="4718" y="4"/>
                      <a:pt x="4717" y="5"/>
                      <a:pt x="4716" y="5"/>
                    </a:cubicBezTo>
                    <a:lnTo>
                      <a:pt x="4716" y="5"/>
                    </a:lnTo>
                    <a:cubicBezTo>
                      <a:pt x="4715" y="5"/>
                      <a:pt x="4714" y="4"/>
                      <a:pt x="4714" y="3"/>
                    </a:cubicBezTo>
                    <a:cubicBezTo>
                      <a:pt x="4714" y="2"/>
                      <a:pt x="4715" y="1"/>
                      <a:pt x="4716" y="1"/>
                    </a:cubicBezTo>
                    <a:close/>
                    <a:moveTo>
                      <a:pt x="4724" y="1"/>
                    </a:moveTo>
                    <a:lnTo>
                      <a:pt x="4724" y="1"/>
                    </a:lnTo>
                    <a:cubicBezTo>
                      <a:pt x="4725" y="1"/>
                      <a:pt x="4726" y="2"/>
                      <a:pt x="4726" y="3"/>
                    </a:cubicBezTo>
                    <a:cubicBezTo>
                      <a:pt x="4726" y="4"/>
                      <a:pt x="4725" y="5"/>
                      <a:pt x="4724" y="5"/>
                    </a:cubicBezTo>
                    <a:lnTo>
                      <a:pt x="4724" y="5"/>
                    </a:lnTo>
                    <a:cubicBezTo>
                      <a:pt x="4723" y="5"/>
                      <a:pt x="4722" y="4"/>
                      <a:pt x="4722" y="3"/>
                    </a:cubicBezTo>
                    <a:cubicBezTo>
                      <a:pt x="4722" y="2"/>
                      <a:pt x="4723" y="1"/>
                      <a:pt x="4724" y="1"/>
                    </a:cubicBezTo>
                    <a:close/>
                    <a:moveTo>
                      <a:pt x="4732" y="1"/>
                    </a:moveTo>
                    <a:lnTo>
                      <a:pt x="4732" y="1"/>
                    </a:lnTo>
                    <a:cubicBezTo>
                      <a:pt x="4733" y="1"/>
                      <a:pt x="4734" y="2"/>
                      <a:pt x="4734" y="3"/>
                    </a:cubicBezTo>
                    <a:cubicBezTo>
                      <a:pt x="4734" y="4"/>
                      <a:pt x="4733" y="5"/>
                      <a:pt x="4732" y="5"/>
                    </a:cubicBezTo>
                    <a:lnTo>
                      <a:pt x="4732" y="5"/>
                    </a:lnTo>
                    <a:cubicBezTo>
                      <a:pt x="4731" y="5"/>
                      <a:pt x="4730" y="4"/>
                      <a:pt x="4730" y="3"/>
                    </a:cubicBezTo>
                    <a:cubicBezTo>
                      <a:pt x="4730" y="2"/>
                      <a:pt x="4731" y="1"/>
                      <a:pt x="4732" y="1"/>
                    </a:cubicBezTo>
                    <a:close/>
                    <a:moveTo>
                      <a:pt x="4740" y="1"/>
                    </a:moveTo>
                    <a:lnTo>
                      <a:pt x="4740" y="1"/>
                    </a:lnTo>
                    <a:cubicBezTo>
                      <a:pt x="4741" y="1"/>
                      <a:pt x="4742" y="2"/>
                      <a:pt x="4742" y="3"/>
                    </a:cubicBezTo>
                    <a:cubicBezTo>
                      <a:pt x="4742" y="4"/>
                      <a:pt x="4741" y="5"/>
                      <a:pt x="4740" y="5"/>
                    </a:cubicBezTo>
                    <a:lnTo>
                      <a:pt x="4740" y="5"/>
                    </a:lnTo>
                    <a:cubicBezTo>
                      <a:pt x="4739" y="5"/>
                      <a:pt x="4738" y="4"/>
                      <a:pt x="4738" y="3"/>
                    </a:cubicBezTo>
                    <a:cubicBezTo>
                      <a:pt x="4738" y="2"/>
                      <a:pt x="4739" y="1"/>
                      <a:pt x="4740" y="1"/>
                    </a:cubicBezTo>
                    <a:close/>
                    <a:moveTo>
                      <a:pt x="4748" y="1"/>
                    </a:moveTo>
                    <a:lnTo>
                      <a:pt x="4748" y="1"/>
                    </a:lnTo>
                    <a:cubicBezTo>
                      <a:pt x="4749" y="1"/>
                      <a:pt x="4750" y="2"/>
                      <a:pt x="4750" y="3"/>
                    </a:cubicBezTo>
                    <a:cubicBezTo>
                      <a:pt x="4750" y="4"/>
                      <a:pt x="4749" y="5"/>
                      <a:pt x="4748" y="5"/>
                    </a:cubicBezTo>
                    <a:lnTo>
                      <a:pt x="4748" y="5"/>
                    </a:lnTo>
                    <a:cubicBezTo>
                      <a:pt x="4747" y="5"/>
                      <a:pt x="4746" y="4"/>
                      <a:pt x="4746" y="3"/>
                    </a:cubicBezTo>
                    <a:cubicBezTo>
                      <a:pt x="4746" y="2"/>
                      <a:pt x="4747" y="1"/>
                      <a:pt x="4748" y="1"/>
                    </a:cubicBezTo>
                    <a:close/>
                    <a:moveTo>
                      <a:pt x="4756" y="1"/>
                    </a:moveTo>
                    <a:lnTo>
                      <a:pt x="4756" y="1"/>
                    </a:lnTo>
                    <a:cubicBezTo>
                      <a:pt x="4757" y="1"/>
                      <a:pt x="4758" y="2"/>
                      <a:pt x="4758" y="3"/>
                    </a:cubicBezTo>
                    <a:cubicBezTo>
                      <a:pt x="4758" y="4"/>
                      <a:pt x="4757" y="5"/>
                      <a:pt x="4756" y="5"/>
                    </a:cubicBezTo>
                    <a:lnTo>
                      <a:pt x="4756" y="5"/>
                    </a:lnTo>
                    <a:cubicBezTo>
                      <a:pt x="4755" y="5"/>
                      <a:pt x="4754" y="4"/>
                      <a:pt x="4754" y="3"/>
                    </a:cubicBezTo>
                    <a:cubicBezTo>
                      <a:pt x="4754" y="2"/>
                      <a:pt x="4755" y="1"/>
                      <a:pt x="4756" y="1"/>
                    </a:cubicBezTo>
                    <a:close/>
                    <a:moveTo>
                      <a:pt x="4764" y="1"/>
                    </a:moveTo>
                    <a:lnTo>
                      <a:pt x="4764" y="1"/>
                    </a:lnTo>
                    <a:cubicBezTo>
                      <a:pt x="4765" y="1"/>
                      <a:pt x="4766" y="2"/>
                      <a:pt x="4766" y="3"/>
                    </a:cubicBezTo>
                    <a:cubicBezTo>
                      <a:pt x="4766" y="4"/>
                      <a:pt x="4765" y="5"/>
                      <a:pt x="4764" y="5"/>
                    </a:cubicBezTo>
                    <a:lnTo>
                      <a:pt x="4764" y="5"/>
                    </a:lnTo>
                    <a:cubicBezTo>
                      <a:pt x="4763" y="5"/>
                      <a:pt x="4762" y="4"/>
                      <a:pt x="4762" y="3"/>
                    </a:cubicBezTo>
                    <a:cubicBezTo>
                      <a:pt x="4762" y="2"/>
                      <a:pt x="4763" y="1"/>
                      <a:pt x="4764" y="1"/>
                    </a:cubicBezTo>
                    <a:close/>
                    <a:moveTo>
                      <a:pt x="4772" y="1"/>
                    </a:moveTo>
                    <a:lnTo>
                      <a:pt x="4772" y="1"/>
                    </a:lnTo>
                    <a:cubicBezTo>
                      <a:pt x="4773" y="1"/>
                      <a:pt x="4774" y="2"/>
                      <a:pt x="4774" y="3"/>
                    </a:cubicBezTo>
                    <a:cubicBezTo>
                      <a:pt x="4774" y="4"/>
                      <a:pt x="4773" y="5"/>
                      <a:pt x="4772" y="5"/>
                    </a:cubicBezTo>
                    <a:lnTo>
                      <a:pt x="4772" y="5"/>
                    </a:lnTo>
                    <a:cubicBezTo>
                      <a:pt x="4771" y="5"/>
                      <a:pt x="4770" y="4"/>
                      <a:pt x="4770" y="3"/>
                    </a:cubicBezTo>
                    <a:cubicBezTo>
                      <a:pt x="4770" y="2"/>
                      <a:pt x="4771" y="1"/>
                      <a:pt x="4772" y="1"/>
                    </a:cubicBezTo>
                    <a:close/>
                    <a:moveTo>
                      <a:pt x="4780" y="1"/>
                    </a:moveTo>
                    <a:lnTo>
                      <a:pt x="4780" y="1"/>
                    </a:lnTo>
                    <a:cubicBezTo>
                      <a:pt x="4781" y="1"/>
                      <a:pt x="4782" y="2"/>
                      <a:pt x="4782" y="3"/>
                    </a:cubicBezTo>
                    <a:cubicBezTo>
                      <a:pt x="4782" y="4"/>
                      <a:pt x="4781" y="5"/>
                      <a:pt x="4780" y="5"/>
                    </a:cubicBezTo>
                    <a:lnTo>
                      <a:pt x="4780" y="5"/>
                    </a:lnTo>
                    <a:cubicBezTo>
                      <a:pt x="4779" y="5"/>
                      <a:pt x="4778" y="4"/>
                      <a:pt x="4778" y="3"/>
                    </a:cubicBezTo>
                    <a:cubicBezTo>
                      <a:pt x="4778" y="2"/>
                      <a:pt x="4779" y="1"/>
                      <a:pt x="4780" y="1"/>
                    </a:cubicBezTo>
                    <a:close/>
                    <a:moveTo>
                      <a:pt x="4788" y="1"/>
                    </a:moveTo>
                    <a:lnTo>
                      <a:pt x="4788" y="1"/>
                    </a:lnTo>
                    <a:cubicBezTo>
                      <a:pt x="4789" y="1"/>
                      <a:pt x="4790" y="2"/>
                      <a:pt x="4790" y="3"/>
                    </a:cubicBezTo>
                    <a:cubicBezTo>
                      <a:pt x="4790" y="4"/>
                      <a:pt x="4789" y="5"/>
                      <a:pt x="4788" y="5"/>
                    </a:cubicBezTo>
                    <a:lnTo>
                      <a:pt x="4788" y="5"/>
                    </a:lnTo>
                    <a:cubicBezTo>
                      <a:pt x="4787" y="5"/>
                      <a:pt x="4786" y="4"/>
                      <a:pt x="4786" y="3"/>
                    </a:cubicBezTo>
                    <a:cubicBezTo>
                      <a:pt x="4786" y="2"/>
                      <a:pt x="4787" y="1"/>
                      <a:pt x="4788" y="1"/>
                    </a:cubicBezTo>
                    <a:close/>
                    <a:moveTo>
                      <a:pt x="4796" y="1"/>
                    </a:moveTo>
                    <a:lnTo>
                      <a:pt x="4796" y="1"/>
                    </a:lnTo>
                    <a:cubicBezTo>
                      <a:pt x="4797" y="1"/>
                      <a:pt x="4798" y="2"/>
                      <a:pt x="4798" y="3"/>
                    </a:cubicBezTo>
                    <a:cubicBezTo>
                      <a:pt x="4798" y="4"/>
                      <a:pt x="4797" y="5"/>
                      <a:pt x="4796" y="5"/>
                    </a:cubicBezTo>
                    <a:lnTo>
                      <a:pt x="4796" y="5"/>
                    </a:lnTo>
                    <a:cubicBezTo>
                      <a:pt x="4795" y="5"/>
                      <a:pt x="4794" y="4"/>
                      <a:pt x="4794" y="3"/>
                    </a:cubicBezTo>
                    <a:cubicBezTo>
                      <a:pt x="4794" y="2"/>
                      <a:pt x="4795" y="1"/>
                      <a:pt x="4796" y="1"/>
                    </a:cubicBezTo>
                    <a:close/>
                    <a:moveTo>
                      <a:pt x="4804" y="1"/>
                    </a:moveTo>
                    <a:lnTo>
                      <a:pt x="4804" y="1"/>
                    </a:lnTo>
                    <a:cubicBezTo>
                      <a:pt x="4805" y="1"/>
                      <a:pt x="4806" y="2"/>
                      <a:pt x="4806" y="3"/>
                    </a:cubicBezTo>
                    <a:cubicBezTo>
                      <a:pt x="4806" y="4"/>
                      <a:pt x="4805" y="5"/>
                      <a:pt x="4804" y="5"/>
                    </a:cubicBezTo>
                    <a:lnTo>
                      <a:pt x="4804" y="5"/>
                    </a:lnTo>
                    <a:cubicBezTo>
                      <a:pt x="4803" y="5"/>
                      <a:pt x="4802" y="4"/>
                      <a:pt x="4802" y="3"/>
                    </a:cubicBezTo>
                    <a:cubicBezTo>
                      <a:pt x="4802" y="2"/>
                      <a:pt x="4803" y="1"/>
                      <a:pt x="4804" y="1"/>
                    </a:cubicBezTo>
                    <a:close/>
                    <a:moveTo>
                      <a:pt x="4812" y="1"/>
                    </a:moveTo>
                    <a:lnTo>
                      <a:pt x="4812" y="1"/>
                    </a:lnTo>
                    <a:cubicBezTo>
                      <a:pt x="4813" y="1"/>
                      <a:pt x="4814" y="2"/>
                      <a:pt x="4814" y="3"/>
                    </a:cubicBezTo>
                    <a:cubicBezTo>
                      <a:pt x="4814" y="4"/>
                      <a:pt x="4813" y="5"/>
                      <a:pt x="4812" y="5"/>
                    </a:cubicBezTo>
                    <a:lnTo>
                      <a:pt x="4812" y="5"/>
                    </a:lnTo>
                    <a:cubicBezTo>
                      <a:pt x="4811" y="5"/>
                      <a:pt x="4810" y="4"/>
                      <a:pt x="4810" y="3"/>
                    </a:cubicBezTo>
                    <a:cubicBezTo>
                      <a:pt x="4810" y="2"/>
                      <a:pt x="4811" y="1"/>
                      <a:pt x="4812" y="1"/>
                    </a:cubicBezTo>
                    <a:close/>
                    <a:moveTo>
                      <a:pt x="4820" y="1"/>
                    </a:moveTo>
                    <a:lnTo>
                      <a:pt x="4820" y="1"/>
                    </a:lnTo>
                    <a:cubicBezTo>
                      <a:pt x="4821" y="1"/>
                      <a:pt x="4822" y="2"/>
                      <a:pt x="4822" y="3"/>
                    </a:cubicBezTo>
                    <a:cubicBezTo>
                      <a:pt x="4822" y="4"/>
                      <a:pt x="4821" y="5"/>
                      <a:pt x="4820" y="5"/>
                    </a:cubicBezTo>
                    <a:lnTo>
                      <a:pt x="4820" y="5"/>
                    </a:lnTo>
                    <a:cubicBezTo>
                      <a:pt x="4819" y="5"/>
                      <a:pt x="4818" y="4"/>
                      <a:pt x="4818" y="3"/>
                    </a:cubicBezTo>
                    <a:cubicBezTo>
                      <a:pt x="4818" y="2"/>
                      <a:pt x="4819" y="1"/>
                      <a:pt x="4820" y="1"/>
                    </a:cubicBezTo>
                    <a:close/>
                    <a:moveTo>
                      <a:pt x="4828" y="1"/>
                    </a:moveTo>
                    <a:lnTo>
                      <a:pt x="4828" y="1"/>
                    </a:lnTo>
                    <a:cubicBezTo>
                      <a:pt x="4829" y="1"/>
                      <a:pt x="4830" y="2"/>
                      <a:pt x="4830" y="3"/>
                    </a:cubicBezTo>
                    <a:cubicBezTo>
                      <a:pt x="4830" y="4"/>
                      <a:pt x="4829" y="5"/>
                      <a:pt x="4828" y="5"/>
                    </a:cubicBezTo>
                    <a:lnTo>
                      <a:pt x="4828" y="5"/>
                    </a:lnTo>
                    <a:cubicBezTo>
                      <a:pt x="4827" y="5"/>
                      <a:pt x="4826" y="4"/>
                      <a:pt x="4826" y="3"/>
                    </a:cubicBezTo>
                    <a:cubicBezTo>
                      <a:pt x="4826" y="2"/>
                      <a:pt x="4827" y="1"/>
                      <a:pt x="4828" y="1"/>
                    </a:cubicBezTo>
                    <a:close/>
                    <a:moveTo>
                      <a:pt x="4836" y="1"/>
                    </a:moveTo>
                    <a:lnTo>
                      <a:pt x="4836" y="1"/>
                    </a:lnTo>
                    <a:cubicBezTo>
                      <a:pt x="4837" y="1"/>
                      <a:pt x="4838" y="2"/>
                      <a:pt x="4838" y="3"/>
                    </a:cubicBezTo>
                    <a:cubicBezTo>
                      <a:pt x="4838" y="4"/>
                      <a:pt x="4837" y="5"/>
                      <a:pt x="4836" y="5"/>
                    </a:cubicBezTo>
                    <a:lnTo>
                      <a:pt x="4836" y="5"/>
                    </a:lnTo>
                    <a:cubicBezTo>
                      <a:pt x="4835" y="5"/>
                      <a:pt x="4834" y="4"/>
                      <a:pt x="4834" y="3"/>
                    </a:cubicBezTo>
                    <a:cubicBezTo>
                      <a:pt x="4834" y="2"/>
                      <a:pt x="4835" y="1"/>
                      <a:pt x="4836" y="1"/>
                    </a:cubicBezTo>
                    <a:close/>
                    <a:moveTo>
                      <a:pt x="4844" y="1"/>
                    </a:moveTo>
                    <a:lnTo>
                      <a:pt x="4844" y="1"/>
                    </a:lnTo>
                    <a:cubicBezTo>
                      <a:pt x="4845" y="1"/>
                      <a:pt x="4846" y="2"/>
                      <a:pt x="4846" y="3"/>
                    </a:cubicBezTo>
                    <a:cubicBezTo>
                      <a:pt x="4846" y="4"/>
                      <a:pt x="4845" y="5"/>
                      <a:pt x="4844" y="5"/>
                    </a:cubicBezTo>
                    <a:lnTo>
                      <a:pt x="4844" y="5"/>
                    </a:lnTo>
                    <a:cubicBezTo>
                      <a:pt x="4843" y="5"/>
                      <a:pt x="4842" y="4"/>
                      <a:pt x="4842" y="3"/>
                    </a:cubicBezTo>
                    <a:cubicBezTo>
                      <a:pt x="4842" y="2"/>
                      <a:pt x="4843" y="1"/>
                      <a:pt x="4844" y="1"/>
                    </a:cubicBezTo>
                    <a:close/>
                    <a:moveTo>
                      <a:pt x="4852" y="1"/>
                    </a:moveTo>
                    <a:lnTo>
                      <a:pt x="4852" y="1"/>
                    </a:lnTo>
                    <a:cubicBezTo>
                      <a:pt x="4853" y="1"/>
                      <a:pt x="4854" y="2"/>
                      <a:pt x="4854" y="3"/>
                    </a:cubicBezTo>
                    <a:cubicBezTo>
                      <a:pt x="4854" y="4"/>
                      <a:pt x="4853" y="5"/>
                      <a:pt x="4852" y="5"/>
                    </a:cubicBezTo>
                    <a:lnTo>
                      <a:pt x="4852" y="5"/>
                    </a:lnTo>
                    <a:cubicBezTo>
                      <a:pt x="4851" y="5"/>
                      <a:pt x="4850" y="4"/>
                      <a:pt x="4850" y="3"/>
                    </a:cubicBezTo>
                    <a:cubicBezTo>
                      <a:pt x="4850" y="2"/>
                      <a:pt x="4851" y="1"/>
                      <a:pt x="4852" y="1"/>
                    </a:cubicBezTo>
                    <a:close/>
                    <a:moveTo>
                      <a:pt x="4860" y="1"/>
                    </a:moveTo>
                    <a:lnTo>
                      <a:pt x="4860" y="1"/>
                    </a:lnTo>
                    <a:cubicBezTo>
                      <a:pt x="4861" y="1"/>
                      <a:pt x="4862" y="2"/>
                      <a:pt x="4862" y="3"/>
                    </a:cubicBezTo>
                    <a:cubicBezTo>
                      <a:pt x="4862" y="4"/>
                      <a:pt x="4861" y="5"/>
                      <a:pt x="4860" y="5"/>
                    </a:cubicBezTo>
                    <a:lnTo>
                      <a:pt x="4860" y="5"/>
                    </a:lnTo>
                    <a:cubicBezTo>
                      <a:pt x="4859" y="5"/>
                      <a:pt x="4858" y="4"/>
                      <a:pt x="4858" y="3"/>
                    </a:cubicBezTo>
                    <a:cubicBezTo>
                      <a:pt x="4858" y="2"/>
                      <a:pt x="4859" y="1"/>
                      <a:pt x="4860" y="1"/>
                    </a:cubicBezTo>
                    <a:close/>
                    <a:moveTo>
                      <a:pt x="4868" y="1"/>
                    </a:moveTo>
                    <a:lnTo>
                      <a:pt x="4868" y="1"/>
                    </a:lnTo>
                    <a:cubicBezTo>
                      <a:pt x="4869" y="1"/>
                      <a:pt x="4870" y="2"/>
                      <a:pt x="4870" y="3"/>
                    </a:cubicBezTo>
                    <a:cubicBezTo>
                      <a:pt x="4870" y="4"/>
                      <a:pt x="4869" y="5"/>
                      <a:pt x="4868" y="5"/>
                    </a:cubicBezTo>
                    <a:lnTo>
                      <a:pt x="4868" y="5"/>
                    </a:lnTo>
                    <a:cubicBezTo>
                      <a:pt x="4867" y="5"/>
                      <a:pt x="4866" y="4"/>
                      <a:pt x="4866" y="3"/>
                    </a:cubicBezTo>
                    <a:cubicBezTo>
                      <a:pt x="4866" y="2"/>
                      <a:pt x="4867" y="1"/>
                      <a:pt x="4868" y="1"/>
                    </a:cubicBezTo>
                    <a:close/>
                    <a:moveTo>
                      <a:pt x="4876" y="1"/>
                    </a:moveTo>
                    <a:lnTo>
                      <a:pt x="4876" y="1"/>
                    </a:lnTo>
                    <a:cubicBezTo>
                      <a:pt x="4877" y="1"/>
                      <a:pt x="4878" y="2"/>
                      <a:pt x="4878" y="3"/>
                    </a:cubicBezTo>
                    <a:cubicBezTo>
                      <a:pt x="4878" y="4"/>
                      <a:pt x="4877" y="5"/>
                      <a:pt x="4876" y="5"/>
                    </a:cubicBezTo>
                    <a:lnTo>
                      <a:pt x="4876" y="5"/>
                    </a:lnTo>
                    <a:cubicBezTo>
                      <a:pt x="4875" y="5"/>
                      <a:pt x="4874" y="4"/>
                      <a:pt x="4874" y="3"/>
                    </a:cubicBezTo>
                    <a:cubicBezTo>
                      <a:pt x="4874" y="2"/>
                      <a:pt x="4875" y="1"/>
                      <a:pt x="4876" y="1"/>
                    </a:cubicBezTo>
                    <a:close/>
                    <a:moveTo>
                      <a:pt x="4884" y="1"/>
                    </a:moveTo>
                    <a:lnTo>
                      <a:pt x="4884" y="1"/>
                    </a:lnTo>
                    <a:cubicBezTo>
                      <a:pt x="4885" y="1"/>
                      <a:pt x="4886" y="2"/>
                      <a:pt x="4886" y="3"/>
                    </a:cubicBezTo>
                    <a:cubicBezTo>
                      <a:pt x="4886" y="4"/>
                      <a:pt x="4885" y="5"/>
                      <a:pt x="4884" y="5"/>
                    </a:cubicBezTo>
                    <a:lnTo>
                      <a:pt x="4884" y="5"/>
                    </a:lnTo>
                    <a:cubicBezTo>
                      <a:pt x="4883" y="5"/>
                      <a:pt x="4882" y="4"/>
                      <a:pt x="4882" y="3"/>
                    </a:cubicBezTo>
                    <a:cubicBezTo>
                      <a:pt x="4882" y="2"/>
                      <a:pt x="4883" y="1"/>
                      <a:pt x="4884" y="1"/>
                    </a:cubicBezTo>
                    <a:close/>
                    <a:moveTo>
                      <a:pt x="4892" y="1"/>
                    </a:moveTo>
                    <a:lnTo>
                      <a:pt x="4892" y="1"/>
                    </a:lnTo>
                    <a:cubicBezTo>
                      <a:pt x="4893" y="1"/>
                      <a:pt x="4894" y="2"/>
                      <a:pt x="4894" y="3"/>
                    </a:cubicBezTo>
                    <a:cubicBezTo>
                      <a:pt x="4894" y="4"/>
                      <a:pt x="4893" y="5"/>
                      <a:pt x="4892" y="5"/>
                    </a:cubicBezTo>
                    <a:lnTo>
                      <a:pt x="4892" y="5"/>
                    </a:lnTo>
                    <a:cubicBezTo>
                      <a:pt x="4891" y="5"/>
                      <a:pt x="4890" y="4"/>
                      <a:pt x="4890" y="3"/>
                    </a:cubicBezTo>
                    <a:cubicBezTo>
                      <a:pt x="4890" y="2"/>
                      <a:pt x="4891" y="1"/>
                      <a:pt x="4892" y="1"/>
                    </a:cubicBezTo>
                    <a:close/>
                    <a:moveTo>
                      <a:pt x="4900" y="1"/>
                    </a:moveTo>
                    <a:lnTo>
                      <a:pt x="4900" y="1"/>
                    </a:lnTo>
                    <a:cubicBezTo>
                      <a:pt x="4901" y="1"/>
                      <a:pt x="4902" y="2"/>
                      <a:pt x="4902" y="3"/>
                    </a:cubicBezTo>
                    <a:cubicBezTo>
                      <a:pt x="4902" y="4"/>
                      <a:pt x="4901" y="5"/>
                      <a:pt x="4900" y="5"/>
                    </a:cubicBezTo>
                    <a:lnTo>
                      <a:pt x="4900" y="5"/>
                    </a:lnTo>
                    <a:cubicBezTo>
                      <a:pt x="4899" y="5"/>
                      <a:pt x="4898" y="4"/>
                      <a:pt x="4898" y="3"/>
                    </a:cubicBezTo>
                    <a:cubicBezTo>
                      <a:pt x="4898" y="2"/>
                      <a:pt x="4899" y="1"/>
                      <a:pt x="4900" y="1"/>
                    </a:cubicBezTo>
                    <a:close/>
                    <a:moveTo>
                      <a:pt x="4908" y="1"/>
                    </a:moveTo>
                    <a:lnTo>
                      <a:pt x="4908" y="1"/>
                    </a:lnTo>
                    <a:cubicBezTo>
                      <a:pt x="4909" y="1"/>
                      <a:pt x="4910" y="2"/>
                      <a:pt x="4910" y="3"/>
                    </a:cubicBezTo>
                    <a:cubicBezTo>
                      <a:pt x="4910" y="4"/>
                      <a:pt x="4909" y="5"/>
                      <a:pt x="4908" y="5"/>
                    </a:cubicBezTo>
                    <a:lnTo>
                      <a:pt x="4908" y="5"/>
                    </a:lnTo>
                    <a:cubicBezTo>
                      <a:pt x="4907" y="5"/>
                      <a:pt x="4906" y="4"/>
                      <a:pt x="4906" y="3"/>
                    </a:cubicBezTo>
                    <a:cubicBezTo>
                      <a:pt x="4906" y="2"/>
                      <a:pt x="4907" y="1"/>
                      <a:pt x="4908" y="1"/>
                    </a:cubicBezTo>
                    <a:close/>
                    <a:moveTo>
                      <a:pt x="4916" y="1"/>
                    </a:moveTo>
                    <a:lnTo>
                      <a:pt x="4916" y="1"/>
                    </a:lnTo>
                    <a:cubicBezTo>
                      <a:pt x="4917" y="1"/>
                      <a:pt x="4918" y="2"/>
                      <a:pt x="4918" y="3"/>
                    </a:cubicBezTo>
                    <a:cubicBezTo>
                      <a:pt x="4918" y="4"/>
                      <a:pt x="4917" y="5"/>
                      <a:pt x="4916" y="5"/>
                    </a:cubicBezTo>
                    <a:lnTo>
                      <a:pt x="4916" y="5"/>
                    </a:lnTo>
                    <a:cubicBezTo>
                      <a:pt x="4915" y="5"/>
                      <a:pt x="4914" y="4"/>
                      <a:pt x="4914" y="3"/>
                    </a:cubicBezTo>
                    <a:cubicBezTo>
                      <a:pt x="4914" y="2"/>
                      <a:pt x="4915" y="1"/>
                      <a:pt x="4916" y="1"/>
                    </a:cubicBezTo>
                    <a:close/>
                    <a:moveTo>
                      <a:pt x="4924" y="1"/>
                    </a:moveTo>
                    <a:lnTo>
                      <a:pt x="4924" y="1"/>
                    </a:lnTo>
                    <a:cubicBezTo>
                      <a:pt x="4925" y="1"/>
                      <a:pt x="4926" y="2"/>
                      <a:pt x="4926" y="3"/>
                    </a:cubicBezTo>
                    <a:cubicBezTo>
                      <a:pt x="4926" y="4"/>
                      <a:pt x="4925" y="5"/>
                      <a:pt x="4924" y="5"/>
                    </a:cubicBezTo>
                    <a:lnTo>
                      <a:pt x="4924" y="5"/>
                    </a:lnTo>
                    <a:cubicBezTo>
                      <a:pt x="4923" y="5"/>
                      <a:pt x="4922" y="4"/>
                      <a:pt x="4922" y="3"/>
                    </a:cubicBezTo>
                    <a:cubicBezTo>
                      <a:pt x="4922" y="2"/>
                      <a:pt x="4923" y="1"/>
                      <a:pt x="4924" y="1"/>
                    </a:cubicBezTo>
                    <a:close/>
                    <a:moveTo>
                      <a:pt x="4932" y="1"/>
                    </a:moveTo>
                    <a:lnTo>
                      <a:pt x="4932" y="1"/>
                    </a:lnTo>
                    <a:cubicBezTo>
                      <a:pt x="4933" y="1"/>
                      <a:pt x="4934" y="2"/>
                      <a:pt x="4934" y="3"/>
                    </a:cubicBezTo>
                    <a:cubicBezTo>
                      <a:pt x="4934" y="4"/>
                      <a:pt x="4933" y="5"/>
                      <a:pt x="4932" y="5"/>
                    </a:cubicBezTo>
                    <a:lnTo>
                      <a:pt x="4932" y="5"/>
                    </a:lnTo>
                    <a:cubicBezTo>
                      <a:pt x="4931" y="5"/>
                      <a:pt x="4930" y="4"/>
                      <a:pt x="4930" y="3"/>
                    </a:cubicBezTo>
                    <a:cubicBezTo>
                      <a:pt x="4930" y="2"/>
                      <a:pt x="4931" y="1"/>
                      <a:pt x="4932" y="1"/>
                    </a:cubicBezTo>
                    <a:close/>
                    <a:moveTo>
                      <a:pt x="4940" y="1"/>
                    </a:moveTo>
                    <a:lnTo>
                      <a:pt x="4940" y="1"/>
                    </a:lnTo>
                    <a:cubicBezTo>
                      <a:pt x="4941" y="1"/>
                      <a:pt x="4942" y="2"/>
                      <a:pt x="4942" y="3"/>
                    </a:cubicBezTo>
                    <a:cubicBezTo>
                      <a:pt x="4942" y="4"/>
                      <a:pt x="4941" y="5"/>
                      <a:pt x="4940" y="5"/>
                    </a:cubicBezTo>
                    <a:lnTo>
                      <a:pt x="4940" y="5"/>
                    </a:lnTo>
                    <a:cubicBezTo>
                      <a:pt x="4939" y="5"/>
                      <a:pt x="4938" y="4"/>
                      <a:pt x="4938" y="3"/>
                    </a:cubicBezTo>
                    <a:cubicBezTo>
                      <a:pt x="4938" y="2"/>
                      <a:pt x="4939" y="1"/>
                      <a:pt x="4940" y="1"/>
                    </a:cubicBezTo>
                    <a:close/>
                    <a:moveTo>
                      <a:pt x="4948" y="1"/>
                    </a:moveTo>
                    <a:lnTo>
                      <a:pt x="4948" y="1"/>
                    </a:lnTo>
                    <a:cubicBezTo>
                      <a:pt x="4949" y="1"/>
                      <a:pt x="4950" y="2"/>
                      <a:pt x="4950" y="3"/>
                    </a:cubicBezTo>
                    <a:cubicBezTo>
                      <a:pt x="4950" y="4"/>
                      <a:pt x="4949" y="5"/>
                      <a:pt x="4948" y="5"/>
                    </a:cubicBezTo>
                    <a:lnTo>
                      <a:pt x="4948" y="5"/>
                    </a:lnTo>
                    <a:cubicBezTo>
                      <a:pt x="4947" y="5"/>
                      <a:pt x="4946" y="4"/>
                      <a:pt x="4946" y="3"/>
                    </a:cubicBezTo>
                    <a:cubicBezTo>
                      <a:pt x="4946" y="2"/>
                      <a:pt x="4947" y="1"/>
                      <a:pt x="4948" y="1"/>
                    </a:cubicBezTo>
                    <a:close/>
                    <a:moveTo>
                      <a:pt x="4956" y="1"/>
                    </a:moveTo>
                    <a:lnTo>
                      <a:pt x="4956" y="1"/>
                    </a:lnTo>
                    <a:cubicBezTo>
                      <a:pt x="4957" y="1"/>
                      <a:pt x="4958" y="2"/>
                      <a:pt x="4958" y="3"/>
                    </a:cubicBezTo>
                    <a:cubicBezTo>
                      <a:pt x="4958" y="4"/>
                      <a:pt x="4957" y="5"/>
                      <a:pt x="4956" y="5"/>
                    </a:cubicBezTo>
                    <a:lnTo>
                      <a:pt x="4956" y="5"/>
                    </a:lnTo>
                    <a:cubicBezTo>
                      <a:pt x="4955" y="5"/>
                      <a:pt x="4954" y="4"/>
                      <a:pt x="4954" y="3"/>
                    </a:cubicBezTo>
                    <a:cubicBezTo>
                      <a:pt x="4954" y="2"/>
                      <a:pt x="4955" y="1"/>
                      <a:pt x="4956" y="1"/>
                    </a:cubicBezTo>
                    <a:close/>
                    <a:moveTo>
                      <a:pt x="4964" y="1"/>
                    </a:moveTo>
                    <a:lnTo>
                      <a:pt x="4964" y="1"/>
                    </a:lnTo>
                    <a:cubicBezTo>
                      <a:pt x="4965" y="1"/>
                      <a:pt x="4966" y="2"/>
                      <a:pt x="4966" y="3"/>
                    </a:cubicBezTo>
                    <a:cubicBezTo>
                      <a:pt x="4966" y="4"/>
                      <a:pt x="4965" y="5"/>
                      <a:pt x="4964" y="5"/>
                    </a:cubicBezTo>
                    <a:lnTo>
                      <a:pt x="4964" y="5"/>
                    </a:lnTo>
                    <a:cubicBezTo>
                      <a:pt x="4963" y="5"/>
                      <a:pt x="4962" y="4"/>
                      <a:pt x="4962" y="3"/>
                    </a:cubicBezTo>
                    <a:cubicBezTo>
                      <a:pt x="4962" y="2"/>
                      <a:pt x="4963" y="1"/>
                      <a:pt x="4964" y="1"/>
                    </a:cubicBezTo>
                    <a:close/>
                    <a:moveTo>
                      <a:pt x="4972" y="1"/>
                    </a:moveTo>
                    <a:lnTo>
                      <a:pt x="4972" y="1"/>
                    </a:lnTo>
                    <a:cubicBezTo>
                      <a:pt x="4973" y="1"/>
                      <a:pt x="4974" y="2"/>
                      <a:pt x="4974" y="3"/>
                    </a:cubicBezTo>
                    <a:cubicBezTo>
                      <a:pt x="4974" y="4"/>
                      <a:pt x="4973" y="5"/>
                      <a:pt x="4972" y="5"/>
                    </a:cubicBezTo>
                    <a:lnTo>
                      <a:pt x="4972" y="5"/>
                    </a:lnTo>
                    <a:cubicBezTo>
                      <a:pt x="4971" y="5"/>
                      <a:pt x="4970" y="4"/>
                      <a:pt x="4970" y="3"/>
                    </a:cubicBezTo>
                    <a:cubicBezTo>
                      <a:pt x="4970" y="2"/>
                      <a:pt x="4971" y="1"/>
                      <a:pt x="4972" y="1"/>
                    </a:cubicBezTo>
                    <a:close/>
                    <a:moveTo>
                      <a:pt x="4980" y="1"/>
                    </a:moveTo>
                    <a:lnTo>
                      <a:pt x="4980" y="1"/>
                    </a:lnTo>
                    <a:cubicBezTo>
                      <a:pt x="4981" y="1"/>
                      <a:pt x="4982" y="2"/>
                      <a:pt x="4982" y="3"/>
                    </a:cubicBezTo>
                    <a:cubicBezTo>
                      <a:pt x="4982" y="4"/>
                      <a:pt x="4981" y="5"/>
                      <a:pt x="4980" y="5"/>
                    </a:cubicBezTo>
                    <a:lnTo>
                      <a:pt x="4980" y="5"/>
                    </a:lnTo>
                    <a:cubicBezTo>
                      <a:pt x="4979" y="5"/>
                      <a:pt x="4978" y="4"/>
                      <a:pt x="4978" y="3"/>
                    </a:cubicBezTo>
                    <a:cubicBezTo>
                      <a:pt x="4978" y="2"/>
                      <a:pt x="4979" y="1"/>
                      <a:pt x="4980" y="1"/>
                    </a:cubicBezTo>
                    <a:close/>
                    <a:moveTo>
                      <a:pt x="4988" y="1"/>
                    </a:moveTo>
                    <a:lnTo>
                      <a:pt x="4988" y="1"/>
                    </a:lnTo>
                    <a:cubicBezTo>
                      <a:pt x="4989" y="1"/>
                      <a:pt x="4990" y="2"/>
                      <a:pt x="4990" y="3"/>
                    </a:cubicBezTo>
                    <a:cubicBezTo>
                      <a:pt x="4990" y="4"/>
                      <a:pt x="4989" y="5"/>
                      <a:pt x="4988" y="5"/>
                    </a:cubicBezTo>
                    <a:lnTo>
                      <a:pt x="4988" y="5"/>
                    </a:lnTo>
                    <a:cubicBezTo>
                      <a:pt x="4987" y="5"/>
                      <a:pt x="4986" y="4"/>
                      <a:pt x="4986" y="3"/>
                    </a:cubicBezTo>
                    <a:cubicBezTo>
                      <a:pt x="4986" y="2"/>
                      <a:pt x="4987" y="1"/>
                      <a:pt x="4988" y="1"/>
                    </a:cubicBezTo>
                    <a:close/>
                    <a:moveTo>
                      <a:pt x="4996" y="1"/>
                    </a:moveTo>
                    <a:lnTo>
                      <a:pt x="4996" y="1"/>
                    </a:lnTo>
                    <a:cubicBezTo>
                      <a:pt x="4997" y="1"/>
                      <a:pt x="4998" y="2"/>
                      <a:pt x="4998" y="3"/>
                    </a:cubicBezTo>
                    <a:cubicBezTo>
                      <a:pt x="4998" y="4"/>
                      <a:pt x="4997" y="5"/>
                      <a:pt x="4996" y="5"/>
                    </a:cubicBezTo>
                    <a:lnTo>
                      <a:pt x="4996" y="5"/>
                    </a:lnTo>
                    <a:cubicBezTo>
                      <a:pt x="4995" y="5"/>
                      <a:pt x="4994" y="4"/>
                      <a:pt x="4994" y="3"/>
                    </a:cubicBezTo>
                    <a:cubicBezTo>
                      <a:pt x="4994" y="2"/>
                      <a:pt x="4995" y="1"/>
                      <a:pt x="4996" y="1"/>
                    </a:cubicBezTo>
                    <a:close/>
                    <a:moveTo>
                      <a:pt x="5004" y="1"/>
                    </a:moveTo>
                    <a:lnTo>
                      <a:pt x="5004" y="1"/>
                    </a:lnTo>
                    <a:cubicBezTo>
                      <a:pt x="5005" y="1"/>
                      <a:pt x="5006" y="2"/>
                      <a:pt x="5006" y="3"/>
                    </a:cubicBezTo>
                    <a:cubicBezTo>
                      <a:pt x="5006" y="4"/>
                      <a:pt x="5005" y="5"/>
                      <a:pt x="5004" y="5"/>
                    </a:cubicBezTo>
                    <a:lnTo>
                      <a:pt x="5004" y="5"/>
                    </a:lnTo>
                    <a:cubicBezTo>
                      <a:pt x="5003" y="5"/>
                      <a:pt x="5002" y="4"/>
                      <a:pt x="5002" y="3"/>
                    </a:cubicBezTo>
                    <a:cubicBezTo>
                      <a:pt x="5002" y="2"/>
                      <a:pt x="5003" y="1"/>
                      <a:pt x="5004" y="1"/>
                    </a:cubicBezTo>
                    <a:close/>
                    <a:moveTo>
                      <a:pt x="5012" y="1"/>
                    </a:moveTo>
                    <a:lnTo>
                      <a:pt x="5012" y="1"/>
                    </a:lnTo>
                    <a:cubicBezTo>
                      <a:pt x="5013" y="1"/>
                      <a:pt x="5014" y="2"/>
                      <a:pt x="5014" y="3"/>
                    </a:cubicBezTo>
                    <a:cubicBezTo>
                      <a:pt x="5014" y="4"/>
                      <a:pt x="5013" y="5"/>
                      <a:pt x="5012" y="5"/>
                    </a:cubicBezTo>
                    <a:lnTo>
                      <a:pt x="5012" y="5"/>
                    </a:lnTo>
                    <a:cubicBezTo>
                      <a:pt x="5011" y="5"/>
                      <a:pt x="5010" y="4"/>
                      <a:pt x="5010" y="3"/>
                    </a:cubicBezTo>
                    <a:cubicBezTo>
                      <a:pt x="5010" y="2"/>
                      <a:pt x="5011" y="1"/>
                      <a:pt x="5012" y="1"/>
                    </a:cubicBezTo>
                    <a:close/>
                    <a:moveTo>
                      <a:pt x="5020" y="1"/>
                    </a:moveTo>
                    <a:lnTo>
                      <a:pt x="5020" y="1"/>
                    </a:lnTo>
                    <a:cubicBezTo>
                      <a:pt x="5021" y="1"/>
                      <a:pt x="5022" y="2"/>
                      <a:pt x="5022" y="3"/>
                    </a:cubicBezTo>
                    <a:cubicBezTo>
                      <a:pt x="5022" y="4"/>
                      <a:pt x="5021" y="5"/>
                      <a:pt x="5020" y="5"/>
                    </a:cubicBezTo>
                    <a:lnTo>
                      <a:pt x="5020" y="5"/>
                    </a:lnTo>
                    <a:cubicBezTo>
                      <a:pt x="5019" y="5"/>
                      <a:pt x="5018" y="4"/>
                      <a:pt x="5018" y="3"/>
                    </a:cubicBezTo>
                    <a:cubicBezTo>
                      <a:pt x="5018" y="2"/>
                      <a:pt x="5019" y="1"/>
                      <a:pt x="5020" y="1"/>
                    </a:cubicBezTo>
                    <a:close/>
                    <a:moveTo>
                      <a:pt x="5028" y="1"/>
                    </a:moveTo>
                    <a:lnTo>
                      <a:pt x="5028" y="1"/>
                    </a:lnTo>
                    <a:cubicBezTo>
                      <a:pt x="5029" y="1"/>
                      <a:pt x="5030" y="2"/>
                      <a:pt x="5030" y="3"/>
                    </a:cubicBezTo>
                    <a:cubicBezTo>
                      <a:pt x="5030" y="4"/>
                      <a:pt x="5029" y="5"/>
                      <a:pt x="5028" y="5"/>
                    </a:cubicBezTo>
                    <a:lnTo>
                      <a:pt x="5028" y="5"/>
                    </a:lnTo>
                    <a:cubicBezTo>
                      <a:pt x="5027" y="5"/>
                      <a:pt x="5026" y="4"/>
                      <a:pt x="5026" y="3"/>
                    </a:cubicBezTo>
                    <a:cubicBezTo>
                      <a:pt x="5026" y="2"/>
                      <a:pt x="5027" y="1"/>
                      <a:pt x="5028" y="1"/>
                    </a:cubicBezTo>
                    <a:close/>
                    <a:moveTo>
                      <a:pt x="5036" y="1"/>
                    </a:moveTo>
                    <a:lnTo>
                      <a:pt x="5036" y="1"/>
                    </a:lnTo>
                    <a:cubicBezTo>
                      <a:pt x="5037" y="1"/>
                      <a:pt x="5038" y="2"/>
                      <a:pt x="5038" y="3"/>
                    </a:cubicBezTo>
                    <a:cubicBezTo>
                      <a:pt x="5038" y="4"/>
                      <a:pt x="5037" y="5"/>
                      <a:pt x="5036" y="5"/>
                    </a:cubicBezTo>
                    <a:lnTo>
                      <a:pt x="5036" y="5"/>
                    </a:lnTo>
                    <a:cubicBezTo>
                      <a:pt x="5035" y="5"/>
                      <a:pt x="5034" y="4"/>
                      <a:pt x="5034" y="3"/>
                    </a:cubicBezTo>
                    <a:cubicBezTo>
                      <a:pt x="5034" y="2"/>
                      <a:pt x="5035" y="1"/>
                      <a:pt x="5036" y="1"/>
                    </a:cubicBezTo>
                    <a:close/>
                    <a:moveTo>
                      <a:pt x="5044" y="1"/>
                    </a:moveTo>
                    <a:lnTo>
                      <a:pt x="5044" y="1"/>
                    </a:lnTo>
                    <a:cubicBezTo>
                      <a:pt x="5045" y="1"/>
                      <a:pt x="5046" y="2"/>
                      <a:pt x="5046" y="3"/>
                    </a:cubicBezTo>
                    <a:cubicBezTo>
                      <a:pt x="5046" y="4"/>
                      <a:pt x="5045" y="5"/>
                      <a:pt x="5044" y="5"/>
                    </a:cubicBezTo>
                    <a:lnTo>
                      <a:pt x="5044" y="5"/>
                    </a:lnTo>
                    <a:cubicBezTo>
                      <a:pt x="5043" y="5"/>
                      <a:pt x="5042" y="4"/>
                      <a:pt x="5042" y="3"/>
                    </a:cubicBezTo>
                    <a:cubicBezTo>
                      <a:pt x="5042" y="2"/>
                      <a:pt x="5043" y="1"/>
                      <a:pt x="5044" y="1"/>
                    </a:cubicBezTo>
                    <a:close/>
                    <a:moveTo>
                      <a:pt x="5052" y="1"/>
                    </a:moveTo>
                    <a:lnTo>
                      <a:pt x="5052" y="1"/>
                    </a:lnTo>
                    <a:cubicBezTo>
                      <a:pt x="5053" y="1"/>
                      <a:pt x="5054" y="2"/>
                      <a:pt x="5054" y="3"/>
                    </a:cubicBezTo>
                    <a:cubicBezTo>
                      <a:pt x="5054" y="4"/>
                      <a:pt x="5053" y="5"/>
                      <a:pt x="5052" y="5"/>
                    </a:cubicBezTo>
                    <a:lnTo>
                      <a:pt x="5052" y="5"/>
                    </a:lnTo>
                    <a:cubicBezTo>
                      <a:pt x="5051" y="5"/>
                      <a:pt x="5050" y="4"/>
                      <a:pt x="5050" y="3"/>
                    </a:cubicBezTo>
                    <a:cubicBezTo>
                      <a:pt x="5050" y="2"/>
                      <a:pt x="5051" y="1"/>
                      <a:pt x="5052" y="1"/>
                    </a:cubicBezTo>
                    <a:close/>
                    <a:moveTo>
                      <a:pt x="5060" y="1"/>
                    </a:moveTo>
                    <a:lnTo>
                      <a:pt x="5060" y="1"/>
                    </a:lnTo>
                    <a:cubicBezTo>
                      <a:pt x="5061" y="1"/>
                      <a:pt x="5062" y="2"/>
                      <a:pt x="5062" y="3"/>
                    </a:cubicBezTo>
                    <a:cubicBezTo>
                      <a:pt x="5062" y="4"/>
                      <a:pt x="5061" y="5"/>
                      <a:pt x="5060" y="5"/>
                    </a:cubicBezTo>
                    <a:lnTo>
                      <a:pt x="5060" y="5"/>
                    </a:lnTo>
                    <a:cubicBezTo>
                      <a:pt x="5059" y="5"/>
                      <a:pt x="5058" y="4"/>
                      <a:pt x="5058" y="3"/>
                    </a:cubicBezTo>
                    <a:cubicBezTo>
                      <a:pt x="5058" y="2"/>
                      <a:pt x="5059" y="1"/>
                      <a:pt x="5060" y="1"/>
                    </a:cubicBezTo>
                    <a:close/>
                    <a:moveTo>
                      <a:pt x="5068" y="1"/>
                    </a:moveTo>
                    <a:lnTo>
                      <a:pt x="5068" y="1"/>
                    </a:lnTo>
                    <a:cubicBezTo>
                      <a:pt x="5069" y="1"/>
                      <a:pt x="5070" y="2"/>
                      <a:pt x="5070" y="3"/>
                    </a:cubicBezTo>
                    <a:cubicBezTo>
                      <a:pt x="5070" y="5"/>
                      <a:pt x="5069" y="5"/>
                      <a:pt x="5068" y="5"/>
                    </a:cubicBezTo>
                    <a:lnTo>
                      <a:pt x="5068" y="5"/>
                    </a:lnTo>
                    <a:cubicBezTo>
                      <a:pt x="5067" y="5"/>
                      <a:pt x="5066" y="5"/>
                      <a:pt x="5066" y="3"/>
                    </a:cubicBezTo>
                    <a:cubicBezTo>
                      <a:pt x="5066" y="2"/>
                      <a:pt x="5067" y="1"/>
                      <a:pt x="5068" y="1"/>
                    </a:cubicBezTo>
                    <a:close/>
                    <a:moveTo>
                      <a:pt x="5076" y="1"/>
                    </a:moveTo>
                    <a:lnTo>
                      <a:pt x="5076" y="1"/>
                    </a:lnTo>
                    <a:cubicBezTo>
                      <a:pt x="5077" y="1"/>
                      <a:pt x="5078" y="2"/>
                      <a:pt x="5078" y="3"/>
                    </a:cubicBezTo>
                    <a:cubicBezTo>
                      <a:pt x="5078" y="5"/>
                      <a:pt x="5077" y="5"/>
                      <a:pt x="5076" y="5"/>
                    </a:cubicBezTo>
                    <a:lnTo>
                      <a:pt x="5076" y="5"/>
                    </a:lnTo>
                    <a:cubicBezTo>
                      <a:pt x="5075" y="5"/>
                      <a:pt x="5074" y="5"/>
                      <a:pt x="5074" y="3"/>
                    </a:cubicBezTo>
                    <a:cubicBezTo>
                      <a:pt x="5074" y="2"/>
                      <a:pt x="5075" y="1"/>
                      <a:pt x="5076" y="1"/>
                    </a:cubicBezTo>
                    <a:close/>
                    <a:moveTo>
                      <a:pt x="5084" y="1"/>
                    </a:moveTo>
                    <a:lnTo>
                      <a:pt x="5084" y="1"/>
                    </a:lnTo>
                    <a:cubicBezTo>
                      <a:pt x="5085" y="1"/>
                      <a:pt x="5086" y="2"/>
                      <a:pt x="5086" y="3"/>
                    </a:cubicBezTo>
                    <a:cubicBezTo>
                      <a:pt x="5086" y="5"/>
                      <a:pt x="5085" y="5"/>
                      <a:pt x="5084" y="5"/>
                    </a:cubicBezTo>
                    <a:lnTo>
                      <a:pt x="5084" y="5"/>
                    </a:lnTo>
                    <a:cubicBezTo>
                      <a:pt x="5083" y="5"/>
                      <a:pt x="5082" y="5"/>
                      <a:pt x="5082" y="3"/>
                    </a:cubicBezTo>
                    <a:cubicBezTo>
                      <a:pt x="5082" y="2"/>
                      <a:pt x="5083" y="1"/>
                      <a:pt x="5084" y="1"/>
                    </a:cubicBezTo>
                    <a:close/>
                    <a:moveTo>
                      <a:pt x="5092" y="1"/>
                    </a:moveTo>
                    <a:lnTo>
                      <a:pt x="5092" y="1"/>
                    </a:lnTo>
                    <a:cubicBezTo>
                      <a:pt x="5093" y="1"/>
                      <a:pt x="5094" y="2"/>
                      <a:pt x="5094" y="3"/>
                    </a:cubicBezTo>
                    <a:cubicBezTo>
                      <a:pt x="5094" y="5"/>
                      <a:pt x="5093" y="5"/>
                      <a:pt x="5092" y="5"/>
                    </a:cubicBezTo>
                    <a:lnTo>
                      <a:pt x="5092" y="5"/>
                    </a:lnTo>
                    <a:cubicBezTo>
                      <a:pt x="5091" y="5"/>
                      <a:pt x="5090" y="5"/>
                      <a:pt x="5090" y="3"/>
                    </a:cubicBezTo>
                    <a:cubicBezTo>
                      <a:pt x="5090" y="2"/>
                      <a:pt x="5091" y="1"/>
                      <a:pt x="5092" y="1"/>
                    </a:cubicBezTo>
                    <a:close/>
                    <a:moveTo>
                      <a:pt x="5100" y="1"/>
                    </a:moveTo>
                    <a:lnTo>
                      <a:pt x="5100" y="1"/>
                    </a:lnTo>
                    <a:cubicBezTo>
                      <a:pt x="5101" y="1"/>
                      <a:pt x="5102" y="2"/>
                      <a:pt x="5102" y="3"/>
                    </a:cubicBezTo>
                    <a:cubicBezTo>
                      <a:pt x="5102" y="5"/>
                      <a:pt x="5101" y="5"/>
                      <a:pt x="5100" y="5"/>
                    </a:cubicBezTo>
                    <a:lnTo>
                      <a:pt x="5100" y="5"/>
                    </a:lnTo>
                    <a:cubicBezTo>
                      <a:pt x="5099" y="5"/>
                      <a:pt x="5098" y="5"/>
                      <a:pt x="5098" y="3"/>
                    </a:cubicBezTo>
                    <a:cubicBezTo>
                      <a:pt x="5098" y="2"/>
                      <a:pt x="5099" y="1"/>
                      <a:pt x="5100" y="1"/>
                    </a:cubicBezTo>
                    <a:close/>
                    <a:moveTo>
                      <a:pt x="5108" y="1"/>
                    </a:moveTo>
                    <a:lnTo>
                      <a:pt x="5108" y="1"/>
                    </a:lnTo>
                    <a:cubicBezTo>
                      <a:pt x="5109" y="1"/>
                      <a:pt x="5110" y="2"/>
                      <a:pt x="5110" y="3"/>
                    </a:cubicBezTo>
                    <a:cubicBezTo>
                      <a:pt x="5110" y="5"/>
                      <a:pt x="5109" y="5"/>
                      <a:pt x="5108" y="5"/>
                    </a:cubicBezTo>
                    <a:lnTo>
                      <a:pt x="5108" y="5"/>
                    </a:lnTo>
                    <a:cubicBezTo>
                      <a:pt x="5107" y="5"/>
                      <a:pt x="5106" y="5"/>
                      <a:pt x="5106" y="3"/>
                    </a:cubicBezTo>
                    <a:cubicBezTo>
                      <a:pt x="5106" y="2"/>
                      <a:pt x="5107" y="1"/>
                      <a:pt x="5108" y="1"/>
                    </a:cubicBezTo>
                    <a:close/>
                    <a:moveTo>
                      <a:pt x="5116" y="1"/>
                    </a:moveTo>
                    <a:lnTo>
                      <a:pt x="5116" y="1"/>
                    </a:lnTo>
                    <a:cubicBezTo>
                      <a:pt x="5117" y="1"/>
                      <a:pt x="5118" y="2"/>
                      <a:pt x="5118" y="3"/>
                    </a:cubicBezTo>
                    <a:cubicBezTo>
                      <a:pt x="5118" y="5"/>
                      <a:pt x="5117" y="5"/>
                      <a:pt x="5116" y="5"/>
                    </a:cubicBezTo>
                    <a:lnTo>
                      <a:pt x="5116" y="5"/>
                    </a:lnTo>
                    <a:cubicBezTo>
                      <a:pt x="5115" y="5"/>
                      <a:pt x="5114" y="5"/>
                      <a:pt x="5114" y="3"/>
                    </a:cubicBezTo>
                    <a:cubicBezTo>
                      <a:pt x="5114" y="2"/>
                      <a:pt x="5115" y="1"/>
                      <a:pt x="5116" y="1"/>
                    </a:cubicBezTo>
                    <a:close/>
                    <a:moveTo>
                      <a:pt x="5124" y="1"/>
                    </a:moveTo>
                    <a:lnTo>
                      <a:pt x="5124" y="1"/>
                    </a:lnTo>
                    <a:cubicBezTo>
                      <a:pt x="5125" y="1"/>
                      <a:pt x="5126" y="2"/>
                      <a:pt x="5126" y="3"/>
                    </a:cubicBezTo>
                    <a:cubicBezTo>
                      <a:pt x="5126" y="5"/>
                      <a:pt x="5125" y="5"/>
                      <a:pt x="5124" y="5"/>
                    </a:cubicBezTo>
                    <a:lnTo>
                      <a:pt x="5124" y="5"/>
                    </a:lnTo>
                    <a:cubicBezTo>
                      <a:pt x="5123" y="5"/>
                      <a:pt x="5122" y="5"/>
                      <a:pt x="5122" y="3"/>
                    </a:cubicBezTo>
                    <a:cubicBezTo>
                      <a:pt x="5122" y="2"/>
                      <a:pt x="5123" y="1"/>
                      <a:pt x="5124" y="1"/>
                    </a:cubicBezTo>
                    <a:close/>
                    <a:moveTo>
                      <a:pt x="5132" y="1"/>
                    </a:moveTo>
                    <a:lnTo>
                      <a:pt x="5132" y="1"/>
                    </a:lnTo>
                    <a:cubicBezTo>
                      <a:pt x="5133" y="1"/>
                      <a:pt x="5134" y="2"/>
                      <a:pt x="5134" y="3"/>
                    </a:cubicBezTo>
                    <a:cubicBezTo>
                      <a:pt x="5134" y="5"/>
                      <a:pt x="5133" y="5"/>
                      <a:pt x="5132" y="5"/>
                    </a:cubicBezTo>
                    <a:lnTo>
                      <a:pt x="5132" y="5"/>
                    </a:lnTo>
                    <a:cubicBezTo>
                      <a:pt x="5131" y="5"/>
                      <a:pt x="5130" y="5"/>
                      <a:pt x="5130" y="3"/>
                    </a:cubicBezTo>
                    <a:cubicBezTo>
                      <a:pt x="5130" y="2"/>
                      <a:pt x="5131" y="1"/>
                      <a:pt x="5132" y="1"/>
                    </a:cubicBezTo>
                    <a:close/>
                    <a:moveTo>
                      <a:pt x="5140" y="1"/>
                    </a:moveTo>
                    <a:lnTo>
                      <a:pt x="5140" y="1"/>
                    </a:lnTo>
                    <a:cubicBezTo>
                      <a:pt x="5141" y="1"/>
                      <a:pt x="5142" y="2"/>
                      <a:pt x="5142" y="3"/>
                    </a:cubicBezTo>
                    <a:cubicBezTo>
                      <a:pt x="5142" y="5"/>
                      <a:pt x="5141" y="5"/>
                      <a:pt x="5140" y="5"/>
                    </a:cubicBezTo>
                    <a:lnTo>
                      <a:pt x="5140" y="5"/>
                    </a:lnTo>
                    <a:cubicBezTo>
                      <a:pt x="5139" y="5"/>
                      <a:pt x="5138" y="5"/>
                      <a:pt x="5138" y="3"/>
                    </a:cubicBezTo>
                    <a:cubicBezTo>
                      <a:pt x="5138" y="2"/>
                      <a:pt x="5139" y="1"/>
                      <a:pt x="5140" y="1"/>
                    </a:cubicBezTo>
                    <a:close/>
                    <a:moveTo>
                      <a:pt x="5148" y="1"/>
                    </a:moveTo>
                    <a:lnTo>
                      <a:pt x="5148" y="1"/>
                    </a:lnTo>
                    <a:cubicBezTo>
                      <a:pt x="5149" y="1"/>
                      <a:pt x="5150" y="2"/>
                      <a:pt x="5150" y="3"/>
                    </a:cubicBezTo>
                    <a:cubicBezTo>
                      <a:pt x="5150" y="5"/>
                      <a:pt x="5149" y="5"/>
                      <a:pt x="5148" y="5"/>
                    </a:cubicBezTo>
                    <a:lnTo>
                      <a:pt x="5148" y="5"/>
                    </a:lnTo>
                    <a:cubicBezTo>
                      <a:pt x="5147" y="5"/>
                      <a:pt x="5146" y="5"/>
                      <a:pt x="5146" y="3"/>
                    </a:cubicBezTo>
                    <a:cubicBezTo>
                      <a:pt x="5146" y="2"/>
                      <a:pt x="5147" y="1"/>
                      <a:pt x="5148" y="1"/>
                    </a:cubicBezTo>
                    <a:close/>
                    <a:moveTo>
                      <a:pt x="5156" y="1"/>
                    </a:moveTo>
                    <a:lnTo>
                      <a:pt x="5156" y="1"/>
                    </a:lnTo>
                    <a:cubicBezTo>
                      <a:pt x="5157" y="1"/>
                      <a:pt x="5158" y="2"/>
                      <a:pt x="5158" y="3"/>
                    </a:cubicBezTo>
                    <a:cubicBezTo>
                      <a:pt x="5158" y="5"/>
                      <a:pt x="5157" y="5"/>
                      <a:pt x="5156" y="5"/>
                    </a:cubicBezTo>
                    <a:lnTo>
                      <a:pt x="5156" y="5"/>
                    </a:lnTo>
                    <a:cubicBezTo>
                      <a:pt x="5155" y="5"/>
                      <a:pt x="5154" y="5"/>
                      <a:pt x="5154" y="3"/>
                    </a:cubicBezTo>
                    <a:cubicBezTo>
                      <a:pt x="5154" y="2"/>
                      <a:pt x="5155" y="1"/>
                      <a:pt x="5156" y="1"/>
                    </a:cubicBezTo>
                    <a:close/>
                    <a:moveTo>
                      <a:pt x="5164" y="1"/>
                    </a:moveTo>
                    <a:lnTo>
                      <a:pt x="5164" y="1"/>
                    </a:lnTo>
                    <a:cubicBezTo>
                      <a:pt x="5165" y="1"/>
                      <a:pt x="5166" y="2"/>
                      <a:pt x="5166" y="3"/>
                    </a:cubicBezTo>
                    <a:cubicBezTo>
                      <a:pt x="5166" y="5"/>
                      <a:pt x="5165" y="5"/>
                      <a:pt x="5164" y="5"/>
                    </a:cubicBezTo>
                    <a:lnTo>
                      <a:pt x="5164" y="5"/>
                    </a:lnTo>
                    <a:cubicBezTo>
                      <a:pt x="5163" y="5"/>
                      <a:pt x="5162" y="5"/>
                      <a:pt x="5162" y="3"/>
                    </a:cubicBezTo>
                    <a:cubicBezTo>
                      <a:pt x="5162" y="2"/>
                      <a:pt x="5163" y="1"/>
                      <a:pt x="5164" y="1"/>
                    </a:cubicBezTo>
                    <a:close/>
                    <a:moveTo>
                      <a:pt x="5172" y="1"/>
                    </a:moveTo>
                    <a:lnTo>
                      <a:pt x="5172" y="1"/>
                    </a:lnTo>
                    <a:cubicBezTo>
                      <a:pt x="5173" y="1"/>
                      <a:pt x="5174" y="2"/>
                      <a:pt x="5174" y="3"/>
                    </a:cubicBezTo>
                    <a:cubicBezTo>
                      <a:pt x="5174" y="5"/>
                      <a:pt x="5173" y="5"/>
                      <a:pt x="5172" y="5"/>
                    </a:cubicBezTo>
                    <a:lnTo>
                      <a:pt x="5172" y="5"/>
                    </a:lnTo>
                    <a:cubicBezTo>
                      <a:pt x="5171" y="5"/>
                      <a:pt x="5170" y="5"/>
                      <a:pt x="5170" y="3"/>
                    </a:cubicBezTo>
                    <a:cubicBezTo>
                      <a:pt x="5170" y="2"/>
                      <a:pt x="5171" y="1"/>
                      <a:pt x="5172" y="1"/>
                    </a:cubicBezTo>
                    <a:close/>
                    <a:moveTo>
                      <a:pt x="5180" y="1"/>
                    </a:moveTo>
                    <a:lnTo>
                      <a:pt x="5180" y="1"/>
                    </a:lnTo>
                    <a:cubicBezTo>
                      <a:pt x="5181" y="1"/>
                      <a:pt x="5182" y="2"/>
                      <a:pt x="5182" y="3"/>
                    </a:cubicBezTo>
                    <a:cubicBezTo>
                      <a:pt x="5182" y="5"/>
                      <a:pt x="5181" y="5"/>
                      <a:pt x="5180" y="5"/>
                    </a:cubicBezTo>
                    <a:lnTo>
                      <a:pt x="5180" y="5"/>
                    </a:lnTo>
                    <a:cubicBezTo>
                      <a:pt x="5179" y="5"/>
                      <a:pt x="5178" y="5"/>
                      <a:pt x="5178" y="3"/>
                    </a:cubicBezTo>
                    <a:cubicBezTo>
                      <a:pt x="5178" y="2"/>
                      <a:pt x="5179" y="1"/>
                      <a:pt x="5180" y="1"/>
                    </a:cubicBezTo>
                    <a:close/>
                    <a:moveTo>
                      <a:pt x="5188" y="1"/>
                    </a:moveTo>
                    <a:lnTo>
                      <a:pt x="5188" y="1"/>
                    </a:lnTo>
                    <a:cubicBezTo>
                      <a:pt x="5189" y="1"/>
                      <a:pt x="5190" y="2"/>
                      <a:pt x="5190" y="3"/>
                    </a:cubicBezTo>
                    <a:cubicBezTo>
                      <a:pt x="5190" y="5"/>
                      <a:pt x="5189" y="5"/>
                      <a:pt x="5188" y="5"/>
                    </a:cubicBezTo>
                    <a:lnTo>
                      <a:pt x="5188" y="5"/>
                    </a:lnTo>
                    <a:cubicBezTo>
                      <a:pt x="5187" y="5"/>
                      <a:pt x="5186" y="5"/>
                      <a:pt x="5186" y="3"/>
                    </a:cubicBezTo>
                    <a:cubicBezTo>
                      <a:pt x="5186" y="2"/>
                      <a:pt x="5187" y="1"/>
                      <a:pt x="5188" y="1"/>
                    </a:cubicBezTo>
                    <a:close/>
                    <a:moveTo>
                      <a:pt x="5196" y="1"/>
                    </a:moveTo>
                    <a:lnTo>
                      <a:pt x="5196" y="1"/>
                    </a:lnTo>
                    <a:cubicBezTo>
                      <a:pt x="5197" y="1"/>
                      <a:pt x="5198" y="2"/>
                      <a:pt x="5198" y="3"/>
                    </a:cubicBezTo>
                    <a:cubicBezTo>
                      <a:pt x="5198" y="5"/>
                      <a:pt x="5197" y="5"/>
                      <a:pt x="5196" y="5"/>
                    </a:cubicBezTo>
                    <a:lnTo>
                      <a:pt x="5196" y="5"/>
                    </a:lnTo>
                    <a:cubicBezTo>
                      <a:pt x="5195" y="5"/>
                      <a:pt x="5194" y="5"/>
                      <a:pt x="5194" y="3"/>
                    </a:cubicBezTo>
                    <a:cubicBezTo>
                      <a:pt x="5194" y="2"/>
                      <a:pt x="5195" y="1"/>
                      <a:pt x="5196" y="1"/>
                    </a:cubicBezTo>
                    <a:close/>
                    <a:moveTo>
                      <a:pt x="5204" y="1"/>
                    </a:moveTo>
                    <a:lnTo>
                      <a:pt x="5204" y="1"/>
                    </a:lnTo>
                    <a:cubicBezTo>
                      <a:pt x="5205" y="1"/>
                      <a:pt x="5206" y="2"/>
                      <a:pt x="5206" y="3"/>
                    </a:cubicBezTo>
                    <a:cubicBezTo>
                      <a:pt x="5206" y="5"/>
                      <a:pt x="5205" y="5"/>
                      <a:pt x="5204" y="5"/>
                    </a:cubicBezTo>
                    <a:lnTo>
                      <a:pt x="5204" y="5"/>
                    </a:lnTo>
                    <a:cubicBezTo>
                      <a:pt x="5203" y="5"/>
                      <a:pt x="5202" y="5"/>
                      <a:pt x="5202" y="3"/>
                    </a:cubicBezTo>
                    <a:cubicBezTo>
                      <a:pt x="5202" y="2"/>
                      <a:pt x="5203" y="1"/>
                      <a:pt x="5204" y="1"/>
                    </a:cubicBezTo>
                    <a:close/>
                    <a:moveTo>
                      <a:pt x="5212" y="1"/>
                    </a:moveTo>
                    <a:lnTo>
                      <a:pt x="5212" y="1"/>
                    </a:lnTo>
                    <a:cubicBezTo>
                      <a:pt x="5213" y="1"/>
                      <a:pt x="5214" y="2"/>
                      <a:pt x="5214" y="3"/>
                    </a:cubicBezTo>
                    <a:cubicBezTo>
                      <a:pt x="5214" y="5"/>
                      <a:pt x="5213" y="5"/>
                      <a:pt x="5212" y="5"/>
                    </a:cubicBezTo>
                    <a:lnTo>
                      <a:pt x="5212" y="5"/>
                    </a:lnTo>
                    <a:cubicBezTo>
                      <a:pt x="5211" y="5"/>
                      <a:pt x="5210" y="5"/>
                      <a:pt x="5210" y="3"/>
                    </a:cubicBezTo>
                    <a:cubicBezTo>
                      <a:pt x="5210" y="2"/>
                      <a:pt x="5211" y="1"/>
                      <a:pt x="5212" y="1"/>
                    </a:cubicBezTo>
                    <a:close/>
                    <a:moveTo>
                      <a:pt x="5220" y="1"/>
                    </a:moveTo>
                    <a:lnTo>
                      <a:pt x="5220" y="1"/>
                    </a:lnTo>
                    <a:cubicBezTo>
                      <a:pt x="5221" y="1"/>
                      <a:pt x="5222" y="2"/>
                      <a:pt x="5222" y="3"/>
                    </a:cubicBezTo>
                    <a:cubicBezTo>
                      <a:pt x="5222" y="5"/>
                      <a:pt x="5221" y="5"/>
                      <a:pt x="5220" y="5"/>
                    </a:cubicBezTo>
                    <a:lnTo>
                      <a:pt x="5220" y="5"/>
                    </a:lnTo>
                    <a:cubicBezTo>
                      <a:pt x="5219" y="5"/>
                      <a:pt x="5218" y="5"/>
                      <a:pt x="5218" y="3"/>
                    </a:cubicBezTo>
                    <a:cubicBezTo>
                      <a:pt x="5218" y="2"/>
                      <a:pt x="5219" y="1"/>
                      <a:pt x="5220" y="1"/>
                    </a:cubicBezTo>
                    <a:close/>
                    <a:moveTo>
                      <a:pt x="5228" y="1"/>
                    </a:moveTo>
                    <a:lnTo>
                      <a:pt x="5228" y="1"/>
                    </a:lnTo>
                    <a:cubicBezTo>
                      <a:pt x="5229" y="1"/>
                      <a:pt x="5230" y="2"/>
                      <a:pt x="5230" y="3"/>
                    </a:cubicBezTo>
                    <a:cubicBezTo>
                      <a:pt x="5230" y="5"/>
                      <a:pt x="5229" y="5"/>
                      <a:pt x="5228" y="5"/>
                    </a:cubicBezTo>
                    <a:lnTo>
                      <a:pt x="5228" y="5"/>
                    </a:lnTo>
                    <a:cubicBezTo>
                      <a:pt x="5227" y="5"/>
                      <a:pt x="5226" y="5"/>
                      <a:pt x="5226" y="3"/>
                    </a:cubicBezTo>
                    <a:cubicBezTo>
                      <a:pt x="5226" y="2"/>
                      <a:pt x="5227" y="1"/>
                      <a:pt x="5228" y="1"/>
                    </a:cubicBezTo>
                    <a:close/>
                    <a:moveTo>
                      <a:pt x="5236" y="1"/>
                    </a:moveTo>
                    <a:lnTo>
                      <a:pt x="5236" y="1"/>
                    </a:lnTo>
                    <a:cubicBezTo>
                      <a:pt x="5237" y="1"/>
                      <a:pt x="5238" y="2"/>
                      <a:pt x="5238" y="3"/>
                    </a:cubicBezTo>
                    <a:cubicBezTo>
                      <a:pt x="5238" y="5"/>
                      <a:pt x="5237" y="5"/>
                      <a:pt x="5236" y="5"/>
                    </a:cubicBezTo>
                    <a:lnTo>
                      <a:pt x="5236" y="5"/>
                    </a:lnTo>
                    <a:cubicBezTo>
                      <a:pt x="5235" y="5"/>
                      <a:pt x="5234" y="5"/>
                      <a:pt x="5234" y="3"/>
                    </a:cubicBezTo>
                    <a:cubicBezTo>
                      <a:pt x="5234" y="2"/>
                      <a:pt x="5235" y="1"/>
                      <a:pt x="5236" y="1"/>
                    </a:cubicBezTo>
                    <a:close/>
                    <a:moveTo>
                      <a:pt x="5244" y="1"/>
                    </a:moveTo>
                    <a:lnTo>
                      <a:pt x="5244" y="1"/>
                    </a:lnTo>
                    <a:cubicBezTo>
                      <a:pt x="5245" y="1"/>
                      <a:pt x="5246" y="2"/>
                      <a:pt x="5246" y="3"/>
                    </a:cubicBezTo>
                    <a:cubicBezTo>
                      <a:pt x="5246" y="5"/>
                      <a:pt x="5245" y="5"/>
                      <a:pt x="5244" y="5"/>
                    </a:cubicBezTo>
                    <a:lnTo>
                      <a:pt x="5244" y="5"/>
                    </a:lnTo>
                    <a:cubicBezTo>
                      <a:pt x="5243" y="5"/>
                      <a:pt x="5242" y="5"/>
                      <a:pt x="5242" y="3"/>
                    </a:cubicBezTo>
                    <a:cubicBezTo>
                      <a:pt x="5242" y="2"/>
                      <a:pt x="5243" y="1"/>
                      <a:pt x="5244" y="1"/>
                    </a:cubicBezTo>
                    <a:close/>
                    <a:moveTo>
                      <a:pt x="5252" y="1"/>
                    </a:moveTo>
                    <a:lnTo>
                      <a:pt x="5252" y="1"/>
                    </a:lnTo>
                    <a:cubicBezTo>
                      <a:pt x="5253" y="1"/>
                      <a:pt x="5254" y="2"/>
                      <a:pt x="5254" y="3"/>
                    </a:cubicBezTo>
                    <a:cubicBezTo>
                      <a:pt x="5254" y="5"/>
                      <a:pt x="5253" y="5"/>
                      <a:pt x="5252" y="5"/>
                    </a:cubicBezTo>
                    <a:lnTo>
                      <a:pt x="5252" y="5"/>
                    </a:lnTo>
                    <a:cubicBezTo>
                      <a:pt x="5251" y="5"/>
                      <a:pt x="5250" y="5"/>
                      <a:pt x="5250" y="3"/>
                    </a:cubicBezTo>
                    <a:cubicBezTo>
                      <a:pt x="5250" y="2"/>
                      <a:pt x="5251" y="1"/>
                      <a:pt x="5252" y="1"/>
                    </a:cubicBezTo>
                    <a:close/>
                    <a:moveTo>
                      <a:pt x="5260" y="1"/>
                    </a:moveTo>
                    <a:lnTo>
                      <a:pt x="5260" y="1"/>
                    </a:lnTo>
                    <a:cubicBezTo>
                      <a:pt x="5261" y="1"/>
                      <a:pt x="5262" y="2"/>
                      <a:pt x="5262" y="3"/>
                    </a:cubicBezTo>
                    <a:cubicBezTo>
                      <a:pt x="5262" y="5"/>
                      <a:pt x="5261" y="5"/>
                      <a:pt x="5260" y="5"/>
                    </a:cubicBezTo>
                    <a:lnTo>
                      <a:pt x="5260" y="5"/>
                    </a:lnTo>
                    <a:cubicBezTo>
                      <a:pt x="5259" y="5"/>
                      <a:pt x="5258" y="5"/>
                      <a:pt x="5258" y="3"/>
                    </a:cubicBezTo>
                    <a:cubicBezTo>
                      <a:pt x="5258" y="2"/>
                      <a:pt x="5259" y="1"/>
                      <a:pt x="5260" y="1"/>
                    </a:cubicBezTo>
                    <a:close/>
                    <a:moveTo>
                      <a:pt x="5268" y="1"/>
                    </a:moveTo>
                    <a:lnTo>
                      <a:pt x="5268" y="1"/>
                    </a:lnTo>
                    <a:cubicBezTo>
                      <a:pt x="5270" y="1"/>
                      <a:pt x="5270" y="2"/>
                      <a:pt x="5270" y="3"/>
                    </a:cubicBezTo>
                    <a:cubicBezTo>
                      <a:pt x="5270" y="5"/>
                      <a:pt x="5270" y="5"/>
                      <a:pt x="5268" y="5"/>
                    </a:cubicBezTo>
                    <a:lnTo>
                      <a:pt x="5268" y="5"/>
                    </a:lnTo>
                    <a:cubicBezTo>
                      <a:pt x="5267" y="5"/>
                      <a:pt x="5266" y="5"/>
                      <a:pt x="5266" y="3"/>
                    </a:cubicBezTo>
                    <a:cubicBezTo>
                      <a:pt x="5266" y="2"/>
                      <a:pt x="5267" y="1"/>
                      <a:pt x="5268" y="1"/>
                    </a:cubicBezTo>
                    <a:close/>
                    <a:moveTo>
                      <a:pt x="5276" y="1"/>
                    </a:moveTo>
                    <a:lnTo>
                      <a:pt x="5276" y="1"/>
                    </a:lnTo>
                    <a:cubicBezTo>
                      <a:pt x="5278" y="1"/>
                      <a:pt x="5278" y="2"/>
                      <a:pt x="5278" y="3"/>
                    </a:cubicBezTo>
                    <a:cubicBezTo>
                      <a:pt x="5278" y="5"/>
                      <a:pt x="5278" y="5"/>
                      <a:pt x="5276" y="5"/>
                    </a:cubicBezTo>
                    <a:lnTo>
                      <a:pt x="5276" y="5"/>
                    </a:lnTo>
                    <a:cubicBezTo>
                      <a:pt x="5275" y="5"/>
                      <a:pt x="5274" y="5"/>
                      <a:pt x="5274" y="3"/>
                    </a:cubicBezTo>
                    <a:cubicBezTo>
                      <a:pt x="5274" y="2"/>
                      <a:pt x="5275" y="1"/>
                      <a:pt x="5276" y="1"/>
                    </a:cubicBezTo>
                    <a:close/>
                    <a:moveTo>
                      <a:pt x="5284" y="1"/>
                    </a:moveTo>
                    <a:lnTo>
                      <a:pt x="5284" y="1"/>
                    </a:lnTo>
                    <a:cubicBezTo>
                      <a:pt x="5286" y="1"/>
                      <a:pt x="5286" y="2"/>
                      <a:pt x="5286" y="3"/>
                    </a:cubicBezTo>
                    <a:cubicBezTo>
                      <a:pt x="5286" y="5"/>
                      <a:pt x="5286" y="5"/>
                      <a:pt x="5284" y="5"/>
                    </a:cubicBezTo>
                    <a:lnTo>
                      <a:pt x="5284" y="5"/>
                    </a:lnTo>
                    <a:cubicBezTo>
                      <a:pt x="5283" y="5"/>
                      <a:pt x="5282" y="5"/>
                      <a:pt x="5282" y="3"/>
                    </a:cubicBezTo>
                    <a:cubicBezTo>
                      <a:pt x="5282" y="2"/>
                      <a:pt x="5283" y="1"/>
                      <a:pt x="5284" y="1"/>
                    </a:cubicBezTo>
                    <a:close/>
                    <a:moveTo>
                      <a:pt x="5292" y="1"/>
                    </a:moveTo>
                    <a:lnTo>
                      <a:pt x="5292" y="1"/>
                    </a:lnTo>
                    <a:cubicBezTo>
                      <a:pt x="5294" y="1"/>
                      <a:pt x="5294" y="2"/>
                      <a:pt x="5294" y="3"/>
                    </a:cubicBezTo>
                    <a:cubicBezTo>
                      <a:pt x="5294" y="5"/>
                      <a:pt x="5294" y="5"/>
                      <a:pt x="5292" y="5"/>
                    </a:cubicBezTo>
                    <a:lnTo>
                      <a:pt x="5292" y="5"/>
                    </a:lnTo>
                    <a:cubicBezTo>
                      <a:pt x="5291" y="5"/>
                      <a:pt x="5290" y="5"/>
                      <a:pt x="5290" y="3"/>
                    </a:cubicBezTo>
                    <a:cubicBezTo>
                      <a:pt x="5290" y="2"/>
                      <a:pt x="5291" y="1"/>
                      <a:pt x="5292" y="1"/>
                    </a:cubicBezTo>
                    <a:close/>
                    <a:moveTo>
                      <a:pt x="5300" y="1"/>
                    </a:moveTo>
                    <a:lnTo>
                      <a:pt x="5300" y="1"/>
                    </a:lnTo>
                    <a:cubicBezTo>
                      <a:pt x="5302" y="1"/>
                      <a:pt x="5302" y="2"/>
                      <a:pt x="5302" y="3"/>
                    </a:cubicBezTo>
                    <a:cubicBezTo>
                      <a:pt x="5302" y="5"/>
                      <a:pt x="5302" y="5"/>
                      <a:pt x="5300" y="5"/>
                    </a:cubicBezTo>
                    <a:lnTo>
                      <a:pt x="5300" y="5"/>
                    </a:lnTo>
                    <a:cubicBezTo>
                      <a:pt x="5299" y="5"/>
                      <a:pt x="5298" y="5"/>
                      <a:pt x="5298" y="3"/>
                    </a:cubicBezTo>
                    <a:cubicBezTo>
                      <a:pt x="5298" y="2"/>
                      <a:pt x="5299" y="1"/>
                      <a:pt x="5300" y="1"/>
                    </a:cubicBezTo>
                    <a:close/>
                    <a:moveTo>
                      <a:pt x="5308" y="1"/>
                    </a:moveTo>
                    <a:lnTo>
                      <a:pt x="5308" y="1"/>
                    </a:lnTo>
                    <a:cubicBezTo>
                      <a:pt x="5310" y="1"/>
                      <a:pt x="5310" y="2"/>
                      <a:pt x="5310" y="3"/>
                    </a:cubicBezTo>
                    <a:cubicBezTo>
                      <a:pt x="5310" y="5"/>
                      <a:pt x="5310" y="5"/>
                      <a:pt x="5308" y="5"/>
                    </a:cubicBezTo>
                    <a:lnTo>
                      <a:pt x="5308" y="5"/>
                    </a:lnTo>
                    <a:cubicBezTo>
                      <a:pt x="5307" y="5"/>
                      <a:pt x="5306" y="5"/>
                      <a:pt x="5306" y="3"/>
                    </a:cubicBezTo>
                    <a:cubicBezTo>
                      <a:pt x="5306" y="2"/>
                      <a:pt x="5307" y="1"/>
                      <a:pt x="5308" y="1"/>
                    </a:cubicBezTo>
                    <a:close/>
                    <a:moveTo>
                      <a:pt x="5316" y="1"/>
                    </a:moveTo>
                    <a:lnTo>
                      <a:pt x="5316" y="1"/>
                    </a:lnTo>
                    <a:cubicBezTo>
                      <a:pt x="5318" y="1"/>
                      <a:pt x="5318" y="2"/>
                      <a:pt x="5318" y="3"/>
                    </a:cubicBezTo>
                    <a:cubicBezTo>
                      <a:pt x="5318" y="5"/>
                      <a:pt x="5318" y="5"/>
                      <a:pt x="5316" y="5"/>
                    </a:cubicBezTo>
                    <a:lnTo>
                      <a:pt x="5316" y="5"/>
                    </a:lnTo>
                    <a:cubicBezTo>
                      <a:pt x="5315" y="5"/>
                      <a:pt x="5314" y="5"/>
                      <a:pt x="5314" y="3"/>
                    </a:cubicBezTo>
                    <a:cubicBezTo>
                      <a:pt x="5314" y="2"/>
                      <a:pt x="5315" y="1"/>
                      <a:pt x="5316" y="1"/>
                    </a:cubicBezTo>
                    <a:close/>
                    <a:moveTo>
                      <a:pt x="5324" y="1"/>
                    </a:moveTo>
                    <a:lnTo>
                      <a:pt x="5324" y="1"/>
                    </a:lnTo>
                    <a:cubicBezTo>
                      <a:pt x="5326" y="1"/>
                      <a:pt x="5326" y="2"/>
                      <a:pt x="5326" y="3"/>
                    </a:cubicBezTo>
                    <a:cubicBezTo>
                      <a:pt x="5326" y="5"/>
                      <a:pt x="5326" y="5"/>
                      <a:pt x="5324" y="5"/>
                    </a:cubicBezTo>
                    <a:lnTo>
                      <a:pt x="5324" y="5"/>
                    </a:lnTo>
                    <a:cubicBezTo>
                      <a:pt x="5323" y="5"/>
                      <a:pt x="5322" y="5"/>
                      <a:pt x="5322" y="3"/>
                    </a:cubicBezTo>
                    <a:cubicBezTo>
                      <a:pt x="5322" y="2"/>
                      <a:pt x="5323" y="1"/>
                      <a:pt x="5324" y="1"/>
                    </a:cubicBezTo>
                    <a:close/>
                    <a:moveTo>
                      <a:pt x="5332" y="1"/>
                    </a:moveTo>
                    <a:lnTo>
                      <a:pt x="5332" y="1"/>
                    </a:lnTo>
                    <a:cubicBezTo>
                      <a:pt x="5334" y="1"/>
                      <a:pt x="5334" y="2"/>
                      <a:pt x="5334" y="3"/>
                    </a:cubicBezTo>
                    <a:cubicBezTo>
                      <a:pt x="5334" y="5"/>
                      <a:pt x="5334" y="5"/>
                      <a:pt x="5332" y="5"/>
                    </a:cubicBezTo>
                    <a:lnTo>
                      <a:pt x="5332" y="5"/>
                    </a:lnTo>
                    <a:cubicBezTo>
                      <a:pt x="5331" y="5"/>
                      <a:pt x="5330" y="5"/>
                      <a:pt x="5330" y="3"/>
                    </a:cubicBezTo>
                    <a:cubicBezTo>
                      <a:pt x="5330" y="2"/>
                      <a:pt x="5331" y="1"/>
                      <a:pt x="5332" y="1"/>
                    </a:cubicBezTo>
                    <a:close/>
                    <a:moveTo>
                      <a:pt x="5340" y="1"/>
                    </a:moveTo>
                    <a:lnTo>
                      <a:pt x="5340" y="1"/>
                    </a:lnTo>
                    <a:cubicBezTo>
                      <a:pt x="5342" y="1"/>
                      <a:pt x="5342" y="2"/>
                      <a:pt x="5342" y="3"/>
                    </a:cubicBezTo>
                    <a:cubicBezTo>
                      <a:pt x="5342" y="5"/>
                      <a:pt x="5342" y="5"/>
                      <a:pt x="5340" y="5"/>
                    </a:cubicBezTo>
                    <a:lnTo>
                      <a:pt x="5340" y="5"/>
                    </a:lnTo>
                    <a:cubicBezTo>
                      <a:pt x="5339" y="5"/>
                      <a:pt x="5338" y="5"/>
                      <a:pt x="5338" y="3"/>
                    </a:cubicBezTo>
                    <a:cubicBezTo>
                      <a:pt x="5338" y="2"/>
                      <a:pt x="5339" y="1"/>
                      <a:pt x="5340" y="1"/>
                    </a:cubicBezTo>
                    <a:close/>
                    <a:moveTo>
                      <a:pt x="5348" y="1"/>
                    </a:moveTo>
                    <a:lnTo>
                      <a:pt x="5348" y="1"/>
                    </a:lnTo>
                    <a:cubicBezTo>
                      <a:pt x="5350" y="1"/>
                      <a:pt x="5350" y="2"/>
                      <a:pt x="5350" y="3"/>
                    </a:cubicBezTo>
                    <a:cubicBezTo>
                      <a:pt x="5350" y="5"/>
                      <a:pt x="5350" y="5"/>
                      <a:pt x="5348" y="5"/>
                    </a:cubicBezTo>
                    <a:lnTo>
                      <a:pt x="5348" y="5"/>
                    </a:lnTo>
                    <a:cubicBezTo>
                      <a:pt x="5347" y="5"/>
                      <a:pt x="5346" y="5"/>
                      <a:pt x="5346" y="3"/>
                    </a:cubicBezTo>
                    <a:cubicBezTo>
                      <a:pt x="5346" y="2"/>
                      <a:pt x="5347" y="1"/>
                      <a:pt x="5348" y="1"/>
                    </a:cubicBezTo>
                    <a:close/>
                    <a:moveTo>
                      <a:pt x="5356" y="1"/>
                    </a:moveTo>
                    <a:lnTo>
                      <a:pt x="5356" y="1"/>
                    </a:lnTo>
                    <a:cubicBezTo>
                      <a:pt x="5358" y="1"/>
                      <a:pt x="5358" y="2"/>
                      <a:pt x="5358" y="3"/>
                    </a:cubicBezTo>
                    <a:cubicBezTo>
                      <a:pt x="5358" y="5"/>
                      <a:pt x="5358" y="5"/>
                      <a:pt x="5356" y="5"/>
                    </a:cubicBezTo>
                    <a:lnTo>
                      <a:pt x="5356" y="5"/>
                    </a:lnTo>
                    <a:cubicBezTo>
                      <a:pt x="5355" y="5"/>
                      <a:pt x="5354" y="5"/>
                      <a:pt x="5354" y="3"/>
                    </a:cubicBezTo>
                    <a:cubicBezTo>
                      <a:pt x="5354" y="2"/>
                      <a:pt x="5355" y="1"/>
                      <a:pt x="5356" y="1"/>
                    </a:cubicBezTo>
                    <a:close/>
                    <a:moveTo>
                      <a:pt x="5364" y="1"/>
                    </a:moveTo>
                    <a:lnTo>
                      <a:pt x="5364" y="1"/>
                    </a:lnTo>
                    <a:cubicBezTo>
                      <a:pt x="5366" y="1"/>
                      <a:pt x="5366" y="2"/>
                      <a:pt x="5366" y="3"/>
                    </a:cubicBezTo>
                    <a:cubicBezTo>
                      <a:pt x="5366" y="5"/>
                      <a:pt x="5366" y="5"/>
                      <a:pt x="5364" y="5"/>
                    </a:cubicBezTo>
                    <a:lnTo>
                      <a:pt x="5364" y="5"/>
                    </a:lnTo>
                    <a:cubicBezTo>
                      <a:pt x="5363" y="5"/>
                      <a:pt x="5362" y="5"/>
                      <a:pt x="5362" y="3"/>
                    </a:cubicBezTo>
                    <a:cubicBezTo>
                      <a:pt x="5362" y="2"/>
                      <a:pt x="5363" y="1"/>
                      <a:pt x="5364" y="1"/>
                    </a:cubicBezTo>
                    <a:close/>
                    <a:moveTo>
                      <a:pt x="5372" y="1"/>
                    </a:moveTo>
                    <a:lnTo>
                      <a:pt x="5372" y="1"/>
                    </a:lnTo>
                    <a:cubicBezTo>
                      <a:pt x="5374" y="1"/>
                      <a:pt x="5374" y="2"/>
                      <a:pt x="5374" y="3"/>
                    </a:cubicBezTo>
                    <a:cubicBezTo>
                      <a:pt x="5374" y="5"/>
                      <a:pt x="5374" y="5"/>
                      <a:pt x="5372" y="5"/>
                    </a:cubicBezTo>
                    <a:lnTo>
                      <a:pt x="5372" y="5"/>
                    </a:lnTo>
                    <a:cubicBezTo>
                      <a:pt x="5371" y="5"/>
                      <a:pt x="5370" y="5"/>
                      <a:pt x="5370" y="3"/>
                    </a:cubicBezTo>
                    <a:cubicBezTo>
                      <a:pt x="5370" y="2"/>
                      <a:pt x="5371" y="1"/>
                      <a:pt x="5372" y="1"/>
                    </a:cubicBezTo>
                    <a:close/>
                    <a:moveTo>
                      <a:pt x="5380" y="1"/>
                    </a:moveTo>
                    <a:lnTo>
                      <a:pt x="5380" y="1"/>
                    </a:lnTo>
                    <a:cubicBezTo>
                      <a:pt x="5382" y="1"/>
                      <a:pt x="5382" y="2"/>
                      <a:pt x="5382" y="3"/>
                    </a:cubicBezTo>
                    <a:cubicBezTo>
                      <a:pt x="5382" y="5"/>
                      <a:pt x="5382" y="5"/>
                      <a:pt x="5380" y="5"/>
                    </a:cubicBezTo>
                    <a:lnTo>
                      <a:pt x="5380" y="5"/>
                    </a:lnTo>
                    <a:cubicBezTo>
                      <a:pt x="5379" y="5"/>
                      <a:pt x="5378" y="5"/>
                      <a:pt x="5378" y="3"/>
                    </a:cubicBezTo>
                    <a:cubicBezTo>
                      <a:pt x="5378" y="2"/>
                      <a:pt x="5379" y="1"/>
                      <a:pt x="5380" y="1"/>
                    </a:cubicBezTo>
                    <a:close/>
                    <a:moveTo>
                      <a:pt x="5388" y="1"/>
                    </a:moveTo>
                    <a:lnTo>
                      <a:pt x="5388" y="1"/>
                    </a:lnTo>
                    <a:cubicBezTo>
                      <a:pt x="5390" y="1"/>
                      <a:pt x="5390" y="2"/>
                      <a:pt x="5390" y="3"/>
                    </a:cubicBezTo>
                    <a:cubicBezTo>
                      <a:pt x="5390" y="5"/>
                      <a:pt x="5390" y="5"/>
                      <a:pt x="5388" y="5"/>
                    </a:cubicBezTo>
                    <a:lnTo>
                      <a:pt x="5388" y="5"/>
                    </a:lnTo>
                    <a:cubicBezTo>
                      <a:pt x="5387" y="5"/>
                      <a:pt x="5386" y="5"/>
                      <a:pt x="5386" y="3"/>
                    </a:cubicBezTo>
                    <a:cubicBezTo>
                      <a:pt x="5386" y="2"/>
                      <a:pt x="5387" y="1"/>
                      <a:pt x="5388" y="1"/>
                    </a:cubicBezTo>
                    <a:close/>
                    <a:moveTo>
                      <a:pt x="5396" y="1"/>
                    </a:moveTo>
                    <a:lnTo>
                      <a:pt x="5396" y="1"/>
                    </a:lnTo>
                    <a:cubicBezTo>
                      <a:pt x="5398" y="1"/>
                      <a:pt x="5398" y="2"/>
                      <a:pt x="5398" y="3"/>
                    </a:cubicBezTo>
                    <a:cubicBezTo>
                      <a:pt x="5398" y="5"/>
                      <a:pt x="5398" y="5"/>
                      <a:pt x="5396" y="5"/>
                    </a:cubicBezTo>
                    <a:lnTo>
                      <a:pt x="5396" y="5"/>
                    </a:lnTo>
                    <a:cubicBezTo>
                      <a:pt x="5395" y="5"/>
                      <a:pt x="5394" y="5"/>
                      <a:pt x="5394" y="3"/>
                    </a:cubicBezTo>
                    <a:cubicBezTo>
                      <a:pt x="5394" y="2"/>
                      <a:pt x="5395" y="1"/>
                      <a:pt x="5396" y="1"/>
                    </a:cubicBezTo>
                    <a:close/>
                    <a:moveTo>
                      <a:pt x="5404" y="1"/>
                    </a:moveTo>
                    <a:lnTo>
                      <a:pt x="5404" y="1"/>
                    </a:lnTo>
                    <a:cubicBezTo>
                      <a:pt x="5406" y="1"/>
                      <a:pt x="5406" y="2"/>
                      <a:pt x="5406" y="3"/>
                    </a:cubicBezTo>
                    <a:cubicBezTo>
                      <a:pt x="5406" y="5"/>
                      <a:pt x="5406" y="5"/>
                      <a:pt x="5404" y="5"/>
                    </a:cubicBezTo>
                    <a:lnTo>
                      <a:pt x="5404" y="5"/>
                    </a:lnTo>
                    <a:cubicBezTo>
                      <a:pt x="5403" y="5"/>
                      <a:pt x="5402" y="5"/>
                      <a:pt x="5402" y="3"/>
                    </a:cubicBezTo>
                    <a:cubicBezTo>
                      <a:pt x="5402" y="2"/>
                      <a:pt x="5403" y="1"/>
                      <a:pt x="5404" y="1"/>
                    </a:cubicBezTo>
                    <a:close/>
                    <a:moveTo>
                      <a:pt x="5412" y="1"/>
                    </a:moveTo>
                    <a:lnTo>
                      <a:pt x="5412" y="1"/>
                    </a:lnTo>
                    <a:cubicBezTo>
                      <a:pt x="5414" y="1"/>
                      <a:pt x="5414" y="2"/>
                      <a:pt x="5414" y="3"/>
                    </a:cubicBezTo>
                    <a:cubicBezTo>
                      <a:pt x="5414" y="5"/>
                      <a:pt x="5414" y="5"/>
                      <a:pt x="5412" y="5"/>
                    </a:cubicBezTo>
                    <a:lnTo>
                      <a:pt x="5412" y="5"/>
                    </a:lnTo>
                    <a:cubicBezTo>
                      <a:pt x="5411" y="5"/>
                      <a:pt x="5410" y="5"/>
                      <a:pt x="5410" y="3"/>
                    </a:cubicBezTo>
                    <a:cubicBezTo>
                      <a:pt x="5410" y="2"/>
                      <a:pt x="5411" y="1"/>
                      <a:pt x="5412" y="1"/>
                    </a:cubicBezTo>
                    <a:close/>
                    <a:moveTo>
                      <a:pt x="5420" y="1"/>
                    </a:moveTo>
                    <a:lnTo>
                      <a:pt x="5420" y="1"/>
                    </a:lnTo>
                    <a:cubicBezTo>
                      <a:pt x="5422" y="1"/>
                      <a:pt x="5422" y="2"/>
                      <a:pt x="5422" y="3"/>
                    </a:cubicBezTo>
                    <a:cubicBezTo>
                      <a:pt x="5422" y="5"/>
                      <a:pt x="5422" y="5"/>
                      <a:pt x="5420" y="5"/>
                    </a:cubicBezTo>
                    <a:lnTo>
                      <a:pt x="5420" y="5"/>
                    </a:lnTo>
                    <a:cubicBezTo>
                      <a:pt x="5419" y="5"/>
                      <a:pt x="5418" y="5"/>
                      <a:pt x="5418" y="3"/>
                    </a:cubicBezTo>
                    <a:cubicBezTo>
                      <a:pt x="5418" y="2"/>
                      <a:pt x="5419" y="1"/>
                      <a:pt x="5420" y="1"/>
                    </a:cubicBezTo>
                    <a:close/>
                    <a:moveTo>
                      <a:pt x="5428" y="1"/>
                    </a:moveTo>
                    <a:lnTo>
                      <a:pt x="5428" y="1"/>
                    </a:lnTo>
                    <a:cubicBezTo>
                      <a:pt x="5430" y="1"/>
                      <a:pt x="5430" y="2"/>
                      <a:pt x="5430" y="3"/>
                    </a:cubicBezTo>
                    <a:cubicBezTo>
                      <a:pt x="5430" y="5"/>
                      <a:pt x="5430" y="5"/>
                      <a:pt x="5428" y="5"/>
                    </a:cubicBezTo>
                    <a:lnTo>
                      <a:pt x="5428" y="5"/>
                    </a:lnTo>
                    <a:cubicBezTo>
                      <a:pt x="5427" y="5"/>
                      <a:pt x="5426" y="5"/>
                      <a:pt x="5426" y="3"/>
                    </a:cubicBezTo>
                    <a:cubicBezTo>
                      <a:pt x="5426" y="2"/>
                      <a:pt x="5427" y="1"/>
                      <a:pt x="5428" y="1"/>
                    </a:cubicBezTo>
                    <a:close/>
                    <a:moveTo>
                      <a:pt x="5436" y="1"/>
                    </a:moveTo>
                    <a:lnTo>
                      <a:pt x="5436" y="1"/>
                    </a:lnTo>
                    <a:cubicBezTo>
                      <a:pt x="5438" y="1"/>
                      <a:pt x="5438" y="2"/>
                      <a:pt x="5438" y="3"/>
                    </a:cubicBezTo>
                    <a:cubicBezTo>
                      <a:pt x="5438" y="5"/>
                      <a:pt x="5438" y="5"/>
                      <a:pt x="5436" y="5"/>
                    </a:cubicBezTo>
                    <a:lnTo>
                      <a:pt x="5436" y="5"/>
                    </a:lnTo>
                    <a:cubicBezTo>
                      <a:pt x="5435" y="5"/>
                      <a:pt x="5434" y="5"/>
                      <a:pt x="5434" y="3"/>
                    </a:cubicBezTo>
                    <a:cubicBezTo>
                      <a:pt x="5434" y="2"/>
                      <a:pt x="5435" y="1"/>
                      <a:pt x="5436" y="1"/>
                    </a:cubicBezTo>
                    <a:close/>
                    <a:moveTo>
                      <a:pt x="5444" y="1"/>
                    </a:moveTo>
                    <a:lnTo>
                      <a:pt x="5444" y="1"/>
                    </a:lnTo>
                    <a:cubicBezTo>
                      <a:pt x="5446" y="1"/>
                      <a:pt x="5446" y="2"/>
                      <a:pt x="5446" y="3"/>
                    </a:cubicBezTo>
                    <a:cubicBezTo>
                      <a:pt x="5446" y="5"/>
                      <a:pt x="5446" y="5"/>
                      <a:pt x="5444" y="5"/>
                    </a:cubicBezTo>
                    <a:lnTo>
                      <a:pt x="5444" y="5"/>
                    </a:lnTo>
                    <a:cubicBezTo>
                      <a:pt x="5443" y="5"/>
                      <a:pt x="5442" y="5"/>
                      <a:pt x="5442" y="3"/>
                    </a:cubicBezTo>
                    <a:cubicBezTo>
                      <a:pt x="5442" y="2"/>
                      <a:pt x="5443" y="1"/>
                      <a:pt x="5444" y="1"/>
                    </a:cubicBezTo>
                    <a:close/>
                    <a:moveTo>
                      <a:pt x="5452" y="1"/>
                    </a:moveTo>
                    <a:lnTo>
                      <a:pt x="5452" y="1"/>
                    </a:lnTo>
                    <a:cubicBezTo>
                      <a:pt x="5454" y="1"/>
                      <a:pt x="5454" y="2"/>
                      <a:pt x="5454" y="3"/>
                    </a:cubicBezTo>
                    <a:cubicBezTo>
                      <a:pt x="5454" y="5"/>
                      <a:pt x="5454" y="5"/>
                      <a:pt x="5452" y="5"/>
                    </a:cubicBezTo>
                    <a:lnTo>
                      <a:pt x="5452" y="5"/>
                    </a:lnTo>
                    <a:cubicBezTo>
                      <a:pt x="5451" y="5"/>
                      <a:pt x="5450" y="5"/>
                      <a:pt x="5450" y="3"/>
                    </a:cubicBezTo>
                    <a:cubicBezTo>
                      <a:pt x="5450" y="2"/>
                      <a:pt x="5451" y="1"/>
                      <a:pt x="5452" y="1"/>
                    </a:cubicBezTo>
                    <a:close/>
                    <a:moveTo>
                      <a:pt x="5460" y="1"/>
                    </a:moveTo>
                    <a:lnTo>
                      <a:pt x="5460" y="1"/>
                    </a:lnTo>
                    <a:cubicBezTo>
                      <a:pt x="5462" y="1"/>
                      <a:pt x="5462" y="2"/>
                      <a:pt x="5462" y="3"/>
                    </a:cubicBezTo>
                    <a:cubicBezTo>
                      <a:pt x="5462" y="5"/>
                      <a:pt x="5462" y="5"/>
                      <a:pt x="5460" y="5"/>
                    </a:cubicBezTo>
                    <a:lnTo>
                      <a:pt x="5460" y="5"/>
                    </a:lnTo>
                    <a:cubicBezTo>
                      <a:pt x="5459" y="5"/>
                      <a:pt x="5458" y="5"/>
                      <a:pt x="5458" y="3"/>
                    </a:cubicBezTo>
                    <a:cubicBezTo>
                      <a:pt x="5458" y="2"/>
                      <a:pt x="5459" y="1"/>
                      <a:pt x="5460" y="1"/>
                    </a:cubicBezTo>
                    <a:close/>
                    <a:moveTo>
                      <a:pt x="5468" y="1"/>
                    </a:moveTo>
                    <a:lnTo>
                      <a:pt x="5468" y="1"/>
                    </a:lnTo>
                    <a:cubicBezTo>
                      <a:pt x="5470" y="1"/>
                      <a:pt x="5470" y="2"/>
                      <a:pt x="5470" y="3"/>
                    </a:cubicBezTo>
                    <a:cubicBezTo>
                      <a:pt x="5470" y="5"/>
                      <a:pt x="5470" y="5"/>
                      <a:pt x="5468" y="5"/>
                    </a:cubicBezTo>
                    <a:lnTo>
                      <a:pt x="5468" y="5"/>
                    </a:lnTo>
                    <a:cubicBezTo>
                      <a:pt x="5467" y="5"/>
                      <a:pt x="5466" y="5"/>
                      <a:pt x="5466" y="3"/>
                    </a:cubicBezTo>
                    <a:cubicBezTo>
                      <a:pt x="5466" y="2"/>
                      <a:pt x="5467" y="1"/>
                      <a:pt x="5468" y="1"/>
                    </a:cubicBezTo>
                    <a:close/>
                    <a:moveTo>
                      <a:pt x="5476" y="1"/>
                    </a:moveTo>
                    <a:lnTo>
                      <a:pt x="5476" y="1"/>
                    </a:lnTo>
                    <a:cubicBezTo>
                      <a:pt x="5478" y="1"/>
                      <a:pt x="5478" y="2"/>
                      <a:pt x="5478" y="3"/>
                    </a:cubicBezTo>
                    <a:cubicBezTo>
                      <a:pt x="5478" y="5"/>
                      <a:pt x="5478" y="5"/>
                      <a:pt x="5476" y="5"/>
                    </a:cubicBezTo>
                    <a:lnTo>
                      <a:pt x="5476" y="5"/>
                    </a:lnTo>
                    <a:cubicBezTo>
                      <a:pt x="5475" y="5"/>
                      <a:pt x="5474" y="5"/>
                      <a:pt x="5474" y="3"/>
                    </a:cubicBezTo>
                    <a:cubicBezTo>
                      <a:pt x="5474" y="2"/>
                      <a:pt x="5475" y="1"/>
                      <a:pt x="5476" y="1"/>
                    </a:cubicBezTo>
                    <a:close/>
                    <a:moveTo>
                      <a:pt x="5484" y="1"/>
                    </a:moveTo>
                    <a:lnTo>
                      <a:pt x="5485" y="1"/>
                    </a:lnTo>
                    <a:cubicBezTo>
                      <a:pt x="5486" y="1"/>
                      <a:pt x="5487" y="2"/>
                      <a:pt x="5487" y="3"/>
                    </a:cubicBezTo>
                    <a:cubicBezTo>
                      <a:pt x="5487" y="5"/>
                      <a:pt x="5486" y="5"/>
                      <a:pt x="5485" y="5"/>
                    </a:cubicBezTo>
                    <a:lnTo>
                      <a:pt x="5484" y="5"/>
                    </a:lnTo>
                    <a:cubicBezTo>
                      <a:pt x="5483" y="5"/>
                      <a:pt x="5482" y="5"/>
                      <a:pt x="5482" y="3"/>
                    </a:cubicBezTo>
                    <a:cubicBezTo>
                      <a:pt x="5482" y="2"/>
                      <a:pt x="5483" y="1"/>
                      <a:pt x="5484" y="1"/>
                    </a:cubicBezTo>
                    <a:close/>
                    <a:moveTo>
                      <a:pt x="5493" y="1"/>
                    </a:moveTo>
                    <a:lnTo>
                      <a:pt x="5493" y="1"/>
                    </a:lnTo>
                    <a:cubicBezTo>
                      <a:pt x="5494" y="1"/>
                      <a:pt x="5495" y="2"/>
                      <a:pt x="5495" y="3"/>
                    </a:cubicBezTo>
                    <a:cubicBezTo>
                      <a:pt x="5495" y="5"/>
                      <a:pt x="5494" y="5"/>
                      <a:pt x="5493" y="5"/>
                    </a:cubicBezTo>
                    <a:lnTo>
                      <a:pt x="5493" y="5"/>
                    </a:lnTo>
                    <a:cubicBezTo>
                      <a:pt x="5491" y="5"/>
                      <a:pt x="5491" y="5"/>
                      <a:pt x="5491" y="3"/>
                    </a:cubicBezTo>
                    <a:cubicBezTo>
                      <a:pt x="5491" y="2"/>
                      <a:pt x="5491" y="1"/>
                      <a:pt x="5493" y="1"/>
                    </a:cubicBezTo>
                    <a:close/>
                    <a:moveTo>
                      <a:pt x="5501" y="1"/>
                    </a:moveTo>
                    <a:lnTo>
                      <a:pt x="5501" y="1"/>
                    </a:lnTo>
                    <a:cubicBezTo>
                      <a:pt x="5502" y="1"/>
                      <a:pt x="5503" y="2"/>
                      <a:pt x="5503" y="3"/>
                    </a:cubicBezTo>
                    <a:cubicBezTo>
                      <a:pt x="5503" y="5"/>
                      <a:pt x="5502" y="5"/>
                      <a:pt x="5501" y="5"/>
                    </a:cubicBezTo>
                    <a:lnTo>
                      <a:pt x="5501" y="5"/>
                    </a:lnTo>
                    <a:cubicBezTo>
                      <a:pt x="5499" y="5"/>
                      <a:pt x="5499" y="5"/>
                      <a:pt x="5499" y="3"/>
                    </a:cubicBezTo>
                    <a:cubicBezTo>
                      <a:pt x="5499" y="2"/>
                      <a:pt x="5499" y="1"/>
                      <a:pt x="5501" y="1"/>
                    </a:cubicBezTo>
                    <a:close/>
                    <a:moveTo>
                      <a:pt x="5509" y="1"/>
                    </a:moveTo>
                    <a:lnTo>
                      <a:pt x="5509" y="1"/>
                    </a:lnTo>
                    <a:cubicBezTo>
                      <a:pt x="5510" y="1"/>
                      <a:pt x="5511" y="2"/>
                      <a:pt x="5511" y="3"/>
                    </a:cubicBezTo>
                    <a:cubicBezTo>
                      <a:pt x="5511" y="5"/>
                      <a:pt x="5510" y="5"/>
                      <a:pt x="5509" y="5"/>
                    </a:cubicBezTo>
                    <a:lnTo>
                      <a:pt x="5509" y="5"/>
                    </a:lnTo>
                    <a:cubicBezTo>
                      <a:pt x="5507" y="5"/>
                      <a:pt x="5507" y="5"/>
                      <a:pt x="5507" y="3"/>
                    </a:cubicBezTo>
                    <a:cubicBezTo>
                      <a:pt x="5507" y="2"/>
                      <a:pt x="5507" y="1"/>
                      <a:pt x="5509" y="1"/>
                    </a:cubicBezTo>
                    <a:close/>
                    <a:moveTo>
                      <a:pt x="5517" y="1"/>
                    </a:moveTo>
                    <a:lnTo>
                      <a:pt x="5517" y="1"/>
                    </a:lnTo>
                    <a:cubicBezTo>
                      <a:pt x="5518" y="1"/>
                      <a:pt x="5519" y="2"/>
                      <a:pt x="5519" y="3"/>
                    </a:cubicBezTo>
                    <a:cubicBezTo>
                      <a:pt x="5519" y="5"/>
                      <a:pt x="5518" y="5"/>
                      <a:pt x="5517" y="5"/>
                    </a:cubicBezTo>
                    <a:lnTo>
                      <a:pt x="5517" y="5"/>
                    </a:lnTo>
                    <a:cubicBezTo>
                      <a:pt x="5515" y="5"/>
                      <a:pt x="5515" y="5"/>
                      <a:pt x="5515" y="3"/>
                    </a:cubicBezTo>
                    <a:cubicBezTo>
                      <a:pt x="5515" y="2"/>
                      <a:pt x="5515" y="1"/>
                      <a:pt x="5517" y="1"/>
                    </a:cubicBezTo>
                    <a:close/>
                    <a:moveTo>
                      <a:pt x="5525" y="1"/>
                    </a:moveTo>
                    <a:lnTo>
                      <a:pt x="5525" y="1"/>
                    </a:lnTo>
                    <a:cubicBezTo>
                      <a:pt x="5526" y="1"/>
                      <a:pt x="5527" y="2"/>
                      <a:pt x="5527" y="3"/>
                    </a:cubicBezTo>
                    <a:cubicBezTo>
                      <a:pt x="5527" y="5"/>
                      <a:pt x="5526" y="5"/>
                      <a:pt x="5525" y="5"/>
                    </a:cubicBezTo>
                    <a:lnTo>
                      <a:pt x="5525" y="5"/>
                    </a:lnTo>
                    <a:cubicBezTo>
                      <a:pt x="5523" y="5"/>
                      <a:pt x="5523" y="5"/>
                      <a:pt x="5523" y="3"/>
                    </a:cubicBezTo>
                    <a:cubicBezTo>
                      <a:pt x="5523" y="2"/>
                      <a:pt x="5523" y="1"/>
                      <a:pt x="5525" y="1"/>
                    </a:cubicBezTo>
                    <a:close/>
                    <a:moveTo>
                      <a:pt x="5533" y="1"/>
                    </a:moveTo>
                    <a:lnTo>
                      <a:pt x="5533" y="1"/>
                    </a:lnTo>
                    <a:cubicBezTo>
                      <a:pt x="5534" y="1"/>
                      <a:pt x="5535" y="2"/>
                      <a:pt x="5535" y="3"/>
                    </a:cubicBezTo>
                    <a:cubicBezTo>
                      <a:pt x="5535" y="5"/>
                      <a:pt x="5534" y="5"/>
                      <a:pt x="5533" y="5"/>
                    </a:cubicBezTo>
                    <a:lnTo>
                      <a:pt x="5533" y="5"/>
                    </a:lnTo>
                    <a:cubicBezTo>
                      <a:pt x="5531" y="5"/>
                      <a:pt x="5531" y="5"/>
                      <a:pt x="5531" y="3"/>
                    </a:cubicBezTo>
                    <a:cubicBezTo>
                      <a:pt x="5531" y="2"/>
                      <a:pt x="5531" y="1"/>
                      <a:pt x="5533" y="1"/>
                    </a:cubicBezTo>
                    <a:close/>
                    <a:moveTo>
                      <a:pt x="5541" y="1"/>
                    </a:moveTo>
                    <a:lnTo>
                      <a:pt x="5541" y="1"/>
                    </a:lnTo>
                    <a:cubicBezTo>
                      <a:pt x="5542" y="1"/>
                      <a:pt x="5543" y="2"/>
                      <a:pt x="5543" y="3"/>
                    </a:cubicBezTo>
                    <a:cubicBezTo>
                      <a:pt x="5543" y="5"/>
                      <a:pt x="5542" y="5"/>
                      <a:pt x="5541" y="5"/>
                    </a:cubicBezTo>
                    <a:lnTo>
                      <a:pt x="5541" y="5"/>
                    </a:lnTo>
                    <a:cubicBezTo>
                      <a:pt x="5539" y="5"/>
                      <a:pt x="5539" y="5"/>
                      <a:pt x="5539" y="3"/>
                    </a:cubicBezTo>
                    <a:cubicBezTo>
                      <a:pt x="5539" y="2"/>
                      <a:pt x="5539" y="1"/>
                      <a:pt x="5541" y="1"/>
                    </a:cubicBezTo>
                    <a:close/>
                    <a:moveTo>
                      <a:pt x="5549" y="1"/>
                    </a:moveTo>
                    <a:lnTo>
                      <a:pt x="5549" y="1"/>
                    </a:lnTo>
                    <a:cubicBezTo>
                      <a:pt x="5550" y="1"/>
                      <a:pt x="5551" y="2"/>
                      <a:pt x="5551" y="3"/>
                    </a:cubicBezTo>
                    <a:cubicBezTo>
                      <a:pt x="5551" y="5"/>
                      <a:pt x="5550" y="5"/>
                      <a:pt x="5549" y="5"/>
                    </a:cubicBezTo>
                    <a:lnTo>
                      <a:pt x="5549" y="5"/>
                    </a:lnTo>
                    <a:cubicBezTo>
                      <a:pt x="5547" y="5"/>
                      <a:pt x="5547" y="5"/>
                      <a:pt x="5547" y="3"/>
                    </a:cubicBezTo>
                    <a:cubicBezTo>
                      <a:pt x="5547" y="2"/>
                      <a:pt x="5547" y="1"/>
                      <a:pt x="5549" y="1"/>
                    </a:cubicBezTo>
                    <a:close/>
                    <a:moveTo>
                      <a:pt x="5557" y="1"/>
                    </a:moveTo>
                    <a:lnTo>
                      <a:pt x="5557" y="1"/>
                    </a:lnTo>
                    <a:cubicBezTo>
                      <a:pt x="5558" y="1"/>
                      <a:pt x="5559" y="2"/>
                      <a:pt x="5559" y="3"/>
                    </a:cubicBezTo>
                    <a:cubicBezTo>
                      <a:pt x="5559" y="5"/>
                      <a:pt x="5558" y="5"/>
                      <a:pt x="5557" y="5"/>
                    </a:cubicBezTo>
                    <a:lnTo>
                      <a:pt x="5557" y="5"/>
                    </a:lnTo>
                    <a:cubicBezTo>
                      <a:pt x="5555" y="5"/>
                      <a:pt x="5555" y="5"/>
                      <a:pt x="5555" y="3"/>
                    </a:cubicBezTo>
                    <a:cubicBezTo>
                      <a:pt x="5555" y="2"/>
                      <a:pt x="5555" y="1"/>
                      <a:pt x="5557" y="1"/>
                    </a:cubicBezTo>
                    <a:close/>
                    <a:moveTo>
                      <a:pt x="5565" y="1"/>
                    </a:moveTo>
                    <a:lnTo>
                      <a:pt x="5565" y="1"/>
                    </a:lnTo>
                    <a:cubicBezTo>
                      <a:pt x="5566" y="1"/>
                      <a:pt x="5567" y="2"/>
                      <a:pt x="5567" y="3"/>
                    </a:cubicBezTo>
                    <a:cubicBezTo>
                      <a:pt x="5567" y="5"/>
                      <a:pt x="5566" y="5"/>
                      <a:pt x="5565" y="5"/>
                    </a:cubicBezTo>
                    <a:lnTo>
                      <a:pt x="5565" y="5"/>
                    </a:lnTo>
                    <a:cubicBezTo>
                      <a:pt x="5563" y="5"/>
                      <a:pt x="5563" y="5"/>
                      <a:pt x="5563" y="3"/>
                    </a:cubicBezTo>
                    <a:cubicBezTo>
                      <a:pt x="5563" y="2"/>
                      <a:pt x="5563" y="1"/>
                      <a:pt x="5565" y="1"/>
                    </a:cubicBezTo>
                    <a:close/>
                    <a:moveTo>
                      <a:pt x="5573" y="1"/>
                    </a:moveTo>
                    <a:lnTo>
                      <a:pt x="5573" y="1"/>
                    </a:lnTo>
                    <a:cubicBezTo>
                      <a:pt x="5574" y="1"/>
                      <a:pt x="5575" y="2"/>
                      <a:pt x="5575" y="3"/>
                    </a:cubicBezTo>
                    <a:cubicBezTo>
                      <a:pt x="5575" y="5"/>
                      <a:pt x="5574" y="5"/>
                      <a:pt x="5573" y="5"/>
                    </a:cubicBezTo>
                    <a:lnTo>
                      <a:pt x="5573" y="5"/>
                    </a:lnTo>
                    <a:cubicBezTo>
                      <a:pt x="5571" y="5"/>
                      <a:pt x="5571" y="5"/>
                      <a:pt x="5571" y="3"/>
                    </a:cubicBezTo>
                    <a:cubicBezTo>
                      <a:pt x="5571" y="2"/>
                      <a:pt x="5571" y="1"/>
                      <a:pt x="5573" y="1"/>
                    </a:cubicBezTo>
                    <a:close/>
                    <a:moveTo>
                      <a:pt x="5581" y="1"/>
                    </a:moveTo>
                    <a:lnTo>
                      <a:pt x="5581" y="1"/>
                    </a:lnTo>
                    <a:cubicBezTo>
                      <a:pt x="5582" y="1"/>
                      <a:pt x="5583" y="2"/>
                      <a:pt x="5583" y="3"/>
                    </a:cubicBezTo>
                    <a:cubicBezTo>
                      <a:pt x="5583" y="5"/>
                      <a:pt x="5582" y="5"/>
                      <a:pt x="5581" y="5"/>
                    </a:cubicBezTo>
                    <a:lnTo>
                      <a:pt x="5581" y="5"/>
                    </a:lnTo>
                    <a:cubicBezTo>
                      <a:pt x="5579" y="5"/>
                      <a:pt x="5579" y="5"/>
                      <a:pt x="5579" y="3"/>
                    </a:cubicBezTo>
                    <a:cubicBezTo>
                      <a:pt x="5579" y="2"/>
                      <a:pt x="5579" y="1"/>
                      <a:pt x="5581" y="1"/>
                    </a:cubicBezTo>
                    <a:close/>
                    <a:moveTo>
                      <a:pt x="5589" y="1"/>
                    </a:moveTo>
                    <a:lnTo>
                      <a:pt x="5589" y="1"/>
                    </a:lnTo>
                    <a:cubicBezTo>
                      <a:pt x="5590" y="1"/>
                      <a:pt x="5591" y="2"/>
                      <a:pt x="5591" y="3"/>
                    </a:cubicBezTo>
                    <a:cubicBezTo>
                      <a:pt x="5591" y="5"/>
                      <a:pt x="5590" y="5"/>
                      <a:pt x="5589" y="5"/>
                    </a:cubicBezTo>
                    <a:lnTo>
                      <a:pt x="5589" y="5"/>
                    </a:lnTo>
                    <a:cubicBezTo>
                      <a:pt x="5587" y="5"/>
                      <a:pt x="5587" y="5"/>
                      <a:pt x="5587" y="3"/>
                    </a:cubicBezTo>
                    <a:cubicBezTo>
                      <a:pt x="5587" y="2"/>
                      <a:pt x="5587" y="1"/>
                      <a:pt x="5589" y="1"/>
                    </a:cubicBezTo>
                    <a:close/>
                    <a:moveTo>
                      <a:pt x="5597" y="1"/>
                    </a:moveTo>
                    <a:lnTo>
                      <a:pt x="5597" y="1"/>
                    </a:lnTo>
                    <a:cubicBezTo>
                      <a:pt x="5598" y="1"/>
                      <a:pt x="5599" y="2"/>
                      <a:pt x="5599" y="3"/>
                    </a:cubicBezTo>
                    <a:cubicBezTo>
                      <a:pt x="5599" y="5"/>
                      <a:pt x="5598" y="5"/>
                      <a:pt x="5597" y="5"/>
                    </a:cubicBezTo>
                    <a:lnTo>
                      <a:pt x="5597" y="5"/>
                    </a:lnTo>
                    <a:cubicBezTo>
                      <a:pt x="5595" y="5"/>
                      <a:pt x="5595" y="5"/>
                      <a:pt x="5595" y="3"/>
                    </a:cubicBezTo>
                    <a:cubicBezTo>
                      <a:pt x="5595" y="2"/>
                      <a:pt x="5595" y="1"/>
                      <a:pt x="5597" y="1"/>
                    </a:cubicBezTo>
                    <a:close/>
                    <a:moveTo>
                      <a:pt x="5605" y="1"/>
                    </a:moveTo>
                    <a:lnTo>
                      <a:pt x="5605" y="1"/>
                    </a:lnTo>
                    <a:cubicBezTo>
                      <a:pt x="5606" y="1"/>
                      <a:pt x="5607" y="2"/>
                      <a:pt x="5607" y="3"/>
                    </a:cubicBezTo>
                    <a:cubicBezTo>
                      <a:pt x="5607" y="5"/>
                      <a:pt x="5606" y="5"/>
                      <a:pt x="5605" y="5"/>
                    </a:cubicBezTo>
                    <a:lnTo>
                      <a:pt x="5605" y="5"/>
                    </a:lnTo>
                    <a:cubicBezTo>
                      <a:pt x="5603" y="5"/>
                      <a:pt x="5603" y="5"/>
                      <a:pt x="5603" y="3"/>
                    </a:cubicBezTo>
                    <a:cubicBezTo>
                      <a:pt x="5603" y="2"/>
                      <a:pt x="5603" y="1"/>
                      <a:pt x="5605" y="1"/>
                    </a:cubicBezTo>
                    <a:close/>
                    <a:moveTo>
                      <a:pt x="5613" y="1"/>
                    </a:moveTo>
                    <a:lnTo>
                      <a:pt x="5613" y="1"/>
                    </a:lnTo>
                    <a:cubicBezTo>
                      <a:pt x="5614" y="1"/>
                      <a:pt x="5615" y="2"/>
                      <a:pt x="5615" y="3"/>
                    </a:cubicBezTo>
                    <a:cubicBezTo>
                      <a:pt x="5615" y="5"/>
                      <a:pt x="5614" y="5"/>
                      <a:pt x="5613" y="5"/>
                    </a:cubicBezTo>
                    <a:lnTo>
                      <a:pt x="5613" y="5"/>
                    </a:lnTo>
                    <a:cubicBezTo>
                      <a:pt x="5611" y="5"/>
                      <a:pt x="5611" y="5"/>
                      <a:pt x="5611" y="3"/>
                    </a:cubicBezTo>
                    <a:cubicBezTo>
                      <a:pt x="5611" y="2"/>
                      <a:pt x="5611" y="1"/>
                      <a:pt x="5613" y="1"/>
                    </a:cubicBezTo>
                    <a:close/>
                    <a:moveTo>
                      <a:pt x="5621" y="1"/>
                    </a:moveTo>
                    <a:lnTo>
                      <a:pt x="5621" y="1"/>
                    </a:lnTo>
                    <a:cubicBezTo>
                      <a:pt x="5622" y="1"/>
                      <a:pt x="5623" y="2"/>
                      <a:pt x="5623" y="3"/>
                    </a:cubicBezTo>
                    <a:cubicBezTo>
                      <a:pt x="5623" y="5"/>
                      <a:pt x="5622" y="5"/>
                      <a:pt x="5621" y="5"/>
                    </a:cubicBezTo>
                    <a:lnTo>
                      <a:pt x="5621" y="5"/>
                    </a:lnTo>
                    <a:cubicBezTo>
                      <a:pt x="5619" y="5"/>
                      <a:pt x="5619" y="5"/>
                      <a:pt x="5619" y="3"/>
                    </a:cubicBezTo>
                    <a:cubicBezTo>
                      <a:pt x="5619" y="2"/>
                      <a:pt x="5619" y="1"/>
                      <a:pt x="5621" y="1"/>
                    </a:cubicBezTo>
                    <a:close/>
                    <a:moveTo>
                      <a:pt x="5629" y="1"/>
                    </a:moveTo>
                    <a:lnTo>
                      <a:pt x="5629" y="1"/>
                    </a:lnTo>
                    <a:cubicBezTo>
                      <a:pt x="5630" y="1"/>
                      <a:pt x="5631" y="2"/>
                      <a:pt x="5631" y="3"/>
                    </a:cubicBezTo>
                    <a:cubicBezTo>
                      <a:pt x="5631" y="5"/>
                      <a:pt x="5630" y="5"/>
                      <a:pt x="5629" y="5"/>
                    </a:cubicBezTo>
                    <a:lnTo>
                      <a:pt x="5629" y="5"/>
                    </a:lnTo>
                    <a:cubicBezTo>
                      <a:pt x="5627" y="5"/>
                      <a:pt x="5627" y="5"/>
                      <a:pt x="5627" y="3"/>
                    </a:cubicBezTo>
                    <a:cubicBezTo>
                      <a:pt x="5627" y="2"/>
                      <a:pt x="5627" y="1"/>
                      <a:pt x="5629" y="1"/>
                    </a:cubicBezTo>
                    <a:close/>
                    <a:moveTo>
                      <a:pt x="5637" y="1"/>
                    </a:moveTo>
                    <a:lnTo>
                      <a:pt x="5637" y="1"/>
                    </a:lnTo>
                    <a:cubicBezTo>
                      <a:pt x="5638" y="1"/>
                      <a:pt x="5639" y="2"/>
                      <a:pt x="5639" y="4"/>
                    </a:cubicBezTo>
                    <a:cubicBezTo>
                      <a:pt x="5639" y="5"/>
                      <a:pt x="5638" y="6"/>
                      <a:pt x="5637" y="6"/>
                    </a:cubicBezTo>
                    <a:lnTo>
                      <a:pt x="5637" y="6"/>
                    </a:lnTo>
                    <a:cubicBezTo>
                      <a:pt x="5635" y="6"/>
                      <a:pt x="5635" y="5"/>
                      <a:pt x="5635" y="4"/>
                    </a:cubicBezTo>
                    <a:cubicBezTo>
                      <a:pt x="5635" y="2"/>
                      <a:pt x="5635" y="1"/>
                      <a:pt x="5637" y="1"/>
                    </a:cubicBezTo>
                    <a:close/>
                    <a:moveTo>
                      <a:pt x="5645" y="2"/>
                    </a:moveTo>
                    <a:lnTo>
                      <a:pt x="5645" y="2"/>
                    </a:lnTo>
                    <a:cubicBezTo>
                      <a:pt x="5646" y="2"/>
                      <a:pt x="5647" y="2"/>
                      <a:pt x="5647" y="4"/>
                    </a:cubicBezTo>
                    <a:cubicBezTo>
                      <a:pt x="5647" y="5"/>
                      <a:pt x="5646" y="6"/>
                      <a:pt x="5645" y="6"/>
                    </a:cubicBezTo>
                    <a:lnTo>
                      <a:pt x="5645" y="6"/>
                    </a:lnTo>
                    <a:cubicBezTo>
                      <a:pt x="5643" y="6"/>
                      <a:pt x="5643" y="5"/>
                      <a:pt x="5643" y="4"/>
                    </a:cubicBezTo>
                    <a:cubicBezTo>
                      <a:pt x="5643" y="2"/>
                      <a:pt x="5643" y="2"/>
                      <a:pt x="5645" y="2"/>
                    </a:cubicBezTo>
                    <a:close/>
                    <a:moveTo>
                      <a:pt x="5653" y="2"/>
                    </a:moveTo>
                    <a:lnTo>
                      <a:pt x="5653" y="2"/>
                    </a:lnTo>
                    <a:cubicBezTo>
                      <a:pt x="5654" y="2"/>
                      <a:pt x="5655" y="2"/>
                      <a:pt x="5655" y="4"/>
                    </a:cubicBezTo>
                    <a:cubicBezTo>
                      <a:pt x="5655" y="5"/>
                      <a:pt x="5654" y="6"/>
                      <a:pt x="5653" y="6"/>
                    </a:cubicBezTo>
                    <a:lnTo>
                      <a:pt x="5653" y="6"/>
                    </a:lnTo>
                    <a:cubicBezTo>
                      <a:pt x="5651" y="6"/>
                      <a:pt x="5651" y="5"/>
                      <a:pt x="5651" y="4"/>
                    </a:cubicBezTo>
                    <a:cubicBezTo>
                      <a:pt x="5651" y="2"/>
                      <a:pt x="5651" y="2"/>
                      <a:pt x="5653" y="2"/>
                    </a:cubicBezTo>
                    <a:close/>
                    <a:moveTo>
                      <a:pt x="5661" y="2"/>
                    </a:moveTo>
                    <a:lnTo>
                      <a:pt x="5661" y="2"/>
                    </a:lnTo>
                    <a:cubicBezTo>
                      <a:pt x="5662" y="2"/>
                      <a:pt x="5663" y="2"/>
                      <a:pt x="5663" y="4"/>
                    </a:cubicBezTo>
                    <a:cubicBezTo>
                      <a:pt x="5663" y="5"/>
                      <a:pt x="5662" y="6"/>
                      <a:pt x="5661" y="6"/>
                    </a:cubicBezTo>
                    <a:lnTo>
                      <a:pt x="5661" y="6"/>
                    </a:lnTo>
                    <a:cubicBezTo>
                      <a:pt x="5659" y="6"/>
                      <a:pt x="5659" y="5"/>
                      <a:pt x="5659" y="4"/>
                    </a:cubicBezTo>
                    <a:cubicBezTo>
                      <a:pt x="5659" y="2"/>
                      <a:pt x="5659" y="2"/>
                      <a:pt x="5661" y="2"/>
                    </a:cubicBezTo>
                    <a:close/>
                    <a:moveTo>
                      <a:pt x="5669" y="2"/>
                    </a:moveTo>
                    <a:lnTo>
                      <a:pt x="5669" y="2"/>
                    </a:lnTo>
                    <a:cubicBezTo>
                      <a:pt x="5670" y="2"/>
                      <a:pt x="5671" y="2"/>
                      <a:pt x="5671" y="4"/>
                    </a:cubicBezTo>
                    <a:cubicBezTo>
                      <a:pt x="5671" y="5"/>
                      <a:pt x="5670" y="6"/>
                      <a:pt x="5669" y="6"/>
                    </a:cubicBezTo>
                    <a:lnTo>
                      <a:pt x="5669" y="6"/>
                    </a:lnTo>
                    <a:cubicBezTo>
                      <a:pt x="5667" y="6"/>
                      <a:pt x="5667" y="5"/>
                      <a:pt x="5667" y="4"/>
                    </a:cubicBezTo>
                    <a:cubicBezTo>
                      <a:pt x="5667" y="2"/>
                      <a:pt x="5667" y="2"/>
                      <a:pt x="5669" y="2"/>
                    </a:cubicBezTo>
                    <a:close/>
                    <a:moveTo>
                      <a:pt x="5677" y="2"/>
                    </a:moveTo>
                    <a:lnTo>
                      <a:pt x="5677" y="2"/>
                    </a:lnTo>
                    <a:cubicBezTo>
                      <a:pt x="5678" y="2"/>
                      <a:pt x="5679" y="2"/>
                      <a:pt x="5679" y="4"/>
                    </a:cubicBezTo>
                    <a:cubicBezTo>
                      <a:pt x="5679" y="5"/>
                      <a:pt x="5678" y="6"/>
                      <a:pt x="5677" y="6"/>
                    </a:cubicBezTo>
                    <a:lnTo>
                      <a:pt x="5677" y="6"/>
                    </a:lnTo>
                    <a:cubicBezTo>
                      <a:pt x="5675" y="6"/>
                      <a:pt x="5675" y="5"/>
                      <a:pt x="5675" y="4"/>
                    </a:cubicBezTo>
                    <a:cubicBezTo>
                      <a:pt x="5675" y="2"/>
                      <a:pt x="5675" y="2"/>
                      <a:pt x="5677" y="2"/>
                    </a:cubicBezTo>
                    <a:close/>
                    <a:moveTo>
                      <a:pt x="5685" y="2"/>
                    </a:moveTo>
                    <a:lnTo>
                      <a:pt x="5685" y="2"/>
                    </a:lnTo>
                    <a:cubicBezTo>
                      <a:pt x="5686" y="2"/>
                      <a:pt x="5687" y="2"/>
                      <a:pt x="5687" y="4"/>
                    </a:cubicBezTo>
                    <a:cubicBezTo>
                      <a:pt x="5687" y="5"/>
                      <a:pt x="5686" y="6"/>
                      <a:pt x="5685" y="6"/>
                    </a:cubicBezTo>
                    <a:lnTo>
                      <a:pt x="5685" y="6"/>
                    </a:lnTo>
                    <a:cubicBezTo>
                      <a:pt x="5683" y="6"/>
                      <a:pt x="5683" y="5"/>
                      <a:pt x="5683" y="4"/>
                    </a:cubicBezTo>
                    <a:cubicBezTo>
                      <a:pt x="5683" y="2"/>
                      <a:pt x="5683" y="2"/>
                      <a:pt x="5685" y="2"/>
                    </a:cubicBezTo>
                    <a:close/>
                    <a:moveTo>
                      <a:pt x="5693" y="2"/>
                    </a:moveTo>
                    <a:lnTo>
                      <a:pt x="5693" y="2"/>
                    </a:lnTo>
                    <a:cubicBezTo>
                      <a:pt x="5694" y="2"/>
                      <a:pt x="5695" y="2"/>
                      <a:pt x="5695" y="4"/>
                    </a:cubicBezTo>
                    <a:cubicBezTo>
                      <a:pt x="5695" y="5"/>
                      <a:pt x="5694" y="6"/>
                      <a:pt x="5693" y="6"/>
                    </a:cubicBezTo>
                    <a:lnTo>
                      <a:pt x="5693" y="6"/>
                    </a:lnTo>
                    <a:cubicBezTo>
                      <a:pt x="5691" y="6"/>
                      <a:pt x="5691" y="5"/>
                      <a:pt x="5691" y="4"/>
                    </a:cubicBezTo>
                    <a:cubicBezTo>
                      <a:pt x="5691" y="2"/>
                      <a:pt x="5691" y="2"/>
                      <a:pt x="5693" y="2"/>
                    </a:cubicBezTo>
                    <a:close/>
                    <a:moveTo>
                      <a:pt x="5701" y="2"/>
                    </a:moveTo>
                    <a:lnTo>
                      <a:pt x="5701" y="2"/>
                    </a:lnTo>
                    <a:cubicBezTo>
                      <a:pt x="5702" y="2"/>
                      <a:pt x="5703" y="2"/>
                      <a:pt x="5703" y="4"/>
                    </a:cubicBezTo>
                    <a:cubicBezTo>
                      <a:pt x="5703" y="5"/>
                      <a:pt x="5702" y="6"/>
                      <a:pt x="5701" y="6"/>
                    </a:cubicBezTo>
                    <a:lnTo>
                      <a:pt x="5701" y="6"/>
                    </a:lnTo>
                    <a:cubicBezTo>
                      <a:pt x="5699" y="6"/>
                      <a:pt x="5699" y="5"/>
                      <a:pt x="5699" y="4"/>
                    </a:cubicBezTo>
                    <a:cubicBezTo>
                      <a:pt x="5699" y="2"/>
                      <a:pt x="5699" y="2"/>
                      <a:pt x="5701" y="2"/>
                    </a:cubicBezTo>
                    <a:close/>
                    <a:moveTo>
                      <a:pt x="5709" y="2"/>
                    </a:moveTo>
                    <a:lnTo>
                      <a:pt x="5709" y="2"/>
                    </a:lnTo>
                    <a:cubicBezTo>
                      <a:pt x="5710" y="2"/>
                      <a:pt x="5711" y="2"/>
                      <a:pt x="5711" y="4"/>
                    </a:cubicBezTo>
                    <a:cubicBezTo>
                      <a:pt x="5711" y="5"/>
                      <a:pt x="5710" y="6"/>
                      <a:pt x="5709" y="6"/>
                    </a:cubicBezTo>
                    <a:lnTo>
                      <a:pt x="5709" y="6"/>
                    </a:lnTo>
                    <a:cubicBezTo>
                      <a:pt x="5708" y="6"/>
                      <a:pt x="5707" y="5"/>
                      <a:pt x="5707" y="4"/>
                    </a:cubicBezTo>
                    <a:cubicBezTo>
                      <a:pt x="5707" y="2"/>
                      <a:pt x="5708" y="2"/>
                      <a:pt x="5709" y="2"/>
                    </a:cubicBezTo>
                    <a:close/>
                    <a:moveTo>
                      <a:pt x="5717" y="2"/>
                    </a:moveTo>
                    <a:lnTo>
                      <a:pt x="5717" y="2"/>
                    </a:lnTo>
                    <a:cubicBezTo>
                      <a:pt x="5718" y="2"/>
                      <a:pt x="5719" y="2"/>
                      <a:pt x="5719" y="4"/>
                    </a:cubicBezTo>
                    <a:cubicBezTo>
                      <a:pt x="5719" y="5"/>
                      <a:pt x="5718" y="6"/>
                      <a:pt x="5717" y="6"/>
                    </a:cubicBezTo>
                    <a:lnTo>
                      <a:pt x="5717" y="6"/>
                    </a:lnTo>
                    <a:cubicBezTo>
                      <a:pt x="5716" y="6"/>
                      <a:pt x="5715" y="5"/>
                      <a:pt x="5715" y="4"/>
                    </a:cubicBezTo>
                    <a:cubicBezTo>
                      <a:pt x="5715" y="2"/>
                      <a:pt x="5716" y="2"/>
                      <a:pt x="5717" y="2"/>
                    </a:cubicBezTo>
                    <a:close/>
                    <a:moveTo>
                      <a:pt x="5725" y="2"/>
                    </a:moveTo>
                    <a:lnTo>
                      <a:pt x="5725" y="2"/>
                    </a:lnTo>
                    <a:cubicBezTo>
                      <a:pt x="5726" y="2"/>
                      <a:pt x="5727" y="2"/>
                      <a:pt x="5727" y="4"/>
                    </a:cubicBezTo>
                    <a:cubicBezTo>
                      <a:pt x="5727" y="5"/>
                      <a:pt x="5726" y="6"/>
                      <a:pt x="5725" y="6"/>
                    </a:cubicBezTo>
                    <a:lnTo>
                      <a:pt x="5725" y="6"/>
                    </a:lnTo>
                    <a:cubicBezTo>
                      <a:pt x="5724" y="6"/>
                      <a:pt x="5723" y="5"/>
                      <a:pt x="5723" y="4"/>
                    </a:cubicBezTo>
                    <a:cubicBezTo>
                      <a:pt x="5723" y="2"/>
                      <a:pt x="5724" y="2"/>
                      <a:pt x="5725" y="2"/>
                    </a:cubicBezTo>
                    <a:close/>
                    <a:moveTo>
                      <a:pt x="5733" y="2"/>
                    </a:moveTo>
                    <a:lnTo>
                      <a:pt x="5733" y="2"/>
                    </a:lnTo>
                    <a:cubicBezTo>
                      <a:pt x="5734" y="2"/>
                      <a:pt x="5735" y="2"/>
                      <a:pt x="5735" y="4"/>
                    </a:cubicBezTo>
                    <a:cubicBezTo>
                      <a:pt x="5735" y="5"/>
                      <a:pt x="5734" y="6"/>
                      <a:pt x="5733" y="6"/>
                    </a:cubicBezTo>
                    <a:lnTo>
                      <a:pt x="5733" y="6"/>
                    </a:lnTo>
                    <a:cubicBezTo>
                      <a:pt x="5732" y="6"/>
                      <a:pt x="5731" y="5"/>
                      <a:pt x="5731" y="4"/>
                    </a:cubicBezTo>
                    <a:cubicBezTo>
                      <a:pt x="5731" y="2"/>
                      <a:pt x="5732" y="2"/>
                      <a:pt x="5733" y="2"/>
                    </a:cubicBezTo>
                    <a:close/>
                    <a:moveTo>
                      <a:pt x="5741" y="2"/>
                    </a:moveTo>
                    <a:lnTo>
                      <a:pt x="5741" y="2"/>
                    </a:lnTo>
                    <a:cubicBezTo>
                      <a:pt x="5742" y="2"/>
                      <a:pt x="5743" y="2"/>
                      <a:pt x="5743" y="4"/>
                    </a:cubicBezTo>
                    <a:cubicBezTo>
                      <a:pt x="5743" y="5"/>
                      <a:pt x="5742" y="6"/>
                      <a:pt x="5741" y="6"/>
                    </a:cubicBezTo>
                    <a:lnTo>
                      <a:pt x="5741" y="6"/>
                    </a:lnTo>
                    <a:cubicBezTo>
                      <a:pt x="5740" y="6"/>
                      <a:pt x="5739" y="5"/>
                      <a:pt x="5739" y="4"/>
                    </a:cubicBezTo>
                    <a:cubicBezTo>
                      <a:pt x="5739" y="2"/>
                      <a:pt x="5740" y="2"/>
                      <a:pt x="5741" y="2"/>
                    </a:cubicBezTo>
                    <a:close/>
                    <a:moveTo>
                      <a:pt x="5749" y="2"/>
                    </a:moveTo>
                    <a:lnTo>
                      <a:pt x="5749" y="2"/>
                    </a:lnTo>
                    <a:cubicBezTo>
                      <a:pt x="5750" y="2"/>
                      <a:pt x="5751" y="2"/>
                      <a:pt x="5751" y="4"/>
                    </a:cubicBezTo>
                    <a:cubicBezTo>
                      <a:pt x="5751" y="5"/>
                      <a:pt x="5750" y="6"/>
                      <a:pt x="5749" y="6"/>
                    </a:cubicBezTo>
                    <a:lnTo>
                      <a:pt x="5749" y="6"/>
                    </a:lnTo>
                    <a:cubicBezTo>
                      <a:pt x="5748" y="6"/>
                      <a:pt x="5747" y="5"/>
                      <a:pt x="5747" y="4"/>
                    </a:cubicBezTo>
                    <a:cubicBezTo>
                      <a:pt x="5747" y="2"/>
                      <a:pt x="5748" y="2"/>
                      <a:pt x="5749" y="2"/>
                    </a:cubicBezTo>
                    <a:close/>
                    <a:moveTo>
                      <a:pt x="5757" y="2"/>
                    </a:moveTo>
                    <a:lnTo>
                      <a:pt x="5757" y="2"/>
                    </a:lnTo>
                    <a:cubicBezTo>
                      <a:pt x="5758" y="2"/>
                      <a:pt x="5759" y="2"/>
                      <a:pt x="5759" y="4"/>
                    </a:cubicBezTo>
                    <a:cubicBezTo>
                      <a:pt x="5759" y="5"/>
                      <a:pt x="5758" y="6"/>
                      <a:pt x="5757" y="6"/>
                    </a:cubicBezTo>
                    <a:lnTo>
                      <a:pt x="5757" y="6"/>
                    </a:lnTo>
                    <a:cubicBezTo>
                      <a:pt x="5756" y="6"/>
                      <a:pt x="5755" y="5"/>
                      <a:pt x="5755" y="4"/>
                    </a:cubicBezTo>
                    <a:cubicBezTo>
                      <a:pt x="5755" y="2"/>
                      <a:pt x="5756" y="2"/>
                      <a:pt x="5757" y="2"/>
                    </a:cubicBezTo>
                    <a:close/>
                    <a:moveTo>
                      <a:pt x="5765" y="2"/>
                    </a:moveTo>
                    <a:lnTo>
                      <a:pt x="5765" y="2"/>
                    </a:lnTo>
                    <a:cubicBezTo>
                      <a:pt x="5766" y="2"/>
                      <a:pt x="5767" y="2"/>
                      <a:pt x="5767" y="4"/>
                    </a:cubicBezTo>
                    <a:cubicBezTo>
                      <a:pt x="5767" y="5"/>
                      <a:pt x="5766" y="6"/>
                      <a:pt x="5765" y="6"/>
                    </a:cubicBezTo>
                    <a:lnTo>
                      <a:pt x="5765" y="6"/>
                    </a:lnTo>
                    <a:cubicBezTo>
                      <a:pt x="5764" y="6"/>
                      <a:pt x="5763" y="5"/>
                      <a:pt x="5763" y="4"/>
                    </a:cubicBezTo>
                    <a:cubicBezTo>
                      <a:pt x="5763" y="2"/>
                      <a:pt x="5764" y="2"/>
                      <a:pt x="5765" y="2"/>
                    </a:cubicBezTo>
                    <a:close/>
                    <a:moveTo>
                      <a:pt x="5773" y="2"/>
                    </a:moveTo>
                    <a:lnTo>
                      <a:pt x="5773" y="2"/>
                    </a:lnTo>
                    <a:cubicBezTo>
                      <a:pt x="5774" y="2"/>
                      <a:pt x="5775" y="2"/>
                      <a:pt x="5775" y="4"/>
                    </a:cubicBezTo>
                    <a:cubicBezTo>
                      <a:pt x="5775" y="5"/>
                      <a:pt x="5774" y="6"/>
                      <a:pt x="5773" y="6"/>
                    </a:cubicBezTo>
                    <a:lnTo>
                      <a:pt x="5773" y="6"/>
                    </a:lnTo>
                    <a:cubicBezTo>
                      <a:pt x="5772" y="6"/>
                      <a:pt x="5771" y="5"/>
                      <a:pt x="5771" y="4"/>
                    </a:cubicBezTo>
                    <a:cubicBezTo>
                      <a:pt x="5771" y="2"/>
                      <a:pt x="5772" y="2"/>
                      <a:pt x="5773" y="2"/>
                    </a:cubicBezTo>
                    <a:close/>
                    <a:moveTo>
                      <a:pt x="5781" y="2"/>
                    </a:moveTo>
                    <a:lnTo>
                      <a:pt x="5781" y="2"/>
                    </a:lnTo>
                    <a:cubicBezTo>
                      <a:pt x="5782" y="2"/>
                      <a:pt x="5783" y="2"/>
                      <a:pt x="5783" y="4"/>
                    </a:cubicBezTo>
                    <a:cubicBezTo>
                      <a:pt x="5783" y="5"/>
                      <a:pt x="5782" y="6"/>
                      <a:pt x="5781" y="6"/>
                    </a:cubicBezTo>
                    <a:lnTo>
                      <a:pt x="5781" y="6"/>
                    </a:lnTo>
                    <a:cubicBezTo>
                      <a:pt x="5780" y="6"/>
                      <a:pt x="5779" y="5"/>
                      <a:pt x="5779" y="4"/>
                    </a:cubicBezTo>
                    <a:cubicBezTo>
                      <a:pt x="5779" y="2"/>
                      <a:pt x="5780" y="2"/>
                      <a:pt x="5781" y="2"/>
                    </a:cubicBezTo>
                    <a:close/>
                    <a:moveTo>
                      <a:pt x="5789" y="2"/>
                    </a:moveTo>
                    <a:lnTo>
                      <a:pt x="5789" y="2"/>
                    </a:lnTo>
                    <a:cubicBezTo>
                      <a:pt x="5790" y="2"/>
                      <a:pt x="5791" y="2"/>
                      <a:pt x="5791" y="4"/>
                    </a:cubicBezTo>
                    <a:cubicBezTo>
                      <a:pt x="5791" y="5"/>
                      <a:pt x="5790" y="6"/>
                      <a:pt x="5789" y="6"/>
                    </a:cubicBezTo>
                    <a:lnTo>
                      <a:pt x="5789" y="6"/>
                    </a:lnTo>
                    <a:cubicBezTo>
                      <a:pt x="5788" y="6"/>
                      <a:pt x="5787" y="5"/>
                      <a:pt x="5787" y="4"/>
                    </a:cubicBezTo>
                    <a:cubicBezTo>
                      <a:pt x="5787" y="2"/>
                      <a:pt x="5788" y="2"/>
                      <a:pt x="5789" y="2"/>
                    </a:cubicBezTo>
                    <a:close/>
                    <a:moveTo>
                      <a:pt x="5797" y="2"/>
                    </a:moveTo>
                    <a:lnTo>
                      <a:pt x="5797" y="2"/>
                    </a:lnTo>
                    <a:cubicBezTo>
                      <a:pt x="5798" y="2"/>
                      <a:pt x="5799" y="2"/>
                      <a:pt x="5799" y="4"/>
                    </a:cubicBezTo>
                    <a:cubicBezTo>
                      <a:pt x="5799" y="5"/>
                      <a:pt x="5798" y="6"/>
                      <a:pt x="5797" y="6"/>
                    </a:cubicBezTo>
                    <a:lnTo>
                      <a:pt x="5797" y="6"/>
                    </a:lnTo>
                    <a:cubicBezTo>
                      <a:pt x="5796" y="6"/>
                      <a:pt x="5795" y="5"/>
                      <a:pt x="5795" y="4"/>
                    </a:cubicBezTo>
                    <a:cubicBezTo>
                      <a:pt x="5795" y="2"/>
                      <a:pt x="5796" y="2"/>
                      <a:pt x="5797" y="2"/>
                    </a:cubicBezTo>
                    <a:close/>
                    <a:moveTo>
                      <a:pt x="5805" y="2"/>
                    </a:moveTo>
                    <a:lnTo>
                      <a:pt x="5805" y="2"/>
                    </a:lnTo>
                    <a:cubicBezTo>
                      <a:pt x="5806" y="2"/>
                      <a:pt x="5807" y="2"/>
                      <a:pt x="5807" y="4"/>
                    </a:cubicBezTo>
                    <a:cubicBezTo>
                      <a:pt x="5807" y="5"/>
                      <a:pt x="5806" y="6"/>
                      <a:pt x="5805" y="6"/>
                    </a:cubicBezTo>
                    <a:lnTo>
                      <a:pt x="5805" y="6"/>
                    </a:lnTo>
                    <a:cubicBezTo>
                      <a:pt x="5804" y="6"/>
                      <a:pt x="5803" y="5"/>
                      <a:pt x="5803" y="4"/>
                    </a:cubicBezTo>
                    <a:cubicBezTo>
                      <a:pt x="5803" y="2"/>
                      <a:pt x="5804" y="2"/>
                      <a:pt x="5805" y="2"/>
                    </a:cubicBezTo>
                    <a:close/>
                    <a:moveTo>
                      <a:pt x="5813" y="2"/>
                    </a:moveTo>
                    <a:lnTo>
                      <a:pt x="5813" y="2"/>
                    </a:lnTo>
                    <a:cubicBezTo>
                      <a:pt x="5814" y="2"/>
                      <a:pt x="5815" y="2"/>
                      <a:pt x="5815" y="4"/>
                    </a:cubicBezTo>
                    <a:cubicBezTo>
                      <a:pt x="5815" y="5"/>
                      <a:pt x="5814" y="6"/>
                      <a:pt x="5813" y="6"/>
                    </a:cubicBezTo>
                    <a:lnTo>
                      <a:pt x="5813" y="6"/>
                    </a:lnTo>
                    <a:cubicBezTo>
                      <a:pt x="5812" y="6"/>
                      <a:pt x="5811" y="5"/>
                      <a:pt x="5811" y="4"/>
                    </a:cubicBezTo>
                    <a:cubicBezTo>
                      <a:pt x="5811" y="2"/>
                      <a:pt x="5812" y="2"/>
                      <a:pt x="5813" y="2"/>
                    </a:cubicBezTo>
                    <a:close/>
                    <a:moveTo>
                      <a:pt x="5821" y="2"/>
                    </a:moveTo>
                    <a:lnTo>
                      <a:pt x="5821" y="2"/>
                    </a:lnTo>
                    <a:cubicBezTo>
                      <a:pt x="5822" y="2"/>
                      <a:pt x="5823" y="2"/>
                      <a:pt x="5823" y="4"/>
                    </a:cubicBezTo>
                    <a:cubicBezTo>
                      <a:pt x="5823" y="5"/>
                      <a:pt x="5822" y="6"/>
                      <a:pt x="5821" y="6"/>
                    </a:cubicBezTo>
                    <a:lnTo>
                      <a:pt x="5821" y="6"/>
                    </a:lnTo>
                    <a:cubicBezTo>
                      <a:pt x="5820" y="6"/>
                      <a:pt x="5819" y="5"/>
                      <a:pt x="5819" y="4"/>
                    </a:cubicBezTo>
                    <a:cubicBezTo>
                      <a:pt x="5819" y="2"/>
                      <a:pt x="5820" y="2"/>
                      <a:pt x="5821" y="2"/>
                    </a:cubicBezTo>
                    <a:close/>
                    <a:moveTo>
                      <a:pt x="5829" y="2"/>
                    </a:moveTo>
                    <a:lnTo>
                      <a:pt x="5829" y="2"/>
                    </a:lnTo>
                    <a:cubicBezTo>
                      <a:pt x="5830" y="2"/>
                      <a:pt x="5831" y="2"/>
                      <a:pt x="5831" y="4"/>
                    </a:cubicBezTo>
                    <a:cubicBezTo>
                      <a:pt x="5831" y="5"/>
                      <a:pt x="5830" y="6"/>
                      <a:pt x="5829" y="6"/>
                    </a:cubicBezTo>
                    <a:lnTo>
                      <a:pt x="5829" y="6"/>
                    </a:lnTo>
                    <a:cubicBezTo>
                      <a:pt x="5828" y="6"/>
                      <a:pt x="5827" y="5"/>
                      <a:pt x="5827" y="4"/>
                    </a:cubicBezTo>
                    <a:cubicBezTo>
                      <a:pt x="5827" y="2"/>
                      <a:pt x="5828" y="2"/>
                      <a:pt x="5829" y="2"/>
                    </a:cubicBezTo>
                    <a:close/>
                    <a:moveTo>
                      <a:pt x="5837" y="2"/>
                    </a:moveTo>
                    <a:lnTo>
                      <a:pt x="5837" y="2"/>
                    </a:lnTo>
                    <a:cubicBezTo>
                      <a:pt x="5838" y="2"/>
                      <a:pt x="5839" y="2"/>
                      <a:pt x="5839" y="4"/>
                    </a:cubicBezTo>
                    <a:cubicBezTo>
                      <a:pt x="5839" y="5"/>
                      <a:pt x="5838" y="6"/>
                      <a:pt x="5837" y="6"/>
                    </a:cubicBezTo>
                    <a:lnTo>
                      <a:pt x="5837" y="6"/>
                    </a:lnTo>
                    <a:cubicBezTo>
                      <a:pt x="5836" y="6"/>
                      <a:pt x="5835" y="5"/>
                      <a:pt x="5835" y="4"/>
                    </a:cubicBezTo>
                    <a:cubicBezTo>
                      <a:pt x="5835" y="2"/>
                      <a:pt x="5836" y="2"/>
                      <a:pt x="5837" y="2"/>
                    </a:cubicBezTo>
                    <a:close/>
                    <a:moveTo>
                      <a:pt x="5845" y="2"/>
                    </a:moveTo>
                    <a:lnTo>
                      <a:pt x="5845" y="2"/>
                    </a:lnTo>
                    <a:cubicBezTo>
                      <a:pt x="5846" y="2"/>
                      <a:pt x="5847" y="2"/>
                      <a:pt x="5847" y="4"/>
                    </a:cubicBezTo>
                    <a:cubicBezTo>
                      <a:pt x="5847" y="5"/>
                      <a:pt x="5846" y="6"/>
                      <a:pt x="5845" y="6"/>
                    </a:cubicBezTo>
                    <a:lnTo>
                      <a:pt x="5845" y="6"/>
                    </a:lnTo>
                    <a:cubicBezTo>
                      <a:pt x="5844" y="6"/>
                      <a:pt x="5843" y="5"/>
                      <a:pt x="5843" y="4"/>
                    </a:cubicBezTo>
                    <a:cubicBezTo>
                      <a:pt x="5843" y="2"/>
                      <a:pt x="5844" y="2"/>
                      <a:pt x="5845" y="2"/>
                    </a:cubicBezTo>
                    <a:close/>
                    <a:moveTo>
                      <a:pt x="5853" y="2"/>
                    </a:moveTo>
                    <a:lnTo>
                      <a:pt x="5853" y="2"/>
                    </a:lnTo>
                    <a:cubicBezTo>
                      <a:pt x="5854" y="2"/>
                      <a:pt x="5855" y="2"/>
                      <a:pt x="5855" y="4"/>
                    </a:cubicBezTo>
                    <a:cubicBezTo>
                      <a:pt x="5855" y="5"/>
                      <a:pt x="5854" y="6"/>
                      <a:pt x="5853" y="6"/>
                    </a:cubicBezTo>
                    <a:lnTo>
                      <a:pt x="5853" y="6"/>
                    </a:lnTo>
                    <a:cubicBezTo>
                      <a:pt x="5852" y="6"/>
                      <a:pt x="5851" y="5"/>
                      <a:pt x="5851" y="4"/>
                    </a:cubicBezTo>
                    <a:cubicBezTo>
                      <a:pt x="5851" y="2"/>
                      <a:pt x="5852" y="2"/>
                      <a:pt x="5853" y="2"/>
                    </a:cubicBezTo>
                    <a:close/>
                    <a:moveTo>
                      <a:pt x="5861" y="2"/>
                    </a:moveTo>
                    <a:lnTo>
                      <a:pt x="5861" y="2"/>
                    </a:lnTo>
                    <a:cubicBezTo>
                      <a:pt x="5862" y="2"/>
                      <a:pt x="5863" y="2"/>
                      <a:pt x="5863" y="4"/>
                    </a:cubicBezTo>
                    <a:cubicBezTo>
                      <a:pt x="5863" y="5"/>
                      <a:pt x="5862" y="6"/>
                      <a:pt x="5861" y="6"/>
                    </a:cubicBezTo>
                    <a:lnTo>
                      <a:pt x="5861" y="6"/>
                    </a:lnTo>
                    <a:cubicBezTo>
                      <a:pt x="5860" y="6"/>
                      <a:pt x="5859" y="5"/>
                      <a:pt x="5859" y="4"/>
                    </a:cubicBezTo>
                    <a:cubicBezTo>
                      <a:pt x="5859" y="2"/>
                      <a:pt x="5860" y="2"/>
                      <a:pt x="5861" y="2"/>
                    </a:cubicBezTo>
                    <a:close/>
                    <a:moveTo>
                      <a:pt x="5869" y="2"/>
                    </a:moveTo>
                    <a:lnTo>
                      <a:pt x="5869" y="2"/>
                    </a:lnTo>
                    <a:cubicBezTo>
                      <a:pt x="5870" y="2"/>
                      <a:pt x="5871" y="2"/>
                      <a:pt x="5871" y="4"/>
                    </a:cubicBezTo>
                    <a:cubicBezTo>
                      <a:pt x="5871" y="5"/>
                      <a:pt x="5870" y="6"/>
                      <a:pt x="5869" y="6"/>
                    </a:cubicBezTo>
                    <a:lnTo>
                      <a:pt x="5869" y="6"/>
                    </a:lnTo>
                    <a:cubicBezTo>
                      <a:pt x="5868" y="6"/>
                      <a:pt x="5867" y="5"/>
                      <a:pt x="5867" y="4"/>
                    </a:cubicBezTo>
                    <a:cubicBezTo>
                      <a:pt x="5867" y="2"/>
                      <a:pt x="5868" y="2"/>
                      <a:pt x="5869" y="2"/>
                    </a:cubicBezTo>
                    <a:close/>
                    <a:moveTo>
                      <a:pt x="5877" y="2"/>
                    </a:moveTo>
                    <a:lnTo>
                      <a:pt x="5877" y="2"/>
                    </a:lnTo>
                    <a:cubicBezTo>
                      <a:pt x="5878" y="2"/>
                      <a:pt x="5879" y="2"/>
                      <a:pt x="5879" y="4"/>
                    </a:cubicBezTo>
                    <a:cubicBezTo>
                      <a:pt x="5879" y="5"/>
                      <a:pt x="5878" y="6"/>
                      <a:pt x="5877" y="6"/>
                    </a:cubicBezTo>
                    <a:lnTo>
                      <a:pt x="5877" y="6"/>
                    </a:lnTo>
                    <a:cubicBezTo>
                      <a:pt x="5876" y="6"/>
                      <a:pt x="5875" y="5"/>
                      <a:pt x="5875" y="4"/>
                    </a:cubicBezTo>
                    <a:cubicBezTo>
                      <a:pt x="5875" y="2"/>
                      <a:pt x="5876" y="2"/>
                      <a:pt x="5877" y="2"/>
                    </a:cubicBezTo>
                    <a:close/>
                    <a:moveTo>
                      <a:pt x="5885" y="2"/>
                    </a:moveTo>
                    <a:lnTo>
                      <a:pt x="5885" y="2"/>
                    </a:lnTo>
                    <a:cubicBezTo>
                      <a:pt x="5886" y="2"/>
                      <a:pt x="5887" y="2"/>
                      <a:pt x="5887" y="4"/>
                    </a:cubicBezTo>
                    <a:cubicBezTo>
                      <a:pt x="5887" y="5"/>
                      <a:pt x="5886" y="6"/>
                      <a:pt x="5885" y="6"/>
                    </a:cubicBezTo>
                    <a:lnTo>
                      <a:pt x="5885" y="6"/>
                    </a:lnTo>
                    <a:cubicBezTo>
                      <a:pt x="5884" y="6"/>
                      <a:pt x="5883" y="5"/>
                      <a:pt x="5883" y="4"/>
                    </a:cubicBezTo>
                    <a:cubicBezTo>
                      <a:pt x="5883" y="2"/>
                      <a:pt x="5884" y="2"/>
                      <a:pt x="5885" y="2"/>
                    </a:cubicBezTo>
                    <a:close/>
                    <a:moveTo>
                      <a:pt x="5893" y="2"/>
                    </a:moveTo>
                    <a:lnTo>
                      <a:pt x="5893" y="2"/>
                    </a:lnTo>
                    <a:cubicBezTo>
                      <a:pt x="5894" y="2"/>
                      <a:pt x="5895" y="2"/>
                      <a:pt x="5895" y="4"/>
                    </a:cubicBezTo>
                    <a:cubicBezTo>
                      <a:pt x="5895" y="5"/>
                      <a:pt x="5894" y="6"/>
                      <a:pt x="5893" y="6"/>
                    </a:cubicBezTo>
                    <a:lnTo>
                      <a:pt x="5893" y="6"/>
                    </a:lnTo>
                    <a:cubicBezTo>
                      <a:pt x="5892" y="6"/>
                      <a:pt x="5891" y="5"/>
                      <a:pt x="5891" y="4"/>
                    </a:cubicBezTo>
                    <a:cubicBezTo>
                      <a:pt x="5891" y="2"/>
                      <a:pt x="5892" y="2"/>
                      <a:pt x="5893" y="2"/>
                    </a:cubicBezTo>
                    <a:close/>
                    <a:moveTo>
                      <a:pt x="5901" y="2"/>
                    </a:moveTo>
                    <a:lnTo>
                      <a:pt x="5901" y="2"/>
                    </a:lnTo>
                    <a:cubicBezTo>
                      <a:pt x="5902" y="2"/>
                      <a:pt x="5903" y="2"/>
                      <a:pt x="5903" y="4"/>
                    </a:cubicBezTo>
                    <a:cubicBezTo>
                      <a:pt x="5903" y="5"/>
                      <a:pt x="5902" y="6"/>
                      <a:pt x="5901" y="6"/>
                    </a:cubicBezTo>
                    <a:lnTo>
                      <a:pt x="5901" y="6"/>
                    </a:lnTo>
                    <a:cubicBezTo>
                      <a:pt x="5900" y="6"/>
                      <a:pt x="5899" y="5"/>
                      <a:pt x="5899" y="4"/>
                    </a:cubicBezTo>
                    <a:cubicBezTo>
                      <a:pt x="5899" y="2"/>
                      <a:pt x="5900" y="2"/>
                      <a:pt x="5901" y="2"/>
                    </a:cubicBezTo>
                    <a:close/>
                    <a:moveTo>
                      <a:pt x="5909" y="2"/>
                    </a:moveTo>
                    <a:lnTo>
                      <a:pt x="5909" y="2"/>
                    </a:lnTo>
                    <a:cubicBezTo>
                      <a:pt x="5910" y="2"/>
                      <a:pt x="5911" y="2"/>
                      <a:pt x="5911" y="4"/>
                    </a:cubicBezTo>
                    <a:cubicBezTo>
                      <a:pt x="5911" y="5"/>
                      <a:pt x="5910" y="6"/>
                      <a:pt x="5909" y="6"/>
                    </a:cubicBezTo>
                    <a:lnTo>
                      <a:pt x="5909" y="6"/>
                    </a:lnTo>
                    <a:cubicBezTo>
                      <a:pt x="5908" y="6"/>
                      <a:pt x="5907" y="5"/>
                      <a:pt x="5907" y="4"/>
                    </a:cubicBezTo>
                    <a:cubicBezTo>
                      <a:pt x="5907" y="2"/>
                      <a:pt x="5908" y="2"/>
                      <a:pt x="5909" y="2"/>
                    </a:cubicBezTo>
                    <a:close/>
                    <a:moveTo>
                      <a:pt x="5917" y="2"/>
                    </a:moveTo>
                    <a:lnTo>
                      <a:pt x="5917" y="2"/>
                    </a:lnTo>
                    <a:cubicBezTo>
                      <a:pt x="5918" y="2"/>
                      <a:pt x="5919" y="2"/>
                      <a:pt x="5919" y="4"/>
                    </a:cubicBezTo>
                    <a:cubicBezTo>
                      <a:pt x="5919" y="5"/>
                      <a:pt x="5918" y="6"/>
                      <a:pt x="5917" y="6"/>
                    </a:cubicBezTo>
                    <a:lnTo>
                      <a:pt x="5917" y="6"/>
                    </a:lnTo>
                    <a:cubicBezTo>
                      <a:pt x="5916" y="6"/>
                      <a:pt x="5915" y="5"/>
                      <a:pt x="5915" y="4"/>
                    </a:cubicBezTo>
                    <a:cubicBezTo>
                      <a:pt x="5915" y="2"/>
                      <a:pt x="5916" y="2"/>
                      <a:pt x="5917" y="2"/>
                    </a:cubicBezTo>
                    <a:close/>
                    <a:moveTo>
                      <a:pt x="5925" y="2"/>
                    </a:moveTo>
                    <a:lnTo>
                      <a:pt x="5925" y="2"/>
                    </a:lnTo>
                    <a:cubicBezTo>
                      <a:pt x="5926" y="2"/>
                      <a:pt x="5927" y="2"/>
                      <a:pt x="5927" y="4"/>
                    </a:cubicBezTo>
                    <a:cubicBezTo>
                      <a:pt x="5927" y="5"/>
                      <a:pt x="5926" y="6"/>
                      <a:pt x="5925" y="6"/>
                    </a:cubicBezTo>
                    <a:lnTo>
                      <a:pt x="5925" y="6"/>
                    </a:lnTo>
                    <a:cubicBezTo>
                      <a:pt x="5924" y="6"/>
                      <a:pt x="5923" y="5"/>
                      <a:pt x="5923" y="4"/>
                    </a:cubicBezTo>
                    <a:cubicBezTo>
                      <a:pt x="5923" y="2"/>
                      <a:pt x="5924" y="2"/>
                      <a:pt x="5925" y="2"/>
                    </a:cubicBezTo>
                    <a:close/>
                    <a:moveTo>
                      <a:pt x="5933" y="2"/>
                    </a:moveTo>
                    <a:lnTo>
                      <a:pt x="5933" y="2"/>
                    </a:lnTo>
                    <a:cubicBezTo>
                      <a:pt x="5934" y="2"/>
                      <a:pt x="5935" y="2"/>
                      <a:pt x="5935" y="4"/>
                    </a:cubicBezTo>
                    <a:cubicBezTo>
                      <a:pt x="5935" y="5"/>
                      <a:pt x="5934" y="6"/>
                      <a:pt x="5933" y="6"/>
                    </a:cubicBezTo>
                    <a:lnTo>
                      <a:pt x="5933" y="6"/>
                    </a:lnTo>
                    <a:cubicBezTo>
                      <a:pt x="5932" y="6"/>
                      <a:pt x="5931" y="5"/>
                      <a:pt x="5931" y="4"/>
                    </a:cubicBezTo>
                    <a:cubicBezTo>
                      <a:pt x="5931" y="2"/>
                      <a:pt x="5932" y="2"/>
                      <a:pt x="5933" y="2"/>
                    </a:cubicBezTo>
                    <a:close/>
                    <a:moveTo>
                      <a:pt x="5941" y="2"/>
                    </a:moveTo>
                    <a:lnTo>
                      <a:pt x="5941" y="2"/>
                    </a:lnTo>
                    <a:cubicBezTo>
                      <a:pt x="5942" y="2"/>
                      <a:pt x="5943" y="2"/>
                      <a:pt x="5943" y="4"/>
                    </a:cubicBezTo>
                    <a:cubicBezTo>
                      <a:pt x="5943" y="5"/>
                      <a:pt x="5942" y="6"/>
                      <a:pt x="5941" y="6"/>
                    </a:cubicBezTo>
                    <a:lnTo>
                      <a:pt x="5941" y="6"/>
                    </a:lnTo>
                    <a:cubicBezTo>
                      <a:pt x="5940" y="6"/>
                      <a:pt x="5939" y="5"/>
                      <a:pt x="5939" y="4"/>
                    </a:cubicBezTo>
                    <a:cubicBezTo>
                      <a:pt x="5939" y="2"/>
                      <a:pt x="5940" y="2"/>
                      <a:pt x="5941" y="2"/>
                    </a:cubicBezTo>
                    <a:close/>
                    <a:moveTo>
                      <a:pt x="5949" y="2"/>
                    </a:moveTo>
                    <a:lnTo>
                      <a:pt x="5949" y="2"/>
                    </a:lnTo>
                    <a:cubicBezTo>
                      <a:pt x="5950" y="2"/>
                      <a:pt x="5951" y="2"/>
                      <a:pt x="5951" y="4"/>
                    </a:cubicBezTo>
                    <a:cubicBezTo>
                      <a:pt x="5951" y="5"/>
                      <a:pt x="5950" y="6"/>
                      <a:pt x="5949" y="6"/>
                    </a:cubicBezTo>
                    <a:lnTo>
                      <a:pt x="5949" y="6"/>
                    </a:lnTo>
                    <a:cubicBezTo>
                      <a:pt x="5948" y="6"/>
                      <a:pt x="5947" y="5"/>
                      <a:pt x="5947" y="4"/>
                    </a:cubicBezTo>
                    <a:cubicBezTo>
                      <a:pt x="5947" y="2"/>
                      <a:pt x="5948" y="2"/>
                      <a:pt x="5949" y="2"/>
                    </a:cubicBezTo>
                    <a:close/>
                    <a:moveTo>
                      <a:pt x="5957" y="2"/>
                    </a:moveTo>
                    <a:lnTo>
                      <a:pt x="5957" y="2"/>
                    </a:lnTo>
                    <a:cubicBezTo>
                      <a:pt x="5958" y="2"/>
                      <a:pt x="5959" y="2"/>
                      <a:pt x="5959" y="4"/>
                    </a:cubicBezTo>
                    <a:cubicBezTo>
                      <a:pt x="5959" y="5"/>
                      <a:pt x="5958" y="6"/>
                      <a:pt x="5957" y="6"/>
                    </a:cubicBezTo>
                    <a:lnTo>
                      <a:pt x="5957" y="6"/>
                    </a:lnTo>
                    <a:cubicBezTo>
                      <a:pt x="5956" y="6"/>
                      <a:pt x="5955" y="5"/>
                      <a:pt x="5955" y="4"/>
                    </a:cubicBezTo>
                    <a:cubicBezTo>
                      <a:pt x="5955" y="2"/>
                      <a:pt x="5956" y="2"/>
                      <a:pt x="5957" y="2"/>
                    </a:cubicBezTo>
                    <a:close/>
                    <a:moveTo>
                      <a:pt x="5965" y="2"/>
                    </a:moveTo>
                    <a:lnTo>
                      <a:pt x="5965" y="2"/>
                    </a:lnTo>
                    <a:cubicBezTo>
                      <a:pt x="5966" y="2"/>
                      <a:pt x="5967" y="2"/>
                      <a:pt x="5967" y="4"/>
                    </a:cubicBezTo>
                    <a:cubicBezTo>
                      <a:pt x="5967" y="5"/>
                      <a:pt x="5966" y="6"/>
                      <a:pt x="5965" y="6"/>
                    </a:cubicBezTo>
                    <a:lnTo>
                      <a:pt x="5965" y="6"/>
                    </a:lnTo>
                    <a:cubicBezTo>
                      <a:pt x="5964" y="6"/>
                      <a:pt x="5963" y="5"/>
                      <a:pt x="5963" y="4"/>
                    </a:cubicBezTo>
                    <a:cubicBezTo>
                      <a:pt x="5963" y="2"/>
                      <a:pt x="5964" y="2"/>
                      <a:pt x="5965" y="2"/>
                    </a:cubicBezTo>
                    <a:close/>
                    <a:moveTo>
                      <a:pt x="5973" y="2"/>
                    </a:moveTo>
                    <a:lnTo>
                      <a:pt x="5973" y="2"/>
                    </a:lnTo>
                    <a:cubicBezTo>
                      <a:pt x="5974" y="2"/>
                      <a:pt x="5975" y="2"/>
                      <a:pt x="5975" y="4"/>
                    </a:cubicBezTo>
                    <a:cubicBezTo>
                      <a:pt x="5975" y="5"/>
                      <a:pt x="5974" y="6"/>
                      <a:pt x="5973" y="6"/>
                    </a:cubicBezTo>
                    <a:lnTo>
                      <a:pt x="5973" y="6"/>
                    </a:lnTo>
                    <a:cubicBezTo>
                      <a:pt x="5972" y="6"/>
                      <a:pt x="5971" y="5"/>
                      <a:pt x="5971" y="4"/>
                    </a:cubicBezTo>
                    <a:cubicBezTo>
                      <a:pt x="5971" y="2"/>
                      <a:pt x="5972" y="2"/>
                      <a:pt x="5973" y="2"/>
                    </a:cubicBezTo>
                    <a:close/>
                    <a:moveTo>
                      <a:pt x="5981" y="2"/>
                    </a:moveTo>
                    <a:lnTo>
                      <a:pt x="5981" y="2"/>
                    </a:lnTo>
                    <a:cubicBezTo>
                      <a:pt x="5982" y="2"/>
                      <a:pt x="5983" y="2"/>
                      <a:pt x="5983" y="4"/>
                    </a:cubicBezTo>
                    <a:cubicBezTo>
                      <a:pt x="5983" y="5"/>
                      <a:pt x="5982" y="6"/>
                      <a:pt x="5981" y="6"/>
                    </a:cubicBezTo>
                    <a:lnTo>
                      <a:pt x="5981" y="6"/>
                    </a:lnTo>
                    <a:cubicBezTo>
                      <a:pt x="5980" y="6"/>
                      <a:pt x="5979" y="5"/>
                      <a:pt x="5979" y="4"/>
                    </a:cubicBezTo>
                    <a:cubicBezTo>
                      <a:pt x="5979" y="2"/>
                      <a:pt x="5980" y="2"/>
                      <a:pt x="5981" y="2"/>
                    </a:cubicBezTo>
                    <a:close/>
                    <a:moveTo>
                      <a:pt x="5989" y="2"/>
                    </a:moveTo>
                    <a:lnTo>
                      <a:pt x="5989" y="2"/>
                    </a:lnTo>
                    <a:cubicBezTo>
                      <a:pt x="5990" y="2"/>
                      <a:pt x="5991" y="2"/>
                      <a:pt x="5991" y="4"/>
                    </a:cubicBezTo>
                    <a:cubicBezTo>
                      <a:pt x="5991" y="5"/>
                      <a:pt x="5990" y="6"/>
                      <a:pt x="5989" y="6"/>
                    </a:cubicBezTo>
                    <a:lnTo>
                      <a:pt x="5989" y="6"/>
                    </a:lnTo>
                    <a:cubicBezTo>
                      <a:pt x="5988" y="6"/>
                      <a:pt x="5987" y="5"/>
                      <a:pt x="5987" y="4"/>
                    </a:cubicBezTo>
                    <a:cubicBezTo>
                      <a:pt x="5987" y="2"/>
                      <a:pt x="5988" y="2"/>
                      <a:pt x="5989" y="2"/>
                    </a:cubicBezTo>
                    <a:close/>
                    <a:moveTo>
                      <a:pt x="5997" y="2"/>
                    </a:moveTo>
                    <a:lnTo>
                      <a:pt x="5997" y="2"/>
                    </a:lnTo>
                    <a:cubicBezTo>
                      <a:pt x="5998" y="2"/>
                      <a:pt x="5999" y="2"/>
                      <a:pt x="5999" y="4"/>
                    </a:cubicBezTo>
                    <a:cubicBezTo>
                      <a:pt x="5999" y="5"/>
                      <a:pt x="5998" y="6"/>
                      <a:pt x="5997" y="6"/>
                    </a:cubicBezTo>
                    <a:lnTo>
                      <a:pt x="5997" y="6"/>
                    </a:lnTo>
                    <a:cubicBezTo>
                      <a:pt x="5996" y="6"/>
                      <a:pt x="5995" y="5"/>
                      <a:pt x="5995" y="4"/>
                    </a:cubicBezTo>
                    <a:cubicBezTo>
                      <a:pt x="5995" y="2"/>
                      <a:pt x="5996" y="2"/>
                      <a:pt x="5997" y="2"/>
                    </a:cubicBezTo>
                    <a:close/>
                    <a:moveTo>
                      <a:pt x="6005" y="2"/>
                    </a:moveTo>
                    <a:lnTo>
                      <a:pt x="6005" y="2"/>
                    </a:lnTo>
                    <a:cubicBezTo>
                      <a:pt x="6006" y="2"/>
                      <a:pt x="6007" y="2"/>
                      <a:pt x="6007" y="4"/>
                    </a:cubicBezTo>
                    <a:cubicBezTo>
                      <a:pt x="6007" y="5"/>
                      <a:pt x="6006" y="6"/>
                      <a:pt x="6005" y="6"/>
                    </a:cubicBezTo>
                    <a:lnTo>
                      <a:pt x="6005" y="6"/>
                    </a:lnTo>
                    <a:cubicBezTo>
                      <a:pt x="6004" y="6"/>
                      <a:pt x="6003" y="5"/>
                      <a:pt x="6003" y="4"/>
                    </a:cubicBezTo>
                    <a:cubicBezTo>
                      <a:pt x="6003" y="2"/>
                      <a:pt x="6004" y="2"/>
                      <a:pt x="6005" y="2"/>
                    </a:cubicBezTo>
                    <a:close/>
                    <a:moveTo>
                      <a:pt x="6013" y="2"/>
                    </a:moveTo>
                    <a:lnTo>
                      <a:pt x="6013" y="2"/>
                    </a:lnTo>
                    <a:cubicBezTo>
                      <a:pt x="6014" y="2"/>
                      <a:pt x="6015" y="2"/>
                      <a:pt x="6015" y="4"/>
                    </a:cubicBezTo>
                    <a:cubicBezTo>
                      <a:pt x="6015" y="5"/>
                      <a:pt x="6014" y="6"/>
                      <a:pt x="6013" y="6"/>
                    </a:cubicBezTo>
                    <a:lnTo>
                      <a:pt x="6013" y="6"/>
                    </a:lnTo>
                    <a:cubicBezTo>
                      <a:pt x="6012" y="6"/>
                      <a:pt x="6011" y="5"/>
                      <a:pt x="6011" y="4"/>
                    </a:cubicBezTo>
                    <a:cubicBezTo>
                      <a:pt x="6011" y="2"/>
                      <a:pt x="6012" y="2"/>
                      <a:pt x="6013" y="2"/>
                    </a:cubicBezTo>
                    <a:close/>
                    <a:moveTo>
                      <a:pt x="6021" y="2"/>
                    </a:moveTo>
                    <a:lnTo>
                      <a:pt x="6021" y="2"/>
                    </a:lnTo>
                    <a:cubicBezTo>
                      <a:pt x="6022" y="2"/>
                      <a:pt x="6023" y="2"/>
                      <a:pt x="6023" y="4"/>
                    </a:cubicBezTo>
                    <a:cubicBezTo>
                      <a:pt x="6023" y="5"/>
                      <a:pt x="6022" y="6"/>
                      <a:pt x="6021" y="6"/>
                    </a:cubicBezTo>
                    <a:lnTo>
                      <a:pt x="6021" y="6"/>
                    </a:lnTo>
                    <a:cubicBezTo>
                      <a:pt x="6020" y="6"/>
                      <a:pt x="6019" y="5"/>
                      <a:pt x="6019" y="4"/>
                    </a:cubicBezTo>
                    <a:cubicBezTo>
                      <a:pt x="6019" y="2"/>
                      <a:pt x="6020" y="2"/>
                      <a:pt x="6021" y="2"/>
                    </a:cubicBezTo>
                    <a:close/>
                    <a:moveTo>
                      <a:pt x="6029" y="2"/>
                    </a:moveTo>
                    <a:lnTo>
                      <a:pt x="6029" y="2"/>
                    </a:lnTo>
                    <a:cubicBezTo>
                      <a:pt x="6030" y="2"/>
                      <a:pt x="6031" y="2"/>
                      <a:pt x="6031" y="4"/>
                    </a:cubicBezTo>
                    <a:cubicBezTo>
                      <a:pt x="6031" y="5"/>
                      <a:pt x="6030" y="6"/>
                      <a:pt x="6029" y="6"/>
                    </a:cubicBezTo>
                    <a:lnTo>
                      <a:pt x="6029" y="6"/>
                    </a:lnTo>
                    <a:cubicBezTo>
                      <a:pt x="6028" y="6"/>
                      <a:pt x="6027" y="5"/>
                      <a:pt x="6027" y="4"/>
                    </a:cubicBezTo>
                    <a:cubicBezTo>
                      <a:pt x="6027" y="2"/>
                      <a:pt x="6028" y="2"/>
                      <a:pt x="6029" y="2"/>
                    </a:cubicBezTo>
                    <a:close/>
                    <a:moveTo>
                      <a:pt x="6037" y="2"/>
                    </a:moveTo>
                    <a:lnTo>
                      <a:pt x="6037" y="2"/>
                    </a:lnTo>
                    <a:cubicBezTo>
                      <a:pt x="6038" y="2"/>
                      <a:pt x="6039" y="2"/>
                      <a:pt x="6039" y="4"/>
                    </a:cubicBezTo>
                    <a:cubicBezTo>
                      <a:pt x="6039" y="5"/>
                      <a:pt x="6038" y="6"/>
                      <a:pt x="6037" y="6"/>
                    </a:cubicBezTo>
                    <a:lnTo>
                      <a:pt x="6037" y="6"/>
                    </a:lnTo>
                    <a:cubicBezTo>
                      <a:pt x="6036" y="6"/>
                      <a:pt x="6035" y="5"/>
                      <a:pt x="6035" y="4"/>
                    </a:cubicBezTo>
                    <a:cubicBezTo>
                      <a:pt x="6035" y="2"/>
                      <a:pt x="6036" y="2"/>
                      <a:pt x="6037" y="2"/>
                    </a:cubicBezTo>
                    <a:close/>
                    <a:moveTo>
                      <a:pt x="6045" y="2"/>
                    </a:moveTo>
                    <a:lnTo>
                      <a:pt x="6045" y="2"/>
                    </a:lnTo>
                    <a:cubicBezTo>
                      <a:pt x="6046" y="2"/>
                      <a:pt x="6047" y="2"/>
                      <a:pt x="6047" y="4"/>
                    </a:cubicBezTo>
                    <a:cubicBezTo>
                      <a:pt x="6047" y="5"/>
                      <a:pt x="6046" y="6"/>
                      <a:pt x="6045" y="6"/>
                    </a:cubicBezTo>
                    <a:lnTo>
                      <a:pt x="6045" y="6"/>
                    </a:lnTo>
                    <a:cubicBezTo>
                      <a:pt x="6044" y="6"/>
                      <a:pt x="6043" y="5"/>
                      <a:pt x="6043" y="4"/>
                    </a:cubicBezTo>
                    <a:cubicBezTo>
                      <a:pt x="6043" y="2"/>
                      <a:pt x="6044" y="2"/>
                      <a:pt x="6045" y="2"/>
                    </a:cubicBezTo>
                    <a:close/>
                    <a:moveTo>
                      <a:pt x="6053" y="2"/>
                    </a:moveTo>
                    <a:lnTo>
                      <a:pt x="6053" y="2"/>
                    </a:lnTo>
                    <a:cubicBezTo>
                      <a:pt x="6054" y="2"/>
                      <a:pt x="6055" y="2"/>
                      <a:pt x="6055" y="4"/>
                    </a:cubicBezTo>
                    <a:cubicBezTo>
                      <a:pt x="6055" y="5"/>
                      <a:pt x="6054" y="6"/>
                      <a:pt x="6053" y="6"/>
                    </a:cubicBezTo>
                    <a:lnTo>
                      <a:pt x="6053" y="6"/>
                    </a:lnTo>
                    <a:cubicBezTo>
                      <a:pt x="6052" y="6"/>
                      <a:pt x="6051" y="5"/>
                      <a:pt x="6051" y="4"/>
                    </a:cubicBezTo>
                    <a:cubicBezTo>
                      <a:pt x="6051" y="2"/>
                      <a:pt x="6052" y="2"/>
                      <a:pt x="6053" y="2"/>
                    </a:cubicBezTo>
                    <a:close/>
                    <a:moveTo>
                      <a:pt x="6061" y="2"/>
                    </a:moveTo>
                    <a:lnTo>
                      <a:pt x="6061" y="2"/>
                    </a:lnTo>
                    <a:cubicBezTo>
                      <a:pt x="6062" y="2"/>
                      <a:pt x="6063" y="2"/>
                      <a:pt x="6063" y="4"/>
                    </a:cubicBezTo>
                    <a:cubicBezTo>
                      <a:pt x="6063" y="5"/>
                      <a:pt x="6062" y="6"/>
                      <a:pt x="6061" y="6"/>
                    </a:cubicBezTo>
                    <a:lnTo>
                      <a:pt x="6061" y="6"/>
                    </a:lnTo>
                    <a:cubicBezTo>
                      <a:pt x="6060" y="6"/>
                      <a:pt x="6059" y="5"/>
                      <a:pt x="6059" y="4"/>
                    </a:cubicBezTo>
                    <a:cubicBezTo>
                      <a:pt x="6059" y="2"/>
                      <a:pt x="6060" y="2"/>
                      <a:pt x="6061" y="2"/>
                    </a:cubicBezTo>
                    <a:close/>
                    <a:moveTo>
                      <a:pt x="6069" y="2"/>
                    </a:moveTo>
                    <a:lnTo>
                      <a:pt x="6069" y="2"/>
                    </a:lnTo>
                    <a:cubicBezTo>
                      <a:pt x="6070" y="2"/>
                      <a:pt x="6071" y="2"/>
                      <a:pt x="6071" y="4"/>
                    </a:cubicBezTo>
                    <a:cubicBezTo>
                      <a:pt x="6071" y="5"/>
                      <a:pt x="6070" y="6"/>
                      <a:pt x="6069" y="6"/>
                    </a:cubicBezTo>
                    <a:lnTo>
                      <a:pt x="6069" y="6"/>
                    </a:lnTo>
                    <a:cubicBezTo>
                      <a:pt x="6068" y="6"/>
                      <a:pt x="6067" y="5"/>
                      <a:pt x="6067" y="4"/>
                    </a:cubicBezTo>
                    <a:cubicBezTo>
                      <a:pt x="6067" y="2"/>
                      <a:pt x="6068" y="2"/>
                      <a:pt x="6069" y="2"/>
                    </a:cubicBezTo>
                    <a:close/>
                    <a:moveTo>
                      <a:pt x="6077" y="2"/>
                    </a:moveTo>
                    <a:lnTo>
                      <a:pt x="6077" y="2"/>
                    </a:lnTo>
                    <a:cubicBezTo>
                      <a:pt x="6078" y="2"/>
                      <a:pt x="6079" y="2"/>
                      <a:pt x="6079" y="4"/>
                    </a:cubicBezTo>
                    <a:cubicBezTo>
                      <a:pt x="6079" y="5"/>
                      <a:pt x="6078" y="6"/>
                      <a:pt x="6077" y="6"/>
                    </a:cubicBezTo>
                    <a:lnTo>
                      <a:pt x="6077" y="6"/>
                    </a:lnTo>
                    <a:cubicBezTo>
                      <a:pt x="6076" y="6"/>
                      <a:pt x="6075" y="5"/>
                      <a:pt x="6075" y="4"/>
                    </a:cubicBezTo>
                    <a:cubicBezTo>
                      <a:pt x="6075" y="2"/>
                      <a:pt x="6076" y="2"/>
                      <a:pt x="6077" y="2"/>
                    </a:cubicBezTo>
                    <a:close/>
                    <a:moveTo>
                      <a:pt x="6085" y="2"/>
                    </a:moveTo>
                    <a:lnTo>
                      <a:pt x="6085" y="2"/>
                    </a:lnTo>
                    <a:cubicBezTo>
                      <a:pt x="6086" y="2"/>
                      <a:pt x="6087" y="2"/>
                      <a:pt x="6087" y="4"/>
                    </a:cubicBezTo>
                    <a:cubicBezTo>
                      <a:pt x="6087" y="5"/>
                      <a:pt x="6086" y="6"/>
                      <a:pt x="6085" y="6"/>
                    </a:cubicBezTo>
                    <a:lnTo>
                      <a:pt x="6085" y="6"/>
                    </a:lnTo>
                    <a:cubicBezTo>
                      <a:pt x="6084" y="6"/>
                      <a:pt x="6083" y="5"/>
                      <a:pt x="6083" y="4"/>
                    </a:cubicBezTo>
                    <a:cubicBezTo>
                      <a:pt x="6083" y="2"/>
                      <a:pt x="6084" y="2"/>
                      <a:pt x="6085" y="2"/>
                    </a:cubicBezTo>
                    <a:close/>
                    <a:moveTo>
                      <a:pt x="6093" y="2"/>
                    </a:moveTo>
                    <a:lnTo>
                      <a:pt x="6093" y="2"/>
                    </a:lnTo>
                    <a:cubicBezTo>
                      <a:pt x="6094" y="2"/>
                      <a:pt x="6095" y="2"/>
                      <a:pt x="6095" y="4"/>
                    </a:cubicBezTo>
                    <a:cubicBezTo>
                      <a:pt x="6095" y="5"/>
                      <a:pt x="6094" y="6"/>
                      <a:pt x="6093" y="6"/>
                    </a:cubicBezTo>
                    <a:lnTo>
                      <a:pt x="6093" y="6"/>
                    </a:lnTo>
                    <a:cubicBezTo>
                      <a:pt x="6092" y="6"/>
                      <a:pt x="6091" y="5"/>
                      <a:pt x="6091" y="4"/>
                    </a:cubicBezTo>
                    <a:cubicBezTo>
                      <a:pt x="6091" y="2"/>
                      <a:pt x="6092" y="2"/>
                      <a:pt x="6093" y="2"/>
                    </a:cubicBezTo>
                    <a:close/>
                    <a:moveTo>
                      <a:pt x="6101" y="2"/>
                    </a:moveTo>
                    <a:lnTo>
                      <a:pt x="6101" y="2"/>
                    </a:lnTo>
                    <a:cubicBezTo>
                      <a:pt x="6102" y="2"/>
                      <a:pt x="6103" y="2"/>
                      <a:pt x="6103" y="4"/>
                    </a:cubicBezTo>
                    <a:cubicBezTo>
                      <a:pt x="6103" y="5"/>
                      <a:pt x="6102" y="6"/>
                      <a:pt x="6101" y="6"/>
                    </a:cubicBezTo>
                    <a:lnTo>
                      <a:pt x="6101" y="6"/>
                    </a:lnTo>
                    <a:cubicBezTo>
                      <a:pt x="6100" y="6"/>
                      <a:pt x="6099" y="5"/>
                      <a:pt x="6099" y="4"/>
                    </a:cubicBezTo>
                    <a:cubicBezTo>
                      <a:pt x="6099" y="2"/>
                      <a:pt x="6100" y="2"/>
                      <a:pt x="6101" y="2"/>
                    </a:cubicBezTo>
                    <a:close/>
                    <a:moveTo>
                      <a:pt x="6109" y="2"/>
                    </a:moveTo>
                    <a:lnTo>
                      <a:pt x="6109" y="2"/>
                    </a:lnTo>
                    <a:cubicBezTo>
                      <a:pt x="6110" y="2"/>
                      <a:pt x="6111" y="3"/>
                      <a:pt x="6111" y="4"/>
                    </a:cubicBezTo>
                    <a:cubicBezTo>
                      <a:pt x="6111" y="5"/>
                      <a:pt x="6110" y="6"/>
                      <a:pt x="6109" y="6"/>
                    </a:cubicBezTo>
                    <a:lnTo>
                      <a:pt x="6109" y="6"/>
                    </a:lnTo>
                    <a:cubicBezTo>
                      <a:pt x="6108" y="6"/>
                      <a:pt x="6107" y="5"/>
                      <a:pt x="6107" y="4"/>
                    </a:cubicBezTo>
                    <a:cubicBezTo>
                      <a:pt x="6107" y="3"/>
                      <a:pt x="6108" y="2"/>
                      <a:pt x="6109" y="2"/>
                    </a:cubicBezTo>
                    <a:close/>
                    <a:moveTo>
                      <a:pt x="6117" y="2"/>
                    </a:moveTo>
                    <a:lnTo>
                      <a:pt x="6117" y="2"/>
                    </a:lnTo>
                    <a:cubicBezTo>
                      <a:pt x="6118" y="2"/>
                      <a:pt x="6119" y="3"/>
                      <a:pt x="6119" y="4"/>
                    </a:cubicBezTo>
                    <a:cubicBezTo>
                      <a:pt x="6119" y="5"/>
                      <a:pt x="6118" y="6"/>
                      <a:pt x="6117" y="6"/>
                    </a:cubicBezTo>
                    <a:lnTo>
                      <a:pt x="6117" y="6"/>
                    </a:lnTo>
                    <a:cubicBezTo>
                      <a:pt x="6116" y="6"/>
                      <a:pt x="6115" y="5"/>
                      <a:pt x="6115" y="4"/>
                    </a:cubicBezTo>
                    <a:cubicBezTo>
                      <a:pt x="6115" y="3"/>
                      <a:pt x="6116" y="2"/>
                      <a:pt x="6117" y="2"/>
                    </a:cubicBezTo>
                    <a:close/>
                    <a:moveTo>
                      <a:pt x="6125" y="2"/>
                    </a:moveTo>
                    <a:lnTo>
                      <a:pt x="6125" y="2"/>
                    </a:lnTo>
                    <a:cubicBezTo>
                      <a:pt x="6126" y="2"/>
                      <a:pt x="6127" y="3"/>
                      <a:pt x="6127" y="4"/>
                    </a:cubicBezTo>
                    <a:cubicBezTo>
                      <a:pt x="6127" y="5"/>
                      <a:pt x="6126" y="6"/>
                      <a:pt x="6125" y="6"/>
                    </a:cubicBezTo>
                    <a:lnTo>
                      <a:pt x="6125" y="6"/>
                    </a:lnTo>
                    <a:cubicBezTo>
                      <a:pt x="6124" y="6"/>
                      <a:pt x="6123" y="5"/>
                      <a:pt x="6123" y="4"/>
                    </a:cubicBezTo>
                    <a:cubicBezTo>
                      <a:pt x="6123" y="3"/>
                      <a:pt x="6124" y="2"/>
                      <a:pt x="6125" y="2"/>
                    </a:cubicBezTo>
                    <a:close/>
                    <a:moveTo>
                      <a:pt x="6133" y="2"/>
                    </a:moveTo>
                    <a:lnTo>
                      <a:pt x="6133" y="2"/>
                    </a:lnTo>
                    <a:cubicBezTo>
                      <a:pt x="6134" y="2"/>
                      <a:pt x="6135" y="3"/>
                      <a:pt x="6135" y="4"/>
                    </a:cubicBezTo>
                    <a:cubicBezTo>
                      <a:pt x="6135" y="5"/>
                      <a:pt x="6134" y="6"/>
                      <a:pt x="6133" y="6"/>
                    </a:cubicBezTo>
                    <a:lnTo>
                      <a:pt x="6133" y="6"/>
                    </a:lnTo>
                    <a:cubicBezTo>
                      <a:pt x="6132" y="6"/>
                      <a:pt x="6131" y="5"/>
                      <a:pt x="6131" y="4"/>
                    </a:cubicBezTo>
                    <a:cubicBezTo>
                      <a:pt x="6131" y="3"/>
                      <a:pt x="6132" y="2"/>
                      <a:pt x="6133" y="2"/>
                    </a:cubicBezTo>
                    <a:close/>
                    <a:moveTo>
                      <a:pt x="6141" y="2"/>
                    </a:moveTo>
                    <a:lnTo>
                      <a:pt x="6141" y="2"/>
                    </a:lnTo>
                    <a:cubicBezTo>
                      <a:pt x="6142" y="2"/>
                      <a:pt x="6143" y="3"/>
                      <a:pt x="6143" y="4"/>
                    </a:cubicBezTo>
                    <a:cubicBezTo>
                      <a:pt x="6143" y="5"/>
                      <a:pt x="6142" y="6"/>
                      <a:pt x="6141" y="6"/>
                    </a:cubicBezTo>
                    <a:lnTo>
                      <a:pt x="6141" y="6"/>
                    </a:lnTo>
                    <a:cubicBezTo>
                      <a:pt x="6140" y="6"/>
                      <a:pt x="6139" y="5"/>
                      <a:pt x="6139" y="4"/>
                    </a:cubicBezTo>
                    <a:cubicBezTo>
                      <a:pt x="6139" y="3"/>
                      <a:pt x="6140" y="2"/>
                      <a:pt x="6141" y="2"/>
                    </a:cubicBezTo>
                    <a:close/>
                    <a:moveTo>
                      <a:pt x="6149" y="2"/>
                    </a:moveTo>
                    <a:lnTo>
                      <a:pt x="6149" y="2"/>
                    </a:lnTo>
                    <a:cubicBezTo>
                      <a:pt x="6150" y="2"/>
                      <a:pt x="6151" y="3"/>
                      <a:pt x="6151" y="4"/>
                    </a:cubicBezTo>
                    <a:cubicBezTo>
                      <a:pt x="6151" y="5"/>
                      <a:pt x="6150" y="6"/>
                      <a:pt x="6149" y="6"/>
                    </a:cubicBezTo>
                    <a:lnTo>
                      <a:pt x="6149" y="6"/>
                    </a:lnTo>
                    <a:cubicBezTo>
                      <a:pt x="6148" y="6"/>
                      <a:pt x="6147" y="5"/>
                      <a:pt x="6147" y="4"/>
                    </a:cubicBezTo>
                    <a:cubicBezTo>
                      <a:pt x="6147" y="3"/>
                      <a:pt x="6148" y="2"/>
                      <a:pt x="6149" y="2"/>
                    </a:cubicBezTo>
                    <a:close/>
                    <a:moveTo>
                      <a:pt x="6157" y="2"/>
                    </a:moveTo>
                    <a:lnTo>
                      <a:pt x="6157" y="2"/>
                    </a:lnTo>
                    <a:cubicBezTo>
                      <a:pt x="6158" y="2"/>
                      <a:pt x="6159" y="3"/>
                      <a:pt x="6159" y="4"/>
                    </a:cubicBezTo>
                    <a:cubicBezTo>
                      <a:pt x="6159" y="5"/>
                      <a:pt x="6158" y="6"/>
                      <a:pt x="6157" y="6"/>
                    </a:cubicBezTo>
                    <a:lnTo>
                      <a:pt x="6157" y="6"/>
                    </a:lnTo>
                    <a:cubicBezTo>
                      <a:pt x="6156" y="6"/>
                      <a:pt x="6155" y="5"/>
                      <a:pt x="6155" y="4"/>
                    </a:cubicBezTo>
                    <a:cubicBezTo>
                      <a:pt x="6155" y="3"/>
                      <a:pt x="6156" y="2"/>
                      <a:pt x="6157" y="2"/>
                    </a:cubicBezTo>
                    <a:close/>
                    <a:moveTo>
                      <a:pt x="6165" y="2"/>
                    </a:moveTo>
                    <a:lnTo>
                      <a:pt x="6165" y="2"/>
                    </a:lnTo>
                    <a:cubicBezTo>
                      <a:pt x="6166" y="2"/>
                      <a:pt x="6167" y="3"/>
                      <a:pt x="6167" y="4"/>
                    </a:cubicBezTo>
                    <a:cubicBezTo>
                      <a:pt x="6167" y="5"/>
                      <a:pt x="6166" y="6"/>
                      <a:pt x="6165" y="6"/>
                    </a:cubicBezTo>
                    <a:lnTo>
                      <a:pt x="6165" y="6"/>
                    </a:lnTo>
                    <a:cubicBezTo>
                      <a:pt x="6164" y="6"/>
                      <a:pt x="6163" y="5"/>
                      <a:pt x="6163" y="4"/>
                    </a:cubicBezTo>
                    <a:cubicBezTo>
                      <a:pt x="6163" y="3"/>
                      <a:pt x="6164" y="2"/>
                      <a:pt x="6165" y="2"/>
                    </a:cubicBezTo>
                    <a:close/>
                    <a:moveTo>
                      <a:pt x="6173" y="2"/>
                    </a:moveTo>
                    <a:lnTo>
                      <a:pt x="6173" y="2"/>
                    </a:lnTo>
                    <a:cubicBezTo>
                      <a:pt x="6174" y="2"/>
                      <a:pt x="6175" y="3"/>
                      <a:pt x="6175" y="4"/>
                    </a:cubicBezTo>
                    <a:cubicBezTo>
                      <a:pt x="6175" y="5"/>
                      <a:pt x="6174" y="6"/>
                      <a:pt x="6173" y="6"/>
                    </a:cubicBezTo>
                    <a:lnTo>
                      <a:pt x="6173" y="6"/>
                    </a:lnTo>
                    <a:cubicBezTo>
                      <a:pt x="6172" y="6"/>
                      <a:pt x="6171" y="5"/>
                      <a:pt x="6171" y="4"/>
                    </a:cubicBezTo>
                    <a:cubicBezTo>
                      <a:pt x="6171" y="3"/>
                      <a:pt x="6172" y="2"/>
                      <a:pt x="6173" y="2"/>
                    </a:cubicBezTo>
                    <a:close/>
                    <a:moveTo>
                      <a:pt x="6181" y="2"/>
                    </a:moveTo>
                    <a:lnTo>
                      <a:pt x="6181" y="2"/>
                    </a:lnTo>
                    <a:cubicBezTo>
                      <a:pt x="6182" y="2"/>
                      <a:pt x="6183" y="3"/>
                      <a:pt x="6183" y="4"/>
                    </a:cubicBezTo>
                    <a:cubicBezTo>
                      <a:pt x="6183" y="5"/>
                      <a:pt x="6182" y="6"/>
                      <a:pt x="6181" y="6"/>
                    </a:cubicBezTo>
                    <a:lnTo>
                      <a:pt x="6181" y="6"/>
                    </a:lnTo>
                    <a:cubicBezTo>
                      <a:pt x="6180" y="6"/>
                      <a:pt x="6179" y="5"/>
                      <a:pt x="6179" y="4"/>
                    </a:cubicBezTo>
                    <a:cubicBezTo>
                      <a:pt x="6179" y="3"/>
                      <a:pt x="6180" y="2"/>
                      <a:pt x="6181" y="2"/>
                    </a:cubicBezTo>
                    <a:close/>
                    <a:moveTo>
                      <a:pt x="6189" y="2"/>
                    </a:moveTo>
                    <a:lnTo>
                      <a:pt x="6189" y="2"/>
                    </a:lnTo>
                    <a:cubicBezTo>
                      <a:pt x="6190" y="2"/>
                      <a:pt x="6191" y="3"/>
                      <a:pt x="6191" y="4"/>
                    </a:cubicBezTo>
                    <a:cubicBezTo>
                      <a:pt x="6191" y="5"/>
                      <a:pt x="6190" y="6"/>
                      <a:pt x="6189" y="6"/>
                    </a:cubicBezTo>
                    <a:lnTo>
                      <a:pt x="6189" y="6"/>
                    </a:lnTo>
                    <a:cubicBezTo>
                      <a:pt x="6188" y="6"/>
                      <a:pt x="6187" y="5"/>
                      <a:pt x="6187" y="4"/>
                    </a:cubicBezTo>
                    <a:cubicBezTo>
                      <a:pt x="6187" y="3"/>
                      <a:pt x="6188" y="2"/>
                      <a:pt x="6189" y="2"/>
                    </a:cubicBezTo>
                    <a:close/>
                    <a:moveTo>
                      <a:pt x="6197" y="2"/>
                    </a:moveTo>
                    <a:lnTo>
                      <a:pt x="6197" y="2"/>
                    </a:lnTo>
                    <a:cubicBezTo>
                      <a:pt x="6198" y="2"/>
                      <a:pt x="6199" y="3"/>
                      <a:pt x="6199" y="4"/>
                    </a:cubicBezTo>
                    <a:cubicBezTo>
                      <a:pt x="6199" y="5"/>
                      <a:pt x="6198" y="6"/>
                      <a:pt x="6197" y="6"/>
                    </a:cubicBezTo>
                    <a:lnTo>
                      <a:pt x="6197" y="6"/>
                    </a:lnTo>
                    <a:cubicBezTo>
                      <a:pt x="6196" y="6"/>
                      <a:pt x="6195" y="5"/>
                      <a:pt x="6195" y="4"/>
                    </a:cubicBezTo>
                    <a:cubicBezTo>
                      <a:pt x="6195" y="3"/>
                      <a:pt x="6196" y="2"/>
                      <a:pt x="6197" y="2"/>
                    </a:cubicBezTo>
                    <a:close/>
                    <a:moveTo>
                      <a:pt x="6205" y="2"/>
                    </a:moveTo>
                    <a:lnTo>
                      <a:pt x="6205" y="2"/>
                    </a:lnTo>
                    <a:cubicBezTo>
                      <a:pt x="6206" y="2"/>
                      <a:pt x="6207" y="3"/>
                      <a:pt x="6207" y="4"/>
                    </a:cubicBezTo>
                    <a:cubicBezTo>
                      <a:pt x="6207" y="5"/>
                      <a:pt x="6206" y="6"/>
                      <a:pt x="6205" y="6"/>
                    </a:cubicBezTo>
                    <a:lnTo>
                      <a:pt x="6205" y="6"/>
                    </a:lnTo>
                    <a:cubicBezTo>
                      <a:pt x="6204" y="6"/>
                      <a:pt x="6203" y="5"/>
                      <a:pt x="6203" y="4"/>
                    </a:cubicBezTo>
                    <a:cubicBezTo>
                      <a:pt x="6203" y="3"/>
                      <a:pt x="6204" y="2"/>
                      <a:pt x="6205" y="2"/>
                    </a:cubicBezTo>
                    <a:close/>
                    <a:moveTo>
                      <a:pt x="6213" y="2"/>
                    </a:moveTo>
                    <a:lnTo>
                      <a:pt x="6213" y="2"/>
                    </a:lnTo>
                    <a:cubicBezTo>
                      <a:pt x="6214" y="2"/>
                      <a:pt x="6215" y="3"/>
                      <a:pt x="6215" y="4"/>
                    </a:cubicBezTo>
                    <a:cubicBezTo>
                      <a:pt x="6215" y="5"/>
                      <a:pt x="6214" y="6"/>
                      <a:pt x="6213" y="6"/>
                    </a:cubicBezTo>
                    <a:lnTo>
                      <a:pt x="6213" y="6"/>
                    </a:lnTo>
                    <a:cubicBezTo>
                      <a:pt x="6212" y="6"/>
                      <a:pt x="6211" y="5"/>
                      <a:pt x="6211" y="4"/>
                    </a:cubicBezTo>
                    <a:cubicBezTo>
                      <a:pt x="6211" y="3"/>
                      <a:pt x="6212" y="2"/>
                      <a:pt x="6213" y="2"/>
                    </a:cubicBezTo>
                    <a:close/>
                    <a:moveTo>
                      <a:pt x="6221" y="2"/>
                    </a:moveTo>
                    <a:lnTo>
                      <a:pt x="6221" y="2"/>
                    </a:lnTo>
                    <a:cubicBezTo>
                      <a:pt x="6222" y="2"/>
                      <a:pt x="6223" y="3"/>
                      <a:pt x="6223" y="4"/>
                    </a:cubicBezTo>
                    <a:cubicBezTo>
                      <a:pt x="6223" y="5"/>
                      <a:pt x="6222" y="6"/>
                      <a:pt x="6221" y="6"/>
                    </a:cubicBezTo>
                    <a:lnTo>
                      <a:pt x="6221" y="6"/>
                    </a:lnTo>
                    <a:cubicBezTo>
                      <a:pt x="6220" y="6"/>
                      <a:pt x="6219" y="5"/>
                      <a:pt x="6219" y="4"/>
                    </a:cubicBezTo>
                    <a:cubicBezTo>
                      <a:pt x="6219" y="3"/>
                      <a:pt x="6220" y="2"/>
                      <a:pt x="6221" y="2"/>
                    </a:cubicBezTo>
                    <a:close/>
                    <a:moveTo>
                      <a:pt x="6229" y="2"/>
                    </a:moveTo>
                    <a:lnTo>
                      <a:pt x="6229" y="2"/>
                    </a:lnTo>
                    <a:cubicBezTo>
                      <a:pt x="6230" y="2"/>
                      <a:pt x="6231" y="3"/>
                      <a:pt x="6231" y="4"/>
                    </a:cubicBezTo>
                    <a:cubicBezTo>
                      <a:pt x="6231" y="5"/>
                      <a:pt x="6230" y="6"/>
                      <a:pt x="6229" y="6"/>
                    </a:cubicBezTo>
                    <a:lnTo>
                      <a:pt x="6229" y="6"/>
                    </a:lnTo>
                    <a:cubicBezTo>
                      <a:pt x="6228" y="6"/>
                      <a:pt x="6227" y="5"/>
                      <a:pt x="6227" y="4"/>
                    </a:cubicBezTo>
                    <a:cubicBezTo>
                      <a:pt x="6227" y="3"/>
                      <a:pt x="6228" y="2"/>
                      <a:pt x="6229" y="2"/>
                    </a:cubicBezTo>
                    <a:close/>
                    <a:moveTo>
                      <a:pt x="6237" y="2"/>
                    </a:moveTo>
                    <a:lnTo>
                      <a:pt x="6237" y="2"/>
                    </a:lnTo>
                    <a:cubicBezTo>
                      <a:pt x="6238" y="2"/>
                      <a:pt x="6239" y="3"/>
                      <a:pt x="6239" y="4"/>
                    </a:cubicBezTo>
                    <a:cubicBezTo>
                      <a:pt x="6239" y="5"/>
                      <a:pt x="6238" y="6"/>
                      <a:pt x="6237" y="6"/>
                    </a:cubicBezTo>
                    <a:lnTo>
                      <a:pt x="6237" y="6"/>
                    </a:lnTo>
                    <a:cubicBezTo>
                      <a:pt x="6236" y="6"/>
                      <a:pt x="6235" y="5"/>
                      <a:pt x="6235" y="4"/>
                    </a:cubicBezTo>
                    <a:cubicBezTo>
                      <a:pt x="6235" y="3"/>
                      <a:pt x="6236" y="2"/>
                      <a:pt x="6237" y="2"/>
                    </a:cubicBezTo>
                    <a:close/>
                    <a:moveTo>
                      <a:pt x="6245" y="2"/>
                    </a:moveTo>
                    <a:lnTo>
                      <a:pt x="6245" y="2"/>
                    </a:lnTo>
                    <a:cubicBezTo>
                      <a:pt x="6246" y="2"/>
                      <a:pt x="6247" y="3"/>
                      <a:pt x="6247" y="4"/>
                    </a:cubicBezTo>
                    <a:cubicBezTo>
                      <a:pt x="6247" y="5"/>
                      <a:pt x="6246" y="6"/>
                      <a:pt x="6245" y="6"/>
                    </a:cubicBezTo>
                    <a:lnTo>
                      <a:pt x="6245" y="6"/>
                    </a:lnTo>
                    <a:cubicBezTo>
                      <a:pt x="6244" y="6"/>
                      <a:pt x="6243" y="5"/>
                      <a:pt x="6243" y="4"/>
                    </a:cubicBezTo>
                    <a:cubicBezTo>
                      <a:pt x="6243" y="3"/>
                      <a:pt x="6244" y="2"/>
                      <a:pt x="6245" y="2"/>
                    </a:cubicBezTo>
                    <a:close/>
                    <a:moveTo>
                      <a:pt x="6253" y="2"/>
                    </a:moveTo>
                    <a:lnTo>
                      <a:pt x="6253" y="2"/>
                    </a:lnTo>
                    <a:cubicBezTo>
                      <a:pt x="6254" y="2"/>
                      <a:pt x="6255" y="3"/>
                      <a:pt x="6255" y="4"/>
                    </a:cubicBezTo>
                    <a:cubicBezTo>
                      <a:pt x="6255" y="5"/>
                      <a:pt x="6254" y="6"/>
                      <a:pt x="6253" y="6"/>
                    </a:cubicBezTo>
                    <a:lnTo>
                      <a:pt x="6253" y="6"/>
                    </a:lnTo>
                    <a:cubicBezTo>
                      <a:pt x="6252" y="6"/>
                      <a:pt x="6251" y="5"/>
                      <a:pt x="6251" y="4"/>
                    </a:cubicBezTo>
                    <a:cubicBezTo>
                      <a:pt x="6251" y="3"/>
                      <a:pt x="6252" y="2"/>
                      <a:pt x="6253" y="2"/>
                    </a:cubicBezTo>
                    <a:close/>
                    <a:moveTo>
                      <a:pt x="6261" y="2"/>
                    </a:moveTo>
                    <a:lnTo>
                      <a:pt x="6261" y="2"/>
                    </a:lnTo>
                    <a:cubicBezTo>
                      <a:pt x="6262" y="2"/>
                      <a:pt x="6263" y="3"/>
                      <a:pt x="6263" y="4"/>
                    </a:cubicBezTo>
                    <a:cubicBezTo>
                      <a:pt x="6263" y="5"/>
                      <a:pt x="6262" y="6"/>
                      <a:pt x="6261" y="6"/>
                    </a:cubicBezTo>
                    <a:lnTo>
                      <a:pt x="6261" y="6"/>
                    </a:lnTo>
                    <a:cubicBezTo>
                      <a:pt x="6260" y="6"/>
                      <a:pt x="6259" y="5"/>
                      <a:pt x="6259" y="4"/>
                    </a:cubicBezTo>
                    <a:cubicBezTo>
                      <a:pt x="6259" y="3"/>
                      <a:pt x="6260" y="2"/>
                      <a:pt x="6261" y="2"/>
                    </a:cubicBezTo>
                    <a:close/>
                    <a:moveTo>
                      <a:pt x="6269" y="2"/>
                    </a:moveTo>
                    <a:lnTo>
                      <a:pt x="6269" y="2"/>
                    </a:lnTo>
                    <a:cubicBezTo>
                      <a:pt x="6270" y="2"/>
                      <a:pt x="6271" y="3"/>
                      <a:pt x="6271" y="4"/>
                    </a:cubicBezTo>
                    <a:cubicBezTo>
                      <a:pt x="6271" y="5"/>
                      <a:pt x="6270" y="6"/>
                      <a:pt x="6269" y="6"/>
                    </a:cubicBezTo>
                    <a:lnTo>
                      <a:pt x="6269" y="6"/>
                    </a:lnTo>
                    <a:cubicBezTo>
                      <a:pt x="6268" y="6"/>
                      <a:pt x="6267" y="5"/>
                      <a:pt x="6267" y="4"/>
                    </a:cubicBezTo>
                    <a:cubicBezTo>
                      <a:pt x="6267" y="3"/>
                      <a:pt x="6268" y="2"/>
                      <a:pt x="6269" y="2"/>
                    </a:cubicBezTo>
                    <a:close/>
                    <a:moveTo>
                      <a:pt x="6277" y="2"/>
                    </a:moveTo>
                    <a:lnTo>
                      <a:pt x="6277" y="2"/>
                    </a:lnTo>
                    <a:cubicBezTo>
                      <a:pt x="6278" y="2"/>
                      <a:pt x="6279" y="3"/>
                      <a:pt x="6279" y="4"/>
                    </a:cubicBezTo>
                    <a:cubicBezTo>
                      <a:pt x="6279" y="5"/>
                      <a:pt x="6278" y="6"/>
                      <a:pt x="6277" y="6"/>
                    </a:cubicBezTo>
                    <a:lnTo>
                      <a:pt x="6277" y="6"/>
                    </a:lnTo>
                    <a:cubicBezTo>
                      <a:pt x="6276" y="6"/>
                      <a:pt x="6275" y="5"/>
                      <a:pt x="6275" y="4"/>
                    </a:cubicBezTo>
                    <a:cubicBezTo>
                      <a:pt x="6275" y="3"/>
                      <a:pt x="6276" y="2"/>
                      <a:pt x="6277" y="2"/>
                    </a:cubicBezTo>
                    <a:close/>
                    <a:moveTo>
                      <a:pt x="6285" y="2"/>
                    </a:moveTo>
                    <a:lnTo>
                      <a:pt x="6285" y="2"/>
                    </a:lnTo>
                    <a:cubicBezTo>
                      <a:pt x="6286" y="2"/>
                      <a:pt x="6287" y="3"/>
                      <a:pt x="6287" y="4"/>
                    </a:cubicBezTo>
                    <a:cubicBezTo>
                      <a:pt x="6287" y="5"/>
                      <a:pt x="6286" y="6"/>
                      <a:pt x="6285" y="6"/>
                    </a:cubicBezTo>
                    <a:lnTo>
                      <a:pt x="6285" y="6"/>
                    </a:lnTo>
                    <a:cubicBezTo>
                      <a:pt x="6284" y="6"/>
                      <a:pt x="6283" y="5"/>
                      <a:pt x="6283" y="4"/>
                    </a:cubicBezTo>
                    <a:cubicBezTo>
                      <a:pt x="6283" y="3"/>
                      <a:pt x="6284" y="2"/>
                      <a:pt x="6285" y="2"/>
                    </a:cubicBezTo>
                    <a:close/>
                    <a:moveTo>
                      <a:pt x="6293" y="2"/>
                    </a:moveTo>
                    <a:lnTo>
                      <a:pt x="6293" y="2"/>
                    </a:lnTo>
                    <a:cubicBezTo>
                      <a:pt x="6294" y="2"/>
                      <a:pt x="6295" y="3"/>
                      <a:pt x="6295" y="4"/>
                    </a:cubicBezTo>
                    <a:cubicBezTo>
                      <a:pt x="6295" y="5"/>
                      <a:pt x="6294" y="6"/>
                      <a:pt x="6293" y="6"/>
                    </a:cubicBezTo>
                    <a:lnTo>
                      <a:pt x="6293" y="6"/>
                    </a:lnTo>
                    <a:cubicBezTo>
                      <a:pt x="6292" y="6"/>
                      <a:pt x="6291" y="5"/>
                      <a:pt x="6291" y="4"/>
                    </a:cubicBezTo>
                    <a:cubicBezTo>
                      <a:pt x="6291" y="3"/>
                      <a:pt x="6292" y="2"/>
                      <a:pt x="6293" y="2"/>
                    </a:cubicBezTo>
                    <a:close/>
                    <a:moveTo>
                      <a:pt x="6301" y="2"/>
                    </a:moveTo>
                    <a:lnTo>
                      <a:pt x="6301" y="2"/>
                    </a:lnTo>
                    <a:cubicBezTo>
                      <a:pt x="6302" y="2"/>
                      <a:pt x="6303" y="3"/>
                      <a:pt x="6303" y="4"/>
                    </a:cubicBezTo>
                    <a:cubicBezTo>
                      <a:pt x="6303" y="5"/>
                      <a:pt x="6302" y="6"/>
                      <a:pt x="6301" y="6"/>
                    </a:cubicBezTo>
                    <a:lnTo>
                      <a:pt x="6301" y="6"/>
                    </a:lnTo>
                    <a:cubicBezTo>
                      <a:pt x="6300" y="6"/>
                      <a:pt x="6299" y="5"/>
                      <a:pt x="6299" y="4"/>
                    </a:cubicBezTo>
                    <a:cubicBezTo>
                      <a:pt x="6299" y="3"/>
                      <a:pt x="6300" y="2"/>
                      <a:pt x="6301" y="2"/>
                    </a:cubicBezTo>
                    <a:close/>
                    <a:moveTo>
                      <a:pt x="6309" y="2"/>
                    </a:moveTo>
                    <a:lnTo>
                      <a:pt x="6309" y="2"/>
                    </a:lnTo>
                    <a:cubicBezTo>
                      <a:pt x="6310" y="2"/>
                      <a:pt x="6311" y="3"/>
                      <a:pt x="6311" y="4"/>
                    </a:cubicBezTo>
                    <a:cubicBezTo>
                      <a:pt x="6311" y="5"/>
                      <a:pt x="6310" y="6"/>
                      <a:pt x="6309" y="6"/>
                    </a:cubicBezTo>
                    <a:lnTo>
                      <a:pt x="6309" y="6"/>
                    </a:lnTo>
                    <a:cubicBezTo>
                      <a:pt x="6308" y="6"/>
                      <a:pt x="6307" y="5"/>
                      <a:pt x="6307" y="4"/>
                    </a:cubicBezTo>
                    <a:cubicBezTo>
                      <a:pt x="6307" y="3"/>
                      <a:pt x="6308" y="2"/>
                      <a:pt x="6309" y="2"/>
                    </a:cubicBezTo>
                    <a:close/>
                    <a:moveTo>
                      <a:pt x="6317" y="2"/>
                    </a:moveTo>
                    <a:lnTo>
                      <a:pt x="6317" y="2"/>
                    </a:lnTo>
                    <a:cubicBezTo>
                      <a:pt x="6318" y="2"/>
                      <a:pt x="6319" y="3"/>
                      <a:pt x="6319" y="4"/>
                    </a:cubicBezTo>
                    <a:cubicBezTo>
                      <a:pt x="6319" y="5"/>
                      <a:pt x="6318" y="6"/>
                      <a:pt x="6317" y="6"/>
                    </a:cubicBezTo>
                    <a:lnTo>
                      <a:pt x="6317" y="6"/>
                    </a:lnTo>
                    <a:cubicBezTo>
                      <a:pt x="6316" y="6"/>
                      <a:pt x="6315" y="5"/>
                      <a:pt x="6315" y="4"/>
                    </a:cubicBezTo>
                    <a:cubicBezTo>
                      <a:pt x="6315" y="3"/>
                      <a:pt x="6316" y="2"/>
                      <a:pt x="6317" y="2"/>
                    </a:cubicBezTo>
                    <a:close/>
                    <a:moveTo>
                      <a:pt x="6325" y="2"/>
                    </a:moveTo>
                    <a:lnTo>
                      <a:pt x="6325" y="2"/>
                    </a:lnTo>
                    <a:cubicBezTo>
                      <a:pt x="6326" y="2"/>
                      <a:pt x="6327" y="3"/>
                      <a:pt x="6327" y="4"/>
                    </a:cubicBezTo>
                    <a:cubicBezTo>
                      <a:pt x="6327" y="5"/>
                      <a:pt x="6326" y="6"/>
                      <a:pt x="6325" y="6"/>
                    </a:cubicBezTo>
                    <a:lnTo>
                      <a:pt x="6325" y="6"/>
                    </a:lnTo>
                    <a:cubicBezTo>
                      <a:pt x="6324" y="6"/>
                      <a:pt x="6323" y="5"/>
                      <a:pt x="6323" y="4"/>
                    </a:cubicBezTo>
                    <a:cubicBezTo>
                      <a:pt x="6323" y="3"/>
                      <a:pt x="6324" y="2"/>
                      <a:pt x="6325" y="2"/>
                    </a:cubicBezTo>
                    <a:close/>
                    <a:moveTo>
                      <a:pt x="6333" y="2"/>
                    </a:moveTo>
                    <a:lnTo>
                      <a:pt x="6333" y="2"/>
                    </a:lnTo>
                    <a:cubicBezTo>
                      <a:pt x="6334" y="2"/>
                      <a:pt x="6335" y="3"/>
                      <a:pt x="6335" y="4"/>
                    </a:cubicBezTo>
                    <a:cubicBezTo>
                      <a:pt x="6335" y="5"/>
                      <a:pt x="6334" y="6"/>
                      <a:pt x="6333" y="6"/>
                    </a:cubicBezTo>
                    <a:lnTo>
                      <a:pt x="6333" y="6"/>
                    </a:lnTo>
                    <a:cubicBezTo>
                      <a:pt x="6332" y="6"/>
                      <a:pt x="6331" y="5"/>
                      <a:pt x="6331" y="4"/>
                    </a:cubicBezTo>
                    <a:cubicBezTo>
                      <a:pt x="6331" y="3"/>
                      <a:pt x="6332" y="2"/>
                      <a:pt x="6333" y="2"/>
                    </a:cubicBezTo>
                    <a:close/>
                    <a:moveTo>
                      <a:pt x="6341" y="2"/>
                    </a:moveTo>
                    <a:lnTo>
                      <a:pt x="6341" y="2"/>
                    </a:lnTo>
                    <a:cubicBezTo>
                      <a:pt x="6342" y="2"/>
                      <a:pt x="6343" y="3"/>
                      <a:pt x="6343" y="4"/>
                    </a:cubicBezTo>
                    <a:cubicBezTo>
                      <a:pt x="6343" y="5"/>
                      <a:pt x="6342" y="6"/>
                      <a:pt x="6341" y="6"/>
                    </a:cubicBezTo>
                    <a:lnTo>
                      <a:pt x="6341" y="6"/>
                    </a:lnTo>
                    <a:cubicBezTo>
                      <a:pt x="6340" y="6"/>
                      <a:pt x="6339" y="5"/>
                      <a:pt x="6339" y="4"/>
                    </a:cubicBezTo>
                    <a:cubicBezTo>
                      <a:pt x="6339" y="3"/>
                      <a:pt x="6340" y="2"/>
                      <a:pt x="6341" y="2"/>
                    </a:cubicBezTo>
                    <a:close/>
                    <a:moveTo>
                      <a:pt x="6349" y="2"/>
                    </a:moveTo>
                    <a:lnTo>
                      <a:pt x="6349" y="2"/>
                    </a:lnTo>
                    <a:cubicBezTo>
                      <a:pt x="6350" y="2"/>
                      <a:pt x="6351" y="3"/>
                      <a:pt x="6351" y="4"/>
                    </a:cubicBezTo>
                    <a:cubicBezTo>
                      <a:pt x="6351" y="5"/>
                      <a:pt x="6350" y="6"/>
                      <a:pt x="6349" y="6"/>
                    </a:cubicBezTo>
                    <a:lnTo>
                      <a:pt x="6349" y="6"/>
                    </a:lnTo>
                    <a:cubicBezTo>
                      <a:pt x="6348" y="6"/>
                      <a:pt x="6347" y="5"/>
                      <a:pt x="6347" y="4"/>
                    </a:cubicBezTo>
                    <a:cubicBezTo>
                      <a:pt x="6347" y="3"/>
                      <a:pt x="6348" y="2"/>
                      <a:pt x="6349" y="2"/>
                    </a:cubicBezTo>
                    <a:close/>
                    <a:moveTo>
                      <a:pt x="6357" y="2"/>
                    </a:moveTo>
                    <a:lnTo>
                      <a:pt x="6357" y="2"/>
                    </a:lnTo>
                    <a:cubicBezTo>
                      <a:pt x="6358" y="2"/>
                      <a:pt x="6359" y="3"/>
                      <a:pt x="6359" y="4"/>
                    </a:cubicBezTo>
                    <a:cubicBezTo>
                      <a:pt x="6359" y="5"/>
                      <a:pt x="6358" y="6"/>
                      <a:pt x="6357" y="6"/>
                    </a:cubicBezTo>
                    <a:lnTo>
                      <a:pt x="6357" y="6"/>
                    </a:lnTo>
                    <a:cubicBezTo>
                      <a:pt x="6356" y="6"/>
                      <a:pt x="6355" y="5"/>
                      <a:pt x="6355" y="4"/>
                    </a:cubicBezTo>
                    <a:cubicBezTo>
                      <a:pt x="6355" y="3"/>
                      <a:pt x="6356" y="2"/>
                      <a:pt x="6357" y="2"/>
                    </a:cubicBezTo>
                    <a:close/>
                    <a:moveTo>
                      <a:pt x="6365" y="2"/>
                    </a:moveTo>
                    <a:lnTo>
                      <a:pt x="6365" y="2"/>
                    </a:lnTo>
                    <a:cubicBezTo>
                      <a:pt x="6366" y="2"/>
                      <a:pt x="6367" y="3"/>
                      <a:pt x="6367" y="4"/>
                    </a:cubicBezTo>
                    <a:cubicBezTo>
                      <a:pt x="6367" y="5"/>
                      <a:pt x="6366" y="6"/>
                      <a:pt x="6365" y="6"/>
                    </a:cubicBezTo>
                    <a:lnTo>
                      <a:pt x="6365" y="6"/>
                    </a:lnTo>
                    <a:cubicBezTo>
                      <a:pt x="6364" y="6"/>
                      <a:pt x="6363" y="5"/>
                      <a:pt x="6363" y="4"/>
                    </a:cubicBezTo>
                    <a:cubicBezTo>
                      <a:pt x="6363" y="3"/>
                      <a:pt x="6364" y="2"/>
                      <a:pt x="6365" y="2"/>
                    </a:cubicBezTo>
                    <a:close/>
                    <a:moveTo>
                      <a:pt x="6373" y="2"/>
                    </a:moveTo>
                    <a:lnTo>
                      <a:pt x="6373" y="2"/>
                    </a:lnTo>
                    <a:cubicBezTo>
                      <a:pt x="6374" y="2"/>
                      <a:pt x="6375" y="3"/>
                      <a:pt x="6375" y="4"/>
                    </a:cubicBezTo>
                    <a:cubicBezTo>
                      <a:pt x="6375" y="5"/>
                      <a:pt x="6374" y="6"/>
                      <a:pt x="6373" y="6"/>
                    </a:cubicBezTo>
                    <a:lnTo>
                      <a:pt x="6373" y="6"/>
                    </a:lnTo>
                    <a:cubicBezTo>
                      <a:pt x="6372" y="6"/>
                      <a:pt x="6371" y="5"/>
                      <a:pt x="6371" y="4"/>
                    </a:cubicBezTo>
                    <a:cubicBezTo>
                      <a:pt x="6371" y="3"/>
                      <a:pt x="6372" y="2"/>
                      <a:pt x="6373" y="2"/>
                    </a:cubicBezTo>
                    <a:close/>
                    <a:moveTo>
                      <a:pt x="6381" y="2"/>
                    </a:moveTo>
                    <a:lnTo>
                      <a:pt x="6381" y="2"/>
                    </a:lnTo>
                    <a:cubicBezTo>
                      <a:pt x="6382" y="2"/>
                      <a:pt x="6383" y="3"/>
                      <a:pt x="6383" y="4"/>
                    </a:cubicBezTo>
                    <a:cubicBezTo>
                      <a:pt x="6383" y="5"/>
                      <a:pt x="6382" y="6"/>
                      <a:pt x="6381" y="6"/>
                    </a:cubicBezTo>
                    <a:lnTo>
                      <a:pt x="6381" y="6"/>
                    </a:lnTo>
                    <a:cubicBezTo>
                      <a:pt x="6380" y="6"/>
                      <a:pt x="6379" y="5"/>
                      <a:pt x="6379" y="4"/>
                    </a:cubicBezTo>
                    <a:cubicBezTo>
                      <a:pt x="6379" y="3"/>
                      <a:pt x="6380" y="2"/>
                      <a:pt x="6381" y="2"/>
                    </a:cubicBezTo>
                    <a:close/>
                    <a:moveTo>
                      <a:pt x="6389" y="2"/>
                    </a:moveTo>
                    <a:lnTo>
                      <a:pt x="6389" y="2"/>
                    </a:lnTo>
                    <a:cubicBezTo>
                      <a:pt x="6390" y="2"/>
                      <a:pt x="6391" y="3"/>
                      <a:pt x="6391" y="4"/>
                    </a:cubicBezTo>
                    <a:cubicBezTo>
                      <a:pt x="6391" y="5"/>
                      <a:pt x="6390" y="6"/>
                      <a:pt x="6389" y="6"/>
                    </a:cubicBezTo>
                    <a:lnTo>
                      <a:pt x="6389" y="6"/>
                    </a:lnTo>
                    <a:cubicBezTo>
                      <a:pt x="6388" y="6"/>
                      <a:pt x="6387" y="5"/>
                      <a:pt x="6387" y="4"/>
                    </a:cubicBezTo>
                    <a:cubicBezTo>
                      <a:pt x="6387" y="3"/>
                      <a:pt x="6388" y="2"/>
                      <a:pt x="6389" y="2"/>
                    </a:cubicBezTo>
                    <a:close/>
                    <a:moveTo>
                      <a:pt x="6397" y="2"/>
                    </a:moveTo>
                    <a:lnTo>
                      <a:pt x="6397" y="2"/>
                    </a:lnTo>
                    <a:cubicBezTo>
                      <a:pt x="6398" y="2"/>
                      <a:pt x="6399" y="3"/>
                      <a:pt x="6399" y="4"/>
                    </a:cubicBezTo>
                    <a:cubicBezTo>
                      <a:pt x="6399" y="5"/>
                      <a:pt x="6398" y="6"/>
                      <a:pt x="6397" y="6"/>
                    </a:cubicBezTo>
                    <a:lnTo>
                      <a:pt x="6397" y="6"/>
                    </a:lnTo>
                    <a:cubicBezTo>
                      <a:pt x="6396" y="6"/>
                      <a:pt x="6395" y="5"/>
                      <a:pt x="6395" y="4"/>
                    </a:cubicBezTo>
                    <a:cubicBezTo>
                      <a:pt x="6395" y="3"/>
                      <a:pt x="6396" y="2"/>
                      <a:pt x="6397" y="2"/>
                    </a:cubicBezTo>
                    <a:close/>
                    <a:moveTo>
                      <a:pt x="6405" y="2"/>
                    </a:moveTo>
                    <a:lnTo>
                      <a:pt x="6405" y="2"/>
                    </a:lnTo>
                    <a:cubicBezTo>
                      <a:pt x="6406" y="2"/>
                      <a:pt x="6407" y="3"/>
                      <a:pt x="6407" y="4"/>
                    </a:cubicBezTo>
                    <a:cubicBezTo>
                      <a:pt x="6407" y="5"/>
                      <a:pt x="6406" y="6"/>
                      <a:pt x="6405" y="6"/>
                    </a:cubicBezTo>
                    <a:lnTo>
                      <a:pt x="6405" y="6"/>
                    </a:lnTo>
                    <a:cubicBezTo>
                      <a:pt x="6404" y="6"/>
                      <a:pt x="6403" y="5"/>
                      <a:pt x="6403" y="4"/>
                    </a:cubicBezTo>
                    <a:cubicBezTo>
                      <a:pt x="6403" y="3"/>
                      <a:pt x="6404" y="2"/>
                      <a:pt x="6405" y="2"/>
                    </a:cubicBezTo>
                    <a:close/>
                    <a:moveTo>
                      <a:pt x="6413" y="2"/>
                    </a:moveTo>
                    <a:lnTo>
                      <a:pt x="6413" y="2"/>
                    </a:lnTo>
                    <a:cubicBezTo>
                      <a:pt x="6414" y="2"/>
                      <a:pt x="6415" y="3"/>
                      <a:pt x="6415" y="4"/>
                    </a:cubicBezTo>
                    <a:cubicBezTo>
                      <a:pt x="6415" y="5"/>
                      <a:pt x="6414" y="6"/>
                      <a:pt x="6413" y="6"/>
                    </a:cubicBezTo>
                    <a:lnTo>
                      <a:pt x="6413" y="6"/>
                    </a:lnTo>
                    <a:cubicBezTo>
                      <a:pt x="6412" y="6"/>
                      <a:pt x="6411" y="5"/>
                      <a:pt x="6411" y="4"/>
                    </a:cubicBezTo>
                    <a:cubicBezTo>
                      <a:pt x="6411" y="3"/>
                      <a:pt x="6412" y="2"/>
                      <a:pt x="6413" y="2"/>
                    </a:cubicBezTo>
                    <a:close/>
                    <a:moveTo>
                      <a:pt x="6421" y="2"/>
                    </a:moveTo>
                    <a:lnTo>
                      <a:pt x="6421" y="2"/>
                    </a:lnTo>
                    <a:cubicBezTo>
                      <a:pt x="6422" y="2"/>
                      <a:pt x="6423" y="3"/>
                      <a:pt x="6423" y="4"/>
                    </a:cubicBezTo>
                    <a:cubicBezTo>
                      <a:pt x="6423" y="5"/>
                      <a:pt x="6422" y="6"/>
                      <a:pt x="6421" y="6"/>
                    </a:cubicBezTo>
                    <a:lnTo>
                      <a:pt x="6421" y="6"/>
                    </a:lnTo>
                    <a:cubicBezTo>
                      <a:pt x="6420" y="6"/>
                      <a:pt x="6419" y="5"/>
                      <a:pt x="6419" y="4"/>
                    </a:cubicBezTo>
                    <a:cubicBezTo>
                      <a:pt x="6419" y="3"/>
                      <a:pt x="6420" y="2"/>
                      <a:pt x="6421" y="2"/>
                    </a:cubicBezTo>
                    <a:close/>
                    <a:moveTo>
                      <a:pt x="6429" y="2"/>
                    </a:moveTo>
                    <a:lnTo>
                      <a:pt x="6429" y="2"/>
                    </a:lnTo>
                    <a:cubicBezTo>
                      <a:pt x="6430" y="2"/>
                      <a:pt x="6431" y="3"/>
                      <a:pt x="6431" y="4"/>
                    </a:cubicBezTo>
                    <a:cubicBezTo>
                      <a:pt x="6431" y="5"/>
                      <a:pt x="6430" y="6"/>
                      <a:pt x="6429" y="6"/>
                    </a:cubicBezTo>
                    <a:lnTo>
                      <a:pt x="6429" y="6"/>
                    </a:lnTo>
                    <a:cubicBezTo>
                      <a:pt x="6428" y="6"/>
                      <a:pt x="6427" y="5"/>
                      <a:pt x="6427" y="4"/>
                    </a:cubicBezTo>
                    <a:cubicBezTo>
                      <a:pt x="6427" y="3"/>
                      <a:pt x="6428" y="2"/>
                      <a:pt x="6429" y="2"/>
                    </a:cubicBezTo>
                    <a:close/>
                    <a:moveTo>
                      <a:pt x="6437" y="2"/>
                    </a:moveTo>
                    <a:lnTo>
                      <a:pt x="6437" y="2"/>
                    </a:lnTo>
                    <a:cubicBezTo>
                      <a:pt x="6438" y="2"/>
                      <a:pt x="6439" y="3"/>
                      <a:pt x="6439" y="4"/>
                    </a:cubicBezTo>
                    <a:cubicBezTo>
                      <a:pt x="6439" y="5"/>
                      <a:pt x="6438" y="6"/>
                      <a:pt x="6437" y="6"/>
                    </a:cubicBezTo>
                    <a:lnTo>
                      <a:pt x="6437" y="6"/>
                    </a:lnTo>
                    <a:cubicBezTo>
                      <a:pt x="6436" y="6"/>
                      <a:pt x="6435" y="5"/>
                      <a:pt x="6435" y="4"/>
                    </a:cubicBezTo>
                    <a:cubicBezTo>
                      <a:pt x="6435" y="3"/>
                      <a:pt x="6436" y="2"/>
                      <a:pt x="6437" y="2"/>
                    </a:cubicBezTo>
                    <a:close/>
                    <a:moveTo>
                      <a:pt x="6445" y="2"/>
                    </a:moveTo>
                    <a:lnTo>
                      <a:pt x="6445" y="2"/>
                    </a:lnTo>
                    <a:cubicBezTo>
                      <a:pt x="6446" y="2"/>
                      <a:pt x="6447" y="3"/>
                      <a:pt x="6447" y="4"/>
                    </a:cubicBezTo>
                    <a:cubicBezTo>
                      <a:pt x="6447" y="5"/>
                      <a:pt x="6446" y="6"/>
                      <a:pt x="6445" y="6"/>
                    </a:cubicBezTo>
                    <a:lnTo>
                      <a:pt x="6445" y="6"/>
                    </a:lnTo>
                    <a:cubicBezTo>
                      <a:pt x="6444" y="6"/>
                      <a:pt x="6443" y="5"/>
                      <a:pt x="6443" y="4"/>
                    </a:cubicBezTo>
                    <a:cubicBezTo>
                      <a:pt x="6443" y="3"/>
                      <a:pt x="6444" y="2"/>
                      <a:pt x="6445" y="2"/>
                    </a:cubicBezTo>
                    <a:close/>
                    <a:moveTo>
                      <a:pt x="6453" y="2"/>
                    </a:moveTo>
                    <a:lnTo>
                      <a:pt x="6453" y="2"/>
                    </a:lnTo>
                    <a:cubicBezTo>
                      <a:pt x="6454" y="2"/>
                      <a:pt x="6455" y="3"/>
                      <a:pt x="6455" y="4"/>
                    </a:cubicBezTo>
                    <a:cubicBezTo>
                      <a:pt x="6455" y="5"/>
                      <a:pt x="6454" y="6"/>
                      <a:pt x="6453" y="6"/>
                    </a:cubicBezTo>
                    <a:lnTo>
                      <a:pt x="6453" y="6"/>
                    </a:lnTo>
                    <a:cubicBezTo>
                      <a:pt x="6452" y="6"/>
                      <a:pt x="6451" y="5"/>
                      <a:pt x="6451" y="4"/>
                    </a:cubicBezTo>
                    <a:cubicBezTo>
                      <a:pt x="6451" y="3"/>
                      <a:pt x="6452" y="2"/>
                      <a:pt x="6453" y="2"/>
                    </a:cubicBezTo>
                    <a:close/>
                    <a:moveTo>
                      <a:pt x="6461" y="2"/>
                    </a:moveTo>
                    <a:lnTo>
                      <a:pt x="6461" y="2"/>
                    </a:lnTo>
                    <a:cubicBezTo>
                      <a:pt x="6462" y="2"/>
                      <a:pt x="6463" y="3"/>
                      <a:pt x="6463" y="4"/>
                    </a:cubicBezTo>
                    <a:cubicBezTo>
                      <a:pt x="6463" y="5"/>
                      <a:pt x="6462" y="6"/>
                      <a:pt x="6461" y="6"/>
                    </a:cubicBezTo>
                    <a:lnTo>
                      <a:pt x="6461" y="6"/>
                    </a:lnTo>
                    <a:cubicBezTo>
                      <a:pt x="6460" y="6"/>
                      <a:pt x="6459" y="5"/>
                      <a:pt x="6459" y="4"/>
                    </a:cubicBezTo>
                    <a:cubicBezTo>
                      <a:pt x="6459" y="3"/>
                      <a:pt x="6460" y="2"/>
                      <a:pt x="6461" y="2"/>
                    </a:cubicBezTo>
                    <a:close/>
                    <a:moveTo>
                      <a:pt x="6469" y="2"/>
                    </a:moveTo>
                    <a:lnTo>
                      <a:pt x="6469" y="2"/>
                    </a:lnTo>
                    <a:cubicBezTo>
                      <a:pt x="6470" y="2"/>
                      <a:pt x="6471" y="3"/>
                      <a:pt x="6471" y="4"/>
                    </a:cubicBezTo>
                    <a:cubicBezTo>
                      <a:pt x="6471" y="5"/>
                      <a:pt x="6470" y="6"/>
                      <a:pt x="6469" y="6"/>
                    </a:cubicBezTo>
                    <a:lnTo>
                      <a:pt x="6469" y="6"/>
                    </a:lnTo>
                    <a:cubicBezTo>
                      <a:pt x="6468" y="6"/>
                      <a:pt x="6467" y="5"/>
                      <a:pt x="6467" y="4"/>
                    </a:cubicBezTo>
                    <a:cubicBezTo>
                      <a:pt x="6467" y="3"/>
                      <a:pt x="6468" y="2"/>
                      <a:pt x="6469" y="2"/>
                    </a:cubicBezTo>
                    <a:close/>
                    <a:moveTo>
                      <a:pt x="6477" y="2"/>
                    </a:moveTo>
                    <a:lnTo>
                      <a:pt x="6477" y="2"/>
                    </a:lnTo>
                    <a:cubicBezTo>
                      <a:pt x="6478" y="2"/>
                      <a:pt x="6479" y="3"/>
                      <a:pt x="6479" y="4"/>
                    </a:cubicBezTo>
                    <a:cubicBezTo>
                      <a:pt x="6479" y="5"/>
                      <a:pt x="6478" y="6"/>
                      <a:pt x="6477" y="6"/>
                    </a:cubicBezTo>
                    <a:lnTo>
                      <a:pt x="6477" y="6"/>
                    </a:lnTo>
                    <a:cubicBezTo>
                      <a:pt x="6476" y="6"/>
                      <a:pt x="6475" y="5"/>
                      <a:pt x="6475" y="4"/>
                    </a:cubicBezTo>
                    <a:cubicBezTo>
                      <a:pt x="6475" y="3"/>
                      <a:pt x="6476" y="2"/>
                      <a:pt x="6477" y="2"/>
                    </a:cubicBezTo>
                    <a:close/>
                    <a:moveTo>
                      <a:pt x="6485" y="2"/>
                    </a:moveTo>
                    <a:lnTo>
                      <a:pt x="6485" y="2"/>
                    </a:lnTo>
                    <a:cubicBezTo>
                      <a:pt x="6486" y="2"/>
                      <a:pt x="6487" y="3"/>
                      <a:pt x="6487" y="4"/>
                    </a:cubicBezTo>
                    <a:cubicBezTo>
                      <a:pt x="6487" y="5"/>
                      <a:pt x="6486" y="6"/>
                      <a:pt x="6485" y="6"/>
                    </a:cubicBezTo>
                    <a:lnTo>
                      <a:pt x="6485" y="6"/>
                    </a:lnTo>
                    <a:cubicBezTo>
                      <a:pt x="6484" y="6"/>
                      <a:pt x="6483" y="5"/>
                      <a:pt x="6483" y="4"/>
                    </a:cubicBezTo>
                    <a:cubicBezTo>
                      <a:pt x="6483" y="3"/>
                      <a:pt x="6484" y="2"/>
                      <a:pt x="6485" y="2"/>
                    </a:cubicBezTo>
                    <a:close/>
                    <a:moveTo>
                      <a:pt x="6493" y="2"/>
                    </a:moveTo>
                    <a:lnTo>
                      <a:pt x="6493" y="2"/>
                    </a:lnTo>
                    <a:cubicBezTo>
                      <a:pt x="6494" y="2"/>
                      <a:pt x="6495" y="3"/>
                      <a:pt x="6495" y="4"/>
                    </a:cubicBezTo>
                    <a:cubicBezTo>
                      <a:pt x="6495" y="5"/>
                      <a:pt x="6494" y="6"/>
                      <a:pt x="6493" y="6"/>
                    </a:cubicBezTo>
                    <a:lnTo>
                      <a:pt x="6493" y="6"/>
                    </a:lnTo>
                    <a:cubicBezTo>
                      <a:pt x="6492" y="6"/>
                      <a:pt x="6491" y="5"/>
                      <a:pt x="6491" y="4"/>
                    </a:cubicBezTo>
                    <a:cubicBezTo>
                      <a:pt x="6491" y="3"/>
                      <a:pt x="6492" y="2"/>
                      <a:pt x="6493" y="2"/>
                    </a:cubicBezTo>
                    <a:close/>
                    <a:moveTo>
                      <a:pt x="6501" y="2"/>
                    </a:moveTo>
                    <a:lnTo>
                      <a:pt x="6501" y="2"/>
                    </a:lnTo>
                    <a:cubicBezTo>
                      <a:pt x="6502" y="2"/>
                      <a:pt x="6503" y="3"/>
                      <a:pt x="6503" y="4"/>
                    </a:cubicBezTo>
                    <a:cubicBezTo>
                      <a:pt x="6503" y="5"/>
                      <a:pt x="6502" y="6"/>
                      <a:pt x="6501" y="6"/>
                    </a:cubicBezTo>
                    <a:lnTo>
                      <a:pt x="6501" y="6"/>
                    </a:lnTo>
                    <a:cubicBezTo>
                      <a:pt x="6500" y="6"/>
                      <a:pt x="6499" y="5"/>
                      <a:pt x="6499" y="4"/>
                    </a:cubicBezTo>
                    <a:cubicBezTo>
                      <a:pt x="6499" y="3"/>
                      <a:pt x="6500" y="2"/>
                      <a:pt x="6501" y="2"/>
                    </a:cubicBezTo>
                    <a:close/>
                    <a:moveTo>
                      <a:pt x="6509" y="2"/>
                    </a:moveTo>
                    <a:lnTo>
                      <a:pt x="6509" y="2"/>
                    </a:lnTo>
                    <a:cubicBezTo>
                      <a:pt x="6510" y="2"/>
                      <a:pt x="6511" y="3"/>
                      <a:pt x="6511" y="4"/>
                    </a:cubicBezTo>
                    <a:cubicBezTo>
                      <a:pt x="6511" y="5"/>
                      <a:pt x="6510" y="6"/>
                      <a:pt x="6509" y="6"/>
                    </a:cubicBezTo>
                    <a:lnTo>
                      <a:pt x="6509" y="6"/>
                    </a:lnTo>
                    <a:cubicBezTo>
                      <a:pt x="6508" y="6"/>
                      <a:pt x="6507" y="5"/>
                      <a:pt x="6507" y="4"/>
                    </a:cubicBezTo>
                    <a:cubicBezTo>
                      <a:pt x="6507" y="3"/>
                      <a:pt x="6508" y="2"/>
                      <a:pt x="6509" y="2"/>
                    </a:cubicBezTo>
                    <a:close/>
                    <a:moveTo>
                      <a:pt x="6517" y="2"/>
                    </a:moveTo>
                    <a:lnTo>
                      <a:pt x="6517" y="2"/>
                    </a:lnTo>
                    <a:cubicBezTo>
                      <a:pt x="6518" y="2"/>
                      <a:pt x="6519" y="3"/>
                      <a:pt x="6519" y="4"/>
                    </a:cubicBezTo>
                    <a:cubicBezTo>
                      <a:pt x="6519" y="5"/>
                      <a:pt x="6518" y="6"/>
                      <a:pt x="6517" y="6"/>
                    </a:cubicBezTo>
                    <a:lnTo>
                      <a:pt x="6517" y="6"/>
                    </a:lnTo>
                    <a:cubicBezTo>
                      <a:pt x="6516" y="6"/>
                      <a:pt x="6515" y="5"/>
                      <a:pt x="6515" y="4"/>
                    </a:cubicBezTo>
                    <a:cubicBezTo>
                      <a:pt x="6515" y="3"/>
                      <a:pt x="6516" y="2"/>
                      <a:pt x="6517" y="2"/>
                    </a:cubicBezTo>
                    <a:close/>
                    <a:moveTo>
                      <a:pt x="6525" y="2"/>
                    </a:moveTo>
                    <a:lnTo>
                      <a:pt x="6525" y="2"/>
                    </a:lnTo>
                    <a:cubicBezTo>
                      <a:pt x="6526" y="2"/>
                      <a:pt x="6527" y="3"/>
                      <a:pt x="6527" y="4"/>
                    </a:cubicBezTo>
                    <a:cubicBezTo>
                      <a:pt x="6527" y="5"/>
                      <a:pt x="6526" y="6"/>
                      <a:pt x="6525" y="6"/>
                    </a:cubicBezTo>
                    <a:lnTo>
                      <a:pt x="6525" y="6"/>
                    </a:lnTo>
                    <a:cubicBezTo>
                      <a:pt x="6524" y="6"/>
                      <a:pt x="6523" y="5"/>
                      <a:pt x="6523" y="4"/>
                    </a:cubicBezTo>
                    <a:cubicBezTo>
                      <a:pt x="6523" y="3"/>
                      <a:pt x="6524" y="2"/>
                      <a:pt x="6525" y="2"/>
                    </a:cubicBezTo>
                    <a:close/>
                    <a:moveTo>
                      <a:pt x="6533" y="2"/>
                    </a:moveTo>
                    <a:lnTo>
                      <a:pt x="6533" y="2"/>
                    </a:lnTo>
                    <a:cubicBezTo>
                      <a:pt x="6534" y="2"/>
                      <a:pt x="6535" y="3"/>
                      <a:pt x="6535" y="4"/>
                    </a:cubicBezTo>
                    <a:cubicBezTo>
                      <a:pt x="6535" y="5"/>
                      <a:pt x="6534" y="6"/>
                      <a:pt x="6533" y="6"/>
                    </a:cubicBezTo>
                    <a:lnTo>
                      <a:pt x="6533" y="6"/>
                    </a:lnTo>
                    <a:cubicBezTo>
                      <a:pt x="6532" y="6"/>
                      <a:pt x="6531" y="5"/>
                      <a:pt x="6531" y="4"/>
                    </a:cubicBezTo>
                    <a:cubicBezTo>
                      <a:pt x="6531" y="3"/>
                      <a:pt x="6532" y="2"/>
                      <a:pt x="6533" y="2"/>
                    </a:cubicBezTo>
                    <a:close/>
                    <a:moveTo>
                      <a:pt x="6541" y="2"/>
                    </a:moveTo>
                    <a:lnTo>
                      <a:pt x="6541" y="2"/>
                    </a:lnTo>
                    <a:cubicBezTo>
                      <a:pt x="6542" y="2"/>
                      <a:pt x="6543" y="3"/>
                      <a:pt x="6543" y="4"/>
                    </a:cubicBezTo>
                    <a:cubicBezTo>
                      <a:pt x="6543" y="5"/>
                      <a:pt x="6542" y="6"/>
                      <a:pt x="6541" y="6"/>
                    </a:cubicBezTo>
                    <a:lnTo>
                      <a:pt x="6541" y="6"/>
                    </a:lnTo>
                    <a:cubicBezTo>
                      <a:pt x="6540" y="6"/>
                      <a:pt x="6539" y="5"/>
                      <a:pt x="6539" y="4"/>
                    </a:cubicBezTo>
                    <a:cubicBezTo>
                      <a:pt x="6539" y="3"/>
                      <a:pt x="6540" y="2"/>
                      <a:pt x="6541" y="2"/>
                    </a:cubicBezTo>
                    <a:close/>
                    <a:moveTo>
                      <a:pt x="6549" y="2"/>
                    </a:moveTo>
                    <a:lnTo>
                      <a:pt x="6549" y="2"/>
                    </a:lnTo>
                    <a:cubicBezTo>
                      <a:pt x="6550" y="2"/>
                      <a:pt x="6551" y="3"/>
                      <a:pt x="6551" y="4"/>
                    </a:cubicBezTo>
                    <a:cubicBezTo>
                      <a:pt x="6551" y="5"/>
                      <a:pt x="6550" y="6"/>
                      <a:pt x="6549" y="6"/>
                    </a:cubicBezTo>
                    <a:lnTo>
                      <a:pt x="6549" y="6"/>
                    </a:lnTo>
                    <a:cubicBezTo>
                      <a:pt x="6548" y="6"/>
                      <a:pt x="6547" y="5"/>
                      <a:pt x="6547" y="4"/>
                    </a:cubicBezTo>
                    <a:cubicBezTo>
                      <a:pt x="6547" y="3"/>
                      <a:pt x="6548" y="2"/>
                      <a:pt x="6549" y="2"/>
                    </a:cubicBezTo>
                    <a:close/>
                    <a:moveTo>
                      <a:pt x="6557" y="2"/>
                    </a:moveTo>
                    <a:lnTo>
                      <a:pt x="6557" y="2"/>
                    </a:lnTo>
                    <a:cubicBezTo>
                      <a:pt x="6558" y="2"/>
                      <a:pt x="6559" y="3"/>
                      <a:pt x="6559" y="4"/>
                    </a:cubicBezTo>
                    <a:cubicBezTo>
                      <a:pt x="6559" y="5"/>
                      <a:pt x="6558" y="6"/>
                      <a:pt x="6557" y="6"/>
                    </a:cubicBezTo>
                    <a:lnTo>
                      <a:pt x="6557" y="6"/>
                    </a:lnTo>
                    <a:cubicBezTo>
                      <a:pt x="6556" y="6"/>
                      <a:pt x="6555" y="5"/>
                      <a:pt x="6555" y="4"/>
                    </a:cubicBezTo>
                    <a:cubicBezTo>
                      <a:pt x="6555" y="3"/>
                      <a:pt x="6556" y="2"/>
                      <a:pt x="6557" y="2"/>
                    </a:cubicBezTo>
                    <a:close/>
                    <a:moveTo>
                      <a:pt x="6565" y="2"/>
                    </a:moveTo>
                    <a:lnTo>
                      <a:pt x="6565" y="2"/>
                    </a:lnTo>
                    <a:cubicBezTo>
                      <a:pt x="6566" y="2"/>
                      <a:pt x="6567" y="3"/>
                      <a:pt x="6567" y="4"/>
                    </a:cubicBezTo>
                    <a:cubicBezTo>
                      <a:pt x="6567" y="5"/>
                      <a:pt x="6566" y="6"/>
                      <a:pt x="6565" y="6"/>
                    </a:cubicBezTo>
                    <a:lnTo>
                      <a:pt x="6565" y="6"/>
                    </a:lnTo>
                    <a:cubicBezTo>
                      <a:pt x="6564" y="6"/>
                      <a:pt x="6563" y="5"/>
                      <a:pt x="6563" y="4"/>
                    </a:cubicBezTo>
                    <a:cubicBezTo>
                      <a:pt x="6563" y="3"/>
                      <a:pt x="6564" y="2"/>
                      <a:pt x="6565" y="2"/>
                    </a:cubicBezTo>
                    <a:close/>
                    <a:moveTo>
                      <a:pt x="6573" y="2"/>
                    </a:moveTo>
                    <a:lnTo>
                      <a:pt x="6573" y="2"/>
                    </a:lnTo>
                    <a:cubicBezTo>
                      <a:pt x="6574" y="2"/>
                      <a:pt x="6575" y="3"/>
                      <a:pt x="6575" y="4"/>
                    </a:cubicBezTo>
                    <a:cubicBezTo>
                      <a:pt x="6575" y="5"/>
                      <a:pt x="6574" y="6"/>
                      <a:pt x="6573" y="6"/>
                    </a:cubicBezTo>
                    <a:lnTo>
                      <a:pt x="6573" y="6"/>
                    </a:lnTo>
                    <a:cubicBezTo>
                      <a:pt x="6572" y="6"/>
                      <a:pt x="6571" y="5"/>
                      <a:pt x="6571" y="4"/>
                    </a:cubicBezTo>
                    <a:cubicBezTo>
                      <a:pt x="6571" y="3"/>
                      <a:pt x="6572" y="2"/>
                      <a:pt x="6573" y="2"/>
                    </a:cubicBezTo>
                    <a:close/>
                    <a:moveTo>
                      <a:pt x="6581" y="2"/>
                    </a:moveTo>
                    <a:lnTo>
                      <a:pt x="6581" y="2"/>
                    </a:lnTo>
                    <a:cubicBezTo>
                      <a:pt x="6582" y="2"/>
                      <a:pt x="6583" y="3"/>
                      <a:pt x="6583" y="4"/>
                    </a:cubicBezTo>
                    <a:cubicBezTo>
                      <a:pt x="6583" y="5"/>
                      <a:pt x="6582" y="6"/>
                      <a:pt x="6581" y="6"/>
                    </a:cubicBezTo>
                    <a:lnTo>
                      <a:pt x="6581" y="6"/>
                    </a:lnTo>
                    <a:cubicBezTo>
                      <a:pt x="6580" y="6"/>
                      <a:pt x="6579" y="5"/>
                      <a:pt x="6579" y="4"/>
                    </a:cubicBezTo>
                    <a:cubicBezTo>
                      <a:pt x="6579" y="3"/>
                      <a:pt x="6580" y="2"/>
                      <a:pt x="6581" y="2"/>
                    </a:cubicBezTo>
                    <a:close/>
                    <a:moveTo>
                      <a:pt x="6589" y="2"/>
                    </a:moveTo>
                    <a:lnTo>
                      <a:pt x="6589" y="2"/>
                    </a:lnTo>
                    <a:cubicBezTo>
                      <a:pt x="6590" y="2"/>
                      <a:pt x="6591" y="3"/>
                      <a:pt x="6591" y="4"/>
                    </a:cubicBezTo>
                    <a:cubicBezTo>
                      <a:pt x="6591" y="5"/>
                      <a:pt x="6590" y="6"/>
                      <a:pt x="6589" y="6"/>
                    </a:cubicBezTo>
                    <a:lnTo>
                      <a:pt x="6589" y="6"/>
                    </a:lnTo>
                    <a:cubicBezTo>
                      <a:pt x="6588" y="6"/>
                      <a:pt x="6587" y="5"/>
                      <a:pt x="6587" y="4"/>
                    </a:cubicBezTo>
                    <a:cubicBezTo>
                      <a:pt x="6587" y="3"/>
                      <a:pt x="6588" y="2"/>
                      <a:pt x="6589" y="2"/>
                    </a:cubicBezTo>
                    <a:close/>
                    <a:moveTo>
                      <a:pt x="6597" y="2"/>
                    </a:moveTo>
                    <a:lnTo>
                      <a:pt x="6597" y="2"/>
                    </a:lnTo>
                    <a:cubicBezTo>
                      <a:pt x="6598" y="2"/>
                      <a:pt x="6599" y="3"/>
                      <a:pt x="6599" y="4"/>
                    </a:cubicBezTo>
                    <a:cubicBezTo>
                      <a:pt x="6599" y="5"/>
                      <a:pt x="6598" y="6"/>
                      <a:pt x="6597" y="6"/>
                    </a:cubicBezTo>
                    <a:lnTo>
                      <a:pt x="6597" y="6"/>
                    </a:lnTo>
                    <a:cubicBezTo>
                      <a:pt x="6596" y="6"/>
                      <a:pt x="6595" y="5"/>
                      <a:pt x="6595" y="4"/>
                    </a:cubicBezTo>
                    <a:cubicBezTo>
                      <a:pt x="6595" y="3"/>
                      <a:pt x="6596" y="2"/>
                      <a:pt x="6597" y="2"/>
                    </a:cubicBezTo>
                    <a:close/>
                    <a:moveTo>
                      <a:pt x="6605" y="2"/>
                    </a:moveTo>
                    <a:lnTo>
                      <a:pt x="6605" y="2"/>
                    </a:lnTo>
                    <a:cubicBezTo>
                      <a:pt x="6606" y="2"/>
                      <a:pt x="6607" y="3"/>
                      <a:pt x="6607" y="4"/>
                    </a:cubicBezTo>
                    <a:cubicBezTo>
                      <a:pt x="6607" y="5"/>
                      <a:pt x="6606" y="6"/>
                      <a:pt x="6605" y="6"/>
                    </a:cubicBezTo>
                    <a:lnTo>
                      <a:pt x="6605" y="6"/>
                    </a:lnTo>
                    <a:cubicBezTo>
                      <a:pt x="6604" y="6"/>
                      <a:pt x="6603" y="5"/>
                      <a:pt x="6603" y="4"/>
                    </a:cubicBezTo>
                    <a:cubicBezTo>
                      <a:pt x="6603" y="3"/>
                      <a:pt x="6604" y="2"/>
                      <a:pt x="6605" y="2"/>
                    </a:cubicBezTo>
                    <a:close/>
                    <a:moveTo>
                      <a:pt x="6613" y="2"/>
                    </a:moveTo>
                    <a:lnTo>
                      <a:pt x="6613" y="2"/>
                    </a:lnTo>
                    <a:cubicBezTo>
                      <a:pt x="6614" y="2"/>
                      <a:pt x="6615" y="3"/>
                      <a:pt x="6615" y="4"/>
                    </a:cubicBezTo>
                    <a:cubicBezTo>
                      <a:pt x="6615" y="5"/>
                      <a:pt x="6614" y="6"/>
                      <a:pt x="6613" y="6"/>
                    </a:cubicBezTo>
                    <a:lnTo>
                      <a:pt x="6613" y="6"/>
                    </a:lnTo>
                    <a:cubicBezTo>
                      <a:pt x="6612" y="6"/>
                      <a:pt x="6611" y="5"/>
                      <a:pt x="6611" y="4"/>
                    </a:cubicBezTo>
                    <a:cubicBezTo>
                      <a:pt x="6611" y="3"/>
                      <a:pt x="6612" y="2"/>
                      <a:pt x="6613" y="2"/>
                    </a:cubicBezTo>
                    <a:close/>
                    <a:moveTo>
                      <a:pt x="6621" y="2"/>
                    </a:moveTo>
                    <a:lnTo>
                      <a:pt x="6621" y="2"/>
                    </a:lnTo>
                    <a:cubicBezTo>
                      <a:pt x="6622" y="2"/>
                      <a:pt x="6623" y="3"/>
                      <a:pt x="6623" y="4"/>
                    </a:cubicBezTo>
                    <a:cubicBezTo>
                      <a:pt x="6623" y="5"/>
                      <a:pt x="6622" y="6"/>
                      <a:pt x="6621" y="6"/>
                    </a:cubicBezTo>
                    <a:lnTo>
                      <a:pt x="6621" y="6"/>
                    </a:lnTo>
                    <a:cubicBezTo>
                      <a:pt x="6620" y="6"/>
                      <a:pt x="6619" y="5"/>
                      <a:pt x="6619" y="4"/>
                    </a:cubicBezTo>
                    <a:cubicBezTo>
                      <a:pt x="6619" y="3"/>
                      <a:pt x="6620" y="2"/>
                      <a:pt x="6621" y="2"/>
                    </a:cubicBezTo>
                    <a:close/>
                    <a:moveTo>
                      <a:pt x="6629" y="2"/>
                    </a:moveTo>
                    <a:lnTo>
                      <a:pt x="6629" y="2"/>
                    </a:lnTo>
                    <a:cubicBezTo>
                      <a:pt x="6630" y="2"/>
                      <a:pt x="6631" y="3"/>
                      <a:pt x="6631" y="4"/>
                    </a:cubicBezTo>
                    <a:cubicBezTo>
                      <a:pt x="6631" y="5"/>
                      <a:pt x="6630" y="6"/>
                      <a:pt x="6629" y="6"/>
                    </a:cubicBezTo>
                    <a:lnTo>
                      <a:pt x="6629" y="6"/>
                    </a:lnTo>
                    <a:cubicBezTo>
                      <a:pt x="6628" y="6"/>
                      <a:pt x="6627" y="5"/>
                      <a:pt x="6627" y="4"/>
                    </a:cubicBezTo>
                    <a:cubicBezTo>
                      <a:pt x="6627" y="3"/>
                      <a:pt x="6628" y="2"/>
                      <a:pt x="6629" y="2"/>
                    </a:cubicBezTo>
                    <a:close/>
                    <a:moveTo>
                      <a:pt x="6637" y="2"/>
                    </a:moveTo>
                    <a:lnTo>
                      <a:pt x="6637" y="2"/>
                    </a:lnTo>
                    <a:cubicBezTo>
                      <a:pt x="6638" y="2"/>
                      <a:pt x="6639" y="3"/>
                      <a:pt x="6639" y="4"/>
                    </a:cubicBezTo>
                    <a:cubicBezTo>
                      <a:pt x="6639" y="5"/>
                      <a:pt x="6638" y="6"/>
                      <a:pt x="6637" y="6"/>
                    </a:cubicBezTo>
                    <a:lnTo>
                      <a:pt x="6637" y="6"/>
                    </a:lnTo>
                    <a:cubicBezTo>
                      <a:pt x="6636" y="6"/>
                      <a:pt x="6635" y="5"/>
                      <a:pt x="6635" y="4"/>
                    </a:cubicBezTo>
                    <a:cubicBezTo>
                      <a:pt x="6635" y="3"/>
                      <a:pt x="6636" y="2"/>
                      <a:pt x="6637" y="2"/>
                    </a:cubicBezTo>
                    <a:close/>
                    <a:moveTo>
                      <a:pt x="6645" y="2"/>
                    </a:moveTo>
                    <a:lnTo>
                      <a:pt x="6645" y="2"/>
                    </a:lnTo>
                    <a:cubicBezTo>
                      <a:pt x="6646" y="2"/>
                      <a:pt x="6647" y="3"/>
                      <a:pt x="6647" y="4"/>
                    </a:cubicBezTo>
                    <a:cubicBezTo>
                      <a:pt x="6647" y="5"/>
                      <a:pt x="6646" y="6"/>
                      <a:pt x="6645" y="6"/>
                    </a:cubicBezTo>
                    <a:lnTo>
                      <a:pt x="6645" y="6"/>
                    </a:lnTo>
                    <a:cubicBezTo>
                      <a:pt x="6644" y="6"/>
                      <a:pt x="6643" y="5"/>
                      <a:pt x="6643" y="4"/>
                    </a:cubicBezTo>
                    <a:cubicBezTo>
                      <a:pt x="6643" y="3"/>
                      <a:pt x="6644" y="2"/>
                      <a:pt x="6645" y="2"/>
                    </a:cubicBezTo>
                    <a:close/>
                    <a:moveTo>
                      <a:pt x="6653" y="2"/>
                    </a:moveTo>
                    <a:lnTo>
                      <a:pt x="6653" y="2"/>
                    </a:lnTo>
                    <a:cubicBezTo>
                      <a:pt x="6654" y="2"/>
                      <a:pt x="6655" y="3"/>
                      <a:pt x="6655" y="4"/>
                    </a:cubicBezTo>
                    <a:cubicBezTo>
                      <a:pt x="6655" y="5"/>
                      <a:pt x="6654" y="6"/>
                      <a:pt x="6653" y="6"/>
                    </a:cubicBezTo>
                    <a:lnTo>
                      <a:pt x="6653" y="6"/>
                    </a:lnTo>
                    <a:cubicBezTo>
                      <a:pt x="6652" y="6"/>
                      <a:pt x="6651" y="5"/>
                      <a:pt x="6651" y="4"/>
                    </a:cubicBezTo>
                    <a:cubicBezTo>
                      <a:pt x="6651" y="3"/>
                      <a:pt x="6652" y="2"/>
                      <a:pt x="6653" y="2"/>
                    </a:cubicBezTo>
                    <a:close/>
                    <a:moveTo>
                      <a:pt x="6661" y="2"/>
                    </a:moveTo>
                    <a:lnTo>
                      <a:pt x="6661" y="2"/>
                    </a:lnTo>
                    <a:cubicBezTo>
                      <a:pt x="6662" y="2"/>
                      <a:pt x="6663" y="3"/>
                      <a:pt x="6663" y="4"/>
                    </a:cubicBezTo>
                    <a:cubicBezTo>
                      <a:pt x="6663" y="5"/>
                      <a:pt x="6662" y="6"/>
                      <a:pt x="6661" y="6"/>
                    </a:cubicBezTo>
                    <a:lnTo>
                      <a:pt x="6661" y="6"/>
                    </a:lnTo>
                    <a:cubicBezTo>
                      <a:pt x="6660" y="6"/>
                      <a:pt x="6659" y="5"/>
                      <a:pt x="6659" y="4"/>
                    </a:cubicBezTo>
                    <a:cubicBezTo>
                      <a:pt x="6659" y="3"/>
                      <a:pt x="6660" y="2"/>
                      <a:pt x="6661" y="2"/>
                    </a:cubicBezTo>
                    <a:close/>
                    <a:moveTo>
                      <a:pt x="6669" y="2"/>
                    </a:moveTo>
                    <a:lnTo>
                      <a:pt x="6669" y="2"/>
                    </a:lnTo>
                    <a:cubicBezTo>
                      <a:pt x="6670" y="2"/>
                      <a:pt x="6671" y="3"/>
                      <a:pt x="6671" y="4"/>
                    </a:cubicBezTo>
                    <a:cubicBezTo>
                      <a:pt x="6671" y="5"/>
                      <a:pt x="6670" y="6"/>
                      <a:pt x="6669" y="6"/>
                    </a:cubicBezTo>
                    <a:lnTo>
                      <a:pt x="6669" y="6"/>
                    </a:lnTo>
                    <a:cubicBezTo>
                      <a:pt x="6668" y="6"/>
                      <a:pt x="6667" y="5"/>
                      <a:pt x="6667" y="4"/>
                    </a:cubicBezTo>
                    <a:cubicBezTo>
                      <a:pt x="6667" y="3"/>
                      <a:pt x="6668" y="2"/>
                      <a:pt x="6669" y="2"/>
                    </a:cubicBezTo>
                    <a:close/>
                    <a:moveTo>
                      <a:pt x="6677" y="2"/>
                    </a:moveTo>
                    <a:lnTo>
                      <a:pt x="6677" y="2"/>
                    </a:lnTo>
                    <a:cubicBezTo>
                      <a:pt x="6678" y="2"/>
                      <a:pt x="6679" y="3"/>
                      <a:pt x="6679" y="4"/>
                    </a:cubicBezTo>
                    <a:cubicBezTo>
                      <a:pt x="6679" y="5"/>
                      <a:pt x="6678" y="6"/>
                      <a:pt x="6677" y="6"/>
                    </a:cubicBezTo>
                    <a:lnTo>
                      <a:pt x="6677" y="6"/>
                    </a:lnTo>
                    <a:cubicBezTo>
                      <a:pt x="6676" y="6"/>
                      <a:pt x="6675" y="5"/>
                      <a:pt x="6675" y="4"/>
                    </a:cubicBezTo>
                    <a:cubicBezTo>
                      <a:pt x="6675" y="3"/>
                      <a:pt x="6676" y="2"/>
                      <a:pt x="6677" y="2"/>
                    </a:cubicBezTo>
                    <a:close/>
                    <a:moveTo>
                      <a:pt x="6685" y="2"/>
                    </a:moveTo>
                    <a:lnTo>
                      <a:pt x="6685" y="2"/>
                    </a:lnTo>
                    <a:cubicBezTo>
                      <a:pt x="6686" y="2"/>
                      <a:pt x="6687" y="3"/>
                      <a:pt x="6687" y="4"/>
                    </a:cubicBezTo>
                    <a:cubicBezTo>
                      <a:pt x="6687" y="5"/>
                      <a:pt x="6686" y="6"/>
                      <a:pt x="6685" y="6"/>
                    </a:cubicBezTo>
                    <a:lnTo>
                      <a:pt x="6685" y="6"/>
                    </a:lnTo>
                    <a:cubicBezTo>
                      <a:pt x="6684" y="6"/>
                      <a:pt x="6683" y="5"/>
                      <a:pt x="6683" y="4"/>
                    </a:cubicBezTo>
                    <a:cubicBezTo>
                      <a:pt x="6683" y="3"/>
                      <a:pt x="6684" y="2"/>
                      <a:pt x="6685" y="2"/>
                    </a:cubicBezTo>
                    <a:close/>
                    <a:moveTo>
                      <a:pt x="6693" y="2"/>
                    </a:moveTo>
                    <a:lnTo>
                      <a:pt x="6693" y="2"/>
                    </a:lnTo>
                    <a:cubicBezTo>
                      <a:pt x="6694" y="2"/>
                      <a:pt x="6695" y="3"/>
                      <a:pt x="6695" y="4"/>
                    </a:cubicBezTo>
                    <a:cubicBezTo>
                      <a:pt x="6695" y="5"/>
                      <a:pt x="6694" y="6"/>
                      <a:pt x="6693" y="6"/>
                    </a:cubicBezTo>
                    <a:lnTo>
                      <a:pt x="6693" y="6"/>
                    </a:lnTo>
                    <a:cubicBezTo>
                      <a:pt x="6692" y="6"/>
                      <a:pt x="6691" y="5"/>
                      <a:pt x="6691" y="4"/>
                    </a:cubicBezTo>
                    <a:cubicBezTo>
                      <a:pt x="6691" y="3"/>
                      <a:pt x="6692" y="2"/>
                      <a:pt x="6693" y="2"/>
                    </a:cubicBezTo>
                    <a:close/>
                    <a:moveTo>
                      <a:pt x="6701" y="2"/>
                    </a:moveTo>
                    <a:lnTo>
                      <a:pt x="6701" y="2"/>
                    </a:lnTo>
                    <a:cubicBezTo>
                      <a:pt x="6702" y="2"/>
                      <a:pt x="6703" y="3"/>
                      <a:pt x="6703" y="4"/>
                    </a:cubicBezTo>
                    <a:cubicBezTo>
                      <a:pt x="6703" y="5"/>
                      <a:pt x="6702" y="6"/>
                      <a:pt x="6701" y="6"/>
                    </a:cubicBezTo>
                    <a:lnTo>
                      <a:pt x="6701" y="6"/>
                    </a:lnTo>
                    <a:cubicBezTo>
                      <a:pt x="6700" y="6"/>
                      <a:pt x="6699" y="5"/>
                      <a:pt x="6699" y="4"/>
                    </a:cubicBezTo>
                    <a:cubicBezTo>
                      <a:pt x="6699" y="3"/>
                      <a:pt x="6700" y="2"/>
                      <a:pt x="6701" y="2"/>
                    </a:cubicBezTo>
                    <a:close/>
                    <a:moveTo>
                      <a:pt x="6709" y="2"/>
                    </a:moveTo>
                    <a:lnTo>
                      <a:pt x="6709" y="2"/>
                    </a:lnTo>
                    <a:cubicBezTo>
                      <a:pt x="6710" y="2"/>
                      <a:pt x="6711" y="3"/>
                      <a:pt x="6711" y="4"/>
                    </a:cubicBezTo>
                    <a:cubicBezTo>
                      <a:pt x="6711" y="5"/>
                      <a:pt x="6710" y="6"/>
                      <a:pt x="6709" y="6"/>
                    </a:cubicBezTo>
                    <a:lnTo>
                      <a:pt x="6709" y="6"/>
                    </a:lnTo>
                    <a:cubicBezTo>
                      <a:pt x="6708" y="6"/>
                      <a:pt x="6707" y="5"/>
                      <a:pt x="6707" y="4"/>
                    </a:cubicBezTo>
                    <a:cubicBezTo>
                      <a:pt x="6707" y="3"/>
                      <a:pt x="6708" y="2"/>
                      <a:pt x="6709" y="2"/>
                    </a:cubicBezTo>
                    <a:close/>
                    <a:moveTo>
                      <a:pt x="6717" y="2"/>
                    </a:moveTo>
                    <a:lnTo>
                      <a:pt x="6717" y="2"/>
                    </a:lnTo>
                    <a:cubicBezTo>
                      <a:pt x="6718" y="2"/>
                      <a:pt x="6719" y="3"/>
                      <a:pt x="6719" y="4"/>
                    </a:cubicBezTo>
                    <a:cubicBezTo>
                      <a:pt x="6719" y="5"/>
                      <a:pt x="6718" y="6"/>
                      <a:pt x="6717" y="6"/>
                    </a:cubicBezTo>
                    <a:lnTo>
                      <a:pt x="6717" y="6"/>
                    </a:lnTo>
                    <a:cubicBezTo>
                      <a:pt x="6716" y="6"/>
                      <a:pt x="6715" y="5"/>
                      <a:pt x="6715" y="4"/>
                    </a:cubicBezTo>
                    <a:cubicBezTo>
                      <a:pt x="6715" y="3"/>
                      <a:pt x="6716" y="2"/>
                      <a:pt x="6717" y="2"/>
                    </a:cubicBezTo>
                    <a:close/>
                    <a:moveTo>
                      <a:pt x="6725" y="2"/>
                    </a:moveTo>
                    <a:lnTo>
                      <a:pt x="6725" y="2"/>
                    </a:lnTo>
                    <a:cubicBezTo>
                      <a:pt x="6726" y="2"/>
                      <a:pt x="6727" y="3"/>
                      <a:pt x="6727" y="4"/>
                    </a:cubicBezTo>
                    <a:cubicBezTo>
                      <a:pt x="6727" y="5"/>
                      <a:pt x="6726" y="6"/>
                      <a:pt x="6725" y="6"/>
                    </a:cubicBezTo>
                    <a:lnTo>
                      <a:pt x="6725" y="6"/>
                    </a:lnTo>
                    <a:cubicBezTo>
                      <a:pt x="6724" y="6"/>
                      <a:pt x="6723" y="5"/>
                      <a:pt x="6723" y="4"/>
                    </a:cubicBezTo>
                    <a:cubicBezTo>
                      <a:pt x="6723" y="3"/>
                      <a:pt x="6724" y="2"/>
                      <a:pt x="6725" y="2"/>
                    </a:cubicBezTo>
                    <a:close/>
                    <a:moveTo>
                      <a:pt x="6733" y="2"/>
                    </a:moveTo>
                    <a:lnTo>
                      <a:pt x="6733" y="2"/>
                    </a:lnTo>
                    <a:cubicBezTo>
                      <a:pt x="6734" y="2"/>
                      <a:pt x="6735" y="3"/>
                      <a:pt x="6735" y="4"/>
                    </a:cubicBezTo>
                    <a:cubicBezTo>
                      <a:pt x="6735" y="5"/>
                      <a:pt x="6734" y="6"/>
                      <a:pt x="6733" y="6"/>
                    </a:cubicBezTo>
                    <a:lnTo>
                      <a:pt x="6733" y="6"/>
                    </a:lnTo>
                    <a:cubicBezTo>
                      <a:pt x="6732" y="6"/>
                      <a:pt x="6731" y="5"/>
                      <a:pt x="6731" y="4"/>
                    </a:cubicBezTo>
                    <a:cubicBezTo>
                      <a:pt x="6731" y="3"/>
                      <a:pt x="6732" y="2"/>
                      <a:pt x="6733" y="2"/>
                    </a:cubicBezTo>
                    <a:close/>
                    <a:moveTo>
                      <a:pt x="6741" y="2"/>
                    </a:moveTo>
                    <a:lnTo>
                      <a:pt x="6741" y="2"/>
                    </a:lnTo>
                    <a:cubicBezTo>
                      <a:pt x="6742" y="2"/>
                      <a:pt x="6743" y="3"/>
                      <a:pt x="6743" y="4"/>
                    </a:cubicBezTo>
                    <a:cubicBezTo>
                      <a:pt x="6743" y="5"/>
                      <a:pt x="6742" y="6"/>
                      <a:pt x="6741" y="6"/>
                    </a:cubicBezTo>
                    <a:lnTo>
                      <a:pt x="6741" y="6"/>
                    </a:lnTo>
                    <a:cubicBezTo>
                      <a:pt x="6740" y="6"/>
                      <a:pt x="6739" y="5"/>
                      <a:pt x="6739" y="4"/>
                    </a:cubicBezTo>
                    <a:cubicBezTo>
                      <a:pt x="6739" y="3"/>
                      <a:pt x="6740" y="2"/>
                      <a:pt x="6741" y="2"/>
                    </a:cubicBezTo>
                    <a:close/>
                    <a:moveTo>
                      <a:pt x="6749" y="2"/>
                    </a:moveTo>
                    <a:lnTo>
                      <a:pt x="6749" y="2"/>
                    </a:lnTo>
                    <a:cubicBezTo>
                      <a:pt x="6750" y="2"/>
                      <a:pt x="6751" y="3"/>
                      <a:pt x="6751" y="4"/>
                    </a:cubicBezTo>
                    <a:cubicBezTo>
                      <a:pt x="6751" y="5"/>
                      <a:pt x="6750" y="6"/>
                      <a:pt x="6749" y="6"/>
                    </a:cubicBezTo>
                    <a:lnTo>
                      <a:pt x="6749" y="6"/>
                    </a:lnTo>
                    <a:cubicBezTo>
                      <a:pt x="6748" y="6"/>
                      <a:pt x="6747" y="5"/>
                      <a:pt x="6747" y="4"/>
                    </a:cubicBezTo>
                    <a:cubicBezTo>
                      <a:pt x="6747" y="3"/>
                      <a:pt x="6748" y="2"/>
                      <a:pt x="6749" y="2"/>
                    </a:cubicBezTo>
                    <a:close/>
                    <a:moveTo>
                      <a:pt x="6757" y="2"/>
                    </a:moveTo>
                    <a:lnTo>
                      <a:pt x="6757" y="2"/>
                    </a:lnTo>
                    <a:cubicBezTo>
                      <a:pt x="6758" y="2"/>
                      <a:pt x="6759" y="3"/>
                      <a:pt x="6759" y="4"/>
                    </a:cubicBezTo>
                    <a:cubicBezTo>
                      <a:pt x="6759" y="5"/>
                      <a:pt x="6758" y="6"/>
                      <a:pt x="6757" y="6"/>
                    </a:cubicBezTo>
                    <a:lnTo>
                      <a:pt x="6757" y="6"/>
                    </a:lnTo>
                    <a:cubicBezTo>
                      <a:pt x="6756" y="6"/>
                      <a:pt x="6755" y="5"/>
                      <a:pt x="6755" y="4"/>
                    </a:cubicBezTo>
                    <a:cubicBezTo>
                      <a:pt x="6755" y="3"/>
                      <a:pt x="6756" y="2"/>
                      <a:pt x="6757" y="2"/>
                    </a:cubicBezTo>
                    <a:close/>
                    <a:moveTo>
                      <a:pt x="6765" y="2"/>
                    </a:moveTo>
                    <a:lnTo>
                      <a:pt x="6765" y="2"/>
                    </a:lnTo>
                    <a:cubicBezTo>
                      <a:pt x="6766" y="2"/>
                      <a:pt x="6767" y="3"/>
                      <a:pt x="6767" y="4"/>
                    </a:cubicBezTo>
                    <a:cubicBezTo>
                      <a:pt x="6767" y="5"/>
                      <a:pt x="6766" y="6"/>
                      <a:pt x="6765" y="6"/>
                    </a:cubicBezTo>
                    <a:lnTo>
                      <a:pt x="6765" y="6"/>
                    </a:lnTo>
                    <a:cubicBezTo>
                      <a:pt x="6764" y="6"/>
                      <a:pt x="6763" y="5"/>
                      <a:pt x="6763" y="4"/>
                    </a:cubicBezTo>
                    <a:cubicBezTo>
                      <a:pt x="6763" y="3"/>
                      <a:pt x="6764" y="2"/>
                      <a:pt x="6765" y="2"/>
                    </a:cubicBezTo>
                    <a:close/>
                    <a:moveTo>
                      <a:pt x="6773" y="2"/>
                    </a:moveTo>
                    <a:lnTo>
                      <a:pt x="6773" y="2"/>
                    </a:lnTo>
                    <a:cubicBezTo>
                      <a:pt x="6774" y="2"/>
                      <a:pt x="6775" y="3"/>
                      <a:pt x="6775" y="4"/>
                    </a:cubicBezTo>
                    <a:cubicBezTo>
                      <a:pt x="6775" y="5"/>
                      <a:pt x="6774" y="6"/>
                      <a:pt x="6773" y="6"/>
                    </a:cubicBezTo>
                    <a:lnTo>
                      <a:pt x="6773" y="6"/>
                    </a:lnTo>
                    <a:cubicBezTo>
                      <a:pt x="6772" y="6"/>
                      <a:pt x="6771" y="5"/>
                      <a:pt x="6771" y="4"/>
                    </a:cubicBezTo>
                    <a:cubicBezTo>
                      <a:pt x="6771" y="3"/>
                      <a:pt x="6772" y="2"/>
                      <a:pt x="6773" y="2"/>
                    </a:cubicBezTo>
                    <a:close/>
                    <a:moveTo>
                      <a:pt x="6781" y="2"/>
                    </a:moveTo>
                    <a:lnTo>
                      <a:pt x="6781" y="2"/>
                    </a:lnTo>
                    <a:cubicBezTo>
                      <a:pt x="6782" y="2"/>
                      <a:pt x="6783" y="3"/>
                      <a:pt x="6783" y="4"/>
                    </a:cubicBezTo>
                    <a:cubicBezTo>
                      <a:pt x="6783" y="5"/>
                      <a:pt x="6782" y="6"/>
                      <a:pt x="6781" y="6"/>
                    </a:cubicBezTo>
                    <a:lnTo>
                      <a:pt x="6781" y="6"/>
                    </a:lnTo>
                    <a:cubicBezTo>
                      <a:pt x="6780" y="6"/>
                      <a:pt x="6779" y="5"/>
                      <a:pt x="6779" y="4"/>
                    </a:cubicBezTo>
                    <a:cubicBezTo>
                      <a:pt x="6779" y="3"/>
                      <a:pt x="6780" y="2"/>
                      <a:pt x="6781" y="2"/>
                    </a:cubicBezTo>
                    <a:close/>
                    <a:moveTo>
                      <a:pt x="6789" y="2"/>
                    </a:moveTo>
                    <a:lnTo>
                      <a:pt x="6789" y="2"/>
                    </a:lnTo>
                    <a:cubicBezTo>
                      <a:pt x="6790" y="2"/>
                      <a:pt x="6791" y="3"/>
                      <a:pt x="6791" y="4"/>
                    </a:cubicBezTo>
                    <a:cubicBezTo>
                      <a:pt x="6791" y="5"/>
                      <a:pt x="6790" y="6"/>
                      <a:pt x="6789" y="6"/>
                    </a:cubicBezTo>
                    <a:lnTo>
                      <a:pt x="6789" y="6"/>
                    </a:lnTo>
                    <a:cubicBezTo>
                      <a:pt x="6788" y="6"/>
                      <a:pt x="6787" y="5"/>
                      <a:pt x="6787" y="4"/>
                    </a:cubicBezTo>
                    <a:cubicBezTo>
                      <a:pt x="6787" y="3"/>
                      <a:pt x="6788" y="2"/>
                      <a:pt x="6789" y="2"/>
                    </a:cubicBezTo>
                    <a:close/>
                    <a:moveTo>
                      <a:pt x="6797" y="2"/>
                    </a:moveTo>
                    <a:lnTo>
                      <a:pt x="6797" y="2"/>
                    </a:lnTo>
                    <a:cubicBezTo>
                      <a:pt x="6798" y="2"/>
                      <a:pt x="6799" y="3"/>
                      <a:pt x="6799" y="4"/>
                    </a:cubicBezTo>
                    <a:cubicBezTo>
                      <a:pt x="6799" y="5"/>
                      <a:pt x="6798" y="6"/>
                      <a:pt x="6797" y="6"/>
                    </a:cubicBezTo>
                    <a:lnTo>
                      <a:pt x="6797" y="6"/>
                    </a:lnTo>
                    <a:cubicBezTo>
                      <a:pt x="6796" y="6"/>
                      <a:pt x="6795" y="5"/>
                      <a:pt x="6795" y="4"/>
                    </a:cubicBezTo>
                    <a:cubicBezTo>
                      <a:pt x="6795" y="3"/>
                      <a:pt x="6796" y="2"/>
                      <a:pt x="6797" y="2"/>
                    </a:cubicBezTo>
                    <a:close/>
                    <a:moveTo>
                      <a:pt x="6805" y="2"/>
                    </a:moveTo>
                    <a:lnTo>
                      <a:pt x="6805" y="2"/>
                    </a:lnTo>
                    <a:cubicBezTo>
                      <a:pt x="6806" y="2"/>
                      <a:pt x="6807" y="3"/>
                      <a:pt x="6807" y="4"/>
                    </a:cubicBezTo>
                    <a:cubicBezTo>
                      <a:pt x="6807" y="5"/>
                      <a:pt x="6806" y="6"/>
                      <a:pt x="6805" y="6"/>
                    </a:cubicBezTo>
                    <a:lnTo>
                      <a:pt x="6805" y="6"/>
                    </a:lnTo>
                    <a:cubicBezTo>
                      <a:pt x="6804" y="6"/>
                      <a:pt x="6803" y="5"/>
                      <a:pt x="6803" y="4"/>
                    </a:cubicBezTo>
                    <a:cubicBezTo>
                      <a:pt x="6803" y="3"/>
                      <a:pt x="6804" y="2"/>
                      <a:pt x="6805" y="2"/>
                    </a:cubicBezTo>
                    <a:close/>
                    <a:moveTo>
                      <a:pt x="6813" y="2"/>
                    </a:moveTo>
                    <a:lnTo>
                      <a:pt x="6813" y="2"/>
                    </a:lnTo>
                    <a:cubicBezTo>
                      <a:pt x="6814" y="2"/>
                      <a:pt x="6815" y="3"/>
                      <a:pt x="6815" y="4"/>
                    </a:cubicBezTo>
                    <a:cubicBezTo>
                      <a:pt x="6815" y="5"/>
                      <a:pt x="6814" y="6"/>
                      <a:pt x="6813" y="6"/>
                    </a:cubicBezTo>
                    <a:lnTo>
                      <a:pt x="6813" y="6"/>
                    </a:lnTo>
                    <a:cubicBezTo>
                      <a:pt x="6812" y="6"/>
                      <a:pt x="6811" y="5"/>
                      <a:pt x="6811" y="4"/>
                    </a:cubicBezTo>
                    <a:cubicBezTo>
                      <a:pt x="6811" y="3"/>
                      <a:pt x="6812" y="2"/>
                      <a:pt x="6813" y="2"/>
                    </a:cubicBezTo>
                    <a:close/>
                    <a:moveTo>
                      <a:pt x="6821" y="2"/>
                    </a:moveTo>
                    <a:lnTo>
                      <a:pt x="6821" y="2"/>
                    </a:lnTo>
                    <a:cubicBezTo>
                      <a:pt x="6822" y="2"/>
                      <a:pt x="6823" y="3"/>
                      <a:pt x="6823" y="4"/>
                    </a:cubicBezTo>
                    <a:cubicBezTo>
                      <a:pt x="6823" y="5"/>
                      <a:pt x="6822" y="6"/>
                      <a:pt x="6821" y="6"/>
                    </a:cubicBezTo>
                    <a:lnTo>
                      <a:pt x="6821" y="6"/>
                    </a:lnTo>
                    <a:cubicBezTo>
                      <a:pt x="6820" y="6"/>
                      <a:pt x="6819" y="5"/>
                      <a:pt x="6819" y="4"/>
                    </a:cubicBezTo>
                    <a:cubicBezTo>
                      <a:pt x="6819" y="3"/>
                      <a:pt x="6820" y="2"/>
                      <a:pt x="6821" y="2"/>
                    </a:cubicBezTo>
                    <a:close/>
                    <a:moveTo>
                      <a:pt x="6829" y="2"/>
                    </a:moveTo>
                    <a:lnTo>
                      <a:pt x="6829" y="2"/>
                    </a:lnTo>
                    <a:cubicBezTo>
                      <a:pt x="6830" y="2"/>
                      <a:pt x="6831" y="3"/>
                      <a:pt x="6831" y="4"/>
                    </a:cubicBezTo>
                    <a:cubicBezTo>
                      <a:pt x="6831" y="5"/>
                      <a:pt x="6830" y="6"/>
                      <a:pt x="6829" y="6"/>
                    </a:cubicBezTo>
                    <a:lnTo>
                      <a:pt x="6829" y="6"/>
                    </a:lnTo>
                    <a:cubicBezTo>
                      <a:pt x="6828" y="6"/>
                      <a:pt x="6827" y="5"/>
                      <a:pt x="6827" y="4"/>
                    </a:cubicBezTo>
                    <a:cubicBezTo>
                      <a:pt x="6827" y="3"/>
                      <a:pt x="6828" y="2"/>
                      <a:pt x="6829" y="2"/>
                    </a:cubicBezTo>
                    <a:close/>
                    <a:moveTo>
                      <a:pt x="6837" y="2"/>
                    </a:moveTo>
                    <a:lnTo>
                      <a:pt x="6837" y="2"/>
                    </a:lnTo>
                    <a:cubicBezTo>
                      <a:pt x="6838" y="2"/>
                      <a:pt x="6839" y="3"/>
                      <a:pt x="6839" y="4"/>
                    </a:cubicBezTo>
                    <a:cubicBezTo>
                      <a:pt x="6839" y="5"/>
                      <a:pt x="6838" y="6"/>
                      <a:pt x="6837" y="6"/>
                    </a:cubicBezTo>
                    <a:lnTo>
                      <a:pt x="6837" y="6"/>
                    </a:lnTo>
                    <a:cubicBezTo>
                      <a:pt x="6836" y="6"/>
                      <a:pt x="6835" y="5"/>
                      <a:pt x="6835" y="4"/>
                    </a:cubicBezTo>
                    <a:cubicBezTo>
                      <a:pt x="6835" y="3"/>
                      <a:pt x="6836" y="2"/>
                      <a:pt x="6837" y="2"/>
                    </a:cubicBezTo>
                    <a:close/>
                    <a:moveTo>
                      <a:pt x="6845" y="2"/>
                    </a:moveTo>
                    <a:lnTo>
                      <a:pt x="6845" y="2"/>
                    </a:lnTo>
                    <a:cubicBezTo>
                      <a:pt x="6846" y="2"/>
                      <a:pt x="6847" y="3"/>
                      <a:pt x="6847" y="4"/>
                    </a:cubicBezTo>
                    <a:cubicBezTo>
                      <a:pt x="6847" y="5"/>
                      <a:pt x="6846" y="6"/>
                      <a:pt x="6845" y="6"/>
                    </a:cubicBezTo>
                    <a:lnTo>
                      <a:pt x="6845" y="6"/>
                    </a:lnTo>
                    <a:cubicBezTo>
                      <a:pt x="6844" y="6"/>
                      <a:pt x="6843" y="5"/>
                      <a:pt x="6843" y="4"/>
                    </a:cubicBezTo>
                    <a:cubicBezTo>
                      <a:pt x="6843" y="3"/>
                      <a:pt x="6844" y="2"/>
                      <a:pt x="6845" y="2"/>
                    </a:cubicBezTo>
                    <a:close/>
                    <a:moveTo>
                      <a:pt x="6853" y="2"/>
                    </a:moveTo>
                    <a:lnTo>
                      <a:pt x="6853" y="2"/>
                    </a:lnTo>
                    <a:cubicBezTo>
                      <a:pt x="6854" y="2"/>
                      <a:pt x="6855" y="3"/>
                      <a:pt x="6855" y="4"/>
                    </a:cubicBezTo>
                    <a:cubicBezTo>
                      <a:pt x="6855" y="5"/>
                      <a:pt x="6854" y="6"/>
                      <a:pt x="6853" y="6"/>
                    </a:cubicBezTo>
                    <a:lnTo>
                      <a:pt x="6853" y="6"/>
                    </a:lnTo>
                    <a:cubicBezTo>
                      <a:pt x="6852" y="6"/>
                      <a:pt x="6851" y="5"/>
                      <a:pt x="6851" y="4"/>
                    </a:cubicBezTo>
                    <a:cubicBezTo>
                      <a:pt x="6851" y="3"/>
                      <a:pt x="6852" y="2"/>
                      <a:pt x="6853" y="2"/>
                    </a:cubicBezTo>
                    <a:close/>
                    <a:moveTo>
                      <a:pt x="6861" y="2"/>
                    </a:moveTo>
                    <a:lnTo>
                      <a:pt x="6861" y="2"/>
                    </a:lnTo>
                    <a:cubicBezTo>
                      <a:pt x="6862" y="2"/>
                      <a:pt x="6863" y="3"/>
                      <a:pt x="6863" y="4"/>
                    </a:cubicBezTo>
                    <a:cubicBezTo>
                      <a:pt x="6863" y="5"/>
                      <a:pt x="6862" y="6"/>
                      <a:pt x="6861" y="6"/>
                    </a:cubicBezTo>
                    <a:lnTo>
                      <a:pt x="6861" y="6"/>
                    </a:lnTo>
                    <a:cubicBezTo>
                      <a:pt x="6860" y="6"/>
                      <a:pt x="6859" y="5"/>
                      <a:pt x="6859" y="4"/>
                    </a:cubicBezTo>
                    <a:cubicBezTo>
                      <a:pt x="6859" y="3"/>
                      <a:pt x="6860" y="2"/>
                      <a:pt x="6861" y="2"/>
                    </a:cubicBezTo>
                    <a:close/>
                    <a:moveTo>
                      <a:pt x="6869" y="2"/>
                    </a:moveTo>
                    <a:lnTo>
                      <a:pt x="6869" y="2"/>
                    </a:lnTo>
                    <a:cubicBezTo>
                      <a:pt x="6870" y="2"/>
                      <a:pt x="6871" y="3"/>
                      <a:pt x="6871" y="4"/>
                    </a:cubicBezTo>
                    <a:cubicBezTo>
                      <a:pt x="6871" y="5"/>
                      <a:pt x="6870" y="6"/>
                      <a:pt x="6869" y="6"/>
                    </a:cubicBezTo>
                    <a:lnTo>
                      <a:pt x="6869" y="6"/>
                    </a:lnTo>
                    <a:cubicBezTo>
                      <a:pt x="6868" y="6"/>
                      <a:pt x="6867" y="5"/>
                      <a:pt x="6867" y="4"/>
                    </a:cubicBezTo>
                    <a:cubicBezTo>
                      <a:pt x="6867" y="3"/>
                      <a:pt x="6868" y="2"/>
                      <a:pt x="6869" y="2"/>
                    </a:cubicBezTo>
                    <a:close/>
                    <a:moveTo>
                      <a:pt x="6877" y="2"/>
                    </a:moveTo>
                    <a:lnTo>
                      <a:pt x="6877" y="2"/>
                    </a:lnTo>
                    <a:cubicBezTo>
                      <a:pt x="6878" y="2"/>
                      <a:pt x="6879" y="3"/>
                      <a:pt x="6879" y="4"/>
                    </a:cubicBezTo>
                    <a:cubicBezTo>
                      <a:pt x="6879" y="5"/>
                      <a:pt x="6878" y="6"/>
                      <a:pt x="6877" y="6"/>
                    </a:cubicBezTo>
                    <a:lnTo>
                      <a:pt x="6877" y="6"/>
                    </a:lnTo>
                    <a:cubicBezTo>
                      <a:pt x="6876" y="6"/>
                      <a:pt x="6875" y="5"/>
                      <a:pt x="6875" y="4"/>
                    </a:cubicBezTo>
                    <a:cubicBezTo>
                      <a:pt x="6875" y="3"/>
                      <a:pt x="6876" y="2"/>
                      <a:pt x="6877" y="2"/>
                    </a:cubicBezTo>
                    <a:close/>
                    <a:moveTo>
                      <a:pt x="6885" y="2"/>
                    </a:moveTo>
                    <a:lnTo>
                      <a:pt x="6885" y="2"/>
                    </a:lnTo>
                    <a:cubicBezTo>
                      <a:pt x="6886" y="2"/>
                      <a:pt x="6887" y="3"/>
                      <a:pt x="6887" y="4"/>
                    </a:cubicBezTo>
                    <a:cubicBezTo>
                      <a:pt x="6887" y="5"/>
                      <a:pt x="6886" y="6"/>
                      <a:pt x="6885" y="6"/>
                    </a:cubicBezTo>
                    <a:lnTo>
                      <a:pt x="6885" y="6"/>
                    </a:lnTo>
                    <a:cubicBezTo>
                      <a:pt x="6884" y="6"/>
                      <a:pt x="6883" y="5"/>
                      <a:pt x="6883" y="4"/>
                    </a:cubicBezTo>
                    <a:cubicBezTo>
                      <a:pt x="6883" y="3"/>
                      <a:pt x="6884" y="2"/>
                      <a:pt x="6885" y="2"/>
                    </a:cubicBezTo>
                    <a:close/>
                    <a:moveTo>
                      <a:pt x="6893" y="2"/>
                    </a:moveTo>
                    <a:lnTo>
                      <a:pt x="6893" y="2"/>
                    </a:lnTo>
                    <a:cubicBezTo>
                      <a:pt x="6894" y="2"/>
                      <a:pt x="6895" y="3"/>
                      <a:pt x="6895" y="4"/>
                    </a:cubicBezTo>
                    <a:cubicBezTo>
                      <a:pt x="6895" y="5"/>
                      <a:pt x="6894" y="6"/>
                      <a:pt x="6893" y="6"/>
                    </a:cubicBezTo>
                    <a:lnTo>
                      <a:pt x="6893" y="6"/>
                    </a:lnTo>
                    <a:cubicBezTo>
                      <a:pt x="6892" y="6"/>
                      <a:pt x="6891" y="5"/>
                      <a:pt x="6891" y="4"/>
                    </a:cubicBezTo>
                    <a:cubicBezTo>
                      <a:pt x="6891" y="3"/>
                      <a:pt x="6892" y="2"/>
                      <a:pt x="6893" y="2"/>
                    </a:cubicBezTo>
                    <a:close/>
                    <a:moveTo>
                      <a:pt x="6901" y="2"/>
                    </a:moveTo>
                    <a:lnTo>
                      <a:pt x="6901" y="2"/>
                    </a:lnTo>
                    <a:cubicBezTo>
                      <a:pt x="6902" y="2"/>
                      <a:pt x="6903" y="3"/>
                      <a:pt x="6903" y="4"/>
                    </a:cubicBezTo>
                    <a:cubicBezTo>
                      <a:pt x="6903" y="5"/>
                      <a:pt x="6902" y="6"/>
                      <a:pt x="6901" y="6"/>
                    </a:cubicBezTo>
                    <a:lnTo>
                      <a:pt x="6901" y="6"/>
                    </a:lnTo>
                    <a:cubicBezTo>
                      <a:pt x="6900" y="6"/>
                      <a:pt x="6899" y="5"/>
                      <a:pt x="6899" y="4"/>
                    </a:cubicBezTo>
                    <a:cubicBezTo>
                      <a:pt x="6899" y="3"/>
                      <a:pt x="6900" y="2"/>
                      <a:pt x="6901" y="2"/>
                    </a:cubicBezTo>
                    <a:close/>
                    <a:moveTo>
                      <a:pt x="6909" y="2"/>
                    </a:moveTo>
                    <a:lnTo>
                      <a:pt x="6909" y="2"/>
                    </a:lnTo>
                    <a:cubicBezTo>
                      <a:pt x="6910" y="2"/>
                      <a:pt x="6911" y="3"/>
                      <a:pt x="6911" y="4"/>
                    </a:cubicBezTo>
                    <a:cubicBezTo>
                      <a:pt x="6911" y="5"/>
                      <a:pt x="6910" y="6"/>
                      <a:pt x="6909" y="6"/>
                    </a:cubicBezTo>
                    <a:lnTo>
                      <a:pt x="6909" y="6"/>
                    </a:lnTo>
                    <a:cubicBezTo>
                      <a:pt x="6908" y="6"/>
                      <a:pt x="6907" y="5"/>
                      <a:pt x="6907" y="4"/>
                    </a:cubicBezTo>
                    <a:cubicBezTo>
                      <a:pt x="6907" y="3"/>
                      <a:pt x="6908" y="2"/>
                      <a:pt x="6909" y="2"/>
                    </a:cubicBezTo>
                    <a:close/>
                    <a:moveTo>
                      <a:pt x="6917" y="2"/>
                    </a:moveTo>
                    <a:lnTo>
                      <a:pt x="6917" y="2"/>
                    </a:lnTo>
                    <a:cubicBezTo>
                      <a:pt x="6918" y="2"/>
                      <a:pt x="6919" y="3"/>
                      <a:pt x="6919" y="4"/>
                    </a:cubicBezTo>
                    <a:cubicBezTo>
                      <a:pt x="6919" y="5"/>
                      <a:pt x="6918" y="6"/>
                      <a:pt x="6917" y="6"/>
                    </a:cubicBezTo>
                    <a:lnTo>
                      <a:pt x="6917" y="6"/>
                    </a:lnTo>
                    <a:cubicBezTo>
                      <a:pt x="6916" y="6"/>
                      <a:pt x="6915" y="5"/>
                      <a:pt x="6915" y="4"/>
                    </a:cubicBezTo>
                    <a:cubicBezTo>
                      <a:pt x="6915" y="3"/>
                      <a:pt x="6916" y="2"/>
                      <a:pt x="6917" y="2"/>
                    </a:cubicBezTo>
                    <a:close/>
                    <a:moveTo>
                      <a:pt x="6925" y="2"/>
                    </a:moveTo>
                    <a:lnTo>
                      <a:pt x="6925" y="2"/>
                    </a:lnTo>
                    <a:cubicBezTo>
                      <a:pt x="6926" y="2"/>
                      <a:pt x="6927" y="3"/>
                      <a:pt x="6927" y="4"/>
                    </a:cubicBezTo>
                    <a:cubicBezTo>
                      <a:pt x="6927" y="5"/>
                      <a:pt x="6926" y="6"/>
                      <a:pt x="6925" y="6"/>
                    </a:cubicBezTo>
                    <a:lnTo>
                      <a:pt x="6925" y="6"/>
                    </a:lnTo>
                    <a:cubicBezTo>
                      <a:pt x="6924" y="6"/>
                      <a:pt x="6923" y="5"/>
                      <a:pt x="6923" y="4"/>
                    </a:cubicBezTo>
                    <a:cubicBezTo>
                      <a:pt x="6923" y="3"/>
                      <a:pt x="6924" y="2"/>
                      <a:pt x="6925" y="2"/>
                    </a:cubicBezTo>
                    <a:close/>
                    <a:moveTo>
                      <a:pt x="6933" y="2"/>
                    </a:moveTo>
                    <a:lnTo>
                      <a:pt x="6933" y="2"/>
                    </a:lnTo>
                    <a:cubicBezTo>
                      <a:pt x="6934" y="2"/>
                      <a:pt x="6935" y="3"/>
                      <a:pt x="6935" y="4"/>
                    </a:cubicBezTo>
                    <a:cubicBezTo>
                      <a:pt x="6935" y="5"/>
                      <a:pt x="6934" y="6"/>
                      <a:pt x="6933" y="6"/>
                    </a:cubicBezTo>
                    <a:lnTo>
                      <a:pt x="6933" y="6"/>
                    </a:lnTo>
                    <a:cubicBezTo>
                      <a:pt x="6932" y="6"/>
                      <a:pt x="6931" y="5"/>
                      <a:pt x="6931" y="4"/>
                    </a:cubicBezTo>
                    <a:cubicBezTo>
                      <a:pt x="6931" y="3"/>
                      <a:pt x="6932" y="2"/>
                      <a:pt x="6933" y="2"/>
                    </a:cubicBezTo>
                    <a:close/>
                    <a:moveTo>
                      <a:pt x="6941" y="2"/>
                    </a:moveTo>
                    <a:lnTo>
                      <a:pt x="6941" y="2"/>
                    </a:lnTo>
                    <a:cubicBezTo>
                      <a:pt x="6942" y="2"/>
                      <a:pt x="6943" y="3"/>
                      <a:pt x="6943" y="4"/>
                    </a:cubicBezTo>
                    <a:cubicBezTo>
                      <a:pt x="6943" y="5"/>
                      <a:pt x="6942" y="6"/>
                      <a:pt x="6941" y="6"/>
                    </a:cubicBezTo>
                    <a:lnTo>
                      <a:pt x="6941" y="6"/>
                    </a:lnTo>
                    <a:cubicBezTo>
                      <a:pt x="6940" y="6"/>
                      <a:pt x="6939" y="5"/>
                      <a:pt x="6939" y="4"/>
                    </a:cubicBezTo>
                    <a:cubicBezTo>
                      <a:pt x="6939" y="3"/>
                      <a:pt x="6940" y="2"/>
                      <a:pt x="6941" y="2"/>
                    </a:cubicBezTo>
                    <a:close/>
                    <a:moveTo>
                      <a:pt x="6949" y="2"/>
                    </a:moveTo>
                    <a:lnTo>
                      <a:pt x="6949" y="2"/>
                    </a:lnTo>
                    <a:cubicBezTo>
                      <a:pt x="6950" y="2"/>
                      <a:pt x="6951" y="3"/>
                      <a:pt x="6951" y="4"/>
                    </a:cubicBezTo>
                    <a:cubicBezTo>
                      <a:pt x="6951" y="5"/>
                      <a:pt x="6950" y="6"/>
                      <a:pt x="6949" y="6"/>
                    </a:cubicBezTo>
                    <a:lnTo>
                      <a:pt x="6949" y="6"/>
                    </a:lnTo>
                    <a:cubicBezTo>
                      <a:pt x="6948" y="6"/>
                      <a:pt x="6947" y="5"/>
                      <a:pt x="6947" y="4"/>
                    </a:cubicBezTo>
                    <a:cubicBezTo>
                      <a:pt x="6947" y="3"/>
                      <a:pt x="6948" y="2"/>
                      <a:pt x="6949" y="2"/>
                    </a:cubicBezTo>
                    <a:close/>
                    <a:moveTo>
                      <a:pt x="6957" y="2"/>
                    </a:moveTo>
                    <a:lnTo>
                      <a:pt x="6957" y="2"/>
                    </a:lnTo>
                    <a:cubicBezTo>
                      <a:pt x="6958" y="2"/>
                      <a:pt x="6959" y="3"/>
                      <a:pt x="6959" y="4"/>
                    </a:cubicBezTo>
                    <a:cubicBezTo>
                      <a:pt x="6959" y="5"/>
                      <a:pt x="6958" y="6"/>
                      <a:pt x="6957" y="6"/>
                    </a:cubicBezTo>
                    <a:lnTo>
                      <a:pt x="6957" y="6"/>
                    </a:lnTo>
                    <a:cubicBezTo>
                      <a:pt x="6956" y="6"/>
                      <a:pt x="6955" y="5"/>
                      <a:pt x="6955" y="4"/>
                    </a:cubicBezTo>
                    <a:cubicBezTo>
                      <a:pt x="6955" y="3"/>
                      <a:pt x="6956" y="2"/>
                      <a:pt x="6957" y="2"/>
                    </a:cubicBezTo>
                    <a:close/>
                    <a:moveTo>
                      <a:pt x="6965" y="2"/>
                    </a:moveTo>
                    <a:lnTo>
                      <a:pt x="6965" y="2"/>
                    </a:lnTo>
                    <a:cubicBezTo>
                      <a:pt x="6966" y="2"/>
                      <a:pt x="6967" y="3"/>
                      <a:pt x="6967" y="4"/>
                    </a:cubicBezTo>
                    <a:cubicBezTo>
                      <a:pt x="6967" y="5"/>
                      <a:pt x="6966" y="6"/>
                      <a:pt x="6965" y="6"/>
                    </a:cubicBezTo>
                    <a:lnTo>
                      <a:pt x="6965" y="6"/>
                    </a:lnTo>
                    <a:cubicBezTo>
                      <a:pt x="6964" y="6"/>
                      <a:pt x="6963" y="5"/>
                      <a:pt x="6963" y="4"/>
                    </a:cubicBezTo>
                    <a:cubicBezTo>
                      <a:pt x="6963" y="3"/>
                      <a:pt x="6964" y="2"/>
                      <a:pt x="6965" y="2"/>
                    </a:cubicBezTo>
                    <a:close/>
                    <a:moveTo>
                      <a:pt x="6973" y="2"/>
                    </a:moveTo>
                    <a:lnTo>
                      <a:pt x="6973" y="2"/>
                    </a:lnTo>
                    <a:cubicBezTo>
                      <a:pt x="6974" y="2"/>
                      <a:pt x="6975" y="3"/>
                      <a:pt x="6975" y="4"/>
                    </a:cubicBezTo>
                    <a:cubicBezTo>
                      <a:pt x="6975" y="5"/>
                      <a:pt x="6974" y="6"/>
                      <a:pt x="6973" y="6"/>
                    </a:cubicBezTo>
                    <a:lnTo>
                      <a:pt x="6973" y="6"/>
                    </a:lnTo>
                    <a:cubicBezTo>
                      <a:pt x="6972" y="6"/>
                      <a:pt x="6971" y="5"/>
                      <a:pt x="6971" y="4"/>
                    </a:cubicBezTo>
                    <a:cubicBezTo>
                      <a:pt x="6971" y="3"/>
                      <a:pt x="6972" y="2"/>
                      <a:pt x="6973" y="2"/>
                    </a:cubicBezTo>
                    <a:close/>
                    <a:moveTo>
                      <a:pt x="6981" y="2"/>
                    </a:moveTo>
                    <a:lnTo>
                      <a:pt x="6981" y="2"/>
                    </a:lnTo>
                    <a:cubicBezTo>
                      <a:pt x="6982" y="2"/>
                      <a:pt x="6983" y="3"/>
                      <a:pt x="6983" y="4"/>
                    </a:cubicBezTo>
                    <a:cubicBezTo>
                      <a:pt x="6983" y="5"/>
                      <a:pt x="6982" y="6"/>
                      <a:pt x="6981" y="6"/>
                    </a:cubicBezTo>
                    <a:lnTo>
                      <a:pt x="6981" y="6"/>
                    </a:lnTo>
                    <a:cubicBezTo>
                      <a:pt x="6980" y="6"/>
                      <a:pt x="6979" y="5"/>
                      <a:pt x="6979" y="4"/>
                    </a:cubicBezTo>
                    <a:cubicBezTo>
                      <a:pt x="6979" y="3"/>
                      <a:pt x="6980" y="2"/>
                      <a:pt x="6981" y="2"/>
                    </a:cubicBezTo>
                    <a:close/>
                    <a:moveTo>
                      <a:pt x="6989" y="2"/>
                    </a:moveTo>
                    <a:lnTo>
                      <a:pt x="6989" y="2"/>
                    </a:lnTo>
                    <a:cubicBezTo>
                      <a:pt x="6990" y="2"/>
                      <a:pt x="6991" y="3"/>
                      <a:pt x="6991" y="4"/>
                    </a:cubicBezTo>
                    <a:cubicBezTo>
                      <a:pt x="6991" y="5"/>
                      <a:pt x="6990" y="6"/>
                      <a:pt x="6989" y="6"/>
                    </a:cubicBezTo>
                    <a:lnTo>
                      <a:pt x="6989" y="6"/>
                    </a:lnTo>
                    <a:cubicBezTo>
                      <a:pt x="6988" y="6"/>
                      <a:pt x="6987" y="5"/>
                      <a:pt x="6987" y="4"/>
                    </a:cubicBezTo>
                    <a:cubicBezTo>
                      <a:pt x="6987" y="3"/>
                      <a:pt x="6988" y="2"/>
                      <a:pt x="6989" y="2"/>
                    </a:cubicBezTo>
                    <a:close/>
                    <a:moveTo>
                      <a:pt x="6997" y="2"/>
                    </a:moveTo>
                    <a:lnTo>
                      <a:pt x="6997" y="2"/>
                    </a:lnTo>
                    <a:cubicBezTo>
                      <a:pt x="6998" y="2"/>
                      <a:pt x="6999" y="3"/>
                      <a:pt x="6999" y="4"/>
                    </a:cubicBezTo>
                    <a:cubicBezTo>
                      <a:pt x="6999" y="5"/>
                      <a:pt x="6998" y="6"/>
                      <a:pt x="6997" y="6"/>
                    </a:cubicBezTo>
                    <a:lnTo>
                      <a:pt x="6997" y="6"/>
                    </a:lnTo>
                    <a:cubicBezTo>
                      <a:pt x="6996" y="6"/>
                      <a:pt x="6995" y="5"/>
                      <a:pt x="6995" y="4"/>
                    </a:cubicBezTo>
                    <a:cubicBezTo>
                      <a:pt x="6995" y="3"/>
                      <a:pt x="6996" y="2"/>
                      <a:pt x="6997" y="2"/>
                    </a:cubicBezTo>
                    <a:close/>
                    <a:moveTo>
                      <a:pt x="7005" y="2"/>
                    </a:moveTo>
                    <a:lnTo>
                      <a:pt x="7005" y="2"/>
                    </a:lnTo>
                    <a:cubicBezTo>
                      <a:pt x="7006" y="2"/>
                      <a:pt x="7007" y="3"/>
                      <a:pt x="7007" y="4"/>
                    </a:cubicBezTo>
                    <a:cubicBezTo>
                      <a:pt x="7007" y="5"/>
                      <a:pt x="7006" y="6"/>
                      <a:pt x="7005" y="6"/>
                    </a:cubicBezTo>
                    <a:lnTo>
                      <a:pt x="7005" y="6"/>
                    </a:lnTo>
                    <a:cubicBezTo>
                      <a:pt x="7004" y="6"/>
                      <a:pt x="7003" y="5"/>
                      <a:pt x="7003" y="4"/>
                    </a:cubicBezTo>
                    <a:cubicBezTo>
                      <a:pt x="7003" y="3"/>
                      <a:pt x="7004" y="2"/>
                      <a:pt x="7005" y="2"/>
                    </a:cubicBezTo>
                    <a:close/>
                    <a:moveTo>
                      <a:pt x="7013" y="2"/>
                    </a:moveTo>
                    <a:lnTo>
                      <a:pt x="7013" y="2"/>
                    </a:lnTo>
                    <a:cubicBezTo>
                      <a:pt x="7014" y="2"/>
                      <a:pt x="7015" y="3"/>
                      <a:pt x="7015" y="4"/>
                    </a:cubicBezTo>
                    <a:cubicBezTo>
                      <a:pt x="7015" y="5"/>
                      <a:pt x="7014" y="6"/>
                      <a:pt x="7013" y="6"/>
                    </a:cubicBezTo>
                    <a:lnTo>
                      <a:pt x="7013" y="6"/>
                    </a:lnTo>
                    <a:cubicBezTo>
                      <a:pt x="7012" y="6"/>
                      <a:pt x="7011" y="5"/>
                      <a:pt x="7011" y="4"/>
                    </a:cubicBezTo>
                    <a:cubicBezTo>
                      <a:pt x="7011" y="3"/>
                      <a:pt x="7012" y="2"/>
                      <a:pt x="7013" y="2"/>
                    </a:cubicBezTo>
                    <a:close/>
                    <a:moveTo>
                      <a:pt x="7021" y="2"/>
                    </a:moveTo>
                    <a:lnTo>
                      <a:pt x="7021" y="2"/>
                    </a:lnTo>
                    <a:cubicBezTo>
                      <a:pt x="7022" y="2"/>
                      <a:pt x="7023" y="3"/>
                      <a:pt x="7023" y="4"/>
                    </a:cubicBezTo>
                    <a:cubicBezTo>
                      <a:pt x="7023" y="5"/>
                      <a:pt x="7022" y="6"/>
                      <a:pt x="7021" y="6"/>
                    </a:cubicBezTo>
                    <a:lnTo>
                      <a:pt x="7021" y="6"/>
                    </a:lnTo>
                    <a:cubicBezTo>
                      <a:pt x="7020" y="6"/>
                      <a:pt x="7019" y="5"/>
                      <a:pt x="7019" y="4"/>
                    </a:cubicBezTo>
                    <a:cubicBezTo>
                      <a:pt x="7019" y="3"/>
                      <a:pt x="7020" y="2"/>
                      <a:pt x="7021" y="2"/>
                    </a:cubicBezTo>
                    <a:close/>
                    <a:moveTo>
                      <a:pt x="7029" y="2"/>
                    </a:moveTo>
                    <a:lnTo>
                      <a:pt x="7029" y="2"/>
                    </a:lnTo>
                    <a:cubicBezTo>
                      <a:pt x="7030" y="2"/>
                      <a:pt x="7031" y="3"/>
                      <a:pt x="7031" y="4"/>
                    </a:cubicBezTo>
                    <a:cubicBezTo>
                      <a:pt x="7031" y="5"/>
                      <a:pt x="7030" y="6"/>
                      <a:pt x="7029" y="6"/>
                    </a:cubicBezTo>
                    <a:lnTo>
                      <a:pt x="7029" y="6"/>
                    </a:lnTo>
                    <a:cubicBezTo>
                      <a:pt x="7028" y="6"/>
                      <a:pt x="7027" y="5"/>
                      <a:pt x="7027" y="4"/>
                    </a:cubicBezTo>
                    <a:cubicBezTo>
                      <a:pt x="7027" y="3"/>
                      <a:pt x="7028" y="2"/>
                      <a:pt x="7029" y="2"/>
                    </a:cubicBezTo>
                    <a:close/>
                    <a:moveTo>
                      <a:pt x="7037" y="2"/>
                    </a:moveTo>
                    <a:lnTo>
                      <a:pt x="7037" y="2"/>
                    </a:lnTo>
                    <a:cubicBezTo>
                      <a:pt x="7038" y="2"/>
                      <a:pt x="7039" y="3"/>
                      <a:pt x="7039" y="4"/>
                    </a:cubicBezTo>
                    <a:cubicBezTo>
                      <a:pt x="7039" y="5"/>
                      <a:pt x="7038" y="6"/>
                      <a:pt x="7037" y="6"/>
                    </a:cubicBezTo>
                    <a:lnTo>
                      <a:pt x="7037" y="6"/>
                    </a:lnTo>
                    <a:cubicBezTo>
                      <a:pt x="7036" y="6"/>
                      <a:pt x="7035" y="5"/>
                      <a:pt x="7035" y="4"/>
                    </a:cubicBezTo>
                    <a:cubicBezTo>
                      <a:pt x="7035" y="3"/>
                      <a:pt x="7036" y="2"/>
                      <a:pt x="7037" y="2"/>
                    </a:cubicBezTo>
                    <a:close/>
                    <a:moveTo>
                      <a:pt x="7045" y="2"/>
                    </a:moveTo>
                    <a:lnTo>
                      <a:pt x="7045" y="2"/>
                    </a:lnTo>
                    <a:cubicBezTo>
                      <a:pt x="7046" y="2"/>
                      <a:pt x="7047" y="3"/>
                      <a:pt x="7047" y="4"/>
                    </a:cubicBezTo>
                    <a:cubicBezTo>
                      <a:pt x="7047" y="5"/>
                      <a:pt x="7046" y="6"/>
                      <a:pt x="7045" y="6"/>
                    </a:cubicBezTo>
                    <a:lnTo>
                      <a:pt x="7045" y="6"/>
                    </a:lnTo>
                    <a:cubicBezTo>
                      <a:pt x="7044" y="6"/>
                      <a:pt x="7043" y="5"/>
                      <a:pt x="7043" y="4"/>
                    </a:cubicBezTo>
                    <a:cubicBezTo>
                      <a:pt x="7043" y="3"/>
                      <a:pt x="7044" y="2"/>
                      <a:pt x="7045" y="2"/>
                    </a:cubicBezTo>
                    <a:close/>
                    <a:moveTo>
                      <a:pt x="7053" y="2"/>
                    </a:moveTo>
                    <a:lnTo>
                      <a:pt x="7053" y="2"/>
                    </a:lnTo>
                    <a:cubicBezTo>
                      <a:pt x="7054" y="2"/>
                      <a:pt x="7055" y="3"/>
                      <a:pt x="7055" y="4"/>
                    </a:cubicBezTo>
                    <a:cubicBezTo>
                      <a:pt x="7055" y="5"/>
                      <a:pt x="7054" y="6"/>
                      <a:pt x="7053" y="6"/>
                    </a:cubicBezTo>
                    <a:lnTo>
                      <a:pt x="7053" y="6"/>
                    </a:lnTo>
                    <a:cubicBezTo>
                      <a:pt x="7052" y="6"/>
                      <a:pt x="7051" y="5"/>
                      <a:pt x="7051" y="4"/>
                    </a:cubicBezTo>
                    <a:cubicBezTo>
                      <a:pt x="7051" y="3"/>
                      <a:pt x="7052" y="2"/>
                      <a:pt x="7053" y="2"/>
                    </a:cubicBezTo>
                    <a:close/>
                    <a:moveTo>
                      <a:pt x="7061" y="2"/>
                    </a:moveTo>
                    <a:lnTo>
                      <a:pt x="7061" y="2"/>
                    </a:lnTo>
                    <a:cubicBezTo>
                      <a:pt x="7062" y="2"/>
                      <a:pt x="7063" y="3"/>
                      <a:pt x="7063" y="4"/>
                    </a:cubicBezTo>
                    <a:cubicBezTo>
                      <a:pt x="7063" y="5"/>
                      <a:pt x="7062" y="6"/>
                      <a:pt x="7061" y="6"/>
                    </a:cubicBezTo>
                    <a:lnTo>
                      <a:pt x="7061" y="6"/>
                    </a:lnTo>
                    <a:cubicBezTo>
                      <a:pt x="7060" y="6"/>
                      <a:pt x="7059" y="5"/>
                      <a:pt x="7059" y="4"/>
                    </a:cubicBezTo>
                    <a:cubicBezTo>
                      <a:pt x="7059" y="3"/>
                      <a:pt x="7060" y="2"/>
                      <a:pt x="7061" y="2"/>
                    </a:cubicBezTo>
                    <a:close/>
                    <a:moveTo>
                      <a:pt x="7069" y="2"/>
                    </a:moveTo>
                    <a:lnTo>
                      <a:pt x="7069" y="2"/>
                    </a:lnTo>
                    <a:cubicBezTo>
                      <a:pt x="7070" y="2"/>
                      <a:pt x="7071" y="3"/>
                      <a:pt x="7071" y="4"/>
                    </a:cubicBezTo>
                    <a:cubicBezTo>
                      <a:pt x="7071" y="5"/>
                      <a:pt x="7070" y="6"/>
                      <a:pt x="7069" y="6"/>
                    </a:cubicBezTo>
                    <a:lnTo>
                      <a:pt x="7069" y="6"/>
                    </a:lnTo>
                    <a:cubicBezTo>
                      <a:pt x="7068" y="6"/>
                      <a:pt x="7067" y="5"/>
                      <a:pt x="7067" y="4"/>
                    </a:cubicBezTo>
                    <a:cubicBezTo>
                      <a:pt x="7067" y="3"/>
                      <a:pt x="7068" y="2"/>
                      <a:pt x="7069" y="2"/>
                    </a:cubicBezTo>
                    <a:close/>
                    <a:moveTo>
                      <a:pt x="7077" y="2"/>
                    </a:moveTo>
                    <a:lnTo>
                      <a:pt x="7077" y="2"/>
                    </a:lnTo>
                    <a:cubicBezTo>
                      <a:pt x="7078" y="2"/>
                      <a:pt x="7079" y="3"/>
                      <a:pt x="7079" y="4"/>
                    </a:cubicBezTo>
                    <a:cubicBezTo>
                      <a:pt x="7079" y="5"/>
                      <a:pt x="7078" y="6"/>
                      <a:pt x="7077" y="6"/>
                    </a:cubicBezTo>
                    <a:lnTo>
                      <a:pt x="7077" y="6"/>
                    </a:lnTo>
                    <a:cubicBezTo>
                      <a:pt x="7076" y="6"/>
                      <a:pt x="7075" y="5"/>
                      <a:pt x="7075" y="4"/>
                    </a:cubicBezTo>
                    <a:cubicBezTo>
                      <a:pt x="7075" y="3"/>
                      <a:pt x="7076" y="2"/>
                      <a:pt x="7077" y="2"/>
                    </a:cubicBezTo>
                    <a:close/>
                    <a:moveTo>
                      <a:pt x="7085" y="2"/>
                    </a:moveTo>
                    <a:lnTo>
                      <a:pt x="7085" y="2"/>
                    </a:lnTo>
                    <a:cubicBezTo>
                      <a:pt x="7086" y="2"/>
                      <a:pt x="7087" y="3"/>
                      <a:pt x="7087" y="4"/>
                    </a:cubicBezTo>
                    <a:cubicBezTo>
                      <a:pt x="7087" y="5"/>
                      <a:pt x="7086" y="6"/>
                      <a:pt x="7085" y="6"/>
                    </a:cubicBezTo>
                    <a:lnTo>
                      <a:pt x="7085" y="6"/>
                    </a:lnTo>
                    <a:cubicBezTo>
                      <a:pt x="7084" y="6"/>
                      <a:pt x="7083" y="5"/>
                      <a:pt x="7083" y="4"/>
                    </a:cubicBezTo>
                    <a:cubicBezTo>
                      <a:pt x="7083" y="3"/>
                      <a:pt x="7084" y="2"/>
                      <a:pt x="7085" y="2"/>
                    </a:cubicBezTo>
                    <a:close/>
                    <a:moveTo>
                      <a:pt x="7093" y="2"/>
                    </a:moveTo>
                    <a:lnTo>
                      <a:pt x="7093" y="2"/>
                    </a:lnTo>
                    <a:cubicBezTo>
                      <a:pt x="7094" y="2"/>
                      <a:pt x="7095" y="3"/>
                      <a:pt x="7095" y="4"/>
                    </a:cubicBezTo>
                    <a:cubicBezTo>
                      <a:pt x="7095" y="5"/>
                      <a:pt x="7094" y="6"/>
                      <a:pt x="7093" y="6"/>
                    </a:cubicBezTo>
                    <a:lnTo>
                      <a:pt x="7093" y="6"/>
                    </a:lnTo>
                    <a:cubicBezTo>
                      <a:pt x="7092" y="6"/>
                      <a:pt x="7091" y="5"/>
                      <a:pt x="7091" y="4"/>
                    </a:cubicBezTo>
                    <a:cubicBezTo>
                      <a:pt x="7091" y="3"/>
                      <a:pt x="7092" y="2"/>
                      <a:pt x="7093" y="2"/>
                    </a:cubicBezTo>
                    <a:close/>
                    <a:moveTo>
                      <a:pt x="7101" y="2"/>
                    </a:moveTo>
                    <a:lnTo>
                      <a:pt x="7101" y="2"/>
                    </a:lnTo>
                    <a:cubicBezTo>
                      <a:pt x="7102" y="2"/>
                      <a:pt x="7103" y="3"/>
                      <a:pt x="7103" y="4"/>
                    </a:cubicBezTo>
                    <a:cubicBezTo>
                      <a:pt x="7103" y="5"/>
                      <a:pt x="7102" y="6"/>
                      <a:pt x="7101" y="6"/>
                    </a:cubicBezTo>
                    <a:lnTo>
                      <a:pt x="7101" y="6"/>
                    </a:lnTo>
                    <a:cubicBezTo>
                      <a:pt x="7100" y="6"/>
                      <a:pt x="7099" y="5"/>
                      <a:pt x="7099" y="4"/>
                    </a:cubicBezTo>
                    <a:cubicBezTo>
                      <a:pt x="7099" y="3"/>
                      <a:pt x="7100" y="2"/>
                      <a:pt x="7101" y="2"/>
                    </a:cubicBezTo>
                    <a:close/>
                    <a:moveTo>
                      <a:pt x="7109" y="2"/>
                    </a:moveTo>
                    <a:lnTo>
                      <a:pt x="7109" y="2"/>
                    </a:lnTo>
                    <a:cubicBezTo>
                      <a:pt x="7110" y="2"/>
                      <a:pt x="7111" y="3"/>
                      <a:pt x="7111" y="4"/>
                    </a:cubicBezTo>
                    <a:cubicBezTo>
                      <a:pt x="7111" y="5"/>
                      <a:pt x="7110" y="6"/>
                      <a:pt x="7109" y="6"/>
                    </a:cubicBezTo>
                    <a:lnTo>
                      <a:pt x="7109" y="6"/>
                    </a:lnTo>
                    <a:cubicBezTo>
                      <a:pt x="7108" y="6"/>
                      <a:pt x="7107" y="5"/>
                      <a:pt x="7107" y="4"/>
                    </a:cubicBezTo>
                    <a:cubicBezTo>
                      <a:pt x="7107" y="3"/>
                      <a:pt x="7108" y="2"/>
                      <a:pt x="7109" y="2"/>
                    </a:cubicBezTo>
                    <a:close/>
                    <a:moveTo>
                      <a:pt x="7117" y="2"/>
                    </a:moveTo>
                    <a:lnTo>
                      <a:pt x="7117" y="2"/>
                    </a:lnTo>
                    <a:cubicBezTo>
                      <a:pt x="7118" y="2"/>
                      <a:pt x="7119" y="3"/>
                      <a:pt x="7119" y="4"/>
                    </a:cubicBezTo>
                    <a:cubicBezTo>
                      <a:pt x="7119" y="5"/>
                      <a:pt x="7118" y="6"/>
                      <a:pt x="7117" y="6"/>
                    </a:cubicBezTo>
                    <a:lnTo>
                      <a:pt x="7117" y="6"/>
                    </a:lnTo>
                    <a:cubicBezTo>
                      <a:pt x="7116" y="6"/>
                      <a:pt x="7115" y="5"/>
                      <a:pt x="7115" y="4"/>
                    </a:cubicBezTo>
                    <a:cubicBezTo>
                      <a:pt x="7115" y="3"/>
                      <a:pt x="7116" y="2"/>
                      <a:pt x="7117" y="2"/>
                    </a:cubicBezTo>
                    <a:close/>
                    <a:moveTo>
                      <a:pt x="7125" y="2"/>
                    </a:moveTo>
                    <a:lnTo>
                      <a:pt x="7125" y="2"/>
                    </a:lnTo>
                    <a:cubicBezTo>
                      <a:pt x="7126" y="2"/>
                      <a:pt x="7127" y="3"/>
                      <a:pt x="7127" y="4"/>
                    </a:cubicBezTo>
                    <a:cubicBezTo>
                      <a:pt x="7127" y="5"/>
                      <a:pt x="7126" y="6"/>
                      <a:pt x="7125" y="6"/>
                    </a:cubicBezTo>
                    <a:lnTo>
                      <a:pt x="7125" y="6"/>
                    </a:lnTo>
                    <a:cubicBezTo>
                      <a:pt x="7124" y="6"/>
                      <a:pt x="7123" y="5"/>
                      <a:pt x="7123" y="4"/>
                    </a:cubicBezTo>
                    <a:cubicBezTo>
                      <a:pt x="7123" y="3"/>
                      <a:pt x="7124" y="2"/>
                      <a:pt x="7125" y="2"/>
                    </a:cubicBezTo>
                    <a:close/>
                    <a:moveTo>
                      <a:pt x="7133" y="2"/>
                    </a:moveTo>
                    <a:lnTo>
                      <a:pt x="7133" y="2"/>
                    </a:lnTo>
                    <a:cubicBezTo>
                      <a:pt x="7134" y="2"/>
                      <a:pt x="7135" y="3"/>
                      <a:pt x="7135" y="4"/>
                    </a:cubicBezTo>
                    <a:cubicBezTo>
                      <a:pt x="7135" y="5"/>
                      <a:pt x="7134" y="6"/>
                      <a:pt x="7133" y="6"/>
                    </a:cubicBezTo>
                    <a:lnTo>
                      <a:pt x="7133" y="6"/>
                    </a:lnTo>
                    <a:cubicBezTo>
                      <a:pt x="7132" y="6"/>
                      <a:pt x="7131" y="5"/>
                      <a:pt x="7131" y="4"/>
                    </a:cubicBezTo>
                    <a:cubicBezTo>
                      <a:pt x="7131" y="3"/>
                      <a:pt x="7132" y="2"/>
                      <a:pt x="7133" y="2"/>
                    </a:cubicBezTo>
                    <a:close/>
                    <a:moveTo>
                      <a:pt x="7141" y="2"/>
                    </a:moveTo>
                    <a:lnTo>
                      <a:pt x="7141" y="2"/>
                    </a:lnTo>
                    <a:cubicBezTo>
                      <a:pt x="7142" y="2"/>
                      <a:pt x="7143" y="3"/>
                      <a:pt x="7143" y="4"/>
                    </a:cubicBezTo>
                    <a:cubicBezTo>
                      <a:pt x="7143" y="5"/>
                      <a:pt x="7142" y="6"/>
                      <a:pt x="7141" y="6"/>
                    </a:cubicBezTo>
                    <a:lnTo>
                      <a:pt x="7141" y="6"/>
                    </a:lnTo>
                    <a:cubicBezTo>
                      <a:pt x="7140" y="6"/>
                      <a:pt x="7139" y="5"/>
                      <a:pt x="7139" y="4"/>
                    </a:cubicBezTo>
                    <a:cubicBezTo>
                      <a:pt x="7139" y="3"/>
                      <a:pt x="7140" y="2"/>
                      <a:pt x="7141" y="2"/>
                    </a:cubicBezTo>
                    <a:close/>
                    <a:moveTo>
                      <a:pt x="7149" y="2"/>
                    </a:moveTo>
                    <a:lnTo>
                      <a:pt x="7149" y="2"/>
                    </a:lnTo>
                    <a:cubicBezTo>
                      <a:pt x="7150" y="2"/>
                      <a:pt x="7151" y="3"/>
                      <a:pt x="7151" y="4"/>
                    </a:cubicBezTo>
                    <a:cubicBezTo>
                      <a:pt x="7151" y="5"/>
                      <a:pt x="7150" y="6"/>
                      <a:pt x="7149" y="6"/>
                    </a:cubicBezTo>
                    <a:lnTo>
                      <a:pt x="7149" y="6"/>
                    </a:lnTo>
                    <a:cubicBezTo>
                      <a:pt x="7148" y="6"/>
                      <a:pt x="7147" y="5"/>
                      <a:pt x="7147" y="4"/>
                    </a:cubicBezTo>
                    <a:cubicBezTo>
                      <a:pt x="7147" y="3"/>
                      <a:pt x="7148" y="2"/>
                      <a:pt x="7149" y="2"/>
                    </a:cubicBezTo>
                    <a:close/>
                    <a:moveTo>
                      <a:pt x="7157" y="2"/>
                    </a:moveTo>
                    <a:lnTo>
                      <a:pt x="7157" y="2"/>
                    </a:lnTo>
                    <a:cubicBezTo>
                      <a:pt x="7158" y="2"/>
                      <a:pt x="7159" y="3"/>
                      <a:pt x="7159" y="4"/>
                    </a:cubicBezTo>
                    <a:cubicBezTo>
                      <a:pt x="7159" y="5"/>
                      <a:pt x="7158" y="6"/>
                      <a:pt x="7157" y="6"/>
                    </a:cubicBezTo>
                    <a:lnTo>
                      <a:pt x="7157" y="6"/>
                    </a:lnTo>
                    <a:cubicBezTo>
                      <a:pt x="7156" y="6"/>
                      <a:pt x="7155" y="5"/>
                      <a:pt x="7155" y="4"/>
                    </a:cubicBezTo>
                    <a:cubicBezTo>
                      <a:pt x="7155" y="3"/>
                      <a:pt x="7156" y="2"/>
                      <a:pt x="7157" y="2"/>
                    </a:cubicBezTo>
                    <a:close/>
                    <a:moveTo>
                      <a:pt x="7165" y="2"/>
                    </a:moveTo>
                    <a:lnTo>
                      <a:pt x="7165" y="2"/>
                    </a:lnTo>
                    <a:cubicBezTo>
                      <a:pt x="7166" y="2"/>
                      <a:pt x="7167" y="3"/>
                      <a:pt x="7167" y="4"/>
                    </a:cubicBezTo>
                    <a:cubicBezTo>
                      <a:pt x="7167" y="5"/>
                      <a:pt x="7166" y="6"/>
                      <a:pt x="7165" y="6"/>
                    </a:cubicBezTo>
                    <a:lnTo>
                      <a:pt x="7165" y="6"/>
                    </a:lnTo>
                    <a:cubicBezTo>
                      <a:pt x="7164" y="6"/>
                      <a:pt x="7163" y="5"/>
                      <a:pt x="7163" y="4"/>
                    </a:cubicBezTo>
                    <a:cubicBezTo>
                      <a:pt x="7163" y="3"/>
                      <a:pt x="7164" y="2"/>
                      <a:pt x="7165" y="2"/>
                    </a:cubicBezTo>
                    <a:close/>
                    <a:moveTo>
                      <a:pt x="7173" y="2"/>
                    </a:moveTo>
                    <a:lnTo>
                      <a:pt x="7173" y="2"/>
                    </a:lnTo>
                    <a:cubicBezTo>
                      <a:pt x="7174" y="2"/>
                      <a:pt x="7175" y="3"/>
                      <a:pt x="7175" y="4"/>
                    </a:cubicBezTo>
                    <a:cubicBezTo>
                      <a:pt x="7175" y="5"/>
                      <a:pt x="7174" y="6"/>
                      <a:pt x="7173" y="6"/>
                    </a:cubicBezTo>
                    <a:lnTo>
                      <a:pt x="7173" y="6"/>
                    </a:lnTo>
                    <a:cubicBezTo>
                      <a:pt x="7172" y="6"/>
                      <a:pt x="7171" y="5"/>
                      <a:pt x="7171" y="4"/>
                    </a:cubicBezTo>
                    <a:cubicBezTo>
                      <a:pt x="7171" y="3"/>
                      <a:pt x="7172" y="2"/>
                      <a:pt x="7173" y="2"/>
                    </a:cubicBezTo>
                    <a:close/>
                    <a:moveTo>
                      <a:pt x="7181" y="2"/>
                    </a:moveTo>
                    <a:lnTo>
                      <a:pt x="7181" y="2"/>
                    </a:lnTo>
                    <a:cubicBezTo>
                      <a:pt x="7182" y="2"/>
                      <a:pt x="7183" y="3"/>
                      <a:pt x="7183" y="4"/>
                    </a:cubicBezTo>
                    <a:cubicBezTo>
                      <a:pt x="7183" y="5"/>
                      <a:pt x="7182" y="6"/>
                      <a:pt x="7181" y="6"/>
                    </a:cubicBezTo>
                    <a:lnTo>
                      <a:pt x="7181" y="6"/>
                    </a:lnTo>
                    <a:cubicBezTo>
                      <a:pt x="7180" y="6"/>
                      <a:pt x="7179" y="5"/>
                      <a:pt x="7179" y="4"/>
                    </a:cubicBezTo>
                    <a:cubicBezTo>
                      <a:pt x="7179" y="3"/>
                      <a:pt x="7180" y="2"/>
                      <a:pt x="7181" y="2"/>
                    </a:cubicBezTo>
                    <a:close/>
                    <a:moveTo>
                      <a:pt x="7189" y="2"/>
                    </a:moveTo>
                    <a:lnTo>
                      <a:pt x="7189" y="2"/>
                    </a:lnTo>
                    <a:cubicBezTo>
                      <a:pt x="7190" y="2"/>
                      <a:pt x="7191" y="3"/>
                      <a:pt x="7191" y="4"/>
                    </a:cubicBezTo>
                    <a:cubicBezTo>
                      <a:pt x="7191" y="5"/>
                      <a:pt x="7190" y="6"/>
                      <a:pt x="7189" y="6"/>
                    </a:cubicBezTo>
                    <a:lnTo>
                      <a:pt x="7189" y="6"/>
                    </a:lnTo>
                    <a:cubicBezTo>
                      <a:pt x="7188" y="6"/>
                      <a:pt x="7187" y="5"/>
                      <a:pt x="7187" y="4"/>
                    </a:cubicBezTo>
                    <a:cubicBezTo>
                      <a:pt x="7187" y="3"/>
                      <a:pt x="7188" y="2"/>
                      <a:pt x="7189" y="2"/>
                    </a:cubicBezTo>
                    <a:close/>
                    <a:moveTo>
                      <a:pt x="7197" y="2"/>
                    </a:moveTo>
                    <a:lnTo>
                      <a:pt x="7197" y="2"/>
                    </a:lnTo>
                    <a:cubicBezTo>
                      <a:pt x="7198" y="2"/>
                      <a:pt x="7199" y="3"/>
                      <a:pt x="7199" y="4"/>
                    </a:cubicBezTo>
                    <a:cubicBezTo>
                      <a:pt x="7199" y="5"/>
                      <a:pt x="7198" y="6"/>
                      <a:pt x="7197" y="6"/>
                    </a:cubicBezTo>
                    <a:lnTo>
                      <a:pt x="7197" y="6"/>
                    </a:lnTo>
                    <a:cubicBezTo>
                      <a:pt x="7196" y="6"/>
                      <a:pt x="7195" y="5"/>
                      <a:pt x="7195" y="4"/>
                    </a:cubicBezTo>
                    <a:cubicBezTo>
                      <a:pt x="7195" y="3"/>
                      <a:pt x="7196" y="2"/>
                      <a:pt x="7197" y="2"/>
                    </a:cubicBezTo>
                    <a:close/>
                    <a:moveTo>
                      <a:pt x="7205" y="2"/>
                    </a:moveTo>
                    <a:lnTo>
                      <a:pt x="7205" y="2"/>
                    </a:lnTo>
                    <a:cubicBezTo>
                      <a:pt x="7206" y="2"/>
                      <a:pt x="7207" y="3"/>
                      <a:pt x="7207" y="4"/>
                    </a:cubicBezTo>
                    <a:cubicBezTo>
                      <a:pt x="7207" y="5"/>
                      <a:pt x="7206" y="6"/>
                      <a:pt x="7205" y="6"/>
                    </a:cubicBezTo>
                    <a:lnTo>
                      <a:pt x="7205" y="6"/>
                    </a:lnTo>
                    <a:cubicBezTo>
                      <a:pt x="7204" y="6"/>
                      <a:pt x="7203" y="5"/>
                      <a:pt x="7203" y="4"/>
                    </a:cubicBezTo>
                    <a:cubicBezTo>
                      <a:pt x="7203" y="3"/>
                      <a:pt x="7204" y="2"/>
                      <a:pt x="7205" y="2"/>
                    </a:cubicBezTo>
                    <a:close/>
                    <a:moveTo>
                      <a:pt x="7213" y="2"/>
                    </a:moveTo>
                    <a:lnTo>
                      <a:pt x="7213" y="2"/>
                    </a:lnTo>
                    <a:cubicBezTo>
                      <a:pt x="7214" y="2"/>
                      <a:pt x="7215" y="3"/>
                      <a:pt x="7215" y="4"/>
                    </a:cubicBezTo>
                    <a:cubicBezTo>
                      <a:pt x="7215" y="5"/>
                      <a:pt x="7214" y="6"/>
                      <a:pt x="7213" y="6"/>
                    </a:cubicBezTo>
                    <a:lnTo>
                      <a:pt x="7213" y="6"/>
                    </a:lnTo>
                    <a:cubicBezTo>
                      <a:pt x="7212" y="6"/>
                      <a:pt x="7211" y="5"/>
                      <a:pt x="7211" y="4"/>
                    </a:cubicBezTo>
                    <a:cubicBezTo>
                      <a:pt x="7211" y="3"/>
                      <a:pt x="7212" y="2"/>
                      <a:pt x="7213" y="2"/>
                    </a:cubicBezTo>
                    <a:close/>
                    <a:moveTo>
                      <a:pt x="7221" y="2"/>
                    </a:moveTo>
                    <a:lnTo>
                      <a:pt x="7221" y="2"/>
                    </a:lnTo>
                    <a:cubicBezTo>
                      <a:pt x="7222" y="2"/>
                      <a:pt x="7223" y="3"/>
                      <a:pt x="7223" y="4"/>
                    </a:cubicBezTo>
                    <a:cubicBezTo>
                      <a:pt x="7223" y="5"/>
                      <a:pt x="7222" y="6"/>
                      <a:pt x="7221" y="6"/>
                    </a:cubicBezTo>
                    <a:lnTo>
                      <a:pt x="7221" y="6"/>
                    </a:lnTo>
                    <a:cubicBezTo>
                      <a:pt x="7220" y="6"/>
                      <a:pt x="7219" y="5"/>
                      <a:pt x="7219" y="4"/>
                    </a:cubicBezTo>
                    <a:cubicBezTo>
                      <a:pt x="7219" y="3"/>
                      <a:pt x="7220" y="2"/>
                      <a:pt x="7221" y="2"/>
                    </a:cubicBezTo>
                    <a:close/>
                    <a:moveTo>
                      <a:pt x="7229" y="2"/>
                    </a:moveTo>
                    <a:lnTo>
                      <a:pt x="7229" y="2"/>
                    </a:lnTo>
                    <a:cubicBezTo>
                      <a:pt x="7230" y="2"/>
                      <a:pt x="7231" y="3"/>
                      <a:pt x="7231" y="4"/>
                    </a:cubicBezTo>
                    <a:cubicBezTo>
                      <a:pt x="7231" y="5"/>
                      <a:pt x="7230" y="6"/>
                      <a:pt x="7229" y="6"/>
                    </a:cubicBezTo>
                    <a:lnTo>
                      <a:pt x="7229" y="6"/>
                    </a:lnTo>
                    <a:cubicBezTo>
                      <a:pt x="7228" y="6"/>
                      <a:pt x="7227" y="5"/>
                      <a:pt x="7227" y="4"/>
                    </a:cubicBezTo>
                    <a:cubicBezTo>
                      <a:pt x="7227" y="3"/>
                      <a:pt x="7228" y="2"/>
                      <a:pt x="7229" y="2"/>
                    </a:cubicBezTo>
                    <a:close/>
                    <a:moveTo>
                      <a:pt x="7237" y="2"/>
                    </a:moveTo>
                    <a:lnTo>
                      <a:pt x="7237" y="2"/>
                    </a:lnTo>
                    <a:cubicBezTo>
                      <a:pt x="7238" y="2"/>
                      <a:pt x="7239" y="3"/>
                      <a:pt x="7239" y="4"/>
                    </a:cubicBezTo>
                    <a:cubicBezTo>
                      <a:pt x="7239" y="5"/>
                      <a:pt x="7238" y="6"/>
                      <a:pt x="7237" y="6"/>
                    </a:cubicBezTo>
                    <a:lnTo>
                      <a:pt x="7237" y="6"/>
                    </a:lnTo>
                    <a:cubicBezTo>
                      <a:pt x="7236" y="6"/>
                      <a:pt x="7235" y="5"/>
                      <a:pt x="7235" y="4"/>
                    </a:cubicBezTo>
                    <a:cubicBezTo>
                      <a:pt x="7235" y="3"/>
                      <a:pt x="7236" y="2"/>
                      <a:pt x="7237" y="2"/>
                    </a:cubicBezTo>
                    <a:close/>
                    <a:moveTo>
                      <a:pt x="7245" y="2"/>
                    </a:moveTo>
                    <a:lnTo>
                      <a:pt x="7245" y="2"/>
                    </a:lnTo>
                    <a:cubicBezTo>
                      <a:pt x="7246" y="2"/>
                      <a:pt x="7247" y="3"/>
                      <a:pt x="7247" y="4"/>
                    </a:cubicBezTo>
                    <a:cubicBezTo>
                      <a:pt x="7247" y="5"/>
                      <a:pt x="7246" y="6"/>
                      <a:pt x="7245" y="6"/>
                    </a:cubicBezTo>
                    <a:lnTo>
                      <a:pt x="7245" y="6"/>
                    </a:lnTo>
                    <a:cubicBezTo>
                      <a:pt x="7244" y="6"/>
                      <a:pt x="7243" y="5"/>
                      <a:pt x="7243" y="4"/>
                    </a:cubicBezTo>
                    <a:cubicBezTo>
                      <a:pt x="7243" y="3"/>
                      <a:pt x="7244" y="2"/>
                      <a:pt x="7245" y="2"/>
                    </a:cubicBezTo>
                    <a:close/>
                    <a:moveTo>
                      <a:pt x="7253" y="2"/>
                    </a:moveTo>
                    <a:lnTo>
                      <a:pt x="7253" y="2"/>
                    </a:lnTo>
                    <a:cubicBezTo>
                      <a:pt x="7254" y="2"/>
                      <a:pt x="7255" y="3"/>
                      <a:pt x="7255" y="4"/>
                    </a:cubicBezTo>
                    <a:cubicBezTo>
                      <a:pt x="7255" y="5"/>
                      <a:pt x="7254" y="6"/>
                      <a:pt x="7253" y="6"/>
                    </a:cubicBezTo>
                    <a:lnTo>
                      <a:pt x="7253" y="6"/>
                    </a:lnTo>
                    <a:cubicBezTo>
                      <a:pt x="7252" y="6"/>
                      <a:pt x="7251" y="5"/>
                      <a:pt x="7251" y="4"/>
                    </a:cubicBezTo>
                    <a:cubicBezTo>
                      <a:pt x="7251" y="3"/>
                      <a:pt x="7252" y="2"/>
                      <a:pt x="7253" y="2"/>
                    </a:cubicBezTo>
                    <a:close/>
                    <a:moveTo>
                      <a:pt x="7261" y="2"/>
                    </a:moveTo>
                    <a:lnTo>
                      <a:pt x="7261" y="2"/>
                    </a:lnTo>
                    <a:cubicBezTo>
                      <a:pt x="7262" y="2"/>
                      <a:pt x="7263" y="3"/>
                      <a:pt x="7263" y="4"/>
                    </a:cubicBezTo>
                    <a:cubicBezTo>
                      <a:pt x="7263" y="5"/>
                      <a:pt x="7262" y="6"/>
                      <a:pt x="7261" y="6"/>
                    </a:cubicBezTo>
                    <a:lnTo>
                      <a:pt x="7261" y="6"/>
                    </a:lnTo>
                    <a:cubicBezTo>
                      <a:pt x="7260" y="6"/>
                      <a:pt x="7259" y="5"/>
                      <a:pt x="7259" y="4"/>
                    </a:cubicBezTo>
                    <a:cubicBezTo>
                      <a:pt x="7259" y="3"/>
                      <a:pt x="7260" y="2"/>
                      <a:pt x="7261" y="2"/>
                    </a:cubicBezTo>
                    <a:close/>
                    <a:moveTo>
                      <a:pt x="7269" y="2"/>
                    </a:moveTo>
                    <a:lnTo>
                      <a:pt x="7269" y="2"/>
                    </a:lnTo>
                    <a:cubicBezTo>
                      <a:pt x="7270" y="2"/>
                      <a:pt x="7271" y="3"/>
                      <a:pt x="7271" y="4"/>
                    </a:cubicBezTo>
                    <a:cubicBezTo>
                      <a:pt x="7271" y="5"/>
                      <a:pt x="7270" y="6"/>
                      <a:pt x="7269" y="6"/>
                    </a:cubicBezTo>
                    <a:lnTo>
                      <a:pt x="7269" y="6"/>
                    </a:lnTo>
                    <a:cubicBezTo>
                      <a:pt x="7268" y="6"/>
                      <a:pt x="7267" y="5"/>
                      <a:pt x="7267" y="4"/>
                    </a:cubicBezTo>
                    <a:cubicBezTo>
                      <a:pt x="7267" y="3"/>
                      <a:pt x="7268" y="2"/>
                      <a:pt x="7269" y="2"/>
                    </a:cubicBezTo>
                    <a:close/>
                    <a:moveTo>
                      <a:pt x="7277" y="2"/>
                    </a:moveTo>
                    <a:lnTo>
                      <a:pt x="7277" y="2"/>
                    </a:lnTo>
                    <a:cubicBezTo>
                      <a:pt x="7278" y="2"/>
                      <a:pt x="7279" y="3"/>
                      <a:pt x="7279" y="4"/>
                    </a:cubicBezTo>
                    <a:cubicBezTo>
                      <a:pt x="7279" y="5"/>
                      <a:pt x="7278" y="6"/>
                      <a:pt x="7277" y="6"/>
                    </a:cubicBezTo>
                    <a:lnTo>
                      <a:pt x="7277" y="6"/>
                    </a:lnTo>
                    <a:cubicBezTo>
                      <a:pt x="7276" y="6"/>
                      <a:pt x="7275" y="5"/>
                      <a:pt x="7275" y="4"/>
                    </a:cubicBezTo>
                    <a:cubicBezTo>
                      <a:pt x="7275" y="3"/>
                      <a:pt x="7276" y="2"/>
                      <a:pt x="7277" y="2"/>
                    </a:cubicBezTo>
                    <a:close/>
                    <a:moveTo>
                      <a:pt x="7285" y="2"/>
                    </a:moveTo>
                    <a:lnTo>
                      <a:pt x="7285" y="2"/>
                    </a:lnTo>
                    <a:cubicBezTo>
                      <a:pt x="7286" y="2"/>
                      <a:pt x="7287" y="3"/>
                      <a:pt x="7287" y="4"/>
                    </a:cubicBezTo>
                    <a:cubicBezTo>
                      <a:pt x="7287" y="5"/>
                      <a:pt x="7286" y="6"/>
                      <a:pt x="7285" y="6"/>
                    </a:cubicBezTo>
                    <a:lnTo>
                      <a:pt x="7285" y="6"/>
                    </a:lnTo>
                    <a:cubicBezTo>
                      <a:pt x="7284" y="6"/>
                      <a:pt x="7283" y="5"/>
                      <a:pt x="7283" y="4"/>
                    </a:cubicBezTo>
                    <a:cubicBezTo>
                      <a:pt x="7283" y="3"/>
                      <a:pt x="7284" y="2"/>
                      <a:pt x="7285" y="2"/>
                    </a:cubicBezTo>
                    <a:close/>
                    <a:moveTo>
                      <a:pt x="7293" y="2"/>
                    </a:moveTo>
                    <a:lnTo>
                      <a:pt x="7293" y="2"/>
                    </a:lnTo>
                    <a:cubicBezTo>
                      <a:pt x="7294" y="2"/>
                      <a:pt x="7295" y="3"/>
                      <a:pt x="7295" y="4"/>
                    </a:cubicBezTo>
                    <a:cubicBezTo>
                      <a:pt x="7295" y="5"/>
                      <a:pt x="7294" y="6"/>
                      <a:pt x="7293" y="6"/>
                    </a:cubicBezTo>
                    <a:lnTo>
                      <a:pt x="7293" y="6"/>
                    </a:lnTo>
                    <a:cubicBezTo>
                      <a:pt x="7292" y="6"/>
                      <a:pt x="7291" y="5"/>
                      <a:pt x="7291" y="4"/>
                    </a:cubicBezTo>
                    <a:cubicBezTo>
                      <a:pt x="7291" y="3"/>
                      <a:pt x="7292" y="2"/>
                      <a:pt x="7293" y="2"/>
                    </a:cubicBezTo>
                    <a:close/>
                    <a:moveTo>
                      <a:pt x="7301" y="2"/>
                    </a:moveTo>
                    <a:lnTo>
                      <a:pt x="7301" y="2"/>
                    </a:lnTo>
                    <a:cubicBezTo>
                      <a:pt x="7302" y="2"/>
                      <a:pt x="7303" y="3"/>
                      <a:pt x="7303" y="4"/>
                    </a:cubicBezTo>
                    <a:cubicBezTo>
                      <a:pt x="7303" y="5"/>
                      <a:pt x="7302" y="6"/>
                      <a:pt x="7301" y="6"/>
                    </a:cubicBezTo>
                    <a:lnTo>
                      <a:pt x="7301" y="6"/>
                    </a:lnTo>
                    <a:cubicBezTo>
                      <a:pt x="7300" y="6"/>
                      <a:pt x="7299" y="5"/>
                      <a:pt x="7299" y="4"/>
                    </a:cubicBezTo>
                    <a:cubicBezTo>
                      <a:pt x="7299" y="3"/>
                      <a:pt x="7300" y="2"/>
                      <a:pt x="7301" y="2"/>
                    </a:cubicBezTo>
                    <a:close/>
                    <a:moveTo>
                      <a:pt x="7309" y="2"/>
                    </a:moveTo>
                    <a:lnTo>
                      <a:pt x="7309" y="2"/>
                    </a:lnTo>
                    <a:cubicBezTo>
                      <a:pt x="7310" y="2"/>
                      <a:pt x="7311" y="3"/>
                      <a:pt x="7311" y="4"/>
                    </a:cubicBezTo>
                    <a:cubicBezTo>
                      <a:pt x="7311" y="5"/>
                      <a:pt x="7310" y="6"/>
                      <a:pt x="7309" y="6"/>
                    </a:cubicBezTo>
                    <a:lnTo>
                      <a:pt x="7309" y="6"/>
                    </a:lnTo>
                    <a:cubicBezTo>
                      <a:pt x="7308" y="6"/>
                      <a:pt x="7307" y="5"/>
                      <a:pt x="7307" y="4"/>
                    </a:cubicBezTo>
                    <a:cubicBezTo>
                      <a:pt x="7307" y="3"/>
                      <a:pt x="7308" y="2"/>
                      <a:pt x="7309" y="2"/>
                    </a:cubicBezTo>
                    <a:close/>
                    <a:moveTo>
                      <a:pt x="7317" y="2"/>
                    </a:moveTo>
                    <a:lnTo>
                      <a:pt x="7317" y="2"/>
                    </a:lnTo>
                    <a:cubicBezTo>
                      <a:pt x="7319" y="2"/>
                      <a:pt x="7319" y="3"/>
                      <a:pt x="7319" y="4"/>
                    </a:cubicBezTo>
                    <a:cubicBezTo>
                      <a:pt x="7319" y="5"/>
                      <a:pt x="7319" y="6"/>
                      <a:pt x="7317" y="6"/>
                    </a:cubicBezTo>
                    <a:lnTo>
                      <a:pt x="7317" y="6"/>
                    </a:lnTo>
                    <a:cubicBezTo>
                      <a:pt x="7316" y="6"/>
                      <a:pt x="7315" y="5"/>
                      <a:pt x="7315" y="4"/>
                    </a:cubicBezTo>
                    <a:cubicBezTo>
                      <a:pt x="7315" y="3"/>
                      <a:pt x="7316" y="2"/>
                      <a:pt x="7317" y="2"/>
                    </a:cubicBezTo>
                    <a:close/>
                    <a:moveTo>
                      <a:pt x="7325" y="2"/>
                    </a:moveTo>
                    <a:lnTo>
                      <a:pt x="7325" y="2"/>
                    </a:lnTo>
                    <a:cubicBezTo>
                      <a:pt x="7327" y="2"/>
                      <a:pt x="7327" y="3"/>
                      <a:pt x="7327" y="4"/>
                    </a:cubicBezTo>
                    <a:cubicBezTo>
                      <a:pt x="7327" y="5"/>
                      <a:pt x="7327" y="6"/>
                      <a:pt x="7325" y="6"/>
                    </a:cubicBezTo>
                    <a:lnTo>
                      <a:pt x="7325" y="6"/>
                    </a:lnTo>
                    <a:cubicBezTo>
                      <a:pt x="7324" y="6"/>
                      <a:pt x="7323" y="5"/>
                      <a:pt x="7323" y="4"/>
                    </a:cubicBezTo>
                    <a:cubicBezTo>
                      <a:pt x="7323" y="3"/>
                      <a:pt x="7324" y="2"/>
                      <a:pt x="7325" y="2"/>
                    </a:cubicBezTo>
                    <a:close/>
                    <a:moveTo>
                      <a:pt x="7333" y="2"/>
                    </a:moveTo>
                    <a:lnTo>
                      <a:pt x="7333" y="2"/>
                    </a:lnTo>
                    <a:cubicBezTo>
                      <a:pt x="7335" y="2"/>
                      <a:pt x="7335" y="3"/>
                      <a:pt x="7335" y="4"/>
                    </a:cubicBezTo>
                    <a:cubicBezTo>
                      <a:pt x="7335" y="5"/>
                      <a:pt x="7335" y="6"/>
                      <a:pt x="7333" y="6"/>
                    </a:cubicBezTo>
                    <a:lnTo>
                      <a:pt x="7333" y="6"/>
                    </a:lnTo>
                    <a:cubicBezTo>
                      <a:pt x="7332" y="6"/>
                      <a:pt x="7331" y="5"/>
                      <a:pt x="7331" y="4"/>
                    </a:cubicBezTo>
                    <a:cubicBezTo>
                      <a:pt x="7331" y="3"/>
                      <a:pt x="7332" y="2"/>
                      <a:pt x="7333" y="2"/>
                    </a:cubicBezTo>
                    <a:close/>
                    <a:moveTo>
                      <a:pt x="7341" y="2"/>
                    </a:moveTo>
                    <a:lnTo>
                      <a:pt x="7341" y="2"/>
                    </a:lnTo>
                    <a:cubicBezTo>
                      <a:pt x="7343" y="2"/>
                      <a:pt x="7343" y="3"/>
                      <a:pt x="7343" y="4"/>
                    </a:cubicBezTo>
                    <a:cubicBezTo>
                      <a:pt x="7343" y="5"/>
                      <a:pt x="7343" y="6"/>
                      <a:pt x="7341" y="6"/>
                    </a:cubicBezTo>
                    <a:lnTo>
                      <a:pt x="7341" y="6"/>
                    </a:lnTo>
                    <a:cubicBezTo>
                      <a:pt x="7340" y="6"/>
                      <a:pt x="7339" y="5"/>
                      <a:pt x="7339" y="4"/>
                    </a:cubicBezTo>
                    <a:cubicBezTo>
                      <a:pt x="7339" y="3"/>
                      <a:pt x="7340" y="2"/>
                      <a:pt x="7341" y="2"/>
                    </a:cubicBezTo>
                    <a:close/>
                    <a:moveTo>
                      <a:pt x="7349" y="2"/>
                    </a:moveTo>
                    <a:lnTo>
                      <a:pt x="7349" y="2"/>
                    </a:lnTo>
                    <a:cubicBezTo>
                      <a:pt x="7351" y="2"/>
                      <a:pt x="7351" y="3"/>
                      <a:pt x="7351" y="4"/>
                    </a:cubicBezTo>
                    <a:cubicBezTo>
                      <a:pt x="7351" y="5"/>
                      <a:pt x="7351" y="6"/>
                      <a:pt x="7349" y="6"/>
                    </a:cubicBezTo>
                    <a:lnTo>
                      <a:pt x="7349" y="6"/>
                    </a:lnTo>
                    <a:cubicBezTo>
                      <a:pt x="7348" y="6"/>
                      <a:pt x="7347" y="5"/>
                      <a:pt x="7347" y="4"/>
                    </a:cubicBezTo>
                    <a:cubicBezTo>
                      <a:pt x="7347" y="3"/>
                      <a:pt x="7348" y="2"/>
                      <a:pt x="7349" y="2"/>
                    </a:cubicBezTo>
                    <a:close/>
                    <a:moveTo>
                      <a:pt x="7357" y="2"/>
                    </a:moveTo>
                    <a:lnTo>
                      <a:pt x="7357" y="2"/>
                    </a:lnTo>
                    <a:cubicBezTo>
                      <a:pt x="7359" y="2"/>
                      <a:pt x="7359" y="3"/>
                      <a:pt x="7359" y="4"/>
                    </a:cubicBezTo>
                    <a:cubicBezTo>
                      <a:pt x="7359" y="5"/>
                      <a:pt x="7359" y="6"/>
                      <a:pt x="7357" y="6"/>
                    </a:cubicBezTo>
                    <a:lnTo>
                      <a:pt x="7357" y="6"/>
                    </a:lnTo>
                    <a:cubicBezTo>
                      <a:pt x="7356" y="6"/>
                      <a:pt x="7355" y="5"/>
                      <a:pt x="7355" y="4"/>
                    </a:cubicBezTo>
                    <a:cubicBezTo>
                      <a:pt x="7355" y="3"/>
                      <a:pt x="7356" y="2"/>
                      <a:pt x="7357" y="2"/>
                    </a:cubicBezTo>
                    <a:close/>
                    <a:moveTo>
                      <a:pt x="7365" y="2"/>
                    </a:moveTo>
                    <a:lnTo>
                      <a:pt x="7365" y="2"/>
                    </a:lnTo>
                    <a:cubicBezTo>
                      <a:pt x="7367" y="2"/>
                      <a:pt x="7367" y="3"/>
                      <a:pt x="7367" y="4"/>
                    </a:cubicBezTo>
                    <a:cubicBezTo>
                      <a:pt x="7367" y="5"/>
                      <a:pt x="7367" y="6"/>
                      <a:pt x="7365" y="6"/>
                    </a:cubicBezTo>
                    <a:lnTo>
                      <a:pt x="7365" y="6"/>
                    </a:lnTo>
                    <a:cubicBezTo>
                      <a:pt x="7364" y="6"/>
                      <a:pt x="7363" y="5"/>
                      <a:pt x="7363" y="4"/>
                    </a:cubicBezTo>
                    <a:cubicBezTo>
                      <a:pt x="7363" y="3"/>
                      <a:pt x="7364" y="2"/>
                      <a:pt x="7365" y="2"/>
                    </a:cubicBezTo>
                    <a:close/>
                    <a:moveTo>
                      <a:pt x="7373" y="2"/>
                    </a:moveTo>
                    <a:lnTo>
                      <a:pt x="7373" y="2"/>
                    </a:lnTo>
                    <a:cubicBezTo>
                      <a:pt x="7375" y="2"/>
                      <a:pt x="7375" y="3"/>
                      <a:pt x="7375" y="4"/>
                    </a:cubicBezTo>
                    <a:cubicBezTo>
                      <a:pt x="7375" y="5"/>
                      <a:pt x="7375" y="6"/>
                      <a:pt x="7373" y="6"/>
                    </a:cubicBezTo>
                    <a:lnTo>
                      <a:pt x="7373" y="6"/>
                    </a:lnTo>
                    <a:cubicBezTo>
                      <a:pt x="7372" y="6"/>
                      <a:pt x="7371" y="5"/>
                      <a:pt x="7371" y="4"/>
                    </a:cubicBezTo>
                    <a:cubicBezTo>
                      <a:pt x="7371" y="3"/>
                      <a:pt x="7372" y="2"/>
                      <a:pt x="7373" y="2"/>
                    </a:cubicBezTo>
                    <a:close/>
                    <a:moveTo>
                      <a:pt x="7381" y="2"/>
                    </a:moveTo>
                    <a:lnTo>
                      <a:pt x="7381" y="2"/>
                    </a:lnTo>
                    <a:cubicBezTo>
                      <a:pt x="7383" y="2"/>
                      <a:pt x="7383" y="3"/>
                      <a:pt x="7383" y="4"/>
                    </a:cubicBezTo>
                    <a:cubicBezTo>
                      <a:pt x="7383" y="5"/>
                      <a:pt x="7383" y="6"/>
                      <a:pt x="7381" y="6"/>
                    </a:cubicBezTo>
                    <a:lnTo>
                      <a:pt x="7381" y="6"/>
                    </a:lnTo>
                    <a:cubicBezTo>
                      <a:pt x="7380" y="6"/>
                      <a:pt x="7379" y="5"/>
                      <a:pt x="7379" y="4"/>
                    </a:cubicBezTo>
                    <a:cubicBezTo>
                      <a:pt x="7379" y="3"/>
                      <a:pt x="7380" y="2"/>
                      <a:pt x="7381" y="2"/>
                    </a:cubicBezTo>
                    <a:close/>
                    <a:moveTo>
                      <a:pt x="7389" y="2"/>
                    </a:moveTo>
                    <a:lnTo>
                      <a:pt x="7389" y="2"/>
                    </a:lnTo>
                    <a:cubicBezTo>
                      <a:pt x="7391" y="2"/>
                      <a:pt x="7391" y="3"/>
                      <a:pt x="7391" y="4"/>
                    </a:cubicBezTo>
                    <a:cubicBezTo>
                      <a:pt x="7391" y="5"/>
                      <a:pt x="7391" y="6"/>
                      <a:pt x="7389" y="6"/>
                    </a:cubicBezTo>
                    <a:lnTo>
                      <a:pt x="7389" y="6"/>
                    </a:lnTo>
                    <a:cubicBezTo>
                      <a:pt x="7388" y="6"/>
                      <a:pt x="7387" y="5"/>
                      <a:pt x="7387" y="4"/>
                    </a:cubicBezTo>
                    <a:cubicBezTo>
                      <a:pt x="7387" y="3"/>
                      <a:pt x="7388" y="2"/>
                      <a:pt x="7389" y="2"/>
                    </a:cubicBezTo>
                    <a:close/>
                    <a:moveTo>
                      <a:pt x="7397" y="2"/>
                    </a:moveTo>
                    <a:lnTo>
                      <a:pt x="7397" y="2"/>
                    </a:lnTo>
                    <a:cubicBezTo>
                      <a:pt x="7399" y="2"/>
                      <a:pt x="7399" y="3"/>
                      <a:pt x="7399" y="4"/>
                    </a:cubicBezTo>
                    <a:cubicBezTo>
                      <a:pt x="7399" y="5"/>
                      <a:pt x="7399" y="6"/>
                      <a:pt x="7397" y="6"/>
                    </a:cubicBezTo>
                    <a:lnTo>
                      <a:pt x="7397" y="6"/>
                    </a:lnTo>
                    <a:cubicBezTo>
                      <a:pt x="7396" y="6"/>
                      <a:pt x="7395" y="5"/>
                      <a:pt x="7395" y="4"/>
                    </a:cubicBezTo>
                    <a:cubicBezTo>
                      <a:pt x="7395" y="3"/>
                      <a:pt x="7396" y="2"/>
                      <a:pt x="7397" y="2"/>
                    </a:cubicBezTo>
                    <a:close/>
                    <a:moveTo>
                      <a:pt x="7405" y="2"/>
                    </a:moveTo>
                    <a:lnTo>
                      <a:pt x="7405" y="2"/>
                    </a:lnTo>
                    <a:cubicBezTo>
                      <a:pt x="7407" y="2"/>
                      <a:pt x="7407" y="3"/>
                      <a:pt x="7407" y="4"/>
                    </a:cubicBezTo>
                    <a:cubicBezTo>
                      <a:pt x="7407" y="5"/>
                      <a:pt x="7407" y="6"/>
                      <a:pt x="7405" y="6"/>
                    </a:cubicBezTo>
                    <a:lnTo>
                      <a:pt x="7405" y="6"/>
                    </a:lnTo>
                    <a:cubicBezTo>
                      <a:pt x="7404" y="6"/>
                      <a:pt x="7403" y="5"/>
                      <a:pt x="7403" y="4"/>
                    </a:cubicBezTo>
                    <a:cubicBezTo>
                      <a:pt x="7403" y="3"/>
                      <a:pt x="7404" y="2"/>
                      <a:pt x="7405" y="2"/>
                    </a:cubicBezTo>
                    <a:close/>
                    <a:moveTo>
                      <a:pt x="7413" y="2"/>
                    </a:moveTo>
                    <a:lnTo>
                      <a:pt x="7413" y="2"/>
                    </a:lnTo>
                    <a:cubicBezTo>
                      <a:pt x="7415" y="2"/>
                      <a:pt x="7415" y="3"/>
                      <a:pt x="7415" y="4"/>
                    </a:cubicBezTo>
                    <a:cubicBezTo>
                      <a:pt x="7415" y="5"/>
                      <a:pt x="7415" y="6"/>
                      <a:pt x="7413" y="6"/>
                    </a:cubicBezTo>
                    <a:lnTo>
                      <a:pt x="7413" y="6"/>
                    </a:lnTo>
                    <a:cubicBezTo>
                      <a:pt x="7412" y="6"/>
                      <a:pt x="7411" y="5"/>
                      <a:pt x="7411" y="4"/>
                    </a:cubicBezTo>
                    <a:cubicBezTo>
                      <a:pt x="7411" y="3"/>
                      <a:pt x="7412" y="2"/>
                      <a:pt x="7413" y="2"/>
                    </a:cubicBezTo>
                    <a:close/>
                    <a:moveTo>
                      <a:pt x="7421" y="2"/>
                    </a:moveTo>
                    <a:lnTo>
                      <a:pt x="7421" y="2"/>
                    </a:lnTo>
                    <a:cubicBezTo>
                      <a:pt x="7423" y="2"/>
                      <a:pt x="7423" y="3"/>
                      <a:pt x="7423" y="4"/>
                    </a:cubicBezTo>
                    <a:cubicBezTo>
                      <a:pt x="7423" y="5"/>
                      <a:pt x="7423" y="6"/>
                      <a:pt x="7421" y="6"/>
                    </a:cubicBezTo>
                    <a:lnTo>
                      <a:pt x="7421" y="6"/>
                    </a:lnTo>
                    <a:cubicBezTo>
                      <a:pt x="7420" y="6"/>
                      <a:pt x="7419" y="5"/>
                      <a:pt x="7419" y="4"/>
                    </a:cubicBezTo>
                    <a:cubicBezTo>
                      <a:pt x="7419" y="3"/>
                      <a:pt x="7420" y="2"/>
                      <a:pt x="7421" y="2"/>
                    </a:cubicBezTo>
                    <a:close/>
                    <a:moveTo>
                      <a:pt x="7429" y="2"/>
                    </a:moveTo>
                    <a:lnTo>
                      <a:pt x="7429" y="2"/>
                    </a:lnTo>
                    <a:cubicBezTo>
                      <a:pt x="7431" y="2"/>
                      <a:pt x="7431" y="3"/>
                      <a:pt x="7431" y="4"/>
                    </a:cubicBezTo>
                    <a:cubicBezTo>
                      <a:pt x="7431" y="5"/>
                      <a:pt x="7431" y="6"/>
                      <a:pt x="7429" y="6"/>
                    </a:cubicBezTo>
                    <a:lnTo>
                      <a:pt x="7429" y="6"/>
                    </a:lnTo>
                    <a:cubicBezTo>
                      <a:pt x="7428" y="6"/>
                      <a:pt x="7427" y="5"/>
                      <a:pt x="7427" y="4"/>
                    </a:cubicBezTo>
                    <a:cubicBezTo>
                      <a:pt x="7427" y="3"/>
                      <a:pt x="7428" y="2"/>
                      <a:pt x="7429" y="2"/>
                    </a:cubicBezTo>
                    <a:close/>
                    <a:moveTo>
                      <a:pt x="7437" y="2"/>
                    </a:moveTo>
                    <a:lnTo>
                      <a:pt x="7437" y="2"/>
                    </a:lnTo>
                    <a:cubicBezTo>
                      <a:pt x="7439" y="2"/>
                      <a:pt x="7439" y="3"/>
                      <a:pt x="7439" y="4"/>
                    </a:cubicBezTo>
                    <a:cubicBezTo>
                      <a:pt x="7439" y="5"/>
                      <a:pt x="7439" y="6"/>
                      <a:pt x="7437" y="6"/>
                    </a:cubicBezTo>
                    <a:lnTo>
                      <a:pt x="7437" y="6"/>
                    </a:lnTo>
                    <a:cubicBezTo>
                      <a:pt x="7436" y="6"/>
                      <a:pt x="7435" y="5"/>
                      <a:pt x="7435" y="4"/>
                    </a:cubicBezTo>
                    <a:cubicBezTo>
                      <a:pt x="7435" y="3"/>
                      <a:pt x="7436" y="2"/>
                      <a:pt x="7437" y="2"/>
                    </a:cubicBezTo>
                    <a:close/>
                    <a:moveTo>
                      <a:pt x="7445" y="2"/>
                    </a:moveTo>
                    <a:lnTo>
                      <a:pt x="7445" y="2"/>
                    </a:lnTo>
                    <a:cubicBezTo>
                      <a:pt x="7447" y="2"/>
                      <a:pt x="7447" y="3"/>
                      <a:pt x="7447" y="4"/>
                    </a:cubicBezTo>
                    <a:cubicBezTo>
                      <a:pt x="7447" y="5"/>
                      <a:pt x="7447" y="6"/>
                      <a:pt x="7445" y="6"/>
                    </a:cubicBezTo>
                    <a:lnTo>
                      <a:pt x="7445" y="6"/>
                    </a:lnTo>
                    <a:cubicBezTo>
                      <a:pt x="7444" y="6"/>
                      <a:pt x="7443" y="5"/>
                      <a:pt x="7443" y="4"/>
                    </a:cubicBezTo>
                    <a:cubicBezTo>
                      <a:pt x="7443" y="3"/>
                      <a:pt x="7444" y="2"/>
                      <a:pt x="7445" y="2"/>
                    </a:cubicBezTo>
                    <a:close/>
                    <a:moveTo>
                      <a:pt x="7453" y="2"/>
                    </a:moveTo>
                    <a:lnTo>
                      <a:pt x="7453" y="2"/>
                    </a:lnTo>
                    <a:cubicBezTo>
                      <a:pt x="7455" y="2"/>
                      <a:pt x="7455" y="3"/>
                      <a:pt x="7455" y="4"/>
                    </a:cubicBezTo>
                    <a:cubicBezTo>
                      <a:pt x="7455" y="5"/>
                      <a:pt x="7455" y="6"/>
                      <a:pt x="7453" y="6"/>
                    </a:cubicBezTo>
                    <a:lnTo>
                      <a:pt x="7453" y="6"/>
                    </a:lnTo>
                    <a:cubicBezTo>
                      <a:pt x="7452" y="6"/>
                      <a:pt x="7451" y="5"/>
                      <a:pt x="7451" y="4"/>
                    </a:cubicBezTo>
                    <a:cubicBezTo>
                      <a:pt x="7451" y="3"/>
                      <a:pt x="7452" y="2"/>
                      <a:pt x="7453" y="2"/>
                    </a:cubicBezTo>
                    <a:close/>
                    <a:moveTo>
                      <a:pt x="7461" y="2"/>
                    </a:moveTo>
                    <a:lnTo>
                      <a:pt x="7461" y="2"/>
                    </a:lnTo>
                    <a:cubicBezTo>
                      <a:pt x="7463" y="2"/>
                      <a:pt x="7463" y="3"/>
                      <a:pt x="7463" y="4"/>
                    </a:cubicBezTo>
                    <a:cubicBezTo>
                      <a:pt x="7463" y="5"/>
                      <a:pt x="7463" y="6"/>
                      <a:pt x="7461" y="6"/>
                    </a:cubicBezTo>
                    <a:lnTo>
                      <a:pt x="7461" y="6"/>
                    </a:lnTo>
                    <a:cubicBezTo>
                      <a:pt x="7460" y="6"/>
                      <a:pt x="7459" y="5"/>
                      <a:pt x="7459" y="4"/>
                    </a:cubicBezTo>
                    <a:cubicBezTo>
                      <a:pt x="7459" y="3"/>
                      <a:pt x="7460" y="2"/>
                      <a:pt x="7461" y="2"/>
                    </a:cubicBezTo>
                    <a:close/>
                    <a:moveTo>
                      <a:pt x="7469" y="2"/>
                    </a:moveTo>
                    <a:lnTo>
                      <a:pt x="7469" y="2"/>
                    </a:lnTo>
                    <a:cubicBezTo>
                      <a:pt x="7471" y="2"/>
                      <a:pt x="7471" y="3"/>
                      <a:pt x="7471" y="4"/>
                    </a:cubicBezTo>
                    <a:cubicBezTo>
                      <a:pt x="7471" y="5"/>
                      <a:pt x="7471" y="6"/>
                      <a:pt x="7469" y="6"/>
                    </a:cubicBezTo>
                    <a:lnTo>
                      <a:pt x="7469" y="6"/>
                    </a:lnTo>
                    <a:cubicBezTo>
                      <a:pt x="7468" y="6"/>
                      <a:pt x="7467" y="5"/>
                      <a:pt x="7467" y="4"/>
                    </a:cubicBezTo>
                    <a:cubicBezTo>
                      <a:pt x="7467" y="3"/>
                      <a:pt x="7468" y="2"/>
                      <a:pt x="7469" y="2"/>
                    </a:cubicBezTo>
                    <a:close/>
                    <a:moveTo>
                      <a:pt x="7477" y="2"/>
                    </a:moveTo>
                    <a:lnTo>
                      <a:pt x="7477" y="2"/>
                    </a:lnTo>
                    <a:cubicBezTo>
                      <a:pt x="7479" y="2"/>
                      <a:pt x="7479" y="3"/>
                      <a:pt x="7479" y="4"/>
                    </a:cubicBezTo>
                    <a:cubicBezTo>
                      <a:pt x="7479" y="5"/>
                      <a:pt x="7479" y="6"/>
                      <a:pt x="7477" y="6"/>
                    </a:cubicBezTo>
                    <a:lnTo>
                      <a:pt x="7477" y="6"/>
                    </a:lnTo>
                    <a:cubicBezTo>
                      <a:pt x="7476" y="6"/>
                      <a:pt x="7475" y="5"/>
                      <a:pt x="7475" y="4"/>
                    </a:cubicBezTo>
                    <a:cubicBezTo>
                      <a:pt x="7475" y="3"/>
                      <a:pt x="7476" y="2"/>
                      <a:pt x="7477" y="2"/>
                    </a:cubicBezTo>
                    <a:close/>
                    <a:moveTo>
                      <a:pt x="7485" y="2"/>
                    </a:moveTo>
                    <a:lnTo>
                      <a:pt x="7485" y="2"/>
                    </a:lnTo>
                    <a:cubicBezTo>
                      <a:pt x="7487" y="2"/>
                      <a:pt x="7487" y="3"/>
                      <a:pt x="7487" y="4"/>
                    </a:cubicBezTo>
                    <a:cubicBezTo>
                      <a:pt x="7487" y="5"/>
                      <a:pt x="7487" y="6"/>
                      <a:pt x="7485" y="6"/>
                    </a:cubicBezTo>
                    <a:lnTo>
                      <a:pt x="7485" y="6"/>
                    </a:lnTo>
                    <a:cubicBezTo>
                      <a:pt x="7484" y="6"/>
                      <a:pt x="7483" y="5"/>
                      <a:pt x="7483" y="4"/>
                    </a:cubicBezTo>
                    <a:cubicBezTo>
                      <a:pt x="7483" y="3"/>
                      <a:pt x="7484" y="2"/>
                      <a:pt x="7485" y="2"/>
                    </a:cubicBezTo>
                    <a:close/>
                    <a:moveTo>
                      <a:pt x="7493" y="2"/>
                    </a:moveTo>
                    <a:lnTo>
                      <a:pt x="7493" y="2"/>
                    </a:lnTo>
                    <a:cubicBezTo>
                      <a:pt x="7495" y="2"/>
                      <a:pt x="7495" y="3"/>
                      <a:pt x="7495" y="4"/>
                    </a:cubicBezTo>
                    <a:cubicBezTo>
                      <a:pt x="7495" y="5"/>
                      <a:pt x="7495" y="6"/>
                      <a:pt x="7493" y="6"/>
                    </a:cubicBezTo>
                    <a:lnTo>
                      <a:pt x="7493" y="6"/>
                    </a:lnTo>
                    <a:cubicBezTo>
                      <a:pt x="7492" y="6"/>
                      <a:pt x="7491" y="5"/>
                      <a:pt x="7491" y="4"/>
                    </a:cubicBezTo>
                    <a:cubicBezTo>
                      <a:pt x="7491" y="3"/>
                      <a:pt x="7492" y="2"/>
                      <a:pt x="7493" y="2"/>
                    </a:cubicBezTo>
                    <a:close/>
                    <a:moveTo>
                      <a:pt x="7501" y="2"/>
                    </a:moveTo>
                    <a:lnTo>
                      <a:pt x="7501" y="2"/>
                    </a:lnTo>
                    <a:cubicBezTo>
                      <a:pt x="7503" y="2"/>
                      <a:pt x="7503" y="3"/>
                      <a:pt x="7503" y="4"/>
                    </a:cubicBezTo>
                    <a:cubicBezTo>
                      <a:pt x="7503" y="5"/>
                      <a:pt x="7503" y="6"/>
                      <a:pt x="7501" y="6"/>
                    </a:cubicBezTo>
                    <a:lnTo>
                      <a:pt x="7501" y="6"/>
                    </a:lnTo>
                    <a:cubicBezTo>
                      <a:pt x="7500" y="6"/>
                      <a:pt x="7499" y="5"/>
                      <a:pt x="7499" y="4"/>
                    </a:cubicBezTo>
                    <a:cubicBezTo>
                      <a:pt x="7499" y="3"/>
                      <a:pt x="7500" y="2"/>
                      <a:pt x="7501" y="2"/>
                    </a:cubicBezTo>
                    <a:close/>
                    <a:moveTo>
                      <a:pt x="7509" y="2"/>
                    </a:moveTo>
                    <a:lnTo>
                      <a:pt x="7509" y="2"/>
                    </a:lnTo>
                    <a:cubicBezTo>
                      <a:pt x="7511" y="2"/>
                      <a:pt x="7511" y="3"/>
                      <a:pt x="7511" y="4"/>
                    </a:cubicBezTo>
                    <a:cubicBezTo>
                      <a:pt x="7511" y="5"/>
                      <a:pt x="7511" y="6"/>
                      <a:pt x="7509" y="6"/>
                    </a:cubicBezTo>
                    <a:lnTo>
                      <a:pt x="7509" y="6"/>
                    </a:lnTo>
                    <a:cubicBezTo>
                      <a:pt x="7508" y="6"/>
                      <a:pt x="7507" y="5"/>
                      <a:pt x="7507" y="4"/>
                    </a:cubicBezTo>
                    <a:cubicBezTo>
                      <a:pt x="7507" y="3"/>
                      <a:pt x="7508" y="2"/>
                      <a:pt x="7509" y="2"/>
                    </a:cubicBezTo>
                    <a:close/>
                    <a:moveTo>
                      <a:pt x="7517" y="2"/>
                    </a:moveTo>
                    <a:lnTo>
                      <a:pt x="7517" y="2"/>
                    </a:lnTo>
                    <a:cubicBezTo>
                      <a:pt x="7519" y="2"/>
                      <a:pt x="7519" y="3"/>
                      <a:pt x="7519" y="4"/>
                    </a:cubicBezTo>
                    <a:cubicBezTo>
                      <a:pt x="7519" y="5"/>
                      <a:pt x="7519" y="6"/>
                      <a:pt x="7517" y="6"/>
                    </a:cubicBezTo>
                    <a:lnTo>
                      <a:pt x="7517" y="6"/>
                    </a:lnTo>
                    <a:cubicBezTo>
                      <a:pt x="7516" y="6"/>
                      <a:pt x="7515" y="5"/>
                      <a:pt x="7515" y="4"/>
                    </a:cubicBezTo>
                    <a:cubicBezTo>
                      <a:pt x="7515" y="3"/>
                      <a:pt x="7516" y="2"/>
                      <a:pt x="7517" y="2"/>
                    </a:cubicBezTo>
                    <a:close/>
                    <a:moveTo>
                      <a:pt x="7525" y="2"/>
                    </a:moveTo>
                    <a:lnTo>
                      <a:pt x="7525" y="2"/>
                    </a:lnTo>
                    <a:cubicBezTo>
                      <a:pt x="7527" y="2"/>
                      <a:pt x="7527" y="3"/>
                      <a:pt x="7527" y="4"/>
                    </a:cubicBezTo>
                    <a:cubicBezTo>
                      <a:pt x="7527" y="5"/>
                      <a:pt x="7527" y="6"/>
                      <a:pt x="7525" y="6"/>
                    </a:cubicBezTo>
                    <a:lnTo>
                      <a:pt x="7525" y="6"/>
                    </a:lnTo>
                    <a:cubicBezTo>
                      <a:pt x="7524" y="6"/>
                      <a:pt x="7523" y="5"/>
                      <a:pt x="7523" y="4"/>
                    </a:cubicBezTo>
                    <a:cubicBezTo>
                      <a:pt x="7523" y="3"/>
                      <a:pt x="7524" y="2"/>
                      <a:pt x="7525" y="2"/>
                    </a:cubicBezTo>
                    <a:close/>
                    <a:moveTo>
                      <a:pt x="7533" y="2"/>
                    </a:moveTo>
                    <a:lnTo>
                      <a:pt x="7534" y="2"/>
                    </a:lnTo>
                    <a:cubicBezTo>
                      <a:pt x="7535" y="2"/>
                      <a:pt x="7536" y="3"/>
                      <a:pt x="7536" y="4"/>
                    </a:cubicBezTo>
                    <a:cubicBezTo>
                      <a:pt x="7536" y="5"/>
                      <a:pt x="7535" y="6"/>
                      <a:pt x="7534" y="6"/>
                    </a:cubicBezTo>
                    <a:lnTo>
                      <a:pt x="7533" y="6"/>
                    </a:lnTo>
                    <a:cubicBezTo>
                      <a:pt x="7532" y="6"/>
                      <a:pt x="7531" y="5"/>
                      <a:pt x="7531" y="4"/>
                    </a:cubicBezTo>
                    <a:cubicBezTo>
                      <a:pt x="7531" y="3"/>
                      <a:pt x="7532" y="2"/>
                      <a:pt x="7533" y="2"/>
                    </a:cubicBezTo>
                    <a:close/>
                    <a:moveTo>
                      <a:pt x="7542" y="2"/>
                    </a:moveTo>
                    <a:lnTo>
                      <a:pt x="7542" y="2"/>
                    </a:lnTo>
                    <a:cubicBezTo>
                      <a:pt x="7543" y="2"/>
                      <a:pt x="7544" y="3"/>
                      <a:pt x="7544" y="4"/>
                    </a:cubicBezTo>
                    <a:cubicBezTo>
                      <a:pt x="7544" y="5"/>
                      <a:pt x="7543" y="6"/>
                      <a:pt x="7542" y="6"/>
                    </a:cubicBezTo>
                    <a:lnTo>
                      <a:pt x="7542" y="6"/>
                    </a:lnTo>
                    <a:cubicBezTo>
                      <a:pt x="7540" y="6"/>
                      <a:pt x="7540" y="5"/>
                      <a:pt x="7540" y="4"/>
                    </a:cubicBezTo>
                    <a:cubicBezTo>
                      <a:pt x="7540" y="3"/>
                      <a:pt x="7540" y="2"/>
                      <a:pt x="7542" y="2"/>
                    </a:cubicBezTo>
                    <a:close/>
                    <a:moveTo>
                      <a:pt x="7550" y="2"/>
                    </a:moveTo>
                    <a:lnTo>
                      <a:pt x="7550" y="2"/>
                    </a:lnTo>
                    <a:cubicBezTo>
                      <a:pt x="7551" y="2"/>
                      <a:pt x="7552" y="3"/>
                      <a:pt x="7552" y="4"/>
                    </a:cubicBezTo>
                    <a:cubicBezTo>
                      <a:pt x="7552" y="5"/>
                      <a:pt x="7551" y="6"/>
                      <a:pt x="7550" y="6"/>
                    </a:cubicBezTo>
                    <a:lnTo>
                      <a:pt x="7550" y="6"/>
                    </a:lnTo>
                    <a:cubicBezTo>
                      <a:pt x="7548" y="6"/>
                      <a:pt x="7548" y="5"/>
                      <a:pt x="7548" y="4"/>
                    </a:cubicBezTo>
                    <a:cubicBezTo>
                      <a:pt x="7548" y="3"/>
                      <a:pt x="7548" y="2"/>
                      <a:pt x="7550" y="2"/>
                    </a:cubicBezTo>
                    <a:close/>
                    <a:moveTo>
                      <a:pt x="7558" y="2"/>
                    </a:moveTo>
                    <a:lnTo>
                      <a:pt x="7558" y="2"/>
                    </a:lnTo>
                    <a:cubicBezTo>
                      <a:pt x="7559" y="2"/>
                      <a:pt x="7560" y="3"/>
                      <a:pt x="7560" y="4"/>
                    </a:cubicBezTo>
                    <a:cubicBezTo>
                      <a:pt x="7560" y="5"/>
                      <a:pt x="7559" y="6"/>
                      <a:pt x="7558" y="6"/>
                    </a:cubicBezTo>
                    <a:lnTo>
                      <a:pt x="7558" y="6"/>
                    </a:lnTo>
                    <a:cubicBezTo>
                      <a:pt x="7556" y="6"/>
                      <a:pt x="7556" y="5"/>
                      <a:pt x="7556" y="4"/>
                    </a:cubicBezTo>
                    <a:cubicBezTo>
                      <a:pt x="7556" y="3"/>
                      <a:pt x="7556" y="2"/>
                      <a:pt x="7558" y="2"/>
                    </a:cubicBezTo>
                    <a:close/>
                    <a:moveTo>
                      <a:pt x="7566" y="2"/>
                    </a:moveTo>
                    <a:lnTo>
                      <a:pt x="7566" y="2"/>
                    </a:lnTo>
                    <a:cubicBezTo>
                      <a:pt x="7567" y="2"/>
                      <a:pt x="7568" y="3"/>
                      <a:pt x="7568" y="4"/>
                    </a:cubicBezTo>
                    <a:cubicBezTo>
                      <a:pt x="7568" y="5"/>
                      <a:pt x="7567" y="6"/>
                      <a:pt x="7566" y="6"/>
                    </a:cubicBezTo>
                    <a:lnTo>
                      <a:pt x="7566" y="6"/>
                    </a:lnTo>
                    <a:cubicBezTo>
                      <a:pt x="7564" y="6"/>
                      <a:pt x="7564" y="5"/>
                      <a:pt x="7564" y="4"/>
                    </a:cubicBezTo>
                    <a:cubicBezTo>
                      <a:pt x="7564" y="3"/>
                      <a:pt x="7564" y="2"/>
                      <a:pt x="7566" y="2"/>
                    </a:cubicBezTo>
                    <a:close/>
                    <a:moveTo>
                      <a:pt x="7574" y="2"/>
                    </a:moveTo>
                    <a:lnTo>
                      <a:pt x="7574" y="2"/>
                    </a:lnTo>
                    <a:cubicBezTo>
                      <a:pt x="7575" y="2"/>
                      <a:pt x="7576" y="3"/>
                      <a:pt x="7576" y="4"/>
                    </a:cubicBezTo>
                    <a:cubicBezTo>
                      <a:pt x="7576" y="5"/>
                      <a:pt x="7575" y="6"/>
                      <a:pt x="7574" y="6"/>
                    </a:cubicBezTo>
                    <a:lnTo>
                      <a:pt x="7574" y="6"/>
                    </a:lnTo>
                    <a:cubicBezTo>
                      <a:pt x="7572" y="6"/>
                      <a:pt x="7572" y="5"/>
                      <a:pt x="7572" y="4"/>
                    </a:cubicBezTo>
                    <a:cubicBezTo>
                      <a:pt x="7572" y="3"/>
                      <a:pt x="7572" y="2"/>
                      <a:pt x="7574" y="2"/>
                    </a:cubicBezTo>
                    <a:close/>
                    <a:moveTo>
                      <a:pt x="7582" y="2"/>
                    </a:moveTo>
                    <a:lnTo>
                      <a:pt x="7582" y="2"/>
                    </a:lnTo>
                    <a:cubicBezTo>
                      <a:pt x="7583" y="2"/>
                      <a:pt x="7584" y="3"/>
                      <a:pt x="7584" y="4"/>
                    </a:cubicBezTo>
                    <a:cubicBezTo>
                      <a:pt x="7584" y="5"/>
                      <a:pt x="7583" y="6"/>
                      <a:pt x="7582" y="6"/>
                    </a:cubicBezTo>
                    <a:lnTo>
                      <a:pt x="7582" y="6"/>
                    </a:lnTo>
                    <a:cubicBezTo>
                      <a:pt x="7580" y="6"/>
                      <a:pt x="7580" y="5"/>
                      <a:pt x="7580" y="4"/>
                    </a:cubicBezTo>
                    <a:cubicBezTo>
                      <a:pt x="7580" y="3"/>
                      <a:pt x="7580" y="2"/>
                      <a:pt x="7582" y="2"/>
                    </a:cubicBezTo>
                    <a:close/>
                    <a:moveTo>
                      <a:pt x="7590" y="2"/>
                    </a:moveTo>
                    <a:lnTo>
                      <a:pt x="7590" y="2"/>
                    </a:lnTo>
                    <a:cubicBezTo>
                      <a:pt x="7591" y="2"/>
                      <a:pt x="7592" y="3"/>
                      <a:pt x="7592" y="4"/>
                    </a:cubicBezTo>
                    <a:cubicBezTo>
                      <a:pt x="7592" y="5"/>
                      <a:pt x="7591" y="6"/>
                      <a:pt x="7590" y="6"/>
                    </a:cubicBezTo>
                    <a:lnTo>
                      <a:pt x="7590" y="6"/>
                    </a:lnTo>
                    <a:cubicBezTo>
                      <a:pt x="7588" y="6"/>
                      <a:pt x="7588" y="5"/>
                      <a:pt x="7588" y="4"/>
                    </a:cubicBezTo>
                    <a:cubicBezTo>
                      <a:pt x="7588" y="3"/>
                      <a:pt x="7588" y="2"/>
                      <a:pt x="7590" y="2"/>
                    </a:cubicBezTo>
                    <a:close/>
                    <a:moveTo>
                      <a:pt x="7598" y="2"/>
                    </a:moveTo>
                    <a:lnTo>
                      <a:pt x="7598" y="2"/>
                    </a:lnTo>
                    <a:cubicBezTo>
                      <a:pt x="7599" y="2"/>
                      <a:pt x="7600" y="3"/>
                      <a:pt x="7600" y="4"/>
                    </a:cubicBezTo>
                    <a:cubicBezTo>
                      <a:pt x="7600" y="5"/>
                      <a:pt x="7599" y="6"/>
                      <a:pt x="7598" y="6"/>
                    </a:cubicBezTo>
                    <a:lnTo>
                      <a:pt x="7598" y="6"/>
                    </a:lnTo>
                    <a:cubicBezTo>
                      <a:pt x="7596" y="6"/>
                      <a:pt x="7596" y="5"/>
                      <a:pt x="7596" y="4"/>
                    </a:cubicBezTo>
                    <a:cubicBezTo>
                      <a:pt x="7596" y="3"/>
                      <a:pt x="7596" y="2"/>
                      <a:pt x="7598" y="2"/>
                    </a:cubicBezTo>
                    <a:close/>
                    <a:moveTo>
                      <a:pt x="7606" y="2"/>
                    </a:moveTo>
                    <a:lnTo>
                      <a:pt x="7606" y="2"/>
                    </a:lnTo>
                    <a:cubicBezTo>
                      <a:pt x="7607" y="2"/>
                      <a:pt x="7608" y="3"/>
                      <a:pt x="7608" y="4"/>
                    </a:cubicBezTo>
                    <a:cubicBezTo>
                      <a:pt x="7608" y="5"/>
                      <a:pt x="7607" y="6"/>
                      <a:pt x="7606" y="6"/>
                    </a:cubicBezTo>
                    <a:lnTo>
                      <a:pt x="7606" y="6"/>
                    </a:lnTo>
                    <a:cubicBezTo>
                      <a:pt x="7604" y="6"/>
                      <a:pt x="7604" y="5"/>
                      <a:pt x="7604" y="4"/>
                    </a:cubicBezTo>
                    <a:cubicBezTo>
                      <a:pt x="7604" y="3"/>
                      <a:pt x="7604" y="2"/>
                      <a:pt x="7606" y="2"/>
                    </a:cubicBezTo>
                    <a:close/>
                    <a:moveTo>
                      <a:pt x="7614" y="2"/>
                    </a:moveTo>
                    <a:lnTo>
                      <a:pt x="7614" y="2"/>
                    </a:lnTo>
                    <a:cubicBezTo>
                      <a:pt x="7615" y="2"/>
                      <a:pt x="7616" y="3"/>
                      <a:pt x="7616" y="4"/>
                    </a:cubicBezTo>
                    <a:cubicBezTo>
                      <a:pt x="7616" y="5"/>
                      <a:pt x="7615" y="6"/>
                      <a:pt x="7614" y="6"/>
                    </a:cubicBezTo>
                    <a:lnTo>
                      <a:pt x="7614" y="6"/>
                    </a:lnTo>
                    <a:cubicBezTo>
                      <a:pt x="7612" y="6"/>
                      <a:pt x="7612" y="5"/>
                      <a:pt x="7612" y="4"/>
                    </a:cubicBezTo>
                    <a:cubicBezTo>
                      <a:pt x="7612" y="3"/>
                      <a:pt x="7612" y="2"/>
                      <a:pt x="7614" y="2"/>
                    </a:cubicBezTo>
                    <a:close/>
                    <a:moveTo>
                      <a:pt x="7622" y="2"/>
                    </a:moveTo>
                    <a:lnTo>
                      <a:pt x="7622" y="2"/>
                    </a:lnTo>
                    <a:cubicBezTo>
                      <a:pt x="7623" y="2"/>
                      <a:pt x="7624" y="3"/>
                      <a:pt x="7624" y="4"/>
                    </a:cubicBezTo>
                    <a:cubicBezTo>
                      <a:pt x="7624" y="5"/>
                      <a:pt x="7623" y="6"/>
                      <a:pt x="7622" y="6"/>
                    </a:cubicBezTo>
                    <a:lnTo>
                      <a:pt x="7622" y="6"/>
                    </a:lnTo>
                    <a:cubicBezTo>
                      <a:pt x="7620" y="6"/>
                      <a:pt x="7620" y="5"/>
                      <a:pt x="7620" y="4"/>
                    </a:cubicBezTo>
                    <a:cubicBezTo>
                      <a:pt x="7620" y="3"/>
                      <a:pt x="7620" y="2"/>
                      <a:pt x="7622" y="2"/>
                    </a:cubicBezTo>
                    <a:close/>
                    <a:moveTo>
                      <a:pt x="7630" y="2"/>
                    </a:moveTo>
                    <a:lnTo>
                      <a:pt x="7630" y="2"/>
                    </a:lnTo>
                    <a:cubicBezTo>
                      <a:pt x="7631" y="2"/>
                      <a:pt x="7632" y="3"/>
                      <a:pt x="7632" y="4"/>
                    </a:cubicBezTo>
                    <a:cubicBezTo>
                      <a:pt x="7632" y="5"/>
                      <a:pt x="7631" y="6"/>
                      <a:pt x="7630" y="6"/>
                    </a:cubicBezTo>
                    <a:lnTo>
                      <a:pt x="7630" y="6"/>
                    </a:lnTo>
                    <a:cubicBezTo>
                      <a:pt x="7628" y="6"/>
                      <a:pt x="7628" y="5"/>
                      <a:pt x="7628" y="4"/>
                    </a:cubicBezTo>
                    <a:cubicBezTo>
                      <a:pt x="7628" y="3"/>
                      <a:pt x="7628" y="2"/>
                      <a:pt x="7630" y="2"/>
                    </a:cubicBezTo>
                    <a:close/>
                    <a:moveTo>
                      <a:pt x="7638" y="2"/>
                    </a:moveTo>
                    <a:lnTo>
                      <a:pt x="7638" y="2"/>
                    </a:lnTo>
                    <a:cubicBezTo>
                      <a:pt x="7639" y="2"/>
                      <a:pt x="7640" y="3"/>
                      <a:pt x="7640" y="4"/>
                    </a:cubicBezTo>
                    <a:cubicBezTo>
                      <a:pt x="7640" y="5"/>
                      <a:pt x="7639" y="6"/>
                      <a:pt x="7638" y="6"/>
                    </a:cubicBezTo>
                    <a:lnTo>
                      <a:pt x="7638" y="6"/>
                    </a:lnTo>
                    <a:cubicBezTo>
                      <a:pt x="7636" y="6"/>
                      <a:pt x="7636" y="5"/>
                      <a:pt x="7636" y="4"/>
                    </a:cubicBezTo>
                    <a:cubicBezTo>
                      <a:pt x="7636" y="3"/>
                      <a:pt x="7636" y="2"/>
                      <a:pt x="7638" y="2"/>
                    </a:cubicBezTo>
                    <a:close/>
                    <a:moveTo>
                      <a:pt x="7646" y="2"/>
                    </a:moveTo>
                    <a:lnTo>
                      <a:pt x="7646" y="2"/>
                    </a:lnTo>
                    <a:cubicBezTo>
                      <a:pt x="7647" y="2"/>
                      <a:pt x="7648" y="3"/>
                      <a:pt x="7648" y="4"/>
                    </a:cubicBezTo>
                    <a:cubicBezTo>
                      <a:pt x="7648" y="5"/>
                      <a:pt x="7647" y="6"/>
                      <a:pt x="7646" y="6"/>
                    </a:cubicBezTo>
                    <a:lnTo>
                      <a:pt x="7646" y="6"/>
                    </a:lnTo>
                    <a:cubicBezTo>
                      <a:pt x="7644" y="6"/>
                      <a:pt x="7644" y="5"/>
                      <a:pt x="7644" y="4"/>
                    </a:cubicBezTo>
                    <a:cubicBezTo>
                      <a:pt x="7644" y="3"/>
                      <a:pt x="7644" y="2"/>
                      <a:pt x="7646" y="2"/>
                    </a:cubicBezTo>
                    <a:close/>
                    <a:moveTo>
                      <a:pt x="7654" y="2"/>
                    </a:moveTo>
                    <a:lnTo>
                      <a:pt x="7654" y="2"/>
                    </a:lnTo>
                    <a:cubicBezTo>
                      <a:pt x="7655" y="2"/>
                      <a:pt x="7656" y="3"/>
                      <a:pt x="7656" y="4"/>
                    </a:cubicBezTo>
                    <a:cubicBezTo>
                      <a:pt x="7656" y="5"/>
                      <a:pt x="7655" y="6"/>
                      <a:pt x="7654" y="6"/>
                    </a:cubicBezTo>
                    <a:lnTo>
                      <a:pt x="7654" y="6"/>
                    </a:lnTo>
                    <a:cubicBezTo>
                      <a:pt x="7652" y="6"/>
                      <a:pt x="7652" y="5"/>
                      <a:pt x="7652" y="4"/>
                    </a:cubicBezTo>
                    <a:cubicBezTo>
                      <a:pt x="7652" y="3"/>
                      <a:pt x="7652" y="2"/>
                      <a:pt x="7654" y="2"/>
                    </a:cubicBezTo>
                    <a:close/>
                    <a:moveTo>
                      <a:pt x="7662" y="2"/>
                    </a:moveTo>
                    <a:lnTo>
                      <a:pt x="7662" y="2"/>
                    </a:lnTo>
                    <a:cubicBezTo>
                      <a:pt x="7663" y="2"/>
                      <a:pt x="7664" y="3"/>
                      <a:pt x="7664" y="4"/>
                    </a:cubicBezTo>
                    <a:cubicBezTo>
                      <a:pt x="7664" y="5"/>
                      <a:pt x="7663" y="6"/>
                      <a:pt x="7662" y="6"/>
                    </a:cubicBezTo>
                    <a:lnTo>
                      <a:pt x="7662" y="6"/>
                    </a:lnTo>
                    <a:cubicBezTo>
                      <a:pt x="7660" y="6"/>
                      <a:pt x="7660" y="5"/>
                      <a:pt x="7660" y="4"/>
                    </a:cubicBezTo>
                    <a:cubicBezTo>
                      <a:pt x="7660" y="3"/>
                      <a:pt x="7660" y="2"/>
                      <a:pt x="7662" y="2"/>
                    </a:cubicBezTo>
                    <a:close/>
                    <a:moveTo>
                      <a:pt x="7670" y="2"/>
                    </a:moveTo>
                    <a:lnTo>
                      <a:pt x="7670" y="2"/>
                    </a:lnTo>
                    <a:cubicBezTo>
                      <a:pt x="7671" y="2"/>
                      <a:pt x="7672" y="3"/>
                      <a:pt x="7672" y="4"/>
                    </a:cubicBezTo>
                    <a:cubicBezTo>
                      <a:pt x="7672" y="5"/>
                      <a:pt x="7671" y="6"/>
                      <a:pt x="7670" y="6"/>
                    </a:cubicBezTo>
                    <a:lnTo>
                      <a:pt x="7670" y="6"/>
                    </a:lnTo>
                    <a:cubicBezTo>
                      <a:pt x="7668" y="6"/>
                      <a:pt x="7668" y="5"/>
                      <a:pt x="7668" y="4"/>
                    </a:cubicBezTo>
                    <a:cubicBezTo>
                      <a:pt x="7668" y="3"/>
                      <a:pt x="7668" y="2"/>
                      <a:pt x="7670" y="2"/>
                    </a:cubicBezTo>
                    <a:close/>
                    <a:moveTo>
                      <a:pt x="7678" y="2"/>
                    </a:moveTo>
                    <a:lnTo>
                      <a:pt x="7678" y="2"/>
                    </a:lnTo>
                    <a:cubicBezTo>
                      <a:pt x="7679" y="2"/>
                      <a:pt x="7680" y="3"/>
                      <a:pt x="7680" y="4"/>
                    </a:cubicBezTo>
                    <a:cubicBezTo>
                      <a:pt x="7680" y="5"/>
                      <a:pt x="7679" y="6"/>
                      <a:pt x="7678" y="6"/>
                    </a:cubicBezTo>
                    <a:lnTo>
                      <a:pt x="7678" y="6"/>
                    </a:lnTo>
                    <a:cubicBezTo>
                      <a:pt x="7676" y="6"/>
                      <a:pt x="7676" y="5"/>
                      <a:pt x="7676" y="4"/>
                    </a:cubicBezTo>
                    <a:cubicBezTo>
                      <a:pt x="7676" y="3"/>
                      <a:pt x="7676" y="2"/>
                      <a:pt x="7678" y="2"/>
                    </a:cubicBezTo>
                    <a:close/>
                    <a:moveTo>
                      <a:pt x="7686" y="2"/>
                    </a:moveTo>
                    <a:lnTo>
                      <a:pt x="7686" y="2"/>
                    </a:lnTo>
                    <a:cubicBezTo>
                      <a:pt x="7687" y="2"/>
                      <a:pt x="7688" y="3"/>
                      <a:pt x="7688" y="4"/>
                    </a:cubicBezTo>
                    <a:cubicBezTo>
                      <a:pt x="7688" y="5"/>
                      <a:pt x="7687" y="6"/>
                      <a:pt x="7686" y="6"/>
                    </a:cubicBezTo>
                    <a:lnTo>
                      <a:pt x="7686" y="6"/>
                    </a:lnTo>
                    <a:cubicBezTo>
                      <a:pt x="7684" y="6"/>
                      <a:pt x="7684" y="5"/>
                      <a:pt x="7684" y="4"/>
                    </a:cubicBezTo>
                    <a:cubicBezTo>
                      <a:pt x="7684" y="3"/>
                      <a:pt x="7684" y="2"/>
                      <a:pt x="7686" y="2"/>
                    </a:cubicBezTo>
                    <a:close/>
                    <a:moveTo>
                      <a:pt x="7694" y="2"/>
                    </a:moveTo>
                    <a:lnTo>
                      <a:pt x="7694" y="2"/>
                    </a:lnTo>
                    <a:cubicBezTo>
                      <a:pt x="7695" y="2"/>
                      <a:pt x="7696" y="3"/>
                      <a:pt x="7696" y="4"/>
                    </a:cubicBezTo>
                    <a:cubicBezTo>
                      <a:pt x="7696" y="5"/>
                      <a:pt x="7695" y="6"/>
                      <a:pt x="7694" y="6"/>
                    </a:cubicBezTo>
                    <a:lnTo>
                      <a:pt x="7694" y="6"/>
                    </a:lnTo>
                    <a:cubicBezTo>
                      <a:pt x="7692" y="6"/>
                      <a:pt x="7692" y="5"/>
                      <a:pt x="7692" y="4"/>
                    </a:cubicBezTo>
                    <a:cubicBezTo>
                      <a:pt x="7692" y="3"/>
                      <a:pt x="7692" y="2"/>
                      <a:pt x="7694" y="2"/>
                    </a:cubicBezTo>
                    <a:close/>
                    <a:moveTo>
                      <a:pt x="7702" y="2"/>
                    </a:moveTo>
                    <a:lnTo>
                      <a:pt x="7702" y="2"/>
                    </a:lnTo>
                    <a:cubicBezTo>
                      <a:pt x="7703" y="2"/>
                      <a:pt x="7704" y="3"/>
                      <a:pt x="7704" y="4"/>
                    </a:cubicBezTo>
                    <a:cubicBezTo>
                      <a:pt x="7704" y="5"/>
                      <a:pt x="7703" y="6"/>
                      <a:pt x="7702" y="6"/>
                    </a:cubicBezTo>
                    <a:lnTo>
                      <a:pt x="7702" y="6"/>
                    </a:lnTo>
                    <a:cubicBezTo>
                      <a:pt x="7700" y="6"/>
                      <a:pt x="7700" y="5"/>
                      <a:pt x="7700" y="4"/>
                    </a:cubicBezTo>
                    <a:cubicBezTo>
                      <a:pt x="7700" y="3"/>
                      <a:pt x="7700" y="2"/>
                      <a:pt x="7702" y="2"/>
                    </a:cubicBezTo>
                    <a:close/>
                    <a:moveTo>
                      <a:pt x="7710" y="2"/>
                    </a:moveTo>
                    <a:lnTo>
                      <a:pt x="7710" y="2"/>
                    </a:lnTo>
                    <a:cubicBezTo>
                      <a:pt x="7711" y="2"/>
                      <a:pt x="7712" y="3"/>
                      <a:pt x="7712" y="4"/>
                    </a:cubicBezTo>
                    <a:cubicBezTo>
                      <a:pt x="7712" y="5"/>
                      <a:pt x="7711" y="6"/>
                      <a:pt x="7710" y="6"/>
                    </a:cubicBezTo>
                    <a:lnTo>
                      <a:pt x="7710" y="6"/>
                    </a:lnTo>
                    <a:cubicBezTo>
                      <a:pt x="7708" y="6"/>
                      <a:pt x="7708" y="5"/>
                      <a:pt x="7708" y="4"/>
                    </a:cubicBezTo>
                    <a:cubicBezTo>
                      <a:pt x="7708" y="3"/>
                      <a:pt x="7708" y="2"/>
                      <a:pt x="7710" y="2"/>
                    </a:cubicBezTo>
                    <a:close/>
                    <a:moveTo>
                      <a:pt x="7718" y="2"/>
                    </a:moveTo>
                    <a:lnTo>
                      <a:pt x="7718" y="2"/>
                    </a:lnTo>
                    <a:cubicBezTo>
                      <a:pt x="7719" y="2"/>
                      <a:pt x="7720" y="3"/>
                      <a:pt x="7720" y="4"/>
                    </a:cubicBezTo>
                    <a:cubicBezTo>
                      <a:pt x="7720" y="5"/>
                      <a:pt x="7719" y="6"/>
                      <a:pt x="7718" y="6"/>
                    </a:cubicBezTo>
                    <a:lnTo>
                      <a:pt x="7718" y="6"/>
                    </a:lnTo>
                    <a:cubicBezTo>
                      <a:pt x="7716" y="6"/>
                      <a:pt x="7716" y="5"/>
                      <a:pt x="7716" y="4"/>
                    </a:cubicBezTo>
                    <a:cubicBezTo>
                      <a:pt x="7716" y="3"/>
                      <a:pt x="7716" y="2"/>
                      <a:pt x="7718" y="2"/>
                    </a:cubicBezTo>
                    <a:close/>
                    <a:moveTo>
                      <a:pt x="7726" y="2"/>
                    </a:moveTo>
                    <a:lnTo>
                      <a:pt x="7726" y="2"/>
                    </a:lnTo>
                    <a:cubicBezTo>
                      <a:pt x="7727" y="2"/>
                      <a:pt x="7728" y="3"/>
                      <a:pt x="7728" y="4"/>
                    </a:cubicBezTo>
                    <a:cubicBezTo>
                      <a:pt x="7728" y="5"/>
                      <a:pt x="7727" y="6"/>
                      <a:pt x="7726" y="6"/>
                    </a:cubicBezTo>
                    <a:lnTo>
                      <a:pt x="7726" y="6"/>
                    </a:lnTo>
                    <a:cubicBezTo>
                      <a:pt x="7724" y="6"/>
                      <a:pt x="7724" y="5"/>
                      <a:pt x="7724" y="4"/>
                    </a:cubicBezTo>
                    <a:cubicBezTo>
                      <a:pt x="7724" y="3"/>
                      <a:pt x="7724" y="2"/>
                      <a:pt x="7726" y="2"/>
                    </a:cubicBezTo>
                    <a:close/>
                    <a:moveTo>
                      <a:pt x="7734" y="2"/>
                    </a:moveTo>
                    <a:lnTo>
                      <a:pt x="7734" y="2"/>
                    </a:lnTo>
                    <a:cubicBezTo>
                      <a:pt x="7735" y="2"/>
                      <a:pt x="7736" y="3"/>
                      <a:pt x="7736" y="4"/>
                    </a:cubicBezTo>
                    <a:cubicBezTo>
                      <a:pt x="7736" y="5"/>
                      <a:pt x="7735" y="6"/>
                      <a:pt x="7734" y="6"/>
                    </a:cubicBezTo>
                    <a:lnTo>
                      <a:pt x="7734" y="6"/>
                    </a:lnTo>
                    <a:cubicBezTo>
                      <a:pt x="7732" y="6"/>
                      <a:pt x="7732" y="5"/>
                      <a:pt x="7732" y="4"/>
                    </a:cubicBezTo>
                    <a:cubicBezTo>
                      <a:pt x="7732" y="3"/>
                      <a:pt x="7732" y="2"/>
                      <a:pt x="7734" y="2"/>
                    </a:cubicBezTo>
                    <a:close/>
                    <a:moveTo>
                      <a:pt x="7742" y="2"/>
                    </a:moveTo>
                    <a:lnTo>
                      <a:pt x="7742" y="2"/>
                    </a:lnTo>
                    <a:cubicBezTo>
                      <a:pt x="7743" y="2"/>
                      <a:pt x="7744" y="3"/>
                      <a:pt x="7744" y="4"/>
                    </a:cubicBezTo>
                    <a:cubicBezTo>
                      <a:pt x="7744" y="5"/>
                      <a:pt x="7743" y="6"/>
                      <a:pt x="7742" y="6"/>
                    </a:cubicBezTo>
                    <a:lnTo>
                      <a:pt x="7742" y="6"/>
                    </a:lnTo>
                    <a:cubicBezTo>
                      <a:pt x="7740" y="6"/>
                      <a:pt x="7740" y="5"/>
                      <a:pt x="7740" y="4"/>
                    </a:cubicBezTo>
                    <a:cubicBezTo>
                      <a:pt x="7740" y="3"/>
                      <a:pt x="7740" y="2"/>
                      <a:pt x="7742" y="2"/>
                    </a:cubicBezTo>
                    <a:close/>
                    <a:moveTo>
                      <a:pt x="7750" y="2"/>
                    </a:moveTo>
                    <a:lnTo>
                      <a:pt x="7750" y="2"/>
                    </a:lnTo>
                    <a:cubicBezTo>
                      <a:pt x="7751" y="2"/>
                      <a:pt x="7752" y="3"/>
                      <a:pt x="7752" y="4"/>
                    </a:cubicBezTo>
                    <a:cubicBezTo>
                      <a:pt x="7752" y="5"/>
                      <a:pt x="7751" y="6"/>
                      <a:pt x="7750" y="6"/>
                    </a:cubicBezTo>
                    <a:lnTo>
                      <a:pt x="7750" y="6"/>
                    </a:lnTo>
                    <a:cubicBezTo>
                      <a:pt x="7748" y="6"/>
                      <a:pt x="7748" y="5"/>
                      <a:pt x="7748" y="4"/>
                    </a:cubicBezTo>
                    <a:cubicBezTo>
                      <a:pt x="7748" y="3"/>
                      <a:pt x="7748" y="2"/>
                      <a:pt x="7750" y="2"/>
                    </a:cubicBezTo>
                    <a:close/>
                    <a:moveTo>
                      <a:pt x="7758" y="2"/>
                    </a:moveTo>
                    <a:lnTo>
                      <a:pt x="7758" y="2"/>
                    </a:lnTo>
                    <a:cubicBezTo>
                      <a:pt x="7759" y="2"/>
                      <a:pt x="7760" y="3"/>
                      <a:pt x="7760" y="4"/>
                    </a:cubicBezTo>
                    <a:cubicBezTo>
                      <a:pt x="7760" y="5"/>
                      <a:pt x="7759" y="6"/>
                      <a:pt x="7758" y="6"/>
                    </a:cubicBezTo>
                    <a:lnTo>
                      <a:pt x="7758" y="6"/>
                    </a:lnTo>
                    <a:cubicBezTo>
                      <a:pt x="7757" y="6"/>
                      <a:pt x="7756" y="5"/>
                      <a:pt x="7756" y="4"/>
                    </a:cubicBezTo>
                    <a:cubicBezTo>
                      <a:pt x="7756" y="3"/>
                      <a:pt x="7757" y="2"/>
                      <a:pt x="7758" y="2"/>
                    </a:cubicBezTo>
                    <a:close/>
                    <a:moveTo>
                      <a:pt x="7766" y="2"/>
                    </a:moveTo>
                    <a:lnTo>
                      <a:pt x="7766" y="2"/>
                    </a:lnTo>
                    <a:cubicBezTo>
                      <a:pt x="7767" y="2"/>
                      <a:pt x="7768" y="3"/>
                      <a:pt x="7768" y="4"/>
                    </a:cubicBezTo>
                    <a:cubicBezTo>
                      <a:pt x="7768" y="5"/>
                      <a:pt x="7767" y="6"/>
                      <a:pt x="7766" y="6"/>
                    </a:cubicBezTo>
                    <a:lnTo>
                      <a:pt x="7766" y="6"/>
                    </a:lnTo>
                    <a:cubicBezTo>
                      <a:pt x="7765" y="6"/>
                      <a:pt x="7764" y="5"/>
                      <a:pt x="7764" y="4"/>
                    </a:cubicBezTo>
                    <a:cubicBezTo>
                      <a:pt x="7764" y="3"/>
                      <a:pt x="7765" y="2"/>
                      <a:pt x="7766" y="2"/>
                    </a:cubicBezTo>
                    <a:close/>
                    <a:moveTo>
                      <a:pt x="7774" y="2"/>
                    </a:moveTo>
                    <a:lnTo>
                      <a:pt x="7774" y="2"/>
                    </a:lnTo>
                    <a:cubicBezTo>
                      <a:pt x="7775" y="2"/>
                      <a:pt x="7776" y="3"/>
                      <a:pt x="7776" y="4"/>
                    </a:cubicBezTo>
                    <a:cubicBezTo>
                      <a:pt x="7776" y="5"/>
                      <a:pt x="7775" y="6"/>
                      <a:pt x="7774" y="6"/>
                    </a:cubicBezTo>
                    <a:lnTo>
                      <a:pt x="7774" y="6"/>
                    </a:lnTo>
                    <a:cubicBezTo>
                      <a:pt x="7773" y="6"/>
                      <a:pt x="7772" y="5"/>
                      <a:pt x="7772" y="4"/>
                    </a:cubicBezTo>
                    <a:cubicBezTo>
                      <a:pt x="7772" y="3"/>
                      <a:pt x="7773" y="2"/>
                      <a:pt x="7774" y="2"/>
                    </a:cubicBezTo>
                    <a:close/>
                    <a:moveTo>
                      <a:pt x="7782" y="2"/>
                    </a:moveTo>
                    <a:lnTo>
                      <a:pt x="7782" y="2"/>
                    </a:lnTo>
                    <a:cubicBezTo>
                      <a:pt x="7783" y="2"/>
                      <a:pt x="7784" y="3"/>
                      <a:pt x="7784" y="4"/>
                    </a:cubicBezTo>
                    <a:cubicBezTo>
                      <a:pt x="7784" y="5"/>
                      <a:pt x="7783" y="6"/>
                      <a:pt x="7782" y="6"/>
                    </a:cubicBezTo>
                    <a:lnTo>
                      <a:pt x="7782" y="6"/>
                    </a:lnTo>
                    <a:cubicBezTo>
                      <a:pt x="7781" y="6"/>
                      <a:pt x="7780" y="5"/>
                      <a:pt x="7780" y="4"/>
                    </a:cubicBezTo>
                    <a:cubicBezTo>
                      <a:pt x="7780" y="3"/>
                      <a:pt x="7781" y="2"/>
                      <a:pt x="7782" y="2"/>
                    </a:cubicBezTo>
                    <a:close/>
                    <a:moveTo>
                      <a:pt x="7790" y="2"/>
                    </a:moveTo>
                    <a:lnTo>
                      <a:pt x="7790" y="2"/>
                    </a:lnTo>
                    <a:cubicBezTo>
                      <a:pt x="7791" y="2"/>
                      <a:pt x="7792" y="3"/>
                      <a:pt x="7792" y="4"/>
                    </a:cubicBezTo>
                    <a:cubicBezTo>
                      <a:pt x="7792" y="5"/>
                      <a:pt x="7791" y="6"/>
                      <a:pt x="7790" y="6"/>
                    </a:cubicBezTo>
                    <a:lnTo>
                      <a:pt x="7790" y="6"/>
                    </a:lnTo>
                    <a:cubicBezTo>
                      <a:pt x="7789" y="6"/>
                      <a:pt x="7788" y="5"/>
                      <a:pt x="7788" y="4"/>
                    </a:cubicBezTo>
                    <a:cubicBezTo>
                      <a:pt x="7788" y="3"/>
                      <a:pt x="7789" y="2"/>
                      <a:pt x="7790" y="2"/>
                    </a:cubicBezTo>
                    <a:close/>
                    <a:moveTo>
                      <a:pt x="7798" y="2"/>
                    </a:moveTo>
                    <a:lnTo>
                      <a:pt x="7798" y="2"/>
                    </a:lnTo>
                    <a:cubicBezTo>
                      <a:pt x="7799" y="2"/>
                      <a:pt x="7800" y="3"/>
                      <a:pt x="7800" y="4"/>
                    </a:cubicBezTo>
                    <a:cubicBezTo>
                      <a:pt x="7800" y="5"/>
                      <a:pt x="7799" y="6"/>
                      <a:pt x="7798" y="6"/>
                    </a:cubicBezTo>
                    <a:lnTo>
                      <a:pt x="7798" y="6"/>
                    </a:lnTo>
                    <a:cubicBezTo>
                      <a:pt x="7797" y="6"/>
                      <a:pt x="7796" y="5"/>
                      <a:pt x="7796" y="4"/>
                    </a:cubicBezTo>
                    <a:cubicBezTo>
                      <a:pt x="7796" y="3"/>
                      <a:pt x="7797" y="2"/>
                      <a:pt x="7798" y="2"/>
                    </a:cubicBezTo>
                    <a:close/>
                    <a:moveTo>
                      <a:pt x="7806" y="2"/>
                    </a:moveTo>
                    <a:lnTo>
                      <a:pt x="7806" y="2"/>
                    </a:lnTo>
                    <a:cubicBezTo>
                      <a:pt x="7807" y="2"/>
                      <a:pt x="7808" y="3"/>
                      <a:pt x="7808" y="4"/>
                    </a:cubicBezTo>
                    <a:cubicBezTo>
                      <a:pt x="7808" y="5"/>
                      <a:pt x="7807" y="6"/>
                      <a:pt x="7806" y="6"/>
                    </a:cubicBezTo>
                    <a:lnTo>
                      <a:pt x="7806" y="6"/>
                    </a:lnTo>
                    <a:cubicBezTo>
                      <a:pt x="7805" y="6"/>
                      <a:pt x="7804" y="5"/>
                      <a:pt x="7804" y="4"/>
                    </a:cubicBezTo>
                    <a:cubicBezTo>
                      <a:pt x="7804" y="3"/>
                      <a:pt x="7805" y="2"/>
                      <a:pt x="7806" y="2"/>
                    </a:cubicBezTo>
                    <a:close/>
                    <a:moveTo>
                      <a:pt x="7814" y="2"/>
                    </a:moveTo>
                    <a:lnTo>
                      <a:pt x="7814" y="2"/>
                    </a:lnTo>
                    <a:cubicBezTo>
                      <a:pt x="7815" y="2"/>
                      <a:pt x="7816" y="3"/>
                      <a:pt x="7816" y="4"/>
                    </a:cubicBezTo>
                    <a:cubicBezTo>
                      <a:pt x="7816" y="5"/>
                      <a:pt x="7815" y="6"/>
                      <a:pt x="7814" y="6"/>
                    </a:cubicBezTo>
                    <a:lnTo>
                      <a:pt x="7814" y="6"/>
                    </a:lnTo>
                    <a:cubicBezTo>
                      <a:pt x="7813" y="6"/>
                      <a:pt x="7812" y="5"/>
                      <a:pt x="7812" y="4"/>
                    </a:cubicBezTo>
                    <a:cubicBezTo>
                      <a:pt x="7812" y="3"/>
                      <a:pt x="7813" y="2"/>
                      <a:pt x="7814" y="2"/>
                    </a:cubicBezTo>
                    <a:close/>
                    <a:moveTo>
                      <a:pt x="7822" y="2"/>
                    </a:moveTo>
                    <a:lnTo>
                      <a:pt x="7822" y="2"/>
                    </a:lnTo>
                    <a:cubicBezTo>
                      <a:pt x="7823" y="2"/>
                      <a:pt x="7824" y="3"/>
                      <a:pt x="7824" y="4"/>
                    </a:cubicBezTo>
                    <a:cubicBezTo>
                      <a:pt x="7824" y="5"/>
                      <a:pt x="7823" y="6"/>
                      <a:pt x="7822" y="6"/>
                    </a:cubicBezTo>
                    <a:lnTo>
                      <a:pt x="7822" y="6"/>
                    </a:lnTo>
                    <a:cubicBezTo>
                      <a:pt x="7821" y="6"/>
                      <a:pt x="7820" y="5"/>
                      <a:pt x="7820" y="4"/>
                    </a:cubicBezTo>
                    <a:cubicBezTo>
                      <a:pt x="7820" y="3"/>
                      <a:pt x="7821" y="2"/>
                      <a:pt x="7822" y="2"/>
                    </a:cubicBezTo>
                    <a:close/>
                    <a:moveTo>
                      <a:pt x="7830" y="2"/>
                    </a:moveTo>
                    <a:lnTo>
                      <a:pt x="7830" y="2"/>
                    </a:lnTo>
                    <a:cubicBezTo>
                      <a:pt x="7831" y="2"/>
                      <a:pt x="7832" y="3"/>
                      <a:pt x="7832" y="4"/>
                    </a:cubicBezTo>
                    <a:cubicBezTo>
                      <a:pt x="7832" y="5"/>
                      <a:pt x="7831" y="6"/>
                      <a:pt x="7830" y="6"/>
                    </a:cubicBezTo>
                    <a:lnTo>
                      <a:pt x="7830" y="6"/>
                    </a:lnTo>
                    <a:cubicBezTo>
                      <a:pt x="7829" y="6"/>
                      <a:pt x="7828" y="5"/>
                      <a:pt x="7828" y="4"/>
                    </a:cubicBezTo>
                    <a:cubicBezTo>
                      <a:pt x="7828" y="3"/>
                      <a:pt x="7829" y="2"/>
                      <a:pt x="7830" y="2"/>
                    </a:cubicBezTo>
                    <a:close/>
                    <a:moveTo>
                      <a:pt x="7838" y="2"/>
                    </a:moveTo>
                    <a:lnTo>
                      <a:pt x="7838" y="2"/>
                    </a:lnTo>
                    <a:cubicBezTo>
                      <a:pt x="7839" y="2"/>
                      <a:pt x="7840" y="3"/>
                      <a:pt x="7840" y="4"/>
                    </a:cubicBezTo>
                    <a:cubicBezTo>
                      <a:pt x="7840" y="5"/>
                      <a:pt x="7839" y="6"/>
                      <a:pt x="7838" y="6"/>
                    </a:cubicBezTo>
                    <a:lnTo>
                      <a:pt x="7838" y="6"/>
                    </a:lnTo>
                    <a:cubicBezTo>
                      <a:pt x="7837" y="6"/>
                      <a:pt x="7836" y="5"/>
                      <a:pt x="7836" y="4"/>
                    </a:cubicBezTo>
                    <a:cubicBezTo>
                      <a:pt x="7836" y="3"/>
                      <a:pt x="7837" y="2"/>
                      <a:pt x="7838" y="2"/>
                    </a:cubicBezTo>
                    <a:close/>
                    <a:moveTo>
                      <a:pt x="7846" y="2"/>
                    </a:moveTo>
                    <a:lnTo>
                      <a:pt x="7846" y="2"/>
                    </a:lnTo>
                    <a:cubicBezTo>
                      <a:pt x="7847" y="2"/>
                      <a:pt x="7848" y="3"/>
                      <a:pt x="7848" y="4"/>
                    </a:cubicBezTo>
                    <a:cubicBezTo>
                      <a:pt x="7848" y="5"/>
                      <a:pt x="7847" y="6"/>
                      <a:pt x="7846" y="6"/>
                    </a:cubicBezTo>
                    <a:lnTo>
                      <a:pt x="7846" y="6"/>
                    </a:lnTo>
                    <a:cubicBezTo>
                      <a:pt x="7845" y="6"/>
                      <a:pt x="7844" y="5"/>
                      <a:pt x="7844" y="4"/>
                    </a:cubicBezTo>
                    <a:cubicBezTo>
                      <a:pt x="7844" y="3"/>
                      <a:pt x="7845" y="2"/>
                      <a:pt x="7846" y="2"/>
                    </a:cubicBezTo>
                    <a:close/>
                    <a:moveTo>
                      <a:pt x="7854" y="2"/>
                    </a:moveTo>
                    <a:lnTo>
                      <a:pt x="7854" y="2"/>
                    </a:lnTo>
                    <a:cubicBezTo>
                      <a:pt x="7855" y="2"/>
                      <a:pt x="7856" y="3"/>
                      <a:pt x="7856" y="4"/>
                    </a:cubicBezTo>
                    <a:cubicBezTo>
                      <a:pt x="7856" y="5"/>
                      <a:pt x="7855" y="6"/>
                      <a:pt x="7854" y="6"/>
                    </a:cubicBezTo>
                    <a:lnTo>
                      <a:pt x="7854" y="6"/>
                    </a:lnTo>
                    <a:cubicBezTo>
                      <a:pt x="7853" y="6"/>
                      <a:pt x="7852" y="5"/>
                      <a:pt x="7852" y="4"/>
                    </a:cubicBezTo>
                    <a:cubicBezTo>
                      <a:pt x="7852" y="3"/>
                      <a:pt x="7853" y="2"/>
                      <a:pt x="7854" y="2"/>
                    </a:cubicBezTo>
                    <a:close/>
                    <a:moveTo>
                      <a:pt x="7862" y="2"/>
                    </a:moveTo>
                    <a:lnTo>
                      <a:pt x="7862" y="2"/>
                    </a:lnTo>
                    <a:cubicBezTo>
                      <a:pt x="7863" y="2"/>
                      <a:pt x="7864" y="3"/>
                      <a:pt x="7864" y="4"/>
                    </a:cubicBezTo>
                    <a:cubicBezTo>
                      <a:pt x="7864" y="5"/>
                      <a:pt x="7863" y="6"/>
                      <a:pt x="7862" y="6"/>
                    </a:cubicBezTo>
                    <a:lnTo>
                      <a:pt x="7862" y="6"/>
                    </a:lnTo>
                    <a:cubicBezTo>
                      <a:pt x="7861" y="6"/>
                      <a:pt x="7860" y="5"/>
                      <a:pt x="7860" y="4"/>
                    </a:cubicBezTo>
                    <a:cubicBezTo>
                      <a:pt x="7860" y="3"/>
                      <a:pt x="7861" y="2"/>
                      <a:pt x="7862" y="2"/>
                    </a:cubicBezTo>
                    <a:close/>
                    <a:moveTo>
                      <a:pt x="7870" y="2"/>
                    </a:moveTo>
                    <a:lnTo>
                      <a:pt x="7870" y="2"/>
                    </a:lnTo>
                    <a:cubicBezTo>
                      <a:pt x="7871" y="2"/>
                      <a:pt x="7872" y="3"/>
                      <a:pt x="7872" y="4"/>
                    </a:cubicBezTo>
                    <a:cubicBezTo>
                      <a:pt x="7872" y="5"/>
                      <a:pt x="7871" y="6"/>
                      <a:pt x="7870" y="6"/>
                    </a:cubicBezTo>
                    <a:lnTo>
                      <a:pt x="7870" y="6"/>
                    </a:lnTo>
                    <a:cubicBezTo>
                      <a:pt x="7869" y="6"/>
                      <a:pt x="7868" y="5"/>
                      <a:pt x="7868" y="4"/>
                    </a:cubicBezTo>
                    <a:cubicBezTo>
                      <a:pt x="7868" y="3"/>
                      <a:pt x="7869" y="2"/>
                      <a:pt x="7870" y="2"/>
                    </a:cubicBezTo>
                    <a:close/>
                    <a:moveTo>
                      <a:pt x="7878" y="2"/>
                    </a:moveTo>
                    <a:lnTo>
                      <a:pt x="7878" y="2"/>
                    </a:lnTo>
                    <a:cubicBezTo>
                      <a:pt x="7879" y="2"/>
                      <a:pt x="7880" y="3"/>
                      <a:pt x="7880" y="4"/>
                    </a:cubicBezTo>
                    <a:cubicBezTo>
                      <a:pt x="7880" y="5"/>
                      <a:pt x="7879" y="6"/>
                      <a:pt x="7878" y="6"/>
                    </a:cubicBezTo>
                    <a:lnTo>
                      <a:pt x="7878" y="6"/>
                    </a:lnTo>
                    <a:cubicBezTo>
                      <a:pt x="7877" y="6"/>
                      <a:pt x="7876" y="5"/>
                      <a:pt x="7876" y="4"/>
                    </a:cubicBezTo>
                    <a:cubicBezTo>
                      <a:pt x="7876" y="3"/>
                      <a:pt x="7877" y="2"/>
                      <a:pt x="7878" y="2"/>
                    </a:cubicBezTo>
                    <a:close/>
                    <a:moveTo>
                      <a:pt x="7886" y="2"/>
                    </a:moveTo>
                    <a:lnTo>
                      <a:pt x="7886" y="2"/>
                    </a:lnTo>
                    <a:cubicBezTo>
                      <a:pt x="7887" y="2"/>
                      <a:pt x="7888" y="3"/>
                      <a:pt x="7888" y="4"/>
                    </a:cubicBezTo>
                    <a:cubicBezTo>
                      <a:pt x="7888" y="5"/>
                      <a:pt x="7887" y="6"/>
                      <a:pt x="7886" y="6"/>
                    </a:cubicBezTo>
                    <a:lnTo>
                      <a:pt x="7886" y="6"/>
                    </a:lnTo>
                    <a:cubicBezTo>
                      <a:pt x="7885" y="6"/>
                      <a:pt x="7884" y="5"/>
                      <a:pt x="7884" y="4"/>
                    </a:cubicBezTo>
                    <a:cubicBezTo>
                      <a:pt x="7884" y="3"/>
                      <a:pt x="7885" y="2"/>
                      <a:pt x="7886" y="2"/>
                    </a:cubicBezTo>
                    <a:close/>
                    <a:moveTo>
                      <a:pt x="7894" y="2"/>
                    </a:moveTo>
                    <a:lnTo>
                      <a:pt x="7894" y="2"/>
                    </a:lnTo>
                    <a:cubicBezTo>
                      <a:pt x="7895" y="2"/>
                      <a:pt x="7896" y="3"/>
                      <a:pt x="7896" y="4"/>
                    </a:cubicBezTo>
                    <a:cubicBezTo>
                      <a:pt x="7896" y="5"/>
                      <a:pt x="7895" y="6"/>
                      <a:pt x="7894" y="6"/>
                    </a:cubicBezTo>
                    <a:lnTo>
                      <a:pt x="7894" y="6"/>
                    </a:lnTo>
                    <a:cubicBezTo>
                      <a:pt x="7893" y="6"/>
                      <a:pt x="7892" y="5"/>
                      <a:pt x="7892" y="4"/>
                    </a:cubicBezTo>
                    <a:cubicBezTo>
                      <a:pt x="7892" y="3"/>
                      <a:pt x="7893" y="2"/>
                      <a:pt x="7894" y="2"/>
                    </a:cubicBezTo>
                    <a:close/>
                    <a:moveTo>
                      <a:pt x="7902" y="2"/>
                    </a:moveTo>
                    <a:lnTo>
                      <a:pt x="7902" y="2"/>
                    </a:lnTo>
                    <a:cubicBezTo>
                      <a:pt x="7903" y="2"/>
                      <a:pt x="7904" y="3"/>
                      <a:pt x="7904" y="4"/>
                    </a:cubicBezTo>
                    <a:cubicBezTo>
                      <a:pt x="7904" y="5"/>
                      <a:pt x="7903" y="6"/>
                      <a:pt x="7902" y="6"/>
                    </a:cubicBezTo>
                    <a:lnTo>
                      <a:pt x="7902" y="6"/>
                    </a:lnTo>
                    <a:cubicBezTo>
                      <a:pt x="7901" y="6"/>
                      <a:pt x="7900" y="5"/>
                      <a:pt x="7900" y="4"/>
                    </a:cubicBezTo>
                    <a:cubicBezTo>
                      <a:pt x="7900" y="3"/>
                      <a:pt x="7901" y="2"/>
                      <a:pt x="7902" y="2"/>
                    </a:cubicBezTo>
                    <a:close/>
                    <a:moveTo>
                      <a:pt x="7910" y="2"/>
                    </a:moveTo>
                    <a:lnTo>
                      <a:pt x="7910" y="2"/>
                    </a:lnTo>
                    <a:cubicBezTo>
                      <a:pt x="7911" y="2"/>
                      <a:pt x="7912" y="3"/>
                      <a:pt x="7912" y="4"/>
                    </a:cubicBezTo>
                    <a:cubicBezTo>
                      <a:pt x="7912" y="5"/>
                      <a:pt x="7911" y="6"/>
                      <a:pt x="7910" y="6"/>
                    </a:cubicBezTo>
                    <a:lnTo>
                      <a:pt x="7910" y="6"/>
                    </a:lnTo>
                    <a:cubicBezTo>
                      <a:pt x="7909" y="6"/>
                      <a:pt x="7908" y="5"/>
                      <a:pt x="7908" y="4"/>
                    </a:cubicBezTo>
                    <a:cubicBezTo>
                      <a:pt x="7908" y="3"/>
                      <a:pt x="7909" y="2"/>
                      <a:pt x="7910" y="2"/>
                    </a:cubicBezTo>
                    <a:close/>
                    <a:moveTo>
                      <a:pt x="7918" y="2"/>
                    </a:moveTo>
                    <a:lnTo>
                      <a:pt x="7918" y="2"/>
                    </a:lnTo>
                    <a:cubicBezTo>
                      <a:pt x="7919" y="2"/>
                      <a:pt x="7920" y="3"/>
                      <a:pt x="7920" y="4"/>
                    </a:cubicBezTo>
                    <a:cubicBezTo>
                      <a:pt x="7920" y="5"/>
                      <a:pt x="7919" y="6"/>
                      <a:pt x="7918" y="6"/>
                    </a:cubicBezTo>
                    <a:lnTo>
                      <a:pt x="7918" y="6"/>
                    </a:lnTo>
                    <a:cubicBezTo>
                      <a:pt x="7917" y="6"/>
                      <a:pt x="7916" y="5"/>
                      <a:pt x="7916" y="4"/>
                    </a:cubicBezTo>
                    <a:cubicBezTo>
                      <a:pt x="7916" y="3"/>
                      <a:pt x="7917" y="2"/>
                      <a:pt x="7918" y="2"/>
                    </a:cubicBezTo>
                    <a:close/>
                    <a:moveTo>
                      <a:pt x="7926" y="2"/>
                    </a:moveTo>
                    <a:lnTo>
                      <a:pt x="7926" y="2"/>
                    </a:lnTo>
                    <a:cubicBezTo>
                      <a:pt x="7927" y="2"/>
                      <a:pt x="7928" y="3"/>
                      <a:pt x="7928" y="4"/>
                    </a:cubicBezTo>
                    <a:cubicBezTo>
                      <a:pt x="7928" y="5"/>
                      <a:pt x="7927" y="6"/>
                      <a:pt x="7926" y="6"/>
                    </a:cubicBezTo>
                    <a:lnTo>
                      <a:pt x="7926" y="6"/>
                    </a:lnTo>
                    <a:cubicBezTo>
                      <a:pt x="7925" y="6"/>
                      <a:pt x="7924" y="5"/>
                      <a:pt x="7924" y="4"/>
                    </a:cubicBezTo>
                    <a:cubicBezTo>
                      <a:pt x="7924" y="3"/>
                      <a:pt x="7925" y="2"/>
                      <a:pt x="7926" y="2"/>
                    </a:cubicBezTo>
                    <a:close/>
                    <a:moveTo>
                      <a:pt x="7934" y="2"/>
                    </a:moveTo>
                    <a:lnTo>
                      <a:pt x="7934" y="2"/>
                    </a:lnTo>
                    <a:cubicBezTo>
                      <a:pt x="7935" y="2"/>
                      <a:pt x="7936" y="3"/>
                      <a:pt x="7936" y="4"/>
                    </a:cubicBezTo>
                    <a:cubicBezTo>
                      <a:pt x="7936" y="5"/>
                      <a:pt x="7935" y="6"/>
                      <a:pt x="7934" y="6"/>
                    </a:cubicBezTo>
                    <a:lnTo>
                      <a:pt x="7934" y="6"/>
                    </a:lnTo>
                    <a:cubicBezTo>
                      <a:pt x="7933" y="6"/>
                      <a:pt x="7932" y="5"/>
                      <a:pt x="7932" y="4"/>
                    </a:cubicBezTo>
                    <a:cubicBezTo>
                      <a:pt x="7932" y="3"/>
                      <a:pt x="7933" y="2"/>
                      <a:pt x="7934" y="2"/>
                    </a:cubicBezTo>
                    <a:close/>
                    <a:moveTo>
                      <a:pt x="7942" y="2"/>
                    </a:moveTo>
                    <a:lnTo>
                      <a:pt x="7942" y="2"/>
                    </a:lnTo>
                    <a:cubicBezTo>
                      <a:pt x="7943" y="2"/>
                      <a:pt x="7944" y="3"/>
                      <a:pt x="7944" y="4"/>
                    </a:cubicBezTo>
                    <a:cubicBezTo>
                      <a:pt x="7944" y="5"/>
                      <a:pt x="7943" y="6"/>
                      <a:pt x="7942" y="6"/>
                    </a:cubicBezTo>
                    <a:lnTo>
                      <a:pt x="7942" y="6"/>
                    </a:lnTo>
                    <a:cubicBezTo>
                      <a:pt x="7941" y="6"/>
                      <a:pt x="7940" y="5"/>
                      <a:pt x="7940" y="4"/>
                    </a:cubicBezTo>
                    <a:cubicBezTo>
                      <a:pt x="7940" y="3"/>
                      <a:pt x="7941" y="2"/>
                      <a:pt x="7942" y="2"/>
                    </a:cubicBezTo>
                    <a:close/>
                    <a:moveTo>
                      <a:pt x="7950" y="2"/>
                    </a:moveTo>
                    <a:lnTo>
                      <a:pt x="7950" y="2"/>
                    </a:lnTo>
                    <a:cubicBezTo>
                      <a:pt x="7951" y="2"/>
                      <a:pt x="7952" y="3"/>
                      <a:pt x="7952" y="4"/>
                    </a:cubicBezTo>
                    <a:cubicBezTo>
                      <a:pt x="7952" y="5"/>
                      <a:pt x="7951" y="6"/>
                      <a:pt x="7950" y="6"/>
                    </a:cubicBezTo>
                    <a:lnTo>
                      <a:pt x="7950" y="6"/>
                    </a:lnTo>
                    <a:cubicBezTo>
                      <a:pt x="7949" y="6"/>
                      <a:pt x="7948" y="5"/>
                      <a:pt x="7948" y="4"/>
                    </a:cubicBezTo>
                    <a:cubicBezTo>
                      <a:pt x="7948" y="3"/>
                      <a:pt x="7949" y="2"/>
                      <a:pt x="7950" y="2"/>
                    </a:cubicBezTo>
                    <a:close/>
                    <a:moveTo>
                      <a:pt x="7958" y="2"/>
                    </a:moveTo>
                    <a:lnTo>
                      <a:pt x="7958" y="2"/>
                    </a:lnTo>
                    <a:cubicBezTo>
                      <a:pt x="7959" y="2"/>
                      <a:pt x="7960" y="3"/>
                      <a:pt x="7960" y="4"/>
                    </a:cubicBezTo>
                    <a:cubicBezTo>
                      <a:pt x="7960" y="5"/>
                      <a:pt x="7959" y="6"/>
                      <a:pt x="7958" y="6"/>
                    </a:cubicBezTo>
                    <a:lnTo>
                      <a:pt x="7958" y="6"/>
                    </a:lnTo>
                    <a:cubicBezTo>
                      <a:pt x="7957" y="6"/>
                      <a:pt x="7956" y="5"/>
                      <a:pt x="7956" y="4"/>
                    </a:cubicBezTo>
                    <a:cubicBezTo>
                      <a:pt x="7956" y="3"/>
                      <a:pt x="7957" y="2"/>
                      <a:pt x="7958" y="2"/>
                    </a:cubicBezTo>
                    <a:close/>
                    <a:moveTo>
                      <a:pt x="7966" y="2"/>
                    </a:moveTo>
                    <a:lnTo>
                      <a:pt x="7966" y="2"/>
                    </a:lnTo>
                    <a:cubicBezTo>
                      <a:pt x="7967" y="2"/>
                      <a:pt x="7968" y="3"/>
                      <a:pt x="7968" y="4"/>
                    </a:cubicBezTo>
                    <a:cubicBezTo>
                      <a:pt x="7968" y="5"/>
                      <a:pt x="7967" y="6"/>
                      <a:pt x="7966" y="6"/>
                    </a:cubicBezTo>
                    <a:lnTo>
                      <a:pt x="7966" y="6"/>
                    </a:lnTo>
                    <a:cubicBezTo>
                      <a:pt x="7965" y="6"/>
                      <a:pt x="7964" y="5"/>
                      <a:pt x="7964" y="4"/>
                    </a:cubicBezTo>
                    <a:cubicBezTo>
                      <a:pt x="7964" y="3"/>
                      <a:pt x="7965" y="2"/>
                      <a:pt x="7966" y="2"/>
                    </a:cubicBezTo>
                    <a:close/>
                    <a:moveTo>
                      <a:pt x="7974" y="2"/>
                    </a:moveTo>
                    <a:lnTo>
                      <a:pt x="7974" y="2"/>
                    </a:lnTo>
                    <a:cubicBezTo>
                      <a:pt x="7975" y="2"/>
                      <a:pt x="7976" y="3"/>
                      <a:pt x="7976" y="4"/>
                    </a:cubicBezTo>
                    <a:cubicBezTo>
                      <a:pt x="7976" y="5"/>
                      <a:pt x="7975" y="6"/>
                      <a:pt x="7974" y="6"/>
                    </a:cubicBezTo>
                    <a:lnTo>
                      <a:pt x="7974" y="6"/>
                    </a:lnTo>
                    <a:cubicBezTo>
                      <a:pt x="7973" y="6"/>
                      <a:pt x="7972" y="5"/>
                      <a:pt x="7972" y="4"/>
                    </a:cubicBezTo>
                    <a:cubicBezTo>
                      <a:pt x="7972" y="3"/>
                      <a:pt x="7973" y="2"/>
                      <a:pt x="7974" y="2"/>
                    </a:cubicBezTo>
                    <a:close/>
                    <a:moveTo>
                      <a:pt x="7982" y="2"/>
                    </a:moveTo>
                    <a:lnTo>
                      <a:pt x="7982" y="2"/>
                    </a:lnTo>
                    <a:cubicBezTo>
                      <a:pt x="7983" y="2"/>
                      <a:pt x="7984" y="3"/>
                      <a:pt x="7984" y="4"/>
                    </a:cubicBezTo>
                    <a:cubicBezTo>
                      <a:pt x="7984" y="5"/>
                      <a:pt x="7983" y="6"/>
                      <a:pt x="7982" y="6"/>
                    </a:cubicBezTo>
                    <a:lnTo>
                      <a:pt x="7982" y="6"/>
                    </a:lnTo>
                    <a:cubicBezTo>
                      <a:pt x="7981" y="6"/>
                      <a:pt x="7980" y="5"/>
                      <a:pt x="7980" y="4"/>
                    </a:cubicBezTo>
                    <a:cubicBezTo>
                      <a:pt x="7980" y="3"/>
                      <a:pt x="7981" y="2"/>
                      <a:pt x="7982" y="2"/>
                    </a:cubicBezTo>
                    <a:close/>
                    <a:moveTo>
                      <a:pt x="7990" y="2"/>
                    </a:moveTo>
                    <a:lnTo>
                      <a:pt x="7990" y="2"/>
                    </a:lnTo>
                    <a:cubicBezTo>
                      <a:pt x="7991" y="2"/>
                      <a:pt x="7992" y="3"/>
                      <a:pt x="7992" y="4"/>
                    </a:cubicBezTo>
                    <a:cubicBezTo>
                      <a:pt x="7992" y="5"/>
                      <a:pt x="7991" y="6"/>
                      <a:pt x="7990" y="6"/>
                    </a:cubicBezTo>
                    <a:lnTo>
                      <a:pt x="7990" y="6"/>
                    </a:lnTo>
                    <a:cubicBezTo>
                      <a:pt x="7989" y="6"/>
                      <a:pt x="7988" y="5"/>
                      <a:pt x="7988" y="4"/>
                    </a:cubicBezTo>
                    <a:cubicBezTo>
                      <a:pt x="7988" y="3"/>
                      <a:pt x="7989" y="2"/>
                      <a:pt x="7990" y="2"/>
                    </a:cubicBezTo>
                    <a:close/>
                    <a:moveTo>
                      <a:pt x="7998" y="2"/>
                    </a:moveTo>
                    <a:lnTo>
                      <a:pt x="7998" y="2"/>
                    </a:lnTo>
                    <a:cubicBezTo>
                      <a:pt x="7999" y="2"/>
                      <a:pt x="8000" y="3"/>
                      <a:pt x="8000" y="4"/>
                    </a:cubicBezTo>
                    <a:cubicBezTo>
                      <a:pt x="8000" y="5"/>
                      <a:pt x="7999" y="6"/>
                      <a:pt x="7998" y="6"/>
                    </a:cubicBezTo>
                    <a:lnTo>
                      <a:pt x="7998" y="6"/>
                    </a:lnTo>
                    <a:cubicBezTo>
                      <a:pt x="7997" y="6"/>
                      <a:pt x="7996" y="5"/>
                      <a:pt x="7996" y="4"/>
                    </a:cubicBezTo>
                    <a:cubicBezTo>
                      <a:pt x="7996" y="3"/>
                      <a:pt x="7997" y="2"/>
                      <a:pt x="7998" y="2"/>
                    </a:cubicBezTo>
                    <a:close/>
                    <a:moveTo>
                      <a:pt x="8006" y="2"/>
                    </a:moveTo>
                    <a:lnTo>
                      <a:pt x="8006" y="2"/>
                    </a:lnTo>
                    <a:cubicBezTo>
                      <a:pt x="8007" y="2"/>
                      <a:pt x="8008" y="3"/>
                      <a:pt x="8008" y="4"/>
                    </a:cubicBezTo>
                    <a:cubicBezTo>
                      <a:pt x="8008" y="5"/>
                      <a:pt x="8007" y="6"/>
                      <a:pt x="8006" y="6"/>
                    </a:cubicBezTo>
                    <a:lnTo>
                      <a:pt x="8006" y="6"/>
                    </a:lnTo>
                    <a:cubicBezTo>
                      <a:pt x="8005" y="6"/>
                      <a:pt x="8004" y="5"/>
                      <a:pt x="8004" y="4"/>
                    </a:cubicBezTo>
                    <a:cubicBezTo>
                      <a:pt x="8004" y="3"/>
                      <a:pt x="8005" y="2"/>
                      <a:pt x="8006" y="2"/>
                    </a:cubicBezTo>
                    <a:close/>
                    <a:moveTo>
                      <a:pt x="8014" y="2"/>
                    </a:moveTo>
                    <a:lnTo>
                      <a:pt x="8014" y="2"/>
                    </a:lnTo>
                    <a:cubicBezTo>
                      <a:pt x="8015" y="2"/>
                      <a:pt x="8016" y="3"/>
                      <a:pt x="8016" y="4"/>
                    </a:cubicBezTo>
                    <a:cubicBezTo>
                      <a:pt x="8016" y="5"/>
                      <a:pt x="8015" y="6"/>
                      <a:pt x="8014" y="6"/>
                    </a:cubicBezTo>
                    <a:lnTo>
                      <a:pt x="8014" y="6"/>
                    </a:lnTo>
                    <a:cubicBezTo>
                      <a:pt x="8013" y="6"/>
                      <a:pt x="8012" y="5"/>
                      <a:pt x="8012" y="4"/>
                    </a:cubicBezTo>
                    <a:cubicBezTo>
                      <a:pt x="8012" y="3"/>
                      <a:pt x="8013" y="2"/>
                      <a:pt x="8014" y="2"/>
                    </a:cubicBezTo>
                    <a:close/>
                    <a:moveTo>
                      <a:pt x="8022" y="2"/>
                    </a:moveTo>
                    <a:lnTo>
                      <a:pt x="8022" y="2"/>
                    </a:lnTo>
                    <a:cubicBezTo>
                      <a:pt x="8023" y="2"/>
                      <a:pt x="8024" y="3"/>
                      <a:pt x="8024" y="4"/>
                    </a:cubicBezTo>
                    <a:cubicBezTo>
                      <a:pt x="8024" y="5"/>
                      <a:pt x="8023" y="6"/>
                      <a:pt x="8022" y="6"/>
                    </a:cubicBezTo>
                    <a:lnTo>
                      <a:pt x="8022" y="6"/>
                    </a:lnTo>
                    <a:cubicBezTo>
                      <a:pt x="8021" y="6"/>
                      <a:pt x="8020" y="5"/>
                      <a:pt x="8020" y="4"/>
                    </a:cubicBezTo>
                    <a:cubicBezTo>
                      <a:pt x="8020" y="3"/>
                      <a:pt x="8021" y="2"/>
                      <a:pt x="8022" y="2"/>
                    </a:cubicBezTo>
                    <a:close/>
                    <a:moveTo>
                      <a:pt x="8030" y="2"/>
                    </a:moveTo>
                    <a:lnTo>
                      <a:pt x="8030" y="2"/>
                    </a:lnTo>
                    <a:cubicBezTo>
                      <a:pt x="8031" y="2"/>
                      <a:pt x="8032" y="3"/>
                      <a:pt x="8032" y="4"/>
                    </a:cubicBezTo>
                    <a:cubicBezTo>
                      <a:pt x="8032" y="5"/>
                      <a:pt x="8031" y="6"/>
                      <a:pt x="8030" y="6"/>
                    </a:cubicBezTo>
                    <a:lnTo>
                      <a:pt x="8030" y="6"/>
                    </a:lnTo>
                    <a:cubicBezTo>
                      <a:pt x="8029" y="6"/>
                      <a:pt x="8028" y="5"/>
                      <a:pt x="8028" y="4"/>
                    </a:cubicBezTo>
                    <a:cubicBezTo>
                      <a:pt x="8028" y="3"/>
                      <a:pt x="8029" y="2"/>
                      <a:pt x="8030" y="2"/>
                    </a:cubicBezTo>
                    <a:close/>
                    <a:moveTo>
                      <a:pt x="8038" y="2"/>
                    </a:moveTo>
                    <a:lnTo>
                      <a:pt x="8038" y="2"/>
                    </a:lnTo>
                    <a:cubicBezTo>
                      <a:pt x="8039" y="2"/>
                      <a:pt x="8040" y="3"/>
                      <a:pt x="8040" y="4"/>
                    </a:cubicBezTo>
                    <a:cubicBezTo>
                      <a:pt x="8040" y="5"/>
                      <a:pt x="8039" y="6"/>
                      <a:pt x="8038" y="6"/>
                    </a:cubicBezTo>
                    <a:lnTo>
                      <a:pt x="8038" y="6"/>
                    </a:lnTo>
                    <a:cubicBezTo>
                      <a:pt x="8037" y="6"/>
                      <a:pt x="8036" y="5"/>
                      <a:pt x="8036" y="4"/>
                    </a:cubicBezTo>
                    <a:cubicBezTo>
                      <a:pt x="8036" y="3"/>
                      <a:pt x="8037" y="2"/>
                      <a:pt x="8038" y="2"/>
                    </a:cubicBezTo>
                    <a:close/>
                    <a:moveTo>
                      <a:pt x="8046" y="2"/>
                    </a:moveTo>
                    <a:lnTo>
                      <a:pt x="8046" y="2"/>
                    </a:lnTo>
                    <a:cubicBezTo>
                      <a:pt x="8047" y="2"/>
                      <a:pt x="8048" y="3"/>
                      <a:pt x="8048" y="4"/>
                    </a:cubicBezTo>
                    <a:cubicBezTo>
                      <a:pt x="8048" y="5"/>
                      <a:pt x="8047" y="6"/>
                      <a:pt x="8046" y="6"/>
                    </a:cubicBezTo>
                    <a:lnTo>
                      <a:pt x="8046" y="6"/>
                    </a:lnTo>
                    <a:cubicBezTo>
                      <a:pt x="8045" y="6"/>
                      <a:pt x="8044" y="5"/>
                      <a:pt x="8044" y="4"/>
                    </a:cubicBezTo>
                    <a:cubicBezTo>
                      <a:pt x="8044" y="3"/>
                      <a:pt x="8045" y="2"/>
                      <a:pt x="8046" y="2"/>
                    </a:cubicBezTo>
                    <a:close/>
                    <a:moveTo>
                      <a:pt x="8054" y="2"/>
                    </a:moveTo>
                    <a:lnTo>
                      <a:pt x="8054" y="2"/>
                    </a:lnTo>
                    <a:cubicBezTo>
                      <a:pt x="8055" y="2"/>
                      <a:pt x="8056" y="3"/>
                      <a:pt x="8056" y="4"/>
                    </a:cubicBezTo>
                    <a:cubicBezTo>
                      <a:pt x="8056" y="5"/>
                      <a:pt x="8055" y="6"/>
                      <a:pt x="8054" y="6"/>
                    </a:cubicBezTo>
                    <a:lnTo>
                      <a:pt x="8054" y="6"/>
                    </a:lnTo>
                    <a:cubicBezTo>
                      <a:pt x="8053" y="6"/>
                      <a:pt x="8052" y="5"/>
                      <a:pt x="8052" y="4"/>
                    </a:cubicBezTo>
                    <a:cubicBezTo>
                      <a:pt x="8052" y="3"/>
                      <a:pt x="8053" y="2"/>
                      <a:pt x="8054" y="2"/>
                    </a:cubicBezTo>
                    <a:close/>
                    <a:moveTo>
                      <a:pt x="8062" y="2"/>
                    </a:moveTo>
                    <a:lnTo>
                      <a:pt x="8062" y="2"/>
                    </a:lnTo>
                    <a:cubicBezTo>
                      <a:pt x="8063" y="2"/>
                      <a:pt x="8064" y="3"/>
                      <a:pt x="8064" y="4"/>
                    </a:cubicBezTo>
                    <a:cubicBezTo>
                      <a:pt x="8064" y="5"/>
                      <a:pt x="8063" y="6"/>
                      <a:pt x="8062" y="6"/>
                    </a:cubicBezTo>
                    <a:lnTo>
                      <a:pt x="8062" y="6"/>
                    </a:lnTo>
                    <a:cubicBezTo>
                      <a:pt x="8061" y="6"/>
                      <a:pt x="8060" y="5"/>
                      <a:pt x="8060" y="4"/>
                    </a:cubicBezTo>
                    <a:cubicBezTo>
                      <a:pt x="8060" y="3"/>
                      <a:pt x="8061" y="2"/>
                      <a:pt x="8062" y="2"/>
                    </a:cubicBezTo>
                    <a:close/>
                    <a:moveTo>
                      <a:pt x="8070" y="2"/>
                    </a:moveTo>
                    <a:lnTo>
                      <a:pt x="8070" y="2"/>
                    </a:lnTo>
                    <a:cubicBezTo>
                      <a:pt x="8071" y="2"/>
                      <a:pt x="8072" y="3"/>
                      <a:pt x="8072" y="4"/>
                    </a:cubicBezTo>
                    <a:cubicBezTo>
                      <a:pt x="8072" y="5"/>
                      <a:pt x="8071" y="6"/>
                      <a:pt x="8070" y="6"/>
                    </a:cubicBezTo>
                    <a:lnTo>
                      <a:pt x="8070" y="6"/>
                    </a:lnTo>
                    <a:cubicBezTo>
                      <a:pt x="8069" y="6"/>
                      <a:pt x="8068" y="5"/>
                      <a:pt x="8068" y="4"/>
                    </a:cubicBezTo>
                    <a:cubicBezTo>
                      <a:pt x="8068" y="3"/>
                      <a:pt x="8069" y="2"/>
                      <a:pt x="8070" y="2"/>
                    </a:cubicBezTo>
                    <a:close/>
                    <a:moveTo>
                      <a:pt x="8078" y="2"/>
                    </a:moveTo>
                    <a:lnTo>
                      <a:pt x="8078" y="2"/>
                    </a:lnTo>
                    <a:cubicBezTo>
                      <a:pt x="8079" y="2"/>
                      <a:pt x="8080" y="3"/>
                      <a:pt x="8080" y="4"/>
                    </a:cubicBezTo>
                    <a:cubicBezTo>
                      <a:pt x="8080" y="5"/>
                      <a:pt x="8079" y="6"/>
                      <a:pt x="8078" y="6"/>
                    </a:cubicBezTo>
                    <a:lnTo>
                      <a:pt x="8078" y="6"/>
                    </a:lnTo>
                    <a:cubicBezTo>
                      <a:pt x="8077" y="6"/>
                      <a:pt x="8076" y="5"/>
                      <a:pt x="8076" y="4"/>
                    </a:cubicBezTo>
                    <a:cubicBezTo>
                      <a:pt x="8076" y="3"/>
                      <a:pt x="8077" y="2"/>
                      <a:pt x="8078" y="2"/>
                    </a:cubicBezTo>
                    <a:close/>
                    <a:moveTo>
                      <a:pt x="8086" y="2"/>
                    </a:moveTo>
                    <a:lnTo>
                      <a:pt x="8086" y="2"/>
                    </a:lnTo>
                    <a:cubicBezTo>
                      <a:pt x="8087" y="2"/>
                      <a:pt x="8088" y="3"/>
                      <a:pt x="8088" y="4"/>
                    </a:cubicBezTo>
                    <a:cubicBezTo>
                      <a:pt x="8088" y="5"/>
                      <a:pt x="8087" y="6"/>
                      <a:pt x="8086" y="6"/>
                    </a:cubicBezTo>
                    <a:lnTo>
                      <a:pt x="8086" y="6"/>
                    </a:lnTo>
                    <a:cubicBezTo>
                      <a:pt x="8085" y="6"/>
                      <a:pt x="8084" y="5"/>
                      <a:pt x="8084" y="4"/>
                    </a:cubicBezTo>
                    <a:cubicBezTo>
                      <a:pt x="8084" y="3"/>
                      <a:pt x="8085" y="2"/>
                      <a:pt x="8086" y="2"/>
                    </a:cubicBezTo>
                    <a:close/>
                    <a:moveTo>
                      <a:pt x="8094" y="2"/>
                    </a:moveTo>
                    <a:lnTo>
                      <a:pt x="8094" y="2"/>
                    </a:lnTo>
                    <a:cubicBezTo>
                      <a:pt x="8095" y="2"/>
                      <a:pt x="8096" y="3"/>
                      <a:pt x="8096" y="4"/>
                    </a:cubicBezTo>
                    <a:cubicBezTo>
                      <a:pt x="8096" y="5"/>
                      <a:pt x="8095" y="6"/>
                      <a:pt x="8094" y="6"/>
                    </a:cubicBezTo>
                    <a:lnTo>
                      <a:pt x="8094" y="6"/>
                    </a:lnTo>
                    <a:cubicBezTo>
                      <a:pt x="8093" y="6"/>
                      <a:pt x="8092" y="5"/>
                      <a:pt x="8092" y="4"/>
                    </a:cubicBezTo>
                    <a:cubicBezTo>
                      <a:pt x="8092" y="3"/>
                      <a:pt x="8093" y="2"/>
                      <a:pt x="8094" y="2"/>
                    </a:cubicBezTo>
                    <a:close/>
                    <a:moveTo>
                      <a:pt x="8102" y="2"/>
                    </a:moveTo>
                    <a:lnTo>
                      <a:pt x="8102" y="2"/>
                    </a:lnTo>
                    <a:cubicBezTo>
                      <a:pt x="8103" y="2"/>
                      <a:pt x="8104" y="3"/>
                      <a:pt x="8104" y="4"/>
                    </a:cubicBezTo>
                    <a:cubicBezTo>
                      <a:pt x="8104" y="5"/>
                      <a:pt x="8103" y="6"/>
                      <a:pt x="8102" y="6"/>
                    </a:cubicBezTo>
                    <a:lnTo>
                      <a:pt x="8102" y="6"/>
                    </a:lnTo>
                    <a:cubicBezTo>
                      <a:pt x="8101" y="6"/>
                      <a:pt x="8100" y="5"/>
                      <a:pt x="8100" y="4"/>
                    </a:cubicBezTo>
                    <a:cubicBezTo>
                      <a:pt x="8100" y="3"/>
                      <a:pt x="8101" y="2"/>
                      <a:pt x="8102" y="2"/>
                    </a:cubicBezTo>
                    <a:close/>
                    <a:moveTo>
                      <a:pt x="8110" y="2"/>
                    </a:moveTo>
                    <a:lnTo>
                      <a:pt x="8110" y="2"/>
                    </a:lnTo>
                    <a:cubicBezTo>
                      <a:pt x="8111" y="2"/>
                      <a:pt x="8112" y="3"/>
                      <a:pt x="8112" y="4"/>
                    </a:cubicBezTo>
                    <a:cubicBezTo>
                      <a:pt x="8112" y="5"/>
                      <a:pt x="8111" y="6"/>
                      <a:pt x="8110" y="6"/>
                    </a:cubicBezTo>
                    <a:lnTo>
                      <a:pt x="8110" y="6"/>
                    </a:lnTo>
                    <a:cubicBezTo>
                      <a:pt x="8109" y="6"/>
                      <a:pt x="8108" y="5"/>
                      <a:pt x="8108" y="4"/>
                    </a:cubicBezTo>
                    <a:cubicBezTo>
                      <a:pt x="8108" y="3"/>
                      <a:pt x="8109" y="2"/>
                      <a:pt x="8110" y="2"/>
                    </a:cubicBezTo>
                    <a:close/>
                    <a:moveTo>
                      <a:pt x="8118" y="2"/>
                    </a:moveTo>
                    <a:lnTo>
                      <a:pt x="8118" y="2"/>
                    </a:lnTo>
                    <a:cubicBezTo>
                      <a:pt x="8119" y="2"/>
                      <a:pt x="8120" y="3"/>
                      <a:pt x="8120" y="4"/>
                    </a:cubicBezTo>
                    <a:cubicBezTo>
                      <a:pt x="8120" y="5"/>
                      <a:pt x="8119" y="6"/>
                      <a:pt x="8118" y="6"/>
                    </a:cubicBezTo>
                    <a:lnTo>
                      <a:pt x="8118" y="6"/>
                    </a:lnTo>
                    <a:cubicBezTo>
                      <a:pt x="8117" y="6"/>
                      <a:pt x="8116" y="5"/>
                      <a:pt x="8116" y="4"/>
                    </a:cubicBezTo>
                    <a:cubicBezTo>
                      <a:pt x="8116" y="3"/>
                      <a:pt x="8117" y="2"/>
                      <a:pt x="8118" y="2"/>
                    </a:cubicBezTo>
                    <a:close/>
                    <a:moveTo>
                      <a:pt x="8126" y="2"/>
                    </a:moveTo>
                    <a:lnTo>
                      <a:pt x="8126" y="2"/>
                    </a:lnTo>
                    <a:cubicBezTo>
                      <a:pt x="8127" y="2"/>
                      <a:pt x="8128" y="3"/>
                      <a:pt x="8128" y="4"/>
                    </a:cubicBezTo>
                    <a:cubicBezTo>
                      <a:pt x="8128" y="5"/>
                      <a:pt x="8127" y="6"/>
                      <a:pt x="8126" y="6"/>
                    </a:cubicBezTo>
                    <a:lnTo>
                      <a:pt x="8126" y="6"/>
                    </a:lnTo>
                    <a:cubicBezTo>
                      <a:pt x="8125" y="6"/>
                      <a:pt x="8124" y="5"/>
                      <a:pt x="8124" y="4"/>
                    </a:cubicBezTo>
                    <a:cubicBezTo>
                      <a:pt x="8124" y="3"/>
                      <a:pt x="8125" y="2"/>
                      <a:pt x="8126" y="2"/>
                    </a:cubicBezTo>
                    <a:close/>
                    <a:moveTo>
                      <a:pt x="8134" y="2"/>
                    </a:moveTo>
                    <a:lnTo>
                      <a:pt x="8134" y="2"/>
                    </a:lnTo>
                    <a:cubicBezTo>
                      <a:pt x="8135" y="2"/>
                      <a:pt x="8136" y="3"/>
                      <a:pt x="8136" y="4"/>
                    </a:cubicBezTo>
                    <a:cubicBezTo>
                      <a:pt x="8136" y="5"/>
                      <a:pt x="8135" y="6"/>
                      <a:pt x="8134" y="6"/>
                    </a:cubicBezTo>
                    <a:lnTo>
                      <a:pt x="8134" y="6"/>
                    </a:lnTo>
                    <a:cubicBezTo>
                      <a:pt x="8133" y="6"/>
                      <a:pt x="8132" y="5"/>
                      <a:pt x="8132" y="4"/>
                    </a:cubicBezTo>
                    <a:cubicBezTo>
                      <a:pt x="8132" y="3"/>
                      <a:pt x="8133" y="2"/>
                      <a:pt x="8134" y="2"/>
                    </a:cubicBezTo>
                    <a:close/>
                    <a:moveTo>
                      <a:pt x="8142" y="2"/>
                    </a:moveTo>
                    <a:lnTo>
                      <a:pt x="8142" y="2"/>
                    </a:lnTo>
                    <a:cubicBezTo>
                      <a:pt x="8143" y="2"/>
                      <a:pt x="8144" y="3"/>
                      <a:pt x="8144" y="4"/>
                    </a:cubicBezTo>
                    <a:cubicBezTo>
                      <a:pt x="8144" y="5"/>
                      <a:pt x="8143" y="6"/>
                      <a:pt x="8142" y="6"/>
                    </a:cubicBezTo>
                    <a:lnTo>
                      <a:pt x="8142" y="6"/>
                    </a:lnTo>
                    <a:cubicBezTo>
                      <a:pt x="8141" y="6"/>
                      <a:pt x="8140" y="5"/>
                      <a:pt x="8140" y="4"/>
                    </a:cubicBezTo>
                    <a:cubicBezTo>
                      <a:pt x="8140" y="3"/>
                      <a:pt x="8141" y="2"/>
                      <a:pt x="8142" y="2"/>
                    </a:cubicBezTo>
                    <a:close/>
                    <a:moveTo>
                      <a:pt x="8150" y="2"/>
                    </a:moveTo>
                    <a:lnTo>
                      <a:pt x="8150" y="2"/>
                    </a:lnTo>
                    <a:cubicBezTo>
                      <a:pt x="8151" y="2"/>
                      <a:pt x="8152" y="3"/>
                      <a:pt x="8152" y="4"/>
                    </a:cubicBezTo>
                    <a:cubicBezTo>
                      <a:pt x="8152" y="5"/>
                      <a:pt x="8151" y="6"/>
                      <a:pt x="8150" y="6"/>
                    </a:cubicBezTo>
                    <a:lnTo>
                      <a:pt x="8150" y="6"/>
                    </a:lnTo>
                    <a:cubicBezTo>
                      <a:pt x="8149" y="6"/>
                      <a:pt x="8148" y="5"/>
                      <a:pt x="8148" y="4"/>
                    </a:cubicBezTo>
                    <a:cubicBezTo>
                      <a:pt x="8148" y="3"/>
                      <a:pt x="8149" y="2"/>
                      <a:pt x="8150" y="2"/>
                    </a:cubicBezTo>
                    <a:close/>
                    <a:moveTo>
                      <a:pt x="8158" y="2"/>
                    </a:moveTo>
                    <a:lnTo>
                      <a:pt x="8158" y="2"/>
                    </a:lnTo>
                    <a:cubicBezTo>
                      <a:pt x="8159" y="2"/>
                      <a:pt x="8160" y="3"/>
                      <a:pt x="8160" y="4"/>
                    </a:cubicBezTo>
                    <a:cubicBezTo>
                      <a:pt x="8160" y="5"/>
                      <a:pt x="8159" y="6"/>
                      <a:pt x="8158" y="6"/>
                    </a:cubicBezTo>
                    <a:lnTo>
                      <a:pt x="8158" y="6"/>
                    </a:lnTo>
                    <a:cubicBezTo>
                      <a:pt x="8157" y="6"/>
                      <a:pt x="8156" y="5"/>
                      <a:pt x="8156" y="4"/>
                    </a:cubicBezTo>
                    <a:cubicBezTo>
                      <a:pt x="8156" y="3"/>
                      <a:pt x="8157" y="2"/>
                      <a:pt x="8158" y="2"/>
                    </a:cubicBezTo>
                    <a:close/>
                    <a:moveTo>
                      <a:pt x="8166" y="2"/>
                    </a:moveTo>
                    <a:lnTo>
                      <a:pt x="8166" y="2"/>
                    </a:lnTo>
                    <a:cubicBezTo>
                      <a:pt x="8167" y="2"/>
                      <a:pt x="8168" y="3"/>
                      <a:pt x="8168" y="4"/>
                    </a:cubicBezTo>
                    <a:cubicBezTo>
                      <a:pt x="8168" y="5"/>
                      <a:pt x="8167" y="6"/>
                      <a:pt x="8166" y="6"/>
                    </a:cubicBezTo>
                    <a:lnTo>
                      <a:pt x="8166" y="6"/>
                    </a:lnTo>
                    <a:cubicBezTo>
                      <a:pt x="8165" y="6"/>
                      <a:pt x="8164" y="5"/>
                      <a:pt x="8164" y="4"/>
                    </a:cubicBezTo>
                    <a:cubicBezTo>
                      <a:pt x="8164" y="3"/>
                      <a:pt x="8165" y="2"/>
                      <a:pt x="8166" y="2"/>
                    </a:cubicBezTo>
                    <a:close/>
                    <a:moveTo>
                      <a:pt x="8174" y="2"/>
                    </a:moveTo>
                    <a:lnTo>
                      <a:pt x="8174" y="2"/>
                    </a:lnTo>
                    <a:cubicBezTo>
                      <a:pt x="8175" y="2"/>
                      <a:pt x="8176" y="3"/>
                      <a:pt x="8176" y="4"/>
                    </a:cubicBezTo>
                    <a:cubicBezTo>
                      <a:pt x="8176" y="5"/>
                      <a:pt x="8175" y="6"/>
                      <a:pt x="8174" y="6"/>
                    </a:cubicBezTo>
                    <a:lnTo>
                      <a:pt x="8174" y="6"/>
                    </a:lnTo>
                    <a:cubicBezTo>
                      <a:pt x="8173" y="6"/>
                      <a:pt x="8172" y="5"/>
                      <a:pt x="8172" y="4"/>
                    </a:cubicBezTo>
                    <a:cubicBezTo>
                      <a:pt x="8172" y="3"/>
                      <a:pt x="8173" y="2"/>
                      <a:pt x="8174" y="2"/>
                    </a:cubicBezTo>
                    <a:close/>
                    <a:moveTo>
                      <a:pt x="8182" y="2"/>
                    </a:moveTo>
                    <a:lnTo>
                      <a:pt x="8182" y="2"/>
                    </a:lnTo>
                    <a:cubicBezTo>
                      <a:pt x="8183" y="2"/>
                      <a:pt x="8184" y="3"/>
                      <a:pt x="8184" y="4"/>
                    </a:cubicBezTo>
                    <a:cubicBezTo>
                      <a:pt x="8184" y="5"/>
                      <a:pt x="8183" y="6"/>
                      <a:pt x="8182" y="6"/>
                    </a:cubicBezTo>
                    <a:lnTo>
                      <a:pt x="8182" y="6"/>
                    </a:lnTo>
                    <a:cubicBezTo>
                      <a:pt x="8181" y="6"/>
                      <a:pt x="8180" y="5"/>
                      <a:pt x="8180" y="4"/>
                    </a:cubicBezTo>
                    <a:cubicBezTo>
                      <a:pt x="8180" y="3"/>
                      <a:pt x="8181" y="2"/>
                      <a:pt x="8182" y="2"/>
                    </a:cubicBezTo>
                    <a:close/>
                    <a:moveTo>
                      <a:pt x="8190" y="2"/>
                    </a:moveTo>
                    <a:lnTo>
                      <a:pt x="8190" y="2"/>
                    </a:lnTo>
                    <a:cubicBezTo>
                      <a:pt x="8191" y="2"/>
                      <a:pt x="8192" y="3"/>
                      <a:pt x="8192" y="4"/>
                    </a:cubicBezTo>
                    <a:cubicBezTo>
                      <a:pt x="8192" y="5"/>
                      <a:pt x="8191" y="6"/>
                      <a:pt x="8190" y="6"/>
                    </a:cubicBezTo>
                    <a:lnTo>
                      <a:pt x="8190" y="6"/>
                    </a:lnTo>
                    <a:cubicBezTo>
                      <a:pt x="8189" y="6"/>
                      <a:pt x="8188" y="5"/>
                      <a:pt x="8188" y="4"/>
                    </a:cubicBezTo>
                    <a:cubicBezTo>
                      <a:pt x="8188" y="3"/>
                      <a:pt x="8189" y="2"/>
                      <a:pt x="8190" y="2"/>
                    </a:cubicBezTo>
                    <a:close/>
                    <a:moveTo>
                      <a:pt x="8198" y="2"/>
                    </a:moveTo>
                    <a:lnTo>
                      <a:pt x="8198" y="2"/>
                    </a:lnTo>
                    <a:cubicBezTo>
                      <a:pt x="8199" y="2"/>
                      <a:pt x="8200" y="3"/>
                      <a:pt x="8200" y="4"/>
                    </a:cubicBezTo>
                    <a:cubicBezTo>
                      <a:pt x="8200" y="5"/>
                      <a:pt x="8199" y="6"/>
                      <a:pt x="8198" y="6"/>
                    </a:cubicBezTo>
                    <a:lnTo>
                      <a:pt x="8198" y="6"/>
                    </a:lnTo>
                    <a:cubicBezTo>
                      <a:pt x="8197" y="6"/>
                      <a:pt x="8196" y="5"/>
                      <a:pt x="8196" y="4"/>
                    </a:cubicBezTo>
                    <a:cubicBezTo>
                      <a:pt x="8196" y="3"/>
                      <a:pt x="8197" y="2"/>
                      <a:pt x="8198" y="2"/>
                    </a:cubicBezTo>
                    <a:close/>
                    <a:moveTo>
                      <a:pt x="8206" y="2"/>
                    </a:moveTo>
                    <a:lnTo>
                      <a:pt x="8206" y="2"/>
                    </a:lnTo>
                    <a:cubicBezTo>
                      <a:pt x="8207" y="2"/>
                      <a:pt x="8208" y="3"/>
                      <a:pt x="8208" y="4"/>
                    </a:cubicBezTo>
                    <a:cubicBezTo>
                      <a:pt x="8208" y="5"/>
                      <a:pt x="8207" y="6"/>
                      <a:pt x="8206" y="6"/>
                    </a:cubicBezTo>
                    <a:lnTo>
                      <a:pt x="8206" y="6"/>
                    </a:lnTo>
                    <a:cubicBezTo>
                      <a:pt x="8205" y="6"/>
                      <a:pt x="8204" y="5"/>
                      <a:pt x="8204" y="4"/>
                    </a:cubicBezTo>
                    <a:cubicBezTo>
                      <a:pt x="8204" y="3"/>
                      <a:pt x="8205" y="2"/>
                      <a:pt x="8206" y="2"/>
                    </a:cubicBezTo>
                    <a:close/>
                    <a:moveTo>
                      <a:pt x="8214" y="2"/>
                    </a:moveTo>
                    <a:lnTo>
                      <a:pt x="8214" y="2"/>
                    </a:lnTo>
                    <a:cubicBezTo>
                      <a:pt x="8215" y="2"/>
                      <a:pt x="8216" y="3"/>
                      <a:pt x="8216" y="4"/>
                    </a:cubicBezTo>
                    <a:cubicBezTo>
                      <a:pt x="8216" y="5"/>
                      <a:pt x="8215" y="6"/>
                      <a:pt x="8214" y="6"/>
                    </a:cubicBezTo>
                    <a:lnTo>
                      <a:pt x="8214" y="6"/>
                    </a:lnTo>
                    <a:cubicBezTo>
                      <a:pt x="8213" y="6"/>
                      <a:pt x="8212" y="5"/>
                      <a:pt x="8212" y="4"/>
                    </a:cubicBezTo>
                    <a:cubicBezTo>
                      <a:pt x="8212" y="3"/>
                      <a:pt x="8213" y="2"/>
                      <a:pt x="8214" y="2"/>
                    </a:cubicBezTo>
                    <a:close/>
                    <a:moveTo>
                      <a:pt x="8222" y="2"/>
                    </a:moveTo>
                    <a:lnTo>
                      <a:pt x="8222" y="2"/>
                    </a:lnTo>
                    <a:cubicBezTo>
                      <a:pt x="8223" y="2"/>
                      <a:pt x="8224" y="3"/>
                      <a:pt x="8224" y="4"/>
                    </a:cubicBezTo>
                    <a:cubicBezTo>
                      <a:pt x="8224" y="5"/>
                      <a:pt x="8223" y="6"/>
                      <a:pt x="8222" y="6"/>
                    </a:cubicBezTo>
                    <a:lnTo>
                      <a:pt x="8222" y="6"/>
                    </a:lnTo>
                    <a:cubicBezTo>
                      <a:pt x="8221" y="6"/>
                      <a:pt x="8220" y="5"/>
                      <a:pt x="8220" y="4"/>
                    </a:cubicBezTo>
                    <a:cubicBezTo>
                      <a:pt x="8220" y="3"/>
                      <a:pt x="8221" y="2"/>
                      <a:pt x="8222" y="2"/>
                    </a:cubicBezTo>
                    <a:close/>
                    <a:moveTo>
                      <a:pt x="8230" y="2"/>
                    </a:moveTo>
                    <a:lnTo>
                      <a:pt x="8230" y="2"/>
                    </a:lnTo>
                    <a:cubicBezTo>
                      <a:pt x="8231" y="2"/>
                      <a:pt x="8232" y="3"/>
                      <a:pt x="8232" y="4"/>
                    </a:cubicBezTo>
                    <a:cubicBezTo>
                      <a:pt x="8232" y="5"/>
                      <a:pt x="8231" y="6"/>
                      <a:pt x="8230" y="6"/>
                    </a:cubicBezTo>
                    <a:lnTo>
                      <a:pt x="8230" y="6"/>
                    </a:lnTo>
                    <a:cubicBezTo>
                      <a:pt x="8229" y="6"/>
                      <a:pt x="8228" y="5"/>
                      <a:pt x="8228" y="4"/>
                    </a:cubicBezTo>
                    <a:cubicBezTo>
                      <a:pt x="8228" y="3"/>
                      <a:pt x="8229" y="2"/>
                      <a:pt x="8230" y="2"/>
                    </a:cubicBezTo>
                    <a:close/>
                    <a:moveTo>
                      <a:pt x="8238" y="2"/>
                    </a:moveTo>
                    <a:lnTo>
                      <a:pt x="8238" y="2"/>
                    </a:lnTo>
                    <a:cubicBezTo>
                      <a:pt x="8239" y="2"/>
                      <a:pt x="8240" y="3"/>
                      <a:pt x="8240" y="4"/>
                    </a:cubicBezTo>
                    <a:cubicBezTo>
                      <a:pt x="8240" y="5"/>
                      <a:pt x="8239" y="6"/>
                      <a:pt x="8238" y="6"/>
                    </a:cubicBezTo>
                    <a:lnTo>
                      <a:pt x="8238" y="6"/>
                    </a:lnTo>
                    <a:cubicBezTo>
                      <a:pt x="8237" y="6"/>
                      <a:pt x="8236" y="5"/>
                      <a:pt x="8236" y="4"/>
                    </a:cubicBezTo>
                    <a:cubicBezTo>
                      <a:pt x="8236" y="3"/>
                      <a:pt x="8237" y="2"/>
                      <a:pt x="8238" y="2"/>
                    </a:cubicBezTo>
                    <a:close/>
                    <a:moveTo>
                      <a:pt x="8246" y="2"/>
                    </a:moveTo>
                    <a:lnTo>
                      <a:pt x="8246" y="2"/>
                    </a:lnTo>
                    <a:cubicBezTo>
                      <a:pt x="8247" y="2"/>
                      <a:pt x="8248" y="3"/>
                      <a:pt x="8248" y="4"/>
                    </a:cubicBezTo>
                    <a:cubicBezTo>
                      <a:pt x="8248" y="5"/>
                      <a:pt x="8247" y="6"/>
                      <a:pt x="8246" y="6"/>
                    </a:cubicBezTo>
                    <a:lnTo>
                      <a:pt x="8246" y="6"/>
                    </a:lnTo>
                    <a:cubicBezTo>
                      <a:pt x="8245" y="6"/>
                      <a:pt x="8244" y="5"/>
                      <a:pt x="8244" y="4"/>
                    </a:cubicBezTo>
                    <a:cubicBezTo>
                      <a:pt x="8244" y="3"/>
                      <a:pt x="8245" y="2"/>
                      <a:pt x="8246" y="2"/>
                    </a:cubicBezTo>
                    <a:close/>
                    <a:moveTo>
                      <a:pt x="8254" y="2"/>
                    </a:moveTo>
                    <a:lnTo>
                      <a:pt x="8254" y="2"/>
                    </a:lnTo>
                    <a:cubicBezTo>
                      <a:pt x="8255" y="2"/>
                      <a:pt x="8256" y="3"/>
                      <a:pt x="8256" y="4"/>
                    </a:cubicBezTo>
                    <a:cubicBezTo>
                      <a:pt x="8256" y="5"/>
                      <a:pt x="8255" y="6"/>
                      <a:pt x="8254" y="6"/>
                    </a:cubicBezTo>
                    <a:lnTo>
                      <a:pt x="8254" y="6"/>
                    </a:lnTo>
                    <a:cubicBezTo>
                      <a:pt x="8253" y="6"/>
                      <a:pt x="8252" y="5"/>
                      <a:pt x="8252" y="4"/>
                    </a:cubicBezTo>
                    <a:cubicBezTo>
                      <a:pt x="8252" y="3"/>
                      <a:pt x="8253" y="2"/>
                      <a:pt x="8254" y="2"/>
                    </a:cubicBezTo>
                    <a:close/>
                    <a:moveTo>
                      <a:pt x="8262" y="2"/>
                    </a:moveTo>
                    <a:lnTo>
                      <a:pt x="8262" y="2"/>
                    </a:lnTo>
                    <a:cubicBezTo>
                      <a:pt x="8263" y="2"/>
                      <a:pt x="8264" y="3"/>
                      <a:pt x="8264" y="4"/>
                    </a:cubicBezTo>
                    <a:cubicBezTo>
                      <a:pt x="8264" y="5"/>
                      <a:pt x="8263" y="6"/>
                      <a:pt x="8262" y="6"/>
                    </a:cubicBezTo>
                    <a:lnTo>
                      <a:pt x="8262" y="6"/>
                    </a:lnTo>
                    <a:cubicBezTo>
                      <a:pt x="8261" y="6"/>
                      <a:pt x="8260" y="5"/>
                      <a:pt x="8260" y="4"/>
                    </a:cubicBezTo>
                    <a:cubicBezTo>
                      <a:pt x="8260" y="3"/>
                      <a:pt x="8261" y="2"/>
                      <a:pt x="8262" y="2"/>
                    </a:cubicBezTo>
                    <a:close/>
                    <a:moveTo>
                      <a:pt x="8270" y="2"/>
                    </a:moveTo>
                    <a:lnTo>
                      <a:pt x="8270" y="2"/>
                    </a:lnTo>
                    <a:cubicBezTo>
                      <a:pt x="8271" y="2"/>
                      <a:pt x="8272" y="3"/>
                      <a:pt x="8272" y="4"/>
                    </a:cubicBezTo>
                    <a:cubicBezTo>
                      <a:pt x="8272" y="5"/>
                      <a:pt x="8271" y="6"/>
                      <a:pt x="8270" y="6"/>
                    </a:cubicBezTo>
                    <a:lnTo>
                      <a:pt x="8270" y="6"/>
                    </a:lnTo>
                    <a:cubicBezTo>
                      <a:pt x="8269" y="6"/>
                      <a:pt x="8268" y="5"/>
                      <a:pt x="8268" y="4"/>
                    </a:cubicBezTo>
                    <a:cubicBezTo>
                      <a:pt x="8268" y="3"/>
                      <a:pt x="8269" y="2"/>
                      <a:pt x="8270" y="2"/>
                    </a:cubicBezTo>
                    <a:close/>
                    <a:moveTo>
                      <a:pt x="8278" y="2"/>
                    </a:moveTo>
                    <a:lnTo>
                      <a:pt x="8278" y="2"/>
                    </a:lnTo>
                    <a:cubicBezTo>
                      <a:pt x="8279" y="2"/>
                      <a:pt x="8280" y="3"/>
                      <a:pt x="8280" y="4"/>
                    </a:cubicBezTo>
                    <a:cubicBezTo>
                      <a:pt x="8280" y="5"/>
                      <a:pt x="8279" y="6"/>
                      <a:pt x="8278" y="6"/>
                    </a:cubicBezTo>
                    <a:lnTo>
                      <a:pt x="8278" y="6"/>
                    </a:lnTo>
                    <a:cubicBezTo>
                      <a:pt x="8277" y="6"/>
                      <a:pt x="8276" y="5"/>
                      <a:pt x="8276" y="4"/>
                    </a:cubicBezTo>
                    <a:cubicBezTo>
                      <a:pt x="8276" y="3"/>
                      <a:pt x="8277" y="2"/>
                      <a:pt x="8278" y="2"/>
                    </a:cubicBezTo>
                    <a:close/>
                    <a:moveTo>
                      <a:pt x="8286" y="2"/>
                    </a:moveTo>
                    <a:lnTo>
                      <a:pt x="8286" y="2"/>
                    </a:lnTo>
                    <a:cubicBezTo>
                      <a:pt x="8287" y="2"/>
                      <a:pt x="8288" y="3"/>
                      <a:pt x="8288" y="4"/>
                    </a:cubicBezTo>
                    <a:cubicBezTo>
                      <a:pt x="8288" y="5"/>
                      <a:pt x="8287" y="6"/>
                      <a:pt x="8286" y="6"/>
                    </a:cubicBezTo>
                    <a:lnTo>
                      <a:pt x="8286" y="6"/>
                    </a:lnTo>
                    <a:cubicBezTo>
                      <a:pt x="8285" y="6"/>
                      <a:pt x="8284" y="5"/>
                      <a:pt x="8284" y="4"/>
                    </a:cubicBezTo>
                    <a:cubicBezTo>
                      <a:pt x="8284" y="3"/>
                      <a:pt x="8285" y="2"/>
                      <a:pt x="8286" y="2"/>
                    </a:cubicBezTo>
                    <a:close/>
                    <a:moveTo>
                      <a:pt x="8294" y="2"/>
                    </a:moveTo>
                    <a:lnTo>
                      <a:pt x="8294" y="2"/>
                    </a:lnTo>
                    <a:cubicBezTo>
                      <a:pt x="8295" y="2"/>
                      <a:pt x="8296" y="3"/>
                      <a:pt x="8296" y="4"/>
                    </a:cubicBezTo>
                    <a:cubicBezTo>
                      <a:pt x="8296" y="5"/>
                      <a:pt x="8295" y="6"/>
                      <a:pt x="8294" y="6"/>
                    </a:cubicBezTo>
                    <a:lnTo>
                      <a:pt x="8294" y="6"/>
                    </a:lnTo>
                    <a:cubicBezTo>
                      <a:pt x="8293" y="6"/>
                      <a:pt x="8292" y="5"/>
                      <a:pt x="8292" y="4"/>
                    </a:cubicBezTo>
                    <a:cubicBezTo>
                      <a:pt x="8292" y="3"/>
                      <a:pt x="8293" y="2"/>
                      <a:pt x="8294" y="2"/>
                    </a:cubicBezTo>
                    <a:close/>
                    <a:moveTo>
                      <a:pt x="8302" y="2"/>
                    </a:moveTo>
                    <a:lnTo>
                      <a:pt x="8302" y="2"/>
                    </a:lnTo>
                    <a:cubicBezTo>
                      <a:pt x="8303" y="2"/>
                      <a:pt x="8304" y="3"/>
                      <a:pt x="8304" y="4"/>
                    </a:cubicBezTo>
                    <a:cubicBezTo>
                      <a:pt x="8304" y="5"/>
                      <a:pt x="8303" y="6"/>
                      <a:pt x="8302" y="6"/>
                    </a:cubicBezTo>
                    <a:lnTo>
                      <a:pt x="8302" y="6"/>
                    </a:lnTo>
                    <a:cubicBezTo>
                      <a:pt x="8301" y="6"/>
                      <a:pt x="8300" y="5"/>
                      <a:pt x="8300" y="4"/>
                    </a:cubicBezTo>
                    <a:cubicBezTo>
                      <a:pt x="8300" y="3"/>
                      <a:pt x="8301" y="2"/>
                      <a:pt x="8302" y="2"/>
                    </a:cubicBezTo>
                    <a:close/>
                    <a:moveTo>
                      <a:pt x="8310" y="2"/>
                    </a:moveTo>
                    <a:lnTo>
                      <a:pt x="8310" y="2"/>
                    </a:lnTo>
                    <a:cubicBezTo>
                      <a:pt x="8311" y="2"/>
                      <a:pt x="8312" y="3"/>
                      <a:pt x="8312" y="4"/>
                    </a:cubicBezTo>
                    <a:cubicBezTo>
                      <a:pt x="8312" y="5"/>
                      <a:pt x="8311" y="6"/>
                      <a:pt x="8310" y="6"/>
                    </a:cubicBezTo>
                    <a:lnTo>
                      <a:pt x="8310" y="6"/>
                    </a:lnTo>
                    <a:cubicBezTo>
                      <a:pt x="8309" y="6"/>
                      <a:pt x="8308" y="5"/>
                      <a:pt x="8308" y="4"/>
                    </a:cubicBezTo>
                    <a:cubicBezTo>
                      <a:pt x="8308" y="3"/>
                      <a:pt x="8309" y="2"/>
                      <a:pt x="8310" y="2"/>
                    </a:cubicBezTo>
                    <a:close/>
                    <a:moveTo>
                      <a:pt x="8318" y="2"/>
                    </a:moveTo>
                    <a:lnTo>
                      <a:pt x="8318" y="2"/>
                    </a:lnTo>
                    <a:cubicBezTo>
                      <a:pt x="8319" y="2"/>
                      <a:pt x="8320" y="3"/>
                      <a:pt x="8320" y="4"/>
                    </a:cubicBezTo>
                    <a:cubicBezTo>
                      <a:pt x="8320" y="5"/>
                      <a:pt x="8319" y="6"/>
                      <a:pt x="8318" y="6"/>
                    </a:cubicBezTo>
                    <a:lnTo>
                      <a:pt x="8318" y="6"/>
                    </a:lnTo>
                    <a:cubicBezTo>
                      <a:pt x="8317" y="6"/>
                      <a:pt x="8316" y="5"/>
                      <a:pt x="8316" y="4"/>
                    </a:cubicBezTo>
                    <a:cubicBezTo>
                      <a:pt x="8316" y="3"/>
                      <a:pt x="8317" y="2"/>
                      <a:pt x="8318" y="2"/>
                    </a:cubicBezTo>
                    <a:close/>
                    <a:moveTo>
                      <a:pt x="8326" y="2"/>
                    </a:moveTo>
                    <a:lnTo>
                      <a:pt x="8326" y="2"/>
                    </a:lnTo>
                    <a:cubicBezTo>
                      <a:pt x="8327" y="2"/>
                      <a:pt x="8328" y="3"/>
                      <a:pt x="8328" y="4"/>
                    </a:cubicBezTo>
                    <a:cubicBezTo>
                      <a:pt x="8328" y="5"/>
                      <a:pt x="8327" y="6"/>
                      <a:pt x="8326" y="6"/>
                    </a:cubicBezTo>
                    <a:lnTo>
                      <a:pt x="8326" y="6"/>
                    </a:lnTo>
                    <a:cubicBezTo>
                      <a:pt x="8325" y="6"/>
                      <a:pt x="8324" y="5"/>
                      <a:pt x="8324" y="4"/>
                    </a:cubicBezTo>
                    <a:cubicBezTo>
                      <a:pt x="8324" y="3"/>
                      <a:pt x="8325" y="2"/>
                      <a:pt x="8326" y="2"/>
                    </a:cubicBezTo>
                    <a:close/>
                    <a:moveTo>
                      <a:pt x="8334" y="2"/>
                    </a:moveTo>
                    <a:lnTo>
                      <a:pt x="8334" y="2"/>
                    </a:lnTo>
                    <a:cubicBezTo>
                      <a:pt x="8335" y="2"/>
                      <a:pt x="8336" y="3"/>
                      <a:pt x="8336" y="4"/>
                    </a:cubicBezTo>
                    <a:cubicBezTo>
                      <a:pt x="8336" y="5"/>
                      <a:pt x="8335" y="6"/>
                      <a:pt x="8334" y="6"/>
                    </a:cubicBezTo>
                    <a:lnTo>
                      <a:pt x="8334" y="6"/>
                    </a:lnTo>
                    <a:cubicBezTo>
                      <a:pt x="8333" y="6"/>
                      <a:pt x="8332" y="5"/>
                      <a:pt x="8332" y="4"/>
                    </a:cubicBezTo>
                    <a:cubicBezTo>
                      <a:pt x="8332" y="3"/>
                      <a:pt x="8333" y="2"/>
                      <a:pt x="8334" y="2"/>
                    </a:cubicBezTo>
                    <a:close/>
                    <a:moveTo>
                      <a:pt x="8342" y="2"/>
                    </a:moveTo>
                    <a:lnTo>
                      <a:pt x="8342" y="2"/>
                    </a:lnTo>
                    <a:cubicBezTo>
                      <a:pt x="8343" y="2"/>
                      <a:pt x="8344" y="3"/>
                      <a:pt x="8344" y="4"/>
                    </a:cubicBezTo>
                    <a:cubicBezTo>
                      <a:pt x="8344" y="5"/>
                      <a:pt x="8343" y="6"/>
                      <a:pt x="8342" y="6"/>
                    </a:cubicBezTo>
                    <a:lnTo>
                      <a:pt x="8342" y="6"/>
                    </a:lnTo>
                    <a:cubicBezTo>
                      <a:pt x="8341" y="6"/>
                      <a:pt x="8340" y="5"/>
                      <a:pt x="8340" y="4"/>
                    </a:cubicBezTo>
                    <a:cubicBezTo>
                      <a:pt x="8340" y="3"/>
                      <a:pt x="8341" y="2"/>
                      <a:pt x="8342" y="2"/>
                    </a:cubicBezTo>
                    <a:close/>
                    <a:moveTo>
                      <a:pt x="8350" y="2"/>
                    </a:moveTo>
                    <a:lnTo>
                      <a:pt x="8350" y="2"/>
                    </a:lnTo>
                    <a:cubicBezTo>
                      <a:pt x="8351" y="2"/>
                      <a:pt x="8352" y="3"/>
                      <a:pt x="8352" y="4"/>
                    </a:cubicBezTo>
                    <a:cubicBezTo>
                      <a:pt x="8352" y="5"/>
                      <a:pt x="8351" y="6"/>
                      <a:pt x="8350" y="6"/>
                    </a:cubicBezTo>
                    <a:lnTo>
                      <a:pt x="8350" y="6"/>
                    </a:lnTo>
                    <a:cubicBezTo>
                      <a:pt x="8349" y="6"/>
                      <a:pt x="8348" y="5"/>
                      <a:pt x="8348" y="4"/>
                    </a:cubicBezTo>
                    <a:cubicBezTo>
                      <a:pt x="8348" y="3"/>
                      <a:pt x="8349" y="2"/>
                      <a:pt x="8350" y="2"/>
                    </a:cubicBezTo>
                    <a:close/>
                    <a:moveTo>
                      <a:pt x="8358" y="2"/>
                    </a:moveTo>
                    <a:lnTo>
                      <a:pt x="8358" y="2"/>
                    </a:lnTo>
                    <a:cubicBezTo>
                      <a:pt x="8359" y="2"/>
                      <a:pt x="8360" y="3"/>
                      <a:pt x="8360" y="4"/>
                    </a:cubicBezTo>
                    <a:cubicBezTo>
                      <a:pt x="8360" y="5"/>
                      <a:pt x="8359" y="6"/>
                      <a:pt x="8358" y="6"/>
                    </a:cubicBezTo>
                    <a:lnTo>
                      <a:pt x="8358" y="6"/>
                    </a:lnTo>
                    <a:cubicBezTo>
                      <a:pt x="8357" y="6"/>
                      <a:pt x="8356" y="5"/>
                      <a:pt x="8356" y="4"/>
                    </a:cubicBezTo>
                    <a:cubicBezTo>
                      <a:pt x="8356" y="3"/>
                      <a:pt x="8357" y="2"/>
                      <a:pt x="8358" y="2"/>
                    </a:cubicBezTo>
                    <a:close/>
                    <a:moveTo>
                      <a:pt x="8366" y="2"/>
                    </a:moveTo>
                    <a:lnTo>
                      <a:pt x="8366" y="2"/>
                    </a:lnTo>
                    <a:cubicBezTo>
                      <a:pt x="8367" y="2"/>
                      <a:pt x="8368" y="3"/>
                      <a:pt x="8368" y="4"/>
                    </a:cubicBezTo>
                    <a:cubicBezTo>
                      <a:pt x="8368" y="5"/>
                      <a:pt x="8367" y="6"/>
                      <a:pt x="8366" y="6"/>
                    </a:cubicBezTo>
                    <a:lnTo>
                      <a:pt x="8366" y="6"/>
                    </a:lnTo>
                    <a:cubicBezTo>
                      <a:pt x="8365" y="6"/>
                      <a:pt x="8364" y="5"/>
                      <a:pt x="8364" y="4"/>
                    </a:cubicBezTo>
                    <a:cubicBezTo>
                      <a:pt x="8364" y="3"/>
                      <a:pt x="8365" y="2"/>
                      <a:pt x="8366" y="2"/>
                    </a:cubicBezTo>
                    <a:close/>
                    <a:moveTo>
                      <a:pt x="8374" y="2"/>
                    </a:moveTo>
                    <a:lnTo>
                      <a:pt x="8374" y="2"/>
                    </a:lnTo>
                    <a:cubicBezTo>
                      <a:pt x="8375" y="2"/>
                      <a:pt x="8376" y="3"/>
                      <a:pt x="8376" y="4"/>
                    </a:cubicBezTo>
                    <a:cubicBezTo>
                      <a:pt x="8376" y="5"/>
                      <a:pt x="8375" y="6"/>
                      <a:pt x="8374" y="6"/>
                    </a:cubicBezTo>
                    <a:lnTo>
                      <a:pt x="8374" y="6"/>
                    </a:lnTo>
                    <a:cubicBezTo>
                      <a:pt x="8373" y="6"/>
                      <a:pt x="8372" y="5"/>
                      <a:pt x="8372" y="4"/>
                    </a:cubicBezTo>
                    <a:cubicBezTo>
                      <a:pt x="8372" y="3"/>
                      <a:pt x="8373" y="2"/>
                      <a:pt x="8374" y="2"/>
                    </a:cubicBezTo>
                    <a:close/>
                    <a:moveTo>
                      <a:pt x="8382" y="2"/>
                    </a:moveTo>
                    <a:lnTo>
                      <a:pt x="8382" y="2"/>
                    </a:lnTo>
                    <a:cubicBezTo>
                      <a:pt x="8383" y="2"/>
                      <a:pt x="8384" y="3"/>
                      <a:pt x="8384" y="4"/>
                    </a:cubicBezTo>
                    <a:cubicBezTo>
                      <a:pt x="8384" y="5"/>
                      <a:pt x="8383" y="6"/>
                      <a:pt x="8382" y="6"/>
                    </a:cubicBezTo>
                    <a:lnTo>
                      <a:pt x="8382" y="6"/>
                    </a:lnTo>
                    <a:cubicBezTo>
                      <a:pt x="8381" y="6"/>
                      <a:pt x="8380" y="5"/>
                      <a:pt x="8380" y="4"/>
                    </a:cubicBezTo>
                    <a:cubicBezTo>
                      <a:pt x="8380" y="3"/>
                      <a:pt x="8381" y="2"/>
                      <a:pt x="8382" y="2"/>
                    </a:cubicBezTo>
                    <a:close/>
                    <a:moveTo>
                      <a:pt x="8390" y="2"/>
                    </a:moveTo>
                    <a:lnTo>
                      <a:pt x="8390" y="2"/>
                    </a:lnTo>
                    <a:cubicBezTo>
                      <a:pt x="8391" y="2"/>
                      <a:pt x="8392" y="3"/>
                      <a:pt x="8392" y="4"/>
                    </a:cubicBezTo>
                    <a:cubicBezTo>
                      <a:pt x="8392" y="5"/>
                      <a:pt x="8391" y="6"/>
                      <a:pt x="8390" y="6"/>
                    </a:cubicBezTo>
                    <a:lnTo>
                      <a:pt x="8390" y="6"/>
                    </a:lnTo>
                    <a:cubicBezTo>
                      <a:pt x="8389" y="6"/>
                      <a:pt x="8388" y="5"/>
                      <a:pt x="8388" y="4"/>
                    </a:cubicBezTo>
                    <a:cubicBezTo>
                      <a:pt x="8388" y="3"/>
                      <a:pt x="8389" y="2"/>
                      <a:pt x="8390" y="2"/>
                    </a:cubicBezTo>
                    <a:close/>
                    <a:moveTo>
                      <a:pt x="8398" y="2"/>
                    </a:moveTo>
                    <a:lnTo>
                      <a:pt x="8398" y="2"/>
                    </a:lnTo>
                    <a:cubicBezTo>
                      <a:pt x="8399" y="2"/>
                      <a:pt x="8400" y="3"/>
                      <a:pt x="8400" y="4"/>
                    </a:cubicBezTo>
                    <a:cubicBezTo>
                      <a:pt x="8400" y="5"/>
                      <a:pt x="8399" y="6"/>
                      <a:pt x="8398" y="6"/>
                    </a:cubicBezTo>
                    <a:lnTo>
                      <a:pt x="8398" y="6"/>
                    </a:lnTo>
                    <a:cubicBezTo>
                      <a:pt x="8397" y="6"/>
                      <a:pt x="8396" y="5"/>
                      <a:pt x="8396" y="4"/>
                    </a:cubicBezTo>
                    <a:cubicBezTo>
                      <a:pt x="8396" y="3"/>
                      <a:pt x="8397" y="2"/>
                      <a:pt x="8398" y="2"/>
                    </a:cubicBezTo>
                    <a:close/>
                    <a:moveTo>
                      <a:pt x="8406" y="2"/>
                    </a:moveTo>
                    <a:lnTo>
                      <a:pt x="8406" y="2"/>
                    </a:lnTo>
                    <a:cubicBezTo>
                      <a:pt x="8407" y="2"/>
                      <a:pt x="8408" y="3"/>
                      <a:pt x="8408" y="4"/>
                    </a:cubicBezTo>
                    <a:cubicBezTo>
                      <a:pt x="8408" y="5"/>
                      <a:pt x="8407" y="6"/>
                      <a:pt x="8406" y="6"/>
                    </a:cubicBezTo>
                    <a:lnTo>
                      <a:pt x="8406" y="6"/>
                    </a:lnTo>
                    <a:cubicBezTo>
                      <a:pt x="8405" y="6"/>
                      <a:pt x="8404" y="5"/>
                      <a:pt x="8404" y="4"/>
                    </a:cubicBezTo>
                    <a:cubicBezTo>
                      <a:pt x="8404" y="3"/>
                      <a:pt x="8405" y="2"/>
                      <a:pt x="8406" y="2"/>
                    </a:cubicBezTo>
                    <a:close/>
                    <a:moveTo>
                      <a:pt x="8414" y="2"/>
                    </a:moveTo>
                    <a:lnTo>
                      <a:pt x="8414" y="2"/>
                    </a:lnTo>
                    <a:cubicBezTo>
                      <a:pt x="8415" y="2"/>
                      <a:pt x="8416" y="3"/>
                      <a:pt x="8416" y="4"/>
                    </a:cubicBezTo>
                    <a:cubicBezTo>
                      <a:pt x="8416" y="5"/>
                      <a:pt x="8415" y="6"/>
                      <a:pt x="8414" y="6"/>
                    </a:cubicBezTo>
                    <a:lnTo>
                      <a:pt x="8414" y="6"/>
                    </a:lnTo>
                    <a:cubicBezTo>
                      <a:pt x="8413" y="6"/>
                      <a:pt x="8412" y="5"/>
                      <a:pt x="8412" y="4"/>
                    </a:cubicBezTo>
                    <a:cubicBezTo>
                      <a:pt x="8412" y="3"/>
                      <a:pt x="8413" y="2"/>
                      <a:pt x="8414" y="2"/>
                    </a:cubicBezTo>
                    <a:close/>
                    <a:moveTo>
                      <a:pt x="8422" y="2"/>
                    </a:moveTo>
                    <a:lnTo>
                      <a:pt x="8422" y="2"/>
                    </a:lnTo>
                    <a:cubicBezTo>
                      <a:pt x="8423" y="2"/>
                      <a:pt x="8424" y="3"/>
                      <a:pt x="8424" y="4"/>
                    </a:cubicBezTo>
                    <a:cubicBezTo>
                      <a:pt x="8424" y="5"/>
                      <a:pt x="8423" y="6"/>
                      <a:pt x="8422" y="6"/>
                    </a:cubicBezTo>
                    <a:lnTo>
                      <a:pt x="8422" y="6"/>
                    </a:lnTo>
                    <a:cubicBezTo>
                      <a:pt x="8421" y="6"/>
                      <a:pt x="8420" y="5"/>
                      <a:pt x="8420" y="4"/>
                    </a:cubicBezTo>
                    <a:cubicBezTo>
                      <a:pt x="8420" y="3"/>
                      <a:pt x="8421" y="2"/>
                      <a:pt x="8422" y="2"/>
                    </a:cubicBezTo>
                    <a:close/>
                    <a:moveTo>
                      <a:pt x="8430" y="2"/>
                    </a:moveTo>
                    <a:lnTo>
                      <a:pt x="8430" y="2"/>
                    </a:lnTo>
                    <a:cubicBezTo>
                      <a:pt x="8431" y="2"/>
                      <a:pt x="8432" y="3"/>
                      <a:pt x="8432" y="4"/>
                    </a:cubicBezTo>
                    <a:cubicBezTo>
                      <a:pt x="8432" y="5"/>
                      <a:pt x="8431" y="6"/>
                      <a:pt x="8430" y="6"/>
                    </a:cubicBezTo>
                    <a:lnTo>
                      <a:pt x="8430" y="6"/>
                    </a:lnTo>
                    <a:cubicBezTo>
                      <a:pt x="8429" y="6"/>
                      <a:pt x="8428" y="5"/>
                      <a:pt x="8428" y="4"/>
                    </a:cubicBezTo>
                    <a:cubicBezTo>
                      <a:pt x="8428" y="3"/>
                      <a:pt x="8429" y="2"/>
                      <a:pt x="8430" y="2"/>
                    </a:cubicBezTo>
                    <a:close/>
                    <a:moveTo>
                      <a:pt x="8438" y="2"/>
                    </a:moveTo>
                    <a:lnTo>
                      <a:pt x="8438" y="2"/>
                    </a:lnTo>
                    <a:cubicBezTo>
                      <a:pt x="8439" y="2"/>
                      <a:pt x="8440" y="3"/>
                      <a:pt x="8440" y="4"/>
                    </a:cubicBezTo>
                    <a:cubicBezTo>
                      <a:pt x="8440" y="5"/>
                      <a:pt x="8439" y="6"/>
                      <a:pt x="8438" y="6"/>
                    </a:cubicBezTo>
                    <a:lnTo>
                      <a:pt x="8438" y="6"/>
                    </a:lnTo>
                    <a:cubicBezTo>
                      <a:pt x="8437" y="6"/>
                      <a:pt x="8436" y="5"/>
                      <a:pt x="8436" y="4"/>
                    </a:cubicBezTo>
                    <a:cubicBezTo>
                      <a:pt x="8436" y="3"/>
                      <a:pt x="8437" y="2"/>
                      <a:pt x="8438" y="2"/>
                    </a:cubicBezTo>
                    <a:close/>
                    <a:moveTo>
                      <a:pt x="8446" y="2"/>
                    </a:moveTo>
                    <a:lnTo>
                      <a:pt x="8446" y="2"/>
                    </a:lnTo>
                    <a:cubicBezTo>
                      <a:pt x="8447" y="2"/>
                      <a:pt x="8448" y="3"/>
                      <a:pt x="8448" y="4"/>
                    </a:cubicBezTo>
                    <a:cubicBezTo>
                      <a:pt x="8448" y="5"/>
                      <a:pt x="8447" y="6"/>
                      <a:pt x="8446" y="6"/>
                    </a:cubicBezTo>
                    <a:lnTo>
                      <a:pt x="8446" y="6"/>
                    </a:lnTo>
                    <a:cubicBezTo>
                      <a:pt x="8445" y="6"/>
                      <a:pt x="8444" y="5"/>
                      <a:pt x="8444" y="4"/>
                    </a:cubicBezTo>
                    <a:cubicBezTo>
                      <a:pt x="8444" y="3"/>
                      <a:pt x="8445" y="2"/>
                      <a:pt x="8446" y="2"/>
                    </a:cubicBezTo>
                    <a:close/>
                    <a:moveTo>
                      <a:pt x="8454" y="2"/>
                    </a:moveTo>
                    <a:lnTo>
                      <a:pt x="8454" y="2"/>
                    </a:lnTo>
                    <a:cubicBezTo>
                      <a:pt x="8455" y="2"/>
                      <a:pt x="8456" y="3"/>
                      <a:pt x="8456" y="4"/>
                    </a:cubicBezTo>
                    <a:cubicBezTo>
                      <a:pt x="8456" y="5"/>
                      <a:pt x="8455" y="6"/>
                      <a:pt x="8454" y="6"/>
                    </a:cubicBezTo>
                    <a:lnTo>
                      <a:pt x="8454" y="6"/>
                    </a:lnTo>
                    <a:cubicBezTo>
                      <a:pt x="8453" y="6"/>
                      <a:pt x="8452" y="5"/>
                      <a:pt x="8452" y="4"/>
                    </a:cubicBezTo>
                    <a:cubicBezTo>
                      <a:pt x="8452" y="3"/>
                      <a:pt x="8453" y="2"/>
                      <a:pt x="8454" y="2"/>
                    </a:cubicBezTo>
                    <a:close/>
                    <a:moveTo>
                      <a:pt x="8462" y="2"/>
                    </a:moveTo>
                    <a:lnTo>
                      <a:pt x="8462" y="2"/>
                    </a:lnTo>
                    <a:cubicBezTo>
                      <a:pt x="8463" y="2"/>
                      <a:pt x="8464" y="3"/>
                      <a:pt x="8464" y="4"/>
                    </a:cubicBezTo>
                    <a:cubicBezTo>
                      <a:pt x="8464" y="5"/>
                      <a:pt x="8463" y="6"/>
                      <a:pt x="8462" y="6"/>
                    </a:cubicBezTo>
                    <a:lnTo>
                      <a:pt x="8462" y="6"/>
                    </a:lnTo>
                    <a:cubicBezTo>
                      <a:pt x="8461" y="6"/>
                      <a:pt x="8460" y="5"/>
                      <a:pt x="8460" y="4"/>
                    </a:cubicBezTo>
                    <a:cubicBezTo>
                      <a:pt x="8460" y="3"/>
                      <a:pt x="8461" y="2"/>
                      <a:pt x="8462" y="2"/>
                    </a:cubicBezTo>
                    <a:close/>
                    <a:moveTo>
                      <a:pt x="8470" y="2"/>
                    </a:moveTo>
                    <a:lnTo>
                      <a:pt x="8470" y="2"/>
                    </a:lnTo>
                    <a:cubicBezTo>
                      <a:pt x="8471" y="2"/>
                      <a:pt x="8472" y="3"/>
                      <a:pt x="8472" y="4"/>
                    </a:cubicBezTo>
                    <a:cubicBezTo>
                      <a:pt x="8472" y="5"/>
                      <a:pt x="8471" y="6"/>
                      <a:pt x="8470" y="6"/>
                    </a:cubicBezTo>
                    <a:lnTo>
                      <a:pt x="8470" y="6"/>
                    </a:lnTo>
                    <a:cubicBezTo>
                      <a:pt x="8469" y="6"/>
                      <a:pt x="8468" y="5"/>
                      <a:pt x="8468" y="4"/>
                    </a:cubicBezTo>
                    <a:cubicBezTo>
                      <a:pt x="8468" y="3"/>
                      <a:pt x="8469" y="2"/>
                      <a:pt x="8470" y="2"/>
                    </a:cubicBezTo>
                    <a:close/>
                    <a:moveTo>
                      <a:pt x="8478" y="2"/>
                    </a:moveTo>
                    <a:lnTo>
                      <a:pt x="8478" y="2"/>
                    </a:lnTo>
                    <a:cubicBezTo>
                      <a:pt x="8479" y="2"/>
                      <a:pt x="8480" y="3"/>
                      <a:pt x="8480" y="4"/>
                    </a:cubicBezTo>
                    <a:cubicBezTo>
                      <a:pt x="8480" y="5"/>
                      <a:pt x="8479" y="6"/>
                      <a:pt x="8478" y="6"/>
                    </a:cubicBezTo>
                    <a:lnTo>
                      <a:pt x="8478" y="6"/>
                    </a:lnTo>
                    <a:cubicBezTo>
                      <a:pt x="8477" y="6"/>
                      <a:pt x="8476" y="5"/>
                      <a:pt x="8476" y="4"/>
                    </a:cubicBezTo>
                    <a:cubicBezTo>
                      <a:pt x="8476" y="3"/>
                      <a:pt x="8477" y="2"/>
                      <a:pt x="8478" y="2"/>
                    </a:cubicBezTo>
                    <a:close/>
                    <a:moveTo>
                      <a:pt x="8486" y="2"/>
                    </a:moveTo>
                    <a:lnTo>
                      <a:pt x="8486" y="2"/>
                    </a:lnTo>
                    <a:cubicBezTo>
                      <a:pt x="8487" y="2"/>
                      <a:pt x="8488" y="3"/>
                      <a:pt x="8488" y="4"/>
                    </a:cubicBezTo>
                    <a:cubicBezTo>
                      <a:pt x="8488" y="5"/>
                      <a:pt x="8487" y="6"/>
                      <a:pt x="8486" y="6"/>
                    </a:cubicBezTo>
                    <a:lnTo>
                      <a:pt x="8486" y="6"/>
                    </a:lnTo>
                    <a:cubicBezTo>
                      <a:pt x="8485" y="6"/>
                      <a:pt x="8484" y="5"/>
                      <a:pt x="8484" y="4"/>
                    </a:cubicBezTo>
                    <a:cubicBezTo>
                      <a:pt x="8484" y="3"/>
                      <a:pt x="8485" y="2"/>
                      <a:pt x="8486" y="2"/>
                    </a:cubicBezTo>
                    <a:close/>
                    <a:moveTo>
                      <a:pt x="8494" y="2"/>
                    </a:moveTo>
                    <a:lnTo>
                      <a:pt x="8494" y="2"/>
                    </a:lnTo>
                    <a:cubicBezTo>
                      <a:pt x="8495" y="2"/>
                      <a:pt x="8496" y="3"/>
                      <a:pt x="8496" y="4"/>
                    </a:cubicBezTo>
                    <a:cubicBezTo>
                      <a:pt x="8496" y="5"/>
                      <a:pt x="8495" y="6"/>
                      <a:pt x="8494" y="6"/>
                    </a:cubicBezTo>
                    <a:lnTo>
                      <a:pt x="8494" y="6"/>
                    </a:lnTo>
                    <a:cubicBezTo>
                      <a:pt x="8493" y="6"/>
                      <a:pt x="8492" y="5"/>
                      <a:pt x="8492" y="4"/>
                    </a:cubicBezTo>
                    <a:cubicBezTo>
                      <a:pt x="8492" y="3"/>
                      <a:pt x="8493" y="2"/>
                      <a:pt x="8494" y="2"/>
                    </a:cubicBezTo>
                    <a:close/>
                    <a:moveTo>
                      <a:pt x="8502" y="2"/>
                    </a:moveTo>
                    <a:lnTo>
                      <a:pt x="8502" y="2"/>
                    </a:lnTo>
                    <a:cubicBezTo>
                      <a:pt x="8503" y="2"/>
                      <a:pt x="8504" y="3"/>
                      <a:pt x="8504" y="4"/>
                    </a:cubicBezTo>
                    <a:cubicBezTo>
                      <a:pt x="8504" y="5"/>
                      <a:pt x="8503" y="6"/>
                      <a:pt x="8502" y="6"/>
                    </a:cubicBezTo>
                    <a:lnTo>
                      <a:pt x="8502" y="6"/>
                    </a:lnTo>
                    <a:cubicBezTo>
                      <a:pt x="8501" y="6"/>
                      <a:pt x="8500" y="5"/>
                      <a:pt x="8500" y="4"/>
                    </a:cubicBezTo>
                    <a:cubicBezTo>
                      <a:pt x="8500" y="3"/>
                      <a:pt x="8501" y="2"/>
                      <a:pt x="8502" y="2"/>
                    </a:cubicBezTo>
                    <a:close/>
                    <a:moveTo>
                      <a:pt x="8510" y="2"/>
                    </a:moveTo>
                    <a:lnTo>
                      <a:pt x="8510" y="2"/>
                    </a:lnTo>
                    <a:cubicBezTo>
                      <a:pt x="8511" y="2"/>
                      <a:pt x="8512" y="3"/>
                      <a:pt x="8512" y="4"/>
                    </a:cubicBezTo>
                    <a:cubicBezTo>
                      <a:pt x="8512" y="5"/>
                      <a:pt x="8511" y="6"/>
                      <a:pt x="8510" y="6"/>
                    </a:cubicBezTo>
                    <a:lnTo>
                      <a:pt x="8510" y="6"/>
                    </a:lnTo>
                    <a:cubicBezTo>
                      <a:pt x="8509" y="6"/>
                      <a:pt x="8508" y="5"/>
                      <a:pt x="8508" y="4"/>
                    </a:cubicBezTo>
                    <a:cubicBezTo>
                      <a:pt x="8508" y="3"/>
                      <a:pt x="8509" y="2"/>
                      <a:pt x="8510" y="2"/>
                    </a:cubicBezTo>
                    <a:close/>
                    <a:moveTo>
                      <a:pt x="8518" y="2"/>
                    </a:moveTo>
                    <a:lnTo>
                      <a:pt x="8518" y="2"/>
                    </a:lnTo>
                    <a:cubicBezTo>
                      <a:pt x="8519" y="2"/>
                      <a:pt x="8520" y="3"/>
                      <a:pt x="8520" y="4"/>
                    </a:cubicBezTo>
                    <a:cubicBezTo>
                      <a:pt x="8520" y="5"/>
                      <a:pt x="8519" y="6"/>
                      <a:pt x="8518" y="6"/>
                    </a:cubicBezTo>
                    <a:lnTo>
                      <a:pt x="8518" y="6"/>
                    </a:lnTo>
                    <a:cubicBezTo>
                      <a:pt x="8517" y="6"/>
                      <a:pt x="8516" y="5"/>
                      <a:pt x="8516" y="4"/>
                    </a:cubicBezTo>
                    <a:cubicBezTo>
                      <a:pt x="8516" y="3"/>
                      <a:pt x="8517" y="2"/>
                      <a:pt x="8518" y="2"/>
                    </a:cubicBezTo>
                    <a:close/>
                    <a:moveTo>
                      <a:pt x="8526" y="2"/>
                    </a:moveTo>
                    <a:lnTo>
                      <a:pt x="8526" y="2"/>
                    </a:lnTo>
                    <a:cubicBezTo>
                      <a:pt x="8527" y="2"/>
                      <a:pt x="8528" y="3"/>
                      <a:pt x="8528" y="4"/>
                    </a:cubicBezTo>
                    <a:cubicBezTo>
                      <a:pt x="8528" y="5"/>
                      <a:pt x="8527" y="6"/>
                      <a:pt x="8526" y="6"/>
                    </a:cubicBezTo>
                    <a:lnTo>
                      <a:pt x="8526" y="6"/>
                    </a:lnTo>
                    <a:cubicBezTo>
                      <a:pt x="8525" y="6"/>
                      <a:pt x="8524" y="5"/>
                      <a:pt x="8524" y="4"/>
                    </a:cubicBezTo>
                    <a:cubicBezTo>
                      <a:pt x="8524" y="3"/>
                      <a:pt x="8525" y="2"/>
                      <a:pt x="8526" y="2"/>
                    </a:cubicBezTo>
                    <a:close/>
                    <a:moveTo>
                      <a:pt x="8534" y="2"/>
                    </a:moveTo>
                    <a:lnTo>
                      <a:pt x="8534" y="2"/>
                    </a:lnTo>
                    <a:cubicBezTo>
                      <a:pt x="8535" y="2"/>
                      <a:pt x="8536" y="3"/>
                      <a:pt x="8536" y="4"/>
                    </a:cubicBezTo>
                    <a:cubicBezTo>
                      <a:pt x="8536" y="5"/>
                      <a:pt x="8535" y="6"/>
                      <a:pt x="8534" y="6"/>
                    </a:cubicBezTo>
                    <a:lnTo>
                      <a:pt x="8534" y="6"/>
                    </a:lnTo>
                    <a:cubicBezTo>
                      <a:pt x="8533" y="6"/>
                      <a:pt x="8532" y="5"/>
                      <a:pt x="8532" y="4"/>
                    </a:cubicBezTo>
                    <a:cubicBezTo>
                      <a:pt x="8532" y="3"/>
                      <a:pt x="8533" y="2"/>
                      <a:pt x="8534" y="2"/>
                    </a:cubicBezTo>
                    <a:close/>
                    <a:moveTo>
                      <a:pt x="8542" y="2"/>
                    </a:moveTo>
                    <a:lnTo>
                      <a:pt x="8542" y="2"/>
                    </a:lnTo>
                    <a:cubicBezTo>
                      <a:pt x="8543" y="2"/>
                      <a:pt x="8544" y="3"/>
                      <a:pt x="8544" y="4"/>
                    </a:cubicBezTo>
                    <a:cubicBezTo>
                      <a:pt x="8544" y="5"/>
                      <a:pt x="8543" y="6"/>
                      <a:pt x="8542" y="6"/>
                    </a:cubicBezTo>
                    <a:lnTo>
                      <a:pt x="8542" y="6"/>
                    </a:lnTo>
                    <a:cubicBezTo>
                      <a:pt x="8541" y="6"/>
                      <a:pt x="8540" y="5"/>
                      <a:pt x="8540" y="4"/>
                    </a:cubicBezTo>
                    <a:cubicBezTo>
                      <a:pt x="8540" y="3"/>
                      <a:pt x="8541" y="2"/>
                      <a:pt x="8542" y="2"/>
                    </a:cubicBezTo>
                    <a:close/>
                    <a:moveTo>
                      <a:pt x="8550" y="2"/>
                    </a:moveTo>
                    <a:lnTo>
                      <a:pt x="8550" y="2"/>
                    </a:lnTo>
                    <a:cubicBezTo>
                      <a:pt x="8551" y="2"/>
                      <a:pt x="8552" y="3"/>
                      <a:pt x="8552" y="4"/>
                    </a:cubicBezTo>
                    <a:cubicBezTo>
                      <a:pt x="8552" y="5"/>
                      <a:pt x="8551" y="6"/>
                      <a:pt x="8550" y="6"/>
                    </a:cubicBezTo>
                    <a:lnTo>
                      <a:pt x="8550" y="6"/>
                    </a:lnTo>
                    <a:cubicBezTo>
                      <a:pt x="8549" y="6"/>
                      <a:pt x="8548" y="5"/>
                      <a:pt x="8548" y="4"/>
                    </a:cubicBezTo>
                    <a:cubicBezTo>
                      <a:pt x="8548" y="3"/>
                      <a:pt x="8549" y="2"/>
                      <a:pt x="8550" y="2"/>
                    </a:cubicBezTo>
                    <a:close/>
                    <a:moveTo>
                      <a:pt x="8558" y="2"/>
                    </a:moveTo>
                    <a:lnTo>
                      <a:pt x="8558" y="2"/>
                    </a:lnTo>
                    <a:cubicBezTo>
                      <a:pt x="8559" y="2"/>
                      <a:pt x="8560" y="3"/>
                      <a:pt x="8560" y="4"/>
                    </a:cubicBezTo>
                    <a:cubicBezTo>
                      <a:pt x="8560" y="5"/>
                      <a:pt x="8559" y="6"/>
                      <a:pt x="8558" y="6"/>
                    </a:cubicBezTo>
                    <a:lnTo>
                      <a:pt x="8558" y="6"/>
                    </a:lnTo>
                    <a:cubicBezTo>
                      <a:pt x="8557" y="6"/>
                      <a:pt x="8556" y="5"/>
                      <a:pt x="8556" y="4"/>
                    </a:cubicBezTo>
                    <a:cubicBezTo>
                      <a:pt x="8556" y="3"/>
                      <a:pt x="8557" y="2"/>
                      <a:pt x="8558" y="2"/>
                    </a:cubicBezTo>
                    <a:close/>
                    <a:moveTo>
                      <a:pt x="8566" y="2"/>
                    </a:moveTo>
                    <a:lnTo>
                      <a:pt x="8566" y="2"/>
                    </a:lnTo>
                    <a:cubicBezTo>
                      <a:pt x="8567" y="2"/>
                      <a:pt x="8568" y="3"/>
                      <a:pt x="8568" y="4"/>
                    </a:cubicBezTo>
                    <a:cubicBezTo>
                      <a:pt x="8568" y="5"/>
                      <a:pt x="8567" y="6"/>
                      <a:pt x="8566" y="6"/>
                    </a:cubicBezTo>
                    <a:lnTo>
                      <a:pt x="8566" y="6"/>
                    </a:lnTo>
                    <a:cubicBezTo>
                      <a:pt x="8565" y="6"/>
                      <a:pt x="8564" y="5"/>
                      <a:pt x="8564" y="4"/>
                    </a:cubicBezTo>
                    <a:cubicBezTo>
                      <a:pt x="8564" y="3"/>
                      <a:pt x="8565" y="2"/>
                      <a:pt x="8566" y="2"/>
                    </a:cubicBezTo>
                    <a:close/>
                    <a:moveTo>
                      <a:pt x="8574" y="2"/>
                    </a:moveTo>
                    <a:lnTo>
                      <a:pt x="8574" y="2"/>
                    </a:lnTo>
                    <a:cubicBezTo>
                      <a:pt x="8575" y="2"/>
                      <a:pt x="8576" y="3"/>
                      <a:pt x="8576" y="4"/>
                    </a:cubicBezTo>
                    <a:cubicBezTo>
                      <a:pt x="8576" y="5"/>
                      <a:pt x="8575" y="6"/>
                      <a:pt x="8574" y="6"/>
                    </a:cubicBezTo>
                    <a:lnTo>
                      <a:pt x="8574" y="6"/>
                    </a:lnTo>
                    <a:cubicBezTo>
                      <a:pt x="8573" y="6"/>
                      <a:pt x="8572" y="5"/>
                      <a:pt x="8572" y="4"/>
                    </a:cubicBezTo>
                    <a:cubicBezTo>
                      <a:pt x="8572" y="3"/>
                      <a:pt x="8573" y="2"/>
                      <a:pt x="8574" y="2"/>
                    </a:cubicBezTo>
                    <a:close/>
                    <a:moveTo>
                      <a:pt x="8582" y="2"/>
                    </a:moveTo>
                    <a:lnTo>
                      <a:pt x="8582" y="2"/>
                    </a:lnTo>
                    <a:cubicBezTo>
                      <a:pt x="8583" y="2"/>
                      <a:pt x="8584" y="3"/>
                      <a:pt x="8584" y="4"/>
                    </a:cubicBezTo>
                    <a:cubicBezTo>
                      <a:pt x="8584" y="5"/>
                      <a:pt x="8583" y="6"/>
                      <a:pt x="8582" y="6"/>
                    </a:cubicBezTo>
                    <a:lnTo>
                      <a:pt x="8582" y="6"/>
                    </a:lnTo>
                    <a:cubicBezTo>
                      <a:pt x="8581" y="6"/>
                      <a:pt x="8580" y="5"/>
                      <a:pt x="8580" y="4"/>
                    </a:cubicBezTo>
                    <a:cubicBezTo>
                      <a:pt x="8580" y="3"/>
                      <a:pt x="8581" y="2"/>
                      <a:pt x="8582" y="2"/>
                    </a:cubicBezTo>
                    <a:close/>
                    <a:moveTo>
                      <a:pt x="8590" y="2"/>
                    </a:moveTo>
                    <a:lnTo>
                      <a:pt x="8590" y="2"/>
                    </a:lnTo>
                    <a:cubicBezTo>
                      <a:pt x="8591" y="2"/>
                      <a:pt x="8592" y="3"/>
                      <a:pt x="8592" y="4"/>
                    </a:cubicBezTo>
                    <a:cubicBezTo>
                      <a:pt x="8592" y="5"/>
                      <a:pt x="8591" y="6"/>
                      <a:pt x="8590" y="6"/>
                    </a:cubicBezTo>
                    <a:lnTo>
                      <a:pt x="8590" y="6"/>
                    </a:lnTo>
                    <a:cubicBezTo>
                      <a:pt x="8589" y="6"/>
                      <a:pt x="8588" y="5"/>
                      <a:pt x="8588" y="4"/>
                    </a:cubicBezTo>
                    <a:cubicBezTo>
                      <a:pt x="8588" y="3"/>
                      <a:pt x="8589" y="2"/>
                      <a:pt x="8590" y="2"/>
                    </a:cubicBezTo>
                    <a:close/>
                    <a:moveTo>
                      <a:pt x="8598" y="2"/>
                    </a:moveTo>
                    <a:lnTo>
                      <a:pt x="8598" y="2"/>
                    </a:lnTo>
                    <a:cubicBezTo>
                      <a:pt x="8599" y="2"/>
                      <a:pt x="8600" y="3"/>
                      <a:pt x="8600" y="4"/>
                    </a:cubicBezTo>
                    <a:cubicBezTo>
                      <a:pt x="8600" y="5"/>
                      <a:pt x="8599" y="6"/>
                      <a:pt x="8598" y="6"/>
                    </a:cubicBezTo>
                    <a:lnTo>
                      <a:pt x="8598" y="6"/>
                    </a:lnTo>
                    <a:cubicBezTo>
                      <a:pt x="8597" y="6"/>
                      <a:pt x="8596" y="5"/>
                      <a:pt x="8596" y="4"/>
                    </a:cubicBezTo>
                    <a:cubicBezTo>
                      <a:pt x="8596" y="3"/>
                      <a:pt x="8597" y="2"/>
                      <a:pt x="8598" y="2"/>
                    </a:cubicBezTo>
                    <a:close/>
                    <a:moveTo>
                      <a:pt x="8606" y="2"/>
                    </a:moveTo>
                    <a:lnTo>
                      <a:pt x="8606" y="2"/>
                    </a:lnTo>
                    <a:cubicBezTo>
                      <a:pt x="8607" y="2"/>
                      <a:pt x="8608" y="3"/>
                      <a:pt x="8608" y="4"/>
                    </a:cubicBezTo>
                    <a:cubicBezTo>
                      <a:pt x="8608" y="5"/>
                      <a:pt x="8607" y="6"/>
                      <a:pt x="8606" y="6"/>
                    </a:cubicBezTo>
                    <a:lnTo>
                      <a:pt x="8606" y="6"/>
                    </a:lnTo>
                    <a:cubicBezTo>
                      <a:pt x="8605" y="6"/>
                      <a:pt x="8604" y="5"/>
                      <a:pt x="8604" y="4"/>
                    </a:cubicBezTo>
                    <a:cubicBezTo>
                      <a:pt x="8604" y="3"/>
                      <a:pt x="8605" y="2"/>
                      <a:pt x="8606" y="2"/>
                    </a:cubicBezTo>
                    <a:close/>
                    <a:moveTo>
                      <a:pt x="8614" y="2"/>
                    </a:moveTo>
                    <a:lnTo>
                      <a:pt x="8614" y="2"/>
                    </a:lnTo>
                    <a:cubicBezTo>
                      <a:pt x="8615" y="2"/>
                      <a:pt x="8616" y="3"/>
                      <a:pt x="8616" y="4"/>
                    </a:cubicBezTo>
                    <a:cubicBezTo>
                      <a:pt x="8616" y="5"/>
                      <a:pt x="8615" y="6"/>
                      <a:pt x="8614" y="6"/>
                    </a:cubicBezTo>
                    <a:lnTo>
                      <a:pt x="8614" y="6"/>
                    </a:lnTo>
                    <a:cubicBezTo>
                      <a:pt x="8613" y="6"/>
                      <a:pt x="8612" y="5"/>
                      <a:pt x="8612" y="4"/>
                    </a:cubicBezTo>
                    <a:cubicBezTo>
                      <a:pt x="8612" y="3"/>
                      <a:pt x="8613" y="2"/>
                      <a:pt x="8614" y="2"/>
                    </a:cubicBezTo>
                    <a:close/>
                    <a:moveTo>
                      <a:pt x="8622" y="2"/>
                    </a:moveTo>
                    <a:lnTo>
                      <a:pt x="8622" y="2"/>
                    </a:lnTo>
                    <a:cubicBezTo>
                      <a:pt x="8623" y="2"/>
                      <a:pt x="8624" y="3"/>
                      <a:pt x="8624" y="4"/>
                    </a:cubicBezTo>
                    <a:cubicBezTo>
                      <a:pt x="8624" y="5"/>
                      <a:pt x="8623" y="6"/>
                      <a:pt x="8622" y="6"/>
                    </a:cubicBezTo>
                    <a:lnTo>
                      <a:pt x="8622" y="6"/>
                    </a:lnTo>
                    <a:cubicBezTo>
                      <a:pt x="8621" y="6"/>
                      <a:pt x="8620" y="5"/>
                      <a:pt x="8620" y="4"/>
                    </a:cubicBezTo>
                    <a:cubicBezTo>
                      <a:pt x="8620" y="3"/>
                      <a:pt x="8621" y="2"/>
                      <a:pt x="8622" y="2"/>
                    </a:cubicBezTo>
                    <a:close/>
                    <a:moveTo>
                      <a:pt x="8630" y="2"/>
                    </a:moveTo>
                    <a:lnTo>
                      <a:pt x="8630" y="2"/>
                    </a:lnTo>
                    <a:cubicBezTo>
                      <a:pt x="8631" y="2"/>
                      <a:pt x="8632" y="3"/>
                      <a:pt x="8632" y="4"/>
                    </a:cubicBezTo>
                    <a:cubicBezTo>
                      <a:pt x="8632" y="5"/>
                      <a:pt x="8631" y="6"/>
                      <a:pt x="8630" y="6"/>
                    </a:cubicBezTo>
                    <a:lnTo>
                      <a:pt x="8630" y="6"/>
                    </a:lnTo>
                    <a:cubicBezTo>
                      <a:pt x="8629" y="6"/>
                      <a:pt x="8628" y="5"/>
                      <a:pt x="8628" y="4"/>
                    </a:cubicBezTo>
                    <a:cubicBezTo>
                      <a:pt x="8628" y="3"/>
                      <a:pt x="8629" y="2"/>
                      <a:pt x="8630" y="2"/>
                    </a:cubicBezTo>
                    <a:close/>
                    <a:moveTo>
                      <a:pt x="8638" y="2"/>
                    </a:moveTo>
                    <a:lnTo>
                      <a:pt x="8638" y="2"/>
                    </a:lnTo>
                    <a:cubicBezTo>
                      <a:pt x="8639" y="2"/>
                      <a:pt x="8640" y="3"/>
                      <a:pt x="8640" y="4"/>
                    </a:cubicBezTo>
                    <a:cubicBezTo>
                      <a:pt x="8640" y="5"/>
                      <a:pt x="8639" y="6"/>
                      <a:pt x="8638" y="6"/>
                    </a:cubicBezTo>
                    <a:lnTo>
                      <a:pt x="8638" y="6"/>
                    </a:lnTo>
                    <a:cubicBezTo>
                      <a:pt x="8637" y="6"/>
                      <a:pt x="8636" y="5"/>
                      <a:pt x="8636" y="4"/>
                    </a:cubicBezTo>
                    <a:cubicBezTo>
                      <a:pt x="8636" y="3"/>
                      <a:pt x="8637" y="2"/>
                      <a:pt x="8638" y="2"/>
                    </a:cubicBezTo>
                    <a:close/>
                    <a:moveTo>
                      <a:pt x="8646" y="2"/>
                    </a:moveTo>
                    <a:lnTo>
                      <a:pt x="8646" y="2"/>
                    </a:lnTo>
                    <a:cubicBezTo>
                      <a:pt x="8647" y="2"/>
                      <a:pt x="8648" y="3"/>
                      <a:pt x="8648" y="4"/>
                    </a:cubicBezTo>
                    <a:cubicBezTo>
                      <a:pt x="8648" y="5"/>
                      <a:pt x="8647" y="6"/>
                      <a:pt x="8646" y="6"/>
                    </a:cubicBezTo>
                    <a:lnTo>
                      <a:pt x="8646" y="6"/>
                    </a:lnTo>
                    <a:cubicBezTo>
                      <a:pt x="8645" y="6"/>
                      <a:pt x="8644" y="5"/>
                      <a:pt x="8644" y="4"/>
                    </a:cubicBezTo>
                    <a:cubicBezTo>
                      <a:pt x="8644" y="3"/>
                      <a:pt x="8645" y="2"/>
                      <a:pt x="8646" y="2"/>
                    </a:cubicBezTo>
                    <a:close/>
                    <a:moveTo>
                      <a:pt x="8654" y="2"/>
                    </a:moveTo>
                    <a:lnTo>
                      <a:pt x="8654" y="2"/>
                    </a:lnTo>
                    <a:cubicBezTo>
                      <a:pt x="8655" y="2"/>
                      <a:pt x="8656" y="3"/>
                      <a:pt x="8656" y="4"/>
                    </a:cubicBezTo>
                    <a:cubicBezTo>
                      <a:pt x="8656" y="5"/>
                      <a:pt x="8655" y="6"/>
                      <a:pt x="8654" y="6"/>
                    </a:cubicBezTo>
                    <a:lnTo>
                      <a:pt x="8654" y="6"/>
                    </a:lnTo>
                    <a:cubicBezTo>
                      <a:pt x="8653" y="6"/>
                      <a:pt x="8652" y="5"/>
                      <a:pt x="8652" y="4"/>
                    </a:cubicBezTo>
                    <a:cubicBezTo>
                      <a:pt x="8652" y="3"/>
                      <a:pt x="8653" y="2"/>
                      <a:pt x="8654" y="2"/>
                    </a:cubicBezTo>
                    <a:close/>
                    <a:moveTo>
                      <a:pt x="8662" y="2"/>
                    </a:moveTo>
                    <a:lnTo>
                      <a:pt x="8662" y="2"/>
                    </a:lnTo>
                    <a:cubicBezTo>
                      <a:pt x="8663" y="2"/>
                      <a:pt x="8664" y="3"/>
                      <a:pt x="8664" y="4"/>
                    </a:cubicBezTo>
                    <a:cubicBezTo>
                      <a:pt x="8664" y="5"/>
                      <a:pt x="8663" y="6"/>
                      <a:pt x="8662" y="6"/>
                    </a:cubicBezTo>
                    <a:lnTo>
                      <a:pt x="8662" y="6"/>
                    </a:lnTo>
                    <a:cubicBezTo>
                      <a:pt x="8661" y="6"/>
                      <a:pt x="8660" y="5"/>
                      <a:pt x="8660" y="4"/>
                    </a:cubicBezTo>
                    <a:cubicBezTo>
                      <a:pt x="8660" y="3"/>
                      <a:pt x="8661" y="2"/>
                      <a:pt x="8662" y="2"/>
                    </a:cubicBezTo>
                    <a:close/>
                    <a:moveTo>
                      <a:pt x="8670" y="2"/>
                    </a:moveTo>
                    <a:lnTo>
                      <a:pt x="8670" y="2"/>
                    </a:lnTo>
                    <a:cubicBezTo>
                      <a:pt x="8671" y="2"/>
                      <a:pt x="8672" y="3"/>
                      <a:pt x="8672" y="4"/>
                    </a:cubicBezTo>
                    <a:cubicBezTo>
                      <a:pt x="8672" y="5"/>
                      <a:pt x="8671" y="6"/>
                      <a:pt x="8670" y="6"/>
                    </a:cubicBezTo>
                    <a:lnTo>
                      <a:pt x="8670" y="6"/>
                    </a:lnTo>
                    <a:cubicBezTo>
                      <a:pt x="8669" y="6"/>
                      <a:pt x="8668" y="5"/>
                      <a:pt x="8668" y="4"/>
                    </a:cubicBezTo>
                    <a:cubicBezTo>
                      <a:pt x="8668" y="3"/>
                      <a:pt x="8669" y="2"/>
                      <a:pt x="8670" y="2"/>
                    </a:cubicBezTo>
                    <a:close/>
                    <a:moveTo>
                      <a:pt x="8678" y="2"/>
                    </a:moveTo>
                    <a:lnTo>
                      <a:pt x="8678" y="2"/>
                    </a:lnTo>
                    <a:cubicBezTo>
                      <a:pt x="8679" y="2"/>
                      <a:pt x="8680" y="3"/>
                      <a:pt x="8680" y="4"/>
                    </a:cubicBezTo>
                    <a:cubicBezTo>
                      <a:pt x="8680" y="5"/>
                      <a:pt x="8679" y="6"/>
                      <a:pt x="8678" y="6"/>
                    </a:cubicBezTo>
                    <a:lnTo>
                      <a:pt x="8678" y="6"/>
                    </a:lnTo>
                    <a:cubicBezTo>
                      <a:pt x="8677" y="6"/>
                      <a:pt x="8676" y="5"/>
                      <a:pt x="8676" y="4"/>
                    </a:cubicBezTo>
                    <a:cubicBezTo>
                      <a:pt x="8676" y="3"/>
                      <a:pt x="8677" y="2"/>
                      <a:pt x="8678" y="2"/>
                    </a:cubicBezTo>
                    <a:close/>
                    <a:moveTo>
                      <a:pt x="8686" y="2"/>
                    </a:moveTo>
                    <a:lnTo>
                      <a:pt x="8686" y="2"/>
                    </a:lnTo>
                    <a:cubicBezTo>
                      <a:pt x="8687" y="2"/>
                      <a:pt x="8688" y="3"/>
                      <a:pt x="8688" y="4"/>
                    </a:cubicBezTo>
                    <a:cubicBezTo>
                      <a:pt x="8688" y="5"/>
                      <a:pt x="8687" y="6"/>
                      <a:pt x="8686" y="6"/>
                    </a:cubicBezTo>
                    <a:lnTo>
                      <a:pt x="8686" y="6"/>
                    </a:lnTo>
                    <a:cubicBezTo>
                      <a:pt x="8685" y="6"/>
                      <a:pt x="8684" y="5"/>
                      <a:pt x="8684" y="4"/>
                    </a:cubicBezTo>
                    <a:cubicBezTo>
                      <a:pt x="8684" y="3"/>
                      <a:pt x="8685" y="2"/>
                      <a:pt x="8686" y="2"/>
                    </a:cubicBezTo>
                    <a:close/>
                    <a:moveTo>
                      <a:pt x="8694" y="2"/>
                    </a:moveTo>
                    <a:lnTo>
                      <a:pt x="8694" y="2"/>
                    </a:lnTo>
                    <a:cubicBezTo>
                      <a:pt x="8695" y="2"/>
                      <a:pt x="8696" y="3"/>
                      <a:pt x="8696" y="4"/>
                    </a:cubicBezTo>
                    <a:cubicBezTo>
                      <a:pt x="8696" y="5"/>
                      <a:pt x="8695" y="6"/>
                      <a:pt x="8694" y="6"/>
                    </a:cubicBezTo>
                    <a:lnTo>
                      <a:pt x="8694" y="6"/>
                    </a:lnTo>
                    <a:cubicBezTo>
                      <a:pt x="8693" y="6"/>
                      <a:pt x="8692" y="5"/>
                      <a:pt x="8692" y="4"/>
                    </a:cubicBezTo>
                    <a:cubicBezTo>
                      <a:pt x="8692" y="3"/>
                      <a:pt x="8693" y="2"/>
                      <a:pt x="8694" y="2"/>
                    </a:cubicBezTo>
                    <a:close/>
                    <a:moveTo>
                      <a:pt x="8702" y="2"/>
                    </a:moveTo>
                    <a:lnTo>
                      <a:pt x="8702" y="2"/>
                    </a:lnTo>
                    <a:cubicBezTo>
                      <a:pt x="8703" y="2"/>
                      <a:pt x="8704" y="3"/>
                      <a:pt x="8704" y="4"/>
                    </a:cubicBezTo>
                    <a:cubicBezTo>
                      <a:pt x="8704" y="5"/>
                      <a:pt x="8703" y="6"/>
                      <a:pt x="8702" y="6"/>
                    </a:cubicBezTo>
                    <a:lnTo>
                      <a:pt x="8702" y="6"/>
                    </a:lnTo>
                    <a:cubicBezTo>
                      <a:pt x="8701" y="6"/>
                      <a:pt x="8700" y="5"/>
                      <a:pt x="8700" y="4"/>
                    </a:cubicBezTo>
                    <a:cubicBezTo>
                      <a:pt x="8700" y="3"/>
                      <a:pt x="8701" y="2"/>
                      <a:pt x="8702" y="2"/>
                    </a:cubicBezTo>
                    <a:close/>
                    <a:moveTo>
                      <a:pt x="8710" y="2"/>
                    </a:moveTo>
                    <a:lnTo>
                      <a:pt x="8710" y="2"/>
                    </a:lnTo>
                    <a:cubicBezTo>
                      <a:pt x="8711" y="2"/>
                      <a:pt x="8712" y="3"/>
                      <a:pt x="8712" y="4"/>
                    </a:cubicBezTo>
                    <a:cubicBezTo>
                      <a:pt x="8712" y="5"/>
                      <a:pt x="8711" y="6"/>
                      <a:pt x="8710" y="6"/>
                    </a:cubicBezTo>
                    <a:lnTo>
                      <a:pt x="8710" y="6"/>
                    </a:lnTo>
                    <a:cubicBezTo>
                      <a:pt x="8709" y="6"/>
                      <a:pt x="8708" y="5"/>
                      <a:pt x="8708" y="4"/>
                    </a:cubicBezTo>
                    <a:cubicBezTo>
                      <a:pt x="8708" y="3"/>
                      <a:pt x="8709" y="2"/>
                      <a:pt x="8710" y="2"/>
                    </a:cubicBezTo>
                    <a:close/>
                    <a:moveTo>
                      <a:pt x="8718" y="2"/>
                    </a:moveTo>
                    <a:lnTo>
                      <a:pt x="8718" y="2"/>
                    </a:lnTo>
                    <a:cubicBezTo>
                      <a:pt x="8719" y="2"/>
                      <a:pt x="8720" y="3"/>
                      <a:pt x="8720" y="4"/>
                    </a:cubicBezTo>
                    <a:cubicBezTo>
                      <a:pt x="8720" y="5"/>
                      <a:pt x="8719" y="6"/>
                      <a:pt x="8718" y="6"/>
                    </a:cubicBezTo>
                    <a:lnTo>
                      <a:pt x="8718" y="6"/>
                    </a:lnTo>
                    <a:cubicBezTo>
                      <a:pt x="8717" y="6"/>
                      <a:pt x="8716" y="5"/>
                      <a:pt x="8716" y="4"/>
                    </a:cubicBezTo>
                    <a:cubicBezTo>
                      <a:pt x="8716" y="3"/>
                      <a:pt x="8717" y="2"/>
                      <a:pt x="8718" y="2"/>
                    </a:cubicBezTo>
                    <a:close/>
                    <a:moveTo>
                      <a:pt x="8726" y="2"/>
                    </a:moveTo>
                    <a:lnTo>
                      <a:pt x="8726" y="2"/>
                    </a:lnTo>
                    <a:cubicBezTo>
                      <a:pt x="8727" y="2"/>
                      <a:pt x="8728" y="3"/>
                      <a:pt x="8728" y="4"/>
                    </a:cubicBezTo>
                    <a:cubicBezTo>
                      <a:pt x="8728" y="5"/>
                      <a:pt x="8727" y="6"/>
                      <a:pt x="8726" y="6"/>
                    </a:cubicBezTo>
                    <a:lnTo>
                      <a:pt x="8726" y="6"/>
                    </a:lnTo>
                    <a:cubicBezTo>
                      <a:pt x="8725" y="6"/>
                      <a:pt x="8724" y="5"/>
                      <a:pt x="8724" y="4"/>
                    </a:cubicBezTo>
                    <a:cubicBezTo>
                      <a:pt x="8724" y="3"/>
                      <a:pt x="8725" y="2"/>
                      <a:pt x="8726" y="2"/>
                    </a:cubicBezTo>
                    <a:close/>
                    <a:moveTo>
                      <a:pt x="8734" y="2"/>
                    </a:moveTo>
                    <a:lnTo>
                      <a:pt x="8734" y="2"/>
                    </a:lnTo>
                    <a:cubicBezTo>
                      <a:pt x="8735" y="2"/>
                      <a:pt x="8736" y="3"/>
                      <a:pt x="8736" y="4"/>
                    </a:cubicBezTo>
                    <a:cubicBezTo>
                      <a:pt x="8736" y="5"/>
                      <a:pt x="8735" y="6"/>
                      <a:pt x="8734" y="6"/>
                    </a:cubicBezTo>
                    <a:lnTo>
                      <a:pt x="8734" y="6"/>
                    </a:lnTo>
                    <a:cubicBezTo>
                      <a:pt x="8733" y="6"/>
                      <a:pt x="8732" y="5"/>
                      <a:pt x="8732" y="4"/>
                    </a:cubicBezTo>
                    <a:cubicBezTo>
                      <a:pt x="8732" y="3"/>
                      <a:pt x="8733" y="2"/>
                      <a:pt x="8734" y="2"/>
                    </a:cubicBezTo>
                    <a:close/>
                    <a:moveTo>
                      <a:pt x="8742" y="2"/>
                    </a:moveTo>
                    <a:lnTo>
                      <a:pt x="8742" y="2"/>
                    </a:lnTo>
                    <a:cubicBezTo>
                      <a:pt x="8743" y="2"/>
                      <a:pt x="8744" y="3"/>
                      <a:pt x="8744" y="4"/>
                    </a:cubicBezTo>
                    <a:cubicBezTo>
                      <a:pt x="8744" y="5"/>
                      <a:pt x="8743" y="6"/>
                      <a:pt x="8742" y="6"/>
                    </a:cubicBezTo>
                    <a:lnTo>
                      <a:pt x="8742" y="6"/>
                    </a:lnTo>
                    <a:cubicBezTo>
                      <a:pt x="8741" y="6"/>
                      <a:pt x="8740" y="5"/>
                      <a:pt x="8740" y="4"/>
                    </a:cubicBezTo>
                    <a:cubicBezTo>
                      <a:pt x="8740" y="3"/>
                      <a:pt x="8741" y="2"/>
                      <a:pt x="8742" y="2"/>
                    </a:cubicBezTo>
                    <a:close/>
                    <a:moveTo>
                      <a:pt x="8750" y="2"/>
                    </a:moveTo>
                    <a:lnTo>
                      <a:pt x="8750" y="2"/>
                    </a:lnTo>
                    <a:cubicBezTo>
                      <a:pt x="8751" y="2"/>
                      <a:pt x="8752" y="3"/>
                      <a:pt x="8752" y="4"/>
                    </a:cubicBezTo>
                    <a:cubicBezTo>
                      <a:pt x="8752" y="5"/>
                      <a:pt x="8751" y="6"/>
                      <a:pt x="8750" y="6"/>
                    </a:cubicBezTo>
                    <a:lnTo>
                      <a:pt x="8750" y="6"/>
                    </a:lnTo>
                    <a:cubicBezTo>
                      <a:pt x="8749" y="6"/>
                      <a:pt x="8748" y="5"/>
                      <a:pt x="8748" y="4"/>
                    </a:cubicBezTo>
                    <a:cubicBezTo>
                      <a:pt x="8748" y="3"/>
                      <a:pt x="8749" y="2"/>
                      <a:pt x="8750" y="2"/>
                    </a:cubicBezTo>
                    <a:close/>
                    <a:moveTo>
                      <a:pt x="8758" y="2"/>
                    </a:moveTo>
                    <a:lnTo>
                      <a:pt x="8758" y="2"/>
                    </a:lnTo>
                    <a:cubicBezTo>
                      <a:pt x="8759" y="2"/>
                      <a:pt x="8760" y="3"/>
                      <a:pt x="8760" y="4"/>
                    </a:cubicBezTo>
                    <a:cubicBezTo>
                      <a:pt x="8760" y="5"/>
                      <a:pt x="8759" y="6"/>
                      <a:pt x="8758" y="6"/>
                    </a:cubicBezTo>
                    <a:lnTo>
                      <a:pt x="8758" y="6"/>
                    </a:lnTo>
                    <a:cubicBezTo>
                      <a:pt x="8757" y="6"/>
                      <a:pt x="8756" y="5"/>
                      <a:pt x="8756" y="4"/>
                    </a:cubicBezTo>
                    <a:cubicBezTo>
                      <a:pt x="8756" y="3"/>
                      <a:pt x="8757" y="2"/>
                      <a:pt x="8758" y="2"/>
                    </a:cubicBezTo>
                    <a:close/>
                    <a:moveTo>
                      <a:pt x="8766" y="2"/>
                    </a:moveTo>
                    <a:lnTo>
                      <a:pt x="8766" y="2"/>
                    </a:lnTo>
                    <a:cubicBezTo>
                      <a:pt x="8767" y="2"/>
                      <a:pt x="8768" y="3"/>
                      <a:pt x="8768" y="4"/>
                    </a:cubicBezTo>
                    <a:cubicBezTo>
                      <a:pt x="8768" y="5"/>
                      <a:pt x="8767" y="6"/>
                      <a:pt x="8766" y="6"/>
                    </a:cubicBezTo>
                    <a:lnTo>
                      <a:pt x="8766" y="6"/>
                    </a:lnTo>
                    <a:cubicBezTo>
                      <a:pt x="8765" y="6"/>
                      <a:pt x="8764" y="5"/>
                      <a:pt x="8764" y="4"/>
                    </a:cubicBezTo>
                    <a:cubicBezTo>
                      <a:pt x="8764" y="3"/>
                      <a:pt x="8765" y="2"/>
                      <a:pt x="8766" y="2"/>
                    </a:cubicBezTo>
                    <a:close/>
                    <a:moveTo>
                      <a:pt x="8774" y="2"/>
                    </a:moveTo>
                    <a:lnTo>
                      <a:pt x="8774" y="2"/>
                    </a:lnTo>
                    <a:cubicBezTo>
                      <a:pt x="8775" y="2"/>
                      <a:pt x="8776" y="3"/>
                      <a:pt x="8776" y="4"/>
                    </a:cubicBezTo>
                    <a:cubicBezTo>
                      <a:pt x="8776" y="5"/>
                      <a:pt x="8775" y="6"/>
                      <a:pt x="8774" y="6"/>
                    </a:cubicBezTo>
                    <a:lnTo>
                      <a:pt x="8774" y="6"/>
                    </a:lnTo>
                    <a:cubicBezTo>
                      <a:pt x="8773" y="6"/>
                      <a:pt x="8772" y="5"/>
                      <a:pt x="8772" y="4"/>
                    </a:cubicBezTo>
                    <a:cubicBezTo>
                      <a:pt x="8772" y="3"/>
                      <a:pt x="8773" y="2"/>
                      <a:pt x="8774" y="2"/>
                    </a:cubicBezTo>
                    <a:close/>
                    <a:moveTo>
                      <a:pt x="8782" y="2"/>
                    </a:moveTo>
                    <a:lnTo>
                      <a:pt x="8782" y="2"/>
                    </a:lnTo>
                    <a:cubicBezTo>
                      <a:pt x="8783" y="2"/>
                      <a:pt x="8784" y="3"/>
                      <a:pt x="8784" y="4"/>
                    </a:cubicBezTo>
                    <a:cubicBezTo>
                      <a:pt x="8784" y="5"/>
                      <a:pt x="8783" y="6"/>
                      <a:pt x="8782" y="6"/>
                    </a:cubicBezTo>
                    <a:lnTo>
                      <a:pt x="8782" y="6"/>
                    </a:lnTo>
                    <a:cubicBezTo>
                      <a:pt x="8781" y="6"/>
                      <a:pt x="8780" y="5"/>
                      <a:pt x="8780" y="4"/>
                    </a:cubicBezTo>
                    <a:cubicBezTo>
                      <a:pt x="8780" y="3"/>
                      <a:pt x="8781" y="2"/>
                      <a:pt x="8782" y="2"/>
                    </a:cubicBezTo>
                    <a:close/>
                    <a:moveTo>
                      <a:pt x="8790" y="2"/>
                    </a:moveTo>
                    <a:lnTo>
                      <a:pt x="8790" y="2"/>
                    </a:lnTo>
                    <a:cubicBezTo>
                      <a:pt x="8791" y="2"/>
                      <a:pt x="8792" y="3"/>
                      <a:pt x="8792" y="4"/>
                    </a:cubicBezTo>
                    <a:cubicBezTo>
                      <a:pt x="8792" y="5"/>
                      <a:pt x="8791" y="6"/>
                      <a:pt x="8790" y="6"/>
                    </a:cubicBezTo>
                    <a:lnTo>
                      <a:pt x="8790" y="6"/>
                    </a:lnTo>
                    <a:cubicBezTo>
                      <a:pt x="8789" y="6"/>
                      <a:pt x="8788" y="5"/>
                      <a:pt x="8788" y="4"/>
                    </a:cubicBezTo>
                    <a:cubicBezTo>
                      <a:pt x="8788" y="3"/>
                      <a:pt x="8789" y="2"/>
                      <a:pt x="8790" y="2"/>
                    </a:cubicBezTo>
                    <a:close/>
                    <a:moveTo>
                      <a:pt x="8798" y="2"/>
                    </a:moveTo>
                    <a:lnTo>
                      <a:pt x="8798" y="2"/>
                    </a:lnTo>
                    <a:cubicBezTo>
                      <a:pt x="8799" y="2"/>
                      <a:pt x="8800" y="3"/>
                      <a:pt x="8800" y="4"/>
                    </a:cubicBezTo>
                    <a:cubicBezTo>
                      <a:pt x="8800" y="5"/>
                      <a:pt x="8799" y="6"/>
                      <a:pt x="8798" y="6"/>
                    </a:cubicBezTo>
                    <a:lnTo>
                      <a:pt x="8798" y="6"/>
                    </a:lnTo>
                    <a:cubicBezTo>
                      <a:pt x="8797" y="6"/>
                      <a:pt x="8796" y="5"/>
                      <a:pt x="8796" y="4"/>
                    </a:cubicBezTo>
                    <a:cubicBezTo>
                      <a:pt x="8796" y="3"/>
                      <a:pt x="8797" y="2"/>
                      <a:pt x="8798" y="2"/>
                    </a:cubicBezTo>
                    <a:close/>
                    <a:moveTo>
                      <a:pt x="8806" y="2"/>
                    </a:moveTo>
                    <a:lnTo>
                      <a:pt x="8806" y="2"/>
                    </a:lnTo>
                    <a:cubicBezTo>
                      <a:pt x="8807" y="2"/>
                      <a:pt x="8808" y="3"/>
                      <a:pt x="8808" y="4"/>
                    </a:cubicBezTo>
                    <a:cubicBezTo>
                      <a:pt x="8808" y="5"/>
                      <a:pt x="8807" y="6"/>
                      <a:pt x="8806" y="6"/>
                    </a:cubicBezTo>
                    <a:lnTo>
                      <a:pt x="8806" y="6"/>
                    </a:lnTo>
                    <a:cubicBezTo>
                      <a:pt x="8805" y="6"/>
                      <a:pt x="8804" y="5"/>
                      <a:pt x="8804" y="4"/>
                    </a:cubicBezTo>
                    <a:cubicBezTo>
                      <a:pt x="8804" y="3"/>
                      <a:pt x="8805" y="2"/>
                      <a:pt x="8806" y="2"/>
                    </a:cubicBezTo>
                    <a:close/>
                    <a:moveTo>
                      <a:pt x="8814" y="2"/>
                    </a:moveTo>
                    <a:lnTo>
                      <a:pt x="8814" y="2"/>
                    </a:lnTo>
                    <a:cubicBezTo>
                      <a:pt x="8815" y="2"/>
                      <a:pt x="8816" y="3"/>
                      <a:pt x="8816" y="4"/>
                    </a:cubicBezTo>
                    <a:cubicBezTo>
                      <a:pt x="8816" y="5"/>
                      <a:pt x="8815" y="6"/>
                      <a:pt x="8814" y="6"/>
                    </a:cubicBezTo>
                    <a:lnTo>
                      <a:pt x="8814" y="6"/>
                    </a:lnTo>
                    <a:cubicBezTo>
                      <a:pt x="8813" y="6"/>
                      <a:pt x="8812" y="5"/>
                      <a:pt x="8812" y="4"/>
                    </a:cubicBezTo>
                    <a:cubicBezTo>
                      <a:pt x="8812" y="3"/>
                      <a:pt x="8813" y="2"/>
                      <a:pt x="8814" y="2"/>
                    </a:cubicBezTo>
                    <a:close/>
                    <a:moveTo>
                      <a:pt x="8822" y="2"/>
                    </a:moveTo>
                    <a:lnTo>
                      <a:pt x="8822" y="2"/>
                    </a:lnTo>
                    <a:cubicBezTo>
                      <a:pt x="8823" y="2"/>
                      <a:pt x="8824" y="3"/>
                      <a:pt x="8824" y="4"/>
                    </a:cubicBezTo>
                    <a:cubicBezTo>
                      <a:pt x="8824" y="5"/>
                      <a:pt x="8823" y="6"/>
                      <a:pt x="8822" y="6"/>
                    </a:cubicBezTo>
                    <a:lnTo>
                      <a:pt x="8822" y="6"/>
                    </a:lnTo>
                    <a:cubicBezTo>
                      <a:pt x="8821" y="6"/>
                      <a:pt x="8820" y="5"/>
                      <a:pt x="8820" y="4"/>
                    </a:cubicBezTo>
                    <a:cubicBezTo>
                      <a:pt x="8820" y="3"/>
                      <a:pt x="8821" y="2"/>
                      <a:pt x="8822" y="2"/>
                    </a:cubicBezTo>
                    <a:close/>
                    <a:moveTo>
                      <a:pt x="8830" y="2"/>
                    </a:moveTo>
                    <a:lnTo>
                      <a:pt x="8830" y="2"/>
                    </a:lnTo>
                    <a:cubicBezTo>
                      <a:pt x="8831" y="2"/>
                      <a:pt x="8832" y="3"/>
                      <a:pt x="8832" y="4"/>
                    </a:cubicBezTo>
                    <a:cubicBezTo>
                      <a:pt x="8832" y="5"/>
                      <a:pt x="8831" y="6"/>
                      <a:pt x="8830" y="6"/>
                    </a:cubicBezTo>
                    <a:lnTo>
                      <a:pt x="8830" y="6"/>
                    </a:lnTo>
                    <a:cubicBezTo>
                      <a:pt x="8829" y="6"/>
                      <a:pt x="8828" y="5"/>
                      <a:pt x="8828" y="4"/>
                    </a:cubicBezTo>
                    <a:cubicBezTo>
                      <a:pt x="8828" y="3"/>
                      <a:pt x="8829" y="2"/>
                      <a:pt x="8830" y="2"/>
                    </a:cubicBezTo>
                    <a:close/>
                    <a:moveTo>
                      <a:pt x="8838" y="2"/>
                    </a:moveTo>
                    <a:lnTo>
                      <a:pt x="8838" y="2"/>
                    </a:lnTo>
                    <a:cubicBezTo>
                      <a:pt x="8839" y="2"/>
                      <a:pt x="8840" y="3"/>
                      <a:pt x="8840" y="4"/>
                    </a:cubicBezTo>
                    <a:cubicBezTo>
                      <a:pt x="8840" y="5"/>
                      <a:pt x="8839" y="6"/>
                      <a:pt x="8838" y="6"/>
                    </a:cubicBezTo>
                    <a:lnTo>
                      <a:pt x="8838" y="6"/>
                    </a:lnTo>
                    <a:cubicBezTo>
                      <a:pt x="8837" y="6"/>
                      <a:pt x="8836" y="5"/>
                      <a:pt x="8836" y="4"/>
                    </a:cubicBezTo>
                    <a:cubicBezTo>
                      <a:pt x="8836" y="3"/>
                      <a:pt x="8837" y="2"/>
                      <a:pt x="8838" y="2"/>
                    </a:cubicBezTo>
                    <a:close/>
                    <a:moveTo>
                      <a:pt x="8846" y="2"/>
                    </a:moveTo>
                    <a:lnTo>
                      <a:pt x="8846" y="2"/>
                    </a:lnTo>
                    <a:cubicBezTo>
                      <a:pt x="8847" y="2"/>
                      <a:pt x="8848" y="3"/>
                      <a:pt x="8848" y="4"/>
                    </a:cubicBezTo>
                    <a:cubicBezTo>
                      <a:pt x="8848" y="5"/>
                      <a:pt x="8847" y="6"/>
                      <a:pt x="8846" y="6"/>
                    </a:cubicBezTo>
                    <a:lnTo>
                      <a:pt x="8846" y="6"/>
                    </a:lnTo>
                    <a:cubicBezTo>
                      <a:pt x="8845" y="6"/>
                      <a:pt x="8844" y="5"/>
                      <a:pt x="8844" y="4"/>
                    </a:cubicBezTo>
                    <a:cubicBezTo>
                      <a:pt x="8844" y="3"/>
                      <a:pt x="8845" y="2"/>
                      <a:pt x="8846" y="2"/>
                    </a:cubicBezTo>
                    <a:close/>
                    <a:moveTo>
                      <a:pt x="8854" y="2"/>
                    </a:moveTo>
                    <a:lnTo>
                      <a:pt x="8854" y="2"/>
                    </a:lnTo>
                    <a:cubicBezTo>
                      <a:pt x="8855" y="2"/>
                      <a:pt x="8856" y="3"/>
                      <a:pt x="8856" y="4"/>
                    </a:cubicBezTo>
                    <a:cubicBezTo>
                      <a:pt x="8856" y="5"/>
                      <a:pt x="8855" y="6"/>
                      <a:pt x="8854" y="6"/>
                    </a:cubicBezTo>
                    <a:lnTo>
                      <a:pt x="8854" y="6"/>
                    </a:lnTo>
                    <a:cubicBezTo>
                      <a:pt x="8853" y="6"/>
                      <a:pt x="8852" y="5"/>
                      <a:pt x="8852" y="4"/>
                    </a:cubicBezTo>
                    <a:cubicBezTo>
                      <a:pt x="8852" y="3"/>
                      <a:pt x="8853" y="2"/>
                      <a:pt x="8854" y="2"/>
                    </a:cubicBezTo>
                    <a:close/>
                    <a:moveTo>
                      <a:pt x="8862" y="2"/>
                    </a:moveTo>
                    <a:lnTo>
                      <a:pt x="8862" y="2"/>
                    </a:lnTo>
                    <a:cubicBezTo>
                      <a:pt x="8863" y="2"/>
                      <a:pt x="8864" y="3"/>
                      <a:pt x="8864" y="4"/>
                    </a:cubicBezTo>
                    <a:cubicBezTo>
                      <a:pt x="8864" y="5"/>
                      <a:pt x="8863" y="6"/>
                      <a:pt x="8862" y="6"/>
                    </a:cubicBezTo>
                    <a:lnTo>
                      <a:pt x="8862" y="6"/>
                    </a:lnTo>
                    <a:cubicBezTo>
                      <a:pt x="8861" y="6"/>
                      <a:pt x="8860" y="5"/>
                      <a:pt x="8860" y="4"/>
                    </a:cubicBezTo>
                    <a:cubicBezTo>
                      <a:pt x="8860" y="3"/>
                      <a:pt x="8861" y="2"/>
                      <a:pt x="8862" y="2"/>
                    </a:cubicBezTo>
                    <a:close/>
                    <a:moveTo>
                      <a:pt x="8870" y="2"/>
                    </a:moveTo>
                    <a:lnTo>
                      <a:pt x="8870" y="2"/>
                    </a:lnTo>
                    <a:cubicBezTo>
                      <a:pt x="8871" y="2"/>
                      <a:pt x="8872" y="3"/>
                      <a:pt x="8872" y="4"/>
                    </a:cubicBezTo>
                    <a:cubicBezTo>
                      <a:pt x="8872" y="5"/>
                      <a:pt x="8871" y="6"/>
                      <a:pt x="8870" y="6"/>
                    </a:cubicBezTo>
                    <a:lnTo>
                      <a:pt x="8870" y="6"/>
                    </a:lnTo>
                    <a:cubicBezTo>
                      <a:pt x="8869" y="6"/>
                      <a:pt x="8868" y="5"/>
                      <a:pt x="8868" y="4"/>
                    </a:cubicBezTo>
                    <a:cubicBezTo>
                      <a:pt x="8868" y="3"/>
                      <a:pt x="8869" y="2"/>
                      <a:pt x="8870" y="2"/>
                    </a:cubicBezTo>
                    <a:close/>
                    <a:moveTo>
                      <a:pt x="8878" y="2"/>
                    </a:moveTo>
                    <a:lnTo>
                      <a:pt x="8878" y="2"/>
                    </a:lnTo>
                    <a:cubicBezTo>
                      <a:pt x="8879" y="2"/>
                      <a:pt x="8880" y="3"/>
                      <a:pt x="8880" y="4"/>
                    </a:cubicBezTo>
                    <a:cubicBezTo>
                      <a:pt x="8880" y="5"/>
                      <a:pt x="8879" y="6"/>
                      <a:pt x="8878" y="6"/>
                    </a:cubicBezTo>
                    <a:lnTo>
                      <a:pt x="8878" y="6"/>
                    </a:lnTo>
                    <a:cubicBezTo>
                      <a:pt x="8877" y="6"/>
                      <a:pt x="8876" y="5"/>
                      <a:pt x="8876" y="4"/>
                    </a:cubicBezTo>
                    <a:cubicBezTo>
                      <a:pt x="8876" y="3"/>
                      <a:pt x="8877" y="2"/>
                      <a:pt x="8878" y="2"/>
                    </a:cubicBezTo>
                    <a:close/>
                    <a:moveTo>
                      <a:pt x="8886" y="2"/>
                    </a:moveTo>
                    <a:lnTo>
                      <a:pt x="8886" y="2"/>
                    </a:lnTo>
                    <a:cubicBezTo>
                      <a:pt x="8887" y="2"/>
                      <a:pt x="8888" y="3"/>
                      <a:pt x="8888" y="4"/>
                    </a:cubicBezTo>
                    <a:cubicBezTo>
                      <a:pt x="8888" y="5"/>
                      <a:pt x="8887" y="6"/>
                      <a:pt x="8886" y="6"/>
                    </a:cubicBezTo>
                    <a:lnTo>
                      <a:pt x="8886" y="6"/>
                    </a:lnTo>
                    <a:cubicBezTo>
                      <a:pt x="8885" y="6"/>
                      <a:pt x="8884" y="5"/>
                      <a:pt x="8884" y="4"/>
                    </a:cubicBezTo>
                    <a:cubicBezTo>
                      <a:pt x="8884" y="3"/>
                      <a:pt x="8885" y="2"/>
                      <a:pt x="8886" y="2"/>
                    </a:cubicBezTo>
                    <a:close/>
                    <a:moveTo>
                      <a:pt x="8894" y="2"/>
                    </a:moveTo>
                    <a:lnTo>
                      <a:pt x="8894" y="2"/>
                    </a:lnTo>
                    <a:cubicBezTo>
                      <a:pt x="8895" y="2"/>
                      <a:pt x="8896" y="3"/>
                      <a:pt x="8896" y="4"/>
                    </a:cubicBezTo>
                    <a:cubicBezTo>
                      <a:pt x="8896" y="5"/>
                      <a:pt x="8895" y="6"/>
                      <a:pt x="8894" y="6"/>
                    </a:cubicBezTo>
                    <a:lnTo>
                      <a:pt x="8894" y="6"/>
                    </a:lnTo>
                    <a:cubicBezTo>
                      <a:pt x="8893" y="6"/>
                      <a:pt x="8892" y="5"/>
                      <a:pt x="8892" y="4"/>
                    </a:cubicBezTo>
                    <a:cubicBezTo>
                      <a:pt x="8892" y="3"/>
                      <a:pt x="8893" y="2"/>
                      <a:pt x="8894" y="2"/>
                    </a:cubicBezTo>
                    <a:close/>
                    <a:moveTo>
                      <a:pt x="8902" y="2"/>
                    </a:moveTo>
                    <a:lnTo>
                      <a:pt x="8902" y="2"/>
                    </a:lnTo>
                    <a:cubicBezTo>
                      <a:pt x="8903" y="2"/>
                      <a:pt x="8904" y="3"/>
                      <a:pt x="8904" y="4"/>
                    </a:cubicBezTo>
                    <a:cubicBezTo>
                      <a:pt x="8904" y="5"/>
                      <a:pt x="8903" y="6"/>
                      <a:pt x="8902" y="6"/>
                    </a:cubicBezTo>
                    <a:lnTo>
                      <a:pt x="8902" y="6"/>
                    </a:lnTo>
                    <a:cubicBezTo>
                      <a:pt x="8901" y="6"/>
                      <a:pt x="8900" y="5"/>
                      <a:pt x="8900" y="4"/>
                    </a:cubicBezTo>
                    <a:cubicBezTo>
                      <a:pt x="8900" y="3"/>
                      <a:pt x="8901" y="2"/>
                      <a:pt x="8902" y="2"/>
                    </a:cubicBezTo>
                    <a:close/>
                    <a:moveTo>
                      <a:pt x="8910" y="2"/>
                    </a:moveTo>
                    <a:lnTo>
                      <a:pt x="8910" y="2"/>
                    </a:lnTo>
                    <a:cubicBezTo>
                      <a:pt x="8911" y="2"/>
                      <a:pt x="8912" y="3"/>
                      <a:pt x="8912" y="4"/>
                    </a:cubicBezTo>
                    <a:cubicBezTo>
                      <a:pt x="8912" y="5"/>
                      <a:pt x="8911" y="6"/>
                      <a:pt x="8910" y="6"/>
                    </a:cubicBezTo>
                    <a:lnTo>
                      <a:pt x="8910" y="6"/>
                    </a:lnTo>
                    <a:cubicBezTo>
                      <a:pt x="8909" y="6"/>
                      <a:pt x="8908" y="5"/>
                      <a:pt x="8908" y="4"/>
                    </a:cubicBezTo>
                    <a:cubicBezTo>
                      <a:pt x="8908" y="3"/>
                      <a:pt x="8909" y="2"/>
                      <a:pt x="8910" y="2"/>
                    </a:cubicBezTo>
                    <a:close/>
                    <a:moveTo>
                      <a:pt x="8918" y="2"/>
                    </a:moveTo>
                    <a:lnTo>
                      <a:pt x="8918" y="2"/>
                    </a:lnTo>
                    <a:cubicBezTo>
                      <a:pt x="8919" y="2"/>
                      <a:pt x="8920" y="3"/>
                      <a:pt x="8920" y="4"/>
                    </a:cubicBezTo>
                    <a:cubicBezTo>
                      <a:pt x="8920" y="5"/>
                      <a:pt x="8919" y="6"/>
                      <a:pt x="8918" y="6"/>
                    </a:cubicBezTo>
                    <a:lnTo>
                      <a:pt x="8918" y="6"/>
                    </a:lnTo>
                    <a:cubicBezTo>
                      <a:pt x="8917" y="6"/>
                      <a:pt x="8916" y="5"/>
                      <a:pt x="8916" y="4"/>
                    </a:cubicBezTo>
                    <a:cubicBezTo>
                      <a:pt x="8916" y="3"/>
                      <a:pt x="8917" y="2"/>
                      <a:pt x="8918" y="2"/>
                    </a:cubicBezTo>
                    <a:close/>
                    <a:moveTo>
                      <a:pt x="8926" y="2"/>
                    </a:moveTo>
                    <a:lnTo>
                      <a:pt x="8926" y="2"/>
                    </a:lnTo>
                    <a:cubicBezTo>
                      <a:pt x="8927" y="2"/>
                      <a:pt x="8928" y="3"/>
                      <a:pt x="8928" y="4"/>
                    </a:cubicBezTo>
                    <a:cubicBezTo>
                      <a:pt x="8928" y="5"/>
                      <a:pt x="8927" y="6"/>
                      <a:pt x="8926" y="6"/>
                    </a:cubicBezTo>
                    <a:lnTo>
                      <a:pt x="8926" y="6"/>
                    </a:lnTo>
                    <a:cubicBezTo>
                      <a:pt x="8925" y="6"/>
                      <a:pt x="8924" y="5"/>
                      <a:pt x="8924" y="4"/>
                    </a:cubicBezTo>
                    <a:cubicBezTo>
                      <a:pt x="8924" y="3"/>
                      <a:pt x="8925" y="2"/>
                      <a:pt x="8926" y="2"/>
                    </a:cubicBezTo>
                    <a:close/>
                    <a:moveTo>
                      <a:pt x="8934" y="2"/>
                    </a:moveTo>
                    <a:lnTo>
                      <a:pt x="8934" y="2"/>
                    </a:lnTo>
                    <a:cubicBezTo>
                      <a:pt x="8935" y="2"/>
                      <a:pt x="8936" y="3"/>
                      <a:pt x="8936" y="4"/>
                    </a:cubicBezTo>
                    <a:cubicBezTo>
                      <a:pt x="8936" y="5"/>
                      <a:pt x="8935" y="6"/>
                      <a:pt x="8934" y="6"/>
                    </a:cubicBezTo>
                    <a:lnTo>
                      <a:pt x="8934" y="6"/>
                    </a:lnTo>
                    <a:cubicBezTo>
                      <a:pt x="8933" y="6"/>
                      <a:pt x="8932" y="5"/>
                      <a:pt x="8932" y="4"/>
                    </a:cubicBezTo>
                    <a:cubicBezTo>
                      <a:pt x="8932" y="3"/>
                      <a:pt x="8933" y="2"/>
                      <a:pt x="8934" y="2"/>
                    </a:cubicBezTo>
                    <a:close/>
                    <a:moveTo>
                      <a:pt x="8942" y="2"/>
                    </a:moveTo>
                    <a:lnTo>
                      <a:pt x="8942" y="2"/>
                    </a:lnTo>
                    <a:cubicBezTo>
                      <a:pt x="8943" y="2"/>
                      <a:pt x="8944" y="3"/>
                      <a:pt x="8944" y="4"/>
                    </a:cubicBezTo>
                    <a:cubicBezTo>
                      <a:pt x="8944" y="5"/>
                      <a:pt x="8943" y="6"/>
                      <a:pt x="8942" y="6"/>
                    </a:cubicBezTo>
                    <a:lnTo>
                      <a:pt x="8942" y="6"/>
                    </a:lnTo>
                    <a:cubicBezTo>
                      <a:pt x="8941" y="6"/>
                      <a:pt x="8940" y="5"/>
                      <a:pt x="8940" y="4"/>
                    </a:cubicBezTo>
                    <a:cubicBezTo>
                      <a:pt x="8940" y="3"/>
                      <a:pt x="8941" y="2"/>
                      <a:pt x="8942" y="2"/>
                    </a:cubicBezTo>
                    <a:close/>
                    <a:moveTo>
                      <a:pt x="8950" y="2"/>
                    </a:moveTo>
                    <a:lnTo>
                      <a:pt x="8950" y="2"/>
                    </a:lnTo>
                    <a:cubicBezTo>
                      <a:pt x="8951" y="2"/>
                      <a:pt x="8952" y="3"/>
                      <a:pt x="8952" y="4"/>
                    </a:cubicBezTo>
                    <a:cubicBezTo>
                      <a:pt x="8952" y="5"/>
                      <a:pt x="8951" y="6"/>
                      <a:pt x="8950" y="6"/>
                    </a:cubicBezTo>
                    <a:lnTo>
                      <a:pt x="8950" y="6"/>
                    </a:lnTo>
                    <a:cubicBezTo>
                      <a:pt x="8949" y="6"/>
                      <a:pt x="8948" y="5"/>
                      <a:pt x="8948" y="4"/>
                    </a:cubicBezTo>
                    <a:cubicBezTo>
                      <a:pt x="8948" y="3"/>
                      <a:pt x="8949" y="2"/>
                      <a:pt x="8950" y="2"/>
                    </a:cubicBezTo>
                    <a:close/>
                    <a:moveTo>
                      <a:pt x="8958" y="2"/>
                    </a:moveTo>
                    <a:lnTo>
                      <a:pt x="8958" y="2"/>
                    </a:lnTo>
                    <a:cubicBezTo>
                      <a:pt x="8959" y="2"/>
                      <a:pt x="8960" y="3"/>
                      <a:pt x="8960" y="4"/>
                    </a:cubicBezTo>
                    <a:cubicBezTo>
                      <a:pt x="8960" y="5"/>
                      <a:pt x="8959" y="6"/>
                      <a:pt x="8958" y="6"/>
                    </a:cubicBezTo>
                    <a:lnTo>
                      <a:pt x="8958" y="6"/>
                    </a:lnTo>
                    <a:cubicBezTo>
                      <a:pt x="8957" y="6"/>
                      <a:pt x="8956" y="5"/>
                      <a:pt x="8956" y="4"/>
                    </a:cubicBezTo>
                    <a:cubicBezTo>
                      <a:pt x="8956" y="3"/>
                      <a:pt x="8957" y="2"/>
                      <a:pt x="8958" y="2"/>
                    </a:cubicBezTo>
                    <a:close/>
                    <a:moveTo>
                      <a:pt x="8966" y="2"/>
                    </a:moveTo>
                    <a:lnTo>
                      <a:pt x="8966" y="2"/>
                    </a:lnTo>
                    <a:cubicBezTo>
                      <a:pt x="8967" y="2"/>
                      <a:pt x="8968" y="3"/>
                      <a:pt x="8968" y="4"/>
                    </a:cubicBezTo>
                    <a:cubicBezTo>
                      <a:pt x="8968" y="5"/>
                      <a:pt x="8967" y="6"/>
                      <a:pt x="8966" y="6"/>
                    </a:cubicBezTo>
                    <a:lnTo>
                      <a:pt x="8966" y="6"/>
                    </a:lnTo>
                    <a:cubicBezTo>
                      <a:pt x="8965" y="6"/>
                      <a:pt x="8964" y="5"/>
                      <a:pt x="8964" y="4"/>
                    </a:cubicBezTo>
                    <a:cubicBezTo>
                      <a:pt x="8964" y="3"/>
                      <a:pt x="8965" y="2"/>
                      <a:pt x="8966" y="2"/>
                    </a:cubicBezTo>
                    <a:close/>
                    <a:moveTo>
                      <a:pt x="8974" y="2"/>
                    </a:moveTo>
                    <a:lnTo>
                      <a:pt x="8974" y="2"/>
                    </a:lnTo>
                    <a:cubicBezTo>
                      <a:pt x="8975" y="2"/>
                      <a:pt x="8976" y="3"/>
                      <a:pt x="8976" y="4"/>
                    </a:cubicBezTo>
                    <a:cubicBezTo>
                      <a:pt x="8976" y="5"/>
                      <a:pt x="8975" y="6"/>
                      <a:pt x="8974" y="6"/>
                    </a:cubicBezTo>
                    <a:lnTo>
                      <a:pt x="8974" y="6"/>
                    </a:lnTo>
                    <a:cubicBezTo>
                      <a:pt x="8973" y="6"/>
                      <a:pt x="8972" y="5"/>
                      <a:pt x="8972" y="4"/>
                    </a:cubicBezTo>
                    <a:cubicBezTo>
                      <a:pt x="8972" y="3"/>
                      <a:pt x="8973" y="2"/>
                      <a:pt x="8974" y="2"/>
                    </a:cubicBezTo>
                    <a:close/>
                    <a:moveTo>
                      <a:pt x="8982" y="2"/>
                    </a:moveTo>
                    <a:lnTo>
                      <a:pt x="8982" y="2"/>
                    </a:lnTo>
                    <a:cubicBezTo>
                      <a:pt x="8983" y="2"/>
                      <a:pt x="8984" y="3"/>
                      <a:pt x="8984" y="4"/>
                    </a:cubicBezTo>
                    <a:cubicBezTo>
                      <a:pt x="8984" y="5"/>
                      <a:pt x="8983" y="6"/>
                      <a:pt x="8982" y="6"/>
                    </a:cubicBezTo>
                    <a:lnTo>
                      <a:pt x="8982" y="6"/>
                    </a:lnTo>
                    <a:cubicBezTo>
                      <a:pt x="8981" y="6"/>
                      <a:pt x="8980" y="5"/>
                      <a:pt x="8980" y="4"/>
                    </a:cubicBezTo>
                    <a:cubicBezTo>
                      <a:pt x="8980" y="3"/>
                      <a:pt x="8981" y="2"/>
                      <a:pt x="8982" y="2"/>
                    </a:cubicBezTo>
                    <a:close/>
                    <a:moveTo>
                      <a:pt x="8990" y="2"/>
                    </a:moveTo>
                    <a:lnTo>
                      <a:pt x="8990" y="2"/>
                    </a:lnTo>
                    <a:cubicBezTo>
                      <a:pt x="8991" y="2"/>
                      <a:pt x="8992" y="3"/>
                      <a:pt x="8992" y="4"/>
                    </a:cubicBezTo>
                    <a:cubicBezTo>
                      <a:pt x="8992" y="5"/>
                      <a:pt x="8991" y="6"/>
                      <a:pt x="8990" y="6"/>
                    </a:cubicBezTo>
                    <a:lnTo>
                      <a:pt x="8990" y="6"/>
                    </a:lnTo>
                    <a:cubicBezTo>
                      <a:pt x="8989" y="6"/>
                      <a:pt x="8988" y="5"/>
                      <a:pt x="8988" y="4"/>
                    </a:cubicBezTo>
                    <a:cubicBezTo>
                      <a:pt x="8988" y="3"/>
                      <a:pt x="8989" y="2"/>
                      <a:pt x="8990" y="2"/>
                    </a:cubicBezTo>
                    <a:close/>
                    <a:moveTo>
                      <a:pt x="8998" y="2"/>
                    </a:moveTo>
                    <a:lnTo>
                      <a:pt x="8998" y="2"/>
                    </a:lnTo>
                    <a:cubicBezTo>
                      <a:pt x="8999" y="2"/>
                      <a:pt x="9000" y="3"/>
                      <a:pt x="9000" y="4"/>
                    </a:cubicBezTo>
                    <a:cubicBezTo>
                      <a:pt x="9000" y="5"/>
                      <a:pt x="8999" y="6"/>
                      <a:pt x="8998" y="6"/>
                    </a:cubicBezTo>
                    <a:lnTo>
                      <a:pt x="8998" y="6"/>
                    </a:lnTo>
                    <a:cubicBezTo>
                      <a:pt x="8997" y="6"/>
                      <a:pt x="8996" y="5"/>
                      <a:pt x="8996" y="4"/>
                    </a:cubicBezTo>
                    <a:cubicBezTo>
                      <a:pt x="8996" y="3"/>
                      <a:pt x="8997" y="2"/>
                      <a:pt x="8998" y="2"/>
                    </a:cubicBezTo>
                    <a:close/>
                    <a:moveTo>
                      <a:pt x="9006" y="2"/>
                    </a:moveTo>
                    <a:lnTo>
                      <a:pt x="9006" y="2"/>
                    </a:lnTo>
                    <a:cubicBezTo>
                      <a:pt x="9007" y="2"/>
                      <a:pt x="9008" y="3"/>
                      <a:pt x="9008" y="4"/>
                    </a:cubicBezTo>
                    <a:cubicBezTo>
                      <a:pt x="9008" y="5"/>
                      <a:pt x="9007" y="6"/>
                      <a:pt x="9006" y="6"/>
                    </a:cubicBezTo>
                    <a:lnTo>
                      <a:pt x="9006" y="6"/>
                    </a:lnTo>
                    <a:cubicBezTo>
                      <a:pt x="9005" y="6"/>
                      <a:pt x="9004" y="5"/>
                      <a:pt x="9004" y="4"/>
                    </a:cubicBezTo>
                    <a:cubicBezTo>
                      <a:pt x="9004" y="3"/>
                      <a:pt x="9005" y="2"/>
                      <a:pt x="9006" y="2"/>
                    </a:cubicBezTo>
                    <a:close/>
                    <a:moveTo>
                      <a:pt x="9014" y="2"/>
                    </a:moveTo>
                    <a:lnTo>
                      <a:pt x="9014" y="2"/>
                    </a:lnTo>
                    <a:cubicBezTo>
                      <a:pt x="9015" y="2"/>
                      <a:pt x="9016" y="3"/>
                      <a:pt x="9016" y="4"/>
                    </a:cubicBezTo>
                    <a:cubicBezTo>
                      <a:pt x="9016" y="5"/>
                      <a:pt x="9015" y="6"/>
                      <a:pt x="9014" y="6"/>
                    </a:cubicBezTo>
                    <a:lnTo>
                      <a:pt x="9014" y="6"/>
                    </a:lnTo>
                    <a:cubicBezTo>
                      <a:pt x="9013" y="6"/>
                      <a:pt x="9012" y="5"/>
                      <a:pt x="9012" y="4"/>
                    </a:cubicBezTo>
                    <a:cubicBezTo>
                      <a:pt x="9012" y="3"/>
                      <a:pt x="9013" y="2"/>
                      <a:pt x="9014" y="2"/>
                    </a:cubicBezTo>
                    <a:close/>
                    <a:moveTo>
                      <a:pt x="9022" y="2"/>
                    </a:moveTo>
                    <a:lnTo>
                      <a:pt x="9022" y="2"/>
                    </a:lnTo>
                    <a:cubicBezTo>
                      <a:pt x="9023" y="2"/>
                      <a:pt x="9024" y="3"/>
                      <a:pt x="9024" y="4"/>
                    </a:cubicBezTo>
                    <a:cubicBezTo>
                      <a:pt x="9024" y="5"/>
                      <a:pt x="9023" y="6"/>
                      <a:pt x="9022" y="6"/>
                    </a:cubicBezTo>
                    <a:lnTo>
                      <a:pt x="9022" y="6"/>
                    </a:lnTo>
                    <a:cubicBezTo>
                      <a:pt x="9021" y="6"/>
                      <a:pt x="9020" y="5"/>
                      <a:pt x="9020" y="4"/>
                    </a:cubicBezTo>
                    <a:cubicBezTo>
                      <a:pt x="9020" y="3"/>
                      <a:pt x="9021" y="2"/>
                      <a:pt x="9022" y="2"/>
                    </a:cubicBezTo>
                    <a:close/>
                    <a:moveTo>
                      <a:pt x="9030" y="2"/>
                    </a:moveTo>
                    <a:lnTo>
                      <a:pt x="9030" y="2"/>
                    </a:lnTo>
                    <a:cubicBezTo>
                      <a:pt x="9031" y="2"/>
                      <a:pt x="9032" y="3"/>
                      <a:pt x="9032" y="4"/>
                    </a:cubicBezTo>
                    <a:cubicBezTo>
                      <a:pt x="9032" y="5"/>
                      <a:pt x="9031" y="6"/>
                      <a:pt x="9030" y="6"/>
                    </a:cubicBezTo>
                    <a:lnTo>
                      <a:pt x="9030" y="6"/>
                    </a:lnTo>
                    <a:cubicBezTo>
                      <a:pt x="9029" y="6"/>
                      <a:pt x="9028" y="5"/>
                      <a:pt x="9028" y="4"/>
                    </a:cubicBezTo>
                    <a:cubicBezTo>
                      <a:pt x="9028" y="3"/>
                      <a:pt x="9029" y="2"/>
                      <a:pt x="9030" y="2"/>
                    </a:cubicBezTo>
                    <a:close/>
                    <a:moveTo>
                      <a:pt x="9038" y="2"/>
                    </a:moveTo>
                    <a:lnTo>
                      <a:pt x="9038" y="2"/>
                    </a:lnTo>
                    <a:cubicBezTo>
                      <a:pt x="9039" y="2"/>
                      <a:pt x="9040" y="3"/>
                      <a:pt x="9040" y="4"/>
                    </a:cubicBezTo>
                    <a:cubicBezTo>
                      <a:pt x="9040" y="5"/>
                      <a:pt x="9039" y="6"/>
                      <a:pt x="9038" y="6"/>
                    </a:cubicBezTo>
                    <a:lnTo>
                      <a:pt x="9038" y="6"/>
                    </a:lnTo>
                    <a:cubicBezTo>
                      <a:pt x="9037" y="6"/>
                      <a:pt x="9036" y="5"/>
                      <a:pt x="9036" y="4"/>
                    </a:cubicBezTo>
                    <a:cubicBezTo>
                      <a:pt x="9036" y="3"/>
                      <a:pt x="9037" y="2"/>
                      <a:pt x="9038" y="2"/>
                    </a:cubicBezTo>
                    <a:close/>
                    <a:moveTo>
                      <a:pt x="9046" y="2"/>
                    </a:moveTo>
                    <a:lnTo>
                      <a:pt x="9046" y="2"/>
                    </a:lnTo>
                    <a:cubicBezTo>
                      <a:pt x="9047" y="2"/>
                      <a:pt x="9048" y="3"/>
                      <a:pt x="9048" y="4"/>
                    </a:cubicBezTo>
                    <a:cubicBezTo>
                      <a:pt x="9048" y="5"/>
                      <a:pt x="9047" y="6"/>
                      <a:pt x="9046" y="6"/>
                    </a:cubicBezTo>
                    <a:lnTo>
                      <a:pt x="9046" y="6"/>
                    </a:lnTo>
                    <a:cubicBezTo>
                      <a:pt x="9045" y="6"/>
                      <a:pt x="9044" y="5"/>
                      <a:pt x="9044" y="4"/>
                    </a:cubicBezTo>
                    <a:cubicBezTo>
                      <a:pt x="9044" y="3"/>
                      <a:pt x="9045" y="2"/>
                      <a:pt x="9046" y="2"/>
                    </a:cubicBezTo>
                    <a:close/>
                    <a:moveTo>
                      <a:pt x="9054" y="2"/>
                    </a:moveTo>
                    <a:lnTo>
                      <a:pt x="9054" y="2"/>
                    </a:lnTo>
                    <a:cubicBezTo>
                      <a:pt x="9055" y="2"/>
                      <a:pt x="9056" y="3"/>
                      <a:pt x="9056" y="4"/>
                    </a:cubicBezTo>
                    <a:cubicBezTo>
                      <a:pt x="9056" y="5"/>
                      <a:pt x="9055" y="6"/>
                      <a:pt x="9054" y="6"/>
                    </a:cubicBezTo>
                    <a:lnTo>
                      <a:pt x="9054" y="6"/>
                    </a:lnTo>
                    <a:cubicBezTo>
                      <a:pt x="9053" y="6"/>
                      <a:pt x="9052" y="5"/>
                      <a:pt x="9052" y="4"/>
                    </a:cubicBezTo>
                    <a:cubicBezTo>
                      <a:pt x="9052" y="3"/>
                      <a:pt x="9053" y="2"/>
                      <a:pt x="9054" y="2"/>
                    </a:cubicBezTo>
                    <a:close/>
                    <a:moveTo>
                      <a:pt x="9062" y="2"/>
                    </a:moveTo>
                    <a:lnTo>
                      <a:pt x="9062" y="2"/>
                    </a:lnTo>
                    <a:cubicBezTo>
                      <a:pt x="9063" y="2"/>
                      <a:pt x="9064" y="3"/>
                      <a:pt x="9064" y="4"/>
                    </a:cubicBezTo>
                    <a:cubicBezTo>
                      <a:pt x="9064" y="5"/>
                      <a:pt x="9063" y="6"/>
                      <a:pt x="9062" y="6"/>
                    </a:cubicBezTo>
                    <a:lnTo>
                      <a:pt x="9062" y="6"/>
                    </a:lnTo>
                    <a:cubicBezTo>
                      <a:pt x="9061" y="6"/>
                      <a:pt x="9060" y="5"/>
                      <a:pt x="9060" y="4"/>
                    </a:cubicBezTo>
                    <a:cubicBezTo>
                      <a:pt x="9060" y="3"/>
                      <a:pt x="9061" y="2"/>
                      <a:pt x="9062" y="2"/>
                    </a:cubicBezTo>
                    <a:close/>
                    <a:moveTo>
                      <a:pt x="9070" y="2"/>
                    </a:moveTo>
                    <a:lnTo>
                      <a:pt x="9070" y="2"/>
                    </a:lnTo>
                    <a:cubicBezTo>
                      <a:pt x="9071" y="2"/>
                      <a:pt x="9072" y="3"/>
                      <a:pt x="9072" y="4"/>
                    </a:cubicBezTo>
                    <a:cubicBezTo>
                      <a:pt x="9072" y="5"/>
                      <a:pt x="9071" y="6"/>
                      <a:pt x="9070" y="6"/>
                    </a:cubicBezTo>
                    <a:lnTo>
                      <a:pt x="9070" y="6"/>
                    </a:lnTo>
                    <a:cubicBezTo>
                      <a:pt x="9069" y="6"/>
                      <a:pt x="9068" y="5"/>
                      <a:pt x="9068" y="4"/>
                    </a:cubicBezTo>
                    <a:cubicBezTo>
                      <a:pt x="9068" y="3"/>
                      <a:pt x="9069" y="2"/>
                      <a:pt x="9070" y="2"/>
                    </a:cubicBezTo>
                    <a:close/>
                    <a:moveTo>
                      <a:pt x="9078" y="2"/>
                    </a:moveTo>
                    <a:lnTo>
                      <a:pt x="9078" y="2"/>
                    </a:lnTo>
                    <a:cubicBezTo>
                      <a:pt x="9079" y="2"/>
                      <a:pt x="9080" y="3"/>
                      <a:pt x="9080" y="4"/>
                    </a:cubicBezTo>
                    <a:cubicBezTo>
                      <a:pt x="9080" y="5"/>
                      <a:pt x="9079" y="6"/>
                      <a:pt x="9078" y="6"/>
                    </a:cubicBezTo>
                    <a:lnTo>
                      <a:pt x="9078" y="6"/>
                    </a:lnTo>
                    <a:cubicBezTo>
                      <a:pt x="9077" y="6"/>
                      <a:pt x="9076" y="5"/>
                      <a:pt x="9076" y="4"/>
                    </a:cubicBezTo>
                    <a:cubicBezTo>
                      <a:pt x="9076" y="3"/>
                      <a:pt x="9077" y="2"/>
                      <a:pt x="9078" y="2"/>
                    </a:cubicBezTo>
                    <a:close/>
                    <a:moveTo>
                      <a:pt x="9086" y="2"/>
                    </a:moveTo>
                    <a:lnTo>
                      <a:pt x="9086" y="2"/>
                    </a:lnTo>
                    <a:cubicBezTo>
                      <a:pt x="9087" y="2"/>
                      <a:pt x="9088" y="3"/>
                      <a:pt x="9088" y="4"/>
                    </a:cubicBezTo>
                    <a:cubicBezTo>
                      <a:pt x="9088" y="5"/>
                      <a:pt x="9087" y="6"/>
                      <a:pt x="9086" y="6"/>
                    </a:cubicBezTo>
                    <a:lnTo>
                      <a:pt x="9086" y="6"/>
                    </a:lnTo>
                    <a:cubicBezTo>
                      <a:pt x="9085" y="6"/>
                      <a:pt x="9084" y="5"/>
                      <a:pt x="9084" y="4"/>
                    </a:cubicBezTo>
                    <a:cubicBezTo>
                      <a:pt x="9084" y="3"/>
                      <a:pt x="9085" y="2"/>
                      <a:pt x="9086" y="2"/>
                    </a:cubicBezTo>
                    <a:close/>
                    <a:moveTo>
                      <a:pt x="9094" y="2"/>
                    </a:moveTo>
                    <a:lnTo>
                      <a:pt x="9094" y="2"/>
                    </a:lnTo>
                    <a:cubicBezTo>
                      <a:pt x="9095" y="2"/>
                      <a:pt x="9096" y="3"/>
                      <a:pt x="9096" y="4"/>
                    </a:cubicBezTo>
                    <a:cubicBezTo>
                      <a:pt x="9096" y="5"/>
                      <a:pt x="9095" y="6"/>
                      <a:pt x="9094" y="6"/>
                    </a:cubicBezTo>
                    <a:lnTo>
                      <a:pt x="9094" y="6"/>
                    </a:lnTo>
                    <a:cubicBezTo>
                      <a:pt x="9093" y="6"/>
                      <a:pt x="9092" y="5"/>
                      <a:pt x="9092" y="4"/>
                    </a:cubicBezTo>
                    <a:cubicBezTo>
                      <a:pt x="9092" y="3"/>
                      <a:pt x="9093" y="2"/>
                      <a:pt x="9094" y="2"/>
                    </a:cubicBezTo>
                    <a:close/>
                    <a:moveTo>
                      <a:pt x="9102" y="2"/>
                    </a:moveTo>
                    <a:lnTo>
                      <a:pt x="9102" y="2"/>
                    </a:lnTo>
                    <a:cubicBezTo>
                      <a:pt x="9103" y="2"/>
                      <a:pt x="9104" y="3"/>
                      <a:pt x="9104" y="4"/>
                    </a:cubicBezTo>
                    <a:cubicBezTo>
                      <a:pt x="9104" y="5"/>
                      <a:pt x="9103" y="6"/>
                      <a:pt x="9102" y="6"/>
                    </a:cubicBezTo>
                    <a:lnTo>
                      <a:pt x="9102" y="6"/>
                    </a:lnTo>
                    <a:cubicBezTo>
                      <a:pt x="9101" y="6"/>
                      <a:pt x="9100" y="5"/>
                      <a:pt x="9100" y="4"/>
                    </a:cubicBezTo>
                    <a:cubicBezTo>
                      <a:pt x="9100" y="3"/>
                      <a:pt x="9101" y="2"/>
                      <a:pt x="9102" y="2"/>
                    </a:cubicBezTo>
                    <a:close/>
                    <a:moveTo>
                      <a:pt x="9110" y="2"/>
                    </a:moveTo>
                    <a:lnTo>
                      <a:pt x="9110" y="2"/>
                    </a:lnTo>
                    <a:cubicBezTo>
                      <a:pt x="9111" y="2"/>
                      <a:pt x="9112" y="3"/>
                      <a:pt x="9112" y="4"/>
                    </a:cubicBezTo>
                    <a:cubicBezTo>
                      <a:pt x="9112" y="5"/>
                      <a:pt x="9111" y="6"/>
                      <a:pt x="9110" y="6"/>
                    </a:cubicBezTo>
                    <a:lnTo>
                      <a:pt x="9110" y="6"/>
                    </a:lnTo>
                    <a:cubicBezTo>
                      <a:pt x="9109" y="6"/>
                      <a:pt x="9108" y="5"/>
                      <a:pt x="9108" y="4"/>
                    </a:cubicBezTo>
                    <a:cubicBezTo>
                      <a:pt x="9108" y="3"/>
                      <a:pt x="9109" y="2"/>
                      <a:pt x="9110" y="2"/>
                    </a:cubicBezTo>
                    <a:close/>
                    <a:moveTo>
                      <a:pt x="9118" y="2"/>
                    </a:moveTo>
                    <a:lnTo>
                      <a:pt x="9118" y="2"/>
                    </a:lnTo>
                    <a:cubicBezTo>
                      <a:pt x="9119" y="2"/>
                      <a:pt x="9120" y="3"/>
                      <a:pt x="9120" y="4"/>
                    </a:cubicBezTo>
                    <a:cubicBezTo>
                      <a:pt x="9120" y="5"/>
                      <a:pt x="9119" y="6"/>
                      <a:pt x="9118" y="6"/>
                    </a:cubicBezTo>
                    <a:lnTo>
                      <a:pt x="9118" y="6"/>
                    </a:lnTo>
                    <a:cubicBezTo>
                      <a:pt x="9117" y="6"/>
                      <a:pt x="9116" y="5"/>
                      <a:pt x="9116" y="4"/>
                    </a:cubicBezTo>
                    <a:cubicBezTo>
                      <a:pt x="9116" y="3"/>
                      <a:pt x="9117" y="2"/>
                      <a:pt x="9118" y="2"/>
                    </a:cubicBezTo>
                    <a:close/>
                    <a:moveTo>
                      <a:pt x="9126" y="2"/>
                    </a:moveTo>
                    <a:lnTo>
                      <a:pt x="9126" y="2"/>
                    </a:lnTo>
                    <a:cubicBezTo>
                      <a:pt x="9127" y="2"/>
                      <a:pt x="9128" y="3"/>
                      <a:pt x="9128" y="4"/>
                    </a:cubicBezTo>
                    <a:cubicBezTo>
                      <a:pt x="9128" y="5"/>
                      <a:pt x="9127" y="6"/>
                      <a:pt x="9126" y="6"/>
                    </a:cubicBezTo>
                    <a:lnTo>
                      <a:pt x="9126" y="6"/>
                    </a:lnTo>
                    <a:cubicBezTo>
                      <a:pt x="9125" y="6"/>
                      <a:pt x="9124" y="5"/>
                      <a:pt x="9124" y="4"/>
                    </a:cubicBezTo>
                    <a:cubicBezTo>
                      <a:pt x="9124" y="3"/>
                      <a:pt x="9125" y="2"/>
                      <a:pt x="9126" y="2"/>
                    </a:cubicBezTo>
                    <a:close/>
                    <a:moveTo>
                      <a:pt x="9134" y="2"/>
                    </a:moveTo>
                    <a:lnTo>
                      <a:pt x="9134" y="2"/>
                    </a:lnTo>
                    <a:cubicBezTo>
                      <a:pt x="9135" y="2"/>
                      <a:pt x="9136" y="3"/>
                      <a:pt x="9136" y="4"/>
                    </a:cubicBezTo>
                    <a:cubicBezTo>
                      <a:pt x="9136" y="5"/>
                      <a:pt x="9135" y="6"/>
                      <a:pt x="9134" y="6"/>
                    </a:cubicBezTo>
                    <a:lnTo>
                      <a:pt x="9134" y="6"/>
                    </a:lnTo>
                    <a:cubicBezTo>
                      <a:pt x="9133" y="6"/>
                      <a:pt x="9132" y="5"/>
                      <a:pt x="9132" y="4"/>
                    </a:cubicBezTo>
                    <a:cubicBezTo>
                      <a:pt x="9132" y="3"/>
                      <a:pt x="9133" y="2"/>
                      <a:pt x="9134" y="2"/>
                    </a:cubicBezTo>
                    <a:close/>
                    <a:moveTo>
                      <a:pt x="9142" y="2"/>
                    </a:moveTo>
                    <a:lnTo>
                      <a:pt x="9142" y="2"/>
                    </a:lnTo>
                    <a:cubicBezTo>
                      <a:pt x="9143" y="2"/>
                      <a:pt x="9144" y="3"/>
                      <a:pt x="9144" y="4"/>
                    </a:cubicBezTo>
                    <a:cubicBezTo>
                      <a:pt x="9144" y="5"/>
                      <a:pt x="9143" y="6"/>
                      <a:pt x="9142" y="6"/>
                    </a:cubicBezTo>
                    <a:lnTo>
                      <a:pt x="9142" y="6"/>
                    </a:lnTo>
                    <a:cubicBezTo>
                      <a:pt x="9141" y="6"/>
                      <a:pt x="9140" y="5"/>
                      <a:pt x="9140" y="4"/>
                    </a:cubicBezTo>
                    <a:cubicBezTo>
                      <a:pt x="9140" y="3"/>
                      <a:pt x="9141" y="2"/>
                      <a:pt x="9142" y="2"/>
                    </a:cubicBezTo>
                    <a:close/>
                    <a:moveTo>
                      <a:pt x="9150" y="2"/>
                    </a:moveTo>
                    <a:lnTo>
                      <a:pt x="9150" y="2"/>
                    </a:lnTo>
                    <a:cubicBezTo>
                      <a:pt x="9152" y="2"/>
                      <a:pt x="9152" y="3"/>
                      <a:pt x="9152" y="4"/>
                    </a:cubicBezTo>
                    <a:cubicBezTo>
                      <a:pt x="9152" y="5"/>
                      <a:pt x="9152" y="6"/>
                      <a:pt x="9150" y="6"/>
                    </a:cubicBezTo>
                    <a:lnTo>
                      <a:pt x="9150" y="6"/>
                    </a:lnTo>
                    <a:cubicBezTo>
                      <a:pt x="9149" y="6"/>
                      <a:pt x="9148" y="5"/>
                      <a:pt x="9148" y="4"/>
                    </a:cubicBezTo>
                    <a:cubicBezTo>
                      <a:pt x="9148" y="3"/>
                      <a:pt x="9149" y="2"/>
                      <a:pt x="9150" y="2"/>
                    </a:cubicBezTo>
                    <a:close/>
                    <a:moveTo>
                      <a:pt x="9158" y="2"/>
                    </a:moveTo>
                    <a:lnTo>
                      <a:pt x="9158" y="2"/>
                    </a:lnTo>
                    <a:cubicBezTo>
                      <a:pt x="9160" y="2"/>
                      <a:pt x="9160" y="3"/>
                      <a:pt x="9160" y="4"/>
                    </a:cubicBezTo>
                    <a:cubicBezTo>
                      <a:pt x="9160" y="5"/>
                      <a:pt x="9160" y="6"/>
                      <a:pt x="9158" y="6"/>
                    </a:cubicBezTo>
                    <a:lnTo>
                      <a:pt x="9158" y="6"/>
                    </a:lnTo>
                    <a:cubicBezTo>
                      <a:pt x="9157" y="6"/>
                      <a:pt x="9156" y="5"/>
                      <a:pt x="9156" y="4"/>
                    </a:cubicBezTo>
                    <a:cubicBezTo>
                      <a:pt x="9156" y="3"/>
                      <a:pt x="9157" y="2"/>
                      <a:pt x="9158" y="2"/>
                    </a:cubicBezTo>
                    <a:close/>
                    <a:moveTo>
                      <a:pt x="9166" y="2"/>
                    </a:moveTo>
                    <a:lnTo>
                      <a:pt x="9166" y="2"/>
                    </a:lnTo>
                    <a:cubicBezTo>
                      <a:pt x="9168" y="2"/>
                      <a:pt x="9168" y="3"/>
                      <a:pt x="9168" y="4"/>
                    </a:cubicBezTo>
                    <a:cubicBezTo>
                      <a:pt x="9168" y="5"/>
                      <a:pt x="9168" y="6"/>
                      <a:pt x="9166" y="6"/>
                    </a:cubicBezTo>
                    <a:lnTo>
                      <a:pt x="9166" y="6"/>
                    </a:lnTo>
                    <a:cubicBezTo>
                      <a:pt x="9165" y="6"/>
                      <a:pt x="9164" y="5"/>
                      <a:pt x="9164" y="4"/>
                    </a:cubicBezTo>
                    <a:cubicBezTo>
                      <a:pt x="9164" y="3"/>
                      <a:pt x="9165" y="2"/>
                      <a:pt x="9166" y="2"/>
                    </a:cubicBezTo>
                    <a:close/>
                    <a:moveTo>
                      <a:pt x="9174" y="2"/>
                    </a:moveTo>
                    <a:lnTo>
                      <a:pt x="9174" y="2"/>
                    </a:lnTo>
                    <a:cubicBezTo>
                      <a:pt x="9176" y="2"/>
                      <a:pt x="9176" y="3"/>
                      <a:pt x="9176" y="4"/>
                    </a:cubicBezTo>
                    <a:cubicBezTo>
                      <a:pt x="9176" y="5"/>
                      <a:pt x="9176" y="6"/>
                      <a:pt x="9174" y="6"/>
                    </a:cubicBezTo>
                    <a:lnTo>
                      <a:pt x="9174" y="6"/>
                    </a:lnTo>
                    <a:cubicBezTo>
                      <a:pt x="9173" y="6"/>
                      <a:pt x="9172" y="5"/>
                      <a:pt x="9172" y="4"/>
                    </a:cubicBezTo>
                    <a:cubicBezTo>
                      <a:pt x="9172" y="3"/>
                      <a:pt x="9173" y="2"/>
                      <a:pt x="9174" y="2"/>
                    </a:cubicBezTo>
                    <a:close/>
                    <a:moveTo>
                      <a:pt x="9182" y="2"/>
                    </a:moveTo>
                    <a:lnTo>
                      <a:pt x="9182" y="2"/>
                    </a:lnTo>
                    <a:cubicBezTo>
                      <a:pt x="9184" y="2"/>
                      <a:pt x="9184" y="3"/>
                      <a:pt x="9184" y="4"/>
                    </a:cubicBezTo>
                    <a:cubicBezTo>
                      <a:pt x="9184" y="5"/>
                      <a:pt x="9184" y="6"/>
                      <a:pt x="9182" y="6"/>
                    </a:cubicBezTo>
                    <a:lnTo>
                      <a:pt x="9182" y="6"/>
                    </a:lnTo>
                    <a:cubicBezTo>
                      <a:pt x="9181" y="6"/>
                      <a:pt x="9180" y="5"/>
                      <a:pt x="9180" y="4"/>
                    </a:cubicBezTo>
                    <a:cubicBezTo>
                      <a:pt x="9180" y="3"/>
                      <a:pt x="9181" y="2"/>
                      <a:pt x="9182" y="2"/>
                    </a:cubicBezTo>
                    <a:close/>
                    <a:moveTo>
                      <a:pt x="9190" y="2"/>
                    </a:moveTo>
                    <a:lnTo>
                      <a:pt x="9190" y="2"/>
                    </a:lnTo>
                    <a:cubicBezTo>
                      <a:pt x="9192" y="2"/>
                      <a:pt x="9192" y="3"/>
                      <a:pt x="9192" y="4"/>
                    </a:cubicBezTo>
                    <a:cubicBezTo>
                      <a:pt x="9192" y="5"/>
                      <a:pt x="9192" y="6"/>
                      <a:pt x="9190" y="6"/>
                    </a:cubicBezTo>
                    <a:lnTo>
                      <a:pt x="9190" y="6"/>
                    </a:lnTo>
                    <a:cubicBezTo>
                      <a:pt x="9189" y="6"/>
                      <a:pt x="9188" y="5"/>
                      <a:pt x="9188" y="4"/>
                    </a:cubicBezTo>
                    <a:cubicBezTo>
                      <a:pt x="9188" y="3"/>
                      <a:pt x="9189" y="2"/>
                      <a:pt x="9190" y="2"/>
                    </a:cubicBezTo>
                    <a:close/>
                    <a:moveTo>
                      <a:pt x="9198" y="2"/>
                    </a:moveTo>
                    <a:lnTo>
                      <a:pt x="9198" y="2"/>
                    </a:lnTo>
                    <a:cubicBezTo>
                      <a:pt x="9200" y="2"/>
                      <a:pt x="9200" y="3"/>
                      <a:pt x="9200" y="4"/>
                    </a:cubicBezTo>
                    <a:cubicBezTo>
                      <a:pt x="9200" y="5"/>
                      <a:pt x="9200" y="6"/>
                      <a:pt x="9198" y="6"/>
                    </a:cubicBezTo>
                    <a:lnTo>
                      <a:pt x="9198" y="6"/>
                    </a:lnTo>
                    <a:cubicBezTo>
                      <a:pt x="9197" y="6"/>
                      <a:pt x="9196" y="5"/>
                      <a:pt x="9196" y="4"/>
                    </a:cubicBezTo>
                    <a:cubicBezTo>
                      <a:pt x="9196" y="3"/>
                      <a:pt x="9197" y="2"/>
                      <a:pt x="9198" y="2"/>
                    </a:cubicBezTo>
                    <a:close/>
                    <a:moveTo>
                      <a:pt x="9206" y="2"/>
                    </a:moveTo>
                    <a:lnTo>
                      <a:pt x="9206" y="2"/>
                    </a:lnTo>
                    <a:cubicBezTo>
                      <a:pt x="9208" y="2"/>
                      <a:pt x="9208" y="3"/>
                      <a:pt x="9208" y="4"/>
                    </a:cubicBezTo>
                    <a:cubicBezTo>
                      <a:pt x="9208" y="5"/>
                      <a:pt x="9208" y="6"/>
                      <a:pt x="9206" y="6"/>
                    </a:cubicBezTo>
                    <a:lnTo>
                      <a:pt x="9206" y="6"/>
                    </a:lnTo>
                    <a:cubicBezTo>
                      <a:pt x="9205" y="6"/>
                      <a:pt x="9204" y="5"/>
                      <a:pt x="9204" y="4"/>
                    </a:cubicBezTo>
                    <a:cubicBezTo>
                      <a:pt x="9204" y="3"/>
                      <a:pt x="9205" y="2"/>
                      <a:pt x="9206" y="2"/>
                    </a:cubicBezTo>
                    <a:close/>
                    <a:moveTo>
                      <a:pt x="9214" y="2"/>
                    </a:moveTo>
                    <a:lnTo>
                      <a:pt x="9214" y="2"/>
                    </a:lnTo>
                    <a:cubicBezTo>
                      <a:pt x="9216" y="2"/>
                      <a:pt x="9216" y="3"/>
                      <a:pt x="9216" y="4"/>
                    </a:cubicBezTo>
                    <a:cubicBezTo>
                      <a:pt x="9216" y="5"/>
                      <a:pt x="9216" y="6"/>
                      <a:pt x="9214" y="6"/>
                    </a:cubicBezTo>
                    <a:lnTo>
                      <a:pt x="9214" y="6"/>
                    </a:lnTo>
                    <a:cubicBezTo>
                      <a:pt x="9213" y="6"/>
                      <a:pt x="9212" y="5"/>
                      <a:pt x="9212" y="4"/>
                    </a:cubicBezTo>
                    <a:cubicBezTo>
                      <a:pt x="9212" y="3"/>
                      <a:pt x="9213" y="2"/>
                      <a:pt x="9214" y="2"/>
                    </a:cubicBezTo>
                    <a:close/>
                    <a:moveTo>
                      <a:pt x="9222" y="2"/>
                    </a:moveTo>
                    <a:lnTo>
                      <a:pt x="9222" y="2"/>
                    </a:lnTo>
                    <a:cubicBezTo>
                      <a:pt x="9224" y="2"/>
                      <a:pt x="9224" y="3"/>
                      <a:pt x="9224" y="4"/>
                    </a:cubicBezTo>
                    <a:cubicBezTo>
                      <a:pt x="9224" y="5"/>
                      <a:pt x="9224" y="6"/>
                      <a:pt x="9222" y="6"/>
                    </a:cubicBezTo>
                    <a:lnTo>
                      <a:pt x="9222" y="6"/>
                    </a:lnTo>
                    <a:cubicBezTo>
                      <a:pt x="9221" y="6"/>
                      <a:pt x="9220" y="5"/>
                      <a:pt x="9220" y="4"/>
                    </a:cubicBezTo>
                    <a:cubicBezTo>
                      <a:pt x="9220" y="3"/>
                      <a:pt x="9221" y="2"/>
                      <a:pt x="9222" y="2"/>
                    </a:cubicBezTo>
                    <a:close/>
                    <a:moveTo>
                      <a:pt x="9230" y="2"/>
                    </a:moveTo>
                    <a:lnTo>
                      <a:pt x="9230" y="2"/>
                    </a:lnTo>
                    <a:cubicBezTo>
                      <a:pt x="9232" y="2"/>
                      <a:pt x="9232" y="3"/>
                      <a:pt x="9232" y="4"/>
                    </a:cubicBezTo>
                    <a:cubicBezTo>
                      <a:pt x="9232" y="5"/>
                      <a:pt x="9232" y="6"/>
                      <a:pt x="9230" y="6"/>
                    </a:cubicBezTo>
                    <a:lnTo>
                      <a:pt x="9230" y="6"/>
                    </a:lnTo>
                    <a:cubicBezTo>
                      <a:pt x="9229" y="6"/>
                      <a:pt x="9228" y="5"/>
                      <a:pt x="9228" y="4"/>
                    </a:cubicBezTo>
                    <a:cubicBezTo>
                      <a:pt x="9228" y="3"/>
                      <a:pt x="9229" y="2"/>
                      <a:pt x="9230" y="2"/>
                    </a:cubicBezTo>
                    <a:close/>
                    <a:moveTo>
                      <a:pt x="9238" y="2"/>
                    </a:moveTo>
                    <a:lnTo>
                      <a:pt x="9238" y="2"/>
                    </a:lnTo>
                    <a:cubicBezTo>
                      <a:pt x="9240" y="2"/>
                      <a:pt x="9240" y="3"/>
                      <a:pt x="9240" y="4"/>
                    </a:cubicBezTo>
                    <a:cubicBezTo>
                      <a:pt x="9240" y="5"/>
                      <a:pt x="9240" y="6"/>
                      <a:pt x="9238" y="6"/>
                    </a:cubicBezTo>
                    <a:lnTo>
                      <a:pt x="9238" y="6"/>
                    </a:lnTo>
                    <a:cubicBezTo>
                      <a:pt x="9237" y="6"/>
                      <a:pt x="9236" y="5"/>
                      <a:pt x="9236" y="4"/>
                    </a:cubicBezTo>
                    <a:cubicBezTo>
                      <a:pt x="9236" y="3"/>
                      <a:pt x="9237" y="2"/>
                      <a:pt x="9238" y="2"/>
                    </a:cubicBezTo>
                    <a:close/>
                    <a:moveTo>
                      <a:pt x="9246" y="2"/>
                    </a:moveTo>
                    <a:lnTo>
                      <a:pt x="9246" y="2"/>
                    </a:lnTo>
                    <a:cubicBezTo>
                      <a:pt x="9248" y="2"/>
                      <a:pt x="9248" y="3"/>
                      <a:pt x="9248" y="4"/>
                    </a:cubicBezTo>
                    <a:cubicBezTo>
                      <a:pt x="9248" y="5"/>
                      <a:pt x="9248" y="6"/>
                      <a:pt x="9246" y="6"/>
                    </a:cubicBezTo>
                    <a:lnTo>
                      <a:pt x="9246" y="6"/>
                    </a:lnTo>
                    <a:cubicBezTo>
                      <a:pt x="9245" y="6"/>
                      <a:pt x="9244" y="5"/>
                      <a:pt x="9244" y="4"/>
                    </a:cubicBezTo>
                    <a:cubicBezTo>
                      <a:pt x="9244" y="3"/>
                      <a:pt x="9245" y="2"/>
                      <a:pt x="9246" y="2"/>
                    </a:cubicBezTo>
                    <a:close/>
                    <a:moveTo>
                      <a:pt x="9254" y="2"/>
                    </a:moveTo>
                    <a:lnTo>
                      <a:pt x="9254" y="2"/>
                    </a:lnTo>
                    <a:cubicBezTo>
                      <a:pt x="9256" y="2"/>
                      <a:pt x="9256" y="3"/>
                      <a:pt x="9256" y="4"/>
                    </a:cubicBezTo>
                    <a:cubicBezTo>
                      <a:pt x="9256" y="5"/>
                      <a:pt x="9256" y="6"/>
                      <a:pt x="9254" y="6"/>
                    </a:cubicBezTo>
                    <a:lnTo>
                      <a:pt x="9254" y="6"/>
                    </a:lnTo>
                    <a:cubicBezTo>
                      <a:pt x="9253" y="6"/>
                      <a:pt x="9252" y="5"/>
                      <a:pt x="9252" y="4"/>
                    </a:cubicBezTo>
                    <a:cubicBezTo>
                      <a:pt x="9252" y="3"/>
                      <a:pt x="9253" y="2"/>
                      <a:pt x="9254" y="2"/>
                    </a:cubicBezTo>
                    <a:close/>
                    <a:moveTo>
                      <a:pt x="9262" y="2"/>
                    </a:moveTo>
                    <a:lnTo>
                      <a:pt x="9262" y="2"/>
                    </a:lnTo>
                    <a:cubicBezTo>
                      <a:pt x="9264" y="2"/>
                      <a:pt x="9264" y="3"/>
                      <a:pt x="9264" y="4"/>
                    </a:cubicBezTo>
                    <a:cubicBezTo>
                      <a:pt x="9264" y="5"/>
                      <a:pt x="9264" y="6"/>
                      <a:pt x="9262" y="6"/>
                    </a:cubicBezTo>
                    <a:lnTo>
                      <a:pt x="9262" y="6"/>
                    </a:lnTo>
                    <a:cubicBezTo>
                      <a:pt x="9261" y="6"/>
                      <a:pt x="9260" y="5"/>
                      <a:pt x="9260" y="4"/>
                    </a:cubicBezTo>
                    <a:cubicBezTo>
                      <a:pt x="9260" y="3"/>
                      <a:pt x="9261" y="2"/>
                      <a:pt x="9262" y="2"/>
                    </a:cubicBezTo>
                    <a:close/>
                    <a:moveTo>
                      <a:pt x="9270" y="2"/>
                    </a:moveTo>
                    <a:lnTo>
                      <a:pt x="9270" y="2"/>
                    </a:lnTo>
                    <a:cubicBezTo>
                      <a:pt x="9272" y="2"/>
                      <a:pt x="9272" y="3"/>
                      <a:pt x="9272" y="4"/>
                    </a:cubicBezTo>
                    <a:cubicBezTo>
                      <a:pt x="9272" y="5"/>
                      <a:pt x="9272" y="6"/>
                      <a:pt x="9270" y="6"/>
                    </a:cubicBezTo>
                    <a:lnTo>
                      <a:pt x="9270" y="6"/>
                    </a:lnTo>
                    <a:cubicBezTo>
                      <a:pt x="9269" y="6"/>
                      <a:pt x="9268" y="5"/>
                      <a:pt x="9268" y="4"/>
                    </a:cubicBezTo>
                    <a:cubicBezTo>
                      <a:pt x="9268" y="3"/>
                      <a:pt x="9269" y="2"/>
                      <a:pt x="9270" y="2"/>
                    </a:cubicBezTo>
                    <a:close/>
                    <a:moveTo>
                      <a:pt x="9278" y="2"/>
                    </a:moveTo>
                    <a:lnTo>
                      <a:pt x="9278" y="2"/>
                    </a:lnTo>
                    <a:cubicBezTo>
                      <a:pt x="9280" y="2"/>
                      <a:pt x="9280" y="3"/>
                      <a:pt x="9280" y="4"/>
                    </a:cubicBezTo>
                    <a:cubicBezTo>
                      <a:pt x="9280" y="5"/>
                      <a:pt x="9280" y="6"/>
                      <a:pt x="9278" y="6"/>
                    </a:cubicBezTo>
                    <a:lnTo>
                      <a:pt x="9278" y="6"/>
                    </a:lnTo>
                    <a:cubicBezTo>
                      <a:pt x="9277" y="6"/>
                      <a:pt x="9276" y="5"/>
                      <a:pt x="9276" y="4"/>
                    </a:cubicBezTo>
                    <a:cubicBezTo>
                      <a:pt x="9276" y="3"/>
                      <a:pt x="9277" y="2"/>
                      <a:pt x="9278" y="2"/>
                    </a:cubicBezTo>
                    <a:close/>
                    <a:moveTo>
                      <a:pt x="9286" y="2"/>
                    </a:moveTo>
                    <a:lnTo>
                      <a:pt x="9286" y="2"/>
                    </a:lnTo>
                    <a:cubicBezTo>
                      <a:pt x="9288" y="2"/>
                      <a:pt x="9288" y="3"/>
                      <a:pt x="9288" y="4"/>
                    </a:cubicBezTo>
                    <a:cubicBezTo>
                      <a:pt x="9288" y="5"/>
                      <a:pt x="9288" y="6"/>
                      <a:pt x="9286" y="6"/>
                    </a:cubicBezTo>
                    <a:lnTo>
                      <a:pt x="9286" y="6"/>
                    </a:lnTo>
                    <a:cubicBezTo>
                      <a:pt x="9285" y="6"/>
                      <a:pt x="9284" y="5"/>
                      <a:pt x="9284" y="4"/>
                    </a:cubicBezTo>
                    <a:cubicBezTo>
                      <a:pt x="9284" y="3"/>
                      <a:pt x="9285" y="2"/>
                      <a:pt x="9286" y="2"/>
                    </a:cubicBezTo>
                    <a:close/>
                    <a:moveTo>
                      <a:pt x="9294" y="2"/>
                    </a:moveTo>
                    <a:lnTo>
                      <a:pt x="9294" y="2"/>
                    </a:lnTo>
                    <a:cubicBezTo>
                      <a:pt x="9296" y="2"/>
                      <a:pt x="9296" y="3"/>
                      <a:pt x="9296" y="4"/>
                    </a:cubicBezTo>
                    <a:cubicBezTo>
                      <a:pt x="9296" y="5"/>
                      <a:pt x="9296" y="6"/>
                      <a:pt x="9294" y="6"/>
                    </a:cubicBezTo>
                    <a:lnTo>
                      <a:pt x="9294" y="6"/>
                    </a:lnTo>
                    <a:cubicBezTo>
                      <a:pt x="9293" y="6"/>
                      <a:pt x="9292" y="5"/>
                      <a:pt x="9292" y="4"/>
                    </a:cubicBezTo>
                    <a:cubicBezTo>
                      <a:pt x="9292" y="3"/>
                      <a:pt x="9293" y="2"/>
                      <a:pt x="9294" y="2"/>
                    </a:cubicBezTo>
                    <a:close/>
                    <a:moveTo>
                      <a:pt x="9302" y="2"/>
                    </a:moveTo>
                    <a:lnTo>
                      <a:pt x="9302" y="2"/>
                    </a:lnTo>
                    <a:cubicBezTo>
                      <a:pt x="9304" y="2"/>
                      <a:pt x="9304" y="3"/>
                      <a:pt x="9304" y="4"/>
                    </a:cubicBezTo>
                    <a:cubicBezTo>
                      <a:pt x="9304" y="5"/>
                      <a:pt x="9304" y="6"/>
                      <a:pt x="9302" y="6"/>
                    </a:cubicBezTo>
                    <a:lnTo>
                      <a:pt x="9302" y="6"/>
                    </a:lnTo>
                    <a:cubicBezTo>
                      <a:pt x="9301" y="6"/>
                      <a:pt x="9300" y="5"/>
                      <a:pt x="9300" y="4"/>
                    </a:cubicBezTo>
                    <a:cubicBezTo>
                      <a:pt x="9300" y="3"/>
                      <a:pt x="9301" y="2"/>
                      <a:pt x="9302" y="2"/>
                    </a:cubicBezTo>
                    <a:close/>
                    <a:moveTo>
                      <a:pt x="9310" y="2"/>
                    </a:moveTo>
                    <a:lnTo>
                      <a:pt x="9310" y="2"/>
                    </a:lnTo>
                    <a:cubicBezTo>
                      <a:pt x="9312" y="2"/>
                      <a:pt x="9312" y="3"/>
                      <a:pt x="9312" y="4"/>
                    </a:cubicBezTo>
                    <a:cubicBezTo>
                      <a:pt x="9312" y="5"/>
                      <a:pt x="9312" y="6"/>
                      <a:pt x="9310" y="6"/>
                    </a:cubicBezTo>
                    <a:lnTo>
                      <a:pt x="9310" y="6"/>
                    </a:lnTo>
                    <a:cubicBezTo>
                      <a:pt x="9309" y="6"/>
                      <a:pt x="9308" y="5"/>
                      <a:pt x="9308" y="4"/>
                    </a:cubicBezTo>
                    <a:cubicBezTo>
                      <a:pt x="9308" y="3"/>
                      <a:pt x="9309" y="2"/>
                      <a:pt x="9310" y="2"/>
                    </a:cubicBezTo>
                    <a:close/>
                    <a:moveTo>
                      <a:pt x="9318" y="2"/>
                    </a:moveTo>
                    <a:lnTo>
                      <a:pt x="9319" y="2"/>
                    </a:lnTo>
                    <a:cubicBezTo>
                      <a:pt x="9320" y="2"/>
                      <a:pt x="9321" y="3"/>
                      <a:pt x="9321" y="4"/>
                    </a:cubicBezTo>
                    <a:cubicBezTo>
                      <a:pt x="9321" y="5"/>
                      <a:pt x="9320" y="6"/>
                      <a:pt x="9319" y="6"/>
                    </a:cubicBezTo>
                    <a:lnTo>
                      <a:pt x="9318" y="6"/>
                    </a:lnTo>
                    <a:cubicBezTo>
                      <a:pt x="9317" y="6"/>
                      <a:pt x="9316" y="5"/>
                      <a:pt x="9316" y="4"/>
                    </a:cubicBezTo>
                    <a:cubicBezTo>
                      <a:pt x="9316" y="3"/>
                      <a:pt x="9317" y="2"/>
                      <a:pt x="9318" y="2"/>
                    </a:cubicBezTo>
                    <a:close/>
                    <a:moveTo>
                      <a:pt x="9327" y="2"/>
                    </a:moveTo>
                    <a:lnTo>
                      <a:pt x="9327" y="2"/>
                    </a:lnTo>
                    <a:cubicBezTo>
                      <a:pt x="9328" y="2"/>
                      <a:pt x="9329" y="3"/>
                      <a:pt x="9329" y="4"/>
                    </a:cubicBezTo>
                    <a:cubicBezTo>
                      <a:pt x="9329" y="5"/>
                      <a:pt x="9328" y="6"/>
                      <a:pt x="9327" y="6"/>
                    </a:cubicBezTo>
                    <a:lnTo>
                      <a:pt x="9327" y="6"/>
                    </a:lnTo>
                    <a:cubicBezTo>
                      <a:pt x="9325" y="6"/>
                      <a:pt x="9325" y="5"/>
                      <a:pt x="9325" y="4"/>
                    </a:cubicBezTo>
                    <a:cubicBezTo>
                      <a:pt x="9325" y="3"/>
                      <a:pt x="9325" y="2"/>
                      <a:pt x="9327" y="2"/>
                    </a:cubicBezTo>
                    <a:close/>
                    <a:moveTo>
                      <a:pt x="9335" y="2"/>
                    </a:moveTo>
                    <a:lnTo>
                      <a:pt x="9335" y="2"/>
                    </a:lnTo>
                    <a:cubicBezTo>
                      <a:pt x="9336" y="2"/>
                      <a:pt x="9337" y="3"/>
                      <a:pt x="9337" y="4"/>
                    </a:cubicBezTo>
                    <a:cubicBezTo>
                      <a:pt x="9337" y="5"/>
                      <a:pt x="9336" y="6"/>
                      <a:pt x="9335" y="6"/>
                    </a:cubicBezTo>
                    <a:lnTo>
                      <a:pt x="9335" y="6"/>
                    </a:lnTo>
                    <a:cubicBezTo>
                      <a:pt x="9333" y="6"/>
                      <a:pt x="9333" y="5"/>
                      <a:pt x="9333" y="4"/>
                    </a:cubicBezTo>
                    <a:cubicBezTo>
                      <a:pt x="9333" y="3"/>
                      <a:pt x="9333" y="2"/>
                      <a:pt x="9335" y="2"/>
                    </a:cubicBezTo>
                    <a:close/>
                    <a:moveTo>
                      <a:pt x="9343" y="2"/>
                    </a:moveTo>
                    <a:lnTo>
                      <a:pt x="9343" y="2"/>
                    </a:lnTo>
                    <a:cubicBezTo>
                      <a:pt x="9344" y="2"/>
                      <a:pt x="9345" y="3"/>
                      <a:pt x="9345" y="4"/>
                    </a:cubicBezTo>
                    <a:cubicBezTo>
                      <a:pt x="9345" y="6"/>
                      <a:pt x="9344" y="6"/>
                      <a:pt x="9343" y="6"/>
                    </a:cubicBezTo>
                    <a:lnTo>
                      <a:pt x="9343" y="6"/>
                    </a:lnTo>
                    <a:cubicBezTo>
                      <a:pt x="9341" y="6"/>
                      <a:pt x="9341" y="6"/>
                      <a:pt x="9341" y="4"/>
                    </a:cubicBezTo>
                    <a:cubicBezTo>
                      <a:pt x="9341" y="3"/>
                      <a:pt x="9341" y="2"/>
                      <a:pt x="9343" y="2"/>
                    </a:cubicBezTo>
                    <a:close/>
                    <a:moveTo>
                      <a:pt x="9351" y="2"/>
                    </a:moveTo>
                    <a:lnTo>
                      <a:pt x="9351" y="2"/>
                    </a:lnTo>
                    <a:cubicBezTo>
                      <a:pt x="9352" y="2"/>
                      <a:pt x="9353" y="3"/>
                      <a:pt x="9353" y="4"/>
                    </a:cubicBezTo>
                    <a:cubicBezTo>
                      <a:pt x="9353" y="6"/>
                      <a:pt x="9352" y="6"/>
                      <a:pt x="9351" y="6"/>
                    </a:cubicBezTo>
                    <a:lnTo>
                      <a:pt x="9351" y="6"/>
                    </a:lnTo>
                    <a:cubicBezTo>
                      <a:pt x="9349" y="6"/>
                      <a:pt x="9349" y="6"/>
                      <a:pt x="9349" y="4"/>
                    </a:cubicBezTo>
                    <a:cubicBezTo>
                      <a:pt x="9349" y="3"/>
                      <a:pt x="9349" y="2"/>
                      <a:pt x="9351" y="2"/>
                    </a:cubicBezTo>
                    <a:close/>
                    <a:moveTo>
                      <a:pt x="9359" y="2"/>
                    </a:moveTo>
                    <a:lnTo>
                      <a:pt x="9359" y="2"/>
                    </a:lnTo>
                    <a:cubicBezTo>
                      <a:pt x="9360" y="2"/>
                      <a:pt x="9361" y="3"/>
                      <a:pt x="9361" y="4"/>
                    </a:cubicBezTo>
                    <a:cubicBezTo>
                      <a:pt x="9361" y="6"/>
                      <a:pt x="9360" y="6"/>
                      <a:pt x="9359" y="6"/>
                    </a:cubicBezTo>
                    <a:lnTo>
                      <a:pt x="9359" y="6"/>
                    </a:lnTo>
                    <a:cubicBezTo>
                      <a:pt x="9357" y="6"/>
                      <a:pt x="9357" y="6"/>
                      <a:pt x="9357" y="4"/>
                    </a:cubicBezTo>
                    <a:cubicBezTo>
                      <a:pt x="9357" y="3"/>
                      <a:pt x="9357" y="2"/>
                      <a:pt x="9359" y="2"/>
                    </a:cubicBezTo>
                    <a:close/>
                    <a:moveTo>
                      <a:pt x="9367" y="2"/>
                    </a:moveTo>
                    <a:lnTo>
                      <a:pt x="9367" y="2"/>
                    </a:lnTo>
                    <a:cubicBezTo>
                      <a:pt x="9368" y="2"/>
                      <a:pt x="9369" y="3"/>
                      <a:pt x="9369" y="4"/>
                    </a:cubicBezTo>
                    <a:cubicBezTo>
                      <a:pt x="9369" y="6"/>
                      <a:pt x="9368" y="6"/>
                      <a:pt x="9367" y="6"/>
                    </a:cubicBezTo>
                    <a:lnTo>
                      <a:pt x="9367" y="6"/>
                    </a:lnTo>
                    <a:cubicBezTo>
                      <a:pt x="9365" y="6"/>
                      <a:pt x="9365" y="6"/>
                      <a:pt x="9365" y="4"/>
                    </a:cubicBezTo>
                    <a:cubicBezTo>
                      <a:pt x="9365" y="3"/>
                      <a:pt x="9365" y="2"/>
                      <a:pt x="9367" y="2"/>
                    </a:cubicBezTo>
                    <a:close/>
                    <a:moveTo>
                      <a:pt x="9375" y="2"/>
                    </a:moveTo>
                    <a:lnTo>
                      <a:pt x="9375" y="2"/>
                    </a:lnTo>
                    <a:cubicBezTo>
                      <a:pt x="9376" y="2"/>
                      <a:pt x="9377" y="3"/>
                      <a:pt x="9377" y="4"/>
                    </a:cubicBezTo>
                    <a:cubicBezTo>
                      <a:pt x="9377" y="6"/>
                      <a:pt x="9376" y="6"/>
                      <a:pt x="9375" y="6"/>
                    </a:cubicBezTo>
                    <a:lnTo>
                      <a:pt x="9375" y="6"/>
                    </a:lnTo>
                    <a:cubicBezTo>
                      <a:pt x="9373" y="6"/>
                      <a:pt x="9373" y="6"/>
                      <a:pt x="9373" y="4"/>
                    </a:cubicBezTo>
                    <a:cubicBezTo>
                      <a:pt x="9373" y="3"/>
                      <a:pt x="9373" y="2"/>
                      <a:pt x="9375" y="2"/>
                    </a:cubicBezTo>
                    <a:close/>
                    <a:moveTo>
                      <a:pt x="9383" y="2"/>
                    </a:moveTo>
                    <a:lnTo>
                      <a:pt x="9383" y="2"/>
                    </a:lnTo>
                    <a:cubicBezTo>
                      <a:pt x="9384" y="2"/>
                      <a:pt x="9385" y="3"/>
                      <a:pt x="9385" y="4"/>
                    </a:cubicBezTo>
                    <a:cubicBezTo>
                      <a:pt x="9385" y="6"/>
                      <a:pt x="9384" y="6"/>
                      <a:pt x="9383" y="6"/>
                    </a:cubicBezTo>
                    <a:lnTo>
                      <a:pt x="9383" y="6"/>
                    </a:lnTo>
                    <a:cubicBezTo>
                      <a:pt x="9381" y="6"/>
                      <a:pt x="9381" y="6"/>
                      <a:pt x="9381" y="4"/>
                    </a:cubicBezTo>
                    <a:cubicBezTo>
                      <a:pt x="9381" y="3"/>
                      <a:pt x="9381" y="2"/>
                      <a:pt x="9383" y="2"/>
                    </a:cubicBezTo>
                    <a:close/>
                    <a:moveTo>
                      <a:pt x="9391" y="2"/>
                    </a:moveTo>
                    <a:lnTo>
                      <a:pt x="9391" y="2"/>
                    </a:lnTo>
                    <a:cubicBezTo>
                      <a:pt x="9392" y="2"/>
                      <a:pt x="9393" y="3"/>
                      <a:pt x="9393" y="4"/>
                    </a:cubicBezTo>
                    <a:cubicBezTo>
                      <a:pt x="9393" y="6"/>
                      <a:pt x="9392" y="6"/>
                      <a:pt x="9391" y="6"/>
                    </a:cubicBezTo>
                    <a:lnTo>
                      <a:pt x="9391" y="6"/>
                    </a:lnTo>
                    <a:cubicBezTo>
                      <a:pt x="9389" y="6"/>
                      <a:pt x="9389" y="6"/>
                      <a:pt x="9389" y="4"/>
                    </a:cubicBezTo>
                    <a:cubicBezTo>
                      <a:pt x="9389" y="3"/>
                      <a:pt x="9389" y="2"/>
                      <a:pt x="9391" y="2"/>
                    </a:cubicBezTo>
                    <a:close/>
                    <a:moveTo>
                      <a:pt x="9399" y="2"/>
                    </a:moveTo>
                    <a:lnTo>
                      <a:pt x="9399" y="2"/>
                    </a:lnTo>
                    <a:cubicBezTo>
                      <a:pt x="9400" y="2"/>
                      <a:pt x="9401" y="3"/>
                      <a:pt x="9401" y="4"/>
                    </a:cubicBezTo>
                    <a:cubicBezTo>
                      <a:pt x="9401" y="6"/>
                      <a:pt x="9400" y="6"/>
                      <a:pt x="9399" y="6"/>
                    </a:cubicBezTo>
                    <a:lnTo>
                      <a:pt x="9399" y="6"/>
                    </a:lnTo>
                    <a:cubicBezTo>
                      <a:pt x="9397" y="6"/>
                      <a:pt x="9397" y="6"/>
                      <a:pt x="9397" y="4"/>
                    </a:cubicBezTo>
                    <a:cubicBezTo>
                      <a:pt x="9397" y="3"/>
                      <a:pt x="9397" y="2"/>
                      <a:pt x="9399" y="2"/>
                    </a:cubicBezTo>
                    <a:close/>
                    <a:moveTo>
                      <a:pt x="9407" y="2"/>
                    </a:moveTo>
                    <a:lnTo>
                      <a:pt x="9407" y="2"/>
                    </a:lnTo>
                    <a:cubicBezTo>
                      <a:pt x="9408" y="2"/>
                      <a:pt x="9409" y="3"/>
                      <a:pt x="9409" y="4"/>
                    </a:cubicBezTo>
                    <a:cubicBezTo>
                      <a:pt x="9409" y="6"/>
                      <a:pt x="9408" y="6"/>
                      <a:pt x="9407" y="6"/>
                    </a:cubicBezTo>
                    <a:lnTo>
                      <a:pt x="9407" y="6"/>
                    </a:lnTo>
                    <a:cubicBezTo>
                      <a:pt x="9405" y="6"/>
                      <a:pt x="9405" y="6"/>
                      <a:pt x="9405" y="4"/>
                    </a:cubicBezTo>
                    <a:cubicBezTo>
                      <a:pt x="9405" y="3"/>
                      <a:pt x="9405" y="2"/>
                      <a:pt x="9407" y="2"/>
                    </a:cubicBezTo>
                    <a:close/>
                    <a:moveTo>
                      <a:pt x="9415" y="2"/>
                    </a:moveTo>
                    <a:lnTo>
                      <a:pt x="9415" y="2"/>
                    </a:lnTo>
                    <a:cubicBezTo>
                      <a:pt x="9416" y="2"/>
                      <a:pt x="9417" y="3"/>
                      <a:pt x="9417" y="4"/>
                    </a:cubicBezTo>
                    <a:cubicBezTo>
                      <a:pt x="9417" y="6"/>
                      <a:pt x="9416" y="6"/>
                      <a:pt x="9415" y="6"/>
                    </a:cubicBezTo>
                    <a:lnTo>
                      <a:pt x="9415" y="6"/>
                    </a:lnTo>
                    <a:cubicBezTo>
                      <a:pt x="9413" y="6"/>
                      <a:pt x="9413" y="6"/>
                      <a:pt x="9413" y="4"/>
                    </a:cubicBezTo>
                    <a:cubicBezTo>
                      <a:pt x="9413" y="3"/>
                      <a:pt x="9413" y="2"/>
                      <a:pt x="9415" y="2"/>
                    </a:cubicBezTo>
                    <a:close/>
                    <a:moveTo>
                      <a:pt x="9423" y="2"/>
                    </a:moveTo>
                    <a:lnTo>
                      <a:pt x="9423" y="2"/>
                    </a:lnTo>
                    <a:cubicBezTo>
                      <a:pt x="9424" y="2"/>
                      <a:pt x="9425" y="3"/>
                      <a:pt x="9425" y="4"/>
                    </a:cubicBezTo>
                    <a:cubicBezTo>
                      <a:pt x="9425" y="6"/>
                      <a:pt x="9424" y="6"/>
                      <a:pt x="9423" y="6"/>
                    </a:cubicBezTo>
                    <a:lnTo>
                      <a:pt x="9423" y="6"/>
                    </a:lnTo>
                    <a:cubicBezTo>
                      <a:pt x="9421" y="6"/>
                      <a:pt x="9421" y="6"/>
                      <a:pt x="9421" y="4"/>
                    </a:cubicBezTo>
                    <a:cubicBezTo>
                      <a:pt x="9421" y="3"/>
                      <a:pt x="9421" y="2"/>
                      <a:pt x="9423" y="2"/>
                    </a:cubicBezTo>
                    <a:close/>
                    <a:moveTo>
                      <a:pt x="9431" y="2"/>
                    </a:moveTo>
                    <a:lnTo>
                      <a:pt x="9431" y="2"/>
                    </a:lnTo>
                    <a:cubicBezTo>
                      <a:pt x="9432" y="2"/>
                      <a:pt x="9433" y="3"/>
                      <a:pt x="9433" y="4"/>
                    </a:cubicBezTo>
                    <a:cubicBezTo>
                      <a:pt x="9433" y="6"/>
                      <a:pt x="9432" y="6"/>
                      <a:pt x="9431" y="6"/>
                    </a:cubicBezTo>
                    <a:lnTo>
                      <a:pt x="9431" y="6"/>
                    </a:lnTo>
                    <a:cubicBezTo>
                      <a:pt x="9429" y="6"/>
                      <a:pt x="9429" y="6"/>
                      <a:pt x="9429" y="4"/>
                    </a:cubicBezTo>
                    <a:cubicBezTo>
                      <a:pt x="9429" y="3"/>
                      <a:pt x="9429" y="2"/>
                      <a:pt x="9431" y="2"/>
                    </a:cubicBezTo>
                    <a:close/>
                    <a:moveTo>
                      <a:pt x="9439" y="2"/>
                    </a:moveTo>
                    <a:lnTo>
                      <a:pt x="9439" y="2"/>
                    </a:lnTo>
                    <a:cubicBezTo>
                      <a:pt x="9440" y="2"/>
                      <a:pt x="9441" y="3"/>
                      <a:pt x="9441" y="4"/>
                    </a:cubicBezTo>
                    <a:cubicBezTo>
                      <a:pt x="9441" y="6"/>
                      <a:pt x="9440" y="6"/>
                      <a:pt x="9439" y="6"/>
                    </a:cubicBezTo>
                    <a:lnTo>
                      <a:pt x="9439" y="6"/>
                    </a:lnTo>
                    <a:cubicBezTo>
                      <a:pt x="9437" y="6"/>
                      <a:pt x="9437" y="6"/>
                      <a:pt x="9437" y="4"/>
                    </a:cubicBezTo>
                    <a:cubicBezTo>
                      <a:pt x="9437" y="3"/>
                      <a:pt x="9437" y="2"/>
                      <a:pt x="9439" y="2"/>
                    </a:cubicBezTo>
                    <a:close/>
                    <a:moveTo>
                      <a:pt x="9447" y="2"/>
                    </a:moveTo>
                    <a:lnTo>
                      <a:pt x="9447" y="2"/>
                    </a:lnTo>
                    <a:cubicBezTo>
                      <a:pt x="9448" y="2"/>
                      <a:pt x="9449" y="3"/>
                      <a:pt x="9449" y="4"/>
                    </a:cubicBezTo>
                    <a:cubicBezTo>
                      <a:pt x="9449" y="6"/>
                      <a:pt x="9448" y="6"/>
                      <a:pt x="9447" y="6"/>
                    </a:cubicBezTo>
                    <a:lnTo>
                      <a:pt x="9447" y="6"/>
                    </a:lnTo>
                    <a:cubicBezTo>
                      <a:pt x="9445" y="6"/>
                      <a:pt x="9445" y="6"/>
                      <a:pt x="9445" y="4"/>
                    </a:cubicBezTo>
                    <a:cubicBezTo>
                      <a:pt x="9445" y="3"/>
                      <a:pt x="9445" y="2"/>
                      <a:pt x="9447" y="2"/>
                    </a:cubicBezTo>
                    <a:close/>
                    <a:moveTo>
                      <a:pt x="9455" y="2"/>
                    </a:moveTo>
                    <a:lnTo>
                      <a:pt x="9455" y="2"/>
                    </a:lnTo>
                    <a:cubicBezTo>
                      <a:pt x="9456" y="2"/>
                      <a:pt x="9457" y="3"/>
                      <a:pt x="9457" y="4"/>
                    </a:cubicBezTo>
                    <a:cubicBezTo>
                      <a:pt x="9457" y="6"/>
                      <a:pt x="9456" y="6"/>
                      <a:pt x="9455" y="6"/>
                    </a:cubicBezTo>
                    <a:lnTo>
                      <a:pt x="9455" y="6"/>
                    </a:lnTo>
                    <a:cubicBezTo>
                      <a:pt x="9453" y="6"/>
                      <a:pt x="9453" y="6"/>
                      <a:pt x="9453" y="4"/>
                    </a:cubicBezTo>
                    <a:cubicBezTo>
                      <a:pt x="9453" y="3"/>
                      <a:pt x="9453" y="2"/>
                      <a:pt x="9455" y="2"/>
                    </a:cubicBezTo>
                    <a:close/>
                    <a:moveTo>
                      <a:pt x="9463" y="2"/>
                    </a:moveTo>
                    <a:lnTo>
                      <a:pt x="9463" y="2"/>
                    </a:lnTo>
                    <a:cubicBezTo>
                      <a:pt x="9464" y="2"/>
                      <a:pt x="9465" y="3"/>
                      <a:pt x="9465" y="4"/>
                    </a:cubicBezTo>
                    <a:cubicBezTo>
                      <a:pt x="9465" y="6"/>
                      <a:pt x="9464" y="6"/>
                      <a:pt x="9463" y="6"/>
                    </a:cubicBezTo>
                    <a:lnTo>
                      <a:pt x="9463" y="6"/>
                    </a:lnTo>
                    <a:cubicBezTo>
                      <a:pt x="9461" y="6"/>
                      <a:pt x="9461" y="6"/>
                      <a:pt x="9461" y="4"/>
                    </a:cubicBezTo>
                    <a:cubicBezTo>
                      <a:pt x="9461" y="3"/>
                      <a:pt x="9461" y="2"/>
                      <a:pt x="9463" y="2"/>
                    </a:cubicBezTo>
                    <a:close/>
                    <a:moveTo>
                      <a:pt x="9471" y="2"/>
                    </a:moveTo>
                    <a:lnTo>
                      <a:pt x="9471" y="2"/>
                    </a:lnTo>
                    <a:cubicBezTo>
                      <a:pt x="9472" y="2"/>
                      <a:pt x="9473" y="3"/>
                      <a:pt x="9473" y="4"/>
                    </a:cubicBezTo>
                    <a:cubicBezTo>
                      <a:pt x="9473" y="6"/>
                      <a:pt x="9472" y="6"/>
                      <a:pt x="9471" y="6"/>
                    </a:cubicBezTo>
                    <a:lnTo>
                      <a:pt x="9471" y="6"/>
                    </a:lnTo>
                    <a:cubicBezTo>
                      <a:pt x="9469" y="6"/>
                      <a:pt x="9469" y="6"/>
                      <a:pt x="9469" y="4"/>
                    </a:cubicBezTo>
                    <a:cubicBezTo>
                      <a:pt x="9469" y="3"/>
                      <a:pt x="9469" y="2"/>
                      <a:pt x="9471" y="2"/>
                    </a:cubicBezTo>
                    <a:close/>
                    <a:moveTo>
                      <a:pt x="9479" y="2"/>
                    </a:moveTo>
                    <a:lnTo>
                      <a:pt x="9479" y="2"/>
                    </a:lnTo>
                    <a:cubicBezTo>
                      <a:pt x="9480" y="2"/>
                      <a:pt x="9481" y="3"/>
                      <a:pt x="9481" y="4"/>
                    </a:cubicBezTo>
                    <a:cubicBezTo>
                      <a:pt x="9481" y="6"/>
                      <a:pt x="9480" y="6"/>
                      <a:pt x="9479" y="6"/>
                    </a:cubicBezTo>
                    <a:lnTo>
                      <a:pt x="9479" y="6"/>
                    </a:lnTo>
                    <a:cubicBezTo>
                      <a:pt x="9477" y="6"/>
                      <a:pt x="9477" y="6"/>
                      <a:pt x="9477" y="4"/>
                    </a:cubicBezTo>
                    <a:cubicBezTo>
                      <a:pt x="9477" y="3"/>
                      <a:pt x="9477" y="2"/>
                      <a:pt x="9479" y="2"/>
                    </a:cubicBezTo>
                    <a:close/>
                    <a:moveTo>
                      <a:pt x="9487" y="2"/>
                    </a:moveTo>
                    <a:lnTo>
                      <a:pt x="9487" y="2"/>
                    </a:lnTo>
                    <a:cubicBezTo>
                      <a:pt x="9488" y="2"/>
                      <a:pt x="9489" y="3"/>
                      <a:pt x="9489" y="4"/>
                    </a:cubicBezTo>
                    <a:cubicBezTo>
                      <a:pt x="9489" y="6"/>
                      <a:pt x="9488" y="6"/>
                      <a:pt x="9487" y="6"/>
                    </a:cubicBezTo>
                    <a:lnTo>
                      <a:pt x="9487" y="6"/>
                    </a:lnTo>
                    <a:cubicBezTo>
                      <a:pt x="9485" y="6"/>
                      <a:pt x="9485" y="6"/>
                      <a:pt x="9485" y="4"/>
                    </a:cubicBezTo>
                    <a:cubicBezTo>
                      <a:pt x="9485" y="3"/>
                      <a:pt x="9485" y="2"/>
                      <a:pt x="9487" y="2"/>
                    </a:cubicBezTo>
                    <a:close/>
                    <a:moveTo>
                      <a:pt x="9495" y="2"/>
                    </a:moveTo>
                    <a:lnTo>
                      <a:pt x="9495" y="2"/>
                    </a:lnTo>
                    <a:cubicBezTo>
                      <a:pt x="9496" y="2"/>
                      <a:pt x="9497" y="3"/>
                      <a:pt x="9497" y="4"/>
                    </a:cubicBezTo>
                    <a:cubicBezTo>
                      <a:pt x="9497" y="6"/>
                      <a:pt x="9496" y="6"/>
                      <a:pt x="9495" y="6"/>
                    </a:cubicBezTo>
                    <a:lnTo>
                      <a:pt x="9495" y="6"/>
                    </a:lnTo>
                    <a:cubicBezTo>
                      <a:pt x="9493" y="6"/>
                      <a:pt x="9493" y="6"/>
                      <a:pt x="9493" y="4"/>
                    </a:cubicBezTo>
                    <a:cubicBezTo>
                      <a:pt x="9493" y="3"/>
                      <a:pt x="9493" y="2"/>
                      <a:pt x="9495" y="2"/>
                    </a:cubicBezTo>
                    <a:close/>
                    <a:moveTo>
                      <a:pt x="9503" y="2"/>
                    </a:moveTo>
                    <a:lnTo>
                      <a:pt x="9503" y="2"/>
                    </a:lnTo>
                    <a:cubicBezTo>
                      <a:pt x="9504" y="2"/>
                      <a:pt x="9505" y="3"/>
                      <a:pt x="9505" y="4"/>
                    </a:cubicBezTo>
                    <a:cubicBezTo>
                      <a:pt x="9505" y="6"/>
                      <a:pt x="9504" y="6"/>
                      <a:pt x="9503" y="6"/>
                    </a:cubicBezTo>
                    <a:lnTo>
                      <a:pt x="9503" y="6"/>
                    </a:lnTo>
                    <a:cubicBezTo>
                      <a:pt x="9502" y="6"/>
                      <a:pt x="9501" y="6"/>
                      <a:pt x="9501" y="4"/>
                    </a:cubicBezTo>
                    <a:cubicBezTo>
                      <a:pt x="9501" y="3"/>
                      <a:pt x="9502" y="2"/>
                      <a:pt x="9503" y="2"/>
                    </a:cubicBezTo>
                    <a:close/>
                    <a:moveTo>
                      <a:pt x="9511" y="2"/>
                    </a:moveTo>
                    <a:lnTo>
                      <a:pt x="9511" y="2"/>
                    </a:lnTo>
                    <a:cubicBezTo>
                      <a:pt x="9512" y="2"/>
                      <a:pt x="9513" y="3"/>
                      <a:pt x="9513" y="4"/>
                    </a:cubicBezTo>
                    <a:cubicBezTo>
                      <a:pt x="9513" y="6"/>
                      <a:pt x="9512" y="6"/>
                      <a:pt x="9511" y="6"/>
                    </a:cubicBezTo>
                    <a:lnTo>
                      <a:pt x="9511" y="6"/>
                    </a:lnTo>
                    <a:cubicBezTo>
                      <a:pt x="9510" y="6"/>
                      <a:pt x="9509" y="6"/>
                      <a:pt x="9509" y="4"/>
                    </a:cubicBezTo>
                    <a:cubicBezTo>
                      <a:pt x="9509" y="3"/>
                      <a:pt x="9510" y="2"/>
                      <a:pt x="9511" y="2"/>
                    </a:cubicBezTo>
                    <a:close/>
                    <a:moveTo>
                      <a:pt x="9519" y="2"/>
                    </a:moveTo>
                    <a:lnTo>
                      <a:pt x="9519" y="2"/>
                    </a:lnTo>
                    <a:cubicBezTo>
                      <a:pt x="9520" y="2"/>
                      <a:pt x="9521" y="3"/>
                      <a:pt x="9521" y="4"/>
                    </a:cubicBezTo>
                    <a:cubicBezTo>
                      <a:pt x="9521" y="6"/>
                      <a:pt x="9520" y="6"/>
                      <a:pt x="9519" y="6"/>
                    </a:cubicBezTo>
                    <a:lnTo>
                      <a:pt x="9519" y="6"/>
                    </a:lnTo>
                    <a:cubicBezTo>
                      <a:pt x="9518" y="6"/>
                      <a:pt x="9517" y="6"/>
                      <a:pt x="9517" y="4"/>
                    </a:cubicBezTo>
                    <a:cubicBezTo>
                      <a:pt x="9517" y="3"/>
                      <a:pt x="9518" y="2"/>
                      <a:pt x="9519" y="2"/>
                    </a:cubicBezTo>
                    <a:close/>
                    <a:moveTo>
                      <a:pt x="9527" y="2"/>
                    </a:moveTo>
                    <a:lnTo>
                      <a:pt x="9527" y="2"/>
                    </a:lnTo>
                    <a:cubicBezTo>
                      <a:pt x="9528" y="2"/>
                      <a:pt x="9529" y="3"/>
                      <a:pt x="9529" y="4"/>
                    </a:cubicBezTo>
                    <a:cubicBezTo>
                      <a:pt x="9529" y="6"/>
                      <a:pt x="9528" y="6"/>
                      <a:pt x="9527" y="6"/>
                    </a:cubicBezTo>
                    <a:lnTo>
                      <a:pt x="9527" y="6"/>
                    </a:lnTo>
                    <a:cubicBezTo>
                      <a:pt x="9526" y="6"/>
                      <a:pt x="9525" y="6"/>
                      <a:pt x="9525" y="4"/>
                    </a:cubicBezTo>
                    <a:cubicBezTo>
                      <a:pt x="9525" y="3"/>
                      <a:pt x="9526" y="2"/>
                      <a:pt x="9527" y="2"/>
                    </a:cubicBezTo>
                    <a:close/>
                    <a:moveTo>
                      <a:pt x="9535" y="2"/>
                    </a:moveTo>
                    <a:lnTo>
                      <a:pt x="9535" y="2"/>
                    </a:lnTo>
                    <a:cubicBezTo>
                      <a:pt x="9536" y="2"/>
                      <a:pt x="9537" y="3"/>
                      <a:pt x="9537" y="4"/>
                    </a:cubicBezTo>
                    <a:cubicBezTo>
                      <a:pt x="9537" y="6"/>
                      <a:pt x="9536" y="6"/>
                      <a:pt x="9535" y="6"/>
                    </a:cubicBezTo>
                    <a:lnTo>
                      <a:pt x="9535" y="6"/>
                    </a:lnTo>
                    <a:cubicBezTo>
                      <a:pt x="9534" y="6"/>
                      <a:pt x="9533" y="6"/>
                      <a:pt x="9533" y="4"/>
                    </a:cubicBezTo>
                    <a:cubicBezTo>
                      <a:pt x="9533" y="3"/>
                      <a:pt x="9534" y="2"/>
                      <a:pt x="9535" y="2"/>
                    </a:cubicBezTo>
                    <a:close/>
                    <a:moveTo>
                      <a:pt x="9543" y="2"/>
                    </a:moveTo>
                    <a:lnTo>
                      <a:pt x="9543" y="2"/>
                    </a:lnTo>
                    <a:cubicBezTo>
                      <a:pt x="9544" y="2"/>
                      <a:pt x="9545" y="3"/>
                      <a:pt x="9545" y="4"/>
                    </a:cubicBezTo>
                    <a:cubicBezTo>
                      <a:pt x="9545" y="6"/>
                      <a:pt x="9544" y="6"/>
                      <a:pt x="9543" y="6"/>
                    </a:cubicBezTo>
                    <a:lnTo>
                      <a:pt x="9543" y="6"/>
                    </a:lnTo>
                    <a:cubicBezTo>
                      <a:pt x="9542" y="6"/>
                      <a:pt x="9541" y="6"/>
                      <a:pt x="9541" y="4"/>
                    </a:cubicBezTo>
                    <a:cubicBezTo>
                      <a:pt x="9541" y="3"/>
                      <a:pt x="9542" y="2"/>
                      <a:pt x="9543" y="2"/>
                    </a:cubicBezTo>
                    <a:close/>
                    <a:moveTo>
                      <a:pt x="9551" y="2"/>
                    </a:moveTo>
                    <a:lnTo>
                      <a:pt x="9551" y="2"/>
                    </a:lnTo>
                    <a:cubicBezTo>
                      <a:pt x="9552" y="2"/>
                      <a:pt x="9553" y="3"/>
                      <a:pt x="9553" y="4"/>
                    </a:cubicBezTo>
                    <a:cubicBezTo>
                      <a:pt x="9553" y="6"/>
                      <a:pt x="9552" y="6"/>
                      <a:pt x="9551" y="6"/>
                    </a:cubicBezTo>
                    <a:lnTo>
                      <a:pt x="9551" y="6"/>
                    </a:lnTo>
                    <a:cubicBezTo>
                      <a:pt x="9550" y="6"/>
                      <a:pt x="9549" y="6"/>
                      <a:pt x="9549" y="4"/>
                    </a:cubicBezTo>
                    <a:cubicBezTo>
                      <a:pt x="9549" y="3"/>
                      <a:pt x="9550" y="2"/>
                      <a:pt x="9551" y="2"/>
                    </a:cubicBezTo>
                    <a:close/>
                    <a:moveTo>
                      <a:pt x="9559" y="2"/>
                    </a:moveTo>
                    <a:lnTo>
                      <a:pt x="9559" y="2"/>
                    </a:lnTo>
                    <a:cubicBezTo>
                      <a:pt x="9560" y="2"/>
                      <a:pt x="9561" y="3"/>
                      <a:pt x="9561" y="4"/>
                    </a:cubicBezTo>
                    <a:cubicBezTo>
                      <a:pt x="9561" y="6"/>
                      <a:pt x="9560" y="6"/>
                      <a:pt x="9559" y="6"/>
                    </a:cubicBezTo>
                    <a:lnTo>
                      <a:pt x="9559" y="6"/>
                    </a:lnTo>
                    <a:cubicBezTo>
                      <a:pt x="9558" y="6"/>
                      <a:pt x="9557" y="6"/>
                      <a:pt x="9557" y="4"/>
                    </a:cubicBezTo>
                    <a:cubicBezTo>
                      <a:pt x="9557" y="3"/>
                      <a:pt x="9558" y="2"/>
                      <a:pt x="9559" y="2"/>
                    </a:cubicBezTo>
                    <a:close/>
                    <a:moveTo>
                      <a:pt x="9567" y="2"/>
                    </a:moveTo>
                    <a:lnTo>
                      <a:pt x="9567" y="2"/>
                    </a:lnTo>
                    <a:cubicBezTo>
                      <a:pt x="9568" y="2"/>
                      <a:pt x="9569" y="3"/>
                      <a:pt x="9569" y="4"/>
                    </a:cubicBezTo>
                    <a:cubicBezTo>
                      <a:pt x="9569" y="6"/>
                      <a:pt x="9568" y="6"/>
                      <a:pt x="9567" y="6"/>
                    </a:cubicBezTo>
                    <a:lnTo>
                      <a:pt x="9567" y="6"/>
                    </a:lnTo>
                    <a:cubicBezTo>
                      <a:pt x="9566" y="6"/>
                      <a:pt x="9565" y="6"/>
                      <a:pt x="9565" y="4"/>
                    </a:cubicBezTo>
                    <a:cubicBezTo>
                      <a:pt x="9565" y="3"/>
                      <a:pt x="9566" y="2"/>
                      <a:pt x="9567" y="2"/>
                    </a:cubicBezTo>
                    <a:close/>
                    <a:moveTo>
                      <a:pt x="9575" y="2"/>
                    </a:moveTo>
                    <a:lnTo>
                      <a:pt x="9575" y="2"/>
                    </a:lnTo>
                    <a:cubicBezTo>
                      <a:pt x="9576" y="2"/>
                      <a:pt x="9577" y="3"/>
                      <a:pt x="9577" y="4"/>
                    </a:cubicBezTo>
                    <a:cubicBezTo>
                      <a:pt x="9577" y="6"/>
                      <a:pt x="9576" y="6"/>
                      <a:pt x="9575" y="6"/>
                    </a:cubicBezTo>
                    <a:lnTo>
                      <a:pt x="9575" y="6"/>
                    </a:lnTo>
                    <a:cubicBezTo>
                      <a:pt x="9574" y="6"/>
                      <a:pt x="9573" y="6"/>
                      <a:pt x="9573" y="4"/>
                    </a:cubicBezTo>
                    <a:cubicBezTo>
                      <a:pt x="9573" y="3"/>
                      <a:pt x="9574" y="2"/>
                      <a:pt x="9575" y="2"/>
                    </a:cubicBezTo>
                    <a:close/>
                    <a:moveTo>
                      <a:pt x="9583" y="2"/>
                    </a:moveTo>
                    <a:lnTo>
                      <a:pt x="9583" y="2"/>
                    </a:lnTo>
                    <a:cubicBezTo>
                      <a:pt x="9584" y="2"/>
                      <a:pt x="9585" y="3"/>
                      <a:pt x="9585" y="4"/>
                    </a:cubicBezTo>
                    <a:cubicBezTo>
                      <a:pt x="9585" y="6"/>
                      <a:pt x="9584" y="6"/>
                      <a:pt x="9583" y="6"/>
                    </a:cubicBezTo>
                    <a:lnTo>
                      <a:pt x="9583" y="6"/>
                    </a:lnTo>
                    <a:cubicBezTo>
                      <a:pt x="9582" y="6"/>
                      <a:pt x="9581" y="6"/>
                      <a:pt x="9581" y="4"/>
                    </a:cubicBezTo>
                    <a:cubicBezTo>
                      <a:pt x="9581" y="3"/>
                      <a:pt x="9582" y="2"/>
                      <a:pt x="9583" y="2"/>
                    </a:cubicBezTo>
                    <a:close/>
                    <a:moveTo>
                      <a:pt x="9591" y="2"/>
                    </a:moveTo>
                    <a:lnTo>
                      <a:pt x="9591" y="2"/>
                    </a:lnTo>
                    <a:cubicBezTo>
                      <a:pt x="9592" y="2"/>
                      <a:pt x="9593" y="3"/>
                      <a:pt x="9593" y="4"/>
                    </a:cubicBezTo>
                    <a:cubicBezTo>
                      <a:pt x="9593" y="6"/>
                      <a:pt x="9592" y="6"/>
                      <a:pt x="9591" y="6"/>
                    </a:cubicBezTo>
                    <a:lnTo>
                      <a:pt x="9591" y="6"/>
                    </a:lnTo>
                    <a:cubicBezTo>
                      <a:pt x="9590" y="6"/>
                      <a:pt x="9589" y="6"/>
                      <a:pt x="9589" y="4"/>
                    </a:cubicBezTo>
                    <a:cubicBezTo>
                      <a:pt x="9589" y="3"/>
                      <a:pt x="9590" y="2"/>
                      <a:pt x="9591" y="2"/>
                    </a:cubicBezTo>
                    <a:close/>
                    <a:moveTo>
                      <a:pt x="9599" y="2"/>
                    </a:moveTo>
                    <a:lnTo>
                      <a:pt x="9599" y="2"/>
                    </a:lnTo>
                    <a:cubicBezTo>
                      <a:pt x="9600" y="2"/>
                      <a:pt x="9601" y="3"/>
                      <a:pt x="9601" y="4"/>
                    </a:cubicBezTo>
                    <a:cubicBezTo>
                      <a:pt x="9601" y="6"/>
                      <a:pt x="9600" y="6"/>
                      <a:pt x="9599" y="6"/>
                    </a:cubicBezTo>
                    <a:lnTo>
                      <a:pt x="9599" y="6"/>
                    </a:lnTo>
                    <a:cubicBezTo>
                      <a:pt x="9598" y="6"/>
                      <a:pt x="9597" y="6"/>
                      <a:pt x="9597" y="4"/>
                    </a:cubicBezTo>
                    <a:cubicBezTo>
                      <a:pt x="9597" y="3"/>
                      <a:pt x="9598" y="2"/>
                      <a:pt x="9599" y="2"/>
                    </a:cubicBezTo>
                    <a:close/>
                    <a:moveTo>
                      <a:pt x="9607" y="2"/>
                    </a:moveTo>
                    <a:lnTo>
                      <a:pt x="9607" y="2"/>
                    </a:lnTo>
                    <a:cubicBezTo>
                      <a:pt x="9608" y="2"/>
                      <a:pt x="9609" y="3"/>
                      <a:pt x="9609" y="4"/>
                    </a:cubicBezTo>
                    <a:cubicBezTo>
                      <a:pt x="9609" y="6"/>
                      <a:pt x="9608" y="6"/>
                      <a:pt x="9607" y="6"/>
                    </a:cubicBezTo>
                    <a:lnTo>
                      <a:pt x="9607" y="6"/>
                    </a:lnTo>
                    <a:cubicBezTo>
                      <a:pt x="9606" y="6"/>
                      <a:pt x="9605" y="6"/>
                      <a:pt x="9605" y="4"/>
                    </a:cubicBezTo>
                    <a:cubicBezTo>
                      <a:pt x="9605" y="3"/>
                      <a:pt x="9606" y="2"/>
                      <a:pt x="9607" y="2"/>
                    </a:cubicBezTo>
                    <a:close/>
                    <a:moveTo>
                      <a:pt x="9615" y="2"/>
                    </a:moveTo>
                    <a:lnTo>
                      <a:pt x="9615" y="2"/>
                    </a:lnTo>
                    <a:cubicBezTo>
                      <a:pt x="9616" y="2"/>
                      <a:pt x="9617" y="3"/>
                      <a:pt x="9617" y="4"/>
                    </a:cubicBezTo>
                    <a:cubicBezTo>
                      <a:pt x="9617" y="6"/>
                      <a:pt x="9616" y="6"/>
                      <a:pt x="9615" y="6"/>
                    </a:cubicBezTo>
                    <a:lnTo>
                      <a:pt x="9615" y="6"/>
                    </a:lnTo>
                    <a:cubicBezTo>
                      <a:pt x="9614" y="6"/>
                      <a:pt x="9613" y="6"/>
                      <a:pt x="9613" y="4"/>
                    </a:cubicBezTo>
                    <a:cubicBezTo>
                      <a:pt x="9613" y="3"/>
                      <a:pt x="9614" y="2"/>
                      <a:pt x="9615" y="2"/>
                    </a:cubicBezTo>
                    <a:close/>
                    <a:moveTo>
                      <a:pt x="9623" y="2"/>
                    </a:moveTo>
                    <a:lnTo>
                      <a:pt x="9623" y="2"/>
                    </a:lnTo>
                    <a:cubicBezTo>
                      <a:pt x="9624" y="2"/>
                      <a:pt x="9625" y="3"/>
                      <a:pt x="9625" y="4"/>
                    </a:cubicBezTo>
                    <a:cubicBezTo>
                      <a:pt x="9625" y="6"/>
                      <a:pt x="9624" y="6"/>
                      <a:pt x="9623" y="6"/>
                    </a:cubicBezTo>
                    <a:lnTo>
                      <a:pt x="9623" y="6"/>
                    </a:lnTo>
                    <a:cubicBezTo>
                      <a:pt x="9622" y="6"/>
                      <a:pt x="9621" y="6"/>
                      <a:pt x="9621" y="4"/>
                    </a:cubicBezTo>
                    <a:cubicBezTo>
                      <a:pt x="9621" y="3"/>
                      <a:pt x="9622" y="2"/>
                      <a:pt x="9623" y="2"/>
                    </a:cubicBezTo>
                    <a:close/>
                    <a:moveTo>
                      <a:pt x="9631" y="2"/>
                    </a:moveTo>
                    <a:lnTo>
                      <a:pt x="9631" y="2"/>
                    </a:lnTo>
                    <a:cubicBezTo>
                      <a:pt x="9632" y="2"/>
                      <a:pt x="9633" y="3"/>
                      <a:pt x="9633" y="4"/>
                    </a:cubicBezTo>
                    <a:cubicBezTo>
                      <a:pt x="9633" y="6"/>
                      <a:pt x="9632" y="6"/>
                      <a:pt x="9631" y="6"/>
                    </a:cubicBezTo>
                    <a:lnTo>
                      <a:pt x="9631" y="6"/>
                    </a:lnTo>
                    <a:cubicBezTo>
                      <a:pt x="9630" y="6"/>
                      <a:pt x="9629" y="6"/>
                      <a:pt x="9629" y="4"/>
                    </a:cubicBezTo>
                    <a:cubicBezTo>
                      <a:pt x="9629" y="3"/>
                      <a:pt x="9630" y="2"/>
                      <a:pt x="9631" y="2"/>
                    </a:cubicBezTo>
                    <a:close/>
                    <a:moveTo>
                      <a:pt x="9639" y="2"/>
                    </a:moveTo>
                    <a:lnTo>
                      <a:pt x="9639" y="2"/>
                    </a:lnTo>
                    <a:cubicBezTo>
                      <a:pt x="9640" y="2"/>
                      <a:pt x="9641" y="3"/>
                      <a:pt x="9641" y="4"/>
                    </a:cubicBezTo>
                    <a:cubicBezTo>
                      <a:pt x="9641" y="6"/>
                      <a:pt x="9640" y="6"/>
                      <a:pt x="9639" y="6"/>
                    </a:cubicBezTo>
                    <a:lnTo>
                      <a:pt x="9639" y="6"/>
                    </a:lnTo>
                    <a:cubicBezTo>
                      <a:pt x="9638" y="6"/>
                      <a:pt x="9637" y="6"/>
                      <a:pt x="9637" y="4"/>
                    </a:cubicBezTo>
                    <a:cubicBezTo>
                      <a:pt x="9637" y="3"/>
                      <a:pt x="9638" y="2"/>
                      <a:pt x="9639" y="2"/>
                    </a:cubicBezTo>
                    <a:close/>
                    <a:moveTo>
                      <a:pt x="9647" y="2"/>
                    </a:moveTo>
                    <a:lnTo>
                      <a:pt x="9647" y="2"/>
                    </a:lnTo>
                    <a:cubicBezTo>
                      <a:pt x="9648" y="2"/>
                      <a:pt x="9649" y="3"/>
                      <a:pt x="9649" y="4"/>
                    </a:cubicBezTo>
                    <a:cubicBezTo>
                      <a:pt x="9649" y="6"/>
                      <a:pt x="9648" y="6"/>
                      <a:pt x="9647" y="6"/>
                    </a:cubicBezTo>
                    <a:lnTo>
                      <a:pt x="9647" y="6"/>
                    </a:lnTo>
                    <a:cubicBezTo>
                      <a:pt x="9646" y="6"/>
                      <a:pt x="9645" y="6"/>
                      <a:pt x="9645" y="4"/>
                    </a:cubicBezTo>
                    <a:cubicBezTo>
                      <a:pt x="9645" y="3"/>
                      <a:pt x="9646" y="2"/>
                      <a:pt x="9647" y="2"/>
                    </a:cubicBezTo>
                    <a:close/>
                    <a:moveTo>
                      <a:pt x="9655" y="2"/>
                    </a:moveTo>
                    <a:lnTo>
                      <a:pt x="9655" y="2"/>
                    </a:lnTo>
                    <a:cubicBezTo>
                      <a:pt x="9656" y="2"/>
                      <a:pt x="9657" y="3"/>
                      <a:pt x="9657" y="4"/>
                    </a:cubicBezTo>
                    <a:cubicBezTo>
                      <a:pt x="9657" y="6"/>
                      <a:pt x="9656" y="6"/>
                      <a:pt x="9655" y="6"/>
                    </a:cubicBezTo>
                    <a:lnTo>
                      <a:pt x="9655" y="6"/>
                    </a:lnTo>
                    <a:cubicBezTo>
                      <a:pt x="9654" y="6"/>
                      <a:pt x="9653" y="6"/>
                      <a:pt x="9653" y="4"/>
                    </a:cubicBezTo>
                    <a:cubicBezTo>
                      <a:pt x="9653" y="3"/>
                      <a:pt x="9654" y="2"/>
                      <a:pt x="9655" y="2"/>
                    </a:cubicBezTo>
                    <a:close/>
                    <a:moveTo>
                      <a:pt x="9663" y="2"/>
                    </a:moveTo>
                    <a:lnTo>
                      <a:pt x="9663" y="2"/>
                    </a:lnTo>
                    <a:cubicBezTo>
                      <a:pt x="9664" y="2"/>
                      <a:pt x="9665" y="3"/>
                      <a:pt x="9665" y="4"/>
                    </a:cubicBezTo>
                    <a:cubicBezTo>
                      <a:pt x="9665" y="6"/>
                      <a:pt x="9664" y="6"/>
                      <a:pt x="9663" y="6"/>
                    </a:cubicBezTo>
                    <a:lnTo>
                      <a:pt x="9663" y="6"/>
                    </a:lnTo>
                    <a:cubicBezTo>
                      <a:pt x="9662" y="6"/>
                      <a:pt x="9661" y="6"/>
                      <a:pt x="9661" y="4"/>
                    </a:cubicBezTo>
                    <a:cubicBezTo>
                      <a:pt x="9661" y="3"/>
                      <a:pt x="9662" y="2"/>
                      <a:pt x="9663" y="2"/>
                    </a:cubicBezTo>
                    <a:close/>
                    <a:moveTo>
                      <a:pt x="9671" y="2"/>
                    </a:moveTo>
                    <a:lnTo>
                      <a:pt x="9671" y="2"/>
                    </a:lnTo>
                    <a:cubicBezTo>
                      <a:pt x="9672" y="2"/>
                      <a:pt x="9673" y="3"/>
                      <a:pt x="9673" y="4"/>
                    </a:cubicBezTo>
                    <a:cubicBezTo>
                      <a:pt x="9673" y="6"/>
                      <a:pt x="9672" y="6"/>
                      <a:pt x="9671" y="6"/>
                    </a:cubicBezTo>
                    <a:lnTo>
                      <a:pt x="9671" y="6"/>
                    </a:lnTo>
                    <a:cubicBezTo>
                      <a:pt x="9670" y="6"/>
                      <a:pt x="9669" y="6"/>
                      <a:pt x="9669" y="4"/>
                    </a:cubicBezTo>
                    <a:cubicBezTo>
                      <a:pt x="9669" y="3"/>
                      <a:pt x="9670" y="2"/>
                      <a:pt x="9671" y="2"/>
                    </a:cubicBezTo>
                    <a:close/>
                    <a:moveTo>
                      <a:pt x="9679" y="2"/>
                    </a:moveTo>
                    <a:lnTo>
                      <a:pt x="9679" y="2"/>
                    </a:lnTo>
                    <a:cubicBezTo>
                      <a:pt x="9680" y="2"/>
                      <a:pt x="9681" y="3"/>
                      <a:pt x="9681" y="4"/>
                    </a:cubicBezTo>
                    <a:cubicBezTo>
                      <a:pt x="9681" y="6"/>
                      <a:pt x="9680" y="6"/>
                      <a:pt x="9679" y="6"/>
                    </a:cubicBezTo>
                    <a:lnTo>
                      <a:pt x="9679" y="6"/>
                    </a:lnTo>
                    <a:cubicBezTo>
                      <a:pt x="9678" y="6"/>
                      <a:pt x="9677" y="6"/>
                      <a:pt x="9677" y="4"/>
                    </a:cubicBezTo>
                    <a:cubicBezTo>
                      <a:pt x="9677" y="3"/>
                      <a:pt x="9678" y="2"/>
                      <a:pt x="9679" y="2"/>
                    </a:cubicBezTo>
                    <a:close/>
                    <a:moveTo>
                      <a:pt x="9687" y="2"/>
                    </a:moveTo>
                    <a:lnTo>
                      <a:pt x="9687" y="2"/>
                    </a:lnTo>
                    <a:cubicBezTo>
                      <a:pt x="9688" y="2"/>
                      <a:pt x="9689" y="3"/>
                      <a:pt x="9689" y="4"/>
                    </a:cubicBezTo>
                    <a:cubicBezTo>
                      <a:pt x="9689" y="6"/>
                      <a:pt x="9688" y="6"/>
                      <a:pt x="9687" y="6"/>
                    </a:cubicBezTo>
                    <a:lnTo>
                      <a:pt x="9687" y="6"/>
                    </a:lnTo>
                    <a:cubicBezTo>
                      <a:pt x="9686" y="6"/>
                      <a:pt x="9685" y="6"/>
                      <a:pt x="9685" y="4"/>
                    </a:cubicBezTo>
                    <a:cubicBezTo>
                      <a:pt x="9685" y="3"/>
                      <a:pt x="9686" y="2"/>
                      <a:pt x="9687" y="2"/>
                    </a:cubicBezTo>
                    <a:close/>
                    <a:moveTo>
                      <a:pt x="9695" y="2"/>
                    </a:moveTo>
                    <a:lnTo>
                      <a:pt x="9695" y="2"/>
                    </a:lnTo>
                    <a:cubicBezTo>
                      <a:pt x="9696" y="2"/>
                      <a:pt x="9697" y="3"/>
                      <a:pt x="9697" y="4"/>
                    </a:cubicBezTo>
                    <a:cubicBezTo>
                      <a:pt x="9697" y="6"/>
                      <a:pt x="9696" y="6"/>
                      <a:pt x="9695" y="6"/>
                    </a:cubicBezTo>
                    <a:lnTo>
                      <a:pt x="9695" y="6"/>
                    </a:lnTo>
                    <a:cubicBezTo>
                      <a:pt x="9694" y="6"/>
                      <a:pt x="9693" y="6"/>
                      <a:pt x="9693" y="4"/>
                    </a:cubicBezTo>
                    <a:cubicBezTo>
                      <a:pt x="9693" y="3"/>
                      <a:pt x="9694" y="2"/>
                      <a:pt x="9695" y="2"/>
                    </a:cubicBezTo>
                    <a:close/>
                    <a:moveTo>
                      <a:pt x="9703" y="2"/>
                    </a:moveTo>
                    <a:lnTo>
                      <a:pt x="9703" y="2"/>
                    </a:lnTo>
                    <a:cubicBezTo>
                      <a:pt x="9704" y="2"/>
                      <a:pt x="9705" y="3"/>
                      <a:pt x="9705" y="4"/>
                    </a:cubicBezTo>
                    <a:cubicBezTo>
                      <a:pt x="9705" y="6"/>
                      <a:pt x="9704" y="6"/>
                      <a:pt x="9703" y="6"/>
                    </a:cubicBezTo>
                    <a:lnTo>
                      <a:pt x="9703" y="6"/>
                    </a:lnTo>
                    <a:cubicBezTo>
                      <a:pt x="9702" y="6"/>
                      <a:pt x="9701" y="6"/>
                      <a:pt x="9701" y="4"/>
                    </a:cubicBezTo>
                    <a:cubicBezTo>
                      <a:pt x="9701" y="3"/>
                      <a:pt x="9702" y="2"/>
                      <a:pt x="9703" y="2"/>
                    </a:cubicBezTo>
                    <a:close/>
                    <a:moveTo>
                      <a:pt x="9711" y="2"/>
                    </a:moveTo>
                    <a:lnTo>
                      <a:pt x="9711" y="2"/>
                    </a:lnTo>
                    <a:cubicBezTo>
                      <a:pt x="9712" y="2"/>
                      <a:pt x="9713" y="3"/>
                      <a:pt x="9713" y="4"/>
                    </a:cubicBezTo>
                    <a:cubicBezTo>
                      <a:pt x="9713" y="6"/>
                      <a:pt x="9712" y="6"/>
                      <a:pt x="9711" y="6"/>
                    </a:cubicBezTo>
                    <a:lnTo>
                      <a:pt x="9711" y="6"/>
                    </a:lnTo>
                    <a:cubicBezTo>
                      <a:pt x="9710" y="6"/>
                      <a:pt x="9709" y="6"/>
                      <a:pt x="9709" y="4"/>
                    </a:cubicBezTo>
                    <a:cubicBezTo>
                      <a:pt x="9709" y="3"/>
                      <a:pt x="9710" y="2"/>
                      <a:pt x="9711" y="2"/>
                    </a:cubicBezTo>
                    <a:close/>
                    <a:moveTo>
                      <a:pt x="9719" y="2"/>
                    </a:moveTo>
                    <a:lnTo>
                      <a:pt x="9719" y="2"/>
                    </a:lnTo>
                    <a:cubicBezTo>
                      <a:pt x="9720" y="2"/>
                      <a:pt x="9721" y="3"/>
                      <a:pt x="9721" y="4"/>
                    </a:cubicBezTo>
                    <a:cubicBezTo>
                      <a:pt x="9721" y="6"/>
                      <a:pt x="9720" y="6"/>
                      <a:pt x="9719" y="6"/>
                    </a:cubicBezTo>
                    <a:lnTo>
                      <a:pt x="9719" y="6"/>
                    </a:lnTo>
                    <a:cubicBezTo>
                      <a:pt x="9718" y="6"/>
                      <a:pt x="9717" y="6"/>
                      <a:pt x="9717" y="4"/>
                    </a:cubicBezTo>
                    <a:cubicBezTo>
                      <a:pt x="9717" y="3"/>
                      <a:pt x="9718" y="2"/>
                      <a:pt x="9719" y="2"/>
                    </a:cubicBezTo>
                    <a:close/>
                    <a:moveTo>
                      <a:pt x="9727" y="2"/>
                    </a:moveTo>
                    <a:lnTo>
                      <a:pt x="9727" y="2"/>
                    </a:lnTo>
                    <a:cubicBezTo>
                      <a:pt x="9728" y="2"/>
                      <a:pt x="9729" y="3"/>
                      <a:pt x="9729" y="4"/>
                    </a:cubicBezTo>
                    <a:cubicBezTo>
                      <a:pt x="9729" y="6"/>
                      <a:pt x="9728" y="6"/>
                      <a:pt x="9727" y="6"/>
                    </a:cubicBezTo>
                    <a:lnTo>
                      <a:pt x="9727" y="6"/>
                    </a:lnTo>
                    <a:cubicBezTo>
                      <a:pt x="9726" y="6"/>
                      <a:pt x="9725" y="6"/>
                      <a:pt x="9725" y="4"/>
                    </a:cubicBezTo>
                    <a:cubicBezTo>
                      <a:pt x="9725" y="3"/>
                      <a:pt x="9726" y="2"/>
                      <a:pt x="9727" y="2"/>
                    </a:cubicBezTo>
                    <a:close/>
                    <a:moveTo>
                      <a:pt x="9735" y="2"/>
                    </a:moveTo>
                    <a:lnTo>
                      <a:pt x="9735" y="2"/>
                    </a:lnTo>
                    <a:cubicBezTo>
                      <a:pt x="9736" y="2"/>
                      <a:pt x="9737" y="3"/>
                      <a:pt x="9737" y="4"/>
                    </a:cubicBezTo>
                    <a:cubicBezTo>
                      <a:pt x="9737" y="6"/>
                      <a:pt x="9736" y="6"/>
                      <a:pt x="9735" y="6"/>
                    </a:cubicBezTo>
                    <a:lnTo>
                      <a:pt x="9735" y="6"/>
                    </a:lnTo>
                    <a:cubicBezTo>
                      <a:pt x="9734" y="6"/>
                      <a:pt x="9733" y="6"/>
                      <a:pt x="9733" y="4"/>
                    </a:cubicBezTo>
                    <a:cubicBezTo>
                      <a:pt x="9733" y="3"/>
                      <a:pt x="9734" y="2"/>
                      <a:pt x="9735" y="2"/>
                    </a:cubicBezTo>
                    <a:close/>
                    <a:moveTo>
                      <a:pt x="9743" y="2"/>
                    </a:moveTo>
                    <a:lnTo>
                      <a:pt x="9743" y="2"/>
                    </a:lnTo>
                    <a:cubicBezTo>
                      <a:pt x="9744" y="2"/>
                      <a:pt x="9745" y="3"/>
                      <a:pt x="9745" y="4"/>
                    </a:cubicBezTo>
                    <a:cubicBezTo>
                      <a:pt x="9745" y="6"/>
                      <a:pt x="9744" y="6"/>
                      <a:pt x="9743" y="6"/>
                    </a:cubicBezTo>
                    <a:lnTo>
                      <a:pt x="9743" y="6"/>
                    </a:lnTo>
                    <a:cubicBezTo>
                      <a:pt x="9742" y="6"/>
                      <a:pt x="9741" y="6"/>
                      <a:pt x="9741" y="4"/>
                    </a:cubicBezTo>
                    <a:cubicBezTo>
                      <a:pt x="9741" y="3"/>
                      <a:pt x="9742" y="2"/>
                      <a:pt x="9743" y="2"/>
                    </a:cubicBezTo>
                    <a:close/>
                    <a:moveTo>
                      <a:pt x="9751" y="2"/>
                    </a:moveTo>
                    <a:lnTo>
                      <a:pt x="9751" y="2"/>
                    </a:lnTo>
                    <a:cubicBezTo>
                      <a:pt x="9752" y="2"/>
                      <a:pt x="9753" y="3"/>
                      <a:pt x="9753" y="4"/>
                    </a:cubicBezTo>
                    <a:cubicBezTo>
                      <a:pt x="9753" y="6"/>
                      <a:pt x="9752" y="6"/>
                      <a:pt x="9751" y="6"/>
                    </a:cubicBezTo>
                    <a:lnTo>
                      <a:pt x="9751" y="6"/>
                    </a:lnTo>
                    <a:cubicBezTo>
                      <a:pt x="9750" y="6"/>
                      <a:pt x="9749" y="6"/>
                      <a:pt x="9749" y="4"/>
                    </a:cubicBezTo>
                    <a:cubicBezTo>
                      <a:pt x="9749" y="3"/>
                      <a:pt x="9750" y="2"/>
                      <a:pt x="9751" y="2"/>
                    </a:cubicBezTo>
                    <a:close/>
                    <a:moveTo>
                      <a:pt x="9759" y="2"/>
                    </a:moveTo>
                    <a:lnTo>
                      <a:pt x="9759" y="2"/>
                    </a:lnTo>
                    <a:cubicBezTo>
                      <a:pt x="9760" y="2"/>
                      <a:pt x="9761" y="3"/>
                      <a:pt x="9761" y="4"/>
                    </a:cubicBezTo>
                    <a:cubicBezTo>
                      <a:pt x="9761" y="6"/>
                      <a:pt x="9760" y="6"/>
                      <a:pt x="9759" y="6"/>
                    </a:cubicBezTo>
                    <a:lnTo>
                      <a:pt x="9759" y="6"/>
                    </a:lnTo>
                    <a:cubicBezTo>
                      <a:pt x="9758" y="6"/>
                      <a:pt x="9757" y="6"/>
                      <a:pt x="9757" y="4"/>
                    </a:cubicBezTo>
                    <a:cubicBezTo>
                      <a:pt x="9757" y="3"/>
                      <a:pt x="9758" y="2"/>
                      <a:pt x="9759" y="2"/>
                    </a:cubicBezTo>
                    <a:close/>
                    <a:moveTo>
                      <a:pt x="9767" y="2"/>
                    </a:moveTo>
                    <a:lnTo>
                      <a:pt x="9767" y="2"/>
                    </a:lnTo>
                    <a:cubicBezTo>
                      <a:pt x="9768" y="2"/>
                      <a:pt x="9769" y="3"/>
                      <a:pt x="9769" y="4"/>
                    </a:cubicBezTo>
                    <a:cubicBezTo>
                      <a:pt x="9769" y="6"/>
                      <a:pt x="9768" y="6"/>
                      <a:pt x="9767" y="6"/>
                    </a:cubicBezTo>
                    <a:lnTo>
                      <a:pt x="9767" y="6"/>
                    </a:lnTo>
                    <a:cubicBezTo>
                      <a:pt x="9766" y="6"/>
                      <a:pt x="9765" y="6"/>
                      <a:pt x="9765" y="4"/>
                    </a:cubicBezTo>
                    <a:cubicBezTo>
                      <a:pt x="9765" y="3"/>
                      <a:pt x="9766" y="2"/>
                      <a:pt x="9767" y="2"/>
                    </a:cubicBezTo>
                    <a:close/>
                    <a:moveTo>
                      <a:pt x="9775" y="3"/>
                    </a:moveTo>
                    <a:lnTo>
                      <a:pt x="9775" y="3"/>
                    </a:lnTo>
                    <a:cubicBezTo>
                      <a:pt x="9776" y="3"/>
                      <a:pt x="9777" y="3"/>
                      <a:pt x="9777" y="5"/>
                    </a:cubicBezTo>
                    <a:cubicBezTo>
                      <a:pt x="9777" y="6"/>
                      <a:pt x="9776" y="7"/>
                      <a:pt x="9775" y="7"/>
                    </a:cubicBezTo>
                    <a:lnTo>
                      <a:pt x="9775" y="7"/>
                    </a:lnTo>
                    <a:cubicBezTo>
                      <a:pt x="9774" y="7"/>
                      <a:pt x="9773" y="6"/>
                      <a:pt x="9773" y="5"/>
                    </a:cubicBezTo>
                    <a:cubicBezTo>
                      <a:pt x="9773" y="3"/>
                      <a:pt x="9774" y="3"/>
                      <a:pt x="9775" y="3"/>
                    </a:cubicBezTo>
                    <a:close/>
                    <a:moveTo>
                      <a:pt x="9783" y="3"/>
                    </a:moveTo>
                    <a:lnTo>
                      <a:pt x="9783" y="3"/>
                    </a:lnTo>
                    <a:cubicBezTo>
                      <a:pt x="9784" y="3"/>
                      <a:pt x="9785" y="3"/>
                      <a:pt x="9785" y="5"/>
                    </a:cubicBezTo>
                    <a:cubicBezTo>
                      <a:pt x="9785" y="6"/>
                      <a:pt x="9784" y="7"/>
                      <a:pt x="9783" y="7"/>
                    </a:cubicBezTo>
                    <a:lnTo>
                      <a:pt x="9783" y="7"/>
                    </a:lnTo>
                    <a:cubicBezTo>
                      <a:pt x="9782" y="7"/>
                      <a:pt x="9781" y="6"/>
                      <a:pt x="9781" y="5"/>
                    </a:cubicBezTo>
                    <a:cubicBezTo>
                      <a:pt x="9781" y="3"/>
                      <a:pt x="9782" y="3"/>
                      <a:pt x="9783" y="3"/>
                    </a:cubicBezTo>
                    <a:close/>
                    <a:moveTo>
                      <a:pt x="9791" y="3"/>
                    </a:moveTo>
                    <a:lnTo>
                      <a:pt x="9791" y="3"/>
                    </a:lnTo>
                    <a:cubicBezTo>
                      <a:pt x="9792" y="3"/>
                      <a:pt x="9793" y="3"/>
                      <a:pt x="9793" y="5"/>
                    </a:cubicBezTo>
                    <a:cubicBezTo>
                      <a:pt x="9793" y="6"/>
                      <a:pt x="9792" y="7"/>
                      <a:pt x="9791" y="7"/>
                    </a:cubicBezTo>
                    <a:lnTo>
                      <a:pt x="9791" y="7"/>
                    </a:lnTo>
                    <a:cubicBezTo>
                      <a:pt x="9790" y="7"/>
                      <a:pt x="9789" y="6"/>
                      <a:pt x="9789" y="5"/>
                    </a:cubicBezTo>
                    <a:cubicBezTo>
                      <a:pt x="9789" y="3"/>
                      <a:pt x="9790" y="3"/>
                      <a:pt x="9791" y="3"/>
                    </a:cubicBezTo>
                    <a:close/>
                    <a:moveTo>
                      <a:pt x="9799" y="3"/>
                    </a:moveTo>
                    <a:lnTo>
                      <a:pt x="9799" y="3"/>
                    </a:lnTo>
                    <a:cubicBezTo>
                      <a:pt x="9800" y="3"/>
                      <a:pt x="9801" y="3"/>
                      <a:pt x="9801" y="5"/>
                    </a:cubicBezTo>
                    <a:cubicBezTo>
                      <a:pt x="9801" y="6"/>
                      <a:pt x="9800" y="7"/>
                      <a:pt x="9799" y="7"/>
                    </a:cubicBezTo>
                    <a:lnTo>
                      <a:pt x="9799" y="7"/>
                    </a:lnTo>
                    <a:cubicBezTo>
                      <a:pt x="9798" y="7"/>
                      <a:pt x="9797" y="6"/>
                      <a:pt x="9797" y="5"/>
                    </a:cubicBezTo>
                    <a:cubicBezTo>
                      <a:pt x="9797" y="3"/>
                      <a:pt x="9798" y="3"/>
                      <a:pt x="9799" y="3"/>
                    </a:cubicBezTo>
                    <a:close/>
                    <a:moveTo>
                      <a:pt x="9807" y="3"/>
                    </a:moveTo>
                    <a:lnTo>
                      <a:pt x="9807" y="3"/>
                    </a:lnTo>
                    <a:cubicBezTo>
                      <a:pt x="9808" y="3"/>
                      <a:pt x="9809" y="3"/>
                      <a:pt x="9809" y="5"/>
                    </a:cubicBezTo>
                    <a:cubicBezTo>
                      <a:pt x="9809" y="6"/>
                      <a:pt x="9808" y="7"/>
                      <a:pt x="9807" y="7"/>
                    </a:cubicBezTo>
                    <a:lnTo>
                      <a:pt x="9807" y="7"/>
                    </a:lnTo>
                    <a:cubicBezTo>
                      <a:pt x="9806" y="7"/>
                      <a:pt x="9805" y="6"/>
                      <a:pt x="9805" y="5"/>
                    </a:cubicBezTo>
                    <a:cubicBezTo>
                      <a:pt x="9805" y="3"/>
                      <a:pt x="9806" y="3"/>
                      <a:pt x="9807" y="3"/>
                    </a:cubicBezTo>
                    <a:close/>
                    <a:moveTo>
                      <a:pt x="9815" y="3"/>
                    </a:moveTo>
                    <a:lnTo>
                      <a:pt x="9815" y="3"/>
                    </a:lnTo>
                    <a:cubicBezTo>
                      <a:pt x="9816" y="3"/>
                      <a:pt x="9817" y="3"/>
                      <a:pt x="9817" y="5"/>
                    </a:cubicBezTo>
                    <a:cubicBezTo>
                      <a:pt x="9817" y="6"/>
                      <a:pt x="9816" y="7"/>
                      <a:pt x="9815" y="7"/>
                    </a:cubicBezTo>
                    <a:lnTo>
                      <a:pt x="9815" y="7"/>
                    </a:lnTo>
                    <a:cubicBezTo>
                      <a:pt x="9814" y="7"/>
                      <a:pt x="9813" y="6"/>
                      <a:pt x="9813" y="5"/>
                    </a:cubicBezTo>
                    <a:cubicBezTo>
                      <a:pt x="9813" y="3"/>
                      <a:pt x="9814" y="3"/>
                      <a:pt x="9815" y="3"/>
                    </a:cubicBezTo>
                    <a:close/>
                    <a:moveTo>
                      <a:pt x="9823" y="3"/>
                    </a:moveTo>
                    <a:lnTo>
                      <a:pt x="9823" y="3"/>
                    </a:lnTo>
                    <a:cubicBezTo>
                      <a:pt x="9824" y="3"/>
                      <a:pt x="9825" y="3"/>
                      <a:pt x="9825" y="5"/>
                    </a:cubicBezTo>
                    <a:cubicBezTo>
                      <a:pt x="9825" y="6"/>
                      <a:pt x="9824" y="7"/>
                      <a:pt x="9823" y="7"/>
                    </a:cubicBezTo>
                    <a:lnTo>
                      <a:pt x="9823" y="7"/>
                    </a:lnTo>
                    <a:cubicBezTo>
                      <a:pt x="9822" y="7"/>
                      <a:pt x="9821" y="6"/>
                      <a:pt x="9821" y="5"/>
                    </a:cubicBezTo>
                    <a:cubicBezTo>
                      <a:pt x="9821" y="3"/>
                      <a:pt x="9822" y="3"/>
                      <a:pt x="9823" y="3"/>
                    </a:cubicBezTo>
                    <a:close/>
                    <a:moveTo>
                      <a:pt x="9831" y="3"/>
                    </a:moveTo>
                    <a:lnTo>
                      <a:pt x="9831" y="3"/>
                    </a:lnTo>
                    <a:cubicBezTo>
                      <a:pt x="9832" y="3"/>
                      <a:pt x="9833" y="3"/>
                      <a:pt x="9833" y="5"/>
                    </a:cubicBezTo>
                    <a:cubicBezTo>
                      <a:pt x="9833" y="6"/>
                      <a:pt x="9832" y="7"/>
                      <a:pt x="9831" y="7"/>
                    </a:cubicBezTo>
                    <a:lnTo>
                      <a:pt x="9831" y="7"/>
                    </a:lnTo>
                    <a:cubicBezTo>
                      <a:pt x="9830" y="7"/>
                      <a:pt x="9829" y="6"/>
                      <a:pt x="9829" y="5"/>
                    </a:cubicBezTo>
                    <a:cubicBezTo>
                      <a:pt x="9829" y="3"/>
                      <a:pt x="9830" y="3"/>
                      <a:pt x="9831" y="3"/>
                    </a:cubicBezTo>
                    <a:close/>
                    <a:moveTo>
                      <a:pt x="9839" y="3"/>
                    </a:moveTo>
                    <a:lnTo>
                      <a:pt x="9839" y="3"/>
                    </a:lnTo>
                    <a:cubicBezTo>
                      <a:pt x="9840" y="3"/>
                      <a:pt x="9841" y="3"/>
                      <a:pt x="9841" y="5"/>
                    </a:cubicBezTo>
                    <a:cubicBezTo>
                      <a:pt x="9841" y="6"/>
                      <a:pt x="9840" y="7"/>
                      <a:pt x="9839" y="7"/>
                    </a:cubicBezTo>
                    <a:lnTo>
                      <a:pt x="9839" y="7"/>
                    </a:lnTo>
                    <a:cubicBezTo>
                      <a:pt x="9838" y="7"/>
                      <a:pt x="9837" y="6"/>
                      <a:pt x="9837" y="5"/>
                    </a:cubicBezTo>
                    <a:cubicBezTo>
                      <a:pt x="9837" y="3"/>
                      <a:pt x="9838" y="3"/>
                      <a:pt x="9839" y="3"/>
                    </a:cubicBezTo>
                    <a:close/>
                    <a:moveTo>
                      <a:pt x="9847" y="3"/>
                    </a:moveTo>
                    <a:lnTo>
                      <a:pt x="9847" y="3"/>
                    </a:lnTo>
                    <a:cubicBezTo>
                      <a:pt x="9848" y="3"/>
                      <a:pt x="9849" y="3"/>
                      <a:pt x="9849" y="5"/>
                    </a:cubicBezTo>
                    <a:cubicBezTo>
                      <a:pt x="9849" y="6"/>
                      <a:pt x="9848" y="7"/>
                      <a:pt x="9847" y="7"/>
                    </a:cubicBezTo>
                    <a:lnTo>
                      <a:pt x="9847" y="7"/>
                    </a:lnTo>
                    <a:cubicBezTo>
                      <a:pt x="9846" y="7"/>
                      <a:pt x="9845" y="6"/>
                      <a:pt x="9845" y="5"/>
                    </a:cubicBezTo>
                    <a:cubicBezTo>
                      <a:pt x="9845" y="3"/>
                      <a:pt x="9846" y="3"/>
                      <a:pt x="9847" y="3"/>
                    </a:cubicBezTo>
                    <a:close/>
                    <a:moveTo>
                      <a:pt x="9855" y="3"/>
                    </a:moveTo>
                    <a:lnTo>
                      <a:pt x="9855" y="3"/>
                    </a:lnTo>
                    <a:cubicBezTo>
                      <a:pt x="9856" y="3"/>
                      <a:pt x="9857" y="3"/>
                      <a:pt x="9857" y="5"/>
                    </a:cubicBezTo>
                    <a:cubicBezTo>
                      <a:pt x="9857" y="6"/>
                      <a:pt x="9856" y="7"/>
                      <a:pt x="9855" y="7"/>
                    </a:cubicBezTo>
                    <a:lnTo>
                      <a:pt x="9855" y="7"/>
                    </a:lnTo>
                    <a:cubicBezTo>
                      <a:pt x="9854" y="7"/>
                      <a:pt x="9853" y="6"/>
                      <a:pt x="9853" y="5"/>
                    </a:cubicBezTo>
                    <a:cubicBezTo>
                      <a:pt x="9853" y="3"/>
                      <a:pt x="9854" y="3"/>
                      <a:pt x="9855" y="3"/>
                    </a:cubicBezTo>
                    <a:close/>
                    <a:moveTo>
                      <a:pt x="9863" y="3"/>
                    </a:moveTo>
                    <a:lnTo>
                      <a:pt x="9863" y="3"/>
                    </a:lnTo>
                    <a:cubicBezTo>
                      <a:pt x="9864" y="3"/>
                      <a:pt x="9865" y="3"/>
                      <a:pt x="9865" y="5"/>
                    </a:cubicBezTo>
                    <a:cubicBezTo>
                      <a:pt x="9865" y="6"/>
                      <a:pt x="9864" y="7"/>
                      <a:pt x="9863" y="7"/>
                    </a:cubicBezTo>
                    <a:lnTo>
                      <a:pt x="9863" y="7"/>
                    </a:lnTo>
                    <a:cubicBezTo>
                      <a:pt x="9862" y="7"/>
                      <a:pt x="9861" y="6"/>
                      <a:pt x="9861" y="5"/>
                    </a:cubicBezTo>
                    <a:cubicBezTo>
                      <a:pt x="9861" y="3"/>
                      <a:pt x="9862" y="3"/>
                      <a:pt x="9863" y="3"/>
                    </a:cubicBezTo>
                    <a:close/>
                    <a:moveTo>
                      <a:pt x="9871" y="3"/>
                    </a:moveTo>
                    <a:lnTo>
                      <a:pt x="9871" y="3"/>
                    </a:lnTo>
                    <a:cubicBezTo>
                      <a:pt x="9872" y="3"/>
                      <a:pt x="9873" y="3"/>
                      <a:pt x="9873" y="5"/>
                    </a:cubicBezTo>
                    <a:cubicBezTo>
                      <a:pt x="9873" y="6"/>
                      <a:pt x="9872" y="7"/>
                      <a:pt x="9871" y="7"/>
                    </a:cubicBezTo>
                    <a:lnTo>
                      <a:pt x="9871" y="7"/>
                    </a:lnTo>
                    <a:cubicBezTo>
                      <a:pt x="9870" y="7"/>
                      <a:pt x="9869" y="6"/>
                      <a:pt x="9869" y="5"/>
                    </a:cubicBezTo>
                    <a:cubicBezTo>
                      <a:pt x="9869" y="3"/>
                      <a:pt x="9870" y="3"/>
                      <a:pt x="9871" y="3"/>
                    </a:cubicBezTo>
                    <a:close/>
                    <a:moveTo>
                      <a:pt x="9879" y="3"/>
                    </a:moveTo>
                    <a:lnTo>
                      <a:pt x="9879" y="3"/>
                    </a:lnTo>
                    <a:cubicBezTo>
                      <a:pt x="9880" y="3"/>
                      <a:pt x="9881" y="3"/>
                      <a:pt x="9881" y="5"/>
                    </a:cubicBezTo>
                    <a:cubicBezTo>
                      <a:pt x="9881" y="6"/>
                      <a:pt x="9880" y="7"/>
                      <a:pt x="9879" y="7"/>
                    </a:cubicBezTo>
                    <a:lnTo>
                      <a:pt x="9879" y="7"/>
                    </a:lnTo>
                    <a:cubicBezTo>
                      <a:pt x="9878" y="7"/>
                      <a:pt x="9877" y="6"/>
                      <a:pt x="9877" y="5"/>
                    </a:cubicBezTo>
                    <a:cubicBezTo>
                      <a:pt x="9877" y="3"/>
                      <a:pt x="9878" y="3"/>
                      <a:pt x="9879" y="3"/>
                    </a:cubicBezTo>
                    <a:close/>
                    <a:moveTo>
                      <a:pt x="9887" y="3"/>
                    </a:moveTo>
                    <a:lnTo>
                      <a:pt x="9887" y="3"/>
                    </a:lnTo>
                    <a:cubicBezTo>
                      <a:pt x="9888" y="3"/>
                      <a:pt x="9889" y="3"/>
                      <a:pt x="9889" y="5"/>
                    </a:cubicBezTo>
                    <a:cubicBezTo>
                      <a:pt x="9889" y="6"/>
                      <a:pt x="9888" y="7"/>
                      <a:pt x="9887" y="7"/>
                    </a:cubicBezTo>
                    <a:lnTo>
                      <a:pt x="9887" y="7"/>
                    </a:lnTo>
                    <a:cubicBezTo>
                      <a:pt x="9886" y="7"/>
                      <a:pt x="9885" y="6"/>
                      <a:pt x="9885" y="5"/>
                    </a:cubicBezTo>
                    <a:cubicBezTo>
                      <a:pt x="9885" y="3"/>
                      <a:pt x="9886" y="3"/>
                      <a:pt x="9887" y="3"/>
                    </a:cubicBezTo>
                    <a:close/>
                    <a:moveTo>
                      <a:pt x="9895" y="3"/>
                    </a:moveTo>
                    <a:lnTo>
                      <a:pt x="9895" y="3"/>
                    </a:lnTo>
                    <a:cubicBezTo>
                      <a:pt x="9896" y="3"/>
                      <a:pt x="9897" y="3"/>
                      <a:pt x="9897" y="5"/>
                    </a:cubicBezTo>
                    <a:cubicBezTo>
                      <a:pt x="9897" y="6"/>
                      <a:pt x="9896" y="7"/>
                      <a:pt x="9895" y="7"/>
                    </a:cubicBezTo>
                    <a:lnTo>
                      <a:pt x="9895" y="7"/>
                    </a:lnTo>
                    <a:cubicBezTo>
                      <a:pt x="9894" y="7"/>
                      <a:pt x="9893" y="6"/>
                      <a:pt x="9893" y="5"/>
                    </a:cubicBezTo>
                    <a:cubicBezTo>
                      <a:pt x="9893" y="3"/>
                      <a:pt x="9894" y="3"/>
                      <a:pt x="9895" y="3"/>
                    </a:cubicBezTo>
                    <a:close/>
                    <a:moveTo>
                      <a:pt x="9903" y="3"/>
                    </a:moveTo>
                    <a:lnTo>
                      <a:pt x="9903" y="3"/>
                    </a:lnTo>
                    <a:cubicBezTo>
                      <a:pt x="9904" y="3"/>
                      <a:pt x="9905" y="3"/>
                      <a:pt x="9905" y="5"/>
                    </a:cubicBezTo>
                    <a:cubicBezTo>
                      <a:pt x="9905" y="6"/>
                      <a:pt x="9904" y="7"/>
                      <a:pt x="9903" y="7"/>
                    </a:cubicBezTo>
                    <a:lnTo>
                      <a:pt x="9903" y="7"/>
                    </a:lnTo>
                    <a:cubicBezTo>
                      <a:pt x="9902" y="7"/>
                      <a:pt x="9901" y="6"/>
                      <a:pt x="9901" y="5"/>
                    </a:cubicBezTo>
                    <a:cubicBezTo>
                      <a:pt x="9901" y="3"/>
                      <a:pt x="9902" y="3"/>
                      <a:pt x="9903" y="3"/>
                    </a:cubicBezTo>
                    <a:close/>
                    <a:moveTo>
                      <a:pt x="9911" y="3"/>
                    </a:moveTo>
                    <a:lnTo>
                      <a:pt x="9911" y="3"/>
                    </a:lnTo>
                    <a:cubicBezTo>
                      <a:pt x="9912" y="3"/>
                      <a:pt x="9913" y="3"/>
                      <a:pt x="9913" y="5"/>
                    </a:cubicBezTo>
                    <a:cubicBezTo>
                      <a:pt x="9913" y="6"/>
                      <a:pt x="9912" y="7"/>
                      <a:pt x="9911" y="7"/>
                    </a:cubicBezTo>
                    <a:lnTo>
                      <a:pt x="9911" y="7"/>
                    </a:lnTo>
                    <a:cubicBezTo>
                      <a:pt x="9910" y="7"/>
                      <a:pt x="9909" y="6"/>
                      <a:pt x="9909" y="5"/>
                    </a:cubicBezTo>
                    <a:cubicBezTo>
                      <a:pt x="9909" y="3"/>
                      <a:pt x="9910" y="3"/>
                      <a:pt x="9911" y="3"/>
                    </a:cubicBezTo>
                    <a:close/>
                    <a:moveTo>
                      <a:pt x="9919" y="3"/>
                    </a:moveTo>
                    <a:lnTo>
                      <a:pt x="9919" y="3"/>
                    </a:lnTo>
                    <a:cubicBezTo>
                      <a:pt x="9920" y="3"/>
                      <a:pt x="9921" y="3"/>
                      <a:pt x="9921" y="5"/>
                    </a:cubicBezTo>
                    <a:cubicBezTo>
                      <a:pt x="9921" y="6"/>
                      <a:pt x="9920" y="7"/>
                      <a:pt x="9919" y="7"/>
                    </a:cubicBezTo>
                    <a:lnTo>
                      <a:pt x="9919" y="7"/>
                    </a:lnTo>
                    <a:cubicBezTo>
                      <a:pt x="9918" y="7"/>
                      <a:pt x="9917" y="6"/>
                      <a:pt x="9917" y="5"/>
                    </a:cubicBezTo>
                    <a:cubicBezTo>
                      <a:pt x="9917" y="3"/>
                      <a:pt x="9918" y="3"/>
                      <a:pt x="9919" y="3"/>
                    </a:cubicBezTo>
                    <a:close/>
                    <a:moveTo>
                      <a:pt x="9927" y="3"/>
                    </a:moveTo>
                    <a:lnTo>
                      <a:pt x="9927" y="3"/>
                    </a:lnTo>
                    <a:cubicBezTo>
                      <a:pt x="9928" y="3"/>
                      <a:pt x="9929" y="3"/>
                      <a:pt x="9929" y="5"/>
                    </a:cubicBezTo>
                    <a:cubicBezTo>
                      <a:pt x="9929" y="6"/>
                      <a:pt x="9928" y="7"/>
                      <a:pt x="9927" y="7"/>
                    </a:cubicBezTo>
                    <a:lnTo>
                      <a:pt x="9927" y="7"/>
                    </a:lnTo>
                    <a:cubicBezTo>
                      <a:pt x="9926" y="7"/>
                      <a:pt x="9925" y="6"/>
                      <a:pt x="9925" y="5"/>
                    </a:cubicBezTo>
                    <a:cubicBezTo>
                      <a:pt x="9925" y="3"/>
                      <a:pt x="9926" y="3"/>
                      <a:pt x="9927" y="3"/>
                    </a:cubicBezTo>
                    <a:close/>
                    <a:moveTo>
                      <a:pt x="9935" y="3"/>
                    </a:moveTo>
                    <a:lnTo>
                      <a:pt x="9935" y="3"/>
                    </a:lnTo>
                    <a:cubicBezTo>
                      <a:pt x="9936" y="3"/>
                      <a:pt x="9937" y="3"/>
                      <a:pt x="9937" y="5"/>
                    </a:cubicBezTo>
                    <a:cubicBezTo>
                      <a:pt x="9937" y="6"/>
                      <a:pt x="9936" y="7"/>
                      <a:pt x="9935" y="7"/>
                    </a:cubicBezTo>
                    <a:lnTo>
                      <a:pt x="9935" y="7"/>
                    </a:lnTo>
                    <a:cubicBezTo>
                      <a:pt x="9934" y="7"/>
                      <a:pt x="9933" y="6"/>
                      <a:pt x="9933" y="5"/>
                    </a:cubicBezTo>
                    <a:cubicBezTo>
                      <a:pt x="9933" y="3"/>
                      <a:pt x="9934" y="3"/>
                      <a:pt x="9935" y="3"/>
                    </a:cubicBezTo>
                    <a:close/>
                    <a:moveTo>
                      <a:pt x="9943" y="3"/>
                    </a:moveTo>
                    <a:lnTo>
                      <a:pt x="9943" y="3"/>
                    </a:lnTo>
                    <a:cubicBezTo>
                      <a:pt x="9944" y="3"/>
                      <a:pt x="9945" y="3"/>
                      <a:pt x="9945" y="5"/>
                    </a:cubicBezTo>
                    <a:cubicBezTo>
                      <a:pt x="9945" y="6"/>
                      <a:pt x="9944" y="7"/>
                      <a:pt x="9943" y="7"/>
                    </a:cubicBezTo>
                    <a:lnTo>
                      <a:pt x="9943" y="7"/>
                    </a:lnTo>
                    <a:cubicBezTo>
                      <a:pt x="9942" y="7"/>
                      <a:pt x="9941" y="6"/>
                      <a:pt x="9941" y="5"/>
                    </a:cubicBezTo>
                    <a:cubicBezTo>
                      <a:pt x="9941" y="3"/>
                      <a:pt x="9942" y="3"/>
                      <a:pt x="9943" y="3"/>
                    </a:cubicBezTo>
                    <a:close/>
                    <a:moveTo>
                      <a:pt x="9951" y="3"/>
                    </a:moveTo>
                    <a:lnTo>
                      <a:pt x="9951" y="3"/>
                    </a:lnTo>
                    <a:cubicBezTo>
                      <a:pt x="9952" y="3"/>
                      <a:pt x="9953" y="3"/>
                      <a:pt x="9953" y="5"/>
                    </a:cubicBezTo>
                    <a:cubicBezTo>
                      <a:pt x="9953" y="6"/>
                      <a:pt x="9952" y="7"/>
                      <a:pt x="9951" y="7"/>
                    </a:cubicBezTo>
                    <a:lnTo>
                      <a:pt x="9951" y="7"/>
                    </a:lnTo>
                    <a:cubicBezTo>
                      <a:pt x="9950" y="7"/>
                      <a:pt x="9949" y="6"/>
                      <a:pt x="9949" y="5"/>
                    </a:cubicBezTo>
                    <a:cubicBezTo>
                      <a:pt x="9949" y="3"/>
                      <a:pt x="9950" y="3"/>
                      <a:pt x="9951" y="3"/>
                    </a:cubicBezTo>
                    <a:close/>
                    <a:moveTo>
                      <a:pt x="9959" y="3"/>
                    </a:moveTo>
                    <a:lnTo>
                      <a:pt x="9959" y="3"/>
                    </a:lnTo>
                    <a:cubicBezTo>
                      <a:pt x="9960" y="3"/>
                      <a:pt x="9961" y="3"/>
                      <a:pt x="9961" y="5"/>
                    </a:cubicBezTo>
                    <a:cubicBezTo>
                      <a:pt x="9961" y="6"/>
                      <a:pt x="9960" y="7"/>
                      <a:pt x="9959" y="7"/>
                    </a:cubicBezTo>
                    <a:lnTo>
                      <a:pt x="9959" y="7"/>
                    </a:lnTo>
                    <a:cubicBezTo>
                      <a:pt x="9958" y="7"/>
                      <a:pt x="9957" y="6"/>
                      <a:pt x="9957" y="5"/>
                    </a:cubicBezTo>
                    <a:cubicBezTo>
                      <a:pt x="9957" y="3"/>
                      <a:pt x="9958" y="3"/>
                      <a:pt x="9959" y="3"/>
                    </a:cubicBezTo>
                    <a:close/>
                    <a:moveTo>
                      <a:pt x="9967" y="3"/>
                    </a:moveTo>
                    <a:lnTo>
                      <a:pt x="9967" y="3"/>
                    </a:lnTo>
                    <a:cubicBezTo>
                      <a:pt x="9968" y="3"/>
                      <a:pt x="9969" y="3"/>
                      <a:pt x="9969" y="5"/>
                    </a:cubicBezTo>
                    <a:cubicBezTo>
                      <a:pt x="9969" y="6"/>
                      <a:pt x="9968" y="7"/>
                      <a:pt x="9967" y="7"/>
                    </a:cubicBezTo>
                    <a:lnTo>
                      <a:pt x="9967" y="7"/>
                    </a:lnTo>
                    <a:cubicBezTo>
                      <a:pt x="9966" y="7"/>
                      <a:pt x="9965" y="6"/>
                      <a:pt x="9965" y="5"/>
                    </a:cubicBezTo>
                    <a:cubicBezTo>
                      <a:pt x="9965" y="3"/>
                      <a:pt x="9966" y="3"/>
                      <a:pt x="9967" y="3"/>
                    </a:cubicBezTo>
                    <a:close/>
                    <a:moveTo>
                      <a:pt x="9975" y="3"/>
                    </a:moveTo>
                    <a:lnTo>
                      <a:pt x="9975" y="3"/>
                    </a:lnTo>
                    <a:cubicBezTo>
                      <a:pt x="9976" y="3"/>
                      <a:pt x="9977" y="3"/>
                      <a:pt x="9977" y="5"/>
                    </a:cubicBezTo>
                    <a:cubicBezTo>
                      <a:pt x="9977" y="6"/>
                      <a:pt x="9976" y="7"/>
                      <a:pt x="9975" y="7"/>
                    </a:cubicBezTo>
                    <a:lnTo>
                      <a:pt x="9975" y="7"/>
                    </a:lnTo>
                    <a:cubicBezTo>
                      <a:pt x="9974" y="7"/>
                      <a:pt x="9973" y="6"/>
                      <a:pt x="9973" y="5"/>
                    </a:cubicBezTo>
                    <a:cubicBezTo>
                      <a:pt x="9973" y="3"/>
                      <a:pt x="9974" y="3"/>
                      <a:pt x="9975" y="3"/>
                    </a:cubicBezTo>
                    <a:close/>
                    <a:moveTo>
                      <a:pt x="9983" y="3"/>
                    </a:moveTo>
                    <a:lnTo>
                      <a:pt x="9983" y="3"/>
                    </a:lnTo>
                    <a:cubicBezTo>
                      <a:pt x="9984" y="3"/>
                      <a:pt x="9985" y="3"/>
                      <a:pt x="9985" y="5"/>
                    </a:cubicBezTo>
                    <a:cubicBezTo>
                      <a:pt x="9985" y="6"/>
                      <a:pt x="9984" y="7"/>
                      <a:pt x="9983" y="7"/>
                    </a:cubicBezTo>
                    <a:lnTo>
                      <a:pt x="9983" y="7"/>
                    </a:lnTo>
                    <a:cubicBezTo>
                      <a:pt x="9982" y="7"/>
                      <a:pt x="9981" y="6"/>
                      <a:pt x="9981" y="5"/>
                    </a:cubicBezTo>
                    <a:cubicBezTo>
                      <a:pt x="9981" y="3"/>
                      <a:pt x="9982" y="3"/>
                      <a:pt x="9983" y="3"/>
                    </a:cubicBezTo>
                    <a:close/>
                    <a:moveTo>
                      <a:pt x="9991" y="3"/>
                    </a:moveTo>
                    <a:lnTo>
                      <a:pt x="9991" y="3"/>
                    </a:lnTo>
                    <a:cubicBezTo>
                      <a:pt x="9992" y="3"/>
                      <a:pt x="9993" y="3"/>
                      <a:pt x="9993" y="5"/>
                    </a:cubicBezTo>
                    <a:cubicBezTo>
                      <a:pt x="9993" y="6"/>
                      <a:pt x="9992" y="7"/>
                      <a:pt x="9991" y="7"/>
                    </a:cubicBezTo>
                    <a:lnTo>
                      <a:pt x="9991" y="7"/>
                    </a:lnTo>
                    <a:cubicBezTo>
                      <a:pt x="9990" y="7"/>
                      <a:pt x="9989" y="6"/>
                      <a:pt x="9989" y="5"/>
                    </a:cubicBezTo>
                    <a:cubicBezTo>
                      <a:pt x="9989" y="3"/>
                      <a:pt x="9990" y="3"/>
                      <a:pt x="9991" y="3"/>
                    </a:cubicBezTo>
                    <a:close/>
                    <a:moveTo>
                      <a:pt x="9999" y="3"/>
                    </a:moveTo>
                    <a:lnTo>
                      <a:pt x="9999" y="3"/>
                    </a:lnTo>
                    <a:cubicBezTo>
                      <a:pt x="10000" y="3"/>
                      <a:pt x="10001" y="3"/>
                      <a:pt x="10001" y="5"/>
                    </a:cubicBezTo>
                    <a:cubicBezTo>
                      <a:pt x="10001" y="6"/>
                      <a:pt x="10000" y="7"/>
                      <a:pt x="9999" y="7"/>
                    </a:cubicBezTo>
                    <a:lnTo>
                      <a:pt x="9999" y="7"/>
                    </a:lnTo>
                    <a:cubicBezTo>
                      <a:pt x="9998" y="7"/>
                      <a:pt x="9997" y="6"/>
                      <a:pt x="9997" y="5"/>
                    </a:cubicBezTo>
                    <a:cubicBezTo>
                      <a:pt x="9997" y="3"/>
                      <a:pt x="9998" y="3"/>
                      <a:pt x="9999" y="3"/>
                    </a:cubicBezTo>
                    <a:close/>
                    <a:moveTo>
                      <a:pt x="10007" y="3"/>
                    </a:moveTo>
                    <a:lnTo>
                      <a:pt x="10007" y="3"/>
                    </a:lnTo>
                    <a:cubicBezTo>
                      <a:pt x="10008" y="3"/>
                      <a:pt x="10009" y="3"/>
                      <a:pt x="10009" y="5"/>
                    </a:cubicBezTo>
                    <a:cubicBezTo>
                      <a:pt x="10009" y="6"/>
                      <a:pt x="10008" y="7"/>
                      <a:pt x="10007" y="7"/>
                    </a:cubicBezTo>
                    <a:lnTo>
                      <a:pt x="10007" y="7"/>
                    </a:lnTo>
                    <a:cubicBezTo>
                      <a:pt x="10006" y="7"/>
                      <a:pt x="10005" y="6"/>
                      <a:pt x="10005" y="5"/>
                    </a:cubicBezTo>
                    <a:cubicBezTo>
                      <a:pt x="10005" y="3"/>
                      <a:pt x="10006" y="3"/>
                      <a:pt x="10007" y="3"/>
                    </a:cubicBezTo>
                    <a:close/>
                    <a:moveTo>
                      <a:pt x="10015" y="3"/>
                    </a:moveTo>
                    <a:lnTo>
                      <a:pt x="10015" y="3"/>
                    </a:lnTo>
                    <a:cubicBezTo>
                      <a:pt x="10016" y="3"/>
                      <a:pt x="10017" y="3"/>
                      <a:pt x="10017" y="5"/>
                    </a:cubicBezTo>
                    <a:cubicBezTo>
                      <a:pt x="10017" y="6"/>
                      <a:pt x="10016" y="7"/>
                      <a:pt x="10015" y="7"/>
                    </a:cubicBezTo>
                    <a:lnTo>
                      <a:pt x="10015" y="7"/>
                    </a:lnTo>
                    <a:cubicBezTo>
                      <a:pt x="10014" y="7"/>
                      <a:pt x="10013" y="6"/>
                      <a:pt x="10013" y="5"/>
                    </a:cubicBezTo>
                    <a:cubicBezTo>
                      <a:pt x="10013" y="3"/>
                      <a:pt x="10014" y="3"/>
                      <a:pt x="10015" y="3"/>
                    </a:cubicBezTo>
                    <a:close/>
                    <a:moveTo>
                      <a:pt x="10023" y="3"/>
                    </a:moveTo>
                    <a:lnTo>
                      <a:pt x="10023" y="3"/>
                    </a:lnTo>
                    <a:cubicBezTo>
                      <a:pt x="10024" y="3"/>
                      <a:pt x="10025" y="3"/>
                      <a:pt x="10025" y="5"/>
                    </a:cubicBezTo>
                    <a:cubicBezTo>
                      <a:pt x="10025" y="6"/>
                      <a:pt x="10024" y="7"/>
                      <a:pt x="10023" y="7"/>
                    </a:cubicBezTo>
                    <a:lnTo>
                      <a:pt x="10023" y="7"/>
                    </a:lnTo>
                    <a:cubicBezTo>
                      <a:pt x="10022" y="7"/>
                      <a:pt x="10021" y="6"/>
                      <a:pt x="10021" y="5"/>
                    </a:cubicBezTo>
                    <a:cubicBezTo>
                      <a:pt x="10021" y="3"/>
                      <a:pt x="10022" y="3"/>
                      <a:pt x="10023" y="3"/>
                    </a:cubicBezTo>
                    <a:close/>
                    <a:moveTo>
                      <a:pt x="10031" y="3"/>
                    </a:moveTo>
                    <a:lnTo>
                      <a:pt x="10031" y="3"/>
                    </a:lnTo>
                    <a:cubicBezTo>
                      <a:pt x="10032" y="3"/>
                      <a:pt x="10033" y="3"/>
                      <a:pt x="10033" y="5"/>
                    </a:cubicBezTo>
                    <a:cubicBezTo>
                      <a:pt x="10033" y="6"/>
                      <a:pt x="10032" y="7"/>
                      <a:pt x="10031" y="7"/>
                    </a:cubicBezTo>
                    <a:lnTo>
                      <a:pt x="10031" y="7"/>
                    </a:lnTo>
                    <a:cubicBezTo>
                      <a:pt x="10030" y="7"/>
                      <a:pt x="10029" y="6"/>
                      <a:pt x="10029" y="5"/>
                    </a:cubicBezTo>
                    <a:cubicBezTo>
                      <a:pt x="10029" y="3"/>
                      <a:pt x="10030" y="3"/>
                      <a:pt x="10031" y="3"/>
                    </a:cubicBezTo>
                    <a:close/>
                    <a:moveTo>
                      <a:pt x="10039" y="3"/>
                    </a:moveTo>
                    <a:lnTo>
                      <a:pt x="10039" y="3"/>
                    </a:lnTo>
                    <a:cubicBezTo>
                      <a:pt x="10040" y="3"/>
                      <a:pt x="10041" y="3"/>
                      <a:pt x="10041" y="5"/>
                    </a:cubicBezTo>
                    <a:cubicBezTo>
                      <a:pt x="10041" y="6"/>
                      <a:pt x="10040" y="7"/>
                      <a:pt x="10039" y="7"/>
                    </a:cubicBezTo>
                    <a:lnTo>
                      <a:pt x="10039" y="7"/>
                    </a:lnTo>
                    <a:cubicBezTo>
                      <a:pt x="10038" y="7"/>
                      <a:pt x="10037" y="6"/>
                      <a:pt x="10037" y="5"/>
                    </a:cubicBezTo>
                    <a:cubicBezTo>
                      <a:pt x="10037" y="3"/>
                      <a:pt x="10038" y="3"/>
                      <a:pt x="10039" y="3"/>
                    </a:cubicBezTo>
                    <a:close/>
                    <a:moveTo>
                      <a:pt x="10047" y="3"/>
                    </a:moveTo>
                    <a:lnTo>
                      <a:pt x="10047" y="3"/>
                    </a:lnTo>
                    <a:cubicBezTo>
                      <a:pt x="10048" y="3"/>
                      <a:pt x="10049" y="3"/>
                      <a:pt x="10049" y="5"/>
                    </a:cubicBezTo>
                    <a:cubicBezTo>
                      <a:pt x="10049" y="6"/>
                      <a:pt x="10048" y="7"/>
                      <a:pt x="10047" y="7"/>
                    </a:cubicBezTo>
                    <a:lnTo>
                      <a:pt x="10047" y="7"/>
                    </a:lnTo>
                    <a:cubicBezTo>
                      <a:pt x="10046" y="7"/>
                      <a:pt x="10045" y="6"/>
                      <a:pt x="10045" y="5"/>
                    </a:cubicBezTo>
                    <a:cubicBezTo>
                      <a:pt x="10045" y="3"/>
                      <a:pt x="10046" y="3"/>
                      <a:pt x="10047" y="3"/>
                    </a:cubicBezTo>
                    <a:close/>
                    <a:moveTo>
                      <a:pt x="10055" y="3"/>
                    </a:moveTo>
                    <a:lnTo>
                      <a:pt x="10055" y="3"/>
                    </a:lnTo>
                    <a:cubicBezTo>
                      <a:pt x="10056" y="3"/>
                      <a:pt x="10057" y="3"/>
                      <a:pt x="10057" y="5"/>
                    </a:cubicBezTo>
                    <a:cubicBezTo>
                      <a:pt x="10057" y="6"/>
                      <a:pt x="10056" y="7"/>
                      <a:pt x="10055" y="7"/>
                    </a:cubicBezTo>
                    <a:lnTo>
                      <a:pt x="10055" y="7"/>
                    </a:lnTo>
                    <a:cubicBezTo>
                      <a:pt x="10054" y="7"/>
                      <a:pt x="10053" y="6"/>
                      <a:pt x="10053" y="5"/>
                    </a:cubicBezTo>
                    <a:cubicBezTo>
                      <a:pt x="10053" y="3"/>
                      <a:pt x="10054" y="3"/>
                      <a:pt x="10055" y="3"/>
                    </a:cubicBezTo>
                    <a:close/>
                    <a:moveTo>
                      <a:pt x="10063" y="3"/>
                    </a:moveTo>
                    <a:lnTo>
                      <a:pt x="10063" y="3"/>
                    </a:lnTo>
                    <a:cubicBezTo>
                      <a:pt x="10064" y="3"/>
                      <a:pt x="10065" y="3"/>
                      <a:pt x="10065" y="5"/>
                    </a:cubicBezTo>
                    <a:cubicBezTo>
                      <a:pt x="10065" y="6"/>
                      <a:pt x="10064" y="7"/>
                      <a:pt x="10063" y="7"/>
                    </a:cubicBezTo>
                    <a:lnTo>
                      <a:pt x="10063" y="7"/>
                    </a:lnTo>
                    <a:cubicBezTo>
                      <a:pt x="10062" y="7"/>
                      <a:pt x="10061" y="6"/>
                      <a:pt x="10061" y="5"/>
                    </a:cubicBezTo>
                    <a:cubicBezTo>
                      <a:pt x="10061" y="3"/>
                      <a:pt x="10062" y="3"/>
                      <a:pt x="10063" y="3"/>
                    </a:cubicBezTo>
                    <a:close/>
                    <a:moveTo>
                      <a:pt x="10071" y="3"/>
                    </a:moveTo>
                    <a:lnTo>
                      <a:pt x="10071" y="3"/>
                    </a:lnTo>
                    <a:cubicBezTo>
                      <a:pt x="10072" y="3"/>
                      <a:pt x="10073" y="3"/>
                      <a:pt x="10073" y="5"/>
                    </a:cubicBezTo>
                    <a:cubicBezTo>
                      <a:pt x="10073" y="6"/>
                      <a:pt x="10072" y="7"/>
                      <a:pt x="10071" y="7"/>
                    </a:cubicBezTo>
                    <a:lnTo>
                      <a:pt x="10071" y="7"/>
                    </a:lnTo>
                    <a:cubicBezTo>
                      <a:pt x="10070" y="7"/>
                      <a:pt x="10069" y="6"/>
                      <a:pt x="10069" y="5"/>
                    </a:cubicBezTo>
                    <a:cubicBezTo>
                      <a:pt x="10069" y="3"/>
                      <a:pt x="10070" y="3"/>
                      <a:pt x="10071" y="3"/>
                    </a:cubicBezTo>
                    <a:close/>
                    <a:moveTo>
                      <a:pt x="10079" y="3"/>
                    </a:moveTo>
                    <a:lnTo>
                      <a:pt x="10079" y="3"/>
                    </a:lnTo>
                    <a:cubicBezTo>
                      <a:pt x="10080" y="3"/>
                      <a:pt x="10081" y="3"/>
                      <a:pt x="10081" y="5"/>
                    </a:cubicBezTo>
                    <a:cubicBezTo>
                      <a:pt x="10081" y="6"/>
                      <a:pt x="10080" y="7"/>
                      <a:pt x="10079" y="7"/>
                    </a:cubicBezTo>
                    <a:lnTo>
                      <a:pt x="10079" y="7"/>
                    </a:lnTo>
                    <a:cubicBezTo>
                      <a:pt x="10078" y="7"/>
                      <a:pt x="10077" y="6"/>
                      <a:pt x="10077" y="5"/>
                    </a:cubicBezTo>
                    <a:cubicBezTo>
                      <a:pt x="10077" y="3"/>
                      <a:pt x="10078" y="3"/>
                      <a:pt x="10079" y="3"/>
                    </a:cubicBezTo>
                    <a:close/>
                    <a:moveTo>
                      <a:pt x="10087" y="3"/>
                    </a:moveTo>
                    <a:lnTo>
                      <a:pt x="10087" y="3"/>
                    </a:lnTo>
                    <a:cubicBezTo>
                      <a:pt x="10088" y="3"/>
                      <a:pt x="10089" y="3"/>
                      <a:pt x="10089" y="5"/>
                    </a:cubicBezTo>
                    <a:cubicBezTo>
                      <a:pt x="10089" y="6"/>
                      <a:pt x="10088" y="7"/>
                      <a:pt x="10087" y="7"/>
                    </a:cubicBezTo>
                    <a:lnTo>
                      <a:pt x="10087" y="7"/>
                    </a:lnTo>
                    <a:cubicBezTo>
                      <a:pt x="10086" y="7"/>
                      <a:pt x="10085" y="6"/>
                      <a:pt x="10085" y="5"/>
                    </a:cubicBezTo>
                    <a:cubicBezTo>
                      <a:pt x="10085" y="3"/>
                      <a:pt x="10086" y="3"/>
                      <a:pt x="10087" y="3"/>
                    </a:cubicBezTo>
                    <a:close/>
                    <a:moveTo>
                      <a:pt x="10095" y="3"/>
                    </a:moveTo>
                    <a:lnTo>
                      <a:pt x="10095" y="3"/>
                    </a:lnTo>
                    <a:cubicBezTo>
                      <a:pt x="10096" y="3"/>
                      <a:pt x="10097" y="3"/>
                      <a:pt x="10097" y="5"/>
                    </a:cubicBezTo>
                    <a:cubicBezTo>
                      <a:pt x="10097" y="6"/>
                      <a:pt x="10096" y="7"/>
                      <a:pt x="10095" y="7"/>
                    </a:cubicBezTo>
                    <a:lnTo>
                      <a:pt x="10095" y="7"/>
                    </a:lnTo>
                    <a:cubicBezTo>
                      <a:pt x="10094" y="7"/>
                      <a:pt x="10093" y="6"/>
                      <a:pt x="10093" y="5"/>
                    </a:cubicBezTo>
                    <a:cubicBezTo>
                      <a:pt x="10093" y="3"/>
                      <a:pt x="10094" y="3"/>
                      <a:pt x="10095" y="3"/>
                    </a:cubicBezTo>
                    <a:close/>
                    <a:moveTo>
                      <a:pt x="10103" y="3"/>
                    </a:moveTo>
                    <a:lnTo>
                      <a:pt x="10103" y="3"/>
                    </a:lnTo>
                    <a:cubicBezTo>
                      <a:pt x="10104" y="3"/>
                      <a:pt x="10105" y="3"/>
                      <a:pt x="10105" y="5"/>
                    </a:cubicBezTo>
                    <a:cubicBezTo>
                      <a:pt x="10105" y="6"/>
                      <a:pt x="10104" y="7"/>
                      <a:pt x="10103" y="7"/>
                    </a:cubicBezTo>
                    <a:lnTo>
                      <a:pt x="10103" y="7"/>
                    </a:lnTo>
                    <a:cubicBezTo>
                      <a:pt x="10102" y="7"/>
                      <a:pt x="10101" y="6"/>
                      <a:pt x="10101" y="5"/>
                    </a:cubicBezTo>
                    <a:cubicBezTo>
                      <a:pt x="10101" y="3"/>
                      <a:pt x="10102" y="3"/>
                      <a:pt x="10103" y="3"/>
                    </a:cubicBezTo>
                    <a:close/>
                    <a:moveTo>
                      <a:pt x="10111" y="3"/>
                    </a:moveTo>
                    <a:lnTo>
                      <a:pt x="10111" y="3"/>
                    </a:lnTo>
                    <a:cubicBezTo>
                      <a:pt x="10112" y="3"/>
                      <a:pt x="10113" y="3"/>
                      <a:pt x="10113" y="5"/>
                    </a:cubicBezTo>
                    <a:cubicBezTo>
                      <a:pt x="10113" y="6"/>
                      <a:pt x="10112" y="7"/>
                      <a:pt x="10111" y="7"/>
                    </a:cubicBezTo>
                    <a:lnTo>
                      <a:pt x="10111" y="7"/>
                    </a:lnTo>
                    <a:cubicBezTo>
                      <a:pt x="10110" y="7"/>
                      <a:pt x="10109" y="6"/>
                      <a:pt x="10109" y="5"/>
                    </a:cubicBezTo>
                    <a:cubicBezTo>
                      <a:pt x="10109" y="3"/>
                      <a:pt x="10110" y="3"/>
                      <a:pt x="10111" y="3"/>
                    </a:cubicBezTo>
                    <a:close/>
                    <a:moveTo>
                      <a:pt x="10119" y="3"/>
                    </a:moveTo>
                    <a:lnTo>
                      <a:pt x="10119" y="3"/>
                    </a:lnTo>
                    <a:cubicBezTo>
                      <a:pt x="10120" y="3"/>
                      <a:pt x="10121" y="3"/>
                      <a:pt x="10121" y="5"/>
                    </a:cubicBezTo>
                    <a:cubicBezTo>
                      <a:pt x="10121" y="6"/>
                      <a:pt x="10120" y="7"/>
                      <a:pt x="10119" y="7"/>
                    </a:cubicBezTo>
                    <a:lnTo>
                      <a:pt x="10119" y="7"/>
                    </a:lnTo>
                    <a:cubicBezTo>
                      <a:pt x="10118" y="7"/>
                      <a:pt x="10117" y="6"/>
                      <a:pt x="10117" y="5"/>
                    </a:cubicBezTo>
                    <a:cubicBezTo>
                      <a:pt x="10117" y="3"/>
                      <a:pt x="10118" y="3"/>
                      <a:pt x="10119" y="3"/>
                    </a:cubicBezTo>
                    <a:close/>
                    <a:moveTo>
                      <a:pt x="10127" y="3"/>
                    </a:moveTo>
                    <a:lnTo>
                      <a:pt x="10127" y="3"/>
                    </a:lnTo>
                    <a:cubicBezTo>
                      <a:pt x="10128" y="3"/>
                      <a:pt x="10129" y="3"/>
                      <a:pt x="10129" y="5"/>
                    </a:cubicBezTo>
                    <a:cubicBezTo>
                      <a:pt x="10129" y="6"/>
                      <a:pt x="10128" y="7"/>
                      <a:pt x="10127" y="7"/>
                    </a:cubicBezTo>
                    <a:lnTo>
                      <a:pt x="10127" y="7"/>
                    </a:lnTo>
                    <a:cubicBezTo>
                      <a:pt x="10126" y="7"/>
                      <a:pt x="10125" y="6"/>
                      <a:pt x="10125" y="5"/>
                    </a:cubicBezTo>
                    <a:cubicBezTo>
                      <a:pt x="10125" y="3"/>
                      <a:pt x="10126" y="3"/>
                      <a:pt x="10127" y="3"/>
                    </a:cubicBezTo>
                    <a:close/>
                    <a:moveTo>
                      <a:pt x="10135" y="3"/>
                    </a:moveTo>
                    <a:lnTo>
                      <a:pt x="10135" y="3"/>
                    </a:lnTo>
                    <a:cubicBezTo>
                      <a:pt x="10136" y="3"/>
                      <a:pt x="10137" y="3"/>
                      <a:pt x="10137" y="5"/>
                    </a:cubicBezTo>
                    <a:cubicBezTo>
                      <a:pt x="10137" y="6"/>
                      <a:pt x="10136" y="7"/>
                      <a:pt x="10135" y="7"/>
                    </a:cubicBezTo>
                    <a:lnTo>
                      <a:pt x="10135" y="7"/>
                    </a:lnTo>
                    <a:cubicBezTo>
                      <a:pt x="10134" y="7"/>
                      <a:pt x="10133" y="6"/>
                      <a:pt x="10133" y="5"/>
                    </a:cubicBezTo>
                    <a:cubicBezTo>
                      <a:pt x="10133" y="3"/>
                      <a:pt x="10134" y="3"/>
                      <a:pt x="10135" y="3"/>
                    </a:cubicBezTo>
                    <a:close/>
                    <a:moveTo>
                      <a:pt x="10143" y="3"/>
                    </a:moveTo>
                    <a:lnTo>
                      <a:pt x="10143" y="3"/>
                    </a:lnTo>
                    <a:cubicBezTo>
                      <a:pt x="10144" y="3"/>
                      <a:pt x="10145" y="3"/>
                      <a:pt x="10145" y="5"/>
                    </a:cubicBezTo>
                    <a:cubicBezTo>
                      <a:pt x="10145" y="6"/>
                      <a:pt x="10144" y="7"/>
                      <a:pt x="10143" y="7"/>
                    </a:cubicBezTo>
                    <a:lnTo>
                      <a:pt x="10143" y="7"/>
                    </a:lnTo>
                    <a:cubicBezTo>
                      <a:pt x="10142" y="7"/>
                      <a:pt x="10141" y="6"/>
                      <a:pt x="10141" y="5"/>
                    </a:cubicBezTo>
                    <a:cubicBezTo>
                      <a:pt x="10141" y="3"/>
                      <a:pt x="10142" y="3"/>
                      <a:pt x="10143" y="3"/>
                    </a:cubicBezTo>
                    <a:close/>
                    <a:moveTo>
                      <a:pt x="10151" y="3"/>
                    </a:moveTo>
                    <a:lnTo>
                      <a:pt x="10151" y="3"/>
                    </a:lnTo>
                    <a:cubicBezTo>
                      <a:pt x="10152" y="3"/>
                      <a:pt x="10153" y="3"/>
                      <a:pt x="10153" y="5"/>
                    </a:cubicBezTo>
                    <a:cubicBezTo>
                      <a:pt x="10153" y="6"/>
                      <a:pt x="10152" y="7"/>
                      <a:pt x="10151" y="7"/>
                    </a:cubicBezTo>
                    <a:lnTo>
                      <a:pt x="10151" y="7"/>
                    </a:lnTo>
                    <a:cubicBezTo>
                      <a:pt x="10150" y="7"/>
                      <a:pt x="10149" y="6"/>
                      <a:pt x="10149" y="5"/>
                    </a:cubicBezTo>
                    <a:cubicBezTo>
                      <a:pt x="10149" y="3"/>
                      <a:pt x="10150" y="3"/>
                      <a:pt x="10151" y="3"/>
                    </a:cubicBezTo>
                    <a:close/>
                    <a:moveTo>
                      <a:pt x="10159" y="3"/>
                    </a:moveTo>
                    <a:lnTo>
                      <a:pt x="10159" y="3"/>
                    </a:lnTo>
                    <a:cubicBezTo>
                      <a:pt x="10160" y="3"/>
                      <a:pt x="10161" y="3"/>
                      <a:pt x="10161" y="5"/>
                    </a:cubicBezTo>
                    <a:cubicBezTo>
                      <a:pt x="10161" y="6"/>
                      <a:pt x="10160" y="7"/>
                      <a:pt x="10159" y="7"/>
                    </a:cubicBezTo>
                    <a:lnTo>
                      <a:pt x="10159" y="7"/>
                    </a:lnTo>
                    <a:cubicBezTo>
                      <a:pt x="10158" y="7"/>
                      <a:pt x="10157" y="6"/>
                      <a:pt x="10157" y="5"/>
                    </a:cubicBezTo>
                    <a:cubicBezTo>
                      <a:pt x="10157" y="3"/>
                      <a:pt x="10158" y="3"/>
                      <a:pt x="10159" y="3"/>
                    </a:cubicBezTo>
                    <a:close/>
                    <a:moveTo>
                      <a:pt x="10167" y="3"/>
                    </a:moveTo>
                    <a:lnTo>
                      <a:pt x="10167" y="3"/>
                    </a:lnTo>
                    <a:cubicBezTo>
                      <a:pt x="10168" y="3"/>
                      <a:pt x="10169" y="3"/>
                      <a:pt x="10169" y="5"/>
                    </a:cubicBezTo>
                    <a:cubicBezTo>
                      <a:pt x="10169" y="6"/>
                      <a:pt x="10168" y="7"/>
                      <a:pt x="10167" y="7"/>
                    </a:cubicBezTo>
                    <a:lnTo>
                      <a:pt x="10167" y="7"/>
                    </a:lnTo>
                    <a:cubicBezTo>
                      <a:pt x="10166" y="7"/>
                      <a:pt x="10165" y="6"/>
                      <a:pt x="10165" y="5"/>
                    </a:cubicBezTo>
                    <a:cubicBezTo>
                      <a:pt x="10165" y="3"/>
                      <a:pt x="10166" y="3"/>
                      <a:pt x="10167" y="3"/>
                    </a:cubicBezTo>
                    <a:close/>
                    <a:moveTo>
                      <a:pt x="10175" y="3"/>
                    </a:moveTo>
                    <a:lnTo>
                      <a:pt x="10175" y="3"/>
                    </a:lnTo>
                    <a:cubicBezTo>
                      <a:pt x="10176" y="3"/>
                      <a:pt x="10177" y="3"/>
                      <a:pt x="10177" y="5"/>
                    </a:cubicBezTo>
                    <a:cubicBezTo>
                      <a:pt x="10177" y="6"/>
                      <a:pt x="10176" y="7"/>
                      <a:pt x="10175" y="7"/>
                    </a:cubicBezTo>
                    <a:lnTo>
                      <a:pt x="10175" y="7"/>
                    </a:lnTo>
                    <a:cubicBezTo>
                      <a:pt x="10174" y="7"/>
                      <a:pt x="10173" y="6"/>
                      <a:pt x="10173" y="5"/>
                    </a:cubicBezTo>
                    <a:cubicBezTo>
                      <a:pt x="10173" y="3"/>
                      <a:pt x="10174" y="3"/>
                      <a:pt x="10175" y="3"/>
                    </a:cubicBezTo>
                    <a:close/>
                    <a:moveTo>
                      <a:pt x="10183" y="3"/>
                    </a:moveTo>
                    <a:lnTo>
                      <a:pt x="10183" y="3"/>
                    </a:lnTo>
                    <a:cubicBezTo>
                      <a:pt x="10184" y="3"/>
                      <a:pt x="10185" y="3"/>
                      <a:pt x="10185" y="5"/>
                    </a:cubicBezTo>
                    <a:cubicBezTo>
                      <a:pt x="10185" y="6"/>
                      <a:pt x="10184" y="7"/>
                      <a:pt x="10183" y="7"/>
                    </a:cubicBezTo>
                    <a:lnTo>
                      <a:pt x="10183" y="7"/>
                    </a:lnTo>
                    <a:cubicBezTo>
                      <a:pt x="10182" y="7"/>
                      <a:pt x="10181" y="6"/>
                      <a:pt x="10181" y="5"/>
                    </a:cubicBezTo>
                    <a:cubicBezTo>
                      <a:pt x="10181" y="3"/>
                      <a:pt x="10182" y="3"/>
                      <a:pt x="10183" y="3"/>
                    </a:cubicBezTo>
                    <a:close/>
                    <a:moveTo>
                      <a:pt x="10191" y="3"/>
                    </a:moveTo>
                    <a:lnTo>
                      <a:pt x="10191" y="3"/>
                    </a:lnTo>
                    <a:cubicBezTo>
                      <a:pt x="10192" y="3"/>
                      <a:pt x="10193" y="3"/>
                      <a:pt x="10193" y="5"/>
                    </a:cubicBezTo>
                    <a:cubicBezTo>
                      <a:pt x="10193" y="6"/>
                      <a:pt x="10192" y="7"/>
                      <a:pt x="10191" y="7"/>
                    </a:cubicBezTo>
                    <a:lnTo>
                      <a:pt x="10191" y="7"/>
                    </a:lnTo>
                    <a:cubicBezTo>
                      <a:pt x="10190" y="7"/>
                      <a:pt x="10189" y="6"/>
                      <a:pt x="10189" y="5"/>
                    </a:cubicBezTo>
                    <a:cubicBezTo>
                      <a:pt x="10189" y="3"/>
                      <a:pt x="10190" y="3"/>
                      <a:pt x="10191" y="3"/>
                    </a:cubicBezTo>
                    <a:close/>
                    <a:moveTo>
                      <a:pt x="10199" y="3"/>
                    </a:moveTo>
                    <a:lnTo>
                      <a:pt x="10199" y="3"/>
                    </a:lnTo>
                    <a:cubicBezTo>
                      <a:pt x="10200" y="3"/>
                      <a:pt x="10201" y="3"/>
                      <a:pt x="10201" y="5"/>
                    </a:cubicBezTo>
                    <a:cubicBezTo>
                      <a:pt x="10201" y="6"/>
                      <a:pt x="10200" y="7"/>
                      <a:pt x="10199" y="7"/>
                    </a:cubicBezTo>
                    <a:lnTo>
                      <a:pt x="10199" y="7"/>
                    </a:lnTo>
                    <a:cubicBezTo>
                      <a:pt x="10198" y="7"/>
                      <a:pt x="10197" y="6"/>
                      <a:pt x="10197" y="5"/>
                    </a:cubicBezTo>
                    <a:cubicBezTo>
                      <a:pt x="10197" y="3"/>
                      <a:pt x="10198" y="3"/>
                      <a:pt x="10199" y="3"/>
                    </a:cubicBezTo>
                    <a:close/>
                    <a:moveTo>
                      <a:pt x="10207" y="3"/>
                    </a:moveTo>
                    <a:lnTo>
                      <a:pt x="10207" y="3"/>
                    </a:lnTo>
                    <a:cubicBezTo>
                      <a:pt x="10208" y="3"/>
                      <a:pt x="10209" y="4"/>
                      <a:pt x="10209" y="5"/>
                    </a:cubicBezTo>
                    <a:cubicBezTo>
                      <a:pt x="10209" y="6"/>
                      <a:pt x="10208" y="7"/>
                      <a:pt x="10207" y="7"/>
                    </a:cubicBezTo>
                    <a:lnTo>
                      <a:pt x="10207" y="7"/>
                    </a:lnTo>
                    <a:cubicBezTo>
                      <a:pt x="10206" y="7"/>
                      <a:pt x="10205" y="6"/>
                      <a:pt x="10205" y="5"/>
                    </a:cubicBezTo>
                    <a:cubicBezTo>
                      <a:pt x="10205" y="4"/>
                      <a:pt x="10206" y="3"/>
                      <a:pt x="10207" y="3"/>
                    </a:cubicBezTo>
                    <a:close/>
                    <a:moveTo>
                      <a:pt x="10215" y="3"/>
                    </a:moveTo>
                    <a:lnTo>
                      <a:pt x="10215" y="3"/>
                    </a:lnTo>
                    <a:cubicBezTo>
                      <a:pt x="10216" y="3"/>
                      <a:pt x="10217" y="4"/>
                      <a:pt x="10217" y="5"/>
                    </a:cubicBezTo>
                    <a:cubicBezTo>
                      <a:pt x="10217" y="6"/>
                      <a:pt x="10216" y="7"/>
                      <a:pt x="10215" y="7"/>
                    </a:cubicBezTo>
                    <a:lnTo>
                      <a:pt x="10215" y="7"/>
                    </a:lnTo>
                    <a:cubicBezTo>
                      <a:pt x="10214" y="7"/>
                      <a:pt x="10213" y="6"/>
                      <a:pt x="10213" y="5"/>
                    </a:cubicBezTo>
                    <a:cubicBezTo>
                      <a:pt x="10213" y="4"/>
                      <a:pt x="10214" y="3"/>
                      <a:pt x="10215" y="3"/>
                    </a:cubicBezTo>
                    <a:close/>
                    <a:moveTo>
                      <a:pt x="10223" y="3"/>
                    </a:moveTo>
                    <a:lnTo>
                      <a:pt x="10223" y="3"/>
                    </a:lnTo>
                    <a:cubicBezTo>
                      <a:pt x="10224" y="3"/>
                      <a:pt x="10225" y="4"/>
                      <a:pt x="10225" y="5"/>
                    </a:cubicBezTo>
                    <a:cubicBezTo>
                      <a:pt x="10225" y="6"/>
                      <a:pt x="10224" y="7"/>
                      <a:pt x="10223" y="7"/>
                    </a:cubicBezTo>
                    <a:lnTo>
                      <a:pt x="10223" y="7"/>
                    </a:lnTo>
                    <a:cubicBezTo>
                      <a:pt x="10222" y="7"/>
                      <a:pt x="10221" y="6"/>
                      <a:pt x="10221" y="5"/>
                    </a:cubicBezTo>
                    <a:cubicBezTo>
                      <a:pt x="10221" y="4"/>
                      <a:pt x="10222" y="3"/>
                      <a:pt x="10223" y="3"/>
                    </a:cubicBezTo>
                    <a:close/>
                    <a:moveTo>
                      <a:pt x="10231" y="3"/>
                    </a:moveTo>
                    <a:lnTo>
                      <a:pt x="10231" y="3"/>
                    </a:lnTo>
                    <a:cubicBezTo>
                      <a:pt x="10232" y="3"/>
                      <a:pt x="10233" y="4"/>
                      <a:pt x="10233" y="5"/>
                    </a:cubicBezTo>
                    <a:cubicBezTo>
                      <a:pt x="10233" y="6"/>
                      <a:pt x="10232" y="7"/>
                      <a:pt x="10231" y="7"/>
                    </a:cubicBezTo>
                    <a:lnTo>
                      <a:pt x="10231" y="7"/>
                    </a:lnTo>
                    <a:cubicBezTo>
                      <a:pt x="10230" y="7"/>
                      <a:pt x="10229" y="6"/>
                      <a:pt x="10229" y="5"/>
                    </a:cubicBezTo>
                    <a:cubicBezTo>
                      <a:pt x="10229" y="4"/>
                      <a:pt x="10230" y="3"/>
                      <a:pt x="10231" y="3"/>
                    </a:cubicBezTo>
                    <a:close/>
                    <a:moveTo>
                      <a:pt x="10239" y="3"/>
                    </a:moveTo>
                    <a:lnTo>
                      <a:pt x="10239" y="3"/>
                    </a:lnTo>
                    <a:cubicBezTo>
                      <a:pt x="10240" y="3"/>
                      <a:pt x="10241" y="4"/>
                      <a:pt x="10241" y="5"/>
                    </a:cubicBezTo>
                    <a:cubicBezTo>
                      <a:pt x="10241" y="6"/>
                      <a:pt x="10240" y="7"/>
                      <a:pt x="10239" y="7"/>
                    </a:cubicBezTo>
                    <a:lnTo>
                      <a:pt x="10239" y="7"/>
                    </a:lnTo>
                    <a:cubicBezTo>
                      <a:pt x="10238" y="7"/>
                      <a:pt x="10237" y="6"/>
                      <a:pt x="10237" y="5"/>
                    </a:cubicBezTo>
                    <a:cubicBezTo>
                      <a:pt x="10237" y="4"/>
                      <a:pt x="10238" y="3"/>
                      <a:pt x="10239" y="3"/>
                    </a:cubicBezTo>
                    <a:close/>
                    <a:moveTo>
                      <a:pt x="10247" y="3"/>
                    </a:moveTo>
                    <a:lnTo>
                      <a:pt x="10247" y="3"/>
                    </a:lnTo>
                    <a:cubicBezTo>
                      <a:pt x="10248" y="3"/>
                      <a:pt x="10249" y="4"/>
                      <a:pt x="10249" y="5"/>
                    </a:cubicBezTo>
                    <a:cubicBezTo>
                      <a:pt x="10249" y="6"/>
                      <a:pt x="10248" y="7"/>
                      <a:pt x="10247" y="7"/>
                    </a:cubicBezTo>
                    <a:lnTo>
                      <a:pt x="10247" y="7"/>
                    </a:lnTo>
                    <a:cubicBezTo>
                      <a:pt x="10246" y="7"/>
                      <a:pt x="10245" y="6"/>
                      <a:pt x="10245" y="5"/>
                    </a:cubicBezTo>
                    <a:cubicBezTo>
                      <a:pt x="10245" y="4"/>
                      <a:pt x="10246" y="3"/>
                      <a:pt x="10247" y="3"/>
                    </a:cubicBezTo>
                    <a:close/>
                    <a:moveTo>
                      <a:pt x="10255" y="3"/>
                    </a:moveTo>
                    <a:lnTo>
                      <a:pt x="10255" y="3"/>
                    </a:lnTo>
                    <a:cubicBezTo>
                      <a:pt x="10256" y="3"/>
                      <a:pt x="10257" y="4"/>
                      <a:pt x="10257" y="5"/>
                    </a:cubicBezTo>
                    <a:cubicBezTo>
                      <a:pt x="10257" y="6"/>
                      <a:pt x="10256" y="7"/>
                      <a:pt x="10255" y="7"/>
                    </a:cubicBezTo>
                    <a:lnTo>
                      <a:pt x="10255" y="7"/>
                    </a:lnTo>
                    <a:cubicBezTo>
                      <a:pt x="10254" y="7"/>
                      <a:pt x="10253" y="6"/>
                      <a:pt x="10253" y="5"/>
                    </a:cubicBezTo>
                    <a:cubicBezTo>
                      <a:pt x="10253" y="4"/>
                      <a:pt x="10254" y="3"/>
                      <a:pt x="10255" y="3"/>
                    </a:cubicBezTo>
                    <a:close/>
                    <a:moveTo>
                      <a:pt x="10263" y="3"/>
                    </a:moveTo>
                    <a:lnTo>
                      <a:pt x="10263" y="3"/>
                    </a:lnTo>
                    <a:cubicBezTo>
                      <a:pt x="10264" y="3"/>
                      <a:pt x="10265" y="4"/>
                      <a:pt x="10265" y="5"/>
                    </a:cubicBezTo>
                    <a:cubicBezTo>
                      <a:pt x="10265" y="6"/>
                      <a:pt x="10264" y="7"/>
                      <a:pt x="10263" y="7"/>
                    </a:cubicBezTo>
                    <a:lnTo>
                      <a:pt x="10263" y="7"/>
                    </a:lnTo>
                    <a:cubicBezTo>
                      <a:pt x="10262" y="7"/>
                      <a:pt x="10261" y="6"/>
                      <a:pt x="10261" y="5"/>
                    </a:cubicBezTo>
                    <a:cubicBezTo>
                      <a:pt x="10261" y="4"/>
                      <a:pt x="10262" y="3"/>
                      <a:pt x="10263" y="3"/>
                    </a:cubicBezTo>
                    <a:close/>
                    <a:moveTo>
                      <a:pt x="10271" y="3"/>
                    </a:moveTo>
                    <a:lnTo>
                      <a:pt x="10271" y="3"/>
                    </a:lnTo>
                    <a:cubicBezTo>
                      <a:pt x="10272" y="3"/>
                      <a:pt x="10273" y="4"/>
                      <a:pt x="10273" y="5"/>
                    </a:cubicBezTo>
                    <a:cubicBezTo>
                      <a:pt x="10273" y="6"/>
                      <a:pt x="10272" y="7"/>
                      <a:pt x="10271" y="7"/>
                    </a:cubicBezTo>
                    <a:lnTo>
                      <a:pt x="10271" y="7"/>
                    </a:lnTo>
                    <a:cubicBezTo>
                      <a:pt x="10270" y="7"/>
                      <a:pt x="10269" y="6"/>
                      <a:pt x="10269" y="5"/>
                    </a:cubicBezTo>
                    <a:cubicBezTo>
                      <a:pt x="10269" y="4"/>
                      <a:pt x="10270" y="3"/>
                      <a:pt x="10271" y="3"/>
                    </a:cubicBezTo>
                    <a:close/>
                    <a:moveTo>
                      <a:pt x="10279" y="3"/>
                    </a:moveTo>
                    <a:lnTo>
                      <a:pt x="10279" y="3"/>
                    </a:lnTo>
                    <a:cubicBezTo>
                      <a:pt x="10280" y="3"/>
                      <a:pt x="10281" y="4"/>
                      <a:pt x="10281" y="5"/>
                    </a:cubicBezTo>
                    <a:cubicBezTo>
                      <a:pt x="10281" y="6"/>
                      <a:pt x="10280" y="7"/>
                      <a:pt x="10279" y="7"/>
                    </a:cubicBezTo>
                    <a:lnTo>
                      <a:pt x="10279" y="7"/>
                    </a:lnTo>
                    <a:cubicBezTo>
                      <a:pt x="10278" y="7"/>
                      <a:pt x="10277" y="6"/>
                      <a:pt x="10277" y="5"/>
                    </a:cubicBezTo>
                    <a:cubicBezTo>
                      <a:pt x="10277" y="4"/>
                      <a:pt x="10278" y="3"/>
                      <a:pt x="10279" y="3"/>
                    </a:cubicBezTo>
                    <a:close/>
                    <a:moveTo>
                      <a:pt x="10287" y="3"/>
                    </a:moveTo>
                    <a:lnTo>
                      <a:pt x="10287" y="3"/>
                    </a:lnTo>
                    <a:cubicBezTo>
                      <a:pt x="10288" y="3"/>
                      <a:pt x="10289" y="4"/>
                      <a:pt x="10289" y="5"/>
                    </a:cubicBezTo>
                    <a:cubicBezTo>
                      <a:pt x="10289" y="6"/>
                      <a:pt x="10288" y="7"/>
                      <a:pt x="10287" y="7"/>
                    </a:cubicBezTo>
                    <a:lnTo>
                      <a:pt x="10287" y="7"/>
                    </a:lnTo>
                    <a:cubicBezTo>
                      <a:pt x="10286" y="7"/>
                      <a:pt x="10285" y="6"/>
                      <a:pt x="10285" y="5"/>
                    </a:cubicBezTo>
                    <a:cubicBezTo>
                      <a:pt x="10285" y="4"/>
                      <a:pt x="10286" y="3"/>
                      <a:pt x="10287" y="3"/>
                    </a:cubicBezTo>
                    <a:close/>
                    <a:moveTo>
                      <a:pt x="10295" y="3"/>
                    </a:moveTo>
                    <a:lnTo>
                      <a:pt x="10295" y="3"/>
                    </a:lnTo>
                    <a:cubicBezTo>
                      <a:pt x="10296" y="3"/>
                      <a:pt x="10297" y="4"/>
                      <a:pt x="10297" y="5"/>
                    </a:cubicBezTo>
                    <a:cubicBezTo>
                      <a:pt x="10297" y="6"/>
                      <a:pt x="10296" y="7"/>
                      <a:pt x="10295" y="7"/>
                    </a:cubicBezTo>
                    <a:lnTo>
                      <a:pt x="10295" y="7"/>
                    </a:lnTo>
                    <a:cubicBezTo>
                      <a:pt x="10294" y="7"/>
                      <a:pt x="10293" y="6"/>
                      <a:pt x="10293" y="5"/>
                    </a:cubicBezTo>
                    <a:cubicBezTo>
                      <a:pt x="10293" y="4"/>
                      <a:pt x="10294" y="3"/>
                      <a:pt x="10295" y="3"/>
                    </a:cubicBezTo>
                    <a:close/>
                    <a:moveTo>
                      <a:pt x="10303" y="3"/>
                    </a:moveTo>
                    <a:lnTo>
                      <a:pt x="10303" y="3"/>
                    </a:lnTo>
                    <a:cubicBezTo>
                      <a:pt x="10304" y="3"/>
                      <a:pt x="10305" y="4"/>
                      <a:pt x="10305" y="5"/>
                    </a:cubicBezTo>
                    <a:cubicBezTo>
                      <a:pt x="10305" y="6"/>
                      <a:pt x="10304" y="7"/>
                      <a:pt x="10303" y="7"/>
                    </a:cubicBezTo>
                    <a:lnTo>
                      <a:pt x="10303" y="7"/>
                    </a:lnTo>
                    <a:cubicBezTo>
                      <a:pt x="10302" y="7"/>
                      <a:pt x="10301" y="6"/>
                      <a:pt x="10301" y="5"/>
                    </a:cubicBezTo>
                    <a:cubicBezTo>
                      <a:pt x="10301" y="4"/>
                      <a:pt x="10302" y="3"/>
                      <a:pt x="10303" y="3"/>
                    </a:cubicBezTo>
                    <a:close/>
                    <a:moveTo>
                      <a:pt x="10311" y="3"/>
                    </a:moveTo>
                    <a:lnTo>
                      <a:pt x="10311" y="3"/>
                    </a:lnTo>
                    <a:cubicBezTo>
                      <a:pt x="10312" y="3"/>
                      <a:pt x="10313" y="4"/>
                      <a:pt x="10313" y="5"/>
                    </a:cubicBezTo>
                    <a:cubicBezTo>
                      <a:pt x="10313" y="6"/>
                      <a:pt x="10312" y="7"/>
                      <a:pt x="10311" y="7"/>
                    </a:cubicBezTo>
                    <a:lnTo>
                      <a:pt x="10311" y="7"/>
                    </a:lnTo>
                    <a:cubicBezTo>
                      <a:pt x="10310" y="7"/>
                      <a:pt x="10309" y="6"/>
                      <a:pt x="10309" y="5"/>
                    </a:cubicBezTo>
                    <a:cubicBezTo>
                      <a:pt x="10309" y="4"/>
                      <a:pt x="10310" y="3"/>
                      <a:pt x="10311" y="3"/>
                    </a:cubicBezTo>
                    <a:close/>
                    <a:moveTo>
                      <a:pt x="10319" y="3"/>
                    </a:moveTo>
                    <a:lnTo>
                      <a:pt x="10319" y="3"/>
                    </a:lnTo>
                    <a:cubicBezTo>
                      <a:pt x="10320" y="3"/>
                      <a:pt x="10321" y="4"/>
                      <a:pt x="10321" y="5"/>
                    </a:cubicBezTo>
                    <a:cubicBezTo>
                      <a:pt x="10321" y="6"/>
                      <a:pt x="10320" y="7"/>
                      <a:pt x="10319" y="7"/>
                    </a:cubicBezTo>
                    <a:lnTo>
                      <a:pt x="10319" y="7"/>
                    </a:lnTo>
                    <a:cubicBezTo>
                      <a:pt x="10318" y="7"/>
                      <a:pt x="10317" y="6"/>
                      <a:pt x="10317" y="5"/>
                    </a:cubicBezTo>
                    <a:cubicBezTo>
                      <a:pt x="10317" y="4"/>
                      <a:pt x="10318" y="3"/>
                      <a:pt x="10319" y="3"/>
                    </a:cubicBezTo>
                    <a:close/>
                    <a:moveTo>
                      <a:pt x="10327" y="3"/>
                    </a:moveTo>
                    <a:lnTo>
                      <a:pt x="10327" y="3"/>
                    </a:lnTo>
                    <a:cubicBezTo>
                      <a:pt x="10328" y="3"/>
                      <a:pt x="10329" y="4"/>
                      <a:pt x="10329" y="5"/>
                    </a:cubicBezTo>
                    <a:cubicBezTo>
                      <a:pt x="10329" y="6"/>
                      <a:pt x="10328" y="7"/>
                      <a:pt x="10327" y="7"/>
                    </a:cubicBezTo>
                    <a:lnTo>
                      <a:pt x="10327" y="7"/>
                    </a:lnTo>
                    <a:cubicBezTo>
                      <a:pt x="10326" y="7"/>
                      <a:pt x="10325" y="6"/>
                      <a:pt x="10325" y="5"/>
                    </a:cubicBezTo>
                    <a:cubicBezTo>
                      <a:pt x="10325" y="4"/>
                      <a:pt x="10326" y="3"/>
                      <a:pt x="10327" y="3"/>
                    </a:cubicBezTo>
                    <a:close/>
                    <a:moveTo>
                      <a:pt x="10335" y="3"/>
                    </a:moveTo>
                    <a:lnTo>
                      <a:pt x="10335" y="3"/>
                    </a:lnTo>
                    <a:cubicBezTo>
                      <a:pt x="10336" y="3"/>
                      <a:pt x="10337" y="4"/>
                      <a:pt x="10337" y="5"/>
                    </a:cubicBezTo>
                    <a:cubicBezTo>
                      <a:pt x="10337" y="6"/>
                      <a:pt x="10336" y="7"/>
                      <a:pt x="10335" y="7"/>
                    </a:cubicBezTo>
                    <a:lnTo>
                      <a:pt x="10335" y="7"/>
                    </a:lnTo>
                    <a:cubicBezTo>
                      <a:pt x="10334" y="7"/>
                      <a:pt x="10333" y="6"/>
                      <a:pt x="10333" y="5"/>
                    </a:cubicBezTo>
                    <a:cubicBezTo>
                      <a:pt x="10333" y="4"/>
                      <a:pt x="10334" y="3"/>
                      <a:pt x="10335" y="3"/>
                    </a:cubicBezTo>
                    <a:close/>
                    <a:moveTo>
                      <a:pt x="10343" y="3"/>
                    </a:moveTo>
                    <a:lnTo>
                      <a:pt x="10343" y="3"/>
                    </a:lnTo>
                    <a:cubicBezTo>
                      <a:pt x="10344" y="3"/>
                      <a:pt x="10345" y="4"/>
                      <a:pt x="10345" y="5"/>
                    </a:cubicBezTo>
                    <a:cubicBezTo>
                      <a:pt x="10345" y="6"/>
                      <a:pt x="10344" y="7"/>
                      <a:pt x="10343" y="7"/>
                    </a:cubicBezTo>
                    <a:lnTo>
                      <a:pt x="10343" y="7"/>
                    </a:lnTo>
                    <a:cubicBezTo>
                      <a:pt x="10342" y="7"/>
                      <a:pt x="10341" y="6"/>
                      <a:pt x="10341" y="5"/>
                    </a:cubicBezTo>
                    <a:cubicBezTo>
                      <a:pt x="10341" y="4"/>
                      <a:pt x="10342" y="3"/>
                      <a:pt x="10343" y="3"/>
                    </a:cubicBezTo>
                    <a:close/>
                    <a:moveTo>
                      <a:pt x="10351" y="3"/>
                    </a:moveTo>
                    <a:lnTo>
                      <a:pt x="10351" y="3"/>
                    </a:lnTo>
                    <a:cubicBezTo>
                      <a:pt x="10352" y="3"/>
                      <a:pt x="10353" y="4"/>
                      <a:pt x="10353" y="5"/>
                    </a:cubicBezTo>
                    <a:cubicBezTo>
                      <a:pt x="10353" y="6"/>
                      <a:pt x="10352" y="7"/>
                      <a:pt x="10351" y="7"/>
                    </a:cubicBezTo>
                    <a:lnTo>
                      <a:pt x="10351" y="7"/>
                    </a:lnTo>
                    <a:cubicBezTo>
                      <a:pt x="10350" y="7"/>
                      <a:pt x="10349" y="6"/>
                      <a:pt x="10349" y="5"/>
                    </a:cubicBezTo>
                    <a:cubicBezTo>
                      <a:pt x="10349" y="4"/>
                      <a:pt x="10350" y="3"/>
                      <a:pt x="10351" y="3"/>
                    </a:cubicBezTo>
                    <a:close/>
                    <a:moveTo>
                      <a:pt x="10359" y="3"/>
                    </a:moveTo>
                    <a:lnTo>
                      <a:pt x="10359" y="3"/>
                    </a:lnTo>
                    <a:cubicBezTo>
                      <a:pt x="10360" y="3"/>
                      <a:pt x="10361" y="4"/>
                      <a:pt x="10361" y="5"/>
                    </a:cubicBezTo>
                    <a:cubicBezTo>
                      <a:pt x="10361" y="6"/>
                      <a:pt x="10360" y="7"/>
                      <a:pt x="10359" y="7"/>
                    </a:cubicBezTo>
                    <a:lnTo>
                      <a:pt x="10359" y="7"/>
                    </a:lnTo>
                    <a:cubicBezTo>
                      <a:pt x="10358" y="7"/>
                      <a:pt x="10357" y="6"/>
                      <a:pt x="10357" y="5"/>
                    </a:cubicBezTo>
                    <a:cubicBezTo>
                      <a:pt x="10357" y="4"/>
                      <a:pt x="10358" y="3"/>
                      <a:pt x="10359" y="3"/>
                    </a:cubicBezTo>
                    <a:close/>
                    <a:moveTo>
                      <a:pt x="10367" y="3"/>
                    </a:moveTo>
                    <a:lnTo>
                      <a:pt x="10367" y="3"/>
                    </a:lnTo>
                    <a:cubicBezTo>
                      <a:pt x="10368" y="3"/>
                      <a:pt x="10369" y="4"/>
                      <a:pt x="10369" y="5"/>
                    </a:cubicBezTo>
                    <a:cubicBezTo>
                      <a:pt x="10369" y="6"/>
                      <a:pt x="10368" y="7"/>
                      <a:pt x="10367" y="7"/>
                    </a:cubicBezTo>
                    <a:lnTo>
                      <a:pt x="10367" y="7"/>
                    </a:lnTo>
                    <a:cubicBezTo>
                      <a:pt x="10366" y="7"/>
                      <a:pt x="10365" y="6"/>
                      <a:pt x="10365" y="5"/>
                    </a:cubicBezTo>
                    <a:cubicBezTo>
                      <a:pt x="10365" y="4"/>
                      <a:pt x="10366" y="3"/>
                      <a:pt x="10367" y="3"/>
                    </a:cubicBezTo>
                    <a:close/>
                    <a:moveTo>
                      <a:pt x="10375" y="3"/>
                    </a:moveTo>
                    <a:lnTo>
                      <a:pt x="10375" y="3"/>
                    </a:lnTo>
                    <a:cubicBezTo>
                      <a:pt x="10376" y="3"/>
                      <a:pt x="10377" y="4"/>
                      <a:pt x="10377" y="5"/>
                    </a:cubicBezTo>
                    <a:cubicBezTo>
                      <a:pt x="10377" y="6"/>
                      <a:pt x="10376" y="7"/>
                      <a:pt x="10375" y="7"/>
                    </a:cubicBezTo>
                    <a:lnTo>
                      <a:pt x="10375" y="7"/>
                    </a:lnTo>
                    <a:cubicBezTo>
                      <a:pt x="10374" y="7"/>
                      <a:pt x="10373" y="6"/>
                      <a:pt x="10373" y="5"/>
                    </a:cubicBezTo>
                    <a:cubicBezTo>
                      <a:pt x="10373" y="4"/>
                      <a:pt x="10374" y="3"/>
                      <a:pt x="10375" y="3"/>
                    </a:cubicBezTo>
                    <a:close/>
                    <a:moveTo>
                      <a:pt x="10383" y="3"/>
                    </a:moveTo>
                    <a:lnTo>
                      <a:pt x="10383" y="3"/>
                    </a:lnTo>
                    <a:cubicBezTo>
                      <a:pt x="10384" y="3"/>
                      <a:pt x="10385" y="4"/>
                      <a:pt x="10385" y="5"/>
                    </a:cubicBezTo>
                    <a:cubicBezTo>
                      <a:pt x="10385" y="6"/>
                      <a:pt x="10384" y="7"/>
                      <a:pt x="10383" y="7"/>
                    </a:cubicBezTo>
                    <a:lnTo>
                      <a:pt x="10383" y="7"/>
                    </a:lnTo>
                    <a:cubicBezTo>
                      <a:pt x="10382" y="7"/>
                      <a:pt x="10381" y="6"/>
                      <a:pt x="10381" y="5"/>
                    </a:cubicBezTo>
                    <a:cubicBezTo>
                      <a:pt x="10381" y="4"/>
                      <a:pt x="10382" y="3"/>
                      <a:pt x="10383" y="3"/>
                    </a:cubicBezTo>
                    <a:close/>
                    <a:moveTo>
                      <a:pt x="10391" y="3"/>
                    </a:moveTo>
                    <a:lnTo>
                      <a:pt x="10391" y="3"/>
                    </a:lnTo>
                    <a:cubicBezTo>
                      <a:pt x="10392" y="3"/>
                      <a:pt x="10393" y="4"/>
                      <a:pt x="10393" y="5"/>
                    </a:cubicBezTo>
                    <a:cubicBezTo>
                      <a:pt x="10393" y="6"/>
                      <a:pt x="10392" y="7"/>
                      <a:pt x="10391" y="7"/>
                    </a:cubicBezTo>
                    <a:lnTo>
                      <a:pt x="10391" y="7"/>
                    </a:lnTo>
                    <a:cubicBezTo>
                      <a:pt x="10390" y="7"/>
                      <a:pt x="10389" y="6"/>
                      <a:pt x="10389" y="5"/>
                    </a:cubicBezTo>
                    <a:cubicBezTo>
                      <a:pt x="10389" y="4"/>
                      <a:pt x="10390" y="3"/>
                      <a:pt x="10391" y="3"/>
                    </a:cubicBezTo>
                    <a:close/>
                    <a:moveTo>
                      <a:pt x="10399" y="3"/>
                    </a:moveTo>
                    <a:lnTo>
                      <a:pt x="10399" y="3"/>
                    </a:lnTo>
                    <a:cubicBezTo>
                      <a:pt x="10400" y="3"/>
                      <a:pt x="10401" y="4"/>
                      <a:pt x="10401" y="5"/>
                    </a:cubicBezTo>
                    <a:cubicBezTo>
                      <a:pt x="10401" y="6"/>
                      <a:pt x="10400" y="7"/>
                      <a:pt x="10399" y="7"/>
                    </a:cubicBezTo>
                    <a:lnTo>
                      <a:pt x="10399" y="7"/>
                    </a:lnTo>
                    <a:cubicBezTo>
                      <a:pt x="10398" y="7"/>
                      <a:pt x="10397" y="6"/>
                      <a:pt x="10397" y="5"/>
                    </a:cubicBezTo>
                    <a:cubicBezTo>
                      <a:pt x="10397" y="4"/>
                      <a:pt x="10398" y="3"/>
                      <a:pt x="10399" y="3"/>
                    </a:cubicBezTo>
                    <a:close/>
                    <a:moveTo>
                      <a:pt x="10407" y="3"/>
                    </a:moveTo>
                    <a:lnTo>
                      <a:pt x="10407" y="3"/>
                    </a:lnTo>
                    <a:cubicBezTo>
                      <a:pt x="10408" y="3"/>
                      <a:pt x="10409" y="4"/>
                      <a:pt x="10409" y="5"/>
                    </a:cubicBezTo>
                    <a:cubicBezTo>
                      <a:pt x="10409" y="6"/>
                      <a:pt x="10408" y="7"/>
                      <a:pt x="10407" y="7"/>
                    </a:cubicBezTo>
                    <a:lnTo>
                      <a:pt x="10407" y="7"/>
                    </a:lnTo>
                    <a:cubicBezTo>
                      <a:pt x="10406" y="7"/>
                      <a:pt x="10405" y="6"/>
                      <a:pt x="10405" y="5"/>
                    </a:cubicBezTo>
                    <a:cubicBezTo>
                      <a:pt x="10405" y="4"/>
                      <a:pt x="10406" y="3"/>
                      <a:pt x="10407" y="3"/>
                    </a:cubicBezTo>
                    <a:close/>
                    <a:moveTo>
                      <a:pt x="10415" y="3"/>
                    </a:moveTo>
                    <a:lnTo>
                      <a:pt x="10415" y="3"/>
                    </a:lnTo>
                    <a:cubicBezTo>
                      <a:pt x="10416" y="3"/>
                      <a:pt x="10417" y="4"/>
                      <a:pt x="10417" y="5"/>
                    </a:cubicBezTo>
                    <a:cubicBezTo>
                      <a:pt x="10417" y="6"/>
                      <a:pt x="10416" y="7"/>
                      <a:pt x="10415" y="7"/>
                    </a:cubicBezTo>
                    <a:lnTo>
                      <a:pt x="10415" y="7"/>
                    </a:lnTo>
                    <a:cubicBezTo>
                      <a:pt x="10414" y="7"/>
                      <a:pt x="10413" y="6"/>
                      <a:pt x="10413" y="5"/>
                    </a:cubicBezTo>
                    <a:cubicBezTo>
                      <a:pt x="10413" y="4"/>
                      <a:pt x="10414" y="3"/>
                      <a:pt x="10415" y="3"/>
                    </a:cubicBezTo>
                    <a:close/>
                    <a:moveTo>
                      <a:pt x="10423" y="3"/>
                    </a:moveTo>
                    <a:lnTo>
                      <a:pt x="10423" y="3"/>
                    </a:lnTo>
                    <a:cubicBezTo>
                      <a:pt x="10424" y="3"/>
                      <a:pt x="10425" y="4"/>
                      <a:pt x="10425" y="5"/>
                    </a:cubicBezTo>
                    <a:cubicBezTo>
                      <a:pt x="10425" y="6"/>
                      <a:pt x="10424" y="7"/>
                      <a:pt x="10423" y="7"/>
                    </a:cubicBezTo>
                    <a:lnTo>
                      <a:pt x="10423" y="7"/>
                    </a:lnTo>
                    <a:cubicBezTo>
                      <a:pt x="10422" y="7"/>
                      <a:pt x="10421" y="6"/>
                      <a:pt x="10421" y="5"/>
                    </a:cubicBezTo>
                    <a:cubicBezTo>
                      <a:pt x="10421" y="4"/>
                      <a:pt x="10422" y="3"/>
                      <a:pt x="10423" y="3"/>
                    </a:cubicBezTo>
                    <a:close/>
                    <a:moveTo>
                      <a:pt x="10431" y="3"/>
                    </a:moveTo>
                    <a:lnTo>
                      <a:pt x="10431" y="3"/>
                    </a:lnTo>
                    <a:cubicBezTo>
                      <a:pt x="10432" y="3"/>
                      <a:pt x="10433" y="4"/>
                      <a:pt x="10433" y="5"/>
                    </a:cubicBezTo>
                    <a:cubicBezTo>
                      <a:pt x="10433" y="6"/>
                      <a:pt x="10432" y="7"/>
                      <a:pt x="10431" y="7"/>
                    </a:cubicBezTo>
                    <a:lnTo>
                      <a:pt x="10431" y="7"/>
                    </a:lnTo>
                    <a:cubicBezTo>
                      <a:pt x="10430" y="7"/>
                      <a:pt x="10429" y="6"/>
                      <a:pt x="10429" y="5"/>
                    </a:cubicBezTo>
                    <a:cubicBezTo>
                      <a:pt x="10429" y="4"/>
                      <a:pt x="10430" y="3"/>
                      <a:pt x="10431" y="3"/>
                    </a:cubicBezTo>
                    <a:close/>
                    <a:moveTo>
                      <a:pt x="10439" y="3"/>
                    </a:moveTo>
                    <a:lnTo>
                      <a:pt x="10439" y="3"/>
                    </a:lnTo>
                    <a:cubicBezTo>
                      <a:pt x="10440" y="3"/>
                      <a:pt x="10441" y="4"/>
                      <a:pt x="10441" y="5"/>
                    </a:cubicBezTo>
                    <a:cubicBezTo>
                      <a:pt x="10441" y="6"/>
                      <a:pt x="10440" y="7"/>
                      <a:pt x="10439" y="7"/>
                    </a:cubicBezTo>
                    <a:lnTo>
                      <a:pt x="10439" y="7"/>
                    </a:lnTo>
                    <a:cubicBezTo>
                      <a:pt x="10438" y="7"/>
                      <a:pt x="10437" y="6"/>
                      <a:pt x="10437" y="5"/>
                    </a:cubicBezTo>
                    <a:cubicBezTo>
                      <a:pt x="10437" y="4"/>
                      <a:pt x="10438" y="3"/>
                      <a:pt x="10439" y="3"/>
                    </a:cubicBezTo>
                    <a:close/>
                    <a:moveTo>
                      <a:pt x="10447" y="3"/>
                    </a:moveTo>
                    <a:lnTo>
                      <a:pt x="10447" y="3"/>
                    </a:lnTo>
                    <a:cubicBezTo>
                      <a:pt x="10448" y="3"/>
                      <a:pt x="10449" y="4"/>
                      <a:pt x="10449" y="5"/>
                    </a:cubicBezTo>
                    <a:cubicBezTo>
                      <a:pt x="10449" y="6"/>
                      <a:pt x="10448" y="7"/>
                      <a:pt x="10447" y="7"/>
                    </a:cubicBezTo>
                    <a:lnTo>
                      <a:pt x="10447" y="7"/>
                    </a:lnTo>
                    <a:cubicBezTo>
                      <a:pt x="10446" y="7"/>
                      <a:pt x="10445" y="6"/>
                      <a:pt x="10445" y="5"/>
                    </a:cubicBezTo>
                    <a:cubicBezTo>
                      <a:pt x="10445" y="4"/>
                      <a:pt x="10446" y="3"/>
                      <a:pt x="10447" y="3"/>
                    </a:cubicBezTo>
                    <a:close/>
                    <a:moveTo>
                      <a:pt x="10455" y="3"/>
                    </a:moveTo>
                    <a:lnTo>
                      <a:pt x="10455" y="3"/>
                    </a:lnTo>
                    <a:cubicBezTo>
                      <a:pt x="10456" y="3"/>
                      <a:pt x="10457" y="4"/>
                      <a:pt x="10457" y="5"/>
                    </a:cubicBezTo>
                    <a:cubicBezTo>
                      <a:pt x="10457" y="6"/>
                      <a:pt x="10456" y="7"/>
                      <a:pt x="10455" y="7"/>
                    </a:cubicBezTo>
                    <a:lnTo>
                      <a:pt x="10455" y="7"/>
                    </a:lnTo>
                    <a:cubicBezTo>
                      <a:pt x="10454" y="7"/>
                      <a:pt x="10453" y="6"/>
                      <a:pt x="10453" y="5"/>
                    </a:cubicBezTo>
                    <a:cubicBezTo>
                      <a:pt x="10453" y="4"/>
                      <a:pt x="10454" y="3"/>
                      <a:pt x="10455" y="3"/>
                    </a:cubicBezTo>
                    <a:close/>
                    <a:moveTo>
                      <a:pt x="10463" y="3"/>
                    </a:moveTo>
                    <a:lnTo>
                      <a:pt x="10463" y="3"/>
                    </a:lnTo>
                    <a:cubicBezTo>
                      <a:pt x="10464" y="3"/>
                      <a:pt x="10465" y="4"/>
                      <a:pt x="10465" y="5"/>
                    </a:cubicBezTo>
                    <a:cubicBezTo>
                      <a:pt x="10465" y="6"/>
                      <a:pt x="10464" y="7"/>
                      <a:pt x="10463" y="7"/>
                    </a:cubicBezTo>
                    <a:lnTo>
                      <a:pt x="10463" y="7"/>
                    </a:lnTo>
                    <a:cubicBezTo>
                      <a:pt x="10462" y="7"/>
                      <a:pt x="10461" y="6"/>
                      <a:pt x="10461" y="5"/>
                    </a:cubicBezTo>
                    <a:cubicBezTo>
                      <a:pt x="10461" y="4"/>
                      <a:pt x="10462" y="3"/>
                      <a:pt x="10463" y="3"/>
                    </a:cubicBezTo>
                    <a:close/>
                    <a:moveTo>
                      <a:pt x="10471" y="3"/>
                    </a:moveTo>
                    <a:lnTo>
                      <a:pt x="10471" y="3"/>
                    </a:lnTo>
                    <a:cubicBezTo>
                      <a:pt x="10472" y="3"/>
                      <a:pt x="10473" y="4"/>
                      <a:pt x="10473" y="5"/>
                    </a:cubicBezTo>
                    <a:cubicBezTo>
                      <a:pt x="10473" y="6"/>
                      <a:pt x="10472" y="7"/>
                      <a:pt x="10471" y="7"/>
                    </a:cubicBezTo>
                    <a:lnTo>
                      <a:pt x="10471" y="7"/>
                    </a:lnTo>
                    <a:cubicBezTo>
                      <a:pt x="10470" y="7"/>
                      <a:pt x="10469" y="6"/>
                      <a:pt x="10469" y="5"/>
                    </a:cubicBezTo>
                    <a:cubicBezTo>
                      <a:pt x="10469" y="4"/>
                      <a:pt x="10470" y="3"/>
                      <a:pt x="10471" y="3"/>
                    </a:cubicBezTo>
                    <a:close/>
                    <a:moveTo>
                      <a:pt x="10479" y="3"/>
                    </a:moveTo>
                    <a:lnTo>
                      <a:pt x="10479" y="3"/>
                    </a:lnTo>
                    <a:cubicBezTo>
                      <a:pt x="10480" y="3"/>
                      <a:pt x="10481" y="4"/>
                      <a:pt x="10481" y="5"/>
                    </a:cubicBezTo>
                    <a:cubicBezTo>
                      <a:pt x="10481" y="6"/>
                      <a:pt x="10480" y="7"/>
                      <a:pt x="10479" y="7"/>
                    </a:cubicBezTo>
                    <a:lnTo>
                      <a:pt x="10479" y="7"/>
                    </a:lnTo>
                    <a:cubicBezTo>
                      <a:pt x="10478" y="7"/>
                      <a:pt x="10477" y="6"/>
                      <a:pt x="10477" y="5"/>
                    </a:cubicBezTo>
                    <a:cubicBezTo>
                      <a:pt x="10477" y="4"/>
                      <a:pt x="10478" y="3"/>
                      <a:pt x="10479" y="3"/>
                    </a:cubicBezTo>
                    <a:close/>
                    <a:moveTo>
                      <a:pt x="10487" y="3"/>
                    </a:moveTo>
                    <a:lnTo>
                      <a:pt x="10487" y="3"/>
                    </a:lnTo>
                    <a:cubicBezTo>
                      <a:pt x="10488" y="3"/>
                      <a:pt x="10489" y="4"/>
                      <a:pt x="10489" y="5"/>
                    </a:cubicBezTo>
                    <a:cubicBezTo>
                      <a:pt x="10489" y="6"/>
                      <a:pt x="10488" y="7"/>
                      <a:pt x="10487" y="7"/>
                    </a:cubicBezTo>
                    <a:lnTo>
                      <a:pt x="10487" y="7"/>
                    </a:lnTo>
                    <a:cubicBezTo>
                      <a:pt x="10486" y="7"/>
                      <a:pt x="10485" y="6"/>
                      <a:pt x="10485" y="5"/>
                    </a:cubicBezTo>
                    <a:cubicBezTo>
                      <a:pt x="10485" y="4"/>
                      <a:pt x="10486" y="3"/>
                      <a:pt x="10487" y="3"/>
                    </a:cubicBezTo>
                    <a:close/>
                    <a:moveTo>
                      <a:pt x="10495" y="3"/>
                    </a:moveTo>
                    <a:lnTo>
                      <a:pt x="10495" y="3"/>
                    </a:lnTo>
                    <a:cubicBezTo>
                      <a:pt x="10496" y="3"/>
                      <a:pt x="10497" y="4"/>
                      <a:pt x="10497" y="5"/>
                    </a:cubicBezTo>
                    <a:cubicBezTo>
                      <a:pt x="10497" y="6"/>
                      <a:pt x="10496" y="7"/>
                      <a:pt x="10495" y="7"/>
                    </a:cubicBezTo>
                    <a:lnTo>
                      <a:pt x="10495" y="7"/>
                    </a:lnTo>
                    <a:cubicBezTo>
                      <a:pt x="10494" y="7"/>
                      <a:pt x="10493" y="6"/>
                      <a:pt x="10493" y="5"/>
                    </a:cubicBezTo>
                    <a:cubicBezTo>
                      <a:pt x="10493" y="4"/>
                      <a:pt x="10494" y="3"/>
                      <a:pt x="10495" y="3"/>
                    </a:cubicBezTo>
                    <a:close/>
                    <a:moveTo>
                      <a:pt x="10503" y="3"/>
                    </a:moveTo>
                    <a:lnTo>
                      <a:pt x="10503" y="3"/>
                    </a:lnTo>
                    <a:cubicBezTo>
                      <a:pt x="10504" y="3"/>
                      <a:pt x="10505" y="4"/>
                      <a:pt x="10505" y="5"/>
                    </a:cubicBezTo>
                    <a:cubicBezTo>
                      <a:pt x="10505" y="6"/>
                      <a:pt x="10504" y="7"/>
                      <a:pt x="10503" y="7"/>
                    </a:cubicBezTo>
                    <a:lnTo>
                      <a:pt x="10503" y="7"/>
                    </a:lnTo>
                    <a:cubicBezTo>
                      <a:pt x="10502" y="7"/>
                      <a:pt x="10501" y="6"/>
                      <a:pt x="10501" y="5"/>
                    </a:cubicBezTo>
                    <a:cubicBezTo>
                      <a:pt x="10501" y="4"/>
                      <a:pt x="10502" y="3"/>
                      <a:pt x="10503" y="3"/>
                    </a:cubicBezTo>
                    <a:close/>
                    <a:moveTo>
                      <a:pt x="10511" y="3"/>
                    </a:moveTo>
                    <a:lnTo>
                      <a:pt x="10511" y="3"/>
                    </a:lnTo>
                    <a:cubicBezTo>
                      <a:pt x="10512" y="3"/>
                      <a:pt x="10513" y="4"/>
                      <a:pt x="10513" y="5"/>
                    </a:cubicBezTo>
                    <a:cubicBezTo>
                      <a:pt x="10513" y="6"/>
                      <a:pt x="10512" y="7"/>
                      <a:pt x="10511" y="7"/>
                    </a:cubicBezTo>
                    <a:lnTo>
                      <a:pt x="10511" y="7"/>
                    </a:lnTo>
                    <a:cubicBezTo>
                      <a:pt x="10510" y="7"/>
                      <a:pt x="10509" y="6"/>
                      <a:pt x="10509" y="5"/>
                    </a:cubicBezTo>
                    <a:cubicBezTo>
                      <a:pt x="10509" y="4"/>
                      <a:pt x="10510" y="3"/>
                      <a:pt x="10511" y="3"/>
                    </a:cubicBezTo>
                    <a:close/>
                    <a:moveTo>
                      <a:pt x="10519" y="3"/>
                    </a:moveTo>
                    <a:lnTo>
                      <a:pt x="10519" y="3"/>
                    </a:lnTo>
                    <a:cubicBezTo>
                      <a:pt x="10520" y="3"/>
                      <a:pt x="10521" y="4"/>
                      <a:pt x="10521" y="5"/>
                    </a:cubicBezTo>
                    <a:cubicBezTo>
                      <a:pt x="10521" y="6"/>
                      <a:pt x="10520" y="7"/>
                      <a:pt x="10519" y="7"/>
                    </a:cubicBezTo>
                    <a:lnTo>
                      <a:pt x="10519" y="7"/>
                    </a:lnTo>
                    <a:cubicBezTo>
                      <a:pt x="10518" y="7"/>
                      <a:pt x="10517" y="6"/>
                      <a:pt x="10517" y="5"/>
                    </a:cubicBezTo>
                    <a:cubicBezTo>
                      <a:pt x="10517" y="4"/>
                      <a:pt x="10518" y="3"/>
                      <a:pt x="10519" y="3"/>
                    </a:cubicBezTo>
                    <a:close/>
                    <a:moveTo>
                      <a:pt x="10527" y="3"/>
                    </a:moveTo>
                    <a:lnTo>
                      <a:pt x="10527" y="3"/>
                    </a:lnTo>
                    <a:cubicBezTo>
                      <a:pt x="10528" y="3"/>
                      <a:pt x="10529" y="4"/>
                      <a:pt x="10529" y="5"/>
                    </a:cubicBezTo>
                    <a:cubicBezTo>
                      <a:pt x="10529" y="6"/>
                      <a:pt x="10528" y="7"/>
                      <a:pt x="10527" y="7"/>
                    </a:cubicBezTo>
                    <a:lnTo>
                      <a:pt x="10527" y="7"/>
                    </a:lnTo>
                    <a:cubicBezTo>
                      <a:pt x="10526" y="7"/>
                      <a:pt x="10525" y="6"/>
                      <a:pt x="10525" y="5"/>
                    </a:cubicBezTo>
                    <a:cubicBezTo>
                      <a:pt x="10525" y="4"/>
                      <a:pt x="10526" y="3"/>
                      <a:pt x="10527" y="3"/>
                    </a:cubicBezTo>
                    <a:close/>
                    <a:moveTo>
                      <a:pt x="10535" y="3"/>
                    </a:moveTo>
                    <a:lnTo>
                      <a:pt x="10535" y="3"/>
                    </a:lnTo>
                    <a:cubicBezTo>
                      <a:pt x="10536" y="3"/>
                      <a:pt x="10537" y="4"/>
                      <a:pt x="10537" y="5"/>
                    </a:cubicBezTo>
                    <a:cubicBezTo>
                      <a:pt x="10537" y="6"/>
                      <a:pt x="10536" y="7"/>
                      <a:pt x="10535" y="7"/>
                    </a:cubicBezTo>
                    <a:lnTo>
                      <a:pt x="10535" y="7"/>
                    </a:lnTo>
                    <a:cubicBezTo>
                      <a:pt x="10534" y="7"/>
                      <a:pt x="10533" y="6"/>
                      <a:pt x="10533" y="5"/>
                    </a:cubicBezTo>
                    <a:cubicBezTo>
                      <a:pt x="10533" y="4"/>
                      <a:pt x="10534" y="3"/>
                      <a:pt x="10535" y="3"/>
                    </a:cubicBezTo>
                    <a:close/>
                    <a:moveTo>
                      <a:pt x="10543" y="3"/>
                    </a:moveTo>
                    <a:lnTo>
                      <a:pt x="10543" y="3"/>
                    </a:lnTo>
                    <a:cubicBezTo>
                      <a:pt x="10544" y="3"/>
                      <a:pt x="10545" y="4"/>
                      <a:pt x="10545" y="5"/>
                    </a:cubicBezTo>
                    <a:cubicBezTo>
                      <a:pt x="10545" y="6"/>
                      <a:pt x="10544" y="7"/>
                      <a:pt x="10543" y="7"/>
                    </a:cubicBezTo>
                    <a:lnTo>
                      <a:pt x="10543" y="7"/>
                    </a:lnTo>
                    <a:cubicBezTo>
                      <a:pt x="10542" y="7"/>
                      <a:pt x="10541" y="6"/>
                      <a:pt x="10541" y="5"/>
                    </a:cubicBezTo>
                    <a:cubicBezTo>
                      <a:pt x="10541" y="4"/>
                      <a:pt x="10542" y="3"/>
                      <a:pt x="10543" y="3"/>
                    </a:cubicBezTo>
                    <a:close/>
                    <a:moveTo>
                      <a:pt x="10551" y="3"/>
                    </a:moveTo>
                    <a:lnTo>
                      <a:pt x="10551" y="3"/>
                    </a:lnTo>
                    <a:cubicBezTo>
                      <a:pt x="10552" y="3"/>
                      <a:pt x="10553" y="4"/>
                      <a:pt x="10553" y="5"/>
                    </a:cubicBezTo>
                    <a:cubicBezTo>
                      <a:pt x="10553" y="6"/>
                      <a:pt x="10552" y="7"/>
                      <a:pt x="10551" y="7"/>
                    </a:cubicBezTo>
                    <a:lnTo>
                      <a:pt x="10551" y="7"/>
                    </a:lnTo>
                    <a:cubicBezTo>
                      <a:pt x="10550" y="7"/>
                      <a:pt x="10549" y="6"/>
                      <a:pt x="10549" y="5"/>
                    </a:cubicBezTo>
                    <a:cubicBezTo>
                      <a:pt x="10549" y="4"/>
                      <a:pt x="10550" y="3"/>
                      <a:pt x="10551" y="3"/>
                    </a:cubicBezTo>
                    <a:close/>
                    <a:moveTo>
                      <a:pt x="10559" y="3"/>
                    </a:moveTo>
                    <a:lnTo>
                      <a:pt x="10559" y="3"/>
                    </a:lnTo>
                    <a:cubicBezTo>
                      <a:pt x="10560" y="3"/>
                      <a:pt x="10561" y="4"/>
                      <a:pt x="10561" y="5"/>
                    </a:cubicBezTo>
                    <a:cubicBezTo>
                      <a:pt x="10561" y="6"/>
                      <a:pt x="10560" y="7"/>
                      <a:pt x="10559" y="7"/>
                    </a:cubicBezTo>
                    <a:lnTo>
                      <a:pt x="10559" y="7"/>
                    </a:lnTo>
                    <a:cubicBezTo>
                      <a:pt x="10558" y="7"/>
                      <a:pt x="10557" y="6"/>
                      <a:pt x="10557" y="5"/>
                    </a:cubicBezTo>
                    <a:cubicBezTo>
                      <a:pt x="10557" y="4"/>
                      <a:pt x="10558" y="3"/>
                      <a:pt x="10559" y="3"/>
                    </a:cubicBezTo>
                    <a:close/>
                    <a:moveTo>
                      <a:pt x="10567" y="3"/>
                    </a:moveTo>
                    <a:lnTo>
                      <a:pt x="10567" y="3"/>
                    </a:lnTo>
                    <a:cubicBezTo>
                      <a:pt x="10568" y="3"/>
                      <a:pt x="10569" y="4"/>
                      <a:pt x="10569" y="5"/>
                    </a:cubicBezTo>
                    <a:cubicBezTo>
                      <a:pt x="10569" y="6"/>
                      <a:pt x="10568" y="7"/>
                      <a:pt x="10567" y="7"/>
                    </a:cubicBezTo>
                    <a:lnTo>
                      <a:pt x="10567" y="7"/>
                    </a:lnTo>
                    <a:cubicBezTo>
                      <a:pt x="10566" y="7"/>
                      <a:pt x="10565" y="6"/>
                      <a:pt x="10565" y="5"/>
                    </a:cubicBezTo>
                    <a:cubicBezTo>
                      <a:pt x="10565" y="4"/>
                      <a:pt x="10566" y="3"/>
                      <a:pt x="10567" y="3"/>
                    </a:cubicBezTo>
                    <a:close/>
                    <a:moveTo>
                      <a:pt x="10575" y="3"/>
                    </a:moveTo>
                    <a:lnTo>
                      <a:pt x="10575" y="3"/>
                    </a:lnTo>
                    <a:cubicBezTo>
                      <a:pt x="10576" y="3"/>
                      <a:pt x="10577" y="4"/>
                      <a:pt x="10577" y="5"/>
                    </a:cubicBezTo>
                    <a:cubicBezTo>
                      <a:pt x="10577" y="6"/>
                      <a:pt x="10576" y="7"/>
                      <a:pt x="10575" y="7"/>
                    </a:cubicBezTo>
                    <a:lnTo>
                      <a:pt x="10575" y="7"/>
                    </a:lnTo>
                    <a:cubicBezTo>
                      <a:pt x="10574" y="7"/>
                      <a:pt x="10573" y="6"/>
                      <a:pt x="10573" y="5"/>
                    </a:cubicBezTo>
                    <a:cubicBezTo>
                      <a:pt x="10573" y="4"/>
                      <a:pt x="10574" y="3"/>
                      <a:pt x="10575" y="3"/>
                    </a:cubicBezTo>
                    <a:close/>
                    <a:moveTo>
                      <a:pt x="10583" y="3"/>
                    </a:moveTo>
                    <a:lnTo>
                      <a:pt x="10583" y="3"/>
                    </a:lnTo>
                    <a:cubicBezTo>
                      <a:pt x="10584" y="3"/>
                      <a:pt x="10585" y="4"/>
                      <a:pt x="10585" y="5"/>
                    </a:cubicBezTo>
                    <a:cubicBezTo>
                      <a:pt x="10585" y="6"/>
                      <a:pt x="10584" y="7"/>
                      <a:pt x="10583" y="7"/>
                    </a:cubicBezTo>
                    <a:lnTo>
                      <a:pt x="10583" y="7"/>
                    </a:lnTo>
                    <a:cubicBezTo>
                      <a:pt x="10582" y="7"/>
                      <a:pt x="10581" y="6"/>
                      <a:pt x="10581" y="5"/>
                    </a:cubicBezTo>
                    <a:cubicBezTo>
                      <a:pt x="10581" y="4"/>
                      <a:pt x="10582" y="3"/>
                      <a:pt x="10583" y="3"/>
                    </a:cubicBezTo>
                    <a:close/>
                    <a:moveTo>
                      <a:pt x="10591" y="3"/>
                    </a:moveTo>
                    <a:lnTo>
                      <a:pt x="10591" y="3"/>
                    </a:lnTo>
                    <a:cubicBezTo>
                      <a:pt x="10592" y="3"/>
                      <a:pt x="10593" y="4"/>
                      <a:pt x="10593" y="5"/>
                    </a:cubicBezTo>
                    <a:cubicBezTo>
                      <a:pt x="10593" y="6"/>
                      <a:pt x="10592" y="7"/>
                      <a:pt x="10591" y="7"/>
                    </a:cubicBezTo>
                    <a:lnTo>
                      <a:pt x="10591" y="7"/>
                    </a:lnTo>
                    <a:cubicBezTo>
                      <a:pt x="10590" y="7"/>
                      <a:pt x="10589" y="6"/>
                      <a:pt x="10589" y="5"/>
                    </a:cubicBezTo>
                    <a:cubicBezTo>
                      <a:pt x="10589" y="4"/>
                      <a:pt x="10590" y="3"/>
                      <a:pt x="10591" y="3"/>
                    </a:cubicBezTo>
                    <a:close/>
                    <a:moveTo>
                      <a:pt x="10599" y="3"/>
                    </a:moveTo>
                    <a:lnTo>
                      <a:pt x="10599" y="3"/>
                    </a:lnTo>
                    <a:cubicBezTo>
                      <a:pt x="10600" y="3"/>
                      <a:pt x="10601" y="4"/>
                      <a:pt x="10601" y="5"/>
                    </a:cubicBezTo>
                    <a:cubicBezTo>
                      <a:pt x="10601" y="6"/>
                      <a:pt x="10600" y="7"/>
                      <a:pt x="10599" y="7"/>
                    </a:cubicBezTo>
                    <a:lnTo>
                      <a:pt x="10599" y="7"/>
                    </a:lnTo>
                    <a:cubicBezTo>
                      <a:pt x="10598" y="7"/>
                      <a:pt x="10597" y="6"/>
                      <a:pt x="10597" y="5"/>
                    </a:cubicBezTo>
                    <a:cubicBezTo>
                      <a:pt x="10597" y="4"/>
                      <a:pt x="10598" y="3"/>
                      <a:pt x="10599" y="3"/>
                    </a:cubicBezTo>
                    <a:close/>
                    <a:moveTo>
                      <a:pt x="10607" y="3"/>
                    </a:moveTo>
                    <a:lnTo>
                      <a:pt x="10607" y="3"/>
                    </a:lnTo>
                    <a:cubicBezTo>
                      <a:pt x="10608" y="3"/>
                      <a:pt x="10609" y="4"/>
                      <a:pt x="10609" y="5"/>
                    </a:cubicBezTo>
                    <a:cubicBezTo>
                      <a:pt x="10609" y="6"/>
                      <a:pt x="10608" y="7"/>
                      <a:pt x="10607" y="7"/>
                    </a:cubicBezTo>
                    <a:lnTo>
                      <a:pt x="10607" y="7"/>
                    </a:lnTo>
                    <a:cubicBezTo>
                      <a:pt x="10606" y="7"/>
                      <a:pt x="10605" y="6"/>
                      <a:pt x="10605" y="5"/>
                    </a:cubicBezTo>
                    <a:cubicBezTo>
                      <a:pt x="10605" y="4"/>
                      <a:pt x="10606" y="3"/>
                      <a:pt x="10607" y="3"/>
                    </a:cubicBezTo>
                    <a:close/>
                    <a:moveTo>
                      <a:pt x="10615" y="3"/>
                    </a:moveTo>
                    <a:lnTo>
                      <a:pt x="10615" y="3"/>
                    </a:lnTo>
                    <a:cubicBezTo>
                      <a:pt x="10616" y="3"/>
                      <a:pt x="10617" y="4"/>
                      <a:pt x="10617" y="5"/>
                    </a:cubicBezTo>
                    <a:cubicBezTo>
                      <a:pt x="10617" y="6"/>
                      <a:pt x="10616" y="7"/>
                      <a:pt x="10615" y="7"/>
                    </a:cubicBezTo>
                    <a:lnTo>
                      <a:pt x="10615" y="7"/>
                    </a:lnTo>
                    <a:cubicBezTo>
                      <a:pt x="10614" y="7"/>
                      <a:pt x="10613" y="6"/>
                      <a:pt x="10613" y="5"/>
                    </a:cubicBezTo>
                    <a:cubicBezTo>
                      <a:pt x="10613" y="4"/>
                      <a:pt x="10614" y="3"/>
                      <a:pt x="10615" y="3"/>
                    </a:cubicBezTo>
                    <a:close/>
                    <a:moveTo>
                      <a:pt x="10623" y="3"/>
                    </a:moveTo>
                    <a:lnTo>
                      <a:pt x="10623" y="3"/>
                    </a:lnTo>
                    <a:cubicBezTo>
                      <a:pt x="10624" y="3"/>
                      <a:pt x="10625" y="4"/>
                      <a:pt x="10625" y="5"/>
                    </a:cubicBezTo>
                    <a:cubicBezTo>
                      <a:pt x="10625" y="6"/>
                      <a:pt x="10624" y="7"/>
                      <a:pt x="10623" y="7"/>
                    </a:cubicBezTo>
                    <a:lnTo>
                      <a:pt x="10623" y="7"/>
                    </a:lnTo>
                    <a:cubicBezTo>
                      <a:pt x="10622" y="7"/>
                      <a:pt x="10621" y="6"/>
                      <a:pt x="10621" y="5"/>
                    </a:cubicBezTo>
                    <a:cubicBezTo>
                      <a:pt x="10621" y="4"/>
                      <a:pt x="10622" y="3"/>
                      <a:pt x="10623" y="3"/>
                    </a:cubicBezTo>
                    <a:close/>
                    <a:moveTo>
                      <a:pt x="10631" y="3"/>
                    </a:moveTo>
                    <a:lnTo>
                      <a:pt x="10631" y="3"/>
                    </a:lnTo>
                    <a:cubicBezTo>
                      <a:pt x="10632" y="3"/>
                      <a:pt x="10633" y="4"/>
                      <a:pt x="10633" y="5"/>
                    </a:cubicBezTo>
                    <a:cubicBezTo>
                      <a:pt x="10633" y="6"/>
                      <a:pt x="10632" y="7"/>
                      <a:pt x="10631" y="7"/>
                    </a:cubicBezTo>
                    <a:lnTo>
                      <a:pt x="10631" y="7"/>
                    </a:lnTo>
                    <a:cubicBezTo>
                      <a:pt x="10630" y="7"/>
                      <a:pt x="10629" y="6"/>
                      <a:pt x="10629" y="5"/>
                    </a:cubicBezTo>
                    <a:cubicBezTo>
                      <a:pt x="10629" y="4"/>
                      <a:pt x="10630" y="3"/>
                      <a:pt x="10631" y="3"/>
                    </a:cubicBezTo>
                    <a:close/>
                    <a:moveTo>
                      <a:pt x="10639" y="3"/>
                    </a:moveTo>
                    <a:lnTo>
                      <a:pt x="10639" y="3"/>
                    </a:lnTo>
                    <a:cubicBezTo>
                      <a:pt x="10640" y="3"/>
                      <a:pt x="10641" y="4"/>
                      <a:pt x="10641" y="5"/>
                    </a:cubicBezTo>
                    <a:cubicBezTo>
                      <a:pt x="10641" y="6"/>
                      <a:pt x="10640" y="7"/>
                      <a:pt x="10639" y="7"/>
                    </a:cubicBezTo>
                    <a:lnTo>
                      <a:pt x="10639" y="7"/>
                    </a:lnTo>
                    <a:cubicBezTo>
                      <a:pt x="10638" y="7"/>
                      <a:pt x="10637" y="6"/>
                      <a:pt x="10637" y="5"/>
                    </a:cubicBezTo>
                    <a:cubicBezTo>
                      <a:pt x="10637" y="4"/>
                      <a:pt x="10638" y="3"/>
                      <a:pt x="10639" y="3"/>
                    </a:cubicBezTo>
                    <a:close/>
                    <a:moveTo>
                      <a:pt x="10647" y="3"/>
                    </a:moveTo>
                    <a:lnTo>
                      <a:pt x="10647" y="3"/>
                    </a:lnTo>
                    <a:cubicBezTo>
                      <a:pt x="10648" y="3"/>
                      <a:pt x="10649" y="4"/>
                      <a:pt x="10649" y="5"/>
                    </a:cubicBezTo>
                    <a:cubicBezTo>
                      <a:pt x="10649" y="6"/>
                      <a:pt x="10648" y="7"/>
                      <a:pt x="10647" y="7"/>
                    </a:cubicBezTo>
                    <a:lnTo>
                      <a:pt x="10647" y="7"/>
                    </a:lnTo>
                    <a:cubicBezTo>
                      <a:pt x="10646" y="7"/>
                      <a:pt x="10645" y="6"/>
                      <a:pt x="10645" y="5"/>
                    </a:cubicBezTo>
                    <a:cubicBezTo>
                      <a:pt x="10645" y="4"/>
                      <a:pt x="10646" y="3"/>
                      <a:pt x="10647" y="3"/>
                    </a:cubicBezTo>
                    <a:close/>
                    <a:moveTo>
                      <a:pt x="10655" y="3"/>
                    </a:moveTo>
                    <a:lnTo>
                      <a:pt x="10655" y="3"/>
                    </a:lnTo>
                    <a:cubicBezTo>
                      <a:pt x="10656" y="3"/>
                      <a:pt x="10657" y="4"/>
                      <a:pt x="10657" y="5"/>
                    </a:cubicBezTo>
                    <a:cubicBezTo>
                      <a:pt x="10657" y="6"/>
                      <a:pt x="10656" y="7"/>
                      <a:pt x="10655" y="7"/>
                    </a:cubicBezTo>
                    <a:lnTo>
                      <a:pt x="10655" y="7"/>
                    </a:lnTo>
                    <a:cubicBezTo>
                      <a:pt x="10654" y="7"/>
                      <a:pt x="10653" y="6"/>
                      <a:pt x="10653" y="5"/>
                    </a:cubicBezTo>
                    <a:cubicBezTo>
                      <a:pt x="10653" y="4"/>
                      <a:pt x="10654" y="3"/>
                      <a:pt x="10655" y="3"/>
                    </a:cubicBezTo>
                    <a:close/>
                    <a:moveTo>
                      <a:pt x="10663" y="3"/>
                    </a:moveTo>
                    <a:lnTo>
                      <a:pt x="10663" y="3"/>
                    </a:lnTo>
                    <a:cubicBezTo>
                      <a:pt x="10664" y="3"/>
                      <a:pt x="10665" y="4"/>
                      <a:pt x="10665" y="5"/>
                    </a:cubicBezTo>
                    <a:cubicBezTo>
                      <a:pt x="10665" y="6"/>
                      <a:pt x="10664" y="7"/>
                      <a:pt x="10663" y="7"/>
                    </a:cubicBezTo>
                    <a:lnTo>
                      <a:pt x="10663" y="7"/>
                    </a:lnTo>
                    <a:cubicBezTo>
                      <a:pt x="10662" y="7"/>
                      <a:pt x="10661" y="6"/>
                      <a:pt x="10661" y="5"/>
                    </a:cubicBezTo>
                    <a:cubicBezTo>
                      <a:pt x="10661" y="4"/>
                      <a:pt x="10662" y="3"/>
                      <a:pt x="10663" y="3"/>
                    </a:cubicBezTo>
                    <a:close/>
                    <a:moveTo>
                      <a:pt x="10671" y="3"/>
                    </a:moveTo>
                    <a:lnTo>
                      <a:pt x="10671" y="3"/>
                    </a:lnTo>
                    <a:cubicBezTo>
                      <a:pt x="10672" y="3"/>
                      <a:pt x="10673" y="4"/>
                      <a:pt x="10673" y="5"/>
                    </a:cubicBezTo>
                    <a:cubicBezTo>
                      <a:pt x="10673" y="6"/>
                      <a:pt x="10672" y="7"/>
                      <a:pt x="10671" y="7"/>
                    </a:cubicBezTo>
                    <a:lnTo>
                      <a:pt x="10671" y="7"/>
                    </a:lnTo>
                    <a:cubicBezTo>
                      <a:pt x="10670" y="7"/>
                      <a:pt x="10669" y="6"/>
                      <a:pt x="10669" y="5"/>
                    </a:cubicBezTo>
                    <a:cubicBezTo>
                      <a:pt x="10669" y="4"/>
                      <a:pt x="10670" y="3"/>
                      <a:pt x="10671" y="3"/>
                    </a:cubicBezTo>
                    <a:close/>
                    <a:moveTo>
                      <a:pt x="10679" y="3"/>
                    </a:moveTo>
                    <a:lnTo>
                      <a:pt x="10679" y="3"/>
                    </a:lnTo>
                    <a:cubicBezTo>
                      <a:pt x="10680" y="3"/>
                      <a:pt x="10681" y="4"/>
                      <a:pt x="10681" y="5"/>
                    </a:cubicBezTo>
                    <a:cubicBezTo>
                      <a:pt x="10681" y="6"/>
                      <a:pt x="10680" y="7"/>
                      <a:pt x="10679" y="7"/>
                    </a:cubicBezTo>
                    <a:lnTo>
                      <a:pt x="10679" y="7"/>
                    </a:lnTo>
                    <a:cubicBezTo>
                      <a:pt x="10678" y="7"/>
                      <a:pt x="10677" y="6"/>
                      <a:pt x="10677" y="5"/>
                    </a:cubicBezTo>
                    <a:cubicBezTo>
                      <a:pt x="10677" y="4"/>
                      <a:pt x="10678" y="3"/>
                      <a:pt x="10679" y="3"/>
                    </a:cubicBezTo>
                    <a:close/>
                    <a:moveTo>
                      <a:pt x="10687" y="3"/>
                    </a:moveTo>
                    <a:lnTo>
                      <a:pt x="10687" y="3"/>
                    </a:lnTo>
                    <a:cubicBezTo>
                      <a:pt x="10688" y="3"/>
                      <a:pt x="10689" y="4"/>
                      <a:pt x="10689" y="5"/>
                    </a:cubicBezTo>
                    <a:cubicBezTo>
                      <a:pt x="10689" y="6"/>
                      <a:pt x="10688" y="7"/>
                      <a:pt x="10687" y="7"/>
                    </a:cubicBezTo>
                    <a:lnTo>
                      <a:pt x="10687" y="7"/>
                    </a:lnTo>
                    <a:cubicBezTo>
                      <a:pt x="10686" y="7"/>
                      <a:pt x="10685" y="6"/>
                      <a:pt x="10685" y="5"/>
                    </a:cubicBezTo>
                    <a:cubicBezTo>
                      <a:pt x="10685" y="4"/>
                      <a:pt x="10686" y="3"/>
                      <a:pt x="10687" y="3"/>
                    </a:cubicBezTo>
                    <a:close/>
                    <a:moveTo>
                      <a:pt x="10695" y="3"/>
                    </a:moveTo>
                    <a:lnTo>
                      <a:pt x="10695" y="3"/>
                    </a:lnTo>
                    <a:cubicBezTo>
                      <a:pt x="10696" y="3"/>
                      <a:pt x="10697" y="4"/>
                      <a:pt x="10697" y="5"/>
                    </a:cubicBezTo>
                    <a:cubicBezTo>
                      <a:pt x="10697" y="6"/>
                      <a:pt x="10696" y="7"/>
                      <a:pt x="10695" y="7"/>
                    </a:cubicBezTo>
                    <a:lnTo>
                      <a:pt x="10695" y="7"/>
                    </a:lnTo>
                    <a:cubicBezTo>
                      <a:pt x="10694" y="7"/>
                      <a:pt x="10693" y="6"/>
                      <a:pt x="10693" y="5"/>
                    </a:cubicBezTo>
                    <a:cubicBezTo>
                      <a:pt x="10693" y="4"/>
                      <a:pt x="10694" y="3"/>
                      <a:pt x="10695" y="3"/>
                    </a:cubicBezTo>
                    <a:close/>
                    <a:moveTo>
                      <a:pt x="10703" y="3"/>
                    </a:moveTo>
                    <a:lnTo>
                      <a:pt x="10703" y="3"/>
                    </a:lnTo>
                    <a:cubicBezTo>
                      <a:pt x="10704" y="3"/>
                      <a:pt x="10705" y="4"/>
                      <a:pt x="10705" y="5"/>
                    </a:cubicBezTo>
                    <a:cubicBezTo>
                      <a:pt x="10705" y="6"/>
                      <a:pt x="10704" y="7"/>
                      <a:pt x="10703" y="7"/>
                    </a:cubicBezTo>
                    <a:lnTo>
                      <a:pt x="10703" y="7"/>
                    </a:lnTo>
                    <a:cubicBezTo>
                      <a:pt x="10702" y="7"/>
                      <a:pt x="10701" y="6"/>
                      <a:pt x="10701" y="5"/>
                    </a:cubicBezTo>
                    <a:cubicBezTo>
                      <a:pt x="10701" y="4"/>
                      <a:pt x="10702" y="3"/>
                      <a:pt x="10703" y="3"/>
                    </a:cubicBezTo>
                    <a:close/>
                    <a:moveTo>
                      <a:pt x="10711" y="3"/>
                    </a:moveTo>
                    <a:lnTo>
                      <a:pt x="10711" y="3"/>
                    </a:lnTo>
                    <a:cubicBezTo>
                      <a:pt x="10712" y="3"/>
                      <a:pt x="10713" y="4"/>
                      <a:pt x="10713" y="5"/>
                    </a:cubicBezTo>
                    <a:cubicBezTo>
                      <a:pt x="10713" y="6"/>
                      <a:pt x="10712" y="7"/>
                      <a:pt x="10711" y="7"/>
                    </a:cubicBezTo>
                    <a:lnTo>
                      <a:pt x="10711" y="7"/>
                    </a:lnTo>
                    <a:cubicBezTo>
                      <a:pt x="10710" y="7"/>
                      <a:pt x="10709" y="6"/>
                      <a:pt x="10709" y="5"/>
                    </a:cubicBezTo>
                    <a:cubicBezTo>
                      <a:pt x="10709" y="4"/>
                      <a:pt x="10710" y="3"/>
                      <a:pt x="10711" y="3"/>
                    </a:cubicBezTo>
                    <a:close/>
                    <a:moveTo>
                      <a:pt x="10719" y="3"/>
                    </a:moveTo>
                    <a:lnTo>
                      <a:pt x="10719" y="3"/>
                    </a:lnTo>
                    <a:cubicBezTo>
                      <a:pt x="10720" y="3"/>
                      <a:pt x="10721" y="4"/>
                      <a:pt x="10721" y="5"/>
                    </a:cubicBezTo>
                    <a:cubicBezTo>
                      <a:pt x="10721" y="6"/>
                      <a:pt x="10720" y="7"/>
                      <a:pt x="10719" y="7"/>
                    </a:cubicBezTo>
                    <a:lnTo>
                      <a:pt x="10719" y="7"/>
                    </a:lnTo>
                    <a:cubicBezTo>
                      <a:pt x="10718" y="7"/>
                      <a:pt x="10717" y="6"/>
                      <a:pt x="10717" y="5"/>
                    </a:cubicBezTo>
                    <a:cubicBezTo>
                      <a:pt x="10717" y="4"/>
                      <a:pt x="10718" y="3"/>
                      <a:pt x="10719" y="3"/>
                    </a:cubicBezTo>
                    <a:close/>
                    <a:moveTo>
                      <a:pt x="10727" y="3"/>
                    </a:moveTo>
                    <a:lnTo>
                      <a:pt x="10727" y="3"/>
                    </a:lnTo>
                    <a:cubicBezTo>
                      <a:pt x="10728" y="3"/>
                      <a:pt x="10729" y="4"/>
                      <a:pt x="10729" y="5"/>
                    </a:cubicBezTo>
                    <a:cubicBezTo>
                      <a:pt x="10729" y="6"/>
                      <a:pt x="10728" y="7"/>
                      <a:pt x="10727" y="7"/>
                    </a:cubicBezTo>
                    <a:lnTo>
                      <a:pt x="10727" y="7"/>
                    </a:lnTo>
                    <a:cubicBezTo>
                      <a:pt x="10726" y="7"/>
                      <a:pt x="10725" y="6"/>
                      <a:pt x="10725" y="5"/>
                    </a:cubicBezTo>
                    <a:cubicBezTo>
                      <a:pt x="10725" y="4"/>
                      <a:pt x="10726" y="3"/>
                      <a:pt x="10727" y="3"/>
                    </a:cubicBezTo>
                    <a:close/>
                    <a:moveTo>
                      <a:pt x="10735" y="3"/>
                    </a:moveTo>
                    <a:lnTo>
                      <a:pt x="10735" y="3"/>
                    </a:lnTo>
                    <a:cubicBezTo>
                      <a:pt x="10736" y="3"/>
                      <a:pt x="10737" y="4"/>
                      <a:pt x="10737" y="5"/>
                    </a:cubicBezTo>
                    <a:cubicBezTo>
                      <a:pt x="10737" y="6"/>
                      <a:pt x="10736" y="7"/>
                      <a:pt x="10735" y="7"/>
                    </a:cubicBezTo>
                    <a:lnTo>
                      <a:pt x="10735" y="7"/>
                    </a:lnTo>
                    <a:cubicBezTo>
                      <a:pt x="10734" y="7"/>
                      <a:pt x="10733" y="6"/>
                      <a:pt x="10733" y="5"/>
                    </a:cubicBezTo>
                    <a:cubicBezTo>
                      <a:pt x="10733" y="4"/>
                      <a:pt x="10734" y="3"/>
                      <a:pt x="10735" y="3"/>
                    </a:cubicBezTo>
                    <a:close/>
                    <a:moveTo>
                      <a:pt x="10743" y="3"/>
                    </a:moveTo>
                    <a:lnTo>
                      <a:pt x="10743" y="3"/>
                    </a:lnTo>
                    <a:cubicBezTo>
                      <a:pt x="10744" y="3"/>
                      <a:pt x="10745" y="4"/>
                      <a:pt x="10745" y="5"/>
                    </a:cubicBezTo>
                    <a:cubicBezTo>
                      <a:pt x="10745" y="6"/>
                      <a:pt x="10744" y="7"/>
                      <a:pt x="10743" y="7"/>
                    </a:cubicBezTo>
                    <a:lnTo>
                      <a:pt x="10743" y="7"/>
                    </a:lnTo>
                    <a:cubicBezTo>
                      <a:pt x="10742" y="7"/>
                      <a:pt x="10741" y="6"/>
                      <a:pt x="10741" y="5"/>
                    </a:cubicBezTo>
                    <a:cubicBezTo>
                      <a:pt x="10741" y="4"/>
                      <a:pt x="10742" y="3"/>
                      <a:pt x="10743" y="3"/>
                    </a:cubicBezTo>
                    <a:close/>
                    <a:moveTo>
                      <a:pt x="10751" y="3"/>
                    </a:moveTo>
                    <a:lnTo>
                      <a:pt x="10751" y="3"/>
                    </a:lnTo>
                    <a:cubicBezTo>
                      <a:pt x="10752" y="3"/>
                      <a:pt x="10753" y="4"/>
                      <a:pt x="10753" y="5"/>
                    </a:cubicBezTo>
                    <a:cubicBezTo>
                      <a:pt x="10753" y="6"/>
                      <a:pt x="10752" y="7"/>
                      <a:pt x="10751" y="7"/>
                    </a:cubicBezTo>
                    <a:lnTo>
                      <a:pt x="10751" y="7"/>
                    </a:lnTo>
                    <a:cubicBezTo>
                      <a:pt x="10750" y="7"/>
                      <a:pt x="10749" y="6"/>
                      <a:pt x="10749" y="5"/>
                    </a:cubicBezTo>
                    <a:cubicBezTo>
                      <a:pt x="10749" y="4"/>
                      <a:pt x="10750" y="3"/>
                      <a:pt x="10751" y="3"/>
                    </a:cubicBezTo>
                    <a:close/>
                    <a:moveTo>
                      <a:pt x="10759" y="3"/>
                    </a:moveTo>
                    <a:lnTo>
                      <a:pt x="10759" y="3"/>
                    </a:lnTo>
                    <a:cubicBezTo>
                      <a:pt x="10760" y="3"/>
                      <a:pt x="10761" y="4"/>
                      <a:pt x="10761" y="5"/>
                    </a:cubicBezTo>
                    <a:cubicBezTo>
                      <a:pt x="10761" y="6"/>
                      <a:pt x="10760" y="7"/>
                      <a:pt x="10759" y="7"/>
                    </a:cubicBezTo>
                    <a:lnTo>
                      <a:pt x="10759" y="7"/>
                    </a:lnTo>
                    <a:cubicBezTo>
                      <a:pt x="10758" y="7"/>
                      <a:pt x="10757" y="6"/>
                      <a:pt x="10757" y="5"/>
                    </a:cubicBezTo>
                    <a:cubicBezTo>
                      <a:pt x="10757" y="4"/>
                      <a:pt x="10758" y="3"/>
                      <a:pt x="10759" y="3"/>
                    </a:cubicBezTo>
                    <a:close/>
                    <a:moveTo>
                      <a:pt x="10767" y="3"/>
                    </a:moveTo>
                    <a:lnTo>
                      <a:pt x="10767" y="3"/>
                    </a:lnTo>
                    <a:cubicBezTo>
                      <a:pt x="10768" y="3"/>
                      <a:pt x="10769" y="4"/>
                      <a:pt x="10769" y="5"/>
                    </a:cubicBezTo>
                    <a:cubicBezTo>
                      <a:pt x="10769" y="6"/>
                      <a:pt x="10768" y="7"/>
                      <a:pt x="10767" y="7"/>
                    </a:cubicBezTo>
                    <a:lnTo>
                      <a:pt x="10767" y="7"/>
                    </a:lnTo>
                    <a:cubicBezTo>
                      <a:pt x="10766" y="7"/>
                      <a:pt x="10765" y="6"/>
                      <a:pt x="10765" y="5"/>
                    </a:cubicBezTo>
                    <a:cubicBezTo>
                      <a:pt x="10765" y="4"/>
                      <a:pt x="10766" y="3"/>
                      <a:pt x="10767" y="3"/>
                    </a:cubicBezTo>
                    <a:close/>
                    <a:moveTo>
                      <a:pt x="10775" y="3"/>
                    </a:moveTo>
                    <a:lnTo>
                      <a:pt x="10775" y="3"/>
                    </a:lnTo>
                    <a:cubicBezTo>
                      <a:pt x="10776" y="3"/>
                      <a:pt x="10777" y="4"/>
                      <a:pt x="10777" y="5"/>
                    </a:cubicBezTo>
                    <a:cubicBezTo>
                      <a:pt x="10777" y="6"/>
                      <a:pt x="10776" y="7"/>
                      <a:pt x="10775" y="7"/>
                    </a:cubicBezTo>
                    <a:lnTo>
                      <a:pt x="10775" y="7"/>
                    </a:lnTo>
                    <a:cubicBezTo>
                      <a:pt x="10774" y="7"/>
                      <a:pt x="10773" y="6"/>
                      <a:pt x="10773" y="5"/>
                    </a:cubicBezTo>
                    <a:cubicBezTo>
                      <a:pt x="10773" y="4"/>
                      <a:pt x="10774" y="3"/>
                      <a:pt x="10775" y="3"/>
                    </a:cubicBezTo>
                    <a:close/>
                    <a:moveTo>
                      <a:pt x="10783" y="3"/>
                    </a:moveTo>
                    <a:lnTo>
                      <a:pt x="10783" y="3"/>
                    </a:lnTo>
                    <a:cubicBezTo>
                      <a:pt x="10784" y="3"/>
                      <a:pt x="10785" y="4"/>
                      <a:pt x="10785" y="5"/>
                    </a:cubicBezTo>
                    <a:cubicBezTo>
                      <a:pt x="10785" y="6"/>
                      <a:pt x="10784" y="7"/>
                      <a:pt x="10783" y="7"/>
                    </a:cubicBezTo>
                    <a:lnTo>
                      <a:pt x="10783" y="7"/>
                    </a:lnTo>
                    <a:cubicBezTo>
                      <a:pt x="10782" y="7"/>
                      <a:pt x="10781" y="6"/>
                      <a:pt x="10781" y="5"/>
                    </a:cubicBezTo>
                    <a:cubicBezTo>
                      <a:pt x="10781" y="4"/>
                      <a:pt x="10782" y="3"/>
                      <a:pt x="10783" y="3"/>
                    </a:cubicBezTo>
                    <a:close/>
                    <a:moveTo>
                      <a:pt x="10791" y="3"/>
                    </a:moveTo>
                    <a:lnTo>
                      <a:pt x="10791" y="3"/>
                    </a:lnTo>
                    <a:cubicBezTo>
                      <a:pt x="10793" y="3"/>
                      <a:pt x="10793" y="4"/>
                      <a:pt x="10793" y="5"/>
                    </a:cubicBezTo>
                    <a:cubicBezTo>
                      <a:pt x="10793" y="6"/>
                      <a:pt x="10793" y="7"/>
                      <a:pt x="10791" y="7"/>
                    </a:cubicBezTo>
                    <a:lnTo>
                      <a:pt x="10791" y="7"/>
                    </a:lnTo>
                    <a:cubicBezTo>
                      <a:pt x="10790" y="7"/>
                      <a:pt x="10789" y="6"/>
                      <a:pt x="10789" y="5"/>
                    </a:cubicBezTo>
                    <a:cubicBezTo>
                      <a:pt x="10789" y="4"/>
                      <a:pt x="10790" y="3"/>
                      <a:pt x="10791" y="3"/>
                    </a:cubicBezTo>
                    <a:close/>
                    <a:moveTo>
                      <a:pt x="10799" y="3"/>
                    </a:moveTo>
                    <a:lnTo>
                      <a:pt x="10799" y="3"/>
                    </a:lnTo>
                    <a:cubicBezTo>
                      <a:pt x="10801" y="3"/>
                      <a:pt x="10801" y="4"/>
                      <a:pt x="10801" y="5"/>
                    </a:cubicBezTo>
                    <a:cubicBezTo>
                      <a:pt x="10801" y="6"/>
                      <a:pt x="10801" y="7"/>
                      <a:pt x="10799" y="7"/>
                    </a:cubicBezTo>
                    <a:lnTo>
                      <a:pt x="10799" y="7"/>
                    </a:lnTo>
                    <a:cubicBezTo>
                      <a:pt x="10798" y="7"/>
                      <a:pt x="10797" y="6"/>
                      <a:pt x="10797" y="5"/>
                    </a:cubicBezTo>
                    <a:cubicBezTo>
                      <a:pt x="10797" y="4"/>
                      <a:pt x="10798" y="3"/>
                      <a:pt x="10799" y="3"/>
                    </a:cubicBezTo>
                    <a:close/>
                    <a:moveTo>
                      <a:pt x="10807" y="3"/>
                    </a:moveTo>
                    <a:lnTo>
                      <a:pt x="10807" y="3"/>
                    </a:lnTo>
                    <a:cubicBezTo>
                      <a:pt x="10809" y="3"/>
                      <a:pt x="10809" y="4"/>
                      <a:pt x="10809" y="5"/>
                    </a:cubicBezTo>
                    <a:cubicBezTo>
                      <a:pt x="10809" y="6"/>
                      <a:pt x="10809" y="7"/>
                      <a:pt x="10807" y="7"/>
                    </a:cubicBezTo>
                    <a:lnTo>
                      <a:pt x="10807" y="7"/>
                    </a:lnTo>
                    <a:cubicBezTo>
                      <a:pt x="10806" y="7"/>
                      <a:pt x="10805" y="6"/>
                      <a:pt x="10805" y="5"/>
                    </a:cubicBezTo>
                    <a:cubicBezTo>
                      <a:pt x="10805" y="4"/>
                      <a:pt x="10806" y="3"/>
                      <a:pt x="10807" y="3"/>
                    </a:cubicBezTo>
                    <a:close/>
                    <a:moveTo>
                      <a:pt x="10815" y="3"/>
                    </a:moveTo>
                    <a:lnTo>
                      <a:pt x="10815" y="3"/>
                    </a:lnTo>
                    <a:cubicBezTo>
                      <a:pt x="10817" y="3"/>
                      <a:pt x="10817" y="4"/>
                      <a:pt x="10817" y="5"/>
                    </a:cubicBezTo>
                    <a:cubicBezTo>
                      <a:pt x="10817" y="6"/>
                      <a:pt x="10817" y="7"/>
                      <a:pt x="10815" y="7"/>
                    </a:cubicBezTo>
                    <a:lnTo>
                      <a:pt x="10815" y="7"/>
                    </a:lnTo>
                    <a:cubicBezTo>
                      <a:pt x="10814" y="7"/>
                      <a:pt x="10813" y="6"/>
                      <a:pt x="10813" y="5"/>
                    </a:cubicBezTo>
                    <a:cubicBezTo>
                      <a:pt x="10813" y="4"/>
                      <a:pt x="10814" y="3"/>
                      <a:pt x="10815" y="3"/>
                    </a:cubicBezTo>
                    <a:close/>
                    <a:moveTo>
                      <a:pt x="10823" y="3"/>
                    </a:moveTo>
                    <a:lnTo>
                      <a:pt x="10823" y="3"/>
                    </a:lnTo>
                    <a:cubicBezTo>
                      <a:pt x="10825" y="3"/>
                      <a:pt x="10825" y="4"/>
                      <a:pt x="10825" y="5"/>
                    </a:cubicBezTo>
                    <a:cubicBezTo>
                      <a:pt x="10825" y="6"/>
                      <a:pt x="10825" y="7"/>
                      <a:pt x="10823" y="7"/>
                    </a:cubicBezTo>
                    <a:lnTo>
                      <a:pt x="10823" y="7"/>
                    </a:lnTo>
                    <a:cubicBezTo>
                      <a:pt x="10822" y="7"/>
                      <a:pt x="10821" y="6"/>
                      <a:pt x="10821" y="5"/>
                    </a:cubicBezTo>
                    <a:cubicBezTo>
                      <a:pt x="10821" y="4"/>
                      <a:pt x="10822" y="3"/>
                      <a:pt x="10823" y="3"/>
                    </a:cubicBezTo>
                    <a:close/>
                    <a:moveTo>
                      <a:pt x="10831" y="3"/>
                    </a:moveTo>
                    <a:lnTo>
                      <a:pt x="10831" y="3"/>
                    </a:lnTo>
                    <a:cubicBezTo>
                      <a:pt x="10833" y="3"/>
                      <a:pt x="10833" y="4"/>
                      <a:pt x="10833" y="5"/>
                    </a:cubicBezTo>
                    <a:cubicBezTo>
                      <a:pt x="10833" y="6"/>
                      <a:pt x="10833" y="7"/>
                      <a:pt x="10831" y="7"/>
                    </a:cubicBezTo>
                    <a:lnTo>
                      <a:pt x="10831" y="7"/>
                    </a:lnTo>
                    <a:cubicBezTo>
                      <a:pt x="10830" y="7"/>
                      <a:pt x="10829" y="6"/>
                      <a:pt x="10829" y="5"/>
                    </a:cubicBezTo>
                    <a:cubicBezTo>
                      <a:pt x="10829" y="4"/>
                      <a:pt x="10830" y="3"/>
                      <a:pt x="10831" y="3"/>
                    </a:cubicBezTo>
                    <a:close/>
                    <a:moveTo>
                      <a:pt x="10839" y="3"/>
                    </a:moveTo>
                    <a:lnTo>
                      <a:pt x="10839" y="3"/>
                    </a:lnTo>
                    <a:cubicBezTo>
                      <a:pt x="10841" y="3"/>
                      <a:pt x="10841" y="4"/>
                      <a:pt x="10841" y="5"/>
                    </a:cubicBezTo>
                    <a:cubicBezTo>
                      <a:pt x="10841" y="6"/>
                      <a:pt x="10841" y="7"/>
                      <a:pt x="10839" y="7"/>
                    </a:cubicBezTo>
                    <a:lnTo>
                      <a:pt x="10839" y="7"/>
                    </a:lnTo>
                    <a:cubicBezTo>
                      <a:pt x="10838" y="7"/>
                      <a:pt x="10837" y="6"/>
                      <a:pt x="10837" y="5"/>
                    </a:cubicBezTo>
                    <a:cubicBezTo>
                      <a:pt x="10837" y="4"/>
                      <a:pt x="10838" y="3"/>
                      <a:pt x="10839" y="3"/>
                    </a:cubicBezTo>
                    <a:close/>
                    <a:moveTo>
                      <a:pt x="10847" y="3"/>
                    </a:moveTo>
                    <a:lnTo>
                      <a:pt x="10847" y="3"/>
                    </a:lnTo>
                    <a:cubicBezTo>
                      <a:pt x="10849" y="3"/>
                      <a:pt x="10849" y="4"/>
                      <a:pt x="10849" y="5"/>
                    </a:cubicBezTo>
                    <a:cubicBezTo>
                      <a:pt x="10849" y="6"/>
                      <a:pt x="10849" y="7"/>
                      <a:pt x="10847" y="7"/>
                    </a:cubicBezTo>
                    <a:lnTo>
                      <a:pt x="10847" y="7"/>
                    </a:lnTo>
                    <a:cubicBezTo>
                      <a:pt x="10846" y="7"/>
                      <a:pt x="10845" y="6"/>
                      <a:pt x="10845" y="5"/>
                    </a:cubicBezTo>
                    <a:cubicBezTo>
                      <a:pt x="10845" y="4"/>
                      <a:pt x="10846" y="3"/>
                      <a:pt x="10847" y="3"/>
                    </a:cubicBezTo>
                    <a:close/>
                    <a:moveTo>
                      <a:pt x="10855" y="3"/>
                    </a:moveTo>
                    <a:lnTo>
                      <a:pt x="10855" y="3"/>
                    </a:lnTo>
                    <a:cubicBezTo>
                      <a:pt x="10857" y="3"/>
                      <a:pt x="10857" y="4"/>
                      <a:pt x="10857" y="5"/>
                    </a:cubicBezTo>
                    <a:cubicBezTo>
                      <a:pt x="10857" y="6"/>
                      <a:pt x="10857" y="7"/>
                      <a:pt x="10855" y="7"/>
                    </a:cubicBezTo>
                    <a:lnTo>
                      <a:pt x="10855" y="7"/>
                    </a:lnTo>
                    <a:cubicBezTo>
                      <a:pt x="10854" y="7"/>
                      <a:pt x="10853" y="6"/>
                      <a:pt x="10853" y="5"/>
                    </a:cubicBezTo>
                    <a:cubicBezTo>
                      <a:pt x="10853" y="4"/>
                      <a:pt x="10854" y="3"/>
                      <a:pt x="10855" y="3"/>
                    </a:cubicBezTo>
                    <a:close/>
                    <a:moveTo>
                      <a:pt x="10863" y="3"/>
                    </a:moveTo>
                    <a:lnTo>
                      <a:pt x="10863" y="3"/>
                    </a:lnTo>
                    <a:cubicBezTo>
                      <a:pt x="10865" y="3"/>
                      <a:pt x="10865" y="4"/>
                      <a:pt x="10865" y="5"/>
                    </a:cubicBezTo>
                    <a:cubicBezTo>
                      <a:pt x="10865" y="6"/>
                      <a:pt x="10865" y="7"/>
                      <a:pt x="10863" y="7"/>
                    </a:cubicBezTo>
                    <a:lnTo>
                      <a:pt x="10863" y="7"/>
                    </a:lnTo>
                    <a:cubicBezTo>
                      <a:pt x="10862" y="7"/>
                      <a:pt x="10861" y="6"/>
                      <a:pt x="10861" y="5"/>
                    </a:cubicBezTo>
                    <a:cubicBezTo>
                      <a:pt x="10861" y="4"/>
                      <a:pt x="10862" y="3"/>
                      <a:pt x="10863" y="3"/>
                    </a:cubicBezTo>
                    <a:close/>
                    <a:moveTo>
                      <a:pt x="10871" y="3"/>
                    </a:moveTo>
                    <a:lnTo>
                      <a:pt x="10871" y="3"/>
                    </a:lnTo>
                    <a:cubicBezTo>
                      <a:pt x="10873" y="3"/>
                      <a:pt x="10873" y="4"/>
                      <a:pt x="10873" y="5"/>
                    </a:cubicBezTo>
                    <a:cubicBezTo>
                      <a:pt x="10873" y="6"/>
                      <a:pt x="10873" y="7"/>
                      <a:pt x="10871" y="7"/>
                    </a:cubicBezTo>
                    <a:lnTo>
                      <a:pt x="10871" y="7"/>
                    </a:lnTo>
                    <a:cubicBezTo>
                      <a:pt x="10870" y="7"/>
                      <a:pt x="10869" y="6"/>
                      <a:pt x="10869" y="5"/>
                    </a:cubicBezTo>
                    <a:cubicBezTo>
                      <a:pt x="10869" y="4"/>
                      <a:pt x="10870" y="3"/>
                      <a:pt x="10871" y="3"/>
                    </a:cubicBezTo>
                    <a:close/>
                    <a:moveTo>
                      <a:pt x="10879" y="3"/>
                    </a:moveTo>
                    <a:lnTo>
                      <a:pt x="10879" y="3"/>
                    </a:lnTo>
                    <a:cubicBezTo>
                      <a:pt x="10881" y="3"/>
                      <a:pt x="10881" y="4"/>
                      <a:pt x="10881" y="5"/>
                    </a:cubicBezTo>
                    <a:cubicBezTo>
                      <a:pt x="10881" y="6"/>
                      <a:pt x="10881" y="7"/>
                      <a:pt x="10879" y="7"/>
                    </a:cubicBezTo>
                    <a:lnTo>
                      <a:pt x="10879" y="7"/>
                    </a:lnTo>
                    <a:cubicBezTo>
                      <a:pt x="10878" y="7"/>
                      <a:pt x="10877" y="6"/>
                      <a:pt x="10877" y="5"/>
                    </a:cubicBezTo>
                    <a:cubicBezTo>
                      <a:pt x="10877" y="4"/>
                      <a:pt x="10878" y="3"/>
                      <a:pt x="10879" y="3"/>
                    </a:cubicBezTo>
                    <a:close/>
                    <a:moveTo>
                      <a:pt x="10887" y="3"/>
                    </a:moveTo>
                    <a:lnTo>
                      <a:pt x="10887" y="3"/>
                    </a:lnTo>
                    <a:cubicBezTo>
                      <a:pt x="10889" y="3"/>
                      <a:pt x="10889" y="4"/>
                      <a:pt x="10889" y="5"/>
                    </a:cubicBezTo>
                    <a:cubicBezTo>
                      <a:pt x="10889" y="6"/>
                      <a:pt x="10889" y="7"/>
                      <a:pt x="10887" y="7"/>
                    </a:cubicBezTo>
                    <a:lnTo>
                      <a:pt x="10887" y="7"/>
                    </a:lnTo>
                    <a:cubicBezTo>
                      <a:pt x="10886" y="7"/>
                      <a:pt x="10885" y="6"/>
                      <a:pt x="10885" y="5"/>
                    </a:cubicBezTo>
                    <a:cubicBezTo>
                      <a:pt x="10885" y="4"/>
                      <a:pt x="10886" y="3"/>
                      <a:pt x="10887" y="3"/>
                    </a:cubicBezTo>
                    <a:close/>
                    <a:moveTo>
                      <a:pt x="10895" y="3"/>
                    </a:moveTo>
                    <a:lnTo>
                      <a:pt x="10895" y="3"/>
                    </a:lnTo>
                    <a:cubicBezTo>
                      <a:pt x="10897" y="3"/>
                      <a:pt x="10897" y="4"/>
                      <a:pt x="10897" y="5"/>
                    </a:cubicBezTo>
                    <a:cubicBezTo>
                      <a:pt x="10897" y="6"/>
                      <a:pt x="10897" y="7"/>
                      <a:pt x="10895" y="7"/>
                    </a:cubicBezTo>
                    <a:lnTo>
                      <a:pt x="10895" y="7"/>
                    </a:lnTo>
                    <a:cubicBezTo>
                      <a:pt x="10894" y="7"/>
                      <a:pt x="10893" y="6"/>
                      <a:pt x="10893" y="5"/>
                    </a:cubicBezTo>
                    <a:cubicBezTo>
                      <a:pt x="10893" y="4"/>
                      <a:pt x="10894" y="3"/>
                      <a:pt x="10895" y="3"/>
                    </a:cubicBezTo>
                    <a:close/>
                    <a:moveTo>
                      <a:pt x="10903" y="3"/>
                    </a:moveTo>
                    <a:lnTo>
                      <a:pt x="10903" y="3"/>
                    </a:lnTo>
                    <a:cubicBezTo>
                      <a:pt x="10905" y="3"/>
                      <a:pt x="10905" y="4"/>
                      <a:pt x="10905" y="5"/>
                    </a:cubicBezTo>
                    <a:cubicBezTo>
                      <a:pt x="10905" y="6"/>
                      <a:pt x="10905" y="7"/>
                      <a:pt x="10903" y="7"/>
                    </a:cubicBezTo>
                    <a:lnTo>
                      <a:pt x="10903" y="7"/>
                    </a:lnTo>
                    <a:cubicBezTo>
                      <a:pt x="10902" y="7"/>
                      <a:pt x="10901" y="6"/>
                      <a:pt x="10901" y="5"/>
                    </a:cubicBezTo>
                    <a:cubicBezTo>
                      <a:pt x="10901" y="4"/>
                      <a:pt x="10902" y="3"/>
                      <a:pt x="10903" y="3"/>
                    </a:cubicBezTo>
                    <a:close/>
                    <a:moveTo>
                      <a:pt x="10911" y="3"/>
                    </a:moveTo>
                    <a:lnTo>
                      <a:pt x="10911" y="3"/>
                    </a:lnTo>
                    <a:cubicBezTo>
                      <a:pt x="10913" y="3"/>
                      <a:pt x="10913" y="4"/>
                      <a:pt x="10913" y="5"/>
                    </a:cubicBezTo>
                    <a:cubicBezTo>
                      <a:pt x="10913" y="6"/>
                      <a:pt x="10913" y="7"/>
                      <a:pt x="10911" y="7"/>
                    </a:cubicBezTo>
                    <a:lnTo>
                      <a:pt x="10911" y="7"/>
                    </a:lnTo>
                    <a:cubicBezTo>
                      <a:pt x="10910" y="7"/>
                      <a:pt x="10909" y="6"/>
                      <a:pt x="10909" y="5"/>
                    </a:cubicBezTo>
                    <a:cubicBezTo>
                      <a:pt x="10909" y="4"/>
                      <a:pt x="10910" y="3"/>
                      <a:pt x="10911" y="3"/>
                    </a:cubicBezTo>
                    <a:close/>
                    <a:moveTo>
                      <a:pt x="10919" y="3"/>
                    </a:moveTo>
                    <a:lnTo>
                      <a:pt x="10919" y="3"/>
                    </a:lnTo>
                    <a:cubicBezTo>
                      <a:pt x="10921" y="3"/>
                      <a:pt x="10921" y="4"/>
                      <a:pt x="10921" y="5"/>
                    </a:cubicBezTo>
                    <a:cubicBezTo>
                      <a:pt x="10921" y="6"/>
                      <a:pt x="10921" y="7"/>
                      <a:pt x="10919" y="7"/>
                    </a:cubicBezTo>
                    <a:lnTo>
                      <a:pt x="10919" y="7"/>
                    </a:lnTo>
                    <a:cubicBezTo>
                      <a:pt x="10918" y="7"/>
                      <a:pt x="10917" y="6"/>
                      <a:pt x="10917" y="5"/>
                    </a:cubicBezTo>
                    <a:cubicBezTo>
                      <a:pt x="10917" y="4"/>
                      <a:pt x="10918" y="3"/>
                      <a:pt x="10919" y="3"/>
                    </a:cubicBezTo>
                    <a:close/>
                    <a:moveTo>
                      <a:pt x="10927" y="3"/>
                    </a:moveTo>
                    <a:lnTo>
                      <a:pt x="10927" y="3"/>
                    </a:lnTo>
                    <a:cubicBezTo>
                      <a:pt x="10929" y="3"/>
                      <a:pt x="10929" y="4"/>
                      <a:pt x="10929" y="5"/>
                    </a:cubicBezTo>
                    <a:cubicBezTo>
                      <a:pt x="10929" y="6"/>
                      <a:pt x="10929" y="7"/>
                      <a:pt x="10927" y="7"/>
                    </a:cubicBezTo>
                    <a:lnTo>
                      <a:pt x="10927" y="7"/>
                    </a:lnTo>
                    <a:cubicBezTo>
                      <a:pt x="10926" y="7"/>
                      <a:pt x="10925" y="6"/>
                      <a:pt x="10925" y="5"/>
                    </a:cubicBezTo>
                    <a:cubicBezTo>
                      <a:pt x="10925" y="4"/>
                      <a:pt x="10926" y="3"/>
                      <a:pt x="10927" y="3"/>
                    </a:cubicBezTo>
                    <a:close/>
                    <a:moveTo>
                      <a:pt x="10935" y="3"/>
                    </a:moveTo>
                    <a:lnTo>
                      <a:pt x="10935" y="3"/>
                    </a:lnTo>
                    <a:cubicBezTo>
                      <a:pt x="10937" y="3"/>
                      <a:pt x="10937" y="4"/>
                      <a:pt x="10937" y="5"/>
                    </a:cubicBezTo>
                    <a:cubicBezTo>
                      <a:pt x="10937" y="6"/>
                      <a:pt x="10937" y="7"/>
                      <a:pt x="10935" y="7"/>
                    </a:cubicBezTo>
                    <a:lnTo>
                      <a:pt x="10935" y="7"/>
                    </a:lnTo>
                    <a:cubicBezTo>
                      <a:pt x="10934" y="7"/>
                      <a:pt x="10933" y="6"/>
                      <a:pt x="10933" y="5"/>
                    </a:cubicBezTo>
                    <a:cubicBezTo>
                      <a:pt x="10933" y="4"/>
                      <a:pt x="10934" y="3"/>
                      <a:pt x="10935" y="3"/>
                    </a:cubicBezTo>
                    <a:close/>
                    <a:moveTo>
                      <a:pt x="10943" y="3"/>
                    </a:moveTo>
                    <a:lnTo>
                      <a:pt x="10943" y="3"/>
                    </a:lnTo>
                    <a:cubicBezTo>
                      <a:pt x="10945" y="3"/>
                      <a:pt x="10945" y="4"/>
                      <a:pt x="10945" y="5"/>
                    </a:cubicBezTo>
                    <a:cubicBezTo>
                      <a:pt x="10945" y="6"/>
                      <a:pt x="10945" y="7"/>
                      <a:pt x="10943" y="7"/>
                    </a:cubicBezTo>
                    <a:lnTo>
                      <a:pt x="10943" y="7"/>
                    </a:lnTo>
                    <a:cubicBezTo>
                      <a:pt x="10942" y="7"/>
                      <a:pt x="10941" y="6"/>
                      <a:pt x="10941" y="5"/>
                    </a:cubicBezTo>
                    <a:cubicBezTo>
                      <a:pt x="10941" y="4"/>
                      <a:pt x="10942" y="3"/>
                      <a:pt x="10943" y="3"/>
                    </a:cubicBezTo>
                    <a:close/>
                    <a:moveTo>
                      <a:pt x="10951" y="3"/>
                    </a:moveTo>
                    <a:lnTo>
                      <a:pt x="10951" y="3"/>
                    </a:lnTo>
                    <a:cubicBezTo>
                      <a:pt x="10953" y="3"/>
                      <a:pt x="10953" y="4"/>
                      <a:pt x="10953" y="5"/>
                    </a:cubicBezTo>
                    <a:cubicBezTo>
                      <a:pt x="10953" y="6"/>
                      <a:pt x="10953" y="7"/>
                      <a:pt x="10951" y="7"/>
                    </a:cubicBezTo>
                    <a:lnTo>
                      <a:pt x="10951" y="7"/>
                    </a:lnTo>
                    <a:cubicBezTo>
                      <a:pt x="10950" y="7"/>
                      <a:pt x="10949" y="6"/>
                      <a:pt x="10949" y="5"/>
                    </a:cubicBezTo>
                    <a:cubicBezTo>
                      <a:pt x="10949" y="4"/>
                      <a:pt x="10950" y="3"/>
                      <a:pt x="10951" y="3"/>
                    </a:cubicBezTo>
                    <a:close/>
                    <a:moveTo>
                      <a:pt x="10959" y="3"/>
                    </a:moveTo>
                    <a:lnTo>
                      <a:pt x="10960" y="3"/>
                    </a:lnTo>
                    <a:cubicBezTo>
                      <a:pt x="10961" y="3"/>
                      <a:pt x="10962" y="4"/>
                      <a:pt x="10962" y="5"/>
                    </a:cubicBezTo>
                    <a:cubicBezTo>
                      <a:pt x="10962" y="6"/>
                      <a:pt x="10961" y="7"/>
                      <a:pt x="10960" y="7"/>
                    </a:cubicBezTo>
                    <a:lnTo>
                      <a:pt x="10959" y="7"/>
                    </a:lnTo>
                    <a:cubicBezTo>
                      <a:pt x="10958" y="7"/>
                      <a:pt x="10957" y="6"/>
                      <a:pt x="10957" y="5"/>
                    </a:cubicBezTo>
                    <a:cubicBezTo>
                      <a:pt x="10957" y="4"/>
                      <a:pt x="10958" y="3"/>
                      <a:pt x="10959" y="3"/>
                    </a:cubicBezTo>
                    <a:close/>
                    <a:moveTo>
                      <a:pt x="10968" y="3"/>
                    </a:moveTo>
                    <a:lnTo>
                      <a:pt x="10968" y="3"/>
                    </a:lnTo>
                    <a:cubicBezTo>
                      <a:pt x="10969" y="3"/>
                      <a:pt x="10970" y="4"/>
                      <a:pt x="10970" y="5"/>
                    </a:cubicBezTo>
                    <a:cubicBezTo>
                      <a:pt x="10970" y="6"/>
                      <a:pt x="10969" y="7"/>
                      <a:pt x="10968" y="7"/>
                    </a:cubicBezTo>
                    <a:lnTo>
                      <a:pt x="10968" y="7"/>
                    </a:lnTo>
                    <a:cubicBezTo>
                      <a:pt x="10966" y="7"/>
                      <a:pt x="10966" y="6"/>
                      <a:pt x="10966" y="5"/>
                    </a:cubicBezTo>
                    <a:cubicBezTo>
                      <a:pt x="10966" y="4"/>
                      <a:pt x="10966" y="3"/>
                      <a:pt x="10968" y="3"/>
                    </a:cubicBezTo>
                    <a:close/>
                    <a:moveTo>
                      <a:pt x="10976" y="3"/>
                    </a:moveTo>
                    <a:lnTo>
                      <a:pt x="10976" y="3"/>
                    </a:lnTo>
                    <a:cubicBezTo>
                      <a:pt x="10977" y="3"/>
                      <a:pt x="10978" y="4"/>
                      <a:pt x="10978" y="5"/>
                    </a:cubicBezTo>
                    <a:cubicBezTo>
                      <a:pt x="10978" y="6"/>
                      <a:pt x="10977" y="7"/>
                      <a:pt x="10976" y="7"/>
                    </a:cubicBezTo>
                    <a:lnTo>
                      <a:pt x="10976" y="7"/>
                    </a:lnTo>
                    <a:cubicBezTo>
                      <a:pt x="10974" y="7"/>
                      <a:pt x="10974" y="6"/>
                      <a:pt x="10974" y="5"/>
                    </a:cubicBezTo>
                    <a:cubicBezTo>
                      <a:pt x="10974" y="4"/>
                      <a:pt x="10974" y="3"/>
                      <a:pt x="10976" y="3"/>
                    </a:cubicBezTo>
                    <a:close/>
                    <a:moveTo>
                      <a:pt x="10984" y="3"/>
                    </a:moveTo>
                    <a:lnTo>
                      <a:pt x="10984" y="3"/>
                    </a:lnTo>
                    <a:cubicBezTo>
                      <a:pt x="10985" y="3"/>
                      <a:pt x="10986" y="4"/>
                      <a:pt x="10986" y="5"/>
                    </a:cubicBezTo>
                    <a:cubicBezTo>
                      <a:pt x="10986" y="6"/>
                      <a:pt x="10985" y="7"/>
                      <a:pt x="10984" y="7"/>
                    </a:cubicBezTo>
                    <a:lnTo>
                      <a:pt x="10984" y="7"/>
                    </a:lnTo>
                    <a:cubicBezTo>
                      <a:pt x="10982" y="7"/>
                      <a:pt x="10982" y="6"/>
                      <a:pt x="10982" y="5"/>
                    </a:cubicBezTo>
                    <a:cubicBezTo>
                      <a:pt x="10982" y="4"/>
                      <a:pt x="10982" y="3"/>
                      <a:pt x="10984" y="3"/>
                    </a:cubicBezTo>
                    <a:close/>
                    <a:moveTo>
                      <a:pt x="10992" y="3"/>
                    </a:moveTo>
                    <a:lnTo>
                      <a:pt x="10992" y="3"/>
                    </a:lnTo>
                    <a:cubicBezTo>
                      <a:pt x="10993" y="3"/>
                      <a:pt x="10994" y="4"/>
                      <a:pt x="10994" y="5"/>
                    </a:cubicBezTo>
                    <a:cubicBezTo>
                      <a:pt x="10994" y="6"/>
                      <a:pt x="10993" y="7"/>
                      <a:pt x="10992" y="7"/>
                    </a:cubicBezTo>
                    <a:lnTo>
                      <a:pt x="10992" y="7"/>
                    </a:lnTo>
                    <a:cubicBezTo>
                      <a:pt x="10990" y="7"/>
                      <a:pt x="10990" y="6"/>
                      <a:pt x="10990" y="5"/>
                    </a:cubicBezTo>
                    <a:cubicBezTo>
                      <a:pt x="10990" y="4"/>
                      <a:pt x="10990" y="3"/>
                      <a:pt x="10992" y="3"/>
                    </a:cubicBezTo>
                    <a:close/>
                    <a:moveTo>
                      <a:pt x="11000" y="3"/>
                    </a:moveTo>
                    <a:lnTo>
                      <a:pt x="11000" y="3"/>
                    </a:lnTo>
                    <a:cubicBezTo>
                      <a:pt x="11001" y="3"/>
                      <a:pt x="11002" y="4"/>
                      <a:pt x="11002" y="5"/>
                    </a:cubicBezTo>
                    <a:cubicBezTo>
                      <a:pt x="11002" y="6"/>
                      <a:pt x="11001" y="7"/>
                      <a:pt x="11000" y="7"/>
                    </a:cubicBezTo>
                    <a:lnTo>
                      <a:pt x="11000" y="7"/>
                    </a:lnTo>
                    <a:cubicBezTo>
                      <a:pt x="10998" y="7"/>
                      <a:pt x="10998" y="6"/>
                      <a:pt x="10998" y="5"/>
                    </a:cubicBezTo>
                    <a:cubicBezTo>
                      <a:pt x="10998" y="4"/>
                      <a:pt x="10998" y="3"/>
                      <a:pt x="11000" y="3"/>
                    </a:cubicBezTo>
                    <a:close/>
                    <a:moveTo>
                      <a:pt x="11008" y="3"/>
                    </a:moveTo>
                    <a:lnTo>
                      <a:pt x="11008" y="3"/>
                    </a:lnTo>
                    <a:cubicBezTo>
                      <a:pt x="11009" y="3"/>
                      <a:pt x="11010" y="4"/>
                      <a:pt x="11010" y="5"/>
                    </a:cubicBezTo>
                    <a:cubicBezTo>
                      <a:pt x="11010" y="6"/>
                      <a:pt x="11009" y="7"/>
                      <a:pt x="11008" y="7"/>
                    </a:cubicBezTo>
                    <a:lnTo>
                      <a:pt x="11008" y="7"/>
                    </a:lnTo>
                    <a:cubicBezTo>
                      <a:pt x="11006" y="7"/>
                      <a:pt x="11006" y="6"/>
                      <a:pt x="11006" y="5"/>
                    </a:cubicBezTo>
                    <a:cubicBezTo>
                      <a:pt x="11006" y="4"/>
                      <a:pt x="11006" y="3"/>
                      <a:pt x="11008" y="3"/>
                    </a:cubicBezTo>
                    <a:close/>
                    <a:moveTo>
                      <a:pt x="11016" y="3"/>
                    </a:moveTo>
                    <a:lnTo>
                      <a:pt x="11016" y="3"/>
                    </a:lnTo>
                    <a:cubicBezTo>
                      <a:pt x="11017" y="3"/>
                      <a:pt x="11018" y="4"/>
                      <a:pt x="11018" y="5"/>
                    </a:cubicBezTo>
                    <a:cubicBezTo>
                      <a:pt x="11018" y="6"/>
                      <a:pt x="11017" y="7"/>
                      <a:pt x="11016" y="7"/>
                    </a:cubicBezTo>
                    <a:lnTo>
                      <a:pt x="11016" y="7"/>
                    </a:lnTo>
                    <a:cubicBezTo>
                      <a:pt x="11014" y="7"/>
                      <a:pt x="11014" y="6"/>
                      <a:pt x="11014" y="5"/>
                    </a:cubicBezTo>
                    <a:cubicBezTo>
                      <a:pt x="11014" y="4"/>
                      <a:pt x="11014" y="3"/>
                      <a:pt x="11016" y="3"/>
                    </a:cubicBezTo>
                    <a:close/>
                    <a:moveTo>
                      <a:pt x="11024" y="3"/>
                    </a:moveTo>
                    <a:lnTo>
                      <a:pt x="11024" y="3"/>
                    </a:lnTo>
                    <a:cubicBezTo>
                      <a:pt x="11025" y="3"/>
                      <a:pt x="11026" y="4"/>
                      <a:pt x="11026" y="5"/>
                    </a:cubicBezTo>
                    <a:cubicBezTo>
                      <a:pt x="11026" y="6"/>
                      <a:pt x="11025" y="7"/>
                      <a:pt x="11024" y="7"/>
                    </a:cubicBezTo>
                    <a:lnTo>
                      <a:pt x="11024" y="7"/>
                    </a:lnTo>
                    <a:cubicBezTo>
                      <a:pt x="11022" y="7"/>
                      <a:pt x="11022" y="6"/>
                      <a:pt x="11022" y="5"/>
                    </a:cubicBezTo>
                    <a:cubicBezTo>
                      <a:pt x="11022" y="4"/>
                      <a:pt x="11022" y="3"/>
                      <a:pt x="11024" y="3"/>
                    </a:cubicBezTo>
                    <a:close/>
                    <a:moveTo>
                      <a:pt x="11032" y="3"/>
                    </a:moveTo>
                    <a:lnTo>
                      <a:pt x="11032" y="3"/>
                    </a:lnTo>
                    <a:cubicBezTo>
                      <a:pt x="11033" y="3"/>
                      <a:pt x="11034" y="4"/>
                      <a:pt x="11034" y="5"/>
                    </a:cubicBezTo>
                    <a:cubicBezTo>
                      <a:pt x="11034" y="6"/>
                      <a:pt x="11033" y="7"/>
                      <a:pt x="11032" y="7"/>
                    </a:cubicBezTo>
                    <a:lnTo>
                      <a:pt x="11032" y="7"/>
                    </a:lnTo>
                    <a:cubicBezTo>
                      <a:pt x="11030" y="7"/>
                      <a:pt x="11030" y="6"/>
                      <a:pt x="11030" y="5"/>
                    </a:cubicBezTo>
                    <a:cubicBezTo>
                      <a:pt x="11030" y="4"/>
                      <a:pt x="11030" y="3"/>
                      <a:pt x="11032" y="3"/>
                    </a:cubicBezTo>
                    <a:close/>
                    <a:moveTo>
                      <a:pt x="11040" y="3"/>
                    </a:moveTo>
                    <a:lnTo>
                      <a:pt x="11040" y="3"/>
                    </a:lnTo>
                    <a:cubicBezTo>
                      <a:pt x="11041" y="3"/>
                      <a:pt x="11042" y="4"/>
                      <a:pt x="11042" y="5"/>
                    </a:cubicBezTo>
                    <a:cubicBezTo>
                      <a:pt x="11042" y="6"/>
                      <a:pt x="11041" y="7"/>
                      <a:pt x="11040" y="7"/>
                    </a:cubicBezTo>
                    <a:lnTo>
                      <a:pt x="11040" y="7"/>
                    </a:lnTo>
                    <a:cubicBezTo>
                      <a:pt x="11038" y="7"/>
                      <a:pt x="11038" y="6"/>
                      <a:pt x="11038" y="5"/>
                    </a:cubicBezTo>
                    <a:cubicBezTo>
                      <a:pt x="11038" y="4"/>
                      <a:pt x="11038" y="3"/>
                      <a:pt x="11040" y="3"/>
                    </a:cubicBezTo>
                    <a:close/>
                    <a:moveTo>
                      <a:pt x="11048" y="3"/>
                    </a:moveTo>
                    <a:lnTo>
                      <a:pt x="11048" y="3"/>
                    </a:lnTo>
                    <a:cubicBezTo>
                      <a:pt x="11049" y="3"/>
                      <a:pt x="11050" y="4"/>
                      <a:pt x="11050" y="5"/>
                    </a:cubicBezTo>
                    <a:cubicBezTo>
                      <a:pt x="11050" y="6"/>
                      <a:pt x="11049" y="7"/>
                      <a:pt x="11048" y="7"/>
                    </a:cubicBezTo>
                    <a:lnTo>
                      <a:pt x="11048" y="7"/>
                    </a:lnTo>
                    <a:cubicBezTo>
                      <a:pt x="11046" y="7"/>
                      <a:pt x="11046" y="6"/>
                      <a:pt x="11046" y="5"/>
                    </a:cubicBezTo>
                    <a:cubicBezTo>
                      <a:pt x="11046" y="4"/>
                      <a:pt x="11046" y="3"/>
                      <a:pt x="11048" y="3"/>
                    </a:cubicBezTo>
                    <a:close/>
                    <a:moveTo>
                      <a:pt x="11056" y="3"/>
                    </a:moveTo>
                    <a:lnTo>
                      <a:pt x="11056" y="3"/>
                    </a:lnTo>
                    <a:cubicBezTo>
                      <a:pt x="11057" y="3"/>
                      <a:pt x="11058" y="4"/>
                      <a:pt x="11058" y="5"/>
                    </a:cubicBezTo>
                    <a:cubicBezTo>
                      <a:pt x="11058" y="6"/>
                      <a:pt x="11057" y="7"/>
                      <a:pt x="11056" y="7"/>
                    </a:cubicBezTo>
                    <a:lnTo>
                      <a:pt x="11056" y="7"/>
                    </a:lnTo>
                    <a:cubicBezTo>
                      <a:pt x="11054" y="7"/>
                      <a:pt x="11054" y="6"/>
                      <a:pt x="11054" y="5"/>
                    </a:cubicBezTo>
                    <a:cubicBezTo>
                      <a:pt x="11054" y="4"/>
                      <a:pt x="11054" y="3"/>
                      <a:pt x="11056" y="3"/>
                    </a:cubicBezTo>
                    <a:close/>
                    <a:moveTo>
                      <a:pt x="11064" y="3"/>
                    </a:moveTo>
                    <a:lnTo>
                      <a:pt x="11064" y="3"/>
                    </a:lnTo>
                    <a:cubicBezTo>
                      <a:pt x="11065" y="3"/>
                      <a:pt x="11066" y="4"/>
                      <a:pt x="11066" y="5"/>
                    </a:cubicBezTo>
                    <a:cubicBezTo>
                      <a:pt x="11066" y="6"/>
                      <a:pt x="11065" y="7"/>
                      <a:pt x="11064" y="7"/>
                    </a:cubicBezTo>
                    <a:lnTo>
                      <a:pt x="11064" y="7"/>
                    </a:lnTo>
                    <a:cubicBezTo>
                      <a:pt x="11062" y="7"/>
                      <a:pt x="11062" y="6"/>
                      <a:pt x="11062" y="5"/>
                    </a:cubicBezTo>
                    <a:cubicBezTo>
                      <a:pt x="11062" y="4"/>
                      <a:pt x="11062" y="3"/>
                      <a:pt x="11064" y="3"/>
                    </a:cubicBezTo>
                    <a:close/>
                    <a:moveTo>
                      <a:pt x="11072" y="3"/>
                    </a:moveTo>
                    <a:lnTo>
                      <a:pt x="11072" y="3"/>
                    </a:lnTo>
                    <a:cubicBezTo>
                      <a:pt x="11073" y="3"/>
                      <a:pt x="11074" y="4"/>
                      <a:pt x="11074" y="5"/>
                    </a:cubicBezTo>
                    <a:cubicBezTo>
                      <a:pt x="11074" y="6"/>
                      <a:pt x="11073" y="7"/>
                      <a:pt x="11072" y="7"/>
                    </a:cubicBezTo>
                    <a:lnTo>
                      <a:pt x="11072" y="7"/>
                    </a:lnTo>
                    <a:cubicBezTo>
                      <a:pt x="11070" y="7"/>
                      <a:pt x="11070" y="6"/>
                      <a:pt x="11070" y="5"/>
                    </a:cubicBezTo>
                    <a:cubicBezTo>
                      <a:pt x="11070" y="4"/>
                      <a:pt x="11070" y="3"/>
                      <a:pt x="11072" y="3"/>
                    </a:cubicBezTo>
                    <a:close/>
                    <a:moveTo>
                      <a:pt x="11080" y="3"/>
                    </a:moveTo>
                    <a:lnTo>
                      <a:pt x="11080" y="3"/>
                    </a:lnTo>
                    <a:cubicBezTo>
                      <a:pt x="11081" y="3"/>
                      <a:pt x="11082" y="4"/>
                      <a:pt x="11082" y="5"/>
                    </a:cubicBezTo>
                    <a:cubicBezTo>
                      <a:pt x="11082" y="6"/>
                      <a:pt x="11081" y="7"/>
                      <a:pt x="11080" y="7"/>
                    </a:cubicBezTo>
                    <a:lnTo>
                      <a:pt x="11080" y="7"/>
                    </a:lnTo>
                    <a:cubicBezTo>
                      <a:pt x="11078" y="7"/>
                      <a:pt x="11078" y="6"/>
                      <a:pt x="11078" y="5"/>
                    </a:cubicBezTo>
                    <a:cubicBezTo>
                      <a:pt x="11078" y="4"/>
                      <a:pt x="11078" y="3"/>
                      <a:pt x="11080" y="3"/>
                    </a:cubicBezTo>
                    <a:close/>
                    <a:moveTo>
                      <a:pt x="11088" y="3"/>
                    </a:moveTo>
                    <a:lnTo>
                      <a:pt x="11088" y="3"/>
                    </a:lnTo>
                    <a:cubicBezTo>
                      <a:pt x="11089" y="3"/>
                      <a:pt x="11090" y="4"/>
                      <a:pt x="11090" y="5"/>
                    </a:cubicBezTo>
                    <a:cubicBezTo>
                      <a:pt x="11090" y="6"/>
                      <a:pt x="11089" y="7"/>
                      <a:pt x="11088" y="7"/>
                    </a:cubicBezTo>
                    <a:lnTo>
                      <a:pt x="11088" y="7"/>
                    </a:lnTo>
                    <a:cubicBezTo>
                      <a:pt x="11086" y="7"/>
                      <a:pt x="11086" y="6"/>
                      <a:pt x="11086" y="5"/>
                    </a:cubicBezTo>
                    <a:cubicBezTo>
                      <a:pt x="11086" y="4"/>
                      <a:pt x="11086" y="3"/>
                      <a:pt x="11088" y="3"/>
                    </a:cubicBezTo>
                    <a:close/>
                    <a:moveTo>
                      <a:pt x="11096" y="3"/>
                    </a:moveTo>
                    <a:lnTo>
                      <a:pt x="11096" y="3"/>
                    </a:lnTo>
                    <a:cubicBezTo>
                      <a:pt x="11097" y="3"/>
                      <a:pt x="11098" y="4"/>
                      <a:pt x="11098" y="5"/>
                    </a:cubicBezTo>
                    <a:cubicBezTo>
                      <a:pt x="11098" y="6"/>
                      <a:pt x="11097" y="7"/>
                      <a:pt x="11096" y="7"/>
                    </a:cubicBezTo>
                    <a:lnTo>
                      <a:pt x="11096" y="7"/>
                    </a:lnTo>
                    <a:cubicBezTo>
                      <a:pt x="11094" y="7"/>
                      <a:pt x="11094" y="6"/>
                      <a:pt x="11094" y="5"/>
                    </a:cubicBezTo>
                    <a:cubicBezTo>
                      <a:pt x="11094" y="4"/>
                      <a:pt x="11094" y="3"/>
                      <a:pt x="11096" y="3"/>
                    </a:cubicBezTo>
                    <a:close/>
                    <a:moveTo>
                      <a:pt x="11104" y="3"/>
                    </a:moveTo>
                    <a:lnTo>
                      <a:pt x="11104" y="3"/>
                    </a:lnTo>
                    <a:cubicBezTo>
                      <a:pt x="11105" y="3"/>
                      <a:pt x="11106" y="4"/>
                      <a:pt x="11106" y="5"/>
                    </a:cubicBezTo>
                    <a:cubicBezTo>
                      <a:pt x="11106" y="6"/>
                      <a:pt x="11105" y="7"/>
                      <a:pt x="11104" y="7"/>
                    </a:cubicBezTo>
                    <a:lnTo>
                      <a:pt x="11104" y="7"/>
                    </a:lnTo>
                    <a:cubicBezTo>
                      <a:pt x="11102" y="7"/>
                      <a:pt x="11102" y="6"/>
                      <a:pt x="11102" y="5"/>
                    </a:cubicBezTo>
                    <a:cubicBezTo>
                      <a:pt x="11102" y="4"/>
                      <a:pt x="11102" y="3"/>
                      <a:pt x="11104" y="3"/>
                    </a:cubicBezTo>
                    <a:close/>
                    <a:moveTo>
                      <a:pt x="11112" y="3"/>
                    </a:moveTo>
                    <a:lnTo>
                      <a:pt x="11112" y="3"/>
                    </a:lnTo>
                    <a:cubicBezTo>
                      <a:pt x="11113" y="3"/>
                      <a:pt x="11114" y="4"/>
                      <a:pt x="11114" y="5"/>
                    </a:cubicBezTo>
                    <a:cubicBezTo>
                      <a:pt x="11114" y="6"/>
                      <a:pt x="11113" y="7"/>
                      <a:pt x="11112" y="7"/>
                    </a:cubicBezTo>
                    <a:lnTo>
                      <a:pt x="11112" y="7"/>
                    </a:lnTo>
                    <a:cubicBezTo>
                      <a:pt x="11110" y="7"/>
                      <a:pt x="11110" y="6"/>
                      <a:pt x="11110" y="5"/>
                    </a:cubicBezTo>
                    <a:cubicBezTo>
                      <a:pt x="11110" y="4"/>
                      <a:pt x="11110" y="3"/>
                      <a:pt x="11112" y="3"/>
                    </a:cubicBezTo>
                    <a:close/>
                    <a:moveTo>
                      <a:pt x="11120" y="3"/>
                    </a:moveTo>
                    <a:lnTo>
                      <a:pt x="11120" y="3"/>
                    </a:lnTo>
                    <a:cubicBezTo>
                      <a:pt x="11121" y="3"/>
                      <a:pt x="11122" y="4"/>
                      <a:pt x="11122" y="5"/>
                    </a:cubicBezTo>
                    <a:cubicBezTo>
                      <a:pt x="11122" y="6"/>
                      <a:pt x="11121" y="7"/>
                      <a:pt x="11120" y="7"/>
                    </a:cubicBezTo>
                    <a:lnTo>
                      <a:pt x="11120" y="7"/>
                    </a:lnTo>
                    <a:cubicBezTo>
                      <a:pt x="11118" y="7"/>
                      <a:pt x="11118" y="6"/>
                      <a:pt x="11118" y="5"/>
                    </a:cubicBezTo>
                    <a:cubicBezTo>
                      <a:pt x="11118" y="4"/>
                      <a:pt x="11118" y="3"/>
                      <a:pt x="11120" y="3"/>
                    </a:cubicBezTo>
                    <a:close/>
                    <a:moveTo>
                      <a:pt x="11128" y="3"/>
                    </a:moveTo>
                    <a:lnTo>
                      <a:pt x="11128" y="3"/>
                    </a:lnTo>
                    <a:cubicBezTo>
                      <a:pt x="11129" y="3"/>
                      <a:pt x="11130" y="4"/>
                      <a:pt x="11130" y="5"/>
                    </a:cubicBezTo>
                    <a:cubicBezTo>
                      <a:pt x="11130" y="6"/>
                      <a:pt x="11129" y="7"/>
                      <a:pt x="11128" y="7"/>
                    </a:cubicBezTo>
                    <a:lnTo>
                      <a:pt x="11128" y="7"/>
                    </a:lnTo>
                    <a:cubicBezTo>
                      <a:pt x="11126" y="7"/>
                      <a:pt x="11126" y="6"/>
                      <a:pt x="11126" y="5"/>
                    </a:cubicBezTo>
                    <a:cubicBezTo>
                      <a:pt x="11126" y="4"/>
                      <a:pt x="11126" y="3"/>
                      <a:pt x="11128" y="3"/>
                    </a:cubicBezTo>
                    <a:close/>
                    <a:moveTo>
                      <a:pt x="11136" y="3"/>
                    </a:moveTo>
                    <a:lnTo>
                      <a:pt x="11136" y="3"/>
                    </a:lnTo>
                    <a:cubicBezTo>
                      <a:pt x="11137" y="3"/>
                      <a:pt x="11138" y="4"/>
                      <a:pt x="11138" y="5"/>
                    </a:cubicBezTo>
                    <a:cubicBezTo>
                      <a:pt x="11138" y="6"/>
                      <a:pt x="11137" y="7"/>
                      <a:pt x="11136" y="7"/>
                    </a:cubicBezTo>
                    <a:lnTo>
                      <a:pt x="11136" y="7"/>
                    </a:lnTo>
                    <a:cubicBezTo>
                      <a:pt x="11134" y="7"/>
                      <a:pt x="11134" y="6"/>
                      <a:pt x="11134" y="5"/>
                    </a:cubicBezTo>
                    <a:cubicBezTo>
                      <a:pt x="11134" y="4"/>
                      <a:pt x="11134" y="3"/>
                      <a:pt x="11136" y="3"/>
                    </a:cubicBezTo>
                    <a:close/>
                    <a:moveTo>
                      <a:pt x="11144" y="3"/>
                    </a:moveTo>
                    <a:lnTo>
                      <a:pt x="11144" y="3"/>
                    </a:lnTo>
                    <a:cubicBezTo>
                      <a:pt x="11145" y="3"/>
                      <a:pt x="11146" y="4"/>
                      <a:pt x="11146" y="5"/>
                    </a:cubicBezTo>
                    <a:cubicBezTo>
                      <a:pt x="11146" y="6"/>
                      <a:pt x="11145" y="7"/>
                      <a:pt x="11144" y="7"/>
                    </a:cubicBezTo>
                    <a:lnTo>
                      <a:pt x="11144" y="7"/>
                    </a:lnTo>
                    <a:cubicBezTo>
                      <a:pt x="11143" y="7"/>
                      <a:pt x="11142" y="6"/>
                      <a:pt x="11142" y="5"/>
                    </a:cubicBezTo>
                    <a:cubicBezTo>
                      <a:pt x="11142" y="4"/>
                      <a:pt x="11143" y="3"/>
                      <a:pt x="11144" y="3"/>
                    </a:cubicBezTo>
                    <a:close/>
                    <a:moveTo>
                      <a:pt x="11152" y="3"/>
                    </a:moveTo>
                    <a:lnTo>
                      <a:pt x="11152" y="3"/>
                    </a:lnTo>
                    <a:cubicBezTo>
                      <a:pt x="11153" y="3"/>
                      <a:pt x="11154" y="4"/>
                      <a:pt x="11154" y="5"/>
                    </a:cubicBezTo>
                    <a:cubicBezTo>
                      <a:pt x="11154" y="6"/>
                      <a:pt x="11153" y="7"/>
                      <a:pt x="11152" y="7"/>
                    </a:cubicBezTo>
                    <a:lnTo>
                      <a:pt x="11152" y="7"/>
                    </a:lnTo>
                    <a:cubicBezTo>
                      <a:pt x="11151" y="7"/>
                      <a:pt x="11150" y="6"/>
                      <a:pt x="11150" y="5"/>
                    </a:cubicBezTo>
                    <a:cubicBezTo>
                      <a:pt x="11150" y="4"/>
                      <a:pt x="11151" y="3"/>
                      <a:pt x="11152" y="3"/>
                    </a:cubicBezTo>
                    <a:close/>
                    <a:moveTo>
                      <a:pt x="11160" y="3"/>
                    </a:moveTo>
                    <a:lnTo>
                      <a:pt x="11160" y="3"/>
                    </a:lnTo>
                    <a:cubicBezTo>
                      <a:pt x="11161" y="3"/>
                      <a:pt x="11162" y="4"/>
                      <a:pt x="11162" y="5"/>
                    </a:cubicBezTo>
                    <a:cubicBezTo>
                      <a:pt x="11162" y="6"/>
                      <a:pt x="11161" y="7"/>
                      <a:pt x="11160" y="7"/>
                    </a:cubicBezTo>
                    <a:lnTo>
                      <a:pt x="11160" y="7"/>
                    </a:lnTo>
                    <a:cubicBezTo>
                      <a:pt x="11159" y="7"/>
                      <a:pt x="11158" y="6"/>
                      <a:pt x="11158" y="5"/>
                    </a:cubicBezTo>
                    <a:cubicBezTo>
                      <a:pt x="11158" y="4"/>
                      <a:pt x="11159" y="3"/>
                      <a:pt x="11160" y="3"/>
                    </a:cubicBezTo>
                    <a:close/>
                    <a:moveTo>
                      <a:pt x="11168" y="3"/>
                    </a:moveTo>
                    <a:lnTo>
                      <a:pt x="11168" y="3"/>
                    </a:lnTo>
                    <a:cubicBezTo>
                      <a:pt x="11169" y="3"/>
                      <a:pt x="11170" y="4"/>
                      <a:pt x="11170" y="5"/>
                    </a:cubicBezTo>
                    <a:cubicBezTo>
                      <a:pt x="11170" y="6"/>
                      <a:pt x="11169" y="7"/>
                      <a:pt x="11168" y="7"/>
                    </a:cubicBezTo>
                    <a:lnTo>
                      <a:pt x="11168" y="7"/>
                    </a:lnTo>
                    <a:cubicBezTo>
                      <a:pt x="11167" y="7"/>
                      <a:pt x="11166" y="6"/>
                      <a:pt x="11166" y="5"/>
                    </a:cubicBezTo>
                    <a:cubicBezTo>
                      <a:pt x="11166" y="4"/>
                      <a:pt x="11167" y="3"/>
                      <a:pt x="11168" y="3"/>
                    </a:cubicBezTo>
                    <a:close/>
                    <a:moveTo>
                      <a:pt x="11176" y="3"/>
                    </a:moveTo>
                    <a:lnTo>
                      <a:pt x="11176" y="3"/>
                    </a:lnTo>
                    <a:cubicBezTo>
                      <a:pt x="11177" y="3"/>
                      <a:pt x="11178" y="4"/>
                      <a:pt x="11178" y="5"/>
                    </a:cubicBezTo>
                    <a:cubicBezTo>
                      <a:pt x="11178" y="6"/>
                      <a:pt x="11177" y="7"/>
                      <a:pt x="11176" y="7"/>
                    </a:cubicBezTo>
                    <a:lnTo>
                      <a:pt x="11176" y="7"/>
                    </a:lnTo>
                    <a:cubicBezTo>
                      <a:pt x="11175" y="7"/>
                      <a:pt x="11174" y="6"/>
                      <a:pt x="11174" y="5"/>
                    </a:cubicBezTo>
                    <a:cubicBezTo>
                      <a:pt x="11174" y="4"/>
                      <a:pt x="11175" y="3"/>
                      <a:pt x="11176" y="3"/>
                    </a:cubicBezTo>
                    <a:close/>
                    <a:moveTo>
                      <a:pt x="11184" y="3"/>
                    </a:moveTo>
                    <a:lnTo>
                      <a:pt x="11184" y="3"/>
                    </a:lnTo>
                    <a:cubicBezTo>
                      <a:pt x="11185" y="3"/>
                      <a:pt x="11186" y="4"/>
                      <a:pt x="11186" y="5"/>
                    </a:cubicBezTo>
                    <a:cubicBezTo>
                      <a:pt x="11186" y="6"/>
                      <a:pt x="11185" y="7"/>
                      <a:pt x="11184" y="7"/>
                    </a:cubicBezTo>
                    <a:lnTo>
                      <a:pt x="11184" y="7"/>
                    </a:lnTo>
                    <a:cubicBezTo>
                      <a:pt x="11183" y="7"/>
                      <a:pt x="11182" y="6"/>
                      <a:pt x="11182" y="5"/>
                    </a:cubicBezTo>
                    <a:cubicBezTo>
                      <a:pt x="11182" y="4"/>
                      <a:pt x="11183" y="3"/>
                      <a:pt x="11184" y="3"/>
                    </a:cubicBezTo>
                    <a:close/>
                    <a:moveTo>
                      <a:pt x="11192" y="3"/>
                    </a:moveTo>
                    <a:lnTo>
                      <a:pt x="11192" y="3"/>
                    </a:lnTo>
                    <a:cubicBezTo>
                      <a:pt x="11193" y="3"/>
                      <a:pt x="11194" y="4"/>
                      <a:pt x="11194" y="5"/>
                    </a:cubicBezTo>
                    <a:cubicBezTo>
                      <a:pt x="11194" y="6"/>
                      <a:pt x="11193" y="7"/>
                      <a:pt x="11192" y="7"/>
                    </a:cubicBezTo>
                    <a:lnTo>
                      <a:pt x="11192" y="7"/>
                    </a:lnTo>
                    <a:cubicBezTo>
                      <a:pt x="11191" y="7"/>
                      <a:pt x="11190" y="6"/>
                      <a:pt x="11190" y="5"/>
                    </a:cubicBezTo>
                    <a:cubicBezTo>
                      <a:pt x="11190" y="4"/>
                      <a:pt x="11191" y="3"/>
                      <a:pt x="11192" y="3"/>
                    </a:cubicBezTo>
                    <a:close/>
                    <a:moveTo>
                      <a:pt x="11200" y="3"/>
                    </a:moveTo>
                    <a:lnTo>
                      <a:pt x="11200" y="3"/>
                    </a:lnTo>
                    <a:cubicBezTo>
                      <a:pt x="11201" y="3"/>
                      <a:pt x="11202" y="4"/>
                      <a:pt x="11202" y="5"/>
                    </a:cubicBezTo>
                    <a:cubicBezTo>
                      <a:pt x="11202" y="6"/>
                      <a:pt x="11201" y="7"/>
                      <a:pt x="11200" y="7"/>
                    </a:cubicBezTo>
                    <a:lnTo>
                      <a:pt x="11200" y="7"/>
                    </a:lnTo>
                    <a:cubicBezTo>
                      <a:pt x="11199" y="7"/>
                      <a:pt x="11198" y="6"/>
                      <a:pt x="11198" y="5"/>
                    </a:cubicBezTo>
                    <a:cubicBezTo>
                      <a:pt x="11198" y="4"/>
                      <a:pt x="11199" y="3"/>
                      <a:pt x="11200" y="3"/>
                    </a:cubicBezTo>
                    <a:close/>
                    <a:moveTo>
                      <a:pt x="11208" y="3"/>
                    </a:moveTo>
                    <a:lnTo>
                      <a:pt x="11208" y="3"/>
                    </a:lnTo>
                    <a:cubicBezTo>
                      <a:pt x="11209" y="3"/>
                      <a:pt x="11210" y="4"/>
                      <a:pt x="11210" y="5"/>
                    </a:cubicBezTo>
                    <a:cubicBezTo>
                      <a:pt x="11210" y="6"/>
                      <a:pt x="11209" y="7"/>
                      <a:pt x="11208" y="7"/>
                    </a:cubicBezTo>
                    <a:lnTo>
                      <a:pt x="11208" y="7"/>
                    </a:lnTo>
                    <a:cubicBezTo>
                      <a:pt x="11207" y="7"/>
                      <a:pt x="11206" y="6"/>
                      <a:pt x="11206" y="5"/>
                    </a:cubicBezTo>
                    <a:cubicBezTo>
                      <a:pt x="11206" y="4"/>
                      <a:pt x="11207" y="3"/>
                      <a:pt x="11208" y="3"/>
                    </a:cubicBezTo>
                    <a:close/>
                    <a:moveTo>
                      <a:pt x="11216" y="3"/>
                    </a:moveTo>
                    <a:lnTo>
                      <a:pt x="11216" y="3"/>
                    </a:lnTo>
                    <a:cubicBezTo>
                      <a:pt x="11217" y="3"/>
                      <a:pt x="11218" y="4"/>
                      <a:pt x="11218" y="5"/>
                    </a:cubicBezTo>
                    <a:cubicBezTo>
                      <a:pt x="11218" y="6"/>
                      <a:pt x="11217" y="7"/>
                      <a:pt x="11216" y="7"/>
                    </a:cubicBezTo>
                    <a:lnTo>
                      <a:pt x="11216" y="7"/>
                    </a:lnTo>
                    <a:cubicBezTo>
                      <a:pt x="11215" y="7"/>
                      <a:pt x="11214" y="6"/>
                      <a:pt x="11214" y="5"/>
                    </a:cubicBezTo>
                    <a:cubicBezTo>
                      <a:pt x="11214" y="4"/>
                      <a:pt x="11215" y="3"/>
                      <a:pt x="11216" y="3"/>
                    </a:cubicBezTo>
                    <a:close/>
                    <a:moveTo>
                      <a:pt x="11224" y="3"/>
                    </a:moveTo>
                    <a:lnTo>
                      <a:pt x="11224" y="3"/>
                    </a:lnTo>
                    <a:cubicBezTo>
                      <a:pt x="11225" y="3"/>
                      <a:pt x="11226" y="4"/>
                      <a:pt x="11226" y="5"/>
                    </a:cubicBezTo>
                    <a:cubicBezTo>
                      <a:pt x="11226" y="6"/>
                      <a:pt x="11225" y="7"/>
                      <a:pt x="11224" y="7"/>
                    </a:cubicBezTo>
                    <a:lnTo>
                      <a:pt x="11224" y="7"/>
                    </a:lnTo>
                    <a:cubicBezTo>
                      <a:pt x="11223" y="7"/>
                      <a:pt x="11222" y="6"/>
                      <a:pt x="11222" y="5"/>
                    </a:cubicBezTo>
                    <a:cubicBezTo>
                      <a:pt x="11222" y="4"/>
                      <a:pt x="11223" y="3"/>
                      <a:pt x="11224" y="3"/>
                    </a:cubicBezTo>
                    <a:close/>
                    <a:moveTo>
                      <a:pt x="11232" y="3"/>
                    </a:moveTo>
                    <a:lnTo>
                      <a:pt x="11232" y="3"/>
                    </a:lnTo>
                    <a:cubicBezTo>
                      <a:pt x="11233" y="3"/>
                      <a:pt x="11234" y="4"/>
                      <a:pt x="11234" y="5"/>
                    </a:cubicBezTo>
                    <a:cubicBezTo>
                      <a:pt x="11234" y="6"/>
                      <a:pt x="11233" y="7"/>
                      <a:pt x="11232" y="7"/>
                    </a:cubicBezTo>
                    <a:lnTo>
                      <a:pt x="11232" y="7"/>
                    </a:lnTo>
                    <a:cubicBezTo>
                      <a:pt x="11231" y="7"/>
                      <a:pt x="11230" y="6"/>
                      <a:pt x="11230" y="5"/>
                    </a:cubicBezTo>
                    <a:cubicBezTo>
                      <a:pt x="11230" y="4"/>
                      <a:pt x="11231" y="3"/>
                      <a:pt x="11232" y="3"/>
                    </a:cubicBezTo>
                    <a:close/>
                    <a:moveTo>
                      <a:pt x="11240" y="3"/>
                    </a:moveTo>
                    <a:lnTo>
                      <a:pt x="11240" y="3"/>
                    </a:lnTo>
                    <a:cubicBezTo>
                      <a:pt x="11241" y="3"/>
                      <a:pt x="11242" y="4"/>
                      <a:pt x="11242" y="5"/>
                    </a:cubicBezTo>
                    <a:cubicBezTo>
                      <a:pt x="11242" y="6"/>
                      <a:pt x="11241" y="7"/>
                      <a:pt x="11240" y="7"/>
                    </a:cubicBezTo>
                    <a:lnTo>
                      <a:pt x="11240" y="7"/>
                    </a:lnTo>
                    <a:cubicBezTo>
                      <a:pt x="11239" y="7"/>
                      <a:pt x="11238" y="6"/>
                      <a:pt x="11238" y="5"/>
                    </a:cubicBezTo>
                    <a:cubicBezTo>
                      <a:pt x="11238" y="4"/>
                      <a:pt x="11239" y="3"/>
                      <a:pt x="11240" y="3"/>
                    </a:cubicBezTo>
                    <a:close/>
                    <a:moveTo>
                      <a:pt x="11248" y="3"/>
                    </a:moveTo>
                    <a:lnTo>
                      <a:pt x="11248" y="3"/>
                    </a:lnTo>
                    <a:cubicBezTo>
                      <a:pt x="11249" y="3"/>
                      <a:pt x="11250" y="4"/>
                      <a:pt x="11250" y="5"/>
                    </a:cubicBezTo>
                    <a:cubicBezTo>
                      <a:pt x="11250" y="6"/>
                      <a:pt x="11249" y="7"/>
                      <a:pt x="11248" y="7"/>
                    </a:cubicBezTo>
                    <a:lnTo>
                      <a:pt x="11248" y="7"/>
                    </a:lnTo>
                    <a:cubicBezTo>
                      <a:pt x="11247" y="7"/>
                      <a:pt x="11246" y="6"/>
                      <a:pt x="11246" y="5"/>
                    </a:cubicBezTo>
                    <a:cubicBezTo>
                      <a:pt x="11246" y="4"/>
                      <a:pt x="11247" y="3"/>
                      <a:pt x="11248" y="3"/>
                    </a:cubicBezTo>
                    <a:close/>
                    <a:moveTo>
                      <a:pt x="11256" y="3"/>
                    </a:moveTo>
                    <a:lnTo>
                      <a:pt x="11256" y="3"/>
                    </a:lnTo>
                    <a:cubicBezTo>
                      <a:pt x="11257" y="3"/>
                      <a:pt x="11258" y="4"/>
                      <a:pt x="11258" y="5"/>
                    </a:cubicBezTo>
                    <a:cubicBezTo>
                      <a:pt x="11258" y="6"/>
                      <a:pt x="11257" y="7"/>
                      <a:pt x="11256" y="7"/>
                    </a:cubicBezTo>
                    <a:lnTo>
                      <a:pt x="11256" y="7"/>
                    </a:lnTo>
                    <a:cubicBezTo>
                      <a:pt x="11255" y="7"/>
                      <a:pt x="11254" y="6"/>
                      <a:pt x="11254" y="5"/>
                    </a:cubicBezTo>
                    <a:cubicBezTo>
                      <a:pt x="11254" y="4"/>
                      <a:pt x="11255" y="3"/>
                      <a:pt x="11256" y="3"/>
                    </a:cubicBezTo>
                    <a:close/>
                    <a:moveTo>
                      <a:pt x="11264" y="3"/>
                    </a:moveTo>
                    <a:lnTo>
                      <a:pt x="11264" y="3"/>
                    </a:lnTo>
                    <a:cubicBezTo>
                      <a:pt x="11265" y="3"/>
                      <a:pt x="11266" y="4"/>
                      <a:pt x="11266" y="5"/>
                    </a:cubicBezTo>
                    <a:cubicBezTo>
                      <a:pt x="11266" y="6"/>
                      <a:pt x="11265" y="7"/>
                      <a:pt x="11264" y="7"/>
                    </a:cubicBezTo>
                    <a:lnTo>
                      <a:pt x="11264" y="7"/>
                    </a:lnTo>
                    <a:cubicBezTo>
                      <a:pt x="11263" y="7"/>
                      <a:pt x="11262" y="6"/>
                      <a:pt x="11262" y="5"/>
                    </a:cubicBezTo>
                    <a:cubicBezTo>
                      <a:pt x="11262" y="4"/>
                      <a:pt x="11263" y="3"/>
                      <a:pt x="11264" y="3"/>
                    </a:cubicBezTo>
                    <a:close/>
                    <a:moveTo>
                      <a:pt x="11272" y="3"/>
                    </a:moveTo>
                    <a:lnTo>
                      <a:pt x="11272" y="3"/>
                    </a:lnTo>
                    <a:cubicBezTo>
                      <a:pt x="11273" y="3"/>
                      <a:pt x="11274" y="4"/>
                      <a:pt x="11274" y="5"/>
                    </a:cubicBezTo>
                    <a:cubicBezTo>
                      <a:pt x="11274" y="6"/>
                      <a:pt x="11273" y="7"/>
                      <a:pt x="11272" y="7"/>
                    </a:cubicBezTo>
                    <a:lnTo>
                      <a:pt x="11272" y="7"/>
                    </a:lnTo>
                    <a:cubicBezTo>
                      <a:pt x="11271" y="7"/>
                      <a:pt x="11270" y="6"/>
                      <a:pt x="11270" y="5"/>
                    </a:cubicBezTo>
                    <a:cubicBezTo>
                      <a:pt x="11270" y="4"/>
                      <a:pt x="11271" y="3"/>
                      <a:pt x="11272" y="3"/>
                    </a:cubicBezTo>
                    <a:close/>
                    <a:moveTo>
                      <a:pt x="11280" y="3"/>
                    </a:moveTo>
                    <a:lnTo>
                      <a:pt x="11280" y="3"/>
                    </a:lnTo>
                    <a:cubicBezTo>
                      <a:pt x="11281" y="3"/>
                      <a:pt x="11282" y="4"/>
                      <a:pt x="11282" y="5"/>
                    </a:cubicBezTo>
                    <a:cubicBezTo>
                      <a:pt x="11282" y="6"/>
                      <a:pt x="11281" y="7"/>
                      <a:pt x="11280" y="7"/>
                    </a:cubicBezTo>
                    <a:lnTo>
                      <a:pt x="11280" y="7"/>
                    </a:lnTo>
                    <a:cubicBezTo>
                      <a:pt x="11279" y="7"/>
                      <a:pt x="11278" y="6"/>
                      <a:pt x="11278" y="5"/>
                    </a:cubicBezTo>
                    <a:cubicBezTo>
                      <a:pt x="11278" y="4"/>
                      <a:pt x="11279" y="3"/>
                      <a:pt x="11280" y="3"/>
                    </a:cubicBezTo>
                    <a:close/>
                    <a:moveTo>
                      <a:pt x="11288" y="3"/>
                    </a:moveTo>
                    <a:lnTo>
                      <a:pt x="11288" y="3"/>
                    </a:lnTo>
                    <a:cubicBezTo>
                      <a:pt x="11289" y="3"/>
                      <a:pt x="11290" y="4"/>
                      <a:pt x="11290" y="5"/>
                    </a:cubicBezTo>
                    <a:cubicBezTo>
                      <a:pt x="11290" y="6"/>
                      <a:pt x="11289" y="7"/>
                      <a:pt x="11288" y="7"/>
                    </a:cubicBezTo>
                    <a:lnTo>
                      <a:pt x="11288" y="7"/>
                    </a:lnTo>
                    <a:cubicBezTo>
                      <a:pt x="11287" y="7"/>
                      <a:pt x="11286" y="6"/>
                      <a:pt x="11286" y="5"/>
                    </a:cubicBezTo>
                    <a:cubicBezTo>
                      <a:pt x="11286" y="4"/>
                      <a:pt x="11287" y="3"/>
                      <a:pt x="11288" y="3"/>
                    </a:cubicBezTo>
                    <a:close/>
                    <a:moveTo>
                      <a:pt x="11296" y="3"/>
                    </a:moveTo>
                    <a:lnTo>
                      <a:pt x="11296" y="3"/>
                    </a:lnTo>
                    <a:cubicBezTo>
                      <a:pt x="11297" y="3"/>
                      <a:pt x="11298" y="4"/>
                      <a:pt x="11298" y="5"/>
                    </a:cubicBezTo>
                    <a:cubicBezTo>
                      <a:pt x="11298" y="6"/>
                      <a:pt x="11297" y="7"/>
                      <a:pt x="11296" y="7"/>
                    </a:cubicBezTo>
                    <a:lnTo>
                      <a:pt x="11296" y="7"/>
                    </a:lnTo>
                    <a:cubicBezTo>
                      <a:pt x="11295" y="7"/>
                      <a:pt x="11294" y="6"/>
                      <a:pt x="11294" y="5"/>
                    </a:cubicBezTo>
                    <a:cubicBezTo>
                      <a:pt x="11294" y="4"/>
                      <a:pt x="11295" y="3"/>
                      <a:pt x="11296" y="3"/>
                    </a:cubicBezTo>
                    <a:close/>
                    <a:moveTo>
                      <a:pt x="11304" y="3"/>
                    </a:moveTo>
                    <a:lnTo>
                      <a:pt x="11304" y="3"/>
                    </a:lnTo>
                    <a:cubicBezTo>
                      <a:pt x="11305" y="3"/>
                      <a:pt x="11306" y="4"/>
                      <a:pt x="11306" y="5"/>
                    </a:cubicBezTo>
                    <a:cubicBezTo>
                      <a:pt x="11306" y="6"/>
                      <a:pt x="11305" y="7"/>
                      <a:pt x="11304" y="7"/>
                    </a:cubicBezTo>
                    <a:lnTo>
                      <a:pt x="11304" y="7"/>
                    </a:lnTo>
                    <a:cubicBezTo>
                      <a:pt x="11303" y="7"/>
                      <a:pt x="11302" y="6"/>
                      <a:pt x="11302" y="5"/>
                    </a:cubicBezTo>
                    <a:cubicBezTo>
                      <a:pt x="11302" y="4"/>
                      <a:pt x="11303" y="3"/>
                      <a:pt x="11304" y="3"/>
                    </a:cubicBezTo>
                    <a:close/>
                    <a:moveTo>
                      <a:pt x="11312" y="3"/>
                    </a:moveTo>
                    <a:lnTo>
                      <a:pt x="11312" y="3"/>
                    </a:lnTo>
                    <a:cubicBezTo>
                      <a:pt x="11313" y="3"/>
                      <a:pt x="11314" y="4"/>
                      <a:pt x="11314" y="5"/>
                    </a:cubicBezTo>
                    <a:cubicBezTo>
                      <a:pt x="11314" y="6"/>
                      <a:pt x="11313" y="7"/>
                      <a:pt x="11312" y="7"/>
                    </a:cubicBezTo>
                    <a:lnTo>
                      <a:pt x="11312" y="7"/>
                    </a:lnTo>
                    <a:cubicBezTo>
                      <a:pt x="11311" y="7"/>
                      <a:pt x="11310" y="6"/>
                      <a:pt x="11310" y="5"/>
                    </a:cubicBezTo>
                    <a:cubicBezTo>
                      <a:pt x="11310" y="4"/>
                      <a:pt x="11311" y="3"/>
                      <a:pt x="11312" y="3"/>
                    </a:cubicBezTo>
                    <a:close/>
                    <a:moveTo>
                      <a:pt x="11320" y="3"/>
                    </a:moveTo>
                    <a:lnTo>
                      <a:pt x="11320" y="3"/>
                    </a:lnTo>
                    <a:cubicBezTo>
                      <a:pt x="11321" y="3"/>
                      <a:pt x="11322" y="4"/>
                      <a:pt x="11322" y="5"/>
                    </a:cubicBezTo>
                    <a:cubicBezTo>
                      <a:pt x="11322" y="6"/>
                      <a:pt x="11321" y="7"/>
                      <a:pt x="11320" y="7"/>
                    </a:cubicBezTo>
                    <a:lnTo>
                      <a:pt x="11320" y="7"/>
                    </a:lnTo>
                    <a:cubicBezTo>
                      <a:pt x="11319" y="7"/>
                      <a:pt x="11318" y="6"/>
                      <a:pt x="11318" y="5"/>
                    </a:cubicBezTo>
                    <a:cubicBezTo>
                      <a:pt x="11318" y="4"/>
                      <a:pt x="11319" y="3"/>
                      <a:pt x="11320" y="3"/>
                    </a:cubicBezTo>
                    <a:close/>
                    <a:moveTo>
                      <a:pt x="11328" y="3"/>
                    </a:moveTo>
                    <a:lnTo>
                      <a:pt x="11328" y="3"/>
                    </a:lnTo>
                    <a:cubicBezTo>
                      <a:pt x="11329" y="3"/>
                      <a:pt x="11330" y="4"/>
                      <a:pt x="11330" y="5"/>
                    </a:cubicBezTo>
                    <a:cubicBezTo>
                      <a:pt x="11330" y="6"/>
                      <a:pt x="11329" y="7"/>
                      <a:pt x="11328" y="7"/>
                    </a:cubicBezTo>
                    <a:lnTo>
                      <a:pt x="11328" y="7"/>
                    </a:lnTo>
                    <a:cubicBezTo>
                      <a:pt x="11327" y="7"/>
                      <a:pt x="11326" y="6"/>
                      <a:pt x="11326" y="5"/>
                    </a:cubicBezTo>
                    <a:cubicBezTo>
                      <a:pt x="11326" y="4"/>
                      <a:pt x="11327" y="3"/>
                      <a:pt x="11328" y="3"/>
                    </a:cubicBezTo>
                    <a:close/>
                    <a:moveTo>
                      <a:pt x="11336" y="3"/>
                    </a:moveTo>
                    <a:lnTo>
                      <a:pt x="11336" y="3"/>
                    </a:lnTo>
                    <a:cubicBezTo>
                      <a:pt x="11337" y="3"/>
                      <a:pt x="11338" y="4"/>
                      <a:pt x="11338" y="5"/>
                    </a:cubicBezTo>
                    <a:cubicBezTo>
                      <a:pt x="11338" y="6"/>
                      <a:pt x="11337" y="7"/>
                      <a:pt x="11336" y="7"/>
                    </a:cubicBezTo>
                    <a:lnTo>
                      <a:pt x="11336" y="7"/>
                    </a:lnTo>
                    <a:cubicBezTo>
                      <a:pt x="11335" y="7"/>
                      <a:pt x="11334" y="6"/>
                      <a:pt x="11334" y="5"/>
                    </a:cubicBezTo>
                    <a:cubicBezTo>
                      <a:pt x="11334" y="4"/>
                      <a:pt x="11335" y="3"/>
                      <a:pt x="11336" y="3"/>
                    </a:cubicBezTo>
                    <a:close/>
                    <a:moveTo>
                      <a:pt x="11344" y="3"/>
                    </a:moveTo>
                    <a:lnTo>
                      <a:pt x="11344" y="3"/>
                    </a:lnTo>
                    <a:cubicBezTo>
                      <a:pt x="11345" y="3"/>
                      <a:pt x="11346" y="4"/>
                      <a:pt x="11346" y="5"/>
                    </a:cubicBezTo>
                    <a:cubicBezTo>
                      <a:pt x="11346" y="6"/>
                      <a:pt x="11345" y="7"/>
                      <a:pt x="11344" y="7"/>
                    </a:cubicBezTo>
                    <a:lnTo>
                      <a:pt x="11344" y="7"/>
                    </a:lnTo>
                    <a:cubicBezTo>
                      <a:pt x="11343" y="7"/>
                      <a:pt x="11342" y="6"/>
                      <a:pt x="11342" y="5"/>
                    </a:cubicBezTo>
                    <a:cubicBezTo>
                      <a:pt x="11342" y="4"/>
                      <a:pt x="11343" y="3"/>
                      <a:pt x="11344" y="3"/>
                    </a:cubicBezTo>
                    <a:close/>
                    <a:moveTo>
                      <a:pt x="11352" y="3"/>
                    </a:moveTo>
                    <a:lnTo>
                      <a:pt x="11352" y="3"/>
                    </a:lnTo>
                    <a:cubicBezTo>
                      <a:pt x="11353" y="3"/>
                      <a:pt x="11354" y="4"/>
                      <a:pt x="11354" y="5"/>
                    </a:cubicBezTo>
                    <a:cubicBezTo>
                      <a:pt x="11354" y="6"/>
                      <a:pt x="11353" y="7"/>
                      <a:pt x="11352" y="7"/>
                    </a:cubicBezTo>
                    <a:lnTo>
                      <a:pt x="11352" y="7"/>
                    </a:lnTo>
                    <a:cubicBezTo>
                      <a:pt x="11351" y="7"/>
                      <a:pt x="11350" y="6"/>
                      <a:pt x="11350" y="5"/>
                    </a:cubicBezTo>
                    <a:cubicBezTo>
                      <a:pt x="11350" y="4"/>
                      <a:pt x="11351" y="3"/>
                      <a:pt x="11352" y="3"/>
                    </a:cubicBezTo>
                    <a:close/>
                    <a:moveTo>
                      <a:pt x="11360" y="3"/>
                    </a:moveTo>
                    <a:lnTo>
                      <a:pt x="11360" y="3"/>
                    </a:lnTo>
                    <a:cubicBezTo>
                      <a:pt x="11361" y="3"/>
                      <a:pt x="11362" y="4"/>
                      <a:pt x="11362" y="5"/>
                    </a:cubicBezTo>
                    <a:cubicBezTo>
                      <a:pt x="11362" y="6"/>
                      <a:pt x="11361" y="7"/>
                      <a:pt x="11360" y="7"/>
                    </a:cubicBezTo>
                    <a:lnTo>
                      <a:pt x="11360" y="7"/>
                    </a:lnTo>
                    <a:cubicBezTo>
                      <a:pt x="11359" y="7"/>
                      <a:pt x="11358" y="6"/>
                      <a:pt x="11358" y="5"/>
                    </a:cubicBezTo>
                    <a:cubicBezTo>
                      <a:pt x="11358" y="4"/>
                      <a:pt x="11359" y="3"/>
                      <a:pt x="11360" y="3"/>
                    </a:cubicBezTo>
                    <a:close/>
                    <a:moveTo>
                      <a:pt x="11368" y="3"/>
                    </a:moveTo>
                    <a:lnTo>
                      <a:pt x="11368" y="3"/>
                    </a:lnTo>
                    <a:cubicBezTo>
                      <a:pt x="11369" y="3"/>
                      <a:pt x="11370" y="4"/>
                      <a:pt x="11370" y="5"/>
                    </a:cubicBezTo>
                    <a:cubicBezTo>
                      <a:pt x="11370" y="6"/>
                      <a:pt x="11369" y="7"/>
                      <a:pt x="11368" y="7"/>
                    </a:cubicBezTo>
                    <a:lnTo>
                      <a:pt x="11368" y="7"/>
                    </a:lnTo>
                    <a:cubicBezTo>
                      <a:pt x="11367" y="7"/>
                      <a:pt x="11366" y="6"/>
                      <a:pt x="11366" y="5"/>
                    </a:cubicBezTo>
                    <a:cubicBezTo>
                      <a:pt x="11366" y="4"/>
                      <a:pt x="11367" y="3"/>
                      <a:pt x="11368" y="3"/>
                    </a:cubicBezTo>
                    <a:close/>
                    <a:moveTo>
                      <a:pt x="11376" y="3"/>
                    </a:moveTo>
                    <a:lnTo>
                      <a:pt x="11376" y="3"/>
                    </a:lnTo>
                    <a:cubicBezTo>
                      <a:pt x="11377" y="3"/>
                      <a:pt x="11378" y="4"/>
                      <a:pt x="11378" y="5"/>
                    </a:cubicBezTo>
                    <a:cubicBezTo>
                      <a:pt x="11378" y="6"/>
                      <a:pt x="11377" y="7"/>
                      <a:pt x="11376" y="7"/>
                    </a:cubicBezTo>
                    <a:lnTo>
                      <a:pt x="11376" y="7"/>
                    </a:lnTo>
                    <a:cubicBezTo>
                      <a:pt x="11375" y="7"/>
                      <a:pt x="11374" y="6"/>
                      <a:pt x="11374" y="5"/>
                    </a:cubicBezTo>
                    <a:cubicBezTo>
                      <a:pt x="11374" y="4"/>
                      <a:pt x="11375" y="3"/>
                      <a:pt x="11376" y="3"/>
                    </a:cubicBezTo>
                    <a:close/>
                    <a:moveTo>
                      <a:pt x="11384" y="3"/>
                    </a:moveTo>
                    <a:lnTo>
                      <a:pt x="11384" y="3"/>
                    </a:lnTo>
                    <a:cubicBezTo>
                      <a:pt x="11385" y="3"/>
                      <a:pt x="11386" y="4"/>
                      <a:pt x="11386" y="5"/>
                    </a:cubicBezTo>
                    <a:cubicBezTo>
                      <a:pt x="11386" y="6"/>
                      <a:pt x="11385" y="7"/>
                      <a:pt x="11384" y="7"/>
                    </a:cubicBezTo>
                    <a:lnTo>
                      <a:pt x="11384" y="7"/>
                    </a:lnTo>
                    <a:cubicBezTo>
                      <a:pt x="11383" y="7"/>
                      <a:pt x="11382" y="6"/>
                      <a:pt x="11382" y="5"/>
                    </a:cubicBezTo>
                    <a:cubicBezTo>
                      <a:pt x="11382" y="4"/>
                      <a:pt x="11383" y="3"/>
                      <a:pt x="11384" y="3"/>
                    </a:cubicBezTo>
                    <a:close/>
                    <a:moveTo>
                      <a:pt x="11392" y="3"/>
                    </a:moveTo>
                    <a:lnTo>
                      <a:pt x="11392" y="3"/>
                    </a:lnTo>
                    <a:cubicBezTo>
                      <a:pt x="11393" y="3"/>
                      <a:pt x="11394" y="4"/>
                      <a:pt x="11394" y="5"/>
                    </a:cubicBezTo>
                    <a:cubicBezTo>
                      <a:pt x="11394" y="6"/>
                      <a:pt x="11393" y="7"/>
                      <a:pt x="11392" y="7"/>
                    </a:cubicBezTo>
                    <a:lnTo>
                      <a:pt x="11392" y="7"/>
                    </a:lnTo>
                    <a:cubicBezTo>
                      <a:pt x="11391" y="7"/>
                      <a:pt x="11390" y="6"/>
                      <a:pt x="11390" y="5"/>
                    </a:cubicBezTo>
                    <a:cubicBezTo>
                      <a:pt x="11390" y="4"/>
                      <a:pt x="11391" y="3"/>
                      <a:pt x="11392" y="3"/>
                    </a:cubicBezTo>
                    <a:close/>
                    <a:moveTo>
                      <a:pt x="11400" y="3"/>
                    </a:moveTo>
                    <a:lnTo>
                      <a:pt x="11400" y="3"/>
                    </a:lnTo>
                    <a:cubicBezTo>
                      <a:pt x="11401" y="3"/>
                      <a:pt x="11402" y="4"/>
                      <a:pt x="11402" y="5"/>
                    </a:cubicBezTo>
                    <a:cubicBezTo>
                      <a:pt x="11402" y="6"/>
                      <a:pt x="11401" y="7"/>
                      <a:pt x="11400" y="7"/>
                    </a:cubicBezTo>
                    <a:lnTo>
                      <a:pt x="11400" y="7"/>
                    </a:lnTo>
                    <a:cubicBezTo>
                      <a:pt x="11399" y="7"/>
                      <a:pt x="11398" y="6"/>
                      <a:pt x="11398" y="5"/>
                    </a:cubicBezTo>
                    <a:cubicBezTo>
                      <a:pt x="11398" y="4"/>
                      <a:pt x="11399" y="3"/>
                      <a:pt x="11400" y="3"/>
                    </a:cubicBezTo>
                    <a:close/>
                    <a:moveTo>
                      <a:pt x="11408" y="3"/>
                    </a:moveTo>
                    <a:lnTo>
                      <a:pt x="11408" y="3"/>
                    </a:lnTo>
                    <a:cubicBezTo>
                      <a:pt x="11409" y="3"/>
                      <a:pt x="11410" y="4"/>
                      <a:pt x="11410" y="5"/>
                    </a:cubicBezTo>
                    <a:cubicBezTo>
                      <a:pt x="11410" y="6"/>
                      <a:pt x="11409" y="7"/>
                      <a:pt x="11408" y="7"/>
                    </a:cubicBezTo>
                    <a:lnTo>
                      <a:pt x="11408" y="7"/>
                    </a:lnTo>
                    <a:cubicBezTo>
                      <a:pt x="11407" y="7"/>
                      <a:pt x="11406" y="6"/>
                      <a:pt x="11406" y="5"/>
                    </a:cubicBezTo>
                    <a:cubicBezTo>
                      <a:pt x="11406" y="4"/>
                      <a:pt x="11407" y="3"/>
                      <a:pt x="11408" y="3"/>
                    </a:cubicBezTo>
                    <a:close/>
                    <a:moveTo>
                      <a:pt x="11416" y="3"/>
                    </a:moveTo>
                    <a:lnTo>
                      <a:pt x="11416" y="3"/>
                    </a:lnTo>
                    <a:cubicBezTo>
                      <a:pt x="11417" y="3"/>
                      <a:pt x="11418" y="4"/>
                      <a:pt x="11418" y="5"/>
                    </a:cubicBezTo>
                    <a:cubicBezTo>
                      <a:pt x="11418" y="6"/>
                      <a:pt x="11417" y="7"/>
                      <a:pt x="11416" y="7"/>
                    </a:cubicBezTo>
                    <a:lnTo>
                      <a:pt x="11416" y="7"/>
                    </a:lnTo>
                    <a:cubicBezTo>
                      <a:pt x="11415" y="7"/>
                      <a:pt x="11414" y="6"/>
                      <a:pt x="11414" y="5"/>
                    </a:cubicBezTo>
                    <a:cubicBezTo>
                      <a:pt x="11414" y="4"/>
                      <a:pt x="11415" y="3"/>
                      <a:pt x="11416" y="3"/>
                    </a:cubicBezTo>
                    <a:close/>
                    <a:moveTo>
                      <a:pt x="11424" y="3"/>
                    </a:moveTo>
                    <a:lnTo>
                      <a:pt x="11424" y="3"/>
                    </a:lnTo>
                    <a:cubicBezTo>
                      <a:pt x="11425" y="3"/>
                      <a:pt x="11426" y="4"/>
                      <a:pt x="11426" y="5"/>
                    </a:cubicBezTo>
                    <a:cubicBezTo>
                      <a:pt x="11426" y="6"/>
                      <a:pt x="11425" y="7"/>
                      <a:pt x="11424" y="7"/>
                    </a:cubicBezTo>
                    <a:lnTo>
                      <a:pt x="11424" y="7"/>
                    </a:lnTo>
                    <a:cubicBezTo>
                      <a:pt x="11423" y="7"/>
                      <a:pt x="11422" y="6"/>
                      <a:pt x="11422" y="5"/>
                    </a:cubicBezTo>
                    <a:cubicBezTo>
                      <a:pt x="11422" y="4"/>
                      <a:pt x="11423" y="3"/>
                      <a:pt x="11424" y="3"/>
                    </a:cubicBezTo>
                    <a:close/>
                    <a:moveTo>
                      <a:pt x="11432" y="3"/>
                    </a:moveTo>
                    <a:lnTo>
                      <a:pt x="11432" y="3"/>
                    </a:lnTo>
                    <a:cubicBezTo>
                      <a:pt x="11433" y="3"/>
                      <a:pt x="11434" y="4"/>
                      <a:pt x="11434" y="5"/>
                    </a:cubicBezTo>
                    <a:cubicBezTo>
                      <a:pt x="11434" y="6"/>
                      <a:pt x="11433" y="7"/>
                      <a:pt x="11432" y="7"/>
                    </a:cubicBezTo>
                    <a:lnTo>
                      <a:pt x="11432" y="7"/>
                    </a:lnTo>
                    <a:cubicBezTo>
                      <a:pt x="11431" y="7"/>
                      <a:pt x="11430" y="6"/>
                      <a:pt x="11430" y="5"/>
                    </a:cubicBezTo>
                    <a:cubicBezTo>
                      <a:pt x="11430" y="4"/>
                      <a:pt x="11431" y="3"/>
                      <a:pt x="11432" y="3"/>
                    </a:cubicBezTo>
                    <a:close/>
                    <a:moveTo>
                      <a:pt x="11440" y="3"/>
                    </a:moveTo>
                    <a:lnTo>
                      <a:pt x="11440" y="3"/>
                    </a:lnTo>
                    <a:cubicBezTo>
                      <a:pt x="11441" y="3"/>
                      <a:pt x="11442" y="4"/>
                      <a:pt x="11442" y="5"/>
                    </a:cubicBezTo>
                    <a:cubicBezTo>
                      <a:pt x="11442" y="6"/>
                      <a:pt x="11441" y="7"/>
                      <a:pt x="11440" y="7"/>
                    </a:cubicBezTo>
                    <a:lnTo>
                      <a:pt x="11440" y="7"/>
                    </a:lnTo>
                    <a:cubicBezTo>
                      <a:pt x="11439" y="7"/>
                      <a:pt x="11438" y="6"/>
                      <a:pt x="11438" y="5"/>
                    </a:cubicBezTo>
                    <a:cubicBezTo>
                      <a:pt x="11438" y="4"/>
                      <a:pt x="11439" y="3"/>
                      <a:pt x="11440" y="3"/>
                    </a:cubicBezTo>
                    <a:close/>
                    <a:moveTo>
                      <a:pt x="11448" y="3"/>
                    </a:moveTo>
                    <a:lnTo>
                      <a:pt x="11448" y="3"/>
                    </a:lnTo>
                    <a:cubicBezTo>
                      <a:pt x="11449" y="3"/>
                      <a:pt x="11450" y="4"/>
                      <a:pt x="11450" y="5"/>
                    </a:cubicBezTo>
                    <a:cubicBezTo>
                      <a:pt x="11450" y="6"/>
                      <a:pt x="11449" y="7"/>
                      <a:pt x="11448" y="7"/>
                    </a:cubicBezTo>
                    <a:lnTo>
                      <a:pt x="11448" y="7"/>
                    </a:lnTo>
                    <a:cubicBezTo>
                      <a:pt x="11447" y="7"/>
                      <a:pt x="11446" y="6"/>
                      <a:pt x="11446" y="5"/>
                    </a:cubicBezTo>
                    <a:cubicBezTo>
                      <a:pt x="11446" y="4"/>
                      <a:pt x="11447" y="3"/>
                      <a:pt x="11448" y="3"/>
                    </a:cubicBezTo>
                    <a:close/>
                    <a:moveTo>
                      <a:pt x="11456" y="3"/>
                    </a:moveTo>
                    <a:lnTo>
                      <a:pt x="11456" y="3"/>
                    </a:lnTo>
                    <a:cubicBezTo>
                      <a:pt x="11457" y="3"/>
                      <a:pt x="11458" y="4"/>
                      <a:pt x="11458" y="5"/>
                    </a:cubicBezTo>
                    <a:cubicBezTo>
                      <a:pt x="11458" y="6"/>
                      <a:pt x="11457" y="7"/>
                      <a:pt x="11456" y="7"/>
                    </a:cubicBezTo>
                    <a:lnTo>
                      <a:pt x="11456" y="7"/>
                    </a:lnTo>
                    <a:cubicBezTo>
                      <a:pt x="11455" y="7"/>
                      <a:pt x="11454" y="6"/>
                      <a:pt x="11454" y="5"/>
                    </a:cubicBezTo>
                    <a:cubicBezTo>
                      <a:pt x="11454" y="4"/>
                      <a:pt x="11455" y="3"/>
                      <a:pt x="11456" y="3"/>
                    </a:cubicBezTo>
                    <a:close/>
                    <a:moveTo>
                      <a:pt x="11464" y="3"/>
                    </a:moveTo>
                    <a:lnTo>
                      <a:pt x="11464" y="3"/>
                    </a:lnTo>
                    <a:cubicBezTo>
                      <a:pt x="11465" y="3"/>
                      <a:pt x="11466" y="4"/>
                      <a:pt x="11466" y="5"/>
                    </a:cubicBezTo>
                    <a:cubicBezTo>
                      <a:pt x="11466" y="6"/>
                      <a:pt x="11465" y="7"/>
                      <a:pt x="11464" y="7"/>
                    </a:cubicBezTo>
                    <a:lnTo>
                      <a:pt x="11464" y="7"/>
                    </a:lnTo>
                    <a:cubicBezTo>
                      <a:pt x="11463" y="7"/>
                      <a:pt x="11462" y="6"/>
                      <a:pt x="11462" y="5"/>
                    </a:cubicBezTo>
                    <a:cubicBezTo>
                      <a:pt x="11462" y="4"/>
                      <a:pt x="11463" y="3"/>
                      <a:pt x="11464" y="3"/>
                    </a:cubicBezTo>
                    <a:close/>
                    <a:moveTo>
                      <a:pt x="11472" y="3"/>
                    </a:moveTo>
                    <a:lnTo>
                      <a:pt x="11472" y="3"/>
                    </a:lnTo>
                    <a:cubicBezTo>
                      <a:pt x="11473" y="3"/>
                      <a:pt x="11474" y="4"/>
                      <a:pt x="11474" y="5"/>
                    </a:cubicBezTo>
                    <a:cubicBezTo>
                      <a:pt x="11474" y="6"/>
                      <a:pt x="11473" y="7"/>
                      <a:pt x="11472" y="7"/>
                    </a:cubicBezTo>
                    <a:lnTo>
                      <a:pt x="11472" y="7"/>
                    </a:lnTo>
                    <a:cubicBezTo>
                      <a:pt x="11471" y="7"/>
                      <a:pt x="11470" y="6"/>
                      <a:pt x="11470" y="5"/>
                    </a:cubicBezTo>
                    <a:cubicBezTo>
                      <a:pt x="11470" y="4"/>
                      <a:pt x="11471" y="3"/>
                      <a:pt x="11472" y="3"/>
                    </a:cubicBezTo>
                    <a:close/>
                    <a:moveTo>
                      <a:pt x="11480" y="3"/>
                    </a:moveTo>
                    <a:lnTo>
                      <a:pt x="11480" y="3"/>
                    </a:lnTo>
                    <a:cubicBezTo>
                      <a:pt x="11481" y="3"/>
                      <a:pt x="11482" y="4"/>
                      <a:pt x="11482" y="5"/>
                    </a:cubicBezTo>
                    <a:cubicBezTo>
                      <a:pt x="11482" y="6"/>
                      <a:pt x="11481" y="7"/>
                      <a:pt x="11480" y="7"/>
                    </a:cubicBezTo>
                    <a:lnTo>
                      <a:pt x="11480" y="7"/>
                    </a:lnTo>
                    <a:cubicBezTo>
                      <a:pt x="11479" y="7"/>
                      <a:pt x="11478" y="6"/>
                      <a:pt x="11478" y="5"/>
                    </a:cubicBezTo>
                    <a:cubicBezTo>
                      <a:pt x="11478" y="4"/>
                      <a:pt x="11479" y="3"/>
                      <a:pt x="11480" y="3"/>
                    </a:cubicBezTo>
                    <a:close/>
                    <a:moveTo>
                      <a:pt x="11488" y="3"/>
                    </a:moveTo>
                    <a:lnTo>
                      <a:pt x="11488" y="3"/>
                    </a:lnTo>
                    <a:cubicBezTo>
                      <a:pt x="11489" y="3"/>
                      <a:pt x="11490" y="4"/>
                      <a:pt x="11490" y="5"/>
                    </a:cubicBezTo>
                    <a:cubicBezTo>
                      <a:pt x="11490" y="6"/>
                      <a:pt x="11489" y="7"/>
                      <a:pt x="11488" y="7"/>
                    </a:cubicBezTo>
                    <a:lnTo>
                      <a:pt x="11488" y="7"/>
                    </a:lnTo>
                    <a:cubicBezTo>
                      <a:pt x="11487" y="7"/>
                      <a:pt x="11486" y="6"/>
                      <a:pt x="11486" y="5"/>
                    </a:cubicBezTo>
                    <a:cubicBezTo>
                      <a:pt x="11486" y="4"/>
                      <a:pt x="11487" y="3"/>
                      <a:pt x="11488" y="3"/>
                    </a:cubicBezTo>
                    <a:close/>
                    <a:moveTo>
                      <a:pt x="11496" y="3"/>
                    </a:moveTo>
                    <a:lnTo>
                      <a:pt x="11496" y="3"/>
                    </a:lnTo>
                    <a:cubicBezTo>
                      <a:pt x="11497" y="3"/>
                      <a:pt x="11498" y="4"/>
                      <a:pt x="11498" y="5"/>
                    </a:cubicBezTo>
                    <a:cubicBezTo>
                      <a:pt x="11498" y="6"/>
                      <a:pt x="11497" y="7"/>
                      <a:pt x="11496" y="7"/>
                    </a:cubicBezTo>
                    <a:lnTo>
                      <a:pt x="11496" y="7"/>
                    </a:lnTo>
                    <a:cubicBezTo>
                      <a:pt x="11495" y="7"/>
                      <a:pt x="11494" y="6"/>
                      <a:pt x="11494" y="5"/>
                    </a:cubicBezTo>
                    <a:cubicBezTo>
                      <a:pt x="11494" y="4"/>
                      <a:pt x="11495" y="3"/>
                      <a:pt x="11496" y="3"/>
                    </a:cubicBezTo>
                    <a:close/>
                    <a:moveTo>
                      <a:pt x="11504" y="3"/>
                    </a:moveTo>
                    <a:lnTo>
                      <a:pt x="11504" y="3"/>
                    </a:lnTo>
                    <a:cubicBezTo>
                      <a:pt x="11505" y="3"/>
                      <a:pt x="11506" y="4"/>
                      <a:pt x="11506" y="5"/>
                    </a:cubicBezTo>
                    <a:cubicBezTo>
                      <a:pt x="11506" y="6"/>
                      <a:pt x="11505" y="7"/>
                      <a:pt x="11504" y="7"/>
                    </a:cubicBezTo>
                    <a:lnTo>
                      <a:pt x="11504" y="7"/>
                    </a:lnTo>
                    <a:cubicBezTo>
                      <a:pt x="11503" y="7"/>
                      <a:pt x="11502" y="6"/>
                      <a:pt x="11502" y="5"/>
                    </a:cubicBezTo>
                    <a:cubicBezTo>
                      <a:pt x="11502" y="4"/>
                      <a:pt x="11503" y="3"/>
                      <a:pt x="11504" y="3"/>
                    </a:cubicBezTo>
                    <a:close/>
                    <a:moveTo>
                      <a:pt x="11512" y="3"/>
                    </a:moveTo>
                    <a:lnTo>
                      <a:pt x="11512" y="3"/>
                    </a:lnTo>
                    <a:cubicBezTo>
                      <a:pt x="11513" y="3"/>
                      <a:pt x="11514" y="4"/>
                      <a:pt x="11514" y="5"/>
                    </a:cubicBezTo>
                    <a:cubicBezTo>
                      <a:pt x="11514" y="6"/>
                      <a:pt x="11513" y="7"/>
                      <a:pt x="11512" y="7"/>
                    </a:cubicBezTo>
                    <a:lnTo>
                      <a:pt x="11512" y="7"/>
                    </a:lnTo>
                    <a:cubicBezTo>
                      <a:pt x="11511" y="7"/>
                      <a:pt x="11510" y="6"/>
                      <a:pt x="11510" y="5"/>
                    </a:cubicBezTo>
                    <a:cubicBezTo>
                      <a:pt x="11510" y="4"/>
                      <a:pt x="11511" y="3"/>
                      <a:pt x="11512" y="3"/>
                    </a:cubicBezTo>
                    <a:close/>
                    <a:moveTo>
                      <a:pt x="11520" y="3"/>
                    </a:moveTo>
                    <a:lnTo>
                      <a:pt x="11520" y="3"/>
                    </a:lnTo>
                    <a:cubicBezTo>
                      <a:pt x="11521" y="3"/>
                      <a:pt x="11522" y="4"/>
                      <a:pt x="11522" y="5"/>
                    </a:cubicBezTo>
                    <a:cubicBezTo>
                      <a:pt x="11522" y="6"/>
                      <a:pt x="11521" y="7"/>
                      <a:pt x="11520" y="7"/>
                    </a:cubicBezTo>
                    <a:lnTo>
                      <a:pt x="11520" y="7"/>
                    </a:lnTo>
                    <a:cubicBezTo>
                      <a:pt x="11519" y="7"/>
                      <a:pt x="11518" y="6"/>
                      <a:pt x="11518" y="5"/>
                    </a:cubicBezTo>
                    <a:cubicBezTo>
                      <a:pt x="11518" y="4"/>
                      <a:pt x="11519" y="3"/>
                      <a:pt x="11520" y="3"/>
                    </a:cubicBezTo>
                    <a:close/>
                    <a:moveTo>
                      <a:pt x="11528" y="3"/>
                    </a:moveTo>
                    <a:lnTo>
                      <a:pt x="11528" y="3"/>
                    </a:lnTo>
                    <a:cubicBezTo>
                      <a:pt x="11529" y="3"/>
                      <a:pt x="11530" y="4"/>
                      <a:pt x="11530" y="5"/>
                    </a:cubicBezTo>
                    <a:cubicBezTo>
                      <a:pt x="11530" y="6"/>
                      <a:pt x="11529" y="7"/>
                      <a:pt x="11528" y="7"/>
                    </a:cubicBezTo>
                    <a:lnTo>
                      <a:pt x="11528" y="7"/>
                    </a:lnTo>
                    <a:cubicBezTo>
                      <a:pt x="11527" y="7"/>
                      <a:pt x="11526" y="6"/>
                      <a:pt x="11526" y="5"/>
                    </a:cubicBezTo>
                    <a:cubicBezTo>
                      <a:pt x="11526" y="4"/>
                      <a:pt x="11527" y="3"/>
                      <a:pt x="11528" y="3"/>
                    </a:cubicBezTo>
                    <a:close/>
                    <a:moveTo>
                      <a:pt x="11536" y="3"/>
                    </a:moveTo>
                    <a:lnTo>
                      <a:pt x="11536" y="3"/>
                    </a:lnTo>
                    <a:cubicBezTo>
                      <a:pt x="11537" y="3"/>
                      <a:pt x="11538" y="4"/>
                      <a:pt x="11538" y="5"/>
                    </a:cubicBezTo>
                    <a:cubicBezTo>
                      <a:pt x="11538" y="6"/>
                      <a:pt x="11537" y="7"/>
                      <a:pt x="11536" y="7"/>
                    </a:cubicBezTo>
                    <a:lnTo>
                      <a:pt x="11536" y="7"/>
                    </a:lnTo>
                    <a:cubicBezTo>
                      <a:pt x="11535" y="7"/>
                      <a:pt x="11534" y="6"/>
                      <a:pt x="11534" y="5"/>
                    </a:cubicBezTo>
                    <a:cubicBezTo>
                      <a:pt x="11534" y="4"/>
                      <a:pt x="11535" y="3"/>
                      <a:pt x="11536" y="3"/>
                    </a:cubicBezTo>
                    <a:close/>
                    <a:moveTo>
                      <a:pt x="11544" y="3"/>
                    </a:moveTo>
                    <a:lnTo>
                      <a:pt x="11544" y="3"/>
                    </a:lnTo>
                    <a:cubicBezTo>
                      <a:pt x="11545" y="3"/>
                      <a:pt x="11546" y="4"/>
                      <a:pt x="11546" y="5"/>
                    </a:cubicBezTo>
                    <a:cubicBezTo>
                      <a:pt x="11546" y="6"/>
                      <a:pt x="11545" y="7"/>
                      <a:pt x="11544" y="7"/>
                    </a:cubicBezTo>
                    <a:lnTo>
                      <a:pt x="11544" y="7"/>
                    </a:lnTo>
                    <a:cubicBezTo>
                      <a:pt x="11543" y="7"/>
                      <a:pt x="11542" y="6"/>
                      <a:pt x="11542" y="5"/>
                    </a:cubicBezTo>
                    <a:cubicBezTo>
                      <a:pt x="11542" y="4"/>
                      <a:pt x="11543" y="3"/>
                      <a:pt x="11544" y="3"/>
                    </a:cubicBezTo>
                    <a:close/>
                    <a:moveTo>
                      <a:pt x="11552" y="3"/>
                    </a:moveTo>
                    <a:lnTo>
                      <a:pt x="11552" y="3"/>
                    </a:lnTo>
                    <a:cubicBezTo>
                      <a:pt x="11553" y="3"/>
                      <a:pt x="11554" y="4"/>
                      <a:pt x="11554" y="5"/>
                    </a:cubicBezTo>
                    <a:cubicBezTo>
                      <a:pt x="11554" y="6"/>
                      <a:pt x="11553" y="7"/>
                      <a:pt x="11552" y="7"/>
                    </a:cubicBezTo>
                    <a:lnTo>
                      <a:pt x="11552" y="7"/>
                    </a:lnTo>
                    <a:cubicBezTo>
                      <a:pt x="11551" y="7"/>
                      <a:pt x="11550" y="6"/>
                      <a:pt x="11550" y="5"/>
                    </a:cubicBezTo>
                    <a:cubicBezTo>
                      <a:pt x="11550" y="4"/>
                      <a:pt x="11551" y="3"/>
                      <a:pt x="11552" y="3"/>
                    </a:cubicBezTo>
                    <a:close/>
                    <a:moveTo>
                      <a:pt x="11560" y="3"/>
                    </a:moveTo>
                    <a:lnTo>
                      <a:pt x="11560" y="3"/>
                    </a:lnTo>
                    <a:cubicBezTo>
                      <a:pt x="11561" y="3"/>
                      <a:pt x="11562" y="4"/>
                      <a:pt x="11562" y="5"/>
                    </a:cubicBezTo>
                    <a:cubicBezTo>
                      <a:pt x="11562" y="6"/>
                      <a:pt x="11561" y="7"/>
                      <a:pt x="11560" y="7"/>
                    </a:cubicBezTo>
                    <a:lnTo>
                      <a:pt x="11560" y="7"/>
                    </a:lnTo>
                    <a:cubicBezTo>
                      <a:pt x="11559" y="7"/>
                      <a:pt x="11558" y="6"/>
                      <a:pt x="11558" y="5"/>
                    </a:cubicBezTo>
                    <a:cubicBezTo>
                      <a:pt x="11558" y="4"/>
                      <a:pt x="11559" y="3"/>
                      <a:pt x="11560" y="3"/>
                    </a:cubicBezTo>
                    <a:close/>
                    <a:moveTo>
                      <a:pt x="11568" y="3"/>
                    </a:moveTo>
                    <a:lnTo>
                      <a:pt x="11568" y="3"/>
                    </a:lnTo>
                    <a:cubicBezTo>
                      <a:pt x="11569" y="3"/>
                      <a:pt x="11570" y="4"/>
                      <a:pt x="11570" y="5"/>
                    </a:cubicBezTo>
                    <a:cubicBezTo>
                      <a:pt x="11570" y="6"/>
                      <a:pt x="11569" y="7"/>
                      <a:pt x="11568" y="7"/>
                    </a:cubicBezTo>
                    <a:lnTo>
                      <a:pt x="11568" y="7"/>
                    </a:lnTo>
                    <a:cubicBezTo>
                      <a:pt x="11567" y="7"/>
                      <a:pt x="11566" y="6"/>
                      <a:pt x="11566" y="5"/>
                    </a:cubicBezTo>
                    <a:cubicBezTo>
                      <a:pt x="11566" y="4"/>
                      <a:pt x="11567" y="3"/>
                      <a:pt x="11568" y="3"/>
                    </a:cubicBezTo>
                    <a:close/>
                    <a:moveTo>
                      <a:pt x="11576" y="3"/>
                    </a:moveTo>
                    <a:lnTo>
                      <a:pt x="11576" y="3"/>
                    </a:lnTo>
                    <a:cubicBezTo>
                      <a:pt x="11577" y="3"/>
                      <a:pt x="11578" y="4"/>
                      <a:pt x="11578" y="5"/>
                    </a:cubicBezTo>
                    <a:cubicBezTo>
                      <a:pt x="11578" y="6"/>
                      <a:pt x="11577" y="7"/>
                      <a:pt x="11576" y="7"/>
                    </a:cubicBezTo>
                    <a:lnTo>
                      <a:pt x="11576" y="7"/>
                    </a:lnTo>
                    <a:cubicBezTo>
                      <a:pt x="11575" y="7"/>
                      <a:pt x="11574" y="6"/>
                      <a:pt x="11574" y="5"/>
                    </a:cubicBezTo>
                    <a:cubicBezTo>
                      <a:pt x="11574" y="4"/>
                      <a:pt x="11575" y="3"/>
                      <a:pt x="11576" y="3"/>
                    </a:cubicBezTo>
                    <a:close/>
                    <a:moveTo>
                      <a:pt x="11584" y="3"/>
                    </a:moveTo>
                    <a:lnTo>
                      <a:pt x="11584" y="3"/>
                    </a:lnTo>
                    <a:cubicBezTo>
                      <a:pt x="11585" y="3"/>
                      <a:pt x="11586" y="4"/>
                      <a:pt x="11586" y="5"/>
                    </a:cubicBezTo>
                    <a:cubicBezTo>
                      <a:pt x="11586" y="6"/>
                      <a:pt x="11585" y="7"/>
                      <a:pt x="11584" y="7"/>
                    </a:cubicBezTo>
                    <a:lnTo>
                      <a:pt x="11584" y="7"/>
                    </a:lnTo>
                    <a:cubicBezTo>
                      <a:pt x="11583" y="7"/>
                      <a:pt x="11582" y="6"/>
                      <a:pt x="11582" y="5"/>
                    </a:cubicBezTo>
                    <a:cubicBezTo>
                      <a:pt x="11582" y="4"/>
                      <a:pt x="11583" y="3"/>
                      <a:pt x="11584" y="3"/>
                    </a:cubicBezTo>
                    <a:close/>
                    <a:moveTo>
                      <a:pt x="11592" y="3"/>
                    </a:moveTo>
                    <a:lnTo>
                      <a:pt x="11592" y="3"/>
                    </a:lnTo>
                    <a:cubicBezTo>
                      <a:pt x="11593" y="3"/>
                      <a:pt x="11594" y="4"/>
                      <a:pt x="11594" y="5"/>
                    </a:cubicBezTo>
                    <a:cubicBezTo>
                      <a:pt x="11594" y="6"/>
                      <a:pt x="11593" y="7"/>
                      <a:pt x="11592" y="7"/>
                    </a:cubicBezTo>
                    <a:lnTo>
                      <a:pt x="11592" y="7"/>
                    </a:lnTo>
                    <a:cubicBezTo>
                      <a:pt x="11591" y="7"/>
                      <a:pt x="11590" y="6"/>
                      <a:pt x="11590" y="5"/>
                    </a:cubicBezTo>
                    <a:cubicBezTo>
                      <a:pt x="11590" y="4"/>
                      <a:pt x="11591" y="3"/>
                      <a:pt x="11592" y="3"/>
                    </a:cubicBezTo>
                    <a:close/>
                    <a:moveTo>
                      <a:pt x="11600" y="3"/>
                    </a:moveTo>
                    <a:lnTo>
                      <a:pt x="11600" y="3"/>
                    </a:lnTo>
                    <a:cubicBezTo>
                      <a:pt x="11601" y="3"/>
                      <a:pt x="11602" y="4"/>
                      <a:pt x="11602" y="5"/>
                    </a:cubicBezTo>
                    <a:cubicBezTo>
                      <a:pt x="11602" y="6"/>
                      <a:pt x="11601" y="7"/>
                      <a:pt x="11600" y="7"/>
                    </a:cubicBezTo>
                    <a:lnTo>
                      <a:pt x="11600" y="7"/>
                    </a:lnTo>
                    <a:cubicBezTo>
                      <a:pt x="11599" y="7"/>
                      <a:pt x="11598" y="6"/>
                      <a:pt x="11598" y="5"/>
                    </a:cubicBezTo>
                    <a:cubicBezTo>
                      <a:pt x="11598" y="4"/>
                      <a:pt x="11599" y="3"/>
                      <a:pt x="11600" y="3"/>
                    </a:cubicBezTo>
                    <a:close/>
                    <a:moveTo>
                      <a:pt x="11608" y="3"/>
                    </a:moveTo>
                    <a:lnTo>
                      <a:pt x="11608" y="3"/>
                    </a:lnTo>
                    <a:cubicBezTo>
                      <a:pt x="11609" y="3"/>
                      <a:pt x="11610" y="4"/>
                      <a:pt x="11610" y="5"/>
                    </a:cubicBezTo>
                    <a:cubicBezTo>
                      <a:pt x="11610" y="6"/>
                      <a:pt x="11609" y="7"/>
                      <a:pt x="11608" y="7"/>
                    </a:cubicBezTo>
                    <a:lnTo>
                      <a:pt x="11608" y="7"/>
                    </a:lnTo>
                    <a:cubicBezTo>
                      <a:pt x="11607" y="7"/>
                      <a:pt x="11606" y="6"/>
                      <a:pt x="11606" y="5"/>
                    </a:cubicBezTo>
                    <a:cubicBezTo>
                      <a:pt x="11606" y="4"/>
                      <a:pt x="11607" y="3"/>
                      <a:pt x="11608" y="3"/>
                    </a:cubicBezTo>
                    <a:close/>
                    <a:moveTo>
                      <a:pt x="11616" y="3"/>
                    </a:moveTo>
                    <a:lnTo>
                      <a:pt x="11616" y="3"/>
                    </a:lnTo>
                    <a:cubicBezTo>
                      <a:pt x="11617" y="3"/>
                      <a:pt x="11618" y="4"/>
                      <a:pt x="11618" y="5"/>
                    </a:cubicBezTo>
                    <a:cubicBezTo>
                      <a:pt x="11618" y="6"/>
                      <a:pt x="11617" y="7"/>
                      <a:pt x="11616" y="7"/>
                    </a:cubicBezTo>
                    <a:lnTo>
                      <a:pt x="11616" y="7"/>
                    </a:lnTo>
                    <a:cubicBezTo>
                      <a:pt x="11615" y="7"/>
                      <a:pt x="11614" y="6"/>
                      <a:pt x="11614" y="5"/>
                    </a:cubicBezTo>
                    <a:cubicBezTo>
                      <a:pt x="11614" y="4"/>
                      <a:pt x="11615" y="3"/>
                      <a:pt x="11616" y="3"/>
                    </a:cubicBezTo>
                    <a:close/>
                    <a:moveTo>
                      <a:pt x="11624" y="3"/>
                    </a:moveTo>
                    <a:lnTo>
                      <a:pt x="11624" y="3"/>
                    </a:lnTo>
                    <a:cubicBezTo>
                      <a:pt x="11625" y="3"/>
                      <a:pt x="11626" y="4"/>
                      <a:pt x="11626" y="5"/>
                    </a:cubicBezTo>
                    <a:cubicBezTo>
                      <a:pt x="11626" y="6"/>
                      <a:pt x="11625" y="7"/>
                      <a:pt x="11624" y="7"/>
                    </a:cubicBezTo>
                    <a:lnTo>
                      <a:pt x="11624" y="7"/>
                    </a:lnTo>
                    <a:cubicBezTo>
                      <a:pt x="11623" y="7"/>
                      <a:pt x="11622" y="6"/>
                      <a:pt x="11622" y="5"/>
                    </a:cubicBezTo>
                    <a:cubicBezTo>
                      <a:pt x="11622" y="4"/>
                      <a:pt x="11623" y="3"/>
                      <a:pt x="11624" y="3"/>
                    </a:cubicBezTo>
                    <a:close/>
                    <a:moveTo>
                      <a:pt x="11632" y="3"/>
                    </a:moveTo>
                    <a:lnTo>
                      <a:pt x="11632" y="3"/>
                    </a:lnTo>
                    <a:cubicBezTo>
                      <a:pt x="11633" y="3"/>
                      <a:pt x="11634" y="4"/>
                      <a:pt x="11634" y="5"/>
                    </a:cubicBezTo>
                    <a:cubicBezTo>
                      <a:pt x="11634" y="6"/>
                      <a:pt x="11633" y="7"/>
                      <a:pt x="11632" y="7"/>
                    </a:cubicBezTo>
                    <a:lnTo>
                      <a:pt x="11632" y="7"/>
                    </a:lnTo>
                    <a:cubicBezTo>
                      <a:pt x="11631" y="7"/>
                      <a:pt x="11630" y="6"/>
                      <a:pt x="11630" y="5"/>
                    </a:cubicBezTo>
                    <a:cubicBezTo>
                      <a:pt x="11630" y="4"/>
                      <a:pt x="11631" y="3"/>
                      <a:pt x="11632" y="3"/>
                    </a:cubicBezTo>
                    <a:close/>
                    <a:moveTo>
                      <a:pt x="11640" y="3"/>
                    </a:moveTo>
                    <a:lnTo>
                      <a:pt x="11640" y="3"/>
                    </a:lnTo>
                    <a:cubicBezTo>
                      <a:pt x="11641" y="3"/>
                      <a:pt x="11642" y="4"/>
                      <a:pt x="11642" y="5"/>
                    </a:cubicBezTo>
                    <a:cubicBezTo>
                      <a:pt x="11642" y="6"/>
                      <a:pt x="11641" y="7"/>
                      <a:pt x="11640" y="7"/>
                    </a:cubicBezTo>
                    <a:lnTo>
                      <a:pt x="11640" y="7"/>
                    </a:lnTo>
                    <a:cubicBezTo>
                      <a:pt x="11639" y="7"/>
                      <a:pt x="11638" y="6"/>
                      <a:pt x="11638" y="5"/>
                    </a:cubicBezTo>
                    <a:cubicBezTo>
                      <a:pt x="11638" y="4"/>
                      <a:pt x="11639" y="3"/>
                      <a:pt x="11640" y="3"/>
                    </a:cubicBezTo>
                    <a:close/>
                    <a:moveTo>
                      <a:pt x="11648" y="3"/>
                    </a:moveTo>
                    <a:lnTo>
                      <a:pt x="11648" y="3"/>
                    </a:lnTo>
                    <a:cubicBezTo>
                      <a:pt x="11649" y="3"/>
                      <a:pt x="11650" y="4"/>
                      <a:pt x="11650" y="5"/>
                    </a:cubicBezTo>
                    <a:cubicBezTo>
                      <a:pt x="11650" y="6"/>
                      <a:pt x="11649" y="7"/>
                      <a:pt x="11648" y="7"/>
                    </a:cubicBezTo>
                    <a:lnTo>
                      <a:pt x="11648" y="7"/>
                    </a:lnTo>
                    <a:cubicBezTo>
                      <a:pt x="11647" y="7"/>
                      <a:pt x="11646" y="6"/>
                      <a:pt x="11646" y="5"/>
                    </a:cubicBezTo>
                    <a:cubicBezTo>
                      <a:pt x="11646" y="4"/>
                      <a:pt x="11647" y="3"/>
                      <a:pt x="11648" y="3"/>
                    </a:cubicBezTo>
                    <a:close/>
                    <a:moveTo>
                      <a:pt x="11656" y="3"/>
                    </a:moveTo>
                    <a:lnTo>
                      <a:pt x="11656" y="3"/>
                    </a:lnTo>
                    <a:cubicBezTo>
                      <a:pt x="11657" y="3"/>
                      <a:pt x="11658" y="4"/>
                      <a:pt x="11658" y="5"/>
                    </a:cubicBezTo>
                    <a:cubicBezTo>
                      <a:pt x="11658" y="6"/>
                      <a:pt x="11657" y="7"/>
                      <a:pt x="11656" y="7"/>
                    </a:cubicBezTo>
                    <a:lnTo>
                      <a:pt x="11656" y="7"/>
                    </a:lnTo>
                    <a:cubicBezTo>
                      <a:pt x="11655" y="7"/>
                      <a:pt x="11654" y="6"/>
                      <a:pt x="11654" y="5"/>
                    </a:cubicBezTo>
                    <a:cubicBezTo>
                      <a:pt x="11654" y="4"/>
                      <a:pt x="11655" y="3"/>
                      <a:pt x="11656" y="3"/>
                    </a:cubicBezTo>
                    <a:close/>
                    <a:moveTo>
                      <a:pt x="11664" y="3"/>
                    </a:moveTo>
                    <a:lnTo>
                      <a:pt x="11664" y="3"/>
                    </a:lnTo>
                    <a:cubicBezTo>
                      <a:pt x="11665" y="3"/>
                      <a:pt x="11666" y="4"/>
                      <a:pt x="11666" y="5"/>
                    </a:cubicBezTo>
                    <a:cubicBezTo>
                      <a:pt x="11666" y="6"/>
                      <a:pt x="11665" y="7"/>
                      <a:pt x="11664" y="7"/>
                    </a:cubicBezTo>
                    <a:lnTo>
                      <a:pt x="11664" y="7"/>
                    </a:lnTo>
                    <a:cubicBezTo>
                      <a:pt x="11663" y="7"/>
                      <a:pt x="11662" y="6"/>
                      <a:pt x="11662" y="5"/>
                    </a:cubicBezTo>
                    <a:cubicBezTo>
                      <a:pt x="11662" y="4"/>
                      <a:pt x="11663" y="3"/>
                      <a:pt x="11664" y="3"/>
                    </a:cubicBezTo>
                    <a:close/>
                    <a:moveTo>
                      <a:pt x="11672" y="3"/>
                    </a:moveTo>
                    <a:lnTo>
                      <a:pt x="11672" y="3"/>
                    </a:lnTo>
                    <a:cubicBezTo>
                      <a:pt x="11673" y="3"/>
                      <a:pt x="11674" y="4"/>
                      <a:pt x="11674" y="5"/>
                    </a:cubicBezTo>
                    <a:cubicBezTo>
                      <a:pt x="11674" y="6"/>
                      <a:pt x="11673" y="7"/>
                      <a:pt x="11672" y="7"/>
                    </a:cubicBezTo>
                    <a:lnTo>
                      <a:pt x="11672" y="7"/>
                    </a:lnTo>
                    <a:cubicBezTo>
                      <a:pt x="11671" y="7"/>
                      <a:pt x="11670" y="6"/>
                      <a:pt x="11670" y="5"/>
                    </a:cubicBezTo>
                    <a:cubicBezTo>
                      <a:pt x="11670" y="4"/>
                      <a:pt x="11671" y="3"/>
                      <a:pt x="11672" y="3"/>
                    </a:cubicBezTo>
                    <a:close/>
                    <a:moveTo>
                      <a:pt x="11680" y="3"/>
                    </a:moveTo>
                    <a:lnTo>
                      <a:pt x="11680" y="3"/>
                    </a:lnTo>
                    <a:cubicBezTo>
                      <a:pt x="11681" y="3"/>
                      <a:pt x="11682" y="4"/>
                      <a:pt x="11682" y="5"/>
                    </a:cubicBezTo>
                    <a:cubicBezTo>
                      <a:pt x="11682" y="6"/>
                      <a:pt x="11681" y="7"/>
                      <a:pt x="11680" y="7"/>
                    </a:cubicBezTo>
                    <a:lnTo>
                      <a:pt x="11680" y="7"/>
                    </a:lnTo>
                    <a:cubicBezTo>
                      <a:pt x="11679" y="7"/>
                      <a:pt x="11678" y="6"/>
                      <a:pt x="11678" y="5"/>
                    </a:cubicBezTo>
                    <a:cubicBezTo>
                      <a:pt x="11678" y="4"/>
                      <a:pt x="11679" y="3"/>
                      <a:pt x="11680" y="3"/>
                    </a:cubicBezTo>
                    <a:close/>
                    <a:moveTo>
                      <a:pt x="11688" y="3"/>
                    </a:moveTo>
                    <a:lnTo>
                      <a:pt x="11688" y="3"/>
                    </a:lnTo>
                    <a:cubicBezTo>
                      <a:pt x="11689" y="3"/>
                      <a:pt x="11690" y="4"/>
                      <a:pt x="11690" y="5"/>
                    </a:cubicBezTo>
                    <a:cubicBezTo>
                      <a:pt x="11690" y="6"/>
                      <a:pt x="11689" y="7"/>
                      <a:pt x="11688" y="7"/>
                    </a:cubicBezTo>
                    <a:lnTo>
                      <a:pt x="11688" y="7"/>
                    </a:lnTo>
                    <a:cubicBezTo>
                      <a:pt x="11687" y="7"/>
                      <a:pt x="11686" y="6"/>
                      <a:pt x="11686" y="5"/>
                    </a:cubicBezTo>
                    <a:cubicBezTo>
                      <a:pt x="11686" y="4"/>
                      <a:pt x="11687" y="3"/>
                      <a:pt x="11688" y="3"/>
                    </a:cubicBezTo>
                    <a:close/>
                    <a:moveTo>
                      <a:pt x="11696" y="3"/>
                    </a:moveTo>
                    <a:lnTo>
                      <a:pt x="11696" y="3"/>
                    </a:lnTo>
                    <a:cubicBezTo>
                      <a:pt x="11697" y="3"/>
                      <a:pt x="11698" y="4"/>
                      <a:pt x="11698" y="5"/>
                    </a:cubicBezTo>
                    <a:cubicBezTo>
                      <a:pt x="11698" y="6"/>
                      <a:pt x="11697" y="7"/>
                      <a:pt x="11696" y="7"/>
                    </a:cubicBezTo>
                    <a:lnTo>
                      <a:pt x="11696" y="7"/>
                    </a:lnTo>
                    <a:cubicBezTo>
                      <a:pt x="11695" y="7"/>
                      <a:pt x="11694" y="6"/>
                      <a:pt x="11694" y="5"/>
                    </a:cubicBezTo>
                    <a:cubicBezTo>
                      <a:pt x="11694" y="4"/>
                      <a:pt x="11695" y="3"/>
                      <a:pt x="11696" y="3"/>
                    </a:cubicBezTo>
                    <a:close/>
                    <a:moveTo>
                      <a:pt x="11704" y="3"/>
                    </a:moveTo>
                    <a:lnTo>
                      <a:pt x="11704" y="3"/>
                    </a:lnTo>
                    <a:cubicBezTo>
                      <a:pt x="11705" y="3"/>
                      <a:pt x="11706" y="4"/>
                      <a:pt x="11706" y="5"/>
                    </a:cubicBezTo>
                    <a:cubicBezTo>
                      <a:pt x="11706" y="6"/>
                      <a:pt x="11705" y="7"/>
                      <a:pt x="11704" y="7"/>
                    </a:cubicBezTo>
                    <a:lnTo>
                      <a:pt x="11704" y="7"/>
                    </a:lnTo>
                    <a:cubicBezTo>
                      <a:pt x="11703" y="7"/>
                      <a:pt x="11702" y="6"/>
                      <a:pt x="11702" y="5"/>
                    </a:cubicBezTo>
                    <a:cubicBezTo>
                      <a:pt x="11702" y="4"/>
                      <a:pt x="11703" y="3"/>
                      <a:pt x="11704" y="3"/>
                    </a:cubicBezTo>
                    <a:close/>
                    <a:moveTo>
                      <a:pt x="11712" y="3"/>
                    </a:moveTo>
                    <a:lnTo>
                      <a:pt x="11712" y="3"/>
                    </a:lnTo>
                    <a:cubicBezTo>
                      <a:pt x="11713" y="3"/>
                      <a:pt x="11714" y="4"/>
                      <a:pt x="11714" y="5"/>
                    </a:cubicBezTo>
                    <a:cubicBezTo>
                      <a:pt x="11714" y="6"/>
                      <a:pt x="11713" y="7"/>
                      <a:pt x="11712" y="7"/>
                    </a:cubicBezTo>
                    <a:lnTo>
                      <a:pt x="11712" y="7"/>
                    </a:lnTo>
                    <a:cubicBezTo>
                      <a:pt x="11711" y="7"/>
                      <a:pt x="11710" y="6"/>
                      <a:pt x="11710" y="5"/>
                    </a:cubicBezTo>
                    <a:cubicBezTo>
                      <a:pt x="11710" y="4"/>
                      <a:pt x="11711" y="3"/>
                      <a:pt x="11712" y="3"/>
                    </a:cubicBezTo>
                    <a:close/>
                    <a:moveTo>
                      <a:pt x="11720" y="3"/>
                    </a:moveTo>
                    <a:lnTo>
                      <a:pt x="11720" y="3"/>
                    </a:lnTo>
                    <a:cubicBezTo>
                      <a:pt x="11721" y="3"/>
                      <a:pt x="11722" y="4"/>
                      <a:pt x="11722" y="5"/>
                    </a:cubicBezTo>
                    <a:cubicBezTo>
                      <a:pt x="11722" y="6"/>
                      <a:pt x="11721" y="7"/>
                      <a:pt x="11720" y="7"/>
                    </a:cubicBezTo>
                    <a:lnTo>
                      <a:pt x="11720" y="7"/>
                    </a:lnTo>
                    <a:cubicBezTo>
                      <a:pt x="11719" y="7"/>
                      <a:pt x="11718" y="6"/>
                      <a:pt x="11718" y="5"/>
                    </a:cubicBezTo>
                    <a:cubicBezTo>
                      <a:pt x="11718" y="4"/>
                      <a:pt x="11719" y="3"/>
                      <a:pt x="11720" y="3"/>
                    </a:cubicBezTo>
                    <a:close/>
                    <a:moveTo>
                      <a:pt x="11728" y="3"/>
                    </a:moveTo>
                    <a:lnTo>
                      <a:pt x="11728" y="3"/>
                    </a:lnTo>
                    <a:cubicBezTo>
                      <a:pt x="11729" y="3"/>
                      <a:pt x="11730" y="4"/>
                      <a:pt x="11730" y="5"/>
                    </a:cubicBezTo>
                    <a:cubicBezTo>
                      <a:pt x="11730" y="6"/>
                      <a:pt x="11729" y="7"/>
                      <a:pt x="11728" y="7"/>
                    </a:cubicBezTo>
                    <a:lnTo>
                      <a:pt x="11728" y="7"/>
                    </a:lnTo>
                    <a:cubicBezTo>
                      <a:pt x="11727" y="7"/>
                      <a:pt x="11726" y="6"/>
                      <a:pt x="11726" y="5"/>
                    </a:cubicBezTo>
                    <a:cubicBezTo>
                      <a:pt x="11726" y="4"/>
                      <a:pt x="11727" y="3"/>
                      <a:pt x="11728" y="3"/>
                    </a:cubicBezTo>
                    <a:close/>
                    <a:moveTo>
                      <a:pt x="11736" y="3"/>
                    </a:moveTo>
                    <a:lnTo>
                      <a:pt x="11736" y="3"/>
                    </a:lnTo>
                    <a:cubicBezTo>
                      <a:pt x="11737" y="3"/>
                      <a:pt x="11738" y="4"/>
                      <a:pt x="11738" y="5"/>
                    </a:cubicBezTo>
                    <a:cubicBezTo>
                      <a:pt x="11738" y="6"/>
                      <a:pt x="11737" y="7"/>
                      <a:pt x="11736" y="7"/>
                    </a:cubicBezTo>
                    <a:lnTo>
                      <a:pt x="11736" y="7"/>
                    </a:lnTo>
                    <a:cubicBezTo>
                      <a:pt x="11735" y="7"/>
                      <a:pt x="11734" y="6"/>
                      <a:pt x="11734" y="5"/>
                    </a:cubicBezTo>
                    <a:cubicBezTo>
                      <a:pt x="11734" y="4"/>
                      <a:pt x="11735" y="3"/>
                      <a:pt x="11736" y="3"/>
                    </a:cubicBezTo>
                    <a:close/>
                    <a:moveTo>
                      <a:pt x="11744" y="3"/>
                    </a:moveTo>
                    <a:lnTo>
                      <a:pt x="11744" y="3"/>
                    </a:lnTo>
                    <a:cubicBezTo>
                      <a:pt x="11745" y="3"/>
                      <a:pt x="11746" y="4"/>
                      <a:pt x="11746" y="5"/>
                    </a:cubicBezTo>
                    <a:cubicBezTo>
                      <a:pt x="11746" y="6"/>
                      <a:pt x="11745" y="7"/>
                      <a:pt x="11744" y="7"/>
                    </a:cubicBezTo>
                    <a:lnTo>
                      <a:pt x="11744" y="7"/>
                    </a:lnTo>
                    <a:cubicBezTo>
                      <a:pt x="11743" y="7"/>
                      <a:pt x="11742" y="6"/>
                      <a:pt x="11742" y="5"/>
                    </a:cubicBezTo>
                    <a:cubicBezTo>
                      <a:pt x="11742" y="4"/>
                      <a:pt x="11743" y="3"/>
                      <a:pt x="11744" y="3"/>
                    </a:cubicBezTo>
                    <a:close/>
                    <a:moveTo>
                      <a:pt x="11752" y="3"/>
                    </a:moveTo>
                    <a:lnTo>
                      <a:pt x="11752" y="3"/>
                    </a:lnTo>
                    <a:cubicBezTo>
                      <a:pt x="11753" y="3"/>
                      <a:pt x="11754" y="4"/>
                      <a:pt x="11754" y="5"/>
                    </a:cubicBezTo>
                    <a:cubicBezTo>
                      <a:pt x="11754" y="6"/>
                      <a:pt x="11753" y="7"/>
                      <a:pt x="11752" y="7"/>
                    </a:cubicBezTo>
                    <a:lnTo>
                      <a:pt x="11752" y="7"/>
                    </a:lnTo>
                    <a:cubicBezTo>
                      <a:pt x="11751" y="7"/>
                      <a:pt x="11750" y="6"/>
                      <a:pt x="11750" y="5"/>
                    </a:cubicBezTo>
                    <a:cubicBezTo>
                      <a:pt x="11750" y="4"/>
                      <a:pt x="11751" y="3"/>
                      <a:pt x="11752" y="3"/>
                    </a:cubicBezTo>
                    <a:close/>
                    <a:moveTo>
                      <a:pt x="11760" y="3"/>
                    </a:moveTo>
                    <a:lnTo>
                      <a:pt x="11760" y="3"/>
                    </a:lnTo>
                    <a:cubicBezTo>
                      <a:pt x="11761" y="3"/>
                      <a:pt x="11762" y="4"/>
                      <a:pt x="11762" y="5"/>
                    </a:cubicBezTo>
                    <a:cubicBezTo>
                      <a:pt x="11762" y="6"/>
                      <a:pt x="11761" y="7"/>
                      <a:pt x="11760" y="7"/>
                    </a:cubicBezTo>
                    <a:lnTo>
                      <a:pt x="11760" y="7"/>
                    </a:lnTo>
                    <a:cubicBezTo>
                      <a:pt x="11759" y="7"/>
                      <a:pt x="11758" y="6"/>
                      <a:pt x="11758" y="5"/>
                    </a:cubicBezTo>
                    <a:cubicBezTo>
                      <a:pt x="11758" y="4"/>
                      <a:pt x="11759" y="3"/>
                      <a:pt x="11760" y="3"/>
                    </a:cubicBezTo>
                    <a:close/>
                    <a:moveTo>
                      <a:pt x="11768" y="3"/>
                    </a:moveTo>
                    <a:lnTo>
                      <a:pt x="11768" y="3"/>
                    </a:lnTo>
                    <a:cubicBezTo>
                      <a:pt x="11769" y="3"/>
                      <a:pt x="11770" y="4"/>
                      <a:pt x="11770" y="5"/>
                    </a:cubicBezTo>
                    <a:cubicBezTo>
                      <a:pt x="11770" y="6"/>
                      <a:pt x="11769" y="7"/>
                      <a:pt x="11768" y="7"/>
                    </a:cubicBezTo>
                    <a:lnTo>
                      <a:pt x="11768" y="7"/>
                    </a:lnTo>
                    <a:cubicBezTo>
                      <a:pt x="11767" y="7"/>
                      <a:pt x="11766" y="6"/>
                      <a:pt x="11766" y="5"/>
                    </a:cubicBezTo>
                    <a:cubicBezTo>
                      <a:pt x="11766" y="4"/>
                      <a:pt x="11767" y="3"/>
                      <a:pt x="11768" y="3"/>
                    </a:cubicBezTo>
                    <a:close/>
                    <a:moveTo>
                      <a:pt x="11776" y="3"/>
                    </a:moveTo>
                    <a:lnTo>
                      <a:pt x="11776" y="3"/>
                    </a:lnTo>
                    <a:cubicBezTo>
                      <a:pt x="11777" y="3"/>
                      <a:pt x="11778" y="4"/>
                      <a:pt x="11778" y="5"/>
                    </a:cubicBezTo>
                    <a:cubicBezTo>
                      <a:pt x="11778" y="6"/>
                      <a:pt x="11777" y="7"/>
                      <a:pt x="11776" y="7"/>
                    </a:cubicBezTo>
                    <a:lnTo>
                      <a:pt x="11776" y="7"/>
                    </a:lnTo>
                    <a:cubicBezTo>
                      <a:pt x="11775" y="7"/>
                      <a:pt x="11774" y="6"/>
                      <a:pt x="11774" y="5"/>
                    </a:cubicBezTo>
                    <a:cubicBezTo>
                      <a:pt x="11774" y="4"/>
                      <a:pt x="11775" y="3"/>
                      <a:pt x="11776" y="3"/>
                    </a:cubicBezTo>
                    <a:close/>
                    <a:moveTo>
                      <a:pt x="11784" y="3"/>
                    </a:moveTo>
                    <a:lnTo>
                      <a:pt x="11784" y="3"/>
                    </a:lnTo>
                    <a:cubicBezTo>
                      <a:pt x="11785" y="3"/>
                      <a:pt x="11786" y="4"/>
                      <a:pt x="11786" y="5"/>
                    </a:cubicBezTo>
                    <a:cubicBezTo>
                      <a:pt x="11786" y="6"/>
                      <a:pt x="11785" y="7"/>
                      <a:pt x="11784" y="7"/>
                    </a:cubicBezTo>
                    <a:lnTo>
                      <a:pt x="11784" y="7"/>
                    </a:lnTo>
                    <a:cubicBezTo>
                      <a:pt x="11783" y="7"/>
                      <a:pt x="11782" y="6"/>
                      <a:pt x="11782" y="5"/>
                    </a:cubicBezTo>
                    <a:cubicBezTo>
                      <a:pt x="11782" y="4"/>
                      <a:pt x="11783" y="3"/>
                      <a:pt x="11784" y="3"/>
                    </a:cubicBezTo>
                    <a:close/>
                    <a:moveTo>
                      <a:pt x="11792" y="3"/>
                    </a:moveTo>
                    <a:lnTo>
                      <a:pt x="11792" y="3"/>
                    </a:lnTo>
                    <a:cubicBezTo>
                      <a:pt x="11793" y="3"/>
                      <a:pt x="11794" y="4"/>
                      <a:pt x="11794" y="5"/>
                    </a:cubicBezTo>
                    <a:cubicBezTo>
                      <a:pt x="11794" y="6"/>
                      <a:pt x="11793" y="7"/>
                      <a:pt x="11792" y="7"/>
                    </a:cubicBezTo>
                    <a:lnTo>
                      <a:pt x="11792" y="7"/>
                    </a:lnTo>
                    <a:cubicBezTo>
                      <a:pt x="11791" y="7"/>
                      <a:pt x="11790" y="6"/>
                      <a:pt x="11790" y="5"/>
                    </a:cubicBezTo>
                    <a:cubicBezTo>
                      <a:pt x="11790" y="4"/>
                      <a:pt x="11791" y="3"/>
                      <a:pt x="11792" y="3"/>
                    </a:cubicBezTo>
                    <a:close/>
                    <a:moveTo>
                      <a:pt x="11800" y="3"/>
                    </a:moveTo>
                    <a:lnTo>
                      <a:pt x="11800" y="3"/>
                    </a:lnTo>
                    <a:cubicBezTo>
                      <a:pt x="11801" y="3"/>
                      <a:pt x="11802" y="4"/>
                      <a:pt x="11802" y="5"/>
                    </a:cubicBezTo>
                    <a:cubicBezTo>
                      <a:pt x="11802" y="6"/>
                      <a:pt x="11801" y="7"/>
                      <a:pt x="11800" y="7"/>
                    </a:cubicBezTo>
                    <a:lnTo>
                      <a:pt x="11800" y="7"/>
                    </a:lnTo>
                    <a:cubicBezTo>
                      <a:pt x="11799" y="7"/>
                      <a:pt x="11798" y="6"/>
                      <a:pt x="11798" y="5"/>
                    </a:cubicBezTo>
                    <a:cubicBezTo>
                      <a:pt x="11798" y="4"/>
                      <a:pt x="11799" y="3"/>
                      <a:pt x="11800" y="3"/>
                    </a:cubicBezTo>
                    <a:close/>
                    <a:moveTo>
                      <a:pt x="11808" y="3"/>
                    </a:moveTo>
                    <a:lnTo>
                      <a:pt x="11808" y="3"/>
                    </a:lnTo>
                    <a:cubicBezTo>
                      <a:pt x="11809" y="3"/>
                      <a:pt x="11810" y="4"/>
                      <a:pt x="11810" y="5"/>
                    </a:cubicBezTo>
                    <a:cubicBezTo>
                      <a:pt x="11810" y="6"/>
                      <a:pt x="11809" y="7"/>
                      <a:pt x="11808" y="7"/>
                    </a:cubicBezTo>
                    <a:lnTo>
                      <a:pt x="11808" y="7"/>
                    </a:lnTo>
                    <a:cubicBezTo>
                      <a:pt x="11807" y="7"/>
                      <a:pt x="11806" y="6"/>
                      <a:pt x="11806" y="5"/>
                    </a:cubicBezTo>
                    <a:cubicBezTo>
                      <a:pt x="11806" y="4"/>
                      <a:pt x="11807" y="3"/>
                      <a:pt x="11808" y="3"/>
                    </a:cubicBezTo>
                    <a:close/>
                    <a:moveTo>
                      <a:pt x="11816" y="3"/>
                    </a:moveTo>
                    <a:lnTo>
                      <a:pt x="11816" y="3"/>
                    </a:lnTo>
                    <a:cubicBezTo>
                      <a:pt x="11817" y="3"/>
                      <a:pt x="11818" y="4"/>
                      <a:pt x="11818" y="5"/>
                    </a:cubicBezTo>
                    <a:cubicBezTo>
                      <a:pt x="11818" y="6"/>
                      <a:pt x="11817" y="7"/>
                      <a:pt x="11816" y="7"/>
                    </a:cubicBezTo>
                    <a:lnTo>
                      <a:pt x="11816" y="7"/>
                    </a:lnTo>
                    <a:cubicBezTo>
                      <a:pt x="11815" y="7"/>
                      <a:pt x="11814" y="6"/>
                      <a:pt x="11814" y="5"/>
                    </a:cubicBezTo>
                    <a:cubicBezTo>
                      <a:pt x="11814" y="4"/>
                      <a:pt x="11815" y="3"/>
                      <a:pt x="11816" y="3"/>
                    </a:cubicBezTo>
                    <a:close/>
                    <a:moveTo>
                      <a:pt x="11824" y="3"/>
                    </a:moveTo>
                    <a:lnTo>
                      <a:pt x="11824" y="3"/>
                    </a:lnTo>
                    <a:cubicBezTo>
                      <a:pt x="11825" y="3"/>
                      <a:pt x="11826" y="4"/>
                      <a:pt x="11826" y="5"/>
                    </a:cubicBezTo>
                    <a:cubicBezTo>
                      <a:pt x="11826" y="6"/>
                      <a:pt x="11825" y="7"/>
                      <a:pt x="11824" y="7"/>
                    </a:cubicBezTo>
                    <a:lnTo>
                      <a:pt x="11824" y="7"/>
                    </a:lnTo>
                    <a:cubicBezTo>
                      <a:pt x="11823" y="7"/>
                      <a:pt x="11822" y="6"/>
                      <a:pt x="11822" y="5"/>
                    </a:cubicBezTo>
                    <a:cubicBezTo>
                      <a:pt x="11822" y="4"/>
                      <a:pt x="11823" y="3"/>
                      <a:pt x="11824" y="3"/>
                    </a:cubicBezTo>
                    <a:close/>
                    <a:moveTo>
                      <a:pt x="11832" y="3"/>
                    </a:moveTo>
                    <a:lnTo>
                      <a:pt x="11832" y="3"/>
                    </a:lnTo>
                    <a:cubicBezTo>
                      <a:pt x="11833" y="3"/>
                      <a:pt x="11834" y="4"/>
                      <a:pt x="11834" y="5"/>
                    </a:cubicBezTo>
                    <a:cubicBezTo>
                      <a:pt x="11834" y="6"/>
                      <a:pt x="11833" y="7"/>
                      <a:pt x="11832" y="7"/>
                    </a:cubicBezTo>
                    <a:lnTo>
                      <a:pt x="11832" y="7"/>
                    </a:lnTo>
                    <a:cubicBezTo>
                      <a:pt x="11831" y="7"/>
                      <a:pt x="11830" y="6"/>
                      <a:pt x="11830" y="5"/>
                    </a:cubicBezTo>
                    <a:cubicBezTo>
                      <a:pt x="11830" y="4"/>
                      <a:pt x="11831" y="3"/>
                      <a:pt x="11832" y="3"/>
                    </a:cubicBezTo>
                    <a:close/>
                    <a:moveTo>
                      <a:pt x="11840" y="3"/>
                    </a:moveTo>
                    <a:lnTo>
                      <a:pt x="11840" y="3"/>
                    </a:lnTo>
                    <a:cubicBezTo>
                      <a:pt x="11841" y="3"/>
                      <a:pt x="11842" y="4"/>
                      <a:pt x="11842" y="5"/>
                    </a:cubicBezTo>
                    <a:cubicBezTo>
                      <a:pt x="11842" y="6"/>
                      <a:pt x="11841" y="7"/>
                      <a:pt x="11840" y="7"/>
                    </a:cubicBezTo>
                    <a:lnTo>
                      <a:pt x="11840" y="7"/>
                    </a:lnTo>
                    <a:cubicBezTo>
                      <a:pt x="11839" y="7"/>
                      <a:pt x="11838" y="6"/>
                      <a:pt x="11838" y="5"/>
                    </a:cubicBezTo>
                    <a:cubicBezTo>
                      <a:pt x="11838" y="4"/>
                      <a:pt x="11839" y="3"/>
                      <a:pt x="11840" y="3"/>
                    </a:cubicBezTo>
                    <a:close/>
                    <a:moveTo>
                      <a:pt x="11848" y="3"/>
                    </a:moveTo>
                    <a:lnTo>
                      <a:pt x="11848" y="3"/>
                    </a:lnTo>
                    <a:cubicBezTo>
                      <a:pt x="11849" y="3"/>
                      <a:pt x="11850" y="4"/>
                      <a:pt x="11850" y="5"/>
                    </a:cubicBezTo>
                    <a:cubicBezTo>
                      <a:pt x="11850" y="6"/>
                      <a:pt x="11849" y="7"/>
                      <a:pt x="11848" y="7"/>
                    </a:cubicBezTo>
                    <a:lnTo>
                      <a:pt x="11848" y="7"/>
                    </a:lnTo>
                    <a:cubicBezTo>
                      <a:pt x="11847" y="7"/>
                      <a:pt x="11846" y="6"/>
                      <a:pt x="11846" y="5"/>
                    </a:cubicBezTo>
                    <a:cubicBezTo>
                      <a:pt x="11846" y="4"/>
                      <a:pt x="11847" y="3"/>
                      <a:pt x="11848" y="3"/>
                    </a:cubicBezTo>
                    <a:close/>
                    <a:moveTo>
                      <a:pt x="11856" y="3"/>
                    </a:moveTo>
                    <a:lnTo>
                      <a:pt x="11856" y="3"/>
                    </a:lnTo>
                    <a:cubicBezTo>
                      <a:pt x="11857" y="3"/>
                      <a:pt x="11858" y="4"/>
                      <a:pt x="11858" y="5"/>
                    </a:cubicBezTo>
                    <a:cubicBezTo>
                      <a:pt x="11858" y="6"/>
                      <a:pt x="11857" y="7"/>
                      <a:pt x="11856" y="7"/>
                    </a:cubicBezTo>
                    <a:lnTo>
                      <a:pt x="11856" y="7"/>
                    </a:lnTo>
                    <a:cubicBezTo>
                      <a:pt x="11855" y="7"/>
                      <a:pt x="11854" y="6"/>
                      <a:pt x="11854" y="5"/>
                    </a:cubicBezTo>
                    <a:cubicBezTo>
                      <a:pt x="11854" y="4"/>
                      <a:pt x="11855" y="3"/>
                      <a:pt x="11856" y="3"/>
                    </a:cubicBezTo>
                    <a:close/>
                    <a:moveTo>
                      <a:pt x="11864" y="3"/>
                    </a:moveTo>
                    <a:lnTo>
                      <a:pt x="11864" y="3"/>
                    </a:lnTo>
                    <a:cubicBezTo>
                      <a:pt x="11865" y="3"/>
                      <a:pt x="11866" y="4"/>
                      <a:pt x="11866" y="5"/>
                    </a:cubicBezTo>
                    <a:cubicBezTo>
                      <a:pt x="11866" y="6"/>
                      <a:pt x="11865" y="7"/>
                      <a:pt x="11864" y="7"/>
                    </a:cubicBezTo>
                    <a:lnTo>
                      <a:pt x="11864" y="7"/>
                    </a:lnTo>
                    <a:cubicBezTo>
                      <a:pt x="11863" y="7"/>
                      <a:pt x="11862" y="6"/>
                      <a:pt x="11862" y="5"/>
                    </a:cubicBezTo>
                    <a:cubicBezTo>
                      <a:pt x="11862" y="4"/>
                      <a:pt x="11863" y="3"/>
                      <a:pt x="11864" y="3"/>
                    </a:cubicBezTo>
                    <a:close/>
                    <a:moveTo>
                      <a:pt x="11872" y="3"/>
                    </a:moveTo>
                    <a:lnTo>
                      <a:pt x="11872" y="3"/>
                    </a:lnTo>
                    <a:cubicBezTo>
                      <a:pt x="11873" y="3"/>
                      <a:pt x="11874" y="4"/>
                      <a:pt x="11874" y="5"/>
                    </a:cubicBezTo>
                    <a:cubicBezTo>
                      <a:pt x="11874" y="6"/>
                      <a:pt x="11873" y="7"/>
                      <a:pt x="11872" y="7"/>
                    </a:cubicBezTo>
                    <a:lnTo>
                      <a:pt x="11872" y="7"/>
                    </a:lnTo>
                    <a:cubicBezTo>
                      <a:pt x="11871" y="7"/>
                      <a:pt x="11870" y="6"/>
                      <a:pt x="11870" y="5"/>
                    </a:cubicBezTo>
                    <a:cubicBezTo>
                      <a:pt x="11870" y="4"/>
                      <a:pt x="11871" y="3"/>
                      <a:pt x="11872" y="3"/>
                    </a:cubicBezTo>
                    <a:close/>
                    <a:moveTo>
                      <a:pt x="11880" y="3"/>
                    </a:moveTo>
                    <a:lnTo>
                      <a:pt x="11880" y="3"/>
                    </a:lnTo>
                    <a:cubicBezTo>
                      <a:pt x="11881" y="3"/>
                      <a:pt x="11882" y="4"/>
                      <a:pt x="11882" y="5"/>
                    </a:cubicBezTo>
                    <a:cubicBezTo>
                      <a:pt x="11882" y="6"/>
                      <a:pt x="11881" y="7"/>
                      <a:pt x="11880" y="7"/>
                    </a:cubicBezTo>
                    <a:lnTo>
                      <a:pt x="11880" y="7"/>
                    </a:lnTo>
                    <a:cubicBezTo>
                      <a:pt x="11879" y="7"/>
                      <a:pt x="11878" y="6"/>
                      <a:pt x="11878" y="5"/>
                    </a:cubicBezTo>
                    <a:cubicBezTo>
                      <a:pt x="11878" y="4"/>
                      <a:pt x="11879" y="3"/>
                      <a:pt x="11880" y="3"/>
                    </a:cubicBezTo>
                    <a:close/>
                    <a:moveTo>
                      <a:pt x="11888" y="3"/>
                    </a:moveTo>
                    <a:lnTo>
                      <a:pt x="11888" y="3"/>
                    </a:lnTo>
                    <a:cubicBezTo>
                      <a:pt x="11889" y="3"/>
                      <a:pt x="11890" y="4"/>
                      <a:pt x="11890" y="5"/>
                    </a:cubicBezTo>
                    <a:cubicBezTo>
                      <a:pt x="11890" y="6"/>
                      <a:pt x="11889" y="7"/>
                      <a:pt x="11888" y="7"/>
                    </a:cubicBezTo>
                    <a:lnTo>
                      <a:pt x="11888" y="7"/>
                    </a:lnTo>
                    <a:cubicBezTo>
                      <a:pt x="11887" y="7"/>
                      <a:pt x="11886" y="6"/>
                      <a:pt x="11886" y="5"/>
                    </a:cubicBezTo>
                    <a:cubicBezTo>
                      <a:pt x="11886" y="4"/>
                      <a:pt x="11887" y="3"/>
                      <a:pt x="11888" y="3"/>
                    </a:cubicBezTo>
                    <a:close/>
                    <a:moveTo>
                      <a:pt x="11896" y="3"/>
                    </a:moveTo>
                    <a:lnTo>
                      <a:pt x="11896" y="3"/>
                    </a:lnTo>
                    <a:cubicBezTo>
                      <a:pt x="11897" y="3"/>
                      <a:pt x="11898" y="4"/>
                      <a:pt x="11898" y="5"/>
                    </a:cubicBezTo>
                    <a:cubicBezTo>
                      <a:pt x="11898" y="6"/>
                      <a:pt x="11897" y="7"/>
                      <a:pt x="11896" y="7"/>
                    </a:cubicBezTo>
                    <a:lnTo>
                      <a:pt x="11896" y="7"/>
                    </a:lnTo>
                    <a:cubicBezTo>
                      <a:pt x="11895" y="7"/>
                      <a:pt x="11894" y="6"/>
                      <a:pt x="11894" y="5"/>
                    </a:cubicBezTo>
                    <a:cubicBezTo>
                      <a:pt x="11894" y="4"/>
                      <a:pt x="11895" y="3"/>
                      <a:pt x="11896" y="3"/>
                    </a:cubicBezTo>
                    <a:close/>
                    <a:moveTo>
                      <a:pt x="11904" y="3"/>
                    </a:moveTo>
                    <a:lnTo>
                      <a:pt x="11904" y="3"/>
                    </a:lnTo>
                    <a:cubicBezTo>
                      <a:pt x="11905" y="3"/>
                      <a:pt x="11906" y="4"/>
                      <a:pt x="11906" y="5"/>
                    </a:cubicBezTo>
                    <a:cubicBezTo>
                      <a:pt x="11906" y="6"/>
                      <a:pt x="11905" y="7"/>
                      <a:pt x="11904" y="7"/>
                    </a:cubicBezTo>
                    <a:lnTo>
                      <a:pt x="11904" y="7"/>
                    </a:lnTo>
                    <a:cubicBezTo>
                      <a:pt x="11903" y="7"/>
                      <a:pt x="11902" y="6"/>
                      <a:pt x="11902" y="5"/>
                    </a:cubicBezTo>
                    <a:cubicBezTo>
                      <a:pt x="11902" y="4"/>
                      <a:pt x="11903" y="3"/>
                      <a:pt x="11904" y="3"/>
                    </a:cubicBezTo>
                    <a:close/>
                    <a:moveTo>
                      <a:pt x="11912" y="3"/>
                    </a:moveTo>
                    <a:lnTo>
                      <a:pt x="11912" y="3"/>
                    </a:lnTo>
                    <a:cubicBezTo>
                      <a:pt x="11913" y="3"/>
                      <a:pt x="11914" y="4"/>
                      <a:pt x="11914" y="5"/>
                    </a:cubicBezTo>
                    <a:cubicBezTo>
                      <a:pt x="11914" y="6"/>
                      <a:pt x="11913" y="7"/>
                      <a:pt x="11912" y="7"/>
                    </a:cubicBezTo>
                    <a:lnTo>
                      <a:pt x="11912" y="7"/>
                    </a:lnTo>
                    <a:cubicBezTo>
                      <a:pt x="11911" y="7"/>
                      <a:pt x="11910" y="6"/>
                      <a:pt x="11910" y="5"/>
                    </a:cubicBezTo>
                    <a:cubicBezTo>
                      <a:pt x="11910" y="4"/>
                      <a:pt x="11911" y="3"/>
                      <a:pt x="11912" y="3"/>
                    </a:cubicBezTo>
                    <a:close/>
                    <a:moveTo>
                      <a:pt x="11920" y="3"/>
                    </a:moveTo>
                    <a:lnTo>
                      <a:pt x="11920" y="3"/>
                    </a:lnTo>
                    <a:cubicBezTo>
                      <a:pt x="11921" y="3"/>
                      <a:pt x="11922" y="4"/>
                      <a:pt x="11922" y="5"/>
                    </a:cubicBezTo>
                    <a:cubicBezTo>
                      <a:pt x="11922" y="6"/>
                      <a:pt x="11921" y="7"/>
                      <a:pt x="11920" y="7"/>
                    </a:cubicBezTo>
                    <a:lnTo>
                      <a:pt x="11920" y="7"/>
                    </a:lnTo>
                    <a:cubicBezTo>
                      <a:pt x="11919" y="7"/>
                      <a:pt x="11918" y="6"/>
                      <a:pt x="11918" y="5"/>
                    </a:cubicBezTo>
                    <a:cubicBezTo>
                      <a:pt x="11918" y="4"/>
                      <a:pt x="11919" y="3"/>
                      <a:pt x="11920" y="3"/>
                    </a:cubicBezTo>
                    <a:close/>
                    <a:moveTo>
                      <a:pt x="11928" y="3"/>
                    </a:moveTo>
                    <a:lnTo>
                      <a:pt x="11928" y="3"/>
                    </a:lnTo>
                    <a:cubicBezTo>
                      <a:pt x="11929" y="3"/>
                      <a:pt x="11930" y="4"/>
                      <a:pt x="11930" y="5"/>
                    </a:cubicBezTo>
                    <a:cubicBezTo>
                      <a:pt x="11930" y="6"/>
                      <a:pt x="11929" y="7"/>
                      <a:pt x="11928" y="7"/>
                    </a:cubicBezTo>
                    <a:lnTo>
                      <a:pt x="11928" y="7"/>
                    </a:lnTo>
                    <a:cubicBezTo>
                      <a:pt x="11927" y="7"/>
                      <a:pt x="11926" y="6"/>
                      <a:pt x="11926" y="5"/>
                    </a:cubicBezTo>
                    <a:cubicBezTo>
                      <a:pt x="11926" y="4"/>
                      <a:pt x="11927" y="3"/>
                      <a:pt x="11928" y="3"/>
                    </a:cubicBezTo>
                    <a:close/>
                    <a:moveTo>
                      <a:pt x="11936" y="3"/>
                    </a:moveTo>
                    <a:lnTo>
                      <a:pt x="11936" y="3"/>
                    </a:lnTo>
                    <a:cubicBezTo>
                      <a:pt x="11937" y="3"/>
                      <a:pt x="11938" y="4"/>
                      <a:pt x="11938" y="5"/>
                    </a:cubicBezTo>
                    <a:cubicBezTo>
                      <a:pt x="11938" y="6"/>
                      <a:pt x="11937" y="7"/>
                      <a:pt x="11936" y="7"/>
                    </a:cubicBezTo>
                    <a:lnTo>
                      <a:pt x="11936" y="7"/>
                    </a:lnTo>
                    <a:cubicBezTo>
                      <a:pt x="11935" y="7"/>
                      <a:pt x="11934" y="6"/>
                      <a:pt x="11934" y="5"/>
                    </a:cubicBezTo>
                    <a:cubicBezTo>
                      <a:pt x="11934" y="4"/>
                      <a:pt x="11935" y="3"/>
                      <a:pt x="11936" y="3"/>
                    </a:cubicBezTo>
                    <a:close/>
                    <a:moveTo>
                      <a:pt x="11944" y="3"/>
                    </a:moveTo>
                    <a:lnTo>
                      <a:pt x="11944" y="3"/>
                    </a:lnTo>
                    <a:cubicBezTo>
                      <a:pt x="11945" y="3"/>
                      <a:pt x="11946" y="4"/>
                      <a:pt x="11946" y="5"/>
                    </a:cubicBezTo>
                    <a:cubicBezTo>
                      <a:pt x="11946" y="6"/>
                      <a:pt x="11945" y="7"/>
                      <a:pt x="11944" y="7"/>
                    </a:cubicBezTo>
                    <a:lnTo>
                      <a:pt x="11944" y="7"/>
                    </a:lnTo>
                    <a:cubicBezTo>
                      <a:pt x="11943" y="7"/>
                      <a:pt x="11942" y="6"/>
                      <a:pt x="11942" y="5"/>
                    </a:cubicBezTo>
                    <a:cubicBezTo>
                      <a:pt x="11942" y="4"/>
                      <a:pt x="11943" y="3"/>
                      <a:pt x="11944" y="3"/>
                    </a:cubicBezTo>
                    <a:close/>
                    <a:moveTo>
                      <a:pt x="11952" y="3"/>
                    </a:moveTo>
                    <a:lnTo>
                      <a:pt x="11952" y="3"/>
                    </a:lnTo>
                    <a:cubicBezTo>
                      <a:pt x="11953" y="3"/>
                      <a:pt x="11954" y="4"/>
                      <a:pt x="11954" y="5"/>
                    </a:cubicBezTo>
                    <a:cubicBezTo>
                      <a:pt x="11954" y="6"/>
                      <a:pt x="11953" y="7"/>
                      <a:pt x="11952" y="7"/>
                    </a:cubicBezTo>
                    <a:lnTo>
                      <a:pt x="11952" y="7"/>
                    </a:lnTo>
                    <a:cubicBezTo>
                      <a:pt x="11951" y="7"/>
                      <a:pt x="11950" y="6"/>
                      <a:pt x="11950" y="5"/>
                    </a:cubicBezTo>
                    <a:cubicBezTo>
                      <a:pt x="11950" y="4"/>
                      <a:pt x="11951" y="3"/>
                      <a:pt x="11952" y="3"/>
                    </a:cubicBezTo>
                    <a:close/>
                    <a:moveTo>
                      <a:pt x="11960" y="3"/>
                    </a:moveTo>
                    <a:lnTo>
                      <a:pt x="11960" y="3"/>
                    </a:lnTo>
                    <a:cubicBezTo>
                      <a:pt x="11961" y="3"/>
                      <a:pt x="11962" y="4"/>
                      <a:pt x="11962" y="5"/>
                    </a:cubicBezTo>
                    <a:cubicBezTo>
                      <a:pt x="11962" y="6"/>
                      <a:pt x="11961" y="7"/>
                      <a:pt x="11960" y="7"/>
                    </a:cubicBezTo>
                    <a:lnTo>
                      <a:pt x="11960" y="7"/>
                    </a:lnTo>
                    <a:cubicBezTo>
                      <a:pt x="11959" y="7"/>
                      <a:pt x="11958" y="6"/>
                      <a:pt x="11958" y="5"/>
                    </a:cubicBezTo>
                    <a:cubicBezTo>
                      <a:pt x="11958" y="4"/>
                      <a:pt x="11959" y="3"/>
                      <a:pt x="11960" y="3"/>
                    </a:cubicBezTo>
                    <a:close/>
                    <a:moveTo>
                      <a:pt x="11968" y="3"/>
                    </a:moveTo>
                    <a:lnTo>
                      <a:pt x="11968" y="3"/>
                    </a:lnTo>
                    <a:cubicBezTo>
                      <a:pt x="11969" y="3"/>
                      <a:pt x="11970" y="4"/>
                      <a:pt x="11970" y="5"/>
                    </a:cubicBezTo>
                    <a:cubicBezTo>
                      <a:pt x="11970" y="6"/>
                      <a:pt x="11969" y="7"/>
                      <a:pt x="11968" y="7"/>
                    </a:cubicBezTo>
                    <a:lnTo>
                      <a:pt x="11968" y="7"/>
                    </a:lnTo>
                    <a:cubicBezTo>
                      <a:pt x="11967" y="7"/>
                      <a:pt x="11966" y="6"/>
                      <a:pt x="11966" y="5"/>
                    </a:cubicBezTo>
                    <a:cubicBezTo>
                      <a:pt x="11966" y="4"/>
                      <a:pt x="11967" y="3"/>
                      <a:pt x="11968" y="3"/>
                    </a:cubicBezTo>
                    <a:close/>
                    <a:moveTo>
                      <a:pt x="11976" y="3"/>
                    </a:moveTo>
                    <a:lnTo>
                      <a:pt x="11976" y="3"/>
                    </a:lnTo>
                    <a:cubicBezTo>
                      <a:pt x="11977" y="3"/>
                      <a:pt x="11978" y="4"/>
                      <a:pt x="11978" y="5"/>
                    </a:cubicBezTo>
                    <a:cubicBezTo>
                      <a:pt x="11978" y="6"/>
                      <a:pt x="11977" y="7"/>
                      <a:pt x="11976" y="7"/>
                    </a:cubicBezTo>
                    <a:lnTo>
                      <a:pt x="11976" y="7"/>
                    </a:lnTo>
                    <a:cubicBezTo>
                      <a:pt x="11975" y="7"/>
                      <a:pt x="11974" y="6"/>
                      <a:pt x="11974" y="5"/>
                    </a:cubicBezTo>
                    <a:cubicBezTo>
                      <a:pt x="11974" y="4"/>
                      <a:pt x="11975" y="3"/>
                      <a:pt x="11976" y="3"/>
                    </a:cubicBezTo>
                    <a:close/>
                    <a:moveTo>
                      <a:pt x="11984" y="3"/>
                    </a:moveTo>
                    <a:lnTo>
                      <a:pt x="11984" y="3"/>
                    </a:lnTo>
                    <a:cubicBezTo>
                      <a:pt x="11985" y="3"/>
                      <a:pt x="11986" y="4"/>
                      <a:pt x="11986" y="5"/>
                    </a:cubicBezTo>
                    <a:cubicBezTo>
                      <a:pt x="11986" y="6"/>
                      <a:pt x="11985" y="7"/>
                      <a:pt x="11984" y="7"/>
                    </a:cubicBezTo>
                    <a:lnTo>
                      <a:pt x="11984" y="7"/>
                    </a:lnTo>
                    <a:cubicBezTo>
                      <a:pt x="11983" y="7"/>
                      <a:pt x="11982" y="6"/>
                      <a:pt x="11982" y="5"/>
                    </a:cubicBezTo>
                    <a:cubicBezTo>
                      <a:pt x="11982" y="4"/>
                      <a:pt x="11983" y="3"/>
                      <a:pt x="11984" y="3"/>
                    </a:cubicBezTo>
                    <a:close/>
                    <a:moveTo>
                      <a:pt x="11992" y="3"/>
                    </a:moveTo>
                    <a:lnTo>
                      <a:pt x="11992" y="3"/>
                    </a:lnTo>
                    <a:cubicBezTo>
                      <a:pt x="11993" y="3"/>
                      <a:pt x="11994" y="4"/>
                      <a:pt x="11994" y="5"/>
                    </a:cubicBezTo>
                    <a:cubicBezTo>
                      <a:pt x="11994" y="6"/>
                      <a:pt x="11993" y="7"/>
                      <a:pt x="11992" y="7"/>
                    </a:cubicBezTo>
                    <a:lnTo>
                      <a:pt x="11992" y="7"/>
                    </a:lnTo>
                    <a:cubicBezTo>
                      <a:pt x="11991" y="7"/>
                      <a:pt x="11990" y="6"/>
                      <a:pt x="11990" y="5"/>
                    </a:cubicBezTo>
                    <a:cubicBezTo>
                      <a:pt x="11990" y="4"/>
                      <a:pt x="11991" y="3"/>
                      <a:pt x="11992" y="3"/>
                    </a:cubicBezTo>
                    <a:close/>
                    <a:moveTo>
                      <a:pt x="12000" y="3"/>
                    </a:moveTo>
                    <a:lnTo>
                      <a:pt x="12000" y="3"/>
                    </a:lnTo>
                    <a:cubicBezTo>
                      <a:pt x="12001" y="3"/>
                      <a:pt x="12002" y="4"/>
                      <a:pt x="12002" y="5"/>
                    </a:cubicBezTo>
                    <a:cubicBezTo>
                      <a:pt x="12002" y="6"/>
                      <a:pt x="12001" y="7"/>
                      <a:pt x="12000" y="7"/>
                    </a:cubicBezTo>
                    <a:lnTo>
                      <a:pt x="12000" y="7"/>
                    </a:lnTo>
                    <a:cubicBezTo>
                      <a:pt x="11999" y="7"/>
                      <a:pt x="11998" y="6"/>
                      <a:pt x="11998" y="5"/>
                    </a:cubicBezTo>
                    <a:cubicBezTo>
                      <a:pt x="11998" y="4"/>
                      <a:pt x="11999" y="3"/>
                      <a:pt x="12000" y="3"/>
                    </a:cubicBezTo>
                    <a:close/>
                    <a:moveTo>
                      <a:pt x="12008" y="3"/>
                    </a:moveTo>
                    <a:lnTo>
                      <a:pt x="12008" y="3"/>
                    </a:lnTo>
                    <a:cubicBezTo>
                      <a:pt x="12009" y="3"/>
                      <a:pt x="12010" y="4"/>
                      <a:pt x="12010" y="5"/>
                    </a:cubicBezTo>
                    <a:cubicBezTo>
                      <a:pt x="12010" y="6"/>
                      <a:pt x="12009" y="7"/>
                      <a:pt x="12008" y="7"/>
                    </a:cubicBezTo>
                    <a:lnTo>
                      <a:pt x="12008" y="7"/>
                    </a:lnTo>
                    <a:cubicBezTo>
                      <a:pt x="12007" y="7"/>
                      <a:pt x="12006" y="6"/>
                      <a:pt x="12006" y="5"/>
                    </a:cubicBezTo>
                    <a:cubicBezTo>
                      <a:pt x="12006" y="4"/>
                      <a:pt x="12007" y="3"/>
                      <a:pt x="12008" y="3"/>
                    </a:cubicBezTo>
                    <a:close/>
                    <a:moveTo>
                      <a:pt x="12016" y="3"/>
                    </a:moveTo>
                    <a:lnTo>
                      <a:pt x="12016" y="3"/>
                    </a:lnTo>
                    <a:cubicBezTo>
                      <a:pt x="12017" y="3"/>
                      <a:pt x="12018" y="4"/>
                      <a:pt x="12018" y="5"/>
                    </a:cubicBezTo>
                    <a:cubicBezTo>
                      <a:pt x="12018" y="6"/>
                      <a:pt x="12017" y="7"/>
                      <a:pt x="12016" y="7"/>
                    </a:cubicBezTo>
                    <a:lnTo>
                      <a:pt x="12016" y="7"/>
                    </a:lnTo>
                    <a:cubicBezTo>
                      <a:pt x="12015" y="7"/>
                      <a:pt x="12014" y="6"/>
                      <a:pt x="12014" y="5"/>
                    </a:cubicBezTo>
                    <a:cubicBezTo>
                      <a:pt x="12014" y="4"/>
                      <a:pt x="12015" y="3"/>
                      <a:pt x="12016" y="3"/>
                    </a:cubicBezTo>
                    <a:close/>
                    <a:moveTo>
                      <a:pt x="12024" y="3"/>
                    </a:moveTo>
                    <a:lnTo>
                      <a:pt x="12024" y="3"/>
                    </a:lnTo>
                    <a:cubicBezTo>
                      <a:pt x="12025" y="3"/>
                      <a:pt x="12026" y="4"/>
                      <a:pt x="12026" y="5"/>
                    </a:cubicBezTo>
                    <a:cubicBezTo>
                      <a:pt x="12026" y="6"/>
                      <a:pt x="12025" y="7"/>
                      <a:pt x="12024" y="7"/>
                    </a:cubicBezTo>
                    <a:lnTo>
                      <a:pt x="12024" y="7"/>
                    </a:lnTo>
                    <a:cubicBezTo>
                      <a:pt x="12023" y="7"/>
                      <a:pt x="12022" y="6"/>
                      <a:pt x="12022" y="5"/>
                    </a:cubicBezTo>
                    <a:cubicBezTo>
                      <a:pt x="12022" y="4"/>
                      <a:pt x="12023" y="3"/>
                      <a:pt x="12024" y="3"/>
                    </a:cubicBezTo>
                    <a:close/>
                    <a:moveTo>
                      <a:pt x="12032" y="3"/>
                    </a:moveTo>
                    <a:lnTo>
                      <a:pt x="12032" y="3"/>
                    </a:lnTo>
                    <a:cubicBezTo>
                      <a:pt x="12033" y="3"/>
                      <a:pt x="12034" y="4"/>
                      <a:pt x="12034" y="5"/>
                    </a:cubicBezTo>
                    <a:cubicBezTo>
                      <a:pt x="12034" y="6"/>
                      <a:pt x="12033" y="7"/>
                      <a:pt x="12032" y="7"/>
                    </a:cubicBezTo>
                    <a:lnTo>
                      <a:pt x="12032" y="7"/>
                    </a:lnTo>
                    <a:cubicBezTo>
                      <a:pt x="12031" y="7"/>
                      <a:pt x="12030" y="6"/>
                      <a:pt x="12030" y="5"/>
                    </a:cubicBezTo>
                    <a:cubicBezTo>
                      <a:pt x="12030" y="4"/>
                      <a:pt x="12031" y="3"/>
                      <a:pt x="12032" y="3"/>
                    </a:cubicBezTo>
                    <a:close/>
                    <a:moveTo>
                      <a:pt x="12040" y="3"/>
                    </a:moveTo>
                    <a:lnTo>
                      <a:pt x="12040" y="3"/>
                    </a:lnTo>
                    <a:cubicBezTo>
                      <a:pt x="12041" y="3"/>
                      <a:pt x="12042" y="4"/>
                      <a:pt x="12042" y="5"/>
                    </a:cubicBezTo>
                    <a:cubicBezTo>
                      <a:pt x="12042" y="6"/>
                      <a:pt x="12041" y="7"/>
                      <a:pt x="12040" y="7"/>
                    </a:cubicBezTo>
                    <a:lnTo>
                      <a:pt x="12040" y="7"/>
                    </a:lnTo>
                    <a:cubicBezTo>
                      <a:pt x="12039" y="7"/>
                      <a:pt x="12038" y="6"/>
                      <a:pt x="12038" y="5"/>
                    </a:cubicBezTo>
                    <a:cubicBezTo>
                      <a:pt x="12038" y="4"/>
                      <a:pt x="12039" y="3"/>
                      <a:pt x="12040" y="3"/>
                    </a:cubicBezTo>
                    <a:close/>
                    <a:moveTo>
                      <a:pt x="12048" y="3"/>
                    </a:moveTo>
                    <a:lnTo>
                      <a:pt x="12048" y="3"/>
                    </a:lnTo>
                    <a:cubicBezTo>
                      <a:pt x="12049" y="3"/>
                      <a:pt x="12050" y="4"/>
                      <a:pt x="12050" y="5"/>
                    </a:cubicBezTo>
                    <a:cubicBezTo>
                      <a:pt x="12050" y="6"/>
                      <a:pt x="12049" y="7"/>
                      <a:pt x="12048" y="7"/>
                    </a:cubicBezTo>
                    <a:lnTo>
                      <a:pt x="12048" y="7"/>
                    </a:lnTo>
                    <a:cubicBezTo>
                      <a:pt x="12047" y="7"/>
                      <a:pt x="12046" y="6"/>
                      <a:pt x="12046" y="5"/>
                    </a:cubicBezTo>
                    <a:cubicBezTo>
                      <a:pt x="12046" y="4"/>
                      <a:pt x="12047" y="3"/>
                      <a:pt x="12048" y="3"/>
                    </a:cubicBezTo>
                    <a:close/>
                    <a:moveTo>
                      <a:pt x="12056" y="3"/>
                    </a:moveTo>
                    <a:lnTo>
                      <a:pt x="12056" y="3"/>
                    </a:lnTo>
                    <a:cubicBezTo>
                      <a:pt x="12057" y="3"/>
                      <a:pt x="12058" y="4"/>
                      <a:pt x="12058" y="5"/>
                    </a:cubicBezTo>
                    <a:cubicBezTo>
                      <a:pt x="12058" y="6"/>
                      <a:pt x="12057" y="7"/>
                      <a:pt x="12056" y="7"/>
                    </a:cubicBezTo>
                    <a:lnTo>
                      <a:pt x="12056" y="7"/>
                    </a:lnTo>
                    <a:cubicBezTo>
                      <a:pt x="12055" y="7"/>
                      <a:pt x="12054" y="6"/>
                      <a:pt x="12054" y="5"/>
                    </a:cubicBezTo>
                    <a:cubicBezTo>
                      <a:pt x="12054" y="4"/>
                      <a:pt x="12055" y="3"/>
                      <a:pt x="12056" y="3"/>
                    </a:cubicBezTo>
                    <a:close/>
                    <a:moveTo>
                      <a:pt x="12064" y="3"/>
                    </a:moveTo>
                    <a:lnTo>
                      <a:pt x="12064" y="3"/>
                    </a:lnTo>
                    <a:cubicBezTo>
                      <a:pt x="12065" y="3"/>
                      <a:pt x="12066" y="4"/>
                      <a:pt x="12066" y="5"/>
                    </a:cubicBezTo>
                    <a:cubicBezTo>
                      <a:pt x="12066" y="6"/>
                      <a:pt x="12065" y="7"/>
                      <a:pt x="12064" y="7"/>
                    </a:cubicBezTo>
                    <a:lnTo>
                      <a:pt x="12064" y="7"/>
                    </a:lnTo>
                    <a:cubicBezTo>
                      <a:pt x="12063" y="7"/>
                      <a:pt x="12062" y="6"/>
                      <a:pt x="12062" y="5"/>
                    </a:cubicBezTo>
                    <a:cubicBezTo>
                      <a:pt x="12062" y="4"/>
                      <a:pt x="12063" y="3"/>
                      <a:pt x="12064" y="3"/>
                    </a:cubicBezTo>
                    <a:close/>
                    <a:moveTo>
                      <a:pt x="12072" y="3"/>
                    </a:moveTo>
                    <a:lnTo>
                      <a:pt x="12072" y="3"/>
                    </a:lnTo>
                    <a:cubicBezTo>
                      <a:pt x="12073" y="3"/>
                      <a:pt x="12074" y="4"/>
                      <a:pt x="12074" y="5"/>
                    </a:cubicBezTo>
                    <a:cubicBezTo>
                      <a:pt x="12074" y="6"/>
                      <a:pt x="12073" y="7"/>
                      <a:pt x="12072" y="7"/>
                    </a:cubicBezTo>
                    <a:lnTo>
                      <a:pt x="12072" y="7"/>
                    </a:lnTo>
                    <a:cubicBezTo>
                      <a:pt x="12071" y="7"/>
                      <a:pt x="12070" y="6"/>
                      <a:pt x="12070" y="5"/>
                    </a:cubicBezTo>
                    <a:cubicBezTo>
                      <a:pt x="12070" y="4"/>
                      <a:pt x="12071" y="3"/>
                      <a:pt x="12072" y="3"/>
                    </a:cubicBezTo>
                    <a:close/>
                    <a:moveTo>
                      <a:pt x="12080" y="3"/>
                    </a:moveTo>
                    <a:lnTo>
                      <a:pt x="12080" y="3"/>
                    </a:lnTo>
                    <a:cubicBezTo>
                      <a:pt x="12081" y="3"/>
                      <a:pt x="12082" y="4"/>
                      <a:pt x="12082" y="5"/>
                    </a:cubicBezTo>
                    <a:cubicBezTo>
                      <a:pt x="12082" y="6"/>
                      <a:pt x="12081" y="7"/>
                      <a:pt x="12080" y="7"/>
                    </a:cubicBezTo>
                    <a:lnTo>
                      <a:pt x="12080" y="7"/>
                    </a:lnTo>
                    <a:cubicBezTo>
                      <a:pt x="12079" y="7"/>
                      <a:pt x="12078" y="6"/>
                      <a:pt x="12078" y="5"/>
                    </a:cubicBezTo>
                    <a:cubicBezTo>
                      <a:pt x="12078" y="4"/>
                      <a:pt x="12079" y="3"/>
                      <a:pt x="12080" y="3"/>
                    </a:cubicBezTo>
                    <a:close/>
                    <a:moveTo>
                      <a:pt x="12088" y="3"/>
                    </a:moveTo>
                    <a:lnTo>
                      <a:pt x="12088" y="3"/>
                    </a:lnTo>
                    <a:cubicBezTo>
                      <a:pt x="12089" y="3"/>
                      <a:pt x="12090" y="4"/>
                      <a:pt x="12090" y="5"/>
                    </a:cubicBezTo>
                    <a:cubicBezTo>
                      <a:pt x="12090" y="6"/>
                      <a:pt x="12089" y="7"/>
                      <a:pt x="12088" y="7"/>
                    </a:cubicBezTo>
                    <a:lnTo>
                      <a:pt x="12088" y="7"/>
                    </a:lnTo>
                    <a:cubicBezTo>
                      <a:pt x="12087" y="7"/>
                      <a:pt x="12086" y="6"/>
                      <a:pt x="12086" y="5"/>
                    </a:cubicBezTo>
                    <a:cubicBezTo>
                      <a:pt x="12086" y="4"/>
                      <a:pt x="12087" y="3"/>
                      <a:pt x="12088" y="3"/>
                    </a:cubicBezTo>
                    <a:close/>
                    <a:moveTo>
                      <a:pt x="12096" y="3"/>
                    </a:moveTo>
                    <a:lnTo>
                      <a:pt x="12096" y="3"/>
                    </a:lnTo>
                    <a:cubicBezTo>
                      <a:pt x="12097" y="3"/>
                      <a:pt x="12098" y="4"/>
                      <a:pt x="12098" y="5"/>
                    </a:cubicBezTo>
                    <a:cubicBezTo>
                      <a:pt x="12098" y="6"/>
                      <a:pt x="12097" y="7"/>
                      <a:pt x="12096" y="7"/>
                    </a:cubicBezTo>
                    <a:lnTo>
                      <a:pt x="12096" y="7"/>
                    </a:lnTo>
                    <a:cubicBezTo>
                      <a:pt x="12095" y="7"/>
                      <a:pt x="12094" y="6"/>
                      <a:pt x="12094" y="5"/>
                    </a:cubicBezTo>
                    <a:cubicBezTo>
                      <a:pt x="12094" y="4"/>
                      <a:pt x="12095" y="3"/>
                      <a:pt x="12096" y="3"/>
                    </a:cubicBezTo>
                    <a:close/>
                    <a:moveTo>
                      <a:pt x="12104" y="3"/>
                    </a:moveTo>
                    <a:lnTo>
                      <a:pt x="12104" y="3"/>
                    </a:lnTo>
                    <a:cubicBezTo>
                      <a:pt x="12105" y="3"/>
                      <a:pt x="12106" y="4"/>
                      <a:pt x="12106" y="5"/>
                    </a:cubicBezTo>
                    <a:cubicBezTo>
                      <a:pt x="12106" y="6"/>
                      <a:pt x="12105" y="7"/>
                      <a:pt x="12104" y="7"/>
                    </a:cubicBezTo>
                    <a:lnTo>
                      <a:pt x="12104" y="7"/>
                    </a:lnTo>
                    <a:cubicBezTo>
                      <a:pt x="12103" y="7"/>
                      <a:pt x="12102" y="6"/>
                      <a:pt x="12102" y="5"/>
                    </a:cubicBezTo>
                    <a:cubicBezTo>
                      <a:pt x="12102" y="4"/>
                      <a:pt x="12103" y="3"/>
                      <a:pt x="12104" y="3"/>
                    </a:cubicBezTo>
                    <a:close/>
                    <a:moveTo>
                      <a:pt x="12112" y="3"/>
                    </a:moveTo>
                    <a:lnTo>
                      <a:pt x="12112" y="3"/>
                    </a:lnTo>
                    <a:cubicBezTo>
                      <a:pt x="12113" y="3"/>
                      <a:pt x="12114" y="4"/>
                      <a:pt x="12114" y="5"/>
                    </a:cubicBezTo>
                    <a:cubicBezTo>
                      <a:pt x="12114" y="6"/>
                      <a:pt x="12113" y="7"/>
                      <a:pt x="12112" y="7"/>
                    </a:cubicBezTo>
                    <a:lnTo>
                      <a:pt x="12112" y="7"/>
                    </a:lnTo>
                    <a:cubicBezTo>
                      <a:pt x="12111" y="7"/>
                      <a:pt x="12110" y="6"/>
                      <a:pt x="12110" y="5"/>
                    </a:cubicBezTo>
                    <a:cubicBezTo>
                      <a:pt x="12110" y="4"/>
                      <a:pt x="12111" y="3"/>
                      <a:pt x="12112" y="3"/>
                    </a:cubicBezTo>
                    <a:close/>
                    <a:moveTo>
                      <a:pt x="12120" y="3"/>
                    </a:moveTo>
                    <a:lnTo>
                      <a:pt x="12120" y="3"/>
                    </a:lnTo>
                    <a:cubicBezTo>
                      <a:pt x="12121" y="3"/>
                      <a:pt x="12122" y="4"/>
                      <a:pt x="12122" y="5"/>
                    </a:cubicBezTo>
                    <a:cubicBezTo>
                      <a:pt x="12122" y="6"/>
                      <a:pt x="12121" y="7"/>
                      <a:pt x="12120" y="7"/>
                    </a:cubicBezTo>
                    <a:lnTo>
                      <a:pt x="12120" y="7"/>
                    </a:lnTo>
                    <a:cubicBezTo>
                      <a:pt x="12119" y="7"/>
                      <a:pt x="12118" y="6"/>
                      <a:pt x="12118" y="5"/>
                    </a:cubicBezTo>
                    <a:cubicBezTo>
                      <a:pt x="12118" y="4"/>
                      <a:pt x="12119" y="3"/>
                      <a:pt x="12120" y="3"/>
                    </a:cubicBezTo>
                    <a:close/>
                    <a:moveTo>
                      <a:pt x="12128" y="3"/>
                    </a:moveTo>
                    <a:lnTo>
                      <a:pt x="12128" y="3"/>
                    </a:lnTo>
                    <a:cubicBezTo>
                      <a:pt x="12129" y="3"/>
                      <a:pt x="12130" y="4"/>
                      <a:pt x="12130" y="5"/>
                    </a:cubicBezTo>
                    <a:cubicBezTo>
                      <a:pt x="12130" y="6"/>
                      <a:pt x="12129" y="7"/>
                      <a:pt x="12128" y="7"/>
                    </a:cubicBezTo>
                    <a:lnTo>
                      <a:pt x="12128" y="7"/>
                    </a:lnTo>
                    <a:cubicBezTo>
                      <a:pt x="12127" y="7"/>
                      <a:pt x="12126" y="6"/>
                      <a:pt x="12126" y="5"/>
                    </a:cubicBezTo>
                    <a:cubicBezTo>
                      <a:pt x="12126" y="4"/>
                      <a:pt x="12127" y="3"/>
                      <a:pt x="12128" y="3"/>
                    </a:cubicBezTo>
                    <a:close/>
                    <a:moveTo>
                      <a:pt x="12136" y="3"/>
                    </a:moveTo>
                    <a:lnTo>
                      <a:pt x="12136" y="3"/>
                    </a:lnTo>
                    <a:cubicBezTo>
                      <a:pt x="12137" y="3"/>
                      <a:pt x="12138" y="4"/>
                      <a:pt x="12138" y="5"/>
                    </a:cubicBezTo>
                    <a:cubicBezTo>
                      <a:pt x="12138" y="6"/>
                      <a:pt x="12137" y="7"/>
                      <a:pt x="12136" y="7"/>
                    </a:cubicBezTo>
                    <a:lnTo>
                      <a:pt x="12136" y="7"/>
                    </a:lnTo>
                    <a:cubicBezTo>
                      <a:pt x="12135" y="7"/>
                      <a:pt x="12134" y="6"/>
                      <a:pt x="12134" y="5"/>
                    </a:cubicBezTo>
                    <a:cubicBezTo>
                      <a:pt x="12134" y="4"/>
                      <a:pt x="12135" y="3"/>
                      <a:pt x="12136" y="3"/>
                    </a:cubicBezTo>
                    <a:close/>
                    <a:moveTo>
                      <a:pt x="12144" y="3"/>
                    </a:moveTo>
                    <a:lnTo>
                      <a:pt x="12144" y="3"/>
                    </a:lnTo>
                    <a:cubicBezTo>
                      <a:pt x="12145" y="3"/>
                      <a:pt x="12146" y="4"/>
                      <a:pt x="12146" y="5"/>
                    </a:cubicBezTo>
                    <a:cubicBezTo>
                      <a:pt x="12146" y="6"/>
                      <a:pt x="12145" y="7"/>
                      <a:pt x="12144" y="7"/>
                    </a:cubicBezTo>
                    <a:lnTo>
                      <a:pt x="12144" y="7"/>
                    </a:lnTo>
                    <a:cubicBezTo>
                      <a:pt x="12143" y="7"/>
                      <a:pt x="12142" y="6"/>
                      <a:pt x="12142" y="5"/>
                    </a:cubicBezTo>
                    <a:cubicBezTo>
                      <a:pt x="12142" y="4"/>
                      <a:pt x="12143" y="3"/>
                      <a:pt x="12144" y="3"/>
                    </a:cubicBezTo>
                    <a:close/>
                    <a:moveTo>
                      <a:pt x="12152" y="3"/>
                    </a:moveTo>
                    <a:lnTo>
                      <a:pt x="12152" y="3"/>
                    </a:lnTo>
                    <a:cubicBezTo>
                      <a:pt x="12153" y="3"/>
                      <a:pt x="12154" y="4"/>
                      <a:pt x="12154" y="5"/>
                    </a:cubicBezTo>
                    <a:cubicBezTo>
                      <a:pt x="12154" y="6"/>
                      <a:pt x="12153" y="7"/>
                      <a:pt x="12152" y="7"/>
                    </a:cubicBezTo>
                    <a:lnTo>
                      <a:pt x="12152" y="7"/>
                    </a:lnTo>
                    <a:cubicBezTo>
                      <a:pt x="12151" y="7"/>
                      <a:pt x="12150" y="6"/>
                      <a:pt x="12150" y="5"/>
                    </a:cubicBezTo>
                    <a:cubicBezTo>
                      <a:pt x="12150" y="4"/>
                      <a:pt x="12151" y="3"/>
                      <a:pt x="12152" y="3"/>
                    </a:cubicBezTo>
                    <a:close/>
                    <a:moveTo>
                      <a:pt x="12160" y="3"/>
                    </a:moveTo>
                    <a:lnTo>
                      <a:pt x="12160" y="3"/>
                    </a:lnTo>
                    <a:cubicBezTo>
                      <a:pt x="12161" y="3"/>
                      <a:pt x="12162" y="4"/>
                      <a:pt x="12162" y="5"/>
                    </a:cubicBezTo>
                    <a:cubicBezTo>
                      <a:pt x="12162" y="6"/>
                      <a:pt x="12161" y="7"/>
                      <a:pt x="12160" y="7"/>
                    </a:cubicBezTo>
                    <a:lnTo>
                      <a:pt x="12160" y="7"/>
                    </a:lnTo>
                    <a:cubicBezTo>
                      <a:pt x="12159" y="7"/>
                      <a:pt x="12158" y="6"/>
                      <a:pt x="12158" y="5"/>
                    </a:cubicBezTo>
                    <a:cubicBezTo>
                      <a:pt x="12158" y="4"/>
                      <a:pt x="12159" y="3"/>
                      <a:pt x="12160" y="3"/>
                    </a:cubicBezTo>
                    <a:close/>
                    <a:moveTo>
                      <a:pt x="12168" y="3"/>
                    </a:moveTo>
                    <a:lnTo>
                      <a:pt x="12168" y="3"/>
                    </a:lnTo>
                    <a:cubicBezTo>
                      <a:pt x="12169" y="3"/>
                      <a:pt x="12170" y="4"/>
                      <a:pt x="12170" y="5"/>
                    </a:cubicBezTo>
                    <a:cubicBezTo>
                      <a:pt x="12170" y="6"/>
                      <a:pt x="12169" y="7"/>
                      <a:pt x="12168" y="7"/>
                    </a:cubicBezTo>
                    <a:lnTo>
                      <a:pt x="12168" y="7"/>
                    </a:lnTo>
                    <a:cubicBezTo>
                      <a:pt x="12167" y="7"/>
                      <a:pt x="12166" y="6"/>
                      <a:pt x="12166" y="5"/>
                    </a:cubicBezTo>
                    <a:cubicBezTo>
                      <a:pt x="12166" y="4"/>
                      <a:pt x="12167" y="3"/>
                      <a:pt x="12168" y="3"/>
                    </a:cubicBezTo>
                    <a:close/>
                    <a:moveTo>
                      <a:pt x="12176" y="3"/>
                    </a:moveTo>
                    <a:lnTo>
                      <a:pt x="12176" y="3"/>
                    </a:lnTo>
                    <a:cubicBezTo>
                      <a:pt x="12177" y="3"/>
                      <a:pt x="12178" y="4"/>
                      <a:pt x="12178" y="5"/>
                    </a:cubicBezTo>
                    <a:cubicBezTo>
                      <a:pt x="12178" y="6"/>
                      <a:pt x="12177" y="7"/>
                      <a:pt x="12176" y="7"/>
                    </a:cubicBezTo>
                    <a:lnTo>
                      <a:pt x="12176" y="7"/>
                    </a:lnTo>
                    <a:cubicBezTo>
                      <a:pt x="12175" y="7"/>
                      <a:pt x="12174" y="6"/>
                      <a:pt x="12174" y="5"/>
                    </a:cubicBezTo>
                    <a:cubicBezTo>
                      <a:pt x="12174" y="4"/>
                      <a:pt x="12175" y="3"/>
                      <a:pt x="12176" y="3"/>
                    </a:cubicBezTo>
                    <a:close/>
                    <a:moveTo>
                      <a:pt x="12184" y="3"/>
                    </a:moveTo>
                    <a:lnTo>
                      <a:pt x="12184" y="3"/>
                    </a:lnTo>
                    <a:cubicBezTo>
                      <a:pt x="12185" y="3"/>
                      <a:pt x="12186" y="4"/>
                      <a:pt x="12186" y="5"/>
                    </a:cubicBezTo>
                    <a:cubicBezTo>
                      <a:pt x="12186" y="6"/>
                      <a:pt x="12185" y="7"/>
                      <a:pt x="12184" y="7"/>
                    </a:cubicBezTo>
                    <a:lnTo>
                      <a:pt x="12184" y="7"/>
                    </a:lnTo>
                    <a:cubicBezTo>
                      <a:pt x="12183" y="7"/>
                      <a:pt x="12182" y="6"/>
                      <a:pt x="12182" y="5"/>
                    </a:cubicBezTo>
                    <a:cubicBezTo>
                      <a:pt x="12182" y="4"/>
                      <a:pt x="12183" y="3"/>
                      <a:pt x="12184" y="3"/>
                    </a:cubicBezTo>
                    <a:close/>
                    <a:moveTo>
                      <a:pt x="12192" y="3"/>
                    </a:moveTo>
                    <a:lnTo>
                      <a:pt x="12192" y="3"/>
                    </a:lnTo>
                    <a:cubicBezTo>
                      <a:pt x="12193" y="3"/>
                      <a:pt x="12194" y="4"/>
                      <a:pt x="12194" y="5"/>
                    </a:cubicBezTo>
                    <a:cubicBezTo>
                      <a:pt x="12194" y="6"/>
                      <a:pt x="12193" y="7"/>
                      <a:pt x="12192" y="7"/>
                    </a:cubicBezTo>
                    <a:lnTo>
                      <a:pt x="12192" y="7"/>
                    </a:lnTo>
                    <a:cubicBezTo>
                      <a:pt x="12191" y="7"/>
                      <a:pt x="12190" y="6"/>
                      <a:pt x="12190" y="5"/>
                    </a:cubicBezTo>
                    <a:cubicBezTo>
                      <a:pt x="12190" y="4"/>
                      <a:pt x="12191" y="3"/>
                      <a:pt x="12192" y="3"/>
                    </a:cubicBezTo>
                    <a:close/>
                    <a:moveTo>
                      <a:pt x="12200" y="3"/>
                    </a:moveTo>
                    <a:lnTo>
                      <a:pt x="12200" y="3"/>
                    </a:lnTo>
                    <a:cubicBezTo>
                      <a:pt x="12201" y="3"/>
                      <a:pt x="12202" y="4"/>
                      <a:pt x="12202" y="5"/>
                    </a:cubicBezTo>
                    <a:cubicBezTo>
                      <a:pt x="12202" y="6"/>
                      <a:pt x="12201" y="7"/>
                      <a:pt x="12200" y="7"/>
                    </a:cubicBezTo>
                    <a:lnTo>
                      <a:pt x="12200" y="7"/>
                    </a:lnTo>
                    <a:cubicBezTo>
                      <a:pt x="12199" y="7"/>
                      <a:pt x="12198" y="6"/>
                      <a:pt x="12198" y="5"/>
                    </a:cubicBezTo>
                    <a:cubicBezTo>
                      <a:pt x="12198" y="4"/>
                      <a:pt x="12199" y="3"/>
                      <a:pt x="12200" y="3"/>
                    </a:cubicBezTo>
                    <a:close/>
                    <a:moveTo>
                      <a:pt x="12208" y="3"/>
                    </a:moveTo>
                    <a:lnTo>
                      <a:pt x="12208" y="3"/>
                    </a:lnTo>
                    <a:cubicBezTo>
                      <a:pt x="12209" y="3"/>
                      <a:pt x="12210" y="4"/>
                      <a:pt x="12210" y="5"/>
                    </a:cubicBezTo>
                    <a:cubicBezTo>
                      <a:pt x="12210" y="6"/>
                      <a:pt x="12209" y="7"/>
                      <a:pt x="12208" y="7"/>
                    </a:cubicBezTo>
                    <a:lnTo>
                      <a:pt x="12208" y="7"/>
                    </a:lnTo>
                    <a:cubicBezTo>
                      <a:pt x="12207" y="7"/>
                      <a:pt x="12206" y="6"/>
                      <a:pt x="12206" y="5"/>
                    </a:cubicBezTo>
                    <a:cubicBezTo>
                      <a:pt x="12206" y="4"/>
                      <a:pt x="12207" y="3"/>
                      <a:pt x="12208" y="3"/>
                    </a:cubicBezTo>
                    <a:close/>
                    <a:moveTo>
                      <a:pt x="12216" y="3"/>
                    </a:moveTo>
                    <a:lnTo>
                      <a:pt x="12216" y="3"/>
                    </a:lnTo>
                    <a:cubicBezTo>
                      <a:pt x="12217" y="3"/>
                      <a:pt x="12218" y="4"/>
                      <a:pt x="12218" y="5"/>
                    </a:cubicBezTo>
                    <a:cubicBezTo>
                      <a:pt x="12218" y="6"/>
                      <a:pt x="12217" y="7"/>
                      <a:pt x="12216" y="7"/>
                    </a:cubicBezTo>
                    <a:lnTo>
                      <a:pt x="12216" y="7"/>
                    </a:lnTo>
                    <a:cubicBezTo>
                      <a:pt x="12215" y="7"/>
                      <a:pt x="12214" y="6"/>
                      <a:pt x="12214" y="5"/>
                    </a:cubicBezTo>
                    <a:cubicBezTo>
                      <a:pt x="12214" y="4"/>
                      <a:pt x="12215" y="3"/>
                      <a:pt x="12216" y="3"/>
                    </a:cubicBezTo>
                    <a:close/>
                    <a:moveTo>
                      <a:pt x="12224" y="3"/>
                    </a:moveTo>
                    <a:lnTo>
                      <a:pt x="12224" y="3"/>
                    </a:lnTo>
                    <a:cubicBezTo>
                      <a:pt x="12225" y="3"/>
                      <a:pt x="12226" y="4"/>
                      <a:pt x="12226" y="5"/>
                    </a:cubicBezTo>
                    <a:cubicBezTo>
                      <a:pt x="12226" y="6"/>
                      <a:pt x="12225" y="7"/>
                      <a:pt x="12224" y="7"/>
                    </a:cubicBezTo>
                    <a:lnTo>
                      <a:pt x="12224" y="7"/>
                    </a:lnTo>
                    <a:cubicBezTo>
                      <a:pt x="12223" y="7"/>
                      <a:pt x="12222" y="6"/>
                      <a:pt x="12222" y="5"/>
                    </a:cubicBezTo>
                    <a:cubicBezTo>
                      <a:pt x="12222" y="4"/>
                      <a:pt x="12223" y="3"/>
                      <a:pt x="12224" y="3"/>
                    </a:cubicBezTo>
                    <a:close/>
                    <a:moveTo>
                      <a:pt x="12232" y="3"/>
                    </a:moveTo>
                    <a:lnTo>
                      <a:pt x="12232" y="3"/>
                    </a:lnTo>
                    <a:cubicBezTo>
                      <a:pt x="12233" y="3"/>
                      <a:pt x="12234" y="4"/>
                      <a:pt x="12234" y="5"/>
                    </a:cubicBezTo>
                    <a:cubicBezTo>
                      <a:pt x="12234" y="6"/>
                      <a:pt x="12233" y="7"/>
                      <a:pt x="12232" y="7"/>
                    </a:cubicBezTo>
                    <a:lnTo>
                      <a:pt x="12232" y="7"/>
                    </a:lnTo>
                    <a:cubicBezTo>
                      <a:pt x="12231" y="7"/>
                      <a:pt x="12230" y="6"/>
                      <a:pt x="12230" y="5"/>
                    </a:cubicBezTo>
                    <a:cubicBezTo>
                      <a:pt x="12230" y="4"/>
                      <a:pt x="12231" y="3"/>
                      <a:pt x="12232" y="3"/>
                    </a:cubicBezTo>
                    <a:close/>
                    <a:moveTo>
                      <a:pt x="12240" y="3"/>
                    </a:moveTo>
                    <a:lnTo>
                      <a:pt x="12240" y="3"/>
                    </a:lnTo>
                    <a:cubicBezTo>
                      <a:pt x="12241" y="3"/>
                      <a:pt x="12242" y="4"/>
                      <a:pt x="12242" y="5"/>
                    </a:cubicBezTo>
                    <a:cubicBezTo>
                      <a:pt x="12242" y="6"/>
                      <a:pt x="12241" y="7"/>
                      <a:pt x="12240" y="7"/>
                    </a:cubicBezTo>
                    <a:lnTo>
                      <a:pt x="12240" y="7"/>
                    </a:lnTo>
                    <a:cubicBezTo>
                      <a:pt x="12239" y="7"/>
                      <a:pt x="12238" y="6"/>
                      <a:pt x="12238" y="5"/>
                    </a:cubicBezTo>
                    <a:cubicBezTo>
                      <a:pt x="12238" y="4"/>
                      <a:pt x="12239" y="3"/>
                      <a:pt x="12240" y="3"/>
                    </a:cubicBezTo>
                    <a:close/>
                    <a:moveTo>
                      <a:pt x="12248" y="3"/>
                    </a:moveTo>
                    <a:lnTo>
                      <a:pt x="12248" y="3"/>
                    </a:lnTo>
                    <a:cubicBezTo>
                      <a:pt x="12249" y="3"/>
                      <a:pt x="12250" y="4"/>
                      <a:pt x="12250" y="5"/>
                    </a:cubicBezTo>
                    <a:cubicBezTo>
                      <a:pt x="12250" y="6"/>
                      <a:pt x="12249" y="7"/>
                      <a:pt x="12248" y="7"/>
                    </a:cubicBezTo>
                    <a:lnTo>
                      <a:pt x="12248" y="7"/>
                    </a:lnTo>
                    <a:cubicBezTo>
                      <a:pt x="12247" y="7"/>
                      <a:pt x="12246" y="6"/>
                      <a:pt x="12246" y="5"/>
                    </a:cubicBezTo>
                    <a:cubicBezTo>
                      <a:pt x="12246" y="4"/>
                      <a:pt x="12247" y="3"/>
                      <a:pt x="12248" y="3"/>
                    </a:cubicBezTo>
                    <a:close/>
                    <a:moveTo>
                      <a:pt x="12256" y="3"/>
                    </a:moveTo>
                    <a:lnTo>
                      <a:pt x="12256" y="3"/>
                    </a:lnTo>
                    <a:cubicBezTo>
                      <a:pt x="12257" y="3"/>
                      <a:pt x="12258" y="4"/>
                      <a:pt x="12258" y="5"/>
                    </a:cubicBezTo>
                    <a:cubicBezTo>
                      <a:pt x="12258" y="6"/>
                      <a:pt x="12257" y="7"/>
                      <a:pt x="12256" y="7"/>
                    </a:cubicBezTo>
                    <a:lnTo>
                      <a:pt x="12256" y="7"/>
                    </a:lnTo>
                    <a:cubicBezTo>
                      <a:pt x="12255" y="7"/>
                      <a:pt x="12254" y="6"/>
                      <a:pt x="12254" y="5"/>
                    </a:cubicBezTo>
                    <a:cubicBezTo>
                      <a:pt x="12254" y="4"/>
                      <a:pt x="12255" y="3"/>
                      <a:pt x="12256" y="3"/>
                    </a:cubicBezTo>
                    <a:close/>
                    <a:moveTo>
                      <a:pt x="12264" y="3"/>
                    </a:moveTo>
                    <a:lnTo>
                      <a:pt x="12264" y="3"/>
                    </a:lnTo>
                    <a:cubicBezTo>
                      <a:pt x="12265" y="3"/>
                      <a:pt x="12266" y="4"/>
                      <a:pt x="12266" y="5"/>
                    </a:cubicBezTo>
                    <a:cubicBezTo>
                      <a:pt x="12266" y="6"/>
                      <a:pt x="12265" y="7"/>
                      <a:pt x="12264" y="7"/>
                    </a:cubicBezTo>
                    <a:lnTo>
                      <a:pt x="12264" y="7"/>
                    </a:lnTo>
                    <a:cubicBezTo>
                      <a:pt x="12263" y="7"/>
                      <a:pt x="12262" y="6"/>
                      <a:pt x="12262" y="5"/>
                    </a:cubicBezTo>
                    <a:cubicBezTo>
                      <a:pt x="12262" y="4"/>
                      <a:pt x="12263" y="3"/>
                      <a:pt x="12264" y="3"/>
                    </a:cubicBezTo>
                    <a:close/>
                    <a:moveTo>
                      <a:pt x="12272" y="3"/>
                    </a:moveTo>
                    <a:lnTo>
                      <a:pt x="12272" y="3"/>
                    </a:lnTo>
                    <a:cubicBezTo>
                      <a:pt x="12273" y="3"/>
                      <a:pt x="12274" y="4"/>
                      <a:pt x="12274" y="5"/>
                    </a:cubicBezTo>
                    <a:cubicBezTo>
                      <a:pt x="12274" y="6"/>
                      <a:pt x="12273" y="7"/>
                      <a:pt x="12272" y="7"/>
                    </a:cubicBezTo>
                    <a:lnTo>
                      <a:pt x="12272" y="7"/>
                    </a:lnTo>
                    <a:cubicBezTo>
                      <a:pt x="12271" y="7"/>
                      <a:pt x="12270" y="6"/>
                      <a:pt x="12270" y="5"/>
                    </a:cubicBezTo>
                    <a:cubicBezTo>
                      <a:pt x="12270" y="4"/>
                      <a:pt x="12271" y="3"/>
                      <a:pt x="12272" y="3"/>
                    </a:cubicBezTo>
                    <a:close/>
                    <a:moveTo>
                      <a:pt x="12280" y="3"/>
                    </a:moveTo>
                    <a:lnTo>
                      <a:pt x="12280" y="3"/>
                    </a:lnTo>
                    <a:cubicBezTo>
                      <a:pt x="12281" y="3"/>
                      <a:pt x="12282" y="4"/>
                      <a:pt x="12282" y="5"/>
                    </a:cubicBezTo>
                    <a:cubicBezTo>
                      <a:pt x="12282" y="6"/>
                      <a:pt x="12281" y="7"/>
                      <a:pt x="12280" y="7"/>
                    </a:cubicBezTo>
                    <a:lnTo>
                      <a:pt x="12280" y="7"/>
                    </a:lnTo>
                    <a:cubicBezTo>
                      <a:pt x="12279" y="7"/>
                      <a:pt x="12278" y="6"/>
                      <a:pt x="12278" y="5"/>
                    </a:cubicBezTo>
                    <a:cubicBezTo>
                      <a:pt x="12278" y="4"/>
                      <a:pt x="12279" y="3"/>
                      <a:pt x="12280" y="3"/>
                    </a:cubicBezTo>
                    <a:close/>
                    <a:moveTo>
                      <a:pt x="12288" y="3"/>
                    </a:moveTo>
                    <a:lnTo>
                      <a:pt x="12288" y="3"/>
                    </a:lnTo>
                    <a:cubicBezTo>
                      <a:pt x="12289" y="3"/>
                      <a:pt x="12290" y="4"/>
                      <a:pt x="12290" y="5"/>
                    </a:cubicBezTo>
                    <a:cubicBezTo>
                      <a:pt x="12290" y="6"/>
                      <a:pt x="12289" y="7"/>
                      <a:pt x="12288" y="7"/>
                    </a:cubicBezTo>
                    <a:lnTo>
                      <a:pt x="12288" y="7"/>
                    </a:lnTo>
                    <a:cubicBezTo>
                      <a:pt x="12287" y="7"/>
                      <a:pt x="12286" y="6"/>
                      <a:pt x="12286" y="5"/>
                    </a:cubicBezTo>
                    <a:cubicBezTo>
                      <a:pt x="12286" y="4"/>
                      <a:pt x="12287" y="3"/>
                      <a:pt x="12288" y="3"/>
                    </a:cubicBezTo>
                    <a:close/>
                    <a:moveTo>
                      <a:pt x="12296" y="3"/>
                    </a:moveTo>
                    <a:lnTo>
                      <a:pt x="12296" y="3"/>
                    </a:lnTo>
                    <a:cubicBezTo>
                      <a:pt x="12297" y="3"/>
                      <a:pt x="12298" y="4"/>
                      <a:pt x="12298" y="5"/>
                    </a:cubicBezTo>
                    <a:cubicBezTo>
                      <a:pt x="12298" y="6"/>
                      <a:pt x="12297" y="7"/>
                      <a:pt x="12296" y="7"/>
                    </a:cubicBezTo>
                    <a:lnTo>
                      <a:pt x="12296" y="7"/>
                    </a:lnTo>
                    <a:cubicBezTo>
                      <a:pt x="12295" y="7"/>
                      <a:pt x="12294" y="6"/>
                      <a:pt x="12294" y="5"/>
                    </a:cubicBezTo>
                    <a:cubicBezTo>
                      <a:pt x="12294" y="4"/>
                      <a:pt x="12295" y="3"/>
                      <a:pt x="12296" y="3"/>
                    </a:cubicBezTo>
                    <a:close/>
                    <a:moveTo>
                      <a:pt x="12304" y="3"/>
                    </a:moveTo>
                    <a:lnTo>
                      <a:pt x="12304" y="3"/>
                    </a:lnTo>
                    <a:cubicBezTo>
                      <a:pt x="12305" y="3"/>
                      <a:pt x="12306" y="4"/>
                      <a:pt x="12306" y="5"/>
                    </a:cubicBezTo>
                    <a:cubicBezTo>
                      <a:pt x="12306" y="6"/>
                      <a:pt x="12305" y="7"/>
                      <a:pt x="12304" y="7"/>
                    </a:cubicBezTo>
                    <a:lnTo>
                      <a:pt x="12304" y="7"/>
                    </a:lnTo>
                    <a:cubicBezTo>
                      <a:pt x="12303" y="7"/>
                      <a:pt x="12302" y="6"/>
                      <a:pt x="12302" y="5"/>
                    </a:cubicBezTo>
                    <a:cubicBezTo>
                      <a:pt x="12302" y="4"/>
                      <a:pt x="12303" y="3"/>
                      <a:pt x="12304" y="3"/>
                    </a:cubicBezTo>
                    <a:close/>
                    <a:moveTo>
                      <a:pt x="12312" y="3"/>
                    </a:moveTo>
                    <a:lnTo>
                      <a:pt x="12312" y="3"/>
                    </a:lnTo>
                    <a:cubicBezTo>
                      <a:pt x="12313" y="3"/>
                      <a:pt x="12314" y="4"/>
                      <a:pt x="12314" y="5"/>
                    </a:cubicBezTo>
                    <a:cubicBezTo>
                      <a:pt x="12314" y="6"/>
                      <a:pt x="12313" y="7"/>
                      <a:pt x="12312" y="7"/>
                    </a:cubicBezTo>
                    <a:lnTo>
                      <a:pt x="12312" y="7"/>
                    </a:lnTo>
                    <a:cubicBezTo>
                      <a:pt x="12311" y="7"/>
                      <a:pt x="12310" y="6"/>
                      <a:pt x="12310" y="5"/>
                    </a:cubicBezTo>
                    <a:cubicBezTo>
                      <a:pt x="12310" y="4"/>
                      <a:pt x="12311" y="3"/>
                      <a:pt x="12312" y="3"/>
                    </a:cubicBezTo>
                    <a:close/>
                    <a:moveTo>
                      <a:pt x="12320" y="3"/>
                    </a:moveTo>
                    <a:lnTo>
                      <a:pt x="12320" y="3"/>
                    </a:lnTo>
                    <a:cubicBezTo>
                      <a:pt x="12321" y="3"/>
                      <a:pt x="12322" y="4"/>
                      <a:pt x="12322" y="5"/>
                    </a:cubicBezTo>
                    <a:cubicBezTo>
                      <a:pt x="12322" y="6"/>
                      <a:pt x="12321" y="7"/>
                      <a:pt x="12320" y="7"/>
                    </a:cubicBezTo>
                    <a:lnTo>
                      <a:pt x="12320" y="7"/>
                    </a:lnTo>
                    <a:cubicBezTo>
                      <a:pt x="12319" y="7"/>
                      <a:pt x="12318" y="6"/>
                      <a:pt x="12318" y="5"/>
                    </a:cubicBezTo>
                    <a:cubicBezTo>
                      <a:pt x="12318" y="4"/>
                      <a:pt x="12319" y="3"/>
                      <a:pt x="12320" y="3"/>
                    </a:cubicBezTo>
                    <a:close/>
                    <a:moveTo>
                      <a:pt x="12328" y="3"/>
                    </a:moveTo>
                    <a:lnTo>
                      <a:pt x="12328" y="3"/>
                    </a:lnTo>
                    <a:cubicBezTo>
                      <a:pt x="12329" y="3"/>
                      <a:pt x="12330" y="4"/>
                      <a:pt x="12330" y="5"/>
                    </a:cubicBezTo>
                    <a:cubicBezTo>
                      <a:pt x="12330" y="6"/>
                      <a:pt x="12329" y="7"/>
                      <a:pt x="12328" y="7"/>
                    </a:cubicBezTo>
                    <a:lnTo>
                      <a:pt x="12328" y="7"/>
                    </a:lnTo>
                    <a:cubicBezTo>
                      <a:pt x="12327" y="7"/>
                      <a:pt x="12326" y="6"/>
                      <a:pt x="12326" y="5"/>
                    </a:cubicBezTo>
                    <a:cubicBezTo>
                      <a:pt x="12326" y="4"/>
                      <a:pt x="12327" y="3"/>
                      <a:pt x="12328" y="3"/>
                    </a:cubicBezTo>
                    <a:close/>
                    <a:moveTo>
                      <a:pt x="12336" y="3"/>
                    </a:moveTo>
                    <a:lnTo>
                      <a:pt x="12336" y="3"/>
                    </a:lnTo>
                    <a:cubicBezTo>
                      <a:pt x="12337" y="3"/>
                      <a:pt x="12338" y="4"/>
                      <a:pt x="12338" y="5"/>
                    </a:cubicBezTo>
                    <a:cubicBezTo>
                      <a:pt x="12338" y="6"/>
                      <a:pt x="12337" y="7"/>
                      <a:pt x="12336" y="7"/>
                    </a:cubicBezTo>
                    <a:lnTo>
                      <a:pt x="12336" y="7"/>
                    </a:lnTo>
                    <a:cubicBezTo>
                      <a:pt x="12335" y="7"/>
                      <a:pt x="12334" y="6"/>
                      <a:pt x="12334" y="5"/>
                    </a:cubicBezTo>
                    <a:cubicBezTo>
                      <a:pt x="12334" y="4"/>
                      <a:pt x="12335" y="3"/>
                      <a:pt x="12336" y="3"/>
                    </a:cubicBezTo>
                    <a:close/>
                    <a:moveTo>
                      <a:pt x="12344" y="3"/>
                    </a:moveTo>
                    <a:lnTo>
                      <a:pt x="12344" y="3"/>
                    </a:lnTo>
                    <a:cubicBezTo>
                      <a:pt x="12345" y="3"/>
                      <a:pt x="12346" y="4"/>
                      <a:pt x="12346" y="5"/>
                    </a:cubicBezTo>
                    <a:cubicBezTo>
                      <a:pt x="12346" y="6"/>
                      <a:pt x="12345" y="7"/>
                      <a:pt x="12344" y="7"/>
                    </a:cubicBezTo>
                    <a:lnTo>
                      <a:pt x="12344" y="7"/>
                    </a:lnTo>
                    <a:cubicBezTo>
                      <a:pt x="12343" y="7"/>
                      <a:pt x="12342" y="6"/>
                      <a:pt x="12342" y="5"/>
                    </a:cubicBezTo>
                    <a:cubicBezTo>
                      <a:pt x="12342" y="4"/>
                      <a:pt x="12343" y="3"/>
                      <a:pt x="12344" y="3"/>
                    </a:cubicBezTo>
                    <a:close/>
                    <a:moveTo>
                      <a:pt x="12352" y="3"/>
                    </a:moveTo>
                    <a:lnTo>
                      <a:pt x="12352" y="3"/>
                    </a:lnTo>
                    <a:cubicBezTo>
                      <a:pt x="12353" y="3"/>
                      <a:pt x="12354" y="4"/>
                      <a:pt x="12354" y="5"/>
                    </a:cubicBezTo>
                    <a:cubicBezTo>
                      <a:pt x="12354" y="6"/>
                      <a:pt x="12353" y="7"/>
                      <a:pt x="12352" y="7"/>
                    </a:cubicBezTo>
                    <a:lnTo>
                      <a:pt x="12352" y="7"/>
                    </a:lnTo>
                    <a:cubicBezTo>
                      <a:pt x="12351" y="7"/>
                      <a:pt x="12350" y="6"/>
                      <a:pt x="12350" y="5"/>
                    </a:cubicBezTo>
                    <a:cubicBezTo>
                      <a:pt x="12350" y="4"/>
                      <a:pt x="12351" y="3"/>
                      <a:pt x="12352" y="3"/>
                    </a:cubicBezTo>
                    <a:close/>
                    <a:moveTo>
                      <a:pt x="12360" y="3"/>
                    </a:moveTo>
                    <a:lnTo>
                      <a:pt x="12360" y="3"/>
                    </a:lnTo>
                    <a:cubicBezTo>
                      <a:pt x="12361" y="3"/>
                      <a:pt x="12362" y="4"/>
                      <a:pt x="12362" y="5"/>
                    </a:cubicBezTo>
                    <a:cubicBezTo>
                      <a:pt x="12362" y="6"/>
                      <a:pt x="12361" y="7"/>
                      <a:pt x="12360" y="7"/>
                    </a:cubicBezTo>
                    <a:lnTo>
                      <a:pt x="12360" y="7"/>
                    </a:lnTo>
                    <a:cubicBezTo>
                      <a:pt x="12359" y="7"/>
                      <a:pt x="12358" y="6"/>
                      <a:pt x="12358" y="5"/>
                    </a:cubicBezTo>
                    <a:cubicBezTo>
                      <a:pt x="12358" y="4"/>
                      <a:pt x="12359" y="3"/>
                      <a:pt x="12360" y="3"/>
                    </a:cubicBezTo>
                    <a:close/>
                    <a:moveTo>
                      <a:pt x="12368" y="3"/>
                    </a:moveTo>
                    <a:lnTo>
                      <a:pt x="12368" y="3"/>
                    </a:lnTo>
                    <a:cubicBezTo>
                      <a:pt x="12369" y="3"/>
                      <a:pt x="12370" y="4"/>
                      <a:pt x="12370" y="5"/>
                    </a:cubicBezTo>
                    <a:cubicBezTo>
                      <a:pt x="12370" y="6"/>
                      <a:pt x="12369" y="7"/>
                      <a:pt x="12368" y="7"/>
                    </a:cubicBezTo>
                    <a:lnTo>
                      <a:pt x="12368" y="7"/>
                    </a:lnTo>
                    <a:cubicBezTo>
                      <a:pt x="12367" y="7"/>
                      <a:pt x="12366" y="6"/>
                      <a:pt x="12366" y="5"/>
                    </a:cubicBezTo>
                    <a:cubicBezTo>
                      <a:pt x="12366" y="4"/>
                      <a:pt x="12367" y="3"/>
                      <a:pt x="12368" y="3"/>
                    </a:cubicBezTo>
                    <a:close/>
                    <a:moveTo>
                      <a:pt x="12376" y="3"/>
                    </a:moveTo>
                    <a:lnTo>
                      <a:pt x="12376" y="3"/>
                    </a:lnTo>
                    <a:cubicBezTo>
                      <a:pt x="12377" y="3"/>
                      <a:pt x="12378" y="4"/>
                      <a:pt x="12378" y="5"/>
                    </a:cubicBezTo>
                    <a:cubicBezTo>
                      <a:pt x="12378" y="6"/>
                      <a:pt x="12377" y="7"/>
                      <a:pt x="12376" y="7"/>
                    </a:cubicBezTo>
                    <a:lnTo>
                      <a:pt x="12376" y="7"/>
                    </a:lnTo>
                    <a:cubicBezTo>
                      <a:pt x="12375" y="7"/>
                      <a:pt x="12374" y="6"/>
                      <a:pt x="12374" y="5"/>
                    </a:cubicBezTo>
                    <a:cubicBezTo>
                      <a:pt x="12374" y="4"/>
                      <a:pt x="12375" y="3"/>
                      <a:pt x="12376" y="3"/>
                    </a:cubicBezTo>
                    <a:close/>
                    <a:moveTo>
                      <a:pt x="12384" y="3"/>
                    </a:moveTo>
                    <a:lnTo>
                      <a:pt x="12384" y="3"/>
                    </a:lnTo>
                    <a:cubicBezTo>
                      <a:pt x="12385" y="3"/>
                      <a:pt x="12386" y="4"/>
                      <a:pt x="12386" y="5"/>
                    </a:cubicBezTo>
                    <a:cubicBezTo>
                      <a:pt x="12386" y="6"/>
                      <a:pt x="12385" y="7"/>
                      <a:pt x="12384" y="7"/>
                    </a:cubicBezTo>
                    <a:lnTo>
                      <a:pt x="12384" y="7"/>
                    </a:lnTo>
                    <a:cubicBezTo>
                      <a:pt x="12383" y="7"/>
                      <a:pt x="12382" y="6"/>
                      <a:pt x="12382" y="5"/>
                    </a:cubicBezTo>
                    <a:cubicBezTo>
                      <a:pt x="12382" y="4"/>
                      <a:pt x="12383" y="3"/>
                      <a:pt x="12384" y="3"/>
                    </a:cubicBezTo>
                    <a:close/>
                    <a:moveTo>
                      <a:pt x="12392" y="3"/>
                    </a:moveTo>
                    <a:lnTo>
                      <a:pt x="12392" y="3"/>
                    </a:lnTo>
                    <a:cubicBezTo>
                      <a:pt x="12393" y="3"/>
                      <a:pt x="12394" y="4"/>
                      <a:pt x="12394" y="5"/>
                    </a:cubicBezTo>
                    <a:cubicBezTo>
                      <a:pt x="12394" y="6"/>
                      <a:pt x="12393" y="7"/>
                      <a:pt x="12392" y="7"/>
                    </a:cubicBezTo>
                    <a:lnTo>
                      <a:pt x="12392" y="7"/>
                    </a:lnTo>
                    <a:cubicBezTo>
                      <a:pt x="12391" y="7"/>
                      <a:pt x="12390" y="6"/>
                      <a:pt x="12390" y="5"/>
                    </a:cubicBezTo>
                    <a:cubicBezTo>
                      <a:pt x="12390" y="4"/>
                      <a:pt x="12391" y="3"/>
                      <a:pt x="12392" y="3"/>
                    </a:cubicBezTo>
                    <a:close/>
                    <a:moveTo>
                      <a:pt x="12400" y="3"/>
                    </a:moveTo>
                    <a:lnTo>
                      <a:pt x="12400" y="3"/>
                    </a:lnTo>
                    <a:cubicBezTo>
                      <a:pt x="12401" y="3"/>
                      <a:pt x="12402" y="4"/>
                      <a:pt x="12402" y="5"/>
                    </a:cubicBezTo>
                    <a:cubicBezTo>
                      <a:pt x="12402" y="6"/>
                      <a:pt x="12401" y="7"/>
                      <a:pt x="12400" y="7"/>
                    </a:cubicBezTo>
                    <a:lnTo>
                      <a:pt x="12400" y="7"/>
                    </a:lnTo>
                    <a:cubicBezTo>
                      <a:pt x="12399" y="7"/>
                      <a:pt x="12398" y="6"/>
                      <a:pt x="12398" y="5"/>
                    </a:cubicBezTo>
                    <a:cubicBezTo>
                      <a:pt x="12398" y="4"/>
                      <a:pt x="12399" y="3"/>
                      <a:pt x="12400" y="3"/>
                    </a:cubicBezTo>
                    <a:close/>
                    <a:moveTo>
                      <a:pt x="12408" y="3"/>
                    </a:moveTo>
                    <a:lnTo>
                      <a:pt x="12408" y="3"/>
                    </a:lnTo>
                    <a:cubicBezTo>
                      <a:pt x="12409" y="3"/>
                      <a:pt x="12410" y="4"/>
                      <a:pt x="12410" y="5"/>
                    </a:cubicBezTo>
                    <a:cubicBezTo>
                      <a:pt x="12410" y="6"/>
                      <a:pt x="12409" y="7"/>
                      <a:pt x="12408" y="7"/>
                    </a:cubicBezTo>
                    <a:lnTo>
                      <a:pt x="12408" y="7"/>
                    </a:lnTo>
                    <a:cubicBezTo>
                      <a:pt x="12407" y="7"/>
                      <a:pt x="12406" y="6"/>
                      <a:pt x="12406" y="5"/>
                    </a:cubicBezTo>
                    <a:cubicBezTo>
                      <a:pt x="12406" y="4"/>
                      <a:pt x="12407" y="3"/>
                      <a:pt x="12408" y="3"/>
                    </a:cubicBezTo>
                    <a:close/>
                    <a:moveTo>
                      <a:pt x="12416" y="3"/>
                    </a:moveTo>
                    <a:lnTo>
                      <a:pt x="12416" y="3"/>
                    </a:lnTo>
                    <a:cubicBezTo>
                      <a:pt x="12417" y="3"/>
                      <a:pt x="12418" y="4"/>
                      <a:pt x="12418" y="5"/>
                    </a:cubicBezTo>
                    <a:cubicBezTo>
                      <a:pt x="12418" y="6"/>
                      <a:pt x="12417" y="7"/>
                      <a:pt x="12416" y="7"/>
                    </a:cubicBezTo>
                    <a:lnTo>
                      <a:pt x="12416" y="7"/>
                    </a:lnTo>
                    <a:cubicBezTo>
                      <a:pt x="12415" y="7"/>
                      <a:pt x="12414" y="6"/>
                      <a:pt x="12414" y="5"/>
                    </a:cubicBezTo>
                    <a:cubicBezTo>
                      <a:pt x="12414" y="4"/>
                      <a:pt x="12415" y="3"/>
                      <a:pt x="12416" y="3"/>
                    </a:cubicBezTo>
                    <a:close/>
                    <a:moveTo>
                      <a:pt x="12424" y="3"/>
                    </a:moveTo>
                    <a:lnTo>
                      <a:pt x="12424" y="3"/>
                    </a:lnTo>
                    <a:cubicBezTo>
                      <a:pt x="12425" y="3"/>
                      <a:pt x="12426" y="4"/>
                      <a:pt x="12426" y="5"/>
                    </a:cubicBezTo>
                    <a:cubicBezTo>
                      <a:pt x="12426" y="6"/>
                      <a:pt x="12425" y="7"/>
                      <a:pt x="12424" y="7"/>
                    </a:cubicBezTo>
                    <a:lnTo>
                      <a:pt x="12424" y="7"/>
                    </a:lnTo>
                    <a:cubicBezTo>
                      <a:pt x="12423" y="7"/>
                      <a:pt x="12422" y="6"/>
                      <a:pt x="12422" y="5"/>
                    </a:cubicBezTo>
                    <a:cubicBezTo>
                      <a:pt x="12422" y="4"/>
                      <a:pt x="12423" y="3"/>
                      <a:pt x="12424" y="3"/>
                    </a:cubicBezTo>
                    <a:close/>
                    <a:moveTo>
                      <a:pt x="12432" y="3"/>
                    </a:moveTo>
                    <a:lnTo>
                      <a:pt x="12432" y="3"/>
                    </a:lnTo>
                    <a:cubicBezTo>
                      <a:pt x="12434" y="3"/>
                      <a:pt x="12434" y="4"/>
                      <a:pt x="12434" y="5"/>
                    </a:cubicBezTo>
                    <a:cubicBezTo>
                      <a:pt x="12434" y="6"/>
                      <a:pt x="12434" y="7"/>
                      <a:pt x="12432" y="7"/>
                    </a:cubicBezTo>
                    <a:lnTo>
                      <a:pt x="12432" y="7"/>
                    </a:lnTo>
                    <a:cubicBezTo>
                      <a:pt x="12431" y="7"/>
                      <a:pt x="12430" y="6"/>
                      <a:pt x="12430" y="5"/>
                    </a:cubicBezTo>
                    <a:cubicBezTo>
                      <a:pt x="12430" y="4"/>
                      <a:pt x="12431" y="3"/>
                      <a:pt x="12432" y="3"/>
                    </a:cubicBezTo>
                    <a:close/>
                    <a:moveTo>
                      <a:pt x="12440" y="3"/>
                    </a:moveTo>
                    <a:lnTo>
                      <a:pt x="12440" y="3"/>
                    </a:lnTo>
                    <a:cubicBezTo>
                      <a:pt x="12442" y="3"/>
                      <a:pt x="12442" y="4"/>
                      <a:pt x="12442" y="5"/>
                    </a:cubicBezTo>
                    <a:cubicBezTo>
                      <a:pt x="12442" y="6"/>
                      <a:pt x="12442" y="7"/>
                      <a:pt x="12440" y="7"/>
                    </a:cubicBezTo>
                    <a:lnTo>
                      <a:pt x="12440" y="7"/>
                    </a:lnTo>
                    <a:cubicBezTo>
                      <a:pt x="12439" y="7"/>
                      <a:pt x="12438" y="6"/>
                      <a:pt x="12438" y="5"/>
                    </a:cubicBezTo>
                    <a:cubicBezTo>
                      <a:pt x="12438" y="4"/>
                      <a:pt x="12439" y="3"/>
                      <a:pt x="12440" y="3"/>
                    </a:cubicBezTo>
                    <a:close/>
                    <a:moveTo>
                      <a:pt x="12448" y="3"/>
                    </a:moveTo>
                    <a:lnTo>
                      <a:pt x="12448" y="3"/>
                    </a:lnTo>
                    <a:cubicBezTo>
                      <a:pt x="12450" y="3"/>
                      <a:pt x="12450" y="4"/>
                      <a:pt x="12450" y="5"/>
                    </a:cubicBezTo>
                    <a:cubicBezTo>
                      <a:pt x="12450" y="6"/>
                      <a:pt x="12450" y="7"/>
                      <a:pt x="12448" y="7"/>
                    </a:cubicBezTo>
                    <a:lnTo>
                      <a:pt x="12448" y="7"/>
                    </a:lnTo>
                    <a:cubicBezTo>
                      <a:pt x="12447" y="7"/>
                      <a:pt x="12446" y="6"/>
                      <a:pt x="12446" y="5"/>
                    </a:cubicBezTo>
                    <a:cubicBezTo>
                      <a:pt x="12446" y="4"/>
                      <a:pt x="12447" y="3"/>
                      <a:pt x="12448" y="3"/>
                    </a:cubicBezTo>
                    <a:close/>
                    <a:moveTo>
                      <a:pt x="12456" y="3"/>
                    </a:moveTo>
                    <a:lnTo>
                      <a:pt x="12456" y="3"/>
                    </a:lnTo>
                    <a:cubicBezTo>
                      <a:pt x="12458" y="3"/>
                      <a:pt x="12458" y="4"/>
                      <a:pt x="12458" y="5"/>
                    </a:cubicBezTo>
                    <a:cubicBezTo>
                      <a:pt x="12458" y="6"/>
                      <a:pt x="12458" y="7"/>
                      <a:pt x="12456" y="7"/>
                    </a:cubicBezTo>
                    <a:lnTo>
                      <a:pt x="12456" y="7"/>
                    </a:lnTo>
                    <a:cubicBezTo>
                      <a:pt x="12455" y="7"/>
                      <a:pt x="12454" y="6"/>
                      <a:pt x="12454" y="5"/>
                    </a:cubicBezTo>
                    <a:cubicBezTo>
                      <a:pt x="12454" y="4"/>
                      <a:pt x="12455" y="3"/>
                      <a:pt x="12456" y="3"/>
                    </a:cubicBezTo>
                    <a:close/>
                    <a:moveTo>
                      <a:pt x="12464" y="3"/>
                    </a:moveTo>
                    <a:lnTo>
                      <a:pt x="12464" y="3"/>
                    </a:lnTo>
                    <a:cubicBezTo>
                      <a:pt x="12466" y="3"/>
                      <a:pt x="12466" y="4"/>
                      <a:pt x="12466" y="5"/>
                    </a:cubicBezTo>
                    <a:cubicBezTo>
                      <a:pt x="12466" y="6"/>
                      <a:pt x="12466" y="7"/>
                      <a:pt x="12464" y="7"/>
                    </a:cubicBezTo>
                    <a:lnTo>
                      <a:pt x="12464" y="7"/>
                    </a:lnTo>
                    <a:cubicBezTo>
                      <a:pt x="12463" y="7"/>
                      <a:pt x="12462" y="6"/>
                      <a:pt x="12462" y="5"/>
                    </a:cubicBezTo>
                    <a:cubicBezTo>
                      <a:pt x="12462" y="4"/>
                      <a:pt x="12463" y="3"/>
                      <a:pt x="12464" y="3"/>
                    </a:cubicBezTo>
                    <a:close/>
                    <a:moveTo>
                      <a:pt x="12472" y="3"/>
                    </a:moveTo>
                    <a:lnTo>
                      <a:pt x="12472" y="3"/>
                    </a:lnTo>
                    <a:cubicBezTo>
                      <a:pt x="12474" y="3"/>
                      <a:pt x="12474" y="4"/>
                      <a:pt x="12474" y="5"/>
                    </a:cubicBezTo>
                    <a:cubicBezTo>
                      <a:pt x="12474" y="6"/>
                      <a:pt x="12474" y="7"/>
                      <a:pt x="12472" y="7"/>
                    </a:cubicBezTo>
                    <a:lnTo>
                      <a:pt x="12472" y="7"/>
                    </a:lnTo>
                    <a:cubicBezTo>
                      <a:pt x="12471" y="7"/>
                      <a:pt x="12470" y="6"/>
                      <a:pt x="12470" y="5"/>
                    </a:cubicBezTo>
                    <a:cubicBezTo>
                      <a:pt x="12470" y="4"/>
                      <a:pt x="12471" y="3"/>
                      <a:pt x="12472" y="3"/>
                    </a:cubicBezTo>
                    <a:close/>
                    <a:moveTo>
                      <a:pt x="12480" y="3"/>
                    </a:moveTo>
                    <a:lnTo>
                      <a:pt x="12480" y="3"/>
                    </a:lnTo>
                    <a:cubicBezTo>
                      <a:pt x="12482" y="3"/>
                      <a:pt x="12482" y="4"/>
                      <a:pt x="12482" y="5"/>
                    </a:cubicBezTo>
                    <a:cubicBezTo>
                      <a:pt x="12482" y="6"/>
                      <a:pt x="12482" y="7"/>
                      <a:pt x="12480" y="7"/>
                    </a:cubicBezTo>
                    <a:lnTo>
                      <a:pt x="12480" y="7"/>
                    </a:lnTo>
                    <a:cubicBezTo>
                      <a:pt x="12479" y="7"/>
                      <a:pt x="12478" y="6"/>
                      <a:pt x="12478" y="5"/>
                    </a:cubicBezTo>
                    <a:cubicBezTo>
                      <a:pt x="12478" y="4"/>
                      <a:pt x="12479" y="3"/>
                      <a:pt x="12480" y="3"/>
                    </a:cubicBezTo>
                    <a:close/>
                    <a:moveTo>
                      <a:pt x="12488" y="3"/>
                    </a:moveTo>
                    <a:lnTo>
                      <a:pt x="12488" y="3"/>
                    </a:lnTo>
                    <a:cubicBezTo>
                      <a:pt x="12490" y="3"/>
                      <a:pt x="12490" y="4"/>
                      <a:pt x="12490" y="5"/>
                    </a:cubicBezTo>
                    <a:cubicBezTo>
                      <a:pt x="12490" y="6"/>
                      <a:pt x="12490" y="7"/>
                      <a:pt x="12488" y="7"/>
                    </a:cubicBezTo>
                    <a:lnTo>
                      <a:pt x="12488" y="7"/>
                    </a:lnTo>
                    <a:cubicBezTo>
                      <a:pt x="12487" y="7"/>
                      <a:pt x="12486" y="6"/>
                      <a:pt x="12486" y="5"/>
                    </a:cubicBezTo>
                    <a:cubicBezTo>
                      <a:pt x="12486" y="4"/>
                      <a:pt x="12487" y="3"/>
                      <a:pt x="12488" y="3"/>
                    </a:cubicBezTo>
                    <a:close/>
                    <a:moveTo>
                      <a:pt x="12496" y="3"/>
                    </a:moveTo>
                    <a:lnTo>
                      <a:pt x="12496" y="3"/>
                    </a:lnTo>
                    <a:cubicBezTo>
                      <a:pt x="12498" y="3"/>
                      <a:pt x="12498" y="4"/>
                      <a:pt x="12498" y="5"/>
                    </a:cubicBezTo>
                    <a:cubicBezTo>
                      <a:pt x="12498" y="6"/>
                      <a:pt x="12498" y="7"/>
                      <a:pt x="12496" y="7"/>
                    </a:cubicBezTo>
                    <a:lnTo>
                      <a:pt x="12496" y="7"/>
                    </a:lnTo>
                    <a:cubicBezTo>
                      <a:pt x="12495" y="7"/>
                      <a:pt x="12494" y="6"/>
                      <a:pt x="12494" y="5"/>
                    </a:cubicBezTo>
                    <a:cubicBezTo>
                      <a:pt x="12494" y="4"/>
                      <a:pt x="12495" y="3"/>
                      <a:pt x="12496" y="3"/>
                    </a:cubicBezTo>
                    <a:close/>
                    <a:moveTo>
                      <a:pt x="12504" y="3"/>
                    </a:moveTo>
                    <a:lnTo>
                      <a:pt x="12504" y="3"/>
                    </a:lnTo>
                    <a:cubicBezTo>
                      <a:pt x="12506" y="3"/>
                      <a:pt x="12506" y="4"/>
                      <a:pt x="12506" y="5"/>
                    </a:cubicBezTo>
                    <a:cubicBezTo>
                      <a:pt x="12506" y="6"/>
                      <a:pt x="12506" y="7"/>
                      <a:pt x="12504" y="7"/>
                    </a:cubicBezTo>
                    <a:lnTo>
                      <a:pt x="12504" y="7"/>
                    </a:lnTo>
                    <a:cubicBezTo>
                      <a:pt x="12503" y="7"/>
                      <a:pt x="12502" y="6"/>
                      <a:pt x="12502" y="5"/>
                    </a:cubicBezTo>
                    <a:cubicBezTo>
                      <a:pt x="12502" y="4"/>
                      <a:pt x="12503" y="3"/>
                      <a:pt x="12504" y="3"/>
                    </a:cubicBezTo>
                    <a:close/>
                    <a:moveTo>
                      <a:pt x="12512" y="3"/>
                    </a:moveTo>
                    <a:lnTo>
                      <a:pt x="12512" y="3"/>
                    </a:lnTo>
                    <a:cubicBezTo>
                      <a:pt x="12514" y="3"/>
                      <a:pt x="12514" y="4"/>
                      <a:pt x="12514" y="5"/>
                    </a:cubicBezTo>
                    <a:cubicBezTo>
                      <a:pt x="12514" y="6"/>
                      <a:pt x="12514" y="7"/>
                      <a:pt x="12512" y="7"/>
                    </a:cubicBezTo>
                    <a:lnTo>
                      <a:pt x="12512" y="7"/>
                    </a:lnTo>
                    <a:cubicBezTo>
                      <a:pt x="12511" y="7"/>
                      <a:pt x="12510" y="6"/>
                      <a:pt x="12510" y="5"/>
                    </a:cubicBezTo>
                    <a:cubicBezTo>
                      <a:pt x="12510" y="4"/>
                      <a:pt x="12511" y="3"/>
                      <a:pt x="12512" y="3"/>
                    </a:cubicBezTo>
                    <a:close/>
                    <a:moveTo>
                      <a:pt x="12520" y="3"/>
                    </a:moveTo>
                    <a:lnTo>
                      <a:pt x="12520" y="3"/>
                    </a:lnTo>
                    <a:cubicBezTo>
                      <a:pt x="12522" y="3"/>
                      <a:pt x="12522" y="4"/>
                      <a:pt x="12522" y="5"/>
                    </a:cubicBezTo>
                    <a:cubicBezTo>
                      <a:pt x="12522" y="6"/>
                      <a:pt x="12522" y="7"/>
                      <a:pt x="12520" y="7"/>
                    </a:cubicBezTo>
                    <a:lnTo>
                      <a:pt x="12520" y="7"/>
                    </a:lnTo>
                    <a:cubicBezTo>
                      <a:pt x="12519" y="7"/>
                      <a:pt x="12518" y="6"/>
                      <a:pt x="12518" y="5"/>
                    </a:cubicBezTo>
                    <a:cubicBezTo>
                      <a:pt x="12518" y="4"/>
                      <a:pt x="12519" y="3"/>
                      <a:pt x="12520" y="3"/>
                    </a:cubicBezTo>
                    <a:close/>
                    <a:moveTo>
                      <a:pt x="12528" y="3"/>
                    </a:moveTo>
                    <a:lnTo>
                      <a:pt x="12528" y="3"/>
                    </a:lnTo>
                    <a:cubicBezTo>
                      <a:pt x="12530" y="3"/>
                      <a:pt x="12530" y="4"/>
                      <a:pt x="12530" y="5"/>
                    </a:cubicBezTo>
                    <a:cubicBezTo>
                      <a:pt x="12530" y="6"/>
                      <a:pt x="12530" y="7"/>
                      <a:pt x="12528" y="7"/>
                    </a:cubicBezTo>
                    <a:lnTo>
                      <a:pt x="12528" y="7"/>
                    </a:lnTo>
                    <a:cubicBezTo>
                      <a:pt x="12527" y="7"/>
                      <a:pt x="12526" y="6"/>
                      <a:pt x="12526" y="5"/>
                    </a:cubicBezTo>
                    <a:cubicBezTo>
                      <a:pt x="12526" y="4"/>
                      <a:pt x="12527" y="3"/>
                      <a:pt x="12528" y="3"/>
                    </a:cubicBezTo>
                    <a:close/>
                    <a:moveTo>
                      <a:pt x="12536" y="3"/>
                    </a:moveTo>
                    <a:lnTo>
                      <a:pt x="12536" y="3"/>
                    </a:lnTo>
                    <a:cubicBezTo>
                      <a:pt x="12538" y="3"/>
                      <a:pt x="12538" y="4"/>
                      <a:pt x="12538" y="5"/>
                    </a:cubicBezTo>
                    <a:cubicBezTo>
                      <a:pt x="12538" y="6"/>
                      <a:pt x="12538" y="7"/>
                      <a:pt x="12536" y="7"/>
                    </a:cubicBezTo>
                    <a:lnTo>
                      <a:pt x="12536" y="7"/>
                    </a:lnTo>
                    <a:cubicBezTo>
                      <a:pt x="12535" y="7"/>
                      <a:pt x="12534" y="6"/>
                      <a:pt x="12534" y="5"/>
                    </a:cubicBezTo>
                    <a:cubicBezTo>
                      <a:pt x="12534" y="4"/>
                      <a:pt x="12535" y="3"/>
                      <a:pt x="12536" y="3"/>
                    </a:cubicBezTo>
                    <a:close/>
                    <a:moveTo>
                      <a:pt x="12544" y="3"/>
                    </a:moveTo>
                    <a:lnTo>
                      <a:pt x="12544" y="3"/>
                    </a:lnTo>
                    <a:cubicBezTo>
                      <a:pt x="12546" y="3"/>
                      <a:pt x="12546" y="4"/>
                      <a:pt x="12546" y="5"/>
                    </a:cubicBezTo>
                    <a:cubicBezTo>
                      <a:pt x="12546" y="6"/>
                      <a:pt x="12546" y="7"/>
                      <a:pt x="12544" y="7"/>
                    </a:cubicBezTo>
                    <a:lnTo>
                      <a:pt x="12544" y="7"/>
                    </a:lnTo>
                    <a:cubicBezTo>
                      <a:pt x="12543" y="7"/>
                      <a:pt x="12542" y="6"/>
                      <a:pt x="12542" y="5"/>
                    </a:cubicBezTo>
                    <a:cubicBezTo>
                      <a:pt x="12542" y="4"/>
                      <a:pt x="12543" y="3"/>
                      <a:pt x="12544" y="3"/>
                    </a:cubicBezTo>
                    <a:close/>
                    <a:moveTo>
                      <a:pt x="12552" y="3"/>
                    </a:moveTo>
                    <a:lnTo>
                      <a:pt x="12552" y="3"/>
                    </a:lnTo>
                    <a:cubicBezTo>
                      <a:pt x="12554" y="3"/>
                      <a:pt x="12554" y="4"/>
                      <a:pt x="12554" y="5"/>
                    </a:cubicBezTo>
                    <a:cubicBezTo>
                      <a:pt x="12554" y="6"/>
                      <a:pt x="12554" y="7"/>
                      <a:pt x="12552" y="7"/>
                    </a:cubicBezTo>
                    <a:lnTo>
                      <a:pt x="12552" y="7"/>
                    </a:lnTo>
                    <a:cubicBezTo>
                      <a:pt x="12551" y="7"/>
                      <a:pt x="12550" y="6"/>
                      <a:pt x="12550" y="5"/>
                    </a:cubicBezTo>
                    <a:cubicBezTo>
                      <a:pt x="12550" y="4"/>
                      <a:pt x="12551" y="3"/>
                      <a:pt x="12552" y="3"/>
                    </a:cubicBezTo>
                    <a:close/>
                    <a:moveTo>
                      <a:pt x="12560" y="3"/>
                    </a:moveTo>
                    <a:lnTo>
                      <a:pt x="12560" y="3"/>
                    </a:lnTo>
                    <a:cubicBezTo>
                      <a:pt x="12562" y="3"/>
                      <a:pt x="12562" y="4"/>
                      <a:pt x="12562" y="5"/>
                    </a:cubicBezTo>
                    <a:cubicBezTo>
                      <a:pt x="12562" y="6"/>
                      <a:pt x="12562" y="7"/>
                      <a:pt x="12560" y="7"/>
                    </a:cubicBezTo>
                    <a:lnTo>
                      <a:pt x="12560" y="7"/>
                    </a:lnTo>
                    <a:cubicBezTo>
                      <a:pt x="12559" y="7"/>
                      <a:pt x="12558" y="6"/>
                      <a:pt x="12558" y="5"/>
                    </a:cubicBezTo>
                    <a:cubicBezTo>
                      <a:pt x="12558" y="4"/>
                      <a:pt x="12559" y="3"/>
                      <a:pt x="12560" y="3"/>
                    </a:cubicBezTo>
                    <a:close/>
                    <a:moveTo>
                      <a:pt x="12568" y="3"/>
                    </a:moveTo>
                    <a:lnTo>
                      <a:pt x="12568" y="3"/>
                    </a:lnTo>
                    <a:cubicBezTo>
                      <a:pt x="12570" y="3"/>
                      <a:pt x="12570" y="4"/>
                      <a:pt x="12570" y="5"/>
                    </a:cubicBezTo>
                    <a:cubicBezTo>
                      <a:pt x="12570" y="6"/>
                      <a:pt x="12570" y="7"/>
                      <a:pt x="12568" y="7"/>
                    </a:cubicBezTo>
                    <a:lnTo>
                      <a:pt x="12568" y="7"/>
                    </a:lnTo>
                    <a:cubicBezTo>
                      <a:pt x="12567" y="7"/>
                      <a:pt x="12566" y="6"/>
                      <a:pt x="12566" y="5"/>
                    </a:cubicBezTo>
                    <a:cubicBezTo>
                      <a:pt x="12566" y="4"/>
                      <a:pt x="12567" y="3"/>
                      <a:pt x="12568" y="3"/>
                    </a:cubicBezTo>
                    <a:close/>
                    <a:moveTo>
                      <a:pt x="12576" y="3"/>
                    </a:moveTo>
                    <a:lnTo>
                      <a:pt x="12576" y="3"/>
                    </a:lnTo>
                    <a:cubicBezTo>
                      <a:pt x="12578" y="3"/>
                      <a:pt x="12578" y="4"/>
                      <a:pt x="12578" y="5"/>
                    </a:cubicBezTo>
                    <a:cubicBezTo>
                      <a:pt x="12578" y="6"/>
                      <a:pt x="12578" y="7"/>
                      <a:pt x="12576" y="7"/>
                    </a:cubicBezTo>
                    <a:lnTo>
                      <a:pt x="12576" y="7"/>
                    </a:lnTo>
                    <a:cubicBezTo>
                      <a:pt x="12575" y="7"/>
                      <a:pt x="12574" y="6"/>
                      <a:pt x="12574" y="5"/>
                    </a:cubicBezTo>
                    <a:cubicBezTo>
                      <a:pt x="12574" y="4"/>
                      <a:pt x="12575" y="3"/>
                      <a:pt x="12576" y="3"/>
                    </a:cubicBezTo>
                    <a:close/>
                    <a:moveTo>
                      <a:pt x="12584" y="3"/>
                    </a:moveTo>
                    <a:lnTo>
                      <a:pt x="12584" y="3"/>
                    </a:lnTo>
                    <a:cubicBezTo>
                      <a:pt x="12586" y="3"/>
                      <a:pt x="12586" y="4"/>
                      <a:pt x="12586" y="5"/>
                    </a:cubicBezTo>
                    <a:cubicBezTo>
                      <a:pt x="12586" y="6"/>
                      <a:pt x="12586" y="7"/>
                      <a:pt x="12584" y="7"/>
                    </a:cubicBezTo>
                    <a:lnTo>
                      <a:pt x="12584" y="7"/>
                    </a:lnTo>
                    <a:cubicBezTo>
                      <a:pt x="12583" y="7"/>
                      <a:pt x="12582" y="6"/>
                      <a:pt x="12582" y="5"/>
                    </a:cubicBezTo>
                    <a:cubicBezTo>
                      <a:pt x="12582" y="4"/>
                      <a:pt x="12583" y="3"/>
                      <a:pt x="12584" y="3"/>
                    </a:cubicBezTo>
                    <a:close/>
                    <a:moveTo>
                      <a:pt x="12592" y="3"/>
                    </a:moveTo>
                    <a:lnTo>
                      <a:pt x="12592" y="3"/>
                    </a:lnTo>
                    <a:cubicBezTo>
                      <a:pt x="12594" y="3"/>
                      <a:pt x="12594" y="4"/>
                      <a:pt x="12594" y="5"/>
                    </a:cubicBezTo>
                    <a:cubicBezTo>
                      <a:pt x="12594" y="6"/>
                      <a:pt x="12594" y="7"/>
                      <a:pt x="12592" y="7"/>
                    </a:cubicBezTo>
                    <a:lnTo>
                      <a:pt x="12592" y="7"/>
                    </a:lnTo>
                    <a:cubicBezTo>
                      <a:pt x="12591" y="7"/>
                      <a:pt x="12590" y="6"/>
                      <a:pt x="12590" y="5"/>
                    </a:cubicBezTo>
                    <a:cubicBezTo>
                      <a:pt x="12590" y="4"/>
                      <a:pt x="12591" y="3"/>
                      <a:pt x="12592" y="3"/>
                    </a:cubicBezTo>
                    <a:close/>
                    <a:moveTo>
                      <a:pt x="12600" y="3"/>
                    </a:moveTo>
                    <a:lnTo>
                      <a:pt x="12601" y="3"/>
                    </a:lnTo>
                    <a:cubicBezTo>
                      <a:pt x="12602" y="3"/>
                      <a:pt x="12603" y="4"/>
                      <a:pt x="12603" y="5"/>
                    </a:cubicBezTo>
                    <a:cubicBezTo>
                      <a:pt x="12603" y="6"/>
                      <a:pt x="12602" y="7"/>
                      <a:pt x="12601" y="7"/>
                    </a:cubicBezTo>
                    <a:lnTo>
                      <a:pt x="12600" y="7"/>
                    </a:lnTo>
                    <a:cubicBezTo>
                      <a:pt x="12599" y="7"/>
                      <a:pt x="12598" y="6"/>
                      <a:pt x="12598" y="5"/>
                    </a:cubicBezTo>
                    <a:cubicBezTo>
                      <a:pt x="12598" y="4"/>
                      <a:pt x="12599" y="3"/>
                      <a:pt x="12600" y="3"/>
                    </a:cubicBezTo>
                    <a:close/>
                    <a:moveTo>
                      <a:pt x="12609" y="3"/>
                    </a:moveTo>
                    <a:lnTo>
                      <a:pt x="12609" y="3"/>
                    </a:lnTo>
                    <a:cubicBezTo>
                      <a:pt x="12610" y="3"/>
                      <a:pt x="12611" y="4"/>
                      <a:pt x="12611" y="5"/>
                    </a:cubicBezTo>
                    <a:cubicBezTo>
                      <a:pt x="12611" y="6"/>
                      <a:pt x="12610" y="7"/>
                      <a:pt x="12609" y="7"/>
                    </a:cubicBezTo>
                    <a:lnTo>
                      <a:pt x="12609" y="7"/>
                    </a:lnTo>
                    <a:cubicBezTo>
                      <a:pt x="12607" y="7"/>
                      <a:pt x="12607" y="6"/>
                      <a:pt x="12607" y="5"/>
                    </a:cubicBezTo>
                    <a:cubicBezTo>
                      <a:pt x="12607" y="4"/>
                      <a:pt x="12607" y="3"/>
                      <a:pt x="12609" y="3"/>
                    </a:cubicBezTo>
                    <a:close/>
                    <a:moveTo>
                      <a:pt x="12617" y="3"/>
                    </a:moveTo>
                    <a:lnTo>
                      <a:pt x="12617" y="3"/>
                    </a:lnTo>
                    <a:cubicBezTo>
                      <a:pt x="12618" y="3"/>
                      <a:pt x="12619" y="4"/>
                      <a:pt x="12619" y="5"/>
                    </a:cubicBezTo>
                    <a:cubicBezTo>
                      <a:pt x="12619" y="6"/>
                      <a:pt x="12618" y="7"/>
                      <a:pt x="12617" y="7"/>
                    </a:cubicBezTo>
                    <a:lnTo>
                      <a:pt x="12617" y="7"/>
                    </a:lnTo>
                    <a:cubicBezTo>
                      <a:pt x="12615" y="7"/>
                      <a:pt x="12615" y="6"/>
                      <a:pt x="12615" y="5"/>
                    </a:cubicBezTo>
                    <a:cubicBezTo>
                      <a:pt x="12615" y="4"/>
                      <a:pt x="12615" y="3"/>
                      <a:pt x="12617" y="3"/>
                    </a:cubicBezTo>
                    <a:close/>
                    <a:moveTo>
                      <a:pt x="12625" y="3"/>
                    </a:moveTo>
                    <a:lnTo>
                      <a:pt x="12625" y="3"/>
                    </a:lnTo>
                    <a:cubicBezTo>
                      <a:pt x="12626" y="3"/>
                      <a:pt x="12627" y="4"/>
                      <a:pt x="12627" y="5"/>
                    </a:cubicBezTo>
                    <a:cubicBezTo>
                      <a:pt x="12627" y="6"/>
                      <a:pt x="12626" y="7"/>
                      <a:pt x="12625" y="7"/>
                    </a:cubicBezTo>
                    <a:lnTo>
                      <a:pt x="12625" y="7"/>
                    </a:lnTo>
                    <a:cubicBezTo>
                      <a:pt x="12623" y="7"/>
                      <a:pt x="12623" y="6"/>
                      <a:pt x="12623" y="5"/>
                    </a:cubicBezTo>
                    <a:cubicBezTo>
                      <a:pt x="12623" y="4"/>
                      <a:pt x="12623" y="3"/>
                      <a:pt x="12625" y="3"/>
                    </a:cubicBezTo>
                    <a:close/>
                    <a:moveTo>
                      <a:pt x="12633" y="3"/>
                    </a:moveTo>
                    <a:lnTo>
                      <a:pt x="12633" y="3"/>
                    </a:lnTo>
                    <a:cubicBezTo>
                      <a:pt x="12634" y="3"/>
                      <a:pt x="12635" y="4"/>
                      <a:pt x="12635" y="5"/>
                    </a:cubicBezTo>
                    <a:cubicBezTo>
                      <a:pt x="12635" y="6"/>
                      <a:pt x="12634" y="7"/>
                      <a:pt x="12633" y="7"/>
                    </a:cubicBezTo>
                    <a:lnTo>
                      <a:pt x="12633" y="7"/>
                    </a:lnTo>
                    <a:cubicBezTo>
                      <a:pt x="12631" y="7"/>
                      <a:pt x="12631" y="6"/>
                      <a:pt x="12631" y="5"/>
                    </a:cubicBezTo>
                    <a:cubicBezTo>
                      <a:pt x="12631" y="4"/>
                      <a:pt x="12631" y="3"/>
                      <a:pt x="12633" y="3"/>
                    </a:cubicBezTo>
                    <a:close/>
                    <a:moveTo>
                      <a:pt x="12641" y="3"/>
                    </a:moveTo>
                    <a:lnTo>
                      <a:pt x="12641" y="3"/>
                    </a:lnTo>
                    <a:cubicBezTo>
                      <a:pt x="12642" y="3"/>
                      <a:pt x="12643" y="4"/>
                      <a:pt x="12643" y="5"/>
                    </a:cubicBezTo>
                    <a:cubicBezTo>
                      <a:pt x="12643" y="6"/>
                      <a:pt x="12642" y="7"/>
                      <a:pt x="12641" y="7"/>
                    </a:cubicBezTo>
                    <a:lnTo>
                      <a:pt x="12641" y="7"/>
                    </a:lnTo>
                    <a:cubicBezTo>
                      <a:pt x="12639" y="7"/>
                      <a:pt x="12639" y="6"/>
                      <a:pt x="12639" y="5"/>
                    </a:cubicBezTo>
                    <a:cubicBezTo>
                      <a:pt x="12639" y="4"/>
                      <a:pt x="12639" y="3"/>
                      <a:pt x="12641" y="3"/>
                    </a:cubicBezTo>
                    <a:close/>
                    <a:moveTo>
                      <a:pt x="12649" y="3"/>
                    </a:moveTo>
                    <a:lnTo>
                      <a:pt x="12649" y="3"/>
                    </a:lnTo>
                    <a:cubicBezTo>
                      <a:pt x="12650" y="3"/>
                      <a:pt x="12651" y="4"/>
                      <a:pt x="12651" y="5"/>
                    </a:cubicBezTo>
                    <a:cubicBezTo>
                      <a:pt x="12651" y="6"/>
                      <a:pt x="12650" y="7"/>
                      <a:pt x="12649" y="7"/>
                    </a:cubicBezTo>
                    <a:lnTo>
                      <a:pt x="12649" y="7"/>
                    </a:lnTo>
                    <a:cubicBezTo>
                      <a:pt x="12647" y="7"/>
                      <a:pt x="12647" y="6"/>
                      <a:pt x="12647" y="5"/>
                    </a:cubicBezTo>
                    <a:cubicBezTo>
                      <a:pt x="12647" y="4"/>
                      <a:pt x="12647" y="3"/>
                      <a:pt x="12649" y="3"/>
                    </a:cubicBezTo>
                    <a:close/>
                    <a:moveTo>
                      <a:pt x="12657" y="3"/>
                    </a:moveTo>
                    <a:lnTo>
                      <a:pt x="12657" y="3"/>
                    </a:lnTo>
                    <a:cubicBezTo>
                      <a:pt x="12658" y="3"/>
                      <a:pt x="12659" y="4"/>
                      <a:pt x="12659" y="5"/>
                    </a:cubicBezTo>
                    <a:cubicBezTo>
                      <a:pt x="12659" y="6"/>
                      <a:pt x="12658" y="7"/>
                      <a:pt x="12657" y="7"/>
                    </a:cubicBezTo>
                    <a:lnTo>
                      <a:pt x="12657" y="7"/>
                    </a:lnTo>
                    <a:cubicBezTo>
                      <a:pt x="12655" y="7"/>
                      <a:pt x="12655" y="6"/>
                      <a:pt x="12655" y="5"/>
                    </a:cubicBezTo>
                    <a:cubicBezTo>
                      <a:pt x="12655" y="4"/>
                      <a:pt x="12655" y="3"/>
                      <a:pt x="12657" y="3"/>
                    </a:cubicBezTo>
                    <a:close/>
                    <a:moveTo>
                      <a:pt x="12665" y="3"/>
                    </a:moveTo>
                    <a:lnTo>
                      <a:pt x="12665" y="3"/>
                    </a:lnTo>
                    <a:cubicBezTo>
                      <a:pt x="12666" y="3"/>
                      <a:pt x="12667" y="4"/>
                      <a:pt x="12667" y="5"/>
                    </a:cubicBezTo>
                    <a:cubicBezTo>
                      <a:pt x="12667" y="6"/>
                      <a:pt x="12666" y="7"/>
                      <a:pt x="12665" y="7"/>
                    </a:cubicBezTo>
                    <a:lnTo>
                      <a:pt x="12665" y="7"/>
                    </a:lnTo>
                    <a:cubicBezTo>
                      <a:pt x="12663" y="7"/>
                      <a:pt x="12663" y="6"/>
                      <a:pt x="12663" y="5"/>
                    </a:cubicBezTo>
                    <a:cubicBezTo>
                      <a:pt x="12663" y="4"/>
                      <a:pt x="12663" y="3"/>
                      <a:pt x="12665" y="3"/>
                    </a:cubicBezTo>
                    <a:close/>
                    <a:moveTo>
                      <a:pt x="12673" y="3"/>
                    </a:moveTo>
                    <a:lnTo>
                      <a:pt x="12673" y="3"/>
                    </a:lnTo>
                    <a:cubicBezTo>
                      <a:pt x="12674" y="3"/>
                      <a:pt x="12675" y="4"/>
                      <a:pt x="12675" y="5"/>
                    </a:cubicBezTo>
                    <a:cubicBezTo>
                      <a:pt x="12675" y="6"/>
                      <a:pt x="12674" y="7"/>
                      <a:pt x="12673" y="7"/>
                    </a:cubicBezTo>
                    <a:lnTo>
                      <a:pt x="12673" y="7"/>
                    </a:lnTo>
                    <a:cubicBezTo>
                      <a:pt x="12671" y="7"/>
                      <a:pt x="12671" y="6"/>
                      <a:pt x="12671" y="5"/>
                    </a:cubicBezTo>
                    <a:cubicBezTo>
                      <a:pt x="12671" y="4"/>
                      <a:pt x="12671" y="3"/>
                      <a:pt x="12673" y="3"/>
                    </a:cubicBezTo>
                    <a:close/>
                    <a:moveTo>
                      <a:pt x="12681" y="3"/>
                    </a:moveTo>
                    <a:lnTo>
                      <a:pt x="12681" y="3"/>
                    </a:lnTo>
                    <a:cubicBezTo>
                      <a:pt x="12682" y="3"/>
                      <a:pt x="12683" y="4"/>
                      <a:pt x="12683" y="5"/>
                    </a:cubicBezTo>
                    <a:cubicBezTo>
                      <a:pt x="12683" y="6"/>
                      <a:pt x="12682" y="7"/>
                      <a:pt x="12681" y="7"/>
                    </a:cubicBezTo>
                    <a:lnTo>
                      <a:pt x="12681" y="7"/>
                    </a:lnTo>
                    <a:cubicBezTo>
                      <a:pt x="12679" y="7"/>
                      <a:pt x="12679" y="6"/>
                      <a:pt x="12679" y="5"/>
                    </a:cubicBezTo>
                    <a:cubicBezTo>
                      <a:pt x="12679" y="4"/>
                      <a:pt x="12679" y="3"/>
                      <a:pt x="12681" y="3"/>
                    </a:cubicBezTo>
                    <a:close/>
                    <a:moveTo>
                      <a:pt x="12689" y="3"/>
                    </a:moveTo>
                    <a:lnTo>
                      <a:pt x="12689" y="3"/>
                    </a:lnTo>
                    <a:cubicBezTo>
                      <a:pt x="12690" y="3"/>
                      <a:pt x="12691" y="4"/>
                      <a:pt x="12691" y="5"/>
                    </a:cubicBezTo>
                    <a:cubicBezTo>
                      <a:pt x="12691" y="6"/>
                      <a:pt x="12690" y="7"/>
                      <a:pt x="12689" y="7"/>
                    </a:cubicBezTo>
                    <a:lnTo>
                      <a:pt x="12689" y="7"/>
                    </a:lnTo>
                    <a:cubicBezTo>
                      <a:pt x="12687" y="7"/>
                      <a:pt x="12687" y="6"/>
                      <a:pt x="12687" y="5"/>
                    </a:cubicBezTo>
                    <a:cubicBezTo>
                      <a:pt x="12687" y="4"/>
                      <a:pt x="12687" y="3"/>
                      <a:pt x="12689" y="3"/>
                    </a:cubicBezTo>
                    <a:close/>
                    <a:moveTo>
                      <a:pt x="12697" y="3"/>
                    </a:moveTo>
                    <a:lnTo>
                      <a:pt x="12697" y="3"/>
                    </a:lnTo>
                    <a:cubicBezTo>
                      <a:pt x="12698" y="3"/>
                      <a:pt x="12699" y="4"/>
                      <a:pt x="12699" y="5"/>
                    </a:cubicBezTo>
                    <a:cubicBezTo>
                      <a:pt x="12699" y="6"/>
                      <a:pt x="12698" y="7"/>
                      <a:pt x="12697" y="7"/>
                    </a:cubicBezTo>
                    <a:lnTo>
                      <a:pt x="12697" y="7"/>
                    </a:lnTo>
                    <a:cubicBezTo>
                      <a:pt x="12695" y="7"/>
                      <a:pt x="12695" y="6"/>
                      <a:pt x="12695" y="5"/>
                    </a:cubicBezTo>
                    <a:cubicBezTo>
                      <a:pt x="12695" y="4"/>
                      <a:pt x="12695" y="3"/>
                      <a:pt x="12697" y="3"/>
                    </a:cubicBezTo>
                    <a:close/>
                    <a:moveTo>
                      <a:pt x="12705" y="3"/>
                    </a:moveTo>
                    <a:lnTo>
                      <a:pt x="12705" y="3"/>
                    </a:lnTo>
                    <a:cubicBezTo>
                      <a:pt x="12706" y="3"/>
                      <a:pt x="12707" y="4"/>
                      <a:pt x="12707" y="5"/>
                    </a:cubicBezTo>
                    <a:cubicBezTo>
                      <a:pt x="12707" y="6"/>
                      <a:pt x="12706" y="7"/>
                      <a:pt x="12705" y="7"/>
                    </a:cubicBezTo>
                    <a:lnTo>
                      <a:pt x="12705" y="7"/>
                    </a:lnTo>
                    <a:cubicBezTo>
                      <a:pt x="12703" y="7"/>
                      <a:pt x="12703" y="6"/>
                      <a:pt x="12703" y="5"/>
                    </a:cubicBezTo>
                    <a:cubicBezTo>
                      <a:pt x="12703" y="4"/>
                      <a:pt x="12703" y="3"/>
                      <a:pt x="12705" y="3"/>
                    </a:cubicBezTo>
                    <a:close/>
                    <a:moveTo>
                      <a:pt x="12713" y="3"/>
                    </a:moveTo>
                    <a:lnTo>
                      <a:pt x="12713" y="3"/>
                    </a:lnTo>
                    <a:cubicBezTo>
                      <a:pt x="12714" y="3"/>
                      <a:pt x="12715" y="4"/>
                      <a:pt x="12715" y="5"/>
                    </a:cubicBezTo>
                    <a:cubicBezTo>
                      <a:pt x="12715" y="6"/>
                      <a:pt x="12714" y="7"/>
                      <a:pt x="12713" y="7"/>
                    </a:cubicBezTo>
                    <a:lnTo>
                      <a:pt x="12713" y="7"/>
                    </a:lnTo>
                    <a:cubicBezTo>
                      <a:pt x="12711" y="7"/>
                      <a:pt x="12711" y="6"/>
                      <a:pt x="12711" y="5"/>
                    </a:cubicBezTo>
                    <a:cubicBezTo>
                      <a:pt x="12711" y="4"/>
                      <a:pt x="12711" y="3"/>
                      <a:pt x="12713" y="3"/>
                    </a:cubicBezTo>
                    <a:close/>
                    <a:moveTo>
                      <a:pt x="12721" y="3"/>
                    </a:moveTo>
                    <a:lnTo>
                      <a:pt x="12721" y="3"/>
                    </a:lnTo>
                    <a:cubicBezTo>
                      <a:pt x="12722" y="3"/>
                      <a:pt x="12723" y="4"/>
                      <a:pt x="12723" y="5"/>
                    </a:cubicBezTo>
                    <a:cubicBezTo>
                      <a:pt x="12723" y="6"/>
                      <a:pt x="12722" y="7"/>
                      <a:pt x="12721" y="7"/>
                    </a:cubicBezTo>
                    <a:lnTo>
                      <a:pt x="12721" y="7"/>
                    </a:lnTo>
                    <a:cubicBezTo>
                      <a:pt x="12719" y="7"/>
                      <a:pt x="12719" y="6"/>
                      <a:pt x="12719" y="5"/>
                    </a:cubicBezTo>
                    <a:cubicBezTo>
                      <a:pt x="12719" y="4"/>
                      <a:pt x="12719" y="3"/>
                      <a:pt x="12721" y="3"/>
                    </a:cubicBezTo>
                    <a:close/>
                    <a:moveTo>
                      <a:pt x="12729" y="3"/>
                    </a:moveTo>
                    <a:lnTo>
                      <a:pt x="12729" y="3"/>
                    </a:lnTo>
                    <a:cubicBezTo>
                      <a:pt x="12730" y="3"/>
                      <a:pt x="12731" y="4"/>
                      <a:pt x="12731" y="5"/>
                    </a:cubicBezTo>
                    <a:cubicBezTo>
                      <a:pt x="12731" y="6"/>
                      <a:pt x="12730" y="7"/>
                      <a:pt x="12729" y="7"/>
                    </a:cubicBezTo>
                    <a:lnTo>
                      <a:pt x="12729" y="7"/>
                    </a:lnTo>
                    <a:cubicBezTo>
                      <a:pt x="12727" y="7"/>
                      <a:pt x="12727" y="6"/>
                      <a:pt x="12727" y="5"/>
                    </a:cubicBezTo>
                    <a:cubicBezTo>
                      <a:pt x="12727" y="4"/>
                      <a:pt x="12727" y="3"/>
                      <a:pt x="12729" y="3"/>
                    </a:cubicBezTo>
                    <a:close/>
                    <a:moveTo>
                      <a:pt x="12737" y="3"/>
                    </a:moveTo>
                    <a:lnTo>
                      <a:pt x="12737" y="3"/>
                    </a:lnTo>
                    <a:cubicBezTo>
                      <a:pt x="12738" y="3"/>
                      <a:pt x="12739" y="4"/>
                      <a:pt x="12739" y="5"/>
                    </a:cubicBezTo>
                    <a:cubicBezTo>
                      <a:pt x="12739" y="6"/>
                      <a:pt x="12738" y="7"/>
                      <a:pt x="12737" y="7"/>
                    </a:cubicBezTo>
                    <a:lnTo>
                      <a:pt x="12737" y="7"/>
                    </a:lnTo>
                    <a:cubicBezTo>
                      <a:pt x="12735" y="7"/>
                      <a:pt x="12735" y="6"/>
                      <a:pt x="12735" y="5"/>
                    </a:cubicBezTo>
                    <a:cubicBezTo>
                      <a:pt x="12735" y="4"/>
                      <a:pt x="12735" y="3"/>
                      <a:pt x="12737" y="3"/>
                    </a:cubicBezTo>
                    <a:close/>
                    <a:moveTo>
                      <a:pt x="12745" y="3"/>
                    </a:moveTo>
                    <a:lnTo>
                      <a:pt x="12745" y="3"/>
                    </a:lnTo>
                    <a:cubicBezTo>
                      <a:pt x="12746" y="3"/>
                      <a:pt x="12747" y="4"/>
                      <a:pt x="12747" y="5"/>
                    </a:cubicBezTo>
                    <a:cubicBezTo>
                      <a:pt x="12747" y="6"/>
                      <a:pt x="12746" y="7"/>
                      <a:pt x="12745" y="7"/>
                    </a:cubicBezTo>
                    <a:lnTo>
                      <a:pt x="12745" y="7"/>
                    </a:lnTo>
                    <a:cubicBezTo>
                      <a:pt x="12743" y="7"/>
                      <a:pt x="12743" y="6"/>
                      <a:pt x="12743" y="5"/>
                    </a:cubicBezTo>
                    <a:cubicBezTo>
                      <a:pt x="12743" y="4"/>
                      <a:pt x="12743" y="3"/>
                      <a:pt x="12745" y="3"/>
                    </a:cubicBezTo>
                    <a:close/>
                    <a:moveTo>
                      <a:pt x="12753" y="3"/>
                    </a:moveTo>
                    <a:lnTo>
                      <a:pt x="12753" y="3"/>
                    </a:lnTo>
                    <a:cubicBezTo>
                      <a:pt x="12754" y="3"/>
                      <a:pt x="12755" y="4"/>
                      <a:pt x="12755" y="5"/>
                    </a:cubicBezTo>
                    <a:cubicBezTo>
                      <a:pt x="12755" y="6"/>
                      <a:pt x="12754" y="7"/>
                      <a:pt x="12753" y="7"/>
                    </a:cubicBezTo>
                    <a:lnTo>
                      <a:pt x="12753" y="7"/>
                    </a:lnTo>
                    <a:cubicBezTo>
                      <a:pt x="12751" y="7"/>
                      <a:pt x="12751" y="6"/>
                      <a:pt x="12751" y="5"/>
                    </a:cubicBezTo>
                    <a:cubicBezTo>
                      <a:pt x="12751" y="4"/>
                      <a:pt x="12751" y="3"/>
                      <a:pt x="12753" y="3"/>
                    </a:cubicBezTo>
                    <a:close/>
                    <a:moveTo>
                      <a:pt x="12761" y="3"/>
                    </a:moveTo>
                    <a:lnTo>
                      <a:pt x="12761" y="3"/>
                    </a:lnTo>
                    <a:cubicBezTo>
                      <a:pt x="12762" y="3"/>
                      <a:pt x="12763" y="4"/>
                      <a:pt x="12763" y="5"/>
                    </a:cubicBezTo>
                    <a:cubicBezTo>
                      <a:pt x="12763" y="6"/>
                      <a:pt x="12762" y="7"/>
                      <a:pt x="12761" y="7"/>
                    </a:cubicBezTo>
                    <a:lnTo>
                      <a:pt x="12761" y="7"/>
                    </a:lnTo>
                    <a:cubicBezTo>
                      <a:pt x="12759" y="7"/>
                      <a:pt x="12759" y="6"/>
                      <a:pt x="12759" y="5"/>
                    </a:cubicBezTo>
                    <a:cubicBezTo>
                      <a:pt x="12759" y="4"/>
                      <a:pt x="12759" y="3"/>
                      <a:pt x="12761" y="3"/>
                    </a:cubicBezTo>
                    <a:close/>
                    <a:moveTo>
                      <a:pt x="12769" y="3"/>
                    </a:moveTo>
                    <a:lnTo>
                      <a:pt x="12769" y="3"/>
                    </a:lnTo>
                    <a:cubicBezTo>
                      <a:pt x="12770" y="3"/>
                      <a:pt x="12771" y="4"/>
                      <a:pt x="12771" y="5"/>
                    </a:cubicBezTo>
                    <a:cubicBezTo>
                      <a:pt x="12771" y="6"/>
                      <a:pt x="12770" y="7"/>
                      <a:pt x="12769" y="7"/>
                    </a:cubicBezTo>
                    <a:lnTo>
                      <a:pt x="12769" y="7"/>
                    </a:lnTo>
                    <a:cubicBezTo>
                      <a:pt x="12767" y="7"/>
                      <a:pt x="12767" y="6"/>
                      <a:pt x="12767" y="5"/>
                    </a:cubicBezTo>
                    <a:cubicBezTo>
                      <a:pt x="12767" y="4"/>
                      <a:pt x="12767" y="3"/>
                      <a:pt x="12769" y="3"/>
                    </a:cubicBezTo>
                    <a:close/>
                    <a:moveTo>
                      <a:pt x="12777" y="3"/>
                    </a:moveTo>
                    <a:lnTo>
                      <a:pt x="12777" y="3"/>
                    </a:lnTo>
                    <a:cubicBezTo>
                      <a:pt x="12778" y="3"/>
                      <a:pt x="12779" y="4"/>
                      <a:pt x="12779" y="5"/>
                    </a:cubicBezTo>
                    <a:cubicBezTo>
                      <a:pt x="12779" y="6"/>
                      <a:pt x="12778" y="7"/>
                      <a:pt x="12777" y="7"/>
                    </a:cubicBezTo>
                    <a:lnTo>
                      <a:pt x="12777" y="7"/>
                    </a:lnTo>
                    <a:cubicBezTo>
                      <a:pt x="12776" y="7"/>
                      <a:pt x="12775" y="6"/>
                      <a:pt x="12775" y="5"/>
                    </a:cubicBezTo>
                    <a:cubicBezTo>
                      <a:pt x="12775" y="4"/>
                      <a:pt x="12776" y="3"/>
                      <a:pt x="12777" y="3"/>
                    </a:cubicBezTo>
                    <a:close/>
                    <a:moveTo>
                      <a:pt x="12785" y="3"/>
                    </a:moveTo>
                    <a:lnTo>
                      <a:pt x="12785" y="3"/>
                    </a:lnTo>
                    <a:cubicBezTo>
                      <a:pt x="12786" y="3"/>
                      <a:pt x="12787" y="4"/>
                      <a:pt x="12787" y="5"/>
                    </a:cubicBezTo>
                    <a:cubicBezTo>
                      <a:pt x="12787" y="6"/>
                      <a:pt x="12786" y="7"/>
                      <a:pt x="12785" y="7"/>
                    </a:cubicBezTo>
                    <a:lnTo>
                      <a:pt x="12785" y="7"/>
                    </a:lnTo>
                    <a:cubicBezTo>
                      <a:pt x="12784" y="7"/>
                      <a:pt x="12783" y="6"/>
                      <a:pt x="12783" y="5"/>
                    </a:cubicBezTo>
                    <a:cubicBezTo>
                      <a:pt x="12783" y="4"/>
                      <a:pt x="12784" y="3"/>
                      <a:pt x="12785" y="3"/>
                    </a:cubicBezTo>
                    <a:close/>
                    <a:moveTo>
                      <a:pt x="12793" y="3"/>
                    </a:moveTo>
                    <a:lnTo>
                      <a:pt x="12793" y="3"/>
                    </a:lnTo>
                    <a:cubicBezTo>
                      <a:pt x="12794" y="3"/>
                      <a:pt x="12795" y="4"/>
                      <a:pt x="12795" y="5"/>
                    </a:cubicBezTo>
                    <a:cubicBezTo>
                      <a:pt x="12795" y="6"/>
                      <a:pt x="12794" y="7"/>
                      <a:pt x="12793" y="7"/>
                    </a:cubicBezTo>
                    <a:lnTo>
                      <a:pt x="12793" y="7"/>
                    </a:lnTo>
                    <a:cubicBezTo>
                      <a:pt x="12792" y="7"/>
                      <a:pt x="12791" y="6"/>
                      <a:pt x="12791" y="5"/>
                    </a:cubicBezTo>
                    <a:cubicBezTo>
                      <a:pt x="12791" y="4"/>
                      <a:pt x="12792" y="3"/>
                      <a:pt x="12793" y="3"/>
                    </a:cubicBezTo>
                    <a:close/>
                    <a:moveTo>
                      <a:pt x="12801" y="3"/>
                    </a:moveTo>
                    <a:lnTo>
                      <a:pt x="12801" y="3"/>
                    </a:lnTo>
                    <a:cubicBezTo>
                      <a:pt x="12802" y="3"/>
                      <a:pt x="12803" y="4"/>
                      <a:pt x="12803" y="5"/>
                    </a:cubicBezTo>
                    <a:cubicBezTo>
                      <a:pt x="12803" y="6"/>
                      <a:pt x="12802" y="7"/>
                      <a:pt x="12801" y="7"/>
                    </a:cubicBezTo>
                    <a:lnTo>
                      <a:pt x="12801" y="7"/>
                    </a:lnTo>
                    <a:cubicBezTo>
                      <a:pt x="12800" y="7"/>
                      <a:pt x="12799" y="6"/>
                      <a:pt x="12799" y="5"/>
                    </a:cubicBezTo>
                    <a:cubicBezTo>
                      <a:pt x="12799" y="4"/>
                      <a:pt x="12800" y="3"/>
                      <a:pt x="12801" y="3"/>
                    </a:cubicBezTo>
                    <a:close/>
                    <a:moveTo>
                      <a:pt x="12809" y="3"/>
                    </a:moveTo>
                    <a:lnTo>
                      <a:pt x="12809" y="3"/>
                    </a:lnTo>
                    <a:cubicBezTo>
                      <a:pt x="12810" y="3"/>
                      <a:pt x="12811" y="4"/>
                      <a:pt x="12811" y="5"/>
                    </a:cubicBezTo>
                    <a:cubicBezTo>
                      <a:pt x="12811" y="6"/>
                      <a:pt x="12810" y="7"/>
                      <a:pt x="12809" y="7"/>
                    </a:cubicBezTo>
                    <a:lnTo>
                      <a:pt x="12809" y="7"/>
                    </a:lnTo>
                    <a:cubicBezTo>
                      <a:pt x="12808" y="7"/>
                      <a:pt x="12807" y="6"/>
                      <a:pt x="12807" y="5"/>
                    </a:cubicBezTo>
                    <a:cubicBezTo>
                      <a:pt x="12807" y="4"/>
                      <a:pt x="12808" y="3"/>
                      <a:pt x="12809" y="3"/>
                    </a:cubicBezTo>
                    <a:close/>
                    <a:moveTo>
                      <a:pt x="12817" y="3"/>
                    </a:moveTo>
                    <a:lnTo>
                      <a:pt x="12817" y="3"/>
                    </a:lnTo>
                    <a:cubicBezTo>
                      <a:pt x="12818" y="3"/>
                      <a:pt x="12819" y="4"/>
                      <a:pt x="12819" y="5"/>
                    </a:cubicBezTo>
                    <a:cubicBezTo>
                      <a:pt x="12819" y="6"/>
                      <a:pt x="12818" y="7"/>
                      <a:pt x="12817" y="7"/>
                    </a:cubicBezTo>
                    <a:lnTo>
                      <a:pt x="12817" y="7"/>
                    </a:lnTo>
                    <a:cubicBezTo>
                      <a:pt x="12816" y="7"/>
                      <a:pt x="12815" y="6"/>
                      <a:pt x="12815" y="5"/>
                    </a:cubicBezTo>
                    <a:cubicBezTo>
                      <a:pt x="12815" y="4"/>
                      <a:pt x="12816" y="3"/>
                      <a:pt x="12817" y="3"/>
                    </a:cubicBezTo>
                    <a:close/>
                    <a:moveTo>
                      <a:pt x="12825" y="3"/>
                    </a:moveTo>
                    <a:lnTo>
                      <a:pt x="12825" y="3"/>
                    </a:lnTo>
                    <a:cubicBezTo>
                      <a:pt x="12826" y="3"/>
                      <a:pt x="12827" y="4"/>
                      <a:pt x="12827" y="5"/>
                    </a:cubicBezTo>
                    <a:cubicBezTo>
                      <a:pt x="12827" y="6"/>
                      <a:pt x="12826" y="7"/>
                      <a:pt x="12825" y="7"/>
                    </a:cubicBezTo>
                    <a:lnTo>
                      <a:pt x="12825" y="7"/>
                    </a:lnTo>
                    <a:cubicBezTo>
                      <a:pt x="12824" y="7"/>
                      <a:pt x="12823" y="6"/>
                      <a:pt x="12823" y="5"/>
                    </a:cubicBezTo>
                    <a:cubicBezTo>
                      <a:pt x="12823" y="4"/>
                      <a:pt x="12824" y="3"/>
                      <a:pt x="12825" y="3"/>
                    </a:cubicBezTo>
                    <a:close/>
                    <a:moveTo>
                      <a:pt x="12833" y="3"/>
                    </a:moveTo>
                    <a:lnTo>
                      <a:pt x="12833" y="3"/>
                    </a:lnTo>
                    <a:cubicBezTo>
                      <a:pt x="12834" y="3"/>
                      <a:pt x="12835" y="4"/>
                      <a:pt x="12835" y="5"/>
                    </a:cubicBezTo>
                    <a:cubicBezTo>
                      <a:pt x="12835" y="6"/>
                      <a:pt x="12834" y="7"/>
                      <a:pt x="12833" y="7"/>
                    </a:cubicBezTo>
                    <a:lnTo>
                      <a:pt x="12833" y="7"/>
                    </a:lnTo>
                    <a:cubicBezTo>
                      <a:pt x="12832" y="7"/>
                      <a:pt x="12831" y="6"/>
                      <a:pt x="12831" y="5"/>
                    </a:cubicBezTo>
                    <a:cubicBezTo>
                      <a:pt x="12831" y="4"/>
                      <a:pt x="12832" y="3"/>
                      <a:pt x="12833" y="3"/>
                    </a:cubicBezTo>
                    <a:close/>
                    <a:moveTo>
                      <a:pt x="12841" y="3"/>
                    </a:moveTo>
                    <a:lnTo>
                      <a:pt x="12841" y="3"/>
                    </a:lnTo>
                    <a:cubicBezTo>
                      <a:pt x="12842" y="3"/>
                      <a:pt x="12843" y="4"/>
                      <a:pt x="12843" y="5"/>
                    </a:cubicBezTo>
                    <a:cubicBezTo>
                      <a:pt x="12843" y="6"/>
                      <a:pt x="12842" y="7"/>
                      <a:pt x="12841" y="7"/>
                    </a:cubicBezTo>
                    <a:lnTo>
                      <a:pt x="12841" y="7"/>
                    </a:lnTo>
                    <a:cubicBezTo>
                      <a:pt x="12840" y="7"/>
                      <a:pt x="12839" y="6"/>
                      <a:pt x="12839" y="5"/>
                    </a:cubicBezTo>
                    <a:cubicBezTo>
                      <a:pt x="12839" y="4"/>
                      <a:pt x="12840" y="3"/>
                      <a:pt x="12841" y="3"/>
                    </a:cubicBezTo>
                    <a:close/>
                    <a:moveTo>
                      <a:pt x="12849" y="3"/>
                    </a:moveTo>
                    <a:lnTo>
                      <a:pt x="12849" y="3"/>
                    </a:lnTo>
                    <a:cubicBezTo>
                      <a:pt x="12850" y="3"/>
                      <a:pt x="12851" y="4"/>
                      <a:pt x="12851" y="5"/>
                    </a:cubicBezTo>
                    <a:cubicBezTo>
                      <a:pt x="12851" y="6"/>
                      <a:pt x="12850" y="7"/>
                      <a:pt x="12849" y="7"/>
                    </a:cubicBezTo>
                    <a:lnTo>
                      <a:pt x="12849" y="7"/>
                    </a:lnTo>
                    <a:cubicBezTo>
                      <a:pt x="12848" y="7"/>
                      <a:pt x="12847" y="6"/>
                      <a:pt x="12847" y="5"/>
                    </a:cubicBezTo>
                    <a:cubicBezTo>
                      <a:pt x="12847" y="4"/>
                      <a:pt x="12848" y="3"/>
                      <a:pt x="12849" y="3"/>
                    </a:cubicBezTo>
                    <a:close/>
                    <a:moveTo>
                      <a:pt x="12857" y="3"/>
                    </a:moveTo>
                    <a:lnTo>
                      <a:pt x="12857" y="3"/>
                    </a:lnTo>
                    <a:cubicBezTo>
                      <a:pt x="12858" y="3"/>
                      <a:pt x="12859" y="4"/>
                      <a:pt x="12859" y="5"/>
                    </a:cubicBezTo>
                    <a:cubicBezTo>
                      <a:pt x="12859" y="6"/>
                      <a:pt x="12858" y="7"/>
                      <a:pt x="12857" y="7"/>
                    </a:cubicBezTo>
                    <a:lnTo>
                      <a:pt x="12857" y="7"/>
                    </a:lnTo>
                    <a:cubicBezTo>
                      <a:pt x="12856" y="7"/>
                      <a:pt x="12855" y="6"/>
                      <a:pt x="12855" y="5"/>
                    </a:cubicBezTo>
                    <a:cubicBezTo>
                      <a:pt x="12855" y="4"/>
                      <a:pt x="12856" y="3"/>
                      <a:pt x="12857" y="3"/>
                    </a:cubicBezTo>
                    <a:close/>
                    <a:moveTo>
                      <a:pt x="12865" y="3"/>
                    </a:moveTo>
                    <a:lnTo>
                      <a:pt x="12865" y="3"/>
                    </a:lnTo>
                    <a:cubicBezTo>
                      <a:pt x="12866" y="3"/>
                      <a:pt x="12867" y="4"/>
                      <a:pt x="12867" y="5"/>
                    </a:cubicBezTo>
                    <a:cubicBezTo>
                      <a:pt x="12867" y="6"/>
                      <a:pt x="12866" y="7"/>
                      <a:pt x="12865" y="7"/>
                    </a:cubicBezTo>
                    <a:lnTo>
                      <a:pt x="12865" y="7"/>
                    </a:lnTo>
                    <a:cubicBezTo>
                      <a:pt x="12864" y="7"/>
                      <a:pt x="12863" y="6"/>
                      <a:pt x="12863" y="5"/>
                    </a:cubicBezTo>
                    <a:cubicBezTo>
                      <a:pt x="12863" y="4"/>
                      <a:pt x="12864" y="3"/>
                      <a:pt x="12865" y="3"/>
                    </a:cubicBezTo>
                    <a:close/>
                    <a:moveTo>
                      <a:pt x="12873" y="3"/>
                    </a:moveTo>
                    <a:lnTo>
                      <a:pt x="12873" y="3"/>
                    </a:lnTo>
                    <a:cubicBezTo>
                      <a:pt x="12874" y="3"/>
                      <a:pt x="12875" y="4"/>
                      <a:pt x="12875" y="5"/>
                    </a:cubicBezTo>
                    <a:cubicBezTo>
                      <a:pt x="12875" y="6"/>
                      <a:pt x="12874" y="7"/>
                      <a:pt x="12873" y="7"/>
                    </a:cubicBezTo>
                    <a:lnTo>
                      <a:pt x="12873" y="7"/>
                    </a:lnTo>
                    <a:cubicBezTo>
                      <a:pt x="12872" y="7"/>
                      <a:pt x="12871" y="6"/>
                      <a:pt x="12871" y="5"/>
                    </a:cubicBezTo>
                    <a:cubicBezTo>
                      <a:pt x="12871" y="4"/>
                      <a:pt x="12872" y="3"/>
                      <a:pt x="12873" y="3"/>
                    </a:cubicBezTo>
                    <a:close/>
                    <a:moveTo>
                      <a:pt x="12881" y="3"/>
                    </a:moveTo>
                    <a:lnTo>
                      <a:pt x="12881" y="3"/>
                    </a:lnTo>
                    <a:cubicBezTo>
                      <a:pt x="12882" y="3"/>
                      <a:pt x="12883" y="4"/>
                      <a:pt x="12883" y="5"/>
                    </a:cubicBezTo>
                    <a:cubicBezTo>
                      <a:pt x="12883" y="6"/>
                      <a:pt x="12882" y="7"/>
                      <a:pt x="12881" y="7"/>
                    </a:cubicBezTo>
                    <a:lnTo>
                      <a:pt x="12881" y="7"/>
                    </a:lnTo>
                    <a:cubicBezTo>
                      <a:pt x="12880" y="7"/>
                      <a:pt x="12879" y="6"/>
                      <a:pt x="12879" y="5"/>
                    </a:cubicBezTo>
                    <a:cubicBezTo>
                      <a:pt x="12879" y="4"/>
                      <a:pt x="12880" y="3"/>
                      <a:pt x="12881" y="3"/>
                    </a:cubicBezTo>
                    <a:close/>
                    <a:moveTo>
                      <a:pt x="12889" y="3"/>
                    </a:moveTo>
                    <a:lnTo>
                      <a:pt x="12889" y="3"/>
                    </a:lnTo>
                    <a:cubicBezTo>
                      <a:pt x="12890" y="3"/>
                      <a:pt x="12891" y="4"/>
                      <a:pt x="12891" y="5"/>
                    </a:cubicBezTo>
                    <a:cubicBezTo>
                      <a:pt x="12891" y="6"/>
                      <a:pt x="12890" y="7"/>
                      <a:pt x="12889" y="7"/>
                    </a:cubicBezTo>
                    <a:lnTo>
                      <a:pt x="12889" y="7"/>
                    </a:lnTo>
                    <a:cubicBezTo>
                      <a:pt x="12888" y="7"/>
                      <a:pt x="12887" y="6"/>
                      <a:pt x="12887" y="5"/>
                    </a:cubicBezTo>
                    <a:cubicBezTo>
                      <a:pt x="12887" y="4"/>
                      <a:pt x="12888" y="3"/>
                      <a:pt x="12889" y="3"/>
                    </a:cubicBezTo>
                    <a:close/>
                    <a:moveTo>
                      <a:pt x="12897" y="3"/>
                    </a:moveTo>
                    <a:lnTo>
                      <a:pt x="12897" y="3"/>
                    </a:lnTo>
                    <a:cubicBezTo>
                      <a:pt x="12898" y="3"/>
                      <a:pt x="12899" y="4"/>
                      <a:pt x="12899" y="5"/>
                    </a:cubicBezTo>
                    <a:cubicBezTo>
                      <a:pt x="12899" y="6"/>
                      <a:pt x="12898" y="7"/>
                      <a:pt x="12897" y="7"/>
                    </a:cubicBezTo>
                    <a:lnTo>
                      <a:pt x="12897" y="7"/>
                    </a:lnTo>
                    <a:cubicBezTo>
                      <a:pt x="12896" y="7"/>
                      <a:pt x="12895" y="6"/>
                      <a:pt x="12895" y="5"/>
                    </a:cubicBezTo>
                    <a:cubicBezTo>
                      <a:pt x="12895" y="4"/>
                      <a:pt x="12896" y="3"/>
                      <a:pt x="12897" y="3"/>
                    </a:cubicBezTo>
                    <a:close/>
                    <a:moveTo>
                      <a:pt x="12905" y="3"/>
                    </a:moveTo>
                    <a:lnTo>
                      <a:pt x="12905" y="3"/>
                    </a:lnTo>
                    <a:cubicBezTo>
                      <a:pt x="12906" y="3"/>
                      <a:pt x="12907" y="4"/>
                      <a:pt x="12907" y="5"/>
                    </a:cubicBezTo>
                    <a:cubicBezTo>
                      <a:pt x="12907" y="6"/>
                      <a:pt x="12906" y="7"/>
                      <a:pt x="12905" y="7"/>
                    </a:cubicBezTo>
                    <a:lnTo>
                      <a:pt x="12905" y="7"/>
                    </a:lnTo>
                    <a:cubicBezTo>
                      <a:pt x="12904" y="7"/>
                      <a:pt x="12903" y="6"/>
                      <a:pt x="12903" y="5"/>
                    </a:cubicBezTo>
                    <a:cubicBezTo>
                      <a:pt x="12903" y="4"/>
                      <a:pt x="12904" y="3"/>
                      <a:pt x="12905" y="3"/>
                    </a:cubicBezTo>
                    <a:close/>
                    <a:moveTo>
                      <a:pt x="12913" y="3"/>
                    </a:moveTo>
                    <a:lnTo>
                      <a:pt x="12913" y="3"/>
                    </a:lnTo>
                    <a:cubicBezTo>
                      <a:pt x="12914" y="3"/>
                      <a:pt x="12915" y="4"/>
                      <a:pt x="12915" y="5"/>
                    </a:cubicBezTo>
                    <a:cubicBezTo>
                      <a:pt x="12915" y="6"/>
                      <a:pt x="12914" y="7"/>
                      <a:pt x="12913" y="7"/>
                    </a:cubicBezTo>
                    <a:lnTo>
                      <a:pt x="12913" y="7"/>
                    </a:lnTo>
                    <a:cubicBezTo>
                      <a:pt x="12912" y="7"/>
                      <a:pt x="12911" y="6"/>
                      <a:pt x="12911" y="5"/>
                    </a:cubicBezTo>
                    <a:cubicBezTo>
                      <a:pt x="12911" y="4"/>
                      <a:pt x="12912" y="3"/>
                      <a:pt x="12913" y="3"/>
                    </a:cubicBezTo>
                    <a:close/>
                    <a:moveTo>
                      <a:pt x="12921" y="3"/>
                    </a:moveTo>
                    <a:lnTo>
                      <a:pt x="12921" y="3"/>
                    </a:lnTo>
                    <a:cubicBezTo>
                      <a:pt x="12922" y="3"/>
                      <a:pt x="12923" y="4"/>
                      <a:pt x="12923" y="5"/>
                    </a:cubicBezTo>
                    <a:cubicBezTo>
                      <a:pt x="12923" y="6"/>
                      <a:pt x="12922" y="7"/>
                      <a:pt x="12921" y="7"/>
                    </a:cubicBezTo>
                    <a:lnTo>
                      <a:pt x="12921" y="7"/>
                    </a:lnTo>
                    <a:cubicBezTo>
                      <a:pt x="12920" y="7"/>
                      <a:pt x="12919" y="6"/>
                      <a:pt x="12919" y="5"/>
                    </a:cubicBezTo>
                    <a:cubicBezTo>
                      <a:pt x="12919" y="4"/>
                      <a:pt x="12920" y="3"/>
                      <a:pt x="12921" y="3"/>
                    </a:cubicBezTo>
                    <a:close/>
                    <a:moveTo>
                      <a:pt x="12929" y="3"/>
                    </a:moveTo>
                    <a:lnTo>
                      <a:pt x="12929" y="3"/>
                    </a:lnTo>
                    <a:cubicBezTo>
                      <a:pt x="12930" y="3"/>
                      <a:pt x="12931" y="4"/>
                      <a:pt x="12931" y="5"/>
                    </a:cubicBezTo>
                    <a:cubicBezTo>
                      <a:pt x="12931" y="6"/>
                      <a:pt x="12930" y="7"/>
                      <a:pt x="12929" y="7"/>
                    </a:cubicBezTo>
                    <a:lnTo>
                      <a:pt x="12929" y="7"/>
                    </a:lnTo>
                    <a:cubicBezTo>
                      <a:pt x="12928" y="7"/>
                      <a:pt x="12927" y="6"/>
                      <a:pt x="12927" y="5"/>
                    </a:cubicBezTo>
                    <a:cubicBezTo>
                      <a:pt x="12927" y="4"/>
                      <a:pt x="12928" y="3"/>
                      <a:pt x="12929" y="3"/>
                    </a:cubicBezTo>
                    <a:close/>
                    <a:moveTo>
                      <a:pt x="12937" y="3"/>
                    </a:moveTo>
                    <a:lnTo>
                      <a:pt x="12937" y="3"/>
                    </a:lnTo>
                    <a:cubicBezTo>
                      <a:pt x="12938" y="3"/>
                      <a:pt x="12939" y="4"/>
                      <a:pt x="12939" y="5"/>
                    </a:cubicBezTo>
                    <a:cubicBezTo>
                      <a:pt x="12939" y="6"/>
                      <a:pt x="12938" y="7"/>
                      <a:pt x="12937" y="7"/>
                    </a:cubicBezTo>
                    <a:lnTo>
                      <a:pt x="12937" y="7"/>
                    </a:lnTo>
                    <a:cubicBezTo>
                      <a:pt x="12936" y="7"/>
                      <a:pt x="12935" y="6"/>
                      <a:pt x="12935" y="5"/>
                    </a:cubicBezTo>
                    <a:cubicBezTo>
                      <a:pt x="12935" y="4"/>
                      <a:pt x="12936" y="3"/>
                      <a:pt x="12937" y="3"/>
                    </a:cubicBezTo>
                    <a:close/>
                    <a:moveTo>
                      <a:pt x="12945" y="3"/>
                    </a:moveTo>
                    <a:lnTo>
                      <a:pt x="12945" y="3"/>
                    </a:lnTo>
                    <a:cubicBezTo>
                      <a:pt x="12946" y="3"/>
                      <a:pt x="12947" y="4"/>
                      <a:pt x="12947" y="5"/>
                    </a:cubicBezTo>
                    <a:cubicBezTo>
                      <a:pt x="12947" y="6"/>
                      <a:pt x="12946" y="7"/>
                      <a:pt x="12945" y="7"/>
                    </a:cubicBezTo>
                    <a:lnTo>
                      <a:pt x="12945" y="7"/>
                    </a:lnTo>
                    <a:cubicBezTo>
                      <a:pt x="12944" y="7"/>
                      <a:pt x="12943" y="6"/>
                      <a:pt x="12943" y="5"/>
                    </a:cubicBezTo>
                    <a:cubicBezTo>
                      <a:pt x="12943" y="4"/>
                      <a:pt x="12944" y="3"/>
                      <a:pt x="12945" y="3"/>
                    </a:cubicBezTo>
                    <a:close/>
                    <a:moveTo>
                      <a:pt x="12953" y="3"/>
                    </a:moveTo>
                    <a:lnTo>
                      <a:pt x="12953" y="3"/>
                    </a:lnTo>
                    <a:cubicBezTo>
                      <a:pt x="12954" y="3"/>
                      <a:pt x="12955" y="4"/>
                      <a:pt x="12955" y="5"/>
                    </a:cubicBezTo>
                    <a:cubicBezTo>
                      <a:pt x="12955" y="6"/>
                      <a:pt x="12954" y="7"/>
                      <a:pt x="12953" y="7"/>
                    </a:cubicBezTo>
                    <a:lnTo>
                      <a:pt x="12953" y="7"/>
                    </a:lnTo>
                    <a:cubicBezTo>
                      <a:pt x="12952" y="7"/>
                      <a:pt x="12951" y="6"/>
                      <a:pt x="12951" y="5"/>
                    </a:cubicBezTo>
                    <a:cubicBezTo>
                      <a:pt x="12951" y="4"/>
                      <a:pt x="12952" y="3"/>
                      <a:pt x="12953" y="3"/>
                    </a:cubicBezTo>
                    <a:close/>
                    <a:moveTo>
                      <a:pt x="12961" y="3"/>
                    </a:moveTo>
                    <a:lnTo>
                      <a:pt x="12961" y="3"/>
                    </a:lnTo>
                    <a:cubicBezTo>
                      <a:pt x="12962" y="3"/>
                      <a:pt x="12963" y="4"/>
                      <a:pt x="12963" y="5"/>
                    </a:cubicBezTo>
                    <a:cubicBezTo>
                      <a:pt x="12963" y="6"/>
                      <a:pt x="12962" y="7"/>
                      <a:pt x="12961" y="7"/>
                    </a:cubicBezTo>
                    <a:lnTo>
                      <a:pt x="12961" y="7"/>
                    </a:lnTo>
                    <a:cubicBezTo>
                      <a:pt x="12960" y="7"/>
                      <a:pt x="12959" y="6"/>
                      <a:pt x="12959" y="5"/>
                    </a:cubicBezTo>
                    <a:cubicBezTo>
                      <a:pt x="12959" y="4"/>
                      <a:pt x="12960" y="3"/>
                      <a:pt x="12961" y="3"/>
                    </a:cubicBezTo>
                    <a:close/>
                    <a:moveTo>
                      <a:pt x="12969" y="3"/>
                    </a:moveTo>
                    <a:lnTo>
                      <a:pt x="12969" y="3"/>
                    </a:lnTo>
                    <a:cubicBezTo>
                      <a:pt x="12970" y="3"/>
                      <a:pt x="12971" y="4"/>
                      <a:pt x="12971" y="5"/>
                    </a:cubicBezTo>
                    <a:cubicBezTo>
                      <a:pt x="12971" y="6"/>
                      <a:pt x="12970" y="7"/>
                      <a:pt x="12969" y="7"/>
                    </a:cubicBezTo>
                    <a:lnTo>
                      <a:pt x="12969" y="7"/>
                    </a:lnTo>
                    <a:cubicBezTo>
                      <a:pt x="12968" y="7"/>
                      <a:pt x="12967" y="6"/>
                      <a:pt x="12967" y="5"/>
                    </a:cubicBezTo>
                    <a:cubicBezTo>
                      <a:pt x="12967" y="4"/>
                      <a:pt x="12968" y="3"/>
                      <a:pt x="12969" y="3"/>
                    </a:cubicBezTo>
                    <a:close/>
                    <a:moveTo>
                      <a:pt x="12977" y="3"/>
                    </a:moveTo>
                    <a:lnTo>
                      <a:pt x="12977" y="3"/>
                    </a:lnTo>
                    <a:cubicBezTo>
                      <a:pt x="12978" y="3"/>
                      <a:pt x="12979" y="4"/>
                      <a:pt x="12979" y="5"/>
                    </a:cubicBezTo>
                    <a:cubicBezTo>
                      <a:pt x="12979" y="6"/>
                      <a:pt x="12978" y="7"/>
                      <a:pt x="12977" y="7"/>
                    </a:cubicBezTo>
                    <a:lnTo>
                      <a:pt x="12977" y="7"/>
                    </a:lnTo>
                    <a:cubicBezTo>
                      <a:pt x="12976" y="7"/>
                      <a:pt x="12975" y="6"/>
                      <a:pt x="12975" y="5"/>
                    </a:cubicBezTo>
                    <a:cubicBezTo>
                      <a:pt x="12975" y="4"/>
                      <a:pt x="12976" y="3"/>
                      <a:pt x="12977" y="3"/>
                    </a:cubicBezTo>
                    <a:close/>
                    <a:moveTo>
                      <a:pt x="12985" y="3"/>
                    </a:moveTo>
                    <a:lnTo>
                      <a:pt x="12985" y="3"/>
                    </a:lnTo>
                    <a:cubicBezTo>
                      <a:pt x="12986" y="3"/>
                      <a:pt x="12987" y="4"/>
                      <a:pt x="12987" y="5"/>
                    </a:cubicBezTo>
                    <a:cubicBezTo>
                      <a:pt x="12987" y="6"/>
                      <a:pt x="12986" y="7"/>
                      <a:pt x="12985" y="7"/>
                    </a:cubicBezTo>
                    <a:lnTo>
                      <a:pt x="12985" y="7"/>
                    </a:lnTo>
                    <a:cubicBezTo>
                      <a:pt x="12984" y="7"/>
                      <a:pt x="12983" y="6"/>
                      <a:pt x="12983" y="5"/>
                    </a:cubicBezTo>
                    <a:cubicBezTo>
                      <a:pt x="12983" y="4"/>
                      <a:pt x="12984" y="3"/>
                      <a:pt x="12985" y="3"/>
                    </a:cubicBezTo>
                    <a:close/>
                    <a:moveTo>
                      <a:pt x="12993" y="3"/>
                    </a:moveTo>
                    <a:lnTo>
                      <a:pt x="12993" y="3"/>
                    </a:lnTo>
                    <a:cubicBezTo>
                      <a:pt x="12994" y="3"/>
                      <a:pt x="12995" y="4"/>
                      <a:pt x="12995" y="5"/>
                    </a:cubicBezTo>
                    <a:cubicBezTo>
                      <a:pt x="12995" y="6"/>
                      <a:pt x="12994" y="7"/>
                      <a:pt x="12993" y="7"/>
                    </a:cubicBezTo>
                    <a:lnTo>
                      <a:pt x="12993" y="7"/>
                    </a:lnTo>
                    <a:cubicBezTo>
                      <a:pt x="12992" y="7"/>
                      <a:pt x="12991" y="6"/>
                      <a:pt x="12991" y="5"/>
                    </a:cubicBezTo>
                    <a:cubicBezTo>
                      <a:pt x="12991" y="4"/>
                      <a:pt x="12992" y="3"/>
                      <a:pt x="12993" y="3"/>
                    </a:cubicBezTo>
                    <a:close/>
                    <a:moveTo>
                      <a:pt x="13001" y="3"/>
                    </a:moveTo>
                    <a:lnTo>
                      <a:pt x="13001" y="3"/>
                    </a:lnTo>
                    <a:cubicBezTo>
                      <a:pt x="13002" y="3"/>
                      <a:pt x="13003" y="4"/>
                      <a:pt x="13003" y="5"/>
                    </a:cubicBezTo>
                    <a:cubicBezTo>
                      <a:pt x="13003" y="6"/>
                      <a:pt x="13002" y="7"/>
                      <a:pt x="13001" y="7"/>
                    </a:cubicBezTo>
                    <a:lnTo>
                      <a:pt x="13001" y="7"/>
                    </a:lnTo>
                    <a:cubicBezTo>
                      <a:pt x="13000" y="7"/>
                      <a:pt x="12999" y="6"/>
                      <a:pt x="12999" y="5"/>
                    </a:cubicBezTo>
                    <a:cubicBezTo>
                      <a:pt x="12999" y="4"/>
                      <a:pt x="13000" y="3"/>
                      <a:pt x="13001" y="3"/>
                    </a:cubicBezTo>
                    <a:close/>
                    <a:moveTo>
                      <a:pt x="13009" y="3"/>
                    </a:moveTo>
                    <a:lnTo>
                      <a:pt x="13009" y="3"/>
                    </a:lnTo>
                    <a:cubicBezTo>
                      <a:pt x="13010" y="3"/>
                      <a:pt x="13011" y="4"/>
                      <a:pt x="13011" y="5"/>
                    </a:cubicBezTo>
                    <a:cubicBezTo>
                      <a:pt x="13011" y="6"/>
                      <a:pt x="13010" y="7"/>
                      <a:pt x="13009" y="7"/>
                    </a:cubicBezTo>
                    <a:lnTo>
                      <a:pt x="13009" y="7"/>
                    </a:lnTo>
                    <a:cubicBezTo>
                      <a:pt x="13008" y="7"/>
                      <a:pt x="13007" y="6"/>
                      <a:pt x="13007" y="5"/>
                    </a:cubicBezTo>
                    <a:cubicBezTo>
                      <a:pt x="13007" y="4"/>
                      <a:pt x="13008" y="3"/>
                      <a:pt x="13009" y="3"/>
                    </a:cubicBezTo>
                    <a:close/>
                    <a:moveTo>
                      <a:pt x="13017" y="3"/>
                    </a:moveTo>
                    <a:lnTo>
                      <a:pt x="13017" y="3"/>
                    </a:lnTo>
                    <a:cubicBezTo>
                      <a:pt x="13018" y="3"/>
                      <a:pt x="13019" y="4"/>
                      <a:pt x="13019" y="5"/>
                    </a:cubicBezTo>
                    <a:cubicBezTo>
                      <a:pt x="13019" y="6"/>
                      <a:pt x="13018" y="7"/>
                      <a:pt x="13017" y="7"/>
                    </a:cubicBezTo>
                    <a:lnTo>
                      <a:pt x="13017" y="7"/>
                    </a:lnTo>
                    <a:cubicBezTo>
                      <a:pt x="13016" y="7"/>
                      <a:pt x="13015" y="6"/>
                      <a:pt x="13015" y="5"/>
                    </a:cubicBezTo>
                    <a:cubicBezTo>
                      <a:pt x="13015" y="4"/>
                      <a:pt x="13016" y="3"/>
                      <a:pt x="13017" y="3"/>
                    </a:cubicBezTo>
                    <a:close/>
                    <a:moveTo>
                      <a:pt x="13025" y="3"/>
                    </a:moveTo>
                    <a:lnTo>
                      <a:pt x="13025" y="3"/>
                    </a:lnTo>
                    <a:cubicBezTo>
                      <a:pt x="13026" y="3"/>
                      <a:pt x="13027" y="4"/>
                      <a:pt x="13027" y="5"/>
                    </a:cubicBezTo>
                    <a:cubicBezTo>
                      <a:pt x="13027" y="6"/>
                      <a:pt x="13026" y="7"/>
                      <a:pt x="13025" y="7"/>
                    </a:cubicBezTo>
                    <a:lnTo>
                      <a:pt x="13025" y="7"/>
                    </a:lnTo>
                    <a:cubicBezTo>
                      <a:pt x="13024" y="7"/>
                      <a:pt x="13023" y="6"/>
                      <a:pt x="13023" y="5"/>
                    </a:cubicBezTo>
                    <a:cubicBezTo>
                      <a:pt x="13023" y="4"/>
                      <a:pt x="13024" y="3"/>
                      <a:pt x="13025" y="3"/>
                    </a:cubicBezTo>
                    <a:close/>
                    <a:moveTo>
                      <a:pt x="13033" y="3"/>
                    </a:moveTo>
                    <a:lnTo>
                      <a:pt x="13033" y="3"/>
                    </a:lnTo>
                    <a:cubicBezTo>
                      <a:pt x="13034" y="3"/>
                      <a:pt x="13035" y="4"/>
                      <a:pt x="13035" y="5"/>
                    </a:cubicBezTo>
                    <a:cubicBezTo>
                      <a:pt x="13035" y="6"/>
                      <a:pt x="13034" y="7"/>
                      <a:pt x="13033" y="7"/>
                    </a:cubicBezTo>
                    <a:lnTo>
                      <a:pt x="13033" y="7"/>
                    </a:lnTo>
                    <a:cubicBezTo>
                      <a:pt x="13032" y="7"/>
                      <a:pt x="13031" y="6"/>
                      <a:pt x="13031" y="5"/>
                    </a:cubicBezTo>
                    <a:cubicBezTo>
                      <a:pt x="13031" y="4"/>
                      <a:pt x="13032" y="3"/>
                      <a:pt x="13033" y="3"/>
                    </a:cubicBezTo>
                    <a:close/>
                    <a:moveTo>
                      <a:pt x="13041" y="3"/>
                    </a:moveTo>
                    <a:lnTo>
                      <a:pt x="13041" y="3"/>
                    </a:lnTo>
                    <a:cubicBezTo>
                      <a:pt x="13042" y="3"/>
                      <a:pt x="13043" y="4"/>
                      <a:pt x="13043" y="5"/>
                    </a:cubicBezTo>
                    <a:cubicBezTo>
                      <a:pt x="13043" y="6"/>
                      <a:pt x="13042" y="7"/>
                      <a:pt x="13041" y="7"/>
                    </a:cubicBezTo>
                    <a:lnTo>
                      <a:pt x="13041" y="7"/>
                    </a:lnTo>
                    <a:cubicBezTo>
                      <a:pt x="13040" y="7"/>
                      <a:pt x="13039" y="6"/>
                      <a:pt x="13039" y="5"/>
                    </a:cubicBezTo>
                    <a:cubicBezTo>
                      <a:pt x="13039" y="4"/>
                      <a:pt x="13040" y="3"/>
                      <a:pt x="13041" y="3"/>
                    </a:cubicBezTo>
                    <a:close/>
                    <a:moveTo>
                      <a:pt x="13049" y="3"/>
                    </a:moveTo>
                    <a:lnTo>
                      <a:pt x="13049" y="3"/>
                    </a:lnTo>
                    <a:cubicBezTo>
                      <a:pt x="13050" y="3"/>
                      <a:pt x="13051" y="4"/>
                      <a:pt x="13051" y="5"/>
                    </a:cubicBezTo>
                    <a:cubicBezTo>
                      <a:pt x="13051" y="6"/>
                      <a:pt x="13050" y="7"/>
                      <a:pt x="13049" y="7"/>
                    </a:cubicBezTo>
                    <a:lnTo>
                      <a:pt x="13049" y="7"/>
                    </a:lnTo>
                    <a:cubicBezTo>
                      <a:pt x="13048" y="7"/>
                      <a:pt x="13047" y="6"/>
                      <a:pt x="13047" y="5"/>
                    </a:cubicBezTo>
                    <a:cubicBezTo>
                      <a:pt x="13047" y="4"/>
                      <a:pt x="13048" y="3"/>
                      <a:pt x="13049" y="3"/>
                    </a:cubicBezTo>
                    <a:close/>
                    <a:moveTo>
                      <a:pt x="13057" y="3"/>
                    </a:moveTo>
                    <a:lnTo>
                      <a:pt x="13057" y="3"/>
                    </a:lnTo>
                    <a:cubicBezTo>
                      <a:pt x="13058" y="3"/>
                      <a:pt x="13059" y="4"/>
                      <a:pt x="13059" y="5"/>
                    </a:cubicBezTo>
                    <a:cubicBezTo>
                      <a:pt x="13059" y="6"/>
                      <a:pt x="13058" y="7"/>
                      <a:pt x="13057" y="7"/>
                    </a:cubicBezTo>
                    <a:lnTo>
                      <a:pt x="13057" y="7"/>
                    </a:lnTo>
                    <a:cubicBezTo>
                      <a:pt x="13056" y="7"/>
                      <a:pt x="13055" y="6"/>
                      <a:pt x="13055" y="5"/>
                    </a:cubicBezTo>
                    <a:cubicBezTo>
                      <a:pt x="13055" y="4"/>
                      <a:pt x="13056" y="3"/>
                      <a:pt x="13057" y="3"/>
                    </a:cubicBezTo>
                    <a:close/>
                    <a:moveTo>
                      <a:pt x="13065" y="3"/>
                    </a:moveTo>
                    <a:lnTo>
                      <a:pt x="13065" y="3"/>
                    </a:lnTo>
                    <a:cubicBezTo>
                      <a:pt x="13066" y="3"/>
                      <a:pt x="13067" y="4"/>
                      <a:pt x="13067" y="5"/>
                    </a:cubicBezTo>
                    <a:cubicBezTo>
                      <a:pt x="13067" y="6"/>
                      <a:pt x="13066" y="7"/>
                      <a:pt x="13065" y="7"/>
                    </a:cubicBezTo>
                    <a:lnTo>
                      <a:pt x="13065" y="7"/>
                    </a:lnTo>
                    <a:cubicBezTo>
                      <a:pt x="13064" y="7"/>
                      <a:pt x="13063" y="6"/>
                      <a:pt x="13063" y="5"/>
                    </a:cubicBezTo>
                    <a:cubicBezTo>
                      <a:pt x="13063" y="4"/>
                      <a:pt x="13064" y="3"/>
                      <a:pt x="13065" y="3"/>
                    </a:cubicBezTo>
                    <a:close/>
                    <a:moveTo>
                      <a:pt x="13073" y="3"/>
                    </a:moveTo>
                    <a:lnTo>
                      <a:pt x="13073" y="3"/>
                    </a:lnTo>
                    <a:cubicBezTo>
                      <a:pt x="13074" y="3"/>
                      <a:pt x="13075" y="4"/>
                      <a:pt x="13075" y="5"/>
                    </a:cubicBezTo>
                    <a:cubicBezTo>
                      <a:pt x="13075" y="6"/>
                      <a:pt x="13074" y="7"/>
                      <a:pt x="13073" y="7"/>
                    </a:cubicBezTo>
                    <a:lnTo>
                      <a:pt x="13073" y="7"/>
                    </a:lnTo>
                    <a:cubicBezTo>
                      <a:pt x="13072" y="7"/>
                      <a:pt x="13071" y="6"/>
                      <a:pt x="13071" y="5"/>
                    </a:cubicBezTo>
                    <a:cubicBezTo>
                      <a:pt x="13071" y="4"/>
                      <a:pt x="13072" y="3"/>
                      <a:pt x="13073" y="3"/>
                    </a:cubicBezTo>
                    <a:close/>
                    <a:moveTo>
                      <a:pt x="13081" y="3"/>
                    </a:moveTo>
                    <a:lnTo>
                      <a:pt x="13081" y="3"/>
                    </a:lnTo>
                    <a:cubicBezTo>
                      <a:pt x="13082" y="3"/>
                      <a:pt x="13083" y="4"/>
                      <a:pt x="13083" y="5"/>
                    </a:cubicBezTo>
                    <a:cubicBezTo>
                      <a:pt x="13083" y="6"/>
                      <a:pt x="13082" y="7"/>
                      <a:pt x="13081" y="7"/>
                    </a:cubicBezTo>
                    <a:lnTo>
                      <a:pt x="13081" y="7"/>
                    </a:lnTo>
                    <a:cubicBezTo>
                      <a:pt x="13080" y="7"/>
                      <a:pt x="13079" y="6"/>
                      <a:pt x="13079" y="5"/>
                    </a:cubicBezTo>
                    <a:cubicBezTo>
                      <a:pt x="13079" y="4"/>
                      <a:pt x="13080" y="3"/>
                      <a:pt x="13081" y="3"/>
                    </a:cubicBezTo>
                    <a:close/>
                    <a:moveTo>
                      <a:pt x="13089" y="3"/>
                    </a:moveTo>
                    <a:lnTo>
                      <a:pt x="13089" y="3"/>
                    </a:lnTo>
                    <a:cubicBezTo>
                      <a:pt x="13090" y="3"/>
                      <a:pt x="13091" y="4"/>
                      <a:pt x="13091" y="5"/>
                    </a:cubicBezTo>
                    <a:cubicBezTo>
                      <a:pt x="13091" y="6"/>
                      <a:pt x="13090" y="7"/>
                      <a:pt x="13089" y="7"/>
                    </a:cubicBezTo>
                    <a:lnTo>
                      <a:pt x="13089" y="7"/>
                    </a:lnTo>
                    <a:cubicBezTo>
                      <a:pt x="13088" y="7"/>
                      <a:pt x="13087" y="6"/>
                      <a:pt x="13087" y="5"/>
                    </a:cubicBezTo>
                    <a:cubicBezTo>
                      <a:pt x="13087" y="4"/>
                      <a:pt x="13088" y="3"/>
                      <a:pt x="13089" y="3"/>
                    </a:cubicBezTo>
                    <a:close/>
                    <a:moveTo>
                      <a:pt x="13097" y="3"/>
                    </a:moveTo>
                    <a:lnTo>
                      <a:pt x="13097" y="3"/>
                    </a:lnTo>
                    <a:cubicBezTo>
                      <a:pt x="13098" y="3"/>
                      <a:pt x="13099" y="4"/>
                      <a:pt x="13099" y="5"/>
                    </a:cubicBezTo>
                    <a:cubicBezTo>
                      <a:pt x="13099" y="6"/>
                      <a:pt x="13098" y="7"/>
                      <a:pt x="13097" y="7"/>
                    </a:cubicBezTo>
                    <a:lnTo>
                      <a:pt x="13097" y="7"/>
                    </a:lnTo>
                    <a:cubicBezTo>
                      <a:pt x="13096" y="7"/>
                      <a:pt x="13095" y="6"/>
                      <a:pt x="13095" y="5"/>
                    </a:cubicBezTo>
                    <a:cubicBezTo>
                      <a:pt x="13095" y="4"/>
                      <a:pt x="13096" y="3"/>
                      <a:pt x="13097" y="3"/>
                    </a:cubicBezTo>
                    <a:close/>
                    <a:moveTo>
                      <a:pt x="13105" y="3"/>
                    </a:moveTo>
                    <a:lnTo>
                      <a:pt x="13105" y="3"/>
                    </a:lnTo>
                    <a:cubicBezTo>
                      <a:pt x="13106" y="3"/>
                      <a:pt x="13107" y="4"/>
                      <a:pt x="13107" y="5"/>
                    </a:cubicBezTo>
                    <a:cubicBezTo>
                      <a:pt x="13107" y="6"/>
                      <a:pt x="13106" y="7"/>
                      <a:pt x="13105" y="7"/>
                    </a:cubicBezTo>
                    <a:lnTo>
                      <a:pt x="13105" y="7"/>
                    </a:lnTo>
                    <a:cubicBezTo>
                      <a:pt x="13104" y="7"/>
                      <a:pt x="13103" y="6"/>
                      <a:pt x="13103" y="5"/>
                    </a:cubicBezTo>
                    <a:cubicBezTo>
                      <a:pt x="13103" y="4"/>
                      <a:pt x="13104" y="3"/>
                      <a:pt x="13105" y="3"/>
                    </a:cubicBezTo>
                    <a:close/>
                    <a:moveTo>
                      <a:pt x="13113" y="3"/>
                    </a:moveTo>
                    <a:lnTo>
                      <a:pt x="13113" y="3"/>
                    </a:lnTo>
                    <a:cubicBezTo>
                      <a:pt x="13114" y="3"/>
                      <a:pt x="13115" y="4"/>
                      <a:pt x="13115" y="5"/>
                    </a:cubicBezTo>
                    <a:cubicBezTo>
                      <a:pt x="13115" y="6"/>
                      <a:pt x="13114" y="7"/>
                      <a:pt x="13113" y="7"/>
                    </a:cubicBezTo>
                    <a:lnTo>
                      <a:pt x="13113" y="7"/>
                    </a:lnTo>
                    <a:cubicBezTo>
                      <a:pt x="13112" y="7"/>
                      <a:pt x="13111" y="6"/>
                      <a:pt x="13111" y="5"/>
                    </a:cubicBezTo>
                    <a:cubicBezTo>
                      <a:pt x="13111" y="4"/>
                      <a:pt x="13112" y="3"/>
                      <a:pt x="13113" y="3"/>
                    </a:cubicBezTo>
                    <a:close/>
                    <a:moveTo>
                      <a:pt x="13121" y="3"/>
                    </a:moveTo>
                    <a:lnTo>
                      <a:pt x="13121" y="3"/>
                    </a:lnTo>
                    <a:cubicBezTo>
                      <a:pt x="13122" y="3"/>
                      <a:pt x="13123" y="4"/>
                      <a:pt x="13123" y="5"/>
                    </a:cubicBezTo>
                    <a:cubicBezTo>
                      <a:pt x="13123" y="6"/>
                      <a:pt x="13122" y="7"/>
                      <a:pt x="13121" y="7"/>
                    </a:cubicBezTo>
                    <a:lnTo>
                      <a:pt x="13121" y="7"/>
                    </a:lnTo>
                    <a:cubicBezTo>
                      <a:pt x="13120" y="7"/>
                      <a:pt x="13119" y="6"/>
                      <a:pt x="13119" y="5"/>
                    </a:cubicBezTo>
                    <a:cubicBezTo>
                      <a:pt x="13119" y="4"/>
                      <a:pt x="13120" y="3"/>
                      <a:pt x="13121" y="3"/>
                    </a:cubicBezTo>
                    <a:close/>
                    <a:moveTo>
                      <a:pt x="13129" y="3"/>
                    </a:moveTo>
                    <a:lnTo>
                      <a:pt x="13129" y="3"/>
                    </a:lnTo>
                    <a:cubicBezTo>
                      <a:pt x="13130" y="3"/>
                      <a:pt x="13131" y="4"/>
                      <a:pt x="13131" y="5"/>
                    </a:cubicBezTo>
                    <a:cubicBezTo>
                      <a:pt x="13131" y="6"/>
                      <a:pt x="13130" y="7"/>
                      <a:pt x="13129" y="7"/>
                    </a:cubicBezTo>
                    <a:lnTo>
                      <a:pt x="13129" y="7"/>
                    </a:lnTo>
                    <a:cubicBezTo>
                      <a:pt x="13128" y="7"/>
                      <a:pt x="13127" y="6"/>
                      <a:pt x="13127" y="5"/>
                    </a:cubicBezTo>
                    <a:cubicBezTo>
                      <a:pt x="13127" y="4"/>
                      <a:pt x="13128" y="3"/>
                      <a:pt x="13129" y="3"/>
                    </a:cubicBezTo>
                    <a:close/>
                    <a:moveTo>
                      <a:pt x="13137" y="3"/>
                    </a:moveTo>
                    <a:lnTo>
                      <a:pt x="13137" y="3"/>
                    </a:lnTo>
                    <a:cubicBezTo>
                      <a:pt x="13138" y="3"/>
                      <a:pt x="13139" y="4"/>
                      <a:pt x="13139" y="5"/>
                    </a:cubicBezTo>
                    <a:cubicBezTo>
                      <a:pt x="13139" y="6"/>
                      <a:pt x="13138" y="7"/>
                      <a:pt x="13137" y="7"/>
                    </a:cubicBezTo>
                    <a:lnTo>
                      <a:pt x="13137" y="7"/>
                    </a:lnTo>
                    <a:cubicBezTo>
                      <a:pt x="13136" y="7"/>
                      <a:pt x="13135" y="6"/>
                      <a:pt x="13135" y="5"/>
                    </a:cubicBezTo>
                    <a:cubicBezTo>
                      <a:pt x="13135" y="4"/>
                      <a:pt x="13136" y="3"/>
                      <a:pt x="13137" y="3"/>
                    </a:cubicBezTo>
                    <a:close/>
                    <a:moveTo>
                      <a:pt x="13145" y="3"/>
                    </a:moveTo>
                    <a:lnTo>
                      <a:pt x="13145" y="3"/>
                    </a:lnTo>
                    <a:cubicBezTo>
                      <a:pt x="13146" y="3"/>
                      <a:pt x="13147" y="4"/>
                      <a:pt x="13147" y="5"/>
                    </a:cubicBezTo>
                    <a:cubicBezTo>
                      <a:pt x="13147" y="6"/>
                      <a:pt x="13146" y="7"/>
                      <a:pt x="13145" y="7"/>
                    </a:cubicBezTo>
                    <a:lnTo>
                      <a:pt x="13145" y="7"/>
                    </a:lnTo>
                    <a:cubicBezTo>
                      <a:pt x="13144" y="7"/>
                      <a:pt x="13143" y="6"/>
                      <a:pt x="13143" y="5"/>
                    </a:cubicBezTo>
                    <a:cubicBezTo>
                      <a:pt x="13143" y="4"/>
                      <a:pt x="13144" y="3"/>
                      <a:pt x="13145" y="3"/>
                    </a:cubicBezTo>
                    <a:close/>
                    <a:moveTo>
                      <a:pt x="13153" y="3"/>
                    </a:moveTo>
                    <a:lnTo>
                      <a:pt x="13153" y="3"/>
                    </a:lnTo>
                    <a:cubicBezTo>
                      <a:pt x="13154" y="3"/>
                      <a:pt x="13155" y="4"/>
                      <a:pt x="13155" y="5"/>
                    </a:cubicBezTo>
                    <a:cubicBezTo>
                      <a:pt x="13155" y="6"/>
                      <a:pt x="13154" y="7"/>
                      <a:pt x="13153" y="7"/>
                    </a:cubicBezTo>
                    <a:lnTo>
                      <a:pt x="13153" y="7"/>
                    </a:lnTo>
                    <a:cubicBezTo>
                      <a:pt x="13152" y="7"/>
                      <a:pt x="13151" y="6"/>
                      <a:pt x="13151" y="5"/>
                    </a:cubicBezTo>
                    <a:cubicBezTo>
                      <a:pt x="13151" y="4"/>
                      <a:pt x="13152" y="3"/>
                      <a:pt x="13153" y="3"/>
                    </a:cubicBezTo>
                    <a:close/>
                    <a:moveTo>
                      <a:pt x="13161" y="3"/>
                    </a:moveTo>
                    <a:lnTo>
                      <a:pt x="13161" y="3"/>
                    </a:lnTo>
                    <a:cubicBezTo>
                      <a:pt x="13162" y="3"/>
                      <a:pt x="13163" y="4"/>
                      <a:pt x="13163" y="5"/>
                    </a:cubicBezTo>
                    <a:cubicBezTo>
                      <a:pt x="13163" y="6"/>
                      <a:pt x="13162" y="7"/>
                      <a:pt x="13161" y="7"/>
                    </a:cubicBezTo>
                    <a:lnTo>
                      <a:pt x="13161" y="7"/>
                    </a:lnTo>
                    <a:cubicBezTo>
                      <a:pt x="13160" y="7"/>
                      <a:pt x="13159" y="6"/>
                      <a:pt x="13159" y="5"/>
                    </a:cubicBezTo>
                    <a:cubicBezTo>
                      <a:pt x="13159" y="4"/>
                      <a:pt x="13160" y="3"/>
                      <a:pt x="13161" y="3"/>
                    </a:cubicBezTo>
                    <a:close/>
                    <a:moveTo>
                      <a:pt x="13169" y="3"/>
                    </a:moveTo>
                    <a:lnTo>
                      <a:pt x="13169" y="3"/>
                    </a:lnTo>
                    <a:cubicBezTo>
                      <a:pt x="13170" y="3"/>
                      <a:pt x="13171" y="4"/>
                      <a:pt x="13171" y="5"/>
                    </a:cubicBezTo>
                    <a:cubicBezTo>
                      <a:pt x="13171" y="6"/>
                      <a:pt x="13170" y="7"/>
                      <a:pt x="13169" y="7"/>
                    </a:cubicBezTo>
                    <a:lnTo>
                      <a:pt x="13169" y="7"/>
                    </a:lnTo>
                    <a:cubicBezTo>
                      <a:pt x="13168" y="7"/>
                      <a:pt x="13167" y="6"/>
                      <a:pt x="13167" y="5"/>
                    </a:cubicBezTo>
                    <a:cubicBezTo>
                      <a:pt x="13167" y="4"/>
                      <a:pt x="13168" y="3"/>
                      <a:pt x="13169" y="3"/>
                    </a:cubicBezTo>
                    <a:close/>
                    <a:moveTo>
                      <a:pt x="13177" y="3"/>
                    </a:moveTo>
                    <a:lnTo>
                      <a:pt x="13177" y="3"/>
                    </a:lnTo>
                    <a:cubicBezTo>
                      <a:pt x="13178" y="3"/>
                      <a:pt x="13179" y="4"/>
                      <a:pt x="13179" y="5"/>
                    </a:cubicBezTo>
                    <a:cubicBezTo>
                      <a:pt x="13179" y="6"/>
                      <a:pt x="13178" y="7"/>
                      <a:pt x="13177" y="7"/>
                    </a:cubicBezTo>
                    <a:lnTo>
                      <a:pt x="13177" y="7"/>
                    </a:lnTo>
                    <a:cubicBezTo>
                      <a:pt x="13176" y="7"/>
                      <a:pt x="13175" y="6"/>
                      <a:pt x="13175" y="5"/>
                    </a:cubicBezTo>
                    <a:cubicBezTo>
                      <a:pt x="13175" y="4"/>
                      <a:pt x="13176" y="3"/>
                      <a:pt x="13177" y="3"/>
                    </a:cubicBezTo>
                    <a:close/>
                    <a:moveTo>
                      <a:pt x="13185" y="3"/>
                    </a:moveTo>
                    <a:lnTo>
                      <a:pt x="13185" y="3"/>
                    </a:lnTo>
                    <a:cubicBezTo>
                      <a:pt x="13186" y="3"/>
                      <a:pt x="13187" y="4"/>
                      <a:pt x="13187" y="5"/>
                    </a:cubicBezTo>
                    <a:cubicBezTo>
                      <a:pt x="13187" y="6"/>
                      <a:pt x="13186" y="7"/>
                      <a:pt x="13185" y="7"/>
                    </a:cubicBezTo>
                    <a:lnTo>
                      <a:pt x="13185" y="7"/>
                    </a:lnTo>
                    <a:cubicBezTo>
                      <a:pt x="13184" y="7"/>
                      <a:pt x="13183" y="6"/>
                      <a:pt x="13183" y="5"/>
                    </a:cubicBezTo>
                    <a:cubicBezTo>
                      <a:pt x="13183" y="4"/>
                      <a:pt x="13184" y="3"/>
                      <a:pt x="13185" y="3"/>
                    </a:cubicBezTo>
                    <a:close/>
                    <a:moveTo>
                      <a:pt x="13193" y="3"/>
                    </a:moveTo>
                    <a:lnTo>
                      <a:pt x="13193" y="3"/>
                    </a:lnTo>
                    <a:cubicBezTo>
                      <a:pt x="13194" y="3"/>
                      <a:pt x="13195" y="4"/>
                      <a:pt x="13195" y="5"/>
                    </a:cubicBezTo>
                    <a:cubicBezTo>
                      <a:pt x="13195" y="6"/>
                      <a:pt x="13194" y="7"/>
                      <a:pt x="13193" y="7"/>
                    </a:cubicBezTo>
                    <a:lnTo>
                      <a:pt x="13193" y="7"/>
                    </a:lnTo>
                    <a:cubicBezTo>
                      <a:pt x="13192" y="7"/>
                      <a:pt x="13191" y="6"/>
                      <a:pt x="13191" y="5"/>
                    </a:cubicBezTo>
                    <a:cubicBezTo>
                      <a:pt x="13191" y="4"/>
                      <a:pt x="13192" y="3"/>
                      <a:pt x="13193" y="3"/>
                    </a:cubicBezTo>
                    <a:close/>
                    <a:moveTo>
                      <a:pt x="13201" y="3"/>
                    </a:moveTo>
                    <a:lnTo>
                      <a:pt x="13201" y="3"/>
                    </a:lnTo>
                    <a:cubicBezTo>
                      <a:pt x="13202" y="3"/>
                      <a:pt x="13203" y="4"/>
                      <a:pt x="13203" y="5"/>
                    </a:cubicBezTo>
                    <a:cubicBezTo>
                      <a:pt x="13203" y="6"/>
                      <a:pt x="13202" y="7"/>
                      <a:pt x="13201" y="7"/>
                    </a:cubicBezTo>
                    <a:lnTo>
                      <a:pt x="13201" y="7"/>
                    </a:lnTo>
                    <a:cubicBezTo>
                      <a:pt x="13200" y="7"/>
                      <a:pt x="13199" y="6"/>
                      <a:pt x="13199" y="5"/>
                    </a:cubicBezTo>
                    <a:cubicBezTo>
                      <a:pt x="13199" y="4"/>
                      <a:pt x="13200" y="3"/>
                      <a:pt x="13201" y="3"/>
                    </a:cubicBezTo>
                    <a:close/>
                    <a:moveTo>
                      <a:pt x="13209" y="3"/>
                    </a:moveTo>
                    <a:lnTo>
                      <a:pt x="13209" y="3"/>
                    </a:lnTo>
                    <a:cubicBezTo>
                      <a:pt x="13210" y="3"/>
                      <a:pt x="13211" y="4"/>
                      <a:pt x="13211" y="5"/>
                    </a:cubicBezTo>
                    <a:cubicBezTo>
                      <a:pt x="13211" y="6"/>
                      <a:pt x="13210" y="7"/>
                      <a:pt x="13209" y="7"/>
                    </a:cubicBezTo>
                    <a:lnTo>
                      <a:pt x="13209" y="7"/>
                    </a:lnTo>
                    <a:cubicBezTo>
                      <a:pt x="13208" y="7"/>
                      <a:pt x="13207" y="6"/>
                      <a:pt x="13207" y="5"/>
                    </a:cubicBezTo>
                    <a:cubicBezTo>
                      <a:pt x="13207" y="4"/>
                      <a:pt x="13208" y="3"/>
                      <a:pt x="13209" y="3"/>
                    </a:cubicBezTo>
                    <a:close/>
                    <a:moveTo>
                      <a:pt x="13217" y="3"/>
                    </a:moveTo>
                    <a:lnTo>
                      <a:pt x="13217" y="3"/>
                    </a:lnTo>
                    <a:cubicBezTo>
                      <a:pt x="13218" y="3"/>
                      <a:pt x="13219" y="4"/>
                      <a:pt x="13219" y="5"/>
                    </a:cubicBezTo>
                    <a:cubicBezTo>
                      <a:pt x="13219" y="6"/>
                      <a:pt x="13218" y="7"/>
                      <a:pt x="13217" y="7"/>
                    </a:cubicBezTo>
                    <a:lnTo>
                      <a:pt x="13217" y="7"/>
                    </a:lnTo>
                    <a:cubicBezTo>
                      <a:pt x="13216" y="7"/>
                      <a:pt x="13215" y="6"/>
                      <a:pt x="13215" y="5"/>
                    </a:cubicBezTo>
                    <a:cubicBezTo>
                      <a:pt x="13215" y="4"/>
                      <a:pt x="13216" y="3"/>
                      <a:pt x="13217" y="3"/>
                    </a:cubicBezTo>
                    <a:close/>
                    <a:moveTo>
                      <a:pt x="13225" y="3"/>
                    </a:moveTo>
                    <a:lnTo>
                      <a:pt x="13225" y="3"/>
                    </a:lnTo>
                    <a:cubicBezTo>
                      <a:pt x="13226" y="3"/>
                      <a:pt x="13227" y="4"/>
                      <a:pt x="13227" y="5"/>
                    </a:cubicBezTo>
                    <a:cubicBezTo>
                      <a:pt x="13227" y="6"/>
                      <a:pt x="13226" y="7"/>
                      <a:pt x="13225" y="7"/>
                    </a:cubicBezTo>
                    <a:lnTo>
                      <a:pt x="13225" y="7"/>
                    </a:lnTo>
                    <a:cubicBezTo>
                      <a:pt x="13224" y="7"/>
                      <a:pt x="13223" y="6"/>
                      <a:pt x="13223" y="5"/>
                    </a:cubicBezTo>
                    <a:cubicBezTo>
                      <a:pt x="13223" y="4"/>
                      <a:pt x="13224" y="3"/>
                      <a:pt x="13225" y="3"/>
                    </a:cubicBezTo>
                    <a:close/>
                    <a:moveTo>
                      <a:pt x="13233" y="3"/>
                    </a:moveTo>
                    <a:lnTo>
                      <a:pt x="13233" y="3"/>
                    </a:lnTo>
                    <a:cubicBezTo>
                      <a:pt x="13234" y="3"/>
                      <a:pt x="13235" y="4"/>
                      <a:pt x="13235" y="5"/>
                    </a:cubicBezTo>
                    <a:cubicBezTo>
                      <a:pt x="13235" y="6"/>
                      <a:pt x="13234" y="7"/>
                      <a:pt x="13233" y="7"/>
                    </a:cubicBezTo>
                    <a:lnTo>
                      <a:pt x="13233" y="7"/>
                    </a:lnTo>
                    <a:cubicBezTo>
                      <a:pt x="13232" y="7"/>
                      <a:pt x="13231" y="6"/>
                      <a:pt x="13231" y="5"/>
                    </a:cubicBezTo>
                    <a:cubicBezTo>
                      <a:pt x="13231" y="4"/>
                      <a:pt x="13232" y="3"/>
                      <a:pt x="13233" y="3"/>
                    </a:cubicBezTo>
                    <a:close/>
                    <a:moveTo>
                      <a:pt x="13241" y="3"/>
                    </a:moveTo>
                    <a:lnTo>
                      <a:pt x="13241" y="3"/>
                    </a:lnTo>
                    <a:cubicBezTo>
                      <a:pt x="13242" y="3"/>
                      <a:pt x="13243" y="4"/>
                      <a:pt x="13243" y="5"/>
                    </a:cubicBezTo>
                    <a:cubicBezTo>
                      <a:pt x="13243" y="6"/>
                      <a:pt x="13242" y="7"/>
                      <a:pt x="13241" y="7"/>
                    </a:cubicBezTo>
                    <a:lnTo>
                      <a:pt x="13241" y="7"/>
                    </a:lnTo>
                    <a:cubicBezTo>
                      <a:pt x="13240" y="7"/>
                      <a:pt x="13239" y="6"/>
                      <a:pt x="13239" y="5"/>
                    </a:cubicBezTo>
                    <a:cubicBezTo>
                      <a:pt x="13239" y="4"/>
                      <a:pt x="13240" y="3"/>
                      <a:pt x="13241" y="3"/>
                    </a:cubicBezTo>
                    <a:close/>
                    <a:moveTo>
                      <a:pt x="13249" y="3"/>
                    </a:moveTo>
                    <a:lnTo>
                      <a:pt x="13249" y="3"/>
                    </a:lnTo>
                    <a:cubicBezTo>
                      <a:pt x="13250" y="3"/>
                      <a:pt x="13251" y="4"/>
                      <a:pt x="13251" y="5"/>
                    </a:cubicBezTo>
                    <a:cubicBezTo>
                      <a:pt x="13251" y="6"/>
                      <a:pt x="13250" y="7"/>
                      <a:pt x="13249" y="7"/>
                    </a:cubicBezTo>
                    <a:lnTo>
                      <a:pt x="13249" y="7"/>
                    </a:lnTo>
                    <a:cubicBezTo>
                      <a:pt x="13248" y="7"/>
                      <a:pt x="13247" y="6"/>
                      <a:pt x="13247" y="5"/>
                    </a:cubicBezTo>
                    <a:cubicBezTo>
                      <a:pt x="13247" y="4"/>
                      <a:pt x="13248" y="3"/>
                      <a:pt x="13249" y="3"/>
                    </a:cubicBezTo>
                    <a:close/>
                    <a:moveTo>
                      <a:pt x="13257" y="3"/>
                    </a:moveTo>
                    <a:lnTo>
                      <a:pt x="13257" y="3"/>
                    </a:lnTo>
                    <a:cubicBezTo>
                      <a:pt x="13258" y="3"/>
                      <a:pt x="13259" y="4"/>
                      <a:pt x="13259" y="5"/>
                    </a:cubicBezTo>
                    <a:cubicBezTo>
                      <a:pt x="13259" y="6"/>
                      <a:pt x="13258" y="7"/>
                      <a:pt x="13257" y="7"/>
                    </a:cubicBezTo>
                    <a:lnTo>
                      <a:pt x="13257" y="7"/>
                    </a:lnTo>
                    <a:cubicBezTo>
                      <a:pt x="13256" y="7"/>
                      <a:pt x="13255" y="6"/>
                      <a:pt x="13255" y="5"/>
                    </a:cubicBezTo>
                    <a:cubicBezTo>
                      <a:pt x="13255" y="4"/>
                      <a:pt x="13256" y="3"/>
                      <a:pt x="13257" y="3"/>
                    </a:cubicBezTo>
                    <a:close/>
                    <a:moveTo>
                      <a:pt x="13265" y="3"/>
                    </a:moveTo>
                    <a:lnTo>
                      <a:pt x="13265" y="3"/>
                    </a:lnTo>
                    <a:cubicBezTo>
                      <a:pt x="13266" y="3"/>
                      <a:pt x="13267" y="4"/>
                      <a:pt x="13267" y="5"/>
                    </a:cubicBezTo>
                    <a:cubicBezTo>
                      <a:pt x="13267" y="6"/>
                      <a:pt x="13266" y="7"/>
                      <a:pt x="13265" y="7"/>
                    </a:cubicBezTo>
                    <a:lnTo>
                      <a:pt x="13265" y="7"/>
                    </a:lnTo>
                    <a:cubicBezTo>
                      <a:pt x="13264" y="7"/>
                      <a:pt x="13263" y="6"/>
                      <a:pt x="13263" y="5"/>
                    </a:cubicBezTo>
                    <a:cubicBezTo>
                      <a:pt x="13263" y="4"/>
                      <a:pt x="13264" y="3"/>
                      <a:pt x="13265" y="3"/>
                    </a:cubicBezTo>
                    <a:close/>
                    <a:moveTo>
                      <a:pt x="13273" y="3"/>
                    </a:moveTo>
                    <a:lnTo>
                      <a:pt x="13273" y="3"/>
                    </a:lnTo>
                    <a:cubicBezTo>
                      <a:pt x="13274" y="3"/>
                      <a:pt x="13275" y="4"/>
                      <a:pt x="13275" y="5"/>
                    </a:cubicBezTo>
                    <a:cubicBezTo>
                      <a:pt x="13275" y="6"/>
                      <a:pt x="13274" y="7"/>
                      <a:pt x="13273" y="7"/>
                    </a:cubicBezTo>
                    <a:lnTo>
                      <a:pt x="13273" y="7"/>
                    </a:lnTo>
                    <a:cubicBezTo>
                      <a:pt x="13272" y="7"/>
                      <a:pt x="13271" y="6"/>
                      <a:pt x="13271" y="5"/>
                    </a:cubicBezTo>
                    <a:cubicBezTo>
                      <a:pt x="13271" y="4"/>
                      <a:pt x="13272" y="3"/>
                      <a:pt x="13273" y="3"/>
                    </a:cubicBezTo>
                    <a:close/>
                    <a:moveTo>
                      <a:pt x="13281" y="3"/>
                    </a:moveTo>
                    <a:lnTo>
                      <a:pt x="13281" y="3"/>
                    </a:lnTo>
                    <a:cubicBezTo>
                      <a:pt x="13282" y="3"/>
                      <a:pt x="13283" y="4"/>
                      <a:pt x="13283" y="5"/>
                    </a:cubicBezTo>
                    <a:cubicBezTo>
                      <a:pt x="13283" y="6"/>
                      <a:pt x="13282" y="7"/>
                      <a:pt x="13281" y="7"/>
                    </a:cubicBezTo>
                    <a:lnTo>
                      <a:pt x="13281" y="7"/>
                    </a:lnTo>
                    <a:cubicBezTo>
                      <a:pt x="13280" y="7"/>
                      <a:pt x="13279" y="6"/>
                      <a:pt x="13279" y="5"/>
                    </a:cubicBezTo>
                    <a:cubicBezTo>
                      <a:pt x="13279" y="4"/>
                      <a:pt x="13280" y="3"/>
                      <a:pt x="13281" y="3"/>
                    </a:cubicBezTo>
                    <a:close/>
                    <a:moveTo>
                      <a:pt x="13289" y="3"/>
                    </a:moveTo>
                    <a:lnTo>
                      <a:pt x="13289" y="3"/>
                    </a:lnTo>
                    <a:cubicBezTo>
                      <a:pt x="13290" y="3"/>
                      <a:pt x="13291" y="4"/>
                      <a:pt x="13291" y="5"/>
                    </a:cubicBezTo>
                    <a:cubicBezTo>
                      <a:pt x="13291" y="6"/>
                      <a:pt x="13290" y="7"/>
                      <a:pt x="13289" y="7"/>
                    </a:cubicBezTo>
                    <a:lnTo>
                      <a:pt x="13289" y="7"/>
                    </a:lnTo>
                    <a:cubicBezTo>
                      <a:pt x="13288" y="7"/>
                      <a:pt x="13287" y="6"/>
                      <a:pt x="13287" y="5"/>
                    </a:cubicBezTo>
                    <a:cubicBezTo>
                      <a:pt x="13287" y="4"/>
                      <a:pt x="13288" y="3"/>
                      <a:pt x="13289" y="3"/>
                    </a:cubicBezTo>
                    <a:close/>
                    <a:moveTo>
                      <a:pt x="13297" y="3"/>
                    </a:moveTo>
                    <a:lnTo>
                      <a:pt x="13297" y="3"/>
                    </a:lnTo>
                    <a:cubicBezTo>
                      <a:pt x="13298" y="3"/>
                      <a:pt x="13299" y="4"/>
                      <a:pt x="13299" y="5"/>
                    </a:cubicBezTo>
                    <a:cubicBezTo>
                      <a:pt x="13299" y="6"/>
                      <a:pt x="13298" y="7"/>
                      <a:pt x="13297" y="7"/>
                    </a:cubicBezTo>
                    <a:lnTo>
                      <a:pt x="13297" y="7"/>
                    </a:lnTo>
                    <a:cubicBezTo>
                      <a:pt x="13296" y="7"/>
                      <a:pt x="13295" y="6"/>
                      <a:pt x="13295" y="5"/>
                    </a:cubicBezTo>
                    <a:cubicBezTo>
                      <a:pt x="13295" y="4"/>
                      <a:pt x="13296" y="3"/>
                      <a:pt x="13297" y="3"/>
                    </a:cubicBezTo>
                    <a:close/>
                    <a:moveTo>
                      <a:pt x="13305" y="3"/>
                    </a:moveTo>
                    <a:lnTo>
                      <a:pt x="13305" y="3"/>
                    </a:lnTo>
                    <a:cubicBezTo>
                      <a:pt x="13306" y="3"/>
                      <a:pt x="13307" y="4"/>
                      <a:pt x="13307" y="5"/>
                    </a:cubicBezTo>
                    <a:cubicBezTo>
                      <a:pt x="13307" y="6"/>
                      <a:pt x="13306" y="7"/>
                      <a:pt x="13305" y="7"/>
                    </a:cubicBezTo>
                    <a:lnTo>
                      <a:pt x="13305" y="7"/>
                    </a:lnTo>
                    <a:cubicBezTo>
                      <a:pt x="13304" y="7"/>
                      <a:pt x="13303" y="6"/>
                      <a:pt x="13303" y="5"/>
                    </a:cubicBezTo>
                    <a:cubicBezTo>
                      <a:pt x="13303" y="4"/>
                      <a:pt x="13304" y="3"/>
                      <a:pt x="13305" y="3"/>
                    </a:cubicBezTo>
                    <a:close/>
                    <a:moveTo>
                      <a:pt x="13313" y="3"/>
                    </a:moveTo>
                    <a:lnTo>
                      <a:pt x="13313" y="3"/>
                    </a:lnTo>
                    <a:cubicBezTo>
                      <a:pt x="13314" y="3"/>
                      <a:pt x="13315" y="4"/>
                      <a:pt x="13315" y="5"/>
                    </a:cubicBezTo>
                    <a:cubicBezTo>
                      <a:pt x="13315" y="6"/>
                      <a:pt x="13314" y="7"/>
                      <a:pt x="13313" y="7"/>
                    </a:cubicBezTo>
                    <a:lnTo>
                      <a:pt x="13313" y="7"/>
                    </a:lnTo>
                    <a:cubicBezTo>
                      <a:pt x="13312" y="7"/>
                      <a:pt x="13311" y="6"/>
                      <a:pt x="13311" y="5"/>
                    </a:cubicBezTo>
                    <a:cubicBezTo>
                      <a:pt x="13311" y="4"/>
                      <a:pt x="13312" y="3"/>
                      <a:pt x="13313" y="3"/>
                    </a:cubicBezTo>
                    <a:close/>
                    <a:moveTo>
                      <a:pt x="13321" y="3"/>
                    </a:moveTo>
                    <a:lnTo>
                      <a:pt x="13321" y="3"/>
                    </a:lnTo>
                    <a:cubicBezTo>
                      <a:pt x="13322" y="3"/>
                      <a:pt x="13323" y="4"/>
                      <a:pt x="13323" y="5"/>
                    </a:cubicBezTo>
                    <a:cubicBezTo>
                      <a:pt x="13323" y="6"/>
                      <a:pt x="13322" y="7"/>
                      <a:pt x="13321" y="7"/>
                    </a:cubicBezTo>
                    <a:lnTo>
                      <a:pt x="13321" y="7"/>
                    </a:lnTo>
                    <a:cubicBezTo>
                      <a:pt x="13320" y="7"/>
                      <a:pt x="13319" y="6"/>
                      <a:pt x="13319" y="5"/>
                    </a:cubicBezTo>
                    <a:cubicBezTo>
                      <a:pt x="13319" y="4"/>
                      <a:pt x="13320" y="3"/>
                      <a:pt x="13321" y="3"/>
                    </a:cubicBezTo>
                    <a:close/>
                    <a:moveTo>
                      <a:pt x="13329" y="3"/>
                    </a:moveTo>
                    <a:lnTo>
                      <a:pt x="13329" y="3"/>
                    </a:lnTo>
                    <a:cubicBezTo>
                      <a:pt x="13330" y="3"/>
                      <a:pt x="13331" y="4"/>
                      <a:pt x="13331" y="5"/>
                    </a:cubicBezTo>
                    <a:cubicBezTo>
                      <a:pt x="13331" y="6"/>
                      <a:pt x="13330" y="7"/>
                      <a:pt x="13329" y="7"/>
                    </a:cubicBezTo>
                    <a:lnTo>
                      <a:pt x="13329" y="7"/>
                    </a:lnTo>
                    <a:cubicBezTo>
                      <a:pt x="13328" y="7"/>
                      <a:pt x="13327" y="6"/>
                      <a:pt x="13327" y="5"/>
                    </a:cubicBezTo>
                    <a:cubicBezTo>
                      <a:pt x="13327" y="4"/>
                      <a:pt x="13328" y="3"/>
                      <a:pt x="13329" y="3"/>
                    </a:cubicBezTo>
                    <a:close/>
                    <a:moveTo>
                      <a:pt x="13337" y="3"/>
                    </a:moveTo>
                    <a:lnTo>
                      <a:pt x="13337" y="3"/>
                    </a:lnTo>
                    <a:cubicBezTo>
                      <a:pt x="13338" y="3"/>
                      <a:pt x="13339" y="4"/>
                      <a:pt x="13339" y="5"/>
                    </a:cubicBezTo>
                    <a:cubicBezTo>
                      <a:pt x="13339" y="6"/>
                      <a:pt x="13338" y="7"/>
                      <a:pt x="13337" y="7"/>
                    </a:cubicBezTo>
                    <a:lnTo>
                      <a:pt x="13337" y="7"/>
                    </a:lnTo>
                    <a:cubicBezTo>
                      <a:pt x="13336" y="7"/>
                      <a:pt x="13335" y="6"/>
                      <a:pt x="13335" y="5"/>
                    </a:cubicBezTo>
                    <a:cubicBezTo>
                      <a:pt x="13335" y="4"/>
                      <a:pt x="13336" y="3"/>
                      <a:pt x="13337" y="3"/>
                    </a:cubicBezTo>
                    <a:close/>
                    <a:moveTo>
                      <a:pt x="13345" y="3"/>
                    </a:moveTo>
                    <a:lnTo>
                      <a:pt x="13345" y="3"/>
                    </a:lnTo>
                    <a:cubicBezTo>
                      <a:pt x="13346" y="3"/>
                      <a:pt x="13347" y="4"/>
                      <a:pt x="13347" y="5"/>
                    </a:cubicBezTo>
                    <a:cubicBezTo>
                      <a:pt x="13347" y="6"/>
                      <a:pt x="13346" y="7"/>
                      <a:pt x="13345" y="7"/>
                    </a:cubicBezTo>
                    <a:lnTo>
                      <a:pt x="13345" y="7"/>
                    </a:lnTo>
                    <a:cubicBezTo>
                      <a:pt x="13344" y="7"/>
                      <a:pt x="13343" y="6"/>
                      <a:pt x="13343" y="5"/>
                    </a:cubicBezTo>
                    <a:cubicBezTo>
                      <a:pt x="13343" y="4"/>
                      <a:pt x="13344" y="3"/>
                      <a:pt x="13345" y="3"/>
                    </a:cubicBezTo>
                    <a:close/>
                    <a:moveTo>
                      <a:pt x="13353" y="3"/>
                    </a:moveTo>
                    <a:lnTo>
                      <a:pt x="13353" y="3"/>
                    </a:lnTo>
                    <a:cubicBezTo>
                      <a:pt x="13354" y="3"/>
                      <a:pt x="13355" y="4"/>
                      <a:pt x="13355" y="5"/>
                    </a:cubicBezTo>
                    <a:cubicBezTo>
                      <a:pt x="13355" y="6"/>
                      <a:pt x="13354" y="7"/>
                      <a:pt x="13353" y="7"/>
                    </a:cubicBezTo>
                    <a:lnTo>
                      <a:pt x="13353" y="7"/>
                    </a:lnTo>
                    <a:cubicBezTo>
                      <a:pt x="13352" y="7"/>
                      <a:pt x="13351" y="6"/>
                      <a:pt x="13351" y="5"/>
                    </a:cubicBezTo>
                    <a:cubicBezTo>
                      <a:pt x="13351" y="4"/>
                      <a:pt x="13352" y="3"/>
                      <a:pt x="13353" y="3"/>
                    </a:cubicBezTo>
                    <a:close/>
                    <a:moveTo>
                      <a:pt x="13361" y="3"/>
                    </a:moveTo>
                    <a:lnTo>
                      <a:pt x="13361" y="3"/>
                    </a:lnTo>
                    <a:cubicBezTo>
                      <a:pt x="13362" y="3"/>
                      <a:pt x="13363" y="4"/>
                      <a:pt x="13363" y="5"/>
                    </a:cubicBezTo>
                    <a:cubicBezTo>
                      <a:pt x="13363" y="6"/>
                      <a:pt x="13362" y="7"/>
                      <a:pt x="13361" y="7"/>
                    </a:cubicBezTo>
                    <a:lnTo>
                      <a:pt x="13361" y="7"/>
                    </a:lnTo>
                    <a:cubicBezTo>
                      <a:pt x="13360" y="7"/>
                      <a:pt x="13359" y="6"/>
                      <a:pt x="13359" y="5"/>
                    </a:cubicBezTo>
                    <a:cubicBezTo>
                      <a:pt x="13359" y="4"/>
                      <a:pt x="13360" y="3"/>
                      <a:pt x="13361" y="3"/>
                    </a:cubicBezTo>
                    <a:close/>
                    <a:moveTo>
                      <a:pt x="13369" y="3"/>
                    </a:moveTo>
                    <a:lnTo>
                      <a:pt x="13369" y="3"/>
                    </a:lnTo>
                    <a:cubicBezTo>
                      <a:pt x="13370" y="3"/>
                      <a:pt x="13371" y="4"/>
                      <a:pt x="13371" y="5"/>
                    </a:cubicBezTo>
                    <a:cubicBezTo>
                      <a:pt x="13371" y="6"/>
                      <a:pt x="13370" y="7"/>
                      <a:pt x="13369" y="7"/>
                    </a:cubicBezTo>
                    <a:lnTo>
                      <a:pt x="13369" y="7"/>
                    </a:lnTo>
                    <a:cubicBezTo>
                      <a:pt x="13368" y="7"/>
                      <a:pt x="13367" y="6"/>
                      <a:pt x="13367" y="5"/>
                    </a:cubicBezTo>
                    <a:cubicBezTo>
                      <a:pt x="13367" y="4"/>
                      <a:pt x="13368" y="3"/>
                      <a:pt x="13369" y="3"/>
                    </a:cubicBezTo>
                    <a:close/>
                    <a:moveTo>
                      <a:pt x="13377" y="3"/>
                    </a:moveTo>
                    <a:lnTo>
                      <a:pt x="13377" y="3"/>
                    </a:lnTo>
                    <a:cubicBezTo>
                      <a:pt x="13378" y="3"/>
                      <a:pt x="13379" y="4"/>
                      <a:pt x="13379" y="5"/>
                    </a:cubicBezTo>
                    <a:cubicBezTo>
                      <a:pt x="13379" y="6"/>
                      <a:pt x="13378" y="7"/>
                      <a:pt x="13377" y="7"/>
                    </a:cubicBezTo>
                    <a:lnTo>
                      <a:pt x="13377" y="7"/>
                    </a:lnTo>
                    <a:cubicBezTo>
                      <a:pt x="13376" y="7"/>
                      <a:pt x="13375" y="6"/>
                      <a:pt x="13375" y="5"/>
                    </a:cubicBezTo>
                    <a:cubicBezTo>
                      <a:pt x="13375" y="4"/>
                      <a:pt x="13376" y="3"/>
                      <a:pt x="13377" y="3"/>
                    </a:cubicBezTo>
                    <a:close/>
                    <a:moveTo>
                      <a:pt x="13385" y="3"/>
                    </a:moveTo>
                    <a:lnTo>
                      <a:pt x="13385" y="3"/>
                    </a:lnTo>
                    <a:cubicBezTo>
                      <a:pt x="13386" y="3"/>
                      <a:pt x="13387" y="4"/>
                      <a:pt x="13387" y="5"/>
                    </a:cubicBezTo>
                    <a:cubicBezTo>
                      <a:pt x="13387" y="6"/>
                      <a:pt x="13386" y="7"/>
                      <a:pt x="13385" y="7"/>
                    </a:cubicBezTo>
                    <a:lnTo>
                      <a:pt x="13385" y="7"/>
                    </a:lnTo>
                    <a:cubicBezTo>
                      <a:pt x="13384" y="7"/>
                      <a:pt x="13383" y="6"/>
                      <a:pt x="13383" y="5"/>
                    </a:cubicBezTo>
                    <a:cubicBezTo>
                      <a:pt x="13383" y="4"/>
                      <a:pt x="13384" y="3"/>
                      <a:pt x="13385" y="3"/>
                    </a:cubicBezTo>
                    <a:close/>
                    <a:moveTo>
                      <a:pt x="13393" y="3"/>
                    </a:moveTo>
                    <a:lnTo>
                      <a:pt x="13393" y="3"/>
                    </a:lnTo>
                    <a:cubicBezTo>
                      <a:pt x="13394" y="3"/>
                      <a:pt x="13395" y="4"/>
                      <a:pt x="13395" y="5"/>
                    </a:cubicBezTo>
                    <a:cubicBezTo>
                      <a:pt x="13395" y="6"/>
                      <a:pt x="13394" y="7"/>
                      <a:pt x="13393" y="7"/>
                    </a:cubicBezTo>
                    <a:lnTo>
                      <a:pt x="13393" y="7"/>
                    </a:lnTo>
                    <a:cubicBezTo>
                      <a:pt x="13392" y="7"/>
                      <a:pt x="13391" y="6"/>
                      <a:pt x="13391" y="5"/>
                    </a:cubicBezTo>
                    <a:cubicBezTo>
                      <a:pt x="13391" y="4"/>
                      <a:pt x="13392" y="3"/>
                      <a:pt x="13393" y="3"/>
                    </a:cubicBezTo>
                    <a:close/>
                    <a:moveTo>
                      <a:pt x="13401" y="3"/>
                    </a:moveTo>
                    <a:lnTo>
                      <a:pt x="13401" y="3"/>
                    </a:lnTo>
                    <a:cubicBezTo>
                      <a:pt x="13402" y="3"/>
                      <a:pt x="13403" y="4"/>
                      <a:pt x="13403" y="5"/>
                    </a:cubicBezTo>
                    <a:cubicBezTo>
                      <a:pt x="13403" y="6"/>
                      <a:pt x="13402" y="7"/>
                      <a:pt x="13401" y="7"/>
                    </a:cubicBezTo>
                    <a:lnTo>
                      <a:pt x="13401" y="7"/>
                    </a:lnTo>
                    <a:cubicBezTo>
                      <a:pt x="13400" y="7"/>
                      <a:pt x="13399" y="6"/>
                      <a:pt x="13399" y="5"/>
                    </a:cubicBezTo>
                    <a:cubicBezTo>
                      <a:pt x="13399" y="4"/>
                      <a:pt x="13400" y="3"/>
                      <a:pt x="13401" y="3"/>
                    </a:cubicBezTo>
                    <a:close/>
                    <a:moveTo>
                      <a:pt x="13409" y="3"/>
                    </a:moveTo>
                    <a:lnTo>
                      <a:pt x="13409" y="3"/>
                    </a:lnTo>
                    <a:cubicBezTo>
                      <a:pt x="13410" y="3"/>
                      <a:pt x="13411" y="4"/>
                      <a:pt x="13411" y="5"/>
                    </a:cubicBezTo>
                    <a:cubicBezTo>
                      <a:pt x="13411" y="6"/>
                      <a:pt x="13410" y="7"/>
                      <a:pt x="13409" y="7"/>
                    </a:cubicBezTo>
                    <a:lnTo>
                      <a:pt x="13409" y="7"/>
                    </a:lnTo>
                    <a:cubicBezTo>
                      <a:pt x="13408" y="7"/>
                      <a:pt x="13407" y="6"/>
                      <a:pt x="13407" y="5"/>
                    </a:cubicBezTo>
                    <a:cubicBezTo>
                      <a:pt x="13407" y="4"/>
                      <a:pt x="13408" y="3"/>
                      <a:pt x="13409" y="3"/>
                    </a:cubicBezTo>
                    <a:close/>
                    <a:moveTo>
                      <a:pt x="13417" y="3"/>
                    </a:moveTo>
                    <a:lnTo>
                      <a:pt x="13417" y="3"/>
                    </a:lnTo>
                    <a:cubicBezTo>
                      <a:pt x="13418" y="3"/>
                      <a:pt x="13419" y="4"/>
                      <a:pt x="13419" y="5"/>
                    </a:cubicBezTo>
                    <a:cubicBezTo>
                      <a:pt x="13419" y="6"/>
                      <a:pt x="13418" y="7"/>
                      <a:pt x="13417" y="7"/>
                    </a:cubicBezTo>
                    <a:lnTo>
                      <a:pt x="13417" y="7"/>
                    </a:lnTo>
                    <a:cubicBezTo>
                      <a:pt x="13416" y="7"/>
                      <a:pt x="13415" y="6"/>
                      <a:pt x="13415" y="5"/>
                    </a:cubicBezTo>
                    <a:cubicBezTo>
                      <a:pt x="13415" y="4"/>
                      <a:pt x="13416" y="3"/>
                      <a:pt x="13417" y="3"/>
                    </a:cubicBezTo>
                    <a:close/>
                    <a:moveTo>
                      <a:pt x="13425" y="3"/>
                    </a:moveTo>
                    <a:lnTo>
                      <a:pt x="13425" y="3"/>
                    </a:lnTo>
                    <a:cubicBezTo>
                      <a:pt x="13426" y="3"/>
                      <a:pt x="13427" y="4"/>
                      <a:pt x="13427" y="5"/>
                    </a:cubicBezTo>
                    <a:cubicBezTo>
                      <a:pt x="13427" y="6"/>
                      <a:pt x="13426" y="7"/>
                      <a:pt x="13425" y="7"/>
                    </a:cubicBezTo>
                    <a:lnTo>
                      <a:pt x="13425" y="7"/>
                    </a:lnTo>
                    <a:cubicBezTo>
                      <a:pt x="13424" y="7"/>
                      <a:pt x="13423" y="6"/>
                      <a:pt x="13423" y="5"/>
                    </a:cubicBezTo>
                    <a:cubicBezTo>
                      <a:pt x="13423" y="4"/>
                      <a:pt x="13424" y="3"/>
                      <a:pt x="13425" y="3"/>
                    </a:cubicBezTo>
                    <a:close/>
                    <a:moveTo>
                      <a:pt x="13433" y="3"/>
                    </a:moveTo>
                    <a:lnTo>
                      <a:pt x="13433" y="3"/>
                    </a:lnTo>
                    <a:cubicBezTo>
                      <a:pt x="13434" y="3"/>
                      <a:pt x="13435" y="4"/>
                      <a:pt x="13435" y="5"/>
                    </a:cubicBezTo>
                    <a:cubicBezTo>
                      <a:pt x="13435" y="6"/>
                      <a:pt x="13434" y="7"/>
                      <a:pt x="13433" y="7"/>
                    </a:cubicBezTo>
                    <a:lnTo>
                      <a:pt x="13433" y="7"/>
                    </a:lnTo>
                    <a:cubicBezTo>
                      <a:pt x="13432" y="7"/>
                      <a:pt x="13431" y="6"/>
                      <a:pt x="13431" y="5"/>
                    </a:cubicBezTo>
                    <a:cubicBezTo>
                      <a:pt x="13431" y="4"/>
                      <a:pt x="13432" y="3"/>
                      <a:pt x="13433" y="3"/>
                    </a:cubicBezTo>
                    <a:close/>
                    <a:moveTo>
                      <a:pt x="13441" y="3"/>
                    </a:moveTo>
                    <a:lnTo>
                      <a:pt x="13441" y="3"/>
                    </a:lnTo>
                    <a:cubicBezTo>
                      <a:pt x="13442" y="3"/>
                      <a:pt x="13443" y="4"/>
                      <a:pt x="13443" y="5"/>
                    </a:cubicBezTo>
                    <a:cubicBezTo>
                      <a:pt x="13443" y="7"/>
                      <a:pt x="13442" y="7"/>
                      <a:pt x="13441" y="7"/>
                    </a:cubicBezTo>
                    <a:lnTo>
                      <a:pt x="13441" y="7"/>
                    </a:lnTo>
                    <a:cubicBezTo>
                      <a:pt x="13440" y="7"/>
                      <a:pt x="13439" y="7"/>
                      <a:pt x="13439" y="5"/>
                    </a:cubicBezTo>
                    <a:cubicBezTo>
                      <a:pt x="13439" y="4"/>
                      <a:pt x="13440" y="3"/>
                      <a:pt x="13441" y="3"/>
                    </a:cubicBezTo>
                    <a:close/>
                    <a:moveTo>
                      <a:pt x="13449" y="3"/>
                    </a:moveTo>
                    <a:lnTo>
                      <a:pt x="13449" y="3"/>
                    </a:lnTo>
                    <a:cubicBezTo>
                      <a:pt x="13450" y="3"/>
                      <a:pt x="13451" y="4"/>
                      <a:pt x="13451" y="5"/>
                    </a:cubicBezTo>
                    <a:cubicBezTo>
                      <a:pt x="13451" y="7"/>
                      <a:pt x="13450" y="7"/>
                      <a:pt x="13449" y="7"/>
                    </a:cubicBezTo>
                    <a:lnTo>
                      <a:pt x="13449" y="7"/>
                    </a:lnTo>
                    <a:cubicBezTo>
                      <a:pt x="13448" y="7"/>
                      <a:pt x="13447" y="7"/>
                      <a:pt x="13447" y="5"/>
                    </a:cubicBezTo>
                    <a:cubicBezTo>
                      <a:pt x="13447" y="4"/>
                      <a:pt x="13448" y="3"/>
                      <a:pt x="13449" y="3"/>
                    </a:cubicBezTo>
                    <a:close/>
                    <a:moveTo>
                      <a:pt x="13457" y="3"/>
                    </a:moveTo>
                    <a:lnTo>
                      <a:pt x="13457" y="3"/>
                    </a:lnTo>
                    <a:cubicBezTo>
                      <a:pt x="13458" y="3"/>
                      <a:pt x="13459" y="4"/>
                      <a:pt x="13459" y="5"/>
                    </a:cubicBezTo>
                    <a:cubicBezTo>
                      <a:pt x="13459" y="7"/>
                      <a:pt x="13458" y="7"/>
                      <a:pt x="13457" y="7"/>
                    </a:cubicBezTo>
                    <a:lnTo>
                      <a:pt x="13457" y="7"/>
                    </a:lnTo>
                    <a:cubicBezTo>
                      <a:pt x="13456" y="7"/>
                      <a:pt x="13455" y="7"/>
                      <a:pt x="13455" y="5"/>
                    </a:cubicBezTo>
                    <a:cubicBezTo>
                      <a:pt x="13455" y="4"/>
                      <a:pt x="13456" y="3"/>
                      <a:pt x="13457" y="3"/>
                    </a:cubicBezTo>
                    <a:close/>
                    <a:moveTo>
                      <a:pt x="13465" y="3"/>
                    </a:moveTo>
                    <a:lnTo>
                      <a:pt x="13465" y="3"/>
                    </a:lnTo>
                    <a:cubicBezTo>
                      <a:pt x="13466" y="3"/>
                      <a:pt x="13467" y="4"/>
                      <a:pt x="13467" y="5"/>
                    </a:cubicBezTo>
                    <a:cubicBezTo>
                      <a:pt x="13467" y="7"/>
                      <a:pt x="13466" y="7"/>
                      <a:pt x="13465" y="7"/>
                    </a:cubicBezTo>
                    <a:lnTo>
                      <a:pt x="13465" y="7"/>
                    </a:lnTo>
                    <a:cubicBezTo>
                      <a:pt x="13464" y="7"/>
                      <a:pt x="13463" y="7"/>
                      <a:pt x="13463" y="5"/>
                    </a:cubicBezTo>
                    <a:cubicBezTo>
                      <a:pt x="13463" y="4"/>
                      <a:pt x="13464" y="3"/>
                      <a:pt x="13465" y="3"/>
                    </a:cubicBezTo>
                    <a:close/>
                    <a:moveTo>
                      <a:pt x="13473" y="3"/>
                    </a:moveTo>
                    <a:lnTo>
                      <a:pt x="13473" y="3"/>
                    </a:lnTo>
                    <a:cubicBezTo>
                      <a:pt x="13474" y="3"/>
                      <a:pt x="13475" y="4"/>
                      <a:pt x="13475" y="5"/>
                    </a:cubicBezTo>
                    <a:cubicBezTo>
                      <a:pt x="13475" y="7"/>
                      <a:pt x="13474" y="7"/>
                      <a:pt x="13473" y="7"/>
                    </a:cubicBezTo>
                    <a:lnTo>
                      <a:pt x="13473" y="7"/>
                    </a:lnTo>
                    <a:cubicBezTo>
                      <a:pt x="13472" y="7"/>
                      <a:pt x="13471" y="7"/>
                      <a:pt x="13471" y="5"/>
                    </a:cubicBezTo>
                    <a:cubicBezTo>
                      <a:pt x="13471" y="4"/>
                      <a:pt x="13472" y="3"/>
                      <a:pt x="13473" y="3"/>
                    </a:cubicBezTo>
                    <a:close/>
                    <a:moveTo>
                      <a:pt x="13481" y="3"/>
                    </a:moveTo>
                    <a:lnTo>
                      <a:pt x="13481" y="3"/>
                    </a:lnTo>
                    <a:cubicBezTo>
                      <a:pt x="13482" y="3"/>
                      <a:pt x="13483" y="4"/>
                      <a:pt x="13483" y="5"/>
                    </a:cubicBezTo>
                    <a:cubicBezTo>
                      <a:pt x="13483" y="7"/>
                      <a:pt x="13482" y="7"/>
                      <a:pt x="13481" y="7"/>
                    </a:cubicBezTo>
                    <a:lnTo>
                      <a:pt x="13481" y="7"/>
                    </a:lnTo>
                    <a:cubicBezTo>
                      <a:pt x="13480" y="7"/>
                      <a:pt x="13479" y="7"/>
                      <a:pt x="13479" y="5"/>
                    </a:cubicBezTo>
                    <a:cubicBezTo>
                      <a:pt x="13479" y="4"/>
                      <a:pt x="13480" y="3"/>
                      <a:pt x="13481" y="3"/>
                    </a:cubicBezTo>
                    <a:close/>
                    <a:moveTo>
                      <a:pt x="13489" y="3"/>
                    </a:moveTo>
                    <a:lnTo>
                      <a:pt x="13489" y="3"/>
                    </a:lnTo>
                    <a:cubicBezTo>
                      <a:pt x="13490" y="3"/>
                      <a:pt x="13491" y="4"/>
                      <a:pt x="13491" y="5"/>
                    </a:cubicBezTo>
                    <a:cubicBezTo>
                      <a:pt x="13491" y="7"/>
                      <a:pt x="13490" y="7"/>
                      <a:pt x="13489" y="7"/>
                    </a:cubicBezTo>
                    <a:lnTo>
                      <a:pt x="13489" y="7"/>
                    </a:lnTo>
                    <a:cubicBezTo>
                      <a:pt x="13488" y="7"/>
                      <a:pt x="13487" y="7"/>
                      <a:pt x="13487" y="5"/>
                    </a:cubicBezTo>
                    <a:cubicBezTo>
                      <a:pt x="13487" y="4"/>
                      <a:pt x="13488" y="3"/>
                      <a:pt x="13489" y="3"/>
                    </a:cubicBezTo>
                    <a:close/>
                    <a:moveTo>
                      <a:pt x="13497" y="3"/>
                    </a:moveTo>
                    <a:lnTo>
                      <a:pt x="13497" y="3"/>
                    </a:lnTo>
                    <a:cubicBezTo>
                      <a:pt x="13498" y="3"/>
                      <a:pt x="13499" y="4"/>
                      <a:pt x="13499" y="5"/>
                    </a:cubicBezTo>
                    <a:cubicBezTo>
                      <a:pt x="13499" y="7"/>
                      <a:pt x="13498" y="7"/>
                      <a:pt x="13497" y="7"/>
                    </a:cubicBezTo>
                    <a:lnTo>
                      <a:pt x="13497" y="7"/>
                    </a:lnTo>
                    <a:cubicBezTo>
                      <a:pt x="13496" y="7"/>
                      <a:pt x="13495" y="7"/>
                      <a:pt x="13495" y="5"/>
                    </a:cubicBezTo>
                    <a:cubicBezTo>
                      <a:pt x="13495" y="4"/>
                      <a:pt x="13496" y="3"/>
                      <a:pt x="13497" y="3"/>
                    </a:cubicBezTo>
                    <a:close/>
                    <a:moveTo>
                      <a:pt x="13505" y="3"/>
                    </a:moveTo>
                    <a:lnTo>
                      <a:pt x="13505" y="3"/>
                    </a:lnTo>
                    <a:cubicBezTo>
                      <a:pt x="13506" y="3"/>
                      <a:pt x="13507" y="4"/>
                      <a:pt x="13507" y="5"/>
                    </a:cubicBezTo>
                    <a:cubicBezTo>
                      <a:pt x="13507" y="7"/>
                      <a:pt x="13506" y="7"/>
                      <a:pt x="13505" y="7"/>
                    </a:cubicBezTo>
                    <a:lnTo>
                      <a:pt x="13505" y="7"/>
                    </a:lnTo>
                    <a:cubicBezTo>
                      <a:pt x="13504" y="7"/>
                      <a:pt x="13503" y="7"/>
                      <a:pt x="13503" y="5"/>
                    </a:cubicBezTo>
                    <a:cubicBezTo>
                      <a:pt x="13503" y="4"/>
                      <a:pt x="13504" y="3"/>
                      <a:pt x="13505" y="3"/>
                    </a:cubicBezTo>
                    <a:close/>
                    <a:moveTo>
                      <a:pt x="13513" y="3"/>
                    </a:moveTo>
                    <a:lnTo>
                      <a:pt x="13513" y="3"/>
                    </a:lnTo>
                    <a:cubicBezTo>
                      <a:pt x="13514" y="3"/>
                      <a:pt x="13515" y="4"/>
                      <a:pt x="13515" y="5"/>
                    </a:cubicBezTo>
                    <a:cubicBezTo>
                      <a:pt x="13515" y="7"/>
                      <a:pt x="13514" y="7"/>
                      <a:pt x="13513" y="7"/>
                    </a:cubicBezTo>
                    <a:lnTo>
                      <a:pt x="13513" y="7"/>
                    </a:lnTo>
                    <a:cubicBezTo>
                      <a:pt x="13512" y="7"/>
                      <a:pt x="13511" y="7"/>
                      <a:pt x="13511" y="5"/>
                    </a:cubicBezTo>
                    <a:cubicBezTo>
                      <a:pt x="13511" y="4"/>
                      <a:pt x="13512" y="3"/>
                      <a:pt x="13513" y="3"/>
                    </a:cubicBezTo>
                    <a:close/>
                    <a:moveTo>
                      <a:pt x="13521" y="3"/>
                    </a:moveTo>
                    <a:lnTo>
                      <a:pt x="13521" y="3"/>
                    </a:lnTo>
                    <a:cubicBezTo>
                      <a:pt x="13522" y="3"/>
                      <a:pt x="13523" y="4"/>
                      <a:pt x="13523" y="5"/>
                    </a:cubicBezTo>
                    <a:cubicBezTo>
                      <a:pt x="13523" y="7"/>
                      <a:pt x="13522" y="7"/>
                      <a:pt x="13521" y="7"/>
                    </a:cubicBezTo>
                    <a:lnTo>
                      <a:pt x="13521" y="7"/>
                    </a:lnTo>
                    <a:cubicBezTo>
                      <a:pt x="13520" y="7"/>
                      <a:pt x="13519" y="7"/>
                      <a:pt x="13519" y="5"/>
                    </a:cubicBezTo>
                    <a:cubicBezTo>
                      <a:pt x="13519" y="4"/>
                      <a:pt x="13520" y="3"/>
                      <a:pt x="13521" y="3"/>
                    </a:cubicBezTo>
                    <a:close/>
                    <a:moveTo>
                      <a:pt x="13529" y="3"/>
                    </a:moveTo>
                    <a:lnTo>
                      <a:pt x="13529" y="3"/>
                    </a:lnTo>
                    <a:cubicBezTo>
                      <a:pt x="13530" y="3"/>
                      <a:pt x="13531" y="4"/>
                      <a:pt x="13531" y="5"/>
                    </a:cubicBezTo>
                    <a:cubicBezTo>
                      <a:pt x="13531" y="7"/>
                      <a:pt x="13530" y="7"/>
                      <a:pt x="13529" y="7"/>
                    </a:cubicBezTo>
                    <a:lnTo>
                      <a:pt x="13529" y="7"/>
                    </a:lnTo>
                    <a:cubicBezTo>
                      <a:pt x="13528" y="7"/>
                      <a:pt x="13527" y="7"/>
                      <a:pt x="13527" y="5"/>
                    </a:cubicBezTo>
                    <a:cubicBezTo>
                      <a:pt x="13527" y="4"/>
                      <a:pt x="13528" y="3"/>
                      <a:pt x="13529" y="3"/>
                    </a:cubicBezTo>
                    <a:close/>
                    <a:moveTo>
                      <a:pt x="13537" y="3"/>
                    </a:moveTo>
                    <a:lnTo>
                      <a:pt x="13537" y="3"/>
                    </a:lnTo>
                    <a:cubicBezTo>
                      <a:pt x="13538" y="3"/>
                      <a:pt x="13539" y="4"/>
                      <a:pt x="13539" y="5"/>
                    </a:cubicBezTo>
                    <a:cubicBezTo>
                      <a:pt x="13539" y="7"/>
                      <a:pt x="13538" y="7"/>
                      <a:pt x="13537" y="7"/>
                    </a:cubicBezTo>
                    <a:lnTo>
                      <a:pt x="13537" y="7"/>
                    </a:lnTo>
                    <a:cubicBezTo>
                      <a:pt x="13536" y="7"/>
                      <a:pt x="13535" y="7"/>
                      <a:pt x="13535" y="5"/>
                    </a:cubicBezTo>
                    <a:cubicBezTo>
                      <a:pt x="13535" y="4"/>
                      <a:pt x="13536" y="3"/>
                      <a:pt x="13537" y="3"/>
                    </a:cubicBezTo>
                    <a:close/>
                    <a:moveTo>
                      <a:pt x="13545" y="3"/>
                    </a:moveTo>
                    <a:lnTo>
                      <a:pt x="13545" y="3"/>
                    </a:lnTo>
                    <a:cubicBezTo>
                      <a:pt x="13546" y="3"/>
                      <a:pt x="13547" y="4"/>
                      <a:pt x="13547" y="5"/>
                    </a:cubicBezTo>
                    <a:cubicBezTo>
                      <a:pt x="13547" y="7"/>
                      <a:pt x="13546" y="7"/>
                      <a:pt x="13545" y="7"/>
                    </a:cubicBezTo>
                    <a:lnTo>
                      <a:pt x="13545" y="7"/>
                    </a:lnTo>
                    <a:cubicBezTo>
                      <a:pt x="13544" y="7"/>
                      <a:pt x="13543" y="7"/>
                      <a:pt x="13543" y="5"/>
                    </a:cubicBezTo>
                    <a:cubicBezTo>
                      <a:pt x="13543" y="4"/>
                      <a:pt x="13544" y="3"/>
                      <a:pt x="13545" y="3"/>
                    </a:cubicBezTo>
                    <a:close/>
                    <a:moveTo>
                      <a:pt x="13553" y="3"/>
                    </a:moveTo>
                    <a:lnTo>
                      <a:pt x="13553" y="3"/>
                    </a:lnTo>
                    <a:cubicBezTo>
                      <a:pt x="13554" y="3"/>
                      <a:pt x="13555" y="4"/>
                      <a:pt x="13555" y="5"/>
                    </a:cubicBezTo>
                    <a:cubicBezTo>
                      <a:pt x="13555" y="7"/>
                      <a:pt x="13554" y="7"/>
                      <a:pt x="13553" y="7"/>
                    </a:cubicBezTo>
                    <a:lnTo>
                      <a:pt x="13553" y="7"/>
                    </a:lnTo>
                    <a:cubicBezTo>
                      <a:pt x="13552" y="7"/>
                      <a:pt x="13551" y="7"/>
                      <a:pt x="13551" y="5"/>
                    </a:cubicBezTo>
                    <a:cubicBezTo>
                      <a:pt x="13551" y="4"/>
                      <a:pt x="13552" y="3"/>
                      <a:pt x="13553" y="3"/>
                    </a:cubicBezTo>
                    <a:close/>
                    <a:moveTo>
                      <a:pt x="13561" y="3"/>
                    </a:moveTo>
                    <a:lnTo>
                      <a:pt x="13561" y="3"/>
                    </a:lnTo>
                    <a:cubicBezTo>
                      <a:pt x="13562" y="3"/>
                      <a:pt x="13563" y="4"/>
                      <a:pt x="13563" y="5"/>
                    </a:cubicBezTo>
                    <a:cubicBezTo>
                      <a:pt x="13563" y="7"/>
                      <a:pt x="13562" y="7"/>
                      <a:pt x="13561" y="7"/>
                    </a:cubicBezTo>
                    <a:lnTo>
                      <a:pt x="13561" y="7"/>
                    </a:lnTo>
                    <a:cubicBezTo>
                      <a:pt x="13560" y="7"/>
                      <a:pt x="13559" y="7"/>
                      <a:pt x="13559" y="5"/>
                    </a:cubicBezTo>
                    <a:cubicBezTo>
                      <a:pt x="13559" y="4"/>
                      <a:pt x="13560" y="3"/>
                      <a:pt x="13561" y="3"/>
                    </a:cubicBezTo>
                    <a:close/>
                    <a:moveTo>
                      <a:pt x="13569" y="3"/>
                    </a:moveTo>
                    <a:lnTo>
                      <a:pt x="13569" y="3"/>
                    </a:lnTo>
                    <a:cubicBezTo>
                      <a:pt x="13570" y="3"/>
                      <a:pt x="13571" y="4"/>
                      <a:pt x="13571" y="5"/>
                    </a:cubicBezTo>
                    <a:cubicBezTo>
                      <a:pt x="13571" y="7"/>
                      <a:pt x="13570" y="7"/>
                      <a:pt x="13569" y="7"/>
                    </a:cubicBezTo>
                    <a:lnTo>
                      <a:pt x="13569" y="7"/>
                    </a:lnTo>
                    <a:cubicBezTo>
                      <a:pt x="13568" y="7"/>
                      <a:pt x="13567" y="7"/>
                      <a:pt x="13567" y="5"/>
                    </a:cubicBezTo>
                    <a:cubicBezTo>
                      <a:pt x="13567" y="4"/>
                      <a:pt x="13568" y="3"/>
                      <a:pt x="13569" y="3"/>
                    </a:cubicBezTo>
                    <a:close/>
                    <a:moveTo>
                      <a:pt x="13577" y="3"/>
                    </a:moveTo>
                    <a:lnTo>
                      <a:pt x="13577" y="3"/>
                    </a:lnTo>
                    <a:cubicBezTo>
                      <a:pt x="13578" y="3"/>
                      <a:pt x="13579" y="4"/>
                      <a:pt x="13579" y="5"/>
                    </a:cubicBezTo>
                    <a:cubicBezTo>
                      <a:pt x="13579" y="7"/>
                      <a:pt x="13578" y="7"/>
                      <a:pt x="13577" y="7"/>
                    </a:cubicBezTo>
                    <a:lnTo>
                      <a:pt x="13577" y="7"/>
                    </a:lnTo>
                    <a:cubicBezTo>
                      <a:pt x="13576" y="7"/>
                      <a:pt x="13575" y="7"/>
                      <a:pt x="13575" y="5"/>
                    </a:cubicBezTo>
                    <a:cubicBezTo>
                      <a:pt x="13575" y="4"/>
                      <a:pt x="13576" y="3"/>
                      <a:pt x="13577" y="3"/>
                    </a:cubicBezTo>
                    <a:close/>
                    <a:moveTo>
                      <a:pt x="13585" y="3"/>
                    </a:moveTo>
                    <a:lnTo>
                      <a:pt x="13585" y="3"/>
                    </a:lnTo>
                    <a:cubicBezTo>
                      <a:pt x="13586" y="3"/>
                      <a:pt x="13587" y="4"/>
                      <a:pt x="13587" y="5"/>
                    </a:cubicBezTo>
                    <a:cubicBezTo>
                      <a:pt x="13587" y="7"/>
                      <a:pt x="13586" y="7"/>
                      <a:pt x="13585" y="7"/>
                    </a:cubicBezTo>
                    <a:lnTo>
                      <a:pt x="13585" y="7"/>
                    </a:lnTo>
                    <a:cubicBezTo>
                      <a:pt x="13584" y="7"/>
                      <a:pt x="13583" y="7"/>
                      <a:pt x="13583" y="5"/>
                    </a:cubicBezTo>
                    <a:cubicBezTo>
                      <a:pt x="13583" y="4"/>
                      <a:pt x="13584" y="3"/>
                      <a:pt x="13585" y="3"/>
                    </a:cubicBezTo>
                    <a:close/>
                    <a:moveTo>
                      <a:pt x="13593" y="3"/>
                    </a:moveTo>
                    <a:lnTo>
                      <a:pt x="13593" y="3"/>
                    </a:lnTo>
                    <a:cubicBezTo>
                      <a:pt x="13594" y="3"/>
                      <a:pt x="13595" y="4"/>
                      <a:pt x="13595" y="5"/>
                    </a:cubicBezTo>
                    <a:cubicBezTo>
                      <a:pt x="13595" y="7"/>
                      <a:pt x="13594" y="7"/>
                      <a:pt x="13593" y="7"/>
                    </a:cubicBezTo>
                    <a:lnTo>
                      <a:pt x="13593" y="7"/>
                    </a:lnTo>
                    <a:cubicBezTo>
                      <a:pt x="13592" y="7"/>
                      <a:pt x="13591" y="7"/>
                      <a:pt x="13591" y="5"/>
                    </a:cubicBezTo>
                    <a:cubicBezTo>
                      <a:pt x="13591" y="4"/>
                      <a:pt x="13592" y="3"/>
                      <a:pt x="13593" y="3"/>
                    </a:cubicBezTo>
                    <a:close/>
                    <a:moveTo>
                      <a:pt x="13601" y="3"/>
                    </a:moveTo>
                    <a:lnTo>
                      <a:pt x="13601" y="3"/>
                    </a:lnTo>
                    <a:cubicBezTo>
                      <a:pt x="13602" y="3"/>
                      <a:pt x="13603" y="4"/>
                      <a:pt x="13603" y="5"/>
                    </a:cubicBezTo>
                    <a:cubicBezTo>
                      <a:pt x="13603" y="7"/>
                      <a:pt x="13602" y="7"/>
                      <a:pt x="13601" y="7"/>
                    </a:cubicBezTo>
                    <a:lnTo>
                      <a:pt x="13601" y="7"/>
                    </a:lnTo>
                    <a:cubicBezTo>
                      <a:pt x="13600" y="7"/>
                      <a:pt x="13599" y="7"/>
                      <a:pt x="13599" y="5"/>
                    </a:cubicBezTo>
                    <a:cubicBezTo>
                      <a:pt x="13599" y="4"/>
                      <a:pt x="13600" y="3"/>
                      <a:pt x="13601" y="3"/>
                    </a:cubicBezTo>
                    <a:close/>
                    <a:moveTo>
                      <a:pt x="13609" y="3"/>
                    </a:moveTo>
                    <a:lnTo>
                      <a:pt x="13609" y="3"/>
                    </a:lnTo>
                    <a:cubicBezTo>
                      <a:pt x="13610" y="3"/>
                      <a:pt x="13611" y="4"/>
                      <a:pt x="13611" y="5"/>
                    </a:cubicBezTo>
                    <a:cubicBezTo>
                      <a:pt x="13611" y="7"/>
                      <a:pt x="13610" y="7"/>
                      <a:pt x="13609" y="7"/>
                    </a:cubicBezTo>
                    <a:lnTo>
                      <a:pt x="13609" y="7"/>
                    </a:lnTo>
                    <a:cubicBezTo>
                      <a:pt x="13608" y="7"/>
                      <a:pt x="13607" y="7"/>
                      <a:pt x="13607" y="5"/>
                    </a:cubicBezTo>
                    <a:cubicBezTo>
                      <a:pt x="13607" y="4"/>
                      <a:pt x="13608" y="3"/>
                      <a:pt x="13609" y="3"/>
                    </a:cubicBezTo>
                    <a:close/>
                    <a:moveTo>
                      <a:pt x="13617" y="3"/>
                    </a:moveTo>
                    <a:lnTo>
                      <a:pt x="13617" y="3"/>
                    </a:lnTo>
                    <a:cubicBezTo>
                      <a:pt x="13618" y="3"/>
                      <a:pt x="13619" y="4"/>
                      <a:pt x="13619" y="5"/>
                    </a:cubicBezTo>
                    <a:cubicBezTo>
                      <a:pt x="13619" y="7"/>
                      <a:pt x="13618" y="7"/>
                      <a:pt x="13617" y="7"/>
                    </a:cubicBezTo>
                    <a:lnTo>
                      <a:pt x="13617" y="7"/>
                    </a:lnTo>
                    <a:cubicBezTo>
                      <a:pt x="13616" y="7"/>
                      <a:pt x="13615" y="7"/>
                      <a:pt x="13615" y="5"/>
                    </a:cubicBezTo>
                    <a:cubicBezTo>
                      <a:pt x="13615" y="4"/>
                      <a:pt x="13616" y="3"/>
                      <a:pt x="13617" y="3"/>
                    </a:cubicBezTo>
                    <a:close/>
                    <a:moveTo>
                      <a:pt x="13625" y="3"/>
                    </a:moveTo>
                    <a:lnTo>
                      <a:pt x="13625" y="3"/>
                    </a:lnTo>
                    <a:cubicBezTo>
                      <a:pt x="13626" y="3"/>
                      <a:pt x="13627" y="4"/>
                      <a:pt x="13627" y="5"/>
                    </a:cubicBezTo>
                    <a:cubicBezTo>
                      <a:pt x="13627" y="7"/>
                      <a:pt x="13626" y="7"/>
                      <a:pt x="13625" y="7"/>
                    </a:cubicBezTo>
                    <a:lnTo>
                      <a:pt x="13625" y="7"/>
                    </a:lnTo>
                    <a:cubicBezTo>
                      <a:pt x="13624" y="7"/>
                      <a:pt x="13623" y="7"/>
                      <a:pt x="13623" y="5"/>
                    </a:cubicBezTo>
                    <a:cubicBezTo>
                      <a:pt x="13623" y="4"/>
                      <a:pt x="13624" y="3"/>
                      <a:pt x="13625" y="3"/>
                    </a:cubicBezTo>
                    <a:close/>
                    <a:moveTo>
                      <a:pt x="13633" y="3"/>
                    </a:moveTo>
                    <a:lnTo>
                      <a:pt x="13633" y="3"/>
                    </a:lnTo>
                    <a:cubicBezTo>
                      <a:pt x="13634" y="3"/>
                      <a:pt x="13635" y="4"/>
                      <a:pt x="13635" y="5"/>
                    </a:cubicBezTo>
                    <a:cubicBezTo>
                      <a:pt x="13635" y="7"/>
                      <a:pt x="13634" y="7"/>
                      <a:pt x="13633" y="7"/>
                    </a:cubicBezTo>
                    <a:lnTo>
                      <a:pt x="13633" y="7"/>
                    </a:lnTo>
                    <a:cubicBezTo>
                      <a:pt x="13632" y="7"/>
                      <a:pt x="13631" y="7"/>
                      <a:pt x="13631" y="5"/>
                    </a:cubicBezTo>
                    <a:cubicBezTo>
                      <a:pt x="13631" y="4"/>
                      <a:pt x="13632" y="3"/>
                      <a:pt x="13633" y="3"/>
                    </a:cubicBezTo>
                    <a:close/>
                    <a:moveTo>
                      <a:pt x="13641" y="3"/>
                    </a:moveTo>
                    <a:lnTo>
                      <a:pt x="13641" y="3"/>
                    </a:lnTo>
                    <a:cubicBezTo>
                      <a:pt x="13642" y="3"/>
                      <a:pt x="13643" y="4"/>
                      <a:pt x="13643" y="5"/>
                    </a:cubicBezTo>
                    <a:cubicBezTo>
                      <a:pt x="13643" y="7"/>
                      <a:pt x="13642" y="7"/>
                      <a:pt x="13641" y="7"/>
                    </a:cubicBezTo>
                    <a:lnTo>
                      <a:pt x="13641" y="7"/>
                    </a:lnTo>
                    <a:cubicBezTo>
                      <a:pt x="13640" y="7"/>
                      <a:pt x="13639" y="7"/>
                      <a:pt x="13639" y="5"/>
                    </a:cubicBezTo>
                    <a:cubicBezTo>
                      <a:pt x="13639" y="4"/>
                      <a:pt x="13640" y="3"/>
                      <a:pt x="13641" y="3"/>
                    </a:cubicBezTo>
                    <a:close/>
                    <a:moveTo>
                      <a:pt x="13649" y="3"/>
                    </a:moveTo>
                    <a:lnTo>
                      <a:pt x="13649" y="3"/>
                    </a:lnTo>
                    <a:cubicBezTo>
                      <a:pt x="13650" y="3"/>
                      <a:pt x="13651" y="4"/>
                      <a:pt x="13651" y="5"/>
                    </a:cubicBezTo>
                    <a:cubicBezTo>
                      <a:pt x="13651" y="7"/>
                      <a:pt x="13650" y="7"/>
                      <a:pt x="13649" y="7"/>
                    </a:cubicBezTo>
                    <a:lnTo>
                      <a:pt x="13649" y="7"/>
                    </a:lnTo>
                    <a:cubicBezTo>
                      <a:pt x="13648" y="7"/>
                      <a:pt x="13647" y="7"/>
                      <a:pt x="13647" y="5"/>
                    </a:cubicBezTo>
                    <a:cubicBezTo>
                      <a:pt x="13647" y="4"/>
                      <a:pt x="13648" y="3"/>
                      <a:pt x="13649" y="3"/>
                    </a:cubicBezTo>
                    <a:close/>
                    <a:moveTo>
                      <a:pt x="13657" y="3"/>
                    </a:moveTo>
                    <a:lnTo>
                      <a:pt x="13657" y="3"/>
                    </a:lnTo>
                    <a:cubicBezTo>
                      <a:pt x="13658" y="3"/>
                      <a:pt x="13659" y="4"/>
                      <a:pt x="13659" y="5"/>
                    </a:cubicBezTo>
                    <a:cubicBezTo>
                      <a:pt x="13659" y="7"/>
                      <a:pt x="13658" y="7"/>
                      <a:pt x="13657" y="7"/>
                    </a:cubicBezTo>
                    <a:lnTo>
                      <a:pt x="13657" y="7"/>
                    </a:lnTo>
                    <a:cubicBezTo>
                      <a:pt x="13656" y="7"/>
                      <a:pt x="13655" y="7"/>
                      <a:pt x="13655" y="5"/>
                    </a:cubicBezTo>
                    <a:cubicBezTo>
                      <a:pt x="13655" y="4"/>
                      <a:pt x="13656" y="3"/>
                      <a:pt x="13657" y="3"/>
                    </a:cubicBezTo>
                    <a:close/>
                    <a:moveTo>
                      <a:pt x="13665" y="3"/>
                    </a:moveTo>
                    <a:lnTo>
                      <a:pt x="13665" y="3"/>
                    </a:lnTo>
                    <a:cubicBezTo>
                      <a:pt x="13666" y="3"/>
                      <a:pt x="13667" y="4"/>
                      <a:pt x="13667" y="5"/>
                    </a:cubicBezTo>
                    <a:cubicBezTo>
                      <a:pt x="13667" y="7"/>
                      <a:pt x="13666" y="7"/>
                      <a:pt x="13665" y="7"/>
                    </a:cubicBezTo>
                    <a:lnTo>
                      <a:pt x="13665" y="7"/>
                    </a:lnTo>
                    <a:cubicBezTo>
                      <a:pt x="13664" y="7"/>
                      <a:pt x="13663" y="7"/>
                      <a:pt x="13663" y="5"/>
                    </a:cubicBezTo>
                    <a:cubicBezTo>
                      <a:pt x="13663" y="4"/>
                      <a:pt x="13664" y="3"/>
                      <a:pt x="13665" y="3"/>
                    </a:cubicBezTo>
                    <a:close/>
                    <a:moveTo>
                      <a:pt x="13673" y="3"/>
                    </a:moveTo>
                    <a:lnTo>
                      <a:pt x="13673" y="3"/>
                    </a:lnTo>
                    <a:cubicBezTo>
                      <a:pt x="13674" y="3"/>
                      <a:pt x="13675" y="4"/>
                      <a:pt x="13675" y="5"/>
                    </a:cubicBezTo>
                    <a:cubicBezTo>
                      <a:pt x="13675" y="7"/>
                      <a:pt x="13674" y="7"/>
                      <a:pt x="13673" y="7"/>
                    </a:cubicBezTo>
                    <a:lnTo>
                      <a:pt x="13673" y="7"/>
                    </a:lnTo>
                    <a:cubicBezTo>
                      <a:pt x="13672" y="7"/>
                      <a:pt x="13671" y="7"/>
                      <a:pt x="13671" y="5"/>
                    </a:cubicBezTo>
                    <a:cubicBezTo>
                      <a:pt x="13671" y="4"/>
                      <a:pt x="13672" y="3"/>
                      <a:pt x="13673" y="3"/>
                    </a:cubicBezTo>
                    <a:close/>
                    <a:moveTo>
                      <a:pt x="13681" y="3"/>
                    </a:moveTo>
                    <a:lnTo>
                      <a:pt x="13681" y="3"/>
                    </a:lnTo>
                    <a:cubicBezTo>
                      <a:pt x="13682" y="3"/>
                      <a:pt x="13683" y="4"/>
                      <a:pt x="13683" y="5"/>
                    </a:cubicBezTo>
                    <a:cubicBezTo>
                      <a:pt x="13683" y="7"/>
                      <a:pt x="13682" y="7"/>
                      <a:pt x="13681" y="7"/>
                    </a:cubicBezTo>
                    <a:lnTo>
                      <a:pt x="13681" y="7"/>
                    </a:lnTo>
                    <a:cubicBezTo>
                      <a:pt x="13680" y="7"/>
                      <a:pt x="13679" y="7"/>
                      <a:pt x="13679" y="5"/>
                    </a:cubicBezTo>
                    <a:cubicBezTo>
                      <a:pt x="13679" y="4"/>
                      <a:pt x="13680" y="3"/>
                      <a:pt x="13681" y="3"/>
                    </a:cubicBezTo>
                    <a:close/>
                    <a:moveTo>
                      <a:pt x="13689" y="3"/>
                    </a:moveTo>
                    <a:lnTo>
                      <a:pt x="13689" y="3"/>
                    </a:lnTo>
                    <a:cubicBezTo>
                      <a:pt x="13690" y="3"/>
                      <a:pt x="13691" y="4"/>
                      <a:pt x="13691" y="5"/>
                    </a:cubicBezTo>
                    <a:cubicBezTo>
                      <a:pt x="13691" y="7"/>
                      <a:pt x="13690" y="7"/>
                      <a:pt x="13689" y="7"/>
                    </a:cubicBezTo>
                    <a:lnTo>
                      <a:pt x="13689" y="7"/>
                    </a:lnTo>
                    <a:cubicBezTo>
                      <a:pt x="13688" y="7"/>
                      <a:pt x="13687" y="7"/>
                      <a:pt x="13687" y="5"/>
                    </a:cubicBezTo>
                    <a:cubicBezTo>
                      <a:pt x="13687" y="4"/>
                      <a:pt x="13688" y="3"/>
                      <a:pt x="13689" y="3"/>
                    </a:cubicBezTo>
                    <a:close/>
                    <a:moveTo>
                      <a:pt x="13697" y="3"/>
                    </a:moveTo>
                    <a:lnTo>
                      <a:pt x="13697" y="3"/>
                    </a:lnTo>
                    <a:cubicBezTo>
                      <a:pt x="13698" y="3"/>
                      <a:pt x="13699" y="4"/>
                      <a:pt x="13699" y="5"/>
                    </a:cubicBezTo>
                    <a:cubicBezTo>
                      <a:pt x="13699" y="7"/>
                      <a:pt x="13698" y="7"/>
                      <a:pt x="13697" y="7"/>
                    </a:cubicBezTo>
                    <a:lnTo>
                      <a:pt x="13697" y="7"/>
                    </a:lnTo>
                    <a:cubicBezTo>
                      <a:pt x="13696" y="7"/>
                      <a:pt x="13695" y="7"/>
                      <a:pt x="13695" y="5"/>
                    </a:cubicBezTo>
                    <a:cubicBezTo>
                      <a:pt x="13695" y="4"/>
                      <a:pt x="13696" y="3"/>
                      <a:pt x="13697" y="3"/>
                    </a:cubicBezTo>
                    <a:close/>
                    <a:moveTo>
                      <a:pt x="13705" y="3"/>
                    </a:moveTo>
                    <a:lnTo>
                      <a:pt x="13705" y="3"/>
                    </a:lnTo>
                    <a:cubicBezTo>
                      <a:pt x="13706" y="3"/>
                      <a:pt x="13707" y="4"/>
                      <a:pt x="13707" y="5"/>
                    </a:cubicBezTo>
                    <a:cubicBezTo>
                      <a:pt x="13707" y="7"/>
                      <a:pt x="13706" y="7"/>
                      <a:pt x="13705" y="7"/>
                    </a:cubicBezTo>
                    <a:lnTo>
                      <a:pt x="13705" y="7"/>
                    </a:lnTo>
                    <a:cubicBezTo>
                      <a:pt x="13704" y="7"/>
                      <a:pt x="13703" y="7"/>
                      <a:pt x="13703" y="5"/>
                    </a:cubicBezTo>
                    <a:cubicBezTo>
                      <a:pt x="13703" y="4"/>
                      <a:pt x="13704" y="3"/>
                      <a:pt x="13705" y="3"/>
                    </a:cubicBezTo>
                    <a:close/>
                    <a:moveTo>
                      <a:pt x="13713" y="3"/>
                    </a:moveTo>
                    <a:lnTo>
                      <a:pt x="13713" y="3"/>
                    </a:lnTo>
                    <a:cubicBezTo>
                      <a:pt x="13714" y="3"/>
                      <a:pt x="13715" y="4"/>
                      <a:pt x="13715" y="5"/>
                    </a:cubicBezTo>
                    <a:cubicBezTo>
                      <a:pt x="13715" y="7"/>
                      <a:pt x="13714" y="7"/>
                      <a:pt x="13713" y="7"/>
                    </a:cubicBezTo>
                    <a:lnTo>
                      <a:pt x="13713" y="7"/>
                    </a:lnTo>
                    <a:cubicBezTo>
                      <a:pt x="13712" y="7"/>
                      <a:pt x="13711" y="7"/>
                      <a:pt x="13711" y="5"/>
                    </a:cubicBezTo>
                    <a:cubicBezTo>
                      <a:pt x="13711" y="4"/>
                      <a:pt x="13712" y="3"/>
                      <a:pt x="13713" y="3"/>
                    </a:cubicBezTo>
                    <a:close/>
                    <a:moveTo>
                      <a:pt x="13721" y="3"/>
                    </a:moveTo>
                    <a:lnTo>
                      <a:pt x="13721" y="3"/>
                    </a:lnTo>
                    <a:cubicBezTo>
                      <a:pt x="13722" y="3"/>
                      <a:pt x="13723" y="4"/>
                      <a:pt x="13723" y="5"/>
                    </a:cubicBezTo>
                    <a:cubicBezTo>
                      <a:pt x="13723" y="7"/>
                      <a:pt x="13722" y="7"/>
                      <a:pt x="13721" y="7"/>
                    </a:cubicBezTo>
                    <a:lnTo>
                      <a:pt x="13721" y="7"/>
                    </a:lnTo>
                    <a:cubicBezTo>
                      <a:pt x="13720" y="7"/>
                      <a:pt x="13719" y="7"/>
                      <a:pt x="13719" y="5"/>
                    </a:cubicBezTo>
                    <a:cubicBezTo>
                      <a:pt x="13719" y="4"/>
                      <a:pt x="13720" y="3"/>
                      <a:pt x="13721" y="3"/>
                    </a:cubicBezTo>
                    <a:close/>
                    <a:moveTo>
                      <a:pt x="13729" y="3"/>
                    </a:moveTo>
                    <a:lnTo>
                      <a:pt x="13729" y="3"/>
                    </a:lnTo>
                    <a:cubicBezTo>
                      <a:pt x="13730" y="3"/>
                      <a:pt x="13731" y="4"/>
                      <a:pt x="13731" y="5"/>
                    </a:cubicBezTo>
                    <a:cubicBezTo>
                      <a:pt x="13731" y="7"/>
                      <a:pt x="13730" y="7"/>
                      <a:pt x="13729" y="7"/>
                    </a:cubicBezTo>
                    <a:lnTo>
                      <a:pt x="13729" y="7"/>
                    </a:lnTo>
                    <a:cubicBezTo>
                      <a:pt x="13728" y="7"/>
                      <a:pt x="13727" y="7"/>
                      <a:pt x="13727" y="5"/>
                    </a:cubicBezTo>
                    <a:cubicBezTo>
                      <a:pt x="13727" y="4"/>
                      <a:pt x="13728" y="3"/>
                      <a:pt x="13729" y="3"/>
                    </a:cubicBezTo>
                    <a:close/>
                    <a:moveTo>
                      <a:pt x="13737" y="3"/>
                    </a:moveTo>
                    <a:lnTo>
                      <a:pt x="13737" y="3"/>
                    </a:lnTo>
                    <a:cubicBezTo>
                      <a:pt x="13738" y="3"/>
                      <a:pt x="13739" y="4"/>
                      <a:pt x="13739" y="5"/>
                    </a:cubicBezTo>
                    <a:cubicBezTo>
                      <a:pt x="13739" y="7"/>
                      <a:pt x="13738" y="7"/>
                      <a:pt x="13737" y="7"/>
                    </a:cubicBezTo>
                    <a:lnTo>
                      <a:pt x="13737" y="7"/>
                    </a:lnTo>
                    <a:cubicBezTo>
                      <a:pt x="13736" y="7"/>
                      <a:pt x="13735" y="7"/>
                      <a:pt x="13735" y="5"/>
                    </a:cubicBezTo>
                    <a:cubicBezTo>
                      <a:pt x="13735" y="4"/>
                      <a:pt x="13736" y="3"/>
                      <a:pt x="13737" y="3"/>
                    </a:cubicBezTo>
                    <a:close/>
                    <a:moveTo>
                      <a:pt x="13745" y="3"/>
                    </a:moveTo>
                    <a:lnTo>
                      <a:pt x="13745" y="3"/>
                    </a:lnTo>
                    <a:cubicBezTo>
                      <a:pt x="13746" y="3"/>
                      <a:pt x="13747" y="4"/>
                      <a:pt x="13747" y="5"/>
                    </a:cubicBezTo>
                    <a:cubicBezTo>
                      <a:pt x="13747" y="7"/>
                      <a:pt x="13746" y="7"/>
                      <a:pt x="13745" y="7"/>
                    </a:cubicBezTo>
                    <a:lnTo>
                      <a:pt x="13745" y="7"/>
                    </a:lnTo>
                    <a:cubicBezTo>
                      <a:pt x="13744" y="7"/>
                      <a:pt x="13743" y="7"/>
                      <a:pt x="13743" y="5"/>
                    </a:cubicBezTo>
                    <a:cubicBezTo>
                      <a:pt x="13743" y="4"/>
                      <a:pt x="13744" y="3"/>
                      <a:pt x="13745" y="3"/>
                    </a:cubicBezTo>
                    <a:close/>
                    <a:moveTo>
                      <a:pt x="13753" y="3"/>
                    </a:moveTo>
                    <a:lnTo>
                      <a:pt x="13753" y="3"/>
                    </a:lnTo>
                    <a:cubicBezTo>
                      <a:pt x="13754" y="3"/>
                      <a:pt x="13755" y="4"/>
                      <a:pt x="13755" y="5"/>
                    </a:cubicBezTo>
                    <a:cubicBezTo>
                      <a:pt x="13755" y="7"/>
                      <a:pt x="13754" y="7"/>
                      <a:pt x="13753" y="7"/>
                    </a:cubicBezTo>
                    <a:lnTo>
                      <a:pt x="13753" y="7"/>
                    </a:lnTo>
                    <a:cubicBezTo>
                      <a:pt x="13752" y="7"/>
                      <a:pt x="13751" y="7"/>
                      <a:pt x="13751" y="5"/>
                    </a:cubicBezTo>
                    <a:cubicBezTo>
                      <a:pt x="13751" y="4"/>
                      <a:pt x="13752" y="3"/>
                      <a:pt x="13753" y="3"/>
                    </a:cubicBezTo>
                    <a:close/>
                    <a:moveTo>
                      <a:pt x="13761" y="3"/>
                    </a:moveTo>
                    <a:lnTo>
                      <a:pt x="13761" y="3"/>
                    </a:lnTo>
                    <a:cubicBezTo>
                      <a:pt x="13762" y="3"/>
                      <a:pt x="13763" y="4"/>
                      <a:pt x="13763" y="5"/>
                    </a:cubicBezTo>
                    <a:cubicBezTo>
                      <a:pt x="13763" y="7"/>
                      <a:pt x="13762" y="7"/>
                      <a:pt x="13761" y="7"/>
                    </a:cubicBezTo>
                    <a:lnTo>
                      <a:pt x="13761" y="7"/>
                    </a:lnTo>
                    <a:cubicBezTo>
                      <a:pt x="13760" y="7"/>
                      <a:pt x="13759" y="7"/>
                      <a:pt x="13759" y="5"/>
                    </a:cubicBezTo>
                    <a:cubicBezTo>
                      <a:pt x="13759" y="4"/>
                      <a:pt x="13760" y="3"/>
                      <a:pt x="13761" y="3"/>
                    </a:cubicBezTo>
                    <a:close/>
                    <a:moveTo>
                      <a:pt x="13769" y="3"/>
                    </a:moveTo>
                    <a:lnTo>
                      <a:pt x="13769" y="3"/>
                    </a:lnTo>
                    <a:cubicBezTo>
                      <a:pt x="13770" y="3"/>
                      <a:pt x="13771" y="4"/>
                      <a:pt x="13771" y="5"/>
                    </a:cubicBezTo>
                    <a:cubicBezTo>
                      <a:pt x="13771" y="7"/>
                      <a:pt x="13770" y="7"/>
                      <a:pt x="13769" y="7"/>
                    </a:cubicBezTo>
                    <a:lnTo>
                      <a:pt x="13769" y="7"/>
                    </a:lnTo>
                    <a:cubicBezTo>
                      <a:pt x="13768" y="7"/>
                      <a:pt x="13767" y="7"/>
                      <a:pt x="13767" y="5"/>
                    </a:cubicBezTo>
                    <a:cubicBezTo>
                      <a:pt x="13767" y="4"/>
                      <a:pt x="13768" y="3"/>
                      <a:pt x="13769" y="3"/>
                    </a:cubicBezTo>
                    <a:close/>
                    <a:moveTo>
                      <a:pt x="13777" y="3"/>
                    </a:moveTo>
                    <a:lnTo>
                      <a:pt x="13777" y="3"/>
                    </a:lnTo>
                    <a:cubicBezTo>
                      <a:pt x="13778" y="3"/>
                      <a:pt x="13779" y="4"/>
                      <a:pt x="13779" y="5"/>
                    </a:cubicBezTo>
                    <a:cubicBezTo>
                      <a:pt x="13779" y="7"/>
                      <a:pt x="13778" y="7"/>
                      <a:pt x="13777" y="7"/>
                    </a:cubicBezTo>
                    <a:lnTo>
                      <a:pt x="13777" y="7"/>
                    </a:lnTo>
                    <a:cubicBezTo>
                      <a:pt x="13776" y="7"/>
                      <a:pt x="13775" y="7"/>
                      <a:pt x="13775" y="5"/>
                    </a:cubicBezTo>
                    <a:cubicBezTo>
                      <a:pt x="13775" y="4"/>
                      <a:pt x="13776" y="3"/>
                      <a:pt x="13777" y="3"/>
                    </a:cubicBezTo>
                    <a:close/>
                    <a:moveTo>
                      <a:pt x="13785" y="3"/>
                    </a:moveTo>
                    <a:lnTo>
                      <a:pt x="13785" y="3"/>
                    </a:lnTo>
                    <a:cubicBezTo>
                      <a:pt x="13786" y="3"/>
                      <a:pt x="13787" y="4"/>
                      <a:pt x="13787" y="5"/>
                    </a:cubicBezTo>
                    <a:cubicBezTo>
                      <a:pt x="13787" y="7"/>
                      <a:pt x="13786" y="7"/>
                      <a:pt x="13785" y="7"/>
                    </a:cubicBezTo>
                    <a:lnTo>
                      <a:pt x="13785" y="7"/>
                    </a:lnTo>
                    <a:cubicBezTo>
                      <a:pt x="13784" y="7"/>
                      <a:pt x="13783" y="7"/>
                      <a:pt x="13783" y="5"/>
                    </a:cubicBezTo>
                    <a:cubicBezTo>
                      <a:pt x="13783" y="4"/>
                      <a:pt x="13784" y="3"/>
                      <a:pt x="13785" y="3"/>
                    </a:cubicBezTo>
                    <a:close/>
                    <a:moveTo>
                      <a:pt x="13793" y="3"/>
                    </a:moveTo>
                    <a:lnTo>
                      <a:pt x="13793" y="3"/>
                    </a:lnTo>
                    <a:cubicBezTo>
                      <a:pt x="13794" y="3"/>
                      <a:pt x="13795" y="4"/>
                      <a:pt x="13795" y="5"/>
                    </a:cubicBezTo>
                    <a:cubicBezTo>
                      <a:pt x="13795" y="7"/>
                      <a:pt x="13794" y="7"/>
                      <a:pt x="13793" y="7"/>
                    </a:cubicBezTo>
                    <a:lnTo>
                      <a:pt x="13793" y="7"/>
                    </a:lnTo>
                    <a:cubicBezTo>
                      <a:pt x="13792" y="7"/>
                      <a:pt x="13791" y="7"/>
                      <a:pt x="13791" y="5"/>
                    </a:cubicBezTo>
                    <a:cubicBezTo>
                      <a:pt x="13791" y="4"/>
                      <a:pt x="13792" y="3"/>
                      <a:pt x="13793" y="3"/>
                    </a:cubicBezTo>
                    <a:close/>
                    <a:moveTo>
                      <a:pt x="13801" y="3"/>
                    </a:moveTo>
                    <a:lnTo>
                      <a:pt x="13801" y="3"/>
                    </a:lnTo>
                    <a:cubicBezTo>
                      <a:pt x="13802" y="3"/>
                      <a:pt x="13803" y="4"/>
                      <a:pt x="13803" y="5"/>
                    </a:cubicBezTo>
                    <a:cubicBezTo>
                      <a:pt x="13803" y="7"/>
                      <a:pt x="13802" y="7"/>
                      <a:pt x="13801" y="7"/>
                    </a:cubicBezTo>
                    <a:lnTo>
                      <a:pt x="13801" y="7"/>
                    </a:lnTo>
                    <a:cubicBezTo>
                      <a:pt x="13800" y="7"/>
                      <a:pt x="13799" y="7"/>
                      <a:pt x="13799" y="5"/>
                    </a:cubicBezTo>
                    <a:cubicBezTo>
                      <a:pt x="13799" y="4"/>
                      <a:pt x="13800" y="3"/>
                      <a:pt x="13801" y="3"/>
                    </a:cubicBezTo>
                    <a:close/>
                    <a:moveTo>
                      <a:pt x="13809" y="3"/>
                    </a:moveTo>
                    <a:lnTo>
                      <a:pt x="13809" y="3"/>
                    </a:lnTo>
                    <a:cubicBezTo>
                      <a:pt x="13810" y="3"/>
                      <a:pt x="13811" y="4"/>
                      <a:pt x="13811" y="5"/>
                    </a:cubicBezTo>
                    <a:cubicBezTo>
                      <a:pt x="13811" y="7"/>
                      <a:pt x="13810" y="7"/>
                      <a:pt x="13809" y="7"/>
                    </a:cubicBezTo>
                    <a:lnTo>
                      <a:pt x="13809" y="7"/>
                    </a:lnTo>
                    <a:cubicBezTo>
                      <a:pt x="13808" y="7"/>
                      <a:pt x="13807" y="7"/>
                      <a:pt x="13807" y="5"/>
                    </a:cubicBezTo>
                    <a:cubicBezTo>
                      <a:pt x="13807" y="4"/>
                      <a:pt x="13808" y="3"/>
                      <a:pt x="13809" y="3"/>
                    </a:cubicBezTo>
                    <a:close/>
                    <a:moveTo>
                      <a:pt x="13817" y="3"/>
                    </a:moveTo>
                    <a:lnTo>
                      <a:pt x="13817" y="3"/>
                    </a:lnTo>
                    <a:cubicBezTo>
                      <a:pt x="13818" y="3"/>
                      <a:pt x="13819" y="4"/>
                      <a:pt x="13819" y="5"/>
                    </a:cubicBezTo>
                    <a:cubicBezTo>
                      <a:pt x="13819" y="7"/>
                      <a:pt x="13818" y="7"/>
                      <a:pt x="13817" y="7"/>
                    </a:cubicBezTo>
                    <a:lnTo>
                      <a:pt x="13817" y="7"/>
                    </a:lnTo>
                    <a:cubicBezTo>
                      <a:pt x="13816" y="7"/>
                      <a:pt x="13815" y="7"/>
                      <a:pt x="13815" y="5"/>
                    </a:cubicBezTo>
                    <a:cubicBezTo>
                      <a:pt x="13815" y="4"/>
                      <a:pt x="13816" y="3"/>
                      <a:pt x="13817" y="3"/>
                    </a:cubicBezTo>
                    <a:close/>
                    <a:moveTo>
                      <a:pt x="13825" y="3"/>
                    </a:moveTo>
                    <a:lnTo>
                      <a:pt x="13825" y="3"/>
                    </a:lnTo>
                    <a:cubicBezTo>
                      <a:pt x="13826" y="3"/>
                      <a:pt x="13827" y="4"/>
                      <a:pt x="13827" y="5"/>
                    </a:cubicBezTo>
                    <a:cubicBezTo>
                      <a:pt x="13827" y="7"/>
                      <a:pt x="13826" y="7"/>
                      <a:pt x="13825" y="7"/>
                    </a:cubicBezTo>
                    <a:lnTo>
                      <a:pt x="13825" y="7"/>
                    </a:lnTo>
                    <a:cubicBezTo>
                      <a:pt x="13824" y="7"/>
                      <a:pt x="13823" y="7"/>
                      <a:pt x="13823" y="5"/>
                    </a:cubicBezTo>
                    <a:cubicBezTo>
                      <a:pt x="13823" y="4"/>
                      <a:pt x="13824" y="3"/>
                      <a:pt x="13825" y="3"/>
                    </a:cubicBezTo>
                    <a:close/>
                    <a:moveTo>
                      <a:pt x="13833" y="3"/>
                    </a:moveTo>
                    <a:lnTo>
                      <a:pt x="13833" y="3"/>
                    </a:lnTo>
                    <a:cubicBezTo>
                      <a:pt x="13834" y="3"/>
                      <a:pt x="13835" y="4"/>
                      <a:pt x="13835" y="5"/>
                    </a:cubicBezTo>
                    <a:cubicBezTo>
                      <a:pt x="13835" y="7"/>
                      <a:pt x="13834" y="7"/>
                      <a:pt x="13833" y="7"/>
                    </a:cubicBezTo>
                    <a:lnTo>
                      <a:pt x="13833" y="7"/>
                    </a:lnTo>
                    <a:cubicBezTo>
                      <a:pt x="13832" y="7"/>
                      <a:pt x="13831" y="7"/>
                      <a:pt x="13831" y="5"/>
                    </a:cubicBezTo>
                    <a:cubicBezTo>
                      <a:pt x="13831" y="4"/>
                      <a:pt x="13832" y="3"/>
                      <a:pt x="13833" y="3"/>
                    </a:cubicBezTo>
                    <a:close/>
                    <a:moveTo>
                      <a:pt x="13841" y="3"/>
                    </a:moveTo>
                    <a:lnTo>
                      <a:pt x="13841" y="3"/>
                    </a:lnTo>
                    <a:cubicBezTo>
                      <a:pt x="13842" y="3"/>
                      <a:pt x="13843" y="4"/>
                      <a:pt x="13843" y="5"/>
                    </a:cubicBezTo>
                    <a:cubicBezTo>
                      <a:pt x="13843" y="7"/>
                      <a:pt x="13842" y="7"/>
                      <a:pt x="13841" y="7"/>
                    </a:cubicBezTo>
                    <a:lnTo>
                      <a:pt x="13841" y="7"/>
                    </a:lnTo>
                    <a:cubicBezTo>
                      <a:pt x="13840" y="7"/>
                      <a:pt x="13839" y="7"/>
                      <a:pt x="13839" y="5"/>
                    </a:cubicBezTo>
                    <a:cubicBezTo>
                      <a:pt x="13839" y="4"/>
                      <a:pt x="13840" y="3"/>
                      <a:pt x="13841" y="3"/>
                    </a:cubicBezTo>
                    <a:close/>
                    <a:moveTo>
                      <a:pt x="13849" y="3"/>
                    </a:moveTo>
                    <a:lnTo>
                      <a:pt x="13849" y="3"/>
                    </a:lnTo>
                    <a:cubicBezTo>
                      <a:pt x="13850" y="3"/>
                      <a:pt x="13851" y="4"/>
                      <a:pt x="13851" y="5"/>
                    </a:cubicBezTo>
                    <a:cubicBezTo>
                      <a:pt x="13851" y="7"/>
                      <a:pt x="13850" y="7"/>
                      <a:pt x="13849" y="7"/>
                    </a:cubicBezTo>
                    <a:lnTo>
                      <a:pt x="13849" y="7"/>
                    </a:lnTo>
                    <a:cubicBezTo>
                      <a:pt x="13848" y="7"/>
                      <a:pt x="13847" y="7"/>
                      <a:pt x="13847" y="5"/>
                    </a:cubicBezTo>
                    <a:cubicBezTo>
                      <a:pt x="13847" y="4"/>
                      <a:pt x="13848" y="3"/>
                      <a:pt x="13849" y="3"/>
                    </a:cubicBezTo>
                    <a:close/>
                    <a:moveTo>
                      <a:pt x="13857" y="3"/>
                    </a:moveTo>
                    <a:lnTo>
                      <a:pt x="13857" y="3"/>
                    </a:lnTo>
                    <a:cubicBezTo>
                      <a:pt x="13858" y="3"/>
                      <a:pt x="13859" y="4"/>
                      <a:pt x="13859" y="5"/>
                    </a:cubicBezTo>
                    <a:cubicBezTo>
                      <a:pt x="13859" y="7"/>
                      <a:pt x="13858" y="7"/>
                      <a:pt x="13857" y="7"/>
                    </a:cubicBezTo>
                    <a:lnTo>
                      <a:pt x="13857" y="7"/>
                    </a:lnTo>
                    <a:cubicBezTo>
                      <a:pt x="13856" y="7"/>
                      <a:pt x="13855" y="7"/>
                      <a:pt x="13855" y="5"/>
                    </a:cubicBezTo>
                    <a:cubicBezTo>
                      <a:pt x="13855" y="4"/>
                      <a:pt x="13856" y="3"/>
                      <a:pt x="13857" y="3"/>
                    </a:cubicBezTo>
                    <a:close/>
                    <a:moveTo>
                      <a:pt x="13865" y="3"/>
                    </a:moveTo>
                    <a:lnTo>
                      <a:pt x="13865" y="3"/>
                    </a:lnTo>
                    <a:cubicBezTo>
                      <a:pt x="13866" y="3"/>
                      <a:pt x="13867" y="4"/>
                      <a:pt x="13867" y="5"/>
                    </a:cubicBezTo>
                    <a:cubicBezTo>
                      <a:pt x="13867" y="7"/>
                      <a:pt x="13866" y="7"/>
                      <a:pt x="13865" y="7"/>
                    </a:cubicBezTo>
                    <a:lnTo>
                      <a:pt x="13865" y="7"/>
                    </a:lnTo>
                    <a:cubicBezTo>
                      <a:pt x="13864" y="7"/>
                      <a:pt x="13863" y="7"/>
                      <a:pt x="13863" y="5"/>
                    </a:cubicBezTo>
                    <a:cubicBezTo>
                      <a:pt x="13863" y="4"/>
                      <a:pt x="13864" y="3"/>
                      <a:pt x="13865" y="3"/>
                    </a:cubicBezTo>
                    <a:close/>
                    <a:moveTo>
                      <a:pt x="13873" y="4"/>
                    </a:moveTo>
                    <a:lnTo>
                      <a:pt x="13873" y="4"/>
                    </a:lnTo>
                    <a:cubicBezTo>
                      <a:pt x="13874" y="4"/>
                      <a:pt x="13875" y="4"/>
                      <a:pt x="13875" y="6"/>
                    </a:cubicBezTo>
                    <a:cubicBezTo>
                      <a:pt x="13875" y="7"/>
                      <a:pt x="13874" y="8"/>
                      <a:pt x="13873" y="8"/>
                    </a:cubicBezTo>
                    <a:lnTo>
                      <a:pt x="13873" y="8"/>
                    </a:lnTo>
                    <a:cubicBezTo>
                      <a:pt x="13872" y="8"/>
                      <a:pt x="13871" y="7"/>
                      <a:pt x="13871" y="6"/>
                    </a:cubicBezTo>
                    <a:cubicBezTo>
                      <a:pt x="13871" y="4"/>
                      <a:pt x="13872" y="4"/>
                      <a:pt x="13873" y="4"/>
                    </a:cubicBezTo>
                    <a:close/>
                    <a:moveTo>
                      <a:pt x="13881" y="4"/>
                    </a:moveTo>
                    <a:lnTo>
                      <a:pt x="13881" y="4"/>
                    </a:lnTo>
                    <a:cubicBezTo>
                      <a:pt x="13882" y="4"/>
                      <a:pt x="13883" y="4"/>
                      <a:pt x="13883" y="6"/>
                    </a:cubicBezTo>
                    <a:cubicBezTo>
                      <a:pt x="13883" y="7"/>
                      <a:pt x="13882" y="8"/>
                      <a:pt x="13881" y="8"/>
                    </a:cubicBezTo>
                    <a:lnTo>
                      <a:pt x="13881" y="8"/>
                    </a:lnTo>
                    <a:cubicBezTo>
                      <a:pt x="13880" y="8"/>
                      <a:pt x="13879" y="7"/>
                      <a:pt x="13879" y="6"/>
                    </a:cubicBezTo>
                    <a:cubicBezTo>
                      <a:pt x="13879" y="4"/>
                      <a:pt x="13880" y="4"/>
                      <a:pt x="13881" y="4"/>
                    </a:cubicBezTo>
                    <a:close/>
                    <a:moveTo>
                      <a:pt x="13889" y="4"/>
                    </a:moveTo>
                    <a:lnTo>
                      <a:pt x="13889" y="4"/>
                    </a:lnTo>
                    <a:cubicBezTo>
                      <a:pt x="13890" y="4"/>
                      <a:pt x="13891" y="4"/>
                      <a:pt x="13891" y="6"/>
                    </a:cubicBezTo>
                    <a:cubicBezTo>
                      <a:pt x="13891" y="7"/>
                      <a:pt x="13890" y="8"/>
                      <a:pt x="13889" y="8"/>
                    </a:cubicBezTo>
                    <a:lnTo>
                      <a:pt x="13889" y="8"/>
                    </a:lnTo>
                    <a:cubicBezTo>
                      <a:pt x="13888" y="8"/>
                      <a:pt x="13887" y="7"/>
                      <a:pt x="13887" y="6"/>
                    </a:cubicBezTo>
                    <a:cubicBezTo>
                      <a:pt x="13887" y="4"/>
                      <a:pt x="13888" y="4"/>
                      <a:pt x="13889" y="4"/>
                    </a:cubicBezTo>
                    <a:close/>
                    <a:moveTo>
                      <a:pt x="13897" y="4"/>
                    </a:moveTo>
                    <a:lnTo>
                      <a:pt x="13897" y="4"/>
                    </a:lnTo>
                    <a:cubicBezTo>
                      <a:pt x="13898" y="4"/>
                      <a:pt x="13899" y="4"/>
                      <a:pt x="13899" y="6"/>
                    </a:cubicBezTo>
                    <a:cubicBezTo>
                      <a:pt x="13899" y="7"/>
                      <a:pt x="13898" y="8"/>
                      <a:pt x="13897" y="8"/>
                    </a:cubicBezTo>
                    <a:lnTo>
                      <a:pt x="13897" y="8"/>
                    </a:lnTo>
                    <a:cubicBezTo>
                      <a:pt x="13896" y="8"/>
                      <a:pt x="13895" y="7"/>
                      <a:pt x="13895" y="6"/>
                    </a:cubicBezTo>
                    <a:cubicBezTo>
                      <a:pt x="13895" y="4"/>
                      <a:pt x="13896" y="4"/>
                      <a:pt x="13897" y="4"/>
                    </a:cubicBezTo>
                    <a:close/>
                    <a:moveTo>
                      <a:pt x="13905" y="4"/>
                    </a:moveTo>
                    <a:lnTo>
                      <a:pt x="13905" y="4"/>
                    </a:lnTo>
                    <a:cubicBezTo>
                      <a:pt x="13906" y="4"/>
                      <a:pt x="13907" y="4"/>
                      <a:pt x="13907" y="6"/>
                    </a:cubicBezTo>
                    <a:cubicBezTo>
                      <a:pt x="13907" y="7"/>
                      <a:pt x="13906" y="8"/>
                      <a:pt x="13905" y="8"/>
                    </a:cubicBezTo>
                    <a:lnTo>
                      <a:pt x="13905" y="8"/>
                    </a:lnTo>
                    <a:cubicBezTo>
                      <a:pt x="13904" y="8"/>
                      <a:pt x="13903" y="7"/>
                      <a:pt x="13903" y="6"/>
                    </a:cubicBezTo>
                    <a:cubicBezTo>
                      <a:pt x="13903" y="4"/>
                      <a:pt x="13904" y="4"/>
                      <a:pt x="13905" y="4"/>
                    </a:cubicBezTo>
                    <a:close/>
                    <a:moveTo>
                      <a:pt x="13913" y="4"/>
                    </a:moveTo>
                    <a:lnTo>
                      <a:pt x="13913" y="4"/>
                    </a:lnTo>
                    <a:cubicBezTo>
                      <a:pt x="13914" y="4"/>
                      <a:pt x="13915" y="4"/>
                      <a:pt x="13915" y="6"/>
                    </a:cubicBezTo>
                    <a:cubicBezTo>
                      <a:pt x="13915" y="7"/>
                      <a:pt x="13914" y="8"/>
                      <a:pt x="13913" y="8"/>
                    </a:cubicBezTo>
                    <a:lnTo>
                      <a:pt x="13913" y="8"/>
                    </a:lnTo>
                    <a:cubicBezTo>
                      <a:pt x="13912" y="8"/>
                      <a:pt x="13911" y="7"/>
                      <a:pt x="13911" y="6"/>
                    </a:cubicBezTo>
                    <a:cubicBezTo>
                      <a:pt x="13911" y="4"/>
                      <a:pt x="13912" y="4"/>
                      <a:pt x="13913" y="4"/>
                    </a:cubicBezTo>
                    <a:close/>
                    <a:moveTo>
                      <a:pt x="13921" y="4"/>
                    </a:moveTo>
                    <a:lnTo>
                      <a:pt x="13921" y="4"/>
                    </a:lnTo>
                    <a:cubicBezTo>
                      <a:pt x="13922" y="4"/>
                      <a:pt x="13923" y="4"/>
                      <a:pt x="13923" y="6"/>
                    </a:cubicBezTo>
                    <a:cubicBezTo>
                      <a:pt x="13923" y="7"/>
                      <a:pt x="13922" y="8"/>
                      <a:pt x="13921" y="8"/>
                    </a:cubicBezTo>
                    <a:lnTo>
                      <a:pt x="13921" y="8"/>
                    </a:lnTo>
                    <a:cubicBezTo>
                      <a:pt x="13920" y="8"/>
                      <a:pt x="13919" y="7"/>
                      <a:pt x="13919" y="6"/>
                    </a:cubicBezTo>
                    <a:cubicBezTo>
                      <a:pt x="13919" y="4"/>
                      <a:pt x="13920" y="4"/>
                      <a:pt x="13921" y="4"/>
                    </a:cubicBezTo>
                    <a:close/>
                    <a:moveTo>
                      <a:pt x="13929" y="4"/>
                    </a:moveTo>
                    <a:lnTo>
                      <a:pt x="13929" y="4"/>
                    </a:lnTo>
                    <a:cubicBezTo>
                      <a:pt x="13930" y="4"/>
                      <a:pt x="13931" y="4"/>
                      <a:pt x="13931" y="6"/>
                    </a:cubicBezTo>
                    <a:cubicBezTo>
                      <a:pt x="13931" y="7"/>
                      <a:pt x="13930" y="8"/>
                      <a:pt x="13929" y="8"/>
                    </a:cubicBezTo>
                    <a:lnTo>
                      <a:pt x="13929" y="8"/>
                    </a:lnTo>
                    <a:cubicBezTo>
                      <a:pt x="13928" y="8"/>
                      <a:pt x="13927" y="7"/>
                      <a:pt x="13927" y="6"/>
                    </a:cubicBezTo>
                    <a:cubicBezTo>
                      <a:pt x="13927" y="4"/>
                      <a:pt x="13928" y="4"/>
                      <a:pt x="13929" y="4"/>
                    </a:cubicBezTo>
                    <a:close/>
                    <a:moveTo>
                      <a:pt x="13937" y="4"/>
                    </a:moveTo>
                    <a:lnTo>
                      <a:pt x="13937" y="4"/>
                    </a:lnTo>
                    <a:cubicBezTo>
                      <a:pt x="13938" y="4"/>
                      <a:pt x="13939" y="4"/>
                      <a:pt x="13939" y="6"/>
                    </a:cubicBezTo>
                    <a:cubicBezTo>
                      <a:pt x="13939" y="7"/>
                      <a:pt x="13938" y="8"/>
                      <a:pt x="13937" y="8"/>
                    </a:cubicBezTo>
                    <a:lnTo>
                      <a:pt x="13937" y="8"/>
                    </a:lnTo>
                    <a:cubicBezTo>
                      <a:pt x="13936" y="8"/>
                      <a:pt x="13935" y="7"/>
                      <a:pt x="13935" y="6"/>
                    </a:cubicBezTo>
                    <a:cubicBezTo>
                      <a:pt x="13935" y="4"/>
                      <a:pt x="13936" y="4"/>
                      <a:pt x="13937" y="4"/>
                    </a:cubicBezTo>
                    <a:close/>
                    <a:moveTo>
                      <a:pt x="13945" y="4"/>
                    </a:moveTo>
                    <a:lnTo>
                      <a:pt x="13945" y="4"/>
                    </a:lnTo>
                    <a:cubicBezTo>
                      <a:pt x="13946" y="4"/>
                      <a:pt x="13947" y="4"/>
                      <a:pt x="13947" y="6"/>
                    </a:cubicBezTo>
                    <a:cubicBezTo>
                      <a:pt x="13947" y="7"/>
                      <a:pt x="13946" y="8"/>
                      <a:pt x="13945" y="8"/>
                    </a:cubicBezTo>
                    <a:lnTo>
                      <a:pt x="13945" y="8"/>
                    </a:lnTo>
                    <a:cubicBezTo>
                      <a:pt x="13944" y="8"/>
                      <a:pt x="13943" y="7"/>
                      <a:pt x="13943" y="6"/>
                    </a:cubicBezTo>
                    <a:cubicBezTo>
                      <a:pt x="13943" y="4"/>
                      <a:pt x="13944" y="4"/>
                      <a:pt x="13945" y="4"/>
                    </a:cubicBezTo>
                    <a:close/>
                    <a:moveTo>
                      <a:pt x="13953" y="4"/>
                    </a:moveTo>
                    <a:lnTo>
                      <a:pt x="13953" y="4"/>
                    </a:lnTo>
                    <a:cubicBezTo>
                      <a:pt x="13954" y="4"/>
                      <a:pt x="13955" y="4"/>
                      <a:pt x="13955" y="6"/>
                    </a:cubicBezTo>
                    <a:cubicBezTo>
                      <a:pt x="13955" y="7"/>
                      <a:pt x="13954" y="8"/>
                      <a:pt x="13953" y="8"/>
                    </a:cubicBezTo>
                    <a:lnTo>
                      <a:pt x="13953" y="8"/>
                    </a:lnTo>
                    <a:cubicBezTo>
                      <a:pt x="13952" y="8"/>
                      <a:pt x="13951" y="7"/>
                      <a:pt x="13951" y="6"/>
                    </a:cubicBezTo>
                    <a:cubicBezTo>
                      <a:pt x="13951" y="4"/>
                      <a:pt x="13952" y="4"/>
                      <a:pt x="13953" y="4"/>
                    </a:cubicBezTo>
                    <a:close/>
                    <a:moveTo>
                      <a:pt x="13961" y="4"/>
                    </a:moveTo>
                    <a:lnTo>
                      <a:pt x="13961" y="4"/>
                    </a:lnTo>
                    <a:cubicBezTo>
                      <a:pt x="13962" y="4"/>
                      <a:pt x="13963" y="4"/>
                      <a:pt x="13963" y="6"/>
                    </a:cubicBezTo>
                    <a:cubicBezTo>
                      <a:pt x="13963" y="7"/>
                      <a:pt x="13962" y="8"/>
                      <a:pt x="13961" y="8"/>
                    </a:cubicBezTo>
                    <a:lnTo>
                      <a:pt x="13961" y="8"/>
                    </a:lnTo>
                    <a:cubicBezTo>
                      <a:pt x="13960" y="8"/>
                      <a:pt x="13959" y="7"/>
                      <a:pt x="13959" y="6"/>
                    </a:cubicBezTo>
                    <a:cubicBezTo>
                      <a:pt x="13959" y="4"/>
                      <a:pt x="13960" y="4"/>
                      <a:pt x="13961" y="4"/>
                    </a:cubicBezTo>
                    <a:close/>
                    <a:moveTo>
                      <a:pt x="13969" y="4"/>
                    </a:moveTo>
                    <a:lnTo>
                      <a:pt x="13969" y="4"/>
                    </a:lnTo>
                    <a:cubicBezTo>
                      <a:pt x="13970" y="4"/>
                      <a:pt x="13971" y="4"/>
                      <a:pt x="13971" y="6"/>
                    </a:cubicBezTo>
                    <a:cubicBezTo>
                      <a:pt x="13971" y="7"/>
                      <a:pt x="13970" y="8"/>
                      <a:pt x="13969" y="8"/>
                    </a:cubicBezTo>
                    <a:lnTo>
                      <a:pt x="13969" y="8"/>
                    </a:lnTo>
                    <a:cubicBezTo>
                      <a:pt x="13968" y="8"/>
                      <a:pt x="13967" y="7"/>
                      <a:pt x="13967" y="6"/>
                    </a:cubicBezTo>
                    <a:cubicBezTo>
                      <a:pt x="13967" y="4"/>
                      <a:pt x="13968" y="4"/>
                      <a:pt x="13969" y="4"/>
                    </a:cubicBezTo>
                    <a:close/>
                    <a:moveTo>
                      <a:pt x="13977" y="4"/>
                    </a:moveTo>
                    <a:lnTo>
                      <a:pt x="13977" y="4"/>
                    </a:lnTo>
                    <a:cubicBezTo>
                      <a:pt x="13978" y="4"/>
                      <a:pt x="13979" y="4"/>
                      <a:pt x="13979" y="6"/>
                    </a:cubicBezTo>
                    <a:cubicBezTo>
                      <a:pt x="13979" y="7"/>
                      <a:pt x="13978" y="8"/>
                      <a:pt x="13977" y="8"/>
                    </a:cubicBezTo>
                    <a:lnTo>
                      <a:pt x="13977" y="8"/>
                    </a:lnTo>
                    <a:cubicBezTo>
                      <a:pt x="13976" y="8"/>
                      <a:pt x="13975" y="7"/>
                      <a:pt x="13975" y="6"/>
                    </a:cubicBezTo>
                    <a:cubicBezTo>
                      <a:pt x="13975" y="4"/>
                      <a:pt x="13976" y="4"/>
                      <a:pt x="13977" y="4"/>
                    </a:cubicBezTo>
                    <a:close/>
                    <a:moveTo>
                      <a:pt x="13985" y="4"/>
                    </a:moveTo>
                    <a:lnTo>
                      <a:pt x="13985" y="4"/>
                    </a:lnTo>
                    <a:cubicBezTo>
                      <a:pt x="13986" y="4"/>
                      <a:pt x="13987" y="4"/>
                      <a:pt x="13987" y="6"/>
                    </a:cubicBezTo>
                    <a:cubicBezTo>
                      <a:pt x="13987" y="7"/>
                      <a:pt x="13986" y="8"/>
                      <a:pt x="13985" y="8"/>
                    </a:cubicBezTo>
                    <a:lnTo>
                      <a:pt x="13985" y="8"/>
                    </a:lnTo>
                    <a:cubicBezTo>
                      <a:pt x="13984" y="8"/>
                      <a:pt x="13983" y="7"/>
                      <a:pt x="13983" y="6"/>
                    </a:cubicBezTo>
                    <a:cubicBezTo>
                      <a:pt x="13983" y="4"/>
                      <a:pt x="13984" y="4"/>
                      <a:pt x="13985" y="4"/>
                    </a:cubicBezTo>
                    <a:close/>
                    <a:moveTo>
                      <a:pt x="13993" y="4"/>
                    </a:moveTo>
                    <a:lnTo>
                      <a:pt x="13993" y="4"/>
                    </a:lnTo>
                    <a:cubicBezTo>
                      <a:pt x="13994" y="4"/>
                      <a:pt x="13995" y="4"/>
                      <a:pt x="13995" y="6"/>
                    </a:cubicBezTo>
                    <a:cubicBezTo>
                      <a:pt x="13995" y="7"/>
                      <a:pt x="13994" y="8"/>
                      <a:pt x="13993" y="8"/>
                    </a:cubicBezTo>
                    <a:lnTo>
                      <a:pt x="13993" y="8"/>
                    </a:lnTo>
                    <a:cubicBezTo>
                      <a:pt x="13992" y="8"/>
                      <a:pt x="13991" y="7"/>
                      <a:pt x="13991" y="6"/>
                    </a:cubicBezTo>
                    <a:cubicBezTo>
                      <a:pt x="13991" y="4"/>
                      <a:pt x="13992" y="4"/>
                      <a:pt x="13993" y="4"/>
                    </a:cubicBezTo>
                    <a:close/>
                    <a:moveTo>
                      <a:pt x="14001" y="4"/>
                    </a:moveTo>
                    <a:lnTo>
                      <a:pt x="14001" y="4"/>
                    </a:lnTo>
                    <a:cubicBezTo>
                      <a:pt x="14002" y="4"/>
                      <a:pt x="14003" y="4"/>
                      <a:pt x="14003" y="6"/>
                    </a:cubicBezTo>
                    <a:cubicBezTo>
                      <a:pt x="14003" y="7"/>
                      <a:pt x="14002" y="8"/>
                      <a:pt x="14001" y="8"/>
                    </a:cubicBezTo>
                    <a:lnTo>
                      <a:pt x="14001" y="8"/>
                    </a:lnTo>
                    <a:cubicBezTo>
                      <a:pt x="14000" y="8"/>
                      <a:pt x="13999" y="7"/>
                      <a:pt x="13999" y="6"/>
                    </a:cubicBezTo>
                    <a:cubicBezTo>
                      <a:pt x="13999" y="4"/>
                      <a:pt x="14000" y="4"/>
                      <a:pt x="14001" y="4"/>
                    </a:cubicBezTo>
                    <a:close/>
                    <a:moveTo>
                      <a:pt x="14009" y="4"/>
                    </a:moveTo>
                    <a:lnTo>
                      <a:pt x="14009" y="4"/>
                    </a:lnTo>
                    <a:cubicBezTo>
                      <a:pt x="14010" y="4"/>
                      <a:pt x="14011" y="4"/>
                      <a:pt x="14011" y="6"/>
                    </a:cubicBezTo>
                    <a:cubicBezTo>
                      <a:pt x="14011" y="7"/>
                      <a:pt x="14010" y="8"/>
                      <a:pt x="14009" y="8"/>
                    </a:cubicBezTo>
                    <a:lnTo>
                      <a:pt x="14009" y="8"/>
                    </a:lnTo>
                    <a:cubicBezTo>
                      <a:pt x="14008" y="8"/>
                      <a:pt x="14007" y="7"/>
                      <a:pt x="14007" y="6"/>
                    </a:cubicBezTo>
                    <a:cubicBezTo>
                      <a:pt x="14007" y="4"/>
                      <a:pt x="14008" y="4"/>
                      <a:pt x="14009" y="4"/>
                    </a:cubicBezTo>
                    <a:close/>
                    <a:moveTo>
                      <a:pt x="14017" y="4"/>
                    </a:moveTo>
                    <a:lnTo>
                      <a:pt x="14017" y="4"/>
                    </a:lnTo>
                    <a:cubicBezTo>
                      <a:pt x="14018" y="4"/>
                      <a:pt x="14019" y="4"/>
                      <a:pt x="14019" y="6"/>
                    </a:cubicBezTo>
                    <a:cubicBezTo>
                      <a:pt x="14019" y="7"/>
                      <a:pt x="14018" y="8"/>
                      <a:pt x="14017" y="8"/>
                    </a:cubicBezTo>
                    <a:lnTo>
                      <a:pt x="14017" y="8"/>
                    </a:lnTo>
                    <a:cubicBezTo>
                      <a:pt x="14016" y="8"/>
                      <a:pt x="14015" y="7"/>
                      <a:pt x="14015" y="6"/>
                    </a:cubicBezTo>
                    <a:cubicBezTo>
                      <a:pt x="14015" y="4"/>
                      <a:pt x="14016" y="4"/>
                      <a:pt x="14017" y="4"/>
                    </a:cubicBezTo>
                    <a:close/>
                    <a:moveTo>
                      <a:pt x="14025" y="4"/>
                    </a:moveTo>
                    <a:lnTo>
                      <a:pt x="14025" y="4"/>
                    </a:lnTo>
                    <a:cubicBezTo>
                      <a:pt x="14026" y="4"/>
                      <a:pt x="14027" y="4"/>
                      <a:pt x="14027" y="6"/>
                    </a:cubicBezTo>
                    <a:cubicBezTo>
                      <a:pt x="14027" y="7"/>
                      <a:pt x="14026" y="8"/>
                      <a:pt x="14025" y="8"/>
                    </a:cubicBezTo>
                    <a:lnTo>
                      <a:pt x="14025" y="8"/>
                    </a:lnTo>
                    <a:cubicBezTo>
                      <a:pt x="14024" y="8"/>
                      <a:pt x="14023" y="7"/>
                      <a:pt x="14023" y="6"/>
                    </a:cubicBezTo>
                    <a:cubicBezTo>
                      <a:pt x="14023" y="4"/>
                      <a:pt x="14024" y="4"/>
                      <a:pt x="14025" y="4"/>
                    </a:cubicBezTo>
                    <a:close/>
                    <a:moveTo>
                      <a:pt x="14033" y="4"/>
                    </a:moveTo>
                    <a:lnTo>
                      <a:pt x="14033" y="4"/>
                    </a:lnTo>
                    <a:cubicBezTo>
                      <a:pt x="14034" y="4"/>
                      <a:pt x="14035" y="4"/>
                      <a:pt x="14035" y="6"/>
                    </a:cubicBezTo>
                    <a:cubicBezTo>
                      <a:pt x="14035" y="7"/>
                      <a:pt x="14034" y="8"/>
                      <a:pt x="14033" y="8"/>
                    </a:cubicBezTo>
                    <a:lnTo>
                      <a:pt x="14033" y="8"/>
                    </a:lnTo>
                    <a:cubicBezTo>
                      <a:pt x="14032" y="8"/>
                      <a:pt x="14031" y="7"/>
                      <a:pt x="14031" y="6"/>
                    </a:cubicBezTo>
                    <a:cubicBezTo>
                      <a:pt x="14031" y="4"/>
                      <a:pt x="14032" y="4"/>
                      <a:pt x="14033" y="4"/>
                    </a:cubicBezTo>
                    <a:close/>
                    <a:moveTo>
                      <a:pt x="14041" y="4"/>
                    </a:moveTo>
                    <a:lnTo>
                      <a:pt x="14041" y="4"/>
                    </a:lnTo>
                    <a:cubicBezTo>
                      <a:pt x="14042" y="4"/>
                      <a:pt x="14043" y="4"/>
                      <a:pt x="14043" y="6"/>
                    </a:cubicBezTo>
                    <a:cubicBezTo>
                      <a:pt x="14043" y="7"/>
                      <a:pt x="14042" y="8"/>
                      <a:pt x="14041" y="8"/>
                    </a:cubicBezTo>
                    <a:lnTo>
                      <a:pt x="14041" y="8"/>
                    </a:lnTo>
                    <a:cubicBezTo>
                      <a:pt x="14040" y="8"/>
                      <a:pt x="14039" y="7"/>
                      <a:pt x="14039" y="6"/>
                    </a:cubicBezTo>
                    <a:cubicBezTo>
                      <a:pt x="14039" y="4"/>
                      <a:pt x="14040" y="4"/>
                      <a:pt x="14041" y="4"/>
                    </a:cubicBezTo>
                    <a:close/>
                    <a:moveTo>
                      <a:pt x="14049" y="4"/>
                    </a:moveTo>
                    <a:lnTo>
                      <a:pt x="14049" y="4"/>
                    </a:lnTo>
                    <a:cubicBezTo>
                      <a:pt x="14050" y="4"/>
                      <a:pt x="14051" y="4"/>
                      <a:pt x="14051" y="6"/>
                    </a:cubicBezTo>
                    <a:cubicBezTo>
                      <a:pt x="14051" y="7"/>
                      <a:pt x="14050" y="8"/>
                      <a:pt x="14049" y="8"/>
                    </a:cubicBezTo>
                    <a:lnTo>
                      <a:pt x="14049" y="8"/>
                    </a:lnTo>
                    <a:cubicBezTo>
                      <a:pt x="14048" y="8"/>
                      <a:pt x="14047" y="7"/>
                      <a:pt x="14047" y="6"/>
                    </a:cubicBezTo>
                    <a:cubicBezTo>
                      <a:pt x="14047" y="4"/>
                      <a:pt x="14048" y="4"/>
                      <a:pt x="14049" y="4"/>
                    </a:cubicBezTo>
                    <a:close/>
                    <a:moveTo>
                      <a:pt x="14057" y="4"/>
                    </a:moveTo>
                    <a:lnTo>
                      <a:pt x="14057" y="4"/>
                    </a:lnTo>
                    <a:cubicBezTo>
                      <a:pt x="14058" y="4"/>
                      <a:pt x="14059" y="4"/>
                      <a:pt x="14059" y="6"/>
                    </a:cubicBezTo>
                    <a:cubicBezTo>
                      <a:pt x="14059" y="7"/>
                      <a:pt x="14058" y="8"/>
                      <a:pt x="14057" y="8"/>
                    </a:cubicBezTo>
                    <a:lnTo>
                      <a:pt x="14057" y="8"/>
                    </a:lnTo>
                    <a:cubicBezTo>
                      <a:pt x="14056" y="8"/>
                      <a:pt x="14055" y="7"/>
                      <a:pt x="14055" y="6"/>
                    </a:cubicBezTo>
                    <a:cubicBezTo>
                      <a:pt x="14055" y="4"/>
                      <a:pt x="14056" y="4"/>
                      <a:pt x="14057" y="4"/>
                    </a:cubicBezTo>
                    <a:close/>
                    <a:moveTo>
                      <a:pt x="14065" y="4"/>
                    </a:moveTo>
                    <a:lnTo>
                      <a:pt x="14065" y="4"/>
                    </a:lnTo>
                    <a:cubicBezTo>
                      <a:pt x="14066" y="4"/>
                      <a:pt x="14067" y="4"/>
                      <a:pt x="14067" y="6"/>
                    </a:cubicBezTo>
                    <a:cubicBezTo>
                      <a:pt x="14067" y="7"/>
                      <a:pt x="14066" y="8"/>
                      <a:pt x="14065" y="8"/>
                    </a:cubicBezTo>
                    <a:lnTo>
                      <a:pt x="14065" y="8"/>
                    </a:lnTo>
                    <a:cubicBezTo>
                      <a:pt x="14064" y="8"/>
                      <a:pt x="14063" y="7"/>
                      <a:pt x="14063" y="6"/>
                    </a:cubicBezTo>
                    <a:cubicBezTo>
                      <a:pt x="14063" y="4"/>
                      <a:pt x="14064" y="4"/>
                      <a:pt x="14065" y="4"/>
                    </a:cubicBezTo>
                    <a:close/>
                    <a:moveTo>
                      <a:pt x="14073" y="4"/>
                    </a:moveTo>
                    <a:lnTo>
                      <a:pt x="14073" y="4"/>
                    </a:lnTo>
                    <a:cubicBezTo>
                      <a:pt x="14074" y="4"/>
                      <a:pt x="14075" y="4"/>
                      <a:pt x="14075" y="6"/>
                    </a:cubicBezTo>
                    <a:cubicBezTo>
                      <a:pt x="14075" y="7"/>
                      <a:pt x="14074" y="8"/>
                      <a:pt x="14073" y="8"/>
                    </a:cubicBezTo>
                    <a:lnTo>
                      <a:pt x="14073" y="8"/>
                    </a:lnTo>
                    <a:cubicBezTo>
                      <a:pt x="14072" y="8"/>
                      <a:pt x="14071" y="7"/>
                      <a:pt x="14071" y="6"/>
                    </a:cubicBezTo>
                    <a:cubicBezTo>
                      <a:pt x="14071" y="4"/>
                      <a:pt x="14072" y="4"/>
                      <a:pt x="14073" y="4"/>
                    </a:cubicBezTo>
                    <a:close/>
                    <a:moveTo>
                      <a:pt x="14081" y="4"/>
                    </a:moveTo>
                    <a:lnTo>
                      <a:pt x="14081" y="4"/>
                    </a:lnTo>
                    <a:cubicBezTo>
                      <a:pt x="14082" y="4"/>
                      <a:pt x="14083" y="4"/>
                      <a:pt x="14083" y="6"/>
                    </a:cubicBezTo>
                    <a:cubicBezTo>
                      <a:pt x="14083" y="7"/>
                      <a:pt x="14082" y="8"/>
                      <a:pt x="14081" y="8"/>
                    </a:cubicBezTo>
                    <a:lnTo>
                      <a:pt x="14081" y="8"/>
                    </a:lnTo>
                    <a:cubicBezTo>
                      <a:pt x="14080" y="8"/>
                      <a:pt x="14079" y="7"/>
                      <a:pt x="14079" y="6"/>
                    </a:cubicBezTo>
                    <a:cubicBezTo>
                      <a:pt x="14079" y="4"/>
                      <a:pt x="14080" y="4"/>
                      <a:pt x="14081" y="4"/>
                    </a:cubicBezTo>
                    <a:close/>
                    <a:moveTo>
                      <a:pt x="14089" y="4"/>
                    </a:moveTo>
                    <a:lnTo>
                      <a:pt x="14089" y="4"/>
                    </a:lnTo>
                    <a:cubicBezTo>
                      <a:pt x="14090" y="4"/>
                      <a:pt x="14091" y="4"/>
                      <a:pt x="14091" y="6"/>
                    </a:cubicBezTo>
                    <a:cubicBezTo>
                      <a:pt x="14091" y="7"/>
                      <a:pt x="14090" y="8"/>
                      <a:pt x="14089" y="8"/>
                    </a:cubicBezTo>
                    <a:lnTo>
                      <a:pt x="14089" y="8"/>
                    </a:lnTo>
                    <a:cubicBezTo>
                      <a:pt x="14088" y="8"/>
                      <a:pt x="14087" y="7"/>
                      <a:pt x="14087" y="6"/>
                    </a:cubicBezTo>
                    <a:cubicBezTo>
                      <a:pt x="14087" y="4"/>
                      <a:pt x="14088" y="4"/>
                      <a:pt x="14089" y="4"/>
                    </a:cubicBezTo>
                    <a:close/>
                    <a:moveTo>
                      <a:pt x="14097" y="4"/>
                    </a:moveTo>
                    <a:lnTo>
                      <a:pt x="14097" y="4"/>
                    </a:lnTo>
                    <a:cubicBezTo>
                      <a:pt x="14098" y="4"/>
                      <a:pt x="14099" y="4"/>
                      <a:pt x="14099" y="6"/>
                    </a:cubicBezTo>
                    <a:cubicBezTo>
                      <a:pt x="14099" y="7"/>
                      <a:pt x="14098" y="8"/>
                      <a:pt x="14097" y="8"/>
                    </a:cubicBezTo>
                    <a:lnTo>
                      <a:pt x="14097" y="8"/>
                    </a:lnTo>
                    <a:cubicBezTo>
                      <a:pt x="14096" y="8"/>
                      <a:pt x="14095" y="7"/>
                      <a:pt x="14095" y="6"/>
                    </a:cubicBezTo>
                    <a:cubicBezTo>
                      <a:pt x="14095" y="4"/>
                      <a:pt x="14096" y="4"/>
                      <a:pt x="14097" y="4"/>
                    </a:cubicBezTo>
                    <a:close/>
                    <a:moveTo>
                      <a:pt x="14105" y="4"/>
                    </a:moveTo>
                    <a:lnTo>
                      <a:pt x="14105" y="4"/>
                    </a:lnTo>
                    <a:cubicBezTo>
                      <a:pt x="14106" y="4"/>
                      <a:pt x="14107" y="4"/>
                      <a:pt x="14107" y="6"/>
                    </a:cubicBezTo>
                    <a:cubicBezTo>
                      <a:pt x="14107" y="7"/>
                      <a:pt x="14106" y="8"/>
                      <a:pt x="14105" y="8"/>
                    </a:cubicBezTo>
                    <a:lnTo>
                      <a:pt x="14105" y="8"/>
                    </a:lnTo>
                    <a:cubicBezTo>
                      <a:pt x="14104" y="8"/>
                      <a:pt x="14103" y="7"/>
                      <a:pt x="14103" y="6"/>
                    </a:cubicBezTo>
                    <a:cubicBezTo>
                      <a:pt x="14103" y="4"/>
                      <a:pt x="14104" y="4"/>
                      <a:pt x="14105" y="4"/>
                    </a:cubicBezTo>
                    <a:close/>
                    <a:moveTo>
                      <a:pt x="14113" y="4"/>
                    </a:moveTo>
                    <a:lnTo>
                      <a:pt x="14113" y="4"/>
                    </a:lnTo>
                    <a:cubicBezTo>
                      <a:pt x="14114" y="4"/>
                      <a:pt x="14115" y="4"/>
                      <a:pt x="14115" y="6"/>
                    </a:cubicBezTo>
                    <a:cubicBezTo>
                      <a:pt x="14115" y="7"/>
                      <a:pt x="14114" y="8"/>
                      <a:pt x="14113" y="8"/>
                    </a:cubicBezTo>
                    <a:lnTo>
                      <a:pt x="14113" y="8"/>
                    </a:lnTo>
                    <a:cubicBezTo>
                      <a:pt x="14112" y="8"/>
                      <a:pt x="14111" y="7"/>
                      <a:pt x="14111" y="6"/>
                    </a:cubicBezTo>
                    <a:cubicBezTo>
                      <a:pt x="14111" y="4"/>
                      <a:pt x="14112" y="4"/>
                      <a:pt x="14113" y="4"/>
                    </a:cubicBezTo>
                    <a:close/>
                    <a:moveTo>
                      <a:pt x="14121" y="4"/>
                    </a:moveTo>
                    <a:lnTo>
                      <a:pt x="14121" y="4"/>
                    </a:lnTo>
                    <a:cubicBezTo>
                      <a:pt x="14122" y="4"/>
                      <a:pt x="14123" y="4"/>
                      <a:pt x="14123" y="6"/>
                    </a:cubicBezTo>
                    <a:cubicBezTo>
                      <a:pt x="14123" y="7"/>
                      <a:pt x="14122" y="8"/>
                      <a:pt x="14121" y="8"/>
                    </a:cubicBezTo>
                    <a:lnTo>
                      <a:pt x="14121" y="8"/>
                    </a:lnTo>
                    <a:cubicBezTo>
                      <a:pt x="14120" y="8"/>
                      <a:pt x="14119" y="7"/>
                      <a:pt x="14119" y="6"/>
                    </a:cubicBezTo>
                    <a:cubicBezTo>
                      <a:pt x="14119" y="4"/>
                      <a:pt x="14120" y="4"/>
                      <a:pt x="14121" y="4"/>
                    </a:cubicBezTo>
                    <a:close/>
                    <a:moveTo>
                      <a:pt x="14129" y="4"/>
                    </a:moveTo>
                    <a:lnTo>
                      <a:pt x="14129" y="4"/>
                    </a:lnTo>
                    <a:cubicBezTo>
                      <a:pt x="14130" y="4"/>
                      <a:pt x="14131" y="4"/>
                      <a:pt x="14131" y="6"/>
                    </a:cubicBezTo>
                    <a:cubicBezTo>
                      <a:pt x="14131" y="7"/>
                      <a:pt x="14130" y="8"/>
                      <a:pt x="14129" y="8"/>
                    </a:cubicBezTo>
                    <a:lnTo>
                      <a:pt x="14129" y="8"/>
                    </a:lnTo>
                    <a:cubicBezTo>
                      <a:pt x="14128" y="8"/>
                      <a:pt x="14127" y="7"/>
                      <a:pt x="14127" y="6"/>
                    </a:cubicBezTo>
                    <a:cubicBezTo>
                      <a:pt x="14127" y="4"/>
                      <a:pt x="14128" y="4"/>
                      <a:pt x="14129" y="4"/>
                    </a:cubicBezTo>
                    <a:close/>
                    <a:moveTo>
                      <a:pt x="14137" y="4"/>
                    </a:moveTo>
                    <a:lnTo>
                      <a:pt x="14137" y="4"/>
                    </a:lnTo>
                    <a:cubicBezTo>
                      <a:pt x="14138" y="4"/>
                      <a:pt x="14139" y="4"/>
                      <a:pt x="14139" y="6"/>
                    </a:cubicBezTo>
                    <a:cubicBezTo>
                      <a:pt x="14139" y="7"/>
                      <a:pt x="14138" y="8"/>
                      <a:pt x="14137" y="8"/>
                    </a:cubicBezTo>
                    <a:lnTo>
                      <a:pt x="14137" y="8"/>
                    </a:lnTo>
                    <a:cubicBezTo>
                      <a:pt x="14136" y="8"/>
                      <a:pt x="14135" y="7"/>
                      <a:pt x="14135" y="6"/>
                    </a:cubicBezTo>
                    <a:cubicBezTo>
                      <a:pt x="14135" y="4"/>
                      <a:pt x="14136" y="4"/>
                      <a:pt x="14137" y="4"/>
                    </a:cubicBezTo>
                    <a:close/>
                    <a:moveTo>
                      <a:pt x="14145" y="4"/>
                    </a:moveTo>
                    <a:lnTo>
                      <a:pt x="14145" y="4"/>
                    </a:lnTo>
                    <a:cubicBezTo>
                      <a:pt x="14146" y="4"/>
                      <a:pt x="14147" y="4"/>
                      <a:pt x="14147" y="6"/>
                    </a:cubicBezTo>
                    <a:cubicBezTo>
                      <a:pt x="14147" y="7"/>
                      <a:pt x="14146" y="8"/>
                      <a:pt x="14145" y="8"/>
                    </a:cubicBezTo>
                    <a:lnTo>
                      <a:pt x="14145" y="8"/>
                    </a:lnTo>
                    <a:cubicBezTo>
                      <a:pt x="14144" y="8"/>
                      <a:pt x="14143" y="7"/>
                      <a:pt x="14143" y="6"/>
                    </a:cubicBezTo>
                    <a:cubicBezTo>
                      <a:pt x="14143" y="4"/>
                      <a:pt x="14144" y="4"/>
                      <a:pt x="14145" y="4"/>
                    </a:cubicBezTo>
                    <a:close/>
                    <a:moveTo>
                      <a:pt x="14153" y="4"/>
                    </a:moveTo>
                    <a:lnTo>
                      <a:pt x="14153" y="4"/>
                    </a:lnTo>
                    <a:cubicBezTo>
                      <a:pt x="14154" y="4"/>
                      <a:pt x="14155" y="4"/>
                      <a:pt x="14155" y="6"/>
                    </a:cubicBezTo>
                    <a:cubicBezTo>
                      <a:pt x="14155" y="7"/>
                      <a:pt x="14154" y="8"/>
                      <a:pt x="14153" y="8"/>
                    </a:cubicBezTo>
                    <a:lnTo>
                      <a:pt x="14153" y="8"/>
                    </a:lnTo>
                    <a:cubicBezTo>
                      <a:pt x="14152" y="8"/>
                      <a:pt x="14151" y="7"/>
                      <a:pt x="14151" y="6"/>
                    </a:cubicBezTo>
                    <a:cubicBezTo>
                      <a:pt x="14151" y="4"/>
                      <a:pt x="14152" y="4"/>
                      <a:pt x="14153" y="4"/>
                    </a:cubicBezTo>
                    <a:close/>
                    <a:moveTo>
                      <a:pt x="14161" y="4"/>
                    </a:moveTo>
                    <a:lnTo>
                      <a:pt x="14161" y="4"/>
                    </a:lnTo>
                    <a:cubicBezTo>
                      <a:pt x="14162" y="4"/>
                      <a:pt x="14163" y="4"/>
                      <a:pt x="14163" y="6"/>
                    </a:cubicBezTo>
                    <a:cubicBezTo>
                      <a:pt x="14163" y="7"/>
                      <a:pt x="14162" y="8"/>
                      <a:pt x="14161" y="8"/>
                    </a:cubicBezTo>
                    <a:lnTo>
                      <a:pt x="14161" y="8"/>
                    </a:lnTo>
                    <a:cubicBezTo>
                      <a:pt x="14160" y="8"/>
                      <a:pt x="14159" y="7"/>
                      <a:pt x="14159" y="6"/>
                    </a:cubicBezTo>
                    <a:cubicBezTo>
                      <a:pt x="14159" y="4"/>
                      <a:pt x="14160" y="4"/>
                      <a:pt x="14161" y="4"/>
                    </a:cubicBezTo>
                    <a:close/>
                    <a:moveTo>
                      <a:pt x="14169" y="4"/>
                    </a:moveTo>
                    <a:lnTo>
                      <a:pt x="14169" y="4"/>
                    </a:lnTo>
                    <a:cubicBezTo>
                      <a:pt x="14171" y="4"/>
                      <a:pt x="14171" y="4"/>
                      <a:pt x="14171" y="6"/>
                    </a:cubicBezTo>
                    <a:cubicBezTo>
                      <a:pt x="14171" y="7"/>
                      <a:pt x="14171" y="8"/>
                      <a:pt x="14169" y="8"/>
                    </a:cubicBezTo>
                    <a:lnTo>
                      <a:pt x="14169" y="8"/>
                    </a:lnTo>
                    <a:cubicBezTo>
                      <a:pt x="14168" y="8"/>
                      <a:pt x="14167" y="7"/>
                      <a:pt x="14167" y="6"/>
                    </a:cubicBezTo>
                    <a:cubicBezTo>
                      <a:pt x="14167" y="4"/>
                      <a:pt x="14168" y="4"/>
                      <a:pt x="14169" y="4"/>
                    </a:cubicBezTo>
                    <a:close/>
                    <a:moveTo>
                      <a:pt x="14177" y="4"/>
                    </a:moveTo>
                    <a:lnTo>
                      <a:pt x="14177" y="4"/>
                    </a:lnTo>
                    <a:cubicBezTo>
                      <a:pt x="14179" y="4"/>
                      <a:pt x="14179" y="4"/>
                      <a:pt x="14179" y="6"/>
                    </a:cubicBezTo>
                    <a:cubicBezTo>
                      <a:pt x="14179" y="7"/>
                      <a:pt x="14179" y="8"/>
                      <a:pt x="14177" y="8"/>
                    </a:cubicBezTo>
                    <a:lnTo>
                      <a:pt x="14177" y="8"/>
                    </a:lnTo>
                    <a:cubicBezTo>
                      <a:pt x="14176" y="8"/>
                      <a:pt x="14175" y="7"/>
                      <a:pt x="14175" y="6"/>
                    </a:cubicBezTo>
                    <a:cubicBezTo>
                      <a:pt x="14175" y="4"/>
                      <a:pt x="14176" y="4"/>
                      <a:pt x="14177" y="4"/>
                    </a:cubicBezTo>
                    <a:close/>
                    <a:moveTo>
                      <a:pt x="14185" y="4"/>
                    </a:moveTo>
                    <a:lnTo>
                      <a:pt x="14185" y="4"/>
                    </a:lnTo>
                    <a:cubicBezTo>
                      <a:pt x="14187" y="4"/>
                      <a:pt x="14187" y="4"/>
                      <a:pt x="14187" y="6"/>
                    </a:cubicBezTo>
                    <a:cubicBezTo>
                      <a:pt x="14187" y="7"/>
                      <a:pt x="14187" y="8"/>
                      <a:pt x="14185" y="8"/>
                    </a:cubicBezTo>
                    <a:lnTo>
                      <a:pt x="14185" y="8"/>
                    </a:lnTo>
                    <a:cubicBezTo>
                      <a:pt x="14184" y="8"/>
                      <a:pt x="14183" y="7"/>
                      <a:pt x="14183" y="6"/>
                    </a:cubicBezTo>
                    <a:cubicBezTo>
                      <a:pt x="14183" y="4"/>
                      <a:pt x="14184" y="4"/>
                      <a:pt x="14185" y="4"/>
                    </a:cubicBezTo>
                    <a:close/>
                    <a:moveTo>
                      <a:pt x="14193" y="4"/>
                    </a:moveTo>
                    <a:lnTo>
                      <a:pt x="14193" y="4"/>
                    </a:lnTo>
                    <a:cubicBezTo>
                      <a:pt x="14195" y="4"/>
                      <a:pt x="14195" y="4"/>
                      <a:pt x="14195" y="6"/>
                    </a:cubicBezTo>
                    <a:cubicBezTo>
                      <a:pt x="14195" y="7"/>
                      <a:pt x="14195" y="8"/>
                      <a:pt x="14193" y="8"/>
                    </a:cubicBezTo>
                    <a:lnTo>
                      <a:pt x="14193" y="8"/>
                    </a:lnTo>
                    <a:cubicBezTo>
                      <a:pt x="14192" y="8"/>
                      <a:pt x="14191" y="7"/>
                      <a:pt x="14191" y="6"/>
                    </a:cubicBezTo>
                    <a:cubicBezTo>
                      <a:pt x="14191" y="4"/>
                      <a:pt x="14192" y="4"/>
                      <a:pt x="14193" y="4"/>
                    </a:cubicBezTo>
                    <a:close/>
                    <a:moveTo>
                      <a:pt x="14201" y="4"/>
                    </a:moveTo>
                    <a:lnTo>
                      <a:pt x="14201" y="4"/>
                    </a:lnTo>
                    <a:cubicBezTo>
                      <a:pt x="14203" y="4"/>
                      <a:pt x="14203" y="4"/>
                      <a:pt x="14203" y="6"/>
                    </a:cubicBezTo>
                    <a:cubicBezTo>
                      <a:pt x="14203" y="7"/>
                      <a:pt x="14203" y="8"/>
                      <a:pt x="14201" y="8"/>
                    </a:cubicBezTo>
                    <a:lnTo>
                      <a:pt x="14201" y="8"/>
                    </a:lnTo>
                    <a:cubicBezTo>
                      <a:pt x="14200" y="8"/>
                      <a:pt x="14199" y="7"/>
                      <a:pt x="14199" y="6"/>
                    </a:cubicBezTo>
                    <a:cubicBezTo>
                      <a:pt x="14199" y="4"/>
                      <a:pt x="14200" y="4"/>
                      <a:pt x="14201" y="4"/>
                    </a:cubicBezTo>
                    <a:close/>
                    <a:moveTo>
                      <a:pt x="14209" y="4"/>
                    </a:moveTo>
                    <a:lnTo>
                      <a:pt x="14209" y="4"/>
                    </a:lnTo>
                    <a:cubicBezTo>
                      <a:pt x="14211" y="4"/>
                      <a:pt x="14211" y="4"/>
                      <a:pt x="14211" y="6"/>
                    </a:cubicBezTo>
                    <a:cubicBezTo>
                      <a:pt x="14211" y="7"/>
                      <a:pt x="14211" y="8"/>
                      <a:pt x="14209" y="8"/>
                    </a:cubicBezTo>
                    <a:lnTo>
                      <a:pt x="14209" y="8"/>
                    </a:lnTo>
                    <a:cubicBezTo>
                      <a:pt x="14208" y="8"/>
                      <a:pt x="14207" y="7"/>
                      <a:pt x="14207" y="6"/>
                    </a:cubicBezTo>
                    <a:cubicBezTo>
                      <a:pt x="14207" y="4"/>
                      <a:pt x="14208" y="4"/>
                      <a:pt x="14209" y="4"/>
                    </a:cubicBezTo>
                    <a:close/>
                    <a:moveTo>
                      <a:pt x="14217" y="4"/>
                    </a:moveTo>
                    <a:lnTo>
                      <a:pt x="14217" y="4"/>
                    </a:lnTo>
                    <a:cubicBezTo>
                      <a:pt x="14219" y="4"/>
                      <a:pt x="14219" y="4"/>
                      <a:pt x="14219" y="6"/>
                    </a:cubicBezTo>
                    <a:cubicBezTo>
                      <a:pt x="14219" y="7"/>
                      <a:pt x="14219" y="8"/>
                      <a:pt x="14217" y="8"/>
                    </a:cubicBezTo>
                    <a:lnTo>
                      <a:pt x="14217" y="8"/>
                    </a:lnTo>
                    <a:cubicBezTo>
                      <a:pt x="14216" y="8"/>
                      <a:pt x="14215" y="7"/>
                      <a:pt x="14215" y="6"/>
                    </a:cubicBezTo>
                    <a:cubicBezTo>
                      <a:pt x="14215" y="4"/>
                      <a:pt x="14216" y="4"/>
                      <a:pt x="14217" y="4"/>
                    </a:cubicBezTo>
                    <a:close/>
                    <a:moveTo>
                      <a:pt x="14225" y="4"/>
                    </a:moveTo>
                    <a:lnTo>
                      <a:pt x="14225" y="4"/>
                    </a:lnTo>
                    <a:cubicBezTo>
                      <a:pt x="14227" y="4"/>
                      <a:pt x="14227" y="4"/>
                      <a:pt x="14227" y="6"/>
                    </a:cubicBezTo>
                    <a:cubicBezTo>
                      <a:pt x="14227" y="7"/>
                      <a:pt x="14227" y="8"/>
                      <a:pt x="14225" y="8"/>
                    </a:cubicBezTo>
                    <a:lnTo>
                      <a:pt x="14225" y="8"/>
                    </a:lnTo>
                    <a:cubicBezTo>
                      <a:pt x="14224" y="8"/>
                      <a:pt x="14223" y="7"/>
                      <a:pt x="14223" y="6"/>
                    </a:cubicBezTo>
                    <a:cubicBezTo>
                      <a:pt x="14223" y="4"/>
                      <a:pt x="14224" y="4"/>
                      <a:pt x="14225" y="4"/>
                    </a:cubicBezTo>
                    <a:close/>
                    <a:moveTo>
                      <a:pt x="14233" y="4"/>
                    </a:moveTo>
                    <a:lnTo>
                      <a:pt x="14233" y="4"/>
                    </a:lnTo>
                    <a:cubicBezTo>
                      <a:pt x="14235" y="4"/>
                      <a:pt x="14235" y="4"/>
                      <a:pt x="14235" y="6"/>
                    </a:cubicBezTo>
                    <a:cubicBezTo>
                      <a:pt x="14235" y="7"/>
                      <a:pt x="14235" y="8"/>
                      <a:pt x="14233" y="8"/>
                    </a:cubicBezTo>
                    <a:lnTo>
                      <a:pt x="14233" y="8"/>
                    </a:lnTo>
                    <a:cubicBezTo>
                      <a:pt x="14232" y="8"/>
                      <a:pt x="14231" y="7"/>
                      <a:pt x="14231" y="6"/>
                    </a:cubicBezTo>
                    <a:cubicBezTo>
                      <a:pt x="14231" y="4"/>
                      <a:pt x="14232" y="4"/>
                      <a:pt x="14233" y="4"/>
                    </a:cubicBezTo>
                    <a:close/>
                    <a:moveTo>
                      <a:pt x="14241" y="4"/>
                    </a:moveTo>
                    <a:lnTo>
                      <a:pt x="14241" y="4"/>
                    </a:lnTo>
                    <a:cubicBezTo>
                      <a:pt x="14243" y="4"/>
                      <a:pt x="14243" y="4"/>
                      <a:pt x="14243" y="6"/>
                    </a:cubicBezTo>
                    <a:cubicBezTo>
                      <a:pt x="14243" y="7"/>
                      <a:pt x="14243" y="8"/>
                      <a:pt x="14241" y="8"/>
                    </a:cubicBezTo>
                    <a:lnTo>
                      <a:pt x="14241" y="8"/>
                    </a:lnTo>
                    <a:cubicBezTo>
                      <a:pt x="14240" y="8"/>
                      <a:pt x="14239" y="7"/>
                      <a:pt x="14239" y="6"/>
                    </a:cubicBezTo>
                    <a:cubicBezTo>
                      <a:pt x="14239" y="4"/>
                      <a:pt x="14240" y="4"/>
                      <a:pt x="14241" y="4"/>
                    </a:cubicBezTo>
                    <a:close/>
                    <a:moveTo>
                      <a:pt x="14249" y="4"/>
                    </a:moveTo>
                    <a:lnTo>
                      <a:pt x="14249" y="4"/>
                    </a:lnTo>
                    <a:cubicBezTo>
                      <a:pt x="14251" y="4"/>
                      <a:pt x="14251" y="4"/>
                      <a:pt x="14251" y="6"/>
                    </a:cubicBezTo>
                    <a:cubicBezTo>
                      <a:pt x="14251" y="7"/>
                      <a:pt x="14251" y="8"/>
                      <a:pt x="14249" y="8"/>
                    </a:cubicBezTo>
                    <a:lnTo>
                      <a:pt x="14249" y="8"/>
                    </a:lnTo>
                    <a:cubicBezTo>
                      <a:pt x="14248" y="8"/>
                      <a:pt x="14247" y="7"/>
                      <a:pt x="14247" y="6"/>
                    </a:cubicBezTo>
                    <a:cubicBezTo>
                      <a:pt x="14247" y="4"/>
                      <a:pt x="14248" y="4"/>
                      <a:pt x="14249" y="4"/>
                    </a:cubicBezTo>
                    <a:close/>
                    <a:moveTo>
                      <a:pt x="14257" y="4"/>
                    </a:moveTo>
                    <a:lnTo>
                      <a:pt x="14257" y="4"/>
                    </a:lnTo>
                    <a:cubicBezTo>
                      <a:pt x="14259" y="4"/>
                      <a:pt x="14259" y="4"/>
                      <a:pt x="14259" y="6"/>
                    </a:cubicBezTo>
                    <a:cubicBezTo>
                      <a:pt x="14259" y="7"/>
                      <a:pt x="14259" y="8"/>
                      <a:pt x="14257" y="8"/>
                    </a:cubicBezTo>
                    <a:lnTo>
                      <a:pt x="14257" y="8"/>
                    </a:lnTo>
                    <a:cubicBezTo>
                      <a:pt x="14256" y="8"/>
                      <a:pt x="14255" y="7"/>
                      <a:pt x="14255" y="6"/>
                    </a:cubicBezTo>
                    <a:cubicBezTo>
                      <a:pt x="14255" y="4"/>
                      <a:pt x="14256" y="4"/>
                      <a:pt x="14257" y="4"/>
                    </a:cubicBezTo>
                    <a:close/>
                    <a:moveTo>
                      <a:pt x="14265" y="4"/>
                    </a:moveTo>
                    <a:lnTo>
                      <a:pt x="14265" y="4"/>
                    </a:lnTo>
                    <a:cubicBezTo>
                      <a:pt x="14267" y="4"/>
                      <a:pt x="14267" y="4"/>
                      <a:pt x="14267" y="6"/>
                    </a:cubicBezTo>
                    <a:cubicBezTo>
                      <a:pt x="14267" y="7"/>
                      <a:pt x="14267" y="8"/>
                      <a:pt x="14265" y="8"/>
                    </a:cubicBezTo>
                    <a:lnTo>
                      <a:pt x="14265" y="8"/>
                    </a:lnTo>
                    <a:cubicBezTo>
                      <a:pt x="14264" y="8"/>
                      <a:pt x="14263" y="7"/>
                      <a:pt x="14263" y="6"/>
                    </a:cubicBezTo>
                    <a:cubicBezTo>
                      <a:pt x="14263" y="4"/>
                      <a:pt x="14264" y="4"/>
                      <a:pt x="14265" y="4"/>
                    </a:cubicBezTo>
                    <a:close/>
                    <a:moveTo>
                      <a:pt x="14273" y="4"/>
                    </a:moveTo>
                    <a:lnTo>
                      <a:pt x="14273" y="4"/>
                    </a:lnTo>
                    <a:cubicBezTo>
                      <a:pt x="14275" y="4"/>
                      <a:pt x="14275" y="4"/>
                      <a:pt x="14275" y="6"/>
                    </a:cubicBezTo>
                    <a:cubicBezTo>
                      <a:pt x="14275" y="7"/>
                      <a:pt x="14275" y="8"/>
                      <a:pt x="14273" y="8"/>
                    </a:cubicBezTo>
                    <a:lnTo>
                      <a:pt x="14273" y="8"/>
                    </a:lnTo>
                    <a:cubicBezTo>
                      <a:pt x="14272" y="8"/>
                      <a:pt x="14271" y="7"/>
                      <a:pt x="14271" y="6"/>
                    </a:cubicBezTo>
                    <a:cubicBezTo>
                      <a:pt x="14271" y="4"/>
                      <a:pt x="14272" y="4"/>
                      <a:pt x="14273" y="4"/>
                    </a:cubicBezTo>
                    <a:close/>
                    <a:moveTo>
                      <a:pt x="14281" y="4"/>
                    </a:moveTo>
                    <a:lnTo>
                      <a:pt x="14281" y="4"/>
                    </a:lnTo>
                    <a:cubicBezTo>
                      <a:pt x="14283" y="4"/>
                      <a:pt x="14283" y="4"/>
                      <a:pt x="14283" y="6"/>
                    </a:cubicBezTo>
                    <a:cubicBezTo>
                      <a:pt x="14283" y="7"/>
                      <a:pt x="14283" y="8"/>
                      <a:pt x="14281" y="8"/>
                    </a:cubicBezTo>
                    <a:lnTo>
                      <a:pt x="14281" y="8"/>
                    </a:lnTo>
                    <a:cubicBezTo>
                      <a:pt x="14280" y="8"/>
                      <a:pt x="14279" y="7"/>
                      <a:pt x="14279" y="6"/>
                    </a:cubicBezTo>
                    <a:cubicBezTo>
                      <a:pt x="14279" y="4"/>
                      <a:pt x="14280" y="4"/>
                      <a:pt x="14281" y="4"/>
                    </a:cubicBezTo>
                    <a:close/>
                    <a:moveTo>
                      <a:pt x="14289" y="4"/>
                    </a:moveTo>
                    <a:lnTo>
                      <a:pt x="14289" y="4"/>
                    </a:lnTo>
                    <a:cubicBezTo>
                      <a:pt x="14291" y="4"/>
                      <a:pt x="14291" y="4"/>
                      <a:pt x="14291" y="6"/>
                    </a:cubicBezTo>
                    <a:cubicBezTo>
                      <a:pt x="14291" y="7"/>
                      <a:pt x="14291" y="8"/>
                      <a:pt x="14289" y="8"/>
                    </a:cubicBezTo>
                    <a:lnTo>
                      <a:pt x="14289" y="8"/>
                    </a:lnTo>
                    <a:cubicBezTo>
                      <a:pt x="14288" y="8"/>
                      <a:pt x="14287" y="7"/>
                      <a:pt x="14287" y="6"/>
                    </a:cubicBezTo>
                    <a:cubicBezTo>
                      <a:pt x="14287" y="4"/>
                      <a:pt x="14288" y="4"/>
                      <a:pt x="14289" y="4"/>
                    </a:cubicBezTo>
                    <a:close/>
                    <a:moveTo>
                      <a:pt x="14297" y="4"/>
                    </a:moveTo>
                    <a:lnTo>
                      <a:pt x="14297" y="4"/>
                    </a:lnTo>
                    <a:cubicBezTo>
                      <a:pt x="14299" y="4"/>
                      <a:pt x="14299" y="4"/>
                      <a:pt x="14299" y="6"/>
                    </a:cubicBezTo>
                    <a:cubicBezTo>
                      <a:pt x="14299" y="7"/>
                      <a:pt x="14299" y="8"/>
                      <a:pt x="14297" y="8"/>
                    </a:cubicBezTo>
                    <a:lnTo>
                      <a:pt x="14297" y="8"/>
                    </a:lnTo>
                    <a:cubicBezTo>
                      <a:pt x="14296" y="8"/>
                      <a:pt x="14295" y="7"/>
                      <a:pt x="14295" y="6"/>
                    </a:cubicBezTo>
                    <a:cubicBezTo>
                      <a:pt x="14295" y="4"/>
                      <a:pt x="14296" y="4"/>
                      <a:pt x="14297" y="4"/>
                    </a:cubicBezTo>
                    <a:close/>
                    <a:moveTo>
                      <a:pt x="14305" y="4"/>
                    </a:moveTo>
                    <a:lnTo>
                      <a:pt x="14306" y="4"/>
                    </a:lnTo>
                    <a:cubicBezTo>
                      <a:pt x="14307" y="4"/>
                      <a:pt x="14308" y="5"/>
                      <a:pt x="14308" y="6"/>
                    </a:cubicBezTo>
                    <a:cubicBezTo>
                      <a:pt x="14308" y="7"/>
                      <a:pt x="14307" y="8"/>
                      <a:pt x="14306" y="8"/>
                    </a:cubicBezTo>
                    <a:lnTo>
                      <a:pt x="14305" y="8"/>
                    </a:lnTo>
                    <a:cubicBezTo>
                      <a:pt x="14304" y="8"/>
                      <a:pt x="14303" y="7"/>
                      <a:pt x="14303" y="6"/>
                    </a:cubicBezTo>
                    <a:cubicBezTo>
                      <a:pt x="14303" y="5"/>
                      <a:pt x="14304" y="4"/>
                      <a:pt x="14305" y="4"/>
                    </a:cubicBezTo>
                    <a:close/>
                    <a:moveTo>
                      <a:pt x="14314" y="4"/>
                    </a:moveTo>
                    <a:lnTo>
                      <a:pt x="14314" y="4"/>
                    </a:lnTo>
                    <a:cubicBezTo>
                      <a:pt x="14315" y="4"/>
                      <a:pt x="14316" y="5"/>
                      <a:pt x="14316" y="6"/>
                    </a:cubicBezTo>
                    <a:cubicBezTo>
                      <a:pt x="14316" y="7"/>
                      <a:pt x="14315" y="8"/>
                      <a:pt x="14314" y="8"/>
                    </a:cubicBezTo>
                    <a:lnTo>
                      <a:pt x="14314" y="8"/>
                    </a:lnTo>
                    <a:cubicBezTo>
                      <a:pt x="14312" y="8"/>
                      <a:pt x="14312" y="7"/>
                      <a:pt x="14312" y="6"/>
                    </a:cubicBezTo>
                    <a:cubicBezTo>
                      <a:pt x="14312" y="5"/>
                      <a:pt x="14312" y="4"/>
                      <a:pt x="14314" y="4"/>
                    </a:cubicBezTo>
                    <a:close/>
                    <a:moveTo>
                      <a:pt x="14322" y="4"/>
                    </a:moveTo>
                    <a:lnTo>
                      <a:pt x="14322" y="4"/>
                    </a:lnTo>
                    <a:cubicBezTo>
                      <a:pt x="14323" y="4"/>
                      <a:pt x="14324" y="5"/>
                      <a:pt x="14324" y="6"/>
                    </a:cubicBezTo>
                    <a:cubicBezTo>
                      <a:pt x="14324" y="7"/>
                      <a:pt x="14323" y="8"/>
                      <a:pt x="14322" y="8"/>
                    </a:cubicBezTo>
                    <a:lnTo>
                      <a:pt x="14322" y="8"/>
                    </a:lnTo>
                    <a:cubicBezTo>
                      <a:pt x="14320" y="8"/>
                      <a:pt x="14320" y="7"/>
                      <a:pt x="14320" y="6"/>
                    </a:cubicBezTo>
                    <a:cubicBezTo>
                      <a:pt x="14320" y="5"/>
                      <a:pt x="14320" y="4"/>
                      <a:pt x="14322" y="4"/>
                    </a:cubicBezTo>
                    <a:close/>
                    <a:moveTo>
                      <a:pt x="14330" y="4"/>
                    </a:moveTo>
                    <a:lnTo>
                      <a:pt x="14330" y="4"/>
                    </a:lnTo>
                    <a:cubicBezTo>
                      <a:pt x="14331" y="4"/>
                      <a:pt x="14332" y="5"/>
                      <a:pt x="14332" y="6"/>
                    </a:cubicBezTo>
                    <a:cubicBezTo>
                      <a:pt x="14332" y="7"/>
                      <a:pt x="14331" y="8"/>
                      <a:pt x="14330" y="8"/>
                    </a:cubicBezTo>
                    <a:lnTo>
                      <a:pt x="14330" y="8"/>
                    </a:lnTo>
                    <a:cubicBezTo>
                      <a:pt x="14328" y="8"/>
                      <a:pt x="14328" y="7"/>
                      <a:pt x="14328" y="6"/>
                    </a:cubicBezTo>
                    <a:cubicBezTo>
                      <a:pt x="14328" y="5"/>
                      <a:pt x="14328" y="4"/>
                      <a:pt x="14330" y="4"/>
                    </a:cubicBezTo>
                    <a:close/>
                    <a:moveTo>
                      <a:pt x="14338" y="4"/>
                    </a:moveTo>
                    <a:lnTo>
                      <a:pt x="14338" y="4"/>
                    </a:lnTo>
                    <a:cubicBezTo>
                      <a:pt x="14339" y="4"/>
                      <a:pt x="14340" y="5"/>
                      <a:pt x="14340" y="6"/>
                    </a:cubicBezTo>
                    <a:cubicBezTo>
                      <a:pt x="14340" y="7"/>
                      <a:pt x="14339" y="8"/>
                      <a:pt x="14338" y="8"/>
                    </a:cubicBezTo>
                    <a:lnTo>
                      <a:pt x="14338" y="8"/>
                    </a:lnTo>
                    <a:cubicBezTo>
                      <a:pt x="14336" y="8"/>
                      <a:pt x="14336" y="7"/>
                      <a:pt x="14336" y="6"/>
                    </a:cubicBezTo>
                    <a:cubicBezTo>
                      <a:pt x="14336" y="5"/>
                      <a:pt x="14336" y="4"/>
                      <a:pt x="14338" y="4"/>
                    </a:cubicBezTo>
                    <a:close/>
                    <a:moveTo>
                      <a:pt x="14346" y="4"/>
                    </a:moveTo>
                    <a:lnTo>
                      <a:pt x="14346" y="4"/>
                    </a:lnTo>
                    <a:cubicBezTo>
                      <a:pt x="14347" y="4"/>
                      <a:pt x="14348" y="5"/>
                      <a:pt x="14348" y="6"/>
                    </a:cubicBezTo>
                    <a:cubicBezTo>
                      <a:pt x="14348" y="7"/>
                      <a:pt x="14347" y="8"/>
                      <a:pt x="14346" y="8"/>
                    </a:cubicBezTo>
                    <a:lnTo>
                      <a:pt x="14346" y="8"/>
                    </a:lnTo>
                    <a:cubicBezTo>
                      <a:pt x="14344" y="8"/>
                      <a:pt x="14344" y="7"/>
                      <a:pt x="14344" y="6"/>
                    </a:cubicBezTo>
                    <a:cubicBezTo>
                      <a:pt x="14344" y="5"/>
                      <a:pt x="14344" y="4"/>
                      <a:pt x="14346" y="4"/>
                    </a:cubicBezTo>
                    <a:close/>
                    <a:moveTo>
                      <a:pt x="14354" y="4"/>
                    </a:moveTo>
                    <a:lnTo>
                      <a:pt x="14354" y="4"/>
                    </a:lnTo>
                    <a:cubicBezTo>
                      <a:pt x="14355" y="4"/>
                      <a:pt x="14356" y="5"/>
                      <a:pt x="14356" y="6"/>
                    </a:cubicBezTo>
                    <a:cubicBezTo>
                      <a:pt x="14356" y="7"/>
                      <a:pt x="14355" y="8"/>
                      <a:pt x="14354" y="8"/>
                    </a:cubicBezTo>
                    <a:lnTo>
                      <a:pt x="14354" y="8"/>
                    </a:lnTo>
                    <a:cubicBezTo>
                      <a:pt x="14352" y="8"/>
                      <a:pt x="14352" y="7"/>
                      <a:pt x="14352" y="6"/>
                    </a:cubicBezTo>
                    <a:cubicBezTo>
                      <a:pt x="14352" y="5"/>
                      <a:pt x="14352" y="4"/>
                      <a:pt x="14354" y="4"/>
                    </a:cubicBezTo>
                    <a:close/>
                    <a:moveTo>
                      <a:pt x="14362" y="4"/>
                    </a:moveTo>
                    <a:lnTo>
                      <a:pt x="14362" y="4"/>
                    </a:lnTo>
                    <a:cubicBezTo>
                      <a:pt x="14363" y="4"/>
                      <a:pt x="14364" y="5"/>
                      <a:pt x="14364" y="6"/>
                    </a:cubicBezTo>
                    <a:cubicBezTo>
                      <a:pt x="14364" y="7"/>
                      <a:pt x="14363" y="8"/>
                      <a:pt x="14362" y="8"/>
                    </a:cubicBezTo>
                    <a:lnTo>
                      <a:pt x="14362" y="8"/>
                    </a:lnTo>
                    <a:cubicBezTo>
                      <a:pt x="14360" y="8"/>
                      <a:pt x="14360" y="7"/>
                      <a:pt x="14360" y="6"/>
                    </a:cubicBezTo>
                    <a:cubicBezTo>
                      <a:pt x="14360" y="5"/>
                      <a:pt x="14360" y="4"/>
                      <a:pt x="14362" y="4"/>
                    </a:cubicBezTo>
                    <a:close/>
                    <a:moveTo>
                      <a:pt x="14370" y="4"/>
                    </a:moveTo>
                    <a:lnTo>
                      <a:pt x="14370" y="4"/>
                    </a:lnTo>
                    <a:cubicBezTo>
                      <a:pt x="14371" y="4"/>
                      <a:pt x="14372" y="5"/>
                      <a:pt x="14372" y="6"/>
                    </a:cubicBezTo>
                    <a:cubicBezTo>
                      <a:pt x="14372" y="7"/>
                      <a:pt x="14371" y="8"/>
                      <a:pt x="14370" y="8"/>
                    </a:cubicBezTo>
                    <a:lnTo>
                      <a:pt x="14370" y="8"/>
                    </a:lnTo>
                    <a:cubicBezTo>
                      <a:pt x="14368" y="8"/>
                      <a:pt x="14368" y="7"/>
                      <a:pt x="14368" y="6"/>
                    </a:cubicBezTo>
                    <a:cubicBezTo>
                      <a:pt x="14368" y="5"/>
                      <a:pt x="14368" y="4"/>
                      <a:pt x="14370" y="4"/>
                    </a:cubicBezTo>
                    <a:close/>
                    <a:moveTo>
                      <a:pt x="14378" y="4"/>
                    </a:moveTo>
                    <a:lnTo>
                      <a:pt x="14378" y="4"/>
                    </a:lnTo>
                    <a:cubicBezTo>
                      <a:pt x="14379" y="4"/>
                      <a:pt x="14380" y="5"/>
                      <a:pt x="14380" y="6"/>
                    </a:cubicBezTo>
                    <a:cubicBezTo>
                      <a:pt x="14380" y="7"/>
                      <a:pt x="14379" y="8"/>
                      <a:pt x="14378" y="8"/>
                    </a:cubicBezTo>
                    <a:lnTo>
                      <a:pt x="14378" y="8"/>
                    </a:lnTo>
                    <a:cubicBezTo>
                      <a:pt x="14376" y="8"/>
                      <a:pt x="14376" y="7"/>
                      <a:pt x="14376" y="6"/>
                    </a:cubicBezTo>
                    <a:cubicBezTo>
                      <a:pt x="14376" y="5"/>
                      <a:pt x="14376" y="4"/>
                      <a:pt x="14378" y="4"/>
                    </a:cubicBezTo>
                    <a:close/>
                    <a:moveTo>
                      <a:pt x="14386" y="4"/>
                    </a:moveTo>
                    <a:lnTo>
                      <a:pt x="14386" y="4"/>
                    </a:lnTo>
                    <a:cubicBezTo>
                      <a:pt x="14387" y="4"/>
                      <a:pt x="14388" y="5"/>
                      <a:pt x="14388" y="6"/>
                    </a:cubicBezTo>
                    <a:cubicBezTo>
                      <a:pt x="14388" y="7"/>
                      <a:pt x="14387" y="8"/>
                      <a:pt x="14386" y="8"/>
                    </a:cubicBezTo>
                    <a:lnTo>
                      <a:pt x="14386" y="8"/>
                    </a:lnTo>
                    <a:cubicBezTo>
                      <a:pt x="14384" y="8"/>
                      <a:pt x="14384" y="7"/>
                      <a:pt x="14384" y="6"/>
                    </a:cubicBezTo>
                    <a:cubicBezTo>
                      <a:pt x="14384" y="5"/>
                      <a:pt x="14384" y="4"/>
                      <a:pt x="14386" y="4"/>
                    </a:cubicBezTo>
                    <a:close/>
                    <a:moveTo>
                      <a:pt x="14394" y="4"/>
                    </a:moveTo>
                    <a:lnTo>
                      <a:pt x="14394" y="4"/>
                    </a:lnTo>
                    <a:cubicBezTo>
                      <a:pt x="14395" y="4"/>
                      <a:pt x="14396" y="5"/>
                      <a:pt x="14396" y="6"/>
                    </a:cubicBezTo>
                    <a:cubicBezTo>
                      <a:pt x="14396" y="7"/>
                      <a:pt x="14395" y="8"/>
                      <a:pt x="14394" y="8"/>
                    </a:cubicBezTo>
                    <a:lnTo>
                      <a:pt x="14394" y="8"/>
                    </a:lnTo>
                    <a:cubicBezTo>
                      <a:pt x="14392" y="8"/>
                      <a:pt x="14392" y="7"/>
                      <a:pt x="14392" y="6"/>
                    </a:cubicBezTo>
                    <a:cubicBezTo>
                      <a:pt x="14392" y="5"/>
                      <a:pt x="14392" y="4"/>
                      <a:pt x="14394" y="4"/>
                    </a:cubicBezTo>
                    <a:close/>
                    <a:moveTo>
                      <a:pt x="14402" y="4"/>
                    </a:moveTo>
                    <a:lnTo>
                      <a:pt x="14402" y="4"/>
                    </a:lnTo>
                    <a:cubicBezTo>
                      <a:pt x="14403" y="4"/>
                      <a:pt x="14404" y="5"/>
                      <a:pt x="14404" y="6"/>
                    </a:cubicBezTo>
                    <a:cubicBezTo>
                      <a:pt x="14404" y="7"/>
                      <a:pt x="14403" y="8"/>
                      <a:pt x="14402" y="8"/>
                    </a:cubicBezTo>
                    <a:lnTo>
                      <a:pt x="14402" y="8"/>
                    </a:lnTo>
                    <a:cubicBezTo>
                      <a:pt x="14400" y="8"/>
                      <a:pt x="14400" y="7"/>
                      <a:pt x="14400" y="6"/>
                    </a:cubicBezTo>
                    <a:cubicBezTo>
                      <a:pt x="14400" y="5"/>
                      <a:pt x="14400" y="4"/>
                      <a:pt x="14402" y="4"/>
                    </a:cubicBezTo>
                    <a:close/>
                    <a:moveTo>
                      <a:pt x="14410" y="4"/>
                    </a:moveTo>
                    <a:lnTo>
                      <a:pt x="14410" y="4"/>
                    </a:lnTo>
                    <a:cubicBezTo>
                      <a:pt x="14411" y="4"/>
                      <a:pt x="14412" y="5"/>
                      <a:pt x="14412" y="6"/>
                    </a:cubicBezTo>
                    <a:cubicBezTo>
                      <a:pt x="14412" y="7"/>
                      <a:pt x="14411" y="8"/>
                      <a:pt x="14410" y="8"/>
                    </a:cubicBezTo>
                    <a:lnTo>
                      <a:pt x="14410" y="8"/>
                    </a:lnTo>
                    <a:cubicBezTo>
                      <a:pt x="14408" y="8"/>
                      <a:pt x="14408" y="7"/>
                      <a:pt x="14408" y="6"/>
                    </a:cubicBezTo>
                    <a:cubicBezTo>
                      <a:pt x="14408" y="5"/>
                      <a:pt x="14408" y="4"/>
                      <a:pt x="14410" y="4"/>
                    </a:cubicBezTo>
                    <a:close/>
                    <a:moveTo>
                      <a:pt x="14418" y="4"/>
                    </a:moveTo>
                    <a:lnTo>
                      <a:pt x="14418" y="4"/>
                    </a:lnTo>
                    <a:cubicBezTo>
                      <a:pt x="14419" y="4"/>
                      <a:pt x="14420" y="5"/>
                      <a:pt x="14420" y="6"/>
                    </a:cubicBezTo>
                    <a:cubicBezTo>
                      <a:pt x="14420" y="7"/>
                      <a:pt x="14419" y="8"/>
                      <a:pt x="14418" y="8"/>
                    </a:cubicBezTo>
                    <a:lnTo>
                      <a:pt x="14418" y="8"/>
                    </a:lnTo>
                    <a:cubicBezTo>
                      <a:pt x="14416" y="8"/>
                      <a:pt x="14416" y="7"/>
                      <a:pt x="14416" y="6"/>
                    </a:cubicBezTo>
                    <a:cubicBezTo>
                      <a:pt x="14416" y="5"/>
                      <a:pt x="14416" y="4"/>
                      <a:pt x="14418" y="4"/>
                    </a:cubicBezTo>
                    <a:close/>
                    <a:moveTo>
                      <a:pt x="14426" y="4"/>
                    </a:moveTo>
                    <a:lnTo>
                      <a:pt x="14426" y="4"/>
                    </a:lnTo>
                    <a:cubicBezTo>
                      <a:pt x="14427" y="4"/>
                      <a:pt x="14428" y="5"/>
                      <a:pt x="14428" y="6"/>
                    </a:cubicBezTo>
                    <a:cubicBezTo>
                      <a:pt x="14428" y="7"/>
                      <a:pt x="14427" y="8"/>
                      <a:pt x="14426" y="8"/>
                    </a:cubicBezTo>
                    <a:lnTo>
                      <a:pt x="14426" y="8"/>
                    </a:lnTo>
                    <a:cubicBezTo>
                      <a:pt x="14424" y="8"/>
                      <a:pt x="14424" y="7"/>
                      <a:pt x="14424" y="6"/>
                    </a:cubicBezTo>
                    <a:cubicBezTo>
                      <a:pt x="14424" y="5"/>
                      <a:pt x="14424" y="4"/>
                      <a:pt x="14426" y="4"/>
                    </a:cubicBezTo>
                    <a:close/>
                    <a:moveTo>
                      <a:pt x="14434" y="4"/>
                    </a:moveTo>
                    <a:lnTo>
                      <a:pt x="14434" y="4"/>
                    </a:lnTo>
                    <a:cubicBezTo>
                      <a:pt x="14435" y="4"/>
                      <a:pt x="14436" y="5"/>
                      <a:pt x="14436" y="6"/>
                    </a:cubicBezTo>
                    <a:cubicBezTo>
                      <a:pt x="14436" y="7"/>
                      <a:pt x="14435" y="8"/>
                      <a:pt x="14434" y="8"/>
                    </a:cubicBezTo>
                    <a:lnTo>
                      <a:pt x="14434" y="8"/>
                    </a:lnTo>
                    <a:cubicBezTo>
                      <a:pt x="14432" y="8"/>
                      <a:pt x="14432" y="7"/>
                      <a:pt x="14432" y="6"/>
                    </a:cubicBezTo>
                    <a:cubicBezTo>
                      <a:pt x="14432" y="5"/>
                      <a:pt x="14432" y="4"/>
                      <a:pt x="14434" y="4"/>
                    </a:cubicBezTo>
                    <a:close/>
                    <a:moveTo>
                      <a:pt x="14442" y="4"/>
                    </a:moveTo>
                    <a:lnTo>
                      <a:pt x="14442" y="4"/>
                    </a:lnTo>
                    <a:cubicBezTo>
                      <a:pt x="14443" y="4"/>
                      <a:pt x="14444" y="5"/>
                      <a:pt x="14444" y="6"/>
                    </a:cubicBezTo>
                    <a:cubicBezTo>
                      <a:pt x="14444" y="7"/>
                      <a:pt x="14443" y="8"/>
                      <a:pt x="14442" y="8"/>
                    </a:cubicBezTo>
                    <a:lnTo>
                      <a:pt x="14442" y="8"/>
                    </a:lnTo>
                    <a:cubicBezTo>
                      <a:pt x="14440" y="8"/>
                      <a:pt x="14440" y="7"/>
                      <a:pt x="14440" y="6"/>
                    </a:cubicBezTo>
                    <a:cubicBezTo>
                      <a:pt x="14440" y="5"/>
                      <a:pt x="14440" y="4"/>
                      <a:pt x="14442" y="4"/>
                    </a:cubicBezTo>
                    <a:close/>
                    <a:moveTo>
                      <a:pt x="14450" y="4"/>
                    </a:moveTo>
                    <a:lnTo>
                      <a:pt x="14450" y="4"/>
                    </a:lnTo>
                    <a:cubicBezTo>
                      <a:pt x="14451" y="4"/>
                      <a:pt x="14452" y="5"/>
                      <a:pt x="14452" y="6"/>
                    </a:cubicBezTo>
                    <a:cubicBezTo>
                      <a:pt x="14452" y="7"/>
                      <a:pt x="14451" y="8"/>
                      <a:pt x="14450" y="8"/>
                    </a:cubicBezTo>
                    <a:lnTo>
                      <a:pt x="14450" y="8"/>
                    </a:lnTo>
                    <a:cubicBezTo>
                      <a:pt x="14448" y="8"/>
                      <a:pt x="14448" y="7"/>
                      <a:pt x="14448" y="6"/>
                    </a:cubicBezTo>
                    <a:cubicBezTo>
                      <a:pt x="14448" y="5"/>
                      <a:pt x="14448" y="4"/>
                      <a:pt x="14450" y="4"/>
                    </a:cubicBezTo>
                    <a:close/>
                    <a:moveTo>
                      <a:pt x="14458" y="4"/>
                    </a:moveTo>
                    <a:lnTo>
                      <a:pt x="14458" y="4"/>
                    </a:lnTo>
                    <a:cubicBezTo>
                      <a:pt x="14459" y="4"/>
                      <a:pt x="14460" y="5"/>
                      <a:pt x="14460" y="6"/>
                    </a:cubicBezTo>
                    <a:cubicBezTo>
                      <a:pt x="14460" y="7"/>
                      <a:pt x="14459" y="8"/>
                      <a:pt x="14458" y="8"/>
                    </a:cubicBezTo>
                    <a:lnTo>
                      <a:pt x="14458" y="8"/>
                    </a:lnTo>
                    <a:cubicBezTo>
                      <a:pt x="14457" y="8"/>
                      <a:pt x="14456" y="7"/>
                      <a:pt x="14456" y="6"/>
                    </a:cubicBezTo>
                    <a:cubicBezTo>
                      <a:pt x="14456" y="5"/>
                      <a:pt x="14457" y="4"/>
                      <a:pt x="14458" y="4"/>
                    </a:cubicBezTo>
                    <a:close/>
                    <a:moveTo>
                      <a:pt x="14466" y="4"/>
                    </a:moveTo>
                    <a:lnTo>
                      <a:pt x="14466" y="4"/>
                    </a:lnTo>
                    <a:cubicBezTo>
                      <a:pt x="14467" y="4"/>
                      <a:pt x="14468" y="5"/>
                      <a:pt x="14468" y="6"/>
                    </a:cubicBezTo>
                    <a:cubicBezTo>
                      <a:pt x="14468" y="7"/>
                      <a:pt x="14467" y="8"/>
                      <a:pt x="14466" y="8"/>
                    </a:cubicBezTo>
                    <a:lnTo>
                      <a:pt x="14466" y="8"/>
                    </a:lnTo>
                    <a:cubicBezTo>
                      <a:pt x="14465" y="8"/>
                      <a:pt x="14464" y="7"/>
                      <a:pt x="14464" y="6"/>
                    </a:cubicBezTo>
                    <a:cubicBezTo>
                      <a:pt x="14464" y="5"/>
                      <a:pt x="14465" y="4"/>
                      <a:pt x="14466" y="4"/>
                    </a:cubicBezTo>
                    <a:close/>
                    <a:moveTo>
                      <a:pt x="14474" y="4"/>
                    </a:moveTo>
                    <a:lnTo>
                      <a:pt x="14474" y="4"/>
                    </a:lnTo>
                    <a:cubicBezTo>
                      <a:pt x="14475" y="4"/>
                      <a:pt x="14476" y="5"/>
                      <a:pt x="14476" y="6"/>
                    </a:cubicBezTo>
                    <a:cubicBezTo>
                      <a:pt x="14476" y="7"/>
                      <a:pt x="14475" y="8"/>
                      <a:pt x="14474" y="8"/>
                    </a:cubicBezTo>
                    <a:lnTo>
                      <a:pt x="14474" y="8"/>
                    </a:lnTo>
                    <a:cubicBezTo>
                      <a:pt x="14473" y="8"/>
                      <a:pt x="14472" y="7"/>
                      <a:pt x="14472" y="6"/>
                    </a:cubicBezTo>
                    <a:cubicBezTo>
                      <a:pt x="14472" y="5"/>
                      <a:pt x="14473" y="4"/>
                      <a:pt x="14474" y="4"/>
                    </a:cubicBezTo>
                    <a:close/>
                    <a:moveTo>
                      <a:pt x="14482" y="4"/>
                    </a:moveTo>
                    <a:lnTo>
                      <a:pt x="14482" y="4"/>
                    </a:lnTo>
                    <a:cubicBezTo>
                      <a:pt x="14483" y="4"/>
                      <a:pt x="14484" y="5"/>
                      <a:pt x="14484" y="6"/>
                    </a:cubicBezTo>
                    <a:cubicBezTo>
                      <a:pt x="14484" y="7"/>
                      <a:pt x="14483" y="8"/>
                      <a:pt x="14482" y="8"/>
                    </a:cubicBezTo>
                    <a:lnTo>
                      <a:pt x="14482" y="8"/>
                    </a:lnTo>
                    <a:cubicBezTo>
                      <a:pt x="14481" y="8"/>
                      <a:pt x="14480" y="7"/>
                      <a:pt x="14480" y="6"/>
                    </a:cubicBezTo>
                    <a:cubicBezTo>
                      <a:pt x="14480" y="5"/>
                      <a:pt x="14481" y="4"/>
                      <a:pt x="14482" y="4"/>
                    </a:cubicBezTo>
                    <a:close/>
                    <a:moveTo>
                      <a:pt x="14490" y="4"/>
                    </a:moveTo>
                    <a:lnTo>
                      <a:pt x="14490" y="4"/>
                    </a:lnTo>
                    <a:cubicBezTo>
                      <a:pt x="14491" y="4"/>
                      <a:pt x="14492" y="5"/>
                      <a:pt x="14492" y="6"/>
                    </a:cubicBezTo>
                    <a:cubicBezTo>
                      <a:pt x="14492" y="7"/>
                      <a:pt x="14491" y="8"/>
                      <a:pt x="14490" y="8"/>
                    </a:cubicBezTo>
                    <a:lnTo>
                      <a:pt x="14490" y="8"/>
                    </a:lnTo>
                    <a:cubicBezTo>
                      <a:pt x="14489" y="8"/>
                      <a:pt x="14488" y="7"/>
                      <a:pt x="14488" y="6"/>
                    </a:cubicBezTo>
                    <a:cubicBezTo>
                      <a:pt x="14488" y="5"/>
                      <a:pt x="14489" y="4"/>
                      <a:pt x="14490" y="4"/>
                    </a:cubicBezTo>
                    <a:close/>
                    <a:moveTo>
                      <a:pt x="14498" y="4"/>
                    </a:moveTo>
                    <a:lnTo>
                      <a:pt x="14498" y="4"/>
                    </a:lnTo>
                    <a:cubicBezTo>
                      <a:pt x="14499" y="4"/>
                      <a:pt x="14500" y="5"/>
                      <a:pt x="14500" y="6"/>
                    </a:cubicBezTo>
                    <a:cubicBezTo>
                      <a:pt x="14500" y="7"/>
                      <a:pt x="14499" y="8"/>
                      <a:pt x="14498" y="8"/>
                    </a:cubicBezTo>
                    <a:lnTo>
                      <a:pt x="14498" y="8"/>
                    </a:lnTo>
                    <a:cubicBezTo>
                      <a:pt x="14497" y="8"/>
                      <a:pt x="14496" y="7"/>
                      <a:pt x="14496" y="6"/>
                    </a:cubicBezTo>
                    <a:cubicBezTo>
                      <a:pt x="14496" y="5"/>
                      <a:pt x="14497" y="4"/>
                      <a:pt x="14498" y="4"/>
                    </a:cubicBezTo>
                    <a:close/>
                    <a:moveTo>
                      <a:pt x="14506" y="4"/>
                    </a:moveTo>
                    <a:lnTo>
                      <a:pt x="14506" y="4"/>
                    </a:lnTo>
                    <a:cubicBezTo>
                      <a:pt x="14507" y="4"/>
                      <a:pt x="14508" y="5"/>
                      <a:pt x="14508" y="6"/>
                    </a:cubicBezTo>
                    <a:cubicBezTo>
                      <a:pt x="14508" y="7"/>
                      <a:pt x="14507" y="8"/>
                      <a:pt x="14506" y="8"/>
                    </a:cubicBezTo>
                    <a:lnTo>
                      <a:pt x="14506" y="8"/>
                    </a:lnTo>
                    <a:cubicBezTo>
                      <a:pt x="14505" y="8"/>
                      <a:pt x="14504" y="7"/>
                      <a:pt x="14504" y="6"/>
                    </a:cubicBezTo>
                    <a:cubicBezTo>
                      <a:pt x="14504" y="5"/>
                      <a:pt x="14505" y="4"/>
                      <a:pt x="14506" y="4"/>
                    </a:cubicBezTo>
                    <a:close/>
                    <a:moveTo>
                      <a:pt x="14514" y="4"/>
                    </a:moveTo>
                    <a:lnTo>
                      <a:pt x="14514" y="4"/>
                    </a:lnTo>
                    <a:cubicBezTo>
                      <a:pt x="14515" y="4"/>
                      <a:pt x="14516" y="5"/>
                      <a:pt x="14516" y="6"/>
                    </a:cubicBezTo>
                    <a:cubicBezTo>
                      <a:pt x="14516" y="7"/>
                      <a:pt x="14515" y="8"/>
                      <a:pt x="14514" y="8"/>
                    </a:cubicBezTo>
                    <a:lnTo>
                      <a:pt x="14514" y="8"/>
                    </a:lnTo>
                    <a:cubicBezTo>
                      <a:pt x="14513" y="8"/>
                      <a:pt x="14512" y="7"/>
                      <a:pt x="14512" y="6"/>
                    </a:cubicBezTo>
                    <a:cubicBezTo>
                      <a:pt x="14512" y="5"/>
                      <a:pt x="14513" y="4"/>
                      <a:pt x="14514" y="4"/>
                    </a:cubicBezTo>
                    <a:close/>
                    <a:moveTo>
                      <a:pt x="14522" y="4"/>
                    </a:moveTo>
                    <a:lnTo>
                      <a:pt x="14522" y="4"/>
                    </a:lnTo>
                    <a:cubicBezTo>
                      <a:pt x="14523" y="4"/>
                      <a:pt x="14524" y="5"/>
                      <a:pt x="14524" y="6"/>
                    </a:cubicBezTo>
                    <a:cubicBezTo>
                      <a:pt x="14524" y="7"/>
                      <a:pt x="14523" y="8"/>
                      <a:pt x="14522" y="8"/>
                    </a:cubicBezTo>
                    <a:lnTo>
                      <a:pt x="14522" y="8"/>
                    </a:lnTo>
                    <a:cubicBezTo>
                      <a:pt x="14521" y="8"/>
                      <a:pt x="14520" y="7"/>
                      <a:pt x="14520" y="6"/>
                    </a:cubicBezTo>
                    <a:cubicBezTo>
                      <a:pt x="14520" y="5"/>
                      <a:pt x="14521" y="4"/>
                      <a:pt x="14522" y="4"/>
                    </a:cubicBezTo>
                    <a:close/>
                    <a:moveTo>
                      <a:pt x="14530" y="4"/>
                    </a:moveTo>
                    <a:lnTo>
                      <a:pt x="14530" y="4"/>
                    </a:lnTo>
                    <a:cubicBezTo>
                      <a:pt x="14531" y="4"/>
                      <a:pt x="14532" y="5"/>
                      <a:pt x="14532" y="6"/>
                    </a:cubicBezTo>
                    <a:cubicBezTo>
                      <a:pt x="14532" y="7"/>
                      <a:pt x="14531" y="8"/>
                      <a:pt x="14530" y="8"/>
                    </a:cubicBezTo>
                    <a:lnTo>
                      <a:pt x="14530" y="8"/>
                    </a:lnTo>
                    <a:cubicBezTo>
                      <a:pt x="14529" y="8"/>
                      <a:pt x="14528" y="7"/>
                      <a:pt x="14528" y="6"/>
                    </a:cubicBezTo>
                    <a:cubicBezTo>
                      <a:pt x="14528" y="5"/>
                      <a:pt x="14529" y="4"/>
                      <a:pt x="14530" y="4"/>
                    </a:cubicBezTo>
                    <a:close/>
                    <a:moveTo>
                      <a:pt x="14538" y="4"/>
                    </a:moveTo>
                    <a:lnTo>
                      <a:pt x="14538" y="4"/>
                    </a:lnTo>
                    <a:cubicBezTo>
                      <a:pt x="14539" y="4"/>
                      <a:pt x="14540" y="5"/>
                      <a:pt x="14540" y="6"/>
                    </a:cubicBezTo>
                    <a:cubicBezTo>
                      <a:pt x="14540" y="7"/>
                      <a:pt x="14539" y="8"/>
                      <a:pt x="14538" y="8"/>
                    </a:cubicBezTo>
                    <a:lnTo>
                      <a:pt x="14538" y="8"/>
                    </a:lnTo>
                    <a:cubicBezTo>
                      <a:pt x="14537" y="8"/>
                      <a:pt x="14536" y="7"/>
                      <a:pt x="14536" y="6"/>
                    </a:cubicBezTo>
                    <a:cubicBezTo>
                      <a:pt x="14536" y="5"/>
                      <a:pt x="14537" y="4"/>
                      <a:pt x="14538" y="4"/>
                    </a:cubicBezTo>
                    <a:close/>
                    <a:moveTo>
                      <a:pt x="14546" y="4"/>
                    </a:moveTo>
                    <a:lnTo>
                      <a:pt x="14546" y="4"/>
                    </a:lnTo>
                    <a:cubicBezTo>
                      <a:pt x="14547" y="4"/>
                      <a:pt x="14548" y="5"/>
                      <a:pt x="14548" y="6"/>
                    </a:cubicBezTo>
                    <a:cubicBezTo>
                      <a:pt x="14548" y="7"/>
                      <a:pt x="14547" y="8"/>
                      <a:pt x="14546" y="8"/>
                    </a:cubicBezTo>
                    <a:lnTo>
                      <a:pt x="14546" y="8"/>
                    </a:lnTo>
                    <a:cubicBezTo>
                      <a:pt x="14545" y="8"/>
                      <a:pt x="14544" y="7"/>
                      <a:pt x="14544" y="6"/>
                    </a:cubicBezTo>
                    <a:cubicBezTo>
                      <a:pt x="14544" y="5"/>
                      <a:pt x="14545" y="4"/>
                      <a:pt x="14546" y="4"/>
                    </a:cubicBezTo>
                    <a:close/>
                    <a:moveTo>
                      <a:pt x="14554" y="4"/>
                    </a:moveTo>
                    <a:lnTo>
                      <a:pt x="14554" y="4"/>
                    </a:lnTo>
                    <a:cubicBezTo>
                      <a:pt x="14555" y="4"/>
                      <a:pt x="14556" y="5"/>
                      <a:pt x="14556" y="6"/>
                    </a:cubicBezTo>
                    <a:cubicBezTo>
                      <a:pt x="14556" y="7"/>
                      <a:pt x="14555" y="8"/>
                      <a:pt x="14554" y="8"/>
                    </a:cubicBezTo>
                    <a:lnTo>
                      <a:pt x="14554" y="8"/>
                    </a:lnTo>
                    <a:cubicBezTo>
                      <a:pt x="14553" y="8"/>
                      <a:pt x="14552" y="7"/>
                      <a:pt x="14552" y="6"/>
                    </a:cubicBezTo>
                    <a:cubicBezTo>
                      <a:pt x="14552" y="5"/>
                      <a:pt x="14553" y="4"/>
                      <a:pt x="14554" y="4"/>
                    </a:cubicBezTo>
                    <a:close/>
                    <a:moveTo>
                      <a:pt x="14562" y="4"/>
                    </a:moveTo>
                    <a:lnTo>
                      <a:pt x="14562" y="4"/>
                    </a:lnTo>
                    <a:cubicBezTo>
                      <a:pt x="14563" y="4"/>
                      <a:pt x="14564" y="5"/>
                      <a:pt x="14564" y="6"/>
                    </a:cubicBezTo>
                    <a:cubicBezTo>
                      <a:pt x="14564" y="7"/>
                      <a:pt x="14563" y="8"/>
                      <a:pt x="14562" y="8"/>
                    </a:cubicBezTo>
                    <a:lnTo>
                      <a:pt x="14562" y="8"/>
                    </a:lnTo>
                    <a:cubicBezTo>
                      <a:pt x="14561" y="8"/>
                      <a:pt x="14560" y="7"/>
                      <a:pt x="14560" y="6"/>
                    </a:cubicBezTo>
                    <a:cubicBezTo>
                      <a:pt x="14560" y="5"/>
                      <a:pt x="14561" y="4"/>
                      <a:pt x="14562" y="4"/>
                    </a:cubicBezTo>
                    <a:close/>
                    <a:moveTo>
                      <a:pt x="14570" y="4"/>
                    </a:moveTo>
                    <a:lnTo>
                      <a:pt x="14570" y="4"/>
                    </a:lnTo>
                    <a:cubicBezTo>
                      <a:pt x="14571" y="4"/>
                      <a:pt x="14572" y="5"/>
                      <a:pt x="14572" y="6"/>
                    </a:cubicBezTo>
                    <a:cubicBezTo>
                      <a:pt x="14572" y="7"/>
                      <a:pt x="14571" y="8"/>
                      <a:pt x="14570" y="8"/>
                    </a:cubicBezTo>
                    <a:lnTo>
                      <a:pt x="14570" y="8"/>
                    </a:lnTo>
                    <a:cubicBezTo>
                      <a:pt x="14569" y="8"/>
                      <a:pt x="14568" y="7"/>
                      <a:pt x="14568" y="6"/>
                    </a:cubicBezTo>
                    <a:cubicBezTo>
                      <a:pt x="14568" y="5"/>
                      <a:pt x="14569" y="4"/>
                      <a:pt x="14570" y="4"/>
                    </a:cubicBezTo>
                    <a:close/>
                    <a:moveTo>
                      <a:pt x="14578" y="4"/>
                    </a:moveTo>
                    <a:lnTo>
                      <a:pt x="14578" y="4"/>
                    </a:lnTo>
                    <a:cubicBezTo>
                      <a:pt x="14579" y="4"/>
                      <a:pt x="14580" y="5"/>
                      <a:pt x="14580" y="6"/>
                    </a:cubicBezTo>
                    <a:cubicBezTo>
                      <a:pt x="14580" y="7"/>
                      <a:pt x="14579" y="8"/>
                      <a:pt x="14578" y="8"/>
                    </a:cubicBezTo>
                    <a:lnTo>
                      <a:pt x="14578" y="8"/>
                    </a:lnTo>
                    <a:cubicBezTo>
                      <a:pt x="14577" y="8"/>
                      <a:pt x="14576" y="7"/>
                      <a:pt x="14576" y="6"/>
                    </a:cubicBezTo>
                    <a:cubicBezTo>
                      <a:pt x="14576" y="5"/>
                      <a:pt x="14577" y="4"/>
                      <a:pt x="14578" y="4"/>
                    </a:cubicBezTo>
                    <a:close/>
                    <a:moveTo>
                      <a:pt x="14586" y="4"/>
                    </a:moveTo>
                    <a:lnTo>
                      <a:pt x="14586" y="4"/>
                    </a:lnTo>
                    <a:cubicBezTo>
                      <a:pt x="14587" y="4"/>
                      <a:pt x="14588" y="5"/>
                      <a:pt x="14588" y="6"/>
                    </a:cubicBezTo>
                    <a:cubicBezTo>
                      <a:pt x="14588" y="7"/>
                      <a:pt x="14587" y="8"/>
                      <a:pt x="14586" y="8"/>
                    </a:cubicBezTo>
                    <a:lnTo>
                      <a:pt x="14586" y="8"/>
                    </a:lnTo>
                    <a:cubicBezTo>
                      <a:pt x="14585" y="8"/>
                      <a:pt x="14584" y="7"/>
                      <a:pt x="14584" y="6"/>
                    </a:cubicBezTo>
                    <a:cubicBezTo>
                      <a:pt x="14584" y="5"/>
                      <a:pt x="14585" y="4"/>
                      <a:pt x="14586" y="4"/>
                    </a:cubicBezTo>
                    <a:close/>
                    <a:moveTo>
                      <a:pt x="14594" y="4"/>
                    </a:moveTo>
                    <a:lnTo>
                      <a:pt x="14594" y="4"/>
                    </a:lnTo>
                    <a:cubicBezTo>
                      <a:pt x="14595" y="4"/>
                      <a:pt x="14596" y="5"/>
                      <a:pt x="14596" y="6"/>
                    </a:cubicBezTo>
                    <a:cubicBezTo>
                      <a:pt x="14596" y="7"/>
                      <a:pt x="14595" y="8"/>
                      <a:pt x="14594" y="8"/>
                    </a:cubicBezTo>
                    <a:lnTo>
                      <a:pt x="14594" y="8"/>
                    </a:lnTo>
                    <a:cubicBezTo>
                      <a:pt x="14593" y="8"/>
                      <a:pt x="14592" y="7"/>
                      <a:pt x="14592" y="6"/>
                    </a:cubicBezTo>
                    <a:cubicBezTo>
                      <a:pt x="14592" y="5"/>
                      <a:pt x="14593" y="4"/>
                      <a:pt x="14594" y="4"/>
                    </a:cubicBezTo>
                    <a:close/>
                    <a:moveTo>
                      <a:pt x="14602" y="4"/>
                    </a:moveTo>
                    <a:lnTo>
                      <a:pt x="14602" y="4"/>
                    </a:lnTo>
                    <a:cubicBezTo>
                      <a:pt x="14603" y="4"/>
                      <a:pt x="14604" y="5"/>
                      <a:pt x="14604" y="6"/>
                    </a:cubicBezTo>
                    <a:cubicBezTo>
                      <a:pt x="14604" y="7"/>
                      <a:pt x="14603" y="8"/>
                      <a:pt x="14602" y="8"/>
                    </a:cubicBezTo>
                    <a:lnTo>
                      <a:pt x="14602" y="8"/>
                    </a:lnTo>
                    <a:cubicBezTo>
                      <a:pt x="14601" y="8"/>
                      <a:pt x="14600" y="7"/>
                      <a:pt x="14600" y="6"/>
                    </a:cubicBezTo>
                    <a:cubicBezTo>
                      <a:pt x="14600" y="5"/>
                      <a:pt x="14601" y="4"/>
                      <a:pt x="14602" y="4"/>
                    </a:cubicBezTo>
                    <a:close/>
                    <a:moveTo>
                      <a:pt x="14610" y="4"/>
                    </a:moveTo>
                    <a:lnTo>
                      <a:pt x="14610" y="4"/>
                    </a:lnTo>
                    <a:cubicBezTo>
                      <a:pt x="14611" y="4"/>
                      <a:pt x="14612" y="5"/>
                      <a:pt x="14612" y="6"/>
                    </a:cubicBezTo>
                    <a:cubicBezTo>
                      <a:pt x="14612" y="7"/>
                      <a:pt x="14611" y="8"/>
                      <a:pt x="14610" y="8"/>
                    </a:cubicBezTo>
                    <a:lnTo>
                      <a:pt x="14610" y="8"/>
                    </a:lnTo>
                    <a:cubicBezTo>
                      <a:pt x="14609" y="8"/>
                      <a:pt x="14608" y="7"/>
                      <a:pt x="14608" y="6"/>
                    </a:cubicBezTo>
                    <a:cubicBezTo>
                      <a:pt x="14608" y="5"/>
                      <a:pt x="14609" y="4"/>
                      <a:pt x="14610" y="4"/>
                    </a:cubicBezTo>
                    <a:close/>
                    <a:moveTo>
                      <a:pt x="14618" y="4"/>
                    </a:moveTo>
                    <a:lnTo>
                      <a:pt x="14618" y="4"/>
                    </a:lnTo>
                    <a:cubicBezTo>
                      <a:pt x="14619" y="4"/>
                      <a:pt x="14620" y="5"/>
                      <a:pt x="14620" y="6"/>
                    </a:cubicBezTo>
                    <a:cubicBezTo>
                      <a:pt x="14620" y="7"/>
                      <a:pt x="14619" y="8"/>
                      <a:pt x="14618" y="8"/>
                    </a:cubicBezTo>
                    <a:lnTo>
                      <a:pt x="14618" y="8"/>
                    </a:lnTo>
                    <a:cubicBezTo>
                      <a:pt x="14617" y="8"/>
                      <a:pt x="14616" y="7"/>
                      <a:pt x="14616" y="6"/>
                    </a:cubicBezTo>
                    <a:cubicBezTo>
                      <a:pt x="14616" y="5"/>
                      <a:pt x="14617" y="4"/>
                      <a:pt x="14618" y="4"/>
                    </a:cubicBezTo>
                    <a:close/>
                    <a:moveTo>
                      <a:pt x="14626" y="4"/>
                    </a:moveTo>
                    <a:lnTo>
                      <a:pt x="14626" y="4"/>
                    </a:lnTo>
                    <a:cubicBezTo>
                      <a:pt x="14627" y="4"/>
                      <a:pt x="14628" y="5"/>
                      <a:pt x="14628" y="6"/>
                    </a:cubicBezTo>
                    <a:cubicBezTo>
                      <a:pt x="14628" y="7"/>
                      <a:pt x="14627" y="8"/>
                      <a:pt x="14626" y="8"/>
                    </a:cubicBezTo>
                    <a:lnTo>
                      <a:pt x="14626" y="8"/>
                    </a:lnTo>
                    <a:cubicBezTo>
                      <a:pt x="14625" y="8"/>
                      <a:pt x="14624" y="7"/>
                      <a:pt x="14624" y="6"/>
                    </a:cubicBezTo>
                    <a:cubicBezTo>
                      <a:pt x="14624" y="5"/>
                      <a:pt x="14625" y="4"/>
                      <a:pt x="14626" y="4"/>
                    </a:cubicBezTo>
                    <a:close/>
                    <a:moveTo>
                      <a:pt x="14634" y="4"/>
                    </a:moveTo>
                    <a:lnTo>
                      <a:pt x="14634" y="4"/>
                    </a:lnTo>
                    <a:cubicBezTo>
                      <a:pt x="14635" y="4"/>
                      <a:pt x="14636" y="5"/>
                      <a:pt x="14636" y="6"/>
                    </a:cubicBezTo>
                    <a:cubicBezTo>
                      <a:pt x="14636" y="7"/>
                      <a:pt x="14635" y="8"/>
                      <a:pt x="14634" y="8"/>
                    </a:cubicBezTo>
                    <a:lnTo>
                      <a:pt x="14634" y="8"/>
                    </a:lnTo>
                    <a:cubicBezTo>
                      <a:pt x="14633" y="8"/>
                      <a:pt x="14632" y="7"/>
                      <a:pt x="14632" y="6"/>
                    </a:cubicBezTo>
                    <a:cubicBezTo>
                      <a:pt x="14632" y="5"/>
                      <a:pt x="14633" y="4"/>
                      <a:pt x="14634" y="4"/>
                    </a:cubicBezTo>
                    <a:close/>
                    <a:moveTo>
                      <a:pt x="14642" y="4"/>
                    </a:moveTo>
                    <a:lnTo>
                      <a:pt x="14642" y="4"/>
                    </a:lnTo>
                    <a:cubicBezTo>
                      <a:pt x="14643" y="4"/>
                      <a:pt x="14644" y="5"/>
                      <a:pt x="14644" y="6"/>
                    </a:cubicBezTo>
                    <a:cubicBezTo>
                      <a:pt x="14644" y="7"/>
                      <a:pt x="14643" y="8"/>
                      <a:pt x="14642" y="8"/>
                    </a:cubicBezTo>
                    <a:lnTo>
                      <a:pt x="14642" y="8"/>
                    </a:lnTo>
                    <a:cubicBezTo>
                      <a:pt x="14641" y="8"/>
                      <a:pt x="14640" y="7"/>
                      <a:pt x="14640" y="6"/>
                    </a:cubicBezTo>
                    <a:cubicBezTo>
                      <a:pt x="14640" y="5"/>
                      <a:pt x="14641" y="4"/>
                      <a:pt x="14642" y="4"/>
                    </a:cubicBezTo>
                    <a:close/>
                    <a:moveTo>
                      <a:pt x="14650" y="4"/>
                    </a:moveTo>
                    <a:lnTo>
                      <a:pt x="14650" y="4"/>
                    </a:lnTo>
                    <a:cubicBezTo>
                      <a:pt x="14651" y="4"/>
                      <a:pt x="14652" y="5"/>
                      <a:pt x="14652" y="6"/>
                    </a:cubicBezTo>
                    <a:cubicBezTo>
                      <a:pt x="14652" y="7"/>
                      <a:pt x="14651" y="8"/>
                      <a:pt x="14650" y="8"/>
                    </a:cubicBezTo>
                    <a:lnTo>
                      <a:pt x="14650" y="8"/>
                    </a:lnTo>
                    <a:cubicBezTo>
                      <a:pt x="14649" y="8"/>
                      <a:pt x="14648" y="7"/>
                      <a:pt x="14648" y="6"/>
                    </a:cubicBezTo>
                    <a:cubicBezTo>
                      <a:pt x="14648" y="5"/>
                      <a:pt x="14649" y="4"/>
                      <a:pt x="14650" y="4"/>
                    </a:cubicBezTo>
                    <a:close/>
                    <a:moveTo>
                      <a:pt x="14658" y="4"/>
                    </a:moveTo>
                    <a:lnTo>
                      <a:pt x="14658" y="4"/>
                    </a:lnTo>
                    <a:cubicBezTo>
                      <a:pt x="14659" y="4"/>
                      <a:pt x="14660" y="5"/>
                      <a:pt x="14660" y="6"/>
                    </a:cubicBezTo>
                    <a:cubicBezTo>
                      <a:pt x="14660" y="7"/>
                      <a:pt x="14659" y="8"/>
                      <a:pt x="14658" y="8"/>
                    </a:cubicBezTo>
                    <a:lnTo>
                      <a:pt x="14658" y="8"/>
                    </a:lnTo>
                    <a:cubicBezTo>
                      <a:pt x="14657" y="8"/>
                      <a:pt x="14656" y="7"/>
                      <a:pt x="14656" y="6"/>
                    </a:cubicBezTo>
                    <a:cubicBezTo>
                      <a:pt x="14656" y="5"/>
                      <a:pt x="14657" y="4"/>
                      <a:pt x="14658" y="4"/>
                    </a:cubicBezTo>
                    <a:close/>
                    <a:moveTo>
                      <a:pt x="14666" y="4"/>
                    </a:moveTo>
                    <a:lnTo>
                      <a:pt x="14666" y="4"/>
                    </a:lnTo>
                    <a:cubicBezTo>
                      <a:pt x="14667" y="4"/>
                      <a:pt x="14668" y="5"/>
                      <a:pt x="14668" y="6"/>
                    </a:cubicBezTo>
                    <a:cubicBezTo>
                      <a:pt x="14668" y="7"/>
                      <a:pt x="14667" y="8"/>
                      <a:pt x="14666" y="8"/>
                    </a:cubicBezTo>
                    <a:lnTo>
                      <a:pt x="14666" y="8"/>
                    </a:lnTo>
                    <a:cubicBezTo>
                      <a:pt x="14665" y="8"/>
                      <a:pt x="14664" y="7"/>
                      <a:pt x="14664" y="6"/>
                    </a:cubicBezTo>
                    <a:cubicBezTo>
                      <a:pt x="14664" y="5"/>
                      <a:pt x="14665" y="4"/>
                      <a:pt x="14666" y="4"/>
                    </a:cubicBezTo>
                    <a:close/>
                    <a:moveTo>
                      <a:pt x="14674" y="4"/>
                    </a:moveTo>
                    <a:lnTo>
                      <a:pt x="14674" y="4"/>
                    </a:lnTo>
                    <a:cubicBezTo>
                      <a:pt x="14675" y="4"/>
                      <a:pt x="14676" y="5"/>
                      <a:pt x="14676" y="6"/>
                    </a:cubicBezTo>
                    <a:cubicBezTo>
                      <a:pt x="14676" y="7"/>
                      <a:pt x="14675" y="8"/>
                      <a:pt x="14674" y="8"/>
                    </a:cubicBezTo>
                    <a:lnTo>
                      <a:pt x="14674" y="8"/>
                    </a:lnTo>
                    <a:cubicBezTo>
                      <a:pt x="14673" y="8"/>
                      <a:pt x="14672" y="7"/>
                      <a:pt x="14672" y="6"/>
                    </a:cubicBezTo>
                    <a:cubicBezTo>
                      <a:pt x="14672" y="5"/>
                      <a:pt x="14673" y="4"/>
                      <a:pt x="14674" y="4"/>
                    </a:cubicBezTo>
                    <a:close/>
                    <a:moveTo>
                      <a:pt x="14682" y="4"/>
                    </a:moveTo>
                    <a:lnTo>
                      <a:pt x="14682" y="4"/>
                    </a:lnTo>
                    <a:cubicBezTo>
                      <a:pt x="14683" y="4"/>
                      <a:pt x="14684" y="5"/>
                      <a:pt x="14684" y="6"/>
                    </a:cubicBezTo>
                    <a:cubicBezTo>
                      <a:pt x="14684" y="7"/>
                      <a:pt x="14683" y="8"/>
                      <a:pt x="14682" y="8"/>
                    </a:cubicBezTo>
                    <a:lnTo>
                      <a:pt x="14682" y="8"/>
                    </a:lnTo>
                    <a:cubicBezTo>
                      <a:pt x="14681" y="8"/>
                      <a:pt x="14680" y="7"/>
                      <a:pt x="14680" y="6"/>
                    </a:cubicBezTo>
                    <a:cubicBezTo>
                      <a:pt x="14680" y="5"/>
                      <a:pt x="14681" y="4"/>
                      <a:pt x="14682" y="4"/>
                    </a:cubicBezTo>
                    <a:close/>
                    <a:moveTo>
                      <a:pt x="14690" y="4"/>
                    </a:moveTo>
                    <a:lnTo>
                      <a:pt x="14690" y="4"/>
                    </a:lnTo>
                    <a:cubicBezTo>
                      <a:pt x="14691" y="4"/>
                      <a:pt x="14692" y="5"/>
                      <a:pt x="14692" y="6"/>
                    </a:cubicBezTo>
                    <a:cubicBezTo>
                      <a:pt x="14692" y="7"/>
                      <a:pt x="14691" y="8"/>
                      <a:pt x="14690" y="8"/>
                    </a:cubicBezTo>
                    <a:lnTo>
                      <a:pt x="14690" y="8"/>
                    </a:lnTo>
                    <a:cubicBezTo>
                      <a:pt x="14689" y="8"/>
                      <a:pt x="14688" y="7"/>
                      <a:pt x="14688" y="6"/>
                    </a:cubicBezTo>
                    <a:cubicBezTo>
                      <a:pt x="14688" y="5"/>
                      <a:pt x="14689" y="4"/>
                      <a:pt x="14690" y="4"/>
                    </a:cubicBezTo>
                    <a:close/>
                    <a:moveTo>
                      <a:pt x="14698" y="4"/>
                    </a:moveTo>
                    <a:lnTo>
                      <a:pt x="14698" y="4"/>
                    </a:lnTo>
                    <a:cubicBezTo>
                      <a:pt x="14699" y="4"/>
                      <a:pt x="14700" y="5"/>
                      <a:pt x="14700" y="6"/>
                    </a:cubicBezTo>
                    <a:cubicBezTo>
                      <a:pt x="14700" y="7"/>
                      <a:pt x="14699" y="8"/>
                      <a:pt x="14698" y="8"/>
                    </a:cubicBezTo>
                    <a:lnTo>
                      <a:pt x="14698" y="8"/>
                    </a:lnTo>
                    <a:cubicBezTo>
                      <a:pt x="14697" y="8"/>
                      <a:pt x="14696" y="7"/>
                      <a:pt x="14696" y="6"/>
                    </a:cubicBezTo>
                    <a:cubicBezTo>
                      <a:pt x="14696" y="5"/>
                      <a:pt x="14697" y="4"/>
                      <a:pt x="14698" y="4"/>
                    </a:cubicBezTo>
                    <a:close/>
                    <a:moveTo>
                      <a:pt x="14706" y="4"/>
                    </a:moveTo>
                    <a:lnTo>
                      <a:pt x="14706" y="4"/>
                    </a:lnTo>
                    <a:cubicBezTo>
                      <a:pt x="14707" y="4"/>
                      <a:pt x="14708" y="5"/>
                      <a:pt x="14708" y="6"/>
                    </a:cubicBezTo>
                    <a:cubicBezTo>
                      <a:pt x="14708" y="7"/>
                      <a:pt x="14707" y="8"/>
                      <a:pt x="14706" y="8"/>
                    </a:cubicBezTo>
                    <a:lnTo>
                      <a:pt x="14706" y="8"/>
                    </a:lnTo>
                    <a:cubicBezTo>
                      <a:pt x="14705" y="8"/>
                      <a:pt x="14704" y="7"/>
                      <a:pt x="14704" y="6"/>
                    </a:cubicBezTo>
                    <a:cubicBezTo>
                      <a:pt x="14704" y="5"/>
                      <a:pt x="14705" y="4"/>
                      <a:pt x="14706" y="4"/>
                    </a:cubicBezTo>
                    <a:close/>
                    <a:moveTo>
                      <a:pt x="14714" y="4"/>
                    </a:moveTo>
                    <a:lnTo>
                      <a:pt x="14714" y="4"/>
                    </a:lnTo>
                    <a:cubicBezTo>
                      <a:pt x="14715" y="4"/>
                      <a:pt x="14716" y="5"/>
                      <a:pt x="14716" y="6"/>
                    </a:cubicBezTo>
                    <a:cubicBezTo>
                      <a:pt x="14716" y="7"/>
                      <a:pt x="14715" y="8"/>
                      <a:pt x="14714" y="8"/>
                    </a:cubicBezTo>
                    <a:lnTo>
                      <a:pt x="14714" y="8"/>
                    </a:lnTo>
                    <a:cubicBezTo>
                      <a:pt x="14713" y="8"/>
                      <a:pt x="14712" y="7"/>
                      <a:pt x="14712" y="6"/>
                    </a:cubicBezTo>
                    <a:cubicBezTo>
                      <a:pt x="14712" y="5"/>
                      <a:pt x="14713" y="4"/>
                      <a:pt x="14714" y="4"/>
                    </a:cubicBezTo>
                    <a:close/>
                    <a:moveTo>
                      <a:pt x="14722" y="4"/>
                    </a:moveTo>
                    <a:lnTo>
                      <a:pt x="14722" y="4"/>
                    </a:lnTo>
                    <a:cubicBezTo>
                      <a:pt x="14723" y="4"/>
                      <a:pt x="14724" y="5"/>
                      <a:pt x="14724" y="6"/>
                    </a:cubicBezTo>
                    <a:cubicBezTo>
                      <a:pt x="14724" y="7"/>
                      <a:pt x="14723" y="8"/>
                      <a:pt x="14722" y="8"/>
                    </a:cubicBezTo>
                    <a:lnTo>
                      <a:pt x="14722" y="8"/>
                    </a:lnTo>
                    <a:cubicBezTo>
                      <a:pt x="14721" y="8"/>
                      <a:pt x="14720" y="7"/>
                      <a:pt x="14720" y="6"/>
                    </a:cubicBezTo>
                    <a:cubicBezTo>
                      <a:pt x="14720" y="5"/>
                      <a:pt x="14721" y="4"/>
                      <a:pt x="14722" y="4"/>
                    </a:cubicBezTo>
                    <a:close/>
                    <a:moveTo>
                      <a:pt x="14730" y="4"/>
                    </a:moveTo>
                    <a:lnTo>
                      <a:pt x="14730" y="4"/>
                    </a:lnTo>
                    <a:cubicBezTo>
                      <a:pt x="14731" y="4"/>
                      <a:pt x="14732" y="5"/>
                      <a:pt x="14732" y="6"/>
                    </a:cubicBezTo>
                    <a:cubicBezTo>
                      <a:pt x="14732" y="7"/>
                      <a:pt x="14731" y="8"/>
                      <a:pt x="14730" y="8"/>
                    </a:cubicBezTo>
                    <a:lnTo>
                      <a:pt x="14730" y="8"/>
                    </a:lnTo>
                    <a:cubicBezTo>
                      <a:pt x="14729" y="8"/>
                      <a:pt x="14728" y="7"/>
                      <a:pt x="14728" y="6"/>
                    </a:cubicBezTo>
                    <a:cubicBezTo>
                      <a:pt x="14728" y="5"/>
                      <a:pt x="14729" y="4"/>
                      <a:pt x="14730" y="4"/>
                    </a:cubicBezTo>
                    <a:close/>
                    <a:moveTo>
                      <a:pt x="14738" y="4"/>
                    </a:moveTo>
                    <a:lnTo>
                      <a:pt x="14738" y="4"/>
                    </a:lnTo>
                    <a:cubicBezTo>
                      <a:pt x="14739" y="4"/>
                      <a:pt x="14740" y="5"/>
                      <a:pt x="14740" y="6"/>
                    </a:cubicBezTo>
                    <a:cubicBezTo>
                      <a:pt x="14740" y="7"/>
                      <a:pt x="14739" y="8"/>
                      <a:pt x="14738" y="8"/>
                    </a:cubicBezTo>
                    <a:lnTo>
                      <a:pt x="14738" y="8"/>
                    </a:lnTo>
                    <a:cubicBezTo>
                      <a:pt x="14737" y="8"/>
                      <a:pt x="14736" y="7"/>
                      <a:pt x="14736" y="6"/>
                    </a:cubicBezTo>
                    <a:cubicBezTo>
                      <a:pt x="14736" y="5"/>
                      <a:pt x="14737" y="4"/>
                      <a:pt x="14738" y="4"/>
                    </a:cubicBezTo>
                    <a:close/>
                    <a:moveTo>
                      <a:pt x="14746" y="4"/>
                    </a:moveTo>
                    <a:lnTo>
                      <a:pt x="14746" y="4"/>
                    </a:lnTo>
                    <a:cubicBezTo>
                      <a:pt x="14747" y="4"/>
                      <a:pt x="14748" y="5"/>
                      <a:pt x="14748" y="6"/>
                    </a:cubicBezTo>
                    <a:cubicBezTo>
                      <a:pt x="14748" y="7"/>
                      <a:pt x="14747" y="8"/>
                      <a:pt x="14746" y="8"/>
                    </a:cubicBezTo>
                    <a:lnTo>
                      <a:pt x="14746" y="8"/>
                    </a:lnTo>
                    <a:cubicBezTo>
                      <a:pt x="14745" y="8"/>
                      <a:pt x="14744" y="7"/>
                      <a:pt x="14744" y="6"/>
                    </a:cubicBezTo>
                    <a:cubicBezTo>
                      <a:pt x="14744" y="5"/>
                      <a:pt x="14745" y="4"/>
                      <a:pt x="14746" y="4"/>
                    </a:cubicBezTo>
                    <a:close/>
                    <a:moveTo>
                      <a:pt x="14754" y="4"/>
                    </a:moveTo>
                    <a:lnTo>
                      <a:pt x="14754" y="4"/>
                    </a:lnTo>
                    <a:cubicBezTo>
                      <a:pt x="14755" y="4"/>
                      <a:pt x="14756" y="5"/>
                      <a:pt x="14756" y="6"/>
                    </a:cubicBezTo>
                    <a:cubicBezTo>
                      <a:pt x="14756" y="7"/>
                      <a:pt x="14755" y="8"/>
                      <a:pt x="14754" y="8"/>
                    </a:cubicBezTo>
                    <a:lnTo>
                      <a:pt x="14754" y="8"/>
                    </a:lnTo>
                    <a:cubicBezTo>
                      <a:pt x="14753" y="8"/>
                      <a:pt x="14752" y="7"/>
                      <a:pt x="14752" y="6"/>
                    </a:cubicBezTo>
                    <a:cubicBezTo>
                      <a:pt x="14752" y="5"/>
                      <a:pt x="14753" y="4"/>
                      <a:pt x="14754" y="4"/>
                    </a:cubicBezTo>
                    <a:close/>
                    <a:moveTo>
                      <a:pt x="14762" y="4"/>
                    </a:moveTo>
                    <a:lnTo>
                      <a:pt x="14762" y="4"/>
                    </a:lnTo>
                    <a:cubicBezTo>
                      <a:pt x="14763" y="4"/>
                      <a:pt x="14764" y="5"/>
                      <a:pt x="14764" y="6"/>
                    </a:cubicBezTo>
                    <a:cubicBezTo>
                      <a:pt x="14764" y="7"/>
                      <a:pt x="14763" y="8"/>
                      <a:pt x="14762" y="8"/>
                    </a:cubicBezTo>
                    <a:lnTo>
                      <a:pt x="14762" y="8"/>
                    </a:lnTo>
                    <a:cubicBezTo>
                      <a:pt x="14761" y="8"/>
                      <a:pt x="14760" y="7"/>
                      <a:pt x="14760" y="6"/>
                    </a:cubicBezTo>
                    <a:cubicBezTo>
                      <a:pt x="14760" y="5"/>
                      <a:pt x="14761" y="4"/>
                      <a:pt x="14762" y="4"/>
                    </a:cubicBezTo>
                    <a:close/>
                    <a:moveTo>
                      <a:pt x="14770" y="4"/>
                    </a:moveTo>
                    <a:lnTo>
                      <a:pt x="14770" y="4"/>
                    </a:lnTo>
                    <a:cubicBezTo>
                      <a:pt x="14771" y="4"/>
                      <a:pt x="14772" y="5"/>
                      <a:pt x="14772" y="6"/>
                    </a:cubicBezTo>
                    <a:cubicBezTo>
                      <a:pt x="14772" y="7"/>
                      <a:pt x="14771" y="8"/>
                      <a:pt x="14770" y="8"/>
                    </a:cubicBezTo>
                    <a:lnTo>
                      <a:pt x="14770" y="8"/>
                    </a:lnTo>
                    <a:cubicBezTo>
                      <a:pt x="14769" y="8"/>
                      <a:pt x="14768" y="7"/>
                      <a:pt x="14768" y="6"/>
                    </a:cubicBezTo>
                    <a:cubicBezTo>
                      <a:pt x="14768" y="5"/>
                      <a:pt x="14769" y="4"/>
                      <a:pt x="14770" y="4"/>
                    </a:cubicBezTo>
                    <a:close/>
                    <a:moveTo>
                      <a:pt x="14778" y="4"/>
                    </a:moveTo>
                    <a:lnTo>
                      <a:pt x="14778" y="4"/>
                    </a:lnTo>
                    <a:cubicBezTo>
                      <a:pt x="14779" y="4"/>
                      <a:pt x="14780" y="5"/>
                      <a:pt x="14780" y="6"/>
                    </a:cubicBezTo>
                    <a:cubicBezTo>
                      <a:pt x="14780" y="7"/>
                      <a:pt x="14779" y="8"/>
                      <a:pt x="14778" y="8"/>
                    </a:cubicBezTo>
                    <a:lnTo>
                      <a:pt x="14778" y="8"/>
                    </a:lnTo>
                    <a:cubicBezTo>
                      <a:pt x="14777" y="8"/>
                      <a:pt x="14776" y="7"/>
                      <a:pt x="14776" y="6"/>
                    </a:cubicBezTo>
                    <a:cubicBezTo>
                      <a:pt x="14776" y="5"/>
                      <a:pt x="14777" y="4"/>
                      <a:pt x="14778" y="4"/>
                    </a:cubicBezTo>
                    <a:close/>
                    <a:moveTo>
                      <a:pt x="14786" y="4"/>
                    </a:moveTo>
                    <a:lnTo>
                      <a:pt x="14786" y="4"/>
                    </a:lnTo>
                    <a:cubicBezTo>
                      <a:pt x="14787" y="4"/>
                      <a:pt x="14788" y="5"/>
                      <a:pt x="14788" y="6"/>
                    </a:cubicBezTo>
                    <a:cubicBezTo>
                      <a:pt x="14788" y="7"/>
                      <a:pt x="14787" y="8"/>
                      <a:pt x="14786" y="8"/>
                    </a:cubicBezTo>
                    <a:lnTo>
                      <a:pt x="14786" y="8"/>
                    </a:lnTo>
                    <a:cubicBezTo>
                      <a:pt x="14785" y="8"/>
                      <a:pt x="14784" y="7"/>
                      <a:pt x="14784" y="6"/>
                    </a:cubicBezTo>
                    <a:cubicBezTo>
                      <a:pt x="14784" y="5"/>
                      <a:pt x="14785" y="4"/>
                      <a:pt x="14786" y="4"/>
                    </a:cubicBezTo>
                    <a:close/>
                    <a:moveTo>
                      <a:pt x="14794" y="4"/>
                    </a:moveTo>
                    <a:lnTo>
                      <a:pt x="14794" y="4"/>
                    </a:lnTo>
                    <a:cubicBezTo>
                      <a:pt x="14795" y="4"/>
                      <a:pt x="14796" y="5"/>
                      <a:pt x="14796" y="6"/>
                    </a:cubicBezTo>
                    <a:cubicBezTo>
                      <a:pt x="14796" y="7"/>
                      <a:pt x="14795" y="8"/>
                      <a:pt x="14794" y="8"/>
                    </a:cubicBezTo>
                    <a:lnTo>
                      <a:pt x="14794" y="8"/>
                    </a:lnTo>
                    <a:cubicBezTo>
                      <a:pt x="14793" y="8"/>
                      <a:pt x="14792" y="7"/>
                      <a:pt x="14792" y="6"/>
                    </a:cubicBezTo>
                    <a:cubicBezTo>
                      <a:pt x="14792" y="5"/>
                      <a:pt x="14793" y="4"/>
                      <a:pt x="14794" y="4"/>
                    </a:cubicBezTo>
                    <a:close/>
                    <a:moveTo>
                      <a:pt x="14802" y="4"/>
                    </a:moveTo>
                    <a:lnTo>
                      <a:pt x="14802" y="4"/>
                    </a:lnTo>
                    <a:cubicBezTo>
                      <a:pt x="14803" y="4"/>
                      <a:pt x="14804" y="5"/>
                      <a:pt x="14804" y="6"/>
                    </a:cubicBezTo>
                    <a:cubicBezTo>
                      <a:pt x="14804" y="7"/>
                      <a:pt x="14803" y="8"/>
                      <a:pt x="14802" y="8"/>
                    </a:cubicBezTo>
                    <a:lnTo>
                      <a:pt x="14802" y="8"/>
                    </a:lnTo>
                    <a:cubicBezTo>
                      <a:pt x="14801" y="8"/>
                      <a:pt x="14800" y="7"/>
                      <a:pt x="14800" y="6"/>
                    </a:cubicBezTo>
                    <a:cubicBezTo>
                      <a:pt x="14800" y="5"/>
                      <a:pt x="14801" y="4"/>
                      <a:pt x="14802" y="4"/>
                    </a:cubicBezTo>
                    <a:close/>
                    <a:moveTo>
                      <a:pt x="14810" y="4"/>
                    </a:moveTo>
                    <a:lnTo>
                      <a:pt x="14810" y="4"/>
                    </a:lnTo>
                    <a:cubicBezTo>
                      <a:pt x="14811" y="4"/>
                      <a:pt x="14812" y="5"/>
                      <a:pt x="14812" y="6"/>
                    </a:cubicBezTo>
                    <a:cubicBezTo>
                      <a:pt x="14812" y="7"/>
                      <a:pt x="14811" y="8"/>
                      <a:pt x="14810" y="8"/>
                    </a:cubicBezTo>
                    <a:lnTo>
                      <a:pt x="14810" y="8"/>
                    </a:lnTo>
                    <a:cubicBezTo>
                      <a:pt x="14809" y="8"/>
                      <a:pt x="14808" y="7"/>
                      <a:pt x="14808" y="6"/>
                    </a:cubicBezTo>
                    <a:cubicBezTo>
                      <a:pt x="14808" y="5"/>
                      <a:pt x="14809" y="4"/>
                      <a:pt x="14810" y="4"/>
                    </a:cubicBezTo>
                    <a:close/>
                    <a:moveTo>
                      <a:pt x="14818" y="4"/>
                    </a:moveTo>
                    <a:lnTo>
                      <a:pt x="14818" y="4"/>
                    </a:lnTo>
                    <a:cubicBezTo>
                      <a:pt x="14819" y="4"/>
                      <a:pt x="14820" y="5"/>
                      <a:pt x="14820" y="6"/>
                    </a:cubicBezTo>
                    <a:cubicBezTo>
                      <a:pt x="14820" y="7"/>
                      <a:pt x="14819" y="8"/>
                      <a:pt x="14818" y="8"/>
                    </a:cubicBezTo>
                    <a:lnTo>
                      <a:pt x="14818" y="8"/>
                    </a:lnTo>
                    <a:cubicBezTo>
                      <a:pt x="14817" y="8"/>
                      <a:pt x="14816" y="7"/>
                      <a:pt x="14816" y="6"/>
                    </a:cubicBezTo>
                    <a:cubicBezTo>
                      <a:pt x="14816" y="5"/>
                      <a:pt x="14817" y="4"/>
                      <a:pt x="14818" y="4"/>
                    </a:cubicBezTo>
                    <a:close/>
                    <a:moveTo>
                      <a:pt x="14826" y="4"/>
                    </a:moveTo>
                    <a:lnTo>
                      <a:pt x="14826" y="4"/>
                    </a:lnTo>
                    <a:cubicBezTo>
                      <a:pt x="14827" y="4"/>
                      <a:pt x="14828" y="5"/>
                      <a:pt x="14828" y="6"/>
                    </a:cubicBezTo>
                    <a:cubicBezTo>
                      <a:pt x="14828" y="7"/>
                      <a:pt x="14827" y="8"/>
                      <a:pt x="14826" y="8"/>
                    </a:cubicBezTo>
                    <a:lnTo>
                      <a:pt x="14826" y="8"/>
                    </a:lnTo>
                    <a:cubicBezTo>
                      <a:pt x="14825" y="8"/>
                      <a:pt x="14824" y="7"/>
                      <a:pt x="14824" y="6"/>
                    </a:cubicBezTo>
                    <a:cubicBezTo>
                      <a:pt x="14824" y="5"/>
                      <a:pt x="14825" y="4"/>
                      <a:pt x="14826" y="4"/>
                    </a:cubicBezTo>
                    <a:close/>
                    <a:moveTo>
                      <a:pt x="14834" y="4"/>
                    </a:moveTo>
                    <a:lnTo>
                      <a:pt x="14834" y="4"/>
                    </a:lnTo>
                    <a:cubicBezTo>
                      <a:pt x="14835" y="4"/>
                      <a:pt x="14836" y="5"/>
                      <a:pt x="14836" y="6"/>
                    </a:cubicBezTo>
                    <a:cubicBezTo>
                      <a:pt x="14836" y="7"/>
                      <a:pt x="14835" y="8"/>
                      <a:pt x="14834" y="8"/>
                    </a:cubicBezTo>
                    <a:lnTo>
                      <a:pt x="14834" y="8"/>
                    </a:lnTo>
                    <a:cubicBezTo>
                      <a:pt x="14833" y="8"/>
                      <a:pt x="14832" y="7"/>
                      <a:pt x="14832" y="6"/>
                    </a:cubicBezTo>
                    <a:cubicBezTo>
                      <a:pt x="14832" y="5"/>
                      <a:pt x="14833" y="4"/>
                      <a:pt x="14834" y="4"/>
                    </a:cubicBezTo>
                    <a:close/>
                    <a:moveTo>
                      <a:pt x="14842" y="4"/>
                    </a:moveTo>
                    <a:lnTo>
                      <a:pt x="14842" y="4"/>
                    </a:lnTo>
                    <a:cubicBezTo>
                      <a:pt x="14843" y="4"/>
                      <a:pt x="14844" y="5"/>
                      <a:pt x="14844" y="6"/>
                    </a:cubicBezTo>
                    <a:cubicBezTo>
                      <a:pt x="14844" y="7"/>
                      <a:pt x="14843" y="8"/>
                      <a:pt x="14842" y="8"/>
                    </a:cubicBezTo>
                    <a:lnTo>
                      <a:pt x="14842" y="8"/>
                    </a:lnTo>
                    <a:cubicBezTo>
                      <a:pt x="14841" y="8"/>
                      <a:pt x="14840" y="7"/>
                      <a:pt x="14840" y="6"/>
                    </a:cubicBezTo>
                    <a:cubicBezTo>
                      <a:pt x="14840" y="5"/>
                      <a:pt x="14841" y="4"/>
                      <a:pt x="14842" y="4"/>
                    </a:cubicBezTo>
                    <a:close/>
                    <a:moveTo>
                      <a:pt x="14850" y="4"/>
                    </a:moveTo>
                    <a:lnTo>
                      <a:pt x="14850" y="4"/>
                    </a:lnTo>
                    <a:cubicBezTo>
                      <a:pt x="14851" y="4"/>
                      <a:pt x="14852" y="5"/>
                      <a:pt x="14852" y="6"/>
                    </a:cubicBezTo>
                    <a:cubicBezTo>
                      <a:pt x="14852" y="7"/>
                      <a:pt x="14851" y="8"/>
                      <a:pt x="14850" y="8"/>
                    </a:cubicBezTo>
                    <a:lnTo>
                      <a:pt x="14850" y="8"/>
                    </a:lnTo>
                    <a:cubicBezTo>
                      <a:pt x="14849" y="8"/>
                      <a:pt x="14848" y="7"/>
                      <a:pt x="14848" y="6"/>
                    </a:cubicBezTo>
                    <a:cubicBezTo>
                      <a:pt x="14848" y="5"/>
                      <a:pt x="14849" y="4"/>
                      <a:pt x="14850" y="4"/>
                    </a:cubicBezTo>
                    <a:close/>
                    <a:moveTo>
                      <a:pt x="14858" y="4"/>
                    </a:moveTo>
                    <a:lnTo>
                      <a:pt x="14858" y="4"/>
                    </a:lnTo>
                    <a:cubicBezTo>
                      <a:pt x="14859" y="4"/>
                      <a:pt x="14860" y="5"/>
                      <a:pt x="14860" y="6"/>
                    </a:cubicBezTo>
                    <a:cubicBezTo>
                      <a:pt x="14860" y="7"/>
                      <a:pt x="14859" y="8"/>
                      <a:pt x="14858" y="8"/>
                    </a:cubicBezTo>
                    <a:lnTo>
                      <a:pt x="14858" y="8"/>
                    </a:lnTo>
                    <a:cubicBezTo>
                      <a:pt x="14857" y="8"/>
                      <a:pt x="14856" y="7"/>
                      <a:pt x="14856" y="6"/>
                    </a:cubicBezTo>
                    <a:cubicBezTo>
                      <a:pt x="14856" y="5"/>
                      <a:pt x="14857" y="4"/>
                      <a:pt x="14858" y="4"/>
                    </a:cubicBezTo>
                    <a:close/>
                    <a:moveTo>
                      <a:pt x="14866" y="4"/>
                    </a:moveTo>
                    <a:lnTo>
                      <a:pt x="14866" y="4"/>
                    </a:lnTo>
                    <a:cubicBezTo>
                      <a:pt x="14867" y="4"/>
                      <a:pt x="14868" y="5"/>
                      <a:pt x="14868" y="6"/>
                    </a:cubicBezTo>
                    <a:cubicBezTo>
                      <a:pt x="14868" y="7"/>
                      <a:pt x="14867" y="8"/>
                      <a:pt x="14866" y="8"/>
                    </a:cubicBezTo>
                    <a:lnTo>
                      <a:pt x="14866" y="8"/>
                    </a:lnTo>
                    <a:cubicBezTo>
                      <a:pt x="14865" y="8"/>
                      <a:pt x="14864" y="7"/>
                      <a:pt x="14864" y="6"/>
                    </a:cubicBezTo>
                    <a:cubicBezTo>
                      <a:pt x="14864" y="5"/>
                      <a:pt x="14865" y="4"/>
                      <a:pt x="14866" y="4"/>
                    </a:cubicBezTo>
                    <a:close/>
                    <a:moveTo>
                      <a:pt x="14874" y="4"/>
                    </a:moveTo>
                    <a:lnTo>
                      <a:pt x="14874" y="4"/>
                    </a:lnTo>
                    <a:cubicBezTo>
                      <a:pt x="14875" y="4"/>
                      <a:pt x="14876" y="5"/>
                      <a:pt x="14876" y="6"/>
                    </a:cubicBezTo>
                    <a:cubicBezTo>
                      <a:pt x="14876" y="7"/>
                      <a:pt x="14875" y="8"/>
                      <a:pt x="14874" y="8"/>
                    </a:cubicBezTo>
                    <a:lnTo>
                      <a:pt x="14874" y="8"/>
                    </a:lnTo>
                    <a:cubicBezTo>
                      <a:pt x="14873" y="8"/>
                      <a:pt x="14872" y="7"/>
                      <a:pt x="14872" y="6"/>
                    </a:cubicBezTo>
                    <a:cubicBezTo>
                      <a:pt x="14872" y="5"/>
                      <a:pt x="14873" y="4"/>
                      <a:pt x="14874" y="4"/>
                    </a:cubicBezTo>
                    <a:close/>
                    <a:moveTo>
                      <a:pt x="14882" y="4"/>
                    </a:moveTo>
                    <a:lnTo>
                      <a:pt x="14882" y="4"/>
                    </a:lnTo>
                    <a:cubicBezTo>
                      <a:pt x="14883" y="4"/>
                      <a:pt x="14884" y="5"/>
                      <a:pt x="14884" y="6"/>
                    </a:cubicBezTo>
                    <a:cubicBezTo>
                      <a:pt x="14884" y="7"/>
                      <a:pt x="14883" y="8"/>
                      <a:pt x="14882" y="8"/>
                    </a:cubicBezTo>
                    <a:lnTo>
                      <a:pt x="14882" y="8"/>
                    </a:lnTo>
                    <a:cubicBezTo>
                      <a:pt x="14881" y="8"/>
                      <a:pt x="14880" y="7"/>
                      <a:pt x="14880" y="6"/>
                    </a:cubicBezTo>
                    <a:cubicBezTo>
                      <a:pt x="14880" y="5"/>
                      <a:pt x="14881" y="4"/>
                      <a:pt x="14882" y="4"/>
                    </a:cubicBezTo>
                    <a:close/>
                    <a:moveTo>
                      <a:pt x="14890" y="4"/>
                    </a:moveTo>
                    <a:lnTo>
                      <a:pt x="14890" y="4"/>
                    </a:lnTo>
                    <a:cubicBezTo>
                      <a:pt x="14891" y="4"/>
                      <a:pt x="14892" y="5"/>
                      <a:pt x="14892" y="6"/>
                    </a:cubicBezTo>
                    <a:cubicBezTo>
                      <a:pt x="14892" y="7"/>
                      <a:pt x="14891" y="8"/>
                      <a:pt x="14890" y="8"/>
                    </a:cubicBezTo>
                    <a:lnTo>
                      <a:pt x="14890" y="8"/>
                    </a:lnTo>
                    <a:cubicBezTo>
                      <a:pt x="14889" y="8"/>
                      <a:pt x="14888" y="7"/>
                      <a:pt x="14888" y="6"/>
                    </a:cubicBezTo>
                    <a:cubicBezTo>
                      <a:pt x="14888" y="5"/>
                      <a:pt x="14889" y="4"/>
                      <a:pt x="14890" y="4"/>
                    </a:cubicBezTo>
                    <a:close/>
                    <a:moveTo>
                      <a:pt x="14898" y="4"/>
                    </a:moveTo>
                    <a:lnTo>
                      <a:pt x="14898" y="4"/>
                    </a:lnTo>
                    <a:cubicBezTo>
                      <a:pt x="14899" y="4"/>
                      <a:pt x="14900" y="5"/>
                      <a:pt x="14900" y="6"/>
                    </a:cubicBezTo>
                    <a:cubicBezTo>
                      <a:pt x="14900" y="7"/>
                      <a:pt x="14899" y="8"/>
                      <a:pt x="14898" y="8"/>
                    </a:cubicBezTo>
                    <a:lnTo>
                      <a:pt x="14898" y="8"/>
                    </a:lnTo>
                    <a:cubicBezTo>
                      <a:pt x="14897" y="8"/>
                      <a:pt x="14896" y="7"/>
                      <a:pt x="14896" y="6"/>
                    </a:cubicBezTo>
                    <a:cubicBezTo>
                      <a:pt x="14896" y="5"/>
                      <a:pt x="14897" y="4"/>
                      <a:pt x="14898" y="4"/>
                    </a:cubicBezTo>
                    <a:close/>
                    <a:moveTo>
                      <a:pt x="14906" y="4"/>
                    </a:moveTo>
                    <a:lnTo>
                      <a:pt x="14906" y="4"/>
                    </a:lnTo>
                    <a:cubicBezTo>
                      <a:pt x="14907" y="4"/>
                      <a:pt x="14908" y="5"/>
                      <a:pt x="14908" y="6"/>
                    </a:cubicBezTo>
                    <a:cubicBezTo>
                      <a:pt x="14908" y="7"/>
                      <a:pt x="14907" y="8"/>
                      <a:pt x="14906" y="8"/>
                    </a:cubicBezTo>
                    <a:lnTo>
                      <a:pt x="14906" y="8"/>
                    </a:lnTo>
                    <a:cubicBezTo>
                      <a:pt x="14905" y="8"/>
                      <a:pt x="14904" y="7"/>
                      <a:pt x="14904" y="6"/>
                    </a:cubicBezTo>
                    <a:cubicBezTo>
                      <a:pt x="14904" y="5"/>
                      <a:pt x="14905" y="4"/>
                      <a:pt x="14906" y="4"/>
                    </a:cubicBezTo>
                    <a:close/>
                    <a:moveTo>
                      <a:pt x="14914" y="4"/>
                    </a:moveTo>
                    <a:lnTo>
                      <a:pt x="14914" y="4"/>
                    </a:lnTo>
                    <a:cubicBezTo>
                      <a:pt x="14915" y="4"/>
                      <a:pt x="14916" y="5"/>
                      <a:pt x="14916" y="6"/>
                    </a:cubicBezTo>
                    <a:cubicBezTo>
                      <a:pt x="14916" y="7"/>
                      <a:pt x="14915" y="8"/>
                      <a:pt x="14914" y="8"/>
                    </a:cubicBezTo>
                    <a:lnTo>
                      <a:pt x="14914" y="8"/>
                    </a:lnTo>
                    <a:cubicBezTo>
                      <a:pt x="14913" y="8"/>
                      <a:pt x="14912" y="7"/>
                      <a:pt x="14912" y="6"/>
                    </a:cubicBezTo>
                    <a:cubicBezTo>
                      <a:pt x="14912" y="5"/>
                      <a:pt x="14913" y="4"/>
                      <a:pt x="14914" y="4"/>
                    </a:cubicBezTo>
                    <a:close/>
                    <a:moveTo>
                      <a:pt x="14922" y="4"/>
                    </a:moveTo>
                    <a:lnTo>
                      <a:pt x="14922" y="4"/>
                    </a:lnTo>
                    <a:cubicBezTo>
                      <a:pt x="14923" y="4"/>
                      <a:pt x="14924" y="5"/>
                      <a:pt x="14924" y="6"/>
                    </a:cubicBezTo>
                    <a:cubicBezTo>
                      <a:pt x="14924" y="7"/>
                      <a:pt x="14923" y="8"/>
                      <a:pt x="14922" y="8"/>
                    </a:cubicBezTo>
                    <a:lnTo>
                      <a:pt x="14922" y="8"/>
                    </a:lnTo>
                    <a:cubicBezTo>
                      <a:pt x="14921" y="8"/>
                      <a:pt x="14920" y="7"/>
                      <a:pt x="14920" y="6"/>
                    </a:cubicBezTo>
                    <a:cubicBezTo>
                      <a:pt x="14920" y="5"/>
                      <a:pt x="14921" y="4"/>
                      <a:pt x="14922" y="4"/>
                    </a:cubicBezTo>
                    <a:close/>
                    <a:moveTo>
                      <a:pt x="14930" y="4"/>
                    </a:moveTo>
                    <a:lnTo>
                      <a:pt x="14930" y="4"/>
                    </a:lnTo>
                    <a:cubicBezTo>
                      <a:pt x="14931" y="4"/>
                      <a:pt x="14932" y="5"/>
                      <a:pt x="14932" y="6"/>
                    </a:cubicBezTo>
                    <a:cubicBezTo>
                      <a:pt x="14932" y="7"/>
                      <a:pt x="14931" y="8"/>
                      <a:pt x="14930" y="8"/>
                    </a:cubicBezTo>
                    <a:lnTo>
                      <a:pt x="14930" y="8"/>
                    </a:lnTo>
                    <a:cubicBezTo>
                      <a:pt x="14929" y="8"/>
                      <a:pt x="14928" y="7"/>
                      <a:pt x="14928" y="6"/>
                    </a:cubicBezTo>
                    <a:cubicBezTo>
                      <a:pt x="14928" y="5"/>
                      <a:pt x="14929" y="4"/>
                      <a:pt x="14930" y="4"/>
                    </a:cubicBezTo>
                    <a:close/>
                    <a:moveTo>
                      <a:pt x="14938" y="4"/>
                    </a:moveTo>
                    <a:lnTo>
                      <a:pt x="14938" y="4"/>
                    </a:lnTo>
                    <a:cubicBezTo>
                      <a:pt x="14939" y="4"/>
                      <a:pt x="14940" y="5"/>
                      <a:pt x="14940" y="6"/>
                    </a:cubicBezTo>
                    <a:cubicBezTo>
                      <a:pt x="14940" y="7"/>
                      <a:pt x="14939" y="8"/>
                      <a:pt x="14938" y="8"/>
                    </a:cubicBezTo>
                    <a:lnTo>
                      <a:pt x="14938" y="8"/>
                    </a:lnTo>
                    <a:cubicBezTo>
                      <a:pt x="14937" y="8"/>
                      <a:pt x="14936" y="7"/>
                      <a:pt x="14936" y="6"/>
                    </a:cubicBezTo>
                    <a:cubicBezTo>
                      <a:pt x="14936" y="5"/>
                      <a:pt x="14937" y="4"/>
                      <a:pt x="14938" y="4"/>
                    </a:cubicBezTo>
                    <a:close/>
                    <a:moveTo>
                      <a:pt x="14946" y="4"/>
                    </a:moveTo>
                    <a:lnTo>
                      <a:pt x="14946" y="4"/>
                    </a:lnTo>
                    <a:cubicBezTo>
                      <a:pt x="14947" y="4"/>
                      <a:pt x="14948" y="5"/>
                      <a:pt x="14948" y="6"/>
                    </a:cubicBezTo>
                    <a:cubicBezTo>
                      <a:pt x="14948" y="7"/>
                      <a:pt x="14947" y="8"/>
                      <a:pt x="14946" y="8"/>
                    </a:cubicBezTo>
                    <a:lnTo>
                      <a:pt x="14946" y="8"/>
                    </a:lnTo>
                    <a:cubicBezTo>
                      <a:pt x="14945" y="8"/>
                      <a:pt x="14944" y="7"/>
                      <a:pt x="14944" y="6"/>
                    </a:cubicBezTo>
                    <a:cubicBezTo>
                      <a:pt x="14944" y="5"/>
                      <a:pt x="14945" y="4"/>
                      <a:pt x="14946" y="4"/>
                    </a:cubicBezTo>
                    <a:close/>
                    <a:moveTo>
                      <a:pt x="14954" y="4"/>
                    </a:moveTo>
                    <a:lnTo>
                      <a:pt x="14954" y="4"/>
                    </a:lnTo>
                    <a:cubicBezTo>
                      <a:pt x="14955" y="4"/>
                      <a:pt x="14956" y="5"/>
                      <a:pt x="14956" y="6"/>
                    </a:cubicBezTo>
                    <a:cubicBezTo>
                      <a:pt x="14956" y="7"/>
                      <a:pt x="14955" y="8"/>
                      <a:pt x="14954" y="8"/>
                    </a:cubicBezTo>
                    <a:lnTo>
                      <a:pt x="14954" y="8"/>
                    </a:lnTo>
                    <a:cubicBezTo>
                      <a:pt x="14953" y="8"/>
                      <a:pt x="14952" y="7"/>
                      <a:pt x="14952" y="6"/>
                    </a:cubicBezTo>
                    <a:cubicBezTo>
                      <a:pt x="14952" y="5"/>
                      <a:pt x="14953" y="4"/>
                      <a:pt x="14954" y="4"/>
                    </a:cubicBezTo>
                    <a:close/>
                    <a:moveTo>
                      <a:pt x="14962" y="4"/>
                    </a:moveTo>
                    <a:lnTo>
                      <a:pt x="14962" y="4"/>
                    </a:lnTo>
                    <a:cubicBezTo>
                      <a:pt x="14963" y="4"/>
                      <a:pt x="14964" y="5"/>
                      <a:pt x="14964" y="6"/>
                    </a:cubicBezTo>
                    <a:cubicBezTo>
                      <a:pt x="14964" y="7"/>
                      <a:pt x="14963" y="8"/>
                      <a:pt x="14962" y="8"/>
                    </a:cubicBezTo>
                    <a:lnTo>
                      <a:pt x="14962" y="8"/>
                    </a:lnTo>
                    <a:cubicBezTo>
                      <a:pt x="14961" y="8"/>
                      <a:pt x="14960" y="7"/>
                      <a:pt x="14960" y="6"/>
                    </a:cubicBezTo>
                    <a:cubicBezTo>
                      <a:pt x="14960" y="5"/>
                      <a:pt x="14961" y="4"/>
                      <a:pt x="14962" y="4"/>
                    </a:cubicBezTo>
                    <a:close/>
                    <a:moveTo>
                      <a:pt x="14970" y="4"/>
                    </a:moveTo>
                    <a:lnTo>
                      <a:pt x="14970" y="4"/>
                    </a:lnTo>
                    <a:cubicBezTo>
                      <a:pt x="14971" y="4"/>
                      <a:pt x="14972" y="5"/>
                      <a:pt x="14972" y="6"/>
                    </a:cubicBezTo>
                    <a:cubicBezTo>
                      <a:pt x="14972" y="7"/>
                      <a:pt x="14971" y="8"/>
                      <a:pt x="14970" y="8"/>
                    </a:cubicBezTo>
                    <a:lnTo>
                      <a:pt x="14970" y="8"/>
                    </a:lnTo>
                    <a:cubicBezTo>
                      <a:pt x="14969" y="8"/>
                      <a:pt x="14968" y="7"/>
                      <a:pt x="14968" y="6"/>
                    </a:cubicBezTo>
                    <a:cubicBezTo>
                      <a:pt x="14968" y="5"/>
                      <a:pt x="14969" y="4"/>
                      <a:pt x="14970" y="4"/>
                    </a:cubicBezTo>
                    <a:close/>
                    <a:moveTo>
                      <a:pt x="14978" y="4"/>
                    </a:moveTo>
                    <a:lnTo>
                      <a:pt x="14978" y="4"/>
                    </a:lnTo>
                    <a:cubicBezTo>
                      <a:pt x="14979" y="4"/>
                      <a:pt x="14980" y="5"/>
                      <a:pt x="14980" y="6"/>
                    </a:cubicBezTo>
                    <a:cubicBezTo>
                      <a:pt x="14980" y="7"/>
                      <a:pt x="14979" y="8"/>
                      <a:pt x="14978" y="8"/>
                    </a:cubicBezTo>
                    <a:lnTo>
                      <a:pt x="14978" y="8"/>
                    </a:lnTo>
                    <a:cubicBezTo>
                      <a:pt x="14977" y="8"/>
                      <a:pt x="14976" y="7"/>
                      <a:pt x="14976" y="6"/>
                    </a:cubicBezTo>
                    <a:cubicBezTo>
                      <a:pt x="14976" y="5"/>
                      <a:pt x="14977" y="4"/>
                      <a:pt x="14978" y="4"/>
                    </a:cubicBezTo>
                    <a:close/>
                    <a:moveTo>
                      <a:pt x="14986" y="4"/>
                    </a:moveTo>
                    <a:lnTo>
                      <a:pt x="14986" y="4"/>
                    </a:lnTo>
                    <a:cubicBezTo>
                      <a:pt x="14987" y="4"/>
                      <a:pt x="14988" y="5"/>
                      <a:pt x="14988" y="6"/>
                    </a:cubicBezTo>
                    <a:cubicBezTo>
                      <a:pt x="14988" y="7"/>
                      <a:pt x="14987" y="8"/>
                      <a:pt x="14986" y="8"/>
                    </a:cubicBezTo>
                    <a:lnTo>
                      <a:pt x="14986" y="8"/>
                    </a:lnTo>
                    <a:cubicBezTo>
                      <a:pt x="14985" y="8"/>
                      <a:pt x="14984" y="7"/>
                      <a:pt x="14984" y="6"/>
                    </a:cubicBezTo>
                    <a:cubicBezTo>
                      <a:pt x="14984" y="5"/>
                      <a:pt x="14985" y="4"/>
                      <a:pt x="14986" y="4"/>
                    </a:cubicBezTo>
                    <a:close/>
                    <a:moveTo>
                      <a:pt x="14994" y="4"/>
                    </a:moveTo>
                    <a:lnTo>
                      <a:pt x="14994" y="4"/>
                    </a:lnTo>
                    <a:cubicBezTo>
                      <a:pt x="14995" y="4"/>
                      <a:pt x="14996" y="5"/>
                      <a:pt x="14996" y="6"/>
                    </a:cubicBezTo>
                    <a:cubicBezTo>
                      <a:pt x="14996" y="7"/>
                      <a:pt x="14995" y="8"/>
                      <a:pt x="14994" y="8"/>
                    </a:cubicBezTo>
                    <a:lnTo>
                      <a:pt x="14994" y="8"/>
                    </a:lnTo>
                    <a:cubicBezTo>
                      <a:pt x="14993" y="8"/>
                      <a:pt x="14992" y="7"/>
                      <a:pt x="14992" y="6"/>
                    </a:cubicBezTo>
                    <a:cubicBezTo>
                      <a:pt x="14992" y="5"/>
                      <a:pt x="14993" y="4"/>
                      <a:pt x="14994" y="4"/>
                    </a:cubicBezTo>
                    <a:close/>
                    <a:moveTo>
                      <a:pt x="15002" y="4"/>
                    </a:moveTo>
                    <a:lnTo>
                      <a:pt x="15002" y="4"/>
                    </a:lnTo>
                    <a:cubicBezTo>
                      <a:pt x="15003" y="4"/>
                      <a:pt x="15004" y="5"/>
                      <a:pt x="15004" y="6"/>
                    </a:cubicBezTo>
                    <a:cubicBezTo>
                      <a:pt x="15004" y="7"/>
                      <a:pt x="15003" y="8"/>
                      <a:pt x="15002" y="8"/>
                    </a:cubicBezTo>
                    <a:lnTo>
                      <a:pt x="15002" y="8"/>
                    </a:lnTo>
                    <a:cubicBezTo>
                      <a:pt x="15001" y="8"/>
                      <a:pt x="15000" y="7"/>
                      <a:pt x="15000" y="6"/>
                    </a:cubicBezTo>
                    <a:cubicBezTo>
                      <a:pt x="15000" y="5"/>
                      <a:pt x="15001" y="4"/>
                      <a:pt x="15002" y="4"/>
                    </a:cubicBezTo>
                    <a:close/>
                    <a:moveTo>
                      <a:pt x="15010" y="4"/>
                    </a:moveTo>
                    <a:lnTo>
                      <a:pt x="15010" y="4"/>
                    </a:lnTo>
                    <a:cubicBezTo>
                      <a:pt x="15011" y="4"/>
                      <a:pt x="15012" y="5"/>
                      <a:pt x="15012" y="6"/>
                    </a:cubicBezTo>
                    <a:cubicBezTo>
                      <a:pt x="15012" y="7"/>
                      <a:pt x="15011" y="8"/>
                      <a:pt x="15010" y="8"/>
                    </a:cubicBezTo>
                    <a:lnTo>
                      <a:pt x="15010" y="8"/>
                    </a:lnTo>
                    <a:cubicBezTo>
                      <a:pt x="15009" y="8"/>
                      <a:pt x="15008" y="7"/>
                      <a:pt x="15008" y="6"/>
                    </a:cubicBezTo>
                    <a:cubicBezTo>
                      <a:pt x="15008" y="5"/>
                      <a:pt x="15009" y="4"/>
                      <a:pt x="15010" y="4"/>
                    </a:cubicBezTo>
                    <a:close/>
                    <a:moveTo>
                      <a:pt x="15018" y="4"/>
                    </a:moveTo>
                    <a:lnTo>
                      <a:pt x="15018" y="4"/>
                    </a:lnTo>
                    <a:cubicBezTo>
                      <a:pt x="15019" y="4"/>
                      <a:pt x="15020" y="5"/>
                      <a:pt x="15020" y="6"/>
                    </a:cubicBezTo>
                    <a:cubicBezTo>
                      <a:pt x="15020" y="7"/>
                      <a:pt x="15019" y="8"/>
                      <a:pt x="15018" y="8"/>
                    </a:cubicBezTo>
                    <a:lnTo>
                      <a:pt x="15018" y="8"/>
                    </a:lnTo>
                    <a:cubicBezTo>
                      <a:pt x="15017" y="8"/>
                      <a:pt x="15016" y="7"/>
                      <a:pt x="15016" y="6"/>
                    </a:cubicBezTo>
                    <a:cubicBezTo>
                      <a:pt x="15016" y="5"/>
                      <a:pt x="15017" y="4"/>
                      <a:pt x="15018" y="4"/>
                    </a:cubicBezTo>
                    <a:close/>
                    <a:moveTo>
                      <a:pt x="15026" y="4"/>
                    </a:moveTo>
                    <a:lnTo>
                      <a:pt x="15026" y="4"/>
                    </a:lnTo>
                    <a:cubicBezTo>
                      <a:pt x="15027" y="4"/>
                      <a:pt x="15028" y="5"/>
                      <a:pt x="15028" y="6"/>
                    </a:cubicBezTo>
                    <a:cubicBezTo>
                      <a:pt x="15028" y="7"/>
                      <a:pt x="15027" y="8"/>
                      <a:pt x="15026" y="8"/>
                    </a:cubicBezTo>
                    <a:lnTo>
                      <a:pt x="15026" y="8"/>
                    </a:lnTo>
                    <a:cubicBezTo>
                      <a:pt x="15025" y="8"/>
                      <a:pt x="15024" y="7"/>
                      <a:pt x="15024" y="6"/>
                    </a:cubicBezTo>
                    <a:cubicBezTo>
                      <a:pt x="15024" y="5"/>
                      <a:pt x="15025" y="4"/>
                      <a:pt x="15026" y="4"/>
                    </a:cubicBezTo>
                    <a:close/>
                    <a:moveTo>
                      <a:pt x="15034" y="4"/>
                    </a:moveTo>
                    <a:lnTo>
                      <a:pt x="15034" y="4"/>
                    </a:lnTo>
                    <a:cubicBezTo>
                      <a:pt x="15035" y="4"/>
                      <a:pt x="15036" y="5"/>
                      <a:pt x="15036" y="6"/>
                    </a:cubicBezTo>
                    <a:cubicBezTo>
                      <a:pt x="15036" y="7"/>
                      <a:pt x="15035" y="8"/>
                      <a:pt x="15034" y="8"/>
                    </a:cubicBezTo>
                    <a:lnTo>
                      <a:pt x="15034" y="8"/>
                    </a:lnTo>
                    <a:cubicBezTo>
                      <a:pt x="15033" y="8"/>
                      <a:pt x="15032" y="7"/>
                      <a:pt x="15032" y="6"/>
                    </a:cubicBezTo>
                    <a:cubicBezTo>
                      <a:pt x="15032" y="5"/>
                      <a:pt x="15033" y="4"/>
                      <a:pt x="15034" y="4"/>
                    </a:cubicBezTo>
                    <a:close/>
                    <a:moveTo>
                      <a:pt x="15042" y="4"/>
                    </a:moveTo>
                    <a:lnTo>
                      <a:pt x="15042" y="4"/>
                    </a:lnTo>
                    <a:cubicBezTo>
                      <a:pt x="15043" y="4"/>
                      <a:pt x="15044" y="5"/>
                      <a:pt x="15044" y="6"/>
                    </a:cubicBezTo>
                    <a:cubicBezTo>
                      <a:pt x="15044" y="7"/>
                      <a:pt x="15043" y="8"/>
                      <a:pt x="15042" y="8"/>
                    </a:cubicBezTo>
                    <a:lnTo>
                      <a:pt x="15042" y="8"/>
                    </a:lnTo>
                    <a:cubicBezTo>
                      <a:pt x="15041" y="8"/>
                      <a:pt x="15040" y="7"/>
                      <a:pt x="15040" y="6"/>
                    </a:cubicBezTo>
                    <a:cubicBezTo>
                      <a:pt x="15040" y="5"/>
                      <a:pt x="15041" y="4"/>
                      <a:pt x="15042" y="4"/>
                    </a:cubicBezTo>
                    <a:close/>
                    <a:moveTo>
                      <a:pt x="15050" y="4"/>
                    </a:moveTo>
                    <a:lnTo>
                      <a:pt x="15050" y="4"/>
                    </a:lnTo>
                    <a:cubicBezTo>
                      <a:pt x="15051" y="4"/>
                      <a:pt x="15052" y="5"/>
                      <a:pt x="15052" y="6"/>
                    </a:cubicBezTo>
                    <a:cubicBezTo>
                      <a:pt x="15052" y="7"/>
                      <a:pt x="15051" y="8"/>
                      <a:pt x="15050" y="8"/>
                    </a:cubicBezTo>
                    <a:lnTo>
                      <a:pt x="15050" y="8"/>
                    </a:lnTo>
                    <a:cubicBezTo>
                      <a:pt x="15049" y="8"/>
                      <a:pt x="15048" y="7"/>
                      <a:pt x="15048" y="6"/>
                    </a:cubicBezTo>
                    <a:cubicBezTo>
                      <a:pt x="15048" y="5"/>
                      <a:pt x="15049" y="4"/>
                      <a:pt x="15050" y="4"/>
                    </a:cubicBezTo>
                    <a:close/>
                    <a:moveTo>
                      <a:pt x="15058" y="4"/>
                    </a:moveTo>
                    <a:lnTo>
                      <a:pt x="15058" y="4"/>
                    </a:lnTo>
                    <a:cubicBezTo>
                      <a:pt x="15059" y="4"/>
                      <a:pt x="15060" y="5"/>
                      <a:pt x="15060" y="6"/>
                    </a:cubicBezTo>
                    <a:cubicBezTo>
                      <a:pt x="15060" y="7"/>
                      <a:pt x="15059" y="8"/>
                      <a:pt x="15058" y="8"/>
                    </a:cubicBezTo>
                    <a:lnTo>
                      <a:pt x="15058" y="8"/>
                    </a:lnTo>
                    <a:cubicBezTo>
                      <a:pt x="15057" y="8"/>
                      <a:pt x="15056" y="7"/>
                      <a:pt x="15056" y="6"/>
                    </a:cubicBezTo>
                    <a:cubicBezTo>
                      <a:pt x="15056" y="5"/>
                      <a:pt x="15057" y="4"/>
                      <a:pt x="15058" y="4"/>
                    </a:cubicBezTo>
                    <a:close/>
                    <a:moveTo>
                      <a:pt x="15066" y="4"/>
                    </a:moveTo>
                    <a:lnTo>
                      <a:pt x="15066" y="4"/>
                    </a:lnTo>
                    <a:cubicBezTo>
                      <a:pt x="15067" y="4"/>
                      <a:pt x="15068" y="5"/>
                      <a:pt x="15068" y="6"/>
                    </a:cubicBezTo>
                    <a:cubicBezTo>
                      <a:pt x="15068" y="7"/>
                      <a:pt x="15067" y="8"/>
                      <a:pt x="15066" y="8"/>
                    </a:cubicBezTo>
                    <a:lnTo>
                      <a:pt x="15066" y="8"/>
                    </a:lnTo>
                    <a:cubicBezTo>
                      <a:pt x="15065" y="8"/>
                      <a:pt x="15064" y="7"/>
                      <a:pt x="15064" y="6"/>
                    </a:cubicBezTo>
                    <a:cubicBezTo>
                      <a:pt x="15064" y="5"/>
                      <a:pt x="15065" y="4"/>
                      <a:pt x="15066" y="4"/>
                    </a:cubicBezTo>
                    <a:close/>
                    <a:moveTo>
                      <a:pt x="15074" y="4"/>
                    </a:moveTo>
                    <a:lnTo>
                      <a:pt x="15074" y="4"/>
                    </a:lnTo>
                    <a:cubicBezTo>
                      <a:pt x="15075" y="4"/>
                      <a:pt x="15076" y="5"/>
                      <a:pt x="15076" y="6"/>
                    </a:cubicBezTo>
                    <a:cubicBezTo>
                      <a:pt x="15076" y="7"/>
                      <a:pt x="15075" y="8"/>
                      <a:pt x="15074" y="8"/>
                    </a:cubicBezTo>
                    <a:lnTo>
                      <a:pt x="15074" y="8"/>
                    </a:lnTo>
                    <a:cubicBezTo>
                      <a:pt x="15073" y="8"/>
                      <a:pt x="15072" y="7"/>
                      <a:pt x="15072" y="6"/>
                    </a:cubicBezTo>
                    <a:cubicBezTo>
                      <a:pt x="15072" y="5"/>
                      <a:pt x="15073" y="4"/>
                      <a:pt x="15074" y="4"/>
                    </a:cubicBezTo>
                    <a:close/>
                    <a:moveTo>
                      <a:pt x="15082" y="4"/>
                    </a:moveTo>
                    <a:lnTo>
                      <a:pt x="15082" y="4"/>
                    </a:lnTo>
                    <a:cubicBezTo>
                      <a:pt x="15083" y="4"/>
                      <a:pt x="15084" y="5"/>
                      <a:pt x="15084" y="6"/>
                    </a:cubicBezTo>
                    <a:cubicBezTo>
                      <a:pt x="15084" y="7"/>
                      <a:pt x="15083" y="8"/>
                      <a:pt x="15082" y="8"/>
                    </a:cubicBezTo>
                    <a:lnTo>
                      <a:pt x="15082" y="8"/>
                    </a:lnTo>
                    <a:cubicBezTo>
                      <a:pt x="15081" y="8"/>
                      <a:pt x="15080" y="7"/>
                      <a:pt x="15080" y="6"/>
                    </a:cubicBezTo>
                    <a:cubicBezTo>
                      <a:pt x="15080" y="5"/>
                      <a:pt x="15081" y="4"/>
                      <a:pt x="15082" y="4"/>
                    </a:cubicBezTo>
                    <a:close/>
                    <a:moveTo>
                      <a:pt x="15090" y="4"/>
                    </a:moveTo>
                    <a:lnTo>
                      <a:pt x="15090" y="4"/>
                    </a:lnTo>
                    <a:cubicBezTo>
                      <a:pt x="15091" y="4"/>
                      <a:pt x="15092" y="5"/>
                      <a:pt x="15092" y="6"/>
                    </a:cubicBezTo>
                    <a:cubicBezTo>
                      <a:pt x="15092" y="7"/>
                      <a:pt x="15091" y="8"/>
                      <a:pt x="15090" y="8"/>
                    </a:cubicBezTo>
                    <a:lnTo>
                      <a:pt x="15090" y="8"/>
                    </a:lnTo>
                    <a:cubicBezTo>
                      <a:pt x="15089" y="8"/>
                      <a:pt x="15088" y="7"/>
                      <a:pt x="15088" y="6"/>
                    </a:cubicBezTo>
                    <a:cubicBezTo>
                      <a:pt x="15088" y="5"/>
                      <a:pt x="15089" y="4"/>
                      <a:pt x="15090" y="4"/>
                    </a:cubicBezTo>
                    <a:close/>
                    <a:moveTo>
                      <a:pt x="15098" y="4"/>
                    </a:moveTo>
                    <a:lnTo>
                      <a:pt x="15098" y="4"/>
                    </a:lnTo>
                    <a:cubicBezTo>
                      <a:pt x="15099" y="4"/>
                      <a:pt x="15100" y="5"/>
                      <a:pt x="15100" y="6"/>
                    </a:cubicBezTo>
                    <a:cubicBezTo>
                      <a:pt x="15100" y="7"/>
                      <a:pt x="15099" y="8"/>
                      <a:pt x="15098" y="8"/>
                    </a:cubicBezTo>
                    <a:lnTo>
                      <a:pt x="15098" y="8"/>
                    </a:lnTo>
                    <a:cubicBezTo>
                      <a:pt x="15097" y="8"/>
                      <a:pt x="15096" y="7"/>
                      <a:pt x="15096" y="6"/>
                    </a:cubicBezTo>
                    <a:cubicBezTo>
                      <a:pt x="15096" y="5"/>
                      <a:pt x="15097" y="4"/>
                      <a:pt x="15098" y="4"/>
                    </a:cubicBezTo>
                    <a:close/>
                    <a:moveTo>
                      <a:pt x="15106" y="4"/>
                    </a:moveTo>
                    <a:lnTo>
                      <a:pt x="15106" y="4"/>
                    </a:lnTo>
                    <a:cubicBezTo>
                      <a:pt x="15107" y="4"/>
                      <a:pt x="15108" y="5"/>
                      <a:pt x="15108" y="6"/>
                    </a:cubicBezTo>
                    <a:cubicBezTo>
                      <a:pt x="15108" y="7"/>
                      <a:pt x="15107" y="8"/>
                      <a:pt x="15106" y="8"/>
                    </a:cubicBezTo>
                    <a:lnTo>
                      <a:pt x="15106" y="8"/>
                    </a:lnTo>
                    <a:cubicBezTo>
                      <a:pt x="15105" y="8"/>
                      <a:pt x="15104" y="7"/>
                      <a:pt x="15104" y="6"/>
                    </a:cubicBezTo>
                    <a:cubicBezTo>
                      <a:pt x="15104" y="5"/>
                      <a:pt x="15105" y="4"/>
                      <a:pt x="15106" y="4"/>
                    </a:cubicBezTo>
                    <a:close/>
                    <a:moveTo>
                      <a:pt x="15114" y="4"/>
                    </a:moveTo>
                    <a:lnTo>
                      <a:pt x="15114" y="4"/>
                    </a:lnTo>
                    <a:cubicBezTo>
                      <a:pt x="15115" y="4"/>
                      <a:pt x="15116" y="5"/>
                      <a:pt x="15116" y="6"/>
                    </a:cubicBezTo>
                    <a:cubicBezTo>
                      <a:pt x="15116" y="7"/>
                      <a:pt x="15115" y="8"/>
                      <a:pt x="15114" y="8"/>
                    </a:cubicBezTo>
                    <a:lnTo>
                      <a:pt x="15114" y="8"/>
                    </a:lnTo>
                    <a:cubicBezTo>
                      <a:pt x="15113" y="8"/>
                      <a:pt x="15112" y="7"/>
                      <a:pt x="15112" y="6"/>
                    </a:cubicBezTo>
                    <a:cubicBezTo>
                      <a:pt x="15112" y="5"/>
                      <a:pt x="15113" y="4"/>
                      <a:pt x="15114" y="4"/>
                    </a:cubicBezTo>
                    <a:close/>
                    <a:moveTo>
                      <a:pt x="15122" y="4"/>
                    </a:moveTo>
                    <a:lnTo>
                      <a:pt x="15122" y="4"/>
                    </a:lnTo>
                    <a:cubicBezTo>
                      <a:pt x="15123" y="4"/>
                      <a:pt x="15124" y="5"/>
                      <a:pt x="15124" y="6"/>
                    </a:cubicBezTo>
                    <a:cubicBezTo>
                      <a:pt x="15124" y="7"/>
                      <a:pt x="15123" y="8"/>
                      <a:pt x="15122" y="8"/>
                    </a:cubicBezTo>
                    <a:lnTo>
                      <a:pt x="15122" y="8"/>
                    </a:lnTo>
                    <a:cubicBezTo>
                      <a:pt x="15121" y="8"/>
                      <a:pt x="15120" y="7"/>
                      <a:pt x="15120" y="6"/>
                    </a:cubicBezTo>
                    <a:cubicBezTo>
                      <a:pt x="15120" y="5"/>
                      <a:pt x="15121" y="4"/>
                      <a:pt x="15122" y="4"/>
                    </a:cubicBezTo>
                    <a:close/>
                    <a:moveTo>
                      <a:pt x="15130" y="4"/>
                    </a:moveTo>
                    <a:lnTo>
                      <a:pt x="15130" y="4"/>
                    </a:lnTo>
                    <a:cubicBezTo>
                      <a:pt x="15131" y="4"/>
                      <a:pt x="15132" y="5"/>
                      <a:pt x="15132" y="6"/>
                    </a:cubicBezTo>
                    <a:cubicBezTo>
                      <a:pt x="15132" y="7"/>
                      <a:pt x="15131" y="8"/>
                      <a:pt x="15130" y="8"/>
                    </a:cubicBezTo>
                    <a:lnTo>
                      <a:pt x="15130" y="8"/>
                    </a:lnTo>
                    <a:cubicBezTo>
                      <a:pt x="15129" y="8"/>
                      <a:pt x="15128" y="7"/>
                      <a:pt x="15128" y="6"/>
                    </a:cubicBezTo>
                    <a:cubicBezTo>
                      <a:pt x="15128" y="5"/>
                      <a:pt x="15129" y="4"/>
                      <a:pt x="15130" y="4"/>
                    </a:cubicBezTo>
                    <a:close/>
                    <a:moveTo>
                      <a:pt x="15138" y="4"/>
                    </a:moveTo>
                    <a:lnTo>
                      <a:pt x="15138" y="4"/>
                    </a:lnTo>
                    <a:cubicBezTo>
                      <a:pt x="15139" y="4"/>
                      <a:pt x="15140" y="5"/>
                      <a:pt x="15140" y="6"/>
                    </a:cubicBezTo>
                    <a:cubicBezTo>
                      <a:pt x="15140" y="7"/>
                      <a:pt x="15139" y="8"/>
                      <a:pt x="15138" y="8"/>
                    </a:cubicBezTo>
                    <a:lnTo>
                      <a:pt x="15138" y="8"/>
                    </a:lnTo>
                    <a:cubicBezTo>
                      <a:pt x="15137" y="8"/>
                      <a:pt x="15136" y="7"/>
                      <a:pt x="15136" y="6"/>
                    </a:cubicBezTo>
                    <a:cubicBezTo>
                      <a:pt x="15136" y="5"/>
                      <a:pt x="15137" y="4"/>
                      <a:pt x="15138" y="4"/>
                    </a:cubicBezTo>
                    <a:close/>
                    <a:moveTo>
                      <a:pt x="15146" y="4"/>
                    </a:moveTo>
                    <a:lnTo>
                      <a:pt x="15146" y="4"/>
                    </a:lnTo>
                    <a:cubicBezTo>
                      <a:pt x="15147" y="4"/>
                      <a:pt x="15148" y="5"/>
                      <a:pt x="15148" y="6"/>
                    </a:cubicBezTo>
                    <a:cubicBezTo>
                      <a:pt x="15148" y="7"/>
                      <a:pt x="15147" y="8"/>
                      <a:pt x="15146" y="8"/>
                    </a:cubicBezTo>
                    <a:lnTo>
                      <a:pt x="15146" y="8"/>
                    </a:lnTo>
                    <a:cubicBezTo>
                      <a:pt x="15145" y="8"/>
                      <a:pt x="15144" y="7"/>
                      <a:pt x="15144" y="6"/>
                    </a:cubicBezTo>
                    <a:cubicBezTo>
                      <a:pt x="15144" y="5"/>
                      <a:pt x="15145" y="4"/>
                      <a:pt x="15146" y="4"/>
                    </a:cubicBezTo>
                    <a:close/>
                    <a:moveTo>
                      <a:pt x="15154" y="4"/>
                    </a:moveTo>
                    <a:lnTo>
                      <a:pt x="15154" y="4"/>
                    </a:lnTo>
                    <a:cubicBezTo>
                      <a:pt x="15155" y="4"/>
                      <a:pt x="15156" y="5"/>
                      <a:pt x="15156" y="6"/>
                    </a:cubicBezTo>
                    <a:cubicBezTo>
                      <a:pt x="15156" y="7"/>
                      <a:pt x="15155" y="8"/>
                      <a:pt x="15154" y="8"/>
                    </a:cubicBezTo>
                    <a:lnTo>
                      <a:pt x="15154" y="8"/>
                    </a:lnTo>
                    <a:cubicBezTo>
                      <a:pt x="15153" y="8"/>
                      <a:pt x="15152" y="7"/>
                      <a:pt x="15152" y="6"/>
                    </a:cubicBezTo>
                    <a:cubicBezTo>
                      <a:pt x="15152" y="5"/>
                      <a:pt x="15153" y="4"/>
                      <a:pt x="15154" y="4"/>
                    </a:cubicBezTo>
                    <a:close/>
                    <a:moveTo>
                      <a:pt x="15162" y="4"/>
                    </a:moveTo>
                    <a:lnTo>
                      <a:pt x="15162" y="4"/>
                    </a:lnTo>
                    <a:cubicBezTo>
                      <a:pt x="15163" y="4"/>
                      <a:pt x="15164" y="5"/>
                      <a:pt x="15164" y="6"/>
                    </a:cubicBezTo>
                    <a:cubicBezTo>
                      <a:pt x="15164" y="7"/>
                      <a:pt x="15163" y="8"/>
                      <a:pt x="15162" y="8"/>
                    </a:cubicBezTo>
                    <a:lnTo>
                      <a:pt x="15162" y="8"/>
                    </a:lnTo>
                    <a:cubicBezTo>
                      <a:pt x="15161" y="8"/>
                      <a:pt x="15160" y="7"/>
                      <a:pt x="15160" y="6"/>
                    </a:cubicBezTo>
                    <a:cubicBezTo>
                      <a:pt x="15160" y="5"/>
                      <a:pt x="15161" y="4"/>
                      <a:pt x="15162" y="4"/>
                    </a:cubicBezTo>
                    <a:close/>
                    <a:moveTo>
                      <a:pt x="15170" y="4"/>
                    </a:moveTo>
                    <a:lnTo>
                      <a:pt x="15170" y="4"/>
                    </a:lnTo>
                    <a:cubicBezTo>
                      <a:pt x="15171" y="4"/>
                      <a:pt x="15172" y="5"/>
                      <a:pt x="15172" y="6"/>
                    </a:cubicBezTo>
                    <a:cubicBezTo>
                      <a:pt x="15172" y="7"/>
                      <a:pt x="15171" y="8"/>
                      <a:pt x="15170" y="8"/>
                    </a:cubicBezTo>
                    <a:lnTo>
                      <a:pt x="15170" y="8"/>
                    </a:lnTo>
                    <a:cubicBezTo>
                      <a:pt x="15169" y="8"/>
                      <a:pt x="15168" y="7"/>
                      <a:pt x="15168" y="6"/>
                    </a:cubicBezTo>
                    <a:cubicBezTo>
                      <a:pt x="15168" y="5"/>
                      <a:pt x="15169" y="4"/>
                      <a:pt x="15170" y="4"/>
                    </a:cubicBezTo>
                    <a:close/>
                    <a:moveTo>
                      <a:pt x="15178" y="4"/>
                    </a:moveTo>
                    <a:lnTo>
                      <a:pt x="15178" y="4"/>
                    </a:lnTo>
                    <a:cubicBezTo>
                      <a:pt x="15179" y="4"/>
                      <a:pt x="15180" y="5"/>
                      <a:pt x="15180" y="6"/>
                    </a:cubicBezTo>
                    <a:cubicBezTo>
                      <a:pt x="15180" y="7"/>
                      <a:pt x="15179" y="8"/>
                      <a:pt x="15178" y="8"/>
                    </a:cubicBezTo>
                    <a:lnTo>
                      <a:pt x="15178" y="8"/>
                    </a:lnTo>
                    <a:cubicBezTo>
                      <a:pt x="15177" y="8"/>
                      <a:pt x="15176" y="7"/>
                      <a:pt x="15176" y="6"/>
                    </a:cubicBezTo>
                    <a:cubicBezTo>
                      <a:pt x="15176" y="5"/>
                      <a:pt x="15177" y="4"/>
                      <a:pt x="15178" y="4"/>
                    </a:cubicBezTo>
                    <a:close/>
                    <a:moveTo>
                      <a:pt x="15186" y="4"/>
                    </a:moveTo>
                    <a:lnTo>
                      <a:pt x="15186" y="4"/>
                    </a:lnTo>
                    <a:cubicBezTo>
                      <a:pt x="15187" y="4"/>
                      <a:pt x="15188" y="5"/>
                      <a:pt x="15188" y="6"/>
                    </a:cubicBezTo>
                    <a:cubicBezTo>
                      <a:pt x="15188" y="7"/>
                      <a:pt x="15187" y="8"/>
                      <a:pt x="15186" y="8"/>
                    </a:cubicBezTo>
                    <a:lnTo>
                      <a:pt x="15186" y="8"/>
                    </a:lnTo>
                    <a:cubicBezTo>
                      <a:pt x="15185" y="8"/>
                      <a:pt x="15184" y="7"/>
                      <a:pt x="15184" y="6"/>
                    </a:cubicBezTo>
                    <a:cubicBezTo>
                      <a:pt x="15184" y="5"/>
                      <a:pt x="15185" y="4"/>
                      <a:pt x="15186" y="4"/>
                    </a:cubicBezTo>
                    <a:close/>
                    <a:moveTo>
                      <a:pt x="15194" y="4"/>
                    </a:moveTo>
                    <a:lnTo>
                      <a:pt x="15194" y="4"/>
                    </a:lnTo>
                    <a:cubicBezTo>
                      <a:pt x="15195" y="4"/>
                      <a:pt x="15196" y="5"/>
                      <a:pt x="15196" y="6"/>
                    </a:cubicBezTo>
                    <a:cubicBezTo>
                      <a:pt x="15196" y="7"/>
                      <a:pt x="15195" y="8"/>
                      <a:pt x="15194" y="8"/>
                    </a:cubicBezTo>
                    <a:lnTo>
                      <a:pt x="15194" y="8"/>
                    </a:lnTo>
                    <a:cubicBezTo>
                      <a:pt x="15193" y="8"/>
                      <a:pt x="15192" y="7"/>
                      <a:pt x="15192" y="6"/>
                    </a:cubicBezTo>
                    <a:cubicBezTo>
                      <a:pt x="15192" y="5"/>
                      <a:pt x="15193" y="4"/>
                      <a:pt x="15194" y="4"/>
                    </a:cubicBezTo>
                    <a:close/>
                    <a:moveTo>
                      <a:pt x="15202" y="4"/>
                    </a:moveTo>
                    <a:lnTo>
                      <a:pt x="15202" y="4"/>
                    </a:lnTo>
                    <a:cubicBezTo>
                      <a:pt x="15203" y="4"/>
                      <a:pt x="15204" y="5"/>
                      <a:pt x="15204" y="6"/>
                    </a:cubicBezTo>
                    <a:cubicBezTo>
                      <a:pt x="15204" y="7"/>
                      <a:pt x="15203" y="8"/>
                      <a:pt x="15202" y="8"/>
                    </a:cubicBezTo>
                    <a:lnTo>
                      <a:pt x="15202" y="8"/>
                    </a:lnTo>
                    <a:cubicBezTo>
                      <a:pt x="15201" y="8"/>
                      <a:pt x="15200" y="7"/>
                      <a:pt x="15200" y="6"/>
                    </a:cubicBezTo>
                    <a:cubicBezTo>
                      <a:pt x="15200" y="5"/>
                      <a:pt x="15201" y="4"/>
                      <a:pt x="15202" y="4"/>
                    </a:cubicBezTo>
                    <a:close/>
                    <a:moveTo>
                      <a:pt x="15210" y="4"/>
                    </a:moveTo>
                    <a:lnTo>
                      <a:pt x="15210" y="4"/>
                    </a:lnTo>
                    <a:cubicBezTo>
                      <a:pt x="15211" y="4"/>
                      <a:pt x="15212" y="5"/>
                      <a:pt x="15212" y="6"/>
                    </a:cubicBezTo>
                    <a:cubicBezTo>
                      <a:pt x="15212" y="7"/>
                      <a:pt x="15211" y="8"/>
                      <a:pt x="15210" y="8"/>
                    </a:cubicBezTo>
                    <a:lnTo>
                      <a:pt x="15210" y="8"/>
                    </a:lnTo>
                    <a:cubicBezTo>
                      <a:pt x="15209" y="8"/>
                      <a:pt x="15208" y="7"/>
                      <a:pt x="15208" y="6"/>
                    </a:cubicBezTo>
                    <a:cubicBezTo>
                      <a:pt x="15208" y="5"/>
                      <a:pt x="15209" y="4"/>
                      <a:pt x="15210" y="4"/>
                    </a:cubicBezTo>
                    <a:close/>
                    <a:moveTo>
                      <a:pt x="15218" y="4"/>
                    </a:moveTo>
                    <a:lnTo>
                      <a:pt x="15218" y="4"/>
                    </a:lnTo>
                    <a:cubicBezTo>
                      <a:pt x="15219" y="4"/>
                      <a:pt x="15220" y="5"/>
                      <a:pt x="15220" y="6"/>
                    </a:cubicBezTo>
                    <a:cubicBezTo>
                      <a:pt x="15220" y="7"/>
                      <a:pt x="15219" y="8"/>
                      <a:pt x="15218" y="8"/>
                    </a:cubicBezTo>
                    <a:lnTo>
                      <a:pt x="15218" y="8"/>
                    </a:lnTo>
                    <a:cubicBezTo>
                      <a:pt x="15217" y="8"/>
                      <a:pt x="15216" y="7"/>
                      <a:pt x="15216" y="6"/>
                    </a:cubicBezTo>
                    <a:cubicBezTo>
                      <a:pt x="15216" y="5"/>
                      <a:pt x="15217" y="4"/>
                      <a:pt x="15218" y="4"/>
                    </a:cubicBezTo>
                    <a:close/>
                    <a:moveTo>
                      <a:pt x="15226" y="4"/>
                    </a:moveTo>
                    <a:lnTo>
                      <a:pt x="15226" y="4"/>
                    </a:lnTo>
                    <a:cubicBezTo>
                      <a:pt x="15227" y="4"/>
                      <a:pt x="15228" y="5"/>
                      <a:pt x="15228" y="6"/>
                    </a:cubicBezTo>
                    <a:cubicBezTo>
                      <a:pt x="15228" y="7"/>
                      <a:pt x="15227" y="8"/>
                      <a:pt x="15226" y="8"/>
                    </a:cubicBezTo>
                    <a:lnTo>
                      <a:pt x="15226" y="8"/>
                    </a:lnTo>
                    <a:cubicBezTo>
                      <a:pt x="15225" y="8"/>
                      <a:pt x="15224" y="7"/>
                      <a:pt x="15224" y="6"/>
                    </a:cubicBezTo>
                    <a:cubicBezTo>
                      <a:pt x="15224" y="5"/>
                      <a:pt x="15225" y="4"/>
                      <a:pt x="15226" y="4"/>
                    </a:cubicBezTo>
                    <a:close/>
                    <a:moveTo>
                      <a:pt x="15234" y="4"/>
                    </a:moveTo>
                    <a:lnTo>
                      <a:pt x="15234" y="4"/>
                    </a:lnTo>
                    <a:cubicBezTo>
                      <a:pt x="15235" y="4"/>
                      <a:pt x="15236" y="5"/>
                      <a:pt x="15236" y="6"/>
                    </a:cubicBezTo>
                    <a:cubicBezTo>
                      <a:pt x="15236" y="7"/>
                      <a:pt x="15235" y="8"/>
                      <a:pt x="15234" y="8"/>
                    </a:cubicBezTo>
                    <a:lnTo>
                      <a:pt x="15234" y="8"/>
                    </a:lnTo>
                    <a:cubicBezTo>
                      <a:pt x="15233" y="8"/>
                      <a:pt x="15232" y="7"/>
                      <a:pt x="15232" y="6"/>
                    </a:cubicBezTo>
                    <a:cubicBezTo>
                      <a:pt x="15232" y="5"/>
                      <a:pt x="15233" y="4"/>
                      <a:pt x="15234" y="4"/>
                    </a:cubicBezTo>
                    <a:close/>
                    <a:moveTo>
                      <a:pt x="15242" y="4"/>
                    </a:moveTo>
                    <a:lnTo>
                      <a:pt x="15242" y="4"/>
                    </a:lnTo>
                    <a:cubicBezTo>
                      <a:pt x="15243" y="4"/>
                      <a:pt x="15244" y="5"/>
                      <a:pt x="15244" y="6"/>
                    </a:cubicBezTo>
                    <a:cubicBezTo>
                      <a:pt x="15244" y="7"/>
                      <a:pt x="15243" y="8"/>
                      <a:pt x="15242" y="8"/>
                    </a:cubicBezTo>
                    <a:lnTo>
                      <a:pt x="15242" y="8"/>
                    </a:lnTo>
                    <a:cubicBezTo>
                      <a:pt x="15241" y="8"/>
                      <a:pt x="15240" y="7"/>
                      <a:pt x="15240" y="6"/>
                    </a:cubicBezTo>
                    <a:cubicBezTo>
                      <a:pt x="15240" y="5"/>
                      <a:pt x="15241" y="4"/>
                      <a:pt x="15242" y="4"/>
                    </a:cubicBezTo>
                    <a:close/>
                    <a:moveTo>
                      <a:pt x="15250" y="4"/>
                    </a:moveTo>
                    <a:lnTo>
                      <a:pt x="15250" y="4"/>
                    </a:lnTo>
                    <a:cubicBezTo>
                      <a:pt x="15251" y="4"/>
                      <a:pt x="15252" y="5"/>
                      <a:pt x="15252" y="6"/>
                    </a:cubicBezTo>
                    <a:cubicBezTo>
                      <a:pt x="15252" y="7"/>
                      <a:pt x="15251" y="8"/>
                      <a:pt x="15250" y="8"/>
                    </a:cubicBezTo>
                    <a:lnTo>
                      <a:pt x="15250" y="8"/>
                    </a:lnTo>
                    <a:cubicBezTo>
                      <a:pt x="15249" y="8"/>
                      <a:pt x="15248" y="7"/>
                      <a:pt x="15248" y="6"/>
                    </a:cubicBezTo>
                    <a:cubicBezTo>
                      <a:pt x="15248" y="5"/>
                      <a:pt x="15249" y="4"/>
                      <a:pt x="15250" y="4"/>
                    </a:cubicBezTo>
                    <a:close/>
                    <a:moveTo>
                      <a:pt x="15258" y="4"/>
                    </a:moveTo>
                    <a:lnTo>
                      <a:pt x="15258" y="4"/>
                    </a:lnTo>
                    <a:cubicBezTo>
                      <a:pt x="15259" y="4"/>
                      <a:pt x="15260" y="5"/>
                      <a:pt x="15260" y="6"/>
                    </a:cubicBezTo>
                    <a:cubicBezTo>
                      <a:pt x="15260" y="7"/>
                      <a:pt x="15259" y="8"/>
                      <a:pt x="15258" y="8"/>
                    </a:cubicBezTo>
                    <a:lnTo>
                      <a:pt x="15258" y="8"/>
                    </a:lnTo>
                    <a:cubicBezTo>
                      <a:pt x="15257" y="8"/>
                      <a:pt x="15256" y="7"/>
                      <a:pt x="15256" y="6"/>
                    </a:cubicBezTo>
                    <a:cubicBezTo>
                      <a:pt x="15256" y="5"/>
                      <a:pt x="15257" y="4"/>
                      <a:pt x="15258" y="4"/>
                    </a:cubicBezTo>
                    <a:close/>
                    <a:moveTo>
                      <a:pt x="15266" y="4"/>
                    </a:moveTo>
                    <a:lnTo>
                      <a:pt x="15266" y="4"/>
                    </a:lnTo>
                    <a:cubicBezTo>
                      <a:pt x="15267" y="4"/>
                      <a:pt x="15268" y="5"/>
                      <a:pt x="15268" y="6"/>
                    </a:cubicBezTo>
                    <a:cubicBezTo>
                      <a:pt x="15268" y="7"/>
                      <a:pt x="15267" y="8"/>
                      <a:pt x="15266" y="8"/>
                    </a:cubicBezTo>
                    <a:lnTo>
                      <a:pt x="15266" y="8"/>
                    </a:lnTo>
                    <a:cubicBezTo>
                      <a:pt x="15265" y="8"/>
                      <a:pt x="15264" y="7"/>
                      <a:pt x="15264" y="6"/>
                    </a:cubicBezTo>
                    <a:cubicBezTo>
                      <a:pt x="15264" y="5"/>
                      <a:pt x="15265" y="4"/>
                      <a:pt x="15266" y="4"/>
                    </a:cubicBezTo>
                    <a:close/>
                    <a:moveTo>
                      <a:pt x="15274" y="4"/>
                    </a:moveTo>
                    <a:lnTo>
                      <a:pt x="15274" y="4"/>
                    </a:lnTo>
                    <a:cubicBezTo>
                      <a:pt x="15275" y="4"/>
                      <a:pt x="15276" y="5"/>
                      <a:pt x="15276" y="6"/>
                    </a:cubicBezTo>
                    <a:cubicBezTo>
                      <a:pt x="15276" y="7"/>
                      <a:pt x="15275" y="8"/>
                      <a:pt x="15274" y="8"/>
                    </a:cubicBezTo>
                    <a:lnTo>
                      <a:pt x="15274" y="8"/>
                    </a:lnTo>
                    <a:cubicBezTo>
                      <a:pt x="15273" y="8"/>
                      <a:pt x="15272" y="7"/>
                      <a:pt x="15272" y="6"/>
                    </a:cubicBezTo>
                    <a:cubicBezTo>
                      <a:pt x="15272" y="5"/>
                      <a:pt x="15273" y="4"/>
                      <a:pt x="15274" y="4"/>
                    </a:cubicBezTo>
                    <a:close/>
                    <a:moveTo>
                      <a:pt x="15282" y="4"/>
                    </a:moveTo>
                    <a:lnTo>
                      <a:pt x="15282" y="4"/>
                    </a:lnTo>
                    <a:cubicBezTo>
                      <a:pt x="15283" y="4"/>
                      <a:pt x="15284" y="5"/>
                      <a:pt x="15284" y="6"/>
                    </a:cubicBezTo>
                    <a:cubicBezTo>
                      <a:pt x="15284" y="7"/>
                      <a:pt x="15283" y="8"/>
                      <a:pt x="15282" y="8"/>
                    </a:cubicBezTo>
                    <a:lnTo>
                      <a:pt x="15282" y="8"/>
                    </a:lnTo>
                    <a:cubicBezTo>
                      <a:pt x="15281" y="8"/>
                      <a:pt x="15280" y="7"/>
                      <a:pt x="15280" y="6"/>
                    </a:cubicBezTo>
                    <a:cubicBezTo>
                      <a:pt x="15280" y="5"/>
                      <a:pt x="15281" y="4"/>
                      <a:pt x="15282" y="4"/>
                    </a:cubicBezTo>
                    <a:close/>
                    <a:moveTo>
                      <a:pt x="15290" y="4"/>
                    </a:moveTo>
                    <a:lnTo>
                      <a:pt x="15290" y="4"/>
                    </a:lnTo>
                    <a:cubicBezTo>
                      <a:pt x="15291" y="4"/>
                      <a:pt x="15292" y="5"/>
                      <a:pt x="15292" y="6"/>
                    </a:cubicBezTo>
                    <a:cubicBezTo>
                      <a:pt x="15292" y="7"/>
                      <a:pt x="15291" y="8"/>
                      <a:pt x="15290" y="8"/>
                    </a:cubicBezTo>
                    <a:lnTo>
                      <a:pt x="15290" y="8"/>
                    </a:lnTo>
                    <a:cubicBezTo>
                      <a:pt x="15289" y="8"/>
                      <a:pt x="15288" y="7"/>
                      <a:pt x="15288" y="6"/>
                    </a:cubicBezTo>
                    <a:cubicBezTo>
                      <a:pt x="15288" y="5"/>
                      <a:pt x="15289" y="4"/>
                      <a:pt x="15290" y="4"/>
                    </a:cubicBezTo>
                    <a:close/>
                    <a:moveTo>
                      <a:pt x="15298" y="4"/>
                    </a:moveTo>
                    <a:lnTo>
                      <a:pt x="15298" y="4"/>
                    </a:lnTo>
                    <a:cubicBezTo>
                      <a:pt x="15299" y="4"/>
                      <a:pt x="15300" y="5"/>
                      <a:pt x="15300" y="6"/>
                    </a:cubicBezTo>
                    <a:cubicBezTo>
                      <a:pt x="15300" y="7"/>
                      <a:pt x="15299" y="8"/>
                      <a:pt x="15298" y="8"/>
                    </a:cubicBezTo>
                    <a:lnTo>
                      <a:pt x="15298" y="8"/>
                    </a:lnTo>
                    <a:cubicBezTo>
                      <a:pt x="15297" y="8"/>
                      <a:pt x="15296" y="7"/>
                      <a:pt x="15296" y="6"/>
                    </a:cubicBezTo>
                    <a:cubicBezTo>
                      <a:pt x="15296" y="5"/>
                      <a:pt x="15297" y="4"/>
                      <a:pt x="15298" y="4"/>
                    </a:cubicBezTo>
                    <a:close/>
                    <a:moveTo>
                      <a:pt x="15306" y="4"/>
                    </a:moveTo>
                    <a:lnTo>
                      <a:pt x="15306" y="4"/>
                    </a:lnTo>
                    <a:cubicBezTo>
                      <a:pt x="15307" y="4"/>
                      <a:pt x="15308" y="5"/>
                      <a:pt x="15308" y="6"/>
                    </a:cubicBezTo>
                    <a:cubicBezTo>
                      <a:pt x="15308" y="7"/>
                      <a:pt x="15307" y="8"/>
                      <a:pt x="15306" y="8"/>
                    </a:cubicBezTo>
                    <a:lnTo>
                      <a:pt x="15306" y="8"/>
                    </a:lnTo>
                    <a:cubicBezTo>
                      <a:pt x="15305" y="8"/>
                      <a:pt x="15304" y="7"/>
                      <a:pt x="15304" y="6"/>
                    </a:cubicBezTo>
                    <a:cubicBezTo>
                      <a:pt x="15304" y="5"/>
                      <a:pt x="15305" y="4"/>
                      <a:pt x="15306" y="4"/>
                    </a:cubicBezTo>
                    <a:close/>
                    <a:moveTo>
                      <a:pt x="15314" y="4"/>
                    </a:moveTo>
                    <a:lnTo>
                      <a:pt x="15314" y="4"/>
                    </a:lnTo>
                    <a:cubicBezTo>
                      <a:pt x="15315" y="4"/>
                      <a:pt x="15316" y="5"/>
                      <a:pt x="15316" y="6"/>
                    </a:cubicBezTo>
                    <a:cubicBezTo>
                      <a:pt x="15316" y="7"/>
                      <a:pt x="15315" y="8"/>
                      <a:pt x="15314" y="8"/>
                    </a:cubicBezTo>
                    <a:lnTo>
                      <a:pt x="15314" y="8"/>
                    </a:lnTo>
                    <a:cubicBezTo>
                      <a:pt x="15313" y="8"/>
                      <a:pt x="15312" y="7"/>
                      <a:pt x="15312" y="6"/>
                    </a:cubicBezTo>
                    <a:cubicBezTo>
                      <a:pt x="15312" y="5"/>
                      <a:pt x="15313" y="4"/>
                      <a:pt x="15314" y="4"/>
                    </a:cubicBezTo>
                    <a:close/>
                    <a:moveTo>
                      <a:pt x="15322" y="4"/>
                    </a:moveTo>
                    <a:lnTo>
                      <a:pt x="15322" y="4"/>
                    </a:lnTo>
                    <a:cubicBezTo>
                      <a:pt x="15323" y="4"/>
                      <a:pt x="15324" y="5"/>
                      <a:pt x="15324" y="6"/>
                    </a:cubicBezTo>
                    <a:cubicBezTo>
                      <a:pt x="15324" y="7"/>
                      <a:pt x="15323" y="8"/>
                      <a:pt x="15322" y="8"/>
                    </a:cubicBezTo>
                    <a:lnTo>
                      <a:pt x="15322" y="8"/>
                    </a:lnTo>
                    <a:cubicBezTo>
                      <a:pt x="15321" y="8"/>
                      <a:pt x="15320" y="7"/>
                      <a:pt x="15320" y="6"/>
                    </a:cubicBezTo>
                    <a:cubicBezTo>
                      <a:pt x="15320" y="5"/>
                      <a:pt x="15321" y="4"/>
                      <a:pt x="15322" y="4"/>
                    </a:cubicBezTo>
                    <a:close/>
                    <a:moveTo>
                      <a:pt x="15330" y="4"/>
                    </a:moveTo>
                    <a:lnTo>
                      <a:pt x="15330" y="4"/>
                    </a:lnTo>
                    <a:cubicBezTo>
                      <a:pt x="15331" y="4"/>
                      <a:pt x="15332" y="5"/>
                      <a:pt x="15332" y="6"/>
                    </a:cubicBezTo>
                    <a:cubicBezTo>
                      <a:pt x="15332" y="7"/>
                      <a:pt x="15331" y="8"/>
                      <a:pt x="15330" y="8"/>
                    </a:cubicBezTo>
                    <a:lnTo>
                      <a:pt x="15330" y="8"/>
                    </a:lnTo>
                    <a:cubicBezTo>
                      <a:pt x="15329" y="8"/>
                      <a:pt x="15328" y="7"/>
                      <a:pt x="15328" y="6"/>
                    </a:cubicBezTo>
                    <a:cubicBezTo>
                      <a:pt x="15328" y="5"/>
                      <a:pt x="15329" y="4"/>
                      <a:pt x="15330" y="4"/>
                    </a:cubicBezTo>
                    <a:close/>
                    <a:moveTo>
                      <a:pt x="15338" y="4"/>
                    </a:moveTo>
                    <a:lnTo>
                      <a:pt x="15338" y="4"/>
                    </a:lnTo>
                    <a:cubicBezTo>
                      <a:pt x="15339" y="4"/>
                      <a:pt x="15340" y="5"/>
                      <a:pt x="15340" y="6"/>
                    </a:cubicBezTo>
                    <a:cubicBezTo>
                      <a:pt x="15340" y="7"/>
                      <a:pt x="15339" y="8"/>
                      <a:pt x="15338" y="8"/>
                    </a:cubicBezTo>
                    <a:lnTo>
                      <a:pt x="15338" y="8"/>
                    </a:lnTo>
                    <a:cubicBezTo>
                      <a:pt x="15337" y="8"/>
                      <a:pt x="15336" y="7"/>
                      <a:pt x="15336" y="6"/>
                    </a:cubicBezTo>
                    <a:cubicBezTo>
                      <a:pt x="15336" y="5"/>
                      <a:pt x="15337" y="4"/>
                      <a:pt x="15338" y="4"/>
                    </a:cubicBezTo>
                    <a:close/>
                    <a:moveTo>
                      <a:pt x="15346" y="4"/>
                    </a:moveTo>
                    <a:lnTo>
                      <a:pt x="15346" y="4"/>
                    </a:lnTo>
                    <a:cubicBezTo>
                      <a:pt x="15347" y="4"/>
                      <a:pt x="15348" y="5"/>
                      <a:pt x="15348" y="6"/>
                    </a:cubicBezTo>
                    <a:cubicBezTo>
                      <a:pt x="15348" y="7"/>
                      <a:pt x="15347" y="8"/>
                      <a:pt x="15346" y="8"/>
                    </a:cubicBezTo>
                    <a:lnTo>
                      <a:pt x="15346" y="8"/>
                    </a:lnTo>
                    <a:cubicBezTo>
                      <a:pt x="15345" y="8"/>
                      <a:pt x="15344" y="7"/>
                      <a:pt x="15344" y="6"/>
                    </a:cubicBezTo>
                    <a:cubicBezTo>
                      <a:pt x="15344" y="5"/>
                      <a:pt x="15345" y="4"/>
                      <a:pt x="15346" y="4"/>
                    </a:cubicBezTo>
                    <a:close/>
                    <a:moveTo>
                      <a:pt x="15354" y="4"/>
                    </a:moveTo>
                    <a:lnTo>
                      <a:pt x="15354" y="4"/>
                    </a:lnTo>
                    <a:cubicBezTo>
                      <a:pt x="15355" y="4"/>
                      <a:pt x="15356" y="5"/>
                      <a:pt x="15356" y="6"/>
                    </a:cubicBezTo>
                    <a:cubicBezTo>
                      <a:pt x="15356" y="7"/>
                      <a:pt x="15355" y="8"/>
                      <a:pt x="15354" y="8"/>
                    </a:cubicBezTo>
                    <a:lnTo>
                      <a:pt x="15354" y="8"/>
                    </a:lnTo>
                    <a:cubicBezTo>
                      <a:pt x="15353" y="8"/>
                      <a:pt x="15352" y="7"/>
                      <a:pt x="15352" y="6"/>
                    </a:cubicBezTo>
                    <a:cubicBezTo>
                      <a:pt x="15352" y="5"/>
                      <a:pt x="15353" y="4"/>
                      <a:pt x="15354" y="4"/>
                    </a:cubicBezTo>
                    <a:close/>
                    <a:moveTo>
                      <a:pt x="15362" y="4"/>
                    </a:moveTo>
                    <a:lnTo>
                      <a:pt x="15362" y="4"/>
                    </a:lnTo>
                    <a:cubicBezTo>
                      <a:pt x="15363" y="4"/>
                      <a:pt x="15364" y="5"/>
                      <a:pt x="15364" y="6"/>
                    </a:cubicBezTo>
                    <a:cubicBezTo>
                      <a:pt x="15364" y="7"/>
                      <a:pt x="15363" y="8"/>
                      <a:pt x="15362" y="8"/>
                    </a:cubicBezTo>
                    <a:lnTo>
                      <a:pt x="15362" y="8"/>
                    </a:lnTo>
                    <a:cubicBezTo>
                      <a:pt x="15361" y="8"/>
                      <a:pt x="15360" y="7"/>
                      <a:pt x="15360" y="6"/>
                    </a:cubicBezTo>
                    <a:cubicBezTo>
                      <a:pt x="15360" y="5"/>
                      <a:pt x="15361" y="4"/>
                      <a:pt x="15362" y="4"/>
                    </a:cubicBezTo>
                    <a:close/>
                    <a:moveTo>
                      <a:pt x="15370" y="4"/>
                    </a:moveTo>
                    <a:lnTo>
                      <a:pt x="15370" y="4"/>
                    </a:lnTo>
                    <a:cubicBezTo>
                      <a:pt x="15371" y="4"/>
                      <a:pt x="15372" y="5"/>
                      <a:pt x="15372" y="6"/>
                    </a:cubicBezTo>
                    <a:cubicBezTo>
                      <a:pt x="15372" y="7"/>
                      <a:pt x="15371" y="8"/>
                      <a:pt x="15370" y="8"/>
                    </a:cubicBezTo>
                    <a:lnTo>
                      <a:pt x="15370" y="8"/>
                    </a:lnTo>
                    <a:cubicBezTo>
                      <a:pt x="15369" y="8"/>
                      <a:pt x="15368" y="7"/>
                      <a:pt x="15368" y="6"/>
                    </a:cubicBezTo>
                    <a:cubicBezTo>
                      <a:pt x="15368" y="5"/>
                      <a:pt x="15369" y="4"/>
                      <a:pt x="15370" y="4"/>
                    </a:cubicBezTo>
                    <a:close/>
                    <a:moveTo>
                      <a:pt x="15378" y="4"/>
                    </a:moveTo>
                    <a:lnTo>
                      <a:pt x="15378" y="4"/>
                    </a:lnTo>
                    <a:cubicBezTo>
                      <a:pt x="15379" y="4"/>
                      <a:pt x="15380" y="5"/>
                      <a:pt x="15380" y="6"/>
                    </a:cubicBezTo>
                    <a:cubicBezTo>
                      <a:pt x="15380" y="7"/>
                      <a:pt x="15379" y="8"/>
                      <a:pt x="15378" y="8"/>
                    </a:cubicBezTo>
                    <a:lnTo>
                      <a:pt x="15378" y="8"/>
                    </a:lnTo>
                    <a:cubicBezTo>
                      <a:pt x="15377" y="8"/>
                      <a:pt x="15376" y="7"/>
                      <a:pt x="15376" y="6"/>
                    </a:cubicBezTo>
                    <a:cubicBezTo>
                      <a:pt x="15376" y="5"/>
                      <a:pt x="15377" y="4"/>
                      <a:pt x="15378" y="4"/>
                    </a:cubicBezTo>
                    <a:close/>
                    <a:moveTo>
                      <a:pt x="15386" y="4"/>
                    </a:moveTo>
                    <a:lnTo>
                      <a:pt x="15386" y="4"/>
                    </a:lnTo>
                    <a:cubicBezTo>
                      <a:pt x="15387" y="4"/>
                      <a:pt x="15388" y="5"/>
                      <a:pt x="15388" y="6"/>
                    </a:cubicBezTo>
                    <a:cubicBezTo>
                      <a:pt x="15388" y="7"/>
                      <a:pt x="15387" y="8"/>
                      <a:pt x="15386" y="8"/>
                    </a:cubicBezTo>
                    <a:lnTo>
                      <a:pt x="15386" y="8"/>
                    </a:lnTo>
                    <a:cubicBezTo>
                      <a:pt x="15385" y="8"/>
                      <a:pt x="15384" y="7"/>
                      <a:pt x="15384" y="6"/>
                    </a:cubicBezTo>
                    <a:cubicBezTo>
                      <a:pt x="15384" y="5"/>
                      <a:pt x="15385" y="4"/>
                      <a:pt x="15386" y="4"/>
                    </a:cubicBezTo>
                    <a:close/>
                    <a:moveTo>
                      <a:pt x="15394" y="4"/>
                    </a:moveTo>
                    <a:lnTo>
                      <a:pt x="15394" y="4"/>
                    </a:lnTo>
                    <a:cubicBezTo>
                      <a:pt x="15395" y="4"/>
                      <a:pt x="15396" y="5"/>
                      <a:pt x="15396" y="6"/>
                    </a:cubicBezTo>
                    <a:cubicBezTo>
                      <a:pt x="15396" y="7"/>
                      <a:pt x="15395" y="8"/>
                      <a:pt x="15394" y="8"/>
                    </a:cubicBezTo>
                    <a:lnTo>
                      <a:pt x="15394" y="8"/>
                    </a:lnTo>
                    <a:cubicBezTo>
                      <a:pt x="15393" y="8"/>
                      <a:pt x="15392" y="7"/>
                      <a:pt x="15392" y="6"/>
                    </a:cubicBezTo>
                    <a:cubicBezTo>
                      <a:pt x="15392" y="5"/>
                      <a:pt x="15393" y="4"/>
                      <a:pt x="15394" y="4"/>
                    </a:cubicBezTo>
                    <a:close/>
                    <a:moveTo>
                      <a:pt x="15402" y="4"/>
                    </a:moveTo>
                    <a:lnTo>
                      <a:pt x="15402" y="4"/>
                    </a:lnTo>
                    <a:cubicBezTo>
                      <a:pt x="15403" y="4"/>
                      <a:pt x="15404" y="5"/>
                      <a:pt x="15404" y="6"/>
                    </a:cubicBezTo>
                    <a:cubicBezTo>
                      <a:pt x="15404" y="7"/>
                      <a:pt x="15403" y="8"/>
                      <a:pt x="15402" y="8"/>
                    </a:cubicBezTo>
                    <a:lnTo>
                      <a:pt x="15402" y="8"/>
                    </a:lnTo>
                    <a:cubicBezTo>
                      <a:pt x="15401" y="8"/>
                      <a:pt x="15400" y="7"/>
                      <a:pt x="15400" y="6"/>
                    </a:cubicBezTo>
                    <a:cubicBezTo>
                      <a:pt x="15400" y="5"/>
                      <a:pt x="15401" y="4"/>
                      <a:pt x="15402" y="4"/>
                    </a:cubicBezTo>
                    <a:close/>
                    <a:moveTo>
                      <a:pt x="15410" y="4"/>
                    </a:moveTo>
                    <a:lnTo>
                      <a:pt x="15410" y="4"/>
                    </a:lnTo>
                    <a:cubicBezTo>
                      <a:pt x="15411" y="4"/>
                      <a:pt x="15412" y="5"/>
                      <a:pt x="15412" y="6"/>
                    </a:cubicBezTo>
                    <a:cubicBezTo>
                      <a:pt x="15412" y="7"/>
                      <a:pt x="15411" y="8"/>
                      <a:pt x="15410" y="8"/>
                    </a:cubicBezTo>
                    <a:lnTo>
                      <a:pt x="15410" y="8"/>
                    </a:lnTo>
                    <a:cubicBezTo>
                      <a:pt x="15409" y="8"/>
                      <a:pt x="15408" y="7"/>
                      <a:pt x="15408" y="6"/>
                    </a:cubicBezTo>
                    <a:cubicBezTo>
                      <a:pt x="15408" y="5"/>
                      <a:pt x="15409" y="4"/>
                      <a:pt x="15410" y="4"/>
                    </a:cubicBezTo>
                    <a:close/>
                    <a:moveTo>
                      <a:pt x="15418" y="4"/>
                    </a:moveTo>
                    <a:lnTo>
                      <a:pt x="15418" y="4"/>
                    </a:lnTo>
                    <a:cubicBezTo>
                      <a:pt x="15419" y="4"/>
                      <a:pt x="15420" y="5"/>
                      <a:pt x="15420" y="6"/>
                    </a:cubicBezTo>
                    <a:cubicBezTo>
                      <a:pt x="15420" y="7"/>
                      <a:pt x="15419" y="8"/>
                      <a:pt x="15418" y="8"/>
                    </a:cubicBezTo>
                    <a:lnTo>
                      <a:pt x="15418" y="8"/>
                    </a:lnTo>
                    <a:cubicBezTo>
                      <a:pt x="15417" y="8"/>
                      <a:pt x="15416" y="7"/>
                      <a:pt x="15416" y="6"/>
                    </a:cubicBezTo>
                    <a:cubicBezTo>
                      <a:pt x="15416" y="5"/>
                      <a:pt x="15417" y="4"/>
                      <a:pt x="15418" y="4"/>
                    </a:cubicBezTo>
                    <a:close/>
                    <a:moveTo>
                      <a:pt x="15426" y="4"/>
                    </a:moveTo>
                    <a:lnTo>
                      <a:pt x="15426" y="4"/>
                    </a:lnTo>
                    <a:cubicBezTo>
                      <a:pt x="15427" y="4"/>
                      <a:pt x="15428" y="5"/>
                      <a:pt x="15428" y="6"/>
                    </a:cubicBezTo>
                    <a:cubicBezTo>
                      <a:pt x="15428" y="7"/>
                      <a:pt x="15427" y="8"/>
                      <a:pt x="15426" y="8"/>
                    </a:cubicBezTo>
                    <a:lnTo>
                      <a:pt x="15426" y="8"/>
                    </a:lnTo>
                    <a:cubicBezTo>
                      <a:pt x="15425" y="8"/>
                      <a:pt x="15424" y="7"/>
                      <a:pt x="15424" y="6"/>
                    </a:cubicBezTo>
                    <a:cubicBezTo>
                      <a:pt x="15424" y="5"/>
                      <a:pt x="15425" y="4"/>
                      <a:pt x="15426" y="4"/>
                    </a:cubicBezTo>
                    <a:close/>
                    <a:moveTo>
                      <a:pt x="15434" y="4"/>
                    </a:moveTo>
                    <a:lnTo>
                      <a:pt x="15434" y="4"/>
                    </a:lnTo>
                    <a:cubicBezTo>
                      <a:pt x="15435" y="4"/>
                      <a:pt x="15436" y="5"/>
                      <a:pt x="15436" y="6"/>
                    </a:cubicBezTo>
                    <a:cubicBezTo>
                      <a:pt x="15436" y="7"/>
                      <a:pt x="15435" y="8"/>
                      <a:pt x="15434" y="8"/>
                    </a:cubicBezTo>
                    <a:lnTo>
                      <a:pt x="15434" y="8"/>
                    </a:lnTo>
                    <a:cubicBezTo>
                      <a:pt x="15433" y="8"/>
                      <a:pt x="15432" y="7"/>
                      <a:pt x="15432" y="6"/>
                    </a:cubicBezTo>
                    <a:cubicBezTo>
                      <a:pt x="15432" y="5"/>
                      <a:pt x="15433" y="4"/>
                      <a:pt x="15434" y="4"/>
                    </a:cubicBezTo>
                    <a:close/>
                    <a:moveTo>
                      <a:pt x="15442" y="4"/>
                    </a:moveTo>
                    <a:lnTo>
                      <a:pt x="15442" y="4"/>
                    </a:lnTo>
                    <a:cubicBezTo>
                      <a:pt x="15443" y="4"/>
                      <a:pt x="15444" y="5"/>
                      <a:pt x="15444" y="6"/>
                    </a:cubicBezTo>
                    <a:cubicBezTo>
                      <a:pt x="15444" y="7"/>
                      <a:pt x="15443" y="8"/>
                      <a:pt x="15442" y="8"/>
                    </a:cubicBezTo>
                    <a:lnTo>
                      <a:pt x="15442" y="8"/>
                    </a:lnTo>
                    <a:cubicBezTo>
                      <a:pt x="15441" y="8"/>
                      <a:pt x="15440" y="7"/>
                      <a:pt x="15440" y="6"/>
                    </a:cubicBezTo>
                    <a:cubicBezTo>
                      <a:pt x="15440" y="5"/>
                      <a:pt x="15441" y="4"/>
                      <a:pt x="15442" y="4"/>
                    </a:cubicBezTo>
                    <a:close/>
                    <a:moveTo>
                      <a:pt x="15450" y="4"/>
                    </a:moveTo>
                    <a:lnTo>
                      <a:pt x="15450" y="4"/>
                    </a:lnTo>
                    <a:cubicBezTo>
                      <a:pt x="15451" y="4"/>
                      <a:pt x="15452" y="5"/>
                      <a:pt x="15452" y="6"/>
                    </a:cubicBezTo>
                    <a:cubicBezTo>
                      <a:pt x="15452" y="7"/>
                      <a:pt x="15451" y="8"/>
                      <a:pt x="15450" y="8"/>
                    </a:cubicBezTo>
                    <a:lnTo>
                      <a:pt x="15450" y="8"/>
                    </a:lnTo>
                    <a:cubicBezTo>
                      <a:pt x="15449" y="8"/>
                      <a:pt x="15448" y="7"/>
                      <a:pt x="15448" y="6"/>
                    </a:cubicBezTo>
                    <a:cubicBezTo>
                      <a:pt x="15448" y="5"/>
                      <a:pt x="15449" y="4"/>
                      <a:pt x="15450" y="4"/>
                    </a:cubicBezTo>
                    <a:close/>
                    <a:moveTo>
                      <a:pt x="15458" y="4"/>
                    </a:moveTo>
                    <a:lnTo>
                      <a:pt x="15458" y="4"/>
                    </a:lnTo>
                    <a:cubicBezTo>
                      <a:pt x="15459" y="4"/>
                      <a:pt x="15460" y="5"/>
                      <a:pt x="15460" y="6"/>
                    </a:cubicBezTo>
                    <a:cubicBezTo>
                      <a:pt x="15460" y="7"/>
                      <a:pt x="15459" y="8"/>
                      <a:pt x="15458" y="8"/>
                    </a:cubicBezTo>
                    <a:lnTo>
                      <a:pt x="15458" y="8"/>
                    </a:lnTo>
                    <a:cubicBezTo>
                      <a:pt x="15457" y="8"/>
                      <a:pt x="15456" y="7"/>
                      <a:pt x="15456" y="6"/>
                    </a:cubicBezTo>
                    <a:cubicBezTo>
                      <a:pt x="15456" y="5"/>
                      <a:pt x="15457" y="4"/>
                      <a:pt x="15458" y="4"/>
                    </a:cubicBezTo>
                    <a:close/>
                    <a:moveTo>
                      <a:pt x="15466" y="4"/>
                    </a:moveTo>
                    <a:lnTo>
                      <a:pt x="15466" y="4"/>
                    </a:lnTo>
                    <a:cubicBezTo>
                      <a:pt x="15467" y="4"/>
                      <a:pt x="15468" y="5"/>
                      <a:pt x="15468" y="6"/>
                    </a:cubicBezTo>
                    <a:cubicBezTo>
                      <a:pt x="15468" y="7"/>
                      <a:pt x="15467" y="8"/>
                      <a:pt x="15466" y="8"/>
                    </a:cubicBezTo>
                    <a:lnTo>
                      <a:pt x="15466" y="8"/>
                    </a:lnTo>
                    <a:cubicBezTo>
                      <a:pt x="15465" y="8"/>
                      <a:pt x="15464" y="7"/>
                      <a:pt x="15464" y="6"/>
                    </a:cubicBezTo>
                    <a:cubicBezTo>
                      <a:pt x="15464" y="5"/>
                      <a:pt x="15465" y="4"/>
                      <a:pt x="15466" y="4"/>
                    </a:cubicBezTo>
                    <a:close/>
                    <a:moveTo>
                      <a:pt x="15474" y="4"/>
                    </a:moveTo>
                    <a:lnTo>
                      <a:pt x="15474" y="4"/>
                    </a:lnTo>
                    <a:cubicBezTo>
                      <a:pt x="15475" y="4"/>
                      <a:pt x="15476" y="5"/>
                      <a:pt x="15476" y="6"/>
                    </a:cubicBezTo>
                    <a:cubicBezTo>
                      <a:pt x="15476" y="7"/>
                      <a:pt x="15475" y="8"/>
                      <a:pt x="15474" y="8"/>
                    </a:cubicBezTo>
                    <a:lnTo>
                      <a:pt x="15474" y="8"/>
                    </a:lnTo>
                    <a:cubicBezTo>
                      <a:pt x="15473" y="8"/>
                      <a:pt x="15472" y="7"/>
                      <a:pt x="15472" y="6"/>
                    </a:cubicBezTo>
                    <a:cubicBezTo>
                      <a:pt x="15472" y="5"/>
                      <a:pt x="15473" y="4"/>
                      <a:pt x="15474" y="4"/>
                    </a:cubicBezTo>
                    <a:close/>
                    <a:moveTo>
                      <a:pt x="15482" y="4"/>
                    </a:moveTo>
                    <a:lnTo>
                      <a:pt x="15482" y="4"/>
                    </a:lnTo>
                    <a:cubicBezTo>
                      <a:pt x="15483" y="4"/>
                      <a:pt x="15484" y="5"/>
                      <a:pt x="15484" y="6"/>
                    </a:cubicBezTo>
                    <a:cubicBezTo>
                      <a:pt x="15484" y="7"/>
                      <a:pt x="15483" y="8"/>
                      <a:pt x="15482" y="8"/>
                    </a:cubicBezTo>
                    <a:lnTo>
                      <a:pt x="15482" y="8"/>
                    </a:lnTo>
                    <a:cubicBezTo>
                      <a:pt x="15481" y="8"/>
                      <a:pt x="15480" y="7"/>
                      <a:pt x="15480" y="6"/>
                    </a:cubicBezTo>
                    <a:cubicBezTo>
                      <a:pt x="15480" y="5"/>
                      <a:pt x="15481" y="4"/>
                      <a:pt x="15482" y="4"/>
                    </a:cubicBezTo>
                    <a:close/>
                    <a:moveTo>
                      <a:pt x="15490" y="4"/>
                    </a:moveTo>
                    <a:lnTo>
                      <a:pt x="15490" y="4"/>
                    </a:lnTo>
                    <a:cubicBezTo>
                      <a:pt x="15491" y="4"/>
                      <a:pt x="15492" y="5"/>
                      <a:pt x="15492" y="6"/>
                    </a:cubicBezTo>
                    <a:cubicBezTo>
                      <a:pt x="15492" y="7"/>
                      <a:pt x="15491" y="8"/>
                      <a:pt x="15490" y="8"/>
                    </a:cubicBezTo>
                    <a:lnTo>
                      <a:pt x="15490" y="8"/>
                    </a:lnTo>
                    <a:cubicBezTo>
                      <a:pt x="15489" y="8"/>
                      <a:pt x="15488" y="7"/>
                      <a:pt x="15488" y="6"/>
                    </a:cubicBezTo>
                    <a:cubicBezTo>
                      <a:pt x="15488" y="5"/>
                      <a:pt x="15489" y="4"/>
                      <a:pt x="15490" y="4"/>
                    </a:cubicBezTo>
                    <a:close/>
                    <a:moveTo>
                      <a:pt x="15498" y="4"/>
                    </a:moveTo>
                    <a:lnTo>
                      <a:pt x="15498" y="4"/>
                    </a:lnTo>
                    <a:cubicBezTo>
                      <a:pt x="15499" y="4"/>
                      <a:pt x="15500" y="5"/>
                      <a:pt x="15500" y="6"/>
                    </a:cubicBezTo>
                    <a:cubicBezTo>
                      <a:pt x="15500" y="7"/>
                      <a:pt x="15499" y="8"/>
                      <a:pt x="15498" y="8"/>
                    </a:cubicBezTo>
                    <a:lnTo>
                      <a:pt x="15498" y="8"/>
                    </a:lnTo>
                    <a:cubicBezTo>
                      <a:pt x="15497" y="8"/>
                      <a:pt x="15496" y="7"/>
                      <a:pt x="15496" y="6"/>
                    </a:cubicBezTo>
                    <a:cubicBezTo>
                      <a:pt x="15496" y="5"/>
                      <a:pt x="15497" y="4"/>
                      <a:pt x="15498" y="4"/>
                    </a:cubicBezTo>
                    <a:close/>
                    <a:moveTo>
                      <a:pt x="15506" y="4"/>
                    </a:moveTo>
                    <a:lnTo>
                      <a:pt x="15506" y="4"/>
                    </a:lnTo>
                    <a:cubicBezTo>
                      <a:pt x="15507" y="4"/>
                      <a:pt x="15508" y="5"/>
                      <a:pt x="15508" y="6"/>
                    </a:cubicBezTo>
                    <a:cubicBezTo>
                      <a:pt x="15508" y="7"/>
                      <a:pt x="15507" y="8"/>
                      <a:pt x="15506" y="8"/>
                    </a:cubicBezTo>
                    <a:lnTo>
                      <a:pt x="15506" y="8"/>
                    </a:lnTo>
                    <a:cubicBezTo>
                      <a:pt x="15505" y="8"/>
                      <a:pt x="15504" y="7"/>
                      <a:pt x="15504" y="6"/>
                    </a:cubicBezTo>
                    <a:cubicBezTo>
                      <a:pt x="15504" y="5"/>
                      <a:pt x="15505" y="4"/>
                      <a:pt x="15506" y="4"/>
                    </a:cubicBezTo>
                    <a:close/>
                    <a:moveTo>
                      <a:pt x="15514" y="4"/>
                    </a:moveTo>
                    <a:lnTo>
                      <a:pt x="15514" y="4"/>
                    </a:lnTo>
                    <a:cubicBezTo>
                      <a:pt x="15515" y="4"/>
                      <a:pt x="15516" y="5"/>
                      <a:pt x="15516" y="6"/>
                    </a:cubicBezTo>
                    <a:cubicBezTo>
                      <a:pt x="15516" y="7"/>
                      <a:pt x="15515" y="8"/>
                      <a:pt x="15514" y="8"/>
                    </a:cubicBezTo>
                    <a:lnTo>
                      <a:pt x="15514" y="8"/>
                    </a:lnTo>
                    <a:cubicBezTo>
                      <a:pt x="15513" y="8"/>
                      <a:pt x="15512" y="7"/>
                      <a:pt x="15512" y="6"/>
                    </a:cubicBezTo>
                    <a:cubicBezTo>
                      <a:pt x="15512" y="5"/>
                      <a:pt x="15513" y="4"/>
                      <a:pt x="15514" y="4"/>
                    </a:cubicBezTo>
                    <a:close/>
                    <a:moveTo>
                      <a:pt x="15522" y="4"/>
                    </a:moveTo>
                    <a:lnTo>
                      <a:pt x="15522" y="4"/>
                    </a:lnTo>
                    <a:cubicBezTo>
                      <a:pt x="15523" y="4"/>
                      <a:pt x="15524" y="5"/>
                      <a:pt x="15524" y="6"/>
                    </a:cubicBezTo>
                    <a:cubicBezTo>
                      <a:pt x="15524" y="7"/>
                      <a:pt x="15523" y="8"/>
                      <a:pt x="15522" y="8"/>
                    </a:cubicBezTo>
                    <a:lnTo>
                      <a:pt x="15522" y="8"/>
                    </a:lnTo>
                    <a:cubicBezTo>
                      <a:pt x="15521" y="8"/>
                      <a:pt x="15520" y="7"/>
                      <a:pt x="15520" y="6"/>
                    </a:cubicBezTo>
                    <a:cubicBezTo>
                      <a:pt x="15520" y="5"/>
                      <a:pt x="15521" y="4"/>
                      <a:pt x="15522" y="4"/>
                    </a:cubicBezTo>
                    <a:close/>
                    <a:moveTo>
                      <a:pt x="15530" y="4"/>
                    </a:moveTo>
                    <a:lnTo>
                      <a:pt x="15530" y="4"/>
                    </a:lnTo>
                    <a:cubicBezTo>
                      <a:pt x="15532" y="4"/>
                      <a:pt x="15532" y="5"/>
                      <a:pt x="15532" y="6"/>
                    </a:cubicBezTo>
                    <a:cubicBezTo>
                      <a:pt x="15532" y="7"/>
                      <a:pt x="15532" y="8"/>
                      <a:pt x="15530" y="8"/>
                    </a:cubicBezTo>
                    <a:lnTo>
                      <a:pt x="15530" y="8"/>
                    </a:lnTo>
                    <a:cubicBezTo>
                      <a:pt x="15529" y="8"/>
                      <a:pt x="15528" y="7"/>
                      <a:pt x="15528" y="6"/>
                    </a:cubicBezTo>
                    <a:cubicBezTo>
                      <a:pt x="15528" y="5"/>
                      <a:pt x="15529" y="4"/>
                      <a:pt x="15530" y="4"/>
                    </a:cubicBezTo>
                    <a:close/>
                    <a:moveTo>
                      <a:pt x="15538" y="4"/>
                    </a:moveTo>
                    <a:lnTo>
                      <a:pt x="15538" y="4"/>
                    </a:lnTo>
                    <a:cubicBezTo>
                      <a:pt x="15540" y="4"/>
                      <a:pt x="15540" y="5"/>
                      <a:pt x="15540" y="6"/>
                    </a:cubicBezTo>
                    <a:cubicBezTo>
                      <a:pt x="15540" y="7"/>
                      <a:pt x="15540" y="8"/>
                      <a:pt x="15538" y="8"/>
                    </a:cubicBezTo>
                    <a:lnTo>
                      <a:pt x="15538" y="8"/>
                    </a:lnTo>
                    <a:cubicBezTo>
                      <a:pt x="15537" y="8"/>
                      <a:pt x="15536" y="7"/>
                      <a:pt x="15536" y="6"/>
                    </a:cubicBezTo>
                    <a:cubicBezTo>
                      <a:pt x="15536" y="5"/>
                      <a:pt x="15537" y="4"/>
                      <a:pt x="15538" y="4"/>
                    </a:cubicBezTo>
                    <a:close/>
                    <a:moveTo>
                      <a:pt x="15546" y="4"/>
                    </a:moveTo>
                    <a:lnTo>
                      <a:pt x="15546" y="4"/>
                    </a:lnTo>
                    <a:cubicBezTo>
                      <a:pt x="15548" y="4"/>
                      <a:pt x="15548" y="5"/>
                      <a:pt x="15548" y="6"/>
                    </a:cubicBezTo>
                    <a:cubicBezTo>
                      <a:pt x="15548" y="7"/>
                      <a:pt x="15548" y="8"/>
                      <a:pt x="15546" y="8"/>
                    </a:cubicBezTo>
                    <a:lnTo>
                      <a:pt x="15546" y="8"/>
                    </a:lnTo>
                    <a:cubicBezTo>
                      <a:pt x="15545" y="8"/>
                      <a:pt x="15544" y="7"/>
                      <a:pt x="15544" y="6"/>
                    </a:cubicBezTo>
                    <a:cubicBezTo>
                      <a:pt x="15544" y="5"/>
                      <a:pt x="15545" y="4"/>
                      <a:pt x="15546" y="4"/>
                    </a:cubicBezTo>
                    <a:close/>
                    <a:moveTo>
                      <a:pt x="15554" y="4"/>
                    </a:moveTo>
                    <a:lnTo>
                      <a:pt x="15554" y="4"/>
                    </a:lnTo>
                    <a:cubicBezTo>
                      <a:pt x="15556" y="4"/>
                      <a:pt x="15556" y="5"/>
                      <a:pt x="15556" y="6"/>
                    </a:cubicBezTo>
                    <a:cubicBezTo>
                      <a:pt x="15556" y="7"/>
                      <a:pt x="15556" y="8"/>
                      <a:pt x="15554" y="8"/>
                    </a:cubicBezTo>
                    <a:lnTo>
                      <a:pt x="15554" y="8"/>
                    </a:lnTo>
                    <a:cubicBezTo>
                      <a:pt x="15553" y="8"/>
                      <a:pt x="15552" y="7"/>
                      <a:pt x="15552" y="6"/>
                    </a:cubicBezTo>
                    <a:cubicBezTo>
                      <a:pt x="15552" y="5"/>
                      <a:pt x="15553" y="4"/>
                      <a:pt x="15554" y="4"/>
                    </a:cubicBezTo>
                    <a:close/>
                    <a:moveTo>
                      <a:pt x="15562" y="4"/>
                    </a:moveTo>
                    <a:lnTo>
                      <a:pt x="15562" y="4"/>
                    </a:lnTo>
                    <a:cubicBezTo>
                      <a:pt x="15564" y="4"/>
                      <a:pt x="15564" y="5"/>
                      <a:pt x="15564" y="6"/>
                    </a:cubicBezTo>
                    <a:cubicBezTo>
                      <a:pt x="15564" y="7"/>
                      <a:pt x="15564" y="8"/>
                      <a:pt x="15562" y="8"/>
                    </a:cubicBezTo>
                    <a:lnTo>
                      <a:pt x="15562" y="8"/>
                    </a:lnTo>
                    <a:cubicBezTo>
                      <a:pt x="15561" y="8"/>
                      <a:pt x="15560" y="7"/>
                      <a:pt x="15560" y="6"/>
                    </a:cubicBezTo>
                    <a:cubicBezTo>
                      <a:pt x="15560" y="5"/>
                      <a:pt x="15561" y="4"/>
                      <a:pt x="15562" y="4"/>
                    </a:cubicBezTo>
                    <a:close/>
                    <a:moveTo>
                      <a:pt x="15570" y="4"/>
                    </a:moveTo>
                    <a:lnTo>
                      <a:pt x="15570" y="4"/>
                    </a:lnTo>
                    <a:cubicBezTo>
                      <a:pt x="15572" y="4"/>
                      <a:pt x="15572" y="5"/>
                      <a:pt x="15572" y="6"/>
                    </a:cubicBezTo>
                    <a:cubicBezTo>
                      <a:pt x="15572" y="7"/>
                      <a:pt x="15572" y="8"/>
                      <a:pt x="15570" y="8"/>
                    </a:cubicBezTo>
                    <a:lnTo>
                      <a:pt x="15570" y="8"/>
                    </a:lnTo>
                    <a:cubicBezTo>
                      <a:pt x="15569" y="8"/>
                      <a:pt x="15568" y="7"/>
                      <a:pt x="15568" y="6"/>
                    </a:cubicBezTo>
                    <a:cubicBezTo>
                      <a:pt x="15568" y="5"/>
                      <a:pt x="15569" y="4"/>
                      <a:pt x="15570" y="4"/>
                    </a:cubicBezTo>
                    <a:close/>
                    <a:moveTo>
                      <a:pt x="15578" y="4"/>
                    </a:moveTo>
                    <a:lnTo>
                      <a:pt x="15578" y="4"/>
                    </a:lnTo>
                    <a:cubicBezTo>
                      <a:pt x="15580" y="4"/>
                      <a:pt x="15580" y="5"/>
                      <a:pt x="15580" y="6"/>
                    </a:cubicBezTo>
                    <a:cubicBezTo>
                      <a:pt x="15580" y="7"/>
                      <a:pt x="15580" y="8"/>
                      <a:pt x="15578" y="8"/>
                    </a:cubicBezTo>
                    <a:lnTo>
                      <a:pt x="15578" y="8"/>
                    </a:lnTo>
                    <a:cubicBezTo>
                      <a:pt x="15577" y="8"/>
                      <a:pt x="15576" y="7"/>
                      <a:pt x="15576" y="6"/>
                    </a:cubicBezTo>
                    <a:cubicBezTo>
                      <a:pt x="15576" y="5"/>
                      <a:pt x="15577" y="4"/>
                      <a:pt x="15578" y="4"/>
                    </a:cubicBezTo>
                    <a:close/>
                    <a:moveTo>
                      <a:pt x="15586" y="4"/>
                    </a:moveTo>
                    <a:lnTo>
                      <a:pt x="15586" y="4"/>
                    </a:lnTo>
                    <a:cubicBezTo>
                      <a:pt x="15588" y="4"/>
                      <a:pt x="15588" y="5"/>
                      <a:pt x="15588" y="6"/>
                    </a:cubicBezTo>
                    <a:cubicBezTo>
                      <a:pt x="15588" y="7"/>
                      <a:pt x="15588" y="8"/>
                      <a:pt x="15586" y="8"/>
                    </a:cubicBezTo>
                    <a:lnTo>
                      <a:pt x="15586" y="8"/>
                    </a:lnTo>
                    <a:cubicBezTo>
                      <a:pt x="15585" y="8"/>
                      <a:pt x="15584" y="7"/>
                      <a:pt x="15584" y="6"/>
                    </a:cubicBezTo>
                    <a:cubicBezTo>
                      <a:pt x="15584" y="5"/>
                      <a:pt x="15585" y="4"/>
                      <a:pt x="15586" y="4"/>
                    </a:cubicBezTo>
                    <a:close/>
                    <a:moveTo>
                      <a:pt x="15594" y="4"/>
                    </a:moveTo>
                    <a:lnTo>
                      <a:pt x="15594" y="4"/>
                    </a:lnTo>
                    <a:cubicBezTo>
                      <a:pt x="15596" y="4"/>
                      <a:pt x="15596" y="5"/>
                      <a:pt x="15596" y="6"/>
                    </a:cubicBezTo>
                    <a:cubicBezTo>
                      <a:pt x="15596" y="7"/>
                      <a:pt x="15596" y="8"/>
                      <a:pt x="15594" y="8"/>
                    </a:cubicBezTo>
                    <a:lnTo>
                      <a:pt x="15594" y="8"/>
                    </a:lnTo>
                    <a:cubicBezTo>
                      <a:pt x="15593" y="8"/>
                      <a:pt x="15592" y="7"/>
                      <a:pt x="15592" y="6"/>
                    </a:cubicBezTo>
                    <a:cubicBezTo>
                      <a:pt x="15592" y="5"/>
                      <a:pt x="15593" y="4"/>
                      <a:pt x="15594" y="4"/>
                    </a:cubicBezTo>
                    <a:close/>
                    <a:moveTo>
                      <a:pt x="15602" y="4"/>
                    </a:moveTo>
                    <a:lnTo>
                      <a:pt x="15602" y="4"/>
                    </a:lnTo>
                    <a:cubicBezTo>
                      <a:pt x="15604" y="4"/>
                      <a:pt x="15604" y="5"/>
                      <a:pt x="15604" y="6"/>
                    </a:cubicBezTo>
                    <a:cubicBezTo>
                      <a:pt x="15604" y="7"/>
                      <a:pt x="15604" y="8"/>
                      <a:pt x="15602" y="8"/>
                    </a:cubicBezTo>
                    <a:lnTo>
                      <a:pt x="15602" y="8"/>
                    </a:lnTo>
                    <a:cubicBezTo>
                      <a:pt x="15601" y="8"/>
                      <a:pt x="15600" y="7"/>
                      <a:pt x="15600" y="6"/>
                    </a:cubicBezTo>
                    <a:cubicBezTo>
                      <a:pt x="15600" y="5"/>
                      <a:pt x="15601" y="4"/>
                      <a:pt x="15602" y="4"/>
                    </a:cubicBezTo>
                    <a:close/>
                    <a:moveTo>
                      <a:pt x="15610" y="4"/>
                    </a:moveTo>
                    <a:lnTo>
                      <a:pt x="15610" y="4"/>
                    </a:lnTo>
                    <a:cubicBezTo>
                      <a:pt x="15612" y="4"/>
                      <a:pt x="15612" y="5"/>
                      <a:pt x="15612" y="6"/>
                    </a:cubicBezTo>
                    <a:cubicBezTo>
                      <a:pt x="15612" y="7"/>
                      <a:pt x="15612" y="8"/>
                      <a:pt x="15610" y="8"/>
                    </a:cubicBezTo>
                    <a:lnTo>
                      <a:pt x="15610" y="8"/>
                    </a:lnTo>
                    <a:cubicBezTo>
                      <a:pt x="15609" y="8"/>
                      <a:pt x="15608" y="7"/>
                      <a:pt x="15608" y="6"/>
                    </a:cubicBezTo>
                    <a:cubicBezTo>
                      <a:pt x="15608" y="5"/>
                      <a:pt x="15609" y="4"/>
                      <a:pt x="15610" y="4"/>
                    </a:cubicBezTo>
                    <a:close/>
                    <a:moveTo>
                      <a:pt x="15618" y="4"/>
                    </a:moveTo>
                    <a:lnTo>
                      <a:pt x="15618" y="4"/>
                    </a:lnTo>
                    <a:cubicBezTo>
                      <a:pt x="15620" y="4"/>
                      <a:pt x="15620" y="5"/>
                      <a:pt x="15620" y="6"/>
                    </a:cubicBezTo>
                    <a:cubicBezTo>
                      <a:pt x="15620" y="7"/>
                      <a:pt x="15620" y="8"/>
                      <a:pt x="15618" y="8"/>
                    </a:cubicBezTo>
                    <a:lnTo>
                      <a:pt x="15618" y="8"/>
                    </a:lnTo>
                    <a:cubicBezTo>
                      <a:pt x="15617" y="8"/>
                      <a:pt x="15616" y="7"/>
                      <a:pt x="15616" y="6"/>
                    </a:cubicBezTo>
                    <a:cubicBezTo>
                      <a:pt x="15616" y="5"/>
                      <a:pt x="15617" y="4"/>
                      <a:pt x="15618" y="4"/>
                    </a:cubicBezTo>
                    <a:close/>
                    <a:moveTo>
                      <a:pt x="15626" y="4"/>
                    </a:moveTo>
                    <a:lnTo>
                      <a:pt x="15626" y="4"/>
                    </a:lnTo>
                    <a:cubicBezTo>
                      <a:pt x="15628" y="4"/>
                      <a:pt x="15628" y="5"/>
                      <a:pt x="15628" y="6"/>
                    </a:cubicBezTo>
                    <a:cubicBezTo>
                      <a:pt x="15628" y="7"/>
                      <a:pt x="15628" y="8"/>
                      <a:pt x="15626" y="8"/>
                    </a:cubicBezTo>
                    <a:lnTo>
                      <a:pt x="15626" y="8"/>
                    </a:lnTo>
                    <a:cubicBezTo>
                      <a:pt x="15625" y="8"/>
                      <a:pt x="15624" y="7"/>
                      <a:pt x="15624" y="6"/>
                    </a:cubicBezTo>
                    <a:cubicBezTo>
                      <a:pt x="15624" y="5"/>
                      <a:pt x="15625" y="4"/>
                      <a:pt x="15626" y="4"/>
                    </a:cubicBezTo>
                    <a:close/>
                    <a:moveTo>
                      <a:pt x="15634" y="4"/>
                    </a:moveTo>
                    <a:lnTo>
                      <a:pt x="15634" y="4"/>
                    </a:lnTo>
                    <a:cubicBezTo>
                      <a:pt x="15636" y="4"/>
                      <a:pt x="15636" y="5"/>
                      <a:pt x="15636" y="6"/>
                    </a:cubicBezTo>
                    <a:cubicBezTo>
                      <a:pt x="15636" y="7"/>
                      <a:pt x="15636" y="8"/>
                      <a:pt x="15634" y="8"/>
                    </a:cubicBezTo>
                    <a:lnTo>
                      <a:pt x="15634" y="8"/>
                    </a:lnTo>
                    <a:cubicBezTo>
                      <a:pt x="15633" y="8"/>
                      <a:pt x="15632" y="7"/>
                      <a:pt x="15632" y="6"/>
                    </a:cubicBezTo>
                    <a:cubicBezTo>
                      <a:pt x="15632" y="5"/>
                      <a:pt x="15633" y="4"/>
                      <a:pt x="15634" y="4"/>
                    </a:cubicBezTo>
                    <a:close/>
                    <a:moveTo>
                      <a:pt x="15642" y="4"/>
                    </a:moveTo>
                    <a:lnTo>
                      <a:pt x="15642" y="4"/>
                    </a:lnTo>
                    <a:cubicBezTo>
                      <a:pt x="15644" y="4"/>
                      <a:pt x="15644" y="5"/>
                      <a:pt x="15644" y="6"/>
                    </a:cubicBezTo>
                    <a:cubicBezTo>
                      <a:pt x="15644" y="7"/>
                      <a:pt x="15644" y="8"/>
                      <a:pt x="15642" y="8"/>
                    </a:cubicBezTo>
                    <a:lnTo>
                      <a:pt x="15642" y="8"/>
                    </a:lnTo>
                    <a:cubicBezTo>
                      <a:pt x="15641" y="8"/>
                      <a:pt x="15640" y="7"/>
                      <a:pt x="15640" y="6"/>
                    </a:cubicBezTo>
                    <a:cubicBezTo>
                      <a:pt x="15640" y="5"/>
                      <a:pt x="15641" y="4"/>
                      <a:pt x="15642" y="4"/>
                    </a:cubicBezTo>
                    <a:close/>
                    <a:moveTo>
                      <a:pt x="15650" y="4"/>
                    </a:moveTo>
                    <a:lnTo>
                      <a:pt x="15650" y="4"/>
                    </a:lnTo>
                    <a:cubicBezTo>
                      <a:pt x="15652" y="4"/>
                      <a:pt x="15652" y="5"/>
                      <a:pt x="15652" y="6"/>
                    </a:cubicBezTo>
                    <a:cubicBezTo>
                      <a:pt x="15652" y="7"/>
                      <a:pt x="15652" y="8"/>
                      <a:pt x="15650" y="8"/>
                    </a:cubicBezTo>
                    <a:lnTo>
                      <a:pt x="15650" y="8"/>
                    </a:lnTo>
                    <a:cubicBezTo>
                      <a:pt x="15649" y="8"/>
                      <a:pt x="15648" y="7"/>
                      <a:pt x="15648" y="6"/>
                    </a:cubicBezTo>
                    <a:cubicBezTo>
                      <a:pt x="15648" y="5"/>
                      <a:pt x="15649" y="4"/>
                      <a:pt x="15650" y="4"/>
                    </a:cubicBezTo>
                    <a:close/>
                    <a:moveTo>
                      <a:pt x="15658" y="4"/>
                    </a:moveTo>
                    <a:lnTo>
                      <a:pt x="15658" y="4"/>
                    </a:lnTo>
                    <a:cubicBezTo>
                      <a:pt x="15660" y="4"/>
                      <a:pt x="15660" y="5"/>
                      <a:pt x="15660" y="6"/>
                    </a:cubicBezTo>
                    <a:cubicBezTo>
                      <a:pt x="15660" y="7"/>
                      <a:pt x="15660" y="8"/>
                      <a:pt x="15658" y="8"/>
                    </a:cubicBezTo>
                    <a:lnTo>
                      <a:pt x="15658" y="8"/>
                    </a:lnTo>
                    <a:cubicBezTo>
                      <a:pt x="15657" y="8"/>
                      <a:pt x="15656" y="7"/>
                      <a:pt x="15656" y="6"/>
                    </a:cubicBezTo>
                    <a:cubicBezTo>
                      <a:pt x="15656" y="5"/>
                      <a:pt x="15657" y="4"/>
                      <a:pt x="15658" y="4"/>
                    </a:cubicBezTo>
                    <a:close/>
                    <a:moveTo>
                      <a:pt x="15666" y="4"/>
                    </a:moveTo>
                    <a:lnTo>
                      <a:pt x="15666" y="4"/>
                    </a:lnTo>
                    <a:cubicBezTo>
                      <a:pt x="15668" y="4"/>
                      <a:pt x="15668" y="5"/>
                      <a:pt x="15668" y="6"/>
                    </a:cubicBezTo>
                    <a:cubicBezTo>
                      <a:pt x="15668" y="7"/>
                      <a:pt x="15668" y="8"/>
                      <a:pt x="15666" y="8"/>
                    </a:cubicBezTo>
                    <a:lnTo>
                      <a:pt x="15666" y="8"/>
                    </a:lnTo>
                    <a:cubicBezTo>
                      <a:pt x="15665" y="8"/>
                      <a:pt x="15664" y="7"/>
                      <a:pt x="15664" y="6"/>
                    </a:cubicBezTo>
                    <a:cubicBezTo>
                      <a:pt x="15664" y="5"/>
                      <a:pt x="15665" y="4"/>
                      <a:pt x="15666" y="4"/>
                    </a:cubicBezTo>
                    <a:close/>
                    <a:moveTo>
                      <a:pt x="15674" y="4"/>
                    </a:moveTo>
                    <a:lnTo>
                      <a:pt x="15675" y="4"/>
                    </a:lnTo>
                    <a:cubicBezTo>
                      <a:pt x="15676" y="4"/>
                      <a:pt x="15677" y="5"/>
                      <a:pt x="15677" y="6"/>
                    </a:cubicBezTo>
                    <a:cubicBezTo>
                      <a:pt x="15677" y="7"/>
                      <a:pt x="15676" y="8"/>
                      <a:pt x="15675" y="8"/>
                    </a:cubicBezTo>
                    <a:lnTo>
                      <a:pt x="15674" y="8"/>
                    </a:lnTo>
                    <a:cubicBezTo>
                      <a:pt x="15673" y="8"/>
                      <a:pt x="15672" y="7"/>
                      <a:pt x="15672" y="6"/>
                    </a:cubicBezTo>
                    <a:cubicBezTo>
                      <a:pt x="15672" y="5"/>
                      <a:pt x="15673" y="4"/>
                      <a:pt x="15674" y="4"/>
                    </a:cubicBezTo>
                    <a:close/>
                    <a:moveTo>
                      <a:pt x="15683" y="4"/>
                    </a:moveTo>
                    <a:lnTo>
                      <a:pt x="15683" y="4"/>
                    </a:lnTo>
                    <a:cubicBezTo>
                      <a:pt x="15684" y="4"/>
                      <a:pt x="15685" y="5"/>
                      <a:pt x="15685" y="6"/>
                    </a:cubicBezTo>
                    <a:cubicBezTo>
                      <a:pt x="15685" y="7"/>
                      <a:pt x="15684" y="8"/>
                      <a:pt x="15683" y="8"/>
                    </a:cubicBezTo>
                    <a:lnTo>
                      <a:pt x="15683" y="8"/>
                    </a:lnTo>
                    <a:cubicBezTo>
                      <a:pt x="15681" y="8"/>
                      <a:pt x="15681" y="7"/>
                      <a:pt x="15681" y="6"/>
                    </a:cubicBezTo>
                    <a:cubicBezTo>
                      <a:pt x="15681" y="5"/>
                      <a:pt x="15681" y="4"/>
                      <a:pt x="15683" y="4"/>
                    </a:cubicBezTo>
                    <a:close/>
                    <a:moveTo>
                      <a:pt x="15691" y="4"/>
                    </a:moveTo>
                    <a:lnTo>
                      <a:pt x="15691" y="4"/>
                    </a:lnTo>
                    <a:cubicBezTo>
                      <a:pt x="15692" y="4"/>
                      <a:pt x="15693" y="5"/>
                      <a:pt x="15693" y="6"/>
                    </a:cubicBezTo>
                    <a:cubicBezTo>
                      <a:pt x="15693" y="7"/>
                      <a:pt x="15692" y="8"/>
                      <a:pt x="15691" y="8"/>
                    </a:cubicBezTo>
                    <a:lnTo>
                      <a:pt x="15691" y="8"/>
                    </a:lnTo>
                    <a:cubicBezTo>
                      <a:pt x="15689" y="8"/>
                      <a:pt x="15689" y="7"/>
                      <a:pt x="15689" y="6"/>
                    </a:cubicBezTo>
                    <a:cubicBezTo>
                      <a:pt x="15689" y="5"/>
                      <a:pt x="15689" y="4"/>
                      <a:pt x="15691" y="4"/>
                    </a:cubicBezTo>
                    <a:close/>
                    <a:moveTo>
                      <a:pt x="15699" y="4"/>
                    </a:moveTo>
                    <a:lnTo>
                      <a:pt x="15699" y="4"/>
                    </a:lnTo>
                    <a:cubicBezTo>
                      <a:pt x="15700" y="4"/>
                      <a:pt x="15701" y="5"/>
                      <a:pt x="15701" y="6"/>
                    </a:cubicBezTo>
                    <a:cubicBezTo>
                      <a:pt x="15701" y="7"/>
                      <a:pt x="15700" y="8"/>
                      <a:pt x="15699" y="8"/>
                    </a:cubicBezTo>
                    <a:lnTo>
                      <a:pt x="15699" y="8"/>
                    </a:lnTo>
                    <a:cubicBezTo>
                      <a:pt x="15697" y="8"/>
                      <a:pt x="15697" y="7"/>
                      <a:pt x="15697" y="6"/>
                    </a:cubicBezTo>
                    <a:cubicBezTo>
                      <a:pt x="15697" y="5"/>
                      <a:pt x="15697" y="4"/>
                      <a:pt x="15699" y="4"/>
                    </a:cubicBezTo>
                    <a:close/>
                    <a:moveTo>
                      <a:pt x="15707" y="4"/>
                    </a:moveTo>
                    <a:lnTo>
                      <a:pt x="15707" y="4"/>
                    </a:lnTo>
                    <a:cubicBezTo>
                      <a:pt x="15708" y="4"/>
                      <a:pt x="15709" y="5"/>
                      <a:pt x="15709" y="6"/>
                    </a:cubicBezTo>
                    <a:cubicBezTo>
                      <a:pt x="15709" y="7"/>
                      <a:pt x="15708" y="8"/>
                      <a:pt x="15707" y="8"/>
                    </a:cubicBezTo>
                    <a:lnTo>
                      <a:pt x="15707" y="8"/>
                    </a:lnTo>
                    <a:cubicBezTo>
                      <a:pt x="15705" y="8"/>
                      <a:pt x="15705" y="7"/>
                      <a:pt x="15705" y="6"/>
                    </a:cubicBezTo>
                    <a:cubicBezTo>
                      <a:pt x="15705" y="5"/>
                      <a:pt x="15705" y="4"/>
                      <a:pt x="15707" y="4"/>
                    </a:cubicBezTo>
                    <a:close/>
                    <a:moveTo>
                      <a:pt x="15715" y="4"/>
                    </a:moveTo>
                    <a:lnTo>
                      <a:pt x="15715" y="4"/>
                    </a:lnTo>
                    <a:cubicBezTo>
                      <a:pt x="15716" y="4"/>
                      <a:pt x="15717" y="5"/>
                      <a:pt x="15717" y="6"/>
                    </a:cubicBezTo>
                    <a:cubicBezTo>
                      <a:pt x="15717" y="7"/>
                      <a:pt x="15716" y="8"/>
                      <a:pt x="15715" y="8"/>
                    </a:cubicBezTo>
                    <a:lnTo>
                      <a:pt x="15715" y="8"/>
                    </a:lnTo>
                    <a:cubicBezTo>
                      <a:pt x="15713" y="8"/>
                      <a:pt x="15713" y="7"/>
                      <a:pt x="15713" y="6"/>
                    </a:cubicBezTo>
                    <a:cubicBezTo>
                      <a:pt x="15713" y="5"/>
                      <a:pt x="15713" y="4"/>
                      <a:pt x="15715" y="4"/>
                    </a:cubicBezTo>
                    <a:close/>
                    <a:moveTo>
                      <a:pt x="15723" y="4"/>
                    </a:moveTo>
                    <a:lnTo>
                      <a:pt x="15723" y="4"/>
                    </a:lnTo>
                    <a:cubicBezTo>
                      <a:pt x="15724" y="4"/>
                      <a:pt x="15725" y="5"/>
                      <a:pt x="15725" y="6"/>
                    </a:cubicBezTo>
                    <a:cubicBezTo>
                      <a:pt x="15725" y="7"/>
                      <a:pt x="15724" y="8"/>
                      <a:pt x="15723" y="8"/>
                    </a:cubicBezTo>
                    <a:lnTo>
                      <a:pt x="15723" y="8"/>
                    </a:lnTo>
                    <a:cubicBezTo>
                      <a:pt x="15721" y="8"/>
                      <a:pt x="15721" y="7"/>
                      <a:pt x="15721" y="6"/>
                    </a:cubicBezTo>
                    <a:cubicBezTo>
                      <a:pt x="15721" y="5"/>
                      <a:pt x="15721" y="4"/>
                      <a:pt x="15723" y="4"/>
                    </a:cubicBezTo>
                    <a:close/>
                    <a:moveTo>
                      <a:pt x="15731" y="4"/>
                    </a:moveTo>
                    <a:lnTo>
                      <a:pt x="15731" y="4"/>
                    </a:lnTo>
                    <a:cubicBezTo>
                      <a:pt x="15732" y="4"/>
                      <a:pt x="15733" y="5"/>
                      <a:pt x="15733" y="6"/>
                    </a:cubicBezTo>
                    <a:cubicBezTo>
                      <a:pt x="15733" y="7"/>
                      <a:pt x="15732" y="8"/>
                      <a:pt x="15731" y="8"/>
                    </a:cubicBezTo>
                    <a:lnTo>
                      <a:pt x="15731" y="8"/>
                    </a:lnTo>
                    <a:cubicBezTo>
                      <a:pt x="15729" y="8"/>
                      <a:pt x="15729" y="7"/>
                      <a:pt x="15729" y="6"/>
                    </a:cubicBezTo>
                    <a:cubicBezTo>
                      <a:pt x="15729" y="5"/>
                      <a:pt x="15729" y="4"/>
                      <a:pt x="15731" y="4"/>
                    </a:cubicBezTo>
                    <a:close/>
                    <a:moveTo>
                      <a:pt x="15739" y="4"/>
                    </a:moveTo>
                    <a:lnTo>
                      <a:pt x="15739" y="4"/>
                    </a:lnTo>
                    <a:cubicBezTo>
                      <a:pt x="15740" y="4"/>
                      <a:pt x="15741" y="5"/>
                      <a:pt x="15741" y="6"/>
                    </a:cubicBezTo>
                    <a:cubicBezTo>
                      <a:pt x="15741" y="7"/>
                      <a:pt x="15740" y="8"/>
                      <a:pt x="15739" y="8"/>
                    </a:cubicBezTo>
                    <a:lnTo>
                      <a:pt x="15739" y="8"/>
                    </a:lnTo>
                    <a:cubicBezTo>
                      <a:pt x="15737" y="8"/>
                      <a:pt x="15737" y="7"/>
                      <a:pt x="15737" y="6"/>
                    </a:cubicBezTo>
                    <a:cubicBezTo>
                      <a:pt x="15737" y="5"/>
                      <a:pt x="15737" y="4"/>
                      <a:pt x="15739" y="4"/>
                    </a:cubicBezTo>
                    <a:close/>
                    <a:moveTo>
                      <a:pt x="15747" y="4"/>
                    </a:moveTo>
                    <a:lnTo>
                      <a:pt x="15747" y="4"/>
                    </a:lnTo>
                    <a:cubicBezTo>
                      <a:pt x="15748" y="4"/>
                      <a:pt x="15749" y="5"/>
                      <a:pt x="15749" y="6"/>
                    </a:cubicBezTo>
                    <a:cubicBezTo>
                      <a:pt x="15749" y="7"/>
                      <a:pt x="15748" y="8"/>
                      <a:pt x="15747" y="8"/>
                    </a:cubicBezTo>
                    <a:lnTo>
                      <a:pt x="15747" y="8"/>
                    </a:lnTo>
                    <a:cubicBezTo>
                      <a:pt x="15745" y="8"/>
                      <a:pt x="15745" y="7"/>
                      <a:pt x="15745" y="6"/>
                    </a:cubicBezTo>
                    <a:cubicBezTo>
                      <a:pt x="15745" y="5"/>
                      <a:pt x="15745" y="4"/>
                      <a:pt x="15747" y="4"/>
                    </a:cubicBezTo>
                    <a:close/>
                    <a:moveTo>
                      <a:pt x="15755" y="4"/>
                    </a:moveTo>
                    <a:lnTo>
                      <a:pt x="15755" y="4"/>
                    </a:lnTo>
                    <a:cubicBezTo>
                      <a:pt x="15756" y="4"/>
                      <a:pt x="15757" y="5"/>
                      <a:pt x="15757" y="6"/>
                    </a:cubicBezTo>
                    <a:cubicBezTo>
                      <a:pt x="15757" y="7"/>
                      <a:pt x="15756" y="8"/>
                      <a:pt x="15755" y="8"/>
                    </a:cubicBezTo>
                    <a:lnTo>
                      <a:pt x="15755" y="8"/>
                    </a:lnTo>
                    <a:cubicBezTo>
                      <a:pt x="15753" y="8"/>
                      <a:pt x="15753" y="7"/>
                      <a:pt x="15753" y="6"/>
                    </a:cubicBezTo>
                    <a:cubicBezTo>
                      <a:pt x="15753" y="5"/>
                      <a:pt x="15753" y="4"/>
                      <a:pt x="15755" y="4"/>
                    </a:cubicBezTo>
                    <a:close/>
                    <a:moveTo>
                      <a:pt x="15763" y="4"/>
                    </a:moveTo>
                    <a:lnTo>
                      <a:pt x="15763" y="4"/>
                    </a:lnTo>
                    <a:cubicBezTo>
                      <a:pt x="15764" y="4"/>
                      <a:pt x="15765" y="5"/>
                      <a:pt x="15765" y="6"/>
                    </a:cubicBezTo>
                    <a:cubicBezTo>
                      <a:pt x="15765" y="7"/>
                      <a:pt x="15764" y="8"/>
                      <a:pt x="15763" y="8"/>
                    </a:cubicBezTo>
                    <a:lnTo>
                      <a:pt x="15763" y="8"/>
                    </a:lnTo>
                    <a:cubicBezTo>
                      <a:pt x="15761" y="8"/>
                      <a:pt x="15761" y="7"/>
                      <a:pt x="15761" y="6"/>
                    </a:cubicBezTo>
                    <a:cubicBezTo>
                      <a:pt x="15761" y="5"/>
                      <a:pt x="15761" y="4"/>
                      <a:pt x="15763" y="4"/>
                    </a:cubicBezTo>
                    <a:close/>
                    <a:moveTo>
                      <a:pt x="15771" y="4"/>
                    </a:moveTo>
                    <a:lnTo>
                      <a:pt x="15771" y="4"/>
                    </a:lnTo>
                    <a:cubicBezTo>
                      <a:pt x="15772" y="4"/>
                      <a:pt x="15773" y="5"/>
                      <a:pt x="15773" y="6"/>
                    </a:cubicBezTo>
                    <a:cubicBezTo>
                      <a:pt x="15773" y="7"/>
                      <a:pt x="15772" y="8"/>
                      <a:pt x="15771" y="8"/>
                    </a:cubicBezTo>
                    <a:lnTo>
                      <a:pt x="15771" y="8"/>
                    </a:lnTo>
                    <a:cubicBezTo>
                      <a:pt x="15769" y="8"/>
                      <a:pt x="15769" y="7"/>
                      <a:pt x="15769" y="6"/>
                    </a:cubicBezTo>
                    <a:cubicBezTo>
                      <a:pt x="15769" y="5"/>
                      <a:pt x="15769" y="4"/>
                      <a:pt x="15771" y="4"/>
                    </a:cubicBezTo>
                    <a:close/>
                    <a:moveTo>
                      <a:pt x="15779" y="4"/>
                    </a:moveTo>
                    <a:lnTo>
                      <a:pt x="15779" y="4"/>
                    </a:lnTo>
                    <a:cubicBezTo>
                      <a:pt x="15780" y="4"/>
                      <a:pt x="15781" y="5"/>
                      <a:pt x="15781" y="6"/>
                    </a:cubicBezTo>
                    <a:cubicBezTo>
                      <a:pt x="15781" y="7"/>
                      <a:pt x="15780" y="8"/>
                      <a:pt x="15779" y="8"/>
                    </a:cubicBezTo>
                    <a:lnTo>
                      <a:pt x="15779" y="8"/>
                    </a:lnTo>
                    <a:cubicBezTo>
                      <a:pt x="15777" y="8"/>
                      <a:pt x="15777" y="7"/>
                      <a:pt x="15777" y="6"/>
                    </a:cubicBezTo>
                    <a:cubicBezTo>
                      <a:pt x="15777" y="5"/>
                      <a:pt x="15777" y="4"/>
                      <a:pt x="15779" y="4"/>
                    </a:cubicBezTo>
                    <a:close/>
                    <a:moveTo>
                      <a:pt x="15787" y="4"/>
                    </a:moveTo>
                    <a:lnTo>
                      <a:pt x="15787" y="4"/>
                    </a:lnTo>
                    <a:cubicBezTo>
                      <a:pt x="15788" y="4"/>
                      <a:pt x="15789" y="5"/>
                      <a:pt x="15789" y="6"/>
                    </a:cubicBezTo>
                    <a:cubicBezTo>
                      <a:pt x="15789" y="7"/>
                      <a:pt x="15788" y="8"/>
                      <a:pt x="15787" y="8"/>
                    </a:cubicBezTo>
                    <a:lnTo>
                      <a:pt x="15787" y="8"/>
                    </a:lnTo>
                    <a:cubicBezTo>
                      <a:pt x="15785" y="8"/>
                      <a:pt x="15785" y="7"/>
                      <a:pt x="15785" y="6"/>
                    </a:cubicBezTo>
                    <a:cubicBezTo>
                      <a:pt x="15785" y="5"/>
                      <a:pt x="15785" y="4"/>
                      <a:pt x="15787" y="4"/>
                    </a:cubicBezTo>
                    <a:close/>
                    <a:moveTo>
                      <a:pt x="15795" y="4"/>
                    </a:moveTo>
                    <a:lnTo>
                      <a:pt x="15795" y="4"/>
                    </a:lnTo>
                    <a:cubicBezTo>
                      <a:pt x="15796" y="4"/>
                      <a:pt x="15797" y="5"/>
                      <a:pt x="15797" y="6"/>
                    </a:cubicBezTo>
                    <a:cubicBezTo>
                      <a:pt x="15797" y="7"/>
                      <a:pt x="15796" y="8"/>
                      <a:pt x="15795" y="8"/>
                    </a:cubicBezTo>
                    <a:lnTo>
                      <a:pt x="15795" y="8"/>
                    </a:lnTo>
                    <a:cubicBezTo>
                      <a:pt x="15793" y="8"/>
                      <a:pt x="15793" y="7"/>
                      <a:pt x="15793" y="6"/>
                    </a:cubicBezTo>
                    <a:cubicBezTo>
                      <a:pt x="15793" y="5"/>
                      <a:pt x="15793" y="4"/>
                      <a:pt x="15795" y="4"/>
                    </a:cubicBezTo>
                    <a:close/>
                    <a:moveTo>
                      <a:pt x="15803" y="4"/>
                    </a:moveTo>
                    <a:lnTo>
                      <a:pt x="15803" y="4"/>
                    </a:lnTo>
                    <a:cubicBezTo>
                      <a:pt x="15804" y="4"/>
                      <a:pt x="15805" y="5"/>
                      <a:pt x="15805" y="6"/>
                    </a:cubicBezTo>
                    <a:cubicBezTo>
                      <a:pt x="15805" y="7"/>
                      <a:pt x="15804" y="8"/>
                      <a:pt x="15803" y="8"/>
                    </a:cubicBezTo>
                    <a:lnTo>
                      <a:pt x="15803" y="8"/>
                    </a:lnTo>
                    <a:cubicBezTo>
                      <a:pt x="15801" y="8"/>
                      <a:pt x="15801" y="7"/>
                      <a:pt x="15801" y="6"/>
                    </a:cubicBezTo>
                    <a:cubicBezTo>
                      <a:pt x="15801" y="5"/>
                      <a:pt x="15801" y="4"/>
                      <a:pt x="15803" y="4"/>
                    </a:cubicBezTo>
                    <a:close/>
                    <a:moveTo>
                      <a:pt x="15811" y="4"/>
                    </a:moveTo>
                    <a:lnTo>
                      <a:pt x="15811" y="4"/>
                    </a:lnTo>
                    <a:cubicBezTo>
                      <a:pt x="15812" y="4"/>
                      <a:pt x="15813" y="5"/>
                      <a:pt x="15813" y="6"/>
                    </a:cubicBezTo>
                    <a:cubicBezTo>
                      <a:pt x="15813" y="7"/>
                      <a:pt x="15812" y="8"/>
                      <a:pt x="15811" y="8"/>
                    </a:cubicBezTo>
                    <a:lnTo>
                      <a:pt x="15811" y="8"/>
                    </a:lnTo>
                    <a:cubicBezTo>
                      <a:pt x="15809" y="8"/>
                      <a:pt x="15809" y="7"/>
                      <a:pt x="15809" y="6"/>
                    </a:cubicBezTo>
                    <a:cubicBezTo>
                      <a:pt x="15809" y="5"/>
                      <a:pt x="15809" y="4"/>
                      <a:pt x="15811" y="4"/>
                    </a:cubicBezTo>
                    <a:close/>
                    <a:moveTo>
                      <a:pt x="15819" y="4"/>
                    </a:moveTo>
                    <a:lnTo>
                      <a:pt x="15819" y="4"/>
                    </a:lnTo>
                    <a:cubicBezTo>
                      <a:pt x="15820" y="4"/>
                      <a:pt x="15821" y="5"/>
                      <a:pt x="15821" y="6"/>
                    </a:cubicBezTo>
                    <a:cubicBezTo>
                      <a:pt x="15821" y="7"/>
                      <a:pt x="15820" y="8"/>
                      <a:pt x="15819" y="8"/>
                    </a:cubicBezTo>
                    <a:lnTo>
                      <a:pt x="15819" y="8"/>
                    </a:lnTo>
                    <a:cubicBezTo>
                      <a:pt x="15817" y="8"/>
                      <a:pt x="15817" y="7"/>
                      <a:pt x="15817" y="6"/>
                    </a:cubicBezTo>
                    <a:cubicBezTo>
                      <a:pt x="15817" y="5"/>
                      <a:pt x="15817" y="4"/>
                      <a:pt x="15819" y="4"/>
                    </a:cubicBezTo>
                    <a:close/>
                    <a:moveTo>
                      <a:pt x="15827" y="4"/>
                    </a:moveTo>
                    <a:lnTo>
                      <a:pt x="15827" y="4"/>
                    </a:lnTo>
                    <a:cubicBezTo>
                      <a:pt x="15828" y="4"/>
                      <a:pt x="15829" y="5"/>
                      <a:pt x="15829" y="6"/>
                    </a:cubicBezTo>
                    <a:cubicBezTo>
                      <a:pt x="15829" y="7"/>
                      <a:pt x="15828" y="8"/>
                      <a:pt x="15827" y="8"/>
                    </a:cubicBezTo>
                    <a:lnTo>
                      <a:pt x="15827" y="8"/>
                    </a:lnTo>
                    <a:cubicBezTo>
                      <a:pt x="15826" y="8"/>
                      <a:pt x="15825" y="7"/>
                      <a:pt x="15825" y="6"/>
                    </a:cubicBezTo>
                    <a:cubicBezTo>
                      <a:pt x="15825" y="5"/>
                      <a:pt x="15826" y="4"/>
                      <a:pt x="15827" y="4"/>
                    </a:cubicBezTo>
                    <a:close/>
                    <a:moveTo>
                      <a:pt x="15835" y="4"/>
                    </a:moveTo>
                    <a:lnTo>
                      <a:pt x="15835" y="4"/>
                    </a:lnTo>
                    <a:cubicBezTo>
                      <a:pt x="15836" y="4"/>
                      <a:pt x="15837" y="5"/>
                      <a:pt x="15837" y="6"/>
                    </a:cubicBezTo>
                    <a:cubicBezTo>
                      <a:pt x="15837" y="7"/>
                      <a:pt x="15836" y="8"/>
                      <a:pt x="15835" y="8"/>
                    </a:cubicBezTo>
                    <a:lnTo>
                      <a:pt x="15835" y="8"/>
                    </a:lnTo>
                    <a:cubicBezTo>
                      <a:pt x="15834" y="8"/>
                      <a:pt x="15833" y="7"/>
                      <a:pt x="15833" y="6"/>
                    </a:cubicBezTo>
                    <a:cubicBezTo>
                      <a:pt x="15833" y="5"/>
                      <a:pt x="15834" y="4"/>
                      <a:pt x="15835" y="4"/>
                    </a:cubicBezTo>
                    <a:close/>
                    <a:moveTo>
                      <a:pt x="15843" y="4"/>
                    </a:moveTo>
                    <a:lnTo>
                      <a:pt x="15843" y="4"/>
                    </a:lnTo>
                    <a:cubicBezTo>
                      <a:pt x="15844" y="4"/>
                      <a:pt x="15845" y="5"/>
                      <a:pt x="15845" y="6"/>
                    </a:cubicBezTo>
                    <a:cubicBezTo>
                      <a:pt x="15845" y="7"/>
                      <a:pt x="15844" y="8"/>
                      <a:pt x="15843" y="8"/>
                    </a:cubicBezTo>
                    <a:lnTo>
                      <a:pt x="15843" y="8"/>
                    </a:lnTo>
                    <a:cubicBezTo>
                      <a:pt x="15842" y="8"/>
                      <a:pt x="15841" y="7"/>
                      <a:pt x="15841" y="6"/>
                    </a:cubicBezTo>
                    <a:cubicBezTo>
                      <a:pt x="15841" y="5"/>
                      <a:pt x="15842" y="4"/>
                      <a:pt x="15843" y="4"/>
                    </a:cubicBezTo>
                    <a:close/>
                    <a:moveTo>
                      <a:pt x="15851" y="4"/>
                    </a:moveTo>
                    <a:lnTo>
                      <a:pt x="15851" y="4"/>
                    </a:lnTo>
                    <a:cubicBezTo>
                      <a:pt x="15852" y="4"/>
                      <a:pt x="15853" y="5"/>
                      <a:pt x="15853" y="6"/>
                    </a:cubicBezTo>
                    <a:cubicBezTo>
                      <a:pt x="15853" y="7"/>
                      <a:pt x="15852" y="8"/>
                      <a:pt x="15851" y="8"/>
                    </a:cubicBezTo>
                    <a:lnTo>
                      <a:pt x="15851" y="8"/>
                    </a:lnTo>
                    <a:cubicBezTo>
                      <a:pt x="15850" y="8"/>
                      <a:pt x="15849" y="7"/>
                      <a:pt x="15849" y="6"/>
                    </a:cubicBezTo>
                    <a:cubicBezTo>
                      <a:pt x="15849" y="5"/>
                      <a:pt x="15850" y="4"/>
                      <a:pt x="15851" y="4"/>
                    </a:cubicBezTo>
                    <a:close/>
                    <a:moveTo>
                      <a:pt x="15859" y="4"/>
                    </a:moveTo>
                    <a:lnTo>
                      <a:pt x="15859" y="4"/>
                    </a:lnTo>
                    <a:cubicBezTo>
                      <a:pt x="15860" y="4"/>
                      <a:pt x="15861" y="5"/>
                      <a:pt x="15861" y="6"/>
                    </a:cubicBezTo>
                    <a:cubicBezTo>
                      <a:pt x="15861" y="7"/>
                      <a:pt x="15860" y="8"/>
                      <a:pt x="15859" y="8"/>
                    </a:cubicBezTo>
                    <a:lnTo>
                      <a:pt x="15859" y="8"/>
                    </a:lnTo>
                    <a:cubicBezTo>
                      <a:pt x="15858" y="8"/>
                      <a:pt x="15857" y="7"/>
                      <a:pt x="15857" y="6"/>
                    </a:cubicBezTo>
                    <a:cubicBezTo>
                      <a:pt x="15857" y="5"/>
                      <a:pt x="15858" y="4"/>
                      <a:pt x="15859" y="4"/>
                    </a:cubicBezTo>
                    <a:close/>
                    <a:moveTo>
                      <a:pt x="15867" y="4"/>
                    </a:moveTo>
                    <a:lnTo>
                      <a:pt x="15867" y="4"/>
                    </a:lnTo>
                    <a:cubicBezTo>
                      <a:pt x="15868" y="4"/>
                      <a:pt x="15869" y="5"/>
                      <a:pt x="15869" y="6"/>
                    </a:cubicBezTo>
                    <a:cubicBezTo>
                      <a:pt x="15869" y="7"/>
                      <a:pt x="15868" y="8"/>
                      <a:pt x="15867" y="8"/>
                    </a:cubicBezTo>
                    <a:lnTo>
                      <a:pt x="15867" y="8"/>
                    </a:lnTo>
                    <a:cubicBezTo>
                      <a:pt x="15866" y="8"/>
                      <a:pt x="15865" y="7"/>
                      <a:pt x="15865" y="6"/>
                    </a:cubicBezTo>
                    <a:cubicBezTo>
                      <a:pt x="15865" y="5"/>
                      <a:pt x="15866" y="4"/>
                      <a:pt x="15867" y="4"/>
                    </a:cubicBezTo>
                    <a:close/>
                    <a:moveTo>
                      <a:pt x="15875" y="4"/>
                    </a:moveTo>
                    <a:lnTo>
                      <a:pt x="15875" y="4"/>
                    </a:lnTo>
                    <a:cubicBezTo>
                      <a:pt x="15876" y="4"/>
                      <a:pt x="15877" y="5"/>
                      <a:pt x="15877" y="6"/>
                    </a:cubicBezTo>
                    <a:cubicBezTo>
                      <a:pt x="15877" y="7"/>
                      <a:pt x="15876" y="8"/>
                      <a:pt x="15875" y="8"/>
                    </a:cubicBezTo>
                    <a:lnTo>
                      <a:pt x="15875" y="8"/>
                    </a:lnTo>
                    <a:cubicBezTo>
                      <a:pt x="15874" y="8"/>
                      <a:pt x="15873" y="7"/>
                      <a:pt x="15873" y="6"/>
                    </a:cubicBezTo>
                    <a:cubicBezTo>
                      <a:pt x="15873" y="5"/>
                      <a:pt x="15874" y="4"/>
                      <a:pt x="15875" y="4"/>
                    </a:cubicBezTo>
                    <a:close/>
                    <a:moveTo>
                      <a:pt x="15883" y="4"/>
                    </a:moveTo>
                    <a:lnTo>
                      <a:pt x="15883" y="4"/>
                    </a:lnTo>
                    <a:cubicBezTo>
                      <a:pt x="15884" y="4"/>
                      <a:pt x="15885" y="5"/>
                      <a:pt x="15885" y="6"/>
                    </a:cubicBezTo>
                    <a:cubicBezTo>
                      <a:pt x="15885" y="7"/>
                      <a:pt x="15884" y="8"/>
                      <a:pt x="15883" y="8"/>
                    </a:cubicBezTo>
                    <a:lnTo>
                      <a:pt x="15883" y="8"/>
                    </a:lnTo>
                    <a:cubicBezTo>
                      <a:pt x="15882" y="8"/>
                      <a:pt x="15881" y="7"/>
                      <a:pt x="15881" y="6"/>
                    </a:cubicBezTo>
                    <a:cubicBezTo>
                      <a:pt x="15881" y="5"/>
                      <a:pt x="15882" y="4"/>
                      <a:pt x="15883" y="4"/>
                    </a:cubicBezTo>
                    <a:close/>
                    <a:moveTo>
                      <a:pt x="15891" y="4"/>
                    </a:moveTo>
                    <a:lnTo>
                      <a:pt x="15891" y="4"/>
                    </a:lnTo>
                    <a:cubicBezTo>
                      <a:pt x="15892" y="4"/>
                      <a:pt x="15893" y="5"/>
                      <a:pt x="15893" y="6"/>
                    </a:cubicBezTo>
                    <a:cubicBezTo>
                      <a:pt x="15893" y="7"/>
                      <a:pt x="15892" y="8"/>
                      <a:pt x="15891" y="8"/>
                    </a:cubicBezTo>
                    <a:lnTo>
                      <a:pt x="15891" y="8"/>
                    </a:lnTo>
                    <a:cubicBezTo>
                      <a:pt x="15890" y="8"/>
                      <a:pt x="15889" y="7"/>
                      <a:pt x="15889" y="6"/>
                    </a:cubicBezTo>
                    <a:cubicBezTo>
                      <a:pt x="15889" y="5"/>
                      <a:pt x="15890" y="4"/>
                      <a:pt x="15891" y="4"/>
                    </a:cubicBezTo>
                    <a:close/>
                    <a:moveTo>
                      <a:pt x="15899" y="4"/>
                    </a:moveTo>
                    <a:lnTo>
                      <a:pt x="15899" y="4"/>
                    </a:lnTo>
                    <a:cubicBezTo>
                      <a:pt x="15900" y="4"/>
                      <a:pt x="15901" y="5"/>
                      <a:pt x="15901" y="6"/>
                    </a:cubicBezTo>
                    <a:cubicBezTo>
                      <a:pt x="15901" y="7"/>
                      <a:pt x="15900" y="8"/>
                      <a:pt x="15899" y="8"/>
                    </a:cubicBezTo>
                    <a:lnTo>
                      <a:pt x="15899" y="8"/>
                    </a:lnTo>
                    <a:cubicBezTo>
                      <a:pt x="15898" y="8"/>
                      <a:pt x="15897" y="7"/>
                      <a:pt x="15897" y="6"/>
                    </a:cubicBezTo>
                    <a:cubicBezTo>
                      <a:pt x="15897" y="5"/>
                      <a:pt x="15898" y="4"/>
                      <a:pt x="15899" y="4"/>
                    </a:cubicBezTo>
                    <a:close/>
                    <a:moveTo>
                      <a:pt x="15907" y="4"/>
                    </a:moveTo>
                    <a:lnTo>
                      <a:pt x="15907" y="4"/>
                    </a:lnTo>
                    <a:cubicBezTo>
                      <a:pt x="15908" y="4"/>
                      <a:pt x="15909" y="5"/>
                      <a:pt x="15909" y="6"/>
                    </a:cubicBezTo>
                    <a:cubicBezTo>
                      <a:pt x="15909" y="7"/>
                      <a:pt x="15908" y="8"/>
                      <a:pt x="15907" y="8"/>
                    </a:cubicBezTo>
                    <a:lnTo>
                      <a:pt x="15907" y="8"/>
                    </a:lnTo>
                    <a:cubicBezTo>
                      <a:pt x="15906" y="8"/>
                      <a:pt x="15905" y="7"/>
                      <a:pt x="15905" y="6"/>
                    </a:cubicBezTo>
                    <a:cubicBezTo>
                      <a:pt x="15905" y="5"/>
                      <a:pt x="15906" y="4"/>
                      <a:pt x="15907" y="4"/>
                    </a:cubicBezTo>
                    <a:close/>
                    <a:moveTo>
                      <a:pt x="15915" y="4"/>
                    </a:moveTo>
                    <a:lnTo>
                      <a:pt x="15915" y="4"/>
                    </a:lnTo>
                    <a:cubicBezTo>
                      <a:pt x="15916" y="4"/>
                      <a:pt x="15917" y="5"/>
                      <a:pt x="15917" y="6"/>
                    </a:cubicBezTo>
                    <a:cubicBezTo>
                      <a:pt x="15917" y="7"/>
                      <a:pt x="15916" y="8"/>
                      <a:pt x="15915" y="8"/>
                    </a:cubicBezTo>
                    <a:lnTo>
                      <a:pt x="15915" y="8"/>
                    </a:lnTo>
                    <a:cubicBezTo>
                      <a:pt x="15914" y="8"/>
                      <a:pt x="15913" y="7"/>
                      <a:pt x="15913" y="6"/>
                    </a:cubicBezTo>
                    <a:cubicBezTo>
                      <a:pt x="15913" y="5"/>
                      <a:pt x="15914" y="4"/>
                      <a:pt x="15915" y="4"/>
                    </a:cubicBezTo>
                    <a:close/>
                    <a:moveTo>
                      <a:pt x="15923" y="4"/>
                    </a:moveTo>
                    <a:lnTo>
                      <a:pt x="15923" y="4"/>
                    </a:lnTo>
                    <a:cubicBezTo>
                      <a:pt x="15924" y="4"/>
                      <a:pt x="15925" y="5"/>
                      <a:pt x="15925" y="6"/>
                    </a:cubicBezTo>
                    <a:cubicBezTo>
                      <a:pt x="15925" y="7"/>
                      <a:pt x="15924" y="8"/>
                      <a:pt x="15923" y="8"/>
                    </a:cubicBezTo>
                    <a:lnTo>
                      <a:pt x="15923" y="8"/>
                    </a:lnTo>
                    <a:cubicBezTo>
                      <a:pt x="15922" y="8"/>
                      <a:pt x="15921" y="7"/>
                      <a:pt x="15921" y="6"/>
                    </a:cubicBezTo>
                    <a:cubicBezTo>
                      <a:pt x="15921" y="5"/>
                      <a:pt x="15922" y="4"/>
                      <a:pt x="15923" y="4"/>
                    </a:cubicBezTo>
                    <a:close/>
                    <a:moveTo>
                      <a:pt x="15931" y="4"/>
                    </a:moveTo>
                    <a:lnTo>
                      <a:pt x="15931" y="4"/>
                    </a:lnTo>
                    <a:cubicBezTo>
                      <a:pt x="15932" y="4"/>
                      <a:pt x="15933" y="5"/>
                      <a:pt x="15933" y="6"/>
                    </a:cubicBezTo>
                    <a:cubicBezTo>
                      <a:pt x="15933" y="7"/>
                      <a:pt x="15932" y="8"/>
                      <a:pt x="15931" y="8"/>
                    </a:cubicBezTo>
                    <a:lnTo>
                      <a:pt x="15931" y="8"/>
                    </a:lnTo>
                    <a:cubicBezTo>
                      <a:pt x="15930" y="8"/>
                      <a:pt x="15929" y="7"/>
                      <a:pt x="15929" y="6"/>
                    </a:cubicBezTo>
                    <a:cubicBezTo>
                      <a:pt x="15929" y="5"/>
                      <a:pt x="15930" y="4"/>
                      <a:pt x="15931" y="4"/>
                    </a:cubicBezTo>
                    <a:close/>
                    <a:moveTo>
                      <a:pt x="15939" y="4"/>
                    </a:moveTo>
                    <a:lnTo>
                      <a:pt x="15939" y="4"/>
                    </a:lnTo>
                    <a:cubicBezTo>
                      <a:pt x="15940" y="4"/>
                      <a:pt x="15941" y="5"/>
                      <a:pt x="15941" y="6"/>
                    </a:cubicBezTo>
                    <a:cubicBezTo>
                      <a:pt x="15941" y="7"/>
                      <a:pt x="15940" y="8"/>
                      <a:pt x="15939" y="8"/>
                    </a:cubicBezTo>
                    <a:lnTo>
                      <a:pt x="15939" y="8"/>
                    </a:lnTo>
                    <a:cubicBezTo>
                      <a:pt x="15938" y="8"/>
                      <a:pt x="15937" y="7"/>
                      <a:pt x="15937" y="6"/>
                    </a:cubicBezTo>
                    <a:cubicBezTo>
                      <a:pt x="15937" y="5"/>
                      <a:pt x="15938" y="4"/>
                      <a:pt x="15939" y="4"/>
                    </a:cubicBezTo>
                    <a:close/>
                    <a:moveTo>
                      <a:pt x="15947" y="4"/>
                    </a:moveTo>
                    <a:lnTo>
                      <a:pt x="15947" y="4"/>
                    </a:lnTo>
                    <a:cubicBezTo>
                      <a:pt x="15948" y="4"/>
                      <a:pt x="15949" y="5"/>
                      <a:pt x="15949" y="6"/>
                    </a:cubicBezTo>
                    <a:cubicBezTo>
                      <a:pt x="15949" y="7"/>
                      <a:pt x="15948" y="8"/>
                      <a:pt x="15947" y="8"/>
                    </a:cubicBezTo>
                    <a:lnTo>
                      <a:pt x="15947" y="8"/>
                    </a:lnTo>
                    <a:cubicBezTo>
                      <a:pt x="15946" y="8"/>
                      <a:pt x="15945" y="7"/>
                      <a:pt x="15945" y="6"/>
                    </a:cubicBezTo>
                    <a:cubicBezTo>
                      <a:pt x="15945" y="5"/>
                      <a:pt x="15946" y="4"/>
                      <a:pt x="15947" y="4"/>
                    </a:cubicBezTo>
                    <a:close/>
                    <a:moveTo>
                      <a:pt x="15955" y="4"/>
                    </a:moveTo>
                    <a:lnTo>
                      <a:pt x="15955" y="4"/>
                    </a:lnTo>
                    <a:cubicBezTo>
                      <a:pt x="15956" y="4"/>
                      <a:pt x="15957" y="5"/>
                      <a:pt x="15957" y="6"/>
                    </a:cubicBezTo>
                    <a:cubicBezTo>
                      <a:pt x="15957" y="7"/>
                      <a:pt x="15956" y="8"/>
                      <a:pt x="15955" y="8"/>
                    </a:cubicBezTo>
                    <a:lnTo>
                      <a:pt x="15955" y="8"/>
                    </a:lnTo>
                    <a:cubicBezTo>
                      <a:pt x="15954" y="8"/>
                      <a:pt x="15953" y="7"/>
                      <a:pt x="15953" y="6"/>
                    </a:cubicBezTo>
                    <a:cubicBezTo>
                      <a:pt x="15953" y="5"/>
                      <a:pt x="15954" y="4"/>
                      <a:pt x="15955" y="4"/>
                    </a:cubicBezTo>
                    <a:close/>
                    <a:moveTo>
                      <a:pt x="15963" y="4"/>
                    </a:moveTo>
                    <a:lnTo>
                      <a:pt x="15963" y="4"/>
                    </a:lnTo>
                    <a:cubicBezTo>
                      <a:pt x="15964" y="4"/>
                      <a:pt x="15965" y="5"/>
                      <a:pt x="15965" y="6"/>
                    </a:cubicBezTo>
                    <a:cubicBezTo>
                      <a:pt x="15965" y="7"/>
                      <a:pt x="15964" y="8"/>
                      <a:pt x="15963" y="8"/>
                    </a:cubicBezTo>
                    <a:lnTo>
                      <a:pt x="15963" y="8"/>
                    </a:lnTo>
                    <a:cubicBezTo>
                      <a:pt x="15962" y="8"/>
                      <a:pt x="15961" y="7"/>
                      <a:pt x="15961" y="6"/>
                    </a:cubicBezTo>
                    <a:cubicBezTo>
                      <a:pt x="15961" y="5"/>
                      <a:pt x="15962" y="4"/>
                      <a:pt x="15963" y="4"/>
                    </a:cubicBezTo>
                    <a:close/>
                    <a:moveTo>
                      <a:pt x="15971" y="4"/>
                    </a:moveTo>
                    <a:lnTo>
                      <a:pt x="15971" y="4"/>
                    </a:lnTo>
                    <a:cubicBezTo>
                      <a:pt x="15972" y="4"/>
                      <a:pt x="15973" y="5"/>
                      <a:pt x="15973" y="6"/>
                    </a:cubicBezTo>
                    <a:cubicBezTo>
                      <a:pt x="15973" y="7"/>
                      <a:pt x="15972" y="8"/>
                      <a:pt x="15971" y="8"/>
                    </a:cubicBezTo>
                    <a:lnTo>
                      <a:pt x="15971" y="8"/>
                    </a:lnTo>
                    <a:cubicBezTo>
                      <a:pt x="15970" y="8"/>
                      <a:pt x="15969" y="7"/>
                      <a:pt x="15969" y="6"/>
                    </a:cubicBezTo>
                    <a:cubicBezTo>
                      <a:pt x="15969" y="5"/>
                      <a:pt x="15970" y="4"/>
                      <a:pt x="15971" y="4"/>
                    </a:cubicBezTo>
                    <a:close/>
                    <a:moveTo>
                      <a:pt x="15979" y="4"/>
                    </a:moveTo>
                    <a:lnTo>
                      <a:pt x="15979" y="4"/>
                    </a:lnTo>
                    <a:cubicBezTo>
                      <a:pt x="15980" y="4"/>
                      <a:pt x="15981" y="5"/>
                      <a:pt x="15981" y="6"/>
                    </a:cubicBezTo>
                    <a:cubicBezTo>
                      <a:pt x="15981" y="7"/>
                      <a:pt x="15980" y="8"/>
                      <a:pt x="15979" y="8"/>
                    </a:cubicBezTo>
                    <a:lnTo>
                      <a:pt x="15979" y="8"/>
                    </a:lnTo>
                    <a:cubicBezTo>
                      <a:pt x="15978" y="8"/>
                      <a:pt x="15977" y="7"/>
                      <a:pt x="15977" y="6"/>
                    </a:cubicBezTo>
                    <a:cubicBezTo>
                      <a:pt x="15977" y="5"/>
                      <a:pt x="15978" y="4"/>
                      <a:pt x="15979" y="4"/>
                    </a:cubicBezTo>
                    <a:close/>
                    <a:moveTo>
                      <a:pt x="15987" y="4"/>
                    </a:moveTo>
                    <a:lnTo>
                      <a:pt x="15987" y="4"/>
                    </a:lnTo>
                    <a:cubicBezTo>
                      <a:pt x="15988" y="4"/>
                      <a:pt x="15989" y="5"/>
                      <a:pt x="15989" y="6"/>
                    </a:cubicBezTo>
                    <a:cubicBezTo>
                      <a:pt x="15989" y="7"/>
                      <a:pt x="15988" y="8"/>
                      <a:pt x="15987" y="8"/>
                    </a:cubicBezTo>
                    <a:lnTo>
                      <a:pt x="15987" y="8"/>
                    </a:lnTo>
                    <a:cubicBezTo>
                      <a:pt x="15986" y="8"/>
                      <a:pt x="15985" y="7"/>
                      <a:pt x="15985" y="6"/>
                    </a:cubicBezTo>
                    <a:cubicBezTo>
                      <a:pt x="15985" y="5"/>
                      <a:pt x="15986" y="4"/>
                      <a:pt x="15987" y="4"/>
                    </a:cubicBezTo>
                    <a:close/>
                    <a:moveTo>
                      <a:pt x="15995" y="4"/>
                    </a:moveTo>
                    <a:lnTo>
                      <a:pt x="15995" y="4"/>
                    </a:lnTo>
                    <a:cubicBezTo>
                      <a:pt x="15996" y="4"/>
                      <a:pt x="15997" y="5"/>
                      <a:pt x="15997" y="6"/>
                    </a:cubicBezTo>
                    <a:cubicBezTo>
                      <a:pt x="15997" y="7"/>
                      <a:pt x="15996" y="8"/>
                      <a:pt x="15995" y="8"/>
                    </a:cubicBezTo>
                    <a:lnTo>
                      <a:pt x="15995" y="8"/>
                    </a:lnTo>
                    <a:cubicBezTo>
                      <a:pt x="15994" y="8"/>
                      <a:pt x="15993" y="7"/>
                      <a:pt x="15993" y="6"/>
                    </a:cubicBezTo>
                    <a:cubicBezTo>
                      <a:pt x="15993" y="5"/>
                      <a:pt x="15994" y="4"/>
                      <a:pt x="15995" y="4"/>
                    </a:cubicBezTo>
                    <a:close/>
                    <a:moveTo>
                      <a:pt x="16003" y="4"/>
                    </a:moveTo>
                    <a:lnTo>
                      <a:pt x="16003" y="4"/>
                    </a:lnTo>
                    <a:cubicBezTo>
                      <a:pt x="16004" y="4"/>
                      <a:pt x="16005" y="5"/>
                      <a:pt x="16005" y="6"/>
                    </a:cubicBezTo>
                    <a:cubicBezTo>
                      <a:pt x="16005" y="7"/>
                      <a:pt x="16004" y="8"/>
                      <a:pt x="16003" y="8"/>
                    </a:cubicBezTo>
                    <a:lnTo>
                      <a:pt x="16003" y="8"/>
                    </a:lnTo>
                    <a:cubicBezTo>
                      <a:pt x="16002" y="8"/>
                      <a:pt x="16001" y="7"/>
                      <a:pt x="16001" y="6"/>
                    </a:cubicBezTo>
                    <a:cubicBezTo>
                      <a:pt x="16001" y="5"/>
                      <a:pt x="16002" y="4"/>
                      <a:pt x="16003" y="4"/>
                    </a:cubicBezTo>
                    <a:close/>
                    <a:moveTo>
                      <a:pt x="16011" y="4"/>
                    </a:moveTo>
                    <a:lnTo>
                      <a:pt x="16011" y="4"/>
                    </a:lnTo>
                    <a:cubicBezTo>
                      <a:pt x="16012" y="4"/>
                      <a:pt x="16013" y="5"/>
                      <a:pt x="16013" y="6"/>
                    </a:cubicBezTo>
                    <a:cubicBezTo>
                      <a:pt x="16013" y="7"/>
                      <a:pt x="16012" y="8"/>
                      <a:pt x="16011" y="8"/>
                    </a:cubicBezTo>
                    <a:lnTo>
                      <a:pt x="16011" y="8"/>
                    </a:lnTo>
                    <a:cubicBezTo>
                      <a:pt x="16010" y="8"/>
                      <a:pt x="16009" y="7"/>
                      <a:pt x="16009" y="6"/>
                    </a:cubicBezTo>
                    <a:cubicBezTo>
                      <a:pt x="16009" y="5"/>
                      <a:pt x="16010" y="4"/>
                      <a:pt x="16011" y="4"/>
                    </a:cubicBezTo>
                    <a:close/>
                    <a:moveTo>
                      <a:pt x="16019" y="4"/>
                    </a:moveTo>
                    <a:lnTo>
                      <a:pt x="16019" y="4"/>
                    </a:lnTo>
                    <a:cubicBezTo>
                      <a:pt x="16020" y="4"/>
                      <a:pt x="16021" y="5"/>
                      <a:pt x="16021" y="6"/>
                    </a:cubicBezTo>
                    <a:cubicBezTo>
                      <a:pt x="16021" y="7"/>
                      <a:pt x="16020" y="8"/>
                      <a:pt x="16019" y="8"/>
                    </a:cubicBezTo>
                    <a:lnTo>
                      <a:pt x="16019" y="8"/>
                    </a:lnTo>
                    <a:cubicBezTo>
                      <a:pt x="16018" y="8"/>
                      <a:pt x="16017" y="7"/>
                      <a:pt x="16017" y="6"/>
                    </a:cubicBezTo>
                    <a:cubicBezTo>
                      <a:pt x="16017" y="5"/>
                      <a:pt x="16018" y="4"/>
                      <a:pt x="16019" y="4"/>
                    </a:cubicBezTo>
                    <a:close/>
                    <a:moveTo>
                      <a:pt x="16027" y="4"/>
                    </a:moveTo>
                    <a:lnTo>
                      <a:pt x="16027" y="4"/>
                    </a:lnTo>
                    <a:cubicBezTo>
                      <a:pt x="16028" y="4"/>
                      <a:pt x="16029" y="5"/>
                      <a:pt x="16029" y="6"/>
                    </a:cubicBezTo>
                    <a:cubicBezTo>
                      <a:pt x="16029" y="7"/>
                      <a:pt x="16028" y="8"/>
                      <a:pt x="16027" y="8"/>
                    </a:cubicBezTo>
                    <a:lnTo>
                      <a:pt x="16027" y="8"/>
                    </a:lnTo>
                    <a:cubicBezTo>
                      <a:pt x="16026" y="8"/>
                      <a:pt x="16025" y="7"/>
                      <a:pt x="16025" y="6"/>
                    </a:cubicBezTo>
                    <a:cubicBezTo>
                      <a:pt x="16025" y="5"/>
                      <a:pt x="16026" y="4"/>
                      <a:pt x="16027" y="4"/>
                    </a:cubicBezTo>
                    <a:close/>
                    <a:moveTo>
                      <a:pt x="16035" y="4"/>
                    </a:moveTo>
                    <a:lnTo>
                      <a:pt x="16035" y="4"/>
                    </a:lnTo>
                    <a:cubicBezTo>
                      <a:pt x="16036" y="4"/>
                      <a:pt x="16037" y="5"/>
                      <a:pt x="16037" y="6"/>
                    </a:cubicBezTo>
                    <a:cubicBezTo>
                      <a:pt x="16037" y="7"/>
                      <a:pt x="16036" y="8"/>
                      <a:pt x="16035" y="8"/>
                    </a:cubicBezTo>
                    <a:lnTo>
                      <a:pt x="16035" y="8"/>
                    </a:lnTo>
                    <a:cubicBezTo>
                      <a:pt x="16034" y="8"/>
                      <a:pt x="16033" y="7"/>
                      <a:pt x="16033" y="6"/>
                    </a:cubicBezTo>
                    <a:cubicBezTo>
                      <a:pt x="16033" y="5"/>
                      <a:pt x="16034" y="4"/>
                      <a:pt x="16035" y="4"/>
                    </a:cubicBezTo>
                    <a:close/>
                    <a:moveTo>
                      <a:pt x="16043" y="4"/>
                    </a:moveTo>
                    <a:lnTo>
                      <a:pt x="16043" y="4"/>
                    </a:lnTo>
                    <a:cubicBezTo>
                      <a:pt x="16044" y="4"/>
                      <a:pt x="16045" y="5"/>
                      <a:pt x="16045" y="6"/>
                    </a:cubicBezTo>
                    <a:cubicBezTo>
                      <a:pt x="16045" y="7"/>
                      <a:pt x="16044" y="8"/>
                      <a:pt x="16043" y="8"/>
                    </a:cubicBezTo>
                    <a:lnTo>
                      <a:pt x="16043" y="8"/>
                    </a:lnTo>
                    <a:cubicBezTo>
                      <a:pt x="16042" y="8"/>
                      <a:pt x="16041" y="7"/>
                      <a:pt x="16041" y="6"/>
                    </a:cubicBezTo>
                    <a:cubicBezTo>
                      <a:pt x="16041" y="5"/>
                      <a:pt x="16042" y="4"/>
                      <a:pt x="16043" y="4"/>
                    </a:cubicBezTo>
                    <a:close/>
                    <a:moveTo>
                      <a:pt x="16051" y="4"/>
                    </a:moveTo>
                    <a:lnTo>
                      <a:pt x="16051" y="4"/>
                    </a:lnTo>
                    <a:cubicBezTo>
                      <a:pt x="16052" y="4"/>
                      <a:pt x="16053" y="5"/>
                      <a:pt x="16053" y="6"/>
                    </a:cubicBezTo>
                    <a:cubicBezTo>
                      <a:pt x="16053" y="7"/>
                      <a:pt x="16052" y="8"/>
                      <a:pt x="16051" y="8"/>
                    </a:cubicBezTo>
                    <a:lnTo>
                      <a:pt x="16051" y="8"/>
                    </a:lnTo>
                    <a:cubicBezTo>
                      <a:pt x="16050" y="8"/>
                      <a:pt x="16049" y="7"/>
                      <a:pt x="16049" y="6"/>
                    </a:cubicBezTo>
                    <a:cubicBezTo>
                      <a:pt x="16049" y="5"/>
                      <a:pt x="16050" y="4"/>
                      <a:pt x="16051" y="4"/>
                    </a:cubicBezTo>
                    <a:close/>
                    <a:moveTo>
                      <a:pt x="16059" y="4"/>
                    </a:moveTo>
                    <a:lnTo>
                      <a:pt x="16059" y="4"/>
                    </a:lnTo>
                    <a:cubicBezTo>
                      <a:pt x="16060" y="4"/>
                      <a:pt x="16061" y="5"/>
                      <a:pt x="16061" y="6"/>
                    </a:cubicBezTo>
                    <a:cubicBezTo>
                      <a:pt x="16061" y="7"/>
                      <a:pt x="16060" y="8"/>
                      <a:pt x="16059" y="8"/>
                    </a:cubicBezTo>
                    <a:lnTo>
                      <a:pt x="16059" y="8"/>
                    </a:lnTo>
                    <a:cubicBezTo>
                      <a:pt x="16058" y="8"/>
                      <a:pt x="16057" y="7"/>
                      <a:pt x="16057" y="6"/>
                    </a:cubicBezTo>
                    <a:cubicBezTo>
                      <a:pt x="16057" y="5"/>
                      <a:pt x="16058" y="4"/>
                      <a:pt x="16059" y="4"/>
                    </a:cubicBezTo>
                    <a:close/>
                    <a:moveTo>
                      <a:pt x="16067" y="4"/>
                    </a:moveTo>
                    <a:lnTo>
                      <a:pt x="16067" y="4"/>
                    </a:lnTo>
                    <a:cubicBezTo>
                      <a:pt x="16068" y="4"/>
                      <a:pt x="16069" y="5"/>
                      <a:pt x="16069" y="6"/>
                    </a:cubicBezTo>
                    <a:cubicBezTo>
                      <a:pt x="16069" y="7"/>
                      <a:pt x="16068" y="8"/>
                      <a:pt x="16067" y="8"/>
                    </a:cubicBezTo>
                    <a:lnTo>
                      <a:pt x="16067" y="8"/>
                    </a:lnTo>
                    <a:cubicBezTo>
                      <a:pt x="16066" y="8"/>
                      <a:pt x="16065" y="7"/>
                      <a:pt x="16065" y="6"/>
                    </a:cubicBezTo>
                    <a:cubicBezTo>
                      <a:pt x="16065" y="5"/>
                      <a:pt x="16066" y="4"/>
                      <a:pt x="16067" y="4"/>
                    </a:cubicBezTo>
                    <a:close/>
                    <a:moveTo>
                      <a:pt x="16075" y="4"/>
                    </a:moveTo>
                    <a:lnTo>
                      <a:pt x="16075" y="4"/>
                    </a:lnTo>
                    <a:cubicBezTo>
                      <a:pt x="16076" y="4"/>
                      <a:pt x="16077" y="5"/>
                      <a:pt x="16077" y="6"/>
                    </a:cubicBezTo>
                    <a:cubicBezTo>
                      <a:pt x="16077" y="7"/>
                      <a:pt x="16076" y="8"/>
                      <a:pt x="16075" y="8"/>
                    </a:cubicBezTo>
                    <a:lnTo>
                      <a:pt x="16075" y="8"/>
                    </a:lnTo>
                    <a:cubicBezTo>
                      <a:pt x="16074" y="8"/>
                      <a:pt x="16073" y="7"/>
                      <a:pt x="16073" y="6"/>
                    </a:cubicBezTo>
                    <a:cubicBezTo>
                      <a:pt x="16073" y="5"/>
                      <a:pt x="16074" y="4"/>
                      <a:pt x="16075" y="4"/>
                    </a:cubicBezTo>
                    <a:close/>
                    <a:moveTo>
                      <a:pt x="16083" y="4"/>
                    </a:moveTo>
                    <a:lnTo>
                      <a:pt x="16083" y="4"/>
                    </a:lnTo>
                    <a:cubicBezTo>
                      <a:pt x="16084" y="4"/>
                      <a:pt x="16085" y="5"/>
                      <a:pt x="16085" y="6"/>
                    </a:cubicBezTo>
                    <a:cubicBezTo>
                      <a:pt x="16085" y="7"/>
                      <a:pt x="16084" y="8"/>
                      <a:pt x="16083" y="8"/>
                    </a:cubicBezTo>
                    <a:lnTo>
                      <a:pt x="16083" y="8"/>
                    </a:lnTo>
                    <a:cubicBezTo>
                      <a:pt x="16082" y="8"/>
                      <a:pt x="16081" y="7"/>
                      <a:pt x="16081" y="6"/>
                    </a:cubicBezTo>
                    <a:cubicBezTo>
                      <a:pt x="16081" y="5"/>
                      <a:pt x="16082" y="4"/>
                      <a:pt x="16083" y="4"/>
                    </a:cubicBezTo>
                    <a:close/>
                    <a:moveTo>
                      <a:pt x="16091" y="4"/>
                    </a:moveTo>
                    <a:lnTo>
                      <a:pt x="16091" y="4"/>
                    </a:lnTo>
                    <a:cubicBezTo>
                      <a:pt x="16092" y="4"/>
                      <a:pt x="16093" y="5"/>
                      <a:pt x="16093" y="6"/>
                    </a:cubicBezTo>
                    <a:cubicBezTo>
                      <a:pt x="16093" y="7"/>
                      <a:pt x="16092" y="8"/>
                      <a:pt x="16091" y="8"/>
                    </a:cubicBezTo>
                    <a:lnTo>
                      <a:pt x="16091" y="8"/>
                    </a:lnTo>
                    <a:cubicBezTo>
                      <a:pt x="16090" y="8"/>
                      <a:pt x="16089" y="7"/>
                      <a:pt x="16089" y="6"/>
                    </a:cubicBezTo>
                    <a:cubicBezTo>
                      <a:pt x="16089" y="5"/>
                      <a:pt x="16090" y="4"/>
                      <a:pt x="16091" y="4"/>
                    </a:cubicBezTo>
                    <a:close/>
                    <a:moveTo>
                      <a:pt x="16099" y="4"/>
                    </a:moveTo>
                    <a:lnTo>
                      <a:pt x="16099" y="4"/>
                    </a:lnTo>
                    <a:cubicBezTo>
                      <a:pt x="16100" y="4"/>
                      <a:pt x="16101" y="5"/>
                      <a:pt x="16101" y="6"/>
                    </a:cubicBezTo>
                    <a:cubicBezTo>
                      <a:pt x="16101" y="7"/>
                      <a:pt x="16100" y="8"/>
                      <a:pt x="16099" y="8"/>
                    </a:cubicBezTo>
                    <a:lnTo>
                      <a:pt x="16099" y="8"/>
                    </a:lnTo>
                    <a:cubicBezTo>
                      <a:pt x="16098" y="8"/>
                      <a:pt x="16097" y="7"/>
                      <a:pt x="16097" y="6"/>
                    </a:cubicBezTo>
                    <a:cubicBezTo>
                      <a:pt x="16097" y="5"/>
                      <a:pt x="16098" y="4"/>
                      <a:pt x="16099" y="4"/>
                    </a:cubicBezTo>
                    <a:close/>
                    <a:moveTo>
                      <a:pt x="16107" y="4"/>
                    </a:moveTo>
                    <a:lnTo>
                      <a:pt x="16107" y="4"/>
                    </a:lnTo>
                    <a:cubicBezTo>
                      <a:pt x="16108" y="4"/>
                      <a:pt x="16109" y="5"/>
                      <a:pt x="16109" y="6"/>
                    </a:cubicBezTo>
                    <a:cubicBezTo>
                      <a:pt x="16109" y="7"/>
                      <a:pt x="16108" y="8"/>
                      <a:pt x="16107" y="8"/>
                    </a:cubicBezTo>
                    <a:lnTo>
                      <a:pt x="16107" y="8"/>
                    </a:lnTo>
                    <a:cubicBezTo>
                      <a:pt x="16106" y="8"/>
                      <a:pt x="16105" y="7"/>
                      <a:pt x="16105" y="6"/>
                    </a:cubicBezTo>
                    <a:cubicBezTo>
                      <a:pt x="16105" y="5"/>
                      <a:pt x="16106" y="4"/>
                      <a:pt x="16107" y="4"/>
                    </a:cubicBezTo>
                    <a:close/>
                    <a:moveTo>
                      <a:pt x="16115" y="4"/>
                    </a:moveTo>
                    <a:lnTo>
                      <a:pt x="16115" y="4"/>
                    </a:lnTo>
                    <a:cubicBezTo>
                      <a:pt x="16116" y="4"/>
                      <a:pt x="16117" y="5"/>
                      <a:pt x="16117" y="6"/>
                    </a:cubicBezTo>
                    <a:cubicBezTo>
                      <a:pt x="16117" y="7"/>
                      <a:pt x="16116" y="8"/>
                      <a:pt x="16115" y="8"/>
                    </a:cubicBezTo>
                    <a:lnTo>
                      <a:pt x="16115" y="8"/>
                    </a:lnTo>
                    <a:cubicBezTo>
                      <a:pt x="16114" y="8"/>
                      <a:pt x="16113" y="7"/>
                      <a:pt x="16113" y="6"/>
                    </a:cubicBezTo>
                    <a:cubicBezTo>
                      <a:pt x="16113" y="5"/>
                      <a:pt x="16114" y="4"/>
                      <a:pt x="16115" y="4"/>
                    </a:cubicBezTo>
                    <a:close/>
                    <a:moveTo>
                      <a:pt x="16123" y="4"/>
                    </a:moveTo>
                    <a:lnTo>
                      <a:pt x="16123" y="4"/>
                    </a:lnTo>
                    <a:cubicBezTo>
                      <a:pt x="16124" y="4"/>
                      <a:pt x="16125" y="5"/>
                      <a:pt x="16125" y="6"/>
                    </a:cubicBezTo>
                    <a:cubicBezTo>
                      <a:pt x="16125" y="7"/>
                      <a:pt x="16124" y="8"/>
                      <a:pt x="16123" y="8"/>
                    </a:cubicBezTo>
                    <a:lnTo>
                      <a:pt x="16123" y="8"/>
                    </a:lnTo>
                    <a:cubicBezTo>
                      <a:pt x="16122" y="8"/>
                      <a:pt x="16121" y="7"/>
                      <a:pt x="16121" y="6"/>
                    </a:cubicBezTo>
                    <a:cubicBezTo>
                      <a:pt x="16121" y="5"/>
                      <a:pt x="16122" y="4"/>
                      <a:pt x="16123" y="4"/>
                    </a:cubicBezTo>
                    <a:close/>
                    <a:moveTo>
                      <a:pt x="16131" y="4"/>
                    </a:moveTo>
                    <a:lnTo>
                      <a:pt x="16131" y="4"/>
                    </a:lnTo>
                    <a:cubicBezTo>
                      <a:pt x="16132" y="4"/>
                      <a:pt x="16133" y="5"/>
                      <a:pt x="16133" y="6"/>
                    </a:cubicBezTo>
                    <a:cubicBezTo>
                      <a:pt x="16133" y="7"/>
                      <a:pt x="16132" y="8"/>
                      <a:pt x="16131" y="8"/>
                    </a:cubicBezTo>
                    <a:lnTo>
                      <a:pt x="16131" y="8"/>
                    </a:lnTo>
                    <a:cubicBezTo>
                      <a:pt x="16130" y="8"/>
                      <a:pt x="16129" y="7"/>
                      <a:pt x="16129" y="6"/>
                    </a:cubicBezTo>
                    <a:cubicBezTo>
                      <a:pt x="16129" y="5"/>
                      <a:pt x="16130" y="4"/>
                      <a:pt x="16131" y="4"/>
                    </a:cubicBezTo>
                    <a:close/>
                    <a:moveTo>
                      <a:pt x="16139" y="4"/>
                    </a:moveTo>
                    <a:lnTo>
                      <a:pt x="16139" y="4"/>
                    </a:lnTo>
                    <a:cubicBezTo>
                      <a:pt x="16140" y="4"/>
                      <a:pt x="16141" y="5"/>
                      <a:pt x="16141" y="6"/>
                    </a:cubicBezTo>
                    <a:cubicBezTo>
                      <a:pt x="16141" y="7"/>
                      <a:pt x="16140" y="8"/>
                      <a:pt x="16139" y="8"/>
                    </a:cubicBezTo>
                    <a:lnTo>
                      <a:pt x="16139" y="8"/>
                    </a:lnTo>
                    <a:cubicBezTo>
                      <a:pt x="16138" y="8"/>
                      <a:pt x="16137" y="7"/>
                      <a:pt x="16137" y="6"/>
                    </a:cubicBezTo>
                    <a:cubicBezTo>
                      <a:pt x="16137" y="5"/>
                      <a:pt x="16138" y="4"/>
                      <a:pt x="16139" y="4"/>
                    </a:cubicBezTo>
                    <a:close/>
                    <a:moveTo>
                      <a:pt x="16147" y="4"/>
                    </a:moveTo>
                    <a:lnTo>
                      <a:pt x="16147" y="4"/>
                    </a:lnTo>
                    <a:cubicBezTo>
                      <a:pt x="16148" y="4"/>
                      <a:pt x="16149" y="5"/>
                      <a:pt x="16149" y="6"/>
                    </a:cubicBezTo>
                    <a:cubicBezTo>
                      <a:pt x="16149" y="7"/>
                      <a:pt x="16148" y="8"/>
                      <a:pt x="16147" y="8"/>
                    </a:cubicBezTo>
                    <a:lnTo>
                      <a:pt x="16147" y="8"/>
                    </a:lnTo>
                    <a:cubicBezTo>
                      <a:pt x="16146" y="8"/>
                      <a:pt x="16145" y="7"/>
                      <a:pt x="16145" y="6"/>
                    </a:cubicBezTo>
                    <a:cubicBezTo>
                      <a:pt x="16145" y="5"/>
                      <a:pt x="16146" y="4"/>
                      <a:pt x="16147" y="4"/>
                    </a:cubicBezTo>
                    <a:close/>
                    <a:moveTo>
                      <a:pt x="16155" y="4"/>
                    </a:moveTo>
                    <a:lnTo>
                      <a:pt x="16155" y="4"/>
                    </a:lnTo>
                    <a:cubicBezTo>
                      <a:pt x="16156" y="4"/>
                      <a:pt x="16157" y="5"/>
                      <a:pt x="16157" y="6"/>
                    </a:cubicBezTo>
                    <a:cubicBezTo>
                      <a:pt x="16157" y="7"/>
                      <a:pt x="16156" y="8"/>
                      <a:pt x="16155" y="8"/>
                    </a:cubicBezTo>
                    <a:lnTo>
                      <a:pt x="16155" y="8"/>
                    </a:lnTo>
                    <a:cubicBezTo>
                      <a:pt x="16154" y="8"/>
                      <a:pt x="16153" y="7"/>
                      <a:pt x="16153" y="6"/>
                    </a:cubicBezTo>
                    <a:cubicBezTo>
                      <a:pt x="16153" y="5"/>
                      <a:pt x="16154" y="4"/>
                      <a:pt x="16155" y="4"/>
                    </a:cubicBezTo>
                    <a:close/>
                    <a:moveTo>
                      <a:pt x="16163" y="4"/>
                    </a:moveTo>
                    <a:lnTo>
                      <a:pt x="16163" y="4"/>
                    </a:lnTo>
                    <a:cubicBezTo>
                      <a:pt x="16164" y="4"/>
                      <a:pt x="16165" y="5"/>
                      <a:pt x="16165" y="6"/>
                    </a:cubicBezTo>
                    <a:cubicBezTo>
                      <a:pt x="16165" y="7"/>
                      <a:pt x="16164" y="8"/>
                      <a:pt x="16163" y="8"/>
                    </a:cubicBezTo>
                    <a:lnTo>
                      <a:pt x="16163" y="8"/>
                    </a:lnTo>
                    <a:cubicBezTo>
                      <a:pt x="16162" y="8"/>
                      <a:pt x="16161" y="7"/>
                      <a:pt x="16161" y="6"/>
                    </a:cubicBezTo>
                    <a:cubicBezTo>
                      <a:pt x="16161" y="5"/>
                      <a:pt x="16162" y="4"/>
                      <a:pt x="16163" y="4"/>
                    </a:cubicBezTo>
                    <a:close/>
                    <a:moveTo>
                      <a:pt x="16171" y="4"/>
                    </a:moveTo>
                    <a:lnTo>
                      <a:pt x="16171" y="4"/>
                    </a:lnTo>
                    <a:cubicBezTo>
                      <a:pt x="16172" y="4"/>
                      <a:pt x="16173" y="5"/>
                      <a:pt x="16173" y="6"/>
                    </a:cubicBezTo>
                    <a:cubicBezTo>
                      <a:pt x="16173" y="7"/>
                      <a:pt x="16172" y="8"/>
                      <a:pt x="16171" y="8"/>
                    </a:cubicBezTo>
                    <a:lnTo>
                      <a:pt x="16171" y="8"/>
                    </a:lnTo>
                    <a:cubicBezTo>
                      <a:pt x="16170" y="8"/>
                      <a:pt x="16169" y="7"/>
                      <a:pt x="16169" y="6"/>
                    </a:cubicBezTo>
                    <a:cubicBezTo>
                      <a:pt x="16169" y="5"/>
                      <a:pt x="16170" y="4"/>
                      <a:pt x="16171" y="4"/>
                    </a:cubicBezTo>
                    <a:close/>
                    <a:moveTo>
                      <a:pt x="16179" y="4"/>
                    </a:moveTo>
                    <a:lnTo>
                      <a:pt x="16179" y="4"/>
                    </a:lnTo>
                    <a:cubicBezTo>
                      <a:pt x="16180" y="4"/>
                      <a:pt x="16181" y="5"/>
                      <a:pt x="16181" y="6"/>
                    </a:cubicBezTo>
                    <a:cubicBezTo>
                      <a:pt x="16181" y="7"/>
                      <a:pt x="16180" y="8"/>
                      <a:pt x="16179" y="8"/>
                    </a:cubicBezTo>
                    <a:lnTo>
                      <a:pt x="16179" y="8"/>
                    </a:lnTo>
                    <a:cubicBezTo>
                      <a:pt x="16178" y="8"/>
                      <a:pt x="16177" y="7"/>
                      <a:pt x="16177" y="6"/>
                    </a:cubicBezTo>
                    <a:cubicBezTo>
                      <a:pt x="16177" y="5"/>
                      <a:pt x="16178" y="4"/>
                      <a:pt x="16179" y="4"/>
                    </a:cubicBezTo>
                    <a:close/>
                    <a:moveTo>
                      <a:pt x="16187" y="4"/>
                    </a:moveTo>
                    <a:lnTo>
                      <a:pt x="16187" y="4"/>
                    </a:lnTo>
                    <a:cubicBezTo>
                      <a:pt x="16188" y="4"/>
                      <a:pt x="16189" y="5"/>
                      <a:pt x="16189" y="6"/>
                    </a:cubicBezTo>
                    <a:cubicBezTo>
                      <a:pt x="16189" y="7"/>
                      <a:pt x="16188" y="8"/>
                      <a:pt x="16187" y="8"/>
                    </a:cubicBezTo>
                    <a:lnTo>
                      <a:pt x="16187" y="8"/>
                    </a:lnTo>
                    <a:cubicBezTo>
                      <a:pt x="16186" y="8"/>
                      <a:pt x="16185" y="7"/>
                      <a:pt x="16185" y="6"/>
                    </a:cubicBezTo>
                    <a:cubicBezTo>
                      <a:pt x="16185" y="5"/>
                      <a:pt x="16186" y="4"/>
                      <a:pt x="16187" y="4"/>
                    </a:cubicBezTo>
                    <a:close/>
                    <a:moveTo>
                      <a:pt x="16195" y="4"/>
                    </a:moveTo>
                    <a:lnTo>
                      <a:pt x="16195" y="4"/>
                    </a:lnTo>
                    <a:cubicBezTo>
                      <a:pt x="16196" y="4"/>
                      <a:pt x="16197" y="5"/>
                      <a:pt x="16197" y="6"/>
                    </a:cubicBezTo>
                    <a:cubicBezTo>
                      <a:pt x="16197" y="7"/>
                      <a:pt x="16196" y="8"/>
                      <a:pt x="16195" y="8"/>
                    </a:cubicBezTo>
                    <a:lnTo>
                      <a:pt x="16195" y="8"/>
                    </a:lnTo>
                    <a:cubicBezTo>
                      <a:pt x="16194" y="8"/>
                      <a:pt x="16193" y="7"/>
                      <a:pt x="16193" y="6"/>
                    </a:cubicBezTo>
                    <a:cubicBezTo>
                      <a:pt x="16193" y="5"/>
                      <a:pt x="16194" y="4"/>
                      <a:pt x="16195" y="4"/>
                    </a:cubicBezTo>
                    <a:close/>
                    <a:moveTo>
                      <a:pt x="16203" y="4"/>
                    </a:moveTo>
                    <a:lnTo>
                      <a:pt x="16203" y="4"/>
                    </a:lnTo>
                    <a:cubicBezTo>
                      <a:pt x="16204" y="4"/>
                      <a:pt x="16205" y="5"/>
                      <a:pt x="16205" y="6"/>
                    </a:cubicBezTo>
                    <a:cubicBezTo>
                      <a:pt x="16205" y="7"/>
                      <a:pt x="16204" y="8"/>
                      <a:pt x="16203" y="8"/>
                    </a:cubicBezTo>
                    <a:lnTo>
                      <a:pt x="16203" y="8"/>
                    </a:lnTo>
                    <a:cubicBezTo>
                      <a:pt x="16202" y="8"/>
                      <a:pt x="16201" y="7"/>
                      <a:pt x="16201" y="6"/>
                    </a:cubicBezTo>
                    <a:cubicBezTo>
                      <a:pt x="16201" y="5"/>
                      <a:pt x="16202" y="4"/>
                      <a:pt x="16203" y="4"/>
                    </a:cubicBezTo>
                    <a:close/>
                    <a:moveTo>
                      <a:pt x="16211" y="4"/>
                    </a:moveTo>
                    <a:lnTo>
                      <a:pt x="16211" y="4"/>
                    </a:lnTo>
                    <a:cubicBezTo>
                      <a:pt x="16212" y="4"/>
                      <a:pt x="16213" y="5"/>
                      <a:pt x="16213" y="6"/>
                    </a:cubicBezTo>
                    <a:cubicBezTo>
                      <a:pt x="16213" y="7"/>
                      <a:pt x="16212" y="8"/>
                      <a:pt x="16211" y="8"/>
                    </a:cubicBezTo>
                    <a:lnTo>
                      <a:pt x="16211" y="8"/>
                    </a:lnTo>
                    <a:cubicBezTo>
                      <a:pt x="16210" y="8"/>
                      <a:pt x="16209" y="7"/>
                      <a:pt x="16209" y="6"/>
                    </a:cubicBezTo>
                    <a:cubicBezTo>
                      <a:pt x="16209" y="5"/>
                      <a:pt x="16210" y="4"/>
                      <a:pt x="16211" y="4"/>
                    </a:cubicBezTo>
                    <a:close/>
                    <a:moveTo>
                      <a:pt x="16219" y="4"/>
                    </a:moveTo>
                    <a:lnTo>
                      <a:pt x="16219" y="4"/>
                    </a:lnTo>
                    <a:cubicBezTo>
                      <a:pt x="16220" y="4"/>
                      <a:pt x="16221" y="5"/>
                      <a:pt x="16221" y="6"/>
                    </a:cubicBezTo>
                    <a:cubicBezTo>
                      <a:pt x="16221" y="7"/>
                      <a:pt x="16220" y="8"/>
                      <a:pt x="16219" y="8"/>
                    </a:cubicBezTo>
                    <a:lnTo>
                      <a:pt x="16219" y="8"/>
                    </a:lnTo>
                    <a:cubicBezTo>
                      <a:pt x="16218" y="8"/>
                      <a:pt x="16217" y="7"/>
                      <a:pt x="16217" y="6"/>
                    </a:cubicBezTo>
                    <a:cubicBezTo>
                      <a:pt x="16217" y="5"/>
                      <a:pt x="16218" y="4"/>
                      <a:pt x="16219" y="4"/>
                    </a:cubicBezTo>
                    <a:close/>
                    <a:moveTo>
                      <a:pt x="16227" y="4"/>
                    </a:moveTo>
                    <a:lnTo>
                      <a:pt x="16227" y="4"/>
                    </a:lnTo>
                    <a:cubicBezTo>
                      <a:pt x="16228" y="4"/>
                      <a:pt x="16229" y="5"/>
                      <a:pt x="16229" y="6"/>
                    </a:cubicBezTo>
                    <a:cubicBezTo>
                      <a:pt x="16229" y="7"/>
                      <a:pt x="16228" y="8"/>
                      <a:pt x="16227" y="8"/>
                    </a:cubicBezTo>
                    <a:lnTo>
                      <a:pt x="16227" y="8"/>
                    </a:lnTo>
                    <a:cubicBezTo>
                      <a:pt x="16226" y="8"/>
                      <a:pt x="16225" y="7"/>
                      <a:pt x="16225" y="6"/>
                    </a:cubicBezTo>
                    <a:cubicBezTo>
                      <a:pt x="16225" y="5"/>
                      <a:pt x="16226" y="4"/>
                      <a:pt x="16227" y="4"/>
                    </a:cubicBezTo>
                    <a:close/>
                    <a:moveTo>
                      <a:pt x="16235" y="4"/>
                    </a:moveTo>
                    <a:lnTo>
                      <a:pt x="16235" y="4"/>
                    </a:lnTo>
                    <a:cubicBezTo>
                      <a:pt x="16236" y="4"/>
                      <a:pt x="16237" y="5"/>
                      <a:pt x="16237" y="6"/>
                    </a:cubicBezTo>
                    <a:cubicBezTo>
                      <a:pt x="16237" y="7"/>
                      <a:pt x="16236" y="8"/>
                      <a:pt x="16235" y="8"/>
                    </a:cubicBezTo>
                    <a:lnTo>
                      <a:pt x="16235" y="8"/>
                    </a:lnTo>
                    <a:cubicBezTo>
                      <a:pt x="16234" y="8"/>
                      <a:pt x="16233" y="7"/>
                      <a:pt x="16233" y="6"/>
                    </a:cubicBezTo>
                    <a:cubicBezTo>
                      <a:pt x="16233" y="5"/>
                      <a:pt x="16234" y="4"/>
                      <a:pt x="16235" y="4"/>
                    </a:cubicBezTo>
                    <a:close/>
                    <a:moveTo>
                      <a:pt x="16243" y="4"/>
                    </a:moveTo>
                    <a:lnTo>
                      <a:pt x="16243" y="4"/>
                    </a:lnTo>
                    <a:cubicBezTo>
                      <a:pt x="16244" y="4"/>
                      <a:pt x="16245" y="5"/>
                      <a:pt x="16245" y="6"/>
                    </a:cubicBezTo>
                    <a:cubicBezTo>
                      <a:pt x="16245" y="7"/>
                      <a:pt x="16244" y="8"/>
                      <a:pt x="16243" y="8"/>
                    </a:cubicBezTo>
                    <a:lnTo>
                      <a:pt x="16243" y="8"/>
                    </a:lnTo>
                    <a:cubicBezTo>
                      <a:pt x="16242" y="8"/>
                      <a:pt x="16241" y="7"/>
                      <a:pt x="16241" y="6"/>
                    </a:cubicBezTo>
                    <a:cubicBezTo>
                      <a:pt x="16241" y="5"/>
                      <a:pt x="16242" y="4"/>
                      <a:pt x="16243" y="4"/>
                    </a:cubicBezTo>
                    <a:close/>
                    <a:moveTo>
                      <a:pt x="16251" y="4"/>
                    </a:moveTo>
                    <a:lnTo>
                      <a:pt x="16251" y="4"/>
                    </a:lnTo>
                    <a:cubicBezTo>
                      <a:pt x="16252" y="4"/>
                      <a:pt x="16253" y="5"/>
                      <a:pt x="16253" y="6"/>
                    </a:cubicBezTo>
                    <a:cubicBezTo>
                      <a:pt x="16253" y="7"/>
                      <a:pt x="16252" y="8"/>
                      <a:pt x="16251" y="8"/>
                    </a:cubicBezTo>
                    <a:lnTo>
                      <a:pt x="16251" y="8"/>
                    </a:lnTo>
                    <a:cubicBezTo>
                      <a:pt x="16250" y="8"/>
                      <a:pt x="16249" y="7"/>
                      <a:pt x="16249" y="6"/>
                    </a:cubicBezTo>
                    <a:cubicBezTo>
                      <a:pt x="16249" y="5"/>
                      <a:pt x="16250" y="4"/>
                      <a:pt x="16251" y="4"/>
                    </a:cubicBezTo>
                    <a:close/>
                    <a:moveTo>
                      <a:pt x="16259" y="4"/>
                    </a:moveTo>
                    <a:lnTo>
                      <a:pt x="16259" y="4"/>
                    </a:lnTo>
                    <a:cubicBezTo>
                      <a:pt x="16260" y="4"/>
                      <a:pt x="16261" y="5"/>
                      <a:pt x="16261" y="6"/>
                    </a:cubicBezTo>
                    <a:cubicBezTo>
                      <a:pt x="16261" y="7"/>
                      <a:pt x="16260" y="8"/>
                      <a:pt x="16259" y="8"/>
                    </a:cubicBezTo>
                    <a:lnTo>
                      <a:pt x="16259" y="8"/>
                    </a:lnTo>
                    <a:cubicBezTo>
                      <a:pt x="16258" y="8"/>
                      <a:pt x="16257" y="7"/>
                      <a:pt x="16257" y="6"/>
                    </a:cubicBezTo>
                    <a:cubicBezTo>
                      <a:pt x="16257" y="5"/>
                      <a:pt x="16258" y="4"/>
                      <a:pt x="16259" y="4"/>
                    </a:cubicBezTo>
                    <a:close/>
                    <a:moveTo>
                      <a:pt x="16267" y="4"/>
                    </a:moveTo>
                    <a:lnTo>
                      <a:pt x="16267" y="4"/>
                    </a:lnTo>
                    <a:cubicBezTo>
                      <a:pt x="16268" y="4"/>
                      <a:pt x="16269" y="5"/>
                      <a:pt x="16269" y="6"/>
                    </a:cubicBezTo>
                    <a:cubicBezTo>
                      <a:pt x="16269" y="7"/>
                      <a:pt x="16268" y="8"/>
                      <a:pt x="16267" y="8"/>
                    </a:cubicBezTo>
                    <a:lnTo>
                      <a:pt x="16267" y="8"/>
                    </a:lnTo>
                    <a:cubicBezTo>
                      <a:pt x="16266" y="8"/>
                      <a:pt x="16265" y="7"/>
                      <a:pt x="16265" y="6"/>
                    </a:cubicBezTo>
                    <a:cubicBezTo>
                      <a:pt x="16265" y="5"/>
                      <a:pt x="16266" y="4"/>
                      <a:pt x="16267" y="4"/>
                    </a:cubicBezTo>
                    <a:close/>
                    <a:moveTo>
                      <a:pt x="16275" y="4"/>
                    </a:moveTo>
                    <a:lnTo>
                      <a:pt x="16275" y="4"/>
                    </a:lnTo>
                    <a:cubicBezTo>
                      <a:pt x="16276" y="4"/>
                      <a:pt x="16277" y="5"/>
                      <a:pt x="16277" y="6"/>
                    </a:cubicBezTo>
                    <a:cubicBezTo>
                      <a:pt x="16277" y="7"/>
                      <a:pt x="16276" y="8"/>
                      <a:pt x="16275" y="8"/>
                    </a:cubicBezTo>
                    <a:lnTo>
                      <a:pt x="16275" y="8"/>
                    </a:lnTo>
                    <a:cubicBezTo>
                      <a:pt x="16274" y="8"/>
                      <a:pt x="16273" y="7"/>
                      <a:pt x="16273" y="6"/>
                    </a:cubicBezTo>
                    <a:cubicBezTo>
                      <a:pt x="16273" y="5"/>
                      <a:pt x="16274" y="4"/>
                      <a:pt x="16275" y="4"/>
                    </a:cubicBezTo>
                    <a:close/>
                    <a:moveTo>
                      <a:pt x="16283" y="4"/>
                    </a:moveTo>
                    <a:lnTo>
                      <a:pt x="16283" y="4"/>
                    </a:lnTo>
                    <a:cubicBezTo>
                      <a:pt x="16284" y="4"/>
                      <a:pt x="16285" y="5"/>
                      <a:pt x="16285" y="6"/>
                    </a:cubicBezTo>
                    <a:cubicBezTo>
                      <a:pt x="16285" y="7"/>
                      <a:pt x="16284" y="8"/>
                      <a:pt x="16283" y="8"/>
                    </a:cubicBezTo>
                    <a:lnTo>
                      <a:pt x="16283" y="8"/>
                    </a:lnTo>
                    <a:cubicBezTo>
                      <a:pt x="16282" y="8"/>
                      <a:pt x="16281" y="7"/>
                      <a:pt x="16281" y="6"/>
                    </a:cubicBezTo>
                    <a:cubicBezTo>
                      <a:pt x="16281" y="5"/>
                      <a:pt x="16282" y="4"/>
                      <a:pt x="16283" y="4"/>
                    </a:cubicBezTo>
                    <a:close/>
                    <a:moveTo>
                      <a:pt x="16291" y="4"/>
                    </a:moveTo>
                    <a:lnTo>
                      <a:pt x="16291" y="4"/>
                    </a:lnTo>
                    <a:cubicBezTo>
                      <a:pt x="16292" y="4"/>
                      <a:pt x="16293" y="5"/>
                      <a:pt x="16293" y="6"/>
                    </a:cubicBezTo>
                    <a:cubicBezTo>
                      <a:pt x="16293" y="7"/>
                      <a:pt x="16292" y="8"/>
                      <a:pt x="16291" y="8"/>
                    </a:cubicBezTo>
                    <a:lnTo>
                      <a:pt x="16291" y="8"/>
                    </a:lnTo>
                    <a:cubicBezTo>
                      <a:pt x="16290" y="8"/>
                      <a:pt x="16289" y="7"/>
                      <a:pt x="16289" y="6"/>
                    </a:cubicBezTo>
                    <a:cubicBezTo>
                      <a:pt x="16289" y="5"/>
                      <a:pt x="16290" y="4"/>
                      <a:pt x="16291" y="4"/>
                    </a:cubicBezTo>
                    <a:close/>
                    <a:moveTo>
                      <a:pt x="16299" y="4"/>
                    </a:moveTo>
                    <a:lnTo>
                      <a:pt x="16299" y="4"/>
                    </a:lnTo>
                    <a:cubicBezTo>
                      <a:pt x="16300" y="4"/>
                      <a:pt x="16301" y="5"/>
                      <a:pt x="16301" y="6"/>
                    </a:cubicBezTo>
                    <a:cubicBezTo>
                      <a:pt x="16301" y="7"/>
                      <a:pt x="16300" y="8"/>
                      <a:pt x="16299" y="8"/>
                    </a:cubicBezTo>
                    <a:lnTo>
                      <a:pt x="16299" y="8"/>
                    </a:lnTo>
                    <a:cubicBezTo>
                      <a:pt x="16298" y="8"/>
                      <a:pt x="16297" y="7"/>
                      <a:pt x="16297" y="6"/>
                    </a:cubicBezTo>
                    <a:cubicBezTo>
                      <a:pt x="16297" y="5"/>
                      <a:pt x="16298" y="4"/>
                      <a:pt x="16299" y="4"/>
                    </a:cubicBezTo>
                    <a:close/>
                    <a:moveTo>
                      <a:pt x="16307" y="4"/>
                    </a:moveTo>
                    <a:lnTo>
                      <a:pt x="16307" y="4"/>
                    </a:lnTo>
                    <a:cubicBezTo>
                      <a:pt x="16308" y="4"/>
                      <a:pt x="16309" y="5"/>
                      <a:pt x="16309" y="6"/>
                    </a:cubicBezTo>
                    <a:cubicBezTo>
                      <a:pt x="16309" y="7"/>
                      <a:pt x="16308" y="8"/>
                      <a:pt x="16307" y="8"/>
                    </a:cubicBezTo>
                    <a:lnTo>
                      <a:pt x="16307" y="8"/>
                    </a:lnTo>
                    <a:cubicBezTo>
                      <a:pt x="16306" y="8"/>
                      <a:pt x="16305" y="7"/>
                      <a:pt x="16305" y="6"/>
                    </a:cubicBezTo>
                    <a:cubicBezTo>
                      <a:pt x="16305" y="5"/>
                      <a:pt x="16306" y="4"/>
                      <a:pt x="16307" y="4"/>
                    </a:cubicBezTo>
                    <a:close/>
                    <a:moveTo>
                      <a:pt x="16315" y="4"/>
                    </a:moveTo>
                    <a:lnTo>
                      <a:pt x="16315" y="4"/>
                    </a:lnTo>
                    <a:cubicBezTo>
                      <a:pt x="16316" y="4"/>
                      <a:pt x="16317" y="5"/>
                      <a:pt x="16317" y="6"/>
                    </a:cubicBezTo>
                    <a:cubicBezTo>
                      <a:pt x="16317" y="7"/>
                      <a:pt x="16316" y="8"/>
                      <a:pt x="16315" y="8"/>
                    </a:cubicBezTo>
                    <a:lnTo>
                      <a:pt x="16315" y="8"/>
                    </a:lnTo>
                    <a:cubicBezTo>
                      <a:pt x="16314" y="8"/>
                      <a:pt x="16313" y="7"/>
                      <a:pt x="16313" y="6"/>
                    </a:cubicBezTo>
                    <a:cubicBezTo>
                      <a:pt x="16313" y="5"/>
                      <a:pt x="16314" y="4"/>
                      <a:pt x="16315" y="4"/>
                    </a:cubicBezTo>
                    <a:close/>
                    <a:moveTo>
                      <a:pt x="16323" y="4"/>
                    </a:moveTo>
                    <a:lnTo>
                      <a:pt x="16323" y="4"/>
                    </a:lnTo>
                    <a:cubicBezTo>
                      <a:pt x="16324" y="4"/>
                      <a:pt x="16325" y="5"/>
                      <a:pt x="16325" y="6"/>
                    </a:cubicBezTo>
                    <a:cubicBezTo>
                      <a:pt x="16325" y="7"/>
                      <a:pt x="16324" y="8"/>
                      <a:pt x="16323" y="8"/>
                    </a:cubicBezTo>
                    <a:lnTo>
                      <a:pt x="16323" y="8"/>
                    </a:lnTo>
                    <a:cubicBezTo>
                      <a:pt x="16322" y="8"/>
                      <a:pt x="16321" y="7"/>
                      <a:pt x="16321" y="6"/>
                    </a:cubicBezTo>
                    <a:cubicBezTo>
                      <a:pt x="16321" y="5"/>
                      <a:pt x="16322" y="4"/>
                      <a:pt x="16323" y="4"/>
                    </a:cubicBezTo>
                    <a:close/>
                    <a:moveTo>
                      <a:pt x="16331" y="4"/>
                    </a:moveTo>
                    <a:lnTo>
                      <a:pt x="16331" y="4"/>
                    </a:lnTo>
                    <a:cubicBezTo>
                      <a:pt x="16332" y="4"/>
                      <a:pt x="16333" y="5"/>
                      <a:pt x="16333" y="6"/>
                    </a:cubicBezTo>
                    <a:cubicBezTo>
                      <a:pt x="16333" y="7"/>
                      <a:pt x="16332" y="8"/>
                      <a:pt x="16331" y="8"/>
                    </a:cubicBezTo>
                    <a:lnTo>
                      <a:pt x="16331" y="8"/>
                    </a:lnTo>
                    <a:cubicBezTo>
                      <a:pt x="16330" y="8"/>
                      <a:pt x="16329" y="7"/>
                      <a:pt x="16329" y="6"/>
                    </a:cubicBezTo>
                    <a:cubicBezTo>
                      <a:pt x="16329" y="5"/>
                      <a:pt x="16330" y="4"/>
                      <a:pt x="16331" y="4"/>
                    </a:cubicBezTo>
                    <a:close/>
                    <a:moveTo>
                      <a:pt x="16339" y="4"/>
                    </a:moveTo>
                    <a:lnTo>
                      <a:pt x="16339" y="4"/>
                    </a:lnTo>
                    <a:cubicBezTo>
                      <a:pt x="16340" y="4"/>
                      <a:pt x="16341" y="5"/>
                      <a:pt x="16341" y="6"/>
                    </a:cubicBezTo>
                    <a:cubicBezTo>
                      <a:pt x="16341" y="7"/>
                      <a:pt x="16340" y="8"/>
                      <a:pt x="16339" y="8"/>
                    </a:cubicBezTo>
                    <a:lnTo>
                      <a:pt x="16339" y="8"/>
                    </a:lnTo>
                    <a:cubicBezTo>
                      <a:pt x="16338" y="8"/>
                      <a:pt x="16337" y="7"/>
                      <a:pt x="16337" y="6"/>
                    </a:cubicBezTo>
                    <a:cubicBezTo>
                      <a:pt x="16337" y="5"/>
                      <a:pt x="16338" y="4"/>
                      <a:pt x="16339" y="4"/>
                    </a:cubicBezTo>
                    <a:close/>
                    <a:moveTo>
                      <a:pt x="16347" y="4"/>
                    </a:moveTo>
                    <a:lnTo>
                      <a:pt x="16347" y="4"/>
                    </a:lnTo>
                    <a:cubicBezTo>
                      <a:pt x="16348" y="4"/>
                      <a:pt x="16349" y="5"/>
                      <a:pt x="16349" y="6"/>
                    </a:cubicBezTo>
                    <a:cubicBezTo>
                      <a:pt x="16349" y="7"/>
                      <a:pt x="16348" y="8"/>
                      <a:pt x="16347" y="8"/>
                    </a:cubicBezTo>
                    <a:lnTo>
                      <a:pt x="16347" y="8"/>
                    </a:lnTo>
                    <a:cubicBezTo>
                      <a:pt x="16346" y="8"/>
                      <a:pt x="16345" y="7"/>
                      <a:pt x="16345" y="6"/>
                    </a:cubicBezTo>
                    <a:cubicBezTo>
                      <a:pt x="16345" y="5"/>
                      <a:pt x="16346" y="4"/>
                      <a:pt x="16347" y="4"/>
                    </a:cubicBezTo>
                    <a:close/>
                    <a:moveTo>
                      <a:pt x="16355" y="4"/>
                    </a:moveTo>
                    <a:lnTo>
                      <a:pt x="16355" y="4"/>
                    </a:lnTo>
                    <a:cubicBezTo>
                      <a:pt x="16356" y="4"/>
                      <a:pt x="16357" y="5"/>
                      <a:pt x="16357" y="6"/>
                    </a:cubicBezTo>
                    <a:cubicBezTo>
                      <a:pt x="16357" y="7"/>
                      <a:pt x="16356" y="8"/>
                      <a:pt x="16355" y="8"/>
                    </a:cubicBezTo>
                    <a:lnTo>
                      <a:pt x="16355" y="8"/>
                    </a:lnTo>
                    <a:cubicBezTo>
                      <a:pt x="16354" y="8"/>
                      <a:pt x="16353" y="7"/>
                      <a:pt x="16353" y="6"/>
                    </a:cubicBezTo>
                    <a:cubicBezTo>
                      <a:pt x="16353" y="5"/>
                      <a:pt x="16354" y="4"/>
                      <a:pt x="16355" y="4"/>
                    </a:cubicBezTo>
                    <a:close/>
                    <a:moveTo>
                      <a:pt x="16363" y="4"/>
                    </a:moveTo>
                    <a:lnTo>
                      <a:pt x="16363" y="4"/>
                    </a:lnTo>
                    <a:cubicBezTo>
                      <a:pt x="16364" y="4"/>
                      <a:pt x="16365" y="5"/>
                      <a:pt x="16365" y="6"/>
                    </a:cubicBezTo>
                    <a:cubicBezTo>
                      <a:pt x="16365" y="7"/>
                      <a:pt x="16364" y="8"/>
                      <a:pt x="16363" y="8"/>
                    </a:cubicBezTo>
                    <a:lnTo>
                      <a:pt x="16363" y="8"/>
                    </a:lnTo>
                    <a:cubicBezTo>
                      <a:pt x="16362" y="8"/>
                      <a:pt x="16361" y="7"/>
                      <a:pt x="16361" y="6"/>
                    </a:cubicBezTo>
                    <a:cubicBezTo>
                      <a:pt x="16361" y="5"/>
                      <a:pt x="16362" y="4"/>
                      <a:pt x="16363" y="4"/>
                    </a:cubicBezTo>
                    <a:close/>
                    <a:moveTo>
                      <a:pt x="16371" y="4"/>
                    </a:moveTo>
                    <a:lnTo>
                      <a:pt x="16371" y="4"/>
                    </a:lnTo>
                    <a:cubicBezTo>
                      <a:pt x="16372" y="4"/>
                      <a:pt x="16373" y="5"/>
                      <a:pt x="16373" y="6"/>
                    </a:cubicBezTo>
                    <a:cubicBezTo>
                      <a:pt x="16373" y="7"/>
                      <a:pt x="16372" y="8"/>
                      <a:pt x="16371" y="8"/>
                    </a:cubicBezTo>
                    <a:lnTo>
                      <a:pt x="16371" y="8"/>
                    </a:lnTo>
                    <a:cubicBezTo>
                      <a:pt x="16370" y="8"/>
                      <a:pt x="16369" y="7"/>
                      <a:pt x="16369" y="6"/>
                    </a:cubicBezTo>
                    <a:cubicBezTo>
                      <a:pt x="16369" y="5"/>
                      <a:pt x="16370" y="4"/>
                      <a:pt x="16371" y="4"/>
                    </a:cubicBezTo>
                    <a:close/>
                    <a:moveTo>
                      <a:pt x="16379" y="4"/>
                    </a:moveTo>
                    <a:lnTo>
                      <a:pt x="16379" y="4"/>
                    </a:lnTo>
                    <a:cubicBezTo>
                      <a:pt x="16380" y="4"/>
                      <a:pt x="16381" y="5"/>
                      <a:pt x="16381" y="6"/>
                    </a:cubicBezTo>
                    <a:cubicBezTo>
                      <a:pt x="16381" y="7"/>
                      <a:pt x="16380" y="8"/>
                      <a:pt x="16379" y="8"/>
                    </a:cubicBezTo>
                    <a:lnTo>
                      <a:pt x="16379" y="8"/>
                    </a:lnTo>
                    <a:cubicBezTo>
                      <a:pt x="16378" y="8"/>
                      <a:pt x="16377" y="7"/>
                      <a:pt x="16377" y="6"/>
                    </a:cubicBezTo>
                    <a:cubicBezTo>
                      <a:pt x="16377" y="5"/>
                      <a:pt x="16378" y="4"/>
                      <a:pt x="16379" y="4"/>
                    </a:cubicBezTo>
                    <a:close/>
                    <a:moveTo>
                      <a:pt x="16387" y="4"/>
                    </a:moveTo>
                    <a:lnTo>
                      <a:pt x="16387" y="4"/>
                    </a:lnTo>
                    <a:cubicBezTo>
                      <a:pt x="16388" y="4"/>
                      <a:pt x="16389" y="5"/>
                      <a:pt x="16389" y="6"/>
                    </a:cubicBezTo>
                    <a:cubicBezTo>
                      <a:pt x="16389" y="7"/>
                      <a:pt x="16388" y="8"/>
                      <a:pt x="16387" y="8"/>
                    </a:cubicBezTo>
                    <a:lnTo>
                      <a:pt x="16387" y="8"/>
                    </a:lnTo>
                    <a:cubicBezTo>
                      <a:pt x="16386" y="8"/>
                      <a:pt x="16385" y="7"/>
                      <a:pt x="16385" y="6"/>
                    </a:cubicBezTo>
                    <a:cubicBezTo>
                      <a:pt x="16385" y="5"/>
                      <a:pt x="16386" y="4"/>
                      <a:pt x="16387" y="4"/>
                    </a:cubicBezTo>
                    <a:close/>
                    <a:moveTo>
                      <a:pt x="16395" y="4"/>
                    </a:moveTo>
                    <a:lnTo>
                      <a:pt x="16395" y="4"/>
                    </a:lnTo>
                    <a:cubicBezTo>
                      <a:pt x="16396" y="4"/>
                      <a:pt x="16397" y="5"/>
                      <a:pt x="16397" y="6"/>
                    </a:cubicBezTo>
                    <a:cubicBezTo>
                      <a:pt x="16397" y="7"/>
                      <a:pt x="16396" y="8"/>
                      <a:pt x="16395" y="8"/>
                    </a:cubicBezTo>
                    <a:lnTo>
                      <a:pt x="16395" y="8"/>
                    </a:lnTo>
                    <a:cubicBezTo>
                      <a:pt x="16394" y="8"/>
                      <a:pt x="16393" y="7"/>
                      <a:pt x="16393" y="6"/>
                    </a:cubicBezTo>
                    <a:cubicBezTo>
                      <a:pt x="16393" y="5"/>
                      <a:pt x="16394" y="4"/>
                      <a:pt x="16395" y="4"/>
                    </a:cubicBezTo>
                    <a:close/>
                    <a:moveTo>
                      <a:pt x="16403" y="4"/>
                    </a:moveTo>
                    <a:lnTo>
                      <a:pt x="16403" y="4"/>
                    </a:lnTo>
                    <a:cubicBezTo>
                      <a:pt x="16404" y="4"/>
                      <a:pt x="16405" y="5"/>
                      <a:pt x="16405" y="6"/>
                    </a:cubicBezTo>
                    <a:cubicBezTo>
                      <a:pt x="16405" y="7"/>
                      <a:pt x="16404" y="8"/>
                      <a:pt x="16403" y="8"/>
                    </a:cubicBezTo>
                    <a:lnTo>
                      <a:pt x="16403" y="8"/>
                    </a:lnTo>
                    <a:cubicBezTo>
                      <a:pt x="16402" y="8"/>
                      <a:pt x="16401" y="7"/>
                      <a:pt x="16401" y="6"/>
                    </a:cubicBezTo>
                    <a:cubicBezTo>
                      <a:pt x="16401" y="5"/>
                      <a:pt x="16402" y="4"/>
                      <a:pt x="16403" y="4"/>
                    </a:cubicBezTo>
                    <a:close/>
                    <a:moveTo>
                      <a:pt x="16411" y="4"/>
                    </a:moveTo>
                    <a:lnTo>
                      <a:pt x="16411" y="4"/>
                    </a:lnTo>
                    <a:cubicBezTo>
                      <a:pt x="16412" y="4"/>
                      <a:pt x="16413" y="5"/>
                      <a:pt x="16413" y="6"/>
                    </a:cubicBezTo>
                    <a:cubicBezTo>
                      <a:pt x="16413" y="7"/>
                      <a:pt x="16412" y="8"/>
                      <a:pt x="16411" y="8"/>
                    </a:cubicBezTo>
                    <a:lnTo>
                      <a:pt x="16411" y="8"/>
                    </a:lnTo>
                    <a:cubicBezTo>
                      <a:pt x="16410" y="8"/>
                      <a:pt x="16409" y="7"/>
                      <a:pt x="16409" y="6"/>
                    </a:cubicBezTo>
                    <a:cubicBezTo>
                      <a:pt x="16409" y="5"/>
                      <a:pt x="16410" y="4"/>
                      <a:pt x="16411" y="4"/>
                    </a:cubicBezTo>
                    <a:close/>
                    <a:moveTo>
                      <a:pt x="16419" y="4"/>
                    </a:moveTo>
                    <a:lnTo>
                      <a:pt x="16419" y="4"/>
                    </a:lnTo>
                    <a:cubicBezTo>
                      <a:pt x="16420" y="4"/>
                      <a:pt x="16421" y="5"/>
                      <a:pt x="16421" y="6"/>
                    </a:cubicBezTo>
                    <a:cubicBezTo>
                      <a:pt x="16421" y="7"/>
                      <a:pt x="16420" y="8"/>
                      <a:pt x="16419" y="8"/>
                    </a:cubicBezTo>
                    <a:lnTo>
                      <a:pt x="16419" y="8"/>
                    </a:lnTo>
                    <a:cubicBezTo>
                      <a:pt x="16418" y="8"/>
                      <a:pt x="16417" y="7"/>
                      <a:pt x="16417" y="6"/>
                    </a:cubicBezTo>
                    <a:cubicBezTo>
                      <a:pt x="16417" y="5"/>
                      <a:pt x="16418" y="4"/>
                      <a:pt x="16419" y="4"/>
                    </a:cubicBezTo>
                    <a:close/>
                    <a:moveTo>
                      <a:pt x="16427" y="4"/>
                    </a:moveTo>
                    <a:lnTo>
                      <a:pt x="16427" y="4"/>
                    </a:lnTo>
                    <a:cubicBezTo>
                      <a:pt x="16428" y="4"/>
                      <a:pt x="16429" y="5"/>
                      <a:pt x="16429" y="6"/>
                    </a:cubicBezTo>
                    <a:cubicBezTo>
                      <a:pt x="16429" y="7"/>
                      <a:pt x="16428" y="8"/>
                      <a:pt x="16427" y="8"/>
                    </a:cubicBezTo>
                    <a:lnTo>
                      <a:pt x="16427" y="8"/>
                    </a:lnTo>
                    <a:cubicBezTo>
                      <a:pt x="16426" y="8"/>
                      <a:pt x="16425" y="7"/>
                      <a:pt x="16425" y="6"/>
                    </a:cubicBezTo>
                    <a:cubicBezTo>
                      <a:pt x="16425" y="5"/>
                      <a:pt x="16426" y="4"/>
                      <a:pt x="16427" y="4"/>
                    </a:cubicBezTo>
                    <a:close/>
                    <a:moveTo>
                      <a:pt x="16435" y="4"/>
                    </a:moveTo>
                    <a:lnTo>
                      <a:pt x="16435" y="4"/>
                    </a:lnTo>
                    <a:cubicBezTo>
                      <a:pt x="16436" y="4"/>
                      <a:pt x="16437" y="5"/>
                      <a:pt x="16437" y="6"/>
                    </a:cubicBezTo>
                    <a:cubicBezTo>
                      <a:pt x="16437" y="7"/>
                      <a:pt x="16436" y="8"/>
                      <a:pt x="16435" y="8"/>
                    </a:cubicBezTo>
                    <a:lnTo>
                      <a:pt x="16435" y="8"/>
                    </a:lnTo>
                    <a:cubicBezTo>
                      <a:pt x="16434" y="8"/>
                      <a:pt x="16433" y="7"/>
                      <a:pt x="16433" y="6"/>
                    </a:cubicBezTo>
                    <a:cubicBezTo>
                      <a:pt x="16433" y="5"/>
                      <a:pt x="16434" y="4"/>
                      <a:pt x="16435" y="4"/>
                    </a:cubicBezTo>
                    <a:close/>
                    <a:moveTo>
                      <a:pt x="16443" y="4"/>
                    </a:moveTo>
                    <a:lnTo>
                      <a:pt x="16443" y="4"/>
                    </a:lnTo>
                    <a:cubicBezTo>
                      <a:pt x="16444" y="4"/>
                      <a:pt x="16445" y="5"/>
                      <a:pt x="16445" y="6"/>
                    </a:cubicBezTo>
                    <a:cubicBezTo>
                      <a:pt x="16445" y="7"/>
                      <a:pt x="16444" y="8"/>
                      <a:pt x="16443" y="8"/>
                    </a:cubicBezTo>
                    <a:lnTo>
                      <a:pt x="16443" y="8"/>
                    </a:lnTo>
                    <a:cubicBezTo>
                      <a:pt x="16442" y="8"/>
                      <a:pt x="16441" y="7"/>
                      <a:pt x="16441" y="6"/>
                    </a:cubicBezTo>
                    <a:cubicBezTo>
                      <a:pt x="16441" y="5"/>
                      <a:pt x="16442" y="4"/>
                      <a:pt x="16443" y="4"/>
                    </a:cubicBezTo>
                    <a:close/>
                    <a:moveTo>
                      <a:pt x="16451" y="4"/>
                    </a:moveTo>
                    <a:lnTo>
                      <a:pt x="16451" y="4"/>
                    </a:lnTo>
                    <a:cubicBezTo>
                      <a:pt x="16452" y="4"/>
                      <a:pt x="16453" y="5"/>
                      <a:pt x="16453" y="6"/>
                    </a:cubicBezTo>
                    <a:cubicBezTo>
                      <a:pt x="16453" y="7"/>
                      <a:pt x="16452" y="8"/>
                      <a:pt x="16451" y="8"/>
                    </a:cubicBezTo>
                    <a:lnTo>
                      <a:pt x="16451" y="8"/>
                    </a:lnTo>
                    <a:cubicBezTo>
                      <a:pt x="16450" y="8"/>
                      <a:pt x="16449" y="7"/>
                      <a:pt x="16449" y="6"/>
                    </a:cubicBezTo>
                    <a:cubicBezTo>
                      <a:pt x="16449" y="5"/>
                      <a:pt x="16450" y="4"/>
                      <a:pt x="16451" y="4"/>
                    </a:cubicBezTo>
                    <a:close/>
                    <a:moveTo>
                      <a:pt x="16459" y="4"/>
                    </a:moveTo>
                    <a:lnTo>
                      <a:pt x="16459" y="4"/>
                    </a:lnTo>
                    <a:cubicBezTo>
                      <a:pt x="16460" y="4"/>
                      <a:pt x="16461" y="5"/>
                      <a:pt x="16461" y="6"/>
                    </a:cubicBezTo>
                    <a:cubicBezTo>
                      <a:pt x="16461" y="7"/>
                      <a:pt x="16460" y="8"/>
                      <a:pt x="16459" y="8"/>
                    </a:cubicBezTo>
                    <a:lnTo>
                      <a:pt x="16459" y="8"/>
                    </a:lnTo>
                    <a:cubicBezTo>
                      <a:pt x="16458" y="8"/>
                      <a:pt x="16457" y="7"/>
                      <a:pt x="16457" y="6"/>
                    </a:cubicBezTo>
                    <a:cubicBezTo>
                      <a:pt x="16457" y="5"/>
                      <a:pt x="16458" y="4"/>
                      <a:pt x="16459" y="4"/>
                    </a:cubicBezTo>
                    <a:close/>
                    <a:moveTo>
                      <a:pt x="16467" y="4"/>
                    </a:moveTo>
                    <a:lnTo>
                      <a:pt x="16467" y="4"/>
                    </a:lnTo>
                    <a:cubicBezTo>
                      <a:pt x="16468" y="4"/>
                      <a:pt x="16469" y="5"/>
                      <a:pt x="16469" y="6"/>
                    </a:cubicBezTo>
                    <a:cubicBezTo>
                      <a:pt x="16469" y="7"/>
                      <a:pt x="16468" y="8"/>
                      <a:pt x="16467" y="8"/>
                    </a:cubicBezTo>
                    <a:lnTo>
                      <a:pt x="16467" y="8"/>
                    </a:lnTo>
                    <a:cubicBezTo>
                      <a:pt x="16466" y="8"/>
                      <a:pt x="16465" y="7"/>
                      <a:pt x="16465" y="6"/>
                    </a:cubicBezTo>
                    <a:cubicBezTo>
                      <a:pt x="16465" y="5"/>
                      <a:pt x="16466" y="4"/>
                      <a:pt x="16467" y="4"/>
                    </a:cubicBezTo>
                    <a:close/>
                    <a:moveTo>
                      <a:pt x="16475" y="4"/>
                    </a:moveTo>
                    <a:lnTo>
                      <a:pt x="16475" y="4"/>
                    </a:lnTo>
                    <a:cubicBezTo>
                      <a:pt x="16476" y="4"/>
                      <a:pt x="16477" y="5"/>
                      <a:pt x="16477" y="6"/>
                    </a:cubicBezTo>
                    <a:cubicBezTo>
                      <a:pt x="16477" y="7"/>
                      <a:pt x="16476" y="8"/>
                      <a:pt x="16475" y="8"/>
                    </a:cubicBezTo>
                    <a:lnTo>
                      <a:pt x="16475" y="8"/>
                    </a:lnTo>
                    <a:cubicBezTo>
                      <a:pt x="16474" y="8"/>
                      <a:pt x="16473" y="7"/>
                      <a:pt x="16473" y="6"/>
                    </a:cubicBezTo>
                    <a:cubicBezTo>
                      <a:pt x="16473" y="5"/>
                      <a:pt x="16474" y="4"/>
                      <a:pt x="16475" y="4"/>
                    </a:cubicBezTo>
                    <a:close/>
                    <a:moveTo>
                      <a:pt x="16483" y="4"/>
                    </a:moveTo>
                    <a:lnTo>
                      <a:pt x="16483" y="4"/>
                    </a:lnTo>
                    <a:cubicBezTo>
                      <a:pt x="16484" y="4"/>
                      <a:pt x="16485" y="5"/>
                      <a:pt x="16485" y="6"/>
                    </a:cubicBezTo>
                    <a:cubicBezTo>
                      <a:pt x="16485" y="7"/>
                      <a:pt x="16484" y="8"/>
                      <a:pt x="16483" y="8"/>
                    </a:cubicBezTo>
                    <a:lnTo>
                      <a:pt x="16483" y="8"/>
                    </a:lnTo>
                    <a:cubicBezTo>
                      <a:pt x="16482" y="8"/>
                      <a:pt x="16481" y="7"/>
                      <a:pt x="16481" y="6"/>
                    </a:cubicBezTo>
                    <a:cubicBezTo>
                      <a:pt x="16481" y="5"/>
                      <a:pt x="16482" y="4"/>
                      <a:pt x="16483" y="4"/>
                    </a:cubicBezTo>
                    <a:close/>
                    <a:moveTo>
                      <a:pt x="16491" y="4"/>
                    </a:moveTo>
                    <a:lnTo>
                      <a:pt x="16491" y="4"/>
                    </a:lnTo>
                    <a:cubicBezTo>
                      <a:pt x="16492" y="4"/>
                      <a:pt x="16493" y="5"/>
                      <a:pt x="16493" y="6"/>
                    </a:cubicBezTo>
                    <a:cubicBezTo>
                      <a:pt x="16493" y="7"/>
                      <a:pt x="16492" y="8"/>
                      <a:pt x="16491" y="8"/>
                    </a:cubicBezTo>
                    <a:lnTo>
                      <a:pt x="16491" y="8"/>
                    </a:lnTo>
                    <a:cubicBezTo>
                      <a:pt x="16490" y="8"/>
                      <a:pt x="16489" y="7"/>
                      <a:pt x="16489" y="6"/>
                    </a:cubicBezTo>
                    <a:cubicBezTo>
                      <a:pt x="16489" y="5"/>
                      <a:pt x="16490" y="4"/>
                      <a:pt x="16491" y="4"/>
                    </a:cubicBezTo>
                    <a:close/>
                    <a:moveTo>
                      <a:pt x="16499" y="4"/>
                    </a:moveTo>
                    <a:lnTo>
                      <a:pt x="16499" y="4"/>
                    </a:lnTo>
                    <a:cubicBezTo>
                      <a:pt x="16500" y="4"/>
                      <a:pt x="16501" y="5"/>
                      <a:pt x="16501" y="6"/>
                    </a:cubicBezTo>
                    <a:cubicBezTo>
                      <a:pt x="16501" y="7"/>
                      <a:pt x="16500" y="8"/>
                      <a:pt x="16499" y="8"/>
                    </a:cubicBezTo>
                    <a:lnTo>
                      <a:pt x="16499" y="8"/>
                    </a:lnTo>
                    <a:cubicBezTo>
                      <a:pt x="16498" y="8"/>
                      <a:pt x="16497" y="7"/>
                      <a:pt x="16497" y="6"/>
                    </a:cubicBezTo>
                    <a:cubicBezTo>
                      <a:pt x="16497" y="5"/>
                      <a:pt x="16498" y="4"/>
                      <a:pt x="16499" y="4"/>
                    </a:cubicBezTo>
                    <a:close/>
                    <a:moveTo>
                      <a:pt x="16507" y="4"/>
                    </a:moveTo>
                    <a:lnTo>
                      <a:pt x="16507" y="4"/>
                    </a:lnTo>
                    <a:cubicBezTo>
                      <a:pt x="16508" y="4"/>
                      <a:pt x="16509" y="5"/>
                      <a:pt x="16509" y="6"/>
                    </a:cubicBezTo>
                    <a:cubicBezTo>
                      <a:pt x="16509" y="7"/>
                      <a:pt x="16508" y="8"/>
                      <a:pt x="16507" y="8"/>
                    </a:cubicBezTo>
                    <a:lnTo>
                      <a:pt x="16507" y="8"/>
                    </a:lnTo>
                    <a:cubicBezTo>
                      <a:pt x="16506" y="8"/>
                      <a:pt x="16505" y="7"/>
                      <a:pt x="16505" y="6"/>
                    </a:cubicBezTo>
                    <a:cubicBezTo>
                      <a:pt x="16505" y="5"/>
                      <a:pt x="16506" y="4"/>
                      <a:pt x="16507" y="4"/>
                    </a:cubicBezTo>
                    <a:close/>
                    <a:moveTo>
                      <a:pt x="16515" y="4"/>
                    </a:moveTo>
                    <a:lnTo>
                      <a:pt x="16515" y="4"/>
                    </a:lnTo>
                    <a:cubicBezTo>
                      <a:pt x="16516" y="4"/>
                      <a:pt x="16517" y="5"/>
                      <a:pt x="16517" y="6"/>
                    </a:cubicBezTo>
                    <a:cubicBezTo>
                      <a:pt x="16517" y="7"/>
                      <a:pt x="16516" y="8"/>
                      <a:pt x="16515" y="8"/>
                    </a:cubicBezTo>
                    <a:lnTo>
                      <a:pt x="16515" y="8"/>
                    </a:lnTo>
                    <a:cubicBezTo>
                      <a:pt x="16514" y="8"/>
                      <a:pt x="16513" y="7"/>
                      <a:pt x="16513" y="6"/>
                    </a:cubicBezTo>
                    <a:cubicBezTo>
                      <a:pt x="16513" y="5"/>
                      <a:pt x="16514" y="4"/>
                      <a:pt x="16515" y="4"/>
                    </a:cubicBezTo>
                    <a:close/>
                    <a:moveTo>
                      <a:pt x="16523" y="4"/>
                    </a:moveTo>
                    <a:lnTo>
                      <a:pt x="16523" y="4"/>
                    </a:lnTo>
                    <a:cubicBezTo>
                      <a:pt x="16524" y="4"/>
                      <a:pt x="16525" y="5"/>
                      <a:pt x="16525" y="6"/>
                    </a:cubicBezTo>
                    <a:cubicBezTo>
                      <a:pt x="16525" y="7"/>
                      <a:pt x="16524" y="8"/>
                      <a:pt x="16523" y="8"/>
                    </a:cubicBezTo>
                    <a:lnTo>
                      <a:pt x="16523" y="8"/>
                    </a:lnTo>
                    <a:cubicBezTo>
                      <a:pt x="16522" y="8"/>
                      <a:pt x="16521" y="7"/>
                      <a:pt x="16521" y="6"/>
                    </a:cubicBezTo>
                    <a:cubicBezTo>
                      <a:pt x="16521" y="5"/>
                      <a:pt x="16522" y="4"/>
                      <a:pt x="16523" y="4"/>
                    </a:cubicBezTo>
                    <a:close/>
                    <a:moveTo>
                      <a:pt x="16531" y="4"/>
                    </a:moveTo>
                    <a:lnTo>
                      <a:pt x="16531" y="4"/>
                    </a:lnTo>
                    <a:cubicBezTo>
                      <a:pt x="16532" y="4"/>
                      <a:pt x="16533" y="5"/>
                      <a:pt x="16533" y="6"/>
                    </a:cubicBezTo>
                    <a:cubicBezTo>
                      <a:pt x="16533" y="7"/>
                      <a:pt x="16532" y="8"/>
                      <a:pt x="16531" y="8"/>
                    </a:cubicBezTo>
                    <a:lnTo>
                      <a:pt x="16531" y="8"/>
                    </a:lnTo>
                    <a:cubicBezTo>
                      <a:pt x="16530" y="8"/>
                      <a:pt x="16529" y="7"/>
                      <a:pt x="16529" y="6"/>
                    </a:cubicBezTo>
                    <a:cubicBezTo>
                      <a:pt x="16529" y="5"/>
                      <a:pt x="16530" y="4"/>
                      <a:pt x="16531" y="4"/>
                    </a:cubicBezTo>
                    <a:close/>
                    <a:moveTo>
                      <a:pt x="16539" y="4"/>
                    </a:moveTo>
                    <a:lnTo>
                      <a:pt x="16539" y="4"/>
                    </a:lnTo>
                    <a:cubicBezTo>
                      <a:pt x="16540" y="4"/>
                      <a:pt x="16541" y="5"/>
                      <a:pt x="16541" y="6"/>
                    </a:cubicBezTo>
                    <a:cubicBezTo>
                      <a:pt x="16541" y="7"/>
                      <a:pt x="16540" y="8"/>
                      <a:pt x="16539" y="8"/>
                    </a:cubicBezTo>
                    <a:lnTo>
                      <a:pt x="16539" y="8"/>
                    </a:lnTo>
                    <a:cubicBezTo>
                      <a:pt x="16538" y="8"/>
                      <a:pt x="16537" y="7"/>
                      <a:pt x="16537" y="6"/>
                    </a:cubicBezTo>
                    <a:cubicBezTo>
                      <a:pt x="16537" y="5"/>
                      <a:pt x="16538" y="4"/>
                      <a:pt x="16539" y="4"/>
                    </a:cubicBezTo>
                    <a:close/>
                    <a:moveTo>
                      <a:pt x="16547" y="4"/>
                    </a:moveTo>
                    <a:lnTo>
                      <a:pt x="16547" y="4"/>
                    </a:lnTo>
                    <a:cubicBezTo>
                      <a:pt x="16548" y="4"/>
                      <a:pt x="16549" y="5"/>
                      <a:pt x="16549" y="6"/>
                    </a:cubicBezTo>
                    <a:cubicBezTo>
                      <a:pt x="16549" y="7"/>
                      <a:pt x="16548" y="8"/>
                      <a:pt x="16547" y="8"/>
                    </a:cubicBezTo>
                    <a:lnTo>
                      <a:pt x="16547" y="8"/>
                    </a:lnTo>
                    <a:cubicBezTo>
                      <a:pt x="16546" y="8"/>
                      <a:pt x="16545" y="7"/>
                      <a:pt x="16545" y="6"/>
                    </a:cubicBezTo>
                    <a:cubicBezTo>
                      <a:pt x="16545" y="5"/>
                      <a:pt x="16546" y="4"/>
                      <a:pt x="16547" y="4"/>
                    </a:cubicBezTo>
                    <a:close/>
                    <a:moveTo>
                      <a:pt x="16555" y="4"/>
                    </a:moveTo>
                    <a:lnTo>
                      <a:pt x="16555" y="4"/>
                    </a:lnTo>
                    <a:cubicBezTo>
                      <a:pt x="16556" y="4"/>
                      <a:pt x="16557" y="5"/>
                      <a:pt x="16557" y="6"/>
                    </a:cubicBezTo>
                    <a:cubicBezTo>
                      <a:pt x="16557" y="7"/>
                      <a:pt x="16556" y="8"/>
                      <a:pt x="16555" y="8"/>
                    </a:cubicBezTo>
                    <a:lnTo>
                      <a:pt x="16555" y="8"/>
                    </a:lnTo>
                    <a:cubicBezTo>
                      <a:pt x="16554" y="8"/>
                      <a:pt x="16553" y="7"/>
                      <a:pt x="16553" y="6"/>
                    </a:cubicBezTo>
                    <a:cubicBezTo>
                      <a:pt x="16553" y="5"/>
                      <a:pt x="16554" y="4"/>
                      <a:pt x="16555" y="4"/>
                    </a:cubicBezTo>
                    <a:close/>
                    <a:moveTo>
                      <a:pt x="16563" y="4"/>
                    </a:moveTo>
                    <a:lnTo>
                      <a:pt x="16563" y="4"/>
                    </a:lnTo>
                    <a:cubicBezTo>
                      <a:pt x="16564" y="4"/>
                      <a:pt x="16565" y="5"/>
                      <a:pt x="16565" y="6"/>
                    </a:cubicBezTo>
                    <a:cubicBezTo>
                      <a:pt x="16565" y="7"/>
                      <a:pt x="16564" y="8"/>
                      <a:pt x="16563" y="8"/>
                    </a:cubicBezTo>
                    <a:lnTo>
                      <a:pt x="16563" y="8"/>
                    </a:lnTo>
                    <a:cubicBezTo>
                      <a:pt x="16562" y="8"/>
                      <a:pt x="16561" y="7"/>
                      <a:pt x="16561" y="6"/>
                    </a:cubicBezTo>
                    <a:cubicBezTo>
                      <a:pt x="16561" y="5"/>
                      <a:pt x="16562" y="4"/>
                      <a:pt x="16563" y="4"/>
                    </a:cubicBezTo>
                    <a:close/>
                    <a:moveTo>
                      <a:pt x="16571" y="4"/>
                    </a:moveTo>
                    <a:lnTo>
                      <a:pt x="16571" y="4"/>
                    </a:lnTo>
                    <a:cubicBezTo>
                      <a:pt x="16572" y="4"/>
                      <a:pt x="16573" y="5"/>
                      <a:pt x="16573" y="6"/>
                    </a:cubicBezTo>
                    <a:cubicBezTo>
                      <a:pt x="16573" y="7"/>
                      <a:pt x="16572" y="8"/>
                      <a:pt x="16571" y="8"/>
                    </a:cubicBezTo>
                    <a:lnTo>
                      <a:pt x="16571" y="8"/>
                    </a:lnTo>
                    <a:cubicBezTo>
                      <a:pt x="16570" y="8"/>
                      <a:pt x="16569" y="7"/>
                      <a:pt x="16569" y="6"/>
                    </a:cubicBezTo>
                    <a:cubicBezTo>
                      <a:pt x="16569" y="5"/>
                      <a:pt x="16570" y="4"/>
                      <a:pt x="16571" y="4"/>
                    </a:cubicBezTo>
                    <a:close/>
                    <a:moveTo>
                      <a:pt x="16579" y="4"/>
                    </a:moveTo>
                    <a:lnTo>
                      <a:pt x="16579" y="4"/>
                    </a:lnTo>
                    <a:cubicBezTo>
                      <a:pt x="16580" y="4"/>
                      <a:pt x="16581" y="5"/>
                      <a:pt x="16581" y="6"/>
                    </a:cubicBezTo>
                    <a:cubicBezTo>
                      <a:pt x="16581" y="7"/>
                      <a:pt x="16580" y="8"/>
                      <a:pt x="16579" y="8"/>
                    </a:cubicBezTo>
                    <a:lnTo>
                      <a:pt x="16579" y="8"/>
                    </a:lnTo>
                    <a:cubicBezTo>
                      <a:pt x="16578" y="8"/>
                      <a:pt x="16577" y="7"/>
                      <a:pt x="16577" y="6"/>
                    </a:cubicBezTo>
                    <a:cubicBezTo>
                      <a:pt x="16577" y="5"/>
                      <a:pt x="16578" y="4"/>
                      <a:pt x="16579" y="4"/>
                    </a:cubicBezTo>
                    <a:close/>
                    <a:moveTo>
                      <a:pt x="16587" y="4"/>
                    </a:moveTo>
                    <a:lnTo>
                      <a:pt x="16587" y="4"/>
                    </a:lnTo>
                    <a:cubicBezTo>
                      <a:pt x="16588" y="4"/>
                      <a:pt x="16589" y="5"/>
                      <a:pt x="16589" y="6"/>
                    </a:cubicBezTo>
                    <a:cubicBezTo>
                      <a:pt x="16589" y="7"/>
                      <a:pt x="16588" y="8"/>
                      <a:pt x="16587" y="8"/>
                    </a:cubicBezTo>
                    <a:lnTo>
                      <a:pt x="16587" y="8"/>
                    </a:lnTo>
                    <a:cubicBezTo>
                      <a:pt x="16586" y="8"/>
                      <a:pt x="16585" y="7"/>
                      <a:pt x="16585" y="6"/>
                    </a:cubicBezTo>
                    <a:cubicBezTo>
                      <a:pt x="16585" y="5"/>
                      <a:pt x="16586" y="4"/>
                      <a:pt x="16587" y="4"/>
                    </a:cubicBezTo>
                    <a:close/>
                    <a:moveTo>
                      <a:pt x="16595" y="4"/>
                    </a:moveTo>
                    <a:lnTo>
                      <a:pt x="16595" y="4"/>
                    </a:lnTo>
                    <a:cubicBezTo>
                      <a:pt x="16596" y="4"/>
                      <a:pt x="16597" y="5"/>
                      <a:pt x="16597" y="6"/>
                    </a:cubicBezTo>
                    <a:cubicBezTo>
                      <a:pt x="16597" y="7"/>
                      <a:pt x="16596" y="8"/>
                      <a:pt x="16595" y="8"/>
                    </a:cubicBezTo>
                    <a:lnTo>
                      <a:pt x="16595" y="8"/>
                    </a:lnTo>
                    <a:cubicBezTo>
                      <a:pt x="16594" y="8"/>
                      <a:pt x="16593" y="7"/>
                      <a:pt x="16593" y="6"/>
                    </a:cubicBezTo>
                    <a:cubicBezTo>
                      <a:pt x="16593" y="5"/>
                      <a:pt x="16594" y="4"/>
                      <a:pt x="16595" y="4"/>
                    </a:cubicBezTo>
                    <a:close/>
                    <a:moveTo>
                      <a:pt x="16603" y="4"/>
                    </a:moveTo>
                    <a:lnTo>
                      <a:pt x="16603" y="4"/>
                    </a:lnTo>
                    <a:cubicBezTo>
                      <a:pt x="16604" y="4"/>
                      <a:pt x="16605" y="5"/>
                      <a:pt x="16605" y="6"/>
                    </a:cubicBezTo>
                    <a:cubicBezTo>
                      <a:pt x="16605" y="7"/>
                      <a:pt x="16604" y="8"/>
                      <a:pt x="16603" y="8"/>
                    </a:cubicBezTo>
                    <a:lnTo>
                      <a:pt x="16603" y="8"/>
                    </a:lnTo>
                    <a:cubicBezTo>
                      <a:pt x="16602" y="8"/>
                      <a:pt x="16601" y="7"/>
                      <a:pt x="16601" y="6"/>
                    </a:cubicBezTo>
                    <a:cubicBezTo>
                      <a:pt x="16601" y="5"/>
                      <a:pt x="16602" y="4"/>
                      <a:pt x="16603" y="4"/>
                    </a:cubicBezTo>
                    <a:close/>
                    <a:moveTo>
                      <a:pt x="16611" y="4"/>
                    </a:moveTo>
                    <a:lnTo>
                      <a:pt x="16611" y="4"/>
                    </a:lnTo>
                    <a:cubicBezTo>
                      <a:pt x="16612" y="4"/>
                      <a:pt x="16613" y="5"/>
                      <a:pt x="16613" y="6"/>
                    </a:cubicBezTo>
                    <a:cubicBezTo>
                      <a:pt x="16613" y="7"/>
                      <a:pt x="16612" y="8"/>
                      <a:pt x="16611" y="8"/>
                    </a:cubicBezTo>
                    <a:lnTo>
                      <a:pt x="16611" y="8"/>
                    </a:lnTo>
                    <a:cubicBezTo>
                      <a:pt x="16610" y="8"/>
                      <a:pt x="16609" y="7"/>
                      <a:pt x="16609" y="6"/>
                    </a:cubicBezTo>
                    <a:cubicBezTo>
                      <a:pt x="16609" y="5"/>
                      <a:pt x="16610" y="4"/>
                      <a:pt x="16611" y="4"/>
                    </a:cubicBezTo>
                    <a:close/>
                    <a:moveTo>
                      <a:pt x="16619" y="4"/>
                    </a:moveTo>
                    <a:lnTo>
                      <a:pt x="16619" y="4"/>
                    </a:lnTo>
                    <a:cubicBezTo>
                      <a:pt x="16620" y="4"/>
                      <a:pt x="16621" y="5"/>
                      <a:pt x="16621" y="6"/>
                    </a:cubicBezTo>
                    <a:cubicBezTo>
                      <a:pt x="16621" y="7"/>
                      <a:pt x="16620" y="8"/>
                      <a:pt x="16619" y="8"/>
                    </a:cubicBezTo>
                    <a:lnTo>
                      <a:pt x="16619" y="8"/>
                    </a:lnTo>
                    <a:cubicBezTo>
                      <a:pt x="16618" y="8"/>
                      <a:pt x="16617" y="7"/>
                      <a:pt x="16617" y="6"/>
                    </a:cubicBezTo>
                    <a:cubicBezTo>
                      <a:pt x="16617" y="5"/>
                      <a:pt x="16618" y="4"/>
                      <a:pt x="16619" y="4"/>
                    </a:cubicBezTo>
                    <a:close/>
                    <a:moveTo>
                      <a:pt x="16627" y="4"/>
                    </a:moveTo>
                    <a:lnTo>
                      <a:pt x="16627" y="4"/>
                    </a:lnTo>
                    <a:cubicBezTo>
                      <a:pt x="16628" y="4"/>
                      <a:pt x="16629" y="5"/>
                      <a:pt x="16629" y="6"/>
                    </a:cubicBezTo>
                    <a:cubicBezTo>
                      <a:pt x="16629" y="7"/>
                      <a:pt x="16628" y="8"/>
                      <a:pt x="16627" y="8"/>
                    </a:cubicBezTo>
                    <a:lnTo>
                      <a:pt x="16627" y="8"/>
                    </a:lnTo>
                    <a:cubicBezTo>
                      <a:pt x="16626" y="8"/>
                      <a:pt x="16625" y="7"/>
                      <a:pt x="16625" y="6"/>
                    </a:cubicBezTo>
                    <a:cubicBezTo>
                      <a:pt x="16625" y="5"/>
                      <a:pt x="16626" y="4"/>
                      <a:pt x="16627" y="4"/>
                    </a:cubicBezTo>
                    <a:close/>
                    <a:moveTo>
                      <a:pt x="16635" y="4"/>
                    </a:moveTo>
                    <a:lnTo>
                      <a:pt x="16635" y="4"/>
                    </a:lnTo>
                    <a:cubicBezTo>
                      <a:pt x="16636" y="4"/>
                      <a:pt x="16637" y="5"/>
                      <a:pt x="16637" y="6"/>
                    </a:cubicBezTo>
                    <a:cubicBezTo>
                      <a:pt x="16637" y="7"/>
                      <a:pt x="16636" y="8"/>
                      <a:pt x="16635" y="8"/>
                    </a:cubicBezTo>
                    <a:lnTo>
                      <a:pt x="16635" y="8"/>
                    </a:lnTo>
                    <a:cubicBezTo>
                      <a:pt x="16634" y="8"/>
                      <a:pt x="16633" y="7"/>
                      <a:pt x="16633" y="6"/>
                    </a:cubicBezTo>
                    <a:cubicBezTo>
                      <a:pt x="16633" y="5"/>
                      <a:pt x="16634" y="4"/>
                      <a:pt x="16635" y="4"/>
                    </a:cubicBezTo>
                    <a:close/>
                    <a:moveTo>
                      <a:pt x="16643" y="4"/>
                    </a:moveTo>
                    <a:lnTo>
                      <a:pt x="16643" y="4"/>
                    </a:lnTo>
                    <a:cubicBezTo>
                      <a:pt x="16644" y="4"/>
                      <a:pt x="16645" y="5"/>
                      <a:pt x="16645" y="6"/>
                    </a:cubicBezTo>
                    <a:cubicBezTo>
                      <a:pt x="16645" y="7"/>
                      <a:pt x="16644" y="8"/>
                      <a:pt x="16643" y="8"/>
                    </a:cubicBezTo>
                    <a:lnTo>
                      <a:pt x="16643" y="8"/>
                    </a:lnTo>
                    <a:cubicBezTo>
                      <a:pt x="16642" y="8"/>
                      <a:pt x="16641" y="7"/>
                      <a:pt x="16641" y="6"/>
                    </a:cubicBezTo>
                    <a:cubicBezTo>
                      <a:pt x="16641" y="5"/>
                      <a:pt x="16642" y="4"/>
                      <a:pt x="16643" y="4"/>
                    </a:cubicBezTo>
                    <a:close/>
                    <a:moveTo>
                      <a:pt x="16651" y="4"/>
                    </a:moveTo>
                    <a:lnTo>
                      <a:pt x="16651" y="4"/>
                    </a:lnTo>
                    <a:cubicBezTo>
                      <a:pt x="16652" y="4"/>
                      <a:pt x="16653" y="5"/>
                      <a:pt x="16653" y="6"/>
                    </a:cubicBezTo>
                    <a:cubicBezTo>
                      <a:pt x="16653" y="7"/>
                      <a:pt x="16652" y="8"/>
                      <a:pt x="16651" y="8"/>
                    </a:cubicBezTo>
                    <a:lnTo>
                      <a:pt x="16651" y="8"/>
                    </a:lnTo>
                    <a:cubicBezTo>
                      <a:pt x="16650" y="8"/>
                      <a:pt x="16649" y="7"/>
                      <a:pt x="16649" y="6"/>
                    </a:cubicBezTo>
                    <a:cubicBezTo>
                      <a:pt x="16649" y="5"/>
                      <a:pt x="16650" y="4"/>
                      <a:pt x="16651" y="4"/>
                    </a:cubicBezTo>
                    <a:close/>
                    <a:moveTo>
                      <a:pt x="16659" y="4"/>
                    </a:moveTo>
                    <a:lnTo>
                      <a:pt x="16659" y="4"/>
                    </a:lnTo>
                    <a:cubicBezTo>
                      <a:pt x="16660" y="4"/>
                      <a:pt x="16661" y="5"/>
                      <a:pt x="16661" y="6"/>
                    </a:cubicBezTo>
                    <a:cubicBezTo>
                      <a:pt x="16661" y="7"/>
                      <a:pt x="16660" y="8"/>
                      <a:pt x="16659" y="8"/>
                    </a:cubicBezTo>
                    <a:lnTo>
                      <a:pt x="16659" y="8"/>
                    </a:lnTo>
                    <a:cubicBezTo>
                      <a:pt x="16658" y="8"/>
                      <a:pt x="16657" y="7"/>
                      <a:pt x="16657" y="6"/>
                    </a:cubicBezTo>
                    <a:cubicBezTo>
                      <a:pt x="16657" y="5"/>
                      <a:pt x="16658" y="4"/>
                      <a:pt x="16659" y="4"/>
                    </a:cubicBezTo>
                    <a:close/>
                    <a:moveTo>
                      <a:pt x="16667" y="4"/>
                    </a:moveTo>
                    <a:lnTo>
                      <a:pt x="16667" y="4"/>
                    </a:lnTo>
                    <a:cubicBezTo>
                      <a:pt x="16668" y="4"/>
                      <a:pt x="16669" y="5"/>
                      <a:pt x="16669" y="6"/>
                    </a:cubicBezTo>
                    <a:cubicBezTo>
                      <a:pt x="16669" y="7"/>
                      <a:pt x="16668" y="8"/>
                      <a:pt x="16667" y="8"/>
                    </a:cubicBezTo>
                    <a:lnTo>
                      <a:pt x="16667" y="8"/>
                    </a:lnTo>
                    <a:cubicBezTo>
                      <a:pt x="16666" y="8"/>
                      <a:pt x="16665" y="7"/>
                      <a:pt x="16665" y="6"/>
                    </a:cubicBezTo>
                    <a:cubicBezTo>
                      <a:pt x="16665" y="5"/>
                      <a:pt x="16666" y="4"/>
                      <a:pt x="16667" y="4"/>
                    </a:cubicBezTo>
                    <a:close/>
                    <a:moveTo>
                      <a:pt x="16675" y="4"/>
                    </a:moveTo>
                    <a:lnTo>
                      <a:pt x="16675" y="4"/>
                    </a:lnTo>
                    <a:cubicBezTo>
                      <a:pt x="16676" y="4"/>
                      <a:pt x="16677" y="5"/>
                      <a:pt x="16677" y="6"/>
                    </a:cubicBezTo>
                    <a:cubicBezTo>
                      <a:pt x="16677" y="7"/>
                      <a:pt x="16676" y="8"/>
                      <a:pt x="16675" y="8"/>
                    </a:cubicBezTo>
                    <a:lnTo>
                      <a:pt x="16675" y="8"/>
                    </a:lnTo>
                    <a:cubicBezTo>
                      <a:pt x="16674" y="8"/>
                      <a:pt x="16673" y="7"/>
                      <a:pt x="16673" y="6"/>
                    </a:cubicBezTo>
                    <a:cubicBezTo>
                      <a:pt x="16673" y="5"/>
                      <a:pt x="16674" y="4"/>
                      <a:pt x="16675" y="4"/>
                    </a:cubicBezTo>
                    <a:close/>
                    <a:moveTo>
                      <a:pt x="16683" y="4"/>
                    </a:moveTo>
                    <a:lnTo>
                      <a:pt x="16683" y="4"/>
                    </a:lnTo>
                    <a:cubicBezTo>
                      <a:pt x="16684" y="4"/>
                      <a:pt x="16685" y="5"/>
                      <a:pt x="16685" y="6"/>
                    </a:cubicBezTo>
                    <a:cubicBezTo>
                      <a:pt x="16685" y="7"/>
                      <a:pt x="16684" y="8"/>
                      <a:pt x="16683" y="8"/>
                    </a:cubicBezTo>
                    <a:lnTo>
                      <a:pt x="16683" y="8"/>
                    </a:lnTo>
                    <a:cubicBezTo>
                      <a:pt x="16682" y="8"/>
                      <a:pt x="16681" y="7"/>
                      <a:pt x="16681" y="6"/>
                    </a:cubicBezTo>
                    <a:cubicBezTo>
                      <a:pt x="16681" y="5"/>
                      <a:pt x="16682" y="4"/>
                      <a:pt x="16683" y="4"/>
                    </a:cubicBezTo>
                    <a:close/>
                    <a:moveTo>
                      <a:pt x="16691" y="4"/>
                    </a:moveTo>
                    <a:lnTo>
                      <a:pt x="16691" y="4"/>
                    </a:lnTo>
                    <a:cubicBezTo>
                      <a:pt x="16692" y="4"/>
                      <a:pt x="16693" y="5"/>
                      <a:pt x="16693" y="6"/>
                    </a:cubicBezTo>
                    <a:cubicBezTo>
                      <a:pt x="16693" y="7"/>
                      <a:pt x="16692" y="8"/>
                      <a:pt x="16691" y="8"/>
                    </a:cubicBezTo>
                    <a:lnTo>
                      <a:pt x="16691" y="8"/>
                    </a:lnTo>
                    <a:cubicBezTo>
                      <a:pt x="16690" y="8"/>
                      <a:pt x="16689" y="7"/>
                      <a:pt x="16689" y="6"/>
                    </a:cubicBezTo>
                    <a:cubicBezTo>
                      <a:pt x="16689" y="5"/>
                      <a:pt x="16690" y="4"/>
                      <a:pt x="16691" y="4"/>
                    </a:cubicBezTo>
                    <a:close/>
                    <a:moveTo>
                      <a:pt x="16699" y="4"/>
                    </a:moveTo>
                    <a:lnTo>
                      <a:pt x="16699" y="4"/>
                    </a:lnTo>
                    <a:cubicBezTo>
                      <a:pt x="16700" y="4"/>
                      <a:pt x="16701" y="5"/>
                      <a:pt x="16701" y="6"/>
                    </a:cubicBezTo>
                    <a:cubicBezTo>
                      <a:pt x="16701" y="7"/>
                      <a:pt x="16700" y="8"/>
                      <a:pt x="16699" y="8"/>
                    </a:cubicBezTo>
                    <a:lnTo>
                      <a:pt x="16699" y="8"/>
                    </a:lnTo>
                    <a:cubicBezTo>
                      <a:pt x="16698" y="8"/>
                      <a:pt x="16697" y="7"/>
                      <a:pt x="16697" y="6"/>
                    </a:cubicBezTo>
                    <a:cubicBezTo>
                      <a:pt x="16697" y="5"/>
                      <a:pt x="16698" y="4"/>
                      <a:pt x="16699" y="4"/>
                    </a:cubicBezTo>
                    <a:close/>
                    <a:moveTo>
                      <a:pt x="16707" y="4"/>
                    </a:moveTo>
                    <a:lnTo>
                      <a:pt x="16707" y="4"/>
                    </a:lnTo>
                    <a:cubicBezTo>
                      <a:pt x="16708" y="4"/>
                      <a:pt x="16709" y="5"/>
                      <a:pt x="16709" y="6"/>
                    </a:cubicBezTo>
                    <a:cubicBezTo>
                      <a:pt x="16709" y="7"/>
                      <a:pt x="16708" y="8"/>
                      <a:pt x="16707" y="8"/>
                    </a:cubicBezTo>
                    <a:lnTo>
                      <a:pt x="16707" y="8"/>
                    </a:lnTo>
                    <a:cubicBezTo>
                      <a:pt x="16706" y="8"/>
                      <a:pt x="16705" y="7"/>
                      <a:pt x="16705" y="6"/>
                    </a:cubicBezTo>
                    <a:cubicBezTo>
                      <a:pt x="16705" y="5"/>
                      <a:pt x="16706" y="4"/>
                      <a:pt x="16707" y="4"/>
                    </a:cubicBezTo>
                    <a:close/>
                    <a:moveTo>
                      <a:pt x="16715" y="4"/>
                    </a:moveTo>
                    <a:lnTo>
                      <a:pt x="16715" y="4"/>
                    </a:lnTo>
                    <a:cubicBezTo>
                      <a:pt x="16716" y="4"/>
                      <a:pt x="16717" y="5"/>
                      <a:pt x="16717" y="6"/>
                    </a:cubicBezTo>
                    <a:cubicBezTo>
                      <a:pt x="16717" y="7"/>
                      <a:pt x="16716" y="8"/>
                      <a:pt x="16715" y="8"/>
                    </a:cubicBezTo>
                    <a:lnTo>
                      <a:pt x="16715" y="8"/>
                    </a:lnTo>
                    <a:cubicBezTo>
                      <a:pt x="16714" y="8"/>
                      <a:pt x="16713" y="7"/>
                      <a:pt x="16713" y="6"/>
                    </a:cubicBezTo>
                    <a:cubicBezTo>
                      <a:pt x="16713" y="5"/>
                      <a:pt x="16714" y="4"/>
                      <a:pt x="16715" y="4"/>
                    </a:cubicBezTo>
                    <a:close/>
                    <a:moveTo>
                      <a:pt x="16723" y="4"/>
                    </a:moveTo>
                    <a:lnTo>
                      <a:pt x="16723" y="4"/>
                    </a:lnTo>
                    <a:cubicBezTo>
                      <a:pt x="16724" y="4"/>
                      <a:pt x="16725" y="5"/>
                      <a:pt x="16725" y="6"/>
                    </a:cubicBezTo>
                    <a:cubicBezTo>
                      <a:pt x="16725" y="7"/>
                      <a:pt x="16724" y="8"/>
                      <a:pt x="16723" y="8"/>
                    </a:cubicBezTo>
                    <a:lnTo>
                      <a:pt x="16723" y="8"/>
                    </a:lnTo>
                    <a:cubicBezTo>
                      <a:pt x="16722" y="8"/>
                      <a:pt x="16721" y="7"/>
                      <a:pt x="16721" y="6"/>
                    </a:cubicBezTo>
                    <a:cubicBezTo>
                      <a:pt x="16721" y="5"/>
                      <a:pt x="16722" y="4"/>
                      <a:pt x="16723" y="4"/>
                    </a:cubicBezTo>
                    <a:close/>
                    <a:moveTo>
                      <a:pt x="16731" y="4"/>
                    </a:moveTo>
                    <a:lnTo>
                      <a:pt x="16731" y="4"/>
                    </a:lnTo>
                    <a:cubicBezTo>
                      <a:pt x="16732" y="4"/>
                      <a:pt x="16733" y="5"/>
                      <a:pt x="16733" y="6"/>
                    </a:cubicBezTo>
                    <a:cubicBezTo>
                      <a:pt x="16733" y="7"/>
                      <a:pt x="16732" y="8"/>
                      <a:pt x="16731" y="8"/>
                    </a:cubicBezTo>
                    <a:lnTo>
                      <a:pt x="16731" y="8"/>
                    </a:lnTo>
                    <a:cubicBezTo>
                      <a:pt x="16730" y="8"/>
                      <a:pt x="16729" y="7"/>
                      <a:pt x="16729" y="6"/>
                    </a:cubicBezTo>
                    <a:cubicBezTo>
                      <a:pt x="16729" y="5"/>
                      <a:pt x="16730" y="4"/>
                      <a:pt x="16731" y="4"/>
                    </a:cubicBezTo>
                    <a:close/>
                    <a:moveTo>
                      <a:pt x="16739" y="4"/>
                    </a:moveTo>
                    <a:lnTo>
                      <a:pt x="16739" y="4"/>
                    </a:lnTo>
                    <a:cubicBezTo>
                      <a:pt x="16740" y="4"/>
                      <a:pt x="16741" y="5"/>
                      <a:pt x="16741" y="6"/>
                    </a:cubicBezTo>
                    <a:cubicBezTo>
                      <a:pt x="16741" y="7"/>
                      <a:pt x="16740" y="8"/>
                      <a:pt x="16739" y="8"/>
                    </a:cubicBezTo>
                    <a:lnTo>
                      <a:pt x="16739" y="8"/>
                    </a:lnTo>
                    <a:cubicBezTo>
                      <a:pt x="16738" y="8"/>
                      <a:pt x="16737" y="7"/>
                      <a:pt x="16737" y="6"/>
                    </a:cubicBezTo>
                    <a:cubicBezTo>
                      <a:pt x="16737" y="5"/>
                      <a:pt x="16738" y="4"/>
                      <a:pt x="16739" y="4"/>
                    </a:cubicBezTo>
                    <a:close/>
                    <a:moveTo>
                      <a:pt x="16747" y="4"/>
                    </a:moveTo>
                    <a:lnTo>
                      <a:pt x="16747" y="4"/>
                    </a:lnTo>
                    <a:cubicBezTo>
                      <a:pt x="16748" y="4"/>
                      <a:pt x="16749" y="5"/>
                      <a:pt x="16749" y="6"/>
                    </a:cubicBezTo>
                    <a:cubicBezTo>
                      <a:pt x="16749" y="7"/>
                      <a:pt x="16748" y="8"/>
                      <a:pt x="16747" y="8"/>
                    </a:cubicBezTo>
                    <a:lnTo>
                      <a:pt x="16747" y="8"/>
                    </a:lnTo>
                    <a:cubicBezTo>
                      <a:pt x="16746" y="8"/>
                      <a:pt x="16745" y="7"/>
                      <a:pt x="16745" y="6"/>
                    </a:cubicBezTo>
                    <a:cubicBezTo>
                      <a:pt x="16745" y="5"/>
                      <a:pt x="16746" y="4"/>
                      <a:pt x="16747" y="4"/>
                    </a:cubicBezTo>
                    <a:close/>
                    <a:moveTo>
                      <a:pt x="16755" y="4"/>
                    </a:moveTo>
                    <a:lnTo>
                      <a:pt x="16755" y="4"/>
                    </a:lnTo>
                    <a:cubicBezTo>
                      <a:pt x="16756" y="4"/>
                      <a:pt x="16757" y="5"/>
                      <a:pt x="16757" y="6"/>
                    </a:cubicBezTo>
                    <a:cubicBezTo>
                      <a:pt x="16757" y="7"/>
                      <a:pt x="16756" y="8"/>
                      <a:pt x="16755" y="8"/>
                    </a:cubicBezTo>
                    <a:lnTo>
                      <a:pt x="16755" y="8"/>
                    </a:lnTo>
                    <a:cubicBezTo>
                      <a:pt x="16754" y="8"/>
                      <a:pt x="16753" y="7"/>
                      <a:pt x="16753" y="6"/>
                    </a:cubicBezTo>
                    <a:cubicBezTo>
                      <a:pt x="16753" y="5"/>
                      <a:pt x="16754" y="4"/>
                      <a:pt x="16755" y="4"/>
                    </a:cubicBezTo>
                    <a:close/>
                    <a:moveTo>
                      <a:pt x="16763" y="4"/>
                    </a:moveTo>
                    <a:lnTo>
                      <a:pt x="16763" y="4"/>
                    </a:lnTo>
                    <a:cubicBezTo>
                      <a:pt x="16764" y="4"/>
                      <a:pt x="16765" y="5"/>
                      <a:pt x="16765" y="6"/>
                    </a:cubicBezTo>
                    <a:cubicBezTo>
                      <a:pt x="16765" y="7"/>
                      <a:pt x="16764" y="8"/>
                      <a:pt x="16763" y="8"/>
                    </a:cubicBezTo>
                    <a:lnTo>
                      <a:pt x="16763" y="8"/>
                    </a:lnTo>
                    <a:cubicBezTo>
                      <a:pt x="16762" y="8"/>
                      <a:pt x="16761" y="7"/>
                      <a:pt x="16761" y="6"/>
                    </a:cubicBezTo>
                    <a:cubicBezTo>
                      <a:pt x="16761" y="5"/>
                      <a:pt x="16762" y="4"/>
                      <a:pt x="16763" y="4"/>
                    </a:cubicBezTo>
                    <a:close/>
                    <a:moveTo>
                      <a:pt x="16771" y="4"/>
                    </a:moveTo>
                    <a:lnTo>
                      <a:pt x="16771" y="4"/>
                    </a:lnTo>
                    <a:cubicBezTo>
                      <a:pt x="16772" y="4"/>
                      <a:pt x="16773" y="5"/>
                      <a:pt x="16773" y="6"/>
                    </a:cubicBezTo>
                    <a:cubicBezTo>
                      <a:pt x="16773" y="7"/>
                      <a:pt x="16772" y="8"/>
                      <a:pt x="16771" y="8"/>
                    </a:cubicBezTo>
                    <a:lnTo>
                      <a:pt x="16771" y="8"/>
                    </a:lnTo>
                    <a:cubicBezTo>
                      <a:pt x="16770" y="8"/>
                      <a:pt x="16769" y="7"/>
                      <a:pt x="16769" y="6"/>
                    </a:cubicBezTo>
                    <a:cubicBezTo>
                      <a:pt x="16769" y="5"/>
                      <a:pt x="16770" y="4"/>
                      <a:pt x="16771" y="4"/>
                    </a:cubicBezTo>
                    <a:close/>
                    <a:moveTo>
                      <a:pt x="16779" y="4"/>
                    </a:moveTo>
                    <a:lnTo>
                      <a:pt x="16779" y="4"/>
                    </a:lnTo>
                    <a:cubicBezTo>
                      <a:pt x="16780" y="4"/>
                      <a:pt x="16781" y="5"/>
                      <a:pt x="16781" y="6"/>
                    </a:cubicBezTo>
                    <a:cubicBezTo>
                      <a:pt x="16781" y="7"/>
                      <a:pt x="16780" y="8"/>
                      <a:pt x="16779" y="8"/>
                    </a:cubicBezTo>
                    <a:lnTo>
                      <a:pt x="16779" y="8"/>
                    </a:lnTo>
                    <a:cubicBezTo>
                      <a:pt x="16778" y="8"/>
                      <a:pt x="16777" y="7"/>
                      <a:pt x="16777" y="6"/>
                    </a:cubicBezTo>
                    <a:cubicBezTo>
                      <a:pt x="16777" y="5"/>
                      <a:pt x="16778" y="4"/>
                      <a:pt x="16779" y="4"/>
                    </a:cubicBezTo>
                    <a:close/>
                    <a:moveTo>
                      <a:pt x="16787" y="4"/>
                    </a:moveTo>
                    <a:lnTo>
                      <a:pt x="16787" y="4"/>
                    </a:lnTo>
                    <a:cubicBezTo>
                      <a:pt x="16788" y="4"/>
                      <a:pt x="16789" y="5"/>
                      <a:pt x="16789" y="6"/>
                    </a:cubicBezTo>
                    <a:cubicBezTo>
                      <a:pt x="16789" y="7"/>
                      <a:pt x="16788" y="8"/>
                      <a:pt x="16787" y="8"/>
                    </a:cubicBezTo>
                    <a:lnTo>
                      <a:pt x="16787" y="8"/>
                    </a:lnTo>
                    <a:cubicBezTo>
                      <a:pt x="16786" y="8"/>
                      <a:pt x="16785" y="7"/>
                      <a:pt x="16785" y="6"/>
                    </a:cubicBezTo>
                    <a:cubicBezTo>
                      <a:pt x="16785" y="5"/>
                      <a:pt x="16786" y="4"/>
                      <a:pt x="16787" y="4"/>
                    </a:cubicBezTo>
                    <a:close/>
                    <a:moveTo>
                      <a:pt x="16795" y="4"/>
                    </a:moveTo>
                    <a:lnTo>
                      <a:pt x="16795" y="4"/>
                    </a:lnTo>
                    <a:cubicBezTo>
                      <a:pt x="16796" y="4"/>
                      <a:pt x="16797" y="5"/>
                      <a:pt x="16797" y="6"/>
                    </a:cubicBezTo>
                    <a:cubicBezTo>
                      <a:pt x="16797" y="7"/>
                      <a:pt x="16796" y="8"/>
                      <a:pt x="16795" y="8"/>
                    </a:cubicBezTo>
                    <a:lnTo>
                      <a:pt x="16795" y="8"/>
                    </a:lnTo>
                    <a:cubicBezTo>
                      <a:pt x="16794" y="8"/>
                      <a:pt x="16793" y="7"/>
                      <a:pt x="16793" y="6"/>
                    </a:cubicBezTo>
                    <a:cubicBezTo>
                      <a:pt x="16793" y="5"/>
                      <a:pt x="16794" y="4"/>
                      <a:pt x="16795" y="4"/>
                    </a:cubicBezTo>
                    <a:close/>
                    <a:moveTo>
                      <a:pt x="16803" y="4"/>
                    </a:moveTo>
                    <a:lnTo>
                      <a:pt x="16803" y="4"/>
                    </a:lnTo>
                    <a:cubicBezTo>
                      <a:pt x="16804" y="4"/>
                      <a:pt x="16805" y="5"/>
                      <a:pt x="16805" y="6"/>
                    </a:cubicBezTo>
                    <a:cubicBezTo>
                      <a:pt x="16805" y="7"/>
                      <a:pt x="16804" y="8"/>
                      <a:pt x="16803" y="8"/>
                    </a:cubicBezTo>
                    <a:lnTo>
                      <a:pt x="16803" y="8"/>
                    </a:lnTo>
                    <a:cubicBezTo>
                      <a:pt x="16802" y="8"/>
                      <a:pt x="16801" y="7"/>
                      <a:pt x="16801" y="6"/>
                    </a:cubicBezTo>
                    <a:cubicBezTo>
                      <a:pt x="16801" y="5"/>
                      <a:pt x="16802" y="4"/>
                      <a:pt x="16803" y="4"/>
                    </a:cubicBezTo>
                    <a:close/>
                    <a:moveTo>
                      <a:pt x="16811" y="4"/>
                    </a:moveTo>
                    <a:lnTo>
                      <a:pt x="16811" y="4"/>
                    </a:lnTo>
                    <a:cubicBezTo>
                      <a:pt x="16812" y="4"/>
                      <a:pt x="16813" y="5"/>
                      <a:pt x="16813" y="6"/>
                    </a:cubicBezTo>
                    <a:cubicBezTo>
                      <a:pt x="16813" y="7"/>
                      <a:pt x="16812" y="8"/>
                      <a:pt x="16811" y="8"/>
                    </a:cubicBezTo>
                    <a:lnTo>
                      <a:pt x="16811" y="8"/>
                    </a:lnTo>
                    <a:cubicBezTo>
                      <a:pt x="16810" y="8"/>
                      <a:pt x="16809" y="7"/>
                      <a:pt x="16809" y="6"/>
                    </a:cubicBezTo>
                    <a:cubicBezTo>
                      <a:pt x="16809" y="5"/>
                      <a:pt x="16810" y="4"/>
                      <a:pt x="16811" y="4"/>
                    </a:cubicBezTo>
                    <a:close/>
                    <a:moveTo>
                      <a:pt x="16819" y="4"/>
                    </a:moveTo>
                    <a:lnTo>
                      <a:pt x="16819" y="4"/>
                    </a:lnTo>
                    <a:cubicBezTo>
                      <a:pt x="16820" y="4"/>
                      <a:pt x="16821" y="5"/>
                      <a:pt x="16821" y="6"/>
                    </a:cubicBezTo>
                    <a:cubicBezTo>
                      <a:pt x="16821" y="7"/>
                      <a:pt x="16820" y="8"/>
                      <a:pt x="16819" y="8"/>
                    </a:cubicBezTo>
                    <a:lnTo>
                      <a:pt x="16819" y="8"/>
                    </a:lnTo>
                    <a:cubicBezTo>
                      <a:pt x="16818" y="8"/>
                      <a:pt x="16817" y="7"/>
                      <a:pt x="16817" y="6"/>
                    </a:cubicBezTo>
                    <a:cubicBezTo>
                      <a:pt x="16817" y="5"/>
                      <a:pt x="16818" y="4"/>
                      <a:pt x="16819" y="4"/>
                    </a:cubicBezTo>
                    <a:close/>
                    <a:moveTo>
                      <a:pt x="16827" y="4"/>
                    </a:moveTo>
                    <a:lnTo>
                      <a:pt x="16827" y="4"/>
                    </a:lnTo>
                    <a:cubicBezTo>
                      <a:pt x="16828" y="4"/>
                      <a:pt x="16829" y="5"/>
                      <a:pt x="16829" y="6"/>
                    </a:cubicBezTo>
                    <a:cubicBezTo>
                      <a:pt x="16829" y="7"/>
                      <a:pt x="16828" y="8"/>
                      <a:pt x="16827" y="8"/>
                    </a:cubicBezTo>
                    <a:lnTo>
                      <a:pt x="16827" y="8"/>
                    </a:lnTo>
                    <a:cubicBezTo>
                      <a:pt x="16826" y="8"/>
                      <a:pt x="16825" y="7"/>
                      <a:pt x="16825" y="6"/>
                    </a:cubicBezTo>
                    <a:cubicBezTo>
                      <a:pt x="16825" y="5"/>
                      <a:pt x="16826" y="4"/>
                      <a:pt x="16827" y="4"/>
                    </a:cubicBezTo>
                    <a:close/>
                    <a:moveTo>
                      <a:pt x="16835" y="4"/>
                    </a:moveTo>
                    <a:lnTo>
                      <a:pt x="16835" y="4"/>
                    </a:lnTo>
                    <a:cubicBezTo>
                      <a:pt x="16836" y="4"/>
                      <a:pt x="16837" y="5"/>
                      <a:pt x="16837" y="6"/>
                    </a:cubicBezTo>
                    <a:cubicBezTo>
                      <a:pt x="16837" y="7"/>
                      <a:pt x="16836" y="8"/>
                      <a:pt x="16835" y="8"/>
                    </a:cubicBezTo>
                    <a:lnTo>
                      <a:pt x="16835" y="8"/>
                    </a:lnTo>
                    <a:cubicBezTo>
                      <a:pt x="16834" y="8"/>
                      <a:pt x="16833" y="7"/>
                      <a:pt x="16833" y="6"/>
                    </a:cubicBezTo>
                    <a:cubicBezTo>
                      <a:pt x="16833" y="5"/>
                      <a:pt x="16834" y="4"/>
                      <a:pt x="16835" y="4"/>
                    </a:cubicBezTo>
                    <a:close/>
                    <a:moveTo>
                      <a:pt x="16843" y="4"/>
                    </a:moveTo>
                    <a:lnTo>
                      <a:pt x="16843" y="4"/>
                    </a:lnTo>
                    <a:cubicBezTo>
                      <a:pt x="16844" y="4"/>
                      <a:pt x="16845" y="5"/>
                      <a:pt x="16845" y="6"/>
                    </a:cubicBezTo>
                    <a:cubicBezTo>
                      <a:pt x="16845" y="7"/>
                      <a:pt x="16844" y="8"/>
                      <a:pt x="16843" y="8"/>
                    </a:cubicBezTo>
                    <a:lnTo>
                      <a:pt x="16843" y="8"/>
                    </a:lnTo>
                    <a:cubicBezTo>
                      <a:pt x="16842" y="8"/>
                      <a:pt x="16841" y="7"/>
                      <a:pt x="16841" y="6"/>
                    </a:cubicBezTo>
                    <a:cubicBezTo>
                      <a:pt x="16841" y="5"/>
                      <a:pt x="16842" y="4"/>
                      <a:pt x="16843" y="4"/>
                    </a:cubicBezTo>
                    <a:close/>
                    <a:moveTo>
                      <a:pt x="16851" y="4"/>
                    </a:moveTo>
                    <a:lnTo>
                      <a:pt x="16851" y="4"/>
                    </a:lnTo>
                    <a:cubicBezTo>
                      <a:pt x="16852" y="4"/>
                      <a:pt x="16853" y="5"/>
                      <a:pt x="16853" y="6"/>
                    </a:cubicBezTo>
                    <a:cubicBezTo>
                      <a:pt x="16853" y="7"/>
                      <a:pt x="16852" y="8"/>
                      <a:pt x="16851" y="8"/>
                    </a:cubicBezTo>
                    <a:lnTo>
                      <a:pt x="16851" y="8"/>
                    </a:lnTo>
                    <a:cubicBezTo>
                      <a:pt x="16850" y="8"/>
                      <a:pt x="16849" y="7"/>
                      <a:pt x="16849" y="6"/>
                    </a:cubicBezTo>
                    <a:cubicBezTo>
                      <a:pt x="16849" y="5"/>
                      <a:pt x="16850" y="4"/>
                      <a:pt x="16851" y="4"/>
                    </a:cubicBezTo>
                    <a:close/>
                    <a:moveTo>
                      <a:pt x="16859" y="4"/>
                    </a:moveTo>
                    <a:lnTo>
                      <a:pt x="16859" y="4"/>
                    </a:lnTo>
                    <a:cubicBezTo>
                      <a:pt x="16860" y="4"/>
                      <a:pt x="16861" y="5"/>
                      <a:pt x="16861" y="6"/>
                    </a:cubicBezTo>
                    <a:cubicBezTo>
                      <a:pt x="16861" y="7"/>
                      <a:pt x="16860" y="8"/>
                      <a:pt x="16859" y="8"/>
                    </a:cubicBezTo>
                    <a:lnTo>
                      <a:pt x="16859" y="8"/>
                    </a:lnTo>
                    <a:cubicBezTo>
                      <a:pt x="16858" y="8"/>
                      <a:pt x="16857" y="7"/>
                      <a:pt x="16857" y="6"/>
                    </a:cubicBezTo>
                    <a:cubicBezTo>
                      <a:pt x="16857" y="5"/>
                      <a:pt x="16858" y="4"/>
                      <a:pt x="16859" y="4"/>
                    </a:cubicBezTo>
                    <a:close/>
                    <a:moveTo>
                      <a:pt x="16867" y="4"/>
                    </a:moveTo>
                    <a:lnTo>
                      <a:pt x="16867" y="4"/>
                    </a:lnTo>
                    <a:cubicBezTo>
                      <a:pt x="16868" y="4"/>
                      <a:pt x="16869" y="5"/>
                      <a:pt x="16869" y="6"/>
                    </a:cubicBezTo>
                    <a:cubicBezTo>
                      <a:pt x="16869" y="7"/>
                      <a:pt x="16868" y="8"/>
                      <a:pt x="16867" y="8"/>
                    </a:cubicBezTo>
                    <a:lnTo>
                      <a:pt x="16867" y="8"/>
                    </a:lnTo>
                    <a:cubicBezTo>
                      <a:pt x="16866" y="8"/>
                      <a:pt x="16865" y="7"/>
                      <a:pt x="16865" y="6"/>
                    </a:cubicBezTo>
                    <a:cubicBezTo>
                      <a:pt x="16865" y="5"/>
                      <a:pt x="16866" y="4"/>
                      <a:pt x="16867" y="4"/>
                    </a:cubicBezTo>
                    <a:close/>
                    <a:moveTo>
                      <a:pt x="16875" y="4"/>
                    </a:moveTo>
                    <a:lnTo>
                      <a:pt x="16875" y="4"/>
                    </a:lnTo>
                    <a:cubicBezTo>
                      <a:pt x="16876" y="4"/>
                      <a:pt x="16877" y="5"/>
                      <a:pt x="16877" y="6"/>
                    </a:cubicBezTo>
                    <a:cubicBezTo>
                      <a:pt x="16877" y="7"/>
                      <a:pt x="16876" y="8"/>
                      <a:pt x="16875" y="8"/>
                    </a:cubicBezTo>
                    <a:lnTo>
                      <a:pt x="16875" y="8"/>
                    </a:lnTo>
                    <a:cubicBezTo>
                      <a:pt x="16874" y="8"/>
                      <a:pt x="16873" y="7"/>
                      <a:pt x="16873" y="6"/>
                    </a:cubicBezTo>
                    <a:cubicBezTo>
                      <a:pt x="16873" y="5"/>
                      <a:pt x="16874" y="4"/>
                      <a:pt x="16875" y="4"/>
                    </a:cubicBezTo>
                    <a:close/>
                    <a:moveTo>
                      <a:pt x="16883" y="4"/>
                    </a:moveTo>
                    <a:lnTo>
                      <a:pt x="16883" y="4"/>
                    </a:lnTo>
                    <a:cubicBezTo>
                      <a:pt x="16884" y="4"/>
                      <a:pt x="16885" y="5"/>
                      <a:pt x="16885" y="6"/>
                    </a:cubicBezTo>
                    <a:cubicBezTo>
                      <a:pt x="16885" y="7"/>
                      <a:pt x="16884" y="8"/>
                      <a:pt x="16883" y="8"/>
                    </a:cubicBezTo>
                    <a:lnTo>
                      <a:pt x="16883" y="8"/>
                    </a:lnTo>
                    <a:cubicBezTo>
                      <a:pt x="16882" y="8"/>
                      <a:pt x="16881" y="7"/>
                      <a:pt x="16881" y="6"/>
                    </a:cubicBezTo>
                    <a:cubicBezTo>
                      <a:pt x="16881" y="5"/>
                      <a:pt x="16882" y="4"/>
                      <a:pt x="16883" y="4"/>
                    </a:cubicBezTo>
                    <a:close/>
                    <a:moveTo>
                      <a:pt x="16891" y="4"/>
                    </a:moveTo>
                    <a:lnTo>
                      <a:pt x="16891" y="4"/>
                    </a:lnTo>
                    <a:cubicBezTo>
                      <a:pt x="16892" y="4"/>
                      <a:pt x="16893" y="5"/>
                      <a:pt x="16893" y="6"/>
                    </a:cubicBezTo>
                    <a:cubicBezTo>
                      <a:pt x="16893" y="7"/>
                      <a:pt x="16892" y="8"/>
                      <a:pt x="16891" y="8"/>
                    </a:cubicBezTo>
                    <a:lnTo>
                      <a:pt x="16891" y="8"/>
                    </a:lnTo>
                    <a:cubicBezTo>
                      <a:pt x="16890" y="8"/>
                      <a:pt x="16889" y="7"/>
                      <a:pt x="16889" y="6"/>
                    </a:cubicBezTo>
                    <a:cubicBezTo>
                      <a:pt x="16889" y="5"/>
                      <a:pt x="16890" y="4"/>
                      <a:pt x="16891" y="4"/>
                    </a:cubicBezTo>
                    <a:close/>
                    <a:moveTo>
                      <a:pt x="16899" y="4"/>
                    </a:moveTo>
                    <a:lnTo>
                      <a:pt x="16899" y="4"/>
                    </a:lnTo>
                    <a:cubicBezTo>
                      <a:pt x="16901" y="4"/>
                      <a:pt x="16901" y="5"/>
                      <a:pt x="16901" y="6"/>
                    </a:cubicBezTo>
                    <a:cubicBezTo>
                      <a:pt x="16901" y="7"/>
                      <a:pt x="16901" y="8"/>
                      <a:pt x="16899" y="8"/>
                    </a:cubicBezTo>
                    <a:lnTo>
                      <a:pt x="16899" y="8"/>
                    </a:lnTo>
                    <a:cubicBezTo>
                      <a:pt x="16898" y="8"/>
                      <a:pt x="16897" y="7"/>
                      <a:pt x="16897" y="6"/>
                    </a:cubicBezTo>
                    <a:cubicBezTo>
                      <a:pt x="16897" y="5"/>
                      <a:pt x="16898" y="4"/>
                      <a:pt x="16899" y="4"/>
                    </a:cubicBezTo>
                    <a:close/>
                    <a:moveTo>
                      <a:pt x="16907" y="4"/>
                    </a:moveTo>
                    <a:lnTo>
                      <a:pt x="16907" y="4"/>
                    </a:lnTo>
                    <a:cubicBezTo>
                      <a:pt x="16909" y="4"/>
                      <a:pt x="16909" y="5"/>
                      <a:pt x="16909" y="6"/>
                    </a:cubicBezTo>
                    <a:cubicBezTo>
                      <a:pt x="16909" y="7"/>
                      <a:pt x="16909" y="8"/>
                      <a:pt x="16907" y="8"/>
                    </a:cubicBezTo>
                    <a:lnTo>
                      <a:pt x="16907" y="8"/>
                    </a:lnTo>
                    <a:cubicBezTo>
                      <a:pt x="16906" y="8"/>
                      <a:pt x="16905" y="7"/>
                      <a:pt x="16905" y="6"/>
                    </a:cubicBezTo>
                    <a:cubicBezTo>
                      <a:pt x="16905" y="5"/>
                      <a:pt x="16906" y="4"/>
                      <a:pt x="16907" y="4"/>
                    </a:cubicBezTo>
                    <a:close/>
                    <a:moveTo>
                      <a:pt x="16915" y="4"/>
                    </a:moveTo>
                    <a:lnTo>
                      <a:pt x="16915" y="4"/>
                    </a:lnTo>
                    <a:cubicBezTo>
                      <a:pt x="16917" y="4"/>
                      <a:pt x="16917" y="5"/>
                      <a:pt x="16917" y="6"/>
                    </a:cubicBezTo>
                    <a:cubicBezTo>
                      <a:pt x="16917" y="7"/>
                      <a:pt x="16917" y="8"/>
                      <a:pt x="16915" y="8"/>
                    </a:cubicBezTo>
                    <a:lnTo>
                      <a:pt x="16915" y="8"/>
                    </a:lnTo>
                    <a:cubicBezTo>
                      <a:pt x="16914" y="8"/>
                      <a:pt x="16913" y="7"/>
                      <a:pt x="16913" y="6"/>
                    </a:cubicBezTo>
                    <a:cubicBezTo>
                      <a:pt x="16913" y="5"/>
                      <a:pt x="16914" y="4"/>
                      <a:pt x="16915" y="4"/>
                    </a:cubicBezTo>
                    <a:close/>
                    <a:moveTo>
                      <a:pt x="16923" y="4"/>
                    </a:moveTo>
                    <a:lnTo>
                      <a:pt x="16923" y="4"/>
                    </a:lnTo>
                    <a:cubicBezTo>
                      <a:pt x="16925" y="4"/>
                      <a:pt x="16925" y="5"/>
                      <a:pt x="16925" y="6"/>
                    </a:cubicBezTo>
                    <a:cubicBezTo>
                      <a:pt x="16925" y="7"/>
                      <a:pt x="16925" y="8"/>
                      <a:pt x="16923" y="8"/>
                    </a:cubicBezTo>
                    <a:lnTo>
                      <a:pt x="16923" y="8"/>
                    </a:lnTo>
                    <a:cubicBezTo>
                      <a:pt x="16922" y="8"/>
                      <a:pt x="16921" y="7"/>
                      <a:pt x="16921" y="6"/>
                    </a:cubicBezTo>
                    <a:cubicBezTo>
                      <a:pt x="16921" y="5"/>
                      <a:pt x="16922" y="4"/>
                      <a:pt x="16923" y="4"/>
                    </a:cubicBezTo>
                    <a:close/>
                    <a:moveTo>
                      <a:pt x="16931" y="4"/>
                    </a:moveTo>
                    <a:lnTo>
                      <a:pt x="16931" y="4"/>
                    </a:lnTo>
                    <a:cubicBezTo>
                      <a:pt x="16933" y="4"/>
                      <a:pt x="16933" y="5"/>
                      <a:pt x="16933" y="6"/>
                    </a:cubicBezTo>
                    <a:cubicBezTo>
                      <a:pt x="16933" y="7"/>
                      <a:pt x="16933" y="8"/>
                      <a:pt x="16931" y="8"/>
                    </a:cubicBezTo>
                    <a:lnTo>
                      <a:pt x="16931" y="8"/>
                    </a:lnTo>
                    <a:cubicBezTo>
                      <a:pt x="16930" y="8"/>
                      <a:pt x="16929" y="7"/>
                      <a:pt x="16929" y="6"/>
                    </a:cubicBezTo>
                    <a:cubicBezTo>
                      <a:pt x="16929" y="5"/>
                      <a:pt x="16930" y="4"/>
                      <a:pt x="16931" y="4"/>
                    </a:cubicBezTo>
                    <a:close/>
                    <a:moveTo>
                      <a:pt x="16939" y="4"/>
                    </a:moveTo>
                    <a:lnTo>
                      <a:pt x="16939" y="4"/>
                    </a:lnTo>
                    <a:cubicBezTo>
                      <a:pt x="16941" y="4"/>
                      <a:pt x="16941" y="5"/>
                      <a:pt x="16941" y="6"/>
                    </a:cubicBezTo>
                    <a:cubicBezTo>
                      <a:pt x="16941" y="7"/>
                      <a:pt x="16941" y="8"/>
                      <a:pt x="16939" y="8"/>
                    </a:cubicBezTo>
                    <a:lnTo>
                      <a:pt x="16939" y="8"/>
                    </a:lnTo>
                    <a:cubicBezTo>
                      <a:pt x="16938" y="8"/>
                      <a:pt x="16937" y="7"/>
                      <a:pt x="16937" y="6"/>
                    </a:cubicBezTo>
                    <a:cubicBezTo>
                      <a:pt x="16937" y="5"/>
                      <a:pt x="16938" y="4"/>
                      <a:pt x="16939" y="4"/>
                    </a:cubicBezTo>
                    <a:close/>
                    <a:moveTo>
                      <a:pt x="16947" y="4"/>
                    </a:moveTo>
                    <a:lnTo>
                      <a:pt x="16947" y="4"/>
                    </a:lnTo>
                    <a:cubicBezTo>
                      <a:pt x="16949" y="4"/>
                      <a:pt x="16949" y="5"/>
                      <a:pt x="16949" y="6"/>
                    </a:cubicBezTo>
                    <a:cubicBezTo>
                      <a:pt x="16949" y="7"/>
                      <a:pt x="16949" y="8"/>
                      <a:pt x="16947" y="8"/>
                    </a:cubicBezTo>
                    <a:lnTo>
                      <a:pt x="16947" y="8"/>
                    </a:lnTo>
                    <a:cubicBezTo>
                      <a:pt x="16946" y="8"/>
                      <a:pt x="16945" y="7"/>
                      <a:pt x="16945" y="6"/>
                    </a:cubicBezTo>
                    <a:cubicBezTo>
                      <a:pt x="16945" y="5"/>
                      <a:pt x="16946" y="4"/>
                      <a:pt x="16947" y="4"/>
                    </a:cubicBezTo>
                    <a:close/>
                    <a:moveTo>
                      <a:pt x="16955" y="4"/>
                    </a:moveTo>
                    <a:lnTo>
                      <a:pt x="16955" y="4"/>
                    </a:lnTo>
                    <a:cubicBezTo>
                      <a:pt x="16957" y="4"/>
                      <a:pt x="16957" y="5"/>
                      <a:pt x="16957" y="6"/>
                    </a:cubicBezTo>
                    <a:cubicBezTo>
                      <a:pt x="16957" y="7"/>
                      <a:pt x="16957" y="8"/>
                      <a:pt x="16955" y="8"/>
                    </a:cubicBezTo>
                    <a:lnTo>
                      <a:pt x="16955" y="8"/>
                    </a:lnTo>
                    <a:cubicBezTo>
                      <a:pt x="16954" y="8"/>
                      <a:pt x="16953" y="7"/>
                      <a:pt x="16953" y="6"/>
                    </a:cubicBezTo>
                    <a:cubicBezTo>
                      <a:pt x="16953" y="5"/>
                      <a:pt x="16954" y="4"/>
                      <a:pt x="16955" y="4"/>
                    </a:cubicBezTo>
                    <a:close/>
                    <a:moveTo>
                      <a:pt x="16963" y="4"/>
                    </a:moveTo>
                    <a:lnTo>
                      <a:pt x="16963" y="4"/>
                    </a:lnTo>
                    <a:cubicBezTo>
                      <a:pt x="16965" y="4"/>
                      <a:pt x="16965" y="5"/>
                      <a:pt x="16965" y="6"/>
                    </a:cubicBezTo>
                    <a:cubicBezTo>
                      <a:pt x="16965" y="7"/>
                      <a:pt x="16965" y="8"/>
                      <a:pt x="16963" y="8"/>
                    </a:cubicBezTo>
                    <a:lnTo>
                      <a:pt x="16963" y="8"/>
                    </a:lnTo>
                    <a:cubicBezTo>
                      <a:pt x="16962" y="8"/>
                      <a:pt x="16961" y="7"/>
                      <a:pt x="16961" y="6"/>
                    </a:cubicBezTo>
                    <a:cubicBezTo>
                      <a:pt x="16961" y="5"/>
                      <a:pt x="16962" y="4"/>
                      <a:pt x="16963" y="4"/>
                    </a:cubicBezTo>
                    <a:close/>
                    <a:moveTo>
                      <a:pt x="16971" y="4"/>
                    </a:moveTo>
                    <a:lnTo>
                      <a:pt x="16971" y="4"/>
                    </a:lnTo>
                    <a:cubicBezTo>
                      <a:pt x="16973" y="4"/>
                      <a:pt x="16973" y="5"/>
                      <a:pt x="16973" y="6"/>
                    </a:cubicBezTo>
                    <a:cubicBezTo>
                      <a:pt x="16973" y="7"/>
                      <a:pt x="16973" y="8"/>
                      <a:pt x="16971" y="8"/>
                    </a:cubicBezTo>
                    <a:lnTo>
                      <a:pt x="16971" y="8"/>
                    </a:lnTo>
                    <a:cubicBezTo>
                      <a:pt x="16970" y="8"/>
                      <a:pt x="16969" y="7"/>
                      <a:pt x="16969" y="6"/>
                    </a:cubicBezTo>
                    <a:cubicBezTo>
                      <a:pt x="16969" y="5"/>
                      <a:pt x="16970" y="4"/>
                      <a:pt x="16971" y="4"/>
                    </a:cubicBezTo>
                    <a:close/>
                    <a:moveTo>
                      <a:pt x="16979" y="4"/>
                    </a:moveTo>
                    <a:lnTo>
                      <a:pt x="16979" y="4"/>
                    </a:lnTo>
                    <a:cubicBezTo>
                      <a:pt x="16981" y="4"/>
                      <a:pt x="16981" y="5"/>
                      <a:pt x="16981" y="6"/>
                    </a:cubicBezTo>
                    <a:cubicBezTo>
                      <a:pt x="16981" y="7"/>
                      <a:pt x="16981" y="8"/>
                      <a:pt x="16979" y="8"/>
                    </a:cubicBezTo>
                    <a:lnTo>
                      <a:pt x="16979" y="8"/>
                    </a:lnTo>
                    <a:cubicBezTo>
                      <a:pt x="16978" y="8"/>
                      <a:pt x="16977" y="7"/>
                      <a:pt x="16977" y="6"/>
                    </a:cubicBezTo>
                    <a:cubicBezTo>
                      <a:pt x="16977" y="5"/>
                      <a:pt x="16978" y="4"/>
                      <a:pt x="16979" y="4"/>
                    </a:cubicBezTo>
                    <a:close/>
                    <a:moveTo>
                      <a:pt x="16987" y="4"/>
                    </a:moveTo>
                    <a:lnTo>
                      <a:pt x="16987" y="4"/>
                    </a:lnTo>
                    <a:cubicBezTo>
                      <a:pt x="16989" y="4"/>
                      <a:pt x="16989" y="5"/>
                      <a:pt x="16989" y="6"/>
                    </a:cubicBezTo>
                    <a:cubicBezTo>
                      <a:pt x="16989" y="7"/>
                      <a:pt x="16989" y="8"/>
                      <a:pt x="16987" y="8"/>
                    </a:cubicBezTo>
                    <a:lnTo>
                      <a:pt x="16987" y="8"/>
                    </a:lnTo>
                    <a:cubicBezTo>
                      <a:pt x="16986" y="8"/>
                      <a:pt x="16985" y="7"/>
                      <a:pt x="16985" y="6"/>
                    </a:cubicBezTo>
                    <a:cubicBezTo>
                      <a:pt x="16985" y="5"/>
                      <a:pt x="16986" y="4"/>
                      <a:pt x="16987" y="4"/>
                    </a:cubicBezTo>
                    <a:close/>
                    <a:moveTo>
                      <a:pt x="16995" y="4"/>
                    </a:moveTo>
                    <a:lnTo>
                      <a:pt x="16995" y="4"/>
                    </a:lnTo>
                    <a:cubicBezTo>
                      <a:pt x="16997" y="4"/>
                      <a:pt x="16997" y="5"/>
                      <a:pt x="16997" y="6"/>
                    </a:cubicBezTo>
                    <a:cubicBezTo>
                      <a:pt x="16997" y="7"/>
                      <a:pt x="16997" y="8"/>
                      <a:pt x="16995" y="8"/>
                    </a:cubicBezTo>
                    <a:lnTo>
                      <a:pt x="16995" y="8"/>
                    </a:lnTo>
                    <a:cubicBezTo>
                      <a:pt x="16994" y="8"/>
                      <a:pt x="16993" y="7"/>
                      <a:pt x="16993" y="6"/>
                    </a:cubicBezTo>
                    <a:cubicBezTo>
                      <a:pt x="16993" y="5"/>
                      <a:pt x="16994" y="4"/>
                      <a:pt x="16995" y="4"/>
                    </a:cubicBezTo>
                    <a:close/>
                    <a:moveTo>
                      <a:pt x="17003" y="4"/>
                    </a:moveTo>
                    <a:lnTo>
                      <a:pt x="17003" y="4"/>
                    </a:lnTo>
                    <a:cubicBezTo>
                      <a:pt x="17005" y="4"/>
                      <a:pt x="17005" y="5"/>
                      <a:pt x="17005" y="6"/>
                    </a:cubicBezTo>
                    <a:cubicBezTo>
                      <a:pt x="17005" y="7"/>
                      <a:pt x="17005" y="8"/>
                      <a:pt x="17003" y="8"/>
                    </a:cubicBezTo>
                    <a:lnTo>
                      <a:pt x="17003" y="8"/>
                    </a:lnTo>
                    <a:cubicBezTo>
                      <a:pt x="17002" y="8"/>
                      <a:pt x="17001" y="7"/>
                      <a:pt x="17001" y="6"/>
                    </a:cubicBezTo>
                    <a:cubicBezTo>
                      <a:pt x="17001" y="5"/>
                      <a:pt x="17002" y="4"/>
                      <a:pt x="17003" y="4"/>
                    </a:cubicBezTo>
                    <a:close/>
                    <a:moveTo>
                      <a:pt x="17011" y="4"/>
                    </a:moveTo>
                    <a:lnTo>
                      <a:pt x="17011" y="4"/>
                    </a:lnTo>
                    <a:cubicBezTo>
                      <a:pt x="17013" y="4"/>
                      <a:pt x="17013" y="5"/>
                      <a:pt x="17013" y="6"/>
                    </a:cubicBezTo>
                    <a:cubicBezTo>
                      <a:pt x="17013" y="7"/>
                      <a:pt x="17013" y="8"/>
                      <a:pt x="17011" y="8"/>
                    </a:cubicBezTo>
                    <a:lnTo>
                      <a:pt x="17011" y="8"/>
                    </a:lnTo>
                    <a:cubicBezTo>
                      <a:pt x="17010" y="8"/>
                      <a:pt x="17009" y="7"/>
                      <a:pt x="17009" y="6"/>
                    </a:cubicBezTo>
                    <a:cubicBezTo>
                      <a:pt x="17009" y="5"/>
                      <a:pt x="17010" y="4"/>
                      <a:pt x="17011" y="4"/>
                    </a:cubicBezTo>
                    <a:close/>
                    <a:moveTo>
                      <a:pt x="17019" y="4"/>
                    </a:moveTo>
                    <a:lnTo>
                      <a:pt x="17019" y="4"/>
                    </a:lnTo>
                    <a:cubicBezTo>
                      <a:pt x="17021" y="4"/>
                      <a:pt x="17021" y="5"/>
                      <a:pt x="17021" y="6"/>
                    </a:cubicBezTo>
                    <a:cubicBezTo>
                      <a:pt x="17021" y="7"/>
                      <a:pt x="17021" y="8"/>
                      <a:pt x="17019" y="8"/>
                    </a:cubicBezTo>
                    <a:lnTo>
                      <a:pt x="17019" y="8"/>
                    </a:lnTo>
                    <a:cubicBezTo>
                      <a:pt x="17018" y="8"/>
                      <a:pt x="17017" y="7"/>
                      <a:pt x="17017" y="6"/>
                    </a:cubicBezTo>
                    <a:cubicBezTo>
                      <a:pt x="17017" y="5"/>
                      <a:pt x="17018" y="4"/>
                      <a:pt x="17019" y="4"/>
                    </a:cubicBezTo>
                    <a:close/>
                    <a:moveTo>
                      <a:pt x="17027" y="4"/>
                    </a:moveTo>
                    <a:lnTo>
                      <a:pt x="17027" y="4"/>
                    </a:lnTo>
                    <a:cubicBezTo>
                      <a:pt x="17029" y="4"/>
                      <a:pt x="17029" y="5"/>
                      <a:pt x="17029" y="6"/>
                    </a:cubicBezTo>
                    <a:cubicBezTo>
                      <a:pt x="17029" y="7"/>
                      <a:pt x="17029" y="8"/>
                      <a:pt x="17027" y="8"/>
                    </a:cubicBezTo>
                    <a:lnTo>
                      <a:pt x="17027" y="8"/>
                    </a:lnTo>
                    <a:cubicBezTo>
                      <a:pt x="17026" y="8"/>
                      <a:pt x="17025" y="7"/>
                      <a:pt x="17025" y="6"/>
                    </a:cubicBezTo>
                    <a:cubicBezTo>
                      <a:pt x="17025" y="5"/>
                      <a:pt x="17026" y="4"/>
                      <a:pt x="17027" y="4"/>
                    </a:cubicBezTo>
                    <a:close/>
                    <a:moveTo>
                      <a:pt x="17035" y="4"/>
                    </a:moveTo>
                    <a:lnTo>
                      <a:pt x="17035" y="4"/>
                    </a:lnTo>
                    <a:cubicBezTo>
                      <a:pt x="17037" y="4"/>
                      <a:pt x="17037" y="5"/>
                      <a:pt x="17037" y="6"/>
                    </a:cubicBezTo>
                    <a:cubicBezTo>
                      <a:pt x="17037" y="7"/>
                      <a:pt x="17037" y="8"/>
                      <a:pt x="17035" y="8"/>
                    </a:cubicBezTo>
                    <a:lnTo>
                      <a:pt x="17035" y="8"/>
                    </a:lnTo>
                    <a:cubicBezTo>
                      <a:pt x="17034" y="8"/>
                      <a:pt x="17033" y="7"/>
                      <a:pt x="17033" y="6"/>
                    </a:cubicBezTo>
                    <a:cubicBezTo>
                      <a:pt x="17033" y="5"/>
                      <a:pt x="17034" y="4"/>
                      <a:pt x="17035" y="4"/>
                    </a:cubicBezTo>
                    <a:close/>
                    <a:moveTo>
                      <a:pt x="17044" y="4"/>
                    </a:moveTo>
                    <a:lnTo>
                      <a:pt x="17044" y="4"/>
                    </a:lnTo>
                    <a:cubicBezTo>
                      <a:pt x="17045" y="4"/>
                      <a:pt x="17046" y="5"/>
                      <a:pt x="17046" y="6"/>
                    </a:cubicBezTo>
                    <a:cubicBezTo>
                      <a:pt x="17046" y="7"/>
                      <a:pt x="17045" y="8"/>
                      <a:pt x="17044" y="8"/>
                    </a:cubicBezTo>
                    <a:lnTo>
                      <a:pt x="17044" y="8"/>
                    </a:lnTo>
                    <a:cubicBezTo>
                      <a:pt x="17042" y="8"/>
                      <a:pt x="17041" y="7"/>
                      <a:pt x="17041" y="6"/>
                    </a:cubicBezTo>
                    <a:cubicBezTo>
                      <a:pt x="17041" y="5"/>
                      <a:pt x="17042" y="4"/>
                      <a:pt x="17044" y="4"/>
                    </a:cubicBezTo>
                    <a:close/>
                    <a:moveTo>
                      <a:pt x="17052" y="4"/>
                    </a:moveTo>
                    <a:lnTo>
                      <a:pt x="17052" y="4"/>
                    </a:lnTo>
                    <a:cubicBezTo>
                      <a:pt x="17053" y="4"/>
                      <a:pt x="17054" y="5"/>
                      <a:pt x="17054" y="6"/>
                    </a:cubicBezTo>
                    <a:cubicBezTo>
                      <a:pt x="17054" y="7"/>
                      <a:pt x="17053" y="8"/>
                      <a:pt x="17052" y="8"/>
                    </a:cubicBezTo>
                    <a:lnTo>
                      <a:pt x="17052" y="8"/>
                    </a:lnTo>
                    <a:cubicBezTo>
                      <a:pt x="17050" y="8"/>
                      <a:pt x="17050" y="7"/>
                      <a:pt x="17050" y="6"/>
                    </a:cubicBezTo>
                    <a:cubicBezTo>
                      <a:pt x="17050" y="5"/>
                      <a:pt x="17050" y="4"/>
                      <a:pt x="17052" y="4"/>
                    </a:cubicBezTo>
                    <a:close/>
                    <a:moveTo>
                      <a:pt x="17060" y="4"/>
                    </a:moveTo>
                    <a:lnTo>
                      <a:pt x="17060" y="4"/>
                    </a:lnTo>
                    <a:cubicBezTo>
                      <a:pt x="17061" y="4"/>
                      <a:pt x="17062" y="5"/>
                      <a:pt x="17062" y="6"/>
                    </a:cubicBezTo>
                    <a:cubicBezTo>
                      <a:pt x="17062" y="7"/>
                      <a:pt x="17061" y="8"/>
                      <a:pt x="17060" y="8"/>
                    </a:cubicBezTo>
                    <a:lnTo>
                      <a:pt x="17060" y="8"/>
                    </a:lnTo>
                    <a:cubicBezTo>
                      <a:pt x="17058" y="8"/>
                      <a:pt x="17058" y="7"/>
                      <a:pt x="17058" y="6"/>
                    </a:cubicBezTo>
                    <a:cubicBezTo>
                      <a:pt x="17058" y="5"/>
                      <a:pt x="17058" y="4"/>
                      <a:pt x="17060" y="4"/>
                    </a:cubicBezTo>
                    <a:close/>
                    <a:moveTo>
                      <a:pt x="17068" y="4"/>
                    </a:moveTo>
                    <a:lnTo>
                      <a:pt x="17068" y="4"/>
                    </a:lnTo>
                    <a:cubicBezTo>
                      <a:pt x="17069" y="4"/>
                      <a:pt x="17070" y="5"/>
                      <a:pt x="17070" y="6"/>
                    </a:cubicBezTo>
                    <a:cubicBezTo>
                      <a:pt x="17070" y="7"/>
                      <a:pt x="17069" y="8"/>
                      <a:pt x="17068" y="8"/>
                    </a:cubicBezTo>
                    <a:lnTo>
                      <a:pt x="17068" y="8"/>
                    </a:lnTo>
                    <a:cubicBezTo>
                      <a:pt x="17066" y="8"/>
                      <a:pt x="17066" y="7"/>
                      <a:pt x="17066" y="6"/>
                    </a:cubicBezTo>
                    <a:cubicBezTo>
                      <a:pt x="17066" y="5"/>
                      <a:pt x="17066" y="4"/>
                      <a:pt x="17068" y="4"/>
                    </a:cubicBezTo>
                    <a:close/>
                    <a:moveTo>
                      <a:pt x="17076" y="4"/>
                    </a:moveTo>
                    <a:lnTo>
                      <a:pt x="17076" y="4"/>
                    </a:lnTo>
                    <a:cubicBezTo>
                      <a:pt x="17077" y="4"/>
                      <a:pt x="17078" y="5"/>
                      <a:pt x="17078" y="6"/>
                    </a:cubicBezTo>
                    <a:cubicBezTo>
                      <a:pt x="17078" y="7"/>
                      <a:pt x="17077" y="8"/>
                      <a:pt x="17076" y="8"/>
                    </a:cubicBezTo>
                    <a:lnTo>
                      <a:pt x="17076" y="8"/>
                    </a:lnTo>
                    <a:cubicBezTo>
                      <a:pt x="17074" y="8"/>
                      <a:pt x="17074" y="7"/>
                      <a:pt x="17074" y="6"/>
                    </a:cubicBezTo>
                    <a:cubicBezTo>
                      <a:pt x="17074" y="5"/>
                      <a:pt x="17074" y="4"/>
                      <a:pt x="17076" y="4"/>
                    </a:cubicBezTo>
                    <a:close/>
                    <a:moveTo>
                      <a:pt x="17084" y="4"/>
                    </a:moveTo>
                    <a:lnTo>
                      <a:pt x="17084" y="4"/>
                    </a:lnTo>
                    <a:cubicBezTo>
                      <a:pt x="17085" y="4"/>
                      <a:pt x="17086" y="5"/>
                      <a:pt x="17086" y="6"/>
                    </a:cubicBezTo>
                    <a:cubicBezTo>
                      <a:pt x="17086" y="7"/>
                      <a:pt x="17085" y="8"/>
                      <a:pt x="17084" y="8"/>
                    </a:cubicBezTo>
                    <a:lnTo>
                      <a:pt x="17084" y="8"/>
                    </a:lnTo>
                    <a:cubicBezTo>
                      <a:pt x="17082" y="8"/>
                      <a:pt x="17082" y="7"/>
                      <a:pt x="17082" y="6"/>
                    </a:cubicBezTo>
                    <a:cubicBezTo>
                      <a:pt x="17082" y="5"/>
                      <a:pt x="17082" y="4"/>
                      <a:pt x="17084" y="4"/>
                    </a:cubicBezTo>
                    <a:close/>
                    <a:moveTo>
                      <a:pt x="17092" y="4"/>
                    </a:moveTo>
                    <a:lnTo>
                      <a:pt x="17092" y="4"/>
                    </a:lnTo>
                    <a:cubicBezTo>
                      <a:pt x="17093" y="4"/>
                      <a:pt x="17094" y="5"/>
                      <a:pt x="17094" y="6"/>
                    </a:cubicBezTo>
                    <a:cubicBezTo>
                      <a:pt x="17094" y="7"/>
                      <a:pt x="17093" y="8"/>
                      <a:pt x="17092" y="8"/>
                    </a:cubicBezTo>
                    <a:lnTo>
                      <a:pt x="17092" y="8"/>
                    </a:lnTo>
                    <a:cubicBezTo>
                      <a:pt x="17090" y="8"/>
                      <a:pt x="17090" y="7"/>
                      <a:pt x="17090" y="6"/>
                    </a:cubicBezTo>
                    <a:cubicBezTo>
                      <a:pt x="17090" y="5"/>
                      <a:pt x="17090" y="4"/>
                      <a:pt x="17092" y="4"/>
                    </a:cubicBezTo>
                    <a:close/>
                    <a:moveTo>
                      <a:pt x="17100" y="4"/>
                    </a:moveTo>
                    <a:lnTo>
                      <a:pt x="17100" y="4"/>
                    </a:lnTo>
                    <a:cubicBezTo>
                      <a:pt x="17101" y="4"/>
                      <a:pt x="17102" y="5"/>
                      <a:pt x="17102" y="6"/>
                    </a:cubicBezTo>
                    <a:cubicBezTo>
                      <a:pt x="17102" y="7"/>
                      <a:pt x="17101" y="8"/>
                      <a:pt x="17100" y="8"/>
                    </a:cubicBezTo>
                    <a:lnTo>
                      <a:pt x="17100" y="8"/>
                    </a:lnTo>
                    <a:cubicBezTo>
                      <a:pt x="17098" y="8"/>
                      <a:pt x="17098" y="7"/>
                      <a:pt x="17098" y="6"/>
                    </a:cubicBezTo>
                    <a:cubicBezTo>
                      <a:pt x="17098" y="5"/>
                      <a:pt x="17098" y="4"/>
                      <a:pt x="17100" y="4"/>
                    </a:cubicBezTo>
                    <a:close/>
                    <a:moveTo>
                      <a:pt x="17108" y="4"/>
                    </a:moveTo>
                    <a:lnTo>
                      <a:pt x="17108" y="4"/>
                    </a:lnTo>
                    <a:cubicBezTo>
                      <a:pt x="17109" y="4"/>
                      <a:pt x="17110" y="5"/>
                      <a:pt x="17110" y="6"/>
                    </a:cubicBezTo>
                    <a:cubicBezTo>
                      <a:pt x="17110" y="7"/>
                      <a:pt x="17109" y="8"/>
                      <a:pt x="17108" y="8"/>
                    </a:cubicBezTo>
                    <a:lnTo>
                      <a:pt x="17108" y="8"/>
                    </a:lnTo>
                    <a:cubicBezTo>
                      <a:pt x="17106" y="8"/>
                      <a:pt x="17106" y="7"/>
                      <a:pt x="17106" y="6"/>
                    </a:cubicBezTo>
                    <a:cubicBezTo>
                      <a:pt x="17106" y="5"/>
                      <a:pt x="17106" y="4"/>
                      <a:pt x="17108" y="4"/>
                    </a:cubicBezTo>
                    <a:close/>
                    <a:moveTo>
                      <a:pt x="17116" y="4"/>
                    </a:moveTo>
                    <a:lnTo>
                      <a:pt x="17116" y="4"/>
                    </a:lnTo>
                    <a:cubicBezTo>
                      <a:pt x="17117" y="4"/>
                      <a:pt x="17118" y="5"/>
                      <a:pt x="17118" y="6"/>
                    </a:cubicBezTo>
                    <a:cubicBezTo>
                      <a:pt x="17118" y="7"/>
                      <a:pt x="17117" y="8"/>
                      <a:pt x="17116" y="8"/>
                    </a:cubicBezTo>
                    <a:lnTo>
                      <a:pt x="17116" y="8"/>
                    </a:lnTo>
                    <a:cubicBezTo>
                      <a:pt x="17114" y="8"/>
                      <a:pt x="17114" y="7"/>
                      <a:pt x="17114" y="6"/>
                    </a:cubicBezTo>
                    <a:cubicBezTo>
                      <a:pt x="17114" y="5"/>
                      <a:pt x="17114" y="4"/>
                      <a:pt x="17116" y="4"/>
                    </a:cubicBezTo>
                    <a:close/>
                    <a:moveTo>
                      <a:pt x="17124" y="4"/>
                    </a:moveTo>
                    <a:lnTo>
                      <a:pt x="17124" y="4"/>
                    </a:lnTo>
                    <a:cubicBezTo>
                      <a:pt x="17125" y="4"/>
                      <a:pt x="17126" y="5"/>
                      <a:pt x="17126" y="6"/>
                    </a:cubicBezTo>
                    <a:cubicBezTo>
                      <a:pt x="17126" y="7"/>
                      <a:pt x="17125" y="8"/>
                      <a:pt x="17124" y="8"/>
                    </a:cubicBezTo>
                    <a:lnTo>
                      <a:pt x="17124" y="8"/>
                    </a:lnTo>
                    <a:cubicBezTo>
                      <a:pt x="17122" y="8"/>
                      <a:pt x="17122" y="7"/>
                      <a:pt x="17122" y="6"/>
                    </a:cubicBezTo>
                    <a:cubicBezTo>
                      <a:pt x="17122" y="5"/>
                      <a:pt x="17122" y="4"/>
                      <a:pt x="17124" y="4"/>
                    </a:cubicBezTo>
                    <a:close/>
                    <a:moveTo>
                      <a:pt x="17132" y="4"/>
                    </a:moveTo>
                    <a:lnTo>
                      <a:pt x="17132" y="4"/>
                    </a:lnTo>
                    <a:cubicBezTo>
                      <a:pt x="17133" y="4"/>
                      <a:pt x="17134" y="5"/>
                      <a:pt x="17134" y="6"/>
                    </a:cubicBezTo>
                    <a:cubicBezTo>
                      <a:pt x="17134" y="7"/>
                      <a:pt x="17133" y="8"/>
                      <a:pt x="17132" y="8"/>
                    </a:cubicBezTo>
                    <a:lnTo>
                      <a:pt x="17132" y="8"/>
                    </a:lnTo>
                    <a:cubicBezTo>
                      <a:pt x="17130" y="8"/>
                      <a:pt x="17130" y="7"/>
                      <a:pt x="17130" y="6"/>
                    </a:cubicBezTo>
                    <a:cubicBezTo>
                      <a:pt x="17130" y="5"/>
                      <a:pt x="17130" y="4"/>
                      <a:pt x="17132" y="4"/>
                    </a:cubicBezTo>
                    <a:close/>
                    <a:moveTo>
                      <a:pt x="17140" y="4"/>
                    </a:moveTo>
                    <a:lnTo>
                      <a:pt x="17140" y="4"/>
                    </a:lnTo>
                    <a:cubicBezTo>
                      <a:pt x="17141" y="4"/>
                      <a:pt x="17142" y="5"/>
                      <a:pt x="17142" y="6"/>
                    </a:cubicBezTo>
                    <a:cubicBezTo>
                      <a:pt x="17142" y="7"/>
                      <a:pt x="17141" y="8"/>
                      <a:pt x="17140" y="8"/>
                    </a:cubicBezTo>
                    <a:lnTo>
                      <a:pt x="17140" y="8"/>
                    </a:lnTo>
                    <a:cubicBezTo>
                      <a:pt x="17138" y="8"/>
                      <a:pt x="17138" y="7"/>
                      <a:pt x="17138" y="6"/>
                    </a:cubicBezTo>
                    <a:cubicBezTo>
                      <a:pt x="17138" y="5"/>
                      <a:pt x="17138" y="4"/>
                      <a:pt x="17140" y="4"/>
                    </a:cubicBezTo>
                    <a:close/>
                    <a:moveTo>
                      <a:pt x="17148" y="4"/>
                    </a:moveTo>
                    <a:lnTo>
                      <a:pt x="17148" y="4"/>
                    </a:lnTo>
                    <a:cubicBezTo>
                      <a:pt x="17149" y="4"/>
                      <a:pt x="17150" y="5"/>
                      <a:pt x="17150" y="6"/>
                    </a:cubicBezTo>
                    <a:cubicBezTo>
                      <a:pt x="17150" y="7"/>
                      <a:pt x="17149" y="8"/>
                      <a:pt x="17148" y="8"/>
                    </a:cubicBezTo>
                    <a:lnTo>
                      <a:pt x="17148" y="8"/>
                    </a:lnTo>
                    <a:cubicBezTo>
                      <a:pt x="17146" y="8"/>
                      <a:pt x="17146" y="7"/>
                      <a:pt x="17146" y="6"/>
                    </a:cubicBezTo>
                    <a:cubicBezTo>
                      <a:pt x="17146" y="5"/>
                      <a:pt x="17146" y="4"/>
                      <a:pt x="17148" y="4"/>
                    </a:cubicBezTo>
                    <a:close/>
                    <a:moveTo>
                      <a:pt x="17156" y="4"/>
                    </a:moveTo>
                    <a:lnTo>
                      <a:pt x="17156" y="4"/>
                    </a:lnTo>
                    <a:cubicBezTo>
                      <a:pt x="17157" y="4"/>
                      <a:pt x="17158" y="5"/>
                      <a:pt x="17158" y="6"/>
                    </a:cubicBezTo>
                    <a:cubicBezTo>
                      <a:pt x="17158" y="7"/>
                      <a:pt x="17157" y="8"/>
                      <a:pt x="17156" y="8"/>
                    </a:cubicBezTo>
                    <a:lnTo>
                      <a:pt x="17156" y="8"/>
                    </a:lnTo>
                    <a:cubicBezTo>
                      <a:pt x="17154" y="8"/>
                      <a:pt x="17154" y="7"/>
                      <a:pt x="17154" y="6"/>
                    </a:cubicBezTo>
                    <a:cubicBezTo>
                      <a:pt x="17154" y="5"/>
                      <a:pt x="17154" y="4"/>
                      <a:pt x="17156" y="4"/>
                    </a:cubicBezTo>
                    <a:close/>
                    <a:moveTo>
                      <a:pt x="17164" y="4"/>
                    </a:moveTo>
                    <a:lnTo>
                      <a:pt x="17164" y="4"/>
                    </a:lnTo>
                    <a:cubicBezTo>
                      <a:pt x="17165" y="4"/>
                      <a:pt x="17166" y="5"/>
                      <a:pt x="17166" y="6"/>
                    </a:cubicBezTo>
                    <a:cubicBezTo>
                      <a:pt x="17166" y="7"/>
                      <a:pt x="17165" y="8"/>
                      <a:pt x="17164" y="8"/>
                    </a:cubicBezTo>
                    <a:lnTo>
                      <a:pt x="17164" y="8"/>
                    </a:lnTo>
                    <a:cubicBezTo>
                      <a:pt x="17162" y="8"/>
                      <a:pt x="17162" y="7"/>
                      <a:pt x="17162" y="6"/>
                    </a:cubicBezTo>
                    <a:cubicBezTo>
                      <a:pt x="17162" y="5"/>
                      <a:pt x="17162" y="4"/>
                      <a:pt x="17164" y="4"/>
                    </a:cubicBezTo>
                    <a:close/>
                    <a:moveTo>
                      <a:pt x="17172" y="4"/>
                    </a:moveTo>
                    <a:lnTo>
                      <a:pt x="17172" y="4"/>
                    </a:lnTo>
                    <a:cubicBezTo>
                      <a:pt x="17173" y="4"/>
                      <a:pt x="17174" y="5"/>
                      <a:pt x="17174" y="6"/>
                    </a:cubicBezTo>
                    <a:cubicBezTo>
                      <a:pt x="17174" y="7"/>
                      <a:pt x="17173" y="8"/>
                      <a:pt x="17172" y="8"/>
                    </a:cubicBezTo>
                    <a:lnTo>
                      <a:pt x="17172" y="8"/>
                    </a:lnTo>
                    <a:cubicBezTo>
                      <a:pt x="17170" y="8"/>
                      <a:pt x="17170" y="7"/>
                      <a:pt x="17170" y="6"/>
                    </a:cubicBezTo>
                    <a:cubicBezTo>
                      <a:pt x="17170" y="5"/>
                      <a:pt x="17170" y="4"/>
                      <a:pt x="17172" y="4"/>
                    </a:cubicBezTo>
                    <a:close/>
                    <a:moveTo>
                      <a:pt x="17180" y="4"/>
                    </a:moveTo>
                    <a:lnTo>
                      <a:pt x="17180" y="4"/>
                    </a:lnTo>
                    <a:cubicBezTo>
                      <a:pt x="17181" y="4"/>
                      <a:pt x="17182" y="5"/>
                      <a:pt x="17182" y="6"/>
                    </a:cubicBezTo>
                    <a:cubicBezTo>
                      <a:pt x="17182" y="7"/>
                      <a:pt x="17181" y="8"/>
                      <a:pt x="17180" y="8"/>
                    </a:cubicBezTo>
                    <a:lnTo>
                      <a:pt x="17180" y="8"/>
                    </a:lnTo>
                    <a:cubicBezTo>
                      <a:pt x="17178" y="8"/>
                      <a:pt x="17178" y="7"/>
                      <a:pt x="17178" y="6"/>
                    </a:cubicBezTo>
                    <a:cubicBezTo>
                      <a:pt x="17178" y="5"/>
                      <a:pt x="17178" y="4"/>
                      <a:pt x="17180" y="4"/>
                    </a:cubicBezTo>
                    <a:close/>
                    <a:moveTo>
                      <a:pt x="17188" y="4"/>
                    </a:moveTo>
                    <a:lnTo>
                      <a:pt x="17188" y="4"/>
                    </a:lnTo>
                    <a:cubicBezTo>
                      <a:pt x="17189" y="4"/>
                      <a:pt x="17190" y="5"/>
                      <a:pt x="17190" y="6"/>
                    </a:cubicBezTo>
                    <a:cubicBezTo>
                      <a:pt x="17190" y="7"/>
                      <a:pt x="17189" y="8"/>
                      <a:pt x="17188" y="8"/>
                    </a:cubicBezTo>
                    <a:lnTo>
                      <a:pt x="17188" y="8"/>
                    </a:lnTo>
                    <a:cubicBezTo>
                      <a:pt x="17187" y="8"/>
                      <a:pt x="17186" y="7"/>
                      <a:pt x="17186" y="6"/>
                    </a:cubicBezTo>
                    <a:cubicBezTo>
                      <a:pt x="17186" y="5"/>
                      <a:pt x="17187" y="4"/>
                      <a:pt x="17188" y="4"/>
                    </a:cubicBezTo>
                    <a:close/>
                    <a:moveTo>
                      <a:pt x="17196" y="4"/>
                    </a:moveTo>
                    <a:lnTo>
                      <a:pt x="17196" y="4"/>
                    </a:lnTo>
                    <a:cubicBezTo>
                      <a:pt x="17197" y="4"/>
                      <a:pt x="17198" y="5"/>
                      <a:pt x="17198" y="6"/>
                    </a:cubicBezTo>
                    <a:cubicBezTo>
                      <a:pt x="17198" y="7"/>
                      <a:pt x="17197" y="8"/>
                      <a:pt x="17196" y="8"/>
                    </a:cubicBezTo>
                    <a:lnTo>
                      <a:pt x="17196" y="8"/>
                    </a:lnTo>
                    <a:cubicBezTo>
                      <a:pt x="17195" y="8"/>
                      <a:pt x="17194" y="7"/>
                      <a:pt x="17194" y="6"/>
                    </a:cubicBezTo>
                    <a:cubicBezTo>
                      <a:pt x="17194" y="5"/>
                      <a:pt x="17195" y="4"/>
                      <a:pt x="17196" y="4"/>
                    </a:cubicBezTo>
                    <a:close/>
                    <a:moveTo>
                      <a:pt x="17204" y="4"/>
                    </a:moveTo>
                    <a:lnTo>
                      <a:pt x="17204" y="4"/>
                    </a:lnTo>
                    <a:cubicBezTo>
                      <a:pt x="17205" y="4"/>
                      <a:pt x="17206" y="5"/>
                      <a:pt x="17206" y="6"/>
                    </a:cubicBezTo>
                    <a:cubicBezTo>
                      <a:pt x="17206" y="7"/>
                      <a:pt x="17205" y="8"/>
                      <a:pt x="17204" y="8"/>
                    </a:cubicBezTo>
                    <a:lnTo>
                      <a:pt x="17204" y="8"/>
                    </a:lnTo>
                    <a:cubicBezTo>
                      <a:pt x="17203" y="8"/>
                      <a:pt x="17202" y="7"/>
                      <a:pt x="17202" y="6"/>
                    </a:cubicBezTo>
                    <a:cubicBezTo>
                      <a:pt x="17202" y="5"/>
                      <a:pt x="17203" y="4"/>
                      <a:pt x="17204" y="4"/>
                    </a:cubicBezTo>
                    <a:close/>
                    <a:moveTo>
                      <a:pt x="17212" y="4"/>
                    </a:moveTo>
                    <a:lnTo>
                      <a:pt x="17212" y="4"/>
                    </a:lnTo>
                    <a:cubicBezTo>
                      <a:pt x="17213" y="4"/>
                      <a:pt x="17214" y="5"/>
                      <a:pt x="17214" y="6"/>
                    </a:cubicBezTo>
                    <a:cubicBezTo>
                      <a:pt x="17214" y="7"/>
                      <a:pt x="17213" y="8"/>
                      <a:pt x="17212" y="8"/>
                    </a:cubicBezTo>
                    <a:lnTo>
                      <a:pt x="17212" y="8"/>
                    </a:lnTo>
                    <a:cubicBezTo>
                      <a:pt x="17211" y="8"/>
                      <a:pt x="17210" y="7"/>
                      <a:pt x="17210" y="6"/>
                    </a:cubicBezTo>
                    <a:cubicBezTo>
                      <a:pt x="17210" y="5"/>
                      <a:pt x="17211" y="4"/>
                      <a:pt x="17212" y="4"/>
                    </a:cubicBezTo>
                    <a:close/>
                    <a:moveTo>
                      <a:pt x="17220" y="4"/>
                    </a:moveTo>
                    <a:lnTo>
                      <a:pt x="17220" y="4"/>
                    </a:lnTo>
                    <a:cubicBezTo>
                      <a:pt x="17221" y="4"/>
                      <a:pt x="17222" y="5"/>
                      <a:pt x="17222" y="6"/>
                    </a:cubicBezTo>
                    <a:cubicBezTo>
                      <a:pt x="17222" y="7"/>
                      <a:pt x="17221" y="8"/>
                      <a:pt x="17220" y="8"/>
                    </a:cubicBezTo>
                    <a:lnTo>
                      <a:pt x="17220" y="8"/>
                    </a:lnTo>
                    <a:cubicBezTo>
                      <a:pt x="17219" y="8"/>
                      <a:pt x="17218" y="7"/>
                      <a:pt x="17218" y="6"/>
                    </a:cubicBezTo>
                    <a:cubicBezTo>
                      <a:pt x="17218" y="5"/>
                      <a:pt x="17219" y="4"/>
                      <a:pt x="17220" y="4"/>
                    </a:cubicBezTo>
                    <a:close/>
                    <a:moveTo>
                      <a:pt x="17228" y="4"/>
                    </a:moveTo>
                    <a:lnTo>
                      <a:pt x="17228" y="4"/>
                    </a:lnTo>
                    <a:cubicBezTo>
                      <a:pt x="17229" y="4"/>
                      <a:pt x="17230" y="5"/>
                      <a:pt x="17230" y="6"/>
                    </a:cubicBezTo>
                    <a:cubicBezTo>
                      <a:pt x="17230" y="7"/>
                      <a:pt x="17229" y="8"/>
                      <a:pt x="17228" y="8"/>
                    </a:cubicBezTo>
                    <a:lnTo>
                      <a:pt x="17228" y="8"/>
                    </a:lnTo>
                    <a:cubicBezTo>
                      <a:pt x="17227" y="8"/>
                      <a:pt x="17226" y="7"/>
                      <a:pt x="17226" y="6"/>
                    </a:cubicBezTo>
                    <a:cubicBezTo>
                      <a:pt x="17226" y="5"/>
                      <a:pt x="17227" y="4"/>
                      <a:pt x="17228" y="4"/>
                    </a:cubicBezTo>
                    <a:close/>
                    <a:moveTo>
                      <a:pt x="17236" y="4"/>
                    </a:moveTo>
                    <a:lnTo>
                      <a:pt x="17236" y="4"/>
                    </a:lnTo>
                    <a:cubicBezTo>
                      <a:pt x="17237" y="4"/>
                      <a:pt x="17238" y="5"/>
                      <a:pt x="17238" y="6"/>
                    </a:cubicBezTo>
                    <a:cubicBezTo>
                      <a:pt x="17238" y="7"/>
                      <a:pt x="17237" y="8"/>
                      <a:pt x="17236" y="8"/>
                    </a:cubicBezTo>
                    <a:lnTo>
                      <a:pt x="17236" y="8"/>
                    </a:lnTo>
                    <a:cubicBezTo>
                      <a:pt x="17235" y="8"/>
                      <a:pt x="17234" y="7"/>
                      <a:pt x="17234" y="6"/>
                    </a:cubicBezTo>
                    <a:cubicBezTo>
                      <a:pt x="17234" y="5"/>
                      <a:pt x="17235" y="4"/>
                      <a:pt x="17236" y="4"/>
                    </a:cubicBezTo>
                    <a:close/>
                    <a:moveTo>
                      <a:pt x="17244" y="4"/>
                    </a:moveTo>
                    <a:lnTo>
                      <a:pt x="17244" y="4"/>
                    </a:lnTo>
                    <a:cubicBezTo>
                      <a:pt x="17245" y="4"/>
                      <a:pt x="17246" y="5"/>
                      <a:pt x="17246" y="6"/>
                    </a:cubicBezTo>
                    <a:cubicBezTo>
                      <a:pt x="17246" y="7"/>
                      <a:pt x="17245" y="8"/>
                      <a:pt x="17244" y="8"/>
                    </a:cubicBezTo>
                    <a:lnTo>
                      <a:pt x="17244" y="8"/>
                    </a:lnTo>
                    <a:cubicBezTo>
                      <a:pt x="17243" y="8"/>
                      <a:pt x="17242" y="7"/>
                      <a:pt x="17242" y="6"/>
                    </a:cubicBezTo>
                    <a:cubicBezTo>
                      <a:pt x="17242" y="5"/>
                      <a:pt x="17243" y="4"/>
                      <a:pt x="17244" y="4"/>
                    </a:cubicBezTo>
                    <a:close/>
                    <a:moveTo>
                      <a:pt x="17252" y="4"/>
                    </a:moveTo>
                    <a:lnTo>
                      <a:pt x="17252" y="4"/>
                    </a:lnTo>
                    <a:cubicBezTo>
                      <a:pt x="17253" y="4"/>
                      <a:pt x="17254" y="5"/>
                      <a:pt x="17254" y="6"/>
                    </a:cubicBezTo>
                    <a:cubicBezTo>
                      <a:pt x="17254" y="7"/>
                      <a:pt x="17253" y="8"/>
                      <a:pt x="17252" y="8"/>
                    </a:cubicBezTo>
                    <a:lnTo>
                      <a:pt x="17252" y="8"/>
                    </a:lnTo>
                    <a:cubicBezTo>
                      <a:pt x="17251" y="8"/>
                      <a:pt x="17250" y="7"/>
                      <a:pt x="17250" y="6"/>
                    </a:cubicBezTo>
                    <a:cubicBezTo>
                      <a:pt x="17250" y="5"/>
                      <a:pt x="17251" y="4"/>
                      <a:pt x="17252" y="4"/>
                    </a:cubicBezTo>
                    <a:close/>
                    <a:moveTo>
                      <a:pt x="17260" y="4"/>
                    </a:moveTo>
                    <a:lnTo>
                      <a:pt x="17260" y="4"/>
                    </a:lnTo>
                    <a:cubicBezTo>
                      <a:pt x="17261" y="4"/>
                      <a:pt x="17262" y="5"/>
                      <a:pt x="17262" y="6"/>
                    </a:cubicBezTo>
                    <a:cubicBezTo>
                      <a:pt x="17262" y="7"/>
                      <a:pt x="17261" y="8"/>
                      <a:pt x="17260" y="8"/>
                    </a:cubicBezTo>
                    <a:lnTo>
                      <a:pt x="17260" y="8"/>
                    </a:lnTo>
                    <a:cubicBezTo>
                      <a:pt x="17259" y="8"/>
                      <a:pt x="17258" y="7"/>
                      <a:pt x="17258" y="6"/>
                    </a:cubicBezTo>
                    <a:cubicBezTo>
                      <a:pt x="17258" y="5"/>
                      <a:pt x="17259" y="4"/>
                      <a:pt x="17260" y="4"/>
                    </a:cubicBezTo>
                    <a:close/>
                    <a:moveTo>
                      <a:pt x="17268" y="4"/>
                    </a:moveTo>
                    <a:lnTo>
                      <a:pt x="17268" y="4"/>
                    </a:lnTo>
                    <a:cubicBezTo>
                      <a:pt x="17269" y="4"/>
                      <a:pt x="17270" y="5"/>
                      <a:pt x="17270" y="6"/>
                    </a:cubicBezTo>
                    <a:cubicBezTo>
                      <a:pt x="17270" y="7"/>
                      <a:pt x="17269" y="8"/>
                      <a:pt x="17268" y="8"/>
                    </a:cubicBezTo>
                    <a:lnTo>
                      <a:pt x="17268" y="8"/>
                    </a:lnTo>
                    <a:cubicBezTo>
                      <a:pt x="17267" y="8"/>
                      <a:pt x="17266" y="7"/>
                      <a:pt x="17266" y="6"/>
                    </a:cubicBezTo>
                    <a:cubicBezTo>
                      <a:pt x="17266" y="5"/>
                      <a:pt x="17267" y="4"/>
                      <a:pt x="17268" y="4"/>
                    </a:cubicBezTo>
                    <a:close/>
                    <a:moveTo>
                      <a:pt x="17276" y="4"/>
                    </a:moveTo>
                    <a:lnTo>
                      <a:pt x="17276" y="4"/>
                    </a:lnTo>
                    <a:cubicBezTo>
                      <a:pt x="17277" y="4"/>
                      <a:pt x="17278" y="5"/>
                      <a:pt x="17278" y="6"/>
                    </a:cubicBezTo>
                    <a:cubicBezTo>
                      <a:pt x="17278" y="7"/>
                      <a:pt x="17277" y="8"/>
                      <a:pt x="17276" y="8"/>
                    </a:cubicBezTo>
                    <a:lnTo>
                      <a:pt x="17276" y="8"/>
                    </a:lnTo>
                    <a:cubicBezTo>
                      <a:pt x="17275" y="8"/>
                      <a:pt x="17274" y="7"/>
                      <a:pt x="17274" y="6"/>
                    </a:cubicBezTo>
                    <a:cubicBezTo>
                      <a:pt x="17274" y="5"/>
                      <a:pt x="17275" y="4"/>
                      <a:pt x="17276" y="4"/>
                    </a:cubicBezTo>
                    <a:close/>
                    <a:moveTo>
                      <a:pt x="17284" y="4"/>
                    </a:moveTo>
                    <a:lnTo>
                      <a:pt x="17284" y="4"/>
                    </a:lnTo>
                    <a:cubicBezTo>
                      <a:pt x="17285" y="4"/>
                      <a:pt x="17286" y="5"/>
                      <a:pt x="17286" y="6"/>
                    </a:cubicBezTo>
                    <a:cubicBezTo>
                      <a:pt x="17286" y="7"/>
                      <a:pt x="17285" y="8"/>
                      <a:pt x="17284" y="8"/>
                    </a:cubicBezTo>
                    <a:lnTo>
                      <a:pt x="17284" y="8"/>
                    </a:lnTo>
                    <a:cubicBezTo>
                      <a:pt x="17283" y="8"/>
                      <a:pt x="17282" y="7"/>
                      <a:pt x="17282" y="6"/>
                    </a:cubicBezTo>
                    <a:cubicBezTo>
                      <a:pt x="17282" y="5"/>
                      <a:pt x="17283" y="4"/>
                      <a:pt x="17284" y="4"/>
                    </a:cubicBezTo>
                    <a:close/>
                    <a:moveTo>
                      <a:pt x="17292" y="4"/>
                    </a:moveTo>
                    <a:lnTo>
                      <a:pt x="17292" y="4"/>
                    </a:lnTo>
                    <a:cubicBezTo>
                      <a:pt x="17293" y="4"/>
                      <a:pt x="17294" y="5"/>
                      <a:pt x="17294" y="6"/>
                    </a:cubicBezTo>
                    <a:cubicBezTo>
                      <a:pt x="17294" y="7"/>
                      <a:pt x="17293" y="8"/>
                      <a:pt x="17292" y="8"/>
                    </a:cubicBezTo>
                    <a:lnTo>
                      <a:pt x="17292" y="8"/>
                    </a:lnTo>
                    <a:cubicBezTo>
                      <a:pt x="17291" y="8"/>
                      <a:pt x="17290" y="7"/>
                      <a:pt x="17290" y="6"/>
                    </a:cubicBezTo>
                    <a:cubicBezTo>
                      <a:pt x="17290" y="5"/>
                      <a:pt x="17291" y="4"/>
                      <a:pt x="17292" y="4"/>
                    </a:cubicBezTo>
                    <a:close/>
                    <a:moveTo>
                      <a:pt x="17300" y="4"/>
                    </a:moveTo>
                    <a:lnTo>
                      <a:pt x="17300" y="4"/>
                    </a:lnTo>
                    <a:cubicBezTo>
                      <a:pt x="17301" y="4"/>
                      <a:pt x="17302" y="5"/>
                      <a:pt x="17302" y="6"/>
                    </a:cubicBezTo>
                    <a:cubicBezTo>
                      <a:pt x="17302" y="7"/>
                      <a:pt x="17301" y="8"/>
                      <a:pt x="17300" y="8"/>
                    </a:cubicBezTo>
                    <a:lnTo>
                      <a:pt x="17300" y="8"/>
                    </a:lnTo>
                    <a:cubicBezTo>
                      <a:pt x="17299" y="8"/>
                      <a:pt x="17298" y="7"/>
                      <a:pt x="17298" y="6"/>
                    </a:cubicBezTo>
                    <a:cubicBezTo>
                      <a:pt x="17298" y="5"/>
                      <a:pt x="17299" y="4"/>
                      <a:pt x="17300" y="4"/>
                    </a:cubicBezTo>
                    <a:close/>
                    <a:moveTo>
                      <a:pt x="17308" y="4"/>
                    </a:moveTo>
                    <a:lnTo>
                      <a:pt x="17308" y="4"/>
                    </a:lnTo>
                    <a:cubicBezTo>
                      <a:pt x="17309" y="4"/>
                      <a:pt x="17310" y="5"/>
                      <a:pt x="17310" y="6"/>
                    </a:cubicBezTo>
                    <a:cubicBezTo>
                      <a:pt x="17310" y="7"/>
                      <a:pt x="17309" y="8"/>
                      <a:pt x="17308" y="8"/>
                    </a:cubicBezTo>
                    <a:lnTo>
                      <a:pt x="17308" y="8"/>
                    </a:lnTo>
                    <a:cubicBezTo>
                      <a:pt x="17307" y="8"/>
                      <a:pt x="17306" y="7"/>
                      <a:pt x="17306" y="6"/>
                    </a:cubicBezTo>
                    <a:cubicBezTo>
                      <a:pt x="17306" y="5"/>
                      <a:pt x="17307" y="4"/>
                      <a:pt x="17308" y="4"/>
                    </a:cubicBezTo>
                    <a:close/>
                    <a:moveTo>
                      <a:pt x="17316" y="4"/>
                    </a:moveTo>
                    <a:lnTo>
                      <a:pt x="17316" y="4"/>
                    </a:lnTo>
                    <a:cubicBezTo>
                      <a:pt x="17317" y="4"/>
                      <a:pt x="17318" y="5"/>
                      <a:pt x="17318" y="6"/>
                    </a:cubicBezTo>
                    <a:cubicBezTo>
                      <a:pt x="17318" y="7"/>
                      <a:pt x="17317" y="8"/>
                      <a:pt x="17316" y="8"/>
                    </a:cubicBezTo>
                    <a:lnTo>
                      <a:pt x="17316" y="8"/>
                    </a:lnTo>
                    <a:cubicBezTo>
                      <a:pt x="17315" y="8"/>
                      <a:pt x="17314" y="7"/>
                      <a:pt x="17314" y="6"/>
                    </a:cubicBezTo>
                    <a:cubicBezTo>
                      <a:pt x="17314" y="5"/>
                      <a:pt x="17315" y="4"/>
                      <a:pt x="17316" y="4"/>
                    </a:cubicBezTo>
                    <a:close/>
                    <a:moveTo>
                      <a:pt x="17324" y="4"/>
                    </a:moveTo>
                    <a:lnTo>
                      <a:pt x="17324" y="4"/>
                    </a:lnTo>
                    <a:cubicBezTo>
                      <a:pt x="17325" y="4"/>
                      <a:pt x="17326" y="5"/>
                      <a:pt x="17326" y="6"/>
                    </a:cubicBezTo>
                    <a:cubicBezTo>
                      <a:pt x="17326" y="7"/>
                      <a:pt x="17325" y="8"/>
                      <a:pt x="17324" y="8"/>
                    </a:cubicBezTo>
                    <a:lnTo>
                      <a:pt x="17324" y="8"/>
                    </a:lnTo>
                    <a:cubicBezTo>
                      <a:pt x="17323" y="8"/>
                      <a:pt x="17322" y="7"/>
                      <a:pt x="17322" y="6"/>
                    </a:cubicBezTo>
                    <a:cubicBezTo>
                      <a:pt x="17322" y="5"/>
                      <a:pt x="17323" y="4"/>
                      <a:pt x="17324" y="4"/>
                    </a:cubicBezTo>
                    <a:close/>
                    <a:moveTo>
                      <a:pt x="17332" y="4"/>
                    </a:moveTo>
                    <a:lnTo>
                      <a:pt x="17332" y="4"/>
                    </a:lnTo>
                    <a:cubicBezTo>
                      <a:pt x="17333" y="4"/>
                      <a:pt x="17334" y="5"/>
                      <a:pt x="17334" y="6"/>
                    </a:cubicBezTo>
                    <a:cubicBezTo>
                      <a:pt x="17334" y="7"/>
                      <a:pt x="17333" y="8"/>
                      <a:pt x="17332" y="8"/>
                    </a:cubicBezTo>
                    <a:lnTo>
                      <a:pt x="17332" y="8"/>
                    </a:lnTo>
                    <a:cubicBezTo>
                      <a:pt x="17331" y="8"/>
                      <a:pt x="17330" y="7"/>
                      <a:pt x="17330" y="6"/>
                    </a:cubicBezTo>
                    <a:cubicBezTo>
                      <a:pt x="17330" y="5"/>
                      <a:pt x="17331" y="4"/>
                      <a:pt x="17332" y="4"/>
                    </a:cubicBezTo>
                    <a:close/>
                    <a:moveTo>
                      <a:pt x="17340" y="4"/>
                    </a:moveTo>
                    <a:lnTo>
                      <a:pt x="17340" y="4"/>
                    </a:lnTo>
                    <a:cubicBezTo>
                      <a:pt x="17341" y="4"/>
                      <a:pt x="17342" y="5"/>
                      <a:pt x="17342" y="6"/>
                    </a:cubicBezTo>
                    <a:cubicBezTo>
                      <a:pt x="17342" y="7"/>
                      <a:pt x="17341" y="8"/>
                      <a:pt x="17340" y="8"/>
                    </a:cubicBezTo>
                    <a:lnTo>
                      <a:pt x="17340" y="8"/>
                    </a:lnTo>
                    <a:cubicBezTo>
                      <a:pt x="17339" y="8"/>
                      <a:pt x="17338" y="7"/>
                      <a:pt x="17338" y="6"/>
                    </a:cubicBezTo>
                    <a:cubicBezTo>
                      <a:pt x="17338" y="5"/>
                      <a:pt x="17339" y="4"/>
                      <a:pt x="17340" y="4"/>
                    </a:cubicBezTo>
                    <a:close/>
                    <a:moveTo>
                      <a:pt x="17348" y="4"/>
                    </a:moveTo>
                    <a:lnTo>
                      <a:pt x="17348" y="4"/>
                    </a:lnTo>
                    <a:cubicBezTo>
                      <a:pt x="17349" y="4"/>
                      <a:pt x="17350" y="5"/>
                      <a:pt x="17350" y="6"/>
                    </a:cubicBezTo>
                    <a:cubicBezTo>
                      <a:pt x="17350" y="7"/>
                      <a:pt x="17349" y="8"/>
                      <a:pt x="17348" y="8"/>
                    </a:cubicBezTo>
                    <a:lnTo>
                      <a:pt x="17348" y="8"/>
                    </a:lnTo>
                    <a:cubicBezTo>
                      <a:pt x="17347" y="8"/>
                      <a:pt x="17346" y="7"/>
                      <a:pt x="17346" y="6"/>
                    </a:cubicBezTo>
                    <a:cubicBezTo>
                      <a:pt x="17346" y="5"/>
                      <a:pt x="17347" y="4"/>
                      <a:pt x="17348" y="4"/>
                    </a:cubicBezTo>
                    <a:close/>
                    <a:moveTo>
                      <a:pt x="17356" y="4"/>
                    </a:moveTo>
                    <a:lnTo>
                      <a:pt x="17356" y="4"/>
                    </a:lnTo>
                    <a:cubicBezTo>
                      <a:pt x="17357" y="4"/>
                      <a:pt x="17358" y="5"/>
                      <a:pt x="17358" y="6"/>
                    </a:cubicBezTo>
                    <a:cubicBezTo>
                      <a:pt x="17358" y="7"/>
                      <a:pt x="17357" y="8"/>
                      <a:pt x="17356" y="8"/>
                    </a:cubicBezTo>
                    <a:lnTo>
                      <a:pt x="17356" y="8"/>
                    </a:lnTo>
                    <a:cubicBezTo>
                      <a:pt x="17355" y="8"/>
                      <a:pt x="17354" y="7"/>
                      <a:pt x="17354" y="6"/>
                    </a:cubicBezTo>
                    <a:cubicBezTo>
                      <a:pt x="17354" y="5"/>
                      <a:pt x="17355" y="4"/>
                      <a:pt x="17356" y="4"/>
                    </a:cubicBezTo>
                    <a:close/>
                    <a:moveTo>
                      <a:pt x="17364" y="4"/>
                    </a:moveTo>
                    <a:lnTo>
                      <a:pt x="17364" y="4"/>
                    </a:lnTo>
                    <a:cubicBezTo>
                      <a:pt x="17365" y="4"/>
                      <a:pt x="17366" y="5"/>
                      <a:pt x="17366" y="6"/>
                    </a:cubicBezTo>
                    <a:cubicBezTo>
                      <a:pt x="17366" y="7"/>
                      <a:pt x="17365" y="8"/>
                      <a:pt x="17364" y="8"/>
                    </a:cubicBezTo>
                    <a:lnTo>
                      <a:pt x="17364" y="8"/>
                    </a:lnTo>
                    <a:cubicBezTo>
                      <a:pt x="17363" y="8"/>
                      <a:pt x="17362" y="7"/>
                      <a:pt x="17362" y="6"/>
                    </a:cubicBezTo>
                    <a:cubicBezTo>
                      <a:pt x="17362" y="5"/>
                      <a:pt x="17363" y="4"/>
                      <a:pt x="17364" y="4"/>
                    </a:cubicBezTo>
                    <a:close/>
                    <a:moveTo>
                      <a:pt x="17372" y="4"/>
                    </a:moveTo>
                    <a:lnTo>
                      <a:pt x="17372" y="4"/>
                    </a:lnTo>
                    <a:cubicBezTo>
                      <a:pt x="17373" y="4"/>
                      <a:pt x="17374" y="5"/>
                      <a:pt x="17374" y="6"/>
                    </a:cubicBezTo>
                    <a:cubicBezTo>
                      <a:pt x="17374" y="7"/>
                      <a:pt x="17373" y="8"/>
                      <a:pt x="17372" y="8"/>
                    </a:cubicBezTo>
                    <a:lnTo>
                      <a:pt x="17372" y="8"/>
                    </a:lnTo>
                    <a:cubicBezTo>
                      <a:pt x="17371" y="8"/>
                      <a:pt x="17370" y="7"/>
                      <a:pt x="17370" y="6"/>
                    </a:cubicBezTo>
                    <a:cubicBezTo>
                      <a:pt x="17370" y="5"/>
                      <a:pt x="17371" y="4"/>
                      <a:pt x="17372" y="4"/>
                    </a:cubicBezTo>
                    <a:close/>
                    <a:moveTo>
                      <a:pt x="17380" y="4"/>
                    </a:moveTo>
                    <a:lnTo>
                      <a:pt x="17380" y="4"/>
                    </a:lnTo>
                    <a:cubicBezTo>
                      <a:pt x="17381" y="4"/>
                      <a:pt x="17382" y="5"/>
                      <a:pt x="17382" y="6"/>
                    </a:cubicBezTo>
                    <a:cubicBezTo>
                      <a:pt x="17382" y="7"/>
                      <a:pt x="17381" y="8"/>
                      <a:pt x="17380" y="8"/>
                    </a:cubicBezTo>
                    <a:lnTo>
                      <a:pt x="17380" y="8"/>
                    </a:lnTo>
                    <a:cubicBezTo>
                      <a:pt x="17379" y="8"/>
                      <a:pt x="17378" y="7"/>
                      <a:pt x="17378" y="6"/>
                    </a:cubicBezTo>
                    <a:cubicBezTo>
                      <a:pt x="17378" y="5"/>
                      <a:pt x="17379" y="4"/>
                      <a:pt x="17380" y="4"/>
                    </a:cubicBezTo>
                    <a:close/>
                    <a:moveTo>
                      <a:pt x="17388" y="4"/>
                    </a:moveTo>
                    <a:lnTo>
                      <a:pt x="17388" y="4"/>
                    </a:lnTo>
                    <a:cubicBezTo>
                      <a:pt x="17389" y="4"/>
                      <a:pt x="17390" y="5"/>
                      <a:pt x="17390" y="6"/>
                    </a:cubicBezTo>
                    <a:cubicBezTo>
                      <a:pt x="17390" y="7"/>
                      <a:pt x="17389" y="8"/>
                      <a:pt x="17388" y="8"/>
                    </a:cubicBezTo>
                    <a:lnTo>
                      <a:pt x="17388" y="8"/>
                    </a:lnTo>
                    <a:cubicBezTo>
                      <a:pt x="17387" y="8"/>
                      <a:pt x="17386" y="7"/>
                      <a:pt x="17386" y="6"/>
                    </a:cubicBezTo>
                    <a:cubicBezTo>
                      <a:pt x="17386" y="5"/>
                      <a:pt x="17387" y="4"/>
                      <a:pt x="17388" y="4"/>
                    </a:cubicBezTo>
                    <a:close/>
                    <a:moveTo>
                      <a:pt x="17396" y="4"/>
                    </a:moveTo>
                    <a:lnTo>
                      <a:pt x="17396" y="4"/>
                    </a:lnTo>
                    <a:cubicBezTo>
                      <a:pt x="17397" y="4"/>
                      <a:pt x="17398" y="5"/>
                      <a:pt x="17398" y="6"/>
                    </a:cubicBezTo>
                    <a:cubicBezTo>
                      <a:pt x="17398" y="7"/>
                      <a:pt x="17397" y="8"/>
                      <a:pt x="17396" y="8"/>
                    </a:cubicBezTo>
                    <a:lnTo>
                      <a:pt x="17396" y="8"/>
                    </a:lnTo>
                    <a:cubicBezTo>
                      <a:pt x="17395" y="8"/>
                      <a:pt x="17394" y="7"/>
                      <a:pt x="17394" y="6"/>
                    </a:cubicBezTo>
                    <a:cubicBezTo>
                      <a:pt x="17394" y="5"/>
                      <a:pt x="17395" y="4"/>
                      <a:pt x="17396" y="4"/>
                    </a:cubicBezTo>
                    <a:close/>
                    <a:moveTo>
                      <a:pt x="17404" y="4"/>
                    </a:moveTo>
                    <a:lnTo>
                      <a:pt x="17404" y="4"/>
                    </a:lnTo>
                    <a:cubicBezTo>
                      <a:pt x="17405" y="4"/>
                      <a:pt x="17406" y="5"/>
                      <a:pt x="17406" y="6"/>
                    </a:cubicBezTo>
                    <a:cubicBezTo>
                      <a:pt x="17406" y="7"/>
                      <a:pt x="17405" y="8"/>
                      <a:pt x="17404" y="8"/>
                    </a:cubicBezTo>
                    <a:lnTo>
                      <a:pt x="17404" y="8"/>
                    </a:lnTo>
                    <a:cubicBezTo>
                      <a:pt x="17403" y="8"/>
                      <a:pt x="17402" y="7"/>
                      <a:pt x="17402" y="6"/>
                    </a:cubicBezTo>
                    <a:cubicBezTo>
                      <a:pt x="17402" y="5"/>
                      <a:pt x="17403" y="4"/>
                      <a:pt x="17404" y="4"/>
                    </a:cubicBezTo>
                    <a:close/>
                    <a:moveTo>
                      <a:pt x="17412" y="4"/>
                    </a:moveTo>
                    <a:lnTo>
                      <a:pt x="17412" y="4"/>
                    </a:lnTo>
                    <a:cubicBezTo>
                      <a:pt x="17413" y="4"/>
                      <a:pt x="17414" y="5"/>
                      <a:pt x="17414" y="6"/>
                    </a:cubicBezTo>
                    <a:cubicBezTo>
                      <a:pt x="17414" y="7"/>
                      <a:pt x="17413" y="8"/>
                      <a:pt x="17412" y="8"/>
                    </a:cubicBezTo>
                    <a:lnTo>
                      <a:pt x="17412" y="8"/>
                    </a:lnTo>
                    <a:cubicBezTo>
                      <a:pt x="17411" y="8"/>
                      <a:pt x="17410" y="7"/>
                      <a:pt x="17410" y="6"/>
                    </a:cubicBezTo>
                    <a:cubicBezTo>
                      <a:pt x="17410" y="5"/>
                      <a:pt x="17411" y="4"/>
                      <a:pt x="17412" y="4"/>
                    </a:cubicBezTo>
                    <a:close/>
                    <a:moveTo>
                      <a:pt x="17420" y="4"/>
                    </a:moveTo>
                    <a:lnTo>
                      <a:pt x="17420" y="4"/>
                    </a:lnTo>
                    <a:cubicBezTo>
                      <a:pt x="17421" y="4"/>
                      <a:pt x="17422" y="5"/>
                      <a:pt x="17422" y="6"/>
                    </a:cubicBezTo>
                    <a:cubicBezTo>
                      <a:pt x="17422" y="7"/>
                      <a:pt x="17421" y="8"/>
                      <a:pt x="17420" y="8"/>
                    </a:cubicBezTo>
                    <a:lnTo>
                      <a:pt x="17420" y="8"/>
                    </a:lnTo>
                    <a:cubicBezTo>
                      <a:pt x="17419" y="8"/>
                      <a:pt x="17418" y="7"/>
                      <a:pt x="17418" y="6"/>
                    </a:cubicBezTo>
                    <a:cubicBezTo>
                      <a:pt x="17418" y="5"/>
                      <a:pt x="17419" y="4"/>
                      <a:pt x="17420" y="4"/>
                    </a:cubicBezTo>
                    <a:close/>
                    <a:moveTo>
                      <a:pt x="17428" y="4"/>
                    </a:moveTo>
                    <a:lnTo>
                      <a:pt x="17428" y="4"/>
                    </a:lnTo>
                    <a:cubicBezTo>
                      <a:pt x="17429" y="4"/>
                      <a:pt x="17430" y="5"/>
                      <a:pt x="17430" y="6"/>
                    </a:cubicBezTo>
                    <a:cubicBezTo>
                      <a:pt x="17430" y="7"/>
                      <a:pt x="17429" y="8"/>
                      <a:pt x="17428" y="8"/>
                    </a:cubicBezTo>
                    <a:lnTo>
                      <a:pt x="17428" y="8"/>
                    </a:lnTo>
                    <a:cubicBezTo>
                      <a:pt x="17427" y="8"/>
                      <a:pt x="17426" y="7"/>
                      <a:pt x="17426" y="6"/>
                    </a:cubicBezTo>
                    <a:cubicBezTo>
                      <a:pt x="17426" y="5"/>
                      <a:pt x="17427" y="4"/>
                      <a:pt x="17428" y="4"/>
                    </a:cubicBezTo>
                    <a:close/>
                    <a:moveTo>
                      <a:pt x="17436" y="4"/>
                    </a:moveTo>
                    <a:lnTo>
                      <a:pt x="17436" y="4"/>
                    </a:lnTo>
                    <a:cubicBezTo>
                      <a:pt x="17437" y="4"/>
                      <a:pt x="17438" y="5"/>
                      <a:pt x="17438" y="6"/>
                    </a:cubicBezTo>
                    <a:cubicBezTo>
                      <a:pt x="17438" y="7"/>
                      <a:pt x="17437" y="8"/>
                      <a:pt x="17436" y="8"/>
                    </a:cubicBezTo>
                    <a:lnTo>
                      <a:pt x="17436" y="8"/>
                    </a:lnTo>
                    <a:cubicBezTo>
                      <a:pt x="17435" y="8"/>
                      <a:pt x="17434" y="7"/>
                      <a:pt x="17434" y="6"/>
                    </a:cubicBezTo>
                    <a:cubicBezTo>
                      <a:pt x="17434" y="5"/>
                      <a:pt x="17435" y="4"/>
                      <a:pt x="17436" y="4"/>
                    </a:cubicBezTo>
                    <a:close/>
                    <a:moveTo>
                      <a:pt x="17444" y="4"/>
                    </a:moveTo>
                    <a:lnTo>
                      <a:pt x="17444" y="4"/>
                    </a:lnTo>
                    <a:cubicBezTo>
                      <a:pt x="17445" y="4"/>
                      <a:pt x="17446" y="5"/>
                      <a:pt x="17446" y="6"/>
                    </a:cubicBezTo>
                    <a:cubicBezTo>
                      <a:pt x="17446" y="7"/>
                      <a:pt x="17445" y="8"/>
                      <a:pt x="17444" y="8"/>
                    </a:cubicBezTo>
                    <a:lnTo>
                      <a:pt x="17444" y="8"/>
                    </a:lnTo>
                    <a:cubicBezTo>
                      <a:pt x="17443" y="8"/>
                      <a:pt x="17442" y="7"/>
                      <a:pt x="17442" y="6"/>
                    </a:cubicBezTo>
                    <a:cubicBezTo>
                      <a:pt x="17442" y="5"/>
                      <a:pt x="17443" y="4"/>
                      <a:pt x="17444" y="4"/>
                    </a:cubicBezTo>
                    <a:close/>
                    <a:moveTo>
                      <a:pt x="17452" y="4"/>
                    </a:moveTo>
                    <a:lnTo>
                      <a:pt x="17452" y="4"/>
                    </a:lnTo>
                    <a:cubicBezTo>
                      <a:pt x="17453" y="4"/>
                      <a:pt x="17454" y="5"/>
                      <a:pt x="17454" y="6"/>
                    </a:cubicBezTo>
                    <a:cubicBezTo>
                      <a:pt x="17454" y="7"/>
                      <a:pt x="17453" y="8"/>
                      <a:pt x="17452" y="8"/>
                    </a:cubicBezTo>
                    <a:lnTo>
                      <a:pt x="17452" y="8"/>
                    </a:lnTo>
                    <a:cubicBezTo>
                      <a:pt x="17451" y="8"/>
                      <a:pt x="17450" y="7"/>
                      <a:pt x="17450" y="6"/>
                    </a:cubicBezTo>
                    <a:cubicBezTo>
                      <a:pt x="17450" y="5"/>
                      <a:pt x="17451" y="4"/>
                      <a:pt x="17452" y="4"/>
                    </a:cubicBezTo>
                    <a:close/>
                    <a:moveTo>
                      <a:pt x="17460" y="4"/>
                    </a:moveTo>
                    <a:lnTo>
                      <a:pt x="17460" y="4"/>
                    </a:lnTo>
                    <a:cubicBezTo>
                      <a:pt x="17461" y="4"/>
                      <a:pt x="17462" y="5"/>
                      <a:pt x="17462" y="6"/>
                    </a:cubicBezTo>
                    <a:cubicBezTo>
                      <a:pt x="17462" y="7"/>
                      <a:pt x="17461" y="8"/>
                      <a:pt x="17460" y="8"/>
                    </a:cubicBezTo>
                    <a:lnTo>
                      <a:pt x="17460" y="8"/>
                    </a:lnTo>
                    <a:cubicBezTo>
                      <a:pt x="17459" y="8"/>
                      <a:pt x="17458" y="7"/>
                      <a:pt x="17458" y="6"/>
                    </a:cubicBezTo>
                    <a:cubicBezTo>
                      <a:pt x="17458" y="5"/>
                      <a:pt x="17459" y="4"/>
                      <a:pt x="17460" y="4"/>
                    </a:cubicBezTo>
                    <a:close/>
                    <a:moveTo>
                      <a:pt x="17468" y="4"/>
                    </a:moveTo>
                    <a:lnTo>
                      <a:pt x="17468" y="4"/>
                    </a:lnTo>
                    <a:cubicBezTo>
                      <a:pt x="17469" y="4"/>
                      <a:pt x="17470" y="5"/>
                      <a:pt x="17470" y="6"/>
                    </a:cubicBezTo>
                    <a:cubicBezTo>
                      <a:pt x="17470" y="7"/>
                      <a:pt x="17469" y="8"/>
                      <a:pt x="17468" y="8"/>
                    </a:cubicBezTo>
                    <a:lnTo>
                      <a:pt x="17468" y="8"/>
                    </a:lnTo>
                    <a:cubicBezTo>
                      <a:pt x="17467" y="8"/>
                      <a:pt x="17466" y="7"/>
                      <a:pt x="17466" y="6"/>
                    </a:cubicBezTo>
                    <a:cubicBezTo>
                      <a:pt x="17466" y="5"/>
                      <a:pt x="17467" y="4"/>
                      <a:pt x="17468" y="4"/>
                    </a:cubicBezTo>
                    <a:close/>
                    <a:moveTo>
                      <a:pt x="17476" y="4"/>
                    </a:moveTo>
                    <a:lnTo>
                      <a:pt x="17476" y="4"/>
                    </a:lnTo>
                    <a:cubicBezTo>
                      <a:pt x="17477" y="4"/>
                      <a:pt x="17478" y="5"/>
                      <a:pt x="17478" y="6"/>
                    </a:cubicBezTo>
                    <a:cubicBezTo>
                      <a:pt x="17478" y="7"/>
                      <a:pt x="17477" y="8"/>
                      <a:pt x="17476" y="8"/>
                    </a:cubicBezTo>
                    <a:lnTo>
                      <a:pt x="17476" y="8"/>
                    </a:lnTo>
                    <a:cubicBezTo>
                      <a:pt x="17475" y="8"/>
                      <a:pt x="17474" y="7"/>
                      <a:pt x="17474" y="6"/>
                    </a:cubicBezTo>
                    <a:cubicBezTo>
                      <a:pt x="17474" y="5"/>
                      <a:pt x="17475" y="4"/>
                      <a:pt x="17476" y="4"/>
                    </a:cubicBezTo>
                    <a:close/>
                    <a:moveTo>
                      <a:pt x="17484" y="4"/>
                    </a:moveTo>
                    <a:lnTo>
                      <a:pt x="17484" y="4"/>
                    </a:lnTo>
                    <a:cubicBezTo>
                      <a:pt x="17485" y="4"/>
                      <a:pt x="17486" y="5"/>
                      <a:pt x="17486" y="6"/>
                    </a:cubicBezTo>
                    <a:cubicBezTo>
                      <a:pt x="17486" y="7"/>
                      <a:pt x="17485" y="8"/>
                      <a:pt x="17484" y="8"/>
                    </a:cubicBezTo>
                    <a:lnTo>
                      <a:pt x="17484" y="8"/>
                    </a:lnTo>
                    <a:cubicBezTo>
                      <a:pt x="17483" y="8"/>
                      <a:pt x="17482" y="7"/>
                      <a:pt x="17482" y="6"/>
                    </a:cubicBezTo>
                    <a:cubicBezTo>
                      <a:pt x="17482" y="5"/>
                      <a:pt x="17483" y="4"/>
                      <a:pt x="17484" y="4"/>
                    </a:cubicBezTo>
                    <a:close/>
                    <a:moveTo>
                      <a:pt x="17492" y="4"/>
                    </a:moveTo>
                    <a:lnTo>
                      <a:pt x="17492" y="4"/>
                    </a:lnTo>
                    <a:cubicBezTo>
                      <a:pt x="17493" y="4"/>
                      <a:pt x="17494" y="5"/>
                      <a:pt x="17494" y="6"/>
                    </a:cubicBezTo>
                    <a:cubicBezTo>
                      <a:pt x="17494" y="7"/>
                      <a:pt x="17493" y="8"/>
                      <a:pt x="17492" y="8"/>
                    </a:cubicBezTo>
                    <a:lnTo>
                      <a:pt x="17492" y="8"/>
                    </a:lnTo>
                    <a:cubicBezTo>
                      <a:pt x="17491" y="8"/>
                      <a:pt x="17490" y="7"/>
                      <a:pt x="17490" y="6"/>
                    </a:cubicBezTo>
                    <a:cubicBezTo>
                      <a:pt x="17490" y="5"/>
                      <a:pt x="17491" y="4"/>
                      <a:pt x="17492" y="4"/>
                    </a:cubicBezTo>
                    <a:close/>
                    <a:moveTo>
                      <a:pt x="17500" y="4"/>
                    </a:moveTo>
                    <a:lnTo>
                      <a:pt x="17500" y="4"/>
                    </a:lnTo>
                    <a:cubicBezTo>
                      <a:pt x="17501" y="4"/>
                      <a:pt x="17502" y="5"/>
                      <a:pt x="17502" y="6"/>
                    </a:cubicBezTo>
                    <a:cubicBezTo>
                      <a:pt x="17502" y="7"/>
                      <a:pt x="17501" y="8"/>
                      <a:pt x="17500" y="8"/>
                    </a:cubicBezTo>
                    <a:lnTo>
                      <a:pt x="17500" y="8"/>
                    </a:lnTo>
                    <a:cubicBezTo>
                      <a:pt x="17499" y="8"/>
                      <a:pt x="17498" y="7"/>
                      <a:pt x="17498" y="6"/>
                    </a:cubicBezTo>
                    <a:cubicBezTo>
                      <a:pt x="17498" y="5"/>
                      <a:pt x="17499" y="4"/>
                      <a:pt x="17500" y="4"/>
                    </a:cubicBezTo>
                    <a:close/>
                    <a:moveTo>
                      <a:pt x="17508" y="4"/>
                    </a:moveTo>
                    <a:lnTo>
                      <a:pt x="17508" y="4"/>
                    </a:lnTo>
                    <a:cubicBezTo>
                      <a:pt x="17509" y="4"/>
                      <a:pt x="17510" y="5"/>
                      <a:pt x="17510" y="6"/>
                    </a:cubicBezTo>
                    <a:cubicBezTo>
                      <a:pt x="17510" y="7"/>
                      <a:pt x="17509" y="8"/>
                      <a:pt x="17508" y="8"/>
                    </a:cubicBezTo>
                    <a:lnTo>
                      <a:pt x="17508" y="8"/>
                    </a:lnTo>
                    <a:cubicBezTo>
                      <a:pt x="17507" y="8"/>
                      <a:pt x="17506" y="7"/>
                      <a:pt x="17506" y="6"/>
                    </a:cubicBezTo>
                    <a:cubicBezTo>
                      <a:pt x="17506" y="5"/>
                      <a:pt x="17507" y="4"/>
                      <a:pt x="17508" y="4"/>
                    </a:cubicBezTo>
                    <a:close/>
                    <a:moveTo>
                      <a:pt x="17516" y="4"/>
                    </a:moveTo>
                    <a:lnTo>
                      <a:pt x="17516" y="4"/>
                    </a:lnTo>
                    <a:cubicBezTo>
                      <a:pt x="17517" y="4"/>
                      <a:pt x="17518" y="5"/>
                      <a:pt x="17518" y="6"/>
                    </a:cubicBezTo>
                    <a:cubicBezTo>
                      <a:pt x="17518" y="7"/>
                      <a:pt x="17517" y="8"/>
                      <a:pt x="17516" y="8"/>
                    </a:cubicBezTo>
                    <a:lnTo>
                      <a:pt x="17516" y="8"/>
                    </a:lnTo>
                    <a:cubicBezTo>
                      <a:pt x="17515" y="8"/>
                      <a:pt x="17514" y="7"/>
                      <a:pt x="17514" y="6"/>
                    </a:cubicBezTo>
                    <a:cubicBezTo>
                      <a:pt x="17514" y="5"/>
                      <a:pt x="17515" y="4"/>
                      <a:pt x="17516" y="4"/>
                    </a:cubicBezTo>
                    <a:close/>
                    <a:moveTo>
                      <a:pt x="17524" y="4"/>
                    </a:moveTo>
                    <a:lnTo>
                      <a:pt x="17524" y="4"/>
                    </a:lnTo>
                    <a:cubicBezTo>
                      <a:pt x="17525" y="4"/>
                      <a:pt x="17526" y="5"/>
                      <a:pt x="17526" y="6"/>
                    </a:cubicBezTo>
                    <a:cubicBezTo>
                      <a:pt x="17526" y="7"/>
                      <a:pt x="17525" y="8"/>
                      <a:pt x="17524" y="8"/>
                    </a:cubicBezTo>
                    <a:lnTo>
                      <a:pt x="17524" y="8"/>
                    </a:lnTo>
                    <a:cubicBezTo>
                      <a:pt x="17523" y="8"/>
                      <a:pt x="17522" y="7"/>
                      <a:pt x="17522" y="6"/>
                    </a:cubicBezTo>
                    <a:cubicBezTo>
                      <a:pt x="17522" y="5"/>
                      <a:pt x="17523" y="4"/>
                      <a:pt x="17524" y="4"/>
                    </a:cubicBezTo>
                    <a:close/>
                    <a:moveTo>
                      <a:pt x="17532" y="4"/>
                    </a:moveTo>
                    <a:lnTo>
                      <a:pt x="17532" y="4"/>
                    </a:lnTo>
                    <a:cubicBezTo>
                      <a:pt x="17533" y="4"/>
                      <a:pt x="17534" y="5"/>
                      <a:pt x="17534" y="6"/>
                    </a:cubicBezTo>
                    <a:cubicBezTo>
                      <a:pt x="17534" y="7"/>
                      <a:pt x="17533" y="8"/>
                      <a:pt x="17532" y="8"/>
                    </a:cubicBezTo>
                    <a:lnTo>
                      <a:pt x="17532" y="8"/>
                    </a:lnTo>
                    <a:cubicBezTo>
                      <a:pt x="17531" y="8"/>
                      <a:pt x="17530" y="7"/>
                      <a:pt x="17530" y="6"/>
                    </a:cubicBezTo>
                    <a:cubicBezTo>
                      <a:pt x="17530" y="5"/>
                      <a:pt x="17531" y="4"/>
                      <a:pt x="17532" y="4"/>
                    </a:cubicBezTo>
                    <a:close/>
                    <a:moveTo>
                      <a:pt x="17540" y="4"/>
                    </a:moveTo>
                    <a:lnTo>
                      <a:pt x="17540" y="4"/>
                    </a:lnTo>
                    <a:cubicBezTo>
                      <a:pt x="17541" y="4"/>
                      <a:pt x="17542" y="5"/>
                      <a:pt x="17542" y="6"/>
                    </a:cubicBezTo>
                    <a:cubicBezTo>
                      <a:pt x="17542" y="8"/>
                      <a:pt x="17541" y="8"/>
                      <a:pt x="17540" y="8"/>
                    </a:cubicBezTo>
                    <a:lnTo>
                      <a:pt x="17540" y="8"/>
                    </a:lnTo>
                    <a:cubicBezTo>
                      <a:pt x="17539" y="8"/>
                      <a:pt x="17538" y="8"/>
                      <a:pt x="17538" y="6"/>
                    </a:cubicBezTo>
                    <a:cubicBezTo>
                      <a:pt x="17538" y="5"/>
                      <a:pt x="17539" y="4"/>
                      <a:pt x="17540" y="4"/>
                    </a:cubicBezTo>
                    <a:close/>
                    <a:moveTo>
                      <a:pt x="17548" y="4"/>
                    </a:moveTo>
                    <a:lnTo>
                      <a:pt x="17548" y="4"/>
                    </a:lnTo>
                    <a:cubicBezTo>
                      <a:pt x="17549" y="4"/>
                      <a:pt x="17550" y="5"/>
                      <a:pt x="17550" y="6"/>
                    </a:cubicBezTo>
                    <a:cubicBezTo>
                      <a:pt x="17550" y="8"/>
                      <a:pt x="17549" y="8"/>
                      <a:pt x="17548" y="8"/>
                    </a:cubicBezTo>
                    <a:lnTo>
                      <a:pt x="17548" y="8"/>
                    </a:lnTo>
                    <a:cubicBezTo>
                      <a:pt x="17547" y="8"/>
                      <a:pt x="17546" y="8"/>
                      <a:pt x="17546" y="6"/>
                    </a:cubicBezTo>
                    <a:cubicBezTo>
                      <a:pt x="17546" y="5"/>
                      <a:pt x="17547" y="4"/>
                      <a:pt x="17548" y="4"/>
                    </a:cubicBezTo>
                    <a:close/>
                    <a:moveTo>
                      <a:pt x="17556" y="4"/>
                    </a:moveTo>
                    <a:lnTo>
                      <a:pt x="17556" y="4"/>
                    </a:lnTo>
                    <a:cubicBezTo>
                      <a:pt x="17557" y="4"/>
                      <a:pt x="17558" y="5"/>
                      <a:pt x="17558" y="6"/>
                    </a:cubicBezTo>
                    <a:cubicBezTo>
                      <a:pt x="17558" y="8"/>
                      <a:pt x="17557" y="8"/>
                      <a:pt x="17556" y="8"/>
                    </a:cubicBezTo>
                    <a:lnTo>
                      <a:pt x="17556" y="8"/>
                    </a:lnTo>
                    <a:cubicBezTo>
                      <a:pt x="17555" y="8"/>
                      <a:pt x="17554" y="8"/>
                      <a:pt x="17554" y="6"/>
                    </a:cubicBezTo>
                    <a:cubicBezTo>
                      <a:pt x="17554" y="5"/>
                      <a:pt x="17555" y="4"/>
                      <a:pt x="17556" y="4"/>
                    </a:cubicBezTo>
                    <a:close/>
                    <a:moveTo>
                      <a:pt x="17564" y="4"/>
                    </a:moveTo>
                    <a:lnTo>
                      <a:pt x="17564" y="4"/>
                    </a:lnTo>
                    <a:cubicBezTo>
                      <a:pt x="17565" y="4"/>
                      <a:pt x="17566" y="5"/>
                      <a:pt x="17566" y="6"/>
                    </a:cubicBezTo>
                    <a:cubicBezTo>
                      <a:pt x="17566" y="8"/>
                      <a:pt x="17565" y="8"/>
                      <a:pt x="17564" y="8"/>
                    </a:cubicBezTo>
                    <a:lnTo>
                      <a:pt x="17564" y="8"/>
                    </a:lnTo>
                    <a:cubicBezTo>
                      <a:pt x="17563" y="8"/>
                      <a:pt x="17562" y="8"/>
                      <a:pt x="17562" y="6"/>
                    </a:cubicBezTo>
                    <a:cubicBezTo>
                      <a:pt x="17562" y="5"/>
                      <a:pt x="17563" y="4"/>
                      <a:pt x="17564" y="4"/>
                    </a:cubicBezTo>
                    <a:close/>
                    <a:moveTo>
                      <a:pt x="17572" y="4"/>
                    </a:moveTo>
                    <a:lnTo>
                      <a:pt x="17572" y="4"/>
                    </a:lnTo>
                    <a:cubicBezTo>
                      <a:pt x="17573" y="4"/>
                      <a:pt x="17574" y="5"/>
                      <a:pt x="17574" y="6"/>
                    </a:cubicBezTo>
                    <a:cubicBezTo>
                      <a:pt x="17574" y="8"/>
                      <a:pt x="17573" y="8"/>
                      <a:pt x="17572" y="8"/>
                    </a:cubicBezTo>
                    <a:lnTo>
                      <a:pt x="17572" y="8"/>
                    </a:lnTo>
                    <a:cubicBezTo>
                      <a:pt x="17571" y="8"/>
                      <a:pt x="17570" y="8"/>
                      <a:pt x="17570" y="6"/>
                    </a:cubicBezTo>
                    <a:cubicBezTo>
                      <a:pt x="17570" y="5"/>
                      <a:pt x="17571" y="4"/>
                      <a:pt x="17572" y="4"/>
                    </a:cubicBezTo>
                    <a:close/>
                    <a:moveTo>
                      <a:pt x="17580" y="4"/>
                    </a:moveTo>
                    <a:lnTo>
                      <a:pt x="17580" y="4"/>
                    </a:lnTo>
                    <a:cubicBezTo>
                      <a:pt x="17581" y="4"/>
                      <a:pt x="17582" y="5"/>
                      <a:pt x="17582" y="6"/>
                    </a:cubicBezTo>
                    <a:cubicBezTo>
                      <a:pt x="17582" y="8"/>
                      <a:pt x="17581" y="8"/>
                      <a:pt x="17580" y="8"/>
                    </a:cubicBezTo>
                    <a:lnTo>
                      <a:pt x="17580" y="8"/>
                    </a:lnTo>
                    <a:cubicBezTo>
                      <a:pt x="17579" y="8"/>
                      <a:pt x="17578" y="8"/>
                      <a:pt x="17578" y="6"/>
                    </a:cubicBezTo>
                    <a:cubicBezTo>
                      <a:pt x="17578" y="5"/>
                      <a:pt x="17579" y="4"/>
                      <a:pt x="17580" y="4"/>
                    </a:cubicBezTo>
                    <a:close/>
                    <a:moveTo>
                      <a:pt x="17588" y="4"/>
                    </a:moveTo>
                    <a:lnTo>
                      <a:pt x="17588" y="4"/>
                    </a:lnTo>
                    <a:cubicBezTo>
                      <a:pt x="17589" y="4"/>
                      <a:pt x="17590" y="5"/>
                      <a:pt x="17590" y="6"/>
                    </a:cubicBezTo>
                    <a:cubicBezTo>
                      <a:pt x="17590" y="8"/>
                      <a:pt x="17589" y="8"/>
                      <a:pt x="17588" y="8"/>
                    </a:cubicBezTo>
                    <a:lnTo>
                      <a:pt x="17588" y="8"/>
                    </a:lnTo>
                    <a:cubicBezTo>
                      <a:pt x="17587" y="8"/>
                      <a:pt x="17586" y="8"/>
                      <a:pt x="17586" y="6"/>
                    </a:cubicBezTo>
                    <a:cubicBezTo>
                      <a:pt x="17586" y="5"/>
                      <a:pt x="17587" y="4"/>
                      <a:pt x="17588" y="4"/>
                    </a:cubicBezTo>
                    <a:close/>
                    <a:moveTo>
                      <a:pt x="17596" y="4"/>
                    </a:moveTo>
                    <a:lnTo>
                      <a:pt x="17596" y="4"/>
                    </a:lnTo>
                    <a:cubicBezTo>
                      <a:pt x="17597" y="4"/>
                      <a:pt x="17598" y="5"/>
                      <a:pt x="17598" y="6"/>
                    </a:cubicBezTo>
                    <a:cubicBezTo>
                      <a:pt x="17598" y="8"/>
                      <a:pt x="17597" y="8"/>
                      <a:pt x="17596" y="8"/>
                    </a:cubicBezTo>
                    <a:lnTo>
                      <a:pt x="17596" y="8"/>
                    </a:lnTo>
                    <a:cubicBezTo>
                      <a:pt x="17595" y="8"/>
                      <a:pt x="17594" y="8"/>
                      <a:pt x="17594" y="6"/>
                    </a:cubicBezTo>
                    <a:cubicBezTo>
                      <a:pt x="17594" y="5"/>
                      <a:pt x="17595" y="4"/>
                      <a:pt x="17596" y="4"/>
                    </a:cubicBezTo>
                    <a:close/>
                    <a:moveTo>
                      <a:pt x="17604" y="4"/>
                    </a:moveTo>
                    <a:lnTo>
                      <a:pt x="17604" y="4"/>
                    </a:lnTo>
                    <a:cubicBezTo>
                      <a:pt x="17605" y="4"/>
                      <a:pt x="17606" y="5"/>
                      <a:pt x="17606" y="6"/>
                    </a:cubicBezTo>
                    <a:cubicBezTo>
                      <a:pt x="17606" y="8"/>
                      <a:pt x="17605" y="8"/>
                      <a:pt x="17604" y="8"/>
                    </a:cubicBezTo>
                    <a:lnTo>
                      <a:pt x="17604" y="8"/>
                    </a:lnTo>
                    <a:cubicBezTo>
                      <a:pt x="17603" y="8"/>
                      <a:pt x="17602" y="8"/>
                      <a:pt x="17602" y="6"/>
                    </a:cubicBezTo>
                    <a:cubicBezTo>
                      <a:pt x="17602" y="5"/>
                      <a:pt x="17603" y="4"/>
                      <a:pt x="17604" y="4"/>
                    </a:cubicBezTo>
                    <a:close/>
                    <a:moveTo>
                      <a:pt x="17612" y="4"/>
                    </a:moveTo>
                    <a:lnTo>
                      <a:pt x="17612" y="4"/>
                    </a:lnTo>
                    <a:cubicBezTo>
                      <a:pt x="17613" y="4"/>
                      <a:pt x="17614" y="5"/>
                      <a:pt x="17614" y="6"/>
                    </a:cubicBezTo>
                    <a:cubicBezTo>
                      <a:pt x="17614" y="8"/>
                      <a:pt x="17613" y="8"/>
                      <a:pt x="17612" y="8"/>
                    </a:cubicBezTo>
                    <a:lnTo>
                      <a:pt x="17612" y="8"/>
                    </a:lnTo>
                    <a:cubicBezTo>
                      <a:pt x="17611" y="8"/>
                      <a:pt x="17610" y="8"/>
                      <a:pt x="17610" y="6"/>
                    </a:cubicBezTo>
                    <a:cubicBezTo>
                      <a:pt x="17610" y="5"/>
                      <a:pt x="17611" y="4"/>
                      <a:pt x="17612" y="4"/>
                    </a:cubicBezTo>
                    <a:close/>
                    <a:moveTo>
                      <a:pt x="17620" y="4"/>
                    </a:moveTo>
                    <a:lnTo>
                      <a:pt x="17620" y="4"/>
                    </a:lnTo>
                    <a:cubicBezTo>
                      <a:pt x="17621" y="4"/>
                      <a:pt x="17622" y="5"/>
                      <a:pt x="17622" y="6"/>
                    </a:cubicBezTo>
                    <a:cubicBezTo>
                      <a:pt x="17622" y="8"/>
                      <a:pt x="17621" y="8"/>
                      <a:pt x="17620" y="8"/>
                    </a:cubicBezTo>
                    <a:lnTo>
                      <a:pt x="17620" y="8"/>
                    </a:lnTo>
                    <a:cubicBezTo>
                      <a:pt x="17619" y="8"/>
                      <a:pt x="17618" y="8"/>
                      <a:pt x="17618" y="6"/>
                    </a:cubicBezTo>
                    <a:cubicBezTo>
                      <a:pt x="17618" y="5"/>
                      <a:pt x="17619" y="4"/>
                      <a:pt x="17620" y="4"/>
                    </a:cubicBezTo>
                    <a:close/>
                    <a:moveTo>
                      <a:pt x="17628" y="4"/>
                    </a:moveTo>
                    <a:lnTo>
                      <a:pt x="17628" y="4"/>
                    </a:lnTo>
                    <a:cubicBezTo>
                      <a:pt x="17629" y="4"/>
                      <a:pt x="17630" y="5"/>
                      <a:pt x="17630" y="6"/>
                    </a:cubicBezTo>
                    <a:cubicBezTo>
                      <a:pt x="17630" y="8"/>
                      <a:pt x="17629" y="8"/>
                      <a:pt x="17628" y="8"/>
                    </a:cubicBezTo>
                    <a:lnTo>
                      <a:pt x="17628" y="8"/>
                    </a:lnTo>
                    <a:cubicBezTo>
                      <a:pt x="17627" y="8"/>
                      <a:pt x="17626" y="8"/>
                      <a:pt x="17626" y="6"/>
                    </a:cubicBezTo>
                    <a:cubicBezTo>
                      <a:pt x="17626" y="5"/>
                      <a:pt x="17627" y="4"/>
                      <a:pt x="17628" y="4"/>
                    </a:cubicBezTo>
                    <a:close/>
                    <a:moveTo>
                      <a:pt x="17636" y="4"/>
                    </a:moveTo>
                    <a:lnTo>
                      <a:pt x="17636" y="4"/>
                    </a:lnTo>
                    <a:cubicBezTo>
                      <a:pt x="17637" y="4"/>
                      <a:pt x="17638" y="5"/>
                      <a:pt x="17638" y="6"/>
                    </a:cubicBezTo>
                    <a:cubicBezTo>
                      <a:pt x="17638" y="8"/>
                      <a:pt x="17637" y="8"/>
                      <a:pt x="17636" y="8"/>
                    </a:cubicBezTo>
                    <a:lnTo>
                      <a:pt x="17636" y="8"/>
                    </a:lnTo>
                    <a:cubicBezTo>
                      <a:pt x="17635" y="8"/>
                      <a:pt x="17634" y="8"/>
                      <a:pt x="17634" y="6"/>
                    </a:cubicBezTo>
                    <a:cubicBezTo>
                      <a:pt x="17634" y="5"/>
                      <a:pt x="17635" y="4"/>
                      <a:pt x="17636" y="4"/>
                    </a:cubicBezTo>
                    <a:close/>
                    <a:moveTo>
                      <a:pt x="17644" y="4"/>
                    </a:moveTo>
                    <a:lnTo>
                      <a:pt x="17644" y="4"/>
                    </a:lnTo>
                    <a:cubicBezTo>
                      <a:pt x="17645" y="4"/>
                      <a:pt x="17646" y="5"/>
                      <a:pt x="17646" y="6"/>
                    </a:cubicBezTo>
                    <a:cubicBezTo>
                      <a:pt x="17646" y="8"/>
                      <a:pt x="17645" y="8"/>
                      <a:pt x="17644" y="8"/>
                    </a:cubicBezTo>
                    <a:lnTo>
                      <a:pt x="17644" y="8"/>
                    </a:lnTo>
                    <a:cubicBezTo>
                      <a:pt x="17643" y="8"/>
                      <a:pt x="17642" y="8"/>
                      <a:pt x="17642" y="6"/>
                    </a:cubicBezTo>
                    <a:cubicBezTo>
                      <a:pt x="17642" y="5"/>
                      <a:pt x="17643" y="4"/>
                      <a:pt x="17644" y="4"/>
                    </a:cubicBezTo>
                    <a:close/>
                    <a:moveTo>
                      <a:pt x="17652" y="4"/>
                    </a:moveTo>
                    <a:lnTo>
                      <a:pt x="17652" y="4"/>
                    </a:lnTo>
                    <a:cubicBezTo>
                      <a:pt x="17653" y="4"/>
                      <a:pt x="17654" y="5"/>
                      <a:pt x="17654" y="6"/>
                    </a:cubicBezTo>
                    <a:cubicBezTo>
                      <a:pt x="17654" y="8"/>
                      <a:pt x="17653" y="8"/>
                      <a:pt x="17652" y="8"/>
                    </a:cubicBezTo>
                    <a:lnTo>
                      <a:pt x="17652" y="8"/>
                    </a:lnTo>
                    <a:cubicBezTo>
                      <a:pt x="17651" y="8"/>
                      <a:pt x="17650" y="8"/>
                      <a:pt x="17650" y="6"/>
                    </a:cubicBezTo>
                    <a:cubicBezTo>
                      <a:pt x="17650" y="5"/>
                      <a:pt x="17651" y="4"/>
                      <a:pt x="17652" y="4"/>
                    </a:cubicBezTo>
                    <a:close/>
                    <a:moveTo>
                      <a:pt x="17660" y="4"/>
                    </a:moveTo>
                    <a:lnTo>
                      <a:pt x="17660" y="4"/>
                    </a:lnTo>
                    <a:cubicBezTo>
                      <a:pt x="17661" y="4"/>
                      <a:pt x="17662" y="5"/>
                      <a:pt x="17662" y="6"/>
                    </a:cubicBezTo>
                    <a:cubicBezTo>
                      <a:pt x="17662" y="8"/>
                      <a:pt x="17661" y="8"/>
                      <a:pt x="17660" y="8"/>
                    </a:cubicBezTo>
                    <a:lnTo>
                      <a:pt x="17660" y="8"/>
                    </a:lnTo>
                    <a:cubicBezTo>
                      <a:pt x="17659" y="8"/>
                      <a:pt x="17658" y="8"/>
                      <a:pt x="17658" y="6"/>
                    </a:cubicBezTo>
                    <a:cubicBezTo>
                      <a:pt x="17658" y="5"/>
                      <a:pt x="17659" y="4"/>
                      <a:pt x="17660" y="4"/>
                    </a:cubicBezTo>
                    <a:close/>
                    <a:moveTo>
                      <a:pt x="17668" y="4"/>
                    </a:moveTo>
                    <a:lnTo>
                      <a:pt x="17668" y="4"/>
                    </a:lnTo>
                    <a:cubicBezTo>
                      <a:pt x="17669" y="4"/>
                      <a:pt x="17670" y="5"/>
                      <a:pt x="17670" y="6"/>
                    </a:cubicBezTo>
                    <a:cubicBezTo>
                      <a:pt x="17670" y="8"/>
                      <a:pt x="17669" y="8"/>
                      <a:pt x="17668" y="8"/>
                    </a:cubicBezTo>
                    <a:lnTo>
                      <a:pt x="17668" y="8"/>
                    </a:lnTo>
                    <a:cubicBezTo>
                      <a:pt x="17667" y="8"/>
                      <a:pt x="17666" y="8"/>
                      <a:pt x="17666" y="6"/>
                    </a:cubicBezTo>
                    <a:cubicBezTo>
                      <a:pt x="17666" y="5"/>
                      <a:pt x="17667" y="4"/>
                      <a:pt x="17668" y="4"/>
                    </a:cubicBezTo>
                    <a:close/>
                    <a:moveTo>
                      <a:pt x="17676" y="4"/>
                    </a:moveTo>
                    <a:lnTo>
                      <a:pt x="17676" y="4"/>
                    </a:lnTo>
                    <a:cubicBezTo>
                      <a:pt x="17677" y="4"/>
                      <a:pt x="17678" y="5"/>
                      <a:pt x="17678" y="6"/>
                    </a:cubicBezTo>
                    <a:cubicBezTo>
                      <a:pt x="17678" y="8"/>
                      <a:pt x="17677" y="8"/>
                      <a:pt x="17676" y="8"/>
                    </a:cubicBezTo>
                    <a:lnTo>
                      <a:pt x="17676" y="8"/>
                    </a:lnTo>
                    <a:cubicBezTo>
                      <a:pt x="17675" y="8"/>
                      <a:pt x="17674" y="8"/>
                      <a:pt x="17674" y="6"/>
                    </a:cubicBezTo>
                    <a:cubicBezTo>
                      <a:pt x="17674" y="5"/>
                      <a:pt x="17675" y="4"/>
                      <a:pt x="17676" y="4"/>
                    </a:cubicBezTo>
                    <a:close/>
                    <a:moveTo>
                      <a:pt x="17684" y="4"/>
                    </a:moveTo>
                    <a:lnTo>
                      <a:pt x="17684" y="4"/>
                    </a:lnTo>
                    <a:cubicBezTo>
                      <a:pt x="17685" y="4"/>
                      <a:pt x="17686" y="5"/>
                      <a:pt x="17686" y="6"/>
                    </a:cubicBezTo>
                    <a:cubicBezTo>
                      <a:pt x="17686" y="8"/>
                      <a:pt x="17685" y="8"/>
                      <a:pt x="17684" y="8"/>
                    </a:cubicBezTo>
                    <a:lnTo>
                      <a:pt x="17684" y="8"/>
                    </a:lnTo>
                    <a:cubicBezTo>
                      <a:pt x="17683" y="8"/>
                      <a:pt x="17682" y="8"/>
                      <a:pt x="17682" y="6"/>
                    </a:cubicBezTo>
                    <a:cubicBezTo>
                      <a:pt x="17682" y="5"/>
                      <a:pt x="17683" y="4"/>
                      <a:pt x="17684" y="4"/>
                    </a:cubicBezTo>
                    <a:close/>
                    <a:moveTo>
                      <a:pt x="17692" y="4"/>
                    </a:moveTo>
                    <a:lnTo>
                      <a:pt x="17692" y="4"/>
                    </a:lnTo>
                    <a:cubicBezTo>
                      <a:pt x="17693" y="4"/>
                      <a:pt x="17694" y="5"/>
                      <a:pt x="17694" y="6"/>
                    </a:cubicBezTo>
                    <a:cubicBezTo>
                      <a:pt x="17694" y="8"/>
                      <a:pt x="17693" y="8"/>
                      <a:pt x="17692" y="8"/>
                    </a:cubicBezTo>
                    <a:lnTo>
                      <a:pt x="17692" y="8"/>
                    </a:lnTo>
                    <a:cubicBezTo>
                      <a:pt x="17691" y="8"/>
                      <a:pt x="17690" y="8"/>
                      <a:pt x="17690" y="6"/>
                    </a:cubicBezTo>
                    <a:cubicBezTo>
                      <a:pt x="17690" y="5"/>
                      <a:pt x="17691" y="4"/>
                      <a:pt x="17692" y="4"/>
                    </a:cubicBezTo>
                    <a:close/>
                    <a:moveTo>
                      <a:pt x="17700" y="4"/>
                    </a:moveTo>
                    <a:lnTo>
                      <a:pt x="17700" y="4"/>
                    </a:lnTo>
                    <a:cubicBezTo>
                      <a:pt x="17701" y="4"/>
                      <a:pt x="17702" y="5"/>
                      <a:pt x="17702" y="6"/>
                    </a:cubicBezTo>
                    <a:cubicBezTo>
                      <a:pt x="17702" y="8"/>
                      <a:pt x="17701" y="8"/>
                      <a:pt x="17700" y="8"/>
                    </a:cubicBezTo>
                    <a:lnTo>
                      <a:pt x="17700" y="8"/>
                    </a:lnTo>
                    <a:cubicBezTo>
                      <a:pt x="17699" y="8"/>
                      <a:pt x="17698" y="8"/>
                      <a:pt x="17698" y="6"/>
                    </a:cubicBezTo>
                    <a:cubicBezTo>
                      <a:pt x="17698" y="5"/>
                      <a:pt x="17699" y="4"/>
                      <a:pt x="17700" y="4"/>
                    </a:cubicBezTo>
                    <a:close/>
                    <a:moveTo>
                      <a:pt x="17708" y="4"/>
                    </a:moveTo>
                    <a:lnTo>
                      <a:pt x="17708" y="4"/>
                    </a:lnTo>
                    <a:cubicBezTo>
                      <a:pt x="17709" y="4"/>
                      <a:pt x="17710" y="5"/>
                      <a:pt x="17710" y="6"/>
                    </a:cubicBezTo>
                    <a:cubicBezTo>
                      <a:pt x="17710" y="8"/>
                      <a:pt x="17709" y="8"/>
                      <a:pt x="17708" y="8"/>
                    </a:cubicBezTo>
                    <a:lnTo>
                      <a:pt x="17708" y="8"/>
                    </a:lnTo>
                    <a:cubicBezTo>
                      <a:pt x="17707" y="8"/>
                      <a:pt x="17706" y="8"/>
                      <a:pt x="17706" y="6"/>
                    </a:cubicBezTo>
                    <a:cubicBezTo>
                      <a:pt x="17706" y="5"/>
                      <a:pt x="17707" y="4"/>
                      <a:pt x="17708" y="4"/>
                    </a:cubicBezTo>
                    <a:close/>
                    <a:moveTo>
                      <a:pt x="17716" y="4"/>
                    </a:moveTo>
                    <a:lnTo>
                      <a:pt x="17716" y="4"/>
                    </a:lnTo>
                    <a:cubicBezTo>
                      <a:pt x="17717" y="4"/>
                      <a:pt x="17718" y="5"/>
                      <a:pt x="17718" y="6"/>
                    </a:cubicBezTo>
                    <a:cubicBezTo>
                      <a:pt x="17718" y="8"/>
                      <a:pt x="17717" y="8"/>
                      <a:pt x="17716" y="8"/>
                    </a:cubicBezTo>
                    <a:lnTo>
                      <a:pt x="17716" y="8"/>
                    </a:lnTo>
                    <a:cubicBezTo>
                      <a:pt x="17715" y="8"/>
                      <a:pt x="17714" y="8"/>
                      <a:pt x="17714" y="6"/>
                    </a:cubicBezTo>
                    <a:cubicBezTo>
                      <a:pt x="17714" y="5"/>
                      <a:pt x="17715" y="4"/>
                      <a:pt x="17716" y="4"/>
                    </a:cubicBezTo>
                    <a:close/>
                    <a:moveTo>
                      <a:pt x="17724" y="4"/>
                    </a:moveTo>
                    <a:lnTo>
                      <a:pt x="17724" y="4"/>
                    </a:lnTo>
                    <a:cubicBezTo>
                      <a:pt x="17725" y="4"/>
                      <a:pt x="17726" y="5"/>
                      <a:pt x="17726" y="6"/>
                    </a:cubicBezTo>
                    <a:cubicBezTo>
                      <a:pt x="17726" y="8"/>
                      <a:pt x="17725" y="8"/>
                      <a:pt x="17724" y="8"/>
                    </a:cubicBezTo>
                    <a:lnTo>
                      <a:pt x="17724" y="8"/>
                    </a:lnTo>
                    <a:cubicBezTo>
                      <a:pt x="17723" y="8"/>
                      <a:pt x="17722" y="8"/>
                      <a:pt x="17722" y="6"/>
                    </a:cubicBezTo>
                    <a:cubicBezTo>
                      <a:pt x="17722" y="5"/>
                      <a:pt x="17723" y="4"/>
                      <a:pt x="17724" y="4"/>
                    </a:cubicBezTo>
                    <a:close/>
                    <a:moveTo>
                      <a:pt x="17732" y="4"/>
                    </a:moveTo>
                    <a:lnTo>
                      <a:pt x="17732" y="4"/>
                    </a:lnTo>
                    <a:cubicBezTo>
                      <a:pt x="17733" y="4"/>
                      <a:pt x="17734" y="5"/>
                      <a:pt x="17734" y="6"/>
                    </a:cubicBezTo>
                    <a:cubicBezTo>
                      <a:pt x="17734" y="8"/>
                      <a:pt x="17733" y="8"/>
                      <a:pt x="17732" y="8"/>
                    </a:cubicBezTo>
                    <a:lnTo>
                      <a:pt x="17732" y="8"/>
                    </a:lnTo>
                    <a:cubicBezTo>
                      <a:pt x="17731" y="8"/>
                      <a:pt x="17730" y="8"/>
                      <a:pt x="17730" y="6"/>
                    </a:cubicBezTo>
                    <a:cubicBezTo>
                      <a:pt x="17730" y="5"/>
                      <a:pt x="17731" y="4"/>
                      <a:pt x="17732" y="4"/>
                    </a:cubicBezTo>
                    <a:close/>
                    <a:moveTo>
                      <a:pt x="17740" y="4"/>
                    </a:moveTo>
                    <a:lnTo>
                      <a:pt x="17740" y="4"/>
                    </a:lnTo>
                    <a:cubicBezTo>
                      <a:pt x="17741" y="4"/>
                      <a:pt x="17742" y="5"/>
                      <a:pt x="17742" y="6"/>
                    </a:cubicBezTo>
                    <a:cubicBezTo>
                      <a:pt x="17742" y="8"/>
                      <a:pt x="17741" y="8"/>
                      <a:pt x="17740" y="8"/>
                    </a:cubicBezTo>
                    <a:lnTo>
                      <a:pt x="17740" y="8"/>
                    </a:lnTo>
                    <a:cubicBezTo>
                      <a:pt x="17739" y="8"/>
                      <a:pt x="17738" y="8"/>
                      <a:pt x="17738" y="6"/>
                    </a:cubicBezTo>
                    <a:cubicBezTo>
                      <a:pt x="17738" y="5"/>
                      <a:pt x="17739" y="4"/>
                      <a:pt x="17740" y="4"/>
                    </a:cubicBezTo>
                    <a:close/>
                    <a:moveTo>
                      <a:pt x="17748" y="4"/>
                    </a:moveTo>
                    <a:lnTo>
                      <a:pt x="17748" y="4"/>
                    </a:lnTo>
                    <a:cubicBezTo>
                      <a:pt x="17749" y="4"/>
                      <a:pt x="17750" y="5"/>
                      <a:pt x="17750" y="6"/>
                    </a:cubicBezTo>
                    <a:cubicBezTo>
                      <a:pt x="17750" y="8"/>
                      <a:pt x="17749" y="8"/>
                      <a:pt x="17748" y="8"/>
                    </a:cubicBezTo>
                    <a:lnTo>
                      <a:pt x="17748" y="8"/>
                    </a:lnTo>
                    <a:cubicBezTo>
                      <a:pt x="17747" y="8"/>
                      <a:pt x="17746" y="8"/>
                      <a:pt x="17746" y="6"/>
                    </a:cubicBezTo>
                    <a:cubicBezTo>
                      <a:pt x="17746" y="5"/>
                      <a:pt x="17747" y="4"/>
                      <a:pt x="17748" y="4"/>
                    </a:cubicBezTo>
                    <a:close/>
                    <a:moveTo>
                      <a:pt x="17756" y="4"/>
                    </a:moveTo>
                    <a:lnTo>
                      <a:pt x="17756" y="4"/>
                    </a:lnTo>
                    <a:cubicBezTo>
                      <a:pt x="17757" y="4"/>
                      <a:pt x="17758" y="5"/>
                      <a:pt x="17758" y="6"/>
                    </a:cubicBezTo>
                    <a:cubicBezTo>
                      <a:pt x="17758" y="8"/>
                      <a:pt x="17757" y="8"/>
                      <a:pt x="17756" y="8"/>
                    </a:cubicBezTo>
                    <a:lnTo>
                      <a:pt x="17756" y="8"/>
                    </a:lnTo>
                    <a:cubicBezTo>
                      <a:pt x="17755" y="8"/>
                      <a:pt x="17754" y="8"/>
                      <a:pt x="17754" y="6"/>
                    </a:cubicBezTo>
                    <a:cubicBezTo>
                      <a:pt x="17754" y="5"/>
                      <a:pt x="17755" y="4"/>
                      <a:pt x="17756" y="4"/>
                    </a:cubicBezTo>
                    <a:close/>
                    <a:moveTo>
                      <a:pt x="17764" y="4"/>
                    </a:moveTo>
                    <a:lnTo>
                      <a:pt x="17764" y="4"/>
                    </a:lnTo>
                    <a:cubicBezTo>
                      <a:pt x="17765" y="4"/>
                      <a:pt x="17766" y="5"/>
                      <a:pt x="17766" y="6"/>
                    </a:cubicBezTo>
                    <a:cubicBezTo>
                      <a:pt x="17766" y="8"/>
                      <a:pt x="17765" y="8"/>
                      <a:pt x="17764" y="8"/>
                    </a:cubicBezTo>
                    <a:lnTo>
                      <a:pt x="17764" y="8"/>
                    </a:lnTo>
                    <a:cubicBezTo>
                      <a:pt x="17763" y="8"/>
                      <a:pt x="17762" y="8"/>
                      <a:pt x="17762" y="6"/>
                    </a:cubicBezTo>
                    <a:cubicBezTo>
                      <a:pt x="17762" y="5"/>
                      <a:pt x="17763" y="4"/>
                      <a:pt x="17764" y="4"/>
                    </a:cubicBezTo>
                    <a:close/>
                    <a:moveTo>
                      <a:pt x="17772" y="4"/>
                    </a:moveTo>
                    <a:lnTo>
                      <a:pt x="17772" y="4"/>
                    </a:lnTo>
                    <a:cubicBezTo>
                      <a:pt x="17773" y="4"/>
                      <a:pt x="17774" y="5"/>
                      <a:pt x="17774" y="6"/>
                    </a:cubicBezTo>
                    <a:cubicBezTo>
                      <a:pt x="17774" y="8"/>
                      <a:pt x="17773" y="8"/>
                      <a:pt x="17772" y="8"/>
                    </a:cubicBezTo>
                    <a:lnTo>
                      <a:pt x="17772" y="8"/>
                    </a:lnTo>
                    <a:cubicBezTo>
                      <a:pt x="17771" y="8"/>
                      <a:pt x="17770" y="8"/>
                      <a:pt x="17770" y="6"/>
                    </a:cubicBezTo>
                    <a:cubicBezTo>
                      <a:pt x="17770" y="5"/>
                      <a:pt x="17771" y="4"/>
                      <a:pt x="17772" y="4"/>
                    </a:cubicBezTo>
                    <a:close/>
                    <a:moveTo>
                      <a:pt x="17780" y="4"/>
                    </a:moveTo>
                    <a:lnTo>
                      <a:pt x="17780" y="4"/>
                    </a:lnTo>
                    <a:cubicBezTo>
                      <a:pt x="17781" y="4"/>
                      <a:pt x="17782" y="5"/>
                      <a:pt x="17782" y="6"/>
                    </a:cubicBezTo>
                    <a:cubicBezTo>
                      <a:pt x="17782" y="8"/>
                      <a:pt x="17781" y="8"/>
                      <a:pt x="17780" y="8"/>
                    </a:cubicBezTo>
                    <a:lnTo>
                      <a:pt x="17780" y="8"/>
                    </a:lnTo>
                    <a:cubicBezTo>
                      <a:pt x="17779" y="8"/>
                      <a:pt x="17778" y="8"/>
                      <a:pt x="17778" y="6"/>
                    </a:cubicBezTo>
                    <a:cubicBezTo>
                      <a:pt x="17778" y="5"/>
                      <a:pt x="17779" y="4"/>
                      <a:pt x="17780" y="4"/>
                    </a:cubicBezTo>
                    <a:close/>
                    <a:moveTo>
                      <a:pt x="17788" y="4"/>
                    </a:moveTo>
                    <a:lnTo>
                      <a:pt x="17788" y="4"/>
                    </a:lnTo>
                    <a:cubicBezTo>
                      <a:pt x="17789" y="4"/>
                      <a:pt x="17790" y="5"/>
                      <a:pt x="17790" y="6"/>
                    </a:cubicBezTo>
                    <a:cubicBezTo>
                      <a:pt x="17790" y="8"/>
                      <a:pt x="17789" y="8"/>
                      <a:pt x="17788" y="8"/>
                    </a:cubicBezTo>
                    <a:lnTo>
                      <a:pt x="17788" y="8"/>
                    </a:lnTo>
                    <a:cubicBezTo>
                      <a:pt x="17787" y="8"/>
                      <a:pt x="17786" y="8"/>
                      <a:pt x="17786" y="6"/>
                    </a:cubicBezTo>
                    <a:cubicBezTo>
                      <a:pt x="17786" y="5"/>
                      <a:pt x="17787" y="4"/>
                      <a:pt x="17788" y="4"/>
                    </a:cubicBezTo>
                    <a:close/>
                    <a:moveTo>
                      <a:pt x="17796" y="4"/>
                    </a:moveTo>
                    <a:lnTo>
                      <a:pt x="17796" y="4"/>
                    </a:lnTo>
                    <a:cubicBezTo>
                      <a:pt x="17797" y="4"/>
                      <a:pt x="17798" y="5"/>
                      <a:pt x="17798" y="6"/>
                    </a:cubicBezTo>
                    <a:cubicBezTo>
                      <a:pt x="17798" y="8"/>
                      <a:pt x="17797" y="8"/>
                      <a:pt x="17796" y="8"/>
                    </a:cubicBezTo>
                    <a:lnTo>
                      <a:pt x="17796" y="8"/>
                    </a:lnTo>
                    <a:cubicBezTo>
                      <a:pt x="17795" y="8"/>
                      <a:pt x="17794" y="8"/>
                      <a:pt x="17794" y="6"/>
                    </a:cubicBezTo>
                    <a:cubicBezTo>
                      <a:pt x="17794" y="5"/>
                      <a:pt x="17795" y="4"/>
                      <a:pt x="17796" y="4"/>
                    </a:cubicBezTo>
                    <a:close/>
                    <a:moveTo>
                      <a:pt x="17804" y="4"/>
                    </a:moveTo>
                    <a:lnTo>
                      <a:pt x="17804" y="4"/>
                    </a:lnTo>
                    <a:cubicBezTo>
                      <a:pt x="17805" y="4"/>
                      <a:pt x="17806" y="5"/>
                      <a:pt x="17806" y="6"/>
                    </a:cubicBezTo>
                    <a:cubicBezTo>
                      <a:pt x="17806" y="8"/>
                      <a:pt x="17805" y="8"/>
                      <a:pt x="17804" y="8"/>
                    </a:cubicBezTo>
                    <a:lnTo>
                      <a:pt x="17804" y="8"/>
                    </a:lnTo>
                    <a:cubicBezTo>
                      <a:pt x="17803" y="8"/>
                      <a:pt x="17802" y="8"/>
                      <a:pt x="17802" y="6"/>
                    </a:cubicBezTo>
                    <a:cubicBezTo>
                      <a:pt x="17802" y="5"/>
                      <a:pt x="17803" y="4"/>
                      <a:pt x="17804" y="4"/>
                    </a:cubicBezTo>
                    <a:close/>
                    <a:moveTo>
                      <a:pt x="17812" y="4"/>
                    </a:moveTo>
                    <a:lnTo>
                      <a:pt x="17812" y="4"/>
                    </a:lnTo>
                    <a:cubicBezTo>
                      <a:pt x="17813" y="4"/>
                      <a:pt x="17814" y="5"/>
                      <a:pt x="17814" y="6"/>
                    </a:cubicBezTo>
                    <a:cubicBezTo>
                      <a:pt x="17814" y="8"/>
                      <a:pt x="17813" y="8"/>
                      <a:pt x="17812" y="8"/>
                    </a:cubicBezTo>
                    <a:lnTo>
                      <a:pt x="17812" y="8"/>
                    </a:lnTo>
                    <a:cubicBezTo>
                      <a:pt x="17811" y="8"/>
                      <a:pt x="17810" y="8"/>
                      <a:pt x="17810" y="6"/>
                    </a:cubicBezTo>
                    <a:cubicBezTo>
                      <a:pt x="17810" y="5"/>
                      <a:pt x="17811" y="4"/>
                      <a:pt x="17812" y="4"/>
                    </a:cubicBezTo>
                    <a:close/>
                    <a:moveTo>
                      <a:pt x="17820" y="4"/>
                    </a:moveTo>
                    <a:lnTo>
                      <a:pt x="17820" y="4"/>
                    </a:lnTo>
                    <a:cubicBezTo>
                      <a:pt x="17821" y="4"/>
                      <a:pt x="17822" y="5"/>
                      <a:pt x="17822" y="6"/>
                    </a:cubicBezTo>
                    <a:cubicBezTo>
                      <a:pt x="17822" y="8"/>
                      <a:pt x="17821" y="8"/>
                      <a:pt x="17820" y="8"/>
                    </a:cubicBezTo>
                    <a:lnTo>
                      <a:pt x="17820" y="8"/>
                    </a:lnTo>
                    <a:cubicBezTo>
                      <a:pt x="17819" y="8"/>
                      <a:pt x="17818" y="8"/>
                      <a:pt x="17818" y="6"/>
                    </a:cubicBezTo>
                    <a:cubicBezTo>
                      <a:pt x="17818" y="5"/>
                      <a:pt x="17819" y="4"/>
                      <a:pt x="17820" y="4"/>
                    </a:cubicBezTo>
                    <a:close/>
                    <a:moveTo>
                      <a:pt x="17828" y="4"/>
                    </a:moveTo>
                    <a:lnTo>
                      <a:pt x="17828" y="4"/>
                    </a:lnTo>
                    <a:cubicBezTo>
                      <a:pt x="17829" y="4"/>
                      <a:pt x="17830" y="5"/>
                      <a:pt x="17830" y="6"/>
                    </a:cubicBezTo>
                    <a:cubicBezTo>
                      <a:pt x="17830" y="8"/>
                      <a:pt x="17829" y="8"/>
                      <a:pt x="17828" y="8"/>
                    </a:cubicBezTo>
                    <a:lnTo>
                      <a:pt x="17828" y="8"/>
                    </a:lnTo>
                    <a:cubicBezTo>
                      <a:pt x="17827" y="8"/>
                      <a:pt x="17826" y="8"/>
                      <a:pt x="17826" y="6"/>
                    </a:cubicBezTo>
                    <a:cubicBezTo>
                      <a:pt x="17826" y="5"/>
                      <a:pt x="17827" y="4"/>
                      <a:pt x="17828" y="4"/>
                    </a:cubicBezTo>
                    <a:close/>
                    <a:moveTo>
                      <a:pt x="17836" y="4"/>
                    </a:moveTo>
                    <a:lnTo>
                      <a:pt x="17836" y="4"/>
                    </a:lnTo>
                    <a:cubicBezTo>
                      <a:pt x="17837" y="4"/>
                      <a:pt x="17838" y="5"/>
                      <a:pt x="17838" y="6"/>
                    </a:cubicBezTo>
                    <a:cubicBezTo>
                      <a:pt x="17838" y="8"/>
                      <a:pt x="17837" y="8"/>
                      <a:pt x="17836" y="8"/>
                    </a:cubicBezTo>
                    <a:lnTo>
                      <a:pt x="17836" y="8"/>
                    </a:lnTo>
                    <a:cubicBezTo>
                      <a:pt x="17835" y="8"/>
                      <a:pt x="17834" y="8"/>
                      <a:pt x="17834" y="6"/>
                    </a:cubicBezTo>
                    <a:cubicBezTo>
                      <a:pt x="17834" y="5"/>
                      <a:pt x="17835" y="4"/>
                      <a:pt x="17836" y="4"/>
                    </a:cubicBezTo>
                    <a:close/>
                    <a:moveTo>
                      <a:pt x="17844" y="4"/>
                    </a:moveTo>
                    <a:lnTo>
                      <a:pt x="17844" y="4"/>
                    </a:lnTo>
                    <a:cubicBezTo>
                      <a:pt x="17845" y="4"/>
                      <a:pt x="17846" y="5"/>
                      <a:pt x="17846" y="6"/>
                    </a:cubicBezTo>
                    <a:cubicBezTo>
                      <a:pt x="17846" y="8"/>
                      <a:pt x="17845" y="8"/>
                      <a:pt x="17844" y="8"/>
                    </a:cubicBezTo>
                    <a:lnTo>
                      <a:pt x="17844" y="8"/>
                    </a:lnTo>
                    <a:cubicBezTo>
                      <a:pt x="17843" y="8"/>
                      <a:pt x="17842" y="8"/>
                      <a:pt x="17842" y="6"/>
                    </a:cubicBezTo>
                    <a:cubicBezTo>
                      <a:pt x="17842" y="5"/>
                      <a:pt x="17843" y="4"/>
                      <a:pt x="17844" y="4"/>
                    </a:cubicBezTo>
                    <a:close/>
                    <a:moveTo>
                      <a:pt x="17852" y="4"/>
                    </a:moveTo>
                    <a:lnTo>
                      <a:pt x="17852" y="4"/>
                    </a:lnTo>
                    <a:cubicBezTo>
                      <a:pt x="17853" y="4"/>
                      <a:pt x="17854" y="5"/>
                      <a:pt x="17854" y="6"/>
                    </a:cubicBezTo>
                    <a:cubicBezTo>
                      <a:pt x="17854" y="8"/>
                      <a:pt x="17853" y="8"/>
                      <a:pt x="17852" y="8"/>
                    </a:cubicBezTo>
                    <a:lnTo>
                      <a:pt x="17852" y="8"/>
                    </a:lnTo>
                    <a:cubicBezTo>
                      <a:pt x="17851" y="8"/>
                      <a:pt x="17850" y="8"/>
                      <a:pt x="17850" y="6"/>
                    </a:cubicBezTo>
                    <a:cubicBezTo>
                      <a:pt x="17850" y="5"/>
                      <a:pt x="17851" y="4"/>
                      <a:pt x="17852" y="4"/>
                    </a:cubicBezTo>
                    <a:close/>
                    <a:moveTo>
                      <a:pt x="17860" y="4"/>
                    </a:moveTo>
                    <a:lnTo>
                      <a:pt x="17860" y="4"/>
                    </a:lnTo>
                    <a:cubicBezTo>
                      <a:pt x="17861" y="4"/>
                      <a:pt x="17862" y="5"/>
                      <a:pt x="17862" y="6"/>
                    </a:cubicBezTo>
                    <a:cubicBezTo>
                      <a:pt x="17862" y="8"/>
                      <a:pt x="17861" y="8"/>
                      <a:pt x="17860" y="8"/>
                    </a:cubicBezTo>
                    <a:lnTo>
                      <a:pt x="17860" y="8"/>
                    </a:lnTo>
                    <a:cubicBezTo>
                      <a:pt x="17859" y="8"/>
                      <a:pt x="17858" y="8"/>
                      <a:pt x="17858" y="6"/>
                    </a:cubicBezTo>
                    <a:cubicBezTo>
                      <a:pt x="17858" y="5"/>
                      <a:pt x="17859" y="4"/>
                      <a:pt x="17860" y="4"/>
                    </a:cubicBezTo>
                    <a:close/>
                    <a:moveTo>
                      <a:pt x="17868" y="4"/>
                    </a:moveTo>
                    <a:lnTo>
                      <a:pt x="17868" y="4"/>
                    </a:lnTo>
                    <a:cubicBezTo>
                      <a:pt x="17869" y="4"/>
                      <a:pt x="17870" y="5"/>
                      <a:pt x="17870" y="6"/>
                    </a:cubicBezTo>
                    <a:cubicBezTo>
                      <a:pt x="17870" y="8"/>
                      <a:pt x="17869" y="8"/>
                      <a:pt x="17868" y="8"/>
                    </a:cubicBezTo>
                    <a:lnTo>
                      <a:pt x="17868" y="8"/>
                    </a:lnTo>
                    <a:cubicBezTo>
                      <a:pt x="17867" y="8"/>
                      <a:pt x="17866" y="8"/>
                      <a:pt x="17866" y="6"/>
                    </a:cubicBezTo>
                    <a:cubicBezTo>
                      <a:pt x="17866" y="5"/>
                      <a:pt x="17867" y="4"/>
                      <a:pt x="17868" y="4"/>
                    </a:cubicBezTo>
                    <a:close/>
                    <a:moveTo>
                      <a:pt x="17876" y="4"/>
                    </a:moveTo>
                    <a:lnTo>
                      <a:pt x="17876" y="4"/>
                    </a:lnTo>
                    <a:cubicBezTo>
                      <a:pt x="17877" y="4"/>
                      <a:pt x="17878" y="5"/>
                      <a:pt x="17878" y="6"/>
                    </a:cubicBezTo>
                    <a:cubicBezTo>
                      <a:pt x="17878" y="8"/>
                      <a:pt x="17877" y="8"/>
                      <a:pt x="17876" y="8"/>
                    </a:cubicBezTo>
                    <a:lnTo>
                      <a:pt x="17876" y="8"/>
                    </a:lnTo>
                    <a:cubicBezTo>
                      <a:pt x="17875" y="8"/>
                      <a:pt x="17874" y="8"/>
                      <a:pt x="17874" y="6"/>
                    </a:cubicBezTo>
                    <a:cubicBezTo>
                      <a:pt x="17874" y="5"/>
                      <a:pt x="17875" y="4"/>
                      <a:pt x="17876" y="4"/>
                    </a:cubicBezTo>
                    <a:close/>
                    <a:moveTo>
                      <a:pt x="17884" y="4"/>
                    </a:moveTo>
                    <a:lnTo>
                      <a:pt x="17884" y="4"/>
                    </a:lnTo>
                    <a:cubicBezTo>
                      <a:pt x="17885" y="4"/>
                      <a:pt x="17886" y="5"/>
                      <a:pt x="17886" y="6"/>
                    </a:cubicBezTo>
                    <a:cubicBezTo>
                      <a:pt x="17886" y="8"/>
                      <a:pt x="17885" y="8"/>
                      <a:pt x="17884" y="8"/>
                    </a:cubicBezTo>
                    <a:lnTo>
                      <a:pt x="17884" y="8"/>
                    </a:lnTo>
                    <a:cubicBezTo>
                      <a:pt x="17883" y="8"/>
                      <a:pt x="17882" y="8"/>
                      <a:pt x="17882" y="6"/>
                    </a:cubicBezTo>
                    <a:cubicBezTo>
                      <a:pt x="17882" y="5"/>
                      <a:pt x="17883" y="4"/>
                      <a:pt x="17884" y="4"/>
                    </a:cubicBezTo>
                    <a:close/>
                    <a:moveTo>
                      <a:pt x="17892" y="4"/>
                    </a:moveTo>
                    <a:lnTo>
                      <a:pt x="17892" y="4"/>
                    </a:lnTo>
                    <a:cubicBezTo>
                      <a:pt x="17893" y="4"/>
                      <a:pt x="17894" y="5"/>
                      <a:pt x="17894" y="6"/>
                    </a:cubicBezTo>
                    <a:cubicBezTo>
                      <a:pt x="17894" y="8"/>
                      <a:pt x="17893" y="8"/>
                      <a:pt x="17892" y="8"/>
                    </a:cubicBezTo>
                    <a:lnTo>
                      <a:pt x="17892" y="8"/>
                    </a:lnTo>
                    <a:cubicBezTo>
                      <a:pt x="17891" y="8"/>
                      <a:pt x="17890" y="8"/>
                      <a:pt x="17890" y="6"/>
                    </a:cubicBezTo>
                    <a:cubicBezTo>
                      <a:pt x="17890" y="5"/>
                      <a:pt x="17891" y="4"/>
                      <a:pt x="17892" y="4"/>
                    </a:cubicBezTo>
                    <a:close/>
                    <a:moveTo>
                      <a:pt x="17900" y="4"/>
                    </a:moveTo>
                    <a:lnTo>
                      <a:pt x="17900" y="4"/>
                    </a:lnTo>
                    <a:cubicBezTo>
                      <a:pt x="17901" y="4"/>
                      <a:pt x="17902" y="5"/>
                      <a:pt x="17902" y="6"/>
                    </a:cubicBezTo>
                    <a:cubicBezTo>
                      <a:pt x="17902" y="8"/>
                      <a:pt x="17901" y="8"/>
                      <a:pt x="17900" y="8"/>
                    </a:cubicBezTo>
                    <a:lnTo>
                      <a:pt x="17900" y="8"/>
                    </a:lnTo>
                    <a:cubicBezTo>
                      <a:pt x="17899" y="8"/>
                      <a:pt x="17898" y="8"/>
                      <a:pt x="17898" y="6"/>
                    </a:cubicBezTo>
                    <a:cubicBezTo>
                      <a:pt x="17898" y="5"/>
                      <a:pt x="17899" y="4"/>
                      <a:pt x="17900" y="4"/>
                    </a:cubicBezTo>
                    <a:close/>
                    <a:moveTo>
                      <a:pt x="17908" y="4"/>
                    </a:moveTo>
                    <a:lnTo>
                      <a:pt x="17908" y="4"/>
                    </a:lnTo>
                    <a:cubicBezTo>
                      <a:pt x="17909" y="4"/>
                      <a:pt x="17910" y="5"/>
                      <a:pt x="17910" y="6"/>
                    </a:cubicBezTo>
                    <a:cubicBezTo>
                      <a:pt x="17910" y="8"/>
                      <a:pt x="17909" y="8"/>
                      <a:pt x="17908" y="8"/>
                    </a:cubicBezTo>
                    <a:lnTo>
                      <a:pt x="17908" y="8"/>
                    </a:lnTo>
                    <a:cubicBezTo>
                      <a:pt x="17907" y="8"/>
                      <a:pt x="17906" y="8"/>
                      <a:pt x="17906" y="6"/>
                    </a:cubicBezTo>
                    <a:cubicBezTo>
                      <a:pt x="17906" y="5"/>
                      <a:pt x="17907" y="4"/>
                      <a:pt x="17908" y="4"/>
                    </a:cubicBezTo>
                    <a:close/>
                    <a:moveTo>
                      <a:pt x="17916" y="4"/>
                    </a:moveTo>
                    <a:lnTo>
                      <a:pt x="17916" y="4"/>
                    </a:lnTo>
                    <a:cubicBezTo>
                      <a:pt x="17917" y="4"/>
                      <a:pt x="17918" y="5"/>
                      <a:pt x="17918" y="6"/>
                    </a:cubicBezTo>
                    <a:cubicBezTo>
                      <a:pt x="17918" y="8"/>
                      <a:pt x="17917" y="8"/>
                      <a:pt x="17916" y="8"/>
                    </a:cubicBezTo>
                    <a:lnTo>
                      <a:pt x="17916" y="8"/>
                    </a:lnTo>
                    <a:cubicBezTo>
                      <a:pt x="17915" y="8"/>
                      <a:pt x="17914" y="8"/>
                      <a:pt x="17914" y="6"/>
                    </a:cubicBezTo>
                    <a:cubicBezTo>
                      <a:pt x="17914" y="5"/>
                      <a:pt x="17915" y="4"/>
                      <a:pt x="17916" y="4"/>
                    </a:cubicBezTo>
                    <a:close/>
                    <a:moveTo>
                      <a:pt x="17924" y="4"/>
                    </a:moveTo>
                    <a:lnTo>
                      <a:pt x="17924" y="4"/>
                    </a:lnTo>
                    <a:cubicBezTo>
                      <a:pt x="17925" y="4"/>
                      <a:pt x="17926" y="5"/>
                      <a:pt x="17926" y="6"/>
                    </a:cubicBezTo>
                    <a:cubicBezTo>
                      <a:pt x="17926" y="8"/>
                      <a:pt x="17925" y="8"/>
                      <a:pt x="17924" y="8"/>
                    </a:cubicBezTo>
                    <a:lnTo>
                      <a:pt x="17924" y="8"/>
                    </a:lnTo>
                    <a:cubicBezTo>
                      <a:pt x="17923" y="8"/>
                      <a:pt x="17922" y="8"/>
                      <a:pt x="17922" y="6"/>
                    </a:cubicBezTo>
                    <a:cubicBezTo>
                      <a:pt x="17922" y="5"/>
                      <a:pt x="17923" y="4"/>
                      <a:pt x="17924" y="4"/>
                    </a:cubicBezTo>
                    <a:close/>
                    <a:moveTo>
                      <a:pt x="17932" y="4"/>
                    </a:moveTo>
                    <a:lnTo>
                      <a:pt x="17932" y="4"/>
                    </a:lnTo>
                    <a:cubicBezTo>
                      <a:pt x="17933" y="4"/>
                      <a:pt x="17934" y="5"/>
                      <a:pt x="17934" y="6"/>
                    </a:cubicBezTo>
                    <a:cubicBezTo>
                      <a:pt x="17934" y="8"/>
                      <a:pt x="17933" y="8"/>
                      <a:pt x="17932" y="8"/>
                    </a:cubicBezTo>
                    <a:lnTo>
                      <a:pt x="17932" y="8"/>
                    </a:lnTo>
                    <a:cubicBezTo>
                      <a:pt x="17931" y="8"/>
                      <a:pt x="17930" y="8"/>
                      <a:pt x="17930" y="6"/>
                    </a:cubicBezTo>
                    <a:cubicBezTo>
                      <a:pt x="17930" y="5"/>
                      <a:pt x="17931" y="4"/>
                      <a:pt x="17932" y="4"/>
                    </a:cubicBezTo>
                    <a:close/>
                    <a:moveTo>
                      <a:pt x="17940" y="4"/>
                    </a:moveTo>
                    <a:lnTo>
                      <a:pt x="17940" y="4"/>
                    </a:lnTo>
                    <a:cubicBezTo>
                      <a:pt x="17941" y="4"/>
                      <a:pt x="17942" y="5"/>
                      <a:pt x="17942" y="6"/>
                    </a:cubicBezTo>
                    <a:cubicBezTo>
                      <a:pt x="17942" y="8"/>
                      <a:pt x="17941" y="8"/>
                      <a:pt x="17940" y="8"/>
                    </a:cubicBezTo>
                    <a:lnTo>
                      <a:pt x="17940" y="8"/>
                    </a:lnTo>
                    <a:cubicBezTo>
                      <a:pt x="17939" y="8"/>
                      <a:pt x="17938" y="8"/>
                      <a:pt x="17938" y="6"/>
                    </a:cubicBezTo>
                    <a:cubicBezTo>
                      <a:pt x="17938" y="5"/>
                      <a:pt x="17939" y="4"/>
                      <a:pt x="17940" y="4"/>
                    </a:cubicBezTo>
                    <a:close/>
                    <a:moveTo>
                      <a:pt x="17948" y="4"/>
                    </a:moveTo>
                    <a:lnTo>
                      <a:pt x="17948" y="4"/>
                    </a:lnTo>
                    <a:cubicBezTo>
                      <a:pt x="17949" y="4"/>
                      <a:pt x="17950" y="5"/>
                      <a:pt x="17950" y="6"/>
                    </a:cubicBezTo>
                    <a:cubicBezTo>
                      <a:pt x="17950" y="8"/>
                      <a:pt x="17949" y="8"/>
                      <a:pt x="17948" y="8"/>
                    </a:cubicBezTo>
                    <a:lnTo>
                      <a:pt x="17948" y="8"/>
                    </a:lnTo>
                    <a:cubicBezTo>
                      <a:pt x="17947" y="8"/>
                      <a:pt x="17946" y="8"/>
                      <a:pt x="17946" y="6"/>
                    </a:cubicBezTo>
                    <a:cubicBezTo>
                      <a:pt x="17946" y="5"/>
                      <a:pt x="17947" y="4"/>
                      <a:pt x="17948" y="4"/>
                    </a:cubicBezTo>
                    <a:close/>
                    <a:moveTo>
                      <a:pt x="17956" y="4"/>
                    </a:moveTo>
                    <a:lnTo>
                      <a:pt x="17956" y="4"/>
                    </a:lnTo>
                    <a:cubicBezTo>
                      <a:pt x="17957" y="4"/>
                      <a:pt x="17958" y="5"/>
                      <a:pt x="17958" y="6"/>
                    </a:cubicBezTo>
                    <a:cubicBezTo>
                      <a:pt x="17958" y="8"/>
                      <a:pt x="17957" y="8"/>
                      <a:pt x="17956" y="8"/>
                    </a:cubicBezTo>
                    <a:lnTo>
                      <a:pt x="17956" y="8"/>
                    </a:lnTo>
                    <a:cubicBezTo>
                      <a:pt x="17955" y="8"/>
                      <a:pt x="17954" y="8"/>
                      <a:pt x="17954" y="6"/>
                    </a:cubicBezTo>
                    <a:cubicBezTo>
                      <a:pt x="17954" y="5"/>
                      <a:pt x="17955" y="4"/>
                      <a:pt x="17956" y="4"/>
                    </a:cubicBezTo>
                    <a:close/>
                    <a:moveTo>
                      <a:pt x="17964" y="4"/>
                    </a:moveTo>
                    <a:lnTo>
                      <a:pt x="17964" y="4"/>
                    </a:lnTo>
                    <a:cubicBezTo>
                      <a:pt x="17965" y="4"/>
                      <a:pt x="17966" y="5"/>
                      <a:pt x="17966" y="6"/>
                    </a:cubicBezTo>
                    <a:cubicBezTo>
                      <a:pt x="17966" y="8"/>
                      <a:pt x="17965" y="8"/>
                      <a:pt x="17964" y="8"/>
                    </a:cubicBezTo>
                    <a:lnTo>
                      <a:pt x="17964" y="8"/>
                    </a:lnTo>
                    <a:cubicBezTo>
                      <a:pt x="17963" y="8"/>
                      <a:pt x="17962" y="8"/>
                      <a:pt x="17962" y="6"/>
                    </a:cubicBezTo>
                    <a:cubicBezTo>
                      <a:pt x="17962" y="5"/>
                      <a:pt x="17963" y="4"/>
                      <a:pt x="17964" y="4"/>
                    </a:cubicBezTo>
                    <a:close/>
                    <a:moveTo>
                      <a:pt x="17972" y="5"/>
                    </a:moveTo>
                    <a:lnTo>
                      <a:pt x="17972" y="5"/>
                    </a:lnTo>
                    <a:cubicBezTo>
                      <a:pt x="17973" y="5"/>
                      <a:pt x="17974" y="5"/>
                      <a:pt x="17974" y="7"/>
                    </a:cubicBezTo>
                    <a:cubicBezTo>
                      <a:pt x="17974" y="8"/>
                      <a:pt x="17973" y="9"/>
                      <a:pt x="17972" y="9"/>
                    </a:cubicBezTo>
                    <a:lnTo>
                      <a:pt x="17972" y="9"/>
                    </a:lnTo>
                    <a:cubicBezTo>
                      <a:pt x="17971" y="9"/>
                      <a:pt x="17970" y="8"/>
                      <a:pt x="17970" y="7"/>
                    </a:cubicBezTo>
                    <a:cubicBezTo>
                      <a:pt x="17970" y="5"/>
                      <a:pt x="17971" y="5"/>
                      <a:pt x="17972" y="5"/>
                    </a:cubicBezTo>
                    <a:close/>
                    <a:moveTo>
                      <a:pt x="17980" y="5"/>
                    </a:moveTo>
                    <a:lnTo>
                      <a:pt x="17980" y="5"/>
                    </a:lnTo>
                    <a:cubicBezTo>
                      <a:pt x="17981" y="5"/>
                      <a:pt x="17982" y="5"/>
                      <a:pt x="17982" y="7"/>
                    </a:cubicBezTo>
                    <a:cubicBezTo>
                      <a:pt x="17982" y="8"/>
                      <a:pt x="17981" y="9"/>
                      <a:pt x="17980" y="9"/>
                    </a:cubicBezTo>
                    <a:lnTo>
                      <a:pt x="17980" y="9"/>
                    </a:lnTo>
                    <a:cubicBezTo>
                      <a:pt x="17979" y="9"/>
                      <a:pt x="17978" y="8"/>
                      <a:pt x="17978" y="7"/>
                    </a:cubicBezTo>
                    <a:cubicBezTo>
                      <a:pt x="17978" y="5"/>
                      <a:pt x="17979" y="5"/>
                      <a:pt x="17980" y="5"/>
                    </a:cubicBezTo>
                    <a:close/>
                    <a:moveTo>
                      <a:pt x="17988" y="5"/>
                    </a:moveTo>
                    <a:lnTo>
                      <a:pt x="17988" y="5"/>
                    </a:lnTo>
                    <a:cubicBezTo>
                      <a:pt x="17989" y="5"/>
                      <a:pt x="17990" y="5"/>
                      <a:pt x="17990" y="7"/>
                    </a:cubicBezTo>
                    <a:cubicBezTo>
                      <a:pt x="17990" y="8"/>
                      <a:pt x="17989" y="9"/>
                      <a:pt x="17988" y="9"/>
                    </a:cubicBezTo>
                    <a:lnTo>
                      <a:pt x="17988" y="9"/>
                    </a:lnTo>
                    <a:cubicBezTo>
                      <a:pt x="17987" y="9"/>
                      <a:pt x="17986" y="8"/>
                      <a:pt x="17986" y="7"/>
                    </a:cubicBezTo>
                    <a:cubicBezTo>
                      <a:pt x="17986" y="5"/>
                      <a:pt x="17987" y="5"/>
                      <a:pt x="17988" y="5"/>
                    </a:cubicBezTo>
                    <a:close/>
                    <a:moveTo>
                      <a:pt x="17996" y="5"/>
                    </a:moveTo>
                    <a:lnTo>
                      <a:pt x="17996" y="5"/>
                    </a:lnTo>
                    <a:cubicBezTo>
                      <a:pt x="17997" y="5"/>
                      <a:pt x="17998" y="5"/>
                      <a:pt x="17998" y="7"/>
                    </a:cubicBezTo>
                    <a:cubicBezTo>
                      <a:pt x="17998" y="8"/>
                      <a:pt x="17997" y="9"/>
                      <a:pt x="17996" y="9"/>
                    </a:cubicBezTo>
                    <a:lnTo>
                      <a:pt x="17996" y="9"/>
                    </a:lnTo>
                    <a:cubicBezTo>
                      <a:pt x="17995" y="9"/>
                      <a:pt x="17994" y="8"/>
                      <a:pt x="17994" y="7"/>
                    </a:cubicBezTo>
                    <a:cubicBezTo>
                      <a:pt x="17994" y="5"/>
                      <a:pt x="17995" y="5"/>
                      <a:pt x="17996" y="5"/>
                    </a:cubicBezTo>
                    <a:close/>
                    <a:moveTo>
                      <a:pt x="18004" y="5"/>
                    </a:moveTo>
                    <a:lnTo>
                      <a:pt x="18004" y="5"/>
                    </a:lnTo>
                    <a:cubicBezTo>
                      <a:pt x="18005" y="5"/>
                      <a:pt x="18006" y="5"/>
                      <a:pt x="18006" y="7"/>
                    </a:cubicBezTo>
                    <a:cubicBezTo>
                      <a:pt x="18006" y="8"/>
                      <a:pt x="18005" y="9"/>
                      <a:pt x="18004" y="9"/>
                    </a:cubicBezTo>
                    <a:lnTo>
                      <a:pt x="18004" y="9"/>
                    </a:lnTo>
                    <a:cubicBezTo>
                      <a:pt x="18003" y="9"/>
                      <a:pt x="18002" y="8"/>
                      <a:pt x="18002" y="7"/>
                    </a:cubicBezTo>
                    <a:cubicBezTo>
                      <a:pt x="18002" y="5"/>
                      <a:pt x="18003" y="5"/>
                      <a:pt x="18004" y="5"/>
                    </a:cubicBezTo>
                    <a:close/>
                    <a:moveTo>
                      <a:pt x="18012" y="5"/>
                    </a:moveTo>
                    <a:lnTo>
                      <a:pt x="18012" y="5"/>
                    </a:lnTo>
                    <a:cubicBezTo>
                      <a:pt x="18013" y="5"/>
                      <a:pt x="18014" y="5"/>
                      <a:pt x="18014" y="7"/>
                    </a:cubicBezTo>
                    <a:cubicBezTo>
                      <a:pt x="18014" y="8"/>
                      <a:pt x="18013" y="9"/>
                      <a:pt x="18012" y="9"/>
                    </a:cubicBezTo>
                    <a:lnTo>
                      <a:pt x="18012" y="9"/>
                    </a:lnTo>
                    <a:cubicBezTo>
                      <a:pt x="18011" y="9"/>
                      <a:pt x="18010" y="8"/>
                      <a:pt x="18010" y="7"/>
                    </a:cubicBezTo>
                    <a:cubicBezTo>
                      <a:pt x="18010" y="5"/>
                      <a:pt x="18011" y="5"/>
                      <a:pt x="18012" y="5"/>
                    </a:cubicBezTo>
                    <a:close/>
                    <a:moveTo>
                      <a:pt x="18020" y="5"/>
                    </a:moveTo>
                    <a:lnTo>
                      <a:pt x="18020" y="5"/>
                    </a:lnTo>
                    <a:cubicBezTo>
                      <a:pt x="18021" y="5"/>
                      <a:pt x="18022" y="5"/>
                      <a:pt x="18022" y="7"/>
                    </a:cubicBezTo>
                    <a:cubicBezTo>
                      <a:pt x="18022" y="8"/>
                      <a:pt x="18021" y="9"/>
                      <a:pt x="18020" y="9"/>
                    </a:cubicBezTo>
                    <a:lnTo>
                      <a:pt x="18020" y="9"/>
                    </a:lnTo>
                    <a:cubicBezTo>
                      <a:pt x="18019" y="9"/>
                      <a:pt x="18018" y="8"/>
                      <a:pt x="18018" y="7"/>
                    </a:cubicBezTo>
                    <a:cubicBezTo>
                      <a:pt x="18018" y="5"/>
                      <a:pt x="18019" y="5"/>
                      <a:pt x="18020" y="5"/>
                    </a:cubicBezTo>
                    <a:close/>
                    <a:moveTo>
                      <a:pt x="18028" y="5"/>
                    </a:moveTo>
                    <a:lnTo>
                      <a:pt x="18028" y="5"/>
                    </a:lnTo>
                    <a:cubicBezTo>
                      <a:pt x="18029" y="5"/>
                      <a:pt x="18030" y="5"/>
                      <a:pt x="18030" y="7"/>
                    </a:cubicBezTo>
                    <a:cubicBezTo>
                      <a:pt x="18030" y="8"/>
                      <a:pt x="18029" y="9"/>
                      <a:pt x="18028" y="9"/>
                    </a:cubicBezTo>
                    <a:lnTo>
                      <a:pt x="18028" y="9"/>
                    </a:lnTo>
                    <a:cubicBezTo>
                      <a:pt x="18027" y="9"/>
                      <a:pt x="18026" y="8"/>
                      <a:pt x="18026" y="7"/>
                    </a:cubicBezTo>
                    <a:cubicBezTo>
                      <a:pt x="18026" y="5"/>
                      <a:pt x="18027" y="5"/>
                      <a:pt x="18028" y="5"/>
                    </a:cubicBezTo>
                    <a:close/>
                    <a:moveTo>
                      <a:pt x="18036" y="5"/>
                    </a:moveTo>
                    <a:lnTo>
                      <a:pt x="18036" y="5"/>
                    </a:lnTo>
                    <a:cubicBezTo>
                      <a:pt x="18037" y="5"/>
                      <a:pt x="18038" y="5"/>
                      <a:pt x="18038" y="7"/>
                    </a:cubicBezTo>
                    <a:cubicBezTo>
                      <a:pt x="18038" y="8"/>
                      <a:pt x="18037" y="9"/>
                      <a:pt x="18036" y="9"/>
                    </a:cubicBezTo>
                    <a:lnTo>
                      <a:pt x="18036" y="9"/>
                    </a:lnTo>
                    <a:cubicBezTo>
                      <a:pt x="18035" y="9"/>
                      <a:pt x="18034" y="8"/>
                      <a:pt x="18034" y="7"/>
                    </a:cubicBezTo>
                    <a:cubicBezTo>
                      <a:pt x="18034" y="5"/>
                      <a:pt x="18035" y="5"/>
                      <a:pt x="18036" y="5"/>
                    </a:cubicBezTo>
                    <a:close/>
                    <a:moveTo>
                      <a:pt x="18044" y="5"/>
                    </a:moveTo>
                    <a:lnTo>
                      <a:pt x="18044" y="5"/>
                    </a:lnTo>
                    <a:cubicBezTo>
                      <a:pt x="18045" y="5"/>
                      <a:pt x="18046" y="5"/>
                      <a:pt x="18046" y="7"/>
                    </a:cubicBezTo>
                    <a:cubicBezTo>
                      <a:pt x="18046" y="8"/>
                      <a:pt x="18045" y="9"/>
                      <a:pt x="18044" y="9"/>
                    </a:cubicBezTo>
                    <a:lnTo>
                      <a:pt x="18044" y="9"/>
                    </a:lnTo>
                    <a:cubicBezTo>
                      <a:pt x="18043" y="9"/>
                      <a:pt x="18042" y="8"/>
                      <a:pt x="18042" y="7"/>
                    </a:cubicBezTo>
                    <a:cubicBezTo>
                      <a:pt x="18042" y="5"/>
                      <a:pt x="18043" y="5"/>
                      <a:pt x="18044" y="5"/>
                    </a:cubicBezTo>
                    <a:close/>
                    <a:moveTo>
                      <a:pt x="18052" y="5"/>
                    </a:moveTo>
                    <a:lnTo>
                      <a:pt x="18052" y="5"/>
                    </a:lnTo>
                    <a:cubicBezTo>
                      <a:pt x="18053" y="5"/>
                      <a:pt x="18054" y="5"/>
                      <a:pt x="18054" y="7"/>
                    </a:cubicBezTo>
                    <a:cubicBezTo>
                      <a:pt x="18054" y="8"/>
                      <a:pt x="18053" y="9"/>
                      <a:pt x="18052" y="9"/>
                    </a:cubicBezTo>
                    <a:lnTo>
                      <a:pt x="18052" y="9"/>
                    </a:lnTo>
                    <a:cubicBezTo>
                      <a:pt x="18051" y="9"/>
                      <a:pt x="18050" y="8"/>
                      <a:pt x="18050" y="7"/>
                    </a:cubicBezTo>
                    <a:cubicBezTo>
                      <a:pt x="18050" y="5"/>
                      <a:pt x="18051" y="5"/>
                      <a:pt x="18052" y="5"/>
                    </a:cubicBezTo>
                    <a:close/>
                    <a:moveTo>
                      <a:pt x="18060" y="5"/>
                    </a:moveTo>
                    <a:lnTo>
                      <a:pt x="18060" y="5"/>
                    </a:lnTo>
                    <a:cubicBezTo>
                      <a:pt x="18061" y="5"/>
                      <a:pt x="18062" y="5"/>
                      <a:pt x="18062" y="7"/>
                    </a:cubicBezTo>
                    <a:cubicBezTo>
                      <a:pt x="18062" y="8"/>
                      <a:pt x="18061" y="9"/>
                      <a:pt x="18060" y="9"/>
                    </a:cubicBezTo>
                    <a:lnTo>
                      <a:pt x="18060" y="9"/>
                    </a:lnTo>
                    <a:cubicBezTo>
                      <a:pt x="18059" y="9"/>
                      <a:pt x="18058" y="8"/>
                      <a:pt x="18058" y="7"/>
                    </a:cubicBezTo>
                    <a:cubicBezTo>
                      <a:pt x="18058" y="5"/>
                      <a:pt x="18059" y="5"/>
                      <a:pt x="18060" y="5"/>
                    </a:cubicBezTo>
                    <a:close/>
                    <a:moveTo>
                      <a:pt x="18068" y="5"/>
                    </a:moveTo>
                    <a:lnTo>
                      <a:pt x="18068" y="5"/>
                    </a:lnTo>
                    <a:cubicBezTo>
                      <a:pt x="18069" y="5"/>
                      <a:pt x="18070" y="5"/>
                      <a:pt x="18070" y="7"/>
                    </a:cubicBezTo>
                    <a:cubicBezTo>
                      <a:pt x="18070" y="8"/>
                      <a:pt x="18069" y="9"/>
                      <a:pt x="18068" y="9"/>
                    </a:cubicBezTo>
                    <a:lnTo>
                      <a:pt x="18068" y="9"/>
                    </a:lnTo>
                    <a:cubicBezTo>
                      <a:pt x="18067" y="9"/>
                      <a:pt x="18066" y="8"/>
                      <a:pt x="18066" y="7"/>
                    </a:cubicBezTo>
                    <a:cubicBezTo>
                      <a:pt x="18066" y="5"/>
                      <a:pt x="18067" y="5"/>
                      <a:pt x="18068" y="5"/>
                    </a:cubicBezTo>
                    <a:close/>
                    <a:moveTo>
                      <a:pt x="18076" y="5"/>
                    </a:moveTo>
                    <a:lnTo>
                      <a:pt x="18076" y="5"/>
                    </a:lnTo>
                    <a:cubicBezTo>
                      <a:pt x="18077" y="5"/>
                      <a:pt x="18078" y="5"/>
                      <a:pt x="18078" y="7"/>
                    </a:cubicBezTo>
                    <a:cubicBezTo>
                      <a:pt x="18078" y="8"/>
                      <a:pt x="18077" y="9"/>
                      <a:pt x="18076" y="9"/>
                    </a:cubicBezTo>
                    <a:lnTo>
                      <a:pt x="18076" y="9"/>
                    </a:lnTo>
                    <a:cubicBezTo>
                      <a:pt x="18075" y="9"/>
                      <a:pt x="18074" y="8"/>
                      <a:pt x="18074" y="7"/>
                    </a:cubicBezTo>
                    <a:cubicBezTo>
                      <a:pt x="18074" y="5"/>
                      <a:pt x="18075" y="5"/>
                      <a:pt x="18076" y="5"/>
                    </a:cubicBezTo>
                    <a:close/>
                    <a:moveTo>
                      <a:pt x="18084" y="5"/>
                    </a:moveTo>
                    <a:lnTo>
                      <a:pt x="18084" y="5"/>
                    </a:lnTo>
                    <a:cubicBezTo>
                      <a:pt x="18085" y="5"/>
                      <a:pt x="18086" y="5"/>
                      <a:pt x="18086" y="7"/>
                    </a:cubicBezTo>
                    <a:cubicBezTo>
                      <a:pt x="18086" y="8"/>
                      <a:pt x="18085" y="9"/>
                      <a:pt x="18084" y="9"/>
                    </a:cubicBezTo>
                    <a:lnTo>
                      <a:pt x="18084" y="9"/>
                    </a:lnTo>
                    <a:cubicBezTo>
                      <a:pt x="18083" y="9"/>
                      <a:pt x="18082" y="8"/>
                      <a:pt x="18082" y="7"/>
                    </a:cubicBezTo>
                    <a:cubicBezTo>
                      <a:pt x="18082" y="5"/>
                      <a:pt x="18083" y="5"/>
                      <a:pt x="18084" y="5"/>
                    </a:cubicBezTo>
                    <a:close/>
                    <a:moveTo>
                      <a:pt x="18092" y="5"/>
                    </a:moveTo>
                    <a:lnTo>
                      <a:pt x="18092" y="5"/>
                    </a:lnTo>
                    <a:cubicBezTo>
                      <a:pt x="18093" y="5"/>
                      <a:pt x="18094" y="5"/>
                      <a:pt x="18094" y="7"/>
                    </a:cubicBezTo>
                    <a:cubicBezTo>
                      <a:pt x="18094" y="8"/>
                      <a:pt x="18093" y="9"/>
                      <a:pt x="18092" y="9"/>
                    </a:cubicBezTo>
                    <a:lnTo>
                      <a:pt x="18092" y="9"/>
                    </a:lnTo>
                    <a:cubicBezTo>
                      <a:pt x="18091" y="9"/>
                      <a:pt x="18090" y="8"/>
                      <a:pt x="18090" y="7"/>
                    </a:cubicBezTo>
                    <a:cubicBezTo>
                      <a:pt x="18090" y="5"/>
                      <a:pt x="18091" y="5"/>
                      <a:pt x="18092" y="5"/>
                    </a:cubicBezTo>
                    <a:close/>
                    <a:moveTo>
                      <a:pt x="18100" y="5"/>
                    </a:moveTo>
                    <a:lnTo>
                      <a:pt x="18100" y="5"/>
                    </a:lnTo>
                    <a:cubicBezTo>
                      <a:pt x="18101" y="5"/>
                      <a:pt x="18102" y="5"/>
                      <a:pt x="18102" y="7"/>
                    </a:cubicBezTo>
                    <a:cubicBezTo>
                      <a:pt x="18102" y="8"/>
                      <a:pt x="18101" y="9"/>
                      <a:pt x="18100" y="9"/>
                    </a:cubicBezTo>
                    <a:lnTo>
                      <a:pt x="18100" y="9"/>
                    </a:lnTo>
                    <a:cubicBezTo>
                      <a:pt x="18099" y="9"/>
                      <a:pt x="18098" y="8"/>
                      <a:pt x="18098" y="7"/>
                    </a:cubicBezTo>
                    <a:cubicBezTo>
                      <a:pt x="18098" y="5"/>
                      <a:pt x="18099" y="5"/>
                      <a:pt x="18100" y="5"/>
                    </a:cubicBezTo>
                    <a:close/>
                    <a:moveTo>
                      <a:pt x="18108" y="5"/>
                    </a:moveTo>
                    <a:lnTo>
                      <a:pt x="18108" y="5"/>
                    </a:lnTo>
                    <a:cubicBezTo>
                      <a:pt x="18109" y="5"/>
                      <a:pt x="18110" y="5"/>
                      <a:pt x="18110" y="7"/>
                    </a:cubicBezTo>
                    <a:cubicBezTo>
                      <a:pt x="18110" y="8"/>
                      <a:pt x="18109" y="9"/>
                      <a:pt x="18108" y="9"/>
                    </a:cubicBezTo>
                    <a:lnTo>
                      <a:pt x="18108" y="9"/>
                    </a:lnTo>
                    <a:cubicBezTo>
                      <a:pt x="18107" y="9"/>
                      <a:pt x="18106" y="8"/>
                      <a:pt x="18106" y="7"/>
                    </a:cubicBezTo>
                    <a:cubicBezTo>
                      <a:pt x="18106" y="5"/>
                      <a:pt x="18107" y="5"/>
                      <a:pt x="18108" y="5"/>
                    </a:cubicBezTo>
                    <a:close/>
                    <a:moveTo>
                      <a:pt x="18116" y="5"/>
                    </a:moveTo>
                    <a:lnTo>
                      <a:pt x="18116" y="5"/>
                    </a:lnTo>
                    <a:cubicBezTo>
                      <a:pt x="18117" y="5"/>
                      <a:pt x="18118" y="5"/>
                      <a:pt x="18118" y="7"/>
                    </a:cubicBezTo>
                    <a:cubicBezTo>
                      <a:pt x="18118" y="8"/>
                      <a:pt x="18117" y="9"/>
                      <a:pt x="18116" y="9"/>
                    </a:cubicBezTo>
                    <a:lnTo>
                      <a:pt x="18116" y="9"/>
                    </a:lnTo>
                    <a:cubicBezTo>
                      <a:pt x="18115" y="9"/>
                      <a:pt x="18114" y="8"/>
                      <a:pt x="18114" y="7"/>
                    </a:cubicBezTo>
                    <a:cubicBezTo>
                      <a:pt x="18114" y="5"/>
                      <a:pt x="18115" y="5"/>
                      <a:pt x="18116" y="5"/>
                    </a:cubicBezTo>
                    <a:close/>
                    <a:moveTo>
                      <a:pt x="18124" y="5"/>
                    </a:moveTo>
                    <a:lnTo>
                      <a:pt x="18124" y="5"/>
                    </a:lnTo>
                    <a:cubicBezTo>
                      <a:pt x="18125" y="5"/>
                      <a:pt x="18126" y="5"/>
                      <a:pt x="18126" y="7"/>
                    </a:cubicBezTo>
                    <a:cubicBezTo>
                      <a:pt x="18126" y="8"/>
                      <a:pt x="18125" y="9"/>
                      <a:pt x="18124" y="9"/>
                    </a:cubicBezTo>
                    <a:lnTo>
                      <a:pt x="18124" y="9"/>
                    </a:lnTo>
                    <a:cubicBezTo>
                      <a:pt x="18123" y="9"/>
                      <a:pt x="18122" y="8"/>
                      <a:pt x="18122" y="7"/>
                    </a:cubicBezTo>
                    <a:cubicBezTo>
                      <a:pt x="18122" y="5"/>
                      <a:pt x="18123" y="5"/>
                      <a:pt x="18124" y="5"/>
                    </a:cubicBezTo>
                    <a:close/>
                    <a:moveTo>
                      <a:pt x="18132" y="5"/>
                    </a:moveTo>
                    <a:lnTo>
                      <a:pt x="18132" y="5"/>
                    </a:lnTo>
                    <a:cubicBezTo>
                      <a:pt x="18133" y="5"/>
                      <a:pt x="18134" y="5"/>
                      <a:pt x="18134" y="7"/>
                    </a:cubicBezTo>
                    <a:cubicBezTo>
                      <a:pt x="18134" y="8"/>
                      <a:pt x="18133" y="9"/>
                      <a:pt x="18132" y="9"/>
                    </a:cubicBezTo>
                    <a:lnTo>
                      <a:pt x="18132" y="9"/>
                    </a:lnTo>
                    <a:cubicBezTo>
                      <a:pt x="18131" y="9"/>
                      <a:pt x="18130" y="8"/>
                      <a:pt x="18130" y="7"/>
                    </a:cubicBezTo>
                    <a:cubicBezTo>
                      <a:pt x="18130" y="5"/>
                      <a:pt x="18131" y="5"/>
                      <a:pt x="18132" y="5"/>
                    </a:cubicBezTo>
                    <a:close/>
                    <a:moveTo>
                      <a:pt x="18140" y="5"/>
                    </a:moveTo>
                    <a:lnTo>
                      <a:pt x="18140" y="5"/>
                    </a:lnTo>
                    <a:cubicBezTo>
                      <a:pt x="18141" y="5"/>
                      <a:pt x="18142" y="5"/>
                      <a:pt x="18142" y="7"/>
                    </a:cubicBezTo>
                    <a:cubicBezTo>
                      <a:pt x="18142" y="8"/>
                      <a:pt x="18141" y="9"/>
                      <a:pt x="18140" y="9"/>
                    </a:cubicBezTo>
                    <a:lnTo>
                      <a:pt x="18140" y="9"/>
                    </a:lnTo>
                    <a:cubicBezTo>
                      <a:pt x="18139" y="9"/>
                      <a:pt x="18138" y="8"/>
                      <a:pt x="18138" y="7"/>
                    </a:cubicBezTo>
                    <a:cubicBezTo>
                      <a:pt x="18138" y="5"/>
                      <a:pt x="18139" y="5"/>
                      <a:pt x="18140" y="5"/>
                    </a:cubicBezTo>
                    <a:close/>
                    <a:moveTo>
                      <a:pt x="18148" y="5"/>
                    </a:moveTo>
                    <a:lnTo>
                      <a:pt x="18148" y="5"/>
                    </a:lnTo>
                    <a:cubicBezTo>
                      <a:pt x="18149" y="5"/>
                      <a:pt x="18150" y="5"/>
                      <a:pt x="18150" y="7"/>
                    </a:cubicBezTo>
                    <a:cubicBezTo>
                      <a:pt x="18150" y="8"/>
                      <a:pt x="18149" y="9"/>
                      <a:pt x="18148" y="9"/>
                    </a:cubicBezTo>
                    <a:lnTo>
                      <a:pt x="18148" y="9"/>
                    </a:lnTo>
                    <a:cubicBezTo>
                      <a:pt x="18147" y="9"/>
                      <a:pt x="18146" y="8"/>
                      <a:pt x="18146" y="7"/>
                    </a:cubicBezTo>
                    <a:cubicBezTo>
                      <a:pt x="18146" y="5"/>
                      <a:pt x="18147" y="5"/>
                      <a:pt x="18148" y="5"/>
                    </a:cubicBezTo>
                    <a:close/>
                    <a:moveTo>
                      <a:pt x="18156" y="5"/>
                    </a:moveTo>
                    <a:lnTo>
                      <a:pt x="18156" y="5"/>
                    </a:lnTo>
                    <a:cubicBezTo>
                      <a:pt x="18157" y="5"/>
                      <a:pt x="18158" y="5"/>
                      <a:pt x="18158" y="7"/>
                    </a:cubicBezTo>
                    <a:cubicBezTo>
                      <a:pt x="18158" y="8"/>
                      <a:pt x="18157" y="9"/>
                      <a:pt x="18156" y="9"/>
                    </a:cubicBezTo>
                    <a:lnTo>
                      <a:pt x="18156" y="9"/>
                    </a:lnTo>
                    <a:cubicBezTo>
                      <a:pt x="18155" y="9"/>
                      <a:pt x="18154" y="8"/>
                      <a:pt x="18154" y="7"/>
                    </a:cubicBezTo>
                    <a:cubicBezTo>
                      <a:pt x="18154" y="5"/>
                      <a:pt x="18155" y="5"/>
                      <a:pt x="18156" y="5"/>
                    </a:cubicBezTo>
                    <a:close/>
                    <a:moveTo>
                      <a:pt x="18164" y="5"/>
                    </a:moveTo>
                    <a:lnTo>
                      <a:pt x="18164" y="5"/>
                    </a:lnTo>
                    <a:cubicBezTo>
                      <a:pt x="18165" y="5"/>
                      <a:pt x="18166" y="5"/>
                      <a:pt x="18166" y="7"/>
                    </a:cubicBezTo>
                    <a:cubicBezTo>
                      <a:pt x="18166" y="8"/>
                      <a:pt x="18165" y="9"/>
                      <a:pt x="18164" y="9"/>
                    </a:cubicBezTo>
                    <a:lnTo>
                      <a:pt x="18164" y="9"/>
                    </a:lnTo>
                    <a:cubicBezTo>
                      <a:pt x="18163" y="9"/>
                      <a:pt x="18162" y="8"/>
                      <a:pt x="18162" y="7"/>
                    </a:cubicBezTo>
                    <a:cubicBezTo>
                      <a:pt x="18162" y="5"/>
                      <a:pt x="18163" y="5"/>
                      <a:pt x="18164" y="5"/>
                    </a:cubicBezTo>
                    <a:close/>
                    <a:moveTo>
                      <a:pt x="18172" y="5"/>
                    </a:moveTo>
                    <a:lnTo>
                      <a:pt x="18172" y="5"/>
                    </a:lnTo>
                    <a:cubicBezTo>
                      <a:pt x="18173" y="5"/>
                      <a:pt x="18174" y="5"/>
                      <a:pt x="18174" y="7"/>
                    </a:cubicBezTo>
                    <a:cubicBezTo>
                      <a:pt x="18174" y="8"/>
                      <a:pt x="18173" y="9"/>
                      <a:pt x="18172" y="9"/>
                    </a:cubicBezTo>
                    <a:lnTo>
                      <a:pt x="18172" y="9"/>
                    </a:lnTo>
                    <a:cubicBezTo>
                      <a:pt x="18171" y="9"/>
                      <a:pt x="18170" y="8"/>
                      <a:pt x="18170" y="7"/>
                    </a:cubicBezTo>
                    <a:cubicBezTo>
                      <a:pt x="18170" y="5"/>
                      <a:pt x="18171" y="5"/>
                      <a:pt x="18172" y="5"/>
                    </a:cubicBezTo>
                    <a:close/>
                    <a:moveTo>
                      <a:pt x="18180" y="5"/>
                    </a:moveTo>
                    <a:lnTo>
                      <a:pt x="18180" y="5"/>
                    </a:lnTo>
                    <a:cubicBezTo>
                      <a:pt x="18181" y="5"/>
                      <a:pt x="18182" y="5"/>
                      <a:pt x="18182" y="7"/>
                    </a:cubicBezTo>
                    <a:cubicBezTo>
                      <a:pt x="18182" y="8"/>
                      <a:pt x="18181" y="9"/>
                      <a:pt x="18180" y="9"/>
                    </a:cubicBezTo>
                    <a:lnTo>
                      <a:pt x="18180" y="9"/>
                    </a:lnTo>
                    <a:cubicBezTo>
                      <a:pt x="18179" y="9"/>
                      <a:pt x="18178" y="8"/>
                      <a:pt x="18178" y="7"/>
                    </a:cubicBezTo>
                    <a:cubicBezTo>
                      <a:pt x="18178" y="5"/>
                      <a:pt x="18179" y="5"/>
                      <a:pt x="18180" y="5"/>
                    </a:cubicBezTo>
                    <a:close/>
                    <a:moveTo>
                      <a:pt x="18188" y="5"/>
                    </a:moveTo>
                    <a:lnTo>
                      <a:pt x="18188" y="5"/>
                    </a:lnTo>
                    <a:cubicBezTo>
                      <a:pt x="18189" y="5"/>
                      <a:pt x="18190" y="5"/>
                      <a:pt x="18190" y="7"/>
                    </a:cubicBezTo>
                    <a:cubicBezTo>
                      <a:pt x="18190" y="8"/>
                      <a:pt x="18189" y="9"/>
                      <a:pt x="18188" y="9"/>
                    </a:cubicBezTo>
                    <a:lnTo>
                      <a:pt x="18188" y="9"/>
                    </a:lnTo>
                    <a:cubicBezTo>
                      <a:pt x="18187" y="9"/>
                      <a:pt x="18186" y="8"/>
                      <a:pt x="18186" y="7"/>
                    </a:cubicBezTo>
                    <a:cubicBezTo>
                      <a:pt x="18186" y="5"/>
                      <a:pt x="18187" y="5"/>
                      <a:pt x="18188" y="5"/>
                    </a:cubicBezTo>
                    <a:close/>
                    <a:moveTo>
                      <a:pt x="18196" y="5"/>
                    </a:moveTo>
                    <a:lnTo>
                      <a:pt x="18196" y="5"/>
                    </a:lnTo>
                    <a:cubicBezTo>
                      <a:pt x="18197" y="5"/>
                      <a:pt x="18198" y="5"/>
                      <a:pt x="18198" y="7"/>
                    </a:cubicBezTo>
                    <a:cubicBezTo>
                      <a:pt x="18198" y="8"/>
                      <a:pt x="18197" y="9"/>
                      <a:pt x="18196" y="9"/>
                    </a:cubicBezTo>
                    <a:lnTo>
                      <a:pt x="18196" y="9"/>
                    </a:lnTo>
                    <a:cubicBezTo>
                      <a:pt x="18195" y="9"/>
                      <a:pt x="18194" y="8"/>
                      <a:pt x="18194" y="7"/>
                    </a:cubicBezTo>
                    <a:cubicBezTo>
                      <a:pt x="18194" y="5"/>
                      <a:pt x="18195" y="5"/>
                      <a:pt x="18196" y="5"/>
                    </a:cubicBezTo>
                    <a:close/>
                    <a:moveTo>
                      <a:pt x="18204" y="5"/>
                    </a:moveTo>
                    <a:lnTo>
                      <a:pt x="18204" y="5"/>
                    </a:lnTo>
                    <a:cubicBezTo>
                      <a:pt x="18205" y="5"/>
                      <a:pt x="18206" y="5"/>
                      <a:pt x="18206" y="7"/>
                    </a:cubicBezTo>
                    <a:cubicBezTo>
                      <a:pt x="18206" y="8"/>
                      <a:pt x="18205" y="9"/>
                      <a:pt x="18204" y="9"/>
                    </a:cubicBezTo>
                    <a:lnTo>
                      <a:pt x="18204" y="9"/>
                    </a:lnTo>
                    <a:cubicBezTo>
                      <a:pt x="18203" y="9"/>
                      <a:pt x="18202" y="8"/>
                      <a:pt x="18202" y="7"/>
                    </a:cubicBezTo>
                    <a:cubicBezTo>
                      <a:pt x="18202" y="5"/>
                      <a:pt x="18203" y="5"/>
                      <a:pt x="18204" y="5"/>
                    </a:cubicBezTo>
                    <a:close/>
                    <a:moveTo>
                      <a:pt x="18212" y="5"/>
                    </a:moveTo>
                    <a:lnTo>
                      <a:pt x="18212" y="5"/>
                    </a:lnTo>
                    <a:cubicBezTo>
                      <a:pt x="18214" y="5"/>
                      <a:pt x="18214" y="5"/>
                      <a:pt x="18214" y="7"/>
                    </a:cubicBezTo>
                    <a:cubicBezTo>
                      <a:pt x="18214" y="8"/>
                      <a:pt x="18214" y="9"/>
                      <a:pt x="18212" y="9"/>
                    </a:cubicBezTo>
                    <a:lnTo>
                      <a:pt x="18212" y="9"/>
                    </a:lnTo>
                    <a:cubicBezTo>
                      <a:pt x="18211" y="9"/>
                      <a:pt x="18210" y="8"/>
                      <a:pt x="18210" y="7"/>
                    </a:cubicBezTo>
                    <a:cubicBezTo>
                      <a:pt x="18210" y="5"/>
                      <a:pt x="18211" y="5"/>
                      <a:pt x="18212" y="5"/>
                    </a:cubicBezTo>
                    <a:close/>
                    <a:moveTo>
                      <a:pt x="18220" y="5"/>
                    </a:moveTo>
                    <a:lnTo>
                      <a:pt x="18220" y="5"/>
                    </a:lnTo>
                    <a:cubicBezTo>
                      <a:pt x="18222" y="5"/>
                      <a:pt x="18222" y="5"/>
                      <a:pt x="18222" y="7"/>
                    </a:cubicBezTo>
                    <a:cubicBezTo>
                      <a:pt x="18222" y="8"/>
                      <a:pt x="18222" y="9"/>
                      <a:pt x="18220" y="9"/>
                    </a:cubicBezTo>
                    <a:lnTo>
                      <a:pt x="18220" y="9"/>
                    </a:lnTo>
                    <a:cubicBezTo>
                      <a:pt x="18219" y="9"/>
                      <a:pt x="18218" y="8"/>
                      <a:pt x="18218" y="7"/>
                    </a:cubicBezTo>
                    <a:cubicBezTo>
                      <a:pt x="18218" y="5"/>
                      <a:pt x="18219" y="5"/>
                      <a:pt x="18220" y="5"/>
                    </a:cubicBezTo>
                    <a:close/>
                    <a:moveTo>
                      <a:pt x="18228" y="5"/>
                    </a:moveTo>
                    <a:lnTo>
                      <a:pt x="18228" y="5"/>
                    </a:lnTo>
                    <a:cubicBezTo>
                      <a:pt x="18230" y="5"/>
                      <a:pt x="18230" y="5"/>
                      <a:pt x="18230" y="7"/>
                    </a:cubicBezTo>
                    <a:cubicBezTo>
                      <a:pt x="18230" y="8"/>
                      <a:pt x="18230" y="9"/>
                      <a:pt x="18228" y="9"/>
                    </a:cubicBezTo>
                    <a:lnTo>
                      <a:pt x="18228" y="9"/>
                    </a:lnTo>
                    <a:cubicBezTo>
                      <a:pt x="18227" y="9"/>
                      <a:pt x="18226" y="8"/>
                      <a:pt x="18226" y="7"/>
                    </a:cubicBezTo>
                    <a:cubicBezTo>
                      <a:pt x="18226" y="5"/>
                      <a:pt x="18227" y="5"/>
                      <a:pt x="18228" y="5"/>
                    </a:cubicBezTo>
                    <a:close/>
                    <a:moveTo>
                      <a:pt x="18236" y="5"/>
                    </a:moveTo>
                    <a:lnTo>
                      <a:pt x="18236" y="5"/>
                    </a:lnTo>
                    <a:cubicBezTo>
                      <a:pt x="18238" y="5"/>
                      <a:pt x="18238" y="5"/>
                      <a:pt x="18238" y="7"/>
                    </a:cubicBezTo>
                    <a:cubicBezTo>
                      <a:pt x="18238" y="8"/>
                      <a:pt x="18238" y="9"/>
                      <a:pt x="18236" y="9"/>
                    </a:cubicBezTo>
                    <a:lnTo>
                      <a:pt x="18236" y="9"/>
                    </a:lnTo>
                    <a:cubicBezTo>
                      <a:pt x="18235" y="9"/>
                      <a:pt x="18234" y="8"/>
                      <a:pt x="18234" y="7"/>
                    </a:cubicBezTo>
                    <a:cubicBezTo>
                      <a:pt x="18234" y="5"/>
                      <a:pt x="18235" y="5"/>
                      <a:pt x="18236" y="5"/>
                    </a:cubicBezTo>
                    <a:close/>
                    <a:moveTo>
                      <a:pt x="18244" y="5"/>
                    </a:moveTo>
                    <a:lnTo>
                      <a:pt x="18244" y="5"/>
                    </a:lnTo>
                    <a:cubicBezTo>
                      <a:pt x="18246" y="5"/>
                      <a:pt x="18246" y="5"/>
                      <a:pt x="18246" y="7"/>
                    </a:cubicBezTo>
                    <a:cubicBezTo>
                      <a:pt x="18246" y="8"/>
                      <a:pt x="18246" y="9"/>
                      <a:pt x="18244" y="9"/>
                    </a:cubicBezTo>
                    <a:lnTo>
                      <a:pt x="18244" y="9"/>
                    </a:lnTo>
                    <a:cubicBezTo>
                      <a:pt x="18243" y="9"/>
                      <a:pt x="18242" y="8"/>
                      <a:pt x="18242" y="7"/>
                    </a:cubicBezTo>
                    <a:cubicBezTo>
                      <a:pt x="18242" y="5"/>
                      <a:pt x="18243" y="5"/>
                      <a:pt x="18244" y="5"/>
                    </a:cubicBezTo>
                    <a:close/>
                    <a:moveTo>
                      <a:pt x="18252" y="5"/>
                    </a:moveTo>
                    <a:lnTo>
                      <a:pt x="18252" y="5"/>
                    </a:lnTo>
                    <a:cubicBezTo>
                      <a:pt x="18254" y="5"/>
                      <a:pt x="18254" y="5"/>
                      <a:pt x="18254" y="7"/>
                    </a:cubicBezTo>
                    <a:cubicBezTo>
                      <a:pt x="18254" y="8"/>
                      <a:pt x="18254" y="9"/>
                      <a:pt x="18252" y="9"/>
                    </a:cubicBezTo>
                    <a:lnTo>
                      <a:pt x="18252" y="9"/>
                    </a:lnTo>
                    <a:cubicBezTo>
                      <a:pt x="18251" y="9"/>
                      <a:pt x="18250" y="8"/>
                      <a:pt x="18250" y="7"/>
                    </a:cubicBezTo>
                    <a:cubicBezTo>
                      <a:pt x="18250" y="5"/>
                      <a:pt x="18251" y="5"/>
                      <a:pt x="18252" y="5"/>
                    </a:cubicBezTo>
                    <a:close/>
                    <a:moveTo>
                      <a:pt x="18260" y="5"/>
                    </a:moveTo>
                    <a:lnTo>
                      <a:pt x="18260" y="5"/>
                    </a:lnTo>
                    <a:cubicBezTo>
                      <a:pt x="18262" y="5"/>
                      <a:pt x="18262" y="5"/>
                      <a:pt x="18262" y="7"/>
                    </a:cubicBezTo>
                    <a:cubicBezTo>
                      <a:pt x="18262" y="8"/>
                      <a:pt x="18262" y="9"/>
                      <a:pt x="18260" y="9"/>
                    </a:cubicBezTo>
                    <a:lnTo>
                      <a:pt x="18260" y="9"/>
                    </a:lnTo>
                    <a:cubicBezTo>
                      <a:pt x="18259" y="9"/>
                      <a:pt x="18258" y="8"/>
                      <a:pt x="18258" y="7"/>
                    </a:cubicBezTo>
                    <a:cubicBezTo>
                      <a:pt x="18258" y="5"/>
                      <a:pt x="18259" y="5"/>
                      <a:pt x="18260" y="5"/>
                    </a:cubicBezTo>
                    <a:close/>
                    <a:moveTo>
                      <a:pt x="18268" y="5"/>
                    </a:moveTo>
                    <a:lnTo>
                      <a:pt x="18268" y="5"/>
                    </a:lnTo>
                    <a:cubicBezTo>
                      <a:pt x="18270" y="5"/>
                      <a:pt x="18270" y="5"/>
                      <a:pt x="18270" y="7"/>
                    </a:cubicBezTo>
                    <a:cubicBezTo>
                      <a:pt x="18270" y="8"/>
                      <a:pt x="18270" y="9"/>
                      <a:pt x="18268" y="9"/>
                    </a:cubicBezTo>
                    <a:lnTo>
                      <a:pt x="18268" y="9"/>
                    </a:lnTo>
                    <a:cubicBezTo>
                      <a:pt x="18267" y="9"/>
                      <a:pt x="18266" y="8"/>
                      <a:pt x="18266" y="7"/>
                    </a:cubicBezTo>
                    <a:cubicBezTo>
                      <a:pt x="18266" y="5"/>
                      <a:pt x="18267" y="5"/>
                      <a:pt x="18268" y="5"/>
                    </a:cubicBezTo>
                    <a:close/>
                    <a:moveTo>
                      <a:pt x="18276" y="5"/>
                    </a:moveTo>
                    <a:lnTo>
                      <a:pt x="18276" y="5"/>
                    </a:lnTo>
                    <a:cubicBezTo>
                      <a:pt x="18278" y="5"/>
                      <a:pt x="18278" y="5"/>
                      <a:pt x="18278" y="7"/>
                    </a:cubicBezTo>
                    <a:cubicBezTo>
                      <a:pt x="18278" y="8"/>
                      <a:pt x="18278" y="9"/>
                      <a:pt x="18276" y="9"/>
                    </a:cubicBezTo>
                    <a:lnTo>
                      <a:pt x="18276" y="9"/>
                    </a:lnTo>
                    <a:cubicBezTo>
                      <a:pt x="18275" y="9"/>
                      <a:pt x="18274" y="8"/>
                      <a:pt x="18274" y="7"/>
                    </a:cubicBezTo>
                    <a:cubicBezTo>
                      <a:pt x="18274" y="5"/>
                      <a:pt x="18275" y="5"/>
                      <a:pt x="18276" y="5"/>
                    </a:cubicBezTo>
                    <a:close/>
                    <a:moveTo>
                      <a:pt x="18284" y="5"/>
                    </a:moveTo>
                    <a:lnTo>
                      <a:pt x="18284" y="5"/>
                    </a:lnTo>
                    <a:cubicBezTo>
                      <a:pt x="18286" y="5"/>
                      <a:pt x="18286" y="5"/>
                      <a:pt x="18286" y="7"/>
                    </a:cubicBezTo>
                    <a:cubicBezTo>
                      <a:pt x="18286" y="8"/>
                      <a:pt x="18286" y="9"/>
                      <a:pt x="18284" y="9"/>
                    </a:cubicBezTo>
                    <a:lnTo>
                      <a:pt x="18284" y="9"/>
                    </a:lnTo>
                    <a:cubicBezTo>
                      <a:pt x="18283" y="9"/>
                      <a:pt x="18282" y="8"/>
                      <a:pt x="18282" y="7"/>
                    </a:cubicBezTo>
                    <a:cubicBezTo>
                      <a:pt x="18282" y="5"/>
                      <a:pt x="18283" y="5"/>
                      <a:pt x="18284" y="5"/>
                    </a:cubicBezTo>
                    <a:close/>
                    <a:moveTo>
                      <a:pt x="18292" y="5"/>
                    </a:moveTo>
                    <a:lnTo>
                      <a:pt x="18292" y="5"/>
                    </a:lnTo>
                    <a:cubicBezTo>
                      <a:pt x="18294" y="5"/>
                      <a:pt x="18294" y="5"/>
                      <a:pt x="18294" y="7"/>
                    </a:cubicBezTo>
                    <a:cubicBezTo>
                      <a:pt x="18294" y="8"/>
                      <a:pt x="18294" y="9"/>
                      <a:pt x="18292" y="9"/>
                    </a:cubicBezTo>
                    <a:lnTo>
                      <a:pt x="18292" y="9"/>
                    </a:lnTo>
                    <a:cubicBezTo>
                      <a:pt x="18291" y="9"/>
                      <a:pt x="18290" y="8"/>
                      <a:pt x="18290" y="7"/>
                    </a:cubicBezTo>
                    <a:cubicBezTo>
                      <a:pt x="18290" y="5"/>
                      <a:pt x="18291" y="5"/>
                      <a:pt x="18292" y="5"/>
                    </a:cubicBezTo>
                    <a:close/>
                    <a:moveTo>
                      <a:pt x="18300" y="5"/>
                    </a:moveTo>
                    <a:lnTo>
                      <a:pt x="18300" y="5"/>
                    </a:lnTo>
                    <a:cubicBezTo>
                      <a:pt x="18302" y="5"/>
                      <a:pt x="18302" y="5"/>
                      <a:pt x="18302" y="7"/>
                    </a:cubicBezTo>
                    <a:cubicBezTo>
                      <a:pt x="18302" y="8"/>
                      <a:pt x="18302" y="9"/>
                      <a:pt x="18300" y="9"/>
                    </a:cubicBezTo>
                    <a:lnTo>
                      <a:pt x="18300" y="9"/>
                    </a:lnTo>
                    <a:cubicBezTo>
                      <a:pt x="18299" y="9"/>
                      <a:pt x="18298" y="8"/>
                      <a:pt x="18298" y="7"/>
                    </a:cubicBezTo>
                    <a:cubicBezTo>
                      <a:pt x="18298" y="5"/>
                      <a:pt x="18299" y="5"/>
                      <a:pt x="18300" y="5"/>
                    </a:cubicBezTo>
                    <a:close/>
                    <a:moveTo>
                      <a:pt x="18308" y="5"/>
                    </a:moveTo>
                    <a:lnTo>
                      <a:pt x="18308" y="5"/>
                    </a:lnTo>
                    <a:cubicBezTo>
                      <a:pt x="18310" y="5"/>
                      <a:pt x="18310" y="5"/>
                      <a:pt x="18310" y="7"/>
                    </a:cubicBezTo>
                    <a:cubicBezTo>
                      <a:pt x="18310" y="8"/>
                      <a:pt x="18310" y="9"/>
                      <a:pt x="18308" y="9"/>
                    </a:cubicBezTo>
                    <a:lnTo>
                      <a:pt x="18308" y="9"/>
                    </a:lnTo>
                    <a:cubicBezTo>
                      <a:pt x="18307" y="9"/>
                      <a:pt x="18306" y="8"/>
                      <a:pt x="18306" y="7"/>
                    </a:cubicBezTo>
                    <a:cubicBezTo>
                      <a:pt x="18306" y="5"/>
                      <a:pt x="18307" y="5"/>
                      <a:pt x="18308" y="5"/>
                    </a:cubicBezTo>
                    <a:close/>
                    <a:moveTo>
                      <a:pt x="18316" y="5"/>
                    </a:moveTo>
                    <a:lnTo>
                      <a:pt x="18317" y="5"/>
                    </a:lnTo>
                    <a:cubicBezTo>
                      <a:pt x="18318" y="5"/>
                      <a:pt x="18319" y="5"/>
                      <a:pt x="18319" y="7"/>
                    </a:cubicBezTo>
                    <a:cubicBezTo>
                      <a:pt x="18319" y="8"/>
                      <a:pt x="18318" y="9"/>
                      <a:pt x="18317" y="9"/>
                    </a:cubicBezTo>
                    <a:lnTo>
                      <a:pt x="18316" y="9"/>
                    </a:lnTo>
                    <a:cubicBezTo>
                      <a:pt x="18315" y="9"/>
                      <a:pt x="18314" y="8"/>
                      <a:pt x="18314" y="7"/>
                    </a:cubicBezTo>
                    <a:cubicBezTo>
                      <a:pt x="18314" y="5"/>
                      <a:pt x="18315" y="5"/>
                      <a:pt x="18316" y="5"/>
                    </a:cubicBezTo>
                    <a:close/>
                    <a:moveTo>
                      <a:pt x="18325" y="5"/>
                    </a:moveTo>
                    <a:lnTo>
                      <a:pt x="18325" y="5"/>
                    </a:lnTo>
                    <a:cubicBezTo>
                      <a:pt x="18326" y="5"/>
                      <a:pt x="18327" y="5"/>
                      <a:pt x="18327" y="7"/>
                    </a:cubicBezTo>
                    <a:cubicBezTo>
                      <a:pt x="18327" y="8"/>
                      <a:pt x="18326" y="9"/>
                      <a:pt x="18325" y="9"/>
                    </a:cubicBezTo>
                    <a:lnTo>
                      <a:pt x="18325" y="9"/>
                    </a:lnTo>
                    <a:cubicBezTo>
                      <a:pt x="18323" y="9"/>
                      <a:pt x="18323" y="8"/>
                      <a:pt x="18323" y="7"/>
                    </a:cubicBezTo>
                    <a:cubicBezTo>
                      <a:pt x="18323" y="5"/>
                      <a:pt x="18323" y="5"/>
                      <a:pt x="18325" y="5"/>
                    </a:cubicBezTo>
                    <a:close/>
                    <a:moveTo>
                      <a:pt x="18333" y="5"/>
                    </a:moveTo>
                    <a:lnTo>
                      <a:pt x="18333" y="5"/>
                    </a:lnTo>
                    <a:cubicBezTo>
                      <a:pt x="18334" y="5"/>
                      <a:pt x="18335" y="5"/>
                      <a:pt x="18335" y="7"/>
                    </a:cubicBezTo>
                    <a:cubicBezTo>
                      <a:pt x="18335" y="8"/>
                      <a:pt x="18334" y="9"/>
                      <a:pt x="18333" y="9"/>
                    </a:cubicBezTo>
                    <a:lnTo>
                      <a:pt x="18333" y="9"/>
                    </a:lnTo>
                    <a:cubicBezTo>
                      <a:pt x="18331" y="9"/>
                      <a:pt x="18331" y="8"/>
                      <a:pt x="18331" y="7"/>
                    </a:cubicBezTo>
                    <a:cubicBezTo>
                      <a:pt x="18331" y="5"/>
                      <a:pt x="18331" y="5"/>
                      <a:pt x="18333" y="5"/>
                    </a:cubicBezTo>
                    <a:close/>
                    <a:moveTo>
                      <a:pt x="18341" y="5"/>
                    </a:moveTo>
                    <a:lnTo>
                      <a:pt x="18341" y="5"/>
                    </a:lnTo>
                    <a:cubicBezTo>
                      <a:pt x="18342" y="5"/>
                      <a:pt x="18343" y="5"/>
                      <a:pt x="18343" y="7"/>
                    </a:cubicBezTo>
                    <a:cubicBezTo>
                      <a:pt x="18343" y="8"/>
                      <a:pt x="18342" y="9"/>
                      <a:pt x="18341" y="9"/>
                    </a:cubicBezTo>
                    <a:lnTo>
                      <a:pt x="18341" y="9"/>
                    </a:lnTo>
                    <a:cubicBezTo>
                      <a:pt x="18339" y="9"/>
                      <a:pt x="18339" y="8"/>
                      <a:pt x="18339" y="7"/>
                    </a:cubicBezTo>
                    <a:cubicBezTo>
                      <a:pt x="18339" y="5"/>
                      <a:pt x="18339" y="5"/>
                      <a:pt x="18341" y="5"/>
                    </a:cubicBezTo>
                    <a:close/>
                    <a:moveTo>
                      <a:pt x="18349" y="5"/>
                    </a:moveTo>
                    <a:lnTo>
                      <a:pt x="18349" y="5"/>
                    </a:lnTo>
                    <a:cubicBezTo>
                      <a:pt x="18350" y="5"/>
                      <a:pt x="18351" y="5"/>
                      <a:pt x="18351" y="7"/>
                    </a:cubicBezTo>
                    <a:cubicBezTo>
                      <a:pt x="18351" y="8"/>
                      <a:pt x="18350" y="9"/>
                      <a:pt x="18349" y="9"/>
                    </a:cubicBezTo>
                    <a:lnTo>
                      <a:pt x="18349" y="9"/>
                    </a:lnTo>
                    <a:cubicBezTo>
                      <a:pt x="18347" y="9"/>
                      <a:pt x="18347" y="8"/>
                      <a:pt x="18347" y="7"/>
                    </a:cubicBezTo>
                    <a:cubicBezTo>
                      <a:pt x="18347" y="5"/>
                      <a:pt x="18347" y="5"/>
                      <a:pt x="18349" y="5"/>
                    </a:cubicBezTo>
                    <a:close/>
                    <a:moveTo>
                      <a:pt x="18357" y="5"/>
                    </a:moveTo>
                    <a:lnTo>
                      <a:pt x="18357" y="5"/>
                    </a:lnTo>
                    <a:cubicBezTo>
                      <a:pt x="18358" y="5"/>
                      <a:pt x="18359" y="5"/>
                      <a:pt x="18359" y="7"/>
                    </a:cubicBezTo>
                    <a:cubicBezTo>
                      <a:pt x="18359" y="8"/>
                      <a:pt x="18358" y="9"/>
                      <a:pt x="18357" y="9"/>
                    </a:cubicBezTo>
                    <a:lnTo>
                      <a:pt x="18357" y="9"/>
                    </a:lnTo>
                    <a:cubicBezTo>
                      <a:pt x="18355" y="9"/>
                      <a:pt x="18355" y="8"/>
                      <a:pt x="18355" y="7"/>
                    </a:cubicBezTo>
                    <a:cubicBezTo>
                      <a:pt x="18355" y="5"/>
                      <a:pt x="18355" y="5"/>
                      <a:pt x="18357" y="5"/>
                    </a:cubicBezTo>
                    <a:close/>
                    <a:moveTo>
                      <a:pt x="18365" y="5"/>
                    </a:moveTo>
                    <a:lnTo>
                      <a:pt x="18365" y="5"/>
                    </a:lnTo>
                    <a:cubicBezTo>
                      <a:pt x="18366" y="5"/>
                      <a:pt x="18367" y="5"/>
                      <a:pt x="18367" y="7"/>
                    </a:cubicBezTo>
                    <a:cubicBezTo>
                      <a:pt x="18367" y="8"/>
                      <a:pt x="18366" y="9"/>
                      <a:pt x="18365" y="9"/>
                    </a:cubicBezTo>
                    <a:lnTo>
                      <a:pt x="18365" y="9"/>
                    </a:lnTo>
                    <a:cubicBezTo>
                      <a:pt x="18363" y="9"/>
                      <a:pt x="18363" y="8"/>
                      <a:pt x="18363" y="7"/>
                    </a:cubicBezTo>
                    <a:cubicBezTo>
                      <a:pt x="18363" y="5"/>
                      <a:pt x="18363" y="5"/>
                      <a:pt x="18365" y="5"/>
                    </a:cubicBezTo>
                    <a:close/>
                    <a:moveTo>
                      <a:pt x="18373" y="5"/>
                    </a:moveTo>
                    <a:lnTo>
                      <a:pt x="18373" y="5"/>
                    </a:lnTo>
                    <a:cubicBezTo>
                      <a:pt x="18374" y="5"/>
                      <a:pt x="18375" y="5"/>
                      <a:pt x="18375" y="7"/>
                    </a:cubicBezTo>
                    <a:cubicBezTo>
                      <a:pt x="18375" y="8"/>
                      <a:pt x="18374" y="9"/>
                      <a:pt x="18373" y="9"/>
                    </a:cubicBezTo>
                    <a:lnTo>
                      <a:pt x="18373" y="9"/>
                    </a:lnTo>
                    <a:cubicBezTo>
                      <a:pt x="18371" y="9"/>
                      <a:pt x="18371" y="8"/>
                      <a:pt x="18371" y="7"/>
                    </a:cubicBezTo>
                    <a:cubicBezTo>
                      <a:pt x="18371" y="5"/>
                      <a:pt x="18371" y="5"/>
                      <a:pt x="18373" y="5"/>
                    </a:cubicBezTo>
                    <a:close/>
                    <a:moveTo>
                      <a:pt x="18381" y="5"/>
                    </a:moveTo>
                    <a:lnTo>
                      <a:pt x="18381" y="5"/>
                    </a:lnTo>
                    <a:cubicBezTo>
                      <a:pt x="18382" y="5"/>
                      <a:pt x="18383" y="5"/>
                      <a:pt x="18383" y="7"/>
                    </a:cubicBezTo>
                    <a:cubicBezTo>
                      <a:pt x="18383" y="8"/>
                      <a:pt x="18382" y="9"/>
                      <a:pt x="18381" y="9"/>
                    </a:cubicBezTo>
                    <a:lnTo>
                      <a:pt x="18381" y="9"/>
                    </a:lnTo>
                    <a:cubicBezTo>
                      <a:pt x="18379" y="9"/>
                      <a:pt x="18379" y="8"/>
                      <a:pt x="18379" y="7"/>
                    </a:cubicBezTo>
                    <a:cubicBezTo>
                      <a:pt x="18379" y="5"/>
                      <a:pt x="18379" y="5"/>
                      <a:pt x="18381" y="5"/>
                    </a:cubicBezTo>
                    <a:close/>
                    <a:moveTo>
                      <a:pt x="18389" y="5"/>
                    </a:moveTo>
                    <a:lnTo>
                      <a:pt x="18389" y="5"/>
                    </a:lnTo>
                    <a:cubicBezTo>
                      <a:pt x="18390" y="5"/>
                      <a:pt x="18391" y="5"/>
                      <a:pt x="18391" y="7"/>
                    </a:cubicBezTo>
                    <a:cubicBezTo>
                      <a:pt x="18391" y="8"/>
                      <a:pt x="18390" y="9"/>
                      <a:pt x="18389" y="9"/>
                    </a:cubicBezTo>
                    <a:lnTo>
                      <a:pt x="18389" y="9"/>
                    </a:lnTo>
                    <a:cubicBezTo>
                      <a:pt x="18387" y="9"/>
                      <a:pt x="18387" y="8"/>
                      <a:pt x="18387" y="7"/>
                    </a:cubicBezTo>
                    <a:cubicBezTo>
                      <a:pt x="18387" y="5"/>
                      <a:pt x="18387" y="5"/>
                      <a:pt x="18389" y="5"/>
                    </a:cubicBezTo>
                    <a:close/>
                    <a:moveTo>
                      <a:pt x="18397" y="5"/>
                    </a:moveTo>
                    <a:lnTo>
                      <a:pt x="18397" y="5"/>
                    </a:lnTo>
                    <a:cubicBezTo>
                      <a:pt x="18398" y="5"/>
                      <a:pt x="18399" y="5"/>
                      <a:pt x="18399" y="7"/>
                    </a:cubicBezTo>
                    <a:cubicBezTo>
                      <a:pt x="18399" y="8"/>
                      <a:pt x="18398" y="9"/>
                      <a:pt x="18397" y="9"/>
                    </a:cubicBezTo>
                    <a:lnTo>
                      <a:pt x="18397" y="9"/>
                    </a:lnTo>
                    <a:cubicBezTo>
                      <a:pt x="18395" y="9"/>
                      <a:pt x="18395" y="8"/>
                      <a:pt x="18395" y="7"/>
                    </a:cubicBezTo>
                    <a:cubicBezTo>
                      <a:pt x="18395" y="5"/>
                      <a:pt x="18395" y="5"/>
                      <a:pt x="18397" y="5"/>
                    </a:cubicBezTo>
                    <a:close/>
                    <a:moveTo>
                      <a:pt x="18405" y="5"/>
                    </a:moveTo>
                    <a:lnTo>
                      <a:pt x="18405" y="5"/>
                    </a:lnTo>
                    <a:cubicBezTo>
                      <a:pt x="18406" y="5"/>
                      <a:pt x="18407" y="6"/>
                      <a:pt x="18407" y="7"/>
                    </a:cubicBezTo>
                    <a:cubicBezTo>
                      <a:pt x="18407" y="8"/>
                      <a:pt x="18406" y="9"/>
                      <a:pt x="18405" y="9"/>
                    </a:cubicBezTo>
                    <a:lnTo>
                      <a:pt x="18405" y="9"/>
                    </a:lnTo>
                    <a:cubicBezTo>
                      <a:pt x="18403" y="9"/>
                      <a:pt x="18403" y="8"/>
                      <a:pt x="18403" y="7"/>
                    </a:cubicBezTo>
                    <a:cubicBezTo>
                      <a:pt x="18403" y="6"/>
                      <a:pt x="18403" y="5"/>
                      <a:pt x="18405" y="5"/>
                    </a:cubicBezTo>
                    <a:close/>
                    <a:moveTo>
                      <a:pt x="18413" y="5"/>
                    </a:moveTo>
                    <a:lnTo>
                      <a:pt x="18413" y="5"/>
                    </a:lnTo>
                    <a:cubicBezTo>
                      <a:pt x="18414" y="5"/>
                      <a:pt x="18415" y="6"/>
                      <a:pt x="18415" y="7"/>
                    </a:cubicBezTo>
                    <a:cubicBezTo>
                      <a:pt x="18415" y="8"/>
                      <a:pt x="18414" y="9"/>
                      <a:pt x="18413" y="9"/>
                    </a:cubicBezTo>
                    <a:lnTo>
                      <a:pt x="18413" y="9"/>
                    </a:lnTo>
                    <a:cubicBezTo>
                      <a:pt x="18411" y="9"/>
                      <a:pt x="18411" y="8"/>
                      <a:pt x="18411" y="7"/>
                    </a:cubicBezTo>
                    <a:cubicBezTo>
                      <a:pt x="18411" y="6"/>
                      <a:pt x="18411" y="5"/>
                      <a:pt x="18413" y="5"/>
                    </a:cubicBezTo>
                    <a:close/>
                    <a:moveTo>
                      <a:pt x="18421" y="5"/>
                    </a:moveTo>
                    <a:lnTo>
                      <a:pt x="18421" y="5"/>
                    </a:lnTo>
                    <a:cubicBezTo>
                      <a:pt x="18422" y="5"/>
                      <a:pt x="18423" y="6"/>
                      <a:pt x="18423" y="7"/>
                    </a:cubicBezTo>
                    <a:cubicBezTo>
                      <a:pt x="18423" y="8"/>
                      <a:pt x="18422" y="9"/>
                      <a:pt x="18421" y="9"/>
                    </a:cubicBezTo>
                    <a:lnTo>
                      <a:pt x="18421" y="9"/>
                    </a:lnTo>
                    <a:cubicBezTo>
                      <a:pt x="18419" y="9"/>
                      <a:pt x="18419" y="8"/>
                      <a:pt x="18419" y="7"/>
                    </a:cubicBezTo>
                    <a:cubicBezTo>
                      <a:pt x="18419" y="6"/>
                      <a:pt x="18419" y="5"/>
                      <a:pt x="18421" y="5"/>
                    </a:cubicBezTo>
                    <a:close/>
                    <a:moveTo>
                      <a:pt x="18429" y="5"/>
                    </a:moveTo>
                    <a:lnTo>
                      <a:pt x="18429" y="5"/>
                    </a:lnTo>
                    <a:cubicBezTo>
                      <a:pt x="18430" y="5"/>
                      <a:pt x="18431" y="6"/>
                      <a:pt x="18431" y="7"/>
                    </a:cubicBezTo>
                    <a:cubicBezTo>
                      <a:pt x="18431" y="8"/>
                      <a:pt x="18430" y="9"/>
                      <a:pt x="18429" y="9"/>
                    </a:cubicBezTo>
                    <a:lnTo>
                      <a:pt x="18429" y="9"/>
                    </a:lnTo>
                    <a:cubicBezTo>
                      <a:pt x="18428" y="9"/>
                      <a:pt x="18427" y="8"/>
                      <a:pt x="18427" y="7"/>
                    </a:cubicBezTo>
                    <a:cubicBezTo>
                      <a:pt x="18427" y="6"/>
                      <a:pt x="18428" y="5"/>
                      <a:pt x="18429" y="5"/>
                    </a:cubicBezTo>
                    <a:close/>
                    <a:moveTo>
                      <a:pt x="18437" y="5"/>
                    </a:moveTo>
                    <a:lnTo>
                      <a:pt x="18437" y="5"/>
                    </a:lnTo>
                    <a:cubicBezTo>
                      <a:pt x="18438" y="5"/>
                      <a:pt x="18439" y="6"/>
                      <a:pt x="18439" y="7"/>
                    </a:cubicBezTo>
                    <a:cubicBezTo>
                      <a:pt x="18439" y="8"/>
                      <a:pt x="18438" y="9"/>
                      <a:pt x="18437" y="9"/>
                    </a:cubicBezTo>
                    <a:lnTo>
                      <a:pt x="18437" y="9"/>
                    </a:lnTo>
                    <a:cubicBezTo>
                      <a:pt x="18436" y="9"/>
                      <a:pt x="18435" y="8"/>
                      <a:pt x="18435" y="7"/>
                    </a:cubicBezTo>
                    <a:cubicBezTo>
                      <a:pt x="18435" y="6"/>
                      <a:pt x="18436" y="5"/>
                      <a:pt x="18437" y="5"/>
                    </a:cubicBezTo>
                    <a:close/>
                    <a:moveTo>
                      <a:pt x="18445" y="5"/>
                    </a:moveTo>
                    <a:lnTo>
                      <a:pt x="18445" y="5"/>
                    </a:lnTo>
                    <a:cubicBezTo>
                      <a:pt x="18446" y="5"/>
                      <a:pt x="18447" y="6"/>
                      <a:pt x="18447" y="7"/>
                    </a:cubicBezTo>
                    <a:cubicBezTo>
                      <a:pt x="18447" y="8"/>
                      <a:pt x="18446" y="9"/>
                      <a:pt x="18445" y="9"/>
                    </a:cubicBezTo>
                    <a:lnTo>
                      <a:pt x="18445" y="9"/>
                    </a:lnTo>
                    <a:cubicBezTo>
                      <a:pt x="18444" y="9"/>
                      <a:pt x="18443" y="8"/>
                      <a:pt x="18443" y="7"/>
                    </a:cubicBezTo>
                    <a:cubicBezTo>
                      <a:pt x="18443" y="6"/>
                      <a:pt x="18444" y="5"/>
                      <a:pt x="18445" y="5"/>
                    </a:cubicBezTo>
                    <a:close/>
                    <a:moveTo>
                      <a:pt x="18453" y="5"/>
                    </a:moveTo>
                    <a:lnTo>
                      <a:pt x="18453" y="5"/>
                    </a:lnTo>
                    <a:cubicBezTo>
                      <a:pt x="18454" y="5"/>
                      <a:pt x="18455" y="6"/>
                      <a:pt x="18455" y="7"/>
                    </a:cubicBezTo>
                    <a:cubicBezTo>
                      <a:pt x="18455" y="8"/>
                      <a:pt x="18454" y="9"/>
                      <a:pt x="18453" y="9"/>
                    </a:cubicBezTo>
                    <a:lnTo>
                      <a:pt x="18453" y="9"/>
                    </a:lnTo>
                    <a:cubicBezTo>
                      <a:pt x="18452" y="9"/>
                      <a:pt x="18451" y="8"/>
                      <a:pt x="18451" y="7"/>
                    </a:cubicBezTo>
                    <a:cubicBezTo>
                      <a:pt x="18451" y="6"/>
                      <a:pt x="18452" y="5"/>
                      <a:pt x="18453" y="5"/>
                    </a:cubicBezTo>
                    <a:close/>
                    <a:moveTo>
                      <a:pt x="18461" y="5"/>
                    </a:moveTo>
                    <a:lnTo>
                      <a:pt x="18461" y="5"/>
                    </a:lnTo>
                    <a:cubicBezTo>
                      <a:pt x="18462" y="5"/>
                      <a:pt x="18463" y="6"/>
                      <a:pt x="18463" y="7"/>
                    </a:cubicBezTo>
                    <a:cubicBezTo>
                      <a:pt x="18463" y="8"/>
                      <a:pt x="18462" y="9"/>
                      <a:pt x="18461" y="9"/>
                    </a:cubicBezTo>
                    <a:lnTo>
                      <a:pt x="18461" y="9"/>
                    </a:lnTo>
                    <a:cubicBezTo>
                      <a:pt x="18460" y="9"/>
                      <a:pt x="18459" y="8"/>
                      <a:pt x="18459" y="7"/>
                    </a:cubicBezTo>
                    <a:cubicBezTo>
                      <a:pt x="18459" y="6"/>
                      <a:pt x="18460" y="5"/>
                      <a:pt x="18461" y="5"/>
                    </a:cubicBezTo>
                    <a:close/>
                    <a:moveTo>
                      <a:pt x="18469" y="5"/>
                    </a:moveTo>
                    <a:lnTo>
                      <a:pt x="18469" y="5"/>
                    </a:lnTo>
                    <a:cubicBezTo>
                      <a:pt x="18470" y="5"/>
                      <a:pt x="18471" y="6"/>
                      <a:pt x="18471" y="7"/>
                    </a:cubicBezTo>
                    <a:cubicBezTo>
                      <a:pt x="18471" y="8"/>
                      <a:pt x="18470" y="9"/>
                      <a:pt x="18469" y="9"/>
                    </a:cubicBezTo>
                    <a:lnTo>
                      <a:pt x="18469" y="9"/>
                    </a:lnTo>
                    <a:cubicBezTo>
                      <a:pt x="18468" y="9"/>
                      <a:pt x="18467" y="8"/>
                      <a:pt x="18467" y="7"/>
                    </a:cubicBezTo>
                    <a:cubicBezTo>
                      <a:pt x="18467" y="6"/>
                      <a:pt x="18468" y="5"/>
                      <a:pt x="18469" y="5"/>
                    </a:cubicBezTo>
                    <a:close/>
                    <a:moveTo>
                      <a:pt x="18477" y="5"/>
                    </a:moveTo>
                    <a:lnTo>
                      <a:pt x="18477" y="5"/>
                    </a:lnTo>
                    <a:cubicBezTo>
                      <a:pt x="18478" y="5"/>
                      <a:pt x="18479" y="6"/>
                      <a:pt x="18479" y="7"/>
                    </a:cubicBezTo>
                    <a:cubicBezTo>
                      <a:pt x="18479" y="8"/>
                      <a:pt x="18478" y="9"/>
                      <a:pt x="18477" y="9"/>
                    </a:cubicBezTo>
                    <a:lnTo>
                      <a:pt x="18477" y="9"/>
                    </a:lnTo>
                    <a:cubicBezTo>
                      <a:pt x="18476" y="9"/>
                      <a:pt x="18475" y="8"/>
                      <a:pt x="18475" y="7"/>
                    </a:cubicBezTo>
                    <a:cubicBezTo>
                      <a:pt x="18475" y="6"/>
                      <a:pt x="18476" y="5"/>
                      <a:pt x="18477" y="5"/>
                    </a:cubicBezTo>
                    <a:close/>
                    <a:moveTo>
                      <a:pt x="18485" y="5"/>
                    </a:moveTo>
                    <a:lnTo>
                      <a:pt x="18485" y="5"/>
                    </a:lnTo>
                    <a:cubicBezTo>
                      <a:pt x="18486" y="5"/>
                      <a:pt x="18487" y="6"/>
                      <a:pt x="18487" y="7"/>
                    </a:cubicBezTo>
                    <a:cubicBezTo>
                      <a:pt x="18487" y="8"/>
                      <a:pt x="18486" y="9"/>
                      <a:pt x="18485" y="9"/>
                    </a:cubicBezTo>
                    <a:lnTo>
                      <a:pt x="18485" y="9"/>
                    </a:lnTo>
                    <a:cubicBezTo>
                      <a:pt x="18484" y="9"/>
                      <a:pt x="18483" y="8"/>
                      <a:pt x="18483" y="7"/>
                    </a:cubicBezTo>
                    <a:cubicBezTo>
                      <a:pt x="18483" y="6"/>
                      <a:pt x="18484" y="5"/>
                      <a:pt x="18485" y="5"/>
                    </a:cubicBezTo>
                    <a:close/>
                    <a:moveTo>
                      <a:pt x="18493" y="5"/>
                    </a:moveTo>
                    <a:lnTo>
                      <a:pt x="18493" y="5"/>
                    </a:lnTo>
                    <a:cubicBezTo>
                      <a:pt x="18494" y="5"/>
                      <a:pt x="18495" y="6"/>
                      <a:pt x="18495" y="7"/>
                    </a:cubicBezTo>
                    <a:cubicBezTo>
                      <a:pt x="18495" y="8"/>
                      <a:pt x="18494" y="9"/>
                      <a:pt x="18493" y="9"/>
                    </a:cubicBezTo>
                    <a:lnTo>
                      <a:pt x="18493" y="9"/>
                    </a:lnTo>
                    <a:cubicBezTo>
                      <a:pt x="18492" y="9"/>
                      <a:pt x="18491" y="8"/>
                      <a:pt x="18491" y="7"/>
                    </a:cubicBezTo>
                    <a:cubicBezTo>
                      <a:pt x="18491" y="6"/>
                      <a:pt x="18492" y="5"/>
                      <a:pt x="18493" y="5"/>
                    </a:cubicBezTo>
                    <a:close/>
                    <a:moveTo>
                      <a:pt x="18501" y="5"/>
                    </a:moveTo>
                    <a:lnTo>
                      <a:pt x="18501" y="5"/>
                    </a:lnTo>
                    <a:cubicBezTo>
                      <a:pt x="18502" y="5"/>
                      <a:pt x="18503" y="6"/>
                      <a:pt x="18503" y="7"/>
                    </a:cubicBezTo>
                    <a:cubicBezTo>
                      <a:pt x="18503" y="8"/>
                      <a:pt x="18502" y="9"/>
                      <a:pt x="18501" y="9"/>
                    </a:cubicBezTo>
                    <a:lnTo>
                      <a:pt x="18501" y="9"/>
                    </a:lnTo>
                    <a:cubicBezTo>
                      <a:pt x="18500" y="9"/>
                      <a:pt x="18499" y="8"/>
                      <a:pt x="18499" y="7"/>
                    </a:cubicBezTo>
                    <a:cubicBezTo>
                      <a:pt x="18499" y="6"/>
                      <a:pt x="18500" y="5"/>
                      <a:pt x="18501" y="5"/>
                    </a:cubicBezTo>
                    <a:close/>
                    <a:moveTo>
                      <a:pt x="18509" y="5"/>
                    </a:moveTo>
                    <a:lnTo>
                      <a:pt x="18509" y="5"/>
                    </a:lnTo>
                    <a:cubicBezTo>
                      <a:pt x="18510" y="5"/>
                      <a:pt x="18511" y="6"/>
                      <a:pt x="18511" y="7"/>
                    </a:cubicBezTo>
                    <a:cubicBezTo>
                      <a:pt x="18511" y="8"/>
                      <a:pt x="18510" y="9"/>
                      <a:pt x="18509" y="9"/>
                    </a:cubicBezTo>
                    <a:lnTo>
                      <a:pt x="18509" y="9"/>
                    </a:lnTo>
                    <a:cubicBezTo>
                      <a:pt x="18508" y="9"/>
                      <a:pt x="18507" y="8"/>
                      <a:pt x="18507" y="7"/>
                    </a:cubicBezTo>
                    <a:cubicBezTo>
                      <a:pt x="18507" y="6"/>
                      <a:pt x="18508" y="5"/>
                      <a:pt x="18509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62040" y="3021120"/>
                <a:ext cx="6075360" cy="3240"/>
              </a:xfrm>
              <a:custGeom>
                <a:avLst/>
                <a:gdLst/>
                <a:ahLst/>
                <a:rect l="l" t="t" r="r" b="b"/>
                <a:pathLst>
                  <a:path w="18511" h="8">
                    <a:moveTo>
                      <a:pt x="2" y="0"/>
                    </a:moveTo>
                    <a:lnTo>
                      <a:pt x="2" y="0"/>
                    </a:lnTo>
                    <a:cubicBezTo>
                      <a:pt x="3" y="0"/>
                      <a:pt x="4" y="1"/>
                      <a:pt x="4" y="2"/>
                    </a:cubicBezTo>
                    <a:cubicBezTo>
                      <a:pt x="4" y="3"/>
                      <a:pt x="3" y="4"/>
                      <a:pt x="2" y="4"/>
                    </a:cubicBezTo>
                    <a:lnTo>
                      <a:pt x="2" y="4"/>
                    </a:lnTo>
                    <a:cubicBezTo>
                      <a:pt x="1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0"/>
                    </a:cubicBezTo>
                    <a:close/>
                    <a:moveTo>
                      <a:pt x="10" y="0"/>
                    </a:moveTo>
                    <a:lnTo>
                      <a:pt x="10" y="0"/>
                    </a:lnTo>
                    <a:cubicBezTo>
                      <a:pt x="11" y="0"/>
                      <a:pt x="12" y="1"/>
                      <a:pt x="12" y="2"/>
                    </a:cubicBezTo>
                    <a:cubicBezTo>
                      <a:pt x="12" y="3"/>
                      <a:pt x="11" y="4"/>
                      <a:pt x="10" y="4"/>
                    </a:cubicBezTo>
                    <a:lnTo>
                      <a:pt x="10" y="4"/>
                    </a:lnTo>
                    <a:cubicBezTo>
                      <a:pt x="9" y="4"/>
                      <a:pt x="8" y="3"/>
                      <a:pt x="8" y="2"/>
                    </a:cubicBezTo>
                    <a:cubicBezTo>
                      <a:pt x="8" y="1"/>
                      <a:pt x="9" y="0"/>
                      <a:pt x="10" y="0"/>
                    </a:cubicBezTo>
                    <a:close/>
                    <a:moveTo>
                      <a:pt x="18" y="0"/>
                    </a:moveTo>
                    <a:lnTo>
                      <a:pt x="18" y="0"/>
                    </a:lnTo>
                    <a:cubicBezTo>
                      <a:pt x="19" y="0"/>
                      <a:pt x="20" y="1"/>
                      <a:pt x="20" y="2"/>
                    </a:cubicBezTo>
                    <a:cubicBezTo>
                      <a:pt x="20" y="3"/>
                      <a:pt x="19" y="4"/>
                      <a:pt x="18" y="4"/>
                    </a:cubicBezTo>
                    <a:lnTo>
                      <a:pt x="18" y="4"/>
                    </a:lnTo>
                    <a:cubicBezTo>
                      <a:pt x="17" y="4"/>
                      <a:pt x="16" y="3"/>
                      <a:pt x="16" y="2"/>
                    </a:cubicBezTo>
                    <a:cubicBezTo>
                      <a:pt x="16" y="1"/>
                      <a:pt x="17" y="0"/>
                      <a:pt x="18" y="0"/>
                    </a:cubicBezTo>
                    <a:close/>
                    <a:moveTo>
                      <a:pt x="26" y="0"/>
                    </a:moveTo>
                    <a:lnTo>
                      <a:pt x="26" y="0"/>
                    </a:lnTo>
                    <a:cubicBezTo>
                      <a:pt x="27" y="0"/>
                      <a:pt x="28" y="1"/>
                      <a:pt x="28" y="2"/>
                    </a:cubicBezTo>
                    <a:cubicBezTo>
                      <a:pt x="28" y="3"/>
                      <a:pt x="27" y="4"/>
                      <a:pt x="26" y="4"/>
                    </a:cubicBezTo>
                    <a:lnTo>
                      <a:pt x="26" y="4"/>
                    </a:lnTo>
                    <a:cubicBezTo>
                      <a:pt x="25" y="4"/>
                      <a:pt x="24" y="3"/>
                      <a:pt x="24" y="2"/>
                    </a:cubicBezTo>
                    <a:cubicBezTo>
                      <a:pt x="24" y="1"/>
                      <a:pt x="25" y="0"/>
                      <a:pt x="26" y="0"/>
                    </a:cubicBezTo>
                    <a:close/>
                    <a:moveTo>
                      <a:pt x="34" y="0"/>
                    </a:moveTo>
                    <a:lnTo>
                      <a:pt x="34" y="0"/>
                    </a:lnTo>
                    <a:cubicBezTo>
                      <a:pt x="35" y="0"/>
                      <a:pt x="36" y="1"/>
                      <a:pt x="36" y="2"/>
                    </a:cubicBezTo>
                    <a:cubicBezTo>
                      <a:pt x="36" y="3"/>
                      <a:pt x="35" y="4"/>
                      <a:pt x="34" y="4"/>
                    </a:cubicBezTo>
                    <a:lnTo>
                      <a:pt x="34" y="4"/>
                    </a:lnTo>
                    <a:cubicBezTo>
                      <a:pt x="33" y="4"/>
                      <a:pt x="32" y="3"/>
                      <a:pt x="32" y="2"/>
                    </a:cubicBezTo>
                    <a:cubicBezTo>
                      <a:pt x="32" y="1"/>
                      <a:pt x="33" y="0"/>
                      <a:pt x="34" y="0"/>
                    </a:cubicBezTo>
                    <a:close/>
                    <a:moveTo>
                      <a:pt x="42" y="0"/>
                    </a:moveTo>
                    <a:lnTo>
                      <a:pt x="42" y="0"/>
                    </a:lnTo>
                    <a:cubicBezTo>
                      <a:pt x="43" y="0"/>
                      <a:pt x="44" y="1"/>
                      <a:pt x="44" y="2"/>
                    </a:cubicBezTo>
                    <a:cubicBezTo>
                      <a:pt x="44" y="3"/>
                      <a:pt x="43" y="4"/>
                      <a:pt x="42" y="4"/>
                    </a:cubicBezTo>
                    <a:lnTo>
                      <a:pt x="42" y="4"/>
                    </a:lnTo>
                    <a:cubicBezTo>
                      <a:pt x="41" y="4"/>
                      <a:pt x="40" y="3"/>
                      <a:pt x="40" y="2"/>
                    </a:cubicBezTo>
                    <a:cubicBezTo>
                      <a:pt x="40" y="1"/>
                      <a:pt x="41" y="0"/>
                      <a:pt x="42" y="0"/>
                    </a:cubicBezTo>
                    <a:close/>
                    <a:moveTo>
                      <a:pt x="50" y="0"/>
                    </a:moveTo>
                    <a:lnTo>
                      <a:pt x="50" y="0"/>
                    </a:lnTo>
                    <a:cubicBezTo>
                      <a:pt x="51" y="0"/>
                      <a:pt x="52" y="1"/>
                      <a:pt x="52" y="2"/>
                    </a:cubicBezTo>
                    <a:cubicBezTo>
                      <a:pt x="52" y="3"/>
                      <a:pt x="51" y="4"/>
                      <a:pt x="50" y="4"/>
                    </a:cubicBezTo>
                    <a:lnTo>
                      <a:pt x="50" y="4"/>
                    </a:lnTo>
                    <a:cubicBezTo>
                      <a:pt x="49" y="4"/>
                      <a:pt x="48" y="3"/>
                      <a:pt x="48" y="2"/>
                    </a:cubicBezTo>
                    <a:cubicBezTo>
                      <a:pt x="48" y="1"/>
                      <a:pt x="49" y="0"/>
                      <a:pt x="50" y="0"/>
                    </a:cubicBezTo>
                    <a:close/>
                    <a:moveTo>
                      <a:pt x="58" y="0"/>
                    </a:moveTo>
                    <a:lnTo>
                      <a:pt x="58" y="0"/>
                    </a:lnTo>
                    <a:cubicBezTo>
                      <a:pt x="59" y="0"/>
                      <a:pt x="60" y="1"/>
                      <a:pt x="60" y="2"/>
                    </a:cubicBezTo>
                    <a:cubicBezTo>
                      <a:pt x="60" y="3"/>
                      <a:pt x="59" y="4"/>
                      <a:pt x="58" y="4"/>
                    </a:cubicBezTo>
                    <a:lnTo>
                      <a:pt x="58" y="4"/>
                    </a:lnTo>
                    <a:cubicBezTo>
                      <a:pt x="57" y="4"/>
                      <a:pt x="56" y="3"/>
                      <a:pt x="56" y="2"/>
                    </a:cubicBezTo>
                    <a:cubicBezTo>
                      <a:pt x="56" y="1"/>
                      <a:pt x="57" y="0"/>
                      <a:pt x="58" y="0"/>
                    </a:cubicBezTo>
                    <a:close/>
                    <a:moveTo>
                      <a:pt x="66" y="0"/>
                    </a:moveTo>
                    <a:lnTo>
                      <a:pt x="66" y="0"/>
                    </a:lnTo>
                    <a:cubicBezTo>
                      <a:pt x="67" y="0"/>
                      <a:pt x="68" y="1"/>
                      <a:pt x="68" y="2"/>
                    </a:cubicBezTo>
                    <a:cubicBezTo>
                      <a:pt x="68" y="3"/>
                      <a:pt x="67" y="4"/>
                      <a:pt x="66" y="4"/>
                    </a:cubicBezTo>
                    <a:lnTo>
                      <a:pt x="66" y="4"/>
                    </a:lnTo>
                    <a:cubicBezTo>
                      <a:pt x="65" y="4"/>
                      <a:pt x="64" y="3"/>
                      <a:pt x="64" y="2"/>
                    </a:cubicBezTo>
                    <a:cubicBezTo>
                      <a:pt x="64" y="1"/>
                      <a:pt x="65" y="0"/>
                      <a:pt x="66" y="0"/>
                    </a:cubicBezTo>
                    <a:close/>
                    <a:moveTo>
                      <a:pt x="74" y="0"/>
                    </a:moveTo>
                    <a:lnTo>
                      <a:pt x="74" y="0"/>
                    </a:lnTo>
                    <a:cubicBezTo>
                      <a:pt x="75" y="0"/>
                      <a:pt x="76" y="1"/>
                      <a:pt x="76" y="2"/>
                    </a:cubicBezTo>
                    <a:cubicBezTo>
                      <a:pt x="76" y="3"/>
                      <a:pt x="75" y="4"/>
                      <a:pt x="74" y="4"/>
                    </a:cubicBezTo>
                    <a:lnTo>
                      <a:pt x="74" y="4"/>
                    </a:lnTo>
                    <a:cubicBezTo>
                      <a:pt x="73" y="4"/>
                      <a:pt x="72" y="3"/>
                      <a:pt x="72" y="2"/>
                    </a:cubicBezTo>
                    <a:cubicBezTo>
                      <a:pt x="72" y="1"/>
                      <a:pt x="73" y="0"/>
                      <a:pt x="74" y="0"/>
                    </a:cubicBezTo>
                    <a:close/>
                    <a:moveTo>
                      <a:pt x="82" y="0"/>
                    </a:moveTo>
                    <a:lnTo>
                      <a:pt x="82" y="0"/>
                    </a:lnTo>
                    <a:cubicBezTo>
                      <a:pt x="83" y="0"/>
                      <a:pt x="84" y="1"/>
                      <a:pt x="84" y="2"/>
                    </a:cubicBezTo>
                    <a:cubicBezTo>
                      <a:pt x="84" y="3"/>
                      <a:pt x="83" y="4"/>
                      <a:pt x="82" y="4"/>
                    </a:cubicBezTo>
                    <a:lnTo>
                      <a:pt x="82" y="4"/>
                    </a:lnTo>
                    <a:cubicBezTo>
                      <a:pt x="81" y="4"/>
                      <a:pt x="80" y="3"/>
                      <a:pt x="80" y="2"/>
                    </a:cubicBezTo>
                    <a:cubicBezTo>
                      <a:pt x="80" y="1"/>
                      <a:pt x="81" y="0"/>
                      <a:pt x="82" y="0"/>
                    </a:cubicBezTo>
                    <a:close/>
                    <a:moveTo>
                      <a:pt x="90" y="0"/>
                    </a:moveTo>
                    <a:lnTo>
                      <a:pt x="90" y="0"/>
                    </a:lnTo>
                    <a:cubicBezTo>
                      <a:pt x="91" y="0"/>
                      <a:pt x="92" y="1"/>
                      <a:pt x="92" y="2"/>
                    </a:cubicBezTo>
                    <a:cubicBezTo>
                      <a:pt x="92" y="3"/>
                      <a:pt x="91" y="4"/>
                      <a:pt x="90" y="4"/>
                    </a:cubicBezTo>
                    <a:lnTo>
                      <a:pt x="90" y="4"/>
                    </a:lnTo>
                    <a:cubicBezTo>
                      <a:pt x="89" y="4"/>
                      <a:pt x="88" y="3"/>
                      <a:pt x="88" y="2"/>
                    </a:cubicBezTo>
                    <a:cubicBezTo>
                      <a:pt x="88" y="1"/>
                      <a:pt x="89" y="0"/>
                      <a:pt x="90" y="0"/>
                    </a:cubicBezTo>
                    <a:close/>
                    <a:moveTo>
                      <a:pt x="98" y="0"/>
                    </a:moveTo>
                    <a:lnTo>
                      <a:pt x="98" y="0"/>
                    </a:lnTo>
                    <a:cubicBezTo>
                      <a:pt x="99" y="0"/>
                      <a:pt x="100" y="1"/>
                      <a:pt x="100" y="2"/>
                    </a:cubicBezTo>
                    <a:cubicBezTo>
                      <a:pt x="100" y="3"/>
                      <a:pt x="99" y="4"/>
                      <a:pt x="98" y="4"/>
                    </a:cubicBezTo>
                    <a:lnTo>
                      <a:pt x="98" y="4"/>
                    </a:lnTo>
                    <a:cubicBezTo>
                      <a:pt x="97" y="4"/>
                      <a:pt x="96" y="3"/>
                      <a:pt x="96" y="2"/>
                    </a:cubicBezTo>
                    <a:cubicBezTo>
                      <a:pt x="96" y="1"/>
                      <a:pt x="97" y="0"/>
                      <a:pt x="98" y="0"/>
                    </a:cubicBezTo>
                    <a:close/>
                    <a:moveTo>
                      <a:pt x="106" y="0"/>
                    </a:moveTo>
                    <a:lnTo>
                      <a:pt x="106" y="0"/>
                    </a:lnTo>
                    <a:cubicBezTo>
                      <a:pt x="107" y="0"/>
                      <a:pt x="108" y="1"/>
                      <a:pt x="108" y="2"/>
                    </a:cubicBezTo>
                    <a:cubicBezTo>
                      <a:pt x="108" y="3"/>
                      <a:pt x="107" y="4"/>
                      <a:pt x="106" y="4"/>
                    </a:cubicBezTo>
                    <a:lnTo>
                      <a:pt x="106" y="4"/>
                    </a:lnTo>
                    <a:cubicBezTo>
                      <a:pt x="105" y="4"/>
                      <a:pt x="104" y="3"/>
                      <a:pt x="104" y="2"/>
                    </a:cubicBezTo>
                    <a:cubicBezTo>
                      <a:pt x="104" y="1"/>
                      <a:pt x="105" y="0"/>
                      <a:pt x="106" y="0"/>
                    </a:cubicBezTo>
                    <a:close/>
                    <a:moveTo>
                      <a:pt x="114" y="0"/>
                    </a:moveTo>
                    <a:lnTo>
                      <a:pt x="114" y="0"/>
                    </a:lnTo>
                    <a:cubicBezTo>
                      <a:pt x="115" y="0"/>
                      <a:pt x="116" y="1"/>
                      <a:pt x="116" y="2"/>
                    </a:cubicBezTo>
                    <a:cubicBezTo>
                      <a:pt x="116" y="3"/>
                      <a:pt x="115" y="4"/>
                      <a:pt x="114" y="4"/>
                    </a:cubicBezTo>
                    <a:lnTo>
                      <a:pt x="114" y="4"/>
                    </a:lnTo>
                    <a:cubicBezTo>
                      <a:pt x="113" y="4"/>
                      <a:pt x="112" y="3"/>
                      <a:pt x="112" y="2"/>
                    </a:cubicBezTo>
                    <a:cubicBezTo>
                      <a:pt x="112" y="1"/>
                      <a:pt x="113" y="0"/>
                      <a:pt x="114" y="0"/>
                    </a:cubicBezTo>
                    <a:close/>
                    <a:moveTo>
                      <a:pt x="122" y="0"/>
                    </a:moveTo>
                    <a:lnTo>
                      <a:pt x="122" y="0"/>
                    </a:lnTo>
                    <a:cubicBezTo>
                      <a:pt x="123" y="0"/>
                      <a:pt x="124" y="1"/>
                      <a:pt x="124" y="2"/>
                    </a:cubicBezTo>
                    <a:cubicBezTo>
                      <a:pt x="124" y="3"/>
                      <a:pt x="123" y="4"/>
                      <a:pt x="122" y="4"/>
                    </a:cubicBezTo>
                    <a:lnTo>
                      <a:pt x="122" y="4"/>
                    </a:lnTo>
                    <a:cubicBezTo>
                      <a:pt x="121" y="4"/>
                      <a:pt x="120" y="3"/>
                      <a:pt x="120" y="2"/>
                    </a:cubicBezTo>
                    <a:cubicBezTo>
                      <a:pt x="120" y="1"/>
                      <a:pt x="121" y="0"/>
                      <a:pt x="122" y="0"/>
                    </a:cubicBezTo>
                    <a:close/>
                    <a:moveTo>
                      <a:pt x="130" y="0"/>
                    </a:moveTo>
                    <a:lnTo>
                      <a:pt x="130" y="0"/>
                    </a:lnTo>
                    <a:cubicBezTo>
                      <a:pt x="131" y="0"/>
                      <a:pt x="132" y="1"/>
                      <a:pt x="132" y="2"/>
                    </a:cubicBezTo>
                    <a:cubicBezTo>
                      <a:pt x="132" y="3"/>
                      <a:pt x="131" y="4"/>
                      <a:pt x="130" y="4"/>
                    </a:cubicBezTo>
                    <a:lnTo>
                      <a:pt x="130" y="4"/>
                    </a:lnTo>
                    <a:cubicBezTo>
                      <a:pt x="129" y="4"/>
                      <a:pt x="128" y="3"/>
                      <a:pt x="128" y="2"/>
                    </a:cubicBezTo>
                    <a:cubicBezTo>
                      <a:pt x="128" y="1"/>
                      <a:pt x="129" y="0"/>
                      <a:pt x="130" y="0"/>
                    </a:cubicBezTo>
                    <a:close/>
                    <a:moveTo>
                      <a:pt x="138" y="0"/>
                    </a:moveTo>
                    <a:lnTo>
                      <a:pt x="138" y="0"/>
                    </a:lnTo>
                    <a:cubicBezTo>
                      <a:pt x="139" y="0"/>
                      <a:pt x="140" y="1"/>
                      <a:pt x="140" y="2"/>
                    </a:cubicBezTo>
                    <a:cubicBezTo>
                      <a:pt x="140" y="3"/>
                      <a:pt x="139" y="4"/>
                      <a:pt x="138" y="4"/>
                    </a:cubicBezTo>
                    <a:lnTo>
                      <a:pt x="138" y="4"/>
                    </a:lnTo>
                    <a:cubicBezTo>
                      <a:pt x="137" y="4"/>
                      <a:pt x="136" y="3"/>
                      <a:pt x="136" y="2"/>
                    </a:cubicBezTo>
                    <a:cubicBezTo>
                      <a:pt x="136" y="1"/>
                      <a:pt x="137" y="0"/>
                      <a:pt x="138" y="0"/>
                    </a:cubicBezTo>
                    <a:close/>
                    <a:moveTo>
                      <a:pt x="146" y="0"/>
                    </a:moveTo>
                    <a:lnTo>
                      <a:pt x="146" y="0"/>
                    </a:lnTo>
                    <a:cubicBezTo>
                      <a:pt x="147" y="0"/>
                      <a:pt x="148" y="1"/>
                      <a:pt x="148" y="2"/>
                    </a:cubicBezTo>
                    <a:cubicBezTo>
                      <a:pt x="148" y="3"/>
                      <a:pt x="147" y="4"/>
                      <a:pt x="146" y="4"/>
                    </a:cubicBezTo>
                    <a:lnTo>
                      <a:pt x="146" y="4"/>
                    </a:lnTo>
                    <a:cubicBezTo>
                      <a:pt x="145" y="4"/>
                      <a:pt x="144" y="3"/>
                      <a:pt x="144" y="2"/>
                    </a:cubicBezTo>
                    <a:cubicBezTo>
                      <a:pt x="144" y="1"/>
                      <a:pt x="145" y="0"/>
                      <a:pt x="146" y="0"/>
                    </a:cubicBezTo>
                    <a:close/>
                    <a:moveTo>
                      <a:pt x="154" y="0"/>
                    </a:moveTo>
                    <a:lnTo>
                      <a:pt x="154" y="0"/>
                    </a:lnTo>
                    <a:cubicBezTo>
                      <a:pt x="155" y="0"/>
                      <a:pt x="156" y="1"/>
                      <a:pt x="156" y="2"/>
                    </a:cubicBezTo>
                    <a:cubicBezTo>
                      <a:pt x="156" y="3"/>
                      <a:pt x="155" y="4"/>
                      <a:pt x="154" y="4"/>
                    </a:cubicBezTo>
                    <a:lnTo>
                      <a:pt x="154" y="4"/>
                    </a:lnTo>
                    <a:cubicBezTo>
                      <a:pt x="153" y="4"/>
                      <a:pt x="152" y="3"/>
                      <a:pt x="152" y="2"/>
                    </a:cubicBezTo>
                    <a:cubicBezTo>
                      <a:pt x="152" y="1"/>
                      <a:pt x="153" y="0"/>
                      <a:pt x="154" y="0"/>
                    </a:cubicBezTo>
                    <a:close/>
                    <a:moveTo>
                      <a:pt x="162" y="0"/>
                    </a:moveTo>
                    <a:lnTo>
                      <a:pt x="162" y="0"/>
                    </a:lnTo>
                    <a:cubicBezTo>
                      <a:pt x="163" y="0"/>
                      <a:pt x="164" y="1"/>
                      <a:pt x="164" y="2"/>
                    </a:cubicBezTo>
                    <a:cubicBezTo>
                      <a:pt x="164" y="3"/>
                      <a:pt x="163" y="4"/>
                      <a:pt x="162" y="4"/>
                    </a:cubicBezTo>
                    <a:lnTo>
                      <a:pt x="162" y="4"/>
                    </a:lnTo>
                    <a:cubicBezTo>
                      <a:pt x="161" y="4"/>
                      <a:pt x="160" y="3"/>
                      <a:pt x="160" y="2"/>
                    </a:cubicBezTo>
                    <a:cubicBezTo>
                      <a:pt x="160" y="1"/>
                      <a:pt x="161" y="0"/>
                      <a:pt x="162" y="0"/>
                    </a:cubicBezTo>
                    <a:close/>
                    <a:moveTo>
                      <a:pt x="170" y="0"/>
                    </a:moveTo>
                    <a:lnTo>
                      <a:pt x="170" y="0"/>
                    </a:lnTo>
                    <a:cubicBezTo>
                      <a:pt x="171" y="0"/>
                      <a:pt x="172" y="1"/>
                      <a:pt x="172" y="2"/>
                    </a:cubicBezTo>
                    <a:cubicBezTo>
                      <a:pt x="172" y="3"/>
                      <a:pt x="171" y="4"/>
                      <a:pt x="170" y="4"/>
                    </a:cubicBezTo>
                    <a:lnTo>
                      <a:pt x="170" y="4"/>
                    </a:lnTo>
                    <a:cubicBezTo>
                      <a:pt x="169" y="4"/>
                      <a:pt x="168" y="3"/>
                      <a:pt x="168" y="2"/>
                    </a:cubicBezTo>
                    <a:cubicBezTo>
                      <a:pt x="168" y="1"/>
                      <a:pt x="169" y="0"/>
                      <a:pt x="170" y="0"/>
                    </a:cubicBezTo>
                    <a:close/>
                    <a:moveTo>
                      <a:pt x="178" y="0"/>
                    </a:moveTo>
                    <a:lnTo>
                      <a:pt x="178" y="0"/>
                    </a:lnTo>
                    <a:cubicBezTo>
                      <a:pt x="179" y="0"/>
                      <a:pt x="180" y="1"/>
                      <a:pt x="180" y="2"/>
                    </a:cubicBezTo>
                    <a:cubicBezTo>
                      <a:pt x="180" y="3"/>
                      <a:pt x="179" y="4"/>
                      <a:pt x="178" y="4"/>
                    </a:cubicBezTo>
                    <a:lnTo>
                      <a:pt x="178" y="4"/>
                    </a:lnTo>
                    <a:cubicBezTo>
                      <a:pt x="177" y="4"/>
                      <a:pt x="176" y="3"/>
                      <a:pt x="176" y="2"/>
                    </a:cubicBezTo>
                    <a:cubicBezTo>
                      <a:pt x="176" y="1"/>
                      <a:pt x="177" y="0"/>
                      <a:pt x="178" y="0"/>
                    </a:cubicBezTo>
                    <a:close/>
                    <a:moveTo>
                      <a:pt x="186" y="0"/>
                    </a:moveTo>
                    <a:lnTo>
                      <a:pt x="186" y="0"/>
                    </a:lnTo>
                    <a:cubicBezTo>
                      <a:pt x="187" y="0"/>
                      <a:pt x="188" y="1"/>
                      <a:pt x="188" y="2"/>
                    </a:cubicBezTo>
                    <a:cubicBezTo>
                      <a:pt x="188" y="3"/>
                      <a:pt x="187" y="4"/>
                      <a:pt x="186" y="4"/>
                    </a:cubicBezTo>
                    <a:lnTo>
                      <a:pt x="186" y="4"/>
                    </a:lnTo>
                    <a:cubicBezTo>
                      <a:pt x="185" y="4"/>
                      <a:pt x="184" y="3"/>
                      <a:pt x="184" y="2"/>
                    </a:cubicBezTo>
                    <a:cubicBezTo>
                      <a:pt x="184" y="1"/>
                      <a:pt x="185" y="0"/>
                      <a:pt x="186" y="0"/>
                    </a:cubicBezTo>
                    <a:close/>
                    <a:moveTo>
                      <a:pt x="194" y="0"/>
                    </a:moveTo>
                    <a:lnTo>
                      <a:pt x="194" y="0"/>
                    </a:lnTo>
                    <a:cubicBezTo>
                      <a:pt x="195" y="0"/>
                      <a:pt x="196" y="1"/>
                      <a:pt x="196" y="2"/>
                    </a:cubicBezTo>
                    <a:cubicBezTo>
                      <a:pt x="196" y="3"/>
                      <a:pt x="195" y="4"/>
                      <a:pt x="194" y="4"/>
                    </a:cubicBezTo>
                    <a:lnTo>
                      <a:pt x="194" y="4"/>
                    </a:lnTo>
                    <a:cubicBezTo>
                      <a:pt x="193" y="4"/>
                      <a:pt x="192" y="3"/>
                      <a:pt x="192" y="2"/>
                    </a:cubicBezTo>
                    <a:cubicBezTo>
                      <a:pt x="192" y="1"/>
                      <a:pt x="193" y="0"/>
                      <a:pt x="194" y="0"/>
                    </a:cubicBezTo>
                    <a:close/>
                    <a:moveTo>
                      <a:pt x="202" y="0"/>
                    </a:moveTo>
                    <a:lnTo>
                      <a:pt x="202" y="0"/>
                    </a:lnTo>
                    <a:cubicBezTo>
                      <a:pt x="203" y="0"/>
                      <a:pt x="204" y="1"/>
                      <a:pt x="204" y="2"/>
                    </a:cubicBezTo>
                    <a:cubicBezTo>
                      <a:pt x="204" y="3"/>
                      <a:pt x="203" y="4"/>
                      <a:pt x="202" y="4"/>
                    </a:cubicBezTo>
                    <a:lnTo>
                      <a:pt x="202" y="4"/>
                    </a:lnTo>
                    <a:cubicBezTo>
                      <a:pt x="201" y="4"/>
                      <a:pt x="200" y="3"/>
                      <a:pt x="200" y="2"/>
                    </a:cubicBezTo>
                    <a:cubicBezTo>
                      <a:pt x="200" y="1"/>
                      <a:pt x="201" y="0"/>
                      <a:pt x="202" y="0"/>
                    </a:cubicBezTo>
                    <a:close/>
                    <a:moveTo>
                      <a:pt x="210" y="0"/>
                    </a:moveTo>
                    <a:lnTo>
                      <a:pt x="210" y="0"/>
                    </a:lnTo>
                    <a:cubicBezTo>
                      <a:pt x="211" y="0"/>
                      <a:pt x="212" y="1"/>
                      <a:pt x="212" y="2"/>
                    </a:cubicBezTo>
                    <a:cubicBezTo>
                      <a:pt x="212" y="3"/>
                      <a:pt x="211" y="4"/>
                      <a:pt x="210" y="4"/>
                    </a:cubicBezTo>
                    <a:lnTo>
                      <a:pt x="210" y="4"/>
                    </a:lnTo>
                    <a:cubicBezTo>
                      <a:pt x="209" y="4"/>
                      <a:pt x="208" y="3"/>
                      <a:pt x="208" y="2"/>
                    </a:cubicBezTo>
                    <a:cubicBezTo>
                      <a:pt x="208" y="1"/>
                      <a:pt x="209" y="0"/>
                      <a:pt x="210" y="0"/>
                    </a:cubicBezTo>
                    <a:close/>
                    <a:moveTo>
                      <a:pt x="218" y="0"/>
                    </a:moveTo>
                    <a:lnTo>
                      <a:pt x="218" y="0"/>
                    </a:lnTo>
                    <a:cubicBezTo>
                      <a:pt x="219" y="0"/>
                      <a:pt x="220" y="1"/>
                      <a:pt x="220" y="2"/>
                    </a:cubicBezTo>
                    <a:cubicBezTo>
                      <a:pt x="220" y="3"/>
                      <a:pt x="219" y="4"/>
                      <a:pt x="218" y="4"/>
                    </a:cubicBezTo>
                    <a:lnTo>
                      <a:pt x="218" y="4"/>
                    </a:lnTo>
                    <a:cubicBezTo>
                      <a:pt x="217" y="4"/>
                      <a:pt x="216" y="3"/>
                      <a:pt x="216" y="2"/>
                    </a:cubicBezTo>
                    <a:cubicBezTo>
                      <a:pt x="216" y="1"/>
                      <a:pt x="217" y="0"/>
                      <a:pt x="218" y="0"/>
                    </a:cubicBezTo>
                    <a:close/>
                    <a:moveTo>
                      <a:pt x="226" y="0"/>
                    </a:moveTo>
                    <a:lnTo>
                      <a:pt x="226" y="0"/>
                    </a:lnTo>
                    <a:cubicBezTo>
                      <a:pt x="227" y="0"/>
                      <a:pt x="228" y="1"/>
                      <a:pt x="228" y="2"/>
                    </a:cubicBezTo>
                    <a:cubicBezTo>
                      <a:pt x="228" y="3"/>
                      <a:pt x="227" y="4"/>
                      <a:pt x="226" y="4"/>
                    </a:cubicBezTo>
                    <a:lnTo>
                      <a:pt x="226" y="4"/>
                    </a:lnTo>
                    <a:cubicBezTo>
                      <a:pt x="225" y="4"/>
                      <a:pt x="224" y="3"/>
                      <a:pt x="224" y="2"/>
                    </a:cubicBezTo>
                    <a:cubicBezTo>
                      <a:pt x="224" y="1"/>
                      <a:pt x="225" y="0"/>
                      <a:pt x="226" y="0"/>
                    </a:cubicBezTo>
                    <a:close/>
                    <a:moveTo>
                      <a:pt x="234" y="0"/>
                    </a:moveTo>
                    <a:lnTo>
                      <a:pt x="234" y="0"/>
                    </a:lnTo>
                    <a:cubicBezTo>
                      <a:pt x="235" y="0"/>
                      <a:pt x="236" y="1"/>
                      <a:pt x="236" y="2"/>
                    </a:cubicBezTo>
                    <a:cubicBezTo>
                      <a:pt x="236" y="3"/>
                      <a:pt x="235" y="4"/>
                      <a:pt x="234" y="4"/>
                    </a:cubicBezTo>
                    <a:lnTo>
                      <a:pt x="234" y="4"/>
                    </a:lnTo>
                    <a:cubicBezTo>
                      <a:pt x="233" y="4"/>
                      <a:pt x="232" y="3"/>
                      <a:pt x="232" y="2"/>
                    </a:cubicBezTo>
                    <a:cubicBezTo>
                      <a:pt x="232" y="1"/>
                      <a:pt x="233" y="0"/>
                      <a:pt x="234" y="0"/>
                    </a:cubicBezTo>
                    <a:close/>
                    <a:moveTo>
                      <a:pt x="242" y="0"/>
                    </a:moveTo>
                    <a:lnTo>
                      <a:pt x="242" y="0"/>
                    </a:lnTo>
                    <a:cubicBezTo>
                      <a:pt x="243" y="0"/>
                      <a:pt x="244" y="1"/>
                      <a:pt x="244" y="2"/>
                    </a:cubicBezTo>
                    <a:cubicBezTo>
                      <a:pt x="244" y="3"/>
                      <a:pt x="243" y="4"/>
                      <a:pt x="242" y="4"/>
                    </a:cubicBezTo>
                    <a:lnTo>
                      <a:pt x="242" y="4"/>
                    </a:lnTo>
                    <a:cubicBezTo>
                      <a:pt x="241" y="4"/>
                      <a:pt x="240" y="3"/>
                      <a:pt x="240" y="2"/>
                    </a:cubicBezTo>
                    <a:cubicBezTo>
                      <a:pt x="240" y="1"/>
                      <a:pt x="241" y="0"/>
                      <a:pt x="242" y="0"/>
                    </a:cubicBezTo>
                    <a:close/>
                    <a:moveTo>
                      <a:pt x="250" y="0"/>
                    </a:moveTo>
                    <a:lnTo>
                      <a:pt x="250" y="0"/>
                    </a:lnTo>
                    <a:cubicBezTo>
                      <a:pt x="251" y="0"/>
                      <a:pt x="252" y="1"/>
                      <a:pt x="252" y="2"/>
                    </a:cubicBezTo>
                    <a:cubicBezTo>
                      <a:pt x="252" y="3"/>
                      <a:pt x="251" y="4"/>
                      <a:pt x="250" y="4"/>
                    </a:cubicBezTo>
                    <a:lnTo>
                      <a:pt x="250" y="4"/>
                    </a:lnTo>
                    <a:cubicBezTo>
                      <a:pt x="249" y="4"/>
                      <a:pt x="248" y="3"/>
                      <a:pt x="248" y="2"/>
                    </a:cubicBezTo>
                    <a:cubicBezTo>
                      <a:pt x="248" y="1"/>
                      <a:pt x="249" y="0"/>
                      <a:pt x="250" y="0"/>
                    </a:cubicBezTo>
                    <a:close/>
                    <a:moveTo>
                      <a:pt x="258" y="0"/>
                    </a:moveTo>
                    <a:lnTo>
                      <a:pt x="258" y="0"/>
                    </a:lnTo>
                    <a:cubicBezTo>
                      <a:pt x="259" y="0"/>
                      <a:pt x="260" y="1"/>
                      <a:pt x="260" y="2"/>
                    </a:cubicBezTo>
                    <a:cubicBezTo>
                      <a:pt x="260" y="3"/>
                      <a:pt x="259" y="4"/>
                      <a:pt x="258" y="4"/>
                    </a:cubicBezTo>
                    <a:lnTo>
                      <a:pt x="258" y="4"/>
                    </a:lnTo>
                    <a:cubicBezTo>
                      <a:pt x="257" y="4"/>
                      <a:pt x="256" y="3"/>
                      <a:pt x="256" y="2"/>
                    </a:cubicBezTo>
                    <a:cubicBezTo>
                      <a:pt x="256" y="1"/>
                      <a:pt x="257" y="0"/>
                      <a:pt x="258" y="0"/>
                    </a:cubicBezTo>
                    <a:close/>
                    <a:moveTo>
                      <a:pt x="266" y="0"/>
                    </a:moveTo>
                    <a:lnTo>
                      <a:pt x="266" y="0"/>
                    </a:lnTo>
                    <a:cubicBezTo>
                      <a:pt x="267" y="0"/>
                      <a:pt x="268" y="1"/>
                      <a:pt x="268" y="2"/>
                    </a:cubicBezTo>
                    <a:cubicBezTo>
                      <a:pt x="268" y="3"/>
                      <a:pt x="267" y="4"/>
                      <a:pt x="266" y="4"/>
                    </a:cubicBezTo>
                    <a:lnTo>
                      <a:pt x="266" y="4"/>
                    </a:lnTo>
                    <a:cubicBezTo>
                      <a:pt x="265" y="4"/>
                      <a:pt x="264" y="3"/>
                      <a:pt x="264" y="2"/>
                    </a:cubicBezTo>
                    <a:cubicBezTo>
                      <a:pt x="264" y="1"/>
                      <a:pt x="265" y="0"/>
                      <a:pt x="266" y="0"/>
                    </a:cubicBezTo>
                    <a:close/>
                    <a:moveTo>
                      <a:pt x="274" y="0"/>
                    </a:moveTo>
                    <a:lnTo>
                      <a:pt x="274" y="0"/>
                    </a:lnTo>
                    <a:cubicBezTo>
                      <a:pt x="275" y="0"/>
                      <a:pt x="276" y="1"/>
                      <a:pt x="276" y="2"/>
                    </a:cubicBezTo>
                    <a:cubicBezTo>
                      <a:pt x="276" y="3"/>
                      <a:pt x="275" y="4"/>
                      <a:pt x="274" y="4"/>
                    </a:cubicBezTo>
                    <a:lnTo>
                      <a:pt x="274" y="4"/>
                    </a:lnTo>
                    <a:cubicBezTo>
                      <a:pt x="273" y="4"/>
                      <a:pt x="272" y="3"/>
                      <a:pt x="272" y="2"/>
                    </a:cubicBezTo>
                    <a:cubicBezTo>
                      <a:pt x="272" y="1"/>
                      <a:pt x="273" y="0"/>
                      <a:pt x="274" y="0"/>
                    </a:cubicBezTo>
                    <a:close/>
                    <a:moveTo>
                      <a:pt x="282" y="0"/>
                    </a:moveTo>
                    <a:lnTo>
                      <a:pt x="282" y="0"/>
                    </a:lnTo>
                    <a:cubicBezTo>
                      <a:pt x="283" y="0"/>
                      <a:pt x="284" y="1"/>
                      <a:pt x="284" y="2"/>
                    </a:cubicBezTo>
                    <a:cubicBezTo>
                      <a:pt x="284" y="3"/>
                      <a:pt x="283" y="4"/>
                      <a:pt x="282" y="4"/>
                    </a:cubicBezTo>
                    <a:lnTo>
                      <a:pt x="282" y="4"/>
                    </a:lnTo>
                    <a:cubicBezTo>
                      <a:pt x="281" y="4"/>
                      <a:pt x="280" y="3"/>
                      <a:pt x="280" y="2"/>
                    </a:cubicBezTo>
                    <a:cubicBezTo>
                      <a:pt x="280" y="1"/>
                      <a:pt x="281" y="0"/>
                      <a:pt x="282" y="0"/>
                    </a:cubicBezTo>
                    <a:close/>
                    <a:moveTo>
                      <a:pt x="290" y="0"/>
                    </a:moveTo>
                    <a:lnTo>
                      <a:pt x="290" y="0"/>
                    </a:lnTo>
                    <a:cubicBezTo>
                      <a:pt x="291" y="0"/>
                      <a:pt x="292" y="1"/>
                      <a:pt x="292" y="2"/>
                    </a:cubicBezTo>
                    <a:cubicBezTo>
                      <a:pt x="292" y="3"/>
                      <a:pt x="291" y="4"/>
                      <a:pt x="290" y="4"/>
                    </a:cubicBezTo>
                    <a:lnTo>
                      <a:pt x="290" y="4"/>
                    </a:lnTo>
                    <a:cubicBezTo>
                      <a:pt x="289" y="4"/>
                      <a:pt x="288" y="3"/>
                      <a:pt x="288" y="2"/>
                    </a:cubicBezTo>
                    <a:cubicBezTo>
                      <a:pt x="288" y="1"/>
                      <a:pt x="289" y="0"/>
                      <a:pt x="290" y="0"/>
                    </a:cubicBezTo>
                    <a:close/>
                    <a:moveTo>
                      <a:pt x="298" y="0"/>
                    </a:moveTo>
                    <a:lnTo>
                      <a:pt x="298" y="0"/>
                    </a:lnTo>
                    <a:cubicBezTo>
                      <a:pt x="299" y="0"/>
                      <a:pt x="300" y="1"/>
                      <a:pt x="300" y="2"/>
                    </a:cubicBezTo>
                    <a:cubicBezTo>
                      <a:pt x="300" y="3"/>
                      <a:pt x="299" y="4"/>
                      <a:pt x="298" y="4"/>
                    </a:cubicBezTo>
                    <a:lnTo>
                      <a:pt x="298" y="4"/>
                    </a:lnTo>
                    <a:cubicBezTo>
                      <a:pt x="297" y="4"/>
                      <a:pt x="296" y="3"/>
                      <a:pt x="296" y="2"/>
                    </a:cubicBezTo>
                    <a:cubicBezTo>
                      <a:pt x="296" y="1"/>
                      <a:pt x="297" y="0"/>
                      <a:pt x="298" y="0"/>
                    </a:cubicBezTo>
                    <a:close/>
                    <a:moveTo>
                      <a:pt x="306" y="0"/>
                    </a:moveTo>
                    <a:lnTo>
                      <a:pt x="306" y="0"/>
                    </a:lnTo>
                    <a:cubicBezTo>
                      <a:pt x="307" y="0"/>
                      <a:pt x="308" y="1"/>
                      <a:pt x="308" y="2"/>
                    </a:cubicBezTo>
                    <a:cubicBezTo>
                      <a:pt x="308" y="3"/>
                      <a:pt x="307" y="4"/>
                      <a:pt x="306" y="4"/>
                    </a:cubicBezTo>
                    <a:lnTo>
                      <a:pt x="306" y="4"/>
                    </a:lnTo>
                    <a:cubicBezTo>
                      <a:pt x="305" y="4"/>
                      <a:pt x="304" y="3"/>
                      <a:pt x="304" y="2"/>
                    </a:cubicBezTo>
                    <a:cubicBezTo>
                      <a:pt x="304" y="1"/>
                      <a:pt x="305" y="0"/>
                      <a:pt x="306" y="0"/>
                    </a:cubicBezTo>
                    <a:close/>
                    <a:moveTo>
                      <a:pt x="314" y="0"/>
                    </a:moveTo>
                    <a:lnTo>
                      <a:pt x="314" y="0"/>
                    </a:lnTo>
                    <a:cubicBezTo>
                      <a:pt x="315" y="0"/>
                      <a:pt x="316" y="1"/>
                      <a:pt x="316" y="2"/>
                    </a:cubicBezTo>
                    <a:cubicBezTo>
                      <a:pt x="316" y="3"/>
                      <a:pt x="315" y="4"/>
                      <a:pt x="314" y="4"/>
                    </a:cubicBezTo>
                    <a:lnTo>
                      <a:pt x="314" y="4"/>
                    </a:lnTo>
                    <a:cubicBezTo>
                      <a:pt x="313" y="4"/>
                      <a:pt x="312" y="3"/>
                      <a:pt x="312" y="2"/>
                    </a:cubicBezTo>
                    <a:cubicBezTo>
                      <a:pt x="312" y="1"/>
                      <a:pt x="313" y="0"/>
                      <a:pt x="314" y="0"/>
                    </a:cubicBezTo>
                    <a:close/>
                    <a:moveTo>
                      <a:pt x="322" y="0"/>
                    </a:moveTo>
                    <a:lnTo>
                      <a:pt x="322" y="0"/>
                    </a:lnTo>
                    <a:cubicBezTo>
                      <a:pt x="323" y="0"/>
                      <a:pt x="324" y="1"/>
                      <a:pt x="324" y="2"/>
                    </a:cubicBezTo>
                    <a:cubicBezTo>
                      <a:pt x="324" y="3"/>
                      <a:pt x="323" y="4"/>
                      <a:pt x="322" y="4"/>
                    </a:cubicBezTo>
                    <a:lnTo>
                      <a:pt x="322" y="4"/>
                    </a:lnTo>
                    <a:cubicBezTo>
                      <a:pt x="321" y="4"/>
                      <a:pt x="320" y="3"/>
                      <a:pt x="320" y="2"/>
                    </a:cubicBezTo>
                    <a:cubicBezTo>
                      <a:pt x="320" y="1"/>
                      <a:pt x="321" y="0"/>
                      <a:pt x="322" y="0"/>
                    </a:cubicBezTo>
                    <a:close/>
                    <a:moveTo>
                      <a:pt x="330" y="0"/>
                    </a:moveTo>
                    <a:lnTo>
                      <a:pt x="330" y="0"/>
                    </a:lnTo>
                    <a:cubicBezTo>
                      <a:pt x="331" y="0"/>
                      <a:pt x="332" y="1"/>
                      <a:pt x="332" y="2"/>
                    </a:cubicBezTo>
                    <a:cubicBezTo>
                      <a:pt x="332" y="3"/>
                      <a:pt x="331" y="4"/>
                      <a:pt x="330" y="4"/>
                    </a:cubicBezTo>
                    <a:lnTo>
                      <a:pt x="330" y="4"/>
                    </a:lnTo>
                    <a:cubicBezTo>
                      <a:pt x="329" y="4"/>
                      <a:pt x="328" y="3"/>
                      <a:pt x="328" y="2"/>
                    </a:cubicBezTo>
                    <a:cubicBezTo>
                      <a:pt x="328" y="1"/>
                      <a:pt x="329" y="0"/>
                      <a:pt x="330" y="0"/>
                    </a:cubicBezTo>
                    <a:close/>
                    <a:moveTo>
                      <a:pt x="338" y="0"/>
                    </a:moveTo>
                    <a:lnTo>
                      <a:pt x="338" y="0"/>
                    </a:lnTo>
                    <a:cubicBezTo>
                      <a:pt x="339" y="0"/>
                      <a:pt x="340" y="1"/>
                      <a:pt x="340" y="2"/>
                    </a:cubicBezTo>
                    <a:cubicBezTo>
                      <a:pt x="340" y="3"/>
                      <a:pt x="339" y="4"/>
                      <a:pt x="338" y="4"/>
                    </a:cubicBezTo>
                    <a:lnTo>
                      <a:pt x="338" y="4"/>
                    </a:lnTo>
                    <a:cubicBezTo>
                      <a:pt x="337" y="4"/>
                      <a:pt x="336" y="3"/>
                      <a:pt x="336" y="2"/>
                    </a:cubicBezTo>
                    <a:cubicBezTo>
                      <a:pt x="336" y="1"/>
                      <a:pt x="337" y="0"/>
                      <a:pt x="338" y="0"/>
                    </a:cubicBezTo>
                    <a:close/>
                    <a:moveTo>
                      <a:pt x="346" y="0"/>
                    </a:moveTo>
                    <a:lnTo>
                      <a:pt x="346" y="0"/>
                    </a:lnTo>
                    <a:cubicBezTo>
                      <a:pt x="347" y="0"/>
                      <a:pt x="348" y="1"/>
                      <a:pt x="348" y="2"/>
                    </a:cubicBezTo>
                    <a:cubicBezTo>
                      <a:pt x="348" y="3"/>
                      <a:pt x="347" y="4"/>
                      <a:pt x="346" y="4"/>
                    </a:cubicBezTo>
                    <a:lnTo>
                      <a:pt x="346" y="4"/>
                    </a:lnTo>
                    <a:cubicBezTo>
                      <a:pt x="345" y="4"/>
                      <a:pt x="344" y="3"/>
                      <a:pt x="344" y="2"/>
                    </a:cubicBezTo>
                    <a:cubicBezTo>
                      <a:pt x="344" y="1"/>
                      <a:pt x="345" y="0"/>
                      <a:pt x="346" y="0"/>
                    </a:cubicBezTo>
                    <a:close/>
                    <a:moveTo>
                      <a:pt x="354" y="0"/>
                    </a:moveTo>
                    <a:lnTo>
                      <a:pt x="354" y="0"/>
                    </a:lnTo>
                    <a:cubicBezTo>
                      <a:pt x="355" y="0"/>
                      <a:pt x="356" y="1"/>
                      <a:pt x="356" y="2"/>
                    </a:cubicBezTo>
                    <a:cubicBezTo>
                      <a:pt x="356" y="3"/>
                      <a:pt x="355" y="4"/>
                      <a:pt x="354" y="4"/>
                    </a:cubicBezTo>
                    <a:lnTo>
                      <a:pt x="354" y="4"/>
                    </a:lnTo>
                    <a:cubicBezTo>
                      <a:pt x="353" y="4"/>
                      <a:pt x="352" y="3"/>
                      <a:pt x="352" y="2"/>
                    </a:cubicBezTo>
                    <a:cubicBezTo>
                      <a:pt x="352" y="1"/>
                      <a:pt x="353" y="0"/>
                      <a:pt x="354" y="0"/>
                    </a:cubicBezTo>
                    <a:close/>
                    <a:moveTo>
                      <a:pt x="362" y="0"/>
                    </a:moveTo>
                    <a:lnTo>
                      <a:pt x="362" y="0"/>
                    </a:lnTo>
                    <a:cubicBezTo>
                      <a:pt x="363" y="0"/>
                      <a:pt x="364" y="1"/>
                      <a:pt x="364" y="2"/>
                    </a:cubicBezTo>
                    <a:cubicBezTo>
                      <a:pt x="364" y="3"/>
                      <a:pt x="363" y="4"/>
                      <a:pt x="362" y="4"/>
                    </a:cubicBezTo>
                    <a:lnTo>
                      <a:pt x="362" y="4"/>
                    </a:lnTo>
                    <a:cubicBezTo>
                      <a:pt x="361" y="4"/>
                      <a:pt x="360" y="3"/>
                      <a:pt x="360" y="2"/>
                    </a:cubicBezTo>
                    <a:cubicBezTo>
                      <a:pt x="360" y="1"/>
                      <a:pt x="361" y="0"/>
                      <a:pt x="362" y="0"/>
                    </a:cubicBezTo>
                    <a:close/>
                    <a:moveTo>
                      <a:pt x="370" y="0"/>
                    </a:moveTo>
                    <a:lnTo>
                      <a:pt x="370" y="0"/>
                    </a:lnTo>
                    <a:cubicBezTo>
                      <a:pt x="371" y="0"/>
                      <a:pt x="372" y="1"/>
                      <a:pt x="372" y="2"/>
                    </a:cubicBezTo>
                    <a:cubicBezTo>
                      <a:pt x="372" y="3"/>
                      <a:pt x="371" y="4"/>
                      <a:pt x="370" y="4"/>
                    </a:cubicBezTo>
                    <a:lnTo>
                      <a:pt x="370" y="4"/>
                    </a:lnTo>
                    <a:cubicBezTo>
                      <a:pt x="369" y="4"/>
                      <a:pt x="368" y="3"/>
                      <a:pt x="368" y="2"/>
                    </a:cubicBezTo>
                    <a:cubicBezTo>
                      <a:pt x="368" y="1"/>
                      <a:pt x="369" y="0"/>
                      <a:pt x="370" y="0"/>
                    </a:cubicBezTo>
                    <a:close/>
                    <a:moveTo>
                      <a:pt x="378" y="0"/>
                    </a:moveTo>
                    <a:lnTo>
                      <a:pt x="378" y="0"/>
                    </a:lnTo>
                    <a:cubicBezTo>
                      <a:pt x="379" y="0"/>
                      <a:pt x="380" y="1"/>
                      <a:pt x="380" y="2"/>
                    </a:cubicBezTo>
                    <a:cubicBezTo>
                      <a:pt x="380" y="3"/>
                      <a:pt x="379" y="4"/>
                      <a:pt x="378" y="4"/>
                    </a:cubicBezTo>
                    <a:lnTo>
                      <a:pt x="378" y="4"/>
                    </a:lnTo>
                    <a:cubicBezTo>
                      <a:pt x="377" y="4"/>
                      <a:pt x="376" y="3"/>
                      <a:pt x="376" y="2"/>
                    </a:cubicBezTo>
                    <a:cubicBezTo>
                      <a:pt x="376" y="1"/>
                      <a:pt x="377" y="0"/>
                      <a:pt x="378" y="0"/>
                    </a:cubicBezTo>
                    <a:close/>
                    <a:moveTo>
                      <a:pt x="386" y="0"/>
                    </a:moveTo>
                    <a:lnTo>
                      <a:pt x="386" y="0"/>
                    </a:lnTo>
                    <a:cubicBezTo>
                      <a:pt x="387" y="0"/>
                      <a:pt x="388" y="1"/>
                      <a:pt x="388" y="2"/>
                    </a:cubicBezTo>
                    <a:cubicBezTo>
                      <a:pt x="388" y="3"/>
                      <a:pt x="387" y="4"/>
                      <a:pt x="386" y="4"/>
                    </a:cubicBezTo>
                    <a:lnTo>
                      <a:pt x="386" y="4"/>
                    </a:lnTo>
                    <a:cubicBezTo>
                      <a:pt x="385" y="4"/>
                      <a:pt x="384" y="3"/>
                      <a:pt x="384" y="2"/>
                    </a:cubicBezTo>
                    <a:cubicBezTo>
                      <a:pt x="384" y="1"/>
                      <a:pt x="385" y="0"/>
                      <a:pt x="386" y="0"/>
                    </a:cubicBezTo>
                    <a:close/>
                    <a:moveTo>
                      <a:pt x="394" y="0"/>
                    </a:moveTo>
                    <a:lnTo>
                      <a:pt x="394" y="0"/>
                    </a:lnTo>
                    <a:cubicBezTo>
                      <a:pt x="395" y="0"/>
                      <a:pt x="396" y="1"/>
                      <a:pt x="396" y="2"/>
                    </a:cubicBezTo>
                    <a:cubicBezTo>
                      <a:pt x="396" y="3"/>
                      <a:pt x="395" y="4"/>
                      <a:pt x="394" y="4"/>
                    </a:cubicBezTo>
                    <a:lnTo>
                      <a:pt x="394" y="4"/>
                    </a:lnTo>
                    <a:cubicBezTo>
                      <a:pt x="393" y="4"/>
                      <a:pt x="392" y="3"/>
                      <a:pt x="392" y="2"/>
                    </a:cubicBezTo>
                    <a:cubicBezTo>
                      <a:pt x="392" y="1"/>
                      <a:pt x="393" y="0"/>
                      <a:pt x="394" y="0"/>
                    </a:cubicBezTo>
                    <a:close/>
                    <a:moveTo>
                      <a:pt x="402" y="0"/>
                    </a:moveTo>
                    <a:lnTo>
                      <a:pt x="402" y="0"/>
                    </a:lnTo>
                    <a:cubicBezTo>
                      <a:pt x="403" y="0"/>
                      <a:pt x="404" y="1"/>
                      <a:pt x="404" y="2"/>
                    </a:cubicBezTo>
                    <a:cubicBezTo>
                      <a:pt x="404" y="3"/>
                      <a:pt x="403" y="4"/>
                      <a:pt x="402" y="4"/>
                    </a:cubicBezTo>
                    <a:lnTo>
                      <a:pt x="402" y="4"/>
                    </a:lnTo>
                    <a:cubicBezTo>
                      <a:pt x="401" y="4"/>
                      <a:pt x="400" y="3"/>
                      <a:pt x="400" y="2"/>
                    </a:cubicBezTo>
                    <a:cubicBezTo>
                      <a:pt x="400" y="1"/>
                      <a:pt x="401" y="0"/>
                      <a:pt x="402" y="0"/>
                    </a:cubicBezTo>
                    <a:close/>
                    <a:moveTo>
                      <a:pt x="410" y="0"/>
                    </a:moveTo>
                    <a:lnTo>
                      <a:pt x="410" y="0"/>
                    </a:lnTo>
                    <a:cubicBezTo>
                      <a:pt x="411" y="0"/>
                      <a:pt x="412" y="1"/>
                      <a:pt x="412" y="2"/>
                    </a:cubicBezTo>
                    <a:cubicBezTo>
                      <a:pt x="412" y="3"/>
                      <a:pt x="411" y="4"/>
                      <a:pt x="410" y="4"/>
                    </a:cubicBezTo>
                    <a:lnTo>
                      <a:pt x="410" y="4"/>
                    </a:lnTo>
                    <a:cubicBezTo>
                      <a:pt x="409" y="4"/>
                      <a:pt x="408" y="3"/>
                      <a:pt x="408" y="2"/>
                    </a:cubicBezTo>
                    <a:cubicBezTo>
                      <a:pt x="408" y="1"/>
                      <a:pt x="409" y="0"/>
                      <a:pt x="410" y="0"/>
                    </a:cubicBezTo>
                    <a:close/>
                    <a:moveTo>
                      <a:pt x="418" y="0"/>
                    </a:moveTo>
                    <a:lnTo>
                      <a:pt x="418" y="0"/>
                    </a:lnTo>
                    <a:cubicBezTo>
                      <a:pt x="419" y="0"/>
                      <a:pt x="420" y="1"/>
                      <a:pt x="420" y="2"/>
                    </a:cubicBezTo>
                    <a:cubicBezTo>
                      <a:pt x="420" y="3"/>
                      <a:pt x="419" y="4"/>
                      <a:pt x="418" y="4"/>
                    </a:cubicBezTo>
                    <a:lnTo>
                      <a:pt x="418" y="4"/>
                    </a:lnTo>
                    <a:cubicBezTo>
                      <a:pt x="417" y="4"/>
                      <a:pt x="416" y="3"/>
                      <a:pt x="416" y="2"/>
                    </a:cubicBezTo>
                    <a:cubicBezTo>
                      <a:pt x="416" y="1"/>
                      <a:pt x="417" y="0"/>
                      <a:pt x="418" y="0"/>
                    </a:cubicBezTo>
                    <a:close/>
                    <a:moveTo>
                      <a:pt x="426" y="0"/>
                    </a:moveTo>
                    <a:lnTo>
                      <a:pt x="426" y="0"/>
                    </a:lnTo>
                    <a:cubicBezTo>
                      <a:pt x="427" y="0"/>
                      <a:pt x="428" y="1"/>
                      <a:pt x="428" y="2"/>
                    </a:cubicBezTo>
                    <a:cubicBezTo>
                      <a:pt x="428" y="3"/>
                      <a:pt x="427" y="4"/>
                      <a:pt x="426" y="4"/>
                    </a:cubicBezTo>
                    <a:lnTo>
                      <a:pt x="426" y="4"/>
                    </a:lnTo>
                    <a:cubicBezTo>
                      <a:pt x="425" y="4"/>
                      <a:pt x="424" y="3"/>
                      <a:pt x="424" y="2"/>
                    </a:cubicBezTo>
                    <a:cubicBezTo>
                      <a:pt x="424" y="1"/>
                      <a:pt x="425" y="0"/>
                      <a:pt x="426" y="0"/>
                    </a:cubicBezTo>
                    <a:close/>
                    <a:moveTo>
                      <a:pt x="434" y="0"/>
                    </a:moveTo>
                    <a:lnTo>
                      <a:pt x="434" y="0"/>
                    </a:lnTo>
                    <a:cubicBezTo>
                      <a:pt x="435" y="0"/>
                      <a:pt x="436" y="1"/>
                      <a:pt x="436" y="2"/>
                    </a:cubicBezTo>
                    <a:cubicBezTo>
                      <a:pt x="436" y="3"/>
                      <a:pt x="435" y="4"/>
                      <a:pt x="434" y="4"/>
                    </a:cubicBezTo>
                    <a:lnTo>
                      <a:pt x="434" y="4"/>
                    </a:lnTo>
                    <a:cubicBezTo>
                      <a:pt x="433" y="4"/>
                      <a:pt x="432" y="3"/>
                      <a:pt x="432" y="2"/>
                    </a:cubicBezTo>
                    <a:cubicBezTo>
                      <a:pt x="432" y="1"/>
                      <a:pt x="433" y="0"/>
                      <a:pt x="434" y="0"/>
                    </a:cubicBezTo>
                    <a:close/>
                    <a:moveTo>
                      <a:pt x="442" y="0"/>
                    </a:moveTo>
                    <a:lnTo>
                      <a:pt x="442" y="0"/>
                    </a:lnTo>
                    <a:cubicBezTo>
                      <a:pt x="443" y="0"/>
                      <a:pt x="444" y="1"/>
                      <a:pt x="444" y="2"/>
                    </a:cubicBezTo>
                    <a:cubicBezTo>
                      <a:pt x="444" y="3"/>
                      <a:pt x="443" y="4"/>
                      <a:pt x="442" y="4"/>
                    </a:cubicBezTo>
                    <a:lnTo>
                      <a:pt x="442" y="4"/>
                    </a:lnTo>
                    <a:cubicBezTo>
                      <a:pt x="441" y="4"/>
                      <a:pt x="440" y="3"/>
                      <a:pt x="440" y="2"/>
                    </a:cubicBezTo>
                    <a:cubicBezTo>
                      <a:pt x="440" y="1"/>
                      <a:pt x="441" y="0"/>
                      <a:pt x="442" y="0"/>
                    </a:cubicBezTo>
                    <a:close/>
                    <a:moveTo>
                      <a:pt x="450" y="0"/>
                    </a:moveTo>
                    <a:lnTo>
                      <a:pt x="450" y="0"/>
                    </a:lnTo>
                    <a:cubicBezTo>
                      <a:pt x="451" y="0"/>
                      <a:pt x="452" y="1"/>
                      <a:pt x="452" y="2"/>
                    </a:cubicBezTo>
                    <a:cubicBezTo>
                      <a:pt x="452" y="3"/>
                      <a:pt x="451" y="4"/>
                      <a:pt x="450" y="4"/>
                    </a:cubicBezTo>
                    <a:lnTo>
                      <a:pt x="450" y="4"/>
                    </a:lnTo>
                    <a:cubicBezTo>
                      <a:pt x="449" y="4"/>
                      <a:pt x="448" y="3"/>
                      <a:pt x="448" y="2"/>
                    </a:cubicBezTo>
                    <a:cubicBezTo>
                      <a:pt x="448" y="1"/>
                      <a:pt x="449" y="0"/>
                      <a:pt x="450" y="0"/>
                    </a:cubicBezTo>
                    <a:close/>
                    <a:moveTo>
                      <a:pt x="458" y="0"/>
                    </a:moveTo>
                    <a:lnTo>
                      <a:pt x="458" y="0"/>
                    </a:lnTo>
                    <a:cubicBezTo>
                      <a:pt x="459" y="0"/>
                      <a:pt x="460" y="1"/>
                      <a:pt x="460" y="2"/>
                    </a:cubicBezTo>
                    <a:cubicBezTo>
                      <a:pt x="460" y="3"/>
                      <a:pt x="459" y="4"/>
                      <a:pt x="458" y="4"/>
                    </a:cubicBezTo>
                    <a:lnTo>
                      <a:pt x="458" y="4"/>
                    </a:lnTo>
                    <a:cubicBezTo>
                      <a:pt x="457" y="4"/>
                      <a:pt x="456" y="3"/>
                      <a:pt x="456" y="2"/>
                    </a:cubicBezTo>
                    <a:cubicBezTo>
                      <a:pt x="456" y="1"/>
                      <a:pt x="457" y="0"/>
                      <a:pt x="458" y="0"/>
                    </a:cubicBezTo>
                    <a:close/>
                    <a:moveTo>
                      <a:pt x="466" y="0"/>
                    </a:moveTo>
                    <a:lnTo>
                      <a:pt x="466" y="0"/>
                    </a:lnTo>
                    <a:cubicBezTo>
                      <a:pt x="467" y="0"/>
                      <a:pt x="468" y="1"/>
                      <a:pt x="468" y="2"/>
                    </a:cubicBezTo>
                    <a:cubicBezTo>
                      <a:pt x="468" y="3"/>
                      <a:pt x="467" y="4"/>
                      <a:pt x="466" y="4"/>
                    </a:cubicBezTo>
                    <a:lnTo>
                      <a:pt x="466" y="4"/>
                    </a:lnTo>
                    <a:cubicBezTo>
                      <a:pt x="465" y="4"/>
                      <a:pt x="464" y="3"/>
                      <a:pt x="464" y="2"/>
                    </a:cubicBezTo>
                    <a:cubicBezTo>
                      <a:pt x="464" y="1"/>
                      <a:pt x="465" y="0"/>
                      <a:pt x="466" y="0"/>
                    </a:cubicBezTo>
                    <a:close/>
                    <a:moveTo>
                      <a:pt x="474" y="0"/>
                    </a:moveTo>
                    <a:lnTo>
                      <a:pt x="474" y="0"/>
                    </a:lnTo>
                    <a:cubicBezTo>
                      <a:pt x="475" y="0"/>
                      <a:pt x="476" y="1"/>
                      <a:pt x="476" y="2"/>
                    </a:cubicBezTo>
                    <a:cubicBezTo>
                      <a:pt x="476" y="3"/>
                      <a:pt x="475" y="4"/>
                      <a:pt x="474" y="4"/>
                    </a:cubicBezTo>
                    <a:lnTo>
                      <a:pt x="474" y="4"/>
                    </a:lnTo>
                    <a:cubicBezTo>
                      <a:pt x="473" y="4"/>
                      <a:pt x="472" y="3"/>
                      <a:pt x="472" y="2"/>
                    </a:cubicBezTo>
                    <a:cubicBezTo>
                      <a:pt x="472" y="1"/>
                      <a:pt x="473" y="0"/>
                      <a:pt x="474" y="0"/>
                    </a:cubicBezTo>
                    <a:close/>
                    <a:moveTo>
                      <a:pt x="482" y="0"/>
                    </a:moveTo>
                    <a:lnTo>
                      <a:pt x="482" y="0"/>
                    </a:lnTo>
                    <a:cubicBezTo>
                      <a:pt x="483" y="0"/>
                      <a:pt x="484" y="1"/>
                      <a:pt x="484" y="2"/>
                    </a:cubicBezTo>
                    <a:cubicBezTo>
                      <a:pt x="484" y="3"/>
                      <a:pt x="483" y="4"/>
                      <a:pt x="482" y="4"/>
                    </a:cubicBezTo>
                    <a:lnTo>
                      <a:pt x="482" y="4"/>
                    </a:lnTo>
                    <a:cubicBezTo>
                      <a:pt x="481" y="4"/>
                      <a:pt x="480" y="3"/>
                      <a:pt x="480" y="2"/>
                    </a:cubicBezTo>
                    <a:cubicBezTo>
                      <a:pt x="480" y="1"/>
                      <a:pt x="481" y="0"/>
                      <a:pt x="482" y="0"/>
                    </a:cubicBezTo>
                    <a:close/>
                    <a:moveTo>
                      <a:pt x="490" y="0"/>
                    </a:moveTo>
                    <a:lnTo>
                      <a:pt x="490" y="0"/>
                    </a:lnTo>
                    <a:cubicBezTo>
                      <a:pt x="491" y="0"/>
                      <a:pt x="492" y="1"/>
                      <a:pt x="492" y="2"/>
                    </a:cubicBezTo>
                    <a:cubicBezTo>
                      <a:pt x="492" y="3"/>
                      <a:pt x="491" y="4"/>
                      <a:pt x="490" y="4"/>
                    </a:cubicBezTo>
                    <a:lnTo>
                      <a:pt x="490" y="4"/>
                    </a:lnTo>
                    <a:cubicBezTo>
                      <a:pt x="489" y="4"/>
                      <a:pt x="488" y="3"/>
                      <a:pt x="488" y="2"/>
                    </a:cubicBezTo>
                    <a:cubicBezTo>
                      <a:pt x="488" y="1"/>
                      <a:pt x="489" y="0"/>
                      <a:pt x="490" y="0"/>
                    </a:cubicBezTo>
                    <a:close/>
                    <a:moveTo>
                      <a:pt x="498" y="0"/>
                    </a:moveTo>
                    <a:lnTo>
                      <a:pt x="498" y="0"/>
                    </a:lnTo>
                    <a:cubicBezTo>
                      <a:pt x="499" y="0"/>
                      <a:pt x="500" y="1"/>
                      <a:pt x="500" y="2"/>
                    </a:cubicBezTo>
                    <a:cubicBezTo>
                      <a:pt x="500" y="3"/>
                      <a:pt x="499" y="4"/>
                      <a:pt x="498" y="4"/>
                    </a:cubicBezTo>
                    <a:lnTo>
                      <a:pt x="498" y="4"/>
                    </a:lnTo>
                    <a:cubicBezTo>
                      <a:pt x="497" y="4"/>
                      <a:pt x="496" y="3"/>
                      <a:pt x="496" y="2"/>
                    </a:cubicBezTo>
                    <a:cubicBezTo>
                      <a:pt x="496" y="1"/>
                      <a:pt x="497" y="0"/>
                      <a:pt x="498" y="0"/>
                    </a:cubicBezTo>
                    <a:close/>
                    <a:moveTo>
                      <a:pt x="506" y="0"/>
                    </a:moveTo>
                    <a:lnTo>
                      <a:pt x="506" y="0"/>
                    </a:lnTo>
                    <a:cubicBezTo>
                      <a:pt x="507" y="0"/>
                      <a:pt x="508" y="1"/>
                      <a:pt x="508" y="2"/>
                    </a:cubicBezTo>
                    <a:cubicBezTo>
                      <a:pt x="508" y="3"/>
                      <a:pt x="507" y="4"/>
                      <a:pt x="506" y="4"/>
                    </a:cubicBezTo>
                    <a:lnTo>
                      <a:pt x="506" y="4"/>
                    </a:lnTo>
                    <a:cubicBezTo>
                      <a:pt x="505" y="4"/>
                      <a:pt x="504" y="3"/>
                      <a:pt x="504" y="2"/>
                    </a:cubicBezTo>
                    <a:cubicBezTo>
                      <a:pt x="504" y="1"/>
                      <a:pt x="505" y="0"/>
                      <a:pt x="506" y="0"/>
                    </a:cubicBezTo>
                    <a:close/>
                    <a:moveTo>
                      <a:pt x="514" y="0"/>
                    </a:moveTo>
                    <a:lnTo>
                      <a:pt x="514" y="0"/>
                    </a:lnTo>
                    <a:cubicBezTo>
                      <a:pt x="515" y="0"/>
                      <a:pt x="516" y="1"/>
                      <a:pt x="516" y="2"/>
                    </a:cubicBezTo>
                    <a:cubicBezTo>
                      <a:pt x="516" y="3"/>
                      <a:pt x="515" y="4"/>
                      <a:pt x="514" y="4"/>
                    </a:cubicBezTo>
                    <a:lnTo>
                      <a:pt x="514" y="4"/>
                    </a:lnTo>
                    <a:cubicBezTo>
                      <a:pt x="513" y="4"/>
                      <a:pt x="512" y="3"/>
                      <a:pt x="512" y="2"/>
                    </a:cubicBezTo>
                    <a:cubicBezTo>
                      <a:pt x="512" y="1"/>
                      <a:pt x="513" y="0"/>
                      <a:pt x="514" y="0"/>
                    </a:cubicBezTo>
                    <a:close/>
                    <a:moveTo>
                      <a:pt x="522" y="0"/>
                    </a:moveTo>
                    <a:lnTo>
                      <a:pt x="522" y="0"/>
                    </a:lnTo>
                    <a:cubicBezTo>
                      <a:pt x="523" y="0"/>
                      <a:pt x="524" y="1"/>
                      <a:pt x="524" y="2"/>
                    </a:cubicBezTo>
                    <a:cubicBezTo>
                      <a:pt x="524" y="3"/>
                      <a:pt x="523" y="4"/>
                      <a:pt x="522" y="4"/>
                    </a:cubicBezTo>
                    <a:lnTo>
                      <a:pt x="522" y="4"/>
                    </a:lnTo>
                    <a:cubicBezTo>
                      <a:pt x="521" y="4"/>
                      <a:pt x="520" y="3"/>
                      <a:pt x="520" y="2"/>
                    </a:cubicBezTo>
                    <a:cubicBezTo>
                      <a:pt x="520" y="1"/>
                      <a:pt x="521" y="0"/>
                      <a:pt x="522" y="0"/>
                    </a:cubicBezTo>
                    <a:close/>
                    <a:moveTo>
                      <a:pt x="530" y="0"/>
                    </a:moveTo>
                    <a:lnTo>
                      <a:pt x="530" y="0"/>
                    </a:lnTo>
                    <a:cubicBezTo>
                      <a:pt x="531" y="0"/>
                      <a:pt x="532" y="1"/>
                      <a:pt x="532" y="2"/>
                    </a:cubicBezTo>
                    <a:cubicBezTo>
                      <a:pt x="532" y="3"/>
                      <a:pt x="531" y="4"/>
                      <a:pt x="530" y="4"/>
                    </a:cubicBezTo>
                    <a:lnTo>
                      <a:pt x="530" y="4"/>
                    </a:lnTo>
                    <a:cubicBezTo>
                      <a:pt x="529" y="4"/>
                      <a:pt x="528" y="3"/>
                      <a:pt x="528" y="2"/>
                    </a:cubicBezTo>
                    <a:cubicBezTo>
                      <a:pt x="528" y="1"/>
                      <a:pt x="529" y="0"/>
                      <a:pt x="530" y="0"/>
                    </a:cubicBezTo>
                    <a:close/>
                    <a:moveTo>
                      <a:pt x="538" y="0"/>
                    </a:moveTo>
                    <a:lnTo>
                      <a:pt x="538" y="0"/>
                    </a:lnTo>
                    <a:cubicBezTo>
                      <a:pt x="539" y="0"/>
                      <a:pt x="540" y="1"/>
                      <a:pt x="540" y="2"/>
                    </a:cubicBezTo>
                    <a:cubicBezTo>
                      <a:pt x="540" y="3"/>
                      <a:pt x="539" y="4"/>
                      <a:pt x="538" y="4"/>
                    </a:cubicBezTo>
                    <a:lnTo>
                      <a:pt x="538" y="4"/>
                    </a:lnTo>
                    <a:cubicBezTo>
                      <a:pt x="537" y="4"/>
                      <a:pt x="536" y="3"/>
                      <a:pt x="536" y="2"/>
                    </a:cubicBezTo>
                    <a:cubicBezTo>
                      <a:pt x="536" y="1"/>
                      <a:pt x="537" y="0"/>
                      <a:pt x="538" y="0"/>
                    </a:cubicBezTo>
                    <a:close/>
                    <a:moveTo>
                      <a:pt x="546" y="0"/>
                    </a:moveTo>
                    <a:lnTo>
                      <a:pt x="546" y="0"/>
                    </a:lnTo>
                    <a:cubicBezTo>
                      <a:pt x="547" y="0"/>
                      <a:pt x="548" y="1"/>
                      <a:pt x="548" y="2"/>
                    </a:cubicBezTo>
                    <a:cubicBezTo>
                      <a:pt x="548" y="3"/>
                      <a:pt x="547" y="4"/>
                      <a:pt x="546" y="4"/>
                    </a:cubicBezTo>
                    <a:lnTo>
                      <a:pt x="546" y="4"/>
                    </a:lnTo>
                    <a:cubicBezTo>
                      <a:pt x="545" y="4"/>
                      <a:pt x="544" y="3"/>
                      <a:pt x="544" y="2"/>
                    </a:cubicBezTo>
                    <a:cubicBezTo>
                      <a:pt x="544" y="1"/>
                      <a:pt x="545" y="0"/>
                      <a:pt x="546" y="0"/>
                    </a:cubicBezTo>
                    <a:close/>
                    <a:moveTo>
                      <a:pt x="554" y="0"/>
                    </a:moveTo>
                    <a:lnTo>
                      <a:pt x="554" y="0"/>
                    </a:lnTo>
                    <a:cubicBezTo>
                      <a:pt x="555" y="0"/>
                      <a:pt x="556" y="1"/>
                      <a:pt x="556" y="2"/>
                    </a:cubicBezTo>
                    <a:cubicBezTo>
                      <a:pt x="556" y="3"/>
                      <a:pt x="555" y="4"/>
                      <a:pt x="554" y="4"/>
                    </a:cubicBezTo>
                    <a:lnTo>
                      <a:pt x="554" y="4"/>
                    </a:lnTo>
                    <a:cubicBezTo>
                      <a:pt x="553" y="4"/>
                      <a:pt x="552" y="3"/>
                      <a:pt x="552" y="2"/>
                    </a:cubicBezTo>
                    <a:cubicBezTo>
                      <a:pt x="552" y="1"/>
                      <a:pt x="553" y="0"/>
                      <a:pt x="554" y="0"/>
                    </a:cubicBezTo>
                    <a:close/>
                    <a:moveTo>
                      <a:pt x="562" y="0"/>
                    </a:moveTo>
                    <a:lnTo>
                      <a:pt x="562" y="0"/>
                    </a:lnTo>
                    <a:cubicBezTo>
                      <a:pt x="563" y="0"/>
                      <a:pt x="564" y="1"/>
                      <a:pt x="564" y="2"/>
                    </a:cubicBezTo>
                    <a:cubicBezTo>
                      <a:pt x="564" y="3"/>
                      <a:pt x="563" y="4"/>
                      <a:pt x="562" y="4"/>
                    </a:cubicBezTo>
                    <a:lnTo>
                      <a:pt x="562" y="4"/>
                    </a:lnTo>
                    <a:cubicBezTo>
                      <a:pt x="561" y="4"/>
                      <a:pt x="560" y="3"/>
                      <a:pt x="560" y="2"/>
                    </a:cubicBezTo>
                    <a:cubicBezTo>
                      <a:pt x="560" y="1"/>
                      <a:pt x="561" y="0"/>
                      <a:pt x="562" y="0"/>
                    </a:cubicBezTo>
                    <a:close/>
                    <a:moveTo>
                      <a:pt x="570" y="0"/>
                    </a:moveTo>
                    <a:lnTo>
                      <a:pt x="570" y="0"/>
                    </a:lnTo>
                    <a:cubicBezTo>
                      <a:pt x="571" y="0"/>
                      <a:pt x="572" y="1"/>
                      <a:pt x="572" y="2"/>
                    </a:cubicBezTo>
                    <a:cubicBezTo>
                      <a:pt x="572" y="3"/>
                      <a:pt x="571" y="4"/>
                      <a:pt x="570" y="4"/>
                    </a:cubicBezTo>
                    <a:lnTo>
                      <a:pt x="570" y="4"/>
                    </a:lnTo>
                    <a:cubicBezTo>
                      <a:pt x="569" y="4"/>
                      <a:pt x="568" y="3"/>
                      <a:pt x="568" y="2"/>
                    </a:cubicBezTo>
                    <a:cubicBezTo>
                      <a:pt x="568" y="1"/>
                      <a:pt x="569" y="0"/>
                      <a:pt x="570" y="0"/>
                    </a:cubicBezTo>
                    <a:close/>
                    <a:moveTo>
                      <a:pt x="578" y="0"/>
                    </a:moveTo>
                    <a:lnTo>
                      <a:pt x="578" y="0"/>
                    </a:lnTo>
                    <a:cubicBezTo>
                      <a:pt x="579" y="0"/>
                      <a:pt x="580" y="1"/>
                      <a:pt x="580" y="2"/>
                    </a:cubicBezTo>
                    <a:cubicBezTo>
                      <a:pt x="580" y="3"/>
                      <a:pt x="579" y="4"/>
                      <a:pt x="578" y="4"/>
                    </a:cubicBezTo>
                    <a:lnTo>
                      <a:pt x="578" y="4"/>
                    </a:lnTo>
                    <a:cubicBezTo>
                      <a:pt x="577" y="4"/>
                      <a:pt x="576" y="3"/>
                      <a:pt x="576" y="2"/>
                    </a:cubicBezTo>
                    <a:cubicBezTo>
                      <a:pt x="576" y="1"/>
                      <a:pt x="577" y="0"/>
                      <a:pt x="578" y="0"/>
                    </a:cubicBezTo>
                    <a:close/>
                    <a:moveTo>
                      <a:pt x="586" y="0"/>
                    </a:moveTo>
                    <a:lnTo>
                      <a:pt x="586" y="0"/>
                    </a:lnTo>
                    <a:cubicBezTo>
                      <a:pt x="587" y="0"/>
                      <a:pt x="588" y="1"/>
                      <a:pt x="588" y="2"/>
                    </a:cubicBezTo>
                    <a:cubicBezTo>
                      <a:pt x="588" y="3"/>
                      <a:pt x="587" y="4"/>
                      <a:pt x="586" y="4"/>
                    </a:cubicBezTo>
                    <a:lnTo>
                      <a:pt x="586" y="4"/>
                    </a:lnTo>
                    <a:cubicBezTo>
                      <a:pt x="585" y="4"/>
                      <a:pt x="584" y="3"/>
                      <a:pt x="584" y="2"/>
                    </a:cubicBezTo>
                    <a:cubicBezTo>
                      <a:pt x="584" y="1"/>
                      <a:pt x="585" y="0"/>
                      <a:pt x="586" y="0"/>
                    </a:cubicBezTo>
                    <a:close/>
                    <a:moveTo>
                      <a:pt x="594" y="0"/>
                    </a:moveTo>
                    <a:lnTo>
                      <a:pt x="594" y="0"/>
                    </a:lnTo>
                    <a:cubicBezTo>
                      <a:pt x="595" y="0"/>
                      <a:pt x="596" y="1"/>
                      <a:pt x="596" y="2"/>
                    </a:cubicBezTo>
                    <a:cubicBezTo>
                      <a:pt x="596" y="3"/>
                      <a:pt x="595" y="4"/>
                      <a:pt x="594" y="4"/>
                    </a:cubicBezTo>
                    <a:lnTo>
                      <a:pt x="594" y="4"/>
                    </a:lnTo>
                    <a:cubicBezTo>
                      <a:pt x="593" y="4"/>
                      <a:pt x="592" y="3"/>
                      <a:pt x="592" y="2"/>
                    </a:cubicBezTo>
                    <a:cubicBezTo>
                      <a:pt x="592" y="1"/>
                      <a:pt x="593" y="0"/>
                      <a:pt x="594" y="0"/>
                    </a:cubicBezTo>
                    <a:close/>
                    <a:moveTo>
                      <a:pt x="602" y="0"/>
                    </a:moveTo>
                    <a:lnTo>
                      <a:pt x="602" y="0"/>
                    </a:lnTo>
                    <a:cubicBezTo>
                      <a:pt x="603" y="0"/>
                      <a:pt x="604" y="1"/>
                      <a:pt x="604" y="2"/>
                    </a:cubicBezTo>
                    <a:cubicBezTo>
                      <a:pt x="604" y="3"/>
                      <a:pt x="603" y="4"/>
                      <a:pt x="602" y="4"/>
                    </a:cubicBezTo>
                    <a:lnTo>
                      <a:pt x="602" y="4"/>
                    </a:lnTo>
                    <a:cubicBezTo>
                      <a:pt x="601" y="4"/>
                      <a:pt x="600" y="3"/>
                      <a:pt x="600" y="2"/>
                    </a:cubicBezTo>
                    <a:cubicBezTo>
                      <a:pt x="600" y="1"/>
                      <a:pt x="601" y="0"/>
                      <a:pt x="602" y="0"/>
                    </a:cubicBezTo>
                    <a:close/>
                    <a:moveTo>
                      <a:pt x="610" y="0"/>
                    </a:moveTo>
                    <a:lnTo>
                      <a:pt x="610" y="0"/>
                    </a:lnTo>
                    <a:cubicBezTo>
                      <a:pt x="611" y="0"/>
                      <a:pt x="612" y="1"/>
                      <a:pt x="612" y="2"/>
                    </a:cubicBezTo>
                    <a:cubicBezTo>
                      <a:pt x="612" y="3"/>
                      <a:pt x="611" y="4"/>
                      <a:pt x="610" y="4"/>
                    </a:cubicBezTo>
                    <a:lnTo>
                      <a:pt x="610" y="4"/>
                    </a:lnTo>
                    <a:cubicBezTo>
                      <a:pt x="609" y="4"/>
                      <a:pt x="608" y="3"/>
                      <a:pt x="608" y="2"/>
                    </a:cubicBezTo>
                    <a:cubicBezTo>
                      <a:pt x="608" y="1"/>
                      <a:pt x="609" y="0"/>
                      <a:pt x="610" y="0"/>
                    </a:cubicBezTo>
                    <a:close/>
                    <a:moveTo>
                      <a:pt x="618" y="0"/>
                    </a:moveTo>
                    <a:lnTo>
                      <a:pt x="618" y="0"/>
                    </a:lnTo>
                    <a:cubicBezTo>
                      <a:pt x="619" y="0"/>
                      <a:pt x="620" y="1"/>
                      <a:pt x="620" y="2"/>
                    </a:cubicBezTo>
                    <a:cubicBezTo>
                      <a:pt x="620" y="3"/>
                      <a:pt x="619" y="4"/>
                      <a:pt x="618" y="4"/>
                    </a:cubicBezTo>
                    <a:lnTo>
                      <a:pt x="618" y="4"/>
                    </a:lnTo>
                    <a:cubicBezTo>
                      <a:pt x="617" y="4"/>
                      <a:pt x="616" y="3"/>
                      <a:pt x="616" y="2"/>
                    </a:cubicBezTo>
                    <a:cubicBezTo>
                      <a:pt x="616" y="1"/>
                      <a:pt x="617" y="0"/>
                      <a:pt x="618" y="0"/>
                    </a:cubicBezTo>
                    <a:close/>
                    <a:moveTo>
                      <a:pt x="626" y="0"/>
                    </a:moveTo>
                    <a:lnTo>
                      <a:pt x="626" y="0"/>
                    </a:lnTo>
                    <a:cubicBezTo>
                      <a:pt x="627" y="0"/>
                      <a:pt x="628" y="1"/>
                      <a:pt x="628" y="2"/>
                    </a:cubicBezTo>
                    <a:cubicBezTo>
                      <a:pt x="628" y="3"/>
                      <a:pt x="627" y="4"/>
                      <a:pt x="626" y="4"/>
                    </a:cubicBezTo>
                    <a:lnTo>
                      <a:pt x="626" y="4"/>
                    </a:lnTo>
                    <a:cubicBezTo>
                      <a:pt x="625" y="4"/>
                      <a:pt x="624" y="3"/>
                      <a:pt x="624" y="2"/>
                    </a:cubicBezTo>
                    <a:cubicBezTo>
                      <a:pt x="624" y="1"/>
                      <a:pt x="625" y="0"/>
                      <a:pt x="626" y="0"/>
                    </a:cubicBezTo>
                    <a:close/>
                    <a:moveTo>
                      <a:pt x="634" y="0"/>
                    </a:moveTo>
                    <a:lnTo>
                      <a:pt x="634" y="0"/>
                    </a:lnTo>
                    <a:cubicBezTo>
                      <a:pt x="635" y="0"/>
                      <a:pt x="636" y="1"/>
                      <a:pt x="636" y="2"/>
                    </a:cubicBezTo>
                    <a:cubicBezTo>
                      <a:pt x="636" y="3"/>
                      <a:pt x="635" y="4"/>
                      <a:pt x="634" y="4"/>
                    </a:cubicBezTo>
                    <a:lnTo>
                      <a:pt x="634" y="4"/>
                    </a:lnTo>
                    <a:cubicBezTo>
                      <a:pt x="633" y="4"/>
                      <a:pt x="632" y="3"/>
                      <a:pt x="632" y="2"/>
                    </a:cubicBezTo>
                    <a:cubicBezTo>
                      <a:pt x="632" y="1"/>
                      <a:pt x="633" y="0"/>
                      <a:pt x="634" y="0"/>
                    </a:cubicBezTo>
                    <a:close/>
                    <a:moveTo>
                      <a:pt x="642" y="0"/>
                    </a:moveTo>
                    <a:lnTo>
                      <a:pt x="642" y="0"/>
                    </a:lnTo>
                    <a:cubicBezTo>
                      <a:pt x="643" y="0"/>
                      <a:pt x="644" y="1"/>
                      <a:pt x="644" y="2"/>
                    </a:cubicBezTo>
                    <a:cubicBezTo>
                      <a:pt x="644" y="3"/>
                      <a:pt x="643" y="4"/>
                      <a:pt x="642" y="4"/>
                    </a:cubicBezTo>
                    <a:lnTo>
                      <a:pt x="642" y="4"/>
                    </a:lnTo>
                    <a:cubicBezTo>
                      <a:pt x="641" y="4"/>
                      <a:pt x="640" y="3"/>
                      <a:pt x="640" y="2"/>
                    </a:cubicBezTo>
                    <a:cubicBezTo>
                      <a:pt x="640" y="1"/>
                      <a:pt x="641" y="0"/>
                      <a:pt x="642" y="0"/>
                    </a:cubicBezTo>
                    <a:close/>
                    <a:moveTo>
                      <a:pt x="650" y="0"/>
                    </a:moveTo>
                    <a:lnTo>
                      <a:pt x="650" y="0"/>
                    </a:lnTo>
                    <a:cubicBezTo>
                      <a:pt x="651" y="0"/>
                      <a:pt x="652" y="1"/>
                      <a:pt x="652" y="2"/>
                    </a:cubicBezTo>
                    <a:cubicBezTo>
                      <a:pt x="652" y="3"/>
                      <a:pt x="651" y="4"/>
                      <a:pt x="650" y="4"/>
                    </a:cubicBezTo>
                    <a:lnTo>
                      <a:pt x="650" y="4"/>
                    </a:lnTo>
                    <a:cubicBezTo>
                      <a:pt x="649" y="4"/>
                      <a:pt x="648" y="3"/>
                      <a:pt x="648" y="2"/>
                    </a:cubicBezTo>
                    <a:cubicBezTo>
                      <a:pt x="648" y="1"/>
                      <a:pt x="649" y="0"/>
                      <a:pt x="650" y="0"/>
                    </a:cubicBezTo>
                    <a:close/>
                    <a:moveTo>
                      <a:pt x="658" y="0"/>
                    </a:moveTo>
                    <a:lnTo>
                      <a:pt x="658" y="0"/>
                    </a:lnTo>
                    <a:cubicBezTo>
                      <a:pt x="659" y="0"/>
                      <a:pt x="660" y="1"/>
                      <a:pt x="660" y="2"/>
                    </a:cubicBezTo>
                    <a:cubicBezTo>
                      <a:pt x="660" y="3"/>
                      <a:pt x="659" y="4"/>
                      <a:pt x="658" y="4"/>
                    </a:cubicBezTo>
                    <a:lnTo>
                      <a:pt x="658" y="4"/>
                    </a:lnTo>
                    <a:cubicBezTo>
                      <a:pt x="657" y="4"/>
                      <a:pt x="656" y="3"/>
                      <a:pt x="656" y="2"/>
                    </a:cubicBezTo>
                    <a:cubicBezTo>
                      <a:pt x="656" y="1"/>
                      <a:pt x="657" y="0"/>
                      <a:pt x="658" y="0"/>
                    </a:cubicBezTo>
                    <a:close/>
                    <a:moveTo>
                      <a:pt x="666" y="0"/>
                    </a:moveTo>
                    <a:lnTo>
                      <a:pt x="666" y="0"/>
                    </a:lnTo>
                    <a:cubicBezTo>
                      <a:pt x="667" y="0"/>
                      <a:pt x="668" y="1"/>
                      <a:pt x="668" y="2"/>
                    </a:cubicBezTo>
                    <a:cubicBezTo>
                      <a:pt x="668" y="3"/>
                      <a:pt x="667" y="4"/>
                      <a:pt x="666" y="4"/>
                    </a:cubicBezTo>
                    <a:lnTo>
                      <a:pt x="666" y="4"/>
                    </a:lnTo>
                    <a:cubicBezTo>
                      <a:pt x="665" y="4"/>
                      <a:pt x="664" y="3"/>
                      <a:pt x="664" y="2"/>
                    </a:cubicBezTo>
                    <a:cubicBezTo>
                      <a:pt x="664" y="1"/>
                      <a:pt x="665" y="0"/>
                      <a:pt x="666" y="0"/>
                    </a:cubicBezTo>
                    <a:close/>
                    <a:moveTo>
                      <a:pt x="674" y="0"/>
                    </a:moveTo>
                    <a:lnTo>
                      <a:pt x="674" y="0"/>
                    </a:lnTo>
                    <a:cubicBezTo>
                      <a:pt x="675" y="0"/>
                      <a:pt x="676" y="1"/>
                      <a:pt x="676" y="2"/>
                    </a:cubicBezTo>
                    <a:cubicBezTo>
                      <a:pt x="676" y="3"/>
                      <a:pt x="675" y="4"/>
                      <a:pt x="674" y="4"/>
                    </a:cubicBezTo>
                    <a:lnTo>
                      <a:pt x="674" y="4"/>
                    </a:lnTo>
                    <a:cubicBezTo>
                      <a:pt x="673" y="4"/>
                      <a:pt x="672" y="3"/>
                      <a:pt x="672" y="2"/>
                    </a:cubicBezTo>
                    <a:cubicBezTo>
                      <a:pt x="672" y="1"/>
                      <a:pt x="673" y="0"/>
                      <a:pt x="674" y="0"/>
                    </a:cubicBezTo>
                    <a:close/>
                    <a:moveTo>
                      <a:pt x="682" y="0"/>
                    </a:moveTo>
                    <a:lnTo>
                      <a:pt x="682" y="0"/>
                    </a:lnTo>
                    <a:cubicBezTo>
                      <a:pt x="683" y="0"/>
                      <a:pt x="684" y="1"/>
                      <a:pt x="684" y="2"/>
                    </a:cubicBezTo>
                    <a:cubicBezTo>
                      <a:pt x="684" y="3"/>
                      <a:pt x="683" y="4"/>
                      <a:pt x="682" y="4"/>
                    </a:cubicBezTo>
                    <a:lnTo>
                      <a:pt x="682" y="4"/>
                    </a:lnTo>
                    <a:cubicBezTo>
                      <a:pt x="681" y="4"/>
                      <a:pt x="680" y="3"/>
                      <a:pt x="680" y="2"/>
                    </a:cubicBezTo>
                    <a:cubicBezTo>
                      <a:pt x="680" y="1"/>
                      <a:pt x="681" y="0"/>
                      <a:pt x="682" y="0"/>
                    </a:cubicBezTo>
                    <a:close/>
                    <a:moveTo>
                      <a:pt x="690" y="0"/>
                    </a:moveTo>
                    <a:lnTo>
                      <a:pt x="690" y="0"/>
                    </a:lnTo>
                    <a:cubicBezTo>
                      <a:pt x="691" y="0"/>
                      <a:pt x="692" y="1"/>
                      <a:pt x="692" y="2"/>
                    </a:cubicBezTo>
                    <a:cubicBezTo>
                      <a:pt x="692" y="3"/>
                      <a:pt x="691" y="4"/>
                      <a:pt x="690" y="4"/>
                    </a:cubicBezTo>
                    <a:lnTo>
                      <a:pt x="690" y="4"/>
                    </a:lnTo>
                    <a:cubicBezTo>
                      <a:pt x="689" y="4"/>
                      <a:pt x="688" y="3"/>
                      <a:pt x="688" y="2"/>
                    </a:cubicBezTo>
                    <a:cubicBezTo>
                      <a:pt x="688" y="1"/>
                      <a:pt x="689" y="0"/>
                      <a:pt x="690" y="0"/>
                    </a:cubicBezTo>
                    <a:close/>
                    <a:moveTo>
                      <a:pt x="698" y="0"/>
                    </a:moveTo>
                    <a:lnTo>
                      <a:pt x="698" y="0"/>
                    </a:lnTo>
                    <a:cubicBezTo>
                      <a:pt x="699" y="0"/>
                      <a:pt x="700" y="1"/>
                      <a:pt x="700" y="2"/>
                    </a:cubicBezTo>
                    <a:cubicBezTo>
                      <a:pt x="700" y="3"/>
                      <a:pt x="699" y="4"/>
                      <a:pt x="698" y="4"/>
                    </a:cubicBezTo>
                    <a:lnTo>
                      <a:pt x="698" y="4"/>
                    </a:lnTo>
                    <a:cubicBezTo>
                      <a:pt x="697" y="4"/>
                      <a:pt x="696" y="3"/>
                      <a:pt x="696" y="2"/>
                    </a:cubicBezTo>
                    <a:cubicBezTo>
                      <a:pt x="696" y="1"/>
                      <a:pt x="697" y="0"/>
                      <a:pt x="698" y="0"/>
                    </a:cubicBezTo>
                    <a:close/>
                    <a:moveTo>
                      <a:pt x="706" y="0"/>
                    </a:moveTo>
                    <a:lnTo>
                      <a:pt x="706" y="0"/>
                    </a:lnTo>
                    <a:cubicBezTo>
                      <a:pt x="707" y="0"/>
                      <a:pt x="708" y="1"/>
                      <a:pt x="708" y="2"/>
                    </a:cubicBezTo>
                    <a:cubicBezTo>
                      <a:pt x="708" y="3"/>
                      <a:pt x="707" y="4"/>
                      <a:pt x="706" y="4"/>
                    </a:cubicBezTo>
                    <a:lnTo>
                      <a:pt x="706" y="4"/>
                    </a:lnTo>
                    <a:cubicBezTo>
                      <a:pt x="705" y="4"/>
                      <a:pt x="704" y="3"/>
                      <a:pt x="704" y="2"/>
                    </a:cubicBezTo>
                    <a:cubicBezTo>
                      <a:pt x="704" y="1"/>
                      <a:pt x="705" y="0"/>
                      <a:pt x="706" y="0"/>
                    </a:cubicBezTo>
                    <a:close/>
                    <a:moveTo>
                      <a:pt x="714" y="0"/>
                    </a:moveTo>
                    <a:lnTo>
                      <a:pt x="714" y="0"/>
                    </a:lnTo>
                    <a:cubicBezTo>
                      <a:pt x="715" y="0"/>
                      <a:pt x="716" y="1"/>
                      <a:pt x="716" y="2"/>
                    </a:cubicBezTo>
                    <a:cubicBezTo>
                      <a:pt x="716" y="3"/>
                      <a:pt x="715" y="4"/>
                      <a:pt x="714" y="4"/>
                    </a:cubicBezTo>
                    <a:lnTo>
                      <a:pt x="714" y="4"/>
                    </a:lnTo>
                    <a:cubicBezTo>
                      <a:pt x="713" y="4"/>
                      <a:pt x="712" y="3"/>
                      <a:pt x="712" y="2"/>
                    </a:cubicBezTo>
                    <a:cubicBezTo>
                      <a:pt x="712" y="1"/>
                      <a:pt x="713" y="0"/>
                      <a:pt x="714" y="0"/>
                    </a:cubicBezTo>
                    <a:close/>
                    <a:moveTo>
                      <a:pt x="722" y="0"/>
                    </a:moveTo>
                    <a:lnTo>
                      <a:pt x="722" y="0"/>
                    </a:lnTo>
                    <a:cubicBezTo>
                      <a:pt x="723" y="0"/>
                      <a:pt x="724" y="1"/>
                      <a:pt x="724" y="2"/>
                    </a:cubicBezTo>
                    <a:cubicBezTo>
                      <a:pt x="724" y="3"/>
                      <a:pt x="723" y="4"/>
                      <a:pt x="722" y="4"/>
                    </a:cubicBezTo>
                    <a:lnTo>
                      <a:pt x="722" y="4"/>
                    </a:lnTo>
                    <a:cubicBezTo>
                      <a:pt x="721" y="4"/>
                      <a:pt x="720" y="3"/>
                      <a:pt x="720" y="2"/>
                    </a:cubicBezTo>
                    <a:cubicBezTo>
                      <a:pt x="720" y="1"/>
                      <a:pt x="721" y="0"/>
                      <a:pt x="722" y="0"/>
                    </a:cubicBezTo>
                    <a:close/>
                    <a:moveTo>
                      <a:pt x="730" y="0"/>
                    </a:moveTo>
                    <a:lnTo>
                      <a:pt x="730" y="0"/>
                    </a:lnTo>
                    <a:cubicBezTo>
                      <a:pt x="731" y="0"/>
                      <a:pt x="732" y="1"/>
                      <a:pt x="732" y="2"/>
                    </a:cubicBezTo>
                    <a:cubicBezTo>
                      <a:pt x="732" y="3"/>
                      <a:pt x="731" y="4"/>
                      <a:pt x="730" y="4"/>
                    </a:cubicBezTo>
                    <a:lnTo>
                      <a:pt x="730" y="4"/>
                    </a:lnTo>
                    <a:cubicBezTo>
                      <a:pt x="729" y="4"/>
                      <a:pt x="728" y="3"/>
                      <a:pt x="728" y="2"/>
                    </a:cubicBezTo>
                    <a:cubicBezTo>
                      <a:pt x="728" y="1"/>
                      <a:pt x="729" y="0"/>
                      <a:pt x="730" y="0"/>
                    </a:cubicBezTo>
                    <a:close/>
                    <a:moveTo>
                      <a:pt x="738" y="0"/>
                    </a:moveTo>
                    <a:lnTo>
                      <a:pt x="738" y="0"/>
                    </a:lnTo>
                    <a:cubicBezTo>
                      <a:pt x="739" y="0"/>
                      <a:pt x="740" y="1"/>
                      <a:pt x="740" y="2"/>
                    </a:cubicBezTo>
                    <a:cubicBezTo>
                      <a:pt x="740" y="3"/>
                      <a:pt x="739" y="4"/>
                      <a:pt x="738" y="4"/>
                    </a:cubicBezTo>
                    <a:lnTo>
                      <a:pt x="738" y="4"/>
                    </a:lnTo>
                    <a:cubicBezTo>
                      <a:pt x="737" y="4"/>
                      <a:pt x="736" y="3"/>
                      <a:pt x="736" y="2"/>
                    </a:cubicBezTo>
                    <a:cubicBezTo>
                      <a:pt x="736" y="1"/>
                      <a:pt x="737" y="0"/>
                      <a:pt x="738" y="0"/>
                    </a:cubicBezTo>
                    <a:close/>
                    <a:moveTo>
                      <a:pt x="746" y="0"/>
                    </a:moveTo>
                    <a:lnTo>
                      <a:pt x="746" y="0"/>
                    </a:lnTo>
                    <a:cubicBezTo>
                      <a:pt x="747" y="0"/>
                      <a:pt x="748" y="1"/>
                      <a:pt x="748" y="2"/>
                    </a:cubicBezTo>
                    <a:cubicBezTo>
                      <a:pt x="748" y="3"/>
                      <a:pt x="747" y="4"/>
                      <a:pt x="746" y="4"/>
                    </a:cubicBezTo>
                    <a:lnTo>
                      <a:pt x="746" y="4"/>
                    </a:lnTo>
                    <a:cubicBezTo>
                      <a:pt x="745" y="4"/>
                      <a:pt x="744" y="3"/>
                      <a:pt x="744" y="2"/>
                    </a:cubicBezTo>
                    <a:cubicBezTo>
                      <a:pt x="744" y="1"/>
                      <a:pt x="745" y="0"/>
                      <a:pt x="746" y="0"/>
                    </a:cubicBezTo>
                    <a:close/>
                    <a:moveTo>
                      <a:pt x="754" y="0"/>
                    </a:moveTo>
                    <a:lnTo>
                      <a:pt x="754" y="0"/>
                    </a:lnTo>
                    <a:cubicBezTo>
                      <a:pt x="755" y="0"/>
                      <a:pt x="756" y="1"/>
                      <a:pt x="756" y="2"/>
                    </a:cubicBezTo>
                    <a:cubicBezTo>
                      <a:pt x="756" y="3"/>
                      <a:pt x="755" y="4"/>
                      <a:pt x="754" y="4"/>
                    </a:cubicBezTo>
                    <a:lnTo>
                      <a:pt x="754" y="4"/>
                    </a:lnTo>
                    <a:cubicBezTo>
                      <a:pt x="753" y="4"/>
                      <a:pt x="752" y="3"/>
                      <a:pt x="752" y="2"/>
                    </a:cubicBezTo>
                    <a:cubicBezTo>
                      <a:pt x="752" y="1"/>
                      <a:pt x="753" y="0"/>
                      <a:pt x="754" y="0"/>
                    </a:cubicBezTo>
                    <a:close/>
                    <a:moveTo>
                      <a:pt x="762" y="0"/>
                    </a:moveTo>
                    <a:lnTo>
                      <a:pt x="762" y="0"/>
                    </a:lnTo>
                    <a:cubicBezTo>
                      <a:pt x="763" y="0"/>
                      <a:pt x="764" y="1"/>
                      <a:pt x="764" y="2"/>
                    </a:cubicBezTo>
                    <a:cubicBezTo>
                      <a:pt x="764" y="3"/>
                      <a:pt x="763" y="4"/>
                      <a:pt x="762" y="4"/>
                    </a:cubicBezTo>
                    <a:lnTo>
                      <a:pt x="762" y="4"/>
                    </a:lnTo>
                    <a:cubicBezTo>
                      <a:pt x="761" y="4"/>
                      <a:pt x="760" y="3"/>
                      <a:pt x="760" y="2"/>
                    </a:cubicBezTo>
                    <a:cubicBezTo>
                      <a:pt x="760" y="1"/>
                      <a:pt x="761" y="0"/>
                      <a:pt x="762" y="0"/>
                    </a:cubicBezTo>
                    <a:close/>
                    <a:moveTo>
                      <a:pt x="770" y="0"/>
                    </a:moveTo>
                    <a:lnTo>
                      <a:pt x="770" y="0"/>
                    </a:lnTo>
                    <a:cubicBezTo>
                      <a:pt x="771" y="0"/>
                      <a:pt x="772" y="1"/>
                      <a:pt x="772" y="2"/>
                    </a:cubicBezTo>
                    <a:cubicBezTo>
                      <a:pt x="772" y="3"/>
                      <a:pt x="771" y="4"/>
                      <a:pt x="770" y="4"/>
                    </a:cubicBezTo>
                    <a:lnTo>
                      <a:pt x="770" y="4"/>
                    </a:lnTo>
                    <a:cubicBezTo>
                      <a:pt x="769" y="4"/>
                      <a:pt x="768" y="3"/>
                      <a:pt x="768" y="2"/>
                    </a:cubicBezTo>
                    <a:cubicBezTo>
                      <a:pt x="768" y="1"/>
                      <a:pt x="769" y="0"/>
                      <a:pt x="770" y="0"/>
                    </a:cubicBezTo>
                    <a:close/>
                    <a:moveTo>
                      <a:pt x="778" y="0"/>
                    </a:moveTo>
                    <a:lnTo>
                      <a:pt x="778" y="0"/>
                    </a:lnTo>
                    <a:cubicBezTo>
                      <a:pt x="779" y="0"/>
                      <a:pt x="780" y="1"/>
                      <a:pt x="780" y="2"/>
                    </a:cubicBezTo>
                    <a:cubicBezTo>
                      <a:pt x="780" y="3"/>
                      <a:pt x="779" y="4"/>
                      <a:pt x="778" y="4"/>
                    </a:cubicBezTo>
                    <a:lnTo>
                      <a:pt x="778" y="4"/>
                    </a:lnTo>
                    <a:cubicBezTo>
                      <a:pt x="777" y="4"/>
                      <a:pt x="776" y="3"/>
                      <a:pt x="776" y="2"/>
                    </a:cubicBezTo>
                    <a:cubicBezTo>
                      <a:pt x="776" y="1"/>
                      <a:pt x="777" y="0"/>
                      <a:pt x="778" y="0"/>
                    </a:cubicBezTo>
                    <a:close/>
                    <a:moveTo>
                      <a:pt x="786" y="0"/>
                    </a:moveTo>
                    <a:lnTo>
                      <a:pt x="786" y="0"/>
                    </a:lnTo>
                    <a:cubicBezTo>
                      <a:pt x="787" y="0"/>
                      <a:pt x="788" y="1"/>
                      <a:pt x="788" y="2"/>
                    </a:cubicBezTo>
                    <a:cubicBezTo>
                      <a:pt x="788" y="3"/>
                      <a:pt x="787" y="4"/>
                      <a:pt x="786" y="4"/>
                    </a:cubicBezTo>
                    <a:lnTo>
                      <a:pt x="786" y="4"/>
                    </a:lnTo>
                    <a:cubicBezTo>
                      <a:pt x="785" y="4"/>
                      <a:pt x="784" y="3"/>
                      <a:pt x="784" y="2"/>
                    </a:cubicBezTo>
                    <a:cubicBezTo>
                      <a:pt x="784" y="1"/>
                      <a:pt x="785" y="0"/>
                      <a:pt x="786" y="0"/>
                    </a:cubicBezTo>
                    <a:close/>
                    <a:moveTo>
                      <a:pt x="794" y="0"/>
                    </a:moveTo>
                    <a:lnTo>
                      <a:pt x="794" y="0"/>
                    </a:lnTo>
                    <a:cubicBezTo>
                      <a:pt x="795" y="0"/>
                      <a:pt x="796" y="1"/>
                      <a:pt x="796" y="2"/>
                    </a:cubicBezTo>
                    <a:cubicBezTo>
                      <a:pt x="796" y="3"/>
                      <a:pt x="795" y="4"/>
                      <a:pt x="794" y="4"/>
                    </a:cubicBezTo>
                    <a:lnTo>
                      <a:pt x="794" y="4"/>
                    </a:lnTo>
                    <a:cubicBezTo>
                      <a:pt x="793" y="4"/>
                      <a:pt x="792" y="3"/>
                      <a:pt x="792" y="2"/>
                    </a:cubicBezTo>
                    <a:cubicBezTo>
                      <a:pt x="792" y="1"/>
                      <a:pt x="793" y="0"/>
                      <a:pt x="794" y="0"/>
                    </a:cubicBezTo>
                    <a:close/>
                    <a:moveTo>
                      <a:pt x="802" y="0"/>
                    </a:moveTo>
                    <a:lnTo>
                      <a:pt x="802" y="0"/>
                    </a:lnTo>
                    <a:cubicBezTo>
                      <a:pt x="803" y="0"/>
                      <a:pt x="804" y="1"/>
                      <a:pt x="804" y="2"/>
                    </a:cubicBezTo>
                    <a:cubicBezTo>
                      <a:pt x="804" y="3"/>
                      <a:pt x="803" y="4"/>
                      <a:pt x="802" y="4"/>
                    </a:cubicBezTo>
                    <a:lnTo>
                      <a:pt x="802" y="4"/>
                    </a:lnTo>
                    <a:cubicBezTo>
                      <a:pt x="801" y="4"/>
                      <a:pt x="800" y="3"/>
                      <a:pt x="800" y="2"/>
                    </a:cubicBezTo>
                    <a:cubicBezTo>
                      <a:pt x="800" y="1"/>
                      <a:pt x="801" y="0"/>
                      <a:pt x="802" y="0"/>
                    </a:cubicBezTo>
                    <a:close/>
                    <a:moveTo>
                      <a:pt x="810" y="0"/>
                    </a:moveTo>
                    <a:lnTo>
                      <a:pt x="810" y="0"/>
                    </a:lnTo>
                    <a:cubicBezTo>
                      <a:pt x="811" y="0"/>
                      <a:pt x="812" y="1"/>
                      <a:pt x="812" y="2"/>
                    </a:cubicBezTo>
                    <a:cubicBezTo>
                      <a:pt x="812" y="3"/>
                      <a:pt x="811" y="4"/>
                      <a:pt x="810" y="4"/>
                    </a:cubicBezTo>
                    <a:lnTo>
                      <a:pt x="810" y="4"/>
                    </a:lnTo>
                    <a:cubicBezTo>
                      <a:pt x="809" y="4"/>
                      <a:pt x="808" y="3"/>
                      <a:pt x="808" y="2"/>
                    </a:cubicBezTo>
                    <a:cubicBezTo>
                      <a:pt x="808" y="1"/>
                      <a:pt x="809" y="0"/>
                      <a:pt x="810" y="0"/>
                    </a:cubicBezTo>
                    <a:close/>
                    <a:moveTo>
                      <a:pt x="818" y="0"/>
                    </a:moveTo>
                    <a:lnTo>
                      <a:pt x="818" y="0"/>
                    </a:lnTo>
                    <a:cubicBezTo>
                      <a:pt x="819" y="0"/>
                      <a:pt x="820" y="1"/>
                      <a:pt x="820" y="2"/>
                    </a:cubicBezTo>
                    <a:cubicBezTo>
                      <a:pt x="820" y="3"/>
                      <a:pt x="819" y="4"/>
                      <a:pt x="818" y="4"/>
                    </a:cubicBezTo>
                    <a:lnTo>
                      <a:pt x="818" y="4"/>
                    </a:lnTo>
                    <a:cubicBezTo>
                      <a:pt x="817" y="4"/>
                      <a:pt x="816" y="3"/>
                      <a:pt x="816" y="2"/>
                    </a:cubicBezTo>
                    <a:cubicBezTo>
                      <a:pt x="816" y="1"/>
                      <a:pt x="817" y="0"/>
                      <a:pt x="818" y="0"/>
                    </a:cubicBezTo>
                    <a:close/>
                    <a:moveTo>
                      <a:pt x="826" y="0"/>
                    </a:moveTo>
                    <a:lnTo>
                      <a:pt x="826" y="0"/>
                    </a:lnTo>
                    <a:cubicBezTo>
                      <a:pt x="827" y="0"/>
                      <a:pt x="828" y="1"/>
                      <a:pt x="828" y="2"/>
                    </a:cubicBezTo>
                    <a:cubicBezTo>
                      <a:pt x="828" y="3"/>
                      <a:pt x="827" y="4"/>
                      <a:pt x="826" y="4"/>
                    </a:cubicBezTo>
                    <a:lnTo>
                      <a:pt x="826" y="4"/>
                    </a:lnTo>
                    <a:cubicBezTo>
                      <a:pt x="825" y="4"/>
                      <a:pt x="824" y="3"/>
                      <a:pt x="824" y="2"/>
                    </a:cubicBezTo>
                    <a:cubicBezTo>
                      <a:pt x="824" y="1"/>
                      <a:pt x="825" y="0"/>
                      <a:pt x="826" y="0"/>
                    </a:cubicBezTo>
                    <a:close/>
                    <a:moveTo>
                      <a:pt x="834" y="0"/>
                    </a:moveTo>
                    <a:lnTo>
                      <a:pt x="834" y="0"/>
                    </a:lnTo>
                    <a:cubicBezTo>
                      <a:pt x="835" y="0"/>
                      <a:pt x="836" y="1"/>
                      <a:pt x="836" y="2"/>
                    </a:cubicBezTo>
                    <a:cubicBezTo>
                      <a:pt x="836" y="3"/>
                      <a:pt x="835" y="4"/>
                      <a:pt x="834" y="4"/>
                    </a:cubicBezTo>
                    <a:lnTo>
                      <a:pt x="834" y="4"/>
                    </a:lnTo>
                    <a:cubicBezTo>
                      <a:pt x="833" y="4"/>
                      <a:pt x="832" y="3"/>
                      <a:pt x="832" y="2"/>
                    </a:cubicBezTo>
                    <a:cubicBezTo>
                      <a:pt x="832" y="1"/>
                      <a:pt x="833" y="0"/>
                      <a:pt x="834" y="0"/>
                    </a:cubicBezTo>
                    <a:close/>
                    <a:moveTo>
                      <a:pt x="842" y="0"/>
                    </a:moveTo>
                    <a:lnTo>
                      <a:pt x="842" y="0"/>
                    </a:lnTo>
                    <a:cubicBezTo>
                      <a:pt x="843" y="0"/>
                      <a:pt x="844" y="1"/>
                      <a:pt x="844" y="2"/>
                    </a:cubicBezTo>
                    <a:cubicBezTo>
                      <a:pt x="844" y="3"/>
                      <a:pt x="843" y="4"/>
                      <a:pt x="842" y="4"/>
                    </a:cubicBezTo>
                    <a:lnTo>
                      <a:pt x="842" y="4"/>
                    </a:lnTo>
                    <a:cubicBezTo>
                      <a:pt x="841" y="4"/>
                      <a:pt x="840" y="3"/>
                      <a:pt x="840" y="2"/>
                    </a:cubicBezTo>
                    <a:cubicBezTo>
                      <a:pt x="840" y="1"/>
                      <a:pt x="841" y="0"/>
                      <a:pt x="842" y="0"/>
                    </a:cubicBezTo>
                    <a:close/>
                    <a:moveTo>
                      <a:pt x="850" y="0"/>
                    </a:moveTo>
                    <a:lnTo>
                      <a:pt x="850" y="0"/>
                    </a:lnTo>
                    <a:cubicBezTo>
                      <a:pt x="851" y="0"/>
                      <a:pt x="852" y="1"/>
                      <a:pt x="852" y="2"/>
                    </a:cubicBezTo>
                    <a:cubicBezTo>
                      <a:pt x="852" y="3"/>
                      <a:pt x="851" y="4"/>
                      <a:pt x="850" y="4"/>
                    </a:cubicBezTo>
                    <a:lnTo>
                      <a:pt x="850" y="4"/>
                    </a:lnTo>
                    <a:cubicBezTo>
                      <a:pt x="849" y="4"/>
                      <a:pt x="848" y="3"/>
                      <a:pt x="848" y="2"/>
                    </a:cubicBezTo>
                    <a:cubicBezTo>
                      <a:pt x="848" y="1"/>
                      <a:pt x="849" y="0"/>
                      <a:pt x="850" y="0"/>
                    </a:cubicBezTo>
                    <a:close/>
                    <a:moveTo>
                      <a:pt x="858" y="0"/>
                    </a:moveTo>
                    <a:lnTo>
                      <a:pt x="858" y="0"/>
                    </a:lnTo>
                    <a:cubicBezTo>
                      <a:pt x="859" y="0"/>
                      <a:pt x="860" y="1"/>
                      <a:pt x="860" y="2"/>
                    </a:cubicBezTo>
                    <a:cubicBezTo>
                      <a:pt x="860" y="3"/>
                      <a:pt x="859" y="4"/>
                      <a:pt x="858" y="4"/>
                    </a:cubicBezTo>
                    <a:lnTo>
                      <a:pt x="858" y="4"/>
                    </a:lnTo>
                    <a:cubicBezTo>
                      <a:pt x="857" y="4"/>
                      <a:pt x="856" y="3"/>
                      <a:pt x="856" y="2"/>
                    </a:cubicBezTo>
                    <a:cubicBezTo>
                      <a:pt x="856" y="1"/>
                      <a:pt x="857" y="0"/>
                      <a:pt x="858" y="0"/>
                    </a:cubicBezTo>
                    <a:close/>
                    <a:moveTo>
                      <a:pt x="866" y="0"/>
                    </a:moveTo>
                    <a:lnTo>
                      <a:pt x="866" y="0"/>
                    </a:lnTo>
                    <a:cubicBezTo>
                      <a:pt x="867" y="0"/>
                      <a:pt x="868" y="1"/>
                      <a:pt x="868" y="2"/>
                    </a:cubicBezTo>
                    <a:cubicBezTo>
                      <a:pt x="868" y="3"/>
                      <a:pt x="867" y="4"/>
                      <a:pt x="866" y="4"/>
                    </a:cubicBezTo>
                    <a:lnTo>
                      <a:pt x="866" y="4"/>
                    </a:lnTo>
                    <a:cubicBezTo>
                      <a:pt x="865" y="4"/>
                      <a:pt x="864" y="3"/>
                      <a:pt x="864" y="2"/>
                    </a:cubicBezTo>
                    <a:cubicBezTo>
                      <a:pt x="864" y="1"/>
                      <a:pt x="865" y="0"/>
                      <a:pt x="866" y="0"/>
                    </a:cubicBezTo>
                    <a:close/>
                    <a:moveTo>
                      <a:pt x="874" y="0"/>
                    </a:moveTo>
                    <a:lnTo>
                      <a:pt x="874" y="0"/>
                    </a:lnTo>
                    <a:cubicBezTo>
                      <a:pt x="875" y="0"/>
                      <a:pt x="876" y="1"/>
                      <a:pt x="876" y="2"/>
                    </a:cubicBezTo>
                    <a:cubicBezTo>
                      <a:pt x="876" y="3"/>
                      <a:pt x="875" y="4"/>
                      <a:pt x="874" y="4"/>
                    </a:cubicBezTo>
                    <a:lnTo>
                      <a:pt x="874" y="4"/>
                    </a:lnTo>
                    <a:cubicBezTo>
                      <a:pt x="873" y="4"/>
                      <a:pt x="872" y="3"/>
                      <a:pt x="872" y="2"/>
                    </a:cubicBezTo>
                    <a:cubicBezTo>
                      <a:pt x="872" y="1"/>
                      <a:pt x="873" y="0"/>
                      <a:pt x="874" y="0"/>
                    </a:cubicBezTo>
                    <a:close/>
                    <a:moveTo>
                      <a:pt x="882" y="0"/>
                    </a:moveTo>
                    <a:lnTo>
                      <a:pt x="882" y="0"/>
                    </a:lnTo>
                    <a:cubicBezTo>
                      <a:pt x="883" y="0"/>
                      <a:pt x="884" y="1"/>
                      <a:pt x="884" y="2"/>
                    </a:cubicBezTo>
                    <a:cubicBezTo>
                      <a:pt x="884" y="3"/>
                      <a:pt x="883" y="4"/>
                      <a:pt x="882" y="4"/>
                    </a:cubicBezTo>
                    <a:lnTo>
                      <a:pt x="882" y="4"/>
                    </a:lnTo>
                    <a:cubicBezTo>
                      <a:pt x="881" y="4"/>
                      <a:pt x="880" y="3"/>
                      <a:pt x="880" y="2"/>
                    </a:cubicBezTo>
                    <a:cubicBezTo>
                      <a:pt x="880" y="1"/>
                      <a:pt x="881" y="0"/>
                      <a:pt x="882" y="0"/>
                    </a:cubicBezTo>
                    <a:close/>
                    <a:moveTo>
                      <a:pt x="890" y="0"/>
                    </a:moveTo>
                    <a:lnTo>
                      <a:pt x="890" y="0"/>
                    </a:lnTo>
                    <a:cubicBezTo>
                      <a:pt x="891" y="0"/>
                      <a:pt x="892" y="1"/>
                      <a:pt x="892" y="2"/>
                    </a:cubicBezTo>
                    <a:cubicBezTo>
                      <a:pt x="892" y="3"/>
                      <a:pt x="891" y="4"/>
                      <a:pt x="890" y="4"/>
                    </a:cubicBezTo>
                    <a:lnTo>
                      <a:pt x="890" y="4"/>
                    </a:lnTo>
                    <a:cubicBezTo>
                      <a:pt x="889" y="4"/>
                      <a:pt x="888" y="3"/>
                      <a:pt x="888" y="2"/>
                    </a:cubicBezTo>
                    <a:cubicBezTo>
                      <a:pt x="888" y="1"/>
                      <a:pt x="889" y="0"/>
                      <a:pt x="890" y="0"/>
                    </a:cubicBezTo>
                    <a:close/>
                    <a:moveTo>
                      <a:pt x="898" y="0"/>
                    </a:moveTo>
                    <a:lnTo>
                      <a:pt x="898" y="0"/>
                    </a:lnTo>
                    <a:cubicBezTo>
                      <a:pt x="899" y="0"/>
                      <a:pt x="900" y="1"/>
                      <a:pt x="900" y="2"/>
                    </a:cubicBezTo>
                    <a:cubicBezTo>
                      <a:pt x="900" y="3"/>
                      <a:pt x="899" y="4"/>
                      <a:pt x="898" y="4"/>
                    </a:cubicBezTo>
                    <a:lnTo>
                      <a:pt x="898" y="4"/>
                    </a:lnTo>
                    <a:cubicBezTo>
                      <a:pt x="897" y="4"/>
                      <a:pt x="896" y="3"/>
                      <a:pt x="896" y="2"/>
                    </a:cubicBezTo>
                    <a:cubicBezTo>
                      <a:pt x="896" y="1"/>
                      <a:pt x="897" y="0"/>
                      <a:pt x="898" y="0"/>
                    </a:cubicBezTo>
                    <a:close/>
                    <a:moveTo>
                      <a:pt x="906" y="0"/>
                    </a:moveTo>
                    <a:lnTo>
                      <a:pt x="906" y="0"/>
                    </a:lnTo>
                    <a:cubicBezTo>
                      <a:pt x="907" y="0"/>
                      <a:pt x="908" y="1"/>
                      <a:pt x="908" y="2"/>
                    </a:cubicBezTo>
                    <a:cubicBezTo>
                      <a:pt x="908" y="3"/>
                      <a:pt x="907" y="4"/>
                      <a:pt x="906" y="4"/>
                    </a:cubicBezTo>
                    <a:lnTo>
                      <a:pt x="906" y="4"/>
                    </a:lnTo>
                    <a:cubicBezTo>
                      <a:pt x="905" y="4"/>
                      <a:pt x="904" y="3"/>
                      <a:pt x="904" y="2"/>
                    </a:cubicBezTo>
                    <a:cubicBezTo>
                      <a:pt x="904" y="1"/>
                      <a:pt x="905" y="0"/>
                      <a:pt x="906" y="0"/>
                    </a:cubicBezTo>
                    <a:close/>
                    <a:moveTo>
                      <a:pt x="914" y="0"/>
                    </a:moveTo>
                    <a:lnTo>
                      <a:pt x="914" y="0"/>
                    </a:lnTo>
                    <a:cubicBezTo>
                      <a:pt x="915" y="0"/>
                      <a:pt x="916" y="1"/>
                      <a:pt x="916" y="2"/>
                    </a:cubicBezTo>
                    <a:cubicBezTo>
                      <a:pt x="916" y="3"/>
                      <a:pt x="915" y="4"/>
                      <a:pt x="914" y="4"/>
                    </a:cubicBezTo>
                    <a:lnTo>
                      <a:pt x="914" y="4"/>
                    </a:lnTo>
                    <a:cubicBezTo>
                      <a:pt x="913" y="4"/>
                      <a:pt x="912" y="3"/>
                      <a:pt x="912" y="2"/>
                    </a:cubicBezTo>
                    <a:cubicBezTo>
                      <a:pt x="912" y="1"/>
                      <a:pt x="913" y="0"/>
                      <a:pt x="914" y="0"/>
                    </a:cubicBezTo>
                    <a:close/>
                    <a:moveTo>
                      <a:pt x="922" y="0"/>
                    </a:moveTo>
                    <a:lnTo>
                      <a:pt x="922" y="0"/>
                    </a:lnTo>
                    <a:cubicBezTo>
                      <a:pt x="923" y="0"/>
                      <a:pt x="924" y="1"/>
                      <a:pt x="924" y="2"/>
                    </a:cubicBezTo>
                    <a:cubicBezTo>
                      <a:pt x="924" y="3"/>
                      <a:pt x="923" y="4"/>
                      <a:pt x="922" y="4"/>
                    </a:cubicBezTo>
                    <a:lnTo>
                      <a:pt x="922" y="4"/>
                    </a:lnTo>
                    <a:cubicBezTo>
                      <a:pt x="921" y="4"/>
                      <a:pt x="920" y="3"/>
                      <a:pt x="920" y="2"/>
                    </a:cubicBezTo>
                    <a:cubicBezTo>
                      <a:pt x="920" y="1"/>
                      <a:pt x="921" y="0"/>
                      <a:pt x="922" y="0"/>
                    </a:cubicBezTo>
                    <a:close/>
                    <a:moveTo>
                      <a:pt x="930" y="0"/>
                    </a:moveTo>
                    <a:lnTo>
                      <a:pt x="930" y="0"/>
                    </a:lnTo>
                    <a:cubicBezTo>
                      <a:pt x="931" y="0"/>
                      <a:pt x="932" y="1"/>
                      <a:pt x="932" y="2"/>
                    </a:cubicBezTo>
                    <a:cubicBezTo>
                      <a:pt x="932" y="3"/>
                      <a:pt x="931" y="4"/>
                      <a:pt x="930" y="4"/>
                    </a:cubicBezTo>
                    <a:lnTo>
                      <a:pt x="930" y="4"/>
                    </a:lnTo>
                    <a:cubicBezTo>
                      <a:pt x="929" y="4"/>
                      <a:pt x="928" y="3"/>
                      <a:pt x="928" y="2"/>
                    </a:cubicBezTo>
                    <a:cubicBezTo>
                      <a:pt x="928" y="1"/>
                      <a:pt x="929" y="0"/>
                      <a:pt x="930" y="0"/>
                    </a:cubicBezTo>
                    <a:close/>
                    <a:moveTo>
                      <a:pt x="938" y="0"/>
                    </a:moveTo>
                    <a:lnTo>
                      <a:pt x="938" y="0"/>
                    </a:lnTo>
                    <a:cubicBezTo>
                      <a:pt x="939" y="0"/>
                      <a:pt x="940" y="1"/>
                      <a:pt x="940" y="2"/>
                    </a:cubicBezTo>
                    <a:cubicBezTo>
                      <a:pt x="940" y="3"/>
                      <a:pt x="939" y="4"/>
                      <a:pt x="938" y="4"/>
                    </a:cubicBezTo>
                    <a:lnTo>
                      <a:pt x="938" y="4"/>
                    </a:lnTo>
                    <a:cubicBezTo>
                      <a:pt x="937" y="4"/>
                      <a:pt x="936" y="3"/>
                      <a:pt x="936" y="2"/>
                    </a:cubicBezTo>
                    <a:cubicBezTo>
                      <a:pt x="936" y="1"/>
                      <a:pt x="937" y="0"/>
                      <a:pt x="938" y="0"/>
                    </a:cubicBezTo>
                    <a:close/>
                    <a:moveTo>
                      <a:pt x="946" y="0"/>
                    </a:moveTo>
                    <a:lnTo>
                      <a:pt x="946" y="0"/>
                    </a:lnTo>
                    <a:cubicBezTo>
                      <a:pt x="947" y="0"/>
                      <a:pt x="948" y="1"/>
                      <a:pt x="948" y="2"/>
                    </a:cubicBezTo>
                    <a:cubicBezTo>
                      <a:pt x="948" y="3"/>
                      <a:pt x="947" y="4"/>
                      <a:pt x="946" y="4"/>
                    </a:cubicBezTo>
                    <a:lnTo>
                      <a:pt x="946" y="4"/>
                    </a:lnTo>
                    <a:cubicBezTo>
                      <a:pt x="945" y="4"/>
                      <a:pt x="944" y="3"/>
                      <a:pt x="944" y="2"/>
                    </a:cubicBezTo>
                    <a:cubicBezTo>
                      <a:pt x="944" y="1"/>
                      <a:pt x="945" y="0"/>
                      <a:pt x="946" y="0"/>
                    </a:cubicBezTo>
                    <a:close/>
                    <a:moveTo>
                      <a:pt x="954" y="0"/>
                    </a:moveTo>
                    <a:lnTo>
                      <a:pt x="954" y="0"/>
                    </a:lnTo>
                    <a:cubicBezTo>
                      <a:pt x="955" y="0"/>
                      <a:pt x="956" y="1"/>
                      <a:pt x="956" y="2"/>
                    </a:cubicBezTo>
                    <a:cubicBezTo>
                      <a:pt x="956" y="3"/>
                      <a:pt x="955" y="4"/>
                      <a:pt x="954" y="4"/>
                    </a:cubicBezTo>
                    <a:lnTo>
                      <a:pt x="954" y="4"/>
                    </a:lnTo>
                    <a:cubicBezTo>
                      <a:pt x="953" y="4"/>
                      <a:pt x="952" y="3"/>
                      <a:pt x="952" y="2"/>
                    </a:cubicBezTo>
                    <a:cubicBezTo>
                      <a:pt x="952" y="1"/>
                      <a:pt x="953" y="0"/>
                      <a:pt x="954" y="0"/>
                    </a:cubicBezTo>
                    <a:close/>
                    <a:moveTo>
                      <a:pt x="962" y="0"/>
                    </a:moveTo>
                    <a:lnTo>
                      <a:pt x="962" y="0"/>
                    </a:lnTo>
                    <a:cubicBezTo>
                      <a:pt x="963" y="0"/>
                      <a:pt x="964" y="1"/>
                      <a:pt x="964" y="2"/>
                    </a:cubicBezTo>
                    <a:cubicBezTo>
                      <a:pt x="964" y="3"/>
                      <a:pt x="963" y="4"/>
                      <a:pt x="962" y="4"/>
                    </a:cubicBezTo>
                    <a:lnTo>
                      <a:pt x="962" y="4"/>
                    </a:lnTo>
                    <a:cubicBezTo>
                      <a:pt x="961" y="4"/>
                      <a:pt x="960" y="3"/>
                      <a:pt x="960" y="2"/>
                    </a:cubicBezTo>
                    <a:cubicBezTo>
                      <a:pt x="960" y="1"/>
                      <a:pt x="961" y="0"/>
                      <a:pt x="962" y="0"/>
                    </a:cubicBezTo>
                    <a:close/>
                    <a:moveTo>
                      <a:pt x="970" y="0"/>
                    </a:moveTo>
                    <a:lnTo>
                      <a:pt x="970" y="0"/>
                    </a:lnTo>
                    <a:cubicBezTo>
                      <a:pt x="971" y="0"/>
                      <a:pt x="972" y="1"/>
                      <a:pt x="972" y="2"/>
                    </a:cubicBezTo>
                    <a:cubicBezTo>
                      <a:pt x="972" y="3"/>
                      <a:pt x="971" y="4"/>
                      <a:pt x="970" y="4"/>
                    </a:cubicBezTo>
                    <a:lnTo>
                      <a:pt x="970" y="4"/>
                    </a:lnTo>
                    <a:cubicBezTo>
                      <a:pt x="969" y="4"/>
                      <a:pt x="968" y="3"/>
                      <a:pt x="968" y="2"/>
                    </a:cubicBezTo>
                    <a:cubicBezTo>
                      <a:pt x="968" y="1"/>
                      <a:pt x="969" y="0"/>
                      <a:pt x="970" y="0"/>
                    </a:cubicBezTo>
                    <a:close/>
                    <a:moveTo>
                      <a:pt x="978" y="0"/>
                    </a:moveTo>
                    <a:lnTo>
                      <a:pt x="978" y="0"/>
                    </a:lnTo>
                    <a:cubicBezTo>
                      <a:pt x="979" y="0"/>
                      <a:pt x="980" y="1"/>
                      <a:pt x="980" y="2"/>
                    </a:cubicBezTo>
                    <a:cubicBezTo>
                      <a:pt x="980" y="3"/>
                      <a:pt x="979" y="4"/>
                      <a:pt x="978" y="4"/>
                    </a:cubicBezTo>
                    <a:lnTo>
                      <a:pt x="978" y="4"/>
                    </a:lnTo>
                    <a:cubicBezTo>
                      <a:pt x="977" y="4"/>
                      <a:pt x="976" y="3"/>
                      <a:pt x="976" y="2"/>
                    </a:cubicBezTo>
                    <a:cubicBezTo>
                      <a:pt x="976" y="1"/>
                      <a:pt x="977" y="0"/>
                      <a:pt x="978" y="0"/>
                    </a:cubicBezTo>
                    <a:close/>
                    <a:moveTo>
                      <a:pt x="986" y="0"/>
                    </a:moveTo>
                    <a:lnTo>
                      <a:pt x="986" y="0"/>
                    </a:lnTo>
                    <a:cubicBezTo>
                      <a:pt x="987" y="0"/>
                      <a:pt x="988" y="1"/>
                      <a:pt x="988" y="2"/>
                    </a:cubicBezTo>
                    <a:cubicBezTo>
                      <a:pt x="988" y="3"/>
                      <a:pt x="987" y="4"/>
                      <a:pt x="986" y="4"/>
                    </a:cubicBezTo>
                    <a:lnTo>
                      <a:pt x="986" y="4"/>
                    </a:lnTo>
                    <a:cubicBezTo>
                      <a:pt x="985" y="4"/>
                      <a:pt x="984" y="3"/>
                      <a:pt x="984" y="2"/>
                    </a:cubicBezTo>
                    <a:cubicBezTo>
                      <a:pt x="984" y="1"/>
                      <a:pt x="985" y="0"/>
                      <a:pt x="986" y="0"/>
                    </a:cubicBezTo>
                    <a:close/>
                    <a:moveTo>
                      <a:pt x="994" y="0"/>
                    </a:moveTo>
                    <a:lnTo>
                      <a:pt x="994" y="0"/>
                    </a:lnTo>
                    <a:cubicBezTo>
                      <a:pt x="995" y="0"/>
                      <a:pt x="996" y="1"/>
                      <a:pt x="996" y="2"/>
                    </a:cubicBezTo>
                    <a:cubicBezTo>
                      <a:pt x="996" y="3"/>
                      <a:pt x="995" y="4"/>
                      <a:pt x="994" y="4"/>
                    </a:cubicBezTo>
                    <a:lnTo>
                      <a:pt x="994" y="4"/>
                    </a:lnTo>
                    <a:cubicBezTo>
                      <a:pt x="993" y="4"/>
                      <a:pt x="992" y="3"/>
                      <a:pt x="992" y="2"/>
                    </a:cubicBezTo>
                    <a:cubicBezTo>
                      <a:pt x="992" y="1"/>
                      <a:pt x="993" y="0"/>
                      <a:pt x="994" y="0"/>
                    </a:cubicBezTo>
                    <a:close/>
                    <a:moveTo>
                      <a:pt x="1002" y="0"/>
                    </a:moveTo>
                    <a:lnTo>
                      <a:pt x="1002" y="0"/>
                    </a:lnTo>
                    <a:cubicBezTo>
                      <a:pt x="1003" y="0"/>
                      <a:pt x="1004" y="1"/>
                      <a:pt x="1004" y="2"/>
                    </a:cubicBezTo>
                    <a:cubicBezTo>
                      <a:pt x="1004" y="3"/>
                      <a:pt x="1003" y="4"/>
                      <a:pt x="1002" y="4"/>
                    </a:cubicBezTo>
                    <a:lnTo>
                      <a:pt x="1002" y="4"/>
                    </a:lnTo>
                    <a:cubicBezTo>
                      <a:pt x="1001" y="4"/>
                      <a:pt x="1000" y="3"/>
                      <a:pt x="1000" y="2"/>
                    </a:cubicBezTo>
                    <a:cubicBezTo>
                      <a:pt x="1000" y="1"/>
                      <a:pt x="1001" y="0"/>
                      <a:pt x="1002" y="0"/>
                    </a:cubicBezTo>
                    <a:close/>
                    <a:moveTo>
                      <a:pt x="1010" y="0"/>
                    </a:moveTo>
                    <a:lnTo>
                      <a:pt x="1010" y="0"/>
                    </a:lnTo>
                    <a:cubicBezTo>
                      <a:pt x="1011" y="0"/>
                      <a:pt x="1012" y="1"/>
                      <a:pt x="1012" y="2"/>
                    </a:cubicBezTo>
                    <a:cubicBezTo>
                      <a:pt x="1012" y="3"/>
                      <a:pt x="1011" y="4"/>
                      <a:pt x="1010" y="4"/>
                    </a:cubicBezTo>
                    <a:lnTo>
                      <a:pt x="1010" y="4"/>
                    </a:lnTo>
                    <a:cubicBezTo>
                      <a:pt x="1009" y="4"/>
                      <a:pt x="1008" y="3"/>
                      <a:pt x="1008" y="2"/>
                    </a:cubicBezTo>
                    <a:cubicBezTo>
                      <a:pt x="1008" y="1"/>
                      <a:pt x="1009" y="0"/>
                      <a:pt x="1010" y="0"/>
                    </a:cubicBezTo>
                    <a:close/>
                    <a:moveTo>
                      <a:pt x="1018" y="0"/>
                    </a:moveTo>
                    <a:lnTo>
                      <a:pt x="1018" y="0"/>
                    </a:lnTo>
                    <a:cubicBezTo>
                      <a:pt x="1019" y="0"/>
                      <a:pt x="1020" y="1"/>
                      <a:pt x="1020" y="2"/>
                    </a:cubicBezTo>
                    <a:cubicBezTo>
                      <a:pt x="1020" y="3"/>
                      <a:pt x="1019" y="4"/>
                      <a:pt x="1018" y="4"/>
                    </a:cubicBezTo>
                    <a:lnTo>
                      <a:pt x="1018" y="4"/>
                    </a:lnTo>
                    <a:cubicBezTo>
                      <a:pt x="1017" y="4"/>
                      <a:pt x="1016" y="3"/>
                      <a:pt x="1016" y="2"/>
                    </a:cubicBezTo>
                    <a:cubicBezTo>
                      <a:pt x="1016" y="1"/>
                      <a:pt x="1017" y="0"/>
                      <a:pt x="1018" y="0"/>
                    </a:cubicBezTo>
                    <a:close/>
                    <a:moveTo>
                      <a:pt x="1026" y="0"/>
                    </a:moveTo>
                    <a:lnTo>
                      <a:pt x="1026" y="0"/>
                    </a:lnTo>
                    <a:cubicBezTo>
                      <a:pt x="1027" y="0"/>
                      <a:pt x="1028" y="1"/>
                      <a:pt x="1028" y="2"/>
                    </a:cubicBezTo>
                    <a:cubicBezTo>
                      <a:pt x="1028" y="3"/>
                      <a:pt x="1027" y="4"/>
                      <a:pt x="1026" y="4"/>
                    </a:cubicBezTo>
                    <a:lnTo>
                      <a:pt x="1026" y="4"/>
                    </a:lnTo>
                    <a:cubicBezTo>
                      <a:pt x="1025" y="4"/>
                      <a:pt x="1024" y="3"/>
                      <a:pt x="1024" y="2"/>
                    </a:cubicBezTo>
                    <a:cubicBezTo>
                      <a:pt x="1024" y="1"/>
                      <a:pt x="1025" y="0"/>
                      <a:pt x="1026" y="0"/>
                    </a:cubicBezTo>
                    <a:close/>
                    <a:moveTo>
                      <a:pt x="1034" y="0"/>
                    </a:moveTo>
                    <a:lnTo>
                      <a:pt x="1034" y="0"/>
                    </a:lnTo>
                    <a:cubicBezTo>
                      <a:pt x="1035" y="0"/>
                      <a:pt x="1036" y="1"/>
                      <a:pt x="1036" y="2"/>
                    </a:cubicBezTo>
                    <a:cubicBezTo>
                      <a:pt x="1036" y="3"/>
                      <a:pt x="1035" y="4"/>
                      <a:pt x="1034" y="4"/>
                    </a:cubicBezTo>
                    <a:lnTo>
                      <a:pt x="1034" y="4"/>
                    </a:lnTo>
                    <a:cubicBezTo>
                      <a:pt x="1033" y="4"/>
                      <a:pt x="1032" y="3"/>
                      <a:pt x="1032" y="2"/>
                    </a:cubicBezTo>
                    <a:cubicBezTo>
                      <a:pt x="1032" y="1"/>
                      <a:pt x="1033" y="0"/>
                      <a:pt x="1034" y="0"/>
                    </a:cubicBezTo>
                    <a:close/>
                    <a:moveTo>
                      <a:pt x="1042" y="0"/>
                    </a:moveTo>
                    <a:lnTo>
                      <a:pt x="1042" y="0"/>
                    </a:lnTo>
                    <a:cubicBezTo>
                      <a:pt x="1043" y="0"/>
                      <a:pt x="1044" y="1"/>
                      <a:pt x="1044" y="2"/>
                    </a:cubicBezTo>
                    <a:cubicBezTo>
                      <a:pt x="1044" y="3"/>
                      <a:pt x="1043" y="4"/>
                      <a:pt x="1042" y="4"/>
                    </a:cubicBezTo>
                    <a:lnTo>
                      <a:pt x="1042" y="4"/>
                    </a:lnTo>
                    <a:cubicBezTo>
                      <a:pt x="1041" y="4"/>
                      <a:pt x="1040" y="3"/>
                      <a:pt x="1040" y="2"/>
                    </a:cubicBezTo>
                    <a:cubicBezTo>
                      <a:pt x="1040" y="1"/>
                      <a:pt x="1041" y="0"/>
                      <a:pt x="1042" y="0"/>
                    </a:cubicBezTo>
                    <a:close/>
                    <a:moveTo>
                      <a:pt x="1050" y="0"/>
                    </a:moveTo>
                    <a:lnTo>
                      <a:pt x="1050" y="0"/>
                    </a:lnTo>
                    <a:cubicBezTo>
                      <a:pt x="1051" y="0"/>
                      <a:pt x="1052" y="1"/>
                      <a:pt x="1052" y="2"/>
                    </a:cubicBezTo>
                    <a:cubicBezTo>
                      <a:pt x="1052" y="3"/>
                      <a:pt x="1051" y="4"/>
                      <a:pt x="1050" y="4"/>
                    </a:cubicBezTo>
                    <a:lnTo>
                      <a:pt x="1050" y="4"/>
                    </a:lnTo>
                    <a:cubicBezTo>
                      <a:pt x="1049" y="4"/>
                      <a:pt x="1048" y="3"/>
                      <a:pt x="1048" y="2"/>
                    </a:cubicBezTo>
                    <a:cubicBezTo>
                      <a:pt x="1048" y="1"/>
                      <a:pt x="1049" y="0"/>
                      <a:pt x="1050" y="0"/>
                    </a:cubicBezTo>
                    <a:close/>
                    <a:moveTo>
                      <a:pt x="1058" y="0"/>
                    </a:moveTo>
                    <a:lnTo>
                      <a:pt x="1058" y="0"/>
                    </a:lnTo>
                    <a:cubicBezTo>
                      <a:pt x="1059" y="0"/>
                      <a:pt x="1060" y="1"/>
                      <a:pt x="1060" y="2"/>
                    </a:cubicBezTo>
                    <a:cubicBezTo>
                      <a:pt x="1060" y="3"/>
                      <a:pt x="1059" y="4"/>
                      <a:pt x="1058" y="4"/>
                    </a:cubicBezTo>
                    <a:lnTo>
                      <a:pt x="1058" y="4"/>
                    </a:lnTo>
                    <a:cubicBezTo>
                      <a:pt x="1057" y="4"/>
                      <a:pt x="1056" y="3"/>
                      <a:pt x="1056" y="2"/>
                    </a:cubicBezTo>
                    <a:cubicBezTo>
                      <a:pt x="1056" y="1"/>
                      <a:pt x="1057" y="0"/>
                      <a:pt x="1058" y="0"/>
                    </a:cubicBezTo>
                    <a:close/>
                    <a:moveTo>
                      <a:pt x="1066" y="0"/>
                    </a:moveTo>
                    <a:lnTo>
                      <a:pt x="1066" y="0"/>
                    </a:lnTo>
                    <a:cubicBezTo>
                      <a:pt x="1067" y="0"/>
                      <a:pt x="1068" y="1"/>
                      <a:pt x="1068" y="2"/>
                    </a:cubicBezTo>
                    <a:cubicBezTo>
                      <a:pt x="1068" y="3"/>
                      <a:pt x="1067" y="4"/>
                      <a:pt x="1066" y="4"/>
                    </a:cubicBezTo>
                    <a:lnTo>
                      <a:pt x="1066" y="4"/>
                    </a:lnTo>
                    <a:cubicBezTo>
                      <a:pt x="1065" y="4"/>
                      <a:pt x="1064" y="3"/>
                      <a:pt x="1064" y="2"/>
                    </a:cubicBezTo>
                    <a:cubicBezTo>
                      <a:pt x="1064" y="1"/>
                      <a:pt x="1065" y="0"/>
                      <a:pt x="1066" y="0"/>
                    </a:cubicBezTo>
                    <a:close/>
                    <a:moveTo>
                      <a:pt x="1074" y="0"/>
                    </a:moveTo>
                    <a:lnTo>
                      <a:pt x="1074" y="0"/>
                    </a:lnTo>
                    <a:cubicBezTo>
                      <a:pt x="1075" y="0"/>
                      <a:pt x="1076" y="1"/>
                      <a:pt x="1076" y="2"/>
                    </a:cubicBezTo>
                    <a:cubicBezTo>
                      <a:pt x="1076" y="3"/>
                      <a:pt x="1075" y="4"/>
                      <a:pt x="1074" y="4"/>
                    </a:cubicBezTo>
                    <a:lnTo>
                      <a:pt x="1074" y="4"/>
                    </a:lnTo>
                    <a:cubicBezTo>
                      <a:pt x="1073" y="4"/>
                      <a:pt x="1072" y="3"/>
                      <a:pt x="1072" y="2"/>
                    </a:cubicBezTo>
                    <a:cubicBezTo>
                      <a:pt x="1072" y="1"/>
                      <a:pt x="1073" y="0"/>
                      <a:pt x="1074" y="0"/>
                    </a:cubicBezTo>
                    <a:close/>
                    <a:moveTo>
                      <a:pt x="1082" y="0"/>
                    </a:moveTo>
                    <a:lnTo>
                      <a:pt x="1082" y="0"/>
                    </a:lnTo>
                    <a:cubicBezTo>
                      <a:pt x="1083" y="0"/>
                      <a:pt x="1084" y="1"/>
                      <a:pt x="1084" y="2"/>
                    </a:cubicBezTo>
                    <a:cubicBezTo>
                      <a:pt x="1084" y="3"/>
                      <a:pt x="1083" y="4"/>
                      <a:pt x="1082" y="4"/>
                    </a:cubicBezTo>
                    <a:lnTo>
                      <a:pt x="1082" y="4"/>
                    </a:lnTo>
                    <a:cubicBezTo>
                      <a:pt x="1081" y="4"/>
                      <a:pt x="1080" y="3"/>
                      <a:pt x="1080" y="2"/>
                    </a:cubicBezTo>
                    <a:cubicBezTo>
                      <a:pt x="1080" y="1"/>
                      <a:pt x="1081" y="0"/>
                      <a:pt x="1082" y="0"/>
                    </a:cubicBezTo>
                    <a:close/>
                    <a:moveTo>
                      <a:pt x="1090" y="0"/>
                    </a:moveTo>
                    <a:lnTo>
                      <a:pt x="1090" y="0"/>
                    </a:lnTo>
                    <a:cubicBezTo>
                      <a:pt x="1091" y="0"/>
                      <a:pt x="1092" y="1"/>
                      <a:pt x="1092" y="2"/>
                    </a:cubicBezTo>
                    <a:cubicBezTo>
                      <a:pt x="1092" y="3"/>
                      <a:pt x="1091" y="4"/>
                      <a:pt x="1090" y="4"/>
                    </a:cubicBezTo>
                    <a:lnTo>
                      <a:pt x="1090" y="4"/>
                    </a:lnTo>
                    <a:cubicBezTo>
                      <a:pt x="1089" y="4"/>
                      <a:pt x="1088" y="3"/>
                      <a:pt x="1088" y="2"/>
                    </a:cubicBezTo>
                    <a:cubicBezTo>
                      <a:pt x="1088" y="1"/>
                      <a:pt x="1089" y="0"/>
                      <a:pt x="1090" y="0"/>
                    </a:cubicBezTo>
                    <a:close/>
                    <a:moveTo>
                      <a:pt x="1098" y="0"/>
                    </a:moveTo>
                    <a:lnTo>
                      <a:pt x="1098" y="0"/>
                    </a:lnTo>
                    <a:cubicBezTo>
                      <a:pt x="1099" y="0"/>
                      <a:pt x="1100" y="1"/>
                      <a:pt x="1100" y="2"/>
                    </a:cubicBezTo>
                    <a:cubicBezTo>
                      <a:pt x="1100" y="3"/>
                      <a:pt x="1099" y="4"/>
                      <a:pt x="1098" y="4"/>
                    </a:cubicBezTo>
                    <a:lnTo>
                      <a:pt x="1098" y="4"/>
                    </a:lnTo>
                    <a:cubicBezTo>
                      <a:pt x="1097" y="4"/>
                      <a:pt x="1096" y="3"/>
                      <a:pt x="1096" y="2"/>
                    </a:cubicBezTo>
                    <a:cubicBezTo>
                      <a:pt x="1096" y="1"/>
                      <a:pt x="1097" y="0"/>
                      <a:pt x="1098" y="0"/>
                    </a:cubicBezTo>
                    <a:close/>
                    <a:moveTo>
                      <a:pt x="1106" y="0"/>
                    </a:moveTo>
                    <a:lnTo>
                      <a:pt x="1106" y="0"/>
                    </a:lnTo>
                    <a:cubicBezTo>
                      <a:pt x="1107" y="0"/>
                      <a:pt x="1108" y="1"/>
                      <a:pt x="1108" y="2"/>
                    </a:cubicBezTo>
                    <a:cubicBezTo>
                      <a:pt x="1108" y="3"/>
                      <a:pt x="1107" y="4"/>
                      <a:pt x="1106" y="4"/>
                    </a:cubicBezTo>
                    <a:lnTo>
                      <a:pt x="1106" y="4"/>
                    </a:lnTo>
                    <a:cubicBezTo>
                      <a:pt x="1105" y="4"/>
                      <a:pt x="1104" y="3"/>
                      <a:pt x="1104" y="2"/>
                    </a:cubicBezTo>
                    <a:cubicBezTo>
                      <a:pt x="1104" y="1"/>
                      <a:pt x="1105" y="0"/>
                      <a:pt x="1106" y="0"/>
                    </a:cubicBezTo>
                    <a:close/>
                    <a:moveTo>
                      <a:pt x="1114" y="0"/>
                    </a:moveTo>
                    <a:lnTo>
                      <a:pt x="1114" y="0"/>
                    </a:lnTo>
                    <a:cubicBezTo>
                      <a:pt x="1115" y="0"/>
                      <a:pt x="1116" y="1"/>
                      <a:pt x="1116" y="2"/>
                    </a:cubicBezTo>
                    <a:cubicBezTo>
                      <a:pt x="1116" y="3"/>
                      <a:pt x="1115" y="4"/>
                      <a:pt x="1114" y="4"/>
                    </a:cubicBezTo>
                    <a:lnTo>
                      <a:pt x="1114" y="4"/>
                    </a:lnTo>
                    <a:cubicBezTo>
                      <a:pt x="1113" y="4"/>
                      <a:pt x="1112" y="3"/>
                      <a:pt x="1112" y="2"/>
                    </a:cubicBezTo>
                    <a:cubicBezTo>
                      <a:pt x="1112" y="1"/>
                      <a:pt x="1113" y="0"/>
                      <a:pt x="1114" y="0"/>
                    </a:cubicBezTo>
                    <a:close/>
                    <a:moveTo>
                      <a:pt x="1122" y="0"/>
                    </a:moveTo>
                    <a:lnTo>
                      <a:pt x="1122" y="0"/>
                    </a:lnTo>
                    <a:cubicBezTo>
                      <a:pt x="1123" y="0"/>
                      <a:pt x="1124" y="1"/>
                      <a:pt x="1124" y="2"/>
                    </a:cubicBezTo>
                    <a:cubicBezTo>
                      <a:pt x="1124" y="3"/>
                      <a:pt x="1123" y="4"/>
                      <a:pt x="1122" y="4"/>
                    </a:cubicBezTo>
                    <a:lnTo>
                      <a:pt x="1122" y="4"/>
                    </a:lnTo>
                    <a:cubicBezTo>
                      <a:pt x="1121" y="4"/>
                      <a:pt x="1120" y="3"/>
                      <a:pt x="1120" y="2"/>
                    </a:cubicBezTo>
                    <a:cubicBezTo>
                      <a:pt x="1120" y="1"/>
                      <a:pt x="1121" y="0"/>
                      <a:pt x="1122" y="0"/>
                    </a:cubicBezTo>
                    <a:close/>
                    <a:moveTo>
                      <a:pt x="1130" y="0"/>
                    </a:moveTo>
                    <a:lnTo>
                      <a:pt x="1130" y="0"/>
                    </a:lnTo>
                    <a:cubicBezTo>
                      <a:pt x="1131" y="0"/>
                      <a:pt x="1132" y="1"/>
                      <a:pt x="1132" y="2"/>
                    </a:cubicBezTo>
                    <a:cubicBezTo>
                      <a:pt x="1132" y="3"/>
                      <a:pt x="1131" y="4"/>
                      <a:pt x="1130" y="4"/>
                    </a:cubicBezTo>
                    <a:lnTo>
                      <a:pt x="1130" y="4"/>
                    </a:lnTo>
                    <a:cubicBezTo>
                      <a:pt x="1129" y="4"/>
                      <a:pt x="1128" y="3"/>
                      <a:pt x="1128" y="2"/>
                    </a:cubicBezTo>
                    <a:cubicBezTo>
                      <a:pt x="1128" y="1"/>
                      <a:pt x="1129" y="0"/>
                      <a:pt x="1130" y="0"/>
                    </a:cubicBezTo>
                    <a:close/>
                    <a:moveTo>
                      <a:pt x="1138" y="0"/>
                    </a:moveTo>
                    <a:lnTo>
                      <a:pt x="1138" y="0"/>
                    </a:lnTo>
                    <a:cubicBezTo>
                      <a:pt x="1139" y="0"/>
                      <a:pt x="1140" y="1"/>
                      <a:pt x="1140" y="2"/>
                    </a:cubicBezTo>
                    <a:cubicBezTo>
                      <a:pt x="1140" y="3"/>
                      <a:pt x="1139" y="4"/>
                      <a:pt x="1138" y="4"/>
                    </a:cubicBezTo>
                    <a:lnTo>
                      <a:pt x="1138" y="4"/>
                    </a:lnTo>
                    <a:cubicBezTo>
                      <a:pt x="1137" y="4"/>
                      <a:pt x="1136" y="3"/>
                      <a:pt x="1136" y="2"/>
                    </a:cubicBezTo>
                    <a:cubicBezTo>
                      <a:pt x="1136" y="1"/>
                      <a:pt x="1137" y="0"/>
                      <a:pt x="1138" y="0"/>
                    </a:cubicBezTo>
                    <a:close/>
                    <a:moveTo>
                      <a:pt x="1146" y="0"/>
                    </a:moveTo>
                    <a:lnTo>
                      <a:pt x="1146" y="0"/>
                    </a:lnTo>
                    <a:cubicBezTo>
                      <a:pt x="1147" y="0"/>
                      <a:pt x="1148" y="1"/>
                      <a:pt x="1148" y="2"/>
                    </a:cubicBezTo>
                    <a:cubicBezTo>
                      <a:pt x="1148" y="3"/>
                      <a:pt x="1147" y="4"/>
                      <a:pt x="1146" y="4"/>
                    </a:cubicBezTo>
                    <a:lnTo>
                      <a:pt x="1146" y="4"/>
                    </a:lnTo>
                    <a:cubicBezTo>
                      <a:pt x="1145" y="4"/>
                      <a:pt x="1144" y="3"/>
                      <a:pt x="1144" y="2"/>
                    </a:cubicBezTo>
                    <a:cubicBezTo>
                      <a:pt x="1144" y="1"/>
                      <a:pt x="1145" y="0"/>
                      <a:pt x="1146" y="0"/>
                    </a:cubicBezTo>
                    <a:close/>
                    <a:moveTo>
                      <a:pt x="1154" y="0"/>
                    </a:moveTo>
                    <a:lnTo>
                      <a:pt x="1154" y="0"/>
                    </a:lnTo>
                    <a:cubicBezTo>
                      <a:pt x="1155" y="0"/>
                      <a:pt x="1156" y="1"/>
                      <a:pt x="1156" y="2"/>
                    </a:cubicBezTo>
                    <a:cubicBezTo>
                      <a:pt x="1156" y="3"/>
                      <a:pt x="1155" y="4"/>
                      <a:pt x="1154" y="4"/>
                    </a:cubicBezTo>
                    <a:lnTo>
                      <a:pt x="1154" y="4"/>
                    </a:lnTo>
                    <a:cubicBezTo>
                      <a:pt x="1153" y="4"/>
                      <a:pt x="1152" y="3"/>
                      <a:pt x="1152" y="2"/>
                    </a:cubicBezTo>
                    <a:cubicBezTo>
                      <a:pt x="1152" y="1"/>
                      <a:pt x="1153" y="0"/>
                      <a:pt x="1154" y="0"/>
                    </a:cubicBezTo>
                    <a:close/>
                    <a:moveTo>
                      <a:pt x="1162" y="0"/>
                    </a:moveTo>
                    <a:lnTo>
                      <a:pt x="1162" y="0"/>
                    </a:lnTo>
                    <a:cubicBezTo>
                      <a:pt x="1163" y="0"/>
                      <a:pt x="1164" y="1"/>
                      <a:pt x="1164" y="2"/>
                    </a:cubicBezTo>
                    <a:cubicBezTo>
                      <a:pt x="1164" y="3"/>
                      <a:pt x="1163" y="4"/>
                      <a:pt x="1162" y="4"/>
                    </a:cubicBezTo>
                    <a:lnTo>
                      <a:pt x="1162" y="4"/>
                    </a:lnTo>
                    <a:cubicBezTo>
                      <a:pt x="1161" y="4"/>
                      <a:pt x="1160" y="3"/>
                      <a:pt x="1160" y="2"/>
                    </a:cubicBezTo>
                    <a:cubicBezTo>
                      <a:pt x="1160" y="1"/>
                      <a:pt x="1161" y="0"/>
                      <a:pt x="1162" y="0"/>
                    </a:cubicBezTo>
                    <a:close/>
                    <a:moveTo>
                      <a:pt x="1170" y="0"/>
                    </a:moveTo>
                    <a:lnTo>
                      <a:pt x="1170" y="0"/>
                    </a:lnTo>
                    <a:cubicBezTo>
                      <a:pt x="1171" y="0"/>
                      <a:pt x="1172" y="1"/>
                      <a:pt x="1172" y="2"/>
                    </a:cubicBezTo>
                    <a:cubicBezTo>
                      <a:pt x="1172" y="3"/>
                      <a:pt x="1171" y="4"/>
                      <a:pt x="1170" y="4"/>
                    </a:cubicBezTo>
                    <a:lnTo>
                      <a:pt x="1170" y="4"/>
                    </a:lnTo>
                    <a:cubicBezTo>
                      <a:pt x="1169" y="4"/>
                      <a:pt x="1168" y="3"/>
                      <a:pt x="1168" y="2"/>
                    </a:cubicBezTo>
                    <a:cubicBezTo>
                      <a:pt x="1168" y="1"/>
                      <a:pt x="1169" y="0"/>
                      <a:pt x="1170" y="0"/>
                    </a:cubicBezTo>
                    <a:close/>
                    <a:moveTo>
                      <a:pt x="1178" y="0"/>
                    </a:moveTo>
                    <a:lnTo>
                      <a:pt x="1178" y="0"/>
                    </a:lnTo>
                    <a:cubicBezTo>
                      <a:pt x="1179" y="0"/>
                      <a:pt x="1180" y="1"/>
                      <a:pt x="1180" y="2"/>
                    </a:cubicBezTo>
                    <a:cubicBezTo>
                      <a:pt x="1180" y="3"/>
                      <a:pt x="1179" y="4"/>
                      <a:pt x="1178" y="4"/>
                    </a:cubicBezTo>
                    <a:lnTo>
                      <a:pt x="1178" y="4"/>
                    </a:lnTo>
                    <a:cubicBezTo>
                      <a:pt x="1177" y="4"/>
                      <a:pt x="1176" y="3"/>
                      <a:pt x="1176" y="2"/>
                    </a:cubicBezTo>
                    <a:cubicBezTo>
                      <a:pt x="1176" y="1"/>
                      <a:pt x="1177" y="0"/>
                      <a:pt x="1178" y="0"/>
                    </a:cubicBezTo>
                    <a:close/>
                    <a:moveTo>
                      <a:pt x="1186" y="0"/>
                    </a:moveTo>
                    <a:lnTo>
                      <a:pt x="1186" y="0"/>
                    </a:lnTo>
                    <a:cubicBezTo>
                      <a:pt x="1187" y="0"/>
                      <a:pt x="1188" y="1"/>
                      <a:pt x="1188" y="2"/>
                    </a:cubicBezTo>
                    <a:cubicBezTo>
                      <a:pt x="1188" y="3"/>
                      <a:pt x="1187" y="4"/>
                      <a:pt x="1186" y="4"/>
                    </a:cubicBezTo>
                    <a:lnTo>
                      <a:pt x="1186" y="4"/>
                    </a:lnTo>
                    <a:cubicBezTo>
                      <a:pt x="1185" y="4"/>
                      <a:pt x="1184" y="3"/>
                      <a:pt x="1184" y="2"/>
                    </a:cubicBezTo>
                    <a:cubicBezTo>
                      <a:pt x="1184" y="1"/>
                      <a:pt x="1185" y="0"/>
                      <a:pt x="1186" y="0"/>
                    </a:cubicBezTo>
                    <a:close/>
                    <a:moveTo>
                      <a:pt x="1194" y="0"/>
                    </a:moveTo>
                    <a:lnTo>
                      <a:pt x="1194" y="0"/>
                    </a:lnTo>
                    <a:cubicBezTo>
                      <a:pt x="1195" y="0"/>
                      <a:pt x="1196" y="1"/>
                      <a:pt x="1196" y="2"/>
                    </a:cubicBezTo>
                    <a:cubicBezTo>
                      <a:pt x="1196" y="3"/>
                      <a:pt x="1195" y="4"/>
                      <a:pt x="1194" y="4"/>
                    </a:cubicBezTo>
                    <a:lnTo>
                      <a:pt x="1194" y="4"/>
                    </a:lnTo>
                    <a:cubicBezTo>
                      <a:pt x="1193" y="4"/>
                      <a:pt x="1192" y="3"/>
                      <a:pt x="1192" y="2"/>
                    </a:cubicBezTo>
                    <a:cubicBezTo>
                      <a:pt x="1192" y="1"/>
                      <a:pt x="1193" y="0"/>
                      <a:pt x="1194" y="0"/>
                    </a:cubicBezTo>
                    <a:close/>
                    <a:moveTo>
                      <a:pt x="1202" y="0"/>
                    </a:moveTo>
                    <a:lnTo>
                      <a:pt x="1202" y="0"/>
                    </a:lnTo>
                    <a:cubicBezTo>
                      <a:pt x="1203" y="0"/>
                      <a:pt x="1204" y="1"/>
                      <a:pt x="1204" y="2"/>
                    </a:cubicBezTo>
                    <a:cubicBezTo>
                      <a:pt x="1204" y="3"/>
                      <a:pt x="1203" y="4"/>
                      <a:pt x="1202" y="4"/>
                    </a:cubicBezTo>
                    <a:lnTo>
                      <a:pt x="1202" y="4"/>
                    </a:lnTo>
                    <a:cubicBezTo>
                      <a:pt x="1201" y="4"/>
                      <a:pt x="1200" y="3"/>
                      <a:pt x="1200" y="2"/>
                    </a:cubicBezTo>
                    <a:cubicBezTo>
                      <a:pt x="1200" y="1"/>
                      <a:pt x="1201" y="0"/>
                      <a:pt x="1202" y="0"/>
                    </a:cubicBezTo>
                    <a:close/>
                    <a:moveTo>
                      <a:pt x="1210" y="0"/>
                    </a:moveTo>
                    <a:lnTo>
                      <a:pt x="1210" y="0"/>
                    </a:lnTo>
                    <a:cubicBezTo>
                      <a:pt x="1212" y="0"/>
                      <a:pt x="1212" y="1"/>
                      <a:pt x="1212" y="2"/>
                    </a:cubicBezTo>
                    <a:cubicBezTo>
                      <a:pt x="1212" y="3"/>
                      <a:pt x="1212" y="4"/>
                      <a:pt x="1210" y="4"/>
                    </a:cubicBezTo>
                    <a:lnTo>
                      <a:pt x="1210" y="4"/>
                    </a:lnTo>
                    <a:cubicBezTo>
                      <a:pt x="1209" y="4"/>
                      <a:pt x="1208" y="3"/>
                      <a:pt x="1208" y="2"/>
                    </a:cubicBezTo>
                    <a:cubicBezTo>
                      <a:pt x="1208" y="1"/>
                      <a:pt x="1209" y="0"/>
                      <a:pt x="1210" y="0"/>
                    </a:cubicBezTo>
                    <a:close/>
                    <a:moveTo>
                      <a:pt x="1218" y="0"/>
                    </a:moveTo>
                    <a:lnTo>
                      <a:pt x="1218" y="0"/>
                    </a:lnTo>
                    <a:cubicBezTo>
                      <a:pt x="1220" y="0"/>
                      <a:pt x="1220" y="1"/>
                      <a:pt x="1220" y="2"/>
                    </a:cubicBezTo>
                    <a:cubicBezTo>
                      <a:pt x="1220" y="3"/>
                      <a:pt x="1220" y="4"/>
                      <a:pt x="1218" y="4"/>
                    </a:cubicBezTo>
                    <a:lnTo>
                      <a:pt x="1218" y="4"/>
                    </a:lnTo>
                    <a:cubicBezTo>
                      <a:pt x="1217" y="4"/>
                      <a:pt x="1216" y="3"/>
                      <a:pt x="1216" y="2"/>
                    </a:cubicBezTo>
                    <a:cubicBezTo>
                      <a:pt x="1216" y="1"/>
                      <a:pt x="1217" y="0"/>
                      <a:pt x="1218" y="0"/>
                    </a:cubicBezTo>
                    <a:close/>
                    <a:moveTo>
                      <a:pt x="1226" y="0"/>
                    </a:moveTo>
                    <a:lnTo>
                      <a:pt x="1226" y="0"/>
                    </a:lnTo>
                    <a:cubicBezTo>
                      <a:pt x="1228" y="0"/>
                      <a:pt x="1228" y="1"/>
                      <a:pt x="1228" y="2"/>
                    </a:cubicBezTo>
                    <a:cubicBezTo>
                      <a:pt x="1228" y="3"/>
                      <a:pt x="1228" y="4"/>
                      <a:pt x="1226" y="4"/>
                    </a:cubicBezTo>
                    <a:lnTo>
                      <a:pt x="1226" y="4"/>
                    </a:lnTo>
                    <a:cubicBezTo>
                      <a:pt x="1225" y="4"/>
                      <a:pt x="1224" y="3"/>
                      <a:pt x="1224" y="2"/>
                    </a:cubicBezTo>
                    <a:cubicBezTo>
                      <a:pt x="1224" y="1"/>
                      <a:pt x="1225" y="0"/>
                      <a:pt x="1226" y="0"/>
                    </a:cubicBezTo>
                    <a:close/>
                    <a:moveTo>
                      <a:pt x="1234" y="0"/>
                    </a:moveTo>
                    <a:lnTo>
                      <a:pt x="1234" y="0"/>
                    </a:lnTo>
                    <a:cubicBezTo>
                      <a:pt x="1236" y="0"/>
                      <a:pt x="1236" y="1"/>
                      <a:pt x="1236" y="2"/>
                    </a:cubicBezTo>
                    <a:cubicBezTo>
                      <a:pt x="1236" y="3"/>
                      <a:pt x="1236" y="4"/>
                      <a:pt x="1234" y="4"/>
                    </a:cubicBezTo>
                    <a:lnTo>
                      <a:pt x="1234" y="4"/>
                    </a:lnTo>
                    <a:cubicBezTo>
                      <a:pt x="1233" y="4"/>
                      <a:pt x="1232" y="3"/>
                      <a:pt x="1232" y="2"/>
                    </a:cubicBezTo>
                    <a:cubicBezTo>
                      <a:pt x="1232" y="1"/>
                      <a:pt x="1233" y="0"/>
                      <a:pt x="1234" y="0"/>
                    </a:cubicBezTo>
                    <a:close/>
                    <a:moveTo>
                      <a:pt x="1242" y="0"/>
                    </a:moveTo>
                    <a:lnTo>
                      <a:pt x="1242" y="0"/>
                    </a:lnTo>
                    <a:cubicBezTo>
                      <a:pt x="1244" y="0"/>
                      <a:pt x="1244" y="1"/>
                      <a:pt x="1244" y="2"/>
                    </a:cubicBezTo>
                    <a:cubicBezTo>
                      <a:pt x="1244" y="3"/>
                      <a:pt x="1244" y="4"/>
                      <a:pt x="1242" y="4"/>
                    </a:cubicBezTo>
                    <a:lnTo>
                      <a:pt x="1242" y="4"/>
                    </a:lnTo>
                    <a:cubicBezTo>
                      <a:pt x="1241" y="4"/>
                      <a:pt x="1240" y="3"/>
                      <a:pt x="1240" y="2"/>
                    </a:cubicBezTo>
                    <a:cubicBezTo>
                      <a:pt x="1240" y="1"/>
                      <a:pt x="1241" y="0"/>
                      <a:pt x="1242" y="0"/>
                    </a:cubicBezTo>
                    <a:close/>
                    <a:moveTo>
                      <a:pt x="1250" y="0"/>
                    </a:moveTo>
                    <a:lnTo>
                      <a:pt x="1250" y="0"/>
                    </a:lnTo>
                    <a:cubicBezTo>
                      <a:pt x="1252" y="0"/>
                      <a:pt x="1252" y="1"/>
                      <a:pt x="1252" y="2"/>
                    </a:cubicBezTo>
                    <a:cubicBezTo>
                      <a:pt x="1252" y="3"/>
                      <a:pt x="1252" y="4"/>
                      <a:pt x="1250" y="4"/>
                    </a:cubicBezTo>
                    <a:lnTo>
                      <a:pt x="1250" y="4"/>
                    </a:lnTo>
                    <a:cubicBezTo>
                      <a:pt x="1249" y="4"/>
                      <a:pt x="1248" y="3"/>
                      <a:pt x="1248" y="2"/>
                    </a:cubicBezTo>
                    <a:cubicBezTo>
                      <a:pt x="1248" y="1"/>
                      <a:pt x="1249" y="0"/>
                      <a:pt x="1250" y="0"/>
                    </a:cubicBezTo>
                    <a:close/>
                    <a:moveTo>
                      <a:pt x="1258" y="0"/>
                    </a:moveTo>
                    <a:lnTo>
                      <a:pt x="1258" y="0"/>
                    </a:lnTo>
                    <a:cubicBezTo>
                      <a:pt x="1260" y="0"/>
                      <a:pt x="1260" y="1"/>
                      <a:pt x="1260" y="2"/>
                    </a:cubicBezTo>
                    <a:cubicBezTo>
                      <a:pt x="1260" y="3"/>
                      <a:pt x="1260" y="4"/>
                      <a:pt x="1258" y="4"/>
                    </a:cubicBezTo>
                    <a:lnTo>
                      <a:pt x="1258" y="4"/>
                    </a:lnTo>
                    <a:cubicBezTo>
                      <a:pt x="1257" y="4"/>
                      <a:pt x="1256" y="3"/>
                      <a:pt x="1256" y="2"/>
                    </a:cubicBezTo>
                    <a:cubicBezTo>
                      <a:pt x="1256" y="1"/>
                      <a:pt x="1257" y="0"/>
                      <a:pt x="1258" y="0"/>
                    </a:cubicBezTo>
                    <a:close/>
                    <a:moveTo>
                      <a:pt x="1266" y="0"/>
                    </a:moveTo>
                    <a:lnTo>
                      <a:pt x="1266" y="0"/>
                    </a:lnTo>
                    <a:cubicBezTo>
                      <a:pt x="1268" y="0"/>
                      <a:pt x="1268" y="1"/>
                      <a:pt x="1268" y="2"/>
                    </a:cubicBezTo>
                    <a:cubicBezTo>
                      <a:pt x="1268" y="3"/>
                      <a:pt x="1268" y="4"/>
                      <a:pt x="1266" y="4"/>
                    </a:cubicBezTo>
                    <a:lnTo>
                      <a:pt x="1266" y="4"/>
                    </a:lnTo>
                    <a:cubicBezTo>
                      <a:pt x="1265" y="4"/>
                      <a:pt x="1264" y="3"/>
                      <a:pt x="1264" y="2"/>
                    </a:cubicBezTo>
                    <a:cubicBezTo>
                      <a:pt x="1264" y="1"/>
                      <a:pt x="1265" y="0"/>
                      <a:pt x="1266" y="0"/>
                    </a:cubicBezTo>
                    <a:close/>
                    <a:moveTo>
                      <a:pt x="1274" y="0"/>
                    </a:moveTo>
                    <a:lnTo>
                      <a:pt x="1274" y="0"/>
                    </a:lnTo>
                    <a:cubicBezTo>
                      <a:pt x="1276" y="0"/>
                      <a:pt x="1276" y="1"/>
                      <a:pt x="1276" y="2"/>
                    </a:cubicBezTo>
                    <a:cubicBezTo>
                      <a:pt x="1276" y="3"/>
                      <a:pt x="1276" y="4"/>
                      <a:pt x="1274" y="4"/>
                    </a:cubicBezTo>
                    <a:lnTo>
                      <a:pt x="1274" y="4"/>
                    </a:lnTo>
                    <a:cubicBezTo>
                      <a:pt x="1273" y="4"/>
                      <a:pt x="1272" y="3"/>
                      <a:pt x="1272" y="2"/>
                    </a:cubicBezTo>
                    <a:cubicBezTo>
                      <a:pt x="1272" y="1"/>
                      <a:pt x="1273" y="0"/>
                      <a:pt x="1274" y="0"/>
                    </a:cubicBezTo>
                    <a:close/>
                    <a:moveTo>
                      <a:pt x="1282" y="0"/>
                    </a:moveTo>
                    <a:lnTo>
                      <a:pt x="1282" y="0"/>
                    </a:lnTo>
                    <a:cubicBezTo>
                      <a:pt x="1284" y="0"/>
                      <a:pt x="1284" y="1"/>
                      <a:pt x="1284" y="2"/>
                    </a:cubicBezTo>
                    <a:cubicBezTo>
                      <a:pt x="1284" y="3"/>
                      <a:pt x="1284" y="4"/>
                      <a:pt x="1282" y="4"/>
                    </a:cubicBezTo>
                    <a:lnTo>
                      <a:pt x="1282" y="4"/>
                    </a:lnTo>
                    <a:cubicBezTo>
                      <a:pt x="1281" y="4"/>
                      <a:pt x="1280" y="3"/>
                      <a:pt x="1280" y="2"/>
                    </a:cubicBezTo>
                    <a:cubicBezTo>
                      <a:pt x="1280" y="1"/>
                      <a:pt x="1281" y="0"/>
                      <a:pt x="1282" y="0"/>
                    </a:cubicBezTo>
                    <a:close/>
                    <a:moveTo>
                      <a:pt x="1290" y="0"/>
                    </a:moveTo>
                    <a:lnTo>
                      <a:pt x="1290" y="0"/>
                    </a:lnTo>
                    <a:cubicBezTo>
                      <a:pt x="1292" y="0"/>
                      <a:pt x="1292" y="1"/>
                      <a:pt x="1292" y="2"/>
                    </a:cubicBezTo>
                    <a:cubicBezTo>
                      <a:pt x="1292" y="3"/>
                      <a:pt x="1292" y="4"/>
                      <a:pt x="1290" y="4"/>
                    </a:cubicBezTo>
                    <a:lnTo>
                      <a:pt x="1290" y="4"/>
                    </a:lnTo>
                    <a:cubicBezTo>
                      <a:pt x="1289" y="4"/>
                      <a:pt x="1288" y="3"/>
                      <a:pt x="1288" y="2"/>
                    </a:cubicBezTo>
                    <a:cubicBezTo>
                      <a:pt x="1288" y="1"/>
                      <a:pt x="1289" y="0"/>
                      <a:pt x="1290" y="0"/>
                    </a:cubicBezTo>
                    <a:close/>
                    <a:moveTo>
                      <a:pt x="1298" y="0"/>
                    </a:moveTo>
                    <a:lnTo>
                      <a:pt x="1298" y="0"/>
                    </a:lnTo>
                    <a:cubicBezTo>
                      <a:pt x="1300" y="0"/>
                      <a:pt x="1300" y="1"/>
                      <a:pt x="1300" y="2"/>
                    </a:cubicBezTo>
                    <a:cubicBezTo>
                      <a:pt x="1300" y="3"/>
                      <a:pt x="1300" y="4"/>
                      <a:pt x="1298" y="4"/>
                    </a:cubicBezTo>
                    <a:lnTo>
                      <a:pt x="1298" y="4"/>
                    </a:lnTo>
                    <a:cubicBezTo>
                      <a:pt x="1297" y="4"/>
                      <a:pt x="1296" y="3"/>
                      <a:pt x="1296" y="2"/>
                    </a:cubicBezTo>
                    <a:cubicBezTo>
                      <a:pt x="1296" y="1"/>
                      <a:pt x="1297" y="0"/>
                      <a:pt x="1298" y="0"/>
                    </a:cubicBezTo>
                    <a:close/>
                    <a:moveTo>
                      <a:pt x="1306" y="0"/>
                    </a:moveTo>
                    <a:lnTo>
                      <a:pt x="1306" y="0"/>
                    </a:lnTo>
                    <a:cubicBezTo>
                      <a:pt x="1308" y="0"/>
                      <a:pt x="1308" y="1"/>
                      <a:pt x="1308" y="2"/>
                    </a:cubicBezTo>
                    <a:cubicBezTo>
                      <a:pt x="1308" y="3"/>
                      <a:pt x="1308" y="4"/>
                      <a:pt x="1306" y="4"/>
                    </a:cubicBezTo>
                    <a:lnTo>
                      <a:pt x="1306" y="4"/>
                    </a:lnTo>
                    <a:cubicBezTo>
                      <a:pt x="1305" y="4"/>
                      <a:pt x="1304" y="3"/>
                      <a:pt x="1304" y="2"/>
                    </a:cubicBezTo>
                    <a:cubicBezTo>
                      <a:pt x="1304" y="1"/>
                      <a:pt x="1305" y="0"/>
                      <a:pt x="1306" y="0"/>
                    </a:cubicBezTo>
                    <a:close/>
                    <a:moveTo>
                      <a:pt x="1314" y="0"/>
                    </a:moveTo>
                    <a:lnTo>
                      <a:pt x="1314" y="0"/>
                    </a:lnTo>
                    <a:cubicBezTo>
                      <a:pt x="1316" y="0"/>
                      <a:pt x="1316" y="1"/>
                      <a:pt x="1316" y="2"/>
                    </a:cubicBezTo>
                    <a:cubicBezTo>
                      <a:pt x="1316" y="3"/>
                      <a:pt x="1316" y="4"/>
                      <a:pt x="1314" y="4"/>
                    </a:cubicBezTo>
                    <a:lnTo>
                      <a:pt x="1314" y="4"/>
                    </a:lnTo>
                    <a:cubicBezTo>
                      <a:pt x="1313" y="4"/>
                      <a:pt x="1312" y="3"/>
                      <a:pt x="1312" y="2"/>
                    </a:cubicBezTo>
                    <a:cubicBezTo>
                      <a:pt x="1312" y="1"/>
                      <a:pt x="1313" y="0"/>
                      <a:pt x="1314" y="0"/>
                    </a:cubicBezTo>
                    <a:close/>
                    <a:moveTo>
                      <a:pt x="1322" y="0"/>
                    </a:moveTo>
                    <a:lnTo>
                      <a:pt x="1322" y="0"/>
                    </a:lnTo>
                    <a:cubicBezTo>
                      <a:pt x="1324" y="0"/>
                      <a:pt x="1324" y="1"/>
                      <a:pt x="1324" y="2"/>
                    </a:cubicBezTo>
                    <a:cubicBezTo>
                      <a:pt x="1324" y="3"/>
                      <a:pt x="1324" y="4"/>
                      <a:pt x="1322" y="4"/>
                    </a:cubicBezTo>
                    <a:lnTo>
                      <a:pt x="1322" y="4"/>
                    </a:lnTo>
                    <a:cubicBezTo>
                      <a:pt x="1321" y="4"/>
                      <a:pt x="1320" y="3"/>
                      <a:pt x="1320" y="2"/>
                    </a:cubicBezTo>
                    <a:cubicBezTo>
                      <a:pt x="1320" y="1"/>
                      <a:pt x="1321" y="0"/>
                      <a:pt x="1322" y="0"/>
                    </a:cubicBezTo>
                    <a:close/>
                    <a:moveTo>
                      <a:pt x="1330" y="0"/>
                    </a:moveTo>
                    <a:lnTo>
                      <a:pt x="1330" y="0"/>
                    </a:lnTo>
                    <a:cubicBezTo>
                      <a:pt x="1332" y="0"/>
                      <a:pt x="1332" y="1"/>
                      <a:pt x="1332" y="2"/>
                    </a:cubicBezTo>
                    <a:cubicBezTo>
                      <a:pt x="1332" y="3"/>
                      <a:pt x="1332" y="4"/>
                      <a:pt x="1330" y="4"/>
                    </a:cubicBezTo>
                    <a:lnTo>
                      <a:pt x="1330" y="4"/>
                    </a:lnTo>
                    <a:cubicBezTo>
                      <a:pt x="1329" y="4"/>
                      <a:pt x="1328" y="3"/>
                      <a:pt x="1328" y="2"/>
                    </a:cubicBezTo>
                    <a:cubicBezTo>
                      <a:pt x="1328" y="1"/>
                      <a:pt x="1329" y="0"/>
                      <a:pt x="1330" y="0"/>
                    </a:cubicBezTo>
                    <a:close/>
                    <a:moveTo>
                      <a:pt x="1338" y="0"/>
                    </a:moveTo>
                    <a:lnTo>
                      <a:pt x="1338" y="0"/>
                    </a:lnTo>
                    <a:cubicBezTo>
                      <a:pt x="1340" y="0"/>
                      <a:pt x="1340" y="1"/>
                      <a:pt x="1340" y="2"/>
                    </a:cubicBezTo>
                    <a:cubicBezTo>
                      <a:pt x="1340" y="3"/>
                      <a:pt x="1340" y="4"/>
                      <a:pt x="1338" y="4"/>
                    </a:cubicBezTo>
                    <a:lnTo>
                      <a:pt x="1338" y="4"/>
                    </a:lnTo>
                    <a:cubicBezTo>
                      <a:pt x="1337" y="4"/>
                      <a:pt x="1336" y="3"/>
                      <a:pt x="1336" y="2"/>
                    </a:cubicBezTo>
                    <a:cubicBezTo>
                      <a:pt x="1336" y="1"/>
                      <a:pt x="1337" y="0"/>
                      <a:pt x="1338" y="0"/>
                    </a:cubicBezTo>
                    <a:close/>
                    <a:moveTo>
                      <a:pt x="1346" y="0"/>
                    </a:moveTo>
                    <a:lnTo>
                      <a:pt x="1346" y="0"/>
                    </a:lnTo>
                    <a:cubicBezTo>
                      <a:pt x="1348" y="0"/>
                      <a:pt x="1348" y="1"/>
                      <a:pt x="1348" y="2"/>
                    </a:cubicBezTo>
                    <a:cubicBezTo>
                      <a:pt x="1348" y="3"/>
                      <a:pt x="1348" y="4"/>
                      <a:pt x="1346" y="4"/>
                    </a:cubicBezTo>
                    <a:lnTo>
                      <a:pt x="1346" y="4"/>
                    </a:lnTo>
                    <a:cubicBezTo>
                      <a:pt x="1345" y="4"/>
                      <a:pt x="1344" y="3"/>
                      <a:pt x="1344" y="2"/>
                    </a:cubicBezTo>
                    <a:cubicBezTo>
                      <a:pt x="1344" y="1"/>
                      <a:pt x="1345" y="0"/>
                      <a:pt x="1346" y="0"/>
                    </a:cubicBezTo>
                    <a:close/>
                    <a:moveTo>
                      <a:pt x="1354" y="0"/>
                    </a:moveTo>
                    <a:lnTo>
                      <a:pt x="1354" y="0"/>
                    </a:lnTo>
                    <a:cubicBezTo>
                      <a:pt x="1356" y="0"/>
                      <a:pt x="1356" y="1"/>
                      <a:pt x="1356" y="2"/>
                    </a:cubicBezTo>
                    <a:cubicBezTo>
                      <a:pt x="1356" y="3"/>
                      <a:pt x="1356" y="4"/>
                      <a:pt x="1354" y="4"/>
                    </a:cubicBezTo>
                    <a:lnTo>
                      <a:pt x="1354" y="4"/>
                    </a:lnTo>
                    <a:cubicBezTo>
                      <a:pt x="1353" y="4"/>
                      <a:pt x="1352" y="3"/>
                      <a:pt x="1352" y="2"/>
                    </a:cubicBezTo>
                    <a:cubicBezTo>
                      <a:pt x="1352" y="1"/>
                      <a:pt x="1353" y="0"/>
                      <a:pt x="1354" y="0"/>
                    </a:cubicBezTo>
                    <a:close/>
                    <a:moveTo>
                      <a:pt x="1362" y="0"/>
                    </a:moveTo>
                    <a:lnTo>
                      <a:pt x="1362" y="0"/>
                    </a:lnTo>
                    <a:cubicBezTo>
                      <a:pt x="1364" y="0"/>
                      <a:pt x="1364" y="1"/>
                      <a:pt x="1364" y="2"/>
                    </a:cubicBezTo>
                    <a:cubicBezTo>
                      <a:pt x="1364" y="3"/>
                      <a:pt x="1364" y="4"/>
                      <a:pt x="1362" y="4"/>
                    </a:cubicBezTo>
                    <a:lnTo>
                      <a:pt x="1362" y="4"/>
                    </a:lnTo>
                    <a:cubicBezTo>
                      <a:pt x="1361" y="4"/>
                      <a:pt x="1360" y="3"/>
                      <a:pt x="1360" y="2"/>
                    </a:cubicBezTo>
                    <a:cubicBezTo>
                      <a:pt x="1360" y="1"/>
                      <a:pt x="1361" y="0"/>
                      <a:pt x="1362" y="0"/>
                    </a:cubicBezTo>
                    <a:close/>
                    <a:moveTo>
                      <a:pt x="1370" y="0"/>
                    </a:moveTo>
                    <a:lnTo>
                      <a:pt x="1370" y="0"/>
                    </a:lnTo>
                    <a:cubicBezTo>
                      <a:pt x="1372" y="0"/>
                      <a:pt x="1372" y="1"/>
                      <a:pt x="1372" y="2"/>
                    </a:cubicBezTo>
                    <a:cubicBezTo>
                      <a:pt x="1372" y="3"/>
                      <a:pt x="1372" y="4"/>
                      <a:pt x="1370" y="4"/>
                    </a:cubicBezTo>
                    <a:lnTo>
                      <a:pt x="1370" y="4"/>
                    </a:lnTo>
                    <a:cubicBezTo>
                      <a:pt x="1369" y="4"/>
                      <a:pt x="1368" y="3"/>
                      <a:pt x="1368" y="2"/>
                    </a:cubicBezTo>
                    <a:cubicBezTo>
                      <a:pt x="1368" y="1"/>
                      <a:pt x="1369" y="0"/>
                      <a:pt x="1370" y="0"/>
                    </a:cubicBezTo>
                    <a:close/>
                    <a:moveTo>
                      <a:pt x="1378" y="0"/>
                    </a:moveTo>
                    <a:lnTo>
                      <a:pt x="1378" y="0"/>
                    </a:lnTo>
                    <a:cubicBezTo>
                      <a:pt x="1380" y="0"/>
                      <a:pt x="1380" y="1"/>
                      <a:pt x="1380" y="2"/>
                    </a:cubicBezTo>
                    <a:cubicBezTo>
                      <a:pt x="1380" y="3"/>
                      <a:pt x="1380" y="4"/>
                      <a:pt x="1378" y="4"/>
                    </a:cubicBezTo>
                    <a:lnTo>
                      <a:pt x="1378" y="4"/>
                    </a:lnTo>
                    <a:cubicBezTo>
                      <a:pt x="1377" y="4"/>
                      <a:pt x="1376" y="3"/>
                      <a:pt x="1376" y="2"/>
                    </a:cubicBezTo>
                    <a:cubicBezTo>
                      <a:pt x="1376" y="1"/>
                      <a:pt x="1377" y="0"/>
                      <a:pt x="1378" y="0"/>
                    </a:cubicBezTo>
                    <a:close/>
                    <a:moveTo>
                      <a:pt x="1386" y="0"/>
                    </a:moveTo>
                    <a:lnTo>
                      <a:pt x="1386" y="0"/>
                    </a:lnTo>
                    <a:cubicBezTo>
                      <a:pt x="1388" y="0"/>
                      <a:pt x="1388" y="1"/>
                      <a:pt x="1388" y="2"/>
                    </a:cubicBezTo>
                    <a:cubicBezTo>
                      <a:pt x="1388" y="3"/>
                      <a:pt x="1388" y="4"/>
                      <a:pt x="1386" y="4"/>
                    </a:cubicBezTo>
                    <a:lnTo>
                      <a:pt x="1386" y="4"/>
                    </a:lnTo>
                    <a:cubicBezTo>
                      <a:pt x="1385" y="4"/>
                      <a:pt x="1384" y="3"/>
                      <a:pt x="1384" y="2"/>
                    </a:cubicBezTo>
                    <a:cubicBezTo>
                      <a:pt x="1384" y="1"/>
                      <a:pt x="1385" y="0"/>
                      <a:pt x="1386" y="0"/>
                    </a:cubicBezTo>
                    <a:close/>
                    <a:moveTo>
                      <a:pt x="1394" y="0"/>
                    </a:moveTo>
                    <a:lnTo>
                      <a:pt x="1394" y="0"/>
                    </a:lnTo>
                    <a:cubicBezTo>
                      <a:pt x="1396" y="0"/>
                      <a:pt x="1396" y="1"/>
                      <a:pt x="1396" y="2"/>
                    </a:cubicBezTo>
                    <a:cubicBezTo>
                      <a:pt x="1396" y="3"/>
                      <a:pt x="1396" y="4"/>
                      <a:pt x="1394" y="4"/>
                    </a:cubicBezTo>
                    <a:lnTo>
                      <a:pt x="1394" y="4"/>
                    </a:lnTo>
                    <a:cubicBezTo>
                      <a:pt x="1393" y="4"/>
                      <a:pt x="1392" y="3"/>
                      <a:pt x="1392" y="2"/>
                    </a:cubicBezTo>
                    <a:cubicBezTo>
                      <a:pt x="1392" y="1"/>
                      <a:pt x="1393" y="0"/>
                      <a:pt x="1394" y="0"/>
                    </a:cubicBezTo>
                    <a:close/>
                    <a:moveTo>
                      <a:pt x="1402" y="0"/>
                    </a:moveTo>
                    <a:lnTo>
                      <a:pt x="1402" y="0"/>
                    </a:lnTo>
                    <a:cubicBezTo>
                      <a:pt x="1404" y="0"/>
                      <a:pt x="1404" y="1"/>
                      <a:pt x="1404" y="2"/>
                    </a:cubicBezTo>
                    <a:cubicBezTo>
                      <a:pt x="1404" y="3"/>
                      <a:pt x="1404" y="4"/>
                      <a:pt x="1402" y="4"/>
                    </a:cubicBezTo>
                    <a:lnTo>
                      <a:pt x="1402" y="4"/>
                    </a:lnTo>
                    <a:cubicBezTo>
                      <a:pt x="1401" y="4"/>
                      <a:pt x="1400" y="3"/>
                      <a:pt x="1400" y="2"/>
                    </a:cubicBezTo>
                    <a:cubicBezTo>
                      <a:pt x="1400" y="1"/>
                      <a:pt x="1401" y="0"/>
                      <a:pt x="1402" y="0"/>
                    </a:cubicBezTo>
                    <a:close/>
                    <a:moveTo>
                      <a:pt x="1410" y="0"/>
                    </a:moveTo>
                    <a:lnTo>
                      <a:pt x="1410" y="0"/>
                    </a:lnTo>
                    <a:cubicBezTo>
                      <a:pt x="1412" y="0"/>
                      <a:pt x="1412" y="1"/>
                      <a:pt x="1412" y="2"/>
                    </a:cubicBezTo>
                    <a:cubicBezTo>
                      <a:pt x="1412" y="3"/>
                      <a:pt x="1412" y="4"/>
                      <a:pt x="1410" y="4"/>
                    </a:cubicBezTo>
                    <a:lnTo>
                      <a:pt x="1410" y="4"/>
                    </a:lnTo>
                    <a:cubicBezTo>
                      <a:pt x="1409" y="4"/>
                      <a:pt x="1408" y="3"/>
                      <a:pt x="1408" y="2"/>
                    </a:cubicBezTo>
                    <a:cubicBezTo>
                      <a:pt x="1408" y="1"/>
                      <a:pt x="1409" y="0"/>
                      <a:pt x="1410" y="0"/>
                    </a:cubicBezTo>
                    <a:close/>
                    <a:moveTo>
                      <a:pt x="1418" y="0"/>
                    </a:moveTo>
                    <a:lnTo>
                      <a:pt x="1418" y="0"/>
                    </a:lnTo>
                    <a:cubicBezTo>
                      <a:pt x="1420" y="0"/>
                      <a:pt x="1420" y="1"/>
                      <a:pt x="1420" y="2"/>
                    </a:cubicBezTo>
                    <a:cubicBezTo>
                      <a:pt x="1420" y="3"/>
                      <a:pt x="1420" y="4"/>
                      <a:pt x="1418" y="4"/>
                    </a:cubicBezTo>
                    <a:lnTo>
                      <a:pt x="1418" y="4"/>
                    </a:lnTo>
                    <a:cubicBezTo>
                      <a:pt x="1417" y="4"/>
                      <a:pt x="1416" y="3"/>
                      <a:pt x="1416" y="2"/>
                    </a:cubicBezTo>
                    <a:cubicBezTo>
                      <a:pt x="1416" y="1"/>
                      <a:pt x="1417" y="0"/>
                      <a:pt x="1418" y="0"/>
                    </a:cubicBezTo>
                    <a:close/>
                    <a:moveTo>
                      <a:pt x="1426" y="0"/>
                    </a:moveTo>
                    <a:lnTo>
                      <a:pt x="1427" y="0"/>
                    </a:lnTo>
                    <a:cubicBezTo>
                      <a:pt x="1428" y="0"/>
                      <a:pt x="1429" y="1"/>
                      <a:pt x="1429" y="2"/>
                    </a:cubicBezTo>
                    <a:cubicBezTo>
                      <a:pt x="1429" y="3"/>
                      <a:pt x="1428" y="4"/>
                      <a:pt x="1427" y="4"/>
                    </a:cubicBezTo>
                    <a:lnTo>
                      <a:pt x="1426" y="4"/>
                    </a:lnTo>
                    <a:cubicBezTo>
                      <a:pt x="1425" y="4"/>
                      <a:pt x="1424" y="3"/>
                      <a:pt x="1424" y="2"/>
                    </a:cubicBezTo>
                    <a:cubicBezTo>
                      <a:pt x="1424" y="1"/>
                      <a:pt x="1425" y="0"/>
                      <a:pt x="1426" y="0"/>
                    </a:cubicBezTo>
                    <a:close/>
                    <a:moveTo>
                      <a:pt x="1435" y="0"/>
                    </a:moveTo>
                    <a:lnTo>
                      <a:pt x="1435" y="0"/>
                    </a:lnTo>
                    <a:cubicBezTo>
                      <a:pt x="1436" y="0"/>
                      <a:pt x="1437" y="1"/>
                      <a:pt x="1437" y="2"/>
                    </a:cubicBezTo>
                    <a:cubicBezTo>
                      <a:pt x="1437" y="3"/>
                      <a:pt x="1436" y="4"/>
                      <a:pt x="1435" y="4"/>
                    </a:cubicBezTo>
                    <a:lnTo>
                      <a:pt x="1435" y="4"/>
                    </a:lnTo>
                    <a:cubicBezTo>
                      <a:pt x="1433" y="4"/>
                      <a:pt x="1433" y="3"/>
                      <a:pt x="1433" y="2"/>
                    </a:cubicBezTo>
                    <a:cubicBezTo>
                      <a:pt x="1433" y="1"/>
                      <a:pt x="1433" y="0"/>
                      <a:pt x="1435" y="0"/>
                    </a:cubicBezTo>
                    <a:close/>
                    <a:moveTo>
                      <a:pt x="1443" y="0"/>
                    </a:moveTo>
                    <a:lnTo>
                      <a:pt x="1443" y="0"/>
                    </a:lnTo>
                    <a:cubicBezTo>
                      <a:pt x="1444" y="0"/>
                      <a:pt x="1445" y="1"/>
                      <a:pt x="1445" y="2"/>
                    </a:cubicBezTo>
                    <a:cubicBezTo>
                      <a:pt x="1445" y="3"/>
                      <a:pt x="1444" y="4"/>
                      <a:pt x="1443" y="4"/>
                    </a:cubicBezTo>
                    <a:lnTo>
                      <a:pt x="1443" y="4"/>
                    </a:lnTo>
                    <a:cubicBezTo>
                      <a:pt x="1441" y="4"/>
                      <a:pt x="1441" y="3"/>
                      <a:pt x="1441" y="2"/>
                    </a:cubicBezTo>
                    <a:cubicBezTo>
                      <a:pt x="1441" y="1"/>
                      <a:pt x="1441" y="0"/>
                      <a:pt x="1443" y="0"/>
                    </a:cubicBezTo>
                    <a:close/>
                    <a:moveTo>
                      <a:pt x="1451" y="0"/>
                    </a:moveTo>
                    <a:lnTo>
                      <a:pt x="1451" y="0"/>
                    </a:lnTo>
                    <a:cubicBezTo>
                      <a:pt x="1452" y="0"/>
                      <a:pt x="1453" y="1"/>
                      <a:pt x="1453" y="2"/>
                    </a:cubicBezTo>
                    <a:cubicBezTo>
                      <a:pt x="1453" y="3"/>
                      <a:pt x="1452" y="4"/>
                      <a:pt x="1451" y="4"/>
                    </a:cubicBezTo>
                    <a:lnTo>
                      <a:pt x="1451" y="4"/>
                    </a:lnTo>
                    <a:cubicBezTo>
                      <a:pt x="1449" y="4"/>
                      <a:pt x="1449" y="3"/>
                      <a:pt x="1449" y="2"/>
                    </a:cubicBezTo>
                    <a:cubicBezTo>
                      <a:pt x="1449" y="1"/>
                      <a:pt x="1449" y="0"/>
                      <a:pt x="1451" y="0"/>
                    </a:cubicBezTo>
                    <a:close/>
                    <a:moveTo>
                      <a:pt x="1459" y="0"/>
                    </a:moveTo>
                    <a:lnTo>
                      <a:pt x="1459" y="0"/>
                    </a:lnTo>
                    <a:cubicBezTo>
                      <a:pt x="1460" y="0"/>
                      <a:pt x="1461" y="1"/>
                      <a:pt x="1461" y="2"/>
                    </a:cubicBezTo>
                    <a:cubicBezTo>
                      <a:pt x="1461" y="3"/>
                      <a:pt x="1460" y="4"/>
                      <a:pt x="1459" y="4"/>
                    </a:cubicBezTo>
                    <a:lnTo>
                      <a:pt x="1459" y="4"/>
                    </a:lnTo>
                    <a:cubicBezTo>
                      <a:pt x="1457" y="4"/>
                      <a:pt x="1457" y="3"/>
                      <a:pt x="1457" y="2"/>
                    </a:cubicBezTo>
                    <a:cubicBezTo>
                      <a:pt x="1457" y="1"/>
                      <a:pt x="1457" y="0"/>
                      <a:pt x="1459" y="0"/>
                    </a:cubicBezTo>
                    <a:close/>
                    <a:moveTo>
                      <a:pt x="1467" y="0"/>
                    </a:moveTo>
                    <a:lnTo>
                      <a:pt x="1467" y="0"/>
                    </a:lnTo>
                    <a:cubicBezTo>
                      <a:pt x="1468" y="0"/>
                      <a:pt x="1469" y="1"/>
                      <a:pt x="1469" y="2"/>
                    </a:cubicBezTo>
                    <a:cubicBezTo>
                      <a:pt x="1469" y="3"/>
                      <a:pt x="1468" y="4"/>
                      <a:pt x="1467" y="4"/>
                    </a:cubicBezTo>
                    <a:lnTo>
                      <a:pt x="1467" y="4"/>
                    </a:lnTo>
                    <a:cubicBezTo>
                      <a:pt x="1465" y="4"/>
                      <a:pt x="1465" y="3"/>
                      <a:pt x="1465" y="2"/>
                    </a:cubicBezTo>
                    <a:cubicBezTo>
                      <a:pt x="1465" y="1"/>
                      <a:pt x="1465" y="0"/>
                      <a:pt x="1467" y="0"/>
                    </a:cubicBezTo>
                    <a:close/>
                    <a:moveTo>
                      <a:pt x="1475" y="0"/>
                    </a:moveTo>
                    <a:lnTo>
                      <a:pt x="1475" y="0"/>
                    </a:lnTo>
                    <a:cubicBezTo>
                      <a:pt x="1476" y="0"/>
                      <a:pt x="1477" y="1"/>
                      <a:pt x="1477" y="2"/>
                    </a:cubicBezTo>
                    <a:cubicBezTo>
                      <a:pt x="1477" y="3"/>
                      <a:pt x="1476" y="4"/>
                      <a:pt x="1475" y="4"/>
                    </a:cubicBezTo>
                    <a:lnTo>
                      <a:pt x="1475" y="4"/>
                    </a:lnTo>
                    <a:cubicBezTo>
                      <a:pt x="1473" y="4"/>
                      <a:pt x="1473" y="3"/>
                      <a:pt x="1473" y="2"/>
                    </a:cubicBezTo>
                    <a:cubicBezTo>
                      <a:pt x="1473" y="1"/>
                      <a:pt x="1473" y="0"/>
                      <a:pt x="1475" y="0"/>
                    </a:cubicBezTo>
                    <a:close/>
                    <a:moveTo>
                      <a:pt x="1483" y="0"/>
                    </a:moveTo>
                    <a:lnTo>
                      <a:pt x="1483" y="0"/>
                    </a:lnTo>
                    <a:cubicBezTo>
                      <a:pt x="1484" y="0"/>
                      <a:pt x="1485" y="1"/>
                      <a:pt x="1485" y="2"/>
                    </a:cubicBezTo>
                    <a:cubicBezTo>
                      <a:pt x="1485" y="3"/>
                      <a:pt x="1484" y="4"/>
                      <a:pt x="1483" y="4"/>
                    </a:cubicBezTo>
                    <a:lnTo>
                      <a:pt x="1483" y="4"/>
                    </a:lnTo>
                    <a:cubicBezTo>
                      <a:pt x="1481" y="4"/>
                      <a:pt x="1481" y="3"/>
                      <a:pt x="1481" y="2"/>
                    </a:cubicBezTo>
                    <a:cubicBezTo>
                      <a:pt x="1481" y="1"/>
                      <a:pt x="1481" y="0"/>
                      <a:pt x="1483" y="0"/>
                    </a:cubicBezTo>
                    <a:close/>
                    <a:moveTo>
                      <a:pt x="1491" y="0"/>
                    </a:moveTo>
                    <a:lnTo>
                      <a:pt x="1491" y="0"/>
                    </a:lnTo>
                    <a:cubicBezTo>
                      <a:pt x="1492" y="0"/>
                      <a:pt x="1493" y="1"/>
                      <a:pt x="1493" y="2"/>
                    </a:cubicBezTo>
                    <a:cubicBezTo>
                      <a:pt x="1493" y="3"/>
                      <a:pt x="1492" y="4"/>
                      <a:pt x="1491" y="4"/>
                    </a:cubicBezTo>
                    <a:lnTo>
                      <a:pt x="1491" y="4"/>
                    </a:lnTo>
                    <a:cubicBezTo>
                      <a:pt x="1489" y="4"/>
                      <a:pt x="1489" y="3"/>
                      <a:pt x="1489" y="2"/>
                    </a:cubicBezTo>
                    <a:cubicBezTo>
                      <a:pt x="1489" y="1"/>
                      <a:pt x="1489" y="0"/>
                      <a:pt x="1491" y="0"/>
                    </a:cubicBezTo>
                    <a:close/>
                    <a:moveTo>
                      <a:pt x="1499" y="0"/>
                    </a:moveTo>
                    <a:lnTo>
                      <a:pt x="1499" y="0"/>
                    </a:lnTo>
                    <a:cubicBezTo>
                      <a:pt x="1500" y="0"/>
                      <a:pt x="1501" y="1"/>
                      <a:pt x="1501" y="2"/>
                    </a:cubicBezTo>
                    <a:cubicBezTo>
                      <a:pt x="1501" y="3"/>
                      <a:pt x="1500" y="4"/>
                      <a:pt x="1499" y="4"/>
                    </a:cubicBezTo>
                    <a:lnTo>
                      <a:pt x="1499" y="4"/>
                    </a:lnTo>
                    <a:cubicBezTo>
                      <a:pt x="1497" y="4"/>
                      <a:pt x="1497" y="3"/>
                      <a:pt x="1497" y="2"/>
                    </a:cubicBezTo>
                    <a:cubicBezTo>
                      <a:pt x="1497" y="1"/>
                      <a:pt x="1497" y="0"/>
                      <a:pt x="1499" y="0"/>
                    </a:cubicBezTo>
                    <a:close/>
                    <a:moveTo>
                      <a:pt x="1507" y="0"/>
                    </a:moveTo>
                    <a:lnTo>
                      <a:pt x="1507" y="0"/>
                    </a:lnTo>
                    <a:cubicBezTo>
                      <a:pt x="1508" y="0"/>
                      <a:pt x="1509" y="1"/>
                      <a:pt x="1509" y="2"/>
                    </a:cubicBezTo>
                    <a:cubicBezTo>
                      <a:pt x="1509" y="3"/>
                      <a:pt x="1508" y="4"/>
                      <a:pt x="1507" y="4"/>
                    </a:cubicBezTo>
                    <a:lnTo>
                      <a:pt x="1507" y="4"/>
                    </a:lnTo>
                    <a:cubicBezTo>
                      <a:pt x="1505" y="4"/>
                      <a:pt x="1505" y="3"/>
                      <a:pt x="1505" y="2"/>
                    </a:cubicBezTo>
                    <a:cubicBezTo>
                      <a:pt x="1505" y="1"/>
                      <a:pt x="1505" y="0"/>
                      <a:pt x="1507" y="0"/>
                    </a:cubicBezTo>
                    <a:close/>
                    <a:moveTo>
                      <a:pt x="1515" y="0"/>
                    </a:moveTo>
                    <a:lnTo>
                      <a:pt x="1515" y="0"/>
                    </a:lnTo>
                    <a:cubicBezTo>
                      <a:pt x="1516" y="0"/>
                      <a:pt x="1517" y="1"/>
                      <a:pt x="1517" y="2"/>
                    </a:cubicBezTo>
                    <a:cubicBezTo>
                      <a:pt x="1517" y="3"/>
                      <a:pt x="1516" y="4"/>
                      <a:pt x="1515" y="4"/>
                    </a:cubicBezTo>
                    <a:lnTo>
                      <a:pt x="1515" y="4"/>
                    </a:lnTo>
                    <a:cubicBezTo>
                      <a:pt x="1513" y="4"/>
                      <a:pt x="1513" y="3"/>
                      <a:pt x="1513" y="2"/>
                    </a:cubicBezTo>
                    <a:cubicBezTo>
                      <a:pt x="1513" y="1"/>
                      <a:pt x="1513" y="0"/>
                      <a:pt x="1515" y="0"/>
                    </a:cubicBezTo>
                    <a:close/>
                    <a:moveTo>
                      <a:pt x="1523" y="0"/>
                    </a:moveTo>
                    <a:lnTo>
                      <a:pt x="1523" y="0"/>
                    </a:lnTo>
                    <a:cubicBezTo>
                      <a:pt x="1524" y="0"/>
                      <a:pt x="1525" y="1"/>
                      <a:pt x="1525" y="2"/>
                    </a:cubicBezTo>
                    <a:cubicBezTo>
                      <a:pt x="1525" y="3"/>
                      <a:pt x="1524" y="4"/>
                      <a:pt x="1523" y="4"/>
                    </a:cubicBezTo>
                    <a:lnTo>
                      <a:pt x="1523" y="4"/>
                    </a:lnTo>
                    <a:cubicBezTo>
                      <a:pt x="1521" y="4"/>
                      <a:pt x="1521" y="3"/>
                      <a:pt x="1521" y="2"/>
                    </a:cubicBezTo>
                    <a:cubicBezTo>
                      <a:pt x="1521" y="1"/>
                      <a:pt x="1521" y="0"/>
                      <a:pt x="1523" y="0"/>
                    </a:cubicBezTo>
                    <a:close/>
                    <a:moveTo>
                      <a:pt x="1531" y="0"/>
                    </a:moveTo>
                    <a:lnTo>
                      <a:pt x="1531" y="0"/>
                    </a:lnTo>
                    <a:cubicBezTo>
                      <a:pt x="1532" y="0"/>
                      <a:pt x="1533" y="1"/>
                      <a:pt x="1533" y="2"/>
                    </a:cubicBezTo>
                    <a:cubicBezTo>
                      <a:pt x="1533" y="3"/>
                      <a:pt x="1532" y="4"/>
                      <a:pt x="1531" y="4"/>
                    </a:cubicBezTo>
                    <a:lnTo>
                      <a:pt x="1531" y="4"/>
                    </a:lnTo>
                    <a:cubicBezTo>
                      <a:pt x="1529" y="4"/>
                      <a:pt x="1529" y="3"/>
                      <a:pt x="1529" y="2"/>
                    </a:cubicBezTo>
                    <a:cubicBezTo>
                      <a:pt x="1529" y="1"/>
                      <a:pt x="1529" y="0"/>
                      <a:pt x="1531" y="0"/>
                    </a:cubicBezTo>
                    <a:close/>
                    <a:moveTo>
                      <a:pt x="1539" y="0"/>
                    </a:moveTo>
                    <a:lnTo>
                      <a:pt x="1539" y="0"/>
                    </a:lnTo>
                    <a:cubicBezTo>
                      <a:pt x="1540" y="0"/>
                      <a:pt x="1541" y="1"/>
                      <a:pt x="1541" y="2"/>
                    </a:cubicBezTo>
                    <a:cubicBezTo>
                      <a:pt x="1541" y="3"/>
                      <a:pt x="1540" y="4"/>
                      <a:pt x="1539" y="4"/>
                    </a:cubicBezTo>
                    <a:lnTo>
                      <a:pt x="1539" y="4"/>
                    </a:lnTo>
                    <a:cubicBezTo>
                      <a:pt x="1537" y="4"/>
                      <a:pt x="1537" y="3"/>
                      <a:pt x="1537" y="2"/>
                    </a:cubicBezTo>
                    <a:cubicBezTo>
                      <a:pt x="1537" y="1"/>
                      <a:pt x="1537" y="0"/>
                      <a:pt x="1539" y="0"/>
                    </a:cubicBezTo>
                    <a:close/>
                    <a:moveTo>
                      <a:pt x="1547" y="0"/>
                    </a:moveTo>
                    <a:lnTo>
                      <a:pt x="1547" y="0"/>
                    </a:lnTo>
                    <a:cubicBezTo>
                      <a:pt x="1548" y="0"/>
                      <a:pt x="1549" y="1"/>
                      <a:pt x="1549" y="2"/>
                    </a:cubicBezTo>
                    <a:cubicBezTo>
                      <a:pt x="1549" y="3"/>
                      <a:pt x="1548" y="4"/>
                      <a:pt x="1547" y="4"/>
                    </a:cubicBezTo>
                    <a:lnTo>
                      <a:pt x="1547" y="4"/>
                    </a:lnTo>
                    <a:cubicBezTo>
                      <a:pt x="1545" y="4"/>
                      <a:pt x="1545" y="3"/>
                      <a:pt x="1545" y="2"/>
                    </a:cubicBezTo>
                    <a:cubicBezTo>
                      <a:pt x="1545" y="1"/>
                      <a:pt x="1545" y="0"/>
                      <a:pt x="1547" y="0"/>
                    </a:cubicBezTo>
                    <a:close/>
                    <a:moveTo>
                      <a:pt x="1555" y="0"/>
                    </a:moveTo>
                    <a:lnTo>
                      <a:pt x="1555" y="0"/>
                    </a:lnTo>
                    <a:cubicBezTo>
                      <a:pt x="1556" y="0"/>
                      <a:pt x="1557" y="1"/>
                      <a:pt x="1557" y="2"/>
                    </a:cubicBezTo>
                    <a:cubicBezTo>
                      <a:pt x="1557" y="3"/>
                      <a:pt x="1556" y="4"/>
                      <a:pt x="1555" y="4"/>
                    </a:cubicBezTo>
                    <a:lnTo>
                      <a:pt x="1555" y="4"/>
                    </a:lnTo>
                    <a:cubicBezTo>
                      <a:pt x="1553" y="4"/>
                      <a:pt x="1553" y="3"/>
                      <a:pt x="1553" y="2"/>
                    </a:cubicBezTo>
                    <a:cubicBezTo>
                      <a:pt x="1553" y="1"/>
                      <a:pt x="1553" y="0"/>
                      <a:pt x="1555" y="0"/>
                    </a:cubicBezTo>
                    <a:close/>
                    <a:moveTo>
                      <a:pt x="1563" y="0"/>
                    </a:moveTo>
                    <a:lnTo>
                      <a:pt x="1563" y="0"/>
                    </a:lnTo>
                    <a:cubicBezTo>
                      <a:pt x="1564" y="0"/>
                      <a:pt x="1565" y="1"/>
                      <a:pt x="1565" y="2"/>
                    </a:cubicBezTo>
                    <a:cubicBezTo>
                      <a:pt x="1565" y="3"/>
                      <a:pt x="1564" y="4"/>
                      <a:pt x="1563" y="4"/>
                    </a:cubicBezTo>
                    <a:lnTo>
                      <a:pt x="1563" y="4"/>
                    </a:lnTo>
                    <a:cubicBezTo>
                      <a:pt x="1561" y="4"/>
                      <a:pt x="1561" y="3"/>
                      <a:pt x="1561" y="2"/>
                    </a:cubicBezTo>
                    <a:cubicBezTo>
                      <a:pt x="1561" y="1"/>
                      <a:pt x="1561" y="0"/>
                      <a:pt x="1563" y="0"/>
                    </a:cubicBezTo>
                    <a:close/>
                    <a:moveTo>
                      <a:pt x="1571" y="0"/>
                    </a:moveTo>
                    <a:lnTo>
                      <a:pt x="1571" y="0"/>
                    </a:lnTo>
                    <a:cubicBezTo>
                      <a:pt x="1572" y="0"/>
                      <a:pt x="1573" y="1"/>
                      <a:pt x="1573" y="2"/>
                    </a:cubicBezTo>
                    <a:cubicBezTo>
                      <a:pt x="1573" y="3"/>
                      <a:pt x="1572" y="4"/>
                      <a:pt x="1571" y="4"/>
                    </a:cubicBezTo>
                    <a:lnTo>
                      <a:pt x="1571" y="4"/>
                    </a:lnTo>
                    <a:cubicBezTo>
                      <a:pt x="1569" y="4"/>
                      <a:pt x="1569" y="3"/>
                      <a:pt x="1569" y="2"/>
                    </a:cubicBezTo>
                    <a:cubicBezTo>
                      <a:pt x="1569" y="1"/>
                      <a:pt x="1569" y="0"/>
                      <a:pt x="1571" y="0"/>
                    </a:cubicBezTo>
                    <a:close/>
                    <a:moveTo>
                      <a:pt x="1579" y="0"/>
                    </a:moveTo>
                    <a:lnTo>
                      <a:pt x="1579" y="0"/>
                    </a:lnTo>
                    <a:cubicBezTo>
                      <a:pt x="1580" y="0"/>
                      <a:pt x="1581" y="1"/>
                      <a:pt x="1581" y="2"/>
                    </a:cubicBezTo>
                    <a:cubicBezTo>
                      <a:pt x="1581" y="3"/>
                      <a:pt x="1580" y="4"/>
                      <a:pt x="1579" y="4"/>
                    </a:cubicBezTo>
                    <a:lnTo>
                      <a:pt x="1579" y="4"/>
                    </a:lnTo>
                    <a:cubicBezTo>
                      <a:pt x="1577" y="4"/>
                      <a:pt x="1577" y="3"/>
                      <a:pt x="1577" y="2"/>
                    </a:cubicBezTo>
                    <a:cubicBezTo>
                      <a:pt x="1577" y="1"/>
                      <a:pt x="1577" y="0"/>
                      <a:pt x="1579" y="0"/>
                    </a:cubicBezTo>
                    <a:close/>
                    <a:moveTo>
                      <a:pt x="1587" y="0"/>
                    </a:moveTo>
                    <a:lnTo>
                      <a:pt x="1587" y="0"/>
                    </a:lnTo>
                    <a:cubicBezTo>
                      <a:pt x="1588" y="0"/>
                      <a:pt x="1589" y="1"/>
                      <a:pt x="1589" y="2"/>
                    </a:cubicBezTo>
                    <a:cubicBezTo>
                      <a:pt x="1589" y="3"/>
                      <a:pt x="1588" y="4"/>
                      <a:pt x="1587" y="4"/>
                    </a:cubicBezTo>
                    <a:lnTo>
                      <a:pt x="1587" y="4"/>
                    </a:lnTo>
                    <a:cubicBezTo>
                      <a:pt x="1585" y="4"/>
                      <a:pt x="1585" y="3"/>
                      <a:pt x="1585" y="2"/>
                    </a:cubicBezTo>
                    <a:cubicBezTo>
                      <a:pt x="1585" y="1"/>
                      <a:pt x="1585" y="0"/>
                      <a:pt x="1587" y="0"/>
                    </a:cubicBezTo>
                    <a:close/>
                    <a:moveTo>
                      <a:pt x="1595" y="0"/>
                    </a:moveTo>
                    <a:lnTo>
                      <a:pt x="1595" y="0"/>
                    </a:lnTo>
                    <a:cubicBezTo>
                      <a:pt x="1596" y="0"/>
                      <a:pt x="1597" y="1"/>
                      <a:pt x="1597" y="2"/>
                    </a:cubicBezTo>
                    <a:cubicBezTo>
                      <a:pt x="1597" y="3"/>
                      <a:pt x="1596" y="4"/>
                      <a:pt x="1595" y="4"/>
                    </a:cubicBezTo>
                    <a:lnTo>
                      <a:pt x="1595" y="4"/>
                    </a:lnTo>
                    <a:cubicBezTo>
                      <a:pt x="1593" y="4"/>
                      <a:pt x="1593" y="3"/>
                      <a:pt x="1593" y="2"/>
                    </a:cubicBezTo>
                    <a:cubicBezTo>
                      <a:pt x="1593" y="1"/>
                      <a:pt x="1593" y="0"/>
                      <a:pt x="1595" y="0"/>
                    </a:cubicBezTo>
                    <a:close/>
                    <a:moveTo>
                      <a:pt x="1603" y="0"/>
                    </a:moveTo>
                    <a:lnTo>
                      <a:pt x="1603" y="0"/>
                    </a:lnTo>
                    <a:cubicBezTo>
                      <a:pt x="1604" y="0"/>
                      <a:pt x="1605" y="1"/>
                      <a:pt x="1605" y="2"/>
                    </a:cubicBezTo>
                    <a:cubicBezTo>
                      <a:pt x="1605" y="3"/>
                      <a:pt x="1604" y="4"/>
                      <a:pt x="1603" y="4"/>
                    </a:cubicBezTo>
                    <a:lnTo>
                      <a:pt x="1603" y="4"/>
                    </a:lnTo>
                    <a:cubicBezTo>
                      <a:pt x="1601" y="4"/>
                      <a:pt x="1601" y="3"/>
                      <a:pt x="1601" y="2"/>
                    </a:cubicBezTo>
                    <a:cubicBezTo>
                      <a:pt x="1601" y="1"/>
                      <a:pt x="1601" y="0"/>
                      <a:pt x="1603" y="0"/>
                    </a:cubicBezTo>
                    <a:close/>
                    <a:moveTo>
                      <a:pt x="1611" y="0"/>
                    </a:moveTo>
                    <a:lnTo>
                      <a:pt x="1611" y="0"/>
                    </a:lnTo>
                    <a:cubicBezTo>
                      <a:pt x="1612" y="0"/>
                      <a:pt x="1613" y="1"/>
                      <a:pt x="1613" y="2"/>
                    </a:cubicBezTo>
                    <a:cubicBezTo>
                      <a:pt x="1613" y="3"/>
                      <a:pt x="1612" y="4"/>
                      <a:pt x="1611" y="4"/>
                    </a:cubicBezTo>
                    <a:lnTo>
                      <a:pt x="1611" y="4"/>
                    </a:lnTo>
                    <a:cubicBezTo>
                      <a:pt x="1609" y="4"/>
                      <a:pt x="1609" y="3"/>
                      <a:pt x="1609" y="2"/>
                    </a:cubicBezTo>
                    <a:cubicBezTo>
                      <a:pt x="1609" y="1"/>
                      <a:pt x="1609" y="0"/>
                      <a:pt x="1611" y="0"/>
                    </a:cubicBezTo>
                    <a:close/>
                    <a:moveTo>
                      <a:pt x="1619" y="0"/>
                    </a:moveTo>
                    <a:lnTo>
                      <a:pt x="1619" y="0"/>
                    </a:lnTo>
                    <a:cubicBezTo>
                      <a:pt x="1620" y="0"/>
                      <a:pt x="1621" y="1"/>
                      <a:pt x="1621" y="2"/>
                    </a:cubicBezTo>
                    <a:cubicBezTo>
                      <a:pt x="1621" y="3"/>
                      <a:pt x="1620" y="4"/>
                      <a:pt x="1619" y="4"/>
                    </a:cubicBezTo>
                    <a:lnTo>
                      <a:pt x="1619" y="4"/>
                    </a:lnTo>
                    <a:cubicBezTo>
                      <a:pt x="1617" y="4"/>
                      <a:pt x="1617" y="3"/>
                      <a:pt x="1617" y="2"/>
                    </a:cubicBezTo>
                    <a:cubicBezTo>
                      <a:pt x="1617" y="1"/>
                      <a:pt x="1617" y="0"/>
                      <a:pt x="1619" y="0"/>
                    </a:cubicBezTo>
                    <a:close/>
                    <a:moveTo>
                      <a:pt x="1627" y="0"/>
                    </a:moveTo>
                    <a:lnTo>
                      <a:pt x="1627" y="0"/>
                    </a:lnTo>
                    <a:cubicBezTo>
                      <a:pt x="1628" y="0"/>
                      <a:pt x="1629" y="1"/>
                      <a:pt x="1629" y="2"/>
                    </a:cubicBezTo>
                    <a:cubicBezTo>
                      <a:pt x="1629" y="3"/>
                      <a:pt x="1628" y="4"/>
                      <a:pt x="1627" y="4"/>
                    </a:cubicBezTo>
                    <a:lnTo>
                      <a:pt x="1627" y="4"/>
                    </a:lnTo>
                    <a:cubicBezTo>
                      <a:pt x="1625" y="4"/>
                      <a:pt x="1625" y="3"/>
                      <a:pt x="1625" y="2"/>
                    </a:cubicBezTo>
                    <a:cubicBezTo>
                      <a:pt x="1625" y="1"/>
                      <a:pt x="1625" y="0"/>
                      <a:pt x="1627" y="0"/>
                    </a:cubicBezTo>
                    <a:close/>
                    <a:moveTo>
                      <a:pt x="1635" y="0"/>
                    </a:moveTo>
                    <a:lnTo>
                      <a:pt x="1635" y="0"/>
                    </a:lnTo>
                    <a:cubicBezTo>
                      <a:pt x="1636" y="0"/>
                      <a:pt x="1637" y="1"/>
                      <a:pt x="1637" y="2"/>
                    </a:cubicBezTo>
                    <a:cubicBezTo>
                      <a:pt x="1637" y="3"/>
                      <a:pt x="1636" y="4"/>
                      <a:pt x="1635" y="4"/>
                    </a:cubicBezTo>
                    <a:lnTo>
                      <a:pt x="1635" y="4"/>
                    </a:lnTo>
                    <a:cubicBezTo>
                      <a:pt x="1633" y="4"/>
                      <a:pt x="1633" y="3"/>
                      <a:pt x="1633" y="2"/>
                    </a:cubicBezTo>
                    <a:cubicBezTo>
                      <a:pt x="1633" y="1"/>
                      <a:pt x="1633" y="0"/>
                      <a:pt x="1635" y="0"/>
                    </a:cubicBezTo>
                    <a:close/>
                    <a:moveTo>
                      <a:pt x="1643" y="0"/>
                    </a:moveTo>
                    <a:lnTo>
                      <a:pt x="1643" y="0"/>
                    </a:lnTo>
                    <a:cubicBezTo>
                      <a:pt x="1644" y="0"/>
                      <a:pt x="1645" y="1"/>
                      <a:pt x="1645" y="2"/>
                    </a:cubicBezTo>
                    <a:cubicBezTo>
                      <a:pt x="1645" y="3"/>
                      <a:pt x="1644" y="4"/>
                      <a:pt x="1643" y="4"/>
                    </a:cubicBezTo>
                    <a:lnTo>
                      <a:pt x="1643" y="4"/>
                    </a:lnTo>
                    <a:cubicBezTo>
                      <a:pt x="1641" y="4"/>
                      <a:pt x="1641" y="3"/>
                      <a:pt x="1641" y="2"/>
                    </a:cubicBezTo>
                    <a:cubicBezTo>
                      <a:pt x="1641" y="1"/>
                      <a:pt x="1641" y="0"/>
                      <a:pt x="1643" y="0"/>
                    </a:cubicBezTo>
                    <a:close/>
                    <a:moveTo>
                      <a:pt x="1651" y="0"/>
                    </a:moveTo>
                    <a:lnTo>
                      <a:pt x="1651" y="0"/>
                    </a:lnTo>
                    <a:cubicBezTo>
                      <a:pt x="1652" y="0"/>
                      <a:pt x="1653" y="1"/>
                      <a:pt x="1653" y="2"/>
                    </a:cubicBezTo>
                    <a:cubicBezTo>
                      <a:pt x="1653" y="3"/>
                      <a:pt x="1652" y="4"/>
                      <a:pt x="1651" y="4"/>
                    </a:cubicBezTo>
                    <a:lnTo>
                      <a:pt x="1651" y="4"/>
                    </a:lnTo>
                    <a:cubicBezTo>
                      <a:pt x="1650" y="4"/>
                      <a:pt x="1649" y="3"/>
                      <a:pt x="1649" y="2"/>
                    </a:cubicBezTo>
                    <a:cubicBezTo>
                      <a:pt x="1649" y="1"/>
                      <a:pt x="1650" y="0"/>
                      <a:pt x="1651" y="0"/>
                    </a:cubicBezTo>
                    <a:close/>
                    <a:moveTo>
                      <a:pt x="1659" y="0"/>
                    </a:moveTo>
                    <a:lnTo>
                      <a:pt x="1659" y="0"/>
                    </a:lnTo>
                    <a:cubicBezTo>
                      <a:pt x="1660" y="0"/>
                      <a:pt x="1661" y="1"/>
                      <a:pt x="1661" y="2"/>
                    </a:cubicBezTo>
                    <a:cubicBezTo>
                      <a:pt x="1661" y="3"/>
                      <a:pt x="1660" y="4"/>
                      <a:pt x="1659" y="4"/>
                    </a:cubicBezTo>
                    <a:lnTo>
                      <a:pt x="1659" y="4"/>
                    </a:lnTo>
                    <a:cubicBezTo>
                      <a:pt x="1658" y="4"/>
                      <a:pt x="1657" y="3"/>
                      <a:pt x="1657" y="2"/>
                    </a:cubicBezTo>
                    <a:cubicBezTo>
                      <a:pt x="1657" y="1"/>
                      <a:pt x="1658" y="0"/>
                      <a:pt x="1659" y="0"/>
                    </a:cubicBezTo>
                    <a:close/>
                    <a:moveTo>
                      <a:pt x="1667" y="0"/>
                    </a:moveTo>
                    <a:lnTo>
                      <a:pt x="1667" y="0"/>
                    </a:lnTo>
                    <a:cubicBezTo>
                      <a:pt x="1668" y="0"/>
                      <a:pt x="1669" y="1"/>
                      <a:pt x="1669" y="2"/>
                    </a:cubicBezTo>
                    <a:cubicBezTo>
                      <a:pt x="1669" y="3"/>
                      <a:pt x="1668" y="4"/>
                      <a:pt x="1667" y="4"/>
                    </a:cubicBezTo>
                    <a:lnTo>
                      <a:pt x="1667" y="4"/>
                    </a:lnTo>
                    <a:cubicBezTo>
                      <a:pt x="1666" y="4"/>
                      <a:pt x="1665" y="3"/>
                      <a:pt x="1665" y="2"/>
                    </a:cubicBezTo>
                    <a:cubicBezTo>
                      <a:pt x="1665" y="1"/>
                      <a:pt x="1666" y="0"/>
                      <a:pt x="1667" y="0"/>
                    </a:cubicBezTo>
                    <a:close/>
                    <a:moveTo>
                      <a:pt x="1675" y="0"/>
                    </a:moveTo>
                    <a:lnTo>
                      <a:pt x="1675" y="0"/>
                    </a:lnTo>
                    <a:cubicBezTo>
                      <a:pt x="1676" y="0"/>
                      <a:pt x="1677" y="1"/>
                      <a:pt x="1677" y="2"/>
                    </a:cubicBezTo>
                    <a:cubicBezTo>
                      <a:pt x="1677" y="3"/>
                      <a:pt x="1676" y="4"/>
                      <a:pt x="1675" y="4"/>
                    </a:cubicBezTo>
                    <a:lnTo>
                      <a:pt x="1675" y="4"/>
                    </a:lnTo>
                    <a:cubicBezTo>
                      <a:pt x="1674" y="4"/>
                      <a:pt x="1673" y="3"/>
                      <a:pt x="1673" y="2"/>
                    </a:cubicBezTo>
                    <a:cubicBezTo>
                      <a:pt x="1673" y="1"/>
                      <a:pt x="1674" y="0"/>
                      <a:pt x="1675" y="0"/>
                    </a:cubicBezTo>
                    <a:close/>
                    <a:moveTo>
                      <a:pt x="1683" y="0"/>
                    </a:moveTo>
                    <a:lnTo>
                      <a:pt x="1683" y="0"/>
                    </a:lnTo>
                    <a:cubicBezTo>
                      <a:pt x="1684" y="0"/>
                      <a:pt x="1685" y="1"/>
                      <a:pt x="1685" y="2"/>
                    </a:cubicBezTo>
                    <a:cubicBezTo>
                      <a:pt x="1685" y="3"/>
                      <a:pt x="1684" y="4"/>
                      <a:pt x="1683" y="4"/>
                    </a:cubicBezTo>
                    <a:lnTo>
                      <a:pt x="1683" y="4"/>
                    </a:lnTo>
                    <a:cubicBezTo>
                      <a:pt x="1682" y="4"/>
                      <a:pt x="1681" y="3"/>
                      <a:pt x="1681" y="2"/>
                    </a:cubicBezTo>
                    <a:cubicBezTo>
                      <a:pt x="1681" y="1"/>
                      <a:pt x="1682" y="0"/>
                      <a:pt x="1683" y="0"/>
                    </a:cubicBezTo>
                    <a:close/>
                    <a:moveTo>
                      <a:pt x="1691" y="0"/>
                    </a:moveTo>
                    <a:lnTo>
                      <a:pt x="1691" y="0"/>
                    </a:lnTo>
                    <a:cubicBezTo>
                      <a:pt x="1692" y="0"/>
                      <a:pt x="1693" y="1"/>
                      <a:pt x="1693" y="2"/>
                    </a:cubicBezTo>
                    <a:cubicBezTo>
                      <a:pt x="1693" y="3"/>
                      <a:pt x="1692" y="4"/>
                      <a:pt x="1691" y="4"/>
                    </a:cubicBezTo>
                    <a:lnTo>
                      <a:pt x="1691" y="4"/>
                    </a:lnTo>
                    <a:cubicBezTo>
                      <a:pt x="1690" y="4"/>
                      <a:pt x="1689" y="3"/>
                      <a:pt x="1689" y="2"/>
                    </a:cubicBezTo>
                    <a:cubicBezTo>
                      <a:pt x="1689" y="1"/>
                      <a:pt x="1690" y="0"/>
                      <a:pt x="1691" y="0"/>
                    </a:cubicBezTo>
                    <a:close/>
                    <a:moveTo>
                      <a:pt x="1699" y="0"/>
                    </a:moveTo>
                    <a:lnTo>
                      <a:pt x="1699" y="0"/>
                    </a:lnTo>
                    <a:cubicBezTo>
                      <a:pt x="1700" y="0"/>
                      <a:pt x="1701" y="1"/>
                      <a:pt x="1701" y="2"/>
                    </a:cubicBezTo>
                    <a:cubicBezTo>
                      <a:pt x="1701" y="3"/>
                      <a:pt x="1700" y="4"/>
                      <a:pt x="1699" y="4"/>
                    </a:cubicBezTo>
                    <a:lnTo>
                      <a:pt x="1699" y="4"/>
                    </a:lnTo>
                    <a:cubicBezTo>
                      <a:pt x="1698" y="4"/>
                      <a:pt x="1697" y="3"/>
                      <a:pt x="1697" y="2"/>
                    </a:cubicBezTo>
                    <a:cubicBezTo>
                      <a:pt x="1697" y="1"/>
                      <a:pt x="1698" y="0"/>
                      <a:pt x="1699" y="0"/>
                    </a:cubicBezTo>
                    <a:close/>
                    <a:moveTo>
                      <a:pt x="1707" y="0"/>
                    </a:moveTo>
                    <a:lnTo>
                      <a:pt x="1707" y="0"/>
                    </a:lnTo>
                    <a:cubicBezTo>
                      <a:pt x="1708" y="0"/>
                      <a:pt x="1709" y="1"/>
                      <a:pt x="1709" y="2"/>
                    </a:cubicBezTo>
                    <a:cubicBezTo>
                      <a:pt x="1709" y="3"/>
                      <a:pt x="1708" y="4"/>
                      <a:pt x="1707" y="4"/>
                    </a:cubicBezTo>
                    <a:lnTo>
                      <a:pt x="1707" y="4"/>
                    </a:lnTo>
                    <a:cubicBezTo>
                      <a:pt x="1706" y="4"/>
                      <a:pt x="1705" y="3"/>
                      <a:pt x="1705" y="2"/>
                    </a:cubicBezTo>
                    <a:cubicBezTo>
                      <a:pt x="1705" y="1"/>
                      <a:pt x="1706" y="0"/>
                      <a:pt x="1707" y="0"/>
                    </a:cubicBezTo>
                    <a:close/>
                    <a:moveTo>
                      <a:pt x="1715" y="0"/>
                    </a:moveTo>
                    <a:lnTo>
                      <a:pt x="1715" y="0"/>
                    </a:lnTo>
                    <a:cubicBezTo>
                      <a:pt x="1716" y="0"/>
                      <a:pt x="1717" y="1"/>
                      <a:pt x="1717" y="2"/>
                    </a:cubicBezTo>
                    <a:cubicBezTo>
                      <a:pt x="1717" y="3"/>
                      <a:pt x="1716" y="4"/>
                      <a:pt x="1715" y="4"/>
                    </a:cubicBezTo>
                    <a:lnTo>
                      <a:pt x="1715" y="4"/>
                    </a:lnTo>
                    <a:cubicBezTo>
                      <a:pt x="1714" y="4"/>
                      <a:pt x="1713" y="3"/>
                      <a:pt x="1713" y="2"/>
                    </a:cubicBezTo>
                    <a:cubicBezTo>
                      <a:pt x="1713" y="1"/>
                      <a:pt x="1714" y="0"/>
                      <a:pt x="1715" y="0"/>
                    </a:cubicBezTo>
                    <a:close/>
                    <a:moveTo>
                      <a:pt x="1723" y="0"/>
                    </a:moveTo>
                    <a:lnTo>
                      <a:pt x="1723" y="0"/>
                    </a:lnTo>
                    <a:cubicBezTo>
                      <a:pt x="1724" y="0"/>
                      <a:pt x="1725" y="1"/>
                      <a:pt x="1725" y="2"/>
                    </a:cubicBezTo>
                    <a:cubicBezTo>
                      <a:pt x="1725" y="3"/>
                      <a:pt x="1724" y="4"/>
                      <a:pt x="1723" y="4"/>
                    </a:cubicBezTo>
                    <a:lnTo>
                      <a:pt x="1723" y="4"/>
                    </a:lnTo>
                    <a:cubicBezTo>
                      <a:pt x="1722" y="4"/>
                      <a:pt x="1721" y="3"/>
                      <a:pt x="1721" y="2"/>
                    </a:cubicBezTo>
                    <a:cubicBezTo>
                      <a:pt x="1721" y="1"/>
                      <a:pt x="1722" y="0"/>
                      <a:pt x="1723" y="0"/>
                    </a:cubicBezTo>
                    <a:close/>
                    <a:moveTo>
                      <a:pt x="1731" y="0"/>
                    </a:moveTo>
                    <a:lnTo>
                      <a:pt x="1731" y="0"/>
                    </a:lnTo>
                    <a:cubicBezTo>
                      <a:pt x="1732" y="0"/>
                      <a:pt x="1733" y="1"/>
                      <a:pt x="1733" y="2"/>
                    </a:cubicBezTo>
                    <a:cubicBezTo>
                      <a:pt x="1733" y="3"/>
                      <a:pt x="1732" y="4"/>
                      <a:pt x="1731" y="4"/>
                    </a:cubicBezTo>
                    <a:lnTo>
                      <a:pt x="1731" y="4"/>
                    </a:lnTo>
                    <a:cubicBezTo>
                      <a:pt x="1730" y="4"/>
                      <a:pt x="1729" y="3"/>
                      <a:pt x="1729" y="2"/>
                    </a:cubicBezTo>
                    <a:cubicBezTo>
                      <a:pt x="1729" y="1"/>
                      <a:pt x="1730" y="0"/>
                      <a:pt x="1731" y="0"/>
                    </a:cubicBezTo>
                    <a:close/>
                    <a:moveTo>
                      <a:pt x="1739" y="0"/>
                    </a:moveTo>
                    <a:lnTo>
                      <a:pt x="1739" y="0"/>
                    </a:lnTo>
                    <a:cubicBezTo>
                      <a:pt x="1740" y="0"/>
                      <a:pt x="1741" y="1"/>
                      <a:pt x="1741" y="2"/>
                    </a:cubicBezTo>
                    <a:cubicBezTo>
                      <a:pt x="1741" y="3"/>
                      <a:pt x="1740" y="4"/>
                      <a:pt x="1739" y="4"/>
                    </a:cubicBezTo>
                    <a:lnTo>
                      <a:pt x="1739" y="4"/>
                    </a:lnTo>
                    <a:cubicBezTo>
                      <a:pt x="1738" y="4"/>
                      <a:pt x="1737" y="3"/>
                      <a:pt x="1737" y="2"/>
                    </a:cubicBezTo>
                    <a:cubicBezTo>
                      <a:pt x="1737" y="1"/>
                      <a:pt x="1738" y="0"/>
                      <a:pt x="1739" y="0"/>
                    </a:cubicBezTo>
                    <a:close/>
                    <a:moveTo>
                      <a:pt x="1747" y="0"/>
                    </a:moveTo>
                    <a:lnTo>
                      <a:pt x="1747" y="0"/>
                    </a:lnTo>
                    <a:cubicBezTo>
                      <a:pt x="1748" y="0"/>
                      <a:pt x="1749" y="1"/>
                      <a:pt x="1749" y="2"/>
                    </a:cubicBezTo>
                    <a:cubicBezTo>
                      <a:pt x="1749" y="3"/>
                      <a:pt x="1748" y="4"/>
                      <a:pt x="1747" y="4"/>
                    </a:cubicBezTo>
                    <a:lnTo>
                      <a:pt x="1747" y="4"/>
                    </a:lnTo>
                    <a:cubicBezTo>
                      <a:pt x="1746" y="4"/>
                      <a:pt x="1745" y="3"/>
                      <a:pt x="1745" y="2"/>
                    </a:cubicBezTo>
                    <a:cubicBezTo>
                      <a:pt x="1745" y="1"/>
                      <a:pt x="1746" y="0"/>
                      <a:pt x="1747" y="0"/>
                    </a:cubicBezTo>
                    <a:close/>
                    <a:moveTo>
                      <a:pt x="1755" y="0"/>
                    </a:moveTo>
                    <a:lnTo>
                      <a:pt x="1755" y="0"/>
                    </a:lnTo>
                    <a:cubicBezTo>
                      <a:pt x="1756" y="0"/>
                      <a:pt x="1757" y="1"/>
                      <a:pt x="1757" y="2"/>
                    </a:cubicBezTo>
                    <a:cubicBezTo>
                      <a:pt x="1757" y="3"/>
                      <a:pt x="1756" y="4"/>
                      <a:pt x="1755" y="4"/>
                    </a:cubicBezTo>
                    <a:lnTo>
                      <a:pt x="1755" y="4"/>
                    </a:lnTo>
                    <a:cubicBezTo>
                      <a:pt x="1754" y="4"/>
                      <a:pt x="1753" y="3"/>
                      <a:pt x="1753" y="2"/>
                    </a:cubicBezTo>
                    <a:cubicBezTo>
                      <a:pt x="1753" y="1"/>
                      <a:pt x="1754" y="0"/>
                      <a:pt x="1755" y="0"/>
                    </a:cubicBezTo>
                    <a:close/>
                    <a:moveTo>
                      <a:pt x="1763" y="0"/>
                    </a:moveTo>
                    <a:lnTo>
                      <a:pt x="1763" y="0"/>
                    </a:lnTo>
                    <a:cubicBezTo>
                      <a:pt x="1764" y="0"/>
                      <a:pt x="1765" y="1"/>
                      <a:pt x="1765" y="2"/>
                    </a:cubicBezTo>
                    <a:cubicBezTo>
                      <a:pt x="1765" y="3"/>
                      <a:pt x="1764" y="4"/>
                      <a:pt x="1763" y="4"/>
                    </a:cubicBezTo>
                    <a:lnTo>
                      <a:pt x="1763" y="4"/>
                    </a:lnTo>
                    <a:cubicBezTo>
                      <a:pt x="1762" y="4"/>
                      <a:pt x="1761" y="3"/>
                      <a:pt x="1761" y="2"/>
                    </a:cubicBezTo>
                    <a:cubicBezTo>
                      <a:pt x="1761" y="1"/>
                      <a:pt x="1762" y="0"/>
                      <a:pt x="1763" y="0"/>
                    </a:cubicBezTo>
                    <a:close/>
                    <a:moveTo>
                      <a:pt x="1771" y="0"/>
                    </a:moveTo>
                    <a:lnTo>
                      <a:pt x="1771" y="0"/>
                    </a:lnTo>
                    <a:cubicBezTo>
                      <a:pt x="1772" y="0"/>
                      <a:pt x="1773" y="1"/>
                      <a:pt x="1773" y="2"/>
                    </a:cubicBezTo>
                    <a:cubicBezTo>
                      <a:pt x="1773" y="3"/>
                      <a:pt x="1772" y="4"/>
                      <a:pt x="1771" y="4"/>
                    </a:cubicBezTo>
                    <a:lnTo>
                      <a:pt x="1771" y="4"/>
                    </a:lnTo>
                    <a:cubicBezTo>
                      <a:pt x="1770" y="4"/>
                      <a:pt x="1769" y="3"/>
                      <a:pt x="1769" y="2"/>
                    </a:cubicBezTo>
                    <a:cubicBezTo>
                      <a:pt x="1769" y="1"/>
                      <a:pt x="1770" y="0"/>
                      <a:pt x="1771" y="0"/>
                    </a:cubicBezTo>
                    <a:close/>
                    <a:moveTo>
                      <a:pt x="1779" y="0"/>
                    </a:moveTo>
                    <a:lnTo>
                      <a:pt x="1779" y="0"/>
                    </a:lnTo>
                    <a:cubicBezTo>
                      <a:pt x="1780" y="0"/>
                      <a:pt x="1781" y="1"/>
                      <a:pt x="1781" y="2"/>
                    </a:cubicBezTo>
                    <a:cubicBezTo>
                      <a:pt x="1781" y="3"/>
                      <a:pt x="1780" y="4"/>
                      <a:pt x="1779" y="4"/>
                    </a:cubicBezTo>
                    <a:lnTo>
                      <a:pt x="1779" y="4"/>
                    </a:lnTo>
                    <a:cubicBezTo>
                      <a:pt x="1778" y="4"/>
                      <a:pt x="1777" y="3"/>
                      <a:pt x="1777" y="2"/>
                    </a:cubicBezTo>
                    <a:cubicBezTo>
                      <a:pt x="1777" y="1"/>
                      <a:pt x="1778" y="0"/>
                      <a:pt x="1779" y="0"/>
                    </a:cubicBezTo>
                    <a:close/>
                    <a:moveTo>
                      <a:pt x="1787" y="0"/>
                    </a:moveTo>
                    <a:lnTo>
                      <a:pt x="1787" y="0"/>
                    </a:lnTo>
                    <a:cubicBezTo>
                      <a:pt x="1788" y="0"/>
                      <a:pt x="1789" y="1"/>
                      <a:pt x="1789" y="2"/>
                    </a:cubicBezTo>
                    <a:cubicBezTo>
                      <a:pt x="1789" y="3"/>
                      <a:pt x="1788" y="4"/>
                      <a:pt x="1787" y="4"/>
                    </a:cubicBezTo>
                    <a:lnTo>
                      <a:pt x="1787" y="4"/>
                    </a:lnTo>
                    <a:cubicBezTo>
                      <a:pt x="1786" y="4"/>
                      <a:pt x="1785" y="3"/>
                      <a:pt x="1785" y="2"/>
                    </a:cubicBezTo>
                    <a:cubicBezTo>
                      <a:pt x="1785" y="1"/>
                      <a:pt x="1786" y="0"/>
                      <a:pt x="1787" y="0"/>
                    </a:cubicBezTo>
                    <a:close/>
                    <a:moveTo>
                      <a:pt x="1795" y="0"/>
                    </a:moveTo>
                    <a:lnTo>
                      <a:pt x="1795" y="0"/>
                    </a:lnTo>
                    <a:cubicBezTo>
                      <a:pt x="1796" y="0"/>
                      <a:pt x="1797" y="1"/>
                      <a:pt x="1797" y="2"/>
                    </a:cubicBezTo>
                    <a:cubicBezTo>
                      <a:pt x="1797" y="3"/>
                      <a:pt x="1796" y="4"/>
                      <a:pt x="1795" y="4"/>
                    </a:cubicBezTo>
                    <a:lnTo>
                      <a:pt x="1795" y="4"/>
                    </a:lnTo>
                    <a:cubicBezTo>
                      <a:pt x="1794" y="4"/>
                      <a:pt x="1793" y="3"/>
                      <a:pt x="1793" y="2"/>
                    </a:cubicBezTo>
                    <a:cubicBezTo>
                      <a:pt x="1793" y="1"/>
                      <a:pt x="1794" y="0"/>
                      <a:pt x="1795" y="0"/>
                    </a:cubicBezTo>
                    <a:close/>
                    <a:moveTo>
                      <a:pt x="1803" y="0"/>
                    </a:moveTo>
                    <a:lnTo>
                      <a:pt x="1803" y="0"/>
                    </a:lnTo>
                    <a:cubicBezTo>
                      <a:pt x="1804" y="0"/>
                      <a:pt x="1805" y="1"/>
                      <a:pt x="1805" y="2"/>
                    </a:cubicBezTo>
                    <a:cubicBezTo>
                      <a:pt x="1805" y="3"/>
                      <a:pt x="1804" y="4"/>
                      <a:pt x="1803" y="4"/>
                    </a:cubicBezTo>
                    <a:lnTo>
                      <a:pt x="1803" y="4"/>
                    </a:lnTo>
                    <a:cubicBezTo>
                      <a:pt x="1802" y="4"/>
                      <a:pt x="1801" y="3"/>
                      <a:pt x="1801" y="2"/>
                    </a:cubicBezTo>
                    <a:cubicBezTo>
                      <a:pt x="1801" y="1"/>
                      <a:pt x="1802" y="0"/>
                      <a:pt x="1803" y="0"/>
                    </a:cubicBezTo>
                    <a:close/>
                    <a:moveTo>
                      <a:pt x="1811" y="0"/>
                    </a:moveTo>
                    <a:lnTo>
                      <a:pt x="1811" y="0"/>
                    </a:lnTo>
                    <a:cubicBezTo>
                      <a:pt x="1812" y="0"/>
                      <a:pt x="1813" y="1"/>
                      <a:pt x="1813" y="2"/>
                    </a:cubicBezTo>
                    <a:cubicBezTo>
                      <a:pt x="1813" y="3"/>
                      <a:pt x="1812" y="4"/>
                      <a:pt x="1811" y="4"/>
                    </a:cubicBezTo>
                    <a:lnTo>
                      <a:pt x="1811" y="4"/>
                    </a:lnTo>
                    <a:cubicBezTo>
                      <a:pt x="1810" y="4"/>
                      <a:pt x="1809" y="3"/>
                      <a:pt x="1809" y="2"/>
                    </a:cubicBezTo>
                    <a:cubicBezTo>
                      <a:pt x="1809" y="1"/>
                      <a:pt x="1810" y="0"/>
                      <a:pt x="1811" y="0"/>
                    </a:cubicBezTo>
                    <a:close/>
                    <a:moveTo>
                      <a:pt x="1819" y="0"/>
                    </a:moveTo>
                    <a:lnTo>
                      <a:pt x="1819" y="0"/>
                    </a:lnTo>
                    <a:cubicBezTo>
                      <a:pt x="1820" y="0"/>
                      <a:pt x="1821" y="1"/>
                      <a:pt x="1821" y="2"/>
                    </a:cubicBezTo>
                    <a:cubicBezTo>
                      <a:pt x="1821" y="3"/>
                      <a:pt x="1820" y="4"/>
                      <a:pt x="1819" y="4"/>
                    </a:cubicBezTo>
                    <a:lnTo>
                      <a:pt x="1819" y="4"/>
                    </a:lnTo>
                    <a:cubicBezTo>
                      <a:pt x="1818" y="4"/>
                      <a:pt x="1817" y="3"/>
                      <a:pt x="1817" y="2"/>
                    </a:cubicBezTo>
                    <a:cubicBezTo>
                      <a:pt x="1817" y="1"/>
                      <a:pt x="1818" y="0"/>
                      <a:pt x="1819" y="0"/>
                    </a:cubicBezTo>
                    <a:close/>
                    <a:moveTo>
                      <a:pt x="1827" y="0"/>
                    </a:moveTo>
                    <a:lnTo>
                      <a:pt x="1827" y="0"/>
                    </a:lnTo>
                    <a:cubicBezTo>
                      <a:pt x="1828" y="0"/>
                      <a:pt x="1829" y="1"/>
                      <a:pt x="1829" y="2"/>
                    </a:cubicBezTo>
                    <a:cubicBezTo>
                      <a:pt x="1829" y="3"/>
                      <a:pt x="1828" y="4"/>
                      <a:pt x="1827" y="4"/>
                    </a:cubicBezTo>
                    <a:lnTo>
                      <a:pt x="1827" y="4"/>
                    </a:lnTo>
                    <a:cubicBezTo>
                      <a:pt x="1826" y="4"/>
                      <a:pt x="1825" y="3"/>
                      <a:pt x="1825" y="2"/>
                    </a:cubicBezTo>
                    <a:cubicBezTo>
                      <a:pt x="1825" y="1"/>
                      <a:pt x="1826" y="0"/>
                      <a:pt x="1827" y="0"/>
                    </a:cubicBezTo>
                    <a:close/>
                    <a:moveTo>
                      <a:pt x="1835" y="0"/>
                    </a:moveTo>
                    <a:lnTo>
                      <a:pt x="1835" y="0"/>
                    </a:lnTo>
                    <a:cubicBezTo>
                      <a:pt x="1836" y="0"/>
                      <a:pt x="1837" y="1"/>
                      <a:pt x="1837" y="2"/>
                    </a:cubicBezTo>
                    <a:cubicBezTo>
                      <a:pt x="1837" y="3"/>
                      <a:pt x="1836" y="4"/>
                      <a:pt x="1835" y="4"/>
                    </a:cubicBezTo>
                    <a:lnTo>
                      <a:pt x="1835" y="4"/>
                    </a:lnTo>
                    <a:cubicBezTo>
                      <a:pt x="1834" y="4"/>
                      <a:pt x="1833" y="3"/>
                      <a:pt x="1833" y="2"/>
                    </a:cubicBezTo>
                    <a:cubicBezTo>
                      <a:pt x="1833" y="1"/>
                      <a:pt x="1834" y="0"/>
                      <a:pt x="1835" y="0"/>
                    </a:cubicBezTo>
                    <a:close/>
                    <a:moveTo>
                      <a:pt x="1843" y="0"/>
                    </a:moveTo>
                    <a:lnTo>
                      <a:pt x="1843" y="0"/>
                    </a:lnTo>
                    <a:cubicBezTo>
                      <a:pt x="1844" y="0"/>
                      <a:pt x="1845" y="1"/>
                      <a:pt x="1845" y="2"/>
                    </a:cubicBezTo>
                    <a:cubicBezTo>
                      <a:pt x="1845" y="3"/>
                      <a:pt x="1844" y="4"/>
                      <a:pt x="1843" y="4"/>
                    </a:cubicBezTo>
                    <a:lnTo>
                      <a:pt x="1843" y="4"/>
                    </a:lnTo>
                    <a:cubicBezTo>
                      <a:pt x="1842" y="4"/>
                      <a:pt x="1841" y="3"/>
                      <a:pt x="1841" y="2"/>
                    </a:cubicBezTo>
                    <a:cubicBezTo>
                      <a:pt x="1841" y="1"/>
                      <a:pt x="1842" y="0"/>
                      <a:pt x="1843" y="0"/>
                    </a:cubicBezTo>
                    <a:close/>
                    <a:moveTo>
                      <a:pt x="1851" y="0"/>
                    </a:moveTo>
                    <a:lnTo>
                      <a:pt x="1851" y="0"/>
                    </a:lnTo>
                    <a:cubicBezTo>
                      <a:pt x="1852" y="0"/>
                      <a:pt x="1853" y="1"/>
                      <a:pt x="1853" y="2"/>
                    </a:cubicBezTo>
                    <a:cubicBezTo>
                      <a:pt x="1853" y="3"/>
                      <a:pt x="1852" y="4"/>
                      <a:pt x="1851" y="4"/>
                    </a:cubicBezTo>
                    <a:lnTo>
                      <a:pt x="1851" y="4"/>
                    </a:lnTo>
                    <a:cubicBezTo>
                      <a:pt x="1850" y="4"/>
                      <a:pt x="1849" y="3"/>
                      <a:pt x="1849" y="2"/>
                    </a:cubicBezTo>
                    <a:cubicBezTo>
                      <a:pt x="1849" y="1"/>
                      <a:pt x="1850" y="0"/>
                      <a:pt x="1851" y="0"/>
                    </a:cubicBezTo>
                    <a:close/>
                    <a:moveTo>
                      <a:pt x="1859" y="0"/>
                    </a:moveTo>
                    <a:lnTo>
                      <a:pt x="1859" y="0"/>
                    </a:lnTo>
                    <a:cubicBezTo>
                      <a:pt x="1860" y="0"/>
                      <a:pt x="1861" y="1"/>
                      <a:pt x="1861" y="2"/>
                    </a:cubicBezTo>
                    <a:cubicBezTo>
                      <a:pt x="1861" y="3"/>
                      <a:pt x="1860" y="4"/>
                      <a:pt x="1859" y="4"/>
                    </a:cubicBezTo>
                    <a:lnTo>
                      <a:pt x="1859" y="4"/>
                    </a:lnTo>
                    <a:cubicBezTo>
                      <a:pt x="1858" y="4"/>
                      <a:pt x="1857" y="3"/>
                      <a:pt x="1857" y="2"/>
                    </a:cubicBezTo>
                    <a:cubicBezTo>
                      <a:pt x="1857" y="1"/>
                      <a:pt x="1858" y="0"/>
                      <a:pt x="1859" y="0"/>
                    </a:cubicBezTo>
                    <a:close/>
                    <a:moveTo>
                      <a:pt x="1867" y="0"/>
                    </a:moveTo>
                    <a:lnTo>
                      <a:pt x="1867" y="0"/>
                    </a:lnTo>
                    <a:cubicBezTo>
                      <a:pt x="1868" y="0"/>
                      <a:pt x="1869" y="1"/>
                      <a:pt x="1869" y="2"/>
                    </a:cubicBezTo>
                    <a:cubicBezTo>
                      <a:pt x="1869" y="3"/>
                      <a:pt x="1868" y="4"/>
                      <a:pt x="1867" y="4"/>
                    </a:cubicBezTo>
                    <a:lnTo>
                      <a:pt x="1867" y="4"/>
                    </a:lnTo>
                    <a:cubicBezTo>
                      <a:pt x="1866" y="4"/>
                      <a:pt x="1865" y="3"/>
                      <a:pt x="1865" y="2"/>
                    </a:cubicBezTo>
                    <a:cubicBezTo>
                      <a:pt x="1865" y="1"/>
                      <a:pt x="1866" y="0"/>
                      <a:pt x="1867" y="0"/>
                    </a:cubicBezTo>
                    <a:close/>
                    <a:moveTo>
                      <a:pt x="1875" y="0"/>
                    </a:moveTo>
                    <a:lnTo>
                      <a:pt x="1875" y="0"/>
                    </a:lnTo>
                    <a:cubicBezTo>
                      <a:pt x="1876" y="0"/>
                      <a:pt x="1877" y="1"/>
                      <a:pt x="1877" y="2"/>
                    </a:cubicBezTo>
                    <a:cubicBezTo>
                      <a:pt x="1877" y="3"/>
                      <a:pt x="1876" y="4"/>
                      <a:pt x="1875" y="4"/>
                    </a:cubicBezTo>
                    <a:lnTo>
                      <a:pt x="1875" y="4"/>
                    </a:lnTo>
                    <a:cubicBezTo>
                      <a:pt x="1874" y="4"/>
                      <a:pt x="1873" y="3"/>
                      <a:pt x="1873" y="2"/>
                    </a:cubicBezTo>
                    <a:cubicBezTo>
                      <a:pt x="1873" y="1"/>
                      <a:pt x="1874" y="0"/>
                      <a:pt x="1875" y="0"/>
                    </a:cubicBezTo>
                    <a:close/>
                    <a:moveTo>
                      <a:pt x="1883" y="0"/>
                    </a:moveTo>
                    <a:lnTo>
                      <a:pt x="1883" y="0"/>
                    </a:lnTo>
                    <a:cubicBezTo>
                      <a:pt x="1884" y="0"/>
                      <a:pt x="1885" y="1"/>
                      <a:pt x="1885" y="2"/>
                    </a:cubicBezTo>
                    <a:cubicBezTo>
                      <a:pt x="1885" y="3"/>
                      <a:pt x="1884" y="4"/>
                      <a:pt x="1883" y="4"/>
                    </a:cubicBezTo>
                    <a:lnTo>
                      <a:pt x="1883" y="4"/>
                    </a:lnTo>
                    <a:cubicBezTo>
                      <a:pt x="1882" y="4"/>
                      <a:pt x="1881" y="3"/>
                      <a:pt x="1881" y="2"/>
                    </a:cubicBezTo>
                    <a:cubicBezTo>
                      <a:pt x="1881" y="1"/>
                      <a:pt x="1882" y="0"/>
                      <a:pt x="1883" y="0"/>
                    </a:cubicBezTo>
                    <a:close/>
                    <a:moveTo>
                      <a:pt x="1891" y="0"/>
                    </a:moveTo>
                    <a:lnTo>
                      <a:pt x="1891" y="0"/>
                    </a:lnTo>
                    <a:cubicBezTo>
                      <a:pt x="1892" y="0"/>
                      <a:pt x="1893" y="1"/>
                      <a:pt x="1893" y="2"/>
                    </a:cubicBezTo>
                    <a:cubicBezTo>
                      <a:pt x="1893" y="3"/>
                      <a:pt x="1892" y="4"/>
                      <a:pt x="1891" y="4"/>
                    </a:cubicBezTo>
                    <a:lnTo>
                      <a:pt x="1891" y="4"/>
                    </a:lnTo>
                    <a:cubicBezTo>
                      <a:pt x="1890" y="4"/>
                      <a:pt x="1889" y="3"/>
                      <a:pt x="1889" y="2"/>
                    </a:cubicBezTo>
                    <a:cubicBezTo>
                      <a:pt x="1889" y="1"/>
                      <a:pt x="1890" y="0"/>
                      <a:pt x="1891" y="0"/>
                    </a:cubicBezTo>
                    <a:close/>
                    <a:moveTo>
                      <a:pt x="1899" y="0"/>
                    </a:moveTo>
                    <a:lnTo>
                      <a:pt x="1899" y="0"/>
                    </a:lnTo>
                    <a:cubicBezTo>
                      <a:pt x="1900" y="0"/>
                      <a:pt x="1901" y="1"/>
                      <a:pt x="1901" y="2"/>
                    </a:cubicBezTo>
                    <a:cubicBezTo>
                      <a:pt x="1901" y="3"/>
                      <a:pt x="1900" y="4"/>
                      <a:pt x="1899" y="4"/>
                    </a:cubicBezTo>
                    <a:lnTo>
                      <a:pt x="1899" y="4"/>
                    </a:lnTo>
                    <a:cubicBezTo>
                      <a:pt x="1898" y="4"/>
                      <a:pt x="1897" y="3"/>
                      <a:pt x="1897" y="2"/>
                    </a:cubicBezTo>
                    <a:cubicBezTo>
                      <a:pt x="1897" y="1"/>
                      <a:pt x="1898" y="0"/>
                      <a:pt x="1899" y="0"/>
                    </a:cubicBezTo>
                    <a:close/>
                    <a:moveTo>
                      <a:pt x="1907" y="0"/>
                    </a:moveTo>
                    <a:lnTo>
                      <a:pt x="1907" y="0"/>
                    </a:lnTo>
                    <a:cubicBezTo>
                      <a:pt x="1908" y="0"/>
                      <a:pt x="1909" y="1"/>
                      <a:pt x="1909" y="2"/>
                    </a:cubicBezTo>
                    <a:cubicBezTo>
                      <a:pt x="1909" y="3"/>
                      <a:pt x="1908" y="4"/>
                      <a:pt x="1907" y="4"/>
                    </a:cubicBezTo>
                    <a:lnTo>
                      <a:pt x="1907" y="4"/>
                    </a:lnTo>
                    <a:cubicBezTo>
                      <a:pt x="1906" y="4"/>
                      <a:pt x="1905" y="3"/>
                      <a:pt x="1905" y="2"/>
                    </a:cubicBezTo>
                    <a:cubicBezTo>
                      <a:pt x="1905" y="1"/>
                      <a:pt x="1906" y="0"/>
                      <a:pt x="1907" y="0"/>
                    </a:cubicBezTo>
                    <a:close/>
                    <a:moveTo>
                      <a:pt x="1915" y="0"/>
                    </a:moveTo>
                    <a:lnTo>
                      <a:pt x="1915" y="0"/>
                    </a:lnTo>
                    <a:cubicBezTo>
                      <a:pt x="1916" y="0"/>
                      <a:pt x="1917" y="1"/>
                      <a:pt x="1917" y="2"/>
                    </a:cubicBezTo>
                    <a:cubicBezTo>
                      <a:pt x="1917" y="3"/>
                      <a:pt x="1916" y="4"/>
                      <a:pt x="1915" y="4"/>
                    </a:cubicBezTo>
                    <a:lnTo>
                      <a:pt x="1915" y="4"/>
                    </a:lnTo>
                    <a:cubicBezTo>
                      <a:pt x="1914" y="4"/>
                      <a:pt x="1913" y="3"/>
                      <a:pt x="1913" y="2"/>
                    </a:cubicBezTo>
                    <a:cubicBezTo>
                      <a:pt x="1913" y="1"/>
                      <a:pt x="1914" y="0"/>
                      <a:pt x="1915" y="0"/>
                    </a:cubicBezTo>
                    <a:close/>
                    <a:moveTo>
                      <a:pt x="1923" y="0"/>
                    </a:moveTo>
                    <a:lnTo>
                      <a:pt x="1923" y="0"/>
                    </a:lnTo>
                    <a:cubicBezTo>
                      <a:pt x="1924" y="0"/>
                      <a:pt x="1925" y="1"/>
                      <a:pt x="1925" y="2"/>
                    </a:cubicBezTo>
                    <a:cubicBezTo>
                      <a:pt x="1925" y="3"/>
                      <a:pt x="1924" y="4"/>
                      <a:pt x="1923" y="4"/>
                    </a:cubicBezTo>
                    <a:lnTo>
                      <a:pt x="1923" y="4"/>
                    </a:lnTo>
                    <a:cubicBezTo>
                      <a:pt x="1922" y="4"/>
                      <a:pt x="1921" y="3"/>
                      <a:pt x="1921" y="2"/>
                    </a:cubicBezTo>
                    <a:cubicBezTo>
                      <a:pt x="1921" y="1"/>
                      <a:pt x="1922" y="0"/>
                      <a:pt x="1923" y="0"/>
                    </a:cubicBezTo>
                    <a:close/>
                    <a:moveTo>
                      <a:pt x="1931" y="0"/>
                    </a:moveTo>
                    <a:lnTo>
                      <a:pt x="1931" y="0"/>
                    </a:lnTo>
                    <a:cubicBezTo>
                      <a:pt x="1932" y="0"/>
                      <a:pt x="1933" y="1"/>
                      <a:pt x="1933" y="2"/>
                    </a:cubicBezTo>
                    <a:cubicBezTo>
                      <a:pt x="1933" y="3"/>
                      <a:pt x="1932" y="4"/>
                      <a:pt x="1931" y="4"/>
                    </a:cubicBezTo>
                    <a:lnTo>
                      <a:pt x="1931" y="4"/>
                    </a:lnTo>
                    <a:cubicBezTo>
                      <a:pt x="1930" y="4"/>
                      <a:pt x="1929" y="3"/>
                      <a:pt x="1929" y="2"/>
                    </a:cubicBezTo>
                    <a:cubicBezTo>
                      <a:pt x="1929" y="1"/>
                      <a:pt x="1930" y="0"/>
                      <a:pt x="1931" y="0"/>
                    </a:cubicBezTo>
                    <a:close/>
                    <a:moveTo>
                      <a:pt x="1939" y="0"/>
                    </a:moveTo>
                    <a:lnTo>
                      <a:pt x="1939" y="0"/>
                    </a:lnTo>
                    <a:cubicBezTo>
                      <a:pt x="1940" y="0"/>
                      <a:pt x="1941" y="1"/>
                      <a:pt x="1941" y="2"/>
                    </a:cubicBezTo>
                    <a:cubicBezTo>
                      <a:pt x="1941" y="3"/>
                      <a:pt x="1940" y="4"/>
                      <a:pt x="1939" y="4"/>
                    </a:cubicBezTo>
                    <a:lnTo>
                      <a:pt x="1939" y="4"/>
                    </a:lnTo>
                    <a:cubicBezTo>
                      <a:pt x="1938" y="4"/>
                      <a:pt x="1937" y="3"/>
                      <a:pt x="1937" y="2"/>
                    </a:cubicBezTo>
                    <a:cubicBezTo>
                      <a:pt x="1937" y="1"/>
                      <a:pt x="1938" y="0"/>
                      <a:pt x="1939" y="0"/>
                    </a:cubicBezTo>
                    <a:close/>
                    <a:moveTo>
                      <a:pt x="1947" y="0"/>
                    </a:moveTo>
                    <a:lnTo>
                      <a:pt x="1947" y="0"/>
                    </a:lnTo>
                    <a:cubicBezTo>
                      <a:pt x="1948" y="0"/>
                      <a:pt x="1949" y="1"/>
                      <a:pt x="1949" y="2"/>
                    </a:cubicBezTo>
                    <a:cubicBezTo>
                      <a:pt x="1949" y="3"/>
                      <a:pt x="1948" y="4"/>
                      <a:pt x="1947" y="4"/>
                    </a:cubicBezTo>
                    <a:lnTo>
                      <a:pt x="1947" y="4"/>
                    </a:lnTo>
                    <a:cubicBezTo>
                      <a:pt x="1946" y="4"/>
                      <a:pt x="1945" y="3"/>
                      <a:pt x="1945" y="2"/>
                    </a:cubicBezTo>
                    <a:cubicBezTo>
                      <a:pt x="1945" y="1"/>
                      <a:pt x="1946" y="0"/>
                      <a:pt x="1947" y="0"/>
                    </a:cubicBezTo>
                    <a:close/>
                    <a:moveTo>
                      <a:pt x="1955" y="0"/>
                    </a:moveTo>
                    <a:lnTo>
                      <a:pt x="1955" y="0"/>
                    </a:lnTo>
                    <a:cubicBezTo>
                      <a:pt x="1956" y="0"/>
                      <a:pt x="1957" y="1"/>
                      <a:pt x="1957" y="2"/>
                    </a:cubicBezTo>
                    <a:cubicBezTo>
                      <a:pt x="1957" y="3"/>
                      <a:pt x="1956" y="4"/>
                      <a:pt x="1955" y="4"/>
                    </a:cubicBezTo>
                    <a:lnTo>
                      <a:pt x="1955" y="4"/>
                    </a:lnTo>
                    <a:cubicBezTo>
                      <a:pt x="1954" y="4"/>
                      <a:pt x="1953" y="3"/>
                      <a:pt x="1953" y="2"/>
                    </a:cubicBezTo>
                    <a:cubicBezTo>
                      <a:pt x="1953" y="1"/>
                      <a:pt x="1954" y="0"/>
                      <a:pt x="1955" y="0"/>
                    </a:cubicBezTo>
                    <a:close/>
                    <a:moveTo>
                      <a:pt x="1963" y="0"/>
                    </a:moveTo>
                    <a:lnTo>
                      <a:pt x="1963" y="0"/>
                    </a:lnTo>
                    <a:cubicBezTo>
                      <a:pt x="1964" y="0"/>
                      <a:pt x="1965" y="1"/>
                      <a:pt x="1965" y="2"/>
                    </a:cubicBezTo>
                    <a:cubicBezTo>
                      <a:pt x="1965" y="3"/>
                      <a:pt x="1964" y="4"/>
                      <a:pt x="1963" y="4"/>
                    </a:cubicBezTo>
                    <a:lnTo>
                      <a:pt x="1963" y="4"/>
                    </a:lnTo>
                    <a:cubicBezTo>
                      <a:pt x="1962" y="4"/>
                      <a:pt x="1961" y="3"/>
                      <a:pt x="1961" y="2"/>
                    </a:cubicBezTo>
                    <a:cubicBezTo>
                      <a:pt x="1961" y="1"/>
                      <a:pt x="1962" y="0"/>
                      <a:pt x="1963" y="0"/>
                    </a:cubicBezTo>
                    <a:close/>
                    <a:moveTo>
                      <a:pt x="1971" y="0"/>
                    </a:moveTo>
                    <a:lnTo>
                      <a:pt x="1971" y="0"/>
                    </a:lnTo>
                    <a:cubicBezTo>
                      <a:pt x="1972" y="0"/>
                      <a:pt x="1973" y="1"/>
                      <a:pt x="1973" y="2"/>
                    </a:cubicBezTo>
                    <a:cubicBezTo>
                      <a:pt x="1973" y="3"/>
                      <a:pt x="1972" y="4"/>
                      <a:pt x="1971" y="4"/>
                    </a:cubicBezTo>
                    <a:lnTo>
                      <a:pt x="1971" y="4"/>
                    </a:lnTo>
                    <a:cubicBezTo>
                      <a:pt x="1970" y="4"/>
                      <a:pt x="1969" y="3"/>
                      <a:pt x="1969" y="2"/>
                    </a:cubicBezTo>
                    <a:cubicBezTo>
                      <a:pt x="1969" y="1"/>
                      <a:pt x="1970" y="0"/>
                      <a:pt x="1971" y="0"/>
                    </a:cubicBezTo>
                    <a:close/>
                    <a:moveTo>
                      <a:pt x="1979" y="0"/>
                    </a:moveTo>
                    <a:lnTo>
                      <a:pt x="1979" y="0"/>
                    </a:lnTo>
                    <a:cubicBezTo>
                      <a:pt x="1980" y="0"/>
                      <a:pt x="1981" y="1"/>
                      <a:pt x="1981" y="2"/>
                    </a:cubicBezTo>
                    <a:cubicBezTo>
                      <a:pt x="1981" y="3"/>
                      <a:pt x="1980" y="4"/>
                      <a:pt x="1979" y="4"/>
                    </a:cubicBezTo>
                    <a:lnTo>
                      <a:pt x="1979" y="4"/>
                    </a:lnTo>
                    <a:cubicBezTo>
                      <a:pt x="1978" y="4"/>
                      <a:pt x="1977" y="3"/>
                      <a:pt x="1977" y="2"/>
                    </a:cubicBezTo>
                    <a:cubicBezTo>
                      <a:pt x="1977" y="1"/>
                      <a:pt x="1978" y="0"/>
                      <a:pt x="1979" y="0"/>
                    </a:cubicBezTo>
                    <a:close/>
                    <a:moveTo>
                      <a:pt x="1987" y="0"/>
                    </a:moveTo>
                    <a:lnTo>
                      <a:pt x="1987" y="0"/>
                    </a:lnTo>
                    <a:cubicBezTo>
                      <a:pt x="1988" y="0"/>
                      <a:pt x="1989" y="1"/>
                      <a:pt x="1989" y="2"/>
                    </a:cubicBezTo>
                    <a:cubicBezTo>
                      <a:pt x="1989" y="3"/>
                      <a:pt x="1988" y="4"/>
                      <a:pt x="1987" y="4"/>
                    </a:cubicBezTo>
                    <a:lnTo>
                      <a:pt x="1987" y="4"/>
                    </a:lnTo>
                    <a:cubicBezTo>
                      <a:pt x="1986" y="4"/>
                      <a:pt x="1985" y="3"/>
                      <a:pt x="1985" y="2"/>
                    </a:cubicBezTo>
                    <a:cubicBezTo>
                      <a:pt x="1985" y="1"/>
                      <a:pt x="1986" y="0"/>
                      <a:pt x="1987" y="0"/>
                    </a:cubicBezTo>
                    <a:close/>
                    <a:moveTo>
                      <a:pt x="1995" y="0"/>
                    </a:moveTo>
                    <a:lnTo>
                      <a:pt x="1995" y="0"/>
                    </a:lnTo>
                    <a:cubicBezTo>
                      <a:pt x="1996" y="0"/>
                      <a:pt x="1997" y="1"/>
                      <a:pt x="1997" y="2"/>
                    </a:cubicBezTo>
                    <a:cubicBezTo>
                      <a:pt x="1997" y="3"/>
                      <a:pt x="1996" y="4"/>
                      <a:pt x="1995" y="4"/>
                    </a:cubicBezTo>
                    <a:lnTo>
                      <a:pt x="1995" y="4"/>
                    </a:lnTo>
                    <a:cubicBezTo>
                      <a:pt x="1994" y="4"/>
                      <a:pt x="1993" y="3"/>
                      <a:pt x="1993" y="2"/>
                    </a:cubicBezTo>
                    <a:cubicBezTo>
                      <a:pt x="1993" y="1"/>
                      <a:pt x="1994" y="0"/>
                      <a:pt x="1995" y="0"/>
                    </a:cubicBezTo>
                    <a:close/>
                    <a:moveTo>
                      <a:pt x="2003" y="0"/>
                    </a:moveTo>
                    <a:lnTo>
                      <a:pt x="2003" y="0"/>
                    </a:lnTo>
                    <a:cubicBezTo>
                      <a:pt x="2004" y="0"/>
                      <a:pt x="2005" y="1"/>
                      <a:pt x="2005" y="2"/>
                    </a:cubicBezTo>
                    <a:cubicBezTo>
                      <a:pt x="2005" y="3"/>
                      <a:pt x="2004" y="4"/>
                      <a:pt x="2003" y="4"/>
                    </a:cubicBezTo>
                    <a:lnTo>
                      <a:pt x="2003" y="4"/>
                    </a:lnTo>
                    <a:cubicBezTo>
                      <a:pt x="2002" y="4"/>
                      <a:pt x="2001" y="3"/>
                      <a:pt x="2001" y="2"/>
                    </a:cubicBezTo>
                    <a:cubicBezTo>
                      <a:pt x="2001" y="1"/>
                      <a:pt x="2002" y="0"/>
                      <a:pt x="2003" y="0"/>
                    </a:cubicBezTo>
                    <a:close/>
                    <a:moveTo>
                      <a:pt x="2011" y="0"/>
                    </a:moveTo>
                    <a:lnTo>
                      <a:pt x="2011" y="0"/>
                    </a:lnTo>
                    <a:cubicBezTo>
                      <a:pt x="2012" y="0"/>
                      <a:pt x="2013" y="1"/>
                      <a:pt x="2013" y="2"/>
                    </a:cubicBezTo>
                    <a:cubicBezTo>
                      <a:pt x="2013" y="3"/>
                      <a:pt x="2012" y="4"/>
                      <a:pt x="2011" y="4"/>
                    </a:cubicBezTo>
                    <a:lnTo>
                      <a:pt x="2011" y="4"/>
                    </a:lnTo>
                    <a:cubicBezTo>
                      <a:pt x="2010" y="4"/>
                      <a:pt x="2009" y="3"/>
                      <a:pt x="2009" y="2"/>
                    </a:cubicBezTo>
                    <a:cubicBezTo>
                      <a:pt x="2009" y="1"/>
                      <a:pt x="2010" y="0"/>
                      <a:pt x="2011" y="0"/>
                    </a:cubicBezTo>
                    <a:close/>
                    <a:moveTo>
                      <a:pt x="2019" y="0"/>
                    </a:moveTo>
                    <a:lnTo>
                      <a:pt x="2019" y="0"/>
                    </a:lnTo>
                    <a:cubicBezTo>
                      <a:pt x="2020" y="0"/>
                      <a:pt x="2021" y="1"/>
                      <a:pt x="2021" y="2"/>
                    </a:cubicBezTo>
                    <a:cubicBezTo>
                      <a:pt x="2021" y="3"/>
                      <a:pt x="2020" y="4"/>
                      <a:pt x="2019" y="4"/>
                    </a:cubicBezTo>
                    <a:lnTo>
                      <a:pt x="2019" y="4"/>
                    </a:lnTo>
                    <a:cubicBezTo>
                      <a:pt x="2018" y="4"/>
                      <a:pt x="2017" y="3"/>
                      <a:pt x="2017" y="2"/>
                    </a:cubicBezTo>
                    <a:cubicBezTo>
                      <a:pt x="2017" y="1"/>
                      <a:pt x="2018" y="0"/>
                      <a:pt x="2019" y="0"/>
                    </a:cubicBezTo>
                    <a:close/>
                    <a:moveTo>
                      <a:pt x="2027" y="0"/>
                    </a:moveTo>
                    <a:lnTo>
                      <a:pt x="2027" y="0"/>
                    </a:lnTo>
                    <a:cubicBezTo>
                      <a:pt x="2028" y="0"/>
                      <a:pt x="2029" y="1"/>
                      <a:pt x="2029" y="2"/>
                    </a:cubicBezTo>
                    <a:cubicBezTo>
                      <a:pt x="2029" y="3"/>
                      <a:pt x="2028" y="4"/>
                      <a:pt x="2027" y="4"/>
                    </a:cubicBezTo>
                    <a:lnTo>
                      <a:pt x="2027" y="4"/>
                    </a:lnTo>
                    <a:cubicBezTo>
                      <a:pt x="2026" y="4"/>
                      <a:pt x="2025" y="3"/>
                      <a:pt x="2025" y="2"/>
                    </a:cubicBezTo>
                    <a:cubicBezTo>
                      <a:pt x="2025" y="1"/>
                      <a:pt x="2026" y="0"/>
                      <a:pt x="2027" y="0"/>
                    </a:cubicBezTo>
                    <a:close/>
                    <a:moveTo>
                      <a:pt x="2035" y="0"/>
                    </a:moveTo>
                    <a:lnTo>
                      <a:pt x="2035" y="0"/>
                    </a:lnTo>
                    <a:cubicBezTo>
                      <a:pt x="2036" y="0"/>
                      <a:pt x="2037" y="1"/>
                      <a:pt x="2037" y="2"/>
                    </a:cubicBezTo>
                    <a:cubicBezTo>
                      <a:pt x="2037" y="3"/>
                      <a:pt x="2036" y="4"/>
                      <a:pt x="2035" y="4"/>
                    </a:cubicBezTo>
                    <a:lnTo>
                      <a:pt x="2035" y="4"/>
                    </a:lnTo>
                    <a:cubicBezTo>
                      <a:pt x="2034" y="4"/>
                      <a:pt x="2033" y="3"/>
                      <a:pt x="2033" y="2"/>
                    </a:cubicBezTo>
                    <a:cubicBezTo>
                      <a:pt x="2033" y="1"/>
                      <a:pt x="2034" y="0"/>
                      <a:pt x="2035" y="0"/>
                    </a:cubicBezTo>
                    <a:close/>
                    <a:moveTo>
                      <a:pt x="2043" y="0"/>
                    </a:moveTo>
                    <a:lnTo>
                      <a:pt x="2043" y="0"/>
                    </a:lnTo>
                    <a:cubicBezTo>
                      <a:pt x="2044" y="0"/>
                      <a:pt x="2045" y="1"/>
                      <a:pt x="2045" y="2"/>
                    </a:cubicBezTo>
                    <a:cubicBezTo>
                      <a:pt x="2045" y="3"/>
                      <a:pt x="2044" y="4"/>
                      <a:pt x="2043" y="4"/>
                    </a:cubicBezTo>
                    <a:lnTo>
                      <a:pt x="2043" y="4"/>
                    </a:lnTo>
                    <a:cubicBezTo>
                      <a:pt x="2042" y="4"/>
                      <a:pt x="2041" y="3"/>
                      <a:pt x="2041" y="2"/>
                    </a:cubicBezTo>
                    <a:cubicBezTo>
                      <a:pt x="2041" y="1"/>
                      <a:pt x="2042" y="0"/>
                      <a:pt x="2043" y="0"/>
                    </a:cubicBezTo>
                    <a:close/>
                    <a:moveTo>
                      <a:pt x="2051" y="0"/>
                    </a:moveTo>
                    <a:lnTo>
                      <a:pt x="2051" y="0"/>
                    </a:lnTo>
                    <a:cubicBezTo>
                      <a:pt x="2052" y="0"/>
                      <a:pt x="2053" y="1"/>
                      <a:pt x="2053" y="2"/>
                    </a:cubicBezTo>
                    <a:cubicBezTo>
                      <a:pt x="2053" y="3"/>
                      <a:pt x="2052" y="4"/>
                      <a:pt x="2051" y="4"/>
                    </a:cubicBezTo>
                    <a:lnTo>
                      <a:pt x="2051" y="4"/>
                    </a:lnTo>
                    <a:cubicBezTo>
                      <a:pt x="2050" y="4"/>
                      <a:pt x="2049" y="3"/>
                      <a:pt x="2049" y="2"/>
                    </a:cubicBezTo>
                    <a:cubicBezTo>
                      <a:pt x="2049" y="1"/>
                      <a:pt x="2050" y="0"/>
                      <a:pt x="2051" y="0"/>
                    </a:cubicBezTo>
                    <a:close/>
                    <a:moveTo>
                      <a:pt x="2059" y="0"/>
                    </a:moveTo>
                    <a:lnTo>
                      <a:pt x="2059" y="0"/>
                    </a:lnTo>
                    <a:cubicBezTo>
                      <a:pt x="2060" y="0"/>
                      <a:pt x="2061" y="1"/>
                      <a:pt x="2061" y="2"/>
                    </a:cubicBezTo>
                    <a:cubicBezTo>
                      <a:pt x="2061" y="3"/>
                      <a:pt x="2060" y="4"/>
                      <a:pt x="2059" y="4"/>
                    </a:cubicBezTo>
                    <a:lnTo>
                      <a:pt x="2059" y="4"/>
                    </a:lnTo>
                    <a:cubicBezTo>
                      <a:pt x="2058" y="4"/>
                      <a:pt x="2057" y="3"/>
                      <a:pt x="2057" y="2"/>
                    </a:cubicBezTo>
                    <a:cubicBezTo>
                      <a:pt x="2057" y="1"/>
                      <a:pt x="2058" y="0"/>
                      <a:pt x="2059" y="0"/>
                    </a:cubicBezTo>
                    <a:close/>
                    <a:moveTo>
                      <a:pt x="2067" y="0"/>
                    </a:moveTo>
                    <a:lnTo>
                      <a:pt x="2067" y="0"/>
                    </a:lnTo>
                    <a:cubicBezTo>
                      <a:pt x="2068" y="0"/>
                      <a:pt x="2069" y="1"/>
                      <a:pt x="2069" y="2"/>
                    </a:cubicBezTo>
                    <a:cubicBezTo>
                      <a:pt x="2069" y="3"/>
                      <a:pt x="2068" y="4"/>
                      <a:pt x="2067" y="4"/>
                    </a:cubicBezTo>
                    <a:lnTo>
                      <a:pt x="2067" y="4"/>
                    </a:lnTo>
                    <a:cubicBezTo>
                      <a:pt x="2066" y="4"/>
                      <a:pt x="2065" y="3"/>
                      <a:pt x="2065" y="2"/>
                    </a:cubicBezTo>
                    <a:cubicBezTo>
                      <a:pt x="2065" y="1"/>
                      <a:pt x="2066" y="0"/>
                      <a:pt x="2067" y="0"/>
                    </a:cubicBezTo>
                    <a:close/>
                    <a:moveTo>
                      <a:pt x="2075" y="0"/>
                    </a:moveTo>
                    <a:lnTo>
                      <a:pt x="2075" y="0"/>
                    </a:lnTo>
                    <a:cubicBezTo>
                      <a:pt x="2076" y="0"/>
                      <a:pt x="2077" y="1"/>
                      <a:pt x="2077" y="2"/>
                    </a:cubicBezTo>
                    <a:cubicBezTo>
                      <a:pt x="2077" y="3"/>
                      <a:pt x="2076" y="4"/>
                      <a:pt x="2075" y="4"/>
                    </a:cubicBezTo>
                    <a:lnTo>
                      <a:pt x="2075" y="4"/>
                    </a:lnTo>
                    <a:cubicBezTo>
                      <a:pt x="2074" y="4"/>
                      <a:pt x="2073" y="3"/>
                      <a:pt x="2073" y="2"/>
                    </a:cubicBezTo>
                    <a:cubicBezTo>
                      <a:pt x="2073" y="1"/>
                      <a:pt x="2074" y="0"/>
                      <a:pt x="2075" y="0"/>
                    </a:cubicBezTo>
                    <a:close/>
                    <a:moveTo>
                      <a:pt x="2083" y="0"/>
                    </a:moveTo>
                    <a:lnTo>
                      <a:pt x="2083" y="0"/>
                    </a:lnTo>
                    <a:cubicBezTo>
                      <a:pt x="2084" y="0"/>
                      <a:pt x="2085" y="1"/>
                      <a:pt x="2085" y="2"/>
                    </a:cubicBezTo>
                    <a:cubicBezTo>
                      <a:pt x="2085" y="3"/>
                      <a:pt x="2084" y="4"/>
                      <a:pt x="2083" y="4"/>
                    </a:cubicBezTo>
                    <a:lnTo>
                      <a:pt x="2083" y="4"/>
                    </a:lnTo>
                    <a:cubicBezTo>
                      <a:pt x="2082" y="4"/>
                      <a:pt x="2081" y="3"/>
                      <a:pt x="2081" y="2"/>
                    </a:cubicBezTo>
                    <a:cubicBezTo>
                      <a:pt x="2081" y="1"/>
                      <a:pt x="2082" y="0"/>
                      <a:pt x="2083" y="0"/>
                    </a:cubicBezTo>
                    <a:close/>
                    <a:moveTo>
                      <a:pt x="2091" y="0"/>
                    </a:moveTo>
                    <a:lnTo>
                      <a:pt x="2091" y="0"/>
                    </a:lnTo>
                    <a:cubicBezTo>
                      <a:pt x="2092" y="0"/>
                      <a:pt x="2093" y="1"/>
                      <a:pt x="2093" y="2"/>
                    </a:cubicBezTo>
                    <a:cubicBezTo>
                      <a:pt x="2093" y="3"/>
                      <a:pt x="2092" y="4"/>
                      <a:pt x="2091" y="4"/>
                    </a:cubicBezTo>
                    <a:lnTo>
                      <a:pt x="2091" y="4"/>
                    </a:lnTo>
                    <a:cubicBezTo>
                      <a:pt x="2090" y="4"/>
                      <a:pt x="2089" y="3"/>
                      <a:pt x="2089" y="2"/>
                    </a:cubicBezTo>
                    <a:cubicBezTo>
                      <a:pt x="2089" y="1"/>
                      <a:pt x="2090" y="0"/>
                      <a:pt x="2091" y="0"/>
                    </a:cubicBezTo>
                    <a:close/>
                    <a:moveTo>
                      <a:pt x="2099" y="0"/>
                    </a:moveTo>
                    <a:lnTo>
                      <a:pt x="2099" y="0"/>
                    </a:lnTo>
                    <a:cubicBezTo>
                      <a:pt x="2100" y="0"/>
                      <a:pt x="2101" y="1"/>
                      <a:pt x="2101" y="2"/>
                    </a:cubicBezTo>
                    <a:cubicBezTo>
                      <a:pt x="2101" y="3"/>
                      <a:pt x="2100" y="4"/>
                      <a:pt x="2099" y="4"/>
                    </a:cubicBezTo>
                    <a:lnTo>
                      <a:pt x="2099" y="4"/>
                    </a:lnTo>
                    <a:cubicBezTo>
                      <a:pt x="2098" y="4"/>
                      <a:pt x="2097" y="3"/>
                      <a:pt x="2097" y="2"/>
                    </a:cubicBezTo>
                    <a:cubicBezTo>
                      <a:pt x="2097" y="1"/>
                      <a:pt x="2098" y="0"/>
                      <a:pt x="2099" y="0"/>
                    </a:cubicBezTo>
                    <a:close/>
                    <a:moveTo>
                      <a:pt x="2107" y="0"/>
                    </a:moveTo>
                    <a:lnTo>
                      <a:pt x="2107" y="0"/>
                    </a:lnTo>
                    <a:cubicBezTo>
                      <a:pt x="2108" y="0"/>
                      <a:pt x="2109" y="1"/>
                      <a:pt x="2109" y="2"/>
                    </a:cubicBezTo>
                    <a:cubicBezTo>
                      <a:pt x="2109" y="3"/>
                      <a:pt x="2108" y="4"/>
                      <a:pt x="2107" y="4"/>
                    </a:cubicBezTo>
                    <a:lnTo>
                      <a:pt x="2107" y="4"/>
                    </a:lnTo>
                    <a:cubicBezTo>
                      <a:pt x="2106" y="4"/>
                      <a:pt x="2105" y="3"/>
                      <a:pt x="2105" y="2"/>
                    </a:cubicBezTo>
                    <a:cubicBezTo>
                      <a:pt x="2105" y="1"/>
                      <a:pt x="2106" y="0"/>
                      <a:pt x="2107" y="0"/>
                    </a:cubicBezTo>
                    <a:close/>
                    <a:moveTo>
                      <a:pt x="2115" y="0"/>
                    </a:moveTo>
                    <a:lnTo>
                      <a:pt x="2115" y="0"/>
                    </a:lnTo>
                    <a:cubicBezTo>
                      <a:pt x="2116" y="0"/>
                      <a:pt x="2117" y="1"/>
                      <a:pt x="2117" y="2"/>
                    </a:cubicBezTo>
                    <a:cubicBezTo>
                      <a:pt x="2117" y="3"/>
                      <a:pt x="2116" y="4"/>
                      <a:pt x="2115" y="4"/>
                    </a:cubicBezTo>
                    <a:lnTo>
                      <a:pt x="2115" y="4"/>
                    </a:lnTo>
                    <a:cubicBezTo>
                      <a:pt x="2114" y="4"/>
                      <a:pt x="2113" y="3"/>
                      <a:pt x="2113" y="2"/>
                    </a:cubicBezTo>
                    <a:cubicBezTo>
                      <a:pt x="2113" y="1"/>
                      <a:pt x="2114" y="0"/>
                      <a:pt x="2115" y="0"/>
                    </a:cubicBezTo>
                    <a:close/>
                    <a:moveTo>
                      <a:pt x="2123" y="0"/>
                    </a:moveTo>
                    <a:lnTo>
                      <a:pt x="2123" y="0"/>
                    </a:lnTo>
                    <a:cubicBezTo>
                      <a:pt x="2124" y="0"/>
                      <a:pt x="2125" y="1"/>
                      <a:pt x="2125" y="2"/>
                    </a:cubicBezTo>
                    <a:cubicBezTo>
                      <a:pt x="2125" y="3"/>
                      <a:pt x="2124" y="4"/>
                      <a:pt x="2123" y="4"/>
                    </a:cubicBezTo>
                    <a:lnTo>
                      <a:pt x="2123" y="4"/>
                    </a:lnTo>
                    <a:cubicBezTo>
                      <a:pt x="2122" y="4"/>
                      <a:pt x="2121" y="3"/>
                      <a:pt x="2121" y="2"/>
                    </a:cubicBezTo>
                    <a:cubicBezTo>
                      <a:pt x="2121" y="1"/>
                      <a:pt x="2122" y="0"/>
                      <a:pt x="2123" y="0"/>
                    </a:cubicBezTo>
                    <a:close/>
                    <a:moveTo>
                      <a:pt x="2131" y="0"/>
                    </a:moveTo>
                    <a:lnTo>
                      <a:pt x="2131" y="0"/>
                    </a:lnTo>
                    <a:cubicBezTo>
                      <a:pt x="2132" y="0"/>
                      <a:pt x="2133" y="1"/>
                      <a:pt x="2133" y="2"/>
                    </a:cubicBezTo>
                    <a:cubicBezTo>
                      <a:pt x="2133" y="3"/>
                      <a:pt x="2132" y="4"/>
                      <a:pt x="2131" y="4"/>
                    </a:cubicBezTo>
                    <a:lnTo>
                      <a:pt x="2131" y="4"/>
                    </a:lnTo>
                    <a:cubicBezTo>
                      <a:pt x="2130" y="4"/>
                      <a:pt x="2129" y="3"/>
                      <a:pt x="2129" y="2"/>
                    </a:cubicBezTo>
                    <a:cubicBezTo>
                      <a:pt x="2129" y="1"/>
                      <a:pt x="2130" y="0"/>
                      <a:pt x="2131" y="0"/>
                    </a:cubicBezTo>
                    <a:close/>
                    <a:moveTo>
                      <a:pt x="2139" y="0"/>
                    </a:moveTo>
                    <a:lnTo>
                      <a:pt x="2139" y="0"/>
                    </a:lnTo>
                    <a:cubicBezTo>
                      <a:pt x="2140" y="0"/>
                      <a:pt x="2141" y="1"/>
                      <a:pt x="2141" y="2"/>
                    </a:cubicBezTo>
                    <a:cubicBezTo>
                      <a:pt x="2141" y="3"/>
                      <a:pt x="2140" y="4"/>
                      <a:pt x="2139" y="4"/>
                    </a:cubicBezTo>
                    <a:lnTo>
                      <a:pt x="2139" y="4"/>
                    </a:lnTo>
                    <a:cubicBezTo>
                      <a:pt x="2138" y="4"/>
                      <a:pt x="2137" y="3"/>
                      <a:pt x="2137" y="2"/>
                    </a:cubicBezTo>
                    <a:cubicBezTo>
                      <a:pt x="2137" y="1"/>
                      <a:pt x="2138" y="0"/>
                      <a:pt x="2139" y="0"/>
                    </a:cubicBezTo>
                    <a:close/>
                    <a:moveTo>
                      <a:pt x="2147" y="0"/>
                    </a:moveTo>
                    <a:lnTo>
                      <a:pt x="2147" y="0"/>
                    </a:lnTo>
                    <a:cubicBezTo>
                      <a:pt x="2148" y="0"/>
                      <a:pt x="2149" y="1"/>
                      <a:pt x="2149" y="2"/>
                    </a:cubicBezTo>
                    <a:cubicBezTo>
                      <a:pt x="2149" y="3"/>
                      <a:pt x="2148" y="4"/>
                      <a:pt x="2147" y="4"/>
                    </a:cubicBezTo>
                    <a:lnTo>
                      <a:pt x="2147" y="4"/>
                    </a:lnTo>
                    <a:cubicBezTo>
                      <a:pt x="2146" y="4"/>
                      <a:pt x="2145" y="3"/>
                      <a:pt x="2145" y="2"/>
                    </a:cubicBezTo>
                    <a:cubicBezTo>
                      <a:pt x="2145" y="1"/>
                      <a:pt x="2146" y="0"/>
                      <a:pt x="2147" y="0"/>
                    </a:cubicBezTo>
                    <a:close/>
                    <a:moveTo>
                      <a:pt x="2155" y="0"/>
                    </a:moveTo>
                    <a:lnTo>
                      <a:pt x="2155" y="0"/>
                    </a:lnTo>
                    <a:cubicBezTo>
                      <a:pt x="2156" y="0"/>
                      <a:pt x="2157" y="1"/>
                      <a:pt x="2157" y="2"/>
                    </a:cubicBezTo>
                    <a:cubicBezTo>
                      <a:pt x="2157" y="3"/>
                      <a:pt x="2156" y="4"/>
                      <a:pt x="2155" y="4"/>
                    </a:cubicBezTo>
                    <a:lnTo>
                      <a:pt x="2155" y="4"/>
                    </a:lnTo>
                    <a:cubicBezTo>
                      <a:pt x="2154" y="4"/>
                      <a:pt x="2153" y="3"/>
                      <a:pt x="2153" y="2"/>
                    </a:cubicBezTo>
                    <a:cubicBezTo>
                      <a:pt x="2153" y="1"/>
                      <a:pt x="2154" y="0"/>
                      <a:pt x="2155" y="0"/>
                    </a:cubicBezTo>
                    <a:close/>
                    <a:moveTo>
                      <a:pt x="2163" y="0"/>
                    </a:moveTo>
                    <a:lnTo>
                      <a:pt x="2163" y="0"/>
                    </a:lnTo>
                    <a:cubicBezTo>
                      <a:pt x="2164" y="0"/>
                      <a:pt x="2165" y="1"/>
                      <a:pt x="2165" y="2"/>
                    </a:cubicBezTo>
                    <a:cubicBezTo>
                      <a:pt x="2165" y="3"/>
                      <a:pt x="2164" y="4"/>
                      <a:pt x="2163" y="4"/>
                    </a:cubicBezTo>
                    <a:lnTo>
                      <a:pt x="2163" y="4"/>
                    </a:lnTo>
                    <a:cubicBezTo>
                      <a:pt x="2162" y="4"/>
                      <a:pt x="2161" y="3"/>
                      <a:pt x="2161" y="2"/>
                    </a:cubicBezTo>
                    <a:cubicBezTo>
                      <a:pt x="2161" y="1"/>
                      <a:pt x="2162" y="0"/>
                      <a:pt x="2163" y="0"/>
                    </a:cubicBezTo>
                    <a:close/>
                    <a:moveTo>
                      <a:pt x="2171" y="0"/>
                    </a:moveTo>
                    <a:lnTo>
                      <a:pt x="2171" y="0"/>
                    </a:lnTo>
                    <a:cubicBezTo>
                      <a:pt x="2172" y="0"/>
                      <a:pt x="2173" y="1"/>
                      <a:pt x="2173" y="2"/>
                    </a:cubicBezTo>
                    <a:cubicBezTo>
                      <a:pt x="2173" y="3"/>
                      <a:pt x="2172" y="4"/>
                      <a:pt x="2171" y="4"/>
                    </a:cubicBezTo>
                    <a:lnTo>
                      <a:pt x="2171" y="4"/>
                    </a:lnTo>
                    <a:cubicBezTo>
                      <a:pt x="2170" y="4"/>
                      <a:pt x="2169" y="3"/>
                      <a:pt x="2169" y="2"/>
                    </a:cubicBezTo>
                    <a:cubicBezTo>
                      <a:pt x="2169" y="1"/>
                      <a:pt x="2170" y="0"/>
                      <a:pt x="2171" y="0"/>
                    </a:cubicBezTo>
                    <a:close/>
                    <a:moveTo>
                      <a:pt x="2179" y="0"/>
                    </a:moveTo>
                    <a:lnTo>
                      <a:pt x="2179" y="0"/>
                    </a:lnTo>
                    <a:cubicBezTo>
                      <a:pt x="2180" y="0"/>
                      <a:pt x="2181" y="1"/>
                      <a:pt x="2181" y="2"/>
                    </a:cubicBezTo>
                    <a:cubicBezTo>
                      <a:pt x="2181" y="3"/>
                      <a:pt x="2180" y="4"/>
                      <a:pt x="2179" y="4"/>
                    </a:cubicBezTo>
                    <a:lnTo>
                      <a:pt x="2179" y="4"/>
                    </a:lnTo>
                    <a:cubicBezTo>
                      <a:pt x="2178" y="4"/>
                      <a:pt x="2177" y="3"/>
                      <a:pt x="2177" y="2"/>
                    </a:cubicBezTo>
                    <a:cubicBezTo>
                      <a:pt x="2177" y="1"/>
                      <a:pt x="2178" y="0"/>
                      <a:pt x="2179" y="0"/>
                    </a:cubicBezTo>
                    <a:close/>
                    <a:moveTo>
                      <a:pt x="2187" y="0"/>
                    </a:moveTo>
                    <a:lnTo>
                      <a:pt x="2187" y="0"/>
                    </a:lnTo>
                    <a:cubicBezTo>
                      <a:pt x="2188" y="0"/>
                      <a:pt x="2189" y="1"/>
                      <a:pt x="2189" y="2"/>
                    </a:cubicBezTo>
                    <a:cubicBezTo>
                      <a:pt x="2189" y="3"/>
                      <a:pt x="2188" y="4"/>
                      <a:pt x="2187" y="4"/>
                    </a:cubicBezTo>
                    <a:lnTo>
                      <a:pt x="2187" y="4"/>
                    </a:lnTo>
                    <a:cubicBezTo>
                      <a:pt x="2186" y="4"/>
                      <a:pt x="2185" y="3"/>
                      <a:pt x="2185" y="2"/>
                    </a:cubicBezTo>
                    <a:cubicBezTo>
                      <a:pt x="2185" y="1"/>
                      <a:pt x="2186" y="0"/>
                      <a:pt x="2187" y="0"/>
                    </a:cubicBezTo>
                    <a:close/>
                    <a:moveTo>
                      <a:pt x="2195" y="0"/>
                    </a:moveTo>
                    <a:lnTo>
                      <a:pt x="2195" y="0"/>
                    </a:lnTo>
                    <a:cubicBezTo>
                      <a:pt x="2196" y="0"/>
                      <a:pt x="2197" y="1"/>
                      <a:pt x="2197" y="2"/>
                    </a:cubicBezTo>
                    <a:cubicBezTo>
                      <a:pt x="2197" y="3"/>
                      <a:pt x="2196" y="4"/>
                      <a:pt x="2195" y="4"/>
                    </a:cubicBezTo>
                    <a:lnTo>
                      <a:pt x="2195" y="4"/>
                    </a:lnTo>
                    <a:cubicBezTo>
                      <a:pt x="2194" y="4"/>
                      <a:pt x="2193" y="3"/>
                      <a:pt x="2193" y="2"/>
                    </a:cubicBezTo>
                    <a:cubicBezTo>
                      <a:pt x="2193" y="1"/>
                      <a:pt x="2194" y="0"/>
                      <a:pt x="2195" y="0"/>
                    </a:cubicBezTo>
                    <a:close/>
                    <a:moveTo>
                      <a:pt x="2203" y="0"/>
                    </a:moveTo>
                    <a:lnTo>
                      <a:pt x="2203" y="0"/>
                    </a:lnTo>
                    <a:cubicBezTo>
                      <a:pt x="2204" y="0"/>
                      <a:pt x="2205" y="1"/>
                      <a:pt x="2205" y="2"/>
                    </a:cubicBezTo>
                    <a:cubicBezTo>
                      <a:pt x="2205" y="3"/>
                      <a:pt x="2204" y="4"/>
                      <a:pt x="2203" y="4"/>
                    </a:cubicBezTo>
                    <a:lnTo>
                      <a:pt x="2203" y="4"/>
                    </a:lnTo>
                    <a:cubicBezTo>
                      <a:pt x="2202" y="4"/>
                      <a:pt x="2201" y="3"/>
                      <a:pt x="2201" y="2"/>
                    </a:cubicBezTo>
                    <a:cubicBezTo>
                      <a:pt x="2201" y="1"/>
                      <a:pt x="2202" y="0"/>
                      <a:pt x="2203" y="0"/>
                    </a:cubicBezTo>
                    <a:close/>
                    <a:moveTo>
                      <a:pt x="2211" y="0"/>
                    </a:moveTo>
                    <a:lnTo>
                      <a:pt x="2211" y="0"/>
                    </a:lnTo>
                    <a:cubicBezTo>
                      <a:pt x="2212" y="0"/>
                      <a:pt x="2213" y="1"/>
                      <a:pt x="2213" y="2"/>
                    </a:cubicBezTo>
                    <a:cubicBezTo>
                      <a:pt x="2213" y="3"/>
                      <a:pt x="2212" y="4"/>
                      <a:pt x="2211" y="4"/>
                    </a:cubicBezTo>
                    <a:lnTo>
                      <a:pt x="2211" y="4"/>
                    </a:lnTo>
                    <a:cubicBezTo>
                      <a:pt x="2210" y="4"/>
                      <a:pt x="2209" y="3"/>
                      <a:pt x="2209" y="2"/>
                    </a:cubicBezTo>
                    <a:cubicBezTo>
                      <a:pt x="2209" y="1"/>
                      <a:pt x="2210" y="0"/>
                      <a:pt x="2211" y="0"/>
                    </a:cubicBezTo>
                    <a:close/>
                    <a:moveTo>
                      <a:pt x="2219" y="0"/>
                    </a:moveTo>
                    <a:lnTo>
                      <a:pt x="2219" y="0"/>
                    </a:lnTo>
                    <a:cubicBezTo>
                      <a:pt x="2220" y="0"/>
                      <a:pt x="2221" y="1"/>
                      <a:pt x="2221" y="2"/>
                    </a:cubicBezTo>
                    <a:cubicBezTo>
                      <a:pt x="2221" y="3"/>
                      <a:pt x="2220" y="4"/>
                      <a:pt x="2219" y="4"/>
                    </a:cubicBezTo>
                    <a:lnTo>
                      <a:pt x="2219" y="4"/>
                    </a:lnTo>
                    <a:cubicBezTo>
                      <a:pt x="2218" y="4"/>
                      <a:pt x="2217" y="3"/>
                      <a:pt x="2217" y="2"/>
                    </a:cubicBezTo>
                    <a:cubicBezTo>
                      <a:pt x="2217" y="1"/>
                      <a:pt x="2218" y="0"/>
                      <a:pt x="2219" y="0"/>
                    </a:cubicBezTo>
                    <a:close/>
                    <a:moveTo>
                      <a:pt x="2227" y="0"/>
                    </a:moveTo>
                    <a:lnTo>
                      <a:pt x="2227" y="0"/>
                    </a:lnTo>
                    <a:cubicBezTo>
                      <a:pt x="2228" y="0"/>
                      <a:pt x="2229" y="1"/>
                      <a:pt x="2229" y="2"/>
                    </a:cubicBezTo>
                    <a:cubicBezTo>
                      <a:pt x="2229" y="3"/>
                      <a:pt x="2228" y="4"/>
                      <a:pt x="2227" y="4"/>
                    </a:cubicBezTo>
                    <a:lnTo>
                      <a:pt x="2227" y="4"/>
                    </a:lnTo>
                    <a:cubicBezTo>
                      <a:pt x="2226" y="4"/>
                      <a:pt x="2225" y="3"/>
                      <a:pt x="2225" y="2"/>
                    </a:cubicBezTo>
                    <a:cubicBezTo>
                      <a:pt x="2225" y="1"/>
                      <a:pt x="2226" y="0"/>
                      <a:pt x="2227" y="0"/>
                    </a:cubicBezTo>
                    <a:close/>
                    <a:moveTo>
                      <a:pt x="2235" y="0"/>
                    </a:moveTo>
                    <a:lnTo>
                      <a:pt x="2235" y="0"/>
                    </a:lnTo>
                    <a:cubicBezTo>
                      <a:pt x="2236" y="0"/>
                      <a:pt x="2237" y="1"/>
                      <a:pt x="2237" y="2"/>
                    </a:cubicBezTo>
                    <a:cubicBezTo>
                      <a:pt x="2237" y="3"/>
                      <a:pt x="2236" y="4"/>
                      <a:pt x="2235" y="4"/>
                    </a:cubicBezTo>
                    <a:lnTo>
                      <a:pt x="2235" y="4"/>
                    </a:lnTo>
                    <a:cubicBezTo>
                      <a:pt x="2234" y="4"/>
                      <a:pt x="2233" y="3"/>
                      <a:pt x="2233" y="2"/>
                    </a:cubicBezTo>
                    <a:cubicBezTo>
                      <a:pt x="2233" y="1"/>
                      <a:pt x="2234" y="0"/>
                      <a:pt x="2235" y="0"/>
                    </a:cubicBezTo>
                    <a:close/>
                    <a:moveTo>
                      <a:pt x="2243" y="0"/>
                    </a:moveTo>
                    <a:lnTo>
                      <a:pt x="2243" y="0"/>
                    </a:lnTo>
                    <a:cubicBezTo>
                      <a:pt x="2244" y="0"/>
                      <a:pt x="2245" y="1"/>
                      <a:pt x="2245" y="2"/>
                    </a:cubicBezTo>
                    <a:cubicBezTo>
                      <a:pt x="2245" y="3"/>
                      <a:pt x="2244" y="4"/>
                      <a:pt x="2243" y="4"/>
                    </a:cubicBezTo>
                    <a:lnTo>
                      <a:pt x="2243" y="4"/>
                    </a:lnTo>
                    <a:cubicBezTo>
                      <a:pt x="2242" y="4"/>
                      <a:pt x="2241" y="3"/>
                      <a:pt x="2241" y="2"/>
                    </a:cubicBezTo>
                    <a:cubicBezTo>
                      <a:pt x="2241" y="1"/>
                      <a:pt x="2242" y="0"/>
                      <a:pt x="2243" y="0"/>
                    </a:cubicBezTo>
                    <a:close/>
                    <a:moveTo>
                      <a:pt x="2251" y="0"/>
                    </a:moveTo>
                    <a:lnTo>
                      <a:pt x="2251" y="0"/>
                    </a:lnTo>
                    <a:cubicBezTo>
                      <a:pt x="2252" y="0"/>
                      <a:pt x="2253" y="1"/>
                      <a:pt x="2253" y="2"/>
                    </a:cubicBezTo>
                    <a:cubicBezTo>
                      <a:pt x="2253" y="3"/>
                      <a:pt x="2252" y="4"/>
                      <a:pt x="2251" y="4"/>
                    </a:cubicBezTo>
                    <a:lnTo>
                      <a:pt x="2251" y="4"/>
                    </a:lnTo>
                    <a:cubicBezTo>
                      <a:pt x="2250" y="4"/>
                      <a:pt x="2249" y="3"/>
                      <a:pt x="2249" y="2"/>
                    </a:cubicBezTo>
                    <a:cubicBezTo>
                      <a:pt x="2249" y="1"/>
                      <a:pt x="2250" y="0"/>
                      <a:pt x="2251" y="0"/>
                    </a:cubicBezTo>
                    <a:close/>
                    <a:moveTo>
                      <a:pt x="2259" y="0"/>
                    </a:moveTo>
                    <a:lnTo>
                      <a:pt x="2259" y="0"/>
                    </a:lnTo>
                    <a:cubicBezTo>
                      <a:pt x="2260" y="0"/>
                      <a:pt x="2261" y="1"/>
                      <a:pt x="2261" y="2"/>
                    </a:cubicBezTo>
                    <a:cubicBezTo>
                      <a:pt x="2261" y="3"/>
                      <a:pt x="2260" y="4"/>
                      <a:pt x="2259" y="4"/>
                    </a:cubicBezTo>
                    <a:lnTo>
                      <a:pt x="2259" y="4"/>
                    </a:lnTo>
                    <a:cubicBezTo>
                      <a:pt x="2258" y="4"/>
                      <a:pt x="2257" y="3"/>
                      <a:pt x="2257" y="2"/>
                    </a:cubicBezTo>
                    <a:cubicBezTo>
                      <a:pt x="2257" y="1"/>
                      <a:pt x="2258" y="0"/>
                      <a:pt x="2259" y="0"/>
                    </a:cubicBezTo>
                    <a:close/>
                    <a:moveTo>
                      <a:pt x="2267" y="0"/>
                    </a:moveTo>
                    <a:lnTo>
                      <a:pt x="2267" y="0"/>
                    </a:lnTo>
                    <a:cubicBezTo>
                      <a:pt x="2268" y="0"/>
                      <a:pt x="2269" y="1"/>
                      <a:pt x="2269" y="2"/>
                    </a:cubicBezTo>
                    <a:cubicBezTo>
                      <a:pt x="2269" y="3"/>
                      <a:pt x="2268" y="4"/>
                      <a:pt x="2267" y="4"/>
                    </a:cubicBezTo>
                    <a:lnTo>
                      <a:pt x="2267" y="4"/>
                    </a:lnTo>
                    <a:cubicBezTo>
                      <a:pt x="2266" y="4"/>
                      <a:pt x="2265" y="3"/>
                      <a:pt x="2265" y="2"/>
                    </a:cubicBezTo>
                    <a:cubicBezTo>
                      <a:pt x="2265" y="1"/>
                      <a:pt x="2266" y="0"/>
                      <a:pt x="2267" y="0"/>
                    </a:cubicBezTo>
                    <a:close/>
                    <a:moveTo>
                      <a:pt x="2275" y="0"/>
                    </a:moveTo>
                    <a:lnTo>
                      <a:pt x="2275" y="0"/>
                    </a:lnTo>
                    <a:cubicBezTo>
                      <a:pt x="2276" y="0"/>
                      <a:pt x="2277" y="1"/>
                      <a:pt x="2277" y="2"/>
                    </a:cubicBezTo>
                    <a:cubicBezTo>
                      <a:pt x="2277" y="3"/>
                      <a:pt x="2276" y="4"/>
                      <a:pt x="2275" y="4"/>
                    </a:cubicBezTo>
                    <a:lnTo>
                      <a:pt x="2275" y="4"/>
                    </a:lnTo>
                    <a:cubicBezTo>
                      <a:pt x="2274" y="4"/>
                      <a:pt x="2273" y="3"/>
                      <a:pt x="2273" y="2"/>
                    </a:cubicBezTo>
                    <a:cubicBezTo>
                      <a:pt x="2273" y="1"/>
                      <a:pt x="2274" y="0"/>
                      <a:pt x="2275" y="0"/>
                    </a:cubicBezTo>
                    <a:close/>
                    <a:moveTo>
                      <a:pt x="2283" y="0"/>
                    </a:moveTo>
                    <a:lnTo>
                      <a:pt x="2283" y="0"/>
                    </a:lnTo>
                    <a:cubicBezTo>
                      <a:pt x="2284" y="0"/>
                      <a:pt x="2285" y="1"/>
                      <a:pt x="2285" y="2"/>
                    </a:cubicBezTo>
                    <a:cubicBezTo>
                      <a:pt x="2285" y="3"/>
                      <a:pt x="2284" y="4"/>
                      <a:pt x="2283" y="4"/>
                    </a:cubicBezTo>
                    <a:lnTo>
                      <a:pt x="2283" y="4"/>
                    </a:lnTo>
                    <a:cubicBezTo>
                      <a:pt x="2282" y="4"/>
                      <a:pt x="2281" y="3"/>
                      <a:pt x="2281" y="2"/>
                    </a:cubicBezTo>
                    <a:cubicBezTo>
                      <a:pt x="2281" y="1"/>
                      <a:pt x="2282" y="0"/>
                      <a:pt x="2283" y="0"/>
                    </a:cubicBezTo>
                    <a:close/>
                    <a:moveTo>
                      <a:pt x="2291" y="0"/>
                    </a:moveTo>
                    <a:lnTo>
                      <a:pt x="2291" y="0"/>
                    </a:lnTo>
                    <a:cubicBezTo>
                      <a:pt x="2292" y="0"/>
                      <a:pt x="2293" y="1"/>
                      <a:pt x="2293" y="2"/>
                    </a:cubicBezTo>
                    <a:cubicBezTo>
                      <a:pt x="2293" y="3"/>
                      <a:pt x="2292" y="4"/>
                      <a:pt x="2291" y="4"/>
                    </a:cubicBezTo>
                    <a:lnTo>
                      <a:pt x="2291" y="4"/>
                    </a:lnTo>
                    <a:cubicBezTo>
                      <a:pt x="2290" y="4"/>
                      <a:pt x="2289" y="3"/>
                      <a:pt x="2289" y="2"/>
                    </a:cubicBezTo>
                    <a:cubicBezTo>
                      <a:pt x="2289" y="1"/>
                      <a:pt x="2290" y="0"/>
                      <a:pt x="2291" y="0"/>
                    </a:cubicBezTo>
                    <a:close/>
                    <a:moveTo>
                      <a:pt x="2299" y="0"/>
                    </a:moveTo>
                    <a:lnTo>
                      <a:pt x="2299" y="0"/>
                    </a:lnTo>
                    <a:cubicBezTo>
                      <a:pt x="2300" y="0"/>
                      <a:pt x="2301" y="1"/>
                      <a:pt x="2301" y="2"/>
                    </a:cubicBezTo>
                    <a:cubicBezTo>
                      <a:pt x="2301" y="3"/>
                      <a:pt x="2300" y="4"/>
                      <a:pt x="2299" y="4"/>
                    </a:cubicBezTo>
                    <a:lnTo>
                      <a:pt x="2299" y="4"/>
                    </a:lnTo>
                    <a:cubicBezTo>
                      <a:pt x="2298" y="4"/>
                      <a:pt x="2297" y="3"/>
                      <a:pt x="2297" y="2"/>
                    </a:cubicBezTo>
                    <a:cubicBezTo>
                      <a:pt x="2297" y="1"/>
                      <a:pt x="2298" y="0"/>
                      <a:pt x="2299" y="0"/>
                    </a:cubicBezTo>
                    <a:close/>
                    <a:moveTo>
                      <a:pt x="2307" y="0"/>
                    </a:moveTo>
                    <a:lnTo>
                      <a:pt x="2307" y="0"/>
                    </a:lnTo>
                    <a:cubicBezTo>
                      <a:pt x="2308" y="0"/>
                      <a:pt x="2309" y="1"/>
                      <a:pt x="2309" y="2"/>
                    </a:cubicBezTo>
                    <a:cubicBezTo>
                      <a:pt x="2309" y="3"/>
                      <a:pt x="2308" y="4"/>
                      <a:pt x="2307" y="4"/>
                    </a:cubicBezTo>
                    <a:lnTo>
                      <a:pt x="2307" y="4"/>
                    </a:lnTo>
                    <a:cubicBezTo>
                      <a:pt x="2306" y="4"/>
                      <a:pt x="2305" y="3"/>
                      <a:pt x="2305" y="2"/>
                    </a:cubicBezTo>
                    <a:cubicBezTo>
                      <a:pt x="2305" y="1"/>
                      <a:pt x="2306" y="0"/>
                      <a:pt x="2307" y="0"/>
                    </a:cubicBezTo>
                    <a:close/>
                    <a:moveTo>
                      <a:pt x="2315" y="0"/>
                    </a:moveTo>
                    <a:lnTo>
                      <a:pt x="2315" y="0"/>
                    </a:lnTo>
                    <a:cubicBezTo>
                      <a:pt x="2316" y="0"/>
                      <a:pt x="2317" y="1"/>
                      <a:pt x="2317" y="2"/>
                    </a:cubicBezTo>
                    <a:cubicBezTo>
                      <a:pt x="2317" y="3"/>
                      <a:pt x="2316" y="4"/>
                      <a:pt x="2315" y="4"/>
                    </a:cubicBezTo>
                    <a:lnTo>
                      <a:pt x="2315" y="4"/>
                    </a:lnTo>
                    <a:cubicBezTo>
                      <a:pt x="2314" y="4"/>
                      <a:pt x="2313" y="3"/>
                      <a:pt x="2313" y="2"/>
                    </a:cubicBezTo>
                    <a:cubicBezTo>
                      <a:pt x="2313" y="1"/>
                      <a:pt x="2314" y="0"/>
                      <a:pt x="2315" y="0"/>
                    </a:cubicBezTo>
                    <a:close/>
                    <a:moveTo>
                      <a:pt x="2323" y="0"/>
                    </a:moveTo>
                    <a:lnTo>
                      <a:pt x="2323" y="0"/>
                    </a:lnTo>
                    <a:cubicBezTo>
                      <a:pt x="2324" y="0"/>
                      <a:pt x="2325" y="1"/>
                      <a:pt x="2325" y="2"/>
                    </a:cubicBezTo>
                    <a:cubicBezTo>
                      <a:pt x="2325" y="3"/>
                      <a:pt x="2324" y="4"/>
                      <a:pt x="2323" y="4"/>
                    </a:cubicBezTo>
                    <a:lnTo>
                      <a:pt x="2323" y="4"/>
                    </a:lnTo>
                    <a:cubicBezTo>
                      <a:pt x="2322" y="4"/>
                      <a:pt x="2321" y="3"/>
                      <a:pt x="2321" y="2"/>
                    </a:cubicBezTo>
                    <a:cubicBezTo>
                      <a:pt x="2321" y="1"/>
                      <a:pt x="2322" y="0"/>
                      <a:pt x="2323" y="0"/>
                    </a:cubicBezTo>
                    <a:close/>
                    <a:moveTo>
                      <a:pt x="2331" y="0"/>
                    </a:moveTo>
                    <a:lnTo>
                      <a:pt x="2331" y="0"/>
                    </a:lnTo>
                    <a:cubicBezTo>
                      <a:pt x="2332" y="0"/>
                      <a:pt x="2333" y="1"/>
                      <a:pt x="2333" y="2"/>
                    </a:cubicBezTo>
                    <a:cubicBezTo>
                      <a:pt x="2333" y="3"/>
                      <a:pt x="2332" y="4"/>
                      <a:pt x="2331" y="4"/>
                    </a:cubicBezTo>
                    <a:lnTo>
                      <a:pt x="2331" y="4"/>
                    </a:lnTo>
                    <a:cubicBezTo>
                      <a:pt x="2330" y="4"/>
                      <a:pt x="2329" y="3"/>
                      <a:pt x="2329" y="2"/>
                    </a:cubicBezTo>
                    <a:cubicBezTo>
                      <a:pt x="2329" y="1"/>
                      <a:pt x="2330" y="0"/>
                      <a:pt x="2331" y="0"/>
                    </a:cubicBezTo>
                    <a:close/>
                    <a:moveTo>
                      <a:pt x="2339" y="0"/>
                    </a:moveTo>
                    <a:lnTo>
                      <a:pt x="2339" y="0"/>
                    </a:lnTo>
                    <a:cubicBezTo>
                      <a:pt x="2340" y="0"/>
                      <a:pt x="2341" y="1"/>
                      <a:pt x="2341" y="2"/>
                    </a:cubicBezTo>
                    <a:cubicBezTo>
                      <a:pt x="2341" y="3"/>
                      <a:pt x="2340" y="4"/>
                      <a:pt x="2339" y="4"/>
                    </a:cubicBezTo>
                    <a:lnTo>
                      <a:pt x="2339" y="4"/>
                    </a:lnTo>
                    <a:cubicBezTo>
                      <a:pt x="2338" y="4"/>
                      <a:pt x="2337" y="3"/>
                      <a:pt x="2337" y="2"/>
                    </a:cubicBezTo>
                    <a:cubicBezTo>
                      <a:pt x="2337" y="1"/>
                      <a:pt x="2338" y="0"/>
                      <a:pt x="2339" y="0"/>
                    </a:cubicBezTo>
                    <a:close/>
                    <a:moveTo>
                      <a:pt x="2347" y="0"/>
                    </a:moveTo>
                    <a:lnTo>
                      <a:pt x="2347" y="0"/>
                    </a:lnTo>
                    <a:cubicBezTo>
                      <a:pt x="2348" y="0"/>
                      <a:pt x="2349" y="1"/>
                      <a:pt x="2349" y="2"/>
                    </a:cubicBezTo>
                    <a:cubicBezTo>
                      <a:pt x="2349" y="3"/>
                      <a:pt x="2348" y="4"/>
                      <a:pt x="2347" y="4"/>
                    </a:cubicBezTo>
                    <a:lnTo>
                      <a:pt x="2347" y="4"/>
                    </a:lnTo>
                    <a:cubicBezTo>
                      <a:pt x="2346" y="4"/>
                      <a:pt x="2345" y="3"/>
                      <a:pt x="2345" y="2"/>
                    </a:cubicBezTo>
                    <a:cubicBezTo>
                      <a:pt x="2345" y="1"/>
                      <a:pt x="2346" y="0"/>
                      <a:pt x="2347" y="0"/>
                    </a:cubicBezTo>
                    <a:close/>
                    <a:moveTo>
                      <a:pt x="2355" y="0"/>
                    </a:moveTo>
                    <a:lnTo>
                      <a:pt x="2355" y="0"/>
                    </a:lnTo>
                    <a:cubicBezTo>
                      <a:pt x="2356" y="0"/>
                      <a:pt x="2357" y="1"/>
                      <a:pt x="2357" y="2"/>
                    </a:cubicBezTo>
                    <a:cubicBezTo>
                      <a:pt x="2357" y="3"/>
                      <a:pt x="2356" y="4"/>
                      <a:pt x="2355" y="4"/>
                    </a:cubicBezTo>
                    <a:lnTo>
                      <a:pt x="2355" y="4"/>
                    </a:lnTo>
                    <a:cubicBezTo>
                      <a:pt x="2354" y="4"/>
                      <a:pt x="2353" y="3"/>
                      <a:pt x="2353" y="2"/>
                    </a:cubicBezTo>
                    <a:cubicBezTo>
                      <a:pt x="2353" y="1"/>
                      <a:pt x="2354" y="0"/>
                      <a:pt x="2355" y="0"/>
                    </a:cubicBezTo>
                    <a:close/>
                    <a:moveTo>
                      <a:pt x="2363" y="0"/>
                    </a:moveTo>
                    <a:lnTo>
                      <a:pt x="2363" y="0"/>
                    </a:lnTo>
                    <a:cubicBezTo>
                      <a:pt x="2364" y="0"/>
                      <a:pt x="2365" y="1"/>
                      <a:pt x="2365" y="2"/>
                    </a:cubicBezTo>
                    <a:cubicBezTo>
                      <a:pt x="2365" y="3"/>
                      <a:pt x="2364" y="4"/>
                      <a:pt x="2363" y="4"/>
                    </a:cubicBezTo>
                    <a:lnTo>
                      <a:pt x="2363" y="4"/>
                    </a:lnTo>
                    <a:cubicBezTo>
                      <a:pt x="2362" y="4"/>
                      <a:pt x="2361" y="3"/>
                      <a:pt x="2361" y="2"/>
                    </a:cubicBezTo>
                    <a:cubicBezTo>
                      <a:pt x="2361" y="1"/>
                      <a:pt x="2362" y="0"/>
                      <a:pt x="2363" y="0"/>
                    </a:cubicBezTo>
                    <a:close/>
                    <a:moveTo>
                      <a:pt x="2371" y="0"/>
                    </a:moveTo>
                    <a:lnTo>
                      <a:pt x="2371" y="0"/>
                    </a:lnTo>
                    <a:cubicBezTo>
                      <a:pt x="2372" y="0"/>
                      <a:pt x="2373" y="1"/>
                      <a:pt x="2373" y="2"/>
                    </a:cubicBezTo>
                    <a:cubicBezTo>
                      <a:pt x="2373" y="3"/>
                      <a:pt x="2372" y="4"/>
                      <a:pt x="2371" y="4"/>
                    </a:cubicBezTo>
                    <a:lnTo>
                      <a:pt x="2371" y="4"/>
                    </a:lnTo>
                    <a:cubicBezTo>
                      <a:pt x="2370" y="4"/>
                      <a:pt x="2369" y="3"/>
                      <a:pt x="2369" y="2"/>
                    </a:cubicBezTo>
                    <a:cubicBezTo>
                      <a:pt x="2369" y="1"/>
                      <a:pt x="2370" y="0"/>
                      <a:pt x="2371" y="0"/>
                    </a:cubicBezTo>
                    <a:close/>
                    <a:moveTo>
                      <a:pt x="2379" y="0"/>
                    </a:moveTo>
                    <a:lnTo>
                      <a:pt x="2379" y="0"/>
                    </a:lnTo>
                    <a:cubicBezTo>
                      <a:pt x="2380" y="0"/>
                      <a:pt x="2381" y="1"/>
                      <a:pt x="2381" y="2"/>
                    </a:cubicBezTo>
                    <a:cubicBezTo>
                      <a:pt x="2381" y="3"/>
                      <a:pt x="2380" y="4"/>
                      <a:pt x="2379" y="4"/>
                    </a:cubicBezTo>
                    <a:lnTo>
                      <a:pt x="2379" y="4"/>
                    </a:lnTo>
                    <a:cubicBezTo>
                      <a:pt x="2378" y="4"/>
                      <a:pt x="2377" y="3"/>
                      <a:pt x="2377" y="2"/>
                    </a:cubicBezTo>
                    <a:cubicBezTo>
                      <a:pt x="2377" y="1"/>
                      <a:pt x="2378" y="0"/>
                      <a:pt x="2379" y="0"/>
                    </a:cubicBezTo>
                    <a:close/>
                    <a:moveTo>
                      <a:pt x="2387" y="0"/>
                    </a:moveTo>
                    <a:lnTo>
                      <a:pt x="2387" y="0"/>
                    </a:lnTo>
                    <a:cubicBezTo>
                      <a:pt x="2388" y="0"/>
                      <a:pt x="2389" y="1"/>
                      <a:pt x="2389" y="2"/>
                    </a:cubicBezTo>
                    <a:cubicBezTo>
                      <a:pt x="2389" y="3"/>
                      <a:pt x="2388" y="4"/>
                      <a:pt x="2387" y="4"/>
                    </a:cubicBezTo>
                    <a:lnTo>
                      <a:pt x="2387" y="4"/>
                    </a:lnTo>
                    <a:cubicBezTo>
                      <a:pt x="2386" y="4"/>
                      <a:pt x="2385" y="3"/>
                      <a:pt x="2385" y="2"/>
                    </a:cubicBezTo>
                    <a:cubicBezTo>
                      <a:pt x="2385" y="1"/>
                      <a:pt x="2386" y="0"/>
                      <a:pt x="2387" y="0"/>
                    </a:cubicBezTo>
                    <a:close/>
                    <a:moveTo>
                      <a:pt x="2395" y="0"/>
                    </a:moveTo>
                    <a:lnTo>
                      <a:pt x="2395" y="0"/>
                    </a:lnTo>
                    <a:cubicBezTo>
                      <a:pt x="2396" y="0"/>
                      <a:pt x="2397" y="1"/>
                      <a:pt x="2397" y="2"/>
                    </a:cubicBezTo>
                    <a:cubicBezTo>
                      <a:pt x="2397" y="3"/>
                      <a:pt x="2396" y="4"/>
                      <a:pt x="2395" y="4"/>
                    </a:cubicBezTo>
                    <a:lnTo>
                      <a:pt x="2395" y="4"/>
                    </a:lnTo>
                    <a:cubicBezTo>
                      <a:pt x="2394" y="4"/>
                      <a:pt x="2393" y="3"/>
                      <a:pt x="2393" y="2"/>
                    </a:cubicBezTo>
                    <a:cubicBezTo>
                      <a:pt x="2393" y="1"/>
                      <a:pt x="2394" y="0"/>
                      <a:pt x="2395" y="0"/>
                    </a:cubicBezTo>
                    <a:close/>
                    <a:moveTo>
                      <a:pt x="2403" y="0"/>
                    </a:moveTo>
                    <a:lnTo>
                      <a:pt x="2403" y="0"/>
                    </a:lnTo>
                    <a:cubicBezTo>
                      <a:pt x="2404" y="0"/>
                      <a:pt x="2405" y="1"/>
                      <a:pt x="2405" y="2"/>
                    </a:cubicBezTo>
                    <a:cubicBezTo>
                      <a:pt x="2405" y="3"/>
                      <a:pt x="2404" y="4"/>
                      <a:pt x="2403" y="4"/>
                    </a:cubicBezTo>
                    <a:lnTo>
                      <a:pt x="2403" y="4"/>
                    </a:lnTo>
                    <a:cubicBezTo>
                      <a:pt x="2402" y="4"/>
                      <a:pt x="2401" y="3"/>
                      <a:pt x="2401" y="2"/>
                    </a:cubicBezTo>
                    <a:cubicBezTo>
                      <a:pt x="2401" y="1"/>
                      <a:pt x="2402" y="0"/>
                      <a:pt x="2403" y="0"/>
                    </a:cubicBezTo>
                    <a:close/>
                    <a:moveTo>
                      <a:pt x="2411" y="0"/>
                    </a:moveTo>
                    <a:lnTo>
                      <a:pt x="2411" y="0"/>
                    </a:lnTo>
                    <a:cubicBezTo>
                      <a:pt x="2412" y="0"/>
                      <a:pt x="2413" y="1"/>
                      <a:pt x="2413" y="2"/>
                    </a:cubicBezTo>
                    <a:cubicBezTo>
                      <a:pt x="2413" y="3"/>
                      <a:pt x="2412" y="4"/>
                      <a:pt x="2411" y="4"/>
                    </a:cubicBezTo>
                    <a:lnTo>
                      <a:pt x="2411" y="4"/>
                    </a:lnTo>
                    <a:cubicBezTo>
                      <a:pt x="2410" y="4"/>
                      <a:pt x="2409" y="3"/>
                      <a:pt x="2409" y="2"/>
                    </a:cubicBezTo>
                    <a:cubicBezTo>
                      <a:pt x="2409" y="1"/>
                      <a:pt x="2410" y="0"/>
                      <a:pt x="2411" y="0"/>
                    </a:cubicBezTo>
                    <a:close/>
                    <a:moveTo>
                      <a:pt x="2419" y="0"/>
                    </a:moveTo>
                    <a:lnTo>
                      <a:pt x="2419" y="0"/>
                    </a:lnTo>
                    <a:cubicBezTo>
                      <a:pt x="2420" y="0"/>
                      <a:pt x="2421" y="1"/>
                      <a:pt x="2421" y="2"/>
                    </a:cubicBezTo>
                    <a:cubicBezTo>
                      <a:pt x="2421" y="3"/>
                      <a:pt x="2420" y="4"/>
                      <a:pt x="2419" y="4"/>
                    </a:cubicBezTo>
                    <a:lnTo>
                      <a:pt x="2419" y="4"/>
                    </a:lnTo>
                    <a:cubicBezTo>
                      <a:pt x="2418" y="4"/>
                      <a:pt x="2417" y="3"/>
                      <a:pt x="2417" y="2"/>
                    </a:cubicBezTo>
                    <a:cubicBezTo>
                      <a:pt x="2417" y="1"/>
                      <a:pt x="2418" y="0"/>
                      <a:pt x="2419" y="0"/>
                    </a:cubicBezTo>
                    <a:close/>
                    <a:moveTo>
                      <a:pt x="2427" y="0"/>
                    </a:moveTo>
                    <a:lnTo>
                      <a:pt x="2427" y="0"/>
                    </a:lnTo>
                    <a:cubicBezTo>
                      <a:pt x="2428" y="0"/>
                      <a:pt x="2429" y="1"/>
                      <a:pt x="2429" y="2"/>
                    </a:cubicBezTo>
                    <a:cubicBezTo>
                      <a:pt x="2429" y="3"/>
                      <a:pt x="2428" y="4"/>
                      <a:pt x="2427" y="4"/>
                    </a:cubicBezTo>
                    <a:lnTo>
                      <a:pt x="2427" y="4"/>
                    </a:lnTo>
                    <a:cubicBezTo>
                      <a:pt x="2426" y="4"/>
                      <a:pt x="2425" y="3"/>
                      <a:pt x="2425" y="2"/>
                    </a:cubicBezTo>
                    <a:cubicBezTo>
                      <a:pt x="2425" y="1"/>
                      <a:pt x="2426" y="0"/>
                      <a:pt x="2427" y="0"/>
                    </a:cubicBezTo>
                    <a:close/>
                    <a:moveTo>
                      <a:pt x="2435" y="0"/>
                    </a:moveTo>
                    <a:lnTo>
                      <a:pt x="2435" y="0"/>
                    </a:lnTo>
                    <a:cubicBezTo>
                      <a:pt x="2436" y="0"/>
                      <a:pt x="2437" y="1"/>
                      <a:pt x="2437" y="2"/>
                    </a:cubicBezTo>
                    <a:cubicBezTo>
                      <a:pt x="2437" y="3"/>
                      <a:pt x="2436" y="4"/>
                      <a:pt x="2435" y="4"/>
                    </a:cubicBezTo>
                    <a:lnTo>
                      <a:pt x="2435" y="4"/>
                    </a:lnTo>
                    <a:cubicBezTo>
                      <a:pt x="2434" y="4"/>
                      <a:pt x="2433" y="3"/>
                      <a:pt x="2433" y="2"/>
                    </a:cubicBezTo>
                    <a:cubicBezTo>
                      <a:pt x="2433" y="1"/>
                      <a:pt x="2434" y="0"/>
                      <a:pt x="2435" y="0"/>
                    </a:cubicBezTo>
                    <a:close/>
                    <a:moveTo>
                      <a:pt x="2443" y="0"/>
                    </a:moveTo>
                    <a:lnTo>
                      <a:pt x="2443" y="0"/>
                    </a:lnTo>
                    <a:cubicBezTo>
                      <a:pt x="2444" y="0"/>
                      <a:pt x="2445" y="1"/>
                      <a:pt x="2445" y="2"/>
                    </a:cubicBezTo>
                    <a:cubicBezTo>
                      <a:pt x="2445" y="3"/>
                      <a:pt x="2444" y="4"/>
                      <a:pt x="2443" y="4"/>
                    </a:cubicBezTo>
                    <a:lnTo>
                      <a:pt x="2443" y="4"/>
                    </a:lnTo>
                    <a:cubicBezTo>
                      <a:pt x="2442" y="4"/>
                      <a:pt x="2441" y="3"/>
                      <a:pt x="2441" y="2"/>
                    </a:cubicBezTo>
                    <a:cubicBezTo>
                      <a:pt x="2441" y="1"/>
                      <a:pt x="2442" y="0"/>
                      <a:pt x="2443" y="0"/>
                    </a:cubicBezTo>
                    <a:close/>
                    <a:moveTo>
                      <a:pt x="2451" y="0"/>
                    </a:moveTo>
                    <a:lnTo>
                      <a:pt x="2451" y="0"/>
                    </a:lnTo>
                    <a:cubicBezTo>
                      <a:pt x="2452" y="0"/>
                      <a:pt x="2453" y="1"/>
                      <a:pt x="2453" y="2"/>
                    </a:cubicBezTo>
                    <a:cubicBezTo>
                      <a:pt x="2453" y="3"/>
                      <a:pt x="2452" y="4"/>
                      <a:pt x="2451" y="4"/>
                    </a:cubicBezTo>
                    <a:lnTo>
                      <a:pt x="2451" y="4"/>
                    </a:lnTo>
                    <a:cubicBezTo>
                      <a:pt x="2450" y="4"/>
                      <a:pt x="2449" y="3"/>
                      <a:pt x="2449" y="2"/>
                    </a:cubicBezTo>
                    <a:cubicBezTo>
                      <a:pt x="2449" y="1"/>
                      <a:pt x="2450" y="0"/>
                      <a:pt x="2451" y="0"/>
                    </a:cubicBezTo>
                    <a:close/>
                    <a:moveTo>
                      <a:pt x="2459" y="0"/>
                    </a:moveTo>
                    <a:lnTo>
                      <a:pt x="2459" y="0"/>
                    </a:lnTo>
                    <a:cubicBezTo>
                      <a:pt x="2460" y="0"/>
                      <a:pt x="2461" y="1"/>
                      <a:pt x="2461" y="2"/>
                    </a:cubicBezTo>
                    <a:cubicBezTo>
                      <a:pt x="2461" y="3"/>
                      <a:pt x="2460" y="4"/>
                      <a:pt x="2459" y="4"/>
                    </a:cubicBezTo>
                    <a:lnTo>
                      <a:pt x="2459" y="4"/>
                    </a:lnTo>
                    <a:cubicBezTo>
                      <a:pt x="2458" y="4"/>
                      <a:pt x="2457" y="3"/>
                      <a:pt x="2457" y="2"/>
                    </a:cubicBezTo>
                    <a:cubicBezTo>
                      <a:pt x="2457" y="1"/>
                      <a:pt x="2458" y="0"/>
                      <a:pt x="2459" y="0"/>
                    </a:cubicBezTo>
                    <a:close/>
                    <a:moveTo>
                      <a:pt x="2467" y="0"/>
                    </a:moveTo>
                    <a:lnTo>
                      <a:pt x="2467" y="0"/>
                    </a:lnTo>
                    <a:cubicBezTo>
                      <a:pt x="2468" y="0"/>
                      <a:pt x="2469" y="1"/>
                      <a:pt x="2469" y="2"/>
                    </a:cubicBezTo>
                    <a:cubicBezTo>
                      <a:pt x="2469" y="3"/>
                      <a:pt x="2468" y="4"/>
                      <a:pt x="2467" y="4"/>
                    </a:cubicBezTo>
                    <a:lnTo>
                      <a:pt x="2467" y="4"/>
                    </a:lnTo>
                    <a:cubicBezTo>
                      <a:pt x="2466" y="4"/>
                      <a:pt x="2465" y="3"/>
                      <a:pt x="2465" y="2"/>
                    </a:cubicBezTo>
                    <a:cubicBezTo>
                      <a:pt x="2465" y="1"/>
                      <a:pt x="2466" y="0"/>
                      <a:pt x="2467" y="0"/>
                    </a:cubicBezTo>
                    <a:close/>
                    <a:moveTo>
                      <a:pt x="2475" y="0"/>
                    </a:moveTo>
                    <a:lnTo>
                      <a:pt x="2475" y="0"/>
                    </a:lnTo>
                    <a:cubicBezTo>
                      <a:pt x="2476" y="0"/>
                      <a:pt x="2477" y="1"/>
                      <a:pt x="2477" y="2"/>
                    </a:cubicBezTo>
                    <a:cubicBezTo>
                      <a:pt x="2477" y="3"/>
                      <a:pt x="2476" y="4"/>
                      <a:pt x="2475" y="4"/>
                    </a:cubicBezTo>
                    <a:lnTo>
                      <a:pt x="2475" y="4"/>
                    </a:lnTo>
                    <a:cubicBezTo>
                      <a:pt x="2474" y="4"/>
                      <a:pt x="2473" y="3"/>
                      <a:pt x="2473" y="2"/>
                    </a:cubicBezTo>
                    <a:cubicBezTo>
                      <a:pt x="2473" y="1"/>
                      <a:pt x="2474" y="0"/>
                      <a:pt x="2475" y="0"/>
                    </a:cubicBezTo>
                    <a:close/>
                    <a:moveTo>
                      <a:pt x="2483" y="0"/>
                    </a:moveTo>
                    <a:lnTo>
                      <a:pt x="2483" y="0"/>
                    </a:lnTo>
                    <a:cubicBezTo>
                      <a:pt x="2484" y="0"/>
                      <a:pt x="2485" y="1"/>
                      <a:pt x="2485" y="2"/>
                    </a:cubicBezTo>
                    <a:cubicBezTo>
                      <a:pt x="2485" y="3"/>
                      <a:pt x="2484" y="4"/>
                      <a:pt x="2483" y="4"/>
                    </a:cubicBezTo>
                    <a:lnTo>
                      <a:pt x="2483" y="4"/>
                    </a:lnTo>
                    <a:cubicBezTo>
                      <a:pt x="2482" y="4"/>
                      <a:pt x="2481" y="3"/>
                      <a:pt x="2481" y="2"/>
                    </a:cubicBezTo>
                    <a:cubicBezTo>
                      <a:pt x="2481" y="1"/>
                      <a:pt x="2482" y="0"/>
                      <a:pt x="2483" y="0"/>
                    </a:cubicBezTo>
                    <a:close/>
                    <a:moveTo>
                      <a:pt x="2491" y="0"/>
                    </a:moveTo>
                    <a:lnTo>
                      <a:pt x="2491" y="0"/>
                    </a:lnTo>
                    <a:cubicBezTo>
                      <a:pt x="2492" y="0"/>
                      <a:pt x="2493" y="1"/>
                      <a:pt x="2493" y="2"/>
                    </a:cubicBezTo>
                    <a:cubicBezTo>
                      <a:pt x="2493" y="3"/>
                      <a:pt x="2492" y="4"/>
                      <a:pt x="2491" y="4"/>
                    </a:cubicBezTo>
                    <a:lnTo>
                      <a:pt x="2491" y="4"/>
                    </a:lnTo>
                    <a:cubicBezTo>
                      <a:pt x="2490" y="4"/>
                      <a:pt x="2489" y="3"/>
                      <a:pt x="2489" y="2"/>
                    </a:cubicBezTo>
                    <a:cubicBezTo>
                      <a:pt x="2489" y="1"/>
                      <a:pt x="2490" y="0"/>
                      <a:pt x="2491" y="0"/>
                    </a:cubicBezTo>
                    <a:close/>
                    <a:moveTo>
                      <a:pt x="2499" y="0"/>
                    </a:moveTo>
                    <a:lnTo>
                      <a:pt x="2499" y="0"/>
                    </a:lnTo>
                    <a:cubicBezTo>
                      <a:pt x="2500" y="0"/>
                      <a:pt x="2501" y="1"/>
                      <a:pt x="2501" y="2"/>
                    </a:cubicBezTo>
                    <a:cubicBezTo>
                      <a:pt x="2501" y="3"/>
                      <a:pt x="2500" y="4"/>
                      <a:pt x="2499" y="4"/>
                    </a:cubicBezTo>
                    <a:lnTo>
                      <a:pt x="2499" y="4"/>
                    </a:lnTo>
                    <a:cubicBezTo>
                      <a:pt x="2498" y="4"/>
                      <a:pt x="2497" y="3"/>
                      <a:pt x="2497" y="2"/>
                    </a:cubicBezTo>
                    <a:cubicBezTo>
                      <a:pt x="2497" y="1"/>
                      <a:pt x="2498" y="0"/>
                      <a:pt x="2499" y="0"/>
                    </a:cubicBezTo>
                    <a:close/>
                    <a:moveTo>
                      <a:pt x="2507" y="0"/>
                    </a:moveTo>
                    <a:lnTo>
                      <a:pt x="2507" y="0"/>
                    </a:lnTo>
                    <a:cubicBezTo>
                      <a:pt x="2508" y="0"/>
                      <a:pt x="2509" y="1"/>
                      <a:pt x="2509" y="2"/>
                    </a:cubicBezTo>
                    <a:cubicBezTo>
                      <a:pt x="2509" y="3"/>
                      <a:pt x="2508" y="4"/>
                      <a:pt x="2507" y="4"/>
                    </a:cubicBezTo>
                    <a:lnTo>
                      <a:pt x="2507" y="4"/>
                    </a:lnTo>
                    <a:cubicBezTo>
                      <a:pt x="2506" y="4"/>
                      <a:pt x="2505" y="3"/>
                      <a:pt x="2505" y="2"/>
                    </a:cubicBezTo>
                    <a:cubicBezTo>
                      <a:pt x="2505" y="1"/>
                      <a:pt x="2506" y="0"/>
                      <a:pt x="2507" y="0"/>
                    </a:cubicBezTo>
                    <a:close/>
                    <a:moveTo>
                      <a:pt x="2515" y="0"/>
                    </a:moveTo>
                    <a:lnTo>
                      <a:pt x="2515" y="0"/>
                    </a:lnTo>
                    <a:cubicBezTo>
                      <a:pt x="2516" y="0"/>
                      <a:pt x="2517" y="1"/>
                      <a:pt x="2517" y="2"/>
                    </a:cubicBezTo>
                    <a:cubicBezTo>
                      <a:pt x="2517" y="3"/>
                      <a:pt x="2516" y="4"/>
                      <a:pt x="2515" y="4"/>
                    </a:cubicBezTo>
                    <a:lnTo>
                      <a:pt x="2515" y="4"/>
                    </a:lnTo>
                    <a:cubicBezTo>
                      <a:pt x="2514" y="4"/>
                      <a:pt x="2513" y="3"/>
                      <a:pt x="2513" y="2"/>
                    </a:cubicBezTo>
                    <a:cubicBezTo>
                      <a:pt x="2513" y="1"/>
                      <a:pt x="2514" y="0"/>
                      <a:pt x="2515" y="0"/>
                    </a:cubicBezTo>
                    <a:close/>
                    <a:moveTo>
                      <a:pt x="2523" y="0"/>
                    </a:moveTo>
                    <a:lnTo>
                      <a:pt x="2523" y="0"/>
                    </a:lnTo>
                    <a:cubicBezTo>
                      <a:pt x="2524" y="0"/>
                      <a:pt x="2525" y="1"/>
                      <a:pt x="2525" y="2"/>
                    </a:cubicBezTo>
                    <a:cubicBezTo>
                      <a:pt x="2525" y="3"/>
                      <a:pt x="2524" y="4"/>
                      <a:pt x="2523" y="4"/>
                    </a:cubicBezTo>
                    <a:lnTo>
                      <a:pt x="2523" y="4"/>
                    </a:lnTo>
                    <a:cubicBezTo>
                      <a:pt x="2522" y="4"/>
                      <a:pt x="2521" y="3"/>
                      <a:pt x="2521" y="2"/>
                    </a:cubicBezTo>
                    <a:cubicBezTo>
                      <a:pt x="2521" y="1"/>
                      <a:pt x="2522" y="0"/>
                      <a:pt x="2523" y="0"/>
                    </a:cubicBezTo>
                    <a:close/>
                    <a:moveTo>
                      <a:pt x="2531" y="0"/>
                    </a:moveTo>
                    <a:lnTo>
                      <a:pt x="2531" y="0"/>
                    </a:lnTo>
                    <a:cubicBezTo>
                      <a:pt x="2532" y="0"/>
                      <a:pt x="2533" y="1"/>
                      <a:pt x="2533" y="2"/>
                    </a:cubicBezTo>
                    <a:cubicBezTo>
                      <a:pt x="2533" y="3"/>
                      <a:pt x="2532" y="4"/>
                      <a:pt x="2531" y="4"/>
                    </a:cubicBezTo>
                    <a:lnTo>
                      <a:pt x="2531" y="4"/>
                    </a:lnTo>
                    <a:cubicBezTo>
                      <a:pt x="2530" y="4"/>
                      <a:pt x="2529" y="3"/>
                      <a:pt x="2529" y="2"/>
                    </a:cubicBezTo>
                    <a:cubicBezTo>
                      <a:pt x="2529" y="1"/>
                      <a:pt x="2530" y="0"/>
                      <a:pt x="2531" y="0"/>
                    </a:cubicBezTo>
                    <a:close/>
                    <a:moveTo>
                      <a:pt x="2539" y="0"/>
                    </a:moveTo>
                    <a:lnTo>
                      <a:pt x="2539" y="0"/>
                    </a:lnTo>
                    <a:cubicBezTo>
                      <a:pt x="2540" y="0"/>
                      <a:pt x="2541" y="1"/>
                      <a:pt x="2541" y="2"/>
                    </a:cubicBezTo>
                    <a:cubicBezTo>
                      <a:pt x="2541" y="3"/>
                      <a:pt x="2540" y="4"/>
                      <a:pt x="2539" y="4"/>
                    </a:cubicBezTo>
                    <a:lnTo>
                      <a:pt x="2539" y="4"/>
                    </a:lnTo>
                    <a:cubicBezTo>
                      <a:pt x="2538" y="4"/>
                      <a:pt x="2537" y="3"/>
                      <a:pt x="2537" y="2"/>
                    </a:cubicBezTo>
                    <a:cubicBezTo>
                      <a:pt x="2537" y="1"/>
                      <a:pt x="2538" y="0"/>
                      <a:pt x="2539" y="0"/>
                    </a:cubicBezTo>
                    <a:close/>
                    <a:moveTo>
                      <a:pt x="2547" y="0"/>
                    </a:moveTo>
                    <a:lnTo>
                      <a:pt x="2547" y="0"/>
                    </a:lnTo>
                    <a:cubicBezTo>
                      <a:pt x="2548" y="0"/>
                      <a:pt x="2549" y="1"/>
                      <a:pt x="2549" y="2"/>
                    </a:cubicBezTo>
                    <a:cubicBezTo>
                      <a:pt x="2549" y="3"/>
                      <a:pt x="2548" y="4"/>
                      <a:pt x="2547" y="4"/>
                    </a:cubicBezTo>
                    <a:lnTo>
                      <a:pt x="2547" y="4"/>
                    </a:lnTo>
                    <a:cubicBezTo>
                      <a:pt x="2546" y="4"/>
                      <a:pt x="2545" y="3"/>
                      <a:pt x="2545" y="2"/>
                    </a:cubicBezTo>
                    <a:cubicBezTo>
                      <a:pt x="2545" y="1"/>
                      <a:pt x="2546" y="0"/>
                      <a:pt x="2547" y="0"/>
                    </a:cubicBezTo>
                    <a:close/>
                    <a:moveTo>
                      <a:pt x="2555" y="0"/>
                    </a:moveTo>
                    <a:lnTo>
                      <a:pt x="2555" y="0"/>
                    </a:lnTo>
                    <a:cubicBezTo>
                      <a:pt x="2556" y="0"/>
                      <a:pt x="2557" y="1"/>
                      <a:pt x="2557" y="2"/>
                    </a:cubicBezTo>
                    <a:cubicBezTo>
                      <a:pt x="2557" y="3"/>
                      <a:pt x="2556" y="4"/>
                      <a:pt x="2555" y="4"/>
                    </a:cubicBezTo>
                    <a:lnTo>
                      <a:pt x="2555" y="4"/>
                    </a:lnTo>
                    <a:cubicBezTo>
                      <a:pt x="2554" y="4"/>
                      <a:pt x="2553" y="3"/>
                      <a:pt x="2553" y="2"/>
                    </a:cubicBezTo>
                    <a:cubicBezTo>
                      <a:pt x="2553" y="1"/>
                      <a:pt x="2554" y="0"/>
                      <a:pt x="2555" y="0"/>
                    </a:cubicBezTo>
                    <a:close/>
                    <a:moveTo>
                      <a:pt x="2563" y="0"/>
                    </a:moveTo>
                    <a:lnTo>
                      <a:pt x="2563" y="0"/>
                    </a:lnTo>
                    <a:cubicBezTo>
                      <a:pt x="2564" y="0"/>
                      <a:pt x="2565" y="1"/>
                      <a:pt x="2565" y="2"/>
                    </a:cubicBezTo>
                    <a:cubicBezTo>
                      <a:pt x="2565" y="3"/>
                      <a:pt x="2564" y="4"/>
                      <a:pt x="2563" y="4"/>
                    </a:cubicBezTo>
                    <a:lnTo>
                      <a:pt x="2563" y="4"/>
                    </a:lnTo>
                    <a:cubicBezTo>
                      <a:pt x="2562" y="4"/>
                      <a:pt x="2561" y="3"/>
                      <a:pt x="2561" y="2"/>
                    </a:cubicBezTo>
                    <a:cubicBezTo>
                      <a:pt x="2561" y="1"/>
                      <a:pt x="2562" y="0"/>
                      <a:pt x="2563" y="0"/>
                    </a:cubicBezTo>
                    <a:close/>
                    <a:moveTo>
                      <a:pt x="2571" y="0"/>
                    </a:moveTo>
                    <a:lnTo>
                      <a:pt x="2571" y="0"/>
                    </a:lnTo>
                    <a:cubicBezTo>
                      <a:pt x="2572" y="0"/>
                      <a:pt x="2573" y="1"/>
                      <a:pt x="2573" y="2"/>
                    </a:cubicBezTo>
                    <a:cubicBezTo>
                      <a:pt x="2573" y="3"/>
                      <a:pt x="2572" y="4"/>
                      <a:pt x="2571" y="4"/>
                    </a:cubicBezTo>
                    <a:lnTo>
                      <a:pt x="2571" y="4"/>
                    </a:lnTo>
                    <a:cubicBezTo>
                      <a:pt x="2570" y="4"/>
                      <a:pt x="2569" y="3"/>
                      <a:pt x="2569" y="2"/>
                    </a:cubicBezTo>
                    <a:cubicBezTo>
                      <a:pt x="2569" y="1"/>
                      <a:pt x="2570" y="0"/>
                      <a:pt x="2571" y="0"/>
                    </a:cubicBezTo>
                    <a:close/>
                    <a:moveTo>
                      <a:pt x="2579" y="0"/>
                    </a:moveTo>
                    <a:lnTo>
                      <a:pt x="2579" y="0"/>
                    </a:lnTo>
                    <a:cubicBezTo>
                      <a:pt x="2580" y="0"/>
                      <a:pt x="2581" y="1"/>
                      <a:pt x="2581" y="2"/>
                    </a:cubicBezTo>
                    <a:cubicBezTo>
                      <a:pt x="2581" y="3"/>
                      <a:pt x="2580" y="4"/>
                      <a:pt x="2579" y="4"/>
                    </a:cubicBezTo>
                    <a:lnTo>
                      <a:pt x="2579" y="4"/>
                    </a:lnTo>
                    <a:cubicBezTo>
                      <a:pt x="2578" y="4"/>
                      <a:pt x="2577" y="3"/>
                      <a:pt x="2577" y="2"/>
                    </a:cubicBezTo>
                    <a:cubicBezTo>
                      <a:pt x="2577" y="1"/>
                      <a:pt x="2578" y="0"/>
                      <a:pt x="2579" y="0"/>
                    </a:cubicBezTo>
                    <a:close/>
                    <a:moveTo>
                      <a:pt x="2587" y="0"/>
                    </a:moveTo>
                    <a:lnTo>
                      <a:pt x="2587" y="0"/>
                    </a:lnTo>
                    <a:cubicBezTo>
                      <a:pt x="2588" y="0"/>
                      <a:pt x="2589" y="1"/>
                      <a:pt x="2589" y="2"/>
                    </a:cubicBezTo>
                    <a:cubicBezTo>
                      <a:pt x="2589" y="3"/>
                      <a:pt x="2588" y="4"/>
                      <a:pt x="2587" y="4"/>
                    </a:cubicBezTo>
                    <a:lnTo>
                      <a:pt x="2587" y="4"/>
                    </a:lnTo>
                    <a:cubicBezTo>
                      <a:pt x="2586" y="4"/>
                      <a:pt x="2585" y="3"/>
                      <a:pt x="2585" y="2"/>
                    </a:cubicBezTo>
                    <a:cubicBezTo>
                      <a:pt x="2585" y="1"/>
                      <a:pt x="2586" y="0"/>
                      <a:pt x="2587" y="0"/>
                    </a:cubicBezTo>
                    <a:close/>
                    <a:moveTo>
                      <a:pt x="2595" y="0"/>
                    </a:moveTo>
                    <a:lnTo>
                      <a:pt x="2595" y="0"/>
                    </a:lnTo>
                    <a:cubicBezTo>
                      <a:pt x="2596" y="0"/>
                      <a:pt x="2597" y="1"/>
                      <a:pt x="2597" y="2"/>
                    </a:cubicBezTo>
                    <a:cubicBezTo>
                      <a:pt x="2597" y="3"/>
                      <a:pt x="2596" y="4"/>
                      <a:pt x="2595" y="4"/>
                    </a:cubicBezTo>
                    <a:lnTo>
                      <a:pt x="2595" y="4"/>
                    </a:lnTo>
                    <a:cubicBezTo>
                      <a:pt x="2594" y="4"/>
                      <a:pt x="2593" y="3"/>
                      <a:pt x="2593" y="2"/>
                    </a:cubicBezTo>
                    <a:cubicBezTo>
                      <a:pt x="2593" y="1"/>
                      <a:pt x="2594" y="0"/>
                      <a:pt x="2595" y="0"/>
                    </a:cubicBezTo>
                    <a:close/>
                    <a:moveTo>
                      <a:pt x="2603" y="0"/>
                    </a:moveTo>
                    <a:lnTo>
                      <a:pt x="2603" y="0"/>
                    </a:lnTo>
                    <a:cubicBezTo>
                      <a:pt x="2604" y="0"/>
                      <a:pt x="2605" y="1"/>
                      <a:pt x="2605" y="2"/>
                    </a:cubicBezTo>
                    <a:cubicBezTo>
                      <a:pt x="2605" y="3"/>
                      <a:pt x="2604" y="4"/>
                      <a:pt x="2603" y="4"/>
                    </a:cubicBezTo>
                    <a:lnTo>
                      <a:pt x="2603" y="4"/>
                    </a:lnTo>
                    <a:cubicBezTo>
                      <a:pt x="2602" y="4"/>
                      <a:pt x="2601" y="3"/>
                      <a:pt x="2601" y="2"/>
                    </a:cubicBezTo>
                    <a:cubicBezTo>
                      <a:pt x="2601" y="1"/>
                      <a:pt x="2602" y="0"/>
                      <a:pt x="2603" y="0"/>
                    </a:cubicBezTo>
                    <a:close/>
                    <a:moveTo>
                      <a:pt x="2611" y="0"/>
                    </a:moveTo>
                    <a:lnTo>
                      <a:pt x="2611" y="0"/>
                    </a:lnTo>
                    <a:cubicBezTo>
                      <a:pt x="2612" y="0"/>
                      <a:pt x="2613" y="1"/>
                      <a:pt x="2613" y="2"/>
                    </a:cubicBezTo>
                    <a:cubicBezTo>
                      <a:pt x="2613" y="3"/>
                      <a:pt x="2612" y="4"/>
                      <a:pt x="2611" y="4"/>
                    </a:cubicBezTo>
                    <a:lnTo>
                      <a:pt x="2611" y="4"/>
                    </a:lnTo>
                    <a:cubicBezTo>
                      <a:pt x="2610" y="4"/>
                      <a:pt x="2609" y="3"/>
                      <a:pt x="2609" y="2"/>
                    </a:cubicBezTo>
                    <a:cubicBezTo>
                      <a:pt x="2609" y="1"/>
                      <a:pt x="2610" y="0"/>
                      <a:pt x="2611" y="0"/>
                    </a:cubicBezTo>
                    <a:close/>
                    <a:moveTo>
                      <a:pt x="2619" y="0"/>
                    </a:moveTo>
                    <a:lnTo>
                      <a:pt x="2619" y="0"/>
                    </a:lnTo>
                    <a:cubicBezTo>
                      <a:pt x="2620" y="0"/>
                      <a:pt x="2621" y="1"/>
                      <a:pt x="2621" y="2"/>
                    </a:cubicBezTo>
                    <a:cubicBezTo>
                      <a:pt x="2621" y="3"/>
                      <a:pt x="2620" y="4"/>
                      <a:pt x="2619" y="4"/>
                    </a:cubicBezTo>
                    <a:lnTo>
                      <a:pt x="2619" y="4"/>
                    </a:lnTo>
                    <a:cubicBezTo>
                      <a:pt x="2618" y="4"/>
                      <a:pt x="2617" y="3"/>
                      <a:pt x="2617" y="2"/>
                    </a:cubicBezTo>
                    <a:cubicBezTo>
                      <a:pt x="2617" y="1"/>
                      <a:pt x="2618" y="0"/>
                      <a:pt x="2619" y="0"/>
                    </a:cubicBezTo>
                    <a:close/>
                    <a:moveTo>
                      <a:pt x="2627" y="0"/>
                    </a:moveTo>
                    <a:lnTo>
                      <a:pt x="2627" y="0"/>
                    </a:lnTo>
                    <a:cubicBezTo>
                      <a:pt x="2628" y="0"/>
                      <a:pt x="2629" y="1"/>
                      <a:pt x="2629" y="2"/>
                    </a:cubicBezTo>
                    <a:cubicBezTo>
                      <a:pt x="2629" y="3"/>
                      <a:pt x="2628" y="4"/>
                      <a:pt x="2627" y="4"/>
                    </a:cubicBezTo>
                    <a:lnTo>
                      <a:pt x="2627" y="4"/>
                    </a:lnTo>
                    <a:cubicBezTo>
                      <a:pt x="2626" y="4"/>
                      <a:pt x="2625" y="3"/>
                      <a:pt x="2625" y="2"/>
                    </a:cubicBezTo>
                    <a:cubicBezTo>
                      <a:pt x="2625" y="1"/>
                      <a:pt x="2626" y="0"/>
                      <a:pt x="2627" y="0"/>
                    </a:cubicBezTo>
                    <a:close/>
                    <a:moveTo>
                      <a:pt x="2635" y="0"/>
                    </a:moveTo>
                    <a:lnTo>
                      <a:pt x="2635" y="0"/>
                    </a:lnTo>
                    <a:cubicBezTo>
                      <a:pt x="2636" y="0"/>
                      <a:pt x="2637" y="1"/>
                      <a:pt x="2637" y="2"/>
                    </a:cubicBezTo>
                    <a:cubicBezTo>
                      <a:pt x="2637" y="3"/>
                      <a:pt x="2636" y="4"/>
                      <a:pt x="2635" y="4"/>
                    </a:cubicBezTo>
                    <a:lnTo>
                      <a:pt x="2635" y="4"/>
                    </a:lnTo>
                    <a:cubicBezTo>
                      <a:pt x="2634" y="4"/>
                      <a:pt x="2633" y="3"/>
                      <a:pt x="2633" y="2"/>
                    </a:cubicBezTo>
                    <a:cubicBezTo>
                      <a:pt x="2633" y="1"/>
                      <a:pt x="2634" y="0"/>
                      <a:pt x="2635" y="0"/>
                    </a:cubicBezTo>
                    <a:close/>
                    <a:moveTo>
                      <a:pt x="2643" y="0"/>
                    </a:moveTo>
                    <a:lnTo>
                      <a:pt x="2643" y="0"/>
                    </a:lnTo>
                    <a:cubicBezTo>
                      <a:pt x="2644" y="0"/>
                      <a:pt x="2645" y="1"/>
                      <a:pt x="2645" y="2"/>
                    </a:cubicBezTo>
                    <a:cubicBezTo>
                      <a:pt x="2645" y="3"/>
                      <a:pt x="2644" y="4"/>
                      <a:pt x="2643" y="4"/>
                    </a:cubicBezTo>
                    <a:lnTo>
                      <a:pt x="2643" y="4"/>
                    </a:lnTo>
                    <a:cubicBezTo>
                      <a:pt x="2642" y="4"/>
                      <a:pt x="2641" y="3"/>
                      <a:pt x="2641" y="2"/>
                    </a:cubicBezTo>
                    <a:cubicBezTo>
                      <a:pt x="2641" y="1"/>
                      <a:pt x="2642" y="0"/>
                      <a:pt x="2643" y="0"/>
                    </a:cubicBezTo>
                    <a:close/>
                    <a:moveTo>
                      <a:pt x="2651" y="0"/>
                    </a:moveTo>
                    <a:lnTo>
                      <a:pt x="2651" y="0"/>
                    </a:lnTo>
                    <a:cubicBezTo>
                      <a:pt x="2652" y="0"/>
                      <a:pt x="2653" y="1"/>
                      <a:pt x="2653" y="2"/>
                    </a:cubicBezTo>
                    <a:cubicBezTo>
                      <a:pt x="2653" y="3"/>
                      <a:pt x="2652" y="4"/>
                      <a:pt x="2651" y="4"/>
                    </a:cubicBezTo>
                    <a:lnTo>
                      <a:pt x="2651" y="4"/>
                    </a:lnTo>
                    <a:cubicBezTo>
                      <a:pt x="2650" y="4"/>
                      <a:pt x="2649" y="3"/>
                      <a:pt x="2649" y="2"/>
                    </a:cubicBezTo>
                    <a:cubicBezTo>
                      <a:pt x="2649" y="1"/>
                      <a:pt x="2650" y="0"/>
                      <a:pt x="2651" y="0"/>
                    </a:cubicBezTo>
                    <a:close/>
                    <a:moveTo>
                      <a:pt x="2659" y="0"/>
                    </a:moveTo>
                    <a:lnTo>
                      <a:pt x="2659" y="0"/>
                    </a:lnTo>
                    <a:cubicBezTo>
                      <a:pt x="2660" y="0"/>
                      <a:pt x="2661" y="1"/>
                      <a:pt x="2661" y="2"/>
                    </a:cubicBezTo>
                    <a:cubicBezTo>
                      <a:pt x="2661" y="3"/>
                      <a:pt x="2660" y="4"/>
                      <a:pt x="2659" y="4"/>
                    </a:cubicBezTo>
                    <a:lnTo>
                      <a:pt x="2659" y="4"/>
                    </a:lnTo>
                    <a:cubicBezTo>
                      <a:pt x="2658" y="4"/>
                      <a:pt x="2657" y="3"/>
                      <a:pt x="2657" y="2"/>
                    </a:cubicBezTo>
                    <a:cubicBezTo>
                      <a:pt x="2657" y="1"/>
                      <a:pt x="2658" y="0"/>
                      <a:pt x="2659" y="0"/>
                    </a:cubicBezTo>
                    <a:close/>
                    <a:moveTo>
                      <a:pt x="2667" y="0"/>
                    </a:moveTo>
                    <a:lnTo>
                      <a:pt x="2667" y="0"/>
                    </a:lnTo>
                    <a:cubicBezTo>
                      <a:pt x="2668" y="0"/>
                      <a:pt x="2669" y="1"/>
                      <a:pt x="2669" y="2"/>
                    </a:cubicBezTo>
                    <a:cubicBezTo>
                      <a:pt x="2669" y="3"/>
                      <a:pt x="2668" y="4"/>
                      <a:pt x="2667" y="4"/>
                    </a:cubicBezTo>
                    <a:lnTo>
                      <a:pt x="2667" y="4"/>
                    </a:lnTo>
                    <a:cubicBezTo>
                      <a:pt x="2666" y="4"/>
                      <a:pt x="2665" y="3"/>
                      <a:pt x="2665" y="2"/>
                    </a:cubicBezTo>
                    <a:cubicBezTo>
                      <a:pt x="2665" y="1"/>
                      <a:pt x="2666" y="0"/>
                      <a:pt x="2667" y="0"/>
                    </a:cubicBezTo>
                    <a:close/>
                    <a:moveTo>
                      <a:pt x="2675" y="0"/>
                    </a:moveTo>
                    <a:lnTo>
                      <a:pt x="2675" y="0"/>
                    </a:lnTo>
                    <a:cubicBezTo>
                      <a:pt x="2676" y="0"/>
                      <a:pt x="2677" y="1"/>
                      <a:pt x="2677" y="2"/>
                    </a:cubicBezTo>
                    <a:cubicBezTo>
                      <a:pt x="2677" y="3"/>
                      <a:pt x="2676" y="4"/>
                      <a:pt x="2675" y="4"/>
                    </a:cubicBezTo>
                    <a:lnTo>
                      <a:pt x="2675" y="4"/>
                    </a:lnTo>
                    <a:cubicBezTo>
                      <a:pt x="2674" y="4"/>
                      <a:pt x="2673" y="3"/>
                      <a:pt x="2673" y="2"/>
                    </a:cubicBezTo>
                    <a:cubicBezTo>
                      <a:pt x="2673" y="1"/>
                      <a:pt x="2674" y="0"/>
                      <a:pt x="2675" y="0"/>
                    </a:cubicBezTo>
                    <a:close/>
                    <a:moveTo>
                      <a:pt x="2683" y="0"/>
                    </a:moveTo>
                    <a:lnTo>
                      <a:pt x="2683" y="0"/>
                    </a:lnTo>
                    <a:cubicBezTo>
                      <a:pt x="2684" y="0"/>
                      <a:pt x="2685" y="1"/>
                      <a:pt x="2685" y="2"/>
                    </a:cubicBezTo>
                    <a:cubicBezTo>
                      <a:pt x="2685" y="3"/>
                      <a:pt x="2684" y="4"/>
                      <a:pt x="2683" y="4"/>
                    </a:cubicBezTo>
                    <a:lnTo>
                      <a:pt x="2683" y="4"/>
                    </a:lnTo>
                    <a:cubicBezTo>
                      <a:pt x="2682" y="4"/>
                      <a:pt x="2681" y="3"/>
                      <a:pt x="2681" y="2"/>
                    </a:cubicBezTo>
                    <a:cubicBezTo>
                      <a:pt x="2681" y="1"/>
                      <a:pt x="2682" y="0"/>
                      <a:pt x="2683" y="0"/>
                    </a:cubicBezTo>
                    <a:close/>
                    <a:moveTo>
                      <a:pt x="2691" y="0"/>
                    </a:moveTo>
                    <a:lnTo>
                      <a:pt x="2691" y="0"/>
                    </a:lnTo>
                    <a:cubicBezTo>
                      <a:pt x="2692" y="0"/>
                      <a:pt x="2693" y="1"/>
                      <a:pt x="2693" y="2"/>
                    </a:cubicBezTo>
                    <a:cubicBezTo>
                      <a:pt x="2693" y="3"/>
                      <a:pt x="2692" y="4"/>
                      <a:pt x="2691" y="4"/>
                    </a:cubicBezTo>
                    <a:lnTo>
                      <a:pt x="2691" y="4"/>
                    </a:lnTo>
                    <a:cubicBezTo>
                      <a:pt x="2690" y="4"/>
                      <a:pt x="2689" y="3"/>
                      <a:pt x="2689" y="2"/>
                    </a:cubicBezTo>
                    <a:cubicBezTo>
                      <a:pt x="2689" y="1"/>
                      <a:pt x="2690" y="0"/>
                      <a:pt x="2691" y="0"/>
                    </a:cubicBezTo>
                    <a:close/>
                    <a:moveTo>
                      <a:pt x="2699" y="0"/>
                    </a:moveTo>
                    <a:lnTo>
                      <a:pt x="2699" y="0"/>
                    </a:lnTo>
                    <a:cubicBezTo>
                      <a:pt x="2700" y="0"/>
                      <a:pt x="2701" y="1"/>
                      <a:pt x="2701" y="2"/>
                    </a:cubicBezTo>
                    <a:cubicBezTo>
                      <a:pt x="2701" y="3"/>
                      <a:pt x="2700" y="4"/>
                      <a:pt x="2699" y="4"/>
                    </a:cubicBezTo>
                    <a:lnTo>
                      <a:pt x="2699" y="4"/>
                    </a:lnTo>
                    <a:cubicBezTo>
                      <a:pt x="2698" y="4"/>
                      <a:pt x="2697" y="3"/>
                      <a:pt x="2697" y="2"/>
                    </a:cubicBezTo>
                    <a:cubicBezTo>
                      <a:pt x="2697" y="1"/>
                      <a:pt x="2698" y="0"/>
                      <a:pt x="2699" y="0"/>
                    </a:cubicBezTo>
                    <a:close/>
                    <a:moveTo>
                      <a:pt x="2707" y="0"/>
                    </a:moveTo>
                    <a:lnTo>
                      <a:pt x="2707" y="0"/>
                    </a:lnTo>
                    <a:cubicBezTo>
                      <a:pt x="2708" y="0"/>
                      <a:pt x="2709" y="1"/>
                      <a:pt x="2709" y="2"/>
                    </a:cubicBezTo>
                    <a:cubicBezTo>
                      <a:pt x="2709" y="3"/>
                      <a:pt x="2708" y="4"/>
                      <a:pt x="2707" y="4"/>
                    </a:cubicBezTo>
                    <a:lnTo>
                      <a:pt x="2707" y="4"/>
                    </a:lnTo>
                    <a:cubicBezTo>
                      <a:pt x="2706" y="4"/>
                      <a:pt x="2705" y="3"/>
                      <a:pt x="2705" y="2"/>
                    </a:cubicBezTo>
                    <a:cubicBezTo>
                      <a:pt x="2705" y="1"/>
                      <a:pt x="2706" y="0"/>
                      <a:pt x="2707" y="0"/>
                    </a:cubicBezTo>
                    <a:close/>
                    <a:moveTo>
                      <a:pt x="2715" y="0"/>
                    </a:moveTo>
                    <a:lnTo>
                      <a:pt x="2715" y="0"/>
                    </a:lnTo>
                    <a:cubicBezTo>
                      <a:pt x="2716" y="0"/>
                      <a:pt x="2717" y="1"/>
                      <a:pt x="2717" y="2"/>
                    </a:cubicBezTo>
                    <a:cubicBezTo>
                      <a:pt x="2717" y="3"/>
                      <a:pt x="2716" y="4"/>
                      <a:pt x="2715" y="4"/>
                    </a:cubicBezTo>
                    <a:lnTo>
                      <a:pt x="2715" y="4"/>
                    </a:lnTo>
                    <a:cubicBezTo>
                      <a:pt x="2714" y="4"/>
                      <a:pt x="2713" y="3"/>
                      <a:pt x="2713" y="2"/>
                    </a:cubicBezTo>
                    <a:cubicBezTo>
                      <a:pt x="2713" y="1"/>
                      <a:pt x="2714" y="0"/>
                      <a:pt x="2715" y="0"/>
                    </a:cubicBezTo>
                    <a:close/>
                    <a:moveTo>
                      <a:pt x="2723" y="0"/>
                    </a:moveTo>
                    <a:lnTo>
                      <a:pt x="2723" y="0"/>
                    </a:lnTo>
                    <a:cubicBezTo>
                      <a:pt x="2724" y="0"/>
                      <a:pt x="2725" y="1"/>
                      <a:pt x="2725" y="2"/>
                    </a:cubicBezTo>
                    <a:cubicBezTo>
                      <a:pt x="2725" y="3"/>
                      <a:pt x="2724" y="4"/>
                      <a:pt x="2723" y="4"/>
                    </a:cubicBezTo>
                    <a:lnTo>
                      <a:pt x="2723" y="4"/>
                    </a:lnTo>
                    <a:cubicBezTo>
                      <a:pt x="2722" y="4"/>
                      <a:pt x="2721" y="3"/>
                      <a:pt x="2721" y="2"/>
                    </a:cubicBezTo>
                    <a:cubicBezTo>
                      <a:pt x="2721" y="1"/>
                      <a:pt x="2722" y="0"/>
                      <a:pt x="2723" y="0"/>
                    </a:cubicBezTo>
                    <a:close/>
                    <a:moveTo>
                      <a:pt x="2731" y="0"/>
                    </a:moveTo>
                    <a:lnTo>
                      <a:pt x="2731" y="0"/>
                    </a:lnTo>
                    <a:cubicBezTo>
                      <a:pt x="2732" y="0"/>
                      <a:pt x="2733" y="1"/>
                      <a:pt x="2733" y="2"/>
                    </a:cubicBezTo>
                    <a:cubicBezTo>
                      <a:pt x="2733" y="3"/>
                      <a:pt x="2732" y="4"/>
                      <a:pt x="2731" y="4"/>
                    </a:cubicBezTo>
                    <a:lnTo>
                      <a:pt x="2731" y="4"/>
                    </a:lnTo>
                    <a:cubicBezTo>
                      <a:pt x="2730" y="4"/>
                      <a:pt x="2729" y="3"/>
                      <a:pt x="2729" y="2"/>
                    </a:cubicBezTo>
                    <a:cubicBezTo>
                      <a:pt x="2729" y="1"/>
                      <a:pt x="2730" y="0"/>
                      <a:pt x="2731" y="0"/>
                    </a:cubicBezTo>
                    <a:close/>
                    <a:moveTo>
                      <a:pt x="2739" y="0"/>
                    </a:moveTo>
                    <a:lnTo>
                      <a:pt x="2739" y="0"/>
                    </a:lnTo>
                    <a:cubicBezTo>
                      <a:pt x="2740" y="0"/>
                      <a:pt x="2741" y="1"/>
                      <a:pt x="2741" y="2"/>
                    </a:cubicBezTo>
                    <a:cubicBezTo>
                      <a:pt x="2741" y="3"/>
                      <a:pt x="2740" y="4"/>
                      <a:pt x="2739" y="4"/>
                    </a:cubicBezTo>
                    <a:lnTo>
                      <a:pt x="2739" y="4"/>
                    </a:lnTo>
                    <a:cubicBezTo>
                      <a:pt x="2738" y="4"/>
                      <a:pt x="2737" y="3"/>
                      <a:pt x="2737" y="2"/>
                    </a:cubicBezTo>
                    <a:cubicBezTo>
                      <a:pt x="2737" y="1"/>
                      <a:pt x="2738" y="0"/>
                      <a:pt x="2739" y="0"/>
                    </a:cubicBezTo>
                    <a:close/>
                    <a:moveTo>
                      <a:pt x="2747" y="0"/>
                    </a:moveTo>
                    <a:lnTo>
                      <a:pt x="2747" y="0"/>
                    </a:lnTo>
                    <a:cubicBezTo>
                      <a:pt x="2748" y="0"/>
                      <a:pt x="2749" y="1"/>
                      <a:pt x="2749" y="2"/>
                    </a:cubicBezTo>
                    <a:cubicBezTo>
                      <a:pt x="2749" y="3"/>
                      <a:pt x="2748" y="4"/>
                      <a:pt x="2747" y="4"/>
                    </a:cubicBezTo>
                    <a:lnTo>
                      <a:pt x="2747" y="4"/>
                    </a:lnTo>
                    <a:cubicBezTo>
                      <a:pt x="2746" y="4"/>
                      <a:pt x="2745" y="3"/>
                      <a:pt x="2745" y="2"/>
                    </a:cubicBezTo>
                    <a:cubicBezTo>
                      <a:pt x="2745" y="1"/>
                      <a:pt x="2746" y="0"/>
                      <a:pt x="2747" y="0"/>
                    </a:cubicBezTo>
                    <a:close/>
                    <a:moveTo>
                      <a:pt x="2755" y="0"/>
                    </a:moveTo>
                    <a:lnTo>
                      <a:pt x="2755" y="0"/>
                    </a:lnTo>
                    <a:cubicBezTo>
                      <a:pt x="2756" y="0"/>
                      <a:pt x="2757" y="1"/>
                      <a:pt x="2757" y="2"/>
                    </a:cubicBezTo>
                    <a:cubicBezTo>
                      <a:pt x="2757" y="3"/>
                      <a:pt x="2756" y="4"/>
                      <a:pt x="2755" y="4"/>
                    </a:cubicBezTo>
                    <a:lnTo>
                      <a:pt x="2755" y="4"/>
                    </a:lnTo>
                    <a:cubicBezTo>
                      <a:pt x="2754" y="4"/>
                      <a:pt x="2753" y="3"/>
                      <a:pt x="2753" y="2"/>
                    </a:cubicBezTo>
                    <a:cubicBezTo>
                      <a:pt x="2753" y="1"/>
                      <a:pt x="2754" y="0"/>
                      <a:pt x="2755" y="0"/>
                    </a:cubicBezTo>
                    <a:close/>
                    <a:moveTo>
                      <a:pt x="2763" y="0"/>
                    </a:moveTo>
                    <a:lnTo>
                      <a:pt x="2763" y="0"/>
                    </a:lnTo>
                    <a:cubicBezTo>
                      <a:pt x="2764" y="0"/>
                      <a:pt x="2765" y="1"/>
                      <a:pt x="2765" y="2"/>
                    </a:cubicBezTo>
                    <a:cubicBezTo>
                      <a:pt x="2765" y="3"/>
                      <a:pt x="2764" y="4"/>
                      <a:pt x="2763" y="4"/>
                    </a:cubicBezTo>
                    <a:lnTo>
                      <a:pt x="2763" y="4"/>
                    </a:lnTo>
                    <a:cubicBezTo>
                      <a:pt x="2762" y="4"/>
                      <a:pt x="2761" y="3"/>
                      <a:pt x="2761" y="2"/>
                    </a:cubicBezTo>
                    <a:cubicBezTo>
                      <a:pt x="2761" y="1"/>
                      <a:pt x="2762" y="0"/>
                      <a:pt x="2763" y="0"/>
                    </a:cubicBezTo>
                    <a:close/>
                    <a:moveTo>
                      <a:pt x="2771" y="0"/>
                    </a:moveTo>
                    <a:lnTo>
                      <a:pt x="2771" y="0"/>
                    </a:lnTo>
                    <a:cubicBezTo>
                      <a:pt x="2772" y="0"/>
                      <a:pt x="2773" y="1"/>
                      <a:pt x="2773" y="2"/>
                    </a:cubicBezTo>
                    <a:cubicBezTo>
                      <a:pt x="2773" y="3"/>
                      <a:pt x="2772" y="4"/>
                      <a:pt x="2771" y="4"/>
                    </a:cubicBezTo>
                    <a:lnTo>
                      <a:pt x="2771" y="4"/>
                    </a:lnTo>
                    <a:cubicBezTo>
                      <a:pt x="2770" y="4"/>
                      <a:pt x="2769" y="3"/>
                      <a:pt x="2769" y="2"/>
                    </a:cubicBezTo>
                    <a:cubicBezTo>
                      <a:pt x="2769" y="1"/>
                      <a:pt x="2770" y="0"/>
                      <a:pt x="2771" y="0"/>
                    </a:cubicBezTo>
                    <a:close/>
                    <a:moveTo>
                      <a:pt x="2779" y="0"/>
                    </a:moveTo>
                    <a:lnTo>
                      <a:pt x="2779" y="0"/>
                    </a:lnTo>
                    <a:cubicBezTo>
                      <a:pt x="2780" y="0"/>
                      <a:pt x="2781" y="1"/>
                      <a:pt x="2781" y="2"/>
                    </a:cubicBezTo>
                    <a:cubicBezTo>
                      <a:pt x="2781" y="3"/>
                      <a:pt x="2780" y="4"/>
                      <a:pt x="2779" y="4"/>
                    </a:cubicBezTo>
                    <a:lnTo>
                      <a:pt x="2779" y="4"/>
                    </a:lnTo>
                    <a:cubicBezTo>
                      <a:pt x="2778" y="4"/>
                      <a:pt x="2777" y="3"/>
                      <a:pt x="2777" y="2"/>
                    </a:cubicBezTo>
                    <a:cubicBezTo>
                      <a:pt x="2777" y="1"/>
                      <a:pt x="2778" y="0"/>
                      <a:pt x="2779" y="0"/>
                    </a:cubicBezTo>
                    <a:close/>
                    <a:moveTo>
                      <a:pt x="2787" y="0"/>
                    </a:moveTo>
                    <a:lnTo>
                      <a:pt x="2787" y="0"/>
                    </a:lnTo>
                    <a:cubicBezTo>
                      <a:pt x="2788" y="0"/>
                      <a:pt x="2789" y="1"/>
                      <a:pt x="2789" y="2"/>
                    </a:cubicBezTo>
                    <a:cubicBezTo>
                      <a:pt x="2789" y="3"/>
                      <a:pt x="2788" y="4"/>
                      <a:pt x="2787" y="4"/>
                    </a:cubicBezTo>
                    <a:lnTo>
                      <a:pt x="2787" y="4"/>
                    </a:lnTo>
                    <a:cubicBezTo>
                      <a:pt x="2786" y="4"/>
                      <a:pt x="2785" y="3"/>
                      <a:pt x="2785" y="2"/>
                    </a:cubicBezTo>
                    <a:cubicBezTo>
                      <a:pt x="2785" y="1"/>
                      <a:pt x="2786" y="0"/>
                      <a:pt x="2787" y="0"/>
                    </a:cubicBezTo>
                    <a:close/>
                    <a:moveTo>
                      <a:pt x="2795" y="0"/>
                    </a:moveTo>
                    <a:lnTo>
                      <a:pt x="2795" y="0"/>
                    </a:lnTo>
                    <a:cubicBezTo>
                      <a:pt x="2796" y="0"/>
                      <a:pt x="2797" y="1"/>
                      <a:pt x="2797" y="2"/>
                    </a:cubicBezTo>
                    <a:cubicBezTo>
                      <a:pt x="2797" y="3"/>
                      <a:pt x="2796" y="4"/>
                      <a:pt x="2795" y="4"/>
                    </a:cubicBezTo>
                    <a:lnTo>
                      <a:pt x="2795" y="4"/>
                    </a:lnTo>
                    <a:cubicBezTo>
                      <a:pt x="2794" y="4"/>
                      <a:pt x="2793" y="3"/>
                      <a:pt x="2793" y="2"/>
                    </a:cubicBezTo>
                    <a:cubicBezTo>
                      <a:pt x="2793" y="1"/>
                      <a:pt x="2794" y="0"/>
                      <a:pt x="2795" y="0"/>
                    </a:cubicBezTo>
                    <a:close/>
                    <a:moveTo>
                      <a:pt x="2803" y="0"/>
                    </a:moveTo>
                    <a:lnTo>
                      <a:pt x="2803" y="0"/>
                    </a:lnTo>
                    <a:cubicBezTo>
                      <a:pt x="2804" y="0"/>
                      <a:pt x="2805" y="1"/>
                      <a:pt x="2805" y="2"/>
                    </a:cubicBezTo>
                    <a:cubicBezTo>
                      <a:pt x="2805" y="3"/>
                      <a:pt x="2804" y="4"/>
                      <a:pt x="2803" y="4"/>
                    </a:cubicBezTo>
                    <a:lnTo>
                      <a:pt x="2803" y="4"/>
                    </a:lnTo>
                    <a:cubicBezTo>
                      <a:pt x="2802" y="4"/>
                      <a:pt x="2801" y="3"/>
                      <a:pt x="2801" y="2"/>
                    </a:cubicBezTo>
                    <a:cubicBezTo>
                      <a:pt x="2801" y="1"/>
                      <a:pt x="2802" y="0"/>
                      <a:pt x="2803" y="0"/>
                    </a:cubicBezTo>
                    <a:close/>
                    <a:moveTo>
                      <a:pt x="2811" y="0"/>
                    </a:moveTo>
                    <a:lnTo>
                      <a:pt x="2811" y="0"/>
                    </a:lnTo>
                    <a:cubicBezTo>
                      <a:pt x="2812" y="0"/>
                      <a:pt x="2813" y="1"/>
                      <a:pt x="2813" y="2"/>
                    </a:cubicBezTo>
                    <a:cubicBezTo>
                      <a:pt x="2813" y="3"/>
                      <a:pt x="2812" y="4"/>
                      <a:pt x="2811" y="4"/>
                    </a:cubicBezTo>
                    <a:lnTo>
                      <a:pt x="2811" y="4"/>
                    </a:lnTo>
                    <a:cubicBezTo>
                      <a:pt x="2810" y="4"/>
                      <a:pt x="2809" y="3"/>
                      <a:pt x="2809" y="2"/>
                    </a:cubicBezTo>
                    <a:cubicBezTo>
                      <a:pt x="2809" y="1"/>
                      <a:pt x="2810" y="0"/>
                      <a:pt x="2811" y="0"/>
                    </a:cubicBezTo>
                    <a:close/>
                    <a:moveTo>
                      <a:pt x="2819" y="0"/>
                    </a:moveTo>
                    <a:lnTo>
                      <a:pt x="2819" y="0"/>
                    </a:lnTo>
                    <a:cubicBezTo>
                      <a:pt x="2820" y="0"/>
                      <a:pt x="2821" y="1"/>
                      <a:pt x="2821" y="2"/>
                    </a:cubicBezTo>
                    <a:cubicBezTo>
                      <a:pt x="2821" y="3"/>
                      <a:pt x="2820" y="4"/>
                      <a:pt x="2819" y="4"/>
                    </a:cubicBezTo>
                    <a:lnTo>
                      <a:pt x="2819" y="4"/>
                    </a:lnTo>
                    <a:cubicBezTo>
                      <a:pt x="2818" y="4"/>
                      <a:pt x="2817" y="3"/>
                      <a:pt x="2817" y="2"/>
                    </a:cubicBezTo>
                    <a:cubicBezTo>
                      <a:pt x="2817" y="1"/>
                      <a:pt x="2818" y="0"/>
                      <a:pt x="2819" y="0"/>
                    </a:cubicBezTo>
                    <a:close/>
                    <a:moveTo>
                      <a:pt x="2827" y="0"/>
                    </a:moveTo>
                    <a:lnTo>
                      <a:pt x="2827" y="0"/>
                    </a:lnTo>
                    <a:cubicBezTo>
                      <a:pt x="2828" y="0"/>
                      <a:pt x="2829" y="1"/>
                      <a:pt x="2829" y="2"/>
                    </a:cubicBezTo>
                    <a:cubicBezTo>
                      <a:pt x="2829" y="3"/>
                      <a:pt x="2828" y="4"/>
                      <a:pt x="2827" y="4"/>
                    </a:cubicBezTo>
                    <a:lnTo>
                      <a:pt x="2827" y="4"/>
                    </a:lnTo>
                    <a:cubicBezTo>
                      <a:pt x="2826" y="4"/>
                      <a:pt x="2825" y="3"/>
                      <a:pt x="2825" y="2"/>
                    </a:cubicBezTo>
                    <a:cubicBezTo>
                      <a:pt x="2825" y="1"/>
                      <a:pt x="2826" y="0"/>
                      <a:pt x="2827" y="0"/>
                    </a:cubicBezTo>
                    <a:close/>
                    <a:moveTo>
                      <a:pt x="2835" y="0"/>
                    </a:moveTo>
                    <a:lnTo>
                      <a:pt x="2835" y="0"/>
                    </a:lnTo>
                    <a:cubicBezTo>
                      <a:pt x="2836" y="0"/>
                      <a:pt x="2837" y="1"/>
                      <a:pt x="2837" y="2"/>
                    </a:cubicBezTo>
                    <a:cubicBezTo>
                      <a:pt x="2837" y="3"/>
                      <a:pt x="2836" y="4"/>
                      <a:pt x="2835" y="4"/>
                    </a:cubicBezTo>
                    <a:lnTo>
                      <a:pt x="2835" y="4"/>
                    </a:lnTo>
                    <a:cubicBezTo>
                      <a:pt x="2834" y="4"/>
                      <a:pt x="2833" y="3"/>
                      <a:pt x="2833" y="2"/>
                    </a:cubicBezTo>
                    <a:cubicBezTo>
                      <a:pt x="2833" y="1"/>
                      <a:pt x="2834" y="0"/>
                      <a:pt x="2835" y="0"/>
                    </a:cubicBezTo>
                    <a:close/>
                    <a:moveTo>
                      <a:pt x="2843" y="0"/>
                    </a:moveTo>
                    <a:lnTo>
                      <a:pt x="2843" y="0"/>
                    </a:lnTo>
                    <a:cubicBezTo>
                      <a:pt x="2844" y="0"/>
                      <a:pt x="2845" y="1"/>
                      <a:pt x="2845" y="2"/>
                    </a:cubicBezTo>
                    <a:cubicBezTo>
                      <a:pt x="2845" y="3"/>
                      <a:pt x="2844" y="4"/>
                      <a:pt x="2843" y="4"/>
                    </a:cubicBezTo>
                    <a:lnTo>
                      <a:pt x="2843" y="4"/>
                    </a:lnTo>
                    <a:cubicBezTo>
                      <a:pt x="2842" y="4"/>
                      <a:pt x="2841" y="3"/>
                      <a:pt x="2841" y="2"/>
                    </a:cubicBezTo>
                    <a:cubicBezTo>
                      <a:pt x="2841" y="1"/>
                      <a:pt x="2842" y="0"/>
                      <a:pt x="2843" y="0"/>
                    </a:cubicBezTo>
                    <a:close/>
                    <a:moveTo>
                      <a:pt x="2851" y="0"/>
                    </a:moveTo>
                    <a:lnTo>
                      <a:pt x="2851" y="0"/>
                    </a:lnTo>
                    <a:cubicBezTo>
                      <a:pt x="2852" y="0"/>
                      <a:pt x="2853" y="1"/>
                      <a:pt x="2853" y="2"/>
                    </a:cubicBezTo>
                    <a:cubicBezTo>
                      <a:pt x="2853" y="3"/>
                      <a:pt x="2852" y="4"/>
                      <a:pt x="2851" y="4"/>
                    </a:cubicBezTo>
                    <a:lnTo>
                      <a:pt x="2851" y="4"/>
                    </a:lnTo>
                    <a:cubicBezTo>
                      <a:pt x="2850" y="4"/>
                      <a:pt x="2849" y="3"/>
                      <a:pt x="2849" y="2"/>
                    </a:cubicBezTo>
                    <a:cubicBezTo>
                      <a:pt x="2849" y="1"/>
                      <a:pt x="2850" y="0"/>
                      <a:pt x="2851" y="0"/>
                    </a:cubicBezTo>
                    <a:close/>
                    <a:moveTo>
                      <a:pt x="2859" y="0"/>
                    </a:moveTo>
                    <a:lnTo>
                      <a:pt x="2859" y="0"/>
                    </a:lnTo>
                    <a:cubicBezTo>
                      <a:pt x="2860" y="0"/>
                      <a:pt x="2861" y="1"/>
                      <a:pt x="2861" y="2"/>
                    </a:cubicBezTo>
                    <a:cubicBezTo>
                      <a:pt x="2861" y="3"/>
                      <a:pt x="2860" y="4"/>
                      <a:pt x="2859" y="4"/>
                    </a:cubicBezTo>
                    <a:lnTo>
                      <a:pt x="2859" y="4"/>
                    </a:lnTo>
                    <a:cubicBezTo>
                      <a:pt x="2858" y="4"/>
                      <a:pt x="2857" y="3"/>
                      <a:pt x="2857" y="2"/>
                    </a:cubicBezTo>
                    <a:cubicBezTo>
                      <a:pt x="2857" y="1"/>
                      <a:pt x="2858" y="0"/>
                      <a:pt x="2859" y="0"/>
                    </a:cubicBezTo>
                    <a:close/>
                    <a:moveTo>
                      <a:pt x="2867" y="0"/>
                    </a:moveTo>
                    <a:lnTo>
                      <a:pt x="2867" y="0"/>
                    </a:lnTo>
                    <a:cubicBezTo>
                      <a:pt x="2868" y="0"/>
                      <a:pt x="2869" y="1"/>
                      <a:pt x="2869" y="2"/>
                    </a:cubicBezTo>
                    <a:cubicBezTo>
                      <a:pt x="2869" y="3"/>
                      <a:pt x="2868" y="4"/>
                      <a:pt x="2867" y="4"/>
                    </a:cubicBezTo>
                    <a:lnTo>
                      <a:pt x="2867" y="4"/>
                    </a:lnTo>
                    <a:cubicBezTo>
                      <a:pt x="2866" y="4"/>
                      <a:pt x="2865" y="3"/>
                      <a:pt x="2865" y="2"/>
                    </a:cubicBezTo>
                    <a:cubicBezTo>
                      <a:pt x="2865" y="1"/>
                      <a:pt x="2866" y="0"/>
                      <a:pt x="2867" y="0"/>
                    </a:cubicBezTo>
                    <a:close/>
                    <a:moveTo>
                      <a:pt x="2875" y="0"/>
                    </a:moveTo>
                    <a:lnTo>
                      <a:pt x="2875" y="0"/>
                    </a:lnTo>
                    <a:cubicBezTo>
                      <a:pt x="2876" y="0"/>
                      <a:pt x="2877" y="1"/>
                      <a:pt x="2877" y="2"/>
                    </a:cubicBezTo>
                    <a:cubicBezTo>
                      <a:pt x="2877" y="3"/>
                      <a:pt x="2876" y="4"/>
                      <a:pt x="2875" y="4"/>
                    </a:cubicBezTo>
                    <a:lnTo>
                      <a:pt x="2875" y="4"/>
                    </a:lnTo>
                    <a:cubicBezTo>
                      <a:pt x="2874" y="4"/>
                      <a:pt x="2873" y="3"/>
                      <a:pt x="2873" y="2"/>
                    </a:cubicBezTo>
                    <a:cubicBezTo>
                      <a:pt x="2873" y="1"/>
                      <a:pt x="2874" y="0"/>
                      <a:pt x="2875" y="0"/>
                    </a:cubicBezTo>
                    <a:close/>
                    <a:moveTo>
                      <a:pt x="2883" y="0"/>
                    </a:moveTo>
                    <a:lnTo>
                      <a:pt x="2883" y="0"/>
                    </a:lnTo>
                    <a:cubicBezTo>
                      <a:pt x="2884" y="0"/>
                      <a:pt x="2885" y="1"/>
                      <a:pt x="2885" y="2"/>
                    </a:cubicBezTo>
                    <a:cubicBezTo>
                      <a:pt x="2885" y="3"/>
                      <a:pt x="2884" y="4"/>
                      <a:pt x="2883" y="4"/>
                    </a:cubicBezTo>
                    <a:lnTo>
                      <a:pt x="2883" y="4"/>
                    </a:lnTo>
                    <a:cubicBezTo>
                      <a:pt x="2882" y="4"/>
                      <a:pt x="2881" y="3"/>
                      <a:pt x="2881" y="2"/>
                    </a:cubicBezTo>
                    <a:cubicBezTo>
                      <a:pt x="2881" y="1"/>
                      <a:pt x="2882" y="0"/>
                      <a:pt x="2883" y="0"/>
                    </a:cubicBezTo>
                    <a:close/>
                    <a:moveTo>
                      <a:pt x="2891" y="0"/>
                    </a:moveTo>
                    <a:lnTo>
                      <a:pt x="2891" y="0"/>
                    </a:lnTo>
                    <a:cubicBezTo>
                      <a:pt x="2892" y="0"/>
                      <a:pt x="2893" y="1"/>
                      <a:pt x="2893" y="2"/>
                    </a:cubicBezTo>
                    <a:cubicBezTo>
                      <a:pt x="2893" y="3"/>
                      <a:pt x="2892" y="4"/>
                      <a:pt x="2891" y="4"/>
                    </a:cubicBezTo>
                    <a:lnTo>
                      <a:pt x="2891" y="4"/>
                    </a:lnTo>
                    <a:cubicBezTo>
                      <a:pt x="2890" y="4"/>
                      <a:pt x="2889" y="3"/>
                      <a:pt x="2889" y="2"/>
                    </a:cubicBezTo>
                    <a:cubicBezTo>
                      <a:pt x="2889" y="1"/>
                      <a:pt x="2890" y="0"/>
                      <a:pt x="2891" y="0"/>
                    </a:cubicBezTo>
                    <a:close/>
                    <a:moveTo>
                      <a:pt x="2899" y="0"/>
                    </a:moveTo>
                    <a:lnTo>
                      <a:pt x="2899" y="0"/>
                    </a:lnTo>
                    <a:cubicBezTo>
                      <a:pt x="2900" y="0"/>
                      <a:pt x="2901" y="1"/>
                      <a:pt x="2901" y="2"/>
                    </a:cubicBezTo>
                    <a:cubicBezTo>
                      <a:pt x="2901" y="3"/>
                      <a:pt x="2900" y="4"/>
                      <a:pt x="2899" y="4"/>
                    </a:cubicBezTo>
                    <a:lnTo>
                      <a:pt x="2899" y="4"/>
                    </a:lnTo>
                    <a:cubicBezTo>
                      <a:pt x="2898" y="4"/>
                      <a:pt x="2897" y="3"/>
                      <a:pt x="2897" y="2"/>
                    </a:cubicBezTo>
                    <a:cubicBezTo>
                      <a:pt x="2897" y="1"/>
                      <a:pt x="2898" y="0"/>
                      <a:pt x="2899" y="0"/>
                    </a:cubicBezTo>
                    <a:close/>
                    <a:moveTo>
                      <a:pt x="2907" y="0"/>
                    </a:moveTo>
                    <a:lnTo>
                      <a:pt x="2907" y="0"/>
                    </a:lnTo>
                    <a:cubicBezTo>
                      <a:pt x="2908" y="0"/>
                      <a:pt x="2909" y="1"/>
                      <a:pt x="2909" y="2"/>
                    </a:cubicBezTo>
                    <a:cubicBezTo>
                      <a:pt x="2909" y="3"/>
                      <a:pt x="2908" y="4"/>
                      <a:pt x="2907" y="4"/>
                    </a:cubicBezTo>
                    <a:lnTo>
                      <a:pt x="2907" y="4"/>
                    </a:lnTo>
                    <a:cubicBezTo>
                      <a:pt x="2906" y="4"/>
                      <a:pt x="2905" y="3"/>
                      <a:pt x="2905" y="2"/>
                    </a:cubicBezTo>
                    <a:cubicBezTo>
                      <a:pt x="2905" y="1"/>
                      <a:pt x="2906" y="0"/>
                      <a:pt x="2907" y="0"/>
                    </a:cubicBezTo>
                    <a:close/>
                    <a:moveTo>
                      <a:pt x="2915" y="0"/>
                    </a:moveTo>
                    <a:lnTo>
                      <a:pt x="2915" y="0"/>
                    </a:lnTo>
                    <a:cubicBezTo>
                      <a:pt x="2916" y="0"/>
                      <a:pt x="2917" y="1"/>
                      <a:pt x="2917" y="2"/>
                    </a:cubicBezTo>
                    <a:cubicBezTo>
                      <a:pt x="2917" y="3"/>
                      <a:pt x="2916" y="4"/>
                      <a:pt x="2915" y="4"/>
                    </a:cubicBezTo>
                    <a:lnTo>
                      <a:pt x="2915" y="4"/>
                    </a:lnTo>
                    <a:cubicBezTo>
                      <a:pt x="2914" y="4"/>
                      <a:pt x="2913" y="3"/>
                      <a:pt x="2913" y="2"/>
                    </a:cubicBezTo>
                    <a:cubicBezTo>
                      <a:pt x="2913" y="1"/>
                      <a:pt x="2914" y="0"/>
                      <a:pt x="2915" y="0"/>
                    </a:cubicBezTo>
                    <a:close/>
                    <a:moveTo>
                      <a:pt x="2923" y="0"/>
                    </a:moveTo>
                    <a:lnTo>
                      <a:pt x="2923" y="0"/>
                    </a:lnTo>
                    <a:cubicBezTo>
                      <a:pt x="2924" y="0"/>
                      <a:pt x="2925" y="1"/>
                      <a:pt x="2925" y="2"/>
                    </a:cubicBezTo>
                    <a:cubicBezTo>
                      <a:pt x="2925" y="3"/>
                      <a:pt x="2924" y="4"/>
                      <a:pt x="2923" y="4"/>
                    </a:cubicBezTo>
                    <a:lnTo>
                      <a:pt x="2923" y="4"/>
                    </a:lnTo>
                    <a:cubicBezTo>
                      <a:pt x="2922" y="4"/>
                      <a:pt x="2921" y="3"/>
                      <a:pt x="2921" y="2"/>
                    </a:cubicBezTo>
                    <a:cubicBezTo>
                      <a:pt x="2921" y="1"/>
                      <a:pt x="2922" y="0"/>
                      <a:pt x="2923" y="0"/>
                    </a:cubicBezTo>
                    <a:close/>
                    <a:moveTo>
                      <a:pt x="2931" y="0"/>
                    </a:moveTo>
                    <a:lnTo>
                      <a:pt x="2931" y="0"/>
                    </a:lnTo>
                    <a:cubicBezTo>
                      <a:pt x="2932" y="0"/>
                      <a:pt x="2933" y="1"/>
                      <a:pt x="2933" y="2"/>
                    </a:cubicBezTo>
                    <a:cubicBezTo>
                      <a:pt x="2933" y="3"/>
                      <a:pt x="2932" y="4"/>
                      <a:pt x="2931" y="4"/>
                    </a:cubicBezTo>
                    <a:lnTo>
                      <a:pt x="2931" y="4"/>
                    </a:lnTo>
                    <a:cubicBezTo>
                      <a:pt x="2930" y="4"/>
                      <a:pt x="2929" y="3"/>
                      <a:pt x="2929" y="2"/>
                    </a:cubicBezTo>
                    <a:cubicBezTo>
                      <a:pt x="2929" y="1"/>
                      <a:pt x="2930" y="0"/>
                      <a:pt x="2931" y="0"/>
                    </a:cubicBezTo>
                    <a:close/>
                    <a:moveTo>
                      <a:pt x="2939" y="0"/>
                    </a:moveTo>
                    <a:lnTo>
                      <a:pt x="2939" y="0"/>
                    </a:lnTo>
                    <a:cubicBezTo>
                      <a:pt x="2940" y="0"/>
                      <a:pt x="2941" y="1"/>
                      <a:pt x="2941" y="2"/>
                    </a:cubicBezTo>
                    <a:cubicBezTo>
                      <a:pt x="2941" y="3"/>
                      <a:pt x="2940" y="4"/>
                      <a:pt x="2939" y="4"/>
                    </a:cubicBezTo>
                    <a:lnTo>
                      <a:pt x="2939" y="4"/>
                    </a:lnTo>
                    <a:cubicBezTo>
                      <a:pt x="2938" y="4"/>
                      <a:pt x="2937" y="3"/>
                      <a:pt x="2937" y="2"/>
                    </a:cubicBezTo>
                    <a:cubicBezTo>
                      <a:pt x="2937" y="1"/>
                      <a:pt x="2938" y="0"/>
                      <a:pt x="2939" y="0"/>
                    </a:cubicBezTo>
                    <a:close/>
                    <a:moveTo>
                      <a:pt x="2947" y="0"/>
                    </a:moveTo>
                    <a:lnTo>
                      <a:pt x="2947" y="0"/>
                    </a:lnTo>
                    <a:cubicBezTo>
                      <a:pt x="2948" y="0"/>
                      <a:pt x="2949" y="1"/>
                      <a:pt x="2949" y="2"/>
                    </a:cubicBezTo>
                    <a:cubicBezTo>
                      <a:pt x="2949" y="3"/>
                      <a:pt x="2948" y="4"/>
                      <a:pt x="2947" y="4"/>
                    </a:cubicBezTo>
                    <a:lnTo>
                      <a:pt x="2947" y="4"/>
                    </a:lnTo>
                    <a:cubicBezTo>
                      <a:pt x="2946" y="4"/>
                      <a:pt x="2945" y="3"/>
                      <a:pt x="2945" y="2"/>
                    </a:cubicBezTo>
                    <a:cubicBezTo>
                      <a:pt x="2945" y="1"/>
                      <a:pt x="2946" y="0"/>
                      <a:pt x="2947" y="0"/>
                    </a:cubicBezTo>
                    <a:close/>
                    <a:moveTo>
                      <a:pt x="2955" y="0"/>
                    </a:moveTo>
                    <a:lnTo>
                      <a:pt x="2955" y="0"/>
                    </a:lnTo>
                    <a:cubicBezTo>
                      <a:pt x="2956" y="0"/>
                      <a:pt x="2957" y="1"/>
                      <a:pt x="2957" y="2"/>
                    </a:cubicBezTo>
                    <a:cubicBezTo>
                      <a:pt x="2957" y="3"/>
                      <a:pt x="2956" y="4"/>
                      <a:pt x="2955" y="4"/>
                    </a:cubicBezTo>
                    <a:lnTo>
                      <a:pt x="2955" y="4"/>
                    </a:lnTo>
                    <a:cubicBezTo>
                      <a:pt x="2954" y="4"/>
                      <a:pt x="2953" y="3"/>
                      <a:pt x="2953" y="2"/>
                    </a:cubicBezTo>
                    <a:cubicBezTo>
                      <a:pt x="2953" y="1"/>
                      <a:pt x="2954" y="0"/>
                      <a:pt x="2955" y="0"/>
                    </a:cubicBezTo>
                    <a:close/>
                    <a:moveTo>
                      <a:pt x="2963" y="0"/>
                    </a:moveTo>
                    <a:lnTo>
                      <a:pt x="2963" y="0"/>
                    </a:lnTo>
                    <a:cubicBezTo>
                      <a:pt x="2964" y="0"/>
                      <a:pt x="2965" y="1"/>
                      <a:pt x="2965" y="2"/>
                    </a:cubicBezTo>
                    <a:cubicBezTo>
                      <a:pt x="2965" y="3"/>
                      <a:pt x="2964" y="4"/>
                      <a:pt x="2963" y="4"/>
                    </a:cubicBezTo>
                    <a:lnTo>
                      <a:pt x="2963" y="4"/>
                    </a:lnTo>
                    <a:cubicBezTo>
                      <a:pt x="2962" y="4"/>
                      <a:pt x="2961" y="3"/>
                      <a:pt x="2961" y="2"/>
                    </a:cubicBezTo>
                    <a:cubicBezTo>
                      <a:pt x="2961" y="1"/>
                      <a:pt x="2962" y="0"/>
                      <a:pt x="2963" y="0"/>
                    </a:cubicBezTo>
                    <a:close/>
                    <a:moveTo>
                      <a:pt x="2971" y="0"/>
                    </a:moveTo>
                    <a:lnTo>
                      <a:pt x="2971" y="0"/>
                    </a:lnTo>
                    <a:cubicBezTo>
                      <a:pt x="2972" y="0"/>
                      <a:pt x="2973" y="1"/>
                      <a:pt x="2973" y="2"/>
                    </a:cubicBezTo>
                    <a:cubicBezTo>
                      <a:pt x="2973" y="3"/>
                      <a:pt x="2972" y="4"/>
                      <a:pt x="2971" y="4"/>
                    </a:cubicBezTo>
                    <a:lnTo>
                      <a:pt x="2971" y="4"/>
                    </a:lnTo>
                    <a:cubicBezTo>
                      <a:pt x="2970" y="4"/>
                      <a:pt x="2969" y="3"/>
                      <a:pt x="2969" y="2"/>
                    </a:cubicBezTo>
                    <a:cubicBezTo>
                      <a:pt x="2969" y="1"/>
                      <a:pt x="2970" y="0"/>
                      <a:pt x="2971" y="0"/>
                    </a:cubicBezTo>
                    <a:close/>
                    <a:moveTo>
                      <a:pt x="2979" y="0"/>
                    </a:moveTo>
                    <a:lnTo>
                      <a:pt x="2979" y="0"/>
                    </a:lnTo>
                    <a:cubicBezTo>
                      <a:pt x="2980" y="0"/>
                      <a:pt x="2981" y="1"/>
                      <a:pt x="2981" y="2"/>
                    </a:cubicBezTo>
                    <a:cubicBezTo>
                      <a:pt x="2981" y="3"/>
                      <a:pt x="2980" y="4"/>
                      <a:pt x="2979" y="4"/>
                    </a:cubicBezTo>
                    <a:lnTo>
                      <a:pt x="2979" y="4"/>
                    </a:lnTo>
                    <a:cubicBezTo>
                      <a:pt x="2978" y="4"/>
                      <a:pt x="2977" y="3"/>
                      <a:pt x="2977" y="2"/>
                    </a:cubicBezTo>
                    <a:cubicBezTo>
                      <a:pt x="2977" y="1"/>
                      <a:pt x="2978" y="0"/>
                      <a:pt x="2979" y="0"/>
                    </a:cubicBezTo>
                    <a:close/>
                    <a:moveTo>
                      <a:pt x="2987" y="0"/>
                    </a:moveTo>
                    <a:lnTo>
                      <a:pt x="2987" y="0"/>
                    </a:lnTo>
                    <a:cubicBezTo>
                      <a:pt x="2988" y="0"/>
                      <a:pt x="2989" y="1"/>
                      <a:pt x="2989" y="2"/>
                    </a:cubicBezTo>
                    <a:cubicBezTo>
                      <a:pt x="2989" y="3"/>
                      <a:pt x="2988" y="4"/>
                      <a:pt x="2987" y="4"/>
                    </a:cubicBezTo>
                    <a:lnTo>
                      <a:pt x="2987" y="4"/>
                    </a:lnTo>
                    <a:cubicBezTo>
                      <a:pt x="2986" y="4"/>
                      <a:pt x="2985" y="3"/>
                      <a:pt x="2985" y="2"/>
                    </a:cubicBezTo>
                    <a:cubicBezTo>
                      <a:pt x="2985" y="1"/>
                      <a:pt x="2986" y="0"/>
                      <a:pt x="2987" y="0"/>
                    </a:cubicBezTo>
                    <a:close/>
                    <a:moveTo>
                      <a:pt x="2995" y="0"/>
                    </a:moveTo>
                    <a:lnTo>
                      <a:pt x="2995" y="0"/>
                    </a:lnTo>
                    <a:cubicBezTo>
                      <a:pt x="2996" y="0"/>
                      <a:pt x="2997" y="1"/>
                      <a:pt x="2997" y="2"/>
                    </a:cubicBezTo>
                    <a:cubicBezTo>
                      <a:pt x="2997" y="3"/>
                      <a:pt x="2996" y="4"/>
                      <a:pt x="2995" y="4"/>
                    </a:cubicBezTo>
                    <a:lnTo>
                      <a:pt x="2995" y="4"/>
                    </a:lnTo>
                    <a:cubicBezTo>
                      <a:pt x="2994" y="4"/>
                      <a:pt x="2993" y="3"/>
                      <a:pt x="2993" y="2"/>
                    </a:cubicBezTo>
                    <a:cubicBezTo>
                      <a:pt x="2993" y="1"/>
                      <a:pt x="2994" y="0"/>
                      <a:pt x="2995" y="0"/>
                    </a:cubicBezTo>
                    <a:close/>
                    <a:moveTo>
                      <a:pt x="3003" y="0"/>
                    </a:moveTo>
                    <a:lnTo>
                      <a:pt x="3003" y="0"/>
                    </a:lnTo>
                    <a:cubicBezTo>
                      <a:pt x="3004" y="0"/>
                      <a:pt x="3005" y="1"/>
                      <a:pt x="3005" y="2"/>
                    </a:cubicBezTo>
                    <a:cubicBezTo>
                      <a:pt x="3005" y="3"/>
                      <a:pt x="3004" y="4"/>
                      <a:pt x="3003" y="4"/>
                    </a:cubicBezTo>
                    <a:lnTo>
                      <a:pt x="3003" y="4"/>
                    </a:lnTo>
                    <a:cubicBezTo>
                      <a:pt x="3002" y="4"/>
                      <a:pt x="3001" y="3"/>
                      <a:pt x="3001" y="2"/>
                    </a:cubicBezTo>
                    <a:cubicBezTo>
                      <a:pt x="3001" y="1"/>
                      <a:pt x="3002" y="0"/>
                      <a:pt x="3003" y="0"/>
                    </a:cubicBezTo>
                    <a:close/>
                    <a:moveTo>
                      <a:pt x="3011" y="0"/>
                    </a:moveTo>
                    <a:lnTo>
                      <a:pt x="3011" y="0"/>
                    </a:lnTo>
                    <a:cubicBezTo>
                      <a:pt x="3012" y="0"/>
                      <a:pt x="3013" y="1"/>
                      <a:pt x="3013" y="2"/>
                    </a:cubicBezTo>
                    <a:cubicBezTo>
                      <a:pt x="3013" y="3"/>
                      <a:pt x="3012" y="4"/>
                      <a:pt x="3011" y="4"/>
                    </a:cubicBezTo>
                    <a:lnTo>
                      <a:pt x="3011" y="4"/>
                    </a:lnTo>
                    <a:cubicBezTo>
                      <a:pt x="3010" y="4"/>
                      <a:pt x="3009" y="3"/>
                      <a:pt x="3009" y="2"/>
                    </a:cubicBezTo>
                    <a:cubicBezTo>
                      <a:pt x="3009" y="1"/>
                      <a:pt x="3010" y="0"/>
                      <a:pt x="3011" y="0"/>
                    </a:cubicBezTo>
                    <a:close/>
                    <a:moveTo>
                      <a:pt x="3019" y="0"/>
                    </a:moveTo>
                    <a:lnTo>
                      <a:pt x="3019" y="0"/>
                    </a:lnTo>
                    <a:cubicBezTo>
                      <a:pt x="3020" y="0"/>
                      <a:pt x="3021" y="1"/>
                      <a:pt x="3021" y="2"/>
                    </a:cubicBezTo>
                    <a:cubicBezTo>
                      <a:pt x="3021" y="3"/>
                      <a:pt x="3020" y="4"/>
                      <a:pt x="3019" y="4"/>
                    </a:cubicBezTo>
                    <a:lnTo>
                      <a:pt x="3019" y="4"/>
                    </a:lnTo>
                    <a:cubicBezTo>
                      <a:pt x="3018" y="4"/>
                      <a:pt x="3017" y="3"/>
                      <a:pt x="3017" y="2"/>
                    </a:cubicBezTo>
                    <a:cubicBezTo>
                      <a:pt x="3017" y="1"/>
                      <a:pt x="3018" y="0"/>
                      <a:pt x="3019" y="0"/>
                    </a:cubicBezTo>
                    <a:close/>
                    <a:moveTo>
                      <a:pt x="3027" y="0"/>
                    </a:moveTo>
                    <a:lnTo>
                      <a:pt x="3027" y="0"/>
                    </a:lnTo>
                    <a:cubicBezTo>
                      <a:pt x="3028" y="0"/>
                      <a:pt x="3029" y="1"/>
                      <a:pt x="3029" y="2"/>
                    </a:cubicBezTo>
                    <a:cubicBezTo>
                      <a:pt x="3029" y="3"/>
                      <a:pt x="3028" y="4"/>
                      <a:pt x="3027" y="4"/>
                    </a:cubicBezTo>
                    <a:lnTo>
                      <a:pt x="3027" y="4"/>
                    </a:lnTo>
                    <a:cubicBezTo>
                      <a:pt x="3026" y="4"/>
                      <a:pt x="3025" y="3"/>
                      <a:pt x="3025" y="2"/>
                    </a:cubicBezTo>
                    <a:cubicBezTo>
                      <a:pt x="3025" y="1"/>
                      <a:pt x="3026" y="0"/>
                      <a:pt x="3027" y="0"/>
                    </a:cubicBezTo>
                    <a:close/>
                    <a:moveTo>
                      <a:pt x="3035" y="0"/>
                    </a:moveTo>
                    <a:lnTo>
                      <a:pt x="3035" y="0"/>
                    </a:lnTo>
                    <a:cubicBezTo>
                      <a:pt x="3036" y="0"/>
                      <a:pt x="3037" y="1"/>
                      <a:pt x="3037" y="2"/>
                    </a:cubicBezTo>
                    <a:cubicBezTo>
                      <a:pt x="3037" y="3"/>
                      <a:pt x="3036" y="4"/>
                      <a:pt x="3035" y="4"/>
                    </a:cubicBezTo>
                    <a:lnTo>
                      <a:pt x="3035" y="4"/>
                    </a:lnTo>
                    <a:cubicBezTo>
                      <a:pt x="3034" y="4"/>
                      <a:pt x="3033" y="3"/>
                      <a:pt x="3033" y="2"/>
                    </a:cubicBezTo>
                    <a:cubicBezTo>
                      <a:pt x="3033" y="1"/>
                      <a:pt x="3034" y="0"/>
                      <a:pt x="3035" y="0"/>
                    </a:cubicBezTo>
                    <a:close/>
                    <a:moveTo>
                      <a:pt x="3043" y="0"/>
                    </a:moveTo>
                    <a:lnTo>
                      <a:pt x="3043" y="0"/>
                    </a:lnTo>
                    <a:cubicBezTo>
                      <a:pt x="3044" y="0"/>
                      <a:pt x="3045" y="1"/>
                      <a:pt x="3045" y="2"/>
                    </a:cubicBezTo>
                    <a:cubicBezTo>
                      <a:pt x="3045" y="3"/>
                      <a:pt x="3044" y="4"/>
                      <a:pt x="3043" y="4"/>
                    </a:cubicBezTo>
                    <a:lnTo>
                      <a:pt x="3043" y="4"/>
                    </a:lnTo>
                    <a:cubicBezTo>
                      <a:pt x="3042" y="4"/>
                      <a:pt x="3041" y="3"/>
                      <a:pt x="3041" y="2"/>
                    </a:cubicBezTo>
                    <a:cubicBezTo>
                      <a:pt x="3041" y="1"/>
                      <a:pt x="3042" y="0"/>
                      <a:pt x="3043" y="0"/>
                    </a:cubicBezTo>
                    <a:close/>
                    <a:moveTo>
                      <a:pt x="3051" y="0"/>
                    </a:moveTo>
                    <a:lnTo>
                      <a:pt x="3051" y="0"/>
                    </a:lnTo>
                    <a:cubicBezTo>
                      <a:pt x="3052" y="0"/>
                      <a:pt x="3053" y="1"/>
                      <a:pt x="3053" y="2"/>
                    </a:cubicBezTo>
                    <a:cubicBezTo>
                      <a:pt x="3053" y="3"/>
                      <a:pt x="3052" y="4"/>
                      <a:pt x="3051" y="4"/>
                    </a:cubicBezTo>
                    <a:lnTo>
                      <a:pt x="3051" y="4"/>
                    </a:lnTo>
                    <a:cubicBezTo>
                      <a:pt x="3050" y="4"/>
                      <a:pt x="3049" y="3"/>
                      <a:pt x="3049" y="2"/>
                    </a:cubicBezTo>
                    <a:cubicBezTo>
                      <a:pt x="3049" y="1"/>
                      <a:pt x="3050" y="0"/>
                      <a:pt x="3051" y="0"/>
                    </a:cubicBezTo>
                    <a:close/>
                    <a:moveTo>
                      <a:pt x="3059" y="0"/>
                    </a:moveTo>
                    <a:lnTo>
                      <a:pt x="3059" y="0"/>
                    </a:lnTo>
                    <a:cubicBezTo>
                      <a:pt x="3060" y="0"/>
                      <a:pt x="3061" y="1"/>
                      <a:pt x="3061" y="2"/>
                    </a:cubicBezTo>
                    <a:cubicBezTo>
                      <a:pt x="3061" y="3"/>
                      <a:pt x="3060" y="4"/>
                      <a:pt x="3059" y="4"/>
                    </a:cubicBezTo>
                    <a:lnTo>
                      <a:pt x="3059" y="4"/>
                    </a:lnTo>
                    <a:cubicBezTo>
                      <a:pt x="3058" y="4"/>
                      <a:pt x="3057" y="3"/>
                      <a:pt x="3057" y="2"/>
                    </a:cubicBezTo>
                    <a:cubicBezTo>
                      <a:pt x="3057" y="1"/>
                      <a:pt x="3058" y="0"/>
                      <a:pt x="3059" y="0"/>
                    </a:cubicBezTo>
                    <a:close/>
                    <a:moveTo>
                      <a:pt x="3067" y="0"/>
                    </a:moveTo>
                    <a:lnTo>
                      <a:pt x="3067" y="0"/>
                    </a:lnTo>
                    <a:cubicBezTo>
                      <a:pt x="3068" y="0"/>
                      <a:pt x="3069" y="1"/>
                      <a:pt x="3069" y="2"/>
                    </a:cubicBezTo>
                    <a:cubicBezTo>
                      <a:pt x="3069" y="3"/>
                      <a:pt x="3068" y="4"/>
                      <a:pt x="3067" y="4"/>
                    </a:cubicBezTo>
                    <a:lnTo>
                      <a:pt x="3067" y="4"/>
                    </a:lnTo>
                    <a:cubicBezTo>
                      <a:pt x="3066" y="4"/>
                      <a:pt x="3065" y="3"/>
                      <a:pt x="3065" y="2"/>
                    </a:cubicBezTo>
                    <a:cubicBezTo>
                      <a:pt x="3065" y="1"/>
                      <a:pt x="3066" y="0"/>
                      <a:pt x="3067" y="0"/>
                    </a:cubicBezTo>
                    <a:close/>
                    <a:moveTo>
                      <a:pt x="3075" y="0"/>
                    </a:moveTo>
                    <a:lnTo>
                      <a:pt x="3075" y="0"/>
                    </a:lnTo>
                    <a:cubicBezTo>
                      <a:pt x="3076" y="0"/>
                      <a:pt x="3077" y="1"/>
                      <a:pt x="3077" y="2"/>
                    </a:cubicBezTo>
                    <a:cubicBezTo>
                      <a:pt x="3077" y="3"/>
                      <a:pt x="3076" y="4"/>
                      <a:pt x="3075" y="4"/>
                    </a:cubicBezTo>
                    <a:lnTo>
                      <a:pt x="3075" y="4"/>
                    </a:lnTo>
                    <a:cubicBezTo>
                      <a:pt x="3074" y="4"/>
                      <a:pt x="3073" y="3"/>
                      <a:pt x="3073" y="2"/>
                    </a:cubicBezTo>
                    <a:cubicBezTo>
                      <a:pt x="3073" y="1"/>
                      <a:pt x="3074" y="0"/>
                      <a:pt x="3075" y="0"/>
                    </a:cubicBezTo>
                    <a:close/>
                    <a:moveTo>
                      <a:pt x="3083" y="0"/>
                    </a:moveTo>
                    <a:lnTo>
                      <a:pt x="3083" y="0"/>
                    </a:lnTo>
                    <a:cubicBezTo>
                      <a:pt x="3084" y="0"/>
                      <a:pt x="3085" y="1"/>
                      <a:pt x="3085" y="2"/>
                    </a:cubicBezTo>
                    <a:cubicBezTo>
                      <a:pt x="3085" y="3"/>
                      <a:pt x="3084" y="4"/>
                      <a:pt x="3083" y="4"/>
                    </a:cubicBezTo>
                    <a:lnTo>
                      <a:pt x="3083" y="4"/>
                    </a:lnTo>
                    <a:cubicBezTo>
                      <a:pt x="3082" y="4"/>
                      <a:pt x="3081" y="3"/>
                      <a:pt x="3081" y="2"/>
                    </a:cubicBezTo>
                    <a:cubicBezTo>
                      <a:pt x="3081" y="1"/>
                      <a:pt x="3082" y="0"/>
                      <a:pt x="3083" y="0"/>
                    </a:cubicBezTo>
                    <a:close/>
                    <a:moveTo>
                      <a:pt x="3091" y="0"/>
                    </a:moveTo>
                    <a:lnTo>
                      <a:pt x="3091" y="0"/>
                    </a:lnTo>
                    <a:cubicBezTo>
                      <a:pt x="3092" y="0"/>
                      <a:pt x="3093" y="1"/>
                      <a:pt x="3093" y="2"/>
                    </a:cubicBezTo>
                    <a:cubicBezTo>
                      <a:pt x="3093" y="3"/>
                      <a:pt x="3092" y="4"/>
                      <a:pt x="3091" y="4"/>
                    </a:cubicBezTo>
                    <a:lnTo>
                      <a:pt x="3091" y="4"/>
                    </a:lnTo>
                    <a:cubicBezTo>
                      <a:pt x="3090" y="4"/>
                      <a:pt x="3089" y="3"/>
                      <a:pt x="3089" y="2"/>
                    </a:cubicBezTo>
                    <a:cubicBezTo>
                      <a:pt x="3089" y="1"/>
                      <a:pt x="3090" y="0"/>
                      <a:pt x="3091" y="0"/>
                    </a:cubicBezTo>
                    <a:close/>
                    <a:moveTo>
                      <a:pt x="3099" y="0"/>
                    </a:moveTo>
                    <a:lnTo>
                      <a:pt x="3099" y="0"/>
                    </a:lnTo>
                    <a:cubicBezTo>
                      <a:pt x="3100" y="0"/>
                      <a:pt x="3101" y="1"/>
                      <a:pt x="3101" y="2"/>
                    </a:cubicBezTo>
                    <a:cubicBezTo>
                      <a:pt x="3101" y="3"/>
                      <a:pt x="3100" y="4"/>
                      <a:pt x="3099" y="4"/>
                    </a:cubicBezTo>
                    <a:lnTo>
                      <a:pt x="3099" y="4"/>
                    </a:lnTo>
                    <a:cubicBezTo>
                      <a:pt x="3098" y="4"/>
                      <a:pt x="3097" y="3"/>
                      <a:pt x="3097" y="2"/>
                    </a:cubicBezTo>
                    <a:cubicBezTo>
                      <a:pt x="3097" y="1"/>
                      <a:pt x="3098" y="0"/>
                      <a:pt x="3099" y="0"/>
                    </a:cubicBezTo>
                    <a:close/>
                    <a:moveTo>
                      <a:pt x="3107" y="0"/>
                    </a:moveTo>
                    <a:lnTo>
                      <a:pt x="3107" y="0"/>
                    </a:lnTo>
                    <a:cubicBezTo>
                      <a:pt x="3108" y="0"/>
                      <a:pt x="3109" y="1"/>
                      <a:pt x="3109" y="2"/>
                    </a:cubicBezTo>
                    <a:cubicBezTo>
                      <a:pt x="3109" y="3"/>
                      <a:pt x="3108" y="4"/>
                      <a:pt x="3107" y="4"/>
                    </a:cubicBezTo>
                    <a:lnTo>
                      <a:pt x="3107" y="4"/>
                    </a:lnTo>
                    <a:cubicBezTo>
                      <a:pt x="3106" y="4"/>
                      <a:pt x="3105" y="3"/>
                      <a:pt x="3105" y="2"/>
                    </a:cubicBezTo>
                    <a:cubicBezTo>
                      <a:pt x="3105" y="1"/>
                      <a:pt x="3106" y="0"/>
                      <a:pt x="3107" y="0"/>
                    </a:cubicBezTo>
                    <a:close/>
                    <a:moveTo>
                      <a:pt x="3115" y="0"/>
                    </a:moveTo>
                    <a:lnTo>
                      <a:pt x="3115" y="0"/>
                    </a:lnTo>
                    <a:cubicBezTo>
                      <a:pt x="3116" y="0"/>
                      <a:pt x="3117" y="1"/>
                      <a:pt x="3117" y="2"/>
                    </a:cubicBezTo>
                    <a:cubicBezTo>
                      <a:pt x="3117" y="3"/>
                      <a:pt x="3116" y="4"/>
                      <a:pt x="3115" y="4"/>
                    </a:cubicBezTo>
                    <a:lnTo>
                      <a:pt x="3115" y="4"/>
                    </a:lnTo>
                    <a:cubicBezTo>
                      <a:pt x="3114" y="4"/>
                      <a:pt x="3113" y="3"/>
                      <a:pt x="3113" y="2"/>
                    </a:cubicBezTo>
                    <a:cubicBezTo>
                      <a:pt x="3113" y="1"/>
                      <a:pt x="3114" y="0"/>
                      <a:pt x="3115" y="0"/>
                    </a:cubicBezTo>
                    <a:close/>
                    <a:moveTo>
                      <a:pt x="3123" y="0"/>
                    </a:moveTo>
                    <a:lnTo>
                      <a:pt x="3123" y="0"/>
                    </a:lnTo>
                    <a:cubicBezTo>
                      <a:pt x="3124" y="0"/>
                      <a:pt x="3125" y="1"/>
                      <a:pt x="3125" y="2"/>
                    </a:cubicBezTo>
                    <a:cubicBezTo>
                      <a:pt x="3125" y="3"/>
                      <a:pt x="3124" y="4"/>
                      <a:pt x="3123" y="4"/>
                    </a:cubicBezTo>
                    <a:lnTo>
                      <a:pt x="3123" y="4"/>
                    </a:lnTo>
                    <a:cubicBezTo>
                      <a:pt x="3122" y="4"/>
                      <a:pt x="3121" y="3"/>
                      <a:pt x="3121" y="2"/>
                    </a:cubicBezTo>
                    <a:cubicBezTo>
                      <a:pt x="3121" y="1"/>
                      <a:pt x="3122" y="0"/>
                      <a:pt x="3123" y="0"/>
                    </a:cubicBezTo>
                    <a:close/>
                    <a:moveTo>
                      <a:pt x="3131" y="0"/>
                    </a:moveTo>
                    <a:lnTo>
                      <a:pt x="3131" y="0"/>
                    </a:lnTo>
                    <a:cubicBezTo>
                      <a:pt x="3132" y="0"/>
                      <a:pt x="3133" y="1"/>
                      <a:pt x="3133" y="2"/>
                    </a:cubicBezTo>
                    <a:cubicBezTo>
                      <a:pt x="3133" y="3"/>
                      <a:pt x="3132" y="4"/>
                      <a:pt x="3131" y="4"/>
                    </a:cubicBezTo>
                    <a:lnTo>
                      <a:pt x="3131" y="4"/>
                    </a:lnTo>
                    <a:cubicBezTo>
                      <a:pt x="3130" y="4"/>
                      <a:pt x="3129" y="3"/>
                      <a:pt x="3129" y="2"/>
                    </a:cubicBezTo>
                    <a:cubicBezTo>
                      <a:pt x="3129" y="1"/>
                      <a:pt x="3130" y="0"/>
                      <a:pt x="3131" y="0"/>
                    </a:cubicBezTo>
                    <a:close/>
                    <a:moveTo>
                      <a:pt x="3139" y="0"/>
                    </a:moveTo>
                    <a:lnTo>
                      <a:pt x="3139" y="0"/>
                    </a:lnTo>
                    <a:cubicBezTo>
                      <a:pt x="3140" y="0"/>
                      <a:pt x="3141" y="1"/>
                      <a:pt x="3141" y="2"/>
                    </a:cubicBezTo>
                    <a:cubicBezTo>
                      <a:pt x="3141" y="3"/>
                      <a:pt x="3140" y="4"/>
                      <a:pt x="3139" y="4"/>
                    </a:cubicBezTo>
                    <a:lnTo>
                      <a:pt x="3139" y="4"/>
                    </a:lnTo>
                    <a:cubicBezTo>
                      <a:pt x="3138" y="4"/>
                      <a:pt x="3137" y="3"/>
                      <a:pt x="3137" y="2"/>
                    </a:cubicBezTo>
                    <a:cubicBezTo>
                      <a:pt x="3137" y="1"/>
                      <a:pt x="3138" y="0"/>
                      <a:pt x="3139" y="0"/>
                    </a:cubicBezTo>
                    <a:close/>
                    <a:moveTo>
                      <a:pt x="3147" y="0"/>
                    </a:moveTo>
                    <a:lnTo>
                      <a:pt x="3147" y="0"/>
                    </a:lnTo>
                    <a:cubicBezTo>
                      <a:pt x="3148" y="0"/>
                      <a:pt x="3149" y="1"/>
                      <a:pt x="3149" y="2"/>
                    </a:cubicBezTo>
                    <a:cubicBezTo>
                      <a:pt x="3149" y="3"/>
                      <a:pt x="3148" y="4"/>
                      <a:pt x="3147" y="4"/>
                    </a:cubicBezTo>
                    <a:lnTo>
                      <a:pt x="3147" y="4"/>
                    </a:lnTo>
                    <a:cubicBezTo>
                      <a:pt x="3146" y="4"/>
                      <a:pt x="3145" y="3"/>
                      <a:pt x="3145" y="2"/>
                    </a:cubicBezTo>
                    <a:cubicBezTo>
                      <a:pt x="3145" y="1"/>
                      <a:pt x="3146" y="0"/>
                      <a:pt x="3147" y="0"/>
                    </a:cubicBezTo>
                    <a:close/>
                    <a:moveTo>
                      <a:pt x="3155" y="0"/>
                    </a:moveTo>
                    <a:lnTo>
                      <a:pt x="3155" y="0"/>
                    </a:lnTo>
                    <a:cubicBezTo>
                      <a:pt x="3156" y="0"/>
                      <a:pt x="3157" y="1"/>
                      <a:pt x="3157" y="2"/>
                    </a:cubicBezTo>
                    <a:cubicBezTo>
                      <a:pt x="3157" y="3"/>
                      <a:pt x="3156" y="4"/>
                      <a:pt x="3155" y="4"/>
                    </a:cubicBezTo>
                    <a:lnTo>
                      <a:pt x="3155" y="4"/>
                    </a:lnTo>
                    <a:cubicBezTo>
                      <a:pt x="3154" y="4"/>
                      <a:pt x="3153" y="3"/>
                      <a:pt x="3153" y="2"/>
                    </a:cubicBezTo>
                    <a:cubicBezTo>
                      <a:pt x="3153" y="1"/>
                      <a:pt x="3154" y="0"/>
                      <a:pt x="3155" y="0"/>
                    </a:cubicBezTo>
                    <a:close/>
                    <a:moveTo>
                      <a:pt x="3163" y="0"/>
                    </a:moveTo>
                    <a:lnTo>
                      <a:pt x="3163" y="0"/>
                    </a:lnTo>
                    <a:cubicBezTo>
                      <a:pt x="3164" y="0"/>
                      <a:pt x="3165" y="1"/>
                      <a:pt x="3165" y="2"/>
                    </a:cubicBezTo>
                    <a:cubicBezTo>
                      <a:pt x="3165" y="3"/>
                      <a:pt x="3164" y="4"/>
                      <a:pt x="3163" y="4"/>
                    </a:cubicBezTo>
                    <a:lnTo>
                      <a:pt x="3163" y="4"/>
                    </a:lnTo>
                    <a:cubicBezTo>
                      <a:pt x="3162" y="4"/>
                      <a:pt x="3161" y="3"/>
                      <a:pt x="3161" y="2"/>
                    </a:cubicBezTo>
                    <a:cubicBezTo>
                      <a:pt x="3161" y="1"/>
                      <a:pt x="3162" y="0"/>
                      <a:pt x="3163" y="0"/>
                    </a:cubicBezTo>
                    <a:close/>
                    <a:moveTo>
                      <a:pt x="3171" y="0"/>
                    </a:moveTo>
                    <a:lnTo>
                      <a:pt x="3171" y="0"/>
                    </a:lnTo>
                    <a:cubicBezTo>
                      <a:pt x="3172" y="0"/>
                      <a:pt x="3173" y="1"/>
                      <a:pt x="3173" y="2"/>
                    </a:cubicBezTo>
                    <a:cubicBezTo>
                      <a:pt x="3173" y="3"/>
                      <a:pt x="3172" y="4"/>
                      <a:pt x="3171" y="4"/>
                    </a:cubicBezTo>
                    <a:lnTo>
                      <a:pt x="3171" y="4"/>
                    </a:lnTo>
                    <a:cubicBezTo>
                      <a:pt x="3170" y="4"/>
                      <a:pt x="3169" y="3"/>
                      <a:pt x="3169" y="2"/>
                    </a:cubicBezTo>
                    <a:cubicBezTo>
                      <a:pt x="3169" y="1"/>
                      <a:pt x="3170" y="0"/>
                      <a:pt x="3171" y="0"/>
                    </a:cubicBezTo>
                    <a:close/>
                    <a:moveTo>
                      <a:pt x="3179" y="0"/>
                    </a:moveTo>
                    <a:lnTo>
                      <a:pt x="3179" y="0"/>
                    </a:lnTo>
                    <a:cubicBezTo>
                      <a:pt x="3180" y="0"/>
                      <a:pt x="3181" y="1"/>
                      <a:pt x="3181" y="2"/>
                    </a:cubicBezTo>
                    <a:cubicBezTo>
                      <a:pt x="3181" y="3"/>
                      <a:pt x="3180" y="4"/>
                      <a:pt x="3179" y="4"/>
                    </a:cubicBezTo>
                    <a:lnTo>
                      <a:pt x="3179" y="4"/>
                    </a:lnTo>
                    <a:cubicBezTo>
                      <a:pt x="3178" y="4"/>
                      <a:pt x="3177" y="3"/>
                      <a:pt x="3177" y="2"/>
                    </a:cubicBezTo>
                    <a:cubicBezTo>
                      <a:pt x="3177" y="1"/>
                      <a:pt x="3178" y="0"/>
                      <a:pt x="3179" y="0"/>
                    </a:cubicBezTo>
                    <a:close/>
                    <a:moveTo>
                      <a:pt x="3187" y="0"/>
                    </a:moveTo>
                    <a:lnTo>
                      <a:pt x="3187" y="0"/>
                    </a:lnTo>
                    <a:cubicBezTo>
                      <a:pt x="3188" y="0"/>
                      <a:pt x="3189" y="1"/>
                      <a:pt x="3189" y="2"/>
                    </a:cubicBezTo>
                    <a:cubicBezTo>
                      <a:pt x="3189" y="3"/>
                      <a:pt x="3188" y="4"/>
                      <a:pt x="3187" y="4"/>
                    </a:cubicBezTo>
                    <a:lnTo>
                      <a:pt x="3187" y="4"/>
                    </a:lnTo>
                    <a:cubicBezTo>
                      <a:pt x="3186" y="4"/>
                      <a:pt x="3185" y="3"/>
                      <a:pt x="3185" y="2"/>
                    </a:cubicBezTo>
                    <a:cubicBezTo>
                      <a:pt x="3185" y="1"/>
                      <a:pt x="3186" y="0"/>
                      <a:pt x="3187" y="0"/>
                    </a:cubicBezTo>
                    <a:close/>
                    <a:moveTo>
                      <a:pt x="3195" y="0"/>
                    </a:moveTo>
                    <a:lnTo>
                      <a:pt x="3195" y="0"/>
                    </a:lnTo>
                    <a:cubicBezTo>
                      <a:pt x="3196" y="0"/>
                      <a:pt x="3197" y="1"/>
                      <a:pt x="3197" y="2"/>
                    </a:cubicBezTo>
                    <a:cubicBezTo>
                      <a:pt x="3197" y="3"/>
                      <a:pt x="3196" y="4"/>
                      <a:pt x="3195" y="4"/>
                    </a:cubicBezTo>
                    <a:lnTo>
                      <a:pt x="3195" y="4"/>
                    </a:lnTo>
                    <a:cubicBezTo>
                      <a:pt x="3194" y="4"/>
                      <a:pt x="3193" y="3"/>
                      <a:pt x="3193" y="2"/>
                    </a:cubicBezTo>
                    <a:cubicBezTo>
                      <a:pt x="3193" y="1"/>
                      <a:pt x="3194" y="0"/>
                      <a:pt x="3195" y="0"/>
                    </a:cubicBezTo>
                    <a:close/>
                    <a:moveTo>
                      <a:pt x="3203" y="0"/>
                    </a:moveTo>
                    <a:lnTo>
                      <a:pt x="3203" y="0"/>
                    </a:lnTo>
                    <a:cubicBezTo>
                      <a:pt x="3204" y="0"/>
                      <a:pt x="3205" y="1"/>
                      <a:pt x="3205" y="2"/>
                    </a:cubicBezTo>
                    <a:cubicBezTo>
                      <a:pt x="3205" y="3"/>
                      <a:pt x="3204" y="4"/>
                      <a:pt x="3203" y="4"/>
                    </a:cubicBezTo>
                    <a:lnTo>
                      <a:pt x="3203" y="4"/>
                    </a:lnTo>
                    <a:cubicBezTo>
                      <a:pt x="3202" y="4"/>
                      <a:pt x="3201" y="3"/>
                      <a:pt x="3201" y="2"/>
                    </a:cubicBezTo>
                    <a:cubicBezTo>
                      <a:pt x="3201" y="1"/>
                      <a:pt x="3202" y="0"/>
                      <a:pt x="3203" y="0"/>
                    </a:cubicBezTo>
                    <a:close/>
                    <a:moveTo>
                      <a:pt x="3211" y="0"/>
                    </a:moveTo>
                    <a:lnTo>
                      <a:pt x="3211" y="0"/>
                    </a:lnTo>
                    <a:cubicBezTo>
                      <a:pt x="3212" y="0"/>
                      <a:pt x="3213" y="1"/>
                      <a:pt x="3213" y="2"/>
                    </a:cubicBezTo>
                    <a:cubicBezTo>
                      <a:pt x="3213" y="3"/>
                      <a:pt x="3212" y="4"/>
                      <a:pt x="3211" y="4"/>
                    </a:cubicBezTo>
                    <a:lnTo>
                      <a:pt x="3211" y="4"/>
                    </a:lnTo>
                    <a:cubicBezTo>
                      <a:pt x="3210" y="4"/>
                      <a:pt x="3209" y="3"/>
                      <a:pt x="3209" y="2"/>
                    </a:cubicBezTo>
                    <a:cubicBezTo>
                      <a:pt x="3209" y="1"/>
                      <a:pt x="3210" y="0"/>
                      <a:pt x="3211" y="0"/>
                    </a:cubicBezTo>
                    <a:close/>
                    <a:moveTo>
                      <a:pt x="3219" y="0"/>
                    </a:moveTo>
                    <a:lnTo>
                      <a:pt x="3219" y="0"/>
                    </a:lnTo>
                    <a:cubicBezTo>
                      <a:pt x="3220" y="0"/>
                      <a:pt x="3221" y="1"/>
                      <a:pt x="3221" y="2"/>
                    </a:cubicBezTo>
                    <a:cubicBezTo>
                      <a:pt x="3221" y="3"/>
                      <a:pt x="3220" y="4"/>
                      <a:pt x="3219" y="4"/>
                    </a:cubicBezTo>
                    <a:lnTo>
                      <a:pt x="3219" y="4"/>
                    </a:lnTo>
                    <a:cubicBezTo>
                      <a:pt x="3218" y="4"/>
                      <a:pt x="3217" y="3"/>
                      <a:pt x="3217" y="2"/>
                    </a:cubicBezTo>
                    <a:cubicBezTo>
                      <a:pt x="3217" y="1"/>
                      <a:pt x="3218" y="0"/>
                      <a:pt x="3219" y="0"/>
                    </a:cubicBezTo>
                    <a:close/>
                    <a:moveTo>
                      <a:pt x="3227" y="0"/>
                    </a:moveTo>
                    <a:lnTo>
                      <a:pt x="3227" y="0"/>
                    </a:lnTo>
                    <a:cubicBezTo>
                      <a:pt x="3228" y="0"/>
                      <a:pt x="3229" y="1"/>
                      <a:pt x="3229" y="2"/>
                    </a:cubicBezTo>
                    <a:cubicBezTo>
                      <a:pt x="3229" y="3"/>
                      <a:pt x="3228" y="4"/>
                      <a:pt x="3227" y="4"/>
                    </a:cubicBezTo>
                    <a:lnTo>
                      <a:pt x="3227" y="4"/>
                    </a:lnTo>
                    <a:cubicBezTo>
                      <a:pt x="3226" y="4"/>
                      <a:pt x="3225" y="3"/>
                      <a:pt x="3225" y="2"/>
                    </a:cubicBezTo>
                    <a:cubicBezTo>
                      <a:pt x="3225" y="1"/>
                      <a:pt x="3226" y="0"/>
                      <a:pt x="3227" y="0"/>
                    </a:cubicBezTo>
                    <a:close/>
                    <a:moveTo>
                      <a:pt x="3235" y="0"/>
                    </a:moveTo>
                    <a:lnTo>
                      <a:pt x="3235" y="0"/>
                    </a:lnTo>
                    <a:cubicBezTo>
                      <a:pt x="3236" y="0"/>
                      <a:pt x="3237" y="1"/>
                      <a:pt x="3237" y="2"/>
                    </a:cubicBezTo>
                    <a:cubicBezTo>
                      <a:pt x="3237" y="3"/>
                      <a:pt x="3236" y="4"/>
                      <a:pt x="3235" y="4"/>
                    </a:cubicBezTo>
                    <a:lnTo>
                      <a:pt x="3235" y="4"/>
                    </a:lnTo>
                    <a:cubicBezTo>
                      <a:pt x="3234" y="4"/>
                      <a:pt x="3233" y="3"/>
                      <a:pt x="3233" y="2"/>
                    </a:cubicBezTo>
                    <a:cubicBezTo>
                      <a:pt x="3233" y="1"/>
                      <a:pt x="3234" y="0"/>
                      <a:pt x="3235" y="0"/>
                    </a:cubicBezTo>
                    <a:close/>
                    <a:moveTo>
                      <a:pt x="3243" y="0"/>
                    </a:moveTo>
                    <a:lnTo>
                      <a:pt x="3243" y="0"/>
                    </a:lnTo>
                    <a:cubicBezTo>
                      <a:pt x="3244" y="0"/>
                      <a:pt x="3245" y="1"/>
                      <a:pt x="3245" y="2"/>
                    </a:cubicBezTo>
                    <a:cubicBezTo>
                      <a:pt x="3245" y="3"/>
                      <a:pt x="3244" y="4"/>
                      <a:pt x="3243" y="4"/>
                    </a:cubicBezTo>
                    <a:lnTo>
                      <a:pt x="3243" y="4"/>
                    </a:lnTo>
                    <a:cubicBezTo>
                      <a:pt x="3242" y="4"/>
                      <a:pt x="3241" y="3"/>
                      <a:pt x="3241" y="2"/>
                    </a:cubicBezTo>
                    <a:cubicBezTo>
                      <a:pt x="3241" y="1"/>
                      <a:pt x="3242" y="0"/>
                      <a:pt x="3243" y="0"/>
                    </a:cubicBezTo>
                    <a:close/>
                    <a:moveTo>
                      <a:pt x="3251" y="0"/>
                    </a:moveTo>
                    <a:lnTo>
                      <a:pt x="3251" y="0"/>
                    </a:lnTo>
                    <a:cubicBezTo>
                      <a:pt x="3252" y="0"/>
                      <a:pt x="3253" y="1"/>
                      <a:pt x="3253" y="2"/>
                    </a:cubicBezTo>
                    <a:cubicBezTo>
                      <a:pt x="3253" y="3"/>
                      <a:pt x="3252" y="4"/>
                      <a:pt x="3251" y="4"/>
                    </a:cubicBezTo>
                    <a:lnTo>
                      <a:pt x="3251" y="4"/>
                    </a:lnTo>
                    <a:cubicBezTo>
                      <a:pt x="3250" y="4"/>
                      <a:pt x="3249" y="3"/>
                      <a:pt x="3249" y="2"/>
                    </a:cubicBezTo>
                    <a:cubicBezTo>
                      <a:pt x="3249" y="1"/>
                      <a:pt x="3250" y="0"/>
                      <a:pt x="3251" y="0"/>
                    </a:cubicBezTo>
                    <a:close/>
                    <a:moveTo>
                      <a:pt x="3259" y="0"/>
                    </a:moveTo>
                    <a:lnTo>
                      <a:pt x="3259" y="0"/>
                    </a:lnTo>
                    <a:cubicBezTo>
                      <a:pt x="3261" y="0"/>
                      <a:pt x="3261" y="1"/>
                      <a:pt x="3261" y="2"/>
                    </a:cubicBezTo>
                    <a:cubicBezTo>
                      <a:pt x="3261" y="3"/>
                      <a:pt x="3261" y="4"/>
                      <a:pt x="3259" y="4"/>
                    </a:cubicBezTo>
                    <a:lnTo>
                      <a:pt x="3259" y="4"/>
                    </a:lnTo>
                    <a:cubicBezTo>
                      <a:pt x="3258" y="4"/>
                      <a:pt x="3257" y="3"/>
                      <a:pt x="3257" y="2"/>
                    </a:cubicBezTo>
                    <a:cubicBezTo>
                      <a:pt x="3257" y="1"/>
                      <a:pt x="3258" y="0"/>
                      <a:pt x="3259" y="0"/>
                    </a:cubicBezTo>
                    <a:close/>
                    <a:moveTo>
                      <a:pt x="3267" y="0"/>
                    </a:moveTo>
                    <a:lnTo>
                      <a:pt x="3267" y="0"/>
                    </a:lnTo>
                    <a:cubicBezTo>
                      <a:pt x="3269" y="0"/>
                      <a:pt x="3269" y="1"/>
                      <a:pt x="3269" y="2"/>
                    </a:cubicBezTo>
                    <a:cubicBezTo>
                      <a:pt x="3269" y="3"/>
                      <a:pt x="3269" y="4"/>
                      <a:pt x="3267" y="4"/>
                    </a:cubicBezTo>
                    <a:lnTo>
                      <a:pt x="3267" y="4"/>
                    </a:lnTo>
                    <a:cubicBezTo>
                      <a:pt x="3266" y="4"/>
                      <a:pt x="3265" y="3"/>
                      <a:pt x="3265" y="2"/>
                    </a:cubicBezTo>
                    <a:cubicBezTo>
                      <a:pt x="3265" y="1"/>
                      <a:pt x="3266" y="0"/>
                      <a:pt x="3267" y="0"/>
                    </a:cubicBezTo>
                    <a:close/>
                    <a:moveTo>
                      <a:pt x="3275" y="0"/>
                    </a:moveTo>
                    <a:lnTo>
                      <a:pt x="3275" y="0"/>
                    </a:lnTo>
                    <a:cubicBezTo>
                      <a:pt x="3277" y="0"/>
                      <a:pt x="3277" y="1"/>
                      <a:pt x="3277" y="2"/>
                    </a:cubicBezTo>
                    <a:cubicBezTo>
                      <a:pt x="3277" y="3"/>
                      <a:pt x="3277" y="4"/>
                      <a:pt x="3275" y="4"/>
                    </a:cubicBezTo>
                    <a:lnTo>
                      <a:pt x="3275" y="4"/>
                    </a:lnTo>
                    <a:cubicBezTo>
                      <a:pt x="3274" y="4"/>
                      <a:pt x="3273" y="3"/>
                      <a:pt x="3273" y="2"/>
                    </a:cubicBezTo>
                    <a:cubicBezTo>
                      <a:pt x="3273" y="1"/>
                      <a:pt x="3274" y="0"/>
                      <a:pt x="3275" y="0"/>
                    </a:cubicBezTo>
                    <a:close/>
                    <a:moveTo>
                      <a:pt x="3283" y="0"/>
                    </a:moveTo>
                    <a:lnTo>
                      <a:pt x="3283" y="0"/>
                    </a:lnTo>
                    <a:cubicBezTo>
                      <a:pt x="3285" y="0"/>
                      <a:pt x="3285" y="1"/>
                      <a:pt x="3285" y="2"/>
                    </a:cubicBezTo>
                    <a:cubicBezTo>
                      <a:pt x="3285" y="3"/>
                      <a:pt x="3285" y="4"/>
                      <a:pt x="3283" y="4"/>
                    </a:cubicBezTo>
                    <a:lnTo>
                      <a:pt x="3283" y="4"/>
                    </a:lnTo>
                    <a:cubicBezTo>
                      <a:pt x="3282" y="4"/>
                      <a:pt x="3281" y="3"/>
                      <a:pt x="3281" y="2"/>
                    </a:cubicBezTo>
                    <a:cubicBezTo>
                      <a:pt x="3281" y="1"/>
                      <a:pt x="3282" y="0"/>
                      <a:pt x="3283" y="0"/>
                    </a:cubicBezTo>
                    <a:close/>
                    <a:moveTo>
                      <a:pt x="3291" y="0"/>
                    </a:moveTo>
                    <a:lnTo>
                      <a:pt x="3291" y="0"/>
                    </a:lnTo>
                    <a:cubicBezTo>
                      <a:pt x="3293" y="0"/>
                      <a:pt x="3293" y="1"/>
                      <a:pt x="3293" y="2"/>
                    </a:cubicBezTo>
                    <a:cubicBezTo>
                      <a:pt x="3293" y="3"/>
                      <a:pt x="3293" y="4"/>
                      <a:pt x="3291" y="4"/>
                    </a:cubicBezTo>
                    <a:lnTo>
                      <a:pt x="3291" y="4"/>
                    </a:lnTo>
                    <a:cubicBezTo>
                      <a:pt x="3290" y="4"/>
                      <a:pt x="3289" y="3"/>
                      <a:pt x="3289" y="2"/>
                    </a:cubicBezTo>
                    <a:cubicBezTo>
                      <a:pt x="3289" y="1"/>
                      <a:pt x="3290" y="0"/>
                      <a:pt x="3291" y="0"/>
                    </a:cubicBezTo>
                    <a:close/>
                    <a:moveTo>
                      <a:pt x="3299" y="0"/>
                    </a:moveTo>
                    <a:lnTo>
                      <a:pt x="3299" y="0"/>
                    </a:lnTo>
                    <a:cubicBezTo>
                      <a:pt x="3301" y="0"/>
                      <a:pt x="3301" y="1"/>
                      <a:pt x="3301" y="2"/>
                    </a:cubicBezTo>
                    <a:cubicBezTo>
                      <a:pt x="3301" y="3"/>
                      <a:pt x="3301" y="4"/>
                      <a:pt x="3299" y="4"/>
                    </a:cubicBezTo>
                    <a:lnTo>
                      <a:pt x="3299" y="4"/>
                    </a:lnTo>
                    <a:cubicBezTo>
                      <a:pt x="3298" y="4"/>
                      <a:pt x="3297" y="3"/>
                      <a:pt x="3297" y="2"/>
                    </a:cubicBezTo>
                    <a:cubicBezTo>
                      <a:pt x="3297" y="1"/>
                      <a:pt x="3298" y="0"/>
                      <a:pt x="3299" y="0"/>
                    </a:cubicBezTo>
                    <a:close/>
                    <a:moveTo>
                      <a:pt x="3307" y="0"/>
                    </a:moveTo>
                    <a:lnTo>
                      <a:pt x="3307" y="0"/>
                    </a:lnTo>
                    <a:cubicBezTo>
                      <a:pt x="3309" y="0"/>
                      <a:pt x="3309" y="1"/>
                      <a:pt x="3309" y="2"/>
                    </a:cubicBezTo>
                    <a:cubicBezTo>
                      <a:pt x="3309" y="3"/>
                      <a:pt x="3309" y="4"/>
                      <a:pt x="3307" y="4"/>
                    </a:cubicBezTo>
                    <a:lnTo>
                      <a:pt x="3307" y="4"/>
                    </a:lnTo>
                    <a:cubicBezTo>
                      <a:pt x="3306" y="4"/>
                      <a:pt x="3305" y="3"/>
                      <a:pt x="3305" y="2"/>
                    </a:cubicBezTo>
                    <a:cubicBezTo>
                      <a:pt x="3305" y="1"/>
                      <a:pt x="3306" y="0"/>
                      <a:pt x="3307" y="0"/>
                    </a:cubicBezTo>
                    <a:close/>
                    <a:moveTo>
                      <a:pt x="3315" y="0"/>
                    </a:moveTo>
                    <a:lnTo>
                      <a:pt x="3315" y="0"/>
                    </a:lnTo>
                    <a:cubicBezTo>
                      <a:pt x="3317" y="0"/>
                      <a:pt x="3317" y="1"/>
                      <a:pt x="3317" y="2"/>
                    </a:cubicBezTo>
                    <a:cubicBezTo>
                      <a:pt x="3317" y="3"/>
                      <a:pt x="3317" y="4"/>
                      <a:pt x="3315" y="4"/>
                    </a:cubicBezTo>
                    <a:lnTo>
                      <a:pt x="3315" y="4"/>
                    </a:lnTo>
                    <a:cubicBezTo>
                      <a:pt x="3314" y="4"/>
                      <a:pt x="3313" y="3"/>
                      <a:pt x="3313" y="2"/>
                    </a:cubicBezTo>
                    <a:cubicBezTo>
                      <a:pt x="3313" y="1"/>
                      <a:pt x="3314" y="0"/>
                      <a:pt x="3315" y="0"/>
                    </a:cubicBezTo>
                    <a:close/>
                    <a:moveTo>
                      <a:pt x="3323" y="0"/>
                    </a:moveTo>
                    <a:lnTo>
                      <a:pt x="3323" y="0"/>
                    </a:lnTo>
                    <a:cubicBezTo>
                      <a:pt x="3325" y="0"/>
                      <a:pt x="3325" y="1"/>
                      <a:pt x="3325" y="2"/>
                    </a:cubicBezTo>
                    <a:cubicBezTo>
                      <a:pt x="3325" y="3"/>
                      <a:pt x="3325" y="4"/>
                      <a:pt x="3323" y="4"/>
                    </a:cubicBezTo>
                    <a:lnTo>
                      <a:pt x="3323" y="4"/>
                    </a:lnTo>
                    <a:cubicBezTo>
                      <a:pt x="3322" y="4"/>
                      <a:pt x="3321" y="3"/>
                      <a:pt x="3321" y="2"/>
                    </a:cubicBezTo>
                    <a:cubicBezTo>
                      <a:pt x="3321" y="1"/>
                      <a:pt x="3322" y="0"/>
                      <a:pt x="3323" y="0"/>
                    </a:cubicBezTo>
                    <a:close/>
                    <a:moveTo>
                      <a:pt x="3331" y="0"/>
                    </a:moveTo>
                    <a:lnTo>
                      <a:pt x="3331" y="0"/>
                    </a:lnTo>
                    <a:cubicBezTo>
                      <a:pt x="3333" y="0"/>
                      <a:pt x="3333" y="1"/>
                      <a:pt x="3333" y="2"/>
                    </a:cubicBezTo>
                    <a:cubicBezTo>
                      <a:pt x="3333" y="3"/>
                      <a:pt x="3333" y="4"/>
                      <a:pt x="3331" y="4"/>
                    </a:cubicBezTo>
                    <a:lnTo>
                      <a:pt x="3331" y="4"/>
                    </a:lnTo>
                    <a:cubicBezTo>
                      <a:pt x="3330" y="4"/>
                      <a:pt x="3329" y="3"/>
                      <a:pt x="3329" y="2"/>
                    </a:cubicBezTo>
                    <a:cubicBezTo>
                      <a:pt x="3329" y="1"/>
                      <a:pt x="3330" y="0"/>
                      <a:pt x="3331" y="0"/>
                    </a:cubicBezTo>
                    <a:close/>
                    <a:moveTo>
                      <a:pt x="3339" y="0"/>
                    </a:moveTo>
                    <a:lnTo>
                      <a:pt x="3339" y="0"/>
                    </a:lnTo>
                    <a:cubicBezTo>
                      <a:pt x="3341" y="0"/>
                      <a:pt x="3341" y="1"/>
                      <a:pt x="3341" y="2"/>
                    </a:cubicBezTo>
                    <a:cubicBezTo>
                      <a:pt x="3341" y="3"/>
                      <a:pt x="3341" y="4"/>
                      <a:pt x="3339" y="4"/>
                    </a:cubicBezTo>
                    <a:lnTo>
                      <a:pt x="3339" y="4"/>
                    </a:lnTo>
                    <a:cubicBezTo>
                      <a:pt x="3338" y="4"/>
                      <a:pt x="3337" y="3"/>
                      <a:pt x="3337" y="2"/>
                    </a:cubicBezTo>
                    <a:cubicBezTo>
                      <a:pt x="3337" y="1"/>
                      <a:pt x="3338" y="0"/>
                      <a:pt x="3339" y="0"/>
                    </a:cubicBezTo>
                    <a:close/>
                    <a:moveTo>
                      <a:pt x="3347" y="0"/>
                    </a:moveTo>
                    <a:lnTo>
                      <a:pt x="3347" y="0"/>
                    </a:lnTo>
                    <a:cubicBezTo>
                      <a:pt x="3349" y="0"/>
                      <a:pt x="3349" y="1"/>
                      <a:pt x="3349" y="2"/>
                    </a:cubicBezTo>
                    <a:cubicBezTo>
                      <a:pt x="3349" y="3"/>
                      <a:pt x="3349" y="4"/>
                      <a:pt x="3347" y="4"/>
                    </a:cubicBezTo>
                    <a:lnTo>
                      <a:pt x="3347" y="4"/>
                    </a:lnTo>
                    <a:cubicBezTo>
                      <a:pt x="3346" y="4"/>
                      <a:pt x="3345" y="3"/>
                      <a:pt x="3345" y="2"/>
                    </a:cubicBezTo>
                    <a:cubicBezTo>
                      <a:pt x="3345" y="1"/>
                      <a:pt x="3346" y="0"/>
                      <a:pt x="3347" y="0"/>
                    </a:cubicBezTo>
                    <a:close/>
                    <a:moveTo>
                      <a:pt x="3355" y="0"/>
                    </a:moveTo>
                    <a:lnTo>
                      <a:pt x="3355" y="0"/>
                    </a:lnTo>
                    <a:cubicBezTo>
                      <a:pt x="3357" y="0"/>
                      <a:pt x="3357" y="1"/>
                      <a:pt x="3357" y="2"/>
                    </a:cubicBezTo>
                    <a:cubicBezTo>
                      <a:pt x="3357" y="3"/>
                      <a:pt x="3357" y="4"/>
                      <a:pt x="3355" y="4"/>
                    </a:cubicBezTo>
                    <a:lnTo>
                      <a:pt x="3355" y="4"/>
                    </a:lnTo>
                    <a:cubicBezTo>
                      <a:pt x="3354" y="4"/>
                      <a:pt x="3353" y="3"/>
                      <a:pt x="3353" y="2"/>
                    </a:cubicBezTo>
                    <a:cubicBezTo>
                      <a:pt x="3353" y="1"/>
                      <a:pt x="3354" y="0"/>
                      <a:pt x="3355" y="0"/>
                    </a:cubicBezTo>
                    <a:close/>
                    <a:moveTo>
                      <a:pt x="3363" y="0"/>
                    </a:moveTo>
                    <a:lnTo>
                      <a:pt x="3363" y="0"/>
                    </a:lnTo>
                    <a:cubicBezTo>
                      <a:pt x="3365" y="0"/>
                      <a:pt x="3365" y="1"/>
                      <a:pt x="3365" y="2"/>
                    </a:cubicBezTo>
                    <a:cubicBezTo>
                      <a:pt x="3365" y="3"/>
                      <a:pt x="3365" y="4"/>
                      <a:pt x="3363" y="4"/>
                    </a:cubicBezTo>
                    <a:lnTo>
                      <a:pt x="3363" y="4"/>
                    </a:lnTo>
                    <a:cubicBezTo>
                      <a:pt x="3362" y="4"/>
                      <a:pt x="3361" y="3"/>
                      <a:pt x="3361" y="2"/>
                    </a:cubicBezTo>
                    <a:cubicBezTo>
                      <a:pt x="3361" y="1"/>
                      <a:pt x="3362" y="0"/>
                      <a:pt x="3363" y="0"/>
                    </a:cubicBezTo>
                    <a:close/>
                    <a:moveTo>
                      <a:pt x="3371" y="0"/>
                    </a:moveTo>
                    <a:lnTo>
                      <a:pt x="3371" y="0"/>
                    </a:lnTo>
                    <a:cubicBezTo>
                      <a:pt x="3373" y="0"/>
                      <a:pt x="3373" y="1"/>
                      <a:pt x="3373" y="2"/>
                    </a:cubicBezTo>
                    <a:cubicBezTo>
                      <a:pt x="3373" y="3"/>
                      <a:pt x="3373" y="4"/>
                      <a:pt x="3371" y="4"/>
                    </a:cubicBezTo>
                    <a:lnTo>
                      <a:pt x="3371" y="4"/>
                    </a:lnTo>
                    <a:cubicBezTo>
                      <a:pt x="3370" y="4"/>
                      <a:pt x="3369" y="3"/>
                      <a:pt x="3369" y="2"/>
                    </a:cubicBezTo>
                    <a:cubicBezTo>
                      <a:pt x="3369" y="1"/>
                      <a:pt x="3370" y="0"/>
                      <a:pt x="3371" y="0"/>
                    </a:cubicBezTo>
                    <a:close/>
                    <a:moveTo>
                      <a:pt x="3379" y="0"/>
                    </a:moveTo>
                    <a:lnTo>
                      <a:pt x="3379" y="0"/>
                    </a:lnTo>
                    <a:cubicBezTo>
                      <a:pt x="3381" y="0"/>
                      <a:pt x="3381" y="1"/>
                      <a:pt x="3381" y="2"/>
                    </a:cubicBezTo>
                    <a:cubicBezTo>
                      <a:pt x="3381" y="3"/>
                      <a:pt x="3381" y="4"/>
                      <a:pt x="3379" y="4"/>
                    </a:cubicBezTo>
                    <a:lnTo>
                      <a:pt x="3379" y="4"/>
                    </a:lnTo>
                    <a:cubicBezTo>
                      <a:pt x="3378" y="4"/>
                      <a:pt x="3377" y="3"/>
                      <a:pt x="3377" y="2"/>
                    </a:cubicBezTo>
                    <a:cubicBezTo>
                      <a:pt x="3377" y="1"/>
                      <a:pt x="3378" y="0"/>
                      <a:pt x="3379" y="0"/>
                    </a:cubicBezTo>
                    <a:close/>
                    <a:moveTo>
                      <a:pt x="3387" y="0"/>
                    </a:moveTo>
                    <a:lnTo>
                      <a:pt x="3387" y="0"/>
                    </a:lnTo>
                    <a:cubicBezTo>
                      <a:pt x="3389" y="0"/>
                      <a:pt x="3389" y="1"/>
                      <a:pt x="3389" y="2"/>
                    </a:cubicBezTo>
                    <a:cubicBezTo>
                      <a:pt x="3389" y="3"/>
                      <a:pt x="3389" y="4"/>
                      <a:pt x="3387" y="4"/>
                    </a:cubicBezTo>
                    <a:lnTo>
                      <a:pt x="3387" y="4"/>
                    </a:lnTo>
                    <a:cubicBezTo>
                      <a:pt x="3386" y="4"/>
                      <a:pt x="3385" y="3"/>
                      <a:pt x="3385" y="2"/>
                    </a:cubicBezTo>
                    <a:cubicBezTo>
                      <a:pt x="3385" y="1"/>
                      <a:pt x="3386" y="0"/>
                      <a:pt x="3387" y="0"/>
                    </a:cubicBezTo>
                    <a:close/>
                    <a:moveTo>
                      <a:pt x="3395" y="0"/>
                    </a:moveTo>
                    <a:lnTo>
                      <a:pt x="3395" y="0"/>
                    </a:lnTo>
                    <a:cubicBezTo>
                      <a:pt x="3397" y="0"/>
                      <a:pt x="3397" y="1"/>
                      <a:pt x="3397" y="2"/>
                    </a:cubicBezTo>
                    <a:cubicBezTo>
                      <a:pt x="3397" y="3"/>
                      <a:pt x="3397" y="4"/>
                      <a:pt x="3395" y="4"/>
                    </a:cubicBezTo>
                    <a:lnTo>
                      <a:pt x="3395" y="4"/>
                    </a:lnTo>
                    <a:cubicBezTo>
                      <a:pt x="3394" y="4"/>
                      <a:pt x="3393" y="3"/>
                      <a:pt x="3393" y="2"/>
                    </a:cubicBezTo>
                    <a:cubicBezTo>
                      <a:pt x="3393" y="1"/>
                      <a:pt x="3394" y="0"/>
                      <a:pt x="3395" y="0"/>
                    </a:cubicBezTo>
                    <a:close/>
                    <a:moveTo>
                      <a:pt x="3403" y="0"/>
                    </a:moveTo>
                    <a:lnTo>
                      <a:pt x="3403" y="0"/>
                    </a:lnTo>
                    <a:cubicBezTo>
                      <a:pt x="3405" y="0"/>
                      <a:pt x="3405" y="1"/>
                      <a:pt x="3405" y="2"/>
                    </a:cubicBezTo>
                    <a:cubicBezTo>
                      <a:pt x="3405" y="3"/>
                      <a:pt x="3405" y="4"/>
                      <a:pt x="3403" y="4"/>
                    </a:cubicBezTo>
                    <a:lnTo>
                      <a:pt x="3403" y="4"/>
                    </a:lnTo>
                    <a:cubicBezTo>
                      <a:pt x="3402" y="4"/>
                      <a:pt x="3401" y="3"/>
                      <a:pt x="3401" y="2"/>
                    </a:cubicBezTo>
                    <a:cubicBezTo>
                      <a:pt x="3401" y="1"/>
                      <a:pt x="3402" y="0"/>
                      <a:pt x="3403" y="0"/>
                    </a:cubicBezTo>
                    <a:close/>
                    <a:moveTo>
                      <a:pt x="3411" y="0"/>
                    </a:moveTo>
                    <a:lnTo>
                      <a:pt x="3411" y="0"/>
                    </a:lnTo>
                    <a:cubicBezTo>
                      <a:pt x="3413" y="0"/>
                      <a:pt x="3413" y="1"/>
                      <a:pt x="3413" y="2"/>
                    </a:cubicBezTo>
                    <a:cubicBezTo>
                      <a:pt x="3413" y="3"/>
                      <a:pt x="3413" y="4"/>
                      <a:pt x="3411" y="4"/>
                    </a:cubicBezTo>
                    <a:lnTo>
                      <a:pt x="3411" y="4"/>
                    </a:lnTo>
                    <a:cubicBezTo>
                      <a:pt x="3410" y="4"/>
                      <a:pt x="3409" y="3"/>
                      <a:pt x="3409" y="2"/>
                    </a:cubicBezTo>
                    <a:cubicBezTo>
                      <a:pt x="3409" y="1"/>
                      <a:pt x="3410" y="0"/>
                      <a:pt x="3411" y="0"/>
                    </a:cubicBezTo>
                    <a:close/>
                    <a:moveTo>
                      <a:pt x="3419" y="0"/>
                    </a:moveTo>
                    <a:lnTo>
                      <a:pt x="3419" y="0"/>
                    </a:lnTo>
                    <a:cubicBezTo>
                      <a:pt x="3421" y="0"/>
                      <a:pt x="3421" y="1"/>
                      <a:pt x="3421" y="2"/>
                    </a:cubicBezTo>
                    <a:cubicBezTo>
                      <a:pt x="3421" y="3"/>
                      <a:pt x="3421" y="4"/>
                      <a:pt x="3419" y="4"/>
                    </a:cubicBezTo>
                    <a:lnTo>
                      <a:pt x="3419" y="4"/>
                    </a:lnTo>
                    <a:cubicBezTo>
                      <a:pt x="3418" y="4"/>
                      <a:pt x="3417" y="3"/>
                      <a:pt x="3417" y="2"/>
                    </a:cubicBezTo>
                    <a:cubicBezTo>
                      <a:pt x="3417" y="1"/>
                      <a:pt x="3418" y="0"/>
                      <a:pt x="3419" y="0"/>
                    </a:cubicBezTo>
                    <a:close/>
                    <a:moveTo>
                      <a:pt x="3427" y="0"/>
                    </a:moveTo>
                    <a:lnTo>
                      <a:pt x="3427" y="0"/>
                    </a:lnTo>
                    <a:cubicBezTo>
                      <a:pt x="3429" y="0"/>
                      <a:pt x="3429" y="1"/>
                      <a:pt x="3429" y="2"/>
                    </a:cubicBezTo>
                    <a:cubicBezTo>
                      <a:pt x="3429" y="3"/>
                      <a:pt x="3429" y="4"/>
                      <a:pt x="3427" y="4"/>
                    </a:cubicBezTo>
                    <a:lnTo>
                      <a:pt x="3427" y="4"/>
                    </a:lnTo>
                    <a:cubicBezTo>
                      <a:pt x="3426" y="4"/>
                      <a:pt x="3425" y="3"/>
                      <a:pt x="3425" y="2"/>
                    </a:cubicBezTo>
                    <a:cubicBezTo>
                      <a:pt x="3425" y="1"/>
                      <a:pt x="3426" y="0"/>
                      <a:pt x="3427" y="0"/>
                    </a:cubicBezTo>
                    <a:close/>
                    <a:moveTo>
                      <a:pt x="3435" y="0"/>
                    </a:moveTo>
                    <a:lnTo>
                      <a:pt x="3435" y="0"/>
                    </a:lnTo>
                    <a:cubicBezTo>
                      <a:pt x="3437" y="0"/>
                      <a:pt x="3437" y="1"/>
                      <a:pt x="3437" y="2"/>
                    </a:cubicBezTo>
                    <a:cubicBezTo>
                      <a:pt x="3437" y="3"/>
                      <a:pt x="3437" y="4"/>
                      <a:pt x="3435" y="4"/>
                    </a:cubicBezTo>
                    <a:lnTo>
                      <a:pt x="3435" y="4"/>
                    </a:lnTo>
                    <a:cubicBezTo>
                      <a:pt x="3434" y="4"/>
                      <a:pt x="3433" y="3"/>
                      <a:pt x="3433" y="2"/>
                    </a:cubicBezTo>
                    <a:cubicBezTo>
                      <a:pt x="3433" y="1"/>
                      <a:pt x="3434" y="0"/>
                      <a:pt x="3435" y="0"/>
                    </a:cubicBezTo>
                    <a:close/>
                    <a:moveTo>
                      <a:pt x="3443" y="0"/>
                    </a:moveTo>
                    <a:lnTo>
                      <a:pt x="3443" y="0"/>
                    </a:lnTo>
                    <a:cubicBezTo>
                      <a:pt x="3445" y="0"/>
                      <a:pt x="3445" y="1"/>
                      <a:pt x="3445" y="2"/>
                    </a:cubicBezTo>
                    <a:cubicBezTo>
                      <a:pt x="3445" y="3"/>
                      <a:pt x="3445" y="4"/>
                      <a:pt x="3443" y="4"/>
                    </a:cubicBezTo>
                    <a:lnTo>
                      <a:pt x="3443" y="4"/>
                    </a:lnTo>
                    <a:cubicBezTo>
                      <a:pt x="3442" y="4"/>
                      <a:pt x="3441" y="3"/>
                      <a:pt x="3441" y="2"/>
                    </a:cubicBezTo>
                    <a:cubicBezTo>
                      <a:pt x="3441" y="1"/>
                      <a:pt x="3442" y="0"/>
                      <a:pt x="3443" y="0"/>
                    </a:cubicBezTo>
                    <a:close/>
                    <a:moveTo>
                      <a:pt x="3451" y="0"/>
                    </a:moveTo>
                    <a:lnTo>
                      <a:pt x="3451" y="0"/>
                    </a:lnTo>
                    <a:cubicBezTo>
                      <a:pt x="3453" y="0"/>
                      <a:pt x="3453" y="1"/>
                      <a:pt x="3453" y="2"/>
                    </a:cubicBezTo>
                    <a:cubicBezTo>
                      <a:pt x="3453" y="3"/>
                      <a:pt x="3453" y="4"/>
                      <a:pt x="3451" y="4"/>
                    </a:cubicBezTo>
                    <a:lnTo>
                      <a:pt x="3451" y="4"/>
                    </a:lnTo>
                    <a:cubicBezTo>
                      <a:pt x="3450" y="4"/>
                      <a:pt x="3449" y="3"/>
                      <a:pt x="3449" y="2"/>
                    </a:cubicBezTo>
                    <a:cubicBezTo>
                      <a:pt x="3449" y="1"/>
                      <a:pt x="3450" y="0"/>
                      <a:pt x="3451" y="0"/>
                    </a:cubicBezTo>
                    <a:close/>
                    <a:moveTo>
                      <a:pt x="3459" y="0"/>
                    </a:moveTo>
                    <a:lnTo>
                      <a:pt x="3459" y="0"/>
                    </a:lnTo>
                    <a:cubicBezTo>
                      <a:pt x="3461" y="0"/>
                      <a:pt x="3461" y="1"/>
                      <a:pt x="3461" y="2"/>
                    </a:cubicBezTo>
                    <a:cubicBezTo>
                      <a:pt x="3461" y="3"/>
                      <a:pt x="3461" y="4"/>
                      <a:pt x="3459" y="4"/>
                    </a:cubicBezTo>
                    <a:lnTo>
                      <a:pt x="3459" y="4"/>
                    </a:lnTo>
                    <a:cubicBezTo>
                      <a:pt x="3458" y="4"/>
                      <a:pt x="3457" y="3"/>
                      <a:pt x="3457" y="2"/>
                    </a:cubicBezTo>
                    <a:cubicBezTo>
                      <a:pt x="3457" y="1"/>
                      <a:pt x="3458" y="0"/>
                      <a:pt x="3459" y="0"/>
                    </a:cubicBezTo>
                    <a:close/>
                    <a:moveTo>
                      <a:pt x="3467" y="0"/>
                    </a:moveTo>
                    <a:lnTo>
                      <a:pt x="3467" y="0"/>
                    </a:lnTo>
                    <a:cubicBezTo>
                      <a:pt x="3469" y="0"/>
                      <a:pt x="3469" y="1"/>
                      <a:pt x="3469" y="2"/>
                    </a:cubicBezTo>
                    <a:cubicBezTo>
                      <a:pt x="3469" y="3"/>
                      <a:pt x="3469" y="4"/>
                      <a:pt x="3467" y="4"/>
                    </a:cubicBezTo>
                    <a:lnTo>
                      <a:pt x="3467" y="4"/>
                    </a:lnTo>
                    <a:cubicBezTo>
                      <a:pt x="3466" y="4"/>
                      <a:pt x="3465" y="3"/>
                      <a:pt x="3465" y="2"/>
                    </a:cubicBezTo>
                    <a:cubicBezTo>
                      <a:pt x="3465" y="1"/>
                      <a:pt x="3466" y="0"/>
                      <a:pt x="3467" y="0"/>
                    </a:cubicBezTo>
                    <a:close/>
                    <a:moveTo>
                      <a:pt x="3475" y="0"/>
                    </a:moveTo>
                    <a:lnTo>
                      <a:pt x="3476" y="0"/>
                    </a:lnTo>
                    <a:cubicBezTo>
                      <a:pt x="3477" y="0"/>
                      <a:pt x="3478" y="1"/>
                      <a:pt x="3478" y="2"/>
                    </a:cubicBezTo>
                    <a:cubicBezTo>
                      <a:pt x="3478" y="3"/>
                      <a:pt x="3477" y="4"/>
                      <a:pt x="3476" y="4"/>
                    </a:cubicBezTo>
                    <a:lnTo>
                      <a:pt x="3475" y="4"/>
                    </a:lnTo>
                    <a:cubicBezTo>
                      <a:pt x="3474" y="4"/>
                      <a:pt x="3473" y="3"/>
                      <a:pt x="3473" y="2"/>
                    </a:cubicBezTo>
                    <a:cubicBezTo>
                      <a:pt x="3473" y="1"/>
                      <a:pt x="3474" y="0"/>
                      <a:pt x="3475" y="0"/>
                    </a:cubicBezTo>
                    <a:close/>
                    <a:moveTo>
                      <a:pt x="3484" y="0"/>
                    </a:moveTo>
                    <a:lnTo>
                      <a:pt x="3484" y="0"/>
                    </a:lnTo>
                    <a:cubicBezTo>
                      <a:pt x="3485" y="0"/>
                      <a:pt x="3486" y="1"/>
                      <a:pt x="3486" y="2"/>
                    </a:cubicBezTo>
                    <a:cubicBezTo>
                      <a:pt x="3486" y="3"/>
                      <a:pt x="3485" y="4"/>
                      <a:pt x="3484" y="4"/>
                    </a:cubicBezTo>
                    <a:lnTo>
                      <a:pt x="3484" y="4"/>
                    </a:lnTo>
                    <a:cubicBezTo>
                      <a:pt x="3482" y="4"/>
                      <a:pt x="3482" y="3"/>
                      <a:pt x="3482" y="2"/>
                    </a:cubicBezTo>
                    <a:cubicBezTo>
                      <a:pt x="3482" y="1"/>
                      <a:pt x="3482" y="0"/>
                      <a:pt x="3484" y="0"/>
                    </a:cubicBezTo>
                    <a:close/>
                    <a:moveTo>
                      <a:pt x="3492" y="0"/>
                    </a:moveTo>
                    <a:lnTo>
                      <a:pt x="3492" y="0"/>
                    </a:lnTo>
                    <a:cubicBezTo>
                      <a:pt x="3493" y="0"/>
                      <a:pt x="3494" y="1"/>
                      <a:pt x="3494" y="2"/>
                    </a:cubicBezTo>
                    <a:cubicBezTo>
                      <a:pt x="3494" y="3"/>
                      <a:pt x="3493" y="4"/>
                      <a:pt x="3492" y="4"/>
                    </a:cubicBezTo>
                    <a:lnTo>
                      <a:pt x="3492" y="4"/>
                    </a:lnTo>
                    <a:cubicBezTo>
                      <a:pt x="3490" y="4"/>
                      <a:pt x="3490" y="3"/>
                      <a:pt x="3490" y="2"/>
                    </a:cubicBezTo>
                    <a:cubicBezTo>
                      <a:pt x="3490" y="1"/>
                      <a:pt x="3490" y="0"/>
                      <a:pt x="3492" y="0"/>
                    </a:cubicBezTo>
                    <a:close/>
                    <a:moveTo>
                      <a:pt x="3500" y="0"/>
                    </a:moveTo>
                    <a:lnTo>
                      <a:pt x="3500" y="0"/>
                    </a:lnTo>
                    <a:cubicBezTo>
                      <a:pt x="3501" y="0"/>
                      <a:pt x="3502" y="1"/>
                      <a:pt x="3502" y="2"/>
                    </a:cubicBezTo>
                    <a:cubicBezTo>
                      <a:pt x="3502" y="3"/>
                      <a:pt x="3501" y="4"/>
                      <a:pt x="3500" y="4"/>
                    </a:cubicBezTo>
                    <a:lnTo>
                      <a:pt x="3500" y="4"/>
                    </a:lnTo>
                    <a:cubicBezTo>
                      <a:pt x="3498" y="4"/>
                      <a:pt x="3498" y="3"/>
                      <a:pt x="3498" y="2"/>
                    </a:cubicBezTo>
                    <a:cubicBezTo>
                      <a:pt x="3498" y="1"/>
                      <a:pt x="3498" y="0"/>
                      <a:pt x="3500" y="0"/>
                    </a:cubicBezTo>
                    <a:close/>
                    <a:moveTo>
                      <a:pt x="3508" y="0"/>
                    </a:moveTo>
                    <a:lnTo>
                      <a:pt x="3508" y="0"/>
                    </a:lnTo>
                    <a:cubicBezTo>
                      <a:pt x="3509" y="0"/>
                      <a:pt x="3510" y="1"/>
                      <a:pt x="3510" y="2"/>
                    </a:cubicBezTo>
                    <a:cubicBezTo>
                      <a:pt x="3510" y="3"/>
                      <a:pt x="3509" y="4"/>
                      <a:pt x="3508" y="4"/>
                    </a:cubicBezTo>
                    <a:lnTo>
                      <a:pt x="3508" y="4"/>
                    </a:lnTo>
                    <a:cubicBezTo>
                      <a:pt x="3506" y="4"/>
                      <a:pt x="3506" y="3"/>
                      <a:pt x="3506" y="2"/>
                    </a:cubicBezTo>
                    <a:cubicBezTo>
                      <a:pt x="3506" y="1"/>
                      <a:pt x="3506" y="0"/>
                      <a:pt x="3508" y="0"/>
                    </a:cubicBezTo>
                    <a:close/>
                    <a:moveTo>
                      <a:pt x="3516" y="0"/>
                    </a:moveTo>
                    <a:lnTo>
                      <a:pt x="3516" y="0"/>
                    </a:lnTo>
                    <a:cubicBezTo>
                      <a:pt x="3517" y="0"/>
                      <a:pt x="3518" y="1"/>
                      <a:pt x="3518" y="2"/>
                    </a:cubicBezTo>
                    <a:cubicBezTo>
                      <a:pt x="3518" y="3"/>
                      <a:pt x="3517" y="4"/>
                      <a:pt x="3516" y="4"/>
                    </a:cubicBezTo>
                    <a:lnTo>
                      <a:pt x="3516" y="4"/>
                    </a:lnTo>
                    <a:cubicBezTo>
                      <a:pt x="3514" y="4"/>
                      <a:pt x="3514" y="3"/>
                      <a:pt x="3514" y="2"/>
                    </a:cubicBezTo>
                    <a:cubicBezTo>
                      <a:pt x="3514" y="1"/>
                      <a:pt x="3514" y="0"/>
                      <a:pt x="3516" y="0"/>
                    </a:cubicBezTo>
                    <a:close/>
                    <a:moveTo>
                      <a:pt x="3524" y="0"/>
                    </a:moveTo>
                    <a:lnTo>
                      <a:pt x="3524" y="0"/>
                    </a:lnTo>
                    <a:cubicBezTo>
                      <a:pt x="3525" y="0"/>
                      <a:pt x="3526" y="1"/>
                      <a:pt x="3526" y="2"/>
                    </a:cubicBezTo>
                    <a:cubicBezTo>
                      <a:pt x="3526" y="3"/>
                      <a:pt x="3525" y="4"/>
                      <a:pt x="3524" y="4"/>
                    </a:cubicBezTo>
                    <a:lnTo>
                      <a:pt x="3524" y="4"/>
                    </a:lnTo>
                    <a:cubicBezTo>
                      <a:pt x="3522" y="4"/>
                      <a:pt x="3522" y="3"/>
                      <a:pt x="3522" y="2"/>
                    </a:cubicBezTo>
                    <a:cubicBezTo>
                      <a:pt x="3522" y="1"/>
                      <a:pt x="3522" y="0"/>
                      <a:pt x="3524" y="0"/>
                    </a:cubicBezTo>
                    <a:close/>
                    <a:moveTo>
                      <a:pt x="3532" y="0"/>
                    </a:moveTo>
                    <a:lnTo>
                      <a:pt x="3532" y="0"/>
                    </a:lnTo>
                    <a:cubicBezTo>
                      <a:pt x="3533" y="0"/>
                      <a:pt x="3534" y="1"/>
                      <a:pt x="3534" y="2"/>
                    </a:cubicBezTo>
                    <a:cubicBezTo>
                      <a:pt x="3534" y="3"/>
                      <a:pt x="3533" y="4"/>
                      <a:pt x="3532" y="4"/>
                    </a:cubicBezTo>
                    <a:lnTo>
                      <a:pt x="3532" y="4"/>
                    </a:lnTo>
                    <a:cubicBezTo>
                      <a:pt x="3530" y="4"/>
                      <a:pt x="3530" y="3"/>
                      <a:pt x="3530" y="2"/>
                    </a:cubicBezTo>
                    <a:cubicBezTo>
                      <a:pt x="3530" y="1"/>
                      <a:pt x="3530" y="0"/>
                      <a:pt x="3532" y="0"/>
                    </a:cubicBezTo>
                    <a:close/>
                    <a:moveTo>
                      <a:pt x="3540" y="0"/>
                    </a:moveTo>
                    <a:lnTo>
                      <a:pt x="3540" y="0"/>
                    </a:lnTo>
                    <a:cubicBezTo>
                      <a:pt x="3541" y="0"/>
                      <a:pt x="3542" y="1"/>
                      <a:pt x="3542" y="2"/>
                    </a:cubicBezTo>
                    <a:cubicBezTo>
                      <a:pt x="3542" y="3"/>
                      <a:pt x="3541" y="4"/>
                      <a:pt x="3540" y="4"/>
                    </a:cubicBezTo>
                    <a:lnTo>
                      <a:pt x="3540" y="4"/>
                    </a:lnTo>
                    <a:cubicBezTo>
                      <a:pt x="3538" y="4"/>
                      <a:pt x="3538" y="3"/>
                      <a:pt x="3538" y="2"/>
                    </a:cubicBezTo>
                    <a:cubicBezTo>
                      <a:pt x="3538" y="1"/>
                      <a:pt x="3538" y="0"/>
                      <a:pt x="3540" y="0"/>
                    </a:cubicBezTo>
                    <a:close/>
                    <a:moveTo>
                      <a:pt x="3548" y="0"/>
                    </a:moveTo>
                    <a:lnTo>
                      <a:pt x="3548" y="0"/>
                    </a:lnTo>
                    <a:cubicBezTo>
                      <a:pt x="3549" y="0"/>
                      <a:pt x="3550" y="1"/>
                      <a:pt x="3550" y="2"/>
                    </a:cubicBezTo>
                    <a:cubicBezTo>
                      <a:pt x="3550" y="3"/>
                      <a:pt x="3549" y="4"/>
                      <a:pt x="3548" y="4"/>
                    </a:cubicBezTo>
                    <a:lnTo>
                      <a:pt x="3548" y="4"/>
                    </a:lnTo>
                    <a:cubicBezTo>
                      <a:pt x="3546" y="4"/>
                      <a:pt x="3546" y="3"/>
                      <a:pt x="3546" y="2"/>
                    </a:cubicBezTo>
                    <a:cubicBezTo>
                      <a:pt x="3546" y="1"/>
                      <a:pt x="3546" y="0"/>
                      <a:pt x="3548" y="0"/>
                    </a:cubicBezTo>
                    <a:close/>
                    <a:moveTo>
                      <a:pt x="3556" y="0"/>
                    </a:moveTo>
                    <a:lnTo>
                      <a:pt x="3556" y="0"/>
                    </a:lnTo>
                    <a:cubicBezTo>
                      <a:pt x="3557" y="0"/>
                      <a:pt x="3558" y="1"/>
                      <a:pt x="3558" y="2"/>
                    </a:cubicBezTo>
                    <a:cubicBezTo>
                      <a:pt x="3558" y="3"/>
                      <a:pt x="3557" y="4"/>
                      <a:pt x="3556" y="4"/>
                    </a:cubicBezTo>
                    <a:lnTo>
                      <a:pt x="3556" y="4"/>
                    </a:lnTo>
                    <a:cubicBezTo>
                      <a:pt x="3554" y="4"/>
                      <a:pt x="3554" y="3"/>
                      <a:pt x="3554" y="2"/>
                    </a:cubicBezTo>
                    <a:cubicBezTo>
                      <a:pt x="3554" y="1"/>
                      <a:pt x="3554" y="0"/>
                      <a:pt x="3556" y="0"/>
                    </a:cubicBezTo>
                    <a:close/>
                    <a:moveTo>
                      <a:pt x="3564" y="0"/>
                    </a:moveTo>
                    <a:lnTo>
                      <a:pt x="3564" y="0"/>
                    </a:lnTo>
                    <a:cubicBezTo>
                      <a:pt x="3565" y="0"/>
                      <a:pt x="3566" y="1"/>
                      <a:pt x="3566" y="2"/>
                    </a:cubicBezTo>
                    <a:cubicBezTo>
                      <a:pt x="3566" y="3"/>
                      <a:pt x="3565" y="4"/>
                      <a:pt x="3564" y="4"/>
                    </a:cubicBezTo>
                    <a:lnTo>
                      <a:pt x="3564" y="4"/>
                    </a:lnTo>
                    <a:cubicBezTo>
                      <a:pt x="3562" y="4"/>
                      <a:pt x="3562" y="3"/>
                      <a:pt x="3562" y="2"/>
                    </a:cubicBezTo>
                    <a:cubicBezTo>
                      <a:pt x="3562" y="1"/>
                      <a:pt x="3562" y="0"/>
                      <a:pt x="3564" y="0"/>
                    </a:cubicBezTo>
                    <a:close/>
                    <a:moveTo>
                      <a:pt x="3572" y="0"/>
                    </a:moveTo>
                    <a:lnTo>
                      <a:pt x="3572" y="0"/>
                    </a:lnTo>
                    <a:cubicBezTo>
                      <a:pt x="3573" y="0"/>
                      <a:pt x="3574" y="1"/>
                      <a:pt x="3574" y="2"/>
                    </a:cubicBezTo>
                    <a:cubicBezTo>
                      <a:pt x="3574" y="3"/>
                      <a:pt x="3573" y="4"/>
                      <a:pt x="3572" y="4"/>
                    </a:cubicBezTo>
                    <a:lnTo>
                      <a:pt x="3572" y="4"/>
                    </a:lnTo>
                    <a:cubicBezTo>
                      <a:pt x="3570" y="4"/>
                      <a:pt x="3570" y="3"/>
                      <a:pt x="3570" y="2"/>
                    </a:cubicBezTo>
                    <a:cubicBezTo>
                      <a:pt x="3570" y="1"/>
                      <a:pt x="3570" y="0"/>
                      <a:pt x="3572" y="0"/>
                    </a:cubicBezTo>
                    <a:close/>
                    <a:moveTo>
                      <a:pt x="3580" y="0"/>
                    </a:moveTo>
                    <a:lnTo>
                      <a:pt x="3580" y="0"/>
                    </a:lnTo>
                    <a:cubicBezTo>
                      <a:pt x="3581" y="0"/>
                      <a:pt x="3582" y="1"/>
                      <a:pt x="3582" y="2"/>
                    </a:cubicBezTo>
                    <a:cubicBezTo>
                      <a:pt x="3582" y="3"/>
                      <a:pt x="3581" y="4"/>
                      <a:pt x="3580" y="4"/>
                    </a:cubicBezTo>
                    <a:lnTo>
                      <a:pt x="3580" y="4"/>
                    </a:lnTo>
                    <a:cubicBezTo>
                      <a:pt x="3578" y="4"/>
                      <a:pt x="3578" y="3"/>
                      <a:pt x="3578" y="2"/>
                    </a:cubicBezTo>
                    <a:cubicBezTo>
                      <a:pt x="3578" y="1"/>
                      <a:pt x="3578" y="0"/>
                      <a:pt x="3580" y="0"/>
                    </a:cubicBezTo>
                    <a:close/>
                    <a:moveTo>
                      <a:pt x="3588" y="0"/>
                    </a:moveTo>
                    <a:lnTo>
                      <a:pt x="3588" y="0"/>
                    </a:lnTo>
                    <a:cubicBezTo>
                      <a:pt x="3589" y="0"/>
                      <a:pt x="3590" y="1"/>
                      <a:pt x="3590" y="2"/>
                    </a:cubicBezTo>
                    <a:cubicBezTo>
                      <a:pt x="3590" y="3"/>
                      <a:pt x="3589" y="4"/>
                      <a:pt x="3588" y="4"/>
                    </a:cubicBezTo>
                    <a:lnTo>
                      <a:pt x="3588" y="4"/>
                    </a:lnTo>
                    <a:cubicBezTo>
                      <a:pt x="3586" y="4"/>
                      <a:pt x="3586" y="3"/>
                      <a:pt x="3586" y="2"/>
                    </a:cubicBezTo>
                    <a:cubicBezTo>
                      <a:pt x="3586" y="1"/>
                      <a:pt x="3586" y="0"/>
                      <a:pt x="3588" y="0"/>
                    </a:cubicBezTo>
                    <a:close/>
                    <a:moveTo>
                      <a:pt x="3596" y="0"/>
                    </a:moveTo>
                    <a:lnTo>
                      <a:pt x="3596" y="0"/>
                    </a:lnTo>
                    <a:cubicBezTo>
                      <a:pt x="3597" y="0"/>
                      <a:pt x="3598" y="1"/>
                      <a:pt x="3598" y="2"/>
                    </a:cubicBezTo>
                    <a:cubicBezTo>
                      <a:pt x="3598" y="3"/>
                      <a:pt x="3597" y="4"/>
                      <a:pt x="3596" y="4"/>
                    </a:cubicBezTo>
                    <a:lnTo>
                      <a:pt x="3596" y="4"/>
                    </a:lnTo>
                    <a:cubicBezTo>
                      <a:pt x="3594" y="4"/>
                      <a:pt x="3594" y="3"/>
                      <a:pt x="3594" y="2"/>
                    </a:cubicBezTo>
                    <a:cubicBezTo>
                      <a:pt x="3594" y="1"/>
                      <a:pt x="3594" y="0"/>
                      <a:pt x="3596" y="0"/>
                    </a:cubicBezTo>
                    <a:close/>
                    <a:moveTo>
                      <a:pt x="3604" y="0"/>
                    </a:moveTo>
                    <a:lnTo>
                      <a:pt x="3604" y="0"/>
                    </a:lnTo>
                    <a:cubicBezTo>
                      <a:pt x="3605" y="0"/>
                      <a:pt x="3606" y="1"/>
                      <a:pt x="3606" y="2"/>
                    </a:cubicBezTo>
                    <a:cubicBezTo>
                      <a:pt x="3606" y="3"/>
                      <a:pt x="3605" y="4"/>
                      <a:pt x="3604" y="4"/>
                    </a:cubicBezTo>
                    <a:lnTo>
                      <a:pt x="3604" y="4"/>
                    </a:lnTo>
                    <a:cubicBezTo>
                      <a:pt x="3602" y="4"/>
                      <a:pt x="3602" y="3"/>
                      <a:pt x="3602" y="2"/>
                    </a:cubicBezTo>
                    <a:cubicBezTo>
                      <a:pt x="3602" y="1"/>
                      <a:pt x="3602" y="0"/>
                      <a:pt x="3604" y="0"/>
                    </a:cubicBezTo>
                    <a:close/>
                    <a:moveTo>
                      <a:pt x="3612" y="0"/>
                    </a:moveTo>
                    <a:lnTo>
                      <a:pt x="3612" y="0"/>
                    </a:lnTo>
                    <a:cubicBezTo>
                      <a:pt x="3613" y="0"/>
                      <a:pt x="3614" y="1"/>
                      <a:pt x="3614" y="2"/>
                    </a:cubicBezTo>
                    <a:cubicBezTo>
                      <a:pt x="3614" y="3"/>
                      <a:pt x="3613" y="4"/>
                      <a:pt x="3612" y="4"/>
                    </a:cubicBezTo>
                    <a:lnTo>
                      <a:pt x="3612" y="4"/>
                    </a:lnTo>
                    <a:cubicBezTo>
                      <a:pt x="3610" y="4"/>
                      <a:pt x="3610" y="3"/>
                      <a:pt x="3610" y="2"/>
                    </a:cubicBezTo>
                    <a:cubicBezTo>
                      <a:pt x="3610" y="1"/>
                      <a:pt x="3610" y="0"/>
                      <a:pt x="3612" y="0"/>
                    </a:cubicBezTo>
                    <a:close/>
                    <a:moveTo>
                      <a:pt x="3620" y="0"/>
                    </a:moveTo>
                    <a:lnTo>
                      <a:pt x="3620" y="0"/>
                    </a:lnTo>
                    <a:cubicBezTo>
                      <a:pt x="3621" y="0"/>
                      <a:pt x="3622" y="1"/>
                      <a:pt x="3622" y="2"/>
                    </a:cubicBezTo>
                    <a:cubicBezTo>
                      <a:pt x="3622" y="3"/>
                      <a:pt x="3621" y="4"/>
                      <a:pt x="3620" y="4"/>
                    </a:cubicBezTo>
                    <a:lnTo>
                      <a:pt x="3620" y="4"/>
                    </a:lnTo>
                    <a:cubicBezTo>
                      <a:pt x="3618" y="4"/>
                      <a:pt x="3618" y="3"/>
                      <a:pt x="3618" y="2"/>
                    </a:cubicBezTo>
                    <a:cubicBezTo>
                      <a:pt x="3618" y="1"/>
                      <a:pt x="3618" y="0"/>
                      <a:pt x="3620" y="0"/>
                    </a:cubicBezTo>
                    <a:close/>
                    <a:moveTo>
                      <a:pt x="3628" y="0"/>
                    </a:moveTo>
                    <a:lnTo>
                      <a:pt x="3628" y="0"/>
                    </a:lnTo>
                    <a:cubicBezTo>
                      <a:pt x="3629" y="0"/>
                      <a:pt x="3630" y="1"/>
                      <a:pt x="3630" y="2"/>
                    </a:cubicBezTo>
                    <a:cubicBezTo>
                      <a:pt x="3630" y="3"/>
                      <a:pt x="3629" y="4"/>
                      <a:pt x="3628" y="4"/>
                    </a:cubicBezTo>
                    <a:lnTo>
                      <a:pt x="3628" y="4"/>
                    </a:lnTo>
                    <a:cubicBezTo>
                      <a:pt x="3626" y="4"/>
                      <a:pt x="3626" y="3"/>
                      <a:pt x="3626" y="2"/>
                    </a:cubicBezTo>
                    <a:cubicBezTo>
                      <a:pt x="3626" y="1"/>
                      <a:pt x="3626" y="0"/>
                      <a:pt x="3628" y="0"/>
                    </a:cubicBezTo>
                    <a:close/>
                    <a:moveTo>
                      <a:pt x="3636" y="0"/>
                    </a:moveTo>
                    <a:lnTo>
                      <a:pt x="3636" y="0"/>
                    </a:lnTo>
                    <a:cubicBezTo>
                      <a:pt x="3637" y="0"/>
                      <a:pt x="3638" y="1"/>
                      <a:pt x="3638" y="2"/>
                    </a:cubicBezTo>
                    <a:cubicBezTo>
                      <a:pt x="3638" y="3"/>
                      <a:pt x="3637" y="4"/>
                      <a:pt x="3636" y="4"/>
                    </a:cubicBezTo>
                    <a:lnTo>
                      <a:pt x="3636" y="4"/>
                    </a:lnTo>
                    <a:cubicBezTo>
                      <a:pt x="3634" y="4"/>
                      <a:pt x="3634" y="3"/>
                      <a:pt x="3634" y="2"/>
                    </a:cubicBezTo>
                    <a:cubicBezTo>
                      <a:pt x="3634" y="1"/>
                      <a:pt x="3634" y="0"/>
                      <a:pt x="3636" y="0"/>
                    </a:cubicBezTo>
                    <a:close/>
                    <a:moveTo>
                      <a:pt x="3644" y="0"/>
                    </a:moveTo>
                    <a:lnTo>
                      <a:pt x="3644" y="0"/>
                    </a:lnTo>
                    <a:cubicBezTo>
                      <a:pt x="3645" y="0"/>
                      <a:pt x="3646" y="1"/>
                      <a:pt x="3646" y="2"/>
                    </a:cubicBezTo>
                    <a:cubicBezTo>
                      <a:pt x="3646" y="3"/>
                      <a:pt x="3645" y="4"/>
                      <a:pt x="3644" y="4"/>
                    </a:cubicBezTo>
                    <a:lnTo>
                      <a:pt x="3644" y="4"/>
                    </a:lnTo>
                    <a:cubicBezTo>
                      <a:pt x="3642" y="4"/>
                      <a:pt x="3642" y="3"/>
                      <a:pt x="3642" y="2"/>
                    </a:cubicBezTo>
                    <a:cubicBezTo>
                      <a:pt x="3642" y="1"/>
                      <a:pt x="3642" y="0"/>
                      <a:pt x="3644" y="0"/>
                    </a:cubicBezTo>
                    <a:close/>
                    <a:moveTo>
                      <a:pt x="3652" y="0"/>
                    </a:moveTo>
                    <a:lnTo>
                      <a:pt x="3652" y="0"/>
                    </a:lnTo>
                    <a:cubicBezTo>
                      <a:pt x="3653" y="0"/>
                      <a:pt x="3654" y="1"/>
                      <a:pt x="3654" y="2"/>
                    </a:cubicBezTo>
                    <a:cubicBezTo>
                      <a:pt x="3654" y="3"/>
                      <a:pt x="3653" y="4"/>
                      <a:pt x="3652" y="4"/>
                    </a:cubicBezTo>
                    <a:lnTo>
                      <a:pt x="3652" y="4"/>
                    </a:lnTo>
                    <a:cubicBezTo>
                      <a:pt x="3650" y="4"/>
                      <a:pt x="3650" y="3"/>
                      <a:pt x="3650" y="2"/>
                    </a:cubicBezTo>
                    <a:cubicBezTo>
                      <a:pt x="3650" y="1"/>
                      <a:pt x="3650" y="0"/>
                      <a:pt x="3652" y="0"/>
                    </a:cubicBezTo>
                    <a:close/>
                    <a:moveTo>
                      <a:pt x="3660" y="0"/>
                    </a:moveTo>
                    <a:lnTo>
                      <a:pt x="3660" y="0"/>
                    </a:lnTo>
                    <a:cubicBezTo>
                      <a:pt x="3661" y="0"/>
                      <a:pt x="3662" y="1"/>
                      <a:pt x="3662" y="2"/>
                    </a:cubicBezTo>
                    <a:cubicBezTo>
                      <a:pt x="3662" y="3"/>
                      <a:pt x="3661" y="4"/>
                      <a:pt x="3660" y="4"/>
                    </a:cubicBezTo>
                    <a:lnTo>
                      <a:pt x="3660" y="4"/>
                    </a:lnTo>
                    <a:cubicBezTo>
                      <a:pt x="3658" y="4"/>
                      <a:pt x="3658" y="3"/>
                      <a:pt x="3658" y="2"/>
                    </a:cubicBezTo>
                    <a:cubicBezTo>
                      <a:pt x="3658" y="1"/>
                      <a:pt x="3658" y="0"/>
                      <a:pt x="3660" y="0"/>
                    </a:cubicBezTo>
                    <a:close/>
                    <a:moveTo>
                      <a:pt x="3668" y="0"/>
                    </a:moveTo>
                    <a:lnTo>
                      <a:pt x="3668" y="0"/>
                    </a:lnTo>
                    <a:cubicBezTo>
                      <a:pt x="3669" y="0"/>
                      <a:pt x="3670" y="1"/>
                      <a:pt x="3670" y="2"/>
                    </a:cubicBezTo>
                    <a:cubicBezTo>
                      <a:pt x="3670" y="3"/>
                      <a:pt x="3669" y="4"/>
                      <a:pt x="3668" y="4"/>
                    </a:cubicBezTo>
                    <a:lnTo>
                      <a:pt x="3668" y="4"/>
                    </a:lnTo>
                    <a:cubicBezTo>
                      <a:pt x="3666" y="4"/>
                      <a:pt x="3666" y="3"/>
                      <a:pt x="3666" y="2"/>
                    </a:cubicBezTo>
                    <a:cubicBezTo>
                      <a:pt x="3666" y="1"/>
                      <a:pt x="3666" y="0"/>
                      <a:pt x="3668" y="0"/>
                    </a:cubicBezTo>
                    <a:close/>
                    <a:moveTo>
                      <a:pt x="3676" y="0"/>
                    </a:moveTo>
                    <a:lnTo>
                      <a:pt x="3676" y="0"/>
                    </a:lnTo>
                    <a:cubicBezTo>
                      <a:pt x="3677" y="0"/>
                      <a:pt x="3678" y="1"/>
                      <a:pt x="3678" y="2"/>
                    </a:cubicBezTo>
                    <a:cubicBezTo>
                      <a:pt x="3678" y="3"/>
                      <a:pt x="3677" y="4"/>
                      <a:pt x="3676" y="4"/>
                    </a:cubicBezTo>
                    <a:lnTo>
                      <a:pt x="3676" y="4"/>
                    </a:lnTo>
                    <a:cubicBezTo>
                      <a:pt x="3674" y="4"/>
                      <a:pt x="3674" y="3"/>
                      <a:pt x="3674" y="2"/>
                    </a:cubicBezTo>
                    <a:cubicBezTo>
                      <a:pt x="3674" y="1"/>
                      <a:pt x="3674" y="0"/>
                      <a:pt x="3676" y="0"/>
                    </a:cubicBezTo>
                    <a:close/>
                    <a:moveTo>
                      <a:pt x="3684" y="0"/>
                    </a:moveTo>
                    <a:lnTo>
                      <a:pt x="3684" y="0"/>
                    </a:lnTo>
                    <a:cubicBezTo>
                      <a:pt x="3685" y="0"/>
                      <a:pt x="3686" y="1"/>
                      <a:pt x="3686" y="2"/>
                    </a:cubicBezTo>
                    <a:cubicBezTo>
                      <a:pt x="3686" y="3"/>
                      <a:pt x="3685" y="4"/>
                      <a:pt x="3684" y="4"/>
                    </a:cubicBezTo>
                    <a:lnTo>
                      <a:pt x="3684" y="4"/>
                    </a:lnTo>
                    <a:cubicBezTo>
                      <a:pt x="3682" y="4"/>
                      <a:pt x="3682" y="3"/>
                      <a:pt x="3682" y="2"/>
                    </a:cubicBezTo>
                    <a:cubicBezTo>
                      <a:pt x="3682" y="1"/>
                      <a:pt x="3682" y="0"/>
                      <a:pt x="3684" y="0"/>
                    </a:cubicBezTo>
                    <a:close/>
                    <a:moveTo>
                      <a:pt x="3692" y="0"/>
                    </a:moveTo>
                    <a:lnTo>
                      <a:pt x="3692" y="0"/>
                    </a:lnTo>
                    <a:cubicBezTo>
                      <a:pt x="3693" y="0"/>
                      <a:pt x="3694" y="1"/>
                      <a:pt x="3694" y="2"/>
                    </a:cubicBezTo>
                    <a:cubicBezTo>
                      <a:pt x="3694" y="3"/>
                      <a:pt x="3693" y="4"/>
                      <a:pt x="3692" y="4"/>
                    </a:cubicBezTo>
                    <a:lnTo>
                      <a:pt x="3692" y="4"/>
                    </a:lnTo>
                    <a:cubicBezTo>
                      <a:pt x="3690" y="4"/>
                      <a:pt x="3690" y="3"/>
                      <a:pt x="3690" y="2"/>
                    </a:cubicBezTo>
                    <a:cubicBezTo>
                      <a:pt x="3690" y="1"/>
                      <a:pt x="3690" y="0"/>
                      <a:pt x="3692" y="0"/>
                    </a:cubicBezTo>
                    <a:close/>
                    <a:moveTo>
                      <a:pt x="3700" y="0"/>
                    </a:moveTo>
                    <a:lnTo>
                      <a:pt x="3700" y="0"/>
                    </a:lnTo>
                    <a:cubicBezTo>
                      <a:pt x="3701" y="0"/>
                      <a:pt x="3702" y="1"/>
                      <a:pt x="3702" y="2"/>
                    </a:cubicBezTo>
                    <a:cubicBezTo>
                      <a:pt x="3702" y="3"/>
                      <a:pt x="3701" y="4"/>
                      <a:pt x="3700" y="4"/>
                    </a:cubicBezTo>
                    <a:lnTo>
                      <a:pt x="3700" y="4"/>
                    </a:lnTo>
                    <a:cubicBezTo>
                      <a:pt x="3699" y="4"/>
                      <a:pt x="3698" y="3"/>
                      <a:pt x="3698" y="2"/>
                    </a:cubicBezTo>
                    <a:cubicBezTo>
                      <a:pt x="3698" y="1"/>
                      <a:pt x="3699" y="0"/>
                      <a:pt x="3700" y="0"/>
                    </a:cubicBezTo>
                    <a:close/>
                    <a:moveTo>
                      <a:pt x="3708" y="0"/>
                    </a:moveTo>
                    <a:lnTo>
                      <a:pt x="3708" y="0"/>
                    </a:lnTo>
                    <a:cubicBezTo>
                      <a:pt x="3709" y="0"/>
                      <a:pt x="3710" y="1"/>
                      <a:pt x="3710" y="2"/>
                    </a:cubicBezTo>
                    <a:cubicBezTo>
                      <a:pt x="3710" y="3"/>
                      <a:pt x="3709" y="4"/>
                      <a:pt x="3708" y="4"/>
                    </a:cubicBezTo>
                    <a:lnTo>
                      <a:pt x="3708" y="4"/>
                    </a:lnTo>
                    <a:cubicBezTo>
                      <a:pt x="3707" y="4"/>
                      <a:pt x="3706" y="3"/>
                      <a:pt x="3706" y="2"/>
                    </a:cubicBezTo>
                    <a:cubicBezTo>
                      <a:pt x="3706" y="1"/>
                      <a:pt x="3707" y="0"/>
                      <a:pt x="3708" y="0"/>
                    </a:cubicBezTo>
                    <a:close/>
                    <a:moveTo>
                      <a:pt x="3716" y="0"/>
                    </a:moveTo>
                    <a:lnTo>
                      <a:pt x="3716" y="0"/>
                    </a:lnTo>
                    <a:cubicBezTo>
                      <a:pt x="3717" y="0"/>
                      <a:pt x="3718" y="1"/>
                      <a:pt x="3718" y="2"/>
                    </a:cubicBezTo>
                    <a:cubicBezTo>
                      <a:pt x="3718" y="3"/>
                      <a:pt x="3717" y="4"/>
                      <a:pt x="3716" y="4"/>
                    </a:cubicBezTo>
                    <a:lnTo>
                      <a:pt x="3716" y="4"/>
                    </a:lnTo>
                    <a:cubicBezTo>
                      <a:pt x="3715" y="4"/>
                      <a:pt x="3714" y="3"/>
                      <a:pt x="3714" y="2"/>
                    </a:cubicBezTo>
                    <a:cubicBezTo>
                      <a:pt x="3714" y="1"/>
                      <a:pt x="3715" y="0"/>
                      <a:pt x="3716" y="0"/>
                    </a:cubicBezTo>
                    <a:close/>
                    <a:moveTo>
                      <a:pt x="3724" y="0"/>
                    </a:moveTo>
                    <a:lnTo>
                      <a:pt x="3724" y="0"/>
                    </a:lnTo>
                    <a:cubicBezTo>
                      <a:pt x="3725" y="0"/>
                      <a:pt x="3726" y="1"/>
                      <a:pt x="3726" y="2"/>
                    </a:cubicBezTo>
                    <a:cubicBezTo>
                      <a:pt x="3726" y="3"/>
                      <a:pt x="3725" y="4"/>
                      <a:pt x="3724" y="4"/>
                    </a:cubicBezTo>
                    <a:lnTo>
                      <a:pt x="3724" y="4"/>
                    </a:lnTo>
                    <a:cubicBezTo>
                      <a:pt x="3723" y="4"/>
                      <a:pt x="3722" y="3"/>
                      <a:pt x="3722" y="2"/>
                    </a:cubicBezTo>
                    <a:cubicBezTo>
                      <a:pt x="3722" y="1"/>
                      <a:pt x="3723" y="0"/>
                      <a:pt x="3724" y="0"/>
                    </a:cubicBezTo>
                    <a:close/>
                    <a:moveTo>
                      <a:pt x="3732" y="0"/>
                    </a:moveTo>
                    <a:lnTo>
                      <a:pt x="3732" y="0"/>
                    </a:lnTo>
                    <a:cubicBezTo>
                      <a:pt x="3733" y="0"/>
                      <a:pt x="3734" y="1"/>
                      <a:pt x="3734" y="2"/>
                    </a:cubicBezTo>
                    <a:cubicBezTo>
                      <a:pt x="3734" y="3"/>
                      <a:pt x="3733" y="4"/>
                      <a:pt x="3732" y="4"/>
                    </a:cubicBezTo>
                    <a:lnTo>
                      <a:pt x="3732" y="4"/>
                    </a:lnTo>
                    <a:cubicBezTo>
                      <a:pt x="3731" y="4"/>
                      <a:pt x="3730" y="3"/>
                      <a:pt x="3730" y="2"/>
                    </a:cubicBezTo>
                    <a:cubicBezTo>
                      <a:pt x="3730" y="1"/>
                      <a:pt x="3731" y="0"/>
                      <a:pt x="3732" y="0"/>
                    </a:cubicBezTo>
                    <a:close/>
                    <a:moveTo>
                      <a:pt x="3740" y="0"/>
                    </a:moveTo>
                    <a:lnTo>
                      <a:pt x="3740" y="0"/>
                    </a:lnTo>
                    <a:cubicBezTo>
                      <a:pt x="3741" y="0"/>
                      <a:pt x="3742" y="1"/>
                      <a:pt x="3742" y="2"/>
                    </a:cubicBezTo>
                    <a:cubicBezTo>
                      <a:pt x="3742" y="3"/>
                      <a:pt x="3741" y="4"/>
                      <a:pt x="3740" y="4"/>
                    </a:cubicBezTo>
                    <a:lnTo>
                      <a:pt x="3740" y="4"/>
                    </a:lnTo>
                    <a:cubicBezTo>
                      <a:pt x="3739" y="4"/>
                      <a:pt x="3738" y="3"/>
                      <a:pt x="3738" y="2"/>
                    </a:cubicBezTo>
                    <a:cubicBezTo>
                      <a:pt x="3738" y="1"/>
                      <a:pt x="3739" y="0"/>
                      <a:pt x="3740" y="0"/>
                    </a:cubicBezTo>
                    <a:close/>
                    <a:moveTo>
                      <a:pt x="3748" y="0"/>
                    </a:moveTo>
                    <a:lnTo>
                      <a:pt x="3748" y="0"/>
                    </a:lnTo>
                    <a:cubicBezTo>
                      <a:pt x="3749" y="0"/>
                      <a:pt x="3750" y="1"/>
                      <a:pt x="3750" y="2"/>
                    </a:cubicBezTo>
                    <a:cubicBezTo>
                      <a:pt x="3750" y="3"/>
                      <a:pt x="3749" y="4"/>
                      <a:pt x="3748" y="4"/>
                    </a:cubicBezTo>
                    <a:lnTo>
                      <a:pt x="3748" y="4"/>
                    </a:lnTo>
                    <a:cubicBezTo>
                      <a:pt x="3747" y="4"/>
                      <a:pt x="3746" y="3"/>
                      <a:pt x="3746" y="2"/>
                    </a:cubicBezTo>
                    <a:cubicBezTo>
                      <a:pt x="3746" y="1"/>
                      <a:pt x="3747" y="0"/>
                      <a:pt x="3748" y="0"/>
                    </a:cubicBezTo>
                    <a:close/>
                    <a:moveTo>
                      <a:pt x="3756" y="0"/>
                    </a:moveTo>
                    <a:lnTo>
                      <a:pt x="3756" y="0"/>
                    </a:lnTo>
                    <a:cubicBezTo>
                      <a:pt x="3757" y="0"/>
                      <a:pt x="3758" y="1"/>
                      <a:pt x="3758" y="2"/>
                    </a:cubicBezTo>
                    <a:cubicBezTo>
                      <a:pt x="3758" y="3"/>
                      <a:pt x="3757" y="4"/>
                      <a:pt x="3756" y="4"/>
                    </a:cubicBezTo>
                    <a:lnTo>
                      <a:pt x="3756" y="4"/>
                    </a:lnTo>
                    <a:cubicBezTo>
                      <a:pt x="3755" y="4"/>
                      <a:pt x="3754" y="3"/>
                      <a:pt x="3754" y="2"/>
                    </a:cubicBezTo>
                    <a:cubicBezTo>
                      <a:pt x="3754" y="1"/>
                      <a:pt x="3755" y="0"/>
                      <a:pt x="3756" y="0"/>
                    </a:cubicBezTo>
                    <a:close/>
                    <a:moveTo>
                      <a:pt x="3764" y="0"/>
                    </a:moveTo>
                    <a:lnTo>
                      <a:pt x="3764" y="0"/>
                    </a:lnTo>
                    <a:cubicBezTo>
                      <a:pt x="3765" y="0"/>
                      <a:pt x="3766" y="1"/>
                      <a:pt x="3766" y="2"/>
                    </a:cubicBezTo>
                    <a:cubicBezTo>
                      <a:pt x="3766" y="3"/>
                      <a:pt x="3765" y="4"/>
                      <a:pt x="3764" y="4"/>
                    </a:cubicBezTo>
                    <a:lnTo>
                      <a:pt x="3764" y="4"/>
                    </a:lnTo>
                    <a:cubicBezTo>
                      <a:pt x="3763" y="4"/>
                      <a:pt x="3762" y="3"/>
                      <a:pt x="3762" y="2"/>
                    </a:cubicBezTo>
                    <a:cubicBezTo>
                      <a:pt x="3762" y="1"/>
                      <a:pt x="3763" y="0"/>
                      <a:pt x="3764" y="0"/>
                    </a:cubicBezTo>
                    <a:close/>
                    <a:moveTo>
                      <a:pt x="3772" y="0"/>
                    </a:moveTo>
                    <a:lnTo>
                      <a:pt x="3772" y="0"/>
                    </a:lnTo>
                    <a:cubicBezTo>
                      <a:pt x="3773" y="0"/>
                      <a:pt x="3774" y="1"/>
                      <a:pt x="3774" y="2"/>
                    </a:cubicBezTo>
                    <a:cubicBezTo>
                      <a:pt x="3774" y="3"/>
                      <a:pt x="3773" y="4"/>
                      <a:pt x="3772" y="4"/>
                    </a:cubicBezTo>
                    <a:lnTo>
                      <a:pt x="3772" y="4"/>
                    </a:lnTo>
                    <a:cubicBezTo>
                      <a:pt x="3771" y="4"/>
                      <a:pt x="3770" y="3"/>
                      <a:pt x="3770" y="2"/>
                    </a:cubicBezTo>
                    <a:cubicBezTo>
                      <a:pt x="3770" y="1"/>
                      <a:pt x="3771" y="0"/>
                      <a:pt x="3772" y="0"/>
                    </a:cubicBezTo>
                    <a:close/>
                    <a:moveTo>
                      <a:pt x="3780" y="0"/>
                    </a:moveTo>
                    <a:lnTo>
                      <a:pt x="3780" y="0"/>
                    </a:lnTo>
                    <a:cubicBezTo>
                      <a:pt x="3781" y="0"/>
                      <a:pt x="3782" y="1"/>
                      <a:pt x="3782" y="2"/>
                    </a:cubicBezTo>
                    <a:cubicBezTo>
                      <a:pt x="3782" y="3"/>
                      <a:pt x="3781" y="4"/>
                      <a:pt x="3780" y="4"/>
                    </a:cubicBezTo>
                    <a:lnTo>
                      <a:pt x="3780" y="4"/>
                    </a:lnTo>
                    <a:cubicBezTo>
                      <a:pt x="3779" y="4"/>
                      <a:pt x="3778" y="3"/>
                      <a:pt x="3778" y="2"/>
                    </a:cubicBezTo>
                    <a:cubicBezTo>
                      <a:pt x="3778" y="1"/>
                      <a:pt x="3779" y="0"/>
                      <a:pt x="3780" y="0"/>
                    </a:cubicBezTo>
                    <a:close/>
                    <a:moveTo>
                      <a:pt x="3788" y="0"/>
                    </a:moveTo>
                    <a:lnTo>
                      <a:pt x="3788" y="0"/>
                    </a:lnTo>
                    <a:cubicBezTo>
                      <a:pt x="3789" y="0"/>
                      <a:pt x="3790" y="1"/>
                      <a:pt x="3790" y="2"/>
                    </a:cubicBezTo>
                    <a:cubicBezTo>
                      <a:pt x="3790" y="3"/>
                      <a:pt x="3789" y="4"/>
                      <a:pt x="3788" y="4"/>
                    </a:cubicBezTo>
                    <a:lnTo>
                      <a:pt x="3788" y="4"/>
                    </a:lnTo>
                    <a:cubicBezTo>
                      <a:pt x="3787" y="4"/>
                      <a:pt x="3786" y="3"/>
                      <a:pt x="3786" y="2"/>
                    </a:cubicBezTo>
                    <a:cubicBezTo>
                      <a:pt x="3786" y="1"/>
                      <a:pt x="3787" y="0"/>
                      <a:pt x="3788" y="0"/>
                    </a:cubicBezTo>
                    <a:close/>
                    <a:moveTo>
                      <a:pt x="3796" y="0"/>
                    </a:moveTo>
                    <a:lnTo>
                      <a:pt x="3796" y="0"/>
                    </a:lnTo>
                    <a:cubicBezTo>
                      <a:pt x="3797" y="0"/>
                      <a:pt x="3798" y="1"/>
                      <a:pt x="3798" y="2"/>
                    </a:cubicBezTo>
                    <a:cubicBezTo>
                      <a:pt x="3798" y="3"/>
                      <a:pt x="3797" y="4"/>
                      <a:pt x="3796" y="4"/>
                    </a:cubicBezTo>
                    <a:lnTo>
                      <a:pt x="3796" y="4"/>
                    </a:lnTo>
                    <a:cubicBezTo>
                      <a:pt x="3795" y="4"/>
                      <a:pt x="3794" y="3"/>
                      <a:pt x="3794" y="2"/>
                    </a:cubicBezTo>
                    <a:cubicBezTo>
                      <a:pt x="3794" y="1"/>
                      <a:pt x="3795" y="0"/>
                      <a:pt x="3796" y="0"/>
                    </a:cubicBezTo>
                    <a:close/>
                    <a:moveTo>
                      <a:pt x="3804" y="0"/>
                    </a:moveTo>
                    <a:lnTo>
                      <a:pt x="3804" y="0"/>
                    </a:lnTo>
                    <a:cubicBezTo>
                      <a:pt x="3805" y="0"/>
                      <a:pt x="3806" y="1"/>
                      <a:pt x="3806" y="2"/>
                    </a:cubicBezTo>
                    <a:cubicBezTo>
                      <a:pt x="3806" y="3"/>
                      <a:pt x="3805" y="4"/>
                      <a:pt x="3804" y="4"/>
                    </a:cubicBezTo>
                    <a:lnTo>
                      <a:pt x="3804" y="4"/>
                    </a:lnTo>
                    <a:cubicBezTo>
                      <a:pt x="3803" y="4"/>
                      <a:pt x="3802" y="3"/>
                      <a:pt x="3802" y="2"/>
                    </a:cubicBezTo>
                    <a:cubicBezTo>
                      <a:pt x="3802" y="1"/>
                      <a:pt x="3803" y="0"/>
                      <a:pt x="3804" y="0"/>
                    </a:cubicBezTo>
                    <a:close/>
                    <a:moveTo>
                      <a:pt x="3812" y="0"/>
                    </a:moveTo>
                    <a:lnTo>
                      <a:pt x="3812" y="0"/>
                    </a:lnTo>
                    <a:cubicBezTo>
                      <a:pt x="3813" y="0"/>
                      <a:pt x="3814" y="1"/>
                      <a:pt x="3814" y="2"/>
                    </a:cubicBezTo>
                    <a:cubicBezTo>
                      <a:pt x="3814" y="3"/>
                      <a:pt x="3813" y="4"/>
                      <a:pt x="3812" y="4"/>
                    </a:cubicBezTo>
                    <a:lnTo>
                      <a:pt x="3812" y="4"/>
                    </a:lnTo>
                    <a:cubicBezTo>
                      <a:pt x="3811" y="4"/>
                      <a:pt x="3810" y="3"/>
                      <a:pt x="3810" y="2"/>
                    </a:cubicBezTo>
                    <a:cubicBezTo>
                      <a:pt x="3810" y="1"/>
                      <a:pt x="3811" y="0"/>
                      <a:pt x="3812" y="0"/>
                    </a:cubicBezTo>
                    <a:close/>
                    <a:moveTo>
                      <a:pt x="3820" y="0"/>
                    </a:moveTo>
                    <a:lnTo>
                      <a:pt x="3820" y="0"/>
                    </a:lnTo>
                    <a:cubicBezTo>
                      <a:pt x="3821" y="0"/>
                      <a:pt x="3822" y="1"/>
                      <a:pt x="3822" y="2"/>
                    </a:cubicBezTo>
                    <a:cubicBezTo>
                      <a:pt x="3822" y="3"/>
                      <a:pt x="3821" y="4"/>
                      <a:pt x="3820" y="4"/>
                    </a:cubicBezTo>
                    <a:lnTo>
                      <a:pt x="3820" y="4"/>
                    </a:lnTo>
                    <a:cubicBezTo>
                      <a:pt x="3819" y="4"/>
                      <a:pt x="3818" y="3"/>
                      <a:pt x="3818" y="2"/>
                    </a:cubicBezTo>
                    <a:cubicBezTo>
                      <a:pt x="3818" y="1"/>
                      <a:pt x="3819" y="0"/>
                      <a:pt x="3820" y="0"/>
                    </a:cubicBezTo>
                    <a:close/>
                    <a:moveTo>
                      <a:pt x="3828" y="0"/>
                    </a:moveTo>
                    <a:lnTo>
                      <a:pt x="3828" y="0"/>
                    </a:lnTo>
                    <a:cubicBezTo>
                      <a:pt x="3829" y="0"/>
                      <a:pt x="3830" y="1"/>
                      <a:pt x="3830" y="2"/>
                    </a:cubicBezTo>
                    <a:cubicBezTo>
                      <a:pt x="3830" y="3"/>
                      <a:pt x="3829" y="4"/>
                      <a:pt x="3828" y="4"/>
                    </a:cubicBezTo>
                    <a:lnTo>
                      <a:pt x="3828" y="4"/>
                    </a:lnTo>
                    <a:cubicBezTo>
                      <a:pt x="3827" y="4"/>
                      <a:pt x="3826" y="3"/>
                      <a:pt x="3826" y="2"/>
                    </a:cubicBezTo>
                    <a:cubicBezTo>
                      <a:pt x="3826" y="1"/>
                      <a:pt x="3827" y="0"/>
                      <a:pt x="3828" y="0"/>
                    </a:cubicBezTo>
                    <a:close/>
                    <a:moveTo>
                      <a:pt x="3836" y="0"/>
                    </a:moveTo>
                    <a:lnTo>
                      <a:pt x="3836" y="0"/>
                    </a:lnTo>
                    <a:cubicBezTo>
                      <a:pt x="3837" y="0"/>
                      <a:pt x="3838" y="1"/>
                      <a:pt x="3838" y="2"/>
                    </a:cubicBezTo>
                    <a:cubicBezTo>
                      <a:pt x="3838" y="3"/>
                      <a:pt x="3837" y="4"/>
                      <a:pt x="3836" y="4"/>
                    </a:cubicBezTo>
                    <a:lnTo>
                      <a:pt x="3836" y="4"/>
                    </a:lnTo>
                    <a:cubicBezTo>
                      <a:pt x="3835" y="4"/>
                      <a:pt x="3834" y="3"/>
                      <a:pt x="3834" y="2"/>
                    </a:cubicBezTo>
                    <a:cubicBezTo>
                      <a:pt x="3834" y="1"/>
                      <a:pt x="3835" y="0"/>
                      <a:pt x="3836" y="0"/>
                    </a:cubicBezTo>
                    <a:close/>
                    <a:moveTo>
                      <a:pt x="3844" y="0"/>
                    </a:moveTo>
                    <a:lnTo>
                      <a:pt x="3844" y="0"/>
                    </a:lnTo>
                    <a:cubicBezTo>
                      <a:pt x="3845" y="0"/>
                      <a:pt x="3846" y="1"/>
                      <a:pt x="3846" y="2"/>
                    </a:cubicBezTo>
                    <a:cubicBezTo>
                      <a:pt x="3846" y="3"/>
                      <a:pt x="3845" y="4"/>
                      <a:pt x="3844" y="4"/>
                    </a:cubicBezTo>
                    <a:lnTo>
                      <a:pt x="3844" y="4"/>
                    </a:lnTo>
                    <a:cubicBezTo>
                      <a:pt x="3843" y="4"/>
                      <a:pt x="3842" y="3"/>
                      <a:pt x="3842" y="2"/>
                    </a:cubicBezTo>
                    <a:cubicBezTo>
                      <a:pt x="3842" y="1"/>
                      <a:pt x="3843" y="0"/>
                      <a:pt x="3844" y="0"/>
                    </a:cubicBezTo>
                    <a:close/>
                    <a:moveTo>
                      <a:pt x="3852" y="0"/>
                    </a:moveTo>
                    <a:lnTo>
                      <a:pt x="3852" y="0"/>
                    </a:lnTo>
                    <a:cubicBezTo>
                      <a:pt x="3853" y="0"/>
                      <a:pt x="3854" y="1"/>
                      <a:pt x="3854" y="2"/>
                    </a:cubicBezTo>
                    <a:cubicBezTo>
                      <a:pt x="3854" y="3"/>
                      <a:pt x="3853" y="4"/>
                      <a:pt x="3852" y="4"/>
                    </a:cubicBezTo>
                    <a:lnTo>
                      <a:pt x="3852" y="4"/>
                    </a:lnTo>
                    <a:cubicBezTo>
                      <a:pt x="3851" y="4"/>
                      <a:pt x="3850" y="3"/>
                      <a:pt x="3850" y="2"/>
                    </a:cubicBezTo>
                    <a:cubicBezTo>
                      <a:pt x="3850" y="1"/>
                      <a:pt x="3851" y="0"/>
                      <a:pt x="3852" y="0"/>
                    </a:cubicBezTo>
                    <a:close/>
                    <a:moveTo>
                      <a:pt x="3860" y="0"/>
                    </a:moveTo>
                    <a:lnTo>
                      <a:pt x="3860" y="0"/>
                    </a:lnTo>
                    <a:cubicBezTo>
                      <a:pt x="3861" y="0"/>
                      <a:pt x="3862" y="1"/>
                      <a:pt x="3862" y="2"/>
                    </a:cubicBezTo>
                    <a:cubicBezTo>
                      <a:pt x="3862" y="3"/>
                      <a:pt x="3861" y="4"/>
                      <a:pt x="3860" y="4"/>
                    </a:cubicBezTo>
                    <a:lnTo>
                      <a:pt x="3860" y="4"/>
                    </a:lnTo>
                    <a:cubicBezTo>
                      <a:pt x="3859" y="4"/>
                      <a:pt x="3858" y="3"/>
                      <a:pt x="3858" y="2"/>
                    </a:cubicBezTo>
                    <a:cubicBezTo>
                      <a:pt x="3858" y="1"/>
                      <a:pt x="3859" y="0"/>
                      <a:pt x="3860" y="0"/>
                    </a:cubicBezTo>
                    <a:close/>
                    <a:moveTo>
                      <a:pt x="3868" y="0"/>
                    </a:moveTo>
                    <a:lnTo>
                      <a:pt x="3868" y="0"/>
                    </a:lnTo>
                    <a:cubicBezTo>
                      <a:pt x="3869" y="0"/>
                      <a:pt x="3870" y="1"/>
                      <a:pt x="3870" y="2"/>
                    </a:cubicBezTo>
                    <a:cubicBezTo>
                      <a:pt x="3870" y="3"/>
                      <a:pt x="3869" y="4"/>
                      <a:pt x="3868" y="4"/>
                    </a:cubicBezTo>
                    <a:lnTo>
                      <a:pt x="3868" y="4"/>
                    </a:lnTo>
                    <a:cubicBezTo>
                      <a:pt x="3867" y="4"/>
                      <a:pt x="3866" y="3"/>
                      <a:pt x="3866" y="2"/>
                    </a:cubicBezTo>
                    <a:cubicBezTo>
                      <a:pt x="3866" y="1"/>
                      <a:pt x="3867" y="0"/>
                      <a:pt x="3868" y="0"/>
                    </a:cubicBezTo>
                    <a:close/>
                    <a:moveTo>
                      <a:pt x="3876" y="0"/>
                    </a:moveTo>
                    <a:lnTo>
                      <a:pt x="3876" y="0"/>
                    </a:lnTo>
                    <a:cubicBezTo>
                      <a:pt x="3877" y="0"/>
                      <a:pt x="3878" y="1"/>
                      <a:pt x="3878" y="2"/>
                    </a:cubicBezTo>
                    <a:cubicBezTo>
                      <a:pt x="3878" y="3"/>
                      <a:pt x="3877" y="4"/>
                      <a:pt x="3876" y="4"/>
                    </a:cubicBezTo>
                    <a:lnTo>
                      <a:pt x="3876" y="4"/>
                    </a:lnTo>
                    <a:cubicBezTo>
                      <a:pt x="3875" y="4"/>
                      <a:pt x="3874" y="3"/>
                      <a:pt x="3874" y="2"/>
                    </a:cubicBezTo>
                    <a:cubicBezTo>
                      <a:pt x="3874" y="1"/>
                      <a:pt x="3875" y="0"/>
                      <a:pt x="3876" y="0"/>
                    </a:cubicBezTo>
                    <a:close/>
                    <a:moveTo>
                      <a:pt x="3884" y="0"/>
                    </a:moveTo>
                    <a:lnTo>
                      <a:pt x="3884" y="0"/>
                    </a:lnTo>
                    <a:cubicBezTo>
                      <a:pt x="3885" y="0"/>
                      <a:pt x="3886" y="1"/>
                      <a:pt x="3886" y="2"/>
                    </a:cubicBezTo>
                    <a:cubicBezTo>
                      <a:pt x="3886" y="3"/>
                      <a:pt x="3885" y="4"/>
                      <a:pt x="3884" y="4"/>
                    </a:cubicBezTo>
                    <a:lnTo>
                      <a:pt x="3884" y="4"/>
                    </a:lnTo>
                    <a:cubicBezTo>
                      <a:pt x="3883" y="4"/>
                      <a:pt x="3882" y="3"/>
                      <a:pt x="3882" y="2"/>
                    </a:cubicBezTo>
                    <a:cubicBezTo>
                      <a:pt x="3882" y="1"/>
                      <a:pt x="3883" y="0"/>
                      <a:pt x="3884" y="0"/>
                    </a:cubicBezTo>
                    <a:close/>
                    <a:moveTo>
                      <a:pt x="3892" y="0"/>
                    </a:moveTo>
                    <a:lnTo>
                      <a:pt x="3892" y="0"/>
                    </a:lnTo>
                    <a:cubicBezTo>
                      <a:pt x="3893" y="0"/>
                      <a:pt x="3894" y="1"/>
                      <a:pt x="3894" y="2"/>
                    </a:cubicBezTo>
                    <a:cubicBezTo>
                      <a:pt x="3894" y="3"/>
                      <a:pt x="3893" y="4"/>
                      <a:pt x="3892" y="4"/>
                    </a:cubicBezTo>
                    <a:lnTo>
                      <a:pt x="3892" y="4"/>
                    </a:lnTo>
                    <a:cubicBezTo>
                      <a:pt x="3891" y="4"/>
                      <a:pt x="3890" y="3"/>
                      <a:pt x="3890" y="2"/>
                    </a:cubicBezTo>
                    <a:cubicBezTo>
                      <a:pt x="3890" y="1"/>
                      <a:pt x="3891" y="0"/>
                      <a:pt x="3892" y="0"/>
                    </a:cubicBezTo>
                    <a:close/>
                    <a:moveTo>
                      <a:pt x="3900" y="0"/>
                    </a:moveTo>
                    <a:lnTo>
                      <a:pt x="3900" y="0"/>
                    </a:lnTo>
                    <a:cubicBezTo>
                      <a:pt x="3901" y="0"/>
                      <a:pt x="3902" y="1"/>
                      <a:pt x="3902" y="2"/>
                    </a:cubicBezTo>
                    <a:cubicBezTo>
                      <a:pt x="3902" y="3"/>
                      <a:pt x="3901" y="4"/>
                      <a:pt x="3900" y="4"/>
                    </a:cubicBezTo>
                    <a:lnTo>
                      <a:pt x="3900" y="4"/>
                    </a:lnTo>
                    <a:cubicBezTo>
                      <a:pt x="3899" y="4"/>
                      <a:pt x="3898" y="3"/>
                      <a:pt x="3898" y="2"/>
                    </a:cubicBezTo>
                    <a:cubicBezTo>
                      <a:pt x="3898" y="1"/>
                      <a:pt x="3899" y="0"/>
                      <a:pt x="3900" y="0"/>
                    </a:cubicBezTo>
                    <a:close/>
                    <a:moveTo>
                      <a:pt x="3908" y="0"/>
                    </a:moveTo>
                    <a:lnTo>
                      <a:pt x="3908" y="0"/>
                    </a:lnTo>
                    <a:cubicBezTo>
                      <a:pt x="3909" y="0"/>
                      <a:pt x="3910" y="1"/>
                      <a:pt x="3910" y="2"/>
                    </a:cubicBezTo>
                    <a:cubicBezTo>
                      <a:pt x="3910" y="3"/>
                      <a:pt x="3909" y="4"/>
                      <a:pt x="3908" y="4"/>
                    </a:cubicBezTo>
                    <a:lnTo>
                      <a:pt x="3908" y="4"/>
                    </a:lnTo>
                    <a:cubicBezTo>
                      <a:pt x="3907" y="4"/>
                      <a:pt x="3906" y="3"/>
                      <a:pt x="3906" y="2"/>
                    </a:cubicBezTo>
                    <a:cubicBezTo>
                      <a:pt x="3906" y="1"/>
                      <a:pt x="3907" y="0"/>
                      <a:pt x="3908" y="0"/>
                    </a:cubicBezTo>
                    <a:close/>
                    <a:moveTo>
                      <a:pt x="3916" y="0"/>
                    </a:moveTo>
                    <a:lnTo>
                      <a:pt x="3916" y="0"/>
                    </a:lnTo>
                    <a:cubicBezTo>
                      <a:pt x="3917" y="0"/>
                      <a:pt x="3918" y="1"/>
                      <a:pt x="3918" y="2"/>
                    </a:cubicBezTo>
                    <a:cubicBezTo>
                      <a:pt x="3918" y="3"/>
                      <a:pt x="3917" y="4"/>
                      <a:pt x="3916" y="4"/>
                    </a:cubicBezTo>
                    <a:lnTo>
                      <a:pt x="3916" y="4"/>
                    </a:lnTo>
                    <a:cubicBezTo>
                      <a:pt x="3915" y="4"/>
                      <a:pt x="3914" y="3"/>
                      <a:pt x="3914" y="2"/>
                    </a:cubicBezTo>
                    <a:cubicBezTo>
                      <a:pt x="3914" y="1"/>
                      <a:pt x="3915" y="0"/>
                      <a:pt x="3916" y="0"/>
                    </a:cubicBezTo>
                    <a:close/>
                    <a:moveTo>
                      <a:pt x="3924" y="0"/>
                    </a:moveTo>
                    <a:lnTo>
                      <a:pt x="3924" y="0"/>
                    </a:lnTo>
                    <a:cubicBezTo>
                      <a:pt x="3925" y="0"/>
                      <a:pt x="3926" y="1"/>
                      <a:pt x="3926" y="2"/>
                    </a:cubicBezTo>
                    <a:cubicBezTo>
                      <a:pt x="3926" y="3"/>
                      <a:pt x="3925" y="4"/>
                      <a:pt x="3924" y="4"/>
                    </a:cubicBezTo>
                    <a:lnTo>
                      <a:pt x="3924" y="4"/>
                    </a:lnTo>
                    <a:cubicBezTo>
                      <a:pt x="3923" y="4"/>
                      <a:pt x="3922" y="3"/>
                      <a:pt x="3922" y="2"/>
                    </a:cubicBezTo>
                    <a:cubicBezTo>
                      <a:pt x="3922" y="1"/>
                      <a:pt x="3923" y="0"/>
                      <a:pt x="3924" y="0"/>
                    </a:cubicBezTo>
                    <a:close/>
                    <a:moveTo>
                      <a:pt x="3932" y="0"/>
                    </a:moveTo>
                    <a:lnTo>
                      <a:pt x="3932" y="0"/>
                    </a:lnTo>
                    <a:cubicBezTo>
                      <a:pt x="3933" y="0"/>
                      <a:pt x="3934" y="1"/>
                      <a:pt x="3934" y="2"/>
                    </a:cubicBezTo>
                    <a:cubicBezTo>
                      <a:pt x="3934" y="3"/>
                      <a:pt x="3933" y="4"/>
                      <a:pt x="3932" y="4"/>
                    </a:cubicBezTo>
                    <a:lnTo>
                      <a:pt x="3932" y="4"/>
                    </a:lnTo>
                    <a:cubicBezTo>
                      <a:pt x="3931" y="4"/>
                      <a:pt x="3930" y="3"/>
                      <a:pt x="3930" y="2"/>
                    </a:cubicBezTo>
                    <a:cubicBezTo>
                      <a:pt x="3930" y="1"/>
                      <a:pt x="3931" y="0"/>
                      <a:pt x="3932" y="0"/>
                    </a:cubicBezTo>
                    <a:close/>
                    <a:moveTo>
                      <a:pt x="3940" y="0"/>
                    </a:moveTo>
                    <a:lnTo>
                      <a:pt x="3940" y="0"/>
                    </a:lnTo>
                    <a:cubicBezTo>
                      <a:pt x="3941" y="0"/>
                      <a:pt x="3942" y="1"/>
                      <a:pt x="3942" y="2"/>
                    </a:cubicBezTo>
                    <a:cubicBezTo>
                      <a:pt x="3942" y="3"/>
                      <a:pt x="3941" y="4"/>
                      <a:pt x="3940" y="4"/>
                    </a:cubicBezTo>
                    <a:lnTo>
                      <a:pt x="3940" y="4"/>
                    </a:lnTo>
                    <a:cubicBezTo>
                      <a:pt x="3939" y="4"/>
                      <a:pt x="3938" y="3"/>
                      <a:pt x="3938" y="2"/>
                    </a:cubicBezTo>
                    <a:cubicBezTo>
                      <a:pt x="3938" y="1"/>
                      <a:pt x="3939" y="0"/>
                      <a:pt x="3940" y="0"/>
                    </a:cubicBezTo>
                    <a:close/>
                    <a:moveTo>
                      <a:pt x="3948" y="0"/>
                    </a:moveTo>
                    <a:lnTo>
                      <a:pt x="3948" y="0"/>
                    </a:lnTo>
                    <a:cubicBezTo>
                      <a:pt x="3949" y="0"/>
                      <a:pt x="3950" y="1"/>
                      <a:pt x="3950" y="2"/>
                    </a:cubicBezTo>
                    <a:cubicBezTo>
                      <a:pt x="3950" y="3"/>
                      <a:pt x="3949" y="4"/>
                      <a:pt x="3948" y="4"/>
                    </a:cubicBezTo>
                    <a:lnTo>
                      <a:pt x="3948" y="4"/>
                    </a:lnTo>
                    <a:cubicBezTo>
                      <a:pt x="3947" y="4"/>
                      <a:pt x="3946" y="3"/>
                      <a:pt x="3946" y="2"/>
                    </a:cubicBezTo>
                    <a:cubicBezTo>
                      <a:pt x="3946" y="1"/>
                      <a:pt x="3947" y="0"/>
                      <a:pt x="3948" y="0"/>
                    </a:cubicBezTo>
                    <a:close/>
                    <a:moveTo>
                      <a:pt x="3956" y="0"/>
                    </a:moveTo>
                    <a:lnTo>
                      <a:pt x="3956" y="0"/>
                    </a:lnTo>
                    <a:cubicBezTo>
                      <a:pt x="3957" y="0"/>
                      <a:pt x="3958" y="1"/>
                      <a:pt x="3958" y="2"/>
                    </a:cubicBezTo>
                    <a:cubicBezTo>
                      <a:pt x="3958" y="3"/>
                      <a:pt x="3957" y="4"/>
                      <a:pt x="3956" y="4"/>
                    </a:cubicBezTo>
                    <a:lnTo>
                      <a:pt x="3956" y="4"/>
                    </a:lnTo>
                    <a:cubicBezTo>
                      <a:pt x="3955" y="4"/>
                      <a:pt x="3954" y="3"/>
                      <a:pt x="3954" y="2"/>
                    </a:cubicBezTo>
                    <a:cubicBezTo>
                      <a:pt x="3954" y="1"/>
                      <a:pt x="3955" y="0"/>
                      <a:pt x="3956" y="0"/>
                    </a:cubicBezTo>
                    <a:close/>
                    <a:moveTo>
                      <a:pt x="3964" y="0"/>
                    </a:moveTo>
                    <a:lnTo>
                      <a:pt x="3964" y="0"/>
                    </a:lnTo>
                    <a:cubicBezTo>
                      <a:pt x="3965" y="0"/>
                      <a:pt x="3966" y="1"/>
                      <a:pt x="3966" y="2"/>
                    </a:cubicBezTo>
                    <a:cubicBezTo>
                      <a:pt x="3966" y="3"/>
                      <a:pt x="3965" y="4"/>
                      <a:pt x="3964" y="4"/>
                    </a:cubicBezTo>
                    <a:lnTo>
                      <a:pt x="3964" y="4"/>
                    </a:lnTo>
                    <a:cubicBezTo>
                      <a:pt x="3963" y="4"/>
                      <a:pt x="3962" y="3"/>
                      <a:pt x="3962" y="2"/>
                    </a:cubicBezTo>
                    <a:cubicBezTo>
                      <a:pt x="3962" y="1"/>
                      <a:pt x="3963" y="0"/>
                      <a:pt x="3964" y="0"/>
                    </a:cubicBezTo>
                    <a:close/>
                    <a:moveTo>
                      <a:pt x="3972" y="0"/>
                    </a:moveTo>
                    <a:lnTo>
                      <a:pt x="3972" y="0"/>
                    </a:lnTo>
                    <a:cubicBezTo>
                      <a:pt x="3973" y="0"/>
                      <a:pt x="3974" y="1"/>
                      <a:pt x="3974" y="2"/>
                    </a:cubicBezTo>
                    <a:cubicBezTo>
                      <a:pt x="3974" y="3"/>
                      <a:pt x="3973" y="4"/>
                      <a:pt x="3972" y="4"/>
                    </a:cubicBezTo>
                    <a:lnTo>
                      <a:pt x="3972" y="4"/>
                    </a:lnTo>
                    <a:cubicBezTo>
                      <a:pt x="3971" y="4"/>
                      <a:pt x="3970" y="3"/>
                      <a:pt x="3970" y="2"/>
                    </a:cubicBezTo>
                    <a:cubicBezTo>
                      <a:pt x="3970" y="1"/>
                      <a:pt x="3971" y="0"/>
                      <a:pt x="3972" y="0"/>
                    </a:cubicBezTo>
                    <a:close/>
                    <a:moveTo>
                      <a:pt x="3980" y="0"/>
                    </a:moveTo>
                    <a:lnTo>
                      <a:pt x="3980" y="0"/>
                    </a:lnTo>
                    <a:cubicBezTo>
                      <a:pt x="3981" y="0"/>
                      <a:pt x="3982" y="1"/>
                      <a:pt x="3982" y="2"/>
                    </a:cubicBezTo>
                    <a:cubicBezTo>
                      <a:pt x="3982" y="3"/>
                      <a:pt x="3981" y="4"/>
                      <a:pt x="3980" y="4"/>
                    </a:cubicBezTo>
                    <a:lnTo>
                      <a:pt x="3980" y="4"/>
                    </a:lnTo>
                    <a:cubicBezTo>
                      <a:pt x="3979" y="4"/>
                      <a:pt x="3978" y="3"/>
                      <a:pt x="3978" y="2"/>
                    </a:cubicBezTo>
                    <a:cubicBezTo>
                      <a:pt x="3978" y="1"/>
                      <a:pt x="3979" y="0"/>
                      <a:pt x="3980" y="0"/>
                    </a:cubicBezTo>
                    <a:close/>
                    <a:moveTo>
                      <a:pt x="3988" y="0"/>
                    </a:moveTo>
                    <a:lnTo>
                      <a:pt x="3988" y="0"/>
                    </a:lnTo>
                    <a:cubicBezTo>
                      <a:pt x="3989" y="0"/>
                      <a:pt x="3990" y="1"/>
                      <a:pt x="3990" y="2"/>
                    </a:cubicBezTo>
                    <a:cubicBezTo>
                      <a:pt x="3990" y="3"/>
                      <a:pt x="3989" y="4"/>
                      <a:pt x="3988" y="4"/>
                    </a:cubicBezTo>
                    <a:lnTo>
                      <a:pt x="3988" y="4"/>
                    </a:lnTo>
                    <a:cubicBezTo>
                      <a:pt x="3987" y="4"/>
                      <a:pt x="3986" y="3"/>
                      <a:pt x="3986" y="2"/>
                    </a:cubicBezTo>
                    <a:cubicBezTo>
                      <a:pt x="3986" y="1"/>
                      <a:pt x="3987" y="0"/>
                      <a:pt x="3988" y="0"/>
                    </a:cubicBezTo>
                    <a:close/>
                    <a:moveTo>
                      <a:pt x="3996" y="0"/>
                    </a:moveTo>
                    <a:lnTo>
                      <a:pt x="3996" y="0"/>
                    </a:lnTo>
                    <a:cubicBezTo>
                      <a:pt x="3997" y="0"/>
                      <a:pt x="3998" y="1"/>
                      <a:pt x="3998" y="2"/>
                    </a:cubicBezTo>
                    <a:cubicBezTo>
                      <a:pt x="3998" y="3"/>
                      <a:pt x="3997" y="4"/>
                      <a:pt x="3996" y="4"/>
                    </a:cubicBezTo>
                    <a:lnTo>
                      <a:pt x="3996" y="4"/>
                    </a:lnTo>
                    <a:cubicBezTo>
                      <a:pt x="3995" y="4"/>
                      <a:pt x="3994" y="3"/>
                      <a:pt x="3994" y="2"/>
                    </a:cubicBezTo>
                    <a:cubicBezTo>
                      <a:pt x="3994" y="1"/>
                      <a:pt x="3995" y="0"/>
                      <a:pt x="3996" y="0"/>
                    </a:cubicBezTo>
                    <a:close/>
                    <a:moveTo>
                      <a:pt x="4004" y="0"/>
                    </a:moveTo>
                    <a:lnTo>
                      <a:pt x="4004" y="0"/>
                    </a:lnTo>
                    <a:cubicBezTo>
                      <a:pt x="4005" y="0"/>
                      <a:pt x="4006" y="1"/>
                      <a:pt x="4006" y="2"/>
                    </a:cubicBezTo>
                    <a:cubicBezTo>
                      <a:pt x="4006" y="3"/>
                      <a:pt x="4005" y="4"/>
                      <a:pt x="4004" y="4"/>
                    </a:cubicBezTo>
                    <a:lnTo>
                      <a:pt x="4004" y="4"/>
                    </a:lnTo>
                    <a:cubicBezTo>
                      <a:pt x="4003" y="4"/>
                      <a:pt x="4002" y="3"/>
                      <a:pt x="4002" y="2"/>
                    </a:cubicBezTo>
                    <a:cubicBezTo>
                      <a:pt x="4002" y="1"/>
                      <a:pt x="4003" y="0"/>
                      <a:pt x="4004" y="0"/>
                    </a:cubicBezTo>
                    <a:close/>
                    <a:moveTo>
                      <a:pt x="4012" y="0"/>
                    </a:moveTo>
                    <a:lnTo>
                      <a:pt x="4012" y="0"/>
                    </a:lnTo>
                    <a:cubicBezTo>
                      <a:pt x="4013" y="0"/>
                      <a:pt x="4014" y="1"/>
                      <a:pt x="4014" y="2"/>
                    </a:cubicBezTo>
                    <a:cubicBezTo>
                      <a:pt x="4014" y="3"/>
                      <a:pt x="4013" y="4"/>
                      <a:pt x="4012" y="4"/>
                    </a:cubicBezTo>
                    <a:lnTo>
                      <a:pt x="4012" y="4"/>
                    </a:lnTo>
                    <a:cubicBezTo>
                      <a:pt x="4011" y="4"/>
                      <a:pt x="4010" y="3"/>
                      <a:pt x="4010" y="2"/>
                    </a:cubicBezTo>
                    <a:cubicBezTo>
                      <a:pt x="4010" y="1"/>
                      <a:pt x="4011" y="0"/>
                      <a:pt x="4012" y="0"/>
                    </a:cubicBezTo>
                    <a:close/>
                    <a:moveTo>
                      <a:pt x="4020" y="0"/>
                    </a:moveTo>
                    <a:lnTo>
                      <a:pt x="4020" y="0"/>
                    </a:lnTo>
                    <a:cubicBezTo>
                      <a:pt x="4021" y="0"/>
                      <a:pt x="4022" y="1"/>
                      <a:pt x="4022" y="2"/>
                    </a:cubicBezTo>
                    <a:cubicBezTo>
                      <a:pt x="4022" y="3"/>
                      <a:pt x="4021" y="4"/>
                      <a:pt x="4020" y="4"/>
                    </a:cubicBezTo>
                    <a:lnTo>
                      <a:pt x="4020" y="4"/>
                    </a:lnTo>
                    <a:cubicBezTo>
                      <a:pt x="4019" y="4"/>
                      <a:pt x="4018" y="3"/>
                      <a:pt x="4018" y="2"/>
                    </a:cubicBezTo>
                    <a:cubicBezTo>
                      <a:pt x="4018" y="1"/>
                      <a:pt x="4019" y="0"/>
                      <a:pt x="4020" y="0"/>
                    </a:cubicBezTo>
                    <a:close/>
                    <a:moveTo>
                      <a:pt x="4028" y="0"/>
                    </a:moveTo>
                    <a:lnTo>
                      <a:pt x="4028" y="0"/>
                    </a:lnTo>
                    <a:cubicBezTo>
                      <a:pt x="4029" y="0"/>
                      <a:pt x="4030" y="1"/>
                      <a:pt x="4030" y="2"/>
                    </a:cubicBezTo>
                    <a:cubicBezTo>
                      <a:pt x="4030" y="3"/>
                      <a:pt x="4029" y="4"/>
                      <a:pt x="4028" y="4"/>
                    </a:cubicBezTo>
                    <a:lnTo>
                      <a:pt x="4028" y="4"/>
                    </a:lnTo>
                    <a:cubicBezTo>
                      <a:pt x="4027" y="4"/>
                      <a:pt x="4026" y="3"/>
                      <a:pt x="4026" y="2"/>
                    </a:cubicBezTo>
                    <a:cubicBezTo>
                      <a:pt x="4026" y="1"/>
                      <a:pt x="4027" y="0"/>
                      <a:pt x="4028" y="0"/>
                    </a:cubicBezTo>
                    <a:close/>
                    <a:moveTo>
                      <a:pt x="4036" y="0"/>
                    </a:moveTo>
                    <a:lnTo>
                      <a:pt x="4036" y="0"/>
                    </a:lnTo>
                    <a:cubicBezTo>
                      <a:pt x="4037" y="0"/>
                      <a:pt x="4038" y="1"/>
                      <a:pt x="4038" y="2"/>
                    </a:cubicBezTo>
                    <a:cubicBezTo>
                      <a:pt x="4038" y="3"/>
                      <a:pt x="4037" y="4"/>
                      <a:pt x="4036" y="4"/>
                    </a:cubicBezTo>
                    <a:lnTo>
                      <a:pt x="4036" y="4"/>
                    </a:lnTo>
                    <a:cubicBezTo>
                      <a:pt x="4035" y="4"/>
                      <a:pt x="4034" y="3"/>
                      <a:pt x="4034" y="2"/>
                    </a:cubicBezTo>
                    <a:cubicBezTo>
                      <a:pt x="4034" y="1"/>
                      <a:pt x="4035" y="0"/>
                      <a:pt x="4036" y="0"/>
                    </a:cubicBezTo>
                    <a:close/>
                    <a:moveTo>
                      <a:pt x="4044" y="0"/>
                    </a:moveTo>
                    <a:lnTo>
                      <a:pt x="4044" y="0"/>
                    </a:lnTo>
                    <a:cubicBezTo>
                      <a:pt x="4045" y="0"/>
                      <a:pt x="4046" y="1"/>
                      <a:pt x="4046" y="2"/>
                    </a:cubicBezTo>
                    <a:cubicBezTo>
                      <a:pt x="4046" y="3"/>
                      <a:pt x="4045" y="4"/>
                      <a:pt x="4044" y="4"/>
                    </a:cubicBezTo>
                    <a:lnTo>
                      <a:pt x="4044" y="4"/>
                    </a:lnTo>
                    <a:cubicBezTo>
                      <a:pt x="4043" y="4"/>
                      <a:pt x="4042" y="3"/>
                      <a:pt x="4042" y="2"/>
                    </a:cubicBezTo>
                    <a:cubicBezTo>
                      <a:pt x="4042" y="1"/>
                      <a:pt x="4043" y="0"/>
                      <a:pt x="4044" y="0"/>
                    </a:cubicBezTo>
                    <a:close/>
                    <a:moveTo>
                      <a:pt x="4052" y="0"/>
                    </a:moveTo>
                    <a:lnTo>
                      <a:pt x="4052" y="0"/>
                    </a:lnTo>
                    <a:cubicBezTo>
                      <a:pt x="4053" y="0"/>
                      <a:pt x="4054" y="1"/>
                      <a:pt x="4054" y="2"/>
                    </a:cubicBezTo>
                    <a:cubicBezTo>
                      <a:pt x="4054" y="3"/>
                      <a:pt x="4053" y="4"/>
                      <a:pt x="4052" y="4"/>
                    </a:cubicBezTo>
                    <a:lnTo>
                      <a:pt x="4052" y="4"/>
                    </a:lnTo>
                    <a:cubicBezTo>
                      <a:pt x="4051" y="4"/>
                      <a:pt x="4050" y="3"/>
                      <a:pt x="4050" y="2"/>
                    </a:cubicBezTo>
                    <a:cubicBezTo>
                      <a:pt x="4050" y="1"/>
                      <a:pt x="4051" y="0"/>
                      <a:pt x="4052" y="0"/>
                    </a:cubicBezTo>
                    <a:close/>
                    <a:moveTo>
                      <a:pt x="4060" y="0"/>
                    </a:moveTo>
                    <a:lnTo>
                      <a:pt x="4060" y="0"/>
                    </a:lnTo>
                    <a:cubicBezTo>
                      <a:pt x="4061" y="0"/>
                      <a:pt x="4062" y="1"/>
                      <a:pt x="4062" y="2"/>
                    </a:cubicBezTo>
                    <a:cubicBezTo>
                      <a:pt x="4062" y="3"/>
                      <a:pt x="4061" y="4"/>
                      <a:pt x="4060" y="4"/>
                    </a:cubicBezTo>
                    <a:lnTo>
                      <a:pt x="4060" y="4"/>
                    </a:lnTo>
                    <a:cubicBezTo>
                      <a:pt x="4059" y="4"/>
                      <a:pt x="4058" y="3"/>
                      <a:pt x="4058" y="2"/>
                    </a:cubicBezTo>
                    <a:cubicBezTo>
                      <a:pt x="4058" y="1"/>
                      <a:pt x="4059" y="0"/>
                      <a:pt x="4060" y="0"/>
                    </a:cubicBezTo>
                    <a:close/>
                    <a:moveTo>
                      <a:pt x="4068" y="0"/>
                    </a:moveTo>
                    <a:lnTo>
                      <a:pt x="4068" y="0"/>
                    </a:lnTo>
                    <a:cubicBezTo>
                      <a:pt x="4069" y="0"/>
                      <a:pt x="4070" y="1"/>
                      <a:pt x="4070" y="2"/>
                    </a:cubicBezTo>
                    <a:cubicBezTo>
                      <a:pt x="4070" y="3"/>
                      <a:pt x="4069" y="4"/>
                      <a:pt x="4068" y="4"/>
                    </a:cubicBezTo>
                    <a:lnTo>
                      <a:pt x="4068" y="4"/>
                    </a:lnTo>
                    <a:cubicBezTo>
                      <a:pt x="4067" y="4"/>
                      <a:pt x="4066" y="3"/>
                      <a:pt x="4066" y="2"/>
                    </a:cubicBezTo>
                    <a:cubicBezTo>
                      <a:pt x="4066" y="1"/>
                      <a:pt x="4067" y="0"/>
                      <a:pt x="4068" y="0"/>
                    </a:cubicBezTo>
                    <a:close/>
                    <a:moveTo>
                      <a:pt x="4076" y="0"/>
                    </a:moveTo>
                    <a:lnTo>
                      <a:pt x="4076" y="0"/>
                    </a:lnTo>
                    <a:cubicBezTo>
                      <a:pt x="4077" y="0"/>
                      <a:pt x="4078" y="1"/>
                      <a:pt x="4078" y="2"/>
                    </a:cubicBezTo>
                    <a:cubicBezTo>
                      <a:pt x="4078" y="3"/>
                      <a:pt x="4077" y="4"/>
                      <a:pt x="4076" y="4"/>
                    </a:cubicBezTo>
                    <a:lnTo>
                      <a:pt x="4076" y="4"/>
                    </a:lnTo>
                    <a:cubicBezTo>
                      <a:pt x="4075" y="4"/>
                      <a:pt x="4074" y="3"/>
                      <a:pt x="4074" y="2"/>
                    </a:cubicBezTo>
                    <a:cubicBezTo>
                      <a:pt x="4074" y="1"/>
                      <a:pt x="4075" y="0"/>
                      <a:pt x="4076" y="0"/>
                    </a:cubicBezTo>
                    <a:close/>
                    <a:moveTo>
                      <a:pt x="4084" y="0"/>
                    </a:moveTo>
                    <a:lnTo>
                      <a:pt x="4084" y="0"/>
                    </a:lnTo>
                    <a:cubicBezTo>
                      <a:pt x="4085" y="0"/>
                      <a:pt x="4086" y="1"/>
                      <a:pt x="4086" y="2"/>
                    </a:cubicBezTo>
                    <a:cubicBezTo>
                      <a:pt x="4086" y="3"/>
                      <a:pt x="4085" y="4"/>
                      <a:pt x="4084" y="4"/>
                    </a:cubicBezTo>
                    <a:lnTo>
                      <a:pt x="4084" y="4"/>
                    </a:lnTo>
                    <a:cubicBezTo>
                      <a:pt x="4083" y="4"/>
                      <a:pt x="4082" y="3"/>
                      <a:pt x="4082" y="2"/>
                    </a:cubicBezTo>
                    <a:cubicBezTo>
                      <a:pt x="4082" y="1"/>
                      <a:pt x="4083" y="0"/>
                      <a:pt x="4084" y="0"/>
                    </a:cubicBezTo>
                    <a:close/>
                    <a:moveTo>
                      <a:pt x="4092" y="0"/>
                    </a:moveTo>
                    <a:lnTo>
                      <a:pt x="4092" y="0"/>
                    </a:lnTo>
                    <a:cubicBezTo>
                      <a:pt x="4093" y="0"/>
                      <a:pt x="4094" y="1"/>
                      <a:pt x="4094" y="2"/>
                    </a:cubicBezTo>
                    <a:cubicBezTo>
                      <a:pt x="4094" y="3"/>
                      <a:pt x="4093" y="4"/>
                      <a:pt x="4092" y="4"/>
                    </a:cubicBezTo>
                    <a:lnTo>
                      <a:pt x="4092" y="4"/>
                    </a:lnTo>
                    <a:cubicBezTo>
                      <a:pt x="4091" y="4"/>
                      <a:pt x="4090" y="3"/>
                      <a:pt x="4090" y="2"/>
                    </a:cubicBezTo>
                    <a:cubicBezTo>
                      <a:pt x="4090" y="1"/>
                      <a:pt x="4091" y="0"/>
                      <a:pt x="4092" y="0"/>
                    </a:cubicBezTo>
                    <a:close/>
                    <a:moveTo>
                      <a:pt x="4100" y="0"/>
                    </a:moveTo>
                    <a:lnTo>
                      <a:pt x="4100" y="0"/>
                    </a:lnTo>
                    <a:cubicBezTo>
                      <a:pt x="4101" y="0"/>
                      <a:pt x="4102" y="1"/>
                      <a:pt x="4102" y="2"/>
                    </a:cubicBezTo>
                    <a:cubicBezTo>
                      <a:pt x="4102" y="3"/>
                      <a:pt x="4101" y="4"/>
                      <a:pt x="4100" y="4"/>
                    </a:cubicBezTo>
                    <a:lnTo>
                      <a:pt x="4100" y="4"/>
                    </a:lnTo>
                    <a:cubicBezTo>
                      <a:pt x="4099" y="4"/>
                      <a:pt x="4098" y="3"/>
                      <a:pt x="4098" y="2"/>
                    </a:cubicBezTo>
                    <a:cubicBezTo>
                      <a:pt x="4098" y="1"/>
                      <a:pt x="4099" y="0"/>
                      <a:pt x="4100" y="0"/>
                    </a:cubicBezTo>
                    <a:close/>
                    <a:moveTo>
                      <a:pt x="4108" y="0"/>
                    </a:moveTo>
                    <a:lnTo>
                      <a:pt x="4108" y="0"/>
                    </a:lnTo>
                    <a:cubicBezTo>
                      <a:pt x="4109" y="0"/>
                      <a:pt x="4110" y="1"/>
                      <a:pt x="4110" y="2"/>
                    </a:cubicBezTo>
                    <a:cubicBezTo>
                      <a:pt x="4110" y="3"/>
                      <a:pt x="4109" y="4"/>
                      <a:pt x="4108" y="4"/>
                    </a:cubicBezTo>
                    <a:lnTo>
                      <a:pt x="4108" y="4"/>
                    </a:lnTo>
                    <a:cubicBezTo>
                      <a:pt x="4107" y="4"/>
                      <a:pt x="4106" y="3"/>
                      <a:pt x="4106" y="2"/>
                    </a:cubicBezTo>
                    <a:cubicBezTo>
                      <a:pt x="4106" y="1"/>
                      <a:pt x="4107" y="0"/>
                      <a:pt x="4108" y="0"/>
                    </a:cubicBezTo>
                    <a:close/>
                    <a:moveTo>
                      <a:pt x="4116" y="0"/>
                    </a:moveTo>
                    <a:lnTo>
                      <a:pt x="4116" y="0"/>
                    </a:lnTo>
                    <a:cubicBezTo>
                      <a:pt x="4117" y="0"/>
                      <a:pt x="4118" y="1"/>
                      <a:pt x="4118" y="2"/>
                    </a:cubicBezTo>
                    <a:cubicBezTo>
                      <a:pt x="4118" y="3"/>
                      <a:pt x="4117" y="4"/>
                      <a:pt x="4116" y="4"/>
                    </a:cubicBezTo>
                    <a:lnTo>
                      <a:pt x="4116" y="4"/>
                    </a:lnTo>
                    <a:cubicBezTo>
                      <a:pt x="4115" y="4"/>
                      <a:pt x="4114" y="3"/>
                      <a:pt x="4114" y="2"/>
                    </a:cubicBezTo>
                    <a:cubicBezTo>
                      <a:pt x="4114" y="1"/>
                      <a:pt x="4115" y="0"/>
                      <a:pt x="4116" y="0"/>
                    </a:cubicBezTo>
                    <a:close/>
                    <a:moveTo>
                      <a:pt x="4124" y="0"/>
                    </a:moveTo>
                    <a:lnTo>
                      <a:pt x="4124" y="0"/>
                    </a:lnTo>
                    <a:cubicBezTo>
                      <a:pt x="4125" y="0"/>
                      <a:pt x="4126" y="1"/>
                      <a:pt x="4126" y="2"/>
                    </a:cubicBezTo>
                    <a:cubicBezTo>
                      <a:pt x="4126" y="3"/>
                      <a:pt x="4125" y="4"/>
                      <a:pt x="4124" y="4"/>
                    </a:cubicBezTo>
                    <a:lnTo>
                      <a:pt x="4124" y="4"/>
                    </a:lnTo>
                    <a:cubicBezTo>
                      <a:pt x="4123" y="4"/>
                      <a:pt x="4122" y="3"/>
                      <a:pt x="4122" y="2"/>
                    </a:cubicBezTo>
                    <a:cubicBezTo>
                      <a:pt x="4122" y="1"/>
                      <a:pt x="4123" y="0"/>
                      <a:pt x="4124" y="0"/>
                    </a:cubicBezTo>
                    <a:close/>
                    <a:moveTo>
                      <a:pt x="4132" y="0"/>
                    </a:moveTo>
                    <a:lnTo>
                      <a:pt x="4132" y="0"/>
                    </a:lnTo>
                    <a:cubicBezTo>
                      <a:pt x="4133" y="0"/>
                      <a:pt x="4134" y="1"/>
                      <a:pt x="4134" y="2"/>
                    </a:cubicBezTo>
                    <a:cubicBezTo>
                      <a:pt x="4134" y="3"/>
                      <a:pt x="4133" y="4"/>
                      <a:pt x="4132" y="4"/>
                    </a:cubicBezTo>
                    <a:lnTo>
                      <a:pt x="4132" y="4"/>
                    </a:lnTo>
                    <a:cubicBezTo>
                      <a:pt x="4131" y="4"/>
                      <a:pt x="4130" y="3"/>
                      <a:pt x="4130" y="2"/>
                    </a:cubicBezTo>
                    <a:cubicBezTo>
                      <a:pt x="4130" y="1"/>
                      <a:pt x="4131" y="0"/>
                      <a:pt x="4132" y="0"/>
                    </a:cubicBezTo>
                    <a:close/>
                    <a:moveTo>
                      <a:pt x="4140" y="0"/>
                    </a:moveTo>
                    <a:lnTo>
                      <a:pt x="4140" y="0"/>
                    </a:lnTo>
                    <a:cubicBezTo>
                      <a:pt x="4141" y="0"/>
                      <a:pt x="4142" y="1"/>
                      <a:pt x="4142" y="2"/>
                    </a:cubicBezTo>
                    <a:cubicBezTo>
                      <a:pt x="4142" y="3"/>
                      <a:pt x="4141" y="4"/>
                      <a:pt x="4140" y="4"/>
                    </a:cubicBezTo>
                    <a:lnTo>
                      <a:pt x="4140" y="4"/>
                    </a:lnTo>
                    <a:cubicBezTo>
                      <a:pt x="4139" y="4"/>
                      <a:pt x="4138" y="3"/>
                      <a:pt x="4138" y="2"/>
                    </a:cubicBezTo>
                    <a:cubicBezTo>
                      <a:pt x="4138" y="1"/>
                      <a:pt x="4139" y="0"/>
                      <a:pt x="4140" y="0"/>
                    </a:cubicBezTo>
                    <a:close/>
                    <a:moveTo>
                      <a:pt x="4148" y="0"/>
                    </a:moveTo>
                    <a:lnTo>
                      <a:pt x="4148" y="0"/>
                    </a:lnTo>
                    <a:cubicBezTo>
                      <a:pt x="4149" y="0"/>
                      <a:pt x="4150" y="1"/>
                      <a:pt x="4150" y="2"/>
                    </a:cubicBezTo>
                    <a:cubicBezTo>
                      <a:pt x="4150" y="3"/>
                      <a:pt x="4149" y="4"/>
                      <a:pt x="4148" y="4"/>
                    </a:cubicBezTo>
                    <a:lnTo>
                      <a:pt x="4148" y="4"/>
                    </a:lnTo>
                    <a:cubicBezTo>
                      <a:pt x="4147" y="4"/>
                      <a:pt x="4146" y="3"/>
                      <a:pt x="4146" y="2"/>
                    </a:cubicBezTo>
                    <a:cubicBezTo>
                      <a:pt x="4146" y="1"/>
                      <a:pt x="4147" y="0"/>
                      <a:pt x="4148" y="0"/>
                    </a:cubicBezTo>
                    <a:close/>
                    <a:moveTo>
                      <a:pt x="4156" y="0"/>
                    </a:moveTo>
                    <a:lnTo>
                      <a:pt x="4156" y="0"/>
                    </a:lnTo>
                    <a:cubicBezTo>
                      <a:pt x="4157" y="0"/>
                      <a:pt x="4158" y="1"/>
                      <a:pt x="4158" y="2"/>
                    </a:cubicBezTo>
                    <a:cubicBezTo>
                      <a:pt x="4158" y="4"/>
                      <a:pt x="4157" y="4"/>
                      <a:pt x="4156" y="4"/>
                    </a:cubicBezTo>
                    <a:lnTo>
                      <a:pt x="4156" y="4"/>
                    </a:lnTo>
                    <a:cubicBezTo>
                      <a:pt x="4155" y="4"/>
                      <a:pt x="4154" y="4"/>
                      <a:pt x="4154" y="2"/>
                    </a:cubicBezTo>
                    <a:cubicBezTo>
                      <a:pt x="4154" y="1"/>
                      <a:pt x="4155" y="0"/>
                      <a:pt x="4156" y="0"/>
                    </a:cubicBezTo>
                    <a:close/>
                    <a:moveTo>
                      <a:pt x="4164" y="0"/>
                    </a:moveTo>
                    <a:lnTo>
                      <a:pt x="4164" y="0"/>
                    </a:lnTo>
                    <a:cubicBezTo>
                      <a:pt x="4165" y="0"/>
                      <a:pt x="4166" y="1"/>
                      <a:pt x="4166" y="2"/>
                    </a:cubicBezTo>
                    <a:cubicBezTo>
                      <a:pt x="4166" y="4"/>
                      <a:pt x="4165" y="4"/>
                      <a:pt x="4164" y="4"/>
                    </a:cubicBezTo>
                    <a:lnTo>
                      <a:pt x="4164" y="4"/>
                    </a:lnTo>
                    <a:cubicBezTo>
                      <a:pt x="4163" y="4"/>
                      <a:pt x="4162" y="4"/>
                      <a:pt x="4162" y="2"/>
                    </a:cubicBezTo>
                    <a:cubicBezTo>
                      <a:pt x="4162" y="1"/>
                      <a:pt x="4163" y="0"/>
                      <a:pt x="4164" y="0"/>
                    </a:cubicBezTo>
                    <a:close/>
                    <a:moveTo>
                      <a:pt x="4172" y="0"/>
                    </a:moveTo>
                    <a:lnTo>
                      <a:pt x="4172" y="0"/>
                    </a:lnTo>
                    <a:cubicBezTo>
                      <a:pt x="4173" y="0"/>
                      <a:pt x="4174" y="1"/>
                      <a:pt x="4174" y="2"/>
                    </a:cubicBezTo>
                    <a:cubicBezTo>
                      <a:pt x="4174" y="4"/>
                      <a:pt x="4173" y="4"/>
                      <a:pt x="4172" y="4"/>
                    </a:cubicBezTo>
                    <a:lnTo>
                      <a:pt x="4172" y="4"/>
                    </a:lnTo>
                    <a:cubicBezTo>
                      <a:pt x="4171" y="4"/>
                      <a:pt x="4170" y="4"/>
                      <a:pt x="4170" y="2"/>
                    </a:cubicBezTo>
                    <a:cubicBezTo>
                      <a:pt x="4170" y="1"/>
                      <a:pt x="4171" y="0"/>
                      <a:pt x="4172" y="0"/>
                    </a:cubicBezTo>
                    <a:close/>
                    <a:moveTo>
                      <a:pt x="4180" y="0"/>
                    </a:moveTo>
                    <a:lnTo>
                      <a:pt x="4180" y="0"/>
                    </a:lnTo>
                    <a:cubicBezTo>
                      <a:pt x="4181" y="0"/>
                      <a:pt x="4182" y="1"/>
                      <a:pt x="4182" y="2"/>
                    </a:cubicBezTo>
                    <a:cubicBezTo>
                      <a:pt x="4182" y="4"/>
                      <a:pt x="4181" y="4"/>
                      <a:pt x="4180" y="4"/>
                    </a:cubicBezTo>
                    <a:lnTo>
                      <a:pt x="4180" y="4"/>
                    </a:lnTo>
                    <a:cubicBezTo>
                      <a:pt x="4179" y="4"/>
                      <a:pt x="4178" y="4"/>
                      <a:pt x="4178" y="2"/>
                    </a:cubicBezTo>
                    <a:cubicBezTo>
                      <a:pt x="4178" y="1"/>
                      <a:pt x="4179" y="0"/>
                      <a:pt x="4180" y="0"/>
                    </a:cubicBezTo>
                    <a:close/>
                    <a:moveTo>
                      <a:pt x="4188" y="0"/>
                    </a:moveTo>
                    <a:lnTo>
                      <a:pt x="4188" y="0"/>
                    </a:lnTo>
                    <a:cubicBezTo>
                      <a:pt x="4189" y="0"/>
                      <a:pt x="4190" y="1"/>
                      <a:pt x="4190" y="2"/>
                    </a:cubicBezTo>
                    <a:cubicBezTo>
                      <a:pt x="4190" y="4"/>
                      <a:pt x="4189" y="4"/>
                      <a:pt x="4188" y="4"/>
                    </a:cubicBezTo>
                    <a:lnTo>
                      <a:pt x="4188" y="4"/>
                    </a:lnTo>
                    <a:cubicBezTo>
                      <a:pt x="4187" y="4"/>
                      <a:pt x="4186" y="4"/>
                      <a:pt x="4186" y="2"/>
                    </a:cubicBezTo>
                    <a:cubicBezTo>
                      <a:pt x="4186" y="1"/>
                      <a:pt x="4187" y="0"/>
                      <a:pt x="4188" y="0"/>
                    </a:cubicBezTo>
                    <a:close/>
                    <a:moveTo>
                      <a:pt x="4196" y="0"/>
                    </a:moveTo>
                    <a:lnTo>
                      <a:pt x="4196" y="0"/>
                    </a:lnTo>
                    <a:cubicBezTo>
                      <a:pt x="4197" y="0"/>
                      <a:pt x="4198" y="1"/>
                      <a:pt x="4198" y="2"/>
                    </a:cubicBezTo>
                    <a:cubicBezTo>
                      <a:pt x="4198" y="4"/>
                      <a:pt x="4197" y="4"/>
                      <a:pt x="4196" y="4"/>
                    </a:cubicBezTo>
                    <a:lnTo>
                      <a:pt x="4196" y="4"/>
                    </a:lnTo>
                    <a:cubicBezTo>
                      <a:pt x="4195" y="4"/>
                      <a:pt x="4194" y="4"/>
                      <a:pt x="4194" y="2"/>
                    </a:cubicBezTo>
                    <a:cubicBezTo>
                      <a:pt x="4194" y="1"/>
                      <a:pt x="4195" y="0"/>
                      <a:pt x="4196" y="0"/>
                    </a:cubicBezTo>
                    <a:close/>
                    <a:moveTo>
                      <a:pt x="4204" y="0"/>
                    </a:moveTo>
                    <a:lnTo>
                      <a:pt x="4204" y="0"/>
                    </a:lnTo>
                    <a:cubicBezTo>
                      <a:pt x="4205" y="0"/>
                      <a:pt x="4206" y="1"/>
                      <a:pt x="4206" y="2"/>
                    </a:cubicBezTo>
                    <a:cubicBezTo>
                      <a:pt x="4206" y="4"/>
                      <a:pt x="4205" y="4"/>
                      <a:pt x="4204" y="4"/>
                    </a:cubicBezTo>
                    <a:lnTo>
                      <a:pt x="4204" y="4"/>
                    </a:lnTo>
                    <a:cubicBezTo>
                      <a:pt x="4203" y="4"/>
                      <a:pt x="4202" y="4"/>
                      <a:pt x="4202" y="2"/>
                    </a:cubicBezTo>
                    <a:cubicBezTo>
                      <a:pt x="4202" y="1"/>
                      <a:pt x="4203" y="0"/>
                      <a:pt x="4204" y="0"/>
                    </a:cubicBezTo>
                    <a:close/>
                    <a:moveTo>
                      <a:pt x="4212" y="0"/>
                    </a:moveTo>
                    <a:lnTo>
                      <a:pt x="4212" y="0"/>
                    </a:lnTo>
                    <a:cubicBezTo>
                      <a:pt x="4213" y="0"/>
                      <a:pt x="4214" y="1"/>
                      <a:pt x="4214" y="2"/>
                    </a:cubicBezTo>
                    <a:cubicBezTo>
                      <a:pt x="4214" y="4"/>
                      <a:pt x="4213" y="4"/>
                      <a:pt x="4212" y="4"/>
                    </a:cubicBezTo>
                    <a:lnTo>
                      <a:pt x="4212" y="4"/>
                    </a:lnTo>
                    <a:cubicBezTo>
                      <a:pt x="4211" y="4"/>
                      <a:pt x="4210" y="4"/>
                      <a:pt x="4210" y="2"/>
                    </a:cubicBezTo>
                    <a:cubicBezTo>
                      <a:pt x="4210" y="1"/>
                      <a:pt x="4211" y="0"/>
                      <a:pt x="4212" y="0"/>
                    </a:cubicBezTo>
                    <a:close/>
                    <a:moveTo>
                      <a:pt x="4220" y="0"/>
                    </a:moveTo>
                    <a:lnTo>
                      <a:pt x="4220" y="0"/>
                    </a:lnTo>
                    <a:cubicBezTo>
                      <a:pt x="4221" y="0"/>
                      <a:pt x="4222" y="1"/>
                      <a:pt x="4222" y="2"/>
                    </a:cubicBezTo>
                    <a:cubicBezTo>
                      <a:pt x="4222" y="4"/>
                      <a:pt x="4221" y="4"/>
                      <a:pt x="4220" y="4"/>
                    </a:cubicBezTo>
                    <a:lnTo>
                      <a:pt x="4220" y="4"/>
                    </a:lnTo>
                    <a:cubicBezTo>
                      <a:pt x="4219" y="4"/>
                      <a:pt x="4218" y="4"/>
                      <a:pt x="4218" y="2"/>
                    </a:cubicBezTo>
                    <a:cubicBezTo>
                      <a:pt x="4218" y="1"/>
                      <a:pt x="4219" y="0"/>
                      <a:pt x="4220" y="0"/>
                    </a:cubicBezTo>
                    <a:close/>
                    <a:moveTo>
                      <a:pt x="4228" y="0"/>
                    </a:moveTo>
                    <a:lnTo>
                      <a:pt x="4228" y="0"/>
                    </a:lnTo>
                    <a:cubicBezTo>
                      <a:pt x="4229" y="0"/>
                      <a:pt x="4230" y="1"/>
                      <a:pt x="4230" y="2"/>
                    </a:cubicBezTo>
                    <a:cubicBezTo>
                      <a:pt x="4230" y="4"/>
                      <a:pt x="4229" y="4"/>
                      <a:pt x="4228" y="4"/>
                    </a:cubicBezTo>
                    <a:lnTo>
                      <a:pt x="4228" y="4"/>
                    </a:lnTo>
                    <a:cubicBezTo>
                      <a:pt x="4227" y="4"/>
                      <a:pt x="4226" y="4"/>
                      <a:pt x="4226" y="2"/>
                    </a:cubicBezTo>
                    <a:cubicBezTo>
                      <a:pt x="4226" y="1"/>
                      <a:pt x="4227" y="0"/>
                      <a:pt x="4228" y="0"/>
                    </a:cubicBezTo>
                    <a:close/>
                    <a:moveTo>
                      <a:pt x="4236" y="0"/>
                    </a:moveTo>
                    <a:lnTo>
                      <a:pt x="4236" y="0"/>
                    </a:lnTo>
                    <a:cubicBezTo>
                      <a:pt x="4237" y="0"/>
                      <a:pt x="4238" y="1"/>
                      <a:pt x="4238" y="2"/>
                    </a:cubicBezTo>
                    <a:cubicBezTo>
                      <a:pt x="4238" y="4"/>
                      <a:pt x="4237" y="4"/>
                      <a:pt x="4236" y="4"/>
                    </a:cubicBezTo>
                    <a:lnTo>
                      <a:pt x="4236" y="4"/>
                    </a:lnTo>
                    <a:cubicBezTo>
                      <a:pt x="4235" y="4"/>
                      <a:pt x="4234" y="4"/>
                      <a:pt x="4234" y="2"/>
                    </a:cubicBezTo>
                    <a:cubicBezTo>
                      <a:pt x="4234" y="1"/>
                      <a:pt x="4235" y="0"/>
                      <a:pt x="4236" y="0"/>
                    </a:cubicBezTo>
                    <a:close/>
                    <a:moveTo>
                      <a:pt x="4244" y="0"/>
                    </a:moveTo>
                    <a:lnTo>
                      <a:pt x="4244" y="0"/>
                    </a:lnTo>
                    <a:cubicBezTo>
                      <a:pt x="4245" y="0"/>
                      <a:pt x="4246" y="1"/>
                      <a:pt x="4246" y="2"/>
                    </a:cubicBezTo>
                    <a:cubicBezTo>
                      <a:pt x="4246" y="4"/>
                      <a:pt x="4245" y="4"/>
                      <a:pt x="4244" y="4"/>
                    </a:cubicBezTo>
                    <a:lnTo>
                      <a:pt x="4244" y="4"/>
                    </a:lnTo>
                    <a:cubicBezTo>
                      <a:pt x="4243" y="4"/>
                      <a:pt x="4242" y="4"/>
                      <a:pt x="4242" y="2"/>
                    </a:cubicBezTo>
                    <a:cubicBezTo>
                      <a:pt x="4242" y="1"/>
                      <a:pt x="4243" y="0"/>
                      <a:pt x="4244" y="0"/>
                    </a:cubicBezTo>
                    <a:close/>
                    <a:moveTo>
                      <a:pt x="4252" y="0"/>
                    </a:moveTo>
                    <a:lnTo>
                      <a:pt x="4252" y="0"/>
                    </a:lnTo>
                    <a:cubicBezTo>
                      <a:pt x="4253" y="0"/>
                      <a:pt x="4254" y="1"/>
                      <a:pt x="4254" y="2"/>
                    </a:cubicBezTo>
                    <a:cubicBezTo>
                      <a:pt x="4254" y="4"/>
                      <a:pt x="4253" y="4"/>
                      <a:pt x="4252" y="4"/>
                    </a:cubicBezTo>
                    <a:lnTo>
                      <a:pt x="4252" y="4"/>
                    </a:lnTo>
                    <a:cubicBezTo>
                      <a:pt x="4251" y="4"/>
                      <a:pt x="4250" y="4"/>
                      <a:pt x="4250" y="2"/>
                    </a:cubicBezTo>
                    <a:cubicBezTo>
                      <a:pt x="4250" y="1"/>
                      <a:pt x="4251" y="0"/>
                      <a:pt x="4252" y="0"/>
                    </a:cubicBezTo>
                    <a:close/>
                    <a:moveTo>
                      <a:pt x="4260" y="0"/>
                    </a:moveTo>
                    <a:lnTo>
                      <a:pt x="4260" y="0"/>
                    </a:lnTo>
                    <a:cubicBezTo>
                      <a:pt x="4261" y="0"/>
                      <a:pt x="4262" y="1"/>
                      <a:pt x="4262" y="2"/>
                    </a:cubicBezTo>
                    <a:cubicBezTo>
                      <a:pt x="4262" y="4"/>
                      <a:pt x="4261" y="4"/>
                      <a:pt x="4260" y="4"/>
                    </a:cubicBezTo>
                    <a:lnTo>
                      <a:pt x="4260" y="4"/>
                    </a:lnTo>
                    <a:cubicBezTo>
                      <a:pt x="4259" y="4"/>
                      <a:pt x="4258" y="4"/>
                      <a:pt x="4258" y="2"/>
                    </a:cubicBezTo>
                    <a:cubicBezTo>
                      <a:pt x="4258" y="1"/>
                      <a:pt x="4259" y="0"/>
                      <a:pt x="4260" y="0"/>
                    </a:cubicBezTo>
                    <a:close/>
                    <a:moveTo>
                      <a:pt x="4268" y="0"/>
                    </a:moveTo>
                    <a:lnTo>
                      <a:pt x="4268" y="0"/>
                    </a:lnTo>
                    <a:cubicBezTo>
                      <a:pt x="4269" y="0"/>
                      <a:pt x="4270" y="1"/>
                      <a:pt x="4270" y="2"/>
                    </a:cubicBezTo>
                    <a:cubicBezTo>
                      <a:pt x="4270" y="4"/>
                      <a:pt x="4269" y="4"/>
                      <a:pt x="4268" y="4"/>
                    </a:cubicBezTo>
                    <a:lnTo>
                      <a:pt x="4268" y="4"/>
                    </a:lnTo>
                    <a:cubicBezTo>
                      <a:pt x="4267" y="4"/>
                      <a:pt x="4266" y="4"/>
                      <a:pt x="4266" y="2"/>
                    </a:cubicBezTo>
                    <a:cubicBezTo>
                      <a:pt x="4266" y="1"/>
                      <a:pt x="4267" y="0"/>
                      <a:pt x="4268" y="0"/>
                    </a:cubicBezTo>
                    <a:close/>
                    <a:moveTo>
                      <a:pt x="4276" y="0"/>
                    </a:moveTo>
                    <a:lnTo>
                      <a:pt x="4276" y="0"/>
                    </a:lnTo>
                    <a:cubicBezTo>
                      <a:pt x="4277" y="0"/>
                      <a:pt x="4278" y="1"/>
                      <a:pt x="4278" y="2"/>
                    </a:cubicBezTo>
                    <a:cubicBezTo>
                      <a:pt x="4278" y="4"/>
                      <a:pt x="4277" y="4"/>
                      <a:pt x="4276" y="4"/>
                    </a:cubicBezTo>
                    <a:lnTo>
                      <a:pt x="4276" y="4"/>
                    </a:lnTo>
                    <a:cubicBezTo>
                      <a:pt x="4275" y="4"/>
                      <a:pt x="4274" y="4"/>
                      <a:pt x="4274" y="2"/>
                    </a:cubicBezTo>
                    <a:cubicBezTo>
                      <a:pt x="4274" y="1"/>
                      <a:pt x="4275" y="0"/>
                      <a:pt x="4276" y="0"/>
                    </a:cubicBezTo>
                    <a:close/>
                    <a:moveTo>
                      <a:pt x="4284" y="0"/>
                    </a:moveTo>
                    <a:lnTo>
                      <a:pt x="4284" y="0"/>
                    </a:lnTo>
                    <a:cubicBezTo>
                      <a:pt x="4285" y="0"/>
                      <a:pt x="4286" y="1"/>
                      <a:pt x="4286" y="2"/>
                    </a:cubicBezTo>
                    <a:cubicBezTo>
                      <a:pt x="4286" y="4"/>
                      <a:pt x="4285" y="4"/>
                      <a:pt x="4284" y="4"/>
                    </a:cubicBezTo>
                    <a:lnTo>
                      <a:pt x="4284" y="4"/>
                    </a:lnTo>
                    <a:cubicBezTo>
                      <a:pt x="4283" y="4"/>
                      <a:pt x="4282" y="4"/>
                      <a:pt x="4282" y="2"/>
                    </a:cubicBezTo>
                    <a:cubicBezTo>
                      <a:pt x="4282" y="1"/>
                      <a:pt x="4283" y="0"/>
                      <a:pt x="4284" y="0"/>
                    </a:cubicBezTo>
                    <a:close/>
                    <a:moveTo>
                      <a:pt x="4292" y="0"/>
                    </a:moveTo>
                    <a:lnTo>
                      <a:pt x="4292" y="0"/>
                    </a:lnTo>
                    <a:cubicBezTo>
                      <a:pt x="4293" y="0"/>
                      <a:pt x="4294" y="1"/>
                      <a:pt x="4294" y="2"/>
                    </a:cubicBezTo>
                    <a:cubicBezTo>
                      <a:pt x="4294" y="4"/>
                      <a:pt x="4293" y="4"/>
                      <a:pt x="4292" y="4"/>
                    </a:cubicBezTo>
                    <a:lnTo>
                      <a:pt x="4292" y="4"/>
                    </a:lnTo>
                    <a:cubicBezTo>
                      <a:pt x="4291" y="4"/>
                      <a:pt x="4290" y="4"/>
                      <a:pt x="4290" y="2"/>
                    </a:cubicBezTo>
                    <a:cubicBezTo>
                      <a:pt x="4290" y="1"/>
                      <a:pt x="4291" y="0"/>
                      <a:pt x="4292" y="0"/>
                    </a:cubicBezTo>
                    <a:close/>
                    <a:moveTo>
                      <a:pt x="4300" y="0"/>
                    </a:moveTo>
                    <a:lnTo>
                      <a:pt x="4300" y="0"/>
                    </a:lnTo>
                    <a:cubicBezTo>
                      <a:pt x="4301" y="0"/>
                      <a:pt x="4302" y="1"/>
                      <a:pt x="4302" y="2"/>
                    </a:cubicBezTo>
                    <a:cubicBezTo>
                      <a:pt x="4302" y="4"/>
                      <a:pt x="4301" y="4"/>
                      <a:pt x="4300" y="4"/>
                    </a:cubicBezTo>
                    <a:lnTo>
                      <a:pt x="4300" y="4"/>
                    </a:lnTo>
                    <a:cubicBezTo>
                      <a:pt x="4299" y="4"/>
                      <a:pt x="4298" y="4"/>
                      <a:pt x="4298" y="2"/>
                    </a:cubicBezTo>
                    <a:cubicBezTo>
                      <a:pt x="4298" y="1"/>
                      <a:pt x="4299" y="0"/>
                      <a:pt x="4300" y="0"/>
                    </a:cubicBezTo>
                    <a:close/>
                    <a:moveTo>
                      <a:pt x="4308" y="0"/>
                    </a:moveTo>
                    <a:lnTo>
                      <a:pt x="4308" y="0"/>
                    </a:lnTo>
                    <a:cubicBezTo>
                      <a:pt x="4309" y="0"/>
                      <a:pt x="4310" y="1"/>
                      <a:pt x="4310" y="2"/>
                    </a:cubicBezTo>
                    <a:cubicBezTo>
                      <a:pt x="4310" y="4"/>
                      <a:pt x="4309" y="4"/>
                      <a:pt x="4308" y="4"/>
                    </a:cubicBezTo>
                    <a:lnTo>
                      <a:pt x="4308" y="4"/>
                    </a:lnTo>
                    <a:cubicBezTo>
                      <a:pt x="4307" y="4"/>
                      <a:pt x="4306" y="4"/>
                      <a:pt x="4306" y="2"/>
                    </a:cubicBezTo>
                    <a:cubicBezTo>
                      <a:pt x="4306" y="1"/>
                      <a:pt x="4307" y="0"/>
                      <a:pt x="4308" y="0"/>
                    </a:cubicBezTo>
                    <a:close/>
                    <a:moveTo>
                      <a:pt x="4316" y="0"/>
                    </a:moveTo>
                    <a:lnTo>
                      <a:pt x="4316" y="0"/>
                    </a:lnTo>
                    <a:cubicBezTo>
                      <a:pt x="4317" y="0"/>
                      <a:pt x="4318" y="1"/>
                      <a:pt x="4318" y="2"/>
                    </a:cubicBezTo>
                    <a:cubicBezTo>
                      <a:pt x="4318" y="4"/>
                      <a:pt x="4317" y="4"/>
                      <a:pt x="4316" y="4"/>
                    </a:cubicBezTo>
                    <a:lnTo>
                      <a:pt x="4316" y="4"/>
                    </a:lnTo>
                    <a:cubicBezTo>
                      <a:pt x="4315" y="4"/>
                      <a:pt x="4314" y="4"/>
                      <a:pt x="4314" y="2"/>
                    </a:cubicBezTo>
                    <a:cubicBezTo>
                      <a:pt x="4314" y="1"/>
                      <a:pt x="4315" y="0"/>
                      <a:pt x="4316" y="0"/>
                    </a:cubicBezTo>
                    <a:close/>
                    <a:moveTo>
                      <a:pt x="4324" y="0"/>
                    </a:moveTo>
                    <a:lnTo>
                      <a:pt x="4324" y="0"/>
                    </a:lnTo>
                    <a:cubicBezTo>
                      <a:pt x="4325" y="0"/>
                      <a:pt x="4326" y="1"/>
                      <a:pt x="4326" y="2"/>
                    </a:cubicBezTo>
                    <a:cubicBezTo>
                      <a:pt x="4326" y="4"/>
                      <a:pt x="4325" y="4"/>
                      <a:pt x="4324" y="4"/>
                    </a:cubicBezTo>
                    <a:lnTo>
                      <a:pt x="4324" y="4"/>
                    </a:lnTo>
                    <a:cubicBezTo>
                      <a:pt x="4323" y="4"/>
                      <a:pt x="4322" y="4"/>
                      <a:pt x="4322" y="2"/>
                    </a:cubicBezTo>
                    <a:cubicBezTo>
                      <a:pt x="4322" y="1"/>
                      <a:pt x="4323" y="0"/>
                      <a:pt x="4324" y="0"/>
                    </a:cubicBezTo>
                    <a:close/>
                    <a:moveTo>
                      <a:pt x="4332" y="0"/>
                    </a:moveTo>
                    <a:lnTo>
                      <a:pt x="4332" y="0"/>
                    </a:lnTo>
                    <a:cubicBezTo>
                      <a:pt x="4333" y="0"/>
                      <a:pt x="4334" y="1"/>
                      <a:pt x="4334" y="2"/>
                    </a:cubicBezTo>
                    <a:cubicBezTo>
                      <a:pt x="4334" y="4"/>
                      <a:pt x="4333" y="4"/>
                      <a:pt x="4332" y="4"/>
                    </a:cubicBezTo>
                    <a:lnTo>
                      <a:pt x="4332" y="4"/>
                    </a:lnTo>
                    <a:cubicBezTo>
                      <a:pt x="4331" y="4"/>
                      <a:pt x="4330" y="4"/>
                      <a:pt x="4330" y="2"/>
                    </a:cubicBezTo>
                    <a:cubicBezTo>
                      <a:pt x="4330" y="1"/>
                      <a:pt x="4331" y="0"/>
                      <a:pt x="4332" y="0"/>
                    </a:cubicBezTo>
                    <a:close/>
                    <a:moveTo>
                      <a:pt x="4340" y="0"/>
                    </a:moveTo>
                    <a:lnTo>
                      <a:pt x="4340" y="0"/>
                    </a:lnTo>
                    <a:cubicBezTo>
                      <a:pt x="4341" y="0"/>
                      <a:pt x="4342" y="1"/>
                      <a:pt x="4342" y="2"/>
                    </a:cubicBezTo>
                    <a:cubicBezTo>
                      <a:pt x="4342" y="4"/>
                      <a:pt x="4341" y="4"/>
                      <a:pt x="4340" y="4"/>
                    </a:cubicBezTo>
                    <a:lnTo>
                      <a:pt x="4340" y="4"/>
                    </a:lnTo>
                    <a:cubicBezTo>
                      <a:pt x="4339" y="4"/>
                      <a:pt x="4338" y="4"/>
                      <a:pt x="4338" y="2"/>
                    </a:cubicBezTo>
                    <a:cubicBezTo>
                      <a:pt x="4338" y="1"/>
                      <a:pt x="4339" y="0"/>
                      <a:pt x="4340" y="0"/>
                    </a:cubicBezTo>
                    <a:close/>
                    <a:moveTo>
                      <a:pt x="4348" y="0"/>
                    </a:moveTo>
                    <a:lnTo>
                      <a:pt x="4348" y="0"/>
                    </a:lnTo>
                    <a:cubicBezTo>
                      <a:pt x="4349" y="0"/>
                      <a:pt x="4350" y="1"/>
                      <a:pt x="4350" y="2"/>
                    </a:cubicBezTo>
                    <a:cubicBezTo>
                      <a:pt x="4350" y="4"/>
                      <a:pt x="4349" y="4"/>
                      <a:pt x="4348" y="4"/>
                    </a:cubicBezTo>
                    <a:lnTo>
                      <a:pt x="4348" y="4"/>
                    </a:lnTo>
                    <a:cubicBezTo>
                      <a:pt x="4347" y="4"/>
                      <a:pt x="4346" y="4"/>
                      <a:pt x="4346" y="2"/>
                    </a:cubicBezTo>
                    <a:cubicBezTo>
                      <a:pt x="4346" y="1"/>
                      <a:pt x="4347" y="0"/>
                      <a:pt x="4348" y="0"/>
                    </a:cubicBezTo>
                    <a:close/>
                    <a:moveTo>
                      <a:pt x="4356" y="0"/>
                    </a:moveTo>
                    <a:lnTo>
                      <a:pt x="4356" y="0"/>
                    </a:lnTo>
                    <a:cubicBezTo>
                      <a:pt x="4357" y="0"/>
                      <a:pt x="4358" y="1"/>
                      <a:pt x="4358" y="2"/>
                    </a:cubicBezTo>
                    <a:cubicBezTo>
                      <a:pt x="4358" y="4"/>
                      <a:pt x="4357" y="4"/>
                      <a:pt x="4356" y="4"/>
                    </a:cubicBezTo>
                    <a:lnTo>
                      <a:pt x="4356" y="4"/>
                    </a:lnTo>
                    <a:cubicBezTo>
                      <a:pt x="4355" y="4"/>
                      <a:pt x="4354" y="4"/>
                      <a:pt x="4354" y="2"/>
                    </a:cubicBezTo>
                    <a:cubicBezTo>
                      <a:pt x="4354" y="1"/>
                      <a:pt x="4355" y="0"/>
                      <a:pt x="4356" y="0"/>
                    </a:cubicBezTo>
                    <a:close/>
                    <a:moveTo>
                      <a:pt x="4364" y="0"/>
                    </a:moveTo>
                    <a:lnTo>
                      <a:pt x="4364" y="0"/>
                    </a:lnTo>
                    <a:cubicBezTo>
                      <a:pt x="4365" y="0"/>
                      <a:pt x="4366" y="1"/>
                      <a:pt x="4366" y="2"/>
                    </a:cubicBezTo>
                    <a:cubicBezTo>
                      <a:pt x="4366" y="4"/>
                      <a:pt x="4365" y="4"/>
                      <a:pt x="4364" y="4"/>
                    </a:cubicBezTo>
                    <a:lnTo>
                      <a:pt x="4364" y="4"/>
                    </a:lnTo>
                    <a:cubicBezTo>
                      <a:pt x="4363" y="4"/>
                      <a:pt x="4362" y="4"/>
                      <a:pt x="4362" y="2"/>
                    </a:cubicBezTo>
                    <a:cubicBezTo>
                      <a:pt x="4362" y="1"/>
                      <a:pt x="4363" y="0"/>
                      <a:pt x="4364" y="0"/>
                    </a:cubicBezTo>
                    <a:close/>
                    <a:moveTo>
                      <a:pt x="4372" y="0"/>
                    </a:moveTo>
                    <a:lnTo>
                      <a:pt x="4372" y="0"/>
                    </a:lnTo>
                    <a:cubicBezTo>
                      <a:pt x="4373" y="0"/>
                      <a:pt x="4374" y="1"/>
                      <a:pt x="4374" y="2"/>
                    </a:cubicBezTo>
                    <a:cubicBezTo>
                      <a:pt x="4374" y="4"/>
                      <a:pt x="4373" y="4"/>
                      <a:pt x="4372" y="4"/>
                    </a:cubicBezTo>
                    <a:lnTo>
                      <a:pt x="4372" y="4"/>
                    </a:lnTo>
                    <a:cubicBezTo>
                      <a:pt x="4371" y="4"/>
                      <a:pt x="4370" y="4"/>
                      <a:pt x="4370" y="2"/>
                    </a:cubicBezTo>
                    <a:cubicBezTo>
                      <a:pt x="4370" y="1"/>
                      <a:pt x="4371" y="0"/>
                      <a:pt x="4372" y="0"/>
                    </a:cubicBezTo>
                    <a:close/>
                    <a:moveTo>
                      <a:pt x="4380" y="0"/>
                    </a:moveTo>
                    <a:lnTo>
                      <a:pt x="4380" y="0"/>
                    </a:lnTo>
                    <a:cubicBezTo>
                      <a:pt x="4381" y="0"/>
                      <a:pt x="4382" y="1"/>
                      <a:pt x="4382" y="2"/>
                    </a:cubicBezTo>
                    <a:cubicBezTo>
                      <a:pt x="4382" y="4"/>
                      <a:pt x="4381" y="4"/>
                      <a:pt x="4380" y="4"/>
                    </a:cubicBezTo>
                    <a:lnTo>
                      <a:pt x="4380" y="4"/>
                    </a:lnTo>
                    <a:cubicBezTo>
                      <a:pt x="4379" y="4"/>
                      <a:pt x="4378" y="4"/>
                      <a:pt x="4378" y="2"/>
                    </a:cubicBezTo>
                    <a:cubicBezTo>
                      <a:pt x="4378" y="1"/>
                      <a:pt x="4379" y="0"/>
                      <a:pt x="4380" y="0"/>
                    </a:cubicBezTo>
                    <a:close/>
                    <a:moveTo>
                      <a:pt x="4388" y="0"/>
                    </a:moveTo>
                    <a:lnTo>
                      <a:pt x="4388" y="0"/>
                    </a:lnTo>
                    <a:cubicBezTo>
                      <a:pt x="4389" y="0"/>
                      <a:pt x="4390" y="1"/>
                      <a:pt x="4390" y="2"/>
                    </a:cubicBezTo>
                    <a:cubicBezTo>
                      <a:pt x="4390" y="4"/>
                      <a:pt x="4389" y="4"/>
                      <a:pt x="4388" y="4"/>
                    </a:cubicBezTo>
                    <a:lnTo>
                      <a:pt x="4388" y="4"/>
                    </a:lnTo>
                    <a:cubicBezTo>
                      <a:pt x="4387" y="4"/>
                      <a:pt x="4386" y="4"/>
                      <a:pt x="4386" y="2"/>
                    </a:cubicBezTo>
                    <a:cubicBezTo>
                      <a:pt x="4386" y="1"/>
                      <a:pt x="4387" y="0"/>
                      <a:pt x="4388" y="0"/>
                    </a:cubicBezTo>
                    <a:close/>
                    <a:moveTo>
                      <a:pt x="4396" y="0"/>
                    </a:moveTo>
                    <a:lnTo>
                      <a:pt x="4396" y="0"/>
                    </a:lnTo>
                    <a:cubicBezTo>
                      <a:pt x="4397" y="0"/>
                      <a:pt x="4398" y="1"/>
                      <a:pt x="4398" y="2"/>
                    </a:cubicBezTo>
                    <a:cubicBezTo>
                      <a:pt x="4398" y="4"/>
                      <a:pt x="4397" y="4"/>
                      <a:pt x="4396" y="4"/>
                    </a:cubicBezTo>
                    <a:lnTo>
                      <a:pt x="4396" y="4"/>
                    </a:lnTo>
                    <a:cubicBezTo>
                      <a:pt x="4395" y="4"/>
                      <a:pt x="4394" y="4"/>
                      <a:pt x="4394" y="2"/>
                    </a:cubicBezTo>
                    <a:cubicBezTo>
                      <a:pt x="4394" y="1"/>
                      <a:pt x="4395" y="0"/>
                      <a:pt x="4396" y="0"/>
                    </a:cubicBezTo>
                    <a:close/>
                    <a:moveTo>
                      <a:pt x="4404" y="0"/>
                    </a:moveTo>
                    <a:lnTo>
                      <a:pt x="4404" y="0"/>
                    </a:lnTo>
                    <a:cubicBezTo>
                      <a:pt x="4405" y="0"/>
                      <a:pt x="4406" y="1"/>
                      <a:pt x="4406" y="2"/>
                    </a:cubicBezTo>
                    <a:cubicBezTo>
                      <a:pt x="4406" y="4"/>
                      <a:pt x="4405" y="4"/>
                      <a:pt x="4404" y="4"/>
                    </a:cubicBezTo>
                    <a:lnTo>
                      <a:pt x="4404" y="4"/>
                    </a:lnTo>
                    <a:cubicBezTo>
                      <a:pt x="4403" y="4"/>
                      <a:pt x="4402" y="4"/>
                      <a:pt x="4402" y="2"/>
                    </a:cubicBezTo>
                    <a:cubicBezTo>
                      <a:pt x="4402" y="1"/>
                      <a:pt x="4403" y="0"/>
                      <a:pt x="4404" y="0"/>
                    </a:cubicBezTo>
                    <a:close/>
                    <a:moveTo>
                      <a:pt x="4412" y="0"/>
                    </a:moveTo>
                    <a:lnTo>
                      <a:pt x="4412" y="0"/>
                    </a:lnTo>
                    <a:cubicBezTo>
                      <a:pt x="4413" y="0"/>
                      <a:pt x="4414" y="1"/>
                      <a:pt x="4414" y="2"/>
                    </a:cubicBezTo>
                    <a:cubicBezTo>
                      <a:pt x="4414" y="4"/>
                      <a:pt x="4413" y="4"/>
                      <a:pt x="4412" y="4"/>
                    </a:cubicBezTo>
                    <a:lnTo>
                      <a:pt x="4412" y="4"/>
                    </a:lnTo>
                    <a:cubicBezTo>
                      <a:pt x="4411" y="4"/>
                      <a:pt x="4410" y="4"/>
                      <a:pt x="4410" y="2"/>
                    </a:cubicBezTo>
                    <a:cubicBezTo>
                      <a:pt x="4410" y="1"/>
                      <a:pt x="4411" y="0"/>
                      <a:pt x="4412" y="0"/>
                    </a:cubicBezTo>
                    <a:close/>
                    <a:moveTo>
                      <a:pt x="4420" y="0"/>
                    </a:moveTo>
                    <a:lnTo>
                      <a:pt x="4420" y="0"/>
                    </a:lnTo>
                    <a:cubicBezTo>
                      <a:pt x="4421" y="0"/>
                      <a:pt x="4422" y="1"/>
                      <a:pt x="4422" y="2"/>
                    </a:cubicBezTo>
                    <a:cubicBezTo>
                      <a:pt x="4422" y="4"/>
                      <a:pt x="4421" y="4"/>
                      <a:pt x="4420" y="4"/>
                    </a:cubicBezTo>
                    <a:lnTo>
                      <a:pt x="4420" y="4"/>
                    </a:lnTo>
                    <a:cubicBezTo>
                      <a:pt x="4419" y="4"/>
                      <a:pt x="4418" y="4"/>
                      <a:pt x="4418" y="2"/>
                    </a:cubicBezTo>
                    <a:cubicBezTo>
                      <a:pt x="4418" y="1"/>
                      <a:pt x="4419" y="0"/>
                      <a:pt x="4420" y="0"/>
                    </a:cubicBezTo>
                    <a:close/>
                    <a:moveTo>
                      <a:pt x="4428" y="0"/>
                    </a:moveTo>
                    <a:lnTo>
                      <a:pt x="4428" y="0"/>
                    </a:lnTo>
                    <a:cubicBezTo>
                      <a:pt x="4429" y="0"/>
                      <a:pt x="4430" y="1"/>
                      <a:pt x="4430" y="2"/>
                    </a:cubicBezTo>
                    <a:cubicBezTo>
                      <a:pt x="4430" y="4"/>
                      <a:pt x="4429" y="4"/>
                      <a:pt x="4428" y="4"/>
                    </a:cubicBezTo>
                    <a:lnTo>
                      <a:pt x="4428" y="4"/>
                    </a:lnTo>
                    <a:cubicBezTo>
                      <a:pt x="4427" y="4"/>
                      <a:pt x="4426" y="4"/>
                      <a:pt x="4426" y="2"/>
                    </a:cubicBezTo>
                    <a:cubicBezTo>
                      <a:pt x="4426" y="1"/>
                      <a:pt x="4427" y="0"/>
                      <a:pt x="4428" y="0"/>
                    </a:cubicBezTo>
                    <a:close/>
                    <a:moveTo>
                      <a:pt x="4436" y="0"/>
                    </a:moveTo>
                    <a:lnTo>
                      <a:pt x="4436" y="0"/>
                    </a:lnTo>
                    <a:cubicBezTo>
                      <a:pt x="4437" y="0"/>
                      <a:pt x="4438" y="1"/>
                      <a:pt x="4438" y="2"/>
                    </a:cubicBezTo>
                    <a:cubicBezTo>
                      <a:pt x="4438" y="4"/>
                      <a:pt x="4437" y="4"/>
                      <a:pt x="4436" y="4"/>
                    </a:cubicBezTo>
                    <a:lnTo>
                      <a:pt x="4436" y="4"/>
                    </a:lnTo>
                    <a:cubicBezTo>
                      <a:pt x="4435" y="4"/>
                      <a:pt x="4434" y="4"/>
                      <a:pt x="4434" y="2"/>
                    </a:cubicBezTo>
                    <a:cubicBezTo>
                      <a:pt x="4434" y="1"/>
                      <a:pt x="4435" y="0"/>
                      <a:pt x="4436" y="0"/>
                    </a:cubicBezTo>
                    <a:close/>
                    <a:moveTo>
                      <a:pt x="4444" y="0"/>
                    </a:moveTo>
                    <a:lnTo>
                      <a:pt x="4444" y="0"/>
                    </a:lnTo>
                    <a:cubicBezTo>
                      <a:pt x="4445" y="0"/>
                      <a:pt x="4446" y="1"/>
                      <a:pt x="4446" y="2"/>
                    </a:cubicBezTo>
                    <a:cubicBezTo>
                      <a:pt x="4446" y="4"/>
                      <a:pt x="4445" y="4"/>
                      <a:pt x="4444" y="4"/>
                    </a:cubicBezTo>
                    <a:lnTo>
                      <a:pt x="4444" y="4"/>
                    </a:lnTo>
                    <a:cubicBezTo>
                      <a:pt x="4443" y="4"/>
                      <a:pt x="4442" y="4"/>
                      <a:pt x="4442" y="2"/>
                    </a:cubicBezTo>
                    <a:cubicBezTo>
                      <a:pt x="4442" y="1"/>
                      <a:pt x="4443" y="0"/>
                      <a:pt x="4444" y="0"/>
                    </a:cubicBezTo>
                    <a:close/>
                    <a:moveTo>
                      <a:pt x="4452" y="0"/>
                    </a:moveTo>
                    <a:lnTo>
                      <a:pt x="4452" y="0"/>
                    </a:lnTo>
                    <a:cubicBezTo>
                      <a:pt x="4453" y="0"/>
                      <a:pt x="4454" y="1"/>
                      <a:pt x="4454" y="2"/>
                    </a:cubicBezTo>
                    <a:cubicBezTo>
                      <a:pt x="4454" y="4"/>
                      <a:pt x="4453" y="4"/>
                      <a:pt x="4452" y="4"/>
                    </a:cubicBezTo>
                    <a:lnTo>
                      <a:pt x="4452" y="4"/>
                    </a:lnTo>
                    <a:cubicBezTo>
                      <a:pt x="4451" y="4"/>
                      <a:pt x="4450" y="4"/>
                      <a:pt x="4450" y="2"/>
                    </a:cubicBezTo>
                    <a:cubicBezTo>
                      <a:pt x="4450" y="1"/>
                      <a:pt x="4451" y="0"/>
                      <a:pt x="4452" y="0"/>
                    </a:cubicBezTo>
                    <a:close/>
                    <a:moveTo>
                      <a:pt x="4460" y="0"/>
                    </a:moveTo>
                    <a:lnTo>
                      <a:pt x="4460" y="0"/>
                    </a:lnTo>
                    <a:cubicBezTo>
                      <a:pt x="4461" y="0"/>
                      <a:pt x="4462" y="1"/>
                      <a:pt x="4462" y="2"/>
                    </a:cubicBezTo>
                    <a:cubicBezTo>
                      <a:pt x="4462" y="4"/>
                      <a:pt x="4461" y="4"/>
                      <a:pt x="4460" y="4"/>
                    </a:cubicBezTo>
                    <a:lnTo>
                      <a:pt x="4460" y="4"/>
                    </a:lnTo>
                    <a:cubicBezTo>
                      <a:pt x="4459" y="4"/>
                      <a:pt x="4458" y="4"/>
                      <a:pt x="4458" y="2"/>
                    </a:cubicBezTo>
                    <a:cubicBezTo>
                      <a:pt x="4458" y="1"/>
                      <a:pt x="4459" y="0"/>
                      <a:pt x="4460" y="0"/>
                    </a:cubicBezTo>
                    <a:close/>
                    <a:moveTo>
                      <a:pt x="4468" y="0"/>
                    </a:moveTo>
                    <a:lnTo>
                      <a:pt x="4468" y="0"/>
                    </a:lnTo>
                    <a:cubicBezTo>
                      <a:pt x="4469" y="0"/>
                      <a:pt x="4470" y="1"/>
                      <a:pt x="4470" y="2"/>
                    </a:cubicBezTo>
                    <a:cubicBezTo>
                      <a:pt x="4470" y="4"/>
                      <a:pt x="4469" y="4"/>
                      <a:pt x="4468" y="4"/>
                    </a:cubicBezTo>
                    <a:lnTo>
                      <a:pt x="4468" y="4"/>
                    </a:lnTo>
                    <a:cubicBezTo>
                      <a:pt x="4467" y="4"/>
                      <a:pt x="4466" y="4"/>
                      <a:pt x="4466" y="2"/>
                    </a:cubicBezTo>
                    <a:cubicBezTo>
                      <a:pt x="4466" y="1"/>
                      <a:pt x="4467" y="0"/>
                      <a:pt x="4468" y="0"/>
                    </a:cubicBezTo>
                    <a:close/>
                    <a:moveTo>
                      <a:pt x="4476" y="0"/>
                    </a:moveTo>
                    <a:lnTo>
                      <a:pt x="4476" y="0"/>
                    </a:lnTo>
                    <a:cubicBezTo>
                      <a:pt x="4477" y="0"/>
                      <a:pt x="4478" y="1"/>
                      <a:pt x="4478" y="2"/>
                    </a:cubicBezTo>
                    <a:cubicBezTo>
                      <a:pt x="4478" y="4"/>
                      <a:pt x="4477" y="4"/>
                      <a:pt x="4476" y="4"/>
                    </a:cubicBezTo>
                    <a:lnTo>
                      <a:pt x="4476" y="4"/>
                    </a:lnTo>
                    <a:cubicBezTo>
                      <a:pt x="4475" y="4"/>
                      <a:pt x="4474" y="4"/>
                      <a:pt x="4474" y="2"/>
                    </a:cubicBezTo>
                    <a:cubicBezTo>
                      <a:pt x="4474" y="1"/>
                      <a:pt x="4475" y="0"/>
                      <a:pt x="4476" y="0"/>
                    </a:cubicBezTo>
                    <a:close/>
                    <a:moveTo>
                      <a:pt x="4484" y="0"/>
                    </a:moveTo>
                    <a:lnTo>
                      <a:pt x="4484" y="0"/>
                    </a:lnTo>
                    <a:cubicBezTo>
                      <a:pt x="4485" y="0"/>
                      <a:pt x="4486" y="1"/>
                      <a:pt x="4486" y="2"/>
                    </a:cubicBezTo>
                    <a:cubicBezTo>
                      <a:pt x="4486" y="4"/>
                      <a:pt x="4485" y="4"/>
                      <a:pt x="4484" y="4"/>
                    </a:cubicBezTo>
                    <a:lnTo>
                      <a:pt x="4484" y="4"/>
                    </a:lnTo>
                    <a:cubicBezTo>
                      <a:pt x="4483" y="4"/>
                      <a:pt x="4482" y="4"/>
                      <a:pt x="4482" y="2"/>
                    </a:cubicBezTo>
                    <a:cubicBezTo>
                      <a:pt x="4482" y="1"/>
                      <a:pt x="4483" y="0"/>
                      <a:pt x="4484" y="0"/>
                    </a:cubicBezTo>
                    <a:close/>
                    <a:moveTo>
                      <a:pt x="4492" y="0"/>
                    </a:moveTo>
                    <a:lnTo>
                      <a:pt x="4492" y="0"/>
                    </a:lnTo>
                    <a:cubicBezTo>
                      <a:pt x="4493" y="0"/>
                      <a:pt x="4494" y="1"/>
                      <a:pt x="4494" y="2"/>
                    </a:cubicBezTo>
                    <a:cubicBezTo>
                      <a:pt x="4494" y="4"/>
                      <a:pt x="4493" y="4"/>
                      <a:pt x="4492" y="4"/>
                    </a:cubicBezTo>
                    <a:lnTo>
                      <a:pt x="4492" y="4"/>
                    </a:lnTo>
                    <a:cubicBezTo>
                      <a:pt x="4491" y="4"/>
                      <a:pt x="4490" y="4"/>
                      <a:pt x="4490" y="2"/>
                    </a:cubicBezTo>
                    <a:cubicBezTo>
                      <a:pt x="4490" y="1"/>
                      <a:pt x="4491" y="0"/>
                      <a:pt x="4492" y="0"/>
                    </a:cubicBezTo>
                    <a:close/>
                    <a:moveTo>
                      <a:pt x="4500" y="0"/>
                    </a:moveTo>
                    <a:lnTo>
                      <a:pt x="4500" y="0"/>
                    </a:lnTo>
                    <a:cubicBezTo>
                      <a:pt x="4501" y="0"/>
                      <a:pt x="4502" y="1"/>
                      <a:pt x="4502" y="2"/>
                    </a:cubicBezTo>
                    <a:cubicBezTo>
                      <a:pt x="4502" y="4"/>
                      <a:pt x="4501" y="4"/>
                      <a:pt x="4500" y="4"/>
                    </a:cubicBezTo>
                    <a:lnTo>
                      <a:pt x="4500" y="4"/>
                    </a:lnTo>
                    <a:cubicBezTo>
                      <a:pt x="4499" y="4"/>
                      <a:pt x="4498" y="4"/>
                      <a:pt x="4498" y="2"/>
                    </a:cubicBezTo>
                    <a:cubicBezTo>
                      <a:pt x="4498" y="1"/>
                      <a:pt x="4499" y="0"/>
                      <a:pt x="4500" y="0"/>
                    </a:cubicBezTo>
                    <a:close/>
                    <a:moveTo>
                      <a:pt x="4508" y="0"/>
                    </a:moveTo>
                    <a:lnTo>
                      <a:pt x="4508" y="0"/>
                    </a:lnTo>
                    <a:cubicBezTo>
                      <a:pt x="4509" y="0"/>
                      <a:pt x="4510" y="1"/>
                      <a:pt x="4510" y="2"/>
                    </a:cubicBezTo>
                    <a:cubicBezTo>
                      <a:pt x="4510" y="4"/>
                      <a:pt x="4509" y="4"/>
                      <a:pt x="4508" y="4"/>
                    </a:cubicBezTo>
                    <a:lnTo>
                      <a:pt x="4508" y="4"/>
                    </a:lnTo>
                    <a:cubicBezTo>
                      <a:pt x="4507" y="4"/>
                      <a:pt x="4506" y="4"/>
                      <a:pt x="4506" y="2"/>
                    </a:cubicBezTo>
                    <a:cubicBezTo>
                      <a:pt x="4506" y="1"/>
                      <a:pt x="4507" y="0"/>
                      <a:pt x="4508" y="0"/>
                    </a:cubicBezTo>
                    <a:close/>
                    <a:moveTo>
                      <a:pt x="4516" y="0"/>
                    </a:moveTo>
                    <a:lnTo>
                      <a:pt x="4516" y="0"/>
                    </a:lnTo>
                    <a:cubicBezTo>
                      <a:pt x="4517" y="0"/>
                      <a:pt x="4518" y="1"/>
                      <a:pt x="4518" y="2"/>
                    </a:cubicBezTo>
                    <a:cubicBezTo>
                      <a:pt x="4518" y="4"/>
                      <a:pt x="4517" y="4"/>
                      <a:pt x="4516" y="4"/>
                    </a:cubicBezTo>
                    <a:lnTo>
                      <a:pt x="4516" y="4"/>
                    </a:lnTo>
                    <a:cubicBezTo>
                      <a:pt x="4515" y="4"/>
                      <a:pt x="4514" y="4"/>
                      <a:pt x="4514" y="2"/>
                    </a:cubicBezTo>
                    <a:cubicBezTo>
                      <a:pt x="4514" y="1"/>
                      <a:pt x="4515" y="0"/>
                      <a:pt x="4516" y="0"/>
                    </a:cubicBezTo>
                    <a:close/>
                    <a:moveTo>
                      <a:pt x="4524" y="0"/>
                    </a:moveTo>
                    <a:lnTo>
                      <a:pt x="4524" y="0"/>
                    </a:lnTo>
                    <a:cubicBezTo>
                      <a:pt x="4525" y="0"/>
                      <a:pt x="4526" y="1"/>
                      <a:pt x="4526" y="2"/>
                    </a:cubicBezTo>
                    <a:cubicBezTo>
                      <a:pt x="4526" y="4"/>
                      <a:pt x="4525" y="4"/>
                      <a:pt x="4524" y="4"/>
                    </a:cubicBezTo>
                    <a:lnTo>
                      <a:pt x="4524" y="4"/>
                    </a:lnTo>
                    <a:cubicBezTo>
                      <a:pt x="4523" y="4"/>
                      <a:pt x="4522" y="4"/>
                      <a:pt x="4522" y="2"/>
                    </a:cubicBezTo>
                    <a:cubicBezTo>
                      <a:pt x="4522" y="1"/>
                      <a:pt x="4523" y="0"/>
                      <a:pt x="4524" y="0"/>
                    </a:cubicBezTo>
                    <a:close/>
                    <a:moveTo>
                      <a:pt x="4532" y="0"/>
                    </a:moveTo>
                    <a:lnTo>
                      <a:pt x="4532" y="0"/>
                    </a:lnTo>
                    <a:cubicBezTo>
                      <a:pt x="4533" y="0"/>
                      <a:pt x="4534" y="1"/>
                      <a:pt x="4534" y="2"/>
                    </a:cubicBezTo>
                    <a:cubicBezTo>
                      <a:pt x="4534" y="4"/>
                      <a:pt x="4533" y="4"/>
                      <a:pt x="4532" y="4"/>
                    </a:cubicBezTo>
                    <a:lnTo>
                      <a:pt x="4532" y="4"/>
                    </a:lnTo>
                    <a:cubicBezTo>
                      <a:pt x="4531" y="4"/>
                      <a:pt x="4530" y="4"/>
                      <a:pt x="4530" y="2"/>
                    </a:cubicBezTo>
                    <a:cubicBezTo>
                      <a:pt x="4530" y="1"/>
                      <a:pt x="4531" y="0"/>
                      <a:pt x="4532" y="0"/>
                    </a:cubicBezTo>
                    <a:close/>
                    <a:moveTo>
                      <a:pt x="4540" y="0"/>
                    </a:moveTo>
                    <a:lnTo>
                      <a:pt x="4540" y="0"/>
                    </a:lnTo>
                    <a:cubicBezTo>
                      <a:pt x="4541" y="0"/>
                      <a:pt x="4542" y="1"/>
                      <a:pt x="4542" y="2"/>
                    </a:cubicBezTo>
                    <a:cubicBezTo>
                      <a:pt x="4542" y="4"/>
                      <a:pt x="4541" y="4"/>
                      <a:pt x="4540" y="4"/>
                    </a:cubicBezTo>
                    <a:lnTo>
                      <a:pt x="4540" y="4"/>
                    </a:lnTo>
                    <a:cubicBezTo>
                      <a:pt x="4539" y="4"/>
                      <a:pt x="4538" y="4"/>
                      <a:pt x="4538" y="2"/>
                    </a:cubicBezTo>
                    <a:cubicBezTo>
                      <a:pt x="4538" y="1"/>
                      <a:pt x="4539" y="0"/>
                      <a:pt x="4540" y="0"/>
                    </a:cubicBezTo>
                    <a:close/>
                    <a:moveTo>
                      <a:pt x="4548" y="0"/>
                    </a:moveTo>
                    <a:lnTo>
                      <a:pt x="4548" y="0"/>
                    </a:lnTo>
                    <a:cubicBezTo>
                      <a:pt x="4549" y="0"/>
                      <a:pt x="4550" y="1"/>
                      <a:pt x="4550" y="2"/>
                    </a:cubicBezTo>
                    <a:cubicBezTo>
                      <a:pt x="4550" y="4"/>
                      <a:pt x="4549" y="4"/>
                      <a:pt x="4548" y="4"/>
                    </a:cubicBezTo>
                    <a:lnTo>
                      <a:pt x="4548" y="4"/>
                    </a:lnTo>
                    <a:cubicBezTo>
                      <a:pt x="4547" y="4"/>
                      <a:pt x="4546" y="4"/>
                      <a:pt x="4546" y="2"/>
                    </a:cubicBezTo>
                    <a:cubicBezTo>
                      <a:pt x="4546" y="1"/>
                      <a:pt x="4547" y="0"/>
                      <a:pt x="4548" y="0"/>
                    </a:cubicBezTo>
                    <a:close/>
                    <a:moveTo>
                      <a:pt x="4556" y="0"/>
                    </a:moveTo>
                    <a:lnTo>
                      <a:pt x="4556" y="0"/>
                    </a:lnTo>
                    <a:cubicBezTo>
                      <a:pt x="4557" y="0"/>
                      <a:pt x="4558" y="1"/>
                      <a:pt x="4558" y="2"/>
                    </a:cubicBezTo>
                    <a:cubicBezTo>
                      <a:pt x="4558" y="4"/>
                      <a:pt x="4557" y="4"/>
                      <a:pt x="4556" y="4"/>
                    </a:cubicBezTo>
                    <a:lnTo>
                      <a:pt x="4556" y="4"/>
                    </a:lnTo>
                    <a:cubicBezTo>
                      <a:pt x="4555" y="4"/>
                      <a:pt x="4554" y="4"/>
                      <a:pt x="4554" y="2"/>
                    </a:cubicBezTo>
                    <a:cubicBezTo>
                      <a:pt x="4554" y="1"/>
                      <a:pt x="4555" y="0"/>
                      <a:pt x="4556" y="0"/>
                    </a:cubicBezTo>
                    <a:close/>
                    <a:moveTo>
                      <a:pt x="4564" y="0"/>
                    </a:moveTo>
                    <a:lnTo>
                      <a:pt x="4564" y="0"/>
                    </a:lnTo>
                    <a:cubicBezTo>
                      <a:pt x="4565" y="0"/>
                      <a:pt x="4566" y="1"/>
                      <a:pt x="4566" y="2"/>
                    </a:cubicBezTo>
                    <a:cubicBezTo>
                      <a:pt x="4566" y="4"/>
                      <a:pt x="4565" y="4"/>
                      <a:pt x="4564" y="4"/>
                    </a:cubicBezTo>
                    <a:lnTo>
                      <a:pt x="4564" y="4"/>
                    </a:lnTo>
                    <a:cubicBezTo>
                      <a:pt x="4563" y="4"/>
                      <a:pt x="4562" y="4"/>
                      <a:pt x="4562" y="2"/>
                    </a:cubicBezTo>
                    <a:cubicBezTo>
                      <a:pt x="4562" y="1"/>
                      <a:pt x="4563" y="0"/>
                      <a:pt x="4564" y="0"/>
                    </a:cubicBezTo>
                    <a:close/>
                    <a:moveTo>
                      <a:pt x="4572" y="0"/>
                    </a:moveTo>
                    <a:lnTo>
                      <a:pt x="4572" y="0"/>
                    </a:lnTo>
                    <a:cubicBezTo>
                      <a:pt x="4573" y="0"/>
                      <a:pt x="4574" y="1"/>
                      <a:pt x="4574" y="2"/>
                    </a:cubicBezTo>
                    <a:cubicBezTo>
                      <a:pt x="4574" y="4"/>
                      <a:pt x="4573" y="4"/>
                      <a:pt x="4572" y="4"/>
                    </a:cubicBezTo>
                    <a:lnTo>
                      <a:pt x="4572" y="4"/>
                    </a:lnTo>
                    <a:cubicBezTo>
                      <a:pt x="4571" y="4"/>
                      <a:pt x="4570" y="4"/>
                      <a:pt x="4570" y="2"/>
                    </a:cubicBezTo>
                    <a:cubicBezTo>
                      <a:pt x="4570" y="1"/>
                      <a:pt x="4571" y="0"/>
                      <a:pt x="4572" y="0"/>
                    </a:cubicBezTo>
                    <a:close/>
                    <a:moveTo>
                      <a:pt x="4580" y="0"/>
                    </a:moveTo>
                    <a:lnTo>
                      <a:pt x="4580" y="0"/>
                    </a:lnTo>
                    <a:cubicBezTo>
                      <a:pt x="4581" y="0"/>
                      <a:pt x="4582" y="1"/>
                      <a:pt x="4582" y="2"/>
                    </a:cubicBezTo>
                    <a:cubicBezTo>
                      <a:pt x="4582" y="4"/>
                      <a:pt x="4581" y="4"/>
                      <a:pt x="4580" y="4"/>
                    </a:cubicBezTo>
                    <a:lnTo>
                      <a:pt x="4580" y="4"/>
                    </a:lnTo>
                    <a:cubicBezTo>
                      <a:pt x="4579" y="4"/>
                      <a:pt x="4578" y="4"/>
                      <a:pt x="4578" y="2"/>
                    </a:cubicBezTo>
                    <a:cubicBezTo>
                      <a:pt x="4578" y="1"/>
                      <a:pt x="4579" y="0"/>
                      <a:pt x="4580" y="0"/>
                    </a:cubicBezTo>
                    <a:close/>
                    <a:moveTo>
                      <a:pt x="4588" y="0"/>
                    </a:moveTo>
                    <a:lnTo>
                      <a:pt x="4588" y="0"/>
                    </a:lnTo>
                    <a:cubicBezTo>
                      <a:pt x="4589" y="0"/>
                      <a:pt x="4590" y="1"/>
                      <a:pt x="4590" y="2"/>
                    </a:cubicBezTo>
                    <a:cubicBezTo>
                      <a:pt x="4590" y="4"/>
                      <a:pt x="4589" y="4"/>
                      <a:pt x="4588" y="4"/>
                    </a:cubicBezTo>
                    <a:lnTo>
                      <a:pt x="4588" y="4"/>
                    </a:lnTo>
                    <a:cubicBezTo>
                      <a:pt x="4587" y="4"/>
                      <a:pt x="4586" y="4"/>
                      <a:pt x="4586" y="2"/>
                    </a:cubicBezTo>
                    <a:cubicBezTo>
                      <a:pt x="4586" y="1"/>
                      <a:pt x="4587" y="0"/>
                      <a:pt x="4588" y="0"/>
                    </a:cubicBezTo>
                    <a:close/>
                    <a:moveTo>
                      <a:pt x="4596" y="0"/>
                    </a:moveTo>
                    <a:lnTo>
                      <a:pt x="4596" y="0"/>
                    </a:lnTo>
                    <a:cubicBezTo>
                      <a:pt x="4597" y="0"/>
                      <a:pt x="4598" y="1"/>
                      <a:pt x="4598" y="2"/>
                    </a:cubicBezTo>
                    <a:cubicBezTo>
                      <a:pt x="4598" y="4"/>
                      <a:pt x="4597" y="4"/>
                      <a:pt x="4596" y="4"/>
                    </a:cubicBezTo>
                    <a:lnTo>
                      <a:pt x="4596" y="4"/>
                    </a:lnTo>
                    <a:cubicBezTo>
                      <a:pt x="4595" y="4"/>
                      <a:pt x="4594" y="4"/>
                      <a:pt x="4594" y="2"/>
                    </a:cubicBezTo>
                    <a:cubicBezTo>
                      <a:pt x="4594" y="1"/>
                      <a:pt x="4595" y="0"/>
                      <a:pt x="4596" y="0"/>
                    </a:cubicBezTo>
                    <a:close/>
                    <a:moveTo>
                      <a:pt x="4604" y="0"/>
                    </a:moveTo>
                    <a:lnTo>
                      <a:pt x="4604" y="0"/>
                    </a:lnTo>
                    <a:cubicBezTo>
                      <a:pt x="4605" y="0"/>
                      <a:pt x="4606" y="1"/>
                      <a:pt x="4606" y="2"/>
                    </a:cubicBezTo>
                    <a:cubicBezTo>
                      <a:pt x="4606" y="4"/>
                      <a:pt x="4605" y="4"/>
                      <a:pt x="4604" y="4"/>
                    </a:cubicBezTo>
                    <a:lnTo>
                      <a:pt x="4604" y="4"/>
                    </a:lnTo>
                    <a:cubicBezTo>
                      <a:pt x="4603" y="4"/>
                      <a:pt x="4602" y="4"/>
                      <a:pt x="4602" y="2"/>
                    </a:cubicBezTo>
                    <a:cubicBezTo>
                      <a:pt x="4602" y="1"/>
                      <a:pt x="4603" y="0"/>
                      <a:pt x="4604" y="0"/>
                    </a:cubicBezTo>
                    <a:close/>
                    <a:moveTo>
                      <a:pt x="4612" y="0"/>
                    </a:moveTo>
                    <a:lnTo>
                      <a:pt x="4612" y="0"/>
                    </a:lnTo>
                    <a:cubicBezTo>
                      <a:pt x="4613" y="0"/>
                      <a:pt x="4614" y="1"/>
                      <a:pt x="4614" y="2"/>
                    </a:cubicBezTo>
                    <a:cubicBezTo>
                      <a:pt x="4614" y="4"/>
                      <a:pt x="4613" y="4"/>
                      <a:pt x="4612" y="4"/>
                    </a:cubicBezTo>
                    <a:lnTo>
                      <a:pt x="4612" y="4"/>
                    </a:lnTo>
                    <a:cubicBezTo>
                      <a:pt x="4611" y="4"/>
                      <a:pt x="4610" y="4"/>
                      <a:pt x="4610" y="2"/>
                    </a:cubicBezTo>
                    <a:cubicBezTo>
                      <a:pt x="4610" y="1"/>
                      <a:pt x="4611" y="0"/>
                      <a:pt x="4612" y="0"/>
                    </a:cubicBezTo>
                    <a:close/>
                    <a:moveTo>
                      <a:pt x="4620" y="0"/>
                    </a:moveTo>
                    <a:lnTo>
                      <a:pt x="4620" y="0"/>
                    </a:lnTo>
                    <a:cubicBezTo>
                      <a:pt x="4621" y="0"/>
                      <a:pt x="4622" y="1"/>
                      <a:pt x="4622" y="2"/>
                    </a:cubicBezTo>
                    <a:cubicBezTo>
                      <a:pt x="4622" y="4"/>
                      <a:pt x="4621" y="4"/>
                      <a:pt x="4620" y="4"/>
                    </a:cubicBezTo>
                    <a:lnTo>
                      <a:pt x="4620" y="4"/>
                    </a:lnTo>
                    <a:cubicBezTo>
                      <a:pt x="4619" y="4"/>
                      <a:pt x="4618" y="4"/>
                      <a:pt x="4618" y="2"/>
                    </a:cubicBezTo>
                    <a:cubicBezTo>
                      <a:pt x="4618" y="1"/>
                      <a:pt x="4619" y="0"/>
                      <a:pt x="4620" y="0"/>
                    </a:cubicBezTo>
                    <a:close/>
                    <a:moveTo>
                      <a:pt x="4628" y="0"/>
                    </a:moveTo>
                    <a:lnTo>
                      <a:pt x="4628" y="0"/>
                    </a:lnTo>
                    <a:cubicBezTo>
                      <a:pt x="4629" y="0"/>
                      <a:pt x="4630" y="1"/>
                      <a:pt x="4630" y="2"/>
                    </a:cubicBezTo>
                    <a:cubicBezTo>
                      <a:pt x="4630" y="4"/>
                      <a:pt x="4629" y="4"/>
                      <a:pt x="4628" y="4"/>
                    </a:cubicBezTo>
                    <a:lnTo>
                      <a:pt x="4628" y="4"/>
                    </a:lnTo>
                    <a:cubicBezTo>
                      <a:pt x="4627" y="4"/>
                      <a:pt x="4626" y="4"/>
                      <a:pt x="4626" y="2"/>
                    </a:cubicBezTo>
                    <a:cubicBezTo>
                      <a:pt x="4626" y="1"/>
                      <a:pt x="4627" y="0"/>
                      <a:pt x="4628" y="0"/>
                    </a:cubicBezTo>
                    <a:close/>
                    <a:moveTo>
                      <a:pt x="4636" y="0"/>
                    </a:moveTo>
                    <a:lnTo>
                      <a:pt x="4636" y="0"/>
                    </a:lnTo>
                    <a:cubicBezTo>
                      <a:pt x="4637" y="0"/>
                      <a:pt x="4638" y="1"/>
                      <a:pt x="4638" y="2"/>
                    </a:cubicBezTo>
                    <a:cubicBezTo>
                      <a:pt x="4638" y="4"/>
                      <a:pt x="4637" y="4"/>
                      <a:pt x="4636" y="4"/>
                    </a:cubicBezTo>
                    <a:lnTo>
                      <a:pt x="4636" y="4"/>
                    </a:lnTo>
                    <a:cubicBezTo>
                      <a:pt x="4635" y="4"/>
                      <a:pt x="4634" y="4"/>
                      <a:pt x="4634" y="2"/>
                    </a:cubicBezTo>
                    <a:cubicBezTo>
                      <a:pt x="4634" y="1"/>
                      <a:pt x="4635" y="0"/>
                      <a:pt x="4636" y="0"/>
                    </a:cubicBezTo>
                    <a:close/>
                    <a:moveTo>
                      <a:pt x="4644" y="0"/>
                    </a:moveTo>
                    <a:lnTo>
                      <a:pt x="4644" y="0"/>
                    </a:lnTo>
                    <a:cubicBezTo>
                      <a:pt x="4645" y="0"/>
                      <a:pt x="4646" y="1"/>
                      <a:pt x="4646" y="2"/>
                    </a:cubicBezTo>
                    <a:cubicBezTo>
                      <a:pt x="4646" y="4"/>
                      <a:pt x="4645" y="4"/>
                      <a:pt x="4644" y="4"/>
                    </a:cubicBezTo>
                    <a:lnTo>
                      <a:pt x="4644" y="4"/>
                    </a:lnTo>
                    <a:cubicBezTo>
                      <a:pt x="4643" y="4"/>
                      <a:pt x="4642" y="4"/>
                      <a:pt x="4642" y="2"/>
                    </a:cubicBezTo>
                    <a:cubicBezTo>
                      <a:pt x="4642" y="1"/>
                      <a:pt x="4643" y="0"/>
                      <a:pt x="4644" y="0"/>
                    </a:cubicBezTo>
                    <a:close/>
                    <a:moveTo>
                      <a:pt x="4652" y="0"/>
                    </a:moveTo>
                    <a:lnTo>
                      <a:pt x="4652" y="0"/>
                    </a:lnTo>
                    <a:cubicBezTo>
                      <a:pt x="4653" y="0"/>
                      <a:pt x="4654" y="1"/>
                      <a:pt x="4654" y="2"/>
                    </a:cubicBezTo>
                    <a:cubicBezTo>
                      <a:pt x="4654" y="4"/>
                      <a:pt x="4653" y="4"/>
                      <a:pt x="4652" y="4"/>
                    </a:cubicBezTo>
                    <a:lnTo>
                      <a:pt x="4652" y="4"/>
                    </a:lnTo>
                    <a:cubicBezTo>
                      <a:pt x="4651" y="4"/>
                      <a:pt x="4650" y="4"/>
                      <a:pt x="4650" y="2"/>
                    </a:cubicBezTo>
                    <a:cubicBezTo>
                      <a:pt x="4650" y="1"/>
                      <a:pt x="4651" y="0"/>
                      <a:pt x="4652" y="0"/>
                    </a:cubicBezTo>
                    <a:close/>
                    <a:moveTo>
                      <a:pt x="4660" y="0"/>
                    </a:moveTo>
                    <a:lnTo>
                      <a:pt x="4660" y="0"/>
                    </a:lnTo>
                    <a:cubicBezTo>
                      <a:pt x="4661" y="0"/>
                      <a:pt x="4662" y="1"/>
                      <a:pt x="4662" y="2"/>
                    </a:cubicBezTo>
                    <a:cubicBezTo>
                      <a:pt x="4662" y="4"/>
                      <a:pt x="4661" y="4"/>
                      <a:pt x="4660" y="4"/>
                    </a:cubicBezTo>
                    <a:lnTo>
                      <a:pt x="4660" y="4"/>
                    </a:lnTo>
                    <a:cubicBezTo>
                      <a:pt x="4659" y="4"/>
                      <a:pt x="4658" y="4"/>
                      <a:pt x="4658" y="2"/>
                    </a:cubicBezTo>
                    <a:cubicBezTo>
                      <a:pt x="4658" y="1"/>
                      <a:pt x="4659" y="0"/>
                      <a:pt x="4660" y="0"/>
                    </a:cubicBezTo>
                    <a:close/>
                    <a:moveTo>
                      <a:pt x="4668" y="0"/>
                    </a:moveTo>
                    <a:lnTo>
                      <a:pt x="4668" y="0"/>
                    </a:lnTo>
                    <a:cubicBezTo>
                      <a:pt x="4669" y="0"/>
                      <a:pt x="4670" y="1"/>
                      <a:pt x="4670" y="2"/>
                    </a:cubicBezTo>
                    <a:cubicBezTo>
                      <a:pt x="4670" y="4"/>
                      <a:pt x="4669" y="4"/>
                      <a:pt x="4668" y="4"/>
                    </a:cubicBezTo>
                    <a:lnTo>
                      <a:pt x="4668" y="4"/>
                    </a:lnTo>
                    <a:cubicBezTo>
                      <a:pt x="4667" y="4"/>
                      <a:pt x="4666" y="4"/>
                      <a:pt x="4666" y="2"/>
                    </a:cubicBezTo>
                    <a:cubicBezTo>
                      <a:pt x="4666" y="1"/>
                      <a:pt x="4667" y="0"/>
                      <a:pt x="4668" y="0"/>
                    </a:cubicBezTo>
                    <a:close/>
                    <a:moveTo>
                      <a:pt x="4676" y="0"/>
                    </a:moveTo>
                    <a:lnTo>
                      <a:pt x="4676" y="0"/>
                    </a:lnTo>
                    <a:cubicBezTo>
                      <a:pt x="4677" y="0"/>
                      <a:pt x="4678" y="1"/>
                      <a:pt x="4678" y="2"/>
                    </a:cubicBezTo>
                    <a:cubicBezTo>
                      <a:pt x="4678" y="4"/>
                      <a:pt x="4677" y="4"/>
                      <a:pt x="4676" y="4"/>
                    </a:cubicBezTo>
                    <a:lnTo>
                      <a:pt x="4676" y="4"/>
                    </a:lnTo>
                    <a:cubicBezTo>
                      <a:pt x="4675" y="4"/>
                      <a:pt x="4674" y="4"/>
                      <a:pt x="4674" y="2"/>
                    </a:cubicBezTo>
                    <a:cubicBezTo>
                      <a:pt x="4674" y="1"/>
                      <a:pt x="4675" y="0"/>
                      <a:pt x="4676" y="0"/>
                    </a:cubicBezTo>
                    <a:close/>
                    <a:moveTo>
                      <a:pt x="4684" y="0"/>
                    </a:moveTo>
                    <a:lnTo>
                      <a:pt x="4684" y="0"/>
                    </a:lnTo>
                    <a:cubicBezTo>
                      <a:pt x="4685" y="0"/>
                      <a:pt x="4686" y="1"/>
                      <a:pt x="4686" y="2"/>
                    </a:cubicBezTo>
                    <a:cubicBezTo>
                      <a:pt x="4686" y="4"/>
                      <a:pt x="4685" y="4"/>
                      <a:pt x="4684" y="4"/>
                    </a:cubicBezTo>
                    <a:lnTo>
                      <a:pt x="4684" y="4"/>
                    </a:lnTo>
                    <a:cubicBezTo>
                      <a:pt x="4683" y="4"/>
                      <a:pt x="4682" y="4"/>
                      <a:pt x="4682" y="2"/>
                    </a:cubicBezTo>
                    <a:cubicBezTo>
                      <a:pt x="4682" y="1"/>
                      <a:pt x="4683" y="0"/>
                      <a:pt x="4684" y="0"/>
                    </a:cubicBezTo>
                    <a:close/>
                    <a:moveTo>
                      <a:pt x="4692" y="0"/>
                    </a:moveTo>
                    <a:lnTo>
                      <a:pt x="4692" y="0"/>
                    </a:lnTo>
                    <a:cubicBezTo>
                      <a:pt x="4693" y="0"/>
                      <a:pt x="4694" y="1"/>
                      <a:pt x="4694" y="2"/>
                    </a:cubicBezTo>
                    <a:cubicBezTo>
                      <a:pt x="4694" y="4"/>
                      <a:pt x="4693" y="4"/>
                      <a:pt x="4692" y="4"/>
                    </a:cubicBezTo>
                    <a:lnTo>
                      <a:pt x="4692" y="4"/>
                    </a:lnTo>
                    <a:cubicBezTo>
                      <a:pt x="4691" y="4"/>
                      <a:pt x="4690" y="4"/>
                      <a:pt x="4690" y="2"/>
                    </a:cubicBezTo>
                    <a:cubicBezTo>
                      <a:pt x="4690" y="1"/>
                      <a:pt x="4691" y="0"/>
                      <a:pt x="4692" y="0"/>
                    </a:cubicBezTo>
                    <a:close/>
                    <a:moveTo>
                      <a:pt x="4700" y="0"/>
                    </a:moveTo>
                    <a:lnTo>
                      <a:pt x="4700" y="0"/>
                    </a:lnTo>
                    <a:cubicBezTo>
                      <a:pt x="4701" y="0"/>
                      <a:pt x="4702" y="1"/>
                      <a:pt x="4702" y="2"/>
                    </a:cubicBezTo>
                    <a:cubicBezTo>
                      <a:pt x="4702" y="4"/>
                      <a:pt x="4701" y="4"/>
                      <a:pt x="4700" y="4"/>
                    </a:cubicBezTo>
                    <a:lnTo>
                      <a:pt x="4700" y="4"/>
                    </a:lnTo>
                    <a:cubicBezTo>
                      <a:pt x="4699" y="4"/>
                      <a:pt x="4698" y="4"/>
                      <a:pt x="4698" y="2"/>
                    </a:cubicBezTo>
                    <a:cubicBezTo>
                      <a:pt x="4698" y="1"/>
                      <a:pt x="4699" y="0"/>
                      <a:pt x="4700" y="0"/>
                    </a:cubicBezTo>
                    <a:close/>
                    <a:moveTo>
                      <a:pt x="4708" y="0"/>
                    </a:moveTo>
                    <a:lnTo>
                      <a:pt x="4708" y="0"/>
                    </a:lnTo>
                    <a:cubicBezTo>
                      <a:pt x="4709" y="0"/>
                      <a:pt x="4710" y="1"/>
                      <a:pt x="4710" y="2"/>
                    </a:cubicBezTo>
                    <a:cubicBezTo>
                      <a:pt x="4710" y="4"/>
                      <a:pt x="4709" y="4"/>
                      <a:pt x="4708" y="4"/>
                    </a:cubicBezTo>
                    <a:lnTo>
                      <a:pt x="4708" y="4"/>
                    </a:lnTo>
                    <a:cubicBezTo>
                      <a:pt x="4707" y="4"/>
                      <a:pt x="4706" y="4"/>
                      <a:pt x="4706" y="2"/>
                    </a:cubicBezTo>
                    <a:cubicBezTo>
                      <a:pt x="4706" y="1"/>
                      <a:pt x="4707" y="0"/>
                      <a:pt x="4708" y="0"/>
                    </a:cubicBezTo>
                    <a:close/>
                    <a:moveTo>
                      <a:pt x="4716" y="0"/>
                    </a:moveTo>
                    <a:lnTo>
                      <a:pt x="4716" y="0"/>
                    </a:lnTo>
                    <a:cubicBezTo>
                      <a:pt x="4717" y="0"/>
                      <a:pt x="4718" y="1"/>
                      <a:pt x="4718" y="2"/>
                    </a:cubicBezTo>
                    <a:cubicBezTo>
                      <a:pt x="4718" y="4"/>
                      <a:pt x="4717" y="4"/>
                      <a:pt x="4716" y="4"/>
                    </a:cubicBezTo>
                    <a:lnTo>
                      <a:pt x="4716" y="4"/>
                    </a:lnTo>
                    <a:cubicBezTo>
                      <a:pt x="4715" y="4"/>
                      <a:pt x="4714" y="4"/>
                      <a:pt x="4714" y="2"/>
                    </a:cubicBezTo>
                    <a:cubicBezTo>
                      <a:pt x="4714" y="1"/>
                      <a:pt x="4715" y="0"/>
                      <a:pt x="4716" y="0"/>
                    </a:cubicBezTo>
                    <a:close/>
                    <a:moveTo>
                      <a:pt x="4724" y="0"/>
                    </a:moveTo>
                    <a:lnTo>
                      <a:pt x="4724" y="0"/>
                    </a:lnTo>
                    <a:cubicBezTo>
                      <a:pt x="4725" y="0"/>
                      <a:pt x="4726" y="1"/>
                      <a:pt x="4726" y="2"/>
                    </a:cubicBezTo>
                    <a:cubicBezTo>
                      <a:pt x="4726" y="4"/>
                      <a:pt x="4725" y="4"/>
                      <a:pt x="4724" y="4"/>
                    </a:cubicBezTo>
                    <a:lnTo>
                      <a:pt x="4724" y="4"/>
                    </a:lnTo>
                    <a:cubicBezTo>
                      <a:pt x="4723" y="4"/>
                      <a:pt x="4722" y="4"/>
                      <a:pt x="4722" y="2"/>
                    </a:cubicBezTo>
                    <a:cubicBezTo>
                      <a:pt x="4722" y="1"/>
                      <a:pt x="4723" y="0"/>
                      <a:pt x="4724" y="0"/>
                    </a:cubicBezTo>
                    <a:close/>
                    <a:moveTo>
                      <a:pt x="4732" y="1"/>
                    </a:moveTo>
                    <a:lnTo>
                      <a:pt x="4732" y="1"/>
                    </a:lnTo>
                    <a:cubicBezTo>
                      <a:pt x="4733" y="1"/>
                      <a:pt x="4734" y="1"/>
                      <a:pt x="4734" y="3"/>
                    </a:cubicBezTo>
                    <a:cubicBezTo>
                      <a:pt x="4734" y="4"/>
                      <a:pt x="4733" y="5"/>
                      <a:pt x="4732" y="5"/>
                    </a:cubicBezTo>
                    <a:lnTo>
                      <a:pt x="4732" y="5"/>
                    </a:lnTo>
                    <a:cubicBezTo>
                      <a:pt x="4731" y="5"/>
                      <a:pt x="4730" y="4"/>
                      <a:pt x="4730" y="3"/>
                    </a:cubicBezTo>
                    <a:cubicBezTo>
                      <a:pt x="4730" y="1"/>
                      <a:pt x="4731" y="1"/>
                      <a:pt x="4732" y="1"/>
                    </a:cubicBezTo>
                    <a:close/>
                    <a:moveTo>
                      <a:pt x="4740" y="1"/>
                    </a:moveTo>
                    <a:lnTo>
                      <a:pt x="4740" y="1"/>
                    </a:lnTo>
                    <a:cubicBezTo>
                      <a:pt x="4741" y="1"/>
                      <a:pt x="4742" y="1"/>
                      <a:pt x="4742" y="3"/>
                    </a:cubicBezTo>
                    <a:cubicBezTo>
                      <a:pt x="4742" y="4"/>
                      <a:pt x="4741" y="5"/>
                      <a:pt x="4740" y="5"/>
                    </a:cubicBezTo>
                    <a:lnTo>
                      <a:pt x="4740" y="5"/>
                    </a:lnTo>
                    <a:cubicBezTo>
                      <a:pt x="4739" y="5"/>
                      <a:pt x="4738" y="4"/>
                      <a:pt x="4738" y="3"/>
                    </a:cubicBezTo>
                    <a:cubicBezTo>
                      <a:pt x="4738" y="1"/>
                      <a:pt x="4739" y="1"/>
                      <a:pt x="4740" y="1"/>
                    </a:cubicBezTo>
                    <a:close/>
                    <a:moveTo>
                      <a:pt x="4748" y="1"/>
                    </a:moveTo>
                    <a:lnTo>
                      <a:pt x="4748" y="1"/>
                    </a:lnTo>
                    <a:cubicBezTo>
                      <a:pt x="4749" y="1"/>
                      <a:pt x="4750" y="1"/>
                      <a:pt x="4750" y="3"/>
                    </a:cubicBezTo>
                    <a:cubicBezTo>
                      <a:pt x="4750" y="4"/>
                      <a:pt x="4749" y="5"/>
                      <a:pt x="4748" y="5"/>
                    </a:cubicBezTo>
                    <a:lnTo>
                      <a:pt x="4748" y="5"/>
                    </a:lnTo>
                    <a:cubicBezTo>
                      <a:pt x="4747" y="5"/>
                      <a:pt x="4746" y="4"/>
                      <a:pt x="4746" y="3"/>
                    </a:cubicBezTo>
                    <a:cubicBezTo>
                      <a:pt x="4746" y="1"/>
                      <a:pt x="4747" y="1"/>
                      <a:pt x="4748" y="1"/>
                    </a:cubicBezTo>
                    <a:close/>
                    <a:moveTo>
                      <a:pt x="4756" y="1"/>
                    </a:moveTo>
                    <a:lnTo>
                      <a:pt x="4756" y="1"/>
                    </a:lnTo>
                    <a:cubicBezTo>
                      <a:pt x="4757" y="1"/>
                      <a:pt x="4758" y="1"/>
                      <a:pt x="4758" y="3"/>
                    </a:cubicBezTo>
                    <a:cubicBezTo>
                      <a:pt x="4758" y="4"/>
                      <a:pt x="4757" y="5"/>
                      <a:pt x="4756" y="5"/>
                    </a:cubicBezTo>
                    <a:lnTo>
                      <a:pt x="4756" y="5"/>
                    </a:lnTo>
                    <a:cubicBezTo>
                      <a:pt x="4755" y="5"/>
                      <a:pt x="4754" y="4"/>
                      <a:pt x="4754" y="3"/>
                    </a:cubicBezTo>
                    <a:cubicBezTo>
                      <a:pt x="4754" y="1"/>
                      <a:pt x="4755" y="1"/>
                      <a:pt x="4756" y="1"/>
                    </a:cubicBezTo>
                    <a:close/>
                    <a:moveTo>
                      <a:pt x="4764" y="1"/>
                    </a:moveTo>
                    <a:lnTo>
                      <a:pt x="4764" y="1"/>
                    </a:lnTo>
                    <a:cubicBezTo>
                      <a:pt x="4765" y="1"/>
                      <a:pt x="4766" y="1"/>
                      <a:pt x="4766" y="3"/>
                    </a:cubicBezTo>
                    <a:cubicBezTo>
                      <a:pt x="4766" y="4"/>
                      <a:pt x="4765" y="5"/>
                      <a:pt x="4764" y="5"/>
                    </a:cubicBezTo>
                    <a:lnTo>
                      <a:pt x="4764" y="5"/>
                    </a:lnTo>
                    <a:cubicBezTo>
                      <a:pt x="4763" y="5"/>
                      <a:pt x="4762" y="4"/>
                      <a:pt x="4762" y="3"/>
                    </a:cubicBezTo>
                    <a:cubicBezTo>
                      <a:pt x="4762" y="1"/>
                      <a:pt x="4763" y="1"/>
                      <a:pt x="4764" y="1"/>
                    </a:cubicBezTo>
                    <a:close/>
                    <a:moveTo>
                      <a:pt x="4772" y="1"/>
                    </a:moveTo>
                    <a:lnTo>
                      <a:pt x="4772" y="1"/>
                    </a:lnTo>
                    <a:cubicBezTo>
                      <a:pt x="4773" y="1"/>
                      <a:pt x="4774" y="1"/>
                      <a:pt x="4774" y="3"/>
                    </a:cubicBezTo>
                    <a:cubicBezTo>
                      <a:pt x="4774" y="4"/>
                      <a:pt x="4773" y="5"/>
                      <a:pt x="4772" y="5"/>
                    </a:cubicBezTo>
                    <a:lnTo>
                      <a:pt x="4772" y="5"/>
                    </a:lnTo>
                    <a:cubicBezTo>
                      <a:pt x="4771" y="5"/>
                      <a:pt x="4770" y="4"/>
                      <a:pt x="4770" y="3"/>
                    </a:cubicBezTo>
                    <a:cubicBezTo>
                      <a:pt x="4770" y="1"/>
                      <a:pt x="4771" y="1"/>
                      <a:pt x="4772" y="1"/>
                    </a:cubicBezTo>
                    <a:close/>
                    <a:moveTo>
                      <a:pt x="4780" y="1"/>
                    </a:moveTo>
                    <a:lnTo>
                      <a:pt x="4780" y="1"/>
                    </a:lnTo>
                    <a:cubicBezTo>
                      <a:pt x="4781" y="1"/>
                      <a:pt x="4782" y="1"/>
                      <a:pt x="4782" y="3"/>
                    </a:cubicBezTo>
                    <a:cubicBezTo>
                      <a:pt x="4782" y="4"/>
                      <a:pt x="4781" y="5"/>
                      <a:pt x="4780" y="5"/>
                    </a:cubicBezTo>
                    <a:lnTo>
                      <a:pt x="4780" y="5"/>
                    </a:lnTo>
                    <a:cubicBezTo>
                      <a:pt x="4779" y="5"/>
                      <a:pt x="4778" y="4"/>
                      <a:pt x="4778" y="3"/>
                    </a:cubicBezTo>
                    <a:cubicBezTo>
                      <a:pt x="4778" y="1"/>
                      <a:pt x="4779" y="1"/>
                      <a:pt x="4780" y="1"/>
                    </a:cubicBezTo>
                    <a:close/>
                    <a:moveTo>
                      <a:pt x="4788" y="1"/>
                    </a:moveTo>
                    <a:lnTo>
                      <a:pt x="4788" y="1"/>
                    </a:lnTo>
                    <a:cubicBezTo>
                      <a:pt x="4789" y="1"/>
                      <a:pt x="4790" y="1"/>
                      <a:pt x="4790" y="3"/>
                    </a:cubicBezTo>
                    <a:cubicBezTo>
                      <a:pt x="4790" y="4"/>
                      <a:pt x="4789" y="5"/>
                      <a:pt x="4788" y="5"/>
                    </a:cubicBezTo>
                    <a:lnTo>
                      <a:pt x="4788" y="5"/>
                    </a:lnTo>
                    <a:cubicBezTo>
                      <a:pt x="4787" y="5"/>
                      <a:pt x="4786" y="4"/>
                      <a:pt x="4786" y="3"/>
                    </a:cubicBezTo>
                    <a:cubicBezTo>
                      <a:pt x="4786" y="1"/>
                      <a:pt x="4787" y="1"/>
                      <a:pt x="4788" y="1"/>
                    </a:cubicBezTo>
                    <a:close/>
                    <a:moveTo>
                      <a:pt x="4796" y="1"/>
                    </a:moveTo>
                    <a:lnTo>
                      <a:pt x="4796" y="1"/>
                    </a:lnTo>
                    <a:cubicBezTo>
                      <a:pt x="4797" y="1"/>
                      <a:pt x="4798" y="1"/>
                      <a:pt x="4798" y="3"/>
                    </a:cubicBezTo>
                    <a:cubicBezTo>
                      <a:pt x="4798" y="4"/>
                      <a:pt x="4797" y="5"/>
                      <a:pt x="4796" y="5"/>
                    </a:cubicBezTo>
                    <a:lnTo>
                      <a:pt x="4796" y="5"/>
                    </a:lnTo>
                    <a:cubicBezTo>
                      <a:pt x="4795" y="5"/>
                      <a:pt x="4794" y="4"/>
                      <a:pt x="4794" y="3"/>
                    </a:cubicBezTo>
                    <a:cubicBezTo>
                      <a:pt x="4794" y="1"/>
                      <a:pt x="4795" y="1"/>
                      <a:pt x="4796" y="1"/>
                    </a:cubicBezTo>
                    <a:close/>
                    <a:moveTo>
                      <a:pt x="4804" y="1"/>
                    </a:moveTo>
                    <a:lnTo>
                      <a:pt x="4804" y="1"/>
                    </a:lnTo>
                    <a:cubicBezTo>
                      <a:pt x="4805" y="1"/>
                      <a:pt x="4806" y="1"/>
                      <a:pt x="4806" y="3"/>
                    </a:cubicBezTo>
                    <a:cubicBezTo>
                      <a:pt x="4806" y="4"/>
                      <a:pt x="4805" y="5"/>
                      <a:pt x="4804" y="5"/>
                    </a:cubicBezTo>
                    <a:lnTo>
                      <a:pt x="4804" y="5"/>
                    </a:lnTo>
                    <a:cubicBezTo>
                      <a:pt x="4803" y="5"/>
                      <a:pt x="4802" y="4"/>
                      <a:pt x="4802" y="3"/>
                    </a:cubicBezTo>
                    <a:cubicBezTo>
                      <a:pt x="4802" y="1"/>
                      <a:pt x="4803" y="1"/>
                      <a:pt x="4804" y="1"/>
                    </a:cubicBezTo>
                    <a:close/>
                    <a:moveTo>
                      <a:pt x="4812" y="1"/>
                    </a:moveTo>
                    <a:lnTo>
                      <a:pt x="4812" y="1"/>
                    </a:lnTo>
                    <a:cubicBezTo>
                      <a:pt x="4813" y="1"/>
                      <a:pt x="4814" y="1"/>
                      <a:pt x="4814" y="3"/>
                    </a:cubicBezTo>
                    <a:cubicBezTo>
                      <a:pt x="4814" y="4"/>
                      <a:pt x="4813" y="5"/>
                      <a:pt x="4812" y="5"/>
                    </a:cubicBezTo>
                    <a:lnTo>
                      <a:pt x="4812" y="5"/>
                    </a:lnTo>
                    <a:cubicBezTo>
                      <a:pt x="4811" y="5"/>
                      <a:pt x="4810" y="4"/>
                      <a:pt x="4810" y="3"/>
                    </a:cubicBezTo>
                    <a:cubicBezTo>
                      <a:pt x="4810" y="1"/>
                      <a:pt x="4811" y="1"/>
                      <a:pt x="4812" y="1"/>
                    </a:cubicBezTo>
                    <a:close/>
                    <a:moveTo>
                      <a:pt x="4820" y="1"/>
                    </a:moveTo>
                    <a:lnTo>
                      <a:pt x="4820" y="1"/>
                    </a:lnTo>
                    <a:cubicBezTo>
                      <a:pt x="4821" y="1"/>
                      <a:pt x="4822" y="1"/>
                      <a:pt x="4822" y="3"/>
                    </a:cubicBezTo>
                    <a:cubicBezTo>
                      <a:pt x="4822" y="4"/>
                      <a:pt x="4821" y="5"/>
                      <a:pt x="4820" y="5"/>
                    </a:cubicBezTo>
                    <a:lnTo>
                      <a:pt x="4820" y="5"/>
                    </a:lnTo>
                    <a:cubicBezTo>
                      <a:pt x="4819" y="5"/>
                      <a:pt x="4818" y="4"/>
                      <a:pt x="4818" y="3"/>
                    </a:cubicBezTo>
                    <a:cubicBezTo>
                      <a:pt x="4818" y="1"/>
                      <a:pt x="4819" y="1"/>
                      <a:pt x="4820" y="1"/>
                    </a:cubicBezTo>
                    <a:close/>
                    <a:moveTo>
                      <a:pt x="4828" y="1"/>
                    </a:moveTo>
                    <a:lnTo>
                      <a:pt x="4828" y="1"/>
                    </a:lnTo>
                    <a:cubicBezTo>
                      <a:pt x="4829" y="1"/>
                      <a:pt x="4830" y="1"/>
                      <a:pt x="4830" y="3"/>
                    </a:cubicBezTo>
                    <a:cubicBezTo>
                      <a:pt x="4830" y="4"/>
                      <a:pt x="4829" y="5"/>
                      <a:pt x="4828" y="5"/>
                    </a:cubicBezTo>
                    <a:lnTo>
                      <a:pt x="4828" y="5"/>
                    </a:lnTo>
                    <a:cubicBezTo>
                      <a:pt x="4827" y="5"/>
                      <a:pt x="4826" y="4"/>
                      <a:pt x="4826" y="3"/>
                    </a:cubicBezTo>
                    <a:cubicBezTo>
                      <a:pt x="4826" y="1"/>
                      <a:pt x="4827" y="1"/>
                      <a:pt x="4828" y="1"/>
                    </a:cubicBezTo>
                    <a:close/>
                    <a:moveTo>
                      <a:pt x="4836" y="1"/>
                    </a:moveTo>
                    <a:lnTo>
                      <a:pt x="4836" y="1"/>
                    </a:lnTo>
                    <a:cubicBezTo>
                      <a:pt x="4837" y="1"/>
                      <a:pt x="4838" y="1"/>
                      <a:pt x="4838" y="3"/>
                    </a:cubicBezTo>
                    <a:cubicBezTo>
                      <a:pt x="4838" y="4"/>
                      <a:pt x="4837" y="5"/>
                      <a:pt x="4836" y="5"/>
                    </a:cubicBezTo>
                    <a:lnTo>
                      <a:pt x="4836" y="5"/>
                    </a:lnTo>
                    <a:cubicBezTo>
                      <a:pt x="4835" y="5"/>
                      <a:pt x="4834" y="4"/>
                      <a:pt x="4834" y="3"/>
                    </a:cubicBezTo>
                    <a:cubicBezTo>
                      <a:pt x="4834" y="1"/>
                      <a:pt x="4835" y="1"/>
                      <a:pt x="4836" y="1"/>
                    </a:cubicBezTo>
                    <a:close/>
                    <a:moveTo>
                      <a:pt x="4844" y="1"/>
                    </a:moveTo>
                    <a:lnTo>
                      <a:pt x="4844" y="1"/>
                    </a:lnTo>
                    <a:cubicBezTo>
                      <a:pt x="4845" y="1"/>
                      <a:pt x="4846" y="1"/>
                      <a:pt x="4846" y="3"/>
                    </a:cubicBezTo>
                    <a:cubicBezTo>
                      <a:pt x="4846" y="4"/>
                      <a:pt x="4845" y="5"/>
                      <a:pt x="4844" y="5"/>
                    </a:cubicBezTo>
                    <a:lnTo>
                      <a:pt x="4844" y="5"/>
                    </a:lnTo>
                    <a:cubicBezTo>
                      <a:pt x="4843" y="5"/>
                      <a:pt x="4842" y="4"/>
                      <a:pt x="4842" y="3"/>
                    </a:cubicBezTo>
                    <a:cubicBezTo>
                      <a:pt x="4842" y="1"/>
                      <a:pt x="4843" y="1"/>
                      <a:pt x="4844" y="1"/>
                    </a:cubicBezTo>
                    <a:close/>
                    <a:moveTo>
                      <a:pt x="4852" y="1"/>
                    </a:moveTo>
                    <a:lnTo>
                      <a:pt x="4852" y="1"/>
                    </a:lnTo>
                    <a:cubicBezTo>
                      <a:pt x="4853" y="1"/>
                      <a:pt x="4854" y="1"/>
                      <a:pt x="4854" y="3"/>
                    </a:cubicBezTo>
                    <a:cubicBezTo>
                      <a:pt x="4854" y="4"/>
                      <a:pt x="4853" y="5"/>
                      <a:pt x="4852" y="5"/>
                    </a:cubicBezTo>
                    <a:lnTo>
                      <a:pt x="4852" y="5"/>
                    </a:lnTo>
                    <a:cubicBezTo>
                      <a:pt x="4851" y="5"/>
                      <a:pt x="4850" y="4"/>
                      <a:pt x="4850" y="3"/>
                    </a:cubicBezTo>
                    <a:cubicBezTo>
                      <a:pt x="4850" y="1"/>
                      <a:pt x="4851" y="1"/>
                      <a:pt x="4852" y="1"/>
                    </a:cubicBezTo>
                    <a:close/>
                    <a:moveTo>
                      <a:pt x="4860" y="1"/>
                    </a:moveTo>
                    <a:lnTo>
                      <a:pt x="4860" y="1"/>
                    </a:lnTo>
                    <a:cubicBezTo>
                      <a:pt x="4861" y="1"/>
                      <a:pt x="4862" y="1"/>
                      <a:pt x="4862" y="3"/>
                    </a:cubicBezTo>
                    <a:cubicBezTo>
                      <a:pt x="4862" y="4"/>
                      <a:pt x="4861" y="5"/>
                      <a:pt x="4860" y="5"/>
                    </a:cubicBezTo>
                    <a:lnTo>
                      <a:pt x="4860" y="5"/>
                    </a:lnTo>
                    <a:cubicBezTo>
                      <a:pt x="4859" y="5"/>
                      <a:pt x="4858" y="4"/>
                      <a:pt x="4858" y="3"/>
                    </a:cubicBezTo>
                    <a:cubicBezTo>
                      <a:pt x="4858" y="1"/>
                      <a:pt x="4859" y="1"/>
                      <a:pt x="4860" y="1"/>
                    </a:cubicBezTo>
                    <a:close/>
                    <a:moveTo>
                      <a:pt x="4868" y="1"/>
                    </a:moveTo>
                    <a:lnTo>
                      <a:pt x="4868" y="1"/>
                    </a:lnTo>
                    <a:cubicBezTo>
                      <a:pt x="4869" y="1"/>
                      <a:pt x="4870" y="1"/>
                      <a:pt x="4870" y="3"/>
                    </a:cubicBezTo>
                    <a:cubicBezTo>
                      <a:pt x="4870" y="4"/>
                      <a:pt x="4869" y="5"/>
                      <a:pt x="4868" y="5"/>
                    </a:cubicBezTo>
                    <a:lnTo>
                      <a:pt x="4868" y="5"/>
                    </a:lnTo>
                    <a:cubicBezTo>
                      <a:pt x="4867" y="5"/>
                      <a:pt x="4866" y="4"/>
                      <a:pt x="4866" y="3"/>
                    </a:cubicBezTo>
                    <a:cubicBezTo>
                      <a:pt x="4866" y="1"/>
                      <a:pt x="4867" y="1"/>
                      <a:pt x="4868" y="1"/>
                    </a:cubicBezTo>
                    <a:close/>
                    <a:moveTo>
                      <a:pt x="4876" y="1"/>
                    </a:moveTo>
                    <a:lnTo>
                      <a:pt x="4876" y="1"/>
                    </a:lnTo>
                    <a:cubicBezTo>
                      <a:pt x="4877" y="1"/>
                      <a:pt x="4878" y="1"/>
                      <a:pt x="4878" y="3"/>
                    </a:cubicBezTo>
                    <a:cubicBezTo>
                      <a:pt x="4878" y="4"/>
                      <a:pt x="4877" y="5"/>
                      <a:pt x="4876" y="5"/>
                    </a:cubicBezTo>
                    <a:lnTo>
                      <a:pt x="4876" y="5"/>
                    </a:lnTo>
                    <a:cubicBezTo>
                      <a:pt x="4875" y="5"/>
                      <a:pt x="4874" y="4"/>
                      <a:pt x="4874" y="3"/>
                    </a:cubicBezTo>
                    <a:cubicBezTo>
                      <a:pt x="4874" y="1"/>
                      <a:pt x="4875" y="1"/>
                      <a:pt x="4876" y="1"/>
                    </a:cubicBezTo>
                    <a:close/>
                    <a:moveTo>
                      <a:pt x="4884" y="1"/>
                    </a:moveTo>
                    <a:lnTo>
                      <a:pt x="4884" y="1"/>
                    </a:lnTo>
                    <a:cubicBezTo>
                      <a:pt x="4885" y="1"/>
                      <a:pt x="4886" y="1"/>
                      <a:pt x="4886" y="3"/>
                    </a:cubicBezTo>
                    <a:cubicBezTo>
                      <a:pt x="4886" y="4"/>
                      <a:pt x="4885" y="5"/>
                      <a:pt x="4884" y="5"/>
                    </a:cubicBezTo>
                    <a:lnTo>
                      <a:pt x="4884" y="5"/>
                    </a:lnTo>
                    <a:cubicBezTo>
                      <a:pt x="4883" y="5"/>
                      <a:pt x="4882" y="4"/>
                      <a:pt x="4882" y="3"/>
                    </a:cubicBezTo>
                    <a:cubicBezTo>
                      <a:pt x="4882" y="1"/>
                      <a:pt x="4883" y="1"/>
                      <a:pt x="4884" y="1"/>
                    </a:cubicBezTo>
                    <a:close/>
                    <a:moveTo>
                      <a:pt x="4892" y="1"/>
                    </a:moveTo>
                    <a:lnTo>
                      <a:pt x="4892" y="1"/>
                    </a:lnTo>
                    <a:cubicBezTo>
                      <a:pt x="4893" y="1"/>
                      <a:pt x="4894" y="1"/>
                      <a:pt x="4894" y="3"/>
                    </a:cubicBezTo>
                    <a:cubicBezTo>
                      <a:pt x="4894" y="4"/>
                      <a:pt x="4893" y="5"/>
                      <a:pt x="4892" y="5"/>
                    </a:cubicBezTo>
                    <a:lnTo>
                      <a:pt x="4892" y="5"/>
                    </a:lnTo>
                    <a:cubicBezTo>
                      <a:pt x="4891" y="5"/>
                      <a:pt x="4890" y="4"/>
                      <a:pt x="4890" y="3"/>
                    </a:cubicBezTo>
                    <a:cubicBezTo>
                      <a:pt x="4890" y="1"/>
                      <a:pt x="4891" y="1"/>
                      <a:pt x="4892" y="1"/>
                    </a:cubicBezTo>
                    <a:close/>
                    <a:moveTo>
                      <a:pt x="4900" y="1"/>
                    </a:moveTo>
                    <a:lnTo>
                      <a:pt x="4900" y="1"/>
                    </a:lnTo>
                    <a:cubicBezTo>
                      <a:pt x="4901" y="1"/>
                      <a:pt x="4902" y="1"/>
                      <a:pt x="4902" y="3"/>
                    </a:cubicBezTo>
                    <a:cubicBezTo>
                      <a:pt x="4902" y="4"/>
                      <a:pt x="4901" y="5"/>
                      <a:pt x="4900" y="5"/>
                    </a:cubicBezTo>
                    <a:lnTo>
                      <a:pt x="4900" y="5"/>
                    </a:lnTo>
                    <a:cubicBezTo>
                      <a:pt x="4899" y="5"/>
                      <a:pt x="4898" y="4"/>
                      <a:pt x="4898" y="3"/>
                    </a:cubicBezTo>
                    <a:cubicBezTo>
                      <a:pt x="4898" y="1"/>
                      <a:pt x="4899" y="1"/>
                      <a:pt x="4900" y="1"/>
                    </a:cubicBezTo>
                    <a:close/>
                    <a:moveTo>
                      <a:pt x="4908" y="1"/>
                    </a:moveTo>
                    <a:lnTo>
                      <a:pt x="4908" y="1"/>
                    </a:lnTo>
                    <a:cubicBezTo>
                      <a:pt x="4909" y="1"/>
                      <a:pt x="4910" y="1"/>
                      <a:pt x="4910" y="3"/>
                    </a:cubicBezTo>
                    <a:cubicBezTo>
                      <a:pt x="4910" y="4"/>
                      <a:pt x="4909" y="5"/>
                      <a:pt x="4908" y="5"/>
                    </a:cubicBezTo>
                    <a:lnTo>
                      <a:pt x="4908" y="5"/>
                    </a:lnTo>
                    <a:cubicBezTo>
                      <a:pt x="4907" y="5"/>
                      <a:pt x="4906" y="4"/>
                      <a:pt x="4906" y="3"/>
                    </a:cubicBezTo>
                    <a:cubicBezTo>
                      <a:pt x="4906" y="1"/>
                      <a:pt x="4907" y="1"/>
                      <a:pt x="4908" y="1"/>
                    </a:cubicBezTo>
                    <a:close/>
                    <a:moveTo>
                      <a:pt x="4916" y="1"/>
                    </a:moveTo>
                    <a:lnTo>
                      <a:pt x="4916" y="1"/>
                    </a:lnTo>
                    <a:cubicBezTo>
                      <a:pt x="4917" y="1"/>
                      <a:pt x="4918" y="1"/>
                      <a:pt x="4918" y="3"/>
                    </a:cubicBezTo>
                    <a:cubicBezTo>
                      <a:pt x="4918" y="4"/>
                      <a:pt x="4917" y="5"/>
                      <a:pt x="4916" y="5"/>
                    </a:cubicBezTo>
                    <a:lnTo>
                      <a:pt x="4916" y="5"/>
                    </a:lnTo>
                    <a:cubicBezTo>
                      <a:pt x="4915" y="5"/>
                      <a:pt x="4914" y="4"/>
                      <a:pt x="4914" y="3"/>
                    </a:cubicBezTo>
                    <a:cubicBezTo>
                      <a:pt x="4914" y="1"/>
                      <a:pt x="4915" y="1"/>
                      <a:pt x="4916" y="1"/>
                    </a:cubicBezTo>
                    <a:close/>
                    <a:moveTo>
                      <a:pt x="4924" y="1"/>
                    </a:moveTo>
                    <a:lnTo>
                      <a:pt x="4924" y="1"/>
                    </a:lnTo>
                    <a:cubicBezTo>
                      <a:pt x="4925" y="1"/>
                      <a:pt x="4926" y="1"/>
                      <a:pt x="4926" y="3"/>
                    </a:cubicBezTo>
                    <a:cubicBezTo>
                      <a:pt x="4926" y="4"/>
                      <a:pt x="4925" y="5"/>
                      <a:pt x="4924" y="5"/>
                    </a:cubicBezTo>
                    <a:lnTo>
                      <a:pt x="4924" y="5"/>
                    </a:lnTo>
                    <a:cubicBezTo>
                      <a:pt x="4923" y="5"/>
                      <a:pt x="4922" y="4"/>
                      <a:pt x="4922" y="3"/>
                    </a:cubicBezTo>
                    <a:cubicBezTo>
                      <a:pt x="4922" y="1"/>
                      <a:pt x="4923" y="1"/>
                      <a:pt x="4924" y="1"/>
                    </a:cubicBezTo>
                    <a:close/>
                    <a:moveTo>
                      <a:pt x="4932" y="1"/>
                    </a:moveTo>
                    <a:lnTo>
                      <a:pt x="4932" y="1"/>
                    </a:lnTo>
                    <a:cubicBezTo>
                      <a:pt x="4933" y="1"/>
                      <a:pt x="4934" y="1"/>
                      <a:pt x="4934" y="3"/>
                    </a:cubicBezTo>
                    <a:cubicBezTo>
                      <a:pt x="4934" y="4"/>
                      <a:pt x="4933" y="5"/>
                      <a:pt x="4932" y="5"/>
                    </a:cubicBezTo>
                    <a:lnTo>
                      <a:pt x="4932" y="5"/>
                    </a:lnTo>
                    <a:cubicBezTo>
                      <a:pt x="4931" y="5"/>
                      <a:pt x="4930" y="4"/>
                      <a:pt x="4930" y="3"/>
                    </a:cubicBezTo>
                    <a:cubicBezTo>
                      <a:pt x="4930" y="1"/>
                      <a:pt x="4931" y="1"/>
                      <a:pt x="4932" y="1"/>
                    </a:cubicBezTo>
                    <a:close/>
                    <a:moveTo>
                      <a:pt x="4940" y="1"/>
                    </a:moveTo>
                    <a:lnTo>
                      <a:pt x="4940" y="1"/>
                    </a:lnTo>
                    <a:cubicBezTo>
                      <a:pt x="4941" y="1"/>
                      <a:pt x="4942" y="1"/>
                      <a:pt x="4942" y="3"/>
                    </a:cubicBezTo>
                    <a:cubicBezTo>
                      <a:pt x="4942" y="4"/>
                      <a:pt x="4941" y="5"/>
                      <a:pt x="4940" y="5"/>
                    </a:cubicBezTo>
                    <a:lnTo>
                      <a:pt x="4940" y="5"/>
                    </a:lnTo>
                    <a:cubicBezTo>
                      <a:pt x="4939" y="5"/>
                      <a:pt x="4938" y="4"/>
                      <a:pt x="4938" y="3"/>
                    </a:cubicBezTo>
                    <a:cubicBezTo>
                      <a:pt x="4938" y="1"/>
                      <a:pt x="4939" y="1"/>
                      <a:pt x="4940" y="1"/>
                    </a:cubicBezTo>
                    <a:close/>
                    <a:moveTo>
                      <a:pt x="4948" y="1"/>
                    </a:moveTo>
                    <a:lnTo>
                      <a:pt x="4948" y="1"/>
                    </a:lnTo>
                    <a:cubicBezTo>
                      <a:pt x="4949" y="1"/>
                      <a:pt x="4950" y="1"/>
                      <a:pt x="4950" y="3"/>
                    </a:cubicBezTo>
                    <a:cubicBezTo>
                      <a:pt x="4950" y="4"/>
                      <a:pt x="4949" y="5"/>
                      <a:pt x="4948" y="5"/>
                    </a:cubicBezTo>
                    <a:lnTo>
                      <a:pt x="4948" y="5"/>
                    </a:lnTo>
                    <a:cubicBezTo>
                      <a:pt x="4947" y="5"/>
                      <a:pt x="4946" y="4"/>
                      <a:pt x="4946" y="3"/>
                    </a:cubicBezTo>
                    <a:cubicBezTo>
                      <a:pt x="4946" y="1"/>
                      <a:pt x="4947" y="1"/>
                      <a:pt x="4948" y="1"/>
                    </a:cubicBezTo>
                    <a:close/>
                    <a:moveTo>
                      <a:pt x="4956" y="1"/>
                    </a:moveTo>
                    <a:lnTo>
                      <a:pt x="4956" y="1"/>
                    </a:lnTo>
                    <a:cubicBezTo>
                      <a:pt x="4957" y="1"/>
                      <a:pt x="4958" y="1"/>
                      <a:pt x="4958" y="3"/>
                    </a:cubicBezTo>
                    <a:cubicBezTo>
                      <a:pt x="4958" y="4"/>
                      <a:pt x="4957" y="5"/>
                      <a:pt x="4956" y="5"/>
                    </a:cubicBezTo>
                    <a:lnTo>
                      <a:pt x="4956" y="5"/>
                    </a:lnTo>
                    <a:cubicBezTo>
                      <a:pt x="4955" y="5"/>
                      <a:pt x="4954" y="4"/>
                      <a:pt x="4954" y="3"/>
                    </a:cubicBezTo>
                    <a:cubicBezTo>
                      <a:pt x="4954" y="1"/>
                      <a:pt x="4955" y="1"/>
                      <a:pt x="4956" y="1"/>
                    </a:cubicBezTo>
                    <a:close/>
                    <a:moveTo>
                      <a:pt x="4964" y="1"/>
                    </a:moveTo>
                    <a:lnTo>
                      <a:pt x="4964" y="1"/>
                    </a:lnTo>
                    <a:cubicBezTo>
                      <a:pt x="4965" y="1"/>
                      <a:pt x="4966" y="1"/>
                      <a:pt x="4966" y="3"/>
                    </a:cubicBezTo>
                    <a:cubicBezTo>
                      <a:pt x="4966" y="4"/>
                      <a:pt x="4965" y="5"/>
                      <a:pt x="4964" y="5"/>
                    </a:cubicBezTo>
                    <a:lnTo>
                      <a:pt x="4964" y="5"/>
                    </a:lnTo>
                    <a:cubicBezTo>
                      <a:pt x="4963" y="5"/>
                      <a:pt x="4962" y="4"/>
                      <a:pt x="4962" y="3"/>
                    </a:cubicBezTo>
                    <a:cubicBezTo>
                      <a:pt x="4962" y="1"/>
                      <a:pt x="4963" y="1"/>
                      <a:pt x="4964" y="1"/>
                    </a:cubicBezTo>
                    <a:close/>
                    <a:moveTo>
                      <a:pt x="4972" y="1"/>
                    </a:moveTo>
                    <a:lnTo>
                      <a:pt x="4972" y="1"/>
                    </a:lnTo>
                    <a:cubicBezTo>
                      <a:pt x="4973" y="1"/>
                      <a:pt x="4974" y="1"/>
                      <a:pt x="4974" y="3"/>
                    </a:cubicBezTo>
                    <a:cubicBezTo>
                      <a:pt x="4974" y="4"/>
                      <a:pt x="4973" y="5"/>
                      <a:pt x="4972" y="5"/>
                    </a:cubicBezTo>
                    <a:lnTo>
                      <a:pt x="4972" y="5"/>
                    </a:lnTo>
                    <a:cubicBezTo>
                      <a:pt x="4971" y="5"/>
                      <a:pt x="4970" y="4"/>
                      <a:pt x="4970" y="3"/>
                    </a:cubicBezTo>
                    <a:cubicBezTo>
                      <a:pt x="4970" y="1"/>
                      <a:pt x="4971" y="1"/>
                      <a:pt x="4972" y="1"/>
                    </a:cubicBezTo>
                    <a:close/>
                    <a:moveTo>
                      <a:pt x="4980" y="1"/>
                    </a:moveTo>
                    <a:lnTo>
                      <a:pt x="4980" y="1"/>
                    </a:lnTo>
                    <a:cubicBezTo>
                      <a:pt x="4981" y="1"/>
                      <a:pt x="4982" y="1"/>
                      <a:pt x="4982" y="3"/>
                    </a:cubicBezTo>
                    <a:cubicBezTo>
                      <a:pt x="4982" y="4"/>
                      <a:pt x="4981" y="5"/>
                      <a:pt x="4980" y="5"/>
                    </a:cubicBezTo>
                    <a:lnTo>
                      <a:pt x="4980" y="5"/>
                    </a:lnTo>
                    <a:cubicBezTo>
                      <a:pt x="4979" y="5"/>
                      <a:pt x="4978" y="4"/>
                      <a:pt x="4978" y="3"/>
                    </a:cubicBezTo>
                    <a:cubicBezTo>
                      <a:pt x="4978" y="1"/>
                      <a:pt x="4979" y="1"/>
                      <a:pt x="4980" y="1"/>
                    </a:cubicBezTo>
                    <a:close/>
                    <a:moveTo>
                      <a:pt x="4988" y="1"/>
                    </a:moveTo>
                    <a:lnTo>
                      <a:pt x="4988" y="1"/>
                    </a:lnTo>
                    <a:cubicBezTo>
                      <a:pt x="4989" y="1"/>
                      <a:pt x="4990" y="1"/>
                      <a:pt x="4990" y="3"/>
                    </a:cubicBezTo>
                    <a:cubicBezTo>
                      <a:pt x="4990" y="4"/>
                      <a:pt x="4989" y="5"/>
                      <a:pt x="4988" y="5"/>
                    </a:cubicBezTo>
                    <a:lnTo>
                      <a:pt x="4988" y="5"/>
                    </a:lnTo>
                    <a:cubicBezTo>
                      <a:pt x="4987" y="5"/>
                      <a:pt x="4986" y="4"/>
                      <a:pt x="4986" y="3"/>
                    </a:cubicBezTo>
                    <a:cubicBezTo>
                      <a:pt x="4986" y="1"/>
                      <a:pt x="4987" y="1"/>
                      <a:pt x="4988" y="1"/>
                    </a:cubicBezTo>
                    <a:close/>
                    <a:moveTo>
                      <a:pt x="4996" y="1"/>
                    </a:moveTo>
                    <a:lnTo>
                      <a:pt x="4996" y="1"/>
                    </a:lnTo>
                    <a:cubicBezTo>
                      <a:pt x="4997" y="1"/>
                      <a:pt x="4998" y="1"/>
                      <a:pt x="4998" y="3"/>
                    </a:cubicBezTo>
                    <a:cubicBezTo>
                      <a:pt x="4998" y="4"/>
                      <a:pt x="4997" y="5"/>
                      <a:pt x="4996" y="5"/>
                    </a:cubicBezTo>
                    <a:lnTo>
                      <a:pt x="4996" y="5"/>
                    </a:lnTo>
                    <a:cubicBezTo>
                      <a:pt x="4995" y="5"/>
                      <a:pt x="4994" y="4"/>
                      <a:pt x="4994" y="3"/>
                    </a:cubicBezTo>
                    <a:cubicBezTo>
                      <a:pt x="4994" y="1"/>
                      <a:pt x="4995" y="1"/>
                      <a:pt x="4996" y="1"/>
                    </a:cubicBezTo>
                    <a:close/>
                    <a:moveTo>
                      <a:pt x="5004" y="1"/>
                    </a:moveTo>
                    <a:lnTo>
                      <a:pt x="5004" y="1"/>
                    </a:lnTo>
                    <a:cubicBezTo>
                      <a:pt x="5005" y="1"/>
                      <a:pt x="5006" y="1"/>
                      <a:pt x="5006" y="3"/>
                    </a:cubicBezTo>
                    <a:cubicBezTo>
                      <a:pt x="5006" y="4"/>
                      <a:pt x="5005" y="5"/>
                      <a:pt x="5004" y="5"/>
                    </a:cubicBezTo>
                    <a:lnTo>
                      <a:pt x="5004" y="5"/>
                    </a:lnTo>
                    <a:cubicBezTo>
                      <a:pt x="5003" y="5"/>
                      <a:pt x="5002" y="4"/>
                      <a:pt x="5002" y="3"/>
                    </a:cubicBezTo>
                    <a:cubicBezTo>
                      <a:pt x="5002" y="1"/>
                      <a:pt x="5003" y="1"/>
                      <a:pt x="5004" y="1"/>
                    </a:cubicBezTo>
                    <a:close/>
                    <a:moveTo>
                      <a:pt x="5012" y="1"/>
                    </a:moveTo>
                    <a:lnTo>
                      <a:pt x="5012" y="1"/>
                    </a:lnTo>
                    <a:cubicBezTo>
                      <a:pt x="5013" y="1"/>
                      <a:pt x="5014" y="1"/>
                      <a:pt x="5014" y="3"/>
                    </a:cubicBezTo>
                    <a:cubicBezTo>
                      <a:pt x="5014" y="4"/>
                      <a:pt x="5013" y="5"/>
                      <a:pt x="5012" y="5"/>
                    </a:cubicBezTo>
                    <a:lnTo>
                      <a:pt x="5012" y="5"/>
                    </a:lnTo>
                    <a:cubicBezTo>
                      <a:pt x="5011" y="5"/>
                      <a:pt x="5010" y="4"/>
                      <a:pt x="5010" y="3"/>
                    </a:cubicBezTo>
                    <a:cubicBezTo>
                      <a:pt x="5010" y="1"/>
                      <a:pt x="5011" y="1"/>
                      <a:pt x="5012" y="1"/>
                    </a:cubicBezTo>
                    <a:close/>
                    <a:moveTo>
                      <a:pt x="5020" y="1"/>
                    </a:moveTo>
                    <a:lnTo>
                      <a:pt x="5020" y="1"/>
                    </a:lnTo>
                    <a:cubicBezTo>
                      <a:pt x="5021" y="1"/>
                      <a:pt x="5022" y="1"/>
                      <a:pt x="5022" y="3"/>
                    </a:cubicBezTo>
                    <a:cubicBezTo>
                      <a:pt x="5022" y="4"/>
                      <a:pt x="5021" y="5"/>
                      <a:pt x="5020" y="5"/>
                    </a:cubicBezTo>
                    <a:lnTo>
                      <a:pt x="5020" y="5"/>
                    </a:lnTo>
                    <a:cubicBezTo>
                      <a:pt x="5019" y="5"/>
                      <a:pt x="5018" y="4"/>
                      <a:pt x="5018" y="3"/>
                    </a:cubicBezTo>
                    <a:cubicBezTo>
                      <a:pt x="5018" y="1"/>
                      <a:pt x="5019" y="1"/>
                      <a:pt x="5020" y="1"/>
                    </a:cubicBezTo>
                    <a:close/>
                    <a:moveTo>
                      <a:pt x="5028" y="1"/>
                    </a:moveTo>
                    <a:lnTo>
                      <a:pt x="5028" y="1"/>
                    </a:lnTo>
                    <a:cubicBezTo>
                      <a:pt x="5029" y="1"/>
                      <a:pt x="5030" y="1"/>
                      <a:pt x="5030" y="3"/>
                    </a:cubicBezTo>
                    <a:cubicBezTo>
                      <a:pt x="5030" y="4"/>
                      <a:pt x="5029" y="5"/>
                      <a:pt x="5028" y="5"/>
                    </a:cubicBezTo>
                    <a:lnTo>
                      <a:pt x="5028" y="5"/>
                    </a:lnTo>
                    <a:cubicBezTo>
                      <a:pt x="5027" y="5"/>
                      <a:pt x="5026" y="4"/>
                      <a:pt x="5026" y="3"/>
                    </a:cubicBezTo>
                    <a:cubicBezTo>
                      <a:pt x="5026" y="1"/>
                      <a:pt x="5027" y="1"/>
                      <a:pt x="5028" y="1"/>
                    </a:cubicBezTo>
                    <a:close/>
                    <a:moveTo>
                      <a:pt x="5036" y="1"/>
                    </a:moveTo>
                    <a:lnTo>
                      <a:pt x="5036" y="1"/>
                    </a:lnTo>
                    <a:cubicBezTo>
                      <a:pt x="5037" y="1"/>
                      <a:pt x="5038" y="1"/>
                      <a:pt x="5038" y="3"/>
                    </a:cubicBezTo>
                    <a:cubicBezTo>
                      <a:pt x="5038" y="4"/>
                      <a:pt x="5037" y="5"/>
                      <a:pt x="5036" y="5"/>
                    </a:cubicBezTo>
                    <a:lnTo>
                      <a:pt x="5036" y="5"/>
                    </a:lnTo>
                    <a:cubicBezTo>
                      <a:pt x="5035" y="5"/>
                      <a:pt x="5034" y="4"/>
                      <a:pt x="5034" y="3"/>
                    </a:cubicBezTo>
                    <a:cubicBezTo>
                      <a:pt x="5034" y="1"/>
                      <a:pt x="5035" y="1"/>
                      <a:pt x="5036" y="1"/>
                    </a:cubicBezTo>
                    <a:close/>
                    <a:moveTo>
                      <a:pt x="5044" y="1"/>
                    </a:moveTo>
                    <a:lnTo>
                      <a:pt x="5044" y="1"/>
                    </a:lnTo>
                    <a:cubicBezTo>
                      <a:pt x="5045" y="1"/>
                      <a:pt x="5046" y="1"/>
                      <a:pt x="5046" y="3"/>
                    </a:cubicBezTo>
                    <a:cubicBezTo>
                      <a:pt x="5046" y="4"/>
                      <a:pt x="5045" y="5"/>
                      <a:pt x="5044" y="5"/>
                    </a:cubicBezTo>
                    <a:lnTo>
                      <a:pt x="5044" y="5"/>
                    </a:lnTo>
                    <a:cubicBezTo>
                      <a:pt x="5043" y="5"/>
                      <a:pt x="5042" y="4"/>
                      <a:pt x="5042" y="3"/>
                    </a:cubicBezTo>
                    <a:cubicBezTo>
                      <a:pt x="5042" y="1"/>
                      <a:pt x="5043" y="1"/>
                      <a:pt x="5044" y="1"/>
                    </a:cubicBezTo>
                    <a:close/>
                    <a:moveTo>
                      <a:pt x="5052" y="1"/>
                    </a:moveTo>
                    <a:lnTo>
                      <a:pt x="5052" y="1"/>
                    </a:lnTo>
                    <a:cubicBezTo>
                      <a:pt x="5053" y="1"/>
                      <a:pt x="5054" y="1"/>
                      <a:pt x="5054" y="3"/>
                    </a:cubicBezTo>
                    <a:cubicBezTo>
                      <a:pt x="5054" y="4"/>
                      <a:pt x="5053" y="5"/>
                      <a:pt x="5052" y="5"/>
                    </a:cubicBezTo>
                    <a:lnTo>
                      <a:pt x="5052" y="5"/>
                    </a:lnTo>
                    <a:cubicBezTo>
                      <a:pt x="5051" y="5"/>
                      <a:pt x="5050" y="4"/>
                      <a:pt x="5050" y="3"/>
                    </a:cubicBezTo>
                    <a:cubicBezTo>
                      <a:pt x="5050" y="1"/>
                      <a:pt x="5051" y="1"/>
                      <a:pt x="5052" y="1"/>
                    </a:cubicBezTo>
                    <a:close/>
                    <a:moveTo>
                      <a:pt x="5060" y="1"/>
                    </a:moveTo>
                    <a:lnTo>
                      <a:pt x="5060" y="1"/>
                    </a:lnTo>
                    <a:cubicBezTo>
                      <a:pt x="5061" y="1"/>
                      <a:pt x="5062" y="1"/>
                      <a:pt x="5062" y="3"/>
                    </a:cubicBezTo>
                    <a:cubicBezTo>
                      <a:pt x="5062" y="4"/>
                      <a:pt x="5061" y="5"/>
                      <a:pt x="5060" y="5"/>
                    </a:cubicBezTo>
                    <a:lnTo>
                      <a:pt x="5060" y="5"/>
                    </a:lnTo>
                    <a:cubicBezTo>
                      <a:pt x="5059" y="5"/>
                      <a:pt x="5058" y="4"/>
                      <a:pt x="5058" y="3"/>
                    </a:cubicBezTo>
                    <a:cubicBezTo>
                      <a:pt x="5058" y="1"/>
                      <a:pt x="5059" y="1"/>
                      <a:pt x="5060" y="1"/>
                    </a:cubicBezTo>
                    <a:close/>
                    <a:moveTo>
                      <a:pt x="5068" y="1"/>
                    </a:moveTo>
                    <a:lnTo>
                      <a:pt x="5068" y="1"/>
                    </a:lnTo>
                    <a:cubicBezTo>
                      <a:pt x="5069" y="1"/>
                      <a:pt x="5070" y="1"/>
                      <a:pt x="5070" y="3"/>
                    </a:cubicBezTo>
                    <a:cubicBezTo>
                      <a:pt x="5070" y="4"/>
                      <a:pt x="5069" y="5"/>
                      <a:pt x="5068" y="5"/>
                    </a:cubicBezTo>
                    <a:lnTo>
                      <a:pt x="5068" y="5"/>
                    </a:lnTo>
                    <a:cubicBezTo>
                      <a:pt x="5067" y="5"/>
                      <a:pt x="5066" y="4"/>
                      <a:pt x="5066" y="3"/>
                    </a:cubicBezTo>
                    <a:cubicBezTo>
                      <a:pt x="5066" y="1"/>
                      <a:pt x="5067" y="1"/>
                      <a:pt x="5068" y="1"/>
                    </a:cubicBezTo>
                    <a:close/>
                    <a:moveTo>
                      <a:pt x="5076" y="1"/>
                    </a:moveTo>
                    <a:lnTo>
                      <a:pt x="5076" y="1"/>
                    </a:lnTo>
                    <a:cubicBezTo>
                      <a:pt x="5077" y="1"/>
                      <a:pt x="5078" y="1"/>
                      <a:pt x="5078" y="3"/>
                    </a:cubicBezTo>
                    <a:cubicBezTo>
                      <a:pt x="5078" y="4"/>
                      <a:pt x="5077" y="5"/>
                      <a:pt x="5076" y="5"/>
                    </a:cubicBezTo>
                    <a:lnTo>
                      <a:pt x="5076" y="5"/>
                    </a:lnTo>
                    <a:cubicBezTo>
                      <a:pt x="5075" y="5"/>
                      <a:pt x="5074" y="4"/>
                      <a:pt x="5074" y="3"/>
                    </a:cubicBezTo>
                    <a:cubicBezTo>
                      <a:pt x="5074" y="1"/>
                      <a:pt x="5075" y="1"/>
                      <a:pt x="5076" y="1"/>
                    </a:cubicBezTo>
                    <a:close/>
                    <a:moveTo>
                      <a:pt x="5084" y="1"/>
                    </a:moveTo>
                    <a:lnTo>
                      <a:pt x="5084" y="1"/>
                    </a:lnTo>
                    <a:cubicBezTo>
                      <a:pt x="5085" y="1"/>
                      <a:pt x="5086" y="1"/>
                      <a:pt x="5086" y="3"/>
                    </a:cubicBezTo>
                    <a:cubicBezTo>
                      <a:pt x="5086" y="4"/>
                      <a:pt x="5085" y="5"/>
                      <a:pt x="5084" y="5"/>
                    </a:cubicBezTo>
                    <a:lnTo>
                      <a:pt x="5084" y="5"/>
                    </a:lnTo>
                    <a:cubicBezTo>
                      <a:pt x="5083" y="5"/>
                      <a:pt x="5082" y="4"/>
                      <a:pt x="5082" y="3"/>
                    </a:cubicBezTo>
                    <a:cubicBezTo>
                      <a:pt x="5082" y="1"/>
                      <a:pt x="5083" y="1"/>
                      <a:pt x="5084" y="1"/>
                    </a:cubicBezTo>
                    <a:close/>
                    <a:moveTo>
                      <a:pt x="5092" y="1"/>
                    </a:moveTo>
                    <a:lnTo>
                      <a:pt x="5092" y="1"/>
                    </a:lnTo>
                    <a:cubicBezTo>
                      <a:pt x="5093" y="1"/>
                      <a:pt x="5094" y="1"/>
                      <a:pt x="5094" y="3"/>
                    </a:cubicBezTo>
                    <a:cubicBezTo>
                      <a:pt x="5094" y="4"/>
                      <a:pt x="5093" y="5"/>
                      <a:pt x="5092" y="5"/>
                    </a:cubicBezTo>
                    <a:lnTo>
                      <a:pt x="5092" y="5"/>
                    </a:lnTo>
                    <a:cubicBezTo>
                      <a:pt x="5091" y="5"/>
                      <a:pt x="5090" y="4"/>
                      <a:pt x="5090" y="3"/>
                    </a:cubicBezTo>
                    <a:cubicBezTo>
                      <a:pt x="5090" y="1"/>
                      <a:pt x="5091" y="1"/>
                      <a:pt x="5092" y="1"/>
                    </a:cubicBezTo>
                    <a:close/>
                    <a:moveTo>
                      <a:pt x="5100" y="1"/>
                    </a:moveTo>
                    <a:lnTo>
                      <a:pt x="5100" y="1"/>
                    </a:lnTo>
                    <a:cubicBezTo>
                      <a:pt x="5101" y="1"/>
                      <a:pt x="5102" y="1"/>
                      <a:pt x="5102" y="3"/>
                    </a:cubicBezTo>
                    <a:cubicBezTo>
                      <a:pt x="5102" y="4"/>
                      <a:pt x="5101" y="5"/>
                      <a:pt x="5100" y="5"/>
                    </a:cubicBezTo>
                    <a:lnTo>
                      <a:pt x="5100" y="5"/>
                    </a:lnTo>
                    <a:cubicBezTo>
                      <a:pt x="5099" y="5"/>
                      <a:pt x="5098" y="4"/>
                      <a:pt x="5098" y="3"/>
                    </a:cubicBezTo>
                    <a:cubicBezTo>
                      <a:pt x="5098" y="1"/>
                      <a:pt x="5099" y="1"/>
                      <a:pt x="5100" y="1"/>
                    </a:cubicBezTo>
                    <a:close/>
                    <a:moveTo>
                      <a:pt x="5108" y="1"/>
                    </a:moveTo>
                    <a:lnTo>
                      <a:pt x="5108" y="1"/>
                    </a:lnTo>
                    <a:cubicBezTo>
                      <a:pt x="5109" y="1"/>
                      <a:pt x="5110" y="1"/>
                      <a:pt x="5110" y="3"/>
                    </a:cubicBezTo>
                    <a:cubicBezTo>
                      <a:pt x="5110" y="4"/>
                      <a:pt x="5109" y="5"/>
                      <a:pt x="5108" y="5"/>
                    </a:cubicBezTo>
                    <a:lnTo>
                      <a:pt x="5108" y="5"/>
                    </a:lnTo>
                    <a:cubicBezTo>
                      <a:pt x="5107" y="5"/>
                      <a:pt x="5106" y="4"/>
                      <a:pt x="5106" y="3"/>
                    </a:cubicBezTo>
                    <a:cubicBezTo>
                      <a:pt x="5106" y="1"/>
                      <a:pt x="5107" y="1"/>
                      <a:pt x="5108" y="1"/>
                    </a:cubicBezTo>
                    <a:close/>
                    <a:moveTo>
                      <a:pt x="5116" y="1"/>
                    </a:moveTo>
                    <a:lnTo>
                      <a:pt x="5116" y="1"/>
                    </a:lnTo>
                    <a:cubicBezTo>
                      <a:pt x="5117" y="1"/>
                      <a:pt x="5118" y="1"/>
                      <a:pt x="5118" y="3"/>
                    </a:cubicBezTo>
                    <a:cubicBezTo>
                      <a:pt x="5118" y="4"/>
                      <a:pt x="5117" y="5"/>
                      <a:pt x="5116" y="5"/>
                    </a:cubicBezTo>
                    <a:lnTo>
                      <a:pt x="5116" y="5"/>
                    </a:lnTo>
                    <a:cubicBezTo>
                      <a:pt x="5115" y="5"/>
                      <a:pt x="5114" y="4"/>
                      <a:pt x="5114" y="3"/>
                    </a:cubicBezTo>
                    <a:cubicBezTo>
                      <a:pt x="5114" y="1"/>
                      <a:pt x="5115" y="1"/>
                      <a:pt x="5116" y="1"/>
                    </a:cubicBezTo>
                    <a:close/>
                    <a:moveTo>
                      <a:pt x="5124" y="1"/>
                    </a:moveTo>
                    <a:lnTo>
                      <a:pt x="5124" y="1"/>
                    </a:lnTo>
                    <a:cubicBezTo>
                      <a:pt x="5125" y="1"/>
                      <a:pt x="5126" y="1"/>
                      <a:pt x="5126" y="3"/>
                    </a:cubicBezTo>
                    <a:cubicBezTo>
                      <a:pt x="5126" y="4"/>
                      <a:pt x="5125" y="5"/>
                      <a:pt x="5124" y="5"/>
                    </a:cubicBezTo>
                    <a:lnTo>
                      <a:pt x="5124" y="5"/>
                    </a:lnTo>
                    <a:cubicBezTo>
                      <a:pt x="5123" y="5"/>
                      <a:pt x="5122" y="4"/>
                      <a:pt x="5122" y="3"/>
                    </a:cubicBezTo>
                    <a:cubicBezTo>
                      <a:pt x="5122" y="1"/>
                      <a:pt x="5123" y="1"/>
                      <a:pt x="5124" y="1"/>
                    </a:cubicBezTo>
                    <a:close/>
                    <a:moveTo>
                      <a:pt x="5132" y="1"/>
                    </a:moveTo>
                    <a:lnTo>
                      <a:pt x="5132" y="1"/>
                    </a:lnTo>
                    <a:cubicBezTo>
                      <a:pt x="5133" y="1"/>
                      <a:pt x="5134" y="1"/>
                      <a:pt x="5134" y="3"/>
                    </a:cubicBezTo>
                    <a:cubicBezTo>
                      <a:pt x="5134" y="4"/>
                      <a:pt x="5133" y="5"/>
                      <a:pt x="5132" y="5"/>
                    </a:cubicBezTo>
                    <a:lnTo>
                      <a:pt x="5132" y="5"/>
                    </a:lnTo>
                    <a:cubicBezTo>
                      <a:pt x="5131" y="5"/>
                      <a:pt x="5130" y="4"/>
                      <a:pt x="5130" y="3"/>
                    </a:cubicBezTo>
                    <a:cubicBezTo>
                      <a:pt x="5130" y="1"/>
                      <a:pt x="5131" y="1"/>
                      <a:pt x="5132" y="1"/>
                    </a:cubicBezTo>
                    <a:close/>
                    <a:moveTo>
                      <a:pt x="5140" y="1"/>
                    </a:moveTo>
                    <a:lnTo>
                      <a:pt x="5140" y="1"/>
                    </a:lnTo>
                    <a:cubicBezTo>
                      <a:pt x="5141" y="1"/>
                      <a:pt x="5142" y="1"/>
                      <a:pt x="5142" y="3"/>
                    </a:cubicBezTo>
                    <a:cubicBezTo>
                      <a:pt x="5142" y="4"/>
                      <a:pt x="5141" y="5"/>
                      <a:pt x="5140" y="5"/>
                    </a:cubicBezTo>
                    <a:lnTo>
                      <a:pt x="5140" y="5"/>
                    </a:lnTo>
                    <a:cubicBezTo>
                      <a:pt x="5139" y="5"/>
                      <a:pt x="5138" y="4"/>
                      <a:pt x="5138" y="3"/>
                    </a:cubicBezTo>
                    <a:cubicBezTo>
                      <a:pt x="5138" y="1"/>
                      <a:pt x="5139" y="1"/>
                      <a:pt x="5140" y="1"/>
                    </a:cubicBezTo>
                    <a:close/>
                    <a:moveTo>
                      <a:pt x="5148" y="1"/>
                    </a:moveTo>
                    <a:lnTo>
                      <a:pt x="5148" y="1"/>
                    </a:lnTo>
                    <a:cubicBezTo>
                      <a:pt x="5149" y="1"/>
                      <a:pt x="5150" y="1"/>
                      <a:pt x="5150" y="3"/>
                    </a:cubicBezTo>
                    <a:cubicBezTo>
                      <a:pt x="5150" y="4"/>
                      <a:pt x="5149" y="5"/>
                      <a:pt x="5148" y="5"/>
                    </a:cubicBezTo>
                    <a:lnTo>
                      <a:pt x="5148" y="5"/>
                    </a:lnTo>
                    <a:cubicBezTo>
                      <a:pt x="5147" y="5"/>
                      <a:pt x="5146" y="4"/>
                      <a:pt x="5146" y="3"/>
                    </a:cubicBezTo>
                    <a:cubicBezTo>
                      <a:pt x="5146" y="1"/>
                      <a:pt x="5147" y="1"/>
                      <a:pt x="5148" y="1"/>
                    </a:cubicBezTo>
                    <a:close/>
                    <a:moveTo>
                      <a:pt x="5156" y="1"/>
                    </a:moveTo>
                    <a:lnTo>
                      <a:pt x="5156" y="1"/>
                    </a:lnTo>
                    <a:cubicBezTo>
                      <a:pt x="5157" y="1"/>
                      <a:pt x="5158" y="1"/>
                      <a:pt x="5158" y="3"/>
                    </a:cubicBezTo>
                    <a:cubicBezTo>
                      <a:pt x="5158" y="4"/>
                      <a:pt x="5157" y="5"/>
                      <a:pt x="5156" y="5"/>
                    </a:cubicBezTo>
                    <a:lnTo>
                      <a:pt x="5156" y="5"/>
                    </a:lnTo>
                    <a:cubicBezTo>
                      <a:pt x="5155" y="5"/>
                      <a:pt x="5154" y="4"/>
                      <a:pt x="5154" y="3"/>
                    </a:cubicBezTo>
                    <a:cubicBezTo>
                      <a:pt x="5154" y="1"/>
                      <a:pt x="5155" y="1"/>
                      <a:pt x="5156" y="1"/>
                    </a:cubicBezTo>
                    <a:close/>
                    <a:moveTo>
                      <a:pt x="5164" y="1"/>
                    </a:moveTo>
                    <a:lnTo>
                      <a:pt x="5164" y="1"/>
                    </a:lnTo>
                    <a:cubicBezTo>
                      <a:pt x="5165" y="1"/>
                      <a:pt x="5166" y="1"/>
                      <a:pt x="5166" y="3"/>
                    </a:cubicBezTo>
                    <a:cubicBezTo>
                      <a:pt x="5166" y="4"/>
                      <a:pt x="5165" y="5"/>
                      <a:pt x="5164" y="5"/>
                    </a:cubicBezTo>
                    <a:lnTo>
                      <a:pt x="5164" y="5"/>
                    </a:lnTo>
                    <a:cubicBezTo>
                      <a:pt x="5163" y="5"/>
                      <a:pt x="5162" y="4"/>
                      <a:pt x="5162" y="3"/>
                    </a:cubicBezTo>
                    <a:cubicBezTo>
                      <a:pt x="5162" y="1"/>
                      <a:pt x="5163" y="1"/>
                      <a:pt x="5164" y="1"/>
                    </a:cubicBezTo>
                    <a:close/>
                    <a:moveTo>
                      <a:pt x="5172" y="1"/>
                    </a:moveTo>
                    <a:lnTo>
                      <a:pt x="5172" y="1"/>
                    </a:lnTo>
                    <a:cubicBezTo>
                      <a:pt x="5173" y="1"/>
                      <a:pt x="5174" y="1"/>
                      <a:pt x="5174" y="3"/>
                    </a:cubicBezTo>
                    <a:cubicBezTo>
                      <a:pt x="5174" y="4"/>
                      <a:pt x="5173" y="5"/>
                      <a:pt x="5172" y="5"/>
                    </a:cubicBezTo>
                    <a:lnTo>
                      <a:pt x="5172" y="5"/>
                    </a:lnTo>
                    <a:cubicBezTo>
                      <a:pt x="5171" y="5"/>
                      <a:pt x="5170" y="4"/>
                      <a:pt x="5170" y="3"/>
                    </a:cubicBezTo>
                    <a:cubicBezTo>
                      <a:pt x="5170" y="1"/>
                      <a:pt x="5171" y="1"/>
                      <a:pt x="5172" y="1"/>
                    </a:cubicBezTo>
                    <a:close/>
                    <a:moveTo>
                      <a:pt x="5180" y="1"/>
                    </a:moveTo>
                    <a:lnTo>
                      <a:pt x="5180" y="1"/>
                    </a:lnTo>
                    <a:cubicBezTo>
                      <a:pt x="5181" y="1"/>
                      <a:pt x="5182" y="1"/>
                      <a:pt x="5182" y="3"/>
                    </a:cubicBezTo>
                    <a:cubicBezTo>
                      <a:pt x="5182" y="4"/>
                      <a:pt x="5181" y="5"/>
                      <a:pt x="5180" y="5"/>
                    </a:cubicBezTo>
                    <a:lnTo>
                      <a:pt x="5180" y="5"/>
                    </a:lnTo>
                    <a:cubicBezTo>
                      <a:pt x="5179" y="5"/>
                      <a:pt x="5178" y="4"/>
                      <a:pt x="5178" y="3"/>
                    </a:cubicBezTo>
                    <a:cubicBezTo>
                      <a:pt x="5178" y="1"/>
                      <a:pt x="5179" y="1"/>
                      <a:pt x="5180" y="1"/>
                    </a:cubicBezTo>
                    <a:close/>
                    <a:moveTo>
                      <a:pt x="5188" y="1"/>
                    </a:moveTo>
                    <a:lnTo>
                      <a:pt x="5188" y="1"/>
                    </a:lnTo>
                    <a:cubicBezTo>
                      <a:pt x="5189" y="1"/>
                      <a:pt x="5190" y="1"/>
                      <a:pt x="5190" y="3"/>
                    </a:cubicBezTo>
                    <a:cubicBezTo>
                      <a:pt x="5190" y="4"/>
                      <a:pt x="5189" y="5"/>
                      <a:pt x="5188" y="5"/>
                    </a:cubicBezTo>
                    <a:lnTo>
                      <a:pt x="5188" y="5"/>
                    </a:lnTo>
                    <a:cubicBezTo>
                      <a:pt x="5187" y="5"/>
                      <a:pt x="5186" y="4"/>
                      <a:pt x="5186" y="3"/>
                    </a:cubicBezTo>
                    <a:cubicBezTo>
                      <a:pt x="5186" y="1"/>
                      <a:pt x="5187" y="1"/>
                      <a:pt x="5188" y="1"/>
                    </a:cubicBezTo>
                    <a:close/>
                    <a:moveTo>
                      <a:pt x="5196" y="1"/>
                    </a:moveTo>
                    <a:lnTo>
                      <a:pt x="5196" y="1"/>
                    </a:lnTo>
                    <a:cubicBezTo>
                      <a:pt x="5197" y="1"/>
                      <a:pt x="5198" y="1"/>
                      <a:pt x="5198" y="3"/>
                    </a:cubicBezTo>
                    <a:cubicBezTo>
                      <a:pt x="5198" y="4"/>
                      <a:pt x="5197" y="5"/>
                      <a:pt x="5196" y="5"/>
                    </a:cubicBezTo>
                    <a:lnTo>
                      <a:pt x="5196" y="5"/>
                    </a:lnTo>
                    <a:cubicBezTo>
                      <a:pt x="5195" y="5"/>
                      <a:pt x="5194" y="4"/>
                      <a:pt x="5194" y="3"/>
                    </a:cubicBezTo>
                    <a:cubicBezTo>
                      <a:pt x="5194" y="1"/>
                      <a:pt x="5195" y="1"/>
                      <a:pt x="5196" y="1"/>
                    </a:cubicBezTo>
                    <a:close/>
                    <a:moveTo>
                      <a:pt x="5204" y="1"/>
                    </a:moveTo>
                    <a:lnTo>
                      <a:pt x="5204" y="1"/>
                    </a:lnTo>
                    <a:cubicBezTo>
                      <a:pt x="5205" y="1"/>
                      <a:pt x="5206" y="1"/>
                      <a:pt x="5206" y="3"/>
                    </a:cubicBezTo>
                    <a:cubicBezTo>
                      <a:pt x="5206" y="4"/>
                      <a:pt x="5205" y="5"/>
                      <a:pt x="5204" y="5"/>
                    </a:cubicBezTo>
                    <a:lnTo>
                      <a:pt x="5204" y="5"/>
                    </a:lnTo>
                    <a:cubicBezTo>
                      <a:pt x="5203" y="5"/>
                      <a:pt x="5202" y="4"/>
                      <a:pt x="5202" y="3"/>
                    </a:cubicBezTo>
                    <a:cubicBezTo>
                      <a:pt x="5202" y="1"/>
                      <a:pt x="5203" y="1"/>
                      <a:pt x="5204" y="1"/>
                    </a:cubicBezTo>
                    <a:close/>
                    <a:moveTo>
                      <a:pt x="5212" y="1"/>
                    </a:moveTo>
                    <a:lnTo>
                      <a:pt x="5212" y="1"/>
                    </a:lnTo>
                    <a:cubicBezTo>
                      <a:pt x="5213" y="1"/>
                      <a:pt x="5214" y="1"/>
                      <a:pt x="5214" y="3"/>
                    </a:cubicBezTo>
                    <a:cubicBezTo>
                      <a:pt x="5214" y="4"/>
                      <a:pt x="5213" y="5"/>
                      <a:pt x="5212" y="5"/>
                    </a:cubicBezTo>
                    <a:lnTo>
                      <a:pt x="5212" y="5"/>
                    </a:lnTo>
                    <a:cubicBezTo>
                      <a:pt x="5211" y="5"/>
                      <a:pt x="5210" y="4"/>
                      <a:pt x="5210" y="3"/>
                    </a:cubicBezTo>
                    <a:cubicBezTo>
                      <a:pt x="5210" y="1"/>
                      <a:pt x="5211" y="1"/>
                      <a:pt x="5212" y="1"/>
                    </a:cubicBezTo>
                    <a:close/>
                    <a:moveTo>
                      <a:pt x="5220" y="1"/>
                    </a:moveTo>
                    <a:lnTo>
                      <a:pt x="5220" y="1"/>
                    </a:lnTo>
                    <a:cubicBezTo>
                      <a:pt x="5221" y="1"/>
                      <a:pt x="5222" y="1"/>
                      <a:pt x="5222" y="3"/>
                    </a:cubicBezTo>
                    <a:cubicBezTo>
                      <a:pt x="5222" y="4"/>
                      <a:pt x="5221" y="5"/>
                      <a:pt x="5220" y="5"/>
                    </a:cubicBezTo>
                    <a:lnTo>
                      <a:pt x="5220" y="5"/>
                    </a:lnTo>
                    <a:cubicBezTo>
                      <a:pt x="5219" y="5"/>
                      <a:pt x="5218" y="4"/>
                      <a:pt x="5218" y="3"/>
                    </a:cubicBezTo>
                    <a:cubicBezTo>
                      <a:pt x="5218" y="1"/>
                      <a:pt x="5219" y="1"/>
                      <a:pt x="5220" y="1"/>
                    </a:cubicBezTo>
                    <a:close/>
                    <a:moveTo>
                      <a:pt x="5228" y="1"/>
                    </a:moveTo>
                    <a:lnTo>
                      <a:pt x="5228" y="1"/>
                    </a:lnTo>
                    <a:cubicBezTo>
                      <a:pt x="5229" y="1"/>
                      <a:pt x="5230" y="1"/>
                      <a:pt x="5230" y="3"/>
                    </a:cubicBezTo>
                    <a:cubicBezTo>
                      <a:pt x="5230" y="4"/>
                      <a:pt x="5229" y="5"/>
                      <a:pt x="5228" y="5"/>
                    </a:cubicBezTo>
                    <a:lnTo>
                      <a:pt x="5228" y="5"/>
                    </a:lnTo>
                    <a:cubicBezTo>
                      <a:pt x="5227" y="5"/>
                      <a:pt x="5226" y="4"/>
                      <a:pt x="5226" y="3"/>
                    </a:cubicBezTo>
                    <a:cubicBezTo>
                      <a:pt x="5226" y="1"/>
                      <a:pt x="5227" y="1"/>
                      <a:pt x="5228" y="1"/>
                    </a:cubicBezTo>
                    <a:close/>
                    <a:moveTo>
                      <a:pt x="5236" y="1"/>
                    </a:moveTo>
                    <a:lnTo>
                      <a:pt x="5236" y="1"/>
                    </a:lnTo>
                    <a:cubicBezTo>
                      <a:pt x="5237" y="1"/>
                      <a:pt x="5238" y="1"/>
                      <a:pt x="5238" y="3"/>
                    </a:cubicBezTo>
                    <a:cubicBezTo>
                      <a:pt x="5238" y="4"/>
                      <a:pt x="5237" y="5"/>
                      <a:pt x="5236" y="5"/>
                    </a:cubicBezTo>
                    <a:lnTo>
                      <a:pt x="5236" y="5"/>
                    </a:lnTo>
                    <a:cubicBezTo>
                      <a:pt x="5235" y="5"/>
                      <a:pt x="5234" y="4"/>
                      <a:pt x="5234" y="3"/>
                    </a:cubicBezTo>
                    <a:cubicBezTo>
                      <a:pt x="5234" y="1"/>
                      <a:pt x="5235" y="1"/>
                      <a:pt x="5236" y="1"/>
                    </a:cubicBezTo>
                    <a:close/>
                    <a:moveTo>
                      <a:pt x="5244" y="1"/>
                    </a:moveTo>
                    <a:lnTo>
                      <a:pt x="5244" y="1"/>
                    </a:lnTo>
                    <a:cubicBezTo>
                      <a:pt x="5245" y="1"/>
                      <a:pt x="5246" y="1"/>
                      <a:pt x="5246" y="3"/>
                    </a:cubicBezTo>
                    <a:cubicBezTo>
                      <a:pt x="5246" y="4"/>
                      <a:pt x="5245" y="5"/>
                      <a:pt x="5244" y="5"/>
                    </a:cubicBezTo>
                    <a:lnTo>
                      <a:pt x="5244" y="5"/>
                    </a:lnTo>
                    <a:cubicBezTo>
                      <a:pt x="5243" y="5"/>
                      <a:pt x="5242" y="4"/>
                      <a:pt x="5242" y="3"/>
                    </a:cubicBezTo>
                    <a:cubicBezTo>
                      <a:pt x="5242" y="1"/>
                      <a:pt x="5243" y="1"/>
                      <a:pt x="5244" y="1"/>
                    </a:cubicBezTo>
                    <a:close/>
                    <a:moveTo>
                      <a:pt x="5252" y="1"/>
                    </a:moveTo>
                    <a:lnTo>
                      <a:pt x="5252" y="1"/>
                    </a:lnTo>
                    <a:cubicBezTo>
                      <a:pt x="5253" y="1"/>
                      <a:pt x="5254" y="1"/>
                      <a:pt x="5254" y="3"/>
                    </a:cubicBezTo>
                    <a:cubicBezTo>
                      <a:pt x="5254" y="4"/>
                      <a:pt x="5253" y="5"/>
                      <a:pt x="5252" y="5"/>
                    </a:cubicBezTo>
                    <a:lnTo>
                      <a:pt x="5252" y="5"/>
                    </a:lnTo>
                    <a:cubicBezTo>
                      <a:pt x="5251" y="5"/>
                      <a:pt x="5250" y="4"/>
                      <a:pt x="5250" y="3"/>
                    </a:cubicBezTo>
                    <a:cubicBezTo>
                      <a:pt x="5250" y="1"/>
                      <a:pt x="5251" y="1"/>
                      <a:pt x="5252" y="1"/>
                    </a:cubicBezTo>
                    <a:close/>
                    <a:moveTo>
                      <a:pt x="5260" y="1"/>
                    </a:moveTo>
                    <a:lnTo>
                      <a:pt x="5260" y="1"/>
                    </a:lnTo>
                    <a:cubicBezTo>
                      <a:pt x="5261" y="1"/>
                      <a:pt x="5262" y="1"/>
                      <a:pt x="5262" y="3"/>
                    </a:cubicBezTo>
                    <a:cubicBezTo>
                      <a:pt x="5262" y="4"/>
                      <a:pt x="5261" y="5"/>
                      <a:pt x="5260" y="5"/>
                    </a:cubicBezTo>
                    <a:lnTo>
                      <a:pt x="5260" y="5"/>
                    </a:lnTo>
                    <a:cubicBezTo>
                      <a:pt x="5259" y="5"/>
                      <a:pt x="5258" y="4"/>
                      <a:pt x="5258" y="3"/>
                    </a:cubicBezTo>
                    <a:cubicBezTo>
                      <a:pt x="5258" y="1"/>
                      <a:pt x="5259" y="1"/>
                      <a:pt x="5260" y="1"/>
                    </a:cubicBezTo>
                    <a:close/>
                    <a:moveTo>
                      <a:pt x="5268" y="1"/>
                    </a:moveTo>
                    <a:lnTo>
                      <a:pt x="5268" y="1"/>
                    </a:lnTo>
                    <a:cubicBezTo>
                      <a:pt x="5270" y="1"/>
                      <a:pt x="5270" y="1"/>
                      <a:pt x="5270" y="3"/>
                    </a:cubicBezTo>
                    <a:cubicBezTo>
                      <a:pt x="5270" y="4"/>
                      <a:pt x="5270" y="5"/>
                      <a:pt x="5268" y="5"/>
                    </a:cubicBezTo>
                    <a:lnTo>
                      <a:pt x="5268" y="5"/>
                    </a:lnTo>
                    <a:cubicBezTo>
                      <a:pt x="5267" y="5"/>
                      <a:pt x="5266" y="4"/>
                      <a:pt x="5266" y="3"/>
                    </a:cubicBezTo>
                    <a:cubicBezTo>
                      <a:pt x="5266" y="1"/>
                      <a:pt x="5267" y="1"/>
                      <a:pt x="5268" y="1"/>
                    </a:cubicBezTo>
                    <a:close/>
                    <a:moveTo>
                      <a:pt x="5276" y="1"/>
                    </a:moveTo>
                    <a:lnTo>
                      <a:pt x="5276" y="1"/>
                    </a:lnTo>
                    <a:cubicBezTo>
                      <a:pt x="5278" y="1"/>
                      <a:pt x="5278" y="1"/>
                      <a:pt x="5278" y="3"/>
                    </a:cubicBezTo>
                    <a:cubicBezTo>
                      <a:pt x="5278" y="4"/>
                      <a:pt x="5278" y="5"/>
                      <a:pt x="5276" y="5"/>
                    </a:cubicBezTo>
                    <a:lnTo>
                      <a:pt x="5276" y="5"/>
                    </a:lnTo>
                    <a:cubicBezTo>
                      <a:pt x="5275" y="5"/>
                      <a:pt x="5274" y="4"/>
                      <a:pt x="5274" y="3"/>
                    </a:cubicBezTo>
                    <a:cubicBezTo>
                      <a:pt x="5274" y="1"/>
                      <a:pt x="5275" y="1"/>
                      <a:pt x="5276" y="1"/>
                    </a:cubicBezTo>
                    <a:close/>
                    <a:moveTo>
                      <a:pt x="5284" y="1"/>
                    </a:moveTo>
                    <a:lnTo>
                      <a:pt x="5284" y="1"/>
                    </a:lnTo>
                    <a:cubicBezTo>
                      <a:pt x="5286" y="1"/>
                      <a:pt x="5286" y="1"/>
                      <a:pt x="5286" y="3"/>
                    </a:cubicBezTo>
                    <a:cubicBezTo>
                      <a:pt x="5286" y="4"/>
                      <a:pt x="5286" y="5"/>
                      <a:pt x="5284" y="5"/>
                    </a:cubicBezTo>
                    <a:lnTo>
                      <a:pt x="5284" y="5"/>
                    </a:lnTo>
                    <a:cubicBezTo>
                      <a:pt x="5283" y="5"/>
                      <a:pt x="5282" y="4"/>
                      <a:pt x="5282" y="3"/>
                    </a:cubicBezTo>
                    <a:cubicBezTo>
                      <a:pt x="5282" y="1"/>
                      <a:pt x="5283" y="1"/>
                      <a:pt x="5284" y="1"/>
                    </a:cubicBezTo>
                    <a:close/>
                    <a:moveTo>
                      <a:pt x="5292" y="1"/>
                    </a:moveTo>
                    <a:lnTo>
                      <a:pt x="5292" y="1"/>
                    </a:lnTo>
                    <a:cubicBezTo>
                      <a:pt x="5294" y="1"/>
                      <a:pt x="5294" y="1"/>
                      <a:pt x="5294" y="3"/>
                    </a:cubicBezTo>
                    <a:cubicBezTo>
                      <a:pt x="5294" y="4"/>
                      <a:pt x="5294" y="5"/>
                      <a:pt x="5292" y="5"/>
                    </a:cubicBezTo>
                    <a:lnTo>
                      <a:pt x="5292" y="5"/>
                    </a:lnTo>
                    <a:cubicBezTo>
                      <a:pt x="5291" y="5"/>
                      <a:pt x="5290" y="4"/>
                      <a:pt x="5290" y="3"/>
                    </a:cubicBezTo>
                    <a:cubicBezTo>
                      <a:pt x="5290" y="1"/>
                      <a:pt x="5291" y="1"/>
                      <a:pt x="5292" y="1"/>
                    </a:cubicBezTo>
                    <a:close/>
                    <a:moveTo>
                      <a:pt x="5300" y="1"/>
                    </a:moveTo>
                    <a:lnTo>
                      <a:pt x="5300" y="1"/>
                    </a:lnTo>
                    <a:cubicBezTo>
                      <a:pt x="5302" y="1"/>
                      <a:pt x="5302" y="2"/>
                      <a:pt x="5302" y="3"/>
                    </a:cubicBezTo>
                    <a:cubicBezTo>
                      <a:pt x="5302" y="4"/>
                      <a:pt x="5302" y="5"/>
                      <a:pt x="5300" y="5"/>
                    </a:cubicBezTo>
                    <a:lnTo>
                      <a:pt x="5300" y="5"/>
                    </a:lnTo>
                    <a:cubicBezTo>
                      <a:pt x="5299" y="5"/>
                      <a:pt x="5298" y="4"/>
                      <a:pt x="5298" y="3"/>
                    </a:cubicBezTo>
                    <a:cubicBezTo>
                      <a:pt x="5298" y="2"/>
                      <a:pt x="5299" y="1"/>
                      <a:pt x="5300" y="1"/>
                    </a:cubicBezTo>
                    <a:close/>
                    <a:moveTo>
                      <a:pt x="5308" y="1"/>
                    </a:moveTo>
                    <a:lnTo>
                      <a:pt x="5308" y="1"/>
                    </a:lnTo>
                    <a:cubicBezTo>
                      <a:pt x="5310" y="1"/>
                      <a:pt x="5310" y="2"/>
                      <a:pt x="5310" y="3"/>
                    </a:cubicBezTo>
                    <a:cubicBezTo>
                      <a:pt x="5310" y="4"/>
                      <a:pt x="5310" y="5"/>
                      <a:pt x="5308" y="5"/>
                    </a:cubicBezTo>
                    <a:lnTo>
                      <a:pt x="5308" y="5"/>
                    </a:lnTo>
                    <a:cubicBezTo>
                      <a:pt x="5307" y="5"/>
                      <a:pt x="5306" y="4"/>
                      <a:pt x="5306" y="3"/>
                    </a:cubicBezTo>
                    <a:cubicBezTo>
                      <a:pt x="5306" y="2"/>
                      <a:pt x="5307" y="1"/>
                      <a:pt x="5308" y="1"/>
                    </a:cubicBezTo>
                    <a:close/>
                    <a:moveTo>
                      <a:pt x="5316" y="1"/>
                    </a:moveTo>
                    <a:lnTo>
                      <a:pt x="5316" y="1"/>
                    </a:lnTo>
                    <a:cubicBezTo>
                      <a:pt x="5318" y="1"/>
                      <a:pt x="5318" y="2"/>
                      <a:pt x="5318" y="3"/>
                    </a:cubicBezTo>
                    <a:cubicBezTo>
                      <a:pt x="5318" y="4"/>
                      <a:pt x="5318" y="5"/>
                      <a:pt x="5316" y="5"/>
                    </a:cubicBezTo>
                    <a:lnTo>
                      <a:pt x="5316" y="5"/>
                    </a:lnTo>
                    <a:cubicBezTo>
                      <a:pt x="5315" y="5"/>
                      <a:pt x="5314" y="4"/>
                      <a:pt x="5314" y="3"/>
                    </a:cubicBezTo>
                    <a:cubicBezTo>
                      <a:pt x="5314" y="2"/>
                      <a:pt x="5315" y="1"/>
                      <a:pt x="5316" y="1"/>
                    </a:cubicBezTo>
                    <a:close/>
                    <a:moveTo>
                      <a:pt x="5324" y="1"/>
                    </a:moveTo>
                    <a:lnTo>
                      <a:pt x="5324" y="1"/>
                    </a:lnTo>
                    <a:cubicBezTo>
                      <a:pt x="5326" y="1"/>
                      <a:pt x="5326" y="2"/>
                      <a:pt x="5326" y="3"/>
                    </a:cubicBezTo>
                    <a:cubicBezTo>
                      <a:pt x="5326" y="4"/>
                      <a:pt x="5326" y="5"/>
                      <a:pt x="5324" y="5"/>
                    </a:cubicBezTo>
                    <a:lnTo>
                      <a:pt x="5324" y="5"/>
                    </a:lnTo>
                    <a:cubicBezTo>
                      <a:pt x="5323" y="5"/>
                      <a:pt x="5322" y="4"/>
                      <a:pt x="5322" y="3"/>
                    </a:cubicBezTo>
                    <a:cubicBezTo>
                      <a:pt x="5322" y="2"/>
                      <a:pt x="5323" y="1"/>
                      <a:pt x="5324" y="1"/>
                    </a:cubicBezTo>
                    <a:close/>
                    <a:moveTo>
                      <a:pt x="5332" y="1"/>
                    </a:moveTo>
                    <a:lnTo>
                      <a:pt x="5332" y="1"/>
                    </a:lnTo>
                    <a:cubicBezTo>
                      <a:pt x="5334" y="1"/>
                      <a:pt x="5334" y="2"/>
                      <a:pt x="5334" y="3"/>
                    </a:cubicBezTo>
                    <a:cubicBezTo>
                      <a:pt x="5334" y="4"/>
                      <a:pt x="5334" y="5"/>
                      <a:pt x="5332" y="5"/>
                    </a:cubicBezTo>
                    <a:lnTo>
                      <a:pt x="5332" y="5"/>
                    </a:lnTo>
                    <a:cubicBezTo>
                      <a:pt x="5331" y="5"/>
                      <a:pt x="5330" y="4"/>
                      <a:pt x="5330" y="3"/>
                    </a:cubicBezTo>
                    <a:cubicBezTo>
                      <a:pt x="5330" y="2"/>
                      <a:pt x="5331" y="1"/>
                      <a:pt x="5332" y="1"/>
                    </a:cubicBezTo>
                    <a:close/>
                    <a:moveTo>
                      <a:pt x="5340" y="1"/>
                    </a:moveTo>
                    <a:lnTo>
                      <a:pt x="5340" y="1"/>
                    </a:lnTo>
                    <a:cubicBezTo>
                      <a:pt x="5342" y="1"/>
                      <a:pt x="5342" y="2"/>
                      <a:pt x="5342" y="3"/>
                    </a:cubicBezTo>
                    <a:cubicBezTo>
                      <a:pt x="5342" y="4"/>
                      <a:pt x="5342" y="5"/>
                      <a:pt x="5340" y="5"/>
                    </a:cubicBezTo>
                    <a:lnTo>
                      <a:pt x="5340" y="5"/>
                    </a:lnTo>
                    <a:cubicBezTo>
                      <a:pt x="5339" y="5"/>
                      <a:pt x="5338" y="4"/>
                      <a:pt x="5338" y="3"/>
                    </a:cubicBezTo>
                    <a:cubicBezTo>
                      <a:pt x="5338" y="2"/>
                      <a:pt x="5339" y="1"/>
                      <a:pt x="5340" y="1"/>
                    </a:cubicBezTo>
                    <a:close/>
                    <a:moveTo>
                      <a:pt x="5348" y="1"/>
                    </a:moveTo>
                    <a:lnTo>
                      <a:pt x="5348" y="1"/>
                    </a:lnTo>
                    <a:cubicBezTo>
                      <a:pt x="5350" y="1"/>
                      <a:pt x="5350" y="2"/>
                      <a:pt x="5350" y="3"/>
                    </a:cubicBezTo>
                    <a:cubicBezTo>
                      <a:pt x="5350" y="4"/>
                      <a:pt x="5350" y="5"/>
                      <a:pt x="5348" y="5"/>
                    </a:cubicBezTo>
                    <a:lnTo>
                      <a:pt x="5348" y="5"/>
                    </a:lnTo>
                    <a:cubicBezTo>
                      <a:pt x="5347" y="5"/>
                      <a:pt x="5346" y="4"/>
                      <a:pt x="5346" y="3"/>
                    </a:cubicBezTo>
                    <a:cubicBezTo>
                      <a:pt x="5346" y="2"/>
                      <a:pt x="5347" y="1"/>
                      <a:pt x="5348" y="1"/>
                    </a:cubicBezTo>
                    <a:close/>
                    <a:moveTo>
                      <a:pt x="5356" y="1"/>
                    </a:moveTo>
                    <a:lnTo>
                      <a:pt x="5356" y="1"/>
                    </a:lnTo>
                    <a:cubicBezTo>
                      <a:pt x="5358" y="1"/>
                      <a:pt x="5358" y="2"/>
                      <a:pt x="5358" y="3"/>
                    </a:cubicBezTo>
                    <a:cubicBezTo>
                      <a:pt x="5358" y="4"/>
                      <a:pt x="5358" y="5"/>
                      <a:pt x="5356" y="5"/>
                    </a:cubicBezTo>
                    <a:lnTo>
                      <a:pt x="5356" y="5"/>
                    </a:lnTo>
                    <a:cubicBezTo>
                      <a:pt x="5355" y="5"/>
                      <a:pt x="5354" y="4"/>
                      <a:pt x="5354" y="3"/>
                    </a:cubicBezTo>
                    <a:cubicBezTo>
                      <a:pt x="5354" y="2"/>
                      <a:pt x="5355" y="1"/>
                      <a:pt x="5356" y="1"/>
                    </a:cubicBezTo>
                    <a:close/>
                    <a:moveTo>
                      <a:pt x="5364" y="1"/>
                    </a:moveTo>
                    <a:lnTo>
                      <a:pt x="5364" y="1"/>
                    </a:lnTo>
                    <a:cubicBezTo>
                      <a:pt x="5366" y="1"/>
                      <a:pt x="5366" y="2"/>
                      <a:pt x="5366" y="3"/>
                    </a:cubicBezTo>
                    <a:cubicBezTo>
                      <a:pt x="5366" y="4"/>
                      <a:pt x="5366" y="5"/>
                      <a:pt x="5364" y="5"/>
                    </a:cubicBezTo>
                    <a:lnTo>
                      <a:pt x="5364" y="5"/>
                    </a:lnTo>
                    <a:cubicBezTo>
                      <a:pt x="5363" y="5"/>
                      <a:pt x="5362" y="4"/>
                      <a:pt x="5362" y="3"/>
                    </a:cubicBezTo>
                    <a:cubicBezTo>
                      <a:pt x="5362" y="2"/>
                      <a:pt x="5363" y="1"/>
                      <a:pt x="5364" y="1"/>
                    </a:cubicBezTo>
                    <a:close/>
                    <a:moveTo>
                      <a:pt x="5372" y="1"/>
                    </a:moveTo>
                    <a:lnTo>
                      <a:pt x="5372" y="1"/>
                    </a:lnTo>
                    <a:cubicBezTo>
                      <a:pt x="5374" y="1"/>
                      <a:pt x="5374" y="2"/>
                      <a:pt x="5374" y="3"/>
                    </a:cubicBezTo>
                    <a:cubicBezTo>
                      <a:pt x="5374" y="4"/>
                      <a:pt x="5374" y="5"/>
                      <a:pt x="5372" y="5"/>
                    </a:cubicBezTo>
                    <a:lnTo>
                      <a:pt x="5372" y="5"/>
                    </a:lnTo>
                    <a:cubicBezTo>
                      <a:pt x="5371" y="5"/>
                      <a:pt x="5370" y="4"/>
                      <a:pt x="5370" y="3"/>
                    </a:cubicBezTo>
                    <a:cubicBezTo>
                      <a:pt x="5370" y="2"/>
                      <a:pt x="5371" y="1"/>
                      <a:pt x="5372" y="1"/>
                    </a:cubicBezTo>
                    <a:close/>
                    <a:moveTo>
                      <a:pt x="5380" y="1"/>
                    </a:moveTo>
                    <a:lnTo>
                      <a:pt x="5380" y="1"/>
                    </a:lnTo>
                    <a:cubicBezTo>
                      <a:pt x="5382" y="1"/>
                      <a:pt x="5382" y="2"/>
                      <a:pt x="5382" y="3"/>
                    </a:cubicBezTo>
                    <a:cubicBezTo>
                      <a:pt x="5382" y="4"/>
                      <a:pt x="5382" y="5"/>
                      <a:pt x="5380" y="5"/>
                    </a:cubicBezTo>
                    <a:lnTo>
                      <a:pt x="5380" y="5"/>
                    </a:lnTo>
                    <a:cubicBezTo>
                      <a:pt x="5379" y="5"/>
                      <a:pt x="5378" y="4"/>
                      <a:pt x="5378" y="3"/>
                    </a:cubicBezTo>
                    <a:cubicBezTo>
                      <a:pt x="5378" y="2"/>
                      <a:pt x="5379" y="1"/>
                      <a:pt x="5380" y="1"/>
                    </a:cubicBezTo>
                    <a:close/>
                    <a:moveTo>
                      <a:pt x="5388" y="1"/>
                    </a:moveTo>
                    <a:lnTo>
                      <a:pt x="5388" y="1"/>
                    </a:lnTo>
                    <a:cubicBezTo>
                      <a:pt x="5390" y="1"/>
                      <a:pt x="5390" y="2"/>
                      <a:pt x="5390" y="3"/>
                    </a:cubicBezTo>
                    <a:cubicBezTo>
                      <a:pt x="5390" y="4"/>
                      <a:pt x="5390" y="5"/>
                      <a:pt x="5388" y="5"/>
                    </a:cubicBezTo>
                    <a:lnTo>
                      <a:pt x="5388" y="5"/>
                    </a:lnTo>
                    <a:cubicBezTo>
                      <a:pt x="5387" y="5"/>
                      <a:pt x="5386" y="4"/>
                      <a:pt x="5386" y="3"/>
                    </a:cubicBezTo>
                    <a:cubicBezTo>
                      <a:pt x="5386" y="2"/>
                      <a:pt x="5387" y="1"/>
                      <a:pt x="5388" y="1"/>
                    </a:cubicBezTo>
                    <a:close/>
                    <a:moveTo>
                      <a:pt x="5396" y="1"/>
                    </a:moveTo>
                    <a:lnTo>
                      <a:pt x="5396" y="1"/>
                    </a:lnTo>
                    <a:cubicBezTo>
                      <a:pt x="5398" y="1"/>
                      <a:pt x="5398" y="2"/>
                      <a:pt x="5398" y="3"/>
                    </a:cubicBezTo>
                    <a:cubicBezTo>
                      <a:pt x="5398" y="4"/>
                      <a:pt x="5398" y="5"/>
                      <a:pt x="5396" y="5"/>
                    </a:cubicBezTo>
                    <a:lnTo>
                      <a:pt x="5396" y="5"/>
                    </a:lnTo>
                    <a:cubicBezTo>
                      <a:pt x="5395" y="5"/>
                      <a:pt x="5394" y="4"/>
                      <a:pt x="5394" y="3"/>
                    </a:cubicBezTo>
                    <a:cubicBezTo>
                      <a:pt x="5394" y="2"/>
                      <a:pt x="5395" y="1"/>
                      <a:pt x="5396" y="1"/>
                    </a:cubicBezTo>
                    <a:close/>
                    <a:moveTo>
                      <a:pt x="5404" y="1"/>
                    </a:moveTo>
                    <a:lnTo>
                      <a:pt x="5404" y="1"/>
                    </a:lnTo>
                    <a:cubicBezTo>
                      <a:pt x="5406" y="1"/>
                      <a:pt x="5406" y="2"/>
                      <a:pt x="5406" y="3"/>
                    </a:cubicBezTo>
                    <a:cubicBezTo>
                      <a:pt x="5406" y="4"/>
                      <a:pt x="5406" y="5"/>
                      <a:pt x="5404" y="5"/>
                    </a:cubicBezTo>
                    <a:lnTo>
                      <a:pt x="5404" y="5"/>
                    </a:lnTo>
                    <a:cubicBezTo>
                      <a:pt x="5403" y="5"/>
                      <a:pt x="5402" y="4"/>
                      <a:pt x="5402" y="3"/>
                    </a:cubicBezTo>
                    <a:cubicBezTo>
                      <a:pt x="5402" y="2"/>
                      <a:pt x="5403" y="1"/>
                      <a:pt x="5404" y="1"/>
                    </a:cubicBezTo>
                    <a:close/>
                    <a:moveTo>
                      <a:pt x="5412" y="1"/>
                    </a:moveTo>
                    <a:lnTo>
                      <a:pt x="5412" y="1"/>
                    </a:lnTo>
                    <a:cubicBezTo>
                      <a:pt x="5414" y="1"/>
                      <a:pt x="5414" y="2"/>
                      <a:pt x="5414" y="3"/>
                    </a:cubicBezTo>
                    <a:cubicBezTo>
                      <a:pt x="5414" y="4"/>
                      <a:pt x="5414" y="5"/>
                      <a:pt x="5412" y="5"/>
                    </a:cubicBezTo>
                    <a:lnTo>
                      <a:pt x="5412" y="5"/>
                    </a:lnTo>
                    <a:cubicBezTo>
                      <a:pt x="5411" y="5"/>
                      <a:pt x="5410" y="4"/>
                      <a:pt x="5410" y="3"/>
                    </a:cubicBezTo>
                    <a:cubicBezTo>
                      <a:pt x="5410" y="2"/>
                      <a:pt x="5411" y="1"/>
                      <a:pt x="5412" y="1"/>
                    </a:cubicBezTo>
                    <a:close/>
                    <a:moveTo>
                      <a:pt x="5420" y="1"/>
                    </a:moveTo>
                    <a:lnTo>
                      <a:pt x="5420" y="1"/>
                    </a:lnTo>
                    <a:cubicBezTo>
                      <a:pt x="5422" y="1"/>
                      <a:pt x="5422" y="2"/>
                      <a:pt x="5422" y="3"/>
                    </a:cubicBezTo>
                    <a:cubicBezTo>
                      <a:pt x="5422" y="4"/>
                      <a:pt x="5422" y="5"/>
                      <a:pt x="5420" y="5"/>
                    </a:cubicBezTo>
                    <a:lnTo>
                      <a:pt x="5420" y="5"/>
                    </a:lnTo>
                    <a:cubicBezTo>
                      <a:pt x="5419" y="5"/>
                      <a:pt x="5418" y="4"/>
                      <a:pt x="5418" y="3"/>
                    </a:cubicBezTo>
                    <a:cubicBezTo>
                      <a:pt x="5418" y="2"/>
                      <a:pt x="5419" y="1"/>
                      <a:pt x="5420" y="1"/>
                    </a:cubicBezTo>
                    <a:close/>
                    <a:moveTo>
                      <a:pt x="5428" y="1"/>
                    </a:moveTo>
                    <a:lnTo>
                      <a:pt x="5428" y="1"/>
                    </a:lnTo>
                    <a:cubicBezTo>
                      <a:pt x="5430" y="1"/>
                      <a:pt x="5430" y="2"/>
                      <a:pt x="5430" y="3"/>
                    </a:cubicBezTo>
                    <a:cubicBezTo>
                      <a:pt x="5430" y="4"/>
                      <a:pt x="5430" y="5"/>
                      <a:pt x="5428" y="5"/>
                    </a:cubicBezTo>
                    <a:lnTo>
                      <a:pt x="5428" y="5"/>
                    </a:lnTo>
                    <a:cubicBezTo>
                      <a:pt x="5427" y="5"/>
                      <a:pt x="5426" y="4"/>
                      <a:pt x="5426" y="3"/>
                    </a:cubicBezTo>
                    <a:cubicBezTo>
                      <a:pt x="5426" y="2"/>
                      <a:pt x="5427" y="1"/>
                      <a:pt x="5428" y="1"/>
                    </a:cubicBezTo>
                    <a:close/>
                    <a:moveTo>
                      <a:pt x="5436" y="1"/>
                    </a:moveTo>
                    <a:lnTo>
                      <a:pt x="5436" y="1"/>
                    </a:lnTo>
                    <a:cubicBezTo>
                      <a:pt x="5438" y="1"/>
                      <a:pt x="5438" y="2"/>
                      <a:pt x="5438" y="3"/>
                    </a:cubicBezTo>
                    <a:cubicBezTo>
                      <a:pt x="5438" y="4"/>
                      <a:pt x="5438" y="5"/>
                      <a:pt x="5436" y="5"/>
                    </a:cubicBezTo>
                    <a:lnTo>
                      <a:pt x="5436" y="5"/>
                    </a:lnTo>
                    <a:cubicBezTo>
                      <a:pt x="5435" y="5"/>
                      <a:pt x="5434" y="4"/>
                      <a:pt x="5434" y="3"/>
                    </a:cubicBezTo>
                    <a:cubicBezTo>
                      <a:pt x="5434" y="2"/>
                      <a:pt x="5435" y="1"/>
                      <a:pt x="5436" y="1"/>
                    </a:cubicBezTo>
                    <a:close/>
                    <a:moveTo>
                      <a:pt x="5444" y="1"/>
                    </a:moveTo>
                    <a:lnTo>
                      <a:pt x="5444" y="1"/>
                    </a:lnTo>
                    <a:cubicBezTo>
                      <a:pt x="5446" y="1"/>
                      <a:pt x="5446" y="2"/>
                      <a:pt x="5446" y="3"/>
                    </a:cubicBezTo>
                    <a:cubicBezTo>
                      <a:pt x="5446" y="4"/>
                      <a:pt x="5446" y="5"/>
                      <a:pt x="5444" y="5"/>
                    </a:cubicBezTo>
                    <a:lnTo>
                      <a:pt x="5444" y="5"/>
                    </a:lnTo>
                    <a:cubicBezTo>
                      <a:pt x="5443" y="5"/>
                      <a:pt x="5442" y="4"/>
                      <a:pt x="5442" y="3"/>
                    </a:cubicBezTo>
                    <a:cubicBezTo>
                      <a:pt x="5442" y="2"/>
                      <a:pt x="5443" y="1"/>
                      <a:pt x="5444" y="1"/>
                    </a:cubicBezTo>
                    <a:close/>
                    <a:moveTo>
                      <a:pt x="5452" y="1"/>
                    </a:moveTo>
                    <a:lnTo>
                      <a:pt x="5452" y="1"/>
                    </a:lnTo>
                    <a:cubicBezTo>
                      <a:pt x="5454" y="1"/>
                      <a:pt x="5454" y="2"/>
                      <a:pt x="5454" y="3"/>
                    </a:cubicBezTo>
                    <a:cubicBezTo>
                      <a:pt x="5454" y="4"/>
                      <a:pt x="5454" y="5"/>
                      <a:pt x="5452" y="5"/>
                    </a:cubicBezTo>
                    <a:lnTo>
                      <a:pt x="5452" y="5"/>
                    </a:lnTo>
                    <a:cubicBezTo>
                      <a:pt x="5451" y="5"/>
                      <a:pt x="5450" y="4"/>
                      <a:pt x="5450" y="3"/>
                    </a:cubicBezTo>
                    <a:cubicBezTo>
                      <a:pt x="5450" y="2"/>
                      <a:pt x="5451" y="1"/>
                      <a:pt x="5452" y="1"/>
                    </a:cubicBezTo>
                    <a:close/>
                    <a:moveTo>
                      <a:pt x="5460" y="1"/>
                    </a:moveTo>
                    <a:lnTo>
                      <a:pt x="5460" y="1"/>
                    </a:lnTo>
                    <a:cubicBezTo>
                      <a:pt x="5462" y="1"/>
                      <a:pt x="5462" y="2"/>
                      <a:pt x="5462" y="3"/>
                    </a:cubicBezTo>
                    <a:cubicBezTo>
                      <a:pt x="5462" y="4"/>
                      <a:pt x="5462" y="5"/>
                      <a:pt x="5460" y="5"/>
                    </a:cubicBezTo>
                    <a:lnTo>
                      <a:pt x="5460" y="5"/>
                    </a:lnTo>
                    <a:cubicBezTo>
                      <a:pt x="5459" y="5"/>
                      <a:pt x="5458" y="4"/>
                      <a:pt x="5458" y="3"/>
                    </a:cubicBezTo>
                    <a:cubicBezTo>
                      <a:pt x="5458" y="2"/>
                      <a:pt x="5459" y="1"/>
                      <a:pt x="5460" y="1"/>
                    </a:cubicBezTo>
                    <a:close/>
                    <a:moveTo>
                      <a:pt x="5468" y="1"/>
                    </a:moveTo>
                    <a:lnTo>
                      <a:pt x="5468" y="1"/>
                    </a:lnTo>
                    <a:cubicBezTo>
                      <a:pt x="5470" y="1"/>
                      <a:pt x="5470" y="2"/>
                      <a:pt x="5470" y="3"/>
                    </a:cubicBezTo>
                    <a:cubicBezTo>
                      <a:pt x="5470" y="4"/>
                      <a:pt x="5470" y="5"/>
                      <a:pt x="5468" y="5"/>
                    </a:cubicBezTo>
                    <a:lnTo>
                      <a:pt x="5468" y="5"/>
                    </a:lnTo>
                    <a:cubicBezTo>
                      <a:pt x="5467" y="5"/>
                      <a:pt x="5466" y="4"/>
                      <a:pt x="5466" y="3"/>
                    </a:cubicBezTo>
                    <a:cubicBezTo>
                      <a:pt x="5466" y="2"/>
                      <a:pt x="5467" y="1"/>
                      <a:pt x="5468" y="1"/>
                    </a:cubicBezTo>
                    <a:close/>
                    <a:moveTo>
                      <a:pt x="5476" y="1"/>
                    </a:moveTo>
                    <a:lnTo>
                      <a:pt x="5476" y="1"/>
                    </a:lnTo>
                    <a:cubicBezTo>
                      <a:pt x="5478" y="1"/>
                      <a:pt x="5478" y="2"/>
                      <a:pt x="5478" y="3"/>
                    </a:cubicBezTo>
                    <a:cubicBezTo>
                      <a:pt x="5478" y="4"/>
                      <a:pt x="5478" y="5"/>
                      <a:pt x="5476" y="5"/>
                    </a:cubicBezTo>
                    <a:lnTo>
                      <a:pt x="5476" y="5"/>
                    </a:lnTo>
                    <a:cubicBezTo>
                      <a:pt x="5475" y="5"/>
                      <a:pt x="5474" y="4"/>
                      <a:pt x="5474" y="3"/>
                    </a:cubicBezTo>
                    <a:cubicBezTo>
                      <a:pt x="5474" y="2"/>
                      <a:pt x="5475" y="1"/>
                      <a:pt x="5476" y="1"/>
                    </a:cubicBezTo>
                    <a:close/>
                    <a:moveTo>
                      <a:pt x="5484" y="1"/>
                    </a:moveTo>
                    <a:lnTo>
                      <a:pt x="5485" y="1"/>
                    </a:lnTo>
                    <a:cubicBezTo>
                      <a:pt x="5486" y="1"/>
                      <a:pt x="5487" y="2"/>
                      <a:pt x="5487" y="3"/>
                    </a:cubicBezTo>
                    <a:cubicBezTo>
                      <a:pt x="5487" y="4"/>
                      <a:pt x="5486" y="5"/>
                      <a:pt x="5485" y="5"/>
                    </a:cubicBezTo>
                    <a:lnTo>
                      <a:pt x="5484" y="5"/>
                    </a:lnTo>
                    <a:cubicBezTo>
                      <a:pt x="5483" y="5"/>
                      <a:pt x="5482" y="4"/>
                      <a:pt x="5482" y="3"/>
                    </a:cubicBezTo>
                    <a:cubicBezTo>
                      <a:pt x="5482" y="2"/>
                      <a:pt x="5483" y="1"/>
                      <a:pt x="5484" y="1"/>
                    </a:cubicBezTo>
                    <a:close/>
                    <a:moveTo>
                      <a:pt x="5493" y="1"/>
                    </a:moveTo>
                    <a:lnTo>
                      <a:pt x="5493" y="1"/>
                    </a:lnTo>
                    <a:cubicBezTo>
                      <a:pt x="5494" y="1"/>
                      <a:pt x="5495" y="2"/>
                      <a:pt x="5495" y="3"/>
                    </a:cubicBezTo>
                    <a:cubicBezTo>
                      <a:pt x="5495" y="4"/>
                      <a:pt x="5494" y="5"/>
                      <a:pt x="5493" y="5"/>
                    </a:cubicBezTo>
                    <a:lnTo>
                      <a:pt x="5493" y="5"/>
                    </a:lnTo>
                    <a:cubicBezTo>
                      <a:pt x="5491" y="5"/>
                      <a:pt x="5491" y="4"/>
                      <a:pt x="5491" y="3"/>
                    </a:cubicBezTo>
                    <a:cubicBezTo>
                      <a:pt x="5491" y="2"/>
                      <a:pt x="5491" y="1"/>
                      <a:pt x="5493" y="1"/>
                    </a:cubicBezTo>
                    <a:close/>
                    <a:moveTo>
                      <a:pt x="5501" y="1"/>
                    </a:moveTo>
                    <a:lnTo>
                      <a:pt x="5501" y="1"/>
                    </a:lnTo>
                    <a:cubicBezTo>
                      <a:pt x="5502" y="1"/>
                      <a:pt x="5503" y="2"/>
                      <a:pt x="5503" y="3"/>
                    </a:cubicBezTo>
                    <a:cubicBezTo>
                      <a:pt x="5503" y="4"/>
                      <a:pt x="5502" y="5"/>
                      <a:pt x="5501" y="5"/>
                    </a:cubicBezTo>
                    <a:lnTo>
                      <a:pt x="5501" y="5"/>
                    </a:lnTo>
                    <a:cubicBezTo>
                      <a:pt x="5499" y="5"/>
                      <a:pt x="5499" y="4"/>
                      <a:pt x="5499" y="3"/>
                    </a:cubicBezTo>
                    <a:cubicBezTo>
                      <a:pt x="5499" y="2"/>
                      <a:pt x="5499" y="1"/>
                      <a:pt x="5501" y="1"/>
                    </a:cubicBezTo>
                    <a:close/>
                    <a:moveTo>
                      <a:pt x="5509" y="1"/>
                    </a:moveTo>
                    <a:lnTo>
                      <a:pt x="5509" y="1"/>
                    </a:lnTo>
                    <a:cubicBezTo>
                      <a:pt x="5510" y="1"/>
                      <a:pt x="5511" y="2"/>
                      <a:pt x="5511" y="3"/>
                    </a:cubicBezTo>
                    <a:cubicBezTo>
                      <a:pt x="5511" y="4"/>
                      <a:pt x="5510" y="5"/>
                      <a:pt x="5509" y="5"/>
                    </a:cubicBezTo>
                    <a:lnTo>
                      <a:pt x="5509" y="5"/>
                    </a:lnTo>
                    <a:cubicBezTo>
                      <a:pt x="5507" y="5"/>
                      <a:pt x="5507" y="4"/>
                      <a:pt x="5507" y="3"/>
                    </a:cubicBezTo>
                    <a:cubicBezTo>
                      <a:pt x="5507" y="2"/>
                      <a:pt x="5507" y="1"/>
                      <a:pt x="5509" y="1"/>
                    </a:cubicBezTo>
                    <a:close/>
                    <a:moveTo>
                      <a:pt x="5517" y="1"/>
                    </a:moveTo>
                    <a:lnTo>
                      <a:pt x="5517" y="1"/>
                    </a:lnTo>
                    <a:cubicBezTo>
                      <a:pt x="5518" y="1"/>
                      <a:pt x="5519" y="2"/>
                      <a:pt x="5519" y="3"/>
                    </a:cubicBezTo>
                    <a:cubicBezTo>
                      <a:pt x="5519" y="4"/>
                      <a:pt x="5518" y="5"/>
                      <a:pt x="5517" y="5"/>
                    </a:cubicBezTo>
                    <a:lnTo>
                      <a:pt x="5517" y="5"/>
                    </a:lnTo>
                    <a:cubicBezTo>
                      <a:pt x="5515" y="5"/>
                      <a:pt x="5515" y="4"/>
                      <a:pt x="5515" y="3"/>
                    </a:cubicBezTo>
                    <a:cubicBezTo>
                      <a:pt x="5515" y="2"/>
                      <a:pt x="5515" y="1"/>
                      <a:pt x="5517" y="1"/>
                    </a:cubicBezTo>
                    <a:close/>
                    <a:moveTo>
                      <a:pt x="5525" y="1"/>
                    </a:moveTo>
                    <a:lnTo>
                      <a:pt x="5525" y="1"/>
                    </a:lnTo>
                    <a:cubicBezTo>
                      <a:pt x="5526" y="1"/>
                      <a:pt x="5527" y="2"/>
                      <a:pt x="5527" y="3"/>
                    </a:cubicBezTo>
                    <a:cubicBezTo>
                      <a:pt x="5527" y="4"/>
                      <a:pt x="5526" y="5"/>
                      <a:pt x="5525" y="5"/>
                    </a:cubicBezTo>
                    <a:lnTo>
                      <a:pt x="5525" y="5"/>
                    </a:lnTo>
                    <a:cubicBezTo>
                      <a:pt x="5523" y="5"/>
                      <a:pt x="5523" y="4"/>
                      <a:pt x="5523" y="3"/>
                    </a:cubicBezTo>
                    <a:cubicBezTo>
                      <a:pt x="5523" y="2"/>
                      <a:pt x="5523" y="1"/>
                      <a:pt x="5525" y="1"/>
                    </a:cubicBezTo>
                    <a:close/>
                    <a:moveTo>
                      <a:pt x="5533" y="1"/>
                    </a:moveTo>
                    <a:lnTo>
                      <a:pt x="5533" y="1"/>
                    </a:lnTo>
                    <a:cubicBezTo>
                      <a:pt x="5534" y="1"/>
                      <a:pt x="5535" y="2"/>
                      <a:pt x="5535" y="3"/>
                    </a:cubicBezTo>
                    <a:cubicBezTo>
                      <a:pt x="5535" y="4"/>
                      <a:pt x="5534" y="5"/>
                      <a:pt x="5533" y="5"/>
                    </a:cubicBezTo>
                    <a:lnTo>
                      <a:pt x="5533" y="5"/>
                    </a:lnTo>
                    <a:cubicBezTo>
                      <a:pt x="5531" y="5"/>
                      <a:pt x="5531" y="4"/>
                      <a:pt x="5531" y="3"/>
                    </a:cubicBezTo>
                    <a:cubicBezTo>
                      <a:pt x="5531" y="2"/>
                      <a:pt x="5531" y="1"/>
                      <a:pt x="5533" y="1"/>
                    </a:cubicBezTo>
                    <a:close/>
                    <a:moveTo>
                      <a:pt x="5541" y="1"/>
                    </a:moveTo>
                    <a:lnTo>
                      <a:pt x="5541" y="1"/>
                    </a:lnTo>
                    <a:cubicBezTo>
                      <a:pt x="5542" y="1"/>
                      <a:pt x="5543" y="2"/>
                      <a:pt x="5543" y="3"/>
                    </a:cubicBezTo>
                    <a:cubicBezTo>
                      <a:pt x="5543" y="4"/>
                      <a:pt x="5542" y="5"/>
                      <a:pt x="5541" y="5"/>
                    </a:cubicBezTo>
                    <a:lnTo>
                      <a:pt x="5541" y="5"/>
                    </a:lnTo>
                    <a:cubicBezTo>
                      <a:pt x="5539" y="5"/>
                      <a:pt x="5539" y="4"/>
                      <a:pt x="5539" y="3"/>
                    </a:cubicBezTo>
                    <a:cubicBezTo>
                      <a:pt x="5539" y="2"/>
                      <a:pt x="5539" y="1"/>
                      <a:pt x="5541" y="1"/>
                    </a:cubicBezTo>
                    <a:close/>
                    <a:moveTo>
                      <a:pt x="5549" y="1"/>
                    </a:moveTo>
                    <a:lnTo>
                      <a:pt x="5549" y="1"/>
                    </a:lnTo>
                    <a:cubicBezTo>
                      <a:pt x="5550" y="1"/>
                      <a:pt x="5551" y="2"/>
                      <a:pt x="5551" y="3"/>
                    </a:cubicBezTo>
                    <a:cubicBezTo>
                      <a:pt x="5551" y="4"/>
                      <a:pt x="5550" y="5"/>
                      <a:pt x="5549" y="5"/>
                    </a:cubicBezTo>
                    <a:lnTo>
                      <a:pt x="5549" y="5"/>
                    </a:lnTo>
                    <a:cubicBezTo>
                      <a:pt x="5547" y="5"/>
                      <a:pt x="5547" y="4"/>
                      <a:pt x="5547" y="3"/>
                    </a:cubicBezTo>
                    <a:cubicBezTo>
                      <a:pt x="5547" y="2"/>
                      <a:pt x="5547" y="1"/>
                      <a:pt x="5549" y="1"/>
                    </a:cubicBezTo>
                    <a:close/>
                    <a:moveTo>
                      <a:pt x="5557" y="1"/>
                    </a:moveTo>
                    <a:lnTo>
                      <a:pt x="5557" y="1"/>
                    </a:lnTo>
                    <a:cubicBezTo>
                      <a:pt x="5558" y="1"/>
                      <a:pt x="5559" y="2"/>
                      <a:pt x="5559" y="3"/>
                    </a:cubicBezTo>
                    <a:cubicBezTo>
                      <a:pt x="5559" y="4"/>
                      <a:pt x="5558" y="5"/>
                      <a:pt x="5557" y="5"/>
                    </a:cubicBezTo>
                    <a:lnTo>
                      <a:pt x="5557" y="5"/>
                    </a:lnTo>
                    <a:cubicBezTo>
                      <a:pt x="5555" y="5"/>
                      <a:pt x="5555" y="4"/>
                      <a:pt x="5555" y="3"/>
                    </a:cubicBezTo>
                    <a:cubicBezTo>
                      <a:pt x="5555" y="2"/>
                      <a:pt x="5555" y="1"/>
                      <a:pt x="5557" y="1"/>
                    </a:cubicBezTo>
                    <a:close/>
                    <a:moveTo>
                      <a:pt x="5565" y="1"/>
                    </a:moveTo>
                    <a:lnTo>
                      <a:pt x="5565" y="1"/>
                    </a:lnTo>
                    <a:cubicBezTo>
                      <a:pt x="5566" y="1"/>
                      <a:pt x="5567" y="2"/>
                      <a:pt x="5567" y="3"/>
                    </a:cubicBezTo>
                    <a:cubicBezTo>
                      <a:pt x="5567" y="4"/>
                      <a:pt x="5566" y="5"/>
                      <a:pt x="5565" y="5"/>
                    </a:cubicBezTo>
                    <a:lnTo>
                      <a:pt x="5565" y="5"/>
                    </a:lnTo>
                    <a:cubicBezTo>
                      <a:pt x="5563" y="5"/>
                      <a:pt x="5563" y="4"/>
                      <a:pt x="5563" y="3"/>
                    </a:cubicBezTo>
                    <a:cubicBezTo>
                      <a:pt x="5563" y="2"/>
                      <a:pt x="5563" y="1"/>
                      <a:pt x="5565" y="1"/>
                    </a:cubicBezTo>
                    <a:close/>
                    <a:moveTo>
                      <a:pt x="5573" y="1"/>
                    </a:moveTo>
                    <a:lnTo>
                      <a:pt x="5573" y="1"/>
                    </a:lnTo>
                    <a:cubicBezTo>
                      <a:pt x="5574" y="1"/>
                      <a:pt x="5575" y="2"/>
                      <a:pt x="5575" y="3"/>
                    </a:cubicBezTo>
                    <a:cubicBezTo>
                      <a:pt x="5575" y="4"/>
                      <a:pt x="5574" y="5"/>
                      <a:pt x="5573" y="5"/>
                    </a:cubicBezTo>
                    <a:lnTo>
                      <a:pt x="5573" y="5"/>
                    </a:lnTo>
                    <a:cubicBezTo>
                      <a:pt x="5571" y="5"/>
                      <a:pt x="5571" y="4"/>
                      <a:pt x="5571" y="3"/>
                    </a:cubicBezTo>
                    <a:cubicBezTo>
                      <a:pt x="5571" y="2"/>
                      <a:pt x="5571" y="1"/>
                      <a:pt x="5573" y="1"/>
                    </a:cubicBezTo>
                    <a:close/>
                    <a:moveTo>
                      <a:pt x="5581" y="1"/>
                    </a:moveTo>
                    <a:lnTo>
                      <a:pt x="5581" y="1"/>
                    </a:lnTo>
                    <a:cubicBezTo>
                      <a:pt x="5582" y="1"/>
                      <a:pt x="5583" y="2"/>
                      <a:pt x="5583" y="3"/>
                    </a:cubicBezTo>
                    <a:cubicBezTo>
                      <a:pt x="5583" y="4"/>
                      <a:pt x="5582" y="5"/>
                      <a:pt x="5581" y="5"/>
                    </a:cubicBezTo>
                    <a:lnTo>
                      <a:pt x="5581" y="5"/>
                    </a:lnTo>
                    <a:cubicBezTo>
                      <a:pt x="5579" y="5"/>
                      <a:pt x="5579" y="4"/>
                      <a:pt x="5579" y="3"/>
                    </a:cubicBezTo>
                    <a:cubicBezTo>
                      <a:pt x="5579" y="2"/>
                      <a:pt x="5579" y="1"/>
                      <a:pt x="5581" y="1"/>
                    </a:cubicBezTo>
                    <a:close/>
                    <a:moveTo>
                      <a:pt x="5589" y="1"/>
                    </a:moveTo>
                    <a:lnTo>
                      <a:pt x="5589" y="1"/>
                    </a:lnTo>
                    <a:cubicBezTo>
                      <a:pt x="5590" y="1"/>
                      <a:pt x="5591" y="2"/>
                      <a:pt x="5591" y="3"/>
                    </a:cubicBezTo>
                    <a:cubicBezTo>
                      <a:pt x="5591" y="4"/>
                      <a:pt x="5590" y="5"/>
                      <a:pt x="5589" y="5"/>
                    </a:cubicBezTo>
                    <a:lnTo>
                      <a:pt x="5589" y="5"/>
                    </a:lnTo>
                    <a:cubicBezTo>
                      <a:pt x="5587" y="5"/>
                      <a:pt x="5587" y="4"/>
                      <a:pt x="5587" y="3"/>
                    </a:cubicBezTo>
                    <a:cubicBezTo>
                      <a:pt x="5587" y="2"/>
                      <a:pt x="5587" y="1"/>
                      <a:pt x="5589" y="1"/>
                    </a:cubicBezTo>
                    <a:close/>
                    <a:moveTo>
                      <a:pt x="5597" y="1"/>
                    </a:moveTo>
                    <a:lnTo>
                      <a:pt x="5597" y="1"/>
                    </a:lnTo>
                    <a:cubicBezTo>
                      <a:pt x="5598" y="1"/>
                      <a:pt x="5599" y="2"/>
                      <a:pt x="5599" y="3"/>
                    </a:cubicBezTo>
                    <a:cubicBezTo>
                      <a:pt x="5599" y="4"/>
                      <a:pt x="5598" y="5"/>
                      <a:pt x="5597" y="5"/>
                    </a:cubicBezTo>
                    <a:lnTo>
                      <a:pt x="5597" y="5"/>
                    </a:lnTo>
                    <a:cubicBezTo>
                      <a:pt x="5595" y="5"/>
                      <a:pt x="5595" y="4"/>
                      <a:pt x="5595" y="3"/>
                    </a:cubicBezTo>
                    <a:cubicBezTo>
                      <a:pt x="5595" y="2"/>
                      <a:pt x="5595" y="1"/>
                      <a:pt x="5597" y="1"/>
                    </a:cubicBezTo>
                    <a:close/>
                    <a:moveTo>
                      <a:pt x="5605" y="1"/>
                    </a:moveTo>
                    <a:lnTo>
                      <a:pt x="5605" y="1"/>
                    </a:lnTo>
                    <a:cubicBezTo>
                      <a:pt x="5606" y="1"/>
                      <a:pt x="5607" y="2"/>
                      <a:pt x="5607" y="3"/>
                    </a:cubicBezTo>
                    <a:cubicBezTo>
                      <a:pt x="5607" y="4"/>
                      <a:pt x="5606" y="5"/>
                      <a:pt x="5605" y="5"/>
                    </a:cubicBezTo>
                    <a:lnTo>
                      <a:pt x="5605" y="5"/>
                    </a:lnTo>
                    <a:cubicBezTo>
                      <a:pt x="5603" y="5"/>
                      <a:pt x="5603" y="4"/>
                      <a:pt x="5603" y="3"/>
                    </a:cubicBezTo>
                    <a:cubicBezTo>
                      <a:pt x="5603" y="2"/>
                      <a:pt x="5603" y="1"/>
                      <a:pt x="5605" y="1"/>
                    </a:cubicBezTo>
                    <a:close/>
                    <a:moveTo>
                      <a:pt x="5613" y="1"/>
                    </a:moveTo>
                    <a:lnTo>
                      <a:pt x="5613" y="1"/>
                    </a:lnTo>
                    <a:cubicBezTo>
                      <a:pt x="5614" y="1"/>
                      <a:pt x="5615" y="2"/>
                      <a:pt x="5615" y="3"/>
                    </a:cubicBezTo>
                    <a:cubicBezTo>
                      <a:pt x="5615" y="4"/>
                      <a:pt x="5614" y="5"/>
                      <a:pt x="5613" y="5"/>
                    </a:cubicBezTo>
                    <a:lnTo>
                      <a:pt x="5613" y="5"/>
                    </a:lnTo>
                    <a:cubicBezTo>
                      <a:pt x="5611" y="5"/>
                      <a:pt x="5611" y="4"/>
                      <a:pt x="5611" y="3"/>
                    </a:cubicBezTo>
                    <a:cubicBezTo>
                      <a:pt x="5611" y="2"/>
                      <a:pt x="5611" y="1"/>
                      <a:pt x="5613" y="1"/>
                    </a:cubicBezTo>
                    <a:close/>
                    <a:moveTo>
                      <a:pt x="5621" y="1"/>
                    </a:moveTo>
                    <a:lnTo>
                      <a:pt x="5621" y="1"/>
                    </a:lnTo>
                    <a:cubicBezTo>
                      <a:pt x="5622" y="1"/>
                      <a:pt x="5623" y="2"/>
                      <a:pt x="5623" y="3"/>
                    </a:cubicBezTo>
                    <a:cubicBezTo>
                      <a:pt x="5623" y="4"/>
                      <a:pt x="5622" y="5"/>
                      <a:pt x="5621" y="5"/>
                    </a:cubicBezTo>
                    <a:lnTo>
                      <a:pt x="5621" y="5"/>
                    </a:lnTo>
                    <a:cubicBezTo>
                      <a:pt x="5619" y="5"/>
                      <a:pt x="5619" y="4"/>
                      <a:pt x="5619" y="3"/>
                    </a:cubicBezTo>
                    <a:cubicBezTo>
                      <a:pt x="5619" y="2"/>
                      <a:pt x="5619" y="1"/>
                      <a:pt x="5621" y="1"/>
                    </a:cubicBezTo>
                    <a:close/>
                    <a:moveTo>
                      <a:pt x="5629" y="1"/>
                    </a:moveTo>
                    <a:lnTo>
                      <a:pt x="5629" y="1"/>
                    </a:lnTo>
                    <a:cubicBezTo>
                      <a:pt x="5630" y="1"/>
                      <a:pt x="5631" y="2"/>
                      <a:pt x="5631" y="3"/>
                    </a:cubicBezTo>
                    <a:cubicBezTo>
                      <a:pt x="5631" y="4"/>
                      <a:pt x="5630" y="5"/>
                      <a:pt x="5629" y="5"/>
                    </a:cubicBezTo>
                    <a:lnTo>
                      <a:pt x="5629" y="5"/>
                    </a:lnTo>
                    <a:cubicBezTo>
                      <a:pt x="5627" y="5"/>
                      <a:pt x="5627" y="4"/>
                      <a:pt x="5627" y="3"/>
                    </a:cubicBezTo>
                    <a:cubicBezTo>
                      <a:pt x="5627" y="2"/>
                      <a:pt x="5627" y="1"/>
                      <a:pt x="5629" y="1"/>
                    </a:cubicBezTo>
                    <a:close/>
                    <a:moveTo>
                      <a:pt x="5637" y="1"/>
                    </a:moveTo>
                    <a:lnTo>
                      <a:pt x="5637" y="1"/>
                    </a:lnTo>
                    <a:cubicBezTo>
                      <a:pt x="5638" y="1"/>
                      <a:pt x="5639" y="2"/>
                      <a:pt x="5639" y="3"/>
                    </a:cubicBezTo>
                    <a:cubicBezTo>
                      <a:pt x="5639" y="4"/>
                      <a:pt x="5638" y="5"/>
                      <a:pt x="5637" y="5"/>
                    </a:cubicBezTo>
                    <a:lnTo>
                      <a:pt x="5637" y="5"/>
                    </a:lnTo>
                    <a:cubicBezTo>
                      <a:pt x="5635" y="5"/>
                      <a:pt x="5635" y="4"/>
                      <a:pt x="5635" y="3"/>
                    </a:cubicBezTo>
                    <a:cubicBezTo>
                      <a:pt x="5635" y="2"/>
                      <a:pt x="5635" y="1"/>
                      <a:pt x="5637" y="1"/>
                    </a:cubicBezTo>
                    <a:close/>
                    <a:moveTo>
                      <a:pt x="5645" y="1"/>
                    </a:moveTo>
                    <a:lnTo>
                      <a:pt x="5645" y="1"/>
                    </a:lnTo>
                    <a:cubicBezTo>
                      <a:pt x="5646" y="1"/>
                      <a:pt x="5647" y="2"/>
                      <a:pt x="5647" y="3"/>
                    </a:cubicBezTo>
                    <a:cubicBezTo>
                      <a:pt x="5647" y="4"/>
                      <a:pt x="5646" y="5"/>
                      <a:pt x="5645" y="5"/>
                    </a:cubicBezTo>
                    <a:lnTo>
                      <a:pt x="5645" y="5"/>
                    </a:lnTo>
                    <a:cubicBezTo>
                      <a:pt x="5643" y="5"/>
                      <a:pt x="5643" y="4"/>
                      <a:pt x="5643" y="3"/>
                    </a:cubicBezTo>
                    <a:cubicBezTo>
                      <a:pt x="5643" y="2"/>
                      <a:pt x="5643" y="1"/>
                      <a:pt x="5645" y="1"/>
                    </a:cubicBezTo>
                    <a:close/>
                    <a:moveTo>
                      <a:pt x="5653" y="1"/>
                    </a:moveTo>
                    <a:lnTo>
                      <a:pt x="5653" y="1"/>
                    </a:lnTo>
                    <a:cubicBezTo>
                      <a:pt x="5654" y="1"/>
                      <a:pt x="5655" y="2"/>
                      <a:pt x="5655" y="3"/>
                    </a:cubicBezTo>
                    <a:cubicBezTo>
                      <a:pt x="5655" y="4"/>
                      <a:pt x="5654" y="5"/>
                      <a:pt x="5653" y="5"/>
                    </a:cubicBezTo>
                    <a:lnTo>
                      <a:pt x="5653" y="5"/>
                    </a:lnTo>
                    <a:cubicBezTo>
                      <a:pt x="5651" y="5"/>
                      <a:pt x="5651" y="4"/>
                      <a:pt x="5651" y="3"/>
                    </a:cubicBezTo>
                    <a:cubicBezTo>
                      <a:pt x="5651" y="2"/>
                      <a:pt x="5651" y="1"/>
                      <a:pt x="5653" y="1"/>
                    </a:cubicBezTo>
                    <a:close/>
                    <a:moveTo>
                      <a:pt x="5661" y="1"/>
                    </a:moveTo>
                    <a:lnTo>
                      <a:pt x="5661" y="1"/>
                    </a:lnTo>
                    <a:cubicBezTo>
                      <a:pt x="5662" y="1"/>
                      <a:pt x="5663" y="2"/>
                      <a:pt x="5663" y="3"/>
                    </a:cubicBezTo>
                    <a:cubicBezTo>
                      <a:pt x="5663" y="4"/>
                      <a:pt x="5662" y="5"/>
                      <a:pt x="5661" y="5"/>
                    </a:cubicBezTo>
                    <a:lnTo>
                      <a:pt x="5661" y="5"/>
                    </a:lnTo>
                    <a:cubicBezTo>
                      <a:pt x="5659" y="5"/>
                      <a:pt x="5659" y="4"/>
                      <a:pt x="5659" y="3"/>
                    </a:cubicBezTo>
                    <a:cubicBezTo>
                      <a:pt x="5659" y="2"/>
                      <a:pt x="5659" y="1"/>
                      <a:pt x="5661" y="1"/>
                    </a:cubicBezTo>
                    <a:close/>
                    <a:moveTo>
                      <a:pt x="5669" y="1"/>
                    </a:moveTo>
                    <a:lnTo>
                      <a:pt x="5669" y="1"/>
                    </a:lnTo>
                    <a:cubicBezTo>
                      <a:pt x="5670" y="1"/>
                      <a:pt x="5671" y="2"/>
                      <a:pt x="5671" y="3"/>
                    </a:cubicBezTo>
                    <a:cubicBezTo>
                      <a:pt x="5671" y="4"/>
                      <a:pt x="5670" y="5"/>
                      <a:pt x="5669" y="5"/>
                    </a:cubicBezTo>
                    <a:lnTo>
                      <a:pt x="5669" y="5"/>
                    </a:lnTo>
                    <a:cubicBezTo>
                      <a:pt x="5667" y="5"/>
                      <a:pt x="5667" y="4"/>
                      <a:pt x="5667" y="3"/>
                    </a:cubicBezTo>
                    <a:cubicBezTo>
                      <a:pt x="5667" y="2"/>
                      <a:pt x="5667" y="1"/>
                      <a:pt x="5669" y="1"/>
                    </a:cubicBezTo>
                    <a:close/>
                    <a:moveTo>
                      <a:pt x="5677" y="1"/>
                    </a:moveTo>
                    <a:lnTo>
                      <a:pt x="5677" y="1"/>
                    </a:lnTo>
                    <a:cubicBezTo>
                      <a:pt x="5678" y="1"/>
                      <a:pt x="5679" y="2"/>
                      <a:pt x="5679" y="3"/>
                    </a:cubicBezTo>
                    <a:cubicBezTo>
                      <a:pt x="5679" y="4"/>
                      <a:pt x="5678" y="5"/>
                      <a:pt x="5677" y="5"/>
                    </a:cubicBezTo>
                    <a:lnTo>
                      <a:pt x="5677" y="5"/>
                    </a:lnTo>
                    <a:cubicBezTo>
                      <a:pt x="5675" y="5"/>
                      <a:pt x="5675" y="4"/>
                      <a:pt x="5675" y="3"/>
                    </a:cubicBezTo>
                    <a:cubicBezTo>
                      <a:pt x="5675" y="2"/>
                      <a:pt x="5675" y="1"/>
                      <a:pt x="5677" y="1"/>
                    </a:cubicBezTo>
                    <a:close/>
                    <a:moveTo>
                      <a:pt x="5685" y="1"/>
                    </a:moveTo>
                    <a:lnTo>
                      <a:pt x="5685" y="1"/>
                    </a:lnTo>
                    <a:cubicBezTo>
                      <a:pt x="5686" y="1"/>
                      <a:pt x="5687" y="2"/>
                      <a:pt x="5687" y="3"/>
                    </a:cubicBezTo>
                    <a:cubicBezTo>
                      <a:pt x="5687" y="4"/>
                      <a:pt x="5686" y="5"/>
                      <a:pt x="5685" y="5"/>
                    </a:cubicBezTo>
                    <a:lnTo>
                      <a:pt x="5685" y="5"/>
                    </a:lnTo>
                    <a:cubicBezTo>
                      <a:pt x="5683" y="5"/>
                      <a:pt x="5683" y="4"/>
                      <a:pt x="5683" y="3"/>
                    </a:cubicBezTo>
                    <a:cubicBezTo>
                      <a:pt x="5683" y="2"/>
                      <a:pt x="5683" y="1"/>
                      <a:pt x="5685" y="1"/>
                    </a:cubicBezTo>
                    <a:close/>
                    <a:moveTo>
                      <a:pt x="5693" y="1"/>
                    </a:moveTo>
                    <a:lnTo>
                      <a:pt x="5693" y="1"/>
                    </a:lnTo>
                    <a:cubicBezTo>
                      <a:pt x="5694" y="1"/>
                      <a:pt x="5695" y="2"/>
                      <a:pt x="5695" y="3"/>
                    </a:cubicBezTo>
                    <a:cubicBezTo>
                      <a:pt x="5695" y="4"/>
                      <a:pt x="5694" y="5"/>
                      <a:pt x="5693" y="5"/>
                    </a:cubicBezTo>
                    <a:lnTo>
                      <a:pt x="5693" y="5"/>
                    </a:lnTo>
                    <a:cubicBezTo>
                      <a:pt x="5691" y="5"/>
                      <a:pt x="5691" y="4"/>
                      <a:pt x="5691" y="3"/>
                    </a:cubicBezTo>
                    <a:cubicBezTo>
                      <a:pt x="5691" y="2"/>
                      <a:pt x="5691" y="1"/>
                      <a:pt x="5693" y="1"/>
                    </a:cubicBezTo>
                    <a:close/>
                    <a:moveTo>
                      <a:pt x="5701" y="1"/>
                    </a:moveTo>
                    <a:lnTo>
                      <a:pt x="5701" y="1"/>
                    </a:lnTo>
                    <a:cubicBezTo>
                      <a:pt x="5702" y="1"/>
                      <a:pt x="5703" y="2"/>
                      <a:pt x="5703" y="3"/>
                    </a:cubicBezTo>
                    <a:cubicBezTo>
                      <a:pt x="5703" y="4"/>
                      <a:pt x="5702" y="5"/>
                      <a:pt x="5701" y="5"/>
                    </a:cubicBezTo>
                    <a:lnTo>
                      <a:pt x="5701" y="5"/>
                    </a:lnTo>
                    <a:cubicBezTo>
                      <a:pt x="5699" y="5"/>
                      <a:pt x="5699" y="4"/>
                      <a:pt x="5699" y="3"/>
                    </a:cubicBezTo>
                    <a:cubicBezTo>
                      <a:pt x="5699" y="2"/>
                      <a:pt x="5699" y="1"/>
                      <a:pt x="5701" y="1"/>
                    </a:cubicBezTo>
                    <a:close/>
                    <a:moveTo>
                      <a:pt x="5709" y="1"/>
                    </a:moveTo>
                    <a:lnTo>
                      <a:pt x="5709" y="1"/>
                    </a:lnTo>
                    <a:cubicBezTo>
                      <a:pt x="5710" y="1"/>
                      <a:pt x="5711" y="2"/>
                      <a:pt x="5711" y="3"/>
                    </a:cubicBezTo>
                    <a:cubicBezTo>
                      <a:pt x="5711" y="4"/>
                      <a:pt x="5710" y="5"/>
                      <a:pt x="5709" y="5"/>
                    </a:cubicBezTo>
                    <a:lnTo>
                      <a:pt x="5709" y="5"/>
                    </a:lnTo>
                    <a:cubicBezTo>
                      <a:pt x="5708" y="5"/>
                      <a:pt x="5707" y="4"/>
                      <a:pt x="5707" y="3"/>
                    </a:cubicBezTo>
                    <a:cubicBezTo>
                      <a:pt x="5707" y="2"/>
                      <a:pt x="5708" y="1"/>
                      <a:pt x="5709" y="1"/>
                    </a:cubicBezTo>
                    <a:close/>
                    <a:moveTo>
                      <a:pt x="5717" y="1"/>
                    </a:moveTo>
                    <a:lnTo>
                      <a:pt x="5717" y="1"/>
                    </a:lnTo>
                    <a:cubicBezTo>
                      <a:pt x="5718" y="1"/>
                      <a:pt x="5719" y="2"/>
                      <a:pt x="5719" y="3"/>
                    </a:cubicBezTo>
                    <a:cubicBezTo>
                      <a:pt x="5719" y="4"/>
                      <a:pt x="5718" y="5"/>
                      <a:pt x="5717" y="5"/>
                    </a:cubicBezTo>
                    <a:lnTo>
                      <a:pt x="5717" y="5"/>
                    </a:lnTo>
                    <a:cubicBezTo>
                      <a:pt x="5716" y="5"/>
                      <a:pt x="5715" y="4"/>
                      <a:pt x="5715" y="3"/>
                    </a:cubicBezTo>
                    <a:cubicBezTo>
                      <a:pt x="5715" y="2"/>
                      <a:pt x="5716" y="1"/>
                      <a:pt x="5717" y="1"/>
                    </a:cubicBezTo>
                    <a:close/>
                    <a:moveTo>
                      <a:pt x="5725" y="1"/>
                    </a:moveTo>
                    <a:lnTo>
                      <a:pt x="5725" y="1"/>
                    </a:lnTo>
                    <a:cubicBezTo>
                      <a:pt x="5726" y="1"/>
                      <a:pt x="5727" y="2"/>
                      <a:pt x="5727" y="3"/>
                    </a:cubicBezTo>
                    <a:cubicBezTo>
                      <a:pt x="5727" y="4"/>
                      <a:pt x="5726" y="5"/>
                      <a:pt x="5725" y="5"/>
                    </a:cubicBezTo>
                    <a:lnTo>
                      <a:pt x="5725" y="5"/>
                    </a:lnTo>
                    <a:cubicBezTo>
                      <a:pt x="5724" y="5"/>
                      <a:pt x="5723" y="4"/>
                      <a:pt x="5723" y="3"/>
                    </a:cubicBezTo>
                    <a:cubicBezTo>
                      <a:pt x="5723" y="2"/>
                      <a:pt x="5724" y="1"/>
                      <a:pt x="5725" y="1"/>
                    </a:cubicBezTo>
                    <a:close/>
                    <a:moveTo>
                      <a:pt x="5733" y="1"/>
                    </a:moveTo>
                    <a:lnTo>
                      <a:pt x="5733" y="1"/>
                    </a:lnTo>
                    <a:cubicBezTo>
                      <a:pt x="5734" y="1"/>
                      <a:pt x="5735" y="2"/>
                      <a:pt x="5735" y="3"/>
                    </a:cubicBezTo>
                    <a:cubicBezTo>
                      <a:pt x="5735" y="4"/>
                      <a:pt x="5734" y="5"/>
                      <a:pt x="5733" y="5"/>
                    </a:cubicBezTo>
                    <a:lnTo>
                      <a:pt x="5733" y="5"/>
                    </a:lnTo>
                    <a:cubicBezTo>
                      <a:pt x="5732" y="5"/>
                      <a:pt x="5731" y="4"/>
                      <a:pt x="5731" y="3"/>
                    </a:cubicBezTo>
                    <a:cubicBezTo>
                      <a:pt x="5731" y="2"/>
                      <a:pt x="5732" y="1"/>
                      <a:pt x="5733" y="1"/>
                    </a:cubicBezTo>
                    <a:close/>
                    <a:moveTo>
                      <a:pt x="5741" y="1"/>
                    </a:moveTo>
                    <a:lnTo>
                      <a:pt x="5741" y="1"/>
                    </a:lnTo>
                    <a:cubicBezTo>
                      <a:pt x="5742" y="1"/>
                      <a:pt x="5743" y="2"/>
                      <a:pt x="5743" y="3"/>
                    </a:cubicBezTo>
                    <a:cubicBezTo>
                      <a:pt x="5743" y="4"/>
                      <a:pt x="5742" y="5"/>
                      <a:pt x="5741" y="5"/>
                    </a:cubicBezTo>
                    <a:lnTo>
                      <a:pt x="5741" y="5"/>
                    </a:lnTo>
                    <a:cubicBezTo>
                      <a:pt x="5740" y="5"/>
                      <a:pt x="5739" y="4"/>
                      <a:pt x="5739" y="3"/>
                    </a:cubicBezTo>
                    <a:cubicBezTo>
                      <a:pt x="5739" y="2"/>
                      <a:pt x="5740" y="1"/>
                      <a:pt x="5741" y="1"/>
                    </a:cubicBezTo>
                    <a:close/>
                    <a:moveTo>
                      <a:pt x="5749" y="1"/>
                    </a:moveTo>
                    <a:lnTo>
                      <a:pt x="5749" y="1"/>
                    </a:lnTo>
                    <a:cubicBezTo>
                      <a:pt x="5750" y="1"/>
                      <a:pt x="5751" y="2"/>
                      <a:pt x="5751" y="3"/>
                    </a:cubicBezTo>
                    <a:cubicBezTo>
                      <a:pt x="5751" y="4"/>
                      <a:pt x="5750" y="5"/>
                      <a:pt x="5749" y="5"/>
                    </a:cubicBezTo>
                    <a:lnTo>
                      <a:pt x="5749" y="5"/>
                    </a:lnTo>
                    <a:cubicBezTo>
                      <a:pt x="5748" y="5"/>
                      <a:pt x="5747" y="4"/>
                      <a:pt x="5747" y="3"/>
                    </a:cubicBezTo>
                    <a:cubicBezTo>
                      <a:pt x="5747" y="2"/>
                      <a:pt x="5748" y="1"/>
                      <a:pt x="5749" y="1"/>
                    </a:cubicBezTo>
                    <a:close/>
                    <a:moveTo>
                      <a:pt x="5757" y="1"/>
                    </a:moveTo>
                    <a:lnTo>
                      <a:pt x="5757" y="1"/>
                    </a:lnTo>
                    <a:cubicBezTo>
                      <a:pt x="5758" y="1"/>
                      <a:pt x="5759" y="2"/>
                      <a:pt x="5759" y="3"/>
                    </a:cubicBezTo>
                    <a:cubicBezTo>
                      <a:pt x="5759" y="4"/>
                      <a:pt x="5758" y="5"/>
                      <a:pt x="5757" y="5"/>
                    </a:cubicBezTo>
                    <a:lnTo>
                      <a:pt x="5757" y="5"/>
                    </a:lnTo>
                    <a:cubicBezTo>
                      <a:pt x="5756" y="5"/>
                      <a:pt x="5755" y="4"/>
                      <a:pt x="5755" y="3"/>
                    </a:cubicBezTo>
                    <a:cubicBezTo>
                      <a:pt x="5755" y="2"/>
                      <a:pt x="5756" y="1"/>
                      <a:pt x="5757" y="1"/>
                    </a:cubicBezTo>
                    <a:close/>
                    <a:moveTo>
                      <a:pt x="5765" y="1"/>
                    </a:moveTo>
                    <a:lnTo>
                      <a:pt x="5765" y="1"/>
                    </a:lnTo>
                    <a:cubicBezTo>
                      <a:pt x="5766" y="1"/>
                      <a:pt x="5767" y="2"/>
                      <a:pt x="5767" y="3"/>
                    </a:cubicBezTo>
                    <a:cubicBezTo>
                      <a:pt x="5767" y="4"/>
                      <a:pt x="5766" y="5"/>
                      <a:pt x="5765" y="5"/>
                    </a:cubicBezTo>
                    <a:lnTo>
                      <a:pt x="5765" y="5"/>
                    </a:lnTo>
                    <a:cubicBezTo>
                      <a:pt x="5764" y="5"/>
                      <a:pt x="5763" y="4"/>
                      <a:pt x="5763" y="3"/>
                    </a:cubicBezTo>
                    <a:cubicBezTo>
                      <a:pt x="5763" y="2"/>
                      <a:pt x="5764" y="1"/>
                      <a:pt x="5765" y="1"/>
                    </a:cubicBezTo>
                    <a:close/>
                    <a:moveTo>
                      <a:pt x="5773" y="1"/>
                    </a:moveTo>
                    <a:lnTo>
                      <a:pt x="5773" y="1"/>
                    </a:lnTo>
                    <a:cubicBezTo>
                      <a:pt x="5774" y="1"/>
                      <a:pt x="5775" y="2"/>
                      <a:pt x="5775" y="3"/>
                    </a:cubicBezTo>
                    <a:cubicBezTo>
                      <a:pt x="5775" y="4"/>
                      <a:pt x="5774" y="5"/>
                      <a:pt x="5773" y="5"/>
                    </a:cubicBezTo>
                    <a:lnTo>
                      <a:pt x="5773" y="5"/>
                    </a:lnTo>
                    <a:cubicBezTo>
                      <a:pt x="5772" y="5"/>
                      <a:pt x="5771" y="4"/>
                      <a:pt x="5771" y="3"/>
                    </a:cubicBezTo>
                    <a:cubicBezTo>
                      <a:pt x="5771" y="2"/>
                      <a:pt x="5772" y="1"/>
                      <a:pt x="5773" y="1"/>
                    </a:cubicBezTo>
                    <a:close/>
                    <a:moveTo>
                      <a:pt x="5781" y="1"/>
                    </a:moveTo>
                    <a:lnTo>
                      <a:pt x="5781" y="1"/>
                    </a:lnTo>
                    <a:cubicBezTo>
                      <a:pt x="5782" y="1"/>
                      <a:pt x="5783" y="2"/>
                      <a:pt x="5783" y="3"/>
                    </a:cubicBezTo>
                    <a:cubicBezTo>
                      <a:pt x="5783" y="4"/>
                      <a:pt x="5782" y="5"/>
                      <a:pt x="5781" y="5"/>
                    </a:cubicBezTo>
                    <a:lnTo>
                      <a:pt x="5781" y="5"/>
                    </a:lnTo>
                    <a:cubicBezTo>
                      <a:pt x="5780" y="5"/>
                      <a:pt x="5779" y="4"/>
                      <a:pt x="5779" y="3"/>
                    </a:cubicBezTo>
                    <a:cubicBezTo>
                      <a:pt x="5779" y="2"/>
                      <a:pt x="5780" y="1"/>
                      <a:pt x="5781" y="1"/>
                    </a:cubicBezTo>
                    <a:close/>
                    <a:moveTo>
                      <a:pt x="5789" y="1"/>
                    </a:moveTo>
                    <a:lnTo>
                      <a:pt x="5789" y="1"/>
                    </a:lnTo>
                    <a:cubicBezTo>
                      <a:pt x="5790" y="1"/>
                      <a:pt x="5791" y="2"/>
                      <a:pt x="5791" y="3"/>
                    </a:cubicBezTo>
                    <a:cubicBezTo>
                      <a:pt x="5791" y="4"/>
                      <a:pt x="5790" y="5"/>
                      <a:pt x="5789" y="5"/>
                    </a:cubicBezTo>
                    <a:lnTo>
                      <a:pt x="5789" y="5"/>
                    </a:lnTo>
                    <a:cubicBezTo>
                      <a:pt x="5788" y="5"/>
                      <a:pt x="5787" y="4"/>
                      <a:pt x="5787" y="3"/>
                    </a:cubicBezTo>
                    <a:cubicBezTo>
                      <a:pt x="5787" y="2"/>
                      <a:pt x="5788" y="1"/>
                      <a:pt x="5789" y="1"/>
                    </a:cubicBezTo>
                    <a:close/>
                    <a:moveTo>
                      <a:pt x="5797" y="1"/>
                    </a:moveTo>
                    <a:lnTo>
                      <a:pt x="5797" y="1"/>
                    </a:lnTo>
                    <a:cubicBezTo>
                      <a:pt x="5798" y="1"/>
                      <a:pt x="5799" y="2"/>
                      <a:pt x="5799" y="3"/>
                    </a:cubicBezTo>
                    <a:cubicBezTo>
                      <a:pt x="5799" y="4"/>
                      <a:pt x="5798" y="5"/>
                      <a:pt x="5797" y="5"/>
                    </a:cubicBezTo>
                    <a:lnTo>
                      <a:pt x="5797" y="5"/>
                    </a:lnTo>
                    <a:cubicBezTo>
                      <a:pt x="5796" y="5"/>
                      <a:pt x="5795" y="4"/>
                      <a:pt x="5795" y="3"/>
                    </a:cubicBezTo>
                    <a:cubicBezTo>
                      <a:pt x="5795" y="2"/>
                      <a:pt x="5796" y="1"/>
                      <a:pt x="5797" y="1"/>
                    </a:cubicBezTo>
                    <a:close/>
                    <a:moveTo>
                      <a:pt x="5805" y="1"/>
                    </a:moveTo>
                    <a:lnTo>
                      <a:pt x="5805" y="1"/>
                    </a:lnTo>
                    <a:cubicBezTo>
                      <a:pt x="5806" y="1"/>
                      <a:pt x="5807" y="2"/>
                      <a:pt x="5807" y="3"/>
                    </a:cubicBezTo>
                    <a:cubicBezTo>
                      <a:pt x="5807" y="4"/>
                      <a:pt x="5806" y="5"/>
                      <a:pt x="5805" y="5"/>
                    </a:cubicBezTo>
                    <a:lnTo>
                      <a:pt x="5805" y="5"/>
                    </a:lnTo>
                    <a:cubicBezTo>
                      <a:pt x="5804" y="5"/>
                      <a:pt x="5803" y="4"/>
                      <a:pt x="5803" y="3"/>
                    </a:cubicBezTo>
                    <a:cubicBezTo>
                      <a:pt x="5803" y="2"/>
                      <a:pt x="5804" y="1"/>
                      <a:pt x="5805" y="1"/>
                    </a:cubicBezTo>
                    <a:close/>
                    <a:moveTo>
                      <a:pt x="5813" y="1"/>
                    </a:moveTo>
                    <a:lnTo>
                      <a:pt x="5813" y="1"/>
                    </a:lnTo>
                    <a:cubicBezTo>
                      <a:pt x="5814" y="1"/>
                      <a:pt x="5815" y="2"/>
                      <a:pt x="5815" y="3"/>
                    </a:cubicBezTo>
                    <a:cubicBezTo>
                      <a:pt x="5815" y="4"/>
                      <a:pt x="5814" y="5"/>
                      <a:pt x="5813" y="5"/>
                    </a:cubicBezTo>
                    <a:lnTo>
                      <a:pt x="5813" y="5"/>
                    </a:lnTo>
                    <a:cubicBezTo>
                      <a:pt x="5812" y="5"/>
                      <a:pt x="5811" y="4"/>
                      <a:pt x="5811" y="3"/>
                    </a:cubicBezTo>
                    <a:cubicBezTo>
                      <a:pt x="5811" y="2"/>
                      <a:pt x="5812" y="1"/>
                      <a:pt x="5813" y="1"/>
                    </a:cubicBezTo>
                    <a:close/>
                    <a:moveTo>
                      <a:pt x="5821" y="1"/>
                    </a:moveTo>
                    <a:lnTo>
                      <a:pt x="5821" y="1"/>
                    </a:lnTo>
                    <a:cubicBezTo>
                      <a:pt x="5822" y="1"/>
                      <a:pt x="5823" y="2"/>
                      <a:pt x="5823" y="3"/>
                    </a:cubicBezTo>
                    <a:cubicBezTo>
                      <a:pt x="5823" y="4"/>
                      <a:pt x="5822" y="5"/>
                      <a:pt x="5821" y="5"/>
                    </a:cubicBezTo>
                    <a:lnTo>
                      <a:pt x="5821" y="5"/>
                    </a:lnTo>
                    <a:cubicBezTo>
                      <a:pt x="5820" y="5"/>
                      <a:pt x="5819" y="4"/>
                      <a:pt x="5819" y="3"/>
                    </a:cubicBezTo>
                    <a:cubicBezTo>
                      <a:pt x="5819" y="2"/>
                      <a:pt x="5820" y="1"/>
                      <a:pt x="5821" y="1"/>
                    </a:cubicBezTo>
                    <a:close/>
                    <a:moveTo>
                      <a:pt x="5829" y="1"/>
                    </a:moveTo>
                    <a:lnTo>
                      <a:pt x="5829" y="1"/>
                    </a:lnTo>
                    <a:cubicBezTo>
                      <a:pt x="5830" y="1"/>
                      <a:pt x="5831" y="2"/>
                      <a:pt x="5831" y="3"/>
                    </a:cubicBezTo>
                    <a:cubicBezTo>
                      <a:pt x="5831" y="4"/>
                      <a:pt x="5830" y="5"/>
                      <a:pt x="5829" y="5"/>
                    </a:cubicBezTo>
                    <a:lnTo>
                      <a:pt x="5829" y="5"/>
                    </a:lnTo>
                    <a:cubicBezTo>
                      <a:pt x="5828" y="5"/>
                      <a:pt x="5827" y="4"/>
                      <a:pt x="5827" y="3"/>
                    </a:cubicBezTo>
                    <a:cubicBezTo>
                      <a:pt x="5827" y="2"/>
                      <a:pt x="5828" y="1"/>
                      <a:pt x="5829" y="1"/>
                    </a:cubicBezTo>
                    <a:close/>
                    <a:moveTo>
                      <a:pt x="5837" y="1"/>
                    </a:moveTo>
                    <a:lnTo>
                      <a:pt x="5837" y="1"/>
                    </a:lnTo>
                    <a:cubicBezTo>
                      <a:pt x="5838" y="1"/>
                      <a:pt x="5839" y="2"/>
                      <a:pt x="5839" y="3"/>
                    </a:cubicBezTo>
                    <a:cubicBezTo>
                      <a:pt x="5839" y="4"/>
                      <a:pt x="5838" y="5"/>
                      <a:pt x="5837" y="5"/>
                    </a:cubicBezTo>
                    <a:lnTo>
                      <a:pt x="5837" y="5"/>
                    </a:lnTo>
                    <a:cubicBezTo>
                      <a:pt x="5836" y="5"/>
                      <a:pt x="5835" y="4"/>
                      <a:pt x="5835" y="3"/>
                    </a:cubicBezTo>
                    <a:cubicBezTo>
                      <a:pt x="5835" y="2"/>
                      <a:pt x="5836" y="1"/>
                      <a:pt x="5837" y="1"/>
                    </a:cubicBezTo>
                    <a:close/>
                    <a:moveTo>
                      <a:pt x="5845" y="1"/>
                    </a:moveTo>
                    <a:lnTo>
                      <a:pt x="5845" y="1"/>
                    </a:lnTo>
                    <a:cubicBezTo>
                      <a:pt x="5846" y="1"/>
                      <a:pt x="5847" y="2"/>
                      <a:pt x="5847" y="3"/>
                    </a:cubicBezTo>
                    <a:cubicBezTo>
                      <a:pt x="5847" y="4"/>
                      <a:pt x="5846" y="5"/>
                      <a:pt x="5845" y="5"/>
                    </a:cubicBezTo>
                    <a:lnTo>
                      <a:pt x="5845" y="5"/>
                    </a:lnTo>
                    <a:cubicBezTo>
                      <a:pt x="5844" y="5"/>
                      <a:pt x="5843" y="4"/>
                      <a:pt x="5843" y="3"/>
                    </a:cubicBezTo>
                    <a:cubicBezTo>
                      <a:pt x="5843" y="2"/>
                      <a:pt x="5844" y="1"/>
                      <a:pt x="5845" y="1"/>
                    </a:cubicBezTo>
                    <a:close/>
                    <a:moveTo>
                      <a:pt x="5853" y="1"/>
                    </a:moveTo>
                    <a:lnTo>
                      <a:pt x="5853" y="1"/>
                    </a:lnTo>
                    <a:cubicBezTo>
                      <a:pt x="5854" y="1"/>
                      <a:pt x="5855" y="2"/>
                      <a:pt x="5855" y="3"/>
                    </a:cubicBezTo>
                    <a:cubicBezTo>
                      <a:pt x="5855" y="4"/>
                      <a:pt x="5854" y="5"/>
                      <a:pt x="5853" y="5"/>
                    </a:cubicBezTo>
                    <a:lnTo>
                      <a:pt x="5853" y="5"/>
                    </a:lnTo>
                    <a:cubicBezTo>
                      <a:pt x="5852" y="5"/>
                      <a:pt x="5851" y="4"/>
                      <a:pt x="5851" y="3"/>
                    </a:cubicBezTo>
                    <a:cubicBezTo>
                      <a:pt x="5851" y="2"/>
                      <a:pt x="5852" y="1"/>
                      <a:pt x="5853" y="1"/>
                    </a:cubicBezTo>
                    <a:close/>
                    <a:moveTo>
                      <a:pt x="5861" y="1"/>
                    </a:moveTo>
                    <a:lnTo>
                      <a:pt x="5861" y="1"/>
                    </a:lnTo>
                    <a:cubicBezTo>
                      <a:pt x="5862" y="1"/>
                      <a:pt x="5863" y="2"/>
                      <a:pt x="5863" y="3"/>
                    </a:cubicBezTo>
                    <a:cubicBezTo>
                      <a:pt x="5863" y="4"/>
                      <a:pt x="5862" y="5"/>
                      <a:pt x="5861" y="5"/>
                    </a:cubicBezTo>
                    <a:lnTo>
                      <a:pt x="5861" y="5"/>
                    </a:lnTo>
                    <a:cubicBezTo>
                      <a:pt x="5860" y="5"/>
                      <a:pt x="5859" y="4"/>
                      <a:pt x="5859" y="3"/>
                    </a:cubicBezTo>
                    <a:cubicBezTo>
                      <a:pt x="5859" y="2"/>
                      <a:pt x="5860" y="1"/>
                      <a:pt x="5861" y="1"/>
                    </a:cubicBezTo>
                    <a:close/>
                    <a:moveTo>
                      <a:pt x="5869" y="1"/>
                    </a:moveTo>
                    <a:lnTo>
                      <a:pt x="5869" y="1"/>
                    </a:lnTo>
                    <a:cubicBezTo>
                      <a:pt x="5870" y="1"/>
                      <a:pt x="5871" y="2"/>
                      <a:pt x="5871" y="3"/>
                    </a:cubicBezTo>
                    <a:cubicBezTo>
                      <a:pt x="5871" y="4"/>
                      <a:pt x="5870" y="5"/>
                      <a:pt x="5869" y="5"/>
                    </a:cubicBezTo>
                    <a:lnTo>
                      <a:pt x="5869" y="5"/>
                    </a:lnTo>
                    <a:cubicBezTo>
                      <a:pt x="5868" y="5"/>
                      <a:pt x="5867" y="4"/>
                      <a:pt x="5867" y="3"/>
                    </a:cubicBezTo>
                    <a:cubicBezTo>
                      <a:pt x="5867" y="2"/>
                      <a:pt x="5868" y="1"/>
                      <a:pt x="5869" y="1"/>
                    </a:cubicBezTo>
                    <a:close/>
                    <a:moveTo>
                      <a:pt x="5877" y="1"/>
                    </a:moveTo>
                    <a:lnTo>
                      <a:pt x="5877" y="1"/>
                    </a:lnTo>
                    <a:cubicBezTo>
                      <a:pt x="5878" y="1"/>
                      <a:pt x="5879" y="2"/>
                      <a:pt x="5879" y="3"/>
                    </a:cubicBezTo>
                    <a:cubicBezTo>
                      <a:pt x="5879" y="4"/>
                      <a:pt x="5878" y="5"/>
                      <a:pt x="5877" y="5"/>
                    </a:cubicBezTo>
                    <a:lnTo>
                      <a:pt x="5877" y="5"/>
                    </a:lnTo>
                    <a:cubicBezTo>
                      <a:pt x="5876" y="5"/>
                      <a:pt x="5875" y="4"/>
                      <a:pt x="5875" y="3"/>
                    </a:cubicBezTo>
                    <a:cubicBezTo>
                      <a:pt x="5875" y="2"/>
                      <a:pt x="5876" y="1"/>
                      <a:pt x="5877" y="1"/>
                    </a:cubicBezTo>
                    <a:close/>
                    <a:moveTo>
                      <a:pt x="5885" y="1"/>
                    </a:moveTo>
                    <a:lnTo>
                      <a:pt x="5885" y="1"/>
                    </a:lnTo>
                    <a:cubicBezTo>
                      <a:pt x="5886" y="1"/>
                      <a:pt x="5887" y="2"/>
                      <a:pt x="5887" y="3"/>
                    </a:cubicBezTo>
                    <a:cubicBezTo>
                      <a:pt x="5887" y="4"/>
                      <a:pt x="5886" y="5"/>
                      <a:pt x="5885" y="5"/>
                    </a:cubicBezTo>
                    <a:lnTo>
                      <a:pt x="5885" y="5"/>
                    </a:lnTo>
                    <a:cubicBezTo>
                      <a:pt x="5884" y="5"/>
                      <a:pt x="5883" y="4"/>
                      <a:pt x="5883" y="3"/>
                    </a:cubicBezTo>
                    <a:cubicBezTo>
                      <a:pt x="5883" y="2"/>
                      <a:pt x="5884" y="1"/>
                      <a:pt x="5885" y="1"/>
                    </a:cubicBezTo>
                    <a:close/>
                    <a:moveTo>
                      <a:pt x="5893" y="1"/>
                    </a:moveTo>
                    <a:lnTo>
                      <a:pt x="5893" y="1"/>
                    </a:lnTo>
                    <a:cubicBezTo>
                      <a:pt x="5894" y="1"/>
                      <a:pt x="5895" y="2"/>
                      <a:pt x="5895" y="3"/>
                    </a:cubicBezTo>
                    <a:cubicBezTo>
                      <a:pt x="5895" y="4"/>
                      <a:pt x="5894" y="5"/>
                      <a:pt x="5893" y="5"/>
                    </a:cubicBezTo>
                    <a:lnTo>
                      <a:pt x="5893" y="5"/>
                    </a:lnTo>
                    <a:cubicBezTo>
                      <a:pt x="5892" y="5"/>
                      <a:pt x="5891" y="4"/>
                      <a:pt x="5891" y="3"/>
                    </a:cubicBezTo>
                    <a:cubicBezTo>
                      <a:pt x="5891" y="2"/>
                      <a:pt x="5892" y="1"/>
                      <a:pt x="5893" y="1"/>
                    </a:cubicBezTo>
                    <a:close/>
                    <a:moveTo>
                      <a:pt x="5901" y="1"/>
                    </a:moveTo>
                    <a:lnTo>
                      <a:pt x="5901" y="1"/>
                    </a:lnTo>
                    <a:cubicBezTo>
                      <a:pt x="5902" y="1"/>
                      <a:pt x="5903" y="2"/>
                      <a:pt x="5903" y="3"/>
                    </a:cubicBezTo>
                    <a:cubicBezTo>
                      <a:pt x="5903" y="4"/>
                      <a:pt x="5902" y="5"/>
                      <a:pt x="5901" y="5"/>
                    </a:cubicBezTo>
                    <a:lnTo>
                      <a:pt x="5901" y="5"/>
                    </a:lnTo>
                    <a:cubicBezTo>
                      <a:pt x="5900" y="5"/>
                      <a:pt x="5899" y="4"/>
                      <a:pt x="5899" y="3"/>
                    </a:cubicBezTo>
                    <a:cubicBezTo>
                      <a:pt x="5899" y="2"/>
                      <a:pt x="5900" y="1"/>
                      <a:pt x="5901" y="1"/>
                    </a:cubicBezTo>
                    <a:close/>
                    <a:moveTo>
                      <a:pt x="5909" y="1"/>
                    </a:moveTo>
                    <a:lnTo>
                      <a:pt x="5909" y="1"/>
                    </a:lnTo>
                    <a:cubicBezTo>
                      <a:pt x="5910" y="1"/>
                      <a:pt x="5911" y="2"/>
                      <a:pt x="5911" y="3"/>
                    </a:cubicBezTo>
                    <a:cubicBezTo>
                      <a:pt x="5911" y="4"/>
                      <a:pt x="5910" y="5"/>
                      <a:pt x="5909" y="5"/>
                    </a:cubicBezTo>
                    <a:lnTo>
                      <a:pt x="5909" y="5"/>
                    </a:lnTo>
                    <a:cubicBezTo>
                      <a:pt x="5908" y="5"/>
                      <a:pt x="5907" y="4"/>
                      <a:pt x="5907" y="3"/>
                    </a:cubicBezTo>
                    <a:cubicBezTo>
                      <a:pt x="5907" y="2"/>
                      <a:pt x="5908" y="1"/>
                      <a:pt x="5909" y="1"/>
                    </a:cubicBezTo>
                    <a:close/>
                    <a:moveTo>
                      <a:pt x="5917" y="1"/>
                    </a:moveTo>
                    <a:lnTo>
                      <a:pt x="5917" y="1"/>
                    </a:lnTo>
                    <a:cubicBezTo>
                      <a:pt x="5918" y="1"/>
                      <a:pt x="5919" y="2"/>
                      <a:pt x="5919" y="3"/>
                    </a:cubicBezTo>
                    <a:cubicBezTo>
                      <a:pt x="5919" y="4"/>
                      <a:pt x="5918" y="5"/>
                      <a:pt x="5917" y="5"/>
                    </a:cubicBezTo>
                    <a:lnTo>
                      <a:pt x="5917" y="5"/>
                    </a:lnTo>
                    <a:cubicBezTo>
                      <a:pt x="5916" y="5"/>
                      <a:pt x="5915" y="4"/>
                      <a:pt x="5915" y="3"/>
                    </a:cubicBezTo>
                    <a:cubicBezTo>
                      <a:pt x="5915" y="2"/>
                      <a:pt x="5916" y="1"/>
                      <a:pt x="5917" y="1"/>
                    </a:cubicBezTo>
                    <a:close/>
                    <a:moveTo>
                      <a:pt x="5925" y="1"/>
                    </a:moveTo>
                    <a:lnTo>
                      <a:pt x="5925" y="1"/>
                    </a:lnTo>
                    <a:cubicBezTo>
                      <a:pt x="5926" y="1"/>
                      <a:pt x="5927" y="2"/>
                      <a:pt x="5927" y="3"/>
                    </a:cubicBezTo>
                    <a:cubicBezTo>
                      <a:pt x="5927" y="4"/>
                      <a:pt x="5926" y="5"/>
                      <a:pt x="5925" y="5"/>
                    </a:cubicBezTo>
                    <a:lnTo>
                      <a:pt x="5925" y="5"/>
                    </a:lnTo>
                    <a:cubicBezTo>
                      <a:pt x="5924" y="5"/>
                      <a:pt x="5923" y="4"/>
                      <a:pt x="5923" y="3"/>
                    </a:cubicBezTo>
                    <a:cubicBezTo>
                      <a:pt x="5923" y="2"/>
                      <a:pt x="5924" y="1"/>
                      <a:pt x="5925" y="1"/>
                    </a:cubicBezTo>
                    <a:close/>
                    <a:moveTo>
                      <a:pt x="5933" y="1"/>
                    </a:moveTo>
                    <a:lnTo>
                      <a:pt x="5933" y="1"/>
                    </a:lnTo>
                    <a:cubicBezTo>
                      <a:pt x="5934" y="1"/>
                      <a:pt x="5935" y="2"/>
                      <a:pt x="5935" y="3"/>
                    </a:cubicBezTo>
                    <a:cubicBezTo>
                      <a:pt x="5935" y="4"/>
                      <a:pt x="5934" y="5"/>
                      <a:pt x="5933" y="5"/>
                    </a:cubicBezTo>
                    <a:lnTo>
                      <a:pt x="5933" y="5"/>
                    </a:lnTo>
                    <a:cubicBezTo>
                      <a:pt x="5932" y="5"/>
                      <a:pt x="5931" y="4"/>
                      <a:pt x="5931" y="3"/>
                    </a:cubicBezTo>
                    <a:cubicBezTo>
                      <a:pt x="5931" y="2"/>
                      <a:pt x="5932" y="1"/>
                      <a:pt x="5933" y="1"/>
                    </a:cubicBezTo>
                    <a:close/>
                    <a:moveTo>
                      <a:pt x="5941" y="1"/>
                    </a:moveTo>
                    <a:lnTo>
                      <a:pt x="5941" y="1"/>
                    </a:lnTo>
                    <a:cubicBezTo>
                      <a:pt x="5942" y="1"/>
                      <a:pt x="5943" y="2"/>
                      <a:pt x="5943" y="3"/>
                    </a:cubicBezTo>
                    <a:cubicBezTo>
                      <a:pt x="5943" y="4"/>
                      <a:pt x="5942" y="5"/>
                      <a:pt x="5941" y="5"/>
                    </a:cubicBezTo>
                    <a:lnTo>
                      <a:pt x="5941" y="5"/>
                    </a:lnTo>
                    <a:cubicBezTo>
                      <a:pt x="5940" y="5"/>
                      <a:pt x="5939" y="4"/>
                      <a:pt x="5939" y="3"/>
                    </a:cubicBezTo>
                    <a:cubicBezTo>
                      <a:pt x="5939" y="2"/>
                      <a:pt x="5940" y="1"/>
                      <a:pt x="5941" y="1"/>
                    </a:cubicBezTo>
                    <a:close/>
                    <a:moveTo>
                      <a:pt x="5949" y="1"/>
                    </a:moveTo>
                    <a:lnTo>
                      <a:pt x="5949" y="1"/>
                    </a:lnTo>
                    <a:cubicBezTo>
                      <a:pt x="5950" y="1"/>
                      <a:pt x="5951" y="2"/>
                      <a:pt x="5951" y="3"/>
                    </a:cubicBezTo>
                    <a:cubicBezTo>
                      <a:pt x="5951" y="4"/>
                      <a:pt x="5950" y="5"/>
                      <a:pt x="5949" y="5"/>
                    </a:cubicBezTo>
                    <a:lnTo>
                      <a:pt x="5949" y="5"/>
                    </a:lnTo>
                    <a:cubicBezTo>
                      <a:pt x="5948" y="5"/>
                      <a:pt x="5947" y="4"/>
                      <a:pt x="5947" y="3"/>
                    </a:cubicBezTo>
                    <a:cubicBezTo>
                      <a:pt x="5947" y="2"/>
                      <a:pt x="5948" y="1"/>
                      <a:pt x="5949" y="1"/>
                    </a:cubicBezTo>
                    <a:close/>
                    <a:moveTo>
                      <a:pt x="5957" y="1"/>
                    </a:moveTo>
                    <a:lnTo>
                      <a:pt x="5957" y="1"/>
                    </a:lnTo>
                    <a:cubicBezTo>
                      <a:pt x="5958" y="1"/>
                      <a:pt x="5959" y="2"/>
                      <a:pt x="5959" y="3"/>
                    </a:cubicBezTo>
                    <a:cubicBezTo>
                      <a:pt x="5959" y="4"/>
                      <a:pt x="5958" y="5"/>
                      <a:pt x="5957" y="5"/>
                    </a:cubicBezTo>
                    <a:lnTo>
                      <a:pt x="5957" y="5"/>
                    </a:lnTo>
                    <a:cubicBezTo>
                      <a:pt x="5956" y="5"/>
                      <a:pt x="5955" y="4"/>
                      <a:pt x="5955" y="3"/>
                    </a:cubicBezTo>
                    <a:cubicBezTo>
                      <a:pt x="5955" y="2"/>
                      <a:pt x="5956" y="1"/>
                      <a:pt x="5957" y="1"/>
                    </a:cubicBezTo>
                    <a:close/>
                    <a:moveTo>
                      <a:pt x="5965" y="1"/>
                    </a:moveTo>
                    <a:lnTo>
                      <a:pt x="5965" y="1"/>
                    </a:lnTo>
                    <a:cubicBezTo>
                      <a:pt x="5966" y="1"/>
                      <a:pt x="5967" y="2"/>
                      <a:pt x="5967" y="3"/>
                    </a:cubicBezTo>
                    <a:cubicBezTo>
                      <a:pt x="5967" y="4"/>
                      <a:pt x="5966" y="5"/>
                      <a:pt x="5965" y="5"/>
                    </a:cubicBezTo>
                    <a:lnTo>
                      <a:pt x="5965" y="5"/>
                    </a:lnTo>
                    <a:cubicBezTo>
                      <a:pt x="5964" y="5"/>
                      <a:pt x="5963" y="4"/>
                      <a:pt x="5963" y="3"/>
                    </a:cubicBezTo>
                    <a:cubicBezTo>
                      <a:pt x="5963" y="2"/>
                      <a:pt x="5964" y="1"/>
                      <a:pt x="5965" y="1"/>
                    </a:cubicBezTo>
                    <a:close/>
                    <a:moveTo>
                      <a:pt x="5973" y="1"/>
                    </a:moveTo>
                    <a:lnTo>
                      <a:pt x="5973" y="1"/>
                    </a:lnTo>
                    <a:cubicBezTo>
                      <a:pt x="5974" y="1"/>
                      <a:pt x="5975" y="2"/>
                      <a:pt x="5975" y="3"/>
                    </a:cubicBezTo>
                    <a:cubicBezTo>
                      <a:pt x="5975" y="4"/>
                      <a:pt x="5974" y="5"/>
                      <a:pt x="5973" y="5"/>
                    </a:cubicBezTo>
                    <a:lnTo>
                      <a:pt x="5973" y="5"/>
                    </a:lnTo>
                    <a:cubicBezTo>
                      <a:pt x="5972" y="5"/>
                      <a:pt x="5971" y="4"/>
                      <a:pt x="5971" y="3"/>
                    </a:cubicBezTo>
                    <a:cubicBezTo>
                      <a:pt x="5971" y="2"/>
                      <a:pt x="5972" y="1"/>
                      <a:pt x="5973" y="1"/>
                    </a:cubicBezTo>
                    <a:close/>
                    <a:moveTo>
                      <a:pt x="5981" y="1"/>
                    </a:moveTo>
                    <a:lnTo>
                      <a:pt x="5981" y="1"/>
                    </a:lnTo>
                    <a:cubicBezTo>
                      <a:pt x="5982" y="1"/>
                      <a:pt x="5983" y="2"/>
                      <a:pt x="5983" y="3"/>
                    </a:cubicBezTo>
                    <a:cubicBezTo>
                      <a:pt x="5983" y="4"/>
                      <a:pt x="5982" y="5"/>
                      <a:pt x="5981" y="5"/>
                    </a:cubicBezTo>
                    <a:lnTo>
                      <a:pt x="5981" y="5"/>
                    </a:lnTo>
                    <a:cubicBezTo>
                      <a:pt x="5980" y="5"/>
                      <a:pt x="5979" y="4"/>
                      <a:pt x="5979" y="3"/>
                    </a:cubicBezTo>
                    <a:cubicBezTo>
                      <a:pt x="5979" y="2"/>
                      <a:pt x="5980" y="1"/>
                      <a:pt x="5981" y="1"/>
                    </a:cubicBezTo>
                    <a:close/>
                    <a:moveTo>
                      <a:pt x="5989" y="1"/>
                    </a:moveTo>
                    <a:lnTo>
                      <a:pt x="5989" y="1"/>
                    </a:lnTo>
                    <a:cubicBezTo>
                      <a:pt x="5990" y="1"/>
                      <a:pt x="5991" y="2"/>
                      <a:pt x="5991" y="3"/>
                    </a:cubicBezTo>
                    <a:cubicBezTo>
                      <a:pt x="5991" y="4"/>
                      <a:pt x="5990" y="5"/>
                      <a:pt x="5989" y="5"/>
                    </a:cubicBezTo>
                    <a:lnTo>
                      <a:pt x="5989" y="5"/>
                    </a:lnTo>
                    <a:cubicBezTo>
                      <a:pt x="5988" y="5"/>
                      <a:pt x="5987" y="4"/>
                      <a:pt x="5987" y="3"/>
                    </a:cubicBezTo>
                    <a:cubicBezTo>
                      <a:pt x="5987" y="2"/>
                      <a:pt x="5988" y="1"/>
                      <a:pt x="5989" y="1"/>
                    </a:cubicBezTo>
                    <a:close/>
                    <a:moveTo>
                      <a:pt x="5997" y="1"/>
                    </a:moveTo>
                    <a:lnTo>
                      <a:pt x="5997" y="1"/>
                    </a:lnTo>
                    <a:cubicBezTo>
                      <a:pt x="5998" y="1"/>
                      <a:pt x="5999" y="2"/>
                      <a:pt x="5999" y="3"/>
                    </a:cubicBezTo>
                    <a:cubicBezTo>
                      <a:pt x="5999" y="4"/>
                      <a:pt x="5998" y="5"/>
                      <a:pt x="5997" y="5"/>
                    </a:cubicBezTo>
                    <a:lnTo>
                      <a:pt x="5997" y="5"/>
                    </a:lnTo>
                    <a:cubicBezTo>
                      <a:pt x="5996" y="5"/>
                      <a:pt x="5995" y="4"/>
                      <a:pt x="5995" y="3"/>
                    </a:cubicBezTo>
                    <a:cubicBezTo>
                      <a:pt x="5995" y="2"/>
                      <a:pt x="5996" y="1"/>
                      <a:pt x="5997" y="1"/>
                    </a:cubicBezTo>
                    <a:close/>
                    <a:moveTo>
                      <a:pt x="6005" y="1"/>
                    </a:moveTo>
                    <a:lnTo>
                      <a:pt x="6005" y="1"/>
                    </a:lnTo>
                    <a:cubicBezTo>
                      <a:pt x="6006" y="1"/>
                      <a:pt x="6007" y="2"/>
                      <a:pt x="6007" y="3"/>
                    </a:cubicBezTo>
                    <a:cubicBezTo>
                      <a:pt x="6007" y="4"/>
                      <a:pt x="6006" y="5"/>
                      <a:pt x="6005" y="5"/>
                    </a:cubicBezTo>
                    <a:lnTo>
                      <a:pt x="6005" y="5"/>
                    </a:lnTo>
                    <a:cubicBezTo>
                      <a:pt x="6004" y="5"/>
                      <a:pt x="6003" y="4"/>
                      <a:pt x="6003" y="3"/>
                    </a:cubicBezTo>
                    <a:cubicBezTo>
                      <a:pt x="6003" y="2"/>
                      <a:pt x="6004" y="1"/>
                      <a:pt x="6005" y="1"/>
                    </a:cubicBezTo>
                    <a:close/>
                    <a:moveTo>
                      <a:pt x="6013" y="1"/>
                    </a:moveTo>
                    <a:lnTo>
                      <a:pt x="6013" y="1"/>
                    </a:lnTo>
                    <a:cubicBezTo>
                      <a:pt x="6014" y="1"/>
                      <a:pt x="6015" y="2"/>
                      <a:pt x="6015" y="3"/>
                    </a:cubicBezTo>
                    <a:cubicBezTo>
                      <a:pt x="6015" y="4"/>
                      <a:pt x="6014" y="5"/>
                      <a:pt x="6013" y="5"/>
                    </a:cubicBezTo>
                    <a:lnTo>
                      <a:pt x="6013" y="5"/>
                    </a:lnTo>
                    <a:cubicBezTo>
                      <a:pt x="6012" y="5"/>
                      <a:pt x="6011" y="4"/>
                      <a:pt x="6011" y="3"/>
                    </a:cubicBezTo>
                    <a:cubicBezTo>
                      <a:pt x="6011" y="2"/>
                      <a:pt x="6012" y="1"/>
                      <a:pt x="6013" y="1"/>
                    </a:cubicBezTo>
                    <a:close/>
                    <a:moveTo>
                      <a:pt x="6021" y="1"/>
                    </a:moveTo>
                    <a:lnTo>
                      <a:pt x="6021" y="1"/>
                    </a:lnTo>
                    <a:cubicBezTo>
                      <a:pt x="6022" y="1"/>
                      <a:pt x="6023" y="2"/>
                      <a:pt x="6023" y="3"/>
                    </a:cubicBezTo>
                    <a:cubicBezTo>
                      <a:pt x="6023" y="4"/>
                      <a:pt x="6022" y="5"/>
                      <a:pt x="6021" y="5"/>
                    </a:cubicBezTo>
                    <a:lnTo>
                      <a:pt x="6021" y="5"/>
                    </a:lnTo>
                    <a:cubicBezTo>
                      <a:pt x="6020" y="5"/>
                      <a:pt x="6019" y="4"/>
                      <a:pt x="6019" y="3"/>
                    </a:cubicBezTo>
                    <a:cubicBezTo>
                      <a:pt x="6019" y="2"/>
                      <a:pt x="6020" y="1"/>
                      <a:pt x="6021" y="1"/>
                    </a:cubicBezTo>
                    <a:close/>
                    <a:moveTo>
                      <a:pt x="6029" y="1"/>
                    </a:moveTo>
                    <a:lnTo>
                      <a:pt x="6029" y="1"/>
                    </a:lnTo>
                    <a:cubicBezTo>
                      <a:pt x="6030" y="1"/>
                      <a:pt x="6031" y="2"/>
                      <a:pt x="6031" y="3"/>
                    </a:cubicBezTo>
                    <a:cubicBezTo>
                      <a:pt x="6031" y="4"/>
                      <a:pt x="6030" y="5"/>
                      <a:pt x="6029" y="5"/>
                    </a:cubicBezTo>
                    <a:lnTo>
                      <a:pt x="6029" y="5"/>
                    </a:lnTo>
                    <a:cubicBezTo>
                      <a:pt x="6028" y="5"/>
                      <a:pt x="6027" y="4"/>
                      <a:pt x="6027" y="3"/>
                    </a:cubicBezTo>
                    <a:cubicBezTo>
                      <a:pt x="6027" y="2"/>
                      <a:pt x="6028" y="1"/>
                      <a:pt x="6029" y="1"/>
                    </a:cubicBezTo>
                    <a:close/>
                    <a:moveTo>
                      <a:pt x="6037" y="1"/>
                    </a:moveTo>
                    <a:lnTo>
                      <a:pt x="6037" y="1"/>
                    </a:lnTo>
                    <a:cubicBezTo>
                      <a:pt x="6038" y="1"/>
                      <a:pt x="6039" y="2"/>
                      <a:pt x="6039" y="3"/>
                    </a:cubicBezTo>
                    <a:cubicBezTo>
                      <a:pt x="6039" y="4"/>
                      <a:pt x="6038" y="5"/>
                      <a:pt x="6037" y="5"/>
                    </a:cubicBezTo>
                    <a:lnTo>
                      <a:pt x="6037" y="5"/>
                    </a:lnTo>
                    <a:cubicBezTo>
                      <a:pt x="6036" y="5"/>
                      <a:pt x="6035" y="4"/>
                      <a:pt x="6035" y="3"/>
                    </a:cubicBezTo>
                    <a:cubicBezTo>
                      <a:pt x="6035" y="2"/>
                      <a:pt x="6036" y="1"/>
                      <a:pt x="6037" y="1"/>
                    </a:cubicBezTo>
                    <a:close/>
                    <a:moveTo>
                      <a:pt x="6045" y="1"/>
                    </a:moveTo>
                    <a:lnTo>
                      <a:pt x="6045" y="1"/>
                    </a:lnTo>
                    <a:cubicBezTo>
                      <a:pt x="6046" y="1"/>
                      <a:pt x="6047" y="2"/>
                      <a:pt x="6047" y="3"/>
                    </a:cubicBezTo>
                    <a:cubicBezTo>
                      <a:pt x="6047" y="4"/>
                      <a:pt x="6046" y="5"/>
                      <a:pt x="6045" y="5"/>
                    </a:cubicBezTo>
                    <a:lnTo>
                      <a:pt x="6045" y="5"/>
                    </a:lnTo>
                    <a:cubicBezTo>
                      <a:pt x="6044" y="5"/>
                      <a:pt x="6043" y="4"/>
                      <a:pt x="6043" y="3"/>
                    </a:cubicBezTo>
                    <a:cubicBezTo>
                      <a:pt x="6043" y="2"/>
                      <a:pt x="6044" y="1"/>
                      <a:pt x="6045" y="1"/>
                    </a:cubicBezTo>
                    <a:close/>
                    <a:moveTo>
                      <a:pt x="6053" y="1"/>
                    </a:moveTo>
                    <a:lnTo>
                      <a:pt x="6053" y="1"/>
                    </a:lnTo>
                    <a:cubicBezTo>
                      <a:pt x="6054" y="1"/>
                      <a:pt x="6055" y="2"/>
                      <a:pt x="6055" y="3"/>
                    </a:cubicBezTo>
                    <a:cubicBezTo>
                      <a:pt x="6055" y="4"/>
                      <a:pt x="6054" y="5"/>
                      <a:pt x="6053" y="5"/>
                    </a:cubicBezTo>
                    <a:lnTo>
                      <a:pt x="6053" y="5"/>
                    </a:lnTo>
                    <a:cubicBezTo>
                      <a:pt x="6052" y="5"/>
                      <a:pt x="6051" y="4"/>
                      <a:pt x="6051" y="3"/>
                    </a:cubicBezTo>
                    <a:cubicBezTo>
                      <a:pt x="6051" y="2"/>
                      <a:pt x="6052" y="1"/>
                      <a:pt x="6053" y="1"/>
                    </a:cubicBezTo>
                    <a:close/>
                    <a:moveTo>
                      <a:pt x="6061" y="1"/>
                    </a:moveTo>
                    <a:lnTo>
                      <a:pt x="6061" y="1"/>
                    </a:lnTo>
                    <a:cubicBezTo>
                      <a:pt x="6062" y="1"/>
                      <a:pt x="6063" y="2"/>
                      <a:pt x="6063" y="3"/>
                    </a:cubicBezTo>
                    <a:cubicBezTo>
                      <a:pt x="6063" y="4"/>
                      <a:pt x="6062" y="5"/>
                      <a:pt x="6061" y="5"/>
                    </a:cubicBezTo>
                    <a:lnTo>
                      <a:pt x="6061" y="5"/>
                    </a:lnTo>
                    <a:cubicBezTo>
                      <a:pt x="6060" y="5"/>
                      <a:pt x="6059" y="4"/>
                      <a:pt x="6059" y="3"/>
                    </a:cubicBezTo>
                    <a:cubicBezTo>
                      <a:pt x="6059" y="2"/>
                      <a:pt x="6060" y="1"/>
                      <a:pt x="6061" y="1"/>
                    </a:cubicBezTo>
                    <a:close/>
                    <a:moveTo>
                      <a:pt x="6069" y="1"/>
                    </a:moveTo>
                    <a:lnTo>
                      <a:pt x="6069" y="1"/>
                    </a:lnTo>
                    <a:cubicBezTo>
                      <a:pt x="6070" y="1"/>
                      <a:pt x="6071" y="2"/>
                      <a:pt x="6071" y="3"/>
                    </a:cubicBezTo>
                    <a:cubicBezTo>
                      <a:pt x="6071" y="4"/>
                      <a:pt x="6070" y="5"/>
                      <a:pt x="6069" y="5"/>
                    </a:cubicBezTo>
                    <a:lnTo>
                      <a:pt x="6069" y="5"/>
                    </a:lnTo>
                    <a:cubicBezTo>
                      <a:pt x="6068" y="5"/>
                      <a:pt x="6067" y="4"/>
                      <a:pt x="6067" y="3"/>
                    </a:cubicBezTo>
                    <a:cubicBezTo>
                      <a:pt x="6067" y="2"/>
                      <a:pt x="6068" y="1"/>
                      <a:pt x="6069" y="1"/>
                    </a:cubicBezTo>
                    <a:close/>
                    <a:moveTo>
                      <a:pt x="6077" y="1"/>
                    </a:moveTo>
                    <a:lnTo>
                      <a:pt x="6077" y="1"/>
                    </a:lnTo>
                    <a:cubicBezTo>
                      <a:pt x="6078" y="1"/>
                      <a:pt x="6079" y="2"/>
                      <a:pt x="6079" y="3"/>
                    </a:cubicBezTo>
                    <a:cubicBezTo>
                      <a:pt x="6079" y="4"/>
                      <a:pt x="6078" y="5"/>
                      <a:pt x="6077" y="5"/>
                    </a:cubicBezTo>
                    <a:lnTo>
                      <a:pt x="6077" y="5"/>
                    </a:lnTo>
                    <a:cubicBezTo>
                      <a:pt x="6076" y="5"/>
                      <a:pt x="6075" y="4"/>
                      <a:pt x="6075" y="3"/>
                    </a:cubicBezTo>
                    <a:cubicBezTo>
                      <a:pt x="6075" y="2"/>
                      <a:pt x="6076" y="1"/>
                      <a:pt x="6077" y="1"/>
                    </a:cubicBezTo>
                    <a:close/>
                    <a:moveTo>
                      <a:pt x="6085" y="1"/>
                    </a:moveTo>
                    <a:lnTo>
                      <a:pt x="6085" y="1"/>
                    </a:lnTo>
                    <a:cubicBezTo>
                      <a:pt x="6086" y="1"/>
                      <a:pt x="6087" y="2"/>
                      <a:pt x="6087" y="3"/>
                    </a:cubicBezTo>
                    <a:cubicBezTo>
                      <a:pt x="6087" y="4"/>
                      <a:pt x="6086" y="5"/>
                      <a:pt x="6085" y="5"/>
                    </a:cubicBezTo>
                    <a:lnTo>
                      <a:pt x="6085" y="5"/>
                    </a:lnTo>
                    <a:cubicBezTo>
                      <a:pt x="6084" y="5"/>
                      <a:pt x="6083" y="4"/>
                      <a:pt x="6083" y="3"/>
                    </a:cubicBezTo>
                    <a:cubicBezTo>
                      <a:pt x="6083" y="2"/>
                      <a:pt x="6084" y="1"/>
                      <a:pt x="6085" y="1"/>
                    </a:cubicBezTo>
                    <a:close/>
                    <a:moveTo>
                      <a:pt x="6093" y="1"/>
                    </a:moveTo>
                    <a:lnTo>
                      <a:pt x="6093" y="1"/>
                    </a:lnTo>
                    <a:cubicBezTo>
                      <a:pt x="6094" y="1"/>
                      <a:pt x="6095" y="2"/>
                      <a:pt x="6095" y="3"/>
                    </a:cubicBezTo>
                    <a:cubicBezTo>
                      <a:pt x="6095" y="4"/>
                      <a:pt x="6094" y="5"/>
                      <a:pt x="6093" y="5"/>
                    </a:cubicBezTo>
                    <a:lnTo>
                      <a:pt x="6093" y="5"/>
                    </a:lnTo>
                    <a:cubicBezTo>
                      <a:pt x="6092" y="5"/>
                      <a:pt x="6091" y="4"/>
                      <a:pt x="6091" y="3"/>
                    </a:cubicBezTo>
                    <a:cubicBezTo>
                      <a:pt x="6091" y="2"/>
                      <a:pt x="6092" y="1"/>
                      <a:pt x="6093" y="1"/>
                    </a:cubicBezTo>
                    <a:close/>
                    <a:moveTo>
                      <a:pt x="6101" y="1"/>
                    </a:moveTo>
                    <a:lnTo>
                      <a:pt x="6101" y="1"/>
                    </a:lnTo>
                    <a:cubicBezTo>
                      <a:pt x="6102" y="1"/>
                      <a:pt x="6103" y="2"/>
                      <a:pt x="6103" y="3"/>
                    </a:cubicBezTo>
                    <a:cubicBezTo>
                      <a:pt x="6103" y="4"/>
                      <a:pt x="6102" y="5"/>
                      <a:pt x="6101" y="5"/>
                    </a:cubicBezTo>
                    <a:lnTo>
                      <a:pt x="6101" y="5"/>
                    </a:lnTo>
                    <a:cubicBezTo>
                      <a:pt x="6100" y="5"/>
                      <a:pt x="6099" y="4"/>
                      <a:pt x="6099" y="3"/>
                    </a:cubicBezTo>
                    <a:cubicBezTo>
                      <a:pt x="6099" y="2"/>
                      <a:pt x="6100" y="1"/>
                      <a:pt x="6101" y="1"/>
                    </a:cubicBezTo>
                    <a:close/>
                    <a:moveTo>
                      <a:pt x="6109" y="1"/>
                    </a:moveTo>
                    <a:lnTo>
                      <a:pt x="6109" y="1"/>
                    </a:lnTo>
                    <a:cubicBezTo>
                      <a:pt x="6110" y="1"/>
                      <a:pt x="6111" y="2"/>
                      <a:pt x="6111" y="3"/>
                    </a:cubicBezTo>
                    <a:cubicBezTo>
                      <a:pt x="6111" y="4"/>
                      <a:pt x="6110" y="5"/>
                      <a:pt x="6109" y="5"/>
                    </a:cubicBezTo>
                    <a:lnTo>
                      <a:pt x="6109" y="5"/>
                    </a:lnTo>
                    <a:cubicBezTo>
                      <a:pt x="6108" y="5"/>
                      <a:pt x="6107" y="4"/>
                      <a:pt x="6107" y="3"/>
                    </a:cubicBezTo>
                    <a:cubicBezTo>
                      <a:pt x="6107" y="2"/>
                      <a:pt x="6108" y="1"/>
                      <a:pt x="6109" y="1"/>
                    </a:cubicBezTo>
                    <a:close/>
                    <a:moveTo>
                      <a:pt x="6117" y="1"/>
                    </a:moveTo>
                    <a:lnTo>
                      <a:pt x="6117" y="1"/>
                    </a:lnTo>
                    <a:cubicBezTo>
                      <a:pt x="6118" y="1"/>
                      <a:pt x="6119" y="2"/>
                      <a:pt x="6119" y="3"/>
                    </a:cubicBezTo>
                    <a:cubicBezTo>
                      <a:pt x="6119" y="4"/>
                      <a:pt x="6118" y="5"/>
                      <a:pt x="6117" y="5"/>
                    </a:cubicBezTo>
                    <a:lnTo>
                      <a:pt x="6117" y="5"/>
                    </a:lnTo>
                    <a:cubicBezTo>
                      <a:pt x="6116" y="5"/>
                      <a:pt x="6115" y="4"/>
                      <a:pt x="6115" y="3"/>
                    </a:cubicBezTo>
                    <a:cubicBezTo>
                      <a:pt x="6115" y="2"/>
                      <a:pt x="6116" y="1"/>
                      <a:pt x="6117" y="1"/>
                    </a:cubicBezTo>
                    <a:close/>
                    <a:moveTo>
                      <a:pt x="6125" y="1"/>
                    </a:moveTo>
                    <a:lnTo>
                      <a:pt x="6125" y="1"/>
                    </a:lnTo>
                    <a:cubicBezTo>
                      <a:pt x="6126" y="1"/>
                      <a:pt x="6127" y="2"/>
                      <a:pt x="6127" y="3"/>
                    </a:cubicBezTo>
                    <a:cubicBezTo>
                      <a:pt x="6127" y="4"/>
                      <a:pt x="6126" y="5"/>
                      <a:pt x="6125" y="5"/>
                    </a:cubicBezTo>
                    <a:lnTo>
                      <a:pt x="6125" y="5"/>
                    </a:lnTo>
                    <a:cubicBezTo>
                      <a:pt x="6124" y="5"/>
                      <a:pt x="6123" y="4"/>
                      <a:pt x="6123" y="3"/>
                    </a:cubicBezTo>
                    <a:cubicBezTo>
                      <a:pt x="6123" y="2"/>
                      <a:pt x="6124" y="1"/>
                      <a:pt x="6125" y="1"/>
                    </a:cubicBezTo>
                    <a:close/>
                    <a:moveTo>
                      <a:pt x="6133" y="1"/>
                    </a:moveTo>
                    <a:lnTo>
                      <a:pt x="6133" y="1"/>
                    </a:lnTo>
                    <a:cubicBezTo>
                      <a:pt x="6134" y="1"/>
                      <a:pt x="6135" y="2"/>
                      <a:pt x="6135" y="3"/>
                    </a:cubicBezTo>
                    <a:cubicBezTo>
                      <a:pt x="6135" y="4"/>
                      <a:pt x="6134" y="5"/>
                      <a:pt x="6133" y="5"/>
                    </a:cubicBezTo>
                    <a:lnTo>
                      <a:pt x="6133" y="5"/>
                    </a:lnTo>
                    <a:cubicBezTo>
                      <a:pt x="6132" y="5"/>
                      <a:pt x="6131" y="4"/>
                      <a:pt x="6131" y="3"/>
                    </a:cubicBezTo>
                    <a:cubicBezTo>
                      <a:pt x="6131" y="2"/>
                      <a:pt x="6132" y="1"/>
                      <a:pt x="6133" y="1"/>
                    </a:cubicBezTo>
                    <a:close/>
                    <a:moveTo>
                      <a:pt x="6141" y="1"/>
                    </a:moveTo>
                    <a:lnTo>
                      <a:pt x="6141" y="1"/>
                    </a:lnTo>
                    <a:cubicBezTo>
                      <a:pt x="6142" y="1"/>
                      <a:pt x="6143" y="2"/>
                      <a:pt x="6143" y="3"/>
                    </a:cubicBezTo>
                    <a:cubicBezTo>
                      <a:pt x="6143" y="4"/>
                      <a:pt x="6142" y="5"/>
                      <a:pt x="6141" y="5"/>
                    </a:cubicBezTo>
                    <a:lnTo>
                      <a:pt x="6141" y="5"/>
                    </a:lnTo>
                    <a:cubicBezTo>
                      <a:pt x="6140" y="5"/>
                      <a:pt x="6139" y="4"/>
                      <a:pt x="6139" y="3"/>
                    </a:cubicBezTo>
                    <a:cubicBezTo>
                      <a:pt x="6139" y="2"/>
                      <a:pt x="6140" y="1"/>
                      <a:pt x="6141" y="1"/>
                    </a:cubicBezTo>
                    <a:close/>
                    <a:moveTo>
                      <a:pt x="6149" y="1"/>
                    </a:moveTo>
                    <a:lnTo>
                      <a:pt x="6149" y="1"/>
                    </a:lnTo>
                    <a:cubicBezTo>
                      <a:pt x="6150" y="1"/>
                      <a:pt x="6151" y="2"/>
                      <a:pt x="6151" y="3"/>
                    </a:cubicBezTo>
                    <a:cubicBezTo>
                      <a:pt x="6151" y="4"/>
                      <a:pt x="6150" y="5"/>
                      <a:pt x="6149" y="5"/>
                    </a:cubicBezTo>
                    <a:lnTo>
                      <a:pt x="6149" y="5"/>
                    </a:lnTo>
                    <a:cubicBezTo>
                      <a:pt x="6148" y="5"/>
                      <a:pt x="6147" y="4"/>
                      <a:pt x="6147" y="3"/>
                    </a:cubicBezTo>
                    <a:cubicBezTo>
                      <a:pt x="6147" y="2"/>
                      <a:pt x="6148" y="1"/>
                      <a:pt x="6149" y="1"/>
                    </a:cubicBezTo>
                    <a:close/>
                    <a:moveTo>
                      <a:pt x="6157" y="1"/>
                    </a:moveTo>
                    <a:lnTo>
                      <a:pt x="6157" y="1"/>
                    </a:lnTo>
                    <a:cubicBezTo>
                      <a:pt x="6158" y="1"/>
                      <a:pt x="6159" y="2"/>
                      <a:pt x="6159" y="3"/>
                    </a:cubicBezTo>
                    <a:cubicBezTo>
                      <a:pt x="6159" y="4"/>
                      <a:pt x="6158" y="5"/>
                      <a:pt x="6157" y="5"/>
                    </a:cubicBezTo>
                    <a:lnTo>
                      <a:pt x="6157" y="5"/>
                    </a:lnTo>
                    <a:cubicBezTo>
                      <a:pt x="6156" y="5"/>
                      <a:pt x="6155" y="4"/>
                      <a:pt x="6155" y="3"/>
                    </a:cubicBezTo>
                    <a:cubicBezTo>
                      <a:pt x="6155" y="2"/>
                      <a:pt x="6156" y="1"/>
                      <a:pt x="6157" y="1"/>
                    </a:cubicBezTo>
                    <a:close/>
                    <a:moveTo>
                      <a:pt x="6165" y="1"/>
                    </a:moveTo>
                    <a:lnTo>
                      <a:pt x="6165" y="1"/>
                    </a:lnTo>
                    <a:cubicBezTo>
                      <a:pt x="6166" y="1"/>
                      <a:pt x="6167" y="2"/>
                      <a:pt x="6167" y="3"/>
                    </a:cubicBezTo>
                    <a:cubicBezTo>
                      <a:pt x="6167" y="4"/>
                      <a:pt x="6166" y="5"/>
                      <a:pt x="6165" y="5"/>
                    </a:cubicBezTo>
                    <a:lnTo>
                      <a:pt x="6165" y="5"/>
                    </a:lnTo>
                    <a:cubicBezTo>
                      <a:pt x="6164" y="5"/>
                      <a:pt x="6163" y="4"/>
                      <a:pt x="6163" y="3"/>
                    </a:cubicBezTo>
                    <a:cubicBezTo>
                      <a:pt x="6163" y="2"/>
                      <a:pt x="6164" y="1"/>
                      <a:pt x="6165" y="1"/>
                    </a:cubicBezTo>
                    <a:close/>
                    <a:moveTo>
                      <a:pt x="6173" y="1"/>
                    </a:moveTo>
                    <a:lnTo>
                      <a:pt x="6173" y="1"/>
                    </a:lnTo>
                    <a:cubicBezTo>
                      <a:pt x="6174" y="1"/>
                      <a:pt x="6175" y="2"/>
                      <a:pt x="6175" y="3"/>
                    </a:cubicBezTo>
                    <a:cubicBezTo>
                      <a:pt x="6175" y="4"/>
                      <a:pt x="6174" y="5"/>
                      <a:pt x="6173" y="5"/>
                    </a:cubicBezTo>
                    <a:lnTo>
                      <a:pt x="6173" y="5"/>
                    </a:lnTo>
                    <a:cubicBezTo>
                      <a:pt x="6172" y="5"/>
                      <a:pt x="6171" y="4"/>
                      <a:pt x="6171" y="3"/>
                    </a:cubicBezTo>
                    <a:cubicBezTo>
                      <a:pt x="6171" y="2"/>
                      <a:pt x="6172" y="1"/>
                      <a:pt x="6173" y="1"/>
                    </a:cubicBezTo>
                    <a:close/>
                    <a:moveTo>
                      <a:pt x="6181" y="1"/>
                    </a:moveTo>
                    <a:lnTo>
                      <a:pt x="6181" y="1"/>
                    </a:lnTo>
                    <a:cubicBezTo>
                      <a:pt x="6182" y="1"/>
                      <a:pt x="6183" y="2"/>
                      <a:pt x="6183" y="3"/>
                    </a:cubicBezTo>
                    <a:cubicBezTo>
                      <a:pt x="6183" y="4"/>
                      <a:pt x="6182" y="5"/>
                      <a:pt x="6181" y="5"/>
                    </a:cubicBezTo>
                    <a:lnTo>
                      <a:pt x="6181" y="5"/>
                    </a:lnTo>
                    <a:cubicBezTo>
                      <a:pt x="6180" y="5"/>
                      <a:pt x="6179" y="4"/>
                      <a:pt x="6179" y="3"/>
                    </a:cubicBezTo>
                    <a:cubicBezTo>
                      <a:pt x="6179" y="2"/>
                      <a:pt x="6180" y="1"/>
                      <a:pt x="6181" y="1"/>
                    </a:cubicBezTo>
                    <a:close/>
                    <a:moveTo>
                      <a:pt x="6189" y="1"/>
                    </a:moveTo>
                    <a:lnTo>
                      <a:pt x="6189" y="1"/>
                    </a:lnTo>
                    <a:cubicBezTo>
                      <a:pt x="6190" y="1"/>
                      <a:pt x="6191" y="2"/>
                      <a:pt x="6191" y="3"/>
                    </a:cubicBezTo>
                    <a:cubicBezTo>
                      <a:pt x="6191" y="4"/>
                      <a:pt x="6190" y="5"/>
                      <a:pt x="6189" y="5"/>
                    </a:cubicBezTo>
                    <a:lnTo>
                      <a:pt x="6189" y="5"/>
                    </a:lnTo>
                    <a:cubicBezTo>
                      <a:pt x="6188" y="5"/>
                      <a:pt x="6187" y="4"/>
                      <a:pt x="6187" y="3"/>
                    </a:cubicBezTo>
                    <a:cubicBezTo>
                      <a:pt x="6187" y="2"/>
                      <a:pt x="6188" y="1"/>
                      <a:pt x="6189" y="1"/>
                    </a:cubicBezTo>
                    <a:close/>
                    <a:moveTo>
                      <a:pt x="6197" y="1"/>
                    </a:moveTo>
                    <a:lnTo>
                      <a:pt x="6197" y="1"/>
                    </a:lnTo>
                    <a:cubicBezTo>
                      <a:pt x="6198" y="1"/>
                      <a:pt x="6199" y="2"/>
                      <a:pt x="6199" y="3"/>
                    </a:cubicBezTo>
                    <a:cubicBezTo>
                      <a:pt x="6199" y="4"/>
                      <a:pt x="6198" y="5"/>
                      <a:pt x="6197" y="5"/>
                    </a:cubicBezTo>
                    <a:lnTo>
                      <a:pt x="6197" y="5"/>
                    </a:lnTo>
                    <a:cubicBezTo>
                      <a:pt x="6196" y="5"/>
                      <a:pt x="6195" y="4"/>
                      <a:pt x="6195" y="3"/>
                    </a:cubicBezTo>
                    <a:cubicBezTo>
                      <a:pt x="6195" y="2"/>
                      <a:pt x="6196" y="1"/>
                      <a:pt x="6197" y="1"/>
                    </a:cubicBezTo>
                    <a:close/>
                    <a:moveTo>
                      <a:pt x="6205" y="1"/>
                    </a:moveTo>
                    <a:lnTo>
                      <a:pt x="6205" y="1"/>
                    </a:lnTo>
                    <a:cubicBezTo>
                      <a:pt x="6206" y="1"/>
                      <a:pt x="6207" y="2"/>
                      <a:pt x="6207" y="3"/>
                    </a:cubicBezTo>
                    <a:cubicBezTo>
                      <a:pt x="6207" y="4"/>
                      <a:pt x="6206" y="5"/>
                      <a:pt x="6205" y="5"/>
                    </a:cubicBezTo>
                    <a:lnTo>
                      <a:pt x="6205" y="5"/>
                    </a:lnTo>
                    <a:cubicBezTo>
                      <a:pt x="6204" y="5"/>
                      <a:pt x="6203" y="4"/>
                      <a:pt x="6203" y="3"/>
                    </a:cubicBezTo>
                    <a:cubicBezTo>
                      <a:pt x="6203" y="2"/>
                      <a:pt x="6204" y="1"/>
                      <a:pt x="6205" y="1"/>
                    </a:cubicBezTo>
                    <a:close/>
                    <a:moveTo>
                      <a:pt x="6213" y="1"/>
                    </a:moveTo>
                    <a:lnTo>
                      <a:pt x="6213" y="1"/>
                    </a:lnTo>
                    <a:cubicBezTo>
                      <a:pt x="6214" y="1"/>
                      <a:pt x="6215" y="2"/>
                      <a:pt x="6215" y="3"/>
                    </a:cubicBezTo>
                    <a:cubicBezTo>
                      <a:pt x="6215" y="4"/>
                      <a:pt x="6214" y="5"/>
                      <a:pt x="6213" y="5"/>
                    </a:cubicBezTo>
                    <a:lnTo>
                      <a:pt x="6213" y="5"/>
                    </a:lnTo>
                    <a:cubicBezTo>
                      <a:pt x="6212" y="5"/>
                      <a:pt x="6211" y="4"/>
                      <a:pt x="6211" y="3"/>
                    </a:cubicBezTo>
                    <a:cubicBezTo>
                      <a:pt x="6211" y="2"/>
                      <a:pt x="6212" y="1"/>
                      <a:pt x="6213" y="1"/>
                    </a:cubicBezTo>
                    <a:close/>
                    <a:moveTo>
                      <a:pt x="6221" y="1"/>
                    </a:moveTo>
                    <a:lnTo>
                      <a:pt x="6221" y="1"/>
                    </a:lnTo>
                    <a:cubicBezTo>
                      <a:pt x="6222" y="1"/>
                      <a:pt x="6223" y="2"/>
                      <a:pt x="6223" y="3"/>
                    </a:cubicBezTo>
                    <a:cubicBezTo>
                      <a:pt x="6223" y="4"/>
                      <a:pt x="6222" y="5"/>
                      <a:pt x="6221" y="5"/>
                    </a:cubicBezTo>
                    <a:lnTo>
                      <a:pt x="6221" y="5"/>
                    </a:lnTo>
                    <a:cubicBezTo>
                      <a:pt x="6220" y="5"/>
                      <a:pt x="6219" y="4"/>
                      <a:pt x="6219" y="3"/>
                    </a:cubicBezTo>
                    <a:cubicBezTo>
                      <a:pt x="6219" y="2"/>
                      <a:pt x="6220" y="1"/>
                      <a:pt x="6221" y="1"/>
                    </a:cubicBezTo>
                    <a:close/>
                    <a:moveTo>
                      <a:pt x="6229" y="1"/>
                    </a:moveTo>
                    <a:lnTo>
                      <a:pt x="6229" y="1"/>
                    </a:lnTo>
                    <a:cubicBezTo>
                      <a:pt x="6230" y="1"/>
                      <a:pt x="6231" y="2"/>
                      <a:pt x="6231" y="3"/>
                    </a:cubicBezTo>
                    <a:cubicBezTo>
                      <a:pt x="6231" y="4"/>
                      <a:pt x="6230" y="5"/>
                      <a:pt x="6229" y="5"/>
                    </a:cubicBezTo>
                    <a:lnTo>
                      <a:pt x="6229" y="5"/>
                    </a:lnTo>
                    <a:cubicBezTo>
                      <a:pt x="6228" y="5"/>
                      <a:pt x="6227" y="4"/>
                      <a:pt x="6227" y="3"/>
                    </a:cubicBezTo>
                    <a:cubicBezTo>
                      <a:pt x="6227" y="2"/>
                      <a:pt x="6228" y="1"/>
                      <a:pt x="6229" y="1"/>
                    </a:cubicBezTo>
                    <a:close/>
                    <a:moveTo>
                      <a:pt x="6237" y="1"/>
                    </a:moveTo>
                    <a:lnTo>
                      <a:pt x="6237" y="1"/>
                    </a:lnTo>
                    <a:cubicBezTo>
                      <a:pt x="6238" y="1"/>
                      <a:pt x="6239" y="2"/>
                      <a:pt x="6239" y="3"/>
                    </a:cubicBezTo>
                    <a:cubicBezTo>
                      <a:pt x="6239" y="4"/>
                      <a:pt x="6238" y="5"/>
                      <a:pt x="6237" y="5"/>
                    </a:cubicBezTo>
                    <a:lnTo>
                      <a:pt x="6237" y="5"/>
                    </a:lnTo>
                    <a:cubicBezTo>
                      <a:pt x="6236" y="5"/>
                      <a:pt x="6235" y="4"/>
                      <a:pt x="6235" y="3"/>
                    </a:cubicBezTo>
                    <a:cubicBezTo>
                      <a:pt x="6235" y="2"/>
                      <a:pt x="6236" y="1"/>
                      <a:pt x="6237" y="1"/>
                    </a:cubicBezTo>
                    <a:close/>
                    <a:moveTo>
                      <a:pt x="6245" y="1"/>
                    </a:moveTo>
                    <a:lnTo>
                      <a:pt x="6245" y="1"/>
                    </a:lnTo>
                    <a:cubicBezTo>
                      <a:pt x="6246" y="1"/>
                      <a:pt x="6247" y="2"/>
                      <a:pt x="6247" y="3"/>
                    </a:cubicBezTo>
                    <a:cubicBezTo>
                      <a:pt x="6247" y="4"/>
                      <a:pt x="6246" y="5"/>
                      <a:pt x="6245" y="5"/>
                    </a:cubicBezTo>
                    <a:lnTo>
                      <a:pt x="6245" y="5"/>
                    </a:lnTo>
                    <a:cubicBezTo>
                      <a:pt x="6244" y="5"/>
                      <a:pt x="6243" y="4"/>
                      <a:pt x="6243" y="3"/>
                    </a:cubicBezTo>
                    <a:cubicBezTo>
                      <a:pt x="6243" y="2"/>
                      <a:pt x="6244" y="1"/>
                      <a:pt x="6245" y="1"/>
                    </a:cubicBezTo>
                    <a:close/>
                    <a:moveTo>
                      <a:pt x="6253" y="1"/>
                    </a:moveTo>
                    <a:lnTo>
                      <a:pt x="6253" y="1"/>
                    </a:lnTo>
                    <a:cubicBezTo>
                      <a:pt x="6254" y="1"/>
                      <a:pt x="6255" y="2"/>
                      <a:pt x="6255" y="3"/>
                    </a:cubicBezTo>
                    <a:cubicBezTo>
                      <a:pt x="6255" y="4"/>
                      <a:pt x="6254" y="5"/>
                      <a:pt x="6253" y="5"/>
                    </a:cubicBezTo>
                    <a:lnTo>
                      <a:pt x="6253" y="5"/>
                    </a:lnTo>
                    <a:cubicBezTo>
                      <a:pt x="6252" y="5"/>
                      <a:pt x="6251" y="4"/>
                      <a:pt x="6251" y="3"/>
                    </a:cubicBezTo>
                    <a:cubicBezTo>
                      <a:pt x="6251" y="2"/>
                      <a:pt x="6252" y="1"/>
                      <a:pt x="6253" y="1"/>
                    </a:cubicBezTo>
                    <a:close/>
                    <a:moveTo>
                      <a:pt x="6261" y="1"/>
                    </a:moveTo>
                    <a:lnTo>
                      <a:pt x="6261" y="1"/>
                    </a:lnTo>
                    <a:cubicBezTo>
                      <a:pt x="6262" y="1"/>
                      <a:pt x="6263" y="2"/>
                      <a:pt x="6263" y="3"/>
                    </a:cubicBezTo>
                    <a:cubicBezTo>
                      <a:pt x="6263" y="4"/>
                      <a:pt x="6262" y="5"/>
                      <a:pt x="6261" y="5"/>
                    </a:cubicBezTo>
                    <a:lnTo>
                      <a:pt x="6261" y="5"/>
                    </a:lnTo>
                    <a:cubicBezTo>
                      <a:pt x="6260" y="5"/>
                      <a:pt x="6259" y="4"/>
                      <a:pt x="6259" y="3"/>
                    </a:cubicBezTo>
                    <a:cubicBezTo>
                      <a:pt x="6259" y="2"/>
                      <a:pt x="6260" y="1"/>
                      <a:pt x="6261" y="1"/>
                    </a:cubicBezTo>
                    <a:close/>
                    <a:moveTo>
                      <a:pt x="6269" y="1"/>
                    </a:moveTo>
                    <a:lnTo>
                      <a:pt x="6269" y="1"/>
                    </a:lnTo>
                    <a:cubicBezTo>
                      <a:pt x="6270" y="1"/>
                      <a:pt x="6271" y="2"/>
                      <a:pt x="6271" y="3"/>
                    </a:cubicBezTo>
                    <a:cubicBezTo>
                      <a:pt x="6271" y="4"/>
                      <a:pt x="6270" y="5"/>
                      <a:pt x="6269" y="5"/>
                    </a:cubicBezTo>
                    <a:lnTo>
                      <a:pt x="6269" y="5"/>
                    </a:lnTo>
                    <a:cubicBezTo>
                      <a:pt x="6268" y="5"/>
                      <a:pt x="6267" y="4"/>
                      <a:pt x="6267" y="3"/>
                    </a:cubicBezTo>
                    <a:cubicBezTo>
                      <a:pt x="6267" y="2"/>
                      <a:pt x="6268" y="1"/>
                      <a:pt x="6269" y="1"/>
                    </a:cubicBezTo>
                    <a:close/>
                    <a:moveTo>
                      <a:pt x="6277" y="1"/>
                    </a:moveTo>
                    <a:lnTo>
                      <a:pt x="6277" y="1"/>
                    </a:lnTo>
                    <a:cubicBezTo>
                      <a:pt x="6278" y="1"/>
                      <a:pt x="6279" y="2"/>
                      <a:pt x="6279" y="3"/>
                    </a:cubicBezTo>
                    <a:cubicBezTo>
                      <a:pt x="6279" y="4"/>
                      <a:pt x="6278" y="5"/>
                      <a:pt x="6277" y="5"/>
                    </a:cubicBezTo>
                    <a:lnTo>
                      <a:pt x="6277" y="5"/>
                    </a:lnTo>
                    <a:cubicBezTo>
                      <a:pt x="6276" y="5"/>
                      <a:pt x="6275" y="4"/>
                      <a:pt x="6275" y="3"/>
                    </a:cubicBezTo>
                    <a:cubicBezTo>
                      <a:pt x="6275" y="2"/>
                      <a:pt x="6276" y="1"/>
                      <a:pt x="6277" y="1"/>
                    </a:cubicBezTo>
                    <a:close/>
                    <a:moveTo>
                      <a:pt x="6285" y="1"/>
                    </a:moveTo>
                    <a:lnTo>
                      <a:pt x="6285" y="1"/>
                    </a:lnTo>
                    <a:cubicBezTo>
                      <a:pt x="6286" y="1"/>
                      <a:pt x="6287" y="2"/>
                      <a:pt x="6287" y="3"/>
                    </a:cubicBezTo>
                    <a:cubicBezTo>
                      <a:pt x="6287" y="4"/>
                      <a:pt x="6286" y="5"/>
                      <a:pt x="6285" y="5"/>
                    </a:cubicBezTo>
                    <a:lnTo>
                      <a:pt x="6285" y="5"/>
                    </a:lnTo>
                    <a:cubicBezTo>
                      <a:pt x="6284" y="5"/>
                      <a:pt x="6283" y="4"/>
                      <a:pt x="6283" y="3"/>
                    </a:cubicBezTo>
                    <a:cubicBezTo>
                      <a:pt x="6283" y="2"/>
                      <a:pt x="6284" y="1"/>
                      <a:pt x="6285" y="1"/>
                    </a:cubicBezTo>
                    <a:close/>
                    <a:moveTo>
                      <a:pt x="6293" y="1"/>
                    </a:moveTo>
                    <a:lnTo>
                      <a:pt x="6293" y="1"/>
                    </a:lnTo>
                    <a:cubicBezTo>
                      <a:pt x="6294" y="1"/>
                      <a:pt x="6295" y="2"/>
                      <a:pt x="6295" y="3"/>
                    </a:cubicBezTo>
                    <a:cubicBezTo>
                      <a:pt x="6295" y="4"/>
                      <a:pt x="6294" y="5"/>
                      <a:pt x="6293" y="5"/>
                    </a:cubicBezTo>
                    <a:lnTo>
                      <a:pt x="6293" y="5"/>
                    </a:lnTo>
                    <a:cubicBezTo>
                      <a:pt x="6292" y="5"/>
                      <a:pt x="6291" y="4"/>
                      <a:pt x="6291" y="3"/>
                    </a:cubicBezTo>
                    <a:cubicBezTo>
                      <a:pt x="6291" y="2"/>
                      <a:pt x="6292" y="1"/>
                      <a:pt x="6293" y="1"/>
                    </a:cubicBezTo>
                    <a:close/>
                    <a:moveTo>
                      <a:pt x="6301" y="1"/>
                    </a:moveTo>
                    <a:lnTo>
                      <a:pt x="6301" y="1"/>
                    </a:lnTo>
                    <a:cubicBezTo>
                      <a:pt x="6302" y="1"/>
                      <a:pt x="6303" y="2"/>
                      <a:pt x="6303" y="3"/>
                    </a:cubicBezTo>
                    <a:cubicBezTo>
                      <a:pt x="6303" y="4"/>
                      <a:pt x="6302" y="5"/>
                      <a:pt x="6301" y="5"/>
                    </a:cubicBezTo>
                    <a:lnTo>
                      <a:pt x="6301" y="5"/>
                    </a:lnTo>
                    <a:cubicBezTo>
                      <a:pt x="6300" y="5"/>
                      <a:pt x="6299" y="4"/>
                      <a:pt x="6299" y="3"/>
                    </a:cubicBezTo>
                    <a:cubicBezTo>
                      <a:pt x="6299" y="2"/>
                      <a:pt x="6300" y="1"/>
                      <a:pt x="6301" y="1"/>
                    </a:cubicBezTo>
                    <a:close/>
                    <a:moveTo>
                      <a:pt x="6309" y="1"/>
                    </a:moveTo>
                    <a:lnTo>
                      <a:pt x="6309" y="1"/>
                    </a:lnTo>
                    <a:cubicBezTo>
                      <a:pt x="6310" y="1"/>
                      <a:pt x="6311" y="2"/>
                      <a:pt x="6311" y="3"/>
                    </a:cubicBezTo>
                    <a:cubicBezTo>
                      <a:pt x="6311" y="4"/>
                      <a:pt x="6310" y="5"/>
                      <a:pt x="6309" y="5"/>
                    </a:cubicBezTo>
                    <a:lnTo>
                      <a:pt x="6309" y="5"/>
                    </a:lnTo>
                    <a:cubicBezTo>
                      <a:pt x="6308" y="5"/>
                      <a:pt x="6307" y="4"/>
                      <a:pt x="6307" y="3"/>
                    </a:cubicBezTo>
                    <a:cubicBezTo>
                      <a:pt x="6307" y="2"/>
                      <a:pt x="6308" y="1"/>
                      <a:pt x="6309" y="1"/>
                    </a:cubicBezTo>
                    <a:close/>
                    <a:moveTo>
                      <a:pt x="6317" y="1"/>
                    </a:moveTo>
                    <a:lnTo>
                      <a:pt x="6317" y="1"/>
                    </a:lnTo>
                    <a:cubicBezTo>
                      <a:pt x="6318" y="1"/>
                      <a:pt x="6319" y="2"/>
                      <a:pt x="6319" y="3"/>
                    </a:cubicBezTo>
                    <a:cubicBezTo>
                      <a:pt x="6319" y="4"/>
                      <a:pt x="6318" y="5"/>
                      <a:pt x="6317" y="5"/>
                    </a:cubicBezTo>
                    <a:lnTo>
                      <a:pt x="6317" y="5"/>
                    </a:lnTo>
                    <a:cubicBezTo>
                      <a:pt x="6316" y="5"/>
                      <a:pt x="6315" y="4"/>
                      <a:pt x="6315" y="3"/>
                    </a:cubicBezTo>
                    <a:cubicBezTo>
                      <a:pt x="6315" y="2"/>
                      <a:pt x="6316" y="1"/>
                      <a:pt x="6317" y="1"/>
                    </a:cubicBezTo>
                    <a:close/>
                    <a:moveTo>
                      <a:pt x="6325" y="1"/>
                    </a:moveTo>
                    <a:lnTo>
                      <a:pt x="6325" y="1"/>
                    </a:lnTo>
                    <a:cubicBezTo>
                      <a:pt x="6326" y="1"/>
                      <a:pt x="6327" y="2"/>
                      <a:pt x="6327" y="3"/>
                    </a:cubicBezTo>
                    <a:cubicBezTo>
                      <a:pt x="6327" y="4"/>
                      <a:pt x="6326" y="5"/>
                      <a:pt x="6325" y="5"/>
                    </a:cubicBezTo>
                    <a:lnTo>
                      <a:pt x="6325" y="5"/>
                    </a:lnTo>
                    <a:cubicBezTo>
                      <a:pt x="6324" y="5"/>
                      <a:pt x="6323" y="4"/>
                      <a:pt x="6323" y="3"/>
                    </a:cubicBezTo>
                    <a:cubicBezTo>
                      <a:pt x="6323" y="2"/>
                      <a:pt x="6324" y="1"/>
                      <a:pt x="6325" y="1"/>
                    </a:cubicBezTo>
                    <a:close/>
                    <a:moveTo>
                      <a:pt x="6333" y="1"/>
                    </a:moveTo>
                    <a:lnTo>
                      <a:pt x="6333" y="1"/>
                    </a:lnTo>
                    <a:cubicBezTo>
                      <a:pt x="6334" y="1"/>
                      <a:pt x="6335" y="2"/>
                      <a:pt x="6335" y="3"/>
                    </a:cubicBezTo>
                    <a:cubicBezTo>
                      <a:pt x="6335" y="4"/>
                      <a:pt x="6334" y="5"/>
                      <a:pt x="6333" y="5"/>
                    </a:cubicBezTo>
                    <a:lnTo>
                      <a:pt x="6333" y="5"/>
                    </a:lnTo>
                    <a:cubicBezTo>
                      <a:pt x="6332" y="5"/>
                      <a:pt x="6331" y="4"/>
                      <a:pt x="6331" y="3"/>
                    </a:cubicBezTo>
                    <a:cubicBezTo>
                      <a:pt x="6331" y="2"/>
                      <a:pt x="6332" y="1"/>
                      <a:pt x="6333" y="1"/>
                    </a:cubicBezTo>
                    <a:close/>
                    <a:moveTo>
                      <a:pt x="6341" y="1"/>
                    </a:moveTo>
                    <a:lnTo>
                      <a:pt x="6341" y="1"/>
                    </a:lnTo>
                    <a:cubicBezTo>
                      <a:pt x="6342" y="1"/>
                      <a:pt x="6343" y="2"/>
                      <a:pt x="6343" y="3"/>
                    </a:cubicBezTo>
                    <a:cubicBezTo>
                      <a:pt x="6343" y="4"/>
                      <a:pt x="6342" y="5"/>
                      <a:pt x="6341" y="5"/>
                    </a:cubicBezTo>
                    <a:lnTo>
                      <a:pt x="6341" y="5"/>
                    </a:lnTo>
                    <a:cubicBezTo>
                      <a:pt x="6340" y="5"/>
                      <a:pt x="6339" y="4"/>
                      <a:pt x="6339" y="3"/>
                    </a:cubicBezTo>
                    <a:cubicBezTo>
                      <a:pt x="6339" y="2"/>
                      <a:pt x="6340" y="1"/>
                      <a:pt x="6341" y="1"/>
                    </a:cubicBezTo>
                    <a:close/>
                    <a:moveTo>
                      <a:pt x="6349" y="1"/>
                    </a:moveTo>
                    <a:lnTo>
                      <a:pt x="6349" y="1"/>
                    </a:lnTo>
                    <a:cubicBezTo>
                      <a:pt x="6350" y="1"/>
                      <a:pt x="6351" y="2"/>
                      <a:pt x="6351" y="3"/>
                    </a:cubicBezTo>
                    <a:cubicBezTo>
                      <a:pt x="6351" y="4"/>
                      <a:pt x="6350" y="5"/>
                      <a:pt x="6349" y="5"/>
                    </a:cubicBezTo>
                    <a:lnTo>
                      <a:pt x="6349" y="5"/>
                    </a:lnTo>
                    <a:cubicBezTo>
                      <a:pt x="6348" y="5"/>
                      <a:pt x="6347" y="4"/>
                      <a:pt x="6347" y="3"/>
                    </a:cubicBezTo>
                    <a:cubicBezTo>
                      <a:pt x="6347" y="2"/>
                      <a:pt x="6348" y="1"/>
                      <a:pt x="6349" y="1"/>
                    </a:cubicBezTo>
                    <a:close/>
                    <a:moveTo>
                      <a:pt x="6357" y="1"/>
                    </a:moveTo>
                    <a:lnTo>
                      <a:pt x="6357" y="1"/>
                    </a:lnTo>
                    <a:cubicBezTo>
                      <a:pt x="6358" y="1"/>
                      <a:pt x="6359" y="2"/>
                      <a:pt x="6359" y="3"/>
                    </a:cubicBezTo>
                    <a:cubicBezTo>
                      <a:pt x="6359" y="4"/>
                      <a:pt x="6358" y="5"/>
                      <a:pt x="6357" y="5"/>
                    </a:cubicBezTo>
                    <a:lnTo>
                      <a:pt x="6357" y="5"/>
                    </a:lnTo>
                    <a:cubicBezTo>
                      <a:pt x="6356" y="5"/>
                      <a:pt x="6355" y="4"/>
                      <a:pt x="6355" y="3"/>
                    </a:cubicBezTo>
                    <a:cubicBezTo>
                      <a:pt x="6355" y="2"/>
                      <a:pt x="6356" y="1"/>
                      <a:pt x="6357" y="1"/>
                    </a:cubicBezTo>
                    <a:close/>
                    <a:moveTo>
                      <a:pt x="6365" y="1"/>
                    </a:moveTo>
                    <a:lnTo>
                      <a:pt x="6365" y="1"/>
                    </a:lnTo>
                    <a:cubicBezTo>
                      <a:pt x="6366" y="1"/>
                      <a:pt x="6367" y="2"/>
                      <a:pt x="6367" y="3"/>
                    </a:cubicBezTo>
                    <a:cubicBezTo>
                      <a:pt x="6367" y="4"/>
                      <a:pt x="6366" y="5"/>
                      <a:pt x="6365" y="5"/>
                    </a:cubicBezTo>
                    <a:lnTo>
                      <a:pt x="6365" y="5"/>
                    </a:lnTo>
                    <a:cubicBezTo>
                      <a:pt x="6364" y="5"/>
                      <a:pt x="6363" y="4"/>
                      <a:pt x="6363" y="3"/>
                    </a:cubicBezTo>
                    <a:cubicBezTo>
                      <a:pt x="6363" y="2"/>
                      <a:pt x="6364" y="1"/>
                      <a:pt x="6365" y="1"/>
                    </a:cubicBezTo>
                    <a:close/>
                    <a:moveTo>
                      <a:pt x="6373" y="1"/>
                    </a:moveTo>
                    <a:lnTo>
                      <a:pt x="6373" y="1"/>
                    </a:lnTo>
                    <a:cubicBezTo>
                      <a:pt x="6374" y="1"/>
                      <a:pt x="6375" y="2"/>
                      <a:pt x="6375" y="3"/>
                    </a:cubicBezTo>
                    <a:cubicBezTo>
                      <a:pt x="6375" y="4"/>
                      <a:pt x="6374" y="5"/>
                      <a:pt x="6373" y="5"/>
                    </a:cubicBezTo>
                    <a:lnTo>
                      <a:pt x="6373" y="5"/>
                    </a:lnTo>
                    <a:cubicBezTo>
                      <a:pt x="6372" y="5"/>
                      <a:pt x="6371" y="4"/>
                      <a:pt x="6371" y="3"/>
                    </a:cubicBezTo>
                    <a:cubicBezTo>
                      <a:pt x="6371" y="2"/>
                      <a:pt x="6372" y="1"/>
                      <a:pt x="6373" y="1"/>
                    </a:cubicBezTo>
                    <a:close/>
                    <a:moveTo>
                      <a:pt x="6381" y="1"/>
                    </a:moveTo>
                    <a:lnTo>
                      <a:pt x="6381" y="1"/>
                    </a:lnTo>
                    <a:cubicBezTo>
                      <a:pt x="6382" y="1"/>
                      <a:pt x="6383" y="2"/>
                      <a:pt x="6383" y="3"/>
                    </a:cubicBezTo>
                    <a:cubicBezTo>
                      <a:pt x="6383" y="4"/>
                      <a:pt x="6382" y="5"/>
                      <a:pt x="6381" y="5"/>
                    </a:cubicBezTo>
                    <a:lnTo>
                      <a:pt x="6381" y="5"/>
                    </a:lnTo>
                    <a:cubicBezTo>
                      <a:pt x="6380" y="5"/>
                      <a:pt x="6379" y="4"/>
                      <a:pt x="6379" y="3"/>
                    </a:cubicBezTo>
                    <a:cubicBezTo>
                      <a:pt x="6379" y="2"/>
                      <a:pt x="6380" y="1"/>
                      <a:pt x="6381" y="1"/>
                    </a:cubicBezTo>
                    <a:close/>
                    <a:moveTo>
                      <a:pt x="6389" y="1"/>
                    </a:moveTo>
                    <a:lnTo>
                      <a:pt x="6389" y="1"/>
                    </a:lnTo>
                    <a:cubicBezTo>
                      <a:pt x="6390" y="1"/>
                      <a:pt x="6391" y="2"/>
                      <a:pt x="6391" y="3"/>
                    </a:cubicBezTo>
                    <a:cubicBezTo>
                      <a:pt x="6391" y="4"/>
                      <a:pt x="6390" y="5"/>
                      <a:pt x="6389" y="5"/>
                    </a:cubicBezTo>
                    <a:lnTo>
                      <a:pt x="6389" y="5"/>
                    </a:lnTo>
                    <a:cubicBezTo>
                      <a:pt x="6388" y="5"/>
                      <a:pt x="6387" y="4"/>
                      <a:pt x="6387" y="3"/>
                    </a:cubicBezTo>
                    <a:cubicBezTo>
                      <a:pt x="6387" y="2"/>
                      <a:pt x="6388" y="1"/>
                      <a:pt x="6389" y="1"/>
                    </a:cubicBezTo>
                    <a:close/>
                    <a:moveTo>
                      <a:pt x="6397" y="1"/>
                    </a:moveTo>
                    <a:lnTo>
                      <a:pt x="6397" y="1"/>
                    </a:lnTo>
                    <a:cubicBezTo>
                      <a:pt x="6398" y="1"/>
                      <a:pt x="6399" y="2"/>
                      <a:pt x="6399" y="3"/>
                    </a:cubicBezTo>
                    <a:cubicBezTo>
                      <a:pt x="6399" y="4"/>
                      <a:pt x="6398" y="5"/>
                      <a:pt x="6397" y="5"/>
                    </a:cubicBezTo>
                    <a:lnTo>
                      <a:pt x="6397" y="5"/>
                    </a:lnTo>
                    <a:cubicBezTo>
                      <a:pt x="6396" y="5"/>
                      <a:pt x="6395" y="4"/>
                      <a:pt x="6395" y="3"/>
                    </a:cubicBezTo>
                    <a:cubicBezTo>
                      <a:pt x="6395" y="2"/>
                      <a:pt x="6396" y="1"/>
                      <a:pt x="6397" y="1"/>
                    </a:cubicBezTo>
                    <a:close/>
                    <a:moveTo>
                      <a:pt x="6405" y="1"/>
                    </a:moveTo>
                    <a:lnTo>
                      <a:pt x="6405" y="1"/>
                    </a:lnTo>
                    <a:cubicBezTo>
                      <a:pt x="6406" y="1"/>
                      <a:pt x="6407" y="2"/>
                      <a:pt x="6407" y="3"/>
                    </a:cubicBezTo>
                    <a:cubicBezTo>
                      <a:pt x="6407" y="4"/>
                      <a:pt x="6406" y="5"/>
                      <a:pt x="6405" y="5"/>
                    </a:cubicBezTo>
                    <a:lnTo>
                      <a:pt x="6405" y="5"/>
                    </a:lnTo>
                    <a:cubicBezTo>
                      <a:pt x="6404" y="5"/>
                      <a:pt x="6403" y="4"/>
                      <a:pt x="6403" y="3"/>
                    </a:cubicBezTo>
                    <a:cubicBezTo>
                      <a:pt x="6403" y="2"/>
                      <a:pt x="6404" y="1"/>
                      <a:pt x="6405" y="1"/>
                    </a:cubicBezTo>
                    <a:close/>
                    <a:moveTo>
                      <a:pt x="6413" y="1"/>
                    </a:moveTo>
                    <a:lnTo>
                      <a:pt x="6413" y="1"/>
                    </a:lnTo>
                    <a:cubicBezTo>
                      <a:pt x="6414" y="1"/>
                      <a:pt x="6415" y="2"/>
                      <a:pt x="6415" y="3"/>
                    </a:cubicBezTo>
                    <a:cubicBezTo>
                      <a:pt x="6415" y="4"/>
                      <a:pt x="6414" y="5"/>
                      <a:pt x="6413" y="5"/>
                    </a:cubicBezTo>
                    <a:lnTo>
                      <a:pt x="6413" y="5"/>
                    </a:lnTo>
                    <a:cubicBezTo>
                      <a:pt x="6412" y="5"/>
                      <a:pt x="6411" y="4"/>
                      <a:pt x="6411" y="3"/>
                    </a:cubicBezTo>
                    <a:cubicBezTo>
                      <a:pt x="6411" y="2"/>
                      <a:pt x="6412" y="1"/>
                      <a:pt x="6413" y="1"/>
                    </a:cubicBezTo>
                    <a:close/>
                    <a:moveTo>
                      <a:pt x="6421" y="1"/>
                    </a:moveTo>
                    <a:lnTo>
                      <a:pt x="6421" y="1"/>
                    </a:lnTo>
                    <a:cubicBezTo>
                      <a:pt x="6422" y="1"/>
                      <a:pt x="6423" y="2"/>
                      <a:pt x="6423" y="3"/>
                    </a:cubicBezTo>
                    <a:cubicBezTo>
                      <a:pt x="6423" y="4"/>
                      <a:pt x="6422" y="5"/>
                      <a:pt x="6421" y="5"/>
                    </a:cubicBezTo>
                    <a:lnTo>
                      <a:pt x="6421" y="5"/>
                    </a:lnTo>
                    <a:cubicBezTo>
                      <a:pt x="6420" y="5"/>
                      <a:pt x="6419" y="4"/>
                      <a:pt x="6419" y="3"/>
                    </a:cubicBezTo>
                    <a:cubicBezTo>
                      <a:pt x="6419" y="2"/>
                      <a:pt x="6420" y="1"/>
                      <a:pt x="6421" y="1"/>
                    </a:cubicBezTo>
                    <a:close/>
                    <a:moveTo>
                      <a:pt x="6429" y="1"/>
                    </a:moveTo>
                    <a:lnTo>
                      <a:pt x="6429" y="1"/>
                    </a:lnTo>
                    <a:cubicBezTo>
                      <a:pt x="6430" y="1"/>
                      <a:pt x="6431" y="2"/>
                      <a:pt x="6431" y="3"/>
                    </a:cubicBezTo>
                    <a:cubicBezTo>
                      <a:pt x="6431" y="4"/>
                      <a:pt x="6430" y="5"/>
                      <a:pt x="6429" y="5"/>
                    </a:cubicBezTo>
                    <a:lnTo>
                      <a:pt x="6429" y="5"/>
                    </a:lnTo>
                    <a:cubicBezTo>
                      <a:pt x="6428" y="5"/>
                      <a:pt x="6427" y="4"/>
                      <a:pt x="6427" y="3"/>
                    </a:cubicBezTo>
                    <a:cubicBezTo>
                      <a:pt x="6427" y="2"/>
                      <a:pt x="6428" y="1"/>
                      <a:pt x="6429" y="1"/>
                    </a:cubicBezTo>
                    <a:close/>
                    <a:moveTo>
                      <a:pt x="6437" y="1"/>
                    </a:moveTo>
                    <a:lnTo>
                      <a:pt x="6437" y="1"/>
                    </a:lnTo>
                    <a:cubicBezTo>
                      <a:pt x="6438" y="1"/>
                      <a:pt x="6439" y="2"/>
                      <a:pt x="6439" y="3"/>
                    </a:cubicBezTo>
                    <a:cubicBezTo>
                      <a:pt x="6439" y="4"/>
                      <a:pt x="6438" y="5"/>
                      <a:pt x="6437" y="5"/>
                    </a:cubicBezTo>
                    <a:lnTo>
                      <a:pt x="6437" y="5"/>
                    </a:lnTo>
                    <a:cubicBezTo>
                      <a:pt x="6436" y="5"/>
                      <a:pt x="6435" y="4"/>
                      <a:pt x="6435" y="3"/>
                    </a:cubicBezTo>
                    <a:cubicBezTo>
                      <a:pt x="6435" y="2"/>
                      <a:pt x="6436" y="1"/>
                      <a:pt x="6437" y="1"/>
                    </a:cubicBezTo>
                    <a:close/>
                    <a:moveTo>
                      <a:pt x="6445" y="1"/>
                    </a:moveTo>
                    <a:lnTo>
                      <a:pt x="6445" y="1"/>
                    </a:lnTo>
                    <a:cubicBezTo>
                      <a:pt x="6446" y="1"/>
                      <a:pt x="6447" y="2"/>
                      <a:pt x="6447" y="3"/>
                    </a:cubicBezTo>
                    <a:cubicBezTo>
                      <a:pt x="6447" y="4"/>
                      <a:pt x="6446" y="5"/>
                      <a:pt x="6445" y="5"/>
                    </a:cubicBezTo>
                    <a:lnTo>
                      <a:pt x="6445" y="5"/>
                    </a:lnTo>
                    <a:cubicBezTo>
                      <a:pt x="6444" y="5"/>
                      <a:pt x="6443" y="4"/>
                      <a:pt x="6443" y="3"/>
                    </a:cubicBezTo>
                    <a:cubicBezTo>
                      <a:pt x="6443" y="2"/>
                      <a:pt x="6444" y="1"/>
                      <a:pt x="6445" y="1"/>
                    </a:cubicBezTo>
                    <a:close/>
                    <a:moveTo>
                      <a:pt x="6453" y="1"/>
                    </a:moveTo>
                    <a:lnTo>
                      <a:pt x="6453" y="1"/>
                    </a:lnTo>
                    <a:cubicBezTo>
                      <a:pt x="6454" y="1"/>
                      <a:pt x="6455" y="2"/>
                      <a:pt x="6455" y="3"/>
                    </a:cubicBezTo>
                    <a:cubicBezTo>
                      <a:pt x="6455" y="4"/>
                      <a:pt x="6454" y="5"/>
                      <a:pt x="6453" y="5"/>
                    </a:cubicBezTo>
                    <a:lnTo>
                      <a:pt x="6453" y="5"/>
                    </a:lnTo>
                    <a:cubicBezTo>
                      <a:pt x="6452" y="5"/>
                      <a:pt x="6451" y="4"/>
                      <a:pt x="6451" y="3"/>
                    </a:cubicBezTo>
                    <a:cubicBezTo>
                      <a:pt x="6451" y="2"/>
                      <a:pt x="6452" y="1"/>
                      <a:pt x="6453" y="1"/>
                    </a:cubicBezTo>
                    <a:close/>
                    <a:moveTo>
                      <a:pt x="6461" y="1"/>
                    </a:moveTo>
                    <a:lnTo>
                      <a:pt x="6461" y="1"/>
                    </a:lnTo>
                    <a:cubicBezTo>
                      <a:pt x="6462" y="1"/>
                      <a:pt x="6463" y="2"/>
                      <a:pt x="6463" y="3"/>
                    </a:cubicBezTo>
                    <a:cubicBezTo>
                      <a:pt x="6463" y="4"/>
                      <a:pt x="6462" y="5"/>
                      <a:pt x="6461" y="5"/>
                    </a:cubicBezTo>
                    <a:lnTo>
                      <a:pt x="6461" y="5"/>
                    </a:lnTo>
                    <a:cubicBezTo>
                      <a:pt x="6460" y="5"/>
                      <a:pt x="6459" y="4"/>
                      <a:pt x="6459" y="3"/>
                    </a:cubicBezTo>
                    <a:cubicBezTo>
                      <a:pt x="6459" y="2"/>
                      <a:pt x="6460" y="1"/>
                      <a:pt x="6461" y="1"/>
                    </a:cubicBezTo>
                    <a:close/>
                    <a:moveTo>
                      <a:pt x="6469" y="1"/>
                    </a:moveTo>
                    <a:lnTo>
                      <a:pt x="6469" y="1"/>
                    </a:lnTo>
                    <a:cubicBezTo>
                      <a:pt x="6470" y="1"/>
                      <a:pt x="6471" y="2"/>
                      <a:pt x="6471" y="3"/>
                    </a:cubicBezTo>
                    <a:cubicBezTo>
                      <a:pt x="6471" y="4"/>
                      <a:pt x="6470" y="5"/>
                      <a:pt x="6469" y="5"/>
                    </a:cubicBezTo>
                    <a:lnTo>
                      <a:pt x="6469" y="5"/>
                    </a:lnTo>
                    <a:cubicBezTo>
                      <a:pt x="6468" y="5"/>
                      <a:pt x="6467" y="4"/>
                      <a:pt x="6467" y="3"/>
                    </a:cubicBezTo>
                    <a:cubicBezTo>
                      <a:pt x="6467" y="2"/>
                      <a:pt x="6468" y="1"/>
                      <a:pt x="6469" y="1"/>
                    </a:cubicBezTo>
                    <a:close/>
                    <a:moveTo>
                      <a:pt x="6477" y="1"/>
                    </a:moveTo>
                    <a:lnTo>
                      <a:pt x="6477" y="1"/>
                    </a:lnTo>
                    <a:cubicBezTo>
                      <a:pt x="6478" y="1"/>
                      <a:pt x="6479" y="2"/>
                      <a:pt x="6479" y="3"/>
                    </a:cubicBezTo>
                    <a:cubicBezTo>
                      <a:pt x="6479" y="4"/>
                      <a:pt x="6478" y="5"/>
                      <a:pt x="6477" y="5"/>
                    </a:cubicBezTo>
                    <a:lnTo>
                      <a:pt x="6477" y="5"/>
                    </a:lnTo>
                    <a:cubicBezTo>
                      <a:pt x="6476" y="5"/>
                      <a:pt x="6475" y="4"/>
                      <a:pt x="6475" y="3"/>
                    </a:cubicBezTo>
                    <a:cubicBezTo>
                      <a:pt x="6475" y="2"/>
                      <a:pt x="6476" y="1"/>
                      <a:pt x="6477" y="1"/>
                    </a:cubicBezTo>
                    <a:close/>
                    <a:moveTo>
                      <a:pt x="6485" y="1"/>
                    </a:moveTo>
                    <a:lnTo>
                      <a:pt x="6485" y="1"/>
                    </a:lnTo>
                    <a:cubicBezTo>
                      <a:pt x="6486" y="1"/>
                      <a:pt x="6487" y="2"/>
                      <a:pt x="6487" y="3"/>
                    </a:cubicBezTo>
                    <a:cubicBezTo>
                      <a:pt x="6487" y="4"/>
                      <a:pt x="6486" y="5"/>
                      <a:pt x="6485" y="5"/>
                    </a:cubicBezTo>
                    <a:lnTo>
                      <a:pt x="6485" y="5"/>
                    </a:lnTo>
                    <a:cubicBezTo>
                      <a:pt x="6484" y="5"/>
                      <a:pt x="6483" y="4"/>
                      <a:pt x="6483" y="3"/>
                    </a:cubicBezTo>
                    <a:cubicBezTo>
                      <a:pt x="6483" y="2"/>
                      <a:pt x="6484" y="1"/>
                      <a:pt x="6485" y="1"/>
                    </a:cubicBezTo>
                    <a:close/>
                    <a:moveTo>
                      <a:pt x="6493" y="1"/>
                    </a:moveTo>
                    <a:lnTo>
                      <a:pt x="6493" y="1"/>
                    </a:lnTo>
                    <a:cubicBezTo>
                      <a:pt x="6494" y="1"/>
                      <a:pt x="6495" y="2"/>
                      <a:pt x="6495" y="3"/>
                    </a:cubicBezTo>
                    <a:cubicBezTo>
                      <a:pt x="6495" y="4"/>
                      <a:pt x="6494" y="5"/>
                      <a:pt x="6493" y="5"/>
                    </a:cubicBezTo>
                    <a:lnTo>
                      <a:pt x="6493" y="5"/>
                    </a:lnTo>
                    <a:cubicBezTo>
                      <a:pt x="6492" y="5"/>
                      <a:pt x="6491" y="4"/>
                      <a:pt x="6491" y="3"/>
                    </a:cubicBezTo>
                    <a:cubicBezTo>
                      <a:pt x="6491" y="2"/>
                      <a:pt x="6492" y="1"/>
                      <a:pt x="6493" y="1"/>
                    </a:cubicBezTo>
                    <a:close/>
                    <a:moveTo>
                      <a:pt x="6501" y="1"/>
                    </a:moveTo>
                    <a:lnTo>
                      <a:pt x="6501" y="1"/>
                    </a:lnTo>
                    <a:cubicBezTo>
                      <a:pt x="6502" y="1"/>
                      <a:pt x="6503" y="2"/>
                      <a:pt x="6503" y="3"/>
                    </a:cubicBezTo>
                    <a:cubicBezTo>
                      <a:pt x="6503" y="4"/>
                      <a:pt x="6502" y="5"/>
                      <a:pt x="6501" y="5"/>
                    </a:cubicBezTo>
                    <a:lnTo>
                      <a:pt x="6501" y="5"/>
                    </a:lnTo>
                    <a:cubicBezTo>
                      <a:pt x="6500" y="5"/>
                      <a:pt x="6499" y="4"/>
                      <a:pt x="6499" y="3"/>
                    </a:cubicBezTo>
                    <a:cubicBezTo>
                      <a:pt x="6499" y="2"/>
                      <a:pt x="6500" y="1"/>
                      <a:pt x="6501" y="1"/>
                    </a:cubicBezTo>
                    <a:close/>
                    <a:moveTo>
                      <a:pt x="6509" y="1"/>
                    </a:moveTo>
                    <a:lnTo>
                      <a:pt x="6509" y="1"/>
                    </a:lnTo>
                    <a:cubicBezTo>
                      <a:pt x="6510" y="1"/>
                      <a:pt x="6511" y="2"/>
                      <a:pt x="6511" y="3"/>
                    </a:cubicBezTo>
                    <a:cubicBezTo>
                      <a:pt x="6511" y="4"/>
                      <a:pt x="6510" y="5"/>
                      <a:pt x="6509" y="5"/>
                    </a:cubicBezTo>
                    <a:lnTo>
                      <a:pt x="6509" y="5"/>
                    </a:lnTo>
                    <a:cubicBezTo>
                      <a:pt x="6508" y="5"/>
                      <a:pt x="6507" y="4"/>
                      <a:pt x="6507" y="3"/>
                    </a:cubicBezTo>
                    <a:cubicBezTo>
                      <a:pt x="6507" y="2"/>
                      <a:pt x="6508" y="1"/>
                      <a:pt x="6509" y="1"/>
                    </a:cubicBezTo>
                    <a:close/>
                    <a:moveTo>
                      <a:pt x="6517" y="1"/>
                    </a:moveTo>
                    <a:lnTo>
                      <a:pt x="6517" y="1"/>
                    </a:lnTo>
                    <a:cubicBezTo>
                      <a:pt x="6518" y="1"/>
                      <a:pt x="6519" y="2"/>
                      <a:pt x="6519" y="3"/>
                    </a:cubicBezTo>
                    <a:cubicBezTo>
                      <a:pt x="6519" y="4"/>
                      <a:pt x="6518" y="5"/>
                      <a:pt x="6517" y="5"/>
                    </a:cubicBezTo>
                    <a:lnTo>
                      <a:pt x="6517" y="5"/>
                    </a:lnTo>
                    <a:cubicBezTo>
                      <a:pt x="6516" y="5"/>
                      <a:pt x="6515" y="4"/>
                      <a:pt x="6515" y="3"/>
                    </a:cubicBezTo>
                    <a:cubicBezTo>
                      <a:pt x="6515" y="2"/>
                      <a:pt x="6516" y="1"/>
                      <a:pt x="6517" y="1"/>
                    </a:cubicBezTo>
                    <a:close/>
                    <a:moveTo>
                      <a:pt x="6525" y="1"/>
                    </a:moveTo>
                    <a:lnTo>
                      <a:pt x="6525" y="1"/>
                    </a:lnTo>
                    <a:cubicBezTo>
                      <a:pt x="6526" y="1"/>
                      <a:pt x="6527" y="2"/>
                      <a:pt x="6527" y="3"/>
                    </a:cubicBezTo>
                    <a:cubicBezTo>
                      <a:pt x="6527" y="4"/>
                      <a:pt x="6526" y="5"/>
                      <a:pt x="6525" y="5"/>
                    </a:cubicBezTo>
                    <a:lnTo>
                      <a:pt x="6525" y="5"/>
                    </a:lnTo>
                    <a:cubicBezTo>
                      <a:pt x="6524" y="5"/>
                      <a:pt x="6523" y="4"/>
                      <a:pt x="6523" y="3"/>
                    </a:cubicBezTo>
                    <a:cubicBezTo>
                      <a:pt x="6523" y="2"/>
                      <a:pt x="6524" y="1"/>
                      <a:pt x="6525" y="1"/>
                    </a:cubicBezTo>
                    <a:close/>
                    <a:moveTo>
                      <a:pt x="6533" y="1"/>
                    </a:moveTo>
                    <a:lnTo>
                      <a:pt x="6533" y="1"/>
                    </a:lnTo>
                    <a:cubicBezTo>
                      <a:pt x="6534" y="1"/>
                      <a:pt x="6535" y="2"/>
                      <a:pt x="6535" y="3"/>
                    </a:cubicBezTo>
                    <a:cubicBezTo>
                      <a:pt x="6535" y="4"/>
                      <a:pt x="6534" y="5"/>
                      <a:pt x="6533" y="5"/>
                    </a:cubicBezTo>
                    <a:lnTo>
                      <a:pt x="6533" y="5"/>
                    </a:lnTo>
                    <a:cubicBezTo>
                      <a:pt x="6532" y="5"/>
                      <a:pt x="6531" y="4"/>
                      <a:pt x="6531" y="3"/>
                    </a:cubicBezTo>
                    <a:cubicBezTo>
                      <a:pt x="6531" y="2"/>
                      <a:pt x="6532" y="1"/>
                      <a:pt x="6533" y="1"/>
                    </a:cubicBezTo>
                    <a:close/>
                    <a:moveTo>
                      <a:pt x="6541" y="1"/>
                    </a:moveTo>
                    <a:lnTo>
                      <a:pt x="6541" y="1"/>
                    </a:lnTo>
                    <a:cubicBezTo>
                      <a:pt x="6542" y="1"/>
                      <a:pt x="6543" y="2"/>
                      <a:pt x="6543" y="3"/>
                    </a:cubicBezTo>
                    <a:cubicBezTo>
                      <a:pt x="6543" y="4"/>
                      <a:pt x="6542" y="5"/>
                      <a:pt x="6541" y="5"/>
                    </a:cubicBezTo>
                    <a:lnTo>
                      <a:pt x="6541" y="5"/>
                    </a:lnTo>
                    <a:cubicBezTo>
                      <a:pt x="6540" y="5"/>
                      <a:pt x="6539" y="4"/>
                      <a:pt x="6539" y="3"/>
                    </a:cubicBezTo>
                    <a:cubicBezTo>
                      <a:pt x="6539" y="2"/>
                      <a:pt x="6540" y="1"/>
                      <a:pt x="6541" y="1"/>
                    </a:cubicBezTo>
                    <a:close/>
                    <a:moveTo>
                      <a:pt x="6549" y="1"/>
                    </a:moveTo>
                    <a:lnTo>
                      <a:pt x="6549" y="1"/>
                    </a:lnTo>
                    <a:cubicBezTo>
                      <a:pt x="6550" y="1"/>
                      <a:pt x="6551" y="2"/>
                      <a:pt x="6551" y="3"/>
                    </a:cubicBezTo>
                    <a:cubicBezTo>
                      <a:pt x="6551" y="4"/>
                      <a:pt x="6550" y="5"/>
                      <a:pt x="6549" y="5"/>
                    </a:cubicBezTo>
                    <a:lnTo>
                      <a:pt x="6549" y="5"/>
                    </a:lnTo>
                    <a:cubicBezTo>
                      <a:pt x="6548" y="5"/>
                      <a:pt x="6547" y="4"/>
                      <a:pt x="6547" y="3"/>
                    </a:cubicBezTo>
                    <a:cubicBezTo>
                      <a:pt x="6547" y="2"/>
                      <a:pt x="6548" y="1"/>
                      <a:pt x="6549" y="1"/>
                    </a:cubicBezTo>
                    <a:close/>
                    <a:moveTo>
                      <a:pt x="6557" y="1"/>
                    </a:moveTo>
                    <a:lnTo>
                      <a:pt x="6557" y="1"/>
                    </a:lnTo>
                    <a:cubicBezTo>
                      <a:pt x="6558" y="1"/>
                      <a:pt x="6559" y="2"/>
                      <a:pt x="6559" y="3"/>
                    </a:cubicBezTo>
                    <a:cubicBezTo>
                      <a:pt x="6559" y="4"/>
                      <a:pt x="6558" y="5"/>
                      <a:pt x="6557" y="5"/>
                    </a:cubicBezTo>
                    <a:lnTo>
                      <a:pt x="6557" y="5"/>
                    </a:lnTo>
                    <a:cubicBezTo>
                      <a:pt x="6556" y="5"/>
                      <a:pt x="6555" y="4"/>
                      <a:pt x="6555" y="3"/>
                    </a:cubicBezTo>
                    <a:cubicBezTo>
                      <a:pt x="6555" y="2"/>
                      <a:pt x="6556" y="1"/>
                      <a:pt x="6557" y="1"/>
                    </a:cubicBezTo>
                    <a:close/>
                    <a:moveTo>
                      <a:pt x="6565" y="1"/>
                    </a:moveTo>
                    <a:lnTo>
                      <a:pt x="6565" y="1"/>
                    </a:lnTo>
                    <a:cubicBezTo>
                      <a:pt x="6566" y="1"/>
                      <a:pt x="6567" y="2"/>
                      <a:pt x="6567" y="3"/>
                    </a:cubicBezTo>
                    <a:cubicBezTo>
                      <a:pt x="6567" y="4"/>
                      <a:pt x="6566" y="5"/>
                      <a:pt x="6565" y="5"/>
                    </a:cubicBezTo>
                    <a:lnTo>
                      <a:pt x="6565" y="5"/>
                    </a:lnTo>
                    <a:cubicBezTo>
                      <a:pt x="6564" y="5"/>
                      <a:pt x="6563" y="4"/>
                      <a:pt x="6563" y="3"/>
                    </a:cubicBezTo>
                    <a:cubicBezTo>
                      <a:pt x="6563" y="2"/>
                      <a:pt x="6564" y="1"/>
                      <a:pt x="6565" y="1"/>
                    </a:cubicBezTo>
                    <a:close/>
                    <a:moveTo>
                      <a:pt x="6573" y="1"/>
                    </a:moveTo>
                    <a:lnTo>
                      <a:pt x="6573" y="1"/>
                    </a:lnTo>
                    <a:cubicBezTo>
                      <a:pt x="6574" y="1"/>
                      <a:pt x="6575" y="2"/>
                      <a:pt x="6575" y="3"/>
                    </a:cubicBezTo>
                    <a:cubicBezTo>
                      <a:pt x="6575" y="4"/>
                      <a:pt x="6574" y="5"/>
                      <a:pt x="6573" y="5"/>
                    </a:cubicBezTo>
                    <a:lnTo>
                      <a:pt x="6573" y="5"/>
                    </a:lnTo>
                    <a:cubicBezTo>
                      <a:pt x="6572" y="5"/>
                      <a:pt x="6571" y="4"/>
                      <a:pt x="6571" y="3"/>
                    </a:cubicBezTo>
                    <a:cubicBezTo>
                      <a:pt x="6571" y="2"/>
                      <a:pt x="6572" y="1"/>
                      <a:pt x="6573" y="1"/>
                    </a:cubicBezTo>
                    <a:close/>
                    <a:moveTo>
                      <a:pt x="6581" y="1"/>
                    </a:moveTo>
                    <a:lnTo>
                      <a:pt x="6581" y="1"/>
                    </a:lnTo>
                    <a:cubicBezTo>
                      <a:pt x="6582" y="1"/>
                      <a:pt x="6583" y="2"/>
                      <a:pt x="6583" y="3"/>
                    </a:cubicBezTo>
                    <a:cubicBezTo>
                      <a:pt x="6583" y="4"/>
                      <a:pt x="6582" y="5"/>
                      <a:pt x="6581" y="5"/>
                    </a:cubicBezTo>
                    <a:lnTo>
                      <a:pt x="6581" y="5"/>
                    </a:lnTo>
                    <a:cubicBezTo>
                      <a:pt x="6580" y="5"/>
                      <a:pt x="6579" y="4"/>
                      <a:pt x="6579" y="3"/>
                    </a:cubicBezTo>
                    <a:cubicBezTo>
                      <a:pt x="6579" y="2"/>
                      <a:pt x="6580" y="1"/>
                      <a:pt x="6581" y="1"/>
                    </a:cubicBezTo>
                    <a:close/>
                    <a:moveTo>
                      <a:pt x="6589" y="1"/>
                    </a:moveTo>
                    <a:lnTo>
                      <a:pt x="6589" y="1"/>
                    </a:lnTo>
                    <a:cubicBezTo>
                      <a:pt x="6590" y="1"/>
                      <a:pt x="6591" y="2"/>
                      <a:pt x="6591" y="3"/>
                    </a:cubicBezTo>
                    <a:cubicBezTo>
                      <a:pt x="6591" y="4"/>
                      <a:pt x="6590" y="5"/>
                      <a:pt x="6589" y="5"/>
                    </a:cubicBezTo>
                    <a:lnTo>
                      <a:pt x="6589" y="5"/>
                    </a:lnTo>
                    <a:cubicBezTo>
                      <a:pt x="6588" y="5"/>
                      <a:pt x="6587" y="4"/>
                      <a:pt x="6587" y="3"/>
                    </a:cubicBezTo>
                    <a:cubicBezTo>
                      <a:pt x="6587" y="2"/>
                      <a:pt x="6588" y="1"/>
                      <a:pt x="6589" y="1"/>
                    </a:cubicBezTo>
                    <a:close/>
                    <a:moveTo>
                      <a:pt x="6597" y="1"/>
                    </a:moveTo>
                    <a:lnTo>
                      <a:pt x="6597" y="1"/>
                    </a:lnTo>
                    <a:cubicBezTo>
                      <a:pt x="6598" y="1"/>
                      <a:pt x="6599" y="2"/>
                      <a:pt x="6599" y="3"/>
                    </a:cubicBezTo>
                    <a:cubicBezTo>
                      <a:pt x="6599" y="4"/>
                      <a:pt x="6598" y="5"/>
                      <a:pt x="6597" y="5"/>
                    </a:cubicBezTo>
                    <a:lnTo>
                      <a:pt x="6597" y="5"/>
                    </a:lnTo>
                    <a:cubicBezTo>
                      <a:pt x="6596" y="5"/>
                      <a:pt x="6595" y="4"/>
                      <a:pt x="6595" y="3"/>
                    </a:cubicBezTo>
                    <a:cubicBezTo>
                      <a:pt x="6595" y="2"/>
                      <a:pt x="6596" y="1"/>
                      <a:pt x="6597" y="1"/>
                    </a:cubicBezTo>
                    <a:close/>
                    <a:moveTo>
                      <a:pt x="6605" y="1"/>
                    </a:moveTo>
                    <a:lnTo>
                      <a:pt x="6605" y="1"/>
                    </a:lnTo>
                    <a:cubicBezTo>
                      <a:pt x="6606" y="1"/>
                      <a:pt x="6607" y="2"/>
                      <a:pt x="6607" y="3"/>
                    </a:cubicBezTo>
                    <a:cubicBezTo>
                      <a:pt x="6607" y="4"/>
                      <a:pt x="6606" y="5"/>
                      <a:pt x="6605" y="5"/>
                    </a:cubicBezTo>
                    <a:lnTo>
                      <a:pt x="6605" y="5"/>
                    </a:lnTo>
                    <a:cubicBezTo>
                      <a:pt x="6604" y="5"/>
                      <a:pt x="6603" y="4"/>
                      <a:pt x="6603" y="3"/>
                    </a:cubicBezTo>
                    <a:cubicBezTo>
                      <a:pt x="6603" y="2"/>
                      <a:pt x="6604" y="1"/>
                      <a:pt x="6605" y="1"/>
                    </a:cubicBezTo>
                    <a:close/>
                    <a:moveTo>
                      <a:pt x="6613" y="1"/>
                    </a:moveTo>
                    <a:lnTo>
                      <a:pt x="6613" y="1"/>
                    </a:lnTo>
                    <a:cubicBezTo>
                      <a:pt x="6614" y="1"/>
                      <a:pt x="6615" y="2"/>
                      <a:pt x="6615" y="3"/>
                    </a:cubicBezTo>
                    <a:cubicBezTo>
                      <a:pt x="6615" y="4"/>
                      <a:pt x="6614" y="5"/>
                      <a:pt x="6613" y="5"/>
                    </a:cubicBezTo>
                    <a:lnTo>
                      <a:pt x="6613" y="5"/>
                    </a:lnTo>
                    <a:cubicBezTo>
                      <a:pt x="6612" y="5"/>
                      <a:pt x="6611" y="4"/>
                      <a:pt x="6611" y="3"/>
                    </a:cubicBezTo>
                    <a:cubicBezTo>
                      <a:pt x="6611" y="2"/>
                      <a:pt x="6612" y="1"/>
                      <a:pt x="6613" y="1"/>
                    </a:cubicBezTo>
                    <a:close/>
                    <a:moveTo>
                      <a:pt x="6621" y="1"/>
                    </a:moveTo>
                    <a:lnTo>
                      <a:pt x="6621" y="1"/>
                    </a:lnTo>
                    <a:cubicBezTo>
                      <a:pt x="6622" y="1"/>
                      <a:pt x="6623" y="2"/>
                      <a:pt x="6623" y="3"/>
                    </a:cubicBezTo>
                    <a:cubicBezTo>
                      <a:pt x="6623" y="4"/>
                      <a:pt x="6622" y="5"/>
                      <a:pt x="6621" y="5"/>
                    </a:cubicBezTo>
                    <a:lnTo>
                      <a:pt x="6621" y="5"/>
                    </a:lnTo>
                    <a:cubicBezTo>
                      <a:pt x="6620" y="5"/>
                      <a:pt x="6619" y="4"/>
                      <a:pt x="6619" y="3"/>
                    </a:cubicBezTo>
                    <a:cubicBezTo>
                      <a:pt x="6619" y="2"/>
                      <a:pt x="6620" y="1"/>
                      <a:pt x="6621" y="1"/>
                    </a:cubicBezTo>
                    <a:close/>
                    <a:moveTo>
                      <a:pt x="6629" y="1"/>
                    </a:moveTo>
                    <a:lnTo>
                      <a:pt x="6629" y="1"/>
                    </a:lnTo>
                    <a:cubicBezTo>
                      <a:pt x="6630" y="1"/>
                      <a:pt x="6631" y="2"/>
                      <a:pt x="6631" y="3"/>
                    </a:cubicBezTo>
                    <a:cubicBezTo>
                      <a:pt x="6631" y="4"/>
                      <a:pt x="6630" y="5"/>
                      <a:pt x="6629" y="5"/>
                    </a:cubicBezTo>
                    <a:lnTo>
                      <a:pt x="6629" y="5"/>
                    </a:lnTo>
                    <a:cubicBezTo>
                      <a:pt x="6628" y="5"/>
                      <a:pt x="6627" y="4"/>
                      <a:pt x="6627" y="3"/>
                    </a:cubicBezTo>
                    <a:cubicBezTo>
                      <a:pt x="6627" y="2"/>
                      <a:pt x="6628" y="1"/>
                      <a:pt x="6629" y="1"/>
                    </a:cubicBezTo>
                    <a:close/>
                    <a:moveTo>
                      <a:pt x="6637" y="1"/>
                    </a:moveTo>
                    <a:lnTo>
                      <a:pt x="6637" y="1"/>
                    </a:lnTo>
                    <a:cubicBezTo>
                      <a:pt x="6638" y="1"/>
                      <a:pt x="6639" y="2"/>
                      <a:pt x="6639" y="3"/>
                    </a:cubicBezTo>
                    <a:cubicBezTo>
                      <a:pt x="6639" y="4"/>
                      <a:pt x="6638" y="5"/>
                      <a:pt x="6637" y="5"/>
                    </a:cubicBezTo>
                    <a:lnTo>
                      <a:pt x="6637" y="5"/>
                    </a:lnTo>
                    <a:cubicBezTo>
                      <a:pt x="6636" y="5"/>
                      <a:pt x="6635" y="4"/>
                      <a:pt x="6635" y="3"/>
                    </a:cubicBezTo>
                    <a:cubicBezTo>
                      <a:pt x="6635" y="2"/>
                      <a:pt x="6636" y="1"/>
                      <a:pt x="6637" y="1"/>
                    </a:cubicBezTo>
                    <a:close/>
                    <a:moveTo>
                      <a:pt x="6645" y="1"/>
                    </a:moveTo>
                    <a:lnTo>
                      <a:pt x="6645" y="1"/>
                    </a:lnTo>
                    <a:cubicBezTo>
                      <a:pt x="6646" y="1"/>
                      <a:pt x="6647" y="2"/>
                      <a:pt x="6647" y="3"/>
                    </a:cubicBezTo>
                    <a:cubicBezTo>
                      <a:pt x="6647" y="4"/>
                      <a:pt x="6646" y="5"/>
                      <a:pt x="6645" y="5"/>
                    </a:cubicBezTo>
                    <a:lnTo>
                      <a:pt x="6645" y="5"/>
                    </a:lnTo>
                    <a:cubicBezTo>
                      <a:pt x="6644" y="5"/>
                      <a:pt x="6643" y="4"/>
                      <a:pt x="6643" y="3"/>
                    </a:cubicBezTo>
                    <a:cubicBezTo>
                      <a:pt x="6643" y="2"/>
                      <a:pt x="6644" y="1"/>
                      <a:pt x="6645" y="1"/>
                    </a:cubicBezTo>
                    <a:close/>
                    <a:moveTo>
                      <a:pt x="6653" y="1"/>
                    </a:moveTo>
                    <a:lnTo>
                      <a:pt x="6653" y="1"/>
                    </a:lnTo>
                    <a:cubicBezTo>
                      <a:pt x="6654" y="1"/>
                      <a:pt x="6655" y="2"/>
                      <a:pt x="6655" y="3"/>
                    </a:cubicBezTo>
                    <a:cubicBezTo>
                      <a:pt x="6655" y="4"/>
                      <a:pt x="6654" y="5"/>
                      <a:pt x="6653" y="5"/>
                    </a:cubicBezTo>
                    <a:lnTo>
                      <a:pt x="6653" y="5"/>
                    </a:lnTo>
                    <a:cubicBezTo>
                      <a:pt x="6652" y="5"/>
                      <a:pt x="6651" y="4"/>
                      <a:pt x="6651" y="3"/>
                    </a:cubicBezTo>
                    <a:cubicBezTo>
                      <a:pt x="6651" y="2"/>
                      <a:pt x="6652" y="1"/>
                      <a:pt x="6653" y="1"/>
                    </a:cubicBezTo>
                    <a:close/>
                    <a:moveTo>
                      <a:pt x="6661" y="1"/>
                    </a:moveTo>
                    <a:lnTo>
                      <a:pt x="6661" y="1"/>
                    </a:lnTo>
                    <a:cubicBezTo>
                      <a:pt x="6662" y="1"/>
                      <a:pt x="6663" y="2"/>
                      <a:pt x="6663" y="3"/>
                    </a:cubicBezTo>
                    <a:cubicBezTo>
                      <a:pt x="6663" y="4"/>
                      <a:pt x="6662" y="5"/>
                      <a:pt x="6661" y="5"/>
                    </a:cubicBezTo>
                    <a:lnTo>
                      <a:pt x="6661" y="5"/>
                    </a:lnTo>
                    <a:cubicBezTo>
                      <a:pt x="6660" y="5"/>
                      <a:pt x="6659" y="4"/>
                      <a:pt x="6659" y="3"/>
                    </a:cubicBezTo>
                    <a:cubicBezTo>
                      <a:pt x="6659" y="2"/>
                      <a:pt x="6660" y="1"/>
                      <a:pt x="6661" y="1"/>
                    </a:cubicBezTo>
                    <a:close/>
                    <a:moveTo>
                      <a:pt x="6669" y="1"/>
                    </a:moveTo>
                    <a:lnTo>
                      <a:pt x="6669" y="1"/>
                    </a:lnTo>
                    <a:cubicBezTo>
                      <a:pt x="6670" y="1"/>
                      <a:pt x="6671" y="2"/>
                      <a:pt x="6671" y="3"/>
                    </a:cubicBezTo>
                    <a:cubicBezTo>
                      <a:pt x="6671" y="4"/>
                      <a:pt x="6670" y="5"/>
                      <a:pt x="6669" y="5"/>
                    </a:cubicBezTo>
                    <a:lnTo>
                      <a:pt x="6669" y="5"/>
                    </a:lnTo>
                    <a:cubicBezTo>
                      <a:pt x="6668" y="5"/>
                      <a:pt x="6667" y="4"/>
                      <a:pt x="6667" y="3"/>
                    </a:cubicBezTo>
                    <a:cubicBezTo>
                      <a:pt x="6667" y="2"/>
                      <a:pt x="6668" y="1"/>
                      <a:pt x="6669" y="1"/>
                    </a:cubicBezTo>
                    <a:close/>
                    <a:moveTo>
                      <a:pt x="6677" y="1"/>
                    </a:moveTo>
                    <a:lnTo>
                      <a:pt x="6677" y="1"/>
                    </a:lnTo>
                    <a:cubicBezTo>
                      <a:pt x="6678" y="1"/>
                      <a:pt x="6679" y="2"/>
                      <a:pt x="6679" y="3"/>
                    </a:cubicBezTo>
                    <a:cubicBezTo>
                      <a:pt x="6679" y="4"/>
                      <a:pt x="6678" y="5"/>
                      <a:pt x="6677" y="5"/>
                    </a:cubicBezTo>
                    <a:lnTo>
                      <a:pt x="6677" y="5"/>
                    </a:lnTo>
                    <a:cubicBezTo>
                      <a:pt x="6676" y="5"/>
                      <a:pt x="6675" y="4"/>
                      <a:pt x="6675" y="3"/>
                    </a:cubicBezTo>
                    <a:cubicBezTo>
                      <a:pt x="6675" y="2"/>
                      <a:pt x="6676" y="1"/>
                      <a:pt x="6677" y="1"/>
                    </a:cubicBezTo>
                    <a:close/>
                    <a:moveTo>
                      <a:pt x="6685" y="1"/>
                    </a:moveTo>
                    <a:lnTo>
                      <a:pt x="6685" y="1"/>
                    </a:lnTo>
                    <a:cubicBezTo>
                      <a:pt x="6686" y="1"/>
                      <a:pt x="6687" y="2"/>
                      <a:pt x="6687" y="3"/>
                    </a:cubicBezTo>
                    <a:cubicBezTo>
                      <a:pt x="6687" y="4"/>
                      <a:pt x="6686" y="5"/>
                      <a:pt x="6685" y="5"/>
                    </a:cubicBezTo>
                    <a:lnTo>
                      <a:pt x="6685" y="5"/>
                    </a:lnTo>
                    <a:cubicBezTo>
                      <a:pt x="6684" y="5"/>
                      <a:pt x="6683" y="4"/>
                      <a:pt x="6683" y="3"/>
                    </a:cubicBezTo>
                    <a:cubicBezTo>
                      <a:pt x="6683" y="2"/>
                      <a:pt x="6684" y="1"/>
                      <a:pt x="6685" y="1"/>
                    </a:cubicBezTo>
                    <a:close/>
                    <a:moveTo>
                      <a:pt x="6693" y="1"/>
                    </a:moveTo>
                    <a:lnTo>
                      <a:pt x="6693" y="1"/>
                    </a:lnTo>
                    <a:cubicBezTo>
                      <a:pt x="6694" y="1"/>
                      <a:pt x="6695" y="2"/>
                      <a:pt x="6695" y="3"/>
                    </a:cubicBezTo>
                    <a:cubicBezTo>
                      <a:pt x="6695" y="4"/>
                      <a:pt x="6694" y="5"/>
                      <a:pt x="6693" y="5"/>
                    </a:cubicBezTo>
                    <a:lnTo>
                      <a:pt x="6693" y="5"/>
                    </a:lnTo>
                    <a:cubicBezTo>
                      <a:pt x="6692" y="5"/>
                      <a:pt x="6691" y="4"/>
                      <a:pt x="6691" y="3"/>
                    </a:cubicBezTo>
                    <a:cubicBezTo>
                      <a:pt x="6691" y="2"/>
                      <a:pt x="6692" y="1"/>
                      <a:pt x="6693" y="1"/>
                    </a:cubicBezTo>
                    <a:close/>
                    <a:moveTo>
                      <a:pt x="6701" y="1"/>
                    </a:moveTo>
                    <a:lnTo>
                      <a:pt x="6701" y="1"/>
                    </a:lnTo>
                    <a:cubicBezTo>
                      <a:pt x="6702" y="1"/>
                      <a:pt x="6703" y="2"/>
                      <a:pt x="6703" y="3"/>
                    </a:cubicBezTo>
                    <a:cubicBezTo>
                      <a:pt x="6703" y="4"/>
                      <a:pt x="6702" y="5"/>
                      <a:pt x="6701" y="5"/>
                    </a:cubicBezTo>
                    <a:lnTo>
                      <a:pt x="6701" y="5"/>
                    </a:lnTo>
                    <a:cubicBezTo>
                      <a:pt x="6700" y="5"/>
                      <a:pt x="6699" y="4"/>
                      <a:pt x="6699" y="3"/>
                    </a:cubicBezTo>
                    <a:cubicBezTo>
                      <a:pt x="6699" y="2"/>
                      <a:pt x="6700" y="1"/>
                      <a:pt x="6701" y="1"/>
                    </a:cubicBezTo>
                    <a:close/>
                    <a:moveTo>
                      <a:pt x="6709" y="1"/>
                    </a:moveTo>
                    <a:lnTo>
                      <a:pt x="6709" y="1"/>
                    </a:lnTo>
                    <a:cubicBezTo>
                      <a:pt x="6710" y="1"/>
                      <a:pt x="6711" y="2"/>
                      <a:pt x="6711" y="3"/>
                    </a:cubicBezTo>
                    <a:cubicBezTo>
                      <a:pt x="6711" y="4"/>
                      <a:pt x="6710" y="5"/>
                      <a:pt x="6709" y="5"/>
                    </a:cubicBezTo>
                    <a:lnTo>
                      <a:pt x="6709" y="5"/>
                    </a:lnTo>
                    <a:cubicBezTo>
                      <a:pt x="6708" y="5"/>
                      <a:pt x="6707" y="4"/>
                      <a:pt x="6707" y="3"/>
                    </a:cubicBezTo>
                    <a:cubicBezTo>
                      <a:pt x="6707" y="2"/>
                      <a:pt x="6708" y="1"/>
                      <a:pt x="6709" y="1"/>
                    </a:cubicBezTo>
                    <a:close/>
                    <a:moveTo>
                      <a:pt x="6717" y="1"/>
                    </a:moveTo>
                    <a:lnTo>
                      <a:pt x="6717" y="1"/>
                    </a:lnTo>
                    <a:cubicBezTo>
                      <a:pt x="6718" y="1"/>
                      <a:pt x="6719" y="2"/>
                      <a:pt x="6719" y="3"/>
                    </a:cubicBezTo>
                    <a:cubicBezTo>
                      <a:pt x="6719" y="4"/>
                      <a:pt x="6718" y="5"/>
                      <a:pt x="6717" y="5"/>
                    </a:cubicBezTo>
                    <a:lnTo>
                      <a:pt x="6717" y="5"/>
                    </a:lnTo>
                    <a:cubicBezTo>
                      <a:pt x="6716" y="5"/>
                      <a:pt x="6715" y="4"/>
                      <a:pt x="6715" y="3"/>
                    </a:cubicBezTo>
                    <a:cubicBezTo>
                      <a:pt x="6715" y="2"/>
                      <a:pt x="6716" y="1"/>
                      <a:pt x="6717" y="1"/>
                    </a:cubicBezTo>
                    <a:close/>
                    <a:moveTo>
                      <a:pt x="6725" y="1"/>
                    </a:moveTo>
                    <a:lnTo>
                      <a:pt x="6725" y="1"/>
                    </a:lnTo>
                    <a:cubicBezTo>
                      <a:pt x="6726" y="1"/>
                      <a:pt x="6727" y="2"/>
                      <a:pt x="6727" y="3"/>
                    </a:cubicBezTo>
                    <a:cubicBezTo>
                      <a:pt x="6727" y="4"/>
                      <a:pt x="6726" y="5"/>
                      <a:pt x="6725" y="5"/>
                    </a:cubicBezTo>
                    <a:lnTo>
                      <a:pt x="6725" y="5"/>
                    </a:lnTo>
                    <a:cubicBezTo>
                      <a:pt x="6724" y="5"/>
                      <a:pt x="6723" y="4"/>
                      <a:pt x="6723" y="3"/>
                    </a:cubicBezTo>
                    <a:cubicBezTo>
                      <a:pt x="6723" y="2"/>
                      <a:pt x="6724" y="1"/>
                      <a:pt x="6725" y="1"/>
                    </a:cubicBezTo>
                    <a:close/>
                    <a:moveTo>
                      <a:pt x="6733" y="1"/>
                    </a:moveTo>
                    <a:lnTo>
                      <a:pt x="6733" y="1"/>
                    </a:lnTo>
                    <a:cubicBezTo>
                      <a:pt x="6734" y="1"/>
                      <a:pt x="6735" y="2"/>
                      <a:pt x="6735" y="3"/>
                    </a:cubicBezTo>
                    <a:cubicBezTo>
                      <a:pt x="6735" y="4"/>
                      <a:pt x="6734" y="5"/>
                      <a:pt x="6733" y="5"/>
                    </a:cubicBezTo>
                    <a:lnTo>
                      <a:pt x="6733" y="5"/>
                    </a:lnTo>
                    <a:cubicBezTo>
                      <a:pt x="6732" y="5"/>
                      <a:pt x="6731" y="4"/>
                      <a:pt x="6731" y="3"/>
                    </a:cubicBezTo>
                    <a:cubicBezTo>
                      <a:pt x="6731" y="2"/>
                      <a:pt x="6732" y="1"/>
                      <a:pt x="6733" y="1"/>
                    </a:cubicBezTo>
                    <a:close/>
                    <a:moveTo>
                      <a:pt x="6741" y="1"/>
                    </a:moveTo>
                    <a:lnTo>
                      <a:pt x="6741" y="1"/>
                    </a:lnTo>
                    <a:cubicBezTo>
                      <a:pt x="6742" y="1"/>
                      <a:pt x="6743" y="2"/>
                      <a:pt x="6743" y="3"/>
                    </a:cubicBezTo>
                    <a:cubicBezTo>
                      <a:pt x="6743" y="4"/>
                      <a:pt x="6742" y="5"/>
                      <a:pt x="6741" y="5"/>
                    </a:cubicBezTo>
                    <a:lnTo>
                      <a:pt x="6741" y="5"/>
                    </a:lnTo>
                    <a:cubicBezTo>
                      <a:pt x="6740" y="5"/>
                      <a:pt x="6739" y="4"/>
                      <a:pt x="6739" y="3"/>
                    </a:cubicBezTo>
                    <a:cubicBezTo>
                      <a:pt x="6739" y="2"/>
                      <a:pt x="6740" y="1"/>
                      <a:pt x="6741" y="1"/>
                    </a:cubicBezTo>
                    <a:close/>
                    <a:moveTo>
                      <a:pt x="6749" y="1"/>
                    </a:moveTo>
                    <a:lnTo>
                      <a:pt x="6749" y="1"/>
                    </a:lnTo>
                    <a:cubicBezTo>
                      <a:pt x="6750" y="1"/>
                      <a:pt x="6751" y="2"/>
                      <a:pt x="6751" y="3"/>
                    </a:cubicBezTo>
                    <a:cubicBezTo>
                      <a:pt x="6751" y="4"/>
                      <a:pt x="6750" y="5"/>
                      <a:pt x="6749" y="5"/>
                    </a:cubicBezTo>
                    <a:lnTo>
                      <a:pt x="6749" y="5"/>
                    </a:lnTo>
                    <a:cubicBezTo>
                      <a:pt x="6748" y="5"/>
                      <a:pt x="6747" y="4"/>
                      <a:pt x="6747" y="3"/>
                    </a:cubicBezTo>
                    <a:cubicBezTo>
                      <a:pt x="6747" y="2"/>
                      <a:pt x="6748" y="1"/>
                      <a:pt x="6749" y="1"/>
                    </a:cubicBezTo>
                    <a:close/>
                    <a:moveTo>
                      <a:pt x="6757" y="1"/>
                    </a:moveTo>
                    <a:lnTo>
                      <a:pt x="6757" y="1"/>
                    </a:lnTo>
                    <a:cubicBezTo>
                      <a:pt x="6758" y="1"/>
                      <a:pt x="6759" y="2"/>
                      <a:pt x="6759" y="3"/>
                    </a:cubicBezTo>
                    <a:cubicBezTo>
                      <a:pt x="6759" y="4"/>
                      <a:pt x="6758" y="5"/>
                      <a:pt x="6757" y="5"/>
                    </a:cubicBezTo>
                    <a:lnTo>
                      <a:pt x="6757" y="5"/>
                    </a:lnTo>
                    <a:cubicBezTo>
                      <a:pt x="6756" y="5"/>
                      <a:pt x="6755" y="4"/>
                      <a:pt x="6755" y="3"/>
                    </a:cubicBezTo>
                    <a:cubicBezTo>
                      <a:pt x="6755" y="2"/>
                      <a:pt x="6756" y="1"/>
                      <a:pt x="6757" y="1"/>
                    </a:cubicBezTo>
                    <a:close/>
                    <a:moveTo>
                      <a:pt x="6765" y="1"/>
                    </a:moveTo>
                    <a:lnTo>
                      <a:pt x="6765" y="1"/>
                    </a:lnTo>
                    <a:cubicBezTo>
                      <a:pt x="6766" y="1"/>
                      <a:pt x="6767" y="2"/>
                      <a:pt x="6767" y="3"/>
                    </a:cubicBezTo>
                    <a:cubicBezTo>
                      <a:pt x="6767" y="4"/>
                      <a:pt x="6766" y="5"/>
                      <a:pt x="6765" y="5"/>
                    </a:cubicBezTo>
                    <a:lnTo>
                      <a:pt x="6765" y="5"/>
                    </a:lnTo>
                    <a:cubicBezTo>
                      <a:pt x="6764" y="5"/>
                      <a:pt x="6763" y="4"/>
                      <a:pt x="6763" y="3"/>
                    </a:cubicBezTo>
                    <a:cubicBezTo>
                      <a:pt x="6763" y="2"/>
                      <a:pt x="6764" y="1"/>
                      <a:pt x="6765" y="1"/>
                    </a:cubicBezTo>
                    <a:close/>
                    <a:moveTo>
                      <a:pt x="6773" y="1"/>
                    </a:moveTo>
                    <a:lnTo>
                      <a:pt x="6773" y="1"/>
                    </a:lnTo>
                    <a:cubicBezTo>
                      <a:pt x="6774" y="1"/>
                      <a:pt x="6775" y="2"/>
                      <a:pt x="6775" y="3"/>
                    </a:cubicBezTo>
                    <a:cubicBezTo>
                      <a:pt x="6775" y="4"/>
                      <a:pt x="6774" y="5"/>
                      <a:pt x="6773" y="5"/>
                    </a:cubicBezTo>
                    <a:lnTo>
                      <a:pt x="6773" y="5"/>
                    </a:lnTo>
                    <a:cubicBezTo>
                      <a:pt x="6772" y="5"/>
                      <a:pt x="6771" y="4"/>
                      <a:pt x="6771" y="3"/>
                    </a:cubicBezTo>
                    <a:cubicBezTo>
                      <a:pt x="6771" y="2"/>
                      <a:pt x="6772" y="1"/>
                      <a:pt x="6773" y="1"/>
                    </a:cubicBezTo>
                    <a:close/>
                    <a:moveTo>
                      <a:pt x="6781" y="1"/>
                    </a:moveTo>
                    <a:lnTo>
                      <a:pt x="6781" y="1"/>
                    </a:lnTo>
                    <a:cubicBezTo>
                      <a:pt x="6782" y="1"/>
                      <a:pt x="6783" y="2"/>
                      <a:pt x="6783" y="3"/>
                    </a:cubicBezTo>
                    <a:cubicBezTo>
                      <a:pt x="6783" y="4"/>
                      <a:pt x="6782" y="5"/>
                      <a:pt x="6781" y="5"/>
                    </a:cubicBezTo>
                    <a:lnTo>
                      <a:pt x="6781" y="5"/>
                    </a:lnTo>
                    <a:cubicBezTo>
                      <a:pt x="6780" y="5"/>
                      <a:pt x="6779" y="4"/>
                      <a:pt x="6779" y="3"/>
                    </a:cubicBezTo>
                    <a:cubicBezTo>
                      <a:pt x="6779" y="2"/>
                      <a:pt x="6780" y="1"/>
                      <a:pt x="6781" y="1"/>
                    </a:cubicBezTo>
                    <a:close/>
                    <a:moveTo>
                      <a:pt x="6789" y="1"/>
                    </a:moveTo>
                    <a:lnTo>
                      <a:pt x="6789" y="1"/>
                    </a:lnTo>
                    <a:cubicBezTo>
                      <a:pt x="6790" y="1"/>
                      <a:pt x="6791" y="2"/>
                      <a:pt x="6791" y="3"/>
                    </a:cubicBezTo>
                    <a:cubicBezTo>
                      <a:pt x="6791" y="4"/>
                      <a:pt x="6790" y="5"/>
                      <a:pt x="6789" y="5"/>
                    </a:cubicBezTo>
                    <a:lnTo>
                      <a:pt x="6789" y="5"/>
                    </a:lnTo>
                    <a:cubicBezTo>
                      <a:pt x="6788" y="5"/>
                      <a:pt x="6787" y="4"/>
                      <a:pt x="6787" y="3"/>
                    </a:cubicBezTo>
                    <a:cubicBezTo>
                      <a:pt x="6787" y="2"/>
                      <a:pt x="6788" y="1"/>
                      <a:pt x="6789" y="1"/>
                    </a:cubicBezTo>
                    <a:close/>
                    <a:moveTo>
                      <a:pt x="6797" y="1"/>
                    </a:moveTo>
                    <a:lnTo>
                      <a:pt x="6797" y="1"/>
                    </a:lnTo>
                    <a:cubicBezTo>
                      <a:pt x="6798" y="1"/>
                      <a:pt x="6799" y="2"/>
                      <a:pt x="6799" y="3"/>
                    </a:cubicBezTo>
                    <a:cubicBezTo>
                      <a:pt x="6799" y="4"/>
                      <a:pt x="6798" y="5"/>
                      <a:pt x="6797" y="5"/>
                    </a:cubicBezTo>
                    <a:lnTo>
                      <a:pt x="6797" y="5"/>
                    </a:lnTo>
                    <a:cubicBezTo>
                      <a:pt x="6796" y="5"/>
                      <a:pt x="6795" y="4"/>
                      <a:pt x="6795" y="3"/>
                    </a:cubicBezTo>
                    <a:cubicBezTo>
                      <a:pt x="6795" y="2"/>
                      <a:pt x="6796" y="1"/>
                      <a:pt x="6797" y="1"/>
                    </a:cubicBezTo>
                    <a:close/>
                    <a:moveTo>
                      <a:pt x="6805" y="1"/>
                    </a:moveTo>
                    <a:lnTo>
                      <a:pt x="6805" y="1"/>
                    </a:lnTo>
                    <a:cubicBezTo>
                      <a:pt x="6806" y="1"/>
                      <a:pt x="6807" y="2"/>
                      <a:pt x="6807" y="3"/>
                    </a:cubicBezTo>
                    <a:cubicBezTo>
                      <a:pt x="6807" y="4"/>
                      <a:pt x="6806" y="5"/>
                      <a:pt x="6805" y="5"/>
                    </a:cubicBezTo>
                    <a:lnTo>
                      <a:pt x="6805" y="5"/>
                    </a:lnTo>
                    <a:cubicBezTo>
                      <a:pt x="6804" y="5"/>
                      <a:pt x="6803" y="4"/>
                      <a:pt x="6803" y="3"/>
                    </a:cubicBezTo>
                    <a:cubicBezTo>
                      <a:pt x="6803" y="2"/>
                      <a:pt x="6804" y="1"/>
                      <a:pt x="6805" y="1"/>
                    </a:cubicBezTo>
                    <a:close/>
                    <a:moveTo>
                      <a:pt x="6813" y="1"/>
                    </a:moveTo>
                    <a:lnTo>
                      <a:pt x="6813" y="1"/>
                    </a:lnTo>
                    <a:cubicBezTo>
                      <a:pt x="6814" y="1"/>
                      <a:pt x="6815" y="2"/>
                      <a:pt x="6815" y="3"/>
                    </a:cubicBezTo>
                    <a:cubicBezTo>
                      <a:pt x="6815" y="4"/>
                      <a:pt x="6814" y="5"/>
                      <a:pt x="6813" y="5"/>
                    </a:cubicBezTo>
                    <a:lnTo>
                      <a:pt x="6813" y="5"/>
                    </a:lnTo>
                    <a:cubicBezTo>
                      <a:pt x="6812" y="5"/>
                      <a:pt x="6811" y="4"/>
                      <a:pt x="6811" y="3"/>
                    </a:cubicBezTo>
                    <a:cubicBezTo>
                      <a:pt x="6811" y="2"/>
                      <a:pt x="6812" y="1"/>
                      <a:pt x="6813" y="1"/>
                    </a:cubicBezTo>
                    <a:close/>
                    <a:moveTo>
                      <a:pt x="6821" y="1"/>
                    </a:moveTo>
                    <a:lnTo>
                      <a:pt x="6821" y="1"/>
                    </a:lnTo>
                    <a:cubicBezTo>
                      <a:pt x="6822" y="1"/>
                      <a:pt x="6823" y="2"/>
                      <a:pt x="6823" y="3"/>
                    </a:cubicBezTo>
                    <a:cubicBezTo>
                      <a:pt x="6823" y="4"/>
                      <a:pt x="6822" y="5"/>
                      <a:pt x="6821" y="5"/>
                    </a:cubicBezTo>
                    <a:lnTo>
                      <a:pt x="6821" y="5"/>
                    </a:lnTo>
                    <a:cubicBezTo>
                      <a:pt x="6820" y="5"/>
                      <a:pt x="6819" y="4"/>
                      <a:pt x="6819" y="3"/>
                    </a:cubicBezTo>
                    <a:cubicBezTo>
                      <a:pt x="6819" y="2"/>
                      <a:pt x="6820" y="1"/>
                      <a:pt x="6821" y="1"/>
                    </a:cubicBezTo>
                    <a:close/>
                    <a:moveTo>
                      <a:pt x="6829" y="1"/>
                    </a:moveTo>
                    <a:lnTo>
                      <a:pt x="6829" y="1"/>
                    </a:lnTo>
                    <a:cubicBezTo>
                      <a:pt x="6830" y="1"/>
                      <a:pt x="6831" y="2"/>
                      <a:pt x="6831" y="3"/>
                    </a:cubicBezTo>
                    <a:cubicBezTo>
                      <a:pt x="6831" y="4"/>
                      <a:pt x="6830" y="5"/>
                      <a:pt x="6829" y="5"/>
                    </a:cubicBezTo>
                    <a:lnTo>
                      <a:pt x="6829" y="5"/>
                    </a:lnTo>
                    <a:cubicBezTo>
                      <a:pt x="6828" y="5"/>
                      <a:pt x="6827" y="4"/>
                      <a:pt x="6827" y="3"/>
                    </a:cubicBezTo>
                    <a:cubicBezTo>
                      <a:pt x="6827" y="2"/>
                      <a:pt x="6828" y="1"/>
                      <a:pt x="6829" y="1"/>
                    </a:cubicBezTo>
                    <a:close/>
                    <a:moveTo>
                      <a:pt x="6837" y="1"/>
                    </a:moveTo>
                    <a:lnTo>
                      <a:pt x="6837" y="1"/>
                    </a:lnTo>
                    <a:cubicBezTo>
                      <a:pt x="6838" y="1"/>
                      <a:pt x="6839" y="2"/>
                      <a:pt x="6839" y="3"/>
                    </a:cubicBezTo>
                    <a:cubicBezTo>
                      <a:pt x="6839" y="4"/>
                      <a:pt x="6838" y="5"/>
                      <a:pt x="6837" y="5"/>
                    </a:cubicBezTo>
                    <a:lnTo>
                      <a:pt x="6837" y="5"/>
                    </a:lnTo>
                    <a:cubicBezTo>
                      <a:pt x="6836" y="5"/>
                      <a:pt x="6835" y="4"/>
                      <a:pt x="6835" y="3"/>
                    </a:cubicBezTo>
                    <a:cubicBezTo>
                      <a:pt x="6835" y="2"/>
                      <a:pt x="6836" y="1"/>
                      <a:pt x="6837" y="1"/>
                    </a:cubicBezTo>
                    <a:close/>
                    <a:moveTo>
                      <a:pt x="6845" y="1"/>
                    </a:moveTo>
                    <a:lnTo>
                      <a:pt x="6845" y="1"/>
                    </a:lnTo>
                    <a:cubicBezTo>
                      <a:pt x="6846" y="1"/>
                      <a:pt x="6847" y="2"/>
                      <a:pt x="6847" y="3"/>
                    </a:cubicBezTo>
                    <a:cubicBezTo>
                      <a:pt x="6847" y="4"/>
                      <a:pt x="6846" y="5"/>
                      <a:pt x="6845" y="5"/>
                    </a:cubicBezTo>
                    <a:lnTo>
                      <a:pt x="6845" y="5"/>
                    </a:lnTo>
                    <a:cubicBezTo>
                      <a:pt x="6844" y="5"/>
                      <a:pt x="6843" y="4"/>
                      <a:pt x="6843" y="3"/>
                    </a:cubicBezTo>
                    <a:cubicBezTo>
                      <a:pt x="6843" y="2"/>
                      <a:pt x="6844" y="1"/>
                      <a:pt x="6845" y="1"/>
                    </a:cubicBezTo>
                    <a:close/>
                    <a:moveTo>
                      <a:pt x="6853" y="1"/>
                    </a:moveTo>
                    <a:lnTo>
                      <a:pt x="6853" y="1"/>
                    </a:lnTo>
                    <a:cubicBezTo>
                      <a:pt x="6854" y="1"/>
                      <a:pt x="6855" y="2"/>
                      <a:pt x="6855" y="3"/>
                    </a:cubicBezTo>
                    <a:cubicBezTo>
                      <a:pt x="6855" y="4"/>
                      <a:pt x="6854" y="5"/>
                      <a:pt x="6853" y="5"/>
                    </a:cubicBezTo>
                    <a:lnTo>
                      <a:pt x="6853" y="5"/>
                    </a:lnTo>
                    <a:cubicBezTo>
                      <a:pt x="6852" y="5"/>
                      <a:pt x="6851" y="4"/>
                      <a:pt x="6851" y="3"/>
                    </a:cubicBezTo>
                    <a:cubicBezTo>
                      <a:pt x="6851" y="2"/>
                      <a:pt x="6852" y="1"/>
                      <a:pt x="6853" y="1"/>
                    </a:cubicBezTo>
                    <a:close/>
                    <a:moveTo>
                      <a:pt x="6861" y="1"/>
                    </a:moveTo>
                    <a:lnTo>
                      <a:pt x="6861" y="1"/>
                    </a:lnTo>
                    <a:cubicBezTo>
                      <a:pt x="6862" y="1"/>
                      <a:pt x="6863" y="2"/>
                      <a:pt x="6863" y="3"/>
                    </a:cubicBezTo>
                    <a:cubicBezTo>
                      <a:pt x="6863" y="4"/>
                      <a:pt x="6862" y="5"/>
                      <a:pt x="6861" y="5"/>
                    </a:cubicBezTo>
                    <a:lnTo>
                      <a:pt x="6861" y="5"/>
                    </a:lnTo>
                    <a:cubicBezTo>
                      <a:pt x="6860" y="5"/>
                      <a:pt x="6859" y="4"/>
                      <a:pt x="6859" y="3"/>
                    </a:cubicBezTo>
                    <a:cubicBezTo>
                      <a:pt x="6859" y="2"/>
                      <a:pt x="6860" y="1"/>
                      <a:pt x="6861" y="1"/>
                    </a:cubicBezTo>
                    <a:close/>
                    <a:moveTo>
                      <a:pt x="6869" y="1"/>
                    </a:moveTo>
                    <a:lnTo>
                      <a:pt x="6869" y="1"/>
                    </a:lnTo>
                    <a:cubicBezTo>
                      <a:pt x="6870" y="1"/>
                      <a:pt x="6871" y="2"/>
                      <a:pt x="6871" y="3"/>
                    </a:cubicBezTo>
                    <a:cubicBezTo>
                      <a:pt x="6871" y="4"/>
                      <a:pt x="6870" y="5"/>
                      <a:pt x="6869" y="5"/>
                    </a:cubicBezTo>
                    <a:lnTo>
                      <a:pt x="6869" y="5"/>
                    </a:lnTo>
                    <a:cubicBezTo>
                      <a:pt x="6868" y="5"/>
                      <a:pt x="6867" y="4"/>
                      <a:pt x="6867" y="3"/>
                    </a:cubicBezTo>
                    <a:cubicBezTo>
                      <a:pt x="6867" y="2"/>
                      <a:pt x="6868" y="1"/>
                      <a:pt x="6869" y="1"/>
                    </a:cubicBezTo>
                    <a:close/>
                    <a:moveTo>
                      <a:pt x="6877" y="1"/>
                    </a:moveTo>
                    <a:lnTo>
                      <a:pt x="6877" y="1"/>
                    </a:lnTo>
                    <a:cubicBezTo>
                      <a:pt x="6878" y="1"/>
                      <a:pt x="6879" y="2"/>
                      <a:pt x="6879" y="3"/>
                    </a:cubicBezTo>
                    <a:cubicBezTo>
                      <a:pt x="6879" y="4"/>
                      <a:pt x="6878" y="5"/>
                      <a:pt x="6877" y="5"/>
                    </a:cubicBezTo>
                    <a:lnTo>
                      <a:pt x="6877" y="5"/>
                    </a:lnTo>
                    <a:cubicBezTo>
                      <a:pt x="6876" y="5"/>
                      <a:pt x="6875" y="4"/>
                      <a:pt x="6875" y="3"/>
                    </a:cubicBezTo>
                    <a:cubicBezTo>
                      <a:pt x="6875" y="2"/>
                      <a:pt x="6876" y="1"/>
                      <a:pt x="6877" y="1"/>
                    </a:cubicBezTo>
                    <a:close/>
                    <a:moveTo>
                      <a:pt x="6885" y="1"/>
                    </a:moveTo>
                    <a:lnTo>
                      <a:pt x="6885" y="1"/>
                    </a:lnTo>
                    <a:cubicBezTo>
                      <a:pt x="6886" y="1"/>
                      <a:pt x="6887" y="2"/>
                      <a:pt x="6887" y="3"/>
                    </a:cubicBezTo>
                    <a:cubicBezTo>
                      <a:pt x="6887" y="4"/>
                      <a:pt x="6886" y="5"/>
                      <a:pt x="6885" y="5"/>
                    </a:cubicBezTo>
                    <a:lnTo>
                      <a:pt x="6885" y="5"/>
                    </a:lnTo>
                    <a:cubicBezTo>
                      <a:pt x="6884" y="5"/>
                      <a:pt x="6883" y="4"/>
                      <a:pt x="6883" y="3"/>
                    </a:cubicBezTo>
                    <a:cubicBezTo>
                      <a:pt x="6883" y="2"/>
                      <a:pt x="6884" y="1"/>
                      <a:pt x="6885" y="1"/>
                    </a:cubicBezTo>
                    <a:close/>
                    <a:moveTo>
                      <a:pt x="6893" y="1"/>
                    </a:moveTo>
                    <a:lnTo>
                      <a:pt x="6893" y="1"/>
                    </a:lnTo>
                    <a:cubicBezTo>
                      <a:pt x="6894" y="1"/>
                      <a:pt x="6895" y="2"/>
                      <a:pt x="6895" y="3"/>
                    </a:cubicBezTo>
                    <a:cubicBezTo>
                      <a:pt x="6895" y="4"/>
                      <a:pt x="6894" y="5"/>
                      <a:pt x="6893" y="5"/>
                    </a:cubicBezTo>
                    <a:lnTo>
                      <a:pt x="6893" y="5"/>
                    </a:lnTo>
                    <a:cubicBezTo>
                      <a:pt x="6892" y="5"/>
                      <a:pt x="6891" y="4"/>
                      <a:pt x="6891" y="3"/>
                    </a:cubicBezTo>
                    <a:cubicBezTo>
                      <a:pt x="6891" y="2"/>
                      <a:pt x="6892" y="1"/>
                      <a:pt x="6893" y="1"/>
                    </a:cubicBezTo>
                    <a:close/>
                    <a:moveTo>
                      <a:pt x="6901" y="1"/>
                    </a:moveTo>
                    <a:lnTo>
                      <a:pt x="6901" y="1"/>
                    </a:lnTo>
                    <a:cubicBezTo>
                      <a:pt x="6902" y="1"/>
                      <a:pt x="6903" y="2"/>
                      <a:pt x="6903" y="3"/>
                    </a:cubicBezTo>
                    <a:cubicBezTo>
                      <a:pt x="6903" y="4"/>
                      <a:pt x="6902" y="5"/>
                      <a:pt x="6901" y="5"/>
                    </a:cubicBezTo>
                    <a:lnTo>
                      <a:pt x="6901" y="5"/>
                    </a:lnTo>
                    <a:cubicBezTo>
                      <a:pt x="6900" y="5"/>
                      <a:pt x="6899" y="4"/>
                      <a:pt x="6899" y="3"/>
                    </a:cubicBezTo>
                    <a:cubicBezTo>
                      <a:pt x="6899" y="2"/>
                      <a:pt x="6900" y="1"/>
                      <a:pt x="6901" y="1"/>
                    </a:cubicBezTo>
                    <a:close/>
                    <a:moveTo>
                      <a:pt x="6909" y="1"/>
                    </a:moveTo>
                    <a:lnTo>
                      <a:pt x="6909" y="1"/>
                    </a:lnTo>
                    <a:cubicBezTo>
                      <a:pt x="6910" y="1"/>
                      <a:pt x="6911" y="2"/>
                      <a:pt x="6911" y="3"/>
                    </a:cubicBezTo>
                    <a:cubicBezTo>
                      <a:pt x="6911" y="4"/>
                      <a:pt x="6910" y="5"/>
                      <a:pt x="6909" y="5"/>
                    </a:cubicBezTo>
                    <a:lnTo>
                      <a:pt x="6909" y="5"/>
                    </a:lnTo>
                    <a:cubicBezTo>
                      <a:pt x="6908" y="5"/>
                      <a:pt x="6907" y="4"/>
                      <a:pt x="6907" y="3"/>
                    </a:cubicBezTo>
                    <a:cubicBezTo>
                      <a:pt x="6907" y="2"/>
                      <a:pt x="6908" y="1"/>
                      <a:pt x="6909" y="1"/>
                    </a:cubicBezTo>
                    <a:close/>
                    <a:moveTo>
                      <a:pt x="6917" y="1"/>
                    </a:moveTo>
                    <a:lnTo>
                      <a:pt x="6917" y="1"/>
                    </a:lnTo>
                    <a:cubicBezTo>
                      <a:pt x="6918" y="1"/>
                      <a:pt x="6919" y="2"/>
                      <a:pt x="6919" y="3"/>
                    </a:cubicBezTo>
                    <a:cubicBezTo>
                      <a:pt x="6919" y="4"/>
                      <a:pt x="6918" y="5"/>
                      <a:pt x="6917" y="5"/>
                    </a:cubicBezTo>
                    <a:lnTo>
                      <a:pt x="6917" y="5"/>
                    </a:lnTo>
                    <a:cubicBezTo>
                      <a:pt x="6916" y="5"/>
                      <a:pt x="6915" y="4"/>
                      <a:pt x="6915" y="3"/>
                    </a:cubicBezTo>
                    <a:cubicBezTo>
                      <a:pt x="6915" y="2"/>
                      <a:pt x="6916" y="1"/>
                      <a:pt x="6917" y="1"/>
                    </a:cubicBezTo>
                    <a:close/>
                    <a:moveTo>
                      <a:pt x="6925" y="1"/>
                    </a:moveTo>
                    <a:lnTo>
                      <a:pt x="6925" y="1"/>
                    </a:lnTo>
                    <a:cubicBezTo>
                      <a:pt x="6926" y="1"/>
                      <a:pt x="6927" y="2"/>
                      <a:pt x="6927" y="3"/>
                    </a:cubicBezTo>
                    <a:cubicBezTo>
                      <a:pt x="6927" y="4"/>
                      <a:pt x="6926" y="5"/>
                      <a:pt x="6925" y="5"/>
                    </a:cubicBezTo>
                    <a:lnTo>
                      <a:pt x="6925" y="5"/>
                    </a:lnTo>
                    <a:cubicBezTo>
                      <a:pt x="6924" y="5"/>
                      <a:pt x="6923" y="4"/>
                      <a:pt x="6923" y="3"/>
                    </a:cubicBezTo>
                    <a:cubicBezTo>
                      <a:pt x="6923" y="2"/>
                      <a:pt x="6924" y="1"/>
                      <a:pt x="6925" y="1"/>
                    </a:cubicBezTo>
                    <a:close/>
                    <a:moveTo>
                      <a:pt x="6933" y="1"/>
                    </a:moveTo>
                    <a:lnTo>
                      <a:pt x="6933" y="1"/>
                    </a:lnTo>
                    <a:cubicBezTo>
                      <a:pt x="6934" y="1"/>
                      <a:pt x="6935" y="2"/>
                      <a:pt x="6935" y="3"/>
                    </a:cubicBezTo>
                    <a:cubicBezTo>
                      <a:pt x="6935" y="4"/>
                      <a:pt x="6934" y="5"/>
                      <a:pt x="6933" y="5"/>
                    </a:cubicBezTo>
                    <a:lnTo>
                      <a:pt x="6933" y="5"/>
                    </a:lnTo>
                    <a:cubicBezTo>
                      <a:pt x="6932" y="5"/>
                      <a:pt x="6931" y="4"/>
                      <a:pt x="6931" y="3"/>
                    </a:cubicBezTo>
                    <a:cubicBezTo>
                      <a:pt x="6931" y="2"/>
                      <a:pt x="6932" y="1"/>
                      <a:pt x="6933" y="1"/>
                    </a:cubicBezTo>
                    <a:close/>
                    <a:moveTo>
                      <a:pt x="6941" y="1"/>
                    </a:moveTo>
                    <a:lnTo>
                      <a:pt x="6941" y="1"/>
                    </a:lnTo>
                    <a:cubicBezTo>
                      <a:pt x="6942" y="1"/>
                      <a:pt x="6943" y="2"/>
                      <a:pt x="6943" y="3"/>
                    </a:cubicBezTo>
                    <a:cubicBezTo>
                      <a:pt x="6943" y="4"/>
                      <a:pt x="6942" y="5"/>
                      <a:pt x="6941" y="5"/>
                    </a:cubicBezTo>
                    <a:lnTo>
                      <a:pt x="6941" y="5"/>
                    </a:lnTo>
                    <a:cubicBezTo>
                      <a:pt x="6940" y="5"/>
                      <a:pt x="6939" y="4"/>
                      <a:pt x="6939" y="3"/>
                    </a:cubicBezTo>
                    <a:cubicBezTo>
                      <a:pt x="6939" y="2"/>
                      <a:pt x="6940" y="1"/>
                      <a:pt x="6941" y="1"/>
                    </a:cubicBezTo>
                    <a:close/>
                    <a:moveTo>
                      <a:pt x="6949" y="1"/>
                    </a:moveTo>
                    <a:lnTo>
                      <a:pt x="6949" y="1"/>
                    </a:lnTo>
                    <a:cubicBezTo>
                      <a:pt x="6950" y="1"/>
                      <a:pt x="6951" y="2"/>
                      <a:pt x="6951" y="3"/>
                    </a:cubicBezTo>
                    <a:cubicBezTo>
                      <a:pt x="6951" y="4"/>
                      <a:pt x="6950" y="5"/>
                      <a:pt x="6949" y="5"/>
                    </a:cubicBezTo>
                    <a:lnTo>
                      <a:pt x="6949" y="5"/>
                    </a:lnTo>
                    <a:cubicBezTo>
                      <a:pt x="6948" y="5"/>
                      <a:pt x="6947" y="4"/>
                      <a:pt x="6947" y="3"/>
                    </a:cubicBezTo>
                    <a:cubicBezTo>
                      <a:pt x="6947" y="2"/>
                      <a:pt x="6948" y="1"/>
                      <a:pt x="6949" y="1"/>
                    </a:cubicBezTo>
                    <a:close/>
                    <a:moveTo>
                      <a:pt x="6957" y="1"/>
                    </a:moveTo>
                    <a:lnTo>
                      <a:pt x="6957" y="1"/>
                    </a:lnTo>
                    <a:cubicBezTo>
                      <a:pt x="6958" y="1"/>
                      <a:pt x="6959" y="2"/>
                      <a:pt x="6959" y="3"/>
                    </a:cubicBezTo>
                    <a:cubicBezTo>
                      <a:pt x="6959" y="4"/>
                      <a:pt x="6958" y="5"/>
                      <a:pt x="6957" y="5"/>
                    </a:cubicBezTo>
                    <a:lnTo>
                      <a:pt x="6957" y="5"/>
                    </a:lnTo>
                    <a:cubicBezTo>
                      <a:pt x="6956" y="5"/>
                      <a:pt x="6955" y="4"/>
                      <a:pt x="6955" y="3"/>
                    </a:cubicBezTo>
                    <a:cubicBezTo>
                      <a:pt x="6955" y="2"/>
                      <a:pt x="6956" y="1"/>
                      <a:pt x="6957" y="1"/>
                    </a:cubicBezTo>
                    <a:close/>
                    <a:moveTo>
                      <a:pt x="6965" y="1"/>
                    </a:moveTo>
                    <a:lnTo>
                      <a:pt x="6965" y="1"/>
                    </a:lnTo>
                    <a:cubicBezTo>
                      <a:pt x="6966" y="1"/>
                      <a:pt x="6967" y="2"/>
                      <a:pt x="6967" y="3"/>
                    </a:cubicBezTo>
                    <a:cubicBezTo>
                      <a:pt x="6967" y="4"/>
                      <a:pt x="6966" y="5"/>
                      <a:pt x="6965" y="5"/>
                    </a:cubicBezTo>
                    <a:lnTo>
                      <a:pt x="6965" y="5"/>
                    </a:lnTo>
                    <a:cubicBezTo>
                      <a:pt x="6964" y="5"/>
                      <a:pt x="6963" y="4"/>
                      <a:pt x="6963" y="3"/>
                    </a:cubicBezTo>
                    <a:cubicBezTo>
                      <a:pt x="6963" y="2"/>
                      <a:pt x="6964" y="1"/>
                      <a:pt x="6965" y="1"/>
                    </a:cubicBezTo>
                    <a:close/>
                    <a:moveTo>
                      <a:pt x="6973" y="1"/>
                    </a:moveTo>
                    <a:lnTo>
                      <a:pt x="6973" y="1"/>
                    </a:lnTo>
                    <a:cubicBezTo>
                      <a:pt x="6974" y="1"/>
                      <a:pt x="6975" y="2"/>
                      <a:pt x="6975" y="3"/>
                    </a:cubicBezTo>
                    <a:cubicBezTo>
                      <a:pt x="6975" y="4"/>
                      <a:pt x="6974" y="5"/>
                      <a:pt x="6973" y="5"/>
                    </a:cubicBezTo>
                    <a:lnTo>
                      <a:pt x="6973" y="5"/>
                    </a:lnTo>
                    <a:cubicBezTo>
                      <a:pt x="6972" y="5"/>
                      <a:pt x="6971" y="4"/>
                      <a:pt x="6971" y="3"/>
                    </a:cubicBezTo>
                    <a:cubicBezTo>
                      <a:pt x="6971" y="2"/>
                      <a:pt x="6972" y="1"/>
                      <a:pt x="6973" y="1"/>
                    </a:cubicBezTo>
                    <a:close/>
                    <a:moveTo>
                      <a:pt x="6981" y="1"/>
                    </a:moveTo>
                    <a:lnTo>
                      <a:pt x="6981" y="1"/>
                    </a:lnTo>
                    <a:cubicBezTo>
                      <a:pt x="6982" y="1"/>
                      <a:pt x="6983" y="2"/>
                      <a:pt x="6983" y="3"/>
                    </a:cubicBezTo>
                    <a:cubicBezTo>
                      <a:pt x="6983" y="4"/>
                      <a:pt x="6982" y="5"/>
                      <a:pt x="6981" y="5"/>
                    </a:cubicBezTo>
                    <a:lnTo>
                      <a:pt x="6981" y="5"/>
                    </a:lnTo>
                    <a:cubicBezTo>
                      <a:pt x="6980" y="5"/>
                      <a:pt x="6979" y="4"/>
                      <a:pt x="6979" y="3"/>
                    </a:cubicBezTo>
                    <a:cubicBezTo>
                      <a:pt x="6979" y="2"/>
                      <a:pt x="6980" y="1"/>
                      <a:pt x="6981" y="1"/>
                    </a:cubicBezTo>
                    <a:close/>
                    <a:moveTo>
                      <a:pt x="6989" y="1"/>
                    </a:moveTo>
                    <a:lnTo>
                      <a:pt x="6989" y="1"/>
                    </a:lnTo>
                    <a:cubicBezTo>
                      <a:pt x="6990" y="1"/>
                      <a:pt x="6991" y="2"/>
                      <a:pt x="6991" y="3"/>
                    </a:cubicBezTo>
                    <a:cubicBezTo>
                      <a:pt x="6991" y="4"/>
                      <a:pt x="6990" y="5"/>
                      <a:pt x="6989" y="5"/>
                    </a:cubicBezTo>
                    <a:lnTo>
                      <a:pt x="6989" y="5"/>
                    </a:lnTo>
                    <a:cubicBezTo>
                      <a:pt x="6988" y="5"/>
                      <a:pt x="6987" y="4"/>
                      <a:pt x="6987" y="3"/>
                    </a:cubicBezTo>
                    <a:cubicBezTo>
                      <a:pt x="6987" y="2"/>
                      <a:pt x="6988" y="1"/>
                      <a:pt x="6989" y="1"/>
                    </a:cubicBezTo>
                    <a:close/>
                    <a:moveTo>
                      <a:pt x="6997" y="1"/>
                    </a:moveTo>
                    <a:lnTo>
                      <a:pt x="6997" y="1"/>
                    </a:lnTo>
                    <a:cubicBezTo>
                      <a:pt x="6998" y="1"/>
                      <a:pt x="6999" y="2"/>
                      <a:pt x="6999" y="3"/>
                    </a:cubicBezTo>
                    <a:cubicBezTo>
                      <a:pt x="6999" y="4"/>
                      <a:pt x="6998" y="5"/>
                      <a:pt x="6997" y="5"/>
                    </a:cubicBezTo>
                    <a:lnTo>
                      <a:pt x="6997" y="5"/>
                    </a:lnTo>
                    <a:cubicBezTo>
                      <a:pt x="6996" y="5"/>
                      <a:pt x="6995" y="4"/>
                      <a:pt x="6995" y="3"/>
                    </a:cubicBezTo>
                    <a:cubicBezTo>
                      <a:pt x="6995" y="2"/>
                      <a:pt x="6996" y="1"/>
                      <a:pt x="6997" y="1"/>
                    </a:cubicBezTo>
                    <a:close/>
                    <a:moveTo>
                      <a:pt x="7005" y="1"/>
                    </a:moveTo>
                    <a:lnTo>
                      <a:pt x="7005" y="1"/>
                    </a:lnTo>
                    <a:cubicBezTo>
                      <a:pt x="7006" y="1"/>
                      <a:pt x="7007" y="2"/>
                      <a:pt x="7007" y="3"/>
                    </a:cubicBezTo>
                    <a:cubicBezTo>
                      <a:pt x="7007" y="4"/>
                      <a:pt x="7006" y="5"/>
                      <a:pt x="7005" y="5"/>
                    </a:cubicBezTo>
                    <a:lnTo>
                      <a:pt x="7005" y="5"/>
                    </a:lnTo>
                    <a:cubicBezTo>
                      <a:pt x="7004" y="5"/>
                      <a:pt x="7003" y="4"/>
                      <a:pt x="7003" y="3"/>
                    </a:cubicBezTo>
                    <a:cubicBezTo>
                      <a:pt x="7003" y="2"/>
                      <a:pt x="7004" y="1"/>
                      <a:pt x="7005" y="1"/>
                    </a:cubicBezTo>
                    <a:close/>
                    <a:moveTo>
                      <a:pt x="7013" y="1"/>
                    </a:moveTo>
                    <a:lnTo>
                      <a:pt x="7013" y="1"/>
                    </a:lnTo>
                    <a:cubicBezTo>
                      <a:pt x="7014" y="1"/>
                      <a:pt x="7015" y="2"/>
                      <a:pt x="7015" y="3"/>
                    </a:cubicBezTo>
                    <a:cubicBezTo>
                      <a:pt x="7015" y="4"/>
                      <a:pt x="7014" y="5"/>
                      <a:pt x="7013" y="5"/>
                    </a:cubicBezTo>
                    <a:lnTo>
                      <a:pt x="7013" y="5"/>
                    </a:lnTo>
                    <a:cubicBezTo>
                      <a:pt x="7012" y="5"/>
                      <a:pt x="7011" y="4"/>
                      <a:pt x="7011" y="3"/>
                    </a:cubicBezTo>
                    <a:cubicBezTo>
                      <a:pt x="7011" y="2"/>
                      <a:pt x="7012" y="1"/>
                      <a:pt x="7013" y="1"/>
                    </a:cubicBezTo>
                    <a:close/>
                    <a:moveTo>
                      <a:pt x="7021" y="1"/>
                    </a:moveTo>
                    <a:lnTo>
                      <a:pt x="7021" y="1"/>
                    </a:lnTo>
                    <a:cubicBezTo>
                      <a:pt x="7022" y="1"/>
                      <a:pt x="7023" y="2"/>
                      <a:pt x="7023" y="3"/>
                    </a:cubicBezTo>
                    <a:cubicBezTo>
                      <a:pt x="7023" y="4"/>
                      <a:pt x="7022" y="5"/>
                      <a:pt x="7021" y="5"/>
                    </a:cubicBezTo>
                    <a:lnTo>
                      <a:pt x="7021" y="5"/>
                    </a:lnTo>
                    <a:cubicBezTo>
                      <a:pt x="7020" y="5"/>
                      <a:pt x="7019" y="4"/>
                      <a:pt x="7019" y="3"/>
                    </a:cubicBezTo>
                    <a:cubicBezTo>
                      <a:pt x="7019" y="2"/>
                      <a:pt x="7020" y="1"/>
                      <a:pt x="7021" y="1"/>
                    </a:cubicBezTo>
                    <a:close/>
                    <a:moveTo>
                      <a:pt x="7029" y="1"/>
                    </a:moveTo>
                    <a:lnTo>
                      <a:pt x="7029" y="1"/>
                    </a:lnTo>
                    <a:cubicBezTo>
                      <a:pt x="7030" y="1"/>
                      <a:pt x="7031" y="2"/>
                      <a:pt x="7031" y="3"/>
                    </a:cubicBezTo>
                    <a:cubicBezTo>
                      <a:pt x="7031" y="4"/>
                      <a:pt x="7030" y="5"/>
                      <a:pt x="7029" y="5"/>
                    </a:cubicBezTo>
                    <a:lnTo>
                      <a:pt x="7029" y="5"/>
                    </a:lnTo>
                    <a:cubicBezTo>
                      <a:pt x="7028" y="5"/>
                      <a:pt x="7027" y="4"/>
                      <a:pt x="7027" y="3"/>
                    </a:cubicBezTo>
                    <a:cubicBezTo>
                      <a:pt x="7027" y="2"/>
                      <a:pt x="7028" y="1"/>
                      <a:pt x="7029" y="1"/>
                    </a:cubicBezTo>
                    <a:close/>
                    <a:moveTo>
                      <a:pt x="7037" y="1"/>
                    </a:moveTo>
                    <a:lnTo>
                      <a:pt x="7037" y="1"/>
                    </a:lnTo>
                    <a:cubicBezTo>
                      <a:pt x="7038" y="1"/>
                      <a:pt x="7039" y="2"/>
                      <a:pt x="7039" y="3"/>
                    </a:cubicBezTo>
                    <a:cubicBezTo>
                      <a:pt x="7039" y="4"/>
                      <a:pt x="7038" y="5"/>
                      <a:pt x="7037" y="5"/>
                    </a:cubicBezTo>
                    <a:lnTo>
                      <a:pt x="7037" y="5"/>
                    </a:lnTo>
                    <a:cubicBezTo>
                      <a:pt x="7036" y="5"/>
                      <a:pt x="7035" y="4"/>
                      <a:pt x="7035" y="3"/>
                    </a:cubicBezTo>
                    <a:cubicBezTo>
                      <a:pt x="7035" y="2"/>
                      <a:pt x="7036" y="1"/>
                      <a:pt x="7037" y="1"/>
                    </a:cubicBezTo>
                    <a:close/>
                    <a:moveTo>
                      <a:pt x="7045" y="1"/>
                    </a:moveTo>
                    <a:lnTo>
                      <a:pt x="7045" y="1"/>
                    </a:lnTo>
                    <a:cubicBezTo>
                      <a:pt x="7046" y="1"/>
                      <a:pt x="7047" y="2"/>
                      <a:pt x="7047" y="3"/>
                    </a:cubicBezTo>
                    <a:cubicBezTo>
                      <a:pt x="7047" y="4"/>
                      <a:pt x="7046" y="5"/>
                      <a:pt x="7045" y="5"/>
                    </a:cubicBezTo>
                    <a:lnTo>
                      <a:pt x="7045" y="5"/>
                    </a:lnTo>
                    <a:cubicBezTo>
                      <a:pt x="7044" y="5"/>
                      <a:pt x="7043" y="4"/>
                      <a:pt x="7043" y="3"/>
                    </a:cubicBezTo>
                    <a:cubicBezTo>
                      <a:pt x="7043" y="2"/>
                      <a:pt x="7044" y="1"/>
                      <a:pt x="7045" y="1"/>
                    </a:cubicBezTo>
                    <a:close/>
                    <a:moveTo>
                      <a:pt x="7053" y="1"/>
                    </a:moveTo>
                    <a:lnTo>
                      <a:pt x="7053" y="1"/>
                    </a:lnTo>
                    <a:cubicBezTo>
                      <a:pt x="7054" y="1"/>
                      <a:pt x="7055" y="2"/>
                      <a:pt x="7055" y="3"/>
                    </a:cubicBezTo>
                    <a:cubicBezTo>
                      <a:pt x="7055" y="4"/>
                      <a:pt x="7054" y="5"/>
                      <a:pt x="7053" y="5"/>
                    </a:cubicBezTo>
                    <a:lnTo>
                      <a:pt x="7053" y="5"/>
                    </a:lnTo>
                    <a:cubicBezTo>
                      <a:pt x="7052" y="5"/>
                      <a:pt x="7051" y="4"/>
                      <a:pt x="7051" y="3"/>
                    </a:cubicBezTo>
                    <a:cubicBezTo>
                      <a:pt x="7051" y="2"/>
                      <a:pt x="7052" y="1"/>
                      <a:pt x="7053" y="1"/>
                    </a:cubicBezTo>
                    <a:close/>
                    <a:moveTo>
                      <a:pt x="7061" y="1"/>
                    </a:moveTo>
                    <a:lnTo>
                      <a:pt x="7061" y="1"/>
                    </a:lnTo>
                    <a:cubicBezTo>
                      <a:pt x="7062" y="1"/>
                      <a:pt x="7063" y="2"/>
                      <a:pt x="7063" y="3"/>
                    </a:cubicBezTo>
                    <a:cubicBezTo>
                      <a:pt x="7063" y="4"/>
                      <a:pt x="7062" y="5"/>
                      <a:pt x="7061" y="5"/>
                    </a:cubicBezTo>
                    <a:lnTo>
                      <a:pt x="7061" y="5"/>
                    </a:lnTo>
                    <a:cubicBezTo>
                      <a:pt x="7060" y="5"/>
                      <a:pt x="7059" y="4"/>
                      <a:pt x="7059" y="3"/>
                    </a:cubicBezTo>
                    <a:cubicBezTo>
                      <a:pt x="7059" y="2"/>
                      <a:pt x="7060" y="1"/>
                      <a:pt x="7061" y="1"/>
                    </a:cubicBezTo>
                    <a:close/>
                    <a:moveTo>
                      <a:pt x="7069" y="1"/>
                    </a:moveTo>
                    <a:lnTo>
                      <a:pt x="7069" y="1"/>
                    </a:lnTo>
                    <a:cubicBezTo>
                      <a:pt x="7070" y="1"/>
                      <a:pt x="7071" y="2"/>
                      <a:pt x="7071" y="3"/>
                    </a:cubicBezTo>
                    <a:cubicBezTo>
                      <a:pt x="7071" y="4"/>
                      <a:pt x="7070" y="5"/>
                      <a:pt x="7069" y="5"/>
                    </a:cubicBezTo>
                    <a:lnTo>
                      <a:pt x="7069" y="5"/>
                    </a:lnTo>
                    <a:cubicBezTo>
                      <a:pt x="7068" y="5"/>
                      <a:pt x="7067" y="4"/>
                      <a:pt x="7067" y="3"/>
                    </a:cubicBezTo>
                    <a:cubicBezTo>
                      <a:pt x="7067" y="2"/>
                      <a:pt x="7068" y="1"/>
                      <a:pt x="7069" y="1"/>
                    </a:cubicBezTo>
                    <a:close/>
                    <a:moveTo>
                      <a:pt x="7077" y="1"/>
                    </a:moveTo>
                    <a:lnTo>
                      <a:pt x="7077" y="1"/>
                    </a:lnTo>
                    <a:cubicBezTo>
                      <a:pt x="7078" y="1"/>
                      <a:pt x="7079" y="2"/>
                      <a:pt x="7079" y="3"/>
                    </a:cubicBezTo>
                    <a:cubicBezTo>
                      <a:pt x="7079" y="4"/>
                      <a:pt x="7078" y="5"/>
                      <a:pt x="7077" y="5"/>
                    </a:cubicBezTo>
                    <a:lnTo>
                      <a:pt x="7077" y="5"/>
                    </a:lnTo>
                    <a:cubicBezTo>
                      <a:pt x="7076" y="5"/>
                      <a:pt x="7075" y="4"/>
                      <a:pt x="7075" y="3"/>
                    </a:cubicBezTo>
                    <a:cubicBezTo>
                      <a:pt x="7075" y="2"/>
                      <a:pt x="7076" y="1"/>
                      <a:pt x="7077" y="1"/>
                    </a:cubicBezTo>
                    <a:close/>
                    <a:moveTo>
                      <a:pt x="7085" y="1"/>
                    </a:moveTo>
                    <a:lnTo>
                      <a:pt x="7085" y="1"/>
                    </a:lnTo>
                    <a:cubicBezTo>
                      <a:pt x="7086" y="1"/>
                      <a:pt x="7087" y="2"/>
                      <a:pt x="7087" y="3"/>
                    </a:cubicBezTo>
                    <a:cubicBezTo>
                      <a:pt x="7087" y="4"/>
                      <a:pt x="7086" y="5"/>
                      <a:pt x="7085" y="5"/>
                    </a:cubicBezTo>
                    <a:lnTo>
                      <a:pt x="7085" y="5"/>
                    </a:lnTo>
                    <a:cubicBezTo>
                      <a:pt x="7084" y="5"/>
                      <a:pt x="7083" y="4"/>
                      <a:pt x="7083" y="3"/>
                    </a:cubicBezTo>
                    <a:cubicBezTo>
                      <a:pt x="7083" y="2"/>
                      <a:pt x="7084" y="1"/>
                      <a:pt x="7085" y="1"/>
                    </a:cubicBezTo>
                    <a:close/>
                    <a:moveTo>
                      <a:pt x="7093" y="1"/>
                    </a:moveTo>
                    <a:lnTo>
                      <a:pt x="7093" y="1"/>
                    </a:lnTo>
                    <a:cubicBezTo>
                      <a:pt x="7094" y="1"/>
                      <a:pt x="7095" y="2"/>
                      <a:pt x="7095" y="3"/>
                    </a:cubicBezTo>
                    <a:cubicBezTo>
                      <a:pt x="7095" y="4"/>
                      <a:pt x="7094" y="5"/>
                      <a:pt x="7093" y="5"/>
                    </a:cubicBezTo>
                    <a:lnTo>
                      <a:pt x="7093" y="5"/>
                    </a:lnTo>
                    <a:cubicBezTo>
                      <a:pt x="7092" y="5"/>
                      <a:pt x="7091" y="4"/>
                      <a:pt x="7091" y="3"/>
                    </a:cubicBezTo>
                    <a:cubicBezTo>
                      <a:pt x="7091" y="2"/>
                      <a:pt x="7092" y="1"/>
                      <a:pt x="7093" y="1"/>
                    </a:cubicBezTo>
                    <a:close/>
                    <a:moveTo>
                      <a:pt x="7101" y="1"/>
                    </a:moveTo>
                    <a:lnTo>
                      <a:pt x="7101" y="1"/>
                    </a:lnTo>
                    <a:cubicBezTo>
                      <a:pt x="7102" y="1"/>
                      <a:pt x="7103" y="2"/>
                      <a:pt x="7103" y="3"/>
                    </a:cubicBezTo>
                    <a:cubicBezTo>
                      <a:pt x="7103" y="4"/>
                      <a:pt x="7102" y="5"/>
                      <a:pt x="7101" y="5"/>
                    </a:cubicBezTo>
                    <a:lnTo>
                      <a:pt x="7101" y="5"/>
                    </a:lnTo>
                    <a:cubicBezTo>
                      <a:pt x="7100" y="5"/>
                      <a:pt x="7099" y="4"/>
                      <a:pt x="7099" y="3"/>
                    </a:cubicBezTo>
                    <a:cubicBezTo>
                      <a:pt x="7099" y="2"/>
                      <a:pt x="7100" y="1"/>
                      <a:pt x="7101" y="1"/>
                    </a:cubicBezTo>
                    <a:close/>
                    <a:moveTo>
                      <a:pt x="7109" y="1"/>
                    </a:moveTo>
                    <a:lnTo>
                      <a:pt x="7109" y="1"/>
                    </a:lnTo>
                    <a:cubicBezTo>
                      <a:pt x="7110" y="1"/>
                      <a:pt x="7111" y="2"/>
                      <a:pt x="7111" y="3"/>
                    </a:cubicBezTo>
                    <a:cubicBezTo>
                      <a:pt x="7111" y="4"/>
                      <a:pt x="7110" y="5"/>
                      <a:pt x="7109" y="5"/>
                    </a:cubicBezTo>
                    <a:lnTo>
                      <a:pt x="7109" y="5"/>
                    </a:lnTo>
                    <a:cubicBezTo>
                      <a:pt x="7108" y="5"/>
                      <a:pt x="7107" y="4"/>
                      <a:pt x="7107" y="3"/>
                    </a:cubicBezTo>
                    <a:cubicBezTo>
                      <a:pt x="7107" y="2"/>
                      <a:pt x="7108" y="1"/>
                      <a:pt x="7109" y="1"/>
                    </a:cubicBezTo>
                    <a:close/>
                    <a:moveTo>
                      <a:pt x="7117" y="1"/>
                    </a:moveTo>
                    <a:lnTo>
                      <a:pt x="7117" y="1"/>
                    </a:lnTo>
                    <a:cubicBezTo>
                      <a:pt x="7118" y="1"/>
                      <a:pt x="7119" y="2"/>
                      <a:pt x="7119" y="3"/>
                    </a:cubicBezTo>
                    <a:cubicBezTo>
                      <a:pt x="7119" y="4"/>
                      <a:pt x="7118" y="5"/>
                      <a:pt x="7117" y="5"/>
                    </a:cubicBezTo>
                    <a:lnTo>
                      <a:pt x="7117" y="5"/>
                    </a:lnTo>
                    <a:cubicBezTo>
                      <a:pt x="7116" y="5"/>
                      <a:pt x="7115" y="4"/>
                      <a:pt x="7115" y="3"/>
                    </a:cubicBezTo>
                    <a:cubicBezTo>
                      <a:pt x="7115" y="2"/>
                      <a:pt x="7116" y="1"/>
                      <a:pt x="7117" y="1"/>
                    </a:cubicBezTo>
                    <a:close/>
                    <a:moveTo>
                      <a:pt x="7125" y="1"/>
                    </a:moveTo>
                    <a:lnTo>
                      <a:pt x="7125" y="1"/>
                    </a:lnTo>
                    <a:cubicBezTo>
                      <a:pt x="7126" y="1"/>
                      <a:pt x="7127" y="2"/>
                      <a:pt x="7127" y="3"/>
                    </a:cubicBezTo>
                    <a:cubicBezTo>
                      <a:pt x="7127" y="4"/>
                      <a:pt x="7126" y="5"/>
                      <a:pt x="7125" y="5"/>
                    </a:cubicBezTo>
                    <a:lnTo>
                      <a:pt x="7125" y="5"/>
                    </a:lnTo>
                    <a:cubicBezTo>
                      <a:pt x="7124" y="5"/>
                      <a:pt x="7123" y="4"/>
                      <a:pt x="7123" y="3"/>
                    </a:cubicBezTo>
                    <a:cubicBezTo>
                      <a:pt x="7123" y="2"/>
                      <a:pt x="7124" y="1"/>
                      <a:pt x="7125" y="1"/>
                    </a:cubicBezTo>
                    <a:close/>
                    <a:moveTo>
                      <a:pt x="7133" y="1"/>
                    </a:moveTo>
                    <a:lnTo>
                      <a:pt x="7133" y="1"/>
                    </a:lnTo>
                    <a:cubicBezTo>
                      <a:pt x="7134" y="1"/>
                      <a:pt x="7135" y="2"/>
                      <a:pt x="7135" y="3"/>
                    </a:cubicBezTo>
                    <a:cubicBezTo>
                      <a:pt x="7135" y="4"/>
                      <a:pt x="7134" y="5"/>
                      <a:pt x="7133" y="5"/>
                    </a:cubicBezTo>
                    <a:lnTo>
                      <a:pt x="7133" y="5"/>
                    </a:lnTo>
                    <a:cubicBezTo>
                      <a:pt x="7132" y="5"/>
                      <a:pt x="7131" y="4"/>
                      <a:pt x="7131" y="3"/>
                    </a:cubicBezTo>
                    <a:cubicBezTo>
                      <a:pt x="7131" y="2"/>
                      <a:pt x="7132" y="1"/>
                      <a:pt x="7133" y="1"/>
                    </a:cubicBezTo>
                    <a:close/>
                    <a:moveTo>
                      <a:pt x="7141" y="1"/>
                    </a:moveTo>
                    <a:lnTo>
                      <a:pt x="7141" y="1"/>
                    </a:lnTo>
                    <a:cubicBezTo>
                      <a:pt x="7142" y="1"/>
                      <a:pt x="7143" y="2"/>
                      <a:pt x="7143" y="3"/>
                    </a:cubicBezTo>
                    <a:cubicBezTo>
                      <a:pt x="7143" y="4"/>
                      <a:pt x="7142" y="5"/>
                      <a:pt x="7141" y="5"/>
                    </a:cubicBezTo>
                    <a:lnTo>
                      <a:pt x="7141" y="5"/>
                    </a:lnTo>
                    <a:cubicBezTo>
                      <a:pt x="7140" y="5"/>
                      <a:pt x="7139" y="4"/>
                      <a:pt x="7139" y="3"/>
                    </a:cubicBezTo>
                    <a:cubicBezTo>
                      <a:pt x="7139" y="2"/>
                      <a:pt x="7140" y="1"/>
                      <a:pt x="7141" y="1"/>
                    </a:cubicBezTo>
                    <a:close/>
                    <a:moveTo>
                      <a:pt x="7149" y="1"/>
                    </a:moveTo>
                    <a:lnTo>
                      <a:pt x="7149" y="1"/>
                    </a:lnTo>
                    <a:cubicBezTo>
                      <a:pt x="7150" y="1"/>
                      <a:pt x="7151" y="2"/>
                      <a:pt x="7151" y="3"/>
                    </a:cubicBezTo>
                    <a:cubicBezTo>
                      <a:pt x="7151" y="4"/>
                      <a:pt x="7150" y="5"/>
                      <a:pt x="7149" y="5"/>
                    </a:cubicBezTo>
                    <a:lnTo>
                      <a:pt x="7149" y="5"/>
                    </a:lnTo>
                    <a:cubicBezTo>
                      <a:pt x="7148" y="5"/>
                      <a:pt x="7147" y="4"/>
                      <a:pt x="7147" y="3"/>
                    </a:cubicBezTo>
                    <a:cubicBezTo>
                      <a:pt x="7147" y="2"/>
                      <a:pt x="7148" y="1"/>
                      <a:pt x="7149" y="1"/>
                    </a:cubicBezTo>
                    <a:close/>
                    <a:moveTo>
                      <a:pt x="7157" y="1"/>
                    </a:moveTo>
                    <a:lnTo>
                      <a:pt x="7157" y="1"/>
                    </a:lnTo>
                    <a:cubicBezTo>
                      <a:pt x="7158" y="1"/>
                      <a:pt x="7159" y="2"/>
                      <a:pt x="7159" y="3"/>
                    </a:cubicBezTo>
                    <a:cubicBezTo>
                      <a:pt x="7159" y="4"/>
                      <a:pt x="7158" y="5"/>
                      <a:pt x="7157" y="5"/>
                    </a:cubicBezTo>
                    <a:lnTo>
                      <a:pt x="7157" y="5"/>
                    </a:lnTo>
                    <a:cubicBezTo>
                      <a:pt x="7156" y="5"/>
                      <a:pt x="7155" y="4"/>
                      <a:pt x="7155" y="3"/>
                    </a:cubicBezTo>
                    <a:cubicBezTo>
                      <a:pt x="7155" y="2"/>
                      <a:pt x="7156" y="1"/>
                      <a:pt x="7157" y="1"/>
                    </a:cubicBezTo>
                    <a:close/>
                    <a:moveTo>
                      <a:pt x="7165" y="1"/>
                    </a:moveTo>
                    <a:lnTo>
                      <a:pt x="7165" y="1"/>
                    </a:lnTo>
                    <a:cubicBezTo>
                      <a:pt x="7166" y="1"/>
                      <a:pt x="7167" y="2"/>
                      <a:pt x="7167" y="3"/>
                    </a:cubicBezTo>
                    <a:cubicBezTo>
                      <a:pt x="7167" y="4"/>
                      <a:pt x="7166" y="5"/>
                      <a:pt x="7165" y="5"/>
                    </a:cubicBezTo>
                    <a:lnTo>
                      <a:pt x="7165" y="5"/>
                    </a:lnTo>
                    <a:cubicBezTo>
                      <a:pt x="7164" y="5"/>
                      <a:pt x="7163" y="4"/>
                      <a:pt x="7163" y="3"/>
                    </a:cubicBezTo>
                    <a:cubicBezTo>
                      <a:pt x="7163" y="2"/>
                      <a:pt x="7164" y="1"/>
                      <a:pt x="7165" y="1"/>
                    </a:cubicBezTo>
                    <a:close/>
                    <a:moveTo>
                      <a:pt x="7173" y="1"/>
                    </a:moveTo>
                    <a:lnTo>
                      <a:pt x="7173" y="1"/>
                    </a:lnTo>
                    <a:cubicBezTo>
                      <a:pt x="7174" y="1"/>
                      <a:pt x="7175" y="2"/>
                      <a:pt x="7175" y="3"/>
                    </a:cubicBezTo>
                    <a:cubicBezTo>
                      <a:pt x="7175" y="4"/>
                      <a:pt x="7174" y="5"/>
                      <a:pt x="7173" y="5"/>
                    </a:cubicBezTo>
                    <a:lnTo>
                      <a:pt x="7173" y="5"/>
                    </a:lnTo>
                    <a:cubicBezTo>
                      <a:pt x="7172" y="5"/>
                      <a:pt x="7171" y="4"/>
                      <a:pt x="7171" y="3"/>
                    </a:cubicBezTo>
                    <a:cubicBezTo>
                      <a:pt x="7171" y="2"/>
                      <a:pt x="7172" y="1"/>
                      <a:pt x="7173" y="1"/>
                    </a:cubicBezTo>
                    <a:close/>
                    <a:moveTo>
                      <a:pt x="7181" y="1"/>
                    </a:moveTo>
                    <a:lnTo>
                      <a:pt x="7181" y="1"/>
                    </a:lnTo>
                    <a:cubicBezTo>
                      <a:pt x="7182" y="1"/>
                      <a:pt x="7183" y="2"/>
                      <a:pt x="7183" y="3"/>
                    </a:cubicBezTo>
                    <a:cubicBezTo>
                      <a:pt x="7183" y="4"/>
                      <a:pt x="7182" y="5"/>
                      <a:pt x="7181" y="5"/>
                    </a:cubicBezTo>
                    <a:lnTo>
                      <a:pt x="7181" y="5"/>
                    </a:lnTo>
                    <a:cubicBezTo>
                      <a:pt x="7180" y="5"/>
                      <a:pt x="7179" y="4"/>
                      <a:pt x="7179" y="3"/>
                    </a:cubicBezTo>
                    <a:cubicBezTo>
                      <a:pt x="7179" y="2"/>
                      <a:pt x="7180" y="1"/>
                      <a:pt x="7181" y="1"/>
                    </a:cubicBezTo>
                    <a:close/>
                    <a:moveTo>
                      <a:pt x="7189" y="1"/>
                    </a:moveTo>
                    <a:lnTo>
                      <a:pt x="7189" y="1"/>
                    </a:lnTo>
                    <a:cubicBezTo>
                      <a:pt x="7190" y="1"/>
                      <a:pt x="7191" y="2"/>
                      <a:pt x="7191" y="3"/>
                    </a:cubicBezTo>
                    <a:cubicBezTo>
                      <a:pt x="7191" y="4"/>
                      <a:pt x="7190" y="5"/>
                      <a:pt x="7189" y="5"/>
                    </a:cubicBezTo>
                    <a:lnTo>
                      <a:pt x="7189" y="5"/>
                    </a:lnTo>
                    <a:cubicBezTo>
                      <a:pt x="7188" y="5"/>
                      <a:pt x="7187" y="4"/>
                      <a:pt x="7187" y="3"/>
                    </a:cubicBezTo>
                    <a:cubicBezTo>
                      <a:pt x="7187" y="2"/>
                      <a:pt x="7188" y="1"/>
                      <a:pt x="7189" y="1"/>
                    </a:cubicBezTo>
                    <a:close/>
                    <a:moveTo>
                      <a:pt x="7197" y="1"/>
                    </a:moveTo>
                    <a:lnTo>
                      <a:pt x="7197" y="1"/>
                    </a:lnTo>
                    <a:cubicBezTo>
                      <a:pt x="7198" y="1"/>
                      <a:pt x="7199" y="2"/>
                      <a:pt x="7199" y="3"/>
                    </a:cubicBezTo>
                    <a:cubicBezTo>
                      <a:pt x="7199" y="4"/>
                      <a:pt x="7198" y="5"/>
                      <a:pt x="7197" y="5"/>
                    </a:cubicBezTo>
                    <a:lnTo>
                      <a:pt x="7197" y="5"/>
                    </a:lnTo>
                    <a:cubicBezTo>
                      <a:pt x="7196" y="5"/>
                      <a:pt x="7195" y="4"/>
                      <a:pt x="7195" y="3"/>
                    </a:cubicBezTo>
                    <a:cubicBezTo>
                      <a:pt x="7195" y="2"/>
                      <a:pt x="7196" y="1"/>
                      <a:pt x="7197" y="1"/>
                    </a:cubicBezTo>
                    <a:close/>
                    <a:moveTo>
                      <a:pt x="7205" y="1"/>
                    </a:moveTo>
                    <a:lnTo>
                      <a:pt x="7205" y="1"/>
                    </a:lnTo>
                    <a:cubicBezTo>
                      <a:pt x="7206" y="1"/>
                      <a:pt x="7207" y="2"/>
                      <a:pt x="7207" y="3"/>
                    </a:cubicBezTo>
                    <a:cubicBezTo>
                      <a:pt x="7207" y="4"/>
                      <a:pt x="7206" y="5"/>
                      <a:pt x="7205" y="5"/>
                    </a:cubicBezTo>
                    <a:lnTo>
                      <a:pt x="7205" y="5"/>
                    </a:lnTo>
                    <a:cubicBezTo>
                      <a:pt x="7204" y="5"/>
                      <a:pt x="7203" y="4"/>
                      <a:pt x="7203" y="3"/>
                    </a:cubicBezTo>
                    <a:cubicBezTo>
                      <a:pt x="7203" y="2"/>
                      <a:pt x="7204" y="1"/>
                      <a:pt x="7205" y="1"/>
                    </a:cubicBezTo>
                    <a:close/>
                    <a:moveTo>
                      <a:pt x="7213" y="1"/>
                    </a:moveTo>
                    <a:lnTo>
                      <a:pt x="7213" y="1"/>
                    </a:lnTo>
                    <a:cubicBezTo>
                      <a:pt x="7214" y="1"/>
                      <a:pt x="7215" y="2"/>
                      <a:pt x="7215" y="3"/>
                    </a:cubicBezTo>
                    <a:cubicBezTo>
                      <a:pt x="7215" y="4"/>
                      <a:pt x="7214" y="5"/>
                      <a:pt x="7213" y="5"/>
                    </a:cubicBezTo>
                    <a:lnTo>
                      <a:pt x="7213" y="5"/>
                    </a:lnTo>
                    <a:cubicBezTo>
                      <a:pt x="7212" y="5"/>
                      <a:pt x="7211" y="4"/>
                      <a:pt x="7211" y="3"/>
                    </a:cubicBezTo>
                    <a:cubicBezTo>
                      <a:pt x="7211" y="2"/>
                      <a:pt x="7212" y="1"/>
                      <a:pt x="7213" y="1"/>
                    </a:cubicBezTo>
                    <a:close/>
                    <a:moveTo>
                      <a:pt x="7221" y="1"/>
                    </a:moveTo>
                    <a:lnTo>
                      <a:pt x="7221" y="1"/>
                    </a:lnTo>
                    <a:cubicBezTo>
                      <a:pt x="7222" y="1"/>
                      <a:pt x="7223" y="2"/>
                      <a:pt x="7223" y="3"/>
                    </a:cubicBezTo>
                    <a:cubicBezTo>
                      <a:pt x="7223" y="4"/>
                      <a:pt x="7222" y="5"/>
                      <a:pt x="7221" y="5"/>
                    </a:cubicBezTo>
                    <a:lnTo>
                      <a:pt x="7221" y="5"/>
                    </a:lnTo>
                    <a:cubicBezTo>
                      <a:pt x="7220" y="5"/>
                      <a:pt x="7219" y="4"/>
                      <a:pt x="7219" y="3"/>
                    </a:cubicBezTo>
                    <a:cubicBezTo>
                      <a:pt x="7219" y="2"/>
                      <a:pt x="7220" y="1"/>
                      <a:pt x="7221" y="1"/>
                    </a:cubicBezTo>
                    <a:close/>
                    <a:moveTo>
                      <a:pt x="7229" y="1"/>
                    </a:moveTo>
                    <a:lnTo>
                      <a:pt x="7229" y="1"/>
                    </a:lnTo>
                    <a:cubicBezTo>
                      <a:pt x="7230" y="1"/>
                      <a:pt x="7231" y="2"/>
                      <a:pt x="7231" y="3"/>
                    </a:cubicBezTo>
                    <a:cubicBezTo>
                      <a:pt x="7231" y="4"/>
                      <a:pt x="7230" y="5"/>
                      <a:pt x="7229" y="5"/>
                    </a:cubicBezTo>
                    <a:lnTo>
                      <a:pt x="7229" y="5"/>
                    </a:lnTo>
                    <a:cubicBezTo>
                      <a:pt x="7228" y="5"/>
                      <a:pt x="7227" y="4"/>
                      <a:pt x="7227" y="3"/>
                    </a:cubicBezTo>
                    <a:cubicBezTo>
                      <a:pt x="7227" y="2"/>
                      <a:pt x="7228" y="1"/>
                      <a:pt x="7229" y="1"/>
                    </a:cubicBezTo>
                    <a:close/>
                    <a:moveTo>
                      <a:pt x="7237" y="1"/>
                    </a:moveTo>
                    <a:lnTo>
                      <a:pt x="7237" y="1"/>
                    </a:lnTo>
                    <a:cubicBezTo>
                      <a:pt x="7238" y="1"/>
                      <a:pt x="7239" y="2"/>
                      <a:pt x="7239" y="3"/>
                    </a:cubicBezTo>
                    <a:cubicBezTo>
                      <a:pt x="7239" y="4"/>
                      <a:pt x="7238" y="5"/>
                      <a:pt x="7237" y="5"/>
                    </a:cubicBezTo>
                    <a:lnTo>
                      <a:pt x="7237" y="5"/>
                    </a:lnTo>
                    <a:cubicBezTo>
                      <a:pt x="7236" y="5"/>
                      <a:pt x="7235" y="4"/>
                      <a:pt x="7235" y="3"/>
                    </a:cubicBezTo>
                    <a:cubicBezTo>
                      <a:pt x="7235" y="2"/>
                      <a:pt x="7236" y="1"/>
                      <a:pt x="7237" y="1"/>
                    </a:cubicBezTo>
                    <a:close/>
                    <a:moveTo>
                      <a:pt x="7245" y="1"/>
                    </a:moveTo>
                    <a:lnTo>
                      <a:pt x="7245" y="1"/>
                    </a:lnTo>
                    <a:cubicBezTo>
                      <a:pt x="7246" y="1"/>
                      <a:pt x="7247" y="2"/>
                      <a:pt x="7247" y="3"/>
                    </a:cubicBezTo>
                    <a:cubicBezTo>
                      <a:pt x="7247" y="4"/>
                      <a:pt x="7246" y="5"/>
                      <a:pt x="7245" y="5"/>
                    </a:cubicBezTo>
                    <a:lnTo>
                      <a:pt x="7245" y="5"/>
                    </a:lnTo>
                    <a:cubicBezTo>
                      <a:pt x="7244" y="5"/>
                      <a:pt x="7243" y="4"/>
                      <a:pt x="7243" y="3"/>
                    </a:cubicBezTo>
                    <a:cubicBezTo>
                      <a:pt x="7243" y="2"/>
                      <a:pt x="7244" y="1"/>
                      <a:pt x="7245" y="1"/>
                    </a:cubicBezTo>
                    <a:close/>
                    <a:moveTo>
                      <a:pt x="7253" y="1"/>
                    </a:moveTo>
                    <a:lnTo>
                      <a:pt x="7253" y="1"/>
                    </a:lnTo>
                    <a:cubicBezTo>
                      <a:pt x="7254" y="1"/>
                      <a:pt x="7255" y="2"/>
                      <a:pt x="7255" y="3"/>
                    </a:cubicBezTo>
                    <a:cubicBezTo>
                      <a:pt x="7255" y="4"/>
                      <a:pt x="7254" y="5"/>
                      <a:pt x="7253" y="5"/>
                    </a:cubicBezTo>
                    <a:lnTo>
                      <a:pt x="7253" y="5"/>
                    </a:lnTo>
                    <a:cubicBezTo>
                      <a:pt x="7252" y="5"/>
                      <a:pt x="7251" y="4"/>
                      <a:pt x="7251" y="3"/>
                    </a:cubicBezTo>
                    <a:cubicBezTo>
                      <a:pt x="7251" y="2"/>
                      <a:pt x="7252" y="1"/>
                      <a:pt x="7253" y="1"/>
                    </a:cubicBezTo>
                    <a:close/>
                    <a:moveTo>
                      <a:pt x="7261" y="1"/>
                    </a:moveTo>
                    <a:lnTo>
                      <a:pt x="7261" y="1"/>
                    </a:lnTo>
                    <a:cubicBezTo>
                      <a:pt x="7262" y="1"/>
                      <a:pt x="7263" y="2"/>
                      <a:pt x="7263" y="3"/>
                    </a:cubicBezTo>
                    <a:cubicBezTo>
                      <a:pt x="7263" y="4"/>
                      <a:pt x="7262" y="5"/>
                      <a:pt x="7261" y="5"/>
                    </a:cubicBezTo>
                    <a:lnTo>
                      <a:pt x="7261" y="5"/>
                    </a:lnTo>
                    <a:cubicBezTo>
                      <a:pt x="7260" y="5"/>
                      <a:pt x="7259" y="4"/>
                      <a:pt x="7259" y="3"/>
                    </a:cubicBezTo>
                    <a:cubicBezTo>
                      <a:pt x="7259" y="2"/>
                      <a:pt x="7260" y="1"/>
                      <a:pt x="7261" y="1"/>
                    </a:cubicBezTo>
                    <a:close/>
                    <a:moveTo>
                      <a:pt x="7269" y="1"/>
                    </a:moveTo>
                    <a:lnTo>
                      <a:pt x="7269" y="1"/>
                    </a:lnTo>
                    <a:cubicBezTo>
                      <a:pt x="7270" y="1"/>
                      <a:pt x="7271" y="2"/>
                      <a:pt x="7271" y="3"/>
                    </a:cubicBezTo>
                    <a:cubicBezTo>
                      <a:pt x="7271" y="4"/>
                      <a:pt x="7270" y="5"/>
                      <a:pt x="7269" y="5"/>
                    </a:cubicBezTo>
                    <a:lnTo>
                      <a:pt x="7269" y="5"/>
                    </a:lnTo>
                    <a:cubicBezTo>
                      <a:pt x="7268" y="5"/>
                      <a:pt x="7267" y="4"/>
                      <a:pt x="7267" y="3"/>
                    </a:cubicBezTo>
                    <a:cubicBezTo>
                      <a:pt x="7267" y="2"/>
                      <a:pt x="7268" y="1"/>
                      <a:pt x="7269" y="1"/>
                    </a:cubicBezTo>
                    <a:close/>
                    <a:moveTo>
                      <a:pt x="7277" y="1"/>
                    </a:moveTo>
                    <a:lnTo>
                      <a:pt x="7277" y="1"/>
                    </a:lnTo>
                    <a:cubicBezTo>
                      <a:pt x="7278" y="1"/>
                      <a:pt x="7279" y="2"/>
                      <a:pt x="7279" y="3"/>
                    </a:cubicBezTo>
                    <a:cubicBezTo>
                      <a:pt x="7279" y="4"/>
                      <a:pt x="7278" y="5"/>
                      <a:pt x="7277" y="5"/>
                    </a:cubicBezTo>
                    <a:lnTo>
                      <a:pt x="7277" y="5"/>
                    </a:lnTo>
                    <a:cubicBezTo>
                      <a:pt x="7276" y="5"/>
                      <a:pt x="7275" y="4"/>
                      <a:pt x="7275" y="3"/>
                    </a:cubicBezTo>
                    <a:cubicBezTo>
                      <a:pt x="7275" y="2"/>
                      <a:pt x="7276" y="1"/>
                      <a:pt x="7277" y="1"/>
                    </a:cubicBezTo>
                    <a:close/>
                    <a:moveTo>
                      <a:pt x="7285" y="1"/>
                    </a:moveTo>
                    <a:lnTo>
                      <a:pt x="7285" y="1"/>
                    </a:lnTo>
                    <a:cubicBezTo>
                      <a:pt x="7286" y="1"/>
                      <a:pt x="7287" y="2"/>
                      <a:pt x="7287" y="3"/>
                    </a:cubicBezTo>
                    <a:cubicBezTo>
                      <a:pt x="7287" y="4"/>
                      <a:pt x="7286" y="5"/>
                      <a:pt x="7285" y="5"/>
                    </a:cubicBezTo>
                    <a:lnTo>
                      <a:pt x="7285" y="5"/>
                    </a:lnTo>
                    <a:cubicBezTo>
                      <a:pt x="7284" y="5"/>
                      <a:pt x="7283" y="4"/>
                      <a:pt x="7283" y="3"/>
                    </a:cubicBezTo>
                    <a:cubicBezTo>
                      <a:pt x="7283" y="2"/>
                      <a:pt x="7284" y="1"/>
                      <a:pt x="7285" y="1"/>
                    </a:cubicBezTo>
                    <a:close/>
                    <a:moveTo>
                      <a:pt x="7293" y="1"/>
                    </a:moveTo>
                    <a:lnTo>
                      <a:pt x="7293" y="1"/>
                    </a:lnTo>
                    <a:cubicBezTo>
                      <a:pt x="7294" y="1"/>
                      <a:pt x="7295" y="2"/>
                      <a:pt x="7295" y="3"/>
                    </a:cubicBezTo>
                    <a:cubicBezTo>
                      <a:pt x="7295" y="4"/>
                      <a:pt x="7294" y="5"/>
                      <a:pt x="7293" y="5"/>
                    </a:cubicBezTo>
                    <a:lnTo>
                      <a:pt x="7293" y="5"/>
                    </a:lnTo>
                    <a:cubicBezTo>
                      <a:pt x="7292" y="5"/>
                      <a:pt x="7291" y="4"/>
                      <a:pt x="7291" y="3"/>
                    </a:cubicBezTo>
                    <a:cubicBezTo>
                      <a:pt x="7291" y="2"/>
                      <a:pt x="7292" y="1"/>
                      <a:pt x="7293" y="1"/>
                    </a:cubicBezTo>
                    <a:close/>
                    <a:moveTo>
                      <a:pt x="7301" y="1"/>
                    </a:moveTo>
                    <a:lnTo>
                      <a:pt x="7301" y="1"/>
                    </a:lnTo>
                    <a:cubicBezTo>
                      <a:pt x="7302" y="1"/>
                      <a:pt x="7303" y="2"/>
                      <a:pt x="7303" y="3"/>
                    </a:cubicBezTo>
                    <a:cubicBezTo>
                      <a:pt x="7303" y="4"/>
                      <a:pt x="7302" y="5"/>
                      <a:pt x="7301" y="5"/>
                    </a:cubicBezTo>
                    <a:lnTo>
                      <a:pt x="7301" y="5"/>
                    </a:lnTo>
                    <a:cubicBezTo>
                      <a:pt x="7300" y="5"/>
                      <a:pt x="7299" y="4"/>
                      <a:pt x="7299" y="3"/>
                    </a:cubicBezTo>
                    <a:cubicBezTo>
                      <a:pt x="7299" y="2"/>
                      <a:pt x="7300" y="1"/>
                      <a:pt x="7301" y="1"/>
                    </a:cubicBezTo>
                    <a:close/>
                    <a:moveTo>
                      <a:pt x="7309" y="1"/>
                    </a:moveTo>
                    <a:lnTo>
                      <a:pt x="7309" y="1"/>
                    </a:lnTo>
                    <a:cubicBezTo>
                      <a:pt x="7310" y="1"/>
                      <a:pt x="7311" y="2"/>
                      <a:pt x="7311" y="3"/>
                    </a:cubicBezTo>
                    <a:cubicBezTo>
                      <a:pt x="7311" y="4"/>
                      <a:pt x="7310" y="5"/>
                      <a:pt x="7309" y="5"/>
                    </a:cubicBezTo>
                    <a:lnTo>
                      <a:pt x="7309" y="5"/>
                    </a:lnTo>
                    <a:cubicBezTo>
                      <a:pt x="7308" y="5"/>
                      <a:pt x="7307" y="4"/>
                      <a:pt x="7307" y="3"/>
                    </a:cubicBezTo>
                    <a:cubicBezTo>
                      <a:pt x="7307" y="2"/>
                      <a:pt x="7308" y="1"/>
                      <a:pt x="7309" y="1"/>
                    </a:cubicBezTo>
                    <a:close/>
                    <a:moveTo>
                      <a:pt x="7317" y="1"/>
                    </a:moveTo>
                    <a:lnTo>
                      <a:pt x="7317" y="1"/>
                    </a:lnTo>
                    <a:cubicBezTo>
                      <a:pt x="7319" y="1"/>
                      <a:pt x="7319" y="2"/>
                      <a:pt x="7319" y="3"/>
                    </a:cubicBezTo>
                    <a:cubicBezTo>
                      <a:pt x="7319" y="4"/>
                      <a:pt x="7319" y="5"/>
                      <a:pt x="7317" y="5"/>
                    </a:cubicBezTo>
                    <a:lnTo>
                      <a:pt x="7317" y="5"/>
                    </a:lnTo>
                    <a:cubicBezTo>
                      <a:pt x="7316" y="5"/>
                      <a:pt x="7315" y="4"/>
                      <a:pt x="7315" y="3"/>
                    </a:cubicBezTo>
                    <a:cubicBezTo>
                      <a:pt x="7315" y="2"/>
                      <a:pt x="7316" y="1"/>
                      <a:pt x="7317" y="1"/>
                    </a:cubicBezTo>
                    <a:close/>
                    <a:moveTo>
                      <a:pt x="7325" y="1"/>
                    </a:moveTo>
                    <a:lnTo>
                      <a:pt x="7325" y="1"/>
                    </a:lnTo>
                    <a:cubicBezTo>
                      <a:pt x="7327" y="1"/>
                      <a:pt x="7327" y="2"/>
                      <a:pt x="7327" y="3"/>
                    </a:cubicBezTo>
                    <a:cubicBezTo>
                      <a:pt x="7327" y="4"/>
                      <a:pt x="7327" y="5"/>
                      <a:pt x="7325" y="5"/>
                    </a:cubicBezTo>
                    <a:lnTo>
                      <a:pt x="7325" y="5"/>
                    </a:lnTo>
                    <a:cubicBezTo>
                      <a:pt x="7324" y="5"/>
                      <a:pt x="7323" y="4"/>
                      <a:pt x="7323" y="3"/>
                    </a:cubicBezTo>
                    <a:cubicBezTo>
                      <a:pt x="7323" y="2"/>
                      <a:pt x="7324" y="1"/>
                      <a:pt x="7325" y="1"/>
                    </a:cubicBezTo>
                    <a:close/>
                    <a:moveTo>
                      <a:pt x="7333" y="1"/>
                    </a:moveTo>
                    <a:lnTo>
                      <a:pt x="7333" y="1"/>
                    </a:lnTo>
                    <a:cubicBezTo>
                      <a:pt x="7335" y="1"/>
                      <a:pt x="7335" y="2"/>
                      <a:pt x="7335" y="3"/>
                    </a:cubicBezTo>
                    <a:cubicBezTo>
                      <a:pt x="7335" y="4"/>
                      <a:pt x="7335" y="5"/>
                      <a:pt x="7333" y="5"/>
                    </a:cubicBezTo>
                    <a:lnTo>
                      <a:pt x="7333" y="5"/>
                    </a:lnTo>
                    <a:cubicBezTo>
                      <a:pt x="7332" y="5"/>
                      <a:pt x="7331" y="4"/>
                      <a:pt x="7331" y="3"/>
                    </a:cubicBezTo>
                    <a:cubicBezTo>
                      <a:pt x="7331" y="2"/>
                      <a:pt x="7332" y="1"/>
                      <a:pt x="7333" y="1"/>
                    </a:cubicBezTo>
                    <a:close/>
                    <a:moveTo>
                      <a:pt x="7341" y="1"/>
                    </a:moveTo>
                    <a:lnTo>
                      <a:pt x="7341" y="1"/>
                    </a:lnTo>
                    <a:cubicBezTo>
                      <a:pt x="7343" y="1"/>
                      <a:pt x="7343" y="2"/>
                      <a:pt x="7343" y="3"/>
                    </a:cubicBezTo>
                    <a:cubicBezTo>
                      <a:pt x="7343" y="4"/>
                      <a:pt x="7343" y="5"/>
                      <a:pt x="7341" y="5"/>
                    </a:cubicBezTo>
                    <a:lnTo>
                      <a:pt x="7341" y="5"/>
                    </a:lnTo>
                    <a:cubicBezTo>
                      <a:pt x="7340" y="5"/>
                      <a:pt x="7339" y="4"/>
                      <a:pt x="7339" y="3"/>
                    </a:cubicBezTo>
                    <a:cubicBezTo>
                      <a:pt x="7339" y="2"/>
                      <a:pt x="7340" y="1"/>
                      <a:pt x="7341" y="1"/>
                    </a:cubicBezTo>
                    <a:close/>
                    <a:moveTo>
                      <a:pt x="7349" y="1"/>
                    </a:moveTo>
                    <a:lnTo>
                      <a:pt x="7349" y="1"/>
                    </a:lnTo>
                    <a:cubicBezTo>
                      <a:pt x="7351" y="1"/>
                      <a:pt x="7351" y="2"/>
                      <a:pt x="7351" y="3"/>
                    </a:cubicBezTo>
                    <a:cubicBezTo>
                      <a:pt x="7351" y="4"/>
                      <a:pt x="7351" y="5"/>
                      <a:pt x="7349" y="5"/>
                    </a:cubicBezTo>
                    <a:lnTo>
                      <a:pt x="7349" y="5"/>
                    </a:lnTo>
                    <a:cubicBezTo>
                      <a:pt x="7348" y="5"/>
                      <a:pt x="7347" y="4"/>
                      <a:pt x="7347" y="3"/>
                    </a:cubicBezTo>
                    <a:cubicBezTo>
                      <a:pt x="7347" y="2"/>
                      <a:pt x="7348" y="1"/>
                      <a:pt x="7349" y="1"/>
                    </a:cubicBezTo>
                    <a:close/>
                    <a:moveTo>
                      <a:pt x="7357" y="1"/>
                    </a:moveTo>
                    <a:lnTo>
                      <a:pt x="7357" y="1"/>
                    </a:lnTo>
                    <a:cubicBezTo>
                      <a:pt x="7359" y="1"/>
                      <a:pt x="7359" y="2"/>
                      <a:pt x="7359" y="3"/>
                    </a:cubicBezTo>
                    <a:cubicBezTo>
                      <a:pt x="7359" y="4"/>
                      <a:pt x="7359" y="5"/>
                      <a:pt x="7357" y="5"/>
                    </a:cubicBezTo>
                    <a:lnTo>
                      <a:pt x="7357" y="5"/>
                    </a:lnTo>
                    <a:cubicBezTo>
                      <a:pt x="7356" y="5"/>
                      <a:pt x="7355" y="4"/>
                      <a:pt x="7355" y="3"/>
                    </a:cubicBezTo>
                    <a:cubicBezTo>
                      <a:pt x="7355" y="2"/>
                      <a:pt x="7356" y="1"/>
                      <a:pt x="7357" y="1"/>
                    </a:cubicBezTo>
                    <a:close/>
                    <a:moveTo>
                      <a:pt x="7365" y="1"/>
                    </a:moveTo>
                    <a:lnTo>
                      <a:pt x="7365" y="1"/>
                    </a:lnTo>
                    <a:cubicBezTo>
                      <a:pt x="7367" y="1"/>
                      <a:pt x="7367" y="2"/>
                      <a:pt x="7367" y="3"/>
                    </a:cubicBezTo>
                    <a:cubicBezTo>
                      <a:pt x="7367" y="4"/>
                      <a:pt x="7367" y="5"/>
                      <a:pt x="7365" y="5"/>
                    </a:cubicBezTo>
                    <a:lnTo>
                      <a:pt x="7365" y="5"/>
                    </a:lnTo>
                    <a:cubicBezTo>
                      <a:pt x="7364" y="5"/>
                      <a:pt x="7363" y="4"/>
                      <a:pt x="7363" y="3"/>
                    </a:cubicBezTo>
                    <a:cubicBezTo>
                      <a:pt x="7363" y="2"/>
                      <a:pt x="7364" y="1"/>
                      <a:pt x="7365" y="1"/>
                    </a:cubicBezTo>
                    <a:close/>
                    <a:moveTo>
                      <a:pt x="7373" y="1"/>
                    </a:moveTo>
                    <a:lnTo>
                      <a:pt x="7373" y="1"/>
                    </a:lnTo>
                    <a:cubicBezTo>
                      <a:pt x="7375" y="1"/>
                      <a:pt x="7375" y="2"/>
                      <a:pt x="7375" y="3"/>
                    </a:cubicBezTo>
                    <a:cubicBezTo>
                      <a:pt x="7375" y="4"/>
                      <a:pt x="7375" y="5"/>
                      <a:pt x="7373" y="5"/>
                    </a:cubicBezTo>
                    <a:lnTo>
                      <a:pt x="7373" y="5"/>
                    </a:lnTo>
                    <a:cubicBezTo>
                      <a:pt x="7372" y="5"/>
                      <a:pt x="7371" y="4"/>
                      <a:pt x="7371" y="3"/>
                    </a:cubicBezTo>
                    <a:cubicBezTo>
                      <a:pt x="7371" y="2"/>
                      <a:pt x="7372" y="1"/>
                      <a:pt x="7373" y="1"/>
                    </a:cubicBezTo>
                    <a:close/>
                    <a:moveTo>
                      <a:pt x="7381" y="1"/>
                    </a:moveTo>
                    <a:lnTo>
                      <a:pt x="7381" y="1"/>
                    </a:lnTo>
                    <a:cubicBezTo>
                      <a:pt x="7383" y="1"/>
                      <a:pt x="7383" y="2"/>
                      <a:pt x="7383" y="3"/>
                    </a:cubicBezTo>
                    <a:cubicBezTo>
                      <a:pt x="7383" y="4"/>
                      <a:pt x="7383" y="5"/>
                      <a:pt x="7381" y="5"/>
                    </a:cubicBezTo>
                    <a:lnTo>
                      <a:pt x="7381" y="5"/>
                    </a:lnTo>
                    <a:cubicBezTo>
                      <a:pt x="7380" y="5"/>
                      <a:pt x="7379" y="4"/>
                      <a:pt x="7379" y="3"/>
                    </a:cubicBezTo>
                    <a:cubicBezTo>
                      <a:pt x="7379" y="2"/>
                      <a:pt x="7380" y="1"/>
                      <a:pt x="7381" y="1"/>
                    </a:cubicBezTo>
                    <a:close/>
                    <a:moveTo>
                      <a:pt x="7389" y="1"/>
                    </a:moveTo>
                    <a:lnTo>
                      <a:pt x="7389" y="1"/>
                    </a:lnTo>
                    <a:cubicBezTo>
                      <a:pt x="7391" y="1"/>
                      <a:pt x="7391" y="2"/>
                      <a:pt x="7391" y="3"/>
                    </a:cubicBezTo>
                    <a:cubicBezTo>
                      <a:pt x="7391" y="4"/>
                      <a:pt x="7391" y="5"/>
                      <a:pt x="7389" y="5"/>
                    </a:cubicBezTo>
                    <a:lnTo>
                      <a:pt x="7389" y="5"/>
                    </a:lnTo>
                    <a:cubicBezTo>
                      <a:pt x="7388" y="5"/>
                      <a:pt x="7387" y="4"/>
                      <a:pt x="7387" y="3"/>
                    </a:cubicBezTo>
                    <a:cubicBezTo>
                      <a:pt x="7387" y="2"/>
                      <a:pt x="7388" y="1"/>
                      <a:pt x="7389" y="1"/>
                    </a:cubicBezTo>
                    <a:close/>
                    <a:moveTo>
                      <a:pt x="7397" y="1"/>
                    </a:moveTo>
                    <a:lnTo>
                      <a:pt x="7397" y="1"/>
                    </a:lnTo>
                    <a:cubicBezTo>
                      <a:pt x="7399" y="1"/>
                      <a:pt x="7399" y="2"/>
                      <a:pt x="7399" y="3"/>
                    </a:cubicBezTo>
                    <a:cubicBezTo>
                      <a:pt x="7399" y="4"/>
                      <a:pt x="7399" y="5"/>
                      <a:pt x="7397" y="5"/>
                    </a:cubicBezTo>
                    <a:lnTo>
                      <a:pt x="7397" y="5"/>
                    </a:lnTo>
                    <a:cubicBezTo>
                      <a:pt x="7396" y="5"/>
                      <a:pt x="7395" y="4"/>
                      <a:pt x="7395" y="3"/>
                    </a:cubicBezTo>
                    <a:cubicBezTo>
                      <a:pt x="7395" y="2"/>
                      <a:pt x="7396" y="1"/>
                      <a:pt x="7397" y="1"/>
                    </a:cubicBezTo>
                    <a:close/>
                    <a:moveTo>
                      <a:pt x="7405" y="1"/>
                    </a:moveTo>
                    <a:lnTo>
                      <a:pt x="7405" y="1"/>
                    </a:lnTo>
                    <a:cubicBezTo>
                      <a:pt x="7407" y="1"/>
                      <a:pt x="7407" y="2"/>
                      <a:pt x="7407" y="3"/>
                    </a:cubicBezTo>
                    <a:cubicBezTo>
                      <a:pt x="7407" y="4"/>
                      <a:pt x="7407" y="5"/>
                      <a:pt x="7405" y="5"/>
                    </a:cubicBezTo>
                    <a:lnTo>
                      <a:pt x="7405" y="5"/>
                    </a:lnTo>
                    <a:cubicBezTo>
                      <a:pt x="7404" y="5"/>
                      <a:pt x="7403" y="4"/>
                      <a:pt x="7403" y="3"/>
                    </a:cubicBezTo>
                    <a:cubicBezTo>
                      <a:pt x="7403" y="2"/>
                      <a:pt x="7404" y="1"/>
                      <a:pt x="7405" y="1"/>
                    </a:cubicBezTo>
                    <a:close/>
                    <a:moveTo>
                      <a:pt x="7413" y="1"/>
                    </a:moveTo>
                    <a:lnTo>
                      <a:pt x="7413" y="1"/>
                    </a:lnTo>
                    <a:cubicBezTo>
                      <a:pt x="7415" y="1"/>
                      <a:pt x="7415" y="2"/>
                      <a:pt x="7415" y="3"/>
                    </a:cubicBezTo>
                    <a:cubicBezTo>
                      <a:pt x="7415" y="4"/>
                      <a:pt x="7415" y="5"/>
                      <a:pt x="7413" y="5"/>
                    </a:cubicBezTo>
                    <a:lnTo>
                      <a:pt x="7413" y="5"/>
                    </a:lnTo>
                    <a:cubicBezTo>
                      <a:pt x="7412" y="5"/>
                      <a:pt x="7411" y="4"/>
                      <a:pt x="7411" y="3"/>
                    </a:cubicBezTo>
                    <a:cubicBezTo>
                      <a:pt x="7411" y="2"/>
                      <a:pt x="7412" y="1"/>
                      <a:pt x="7413" y="1"/>
                    </a:cubicBezTo>
                    <a:close/>
                    <a:moveTo>
                      <a:pt x="7421" y="1"/>
                    </a:moveTo>
                    <a:lnTo>
                      <a:pt x="7421" y="1"/>
                    </a:lnTo>
                    <a:cubicBezTo>
                      <a:pt x="7423" y="1"/>
                      <a:pt x="7423" y="2"/>
                      <a:pt x="7423" y="3"/>
                    </a:cubicBezTo>
                    <a:cubicBezTo>
                      <a:pt x="7423" y="4"/>
                      <a:pt x="7423" y="5"/>
                      <a:pt x="7421" y="5"/>
                    </a:cubicBezTo>
                    <a:lnTo>
                      <a:pt x="7421" y="5"/>
                    </a:lnTo>
                    <a:cubicBezTo>
                      <a:pt x="7420" y="5"/>
                      <a:pt x="7419" y="4"/>
                      <a:pt x="7419" y="3"/>
                    </a:cubicBezTo>
                    <a:cubicBezTo>
                      <a:pt x="7419" y="2"/>
                      <a:pt x="7420" y="1"/>
                      <a:pt x="7421" y="1"/>
                    </a:cubicBezTo>
                    <a:close/>
                    <a:moveTo>
                      <a:pt x="7429" y="1"/>
                    </a:moveTo>
                    <a:lnTo>
                      <a:pt x="7429" y="1"/>
                    </a:lnTo>
                    <a:cubicBezTo>
                      <a:pt x="7431" y="1"/>
                      <a:pt x="7431" y="2"/>
                      <a:pt x="7431" y="3"/>
                    </a:cubicBezTo>
                    <a:cubicBezTo>
                      <a:pt x="7431" y="4"/>
                      <a:pt x="7431" y="5"/>
                      <a:pt x="7429" y="5"/>
                    </a:cubicBezTo>
                    <a:lnTo>
                      <a:pt x="7429" y="5"/>
                    </a:lnTo>
                    <a:cubicBezTo>
                      <a:pt x="7428" y="5"/>
                      <a:pt x="7427" y="4"/>
                      <a:pt x="7427" y="3"/>
                    </a:cubicBezTo>
                    <a:cubicBezTo>
                      <a:pt x="7427" y="2"/>
                      <a:pt x="7428" y="1"/>
                      <a:pt x="7429" y="1"/>
                    </a:cubicBezTo>
                    <a:close/>
                    <a:moveTo>
                      <a:pt x="7437" y="1"/>
                    </a:moveTo>
                    <a:lnTo>
                      <a:pt x="7437" y="1"/>
                    </a:lnTo>
                    <a:cubicBezTo>
                      <a:pt x="7439" y="1"/>
                      <a:pt x="7439" y="2"/>
                      <a:pt x="7439" y="3"/>
                    </a:cubicBezTo>
                    <a:cubicBezTo>
                      <a:pt x="7439" y="4"/>
                      <a:pt x="7439" y="5"/>
                      <a:pt x="7437" y="5"/>
                    </a:cubicBezTo>
                    <a:lnTo>
                      <a:pt x="7437" y="5"/>
                    </a:lnTo>
                    <a:cubicBezTo>
                      <a:pt x="7436" y="5"/>
                      <a:pt x="7435" y="4"/>
                      <a:pt x="7435" y="3"/>
                    </a:cubicBezTo>
                    <a:cubicBezTo>
                      <a:pt x="7435" y="2"/>
                      <a:pt x="7436" y="1"/>
                      <a:pt x="7437" y="1"/>
                    </a:cubicBezTo>
                    <a:close/>
                    <a:moveTo>
                      <a:pt x="7445" y="1"/>
                    </a:moveTo>
                    <a:lnTo>
                      <a:pt x="7445" y="1"/>
                    </a:lnTo>
                    <a:cubicBezTo>
                      <a:pt x="7447" y="1"/>
                      <a:pt x="7447" y="2"/>
                      <a:pt x="7447" y="3"/>
                    </a:cubicBezTo>
                    <a:cubicBezTo>
                      <a:pt x="7447" y="4"/>
                      <a:pt x="7447" y="5"/>
                      <a:pt x="7445" y="5"/>
                    </a:cubicBezTo>
                    <a:lnTo>
                      <a:pt x="7445" y="5"/>
                    </a:lnTo>
                    <a:cubicBezTo>
                      <a:pt x="7444" y="5"/>
                      <a:pt x="7443" y="4"/>
                      <a:pt x="7443" y="3"/>
                    </a:cubicBezTo>
                    <a:cubicBezTo>
                      <a:pt x="7443" y="2"/>
                      <a:pt x="7444" y="1"/>
                      <a:pt x="7445" y="1"/>
                    </a:cubicBezTo>
                    <a:close/>
                    <a:moveTo>
                      <a:pt x="7453" y="1"/>
                    </a:moveTo>
                    <a:lnTo>
                      <a:pt x="7453" y="1"/>
                    </a:lnTo>
                    <a:cubicBezTo>
                      <a:pt x="7455" y="1"/>
                      <a:pt x="7455" y="2"/>
                      <a:pt x="7455" y="3"/>
                    </a:cubicBezTo>
                    <a:cubicBezTo>
                      <a:pt x="7455" y="4"/>
                      <a:pt x="7455" y="5"/>
                      <a:pt x="7453" y="5"/>
                    </a:cubicBezTo>
                    <a:lnTo>
                      <a:pt x="7453" y="5"/>
                    </a:lnTo>
                    <a:cubicBezTo>
                      <a:pt x="7452" y="5"/>
                      <a:pt x="7451" y="4"/>
                      <a:pt x="7451" y="3"/>
                    </a:cubicBezTo>
                    <a:cubicBezTo>
                      <a:pt x="7451" y="2"/>
                      <a:pt x="7452" y="1"/>
                      <a:pt x="7453" y="1"/>
                    </a:cubicBezTo>
                    <a:close/>
                    <a:moveTo>
                      <a:pt x="7461" y="1"/>
                    </a:moveTo>
                    <a:lnTo>
                      <a:pt x="7461" y="1"/>
                    </a:lnTo>
                    <a:cubicBezTo>
                      <a:pt x="7463" y="1"/>
                      <a:pt x="7463" y="2"/>
                      <a:pt x="7463" y="3"/>
                    </a:cubicBezTo>
                    <a:cubicBezTo>
                      <a:pt x="7463" y="4"/>
                      <a:pt x="7463" y="5"/>
                      <a:pt x="7461" y="5"/>
                    </a:cubicBezTo>
                    <a:lnTo>
                      <a:pt x="7461" y="5"/>
                    </a:lnTo>
                    <a:cubicBezTo>
                      <a:pt x="7460" y="5"/>
                      <a:pt x="7459" y="4"/>
                      <a:pt x="7459" y="3"/>
                    </a:cubicBezTo>
                    <a:cubicBezTo>
                      <a:pt x="7459" y="2"/>
                      <a:pt x="7460" y="1"/>
                      <a:pt x="7461" y="1"/>
                    </a:cubicBezTo>
                    <a:close/>
                    <a:moveTo>
                      <a:pt x="7469" y="1"/>
                    </a:moveTo>
                    <a:lnTo>
                      <a:pt x="7469" y="1"/>
                    </a:lnTo>
                    <a:cubicBezTo>
                      <a:pt x="7471" y="1"/>
                      <a:pt x="7471" y="2"/>
                      <a:pt x="7471" y="3"/>
                    </a:cubicBezTo>
                    <a:cubicBezTo>
                      <a:pt x="7471" y="4"/>
                      <a:pt x="7471" y="5"/>
                      <a:pt x="7469" y="5"/>
                    </a:cubicBezTo>
                    <a:lnTo>
                      <a:pt x="7469" y="5"/>
                    </a:lnTo>
                    <a:cubicBezTo>
                      <a:pt x="7468" y="5"/>
                      <a:pt x="7467" y="4"/>
                      <a:pt x="7467" y="3"/>
                    </a:cubicBezTo>
                    <a:cubicBezTo>
                      <a:pt x="7467" y="2"/>
                      <a:pt x="7468" y="1"/>
                      <a:pt x="7469" y="1"/>
                    </a:cubicBezTo>
                    <a:close/>
                    <a:moveTo>
                      <a:pt x="7477" y="1"/>
                    </a:moveTo>
                    <a:lnTo>
                      <a:pt x="7477" y="1"/>
                    </a:lnTo>
                    <a:cubicBezTo>
                      <a:pt x="7479" y="1"/>
                      <a:pt x="7479" y="2"/>
                      <a:pt x="7479" y="3"/>
                    </a:cubicBezTo>
                    <a:cubicBezTo>
                      <a:pt x="7479" y="4"/>
                      <a:pt x="7479" y="5"/>
                      <a:pt x="7477" y="5"/>
                    </a:cubicBezTo>
                    <a:lnTo>
                      <a:pt x="7477" y="5"/>
                    </a:lnTo>
                    <a:cubicBezTo>
                      <a:pt x="7476" y="5"/>
                      <a:pt x="7475" y="4"/>
                      <a:pt x="7475" y="3"/>
                    </a:cubicBezTo>
                    <a:cubicBezTo>
                      <a:pt x="7475" y="2"/>
                      <a:pt x="7476" y="1"/>
                      <a:pt x="7477" y="1"/>
                    </a:cubicBezTo>
                    <a:close/>
                    <a:moveTo>
                      <a:pt x="7485" y="1"/>
                    </a:moveTo>
                    <a:lnTo>
                      <a:pt x="7485" y="1"/>
                    </a:lnTo>
                    <a:cubicBezTo>
                      <a:pt x="7487" y="1"/>
                      <a:pt x="7487" y="2"/>
                      <a:pt x="7487" y="3"/>
                    </a:cubicBezTo>
                    <a:cubicBezTo>
                      <a:pt x="7487" y="4"/>
                      <a:pt x="7487" y="5"/>
                      <a:pt x="7485" y="5"/>
                    </a:cubicBezTo>
                    <a:lnTo>
                      <a:pt x="7485" y="5"/>
                    </a:lnTo>
                    <a:cubicBezTo>
                      <a:pt x="7484" y="5"/>
                      <a:pt x="7483" y="4"/>
                      <a:pt x="7483" y="3"/>
                    </a:cubicBezTo>
                    <a:cubicBezTo>
                      <a:pt x="7483" y="2"/>
                      <a:pt x="7484" y="1"/>
                      <a:pt x="7485" y="1"/>
                    </a:cubicBezTo>
                    <a:close/>
                    <a:moveTo>
                      <a:pt x="7493" y="1"/>
                    </a:moveTo>
                    <a:lnTo>
                      <a:pt x="7493" y="1"/>
                    </a:lnTo>
                    <a:cubicBezTo>
                      <a:pt x="7495" y="1"/>
                      <a:pt x="7495" y="2"/>
                      <a:pt x="7495" y="3"/>
                    </a:cubicBezTo>
                    <a:cubicBezTo>
                      <a:pt x="7495" y="4"/>
                      <a:pt x="7495" y="5"/>
                      <a:pt x="7493" y="5"/>
                    </a:cubicBezTo>
                    <a:lnTo>
                      <a:pt x="7493" y="5"/>
                    </a:lnTo>
                    <a:cubicBezTo>
                      <a:pt x="7492" y="5"/>
                      <a:pt x="7491" y="4"/>
                      <a:pt x="7491" y="3"/>
                    </a:cubicBezTo>
                    <a:cubicBezTo>
                      <a:pt x="7491" y="2"/>
                      <a:pt x="7492" y="1"/>
                      <a:pt x="7493" y="1"/>
                    </a:cubicBezTo>
                    <a:close/>
                    <a:moveTo>
                      <a:pt x="7501" y="1"/>
                    </a:moveTo>
                    <a:lnTo>
                      <a:pt x="7501" y="1"/>
                    </a:lnTo>
                    <a:cubicBezTo>
                      <a:pt x="7503" y="1"/>
                      <a:pt x="7503" y="2"/>
                      <a:pt x="7503" y="3"/>
                    </a:cubicBezTo>
                    <a:cubicBezTo>
                      <a:pt x="7503" y="4"/>
                      <a:pt x="7503" y="5"/>
                      <a:pt x="7501" y="5"/>
                    </a:cubicBezTo>
                    <a:lnTo>
                      <a:pt x="7501" y="5"/>
                    </a:lnTo>
                    <a:cubicBezTo>
                      <a:pt x="7500" y="5"/>
                      <a:pt x="7499" y="4"/>
                      <a:pt x="7499" y="3"/>
                    </a:cubicBezTo>
                    <a:cubicBezTo>
                      <a:pt x="7499" y="2"/>
                      <a:pt x="7500" y="1"/>
                      <a:pt x="7501" y="1"/>
                    </a:cubicBezTo>
                    <a:close/>
                    <a:moveTo>
                      <a:pt x="7509" y="1"/>
                    </a:moveTo>
                    <a:lnTo>
                      <a:pt x="7509" y="1"/>
                    </a:lnTo>
                    <a:cubicBezTo>
                      <a:pt x="7511" y="1"/>
                      <a:pt x="7511" y="2"/>
                      <a:pt x="7511" y="3"/>
                    </a:cubicBezTo>
                    <a:cubicBezTo>
                      <a:pt x="7511" y="4"/>
                      <a:pt x="7511" y="5"/>
                      <a:pt x="7509" y="5"/>
                    </a:cubicBezTo>
                    <a:lnTo>
                      <a:pt x="7509" y="5"/>
                    </a:lnTo>
                    <a:cubicBezTo>
                      <a:pt x="7508" y="5"/>
                      <a:pt x="7507" y="4"/>
                      <a:pt x="7507" y="3"/>
                    </a:cubicBezTo>
                    <a:cubicBezTo>
                      <a:pt x="7507" y="2"/>
                      <a:pt x="7508" y="1"/>
                      <a:pt x="7509" y="1"/>
                    </a:cubicBezTo>
                    <a:close/>
                    <a:moveTo>
                      <a:pt x="7517" y="1"/>
                    </a:moveTo>
                    <a:lnTo>
                      <a:pt x="7517" y="1"/>
                    </a:lnTo>
                    <a:cubicBezTo>
                      <a:pt x="7519" y="1"/>
                      <a:pt x="7519" y="2"/>
                      <a:pt x="7519" y="3"/>
                    </a:cubicBezTo>
                    <a:cubicBezTo>
                      <a:pt x="7519" y="4"/>
                      <a:pt x="7519" y="5"/>
                      <a:pt x="7517" y="5"/>
                    </a:cubicBezTo>
                    <a:lnTo>
                      <a:pt x="7517" y="5"/>
                    </a:lnTo>
                    <a:cubicBezTo>
                      <a:pt x="7516" y="5"/>
                      <a:pt x="7515" y="4"/>
                      <a:pt x="7515" y="3"/>
                    </a:cubicBezTo>
                    <a:cubicBezTo>
                      <a:pt x="7515" y="2"/>
                      <a:pt x="7516" y="1"/>
                      <a:pt x="7517" y="1"/>
                    </a:cubicBezTo>
                    <a:close/>
                    <a:moveTo>
                      <a:pt x="7525" y="1"/>
                    </a:moveTo>
                    <a:lnTo>
                      <a:pt x="7525" y="1"/>
                    </a:lnTo>
                    <a:cubicBezTo>
                      <a:pt x="7527" y="1"/>
                      <a:pt x="7527" y="2"/>
                      <a:pt x="7527" y="3"/>
                    </a:cubicBezTo>
                    <a:cubicBezTo>
                      <a:pt x="7527" y="4"/>
                      <a:pt x="7527" y="5"/>
                      <a:pt x="7525" y="5"/>
                    </a:cubicBezTo>
                    <a:lnTo>
                      <a:pt x="7525" y="5"/>
                    </a:lnTo>
                    <a:cubicBezTo>
                      <a:pt x="7524" y="5"/>
                      <a:pt x="7523" y="4"/>
                      <a:pt x="7523" y="3"/>
                    </a:cubicBezTo>
                    <a:cubicBezTo>
                      <a:pt x="7523" y="2"/>
                      <a:pt x="7524" y="1"/>
                      <a:pt x="7525" y="1"/>
                    </a:cubicBezTo>
                    <a:close/>
                    <a:moveTo>
                      <a:pt x="7533" y="1"/>
                    </a:moveTo>
                    <a:lnTo>
                      <a:pt x="7534" y="1"/>
                    </a:lnTo>
                    <a:cubicBezTo>
                      <a:pt x="7535" y="1"/>
                      <a:pt x="7536" y="2"/>
                      <a:pt x="7536" y="3"/>
                    </a:cubicBezTo>
                    <a:cubicBezTo>
                      <a:pt x="7536" y="4"/>
                      <a:pt x="7535" y="5"/>
                      <a:pt x="7534" y="5"/>
                    </a:cubicBezTo>
                    <a:lnTo>
                      <a:pt x="7533" y="5"/>
                    </a:lnTo>
                    <a:cubicBezTo>
                      <a:pt x="7532" y="5"/>
                      <a:pt x="7531" y="4"/>
                      <a:pt x="7531" y="3"/>
                    </a:cubicBezTo>
                    <a:cubicBezTo>
                      <a:pt x="7531" y="2"/>
                      <a:pt x="7532" y="1"/>
                      <a:pt x="7533" y="1"/>
                    </a:cubicBezTo>
                    <a:close/>
                    <a:moveTo>
                      <a:pt x="7542" y="1"/>
                    </a:moveTo>
                    <a:lnTo>
                      <a:pt x="7542" y="1"/>
                    </a:lnTo>
                    <a:cubicBezTo>
                      <a:pt x="7543" y="1"/>
                      <a:pt x="7544" y="2"/>
                      <a:pt x="7544" y="3"/>
                    </a:cubicBezTo>
                    <a:cubicBezTo>
                      <a:pt x="7544" y="4"/>
                      <a:pt x="7543" y="5"/>
                      <a:pt x="7542" y="5"/>
                    </a:cubicBezTo>
                    <a:lnTo>
                      <a:pt x="7542" y="5"/>
                    </a:lnTo>
                    <a:cubicBezTo>
                      <a:pt x="7540" y="5"/>
                      <a:pt x="7540" y="4"/>
                      <a:pt x="7540" y="3"/>
                    </a:cubicBezTo>
                    <a:cubicBezTo>
                      <a:pt x="7540" y="2"/>
                      <a:pt x="7540" y="1"/>
                      <a:pt x="7542" y="1"/>
                    </a:cubicBezTo>
                    <a:close/>
                    <a:moveTo>
                      <a:pt x="7550" y="1"/>
                    </a:moveTo>
                    <a:lnTo>
                      <a:pt x="7550" y="1"/>
                    </a:lnTo>
                    <a:cubicBezTo>
                      <a:pt x="7551" y="1"/>
                      <a:pt x="7552" y="2"/>
                      <a:pt x="7552" y="3"/>
                    </a:cubicBezTo>
                    <a:cubicBezTo>
                      <a:pt x="7552" y="4"/>
                      <a:pt x="7551" y="5"/>
                      <a:pt x="7550" y="5"/>
                    </a:cubicBezTo>
                    <a:lnTo>
                      <a:pt x="7550" y="5"/>
                    </a:lnTo>
                    <a:cubicBezTo>
                      <a:pt x="7548" y="5"/>
                      <a:pt x="7548" y="4"/>
                      <a:pt x="7548" y="3"/>
                    </a:cubicBezTo>
                    <a:cubicBezTo>
                      <a:pt x="7548" y="2"/>
                      <a:pt x="7548" y="1"/>
                      <a:pt x="7550" y="1"/>
                    </a:cubicBezTo>
                    <a:close/>
                    <a:moveTo>
                      <a:pt x="7558" y="1"/>
                    </a:moveTo>
                    <a:lnTo>
                      <a:pt x="7558" y="1"/>
                    </a:lnTo>
                    <a:cubicBezTo>
                      <a:pt x="7559" y="1"/>
                      <a:pt x="7560" y="2"/>
                      <a:pt x="7560" y="3"/>
                    </a:cubicBezTo>
                    <a:cubicBezTo>
                      <a:pt x="7560" y="4"/>
                      <a:pt x="7559" y="5"/>
                      <a:pt x="7558" y="5"/>
                    </a:cubicBezTo>
                    <a:lnTo>
                      <a:pt x="7558" y="5"/>
                    </a:lnTo>
                    <a:cubicBezTo>
                      <a:pt x="7556" y="5"/>
                      <a:pt x="7556" y="4"/>
                      <a:pt x="7556" y="3"/>
                    </a:cubicBezTo>
                    <a:cubicBezTo>
                      <a:pt x="7556" y="2"/>
                      <a:pt x="7556" y="1"/>
                      <a:pt x="7558" y="1"/>
                    </a:cubicBezTo>
                    <a:close/>
                    <a:moveTo>
                      <a:pt x="7566" y="1"/>
                    </a:moveTo>
                    <a:lnTo>
                      <a:pt x="7566" y="1"/>
                    </a:lnTo>
                    <a:cubicBezTo>
                      <a:pt x="7567" y="1"/>
                      <a:pt x="7568" y="2"/>
                      <a:pt x="7568" y="3"/>
                    </a:cubicBezTo>
                    <a:cubicBezTo>
                      <a:pt x="7568" y="4"/>
                      <a:pt x="7567" y="5"/>
                      <a:pt x="7566" y="5"/>
                    </a:cubicBezTo>
                    <a:lnTo>
                      <a:pt x="7566" y="5"/>
                    </a:lnTo>
                    <a:cubicBezTo>
                      <a:pt x="7564" y="5"/>
                      <a:pt x="7564" y="4"/>
                      <a:pt x="7564" y="3"/>
                    </a:cubicBezTo>
                    <a:cubicBezTo>
                      <a:pt x="7564" y="2"/>
                      <a:pt x="7564" y="1"/>
                      <a:pt x="7566" y="1"/>
                    </a:cubicBezTo>
                    <a:close/>
                    <a:moveTo>
                      <a:pt x="7574" y="1"/>
                    </a:moveTo>
                    <a:lnTo>
                      <a:pt x="7574" y="1"/>
                    </a:lnTo>
                    <a:cubicBezTo>
                      <a:pt x="7575" y="1"/>
                      <a:pt x="7576" y="2"/>
                      <a:pt x="7576" y="3"/>
                    </a:cubicBezTo>
                    <a:cubicBezTo>
                      <a:pt x="7576" y="4"/>
                      <a:pt x="7575" y="5"/>
                      <a:pt x="7574" y="5"/>
                    </a:cubicBezTo>
                    <a:lnTo>
                      <a:pt x="7574" y="5"/>
                    </a:lnTo>
                    <a:cubicBezTo>
                      <a:pt x="7572" y="5"/>
                      <a:pt x="7572" y="4"/>
                      <a:pt x="7572" y="3"/>
                    </a:cubicBezTo>
                    <a:cubicBezTo>
                      <a:pt x="7572" y="2"/>
                      <a:pt x="7572" y="1"/>
                      <a:pt x="7574" y="1"/>
                    </a:cubicBezTo>
                    <a:close/>
                    <a:moveTo>
                      <a:pt x="7582" y="1"/>
                    </a:moveTo>
                    <a:lnTo>
                      <a:pt x="7582" y="1"/>
                    </a:lnTo>
                    <a:cubicBezTo>
                      <a:pt x="7583" y="1"/>
                      <a:pt x="7584" y="2"/>
                      <a:pt x="7584" y="3"/>
                    </a:cubicBezTo>
                    <a:cubicBezTo>
                      <a:pt x="7584" y="4"/>
                      <a:pt x="7583" y="5"/>
                      <a:pt x="7582" y="5"/>
                    </a:cubicBezTo>
                    <a:lnTo>
                      <a:pt x="7582" y="5"/>
                    </a:lnTo>
                    <a:cubicBezTo>
                      <a:pt x="7580" y="5"/>
                      <a:pt x="7580" y="4"/>
                      <a:pt x="7580" y="3"/>
                    </a:cubicBezTo>
                    <a:cubicBezTo>
                      <a:pt x="7580" y="2"/>
                      <a:pt x="7580" y="1"/>
                      <a:pt x="7582" y="1"/>
                    </a:cubicBezTo>
                    <a:close/>
                    <a:moveTo>
                      <a:pt x="7590" y="1"/>
                    </a:moveTo>
                    <a:lnTo>
                      <a:pt x="7590" y="1"/>
                    </a:lnTo>
                    <a:cubicBezTo>
                      <a:pt x="7591" y="1"/>
                      <a:pt x="7592" y="2"/>
                      <a:pt x="7592" y="3"/>
                    </a:cubicBezTo>
                    <a:cubicBezTo>
                      <a:pt x="7592" y="4"/>
                      <a:pt x="7591" y="5"/>
                      <a:pt x="7590" y="5"/>
                    </a:cubicBezTo>
                    <a:lnTo>
                      <a:pt x="7590" y="5"/>
                    </a:lnTo>
                    <a:cubicBezTo>
                      <a:pt x="7588" y="5"/>
                      <a:pt x="7588" y="4"/>
                      <a:pt x="7588" y="3"/>
                    </a:cubicBezTo>
                    <a:cubicBezTo>
                      <a:pt x="7588" y="2"/>
                      <a:pt x="7588" y="1"/>
                      <a:pt x="7590" y="1"/>
                    </a:cubicBezTo>
                    <a:close/>
                    <a:moveTo>
                      <a:pt x="7598" y="1"/>
                    </a:moveTo>
                    <a:lnTo>
                      <a:pt x="7598" y="1"/>
                    </a:lnTo>
                    <a:cubicBezTo>
                      <a:pt x="7599" y="1"/>
                      <a:pt x="7600" y="2"/>
                      <a:pt x="7600" y="3"/>
                    </a:cubicBezTo>
                    <a:cubicBezTo>
                      <a:pt x="7600" y="4"/>
                      <a:pt x="7599" y="5"/>
                      <a:pt x="7598" y="5"/>
                    </a:cubicBezTo>
                    <a:lnTo>
                      <a:pt x="7598" y="5"/>
                    </a:lnTo>
                    <a:cubicBezTo>
                      <a:pt x="7596" y="5"/>
                      <a:pt x="7596" y="4"/>
                      <a:pt x="7596" y="3"/>
                    </a:cubicBezTo>
                    <a:cubicBezTo>
                      <a:pt x="7596" y="2"/>
                      <a:pt x="7596" y="1"/>
                      <a:pt x="7598" y="1"/>
                    </a:cubicBezTo>
                    <a:close/>
                    <a:moveTo>
                      <a:pt x="7606" y="1"/>
                    </a:moveTo>
                    <a:lnTo>
                      <a:pt x="7606" y="1"/>
                    </a:lnTo>
                    <a:cubicBezTo>
                      <a:pt x="7607" y="1"/>
                      <a:pt x="7608" y="2"/>
                      <a:pt x="7608" y="3"/>
                    </a:cubicBezTo>
                    <a:cubicBezTo>
                      <a:pt x="7608" y="4"/>
                      <a:pt x="7607" y="5"/>
                      <a:pt x="7606" y="5"/>
                    </a:cubicBezTo>
                    <a:lnTo>
                      <a:pt x="7606" y="5"/>
                    </a:lnTo>
                    <a:cubicBezTo>
                      <a:pt x="7604" y="5"/>
                      <a:pt x="7604" y="4"/>
                      <a:pt x="7604" y="3"/>
                    </a:cubicBezTo>
                    <a:cubicBezTo>
                      <a:pt x="7604" y="2"/>
                      <a:pt x="7604" y="1"/>
                      <a:pt x="7606" y="1"/>
                    </a:cubicBezTo>
                    <a:close/>
                    <a:moveTo>
                      <a:pt x="7614" y="1"/>
                    </a:moveTo>
                    <a:lnTo>
                      <a:pt x="7614" y="1"/>
                    </a:lnTo>
                    <a:cubicBezTo>
                      <a:pt x="7615" y="1"/>
                      <a:pt x="7616" y="2"/>
                      <a:pt x="7616" y="3"/>
                    </a:cubicBezTo>
                    <a:cubicBezTo>
                      <a:pt x="7616" y="4"/>
                      <a:pt x="7615" y="5"/>
                      <a:pt x="7614" y="5"/>
                    </a:cubicBezTo>
                    <a:lnTo>
                      <a:pt x="7614" y="5"/>
                    </a:lnTo>
                    <a:cubicBezTo>
                      <a:pt x="7612" y="5"/>
                      <a:pt x="7612" y="4"/>
                      <a:pt x="7612" y="3"/>
                    </a:cubicBezTo>
                    <a:cubicBezTo>
                      <a:pt x="7612" y="2"/>
                      <a:pt x="7612" y="1"/>
                      <a:pt x="7614" y="1"/>
                    </a:cubicBezTo>
                    <a:close/>
                    <a:moveTo>
                      <a:pt x="7622" y="1"/>
                    </a:moveTo>
                    <a:lnTo>
                      <a:pt x="7622" y="1"/>
                    </a:lnTo>
                    <a:cubicBezTo>
                      <a:pt x="7623" y="1"/>
                      <a:pt x="7624" y="2"/>
                      <a:pt x="7624" y="3"/>
                    </a:cubicBezTo>
                    <a:cubicBezTo>
                      <a:pt x="7624" y="4"/>
                      <a:pt x="7623" y="5"/>
                      <a:pt x="7622" y="5"/>
                    </a:cubicBezTo>
                    <a:lnTo>
                      <a:pt x="7622" y="5"/>
                    </a:lnTo>
                    <a:cubicBezTo>
                      <a:pt x="7620" y="5"/>
                      <a:pt x="7620" y="4"/>
                      <a:pt x="7620" y="3"/>
                    </a:cubicBezTo>
                    <a:cubicBezTo>
                      <a:pt x="7620" y="2"/>
                      <a:pt x="7620" y="1"/>
                      <a:pt x="7622" y="1"/>
                    </a:cubicBezTo>
                    <a:close/>
                    <a:moveTo>
                      <a:pt x="7630" y="1"/>
                    </a:moveTo>
                    <a:lnTo>
                      <a:pt x="7630" y="1"/>
                    </a:lnTo>
                    <a:cubicBezTo>
                      <a:pt x="7631" y="1"/>
                      <a:pt x="7632" y="2"/>
                      <a:pt x="7632" y="3"/>
                    </a:cubicBezTo>
                    <a:cubicBezTo>
                      <a:pt x="7632" y="4"/>
                      <a:pt x="7631" y="5"/>
                      <a:pt x="7630" y="5"/>
                    </a:cubicBezTo>
                    <a:lnTo>
                      <a:pt x="7630" y="5"/>
                    </a:lnTo>
                    <a:cubicBezTo>
                      <a:pt x="7628" y="5"/>
                      <a:pt x="7628" y="4"/>
                      <a:pt x="7628" y="3"/>
                    </a:cubicBezTo>
                    <a:cubicBezTo>
                      <a:pt x="7628" y="2"/>
                      <a:pt x="7628" y="1"/>
                      <a:pt x="7630" y="1"/>
                    </a:cubicBezTo>
                    <a:close/>
                    <a:moveTo>
                      <a:pt x="7638" y="1"/>
                    </a:moveTo>
                    <a:lnTo>
                      <a:pt x="7638" y="1"/>
                    </a:lnTo>
                    <a:cubicBezTo>
                      <a:pt x="7639" y="1"/>
                      <a:pt x="7640" y="2"/>
                      <a:pt x="7640" y="3"/>
                    </a:cubicBezTo>
                    <a:cubicBezTo>
                      <a:pt x="7640" y="4"/>
                      <a:pt x="7639" y="5"/>
                      <a:pt x="7638" y="5"/>
                    </a:cubicBezTo>
                    <a:lnTo>
                      <a:pt x="7638" y="5"/>
                    </a:lnTo>
                    <a:cubicBezTo>
                      <a:pt x="7636" y="5"/>
                      <a:pt x="7636" y="4"/>
                      <a:pt x="7636" y="3"/>
                    </a:cubicBezTo>
                    <a:cubicBezTo>
                      <a:pt x="7636" y="2"/>
                      <a:pt x="7636" y="1"/>
                      <a:pt x="7638" y="1"/>
                    </a:cubicBezTo>
                    <a:close/>
                    <a:moveTo>
                      <a:pt x="7646" y="1"/>
                    </a:moveTo>
                    <a:lnTo>
                      <a:pt x="7646" y="1"/>
                    </a:lnTo>
                    <a:cubicBezTo>
                      <a:pt x="7647" y="1"/>
                      <a:pt x="7648" y="2"/>
                      <a:pt x="7648" y="3"/>
                    </a:cubicBezTo>
                    <a:cubicBezTo>
                      <a:pt x="7648" y="4"/>
                      <a:pt x="7647" y="5"/>
                      <a:pt x="7646" y="5"/>
                    </a:cubicBezTo>
                    <a:lnTo>
                      <a:pt x="7646" y="5"/>
                    </a:lnTo>
                    <a:cubicBezTo>
                      <a:pt x="7644" y="5"/>
                      <a:pt x="7644" y="4"/>
                      <a:pt x="7644" y="3"/>
                    </a:cubicBezTo>
                    <a:cubicBezTo>
                      <a:pt x="7644" y="2"/>
                      <a:pt x="7644" y="1"/>
                      <a:pt x="7646" y="1"/>
                    </a:cubicBezTo>
                    <a:close/>
                    <a:moveTo>
                      <a:pt x="7654" y="1"/>
                    </a:moveTo>
                    <a:lnTo>
                      <a:pt x="7654" y="1"/>
                    </a:lnTo>
                    <a:cubicBezTo>
                      <a:pt x="7655" y="1"/>
                      <a:pt x="7656" y="2"/>
                      <a:pt x="7656" y="3"/>
                    </a:cubicBezTo>
                    <a:cubicBezTo>
                      <a:pt x="7656" y="4"/>
                      <a:pt x="7655" y="5"/>
                      <a:pt x="7654" y="5"/>
                    </a:cubicBezTo>
                    <a:lnTo>
                      <a:pt x="7654" y="5"/>
                    </a:lnTo>
                    <a:cubicBezTo>
                      <a:pt x="7652" y="5"/>
                      <a:pt x="7652" y="4"/>
                      <a:pt x="7652" y="3"/>
                    </a:cubicBezTo>
                    <a:cubicBezTo>
                      <a:pt x="7652" y="2"/>
                      <a:pt x="7652" y="1"/>
                      <a:pt x="7654" y="1"/>
                    </a:cubicBezTo>
                    <a:close/>
                    <a:moveTo>
                      <a:pt x="7662" y="1"/>
                    </a:moveTo>
                    <a:lnTo>
                      <a:pt x="7662" y="1"/>
                    </a:lnTo>
                    <a:cubicBezTo>
                      <a:pt x="7663" y="1"/>
                      <a:pt x="7664" y="2"/>
                      <a:pt x="7664" y="3"/>
                    </a:cubicBezTo>
                    <a:cubicBezTo>
                      <a:pt x="7664" y="4"/>
                      <a:pt x="7663" y="5"/>
                      <a:pt x="7662" y="5"/>
                    </a:cubicBezTo>
                    <a:lnTo>
                      <a:pt x="7662" y="5"/>
                    </a:lnTo>
                    <a:cubicBezTo>
                      <a:pt x="7660" y="5"/>
                      <a:pt x="7660" y="4"/>
                      <a:pt x="7660" y="3"/>
                    </a:cubicBezTo>
                    <a:cubicBezTo>
                      <a:pt x="7660" y="2"/>
                      <a:pt x="7660" y="1"/>
                      <a:pt x="7662" y="1"/>
                    </a:cubicBezTo>
                    <a:close/>
                    <a:moveTo>
                      <a:pt x="7670" y="1"/>
                    </a:moveTo>
                    <a:lnTo>
                      <a:pt x="7670" y="1"/>
                    </a:lnTo>
                    <a:cubicBezTo>
                      <a:pt x="7671" y="1"/>
                      <a:pt x="7672" y="2"/>
                      <a:pt x="7672" y="3"/>
                    </a:cubicBezTo>
                    <a:cubicBezTo>
                      <a:pt x="7672" y="4"/>
                      <a:pt x="7671" y="5"/>
                      <a:pt x="7670" y="5"/>
                    </a:cubicBezTo>
                    <a:lnTo>
                      <a:pt x="7670" y="5"/>
                    </a:lnTo>
                    <a:cubicBezTo>
                      <a:pt x="7668" y="5"/>
                      <a:pt x="7668" y="4"/>
                      <a:pt x="7668" y="3"/>
                    </a:cubicBezTo>
                    <a:cubicBezTo>
                      <a:pt x="7668" y="2"/>
                      <a:pt x="7668" y="1"/>
                      <a:pt x="7670" y="1"/>
                    </a:cubicBezTo>
                    <a:close/>
                    <a:moveTo>
                      <a:pt x="7678" y="1"/>
                    </a:moveTo>
                    <a:lnTo>
                      <a:pt x="7678" y="1"/>
                    </a:lnTo>
                    <a:cubicBezTo>
                      <a:pt x="7679" y="1"/>
                      <a:pt x="7680" y="2"/>
                      <a:pt x="7680" y="3"/>
                    </a:cubicBezTo>
                    <a:cubicBezTo>
                      <a:pt x="7680" y="4"/>
                      <a:pt x="7679" y="5"/>
                      <a:pt x="7678" y="5"/>
                    </a:cubicBezTo>
                    <a:lnTo>
                      <a:pt x="7678" y="5"/>
                    </a:lnTo>
                    <a:cubicBezTo>
                      <a:pt x="7676" y="5"/>
                      <a:pt x="7676" y="4"/>
                      <a:pt x="7676" y="3"/>
                    </a:cubicBezTo>
                    <a:cubicBezTo>
                      <a:pt x="7676" y="2"/>
                      <a:pt x="7676" y="1"/>
                      <a:pt x="7678" y="1"/>
                    </a:cubicBezTo>
                    <a:close/>
                    <a:moveTo>
                      <a:pt x="7686" y="1"/>
                    </a:moveTo>
                    <a:lnTo>
                      <a:pt x="7686" y="1"/>
                    </a:lnTo>
                    <a:cubicBezTo>
                      <a:pt x="7687" y="1"/>
                      <a:pt x="7688" y="2"/>
                      <a:pt x="7688" y="3"/>
                    </a:cubicBezTo>
                    <a:cubicBezTo>
                      <a:pt x="7688" y="4"/>
                      <a:pt x="7687" y="5"/>
                      <a:pt x="7686" y="5"/>
                    </a:cubicBezTo>
                    <a:lnTo>
                      <a:pt x="7686" y="5"/>
                    </a:lnTo>
                    <a:cubicBezTo>
                      <a:pt x="7684" y="5"/>
                      <a:pt x="7684" y="4"/>
                      <a:pt x="7684" y="3"/>
                    </a:cubicBezTo>
                    <a:cubicBezTo>
                      <a:pt x="7684" y="2"/>
                      <a:pt x="7684" y="1"/>
                      <a:pt x="7686" y="1"/>
                    </a:cubicBezTo>
                    <a:close/>
                    <a:moveTo>
                      <a:pt x="7694" y="1"/>
                    </a:moveTo>
                    <a:lnTo>
                      <a:pt x="7694" y="1"/>
                    </a:lnTo>
                    <a:cubicBezTo>
                      <a:pt x="7695" y="1"/>
                      <a:pt x="7696" y="2"/>
                      <a:pt x="7696" y="3"/>
                    </a:cubicBezTo>
                    <a:cubicBezTo>
                      <a:pt x="7696" y="4"/>
                      <a:pt x="7695" y="5"/>
                      <a:pt x="7694" y="5"/>
                    </a:cubicBezTo>
                    <a:lnTo>
                      <a:pt x="7694" y="5"/>
                    </a:lnTo>
                    <a:cubicBezTo>
                      <a:pt x="7692" y="5"/>
                      <a:pt x="7692" y="4"/>
                      <a:pt x="7692" y="3"/>
                    </a:cubicBezTo>
                    <a:cubicBezTo>
                      <a:pt x="7692" y="2"/>
                      <a:pt x="7692" y="1"/>
                      <a:pt x="7694" y="1"/>
                    </a:cubicBezTo>
                    <a:close/>
                    <a:moveTo>
                      <a:pt x="7702" y="1"/>
                    </a:moveTo>
                    <a:lnTo>
                      <a:pt x="7702" y="1"/>
                    </a:lnTo>
                    <a:cubicBezTo>
                      <a:pt x="7703" y="1"/>
                      <a:pt x="7704" y="2"/>
                      <a:pt x="7704" y="3"/>
                    </a:cubicBezTo>
                    <a:cubicBezTo>
                      <a:pt x="7704" y="4"/>
                      <a:pt x="7703" y="5"/>
                      <a:pt x="7702" y="5"/>
                    </a:cubicBezTo>
                    <a:lnTo>
                      <a:pt x="7702" y="5"/>
                    </a:lnTo>
                    <a:cubicBezTo>
                      <a:pt x="7700" y="5"/>
                      <a:pt x="7700" y="4"/>
                      <a:pt x="7700" y="3"/>
                    </a:cubicBezTo>
                    <a:cubicBezTo>
                      <a:pt x="7700" y="2"/>
                      <a:pt x="7700" y="1"/>
                      <a:pt x="7702" y="1"/>
                    </a:cubicBezTo>
                    <a:close/>
                    <a:moveTo>
                      <a:pt x="7710" y="1"/>
                    </a:moveTo>
                    <a:lnTo>
                      <a:pt x="7710" y="1"/>
                    </a:lnTo>
                    <a:cubicBezTo>
                      <a:pt x="7711" y="1"/>
                      <a:pt x="7712" y="2"/>
                      <a:pt x="7712" y="3"/>
                    </a:cubicBezTo>
                    <a:cubicBezTo>
                      <a:pt x="7712" y="4"/>
                      <a:pt x="7711" y="5"/>
                      <a:pt x="7710" y="5"/>
                    </a:cubicBezTo>
                    <a:lnTo>
                      <a:pt x="7710" y="5"/>
                    </a:lnTo>
                    <a:cubicBezTo>
                      <a:pt x="7708" y="5"/>
                      <a:pt x="7708" y="4"/>
                      <a:pt x="7708" y="3"/>
                    </a:cubicBezTo>
                    <a:cubicBezTo>
                      <a:pt x="7708" y="2"/>
                      <a:pt x="7708" y="1"/>
                      <a:pt x="7710" y="1"/>
                    </a:cubicBezTo>
                    <a:close/>
                    <a:moveTo>
                      <a:pt x="7718" y="1"/>
                    </a:moveTo>
                    <a:lnTo>
                      <a:pt x="7718" y="1"/>
                    </a:lnTo>
                    <a:cubicBezTo>
                      <a:pt x="7719" y="1"/>
                      <a:pt x="7720" y="2"/>
                      <a:pt x="7720" y="3"/>
                    </a:cubicBezTo>
                    <a:cubicBezTo>
                      <a:pt x="7720" y="4"/>
                      <a:pt x="7719" y="5"/>
                      <a:pt x="7718" y="5"/>
                    </a:cubicBezTo>
                    <a:lnTo>
                      <a:pt x="7718" y="5"/>
                    </a:lnTo>
                    <a:cubicBezTo>
                      <a:pt x="7716" y="5"/>
                      <a:pt x="7716" y="4"/>
                      <a:pt x="7716" y="3"/>
                    </a:cubicBezTo>
                    <a:cubicBezTo>
                      <a:pt x="7716" y="2"/>
                      <a:pt x="7716" y="1"/>
                      <a:pt x="7718" y="1"/>
                    </a:cubicBezTo>
                    <a:close/>
                    <a:moveTo>
                      <a:pt x="7726" y="1"/>
                    </a:moveTo>
                    <a:lnTo>
                      <a:pt x="7726" y="1"/>
                    </a:lnTo>
                    <a:cubicBezTo>
                      <a:pt x="7727" y="1"/>
                      <a:pt x="7728" y="2"/>
                      <a:pt x="7728" y="3"/>
                    </a:cubicBezTo>
                    <a:cubicBezTo>
                      <a:pt x="7728" y="4"/>
                      <a:pt x="7727" y="5"/>
                      <a:pt x="7726" y="5"/>
                    </a:cubicBezTo>
                    <a:lnTo>
                      <a:pt x="7726" y="5"/>
                    </a:lnTo>
                    <a:cubicBezTo>
                      <a:pt x="7724" y="5"/>
                      <a:pt x="7724" y="4"/>
                      <a:pt x="7724" y="3"/>
                    </a:cubicBezTo>
                    <a:cubicBezTo>
                      <a:pt x="7724" y="2"/>
                      <a:pt x="7724" y="1"/>
                      <a:pt x="7726" y="1"/>
                    </a:cubicBezTo>
                    <a:close/>
                    <a:moveTo>
                      <a:pt x="7734" y="1"/>
                    </a:moveTo>
                    <a:lnTo>
                      <a:pt x="7734" y="1"/>
                    </a:lnTo>
                    <a:cubicBezTo>
                      <a:pt x="7735" y="1"/>
                      <a:pt x="7736" y="2"/>
                      <a:pt x="7736" y="3"/>
                    </a:cubicBezTo>
                    <a:cubicBezTo>
                      <a:pt x="7736" y="4"/>
                      <a:pt x="7735" y="5"/>
                      <a:pt x="7734" y="5"/>
                    </a:cubicBezTo>
                    <a:lnTo>
                      <a:pt x="7734" y="5"/>
                    </a:lnTo>
                    <a:cubicBezTo>
                      <a:pt x="7732" y="5"/>
                      <a:pt x="7732" y="4"/>
                      <a:pt x="7732" y="3"/>
                    </a:cubicBezTo>
                    <a:cubicBezTo>
                      <a:pt x="7732" y="2"/>
                      <a:pt x="7732" y="1"/>
                      <a:pt x="7734" y="1"/>
                    </a:cubicBezTo>
                    <a:close/>
                    <a:moveTo>
                      <a:pt x="7742" y="1"/>
                    </a:moveTo>
                    <a:lnTo>
                      <a:pt x="7742" y="1"/>
                    </a:lnTo>
                    <a:cubicBezTo>
                      <a:pt x="7743" y="1"/>
                      <a:pt x="7744" y="2"/>
                      <a:pt x="7744" y="3"/>
                    </a:cubicBezTo>
                    <a:cubicBezTo>
                      <a:pt x="7744" y="4"/>
                      <a:pt x="7743" y="5"/>
                      <a:pt x="7742" y="5"/>
                    </a:cubicBezTo>
                    <a:lnTo>
                      <a:pt x="7742" y="5"/>
                    </a:lnTo>
                    <a:cubicBezTo>
                      <a:pt x="7740" y="5"/>
                      <a:pt x="7740" y="4"/>
                      <a:pt x="7740" y="3"/>
                    </a:cubicBezTo>
                    <a:cubicBezTo>
                      <a:pt x="7740" y="2"/>
                      <a:pt x="7740" y="1"/>
                      <a:pt x="7742" y="1"/>
                    </a:cubicBezTo>
                    <a:close/>
                    <a:moveTo>
                      <a:pt x="7750" y="1"/>
                    </a:moveTo>
                    <a:lnTo>
                      <a:pt x="7750" y="1"/>
                    </a:lnTo>
                    <a:cubicBezTo>
                      <a:pt x="7751" y="1"/>
                      <a:pt x="7752" y="2"/>
                      <a:pt x="7752" y="3"/>
                    </a:cubicBezTo>
                    <a:cubicBezTo>
                      <a:pt x="7752" y="4"/>
                      <a:pt x="7751" y="5"/>
                      <a:pt x="7750" y="5"/>
                    </a:cubicBezTo>
                    <a:lnTo>
                      <a:pt x="7750" y="5"/>
                    </a:lnTo>
                    <a:cubicBezTo>
                      <a:pt x="7748" y="5"/>
                      <a:pt x="7748" y="4"/>
                      <a:pt x="7748" y="3"/>
                    </a:cubicBezTo>
                    <a:cubicBezTo>
                      <a:pt x="7748" y="2"/>
                      <a:pt x="7748" y="1"/>
                      <a:pt x="7750" y="1"/>
                    </a:cubicBezTo>
                    <a:close/>
                    <a:moveTo>
                      <a:pt x="7758" y="1"/>
                    </a:moveTo>
                    <a:lnTo>
                      <a:pt x="7758" y="1"/>
                    </a:lnTo>
                    <a:cubicBezTo>
                      <a:pt x="7759" y="1"/>
                      <a:pt x="7760" y="2"/>
                      <a:pt x="7760" y="3"/>
                    </a:cubicBezTo>
                    <a:cubicBezTo>
                      <a:pt x="7760" y="4"/>
                      <a:pt x="7759" y="5"/>
                      <a:pt x="7758" y="5"/>
                    </a:cubicBezTo>
                    <a:lnTo>
                      <a:pt x="7758" y="5"/>
                    </a:lnTo>
                    <a:cubicBezTo>
                      <a:pt x="7757" y="5"/>
                      <a:pt x="7756" y="4"/>
                      <a:pt x="7756" y="3"/>
                    </a:cubicBezTo>
                    <a:cubicBezTo>
                      <a:pt x="7756" y="2"/>
                      <a:pt x="7757" y="1"/>
                      <a:pt x="7758" y="1"/>
                    </a:cubicBezTo>
                    <a:close/>
                    <a:moveTo>
                      <a:pt x="7766" y="1"/>
                    </a:moveTo>
                    <a:lnTo>
                      <a:pt x="7766" y="1"/>
                    </a:lnTo>
                    <a:cubicBezTo>
                      <a:pt x="7767" y="1"/>
                      <a:pt x="7768" y="2"/>
                      <a:pt x="7768" y="3"/>
                    </a:cubicBezTo>
                    <a:cubicBezTo>
                      <a:pt x="7768" y="4"/>
                      <a:pt x="7767" y="5"/>
                      <a:pt x="7766" y="5"/>
                    </a:cubicBezTo>
                    <a:lnTo>
                      <a:pt x="7766" y="5"/>
                    </a:lnTo>
                    <a:cubicBezTo>
                      <a:pt x="7765" y="5"/>
                      <a:pt x="7764" y="4"/>
                      <a:pt x="7764" y="3"/>
                    </a:cubicBezTo>
                    <a:cubicBezTo>
                      <a:pt x="7764" y="2"/>
                      <a:pt x="7765" y="1"/>
                      <a:pt x="7766" y="1"/>
                    </a:cubicBezTo>
                    <a:close/>
                    <a:moveTo>
                      <a:pt x="7774" y="1"/>
                    </a:moveTo>
                    <a:lnTo>
                      <a:pt x="7774" y="1"/>
                    </a:lnTo>
                    <a:cubicBezTo>
                      <a:pt x="7775" y="1"/>
                      <a:pt x="7776" y="2"/>
                      <a:pt x="7776" y="3"/>
                    </a:cubicBezTo>
                    <a:cubicBezTo>
                      <a:pt x="7776" y="4"/>
                      <a:pt x="7775" y="5"/>
                      <a:pt x="7774" y="5"/>
                    </a:cubicBezTo>
                    <a:lnTo>
                      <a:pt x="7774" y="5"/>
                    </a:lnTo>
                    <a:cubicBezTo>
                      <a:pt x="7773" y="5"/>
                      <a:pt x="7772" y="4"/>
                      <a:pt x="7772" y="3"/>
                    </a:cubicBezTo>
                    <a:cubicBezTo>
                      <a:pt x="7772" y="2"/>
                      <a:pt x="7773" y="1"/>
                      <a:pt x="7774" y="1"/>
                    </a:cubicBezTo>
                    <a:close/>
                    <a:moveTo>
                      <a:pt x="7782" y="1"/>
                    </a:moveTo>
                    <a:lnTo>
                      <a:pt x="7782" y="1"/>
                    </a:lnTo>
                    <a:cubicBezTo>
                      <a:pt x="7783" y="1"/>
                      <a:pt x="7784" y="2"/>
                      <a:pt x="7784" y="3"/>
                    </a:cubicBezTo>
                    <a:cubicBezTo>
                      <a:pt x="7784" y="4"/>
                      <a:pt x="7783" y="5"/>
                      <a:pt x="7782" y="5"/>
                    </a:cubicBezTo>
                    <a:lnTo>
                      <a:pt x="7782" y="5"/>
                    </a:lnTo>
                    <a:cubicBezTo>
                      <a:pt x="7781" y="5"/>
                      <a:pt x="7780" y="4"/>
                      <a:pt x="7780" y="3"/>
                    </a:cubicBezTo>
                    <a:cubicBezTo>
                      <a:pt x="7780" y="2"/>
                      <a:pt x="7781" y="1"/>
                      <a:pt x="7782" y="1"/>
                    </a:cubicBezTo>
                    <a:close/>
                    <a:moveTo>
                      <a:pt x="7790" y="1"/>
                    </a:moveTo>
                    <a:lnTo>
                      <a:pt x="7790" y="1"/>
                    </a:lnTo>
                    <a:cubicBezTo>
                      <a:pt x="7791" y="1"/>
                      <a:pt x="7792" y="2"/>
                      <a:pt x="7792" y="3"/>
                    </a:cubicBezTo>
                    <a:cubicBezTo>
                      <a:pt x="7792" y="4"/>
                      <a:pt x="7791" y="5"/>
                      <a:pt x="7790" y="5"/>
                    </a:cubicBezTo>
                    <a:lnTo>
                      <a:pt x="7790" y="5"/>
                    </a:lnTo>
                    <a:cubicBezTo>
                      <a:pt x="7789" y="5"/>
                      <a:pt x="7788" y="4"/>
                      <a:pt x="7788" y="3"/>
                    </a:cubicBezTo>
                    <a:cubicBezTo>
                      <a:pt x="7788" y="2"/>
                      <a:pt x="7789" y="1"/>
                      <a:pt x="7790" y="1"/>
                    </a:cubicBezTo>
                    <a:close/>
                    <a:moveTo>
                      <a:pt x="7798" y="1"/>
                    </a:moveTo>
                    <a:lnTo>
                      <a:pt x="7798" y="1"/>
                    </a:lnTo>
                    <a:cubicBezTo>
                      <a:pt x="7799" y="1"/>
                      <a:pt x="7800" y="2"/>
                      <a:pt x="7800" y="3"/>
                    </a:cubicBezTo>
                    <a:cubicBezTo>
                      <a:pt x="7800" y="4"/>
                      <a:pt x="7799" y="5"/>
                      <a:pt x="7798" y="5"/>
                    </a:cubicBezTo>
                    <a:lnTo>
                      <a:pt x="7798" y="5"/>
                    </a:lnTo>
                    <a:cubicBezTo>
                      <a:pt x="7797" y="5"/>
                      <a:pt x="7796" y="4"/>
                      <a:pt x="7796" y="3"/>
                    </a:cubicBezTo>
                    <a:cubicBezTo>
                      <a:pt x="7796" y="2"/>
                      <a:pt x="7797" y="1"/>
                      <a:pt x="7798" y="1"/>
                    </a:cubicBezTo>
                    <a:close/>
                    <a:moveTo>
                      <a:pt x="7806" y="1"/>
                    </a:moveTo>
                    <a:lnTo>
                      <a:pt x="7806" y="1"/>
                    </a:lnTo>
                    <a:cubicBezTo>
                      <a:pt x="7807" y="1"/>
                      <a:pt x="7808" y="2"/>
                      <a:pt x="7808" y="3"/>
                    </a:cubicBezTo>
                    <a:cubicBezTo>
                      <a:pt x="7808" y="4"/>
                      <a:pt x="7807" y="5"/>
                      <a:pt x="7806" y="5"/>
                    </a:cubicBezTo>
                    <a:lnTo>
                      <a:pt x="7806" y="5"/>
                    </a:lnTo>
                    <a:cubicBezTo>
                      <a:pt x="7805" y="5"/>
                      <a:pt x="7804" y="4"/>
                      <a:pt x="7804" y="3"/>
                    </a:cubicBezTo>
                    <a:cubicBezTo>
                      <a:pt x="7804" y="2"/>
                      <a:pt x="7805" y="1"/>
                      <a:pt x="7806" y="1"/>
                    </a:cubicBezTo>
                    <a:close/>
                    <a:moveTo>
                      <a:pt x="7814" y="1"/>
                    </a:moveTo>
                    <a:lnTo>
                      <a:pt x="7814" y="1"/>
                    </a:lnTo>
                    <a:cubicBezTo>
                      <a:pt x="7815" y="1"/>
                      <a:pt x="7816" y="2"/>
                      <a:pt x="7816" y="3"/>
                    </a:cubicBezTo>
                    <a:cubicBezTo>
                      <a:pt x="7816" y="4"/>
                      <a:pt x="7815" y="5"/>
                      <a:pt x="7814" y="5"/>
                    </a:cubicBezTo>
                    <a:lnTo>
                      <a:pt x="7814" y="5"/>
                    </a:lnTo>
                    <a:cubicBezTo>
                      <a:pt x="7813" y="5"/>
                      <a:pt x="7812" y="4"/>
                      <a:pt x="7812" y="3"/>
                    </a:cubicBezTo>
                    <a:cubicBezTo>
                      <a:pt x="7812" y="2"/>
                      <a:pt x="7813" y="1"/>
                      <a:pt x="7814" y="1"/>
                    </a:cubicBezTo>
                    <a:close/>
                    <a:moveTo>
                      <a:pt x="7822" y="1"/>
                    </a:moveTo>
                    <a:lnTo>
                      <a:pt x="7822" y="1"/>
                    </a:lnTo>
                    <a:cubicBezTo>
                      <a:pt x="7823" y="1"/>
                      <a:pt x="7824" y="2"/>
                      <a:pt x="7824" y="3"/>
                    </a:cubicBezTo>
                    <a:cubicBezTo>
                      <a:pt x="7824" y="4"/>
                      <a:pt x="7823" y="5"/>
                      <a:pt x="7822" y="5"/>
                    </a:cubicBezTo>
                    <a:lnTo>
                      <a:pt x="7822" y="5"/>
                    </a:lnTo>
                    <a:cubicBezTo>
                      <a:pt x="7821" y="5"/>
                      <a:pt x="7820" y="4"/>
                      <a:pt x="7820" y="3"/>
                    </a:cubicBezTo>
                    <a:cubicBezTo>
                      <a:pt x="7820" y="2"/>
                      <a:pt x="7821" y="1"/>
                      <a:pt x="7822" y="1"/>
                    </a:cubicBezTo>
                    <a:close/>
                    <a:moveTo>
                      <a:pt x="7830" y="1"/>
                    </a:moveTo>
                    <a:lnTo>
                      <a:pt x="7830" y="1"/>
                    </a:lnTo>
                    <a:cubicBezTo>
                      <a:pt x="7831" y="1"/>
                      <a:pt x="7832" y="2"/>
                      <a:pt x="7832" y="3"/>
                    </a:cubicBezTo>
                    <a:cubicBezTo>
                      <a:pt x="7832" y="4"/>
                      <a:pt x="7831" y="5"/>
                      <a:pt x="7830" y="5"/>
                    </a:cubicBezTo>
                    <a:lnTo>
                      <a:pt x="7830" y="5"/>
                    </a:lnTo>
                    <a:cubicBezTo>
                      <a:pt x="7829" y="5"/>
                      <a:pt x="7828" y="4"/>
                      <a:pt x="7828" y="3"/>
                    </a:cubicBezTo>
                    <a:cubicBezTo>
                      <a:pt x="7828" y="2"/>
                      <a:pt x="7829" y="1"/>
                      <a:pt x="7830" y="1"/>
                    </a:cubicBezTo>
                    <a:close/>
                    <a:moveTo>
                      <a:pt x="7838" y="1"/>
                    </a:moveTo>
                    <a:lnTo>
                      <a:pt x="7838" y="1"/>
                    </a:lnTo>
                    <a:cubicBezTo>
                      <a:pt x="7839" y="1"/>
                      <a:pt x="7840" y="2"/>
                      <a:pt x="7840" y="3"/>
                    </a:cubicBezTo>
                    <a:cubicBezTo>
                      <a:pt x="7840" y="4"/>
                      <a:pt x="7839" y="5"/>
                      <a:pt x="7838" y="5"/>
                    </a:cubicBezTo>
                    <a:lnTo>
                      <a:pt x="7838" y="5"/>
                    </a:lnTo>
                    <a:cubicBezTo>
                      <a:pt x="7837" y="5"/>
                      <a:pt x="7836" y="4"/>
                      <a:pt x="7836" y="3"/>
                    </a:cubicBezTo>
                    <a:cubicBezTo>
                      <a:pt x="7836" y="2"/>
                      <a:pt x="7837" y="1"/>
                      <a:pt x="7838" y="1"/>
                    </a:cubicBezTo>
                    <a:close/>
                    <a:moveTo>
                      <a:pt x="7846" y="1"/>
                    </a:moveTo>
                    <a:lnTo>
                      <a:pt x="7846" y="1"/>
                    </a:lnTo>
                    <a:cubicBezTo>
                      <a:pt x="7847" y="1"/>
                      <a:pt x="7848" y="2"/>
                      <a:pt x="7848" y="3"/>
                    </a:cubicBezTo>
                    <a:cubicBezTo>
                      <a:pt x="7848" y="4"/>
                      <a:pt x="7847" y="5"/>
                      <a:pt x="7846" y="5"/>
                    </a:cubicBezTo>
                    <a:lnTo>
                      <a:pt x="7846" y="5"/>
                    </a:lnTo>
                    <a:cubicBezTo>
                      <a:pt x="7845" y="5"/>
                      <a:pt x="7844" y="4"/>
                      <a:pt x="7844" y="3"/>
                    </a:cubicBezTo>
                    <a:cubicBezTo>
                      <a:pt x="7844" y="2"/>
                      <a:pt x="7845" y="1"/>
                      <a:pt x="7846" y="1"/>
                    </a:cubicBezTo>
                    <a:close/>
                    <a:moveTo>
                      <a:pt x="7854" y="1"/>
                    </a:moveTo>
                    <a:lnTo>
                      <a:pt x="7854" y="1"/>
                    </a:lnTo>
                    <a:cubicBezTo>
                      <a:pt x="7855" y="1"/>
                      <a:pt x="7856" y="2"/>
                      <a:pt x="7856" y="3"/>
                    </a:cubicBezTo>
                    <a:cubicBezTo>
                      <a:pt x="7856" y="4"/>
                      <a:pt x="7855" y="5"/>
                      <a:pt x="7854" y="5"/>
                    </a:cubicBezTo>
                    <a:lnTo>
                      <a:pt x="7854" y="5"/>
                    </a:lnTo>
                    <a:cubicBezTo>
                      <a:pt x="7853" y="5"/>
                      <a:pt x="7852" y="4"/>
                      <a:pt x="7852" y="3"/>
                    </a:cubicBezTo>
                    <a:cubicBezTo>
                      <a:pt x="7852" y="2"/>
                      <a:pt x="7853" y="1"/>
                      <a:pt x="7854" y="1"/>
                    </a:cubicBezTo>
                    <a:close/>
                    <a:moveTo>
                      <a:pt x="7862" y="1"/>
                    </a:moveTo>
                    <a:lnTo>
                      <a:pt x="7862" y="1"/>
                    </a:lnTo>
                    <a:cubicBezTo>
                      <a:pt x="7863" y="1"/>
                      <a:pt x="7864" y="2"/>
                      <a:pt x="7864" y="3"/>
                    </a:cubicBezTo>
                    <a:cubicBezTo>
                      <a:pt x="7864" y="4"/>
                      <a:pt x="7863" y="5"/>
                      <a:pt x="7862" y="5"/>
                    </a:cubicBezTo>
                    <a:lnTo>
                      <a:pt x="7862" y="5"/>
                    </a:lnTo>
                    <a:cubicBezTo>
                      <a:pt x="7861" y="5"/>
                      <a:pt x="7860" y="4"/>
                      <a:pt x="7860" y="3"/>
                    </a:cubicBezTo>
                    <a:cubicBezTo>
                      <a:pt x="7860" y="2"/>
                      <a:pt x="7861" y="1"/>
                      <a:pt x="7862" y="1"/>
                    </a:cubicBezTo>
                    <a:close/>
                    <a:moveTo>
                      <a:pt x="7870" y="1"/>
                    </a:moveTo>
                    <a:lnTo>
                      <a:pt x="7870" y="1"/>
                    </a:lnTo>
                    <a:cubicBezTo>
                      <a:pt x="7871" y="1"/>
                      <a:pt x="7872" y="2"/>
                      <a:pt x="7872" y="3"/>
                    </a:cubicBezTo>
                    <a:cubicBezTo>
                      <a:pt x="7872" y="4"/>
                      <a:pt x="7871" y="5"/>
                      <a:pt x="7870" y="5"/>
                    </a:cubicBezTo>
                    <a:lnTo>
                      <a:pt x="7870" y="5"/>
                    </a:lnTo>
                    <a:cubicBezTo>
                      <a:pt x="7869" y="5"/>
                      <a:pt x="7868" y="4"/>
                      <a:pt x="7868" y="3"/>
                    </a:cubicBezTo>
                    <a:cubicBezTo>
                      <a:pt x="7868" y="2"/>
                      <a:pt x="7869" y="1"/>
                      <a:pt x="7870" y="1"/>
                    </a:cubicBezTo>
                    <a:close/>
                    <a:moveTo>
                      <a:pt x="7878" y="1"/>
                    </a:moveTo>
                    <a:lnTo>
                      <a:pt x="7878" y="1"/>
                    </a:lnTo>
                    <a:cubicBezTo>
                      <a:pt x="7879" y="1"/>
                      <a:pt x="7880" y="2"/>
                      <a:pt x="7880" y="3"/>
                    </a:cubicBezTo>
                    <a:cubicBezTo>
                      <a:pt x="7880" y="4"/>
                      <a:pt x="7879" y="5"/>
                      <a:pt x="7878" y="5"/>
                    </a:cubicBezTo>
                    <a:lnTo>
                      <a:pt x="7878" y="5"/>
                    </a:lnTo>
                    <a:cubicBezTo>
                      <a:pt x="7877" y="5"/>
                      <a:pt x="7876" y="4"/>
                      <a:pt x="7876" y="3"/>
                    </a:cubicBezTo>
                    <a:cubicBezTo>
                      <a:pt x="7876" y="2"/>
                      <a:pt x="7877" y="1"/>
                      <a:pt x="7878" y="1"/>
                    </a:cubicBezTo>
                    <a:close/>
                    <a:moveTo>
                      <a:pt x="7886" y="1"/>
                    </a:moveTo>
                    <a:lnTo>
                      <a:pt x="7886" y="1"/>
                    </a:lnTo>
                    <a:cubicBezTo>
                      <a:pt x="7887" y="1"/>
                      <a:pt x="7888" y="2"/>
                      <a:pt x="7888" y="3"/>
                    </a:cubicBezTo>
                    <a:cubicBezTo>
                      <a:pt x="7888" y="4"/>
                      <a:pt x="7887" y="5"/>
                      <a:pt x="7886" y="5"/>
                    </a:cubicBezTo>
                    <a:lnTo>
                      <a:pt x="7886" y="5"/>
                    </a:lnTo>
                    <a:cubicBezTo>
                      <a:pt x="7885" y="5"/>
                      <a:pt x="7884" y="4"/>
                      <a:pt x="7884" y="3"/>
                    </a:cubicBezTo>
                    <a:cubicBezTo>
                      <a:pt x="7884" y="2"/>
                      <a:pt x="7885" y="1"/>
                      <a:pt x="7886" y="1"/>
                    </a:cubicBezTo>
                    <a:close/>
                    <a:moveTo>
                      <a:pt x="7894" y="1"/>
                    </a:moveTo>
                    <a:lnTo>
                      <a:pt x="7894" y="1"/>
                    </a:lnTo>
                    <a:cubicBezTo>
                      <a:pt x="7895" y="1"/>
                      <a:pt x="7896" y="2"/>
                      <a:pt x="7896" y="3"/>
                    </a:cubicBezTo>
                    <a:cubicBezTo>
                      <a:pt x="7896" y="4"/>
                      <a:pt x="7895" y="5"/>
                      <a:pt x="7894" y="5"/>
                    </a:cubicBezTo>
                    <a:lnTo>
                      <a:pt x="7894" y="5"/>
                    </a:lnTo>
                    <a:cubicBezTo>
                      <a:pt x="7893" y="5"/>
                      <a:pt x="7892" y="4"/>
                      <a:pt x="7892" y="3"/>
                    </a:cubicBezTo>
                    <a:cubicBezTo>
                      <a:pt x="7892" y="2"/>
                      <a:pt x="7893" y="1"/>
                      <a:pt x="7894" y="1"/>
                    </a:cubicBezTo>
                    <a:close/>
                    <a:moveTo>
                      <a:pt x="7902" y="1"/>
                    </a:moveTo>
                    <a:lnTo>
                      <a:pt x="7902" y="1"/>
                    </a:lnTo>
                    <a:cubicBezTo>
                      <a:pt x="7903" y="1"/>
                      <a:pt x="7904" y="2"/>
                      <a:pt x="7904" y="3"/>
                    </a:cubicBezTo>
                    <a:cubicBezTo>
                      <a:pt x="7904" y="4"/>
                      <a:pt x="7903" y="5"/>
                      <a:pt x="7902" y="5"/>
                    </a:cubicBezTo>
                    <a:lnTo>
                      <a:pt x="7902" y="5"/>
                    </a:lnTo>
                    <a:cubicBezTo>
                      <a:pt x="7901" y="5"/>
                      <a:pt x="7900" y="4"/>
                      <a:pt x="7900" y="3"/>
                    </a:cubicBezTo>
                    <a:cubicBezTo>
                      <a:pt x="7900" y="2"/>
                      <a:pt x="7901" y="1"/>
                      <a:pt x="7902" y="1"/>
                    </a:cubicBezTo>
                    <a:close/>
                    <a:moveTo>
                      <a:pt x="7910" y="1"/>
                    </a:moveTo>
                    <a:lnTo>
                      <a:pt x="7910" y="1"/>
                    </a:lnTo>
                    <a:cubicBezTo>
                      <a:pt x="7911" y="1"/>
                      <a:pt x="7912" y="2"/>
                      <a:pt x="7912" y="3"/>
                    </a:cubicBezTo>
                    <a:cubicBezTo>
                      <a:pt x="7912" y="4"/>
                      <a:pt x="7911" y="5"/>
                      <a:pt x="7910" y="5"/>
                    </a:cubicBezTo>
                    <a:lnTo>
                      <a:pt x="7910" y="5"/>
                    </a:lnTo>
                    <a:cubicBezTo>
                      <a:pt x="7909" y="5"/>
                      <a:pt x="7908" y="4"/>
                      <a:pt x="7908" y="3"/>
                    </a:cubicBezTo>
                    <a:cubicBezTo>
                      <a:pt x="7908" y="2"/>
                      <a:pt x="7909" y="1"/>
                      <a:pt x="7910" y="1"/>
                    </a:cubicBezTo>
                    <a:close/>
                    <a:moveTo>
                      <a:pt x="7918" y="1"/>
                    </a:moveTo>
                    <a:lnTo>
                      <a:pt x="7918" y="1"/>
                    </a:lnTo>
                    <a:cubicBezTo>
                      <a:pt x="7919" y="1"/>
                      <a:pt x="7920" y="2"/>
                      <a:pt x="7920" y="3"/>
                    </a:cubicBezTo>
                    <a:cubicBezTo>
                      <a:pt x="7920" y="4"/>
                      <a:pt x="7919" y="5"/>
                      <a:pt x="7918" y="5"/>
                    </a:cubicBezTo>
                    <a:lnTo>
                      <a:pt x="7918" y="5"/>
                    </a:lnTo>
                    <a:cubicBezTo>
                      <a:pt x="7917" y="5"/>
                      <a:pt x="7916" y="4"/>
                      <a:pt x="7916" y="3"/>
                    </a:cubicBezTo>
                    <a:cubicBezTo>
                      <a:pt x="7916" y="2"/>
                      <a:pt x="7917" y="1"/>
                      <a:pt x="7918" y="1"/>
                    </a:cubicBezTo>
                    <a:close/>
                    <a:moveTo>
                      <a:pt x="7926" y="1"/>
                    </a:moveTo>
                    <a:lnTo>
                      <a:pt x="7926" y="1"/>
                    </a:lnTo>
                    <a:cubicBezTo>
                      <a:pt x="7927" y="1"/>
                      <a:pt x="7928" y="2"/>
                      <a:pt x="7928" y="3"/>
                    </a:cubicBezTo>
                    <a:cubicBezTo>
                      <a:pt x="7928" y="4"/>
                      <a:pt x="7927" y="5"/>
                      <a:pt x="7926" y="5"/>
                    </a:cubicBezTo>
                    <a:lnTo>
                      <a:pt x="7926" y="5"/>
                    </a:lnTo>
                    <a:cubicBezTo>
                      <a:pt x="7925" y="5"/>
                      <a:pt x="7924" y="4"/>
                      <a:pt x="7924" y="3"/>
                    </a:cubicBezTo>
                    <a:cubicBezTo>
                      <a:pt x="7924" y="2"/>
                      <a:pt x="7925" y="1"/>
                      <a:pt x="7926" y="1"/>
                    </a:cubicBezTo>
                    <a:close/>
                    <a:moveTo>
                      <a:pt x="7934" y="1"/>
                    </a:moveTo>
                    <a:lnTo>
                      <a:pt x="7934" y="1"/>
                    </a:lnTo>
                    <a:cubicBezTo>
                      <a:pt x="7935" y="1"/>
                      <a:pt x="7936" y="2"/>
                      <a:pt x="7936" y="3"/>
                    </a:cubicBezTo>
                    <a:cubicBezTo>
                      <a:pt x="7936" y="4"/>
                      <a:pt x="7935" y="5"/>
                      <a:pt x="7934" y="5"/>
                    </a:cubicBezTo>
                    <a:lnTo>
                      <a:pt x="7934" y="5"/>
                    </a:lnTo>
                    <a:cubicBezTo>
                      <a:pt x="7933" y="5"/>
                      <a:pt x="7932" y="4"/>
                      <a:pt x="7932" y="3"/>
                    </a:cubicBezTo>
                    <a:cubicBezTo>
                      <a:pt x="7932" y="2"/>
                      <a:pt x="7933" y="1"/>
                      <a:pt x="7934" y="1"/>
                    </a:cubicBezTo>
                    <a:close/>
                    <a:moveTo>
                      <a:pt x="7942" y="1"/>
                    </a:moveTo>
                    <a:lnTo>
                      <a:pt x="7942" y="1"/>
                    </a:lnTo>
                    <a:cubicBezTo>
                      <a:pt x="7943" y="1"/>
                      <a:pt x="7944" y="2"/>
                      <a:pt x="7944" y="3"/>
                    </a:cubicBezTo>
                    <a:cubicBezTo>
                      <a:pt x="7944" y="4"/>
                      <a:pt x="7943" y="5"/>
                      <a:pt x="7942" y="5"/>
                    </a:cubicBezTo>
                    <a:lnTo>
                      <a:pt x="7942" y="5"/>
                    </a:lnTo>
                    <a:cubicBezTo>
                      <a:pt x="7941" y="5"/>
                      <a:pt x="7940" y="4"/>
                      <a:pt x="7940" y="3"/>
                    </a:cubicBezTo>
                    <a:cubicBezTo>
                      <a:pt x="7940" y="2"/>
                      <a:pt x="7941" y="1"/>
                      <a:pt x="7942" y="1"/>
                    </a:cubicBezTo>
                    <a:close/>
                    <a:moveTo>
                      <a:pt x="7950" y="1"/>
                    </a:moveTo>
                    <a:lnTo>
                      <a:pt x="7950" y="1"/>
                    </a:lnTo>
                    <a:cubicBezTo>
                      <a:pt x="7951" y="1"/>
                      <a:pt x="7952" y="2"/>
                      <a:pt x="7952" y="3"/>
                    </a:cubicBezTo>
                    <a:cubicBezTo>
                      <a:pt x="7952" y="4"/>
                      <a:pt x="7951" y="5"/>
                      <a:pt x="7950" y="5"/>
                    </a:cubicBezTo>
                    <a:lnTo>
                      <a:pt x="7950" y="5"/>
                    </a:lnTo>
                    <a:cubicBezTo>
                      <a:pt x="7949" y="5"/>
                      <a:pt x="7948" y="4"/>
                      <a:pt x="7948" y="3"/>
                    </a:cubicBezTo>
                    <a:cubicBezTo>
                      <a:pt x="7948" y="2"/>
                      <a:pt x="7949" y="1"/>
                      <a:pt x="7950" y="1"/>
                    </a:cubicBezTo>
                    <a:close/>
                    <a:moveTo>
                      <a:pt x="7958" y="1"/>
                    </a:moveTo>
                    <a:lnTo>
                      <a:pt x="7958" y="1"/>
                    </a:lnTo>
                    <a:cubicBezTo>
                      <a:pt x="7959" y="1"/>
                      <a:pt x="7960" y="2"/>
                      <a:pt x="7960" y="3"/>
                    </a:cubicBezTo>
                    <a:cubicBezTo>
                      <a:pt x="7960" y="4"/>
                      <a:pt x="7959" y="5"/>
                      <a:pt x="7958" y="5"/>
                    </a:cubicBezTo>
                    <a:lnTo>
                      <a:pt x="7958" y="5"/>
                    </a:lnTo>
                    <a:cubicBezTo>
                      <a:pt x="7957" y="5"/>
                      <a:pt x="7956" y="4"/>
                      <a:pt x="7956" y="3"/>
                    </a:cubicBezTo>
                    <a:cubicBezTo>
                      <a:pt x="7956" y="2"/>
                      <a:pt x="7957" y="1"/>
                      <a:pt x="7958" y="1"/>
                    </a:cubicBezTo>
                    <a:close/>
                    <a:moveTo>
                      <a:pt x="7966" y="1"/>
                    </a:moveTo>
                    <a:lnTo>
                      <a:pt x="7966" y="1"/>
                    </a:lnTo>
                    <a:cubicBezTo>
                      <a:pt x="7967" y="1"/>
                      <a:pt x="7968" y="2"/>
                      <a:pt x="7968" y="3"/>
                    </a:cubicBezTo>
                    <a:cubicBezTo>
                      <a:pt x="7968" y="4"/>
                      <a:pt x="7967" y="5"/>
                      <a:pt x="7966" y="5"/>
                    </a:cubicBezTo>
                    <a:lnTo>
                      <a:pt x="7966" y="5"/>
                    </a:lnTo>
                    <a:cubicBezTo>
                      <a:pt x="7965" y="5"/>
                      <a:pt x="7964" y="4"/>
                      <a:pt x="7964" y="3"/>
                    </a:cubicBezTo>
                    <a:cubicBezTo>
                      <a:pt x="7964" y="2"/>
                      <a:pt x="7965" y="1"/>
                      <a:pt x="7966" y="1"/>
                    </a:cubicBezTo>
                    <a:close/>
                    <a:moveTo>
                      <a:pt x="7974" y="1"/>
                    </a:moveTo>
                    <a:lnTo>
                      <a:pt x="7974" y="1"/>
                    </a:lnTo>
                    <a:cubicBezTo>
                      <a:pt x="7975" y="1"/>
                      <a:pt x="7976" y="2"/>
                      <a:pt x="7976" y="3"/>
                    </a:cubicBezTo>
                    <a:cubicBezTo>
                      <a:pt x="7976" y="4"/>
                      <a:pt x="7975" y="5"/>
                      <a:pt x="7974" y="5"/>
                    </a:cubicBezTo>
                    <a:lnTo>
                      <a:pt x="7974" y="5"/>
                    </a:lnTo>
                    <a:cubicBezTo>
                      <a:pt x="7973" y="5"/>
                      <a:pt x="7972" y="4"/>
                      <a:pt x="7972" y="3"/>
                    </a:cubicBezTo>
                    <a:cubicBezTo>
                      <a:pt x="7972" y="2"/>
                      <a:pt x="7973" y="1"/>
                      <a:pt x="7974" y="1"/>
                    </a:cubicBezTo>
                    <a:close/>
                    <a:moveTo>
                      <a:pt x="7982" y="1"/>
                    </a:moveTo>
                    <a:lnTo>
                      <a:pt x="7982" y="1"/>
                    </a:lnTo>
                    <a:cubicBezTo>
                      <a:pt x="7983" y="1"/>
                      <a:pt x="7984" y="2"/>
                      <a:pt x="7984" y="3"/>
                    </a:cubicBezTo>
                    <a:cubicBezTo>
                      <a:pt x="7984" y="4"/>
                      <a:pt x="7983" y="5"/>
                      <a:pt x="7982" y="5"/>
                    </a:cubicBezTo>
                    <a:lnTo>
                      <a:pt x="7982" y="5"/>
                    </a:lnTo>
                    <a:cubicBezTo>
                      <a:pt x="7981" y="5"/>
                      <a:pt x="7980" y="4"/>
                      <a:pt x="7980" y="3"/>
                    </a:cubicBezTo>
                    <a:cubicBezTo>
                      <a:pt x="7980" y="2"/>
                      <a:pt x="7981" y="1"/>
                      <a:pt x="7982" y="1"/>
                    </a:cubicBezTo>
                    <a:close/>
                    <a:moveTo>
                      <a:pt x="7990" y="1"/>
                    </a:moveTo>
                    <a:lnTo>
                      <a:pt x="7990" y="1"/>
                    </a:lnTo>
                    <a:cubicBezTo>
                      <a:pt x="7991" y="1"/>
                      <a:pt x="7992" y="2"/>
                      <a:pt x="7992" y="3"/>
                    </a:cubicBezTo>
                    <a:cubicBezTo>
                      <a:pt x="7992" y="4"/>
                      <a:pt x="7991" y="5"/>
                      <a:pt x="7990" y="5"/>
                    </a:cubicBezTo>
                    <a:lnTo>
                      <a:pt x="7990" y="5"/>
                    </a:lnTo>
                    <a:cubicBezTo>
                      <a:pt x="7989" y="5"/>
                      <a:pt x="7988" y="4"/>
                      <a:pt x="7988" y="3"/>
                    </a:cubicBezTo>
                    <a:cubicBezTo>
                      <a:pt x="7988" y="2"/>
                      <a:pt x="7989" y="1"/>
                      <a:pt x="7990" y="1"/>
                    </a:cubicBezTo>
                    <a:close/>
                    <a:moveTo>
                      <a:pt x="7998" y="1"/>
                    </a:moveTo>
                    <a:lnTo>
                      <a:pt x="7998" y="1"/>
                    </a:lnTo>
                    <a:cubicBezTo>
                      <a:pt x="7999" y="1"/>
                      <a:pt x="8000" y="2"/>
                      <a:pt x="8000" y="3"/>
                    </a:cubicBezTo>
                    <a:cubicBezTo>
                      <a:pt x="8000" y="4"/>
                      <a:pt x="7999" y="5"/>
                      <a:pt x="7998" y="5"/>
                    </a:cubicBezTo>
                    <a:lnTo>
                      <a:pt x="7998" y="5"/>
                    </a:lnTo>
                    <a:cubicBezTo>
                      <a:pt x="7997" y="5"/>
                      <a:pt x="7996" y="4"/>
                      <a:pt x="7996" y="3"/>
                    </a:cubicBezTo>
                    <a:cubicBezTo>
                      <a:pt x="7996" y="2"/>
                      <a:pt x="7997" y="1"/>
                      <a:pt x="7998" y="1"/>
                    </a:cubicBezTo>
                    <a:close/>
                    <a:moveTo>
                      <a:pt x="8006" y="1"/>
                    </a:moveTo>
                    <a:lnTo>
                      <a:pt x="8006" y="1"/>
                    </a:lnTo>
                    <a:cubicBezTo>
                      <a:pt x="8007" y="1"/>
                      <a:pt x="8008" y="2"/>
                      <a:pt x="8008" y="3"/>
                    </a:cubicBezTo>
                    <a:cubicBezTo>
                      <a:pt x="8008" y="4"/>
                      <a:pt x="8007" y="5"/>
                      <a:pt x="8006" y="5"/>
                    </a:cubicBezTo>
                    <a:lnTo>
                      <a:pt x="8006" y="5"/>
                    </a:lnTo>
                    <a:cubicBezTo>
                      <a:pt x="8005" y="5"/>
                      <a:pt x="8004" y="4"/>
                      <a:pt x="8004" y="3"/>
                    </a:cubicBezTo>
                    <a:cubicBezTo>
                      <a:pt x="8004" y="2"/>
                      <a:pt x="8005" y="1"/>
                      <a:pt x="8006" y="1"/>
                    </a:cubicBezTo>
                    <a:close/>
                    <a:moveTo>
                      <a:pt x="8014" y="1"/>
                    </a:moveTo>
                    <a:lnTo>
                      <a:pt x="8014" y="1"/>
                    </a:lnTo>
                    <a:cubicBezTo>
                      <a:pt x="8015" y="1"/>
                      <a:pt x="8016" y="2"/>
                      <a:pt x="8016" y="3"/>
                    </a:cubicBezTo>
                    <a:cubicBezTo>
                      <a:pt x="8016" y="4"/>
                      <a:pt x="8015" y="5"/>
                      <a:pt x="8014" y="5"/>
                    </a:cubicBezTo>
                    <a:lnTo>
                      <a:pt x="8014" y="5"/>
                    </a:lnTo>
                    <a:cubicBezTo>
                      <a:pt x="8013" y="5"/>
                      <a:pt x="8012" y="4"/>
                      <a:pt x="8012" y="3"/>
                    </a:cubicBezTo>
                    <a:cubicBezTo>
                      <a:pt x="8012" y="2"/>
                      <a:pt x="8013" y="1"/>
                      <a:pt x="8014" y="1"/>
                    </a:cubicBezTo>
                    <a:close/>
                    <a:moveTo>
                      <a:pt x="8022" y="1"/>
                    </a:moveTo>
                    <a:lnTo>
                      <a:pt x="8022" y="1"/>
                    </a:lnTo>
                    <a:cubicBezTo>
                      <a:pt x="8023" y="1"/>
                      <a:pt x="8024" y="2"/>
                      <a:pt x="8024" y="3"/>
                    </a:cubicBezTo>
                    <a:cubicBezTo>
                      <a:pt x="8024" y="4"/>
                      <a:pt x="8023" y="5"/>
                      <a:pt x="8022" y="5"/>
                    </a:cubicBezTo>
                    <a:lnTo>
                      <a:pt x="8022" y="5"/>
                    </a:lnTo>
                    <a:cubicBezTo>
                      <a:pt x="8021" y="5"/>
                      <a:pt x="8020" y="4"/>
                      <a:pt x="8020" y="3"/>
                    </a:cubicBezTo>
                    <a:cubicBezTo>
                      <a:pt x="8020" y="2"/>
                      <a:pt x="8021" y="1"/>
                      <a:pt x="8022" y="1"/>
                    </a:cubicBezTo>
                    <a:close/>
                    <a:moveTo>
                      <a:pt x="8030" y="1"/>
                    </a:moveTo>
                    <a:lnTo>
                      <a:pt x="8030" y="1"/>
                    </a:lnTo>
                    <a:cubicBezTo>
                      <a:pt x="8031" y="1"/>
                      <a:pt x="8032" y="2"/>
                      <a:pt x="8032" y="3"/>
                    </a:cubicBezTo>
                    <a:cubicBezTo>
                      <a:pt x="8032" y="4"/>
                      <a:pt x="8031" y="5"/>
                      <a:pt x="8030" y="5"/>
                    </a:cubicBezTo>
                    <a:lnTo>
                      <a:pt x="8030" y="5"/>
                    </a:lnTo>
                    <a:cubicBezTo>
                      <a:pt x="8029" y="5"/>
                      <a:pt x="8028" y="4"/>
                      <a:pt x="8028" y="3"/>
                    </a:cubicBezTo>
                    <a:cubicBezTo>
                      <a:pt x="8028" y="2"/>
                      <a:pt x="8029" y="1"/>
                      <a:pt x="8030" y="1"/>
                    </a:cubicBezTo>
                    <a:close/>
                    <a:moveTo>
                      <a:pt x="8038" y="1"/>
                    </a:moveTo>
                    <a:lnTo>
                      <a:pt x="8038" y="1"/>
                    </a:lnTo>
                    <a:cubicBezTo>
                      <a:pt x="8039" y="1"/>
                      <a:pt x="8040" y="2"/>
                      <a:pt x="8040" y="3"/>
                    </a:cubicBezTo>
                    <a:cubicBezTo>
                      <a:pt x="8040" y="4"/>
                      <a:pt x="8039" y="5"/>
                      <a:pt x="8038" y="5"/>
                    </a:cubicBezTo>
                    <a:lnTo>
                      <a:pt x="8038" y="5"/>
                    </a:lnTo>
                    <a:cubicBezTo>
                      <a:pt x="8037" y="5"/>
                      <a:pt x="8036" y="4"/>
                      <a:pt x="8036" y="3"/>
                    </a:cubicBezTo>
                    <a:cubicBezTo>
                      <a:pt x="8036" y="2"/>
                      <a:pt x="8037" y="1"/>
                      <a:pt x="8038" y="1"/>
                    </a:cubicBezTo>
                    <a:close/>
                    <a:moveTo>
                      <a:pt x="8046" y="1"/>
                    </a:moveTo>
                    <a:lnTo>
                      <a:pt x="8046" y="1"/>
                    </a:lnTo>
                    <a:cubicBezTo>
                      <a:pt x="8047" y="1"/>
                      <a:pt x="8048" y="2"/>
                      <a:pt x="8048" y="3"/>
                    </a:cubicBezTo>
                    <a:cubicBezTo>
                      <a:pt x="8048" y="4"/>
                      <a:pt x="8047" y="5"/>
                      <a:pt x="8046" y="5"/>
                    </a:cubicBezTo>
                    <a:lnTo>
                      <a:pt x="8046" y="5"/>
                    </a:lnTo>
                    <a:cubicBezTo>
                      <a:pt x="8045" y="5"/>
                      <a:pt x="8044" y="4"/>
                      <a:pt x="8044" y="3"/>
                    </a:cubicBezTo>
                    <a:cubicBezTo>
                      <a:pt x="8044" y="2"/>
                      <a:pt x="8045" y="1"/>
                      <a:pt x="8046" y="1"/>
                    </a:cubicBezTo>
                    <a:close/>
                    <a:moveTo>
                      <a:pt x="8054" y="1"/>
                    </a:moveTo>
                    <a:lnTo>
                      <a:pt x="8054" y="1"/>
                    </a:lnTo>
                    <a:cubicBezTo>
                      <a:pt x="8055" y="1"/>
                      <a:pt x="8056" y="2"/>
                      <a:pt x="8056" y="3"/>
                    </a:cubicBezTo>
                    <a:cubicBezTo>
                      <a:pt x="8056" y="4"/>
                      <a:pt x="8055" y="5"/>
                      <a:pt x="8054" y="5"/>
                    </a:cubicBezTo>
                    <a:lnTo>
                      <a:pt x="8054" y="5"/>
                    </a:lnTo>
                    <a:cubicBezTo>
                      <a:pt x="8053" y="5"/>
                      <a:pt x="8052" y="4"/>
                      <a:pt x="8052" y="3"/>
                    </a:cubicBezTo>
                    <a:cubicBezTo>
                      <a:pt x="8052" y="2"/>
                      <a:pt x="8053" y="1"/>
                      <a:pt x="8054" y="1"/>
                    </a:cubicBezTo>
                    <a:close/>
                    <a:moveTo>
                      <a:pt x="8062" y="1"/>
                    </a:moveTo>
                    <a:lnTo>
                      <a:pt x="8062" y="1"/>
                    </a:lnTo>
                    <a:cubicBezTo>
                      <a:pt x="8063" y="1"/>
                      <a:pt x="8064" y="2"/>
                      <a:pt x="8064" y="3"/>
                    </a:cubicBezTo>
                    <a:cubicBezTo>
                      <a:pt x="8064" y="4"/>
                      <a:pt x="8063" y="5"/>
                      <a:pt x="8062" y="5"/>
                    </a:cubicBezTo>
                    <a:lnTo>
                      <a:pt x="8062" y="5"/>
                    </a:lnTo>
                    <a:cubicBezTo>
                      <a:pt x="8061" y="5"/>
                      <a:pt x="8060" y="4"/>
                      <a:pt x="8060" y="3"/>
                    </a:cubicBezTo>
                    <a:cubicBezTo>
                      <a:pt x="8060" y="2"/>
                      <a:pt x="8061" y="1"/>
                      <a:pt x="8062" y="1"/>
                    </a:cubicBezTo>
                    <a:close/>
                    <a:moveTo>
                      <a:pt x="8070" y="1"/>
                    </a:moveTo>
                    <a:lnTo>
                      <a:pt x="8070" y="1"/>
                    </a:lnTo>
                    <a:cubicBezTo>
                      <a:pt x="8071" y="1"/>
                      <a:pt x="8072" y="2"/>
                      <a:pt x="8072" y="3"/>
                    </a:cubicBezTo>
                    <a:cubicBezTo>
                      <a:pt x="8072" y="4"/>
                      <a:pt x="8071" y="5"/>
                      <a:pt x="8070" y="5"/>
                    </a:cubicBezTo>
                    <a:lnTo>
                      <a:pt x="8070" y="5"/>
                    </a:lnTo>
                    <a:cubicBezTo>
                      <a:pt x="8069" y="5"/>
                      <a:pt x="8068" y="4"/>
                      <a:pt x="8068" y="3"/>
                    </a:cubicBezTo>
                    <a:cubicBezTo>
                      <a:pt x="8068" y="2"/>
                      <a:pt x="8069" y="1"/>
                      <a:pt x="8070" y="1"/>
                    </a:cubicBezTo>
                    <a:close/>
                    <a:moveTo>
                      <a:pt x="8078" y="1"/>
                    </a:moveTo>
                    <a:lnTo>
                      <a:pt x="8078" y="1"/>
                    </a:lnTo>
                    <a:cubicBezTo>
                      <a:pt x="8079" y="1"/>
                      <a:pt x="8080" y="2"/>
                      <a:pt x="8080" y="3"/>
                    </a:cubicBezTo>
                    <a:cubicBezTo>
                      <a:pt x="8080" y="4"/>
                      <a:pt x="8079" y="5"/>
                      <a:pt x="8078" y="5"/>
                    </a:cubicBezTo>
                    <a:lnTo>
                      <a:pt x="8078" y="5"/>
                    </a:lnTo>
                    <a:cubicBezTo>
                      <a:pt x="8077" y="5"/>
                      <a:pt x="8076" y="4"/>
                      <a:pt x="8076" y="3"/>
                    </a:cubicBezTo>
                    <a:cubicBezTo>
                      <a:pt x="8076" y="2"/>
                      <a:pt x="8077" y="1"/>
                      <a:pt x="8078" y="1"/>
                    </a:cubicBezTo>
                    <a:close/>
                    <a:moveTo>
                      <a:pt x="8086" y="1"/>
                    </a:moveTo>
                    <a:lnTo>
                      <a:pt x="8086" y="1"/>
                    </a:lnTo>
                    <a:cubicBezTo>
                      <a:pt x="8087" y="1"/>
                      <a:pt x="8088" y="2"/>
                      <a:pt x="8088" y="3"/>
                    </a:cubicBezTo>
                    <a:cubicBezTo>
                      <a:pt x="8088" y="4"/>
                      <a:pt x="8087" y="5"/>
                      <a:pt x="8086" y="5"/>
                    </a:cubicBezTo>
                    <a:lnTo>
                      <a:pt x="8086" y="5"/>
                    </a:lnTo>
                    <a:cubicBezTo>
                      <a:pt x="8085" y="5"/>
                      <a:pt x="8084" y="4"/>
                      <a:pt x="8084" y="3"/>
                    </a:cubicBezTo>
                    <a:cubicBezTo>
                      <a:pt x="8084" y="2"/>
                      <a:pt x="8085" y="1"/>
                      <a:pt x="8086" y="1"/>
                    </a:cubicBezTo>
                    <a:close/>
                    <a:moveTo>
                      <a:pt x="8094" y="1"/>
                    </a:moveTo>
                    <a:lnTo>
                      <a:pt x="8094" y="1"/>
                    </a:lnTo>
                    <a:cubicBezTo>
                      <a:pt x="8095" y="1"/>
                      <a:pt x="8096" y="2"/>
                      <a:pt x="8096" y="3"/>
                    </a:cubicBezTo>
                    <a:cubicBezTo>
                      <a:pt x="8096" y="4"/>
                      <a:pt x="8095" y="5"/>
                      <a:pt x="8094" y="5"/>
                    </a:cubicBezTo>
                    <a:lnTo>
                      <a:pt x="8094" y="5"/>
                    </a:lnTo>
                    <a:cubicBezTo>
                      <a:pt x="8093" y="5"/>
                      <a:pt x="8092" y="4"/>
                      <a:pt x="8092" y="3"/>
                    </a:cubicBezTo>
                    <a:cubicBezTo>
                      <a:pt x="8092" y="2"/>
                      <a:pt x="8093" y="1"/>
                      <a:pt x="8094" y="1"/>
                    </a:cubicBezTo>
                    <a:close/>
                    <a:moveTo>
                      <a:pt x="8102" y="1"/>
                    </a:moveTo>
                    <a:lnTo>
                      <a:pt x="8102" y="1"/>
                    </a:lnTo>
                    <a:cubicBezTo>
                      <a:pt x="8103" y="1"/>
                      <a:pt x="8104" y="2"/>
                      <a:pt x="8104" y="3"/>
                    </a:cubicBezTo>
                    <a:cubicBezTo>
                      <a:pt x="8104" y="4"/>
                      <a:pt x="8103" y="5"/>
                      <a:pt x="8102" y="5"/>
                    </a:cubicBezTo>
                    <a:lnTo>
                      <a:pt x="8102" y="5"/>
                    </a:lnTo>
                    <a:cubicBezTo>
                      <a:pt x="8101" y="5"/>
                      <a:pt x="8100" y="4"/>
                      <a:pt x="8100" y="3"/>
                    </a:cubicBezTo>
                    <a:cubicBezTo>
                      <a:pt x="8100" y="2"/>
                      <a:pt x="8101" y="1"/>
                      <a:pt x="8102" y="1"/>
                    </a:cubicBezTo>
                    <a:close/>
                    <a:moveTo>
                      <a:pt x="8110" y="1"/>
                    </a:moveTo>
                    <a:lnTo>
                      <a:pt x="8110" y="1"/>
                    </a:lnTo>
                    <a:cubicBezTo>
                      <a:pt x="8111" y="1"/>
                      <a:pt x="8112" y="2"/>
                      <a:pt x="8112" y="3"/>
                    </a:cubicBezTo>
                    <a:cubicBezTo>
                      <a:pt x="8112" y="4"/>
                      <a:pt x="8111" y="5"/>
                      <a:pt x="8110" y="5"/>
                    </a:cubicBezTo>
                    <a:lnTo>
                      <a:pt x="8110" y="5"/>
                    </a:lnTo>
                    <a:cubicBezTo>
                      <a:pt x="8109" y="5"/>
                      <a:pt x="8108" y="4"/>
                      <a:pt x="8108" y="3"/>
                    </a:cubicBezTo>
                    <a:cubicBezTo>
                      <a:pt x="8108" y="2"/>
                      <a:pt x="8109" y="1"/>
                      <a:pt x="8110" y="1"/>
                    </a:cubicBezTo>
                    <a:close/>
                    <a:moveTo>
                      <a:pt x="8118" y="1"/>
                    </a:moveTo>
                    <a:lnTo>
                      <a:pt x="8118" y="1"/>
                    </a:lnTo>
                    <a:cubicBezTo>
                      <a:pt x="8119" y="1"/>
                      <a:pt x="8120" y="2"/>
                      <a:pt x="8120" y="3"/>
                    </a:cubicBezTo>
                    <a:cubicBezTo>
                      <a:pt x="8120" y="4"/>
                      <a:pt x="8119" y="5"/>
                      <a:pt x="8118" y="5"/>
                    </a:cubicBezTo>
                    <a:lnTo>
                      <a:pt x="8118" y="5"/>
                    </a:lnTo>
                    <a:cubicBezTo>
                      <a:pt x="8117" y="5"/>
                      <a:pt x="8116" y="4"/>
                      <a:pt x="8116" y="3"/>
                    </a:cubicBezTo>
                    <a:cubicBezTo>
                      <a:pt x="8116" y="2"/>
                      <a:pt x="8117" y="1"/>
                      <a:pt x="8118" y="1"/>
                    </a:cubicBezTo>
                    <a:close/>
                    <a:moveTo>
                      <a:pt x="8126" y="1"/>
                    </a:moveTo>
                    <a:lnTo>
                      <a:pt x="8126" y="1"/>
                    </a:lnTo>
                    <a:cubicBezTo>
                      <a:pt x="8127" y="1"/>
                      <a:pt x="8128" y="2"/>
                      <a:pt x="8128" y="3"/>
                    </a:cubicBezTo>
                    <a:cubicBezTo>
                      <a:pt x="8128" y="4"/>
                      <a:pt x="8127" y="5"/>
                      <a:pt x="8126" y="5"/>
                    </a:cubicBezTo>
                    <a:lnTo>
                      <a:pt x="8126" y="5"/>
                    </a:lnTo>
                    <a:cubicBezTo>
                      <a:pt x="8125" y="5"/>
                      <a:pt x="8124" y="4"/>
                      <a:pt x="8124" y="3"/>
                    </a:cubicBezTo>
                    <a:cubicBezTo>
                      <a:pt x="8124" y="2"/>
                      <a:pt x="8125" y="1"/>
                      <a:pt x="8126" y="1"/>
                    </a:cubicBezTo>
                    <a:close/>
                    <a:moveTo>
                      <a:pt x="8134" y="1"/>
                    </a:moveTo>
                    <a:lnTo>
                      <a:pt x="8134" y="1"/>
                    </a:lnTo>
                    <a:cubicBezTo>
                      <a:pt x="8135" y="1"/>
                      <a:pt x="8136" y="2"/>
                      <a:pt x="8136" y="3"/>
                    </a:cubicBezTo>
                    <a:cubicBezTo>
                      <a:pt x="8136" y="4"/>
                      <a:pt x="8135" y="5"/>
                      <a:pt x="8134" y="5"/>
                    </a:cubicBezTo>
                    <a:lnTo>
                      <a:pt x="8134" y="5"/>
                    </a:lnTo>
                    <a:cubicBezTo>
                      <a:pt x="8133" y="5"/>
                      <a:pt x="8132" y="4"/>
                      <a:pt x="8132" y="3"/>
                    </a:cubicBezTo>
                    <a:cubicBezTo>
                      <a:pt x="8132" y="2"/>
                      <a:pt x="8133" y="1"/>
                      <a:pt x="8134" y="1"/>
                    </a:cubicBezTo>
                    <a:close/>
                    <a:moveTo>
                      <a:pt x="8142" y="1"/>
                    </a:moveTo>
                    <a:lnTo>
                      <a:pt x="8142" y="1"/>
                    </a:lnTo>
                    <a:cubicBezTo>
                      <a:pt x="8143" y="1"/>
                      <a:pt x="8144" y="2"/>
                      <a:pt x="8144" y="3"/>
                    </a:cubicBezTo>
                    <a:cubicBezTo>
                      <a:pt x="8144" y="4"/>
                      <a:pt x="8143" y="5"/>
                      <a:pt x="8142" y="5"/>
                    </a:cubicBezTo>
                    <a:lnTo>
                      <a:pt x="8142" y="5"/>
                    </a:lnTo>
                    <a:cubicBezTo>
                      <a:pt x="8141" y="5"/>
                      <a:pt x="8140" y="4"/>
                      <a:pt x="8140" y="3"/>
                    </a:cubicBezTo>
                    <a:cubicBezTo>
                      <a:pt x="8140" y="2"/>
                      <a:pt x="8141" y="1"/>
                      <a:pt x="8142" y="1"/>
                    </a:cubicBezTo>
                    <a:close/>
                    <a:moveTo>
                      <a:pt x="8150" y="1"/>
                    </a:moveTo>
                    <a:lnTo>
                      <a:pt x="8150" y="1"/>
                    </a:lnTo>
                    <a:cubicBezTo>
                      <a:pt x="8151" y="1"/>
                      <a:pt x="8152" y="2"/>
                      <a:pt x="8152" y="3"/>
                    </a:cubicBezTo>
                    <a:cubicBezTo>
                      <a:pt x="8152" y="4"/>
                      <a:pt x="8151" y="5"/>
                      <a:pt x="8150" y="5"/>
                    </a:cubicBezTo>
                    <a:lnTo>
                      <a:pt x="8150" y="5"/>
                    </a:lnTo>
                    <a:cubicBezTo>
                      <a:pt x="8149" y="5"/>
                      <a:pt x="8148" y="4"/>
                      <a:pt x="8148" y="3"/>
                    </a:cubicBezTo>
                    <a:cubicBezTo>
                      <a:pt x="8148" y="2"/>
                      <a:pt x="8149" y="1"/>
                      <a:pt x="8150" y="1"/>
                    </a:cubicBezTo>
                    <a:close/>
                    <a:moveTo>
                      <a:pt x="8158" y="1"/>
                    </a:moveTo>
                    <a:lnTo>
                      <a:pt x="8158" y="1"/>
                    </a:lnTo>
                    <a:cubicBezTo>
                      <a:pt x="8159" y="1"/>
                      <a:pt x="8160" y="2"/>
                      <a:pt x="8160" y="3"/>
                    </a:cubicBezTo>
                    <a:cubicBezTo>
                      <a:pt x="8160" y="4"/>
                      <a:pt x="8159" y="5"/>
                      <a:pt x="8158" y="5"/>
                    </a:cubicBezTo>
                    <a:lnTo>
                      <a:pt x="8158" y="5"/>
                    </a:lnTo>
                    <a:cubicBezTo>
                      <a:pt x="8157" y="5"/>
                      <a:pt x="8156" y="4"/>
                      <a:pt x="8156" y="3"/>
                    </a:cubicBezTo>
                    <a:cubicBezTo>
                      <a:pt x="8156" y="2"/>
                      <a:pt x="8157" y="1"/>
                      <a:pt x="8158" y="1"/>
                    </a:cubicBezTo>
                    <a:close/>
                    <a:moveTo>
                      <a:pt x="8166" y="1"/>
                    </a:moveTo>
                    <a:lnTo>
                      <a:pt x="8166" y="1"/>
                    </a:lnTo>
                    <a:cubicBezTo>
                      <a:pt x="8167" y="1"/>
                      <a:pt x="8168" y="2"/>
                      <a:pt x="8168" y="3"/>
                    </a:cubicBezTo>
                    <a:cubicBezTo>
                      <a:pt x="8168" y="4"/>
                      <a:pt x="8167" y="5"/>
                      <a:pt x="8166" y="5"/>
                    </a:cubicBezTo>
                    <a:lnTo>
                      <a:pt x="8166" y="5"/>
                    </a:lnTo>
                    <a:cubicBezTo>
                      <a:pt x="8165" y="5"/>
                      <a:pt x="8164" y="4"/>
                      <a:pt x="8164" y="3"/>
                    </a:cubicBezTo>
                    <a:cubicBezTo>
                      <a:pt x="8164" y="2"/>
                      <a:pt x="8165" y="1"/>
                      <a:pt x="8166" y="1"/>
                    </a:cubicBezTo>
                    <a:close/>
                    <a:moveTo>
                      <a:pt x="8174" y="1"/>
                    </a:moveTo>
                    <a:lnTo>
                      <a:pt x="8174" y="1"/>
                    </a:lnTo>
                    <a:cubicBezTo>
                      <a:pt x="8175" y="1"/>
                      <a:pt x="8176" y="2"/>
                      <a:pt x="8176" y="3"/>
                    </a:cubicBezTo>
                    <a:cubicBezTo>
                      <a:pt x="8176" y="4"/>
                      <a:pt x="8175" y="5"/>
                      <a:pt x="8174" y="5"/>
                    </a:cubicBezTo>
                    <a:lnTo>
                      <a:pt x="8174" y="5"/>
                    </a:lnTo>
                    <a:cubicBezTo>
                      <a:pt x="8173" y="5"/>
                      <a:pt x="8172" y="4"/>
                      <a:pt x="8172" y="3"/>
                    </a:cubicBezTo>
                    <a:cubicBezTo>
                      <a:pt x="8172" y="2"/>
                      <a:pt x="8173" y="1"/>
                      <a:pt x="8174" y="1"/>
                    </a:cubicBezTo>
                    <a:close/>
                    <a:moveTo>
                      <a:pt x="8182" y="1"/>
                    </a:moveTo>
                    <a:lnTo>
                      <a:pt x="8182" y="1"/>
                    </a:lnTo>
                    <a:cubicBezTo>
                      <a:pt x="8183" y="1"/>
                      <a:pt x="8184" y="2"/>
                      <a:pt x="8184" y="3"/>
                    </a:cubicBezTo>
                    <a:cubicBezTo>
                      <a:pt x="8184" y="4"/>
                      <a:pt x="8183" y="5"/>
                      <a:pt x="8182" y="5"/>
                    </a:cubicBezTo>
                    <a:lnTo>
                      <a:pt x="8182" y="5"/>
                    </a:lnTo>
                    <a:cubicBezTo>
                      <a:pt x="8181" y="5"/>
                      <a:pt x="8180" y="4"/>
                      <a:pt x="8180" y="3"/>
                    </a:cubicBezTo>
                    <a:cubicBezTo>
                      <a:pt x="8180" y="2"/>
                      <a:pt x="8181" y="1"/>
                      <a:pt x="8182" y="1"/>
                    </a:cubicBezTo>
                    <a:close/>
                    <a:moveTo>
                      <a:pt x="8190" y="1"/>
                    </a:moveTo>
                    <a:lnTo>
                      <a:pt x="8190" y="1"/>
                    </a:lnTo>
                    <a:cubicBezTo>
                      <a:pt x="8191" y="1"/>
                      <a:pt x="8192" y="2"/>
                      <a:pt x="8192" y="3"/>
                    </a:cubicBezTo>
                    <a:cubicBezTo>
                      <a:pt x="8192" y="4"/>
                      <a:pt x="8191" y="5"/>
                      <a:pt x="8190" y="5"/>
                    </a:cubicBezTo>
                    <a:lnTo>
                      <a:pt x="8190" y="5"/>
                    </a:lnTo>
                    <a:cubicBezTo>
                      <a:pt x="8189" y="5"/>
                      <a:pt x="8188" y="4"/>
                      <a:pt x="8188" y="3"/>
                    </a:cubicBezTo>
                    <a:cubicBezTo>
                      <a:pt x="8188" y="2"/>
                      <a:pt x="8189" y="1"/>
                      <a:pt x="8190" y="1"/>
                    </a:cubicBezTo>
                    <a:close/>
                    <a:moveTo>
                      <a:pt x="8198" y="1"/>
                    </a:moveTo>
                    <a:lnTo>
                      <a:pt x="8198" y="1"/>
                    </a:lnTo>
                    <a:cubicBezTo>
                      <a:pt x="8199" y="1"/>
                      <a:pt x="8200" y="2"/>
                      <a:pt x="8200" y="3"/>
                    </a:cubicBezTo>
                    <a:cubicBezTo>
                      <a:pt x="8200" y="4"/>
                      <a:pt x="8199" y="5"/>
                      <a:pt x="8198" y="5"/>
                    </a:cubicBezTo>
                    <a:lnTo>
                      <a:pt x="8198" y="5"/>
                    </a:lnTo>
                    <a:cubicBezTo>
                      <a:pt x="8197" y="5"/>
                      <a:pt x="8196" y="4"/>
                      <a:pt x="8196" y="3"/>
                    </a:cubicBezTo>
                    <a:cubicBezTo>
                      <a:pt x="8196" y="2"/>
                      <a:pt x="8197" y="1"/>
                      <a:pt x="8198" y="1"/>
                    </a:cubicBezTo>
                    <a:close/>
                    <a:moveTo>
                      <a:pt x="8206" y="1"/>
                    </a:moveTo>
                    <a:lnTo>
                      <a:pt x="8206" y="1"/>
                    </a:lnTo>
                    <a:cubicBezTo>
                      <a:pt x="8207" y="1"/>
                      <a:pt x="8208" y="2"/>
                      <a:pt x="8208" y="3"/>
                    </a:cubicBezTo>
                    <a:cubicBezTo>
                      <a:pt x="8208" y="4"/>
                      <a:pt x="8207" y="5"/>
                      <a:pt x="8206" y="5"/>
                    </a:cubicBezTo>
                    <a:lnTo>
                      <a:pt x="8206" y="5"/>
                    </a:lnTo>
                    <a:cubicBezTo>
                      <a:pt x="8205" y="5"/>
                      <a:pt x="8204" y="4"/>
                      <a:pt x="8204" y="3"/>
                    </a:cubicBezTo>
                    <a:cubicBezTo>
                      <a:pt x="8204" y="2"/>
                      <a:pt x="8205" y="1"/>
                      <a:pt x="8206" y="1"/>
                    </a:cubicBezTo>
                    <a:close/>
                    <a:moveTo>
                      <a:pt x="8214" y="1"/>
                    </a:moveTo>
                    <a:lnTo>
                      <a:pt x="8214" y="1"/>
                    </a:lnTo>
                    <a:cubicBezTo>
                      <a:pt x="8215" y="1"/>
                      <a:pt x="8216" y="2"/>
                      <a:pt x="8216" y="3"/>
                    </a:cubicBezTo>
                    <a:cubicBezTo>
                      <a:pt x="8216" y="4"/>
                      <a:pt x="8215" y="5"/>
                      <a:pt x="8214" y="5"/>
                    </a:cubicBezTo>
                    <a:lnTo>
                      <a:pt x="8214" y="5"/>
                    </a:lnTo>
                    <a:cubicBezTo>
                      <a:pt x="8213" y="5"/>
                      <a:pt x="8212" y="4"/>
                      <a:pt x="8212" y="3"/>
                    </a:cubicBezTo>
                    <a:cubicBezTo>
                      <a:pt x="8212" y="2"/>
                      <a:pt x="8213" y="1"/>
                      <a:pt x="8214" y="1"/>
                    </a:cubicBezTo>
                    <a:close/>
                    <a:moveTo>
                      <a:pt x="8222" y="1"/>
                    </a:moveTo>
                    <a:lnTo>
                      <a:pt x="8222" y="1"/>
                    </a:lnTo>
                    <a:cubicBezTo>
                      <a:pt x="8223" y="1"/>
                      <a:pt x="8224" y="2"/>
                      <a:pt x="8224" y="3"/>
                    </a:cubicBezTo>
                    <a:cubicBezTo>
                      <a:pt x="8224" y="4"/>
                      <a:pt x="8223" y="5"/>
                      <a:pt x="8222" y="5"/>
                    </a:cubicBezTo>
                    <a:lnTo>
                      <a:pt x="8222" y="5"/>
                    </a:lnTo>
                    <a:cubicBezTo>
                      <a:pt x="8221" y="5"/>
                      <a:pt x="8220" y="4"/>
                      <a:pt x="8220" y="3"/>
                    </a:cubicBezTo>
                    <a:cubicBezTo>
                      <a:pt x="8220" y="2"/>
                      <a:pt x="8221" y="1"/>
                      <a:pt x="8222" y="1"/>
                    </a:cubicBezTo>
                    <a:close/>
                    <a:moveTo>
                      <a:pt x="8230" y="1"/>
                    </a:moveTo>
                    <a:lnTo>
                      <a:pt x="8230" y="1"/>
                    </a:lnTo>
                    <a:cubicBezTo>
                      <a:pt x="8231" y="1"/>
                      <a:pt x="8232" y="2"/>
                      <a:pt x="8232" y="3"/>
                    </a:cubicBezTo>
                    <a:cubicBezTo>
                      <a:pt x="8232" y="4"/>
                      <a:pt x="8231" y="5"/>
                      <a:pt x="8230" y="5"/>
                    </a:cubicBezTo>
                    <a:lnTo>
                      <a:pt x="8230" y="5"/>
                    </a:lnTo>
                    <a:cubicBezTo>
                      <a:pt x="8229" y="5"/>
                      <a:pt x="8228" y="4"/>
                      <a:pt x="8228" y="3"/>
                    </a:cubicBezTo>
                    <a:cubicBezTo>
                      <a:pt x="8228" y="2"/>
                      <a:pt x="8229" y="1"/>
                      <a:pt x="8230" y="1"/>
                    </a:cubicBezTo>
                    <a:close/>
                    <a:moveTo>
                      <a:pt x="8238" y="1"/>
                    </a:moveTo>
                    <a:lnTo>
                      <a:pt x="8238" y="1"/>
                    </a:lnTo>
                    <a:cubicBezTo>
                      <a:pt x="8239" y="1"/>
                      <a:pt x="8240" y="2"/>
                      <a:pt x="8240" y="3"/>
                    </a:cubicBezTo>
                    <a:cubicBezTo>
                      <a:pt x="8240" y="4"/>
                      <a:pt x="8239" y="5"/>
                      <a:pt x="8238" y="5"/>
                    </a:cubicBezTo>
                    <a:lnTo>
                      <a:pt x="8238" y="5"/>
                    </a:lnTo>
                    <a:cubicBezTo>
                      <a:pt x="8237" y="5"/>
                      <a:pt x="8236" y="4"/>
                      <a:pt x="8236" y="3"/>
                    </a:cubicBezTo>
                    <a:cubicBezTo>
                      <a:pt x="8236" y="2"/>
                      <a:pt x="8237" y="1"/>
                      <a:pt x="8238" y="1"/>
                    </a:cubicBezTo>
                    <a:close/>
                    <a:moveTo>
                      <a:pt x="8246" y="1"/>
                    </a:moveTo>
                    <a:lnTo>
                      <a:pt x="8246" y="1"/>
                    </a:lnTo>
                    <a:cubicBezTo>
                      <a:pt x="8247" y="1"/>
                      <a:pt x="8248" y="2"/>
                      <a:pt x="8248" y="3"/>
                    </a:cubicBezTo>
                    <a:cubicBezTo>
                      <a:pt x="8248" y="4"/>
                      <a:pt x="8247" y="5"/>
                      <a:pt x="8246" y="5"/>
                    </a:cubicBezTo>
                    <a:lnTo>
                      <a:pt x="8246" y="5"/>
                    </a:lnTo>
                    <a:cubicBezTo>
                      <a:pt x="8245" y="5"/>
                      <a:pt x="8244" y="4"/>
                      <a:pt x="8244" y="3"/>
                    </a:cubicBezTo>
                    <a:cubicBezTo>
                      <a:pt x="8244" y="2"/>
                      <a:pt x="8245" y="1"/>
                      <a:pt x="8246" y="1"/>
                    </a:cubicBezTo>
                    <a:close/>
                    <a:moveTo>
                      <a:pt x="8254" y="1"/>
                    </a:moveTo>
                    <a:lnTo>
                      <a:pt x="8254" y="1"/>
                    </a:lnTo>
                    <a:cubicBezTo>
                      <a:pt x="8255" y="1"/>
                      <a:pt x="8256" y="2"/>
                      <a:pt x="8256" y="3"/>
                    </a:cubicBezTo>
                    <a:cubicBezTo>
                      <a:pt x="8256" y="4"/>
                      <a:pt x="8255" y="5"/>
                      <a:pt x="8254" y="5"/>
                    </a:cubicBezTo>
                    <a:lnTo>
                      <a:pt x="8254" y="5"/>
                    </a:lnTo>
                    <a:cubicBezTo>
                      <a:pt x="8253" y="5"/>
                      <a:pt x="8252" y="4"/>
                      <a:pt x="8252" y="3"/>
                    </a:cubicBezTo>
                    <a:cubicBezTo>
                      <a:pt x="8252" y="2"/>
                      <a:pt x="8253" y="1"/>
                      <a:pt x="8254" y="1"/>
                    </a:cubicBezTo>
                    <a:close/>
                    <a:moveTo>
                      <a:pt x="8262" y="1"/>
                    </a:moveTo>
                    <a:lnTo>
                      <a:pt x="8262" y="1"/>
                    </a:lnTo>
                    <a:cubicBezTo>
                      <a:pt x="8263" y="1"/>
                      <a:pt x="8264" y="2"/>
                      <a:pt x="8264" y="3"/>
                    </a:cubicBezTo>
                    <a:cubicBezTo>
                      <a:pt x="8264" y="4"/>
                      <a:pt x="8263" y="5"/>
                      <a:pt x="8262" y="5"/>
                    </a:cubicBezTo>
                    <a:lnTo>
                      <a:pt x="8262" y="5"/>
                    </a:lnTo>
                    <a:cubicBezTo>
                      <a:pt x="8261" y="5"/>
                      <a:pt x="8260" y="4"/>
                      <a:pt x="8260" y="3"/>
                    </a:cubicBezTo>
                    <a:cubicBezTo>
                      <a:pt x="8260" y="2"/>
                      <a:pt x="8261" y="1"/>
                      <a:pt x="8262" y="1"/>
                    </a:cubicBezTo>
                    <a:close/>
                    <a:moveTo>
                      <a:pt x="8270" y="1"/>
                    </a:moveTo>
                    <a:lnTo>
                      <a:pt x="8270" y="1"/>
                    </a:lnTo>
                    <a:cubicBezTo>
                      <a:pt x="8271" y="1"/>
                      <a:pt x="8272" y="2"/>
                      <a:pt x="8272" y="3"/>
                    </a:cubicBezTo>
                    <a:cubicBezTo>
                      <a:pt x="8272" y="4"/>
                      <a:pt x="8271" y="5"/>
                      <a:pt x="8270" y="5"/>
                    </a:cubicBezTo>
                    <a:lnTo>
                      <a:pt x="8270" y="5"/>
                    </a:lnTo>
                    <a:cubicBezTo>
                      <a:pt x="8269" y="5"/>
                      <a:pt x="8268" y="4"/>
                      <a:pt x="8268" y="3"/>
                    </a:cubicBezTo>
                    <a:cubicBezTo>
                      <a:pt x="8268" y="2"/>
                      <a:pt x="8269" y="1"/>
                      <a:pt x="8270" y="1"/>
                    </a:cubicBezTo>
                    <a:close/>
                    <a:moveTo>
                      <a:pt x="8278" y="1"/>
                    </a:moveTo>
                    <a:lnTo>
                      <a:pt x="8278" y="1"/>
                    </a:lnTo>
                    <a:cubicBezTo>
                      <a:pt x="8279" y="1"/>
                      <a:pt x="8280" y="2"/>
                      <a:pt x="8280" y="3"/>
                    </a:cubicBezTo>
                    <a:cubicBezTo>
                      <a:pt x="8280" y="4"/>
                      <a:pt x="8279" y="5"/>
                      <a:pt x="8278" y="5"/>
                    </a:cubicBezTo>
                    <a:lnTo>
                      <a:pt x="8278" y="5"/>
                    </a:lnTo>
                    <a:cubicBezTo>
                      <a:pt x="8277" y="5"/>
                      <a:pt x="8276" y="4"/>
                      <a:pt x="8276" y="3"/>
                    </a:cubicBezTo>
                    <a:cubicBezTo>
                      <a:pt x="8276" y="2"/>
                      <a:pt x="8277" y="1"/>
                      <a:pt x="8278" y="1"/>
                    </a:cubicBezTo>
                    <a:close/>
                    <a:moveTo>
                      <a:pt x="8286" y="1"/>
                    </a:moveTo>
                    <a:lnTo>
                      <a:pt x="8286" y="1"/>
                    </a:lnTo>
                    <a:cubicBezTo>
                      <a:pt x="8287" y="1"/>
                      <a:pt x="8288" y="2"/>
                      <a:pt x="8288" y="3"/>
                    </a:cubicBezTo>
                    <a:cubicBezTo>
                      <a:pt x="8288" y="4"/>
                      <a:pt x="8287" y="5"/>
                      <a:pt x="8286" y="5"/>
                    </a:cubicBezTo>
                    <a:lnTo>
                      <a:pt x="8286" y="5"/>
                    </a:lnTo>
                    <a:cubicBezTo>
                      <a:pt x="8285" y="5"/>
                      <a:pt x="8284" y="4"/>
                      <a:pt x="8284" y="3"/>
                    </a:cubicBezTo>
                    <a:cubicBezTo>
                      <a:pt x="8284" y="2"/>
                      <a:pt x="8285" y="1"/>
                      <a:pt x="8286" y="1"/>
                    </a:cubicBezTo>
                    <a:close/>
                    <a:moveTo>
                      <a:pt x="8294" y="1"/>
                    </a:moveTo>
                    <a:lnTo>
                      <a:pt x="8294" y="1"/>
                    </a:lnTo>
                    <a:cubicBezTo>
                      <a:pt x="8295" y="1"/>
                      <a:pt x="8296" y="2"/>
                      <a:pt x="8296" y="3"/>
                    </a:cubicBezTo>
                    <a:cubicBezTo>
                      <a:pt x="8296" y="4"/>
                      <a:pt x="8295" y="5"/>
                      <a:pt x="8294" y="5"/>
                    </a:cubicBezTo>
                    <a:lnTo>
                      <a:pt x="8294" y="5"/>
                    </a:lnTo>
                    <a:cubicBezTo>
                      <a:pt x="8293" y="5"/>
                      <a:pt x="8292" y="4"/>
                      <a:pt x="8292" y="3"/>
                    </a:cubicBezTo>
                    <a:cubicBezTo>
                      <a:pt x="8292" y="2"/>
                      <a:pt x="8293" y="1"/>
                      <a:pt x="8294" y="1"/>
                    </a:cubicBezTo>
                    <a:close/>
                    <a:moveTo>
                      <a:pt x="8302" y="1"/>
                    </a:moveTo>
                    <a:lnTo>
                      <a:pt x="8302" y="1"/>
                    </a:lnTo>
                    <a:cubicBezTo>
                      <a:pt x="8303" y="1"/>
                      <a:pt x="8304" y="2"/>
                      <a:pt x="8304" y="3"/>
                    </a:cubicBezTo>
                    <a:cubicBezTo>
                      <a:pt x="8304" y="4"/>
                      <a:pt x="8303" y="5"/>
                      <a:pt x="8302" y="5"/>
                    </a:cubicBezTo>
                    <a:lnTo>
                      <a:pt x="8302" y="5"/>
                    </a:lnTo>
                    <a:cubicBezTo>
                      <a:pt x="8301" y="5"/>
                      <a:pt x="8300" y="4"/>
                      <a:pt x="8300" y="3"/>
                    </a:cubicBezTo>
                    <a:cubicBezTo>
                      <a:pt x="8300" y="2"/>
                      <a:pt x="8301" y="1"/>
                      <a:pt x="8302" y="1"/>
                    </a:cubicBezTo>
                    <a:close/>
                    <a:moveTo>
                      <a:pt x="8310" y="1"/>
                    </a:moveTo>
                    <a:lnTo>
                      <a:pt x="8310" y="1"/>
                    </a:lnTo>
                    <a:cubicBezTo>
                      <a:pt x="8311" y="1"/>
                      <a:pt x="8312" y="2"/>
                      <a:pt x="8312" y="3"/>
                    </a:cubicBezTo>
                    <a:cubicBezTo>
                      <a:pt x="8312" y="4"/>
                      <a:pt x="8311" y="5"/>
                      <a:pt x="8310" y="5"/>
                    </a:cubicBezTo>
                    <a:lnTo>
                      <a:pt x="8310" y="5"/>
                    </a:lnTo>
                    <a:cubicBezTo>
                      <a:pt x="8309" y="5"/>
                      <a:pt x="8308" y="4"/>
                      <a:pt x="8308" y="3"/>
                    </a:cubicBezTo>
                    <a:cubicBezTo>
                      <a:pt x="8308" y="2"/>
                      <a:pt x="8309" y="1"/>
                      <a:pt x="8310" y="1"/>
                    </a:cubicBezTo>
                    <a:close/>
                    <a:moveTo>
                      <a:pt x="8318" y="1"/>
                    </a:moveTo>
                    <a:lnTo>
                      <a:pt x="8318" y="1"/>
                    </a:lnTo>
                    <a:cubicBezTo>
                      <a:pt x="8319" y="1"/>
                      <a:pt x="8320" y="2"/>
                      <a:pt x="8320" y="3"/>
                    </a:cubicBezTo>
                    <a:cubicBezTo>
                      <a:pt x="8320" y="4"/>
                      <a:pt x="8319" y="5"/>
                      <a:pt x="8318" y="5"/>
                    </a:cubicBezTo>
                    <a:lnTo>
                      <a:pt x="8318" y="5"/>
                    </a:lnTo>
                    <a:cubicBezTo>
                      <a:pt x="8317" y="5"/>
                      <a:pt x="8316" y="4"/>
                      <a:pt x="8316" y="3"/>
                    </a:cubicBezTo>
                    <a:cubicBezTo>
                      <a:pt x="8316" y="2"/>
                      <a:pt x="8317" y="1"/>
                      <a:pt x="8318" y="1"/>
                    </a:cubicBezTo>
                    <a:close/>
                    <a:moveTo>
                      <a:pt x="8326" y="1"/>
                    </a:moveTo>
                    <a:lnTo>
                      <a:pt x="8326" y="1"/>
                    </a:lnTo>
                    <a:cubicBezTo>
                      <a:pt x="8327" y="1"/>
                      <a:pt x="8328" y="2"/>
                      <a:pt x="8328" y="3"/>
                    </a:cubicBezTo>
                    <a:cubicBezTo>
                      <a:pt x="8328" y="4"/>
                      <a:pt x="8327" y="5"/>
                      <a:pt x="8326" y="5"/>
                    </a:cubicBezTo>
                    <a:lnTo>
                      <a:pt x="8326" y="5"/>
                    </a:lnTo>
                    <a:cubicBezTo>
                      <a:pt x="8325" y="5"/>
                      <a:pt x="8324" y="4"/>
                      <a:pt x="8324" y="3"/>
                    </a:cubicBezTo>
                    <a:cubicBezTo>
                      <a:pt x="8324" y="2"/>
                      <a:pt x="8325" y="1"/>
                      <a:pt x="8326" y="1"/>
                    </a:cubicBezTo>
                    <a:close/>
                    <a:moveTo>
                      <a:pt x="8334" y="1"/>
                    </a:moveTo>
                    <a:lnTo>
                      <a:pt x="8334" y="1"/>
                    </a:lnTo>
                    <a:cubicBezTo>
                      <a:pt x="8335" y="1"/>
                      <a:pt x="8336" y="2"/>
                      <a:pt x="8336" y="3"/>
                    </a:cubicBezTo>
                    <a:cubicBezTo>
                      <a:pt x="8336" y="4"/>
                      <a:pt x="8335" y="5"/>
                      <a:pt x="8334" y="5"/>
                    </a:cubicBezTo>
                    <a:lnTo>
                      <a:pt x="8334" y="5"/>
                    </a:lnTo>
                    <a:cubicBezTo>
                      <a:pt x="8333" y="5"/>
                      <a:pt x="8332" y="4"/>
                      <a:pt x="8332" y="3"/>
                    </a:cubicBezTo>
                    <a:cubicBezTo>
                      <a:pt x="8332" y="2"/>
                      <a:pt x="8333" y="1"/>
                      <a:pt x="8334" y="1"/>
                    </a:cubicBezTo>
                    <a:close/>
                    <a:moveTo>
                      <a:pt x="8342" y="1"/>
                    </a:moveTo>
                    <a:lnTo>
                      <a:pt x="8342" y="1"/>
                    </a:lnTo>
                    <a:cubicBezTo>
                      <a:pt x="8343" y="1"/>
                      <a:pt x="8344" y="2"/>
                      <a:pt x="8344" y="3"/>
                    </a:cubicBezTo>
                    <a:cubicBezTo>
                      <a:pt x="8344" y="4"/>
                      <a:pt x="8343" y="5"/>
                      <a:pt x="8342" y="5"/>
                    </a:cubicBezTo>
                    <a:lnTo>
                      <a:pt x="8342" y="5"/>
                    </a:lnTo>
                    <a:cubicBezTo>
                      <a:pt x="8341" y="5"/>
                      <a:pt x="8340" y="4"/>
                      <a:pt x="8340" y="3"/>
                    </a:cubicBezTo>
                    <a:cubicBezTo>
                      <a:pt x="8340" y="2"/>
                      <a:pt x="8341" y="1"/>
                      <a:pt x="8342" y="1"/>
                    </a:cubicBezTo>
                    <a:close/>
                    <a:moveTo>
                      <a:pt x="8350" y="1"/>
                    </a:moveTo>
                    <a:lnTo>
                      <a:pt x="8350" y="1"/>
                    </a:lnTo>
                    <a:cubicBezTo>
                      <a:pt x="8351" y="1"/>
                      <a:pt x="8352" y="2"/>
                      <a:pt x="8352" y="3"/>
                    </a:cubicBezTo>
                    <a:cubicBezTo>
                      <a:pt x="8352" y="4"/>
                      <a:pt x="8351" y="5"/>
                      <a:pt x="8350" y="5"/>
                    </a:cubicBezTo>
                    <a:lnTo>
                      <a:pt x="8350" y="5"/>
                    </a:lnTo>
                    <a:cubicBezTo>
                      <a:pt x="8349" y="5"/>
                      <a:pt x="8348" y="4"/>
                      <a:pt x="8348" y="3"/>
                    </a:cubicBezTo>
                    <a:cubicBezTo>
                      <a:pt x="8348" y="2"/>
                      <a:pt x="8349" y="1"/>
                      <a:pt x="8350" y="1"/>
                    </a:cubicBezTo>
                    <a:close/>
                    <a:moveTo>
                      <a:pt x="8358" y="1"/>
                    </a:moveTo>
                    <a:lnTo>
                      <a:pt x="8358" y="1"/>
                    </a:lnTo>
                    <a:cubicBezTo>
                      <a:pt x="8359" y="1"/>
                      <a:pt x="8360" y="2"/>
                      <a:pt x="8360" y="3"/>
                    </a:cubicBezTo>
                    <a:cubicBezTo>
                      <a:pt x="8360" y="4"/>
                      <a:pt x="8359" y="5"/>
                      <a:pt x="8358" y="5"/>
                    </a:cubicBezTo>
                    <a:lnTo>
                      <a:pt x="8358" y="5"/>
                    </a:lnTo>
                    <a:cubicBezTo>
                      <a:pt x="8357" y="5"/>
                      <a:pt x="8356" y="4"/>
                      <a:pt x="8356" y="3"/>
                    </a:cubicBezTo>
                    <a:cubicBezTo>
                      <a:pt x="8356" y="2"/>
                      <a:pt x="8357" y="1"/>
                      <a:pt x="8358" y="1"/>
                    </a:cubicBezTo>
                    <a:close/>
                    <a:moveTo>
                      <a:pt x="8366" y="1"/>
                    </a:moveTo>
                    <a:lnTo>
                      <a:pt x="8366" y="1"/>
                    </a:lnTo>
                    <a:cubicBezTo>
                      <a:pt x="8367" y="1"/>
                      <a:pt x="8368" y="2"/>
                      <a:pt x="8368" y="3"/>
                    </a:cubicBezTo>
                    <a:cubicBezTo>
                      <a:pt x="8368" y="4"/>
                      <a:pt x="8367" y="5"/>
                      <a:pt x="8366" y="5"/>
                    </a:cubicBezTo>
                    <a:lnTo>
                      <a:pt x="8366" y="5"/>
                    </a:lnTo>
                    <a:cubicBezTo>
                      <a:pt x="8365" y="5"/>
                      <a:pt x="8364" y="4"/>
                      <a:pt x="8364" y="3"/>
                    </a:cubicBezTo>
                    <a:cubicBezTo>
                      <a:pt x="8364" y="2"/>
                      <a:pt x="8365" y="1"/>
                      <a:pt x="8366" y="1"/>
                    </a:cubicBezTo>
                    <a:close/>
                    <a:moveTo>
                      <a:pt x="8374" y="1"/>
                    </a:moveTo>
                    <a:lnTo>
                      <a:pt x="8374" y="1"/>
                    </a:lnTo>
                    <a:cubicBezTo>
                      <a:pt x="8375" y="1"/>
                      <a:pt x="8376" y="2"/>
                      <a:pt x="8376" y="3"/>
                    </a:cubicBezTo>
                    <a:cubicBezTo>
                      <a:pt x="8376" y="4"/>
                      <a:pt x="8375" y="5"/>
                      <a:pt x="8374" y="5"/>
                    </a:cubicBezTo>
                    <a:lnTo>
                      <a:pt x="8374" y="5"/>
                    </a:lnTo>
                    <a:cubicBezTo>
                      <a:pt x="8373" y="5"/>
                      <a:pt x="8372" y="4"/>
                      <a:pt x="8372" y="3"/>
                    </a:cubicBezTo>
                    <a:cubicBezTo>
                      <a:pt x="8372" y="2"/>
                      <a:pt x="8373" y="1"/>
                      <a:pt x="8374" y="1"/>
                    </a:cubicBezTo>
                    <a:close/>
                    <a:moveTo>
                      <a:pt x="8382" y="1"/>
                    </a:moveTo>
                    <a:lnTo>
                      <a:pt x="8382" y="1"/>
                    </a:lnTo>
                    <a:cubicBezTo>
                      <a:pt x="8383" y="1"/>
                      <a:pt x="8384" y="2"/>
                      <a:pt x="8384" y="3"/>
                    </a:cubicBezTo>
                    <a:cubicBezTo>
                      <a:pt x="8384" y="4"/>
                      <a:pt x="8383" y="5"/>
                      <a:pt x="8382" y="5"/>
                    </a:cubicBezTo>
                    <a:lnTo>
                      <a:pt x="8382" y="5"/>
                    </a:lnTo>
                    <a:cubicBezTo>
                      <a:pt x="8381" y="5"/>
                      <a:pt x="8380" y="4"/>
                      <a:pt x="8380" y="3"/>
                    </a:cubicBezTo>
                    <a:cubicBezTo>
                      <a:pt x="8380" y="2"/>
                      <a:pt x="8381" y="1"/>
                      <a:pt x="8382" y="1"/>
                    </a:cubicBezTo>
                    <a:close/>
                    <a:moveTo>
                      <a:pt x="8390" y="1"/>
                    </a:moveTo>
                    <a:lnTo>
                      <a:pt x="8390" y="1"/>
                    </a:lnTo>
                    <a:cubicBezTo>
                      <a:pt x="8391" y="1"/>
                      <a:pt x="8392" y="2"/>
                      <a:pt x="8392" y="3"/>
                    </a:cubicBezTo>
                    <a:cubicBezTo>
                      <a:pt x="8392" y="4"/>
                      <a:pt x="8391" y="5"/>
                      <a:pt x="8390" y="5"/>
                    </a:cubicBezTo>
                    <a:lnTo>
                      <a:pt x="8390" y="5"/>
                    </a:lnTo>
                    <a:cubicBezTo>
                      <a:pt x="8389" y="5"/>
                      <a:pt x="8388" y="4"/>
                      <a:pt x="8388" y="3"/>
                    </a:cubicBezTo>
                    <a:cubicBezTo>
                      <a:pt x="8388" y="2"/>
                      <a:pt x="8389" y="1"/>
                      <a:pt x="8390" y="1"/>
                    </a:cubicBezTo>
                    <a:close/>
                    <a:moveTo>
                      <a:pt x="8398" y="1"/>
                    </a:moveTo>
                    <a:lnTo>
                      <a:pt x="8398" y="1"/>
                    </a:lnTo>
                    <a:cubicBezTo>
                      <a:pt x="8399" y="1"/>
                      <a:pt x="8400" y="2"/>
                      <a:pt x="8400" y="3"/>
                    </a:cubicBezTo>
                    <a:cubicBezTo>
                      <a:pt x="8400" y="4"/>
                      <a:pt x="8399" y="5"/>
                      <a:pt x="8398" y="5"/>
                    </a:cubicBezTo>
                    <a:lnTo>
                      <a:pt x="8398" y="5"/>
                    </a:lnTo>
                    <a:cubicBezTo>
                      <a:pt x="8397" y="5"/>
                      <a:pt x="8396" y="4"/>
                      <a:pt x="8396" y="3"/>
                    </a:cubicBezTo>
                    <a:cubicBezTo>
                      <a:pt x="8396" y="2"/>
                      <a:pt x="8397" y="1"/>
                      <a:pt x="8398" y="1"/>
                    </a:cubicBezTo>
                    <a:close/>
                    <a:moveTo>
                      <a:pt x="8406" y="1"/>
                    </a:moveTo>
                    <a:lnTo>
                      <a:pt x="8406" y="1"/>
                    </a:lnTo>
                    <a:cubicBezTo>
                      <a:pt x="8407" y="1"/>
                      <a:pt x="8408" y="2"/>
                      <a:pt x="8408" y="3"/>
                    </a:cubicBezTo>
                    <a:cubicBezTo>
                      <a:pt x="8408" y="4"/>
                      <a:pt x="8407" y="5"/>
                      <a:pt x="8406" y="5"/>
                    </a:cubicBezTo>
                    <a:lnTo>
                      <a:pt x="8406" y="5"/>
                    </a:lnTo>
                    <a:cubicBezTo>
                      <a:pt x="8405" y="5"/>
                      <a:pt x="8404" y="4"/>
                      <a:pt x="8404" y="3"/>
                    </a:cubicBezTo>
                    <a:cubicBezTo>
                      <a:pt x="8404" y="2"/>
                      <a:pt x="8405" y="1"/>
                      <a:pt x="8406" y="1"/>
                    </a:cubicBezTo>
                    <a:close/>
                    <a:moveTo>
                      <a:pt x="8414" y="1"/>
                    </a:moveTo>
                    <a:lnTo>
                      <a:pt x="8414" y="1"/>
                    </a:lnTo>
                    <a:cubicBezTo>
                      <a:pt x="8415" y="1"/>
                      <a:pt x="8416" y="2"/>
                      <a:pt x="8416" y="3"/>
                    </a:cubicBezTo>
                    <a:cubicBezTo>
                      <a:pt x="8416" y="4"/>
                      <a:pt x="8415" y="5"/>
                      <a:pt x="8414" y="5"/>
                    </a:cubicBezTo>
                    <a:lnTo>
                      <a:pt x="8414" y="5"/>
                    </a:lnTo>
                    <a:cubicBezTo>
                      <a:pt x="8413" y="5"/>
                      <a:pt x="8412" y="4"/>
                      <a:pt x="8412" y="3"/>
                    </a:cubicBezTo>
                    <a:cubicBezTo>
                      <a:pt x="8412" y="2"/>
                      <a:pt x="8413" y="1"/>
                      <a:pt x="8414" y="1"/>
                    </a:cubicBezTo>
                    <a:close/>
                    <a:moveTo>
                      <a:pt x="8422" y="1"/>
                    </a:moveTo>
                    <a:lnTo>
                      <a:pt x="8422" y="1"/>
                    </a:lnTo>
                    <a:cubicBezTo>
                      <a:pt x="8423" y="1"/>
                      <a:pt x="8424" y="2"/>
                      <a:pt x="8424" y="3"/>
                    </a:cubicBezTo>
                    <a:cubicBezTo>
                      <a:pt x="8424" y="4"/>
                      <a:pt x="8423" y="5"/>
                      <a:pt x="8422" y="5"/>
                    </a:cubicBezTo>
                    <a:lnTo>
                      <a:pt x="8422" y="5"/>
                    </a:lnTo>
                    <a:cubicBezTo>
                      <a:pt x="8421" y="5"/>
                      <a:pt x="8420" y="4"/>
                      <a:pt x="8420" y="3"/>
                    </a:cubicBezTo>
                    <a:cubicBezTo>
                      <a:pt x="8420" y="2"/>
                      <a:pt x="8421" y="1"/>
                      <a:pt x="8422" y="1"/>
                    </a:cubicBezTo>
                    <a:close/>
                    <a:moveTo>
                      <a:pt x="8430" y="1"/>
                    </a:moveTo>
                    <a:lnTo>
                      <a:pt x="8430" y="1"/>
                    </a:lnTo>
                    <a:cubicBezTo>
                      <a:pt x="8431" y="1"/>
                      <a:pt x="8432" y="2"/>
                      <a:pt x="8432" y="3"/>
                    </a:cubicBezTo>
                    <a:cubicBezTo>
                      <a:pt x="8432" y="4"/>
                      <a:pt x="8431" y="5"/>
                      <a:pt x="8430" y="5"/>
                    </a:cubicBezTo>
                    <a:lnTo>
                      <a:pt x="8430" y="5"/>
                    </a:lnTo>
                    <a:cubicBezTo>
                      <a:pt x="8429" y="5"/>
                      <a:pt x="8428" y="4"/>
                      <a:pt x="8428" y="3"/>
                    </a:cubicBezTo>
                    <a:cubicBezTo>
                      <a:pt x="8428" y="2"/>
                      <a:pt x="8429" y="1"/>
                      <a:pt x="8430" y="1"/>
                    </a:cubicBezTo>
                    <a:close/>
                    <a:moveTo>
                      <a:pt x="8438" y="1"/>
                    </a:moveTo>
                    <a:lnTo>
                      <a:pt x="8438" y="1"/>
                    </a:lnTo>
                    <a:cubicBezTo>
                      <a:pt x="8439" y="1"/>
                      <a:pt x="8440" y="2"/>
                      <a:pt x="8440" y="3"/>
                    </a:cubicBezTo>
                    <a:cubicBezTo>
                      <a:pt x="8440" y="4"/>
                      <a:pt x="8439" y="5"/>
                      <a:pt x="8438" y="5"/>
                    </a:cubicBezTo>
                    <a:lnTo>
                      <a:pt x="8438" y="5"/>
                    </a:lnTo>
                    <a:cubicBezTo>
                      <a:pt x="8437" y="5"/>
                      <a:pt x="8436" y="4"/>
                      <a:pt x="8436" y="3"/>
                    </a:cubicBezTo>
                    <a:cubicBezTo>
                      <a:pt x="8436" y="2"/>
                      <a:pt x="8437" y="1"/>
                      <a:pt x="8438" y="1"/>
                    </a:cubicBezTo>
                    <a:close/>
                    <a:moveTo>
                      <a:pt x="8446" y="1"/>
                    </a:moveTo>
                    <a:lnTo>
                      <a:pt x="8446" y="1"/>
                    </a:lnTo>
                    <a:cubicBezTo>
                      <a:pt x="8447" y="1"/>
                      <a:pt x="8448" y="2"/>
                      <a:pt x="8448" y="3"/>
                    </a:cubicBezTo>
                    <a:cubicBezTo>
                      <a:pt x="8448" y="4"/>
                      <a:pt x="8447" y="5"/>
                      <a:pt x="8446" y="5"/>
                    </a:cubicBezTo>
                    <a:lnTo>
                      <a:pt x="8446" y="5"/>
                    </a:lnTo>
                    <a:cubicBezTo>
                      <a:pt x="8445" y="5"/>
                      <a:pt x="8444" y="4"/>
                      <a:pt x="8444" y="3"/>
                    </a:cubicBezTo>
                    <a:cubicBezTo>
                      <a:pt x="8444" y="2"/>
                      <a:pt x="8445" y="1"/>
                      <a:pt x="8446" y="1"/>
                    </a:cubicBezTo>
                    <a:close/>
                    <a:moveTo>
                      <a:pt x="8454" y="1"/>
                    </a:moveTo>
                    <a:lnTo>
                      <a:pt x="8454" y="1"/>
                    </a:lnTo>
                    <a:cubicBezTo>
                      <a:pt x="8455" y="1"/>
                      <a:pt x="8456" y="2"/>
                      <a:pt x="8456" y="3"/>
                    </a:cubicBezTo>
                    <a:cubicBezTo>
                      <a:pt x="8456" y="4"/>
                      <a:pt x="8455" y="5"/>
                      <a:pt x="8454" y="5"/>
                    </a:cubicBezTo>
                    <a:lnTo>
                      <a:pt x="8454" y="5"/>
                    </a:lnTo>
                    <a:cubicBezTo>
                      <a:pt x="8453" y="5"/>
                      <a:pt x="8452" y="4"/>
                      <a:pt x="8452" y="3"/>
                    </a:cubicBezTo>
                    <a:cubicBezTo>
                      <a:pt x="8452" y="2"/>
                      <a:pt x="8453" y="1"/>
                      <a:pt x="8454" y="1"/>
                    </a:cubicBezTo>
                    <a:close/>
                    <a:moveTo>
                      <a:pt x="8462" y="1"/>
                    </a:moveTo>
                    <a:lnTo>
                      <a:pt x="8462" y="1"/>
                    </a:lnTo>
                    <a:cubicBezTo>
                      <a:pt x="8463" y="1"/>
                      <a:pt x="8464" y="2"/>
                      <a:pt x="8464" y="3"/>
                    </a:cubicBezTo>
                    <a:cubicBezTo>
                      <a:pt x="8464" y="4"/>
                      <a:pt x="8463" y="5"/>
                      <a:pt x="8462" y="5"/>
                    </a:cubicBezTo>
                    <a:lnTo>
                      <a:pt x="8462" y="5"/>
                    </a:lnTo>
                    <a:cubicBezTo>
                      <a:pt x="8461" y="5"/>
                      <a:pt x="8460" y="4"/>
                      <a:pt x="8460" y="3"/>
                    </a:cubicBezTo>
                    <a:cubicBezTo>
                      <a:pt x="8460" y="2"/>
                      <a:pt x="8461" y="1"/>
                      <a:pt x="8462" y="1"/>
                    </a:cubicBezTo>
                    <a:close/>
                    <a:moveTo>
                      <a:pt x="8470" y="1"/>
                    </a:moveTo>
                    <a:lnTo>
                      <a:pt x="8470" y="1"/>
                    </a:lnTo>
                    <a:cubicBezTo>
                      <a:pt x="8471" y="1"/>
                      <a:pt x="8472" y="2"/>
                      <a:pt x="8472" y="3"/>
                    </a:cubicBezTo>
                    <a:cubicBezTo>
                      <a:pt x="8472" y="4"/>
                      <a:pt x="8471" y="5"/>
                      <a:pt x="8470" y="5"/>
                    </a:cubicBezTo>
                    <a:lnTo>
                      <a:pt x="8470" y="5"/>
                    </a:lnTo>
                    <a:cubicBezTo>
                      <a:pt x="8469" y="5"/>
                      <a:pt x="8468" y="4"/>
                      <a:pt x="8468" y="3"/>
                    </a:cubicBezTo>
                    <a:cubicBezTo>
                      <a:pt x="8468" y="2"/>
                      <a:pt x="8469" y="1"/>
                      <a:pt x="8470" y="1"/>
                    </a:cubicBezTo>
                    <a:close/>
                    <a:moveTo>
                      <a:pt x="8478" y="1"/>
                    </a:moveTo>
                    <a:lnTo>
                      <a:pt x="8478" y="1"/>
                    </a:lnTo>
                    <a:cubicBezTo>
                      <a:pt x="8479" y="1"/>
                      <a:pt x="8480" y="2"/>
                      <a:pt x="8480" y="3"/>
                    </a:cubicBezTo>
                    <a:cubicBezTo>
                      <a:pt x="8480" y="4"/>
                      <a:pt x="8479" y="5"/>
                      <a:pt x="8478" y="5"/>
                    </a:cubicBezTo>
                    <a:lnTo>
                      <a:pt x="8478" y="5"/>
                    </a:lnTo>
                    <a:cubicBezTo>
                      <a:pt x="8477" y="5"/>
                      <a:pt x="8476" y="4"/>
                      <a:pt x="8476" y="3"/>
                    </a:cubicBezTo>
                    <a:cubicBezTo>
                      <a:pt x="8476" y="2"/>
                      <a:pt x="8477" y="1"/>
                      <a:pt x="8478" y="1"/>
                    </a:cubicBezTo>
                    <a:close/>
                    <a:moveTo>
                      <a:pt x="8486" y="1"/>
                    </a:moveTo>
                    <a:lnTo>
                      <a:pt x="8486" y="1"/>
                    </a:lnTo>
                    <a:cubicBezTo>
                      <a:pt x="8487" y="1"/>
                      <a:pt x="8488" y="2"/>
                      <a:pt x="8488" y="3"/>
                    </a:cubicBezTo>
                    <a:cubicBezTo>
                      <a:pt x="8488" y="4"/>
                      <a:pt x="8487" y="5"/>
                      <a:pt x="8486" y="5"/>
                    </a:cubicBezTo>
                    <a:lnTo>
                      <a:pt x="8486" y="5"/>
                    </a:lnTo>
                    <a:cubicBezTo>
                      <a:pt x="8485" y="5"/>
                      <a:pt x="8484" y="4"/>
                      <a:pt x="8484" y="3"/>
                    </a:cubicBezTo>
                    <a:cubicBezTo>
                      <a:pt x="8484" y="2"/>
                      <a:pt x="8485" y="1"/>
                      <a:pt x="8486" y="1"/>
                    </a:cubicBezTo>
                    <a:close/>
                    <a:moveTo>
                      <a:pt x="8494" y="1"/>
                    </a:moveTo>
                    <a:lnTo>
                      <a:pt x="8494" y="1"/>
                    </a:lnTo>
                    <a:cubicBezTo>
                      <a:pt x="8495" y="1"/>
                      <a:pt x="8496" y="2"/>
                      <a:pt x="8496" y="3"/>
                    </a:cubicBezTo>
                    <a:cubicBezTo>
                      <a:pt x="8496" y="4"/>
                      <a:pt x="8495" y="5"/>
                      <a:pt x="8494" y="5"/>
                    </a:cubicBezTo>
                    <a:lnTo>
                      <a:pt x="8494" y="5"/>
                    </a:lnTo>
                    <a:cubicBezTo>
                      <a:pt x="8493" y="5"/>
                      <a:pt x="8492" y="4"/>
                      <a:pt x="8492" y="3"/>
                    </a:cubicBezTo>
                    <a:cubicBezTo>
                      <a:pt x="8492" y="2"/>
                      <a:pt x="8493" y="1"/>
                      <a:pt x="8494" y="1"/>
                    </a:cubicBezTo>
                    <a:close/>
                    <a:moveTo>
                      <a:pt x="8502" y="1"/>
                    </a:moveTo>
                    <a:lnTo>
                      <a:pt x="8502" y="1"/>
                    </a:lnTo>
                    <a:cubicBezTo>
                      <a:pt x="8503" y="1"/>
                      <a:pt x="8504" y="2"/>
                      <a:pt x="8504" y="3"/>
                    </a:cubicBezTo>
                    <a:cubicBezTo>
                      <a:pt x="8504" y="4"/>
                      <a:pt x="8503" y="5"/>
                      <a:pt x="8502" y="5"/>
                    </a:cubicBezTo>
                    <a:lnTo>
                      <a:pt x="8502" y="5"/>
                    </a:lnTo>
                    <a:cubicBezTo>
                      <a:pt x="8501" y="5"/>
                      <a:pt x="8500" y="4"/>
                      <a:pt x="8500" y="3"/>
                    </a:cubicBezTo>
                    <a:cubicBezTo>
                      <a:pt x="8500" y="2"/>
                      <a:pt x="8501" y="1"/>
                      <a:pt x="8502" y="1"/>
                    </a:cubicBezTo>
                    <a:close/>
                    <a:moveTo>
                      <a:pt x="8510" y="1"/>
                    </a:moveTo>
                    <a:lnTo>
                      <a:pt x="8510" y="1"/>
                    </a:lnTo>
                    <a:cubicBezTo>
                      <a:pt x="8511" y="1"/>
                      <a:pt x="8512" y="2"/>
                      <a:pt x="8512" y="3"/>
                    </a:cubicBezTo>
                    <a:cubicBezTo>
                      <a:pt x="8512" y="4"/>
                      <a:pt x="8511" y="5"/>
                      <a:pt x="8510" y="5"/>
                    </a:cubicBezTo>
                    <a:lnTo>
                      <a:pt x="8510" y="5"/>
                    </a:lnTo>
                    <a:cubicBezTo>
                      <a:pt x="8509" y="5"/>
                      <a:pt x="8508" y="4"/>
                      <a:pt x="8508" y="3"/>
                    </a:cubicBezTo>
                    <a:cubicBezTo>
                      <a:pt x="8508" y="2"/>
                      <a:pt x="8509" y="1"/>
                      <a:pt x="8510" y="1"/>
                    </a:cubicBezTo>
                    <a:close/>
                    <a:moveTo>
                      <a:pt x="8518" y="1"/>
                    </a:moveTo>
                    <a:lnTo>
                      <a:pt x="8518" y="1"/>
                    </a:lnTo>
                    <a:cubicBezTo>
                      <a:pt x="8519" y="1"/>
                      <a:pt x="8520" y="2"/>
                      <a:pt x="8520" y="3"/>
                    </a:cubicBezTo>
                    <a:cubicBezTo>
                      <a:pt x="8520" y="4"/>
                      <a:pt x="8519" y="5"/>
                      <a:pt x="8518" y="5"/>
                    </a:cubicBezTo>
                    <a:lnTo>
                      <a:pt x="8518" y="5"/>
                    </a:lnTo>
                    <a:cubicBezTo>
                      <a:pt x="8517" y="5"/>
                      <a:pt x="8516" y="4"/>
                      <a:pt x="8516" y="3"/>
                    </a:cubicBezTo>
                    <a:cubicBezTo>
                      <a:pt x="8516" y="2"/>
                      <a:pt x="8517" y="1"/>
                      <a:pt x="8518" y="1"/>
                    </a:cubicBezTo>
                    <a:close/>
                    <a:moveTo>
                      <a:pt x="8526" y="1"/>
                    </a:moveTo>
                    <a:lnTo>
                      <a:pt x="8526" y="1"/>
                    </a:lnTo>
                    <a:cubicBezTo>
                      <a:pt x="8527" y="1"/>
                      <a:pt x="8528" y="2"/>
                      <a:pt x="8528" y="3"/>
                    </a:cubicBezTo>
                    <a:cubicBezTo>
                      <a:pt x="8528" y="4"/>
                      <a:pt x="8527" y="5"/>
                      <a:pt x="8526" y="5"/>
                    </a:cubicBezTo>
                    <a:lnTo>
                      <a:pt x="8526" y="5"/>
                    </a:lnTo>
                    <a:cubicBezTo>
                      <a:pt x="8525" y="5"/>
                      <a:pt x="8524" y="4"/>
                      <a:pt x="8524" y="3"/>
                    </a:cubicBezTo>
                    <a:cubicBezTo>
                      <a:pt x="8524" y="2"/>
                      <a:pt x="8525" y="1"/>
                      <a:pt x="8526" y="1"/>
                    </a:cubicBezTo>
                    <a:close/>
                    <a:moveTo>
                      <a:pt x="8534" y="1"/>
                    </a:moveTo>
                    <a:lnTo>
                      <a:pt x="8534" y="1"/>
                    </a:lnTo>
                    <a:cubicBezTo>
                      <a:pt x="8535" y="1"/>
                      <a:pt x="8536" y="2"/>
                      <a:pt x="8536" y="3"/>
                    </a:cubicBezTo>
                    <a:cubicBezTo>
                      <a:pt x="8536" y="4"/>
                      <a:pt x="8535" y="5"/>
                      <a:pt x="8534" y="5"/>
                    </a:cubicBezTo>
                    <a:lnTo>
                      <a:pt x="8534" y="5"/>
                    </a:lnTo>
                    <a:cubicBezTo>
                      <a:pt x="8533" y="5"/>
                      <a:pt x="8532" y="4"/>
                      <a:pt x="8532" y="3"/>
                    </a:cubicBezTo>
                    <a:cubicBezTo>
                      <a:pt x="8532" y="2"/>
                      <a:pt x="8533" y="1"/>
                      <a:pt x="8534" y="1"/>
                    </a:cubicBezTo>
                    <a:close/>
                    <a:moveTo>
                      <a:pt x="8542" y="1"/>
                    </a:moveTo>
                    <a:lnTo>
                      <a:pt x="8542" y="1"/>
                    </a:lnTo>
                    <a:cubicBezTo>
                      <a:pt x="8543" y="1"/>
                      <a:pt x="8544" y="2"/>
                      <a:pt x="8544" y="3"/>
                    </a:cubicBezTo>
                    <a:cubicBezTo>
                      <a:pt x="8544" y="4"/>
                      <a:pt x="8543" y="5"/>
                      <a:pt x="8542" y="5"/>
                    </a:cubicBezTo>
                    <a:lnTo>
                      <a:pt x="8542" y="5"/>
                    </a:lnTo>
                    <a:cubicBezTo>
                      <a:pt x="8541" y="5"/>
                      <a:pt x="8540" y="4"/>
                      <a:pt x="8540" y="3"/>
                    </a:cubicBezTo>
                    <a:cubicBezTo>
                      <a:pt x="8540" y="2"/>
                      <a:pt x="8541" y="1"/>
                      <a:pt x="8542" y="1"/>
                    </a:cubicBezTo>
                    <a:close/>
                    <a:moveTo>
                      <a:pt x="8550" y="1"/>
                    </a:moveTo>
                    <a:lnTo>
                      <a:pt x="8550" y="1"/>
                    </a:lnTo>
                    <a:cubicBezTo>
                      <a:pt x="8551" y="1"/>
                      <a:pt x="8552" y="2"/>
                      <a:pt x="8552" y="3"/>
                    </a:cubicBezTo>
                    <a:cubicBezTo>
                      <a:pt x="8552" y="4"/>
                      <a:pt x="8551" y="5"/>
                      <a:pt x="8550" y="5"/>
                    </a:cubicBezTo>
                    <a:lnTo>
                      <a:pt x="8550" y="5"/>
                    </a:lnTo>
                    <a:cubicBezTo>
                      <a:pt x="8549" y="5"/>
                      <a:pt x="8548" y="4"/>
                      <a:pt x="8548" y="3"/>
                    </a:cubicBezTo>
                    <a:cubicBezTo>
                      <a:pt x="8548" y="2"/>
                      <a:pt x="8549" y="1"/>
                      <a:pt x="8550" y="1"/>
                    </a:cubicBezTo>
                    <a:close/>
                    <a:moveTo>
                      <a:pt x="8558" y="1"/>
                    </a:moveTo>
                    <a:lnTo>
                      <a:pt x="8558" y="1"/>
                    </a:lnTo>
                    <a:cubicBezTo>
                      <a:pt x="8559" y="1"/>
                      <a:pt x="8560" y="2"/>
                      <a:pt x="8560" y="3"/>
                    </a:cubicBezTo>
                    <a:cubicBezTo>
                      <a:pt x="8560" y="4"/>
                      <a:pt x="8559" y="5"/>
                      <a:pt x="8558" y="5"/>
                    </a:cubicBezTo>
                    <a:lnTo>
                      <a:pt x="8558" y="5"/>
                    </a:lnTo>
                    <a:cubicBezTo>
                      <a:pt x="8557" y="5"/>
                      <a:pt x="8556" y="4"/>
                      <a:pt x="8556" y="3"/>
                    </a:cubicBezTo>
                    <a:cubicBezTo>
                      <a:pt x="8556" y="2"/>
                      <a:pt x="8557" y="1"/>
                      <a:pt x="8558" y="1"/>
                    </a:cubicBezTo>
                    <a:close/>
                    <a:moveTo>
                      <a:pt x="8566" y="1"/>
                    </a:moveTo>
                    <a:lnTo>
                      <a:pt x="8566" y="1"/>
                    </a:lnTo>
                    <a:cubicBezTo>
                      <a:pt x="8567" y="1"/>
                      <a:pt x="8568" y="2"/>
                      <a:pt x="8568" y="3"/>
                    </a:cubicBezTo>
                    <a:cubicBezTo>
                      <a:pt x="8568" y="4"/>
                      <a:pt x="8567" y="5"/>
                      <a:pt x="8566" y="5"/>
                    </a:cubicBezTo>
                    <a:lnTo>
                      <a:pt x="8566" y="5"/>
                    </a:lnTo>
                    <a:cubicBezTo>
                      <a:pt x="8565" y="5"/>
                      <a:pt x="8564" y="4"/>
                      <a:pt x="8564" y="3"/>
                    </a:cubicBezTo>
                    <a:cubicBezTo>
                      <a:pt x="8564" y="2"/>
                      <a:pt x="8565" y="1"/>
                      <a:pt x="8566" y="1"/>
                    </a:cubicBezTo>
                    <a:close/>
                    <a:moveTo>
                      <a:pt x="8574" y="1"/>
                    </a:moveTo>
                    <a:lnTo>
                      <a:pt x="8574" y="1"/>
                    </a:lnTo>
                    <a:cubicBezTo>
                      <a:pt x="8575" y="1"/>
                      <a:pt x="8576" y="2"/>
                      <a:pt x="8576" y="3"/>
                    </a:cubicBezTo>
                    <a:cubicBezTo>
                      <a:pt x="8576" y="4"/>
                      <a:pt x="8575" y="5"/>
                      <a:pt x="8574" y="5"/>
                    </a:cubicBezTo>
                    <a:lnTo>
                      <a:pt x="8574" y="5"/>
                    </a:lnTo>
                    <a:cubicBezTo>
                      <a:pt x="8573" y="5"/>
                      <a:pt x="8572" y="4"/>
                      <a:pt x="8572" y="3"/>
                    </a:cubicBezTo>
                    <a:cubicBezTo>
                      <a:pt x="8572" y="2"/>
                      <a:pt x="8573" y="1"/>
                      <a:pt x="8574" y="1"/>
                    </a:cubicBezTo>
                    <a:close/>
                    <a:moveTo>
                      <a:pt x="8582" y="1"/>
                    </a:moveTo>
                    <a:lnTo>
                      <a:pt x="8582" y="1"/>
                    </a:lnTo>
                    <a:cubicBezTo>
                      <a:pt x="8583" y="1"/>
                      <a:pt x="8584" y="2"/>
                      <a:pt x="8584" y="3"/>
                    </a:cubicBezTo>
                    <a:cubicBezTo>
                      <a:pt x="8584" y="4"/>
                      <a:pt x="8583" y="5"/>
                      <a:pt x="8582" y="5"/>
                    </a:cubicBezTo>
                    <a:lnTo>
                      <a:pt x="8582" y="5"/>
                    </a:lnTo>
                    <a:cubicBezTo>
                      <a:pt x="8581" y="5"/>
                      <a:pt x="8580" y="4"/>
                      <a:pt x="8580" y="3"/>
                    </a:cubicBezTo>
                    <a:cubicBezTo>
                      <a:pt x="8580" y="2"/>
                      <a:pt x="8581" y="1"/>
                      <a:pt x="8582" y="1"/>
                    </a:cubicBezTo>
                    <a:close/>
                    <a:moveTo>
                      <a:pt x="8590" y="1"/>
                    </a:moveTo>
                    <a:lnTo>
                      <a:pt x="8590" y="1"/>
                    </a:lnTo>
                    <a:cubicBezTo>
                      <a:pt x="8591" y="1"/>
                      <a:pt x="8592" y="2"/>
                      <a:pt x="8592" y="3"/>
                    </a:cubicBezTo>
                    <a:cubicBezTo>
                      <a:pt x="8592" y="4"/>
                      <a:pt x="8591" y="5"/>
                      <a:pt x="8590" y="5"/>
                    </a:cubicBezTo>
                    <a:lnTo>
                      <a:pt x="8590" y="5"/>
                    </a:lnTo>
                    <a:cubicBezTo>
                      <a:pt x="8589" y="5"/>
                      <a:pt x="8588" y="4"/>
                      <a:pt x="8588" y="3"/>
                    </a:cubicBezTo>
                    <a:cubicBezTo>
                      <a:pt x="8588" y="2"/>
                      <a:pt x="8589" y="1"/>
                      <a:pt x="8590" y="1"/>
                    </a:cubicBezTo>
                    <a:close/>
                    <a:moveTo>
                      <a:pt x="8598" y="1"/>
                    </a:moveTo>
                    <a:lnTo>
                      <a:pt x="8598" y="1"/>
                    </a:lnTo>
                    <a:cubicBezTo>
                      <a:pt x="8599" y="1"/>
                      <a:pt x="8600" y="2"/>
                      <a:pt x="8600" y="3"/>
                    </a:cubicBezTo>
                    <a:cubicBezTo>
                      <a:pt x="8600" y="4"/>
                      <a:pt x="8599" y="5"/>
                      <a:pt x="8598" y="5"/>
                    </a:cubicBezTo>
                    <a:lnTo>
                      <a:pt x="8598" y="5"/>
                    </a:lnTo>
                    <a:cubicBezTo>
                      <a:pt x="8597" y="5"/>
                      <a:pt x="8596" y="4"/>
                      <a:pt x="8596" y="3"/>
                    </a:cubicBezTo>
                    <a:cubicBezTo>
                      <a:pt x="8596" y="2"/>
                      <a:pt x="8597" y="1"/>
                      <a:pt x="8598" y="1"/>
                    </a:cubicBezTo>
                    <a:close/>
                    <a:moveTo>
                      <a:pt x="8606" y="1"/>
                    </a:moveTo>
                    <a:lnTo>
                      <a:pt x="8606" y="1"/>
                    </a:lnTo>
                    <a:cubicBezTo>
                      <a:pt x="8607" y="1"/>
                      <a:pt x="8608" y="2"/>
                      <a:pt x="8608" y="3"/>
                    </a:cubicBezTo>
                    <a:cubicBezTo>
                      <a:pt x="8608" y="4"/>
                      <a:pt x="8607" y="5"/>
                      <a:pt x="8606" y="5"/>
                    </a:cubicBezTo>
                    <a:lnTo>
                      <a:pt x="8606" y="5"/>
                    </a:lnTo>
                    <a:cubicBezTo>
                      <a:pt x="8605" y="5"/>
                      <a:pt x="8604" y="4"/>
                      <a:pt x="8604" y="3"/>
                    </a:cubicBezTo>
                    <a:cubicBezTo>
                      <a:pt x="8604" y="2"/>
                      <a:pt x="8605" y="1"/>
                      <a:pt x="8606" y="1"/>
                    </a:cubicBezTo>
                    <a:close/>
                    <a:moveTo>
                      <a:pt x="8614" y="1"/>
                    </a:moveTo>
                    <a:lnTo>
                      <a:pt x="8614" y="1"/>
                    </a:lnTo>
                    <a:cubicBezTo>
                      <a:pt x="8615" y="1"/>
                      <a:pt x="8616" y="2"/>
                      <a:pt x="8616" y="3"/>
                    </a:cubicBezTo>
                    <a:cubicBezTo>
                      <a:pt x="8616" y="4"/>
                      <a:pt x="8615" y="5"/>
                      <a:pt x="8614" y="5"/>
                    </a:cubicBezTo>
                    <a:lnTo>
                      <a:pt x="8614" y="5"/>
                    </a:lnTo>
                    <a:cubicBezTo>
                      <a:pt x="8613" y="5"/>
                      <a:pt x="8612" y="4"/>
                      <a:pt x="8612" y="3"/>
                    </a:cubicBezTo>
                    <a:cubicBezTo>
                      <a:pt x="8612" y="2"/>
                      <a:pt x="8613" y="1"/>
                      <a:pt x="8614" y="1"/>
                    </a:cubicBezTo>
                    <a:close/>
                    <a:moveTo>
                      <a:pt x="8622" y="1"/>
                    </a:moveTo>
                    <a:lnTo>
                      <a:pt x="8622" y="1"/>
                    </a:lnTo>
                    <a:cubicBezTo>
                      <a:pt x="8623" y="1"/>
                      <a:pt x="8624" y="2"/>
                      <a:pt x="8624" y="3"/>
                    </a:cubicBezTo>
                    <a:cubicBezTo>
                      <a:pt x="8624" y="4"/>
                      <a:pt x="8623" y="5"/>
                      <a:pt x="8622" y="5"/>
                    </a:cubicBezTo>
                    <a:lnTo>
                      <a:pt x="8622" y="5"/>
                    </a:lnTo>
                    <a:cubicBezTo>
                      <a:pt x="8621" y="5"/>
                      <a:pt x="8620" y="4"/>
                      <a:pt x="8620" y="3"/>
                    </a:cubicBezTo>
                    <a:cubicBezTo>
                      <a:pt x="8620" y="2"/>
                      <a:pt x="8621" y="1"/>
                      <a:pt x="8622" y="1"/>
                    </a:cubicBezTo>
                    <a:close/>
                    <a:moveTo>
                      <a:pt x="8630" y="1"/>
                    </a:moveTo>
                    <a:lnTo>
                      <a:pt x="8630" y="1"/>
                    </a:lnTo>
                    <a:cubicBezTo>
                      <a:pt x="8631" y="1"/>
                      <a:pt x="8632" y="2"/>
                      <a:pt x="8632" y="3"/>
                    </a:cubicBezTo>
                    <a:cubicBezTo>
                      <a:pt x="8632" y="4"/>
                      <a:pt x="8631" y="5"/>
                      <a:pt x="8630" y="5"/>
                    </a:cubicBezTo>
                    <a:lnTo>
                      <a:pt x="8630" y="5"/>
                    </a:lnTo>
                    <a:cubicBezTo>
                      <a:pt x="8629" y="5"/>
                      <a:pt x="8628" y="4"/>
                      <a:pt x="8628" y="3"/>
                    </a:cubicBezTo>
                    <a:cubicBezTo>
                      <a:pt x="8628" y="2"/>
                      <a:pt x="8629" y="1"/>
                      <a:pt x="8630" y="1"/>
                    </a:cubicBezTo>
                    <a:close/>
                    <a:moveTo>
                      <a:pt x="8638" y="1"/>
                    </a:moveTo>
                    <a:lnTo>
                      <a:pt x="8638" y="1"/>
                    </a:lnTo>
                    <a:cubicBezTo>
                      <a:pt x="8639" y="1"/>
                      <a:pt x="8640" y="2"/>
                      <a:pt x="8640" y="3"/>
                    </a:cubicBezTo>
                    <a:cubicBezTo>
                      <a:pt x="8640" y="4"/>
                      <a:pt x="8639" y="5"/>
                      <a:pt x="8638" y="5"/>
                    </a:cubicBezTo>
                    <a:lnTo>
                      <a:pt x="8638" y="5"/>
                    </a:lnTo>
                    <a:cubicBezTo>
                      <a:pt x="8637" y="5"/>
                      <a:pt x="8636" y="4"/>
                      <a:pt x="8636" y="3"/>
                    </a:cubicBezTo>
                    <a:cubicBezTo>
                      <a:pt x="8636" y="2"/>
                      <a:pt x="8637" y="1"/>
                      <a:pt x="8638" y="1"/>
                    </a:cubicBezTo>
                    <a:close/>
                    <a:moveTo>
                      <a:pt x="8646" y="1"/>
                    </a:moveTo>
                    <a:lnTo>
                      <a:pt x="8646" y="1"/>
                    </a:lnTo>
                    <a:cubicBezTo>
                      <a:pt x="8647" y="1"/>
                      <a:pt x="8648" y="2"/>
                      <a:pt x="8648" y="3"/>
                    </a:cubicBezTo>
                    <a:cubicBezTo>
                      <a:pt x="8648" y="4"/>
                      <a:pt x="8647" y="5"/>
                      <a:pt x="8646" y="5"/>
                    </a:cubicBezTo>
                    <a:lnTo>
                      <a:pt x="8646" y="5"/>
                    </a:lnTo>
                    <a:cubicBezTo>
                      <a:pt x="8645" y="5"/>
                      <a:pt x="8644" y="4"/>
                      <a:pt x="8644" y="3"/>
                    </a:cubicBezTo>
                    <a:cubicBezTo>
                      <a:pt x="8644" y="2"/>
                      <a:pt x="8645" y="1"/>
                      <a:pt x="8646" y="1"/>
                    </a:cubicBezTo>
                    <a:close/>
                    <a:moveTo>
                      <a:pt x="8654" y="1"/>
                    </a:moveTo>
                    <a:lnTo>
                      <a:pt x="8654" y="1"/>
                    </a:lnTo>
                    <a:cubicBezTo>
                      <a:pt x="8655" y="1"/>
                      <a:pt x="8656" y="2"/>
                      <a:pt x="8656" y="3"/>
                    </a:cubicBezTo>
                    <a:cubicBezTo>
                      <a:pt x="8656" y="4"/>
                      <a:pt x="8655" y="5"/>
                      <a:pt x="8654" y="5"/>
                    </a:cubicBezTo>
                    <a:lnTo>
                      <a:pt x="8654" y="5"/>
                    </a:lnTo>
                    <a:cubicBezTo>
                      <a:pt x="8653" y="5"/>
                      <a:pt x="8652" y="4"/>
                      <a:pt x="8652" y="3"/>
                    </a:cubicBezTo>
                    <a:cubicBezTo>
                      <a:pt x="8652" y="2"/>
                      <a:pt x="8653" y="1"/>
                      <a:pt x="8654" y="1"/>
                    </a:cubicBezTo>
                    <a:close/>
                    <a:moveTo>
                      <a:pt x="8662" y="1"/>
                    </a:moveTo>
                    <a:lnTo>
                      <a:pt x="8662" y="1"/>
                    </a:lnTo>
                    <a:cubicBezTo>
                      <a:pt x="8663" y="1"/>
                      <a:pt x="8664" y="2"/>
                      <a:pt x="8664" y="3"/>
                    </a:cubicBezTo>
                    <a:cubicBezTo>
                      <a:pt x="8664" y="5"/>
                      <a:pt x="8663" y="5"/>
                      <a:pt x="8662" y="5"/>
                    </a:cubicBezTo>
                    <a:lnTo>
                      <a:pt x="8662" y="5"/>
                    </a:lnTo>
                    <a:cubicBezTo>
                      <a:pt x="8661" y="5"/>
                      <a:pt x="8660" y="5"/>
                      <a:pt x="8660" y="3"/>
                    </a:cubicBezTo>
                    <a:cubicBezTo>
                      <a:pt x="8660" y="2"/>
                      <a:pt x="8661" y="1"/>
                      <a:pt x="8662" y="1"/>
                    </a:cubicBezTo>
                    <a:close/>
                    <a:moveTo>
                      <a:pt x="8670" y="1"/>
                    </a:moveTo>
                    <a:lnTo>
                      <a:pt x="8670" y="1"/>
                    </a:lnTo>
                    <a:cubicBezTo>
                      <a:pt x="8671" y="1"/>
                      <a:pt x="8672" y="2"/>
                      <a:pt x="8672" y="3"/>
                    </a:cubicBezTo>
                    <a:cubicBezTo>
                      <a:pt x="8672" y="5"/>
                      <a:pt x="8671" y="5"/>
                      <a:pt x="8670" y="5"/>
                    </a:cubicBezTo>
                    <a:lnTo>
                      <a:pt x="8670" y="5"/>
                    </a:lnTo>
                    <a:cubicBezTo>
                      <a:pt x="8669" y="5"/>
                      <a:pt x="8668" y="5"/>
                      <a:pt x="8668" y="3"/>
                    </a:cubicBezTo>
                    <a:cubicBezTo>
                      <a:pt x="8668" y="2"/>
                      <a:pt x="8669" y="1"/>
                      <a:pt x="8670" y="1"/>
                    </a:cubicBezTo>
                    <a:close/>
                    <a:moveTo>
                      <a:pt x="8678" y="1"/>
                    </a:moveTo>
                    <a:lnTo>
                      <a:pt x="8678" y="1"/>
                    </a:lnTo>
                    <a:cubicBezTo>
                      <a:pt x="8679" y="1"/>
                      <a:pt x="8680" y="2"/>
                      <a:pt x="8680" y="3"/>
                    </a:cubicBezTo>
                    <a:cubicBezTo>
                      <a:pt x="8680" y="5"/>
                      <a:pt x="8679" y="5"/>
                      <a:pt x="8678" y="5"/>
                    </a:cubicBezTo>
                    <a:lnTo>
                      <a:pt x="8678" y="5"/>
                    </a:lnTo>
                    <a:cubicBezTo>
                      <a:pt x="8677" y="5"/>
                      <a:pt x="8676" y="5"/>
                      <a:pt x="8676" y="3"/>
                    </a:cubicBezTo>
                    <a:cubicBezTo>
                      <a:pt x="8676" y="2"/>
                      <a:pt x="8677" y="1"/>
                      <a:pt x="8678" y="1"/>
                    </a:cubicBezTo>
                    <a:close/>
                    <a:moveTo>
                      <a:pt x="8686" y="1"/>
                    </a:moveTo>
                    <a:lnTo>
                      <a:pt x="8686" y="1"/>
                    </a:lnTo>
                    <a:cubicBezTo>
                      <a:pt x="8687" y="1"/>
                      <a:pt x="8688" y="2"/>
                      <a:pt x="8688" y="3"/>
                    </a:cubicBezTo>
                    <a:cubicBezTo>
                      <a:pt x="8688" y="5"/>
                      <a:pt x="8687" y="5"/>
                      <a:pt x="8686" y="5"/>
                    </a:cubicBezTo>
                    <a:lnTo>
                      <a:pt x="8686" y="5"/>
                    </a:lnTo>
                    <a:cubicBezTo>
                      <a:pt x="8685" y="5"/>
                      <a:pt x="8684" y="5"/>
                      <a:pt x="8684" y="3"/>
                    </a:cubicBezTo>
                    <a:cubicBezTo>
                      <a:pt x="8684" y="2"/>
                      <a:pt x="8685" y="1"/>
                      <a:pt x="8686" y="1"/>
                    </a:cubicBezTo>
                    <a:close/>
                    <a:moveTo>
                      <a:pt x="8694" y="1"/>
                    </a:moveTo>
                    <a:lnTo>
                      <a:pt x="8694" y="1"/>
                    </a:lnTo>
                    <a:cubicBezTo>
                      <a:pt x="8695" y="1"/>
                      <a:pt x="8696" y="2"/>
                      <a:pt x="8696" y="3"/>
                    </a:cubicBezTo>
                    <a:cubicBezTo>
                      <a:pt x="8696" y="5"/>
                      <a:pt x="8695" y="5"/>
                      <a:pt x="8694" y="5"/>
                    </a:cubicBezTo>
                    <a:lnTo>
                      <a:pt x="8694" y="5"/>
                    </a:lnTo>
                    <a:cubicBezTo>
                      <a:pt x="8693" y="5"/>
                      <a:pt x="8692" y="5"/>
                      <a:pt x="8692" y="3"/>
                    </a:cubicBezTo>
                    <a:cubicBezTo>
                      <a:pt x="8692" y="2"/>
                      <a:pt x="8693" y="1"/>
                      <a:pt x="8694" y="1"/>
                    </a:cubicBezTo>
                    <a:close/>
                    <a:moveTo>
                      <a:pt x="8702" y="1"/>
                    </a:moveTo>
                    <a:lnTo>
                      <a:pt x="8702" y="1"/>
                    </a:lnTo>
                    <a:cubicBezTo>
                      <a:pt x="8703" y="1"/>
                      <a:pt x="8704" y="2"/>
                      <a:pt x="8704" y="3"/>
                    </a:cubicBezTo>
                    <a:cubicBezTo>
                      <a:pt x="8704" y="5"/>
                      <a:pt x="8703" y="5"/>
                      <a:pt x="8702" y="5"/>
                    </a:cubicBezTo>
                    <a:lnTo>
                      <a:pt x="8702" y="5"/>
                    </a:lnTo>
                    <a:cubicBezTo>
                      <a:pt x="8701" y="5"/>
                      <a:pt x="8700" y="5"/>
                      <a:pt x="8700" y="3"/>
                    </a:cubicBezTo>
                    <a:cubicBezTo>
                      <a:pt x="8700" y="2"/>
                      <a:pt x="8701" y="1"/>
                      <a:pt x="8702" y="1"/>
                    </a:cubicBezTo>
                    <a:close/>
                    <a:moveTo>
                      <a:pt x="8710" y="1"/>
                    </a:moveTo>
                    <a:lnTo>
                      <a:pt x="8710" y="1"/>
                    </a:lnTo>
                    <a:cubicBezTo>
                      <a:pt x="8711" y="1"/>
                      <a:pt x="8712" y="2"/>
                      <a:pt x="8712" y="3"/>
                    </a:cubicBezTo>
                    <a:cubicBezTo>
                      <a:pt x="8712" y="5"/>
                      <a:pt x="8711" y="5"/>
                      <a:pt x="8710" y="5"/>
                    </a:cubicBezTo>
                    <a:lnTo>
                      <a:pt x="8710" y="5"/>
                    </a:lnTo>
                    <a:cubicBezTo>
                      <a:pt x="8709" y="5"/>
                      <a:pt x="8708" y="5"/>
                      <a:pt x="8708" y="3"/>
                    </a:cubicBezTo>
                    <a:cubicBezTo>
                      <a:pt x="8708" y="2"/>
                      <a:pt x="8709" y="1"/>
                      <a:pt x="8710" y="1"/>
                    </a:cubicBezTo>
                    <a:close/>
                    <a:moveTo>
                      <a:pt x="8718" y="1"/>
                    </a:moveTo>
                    <a:lnTo>
                      <a:pt x="8718" y="1"/>
                    </a:lnTo>
                    <a:cubicBezTo>
                      <a:pt x="8719" y="1"/>
                      <a:pt x="8720" y="2"/>
                      <a:pt x="8720" y="3"/>
                    </a:cubicBezTo>
                    <a:cubicBezTo>
                      <a:pt x="8720" y="5"/>
                      <a:pt x="8719" y="5"/>
                      <a:pt x="8718" y="5"/>
                    </a:cubicBezTo>
                    <a:lnTo>
                      <a:pt x="8718" y="5"/>
                    </a:lnTo>
                    <a:cubicBezTo>
                      <a:pt x="8717" y="5"/>
                      <a:pt x="8716" y="5"/>
                      <a:pt x="8716" y="3"/>
                    </a:cubicBezTo>
                    <a:cubicBezTo>
                      <a:pt x="8716" y="2"/>
                      <a:pt x="8717" y="1"/>
                      <a:pt x="8718" y="1"/>
                    </a:cubicBezTo>
                    <a:close/>
                    <a:moveTo>
                      <a:pt x="8726" y="1"/>
                    </a:moveTo>
                    <a:lnTo>
                      <a:pt x="8726" y="1"/>
                    </a:lnTo>
                    <a:cubicBezTo>
                      <a:pt x="8727" y="1"/>
                      <a:pt x="8728" y="2"/>
                      <a:pt x="8728" y="3"/>
                    </a:cubicBezTo>
                    <a:cubicBezTo>
                      <a:pt x="8728" y="5"/>
                      <a:pt x="8727" y="5"/>
                      <a:pt x="8726" y="5"/>
                    </a:cubicBezTo>
                    <a:lnTo>
                      <a:pt x="8726" y="5"/>
                    </a:lnTo>
                    <a:cubicBezTo>
                      <a:pt x="8725" y="5"/>
                      <a:pt x="8724" y="5"/>
                      <a:pt x="8724" y="3"/>
                    </a:cubicBezTo>
                    <a:cubicBezTo>
                      <a:pt x="8724" y="2"/>
                      <a:pt x="8725" y="1"/>
                      <a:pt x="8726" y="1"/>
                    </a:cubicBezTo>
                    <a:close/>
                    <a:moveTo>
                      <a:pt x="8734" y="1"/>
                    </a:moveTo>
                    <a:lnTo>
                      <a:pt x="8734" y="1"/>
                    </a:lnTo>
                    <a:cubicBezTo>
                      <a:pt x="8735" y="1"/>
                      <a:pt x="8736" y="2"/>
                      <a:pt x="8736" y="3"/>
                    </a:cubicBezTo>
                    <a:cubicBezTo>
                      <a:pt x="8736" y="5"/>
                      <a:pt x="8735" y="5"/>
                      <a:pt x="8734" y="5"/>
                    </a:cubicBezTo>
                    <a:lnTo>
                      <a:pt x="8734" y="5"/>
                    </a:lnTo>
                    <a:cubicBezTo>
                      <a:pt x="8733" y="5"/>
                      <a:pt x="8732" y="5"/>
                      <a:pt x="8732" y="3"/>
                    </a:cubicBezTo>
                    <a:cubicBezTo>
                      <a:pt x="8732" y="2"/>
                      <a:pt x="8733" y="1"/>
                      <a:pt x="8734" y="1"/>
                    </a:cubicBezTo>
                    <a:close/>
                    <a:moveTo>
                      <a:pt x="8742" y="1"/>
                    </a:moveTo>
                    <a:lnTo>
                      <a:pt x="8742" y="1"/>
                    </a:lnTo>
                    <a:cubicBezTo>
                      <a:pt x="8743" y="1"/>
                      <a:pt x="8744" y="2"/>
                      <a:pt x="8744" y="3"/>
                    </a:cubicBezTo>
                    <a:cubicBezTo>
                      <a:pt x="8744" y="5"/>
                      <a:pt x="8743" y="5"/>
                      <a:pt x="8742" y="5"/>
                    </a:cubicBezTo>
                    <a:lnTo>
                      <a:pt x="8742" y="5"/>
                    </a:lnTo>
                    <a:cubicBezTo>
                      <a:pt x="8741" y="5"/>
                      <a:pt x="8740" y="5"/>
                      <a:pt x="8740" y="3"/>
                    </a:cubicBezTo>
                    <a:cubicBezTo>
                      <a:pt x="8740" y="2"/>
                      <a:pt x="8741" y="1"/>
                      <a:pt x="8742" y="1"/>
                    </a:cubicBezTo>
                    <a:close/>
                    <a:moveTo>
                      <a:pt x="8750" y="1"/>
                    </a:moveTo>
                    <a:lnTo>
                      <a:pt x="8750" y="1"/>
                    </a:lnTo>
                    <a:cubicBezTo>
                      <a:pt x="8751" y="1"/>
                      <a:pt x="8752" y="2"/>
                      <a:pt x="8752" y="3"/>
                    </a:cubicBezTo>
                    <a:cubicBezTo>
                      <a:pt x="8752" y="5"/>
                      <a:pt x="8751" y="5"/>
                      <a:pt x="8750" y="5"/>
                    </a:cubicBezTo>
                    <a:lnTo>
                      <a:pt x="8750" y="5"/>
                    </a:lnTo>
                    <a:cubicBezTo>
                      <a:pt x="8749" y="5"/>
                      <a:pt x="8748" y="5"/>
                      <a:pt x="8748" y="3"/>
                    </a:cubicBezTo>
                    <a:cubicBezTo>
                      <a:pt x="8748" y="2"/>
                      <a:pt x="8749" y="1"/>
                      <a:pt x="8750" y="1"/>
                    </a:cubicBezTo>
                    <a:close/>
                    <a:moveTo>
                      <a:pt x="8758" y="1"/>
                    </a:moveTo>
                    <a:lnTo>
                      <a:pt x="8758" y="1"/>
                    </a:lnTo>
                    <a:cubicBezTo>
                      <a:pt x="8759" y="1"/>
                      <a:pt x="8760" y="2"/>
                      <a:pt x="8760" y="3"/>
                    </a:cubicBezTo>
                    <a:cubicBezTo>
                      <a:pt x="8760" y="5"/>
                      <a:pt x="8759" y="5"/>
                      <a:pt x="8758" y="5"/>
                    </a:cubicBezTo>
                    <a:lnTo>
                      <a:pt x="8758" y="5"/>
                    </a:lnTo>
                    <a:cubicBezTo>
                      <a:pt x="8757" y="5"/>
                      <a:pt x="8756" y="5"/>
                      <a:pt x="8756" y="3"/>
                    </a:cubicBezTo>
                    <a:cubicBezTo>
                      <a:pt x="8756" y="2"/>
                      <a:pt x="8757" y="1"/>
                      <a:pt x="8758" y="1"/>
                    </a:cubicBezTo>
                    <a:close/>
                    <a:moveTo>
                      <a:pt x="8766" y="1"/>
                    </a:moveTo>
                    <a:lnTo>
                      <a:pt x="8766" y="1"/>
                    </a:lnTo>
                    <a:cubicBezTo>
                      <a:pt x="8767" y="1"/>
                      <a:pt x="8768" y="2"/>
                      <a:pt x="8768" y="3"/>
                    </a:cubicBezTo>
                    <a:cubicBezTo>
                      <a:pt x="8768" y="5"/>
                      <a:pt x="8767" y="5"/>
                      <a:pt x="8766" y="5"/>
                    </a:cubicBezTo>
                    <a:lnTo>
                      <a:pt x="8766" y="5"/>
                    </a:lnTo>
                    <a:cubicBezTo>
                      <a:pt x="8765" y="5"/>
                      <a:pt x="8764" y="5"/>
                      <a:pt x="8764" y="3"/>
                    </a:cubicBezTo>
                    <a:cubicBezTo>
                      <a:pt x="8764" y="2"/>
                      <a:pt x="8765" y="1"/>
                      <a:pt x="8766" y="1"/>
                    </a:cubicBezTo>
                    <a:close/>
                    <a:moveTo>
                      <a:pt x="8774" y="1"/>
                    </a:moveTo>
                    <a:lnTo>
                      <a:pt x="8774" y="1"/>
                    </a:lnTo>
                    <a:cubicBezTo>
                      <a:pt x="8775" y="1"/>
                      <a:pt x="8776" y="2"/>
                      <a:pt x="8776" y="3"/>
                    </a:cubicBezTo>
                    <a:cubicBezTo>
                      <a:pt x="8776" y="5"/>
                      <a:pt x="8775" y="5"/>
                      <a:pt x="8774" y="5"/>
                    </a:cubicBezTo>
                    <a:lnTo>
                      <a:pt x="8774" y="5"/>
                    </a:lnTo>
                    <a:cubicBezTo>
                      <a:pt x="8773" y="5"/>
                      <a:pt x="8772" y="5"/>
                      <a:pt x="8772" y="3"/>
                    </a:cubicBezTo>
                    <a:cubicBezTo>
                      <a:pt x="8772" y="2"/>
                      <a:pt x="8773" y="1"/>
                      <a:pt x="8774" y="1"/>
                    </a:cubicBezTo>
                    <a:close/>
                    <a:moveTo>
                      <a:pt x="8782" y="1"/>
                    </a:moveTo>
                    <a:lnTo>
                      <a:pt x="8782" y="1"/>
                    </a:lnTo>
                    <a:cubicBezTo>
                      <a:pt x="8783" y="1"/>
                      <a:pt x="8784" y="2"/>
                      <a:pt x="8784" y="3"/>
                    </a:cubicBezTo>
                    <a:cubicBezTo>
                      <a:pt x="8784" y="5"/>
                      <a:pt x="8783" y="5"/>
                      <a:pt x="8782" y="5"/>
                    </a:cubicBezTo>
                    <a:lnTo>
                      <a:pt x="8782" y="5"/>
                    </a:lnTo>
                    <a:cubicBezTo>
                      <a:pt x="8781" y="5"/>
                      <a:pt x="8780" y="5"/>
                      <a:pt x="8780" y="3"/>
                    </a:cubicBezTo>
                    <a:cubicBezTo>
                      <a:pt x="8780" y="2"/>
                      <a:pt x="8781" y="1"/>
                      <a:pt x="8782" y="1"/>
                    </a:cubicBezTo>
                    <a:close/>
                    <a:moveTo>
                      <a:pt x="8790" y="1"/>
                    </a:moveTo>
                    <a:lnTo>
                      <a:pt x="8790" y="1"/>
                    </a:lnTo>
                    <a:cubicBezTo>
                      <a:pt x="8791" y="1"/>
                      <a:pt x="8792" y="2"/>
                      <a:pt x="8792" y="3"/>
                    </a:cubicBezTo>
                    <a:cubicBezTo>
                      <a:pt x="8792" y="5"/>
                      <a:pt x="8791" y="5"/>
                      <a:pt x="8790" y="5"/>
                    </a:cubicBezTo>
                    <a:lnTo>
                      <a:pt x="8790" y="5"/>
                    </a:lnTo>
                    <a:cubicBezTo>
                      <a:pt x="8789" y="5"/>
                      <a:pt x="8788" y="5"/>
                      <a:pt x="8788" y="3"/>
                    </a:cubicBezTo>
                    <a:cubicBezTo>
                      <a:pt x="8788" y="2"/>
                      <a:pt x="8789" y="1"/>
                      <a:pt x="8790" y="1"/>
                    </a:cubicBezTo>
                    <a:close/>
                    <a:moveTo>
                      <a:pt x="8798" y="1"/>
                    </a:moveTo>
                    <a:lnTo>
                      <a:pt x="8798" y="1"/>
                    </a:lnTo>
                    <a:cubicBezTo>
                      <a:pt x="8799" y="1"/>
                      <a:pt x="8800" y="2"/>
                      <a:pt x="8800" y="3"/>
                    </a:cubicBezTo>
                    <a:cubicBezTo>
                      <a:pt x="8800" y="5"/>
                      <a:pt x="8799" y="5"/>
                      <a:pt x="8798" y="5"/>
                    </a:cubicBezTo>
                    <a:lnTo>
                      <a:pt x="8798" y="5"/>
                    </a:lnTo>
                    <a:cubicBezTo>
                      <a:pt x="8797" y="5"/>
                      <a:pt x="8796" y="5"/>
                      <a:pt x="8796" y="3"/>
                    </a:cubicBezTo>
                    <a:cubicBezTo>
                      <a:pt x="8796" y="2"/>
                      <a:pt x="8797" y="1"/>
                      <a:pt x="8798" y="1"/>
                    </a:cubicBezTo>
                    <a:close/>
                    <a:moveTo>
                      <a:pt x="8806" y="1"/>
                    </a:moveTo>
                    <a:lnTo>
                      <a:pt x="8806" y="1"/>
                    </a:lnTo>
                    <a:cubicBezTo>
                      <a:pt x="8807" y="1"/>
                      <a:pt x="8808" y="2"/>
                      <a:pt x="8808" y="3"/>
                    </a:cubicBezTo>
                    <a:cubicBezTo>
                      <a:pt x="8808" y="5"/>
                      <a:pt x="8807" y="5"/>
                      <a:pt x="8806" y="5"/>
                    </a:cubicBezTo>
                    <a:lnTo>
                      <a:pt x="8806" y="5"/>
                    </a:lnTo>
                    <a:cubicBezTo>
                      <a:pt x="8805" y="5"/>
                      <a:pt x="8804" y="5"/>
                      <a:pt x="8804" y="3"/>
                    </a:cubicBezTo>
                    <a:cubicBezTo>
                      <a:pt x="8804" y="2"/>
                      <a:pt x="8805" y="1"/>
                      <a:pt x="8806" y="1"/>
                    </a:cubicBezTo>
                    <a:close/>
                    <a:moveTo>
                      <a:pt x="8814" y="1"/>
                    </a:moveTo>
                    <a:lnTo>
                      <a:pt x="8814" y="1"/>
                    </a:lnTo>
                    <a:cubicBezTo>
                      <a:pt x="8815" y="1"/>
                      <a:pt x="8816" y="2"/>
                      <a:pt x="8816" y="3"/>
                    </a:cubicBezTo>
                    <a:cubicBezTo>
                      <a:pt x="8816" y="5"/>
                      <a:pt x="8815" y="5"/>
                      <a:pt x="8814" y="5"/>
                    </a:cubicBezTo>
                    <a:lnTo>
                      <a:pt x="8814" y="5"/>
                    </a:lnTo>
                    <a:cubicBezTo>
                      <a:pt x="8813" y="5"/>
                      <a:pt x="8812" y="5"/>
                      <a:pt x="8812" y="3"/>
                    </a:cubicBezTo>
                    <a:cubicBezTo>
                      <a:pt x="8812" y="2"/>
                      <a:pt x="8813" y="1"/>
                      <a:pt x="8814" y="1"/>
                    </a:cubicBezTo>
                    <a:close/>
                    <a:moveTo>
                      <a:pt x="8822" y="1"/>
                    </a:moveTo>
                    <a:lnTo>
                      <a:pt x="8822" y="1"/>
                    </a:lnTo>
                    <a:cubicBezTo>
                      <a:pt x="8823" y="1"/>
                      <a:pt x="8824" y="2"/>
                      <a:pt x="8824" y="3"/>
                    </a:cubicBezTo>
                    <a:cubicBezTo>
                      <a:pt x="8824" y="5"/>
                      <a:pt x="8823" y="5"/>
                      <a:pt x="8822" y="5"/>
                    </a:cubicBezTo>
                    <a:lnTo>
                      <a:pt x="8822" y="5"/>
                    </a:lnTo>
                    <a:cubicBezTo>
                      <a:pt x="8821" y="5"/>
                      <a:pt x="8820" y="5"/>
                      <a:pt x="8820" y="3"/>
                    </a:cubicBezTo>
                    <a:cubicBezTo>
                      <a:pt x="8820" y="2"/>
                      <a:pt x="8821" y="1"/>
                      <a:pt x="8822" y="1"/>
                    </a:cubicBezTo>
                    <a:close/>
                    <a:moveTo>
                      <a:pt x="8830" y="1"/>
                    </a:moveTo>
                    <a:lnTo>
                      <a:pt x="8830" y="1"/>
                    </a:lnTo>
                    <a:cubicBezTo>
                      <a:pt x="8831" y="1"/>
                      <a:pt x="8832" y="2"/>
                      <a:pt x="8832" y="3"/>
                    </a:cubicBezTo>
                    <a:cubicBezTo>
                      <a:pt x="8832" y="5"/>
                      <a:pt x="8831" y="5"/>
                      <a:pt x="8830" y="5"/>
                    </a:cubicBezTo>
                    <a:lnTo>
                      <a:pt x="8830" y="5"/>
                    </a:lnTo>
                    <a:cubicBezTo>
                      <a:pt x="8829" y="5"/>
                      <a:pt x="8828" y="5"/>
                      <a:pt x="8828" y="3"/>
                    </a:cubicBezTo>
                    <a:cubicBezTo>
                      <a:pt x="8828" y="2"/>
                      <a:pt x="8829" y="1"/>
                      <a:pt x="8830" y="1"/>
                    </a:cubicBezTo>
                    <a:close/>
                    <a:moveTo>
                      <a:pt x="8838" y="1"/>
                    </a:moveTo>
                    <a:lnTo>
                      <a:pt x="8838" y="1"/>
                    </a:lnTo>
                    <a:cubicBezTo>
                      <a:pt x="8839" y="1"/>
                      <a:pt x="8840" y="2"/>
                      <a:pt x="8840" y="3"/>
                    </a:cubicBezTo>
                    <a:cubicBezTo>
                      <a:pt x="8840" y="5"/>
                      <a:pt x="8839" y="5"/>
                      <a:pt x="8838" y="5"/>
                    </a:cubicBezTo>
                    <a:lnTo>
                      <a:pt x="8838" y="5"/>
                    </a:lnTo>
                    <a:cubicBezTo>
                      <a:pt x="8837" y="5"/>
                      <a:pt x="8836" y="5"/>
                      <a:pt x="8836" y="3"/>
                    </a:cubicBezTo>
                    <a:cubicBezTo>
                      <a:pt x="8836" y="2"/>
                      <a:pt x="8837" y="1"/>
                      <a:pt x="8838" y="1"/>
                    </a:cubicBezTo>
                    <a:close/>
                    <a:moveTo>
                      <a:pt x="8846" y="1"/>
                    </a:moveTo>
                    <a:lnTo>
                      <a:pt x="8846" y="1"/>
                    </a:lnTo>
                    <a:cubicBezTo>
                      <a:pt x="8847" y="1"/>
                      <a:pt x="8848" y="2"/>
                      <a:pt x="8848" y="3"/>
                    </a:cubicBezTo>
                    <a:cubicBezTo>
                      <a:pt x="8848" y="5"/>
                      <a:pt x="8847" y="5"/>
                      <a:pt x="8846" y="5"/>
                    </a:cubicBezTo>
                    <a:lnTo>
                      <a:pt x="8846" y="5"/>
                    </a:lnTo>
                    <a:cubicBezTo>
                      <a:pt x="8845" y="5"/>
                      <a:pt x="8844" y="5"/>
                      <a:pt x="8844" y="3"/>
                    </a:cubicBezTo>
                    <a:cubicBezTo>
                      <a:pt x="8844" y="2"/>
                      <a:pt x="8845" y="1"/>
                      <a:pt x="8846" y="1"/>
                    </a:cubicBezTo>
                    <a:close/>
                    <a:moveTo>
                      <a:pt x="8854" y="1"/>
                    </a:moveTo>
                    <a:lnTo>
                      <a:pt x="8854" y="1"/>
                    </a:lnTo>
                    <a:cubicBezTo>
                      <a:pt x="8855" y="1"/>
                      <a:pt x="8856" y="2"/>
                      <a:pt x="8856" y="3"/>
                    </a:cubicBezTo>
                    <a:cubicBezTo>
                      <a:pt x="8856" y="5"/>
                      <a:pt x="8855" y="5"/>
                      <a:pt x="8854" y="5"/>
                    </a:cubicBezTo>
                    <a:lnTo>
                      <a:pt x="8854" y="5"/>
                    </a:lnTo>
                    <a:cubicBezTo>
                      <a:pt x="8853" y="5"/>
                      <a:pt x="8852" y="5"/>
                      <a:pt x="8852" y="3"/>
                    </a:cubicBezTo>
                    <a:cubicBezTo>
                      <a:pt x="8852" y="2"/>
                      <a:pt x="8853" y="1"/>
                      <a:pt x="8854" y="1"/>
                    </a:cubicBezTo>
                    <a:close/>
                    <a:moveTo>
                      <a:pt x="8862" y="1"/>
                    </a:moveTo>
                    <a:lnTo>
                      <a:pt x="8862" y="1"/>
                    </a:lnTo>
                    <a:cubicBezTo>
                      <a:pt x="8863" y="1"/>
                      <a:pt x="8864" y="2"/>
                      <a:pt x="8864" y="3"/>
                    </a:cubicBezTo>
                    <a:cubicBezTo>
                      <a:pt x="8864" y="5"/>
                      <a:pt x="8863" y="5"/>
                      <a:pt x="8862" y="5"/>
                    </a:cubicBezTo>
                    <a:lnTo>
                      <a:pt x="8862" y="5"/>
                    </a:lnTo>
                    <a:cubicBezTo>
                      <a:pt x="8861" y="5"/>
                      <a:pt x="8860" y="5"/>
                      <a:pt x="8860" y="3"/>
                    </a:cubicBezTo>
                    <a:cubicBezTo>
                      <a:pt x="8860" y="2"/>
                      <a:pt x="8861" y="1"/>
                      <a:pt x="8862" y="1"/>
                    </a:cubicBezTo>
                    <a:close/>
                    <a:moveTo>
                      <a:pt x="8870" y="1"/>
                    </a:moveTo>
                    <a:lnTo>
                      <a:pt x="8870" y="1"/>
                    </a:lnTo>
                    <a:cubicBezTo>
                      <a:pt x="8871" y="1"/>
                      <a:pt x="8872" y="2"/>
                      <a:pt x="8872" y="3"/>
                    </a:cubicBezTo>
                    <a:cubicBezTo>
                      <a:pt x="8872" y="5"/>
                      <a:pt x="8871" y="5"/>
                      <a:pt x="8870" y="5"/>
                    </a:cubicBezTo>
                    <a:lnTo>
                      <a:pt x="8870" y="5"/>
                    </a:lnTo>
                    <a:cubicBezTo>
                      <a:pt x="8869" y="5"/>
                      <a:pt x="8868" y="5"/>
                      <a:pt x="8868" y="3"/>
                    </a:cubicBezTo>
                    <a:cubicBezTo>
                      <a:pt x="8868" y="2"/>
                      <a:pt x="8869" y="1"/>
                      <a:pt x="8870" y="1"/>
                    </a:cubicBezTo>
                    <a:close/>
                    <a:moveTo>
                      <a:pt x="8878" y="1"/>
                    </a:moveTo>
                    <a:lnTo>
                      <a:pt x="8878" y="1"/>
                    </a:lnTo>
                    <a:cubicBezTo>
                      <a:pt x="8879" y="1"/>
                      <a:pt x="8880" y="2"/>
                      <a:pt x="8880" y="3"/>
                    </a:cubicBezTo>
                    <a:cubicBezTo>
                      <a:pt x="8880" y="5"/>
                      <a:pt x="8879" y="5"/>
                      <a:pt x="8878" y="5"/>
                    </a:cubicBezTo>
                    <a:lnTo>
                      <a:pt x="8878" y="5"/>
                    </a:lnTo>
                    <a:cubicBezTo>
                      <a:pt x="8877" y="5"/>
                      <a:pt x="8876" y="5"/>
                      <a:pt x="8876" y="3"/>
                    </a:cubicBezTo>
                    <a:cubicBezTo>
                      <a:pt x="8876" y="2"/>
                      <a:pt x="8877" y="1"/>
                      <a:pt x="8878" y="1"/>
                    </a:cubicBezTo>
                    <a:close/>
                    <a:moveTo>
                      <a:pt x="8886" y="1"/>
                    </a:moveTo>
                    <a:lnTo>
                      <a:pt x="8886" y="1"/>
                    </a:lnTo>
                    <a:cubicBezTo>
                      <a:pt x="8887" y="1"/>
                      <a:pt x="8888" y="2"/>
                      <a:pt x="8888" y="3"/>
                    </a:cubicBezTo>
                    <a:cubicBezTo>
                      <a:pt x="8888" y="5"/>
                      <a:pt x="8887" y="5"/>
                      <a:pt x="8886" y="5"/>
                    </a:cubicBezTo>
                    <a:lnTo>
                      <a:pt x="8886" y="5"/>
                    </a:lnTo>
                    <a:cubicBezTo>
                      <a:pt x="8885" y="5"/>
                      <a:pt x="8884" y="5"/>
                      <a:pt x="8884" y="3"/>
                    </a:cubicBezTo>
                    <a:cubicBezTo>
                      <a:pt x="8884" y="2"/>
                      <a:pt x="8885" y="1"/>
                      <a:pt x="8886" y="1"/>
                    </a:cubicBezTo>
                    <a:close/>
                    <a:moveTo>
                      <a:pt x="8894" y="1"/>
                    </a:moveTo>
                    <a:lnTo>
                      <a:pt x="8894" y="1"/>
                    </a:lnTo>
                    <a:cubicBezTo>
                      <a:pt x="8895" y="1"/>
                      <a:pt x="8896" y="2"/>
                      <a:pt x="8896" y="3"/>
                    </a:cubicBezTo>
                    <a:cubicBezTo>
                      <a:pt x="8896" y="5"/>
                      <a:pt x="8895" y="5"/>
                      <a:pt x="8894" y="5"/>
                    </a:cubicBezTo>
                    <a:lnTo>
                      <a:pt x="8894" y="5"/>
                    </a:lnTo>
                    <a:cubicBezTo>
                      <a:pt x="8893" y="5"/>
                      <a:pt x="8892" y="5"/>
                      <a:pt x="8892" y="3"/>
                    </a:cubicBezTo>
                    <a:cubicBezTo>
                      <a:pt x="8892" y="2"/>
                      <a:pt x="8893" y="1"/>
                      <a:pt x="8894" y="1"/>
                    </a:cubicBezTo>
                    <a:close/>
                    <a:moveTo>
                      <a:pt x="8902" y="1"/>
                    </a:moveTo>
                    <a:lnTo>
                      <a:pt x="8902" y="1"/>
                    </a:lnTo>
                    <a:cubicBezTo>
                      <a:pt x="8903" y="1"/>
                      <a:pt x="8904" y="2"/>
                      <a:pt x="8904" y="3"/>
                    </a:cubicBezTo>
                    <a:cubicBezTo>
                      <a:pt x="8904" y="5"/>
                      <a:pt x="8903" y="5"/>
                      <a:pt x="8902" y="5"/>
                    </a:cubicBezTo>
                    <a:lnTo>
                      <a:pt x="8902" y="5"/>
                    </a:lnTo>
                    <a:cubicBezTo>
                      <a:pt x="8901" y="5"/>
                      <a:pt x="8900" y="5"/>
                      <a:pt x="8900" y="3"/>
                    </a:cubicBezTo>
                    <a:cubicBezTo>
                      <a:pt x="8900" y="2"/>
                      <a:pt x="8901" y="1"/>
                      <a:pt x="8902" y="1"/>
                    </a:cubicBezTo>
                    <a:close/>
                    <a:moveTo>
                      <a:pt x="8910" y="1"/>
                    </a:moveTo>
                    <a:lnTo>
                      <a:pt x="8910" y="1"/>
                    </a:lnTo>
                    <a:cubicBezTo>
                      <a:pt x="8911" y="1"/>
                      <a:pt x="8912" y="2"/>
                      <a:pt x="8912" y="3"/>
                    </a:cubicBezTo>
                    <a:cubicBezTo>
                      <a:pt x="8912" y="5"/>
                      <a:pt x="8911" y="5"/>
                      <a:pt x="8910" y="5"/>
                    </a:cubicBezTo>
                    <a:lnTo>
                      <a:pt x="8910" y="5"/>
                    </a:lnTo>
                    <a:cubicBezTo>
                      <a:pt x="8909" y="5"/>
                      <a:pt x="8908" y="5"/>
                      <a:pt x="8908" y="3"/>
                    </a:cubicBezTo>
                    <a:cubicBezTo>
                      <a:pt x="8908" y="2"/>
                      <a:pt x="8909" y="1"/>
                      <a:pt x="8910" y="1"/>
                    </a:cubicBezTo>
                    <a:close/>
                    <a:moveTo>
                      <a:pt x="8918" y="1"/>
                    </a:moveTo>
                    <a:lnTo>
                      <a:pt x="8918" y="1"/>
                    </a:lnTo>
                    <a:cubicBezTo>
                      <a:pt x="8919" y="1"/>
                      <a:pt x="8920" y="2"/>
                      <a:pt x="8920" y="3"/>
                    </a:cubicBezTo>
                    <a:cubicBezTo>
                      <a:pt x="8920" y="5"/>
                      <a:pt x="8919" y="5"/>
                      <a:pt x="8918" y="5"/>
                    </a:cubicBezTo>
                    <a:lnTo>
                      <a:pt x="8918" y="5"/>
                    </a:lnTo>
                    <a:cubicBezTo>
                      <a:pt x="8917" y="5"/>
                      <a:pt x="8916" y="5"/>
                      <a:pt x="8916" y="3"/>
                    </a:cubicBezTo>
                    <a:cubicBezTo>
                      <a:pt x="8916" y="2"/>
                      <a:pt x="8917" y="1"/>
                      <a:pt x="8918" y="1"/>
                    </a:cubicBezTo>
                    <a:close/>
                    <a:moveTo>
                      <a:pt x="8926" y="1"/>
                    </a:moveTo>
                    <a:lnTo>
                      <a:pt x="8926" y="1"/>
                    </a:lnTo>
                    <a:cubicBezTo>
                      <a:pt x="8927" y="1"/>
                      <a:pt x="8928" y="2"/>
                      <a:pt x="8928" y="3"/>
                    </a:cubicBezTo>
                    <a:cubicBezTo>
                      <a:pt x="8928" y="5"/>
                      <a:pt x="8927" y="5"/>
                      <a:pt x="8926" y="5"/>
                    </a:cubicBezTo>
                    <a:lnTo>
                      <a:pt x="8926" y="5"/>
                    </a:lnTo>
                    <a:cubicBezTo>
                      <a:pt x="8925" y="5"/>
                      <a:pt x="8924" y="5"/>
                      <a:pt x="8924" y="3"/>
                    </a:cubicBezTo>
                    <a:cubicBezTo>
                      <a:pt x="8924" y="2"/>
                      <a:pt x="8925" y="1"/>
                      <a:pt x="8926" y="1"/>
                    </a:cubicBezTo>
                    <a:close/>
                    <a:moveTo>
                      <a:pt x="8934" y="1"/>
                    </a:moveTo>
                    <a:lnTo>
                      <a:pt x="8934" y="1"/>
                    </a:lnTo>
                    <a:cubicBezTo>
                      <a:pt x="8935" y="1"/>
                      <a:pt x="8936" y="2"/>
                      <a:pt x="8936" y="3"/>
                    </a:cubicBezTo>
                    <a:cubicBezTo>
                      <a:pt x="8936" y="5"/>
                      <a:pt x="8935" y="5"/>
                      <a:pt x="8934" y="5"/>
                    </a:cubicBezTo>
                    <a:lnTo>
                      <a:pt x="8934" y="5"/>
                    </a:lnTo>
                    <a:cubicBezTo>
                      <a:pt x="8933" y="5"/>
                      <a:pt x="8932" y="5"/>
                      <a:pt x="8932" y="3"/>
                    </a:cubicBezTo>
                    <a:cubicBezTo>
                      <a:pt x="8932" y="2"/>
                      <a:pt x="8933" y="1"/>
                      <a:pt x="8934" y="1"/>
                    </a:cubicBezTo>
                    <a:close/>
                    <a:moveTo>
                      <a:pt x="8942" y="1"/>
                    </a:moveTo>
                    <a:lnTo>
                      <a:pt x="8942" y="1"/>
                    </a:lnTo>
                    <a:cubicBezTo>
                      <a:pt x="8943" y="1"/>
                      <a:pt x="8944" y="2"/>
                      <a:pt x="8944" y="3"/>
                    </a:cubicBezTo>
                    <a:cubicBezTo>
                      <a:pt x="8944" y="5"/>
                      <a:pt x="8943" y="5"/>
                      <a:pt x="8942" y="5"/>
                    </a:cubicBezTo>
                    <a:lnTo>
                      <a:pt x="8942" y="5"/>
                    </a:lnTo>
                    <a:cubicBezTo>
                      <a:pt x="8941" y="5"/>
                      <a:pt x="8940" y="5"/>
                      <a:pt x="8940" y="3"/>
                    </a:cubicBezTo>
                    <a:cubicBezTo>
                      <a:pt x="8940" y="2"/>
                      <a:pt x="8941" y="1"/>
                      <a:pt x="8942" y="1"/>
                    </a:cubicBezTo>
                    <a:close/>
                    <a:moveTo>
                      <a:pt x="8950" y="1"/>
                    </a:moveTo>
                    <a:lnTo>
                      <a:pt x="8950" y="1"/>
                    </a:lnTo>
                    <a:cubicBezTo>
                      <a:pt x="8951" y="1"/>
                      <a:pt x="8952" y="2"/>
                      <a:pt x="8952" y="3"/>
                    </a:cubicBezTo>
                    <a:cubicBezTo>
                      <a:pt x="8952" y="5"/>
                      <a:pt x="8951" y="5"/>
                      <a:pt x="8950" y="5"/>
                    </a:cubicBezTo>
                    <a:lnTo>
                      <a:pt x="8950" y="5"/>
                    </a:lnTo>
                    <a:cubicBezTo>
                      <a:pt x="8949" y="5"/>
                      <a:pt x="8948" y="5"/>
                      <a:pt x="8948" y="3"/>
                    </a:cubicBezTo>
                    <a:cubicBezTo>
                      <a:pt x="8948" y="2"/>
                      <a:pt x="8949" y="1"/>
                      <a:pt x="8950" y="1"/>
                    </a:cubicBezTo>
                    <a:close/>
                    <a:moveTo>
                      <a:pt x="8958" y="1"/>
                    </a:moveTo>
                    <a:lnTo>
                      <a:pt x="8958" y="1"/>
                    </a:lnTo>
                    <a:cubicBezTo>
                      <a:pt x="8959" y="1"/>
                      <a:pt x="8960" y="2"/>
                      <a:pt x="8960" y="3"/>
                    </a:cubicBezTo>
                    <a:cubicBezTo>
                      <a:pt x="8960" y="5"/>
                      <a:pt x="8959" y="5"/>
                      <a:pt x="8958" y="5"/>
                    </a:cubicBezTo>
                    <a:lnTo>
                      <a:pt x="8958" y="5"/>
                    </a:lnTo>
                    <a:cubicBezTo>
                      <a:pt x="8957" y="5"/>
                      <a:pt x="8956" y="5"/>
                      <a:pt x="8956" y="3"/>
                    </a:cubicBezTo>
                    <a:cubicBezTo>
                      <a:pt x="8956" y="2"/>
                      <a:pt x="8957" y="1"/>
                      <a:pt x="8958" y="1"/>
                    </a:cubicBezTo>
                    <a:close/>
                    <a:moveTo>
                      <a:pt x="8966" y="1"/>
                    </a:moveTo>
                    <a:lnTo>
                      <a:pt x="8966" y="1"/>
                    </a:lnTo>
                    <a:cubicBezTo>
                      <a:pt x="8967" y="1"/>
                      <a:pt x="8968" y="2"/>
                      <a:pt x="8968" y="3"/>
                    </a:cubicBezTo>
                    <a:cubicBezTo>
                      <a:pt x="8968" y="5"/>
                      <a:pt x="8967" y="5"/>
                      <a:pt x="8966" y="5"/>
                    </a:cubicBezTo>
                    <a:lnTo>
                      <a:pt x="8966" y="5"/>
                    </a:lnTo>
                    <a:cubicBezTo>
                      <a:pt x="8965" y="5"/>
                      <a:pt x="8964" y="5"/>
                      <a:pt x="8964" y="3"/>
                    </a:cubicBezTo>
                    <a:cubicBezTo>
                      <a:pt x="8964" y="2"/>
                      <a:pt x="8965" y="1"/>
                      <a:pt x="8966" y="1"/>
                    </a:cubicBezTo>
                    <a:close/>
                    <a:moveTo>
                      <a:pt x="8974" y="1"/>
                    </a:moveTo>
                    <a:lnTo>
                      <a:pt x="8974" y="1"/>
                    </a:lnTo>
                    <a:cubicBezTo>
                      <a:pt x="8975" y="1"/>
                      <a:pt x="8976" y="2"/>
                      <a:pt x="8976" y="3"/>
                    </a:cubicBezTo>
                    <a:cubicBezTo>
                      <a:pt x="8976" y="5"/>
                      <a:pt x="8975" y="5"/>
                      <a:pt x="8974" y="5"/>
                    </a:cubicBezTo>
                    <a:lnTo>
                      <a:pt x="8974" y="5"/>
                    </a:lnTo>
                    <a:cubicBezTo>
                      <a:pt x="8973" y="5"/>
                      <a:pt x="8972" y="5"/>
                      <a:pt x="8972" y="3"/>
                    </a:cubicBezTo>
                    <a:cubicBezTo>
                      <a:pt x="8972" y="2"/>
                      <a:pt x="8973" y="1"/>
                      <a:pt x="8974" y="1"/>
                    </a:cubicBezTo>
                    <a:close/>
                    <a:moveTo>
                      <a:pt x="8982" y="1"/>
                    </a:moveTo>
                    <a:lnTo>
                      <a:pt x="8982" y="1"/>
                    </a:lnTo>
                    <a:cubicBezTo>
                      <a:pt x="8983" y="1"/>
                      <a:pt x="8984" y="2"/>
                      <a:pt x="8984" y="3"/>
                    </a:cubicBezTo>
                    <a:cubicBezTo>
                      <a:pt x="8984" y="5"/>
                      <a:pt x="8983" y="5"/>
                      <a:pt x="8982" y="5"/>
                    </a:cubicBezTo>
                    <a:lnTo>
                      <a:pt x="8982" y="5"/>
                    </a:lnTo>
                    <a:cubicBezTo>
                      <a:pt x="8981" y="5"/>
                      <a:pt x="8980" y="5"/>
                      <a:pt x="8980" y="3"/>
                    </a:cubicBezTo>
                    <a:cubicBezTo>
                      <a:pt x="8980" y="2"/>
                      <a:pt x="8981" y="1"/>
                      <a:pt x="8982" y="1"/>
                    </a:cubicBezTo>
                    <a:close/>
                    <a:moveTo>
                      <a:pt x="8990" y="1"/>
                    </a:moveTo>
                    <a:lnTo>
                      <a:pt x="8990" y="1"/>
                    </a:lnTo>
                    <a:cubicBezTo>
                      <a:pt x="8991" y="1"/>
                      <a:pt x="8992" y="2"/>
                      <a:pt x="8992" y="3"/>
                    </a:cubicBezTo>
                    <a:cubicBezTo>
                      <a:pt x="8992" y="5"/>
                      <a:pt x="8991" y="5"/>
                      <a:pt x="8990" y="5"/>
                    </a:cubicBezTo>
                    <a:lnTo>
                      <a:pt x="8990" y="5"/>
                    </a:lnTo>
                    <a:cubicBezTo>
                      <a:pt x="8989" y="5"/>
                      <a:pt x="8988" y="5"/>
                      <a:pt x="8988" y="3"/>
                    </a:cubicBezTo>
                    <a:cubicBezTo>
                      <a:pt x="8988" y="2"/>
                      <a:pt x="8989" y="1"/>
                      <a:pt x="8990" y="1"/>
                    </a:cubicBezTo>
                    <a:close/>
                    <a:moveTo>
                      <a:pt x="8998" y="1"/>
                    </a:moveTo>
                    <a:lnTo>
                      <a:pt x="8998" y="1"/>
                    </a:lnTo>
                    <a:cubicBezTo>
                      <a:pt x="8999" y="1"/>
                      <a:pt x="9000" y="2"/>
                      <a:pt x="9000" y="3"/>
                    </a:cubicBezTo>
                    <a:cubicBezTo>
                      <a:pt x="9000" y="5"/>
                      <a:pt x="8999" y="5"/>
                      <a:pt x="8998" y="5"/>
                    </a:cubicBezTo>
                    <a:lnTo>
                      <a:pt x="8998" y="5"/>
                    </a:lnTo>
                    <a:cubicBezTo>
                      <a:pt x="8997" y="5"/>
                      <a:pt x="8996" y="5"/>
                      <a:pt x="8996" y="3"/>
                    </a:cubicBezTo>
                    <a:cubicBezTo>
                      <a:pt x="8996" y="2"/>
                      <a:pt x="8997" y="1"/>
                      <a:pt x="8998" y="1"/>
                    </a:cubicBezTo>
                    <a:close/>
                    <a:moveTo>
                      <a:pt x="9006" y="1"/>
                    </a:moveTo>
                    <a:lnTo>
                      <a:pt x="9006" y="1"/>
                    </a:lnTo>
                    <a:cubicBezTo>
                      <a:pt x="9007" y="1"/>
                      <a:pt x="9008" y="2"/>
                      <a:pt x="9008" y="3"/>
                    </a:cubicBezTo>
                    <a:cubicBezTo>
                      <a:pt x="9008" y="5"/>
                      <a:pt x="9007" y="5"/>
                      <a:pt x="9006" y="5"/>
                    </a:cubicBezTo>
                    <a:lnTo>
                      <a:pt x="9006" y="5"/>
                    </a:lnTo>
                    <a:cubicBezTo>
                      <a:pt x="9005" y="5"/>
                      <a:pt x="9004" y="5"/>
                      <a:pt x="9004" y="3"/>
                    </a:cubicBezTo>
                    <a:cubicBezTo>
                      <a:pt x="9004" y="2"/>
                      <a:pt x="9005" y="1"/>
                      <a:pt x="9006" y="1"/>
                    </a:cubicBezTo>
                    <a:close/>
                    <a:moveTo>
                      <a:pt x="9014" y="1"/>
                    </a:moveTo>
                    <a:lnTo>
                      <a:pt x="9014" y="1"/>
                    </a:lnTo>
                    <a:cubicBezTo>
                      <a:pt x="9015" y="1"/>
                      <a:pt x="9016" y="2"/>
                      <a:pt x="9016" y="3"/>
                    </a:cubicBezTo>
                    <a:cubicBezTo>
                      <a:pt x="9016" y="5"/>
                      <a:pt x="9015" y="5"/>
                      <a:pt x="9014" y="5"/>
                    </a:cubicBezTo>
                    <a:lnTo>
                      <a:pt x="9014" y="5"/>
                    </a:lnTo>
                    <a:cubicBezTo>
                      <a:pt x="9013" y="5"/>
                      <a:pt x="9012" y="5"/>
                      <a:pt x="9012" y="3"/>
                    </a:cubicBezTo>
                    <a:cubicBezTo>
                      <a:pt x="9012" y="2"/>
                      <a:pt x="9013" y="1"/>
                      <a:pt x="9014" y="1"/>
                    </a:cubicBezTo>
                    <a:close/>
                    <a:moveTo>
                      <a:pt x="9022" y="1"/>
                    </a:moveTo>
                    <a:lnTo>
                      <a:pt x="9022" y="1"/>
                    </a:lnTo>
                    <a:cubicBezTo>
                      <a:pt x="9023" y="1"/>
                      <a:pt x="9024" y="2"/>
                      <a:pt x="9024" y="3"/>
                    </a:cubicBezTo>
                    <a:cubicBezTo>
                      <a:pt x="9024" y="5"/>
                      <a:pt x="9023" y="5"/>
                      <a:pt x="9022" y="5"/>
                    </a:cubicBezTo>
                    <a:lnTo>
                      <a:pt x="9022" y="5"/>
                    </a:lnTo>
                    <a:cubicBezTo>
                      <a:pt x="9021" y="5"/>
                      <a:pt x="9020" y="5"/>
                      <a:pt x="9020" y="3"/>
                    </a:cubicBezTo>
                    <a:cubicBezTo>
                      <a:pt x="9020" y="2"/>
                      <a:pt x="9021" y="1"/>
                      <a:pt x="9022" y="1"/>
                    </a:cubicBezTo>
                    <a:close/>
                    <a:moveTo>
                      <a:pt x="9030" y="1"/>
                    </a:moveTo>
                    <a:lnTo>
                      <a:pt x="9030" y="1"/>
                    </a:lnTo>
                    <a:cubicBezTo>
                      <a:pt x="9031" y="1"/>
                      <a:pt x="9032" y="2"/>
                      <a:pt x="9032" y="3"/>
                    </a:cubicBezTo>
                    <a:cubicBezTo>
                      <a:pt x="9032" y="5"/>
                      <a:pt x="9031" y="5"/>
                      <a:pt x="9030" y="5"/>
                    </a:cubicBezTo>
                    <a:lnTo>
                      <a:pt x="9030" y="5"/>
                    </a:lnTo>
                    <a:cubicBezTo>
                      <a:pt x="9029" y="5"/>
                      <a:pt x="9028" y="5"/>
                      <a:pt x="9028" y="3"/>
                    </a:cubicBezTo>
                    <a:cubicBezTo>
                      <a:pt x="9028" y="2"/>
                      <a:pt x="9029" y="1"/>
                      <a:pt x="9030" y="1"/>
                    </a:cubicBezTo>
                    <a:close/>
                    <a:moveTo>
                      <a:pt x="9038" y="1"/>
                    </a:moveTo>
                    <a:lnTo>
                      <a:pt x="9038" y="1"/>
                    </a:lnTo>
                    <a:cubicBezTo>
                      <a:pt x="9039" y="1"/>
                      <a:pt x="9040" y="2"/>
                      <a:pt x="9040" y="3"/>
                    </a:cubicBezTo>
                    <a:cubicBezTo>
                      <a:pt x="9040" y="5"/>
                      <a:pt x="9039" y="5"/>
                      <a:pt x="9038" y="5"/>
                    </a:cubicBezTo>
                    <a:lnTo>
                      <a:pt x="9038" y="5"/>
                    </a:lnTo>
                    <a:cubicBezTo>
                      <a:pt x="9037" y="5"/>
                      <a:pt x="9036" y="5"/>
                      <a:pt x="9036" y="3"/>
                    </a:cubicBezTo>
                    <a:cubicBezTo>
                      <a:pt x="9036" y="2"/>
                      <a:pt x="9037" y="1"/>
                      <a:pt x="9038" y="1"/>
                    </a:cubicBezTo>
                    <a:close/>
                    <a:moveTo>
                      <a:pt x="9046" y="1"/>
                    </a:moveTo>
                    <a:lnTo>
                      <a:pt x="9046" y="1"/>
                    </a:lnTo>
                    <a:cubicBezTo>
                      <a:pt x="9047" y="1"/>
                      <a:pt x="9048" y="2"/>
                      <a:pt x="9048" y="3"/>
                    </a:cubicBezTo>
                    <a:cubicBezTo>
                      <a:pt x="9048" y="5"/>
                      <a:pt x="9047" y="5"/>
                      <a:pt x="9046" y="5"/>
                    </a:cubicBezTo>
                    <a:lnTo>
                      <a:pt x="9046" y="5"/>
                    </a:lnTo>
                    <a:cubicBezTo>
                      <a:pt x="9045" y="5"/>
                      <a:pt x="9044" y="5"/>
                      <a:pt x="9044" y="3"/>
                    </a:cubicBezTo>
                    <a:cubicBezTo>
                      <a:pt x="9044" y="2"/>
                      <a:pt x="9045" y="1"/>
                      <a:pt x="9046" y="1"/>
                    </a:cubicBezTo>
                    <a:close/>
                    <a:moveTo>
                      <a:pt x="9054" y="1"/>
                    </a:moveTo>
                    <a:lnTo>
                      <a:pt x="9054" y="1"/>
                    </a:lnTo>
                    <a:cubicBezTo>
                      <a:pt x="9055" y="1"/>
                      <a:pt x="9056" y="2"/>
                      <a:pt x="9056" y="3"/>
                    </a:cubicBezTo>
                    <a:cubicBezTo>
                      <a:pt x="9056" y="5"/>
                      <a:pt x="9055" y="5"/>
                      <a:pt x="9054" y="5"/>
                    </a:cubicBezTo>
                    <a:lnTo>
                      <a:pt x="9054" y="5"/>
                    </a:lnTo>
                    <a:cubicBezTo>
                      <a:pt x="9053" y="5"/>
                      <a:pt x="9052" y="5"/>
                      <a:pt x="9052" y="3"/>
                    </a:cubicBezTo>
                    <a:cubicBezTo>
                      <a:pt x="9052" y="2"/>
                      <a:pt x="9053" y="1"/>
                      <a:pt x="9054" y="1"/>
                    </a:cubicBezTo>
                    <a:close/>
                    <a:moveTo>
                      <a:pt x="9062" y="1"/>
                    </a:moveTo>
                    <a:lnTo>
                      <a:pt x="9062" y="1"/>
                    </a:lnTo>
                    <a:cubicBezTo>
                      <a:pt x="9063" y="1"/>
                      <a:pt x="9064" y="2"/>
                      <a:pt x="9064" y="3"/>
                    </a:cubicBezTo>
                    <a:cubicBezTo>
                      <a:pt x="9064" y="5"/>
                      <a:pt x="9063" y="5"/>
                      <a:pt x="9062" y="5"/>
                    </a:cubicBezTo>
                    <a:lnTo>
                      <a:pt x="9062" y="5"/>
                    </a:lnTo>
                    <a:cubicBezTo>
                      <a:pt x="9061" y="5"/>
                      <a:pt x="9060" y="5"/>
                      <a:pt x="9060" y="3"/>
                    </a:cubicBezTo>
                    <a:cubicBezTo>
                      <a:pt x="9060" y="2"/>
                      <a:pt x="9061" y="1"/>
                      <a:pt x="9062" y="1"/>
                    </a:cubicBezTo>
                    <a:close/>
                    <a:moveTo>
                      <a:pt x="9070" y="1"/>
                    </a:moveTo>
                    <a:lnTo>
                      <a:pt x="9070" y="1"/>
                    </a:lnTo>
                    <a:cubicBezTo>
                      <a:pt x="9071" y="1"/>
                      <a:pt x="9072" y="2"/>
                      <a:pt x="9072" y="3"/>
                    </a:cubicBezTo>
                    <a:cubicBezTo>
                      <a:pt x="9072" y="5"/>
                      <a:pt x="9071" y="5"/>
                      <a:pt x="9070" y="5"/>
                    </a:cubicBezTo>
                    <a:lnTo>
                      <a:pt x="9070" y="5"/>
                    </a:lnTo>
                    <a:cubicBezTo>
                      <a:pt x="9069" y="5"/>
                      <a:pt x="9068" y="5"/>
                      <a:pt x="9068" y="3"/>
                    </a:cubicBezTo>
                    <a:cubicBezTo>
                      <a:pt x="9068" y="2"/>
                      <a:pt x="9069" y="1"/>
                      <a:pt x="9070" y="1"/>
                    </a:cubicBezTo>
                    <a:close/>
                    <a:moveTo>
                      <a:pt x="9078" y="1"/>
                    </a:moveTo>
                    <a:lnTo>
                      <a:pt x="9078" y="1"/>
                    </a:lnTo>
                    <a:cubicBezTo>
                      <a:pt x="9079" y="1"/>
                      <a:pt x="9080" y="2"/>
                      <a:pt x="9080" y="3"/>
                    </a:cubicBezTo>
                    <a:cubicBezTo>
                      <a:pt x="9080" y="5"/>
                      <a:pt x="9079" y="5"/>
                      <a:pt x="9078" y="5"/>
                    </a:cubicBezTo>
                    <a:lnTo>
                      <a:pt x="9078" y="5"/>
                    </a:lnTo>
                    <a:cubicBezTo>
                      <a:pt x="9077" y="5"/>
                      <a:pt x="9076" y="5"/>
                      <a:pt x="9076" y="3"/>
                    </a:cubicBezTo>
                    <a:cubicBezTo>
                      <a:pt x="9076" y="2"/>
                      <a:pt x="9077" y="1"/>
                      <a:pt x="9078" y="1"/>
                    </a:cubicBezTo>
                    <a:close/>
                    <a:moveTo>
                      <a:pt x="9086" y="1"/>
                    </a:moveTo>
                    <a:lnTo>
                      <a:pt x="9086" y="1"/>
                    </a:lnTo>
                    <a:cubicBezTo>
                      <a:pt x="9087" y="1"/>
                      <a:pt x="9088" y="2"/>
                      <a:pt x="9088" y="3"/>
                    </a:cubicBezTo>
                    <a:cubicBezTo>
                      <a:pt x="9088" y="5"/>
                      <a:pt x="9087" y="5"/>
                      <a:pt x="9086" y="5"/>
                    </a:cubicBezTo>
                    <a:lnTo>
                      <a:pt x="9086" y="5"/>
                    </a:lnTo>
                    <a:cubicBezTo>
                      <a:pt x="9085" y="5"/>
                      <a:pt x="9084" y="5"/>
                      <a:pt x="9084" y="3"/>
                    </a:cubicBezTo>
                    <a:cubicBezTo>
                      <a:pt x="9084" y="2"/>
                      <a:pt x="9085" y="1"/>
                      <a:pt x="9086" y="1"/>
                    </a:cubicBezTo>
                    <a:close/>
                    <a:moveTo>
                      <a:pt x="9094" y="2"/>
                    </a:moveTo>
                    <a:lnTo>
                      <a:pt x="9094" y="2"/>
                    </a:lnTo>
                    <a:cubicBezTo>
                      <a:pt x="9095" y="2"/>
                      <a:pt x="9096" y="2"/>
                      <a:pt x="9096" y="4"/>
                    </a:cubicBezTo>
                    <a:cubicBezTo>
                      <a:pt x="9096" y="5"/>
                      <a:pt x="9095" y="6"/>
                      <a:pt x="9094" y="6"/>
                    </a:cubicBezTo>
                    <a:lnTo>
                      <a:pt x="9094" y="6"/>
                    </a:lnTo>
                    <a:cubicBezTo>
                      <a:pt x="9093" y="6"/>
                      <a:pt x="9092" y="5"/>
                      <a:pt x="9092" y="4"/>
                    </a:cubicBezTo>
                    <a:cubicBezTo>
                      <a:pt x="9092" y="2"/>
                      <a:pt x="9093" y="2"/>
                      <a:pt x="9094" y="2"/>
                    </a:cubicBezTo>
                    <a:close/>
                    <a:moveTo>
                      <a:pt x="9102" y="2"/>
                    </a:moveTo>
                    <a:lnTo>
                      <a:pt x="9102" y="2"/>
                    </a:lnTo>
                    <a:cubicBezTo>
                      <a:pt x="9103" y="2"/>
                      <a:pt x="9104" y="2"/>
                      <a:pt x="9104" y="4"/>
                    </a:cubicBezTo>
                    <a:cubicBezTo>
                      <a:pt x="9104" y="5"/>
                      <a:pt x="9103" y="6"/>
                      <a:pt x="9102" y="6"/>
                    </a:cubicBezTo>
                    <a:lnTo>
                      <a:pt x="9102" y="6"/>
                    </a:lnTo>
                    <a:cubicBezTo>
                      <a:pt x="9101" y="6"/>
                      <a:pt x="9100" y="5"/>
                      <a:pt x="9100" y="4"/>
                    </a:cubicBezTo>
                    <a:cubicBezTo>
                      <a:pt x="9100" y="2"/>
                      <a:pt x="9101" y="2"/>
                      <a:pt x="9102" y="2"/>
                    </a:cubicBezTo>
                    <a:close/>
                    <a:moveTo>
                      <a:pt x="9110" y="2"/>
                    </a:moveTo>
                    <a:lnTo>
                      <a:pt x="9110" y="2"/>
                    </a:lnTo>
                    <a:cubicBezTo>
                      <a:pt x="9111" y="2"/>
                      <a:pt x="9112" y="2"/>
                      <a:pt x="9112" y="4"/>
                    </a:cubicBezTo>
                    <a:cubicBezTo>
                      <a:pt x="9112" y="5"/>
                      <a:pt x="9111" y="6"/>
                      <a:pt x="9110" y="6"/>
                    </a:cubicBezTo>
                    <a:lnTo>
                      <a:pt x="9110" y="6"/>
                    </a:lnTo>
                    <a:cubicBezTo>
                      <a:pt x="9109" y="6"/>
                      <a:pt x="9108" y="5"/>
                      <a:pt x="9108" y="4"/>
                    </a:cubicBezTo>
                    <a:cubicBezTo>
                      <a:pt x="9108" y="2"/>
                      <a:pt x="9109" y="2"/>
                      <a:pt x="9110" y="2"/>
                    </a:cubicBezTo>
                    <a:close/>
                    <a:moveTo>
                      <a:pt x="9118" y="2"/>
                    </a:moveTo>
                    <a:lnTo>
                      <a:pt x="9118" y="2"/>
                    </a:lnTo>
                    <a:cubicBezTo>
                      <a:pt x="9119" y="2"/>
                      <a:pt x="9120" y="2"/>
                      <a:pt x="9120" y="4"/>
                    </a:cubicBezTo>
                    <a:cubicBezTo>
                      <a:pt x="9120" y="5"/>
                      <a:pt x="9119" y="6"/>
                      <a:pt x="9118" y="6"/>
                    </a:cubicBezTo>
                    <a:lnTo>
                      <a:pt x="9118" y="6"/>
                    </a:lnTo>
                    <a:cubicBezTo>
                      <a:pt x="9117" y="6"/>
                      <a:pt x="9116" y="5"/>
                      <a:pt x="9116" y="4"/>
                    </a:cubicBezTo>
                    <a:cubicBezTo>
                      <a:pt x="9116" y="2"/>
                      <a:pt x="9117" y="2"/>
                      <a:pt x="9118" y="2"/>
                    </a:cubicBezTo>
                    <a:close/>
                    <a:moveTo>
                      <a:pt x="9126" y="2"/>
                    </a:moveTo>
                    <a:lnTo>
                      <a:pt x="9126" y="2"/>
                    </a:lnTo>
                    <a:cubicBezTo>
                      <a:pt x="9127" y="2"/>
                      <a:pt x="9128" y="2"/>
                      <a:pt x="9128" y="4"/>
                    </a:cubicBezTo>
                    <a:cubicBezTo>
                      <a:pt x="9128" y="5"/>
                      <a:pt x="9127" y="6"/>
                      <a:pt x="9126" y="6"/>
                    </a:cubicBezTo>
                    <a:lnTo>
                      <a:pt x="9126" y="6"/>
                    </a:lnTo>
                    <a:cubicBezTo>
                      <a:pt x="9125" y="6"/>
                      <a:pt x="9124" y="5"/>
                      <a:pt x="9124" y="4"/>
                    </a:cubicBezTo>
                    <a:cubicBezTo>
                      <a:pt x="9124" y="2"/>
                      <a:pt x="9125" y="2"/>
                      <a:pt x="9126" y="2"/>
                    </a:cubicBezTo>
                    <a:close/>
                    <a:moveTo>
                      <a:pt x="9134" y="2"/>
                    </a:moveTo>
                    <a:lnTo>
                      <a:pt x="9134" y="2"/>
                    </a:lnTo>
                    <a:cubicBezTo>
                      <a:pt x="9135" y="2"/>
                      <a:pt x="9136" y="2"/>
                      <a:pt x="9136" y="4"/>
                    </a:cubicBezTo>
                    <a:cubicBezTo>
                      <a:pt x="9136" y="5"/>
                      <a:pt x="9135" y="6"/>
                      <a:pt x="9134" y="6"/>
                    </a:cubicBezTo>
                    <a:lnTo>
                      <a:pt x="9134" y="6"/>
                    </a:lnTo>
                    <a:cubicBezTo>
                      <a:pt x="9133" y="6"/>
                      <a:pt x="9132" y="5"/>
                      <a:pt x="9132" y="4"/>
                    </a:cubicBezTo>
                    <a:cubicBezTo>
                      <a:pt x="9132" y="2"/>
                      <a:pt x="9133" y="2"/>
                      <a:pt x="9134" y="2"/>
                    </a:cubicBezTo>
                    <a:close/>
                    <a:moveTo>
                      <a:pt x="9142" y="2"/>
                    </a:moveTo>
                    <a:lnTo>
                      <a:pt x="9142" y="2"/>
                    </a:lnTo>
                    <a:cubicBezTo>
                      <a:pt x="9143" y="2"/>
                      <a:pt x="9144" y="2"/>
                      <a:pt x="9144" y="4"/>
                    </a:cubicBezTo>
                    <a:cubicBezTo>
                      <a:pt x="9144" y="5"/>
                      <a:pt x="9143" y="6"/>
                      <a:pt x="9142" y="6"/>
                    </a:cubicBezTo>
                    <a:lnTo>
                      <a:pt x="9142" y="6"/>
                    </a:lnTo>
                    <a:cubicBezTo>
                      <a:pt x="9141" y="6"/>
                      <a:pt x="9140" y="5"/>
                      <a:pt x="9140" y="4"/>
                    </a:cubicBezTo>
                    <a:cubicBezTo>
                      <a:pt x="9140" y="2"/>
                      <a:pt x="9141" y="2"/>
                      <a:pt x="9142" y="2"/>
                    </a:cubicBezTo>
                    <a:close/>
                    <a:moveTo>
                      <a:pt x="9150" y="2"/>
                    </a:moveTo>
                    <a:lnTo>
                      <a:pt x="9150" y="2"/>
                    </a:lnTo>
                    <a:cubicBezTo>
                      <a:pt x="9152" y="2"/>
                      <a:pt x="9152" y="2"/>
                      <a:pt x="9152" y="4"/>
                    </a:cubicBezTo>
                    <a:cubicBezTo>
                      <a:pt x="9152" y="5"/>
                      <a:pt x="9152" y="6"/>
                      <a:pt x="9150" y="6"/>
                    </a:cubicBezTo>
                    <a:lnTo>
                      <a:pt x="9150" y="6"/>
                    </a:lnTo>
                    <a:cubicBezTo>
                      <a:pt x="9149" y="6"/>
                      <a:pt x="9148" y="5"/>
                      <a:pt x="9148" y="4"/>
                    </a:cubicBezTo>
                    <a:cubicBezTo>
                      <a:pt x="9148" y="2"/>
                      <a:pt x="9149" y="2"/>
                      <a:pt x="9150" y="2"/>
                    </a:cubicBezTo>
                    <a:close/>
                    <a:moveTo>
                      <a:pt x="9158" y="2"/>
                    </a:moveTo>
                    <a:lnTo>
                      <a:pt x="9158" y="2"/>
                    </a:lnTo>
                    <a:cubicBezTo>
                      <a:pt x="9160" y="2"/>
                      <a:pt x="9160" y="2"/>
                      <a:pt x="9160" y="4"/>
                    </a:cubicBezTo>
                    <a:cubicBezTo>
                      <a:pt x="9160" y="5"/>
                      <a:pt x="9160" y="6"/>
                      <a:pt x="9158" y="6"/>
                    </a:cubicBezTo>
                    <a:lnTo>
                      <a:pt x="9158" y="6"/>
                    </a:lnTo>
                    <a:cubicBezTo>
                      <a:pt x="9157" y="6"/>
                      <a:pt x="9156" y="5"/>
                      <a:pt x="9156" y="4"/>
                    </a:cubicBezTo>
                    <a:cubicBezTo>
                      <a:pt x="9156" y="2"/>
                      <a:pt x="9157" y="2"/>
                      <a:pt x="9158" y="2"/>
                    </a:cubicBezTo>
                    <a:close/>
                    <a:moveTo>
                      <a:pt x="9166" y="2"/>
                    </a:moveTo>
                    <a:lnTo>
                      <a:pt x="9166" y="2"/>
                    </a:lnTo>
                    <a:cubicBezTo>
                      <a:pt x="9168" y="2"/>
                      <a:pt x="9168" y="2"/>
                      <a:pt x="9168" y="4"/>
                    </a:cubicBezTo>
                    <a:cubicBezTo>
                      <a:pt x="9168" y="5"/>
                      <a:pt x="9168" y="6"/>
                      <a:pt x="9166" y="6"/>
                    </a:cubicBezTo>
                    <a:lnTo>
                      <a:pt x="9166" y="6"/>
                    </a:lnTo>
                    <a:cubicBezTo>
                      <a:pt x="9165" y="6"/>
                      <a:pt x="9164" y="5"/>
                      <a:pt x="9164" y="4"/>
                    </a:cubicBezTo>
                    <a:cubicBezTo>
                      <a:pt x="9164" y="2"/>
                      <a:pt x="9165" y="2"/>
                      <a:pt x="9166" y="2"/>
                    </a:cubicBezTo>
                    <a:close/>
                    <a:moveTo>
                      <a:pt x="9174" y="2"/>
                    </a:moveTo>
                    <a:lnTo>
                      <a:pt x="9174" y="2"/>
                    </a:lnTo>
                    <a:cubicBezTo>
                      <a:pt x="9176" y="2"/>
                      <a:pt x="9176" y="2"/>
                      <a:pt x="9176" y="4"/>
                    </a:cubicBezTo>
                    <a:cubicBezTo>
                      <a:pt x="9176" y="5"/>
                      <a:pt x="9176" y="6"/>
                      <a:pt x="9174" y="6"/>
                    </a:cubicBezTo>
                    <a:lnTo>
                      <a:pt x="9174" y="6"/>
                    </a:lnTo>
                    <a:cubicBezTo>
                      <a:pt x="9173" y="6"/>
                      <a:pt x="9172" y="5"/>
                      <a:pt x="9172" y="4"/>
                    </a:cubicBezTo>
                    <a:cubicBezTo>
                      <a:pt x="9172" y="2"/>
                      <a:pt x="9173" y="2"/>
                      <a:pt x="9174" y="2"/>
                    </a:cubicBezTo>
                    <a:close/>
                    <a:moveTo>
                      <a:pt x="9182" y="2"/>
                    </a:moveTo>
                    <a:lnTo>
                      <a:pt x="9182" y="2"/>
                    </a:lnTo>
                    <a:cubicBezTo>
                      <a:pt x="9184" y="2"/>
                      <a:pt x="9184" y="2"/>
                      <a:pt x="9184" y="4"/>
                    </a:cubicBezTo>
                    <a:cubicBezTo>
                      <a:pt x="9184" y="5"/>
                      <a:pt x="9184" y="6"/>
                      <a:pt x="9182" y="6"/>
                    </a:cubicBezTo>
                    <a:lnTo>
                      <a:pt x="9182" y="6"/>
                    </a:lnTo>
                    <a:cubicBezTo>
                      <a:pt x="9181" y="6"/>
                      <a:pt x="9180" y="5"/>
                      <a:pt x="9180" y="4"/>
                    </a:cubicBezTo>
                    <a:cubicBezTo>
                      <a:pt x="9180" y="2"/>
                      <a:pt x="9181" y="2"/>
                      <a:pt x="9182" y="2"/>
                    </a:cubicBezTo>
                    <a:close/>
                    <a:moveTo>
                      <a:pt x="9190" y="2"/>
                    </a:moveTo>
                    <a:lnTo>
                      <a:pt x="9190" y="2"/>
                    </a:lnTo>
                    <a:cubicBezTo>
                      <a:pt x="9192" y="2"/>
                      <a:pt x="9192" y="2"/>
                      <a:pt x="9192" y="4"/>
                    </a:cubicBezTo>
                    <a:cubicBezTo>
                      <a:pt x="9192" y="5"/>
                      <a:pt x="9192" y="6"/>
                      <a:pt x="9190" y="6"/>
                    </a:cubicBezTo>
                    <a:lnTo>
                      <a:pt x="9190" y="6"/>
                    </a:lnTo>
                    <a:cubicBezTo>
                      <a:pt x="9189" y="6"/>
                      <a:pt x="9188" y="5"/>
                      <a:pt x="9188" y="4"/>
                    </a:cubicBezTo>
                    <a:cubicBezTo>
                      <a:pt x="9188" y="2"/>
                      <a:pt x="9189" y="2"/>
                      <a:pt x="9190" y="2"/>
                    </a:cubicBezTo>
                    <a:close/>
                    <a:moveTo>
                      <a:pt x="9198" y="2"/>
                    </a:moveTo>
                    <a:lnTo>
                      <a:pt x="9198" y="2"/>
                    </a:lnTo>
                    <a:cubicBezTo>
                      <a:pt x="9200" y="2"/>
                      <a:pt x="9200" y="2"/>
                      <a:pt x="9200" y="4"/>
                    </a:cubicBezTo>
                    <a:cubicBezTo>
                      <a:pt x="9200" y="5"/>
                      <a:pt x="9200" y="6"/>
                      <a:pt x="9198" y="6"/>
                    </a:cubicBezTo>
                    <a:lnTo>
                      <a:pt x="9198" y="6"/>
                    </a:lnTo>
                    <a:cubicBezTo>
                      <a:pt x="9197" y="6"/>
                      <a:pt x="9196" y="5"/>
                      <a:pt x="9196" y="4"/>
                    </a:cubicBezTo>
                    <a:cubicBezTo>
                      <a:pt x="9196" y="2"/>
                      <a:pt x="9197" y="2"/>
                      <a:pt x="9198" y="2"/>
                    </a:cubicBezTo>
                    <a:close/>
                    <a:moveTo>
                      <a:pt x="9206" y="2"/>
                    </a:moveTo>
                    <a:lnTo>
                      <a:pt x="9206" y="2"/>
                    </a:lnTo>
                    <a:cubicBezTo>
                      <a:pt x="9208" y="2"/>
                      <a:pt x="9208" y="2"/>
                      <a:pt x="9208" y="4"/>
                    </a:cubicBezTo>
                    <a:cubicBezTo>
                      <a:pt x="9208" y="5"/>
                      <a:pt x="9208" y="6"/>
                      <a:pt x="9206" y="6"/>
                    </a:cubicBezTo>
                    <a:lnTo>
                      <a:pt x="9206" y="6"/>
                    </a:lnTo>
                    <a:cubicBezTo>
                      <a:pt x="9205" y="6"/>
                      <a:pt x="9204" y="5"/>
                      <a:pt x="9204" y="4"/>
                    </a:cubicBezTo>
                    <a:cubicBezTo>
                      <a:pt x="9204" y="2"/>
                      <a:pt x="9205" y="2"/>
                      <a:pt x="9206" y="2"/>
                    </a:cubicBezTo>
                    <a:close/>
                    <a:moveTo>
                      <a:pt x="9214" y="2"/>
                    </a:moveTo>
                    <a:lnTo>
                      <a:pt x="9214" y="2"/>
                    </a:lnTo>
                    <a:cubicBezTo>
                      <a:pt x="9216" y="2"/>
                      <a:pt x="9216" y="2"/>
                      <a:pt x="9216" y="4"/>
                    </a:cubicBezTo>
                    <a:cubicBezTo>
                      <a:pt x="9216" y="5"/>
                      <a:pt x="9216" y="6"/>
                      <a:pt x="9214" y="6"/>
                    </a:cubicBezTo>
                    <a:lnTo>
                      <a:pt x="9214" y="6"/>
                    </a:lnTo>
                    <a:cubicBezTo>
                      <a:pt x="9213" y="6"/>
                      <a:pt x="9212" y="5"/>
                      <a:pt x="9212" y="4"/>
                    </a:cubicBezTo>
                    <a:cubicBezTo>
                      <a:pt x="9212" y="2"/>
                      <a:pt x="9213" y="2"/>
                      <a:pt x="9214" y="2"/>
                    </a:cubicBezTo>
                    <a:close/>
                    <a:moveTo>
                      <a:pt x="9222" y="2"/>
                    </a:moveTo>
                    <a:lnTo>
                      <a:pt x="9222" y="2"/>
                    </a:lnTo>
                    <a:cubicBezTo>
                      <a:pt x="9224" y="2"/>
                      <a:pt x="9224" y="2"/>
                      <a:pt x="9224" y="4"/>
                    </a:cubicBezTo>
                    <a:cubicBezTo>
                      <a:pt x="9224" y="5"/>
                      <a:pt x="9224" y="6"/>
                      <a:pt x="9222" y="6"/>
                    </a:cubicBezTo>
                    <a:lnTo>
                      <a:pt x="9222" y="6"/>
                    </a:lnTo>
                    <a:cubicBezTo>
                      <a:pt x="9221" y="6"/>
                      <a:pt x="9220" y="5"/>
                      <a:pt x="9220" y="4"/>
                    </a:cubicBezTo>
                    <a:cubicBezTo>
                      <a:pt x="9220" y="2"/>
                      <a:pt x="9221" y="2"/>
                      <a:pt x="9222" y="2"/>
                    </a:cubicBezTo>
                    <a:close/>
                    <a:moveTo>
                      <a:pt x="9230" y="2"/>
                    </a:moveTo>
                    <a:lnTo>
                      <a:pt x="9230" y="2"/>
                    </a:lnTo>
                    <a:cubicBezTo>
                      <a:pt x="9232" y="2"/>
                      <a:pt x="9232" y="2"/>
                      <a:pt x="9232" y="4"/>
                    </a:cubicBezTo>
                    <a:cubicBezTo>
                      <a:pt x="9232" y="5"/>
                      <a:pt x="9232" y="6"/>
                      <a:pt x="9230" y="6"/>
                    </a:cubicBezTo>
                    <a:lnTo>
                      <a:pt x="9230" y="6"/>
                    </a:lnTo>
                    <a:cubicBezTo>
                      <a:pt x="9229" y="6"/>
                      <a:pt x="9228" y="5"/>
                      <a:pt x="9228" y="4"/>
                    </a:cubicBezTo>
                    <a:cubicBezTo>
                      <a:pt x="9228" y="2"/>
                      <a:pt x="9229" y="2"/>
                      <a:pt x="9230" y="2"/>
                    </a:cubicBezTo>
                    <a:close/>
                    <a:moveTo>
                      <a:pt x="9238" y="2"/>
                    </a:moveTo>
                    <a:lnTo>
                      <a:pt x="9238" y="2"/>
                    </a:lnTo>
                    <a:cubicBezTo>
                      <a:pt x="9240" y="2"/>
                      <a:pt x="9240" y="2"/>
                      <a:pt x="9240" y="4"/>
                    </a:cubicBezTo>
                    <a:cubicBezTo>
                      <a:pt x="9240" y="5"/>
                      <a:pt x="9240" y="6"/>
                      <a:pt x="9238" y="6"/>
                    </a:cubicBezTo>
                    <a:lnTo>
                      <a:pt x="9238" y="6"/>
                    </a:lnTo>
                    <a:cubicBezTo>
                      <a:pt x="9237" y="6"/>
                      <a:pt x="9236" y="5"/>
                      <a:pt x="9236" y="4"/>
                    </a:cubicBezTo>
                    <a:cubicBezTo>
                      <a:pt x="9236" y="2"/>
                      <a:pt x="9237" y="2"/>
                      <a:pt x="9238" y="2"/>
                    </a:cubicBezTo>
                    <a:close/>
                    <a:moveTo>
                      <a:pt x="9246" y="2"/>
                    </a:moveTo>
                    <a:lnTo>
                      <a:pt x="9246" y="2"/>
                    </a:lnTo>
                    <a:cubicBezTo>
                      <a:pt x="9248" y="2"/>
                      <a:pt x="9248" y="2"/>
                      <a:pt x="9248" y="4"/>
                    </a:cubicBezTo>
                    <a:cubicBezTo>
                      <a:pt x="9248" y="5"/>
                      <a:pt x="9248" y="6"/>
                      <a:pt x="9246" y="6"/>
                    </a:cubicBezTo>
                    <a:lnTo>
                      <a:pt x="9246" y="6"/>
                    </a:lnTo>
                    <a:cubicBezTo>
                      <a:pt x="9245" y="6"/>
                      <a:pt x="9244" y="5"/>
                      <a:pt x="9244" y="4"/>
                    </a:cubicBezTo>
                    <a:cubicBezTo>
                      <a:pt x="9244" y="2"/>
                      <a:pt x="9245" y="2"/>
                      <a:pt x="9246" y="2"/>
                    </a:cubicBezTo>
                    <a:close/>
                    <a:moveTo>
                      <a:pt x="9254" y="2"/>
                    </a:moveTo>
                    <a:lnTo>
                      <a:pt x="9254" y="2"/>
                    </a:lnTo>
                    <a:cubicBezTo>
                      <a:pt x="9256" y="2"/>
                      <a:pt x="9256" y="2"/>
                      <a:pt x="9256" y="4"/>
                    </a:cubicBezTo>
                    <a:cubicBezTo>
                      <a:pt x="9256" y="5"/>
                      <a:pt x="9256" y="6"/>
                      <a:pt x="9254" y="6"/>
                    </a:cubicBezTo>
                    <a:lnTo>
                      <a:pt x="9254" y="6"/>
                    </a:lnTo>
                    <a:cubicBezTo>
                      <a:pt x="9253" y="6"/>
                      <a:pt x="9252" y="5"/>
                      <a:pt x="9252" y="4"/>
                    </a:cubicBezTo>
                    <a:cubicBezTo>
                      <a:pt x="9252" y="2"/>
                      <a:pt x="9253" y="2"/>
                      <a:pt x="9254" y="2"/>
                    </a:cubicBezTo>
                    <a:close/>
                    <a:moveTo>
                      <a:pt x="9262" y="2"/>
                    </a:moveTo>
                    <a:lnTo>
                      <a:pt x="9262" y="2"/>
                    </a:lnTo>
                    <a:cubicBezTo>
                      <a:pt x="9264" y="2"/>
                      <a:pt x="9264" y="2"/>
                      <a:pt x="9264" y="4"/>
                    </a:cubicBezTo>
                    <a:cubicBezTo>
                      <a:pt x="9264" y="5"/>
                      <a:pt x="9264" y="6"/>
                      <a:pt x="9262" y="6"/>
                    </a:cubicBezTo>
                    <a:lnTo>
                      <a:pt x="9262" y="6"/>
                    </a:lnTo>
                    <a:cubicBezTo>
                      <a:pt x="9261" y="6"/>
                      <a:pt x="9260" y="5"/>
                      <a:pt x="9260" y="4"/>
                    </a:cubicBezTo>
                    <a:cubicBezTo>
                      <a:pt x="9260" y="2"/>
                      <a:pt x="9261" y="2"/>
                      <a:pt x="9262" y="2"/>
                    </a:cubicBezTo>
                    <a:close/>
                    <a:moveTo>
                      <a:pt x="9270" y="2"/>
                    </a:moveTo>
                    <a:lnTo>
                      <a:pt x="9270" y="2"/>
                    </a:lnTo>
                    <a:cubicBezTo>
                      <a:pt x="9272" y="2"/>
                      <a:pt x="9272" y="2"/>
                      <a:pt x="9272" y="4"/>
                    </a:cubicBezTo>
                    <a:cubicBezTo>
                      <a:pt x="9272" y="5"/>
                      <a:pt x="9272" y="6"/>
                      <a:pt x="9270" y="6"/>
                    </a:cubicBezTo>
                    <a:lnTo>
                      <a:pt x="9270" y="6"/>
                    </a:lnTo>
                    <a:cubicBezTo>
                      <a:pt x="9269" y="6"/>
                      <a:pt x="9268" y="5"/>
                      <a:pt x="9268" y="4"/>
                    </a:cubicBezTo>
                    <a:cubicBezTo>
                      <a:pt x="9268" y="2"/>
                      <a:pt x="9269" y="2"/>
                      <a:pt x="9270" y="2"/>
                    </a:cubicBezTo>
                    <a:close/>
                    <a:moveTo>
                      <a:pt x="9278" y="2"/>
                    </a:moveTo>
                    <a:lnTo>
                      <a:pt x="9278" y="2"/>
                    </a:lnTo>
                    <a:cubicBezTo>
                      <a:pt x="9280" y="2"/>
                      <a:pt x="9280" y="2"/>
                      <a:pt x="9280" y="4"/>
                    </a:cubicBezTo>
                    <a:cubicBezTo>
                      <a:pt x="9280" y="5"/>
                      <a:pt x="9280" y="6"/>
                      <a:pt x="9278" y="6"/>
                    </a:cubicBezTo>
                    <a:lnTo>
                      <a:pt x="9278" y="6"/>
                    </a:lnTo>
                    <a:cubicBezTo>
                      <a:pt x="9277" y="6"/>
                      <a:pt x="9276" y="5"/>
                      <a:pt x="9276" y="4"/>
                    </a:cubicBezTo>
                    <a:cubicBezTo>
                      <a:pt x="9276" y="2"/>
                      <a:pt x="9277" y="2"/>
                      <a:pt x="9278" y="2"/>
                    </a:cubicBezTo>
                    <a:close/>
                    <a:moveTo>
                      <a:pt x="9286" y="2"/>
                    </a:moveTo>
                    <a:lnTo>
                      <a:pt x="9286" y="2"/>
                    </a:lnTo>
                    <a:cubicBezTo>
                      <a:pt x="9288" y="2"/>
                      <a:pt x="9288" y="2"/>
                      <a:pt x="9288" y="4"/>
                    </a:cubicBezTo>
                    <a:cubicBezTo>
                      <a:pt x="9288" y="5"/>
                      <a:pt x="9288" y="6"/>
                      <a:pt x="9286" y="6"/>
                    </a:cubicBezTo>
                    <a:lnTo>
                      <a:pt x="9286" y="6"/>
                    </a:lnTo>
                    <a:cubicBezTo>
                      <a:pt x="9285" y="6"/>
                      <a:pt x="9284" y="5"/>
                      <a:pt x="9284" y="4"/>
                    </a:cubicBezTo>
                    <a:cubicBezTo>
                      <a:pt x="9284" y="2"/>
                      <a:pt x="9285" y="2"/>
                      <a:pt x="9286" y="2"/>
                    </a:cubicBezTo>
                    <a:close/>
                    <a:moveTo>
                      <a:pt x="9294" y="2"/>
                    </a:moveTo>
                    <a:lnTo>
                      <a:pt x="9294" y="2"/>
                    </a:lnTo>
                    <a:cubicBezTo>
                      <a:pt x="9296" y="2"/>
                      <a:pt x="9296" y="2"/>
                      <a:pt x="9296" y="4"/>
                    </a:cubicBezTo>
                    <a:cubicBezTo>
                      <a:pt x="9296" y="5"/>
                      <a:pt x="9296" y="6"/>
                      <a:pt x="9294" y="6"/>
                    </a:cubicBezTo>
                    <a:lnTo>
                      <a:pt x="9294" y="6"/>
                    </a:lnTo>
                    <a:cubicBezTo>
                      <a:pt x="9293" y="6"/>
                      <a:pt x="9292" y="5"/>
                      <a:pt x="9292" y="4"/>
                    </a:cubicBezTo>
                    <a:cubicBezTo>
                      <a:pt x="9292" y="2"/>
                      <a:pt x="9293" y="2"/>
                      <a:pt x="9294" y="2"/>
                    </a:cubicBezTo>
                    <a:close/>
                    <a:moveTo>
                      <a:pt x="9302" y="2"/>
                    </a:moveTo>
                    <a:lnTo>
                      <a:pt x="9302" y="2"/>
                    </a:lnTo>
                    <a:cubicBezTo>
                      <a:pt x="9304" y="2"/>
                      <a:pt x="9304" y="2"/>
                      <a:pt x="9304" y="4"/>
                    </a:cubicBezTo>
                    <a:cubicBezTo>
                      <a:pt x="9304" y="5"/>
                      <a:pt x="9304" y="6"/>
                      <a:pt x="9302" y="6"/>
                    </a:cubicBezTo>
                    <a:lnTo>
                      <a:pt x="9302" y="6"/>
                    </a:lnTo>
                    <a:cubicBezTo>
                      <a:pt x="9301" y="6"/>
                      <a:pt x="9300" y="5"/>
                      <a:pt x="9300" y="4"/>
                    </a:cubicBezTo>
                    <a:cubicBezTo>
                      <a:pt x="9300" y="2"/>
                      <a:pt x="9301" y="2"/>
                      <a:pt x="9302" y="2"/>
                    </a:cubicBezTo>
                    <a:close/>
                    <a:moveTo>
                      <a:pt x="9310" y="2"/>
                    </a:moveTo>
                    <a:lnTo>
                      <a:pt x="9310" y="2"/>
                    </a:lnTo>
                    <a:cubicBezTo>
                      <a:pt x="9312" y="2"/>
                      <a:pt x="9312" y="2"/>
                      <a:pt x="9312" y="4"/>
                    </a:cubicBezTo>
                    <a:cubicBezTo>
                      <a:pt x="9312" y="5"/>
                      <a:pt x="9312" y="6"/>
                      <a:pt x="9310" y="6"/>
                    </a:cubicBezTo>
                    <a:lnTo>
                      <a:pt x="9310" y="6"/>
                    </a:lnTo>
                    <a:cubicBezTo>
                      <a:pt x="9309" y="6"/>
                      <a:pt x="9308" y="5"/>
                      <a:pt x="9308" y="4"/>
                    </a:cubicBezTo>
                    <a:cubicBezTo>
                      <a:pt x="9308" y="2"/>
                      <a:pt x="9309" y="2"/>
                      <a:pt x="9310" y="2"/>
                    </a:cubicBezTo>
                    <a:close/>
                    <a:moveTo>
                      <a:pt x="9318" y="2"/>
                    </a:moveTo>
                    <a:lnTo>
                      <a:pt x="9319" y="2"/>
                    </a:lnTo>
                    <a:cubicBezTo>
                      <a:pt x="9320" y="2"/>
                      <a:pt x="9321" y="2"/>
                      <a:pt x="9321" y="4"/>
                    </a:cubicBezTo>
                    <a:cubicBezTo>
                      <a:pt x="9321" y="5"/>
                      <a:pt x="9320" y="6"/>
                      <a:pt x="9319" y="6"/>
                    </a:cubicBezTo>
                    <a:lnTo>
                      <a:pt x="9318" y="6"/>
                    </a:lnTo>
                    <a:cubicBezTo>
                      <a:pt x="9317" y="6"/>
                      <a:pt x="9316" y="5"/>
                      <a:pt x="9316" y="4"/>
                    </a:cubicBezTo>
                    <a:cubicBezTo>
                      <a:pt x="9316" y="2"/>
                      <a:pt x="9317" y="2"/>
                      <a:pt x="9318" y="2"/>
                    </a:cubicBezTo>
                    <a:close/>
                    <a:moveTo>
                      <a:pt x="9327" y="2"/>
                    </a:moveTo>
                    <a:lnTo>
                      <a:pt x="9327" y="2"/>
                    </a:lnTo>
                    <a:cubicBezTo>
                      <a:pt x="9328" y="2"/>
                      <a:pt x="9329" y="2"/>
                      <a:pt x="9329" y="4"/>
                    </a:cubicBezTo>
                    <a:cubicBezTo>
                      <a:pt x="9329" y="5"/>
                      <a:pt x="9328" y="6"/>
                      <a:pt x="9327" y="6"/>
                    </a:cubicBezTo>
                    <a:lnTo>
                      <a:pt x="9327" y="6"/>
                    </a:lnTo>
                    <a:cubicBezTo>
                      <a:pt x="9325" y="6"/>
                      <a:pt x="9325" y="5"/>
                      <a:pt x="9325" y="4"/>
                    </a:cubicBezTo>
                    <a:cubicBezTo>
                      <a:pt x="9325" y="2"/>
                      <a:pt x="9325" y="2"/>
                      <a:pt x="9327" y="2"/>
                    </a:cubicBezTo>
                    <a:close/>
                    <a:moveTo>
                      <a:pt x="9335" y="2"/>
                    </a:moveTo>
                    <a:lnTo>
                      <a:pt x="9335" y="2"/>
                    </a:lnTo>
                    <a:cubicBezTo>
                      <a:pt x="9336" y="2"/>
                      <a:pt x="9337" y="2"/>
                      <a:pt x="9337" y="4"/>
                    </a:cubicBezTo>
                    <a:cubicBezTo>
                      <a:pt x="9337" y="5"/>
                      <a:pt x="9336" y="6"/>
                      <a:pt x="9335" y="6"/>
                    </a:cubicBezTo>
                    <a:lnTo>
                      <a:pt x="9335" y="6"/>
                    </a:lnTo>
                    <a:cubicBezTo>
                      <a:pt x="9333" y="6"/>
                      <a:pt x="9333" y="5"/>
                      <a:pt x="9333" y="4"/>
                    </a:cubicBezTo>
                    <a:cubicBezTo>
                      <a:pt x="9333" y="2"/>
                      <a:pt x="9333" y="2"/>
                      <a:pt x="9335" y="2"/>
                    </a:cubicBezTo>
                    <a:close/>
                    <a:moveTo>
                      <a:pt x="9343" y="2"/>
                    </a:moveTo>
                    <a:lnTo>
                      <a:pt x="9343" y="2"/>
                    </a:lnTo>
                    <a:cubicBezTo>
                      <a:pt x="9344" y="2"/>
                      <a:pt x="9345" y="2"/>
                      <a:pt x="9345" y="4"/>
                    </a:cubicBezTo>
                    <a:cubicBezTo>
                      <a:pt x="9345" y="5"/>
                      <a:pt x="9344" y="6"/>
                      <a:pt x="9343" y="6"/>
                    </a:cubicBezTo>
                    <a:lnTo>
                      <a:pt x="9343" y="6"/>
                    </a:lnTo>
                    <a:cubicBezTo>
                      <a:pt x="9341" y="6"/>
                      <a:pt x="9341" y="5"/>
                      <a:pt x="9341" y="4"/>
                    </a:cubicBezTo>
                    <a:cubicBezTo>
                      <a:pt x="9341" y="2"/>
                      <a:pt x="9341" y="2"/>
                      <a:pt x="9343" y="2"/>
                    </a:cubicBezTo>
                    <a:close/>
                    <a:moveTo>
                      <a:pt x="9351" y="2"/>
                    </a:moveTo>
                    <a:lnTo>
                      <a:pt x="9351" y="2"/>
                    </a:lnTo>
                    <a:cubicBezTo>
                      <a:pt x="9352" y="2"/>
                      <a:pt x="9353" y="2"/>
                      <a:pt x="9353" y="4"/>
                    </a:cubicBezTo>
                    <a:cubicBezTo>
                      <a:pt x="9353" y="5"/>
                      <a:pt x="9352" y="6"/>
                      <a:pt x="9351" y="6"/>
                    </a:cubicBezTo>
                    <a:lnTo>
                      <a:pt x="9351" y="6"/>
                    </a:lnTo>
                    <a:cubicBezTo>
                      <a:pt x="9349" y="6"/>
                      <a:pt x="9349" y="5"/>
                      <a:pt x="9349" y="4"/>
                    </a:cubicBezTo>
                    <a:cubicBezTo>
                      <a:pt x="9349" y="2"/>
                      <a:pt x="9349" y="2"/>
                      <a:pt x="9351" y="2"/>
                    </a:cubicBezTo>
                    <a:close/>
                    <a:moveTo>
                      <a:pt x="9359" y="2"/>
                    </a:moveTo>
                    <a:lnTo>
                      <a:pt x="9359" y="2"/>
                    </a:lnTo>
                    <a:cubicBezTo>
                      <a:pt x="9360" y="2"/>
                      <a:pt x="9361" y="2"/>
                      <a:pt x="9361" y="4"/>
                    </a:cubicBezTo>
                    <a:cubicBezTo>
                      <a:pt x="9361" y="5"/>
                      <a:pt x="9360" y="6"/>
                      <a:pt x="9359" y="6"/>
                    </a:cubicBezTo>
                    <a:lnTo>
                      <a:pt x="9359" y="6"/>
                    </a:lnTo>
                    <a:cubicBezTo>
                      <a:pt x="9357" y="6"/>
                      <a:pt x="9357" y="5"/>
                      <a:pt x="9357" y="4"/>
                    </a:cubicBezTo>
                    <a:cubicBezTo>
                      <a:pt x="9357" y="2"/>
                      <a:pt x="9357" y="2"/>
                      <a:pt x="9359" y="2"/>
                    </a:cubicBezTo>
                    <a:close/>
                    <a:moveTo>
                      <a:pt x="9367" y="2"/>
                    </a:moveTo>
                    <a:lnTo>
                      <a:pt x="9367" y="2"/>
                    </a:lnTo>
                    <a:cubicBezTo>
                      <a:pt x="9368" y="2"/>
                      <a:pt x="9369" y="2"/>
                      <a:pt x="9369" y="4"/>
                    </a:cubicBezTo>
                    <a:cubicBezTo>
                      <a:pt x="9369" y="5"/>
                      <a:pt x="9368" y="6"/>
                      <a:pt x="9367" y="6"/>
                    </a:cubicBezTo>
                    <a:lnTo>
                      <a:pt x="9367" y="6"/>
                    </a:lnTo>
                    <a:cubicBezTo>
                      <a:pt x="9365" y="6"/>
                      <a:pt x="9365" y="5"/>
                      <a:pt x="9365" y="4"/>
                    </a:cubicBezTo>
                    <a:cubicBezTo>
                      <a:pt x="9365" y="2"/>
                      <a:pt x="9365" y="2"/>
                      <a:pt x="9367" y="2"/>
                    </a:cubicBezTo>
                    <a:close/>
                    <a:moveTo>
                      <a:pt x="9375" y="2"/>
                    </a:moveTo>
                    <a:lnTo>
                      <a:pt x="9375" y="2"/>
                    </a:lnTo>
                    <a:cubicBezTo>
                      <a:pt x="9376" y="2"/>
                      <a:pt x="9377" y="2"/>
                      <a:pt x="9377" y="4"/>
                    </a:cubicBezTo>
                    <a:cubicBezTo>
                      <a:pt x="9377" y="5"/>
                      <a:pt x="9376" y="6"/>
                      <a:pt x="9375" y="6"/>
                    </a:cubicBezTo>
                    <a:lnTo>
                      <a:pt x="9375" y="6"/>
                    </a:lnTo>
                    <a:cubicBezTo>
                      <a:pt x="9373" y="6"/>
                      <a:pt x="9373" y="5"/>
                      <a:pt x="9373" y="4"/>
                    </a:cubicBezTo>
                    <a:cubicBezTo>
                      <a:pt x="9373" y="2"/>
                      <a:pt x="9373" y="2"/>
                      <a:pt x="9375" y="2"/>
                    </a:cubicBezTo>
                    <a:close/>
                    <a:moveTo>
                      <a:pt x="9383" y="2"/>
                    </a:moveTo>
                    <a:lnTo>
                      <a:pt x="9383" y="2"/>
                    </a:lnTo>
                    <a:cubicBezTo>
                      <a:pt x="9384" y="2"/>
                      <a:pt x="9385" y="2"/>
                      <a:pt x="9385" y="4"/>
                    </a:cubicBezTo>
                    <a:cubicBezTo>
                      <a:pt x="9385" y="5"/>
                      <a:pt x="9384" y="6"/>
                      <a:pt x="9383" y="6"/>
                    </a:cubicBezTo>
                    <a:lnTo>
                      <a:pt x="9383" y="6"/>
                    </a:lnTo>
                    <a:cubicBezTo>
                      <a:pt x="9381" y="6"/>
                      <a:pt x="9381" y="5"/>
                      <a:pt x="9381" y="4"/>
                    </a:cubicBezTo>
                    <a:cubicBezTo>
                      <a:pt x="9381" y="2"/>
                      <a:pt x="9381" y="2"/>
                      <a:pt x="9383" y="2"/>
                    </a:cubicBezTo>
                    <a:close/>
                    <a:moveTo>
                      <a:pt x="9391" y="2"/>
                    </a:moveTo>
                    <a:lnTo>
                      <a:pt x="9391" y="2"/>
                    </a:lnTo>
                    <a:cubicBezTo>
                      <a:pt x="9392" y="2"/>
                      <a:pt x="9393" y="2"/>
                      <a:pt x="9393" y="4"/>
                    </a:cubicBezTo>
                    <a:cubicBezTo>
                      <a:pt x="9393" y="5"/>
                      <a:pt x="9392" y="6"/>
                      <a:pt x="9391" y="6"/>
                    </a:cubicBezTo>
                    <a:lnTo>
                      <a:pt x="9391" y="6"/>
                    </a:lnTo>
                    <a:cubicBezTo>
                      <a:pt x="9389" y="6"/>
                      <a:pt x="9389" y="5"/>
                      <a:pt x="9389" y="4"/>
                    </a:cubicBezTo>
                    <a:cubicBezTo>
                      <a:pt x="9389" y="2"/>
                      <a:pt x="9389" y="2"/>
                      <a:pt x="9391" y="2"/>
                    </a:cubicBezTo>
                    <a:close/>
                    <a:moveTo>
                      <a:pt x="9399" y="2"/>
                    </a:moveTo>
                    <a:lnTo>
                      <a:pt x="9399" y="2"/>
                    </a:lnTo>
                    <a:cubicBezTo>
                      <a:pt x="9400" y="2"/>
                      <a:pt x="9401" y="2"/>
                      <a:pt x="9401" y="4"/>
                    </a:cubicBezTo>
                    <a:cubicBezTo>
                      <a:pt x="9401" y="5"/>
                      <a:pt x="9400" y="6"/>
                      <a:pt x="9399" y="6"/>
                    </a:cubicBezTo>
                    <a:lnTo>
                      <a:pt x="9399" y="6"/>
                    </a:lnTo>
                    <a:cubicBezTo>
                      <a:pt x="9397" y="6"/>
                      <a:pt x="9397" y="5"/>
                      <a:pt x="9397" y="4"/>
                    </a:cubicBezTo>
                    <a:cubicBezTo>
                      <a:pt x="9397" y="2"/>
                      <a:pt x="9397" y="2"/>
                      <a:pt x="9399" y="2"/>
                    </a:cubicBezTo>
                    <a:close/>
                    <a:moveTo>
                      <a:pt x="9407" y="2"/>
                    </a:moveTo>
                    <a:lnTo>
                      <a:pt x="9407" y="2"/>
                    </a:lnTo>
                    <a:cubicBezTo>
                      <a:pt x="9408" y="2"/>
                      <a:pt x="9409" y="2"/>
                      <a:pt x="9409" y="4"/>
                    </a:cubicBezTo>
                    <a:cubicBezTo>
                      <a:pt x="9409" y="5"/>
                      <a:pt x="9408" y="6"/>
                      <a:pt x="9407" y="6"/>
                    </a:cubicBezTo>
                    <a:lnTo>
                      <a:pt x="9407" y="6"/>
                    </a:lnTo>
                    <a:cubicBezTo>
                      <a:pt x="9405" y="6"/>
                      <a:pt x="9405" y="5"/>
                      <a:pt x="9405" y="4"/>
                    </a:cubicBezTo>
                    <a:cubicBezTo>
                      <a:pt x="9405" y="2"/>
                      <a:pt x="9405" y="2"/>
                      <a:pt x="9407" y="2"/>
                    </a:cubicBezTo>
                    <a:close/>
                    <a:moveTo>
                      <a:pt x="9415" y="2"/>
                    </a:moveTo>
                    <a:lnTo>
                      <a:pt x="9415" y="2"/>
                    </a:lnTo>
                    <a:cubicBezTo>
                      <a:pt x="9416" y="2"/>
                      <a:pt x="9417" y="2"/>
                      <a:pt x="9417" y="4"/>
                    </a:cubicBezTo>
                    <a:cubicBezTo>
                      <a:pt x="9417" y="5"/>
                      <a:pt x="9416" y="6"/>
                      <a:pt x="9415" y="6"/>
                    </a:cubicBezTo>
                    <a:lnTo>
                      <a:pt x="9415" y="6"/>
                    </a:lnTo>
                    <a:cubicBezTo>
                      <a:pt x="9413" y="6"/>
                      <a:pt x="9413" y="5"/>
                      <a:pt x="9413" y="4"/>
                    </a:cubicBezTo>
                    <a:cubicBezTo>
                      <a:pt x="9413" y="2"/>
                      <a:pt x="9413" y="2"/>
                      <a:pt x="9415" y="2"/>
                    </a:cubicBezTo>
                    <a:close/>
                    <a:moveTo>
                      <a:pt x="9423" y="2"/>
                    </a:moveTo>
                    <a:lnTo>
                      <a:pt x="9423" y="2"/>
                    </a:lnTo>
                    <a:cubicBezTo>
                      <a:pt x="9424" y="2"/>
                      <a:pt x="9425" y="2"/>
                      <a:pt x="9425" y="4"/>
                    </a:cubicBezTo>
                    <a:cubicBezTo>
                      <a:pt x="9425" y="5"/>
                      <a:pt x="9424" y="6"/>
                      <a:pt x="9423" y="6"/>
                    </a:cubicBezTo>
                    <a:lnTo>
                      <a:pt x="9423" y="6"/>
                    </a:lnTo>
                    <a:cubicBezTo>
                      <a:pt x="9421" y="6"/>
                      <a:pt x="9421" y="5"/>
                      <a:pt x="9421" y="4"/>
                    </a:cubicBezTo>
                    <a:cubicBezTo>
                      <a:pt x="9421" y="2"/>
                      <a:pt x="9421" y="2"/>
                      <a:pt x="9423" y="2"/>
                    </a:cubicBezTo>
                    <a:close/>
                    <a:moveTo>
                      <a:pt x="9431" y="2"/>
                    </a:moveTo>
                    <a:lnTo>
                      <a:pt x="9431" y="2"/>
                    </a:lnTo>
                    <a:cubicBezTo>
                      <a:pt x="9432" y="2"/>
                      <a:pt x="9433" y="2"/>
                      <a:pt x="9433" y="4"/>
                    </a:cubicBezTo>
                    <a:cubicBezTo>
                      <a:pt x="9433" y="5"/>
                      <a:pt x="9432" y="6"/>
                      <a:pt x="9431" y="6"/>
                    </a:cubicBezTo>
                    <a:lnTo>
                      <a:pt x="9431" y="6"/>
                    </a:lnTo>
                    <a:cubicBezTo>
                      <a:pt x="9429" y="6"/>
                      <a:pt x="9429" y="5"/>
                      <a:pt x="9429" y="4"/>
                    </a:cubicBezTo>
                    <a:cubicBezTo>
                      <a:pt x="9429" y="2"/>
                      <a:pt x="9429" y="2"/>
                      <a:pt x="9431" y="2"/>
                    </a:cubicBezTo>
                    <a:close/>
                    <a:moveTo>
                      <a:pt x="9439" y="2"/>
                    </a:moveTo>
                    <a:lnTo>
                      <a:pt x="9439" y="2"/>
                    </a:lnTo>
                    <a:cubicBezTo>
                      <a:pt x="9440" y="2"/>
                      <a:pt x="9441" y="2"/>
                      <a:pt x="9441" y="4"/>
                    </a:cubicBezTo>
                    <a:cubicBezTo>
                      <a:pt x="9441" y="5"/>
                      <a:pt x="9440" y="6"/>
                      <a:pt x="9439" y="6"/>
                    </a:cubicBezTo>
                    <a:lnTo>
                      <a:pt x="9439" y="6"/>
                    </a:lnTo>
                    <a:cubicBezTo>
                      <a:pt x="9437" y="6"/>
                      <a:pt x="9437" y="5"/>
                      <a:pt x="9437" y="4"/>
                    </a:cubicBezTo>
                    <a:cubicBezTo>
                      <a:pt x="9437" y="2"/>
                      <a:pt x="9437" y="2"/>
                      <a:pt x="9439" y="2"/>
                    </a:cubicBezTo>
                    <a:close/>
                    <a:moveTo>
                      <a:pt x="9447" y="2"/>
                    </a:moveTo>
                    <a:lnTo>
                      <a:pt x="9447" y="2"/>
                    </a:lnTo>
                    <a:cubicBezTo>
                      <a:pt x="9448" y="2"/>
                      <a:pt x="9449" y="2"/>
                      <a:pt x="9449" y="4"/>
                    </a:cubicBezTo>
                    <a:cubicBezTo>
                      <a:pt x="9449" y="5"/>
                      <a:pt x="9448" y="6"/>
                      <a:pt x="9447" y="6"/>
                    </a:cubicBezTo>
                    <a:lnTo>
                      <a:pt x="9447" y="6"/>
                    </a:lnTo>
                    <a:cubicBezTo>
                      <a:pt x="9445" y="6"/>
                      <a:pt x="9445" y="5"/>
                      <a:pt x="9445" y="4"/>
                    </a:cubicBezTo>
                    <a:cubicBezTo>
                      <a:pt x="9445" y="2"/>
                      <a:pt x="9445" y="2"/>
                      <a:pt x="9447" y="2"/>
                    </a:cubicBezTo>
                    <a:close/>
                    <a:moveTo>
                      <a:pt x="9455" y="2"/>
                    </a:moveTo>
                    <a:lnTo>
                      <a:pt x="9455" y="2"/>
                    </a:lnTo>
                    <a:cubicBezTo>
                      <a:pt x="9456" y="2"/>
                      <a:pt x="9457" y="2"/>
                      <a:pt x="9457" y="4"/>
                    </a:cubicBezTo>
                    <a:cubicBezTo>
                      <a:pt x="9457" y="5"/>
                      <a:pt x="9456" y="6"/>
                      <a:pt x="9455" y="6"/>
                    </a:cubicBezTo>
                    <a:lnTo>
                      <a:pt x="9455" y="6"/>
                    </a:lnTo>
                    <a:cubicBezTo>
                      <a:pt x="9453" y="6"/>
                      <a:pt x="9453" y="5"/>
                      <a:pt x="9453" y="4"/>
                    </a:cubicBezTo>
                    <a:cubicBezTo>
                      <a:pt x="9453" y="2"/>
                      <a:pt x="9453" y="2"/>
                      <a:pt x="9455" y="2"/>
                    </a:cubicBezTo>
                    <a:close/>
                    <a:moveTo>
                      <a:pt x="9463" y="2"/>
                    </a:moveTo>
                    <a:lnTo>
                      <a:pt x="9463" y="2"/>
                    </a:lnTo>
                    <a:cubicBezTo>
                      <a:pt x="9464" y="2"/>
                      <a:pt x="9465" y="2"/>
                      <a:pt x="9465" y="4"/>
                    </a:cubicBezTo>
                    <a:cubicBezTo>
                      <a:pt x="9465" y="5"/>
                      <a:pt x="9464" y="6"/>
                      <a:pt x="9463" y="6"/>
                    </a:cubicBezTo>
                    <a:lnTo>
                      <a:pt x="9463" y="6"/>
                    </a:lnTo>
                    <a:cubicBezTo>
                      <a:pt x="9461" y="6"/>
                      <a:pt x="9461" y="5"/>
                      <a:pt x="9461" y="4"/>
                    </a:cubicBezTo>
                    <a:cubicBezTo>
                      <a:pt x="9461" y="2"/>
                      <a:pt x="9461" y="2"/>
                      <a:pt x="9463" y="2"/>
                    </a:cubicBezTo>
                    <a:close/>
                    <a:moveTo>
                      <a:pt x="9471" y="2"/>
                    </a:moveTo>
                    <a:lnTo>
                      <a:pt x="9471" y="2"/>
                    </a:lnTo>
                    <a:cubicBezTo>
                      <a:pt x="9472" y="2"/>
                      <a:pt x="9473" y="2"/>
                      <a:pt x="9473" y="4"/>
                    </a:cubicBezTo>
                    <a:cubicBezTo>
                      <a:pt x="9473" y="5"/>
                      <a:pt x="9472" y="6"/>
                      <a:pt x="9471" y="6"/>
                    </a:cubicBezTo>
                    <a:lnTo>
                      <a:pt x="9471" y="6"/>
                    </a:lnTo>
                    <a:cubicBezTo>
                      <a:pt x="9469" y="6"/>
                      <a:pt x="9469" y="5"/>
                      <a:pt x="9469" y="4"/>
                    </a:cubicBezTo>
                    <a:cubicBezTo>
                      <a:pt x="9469" y="2"/>
                      <a:pt x="9469" y="2"/>
                      <a:pt x="9471" y="2"/>
                    </a:cubicBezTo>
                    <a:close/>
                    <a:moveTo>
                      <a:pt x="9479" y="2"/>
                    </a:moveTo>
                    <a:lnTo>
                      <a:pt x="9479" y="2"/>
                    </a:lnTo>
                    <a:cubicBezTo>
                      <a:pt x="9480" y="2"/>
                      <a:pt x="9481" y="2"/>
                      <a:pt x="9481" y="4"/>
                    </a:cubicBezTo>
                    <a:cubicBezTo>
                      <a:pt x="9481" y="5"/>
                      <a:pt x="9480" y="6"/>
                      <a:pt x="9479" y="6"/>
                    </a:cubicBezTo>
                    <a:lnTo>
                      <a:pt x="9479" y="6"/>
                    </a:lnTo>
                    <a:cubicBezTo>
                      <a:pt x="9477" y="6"/>
                      <a:pt x="9477" y="5"/>
                      <a:pt x="9477" y="4"/>
                    </a:cubicBezTo>
                    <a:cubicBezTo>
                      <a:pt x="9477" y="2"/>
                      <a:pt x="9477" y="2"/>
                      <a:pt x="9479" y="2"/>
                    </a:cubicBezTo>
                    <a:close/>
                    <a:moveTo>
                      <a:pt x="9487" y="2"/>
                    </a:moveTo>
                    <a:lnTo>
                      <a:pt x="9487" y="2"/>
                    </a:lnTo>
                    <a:cubicBezTo>
                      <a:pt x="9488" y="2"/>
                      <a:pt x="9489" y="2"/>
                      <a:pt x="9489" y="4"/>
                    </a:cubicBezTo>
                    <a:cubicBezTo>
                      <a:pt x="9489" y="5"/>
                      <a:pt x="9488" y="6"/>
                      <a:pt x="9487" y="6"/>
                    </a:cubicBezTo>
                    <a:lnTo>
                      <a:pt x="9487" y="6"/>
                    </a:lnTo>
                    <a:cubicBezTo>
                      <a:pt x="9485" y="6"/>
                      <a:pt x="9485" y="5"/>
                      <a:pt x="9485" y="4"/>
                    </a:cubicBezTo>
                    <a:cubicBezTo>
                      <a:pt x="9485" y="2"/>
                      <a:pt x="9485" y="2"/>
                      <a:pt x="9487" y="2"/>
                    </a:cubicBezTo>
                    <a:close/>
                    <a:moveTo>
                      <a:pt x="9495" y="2"/>
                    </a:moveTo>
                    <a:lnTo>
                      <a:pt x="9495" y="2"/>
                    </a:lnTo>
                    <a:cubicBezTo>
                      <a:pt x="9496" y="2"/>
                      <a:pt x="9497" y="2"/>
                      <a:pt x="9497" y="4"/>
                    </a:cubicBezTo>
                    <a:cubicBezTo>
                      <a:pt x="9497" y="5"/>
                      <a:pt x="9496" y="6"/>
                      <a:pt x="9495" y="6"/>
                    </a:cubicBezTo>
                    <a:lnTo>
                      <a:pt x="9495" y="6"/>
                    </a:lnTo>
                    <a:cubicBezTo>
                      <a:pt x="9493" y="6"/>
                      <a:pt x="9493" y="5"/>
                      <a:pt x="9493" y="4"/>
                    </a:cubicBezTo>
                    <a:cubicBezTo>
                      <a:pt x="9493" y="2"/>
                      <a:pt x="9493" y="2"/>
                      <a:pt x="9495" y="2"/>
                    </a:cubicBezTo>
                    <a:close/>
                    <a:moveTo>
                      <a:pt x="9503" y="2"/>
                    </a:moveTo>
                    <a:lnTo>
                      <a:pt x="9503" y="2"/>
                    </a:lnTo>
                    <a:cubicBezTo>
                      <a:pt x="9504" y="2"/>
                      <a:pt x="9505" y="2"/>
                      <a:pt x="9505" y="4"/>
                    </a:cubicBezTo>
                    <a:cubicBezTo>
                      <a:pt x="9505" y="5"/>
                      <a:pt x="9504" y="6"/>
                      <a:pt x="9503" y="6"/>
                    </a:cubicBezTo>
                    <a:lnTo>
                      <a:pt x="9503" y="6"/>
                    </a:lnTo>
                    <a:cubicBezTo>
                      <a:pt x="9502" y="6"/>
                      <a:pt x="9501" y="5"/>
                      <a:pt x="9501" y="4"/>
                    </a:cubicBezTo>
                    <a:cubicBezTo>
                      <a:pt x="9501" y="2"/>
                      <a:pt x="9502" y="2"/>
                      <a:pt x="9503" y="2"/>
                    </a:cubicBezTo>
                    <a:close/>
                    <a:moveTo>
                      <a:pt x="9511" y="2"/>
                    </a:moveTo>
                    <a:lnTo>
                      <a:pt x="9511" y="2"/>
                    </a:lnTo>
                    <a:cubicBezTo>
                      <a:pt x="9512" y="2"/>
                      <a:pt x="9513" y="2"/>
                      <a:pt x="9513" y="4"/>
                    </a:cubicBezTo>
                    <a:cubicBezTo>
                      <a:pt x="9513" y="5"/>
                      <a:pt x="9512" y="6"/>
                      <a:pt x="9511" y="6"/>
                    </a:cubicBezTo>
                    <a:lnTo>
                      <a:pt x="9511" y="6"/>
                    </a:lnTo>
                    <a:cubicBezTo>
                      <a:pt x="9510" y="6"/>
                      <a:pt x="9509" y="5"/>
                      <a:pt x="9509" y="4"/>
                    </a:cubicBezTo>
                    <a:cubicBezTo>
                      <a:pt x="9509" y="2"/>
                      <a:pt x="9510" y="2"/>
                      <a:pt x="9511" y="2"/>
                    </a:cubicBezTo>
                    <a:close/>
                    <a:moveTo>
                      <a:pt x="9519" y="2"/>
                    </a:moveTo>
                    <a:lnTo>
                      <a:pt x="9519" y="2"/>
                    </a:lnTo>
                    <a:cubicBezTo>
                      <a:pt x="9520" y="2"/>
                      <a:pt x="9521" y="3"/>
                      <a:pt x="9521" y="4"/>
                    </a:cubicBezTo>
                    <a:cubicBezTo>
                      <a:pt x="9521" y="5"/>
                      <a:pt x="9520" y="6"/>
                      <a:pt x="9519" y="6"/>
                    </a:cubicBezTo>
                    <a:lnTo>
                      <a:pt x="9519" y="6"/>
                    </a:lnTo>
                    <a:cubicBezTo>
                      <a:pt x="9518" y="6"/>
                      <a:pt x="9517" y="5"/>
                      <a:pt x="9517" y="4"/>
                    </a:cubicBezTo>
                    <a:cubicBezTo>
                      <a:pt x="9517" y="3"/>
                      <a:pt x="9518" y="2"/>
                      <a:pt x="9519" y="2"/>
                    </a:cubicBezTo>
                    <a:close/>
                    <a:moveTo>
                      <a:pt x="9527" y="2"/>
                    </a:moveTo>
                    <a:lnTo>
                      <a:pt x="9527" y="2"/>
                    </a:lnTo>
                    <a:cubicBezTo>
                      <a:pt x="9528" y="2"/>
                      <a:pt x="9529" y="3"/>
                      <a:pt x="9529" y="4"/>
                    </a:cubicBezTo>
                    <a:cubicBezTo>
                      <a:pt x="9529" y="5"/>
                      <a:pt x="9528" y="6"/>
                      <a:pt x="9527" y="6"/>
                    </a:cubicBezTo>
                    <a:lnTo>
                      <a:pt x="9527" y="6"/>
                    </a:lnTo>
                    <a:cubicBezTo>
                      <a:pt x="9526" y="6"/>
                      <a:pt x="9525" y="5"/>
                      <a:pt x="9525" y="4"/>
                    </a:cubicBezTo>
                    <a:cubicBezTo>
                      <a:pt x="9525" y="3"/>
                      <a:pt x="9526" y="2"/>
                      <a:pt x="9527" y="2"/>
                    </a:cubicBezTo>
                    <a:close/>
                    <a:moveTo>
                      <a:pt x="9535" y="2"/>
                    </a:moveTo>
                    <a:lnTo>
                      <a:pt x="9535" y="2"/>
                    </a:lnTo>
                    <a:cubicBezTo>
                      <a:pt x="9536" y="2"/>
                      <a:pt x="9537" y="3"/>
                      <a:pt x="9537" y="4"/>
                    </a:cubicBezTo>
                    <a:cubicBezTo>
                      <a:pt x="9537" y="5"/>
                      <a:pt x="9536" y="6"/>
                      <a:pt x="9535" y="6"/>
                    </a:cubicBezTo>
                    <a:lnTo>
                      <a:pt x="9535" y="6"/>
                    </a:lnTo>
                    <a:cubicBezTo>
                      <a:pt x="9534" y="6"/>
                      <a:pt x="9533" y="5"/>
                      <a:pt x="9533" y="4"/>
                    </a:cubicBezTo>
                    <a:cubicBezTo>
                      <a:pt x="9533" y="3"/>
                      <a:pt x="9534" y="2"/>
                      <a:pt x="9535" y="2"/>
                    </a:cubicBezTo>
                    <a:close/>
                    <a:moveTo>
                      <a:pt x="9543" y="2"/>
                    </a:moveTo>
                    <a:lnTo>
                      <a:pt x="9543" y="2"/>
                    </a:lnTo>
                    <a:cubicBezTo>
                      <a:pt x="9544" y="2"/>
                      <a:pt x="9545" y="3"/>
                      <a:pt x="9545" y="4"/>
                    </a:cubicBezTo>
                    <a:cubicBezTo>
                      <a:pt x="9545" y="5"/>
                      <a:pt x="9544" y="6"/>
                      <a:pt x="9543" y="6"/>
                    </a:cubicBezTo>
                    <a:lnTo>
                      <a:pt x="9543" y="6"/>
                    </a:lnTo>
                    <a:cubicBezTo>
                      <a:pt x="9542" y="6"/>
                      <a:pt x="9541" y="5"/>
                      <a:pt x="9541" y="4"/>
                    </a:cubicBezTo>
                    <a:cubicBezTo>
                      <a:pt x="9541" y="3"/>
                      <a:pt x="9542" y="2"/>
                      <a:pt x="9543" y="2"/>
                    </a:cubicBezTo>
                    <a:close/>
                    <a:moveTo>
                      <a:pt x="9551" y="2"/>
                    </a:moveTo>
                    <a:lnTo>
                      <a:pt x="9551" y="2"/>
                    </a:lnTo>
                    <a:cubicBezTo>
                      <a:pt x="9552" y="2"/>
                      <a:pt x="9553" y="3"/>
                      <a:pt x="9553" y="4"/>
                    </a:cubicBezTo>
                    <a:cubicBezTo>
                      <a:pt x="9553" y="5"/>
                      <a:pt x="9552" y="6"/>
                      <a:pt x="9551" y="6"/>
                    </a:cubicBezTo>
                    <a:lnTo>
                      <a:pt x="9551" y="6"/>
                    </a:lnTo>
                    <a:cubicBezTo>
                      <a:pt x="9550" y="6"/>
                      <a:pt x="9549" y="5"/>
                      <a:pt x="9549" y="4"/>
                    </a:cubicBezTo>
                    <a:cubicBezTo>
                      <a:pt x="9549" y="3"/>
                      <a:pt x="9550" y="2"/>
                      <a:pt x="9551" y="2"/>
                    </a:cubicBezTo>
                    <a:close/>
                    <a:moveTo>
                      <a:pt x="9559" y="2"/>
                    </a:moveTo>
                    <a:lnTo>
                      <a:pt x="9559" y="2"/>
                    </a:lnTo>
                    <a:cubicBezTo>
                      <a:pt x="9560" y="2"/>
                      <a:pt x="9561" y="3"/>
                      <a:pt x="9561" y="4"/>
                    </a:cubicBezTo>
                    <a:cubicBezTo>
                      <a:pt x="9561" y="5"/>
                      <a:pt x="9560" y="6"/>
                      <a:pt x="9559" y="6"/>
                    </a:cubicBezTo>
                    <a:lnTo>
                      <a:pt x="9559" y="6"/>
                    </a:lnTo>
                    <a:cubicBezTo>
                      <a:pt x="9558" y="6"/>
                      <a:pt x="9557" y="5"/>
                      <a:pt x="9557" y="4"/>
                    </a:cubicBezTo>
                    <a:cubicBezTo>
                      <a:pt x="9557" y="3"/>
                      <a:pt x="9558" y="2"/>
                      <a:pt x="9559" y="2"/>
                    </a:cubicBezTo>
                    <a:close/>
                    <a:moveTo>
                      <a:pt x="9567" y="2"/>
                    </a:moveTo>
                    <a:lnTo>
                      <a:pt x="9567" y="2"/>
                    </a:lnTo>
                    <a:cubicBezTo>
                      <a:pt x="9568" y="2"/>
                      <a:pt x="9569" y="3"/>
                      <a:pt x="9569" y="4"/>
                    </a:cubicBezTo>
                    <a:cubicBezTo>
                      <a:pt x="9569" y="5"/>
                      <a:pt x="9568" y="6"/>
                      <a:pt x="9567" y="6"/>
                    </a:cubicBezTo>
                    <a:lnTo>
                      <a:pt x="9567" y="6"/>
                    </a:lnTo>
                    <a:cubicBezTo>
                      <a:pt x="9566" y="6"/>
                      <a:pt x="9565" y="5"/>
                      <a:pt x="9565" y="4"/>
                    </a:cubicBezTo>
                    <a:cubicBezTo>
                      <a:pt x="9565" y="3"/>
                      <a:pt x="9566" y="2"/>
                      <a:pt x="9567" y="2"/>
                    </a:cubicBezTo>
                    <a:close/>
                    <a:moveTo>
                      <a:pt x="9575" y="2"/>
                    </a:moveTo>
                    <a:lnTo>
                      <a:pt x="9575" y="2"/>
                    </a:lnTo>
                    <a:cubicBezTo>
                      <a:pt x="9576" y="2"/>
                      <a:pt x="9577" y="3"/>
                      <a:pt x="9577" y="4"/>
                    </a:cubicBezTo>
                    <a:cubicBezTo>
                      <a:pt x="9577" y="5"/>
                      <a:pt x="9576" y="6"/>
                      <a:pt x="9575" y="6"/>
                    </a:cubicBezTo>
                    <a:lnTo>
                      <a:pt x="9575" y="6"/>
                    </a:lnTo>
                    <a:cubicBezTo>
                      <a:pt x="9574" y="6"/>
                      <a:pt x="9573" y="5"/>
                      <a:pt x="9573" y="4"/>
                    </a:cubicBezTo>
                    <a:cubicBezTo>
                      <a:pt x="9573" y="3"/>
                      <a:pt x="9574" y="2"/>
                      <a:pt x="9575" y="2"/>
                    </a:cubicBezTo>
                    <a:close/>
                    <a:moveTo>
                      <a:pt x="9583" y="2"/>
                    </a:moveTo>
                    <a:lnTo>
                      <a:pt x="9583" y="2"/>
                    </a:lnTo>
                    <a:cubicBezTo>
                      <a:pt x="9584" y="2"/>
                      <a:pt x="9585" y="3"/>
                      <a:pt x="9585" y="4"/>
                    </a:cubicBezTo>
                    <a:cubicBezTo>
                      <a:pt x="9585" y="5"/>
                      <a:pt x="9584" y="6"/>
                      <a:pt x="9583" y="6"/>
                    </a:cubicBezTo>
                    <a:lnTo>
                      <a:pt x="9583" y="6"/>
                    </a:lnTo>
                    <a:cubicBezTo>
                      <a:pt x="9582" y="6"/>
                      <a:pt x="9581" y="5"/>
                      <a:pt x="9581" y="4"/>
                    </a:cubicBezTo>
                    <a:cubicBezTo>
                      <a:pt x="9581" y="3"/>
                      <a:pt x="9582" y="2"/>
                      <a:pt x="9583" y="2"/>
                    </a:cubicBezTo>
                    <a:close/>
                    <a:moveTo>
                      <a:pt x="9591" y="2"/>
                    </a:moveTo>
                    <a:lnTo>
                      <a:pt x="9591" y="2"/>
                    </a:lnTo>
                    <a:cubicBezTo>
                      <a:pt x="9592" y="2"/>
                      <a:pt x="9593" y="3"/>
                      <a:pt x="9593" y="4"/>
                    </a:cubicBezTo>
                    <a:cubicBezTo>
                      <a:pt x="9593" y="5"/>
                      <a:pt x="9592" y="6"/>
                      <a:pt x="9591" y="6"/>
                    </a:cubicBezTo>
                    <a:lnTo>
                      <a:pt x="9591" y="6"/>
                    </a:lnTo>
                    <a:cubicBezTo>
                      <a:pt x="9590" y="6"/>
                      <a:pt x="9589" y="5"/>
                      <a:pt x="9589" y="4"/>
                    </a:cubicBezTo>
                    <a:cubicBezTo>
                      <a:pt x="9589" y="3"/>
                      <a:pt x="9590" y="2"/>
                      <a:pt x="9591" y="2"/>
                    </a:cubicBezTo>
                    <a:close/>
                    <a:moveTo>
                      <a:pt x="9599" y="2"/>
                    </a:moveTo>
                    <a:lnTo>
                      <a:pt x="9599" y="2"/>
                    </a:lnTo>
                    <a:cubicBezTo>
                      <a:pt x="9600" y="2"/>
                      <a:pt x="9601" y="3"/>
                      <a:pt x="9601" y="4"/>
                    </a:cubicBezTo>
                    <a:cubicBezTo>
                      <a:pt x="9601" y="5"/>
                      <a:pt x="9600" y="6"/>
                      <a:pt x="9599" y="6"/>
                    </a:cubicBezTo>
                    <a:lnTo>
                      <a:pt x="9599" y="6"/>
                    </a:lnTo>
                    <a:cubicBezTo>
                      <a:pt x="9598" y="6"/>
                      <a:pt x="9597" y="5"/>
                      <a:pt x="9597" y="4"/>
                    </a:cubicBezTo>
                    <a:cubicBezTo>
                      <a:pt x="9597" y="3"/>
                      <a:pt x="9598" y="2"/>
                      <a:pt x="9599" y="2"/>
                    </a:cubicBezTo>
                    <a:close/>
                    <a:moveTo>
                      <a:pt x="9607" y="2"/>
                    </a:moveTo>
                    <a:lnTo>
                      <a:pt x="9607" y="2"/>
                    </a:lnTo>
                    <a:cubicBezTo>
                      <a:pt x="9608" y="2"/>
                      <a:pt x="9609" y="3"/>
                      <a:pt x="9609" y="4"/>
                    </a:cubicBezTo>
                    <a:cubicBezTo>
                      <a:pt x="9609" y="5"/>
                      <a:pt x="9608" y="6"/>
                      <a:pt x="9607" y="6"/>
                    </a:cubicBezTo>
                    <a:lnTo>
                      <a:pt x="9607" y="6"/>
                    </a:lnTo>
                    <a:cubicBezTo>
                      <a:pt x="9606" y="6"/>
                      <a:pt x="9605" y="5"/>
                      <a:pt x="9605" y="4"/>
                    </a:cubicBezTo>
                    <a:cubicBezTo>
                      <a:pt x="9605" y="3"/>
                      <a:pt x="9606" y="2"/>
                      <a:pt x="9607" y="2"/>
                    </a:cubicBezTo>
                    <a:close/>
                    <a:moveTo>
                      <a:pt x="9615" y="2"/>
                    </a:moveTo>
                    <a:lnTo>
                      <a:pt x="9615" y="2"/>
                    </a:lnTo>
                    <a:cubicBezTo>
                      <a:pt x="9616" y="2"/>
                      <a:pt x="9617" y="3"/>
                      <a:pt x="9617" y="4"/>
                    </a:cubicBezTo>
                    <a:cubicBezTo>
                      <a:pt x="9617" y="5"/>
                      <a:pt x="9616" y="6"/>
                      <a:pt x="9615" y="6"/>
                    </a:cubicBezTo>
                    <a:lnTo>
                      <a:pt x="9615" y="6"/>
                    </a:lnTo>
                    <a:cubicBezTo>
                      <a:pt x="9614" y="6"/>
                      <a:pt x="9613" y="5"/>
                      <a:pt x="9613" y="4"/>
                    </a:cubicBezTo>
                    <a:cubicBezTo>
                      <a:pt x="9613" y="3"/>
                      <a:pt x="9614" y="2"/>
                      <a:pt x="9615" y="2"/>
                    </a:cubicBezTo>
                    <a:close/>
                    <a:moveTo>
                      <a:pt x="9623" y="2"/>
                    </a:moveTo>
                    <a:lnTo>
                      <a:pt x="9623" y="2"/>
                    </a:lnTo>
                    <a:cubicBezTo>
                      <a:pt x="9624" y="2"/>
                      <a:pt x="9625" y="3"/>
                      <a:pt x="9625" y="4"/>
                    </a:cubicBezTo>
                    <a:cubicBezTo>
                      <a:pt x="9625" y="5"/>
                      <a:pt x="9624" y="6"/>
                      <a:pt x="9623" y="6"/>
                    </a:cubicBezTo>
                    <a:lnTo>
                      <a:pt x="9623" y="6"/>
                    </a:lnTo>
                    <a:cubicBezTo>
                      <a:pt x="9622" y="6"/>
                      <a:pt x="9621" y="5"/>
                      <a:pt x="9621" y="4"/>
                    </a:cubicBezTo>
                    <a:cubicBezTo>
                      <a:pt x="9621" y="3"/>
                      <a:pt x="9622" y="2"/>
                      <a:pt x="9623" y="2"/>
                    </a:cubicBezTo>
                    <a:close/>
                    <a:moveTo>
                      <a:pt x="9631" y="2"/>
                    </a:moveTo>
                    <a:lnTo>
                      <a:pt x="9631" y="2"/>
                    </a:lnTo>
                    <a:cubicBezTo>
                      <a:pt x="9632" y="2"/>
                      <a:pt x="9633" y="3"/>
                      <a:pt x="9633" y="4"/>
                    </a:cubicBezTo>
                    <a:cubicBezTo>
                      <a:pt x="9633" y="5"/>
                      <a:pt x="9632" y="6"/>
                      <a:pt x="9631" y="6"/>
                    </a:cubicBezTo>
                    <a:lnTo>
                      <a:pt x="9631" y="6"/>
                    </a:lnTo>
                    <a:cubicBezTo>
                      <a:pt x="9630" y="6"/>
                      <a:pt x="9629" y="5"/>
                      <a:pt x="9629" y="4"/>
                    </a:cubicBezTo>
                    <a:cubicBezTo>
                      <a:pt x="9629" y="3"/>
                      <a:pt x="9630" y="2"/>
                      <a:pt x="9631" y="2"/>
                    </a:cubicBezTo>
                    <a:close/>
                    <a:moveTo>
                      <a:pt x="9639" y="2"/>
                    </a:moveTo>
                    <a:lnTo>
                      <a:pt x="9639" y="2"/>
                    </a:lnTo>
                    <a:cubicBezTo>
                      <a:pt x="9640" y="2"/>
                      <a:pt x="9641" y="3"/>
                      <a:pt x="9641" y="4"/>
                    </a:cubicBezTo>
                    <a:cubicBezTo>
                      <a:pt x="9641" y="5"/>
                      <a:pt x="9640" y="6"/>
                      <a:pt x="9639" y="6"/>
                    </a:cubicBezTo>
                    <a:lnTo>
                      <a:pt x="9639" y="6"/>
                    </a:lnTo>
                    <a:cubicBezTo>
                      <a:pt x="9638" y="6"/>
                      <a:pt x="9637" y="5"/>
                      <a:pt x="9637" y="4"/>
                    </a:cubicBezTo>
                    <a:cubicBezTo>
                      <a:pt x="9637" y="3"/>
                      <a:pt x="9638" y="2"/>
                      <a:pt x="9639" y="2"/>
                    </a:cubicBezTo>
                    <a:close/>
                    <a:moveTo>
                      <a:pt x="9647" y="2"/>
                    </a:moveTo>
                    <a:lnTo>
                      <a:pt x="9647" y="2"/>
                    </a:lnTo>
                    <a:cubicBezTo>
                      <a:pt x="9648" y="2"/>
                      <a:pt x="9649" y="3"/>
                      <a:pt x="9649" y="4"/>
                    </a:cubicBezTo>
                    <a:cubicBezTo>
                      <a:pt x="9649" y="5"/>
                      <a:pt x="9648" y="6"/>
                      <a:pt x="9647" y="6"/>
                    </a:cubicBezTo>
                    <a:lnTo>
                      <a:pt x="9647" y="6"/>
                    </a:lnTo>
                    <a:cubicBezTo>
                      <a:pt x="9646" y="6"/>
                      <a:pt x="9645" y="5"/>
                      <a:pt x="9645" y="4"/>
                    </a:cubicBezTo>
                    <a:cubicBezTo>
                      <a:pt x="9645" y="3"/>
                      <a:pt x="9646" y="2"/>
                      <a:pt x="9647" y="2"/>
                    </a:cubicBezTo>
                    <a:close/>
                    <a:moveTo>
                      <a:pt x="9655" y="2"/>
                    </a:moveTo>
                    <a:lnTo>
                      <a:pt x="9655" y="2"/>
                    </a:lnTo>
                    <a:cubicBezTo>
                      <a:pt x="9656" y="2"/>
                      <a:pt x="9657" y="3"/>
                      <a:pt x="9657" y="4"/>
                    </a:cubicBezTo>
                    <a:cubicBezTo>
                      <a:pt x="9657" y="5"/>
                      <a:pt x="9656" y="6"/>
                      <a:pt x="9655" y="6"/>
                    </a:cubicBezTo>
                    <a:lnTo>
                      <a:pt x="9655" y="6"/>
                    </a:lnTo>
                    <a:cubicBezTo>
                      <a:pt x="9654" y="6"/>
                      <a:pt x="9653" y="5"/>
                      <a:pt x="9653" y="4"/>
                    </a:cubicBezTo>
                    <a:cubicBezTo>
                      <a:pt x="9653" y="3"/>
                      <a:pt x="9654" y="2"/>
                      <a:pt x="9655" y="2"/>
                    </a:cubicBezTo>
                    <a:close/>
                    <a:moveTo>
                      <a:pt x="9663" y="2"/>
                    </a:moveTo>
                    <a:lnTo>
                      <a:pt x="9663" y="2"/>
                    </a:lnTo>
                    <a:cubicBezTo>
                      <a:pt x="9664" y="2"/>
                      <a:pt x="9665" y="3"/>
                      <a:pt x="9665" y="4"/>
                    </a:cubicBezTo>
                    <a:cubicBezTo>
                      <a:pt x="9665" y="5"/>
                      <a:pt x="9664" y="6"/>
                      <a:pt x="9663" y="6"/>
                    </a:cubicBezTo>
                    <a:lnTo>
                      <a:pt x="9663" y="6"/>
                    </a:lnTo>
                    <a:cubicBezTo>
                      <a:pt x="9662" y="6"/>
                      <a:pt x="9661" y="5"/>
                      <a:pt x="9661" y="4"/>
                    </a:cubicBezTo>
                    <a:cubicBezTo>
                      <a:pt x="9661" y="3"/>
                      <a:pt x="9662" y="2"/>
                      <a:pt x="9663" y="2"/>
                    </a:cubicBezTo>
                    <a:close/>
                    <a:moveTo>
                      <a:pt x="9671" y="2"/>
                    </a:moveTo>
                    <a:lnTo>
                      <a:pt x="9671" y="2"/>
                    </a:lnTo>
                    <a:cubicBezTo>
                      <a:pt x="9672" y="2"/>
                      <a:pt x="9673" y="3"/>
                      <a:pt x="9673" y="4"/>
                    </a:cubicBezTo>
                    <a:cubicBezTo>
                      <a:pt x="9673" y="5"/>
                      <a:pt x="9672" y="6"/>
                      <a:pt x="9671" y="6"/>
                    </a:cubicBezTo>
                    <a:lnTo>
                      <a:pt x="9671" y="6"/>
                    </a:lnTo>
                    <a:cubicBezTo>
                      <a:pt x="9670" y="6"/>
                      <a:pt x="9669" y="5"/>
                      <a:pt x="9669" y="4"/>
                    </a:cubicBezTo>
                    <a:cubicBezTo>
                      <a:pt x="9669" y="3"/>
                      <a:pt x="9670" y="2"/>
                      <a:pt x="9671" y="2"/>
                    </a:cubicBezTo>
                    <a:close/>
                    <a:moveTo>
                      <a:pt x="9679" y="2"/>
                    </a:moveTo>
                    <a:lnTo>
                      <a:pt x="9679" y="2"/>
                    </a:lnTo>
                    <a:cubicBezTo>
                      <a:pt x="9680" y="2"/>
                      <a:pt x="9681" y="3"/>
                      <a:pt x="9681" y="4"/>
                    </a:cubicBezTo>
                    <a:cubicBezTo>
                      <a:pt x="9681" y="5"/>
                      <a:pt x="9680" y="6"/>
                      <a:pt x="9679" y="6"/>
                    </a:cubicBezTo>
                    <a:lnTo>
                      <a:pt x="9679" y="6"/>
                    </a:lnTo>
                    <a:cubicBezTo>
                      <a:pt x="9678" y="6"/>
                      <a:pt x="9677" y="5"/>
                      <a:pt x="9677" y="4"/>
                    </a:cubicBezTo>
                    <a:cubicBezTo>
                      <a:pt x="9677" y="3"/>
                      <a:pt x="9678" y="2"/>
                      <a:pt x="9679" y="2"/>
                    </a:cubicBezTo>
                    <a:close/>
                    <a:moveTo>
                      <a:pt x="9687" y="2"/>
                    </a:moveTo>
                    <a:lnTo>
                      <a:pt x="9687" y="2"/>
                    </a:lnTo>
                    <a:cubicBezTo>
                      <a:pt x="9688" y="2"/>
                      <a:pt x="9689" y="3"/>
                      <a:pt x="9689" y="4"/>
                    </a:cubicBezTo>
                    <a:cubicBezTo>
                      <a:pt x="9689" y="5"/>
                      <a:pt x="9688" y="6"/>
                      <a:pt x="9687" y="6"/>
                    </a:cubicBezTo>
                    <a:lnTo>
                      <a:pt x="9687" y="6"/>
                    </a:lnTo>
                    <a:cubicBezTo>
                      <a:pt x="9686" y="6"/>
                      <a:pt x="9685" y="5"/>
                      <a:pt x="9685" y="4"/>
                    </a:cubicBezTo>
                    <a:cubicBezTo>
                      <a:pt x="9685" y="3"/>
                      <a:pt x="9686" y="2"/>
                      <a:pt x="9687" y="2"/>
                    </a:cubicBezTo>
                    <a:close/>
                    <a:moveTo>
                      <a:pt x="9695" y="2"/>
                    </a:moveTo>
                    <a:lnTo>
                      <a:pt x="9695" y="2"/>
                    </a:lnTo>
                    <a:cubicBezTo>
                      <a:pt x="9696" y="2"/>
                      <a:pt x="9697" y="3"/>
                      <a:pt x="9697" y="4"/>
                    </a:cubicBezTo>
                    <a:cubicBezTo>
                      <a:pt x="9697" y="5"/>
                      <a:pt x="9696" y="6"/>
                      <a:pt x="9695" y="6"/>
                    </a:cubicBezTo>
                    <a:lnTo>
                      <a:pt x="9695" y="6"/>
                    </a:lnTo>
                    <a:cubicBezTo>
                      <a:pt x="9694" y="6"/>
                      <a:pt x="9693" y="5"/>
                      <a:pt x="9693" y="4"/>
                    </a:cubicBezTo>
                    <a:cubicBezTo>
                      <a:pt x="9693" y="3"/>
                      <a:pt x="9694" y="2"/>
                      <a:pt x="9695" y="2"/>
                    </a:cubicBezTo>
                    <a:close/>
                    <a:moveTo>
                      <a:pt x="9703" y="2"/>
                    </a:moveTo>
                    <a:lnTo>
                      <a:pt x="9703" y="2"/>
                    </a:lnTo>
                    <a:cubicBezTo>
                      <a:pt x="9704" y="2"/>
                      <a:pt x="9705" y="3"/>
                      <a:pt x="9705" y="4"/>
                    </a:cubicBezTo>
                    <a:cubicBezTo>
                      <a:pt x="9705" y="5"/>
                      <a:pt x="9704" y="6"/>
                      <a:pt x="9703" y="6"/>
                    </a:cubicBezTo>
                    <a:lnTo>
                      <a:pt x="9703" y="6"/>
                    </a:lnTo>
                    <a:cubicBezTo>
                      <a:pt x="9702" y="6"/>
                      <a:pt x="9701" y="5"/>
                      <a:pt x="9701" y="4"/>
                    </a:cubicBezTo>
                    <a:cubicBezTo>
                      <a:pt x="9701" y="3"/>
                      <a:pt x="9702" y="2"/>
                      <a:pt x="9703" y="2"/>
                    </a:cubicBezTo>
                    <a:close/>
                    <a:moveTo>
                      <a:pt x="9711" y="2"/>
                    </a:moveTo>
                    <a:lnTo>
                      <a:pt x="9711" y="2"/>
                    </a:lnTo>
                    <a:cubicBezTo>
                      <a:pt x="9712" y="2"/>
                      <a:pt x="9713" y="3"/>
                      <a:pt x="9713" y="4"/>
                    </a:cubicBezTo>
                    <a:cubicBezTo>
                      <a:pt x="9713" y="5"/>
                      <a:pt x="9712" y="6"/>
                      <a:pt x="9711" y="6"/>
                    </a:cubicBezTo>
                    <a:lnTo>
                      <a:pt x="9711" y="6"/>
                    </a:lnTo>
                    <a:cubicBezTo>
                      <a:pt x="9710" y="6"/>
                      <a:pt x="9709" y="5"/>
                      <a:pt x="9709" y="4"/>
                    </a:cubicBezTo>
                    <a:cubicBezTo>
                      <a:pt x="9709" y="3"/>
                      <a:pt x="9710" y="2"/>
                      <a:pt x="9711" y="2"/>
                    </a:cubicBezTo>
                    <a:close/>
                    <a:moveTo>
                      <a:pt x="9719" y="2"/>
                    </a:moveTo>
                    <a:lnTo>
                      <a:pt x="9719" y="2"/>
                    </a:lnTo>
                    <a:cubicBezTo>
                      <a:pt x="9720" y="2"/>
                      <a:pt x="9721" y="3"/>
                      <a:pt x="9721" y="4"/>
                    </a:cubicBezTo>
                    <a:cubicBezTo>
                      <a:pt x="9721" y="5"/>
                      <a:pt x="9720" y="6"/>
                      <a:pt x="9719" y="6"/>
                    </a:cubicBezTo>
                    <a:lnTo>
                      <a:pt x="9719" y="6"/>
                    </a:lnTo>
                    <a:cubicBezTo>
                      <a:pt x="9718" y="6"/>
                      <a:pt x="9717" y="5"/>
                      <a:pt x="9717" y="4"/>
                    </a:cubicBezTo>
                    <a:cubicBezTo>
                      <a:pt x="9717" y="3"/>
                      <a:pt x="9718" y="2"/>
                      <a:pt x="9719" y="2"/>
                    </a:cubicBezTo>
                    <a:close/>
                    <a:moveTo>
                      <a:pt x="9727" y="2"/>
                    </a:moveTo>
                    <a:lnTo>
                      <a:pt x="9727" y="2"/>
                    </a:lnTo>
                    <a:cubicBezTo>
                      <a:pt x="9728" y="2"/>
                      <a:pt x="9729" y="3"/>
                      <a:pt x="9729" y="4"/>
                    </a:cubicBezTo>
                    <a:cubicBezTo>
                      <a:pt x="9729" y="5"/>
                      <a:pt x="9728" y="6"/>
                      <a:pt x="9727" y="6"/>
                    </a:cubicBezTo>
                    <a:lnTo>
                      <a:pt x="9727" y="6"/>
                    </a:lnTo>
                    <a:cubicBezTo>
                      <a:pt x="9726" y="6"/>
                      <a:pt x="9725" y="5"/>
                      <a:pt x="9725" y="4"/>
                    </a:cubicBezTo>
                    <a:cubicBezTo>
                      <a:pt x="9725" y="3"/>
                      <a:pt x="9726" y="2"/>
                      <a:pt x="9727" y="2"/>
                    </a:cubicBezTo>
                    <a:close/>
                    <a:moveTo>
                      <a:pt x="9735" y="2"/>
                    </a:moveTo>
                    <a:lnTo>
                      <a:pt x="9735" y="2"/>
                    </a:lnTo>
                    <a:cubicBezTo>
                      <a:pt x="9736" y="2"/>
                      <a:pt x="9737" y="3"/>
                      <a:pt x="9737" y="4"/>
                    </a:cubicBezTo>
                    <a:cubicBezTo>
                      <a:pt x="9737" y="5"/>
                      <a:pt x="9736" y="6"/>
                      <a:pt x="9735" y="6"/>
                    </a:cubicBezTo>
                    <a:lnTo>
                      <a:pt x="9735" y="6"/>
                    </a:lnTo>
                    <a:cubicBezTo>
                      <a:pt x="9734" y="6"/>
                      <a:pt x="9733" y="5"/>
                      <a:pt x="9733" y="4"/>
                    </a:cubicBezTo>
                    <a:cubicBezTo>
                      <a:pt x="9733" y="3"/>
                      <a:pt x="9734" y="2"/>
                      <a:pt x="9735" y="2"/>
                    </a:cubicBezTo>
                    <a:close/>
                    <a:moveTo>
                      <a:pt x="9743" y="2"/>
                    </a:moveTo>
                    <a:lnTo>
                      <a:pt x="9743" y="2"/>
                    </a:lnTo>
                    <a:cubicBezTo>
                      <a:pt x="9744" y="2"/>
                      <a:pt x="9745" y="3"/>
                      <a:pt x="9745" y="4"/>
                    </a:cubicBezTo>
                    <a:cubicBezTo>
                      <a:pt x="9745" y="5"/>
                      <a:pt x="9744" y="6"/>
                      <a:pt x="9743" y="6"/>
                    </a:cubicBezTo>
                    <a:lnTo>
                      <a:pt x="9743" y="6"/>
                    </a:lnTo>
                    <a:cubicBezTo>
                      <a:pt x="9742" y="6"/>
                      <a:pt x="9741" y="5"/>
                      <a:pt x="9741" y="4"/>
                    </a:cubicBezTo>
                    <a:cubicBezTo>
                      <a:pt x="9741" y="3"/>
                      <a:pt x="9742" y="2"/>
                      <a:pt x="9743" y="2"/>
                    </a:cubicBezTo>
                    <a:close/>
                    <a:moveTo>
                      <a:pt x="9751" y="2"/>
                    </a:moveTo>
                    <a:lnTo>
                      <a:pt x="9751" y="2"/>
                    </a:lnTo>
                    <a:cubicBezTo>
                      <a:pt x="9752" y="2"/>
                      <a:pt x="9753" y="3"/>
                      <a:pt x="9753" y="4"/>
                    </a:cubicBezTo>
                    <a:cubicBezTo>
                      <a:pt x="9753" y="5"/>
                      <a:pt x="9752" y="6"/>
                      <a:pt x="9751" y="6"/>
                    </a:cubicBezTo>
                    <a:lnTo>
                      <a:pt x="9751" y="6"/>
                    </a:lnTo>
                    <a:cubicBezTo>
                      <a:pt x="9750" y="6"/>
                      <a:pt x="9749" y="5"/>
                      <a:pt x="9749" y="4"/>
                    </a:cubicBezTo>
                    <a:cubicBezTo>
                      <a:pt x="9749" y="3"/>
                      <a:pt x="9750" y="2"/>
                      <a:pt x="9751" y="2"/>
                    </a:cubicBezTo>
                    <a:close/>
                    <a:moveTo>
                      <a:pt x="9759" y="2"/>
                    </a:moveTo>
                    <a:lnTo>
                      <a:pt x="9759" y="2"/>
                    </a:lnTo>
                    <a:cubicBezTo>
                      <a:pt x="9760" y="2"/>
                      <a:pt x="9761" y="3"/>
                      <a:pt x="9761" y="4"/>
                    </a:cubicBezTo>
                    <a:cubicBezTo>
                      <a:pt x="9761" y="5"/>
                      <a:pt x="9760" y="6"/>
                      <a:pt x="9759" y="6"/>
                    </a:cubicBezTo>
                    <a:lnTo>
                      <a:pt x="9759" y="6"/>
                    </a:lnTo>
                    <a:cubicBezTo>
                      <a:pt x="9758" y="6"/>
                      <a:pt x="9757" y="5"/>
                      <a:pt x="9757" y="4"/>
                    </a:cubicBezTo>
                    <a:cubicBezTo>
                      <a:pt x="9757" y="3"/>
                      <a:pt x="9758" y="2"/>
                      <a:pt x="9759" y="2"/>
                    </a:cubicBezTo>
                    <a:close/>
                    <a:moveTo>
                      <a:pt x="9767" y="2"/>
                    </a:moveTo>
                    <a:lnTo>
                      <a:pt x="9767" y="2"/>
                    </a:lnTo>
                    <a:cubicBezTo>
                      <a:pt x="9768" y="2"/>
                      <a:pt x="9769" y="3"/>
                      <a:pt x="9769" y="4"/>
                    </a:cubicBezTo>
                    <a:cubicBezTo>
                      <a:pt x="9769" y="5"/>
                      <a:pt x="9768" y="6"/>
                      <a:pt x="9767" y="6"/>
                    </a:cubicBezTo>
                    <a:lnTo>
                      <a:pt x="9767" y="6"/>
                    </a:lnTo>
                    <a:cubicBezTo>
                      <a:pt x="9766" y="6"/>
                      <a:pt x="9765" y="5"/>
                      <a:pt x="9765" y="4"/>
                    </a:cubicBezTo>
                    <a:cubicBezTo>
                      <a:pt x="9765" y="3"/>
                      <a:pt x="9766" y="2"/>
                      <a:pt x="9767" y="2"/>
                    </a:cubicBezTo>
                    <a:close/>
                    <a:moveTo>
                      <a:pt x="9775" y="2"/>
                    </a:moveTo>
                    <a:lnTo>
                      <a:pt x="9775" y="2"/>
                    </a:lnTo>
                    <a:cubicBezTo>
                      <a:pt x="9776" y="2"/>
                      <a:pt x="9777" y="3"/>
                      <a:pt x="9777" y="4"/>
                    </a:cubicBezTo>
                    <a:cubicBezTo>
                      <a:pt x="9777" y="5"/>
                      <a:pt x="9776" y="6"/>
                      <a:pt x="9775" y="6"/>
                    </a:cubicBezTo>
                    <a:lnTo>
                      <a:pt x="9775" y="6"/>
                    </a:lnTo>
                    <a:cubicBezTo>
                      <a:pt x="9774" y="6"/>
                      <a:pt x="9773" y="5"/>
                      <a:pt x="9773" y="4"/>
                    </a:cubicBezTo>
                    <a:cubicBezTo>
                      <a:pt x="9773" y="3"/>
                      <a:pt x="9774" y="2"/>
                      <a:pt x="9775" y="2"/>
                    </a:cubicBezTo>
                    <a:close/>
                    <a:moveTo>
                      <a:pt x="9783" y="2"/>
                    </a:moveTo>
                    <a:lnTo>
                      <a:pt x="9783" y="2"/>
                    </a:lnTo>
                    <a:cubicBezTo>
                      <a:pt x="9784" y="2"/>
                      <a:pt x="9785" y="3"/>
                      <a:pt x="9785" y="4"/>
                    </a:cubicBezTo>
                    <a:cubicBezTo>
                      <a:pt x="9785" y="5"/>
                      <a:pt x="9784" y="6"/>
                      <a:pt x="9783" y="6"/>
                    </a:cubicBezTo>
                    <a:lnTo>
                      <a:pt x="9783" y="6"/>
                    </a:lnTo>
                    <a:cubicBezTo>
                      <a:pt x="9782" y="6"/>
                      <a:pt x="9781" y="5"/>
                      <a:pt x="9781" y="4"/>
                    </a:cubicBezTo>
                    <a:cubicBezTo>
                      <a:pt x="9781" y="3"/>
                      <a:pt x="9782" y="2"/>
                      <a:pt x="9783" y="2"/>
                    </a:cubicBezTo>
                    <a:close/>
                    <a:moveTo>
                      <a:pt x="9791" y="2"/>
                    </a:moveTo>
                    <a:lnTo>
                      <a:pt x="9791" y="2"/>
                    </a:lnTo>
                    <a:cubicBezTo>
                      <a:pt x="9792" y="2"/>
                      <a:pt x="9793" y="3"/>
                      <a:pt x="9793" y="4"/>
                    </a:cubicBezTo>
                    <a:cubicBezTo>
                      <a:pt x="9793" y="5"/>
                      <a:pt x="9792" y="6"/>
                      <a:pt x="9791" y="6"/>
                    </a:cubicBezTo>
                    <a:lnTo>
                      <a:pt x="9791" y="6"/>
                    </a:lnTo>
                    <a:cubicBezTo>
                      <a:pt x="9790" y="6"/>
                      <a:pt x="9789" y="5"/>
                      <a:pt x="9789" y="4"/>
                    </a:cubicBezTo>
                    <a:cubicBezTo>
                      <a:pt x="9789" y="3"/>
                      <a:pt x="9790" y="2"/>
                      <a:pt x="9791" y="2"/>
                    </a:cubicBezTo>
                    <a:close/>
                    <a:moveTo>
                      <a:pt x="9799" y="2"/>
                    </a:moveTo>
                    <a:lnTo>
                      <a:pt x="9799" y="2"/>
                    </a:lnTo>
                    <a:cubicBezTo>
                      <a:pt x="9800" y="2"/>
                      <a:pt x="9801" y="3"/>
                      <a:pt x="9801" y="4"/>
                    </a:cubicBezTo>
                    <a:cubicBezTo>
                      <a:pt x="9801" y="5"/>
                      <a:pt x="9800" y="6"/>
                      <a:pt x="9799" y="6"/>
                    </a:cubicBezTo>
                    <a:lnTo>
                      <a:pt x="9799" y="6"/>
                    </a:lnTo>
                    <a:cubicBezTo>
                      <a:pt x="9798" y="6"/>
                      <a:pt x="9797" y="5"/>
                      <a:pt x="9797" y="4"/>
                    </a:cubicBezTo>
                    <a:cubicBezTo>
                      <a:pt x="9797" y="3"/>
                      <a:pt x="9798" y="2"/>
                      <a:pt x="9799" y="2"/>
                    </a:cubicBezTo>
                    <a:close/>
                    <a:moveTo>
                      <a:pt x="9807" y="2"/>
                    </a:moveTo>
                    <a:lnTo>
                      <a:pt x="9807" y="2"/>
                    </a:lnTo>
                    <a:cubicBezTo>
                      <a:pt x="9808" y="2"/>
                      <a:pt x="9809" y="3"/>
                      <a:pt x="9809" y="4"/>
                    </a:cubicBezTo>
                    <a:cubicBezTo>
                      <a:pt x="9809" y="5"/>
                      <a:pt x="9808" y="6"/>
                      <a:pt x="9807" y="6"/>
                    </a:cubicBezTo>
                    <a:lnTo>
                      <a:pt x="9807" y="6"/>
                    </a:lnTo>
                    <a:cubicBezTo>
                      <a:pt x="9806" y="6"/>
                      <a:pt x="9805" y="5"/>
                      <a:pt x="9805" y="4"/>
                    </a:cubicBezTo>
                    <a:cubicBezTo>
                      <a:pt x="9805" y="3"/>
                      <a:pt x="9806" y="2"/>
                      <a:pt x="9807" y="2"/>
                    </a:cubicBezTo>
                    <a:close/>
                    <a:moveTo>
                      <a:pt x="9815" y="2"/>
                    </a:moveTo>
                    <a:lnTo>
                      <a:pt x="9815" y="2"/>
                    </a:lnTo>
                    <a:cubicBezTo>
                      <a:pt x="9816" y="2"/>
                      <a:pt x="9817" y="3"/>
                      <a:pt x="9817" y="4"/>
                    </a:cubicBezTo>
                    <a:cubicBezTo>
                      <a:pt x="9817" y="5"/>
                      <a:pt x="9816" y="6"/>
                      <a:pt x="9815" y="6"/>
                    </a:cubicBezTo>
                    <a:lnTo>
                      <a:pt x="9815" y="6"/>
                    </a:lnTo>
                    <a:cubicBezTo>
                      <a:pt x="9814" y="6"/>
                      <a:pt x="9813" y="5"/>
                      <a:pt x="9813" y="4"/>
                    </a:cubicBezTo>
                    <a:cubicBezTo>
                      <a:pt x="9813" y="3"/>
                      <a:pt x="9814" y="2"/>
                      <a:pt x="9815" y="2"/>
                    </a:cubicBezTo>
                    <a:close/>
                    <a:moveTo>
                      <a:pt x="9823" y="2"/>
                    </a:moveTo>
                    <a:lnTo>
                      <a:pt x="9823" y="2"/>
                    </a:lnTo>
                    <a:cubicBezTo>
                      <a:pt x="9824" y="2"/>
                      <a:pt x="9825" y="3"/>
                      <a:pt x="9825" y="4"/>
                    </a:cubicBezTo>
                    <a:cubicBezTo>
                      <a:pt x="9825" y="5"/>
                      <a:pt x="9824" y="6"/>
                      <a:pt x="9823" y="6"/>
                    </a:cubicBezTo>
                    <a:lnTo>
                      <a:pt x="9823" y="6"/>
                    </a:lnTo>
                    <a:cubicBezTo>
                      <a:pt x="9822" y="6"/>
                      <a:pt x="9821" y="5"/>
                      <a:pt x="9821" y="4"/>
                    </a:cubicBezTo>
                    <a:cubicBezTo>
                      <a:pt x="9821" y="3"/>
                      <a:pt x="9822" y="2"/>
                      <a:pt x="9823" y="2"/>
                    </a:cubicBezTo>
                    <a:close/>
                    <a:moveTo>
                      <a:pt x="9831" y="2"/>
                    </a:moveTo>
                    <a:lnTo>
                      <a:pt x="9831" y="2"/>
                    </a:lnTo>
                    <a:cubicBezTo>
                      <a:pt x="9832" y="2"/>
                      <a:pt x="9833" y="3"/>
                      <a:pt x="9833" y="4"/>
                    </a:cubicBezTo>
                    <a:cubicBezTo>
                      <a:pt x="9833" y="5"/>
                      <a:pt x="9832" y="6"/>
                      <a:pt x="9831" y="6"/>
                    </a:cubicBezTo>
                    <a:lnTo>
                      <a:pt x="9831" y="6"/>
                    </a:lnTo>
                    <a:cubicBezTo>
                      <a:pt x="9830" y="6"/>
                      <a:pt x="9829" y="5"/>
                      <a:pt x="9829" y="4"/>
                    </a:cubicBezTo>
                    <a:cubicBezTo>
                      <a:pt x="9829" y="3"/>
                      <a:pt x="9830" y="2"/>
                      <a:pt x="9831" y="2"/>
                    </a:cubicBezTo>
                    <a:close/>
                    <a:moveTo>
                      <a:pt x="9839" y="2"/>
                    </a:moveTo>
                    <a:lnTo>
                      <a:pt x="9839" y="2"/>
                    </a:lnTo>
                    <a:cubicBezTo>
                      <a:pt x="9840" y="2"/>
                      <a:pt x="9841" y="3"/>
                      <a:pt x="9841" y="4"/>
                    </a:cubicBezTo>
                    <a:cubicBezTo>
                      <a:pt x="9841" y="5"/>
                      <a:pt x="9840" y="6"/>
                      <a:pt x="9839" y="6"/>
                    </a:cubicBezTo>
                    <a:lnTo>
                      <a:pt x="9839" y="6"/>
                    </a:lnTo>
                    <a:cubicBezTo>
                      <a:pt x="9838" y="6"/>
                      <a:pt x="9837" y="5"/>
                      <a:pt x="9837" y="4"/>
                    </a:cubicBezTo>
                    <a:cubicBezTo>
                      <a:pt x="9837" y="3"/>
                      <a:pt x="9838" y="2"/>
                      <a:pt x="9839" y="2"/>
                    </a:cubicBezTo>
                    <a:close/>
                    <a:moveTo>
                      <a:pt x="9847" y="2"/>
                    </a:moveTo>
                    <a:lnTo>
                      <a:pt x="9847" y="2"/>
                    </a:lnTo>
                    <a:cubicBezTo>
                      <a:pt x="9848" y="2"/>
                      <a:pt x="9849" y="3"/>
                      <a:pt x="9849" y="4"/>
                    </a:cubicBezTo>
                    <a:cubicBezTo>
                      <a:pt x="9849" y="5"/>
                      <a:pt x="9848" y="6"/>
                      <a:pt x="9847" y="6"/>
                    </a:cubicBezTo>
                    <a:lnTo>
                      <a:pt x="9847" y="6"/>
                    </a:lnTo>
                    <a:cubicBezTo>
                      <a:pt x="9846" y="6"/>
                      <a:pt x="9845" y="5"/>
                      <a:pt x="9845" y="4"/>
                    </a:cubicBezTo>
                    <a:cubicBezTo>
                      <a:pt x="9845" y="3"/>
                      <a:pt x="9846" y="2"/>
                      <a:pt x="9847" y="2"/>
                    </a:cubicBezTo>
                    <a:close/>
                    <a:moveTo>
                      <a:pt x="9855" y="2"/>
                    </a:moveTo>
                    <a:lnTo>
                      <a:pt x="9855" y="2"/>
                    </a:lnTo>
                    <a:cubicBezTo>
                      <a:pt x="9856" y="2"/>
                      <a:pt x="9857" y="3"/>
                      <a:pt x="9857" y="4"/>
                    </a:cubicBezTo>
                    <a:cubicBezTo>
                      <a:pt x="9857" y="5"/>
                      <a:pt x="9856" y="6"/>
                      <a:pt x="9855" y="6"/>
                    </a:cubicBezTo>
                    <a:lnTo>
                      <a:pt x="9855" y="6"/>
                    </a:lnTo>
                    <a:cubicBezTo>
                      <a:pt x="9854" y="6"/>
                      <a:pt x="9853" y="5"/>
                      <a:pt x="9853" y="4"/>
                    </a:cubicBezTo>
                    <a:cubicBezTo>
                      <a:pt x="9853" y="3"/>
                      <a:pt x="9854" y="2"/>
                      <a:pt x="9855" y="2"/>
                    </a:cubicBezTo>
                    <a:close/>
                    <a:moveTo>
                      <a:pt x="9863" y="2"/>
                    </a:moveTo>
                    <a:lnTo>
                      <a:pt x="9863" y="2"/>
                    </a:lnTo>
                    <a:cubicBezTo>
                      <a:pt x="9864" y="2"/>
                      <a:pt x="9865" y="3"/>
                      <a:pt x="9865" y="4"/>
                    </a:cubicBezTo>
                    <a:cubicBezTo>
                      <a:pt x="9865" y="5"/>
                      <a:pt x="9864" y="6"/>
                      <a:pt x="9863" y="6"/>
                    </a:cubicBezTo>
                    <a:lnTo>
                      <a:pt x="9863" y="6"/>
                    </a:lnTo>
                    <a:cubicBezTo>
                      <a:pt x="9862" y="6"/>
                      <a:pt x="9861" y="5"/>
                      <a:pt x="9861" y="4"/>
                    </a:cubicBezTo>
                    <a:cubicBezTo>
                      <a:pt x="9861" y="3"/>
                      <a:pt x="9862" y="2"/>
                      <a:pt x="9863" y="2"/>
                    </a:cubicBezTo>
                    <a:close/>
                    <a:moveTo>
                      <a:pt x="9871" y="2"/>
                    </a:moveTo>
                    <a:lnTo>
                      <a:pt x="9871" y="2"/>
                    </a:lnTo>
                    <a:cubicBezTo>
                      <a:pt x="9872" y="2"/>
                      <a:pt x="9873" y="3"/>
                      <a:pt x="9873" y="4"/>
                    </a:cubicBezTo>
                    <a:cubicBezTo>
                      <a:pt x="9873" y="5"/>
                      <a:pt x="9872" y="6"/>
                      <a:pt x="9871" y="6"/>
                    </a:cubicBezTo>
                    <a:lnTo>
                      <a:pt x="9871" y="6"/>
                    </a:lnTo>
                    <a:cubicBezTo>
                      <a:pt x="9870" y="6"/>
                      <a:pt x="9869" y="5"/>
                      <a:pt x="9869" y="4"/>
                    </a:cubicBezTo>
                    <a:cubicBezTo>
                      <a:pt x="9869" y="3"/>
                      <a:pt x="9870" y="2"/>
                      <a:pt x="9871" y="2"/>
                    </a:cubicBezTo>
                    <a:close/>
                    <a:moveTo>
                      <a:pt x="9879" y="2"/>
                    </a:moveTo>
                    <a:lnTo>
                      <a:pt x="9879" y="2"/>
                    </a:lnTo>
                    <a:cubicBezTo>
                      <a:pt x="9880" y="2"/>
                      <a:pt x="9881" y="3"/>
                      <a:pt x="9881" y="4"/>
                    </a:cubicBezTo>
                    <a:cubicBezTo>
                      <a:pt x="9881" y="5"/>
                      <a:pt x="9880" y="6"/>
                      <a:pt x="9879" y="6"/>
                    </a:cubicBezTo>
                    <a:lnTo>
                      <a:pt x="9879" y="6"/>
                    </a:lnTo>
                    <a:cubicBezTo>
                      <a:pt x="9878" y="6"/>
                      <a:pt x="9877" y="5"/>
                      <a:pt x="9877" y="4"/>
                    </a:cubicBezTo>
                    <a:cubicBezTo>
                      <a:pt x="9877" y="3"/>
                      <a:pt x="9878" y="2"/>
                      <a:pt x="9879" y="2"/>
                    </a:cubicBezTo>
                    <a:close/>
                    <a:moveTo>
                      <a:pt x="9887" y="2"/>
                    </a:moveTo>
                    <a:lnTo>
                      <a:pt x="9887" y="2"/>
                    </a:lnTo>
                    <a:cubicBezTo>
                      <a:pt x="9888" y="2"/>
                      <a:pt x="9889" y="3"/>
                      <a:pt x="9889" y="4"/>
                    </a:cubicBezTo>
                    <a:cubicBezTo>
                      <a:pt x="9889" y="5"/>
                      <a:pt x="9888" y="6"/>
                      <a:pt x="9887" y="6"/>
                    </a:cubicBezTo>
                    <a:lnTo>
                      <a:pt x="9887" y="6"/>
                    </a:lnTo>
                    <a:cubicBezTo>
                      <a:pt x="9886" y="6"/>
                      <a:pt x="9885" y="5"/>
                      <a:pt x="9885" y="4"/>
                    </a:cubicBezTo>
                    <a:cubicBezTo>
                      <a:pt x="9885" y="3"/>
                      <a:pt x="9886" y="2"/>
                      <a:pt x="9887" y="2"/>
                    </a:cubicBezTo>
                    <a:close/>
                    <a:moveTo>
                      <a:pt x="9895" y="2"/>
                    </a:moveTo>
                    <a:lnTo>
                      <a:pt x="9895" y="2"/>
                    </a:lnTo>
                    <a:cubicBezTo>
                      <a:pt x="9896" y="2"/>
                      <a:pt x="9897" y="3"/>
                      <a:pt x="9897" y="4"/>
                    </a:cubicBezTo>
                    <a:cubicBezTo>
                      <a:pt x="9897" y="5"/>
                      <a:pt x="9896" y="6"/>
                      <a:pt x="9895" y="6"/>
                    </a:cubicBezTo>
                    <a:lnTo>
                      <a:pt x="9895" y="6"/>
                    </a:lnTo>
                    <a:cubicBezTo>
                      <a:pt x="9894" y="6"/>
                      <a:pt x="9893" y="5"/>
                      <a:pt x="9893" y="4"/>
                    </a:cubicBezTo>
                    <a:cubicBezTo>
                      <a:pt x="9893" y="3"/>
                      <a:pt x="9894" y="2"/>
                      <a:pt x="9895" y="2"/>
                    </a:cubicBezTo>
                    <a:close/>
                    <a:moveTo>
                      <a:pt x="9903" y="2"/>
                    </a:moveTo>
                    <a:lnTo>
                      <a:pt x="9903" y="2"/>
                    </a:lnTo>
                    <a:cubicBezTo>
                      <a:pt x="9904" y="2"/>
                      <a:pt x="9905" y="3"/>
                      <a:pt x="9905" y="4"/>
                    </a:cubicBezTo>
                    <a:cubicBezTo>
                      <a:pt x="9905" y="5"/>
                      <a:pt x="9904" y="6"/>
                      <a:pt x="9903" y="6"/>
                    </a:cubicBezTo>
                    <a:lnTo>
                      <a:pt x="9903" y="6"/>
                    </a:lnTo>
                    <a:cubicBezTo>
                      <a:pt x="9902" y="6"/>
                      <a:pt x="9901" y="5"/>
                      <a:pt x="9901" y="4"/>
                    </a:cubicBezTo>
                    <a:cubicBezTo>
                      <a:pt x="9901" y="3"/>
                      <a:pt x="9902" y="2"/>
                      <a:pt x="9903" y="2"/>
                    </a:cubicBezTo>
                    <a:close/>
                    <a:moveTo>
                      <a:pt x="9911" y="2"/>
                    </a:moveTo>
                    <a:lnTo>
                      <a:pt x="9911" y="2"/>
                    </a:lnTo>
                    <a:cubicBezTo>
                      <a:pt x="9912" y="2"/>
                      <a:pt x="9913" y="3"/>
                      <a:pt x="9913" y="4"/>
                    </a:cubicBezTo>
                    <a:cubicBezTo>
                      <a:pt x="9913" y="5"/>
                      <a:pt x="9912" y="6"/>
                      <a:pt x="9911" y="6"/>
                    </a:cubicBezTo>
                    <a:lnTo>
                      <a:pt x="9911" y="6"/>
                    </a:lnTo>
                    <a:cubicBezTo>
                      <a:pt x="9910" y="6"/>
                      <a:pt x="9909" y="5"/>
                      <a:pt x="9909" y="4"/>
                    </a:cubicBezTo>
                    <a:cubicBezTo>
                      <a:pt x="9909" y="3"/>
                      <a:pt x="9910" y="2"/>
                      <a:pt x="9911" y="2"/>
                    </a:cubicBezTo>
                    <a:close/>
                    <a:moveTo>
                      <a:pt x="9919" y="2"/>
                    </a:moveTo>
                    <a:lnTo>
                      <a:pt x="9919" y="2"/>
                    </a:lnTo>
                    <a:cubicBezTo>
                      <a:pt x="9920" y="2"/>
                      <a:pt x="9921" y="3"/>
                      <a:pt x="9921" y="4"/>
                    </a:cubicBezTo>
                    <a:cubicBezTo>
                      <a:pt x="9921" y="5"/>
                      <a:pt x="9920" y="6"/>
                      <a:pt x="9919" y="6"/>
                    </a:cubicBezTo>
                    <a:lnTo>
                      <a:pt x="9919" y="6"/>
                    </a:lnTo>
                    <a:cubicBezTo>
                      <a:pt x="9918" y="6"/>
                      <a:pt x="9917" y="5"/>
                      <a:pt x="9917" y="4"/>
                    </a:cubicBezTo>
                    <a:cubicBezTo>
                      <a:pt x="9917" y="3"/>
                      <a:pt x="9918" y="2"/>
                      <a:pt x="9919" y="2"/>
                    </a:cubicBezTo>
                    <a:close/>
                    <a:moveTo>
                      <a:pt x="9927" y="2"/>
                    </a:moveTo>
                    <a:lnTo>
                      <a:pt x="9927" y="2"/>
                    </a:lnTo>
                    <a:cubicBezTo>
                      <a:pt x="9928" y="2"/>
                      <a:pt x="9929" y="3"/>
                      <a:pt x="9929" y="4"/>
                    </a:cubicBezTo>
                    <a:cubicBezTo>
                      <a:pt x="9929" y="5"/>
                      <a:pt x="9928" y="6"/>
                      <a:pt x="9927" y="6"/>
                    </a:cubicBezTo>
                    <a:lnTo>
                      <a:pt x="9927" y="6"/>
                    </a:lnTo>
                    <a:cubicBezTo>
                      <a:pt x="9926" y="6"/>
                      <a:pt x="9925" y="5"/>
                      <a:pt x="9925" y="4"/>
                    </a:cubicBezTo>
                    <a:cubicBezTo>
                      <a:pt x="9925" y="3"/>
                      <a:pt x="9926" y="2"/>
                      <a:pt x="9927" y="2"/>
                    </a:cubicBezTo>
                    <a:close/>
                    <a:moveTo>
                      <a:pt x="9935" y="2"/>
                    </a:moveTo>
                    <a:lnTo>
                      <a:pt x="9935" y="2"/>
                    </a:lnTo>
                    <a:cubicBezTo>
                      <a:pt x="9936" y="2"/>
                      <a:pt x="9937" y="3"/>
                      <a:pt x="9937" y="4"/>
                    </a:cubicBezTo>
                    <a:cubicBezTo>
                      <a:pt x="9937" y="5"/>
                      <a:pt x="9936" y="6"/>
                      <a:pt x="9935" y="6"/>
                    </a:cubicBezTo>
                    <a:lnTo>
                      <a:pt x="9935" y="6"/>
                    </a:lnTo>
                    <a:cubicBezTo>
                      <a:pt x="9934" y="6"/>
                      <a:pt x="9933" y="5"/>
                      <a:pt x="9933" y="4"/>
                    </a:cubicBezTo>
                    <a:cubicBezTo>
                      <a:pt x="9933" y="3"/>
                      <a:pt x="9934" y="2"/>
                      <a:pt x="9935" y="2"/>
                    </a:cubicBezTo>
                    <a:close/>
                    <a:moveTo>
                      <a:pt x="9943" y="2"/>
                    </a:moveTo>
                    <a:lnTo>
                      <a:pt x="9943" y="2"/>
                    </a:lnTo>
                    <a:cubicBezTo>
                      <a:pt x="9944" y="2"/>
                      <a:pt x="9945" y="3"/>
                      <a:pt x="9945" y="4"/>
                    </a:cubicBezTo>
                    <a:cubicBezTo>
                      <a:pt x="9945" y="5"/>
                      <a:pt x="9944" y="6"/>
                      <a:pt x="9943" y="6"/>
                    </a:cubicBezTo>
                    <a:lnTo>
                      <a:pt x="9943" y="6"/>
                    </a:lnTo>
                    <a:cubicBezTo>
                      <a:pt x="9942" y="6"/>
                      <a:pt x="9941" y="5"/>
                      <a:pt x="9941" y="4"/>
                    </a:cubicBezTo>
                    <a:cubicBezTo>
                      <a:pt x="9941" y="3"/>
                      <a:pt x="9942" y="2"/>
                      <a:pt x="9943" y="2"/>
                    </a:cubicBezTo>
                    <a:close/>
                    <a:moveTo>
                      <a:pt x="9951" y="2"/>
                    </a:moveTo>
                    <a:lnTo>
                      <a:pt x="9951" y="2"/>
                    </a:lnTo>
                    <a:cubicBezTo>
                      <a:pt x="9952" y="2"/>
                      <a:pt x="9953" y="3"/>
                      <a:pt x="9953" y="4"/>
                    </a:cubicBezTo>
                    <a:cubicBezTo>
                      <a:pt x="9953" y="5"/>
                      <a:pt x="9952" y="6"/>
                      <a:pt x="9951" y="6"/>
                    </a:cubicBezTo>
                    <a:lnTo>
                      <a:pt x="9951" y="6"/>
                    </a:lnTo>
                    <a:cubicBezTo>
                      <a:pt x="9950" y="6"/>
                      <a:pt x="9949" y="5"/>
                      <a:pt x="9949" y="4"/>
                    </a:cubicBezTo>
                    <a:cubicBezTo>
                      <a:pt x="9949" y="3"/>
                      <a:pt x="9950" y="2"/>
                      <a:pt x="9951" y="2"/>
                    </a:cubicBezTo>
                    <a:close/>
                    <a:moveTo>
                      <a:pt x="9959" y="2"/>
                    </a:moveTo>
                    <a:lnTo>
                      <a:pt x="9959" y="2"/>
                    </a:lnTo>
                    <a:cubicBezTo>
                      <a:pt x="9960" y="2"/>
                      <a:pt x="9961" y="3"/>
                      <a:pt x="9961" y="4"/>
                    </a:cubicBezTo>
                    <a:cubicBezTo>
                      <a:pt x="9961" y="5"/>
                      <a:pt x="9960" y="6"/>
                      <a:pt x="9959" y="6"/>
                    </a:cubicBezTo>
                    <a:lnTo>
                      <a:pt x="9959" y="6"/>
                    </a:lnTo>
                    <a:cubicBezTo>
                      <a:pt x="9958" y="6"/>
                      <a:pt x="9957" y="5"/>
                      <a:pt x="9957" y="4"/>
                    </a:cubicBezTo>
                    <a:cubicBezTo>
                      <a:pt x="9957" y="3"/>
                      <a:pt x="9958" y="2"/>
                      <a:pt x="9959" y="2"/>
                    </a:cubicBezTo>
                    <a:close/>
                    <a:moveTo>
                      <a:pt x="9967" y="2"/>
                    </a:moveTo>
                    <a:lnTo>
                      <a:pt x="9967" y="2"/>
                    </a:lnTo>
                    <a:cubicBezTo>
                      <a:pt x="9968" y="2"/>
                      <a:pt x="9969" y="3"/>
                      <a:pt x="9969" y="4"/>
                    </a:cubicBezTo>
                    <a:cubicBezTo>
                      <a:pt x="9969" y="5"/>
                      <a:pt x="9968" y="6"/>
                      <a:pt x="9967" y="6"/>
                    </a:cubicBezTo>
                    <a:lnTo>
                      <a:pt x="9967" y="6"/>
                    </a:lnTo>
                    <a:cubicBezTo>
                      <a:pt x="9966" y="6"/>
                      <a:pt x="9965" y="5"/>
                      <a:pt x="9965" y="4"/>
                    </a:cubicBezTo>
                    <a:cubicBezTo>
                      <a:pt x="9965" y="3"/>
                      <a:pt x="9966" y="2"/>
                      <a:pt x="9967" y="2"/>
                    </a:cubicBezTo>
                    <a:close/>
                    <a:moveTo>
                      <a:pt x="9975" y="2"/>
                    </a:moveTo>
                    <a:lnTo>
                      <a:pt x="9975" y="2"/>
                    </a:lnTo>
                    <a:cubicBezTo>
                      <a:pt x="9976" y="2"/>
                      <a:pt x="9977" y="3"/>
                      <a:pt x="9977" y="4"/>
                    </a:cubicBezTo>
                    <a:cubicBezTo>
                      <a:pt x="9977" y="5"/>
                      <a:pt x="9976" y="6"/>
                      <a:pt x="9975" y="6"/>
                    </a:cubicBezTo>
                    <a:lnTo>
                      <a:pt x="9975" y="6"/>
                    </a:lnTo>
                    <a:cubicBezTo>
                      <a:pt x="9974" y="6"/>
                      <a:pt x="9973" y="5"/>
                      <a:pt x="9973" y="4"/>
                    </a:cubicBezTo>
                    <a:cubicBezTo>
                      <a:pt x="9973" y="3"/>
                      <a:pt x="9974" y="2"/>
                      <a:pt x="9975" y="2"/>
                    </a:cubicBezTo>
                    <a:close/>
                    <a:moveTo>
                      <a:pt x="9983" y="2"/>
                    </a:moveTo>
                    <a:lnTo>
                      <a:pt x="9983" y="2"/>
                    </a:lnTo>
                    <a:cubicBezTo>
                      <a:pt x="9984" y="2"/>
                      <a:pt x="9985" y="3"/>
                      <a:pt x="9985" y="4"/>
                    </a:cubicBezTo>
                    <a:cubicBezTo>
                      <a:pt x="9985" y="5"/>
                      <a:pt x="9984" y="6"/>
                      <a:pt x="9983" y="6"/>
                    </a:cubicBezTo>
                    <a:lnTo>
                      <a:pt x="9983" y="6"/>
                    </a:lnTo>
                    <a:cubicBezTo>
                      <a:pt x="9982" y="6"/>
                      <a:pt x="9981" y="5"/>
                      <a:pt x="9981" y="4"/>
                    </a:cubicBezTo>
                    <a:cubicBezTo>
                      <a:pt x="9981" y="3"/>
                      <a:pt x="9982" y="2"/>
                      <a:pt x="9983" y="2"/>
                    </a:cubicBezTo>
                    <a:close/>
                    <a:moveTo>
                      <a:pt x="9991" y="2"/>
                    </a:moveTo>
                    <a:lnTo>
                      <a:pt x="9991" y="2"/>
                    </a:lnTo>
                    <a:cubicBezTo>
                      <a:pt x="9992" y="2"/>
                      <a:pt x="9993" y="3"/>
                      <a:pt x="9993" y="4"/>
                    </a:cubicBezTo>
                    <a:cubicBezTo>
                      <a:pt x="9993" y="5"/>
                      <a:pt x="9992" y="6"/>
                      <a:pt x="9991" y="6"/>
                    </a:cubicBezTo>
                    <a:lnTo>
                      <a:pt x="9991" y="6"/>
                    </a:lnTo>
                    <a:cubicBezTo>
                      <a:pt x="9990" y="6"/>
                      <a:pt x="9989" y="5"/>
                      <a:pt x="9989" y="4"/>
                    </a:cubicBezTo>
                    <a:cubicBezTo>
                      <a:pt x="9989" y="3"/>
                      <a:pt x="9990" y="2"/>
                      <a:pt x="9991" y="2"/>
                    </a:cubicBezTo>
                    <a:close/>
                    <a:moveTo>
                      <a:pt x="9999" y="2"/>
                    </a:moveTo>
                    <a:lnTo>
                      <a:pt x="9999" y="2"/>
                    </a:lnTo>
                    <a:cubicBezTo>
                      <a:pt x="10000" y="2"/>
                      <a:pt x="10001" y="3"/>
                      <a:pt x="10001" y="4"/>
                    </a:cubicBezTo>
                    <a:cubicBezTo>
                      <a:pt x="10001" y="5"/>
                      <a:pt x="10000" y="6"/>
                      <a:pt x="9999" y="6"/>
                    </a:cubicBezTo>
                    <a:lnTo>
                      <a:pt x="9999" y="6"/>
                    </a:lnTo>
                    <a:cubicBezTo>
                      <a:pt x="9998" y="6"/>
                      <a:pt x="9997" y="5"/>
                      <a:pt x="9997" y="4"/>
                    </a:cubicBezTo>
                    <a:cubicBezTo>
                      <a:pt x="9997" y="3"/>
                      <a:pt x="9998" y="2"/>
                      <a:pt x="9999" y="2"/>
                    </a:cubicBezTo>
                    <a:close/>
                    <a:moveTo>
                      <a:pt x="10007" y="2"/>
                    </a:moveTo>
                    <a:lnTo>
                      <a:pt x="10007" y="2"/>
                    </a:lnTo>
                    <a:cubicBezTo>
                      <a:pt x="10008" y="2"/>
                      <a:pt x="10009" y="3"/>
                      <a:pt x="10009" y="4"/>
                    </a:cubicBezTo>
                    <a:cubicBezTo>
                      <a:pt x="10009" y="5"/>
                      <a:pt x="10008" y="6"/>
                      <a:pt x="10007" y="6"/>
                    </a:cubicBezTo>
                    <a:lnTo>
                      <a:pt x="10007" y="6"/>
                    </a:lnTo>
                    <a:cubicBezTo>
                      <a:pt x="10006" y="6"/>
                      <a:pt x="10005" y="5"/>
                      <a:pt x="10005" y="4"/>
                    </a:cubicBezTo>
                    <a:cubicBezTo>
                      <a:pt x="10005" y="3"/>
                      <a:pt x="10006" y="2"/>
                      <a:pt x="10007" y="2"/>
                    </a:cubicBezTo>
                    <a:close/>
                    <a:moveTo>
                      <a:pt x="10015" y="2"/>
                    </a:moveTo>
                    <a:lnTo>
                      <a:pt x="10015" y="2"/>
                    </a:lnTo>
                    <a:cubicBezTo>
                      <a:pt x="10016" y="2"/>
                      <a:pt x="10017" y="3"/>
                      <a:pt x="10017" y="4"/>
                    </a:cubicBezTo>
                    <a:cubicBezTo>
                      <a:pt x="10017" y="5"/>
                      <a:pt x="10016" y="6"/>
                      <a:pt x="10015" y="6"/>
                    </a:cubicBezTo>
                    <a:lnTo>
                      <a:pt x="10015" y="6"/>
                    </a:lnTo>
                    <a:cubicBezTo>
                      <a:pt x="10014" y="6"/>
                      <a:pt x="10013" y="5"/>
                      <a:pt x="10013" y="4"/>
                    </a:cubicBezTo>
                    <a:cubicBezTo>
                      <a:pt x="10013" y="3"/>
                      <a:pt x="10014" y="2"/>
                      <a:pt x="10015" y="2"/>
                    </a:cubicBezTo>
                    <a:close/>
                    <a:moveTo>
                      <a:pt x="10023" y="2"/>
                    </a:moveTo>
                    <a:lnTo>
                      <a:pt x="10023" y="2"/>
                    </a:lnTo>
                    <a:cubicBezTo>
                      <a:pt x="10024" y="2"/>
                      <a:pt x="10025" y="3"/>
                      <a:pt x="10025" y="4"/>
                    </a:cubicBezTo>
                    <a:cubicBezTo>
                      <a:pt x="10025" y="5"/>
                      <a:pt x="10024" y="6"/>
                      <a:pt x="10023" y="6"/>
                    </a:cubicBezTo>
                    <a:lnTo>
                      <a:pt x="10023" y="6"/>
                    </a:lnTo>
                    <a:cubicBezTo>
                      <a:pt x="10022" y="6"/>
                      <a:pt x="10021" y="5"/>
                      <a:pt x="10021" y="4"/>
                    </a:cubicBezTo>
                    <a:cubicBezTo>
                      <a:pt x="10021" y="3"/>
                      <a:pt x="10022" y="2"/>
                      <a:pt x="10023" y="2"/>
                    </a:cubicBezTo>
                    <a:close/>
                    <a:moveTo>
                      <a:pt x="10031" y="2"/>
                    </a:moveTo>
                    <a:lnTo>
                      <a:pt x="10031" y="2"/>
                    </a:lnTo>
                    <a:cubicBezTo>
                      <a:pt x="10032" y="2"/>
                      <a:pt x="10033" y="3"/>
                      <a:pt x="10033" y="4"/>
                    </a:cubicBezTo>
                    <a:cubicBezTo>
                      <a:pt x="10033" y="5"/>
                      <a:pt x="10032" y="6"/>
                      <a:pt x="10031" y="6"/>
                    </a:cubicBezTo>
                    <a:lnTo>
                      <a:pt x="10031" y="6"/>
                    </a:lnTo>
                    <a:cubicBezTo>
                      <a:pt x="10030" y="6"/>
                      <a:pt x="10029" y="5"/>
                      <a:pt x="10029" y="4"/>
                    </a:cubicBezTo>
                    <a:cubicBezTo>
                      <a:pt x="10029" y="3"/>
                      <a:pt x="10030" y="2"/>
                      <a:pt x="10031" y="2"/>
                    </a:cubicBezTo>
                    <a:close/>
                    <a:moveTo>
                      <a:pt x="10039" y="2"/>
                    </a:moveTo>
                    <a:lnTo>
                      <a:pt x="10039" y="2"/>
                    </a:lnTo>
                    <a:cubicBezTo>
                      <a:pt x="10040" y="2"/>
                      <a:pt x="10041" y="3"/>
                      <a:pt x="10041" y="4"/>
                    </a:cubicBezTo>
                    <a:cubicBezTo>
                      <a:pt x="10041" y="5"/>
                      <a:pt x="10040" y="6"/>
                      <a:pt x="10039" y="6"/>
                    </a:cubicBezTo>
                    <a:lnTo>
                      <a:pt x="10039" y="6"/>
                    </a:lnTo>
                    <a:cubicBezTo>
                      <a:pt x="10038" y="6"/>
                      <a:pt x="10037" y="5"/>
                      <a:pt x="10037" y="4"/>
                    </a:cubicBezTo>
                    <a:cubicBezTo>
                      <a:pt x="10037" y="3"/>
                      <a:pt x="10038" y="2"/>
                      <a:pt x="10039" y="2"/>
                    </a:cubicBezTo>
                    <a:close/>
                    <a:moveTo>
                      <a:pt x="10047" y="2"/>
                    </a:moveTo>
                    <a:lnTo>
                      <a:pt x="10047" y="2"/>
                    </a:lnTo>
                    <a:cubicBezTo>
                      <a:pt x="10048" y="2"/>
                      <a:pt x="10049" y="3"/>
                      <a:pt x="10049" y="4"/>
                    </a:cubicBezTo>
                    <a:cubicBezTo>
                      <a:pt x="10049" y="5"/>
                      <a:pt x="10048" y="6"/>
                      <a:pt x="10047" y="6"/>
                    </a:cubicBezTo>
                    <a:lnTo>
                      <a:pt x="10047" y="6"/>
                    </a:lnTo>
                    <a:cubicBezTo>
                      <a:pt x="10046" y="6"/>
                      <a:pt x="10045" y="5"/>
                      <a:pt x="10045" y="4"/>
                    </a:cubicBezTo>
                    <a:cubicBezTo>
                      <a:pt x="10045" y="3"/>
                      <a:pt x="10046" y="2"/>
                      <a:pt x="10047" y="2"/>
                    </a:cubicBezTo>
                    <a:close/>
                    <a:moveTo>
                      <a:pt x="10055" y="2"/>
                    </a:moveTo>
                    <a:lnTo>
                      <a:pt x="10055" y="2"/>
                    </a:lnTo>
                    <a:cubicBezTo>
                      <a:pt x="10056" y="2"/>
                      <a:pt x="10057" y="3"/>
                      <a:pt x="10057" y="4"/>
                    </a:cubicBezTo>
                    <a:cubicBezTo>
                      <a:pt x="10057" y="5"/>
                      <a:pt x="10056" y="6"/>
                      <a:pt x="10055" y="6"/>
                    </a:cubicBezTo>
                    <a:lnTo>
                      <a:pt x="10055" y="6"/>
                    </a:lnTo>
                    <a:cubicBezTo>
                      <a:pt x="10054" y="6"/>
                      <a:pt x="10053" y="5"/>
                      <a:pt x="10053" y="4"/>
                    </a:cubicBezTo>
                    <a:cubicBezTo>
                      <a:pt x="10053" y="3"/>
                      <a:pt x="10054" y="2"/>
                      <a:pt x="10055" y="2"/>
                    </a:cubicBezTo>
                    <a:close/>
                    <a:moveTo>
                      <a:pt x="10063" y="2"/>
                    </a:moveTo>
                    <a:lnTo>
                      <a:pt x="10063" y="2"/>
                    </a:lnTo>
                    <a:cubicBezTo>
                      <a:pt x="10064" y="2"/>
                      <a:pt x="10065" y="3"/>
                      <a:pt x="10065" y="4"/>
                    </a:cubicBezTo>
                    <a:cubicBezTo>
                      <a:pt x="10065" y="5"/>
                      <a:pt x="10064" y="6"/>
                      <a:pt x="10063" y="6"/>
                    </a:cubicBezTo>
                    <a:lnTo>
                      <a:pt x="10063" y="6"/>
                    </a:lnTo>
                    <a:cubicBezTo>
                      <a:pt x="10062" y="6"/>
                      <a:pt x="10061" y="5"/>
                      <a:pt x="10061" y="4"/>
                    </a:cubicBezTo>
                    <a:cubicBezTo>
                      <a:pt x="10061" y="3"/>
                      <a:pt x="10062" y="2"/>
                      <a:pt x="10063" y="2"/>
                    </a:cubicBezTo>
                    <a:close/>
                    <a:moveTo>
                      <a:pt x="10071" y="2"/>
                    </a:moveTo>
                    <a:lnTo>
                      <a:pt x="10071" y="2"/>
                    </a:lnTo>
                    <a:cubicBezTo>
                      <a:pt x="10072" y="2"/>
                      <a:pt x="10073" y="3"/>
                      <a:pt x="10073" y="4"/>
                    </a:cubicBezTo>
                    <a:cubicBezTo>
                      <a:pt x="10073" y="5"/>
                      <a:pt x="10072" y="6"/>
                      <a:pt x="10071" y="6"/>
                    </a:cubicBezTo>
                    <a:lnTo>
                      <a:pt x="10071" y="6"/>
                    </a:lnTo>
                    <a:cubicBezTo>
                      <a:pt x="10070" y="6"/>
                      <a:pt x="10069" y="5"/>
                      <a:pt x="10069" y="4"/>
                    </a:cubicBezTo>
                    <a:cubicBezTo>
                      <a:pt x="10069" y="3"/>
                      <a:pt x="10070" y="2"/>
                      <a:pt x="10071" y="2"/>
                    </a:cubicBezTo>
                    <a:close/>
                    <a:moveTo>
                      <a:pt x="10079" y="2"/>
                    </a:moveTo>
                    <a:lnTo>
                      <a:pt x="10079" y="2"/>
                    </a:lnTo>
                    <a:cubicBezTo>
                      <a:pt x="10080" y="2"/>
                      <a:pt x="10081" y="3"/>
                      <a:pt x="10081" y="4"/>
                    </a:cubicBezTo>
                    <a:cubicBezTo>
                      <a:pt x="10081" y="5"/>
                      <a:pt x="10080" y="6"/>
                      <a:pt x="10079" y="6"/>
                    </a:cubicBezTo>
                    <a:lnTo>
                      <a:pt x="10079" y="6"/>
                    </a:lnTo>
                    <a:cubicBezTo>
                      <a:pt x="10078" y="6"/>
                      <a:pt x="10077" y="5"/>
                      <a:pt x="10077" y="4"/>
                    </a:cubicBezTo>
                    <a:cubicBezTo>
                      <a:pt x="10077" y="3"/>
                      <a:pt x="10078" y="2"/>
                      <a:pt x="10079" y="2"/>
                    </a:cubicBezTo>
                    <a:close/>
                    <a:moveTo>
                      <a:pt x="10087" y="2"/>
                    </a:moveTo>
                    <a:lnTo>
                      <a:pt x="10087" y="2"/>
                    </a:lnTo>
                    <a:cubicBezTo>
                      <a:pt x="10088" y="2"/>
                      <a:pt x="10089" y="3"/>
                      <a:pt x="10089" y="4"/>
                    </a:cubicBezTo>
                    <a:cubicBezTo>
                      <a:pt x="10089" y="5"/>
                      <a:pt x="10088" y="6"/>
                      <a:pt x="10087" y="6"/>
                    </a:cubicBezTo>
                    <a:lnTo>
                      <a:pt x="10087" y="6"/>
                    </a:lnTo>
                    <a:cubicBezTo>
                      <a:pt x="10086" y="6"/>
                      <a:pt x="10085" y="5"/>
                      <a:pt x="10085" y="4"/>
                    </a:cubicBezTo>
                    <a:cubicBezTo>
                      <a:pt x="10085" y="3"/>
                      <a:pt x="10086" y="2"/>
                      <a:pt x="10087" y="2"/>
                    </a:cubicBezTo>
                    <a:close/>
                    <a:moveTo>
                      <a:pt x="10095" y="2"/>
                    </a:moveTo>
                    <a:lnTo>
                      <a:pt x="10095" y="2"/>
                    </a:lnTo>
                    <a:cubicBezTo>
                      <a:pt x="10096" y="2"/>
                      <a:pt x="10097" y="3"/>
                      <a:pt x="10097" y="4"/>
                    </a:cubicBezTo>
                    <a:cubicBezTo>
                      <a:pt x="10097" y="5"/>
                      <a:pt x="10096" y="6"/>
                      <a:pt x="10095" y="6"/>
                    </a:cubicBezTo>
                    <a:lnTo>
                      <a:pt x="10095" y="6"/>
                    </a:lnTo>
                    <a:cubicBezTo>
                      <a:pt x="10094" y="6"/>
                      <a:pt x="10093" y="5"/>
                      <a:pt x="10093" y="4"/>
                    </a:cubicBezTo>
                    <a:cubicBezTo>
                      <a:pt x="10093" y="3"/>
                      <a:pt x="10094" y="2"/>
                      <a:pt x="10095" y="2"/>
                    </a:cubicBezTo>
                    <a:close/>
                    <a:moveTo>
                      <a:pt x="10103" y="2"/>
                    </a:moveTo>
                    <a:lnTo>
                      <a:pt x="10103" y="2"/>
                    </a:lnTo>
                    <a:cubicBezTo>
                      <a:pt x="10104" y="2"/>
                      <a:pt x="10105" y="3"/>
                      <a:pt x="10105" y="4"/>
                    </a:cubicBezTo>
                    <a:cubicBezTo>
                      <a:pt x="10105" y="5"/>
                      <a:pt x="10104" y="6"/>
                      <a:pt x="10103" y="6"/>
                    </a:cubicBezTo>
                    <a:lnTo>
                      <a:pt x="10103" y="6"/>
                    </a:lnTo>
                    <a:cubicBezTo>
                      <a:pt x="10102" y="6"/>
                      <a:pt x="10101" y="5"/>
                      <a:pt x="10101" y="4"/>
                    </a:cubicBezTo>
                    <a:cubicBezTo>
                      <a:pt x="10101" y="3"/>
                      <a:pt x="10102" y="2"/>
                      <a:pt x="10103" y="2"/>
                    </a:cubicBezTo>
                    <a:close/>
                    <a:moveTo>
                      <a:pt x="10111" y="2"/>
                    </a:moveTo>
                    <a:lnTo>
                      <a:pt x="10111" y="2"/>
                    </a:lnTo>
                    <a:cubicBezTo>
                      <a:pt x="10112" y="2"/>
                      <a:pt x="10113" y="3"/>
                      <a:pt x="10113" y="4"/>
                    </a:cubicBezTo>
                    <a:cubicBezTo>
                      <a:pt x="10113" y="5"/>
                      <a:pt x="10112" y="6"/>
                      <a:pt x="10111" y="6"/>
                    </a:cubicBezTo>
                    <a:lnTo>
                      <a:pt x="10111" y="6"/>
                    </a:lnTo>
                    <a:cubicBezTo>
                      <a:pt x="10110" y="6"/>
                      <a:pt x="10109" y="5"/>
                      <a:pt x="10109" y="4"/>
                    </a:cubicBezTo>
                    <a:cubicBezTo>
                      <a:pt x="10109" y="3"/>
                      <a:pt x="10110" y="2"/>
                      <a:pt x="10111" y="2"/>
                    </a:cubicBezTo>
                    <a:close/>
                    <a:moveTo>
                      <a:pt x="10119" y="2"/>
                    </a:moveTo>
                    <a:lnTo>
                      <a:pt x="10119" y="2"/>
                    </a:lnTo>
                    <a:cubicBezTo>
                      <a:pt x="10120" y="2"/>
                      <a:pt x="10121" y="3"/>
                      <a:pt x="10121" y="4"/>
                    </a:cubicBezTo>
                    <a:cubicBezTo>
                      <a:pt x="10121" y="5"/>
                      <a:pt x="10120" y="6"/>
                      <a:pt x="10119" y="6"/>
                    </a:cubicBezTo>
                    <a:lnTo>
                      <a:pt x="10119" y="6"/>
                    </a:lnTo>
                    <a:cubicBezTo>
                      <a:pt x="10118" y="6"/>
                      <a:pt x="10117" y="5"/>
                      <a:pt x="10117" y="4"/>
                    </a:cubicBezTo>
                    <a:cubicBezTo>
                      <a:pt x="10117" y="3"/>
                      <a:pt x="10118" y="2"/>
                      <a:pt x="10119" y="2"/>
                    </a:cubicBezTo>
                    <a:close/>
                    <a:moveTo>
                      <a:pt x="10127" y="2"/>
                    </a:moveTo>
                    <a:lnTo>
                      <a:pt x="10127" y="2"/>
                    </a:lnTo>
                    <a:cubicBezTo>
                      <a:pt x="10128" y="2"/>
                      <a:pt x="10129" y="3"/>
                      <a:pt x="10129" y="4"/>
                    </a:cubicBezTo>
                    <a:cubicBezTo>
                      <a:pt x="10129" y="5"/>
                      <a:pt x="10128" y="6"/>
                      <a:pt x="10127" y="6"/>
                    </a:cubicBezTo>
                    <a:lnTo>
                      <a:pt x="10127" y="6"/>
                    </a:lnTo>
                    <a:cubicBezTo>
                      <a:pt x="10126" y="6"/>
                      <a:pt x="10125" y="5"/>
                      <a:pt x="10125" y="4"/>
                    </a:cubicBezTo>
                    <a:cubicBezTo>
                      <a:pt x="10125" y="3"/>
                      <a:pt x="10126" y="2"/>
                      <a:pt x="10127" y="2"/>
                    </a:cubicBezTo>
                    <a:close/>
                    <a:moveTo>
                      <a:pt x="10135" y="2"/>
                    </a:moveTo>
                    <a:lnTo>
                      <a:pt x="10135" y="2"/>
                    </a:lnTo>
                    <a:cubicBezTo>
                      <a:pt x="10136" y="2"/>
                      <a:pt x="10137" y="3"/>
                      <a:pt x="10137" y="4"/>
                    </a:cubicBezTo>
                    <a:cubicBezTo>
                      <a:pt x="10137" y="5"/>
                      <a:pt x="10136" y="6"/>
                      <a:pt x="10135" y="6"/>
                    </a:cubicBezTo>
                    <a:lnTo>
                      <a:pt x="10135" y="6"/>
                    </a:lnTo>
                    <a:cubicBezTo>
                      <a:pt x="10134" y="6"/>
                      <a:pt x="10133" y="5"/>
                      <a:pt x="10133" y="4"/>
                    </a:cubicBezTo>
                    <a:cubicBezTo>
                      <a:pt x="10133" y="3"/>
                      <a:pt x="10134" y="2"/>
                      <a:pt x="10135" y="2"/>
                    </a:cubicBezTo>
                    <a:close/>
                    <a:moveTo>
                      <a:pt x="10143" y="2"/>
                    </a:moveTo>
                    <a:lnTo>
                      <a:pt x="10143" y="2"/>
                    </a:lnTo>
                    <a:cubicBezTo>
                      <a:pt x="10144" y="2"/>
                      <a:pt x="10145" y="3"/>
                      <a:pt x="10145" y="4"/>
                    </a:cubicBezTo>
                    <a:cubicBezTo>
                      <a:pt x="10145" y="5"/>
                      <a:pt x="10144" y="6"/>
                      <a:pt x="10143" y="6"/>
                    </a:cubicBezTo>
                    <a:lnTo>
                      <a:pt x="10143" y="6"/>
                    </a:lnTo>
                    <a:cubicBezTo>
                      <a:pt x="10142" y="6"/>
                      <a:pt x="10141" y="5"/>
                      <a:pt x="10141" y="4"/>
                    </a:cubicBezTo>
                    <a:cubicBezTo>
                      <a:pt x="10141" y="3"/>
                      <a:pt x="10142" y="2"/>
                      <a:pt x="10143" y="2"/>
                    </a:cubicBezTo>
                    <a:close/>
                    <a:moveTo>
                      <a:pt x="10151" y="2"/>
                    </a:moveTo>
                    <a:lnTo>
                      <a:pt x="10151" y="2"/>
                    </a:lnTo>
                    <a:cubicBezTo>
                      <a:pt x="10152" y="2"/>
                      <a:pt x="10153" y="3"/>
                      <a:pt x="10153" y="4"/>
                    </a:cubicBezTo>
                    <a:cubicBezTo>
                      <a:pt x="10153" y="5"/>
                      <a:pt x="10152" y="6"/>
                      <a:pt x="10151" y="6"/>
                    </a:cubicBezTo>
                    <a:lnTo>
                      <a:pt x="10151" y="6"/>
                    </a:lnTo>
                    <a:cubicBezTo>
                      <a:pt x="10150" y="6"/>
                      <a:pt x="10149" y="5"/>
                      <a:pt x="10149" y="4"/>
                    </a:cubicBezTo>
                    <a:cubicBezTo>
                      <a:pt x="10149" y="3"/>
                      <a:pt x="10150" y="2"/>
                      <a:pt x="10151" y="2"/>
                    </a:cubicBezTo>
                    <a:close/>
                    <a:moveTo>
                      <a:pt x="10159" y="2"/>
                    </a:moveTo>
                    <a:lnTo>
                      <a:pt x="10159" y="2"/>
                    </a:lnTo>
                    <a:cubicBezTo>
                      <a:pt x="10160" y="2"/>
                      <a:pt x="10161" y="3"/>
                      <a:pt x="10161" y="4"/>
                    </a:cubicBezTo>
                    <a:cubicBezTo>
                      <a:pt x="10161" y="5"/>
                      <a:pt x="10160" y="6"/>
                      <a:pt x="10159" y="6"/>
                    </a:cubicBezTo>
                    <a:lnTo>
                      <a:pt x="10159" y="6"/>
                    </a:lnTo>
                    <a:cubicBezTo>
                      <a:pt x="10158" y="6"/>
                      <a:pt x="10157" y="5"/>
                      <a:pt x="10157" y="4"/>
                    </a:cubicBezTo>
                    <a:cubicBezTo>
                      <a:pt x="10157" y="3"/>
                      <a:pt x="10158" y="2"/>
                      <a:pt x="10159" y="2"/>
                    </a:cubicBezTo>
                    <a:close/>
                    <a:moveTo>
                      <a:pt x="10167" y="2"/>
                    </a:moveTo>
                    <a:lnTo>
                      <a:pt x="10167" y="2"/>
                    </a:lnTo>
                    <a:cubicBezTo>
                      <a:pt x="10168" y="2"/>
                      <a:pt x="10169" y="3"/>
                      <a:pt x="10169" y="4"/>
                    </a:cubicBezTo>
                    <a:cubicBezTo>
                      <a:pt x="10169" y="5"/>
                      <a:pt x="10168" y="6"/>
                      <a:pt x="10167" y="6"/>
                    </a:cubicBezTo>
                    <a:lnTo>
                      <a:pt x="10167" y="6"/>
                    </a:lnTo>
                    <a:cubicBezTo>
                      <a:pt x="10166" y="6"/>
                      <a:pt x="10165" y="5"/>
                      <a:pt x="10165" y="4"/>
                    </a:cubicBezTo>
                    <a:cubicBezTo>
                      <a:pt x="10165" y="3"/>
                      <a:pt x="10166" y="2"/>
                      <a:pt x="10167" y="2"/>
                    </a:cubicBezTo>
                    <a:close/>
                    <a:moveTo>
                      <a:pt x="10175" y="2"/>
                    </a:moveTo>
                    <a:lnTo>
                      <a:pt x="10175" y="2"/>
                    </a:lnTo>
                    <a:cubicBezTo>
                      <a:pt x="10176" y="2"/>
                      <a:pt x="10177" y="3"/>
                      <a:pt x="10177" y="4"/>
                    </a:cubicBezTo>
                    <a:cubicBezTo>
                      <a:pt x="10177" y="5"/>
                      <a:pt x="10176" y="6"/>
                      <a:pt x="10175" y="6"/>
                    </a:cubicBezTo>
                    <a:lnTo>
                      <a:pt x="10175" y="6"/>
                    </a:lnTo>
                    <a:cubicBezTo>
                      <a:pt x="10174" y="6"/>
                      <a:pt x="10173" y="5"/>
                      <a:pt x="10173" y="4"/>
                    </a:cubicBezTo>
                    <a:cubicBezTo>
                      <a:pt x="10173" y="3"/>
                      <a:pt x="10174" y="2"/>
                      <a:pt x="10175" y="2"/>
                    </a:cubicBezTo>
                    <a:close/>
                    <a:moveTo>
                      <a:pt x="10183" y="2"/>
                    </a:moveTo>
                    <a:lnTo>
                      <a:pt x="10183" y="2"/>
                    </a:lnTo>
                    <a:cubicBezTo>
                      <a:pt x="10184" y="2"/>
                      <a:pt x="10185" y="3"/>
                      <a:pt x="10185" y="4"/>
                    </a:cubicBezTo>
                    <a:cubicBezTo>
                      <a:pt x="10185" y="5"/>
                      <a:pt x="10184" y="6"/>
                      <a:pt x="10183" y="6"/>
                    </a:cubicBezTo>
                    <a:lnTo>
                      <a:pt x="10183" y="6"/>
                    </a:lnTo>
                    <a:cubicBezTo>
                      <a:pt x="10182" y="6"/>
                      <a:pt x="10181" y="5"/>
                      <a:pt x="10181" y="4"/>
                    </a:cubicBezTo>
                    <a:cubicBezTo>
                      <a:pt x="10181" y="3"/>
                      <a:pt x="10182" y="2"/>
                      <a:pt x="10183" y="2"/>
                    </a:cubicBezTo>
                    <a:close/>
                    <a:moveTo>
                      <a:pt x="10191" y="2"/>
                    </a:moveTo>
                    <a:lnTo>
                      <a:pt x="10191" y="2"/>
                    </a:lnTo>
                    <a:cubicBezTo>
                      <a:pt x="10192" y="2"/>
                      <a:pt x="10193" y="3"/>
                      <a:pt x="10193" y="4"/>
                    </a:cubicBezTo>
                    <a:cubicBezTo>
                      <a:pt x="10193" y="5"/>
                      <a:pt x="10192" y="6"/>
                      <a:pt x="10191" y="6"/>
                    </a:cubicBezTo>
                    <a:lnTo>
                      <a:pt x="10191" y="6"/>
                    </a:lnTo>
                    <a:cubicBezTo>
                      <a:pt x="10190" y="6"/>
                      <a:pt x="10189" y="5"/>
                      <a:pt x="10189" y="4"/>
                    </a:cubicBezTo>
                    <a:cubicBezTo>
                      <a:pt x="10189" y="3"/>
                      <a:pt x="10190" y="2"/>
                      <a:pt x="10191" y="2"/>
                    </a:cubicBezTo>
                    <a:close/>
                    <a:moveTo>
                      <a:pt x="10199" y="2"/>
                    </a:moveTo>
                    <a:lnTo>
                      <a:pt x="10199" y="2"/>
                    </a:lnTo>
                    <a:cubicBezTo>
                      <a:pt x="10200" y="2"/>
                      <a:pt x="10201" y="3"/>
                      <a:pt x="10201" y="4"/>
                    </a:cubicBezTo>
                    <a:cubicBezTo>
                      <a:pt x="10201" y="5"/>
                      <a:pt x="10200" y="6"/>
                      <a:pt x="10199" y="6"/>
                    </a:cubicBezTo>
                    <a:lnTo>
                      <a:pt x="10199" y="6"/>
                    </a:lnTo>
                    <a:cubicBezTo>
                      <a:pt x="10198" y="6"/>
                      <a:pt x="10197" y="5"/>
                      <a:pt x="10197" y="4"/>
                    </a:cubicBezTo>
                    <a:cubicBezTo>
                      <a:pt x="10197" y="3"/>
                      <a:pt x="10198" y="2"/>
                      <a:pt x="10199" y="2"/>
                    </a:cubicBezTo>
                    <a:close/>
                    <a:moveTo>
                      <a:pt x="10207" y="2"/>
                    </a:moveTo>
                    <a:lnTo>
                      <a:pt x="10207" y="2"/>
                    </a:lnTo>
                    <a:cubicBezTo>
                      <a:pt x="10208" y="2"/>
                      <a:pt x="10209" y="3"/>
                      <a:pt x="10209" y="4"/>
                    </a:cubicBezTo>
                    <a:cubicBezTo>
                      <a:pt x="10209" y="5"/>
                      <a:pt x="10208" y="6"/>
                      <a:pt x="10207" y="6"/>
                    </a:cubicBezTo>
                    <a:lnTo>
                      <a:pt x="10207" y="6"/>
                    </a:lnTo>
                    <a:cubicBezTo>
                      <a:pt x="10206" y="6"/>
                      <a:pt x="10205" y="5"/>
                      <a:pt x="10205" y="4"/>
                    </a:cubicBezTo>
                    <a:cubicBezTo>
                      <a:pt x="10205" y="3"/>
                      <a:pt x="10206" y="2"/>
                      <a:pt x="10207" y="2"/>
                    </a:cubicBezTo>
                    <a:close/>
                    <a:moveTo>
                      <a:pt x="10215" y="2"/>
                    </a:moveTo>
                    <a:lnTo>
                      <a:pt x="10215" y="2"/>
                    </a:lnTo>
                    <a:cubicBezTo>
                      <a:pt x="10216" y="2"/>
                      <a:pt x="10217" y="3"/>
                      <a:pt x="10217" y="4"/>
                    </a:cubicBezTo>
                    <a:cubicBezTo>
                      <a:pt x="10217" y="5"/>
                      <a:pt x="10216" y="6"/>
                      <a:pt x="10215" y="6"/>
                    </a:cubicBezTo>
                    <a:lnTo>
                      <a:pt x="10215" y="6"/>
                    </a:lnTo>
                    <a:cubicBezTo>
                      <a:pt x="10214" y="6"/>
                      <a:pt x="10213" y="5"/>
                      <a:pt x="10213" y="4"/>
                    </a:cubicBezTo>
                    <a:cubicBezTo>
                      <a:pt x="10213" y="3"/>
                      <a:pt x="10214" y="2"/>
                      <a:pt x="10215" y="2"/>
                    </a:cubicBezTo>
                    <a:close/>
                    <a:moveTo>
                      <a:pt x="10223" y="2"/>
                    </a:moveTo>
                    <a:lnTo>
                      <a:pt x="10223" y="2"/>
                    </a:lnTo>
                    <a:cubicBezTo>
                      <a:pt x="10224" y="2"/>
                      <a:pt x="10225" y="3"/>
                      <a:pt x="10225" y="4"/>
                    </a:cubicBezTo>
                    <a:cubicBezTo>
                      <a:pt x="10225" y="5"/>
                      <a:pt x="10224" y="6"/>
                      <a:pt x="10223" y="6"/>
                    </a:cubicBezTo>
                    <a:lnTo>
                      <a:pt x="10223" y="6"/>
                    </a:lnTo>
                    <a:cubicBezTo>
                      <a:pt x="10222" y="6"/>
                      <a:pt x="10221" y="5"/>
                      <a:pt x="10221" y="4"/>
                    </a:cubicBezTo>
                    <a:cubicBezTo>
                      <a:pt x="10221" y="3"/>
                      <a:pt x="10222" y="2"/>
                      <a:pt x="10223" y="2"/>
                    </a:cubicBezTo>
                    <a:close/>
                    <a:moveTo>
                      <a:pt x="10231" y="2"/>
                    </a:moveTo>
                    <a:lnTo>
                      <a:pt x="10231" y="2"/>
                    </a:lnTo>
                    <a:cubicBezTo>
                      <a:pt x="10232" y="2"/>
                      <a:pt x="10233" y="3"/>
                      <a:pt x="10233" y="4"/>
                    </a:cubicBezTo>
                    <a:cubicBezTo>
                      <a:pt x="10233" y="5"/>
                      <a:pt x="10232" y="6"/>
                      <a:pt x="10231" y="6"/>
                    </a:cubicBezTo>
                    <a:lnTo>
                      <a:pt x="10231" y="6"/>
                    </a:lnTo>
                    <a:cubicBezTo>
                      <a:pt x="10230" y="6"/>
                      <a:pt x="10229" y="5"/>
                      <a:pt x="10229" y="4"/>
                    </a:cubicBezTo>
                    <a:cubicBezTo>
                      <a:pt x="10229" y="3"/>
                      <a:pt x="10230" y="2"/>
                      <a:pt x="10231" y="2"/>
                    </a:cubicBezTo>
                    <a:close/>
                    <a:moveTo>
                      <a:pt x="10239" y="2"/>
                    </a:moveTo>
                    <a:lnTo>
                      <a:pt x="10239" y="2"/>
                    </a:lnTo>
                    <a:cubicBezTo>
                      <a:pt x="10240" y="2"/>
                      <a:pt x="10241" y="3"/>
                      <a:pt x="10241" y="4"/>
                    </a:cubicBezTo>
                    <a:cubicBezTo>
                      <a:pt x="10241" y="5"/>
                      <a:pt x="10240" y="6"/>
                      <a:pt x="10239" y="6"/>
                    </a:cubicBezTo>
                    <a:lnTo>
                      <a:pt x="10239" y="6"/>
                    </a:lnTo>
                    <a:cubicBezTo>
                      <a:pt x="10238" y="6"/>
                      <a:pt x="10237" y="5"/>
                      <a:pt x="10237" y="4"/>
                    </a:cubicBezTo>
                    <a:cubicBezTo>
                      <a:pt x="10237" y="3"/>
                      <a:pt x="10238" y="2"/>
                      <a:pt x="10239" y="2"/>
                    </a:cubicBezTo>
                    <a:close/>
                    <a:moveTo>
                      <a:pt x="10247" y="2"/>
                    </a:moveTo>
                    <a:lnTo>
                      <a:pt x="10247" y="2"/>
                    </a:lnTo>
                    <a:cubicBezTo>
                      <a:pt x="10248" y="2"/>
                      <a:pt x="10249" y="3"/>
                      <a:pt x="10249" y="4"/>
                    </a:cubicBezTo>
                    <a:cubicBezTo>
                      <a:pt x="10249" y="5"/>
                      <a:pt x="10248" y="6"/>
                      <a:pt x="10247" y="6"/>
                    </a:cubicBezTo>
                    <a:lnTo>
                      <a:pt x="10247" y="6"/>
                    </a:lnTo>
                    <a:cubicBezTo>
                      <a:pt x="10246" y="6"/>
                      <a:pt x="10245" y="5"/>
                      <a:pt x="10245" y="4"/>
                    </a:cubicBezTo>
                    <a:cubicBezTo>
                      <a:pt x="10245" y="3"/>
                      <a:pt x="10246" y="2"/>
                      <a:pt x="10247" y="2"/>
                    </a:cubicBezTo>
                    <a:close/>
                    <a:moveTo>
                      <a:pt x="10255" y="2"/>
                    </a:moveTo>
                    <a:lnTo>
                      <a:pt x="10255" y="2"/>
                    </a:lnTo>
                    <a:cubicBezTo>
                      <a:pt x="10256" y="2"/>
                      <a:pt x="10257" y="3"/>
                      <a:pt x="10257" y="4"/>
                    </a:cubicBezTo>
                    <a:cubicBezTo>
                      <a:pt x="10257" y="5"/>
                      <a:pt x="10256" y="6"/>
                      <a:pt x="10255" y="6"/>
                    </a:cubicBezTo>
                    <a:lnTo>
                      <a:pt x="10255" y="6"/>
                    </a:lnTo>
                    <a:cubicBezTo>
                      <a:pt x="10254" y="6"/>
                      <a:pt x="10253" y="5"/>
                      <a:pt x="10253" y="4"/>
                    </a:cubicBezTo>
                    <a:cubicBezTo>
                      <a:pt x="10253" y="3"/>
                      <a:pt x="10254" y="2"/>
                      <a:pt x="10255" y="2"/>
                    </a:cubicBezTo>
                    <a:close/>
                    <a:moveTo>
                      <a:pt x="10263" y="2"/>
                    </a:moveTo>
                    <a:lnTo>
                      <a:pt x="10263" y="2"/>
                    </a:lnTo>
                    <a:cubicBezTo>
                      <a:pt x="10264" y="2"/>
                      <a:pt x="10265" y="3"/>
                      <a:pt x="10265" y="4"/>
                    </a:cubicBezTo>
                    <a:cubicBezTo>
                      <a:pt x="10265" y="5"/>
                      <a:pt x="10264" y="6"/>
                      <a:pt x="10263" y="6"/>
                    </a:cubicBezTo>
                    <a:lnTo>
                      <a:pt x="10263" y="6"/>
                    </a:lnTo>
                    <a:cubicBezTo>
                      <a:pt x="10262" y="6"/>
                      <a:pt x="10261" y="5"/>
                      <a:pt x="10261" y="4"/>
                    </a:cubicBezTo>
                    <a:cubicBezTo>
                      <a:pt x="10261" y="3"/>
                      <a:pt x="10262" y="2"/>
                      <a:pt x="10263" y="2"/>
                    </a:cubicBezTo>
                    <a:close/>
                    <a:moveTo>
                      <a:pt x="10271" y="2"/>
                    </a:moveTo>
                    <a:lnTo>
                      <a:pt x="10271" y="2"/>
                    </a:lnTo>
                    <a:cubicBezTo>
                      <a:pt x="10272" y="2"/>
                      <a:pt x="10273" y="3"/>
                      <a:pt x="10273" y="4"/>
                    </a:cubicBezTo>
                    <a:cubicBezTo>
                      <a:pt x="10273" y="5"/>
                      <a:pt x="10272" y="6"/>
                      <a:pt x="10271" y="6"/>
                    </a:cubicBezTo>
                    <a:lnTo>
                      <a:pt x="10271" y="6"/>
                    </a:lnTo>
                    <a:cubicBezTo>
                      <a:pt x="10270" y="6"/>
                      <a:pt x="10269" y="5"/>
                      <a:pt x="10269" y="4"/>
                    </a:cubicBezTo>
                    <a:cubicBezTo>
                      <a:pt x="10269" y="3"/>
                      <a:pt x="10270" y="2"/>
                      <a:pt x="10271" y="2"/>
                    </a:cubicBezTo>
                    <a:close/>
                    <a:moveTo>
                      <a:pt x="10279" y="2"/>
                    </a:moveTo>
                    <a:lnTo>
                      <a:pt x="10279" y="2"/>
                    </a:lnTo>
                    <a:cubicBezTo>
                      <a:pt x="10280" y="2"/>
                      <a:pt x="10281" y="3"/>
                      <a:pt x="10281" y="4"/>
                    </a:cubicBezTo>
                    <a:cubicBezTo>
                      <a:pt x="10281" y="5"/>
                      <a:pt x="10280" y="6"/>
                      <a:pt x="10279" y="6"/>
                    </a:cubicBezTo>
                    <a:lnTo>
                      <a:pt x="10279" y="6"/>
                    </a:lnTo>
                    <a:cubicBezTo>
                      <a:pt x="10278" y="6"/>
                      <a:pt x="10277" y="5"/>
                      <a:pt x="10277" y="4"/>
                    </a:cubicBezTo>
                    <a:cubicBezTo>
                      <a:pt x="10277" y="3"/>
                      <a:pt x="10278" y="2"/>
                      <a:pt x="10279" y="2"/>
                    </a:cubicBezTo>
                    <a:close/>
                    <a:moveTo>
                      <a:pt x="10287" y="2"/>
                    </a:moveTo>
                    <a:lnTo>
                      <a:pt x="10287" y="2"/>
                    </a:lnTo>
                    <a:cubicBezTo>
                      <a:pt x="10288" y="2"/>
                      <a:pt x="10289" y="3"/>
                      <a:pt x="10289" y="4"/>
                    </a:cubicBezTo>
                    <a:cubicBezTo>
                      <a:pt x="10289" y="5"/>
                      <a:pt x="10288" y="6"/>
                      <a:pt x="10287" y="6"/>
                    </a:cubicBezTo>
                    <a:lnTo>
                      <a:pt x="10287" y="6"/>
                    </a:lnTo>
                    <a:cubicBezTo>
                      <a:pt x="10286" y="6"/>
                      <a:pt x="10285" y="5"/>
                      <a:pt x="10285" y="4"/>
                    </a:cubicBezTo>
                    <a:cubicBezTo>
                      <a:pt x="10285" y="3"/>
                      <a:pt x="10286" y="2"/>
                      <a:pt x="10287" y="2"/>
                    </a:cubicBezTo>
                    <a:close/>
                    <a:moveTo>
                      <a:pt x="10295" y="2"/>
                    </a:moveTo>
                    <a:lnTo>
                      <a:pt x="10295" y="2"/>
                    </a:lnTo>
                    <a:cubicBezTo>
                      <a:pt x="10296" y="2"/>
                      <a:pt x="10297" y="3"/>
                      <a:pt x="10297" y="4"/>
                    </a:cubicBezTo>
                    <a:cubicBezTo>
                      <a:pt x="10297" y="5"/>
                      <a:pt x="10296" y="6"/>
                      <a:pt x="10295" y="6"/>
                    </a:cubicBezTo>
                    <a:lnTo>
                      <a:pt x="10295" y="6"/>
                    </a:lnTo>
                    <a:cubicBezTo>
                      <a:pt x="10294" y="6"/>
                      <a:pt x="10293" y="5"/>
                      <a:pt x="10293" y="4"/>
                    </a:cubicBezTo>
                    <a:cubicBezTo>
                      <a:pt x="10293" y="3"/>
                      <a:pt x="10294" y="2"/>
                      <a:pt x="10295" y="2"/>
                    </a:cubicBezTo>
                    <a:close/>
                    <a:moveTo>
                      <a:pt x="10303" y="2"/>
                    </a:moveTo>
                    <a:lnTo>
                      <a:pt x="10303" y="2"/>
                    </a:lnTo>
                    <a:cubicBezTo>
                      <a:pt x="10304" y="2"/>
                      <a:pt x="10305" y="3"/>
                      <a:pt x="10305" y="4"/>
                    </a:cubicBezTo>
                    <a:cubicBezTo>
                      <a:pt x="10305" y="5"/>
                      <a:pt x="10304" y="6"/>
                      <a:pt x="10303" y="6"/>
                    </a:cubicBezTo>
                    <a:lnTo>
                      <a:pt x="10303" y="6"/>
                    </a:lnTo>
                    <a:cubicBezTo>
                      <a:pt x="10302" y="6"/>
                      <a:pt x="10301" y="5"/>
                      <a:pt x="10301" y="4"/>
                    </a:cubicBezTo>
                    <a:cubicBezTo>
                      <a:pt x="10301" y="3"/>
                      <a:pt x="10302" y="2"/>
                      <a:pt x="10303" y="2"/>
                    </a:cubicBezTo>
                    <a:close/>
                    <a:moveTo>
                      <a:pt x="10311" y="2"/>
                    </a:moveTo>
                    <a:lnTo>
                      <a:pt x="10311" y="2"/>
                    </a:lnTo>
                    <a:cubicBezTo>
                      <a:pt x="10312" y="2"/>
                      <a:pt x="10313" y="3"/>
                      <a:pt x="10313" y="4"/>
                    </a:cubicBezTo>
                    <a:cubicBezTo>
                      <a:pt x="10313" y="5"/>
                      <a:pt x="10312" y="6"/>
                      <a:pt x="10311" y="6"/>
                    </a:cubicBezTo>
                    <a:lnTo>
                      <a:pt x="10311" y="6"/>
                    </a:lnTo>
                    <a:cubicBezTo>
                      <a:pt x="10310" y="6"/>
                      <a:pt x="10309" y="5"/>
                      <a:pt x="10309" y="4"/>
                    </a:cubicBezTo>
                    <a:cubicBezTo>
                      <a:pt x="10309" y="3"/>
                      <a:pt x="10310" y="2"/>
                      <a:pt x="10311" y="2"/>
                    </a:cubicBezTo>
                    <a:close/>
                    <a:moveTo>
                      <a:pt x="10319" y="2"/>
                    </a:moveTo>
                    <a:lnTo>
                      <a:pt x="10319" y="2"/>
                    </a:lnTo>
                    <a:cubicBezTo>
                      <a:pt x="10320" y="2"/>
                      <a:pt x="10321" y="3"/>
                      <a:pt x="10321" y="4"/>
                    </a:cubicBezTo>
                    <a:cubicBezTo>
                      <a:pt x="10321" y="5"/>
                      <a:pt x="10320" y="6"/>
                      <a:pt x="10319" y="6"/>
                    </a:cubicBezTo>
                    <a:lnTo>
                      <a:pt x="10319" y="6"/>
                    </a:lnTo>
                    <a:cubicBezTo>
                      <a:pt x="10318" y="6"/>
                      <a:pt x="10317" y="5"/>
                      <a:pt x="10317" y="4"/>
                    </a:cubicBezTo>
                    <a:cubicBezTo>
                      <a:pt x="10317" y="3"/>
                      <a:pt x="10318" y="2"/>
                      <a:pt x="10319" y="2"/>
                    </a:cubicBezTo>
                    <a:close/>
                    <a:moveTo>
                      <a:pt x="10327" y="2"/>
                    </a:moveTo>
                    <a:lnTo>
                      <a:pt x="10327" y="2"/>
                    </a:lnTo>
                    <a:cubicBezTo>
                      <a:pt x="10328" y="2"/>
                      <a:pt x="10329" y="3"/>
                      <a:pt x="10329" y="4"/>
                    </a:cubicBezTo>
                    <a:cubicBezTo>
                      <a:pt x="10329" y="5"/>
                      <a:pt x="10328" y="6"/>
                      <a:pt x="10327" y="6"/>
                    </a:cubicBezTo>
                    <a:lnTo>
                      <a:pt x="10327" y="6"/>
                    </a:lnTo>
                    <a:cubicBezTo>
                      <a:pt x="10326" y="6"/>
                      <a:pt x="10325" y="5"/>
                      <a:pt x="10325" y="4"/>
                    </a:cubicBezTo>
                    <a:cubicBezTo>
                      <a:pt x="10325" y="3"/>
                      <a:pt x="10326" y="2"/>
                      <a:pt x="10327" y="2"/>
                    </a:cubicBezTo>
                    <a:close/>
                    <a:moveTo>
                      <a:pt x="10335" y="2"/>
                    </a:moveTo>
                    <a:lnTo>
                      <a:pt x="10335" y="2"/>
                    </a:lnTo>
                    <a:cubicBezTo>
                      <a:pt x="10336" y="2"/>
                      <a:pt x="10337" y="3"/>
                      <a:pt x="10337" y="4"/>
                    </a:cubicBezTo>
                    <a:cubicBezTo>
                      <a:pt x="10337" y="5"/>
                      <a:pt x="10336" y="6"/>
                      <a:pt x="10335" y="6"/>
                    </a:cubicBezTo>
                    <a:lnTo>
                      <a:pt x="10335" y="6"/>
                    </a:lnTo>
                    <a:cubicBezTo>
                      <a:pt x="10334" y="6"/>
                      <a:pt x="10333" y="5"/>
                      <a:pt x="10333" y="4"/>
                    </a:cubicBezTo>
                    <a:cubicBezTo>
                      <a:pt x="10333" y="3"/>
                      <a:pt x="10334" y="2"/>
                      <a:pt x="10335" y="2"/>
                    </a:cubicBezTo>
                    <a:close/>
                    <a:moveTo>
                      <a:pt x="10343" y="2"/>
                    </a:moveTo>
                    <a:lnTo>
                      <a:pt x="10343" y="2"/>
                    </a:lnTo>
                    <a:cubicBezTo>
                      <a:pt x="10344" y="2"/>
                      <a:pt x="10345" y="3"/>
                      <a:pt x="10345" y="4"/>
                    </a:cubicBezTo>
                    <a:cubicBezTo>
                      <a:pt x="10345" y="5"/>
                      <a:pt x="10344" y="6"/>
                      <a:pt x="10343" y="6"/>
                    </a:cubicBezTo>
                    <a:lnTo>
                      <a:pt x="10343" y="6"/>
                    </a:lnTo>
                    <a:cubicBezTo>
                      <a:pt x="10342" y="6"/>
                      <a:pt x="10341" y="5"/>
                      <a:pt x="10341" y="4"/>
                    </a:cubicBezTo>
                    <a:cubicBezTo>
                      <a:pt x="10341" y="3"/>
                      <a:pt x="10342" y="2"/>
                      <a:pt x="10343" y="2"/>
                    </a:cubicBezTo>
                    <a:close/>
                    <a:moveTo>
                      <a:pt x="10351" y="2"/>
                    </a:moveTo>
                    <a:lnTo>
                      <a:pt x="10351" y="2"/>
                    </a:lnTo>
                    <a:cubicBezTo>
                      <a:pt x="10352" y="2"/>
                      <a:pt x="10353" y="3"/>
                      <a:pt x="10353" y="4"/>
                    </a:cubicBezTo>
                    <a:cubicBezTo>
                      <a:pt x="10353" y="5"/>
                      <a:pt x="10352" y="6"/>
                      <a:pt x="10351" y="6"/>
                    </a:cubicBezTo>
                    <a:lnTo>
                      <a:pt x="10351" y="6"/>
                    </a:lnTo>
                    <a:cubicBezTo>
                      <a:pt x="10350" y="6"/>
                      <a:pt x="10349" y="5"/>
                      <a:pt x="10349" y="4"/>
                    </a:cubicBezTo>
                    <a:cubicBezTo>
                      <a:pt x="10349" y="3"/>
                      <a:pt x="10350" y="2"/>
                      <a:pt x="10351" y="2"/>
                    </a:cubicBezTo>
                    <a:close/>
                    <a:moveTo>
                      <a:pt x="10359" y="2"/>
                    </a:moveTo>
                    <a:lnTo>
                      <a:pt x="10359" y="2"/>
                    </a:lnTo>
                    <a:cubicBezTo>
                      <a:pt x="10360" y="2"/>
                      <a:pt x="10361" y="3"/>
                      <a:pt x="10361" y="4"/>
                    </a:cubicBezTo>
                    <a:cubicBezTo>
                      <a:pt x="10361" y="5"/>
                      <a:pt x="10360" y="6"/>
                      <a:pt x="10359" y="6"/>
                    </a:cubicBezTo>
                    <a:lnTo>
                      <a:pt x="10359" y="6"/>
                    </a:lnTo>
                    <a:cubicBezTo>
                      <a:pt x="10358" y="6"/>
                      <a:pt x="10357" y="5"/>
                      <a:pt x="10357" y="4"/>
                    </a:cubicBezTo>
                    <a:cubicBezTo>
                      <a:pt x="10357" y="3"/>
                      <a:pt x="10358" y="2"/>
                      <a:pt x="10359" y="2"/>
                    </a:cubicBezTo>
                    <a:close/>
                    <a:moveTo>
                      <a:pt x="10367" y="2"/>
                    </a:moveTo>
                    <a:lnTo>
                      <a:pt x="10367" y="2"/>
                    </a:lnTo>
                    <a:cubicBezTo>
                      <a:pt x="10368" y="2"/>
                      <a:pt x="10369" y="3"/>
                      <a:pt x="10369" y="4"/>
                    </a:cubicBezTo>
                    <a:cubicBezTo>
                      <a:pt x="10369" y="5"/>
                      <a:pt x="10368" y="6"/>
                      <a:pt x="10367" y="6"/>
                    </a:cubicBezTo>
                    <a:lnTo>
                      <a:pt x="10367" y="6"/>
                    </a:lnTo>
                    <a:cubicBezTo>
                      <a:pt x="10366" y="6"/>
                      <a:pt x="10365" y="5"/>
                      <a:pt x="10365" y="4"/>
                    </a:cubicBezTo>
                    <a:cubicBezTo>
                      <a:pt x="10365" y="3"/>
                      <a:pt x="10366" y="2"/>
                      <a:pt x="10367" y="2"/>
                    </a:cubicBezTo>
                    <a:close/>
                    <a:moveTo>
                      <a:pt x="10375" y="2"/>
                    </a:moveTo>
                    <a:lnTo>
                      <a:pt x="10375" y="2"/>
                    </a:lnTo>
                    <a:cubicBezTo>
                      <a:pt x="10376" y="2"/>
                      <a:pt x="10377" y="3"/>
                      <a:pt x="10377" y="4"/>
                    </a:cubicBezTo>
                    <a:cubicBezTo>
                      <a:pt x="10377" y="5"/>
                      <a:pt x="10376" y="6"/>
                      <a:pt x="10375" y="6"/>
                    </a:cubicBezTo>
                    <a:lnTo>
                      <a:pt x="10375" y="6"/>
                    </a:lnTo>
                    <a:cubicBezTo>
                      <a:pt x="10374" y="6"/>
                      <a:pt x="10373" y="5"/>
                      <a:pt x="10373" y="4"/>
                    </a:cubicBezTo>
                    <a:cubicBezTo>
                      <a:pt x="10373" y="3"/>
                      <a:pt x="10374" y="2"/>
                      <a:pt x="10375" y="2"/>
                    </a:cubicBezTo>
                    <a:close/>
                    <a:moveTo>
                      <a:pt x="10383" y="2"/>
                    </a:moveTo>
                    <a:lnTo>
                      <a:pt x="10383" y="2"/>
                    </a:lnTo>
                    <a:cubicBezTo>
                      <a:pt x="10384" y="2"/>
                      <a:pt x="10385" y="3"/>
                      <a:pt x="10385" y="4"/>
                    </a:cubicBezTo>
                    <a:cubicBezTo>
                      <a:pt x="10385" y="5"/>
                      <a:pt x="10384" y="6"/>
                      <a:pt x="10383" y="6"/>
                    </a:cubicBezTo>
                    <a:lnTo>
                      <a:pt x="10383" y="6"/>
                    </a:lnTo>
                    <a:cubicBezTo>
                      <a:pt x="10382" y="6"/>
                      <a:pt x="10381" y="5"/>
                      <a:pt x="10381" y="4"/>
                    </a:cubicBezTo>
                    <a:cubicBezTo>
                      <a:pt x="10381" y="3"/>
                      <a:pt x="10382" y="2"/>
                      <a:pt x="10383" y="2"/>
                    </a:cubicBezTo>
                    <a:close/>
                    <a:moveTo>
                      <a:pt x="10391" y="2"/>
                    </a:moveTo>
                    <a:lnTo>
                      <a:pt x="10391" y="2"/>
                    </a:lnTo>
                    <a:cubicBezTo>
                      <a:pt x="10392" y="2"/>
                      <a:pt x="10393" y="3"/>
                      <a:pt x="10393" y="4"/>
                    </a:cubicBezTo>
                    <a:cubicBezTo>
                      <a:pt x="10393" y="5"/>
                      <a:pt x="10392" y="6"/>
                      <a:pt x="10391" y="6"/>
                    </a:cubicBezTo>
                    <a:lnTo>
                      <a:pt x="10391" y="6"/>
                    </a:lnTo>
                    <a:cubicBezTo>
                      <a:pt x="10390" y="6"/>
                      <a:pt x="10389" y="5"/>
                      <a:pt x="10389" y="4"/>
                    </a:cubicBezTo>
                    <a:cubicBezTo>
                      <a:pt x="10389" y="3"/>
                      <a:pt x="10390" y="2"/>
                      <a:pt x="10391" y="2"/>
                    </a:cubicBezTo>
                    <a:close/>
                    <a:moveTo>
                      <a:pt x="10399" y="2"/>
                    </a:moveTo>
                    <a:lnTo>
                      <a:pt x="10399" y="2"/>
                    </a:lnTo>
                    <a:cubicBezTo>
                      <a:pt x="10400" y="2"/>
                      <a:pt x="10401" y="3"/>
                      <a:pt x="10401" y="4"/>
                    </a:cubicBezTo>
                    <a:cubicBezTo>
                      <a:pt x="10401" y="5"/>
                      <a:pt x="10400" y="6"/>
                      <a:pt x="10399" y="6"/>
                    </a:cubicBezTo>
                    <a:lnTo>
                      <a:pt x="10399" y="6"/>
                    </a:lnTo>
                    <a:cubicBezTo>
                      <a:pt x="10398" y="6"/>
                      <a:pt x="10397" y="5"/>
                      <a:pt x="10397" y="4"/>
                    </a:cubicBezTo>
                    <a:cubicBezTo>
                      <a:pt x="10397" y="3"/>
                      <a:pt x="10398" y="2"/>
                      <a:pt x="10399" y="2"/>
                    </a:cubicBezTo>
                    <a:close/>
                    <a:moveTo>
                      <a:pt x="10407" y="2"/>
                    </a:moveTo>
                    <a:lnTo>
                      <a:pt x="10407" y="2"/>
                    </a:lnTo>
                    <a:cubicBezTo>
                      <a:pt x="10408" y="2"/>
                      <a:pt x="10409" y="3"/>
                      <a:pt x="10409" y="4"/>
                    </a:cubicBezTo>
                    <a:cubicBezTo>
                      <a:pt x="10409" y="5"/>
                      <a:pt x="10408" y="6"/>
                      <a:pt x="10407" y="6"/>
                    </a:cubicBezTo>
                    <a:lnTo>
                      <a:pt x="10407" y="6"/>
                    </a:lnTo>
                    <a:cubicBezTo>
                      <a:pt x="10406" y="6"/>
                      <a:pt x="10405" y="5"/>
                      <a:pt x="10405" y="4"/>
                    </a:cubicBezTo>
                    <a:cubicBezTo>
                      <a:pt x="10405" y="3"/>
                      <a:pt x="10406" y="2"/>
                      <a:pt x="10407" y="2"/>
                    </a:cubicBezTo>
                    <a:close/>
                    <a:moveTo>
                      <a:pt x="10415" y="2"/>
                    </a:moveTo>
                    <a:lnTo>
                      <a:pt x="10415" y="2"/>
                    </a:lnTo>
                    <a:cubicBezTo>
                      <a:pt x="10416" y="2"/>
                      <a:pt x="10417" y="3"/>
                      <a:pt x="10417" y="4"/>
                    </a:cubicBezTo>
                    <a:cubicBezTo>
                      <a:pt x="10417" y="5"/>
                      <a:pt x="10416" y="6"/>
                      <a:pt x="10415" y="6"/>
                    </a:cubicBezTo>
                    <a:lnTo>
                      <a:pt x="10415" y="6"/>
                    </a:lnTo>
                    <a:cubicBezTo>
                      <a:pt x="10414" y="6"/>
                      <a:pt x="10413" y="5"/>
                      <a:pt x="10413" y="4"/>
                    </a:cubicBezTo>
                    <a:cubicBezTo>
                      <a:pt x="10413" y="3"/>
                      <a:pt x="10414" y="2"/>
                      <a:pt x="10415" y="2"/>
                    </a:cubicBezTo>
                    <a:close/>
                    <a:moveTo>
                      <a:pt x="10423" y="2"/>
                    </a:moveTo>
                    <a:lnTo>
                      <a:pt x="10423" y="2"/>
                    </a:lnTo>
                    <a:cubicBezTo>
                      <a:pt x="10424" y="2"/>
                      <a:pt x="10425" y="3"/>
                      <a:pt x="10425" y="4"/>
                    </a:cubicBezTo>
                    <a:cubicBezTo>
                      <a:pt x="10425" y="5"/>
                      <a:pt x="10424" y="6"/>
                      <a:pt x="10423" y="6"/>
                    </a:cubicBezTo>
                    <a:lnTo>
                      <a:pt x="10423" y="6"/>
                    </a:lnTo>
                    <a:cubicBezTo>
                      <a:pt x="10422" y="6"/>
                      <a:pt x="10421" y="5"/>
                      <a:pt x="10421" y="4"/>
                    </a:cubicBezTo>
                    <a:cubicBezTo>
                      <a:pt x="10421" y="3"/>
                      <a:pt x="10422" y="2"/>
                      <a:pt x="10423" y="2"/>
                    </a:cubicBezTo>
                    <a:close/>
                    <a:moveTo>
                      <a:pt x="10431" y="2"/>
                    </a:moveTo>
                    <a:lnTo>
                      <a:pt x="10431" y="2"/>
                    </a:lnTo>
                    <a:cubicBezTo>
                      <a:pt x="10432" y="2"/>
                      <a:pt x="10433" y="3"/>
                      <a:pt x="10433" y="4"/>
                    </a:cubicBezTo>
                    <a:cubicBezTo>
                      <a:pt x="10433" y="5"/>
                      <a:pt x="10432" y="6"/>
                      <a:pt x="10431" y="6"/>
                    </a:cubicBezTo>
                    <a:lnTo>
                      <a:pt x="10431" y="6"/>
                    </a:lnTo>
                    <a:cubicBezTo>
                      <a:pt x="10430" y="6"/>
                      <a:pt x="10429" y="5"/>
                      <a:pt x="10429" y="4"/>
                    </a:cubicBezTo>
                    <a:cubicBezTo>
                      <a:pt x="10429" y="3"/>
                      <a:pt x="10430" y="2"/>
                      <a:pt x="10431" y="2"/>
                    </a:cubicBezTo>
                    <a:close/>
                    <a:moveTo>
                      <a:pt x="10439" y="2"/>
                    </a:moveTo>
                    <a:lnTo>
                      <a:pt x="10439" y="2"/>
                    </a:lnTo>
                    <a:cubicBezTo>
                      <a:pt x="10440" y="2"/>
                      <a:pt x="10441" y="3"/>
                      <a:pt x="10441" y="4"/>
                    </a:cubicBezTo>
                    <a:cubicBezTo>
                      <a:pt x="10441" y="5"/>
                      <a:pt x="10440" y="6"/>
                      <a:pt x="10439" y="6"/>
                    </a:cubicBezTo>
                    <a:lnTo>
                      <a:pt x="10439" y="6"/>
                    </a:lnTo>
                    <a:cubicBezTo>
                      <a:pt x="10438" y="6"/>
                      <a:pt x="10437" y="5"/>
                      <a:pt x="10437" y="4"/>
                    </a:cubicBezTo>
                    <a:cubicBezTo>
                      <a:pt x="10437" y="3"/>
                      <a:pt x="10438" y="2"/>
                      <a:pt x="10439" y="2"/>
                    </a:cubicBezTo>
                    <a:close/>
                    <a:moveTo>
                      <a:pt x="10447" y="2"/>
                    </a:moveTo>
                    <a:lnTo>
                      <a:pt x="10447" y="2"/>
                    </a:lnTo>
                    <a:cubicBezTo>
                      <a:pt x="10448" y="2"/>
                      <a:pt x="10449" y="3"/>
                      <a:pt x="10449" y="4"/>
                    </a:cubicBezTo>
                    <a:cubicBezTo>
                      <a:pt x="10449" y="5"/>
                      <a:pt x="10448" y="6"/>
                      <a:pt x="10447" y="6"/>
                    </a:cubicBezTo>
                    <a:lnTo>
                      <a:pt x="10447" y="6"/>
                    </a:lnTo>
                    <a:cubicBezTo>
                      <a:pt x="10446" y="6"/>
                      <a:pt x="10445" y="5"/>
                      <a:pt x="10445" y="4"/>
                    </a:cubicBezTo>
                    <a:cubicBezTo>
                      <a:pt x="10445" y="3"/>
                      <a:pt x="10446" y="2"/>
                      <a:pt x="10447" y="2"/>
                    </a:cubicBezTo>
                    <a:close/>
                    <a:moveTo>
                      <a:pt x="10455" y="2"/>
                    </a:moveTo>
                    <a:lnTo>
                      <a:pt x="10455" y="2"/>
                    </a:lnTo>
                    <a:cubicBezTo>
                      <a:pt x="10456" y="2"/>
                      <a:pt x="10457" y="3"/>
                      <a:pt x="10457" y="4"/>
                    </a:cubicBezTo>
                    <a:cubicBezTo>
                      <a:pt x="10457" y="5"/>
                      <a:pt x="10456" y="6"/>
                      <a:pt x="10455" y="6"/>
                    </a:cubicBezTo>
                    <a:lnTo>
                      <a:pt x="10455" y="6"/>
                    </a:lnTo>
                    <a:cubicBezTo>
                      <a:pt x="10454" y="6"/>
                      <a:pt x="10453" y="5"/>
                      <a:pt x="10453" y="4"/>
                    </a:cubicBezTo>
                    <a:cubicBezTo>
                      <a:pt x="10453" y="3"/>
                      <a:pt x="10454" y="2"/>
                      <a:pt x="10455" y="2"/>
                    </a:cubicBezTo>
                    <a:close/>
                    <a:moveTo>
                      <a:pt x="10463" y="2"/>
                    </a:moveTo>
                    <a:lnTo>
                      <a:pt x="10463" y="2"/>
                    </a:lnTo>
                    <a:cubicBezTo>
                      <a:pt x="10464" y="2"/>
                      <a:pt x="10465" y="3"/>
                      <a:pt x="10465" y="4"/>
                    </a:cubicBezTo>
                    <a:cubicBezTo>
                      <a:pt x="10465" y="5"/>
                      <a:pt x="10464" y="6"/>
                      <a:pt x="10463" y="6"/>
                    </a:cubicBezTo>
                    <a:lnTo>
                      <a:pt x="10463" y="6"/>
                    </a:lnTo>
                    <a:cubicBezTo>
                      <a:pt x="10462" y="6"/>
                      <a:pt x="10461" y="5"/>
                      <a:pt x="10461" y="4"/>
                    </a:cubicBezTo>
                    <a:cubicBezTo>
                      <a:pt x="10461" y="3"/>
                      <a:pt x="10462" y="2"/>
                      <a:pt x="10463" y="2"/>
                    </a:cubicBezTo>
                    <a:close/>
                    <a:moveTo>
                      <a:pt x="10471" y="2"/>
                    </a:moveTo>
                    <a:lnTo>
                      <a:pt x="10471" y="2"/>
                    </a:lnTo>
                    <a:cubicBezTo>
                      <a:pt x="10472" y="2"/>
                      <a:pt x="10473" y="3"/>
                      <a:pt x="10473" y="4"/>
                    </a:cubicBezTo>
                    <a:cubicBezTo>
                      <a:pt x="10473" y="5"/>
                      <a:pt x="10472" y="6"/>
                      <a:pt x="10471" y="6"/>
                    </a:cubicBezTo>
                    <a:lnTo>
                      <a:pt x="10471" y="6"/>
                    </a:lnTo>
                    <a:cubicBezTo>
                      <a:pt x="10470" y="6"/>
                      <a:pt x="10469" y="5"/>
                      <a:pt x="10469" y="4"/>
                    </a:cubicBezTo>
                    <a:cubicBezTo>
                      <a:pt x="10469" y="3"/>
                      <a:pt x="10470" y="2"/>
                      <a:pt x="10471" y="2"/>
                    </a:cubicBezTo>
                    <a:close/>
                    <a:moveTo>
                      <a:pt x="10479" y="2"/>
                    </a:moveTo>
                    <a:lnTo>
                      <a:pt x="10479" y="2"/>
                    </a:lnTo>
                    <a:cubicBezTo>
                      <a:pt x="10480" y="2"/>
                      <a:pt x="10481" y="3"/>
                      <a:pt x="10481" y="4"/>
                    </a:cubicBezTo>
                    <a:cubicBezTo>
                      <a:pt x="10481" y="5"/>
                      <a:pt x="10480" y="6"/>
                      <a:pt x="10479" y="6"/>
                    </a:cubicBezTo>
                    <a:lnTo>
                      <a:pt x="10479" y="6"/>
                    </a:lnTo>
                    <a:cubicBezTo>
                      <a:pt x="10478" y="6"/>
                      <a:pt x="10477" y="5"/>
                      <a:pt x="10477" y="4"/>
                    </a:cubicBezTo>
                    <a:cubicBezTo>
                      <a:pt x="10477" y="3"/>
                      <a:pt x="10478" y="2"/>
                      <a:pt x="10479" y="2"/>
                    </a:cubicBezTo>
                    <a:close/>
                    <a:moveTo>
                      <a:pt x="10487" y="2"/>
                    </a:moveTo>
                    <a:lnTo>
                      <a:pt x="10487" y="2"/>
                    </a:lnTo>
                    <a:cubicBezTo>
                      <a:pt x="10488" y="2"/>
                      <a:pt x="10489" y="3"/>
                      <a:pt x="10489" y="4"/>
                    </a:cubicBezTo>
                    <a:cubicBezTo>
                      <a:pt x="10489" y="5"/>
                      <a:pt x="10488" y="6"/>
                      <a:pt x="10487" y="6"/>
                    </a:cubicBezTo>
                    <a:lnTo>
                      <a:pt x="10487" y="6"/>
                    </a:lnTo>
                    <a:cubicBezTo>
                      <a:pt x="10486" y="6"/>
                      <a:pt x="10485" y="5"/>
                      <a:pt x="10485" y="4"/>
                    </a:cubicBezTo>
                    <a:cubicBezTo>
                      <a:pt x="10485" y="3"/>
                      <a:pt x="10486" y="2"/>
                      <a:pt x="10487" y="2"/>
                    </a:cubicBezTo>
                    <a:close/>
                    <a:moveTo>
                      <a:pt x="10495" y="2"/>
                    </a:moveTo>
                    <a:lnTo>
                      <a:pt x="10495" y="2"/>
                    </a:lnTo>
                    <a:cubicBezTo>
                      <a:pt x="10496" y="2"/>
                      <a:pt x="10497" y="3"/>
                      <a:pt x="10497" y="4"/>
                    </a:cubicBezTo>
                    <a:cubicBezTo>
                      <a:pt x="10497" y="5"/>
                      <a:pt x="10496" y="6"/>
                      <a:pt x="10495" y="6"/>
                    </a:cubicBezTo>
                    <a:lnTo>
                      <a:pt x="10495" y="6"/>
                    </a:lnTo>
                    <a:cubicBezTo>
                      <a:pt x="10494" y="6"/>
                      <a:pt x="10493" y="5"/>
                      <a:pt x="10493" y="4"/>
                    </a:cubicBezTo>
                    <a:cubicBezTo>
                      <a:pt x="10493" y="3"/>
                      <a:pt x="10494" y="2"/>
                      <a:pt x="10495" y="2"/>
                    </a:cubicBezTo>
                    <a:close/>
                    <a:moveTo>
                      <a:pt x="10503" y="2"/>
                    </a:moveTo>
                    <a:lnTo>
                      <a:pt x="10503" y="2"/>
                    </a:lnTo>
                    <a:cubicBezTo>
                      <a:pt x="10504" y="2"/>
                      <a:pt x="10505" y="3"/>
                      <a:pt x="10505" y="4"/>
                    </a:cubicBezTo>
                    <a:cubicBezTo>
                      <a:pt x="10505" y="5"/>
                      <a:pt x="10504" y="6"/>
                      <a:pt x="10503" y="6"/>
                    </a:cubicBezTo>
                    <a:lnTo>
                      <a:pt x="10503" y="6"/>
                    </a:lnTo>
                    <a:cubicBezTo>
                      <a:pt x="10502" y="6"/>
                      <a:pt x="10501" y="5"/>
                      <a:pt x="10501" y="4"/>
                    </a:cubicBezTo>
                    <a:cubicBezTo>
                      <a:pt x="10501" y="3"/>
                      <a:pt x="10502" y="2"/>
                      <a:pt x="10503" y="2"/>
                    </a:cubicBezTo>
                    <a:close/>
                    <a:moveTo>
                      <a:pt x="10511" y="2"/>
                    </a:moveTo>
                    <a:lnTo>
                      <a:pt x="10511" y="2"/>
                    </a:lnTo>
                    <a:cubicBezTo>
                      <a:pt x="10512" y="2"/>
                      <a:pt x="10513" y="3"/>
                      <a:pt x="10513" y="4"/>
                    </a:cubicBezTo>
                    <a:cubicBezTo>
                      <a:pt x="10513" y="5"/>
                      <a:pt x="10512" y="6"/>
                      <a:pt x="10511" y="6"/>
                    </a:cubicBezTo>
                    <a:lnTo>
                      <a:pt x="10511" y="6"/>
                    </a:lnTo>
                    <a:cubicBezTo>
                      <a:pt x="10510" y="6"/>
                      <a:pt x="10509" y="5"/>
                      <a:pt x="10509" y="4"/>
                    </a:cubicBezTo>
                    <a:cubicBezTo>
                      <a:pt x="10509" y="3"/>
                      <a:pt x="10510" y="2"/>
                      <a:pt x="10511" y="2"/>
                    </a:cubicBezTo>
                    <a:close/>
                    <a:moveTo>
                      <a:pt x="10519" y="2"/>
                    </a:moveTo>
                    <a:lnTo>
                      <a:pt x="10519" y="2"/>
                    </a:lnTo>
                    <a:cubicBezTo>
                      <a:pt x="10520" y="2"/>
                      <a:pt x="10521" y="3"/>
                      <a:pt x="10521" y="4"/>
                    </a:cubicBezTo>
                    <a:cubicBezTo>
                      <a:pt x="10521" y="5"/>
                      <a:pt x="10520" y="6"/>
                      <a:pt x="10519" y="6"/>
                    </a:cubicBezTo>
                    <a:lnTo>
                      <a:pt x="10519" y="6"/>
                    </a:lnTo>
                    <a:cubicBezTo>
                      <a:pt x="10518" y="6"/>
                      <a:pt x="10517" y="5"/>
                      <a:pt x="10517" y="4"/>
                    </a:cubicBezTo>
                    <a:cubicBezTo>
                      <a:pt x="10517" y="3"/>
                      <a:pt x="10518" y="2"/>
                      <a:pt x="10519" y="2"/>
                    </a:cubicBezTo>
                    <a:close/>
                    <a:moveTo>
                      <a:pt x="10527" y="2"/>
                    </a:moveTo>
                    <a:lnTo>
                      <a:pt x="10527" y="2"/>
                    </a:lnTo>
                    <a:cubicBezTo>
                      <a:pt x="10528" y="2"/>
                      <a:pt x="10529" y="3"/>
                      <a:pt x="10529" y="4"/>
                    </a:cubicBezTo>
                    <a:cubicBezTo>
                      <a:pt x="10529" y="5"/>
                      <a:pt x="10528" y="6"/>
                      <a:pt x="10527" y="6"/>
                    </a:cubicBezTo>
                    <a:lnTo>
                      <a:pt x="10527" y="6"/>
                    </a:lnTo>
                    <a:cubicBezTo>
                      <a:pt x="10526" y="6"/>
                      <a:pt x="10525" y="5"/>
                      <a:pt x="10525" y="4"/>
                    </a:cubicBezTo>
                    <a:cubicBezTo>
                      <a:pt x="10525" y="3"/>
                      <a:pt x="10526" y="2"/>
                      <a:pt x="10527" y="2"/>
                    </a:cubicBezTo>
                    <a:close/>
                    <a:moveTo>
                      <a:pt x="10535" y="2"/>
                    </a:moveTo>
                    <a:lnTo>
                      <a:pt x="10535" y="2"/>
                    </a:lnTo>
                    <a:cubicBezTo>
                      <a:pt x="10536" y="2"/>
                      <a:pt x="10537" y="3"/>
                      <a:pt x="10537" y="4"/>
                    </a:cubicBezTo>
                    <a:cubicBezTo>
                      <a:pt x="10537" y="5"/>
                      <a:pt x="10536" y="6"/>
                      <a:pt x="10535" y="6"/>
                    </a:cubicBezTo>
                    <a:lnTo>
                      <a:pt x="10535" y="6"/>
                    </a:lnTo>
                    <a:cubicBezTo>
                      <a:pt x="10534" y="6"/>
                      <a:pt x="10533" y="5"/>
                      <a:pt x="10533" y="4"/>
                    </a:cubicBezTo>
                    <a:cubicBezTo>
                      <a:pt x="10533" y="3"/>
                      <a:pt x="10534" y="2"/>
                      <a:pt x="10535" y="2"/>
                    </a:cubicBezTo>
                    <a:close/>
                    <a:moveTo>
                      <a:pt x="10543" y="2"/>
                    </a:moveTo>
                    <a:lnTo>
                      <a:pt x="10543" y="2"/>
                    </a:lnTo>
                    <a:cubicBezTo>
                      <a:pt x="10544" y="2"/>
                      <a:pt x="10545" y="3"/>
                      <a:pt x="10545" y="4"/>
                    </a:cubicBezTo>
                    <a:cubicBezTo>
                      <a:pt x="10545" y="5"/>
                      <a:pt x="10544" y="6"/>
                      <a:pt x="10543" y="6"/>
                    </a:cubicBezTo>
                    <a:lnTo>
                      <a:pt x="10543" y="6"/>
                    </a:lnTo>
                    <a:cubicBezTo>
                      <a:pt x="10542" y="6"/>
                      <a:pt x="10541" y="5"/>
                      <a:pt x="10541" y="4"/>
                    </a:cubicBezTo>
                    <a:cubicBezTo>
                      <a:pt x="10541" y="3"/>
                      <a:pt x="10542" y="2"/>
                      <a:pt x="10543" y="2"/>
                    </a:cubicBezTo>
                    <a:close/>
                    <a:moveTo>
                      <a:pt x="10551" y="2"/>
                    </a:moveTo>
                    <a:lnTo>
                      <a:pt x="10551" y="2"/>
                    </a:lnTo>
                    <a:cubicBezTo>
                      <a:pt x="10552" y="2"/>
                      <a:pt x="10553" y="3"/>
                      <a:pt x="10553" y="4"/>
                    </a:cubicBezTo>
                    <a:cubicBezTo>
                      <a:pt x="10553" y="5"/>
                      <a:pt x="10552" y="6"/>
                      <a:pt x="10551" y="6"/>
                    </a:cubicBezTo>
                    <a:lnTo>
                      <a:pt x="10551" y="6"/>
                    </a:lnTo>
                    <a:cubicBezTo>
                      <a:pt x="10550" y="6"/>
                      <a:pt x="10549" y="5"/>
                      <a:pt x="10549" y="4"/>
                    </a:cubicBezTo>
                    <a:cubicBezTo>
                      <a:pt x="10549" y="3"/>
                      <a:pt x="10550" y="2"/>
                      <a:pt x="10551" y="2"/>
                    </a:cubicBezTo>
                    <a:close/>
                    <a:moveTo>
                      <a:pt x="10559" y="2"/>
                    </a:moveTo>
                    <a:lnTo>
                      <a:pt x="10559" y="2"/>
                    </a:lnTo>
                    <a:cubicBezTo>
                      <a:pt x="10560" y="2"/>
                      <a:pt x="10561" y="3"/>
                      <a:pt x="10561" y="4"/>
                    </a:cubicBezTo>
                    <a:cubicBezTo>
                      <a:pt x="10561" y="5"/>
                      <a:pt x="10560" y="6"/>
                      <a:pt x="10559" y="6"/>
                    </a:cubicBezTo>
                    <a:lnTo>
                      <a:pt x="10559" y="6"/>
                    </a:lnTo>
                    <a:cubicBezTo>
                      <a:pt x="10558" y="6"/>
                      <a:pt x="10557" y="5"/>
                      <a:pt x="10557" y="4"/>
                    </a:cubicBezTo>
                    <a:cubicBezTo>
                      <a:pt x="10557" y="3"/>
                      <a:pt x="10558" y="2"/>
                      <a:pt x="10559" y="2"/>
                    </a:cubicBezTo>
                    <a:close/>
                    <a:moveTo>
                      <a:pt x="10567" y="2"/>
                    </a:moveTo>
                    <a:lnTo>
                      <a:pt x="10567" y="2"/>
                    </a:lnTo>
                    <a:cubicBezTo>
                      <a:pt x="10568" y="2"/>
                      <a:pt x="10569" y="3"/>
                      <a:pt x="10569" y="4"/>
                    </a:cubicBezTo>
                    <a:cubicBezTo>
                      <a:pt x="10569" y="5"/>
                      <a:pt x="10568" y="6"/>
                      <a:pt x="10567" y="6"/>
                    </a:cubicBezTo>
                    <a:lnTo>
                      <a:pt x="10567" y="6"/>
                    </a:lnTo>
                    <a:cubicBezTo>
                      <a:pt x="10566" y="6"/>
                      <a:pt x="10565" y="5"/>
                      <a:pt x="10565" y="4"/>
                    </a:cubicBezTo>
                    <a:cubicBezTo>
                      <a:pt x="10565" y="3"/>
                      <a:pt x="10566" y="2"/>
                      <a:pt x="10567" y="2"/>
                    </a:cubicBezTo>
                    <a:close/>
                    <a:moveTo>
                      <a:pt x="10575" y="2"/>
                    </a:moveTo>
                    <a:lnTo>
                      <a:pt x="10575" y="2"/>
                    </a:lnTo>
                    <a:cubicBezTo>
                      <a:pt x="10576" y="2"/>
                      <a:pt x="10577" y="3"/>
                      <a:pt x="10577" y="4"/>
                    </a:cubicBezTo>
                    <a:cubicBezTo>
                      <a:pt x="10577" y="5"/>
                      <a:pt x="10576" y="6"/>
                      <a:pt x="10575" y="6"/>
                    </a:cubicBezTo>
                    <a:lnTo>
                      <a:pt x="10575" y="6"/>
                    </a:lnTo>
                    <a:cubicBezTo>
                      <a:pt x="10574" y="6"/>
                      <a:pt x="10573" y="5"/>
                      <a:pt x="10573" y="4"/>
                    </a:cubicBezTo>
                    <a:cubicBezTo>
                      <a:pt x="10573" y="3"/>
                      <a:pt x="10574" y="2"/>
                      <a:pt x="10575" y="2"/>
                    </a:cubicBezTo>
                    <a:close/>
                    <a:moveTo>
                      <a:pt x="10583" y="2"/>
                    </a:moveTo>
                    <a:lnTo>
                      <a:pt x="10583" y="2"/>
                    </a:lnTo>
                    <a:cubicBezTo>
                      <a:pt x="10584" y="2"/>
                      <a:pt x="10585" y="3"/>
                      <a:pt x="10585" y="4"/>
                    </a:cubicBezTo>
                    <a:cubicBezTo>
                      <a:pt x="10585" y="5"/>
                      <a:pt x="10584" y="6"/>
                      <a:pt x="10583" y="6"/>
                    </a:cubicBezTo>
                    <a:lnTo>
                      <a:pt x="10583" y="6"/>
                    </a:lnTo>
                    <a:cubicBezTo>
                      <a:pt x="10582" y="6"/>
                      <a:pt x="10581" y="5"/>
                      <a:pt x="10581" y="4"/>
                    </a:cubicBezTo>
                    <a:cubicBezTo>
                      <a:pt x="10581" y="3"/>
                      <a:pt x="10582" y="2"/>
                      <a:pt x="10583" y="2"/>
                    </a:cubicBezTo>
                    <a:close/>
                    <a:moveTo>
                      <a:pt x="10591" y="2"/>
                    </a:moveTo>
                    <a:lnTo>
                      <a:pt x="10591" y="2"/>
                    </a:lnTo>
                    <a:cubicBezTo>
                      <a:pt x="10592" y="2"/>
                      <a:pt x="10593" y="3"/>
                      <a:pt x="10593" y="4"/>
                    </a:cubicBezTo>
                    <a:cubicBezTo>
                      <a:pt x="10593" y="5"/>
                      <a:pt x="10592" y="6"/>
                      <a:pt x="10591" y="6"/>
                    </a:cubicBezTo>
                    <a:lnTo>
                      <a:pt x="10591" y="6"/>
                    </a:lnTo>
                    <a:cubicBezTo>
                      <a:pt x="10590" y="6"/>
                      <a:pt x="10589" y="5"/>
                      <a:pt x="10589" y="4"/>
                    </a:cubicBezTo>
                    <a:cubicBezTo>
                      <a:pt x="10589" y="3"/>
                      <a:pt x="10590" y="2"/>
                      <a:pt x="10591" y="2"/>
                    </a:cubicBezTo>
                    <a:close/>
                    <a:moveTo>
                      <a:pt x="10599" y="2"/>
                    </a:moveTo>
                    <a:lnTo>
                      <a:pt x="10599" y="2"/>
                    </a:lnTo>
                    <a:cubicBezTo>
                      <a:pt x="10600" y="2"/>
                      <a:pt x="10601" y="3"/>
                      <a:pt x="10601" y="4"/>
                    </a:cubicBezTo>
                    <a:cubicBezTo>
                      <a:pt x="10601" y="5"/>
                      <a:pt x="10600" y="6"/>
                      <a:pt x="10599" y="6"/>
                    </a:cubicBezTo>
                    <a:lnTo>
                      <a:pt x="10599" y="6"/>
                    </a:lnTo>
                    <a:cubicBezTo>
                      <a:pt x="10598" y="6"/>
                      <a:pt x="10597" y="5"/>
                      <a:pt x="10597" y="4"/>
                    </a:cubicBezTo>
                    <a:cubicBezTo>
                      <a:pt x="10597" y="3"/>
                      <a:pt x="10598" y="2"/>
                      <a:pt x="10599" y="2"/>
                    </a:cubicBezTo>
                    <a:close/>
                    <a:moveTo>
                      <a:pt x="10607" y="2"/>
                    </a:moveTo>
                    <a:lnTo>
                      <a:pt x="10607" y="2"/>
                    </a:lnTo>
                    <a:cubicBezTo>
                      <a:pt x="10608" y="2"/>
                      <a:pt x="10609" y="3"/>
                      <a:pt x="10609" y="4"/>
                    </a:cubicBezTo>
                    <a:cubicBezTo>
                      <a:pt x="10609" y="5"/>
                      <a:pt x="10608" y="6"/>
                      <a:pt x="10607" y="6"/>
                    </a:cubicBezTo>
                    <a:lnTo>
                      <a:pt x="10607" y="6"/>
                    </a:lnTo>
                    <a:cubicBezTo>
                      <a:pt x="10606" y="6"/>
                      <a:pt x="10605" y="5"/>
                      <a:pt x="10605" y="4"/>
                    </a:cubicBezTo>
                    <a:cubicBezTo>
                      <a:pt x="10605" y="3"/>
                      <a:pt x="10606" y="2"/>
                      <a:pt x="10607" y="2"/>
                    </a:cubicBezTo>
                    <a:close/>
                    <a:moveTo>
                      <a:pt x="10615" y="2"/>
                    </a:moveTo>
                    <a:lnTo>
                      <a:pt x="10615" y="2"/>
                    </a:lnTo>
                    <a:cubicBezTo>
                      <a:pt x="10616" y="2"/>
                      <a:pt x="10617" y="3"/>
                      <a:pt x="10617" y="4"/>
                    </a:cubicBezTo>
                    <a:cubicBezTo>
                      <a:pt x="10617" y="5"/>
                      <a:pt x="10616" y="6"/>
                      <a:pt x="10615" y="6"/>
                    </a:cubicBezTo>
                    <a:lnTo>
                      <a:pt x="10615" y="6"/>
                    </a:lnTo>
                    <a:cubicBezTo>
                      <a:pt x="10614" y="6"/>
                      <a:pt x="10613" y="5"/>
                      <a:pt x="10613" y="4"/>
                    </a:cubicBezTo>
                    <a:cubicBezTo>
                      <a:pt x="10613" y="3"/>
                      <a:pt x="10614" y="2"/>
                      <a:pt x="10615" y="2"/>
                    </a:cubicBezTo>
                    <a:close/>
                    <a:moveTo>
                      <a:pt x="10623" y="2"/>
                    </a:moveTo>
                    <a:lnTo>
                      <a:pt x="10623" y="2"/>
                    </a:lnTo>
                    <a:cubicBezTo>
                      <a:pt x="10624" y="2"/>
                      <a:pt x="10625" y="3"/>
                      <a:pt x="10625" y="4"/>
                    </a:cubicBezTo>
                    <a:cubicBezTo>
                      <a:pt x="10625" y="5"/>
                      <a:pt x="10624" y="6"/>
                      <a:pt x="10623" y="6"/>
                    </a:cubicBezTo>
                    <a:lnTo>
                      <a:pt x="10623" y="6"/>
                    </a:lnTo>
                    <a:cubicBezTo>
                      <a:pt x="10622" y="6"/>
                      <a:pt x="10621" y="5"/>
                      <a:pt x="10621" y="4"/>
                    </a:cubicBezTo>
                    <a:cubicBezTo>
                      <a:pt x="10621" y="3"/>
                      <a:pt x="10622" y="2"/>
                      <a:pt x="10623" y="2"/>
                    </a:cubicBezTo>
                    <a:close/>
                    <a:moveTo>
                      <a:pt x="10631" y="2"/>
                    </a:moveTo>
                    <a:lnTo>
                      <a:pt x="10631" y="2"/>
                    </a:lnTo>
                    <a:cubicBezTo>
                      <a:pt x="10632" y="2"/>
                      <a:pt x="10633" y="3"/>
                      <a:pt x="10633" y="4"/>
                    </a:cubicBezTo>
                    <a:cubicBezTo>
                      <a:pt x="10633" y="5"/>
                      <a:pt x="10632" y="6"/>
                      <a:pt x="10631" y="6"/>
                    </a:cubicBezTo>
                    <a:lnTo>
                      <a:pt x="10631" y="6"/>
                    </a:lnTo>
                    <a:cubicBezTo>
                      <a:pt x="10630" y="6"/>
                      <a:pt x="10629" y="5"/>
                      <a:pt x="10629" y="4"/>
                    </a:cubicBezTo>
                    <a:cubicBezTo>
                      <a:pt x="10629" y="3"/>
                      <a:pt x="10630" y="2"/>
                      <a:pt x="10631" y="2"/>
                    </a:cubicBezTo>
                    <a:close/>
                    <a:moveTo>
                      <a:pt x="10639" y="2"/>
                    </a:moveTo>
                    <a:lnTo>
                      <a:pt x="10639" y="2"/>
                    </a:lnTo>
                    <a:cubicBezTo>
                      <a:pt x="10640" y="2"/>
                      <a:pt x="10641" y="3"/>
                      <a:pt x="10641" y="4"/>
                    </a:cubicBezTo>
                    <a:cubicBezTo>
                      <a:pt x="10641" y="5"/>
                      <a:pt x="10640" y="6"/>
                      <a:pt x="10639" y="6"/>
                    </a:cubicBezTo>
                    <a:lnTo>
                      <a:pt x="10639" y="6"/>
                    </a:lnTo>
                    <a:cubicBezTo>
                      <a:pt x="10638" y="6"/>
                      <a:pt x="10637" y="5"/>
                      <a:pt x="10637" y="4"/>
                    </a:cubicBezTo>
                    <a:cubicBezTo>
                      <a:pt x="10637" y="3"/>
                      <a:pt x="10638" y="2"/>
                      <a:pt x="10639" y="2"/>
                    </a:cubicBezTo>
                    <a:close/>
                    <a:moveTo>
                      <a:pt x="10647" y="2"/>
                    </a:moveTo>
                    <a:lnTo>
                      <a:pt x="10647" y="2"/>
                    </a:lnTo>
                    <a:cubicBezTo>
                      <a:pt x="10648" y="2"/>
                      <a:pt x="10649" y="3"/>
                      <a:pt x="10649" y="4"/>
                    </a:cubicBezTo>
                    <a:cubicBezTo>
                      <a:pt x="10649" y="5"/>
                      <a:pt x="10648" y="6"/>
                      <a:pt x="10647" y="6"/>
                    </a:cubicBezTo>
                    <a:lnTo>
                      <a:pt x="10647" y="6"/>
                    </a:lnTo>
                    <a:cubicBezTo>
                      <a:pt x="10646" y="6"/>
                      <a:pt x="10645" y="5"/>
                      <a:pt x="10645" y="4"/>
                    </a:cubicBezTo>
                    <a:cubicBezTo>
                      <a:pt x="10645" y="3"/>
                      <a:pt x="10646" y="2"/>
                      <a:pt x="10647" y="2"/>
                    </a:cubicBezTo>
                    <a:close/>
                    <a:moveTo>
                      <a:pt x="10655" y="2"/>
                    </a:moveTo>
                    <a:lnTo>
                      <a:pt x="10655" y="2"/>
                    </a:lnTo>
                    <a:cubicBezTo>
                      <a:pt x="10656" y="2"/>
                      <a:pt x="10657" y="3"/>
                      <a:pt x="10657" y="4"/>
                    </a:cubicBezTo>
                    <a:cubicBezTo>
                      <a:pt x="10657" y="5"/>
                      <a:pt x="10656" y="6"/>
                      <a:pt x="10655" y="6"/>
                    </a:cubicBezTo>
                    <a:lnTo>
                      <a:pt x="10655" y="6"/>
                    </a:lnTo>
                    <a:cubicBezTo>
                      <a:pt x="10654" y="6"/>
                      <a:pt x="10653" y="5"/>
                      <a:pt x="10653" y="4"/>
                    </a:cubicBezTo>
                    <a:cubicBezTo>
                      <a:pt x="10653" y="3"/>
                      <a:pt x="10654" y="2"/>
                      <a:pt x="10655" y="2"/>
                    </a:cubicBezTo>
                    <a:close/>
                    <a:moveTo>
                      <a:pt x="10663" y="2"/>
                    </a:moveTo>
                    <a:lnTo>
                      <a:pt x="10663" y="2"/>
                    </a:lnTo>
                    <a:cubicBezTo>
                      <a:pt x="10664" y="2"/>
                      <a:pt x="10665" y="3"/>
                      <a:pt x="10665" y="4"/>
                    </a:cubicBezTo>
                    <a:cubicBezTo>
                      <a:pt x="10665" y="5"/>
                      <a:pt x="10664" y="6"/>
                      <a:pt x="10663" y="6"/>
                    </a:cubicBezTo>
                    <a:lnTo>
                      <a:pt x="10663" y="6"/>
                    </a:lnTo>
                    <a:cubicBezTo>
                      <a:pt x="10662" y="6"/>
                      <a:pt x="10661" y="5"/>
                      <a:pt x="10661" y="4"/>
                    </a:cubicBezTo>
                    <a:cubicBezTo>
                      <a:pt x="10661" y="3"/>
                      <a:pt x="10662" y="2"/>
                      <a:pt x="10663" y="2"/>
                    </a:cubicBezTo>
                    <a:close/>
                    <a:moveTo>
                      <a:pt x="10671" y="2"/>
                    </a:moveTo>
                    <a:lnTo>
                      <a:pt x="10671" y="2"/>
                    </a:lnTo>
                    <a:cubicBezTo>
                      <a:pt x="10672" y="2"/>
                      <a:pt x="10673" y="3"/>
                      <a:pt x="10673" y="4"/>
                    </a:cubicBezTo>
                    <a:cubicBezTo>
                      <a:pt x="10673" y="5"/>
                      <a:pt x="10672" y="6"/>
                      <a:pt x="10671" y="6"/>
                    </a:cubicBezTo>
                    <a:lnTo>
                      <a:pt x="10671" y="6"/>
                    </a:lnTo>
                    <a:cubicBezTo>
                      <a:pt x="10670" y="6"/>
                      <a:pt x="10669" y="5"/>
                      <a:pt x="10669" y="4"/>
                    </a:cubicBezTo>
                    <a:cubicBezTo>
                      <a:pt x="10669" y="3"/>
                      <a:pt x="10670" y="2"/>
                      <a:pt x="10671" y="2"/>
                    </a:cubicBezTo>
                    <a:close/>
                    <a:moveTo>
                      <a:pt x="10679" y="2"/>
                    </a:moveTo>
                    <a:lnTo>
                      <a:pt x="10679" y="2"/>
                    </a:lnTo>
                    <a:cubicBezTo>
                      <a:pt x="10680" y="2"/>
                      <a:pt x="10681" y="3"/>
                      <a:pt x="10681" y="4"/>
                    </a:cubicBezTo>
                    <a:cubicBezTo>
                      <a:pt x="10681" y="5"/>
                      <a:pt x="10680" y="6"/>
                      <a:pt x="10679" y="6"/>
                    </a:cubicBezTo>
                    <a:lnTo>
                      <a:pt x="10679" y="6"/>
                    </a:lnTo>
                    <a:cubicBezTo>
                      <a:pt x="10678" y="6"/>
                      <a:pt x="10677" y="5"/>
                      <a:pt x="10677" y="4"/>
                    </a:cubicBezTo>
                    <a:cubicBezTo>
                      <a:pt x="10677" y="3"/>
                      <a:pt x="10678" y="2"/>
                      <a:pt x="10679" y="2"/>
                    </a:cubicBezTo>
                    <a:close/>
                    <a:moveTo>
                      <a:pt x="10687" y="2"/>
                    </a:moveTo>
                    <a:lnTo>
                      <a:pt x="10687" y="2"/>
                    </a:lnTo>
                    <a:cubicBezTo>
                      <a:pt x="10688" y="2"/>
                      <a:pt x="10689" y="3"/>
                      <a:pt x="10689" y="4"/>
                    </a:cubicBezTo>
                    <a:cubicBezTo>
                      <a:pt x="10689" y="5"/>
                      <a:pt x="10688" y="6"/>
                      <a:pt x="10687" y="6"/>
                    </a:cubicBezTo>
                    <a:lnTo>
                      <a:pt x="10687" y="6"/>
                    </a:lnTo>
                    <a:cubicBezTo>
                      <a:pt x="10686" y="6"/>
                      <a:pt x="10685" y="5"/>
                      <a:pt x="10685" y="4"/>
                    </a:cubicBezTo>
                    <a:cubicBezTo>
                      <a:pt x="10685" y="3"/>
                      <a:pt x="10686" y="2"/>
                      <a:pt x="10687" y="2"/>
                    </a:cubicBezTo>
                    <a:close/>
                    <a:moveTo>
                      <a:pt x="10695" y="2"/>
                    </a:moveTo>
                    <a:lnTo>
                      <a:pt x="10695" y="2"/>
                    </a:lnTo>
                    <a:cubicBezTo>
                      <a:pt x="10696" y="2"/>
                      <a:pt x="10697" y="3"/>
                      <a:pt x="10697" y="4"/>
                    </a:cubicBezTo>
                    <a:cubicBezTo>
                      <a:pt x="10697" y="5"/>
                      <a:pt x="10696" y="6"/>
                      <a:pt x="10695" y="6"/>
                    </a:cubicBezTo>
                    <a:lnTo>
                      <a:pt x="10695" y="6"/>
                    </a:lnTo>
                    <a:cubicBezTo>
                      <a:pt x="10694" y="6"/>
                      <a:pt x="10693" y="5"/>
                      <a:pt x="10693" y="4"/>
                    </a:cubicBezTo>
                    <a:cubicBezTo>
                      <a:pt x="10693" y="3"/>
                      <a:pt x="10694" y="2"/>
                      <a:pt x="10695" y="2"/>
                    </a:cubicBezTo>
                    <a:close/>
                    <a:moveTo>
                      <a:pt x="10703" y="2"/>
                    </a:moveTo>
                    <a:lnTo>
                      <a:pt x="10703" y="2"/>
                    </a:lnTo>
                    <a:cubicBezTo>
                      <a:pt x="10704" y="2"/>
                      <a:pt x="10705" y="3"/>
                      <a:pt x="10705" y="4"/>
                    </a:cubicBezTo>
                    <a:cubicBezTo>
                      <a:pt x="10705" y="5"/>
                      <a:pt x="10704" y="6"/>
                      <a:pt x="10703" y="6"/>
                    </a:cubicBezTo>
                    <a:lnTo>
                      <a:pt x="10703" y="6"/>
                    </a:lnTo>
                    <a:cubicBezTo>
                      <a:pt x="10702" y="6"/>
                      <a:pt x="10701" y="5"/>
                      <a:pt x="10701" y="4"/>
                    </a:cubicBezTo>
                    <a:cubicBezTo>
                      <a:pt x="10701" y="3"/>
                      <a:pt x="10702" y="2"/>
                      <a:pt x="10703" y="2"/>
                    </a:cubicBezTo>
                    <a:close/>
                    <a:moveTo>
                      <a:pt x="10711" y="2"/>
                    </a:moveTo>
                    <a:lnTo>
                      <a:pt x="10711" y="2"/>
                    </a:lnTo>
                    <a:cubicBezTo>
                      <a:pt x="10712" y="2"/>
                      <a:pt x="10713" y="3"/>
                      <a:pt x="10713" y="4"/>
                    </a:cubicBezTo>
                    <a:cubicBezTo>
                      <a:pt x="10713" y="5"/>
                      <a:pt x="10712" y="6"/>
                      <a:pt x="10711" y="6"/>
                    </a:cubicBezTo>
                    <a:lnTo>
                      <a:pt x="10711" y="6"/>
                    </a:lnTo>
                    <a:cubicBezTo>
                      <a:pt x="10710" y="6"/>
                      <a:pt x="10709" y="5"/>
                      <a:pt x="10709" y="4"/>
                    </a:cubicBezTo>
                    <a:cubicBezTo>
                      <a:pt x="10709" y="3"/>
                      <a:pt x="10710" y="2"/>
                      <a:pt x="10711" y="2"/>
                    </a:cubicBezTo>
                    <a:close/>
                    <a:moveTo>
                      <a:pt x="10719" y="2"/>
                    </a:moveTo>
                    <a:lnTo>
                      <a:pt x="10719" y="2"/>
                    </a:lnTo>
                    <a:cubicBezTo>
                      <a:pt x="10720" y="2"/>
                      <a:pt x="10721" y="3"/>
                      <a:pt x="10721" y="4"/>
                    </a:cubicBezTo>
                    <a:cubicBezTo>
                      <a:pt x="10721" y="5"/>
                      <a:pt x="10720" y="6"/>
                      <a:pt x="10719" y="6"/>
                    </a:cubicBezTo>
                    <a:lnTo>
                      <a:pt x="10719" y="6"/>
                    </a:lnTo>
                    <a:cubicBezTo>
                      <a:pt x="10718" y="6"/>
                      <a:pt x="10717" y="5"/>
                      <a:pt x="10717" y="4"/>
                    </a:cubicBezTo>
                    <a:cubicBezTo>
                      <a:pt x="10717" y="3"/>
                      <a:pt x="10718" y="2"/>
                      <a:pt x="10719" y="2"/>
                    </a:cubicBezTo>
                    <a:close/>
                    <a:moveTo>
                      <a:pt x="10727" y="2"/>
                    </a:moveTo>
                    <a:lnTo>
                      <a:pt x="10727" y="2"/>
                    </a:lnTo>
                    <a:cubicBezTo>
                      <a:pt x="10728" y="2"/>
                      <a:pt x="10729" y="3"/>
                      <a:pt x="10729" y="4"/>
                    </a:cubicBezTo>
                    <a:cubicBezTo>
                      <a:pt x="10729" y="5"/>
                      <a:pt x="10728" y="6"/>
                      <a:pt x="10727" y="6"/>
                    </a:cubicBezTo>
                    <a:lnTo>
                      <a:pt x="10727" y="6"/>
                    </a:lnTo>
                    <a:cubicBezTo>
                      <a:pt x="10726" y="6"/>
                      <a:pt x="10725" y="5"/>
                      <a:pt x="10725" y="4"/>
                    </a:cubicBezTo>
                    <a:cubicBezTo>
                      <a:pt x="10725" y="3"/>
                      <a:pt x="10726" y="2"/>
                      <a:pt x="10727" y="2"/>
                    </a:cubicBezTo>
                    <a:close/>
                    <a:moveTo>
                      <a:pt x="10735" y="2"/>
                    </a:moveTo>
                    <a:lnTo>
                      <a:pt x="10735" y="2"/>
                    </a:lnTo>
                    <a:cubicBezTo>
                      <a:pt x="10736" y="2"/>
                      <a:pt x="10737" y="3"/>
                      <a:pt x="10737" y="4"/>
                    </a:cubicBezTo>
                    <a:cubicBezTo>
                      <a:pt x="10737" y="5"/>
                      <a:pt x="10736" y="6"/>
                      <a:pt x="10735" y="6"/>
                    </a:cubicBezTo>
                    <a:lnTo>
                      <a:pt x="10735" y="6"/>
                    </a:lnTo>
                    <a:cubicBezTo>
                      <a:pt x="10734" y="6"/>
                      <a:pt x="10733" y="5"/>
                      <a:pt x="10733" y="4"/>
                    </a:cubicBezTo>
                    <a:cubicBezTo>
                      <a:pt x="10733" y="3"/>
                      <a:pt x="10734" y="2"/>
                      <a:pt x="10735" y="2"/>
                    </a:cubicBezTo>
                    <a:close/>
                    <a:moveTo>
                      <a:pt x="10743" y="2"/>
                    </a:moveTo>
                    <a:lnTo>
                      <a:pt x="10743" y="2"/>
                    </a:lnTo>
                    <a:cubicBezTo>
                      <a:pt x="10744" y="2"/>
                      <a:pt x="10745" y="3"/>
                      <a:pt x="10745" y="4"/>
                    </a:cubicBezTo>
                    <a:cubicBezTo>
                      <a:pt x="10745" y="5"/>
                      <a:pt x="10744" y="6"/>
                      <a:pt x="10743" y="6"/>
                    </a:cubicBezTo>
                    <a:lnTo>
                      <a:pt x="10743" y="6"/>
                    </a:lnTo>
                    <a:cubicBezTo>
                      <a:pt x="10742" y="6"/>
                      <a:pt x="10741" y="5"/>
                      <a:pt x="10741" y="4"/>
                    </a:cubicBezTo>
                    <a:cubicBezTo>
                      <a:pt x="10741" y="3"/>
                      <a:pt x="10742" y="2"/>
                      <a:pt x="10743" y="2"/>
                    </a:cubicBezTo>
                    <a:close/>
                    <a:moveTo>
                      <a:pt x="10751" y="2"/>
                    </a:moveTo>
                    <a:lnTo>
                      <a:pt x="10751" y="2"/>
                    </a:lnTo>
                    <a:cubicBezTo>
                      <a:pt x="10752" y="2"/>
                      <a:pt x="10753" y="3"/>
                      <a:pt x="10753" y="4"/>
                    </a:cubicBezTo>
                    <a:cubicBezTo>
                      <a:pt x="10753" y="5"/>
                      <a:pt x="10752" y="6"/>
                      <a:pt x="10751" y="6"/>
                    </a:cubicBezTo>
                    <a:lnTo>
                      <a:pt x="10751" y="6"/>
                    </a:lnTo>
                    <a:cubicBezTo>
                      <a:pt x="10750" y="6"/>
                      <a:pt x="10749" y="5"/>
                      <a:pt x="10749" y="4"/>
                    </a:cubicBezTo>
                    <a:cubicBezTo>
                      <a:pt x="10749" y="3"/>
                      <a:pt x="10750" y="2"/>
                      <a:pt x="10751" y="2"/>
                    </a:cubicBezTo>
                    <a:close/>
                    <a:moveTo>
                      <a:pt x="10759" y="2"/>
                    </a:moveTo>
                    <a:lnTo>
                      <a:pt x="10759" y="2"/>
                    </a:lnTo>
                    <a:cubicBezTo>
                      <a:pt x="10760" y="2"/>
                      <a:pt x="10761" y="3"/>
                      <a:pt x="10761" y="4"/>
                    </a:cubicBezTo>
                    <a:cubicBezTo>
                      <a:pt x="10761" y="5"/>
                      <a:pt x="10760" y="6"/>
                      <a:pt x="10759" y="6"/>
                    </a:cubicBezTo>
                    <a:lnTo>
                      <a:pt x="10759" y="6"/>
                    </a:lnTo>
                    <a:cubicBezTo>
                      <a:pt x="10758" y="6"/>
                      <a:pt x="10757" y="5"/>
                      <a:pt x="10757" y="4"/>
                    </a:cubicBezTo>
                    <a:cubicBezTo>
                      <a:pt x="10757" y="3"/>
                      <a:pt x="10758" y="2"/>
                      <a:pt x="10759" y="2"/>
                    </a:cubicBezTo>
                    <a:close/>
                    <a:moveTo>
                      <a:pt x="10767" y="2"/>
                    </a:moveTo>
                    <a:lnTo>
                      <a:pt x="10767" y="2"/>
                    </a:lnTo>
                    <a:cubicBezTo>
                      <a:pt x="10768" y="2"/>
                      <a:pt x="10769" y="3"/>
                      <a:pt x="10769" y="4"/>
                    </a:cubicBezTo>
                    <a:cubicBezTo>
                      <a:pt x="10769" y="5"/>
                      <a:pt x="10768" y="6"/>
                      <a:pt x="10767" y="6"/>
                    </a:cubicBezTo>
                    <a:lnTo>
                      <a:pt x="10767" y="6"/>
                    </a:lnTo>
                    <a:cubicBezTo>
                      <a:pt x="10766" y="6"/>
                      <a:pt x="10765" y="5"/>
                      <a:pt x="10765" y="4"/>
                    </a:cubicBezTo>
                    <a:cubicBezTo>
                      <a:pt x="10765" y="3"/>
                      <a:pt x="10766" y="2"/>
                      <a:pt x="10767" y="2"/>
                    </a:cubicBezTo>
                    <a:close/>
                    <a:moveTo>
                      <a:pt x="10775" y="2"/>
                    </a:moveTo>
                    <a:lnTo>
                      <a:pt x="10775" y="2"/>
                    </a:lnTo>
                    <a:cubicBezTo>
                      <a:pt x="10776" y="2"/>
                      <a:pt x="10777" y="3"/>
                      <a:pt x="10777" y="4"/>
                    </a:cubicBezTo>
                    <a:cubicBezTo>
                      <a:pt x="10777" y="5"/>
                      <a:pt x="10776" y="6"/>
                      <a:pt x="10775" y="6"/>
                    </a:cubicBezTo>
                    <a:lnTo>
                      <a:pt x="10775" y="6"/>
                    </a:lnTo>
                    <a:cubicBezTo>
                      <a:pt x="10774" y="6"/>
                      <a:pt x="10773" y="5"/>
                      <a:pt x="10773" y="4"/>
                    </a:cubicBezTo>
                    <a:cubicBezTo>
                      <a:pt x="10773" y="3"/>
                      <a:pt x="10774" y="2"/>
                      <a:pt x="10775" y="2"/>
                    </a:cubicBezTo>
                    <a:close/>
                    <a:moveTo>
                      <a:pt x="10783" y="2"/>
                    </a:moveTo>
                    <a:lnTo>
                      <a:pt x="10783" y="2"/>
                    </a:lnTo>
                    <a:cubicBezTo>
                      <a:pt x="10784" y="2"/>
                      <a:pt x="10785" y="3"/>
                      <a:pt x="10785" y="4"/>
                    </a:cubicBezTo>
                    <a:cubicBezTo>
                      <a:pt x="10785" y="5"/>
                      <a:pt x="10784" y="6"/>
                      <a:pt x="10783" y="6"/>
                    </a:cubicBezTo>
                    <a:lnTo>
                      <a:pt x="10783" y="6"/>
                    </a:lnTo>
                    <a:cubicBezTo>
                      <a:pt x="10782" y="6"/>
                      <a:pt x="10781" y="5"/>
                      <a:pt x="10781" y="4"/>
                    </a:cubicBezTo>
                    <a:cubicBezTo>
                      <a:pt x="10781" y="3"/>
                      <a:pt x="10782" y="2"/>
                      <a:pt x="10783" y="2"/>
                    </a:cubicBezTo>
                    <a:close/>
                    <a:moveTo>
                      <a:pt x="10791" y="2"/>
                    </a:moveTo>
                    <a:lnTo>
                      <a:pt x="10791" y="2"/>
                    </a:lnTo>
                    <a:cubicBezTo>
                      <a:pt x="10793" y="2"/>
                      <a:pt x="10793" y="3"/>
                      <a:pt x="10793" y="4"/>
                    </a:cubicBezTo>
                    <a:cubicBezTo>
                      <a:pt x="10793" y="5"/>
                      <a:pt x="10793" y="6"/>
                      <a:pt x="10791" y="6"/>
                    </a:cubicBezTo>
                    <a:lnTo>
                      <a:pt x="10791" y="6"/>
                    </a:lnTo>
                    <a:cubicBezTo>
                      <a:pt x="10790" y="6"/>
                      <a:pt x="10789" y="5"/>
                      <a:pt x="10789" y="4"/>
                    </a:cubicBezTo>
                    <a:cubicBezTo>
                      <a:pt x="10789" y="3"/>
                      <a:pt x="10790" y="2"/>
                      <a:pt x="10791" y="2"/>
                    </a:cubicBezTo>
                    <a:close/>
                    <a:moveTo>
                      <a:pt x="10799" y="2"/>
                    </a:moveTo>
                    <a:lnTo>
                      <a:pt x="10799" y="2"/>
                    </a:lnTo>
                    <a:cubicBezTo>
                      <a:pt x="10801" y="2"/>
                      <a:pt x="10801" y="3"/>
                      <a:pt x="10801" y="4"/>
                    </a:cubicBezTo>
                    <a:cubicBezTo>
                      <a:pt x="10801" y="5"/>
                      <a:pt x="10801" y="6"/>
                      <a:pt x="10799" y="6"/>
                    </a:cubicBezTo>
                    <a:lnTo>
                      <a:pt x="10799" y="6"/>
                    </a:lnTo>
                    <a:cubicBezTo>
                      <a:pt x="10798" y="6"/>
                      <a:pt x="10797" y="5"/>
                      <a:pt x="10797" y="4"/>
                    </a:cubicBezTo>
                    <a:cubicBezTo>
                      <a:pt x="10797" y="3"/>
                      <a:pt x="10798" y="2"/>
                      <a:pt x="10799" y="2"/>
                    </a:cubicBezTo>
                    <a:close/>
                    <a:moveTo>
                      <a:pt x="10807" y="2"/>
                    </a:moveTo>
                    <a:lnTo>
                      <a:pt x="10807" y="2"/>
                    </a:lnTo>
                    <a:cubicBezTo>
                      <a:pt x="10809" y="2"/>
                      <a:pt x="10809" y="3"/>
                      <a:pt x="10809" y="4"/>
                    </a:cubicBezTo>
                    <a:cubicBezTo>
                      <a:pt x="10809" y="5"/>
                      <a:pt x="10809" y="6"/>
                      <a:pt x="10807" y="6"/>
                    </a:cubicBezTo>
                    <a:lnTo>
                      <a:pt x="10807" y="6"/>
                    </a:lnTo>
                    <a:cubicBezTo>
                      <a:pt x="10806" y="6"/>
                      <a:pt x="10805" y="5"/>
                      <a:pt x="10805" y="4"/>
                    </a:cubicBezTo>
                    <a:cubicBezTo>
                      <a:pt x="10805" y="3"/>
                      <a:pt x="10806" y="2"/>
                      <a:pt x="10807" y="2"/>
                    </a:cubicBezTo>
                    <a:close/>
                    <a:moveTo>
                      <a:pt x="10815" y="2"/>
                    </a:moveTo>
                    <a:lnTo>
                      <a:pt x="10815" y="2"/>
                    </a:lnTo>
                    <a:cubicBezTo>
                      <a:pt x="10817" y="2"/>
                      <a:pt x="10817" y="3"/>
                      <a:pt x="10817" y="4"/>
                    </a:cubicBezTo>
                    <a:cubicBezTo>
                      <a:pt x="10817" y="5"/>
                      <a:pt x="10817" y="6"/>
                      <a:pt x="10815" y="6"/>
                    </a:cubicBezTo>
                    <a:lnTo>
                      <a:pt x="10815" y="6"/>
                    </a:lnTo>
                    <a:cubicBezTo>
                      <a:pt x="10814" y="6"/>
                      <a:pt x="10813" y="5"/>
                      <a:pt x="10813" y="4"/>
                    </a:cubicBezTo>
                    <a:cubicBezTo>
                      <a:pt x="10813" y="3"/>
                      <a:pt x="10814" y="2"/>
                      <a:pt x="10815" y="2"/>
                    </a:cubicBezTo>
                    <a:close/>
                    <a:moveTo>
                      <a:pt x="10823" y="2"/>
                    </a:moveTo>
                    <a:lnTo>
                      <a:pt x="10823" y="2"/>
                    </a:lnTo>
                    <a:cubicBezTo>
                      <a:pt x="10825" y="2"/>
                      <a:pt x="10825" y="3"/>
                      <a:pt x="10825" y="4"/>
                    </a:cubicBezTo>
                    <a:cubicBezTo>
                      <a:pt x="10825" y="5"/>
                      <a:pt x="10825" y="6"/>
                      <a:pt x="10823" y="6"/>
                    </a:cubicBezTo>
                    <a:lnTo>
                      <a:pt x="10823" y="6"/>
                    </a:lnTo>
                    <a:cubicBezTo>
                      <a:pt x="10822" y="6"/>
                      <a:pt x="10821" y="5"/>
                      <a:pt x="10821" y="4"/>
                    </a:cubicBezTo>
                    <a:cubicBezTo>
                      <a:pt x="10821" y="3"/>
                      <a:pt x="10822" y="2"/>
                      <a:pt x="10823" y="2"/>
                    </a:cubicBezTo>
                    <a:close/>
                    <a:moveTo>
                      <a:pt x="10831" y="2"/>
                    </a:moveTo>
                    <a:lnTo>
                      <a:pt x="10831" y="2"/>
                    </a:lnTo>
                    <a:cubicBezTo>
                      <a:pt x="10833" y="2"/>
                      <a:pt x="10833" y="3"/>
                      <a:pt x="10833" y="4"/>
                    </a:cubicBezTo>
                    <a:cubicBezTo>
                      <a:pt x="10833" y="5"/>
                      <a:pt x="10833" y="6"/>
                      <a:pt x="10831" y="6"/>
                    </a:cubicBezTo>
                    <a:lnTo>
                      <a:pt x="10831" y="6"/>
                    </a:lnTo>
                    <a:cubicBezTo>
                      <a:pt x="10830" y="6"/>
                      <a:pt x="10829" y="5"/>
                      <a:pt x="10829" y="4"/>
                    </a:cubicBezTo>
                    <a:cubicBezTo>
                      <a:pt x="10829" y="3"/>
                      <a:pt x="10830" y="2"/>
                      <a:pt x="10831" y="2"/>
                    </a:cubicBezTo>
                    <a:close/>
                    <a:moveTo>
                      <a:pt x="10839" y="2"/>
                    </a:moveTo>
                    <a:lnTo>
                      <a:pt x="10839" y="2"/>
                    </a:lnTo>
                    <a:cubicBezTo>
                      <a:pt x="10841" y="2"/>
                      <a:pt x="10841" y="3"/>
                      <a:pt x="10841" y="4"/>
                    </a:cubicBezTo>
                    <a:cubicBezTo>
                      <a:pt x="10841" y="5"/>
                      <a:pt x="10841" y="6"/>
                      <a:pt x="10839" y="6"/>
                    </a:cubicBezTo>
                    <a:lnTo>
                      <a:pt x="10839" y="6"/>
                    </a:lnTo>
                    <a:cubicBezTo>
                      <a:pt x="10838" y="6"/>
                      <a:pt x="10837" y="5"/>
                      <a:pt x="10837" y="4"/>
                    </a:cubicBezTo>
                    <a:cubicBezTo>
                      <a:pt x="10837" y="3"/>
                      <a:pt x="10838" y="2"/>
                      <a:pt x="10839" y="2"/>
                    </a:cubicBezTo>
                    <a:close/>
                    <a:moveTo>
                      <a:pt x="10847" y="2"/>
                    </a:moveTo>
                    <a:lnTo>
                      <a:pt x="10847" y="2"/>
                    </a:lnTo>
                    <a:cubicBezTo>
                      <a:pt x="10849" y="2"/>
                      <a:pt x="10849" y="3"/>
                      <a:pt x="10849" y="4"/>
                    </a:cubicBezTo>
                    <a:cubicBezTo>
                      <a:pt x="10849" y="5"/>
                      <a:pt x="10849" y="6"/>
                      <a:pt x="10847" y="6"/>
                    </a:cubicBezTo>
                    <a:lnTo>
                      <a:pt x="10847" y="6"/>
                    </a:lnTo>
                    <a:cubicBezTo>
                      <a:pt x="10846" y="6"/>
                      <a:pt x="10845" y="5"/>
                      <a:pt x="10845" y="4"/>
                    </a:cubicBezTo>
                    <a:cubicBezTo>
                      <a:pt x="10845" y="3"/>
                      <a:pt x="10846" y="2"/>
                      <a:pt x="10847" y="2"/>
                    </a:cubicBezTo>
                    <a:close/>
                    <a:moveTo>
                      <a:pt x="10855" y="2"/>
                    </a:moveTo>
                    <a:lnTo>
                      <a:pt x="10855" y="2"/>
                    </a:lnTo>
                    <a:cubicBezTo>
                      <a:pt x="10857" y="2"/>
                      <a:pt x="10857" y="3"/>
                      <a:pt x="10857" y="4"/>
                    </a:cubicBezTo>
                    <a:cubicBezTo>
                      <a:pt x="10857" y="5"/>
                      <a:pt x="10857" y="6"/>
                      <a:pt x="10855" y="6"/>
                    </a:cubicBezTo>
                    <a:lnTo>
                      <a:pt x="10855" y="6"/>
                    </a:lnTo>
                    <a:cubicBezTo>
                      <a:pt x="10854" y="6"/>
                      <a:pt x="10853" y="5"/>
                      <a:pt x="10853" y="4"/>
                    </a:cubicBezTo>
                    <a:cubicBezTo>
                      <a:pt x="10853" y="3"/>
                      <a:pt x="10854" y="2"/>
                      <a:pt x="10855" y="2"/>
                    </a:cubicBezTo>
                    <a:close/>
                    <a:moveTo>
                      <a:pt x="10863" y="2"/>
                    </a:moveTo>
                    <a:lnTo>
                      <a:pt x="10863" y="2"/>
                    </a:lnTo>
                    <a:cubicBezTo>
                      <a:pt x="10865" y="2"/>
                      <a:pt x="10865" y="3"/>
                      <a:pt x="10865" y="4"/>
                    </a:cubicBezTo>
                    <a:cubicBezTo>
                      <a:pt x="10865" y="5"/>
                      <a:pt x="10865" y="6"/>
                      <a:pt x="10863" y="6"/>
                    </a:cubicBezTo>
                    <a:lnTo>
                      <a:pt x="10863" y="6"/>
                    </a:lnTo>
                    <a:cubicBezTo>
                      <a:pt x="10862" y="6"/>
                      <a:pt x="10861" y="5"/>
                      <a:pt x="10861" y="4"/>
                    </a:cubicBezTo>
                    <a:cubicBezTo>
                      <a:pt x="10861" y="3"/>
                      <a:pt x="10862" y="2"/>
                      <a:pt x="10863" y="2"/>
                    </a:cubicBezTo>
                    <a:close/>
                    <a:moveTo>
                      <a:pt x="10871" y="2"/>
                    </a:moveTo>
                    <a:lnTo>
                      <a:pt x="10871" y="2"/>
                    </a:lnTo>
                    <a:cubicBezTo>
                      <a:pt x="10873" y="2"/>
                      <a:pt x="10873" y="3"/>
                      <a:pt x="10873" y="4"/>
                    </a:cubicBezTo>
                    <a:cubicBezTo>
                      <a:pt x="10873" y="5"/>
                      <a:pt x="10873" y="6"/>
                      <a:pt x="10871" y="6"/>
                    </a:cubicBezTo>
                    <a:lnTo>
                      <a:pt x="10871" y="6"/>
                    </a:lnTo>
                    <a:cubicBezTo>
                      <a:pt x="10870" y="6"/>
                      <a:pt x="10869" y="5"/>
                      <a:pt x="10869" y="4"/>
                    </a:cubicBezTo>
                    <a:cubicBezTo>
                      <a:pt x="10869" y="3"/>
                      <a:pt x="10870" y="2"/>
                      <a:pt x="10871" y="2"/>
                    </a:cubicBezTo>
                    <a:close/>
                    <a:moveTo>
                      <a:pt x="10879" y="2"/>
                    </a:moveTo>
                    <a:lnTo>
                      <a:pt x="10879" y="2"/>
                    </a:lnTo>
                    <a:cubicBezTo>
                      <a:pt x="10881" y="2"/>
                      <a:pt x="10881" y="3"/>
                      <a:pt x="10881" y="4"/>
                    </a:cubicBezTo>
                    <a:cubicBezTo>
                      <a:pt x="10881" y="5"/>
                      <a:pt x="10881" y="6"/>
                      <a:pt x="10879" y="6"/>
                    </a:cubicBezTo>
                    <a:lnTo>
                      <a:pt x="10879" y="6"/>
                    </a:lnTo>
                    <a:cubicBezTo>
                      <a:pt x="10878" y="6"/>
                      <a:pt x="10877" y="5"/>
                      <a:pt x="10877" y="4"/>
                    </a:cubicBezTo>
                    <a:cubicBezTo>
                      <a:pt x="10877" y="3"/>
                      <a:pt x="10878" y="2"/>
                      <a:pt x="10879" y="2"/>
                    </a:cubicBezTo>
                    <a:close/>
                    <a:moveTo>
                      <a:pt x="10887" y="2"/>
                    </a:moveTo>
                    <a:lnTo>
                      <a:pt x="10887" y="2"/>
                    </a:lnTo>
                    <a:cubicBezTo>
                      <a:pt x="10889" y="2"/>
                      <a:pt x="10889" y="3"/>
                      <a:pt x="10889" y="4"/>
                    </a:cubicBezTo>
                    <a:cubicBezTo>
                      <a:pt x="10889" y="5"/>
                      <a:pt x="10889" y="6"/>
                      <a:pt x="10887" y="6"/>
                    </a:cubicBezTo>
                    <a:lnTo>
                      <a:pt x="10887" y="6"/>
                    </a:lnTo>
                    <a:cubicBezTo>
                      <a:pt x="10886" y="6"/>
                      <a:pt x="10885" y="5"/>
                      <a:pt x="10885" y="4"/>
                    </a:cubicBezTo>
                    <a:cubicBezTo>
                      <a:pt x="10885" y="3"/>
                      <a:pt x="10886" y="2"/>
                      <a:pt x="10887" y="2"/>
                    </a:cubicBezTo>
                    <a:close/>
                    <a:moveTo>
                      <a:pt x="10895" y="2"/>
                    </a:moveTo>
                    <a:lnTo>
                      <a:pt x="10895" y="2"/>
                    </a:lnTo>
                    <a:cubicBezTo>
                      <a:pt x="10897" y="2"/>
                      <a:pt x="10897" y="3"/>
                      <a:pt x="10897" y="4"/>
                    </a:cubicBezTo>
                    <a:cubicBezTo>
                      <a:pt x="10897" y="5"/>
                      <a:pt x="10897" y="6"/>
                      <a:pt x="10895" y="6"/>
                    </a:cubicBezTo>
                    <a:lnTo>
                      <a:pt x="10895" y="6"/>
                    </a:lnTo>
                    <a:cubicBezTo>
                      <a:pt x="10894" y="6"/>
                      <a:pt x="10893" y="5"/>
                      <a:pt x="10893" y="4"/>
                    </a:cubicBezTo>
                    <a:cubicBezTo>
                      <a:pt x="10893" y="3"/>
                      <a:pt x="10894" y="2"/>
                      <a:pt x="10895" y="2"/>
                    </a:cubicBezTo>
                    <a:close/>
                    <a:moveTo>
                      <a:pt x="10903" y="2"/>
                    </a:moveTo>
                    <a:lnTo>
                      <a:pt x="10903" y="2"/>
                    </a:lnTo>
                    <a:cubicBezTo>
                      <a:pt x="10905" y="2"/>
                      <a:pt x="10905" y="3"/>
                      <a:pt x="10905" y="4"/>
                    </a:cubicBezTo>
                    <a:cubicBezTo>
                      <a:pt x="10905" y="5"/>
                      <a:pt x="10905" y="6"/>
                      <a:pt x="10903" y="6"/>
                    </a:cubicBezTo>
                    <a:lnTo>
                      <a:pt x="10903" y="6"/>
                    </a:lnTo>
                    <a:cubicBezTo>
                      <a:pt x="10902" y="6"/>
                      <a:pt x="10901" y="5"/>
                      <a:pt x="10901" y="4"/>
                    </a:cubicBezTo>
                    <a:cubicBezTo>
                      <a:pt x="10901" y="3"/>
                      <a:pt x="10902" y="2"/>
                      <a:pt x="10903" y="2"/>
                    </a:cubicBezTo>
                    <a:close/>
                    <a:moveTo>
                      <a:pt x="10911" y="2"/>
                    </a:moveTo>
                    <a:lnTo>
                      <a:pt x="10911" y="2"/>
                    </a:lnTo>
                    <a:cubicBezTo>
                      <a:pt x="10913" y="2"/>
                      <a:pt x="10913" y="3"/>
                      <a:pt x="10913" y="4"/>
                    </a:cubicBezTo>
                    <a:cubicBezTo>
                      <a:pt x="10913" y="5"/>
                      <a:pt x="10913" y="6"/>
                      <a:pt x="10911" y="6"/>
                    </a:cubicBezTo>
                    <a:lnTo>
                      <a:pt x="10911" y="6"/>
                    </a:lnTo>
                    <a:cubicBezTo>
                      <a:pt x="10910" y="6"/>
                      <a:pt x="10909" y="5"/>
                      <a:pt x="10909" y="4"/>
                    </a:cubicBezTo>
                    <a:cubicBezTo>
                      <a:pt x="10909" y="3"/>
                      <a:pt x="10910" y="2"/>
                      <a:pt x="10911" y="2"/>
                    </a:cubicBezTo>
                    <a:close/>
                    <a:moveTo>
                      <a:pt x="10919" y="2"/>
                    </a:moveTo>
                    <a:lnTo>
                      <a:pt x="10919" y="2"/>
                    </a:lnTo>
                    <a:cubicBezTo>
                      <a:pt x="10921" y="2"/>
                      <a:pt x="10921" y="3"/>
                      <a:pt x="10921" y="4"/>
                    </a:cubicBezTo>
                    <a:cubicBezTo>
                      <a:pt x="10921" y="5"/>
                      <a:pt x="10921" y="6"/>
                      <a:pt x="10919" y="6"/>
                    </a:cubicBezTo>
                    <a:lnTo>
                      <a:pt x="10919" y="6"/>
                    </a:lnTo>
                    <a:cubicBezTo>
                      <a:pt x="10918" y="6"/>
                      <a:pt x="10917" y="5"/>
                      <a:pt x="10917" y="4"/>
                    </a:cubicBezTo>
                    <a:cubicBezTo>
                      <a:pt x="10917" y="3"/>
                      <a:pt x="10918" y="2"/>
                      <a:pt x="10919" y="2"/>
                    </a:cubicBezTo>
                    <a:close/>
                    <a:moveTo>
                      <a:pt x="10927" y="2"/>
                    </a:moveTo>
                    <a:lnTo>
                      <a:pt x="10927" y="2"/>
                    </a:lnTo>
                    <a:cubicBezTo>
                      <a:pt x="10929" y="2"/>
                      <a:pt x="10929" y="3"/>
                      <a:pt x="10929" y="4"/>
                    </a:cubicBezTo>
                    <a:cubicBezTo>
                      <a:pt x="10929" y="5"/>
                      <a:pt x="10929" y="6"/>
                      <a:pt x="10927" y="6"/>
                    </a:cubicBezTo>
                    <a:lnTo>
                      <a:pt x="10927" y="6"/>
                    </a:lnTo>
                    <a:cubicBezTo>
                      <a:pt x="10926" y="6"/>
                      <a:pt x="10925" y="5"/>
                      <a:pt x="10925" y="4"/>
                    </a:cubicBezTo>
                    <a:cubicBezTo>
                      <a:pt x="10925" y="3"/>
                      <a:pt x="10926" y="2"/>
                      <a:pt x="10927" y="2"/>
                    </a:cubicBezTo>
                    <a:close/>
                    <a:moveTo>
                      <a:pt x="10935" y="2"/>
                    </a:moveTo>
                    <a:lnTo>
                      <a:pt x="10935" y="2"/>
                    </a:lnTo>
                    <a:cubicBezTo>
                      <a:pt x="10937" y="2"/>
                      <a:pt x="10937" y="3"/>
                      <a:pt x="10937" y="4"/>
                    </a:cubicBezTo>
                    <a:cubicBezTo>
                      <a:pt x="10937" y="5"/>
                      <a:pt x="10937" y="6"/>
                      <a:pt x="10935" y="6"/>
                    </a:cubicBezTo>
                    <a:lnTo>
                      <a:pt x="10935" y="6"/>
                    </a:lnTo>
                    <a:cubicBezTo>
                      <a:pt x="10934" y="6"/>
                      <a:pt x="10933" y="5"/>
                      <a:pt x="10933" y="4"/>
                    </a:cubicBezTo>
                    <a:cubicBezTo>
                      <a:pt x="10933" y="3"/>
                      <a:pt x="10934" y="2"/>
                      <a:pt x="10935" y="2"/>
                    </a:cubicBezTo>
                    <a:close/>
                    <a:moveTo>
                      <a:pt x="10943" y="2"/>
                    </a:moveTo>
                    <a:lnTo>
                      <a:pt x="10943" y="2"/>
                    </a:lnTo>
                    <a:cubicBezTo>
                      <a:pt x="10945" y="2"/>
                      <a:pt x="10945" y="3"/>
                      <a:pt x="10945" y="4"/>
                    </a:cubicBezTo>
                    <a:cubicBezTo>
                      <a:pt x="10945" y="5"/>
                      <a:pt x="10945" y="6"/>
                      <a:pt x="10943" y="6"/>
                    </a:cubicBezTo>
                    <a:lnTo>
                      <a:pt x="10943" y="6"/>
                    </a:lnTo>
                    <a:cubicBezTo>
                      <a:pt x="10942" y="6"/>
                      <a:pt x="10941" y="5"/>
                      <a:pt x="10941" y="4"/>
                    </a:cubicBezTo>
                    <a:cubicBezTo>
                      <a:pt x="10941" y="3"/>
                      <a:pt x="10942" y="2"/>
                      <a:pt x="10943" y="2"/>
                    </a:cubicBezTo>
                    <a:close/>
                    <a:moveTo>
                      <a:pt x="10951" y="2"/>
                    </a:moveTo>
                    <a:lnTo>
                      <a:pt x="10951" y="2"/>
                    </a:lnTo>
                    <a:cubicBezTo>
                      <a:pt x="10953" y="2"/>
                      <a:pt x="10953" y="3"/>
                      <a:pt x="10953" y="4"/>
                    </a:cubicBezTo>
                    <a:cubicBezTo>
                      <a:pt x="10953" y="5"/>
                      <a:pt x="10953" y="6"/>
                      <a:pt x="10951" y="6"/>
                    </a:cubicBezTo>
                    <a:lnTo>
                      <a:pt x="10951" y="6"/>
                    </a:lnTo>
                    <a:cubicBezTo>
                      <a:pt x="10950" y="6"/>
                      <a:pt x="10949" y="5"/>
                      <a:pt x="10949" y="4"/>
                    </a:cubicBezTo>
                    <a:cubicBezTo>
                      <a:pt x="10949" y="3"/>
                      <a:pt x="10950" y="2"/>
                      <a:pt x="10951" y="2"/>
                    </a:cubicBezTo>
                    <a:close/>
                    <a:moveTo>
                      <a:pt x="10959" y="2"/>
                    </a:moveTo>
                    <a:lnTo>
                      <a:pt x="10960" y="2"/>
                    </a:lnTo>
                    <a:cubicBezTo>
                      <a:pt x="10961" y="2"/>
                      <a:pt x="10962" y="3"/>
                      <a:pt x="10962" y="4"/>
                    </a:cubicBezTo>
                    <a:cubicBezTo>
                      <a:pt x="10962" y="5"/>
                      <a:pt x="10961" y="6"/>
                      <a:pt x="10960" y="6"/>
                    </a:cubicBezTo>
                    <a:lnTo>
                      <a:pt x="10959" y="6"/>
                    </a:lnTo>
                    <a:cubicBezTo>
                      <a:pt x="10958" y="6"/>
                      <a:pt x="10957" y="5"/>
                      <a:pt x="10957" y="4"/>
                    </a:cubicBezTo>
                    <a:cubicBezTo>
                      <a:pt x="10957" y="3"/>
                      <a:pt x="10958" y="2"/>
                      <a:pt x="10959" y="2"/>
                    </a:cubicBezTo>
                    <a:close/>
                    <a:moveTo>
                      <a:pt x="10968" y="2"/>
                    </a:moveTo>
                    <a:lnTo>
                      <a:pt x="10968" y="2"/>
                    </a:lnTo>
                    <a:cubicBezTo>
                      <a:pt x="10969" y="2"/>
                      <a:pt x="10970" y="3"/>
                      <a:pt x="10970" y="4"/>
                    </a:cubicBezTo>
                    <a:cubicBezTo>
                      <a:pt x="10970" y="5"/>
                      <a:pt x="10969" y="6"/>
                      <a:pt x="10968" y="6"/>
                    </a:cubicBezTo>
                    <a:lnTo>
                      <a:pt x="10968" y="6"/>
                    </a:lnTo>
                    <a:cubicBezTo>
                      <a:pt x="10966" y="6"/>
                      <a:pt x="10966" y="5"/>
                      <a:pt x="10966" y="4"/>
                    </a:cubicBezTo>
                    <a:cubicBezTo>
                      <a:pt x="10966" y="3"/>
                      <a:pt x="10966" y="2"/>
                      <a:pt x="10968" y="2"/>
                    </a:cubicBezTo>
                    <a:close/>
                    <a:moveTo>
                      <a:pt x="10976" y="2"/>
                    </a:moveTo>
                    <a:lnTo>
                      <a:pt x="10976" y="2"/>
                    </a:lnTo>
                    <a:cubicBezTo>
                      <a:pt x="10977" y="2"/>
                      <a:pt x="10978" y="3"/>
                      <a:pt x="10978" y="4"/>
                    </a:cubicBezTo>
                    <a:cubicBezTo>
                      <a:pt x="10978" y="5"/>
                      <a:pt x="10977" y="6"/>
                      <a:pt x="10976" y="6"/>
                    </a:cubicBezTo>
                    <a:lnTo>
                      <a:pt x="10976" y="6"/>
                    </a:lnTo>
                    <a:cubicBezTo>
                      <a:pt x="10974" y="6"/>
                      <a:pt x="10974" y="5"/>
                      <a:pt x="10974" y="4"/>
                    </a:cubicBezTo>
                    <a:cubicBezTo>
                      <a:pt x="10974" y="3"/>
                      <a:pt x="10974" y="2"/>
                      <a:pt x="10976" y="2"/>
                    </a:cubicBezTo>
                    <a:close/>
                    <a:moveTo>
                      <a:pt x="10984" y="2"/>
                    </a:moveTo>
                    <a:lnTo>
                      <a:pt x="10984" y="2"/>
                    </a:lnTo>
                    <a:cubicBezTo>
                      <a:pt x="10985" y="2"/>
                      <a:pt x="10986" y="3"/>
                      <a:pt x="10986" y="4"/>
                    </a:cubicBezTo>
                    <a:cubicBezTo>
                      <a:pt x="10986" y="5"/>
                      <a:pt x="10985" y="6"/>
                      <a:pt x="10984" y="6"/>
                    </a:cubicBezTo>
                    <a:lnTo>
                      <a:pt x="10984" y="6"/>
                    </a:lnTo>
                    <a:cubicBezTo>
                      <a:pt x="10982" y="6"/>
                      <a:pt x="10982" y="5"/>
                      <a:pt x="10982" y="4"/>
                    </a:cubicBezTo>
                    <a:cubicBezTo>
                      <a:pt x="10982" y="3"/>
                      <a:pt x="10982" y="2"/>
                      <a:pt x="10984" y="2"/>
                    </a:cubicBezTo>
                    <a:close/>
                    <a:moveTo>
                      <a:pt x="10992" y="2"/>
                    </a:moveTo>
                    <a:lnTo>
                      <a:pt x="10992" y="2"/>
                    </a:lnTo>
                    <a:cubicBezTo>
                      <a:pt x="10993" y="2"/>
                      <a:pt x="10994" y="3"/>
                      <a:pt x="10994" y="4"/>
                    </a:cubicBezTo>
                    <a:cubicBezTo>
                      <a:pt x="10994" y="5"/>
                      <a:pt x="10993" y="6"/>
                      <a:pt x="10992" y="6"/>
                    </a:cubicBezTo>
                    <a:lnTo>
                      <a:pt x="10992" y="6"/>
                    </a:lnTo>
                    <a:cubicBezTo>
                      <a:pt x="10990" y="6"/>
                      <a:pt x="10990" y="5"/>
                      <a:pt x="10990" y="4"/>
                    </a:cubicBezTo>
                    <a:cubicBezTo>
                      <a:pt x="10990" y="3"/>
                      <a:pt x="10990" y="2"/>
                      <a:pt x="10992" y="2"/>
                    </a:cubicBezTo>
                    <a:close/>
                    <a:moveTo>
                      <a:pt x="11000" y="2"/>
                    </a:moveTo>
                    <a:lnTo>
                      <a:pt x="11000" y="2"/>
                    </a:lnTo>
                    <a:cubicBezTo>
                      <a:pt x="11001" y="2"/>
                      <a:pt x="11002" y="3"/>
                      <a:pt x="11002" y="4"/>
                    </a:cubicBezTo>
                    <a:cubicBezTo>
                      <a:pt x="11002" y="5"/>
                      <a:pt x="11001" y="6"/>
                      <a:pt x="11000" y="6"/>
                    </a:cubicBezTo>
                    <a:lnTo>
                      <a:pt x="11000" y="6"/>
                    </a:lnTo>
                    <a:cubicBezTo>
                      <a:pt x="10998" y="6"/>
                      <a:pt x="10998" y="5"/>
                      <a:pt x="10998" y="4"/>
                    </a:cubicBezTo>
                    <a:cubicBezTo>
                      <a:pt x="10998" y="3"/>
                      <a:pt x="10998" y="2"/>
                      <a:pt x="11000" y="2"/>
                    </a:cubicBezTo>
                    <a:close/>
                    <a:moveTo>
                      <a:pt x="11008" y="2"/>
                    </a:moveTo>
                    <a:lnTo>
                      <a:pt x="11008" y="2"/>
                    </a:lnTo>
                    <a:cubicBezTo>
                      <a:pt x="11009" y="2"/>
                      <a:pt x="11010" y="3"/>
                      <a:pt x="11010" y="4"/>
                    </a:cubicBezTo>
                    <a:cubicBezTo>
                      <a:pt x="11010" y="5"/>
                      <a:pt x="11009" y="6"/>
                      <a:pt x="11008" y="6"/>
                    </a:cubicBezTo>
                    <a:lnTo>
                      <a:pt x="11008" y="6"/>
                    </a:lnTo>
                    <a:cubicBezTo>
                      <a:pt x="11006" y="6"/>
                      <a:pt x="11006" y="5"/>
                      <a:pt x="11006" y="4"/>
                    </a:cubicBezTo>
                    <a:cubicBezTo>
                      <a:pt x="11006" y="3"/>
                      <a:pt x="11006" y="2"/>
                      <a:pt x="11008" y="2"/>
                    </a:cubicBezTo>
                    <a:close/>
                    <a:moveTo>
                      <a:pt x="11016" y="2"/>
                    </a:moveTo>
                    <a:lnTo>
                      <a:pt x="11016" y="2"/>
                    </a:lnTo>
                    <a:cubicBezTo>
                      <a:pt x="11017" y="2"/>
                      <a:pt x="11018" y="3"/>
                      <a:pt x="11018" y="4"/>
                    </a:cubicBezTo>
                    <a:cubicBezTo>
                      <a:pt x="11018" y="5"/>
                      <a:pt x="11017" y="6"/>
                      <a:pt x="11016" y="6"/>
                    </a:cubicBezTo>
                    <a:lnTo>
                      <a:pt x="11016" y="6"/>
                    </a:lnTo>
                    <a:cubicBezTo>
                      <a:pt x="11014" y="6"/>
                      <a:pt x="11014" y="5"/>
                      <a:pt x="11014" y="4"/>
                    </a:cubicBezTo>
                    <a:cubicBezTo>
                      <a:pt x="11014" y="3"/>
                      <a:pt x="11014" y="2"/>
                      <a:pt x="11016" y="2"/>
                    </a:cubicBezTo>
                    <a:close/>
                    <a:moveTo>
                      <a:pt x="11024" y="2"/>
                    </a:moveTo>
                    <a:lnTo>
                      <a:pt x="11024" y="2"/>
                    </a:lnTo>
                    <a:cubicBezTo>
                      <a:pt x="11025" y="2"/>
                      <a:pt x="11026" y="3"/>
                      <a:pt x="11026" y="4"/>
                    </a:cubicBezTo>
                    <a:cubicBezTo>
                      <a:pt x="11026" y="5"/>
                      <a:pt x="11025" y="6"/>
                      <a:pt x="11024" y="6"/>
                    </a:cubicBezTo>
                    <a:lnTo>
                      <a:pt x="11024" y="6"/>
                    </a:lnTo>
                    <a:cubicBezTo>
                      <a:pt x="11022" y="6"/>
                      <a:pt x="11022" y="5"/>
                      <a:pt x="11022" y="4"/>
                    </a:cubicBezTo>
                    <a:cubicBezTo>
                      <a:pt x="11022" y="3"/>
                      <a:pt x="11022" y="2"/>
                      <a:pt x="11024" y="2"/>
                    </a:cubicBezTo>
                    <a:close/>
                    <a:moveTo>
                      <a:pt x="11032" y="2"/>
                    </a:moveTo>
                    <a:lnTo>
                      <a:pt x="11032" y="2"/>
                    </a:lnTo>
                    <a:cubicBezTo>
                      <a:pt x="11033" y="2"/>
                      <a:pt x="11034" y="3"/>
                      <a:pt x="11034" y="4"/>
                    </a:cubicBezTo>
                    <a:cubicBezTo>
                      <a:pt x="11034" y="5"/>
                      <a:pt x="11033" y="6"/>
                      <a:pt x="11032" y="6"/>
                    </a:cubicBezTo>
                    <a:lnTo>
                      <a:pt x="11032" y="6"/>
                    </a:lnTo>
                    <a:cubicBezTo>
                      <a:pt x="11030" y="6"/>
                      <a:pt x="11030" y="5"/>
                      <a:pt x="11030" y="4"/>
                    </a:cubicBezTo>
                    <a:cubicBezTo>
                      <a:pt x="11030" y="3"/>
                      <a:pt x="11030" y="2"/>
                      <a:pt x="11032" y="2"/>
                    </a:cubicBezTo>
                    <a:close/>
                    <a:moveTo>
                      <a:pt x="11040" y="2"/>
                    </a:moveTo>
                    <a:lnTo>
                      <a:pt x="11040" y="2"/>
                    </a:lnTo>
                    <a:cubicBezTo>
                      <a:pt x="11041" y="2"/>
                      <a:pt x="11042" y="3"/>
                      <a:pt x="11042" y="4"/>
                    </a:cubicBezTo>
                    <a:cubicBezTo>
                      <a:pt x="11042" y="5"/>
                      <a:pt x="11041" y="6"/>
                      <a:pt x="11040" y="6"/>
                    </a:cubicBezTo>
                    <a:lnTo>
                      <a:pt x="11040" y="6"/>
                    </a:lnTo>
                    <a:cubicBezTo>
                      <a:pt x="11038" y="6"/>
                      <a:pt x="11038" y="5"/>
                      <a:pt x="11038" y="4"/>
                    </a:cubicBezTo>
                    <a:cubicBezTo>
                      <a:pt x="11038" y="3"/>
                      <a:pt x="11038" y="2"/>
                      <a:pt x="11040" y="2"/>
                    </a:cubicBezTo>
                    <a:close/>
                    <a:moveTo>
                      <a:pt x="11048" y="2"/>
                    </a:moveTo>
                    <a:lnTo>
                      <a:pt x="11048" y="2"/>
                    </a:lnTo>
                    <a:cubicBezTo>
                      <a:pt x="11049" y="2"/>
                      <a:pt x="11050" y="3"/>
                      <a:pt x="11050" y="4"/>
                    </a:cubicBezTo>
                    <a:cubicBezTo>
                      <a:pt x="11050" y="5"/>
                      <a:pt x="11049" y="6"/>
                      <a:pt x="11048" y="6"/>
                    </a:cubicBezTo>
                    <a:lnTo>
                      <a:pt x="11048" y="6"/>
                    </a:lnTo>
                    <a:cubicBezTo>
                      <a:pt x="11046" y="6"/>
                      <a:pt x="11046" y="5"/>
                      <a:pt x="11046" y="4"/>
                    </a:cubicBezTo>
                    <a:cubicBezTo>
                      <a:pt x="11046" y="3"/>
                      <a:pt x="11046" y="2"/>
                      <a:pt x="11048" y="2"/>
                    </a:cubicBezTo>
                    <a:close/>
                    <a:moveTo>
                      <a:pt x="11056" y="2"/>
                    </a:moveTo>
                    <a:lnTo>
                      <a:pt x="11056" y="2"/>
                    </a:lnTo>
                    <a:cubicBezTo>
                      <a:pt x="11057" y="2"/>
                      <a:pt x="11058" y="3"/>
                      <a:pt x="11058" y="4"/>
                    </a:cubicBezTo>
                    <a:cubicBezTo>
                      <a:pt x="11058" y="5"/>
                      <a:pt x="11057" y="6"/>
                      <a:pt x="11056" y="6"/>
                    </a:cubicBezTo>
                    <a:lnTo>
                      <a:pt x="11056" y="6"/>
                    </a:lnTo>
                    <a:cubicBezTo>
                      <a:pt x="11054" y="6"/>
                      <a:pt x="11054" y="5"/>
                      <a:pt x="11054" y="4"/>
                    </a:cubicBezTo>
                    <a:cubicBezTo>
                      <a:pt x="11054" y="3"/>
                      <a:pt x="11054" y="2"/>
                      <a:pt x="11056" y="2"/>
                    </a:cubicBezTo>
                    <a:close/>
                    <a:moveTo>
                      <a:pt x="11064" y="2"/>
                    </a:moveTo>
                    <a:lnTo>
                      <a:pt x="11064" y="2"/>
                    </a:lnTo>
                    <a:cubicBezTo>
                      <a:pt x="11065" y="2"/>
                      <a:pt x="11066" y="3"/>
                      <a:pt x="11066" y="4"/>
                    </a:cubicBezTo>
                    <a:cubicBezTo>
                      <a:pt x="11066" y="5"/>
                      <a:pt x="11065" y="6"/>
                      <a:pt x="11064" y="6"/>
                    </a:cubicBezTo>
                    <a:lnTo>
                      <a:pt x="11064" y="6"/>
                    </a:lnTo>
                    <a:cubicBezTo>
                      <a:pt x="11062" y="6"/>
                      <a:pt x="11062" y="5"/>
                      <a:pt x="11062" y="4"/>
                    </a:cubicBezTo>
                    <a:cubicBezTo>
                      <a:pt x="11062" y="3"/>
                      <a:pt x="11062" y="2"/>
                      <a:pt x="11064" y="2"/>
                    </a:cubicBezTo>
                    <a:close/>
                    <a:moveTo>
                      <a:pt x="11072" y="2"/>
                    </a:moveTo>
                    <a:lnTo>
                      <a:pt x="11072" y="2"/>
                    </a:lnTo>
                    <a:cubicBezTo>
                      <a:pt x="11073" y="2"/>
                      <a:pt x="11074" y="3"/>
                      <a:pt x="11074" y="4"/>
                    </a:cubicBezTo>
                    <a:cubicBezTo>
                      <a:pt x="11074" y="5"/>
                      <a:pt x="11073" y="6"/>
                      <a:pt x="11072" y="6"/>
                    </a:cubicBezTo>
                    <a:lnTo>
                      <a:pt x="11072" y="6"/>
                    </a:lnTo>
                    <a:cubicBezTo>
                      <a:pt x="11070" y="6"/>
                      <a:pt x="11070" y="5"/>
                      <a:pt x="11070" y="4"/>
                    </a:cubicBezTo>
                    <a:cubicBezTo>
                      <a:pt x="11070" y="3"/>
                      <a:pt x="11070" y="2"/>
                      <a:pt x="11072" y="2"/>
                    </a:cubicBezTo>
                    <a:close/>
                    <a:moveTo>
                      <a:pt x="11080" y="2"/>
                    </a:moveTo>
                    <a:lnTo>
                      <a:pt x="11080" y="2"/>
                    </a:lnTo>
                    <a:cubicBezTo>
                      <a:pt x="11081" y="2"/>
                      <a:pt x="11082" y="3"/>
                      <a:pt x="11082" y="4"/>
                    </a:cubicBezTo>
                    <a:cubicBezTo>
                      <a:pt x="11082" y="5"/>
                      <a:pt x="11081" y="6"/>
                      <a:pt x="11080" y="6"/>
                    </a:cubicBezTo>
                    <a:lnTo>
                      <a:pt x="11080" y="6"/>
                    </a:lnTo>
                    <a:cubicBezTo>
                      <a:pt x="11078" y="6"/>
                      <a:pt x="11078" y="5"/>
                      <a:pt x="11078" y="4"/>
                    </a:cubicBezTo>
                    <a:cubicBezTo>
                      <a:pt x="11078" y="3"/>
                      <a:pt x="11078" y="2"/>
                      <a:pt x="11080" y="2"/>
                    </a:cubicBezTo>
                    <a:close/>
                    <a:moveTo>
                      <a:pt x="11088" y="2"/>
                    </a:moveTo>
                    <a:lnTo>
                      <a:pt x="11088" y="2"/>
                    </a:lnTo>
                    <a:cubicBezTo>
                      <a:pt x="11089" y="2"/>
                      <a:pt x="11090" y="3"/>
                      <a:pt x="11090" y="4"/>
                    </a:cubicBezTo>
                    <a:cubicBezTo>
                      <a:pt x="11090" y="5"/>
                      <a:pt x="11089" y="6"/>
                      <a:pt x="11088" y="6"/>
                    </a:cubicBezTo>
                    <a:lnTo>
                      <a:pt x="11088" y="6"/>
                    </a:lnTo>
                    <a:cubicBezTo>
                      <a:pt x="11086" y="6"/>
                      <a:pt x="11086" y="5"/>
                      <a:pt x="11086" y="4"/>
                    </a:cubicBezTo>
                    <a:cubicBezTo>
                      <a:pt x="11086" y="3"/>
                      <a:pt x="11086" y="2"/>
                      <a:pt x="11088" y="2"/>
                    </a:cubicBezTo>
                    <a:close/>
                    <a:moveTo>
                      <a:pt x="11096" y="2"/>
                    </a:moveTo>
                    <a:lnTo>
                      <a:pt x="11096" y="2"/>
                    </a:lnTo>
                    <a:cubicBezTo>
                      <a:pt x="11097" y="2"/>
                      <a:pt x="11098" y="3"/>
                      <a:pt x="11098" y="4"/>
                    </a:cubicBezTo>
                    <a:cubicBezTo>
                      <a:pt x="11098" y="5"/>
                      <a:pt x="11097" y="6"/>
                      <a:pt x="11096" y="6"/>
                    </a:cubicBezTo>
                    <a:lnTo>
                      <a:pt x="11096" y="6"/>
                    </a:lnTo>
                    <a:cubicBezTo>
                      <a:pt x="11094" y="6"/>
                      <a:pt x="11094" y="5"/>
                      <a:pt x="11094" y="4"/>
                    </a:cubicBezTo>
                    <a:cubicBezTo>
                      <a:pt x="11094" y="3"/>
                      <a:pt x="11094" y="2"/>
                      <a:pt x="11096" y="2"/>
                    </a:cubicBezTo>
                    <a:close/>
                    <a:moveTo>
                      <a:pt x="11104" y="2"/>
                    </a:moveTo>
                    <a:lnTo>
                      <a:pt x="11104" y="2"/>
                    </a:lnTo>
                    <a:cubicBezTo>
                      <a:pt x="11105" y="2"/>
                      <a:pt x="11106" y="3"/>
                      <a:pt x="11106" y="4"/>
                    </a:cubicBezTo>
                    <a:cubicBezTo>
                      <a:pt x="11106" y="5"/>
                      <a:pt x="11105" y="6"/>
                      <a:pt x="11104" y="6"/>
                    </a:cubicBezTo>
                    <a:lnTo>
                      <a:pt x="11104" y="6"/>
                    </a:lnTo>
                    <a:cubicBezTo>
                      <a:pt x="11102" y="6"/>
                      <a:pt x="11102" y="5"/>
                      <a:pt x="11102" y="4"/>
                    </a:cubicBezTo>
                    <a:cubicBezTo>
                      <a:pt x="11102" y="3"/>
                      <a:pt x="11102" y="2"/>
                      <a:pt x="11104" y="2"/>
                    </a:cubicBezTo>
                    <a:close/>
                    <a:moveTo>
                      <a:pt x="11112" y="2"/>
                    </a:moveTo>
                    <a:lnTo>
                      <a:pt x="11112" y="2"/>
                    </a:lnTo>
                    <a:cubicBezTo>
                      <a:pt x="11113" y="2"/>
                      <a:pt x="11114" y="3"/>
                      <a:pt x="11114" y="4"/>
                    </a:cubicBezTo>
                    <a:cubicBezTo>
                      <a:pt x="11114" y="5"/>
                      <a:pt x="11113" y="6"/>
                      <a:pt x="11112" y="6"/>
                    </a:cubicBezTo>
                    <a:lnTo>
                      <a:pt x="11112" y="6"/>
                    </a:lnTo>
                    <a:cubicBezTo>
                      <a:pt x="11110" y="6"/>
                      <a:pt x="11110" y="5"/>
                      <a:pt x="11110" y="4"/>
                    </a:cubicBezTo>
                    <a:cubicBezTo>
                      <a:pt x="11110" y="3"/>
                      <a:pt x="11110" y="2"/>
                      <a:pt x="11112" y="2"/>
                    </a:cubicBezTo>
                    <a:close/>
                    <a:moveTo>
                      <a:pt x="11120" y="2"/>
                    </a:moveTo>
                    <a:lnTo>
                      <a:pt x="11120" y="2"/>
                    </a:lnTo>
                    <a:cubicBezTo>
                      <a:pt x="11121" y="2"/>
                      <a:pt x="11122" y="3"/>
                      <a:pt x="11122" y="4"/>
                    </a:cubicBezTo>
                    <a:cubicBezTo>
                      <a:pt x="11122" y="5"/>
                      <a:pt x="11121" y="6"/>
                      <a:pt x="11120" y="6"/>
                    </a:cubicBezTo>
                    <a:lnTo>
                      <a:pt x="11120" y="6"/>
                    </a:lnTo>
                    <a:cubicBezTo>
                      <a:pt x="11118" y="6"/>
                      <a:pt x="11118" y="5"/>
                      <a:pt x="11118" y="4"/>
                    </a:cubicBezTo>
                    <a:cubicBezTo>
                      <a:pt x="11118" y="3"/>
                      <a:pt x="11118" y="2"/>
                      <a:pt x="11120" y="2"/>
                    </a:cubicBezTo>
                    <a:close/>
                    <a:moveTo>
                      <a:pt x="11128" y="2"/>
                    </a:moveTo>
                    <a:lnTo>
                      <a:pt x="11128" y="2"/>
                    </a:lnTo>
                    <a:cubicBezTo>
                      <a:pt x="11129" y="2"/>
                      <a:pt x="11130" y="3"/>
                      <a:pt x="11130" y="4"/>
                    </a:cubicBezTo>
                    <a:cubicBezTo>
                      <a:pt x="11130" y="5"/>
                      <a:pt x="11129" y="6"/>
                      <a:pt x="11128" y="6"/>
                    </a:cubicBezTo>
                    <a:lnTo>
                      <a:pt x="11128" y="6"/>
                    </a:lnTo>
                    <a:cubicBezTo>
                      <a:pt x="11126" y="6"/>
                      <a:pt x="11126" y="5"/>
                      <a:pt x="11126" y="4"/>
                    </a:cubicBezTo>
                    <a:cubicBezTo>
                      <a:pt x="11126" y="3"/>
                      <a:pt x="11126" y="2"/>
                      <a:pt x="11128" y="2"/>
                    </a:cubicBezTo>
                    <a:close/>
                    <a:moveTo>
                      <a:pt x="11136" y="2"/>
                    </a:moveTo>
                    <a:lnTo>
                      <a:pt x="11136" y="2"/>
                    </a:lnTo>
                    <a:cubicBezTo>
                      <a:pt x="11137" y="2"/>
                      <a:pt x="11138" y="3"/>
                      <a:pt x="11138" y="4"/>
                    </a:cubicBezTo>
                    <a:cubicBezTo>
                      <a:pt x="11138" y="5"/>
                      <a:pt x="11137" y="6"/>
                      <a:pt x="11136" y="6"/>
                    </a:cubicBezTo>
                    <a:lnTo>
                      <a:pt x="11136" y="6"/>
                    </a:lnTo>
                    <a:cubicBezTo>
                      <a:pt x="11134" y="6"/>
                      <a:pt x="11134" y="5"/>
                      <a:pt x="11134" y="4"/>
                    </a:cubicBezTo>
                    <a:cubicBezTo>
                      <a:pt x="11134" y="3"/>
                      <a:pt x="11134" y="2"/>
                      <a:pt x="11136" y="2"/>
                    </a:cubicBezTo>
                    <a:close/>
                    <a:moveTo>
                      <a:pt x="11144" y="2"/>
                    </a:moveTo>
                    <a:lnTo>
                      <a:pt x="11144" y="2"/>
                    </a:lnTo>
                    <a:cubicBezTo>
                      <a:pt x="11145" y="2"/>
                      <a:pt x="11146" y="3"/>
                      <a:pt x="11146" y="4"/>
                    </a:cubicBezTo>
                    <a:cubicBezTo>
                      <a:pt x="11146" y="5"/>
                      <a:pt x="11145" y="6"/>
                      <a:pt x="11144" y="6"/>
                    </a:cubicBezTo>
                    <a:lnTo>
                      <a:pt x="11144" y="6"/>
                    </a:lnTo>
                    <a:cubicBezTo>
                      <a:pt x="11143" y="6"/>
                      <a:pt x="11142" y="5"/>
                      <a:pt x="11142" y="4"/>
                    </a:cubicBezTo>
                    <a:cubicBezTo>
                      <a:pt x="11142" y="3"/>
                      <a:pt x="11143" y="2"/>
                      <a:pt x="11144" y="2"/>
                    </a:cubicBezTo>
                    <a:close/>
                    <a:moveTo>
                      <a:pt x="11152" y="2"/>
                    </a:moveTo>
                    <a:lnTo>
                      <a:pt x="11152" y="2"/>
                    </a:lnTo>
                    <a:cubicBezTo>
                      <a:pt x="11153" y="2"/>
                      <a:pt x="11154" y="3"/>
                      <a:pt x="11154" y="4"/>
                    </a:cubicBezTo>
                    <a:cubicBezTo>
                      <a:pt x="11154" y="5"/>
                      <a:pt x="11153" y="6"/>
                      <a:pt x="11152" y="6"/>
                    </a:cubicBezTo>
                    <a:lnTo>
                      <a:pt x="11152" y="6"/>
                    </a:lnTo>
                    <a:cubicBezTo>
                      <a:pt x="11151" y="6"/>
                      <a:pt x="11150" y="5"/>
                      <a:pt x="11150" y="4"/>
                    </a:cubicBezTo>
                    <a:cubicBezTo>
                      <a:pt x="11150" y="3"/>
                      <a:pt x="11151" y="2"/>
                      <a:pt x="11152" y="2"/>
                    </a:cubicBezTo>
                    <a:close/>
                    <a:moveTo>
                      <a:pt x="11160" y="2"/>
                    </a:moveTo>
                    <a:lnTo>
                      <a:pt x="11160" y="2"/>
                    </a:lnTo>
                    <a:cubicBezTo>
                      <a:pt x="11161" y="2"/>
                      <a:pt x="11162" y="3"/>
                      <a:pt x="11162" y="4"/>
                    </a:cubicBezTo>
                    <a:cubicBezTo>
                      <a:pt x="11162" y="5"/>
                      <a:pt x="11161" y="6"/>
                      <a:pt x="11160" y="6"/>
                    </a:cubicBezTo>
                    <a:lnTo>
                      <a:pt x="11160" y="6"/>
                    </a:lnTo>
                    <a:cubicBezTo>
                      <a:pt x="11159" y="6"/>
                      <a:pt x="11158" y="5"/>
                      <a:pt x="11158" y="4"/>
                    </a:cubicBezTo>
                    <a:cubicBezTo>
                      <a:pt x="11158" y="3"/>
                      <a:pt x="11159" y="2"/>
                      <a:pt x="11160" y="2"/>
                    </a:cubicBezTo>
                    <a:close/>
                    <a:moveTo>
                      <a:pt x="11168" y="2"/>
                    </a:moveTo>
                    <a:lnTo>
                      <a:pt x="11168" y="2"/>
                    </a:lnTo>
                    <a:cubicBezTo>
                      <a:pt x="11169" y="2"/>
                      <a:pt x="11170" y="3"/>
                      <a:pt x="11170" y="4"/>
                    </a:cubicBezTo>
                    <a:cubicBezTo>
                      <a:pt x="11170" y="5"/>
                      <a:pt x="11169" y="6"/>
                      <a:pt x="11168" y="6"/>
                    </a:cubicBezTo>
                    <a:lnTo>
                      <a:pt x="11168" y="6"/>
                    </a:lnTo>
                    <a:cubicBezTo>
                      <a:pt x="11167" y="6"/>
                      <a:pt x="11166" y="5"/>
                      <a:pt x="11166" y="4"/>
                    </a:cubicBezTo>
                    <a:cubicBezTo>
                      <a:pt x="11166" y="3"/>
                      <a:pt x="11167" y="2"/>
                      <a:pt x="11168" y="2"/>
                    </a:cubicBezTo>
                    <a:close/>
                    <a:moveTo>
                      <a:pt x="11176" y="2"/>
                    </a:moveTo>
                    <a:lnTo>
                      <a:pt x="11176" y="2"/>
                    </a:lnTo>
                    <a:cubicBezTo>
                      <a:pt x="11177" y="2"/>
                      <a:pt x="11178" y="3"/>
                      <a:pt x="11178" y="4"/>
                    </a:cubicBezTo>
                    <a:cubicBezTo>
                      <a:pt x="11178" y="5"/>
                      <a:pt x="11177" y="6"/>
                      <a:pt x="11176" y="6"/>
                    </a:cubicBezTo>
                    <a:lnTo>
                      <a:pt x="11176" y="6"/>
                    </a:lnTo>
                    <a:cubicBezTo>
                      <a:pt x="11175" y="6"/>
                      <a:pt x="11174" y="5"/>
                      <a:pt x="11174" y="4"/>
                    </a:cubicBezTo>
                    <a:cubicBezTo>
                      <a:pt x="11174" y="3"/>
                      <a:pt x="11175" y="2"/>
                      <a:pt x="11176" y="2"/>
                    </a:cubicBezTo>
                    <a:close/>
                    <a:moveTo>
                      <a:pt x="11184" y="2"/>
                    </a:moveTo>
                    <a:lnTo>
                      <a:pt x="11184" y="2"/>
                    </a:lnTo>
                    <a:cubicBezTo>
                      <a:pt x="11185" y="2"/>
                      <a:pt x="11186" y="3"/>
                      <a:pt x="11186" y="4"/>
                    </a:cubicBezTo>
                    <a:cubicBezTo>
                      <a:pt x="11186" y="5"/>
                      <a:pt x="11185" y="6"/>
                      <a:pt x="11184" y="6"/>
                    </a:cubicBezTo>
                    <a:lnTo>
                      <a:pt x="11184" y="6"/>
                    </a:lnTo>
                    <a:cubicBezTo>
                      <a:pt x="11183" y="6"/>
                      <a:pt x="11182" y="5"/>
                      <a:pt x="11182" y="4"/>
                    </a:cubicBezTo>
                    <a:cubicBezTo>
                      <a:pt x="11182" y="3"/>
                      <a:pt x="11183" y="2"/>
                      <a:pt x="11184" y="2"/>
                    </a:cubicBezTo>
                    <a:close/>
                    <a:moveTo>
                      <a:pt x="11192" y="2"/>
                    </a:moveTo>
                    <a:lnTo>
                      <a:pt x="11192" y="2"/>
                    </a:lnTo>
                    <a:cubicBezTo>
                      <a:pt x="11193" y="2"/>
                      <a:pt x="11194" y="3"/>
                      <a:pt x="11194" y="4"/>
                    </a:cubicBezTo>
                    <a:cubicBezTo>
                      <a:pt x="11194" y="5"/>
                      <a:pt x="11193" y="6"/>
                      <a:pt x="11192" y="6"/>
                    </a:cubicBezTo>
                    <a:lnTo>
                      <a:pt x="11192" y="6"/>
                    </a:lnTo>
                    <a:cubicBezTo>
                      <a:pt x="11191" y="6"/>
                      <a:pt x="11190" y="5"/>
                      <a:pt x="11190" y="4"/>
                    </a:cubicBezTo>
                    <a:cubicBezTo>
                      <a:pt x="11190" y="3"/>
                      <a:pt x="11191" y="2"/>
                      <a:pt x="11192" y="2"/>
                    </a:cubicBezTo>
                    <a:close/>
                    <a:moveTo>
                      <a:pt x="11200" y="2"/>
                    </a:moveTo>
                    <a:lnTo>
                      <a:pt x="11200" y="2"/>
                    </a:lnTo>
                    <a:cubicBezTo>
                      <a:pt x="11201" y="2"/>
                      <a:pt x="11202" y="3"/>
                      <a:pt x="11202" y="4"/>
                    </a:cubicBezTo>
                    <a:cubicBezTo>
                      <a:pt x="11202" y="5"/>
                      <a:pt x="11201" y="6"/>
                      <a:pt x="11200" y="6"/>
                    </a:cubicBezTo>
                    <a:lnTo>
                      <a:pt x="11200" y="6"/>
                    </a:lnTo>
                    <a:cubicBezTo>
                      <a:pt x="11199" y="6"/>
                      <a:pt x="11198" y="5"/>
                      <a:pt x="11198" y="4"/>
                    </a:cubicBezTo>
                    <a:cubicBezTo>
                      <a:pt x="11198" y="3"/>
                      <a:pt x="11199" y="2"/>
                      <a:pt x="11200" y="2"/>
                    </a:cubicBezTo>
                    <a:close/>
                    <a:moveTo>
                      <a:pt x="11208" y="2"/>
                    </a:moveTo>
                    <a:lnTo>
                      <a:pt x="11208" y="2"/>
                    </a:lnTo>
                    <a:cubicBezTo>
                      <a:pt x="11209" y="2"/>
                      <a:pt x="11210" y="3"/>
                      <a:pt x="11210" y="4"/>
                    </a:cubicBezTo>
                    <a:cubicBezTo>
                      <a:pt x="11210" y="5"/>
                      <a:pt x="11209" y="6"/>
                      <a:pt x="11208" y="6"/>
                    </a:cubicBezTo>
                    <a:lnTo>
                      <a:pt x="11208" y="6"/>
                    </a:lnTo>
                    <a:cubicBezTo>
                      <a:pt x="11207" y="6"/>
                      <a:pt x="11206" y="5"/>
                      <a:pt x="11206" y="4"/>
                    </a:cubicBezTo>
                    <a:cubicBezTo>
                      <a:pt x="11206" y="3"/>
                      <a:pt x="11207" y="2"/>
                      <a:pt x="11208" y="2"/>
                    </a:cubicBezTo>
                    <a:close/>
                    <a:moveTo>
                      <a:pt x="11216" y="2"/>
                    </a:moveTo>
                    <a:lnTo>
                      <a:pt x="11216" y="2"/>
                    </a:lnTo>
                    <a:cubicBezTo>
                      <a:pt x="11217" y="2"/>
                      <a:pt x="11218" y="3"/>
                      <a:pt x="11218" y="4"/>
                    </a:cubicBezTo>
                    <a:cubicBezTo>
                      <a:pt x="11218" y="5"/>
                      <a:pt x="11217" y="6"/>
                      <a:pt x="11216" y="6"/>
                    </a:cubicBezTo>
                    <a:lnTo>
                      <a:pt x="11216" y="6"/>
                    </a:lnTo>
                    <a:cubicBezTo>
                      <a:pt x="11215" y="6"/>
                      <a:pt x="11214" y="5"/>
                      <a:pt x="11214" y="4"/>
                    </a:cubicBezTo>
                    <a:cubicBezTo>
                      <a:pt x="11214" y="3"/>
                      <a:pt x="11215" y="2"/>
                      <a:pt x="11216" y="2"/>
                    </a:cubicBezTo>
                    <a:close/>
                    <a:moveTo>
                      <a:pt x="11224" y="2"/>
                    </a:moveTo>
                    <a:lnTo>
                      <a:pt x="11224" y="2"/>
                    </a:lnTo>
                    <a:cubicBezTo>
                      <a:pt x="11225" y="2"/>
                      <a:pt x="11226" y="3"/>
                      <a:pt x="11226" y="4"/>
                    </a:cubicBezTo>
                    <a:cubicBezTo>
                      <a:pt x="11226" y="5"/>
                      <a:pt x="11225" y="6"/>
                      <a:pt x="11224" y="6"/>
                    </a:cubicBezTo>
                    <a:lnTo>
                      <a:pt x="11224" y="6"/>
                    </a:lnTo>
                    <a:cubicBezTo>
                      <a:pt x="11223" y="6"/>
                      <a:pt x="11222" y="5"/>
                      <a:pt x="11222" y="4"/>
                    </a:cubicBezTo>
                    <a:cubicBezTo>
                      <a:pt x="11222" y="3"/>
                      <a:pt x="11223" y="2"/>
                      <a:pt x="11224" y="2"/>
                    </a:cubicBezTo>
                    <a:close/>
                    <a:moveTo>
                      <a:pt x="11232" y="2"/>
                    </a:moveTo>
                    <a:lnTo>
                      <a:pt x="11232" y="2"/>
                    </a:lnTo>
                    <a:cubicBezTo>
                      <a:pt x="11233" y="2"/>
                      <a:pt x="11234" y="3"/>
                      <a:pt x="11234" y="4"/>
                    </a:cubicBezTo>
                    <a:cubicBezTo>
                      <a:pt x="11234" y="5"/>
                      <a:pt x="11233" y="6"/>
                      <a:pt x="11232" y="6"/>
                    </a:cubicBezTo>
                    <a:lnTo>
                      <a:pt x="11232" y="6"/>
                    </a:lnTo>
                    <a:cubicBezTo>
                      <a:pt x="11231" y="6"/>
                      <a:pt x="11230" y="5"/>
                      <a:pt x="11230" y="4"/>
                    </a:cubicBezTo>
                    <a:cubicBezTo>
                      <a:pt x="11230" y="3"/>
                      <a:pt x="11231" y="2"/>
                      <a:pt x="11232" y="2"/>
                    </a:cubicBezTo>
                    <a:close/>
                    <a:moveTo>
                      <a:pt x="11240" y="2"/>
                    </a:moveTo>
                    <a:lnTo>
                      <a:pt x="11240" y="2"/>
                    </a:lnTo>
                    <a:cubicBezTo>
                      <a:pt x="11241" y="2"/>
                      <a:pt x="11242" y="3"/>
                      <a:pt x="11242" y="4"/>
                    </a:cubicBezTo>
                    <a:cubicBezTo>
                      <a:pt x="11242" y="5"/>
                      <a:pt x="11241" y="6"/>
                      <a:pt x="11240" y="6"/>
                    </a:cubicBezTo>
                    <a:lnTo>
                      <a:pt x="11240" y="6"/>
                    </a:lnTo>
                    <a:cubicBezTo>
                      <a:pt x="11239" y="6"/>
                      <a:pt x="11238" y="5"/>
                      <a:pt x="11238" y="4"/>
                    </a:cubicBezTo>
                    <a:cubicBezTo>
                      <a:pt x="11238" y="3"/>
                      <a:pt x="11239" y="2"/>
                      <a:pt x="11240" y="2"/>
                    </a:cubicBezTo>
                    <a:close/>
                    <a:moveTo>
                      <a:pt x="11248" y="2"/>
                    </a:moveTo>
                    <a:lnTo>
                      <a:pt x="11248" y="2"/>
                    </a:lnTo>
                    <a:cubicBezTo>
                      <a:pt x="11249" y="2"/>
                      <a:pt x="11250" y="3"/>
                      <a:pt x="11250" y="4"/>
                    </a:cubicBezTo>
                    <a:cubicBezTo>
                      <a:pt x="11250" y="5"/>
                      <a:pt x="11249" y="6"/>
                      <a:pt x="11248" y="6"/>
                    </a:cubicBezTo>
                    <a:lnTo>
                      <a:pt x="11248" y="6"/>
                    </a:lnTo>
                    <a:cubicBezTo>
                      <a:pt x="11247" y="6"/>
                      <a:pt x="11246" y="5"/>
                      <a:pt x="11246" y="4"/>
                    </a:cubicBezTo>
                    <a:cubicBezTo>
                      <a:pt x="11246" y="3"/>
                      <a:pt x="11247" y="2"/>
                      <a:pt x="11248" y="2"/>
                    </a:cubicBezTo>
                    <a:close/>
                    <a:moveTo>
                      <a:pt x="11256" y="2"/>
                    </a:moveTo>
                    <a:lnTo>
                      <a:pt x="11256" y="2"/>
                    </a:lnTo>
                    <a:cubicBezTo>
                      <a:pt x="11257" y="2"/>
                      <a:pt x="11258" y="3"/>
                      <a:pt x="11258" y="4"/>
                    </a:cubicBezTo>
                    <a:cubicBezTo>
                      <a:pt x="11258" y="5"/>
                      <a:pt x="11257" y="6"/>
                      <a:pt x="11256" y="6"/>
                    </a:cubicBezTo>
                    <a:lnTo>
                      <a:pt x="11256" y="6"/>
                    </a:lnTo>
                    <a:cubicBezTo>
                      <a:pt x="11255" y="6"/>
                      <a:pt x="11254" y="5"/>
                      <a:pt x="11254" y="4"/>
                    </a:cubicBezTo>
                    <a:cubicBezTo>
                      <a:pt x="11254" y="3"/>
                      <a:pt x="11255" y="2"/>
                      <a:pt x="11256" y="2"/>
                    </a:cubicBezTo>
                    <a:close/>
                    <a:moveTo>
                      <a:pt x="11264" y="2"/>
                    </a:moveTo>
                    <a:lnTo>
                      <a:pt x="11264" y="2"/>
                    </a:lnTo>
                    <a:cubicBezTo>
                      <a:pt x="11265" y="2"/>
                      <a:pt x="11266" y="3"/>
                      <a:pt x="11266" y="4"/>
                    </a:cubicBezTo>
                    <a:cubicBezTo>
                      <a:pt x="11266" y="5"/>
                      <a:pt x="11265" y="6"/>
                      <a:pt x="11264" y="6"/>
                    </a:cubicBezTo>
                    <a:lnTo>
                      <a:pt x="11264" y="6"/>
                    </a:lnTo>
                    <a:cubicBezTo>
                      <a:pt x="11263" y="6"/>
                      <a:pt x="11262" y="5"/>
                      <a:pt x="11262" y="4"/>
                    </a:cubicBezTo>
                    <a:cubicBezTo>
                      <a:pt x="11262" y="3"/>
                      <a:pt x="11263" y="2"/>
                      <a:pt x="11264" y="2"/>
                    </a:cubicBezTo>
                    <a:close/>
                    <a:moveTo>
                      <a:pt x="11272" y="2"/>
                    </a:moveTo>
                    <a:lnTo>
                      <a:pt x="11272" y="2"/>
                    </a:lnTo>
                    <a:cubicBezTo>
                      <a:pt x="11273" y="2"/>
                      <a:pt x="11274" y="3"/>
                      <a:pt x="11274" y="4"/>
                    </a:cubicBezTo>
                    <a:cubicBezTo>
                      <a:pt x="11274" y="5"/>
                      <a:pt x="11273" y="6"/>
                      <a:pt x="11272" y="6"/>
                    </a:cubicBezTo>
                    <a:lnTo>
                      <a:pt x="11272" y="6"/>
                    </a:lnTo>
                    <a:cubicBezTo>
                      <a:pt x="11271" y="6"/>
                      <a:pt x="11270" y="5"/>
                      <a:pt x="11270" y="4"/>
                    </a:cubicBezTo>
                    <a:cubicBezTo>
                      <a:pt x="11270" y="3"/>
                      <a:pt x="11271" y="2"/>
                      <a:pt x="11272" y="2"/>
                    </a:cubicBezTo>
                    <a:close/>
                    <a:moveTo>
                      <a:pt x="11280" y="2"/>
                    </a:moveTo>
                    <a:lnTo>
                      <a:pt x="11280" y="2"/>
                    </a:lnTo>
                    <a:cubicBezTo>
                      <a:pt x="11281" y="2"/>
                      <a:pt x="11282" y="3"/>
                      <a:pt x="11282" y="4"/>
                    </a:cubicBezTo>
                    <a:cubicBezTo>
                      <a:pt x="11282" y="5"/>
                      <a:pt x="11281" y="6"/>
                      <a:pt x="11280" y="6"/>
                    </a:cubicBezTo>
                    <a:lnTo>
                      <a:pt x="11280" y="6"/>
                    </a:lnTo>
                    <a:cubicBezTo>
                      <a:pt x="11279" y="6"/>
                      <a:pt x="11278" y="5"/>
                      <a:pt x="11278" y="4"/>
                    </a:cubicBezTo>
                    <a:cubicBezTo>
                      <a:pt x="11278" y="3"/>
                      <a:pt x="11279" y="2"/>
                      <a:pt x="11280" y="2"/>
                    </a:cubicBezTo>
                    <a:close/>
                    <a:moveTo>
                      <a:pt x="11288" y="2"/>
                    </a:moveTo>
                    <a:lnTo>
                      <a:pt x="11288" y="2"/>
                    </a:lnTo>
                    <a:cubicBezTo>
                      <a:pt x="11289" y="2"/>
                      <a:pt x="11290" y="3"/>
                      <a:pt x="11290" y="4"/>
                    </a:cubicBezTo>
                    <a:cubicBezTo>
                      <a:pt x="11290" y="5"/>
                      <a:pt x="11289" y="6"/>
                      <a:pt x="11288" y="6"/>
                    </a:cubicBezTo>
                    <a:lnTo>
                      <a:pt x="11288" y="6"/>
                    </a:lnTo>
                    <a:cubicBezTo>
                      <a:pt x="11287" y="6"/>
                      <a:pt x="11286" y="5"/>
                      <a:pt x="11286" y="4"/>
                    </a:cubicBezTo>
                    <a:cubicBezTo>
                      <a:pt x="11286" y="3"/>
                      <a:pt x="11287" y="2"/>
                      <a:pt x="11288" y="2"/>
                    </a:cubicBezTo>
                    <a:close/>
                    <a:moveTo>
                      <a:pt x="11296" y="2"/>
                    </a:moveTo>
                    <a:lnTo>
                      <a:pt x="11296" y="2"/>
                    </a:lnTo>
                    <a:cubicBezTo>
                      <a:pt x="11297" y="2"/>
                      <a:pt x="11298" y="3"/>
                      <a:pt x="11298" y="4"/>
                    </a:cubicBezTo>
                    <a:cubicBezTo>
                      <a:pt x="11298" y="5"/>
                      <a:pt x="11297" y="6"/>
                      <a:pt x="11296" y="6"/>
                    </a:cubicBezTo>
                    <a:lnTo>
                      <a:pt x="11296" y="6"/>
                    </a:lnTo>
                    <a:cubicBezTo>
                      <a:pt x="11295" y="6"/>
                      <a:pt x="11294" y="5"/>
                      <a:pt x="11294" y="4"/>
                    </a:cubicBezTo>
                    <a:cubicBezTo>
                      <a:pt x="11294" y="3"/>
                      <a:pt x="11295" y="2"/>
                      <a:pt x="11296" y="2"/>
                    </a:cubicBezTo>
                    <a:close/>
                    <a:moveTo>
                      <a:pt x="11304" y="2"/>
                    </a:moveTo>
                    <a:lnTo>
                      <a:pt x="11304" y="2"/>
                    </a:lnTo>
                    <a:cubicBezTo>
                      <a:pt x="11305" y="2"/>
                      <a:pt x="11306" y="3"/>
                      <a:pt x="11306" y="4"/>
                    </a:cubicBezTo>
                    <a:cubicBezTo>
                      <a:pt x="11306" y="5"/>
                      <a:pt x="11305" y="6"/>
                      <a:pt x="11304" y="6"/>
                    </a:cubicBezTo>
                    <a:lnTo>
                      <a:pt x="11304" y="6"/>
                    </a:lnTo>
                    <a:cubicBezTo>
                      <a:pt x="11303" y="6"/>
                      <a:pt x="11302" y="5"/>
                      <a:pt x="11302" y="4"/>
                    </a:cubicBezTo>
                    <a:cubicBezTo>
                      <a:pt x="11302" y="3"/>
                      <a:pt x="11303" y="2"/>
                      <a:pt x="11304" y="2"/>
                    </a:cubicBezTo>
                    <a:close/>
                    <a:moveTo>
                      <a:pt x="11312" y="2"/>
                    </a:moveTo>
                    <a:lnTo>
                      <a:pt x="11312" y="2"/>
                    </a:lnTo>
                    <a:cubicBezTo>
                      <a:pt x="11313" y="2"/>
                      <a:pt x="11314" y="3"/>
                      <a:pt x="11314" y="4"/>
                    </a:cubicBezTo>
                    <a:cubicBezTo>
                      <a:pt x="11314" y="5"/>
                      <a:pt x="11313" y="6"/>
                      <a:pt x="11312" y="6"/>
                    </a:cubicBezTo>
                    <a:lnTo>
                      <a:pt x="11312" y="6"/>
                    </a:lnTo>
                    <a:cubicBezTo>
                      <a:pt x="11311" y="6"/>
                      <a:pt x="11310" y="5"/>
                      <a:pt x="11310" y="4"/>
                    </a:cubicBezTo>
                    <a:cubicBezTo>
                      <a:pt x="11310" y="3"/>
                      <a:pt x="11311" y="2"/>
                      <a:pt x="11312" y="2"/>
                    </a:cubicBezTo>
                    <a:close/>
                    <a:moveTo>
                      <a:pt x="11320" y="2"/>
                    </a:moveTo>
                    <a:lnTo>
                      <a:pt x="11320" y="2"/>
                    </a:lnTo>
                    <a:cubicBezTo>
                      <a:pt x="11321" y="2"/>
                      <a:pt x="11322" y="3"/>
                      <a:pt x="11322" y="4"/>
                    </a:cubicBezTo>
                    <a:cubicBezTo>
                      <a:pt x="11322" y="5"/>
                      <a:pt x="11321" y="6"/>
                      <a:pt x="11320" y="6"/>
                    </a:cubicBezTo>
                    <a:lnTo>
                      <a:pt x="11320" y="6"/>
                    </a:lnTo>
                    <a:cubicBezTo>
                      <a:pt x="11319" y="6"/>
                      <a:pt x="11318" y="5"/>
                      <a:pt x="11318" y="4"/>
                    </a:cubicBezTo>
                    <a:cubicBezTo>
                      <a:pt x="11318" y="3"/>
                      <a:pt x="11319" y="2"/>
                      <a:pt x="11320" y="2"/>
                    </a:cubicBezTo>
                    <a:close/>
                    <a:moveTo>
                      <a:pt x="11328" y="2"/>
                    </a:moveTo>
                    <a:lnTo>
                      <a:pt x="11328" y="2"/>
                    </a:lnTo>
                    <a:cubicBezTo>
                      <a:pt x="11329" y="2"/>
                      <a:pt x="11330" y="3"/>
                      <a:pt x="11330" y="4"/>
                    </a:cubicBezTo>
                    <a:cubicBezTo>
                      <a:pt x="11330" y="5"/>
                      <a:pt x="11329" y="6"/>
                      <a:pt x="11328" y="6"/>
                    </a:cubicBezTo>
                    <a:lnTo>
                      <a:pt x="11328" y="6"/>
                    </a:lnTo>
                    <a:cubicBezTo>
                      <a:pt x="11327" y="6"/>
                      <a:pt x="11326" y="5"/>
                      <a:pt x="11326" y="4"/>
                    </a:cubicBezTo>
                    <a:cubicBezTo>
                      <a:pt x="11326" y="3"/>
                      <a:pt x="11327" y="2"/>
                      <a:pt x="11328" y="2"/>
                    </a:cubicBezTo>
                    <a:close/>
                    <a:moveTo>
                      <a:pt x="11336" y="2"/>
                    </a:moveTo>
                    <a:lnTo>
                      <a:pt x="11336" y="2"/>
                    </a:lnTo>
                    <a:cubicBezTo>
                      <a:pt x="11337" y="2"/>
                      <a:pt x="11338" y="3"/>
                      <a:pt x="11338" y="4"/>
                    </a:cubicBezTo>
                    <a:cubicBezTo>
                      <a:pt x="11338" y="5"/>
                      <a:pt x="11337" y="6"/>
                      <a:pt x="11336" y="6"/>
                    </a:cubicBezTo>
                    <a:lnTo>
                      <a:pt x="11336" y="6"/>
                    </a:lnTo>
                    <a:cubicBezTo>
                      <a:pt x="11335" y="6"/>
                      <a:pt x="11334" y="5"/>
                      <a:pt x="11334" y="4"/>
                    </a:cubicBezTo>
                    <a:cubicBezTo>
                      <a:pt x="11334" y="3"/>
                      <a:pt x="11335" y="2"/>
                      <a:pt x="11336" y="2"/>
                    </a:cubicBezTo>
                    <a:close/>
                    <a:moveTo>
                      <a:pt x="11344" y="2"/>
                    </a:moveTo>
                    <a:lnTo>
                      <a:pt x="11344" y="2"/>
                    </a:lnTo>
                    <a:cubicBezTo>
                      <a:pt x="11345" y="2"/>
                      <a:pt x="11346" y="3"/>
                      <a:pt x="11346" y="4"/>
                    </a:cubicBezTo>
                    <a:cubicBezTo>
                      <a:pt x="11346" y="5"/>
                      <a:pt x="11345" y="6"/>
                      <a:pt x="11344" y="6"/>
                    </a:cubicBezTo>
                    <a:lnTo>
                      <a:pt x="11344" y="6"/>
                    </a:lnTo>
                    <a:cubicBezTo>
                      <a:pt x="11343" y="6"/>
                      <a:pt x="11342" y="5"/>
                      <a:pt x="11342" y="4"/>
                    </a:cubicBezTo>
                    <a:cubicBezTo>
                      <a:pt x="11342" y="3"/>
                      <a:pt x="11343" y="2"/>
                      <a:pt x="11344" y="2"/>
                    </a:cubicBezTo>
                    <a:close/>
                    <a:moveTo>
                      <a:pt x="11352" y="2"/>
                    </a:moveTo>
                    <a:lnTo>
                      <a:pt x="11352" y="2"/>
                    </a:lnTo>
                    <a:cubicBezTo>
                      <a:pt x="11353" y="2"/>
                      <a:pt x="11354" y="3"/>
                      <a:pt x="11354" y="4"/>
                    </a:cubicBezTo>
                    <a:cubicBezTo>
                      <a:pt x="11354" y="5"/>
                      <a:pt x="11353" y="6"/>
                      <a:pt x="11352" y="6"/>
                    </a:cubicBezTo>
                    <a:lnTo>
                      <a:pt x="11352" y="6"/>
                    </a:lnTo>
                    <a:cubicBezTo>
                      <a:pt x="11351" y="6"/>
                      <a:pt x="11350" y="5"/>
                      <a:pt x="11350" y="4"/>
                    </a:cubicBezTo>
                    <a:cubicBezTo>
                      <a:pt x="11350" y="3"/>
                      <a:pt x="11351" y="2"/>
                      <a:pt x="11352" y="2"/>
                    </a:cubicBezTo>
                    <a:close/>
                    <a:moveTo>
                      <a:pt x="11360" y="2"/>
                    </a:moveTo>
                    <a:lnTo>
                      <a:pt x="11360" y="2"/>
                    </a:lnTo>
                    <a:cubicBezTo>
                      <a:pt x="11361" y="2"/>
                      <a:pt x="11362" y="3"/>
                      <a:pt x="11362" y="4"/>
                    </a:cubicBezTo>
                    <a:cubicBezTo>
                      <a:pt x="11362" y="5"/>
                      <a:pt x="11361" y="6"/>
                      <a:pt x="11360" y="6"/>
                    </a:cubicBezTo>
                    <a:lnTo>
                      <a:pt x="11360" y="6"/>
                    </a:lnTo>
                    <a:cubicBezTo>
                      <a:pt x="11359" y="6"/>
                      <a:pt x="11358" y="5"/>
                      <a:pt x="11358" y="4"/>
                    </a:cubicBezTo>
                    <a:cubicBezTo>
                      <a:pt x="11358" y="3"/>
                      <a:pt x="11359" y="2"/>
                      <a:pt x="11360" y="2"/>
                    </a:cubicBezTo>
                    <a:close/>
                    <a:moveTo>
                      <a:pt x="11368" y="2"/>
                    </a:moveTo>
                    <a:lnTo>
                      <a:pt x="11368" y="2"/>
                    </a:lnTo>
                    <a:cubicBezTo>
                      <a:pt x="11369" y="2"/>
                      <a:pt x="11370" y="3"/>
                      <a:pt x="11370" y="4"/>
                    </a:cubicBezTo>
                    <a:cubicBezTo>
                      <a:pt x="11370" y="5"/>
                      <a:pt x="11369" y="6"/>
                      <a:pt x="11368" y="6"/>
                    </a:cubicBezTo>
                    <a:lnTo>
                      <a:pt x="11368" y="6"/>
                    </a:lnTo>
                    <a:cubicBezTo>
                      <a:pt x="11367" y="6"/>
                      <a:pt x="11366" y="5"/>
                      <a:pt x="11366" y="4"/>
                    </a:cubicBezTo>
                    <a:cubicBezTo>
                      <a:pt x="11366" y="3"/>
                      <a:pt x="11367" y="2"/>
                      <a:pt x="11368" y="2"/>
                    </a:cubicBezTo>
                    <a:close/>
                    <a:moveTo>
                      <a:pt x="11376" y="2"/>
                    </a:moveTo>
                    <a:lnTo>
                      <a:pt x="11376" y="2"/>
                    </a:lnTo>
                    <a:cubicBezTo>
                      <a:pt x="11377" y="2"/>
                      <a:pt x="11378" y="3"/>
                      <a:pt x="11378" y="4"/>
                    </a:cubicBezTo>
                    <a:cubicBezTo>
                      <a:pt x="11378" y="5"/>
                      <a:pt x="11377" y="6"/>
                      <a:pt x="11376" y="6"/>
                    </a:cubicBezTo>
                    <a:lnTo>
                      <a:pt x="11376" y="6"/>
                    </a:lnTo>
                    <a:cubicBezTo>
                      <a:pt x="11375" y="6"/>
                      <a:pt x="11374" y="5"/>
                      <a:pt x="11374" y="4"/>
                    </a:cubicBezTo>
                    <a:cubicBezTo>
                      <a:pt x="11374" y="3"/>
                      <a:pt x="11375" y="2"/>
                      <a:pt x="11376" y="2"/>
                    </a:cubicBezTo>
                    <a:close/>
                    <a:moveTo>
                      <a:pt x="11384" y="2"/>
                    </a:moveTo>
                    <a:lnTo>
                      <a:pt x="11384" y="2"/>
                    </a:lnTo>
                    <a:cubicBezTo>
                      <a:pt x="11385" y="2"/>
                      <a:pt x="11386" y="3"/>
                      <a:pt x="11386" y="4"/>
                    </a:cubicBezTo>
                    <a:cubicBezTo>
                      <a:pt x="11386" y="5"/>
                      <a:pt x="11385" y="6"/>
                      <a:pt x="11384" y="6"/>
                    </a:cubicBezTo>
                    <a:lnTo>
                      <a:pt x="11384" y="6"/>
                    </a:lnTo>
                    <a:cubicBezTo>
                      <a:pt x="11383" y="6"/>
                      <a:pt x="11382" y="5"/>
                      <a:pt x="11382" y="4"/>
                    </a:cubicBezTo>
                    <a:cubicBezTo>
                      <a:pt x="11382" y="3"/>
                      <a:pt x="11383" y="2"/>
                      <a:pt x="11384" y="2"/>
                    </a:cubicBezTo>
                    <a:close/>
                    <a:moveTo>
                      <a:pt x="11392" y="2"/>
                    </a:moveTo>
                    <a:lnTo>
                      <a:pt x="11392" y="2"/>
                    </a:lnTo>
                    <a:cubicBezTo>
                      <a:pt x="11393" y="2"/>
                      <a:pt x="11394" y="3"/>
                      <a:pt x="11394" y="4"/>
                    </a:cubicBezTo>
                    <a:cubicBezTo>
                      <a:pt x="11394" y="5"/>
                      <a:pt x="11393" y="6"/>
                      <a:pt x="11392" y="6"/>
                    </a:cubicBezTo>
                    <a:lnTo>
                      <a:pt x="11392" y="6"/>
                    </a:lnTo>
                    <a:cubicBezTo>
                      <a:pt x="11391" y="6"/>
                      <a:pt x="11390" y="5"/>
                      <a:pt x="11390" y="4"/>
                    </a:cubicBezTo>
                    <a:cubicBezTo>
                      <a:pt x="11390" y="3"/>
                      <a:pt x="11391" y="2"/>
                      <a:pt x="11392" y="2"/>
                    </a:cubicBezTo>
                    <a:close/>
                    <a:moveTo>
                      <a:pt x="11400" y="2"/>
                    </a:moveTo>
                    <a:lnTo>
                      <a:pt x="11400" y="2"/>
                    </a:lnTo>
                    <a:cubicBezTo>
                      <a:pt x="11401" y="2"/>
                      <a:pt x="11402" y="3"/>
                      <a:pt x="11402" y="4"/>
                    </a:cubicBezTo>
                    <a:cubicBezTo>
                      <a:pt x="11402" y="5"/>
                      <a:pt x="11401" y="6"/>
                      <a:pt x="11400" y="6"/>
                    </a:cubicBezTo>
                    <a:lnTo>
                      <a:pt x="11400" y="6"/>
                    </a:lnTo>
                    <a:cubicBezTo>
                      <a:pt x="11399" y="6"/>
                      <a:pt x="11398" y="5"/>
                      <a:pt x="11398" y="4"/>
                    </a:cubicBezTo>
                    <a:cubicBezTo>
                      <a:pt x="11398" y="3"/>
                      <a:pt x="11399" y="2"/>
                      <a:pt x="11400" y="2"/>
                    </a:cubicBezTo>
                    <a:close/>
                    <a:moveTo>
                      <a:pt x="11408" y="2"/>
                    </a:moveTo>
                    <a:lnTo>
                      <a:pt x="11408" y="2"/>
                    </a:lnTo>
                    <a:cubicBezTo>
                      <a:pt x="11409" y="2"/>
                      <a:pt x="11410" y="3"/>
                      <a:pt x="11410" y="4"/>
                    </a:cubicBezTo>
                    <a:cubicBezTo>
                      <a:pt x="11410" y="5"/>
                      <a:pt x="11409" y="6"/>
                      <a:pt x="11408" y="6"/>
                    </a:cubicBezTo>
                    <a:lnTo>
                      <a:pt x="11408" y="6"/>
                    </a:lnTo>
                    <a:cubicBezTo>
                      <a:pt x="11407" y="6"/>
                      <a:pt x="11406" y="5"/>
                      <a:pt x="11406" y="4"/>
                    </a:cubicBezTo>
                    <a:cubicBezTo>
                      <a:pt x="11406" y="3"/>
                      <a:pt x="11407" y="2"/>
                      <a:pt x="11408" y="2"/>
                    </a:cubicBezTo>
                    <a:close/>
                    <a:moveTo>
                      <a:pt x="11416" y="2"/>
                    </a:moveTo>
                    <a:lnTo>
                      <a:pt x="11416" y="2"/>
                    </a:lnTo>
                    <a:cubicBezTo>
                      <a:pt x="11417" y="2"/>
                      <a:pt x="11418" y="3"/>
                      <a:pt x="11418" y="4"/>
                    </a:cubicBezTo>
                    <a:cubicBezTo>
                      <a:pt x="11418" y="5"/>
                      <a:pt x="11417" y="6"/>
                      <a:pt x="11416" y="6"/>
                    </a:cubicBezTo>
                    <a:lnTo>
                      <a:pt x="11416" y="6"/>
                    </a:lnTo>
                    <a:cubicBezTo>
                      <a:pt x="11415" y="6"/>
                      <a:pt x="11414" y="5"/>
                      <a:pt x="11414" y="4"/>
                    </a:cubicBezTo>
                    <a:cubicBezTo>
                      <a:pt x="11414" y="3"/>
                      <a:pt x="11415" y="2"/>
                      <a:pt x="11416" y="2"/>
                    </a:cubicBezTo>
                    <a:close/>
                    <a:moveTo>
                      <a:pt x="11424" y="2"/>
                    </a:moveTo>
                    <a:lnTo>
                      <a:pt x="11424" y="2"/>
                    </a:lnTo>
                    <a:cubicBezTo>
                      <a:pt x="11425" y="2"/>
                      <a:pt x="11426" y="3"/>
                      <a:pt x="11426" y="4"/>
                    </a:cubicBezTo>
                    <a:cubicBezTo>
                      <a:pt x="11426" y="5"/>
                      <a:pt x="11425" y="6"/>
                      <a:pt x="11424" y="6"/>
                    </a:cubicBezTo>
                    <a:lnTo>
                      <a:pt x="11424" y="6"/>
                    </a:lnTo>
                    <a:cubicBezTo>
                      <a:pt x="11423" y="6"/>
                      <a:pt x="11422" y="5"/>
                      <a:pt x="11422" y="4"/>
                    </a:cubicBezTo>
                    <a:cubicBezTo>
                      <a:pt x="11422" y="3"/>
                      <a:pt x="11423" y="2"/>
                      <a:pt x="11424" y="2"/>
                    </a:cubicBezTo>
                    <a:close/>
                    <a:moveTo>
                      <a:pt x="11432" y="2"/>
                    </a:moveTo>
                    <a:lnTo>
                      <a:pt x="11432" y="2"/>
                    </a:lnTo>
                    <a:cubicBezTo>
                      <a:pt x="11433" y="2"/>
                      <a:pt x="11434" y="3"/>
                      <a:pt x="11434" y="4"/>
                    </a:cubicBezTo>
                    <a:cubicBezTo>
                      <a:pt x="11434" y="5"/>
                      <a:pt x="11433" y="6"/>
                      <a:pt x="11432" y="6"/>
                    </a:cubicBezTo>
                    <a:lnTo>
                      <a:pt x="11432" y="6"/>
                    </a:lnTo>
                    <a:cubicBezTo>
                      <a:pt x="11431" y="6"/>
                      <a:pt x="11430" y="5"/>
                      <a:pt x="11430" y="4"/>
                    </a:cubicBezTo>
                    <a:cubicBezTo>
                      <a:pt x="11430" y="3"/>
                      <a:pt x="11431" y="2"/>
                      <a:pt x="11432" y="2"/>
                    </a:cubicBezTo>
                    <a:close/>
                    <a:moveTo>
                      <a:pt x="11440" y="2"/>
                    </a:moveTo>
                    <a:lnTo>
                      <a:pt x="11440" y="2"/>
                    </a:lnTo>
                    <a:cubicBezTo>
                      <a:pt x="11441" y="2"/>
                      <a:pt x="11442" y="3"/>
                      <a:pt x="11442" y="4"/>
                    </a:cubicBezTo>
                    <a:cubicBezTo>
                      <a:pt x="11442" y="5"/>
                      <a:pt x="11441" y="6"/>
                      <a:pt x="11440" y="6"/>
                    </a:cubicBezTo>
                    <a:lnTo>
                      <a:pt x="11440" y="6"/>
                    </a:lnTo>
                    <a:cubicBezTo>
                      <a:pt x="11439" y="6"/>
                      <a:pt x="11438" y="5"/>
                      <a:pt x="11438" y="4"/>
                    </a:cubicBezTo>
                    <a:cubicBezTo>
                      <a:pt x="11438" y="3"/>
                      <a:pt x="11439" y="2"/>
                      <a:pt x="11440" y="2"/>
                    </a:cubicBezTo>
                    <a:close/>
                    <a:moveTo>
                      <a:pt x="11448" y="2"/>
                    </a:moveTo>
                    <a:lnTo>
                      <a:pt x="11448" y="2"/>
                    </a:lnTo>
                    <a:cubicBezTo>
                      <a:pt x="11449" y="2"/>
                      <a:pt x="11450" y="3"/>
                      <a:pt x="11450" y="4"/>
                    </a:cubicBezTo>
                    <a:cubicBezTo>
                      <a:pt x="11450" y="5"/>
                      <a:pt x="11449" y="6"/>
                      <a:pt x="11448" y="6"/>
                    </a:cubicBezTo>
                    <a:lnTo>
                      <a:pt x="11448" y="6"/>
                    </a:lnTo>
                    <a:cubicBezTo>
                      <a:pt x="11447" y="6"/>
                      <a:pt x="11446" y="5"/>
                      <a:pt x="11446" y="4"/>
                    </a:cubicBezTo>
                    <a:cubicBezTo>
                      <a:pt x="11446" y="3"/>
                      <a:pt x="11447" y="2"/>
                      <a:pt x="11448" y="2"/>
                    </a:cubicBezTo>
                    <a:close/>
                    <a:moveTo>
                      <a:pt x="11456" y="2"/>
                    </a:moveTo>
                    <a:lnTo>
                      <a:pt x="11456" y="2"/>
                    </a:lnTo>
                    <a:cubicBezTo>
                      <a:pt x="11457" y="2"/>
                      <a:pt x="11458" y="3"/>
                      <a:pt x="11458" y="4"/>
                    </a:cubicBezTo>
                    <a:cubicBezTo>
                      <a:pt x="11458" y="5"/>
                      <a:pt x="11457" y="6"/>
                      <a:pt x="11456" y="6"/>
                    </a:cubicBezTo>
                    <a:lnTo>
                      <a:pt x="11456" y="6"/>
                    </a:lnTo>
                    <a:cubicBezTo>
                      <a:pt x="11455" y="6"/>
                      <a:pt x="11454" y="5"/>
                      <a:pt x="11454" y="4"/>
                    </a:cubicBezTo>
                    <a:cubicBezTo>
                      <a:pt x="11454" y="3"/>
                      <a:pt x="11455" y="2"/>
                      <a:pt x="11456" y="2"/>
                    </a:cubicBezTo>
                    <a:close/>
                    <a:moveTo>
                      <a:pt x="11464" y="2"/>
                    </a:moveTo>
                    <a:lnTo>
                      <a:pt x="11464" y="2"/>
                    </a:lnTo>
                    <a:cubicBezTo>
                      <a:pt x="11465" y="2"/>
                      <a:pt x="11466" y="3"/>
                      <a:pt x="11466" y="4"/>
                    </a:cubicBezTo>
                    <a:cubicBezTo>
                      <a:pt x="11466" y="5"/>
                      <a:pt x="11465" y="6"/>
                      <a:pt x="11464" y="6"/>
                    </a:cubicBezTo>
                    <a:lnTo>
                      <a:pt x="11464" y="6"/>
                    </a:lnTo>
                    <a:cubicBezTo>
                      <a:pt x="11463" y="6"/>
                      <a:pt x="11462" y="5"/>
                      <a:pt x="11462" y="4"/>
                    </a:cubicBezTo>
                    <a:cubicBezTo>
                      <a:pt x="11462" y="3"/>
                      <a:pt x="11463" y="2"/>
                      <a:pt x="11464" y="2"/>
                    </a:cubicBezTo>
                    <a:close/>
                    <a:moveTo>
                      <a:pt x="11472" y="2"/>
                    </a:moveTo>
                    <a:lnTo>
                      <a:pt x="11472" y="2"/>
                    </a:lnTo>
                    <a:cubicBezTo>
                      <a:pt x="11473" y="2"/>
                      <a:pt x="11474" y="3"/>
                      <a:pt x="11474" y="4"/>
                    </a:cubicBezTo>
                    <a:cubicBezTo>
                      <a:pt x="11474" y="5"/>
                      <a:pt x="11473" y="6"/>
                      <a:pt x="11472" y="6"/>
                    </a:cubicBezTo>
                    <a:lnTo>
                      <a:pt x="11472" y="6"/>
                    </a:lnTo>
                    <a:cubicBezTo>
                      <a:pt x="11471" y="6"/>
                      <a:pt x="11470" y="5"/>
                      <a:pt x="11470" y="4"/>
                    </a:cubicBezTo>
                    <a:cubicBezTo>
                      <a:pt x="11470" y="3"/>
                      <a:pt x="11471" y="2"/>
                      <a:pt x="11472" y="2"/>
                    </a:cubicBezTo>
                    <a:close/>
                    <a:moveTo>
                      <a:pt x="11480" y="2"/>
                    </a:moveTo>
                    <a:lnTo>
                      <a:pt x="11480" y="2"/>
                    </a:lnTo>
                    <a:cubicBezTo>
                      <a:pt x="11481" y="2"/>
                      <a:pt x="11482" y="3"/>
                      <a:pt x="11482" y="4"/>
                    </a:cubicBezTo>
                    <a:cubicBezTo>
                      <a:pt x="11482" y="5"/>
                      <a:pt x="11481" y="6"/>
                      <a:pt x="11480" y="6"/>
                    </a:cubicBezTo>
                    <a:lnTo>
                      <a:pt x="11480" y="6"/>
                    </a:lnTo>
                    <a:cubicBezTo>
                      <a:pt x="11479" y="6"/>
                      <a:pt x="11478" y="5"/>
                      <a:pt x="11478" y="4"/>
                    </a:cubicBezTo>
                    <a:cubicBezTo>
                      <a:pt x="11478" y="3"/>
                      <a:pt x="11479" y="2"/>
                      <a:pt x="11480" y="2"/>
                    </a:cubicBezTo>
                    <a:close/>
                    <a:moveTo>
                      <a:pt x="11488" y="2"/>
                    </a:moveTo>
                    <a:lnTo>
                      <a:pt x="11488" y="2"/>
                    </a:lnTo>
                    <a:cubicBezTo>
                      <a:pt x="11489" y="2"/>
                      <a:pt x="11490" y="3"/>
                      <a:pt x="11490" y="4"/>
                    </a:cubicBezTo>
                    <a:cubicBezTo>
                      <a:pt x="11490" y="5"/>
                      <a:pt x="11489" y="6"/>
                      <a:pt x="11488" y="6"/>
                    </a:cubicBezTo>
                    <a:lnTo>
                      <a:pt x="11488" y="6"/>
                    </a:lnTo>
                    <a:cubicBezTo>
                      <a:pt x="11487" y="6"/>
                      <a:pt x="11486" y="5"/>
                      <a:pt x="11486" y="4"/>
                    </a:cubicBezTo>
                    <a:cubicBezTo>
                      <a:pt x="11486" y="3"/>
                      <a:pt x="11487" y="2"/>
                      <a:pt x="11488" y="2"/>
                    </a:cubicBezTo>
                    <a:close/>
                    <a:moveTo>
                      <a:pt x="11496" y="2"/>
                    </a:moveTo>
                    <a:lnTo>
                      <a:pt x="11496" y="2"/>
                    </a:lnTo>
                    <a:cubicBezTo>
                      <a:pt x="11497" y="2"/>
                      <a:pt x="11498" y="3"/>
                      <a:pt x="11498" y="4"/>
                    </a:cubicBezTo>
                    <a:cubicBezTo>
                      <a:pt x="11498" y="5"/>
                      <a:pt x="11497" y="6"/>
                      <a:pt x="11496" y="6"/>
                    </a:cubicBezTo>
                    <a:lnTo>
                      <a:pt x="11496" y="6"/>
                    </a:lnTo>
                    <a:cubicBezTo>
                      <a:pt x="11495" y="6"/>
                      <a:pt x="11494" y="5"/>
                      <a:pt x="11494" y="4"/>
                    </a:cubicBezTo>
                    <a:cubicBezTo>
                      <a:pt x="11494" y="3"/>
                      <a:pt x="11495" y="2"/>
                      <a:pt x="11496" y="2"/>
                    </a:cubicBezTo>
                    <a:close/>
                    <a:moveTo>
                      <a:pt x="11504" y="2"/>
                    </a:moveTo>
                    <a:lnTo>
                      <a:pt x="11504" y="2"/>
                    </a:lnTo>
                    <a:cubicBezTo>
                      <a:pt x="11505" y="2"/>
                      <a:pt x="11506" y="3"/>
                      <a:pt x="11506" y="4"/>
                    </a:cubicBezTo>
                    <a:cubicBezTo>
                      <a:pt x="11506" y="5"/>
                      <a:pt x="11505" y="6"/>
                      <a:pt x="11504" y="6"/>
                    </a:cubicBezTo>
                    <a:lnTo>
                      <a:pt x="11504" y="6"/>
                    </a:lnTo>
                    <a:cubicBezTo>
                      <a:pt x="11503" y="6"/>
                      <a:pt x="11502" y="5"/>
                      <a:pt x="11502" y="4"/>
                    </a:cubicBezTo>
                    <a:cubicBezTo>
                      <a:pt x="11502" y="3"/>
                      <a:pt x="11503" y="2"/>
                      <a:pt x="11504" y="2"/>
                    </a:cubicBezTo>
                    <a:close/>
                    <a:moveTo>
                      <a:pt x="11512" y="2"/>
                    </a:moveTo>
                    <a:lnTo>
                      <a:pt x="11512" y="2"/>
                    </a:lnTo>
                    <a:cubicBezTo>
                      <a:pt x="11513" y="2"/>
                      <a:pt x="11514" y="3"/>
                      <a:pt x="11514" y="4"/>
                    </a:cubicBezTo>
                    <a:cubicBezTo>
                      <a:pt x="11514" y="5"/>
                      <a:pt x="11513" y="6"/>
                      <a:pt x="11512" y="6"/>
                    </a:cubicBezTo>
                    <a:lnTo>
                      <a:pt x="11512" y="6"/>
                    </a:lnTo>
                    <a:cubicBezTo>
                      <a:pt x="11511" y="6"/>
                      <a:pt x="11510" y="5"/>
                      <a:pt x="11510" y="4"/>
                    </a:cubicBezTo>
                    <a:cubicBezTo>
                      <a:pt x="11510" y="3"/>
                      <a:pt x="11511" y="2"/>
                      <a:pt x="11512" y="2"/>
                    </a:cubicBezTo>
                    <a:close/>
                    <a:moveTo>
                      <a:pt x="11520" y="2"/>
                    </a:moveTo>
                    <a:lnTo>
                      <a:pt x="11520" y="2"/>
                    </a:lnTo>
                    <a:cubicBezTo>
                      <a:pt x="11521" y="2"/>
                      <a:pt x="11522" y="3"/>
                      <a:pt x="11522" y="4"/>
                    </a:cubicBezTo>
                    <a:cubicBezTo>
                      <a:pt x="11522" y="5"/>
                      <a:pt x="11521" y="6"/>
                      <a:pt x="11520" y="6"/>
                    </a:cubicBezTo>
                    <a:lnTo>
                      <a:pt x="11520" y="6"/>
                    </a:lnTo>
                    <a:cubicBezTo>
                      <a:pt x="11519" y="6"/>
                      <a:pt x="11518" y="5"/>
                      <a:pt x="11518" y="4"/>
                    </a:cubicBezTo>
                    <a:cubicBezTo>
                      <a:pt x="11518" y="3"/>
                      <a:pt x="11519" y="2"/>
                      <a:pt x="11520" y="2"/>
                    </a:cubicBezTo>
                    <a:close/>
                    <a:moveTo>
                      <a:pt x="11528" y="2"/>
                    </a:moveTo>
                    <a:lnTo>
                      <a:pt x="11528" y="2"/>
                    </a:lnTo>
                    <a:cubicBezTo>
                      <a:pt x="11529" y="2"/>
                      <a:pt x="11530" y="3"/>
                      <a:pt x="11530" y="4"/>
                    </a:cubicBezTo>
                    <a:cubicBezTo>
                      <a:pt x="11530" y="5"/>
                      <a:pt x="11529" y="6"/>
                      <a:pt x="11528" y="6"/>
                    </a:cubicBezTo>
                    <a:lnTo>
                      <a:pt x="11528" y="6"/>
                    </a:lnTo>
                    <a:cubicBezTo>
                      <a:pt x="11527" y="6"/>
                      <a:pt x="11526" y="5"/>
                      <a:pt x="11526" y="4"/>
                    </a:cubicBezTo>
                    <a:cubicBezTo>
                      <a:pt x="11526" y="3"/>
                      <a:pt x="11527" y="2"/>
                      <a:pt x="11528" y="2"/>
                    </a:cubicBezTo>
                    <a:close/>
                    <a:moveTo>
                      <a:pt x="11536" y="2"/>
                    </a:moveTo>
                    <a:lnTo>
                      <a:pt x="11536" y="2"/>
                    </a:lnTo>
                    <a:cubicBezTo>
                      <a:pt x="11537" y="2"/>
                      <a:pt x="11538" y="3"/>
                      <a:pt x="11538" y="4"/>
                    </a:cubicBezTo>
                    <a:cubicBezTo>
                      <a:pt x="11538" y="5"/>
                      <a:pt x="11537" y="6"/>
                      <a:pt x="11536" y="6"/>
                    </a:cubicBezTo>
                    <a:lnTo>
                      <a:pt x="11536" y="6"/>
                    </a:lnTo>
                    <a:cubicBezTo>
                      <a:pt x="11535" y="6"/>
                      <a:pt x="11534" y="5"/>
                      <a:pt x="11534" y="4"/>
                    </a:cubicBezTo>
                    <a:cubicBezTo>
                      <a:pt x="11534" y="3"/>
                      <a:pt x="11535" y="2"/>
                      <a:pt x="11536" y="2"/>
                    </a:cubicBezTo>
                    <a:close/>
                    <a:moveTo>
                      <a:pt x="11544" y="2"/>
                    </a:moveTo>
                    <a:lnTo>
                      <a:pt x="11544" y="2"/>
                    </a:lnTo>
                    <a:cubicBezTo>
                      <a:pt x="11545" y="2"/>
                      <a:pt x="11546" y="3"/>
                      <a:pt x="11546" y="4"/>
                    </a:cubicBezTo>
                    <a:cubicBezTo>
                      <a:pt x="11546" y="5"/>
                      <a:pt x="11545" y="6"/>
                      <a:pt x="11544" y="6"/>
                    </a:cubicBezTo>
                    <a:lnTo>
                      <a:pt x="11544" y="6"/>
                    </a:lnTo>
                    <a:cubicBezTo>
                      <a:pt x="11543" y="6"/>
                      <a:pt x="11542" y="5"/>
                      <a:pt x="11542" y="4"/>
                    </a:cubicBezTo>
                    <a:cubicBezTo>
                      <a:pt x="11542" y="3"/>
                      <a:pt x="11543" y="2"/>
                      <a:pt x="11544" y="2"/>
                    </a:cubicBezTo>
                    <a:close/>
                    <a:moveTo>
                      <a:pt x="11552" y="2"/>
                    </a:moveTo>
                    <a:lnTo>
                      <a:pt x="11552" y="2"/>
                    </a:lnTo>
                    <a:cubicBezTo>
                      <a:pt x="11553" y="2"/>
                      <a:pt x="11554" y="3"/>
                      <a:pt x="11554" y="4"/>
                    </a:cubicBezTo>
                    <a:cubicBezTo>
                      <a:pt x="11554" y="5"/>
                      <a:pt x="11553" y="6"/>
                      <a:pt x="11552" y="6"/>
                    </a:cubicBezTo>
                    <a:lnTo>
                      <a:pt x="11552" y="6"/>
                    </a:lnTo>
                    <a:cubicBezTo>
                      <a:pt x="11551" y="6"/>
                      <a:pt x="11550" y="5"/>
                      <a:pt x="11550" y="4"/>
                    </a:cubicBezTo>
                    <a:cubicBezTo>
                      <a:pt x="11550" y="3"/>
                      <a:pt x="11551" y="2"/>
                      <a:pt x="11552" y="2"/>
                    </a:cubicBezTo>
                    <a:close/>
                    <a:moveTo>
                      <a:pt x="11560" y="2"/>
                    </a:moveTo>
                    <a:lnTo>
                      <a:pt x="11560" y="2"/>
                    </a:lnTo>
                    <a:cubicBezTo>
                      <a:pt x="11561" y="2"/>
                      <a:pt x="11562" y="3"/>
                      <a:pt x="11562" y="4"/>
                    </a:cubicBezTo>
                    <a:cubicBezTo>
                      <a:pt x="11562" y="5"/>
                      <a:pt x="11561" y="6"/>
                      <a:pt x="11560" y="6"/>
                    </a:cubicBezTo>
                    <a:lnTo>
                      <a:pt x="11560" y="6"/>
                    </a:lnTo>
                    <a:cubicBezTo>
                      <a:pt x="11559" y="6"/>
                      <a:pt x="11558" y="5"/>
                      <a:pt x="11558" y="4"/>
                    </a:cubicBezTo>
                    <a:cubicBezTo>
                      <a:pt x="11558" y="3"/>
                      <a:pt x="11559" y="2"/>
                      <a:pt x="11560" y="2"/>
                    </a:cubicBezTo>
                    <a:close/>
                    <a:moveTo>
                      <a:pt x="11568" y="2"/>
                    </a:moveTo>
                    <a:lnTo>
                      <a:pt x="11568" y="2"/>
                    </a:lnTo>
                    <a:cubicBezTo>
                      <a:pt x="11569" y="2"/>
                      <a:pt x="11570" y="3"/>
                      <a:pt x="11570" y="4"/>
                    </a:cubicBezTo>
                    <a:cubicBezTo>
                      <a:pt x="11570" y="5"/>
                      <a:pt x="11569" y="6"/>
                      <a:pt x="11568" y="6"/>
                    </a:cubicBezTo>
                    <a:lnTo>
                      <a:pt x="11568" y="6"/>
                    </a:lnTo>
                    <a:cubicBezTo>
                      <a:pt x="11567" y="6"/>
                      <a:pt x="11566" y="5"/>
                      <a:pt x="11566" y="4"/>
                    </a:cubicBezTo>
                    <a:cubicBezTo>
                      <a:pt x="11566" y="3"/>
                      <a:pt x="11567" y="2"/>
                      <a:pt x="11568" y="2"/>
                    </a:cubicBezTo>
                    <a:close/>
                    <a:moveTo>
                      <a:pt x="11576" y="2"/>
                    </a:moveTo>
                    <a:lnTo>
                      <a:pt x="11576" y="2"/>
                    </a:lnTo>
                    <a:cubicBezTo>
                      <a:pt x="11577" y="2"/>
                      <a:pt x="11578" y="3"/>
                      <a:pt x="11578" y="4"/>
                    </a:cubicBezTo>
                    <a:cubicBezTo>
                      <a:pt x="11578" y="5"/>
                      <a:pt x="11577" y="6"/>
                      <a:pt x="11576" y="6"/>
                    </a:cubicBezTo>
                    <a:lnTo>
                      <a:pt x="11576" y="6"/>
                    </a:lnTo>
                    <a:cubicBezTo>
                      <a:pt x="11575" y="6"/>
                      <a:pt x="11574" y="5"/>
                      <a:pt x="11574" y="4"/>
                    </a:cubicBezTo>
                    <a:cubicBezTo>
                      <a:pt x="11574" y="3"/>
                      <a:pt x="11575" y="2"/>
                      <a:pt x="11576" y="2"/>
                    </a:cubicBezTo>
                    <a:close/>
                    <a:moveTo>
                      <a:pt x="11584" y="2"/>
                    </a:moveTo>
                    <a:lnTo>
                      <a:pt x="11584" y="2"/>
                    </a:lnTo>
                    <a:cubicBezTo>
                      <a:pt x="11585" y="2"/>
                      <a:pt x="11586" y="3"/>
                      <a:pt x="11586" y="4"/>
                    </a:cubicBezTo>
                    <a:cubicBezTo>
                      <a:pt x="11586" y="5"/>
                      <a:pt x="11585" y="6"/>
                      <a:pt x="11584" y="6"/>
                    </a:cubicBezTo>
                    <a:lnTo>
                      <a:pt x="11584" y="6"/>
                    </a:lnTo>
                    <a:cubicBezTo>
                      <a:pt x="11583" y="6"/>
                      <a:pt x="11582" y="5"/>
                      <a:pt x="11582" y="4"/>
                    </a:cubicBezTo>
                    <a:cubicBezTo>
                      <a:pt x="11582" y="3"/>
                      <a:pt x="11583" y="2"/>
                      <a:pt x="11584" y="2"/>
                    </a:cubicBezTo>
                    <a:close/>
                    <a:moveTo>
                      <a:pt x="11592" y="2"/>
                    </a:moveTo>
                    <a:lnTo>
                      <a:pt x="11592" y="2"/>
                    </a:lnTo>
                    <a:cubicBezTo>
                      <a:pt x="11593" y="2"/>
                      <a:pt x="11594" y="3"/>
                      <a:pt x="11594" y="4"/>
                    </a:cubicBezTo>
                    <a:cubicBezTo>
                      <a:pt x="11594" y="5"/>
                      <a:pt x="11593" y="6"/>
                      <a:pt x="11592" y="6"/>
                    </a:cubicBezTo>
                    <a:lnTo>
                      <a:pt x="11592" y="6"/>
                    </a:lnTo>
                    <a:cubicBezTo>
                      <a:pt x="11591" y="6"/>
                      <a:pt x="11590" y="5"/>
                      <a:pt x="11590" y="4"/>
                    </a:cubicBezTo>
                    <a:cubicBezTo>
                      <a:pt x="11590" y="3"/>
                      <a:pt x="11591" y="2"/>
                      <a:pt x="11592" y="2"/>
                    </a:cubicBezTo>
                    <a:close/>
                    <a:moveTo>
                      <a:pt x="11600" y="2"/>
                    </a:moveTo>
                    <a:lnTo>
                      <a:pt x="11600" y="2"/>
                    </a:lnTo>
                    <a:cubicBezTo>
                      <a:pt x="11601" y="2"/>
                      <a:pt x="11602" y="3"/>
                      <a:pt x="11602" y="4"/>
                    </a:cubicBezTo>
                    <a:cubicBezTo>
                      <a:pt x="11602" y="5"/>
                      <a:pt x="11601" y="6"/>
                      <a:pt x="11600" y="6"/>
                    </a:cubicBezTo>
                    <a:lnTo>
                      <a:pt x="11600" y="6"/>
                    </a:lnTo>
                    <a:cubicBezTo>
                      <a:pt x="11599" y="6"/>
                      <a:pt x="11598" y="5"/>
                      <a:pt x="11598" y="4"/>
                    </a:cubicBezTo>
                    <a:cubicBezTo>
                      <a:pt x="11598" y="3"/>
                      <a:pt x="11599" y="2"/>
                      <a:pt x="11600" y="2"/>
                    </a:cubicBezTo>
                    <a:close/>
                    <a:moveTo>
                      <a:pt x="11608" y="2"/>
                    </a:moveTo>
                    <a:lnTo>
                      <a:pt x="11608" y="2"/>
                    </a:lnTo>
                    <a:cubicBezTo>
                      <a:pt x="11609" y="2"/>
                      <a:pt x="11610" y="3"/>
                      <a:pt x="11610" y="4"/>
                    </a:cubicBezTo>
                    <a:cubicBezTo>
                      <a:pt x="11610" y="5"/>
                      <a:pt x="11609" y="6"/>
                      <a:pt x="11608" y="6"/>
                    </a:cubicBezTo>
                    <a:lnTo>
                      <a:pt x="11608" y="6"/>
                    </a:lnTo>
                    <a:cubicBezTo>
                      <a:pt x="11607" y="6"/>
                      <a:pt x="11606" y="5"/>
                      <a:pt x="11606" y="4"/>
                    </a:cubicBezTo>
                    <a:cubicBezTo>
                      <a:pt x="11606" y="3"/>
                      <a:pt x="11607" y="2"/>
                      <a:pt x="11608" y="2"/>
                    </a:cubicBezTo>
                    <a:close/>
                    <a:moveTo>
                      <a:pt x="11616" y="2"/>
                    </a:moveTo>
                    <a:lnTo>
                      <a:pt x="11616" y="2"/>
                    </a:lnTo>
                    <a:cubicBezTo>
                      <a:pt x="11617" y="2"/>
                      <a:pt x="11618" y="3"/>
                      <a:pt x="11618" y="4"/>
                    </a:cubicBezTo>
                    <a:cubicBezTo>
                      <a:pt x="11618" y="5"/>
                      <a:pt x="11617" y="6"/>
                      <a:pt x="11616" y="6"/>
                    </a:cubicBezTo>
                    <a:lnTo>
                      <a:pt x="11616" y="6"/>
                    </a:lnTo>
                    <a:cubicBezTo>
                      <a:pt x="11615" y="6"/>
                      <a:pt x="11614" y="5"/>
                      <a:pt x="11614" y="4"/>
                    </a:cubicBezTo>
                    <a:cubicBezTo>
                      <a:pt x="11614" y="3"/>
                      <a:pt x="11615" y="2"/>
                      <a:pt x="11616" y="2"/>
                    </a:cubicBezTo>
                    <a:close/>
                    <a:moveTo>
                      <a:pt x="11624" y="2"/>
                    </a:moveTo>
                    <a:lnTo>
                      <a:pt x="11624" y="2"/>
                    </a:lnTo>
                    <a:cubicBezTo>
                      <a:pt x="11625" y="2"/>
                      <a:pt x="11626" y="3"/>
                      <a:pt x="11626" y="4"/>
                    </a:cubicBezTo>
                    <a:cubicBezTo>
                      <a:pt x="11626" y="5"/>
                      <a:pt x="11625" y="6"/>
                      <a:pt x="11624" y="6"/>
                    </a:cubicBezTo>
                    <a:lnTo>
                      <a:pt x="11624" y="6"/>
                    </a:lnTo>
                    <a:cubicBezTo>
                      <a:pt x="11623" y="6"/>
                      <a:pt x="11622" y="5"/>
                      <a:pt x="11622" y="4"/>
                    </a:cubicBezTo>
                    <a:cubicBezTo>
                      <a:pt x="11622" y="3"/>
                      <a:pt x="11623" y="2"/>
                      <a:pt x="11624" y="2"/>
                    </a:cubicBezTo>
                    <a:close/>
                    <a:moveTo>
                      <a:pt x="11632" y="2"/>
                    </a:moveTo>
                    <a:lnTo>
                      <a:pt x="11632" y="2"/>
                    </a:lnTo>
                    <a:cubicBezTo>
                      <a:pt x="11633" y="2"/>
                      <a:pt x="11634" y="3"/>
                      <a:pt x="11634" y="4"/>
                    </a:cubicBezTo>
                    <a:cubicBezTo>
                      <a:pt x="11634" y="5"/>
                      <a:pt x="11633" y="6"/>
                      <a:pt x="11632" y="6"/>
                    </a:cubicBezTo>
                    <a:lnTo>
                      <a:pt x="11632" y="6"/>
                    </a:lnTo>
                    <a:cubicBezTo>
                      <a:pt x="11631" y="6"/>
                      <a:pt x="11630" y="5"/>
                      <a:pt x="11630" y="4"/>
                    </a:cubicBezTo>
                    <a:cubicBezTo>
                      <a:pt x="11630" y="3"/>
                      <a:pt x="11631" y="2"/>
                      <a:pt x="11632" y="2"/>
                    </a:cubicBezTo>
                    <a:close/>
                    <a:moveTo>
                      <a:pt x="11640" y="2"/>
                    </a:moveTo>
                    <a:lnTo>
                      <a:pt x="11640" y="2"/>
                    </a:lnTo>
                    <a:cubicBezTo>
                      <a:pt x="11641" y="2"/>
                      <a:pt x="11642" y="3"/>
                      <a:pt x="11642" y="4"/>
                    </a:cubicBezTo>
                    <a:cubicBezTo>
                      <a:pt x="11642" y="5"/>
                      <a:pt x="11641" y="6"/>
                      <a:pt x="11640" y="6"/>
                    </a:cubicBezTo>
                    <a:lnTo>
                      <a:pt x="11640" y="6"/>
                    </a:lnTo>
                    <a:cubicBezTo>
                      <a:pt x="11639" y="6"/>
                      <a:pt x="11638" y="5"/>
                      <a:pt x="11638" y="4"/>
                    </a:cubicBezTo>
                    <a:cubicBezTo>
                      <a:pt x="11638" y="3"/>
                      <a:pt x="11639" y="2"/>
                      <a:pt x="11640" y="2"/>
                    </a:cubicBezTo>
                    <a:close/>
                    <a:moveTo>
                      <a:pt x="11648" y="2"/>
                    </a:moveTo>
                    <a:lnTo>
                      <a:pt x="11648" y="2"/>
                    </a:lnTo>
                    <a:cubicBezTo>
                      <a:pt x="11649" y="2"/>
                      <a:pt x="11650" y="3"/>
                      <a:pt x="11650" y="4"/>
                    </a:cubicBezTo>
                    <a:cubicBezTo>
                      <a:pt x="11650" y="5"/>
                      <a:pt x="11649" y="6"/>
                      <a:pt x="11648" y="6"/>
                    </a:cubicBezTo>
                    <a:lnTo>
                      <a:pt x="11648" y="6"/>
                    </a:lnTo>
                    <a:cubicBezTo>
                      <a:pt x="11647" y="6"/>
                      <a:pt x="11646" y="5"/>
                      <a:pt x="11646" y="4"/>
                    </a:cubicBezTo>
                    <a:cubicBezTo>
                      <a:pt x="11646" y="3"/>
                      <a:pt x="11647" y="2"/>
                      <a:pt x="11648" y="2"/>
                    </a:cubicBezTo>
                    <a:close/>
                    <a:moveTo>
                      <a:pt x="11656" y="2"/>
                    </a:moveTo>
                    <a:lnTo>
                      <a:pt x="11656" y="2"/>
                    </a:lnTo>
                    <a:cubicBezTo>
                      <a:pt x="11657" y="2"/>
                      <a:pt x="11658" y="3"/>
                      <a:pt x="11658" y="4"/>
                    </a:cubicBezTo>
                    <a:cubicBezTo>
                      <a:pt x="11658" y="5"/>
                      <a:pt x="11657" y="6"/>
                      <a:pt x="11656" y="6"/>
                    </a:cubicBezTo>
                    <a:lnTo>
                      <a:pt x="11656" y="6"/>
                    </a:lnTo>
                    <a:cubicBezTo>
                      <a:pt x="11655" y="6"/>
                      <a:pt x="11654" y="5"/>
                      <a:pt x="11654" y="4"/>
                    </a:cubicBezTo>
                    <a:cubicBezTo>
                      <a:pt x="11654" y="3"/>
                      <a:pt x="11655" y="2"/>
                      <a:pt x="11656" y="2"/>
                    </a:cubicBezTo>
                    <a:close/>
                    <a:moveTo>
                      <a:pt x="11664" y="2"/>
                    </a:moveTo>
                    <a:lnTo>
                      <a:pt x="11664" y="2"/>
                    </a:lnTo>
                    <a:cubicBezTo>
                      <a:pt x="11665" y="2"/>
                      <a:pt x="11666" y="3"/>
                      <a:pt x="11666" y="4"/>
                    </a:cubicBezTo>
                    <a:cubicBezTo>
                      <a:pt x="11666" y="5"/>
                      <a:pt x="11665" y="6"/>
                      <a:pt x="11664" y="6"/>
                    </a:cubicBezTo>
                    <a:lnTo>
                      <a:pt x="11664" y="6"/>
                    </a:lnTo>
                    <a:cubicBezTo>
                      <a:pt x="11663" y="6"/>
                      <a:pt x="11662" y="5"/>
                      <a:pt x="11662" y="4"/>
                    </a:cubicBezTo>
                    <a:cubicBezTo>
                      <a:pt x="11662" y="3"/>
                      <a:pt x="11663" y="2"/>
                      <a:pt x="11664" y="2"/>
                    </a:cubicBezTo>
                    <a:close/>
                    <a:moveTo>
                      <a:pt x="11672" y="2"/>
                    </a:moveTo>
                    <a:lnTo>
                      <a:pt x="11672" y="2"/>
                    </a:lnTo>
                    <a:cubicBezTo>
                      <a:pt x="11673" y="2"/>
                      <a:pt x="11674" y="3"/>
                      <a:pt x="11674" y="4"/>
                    </a:cubicBezTo>
                    <a:cubicBezTo>
                      <a:pt x="11674" y="5"/>
                      <a:pt x="11673" y="6"/>
                      <a:pt x="11672" y="6"/>
                    </a:cubicBezTo>
                    <a:lnTo>
                      <a:pt x="11672" y="6"/>
                    </a:lnTo>
                    <a:cubicBezTo>
                      <a:pt x="11671" y="6"/>
                      <a:pt x="11670" y="5"/>
                      <a:pt x="11670" y="4"/>
                    </a:cubicBezTo>
                    <a:cubicBezTo>
                      <a:pt x="11670" y="3"/>
                      <a:pt x="11671" y="2"/>
                      <a:pt x="11672" y="2"/>
                    </a:cubicBezTo>
                    <a:close/>
                    <a:moveTo>
                      <a:pt x="11680" y="2"/>
                    </a:moveTo>
                    <a:lnTo>
                      <a:pt x="11680" y="2"/>
                    </a:lnTo>
                    <a:cubicBezTo>
                      <a:pt x="11681" y="2"/>
                      <a:pt x="11682" y="3"/>
                      <a:pt x="11682" y="4"/>
                    </a:cubicBezTo>
                    <a:cubicBezTo>
                      <a:pt x="11682" y="5"/>
                      <a:pt x="11681" y="6"/>
                      <a:pt x="11680" y="6"/>
                    </a:cubicBezTo>
                    <a:lnTo>
                      <a:pt x="11680" y="6"/>
                    </a:lnTo>
                    <a:cubicBezTo>
                      <a:pt x="11679" y="6"/>
                      <a:pt x="11678" y="5"/>
                      <a:pt x="11678" y="4"/>
                    </a:cubicBezTo>
                    <a:cubicBezTo>
                      <a:pt x="11678" y="3"/>
                      <a:pt x="11679" y="2"/>
                      <a:pt x="11680" y="2"/>
                    </a:cubicBezTo>
                    <a:close/>
                    <a:moveTo>
                      <a:pt x="11688" y="2"/>
                    </a:moveTo>
                    <a:lnTo>
                      <a:pt x="11688" y="2"/>
                    </a:lnTo>
                    <a:cubicBezTo>
                      <a:pt x="11689" y="2"/>
                      <a:pt x="11690" y="3"/>
                      <a:pt x="11690" y="4"/>
                    </a:cubicBezTo>
                    <a:cubicBezTo>
                      <a:pt x="11690" y="5"/>
                      <a:pt x="11689" y="6"/>
                      <a:pt x="11688" y="6"/>
                    </a:cubicBezTo>
                    <a:lnTo>
                      <a:pt x="11688" y="6"/>
                    </a:lnTo>
                    <a:cubicBezTo>
                      <a:pt x="11687" y="6"/>
                      <a:pt x="11686" y="5"/>
                      <a:pt x="11686" y="4"/>
                    </a:cubicBezTo>
                    <a:cubicBezTo>
                      <a:pt x="11686" y="3"/>
                      <a:pt x="11687" y="2"/>
                      <a:pt x="11688" y="2"/>
                    </a:cubicBezTo>
                    <a:close/>
                    <a:moveTo>
                      <a:pt x="11696" y="2"/>
                    </a:moveTo>
                    <a:lnTo>
                      <a:pt x="11696" y="2"/>
                    </a:lnTo>
                    <a:cubicBezTo>
                      <a:pt x="11697" y="2"/>
                      <a:pt x="11698" y="3"/>
                      <a:pt x="11698" y="4"/>
                    </a:cubicBezTo>
                    <a:cubicBezTo>
                      <a:pt x="11698" y="5"/>
                      <a:pt x="11697" y="6"/>
                      <a:pt x="11696" y="6"/>
                    </a:cubicBezTo>
                    <a:lnTo>
                      <a:pt x="11696" y="6"/>
                    </a:lnTo>
                    <a:cubicBezTo>
                      <a:pt x="11695" y="6"/>
                      <a:pt x="11694" y="5"/>
                      <a:pt x="11694" y="4"/>
                    </a:cubicBezTo>
                    <a:cubicBezTo>
                      <a:pt x="11694" y="3"/>
                      <a:pt x="11695" y="2"/>
                      <a:pt x="11696" y="2"/>
                    </a:cubicBezTo>
                    <a:close/>
                    <a:moveTo>
                      <a:pt x="11704" y="2"/>
                    </a:moveTo>
                    <a:lnTo>
                      <a:pt x="11704" y="2"/>
                    </a:lnTo>
                    <a:cubicBezTo>
                      <a:pt x="11705" y="2"/>
                      <a:pt x="11706" y="3"/>
                      <a:pt x="11706" y="4"/>
                    </a:cubicBezTo>
                    <a:cubicBezTo>
                      <a:pt x="11706" y="5"/>
                      <a:pt x="11705" y="6"/>
                      <a:pt x="11704" y="6"/>
                    </a:cubicBezTo>
                    <a:lnTo>
                      <a:pt x="11704" y="6"/>
                    </a:lnTo>
                    <a:cubicBezTo>
                      <a:pt x="11703" y="6"/>
                      <a:pt x="11702" y="5"/>
                      <a:pt x="11702" y="4"/>
                    </a:cubicBezTo>
                    <a:cubicBezTo>
                      <a:pt x="11702" y="3"/>
                      <a:pt x="11703" y="2"/>
                      <a:pt x="11704" y="2"/>
                    </a:cubicBezTo>
                    <a:close/>
                    <a:moveTo>
                      <a:pt x="11712" y="2"/>
                    </a:moveTo>
                    <a:lnTo>
                      <a:pt x="11712" y="2"/>
                    </a:lnTo>
                    <a:cubicBezTo>
                      <a:pt x="11713" y="2"/>
                      <a:pt x="11714" y="3"/>
                      <a:pt x="11714" y="4"/>
                    </a:cubicBezTo>
                    <a:cubicBezTo>
                      <a:pt x="11714" y="5"/>
                      <a:pt x="11713" y="6"/>
                      <a:pt x="11712" y="6"/>
                    </a:cubicBezTo>
                    <a:lnTo>
                      <a:pt x="11712" y="6"/>
                    </a:lnTo>
                    <a:cubicBezTo>
                      <a:pt x="11711" y="6"/>
                      <a:pt x="11710" y="5"/>
                      <a:pt x="11710" y="4"/>
                    </a:cubicBezTo>
                    <a:cubicBezTo>
                      <a:pt x="11710" y="3"/>
                      <a:pt x="11711" y="2"/>
                      <a:pt x="11712" y="2"/>
                    </a:cubicBezTo>
                    <a:close/>
                    <a:moveTo>
                      <a:pt x="11720" y="2"/>
                    </a:moveTo>
                    <a:lnTo>
                      <a:pt x="11720" y="2"/>
                    </a:lnTo>
                    <a:cubicBezTo>
                      <a:pt x="11721" y="2"/>
                      <a:pt x="11722" y="3"/>
                      <a:pt x="11722" y="4"/>
                    </a:cubicBezTo>
                    <a:cubicBezTo>
                      <a:pt x="11722" y="5"/>
                      <a:pt x="11721" y="6"/>
                      <a:pt x="11720" y="6"/>
                    </a:cubicBezTo>
                    <a:lnTo>
                      <a:pt x="11720" y="6"/>
                    </a:lnTo>
                    <a:cubicBezTo>
                      <a:pt x="11719" y="6"/>
                      <a:pt x="11718" y="5"/>
                      <a:pt x="11718" y="4"/>
                    </a:cubicBezTo>
                    <a:cubicBezTo>
                      <a:pt x="11718" y="3"/>
                      <a:pt x="11719" y="2"/>
                      <a:pt x="11720" y="2"/>
                    </a:cubicBezTo>
                    <a:close/>
                    <a:moveTo>
                      <a:pt x="11728" y="2"/>
                    </a:moveTo>
                    <a:lnTo>
                      <a:pt x="11728" y="2"/>
                    </a:lnTo>
                    <a:cubicBezTo>
                      <a:pt x="11729" y="2"/>
                      <a:pt x="11730" y="3"/>
                      <a:pt x="11730" y="4"/>
                    </a:cubicBezTo>
                    <a:cubicBezTo>
                      <a:pt x="11730" y="5"/>
                      <a:pt x="11729" y="6"/>
                      <a:pt x="11728" y="6"/>
                    </a:cubicBezTo>
                    <a:lnTo>
                      <a:pt x="11728" y="6"/>
                    </a:lnTo>
                    <a:cubicBezTo>
                      <a:pt x="11727" y="6"/>
                      <a:pt x="11726" y="5"/>
                      <a:pt x="11726" y="4"/>
                    </a:cubicBezTo>
                    <a:cubicBezTo>
                      <a:pt x="11726" y="3"/>
                      <a:pt x="11727" y="2"/>
                      <a:pt x="11728" y="2"/>
                    </a:cubicBezTo>
                    <a:close/>
                    <a:moveTo>
                      <a:pt x="11736" y="2"/>
                    </a:moveTo>
                    <a:lnTo>
                      <a:pt x="11736" y="2"/>
                    </a:lnTo>
                    <a:cubicBezTo>
                      <a:pt x="11737" y="2"/>
                      <a:pt x="11738" y="3"/>
                      <a:pt x="11738" y="4"/>
                    </a:cubicBezTo>
                    <a:cubicBezTo>
                      <a:pt x="11738" y="5"/>
                      <a:pt x="11737" y="6"/>
                      <a:pt x="11736" y="6"/>
                    </a:cubicBezTo>
                    <a:lnTo>
                      <a:pt x="11736" y="6"/>
                    </a:lnTo>
                    <a:cubicBezTo>
                      <a:pt x="11735" y="6"/>
                      <a:pt x="11734" y="5"/>
                      <a:pt x="11734" y="4"/>
                    </a:cubicBezTo>
                    <a:cubicBezTo>
                      <a:pt x="11734" y="3"/>
                      <a:pt x="11735" y="2"/>
                      <a:pt x="11736" y="2"/>
                    </a:cubicBezTo>
                    <a:close/>
                    <a:moveTo>
                      <a:pt x="11744" y="2"/>
                    </a:moveTo>
                    <a:lnTo>
                      <a:pt x="11744" y="2"/>
                    </a:lnTo>
                    <a:cubicBezTo>
                      <a:pt x="11745" y="2"/>
                      <a:pt x="11746" y="3"/>
                      <a:pt x="11746" y="4"/>
                    </a:cubicBezTo>
                    <a:cubicBezTo>
                      <a:pt x="11746" y="5"/>
                      <a:pt x="11745" y="6"/>
                      <a:pt x="11744" y="6"/>
                    </a:cubicBezTo>
                    <a:lnTo>
                      <a:pt x="11744" y="6"/>
                    </a:lnTo>
                    <a:cubicBezTo>
                      <a:pt x="11743" y="6"/>
                      <a:pt x="11742" y="5"/>
                      <a:pt x="11742" y="4"/>
                    </a:cubicBezTo>
                    <a:cubicBezTo>
                      <a:pt x="11742" y="3"/>
                      <a:pt x="11743" y="2"/>
                      <a:pt x="11744" y="2"/>
                    </a:cubicBezTo>
                    <a:close/>
                    <a:moveTo>
                      <a:pt x="11752" y="2"/>
                    </a:moveTo>
                    <a:lnTo>
                      <a:pt x="11752" y="2"/>
                    </a:lnTo>
                    <a:cubicBezTo>
                      <a:pt x="11753" y="2"/>
                      <a:pt x="11754" y="3"/>
                      <a:pt x="11754" y="4"/>
                    </a:cubicBezTo>
                    <a:cubicBezTo>
                      <a:pt x="11754" y="5"/>
                      <a:pt x="11753" y="6"/>
                      <a:pt x="11752" y="6"/>
                    </a:cubicBezTo>
                    <a:lnTo>
                      <a:pt x="11752" y="6"/>
                    </a:lnTo>
                    <a:cubicBezTo>
                      <a:pt x="11751" y="6"/>
                      <a:pt x="11750" y="5"/>
                      <a:pt x="11750" y="4"/>
                    </a:cubicBezTo>
                    <a:cubicBezTo>
                      <a:pt x="11750" y="3"/>
                      <a:pt x="11751" y="2"/>
                      <a:pt x="11752" y="2"/>
                    </a:cubicBezTo>
                    <a:close/>
                    <a:moveTo>
                      <a:pt x="11760" y="2"/>
                    </a:moveTo>
                    <a:lnTo>
                      <a:pt x="11760" y="2"/>
                    </a:lnTo>
                    <a:cubicBezTo>
                      <a:pt x="11761" y="2"/>
                      <a:pt x="11762" y="3"/>
                      <a:pt x="11762" y="4"/>
                    </a:cubicBezTo>
                    <a:cubicBezTo>
                      <a:pt x="11762" y="5"/>
                      <a:pt x="11761" y="6"/>
                      <a:pt x="11760" y="6"/>
                    </a:cubicBezTo>
                    <a:lnTo>
                      <a:pt x="11760" y="6"/>
                    </a:lnTo>
                    <a:cubicBezTo>
                      <a:pt x="11759" y="6"/>
                      <a:pt x="11758" y="5"/>
                      <a:pt x="11758" y="4"/>
                    </a:cubicBezTo>
                    <a:cubicBezTo>
                      <a:pt x="11758" y="3"/>
                      <a:pt x="11759" y="2"/>
                      <a:pt x="11760" y="2"/>
                    </a:cubicBezTo>
                    <a:close/>
                    <a:moveTo>
                      <a:pt x="11768" y="2"/>
                    </a:moveTo>
                    <a:lnTo>
                      <a:pt x="11768" y="2"/>
                    </a:lnTo>
                    <a:cubicBezTo>
                      <a:pt x="11769" y="2"/>
                      <a:pt x="11770" y="3"/>
                      <a:pt x="11770" y="4"/>
                    </a:cubicBezTo>
                    <a:cubicBezTo>
                      <a:pt x="11770" y="5"/>
                      <a:pt x="11769" y="6"/>
                      <a:pt x="11768" y="6"/>
                    </a:cubicBezTo>
                    <a:lnTo>
                      <a:pt x="11768" y="6"/>
                    </a:lnTo>
                    <a:cubicBezTo>
                      <a:pt x="11767" y="6"/>
                      <a:pt x="11766" y="5"/>
                      <a:pt x="11766" y="4"/>
                    </a:cubicBezTo>
                    <a:cubicBezTo>
                      <a:pt x="11766" y="3"/>
                      <a:pt x="11767" y="2"/>
                      <a:pt x="11768" y="2"/>
                    </a:cubicBezTo>
                    <a:close/>
                    <a:moveTo>
                      <a:pt x="11776" y="2"/>
                    </a:moveTo>
                    <a:lnTo>
                      <a:pt x="11776" y="2"/>
                    </a:lnTo>
                    <a:cubicBezTo>
                      <a:pt x="11777" y="2"/>
                      <a:pt x="11778" y="3"/>
                      <a:pt x="11778" y="4"/>
                    </a:cubicBezTo>
                    <a:cubicBezTo>
                      <a:pt x="11778" y="5"/>
                      <a:pt x="11777" y="6"/>
                      <a:pt x="11776" y="6"/>
                    </a:cubicBezTo>
                    <a:lnTo>
                      <a:pt x="11776" y="6"/>
                    </a:lnTo>
                    <a:cubicBezTo>
                      <a:pt x="11775" y="6"/>
                      <a:pt x="11774" y="5"/>
                      <a:pt x="11774" y="4"/>
                    </a:cubicBezTo>
                    <a:cubicBezTo>
                      <a:pt x="11774" y="3"/>
                      <a:pt x="11775" y="2"/>
                      <a:pt x="11776" y="2"/>
                    </a:cubicBezTo>
                    <a:close/>
                    <a:moveTo>
                      <a:pt x="11784" y="2"/>
                    </a:moveTo>
                    <a:lnTo>
                      <a:pt x="11784" y="2"/>
                    </a:lnTo>
                    <a:cubicBezTo>
                      <a:pt x="11785" y="2"/>
                      <a:pt x="11786" y="3"/>
                      <a:pt x="11786" y="4"/>
                    </a:cubicBezTo>
                    <a:cubicBezTo>
                      <a:pt x="11786" y="5"/>
                      <a:pt x="11785" y="6"/>
                      <a:pt x="11784" y="6"/>
                    </a:cubicBezTo>
                    <a:lnTo>
                      <a:pt x="11784" y="6"/>
                    </a:lnTo>
                    <a:cubicBezTo>
                      <a:pt x="11783" y="6"/>
                      <a:pt x="11782" y="5"/>
                      <a:pt x="11782" y="4"/>
                    </a:cubicBezTo>
                    <a:cubicBezTo>
                      <a:pt x="11782" y="3"/>
                      <a:pt x="11783" y="2"/>
                      <a:pt x="11784" y="2"/>
                    </a:cubicBezTo>
                    <a:close/>
                    <a:moveTo>
                      <a:pt x="11792" y="2"/>
                    </a:moveTo>
                    <a:lnTo>
                      <a:pt x="11792" y="2"/>
                    </a:lnTo>
                    <a:cubicBezTo>
                      <a:pt x="11793" y="2"/>
                      <a:pt x="11794" y="3"/>
                      <a:pt x="11794" y="4"/>
                    </a:cubicBezTo>
                    <a:cubicBezTo>
                      <a:pt x="11794" y="5"/>
                      <a:pt x="11793" y="6"/>
                      <a:pt x="11792" y="6"/>
                    </a:cubicBezTo>
                    <a:lnTo>
                      <a:pt x="11792" y="6"/>
                    </a:lnTo>
                    <a:cubicBezTo>
                      <a:pt x="11791" y="6"/>
                      <a:pt x="11790" y="5"/>
                      <a:pt x="11790" y="4"/>
                    </a:cubicBezTo>
                    <a:cubicBezTo>
                      <a:pt x="11790" y="3"/>
                      <a:pt x="11791" y="2"/>
                      <a:pt x="11792" y="2"/>
                    </a:cubicBezTo>
                    <a:close/>
                    <a:moveTo>
                      <a:pt x="11800" y="2"/>
                    </a:moveTo>
                    <a:lnTo>
                      <a:pt x="11800" y="2"/>
                    </a:lnTo>
                    <a:cubicBezTo>
                      <a:pt x="11801" y="2"/>
                      <a:pt x="11802" y="3"/>
                      <a:pt x="11802" y="4"/>
                    </a:cubicBezTo>
                    <a:cubicBezTo>
                      <a:pt x="11802" y="5"/>
                      <a:pt x="11801" y="6"/>
                      <a:pt x="11800" y="6"/>
                    </a:cubicBezTo>
                    <a:lnTo>
                      <a:pt x="11800" y="6"/>
                    </a:lnTo>
                    <a:cubicBezTo>
                      <a:pt x="11799" y="6"/>
                      <a:pt x="11798" y="5"/>
                      <a:pt x="11798" y="4"/>
                    </a:cubicBezTo>
                    <a:cubicBezTo>
                      <a:pt x="11798" y="3"/>
                      <a:pt x="11799" y="2"/>
                      <a:pt x="11800" y="2"/>
                    </a:cubicBezTo>
                    <a:close/>
                    <a:moveTo>
                      <a:pt x="11808" y="2"/>
                    </a:moveTo>
                    <a:lnTo>
                      <a:pt x="11808" y="2"/>
                    </a:lnTo>
                    <a:cubicBezTo>
                      <a:pt x="11809" y="2"/>
                      <a:pt x="11810" y="3"/>
                      <a:pt x="11810" y="4"/>
                    </a:cubicBezTo>
                    <a:cubicBezTo>
                      <a:pt x="11810" y="5"/>
                      <a:pt x="11809" y="6"/>
                      <a:pt x="11808" y="6"/>
                    </a:cubicBezTo>
                    <a:lnTo>
                      <a:pt x="11808" y="6"/>
                    </a:lnTo>
                    <a:cubicBezTo>
                      <a:pt x="11807" y="6"/>
                      <a:pt x="11806" y="5"/>
                      <a:pt x="11806" y="4"/>
                    </a:cubicBezTo>
                    <a:cubicBezTo>
                      <a:pt x="11806" y="3"/>
                      <a:pt x="11807" y="2"/>
                      <a:pt x="11808" y="2"/>
                    </a:cubicBezTo>
                    <a:close/>
                    <a:moveTo>
                      <a:pt x="11816" y="2"/>
                    </a:moveTo>
                    <a:lnTo>
                      <a:pt x="11816" y="2"/>
                    </a:lnTo>
                    <a:cubicBezTo>
                      <a:pt x="11817" y="2"/>
                      <a:pt x="11818" y="3"/>
                      <a:pt x="11818" y="4"/>
                    </a:cubicBezTo>
                    <a:cubicBezTo>
                      <a:pt x="11818" y="5"/>
                      <a:pt x="11817" y="6"/>
                      <a:pt x="11816" y="6"/>
                    </a:cubicBezTo>
                    <a:lnTo>
                      <a:pt x="11816" y="6"/>
                    </a:lnTo>
                    <a:cubicBezTo>
                      <a:pt x="11815" y="6"/>
                      <a:pt x="11814" y="5"/>
                      <a:pt x="11814" y="4"/>
                    </a:cubicBezTo>
                    <a:cubicBezTo>
                      <a:pt x="11814" y="3"/>
                      <a:pt x="11815" y="2"/>
                      <a:pt x="11816" y="2"/>
                    </a:cubicBezTo>
                    <a:close/>
                    <a:moveTo>
                      <a:pt x="11824" y="2"/>
                    </a:moveTo>
                    <a:lnTo>
                      <a:pt x="11824" y="2"/>
                    </a:lnTo>
                    <a:cubicBezTo>
                      <a:pt x="11825" y="2"/>
                      <a:pt x="11826" y="3"/>
                      <a:pt x="11826" y="4"/>
                    </a:cubicBezTo>
                    <a:cubicBezTo>
                      <a:pt x="11826" y="5"/>
                      <a:pt x="11825" y="6"/>
                      <a:pt x="11824" y="6"/>
                    </a:cubicBezTo>
                    <a:lnTo>
                      <a:pt x="11824" y="6"/>
                    </a:lnTo>
                    <a:cubicBezTo>
                      <a:pt x="11823" y="6"/>
                      <a:pt x="11822" y="5"/>
                      <a:pt x="11822" y="4"/>
                    </a:cubicBezTo>
                    <a:cubicBezTo>
                      <a:pt x="11822" y="3"/>
                      <a:pt x="11823" y="2"/>
                      <a:pt x="11824" y="2"/>
                    </a:cubicBezTo>
                    <a:close/>
                    <a:moveTo>
                      <a:pt x="11832" y="2"/>
                    </a:moveTo>
                    <a:lnTo>
                      <a:pt x="11832" y="2"/>
                    </a:lnTo>
                    <a:cubicBezTo>
                      <a:pt x="11833" y="2"/>
                      <a:pt x="11834" y="3"/>
                      <a:pt x="11834" y="4"/>
                    </a:cubicBezTo>
                    <a:cubicBezTo>
                      <a:pt x="11834" y="5"/>
                      <a:pt x="11833" y="6"/>
                      <a:pt x="11832" y="6"/>
                    </a:cubicBezTo>
                    <a:lnTo>
                      <a:pt x="11832" y="6"/>
                    </a:lnTo>
                    <a:cubicBezTo>
                      <a:pt x="11831" y="6"/>
                      <a:pt x="11830" y="5"/>
                      <a:pt x="11830" y="4"/>
                    </a:cubicBezTo>
                    <a:cubicBezTo>
                      <a:pt x="11830" y="3"/>
                      <a:pt x="11831" y="2"/>
                      <a:pt x="11832" y="2"/>
                    </a:cubicBezTo>
                    <a:close/>
                    <a:moveTo>
                      <a:pt x="11840" y="2"/>
                    </a:moveTo>
                    <a:lnTo>
                      <a:pt x="11840" y="2"/>
                    </a:lnTo>
                    <a:cubicBezTo>
                      <a:pt x="11841" y="2"/>
                      <a:pt x="11842" y="3"/>
                      <a:pt x="11842" y="4"/>
                    </a:cubicBezTo>
                    <a:cubicBezTo>
                      <a:pt x="11842" y="5"/>
                      <a:pt x="11841" y="6"/>
                      <a:pt x="11840" y="6"/>
                    </a:cubicBezTo>
                    <a:lnTo>
                      <a:pt x="11840" y="6"/>
                    </a:lnTo>
                    <a:cubicBezTo>
                      <a:pt x="11839" y="6"/>
                      <a:pt x="11838" y="5"/>
                      <a:pt x="11838" y="4"/>
                    </a:cubicBezTo>
                    <a:cubicBezTo>
                      <a:pt x="11838" y="3"/>
                      <a:pt x="11839" y="2"/>
                      <a:pt x="11840" y="2"/>
                    </a:cubicBezTo>
                    <a:close/>
                    <a:moveTo>
                      <a:pt x="11848" y="2"/>
                    </a:moveTo>
                    <a:lnTo>
                      <a:pt x="11848" y="2"/>
                    </a:lnTo>
                    <a:cubicBezTo>
                      <a:pt x="11849" y="2"/>
                      <a:pt x="11850" y="3"/>
                      <a:pt x="11850" y="4"/>
                    </a:cubicBezTo>
                    <a:cubicBezTo>
                      <a:pt x="11850" y="5"/>
                      <a:pt x="11849" y="6"/>
                      <a:pt x="11848" y="6"/>
                    </a:cubicBezTo>
                    <a:lnTo>
                      <a:pt x="11848" y="6"/>
                    </a:lnTo>
                    <a:cubicBezTo>
                      <a:pt x="11847" y="6"/>
                      <a:pt x="11846" y="5"/>
                      <a:pt x="11846" y="4"/>
                    </a:cubicBezTo>
                    <a:cubicBezTo>
                      <a:pt x="11846" y="3"/>
                      <a:pt x="11847" y="2"/>
                      <a:pt x="11848" y="2"/>
                    </a:cubicBezTo>
                    <a:close/>
                    <a:moveTo>
                      <a:pt x="11856" y="2"/>
                    </a:moveTo>
                    <a:lnTo>
                      <a:pt x="11856" y="2"/>
                    </a:lnTo>
                    <a:cubicBezTo>
                      <a:pt x="11857" y="2"/>
                      <a:pt x="11858" y="3"/>
                      <a:pt x="11858" y="4"/>
                    </a:cubicBezTo>
                    <a:cubicBezTo>
                      <a:pt x="11858" y="5"/>
                      <a:pt x="11857" y="6"/>
                      <a:pt x="11856" y="6"/>
                    </a:cubicBezTo>
                    <a:lnTo>
                      <a:pt x="11856" y="6"/>
                    </a:lnTo>
                    <a:cubicBezTo>
                      <a:pt x="11855" y="6"/>
                      <a:pt x="11854" y="5"/>
                      <a:pt x="11854" y="4"/>
                    </a:cubicBezTo>
                    <a:cubicBezTo>
                      <a:pt x="11854" y="3"/>
                      <a:pt x="11855" y="2"/>
                      <a:pt x="11856" y="2"/>
                    </a:cubicBezTo>
                    <a:close/>
                    <a:moveTo>
                      <a:pt x="11864" y="2"/>
                    </a:moveTo>
                    <a:lnTo>
                      <a:pt x="11864" y="2"/>
                    </a:lnTo>
                    <a:cubicBezTo>
                      <a:pt x="11865" y="2"/>
                      <a:pt x="11866" y="3"/>
                      <a:pt x="11866" y="4"/>
                    </a:cubicBezTo>
                    <a:cubicBezTo>
                      <a:pt x="11866" y="5"/>
                      <a:pt x="11865" y="6"/>
                      <a:pt x="11864" y="6"/>
                    </a:cubicBezTo>
                    <a:lnTo>
                      <a:pt x="11864" y="6"/>
                    </a:lnTo>
                    <a:cubicBezTo>
                      <a:pt x="11863" y="6"/>
                      <a:pt x="11862" y="5"/>
                      <a:pt x="11862" y="4"/>
                    </a:cubicBezTo>
                    <a:cubicBezTo>
                      <a:pt x="11862" y="3"/>
                      <a:pt x="11863" y="2"/>
                      <a:pt x="11864" y="2"/>
                    </a:cubicBezTo>
                    <a:close/>
                    <a:moveTo>
                      <a:pt x="11872" y="2"/>
                    </a:moveTo>
                    <a:lnTo>
                      <a:pt x="11872" y="2"/>
                    </a:lnTo>
                    <a:cubicBezTo>
                      <a:pt x="11873" y="2"/>
                      <a:pt x="11874" y="3"/>
                      <a:pt x="11874" y="4"/>
                    </a:cubicBezTo>
                    <a:cubicBezTo>
                      <a:pt x="11874" y="5"/>
                      <a:pt x="11873" y="6"/>
                      <a:pt x="11872" y="6"/>
                    </a:cubicBezTo>
                    <a:lnTo>
                      <a:pt x="11872" y="6"/>
                    </a:lnTo>
                    <a:cubicBezTo>
                      <a:pt x="11871" y="6"/>
                      <a:pt x="11870" y="5"/>
                      <a:pt x="11870" y="4"/>
                    </a:cubicBezTo>
                    <a:cubicBezTo>
                      <a:pt x="11870" y="3"/>
                      <a:pt x="11871" y="2"/>
                      <a:pt x="11872" y="2"/>
                    </a:cubicBezTo>
                    <a:close/>
                    <a:moveTo>
                      <a:pt x="11880" y="2"/>
                    </a:moveTo>
                    <a:lnTo>
                      <a:pt x="11880" y="2"/>
                    </a:lnTo>
                    <a:cubicBezTo>
                      <a:pt x="11881" y="2"/>
                      <a:pt x="11882" y="3"/>
                      <a:pt x="11882" y="4"/>
                    </a:cubicBezTo>
                    <a:cubicBezTo>
                      <a:pt x="11882" y="5"/>
                      <a:pt x="11881" y="6"/>
                      <a:pt x="11880" y="6"/>
                    </a:cubicBezTo>
                    <a:lnTo>
                      <a:pt x="11880" y="6"/>
                    </a:lnTo>
                    <a:cubicBezTo>
                      <a:pt x="11879" y="6"/>
                      <a:pt x="11878" y="5"/>
                      <a:pt x="11878" y="4"/>
                    </a:cubicBezTo>
                    <a:cubicBezTo>
                      <a:pt x="11878" y="3"/>
                      <a:pt x="11879" y="2"/>
                      <a:pt x="11880" y="2"/>
                    </a:cubicBezTo>
                    <a:close/>
                    <a:moveTo>
                      <a:pt x="11888" y="2"/>
                    </a:moveTo>
                    <a:lnTo>
                      <a:pt x="11888" y="2"/>
                    </a:lnTo>
                    <a:cubicBezTo>
                      <a:pt x="11889" y="2"/>
                      <a:pt x="11890" y="3"/>
                      <a:pt x="11890" y="4"/>
                    </a:cubicBezTo>
                    <a:cubicBezTo>
                      <a:pt x="11890" y="5"/>
                      <a:pt x="11889" y="6"/>
                      <a:pt x="11888" y="6"/>
                    </a:cubicBezTo>
                    <a:lnTo>
                      <a:pt x="11888" y="6"/>
                    </a:lnTo>
                    <a:cubicBezTo>
                      <a:pt x="11887" y="6"/>
                      <a:pt x="11886" y="5"/>
                      <a:pt x="11886" y="4"/>
                    </a:cubicBezTo>
                    <a:cubicBezTo>
                      <a:pt x="11886" y="3"/>
                      <a:pt x="11887" y="2"/>
                      <a:pt x="11888" y="2"/>
                    </a:cubicBezTo>
                    <a:close/>
                    <a:moveTo>
                      <a:pt x="11896" y="2"/>
                    </a:moveTo>
                    <a:lnTo>
                      <a:pt x="11896" y="2"/>
                    </a:lnTo>
                    <a:cubicBezTo>
                      <a:pt x="11897" y="2"/>
                      <a:pt x="11898" y="3"/>
                      <a:pt x="11898" y="4"/>
                    </a:cubicBezTo>
                    <a:cubicBezTo>
                      <a:pt x="11898" y="5"/>
                      <a:pt x="11897" y="6"/>
                      <a:pt x="11896" y="6"/>
                    </a:cubicBezTo>
                    <a:lnTo>
                      <a:pt x="11896" y="6"/>
                    </a:lnTo>
                    <a:cubicBezTo>
                      <a:pt x="11895" y="6"/>
                      <a:pt x="11894" y="5"/>
                      <a:pt x="11894" y="4"/>
                    </a:cubicBezTo>
                    <a:cubicBezTo>
                      <a:pt x="11894" y="3"/>
                      <a:pt x="11895" y="2"/>
                      <a:pt x="11896" y="2"/>
                    </a:cubicBezTo>
                    <a:close/>
                    <a:moveTo>
                      <a:pt x="11904" y="2"/>
                    </a:moveTo>
                    <a:lnTo>
                      <a:pt x="11904" y="2"/>
                    </a:lnTo>
                    <a:cubicBezTo>
                      <a:pt x="11905" y="2"/>
                      <a:pt x="11906" y="3"/>
                      <a:pt x="11906" y="4"/>
                    </a:cubicBezTo>
                    <a:cubicBezTo>
                      <a:pt x="11906" y="5"/>
                      <a:pt x="11905" y="6"/>
                      <a:pt x="11904" y="6"/>
                    </a:cubicBezTo>
                    <a:lnTo>
                      <a:pt x="11904" y="6"/>
                    </a:lnTo>
                    <a:cubicBezTo>
                      <a:pt x="11903" y="6"/>
                      <a:pt x="11902" y="5"/>
                      <a:pt x="11902" y="4"/>
                    </a:cubicBezTo>
                    <a:cubicBezTo>
                      <a:pt x="11902" y="3"/>
                      <a:pt x="11903" y="2"/>
                      <a:pt x="11904" y="2"/>
                    </a:cubicBezTo>
                    <a:close/>
                    <a:moveTo>
                      <a:pt x="11912" y="2"/>
                    </a:moveTo>
                    <a:lnTo>
                      <a:pt x="11912" y="2"/>
                    </a:lnTo>
                    <a:cubicBezTo>
                      <a:pt x="11913" y="2"/>
                      <a:pt x="11914" y="3"/>
                      <a:pt x="11914" y="4"/>
                    </a:cubicBezTo>
                    <a:cubicBezTo>
                      <a:pt x="11914" y="5"/>
                      <a:pt x="11913" y="6"/>
                      <a:pt x="11912" y="6"/>
                    </a:cubicBezTo>
                    <a:lnTo>
                      <a:pt x="11912" y="6"/>
                    </a:lnTo>
                    <a:cubicBezTo>
                      <a:pt x="11911" y="6"/>
                      <a:pt x="11910" y="5"/>
                      <a:pt x="11910" y="4"/>
                    </a:cubicBezTo>
                    <a:cubicBezTo>
                      <a:pt x="11910" y="3"/>
                      <a:pt x="11911" y="2"/>
                      <a:pt x="11912" y="2"/>
                    </a:cubicBezTo>
                    <a:close/>
                    <a:moveTo>
                      <a:pt x="11920" y="2"/>
                    </a:moveTo>
                    <a:lnTo>
                      <a:pt x="11920" y="2"/>
                    </a:lnTo>
                    <a:cubicBezTo>
                      <a:pt x="11921" y="2"/>
                      <a:pt x="11922" y="3"/>
                      <a:pt x="11922" y="4"/>
                    </a:cubicBezTo>
                    <a:cubicBezTo>
                      <a:pt x="11922" y="5"/>
                      <a:pt x="11921" y="6"/>
                      <a:pt x="11920" y="6"/>
                    </a:cubicBezTo>
                    <a:lnTo>
                      <a:pt x="11920" y="6"/>
                    </a:lnTo>
                    <a:cubicBezTo>
                      <a:pt x="11919" y="6"/>
                      <a:pt x="11918" y="5"/>
                      <a:pt x="11918" y="4"/>
                    </a:cubicBezTo>
                    <a:cubicBezTo>
                      <a:pt x="11918" y="3"/>
                      <a:pt x="11919" y="2"/>
                      <a:pt x="11920" y="2"/>
                    </a:cubicBezTo>
                    <a:close/>
                    <a:moveTo>
                      <a:pt x="11928" y="2"/>
                    </a:moveTo>
                    <a:lnTo>
                      <a:pt x="11928" y="2"/>
                    </a:lnTo>
                    <a:cubicBezTo>
                      <a:pt x="11929" y="2"/>
                      <a:pt x="11930" y="3"/>
                      <a:pt x="11930" y="4"/>
                    </a:cubicBezTo>
                    <a:cubicBezTo>
                      <a:pt x="11930" y="5"/>
                      <a:pt x="11929" y="6"/>
                      <a:pt x="11928" y="6"/>
                    </a:cubicBezTo>
                    <a:lnTo>
                      <a:pt x="11928" y="6"/>
                    </a:lnTo>
                    <a:cubicBezTo>
                      <a:pt x="11927" y="6"/>
                      <a:pt x="11926" y="5"/>
                      <a:pt x="11926" y="4"/>
                    </a:cubicBezTo>
                    <a:cubicBezTo>
                      <a:pt x="11926" y="3"/>
                      <a:pt x="11927" y="2"/>
                      <a:pt x="11928" y="2"/>
                    </a:cubicBezTo>
                    <a:close/>
                    <a:moveTo>
                      <a:pt x="11936" y="2"/>
                    </a:moveTo>
                    <a:lnTo>
                      <a:pt x="11936" y="2"/>
                    </a:lnTo>
                    <a:cubicBezTo>
                      <a:pt x="11937" y="2"/>
                      <a:pt x="11938" y="3"/>
                      <a:pt x="11938" y="4"/>
                    </a:cubicBezTo>
                    <a:cubicBezTo>
                      <a:pt x="11938" y="5"/>
                      <a:pt x="11937" y="6"/>
                      <a:pt x="11936" y="6"/>
                    </a:cubicBezTo>
                    <a:lnTo>
                      <a:pt x="11936" y="6"/>
                    </a:lnTo>
                    <a:cubicBezTo>
                      <a:pt x="11935" y="6"/>
                      <a:pt x="11934" y="5"/>
                      <a:pt x="11934" y="4"/>
                    </a:cubicBezTo>
                    <a:cubicBezTo>
                      <a:pt x="11934" y="3"/>
                      <a:pt x="11935" y="2"/>
                      <a:pt x="11936" y="2"/>
                    </a:cubicBezTo>
                    <a:close/>
                    <a:moveTo>
                      <a:pt x="11944" y="2"/>
                    </a:moveTo>
                    <a:lnTo>
                      <a:pt x="11944" y="2"/>
                    </a:lnTo>
                    <a:cubicBezTo>
                      <a:pt x="11945" y="2"/>
                      <a:pt x="11946" y="3"/>
                      <a:pt x="11946" y="4"/>
                    </a:cubicBezTo>
                    <a:cubicBezTo>
                      <a:pt x="11946" y="5"/>
                      <a:pt x="11945" y="6"/>
                      <a:pt x="11944" y="6"/>
                    </a:cubicBezTo>
                    <a:lnTo>
                      <a:pt x="11944" y="6"/>
                    </a:lnTo>
                    <a:cubicBezTo>
                      <a:pt x="11943" y="6"/>
                      <a:pt x="11942" y="5"/>
                      <a:pt x="11942" y="4"/>
                    </a:cubicBezTo>
                    <a:cubicBezTo>
                      <a:pt x="11942" y="3"/>
                      <a:pt x="11943" y="2"/>
                      <a:pt x="11944" y="2"/>
                    </a:cubicBezTo>
                    <a:close/>
                    <a:moveTo>
                      <a:pt x="11952" y="2"/>
                    </a:moveTo>
                    <a:lnTo>
                      <a:pt x="11952" y="2"/>
                    </a:lnTo>
                    <a:cubicBezTo>
                      <a:pt x="11953" y="2"/>
                      <a:pt x="11954" y="3"/>
                      <a:pt x="11954" y="4"/>
                    </a:cubicBezTo>
                    <a:cubicBezTo>
                      <a:pt x="11954" y="5"/>
                      <a:pt x="11953" y="6"/>
                      <a:pt x="11952" y="6"/>
                    </a:cubicBezTo>
                    <a:lnTo>
                      <a:pt x="11952" y="6"/>
                    </a:lnTo>
                    <a:cubicBezTo>
                      <a:pt x="11951" y="6"/>
                      <a:pt x="11950" y="5"/>
                      <a:pt x="11950" y="4"/>
                    </a:cubicBezTo>
                    <a:cubicBezTo>
                      <a:pt x="11950" y="3"/>
                      <a:pt x="11951" y="2"/>
                      <a:pt x="11952" y="2"/>
                    </a:cubicBezTo>
                    <a:close/>
                    <a:moveTo>
                      <a:pt x="11960" y="2"/>
                    </a:moveTo>
                    <a:lnTo>
                      <a:pt x="11960" y="2"/>
                    </a:lnTo>
                    <a:cubicBezTo>
                      <a:pt x="11961" y="2"/>
                      <a:pt x="11962" y="3"/>
                      <a:pt x="11962" y="4"/>
                    </a:cubicBezTo>
                    <a:cubicBezTo>
                      <a:pt x="11962" y="5"/>
                      <a:pt x="11961" y="6"/>
                      <a:pt x="11960" y="6"/>
                    </a:cubicBezTo>
                    <a:lnTo>
                      <a:pt x="11960" y="6"/>
                    </a:lnTo>
                    <a:cubicBezTo>
                      <a:pt x="11959" y="6"/>
                      <a:pt x="11958" y="5"/>
                      <a:pt x="11958" y="4"/>
                    </a:cubicBezTo>
                    <a:cubicBezTo>
                      <a:pt x="11958" y="3"/>
                      <a:pt x="11959" y="2"/>
                      <a:pt x="11960" y="2"/>
                    </a:cubicBezTo>
                    <a:close/>
                    <a:moveTo>
                      <a:pt x="11968" y="2"/>
                    </a:moveTo>
                    <a:lnTo>
                      <a:pt x="11968" y="2"/>
                    </a:lnTo>
                    <a:cubicBezTo>
                      <a:pt x="11969" y="2"/>
                      <a:pt x="11970" y="3"/>
                      <a:pt x="11970" y="4"/>
                    </a:cubicBezTo>
                    <a:cubicBezTo>
                      <a:pt x="11970" y="5"/>
                      <a:pt x="11969" y="6"/>
                      <a:pt x="11968" y="6"/>
                    </a:cubicBezTo>
                    <a:lnTo>
                      <a:pt x="11968" y="6"/>
                    </a:lnTo>
                    <a:cubicBezTo>
                      <a:pt x="11967" y="6"/>
                      <a:pt x="11966" y="5"/>
                      <a:pt x="11966" y="4"/>
                    </a:cubicBezTo>
                    <a:cubicBezTo>
                      <a:pt x="11966" y="3"/>
                      <a:pt x="11967" y="2"/>
                      <a:pt x="11968" y="2"/>
                    </a:cubicBezTo>
                    <a:close/>
                    <a:moveTo>
                      <a:pt x="11976" y="2"/>
                    </a:moveTo>
                    <a:lnTo>
                      <a:pt x="11976" y="2"/>
                    </a:lnTo>
                    <a:cubicBezTo>
                      <a:pt x="11977" y="2"/>
                      <a:pt x="11978" y="3"/>
                      <a:pt x="11978" y="4"/>
                    </a:cubicBezTo>
                    <a:cubicBezTo>
                      <a:pt x="11978" y="5"/>
                      <a:pt x="11977" y="6"/>
                      <a:pt x="11976" y="6"/>
                    </a:cubicBezTo>
                    <a:lnTo>
                      <a:pt x="11976" y="6"/>
                    </a:lnTo>
                    <a:cubicBezTo>
                      <a:pt x="11975" y="6"/>
                      <a:pt x="11974" y="5"/>
                      <a:pt x="11974" y="4"/>
                    </a:cubicBezTo>
                    <a:cubicBezTo>
                      <a:pt x="11974" y="3"/>
                      <a:pt x="11975" y="2"/>
                      <a:pt x="11976" y="2"/>
                    </a:cubicBezTo>
                    <a:close/>
                    <a:moveTo>
                      <a:pt x="11984" y="2"/>
                    </a:moveTo>
                    <a:lnTo>
                      <a:pt x="11984" y="2"/>
                    </a:lnTo>
                    <a:cubicBezTo>
                      <a:pt x="11985" y="2"/>
                      <a:pt x="11986" y="3"/>
                      <a:pt x="11986" y="4"/>
                    </a:cubicBezTo>
                    <a:cubicBezTo>
                      <a:pt x="11986" y="5"/>
                      <a:pt x="11985" y="6"/>
                      <a:pt x="11984" y="6"/>
                    </a:cubicBezTo>
                    <a:lnTo>
                      <a:pt x="11984" y="6"/>
                    </a:lnTo>
                    <a:cubicBezTo>
                      <a:pt x="11983" y="6"/>
                      <a:pt x="11982" y="5"/>
                      <a:pt x="11982" y="4"/>
                    </a:cubicBezTo>
                    <a:cubicBezTo>
                      <a:pt x="11982" y="3"/>
                      <a:pt x="11983" y="2"/>
                      <a:pt x="11984" y="2"/>
                    </a:cubicBezTo>
                    <a:close/>
                    <a:moveTo>
                      <a:pt x="11992" y="2"/>
                    </a:moveTo>
                    <a:lnTo>
                      <a:pt x="11992" y="2"/>
                    </a:lnTo>
                    <a:cubicBezTo>
                      <a:pt x="11993" y="2"/>
                      <a:pt x="11994" y="3"/>
                      <a:pt x="11994" y="4"/>
                    </a:cubicBezTo>
                    <a:cubicBezTo>
                      <a:pt x="11994" y="5"/>
                      <a:pt x="11993" y="6"/>
                      <a:pt x="11992" y="6"/>
                    </a:cubicBezTo>
                    <a:lnTo>
                      <a:pt x="11992" y="6"/>
                    </a:lnTo>
                    <a:cubicBezTo>
                      <a:pt x="11991" y="6"/>
                      <a:pt x="11990" y="5"/>
                      <a:pt x="11990" y="4"/>
                    </a:cubicBezTo>
                    <a:cubicBezTo>
                      <a:pt x="11990" y="3"/>
                      <a:pt x="11991" y="2"/>
                      <a:pt x="11992" y="2"/>
                    </a:cubicBezTo>
                    <a:close/>
                    <a:moveTo>
                      <a:pt x="12000" y="2"/>
                    </a:moveTo>
                    <a:lnTo>
                      <a:pt x="12000" y="2"/>
                    </a:lnTo>
                    <a:cubicBezTo>
                      <a:pt x="12001" y="2"/>
                      <a:pt x="12002" y="3"/>
                      <a:pt x="12002" y="4"/>
                    </a:cubicBezTo>
                    <a:cubicBezTo>
                      <a:pt x="12002" y="5"/>
                      <a:pt x="12001" y="6"/>
                      <a:pt x="12000" y="6"/>
                    </a:cubicBezTo>
                    <a:lnTo>
                      <a:pt x="12000" y="6"/>
                    </a:lnTo>
                    <a:cubicBezTo>
                      <a:pt x="11999" y="6"/>
                      <a:pt x="11998" y="5"/>
                      <a:pt x="11998" y="4"/>
                    </a:cubicBezTo>
                    <a:cubicBezTo>
                      <a:pt x="11998" y="3"/>
                      <a:pt x="11999" y="2"/>
                      <a:pt x="12000" y="2"/>
                    </a:cubicBezTo>
                    <a:close/>
                    <a:moveTo>
                      <a:pt x="12008" y="2"/>
                    </a:moveTo>
                    <a:lnTo>
                      <a:pt x="12008" y="2"/>
                    </a:lnTo>
                    <a:cubicBezTo>
                      <a:pt x="12009" y="2"/>
                      <a:pt x="12010" y="3"/>
                      <a:pt x="12010" y="4"/>
                    </a:cubicBezTo>
                    <a:cubicBezTo>
                      <a:pt x="12010" y="5"/>
                      <a:pt x="12009" y="6"/>
                      <a:pt x="12008" y="6"/>
                    </a:cubicBezTo>
                    <a:lnTo>
                      <a:pt x="12008" y="6"/>
                    </a:lnTo>
                    <a:cubicBezTo>
                      <a:pt x="12007" y="6"/>
                      <a:pt x="12006" y="5"/>
                      <a:pt x="12006" y="4"/>
                    </a:cubicBezTo>
                    <a:cubicBezTo>
                      <a:pt x="12006" y="3"/>
                      <a:pt x="12007" y="2"/>
                      <a:pt x="12008" y="2"/>
                    </a:cubicBezTo>
                    <a:close/>
                    <a:moveTo>
                      <a:pt x="12016" y="2"/>
                    </a:moveTo>
                    <a:lnTo>
                      <a:pt x="12016" y="2"/>
                    </a:lnTo>
                    <a:cubicBezTo>
                      <a:pt x="12017" y="2"/>
                      <a:pt x="12018" y="3"/>
                      <a:pt x="12018" y="4"/>
                    </a:cubicBezTo>
                    <a:cubicBezTo>
                      <a:pt x="12018" y="5"/>
                      <a:pt x="12017" y="6"/>
                      <a:pt x="12016" y="6"/>
                    </a:cubicBezTo>
                    <a:lnTo>
                      <a:pt x="12016" y="6"/>
                    </a:lnTo>
                    <a:cubicBezTo>
                      <a:pt x="12015" y="6"/>
                      <a:pt x="12014" y="5"/>
                      <a:pt x="12014" y="4"/>
                    </a:cubicBezTo>
                    <a:cubicBezTo>
                      <a:pt x="12014" y="3"/>
                      <a:pt x="12015" y="2"/>
                      <a:pt x="12016" y="2"/>
                    </a:cubicBezTo>
                    <a:close/>
                    <a:moveTo>
                      <a:pt x="12024" y="2"/>
                    </a:moveTo>
                    <a:lnTo>
                      <a:pt x="12024" y="2"/>
                    </a:lnTo>
                    <a:cubicBezTo>
                      <a:pt x="12025" y="2"/>
                      <a:pt x="12026" y="3"/>
                      <a:pt x="12026" y="4"/>
                    </a:cubicBezTo>
                    <a:cubicBezTo>
                      <a:pt x="12026" y="5"/>
                      <a:pt x="12025" y="6"/>
                      <a:pt x="12024" y="6"/>
                    </a:cubicBezTo>
                    <a:lnTo>
                      <a:pt x="12024" y="6"/>
                    </a:lnTo>
                    <a:cubicBezTo>
                      <a:pt x="12023" y="6"/>
                      <a:pt x="12022" y="5"/>
                      <a:pt x="12022" y="4"/>
                    </a:cubicBezTo>
                    <a:cubicBezTo>
                      <a:pt x="12022" y="3"/>
                      <a:pt x="12023" y="2"/>
                      <a:pt x="12024" y="2"/>
                    </a:cubicBezTo>
                    <a:close/>
                    <a:moveTo>
                      <a:pt x="12032" y="2"/>
                    </a:moveTo>
                    <a:lnTo>
                      <a:pt x="12032" y="2"/>
                    </a:lnTo>
                    <a:cubicBezTo>
                      <a:pt x="12033" y="2"/>
                      <a:pt x="12034" y="3"/>
                      <a:pt x="12034" y="4"/>
                    </a:cubicBezTo>
                    <a:cubicBezTo>
                      <a:pt x="12034" y="5"/>
                      <a:pt x="12033" y="6"/>
                      <a:pt x="12032" y="6"/>
                    </a:cubicBezTo>
                    <a:lnTo>
                      <a:pt x="12032" y="6"/>
                    </a:lnTo>
                    <a:cubicBezTo>
                      <a:pt x="12031" y="6"/>
                      <a:pt x="12030" y="5"/>
                      <a:pt x="12030" y="4"/>
                    </a:cubicBezTo>
                    <a:cubicBezTo>
                      <a:pt x="12030" y="3"/>
                      <a:pt x="12031" y="2"/>
                      <a:pt x="12032" y="2"/>
                    </a:cubicBezTo>
                    <a:close/>
                    <a:moveTo>
                      <a:pt x="12040" y="2"/>
                    </a:moveTo>
                    <a:lnTo>
                      <a:pt x="12040" y="2"/>
                    </a:lnTo>
                    <a:cubicBezTo>
                      <a:pt x="12041" y="2"/>
                      <a:pt x="12042" y="3"/>
                      <a:pt x="12042" y="4"/>
                    </a:cubicBezTo>
                    <a:cubicBezTo>
                      <a:pt x="12042" y="5"/>
                      <a:pt x="12041" y="6"/>
                      <a:pt x="12040" y="6"/>
                    </a:cubicBezTo>
                    <a:lnTo>
                      <a:pt x="12040" y="6"/>
                    </a:lnTo>
                    <a:cubicBezTo>
                      <a:pt x="12039" y="6"/>
                      <a:pt x="12038" y="5"/>
                      <a:pt x="12038" y="4"/>
                    </a:cubicBezTo>
                    <a:cubicBezTo>
                      <a:pt x="12038" y="3"/>
                      <a:pt x="12039" y="2"/>
                      <a:pt x="12040" y="2"/>
                    </a:cubicBezTo>
                    <a:close/>
                    <a:moveTo>
                      <a:pt x="12048" y="2"/>
                    </a:moveTo>
                    <a:lnTo>
                      <a:pt x="12048" y="2"/>
                    </a:lnTo>
                    <a:cubicBezTo>
                      <a:pt x="12049" y="2"/>
                      <a:pt x="12050" y="3"/>
                      <a:pt x="12050" y="4"/>
                    </a:cubicBezTo>
                    <a:cubicBezTo>
                      <a:pt x="12050" y="5"/>
                      <a:pt x="12049" y="6"/>
                      <a:pt x="12048" y="6"/>
                    </a:cubicBezTo>
                    <a:lnTo>
                      <a:pt x="12048" y="6"/>
                    </a:lnTo>
                    <a:cubicBezTo>
                      <a:pt x="12047" y="6"/>
                      <a:pt x="12046" y="5"/>
                      <a:pt x="12046" y="4"/>
                    </a:cubicBezTo>
                    <a:cubicBezTo>
                      <a:pt x="12046" y="3"/>
                      <a:pt x="12047" y="2"/>
                      <a:pt x="12048" y="2"/>
                    </a:cubicBezTo>
                    <a:close/>
                    <a:moveTo>
                      <a:pt x="12056" y="2"/>
                    </a:moveTo>
                    <a:lnTo>
                      <a:pt x="12056" y="2"/>
                    </a:lnTo>
                    <a:cubicBezTo>
                      <a:pt x="12057" y="2"/>
                      <a:pt x="12058" y="3"/>
                      <a:pt x="12058" y="4"/>
                    </a:cubicBezTo>
                    <a:cubicBezTo>
                      <a:pt x="12058" y="5"/>
                      <a:pt x="12057" y="6"/>
                      <a:pt x="12056" y="6"/>
                    </a:cubicBezTo>
                    <a:lnTo>
                      <a:pt x="12056" y="6"/>
                    </a:lnTo>
                    <a:cubicBezTo>
                      <a:pt x="12055" y="6"/>
                      <a:pt x="12054" y="5"/>
                      <a:pt x="12054" y="4"/>
                    </a:cubicBezTo>
                    <a:cubicBezTo>
                      <a:pt x="12054" y="3"/>
                      <a:pt x="12055" y="2"/>
                      <a:pt x="12056" y="2"/>
                    </a:cubicBezTo>
                    <a:close/>
                    <a:moveTo>
                      <a:pt x="12064" y="2"/>
                    </a:moveTo>
                    <a:lnTo>
                      <a:pt x="12064" y="2"/>
                    </a:lnTo>
                    <a:cubicBezTo>
                      <a:pt x="12065" y="2"/>
                      <a:pt x="12066" y="3"/>
                      <a:pt x="12066" y="4"/>
                    </a:cubicBezTo>
                    <a:cubicBezTo>
                      <a:pt x="12066" y="5"/>
                      <a:pt x="12065" y="6"/>
                      <a:pt x="12064" y="6"/>
                    </a:cubicBezTo>
                    <a:lnTo>
                      <a:pt x="12064" y="6"/>
                    </a:lnTo>
                    <a:cubicBezTo>
                      <a:pt x="12063" y="6"/>
                      <a:pt x="12062" y="5"/>
                      <a:pt x="12062" y="4"/>
                    </a:cubicBezTo>
                    <a:cubicBezTo>
                      <a:pt x="12062" y="3"/>
                      <a:pt x="12063" y="2"/>
                      <a:pt x="12064" y="2"/>
                    </a:cubicBezTo>
                    <a:close/>
                    <a:moveTo>
                      <a:pt x="12072" y="2"/>
                    </a:moveTo>
                    <a:lnTo>
                      <a:pt x="12072" y="2"/>
                    </a:lnTo>
                    <a:cubicBezTo>
                      <a:pt x="12073" y="2"/>
                      <a:pt x="12074" y="3"/>
                      <a:pt x="12074" y="4"/>
                    </a:cubicBezTo>
                    <a:cubicBezTo>
                      <a:pt x="12074" y="5"/>
                      <a:pt x="12073" y="6"/>
                      <a:pt x="12072" y="6"/>
                    </a:cubicBezTo>
                    <a:lnTo>
                      <a:pt x="12072" y="6"/>
                    </a:lnTo>
                    <a:cubicBezTo>
                      <a:pt x="12071" y="6"/>
                      <a:pt x="12070" y="5"/>
                      <a:pt x="12070" y="4"/>
                    </a:cubicBezTo>
                    <a:cubicBezTo>
                      <a:pt x="12070" y="3"/>
                      <a:pt x="12071" y="2"/>
                      <a:pt x="12072" y="2"/>
                    </a:cubicBezTo>
                    <a:close/>
                    <a:moveTo>
                      <a:pt x="12080" y="2"/>
                    </a:moveTo>
                    <a:lnTo>
                      <a:pt x="12080" y="2"/>
                    </a:lnTo>
                    <a:cubicBezTo>
                      <a:pt x="12081" y="2"/>
                      <a:pt x="12082" y="3"/>
                      <a:pt x="12082" y="4"/>
                    </a:cubicBezTo>
                    <a:cubicBezTo>
                      <a:pt x="12082" y="5"/>
                      <a:pt x="12081" y="6"/>
                      <a:pt x="12080" y="6"/>
                    </a:cubicBezTo>
                    <a:lnTo>
                      <a:pt x="12080" y="6"/>
                    </a:lnTo>
                    <a:cubicBezTo>
                      <a:pt x="12079" y="6"/>
                      <a:pt x="12078" y="5"/>
                      <a:pt x="12078" y="4"/>
                    </a:cubicBezTo>
                    <a:cubicBezTo>
                      <a:pt x="12078" y="3"/>
                      <a:pt x="12079" y="2"/>
                      <a:pt x="12080" y="2"/>
                    </a:cubicBezTo>
                    <a:close/>
                    <a:moveTo>
                      <a:pt x="12088" y="2"/>
                    </a:moveTo>
                    <a:lnTo>
                      <a:pt x="12088" y="2"/>
                    </a:lnTo>
                    <a:cubicBezTo>
                      <a:pt x="12089" y="2"/>
                      <a:pt x="12090" y="3"/>
                      <a:pt x="12090" y="4"/>
                    </a:cubicBezTo>
                    <a:cubicBezTo>
                      <a:pt x="12090" y="5"/>
                      <a:pt x="12089" y="6"/>
                      <a:pt x="12088" y="6"/>
                    </a:cubicBezTo>
                    <a:lnTo>
                      <a:pt x="12088" y="6"/>
                    </a:lnTo>
                    <a:cubicBezTo>
                      <a:pt x="12087" y="6"/>
                      <a:pt x="12086" y="5"/>
                      <a:pt x="12086" y="4"/>
                    </a:cubicBezTo>
                    <a:cubicBezTo>
                      <a:pt x="12086" y="3"/>
                      <a:pt x="12087" y="2"/>
                      <a:pt x="12088" y="2"/>
                    </a:cubicBezTo>
                    <a:close/>
                    <a:moveTo>
                      <a:pt x="12096" y="2"/>
                    </a:moveTo>
                    <a:lnTo>
                      <a:pt x="12096" y="2"/>
                    </a:lnTo>
                    <a:cubicBezTo>
                      <a:pt x="12097" y="2"/>
                      <a:pt x="12098" y="3"/>
                      <a:pt x="12098" y="4"/>
                    </a:cubicBezTo>
                    <a:cubicBezTo>
                      <a:pt x="12098" y="5"/>
                      <a:pt x="12097" y="6"/>
                      <a:pt x="12096" y="6"/>
                    </a:cubicBezTo>
                    <a:lnTo>
                      <a:pt x="12096" y="6"/>
                    </a:lnTo>
                    <a:cubicBezTo>
                      <a:pt x="12095" y="6"/>
                      <a:pt x="12094" y="5"/>
                      <a:pt x="12094" y="4"/>
                    </a:cubicBezTo>
                    <a:cubicBezTo>
                      <a:pt x="12094" y="3"/>
                      <a:pt x="12095" y="2"/>
                      <a:pt x="12096" y="2"/>
                    </a:cubicBezTo>
                    <a:close/>
                    <a:moveTo>
                      <a:pt x="12104" y="2"/>
                    </a:moveTo>
                    <a:lnTo>
                      <a:pt x="12104" y="2"/>
                    </a:lnTo>
                    <a:cubicBezTo>
                      <a:pt x="12105" y="2"/>
                      <a:pt x="12106" y="3"/>
                      <a:pt x="12106" y="4"/>
                    </a:cubicBezTo>
                    <a:cubicBezTo>
                      <a:pt x="12106" y="5"/>
                      <a:pt x="12105" y="6"/>
                      <a:pt x="12104" y="6"/>
                    </a:cubicBezTo>
                    <a:lnTo>
                      <a:pt x="12104" y="6"/>
                    </a:lnTo>
                    <a:cubicBezTo>
                      <a:pt x="12103" y="6"/>
                      <a:pt x="12102" y="5"/>
                      <a:pt x="12102" y="4"/>
                    </a:cubicBezTo>
                    <a:cubicBezTo>
                      <a:pt x="12102" y="3"/>
                      <a:pt x="12103" y="2"/>
                      <a:pt x="12104" y="2"/>
                    </a:cubicBezTo>
                    <a:close/>
                    <a:moveTo>
                      <a:pt x="12112" y="2"/>
                    </a:moveTo>
                    <a:lnTo>
                      <a:pt x="12112" y="2"/>
                    </a:lnTo>
                    <a:cubicBezTo>
                      <a:pt x="12113" y="2"/>
                      <a:pt x="12114" y="3"/>
                      <a:pt x="12114" y="4"/>
                    </a:cubicBezTo>
                    <a:cubicBezTo>
                      <a:pt x="12114" y="5"/>
                      <a:pt x="12113" y="6"/>
                      <a:pt x="12112" y="6"/>
                    </a:cubicBezTo>
                    <a:lnTo>
                      <a:pt x="12112" y="6"/>
                    </a:lnTo>
                    <a:cubicBezTo>
                      <a:pt x="12111" y="6"/>
                      <a:pt x="12110" y="5"/>
                      <a:pt x="12110" y="4"/>
                    </a:cubicBezTo>
                    <a:cubicBezTo>
                      <a:pt x="12110" y="3"/>
                      <a:pt x="12111" y="2"/>
                      <a:pt x="12112" y="2"/>
                    </a:cubicBezTo>
                    <a:close/>
                    <a:moveTo>
                      <a:pt x="12120" y="2"/>
                    </a:moveTo>
                    <a:lnTo>
                      <a:pt x="12120" y="2"/>
                    </a:lnTo>
                    <a:cubicBezTo>
                      <a:pt x="12121" y="2"/>
                      <a:pt x="12122" y="3"/>
                      <a:pt x="12122" y="4"/>
                    </a:cubicBezTo>
                    <a:cubicBezTo>
                      <a:pt x="12122" y="5"/>
                      <a:pt x="12121" y="6"/>
                      <a:pt x="12120" y="6"/>
                    </a:cubicBezTo>
                    <a:lnTo>
                      <a:pt x="12120" y="6"/>
                    </a:lnTo>
                    <a:cubicBezTo>
                      <a:pt x="12119" y="6"/>
                      <a:pt x="12118" y="5"/>
                      <a:pt x="12118" y="4"/>
                    </a:cubicBezTo>
                    <a:cubicBezTo>
                      <a:pt x="12118" y="3"/>
                      <a:pt x="12119" y="2"/>
                      <a:pt x="12120" y="2"/>
                    </a:cubicBezTo>
                    <a:close/>
                    <a:moveTo>
                      <a:pt x="12128" y="2"/>
                    </a:moveTo>
                    <a:lnTo>
                      <a:pt x="12128" y="2"/>
                    </a:lnTo>
                    <a:cubicBezTo>
                      <a:pt x="12129" y="2"/>
                      <a:pt x="12130" y="3"/>
                      <a:pt x="12130" y="4"/>
                    </a:cubicBezTo>
                    <a:cubicBezTo>
                      <a:pt x="12130" y="5"/>
                      <a:pt x="12129" y="6"/>
                      <a:pt x="12128" y="6"/>
                    </a:cubicBezTo>
                    <a:lnTo>
                      <a:pt x="12128" y="6"/>
                    </a:lnTo>
                    <a:cubicBezTo>
                      <a:pt x="12127" y="6"/>
                      <a:pt x="12126" y="5"/>
                      <a:pt x="12126" y="4"/>
                    </a:cubicBezTo>
                    <a:cubicBezTo>
                      <a:pt x="12126" y="3"/>
                      <a:pt x="12127" y="2"/>
                      <a:pt x="12128" y="2"/>
                    </a:cubicBezTo>
                    <a:close/>
                    <a:moveTo>
                      <a:pt x="12136" y="2"/>
                    </a:moveTo>
                    <a:lnTo>
                      <a:pt x="12136" y="2"/>
                    </a:lnTo>
                    <a:cubicBezTo>
                      <a:pt x="12137" y="2"/>
                      <a:pt x="12138" y="3"/>
                      <a:pt x="12138" y="4"/>
                    </a:cubicBezTo>
                    <a:cubicBezTo>
                      <a:pt x="12138" y="5"/>
                      <a:pt x="12137" y="6"/>
                      <a:pt x="12136" y="6"/>
                    </a:cubicBezTo>
                    <a:lnTo>
                      <a:pt x="12136" y="6"/>
                    </a:lnTo>
                    <a:cubicBezTo>
                      <a:pt x="12135" y="6"/>
                      <a:pt x="12134" y="5"/>
                      <a:pt x="12134" y="4"/>
                    </a:cubicBezTo>
                    <a:cubicBezTo>
                      <a:pt x="12134" y="3"/>
                      <a:pt x="12135" y="2"/>
                      <a:pt x="12136" y="2"/>
                    </a:cubicBezTo>
                    <a:close/>
                    <a:moveTo>
                      <a:pt x="12144" y="2"/>
                    </a:moveTo>
                    <a:lnTo>
                      <a:pt x="12144" y="2"/>
                    </a:lnTo>
                    <a:cubicBezTo>
                      <a:pt x="12145" y="2"/>
                      <a:pt x="12146" y="3"/>
                      <a:pt x="12146" y="4"/>
                    </a:cubicBezTo>
                    <a:cubicBezTo>
                      <a:pt x="12146" y="5"/>
                      <a:pt x="12145" y="6"/>
                      <a:pt x="12144" y="6"/>
                    </a:cubicBezTo>
                    <a:lnTo>
                      <a:pt x="12144" y="6"/>
                    </a:lnTo>
                    <a:cubicBezTo>
                      <a:pt x="12143" y="6"/>
                      <a:pt x="12142" y="5"/>
                      <a:pt x="12142" y="4"/>
                    </a:cubicBezTo>
                    <a:cubicBezTo>
                      <a:pt x="12142" y="3"/>
                      <a:pt x="12143" y="2"/>
                      <a:pt x="12144" y="2"/>
                    </a:cubicBezTo>
                    <a:close/>
                    <a:moveTo>
                      <a:pt x="12152" y="2"/>
                    </a:moveTo>
                    <a:lnTo>
                      <a:pt x="12152" y="2"/>
                    </a:lnTo>
                    <a:cubicBezTo>
                      <a:pt x="12153" y="2"/>
                      <a:pt x="12154" y="3"/>
                      <a:pt x="12154" y="4"/>
                    </a:cubicBezTo>
                    <a:cubicBezTo>
                      <a:pt x="12154" y="5"/>
                      <a:pt x="12153" y="6"/>
                      <a:pt x="12152" y="6"/>
                    </a:cubicBezTo>
                    <a:lnTo>
                      <a:pt x="12152" y="6"/>
                    </a:lnTo>
                    <a:cubicBezTo>
                      <a:pt x="12151" y="6"/>
                      <a:pt x="12150" y="5"/>
                      <a:pt x="12150" y="4"/>
                    </a:cubicBezTo>
                    <a:cubicBezTo>
                      <a:pt x="12150" y="3"/>
                      <a:pt x="12151" y="2"/>
                      <a:pt x="12152" y="2"/>
                    </a:cubicBezTo>
                    <a:close/>
                    <a:moveTo>
                      <a:pt x="12160" y="2"/>
                    </a:moveTo>
                    <a:lnTo>
                      <a:pt x="12160" y="2"/>
                    </a:lnTo>
                    <a:cubicBezTo>
                      <a:pt x="12161" y="2"/>
                      <a:pt x="12162" y="3"/>
                      <a:pt x="12162" y="4"/>
                    </a:cubicBezTo>
                    <a:cubicBezTo>
                      <a:pt x="12162" y="5"/>
                      <a:pt x="12161" y="6"/>
                      <a:pt x="12160" y="6"/>
                    </a:cubicBezTo>
                    <a:lnTo>
                      <a:pt x="12160" y="6"/>
                    </a:lnTo>
                    <a:cubicBezTo>
                      <a:pt x="12159" y="6"/>
                      <a:pt x="12158" y="5"/>
                      <a:pt x="12158" y="4"/>
                    </a:cubicBezTo>
                    <a:cubicBezTo>
                      <a:pt x="12158" y="3"/>
                      <a:pt x="12159" y="2"/>
                      <a:pt x="12160" y="2"/>
                    </a:cubicBezTo>
                    <a:close/>
                    <a:moveTo>
                      <a:pt x="12168" y="2"/>
                    </a:moveTo>
                    <a:lnTo>
                      <a:pt x="12168" y="2"/>
                    </a:lnTo>
                    <a:cubicBezTo>
                      <a:pt x="12169" y="2"/>
                      <a:pt x="12170" y="3"/>
                      <a:pt x="12170" y="4"/>
                    </a:cubicBezTo>
                    <a:cubicBezTo>
                      <a:pt x="12170" y="5"/>
                      <a:pt x="12169" y="6"/>
                      <a:pt x="12168" y="6"/>
                    </a:cubicBezTo>
                    <a:lnTo>
                      <a:pt x="12168" y="6"/>
                    </a:lnTo>
                    <a:cubicBezTo>
                      <a:pt x="12167" y="6"/>
                      <a:pt x="12166" y="5"/>
                      <a:pt x="12166" y="4"/>
                    </a:cubicBezTo>
                    <a:cubicBezTo>
                      <a:pt x="12166" y="3"/>
                      <a:pt x="12167" y="2"/>
                      <a:pt x="12168" y="2"/>
                    </a:cubicBezTo>
                    <a:close/>
                    <a:moveTo>
                      <a:pt x="12176" y="2"/>
                    </a:moveTo>
                    <a:lnTo>
                      <a:pt x="12176" y="2"/>
                    </a:lnTo>
                    <a:cubicBezTo>
                      <a:pt x="12177" y="2"/>
                      <a:pt x="12178" y="3"/>
                      <a:pt x="12178" y="4"/>
                    </a:cubicBezTo>
                    <a:cubicBezTo>
                      <a:pt x="12178" y="5"/>
                      <a:pt x="12177" y="6"/>
                      <a:pt x="12176" y="6"/>
                    </a:cubicBezTo>
                    <a:lnTo>
                      <a:pt x="12176" y="6"/>
                    </a:lnTo>
                    <a:cubicBezTo>
                      <a:pt x="12175" y="6"/>
                      <a:pt x="12174" y="5"/>
                      <a:pt x="12174" y="4"/>
                    </a:cubicBezTo>
                    <a:cubicBezTo>
                      <a:pt x="12174" y="3"/>
                      <a:pt x="12175" y="2"/>
                      <a:pt x="12176" y="2"/>
                    </a:cubicBezTo>
                    <a:close/>
                    <a:moveTo>
                      <a:pt x="12184" y="2"/>
                    </a:moveTo>
                    <a:lnTo>
                      <a:pt x="12184" y="2"/>
                    </a:lnTo>
                    <a:cubicBezTo>
                      <a:pt x="12185" y="2"/>
                      <a:pt x="12186" y="3"/>
                      <a:pt x="12186" y="4"/>
                    </a:cubicBezTo>
                    <a:cubicBezTo>
                      <a:pt x="12186" y="5"/>
                      <a:pt x="12185" y="6"/>
                      <a:pt x="12184" y="6"/>
                    </a:cubicBezTo>
                    <a:lnTo>
                      <a:pt x="12184" y="6"/>
                    </a:lnTo>
                    <a:cubicBezTo>
                      <a:pt x="12183" y="6"/>
                      <a:pt x="12182" y="5"/>
                      <a:pt x="12182" y="4"/>
                    </a:cubicBezTo>
                    <a:cubicBezTo>
                      <a:pt x="12182" y="3"/>
                      <a:pt x="12183" y="2"/>
                      <a:pt x="12184" y="2"/>
                    </a:cubicBezTo>
                    <a:close/>
                    <a:moveTo>
                      <a:pt x="12192" y="2"/>
                    </a:moveTo>
                    <a:lnTo>
                      <a:pt x="12192" y="2"/>
                    </a:lnTo>
                    <a:cubicBezTo>
                      <a:pt x="12193" y="2"/>
                      <a:pt x="12194" y="3"/>
                      <a:pt x="12194" y="4"/>
                    </a:cubicBezTo>
                    <a:cubicBezTo>
                      <a:pt x="12194" y="5"/>
                      <a:pt x="12193" y="6"/>
                      <a:pt x="12192" y="6"/>
                    </a:cubicBezTo>
                    <a:lnTo>
                      <a:pt x="12192" y="6"/>
                    </a:lnTo>
                    <a:cubicBezTo>
                      <a:pt x="12191" y="6"/>
                      <a:pt x="12190" y="5"/>
                      <a:pt x="12190" y="4"/>
                    </a:cubicBezTo>
                    <a:cubicBezTo>
                      <a:pt x="12190" y="3"/>
                      <a:pt x="12191" y="2"/>
                      <a:pt x="12192" y="2"/>
                    </a:cubicBezTo>
                    <a:close/>
                    <a:moveTo>
                      <a:pt x="12200" y="2"/>
                    </a:moveTo>
                    <a:lnTo>
                      <a:pt x="12200" y="2"/>
                    </a:lnTo>
                    <a:cubicBezTo>
                      <a:pt x="12201" y="2"/>
                      <a:pt x="12202" y="3"/>
                      <a:pt x="12202" y="4"/>
                    </a:cubicBezTo>
                    <a:cubicBezTo>
                      <a:pt x="12202" y="5"/>
                      <a:pt x="12201" y="6"/>
                      <a:pt x="12200" y="6"/>
                    </a:cubicBezTo>
                    <a:lnTo>
                      <a:pt x="12200" y="6"/>
                    </a:lnTo>
                    <a:cubicBezTo>
                      <a:pt x="12199" y="6"/>
                      <a:pt x="12198" y="5"/>
                      <a:pt x="12198" y="4"/>
                    </a:cubicBezTo>
                    <a:cubicBezTo>
                      <a:pt x="12198" y="3"/>
                      <a:pt x="12199" y="2"/>
                      <a:pt x="12200" y="2"/>
                    </a:cubicBezTo>
                    <a:close/>
                    <a:moveTo>
                      <a:pt x="12208" y="2"/>
                    </a:moveTo>
                    <a:lnTo>
                      <a:pt x="12208" y="2"/>
                    </a:lnTo>
                    <a:cubicBezTo>
                      <a:pt x="12209" y="2"/>
                      <a:pt x="12210" y="3"/>
                      <a:pt x="12210" y="4"/>
                    </a:cubicBezTo>
                    <a:cubicBezTo>
                      <a:pt x="12210" y="5"/>
                      <a:pt x="12209" y="6"/>
                      <a:pt x="12208" y="6"/>
                    </a:cubicBezTo>
                    <a:lnTo>
                      <a:pt x="12208" y="6"/>
                    </a:lnTo>
                    <a:cubicBezTo>
                      <a:pt x="12207" y="6"/>
                      <a:pt x="12206" y="5"/>
                      <a:pt x="12206" y="4"/>
                    </a:cubicBezTo>
                    <a:cubicBezTo>
                      <a:pt x="12206" y="3"/>
                      <a:pt x="12207" y="2"/>
                      <a:pt x="12208" y="2"/>
                    </a:cubicBezTo>
                    <a:close/>
                    <a:moveTo>
                      <a:pt x="12216" y="2"/>
                    </a:moveTo>
                    <a:lnTo>
                      <a:pt x="12216" y="2"/>
                    </a:lnTo>
                    <a:cubicBezTo>
                      <a:pt x="12217" y="2"/>
                      <a:pt x="12218" y="3"/>
                      <a:pt x="12218" y="4"/>
                    </a:cubicBezTo>
                    <a:cubicBezTo>
                      <a:pt x="12218" y="5"/>
                      <a:pt x="12217" y="6"/>
                      <a:pt x="12216" y="6"/>
                    </a:cubicBezTo>
                    <a:lnTo>
                      <a:pt x="12216" y="6"/>
                    </a:lnTo>
                    <a:cubicBezTo>
                      <a:pt x="12215" y="6"/>
                      <a:pt x="12214" y="5"/>
                      <a:pt x="12214" y="4"/>
                    </a:cubicBezTo>
                    <a:cubicBezTo>
                      <a:pt x="12214" y="3"/>
                      <a:pt x="12215" y="2"/>
                      <a:pt x="12216" y="2"/>
                    </a:cubicBezTo>
                    <a:close/>
                    <a:moveTo>
                      <a:pt x="12224" y="2"/>
                    </a:moveTo>
                    <a:lnTo>
                      <a:pt x="12224" y="2"/>
                    </a:lnTo>
                    <a:cubicBezTo>
                      <a:pt x="12225" y="2"/>
                      <a:pt x="12226" y="3"/>
                      <a:pt x="12226" y="4"/>
                    </a:cubicBezTo>
                    <a:cubicBezTo>
                      <a:pt x="12226" y="5"/>
                      <a:pt x="12225" y="6"/>
                      <a:pt x="12224" y="6"/>
                    </a:cubicBezTo>
                    <a:lnTo>
                      <a:pt x="12224" y="6"/>
                    </a:lnTo>
                    <a:cubicBezTo>
                      <a:pt x="12223" y="6"/>
                      <a:pt x="12222" y="5"/>
                      <a:pt x="12222" y="4"/>
                    </a:cubicBezTo>
                    <a:cubicBezTo>
                      <a:pt x="12222" y="3"/>
                      <a:pt x="12223" y="2"/>
                      <a:pt x="12224" y="2"/>
                    </a:cubicBezTo>
                    <a:close/>
                    <a:moveTo>
                      <a:pt x="12232" y="2"/>
                    </a:moveTo>
                    <a:lnTo>
                      <a:pt x="12232" y="2"/>
                    </a:lnTo>
                    <a:cubicBezTo>
                      <a:pt x="12233" y="2"/>
                      <a:pt x="12234" y="3"/>
                      <a:pt x="12234" y="4"/>
                    </a:cubicBezTo>
                    <a:cubicBezTo>
                      <a:pt x="12234" y="5"/>
                      <a:pt x="12233" y="6"/>
                      <a:pt x="12232" y="6"/>
                    </a:cubicBezTo>
                    <a:lnTo>
                      <a:pt x="12232" y="6"/>
                    </a:lnTo>
                    <a:cubicBezTo>
                      <a:pt x="12231" y="6"/>
                      <a:pt x="12230" y="5"/>
                      <a:pt x="12230" y="4"/>
                    </a:cubicBezTo>
                    <a:cubicBezTo>
                      <a:pt x="12230" y="3"/>
                      <a:pt x="12231" y="2"/>
                      <a:pt x="12232" y="2"/>
                    </a:cubicBezTo>
                    <a:close/>
                    <a:moveTo>
                      <a:pt x="12240" y="2"/>
                    </a:moveTo>
                    <a:lnTo>
                      <a:pt x="12240" y="2"/>
                    </a:lnTo>
                    <a:cubicBezTo>
                      <a:pt x="12241" y="2"/>
                      <a:pt x="12242" y="3"/>
                      <a:pt x="12242" y="4"/>
                    </a:cubicBezTo>
                    <a:cubicBezTo>
                      <a:pt x="12242" y="5"/>
                      <a:pt x="12241" y="6"/>
                      <a:pt x="12240" y="6"/>
                    </a:cubicBezTo>
                    <a:lnTo>
                      <a:pt x="12240" y="6"/>
                    </a:lnTo>
                    <a:cubicBezTo>
                      <a:pt x="12239" y="6"/>
                      <a:pt x="12238" y="5"/>
                      <a:pt x="12238" y="4"/>
                    </a:cubicBezTo>
                    <a:cubicBezTo>
                      <a:pt x="12238" y="3"/>
                      <a:pt x="12239" y="2"/>
                      <a:pt x="12240" y="2"/>
                    </a:cubicBezTo>
                    <a:close/>
                    <a:moveTo>
                      <a:pt x="12248" y="2"/>
                    </a:moveTo>
                    <a:lnTo>
                      <a:pt x="12248" y="2"/>
                    </a:lnTo>
                    <a:cubicBezTo>
                      <a:pt x="12249" y="2"/>
                      <a:pt x="12250" y="3"/>
                      <a:pt x="12250" y="4"/>
                    </a:cubicBezTo>
                    <a:cubicBezTo>
                      <a:pt x="12250" y="5"/>
                      <a:pt x="12249" y="6"/>
                      <a:pt x="12248" y="6"/>
                    </a:cubicBezTo>
                    <a:lnTo>
                      <a:pt x="12248" y="6"/>
                    </a:lnTo>
                    <a:cubicBezTo>
                      <a:pt x="12247" y="6"/>
                      <a:pt x="12246" y="5"/>
                      <a:pt x="12246" y="4"/>
                    </a:cubicBezTo>
                    <a:cubicBezTo>
                      <a:pt x="12246" y="3"/>
                      <a:pt x="12247" y="2"/>
                      <a:pt x="12248" y="2"/>
                    </a:cubicBezTo>
                    <a:close/>
                    <a:moveTo>
                      <a:pt x="12256" y="2"/>
                    </a:moveTo>
                    <a:lnTo>
                      <a:pt x="12256" y="2"/>
                    </a:lnTo>
                    <a:cubicBezTo>
                      <a:pt x="12257" y="2"/>
                      <a:pt x="12258" y="3"/>
                      <a:pt x="12258" y="4"/>
                    </a:cubicBezTo>
                    <a:cubicBezTo>
                      <a:pt x="12258" y="5"/>
                      <a:pt x="12257" y="6"/>
                      <a:pt x="12256" y="6"/>
                    </a:cubicBezTo>
                    <a:lnTo>
                      <a:pt x="12256" y="6"/>
                    </a:lnTo>
                    <a:cubicBezTo>
                      <a:pt x="12255" y="6"/>
                      <a:pt x="12254" y="5"/>
                      <a:pt x="12254" y="4"/>
                    </a:cubicBezTo>
                    <a:cubicBezTo>
                      <a:pt x="12254" y="3"/>
                      <a:pt x="12255" y="2"/>
                      <a:pt x="12256" y="2"/>
                    </a:cubicBezTo>
                    <a:close/>
                    <a:moveTo>
                      <a:pt x="12264" y="2"/>
                    </a:moveTo>
                    <a:lnTo>
                      <a:pt x="12264" y="2"/>
                    </a:lnTo>
                    <a:cubicBezTo>
                      <a:pt x="12265" y="2"/>
                      <a:pt x="12266" y="3"/>
                      <a:pt x="12266" y="4"/>
                    </a:cubicBezTo>
                    <a:cubicBezTo>
                      <a:pt x="12266" y="5"/>
                      <a:pt x="12265" y="6"/>
                      <a:pt x="12264" y="6"/>
                    </a:cubicBezTo>
                    <a:lnTo>
                      <a:pt x="12264" y="6"/>
                    </a:lnTo>
                    <a:cubicBezTo>
                      <a:pt x="12263" y="6"/>
                      <a:pt x="12262" y="5"/>
                      <a:pt x="12262" y="4"/>
                    </a:cubicBezTo>
                    <a:cubicBezTo>
                      <a:pt x="12262" y="3"/>
                      <a:pt x="12263" y="2"/>
                      <a:pt x="12264" y="2"/>
                    </a:cubicBezTo>
                    <a:close/>
                    <a:moveTo>
                      <a:pt x="12272" y="2"/>
                    </a:moveTo>
                    <a:lnTo>
                      <a:pt x="12272" y="2"/>
                    </a:lnTo>
                    <a:cubicBezTo>
                      <a:pt x="12273" y="2"/>
                      <a:pt x="12274" y="3"/>
                      <a:pt x="12274" y="4"/>
                    </a:cubicBezTo>
                    <a:cubicBezTo>
                      <a:pt x="12274" y="5"/>
                      <a:pt x="12273" y="6"/>
                      <a:pt x="12272" y="6"/>
                    </a:cubicBezTo>
                    <a:lnTo>
                      <a:pt x="12272" y="6"/>
                    </a:lnTo>
                    <a:cubicBezTo>
                      <a:pt x="12271" y="6"/>
                      <a:pt x="12270" y="5"/>
                      <a:pt x="12270" y="4"/>
                    </a:cubicBezTo>
                    <a:cubicBezTo>
                      <a:pt x="12270" y="3"/>
                      <a:pt x="12271" y="2"/>
                      <a:pt x="12272" y="2"/>
                    </a:cubicBezTo>
                    <a:close/>
                    <a:moveTo>
                      <a:pt x="12280" y="2"/>
                    </a:moveTo>
                    <a:lnTo>
                      <a:pt x="12280" y="2"/>
                    </a:lnTo>
                    <a:cubicBezTo>
                      <a:pt x="12281" y="2"/>
                      <a:pt x="12282" y="3"/>
                      <a:pt x="12282" y="4"/>
                    </a:cubicBezTo>
                    <a:cubicBezTo>
                      <a:pt x="12282" y="5"/>
                      <a:pt x="12281" y="6"/>
                      <a:pt x="12280" y="6"/>
                    </a:cubicBezTo>
                    <a:lnTo>
                      <a:pt x="12280" y="6"/>
                    </a:lnTo>
                    <a:cubicBezTo>
                      <a:pt x="12279" y="6"/>
                      <a:pt x="12278" y="5"/>
                      <a:pt x="12278" y="4"/>
                    </a:cubicBezTo>
                    <a:cubicBezTo>
                      <a:pt x="12278" y="3"/>
                      <a:pt x="12279" y="2"/>
                      <a:pt x="12280" y="2"/>
                    </a:cubicBezTo>
                    <a:close/>
                    <a:moveTo>
                      <a:pt x="12288" y="2"/>
                    </a:moveTo>
                    <a:lnTo>
                      <a:pt x="12288" y="2"/>
                    </a:lnTo>
                    <a:cubicBezTo>
                      <a:pt x="12289" y="2"/>
                      <a:pt x="12290" y="3"/>
                      <a:pt x="12290" y="4"/>
                    </a:cubicBezTo>
                    <a:cubicBezTo>
                      <a:pt x="12290" y="5"/>
                      <a:pt x="12289" y="6"/>
                      <a:pt x="12288" y="6"/>
                    </a:cubicBezTo>
                    <a:lnTo>
                      <a:pt x="12288" y="6"/>
                    </a:lnTo>
                    <a:cubicBezTo>
                      <a:pt x="12287" y="6"/>
                      <a:pt x="12286" y="5"/>
                      <a:pt x="12286" y="4"/>
                    </a:cubicBezTo>
                    <a:cubicBezTo>
                      <a:pt x="12286" y="3"/>
                      <a:pt x="12287" y="2"/>
                      <a:pt x="12288" y="2"/>
                    </a:cubicBezTo>
                    <a:close/>
                    <a:moveTo>
                      <a:pt x="12296" y="2"/>
                    </a:moveTo>
                    <a:lnTo>
                      <a:pt x="12296" y="2"/>
                    </a:lnTo>
                    <a:cubicBezTo>
                      <a:pt x="12297" y="2"/>
                      <a:pt x="12298" y="3"/>
                      <a:pt x="12298" y="4"/>
                    </a:cubicBezTo>
                    <a:cubicBezTo>
                      <a:pt x="12298" y="5"/>
                      <a:pt x="12297" y="6"/>
                      <a:pt x="12296" y="6"/>
                    </a:cubicBezTo>
                    <a:lnTo>
                      <a:pt x="12296" y="6"/>
                    </a:lnTo>
                    <a:cubicBezTo>
                      <a:pt x="12295" y="6"/>
                      <a:pt x="12294" y="5"/>
                      <a:pt x="12294" y="4"/>
                    </a:cubicBezTo>
                    <a:cubicBezTo>
                      <a:pt x="12294" y="3"/>
                      <a:pt x="12295" y="2"/>
                      <a:pt x="12296" y="2"/>
                    </a:cubicBezTo>
                    <a:close/>
                    <a:moveTo>
                      <a:pt x="12304" y="2"/>
                    </a:moveTo>
                    <a:lnTo>
                      <a:pt x="12304" y="2"/>
                    </a:lnTo>
                    <a:cubicBezTo>
                      <a:pt x="12305" y="2"/>
                      <a:pt x="12306" y="3"/>
                      <a:pt x="12306" y="4"/>
                    </a:cubicBezTo>
                    <a:cubicBezTo>
                      <a:pt x="12306" y="5"/>
                      <a:pt x="12305" y="6"/>
                      <a:pt x="12304" y="6"/>
                    </a:cubicBezTo>
                    <a:lnTo>
                      <a:pt x="12304" y="6"/>
                    </a:lnTo>
                    <a:cubicBezTo>
                      <a:pt x="12303" y="6"/>
                      <a:pt x="12302" y="5"/>
                      <a:pt x="12302" y="4"/>
                    </a:cubicBezTo>
                    <a:cubicBezTo>
                      <a:pt x="12302" y="3"/>
                      <a:pt x="12303" y="2"/>
                      <a:pt x="12304" y="2"/>
                    </a:cubicBezTo>
                    <a:close/>
                    <a:moveTo>
                      <a:pt x="12312" y="2"/>
                    </a:moveTo>
                    <a:lnTo>
                      <a:pt x="12312" y="2"/>
                    </a:lnTo>
                    <a:cubicBezTo>
                      <a:pt x="12313" y="2"/>
                      <a:pt x="12314" y="3"/>
                      <a:pt x="12314" y="4"/>
                    </a:cubicBezTo>
                    <a:cubicBezTo>
                      <a:pt x="12314" y="5"/>
                      <a:pt x="12313" y="6"/>
                      <a:pt x="12312" y="6"/>
                    </a:cubicBezTo>
                    <a:lnTo>
                      <a:pt x="12312" y="6"/>
                    </a:lnTo>
                    <a:cubicBezTo>
                      <a:pt x="12311" y="6"/>
                      <a:pt x="12310" y="5"/>
                      <a:pt x="12310" y="4"/>
                    </a:cubicBezTo>
                    <a:cubicBezTo>
                      <a:pt x="12310" y="3"/>
                      <a:pt x="12311" y="2"/>
                      <a:pt x="12312" y="2"/>
                    </a:cubicBezTo>
                    <a:close/>
                    <a:moveTo>
                      <a:pt x="12320" y="2"/>
                    </a:moveTo>
                    <a:lnTo>
                      <a:pt x="12320" y="2"/>
                    </a:lnTo>
                    <a:cubicBezTo>
                      <a:pt x="12321" y="2"/>
                      <a:pt x="12322" y="3"/>
                      <a:pt x="12322" y="4"/>
                    </a:cubicBezTo>
                    <a:cubicBezTo>
                      <a:pt x="12322" y="5"/>
                      <a:pt x="12321" y="6"/>
                      <a:pt x="12320" y="6"/>
                    </a:cubicBezTo>
                    <a:lnTo>
                      <a:pt x="12320" y="6"/>
                    </a:lnTo>
                    <a:cubicBezTo>
                      <a:pt x="12319" y="6"/>
                      <a:pt x="12318" y="5"/>
                      <a:pt x="12318" y="4"/>
                    </a:cubicBezTo>
                    <a:cubicBezTo>
                      <a:pt x="12318" y="3"/>
                      <a:pt x="12319" y="2"/>
                      <a:pt x="12320" y="2"/>
                    </a:cubicBezTo>
                    <a:close/>
                    <a:moveTo>
                      <a:pt x="12328" y="2"/>
                    </a:moveTo>
                    <a:lnTo>
                      <a:pt x="12328" y="2"/>
                    </a:lnTo>
                    <a:cubicBezTo>
                      <a:pt x="12329" y="2"/>
                      <a:pt x="12330" y="3"/>
                      <a:pt x="12330" y="4"/>
                    </a:cubicBezTo>
                    <a:cubicBezTo>
                      <a:pt x="12330" y="5"/>
                      <a:pt x="12329" y="6"/>
                      <a:pt x="12328" y="6"/>
                    </a:cubicBezTo>
                    <a:lnTo>
                      <a:pt x="12328" y="6"/>
                    </a:lnTo>
                    <a:cubicBezTo>
                      <a:pt x="12327" y="6"/>
                      <a:pt x="12326" y="5"/>
                      <a:pt x="12326" y="4"/>
                    </a:cubicBezTo>
                    <a:cubicBezTo>
                      <a:pt x="12326" y="3"/>
                      <a:pt x="12327" y="2"/>
                      <a:pt x="12328" y="2"/>
                    </a:cubicBezTo>
                    <a:close/>
                    <a:moveTo>
                      <a:pt x="12336" y="2"/>
                    </a:moveTo>
                    <a:lnTo>
                      <a:pt x="12336" y="2"/>
                    </a:lnTo>
                    <a:cubicBezTo>
                      <a:pt x="12337" y="2"/>
                      <a:pt x="12338" y="3"/>
                      <a:pt x="12338" y="4"/>
                    </a:cubicBezTo>
                    <a:cubicBezTo>
                      <a:pt x="12338" y="5"/>
                      <a:pt x="12337" y="6"/>
                      <a:pt x="12336" y="6"/>
                    </a:cubicBezTo>
                    <a:lnTo>
                      <a:pt x="12336" y="6"/>
                    </a:lnTo>
                    <a:cubicBezTo>
                      <a:pt x="12335" y="6"/>
                      <a:pt x="12334" y="5"/>
                      <a:pt x="12334" y="4"/>
                    </a:cubicBezTo>
                    <a:cubicBezTo>
                      <a:pt x="12334" y="3"/>
                      <a:pt x="12335" y="2"/>
                      <a:pt x="12336" y="2"/>
                    </a:cubicBezTo>
                    <a:close/>
                    <a:moveTo>
                      <a:pt x="12344" y="2"/>
                    </a:moveTo>
                    <a:lnTo>
                      <a:pt x="12344" y="2"/>
                    </a:lnTo>
                    <a:cubicBezTo>
                      <a:pt x="12345" y="2"/>
                      <a:pt x="12346" y="3"/>
                      <a:pt x="12346" y="4"/>
                    </a:cubicBezTo>
                    <a:cubicBezTo>
                      <a:pt x="12346" y="5"/>
                      <a:pt x="12345" y="6"/>
                      <a:pt x="12344" y="6"/>
                    </a:cubicBezTo>
                    <a:lnTo>
                      <a:pt x="12344" y="6"/>
                    </a:lnTo>
                    <a:cubicBezTo>
                      <a:pt x="12343" y="6"/>
                      <a:pt x="12342" y="5"/>
                      <a:pt x="12342" y="4"/>
                    </a:cubicBezTo>
                    <a:cubicBezTo>
                      <a:pt x="12342" y="3"/>
                      <a:pt x="12343" y="2"/>
                      <a:pt x="12344" y="2"/>
                    </a:cubicBezTo>
                    <a:close/>
                    <a:moveTo>
                      <a:pt x="12352" y="2"/>
                    </a:moveTo>
                    <a:lnTo>
                      <a:pt x="12352" y="2"/>
                    </a:lnTo>
                    <a:cubicBezTo>
                      <a:pt x="12353" y="2"/>
                      <a:pt x="12354" y="3"/>
                      <a:pt x="12354" y="4"/>
                    </a:cubicBezTo>
                    <a:cubicBezTo>
                      <a:pt x="12354" y="5"/>
                      <a:pt x="12353" y="6"/>
                      <a:pt x="12352" y="6"/>
                    </a:cubicBezTo>
                    <a:lnTo>
                      <a:pt x="12352" y="6"/>
                    </a:lnTo>
                    <a:cubicBezTo>
                      <a:pt x="12351" y="6"/>
                      <a:pt x="12350" y="5"/>
                      <a:pt x="12350" y="4"/>
                    </a:cubicBezTo>
                    <a:cubicBezTo>
                      <a:pt x="12350" y="3"/>
                      <a:pt x="12351" y="2"/>
                      <a:pt x="12352" y="2"/>
                    </a:cubicBezTo>
                    <a:close/>
                    <a:moveTo>
                      <a:pt x="12360" y="2"/>
                    </a:moveTo>
                    <a:lnTo>
                      <a:pt x="12360" y="2"/>
                    </a:lnTo>
                    <a:cubicBezTo>
                      <a:pt x="12361" y="2"/>
                      <a:pt x="12362" y="3"/>
                      <a:pt x="12362" y="4"/>
                    </a:cubicBezTo>
                    <a:cubicBezTo>
                      <a:pt x="12362" y="5"/>
                      <a:pt x="12361" y="6"/>
                      <a:pt x="12360" y="6"/>
                    </a:cubicBezTo>
                    <a:lnTo>
                      <a:pt x="12360" y="6"/>
                    </a:lnTo>
                    <a:cubicBezTo>
                      <a:pt x="12359" y="6"/>
                      <a:pt x="12358" y="5"/>
                      <a:pt x="12358" y="4"/>
                    </a:cubicBezTo>
                    <a:cubicBezTo>
                      <a:pt x="12358" y="3"/>
                      <a:pt x="12359" y="2"/>
                      <a:pt x="12360" y="2"/>
                    </a:cubicBezTo>
                    <a:close/>
                    <a:moveTo>
                      <a:pt x="12368" y="2"/>
                    </a:moveTo>
                    <a:lnTo>
                      <a:pt x="12368" y="2"/>
                    </a:lnTo>
                    <a:cubicBezTo>
                      <a:pt x="12369" y="2"/>
                      <a:pt x="12370" y="3"/>
                      <a:pt x="12370" y="4"/>
                    </a:cubicBezTo>
                    <a:cubicBezTo>
                      <a:pt x="12370" y="5"/>
                      <a:pt x="12369" y="6"/>
                      <a:pt x="12368" y="6"/>
                    </a:cubicBezTo>
                    <a:lnTo>
                      <a:pt x="12368" y="6"/>
                    </a:lnTo>
                    <a:cubicBezTo>
                      <a:pt x="12367" y="6"/>
                      <a:pt x="12366" y="5"/>
                      <a:pt x="12366" y="4"/>
                    </a:cubicBezTo>
                    <a:cubicBezTo>
                      <a:pt x="12366" y="3"/>
                      <a:pt x="12367" y="2"/>
                      <a:pt x="12368" y="2"/>
                    </a:cubicBezTo>
                    <a:close/>
                    <a:moveTo>
                      <a:pt x="12376" y="2"/>
                    </a:moveTo>
                    <a:lnTo>
                      <a:pt x="12376" y="2"/>
                    </a:lnTo>
                    <a:cubicBezTo>
                      <a:pt x="12377" y="2"/>
                      <a:pt x="12378" y="3"/>
                      <a:pt x="12378" y="4"/>
                    </a:cubicBezTo>
                    <a:cubicBezTo>
                      <a:pt x="12378" y="5"/>
                      <a:pt x="12377" y="6"/>
                      <a:pt x="12376" y="6"/>
                    </a:cubicBezTo>
                    <a:lnTo>
                      <a:pt x="12376" y="6"/>
                    </a:lnTo>
                    <a:cubicBezTo>
                      <a:pt x="12375" y="6"/>
                      <a:pt x="12374" y="5"/>
                      <a:pt x="12374" y="4"/>
                    </a:cubicBezTo>
                    <a:cubicBezTo>
                      <a:pt x="12374" y="3"/>
                      <a:pt x="12375" y="2"/>
                      <a:pt x="12376" y="2"/>
                    </a:cubicBezTo>
                    <a:close/>
                    <a:moveTo>
                      <a:pt x="12384" y="2"/>
                    </a:moveTo>
                    <a:lnTo>
                      <a:pt x="12384" y="2"/>
                    </a:lnTo>
                    <a:cubicBezTo>
                      <a:pt x="12385" y="2"/>
                      <a:pt x="12386" y="3"/>
                      <a:pt x="12386" y="4"/>
                    </a:cubicBezTo>
                    <a:cubicBezTo>
                      <a:pt x="12386" y="5"/>
                      <a:pt x="12385" y="6"/>
                      <a:pt x="12384" y="6"/>
                    </a:cubicBezTo>
                    <a:lnTo>
                      <a:pt x="12384" y="6"/>
                    </a:lnTo>
                    <a:cubicBezTo>
                      <a:pt x="12383" y="6"/>
                      <a:pt x="12382" y="5"/>
                      <a:pt x="12382" y="4"/>
                    </a:cubicBezTo>
                    <a:cubicBezTo>
                      <a:pt x="12382" y="3"/>
                      <a:pt x="12383" y="2"/>
                      <a:pt x="12384" y="2"/>
                    </a:cubicBezTo>
                    <a:close/>
                    <a:moveTo>
                      <a:pt x="12392" y="2"/>
                    </a:moveTo>
                    <a:lnTo>
                      <a:pt x="12392" y="2"/>
                    </a:lnTo>
                    <a:cubicBezTo>
                      <a:pt x="12393" y="2"/>
                      <a:pt x="12394" y="3"/>
                      <a:pt x="12394" y="4"/>
                    </a:cubicBezTo>
                    <a:cubicBezTo>
                      <a:pt x="12394" y="5"/>
                      <a:pt x="12393" y="6"/>
                      <a:pt x="12392" y="6"/>
                    </a:cubicBezTo>
                    <a:lnTo>
                      <a:pt x="12392" y="6"/>
                    </a:lnTo>
                    <a:cubicBezTo>
                      <a:pt x="12391" y="6"/>
                      <a:pt x="12390" y="5"/>
                      <a:pt x="12390" y="4"/>
                    </a:cubicBezTo>
                    <a:cubicBezTo>
                      <a:pt x="12390" y="3"/>
                      <a:pt x="12391" y="2"/>
                      <a:pt x="12392" y="2"/>
                    </a:cubicBezTo>
                    <a:close/>
                    <a:moveTo>
                      <a:pt x="12400" y="2"/>
                    </a:moveTo>
                    <a:lnTo>
                      <a:pt x="12400" y="2"/>
                    </a:lnTo>
                    <a:cubicBezTo>
                      <a:pt x="12401" y="2"/>
                      <a:pt x="12402" y="3"/>
                      <a:pt x="12402" y="4"/>
                    </a:cubicBezTo>
                    <a:cubicBezTo>
                      <a:pt x="12402" y="5"/>
                      <a:pt x="12401" y="6"/>
                      <a:pt x="12400" y="6"/>
                    </a:cubicBezTo>
                    <a:lnTo>
                      <a:pt x="12400" y="6"/>
                    </a:lnTo>
                    <a:cubicBezTo>
                      <a:pt x="12399" y="6"/>
                      <a:pt x="12398" y="5"/>
                      <a:pt x="12398" y="4"/>
                    </a:cubicBezTo>
                    <a:cubicBezTo>
                      <a:pt x="12398" y="3"/>
                      <a:pt x="12399" y="2"/>
                      <a:pt x="12400" y="2"/>
                    </a:cubicBezTo>
                    <a:close/>
                    <a:moveTo>
                      <a:pt x="12408" y="2"/>
                    </a:moveTo>
                    <a:lnTo>
                      <a:pt x="12408" y="2"/>
                    </a:lnTo>
                    <a:cubicBezTo>
                      <a:pt x="12409" y="2"/>
                      <a:pt x="12410" y="3"/>
                      <a:pt x="12410" y="4"/>
                    </a:cubicBezTo>
                    <a:cubicBezTo>
                      <a:pt x="12410" y="5"/>
                      <a:pt x="12409" y="6"/>
                      <a:pt x="12408" y="6"/>
                    </a:cubicBezTo>
                    <a:lnTo>
                      <a:pt x="12408" y="6"/>
                    </a:lnTo>
                    <a:cubicBezTo>
                      <a:pt x="12407" y="6"/>
                      <a:pt x="12406" y="5"/>
                      <a:pt x="12406" y="4"/>
                    </a:cubicBezTo>
                    <a:cubicBezTo>
                      <a:pt x="12406" y="3"/>
                      <a:pt x="12407" y="2"/>
                      <a:pt x="12408" y="2"/>
                    </a:cubicBezTo>
                    <a:close/>
                    <a:moveTo>
                      <a:pt x="12416" y="2"/>
                    </a:moveTo>
                    <a:lnTo>
                      <a:pt x="12416" y="2"/>
                    </a:lnTo>
                    <a:cubicBezTo>
                      <a:pt x="12417" y="2"/>
                      <a:pt x="12418" y="3"/>
                      <a:pt x="12418" y="4"/>
                    </a:cubicBezTo>
                    <a:cubicBezTo>
                      <a:pt x="12418" y="5"/>
                      <a:pt x="12417" y="6"/>
                      <a:pt x="12416" y="6"/>
                    </a:cubicBezTo>
                    <a:lnTo>
                      <a:pt x="12416" y="6"/>
                    </a:lnTo>
                    <a:cubicBezTo>
                      <a:pt x="12415" y="6"/>
                      <a:pt x="12414" y="5"/>
                      <a:pt x="12414" y="4"/>
                    </a:cubicBezTo>
                    <a:cubicBezTo>
                      <a:pt x="12414" y="3"/>
                      <a:pt x="12415" y="2"/>
                      <a:pt x="12416" y="2"/>
                    </a:cubicBezTo>
                    <a:close/>
                    <a:moveTo>
                      <a:pt x="12424" y="2"/>
                    </a:moveTo>
                    <a:lnTo>
                      <a:pt x="12424" y="2"/>
                    </a:lnTo>
                    <a:cubicBezTo>
                      <a:pt x="12425" y="2"/>
                      <a:pt x="12426" y="3"/>
                      <a:pt x="12426" y="4"/>
                    </a:cubicBezTo>
                    <a:cubicBezTo>
                      <a:pt x="12426" y="5"/>
                      <a:pt x="12425" y="6"/>
                      <a:pt x="12424" y="6"/>
                    </a:cubicBezTo>
                    <a:lnTo>
                      <a:pt x="12424" y="6"/>
                    </a:lnTo>
                    <a:cubicBezTo>
                      <a:pt x="12423" y="6"/>
                      <a:pt x="12422" y="5"/>
                      <a:pt x="12422" y="4"/>
                    </a:cubicBezTo>
                    <a:cubicBezTo>
                      <a:pt x="12422" y="3"/>
                      <a:pt x="12423" y="2"/>
                      <a:pt x="12424" y="2"/>
                    </a:cubicBezTo>
                    <a:close/>
                    <a:moveTo>
                      <a:pt x="12432" y="2"/>
                    </a:moveTo>
                    <a:lnTo>
                      <a:pt x="12432" y="2"/>
                    </a:lnTo>
                    <a:cubicBezTo>
                      <a:pt x="12434" y="2"/>
                      <a:pt x="12434" y="3"/>
                      <a:pt x="12434" y="4"/>
                    </a:cubicBezTo>
                    <a:cubicBezTo>
                      <a:pt x="12434" y="5"/>
                      <a:pt x="12434" y="6"/>
                      <a:pt x="12432" y="6"/>
                    </a:cubicBezTo>
                    <a:lnTo>
                      <a:pt x="12432" y="6"/>
                    </a:lnTo>
                    <a:cubicBezTo>
                      <a:pt x="12431" y="6"/>
                      <a:pt x="12430" y="5"/>
                      <a:pt x="12430" y="4"/>
                    </a:cubicBezTo>
                    <a:cubicBezTo>
                      <a:pt x="12430" y="3"/>
                      <a:pt x="12431" y="2"/>
                      <a:pt x="12432" y="2"/>
                    </a:cubicBezTo>
                    <a:close/>
                    <a:moveTo>
                      <a:pt x="12440" y="2"/>
                    </a:moveTo>
                    <a:lnTo>
                      <a:pt x="12440" y="2"/>
                    </a:lnTo>
                    <a:cubicBezTo>
                      <a:pt x="12442" y="2"/>
                      <a:pt x="12442" y="3"/>
                      <a:pt x="12442" y="4"/>
                    </a:cubicBezTo>
                    <a:cubicBezTo>
                      <a:pt x="12442" y="5"/>
                      <a:pt x="12442" y="6"/>
                      <a:pt x="12440" y="6"/>
                    </a:cubicBezTo>
                    <a:lnTo>
                      <a:pt x="12440" y="6"/>
                    </a:lnTo>
                    <a:cubicBezTo>
                      <a:pt x="12439" y="6"/>
                      <a:pt x="12438" y="5"/>
                      <a:pt x="12438" y="4"/>
                    </a:cubicBezTo>
                    <a:cubicBezTo>
                      <a:pt x="12438" y="3"/>
                      <a:pt x="12439" y="2"/>
                      <a:pt x="12440" y="2"/>
                    </a:cubicBezTo>
                    <a:close/>
                    <a:moveTo>
                      <a:pt x="12448" y="2"/>
                    </a:moveTo>
                    <a:lnTo>
                      <a:pt x="12448" y="2"/>
                    </a:lnTo>
                    <a:cubicBezTo>
                      <a:pt x="12450" y="2"/>
                      <a:pt x="12450" y="3"/>
                      <a:pt x="12450" y="4"/>
                    </a:cubicBezTo>
                    <a:cubicBezTo>
                      <a:pt x="12450" y="5"/>
                      <a:pt x="12450" y="6"/>
                      <a:pt x="12448" y="6"/>
                    </a:cubicBezTo>
                    <a:lnTo>
                      <a:pt x="12448" y="6"/>
                    </a:lnTo>
                    <a:cubicBezTo>
                      <a:pt x="12447" y="6"/>
                      <a:pt x="12446" y="5"/>
                      <a:pt x="12446" y="4"/>
                    </a:cubicBezTo>
                    <a:cubicBezTo>
                      <a:pt x="12446" y="3"/>
                      <a:pt x="12447" y="2"/>
                      <a:pt x="12448" y="2"/>
                    </a:cubicBezTo>
                    <a:close/>
                    <a:moveTo>
                      <a:pt x="12456" y="2"/>
                    </a:moveTo>
                    <a:lnTo>
                      <a:pt x="12456" y="2"/>
                    </a:lnTo>
                    <a:cubicBezTo>
                      <a:pt x="12458" y="2"/>
                      <a:pt x="12458" y="3"/>
                      <a:pt x="12458" y="4"/>
                    </a:cubicBezTo>
                    <a:cubicBezTo>
                      <a:pt x="12458" y="5"/>
                      <a:pt x="12458" y="6"/>
                      <a:pt x="12456" y="6"/>
                    </a:cubicBezTo>
                    <a:lnTo>
                      <a:pt x="12456" y="6"/>
                    </a:lnTo>
                    <a:cubicBezTo>
                      <a:pt x="12455" y="6"/>
                      <a:pt x="12454" y="5"/>
                      <a:pt x="12454" y="4"/>
                    </a:cubicBezTo>
                    <a:cubicBezTo>
                      <a:pt x="12454" y="3"/>
                      <a:pt x="12455" y="2"/>
                      <a:pt x="12456" y="2"/>
                    </a:cubicBezTo>
                    <a:close/>
                    <a:moveTo>
                      <a:pt x="12464" y="2"/>
                    </a:moveTo>
                    <a:lnTo>
                      <a:pt x="12464" y="2"/>
                    </a:lnTo>
                    <a:cubicBezTo>
                      <a:pt x="12466" y="2"/>
                      <a:pt x="12466" y="3"/>
                      <a:pt x="12466" y="4"/>
                    </a:cubicBezTo>
                    <a:cubicBezTo>
                      <a:pt x="12466" y="5"/>
                      <a:pt x="12466" y="6"/>
                      <a:pt x="12464" y="6"/>
                    </a:cubicBezTo>
                    <a:lnTo>
                      <a:pt x="12464" y="6"/>
                    </a:lnTo>
                    <a:cubicBezTo>
                      <a:pt x="12463" y="6"/>
                      <a:pt x="12462" y="5"/>
                      <a:pt x="12462" y="4"/>
                    </a:cubicBezTo>
                    <a:cubicBezTo>
                      <a:pt x="12462" y="3"/>
                      <a:pt x="12463" y="2"/>
                      <a:pt x="12464" y="2"/>
                    </a:cubicBezTo>
                    <a:close/>
                    <a:moveTo>
                      <a:pt x="12472" y="2"/>
                    </a:moveTo>
                    <a:lnTo>
                      <a:pt x="12472" y="2"/>
                    </a:lnTo>
                    <a:cubicBezTo>
                      <a:pt x="12474" y="2"/>
                      <a:pt x="12474" y="3"/>
                      <a:pt x="12474" y="4"/>
                    </a:cubicBezTo>
                    <a:cubicBezTo>
                      <a:pt x="12474" y="5"/>
                      <a:pt x="12474" y="6"/>
                      <a:pt x="12472" y="6"/>
                    </a:cubicBezTo>
                    <a:lnTo>
                      <a:pt x="12472" y="6"/>
                    </a:lnTo>
                    <a:cubicBezTo>
                      <a:pt x="12471" y="6"/>
                      <a:pt x="12470" y="5"/>
                      <a:pt x="12470" y="4"/>
                    </a:cubicBezTo>
                    <a:cubicBezTo>
                      <a:pt x="12470" y="3"/>
                      <a:pt x="12471" y="2"/>
                      <a:pt x="12472" y="2"/>
                    </a:cubicBezTo>
                    <a:close/>
                    <a:moveTo>
                      <a:pt x="12480" y="2"/>
                    </a:moveTo>
                    <a:lnTo>
                      <a:pt x="12480" y="2"/>
                    </a:lnTo>
                    <a:cubicBezTo>
                      <a:pt x="12482" y="2"/>
                      <a:pt x="12482" y="3"/>
                      <a:pt x="12482" y="4"/>
                    </a:cubicBezTo>
                    <a:cubicBezTo>
                      <a:pt x="12482" y="5"/>
                      <a:pt x="12482" y="6"/>
                      <a:pt x="12480" y="6"/>
                    </a:cubicBezTo>
                    <a:lnTo>
                      <a:pt x="12480" y="6"/>
                    </a:lnTo>
                    <a:cubicBezTo>
                      <a:pt x="12479" y="6"/>
                      <a:pt x="12478" y="5"/>
                      <a:pt x="12478" y="4"/>
                    </a:cubicBezTo>
                    <a:cubicBezTo>
                      <a:pt x="12478" y="3"/>
                      <a:pt x="12479" y="2"/>
                      <a:pt x="12480" y="2"/>
                    </a:cubicBezTo>
                    <a:close/>
                    <a:moveTo>
                      <a:pt x="12488" y="2"/>
                    </a:moveTo>
                    <a:lnTo>
                      <a:pt x="12488" y="2"/>
                    </a:lnTo>
                    <a:cubicBezTo>
                      <a:pt x="12490" y="2"/>
                      <a:pt x="12490" y="3"/>
                      <a:pt x="12490" y="4"/>
                    </a:cubicBezTo>
                    <a:cubicBezTo>
                      <a:pt x="12490" y="5"/>
                      <a:pt x="12490" y="6"/>
                      <a:pt x="12488" y="6"/>
                    </a:cubicBezTo>
                    <a:lnTo>
                      <a:pt x="12488" y="6"/>
                    </a:lnTo>
                    <a:cubicBezTo>
                      <a:pt x="12487" y="6"/>
                      <a:pt x="12486" y="5"/>
                      <a:pt x="12486" y="4"/>
                    </a:cubicBezTo>
                    <a:cubicBezTo>
                      <a:pt x="12486" y="3"/>
                      <a:pt x="12487" y="2"/>
                      <a:pt x="12488" y="2"/>
                    </a:cubicBezTo>
                    <a:close/>
                    <a:moveTo>
                      <a:pt x="12496" y="2"/>
                    </a:moveTo>
                    <a:lnTo>
                      <a:pt x="12496" y="2"/>
                    </a:lnTo>
                    <a:cubicBezTo>
                      <a:pt x="12498" y="2"/>
                      <a:pt x="12498" y="3"/>
                      <a:pt x="12498" y="4"/>
                    </a:cubicBezTo>
                    <a:cubicBezTo>
                      <a:pt x="12498" y="5"/>
                      <a:pt x="12498" y="6"/>
                      <a:pt x="12496" y="6"/>
                    </a:cubicBezTo>
                    <a:lnTo>
                      <a:pt x="12496" y="6"/>
                    </a:lnTo>
                    <a:cubicBezTo>
                      <a:pt x="12495" y="6"/>
                      <a:pt x="12494" y="5"/>
                      <a:pt x="12494" y="4"/>
                    </a:cubicBezTo>
                    <a:cubicBezTo>
                      <a:pt x="12494" y="3"/>
                      <a:pt x="12495" y="2"/>
                      <a:pt x="12496" y="2"/>
                    </a:cubicBezTo>
                    <a:close/>
                    <a:moveTo>
                      <a:pt x="12504" y="2"/>
                    </a:moveTo>
                    <a:lnTo>
                      <a:pt x="12504" y="2"/>
                    </a:lnTo>
                    <a:cubicBezTo>
                      <a:pt x="12506" y="2"/>
                      <a:pt x="12506" y="3"/>
                      <a:pt x="12506" y="4"/>
                    </a:cubicBezTo>
                    <a:cubicBezTo>
                      <a:pt x="12506" y="5"/>
                      <a:pt x="12506" y="6"/>
                      <a:pt x="12504" y="6"/>
                    </a:cubicBezTo>
                    <a:lnTo>
                      <a:pt x="12504" y="6"/>
                    </a:lnTo>
                    <a:cubicBezTo>
                      <a:pt x="12503" y="6"/>
                      <a:pt x="12502" y="5"/>
                      <a:pt x="12502" y="4"/>
                    </a:cubicBezTo>
                    <a:cubicBezTo>
                      <a:pt x="12502" y="3"/>
                      <a:pt x="12503" y="2"/>
                      <a:pt x="12504" y="2"/>
                    </a:cubicBezTo>
                    <a:close/>
                    <a:moveTo>
                      <a:pt x="12512" y="2"/>
                    </a:moveTo>
                    <a:lnTo>
                      <a:pt x="12512" y="2"/>
                    </a:lnTo>
                    <a:cubicBezTo>
                      <a:pt x="12514" y="2"/>
                      <a:pt x="12514" y="3"/>
                      <a:pt x="12514" y="4"/>
                    </a:cubicBezTo>
                    <a:cubicBezTo>
                      <a:pt x="12514" y="5"/>
                      <a:pt x="12514" y="6"/>
                      <a:pt x="12512" y="6"/>
                    </a:cubicBezTo>
                    <a:lnTo>
                      <a:pt x="12512" y="6"/>
                    </a:lnTo>
                    <a:cubicBezTo>
                      <a:pt x="12511" y="6"/>
                      <a:pt x="12510" y="5"/>
                      <a:pt x="12510" y="4"/>
                    </a:cubicBezTo>
                    <a:cubicBezTo>
                      <a:pt x="12510" y="3"/>
                      <a:pt x="12511" y="2"/>
                      <a:pt x="12512" y="2"/>
                    </a:cubicBezTo>
                    <a:close/>
                    <a:moveTo>
                      <a:pt x="12520" y="2"/>
                    </a:moveTo>
                    <a:lnTo>
                      <a:pt x="12520" y="2"/>
                    </a:lnTo>
                    <a:cubicBezTo>
                      <a:pt x="12522" y="2"/>
                      <a:pt x="12522" y="3"/>
                      <a:pt x="12522" y="4"/>
                    </a:cubicBezTo>
                    <a:cubicBezTo>
                      <a:pt x="12522" y="5"/>
                      <a:pt x="12522" y="6"/>
                      <a:pt x="12520" y="6"/>
                    </a:cubicBezTo>
                    <a:lnTo>
                      <a:pt x="12520" y="6"/>
                    </a:lnTo>
                    <a:cubicBezTo>
                      <a:pt x="12519" y="6"/>
                      <a:pt x="12518" y="5"/>
                      <a:pt x="12518" y="4"/>
                    </a:cubicBezTo>
                    <a:cubicBezTo>
                      <a:pt x="12518" y="3"/>
                      <a:pt x="12519" y="2"/>
                      <a:pt x="12520" y="2"/>
                    </a:cubicBezTo>
                    <a:close/>
                    <a:moveTo>
                      <a:pt x="12528" y="2"/>
                    </a:moveTo>
                    <a:lnTo>
                      <a:pt x="12528" y="2"/>
                    </a:lnTo>
                    <a:cubicBezTo>
                      <a:pt x="12530" y="2"/>
                      <a:pt x="12530" y="3"/>
                      <a:pt x="12530" y="4"/>
                    </a:cubicBezTo>
                    <a:cubicBezTo>
                      <a:pt x="12530" y="5"/>
                      <a:pt x="12530" y="6"/>
                      <a:pt x="12528" y="6"/>
                    </a:cubicBezTo>
                    <a:lnTo>
                      <a:pt x="12528" y="6"/>
                    </a:lnTo>
                    <a:cubicBezTo>
                      <a:pt x="12527" y="6"/>
                      <a:pt x="12526" y="5"/>
                      <a:pt x="12526" y="4"/>
                    </a:cubicBezTo>
                    <a:cubicBezTo>
                      <a:pt x="12526" y="3"/>
                      <a:pt x="12527" y="2"/>
                      <a:pt x="12528" y="2"/>
                    </a:cubicBezTo>
                    <a:close/>
                    <a:moveTo>
                      <a:pt x="12536" y="2"/>
                    </a:moveTo>
                    <a:lnTo>
                      <a:pt x="12536" y="2"/>
                    </a:lnTo>
                    <a:cubicBezTo>
                      <a:pt x="12538" y="2"/>
                      <a:pt x="12538" y="3"/>
                      <a:pt x="12538" y="4"/>
                    </a:cubicBezTo>
                    <a:cubicBezTo>
                      <a:pt x="12538" y="5"/>
                      <a:pt x="12538" y="6"/>
                      <a:pt x="12536" y="6"/>
                    </a:cubicBezTo>
                    <a:lnTo>
                      <a:pt x="12536" y="6"/>
                    </a:lnTo>
                    <a:cubicBezTo>
                      <a:pt x="12535" y="6"/>
                      <a:pt x="12534" y="5"/>
                      <a:pt x="12534" y="4"/>
                    </a:cubicBezTo>
                    <a:cubicBezTo>
                      <a:pt x="12534" y="3"/>
                      <a:pt x="12535" y="2"/>
                      <a:pt x="12536" y="2"/>
                    </a:cubicBezTo>
                    <a:close/>
                    <a:moveTo>
                      <a:pt x="12544" y="2"/>
                    </a:moveTo>
                    <a:lnTo>
                      <a:pt x="12544" y="2"/>
                    </a:lnTo>
                    <a:cubicBezTo>
                      <a:pt x="12546" y="2"/>
                      <a:pt x="12546" y="3"/>
                      <a:pt x="12546" y="4"/>
                    </a:cubicBezTo>
                    <a:cubicBezTo>
                      <a:pt x="12546" y="5"/>
                      <a:pt x="12546" y="6"/>
                      <a:pt x="12544" y="6"/>
                    </a:cubicBezTo>
                    <a:lnTo>
                      <a:pt x="12544" y="6"/>
                    </a:lnTo>
                    <a:cubicBezTo>
                      <a:pt x="12543" y="6"/>
                      <a:pt x="12542" y="5"/>
                      <a:pt x="12542" y="4"/>
                    </a:cubicBezTo>
                    <a:cubicBezTo>
                      <a:pt x="12542" y="3"/>
                      <a:pt x="12543" y="2"/>
                      <a:pt x="12544" y="2"/>
                    </a:cubicBezTo>
                    <a:close/>
                    <a:moveTo>
                      <a:pt x="12552" y="2"/>
                    </a:moveTo>
                    <a:lnTo>
                      <a:pt x="12552" y="2"/>
                    </a:lnTo>
                    <a:cubicBezTo>
                      <a:pt x="12554" y="2"/>
                      <a:pt x="12554" y="3"/>
                      <a:pt x="12554" y="4"/>
                    </a:cubicBezTo>
                    <a:cubicBezTo>
                      <a:pt x="12554" y="5"/>
                      <a:pt x="12554" y="6"/>
                      <a:pt x="12552" y="6"/>
                    </a:cubicBezTo>
                    <a:lnTo>
                      <a:pt x="12552" y="6"/>
                    </a:lnTo>
                    <a:cubicBezTo>
                      <a:pt x="12551" y="6"/>
                      <a:pt x="12550" y="5"/>
                      <a:pt x="12550" y="4"/>
                    </a:cubicBezTo>
                    <a:cubicBezTo>
                      <a:pt x="12550" y="3"/>
                      <a:pt x="12551" y="2"/>
                      <a:pt x="12552" y="2"/>
                    </a:cubicBezTo>
                    <a:close/>
                    <a:moveTo>
                      <a:pt x="12560" y="2"/>
                    </a:moveTo>
                    <a:lnTo>
                      <a:pt x="12560" y="2"/>
                    </a:lnTo>
                    <a:cubicBezTo>
                      <a:pt x="12562" y="2"/>
                      <a:pt x="12562" y="3"/>
                      <a:pt x="12562" y="4"/>
                    </a:cubicBezTo>
                    <a:cubicBezTo>
                      <a:pt x="12562" y="5"/>
                      <a:pt x="12562" y="6"/>
                      <a:pt x="12560" y="6"/>
                    </a:cubicBezTo>
                    <a:lnTo>
                      <a:pt x="12560" y="6"/>
                    </a:lnTo>
                    <a:cubicBezTo>
                      <a:pt x="12559" y="6"/>
                      <a:pt x="12558" y="5"/>
                      <a:pt x="12558" y="4"/>
                    </a:cubicBezTo>
                    <a:cubicBezTo>
                      <a:pt x="12558" y="3"/>
                      <a:pt x="12559" y="2"/>
                      <a:pt x="12560" y="2"/>
                    </a:cubicBezTo>
                    <a:close/>
                    <a:moveTo>
                      <a:pt x="12568" y="2"/>
                    </a:moveTo>
                    <a:lnTo>
                      <a:pt x="12568" y="2"/>
                    </a:lnTo>
                    <a:cubicBezTo>
                      <a:pt x="12570" y="2"/>
                      <a:pt x="12570" y="3"/>
                      <a:pt x="12570" y="4"/>
                    </a:cubicBezTo>
                    <a:cubicBezTo>
                      <a:pt x="12570" y="5"/>
                      <a:pt x="12570" y="6"/>
                      <a:pt x="12568" y="6"/>
                    </a:cubicBezTo>
                    <a:lnTo>
                      <a:pt x="12568" y="6"/>
                    </a:lnTo>
                    <a:cubicBezTo>
                      <a:pt x="12567" y="6"/>
                      <a:pt x="12566" y="5"/>
                      <a:pt x="12566" y="4"/>
                    </a:cubicBezTo>
                    <a:cubicBezTo>
                      <a:pt x="12566" y="3"/>
                      <a:pt x="12567" y="2"/>
                      <a:pt x="12568" y="2"/>
                    </a:cubicBezTo>
                    <a:close/>
                    <a:moveTo>
                      <a:pt x="12576" y="2"/>
                    </a:moveTo>
                    <a:lnTo>
                      <a:pt x="12576" y="2"/>
                    </a:lnTo>
                    <a:cubicBezTo>
                      <a:pt x="12578" y="2"/>
                      <a:pt x="12578" y="3"/>
                      <a:pt x="12578" y="4"/>
                    </a:cubicBezTo>
                    <a:cubicBezTo>
                      <a:pt x="12578" y="5"/>
                      <a:pt x="12578" y="6"/>
                      <a:pt x="12576" y="6"/>
                    </a:cubicBezTo>
                    <a:lnTo>
                      <a:pt x="12576" y="6"/>
                    </a:lnTo>
                    <a:cubicBezTo>
                      <a:pt x="12575" y="6"/>
                      <a:pt x="12574" y="5"/>
                      <a:pt x="12574" y="4"/>
                    </a:cubicBezTo>
                    <a:cubicBezTo>
                      <a:pt x="12574" y="3"/>
                      <a:pt x="12575" y="2"/>
                      <a:pt x="12576" y="2"/>
                    </a:cubicBezTo>
                    <a:close/>
                    <a:moveTo>
                      <a:pt x="12584" y="2"/>
                    </a:moveTo>
                    <a:lnTo>
                      <a:pt x="12584" y="2"/>
                    </a:lnTo>
                    <a:cubicBezTo>
                      <a:pt x="12586" y="2"/>
                      <a:pt x="12586" y="3"/>
                      <a:pt x="12586" y="4"/>
                    </a:cubicBezTo>
                    <a:cubicBezTo>
                      <a:pt x="12586" y="5"/>
                      <a:pt x="12586" y="6"/>
                      <a:pt x="12584" y="6"/>
                    </a:cubicBezTo>
                    <a:lnTo>
                      <a:pt x="12584" y="6"/>
                    </a:lnTo>
                    <a:cubicBezTo>
                      <a:pt x="12583" y="6"/>
                      <a:pt x="12582" y="5"/>
                      <a:pt x="12582" y="4"/>
                    </a:cubicBezTo>
                    <a:cubicBezTo>
                      <a:pt x="12582" y="3"/>
                      <a:pt x="12583" y="2"/>
                      <a:pt x="12584" y="2"/>
                    </a:cubicBezTo>
                    <a:close/>
                    <a:moveTo>
                      <a:pt x="12592" y="2"/>
                    </a:moveTo>
                    <a:lnTo>
                      <a:pt x="12592" y="2"/>
                    </a:lnTo>
                    <a:cubicBezTo>
                      <a:pt x="12594" y="2"/>
                      <a:pt x="12594" y="3"/>
                      <a:pt x="12594" y="4"/>
                    </a:cubicBezTo>
                    <a:cubicBezTo>
                      <a:pt x="12594" y="5"/>
                      <a:pt x="12594" y="6"/>
                      <a:pt x="12592" y="6"/>
                    </a:cubicBezTo>
                    <a:lnTo>
                      <a:pt x="12592" y="6"/>
                    </a:lnTo>
                    <a:cubicBezTo>
                      <a:pt x="12591" y="6"/>
                      <a:pt x="12590" y="5"/>
                      <a:pt x="12590" y="4"/>
                    </a:cubicBezTo>
                    <a:cubicBezTo>
                      <a:pt x="12590" y="3"/>
                      <a:pt x="12591" y="2"/>
                      <a:pt x="12592" y="2"/>
                    </a:cubicBezTo>
                    <a:close/>
                    <a:moveTo>
                      <a:pt x="12600" y="2"/>
                    </a:moveTo>
                    <a:lnTo>
                      <a:pt x="12601" y="2"/>
                    </a:lnTo>
                    <a:cubicBezTo>
                      <a:pt x="12602" y="2"/>
                      <a:pt x="12603" y="3"/>
                      <a:pt x="12603" y="4"/>
                    </a:cubicBezTo>
                    <a:cubicBezTo>
                      <a:pt x="12603" y="5"/>
                      <a:pt x="12602" y="6"/>
                      <a:pt x="12601" y="6"/>
                    </a:cubicBezTo>
                    <a:lnTo>
                      <a:pt x="12600" y="6"/>
                    </a:lnTo>
                    <a:cubicBezTo>
                      <a:pt x="12599" y="6"/>
                      <a:pt x="12598" y="5"/>
                      <a:pt x="12598" y="4"/>
                    </a:cubicBezTo>
                    <a:cubicBezTo>
                      <a:pt x="12598" y="3"/>
                      <a:pt x="12599" y="2"/>
                      <a:pt x="12600" y="2"/>
                    </a:cubicBezTo>
                    <a:close/>
                    <a:moveTo>
                      <a:pt x="12609" y="2"/>
                    </a:moveTo>
                    <a:lnTo>
                      <a:pt x="12609" y="2"/>
                    </a:lnTo>
                    <a:cubicBezTo>
                      <a:pt x="12610" y="2"/>
                      <a:pt x="12611" y="3"/>
                      <a:pt x="12611" y="4"/>
                    </a:cubicBezTo>
                    <a:cubicBezTo>
                      <a:pt x="12611" y="5"/>
                      <a:pt x="12610" y="6"/>
                      <a:pt x="12609" y="6"/>
                    </a:cubicBezTo>
                    <a:lnTo>
                      <a:pt x="12609" y="6"/>
                    </a:lnTo>
                    <a:cubicBezTo>
                      <a:pt x="12607" y="6"/>
                      <a:pt x="12607" y="5"/>
                      <a:pt x="12607" y="4"/>
                    </a:cubicBezTo>
                    <a:cubicBezTo>
                      <a:pt x="12607" y="3"/>
                      <a:pt x="12607" y="2"/>
                      <a:pt x="12609" y="2"/>
                    </a:cubicBezTo>
                    <a:close/>
                    <a:moveTo>
                      <a:pt x="12617" y="2"/>
                    </a:moveTo>
                    <a:lnTo>
                      <a:pt x="12617" y="2"/>
                    </a:lnTo>
                    <a:cubicBezTo>
                      <a:pt x="12618" y="2"/>
                      <a:pt x="12619" y="3"/>
                      <a:pt x="12619" y="4"/>
                    </a:cubicBezTo>
                    <a:cubicBezTo>
                      <a:pt x="12619" y="5"/>
                      <a:pt x="12618" y="6"/>
                      <a:pt x="12617" y="6"/>
                    </a:cubicBezTo>
                    <a:lnTo>
                      <a:pt x="12617" y="6"/>
                    </a:lnTo>
                    <a:cubicBezTo>
                      <a:pt x="12615" y="6"/>
                      <a:pt x="12615" y="5"/>
                      <a:pt x="12615" y="4"/>
                    </a:cubicBezTo>
                    <a:cubicBezTo>
                      <a:pt x="12615" y="3"/>
                      <a:pt x="12615" y="2"/>
                      <a:pt x="12617" y="2"/>
                    </a:cubicBezTo>
                    <a:close/>
                    <a:moveTo>
                      <a:pt x="12625" y="2"/>
                    </a:moveTo>
                    <a:lnTo>
                      <a:pt x="12625" y="2"/>
                    </a:lnTo>
                    <a:cubicBezTo>
                      <a:pt x="12626" y="2"/>
                      <a:pt x="12627" y="3"/>
                      <a:pt x="12627" y="4"/>
                    </a:cubicBezTo>
                    <a:cubicBezTo>
                      <a:pt x="12627" y="5"/>
                      <a:pt x="12626" y="6"/>
                      <a:pt x="12625" y="6"/>
                    </a:cubicBezTo>
                    <a:lnTo>
                      <a:pt x="12625" y="6"/>
                    </a:lnTo>
                    <a:cubicBezTo>
                      <a:pt x="12623" y="6"/>
                      <a:pt x="12623" y="5"/>
                      <a:pt x="12623" y="4"/>
                    </a:cubicBezTo>
                    <a:cubicBezTo>
                      <a:pt x="12623" y="3"/>
                      <a:pt x="12623" y="2"/>
                      <a:pt x="12625" y="2"/>
                    </a:cubicBezTo>
                    <a:close/>
                    <a:moveTo>
                      <a:pt x="12633" y="2"/>
                    </a:moveTo>
                    <a:lnTo>
                      <a:pt x="12633" y="2"/>
                    </a:lnTo>
                    <a:cubicBezTo>
                      <a:pt x="12634" y="2"/>
                      <a:pt x="12635" y="3"/>
                      <a:pt x="12635" y="4"/>
                    </a:cubicBezTo>
                    <a:cubicBezTo>
                      <a:pt x="12635" y="5"/>
                      <a:pt x="12634" y="6"/>
                      <a:pt x="12633" y="6"/>
                    </a:cubicBezTo>
                    <a:lnTo>
                      <a:pt x="12633" y="6"/>
                    </a:lnTo>
                    <a:cubicBezTo>
                      <a:pt x="12631" y="6"/>
                      <a:pt x="12631" y="5"/>
                      <a:pt x="12631" y="4"/>
                    </a:cubicBezTo>
                    <a:cubicBezTo>
                      <a:pt x="12631" y="3"/>
                      <a:pt x="12631" y="2"/>
                      <a:pt x="12633" y="2"/>
                    </a:cubicBezTo>
                    <a:close/>
                    <a:moveTo>
                      <a:pt x="12641" y="2"/>
                    </a:moveTo>
                    <a:lnTo>
                      <a:pt x="12641" y="2"/>
                    </a:lnTo>
                    <a:cubicBezTo>
                      <a:pt x="12642" y="2"/>
                      <a:pt x="12643" y="3"/>
                      <a:pt x="12643" y="4"/>
                    </a:cubicBezTo>
                    <a:cubicBezTo>
                      <a:pt x="12643" y="5"/>
                      <a:pt x="12642" y="6"/>
                      <a:pt x="12641" y="6"/>
                    </a:cubicBezTo>
                    <a:lnTo>
                      <a:pt x="12641" y="6"/>
                    </a:lnTo>
                    <a:cubicBezTo>
                      <a:pt x="12639" y="6"/>
                      <a:pt x="12639" y="5"/>
                      <a:pt x="12639" y="4"/>
                    </a:cubicBezTo>
                    <a:cubicBezTo>
                      <a:pt x="12639" y="3"/>
                      <a:pt x="12639" y="2"/>
                      <a:pt x="12641" y="2"/>
                    </a:cubicBezTo>
                    <a:close/>
                    <a:moveTo>
                      <a:pt x="12649" y="2"/>
                    </a:moveTo>
                    <a:lnTo>
                      <a:pt x="12649" y="2"/>
                    </a:lnTo>
                    <a:cubicBezTo>
                      <a:pt x="12650" y="2"/>
                      <a:pt x="12651" y="3"/>
                      <a:pt x="12651" y="4"/>
                    </a:cubicBezTo>
                    <a:cubicBezTo>
                      <a:pt x="12651" y="5"/>
                      <a:pt x="12650" y="6"/>
                      <a:pt x="12649" y="6"/>
                    </a:cubicBezTo>
                    <a:lnTo>
                      <a:pt x="12649" y="6"/>
                    </a:lnTo>
                    <a:cubicBezTo>
                      <a:pt x="12647" y="6"/>
                      <a:pt x="12647" y="5"/>
                      <a:pt x="12647" y="4"/>
                    </a:cubicBezTo>
                    <a:cubicBezTo>
                      <a:pt x="12647" y="3"/>
                      <a:pt x="12647" y="2"/>
                      <a:pt x="12649" y="2"/>
                    </a:cubicBezTo>
                    <a:close/>
                    <a:moveTo>
                      <a:pt x="12657" y="2"/>
                    </a:moveTo>
                    <a:lnTo>
                      <a:pt x="12657" y="2"/>
                    </a:lnTo>
                    <a:cubicBezTo>
                      <a:pt x="12658" y="2"/>
                      <a:pt x="12659" y="3"/>
                      <a:pt x="12659" y="4"/>
                    </a:cubicBezTo>
                    <a:cubicBezTo>
                      <a:pt x="12659" y="5"/>
                      <a:pt x="12658" y="6"/>
                      <a:pt x="12657" y="6"/>
                    </a:cubicBezTo>
                    <a:lnTo>
                      <a:pt x="12657" y="6"/>
                    </a:lnTo>
                    <a:cubicBezTo>
                      <a:pt x="12655" y="6"/>
                      <a:pt x="12655" y="5"/>
                      <a:pt x="12655" y="4"/>
                    </a:cubicBezTo>
                    <a:cubicBezTo>
                      <a:pt x="12655" y="3"/>
                      <a:pt x="12655" y="2"/>
                      <a:pt x="12657" y="2"/>
                    </a:cubicBezTo>
                    <a:close/>
                    <a:moveTo>
                      <a:pt x="12665" y="2"/>
                    </a:moveTo>
                    <a:lnTo>
                      <a:pt x="12665" y="2"/>
                    </a:lnTo>
                    <a:cubicBezTo>
                      <a:pt x="12666" y="2"/>
                      <a:pt x="12667" y="3"/>
                      <a:pt x="12667" y="4"/>
                    </a:cubicBezTo>
                    <a:cubicBezTo>
                      <a:pt x="12667" y="5"/>
                      <a:pt x="12666" y="6"/>
                      <a:pt x="12665" y="6"/>
                    </a:cubicBezTo>
                    <a:lnTo>
                      <a:pt x="12665" y="6"/>
                    </a:lnTo>
                    <a:cubicBezTo>
                      <a:pt x="12663" y="6"/>
                      <a:pt x="12663" y="5"/>
                      <a:pt x="12663" y="4"/>
                    </a:cubicBezTo>
                    <a:cubicBezTo>
                      <a:pt x="12663" y="3"/>
                      <a:pt x="12663" y="2"/>
                      <a:pt x="12665" y="2"/>
                    </a:cubicBezTo>
                    <a:close/>
                    <a:moveTo>
                      <a:pt x="12673" y="2"/>
                    </a:moveTo>
                    <a:lnTo>
                      <a:pt x="12673" y="2"/>
                    </a:lnTo>
                    <a:cubicBezTo>
                      <a:pt x="12674" y="2"/>
                      <a:pt x="12675" y="3"/>
                      <a:pt x="12675" y="4"/>
                    </a:cubicBezTo>
                    <a:cubicBezTo>
                      <a:pt x="12675" y="5"/>
                      <a:pt x="12674" y="6"/>
                      <a:pt x="12673" y="6"/>
                    </a:cubicBezTo>
                    <a:lnTo>
                      <a:pt x="12673" y="6"/>
                    </a:lnTo>
                    <a:cubicBezTo>
                      <a:pt x="12671" y="6"/>
                      <a:pt x="12671" y="5"/>
                      <a:pt x="12671" y="4"/>
                    </a:cubicBezTo>
                    <a:cubicBezTo>
                      <a:pt x="12671" y="3"/>
                      <a:pt x="12671" y="2"/>
                      <a:pt x="12673" y="2"/>
                    </a:cubicBezTo>
                    <a:close/>
                    <a:moveTo>
                      <a:pt x="12681" y="2"/>
                    </a:moveTo>
                    <a:lnTo>
                      <a:pt x="12681" y="2"/>
                    </a:lnTo>
                    <a:cubicBezTo>
                      <a:pt x="12682" y="2"/>
                      <a:pt x="12683" y="3"/>
                      <a:pt x="12683" y="4"/>
                    </a:cubicBezTo>
                    <a:cubicBezTo>
                      <a:pt x="12683" y="5"/>
                      <a:pt x="12682" y="6"/>
                      <a:pt x="12681" y="6"/>
                    </a:cubicBezTo>
                    <a:lnTo>
                      <a:pt x="12681" y="6"/>
                    </a:lnTo>
                    <a:cubicBezTo>
                      <a:pt x="12679" y="6"/>
                      <a:pt x="12679" y="5"/>
                      <a:pt x="12679" y="4"/>
                    </a:cubicBezTo>
                    <a:cubicBezTo>
                      <a:pt x="12679" y="3"/>
                      <a:pt x="12679" y="2"/>
                      <a:pt x="12681" y="2"/>
                    </a:cubicBezTo>
                    <a:close/>
                    <a:moveTo>
                      <a:pt x="12689" y="2"/>
                    </a:moveTo>
                    <a:lnTo>
                      <a:pt x="12689" y="2"/>
                    </a:lnTo>
                    <a:cubicBezTo>
                      <a:pt x="12690" y="2"/>
                      <a:pt x="12691" y="3"/>
                      <a:pt x="12691" y="4"/>
                    </a:cubicBezTo>
                    <a:cubicBezTo>
                      <a:pt x="12691" y="5"/>
                      <a:pt x="12690" y="6"/>
                      <a:pt x="12689" y="6"/>
                    </a:cubicBezTo>
                    <a:lnTo>
                      <a:pt x="12689" y="6"/>
                    </a:lnTo>
                    <a:cubicBezTo>
                      <a:pt x="12687" y="6"/>
                      <a:pt x="12687" y="5"/>
                      <a:pt x="12687" y="4"/>
                    </a:cubicBezTo>
                    <a:cubicBezTo>
                      <a:pt x="12687" y="3"/>
                      <a:pt x="12687" y="2"/>
                      <a:pt x="12689" y="2"/>
                    </a:cubicBezTo>
                    <a:close/>
                    <a:moveTo>
                      <a:pt x="12697" y="2"/>
                    </a:moveTo>
                    <a:lnTo>
                      <a:pt x="12697" y="2"/>
                    </a:lnTo>
                    <a:cubicBezTo>
                      <a:pt x="12698" y="2"/>
                      <a:pt x="12699" y="3"/>
                      <a:pt x="12699" y="4"/>
                    </a:cubicBezTo>
                    <a:cubicBezTo>
                      <a:pt x="12699" y="5"/>
                      <a:pt x="12698" y="6"/>
                      <a:pt x="12697" y="6"/>
                    </a:cubicBezTo>
                    <a:lnTo>
                      <a:pt x="12697" y="6"/>
                    </a:lnTo>
                    <a:cubicBezTo>
                      <a:pt x="12695" y="6"/>
                      <a:pt x="12695" y="5"/>
                      <a:pt x="12695" y="4"/>
                    </a:cubicBezTo>
                    <a:cubicBezTo>
                      <a:pt x="12695" y="3"/>
                      <a:pt x="12695" y="2"/>
                      <a:pt x="12697" y="2"/>
                    </a:cubicBezTo>
                    <a:close/>
                    <a:moveTo>
                      <a:pt x="12705" y="2"/>
                    </a:moveTo>
                    <a:lnTo>
                      <a:pt x="12705" y="2"/>
                    </a:lnTo>
                    <a:cubicBezTo>
                      <a:pt x="12706" y="2"/>
                      <a:pt x="12707" y="3"/>
                      <a:pt x="12707" y="4"/>
                    </a:cubicBezTo>
                    <a:cubicBezTo>
                      <a:pt x="12707" y="5"/>
                      <a:pt x="12706" y="6"/>
                      <a:pt x="12705" y="6"/>
                    </a:cubicBezTo>
                    <a:lnTo>
                      <a:pt x="12705" y="6"/>
                    </a:lnTo>
                    <a:cubicBezTo>
                      <a:pt x="12703" y="6"/>
                      <a:pt x="12703" y="5"/>
                      <a:pt x="12703" y="4"/>
                    </a:cubicBezTo>
                    <a:cubicBezTo>
                      <a:pt x="12703" y="3"/>
                      <a:pt x="12703" y="2"/>
                      <a:pt x="12705" y="2"/>
                    </a:cubicBezTo>
                    <a:close/>
                    <a:moveTo>
                      <a:pt x="12713" y="2"/>
                    </a:moveTo>
                    <a:lnTo>
                      <a:pt x="12713" y="2"/>
                    </a:lnTo>
                    <a:cubicBezTo>
                      <a:pt x="12714" y="2"/>
                      <a:pt x="12715" y="3"/>
                      <a:pt x="12715" y="4"/>
                    </a:cubicBezTo>
                    <a:cubicBezTo>
                      <a:pt x="12715" y="5"/>
                      <a:pt x="12714" y="6"/>
                      <a:pt x="12713" y="6"/>
                    </a:cubicBezTo>
                    <a:lnTo>
                      <a:pt x="12713" y="6"/>
                    </a:lnTo>
                    <a:cubicBezTo>
                      <a:pt x="12711" y="6"/>
                      <a:pt x="12711" y="5"/>
                      <a:pt x="12711" y="4"/>
                    </a:cubicBezTo>
                    <a:cubicBezTo>
                      <a:pt x="12711" y="3"/>
                      <a:pt x="12711" y="2"/>
                      <a:pt x="12713" y="2"/>
                    </a:cubicBezTo>
                    <a:close/>
                    <a:moveTo>
                      <a:pt x="12721" y="2"/>
                    </a:moveTo>
                    <a:lnTo>
                      <a:pt x="12721" y="2"/>
                    </a:lnTo>
                    <a:cubicBezTo>
                      <a:pt x="12722" y="2"/>
                      <a:pt x="12723" y="3"/>
                      <a:pt x="12723" y="4"/>
                    </a:cubicBezTo>
                    <a:cubicBezTo>
                      <a:pt x="12723" y="5"/>
                      <a:pt x="12722" y="6"/>
                      <a:pt x="12721" y="6"/>
                    </a:cubicBezTo>
                    <a:lnTo>
                      <a:pt x="12721" y="6"/>
                    </a:lnTo>
                    <a:cubicBezTo>
                      <a:pt x="12719" y="6"/>
                      <a:pt x="12719" y="5"/>
                      <a:pt x="12719" y="4"/>
                    </a:cubicBezTo>
                    <a:cubicBezTo>
                      <a:pt x="12719" y="3"/>
                      <a:pt x="12719" y="2"/>
                      <a:pt x="12721" y="2"/>
                    </a:cubicBezTo>
                    <a:close/>
                    <a:moveTo>
                      <a:pt x="12729" y="2"/>
                    </a:moveTo>
                    <a:lnTo>
                      <a:pt x="12729" y="2"/>
                    </a:lnTo>
                    <a:cubicBezTo>
                      <a:pt x="12730" y="2"/>
                      <a:pt x="12731" y="3"/>
                      <a:pt x="12731" y="4"/>
                    </a:cubicBezTo>
                    <a:cubicBezTo>
                      <a:pt x="12731" y="5"/>
                      <a:pt x="12730" y="6"/>
                      <a:pt x="12729" y="6"/>
                    </a:cubicBezTo>
                    <a:lnTo>
                      <a:pt x="12729" y="6"/>
                    </a:lnTo>
                    <a:cubicBezTo>
                      <a:pt x="12727" y="6"/>
                      <a:pt x="12727" y="5"/>
                      <a:pt x="12727" y="4"/>
                    </a:cubicBezTo>
                    <a:cubicBezTo>
                      <a:pt x="12727" y="3"/>
                      <a:pt x="12727" y="2"/>
                      <a:pt x="12729" y="2"/>
                    </a:cubicBezTo>
                    <a:close/>
                    <a:moveTo>
                      <a:pt x="12737" y="2"/>
                    </a:moveTo>
                    <a:lnTo>
                      <a:pt x="12737" y="2"/>
                    </a:lnTo>
                    <a:cubicBezTo>
                      <a:pt x="12738" y="2"/>
                      <a:pt x="12739" y="3"/>
                      <a:pt x="12739" y="4"/>
                    </a:cubicBezTo>
                    <a:cubicBezTo>
                      <a:pt x="12739" y="5"/>
                      <a:pt x="12738" y="6"/>
                      <a:pt x="12737" y="6"/>
                    </a:cubicBezTo>
                    <a:lnTo>
                      <a:pt x="12737" y="6"/>
                    </a:lnTo>
                    <a:cubicBezTo>
                      <a:pt x="12735" y="6"/>
                      <a:pt x="12735" y="5"/>
                      <a:pt x="12735" y="4"/>
                    </a:cubicBezTo>
                    <a:cubicBezTo>
                      <a:pt x="12735" y="3"/>
                      <a:pt x="12735" y="2"/>
                      <a:pt x="12737" y="2"/>
                    </a:cubicBezTo>
                    <a:close/>
                    <a:moveTo>
                      <a:pt x="12745" y="2"/>
                    </a:moveTo>
                    <a:lnTo>
                      <a:pt x="12745" y="2"/>
                    </a:lnTo>
                    <a:cubicBezTo>
                      <a:pt x="12746" y="2"/>
                      <a:pt x="12747" y="3"/>
                      <a:pt x="12747" y="4"/>
                    </a:cubicBezTo>
                    <a:cubicBezTo>
                      <a:pt x="12747" y="5"/>
                      <a:pt x="12746" y="6"/>
                      <a:pt x="12745" y="6"/>
                    </a:cubicBezTo>
                    <a:lnTo>
                      <a:pt x="12745" y="6"/>
                    </a:lnTo>
                    <a:cubicBezTo>
                      <a:pt x="12743" y="6"/>
                      <a:pt x="12743" y="5"/>
                      <a:pt x="12743" y="4"/>
                    </a:cubicBezTo>
                    <a:cubicBezTo>
                      <a:pt x="12743" y="3"/>
                      <a:pt x="12743" y="2"/>
                      <a:pt x="12745" y="2"/>
                    </a:cubicBezTo>
                    <a:close/>
                    <a:moveTo>
                      <a:pt x="12753" y="2"/>
                    </a:moveTo>
                    <a:lnTo>
                      <a:pt x="12753" y="2"/>
                    </a:lnTo>
                    <a:cubicBezTo>
                      <a:pt x="12754" y="2"/>
                      <a:pt x="12755" y="3"/>
                      <a:pt x="12755" y="4"/>
                    </a:cubicBezTo>
                    <a:cubicBezTo>
                      <a:pt x="12755" y="5"/>
                      <a:pt x="12754" y="6"/>
                      <a:pt x="12753" y="6"/>
                    </a:cubicBezTo>
                    <a:lnTo>
                      <a:pt x="12753" y="6"/>
                    </a:lnTo>
                    <a:cubicBezTo>
                      <a:pt x="12751" y="6"/>
                      <a:pt x="12751" y="5"/>
                      <a:pt x="12751" y="4"/>
                    </a:cubicBezTo>
                    <a:cubicBezTo>
                      <a:pt x="12751" y="3"/>
                      <a:pt x="12751" y="2"/>
                      <a:pt x="12753" y="2"/>
                    </a:cubicBezTo>
                    <a:close/>
                    <a:moveTo>
                      <a:pt x="12761" y="2"/>
                    </a:moveTo>
                    <a:lnTo>
                      <a:pt x="12761" y="2"/>
                    </a:lnTo>
                    <a:cubicBezTo>
                      <a:pt x="12762" y="2"/>
                      <a:pt x="12763" y="3"/>
                      <a:pt x="12763" y="4"/>
                    </a:cubicBezTo>
                    <a:cubicBezTo>
                      <a:pt x="12763" y="6"/>
                      <a:pt x="12762" y="6"/>
                      <a:pt x="12761" y="6"/>
                    </a:cubicBezTo>
                    <a:lnTo>
                      <a:pt x="12761" y="6"/>
                    </a:lnTo>
                    <a:cubicBezTo>
                      <a:pt x="12759" y="6"/>
                      <a:pt x="12759" y="6"/>
                      <a:pt x="12759" y="4"/>
                    </a:cubicBezTo>
                    <a:cubicBezTo>
                      <a:pt x="12759" y="3"/>
                      <a:pt x="12759" y="2"/>
                      <a:pt x="12761" y="2"/>
                    </a:cubicBezTo>
                    <a:close/>
                    <a:moveTo>
                      <a:pt x="12769" y="2"/>
                    </a:moveTo>
                    <a:lnTo>
                      <a:pt x="12769" y="2"/>
                    </a:lnTo>
                    <a:cubicBezTo>
                      <a:pt x="12770" y="2"/>
                      <a:pt x="12771" y="3"/>
                      <a:pt x="12771" y="4"/>
                    </a:cubicBezTo>
                    <a:cubicBezTo>
                      <a:pt x="12771" y="6"/>
                      <a:pt x="12770" y="6"/>
                      <a:pt x="12769" y="6"/>
                    </a:cubicBezTo>
                    <a:lnTo>
                      <a:pt x="12769" y="6"/>
                    </a:lnTo>
                    <a:cubicBezTo>
                      <a:pt x="12767" y="6"/>
                      <a:pt x="12767" y="6"/>
                      <a:pt x="12767" y="4"/>
                    </a:cubicBezTo>
                    <a:cubicBezTo>
                      <a:pt x="12767" y="3"/>
                      <a:pt x="12767" y="2"/>
                      <a:pt x="12769" y="2"/>
                    </a:cubicBezTo>
                    <a:close/>
                    <a:moveTo>
                      <a:pt x="12777" y="2"/>
                    </a:moveTo>
                    <a:lnTo>
                      <a:pt x="12777" y="2"/>
                    </a:lnTo>
                    <a:cubicBezTo>
                      <a:pt x="12778" y="2"/>
                      <a:pt x="12779" y="3"/>
                      <a:pt x="12779" y="4"/>
                    </a:cubicBezTo>
                    <a:cubicBezTo>
                      <a:pt x="12779" y="6"/>
                      <a:pt x="12778" y="6"/>
                      <a:pt x="12777" y="6"/>
                    </a:cubicBezTo>
                    <a:lnTo>
                      <a:pt x="12777" y="6"/>
                    </a:lnTo>
                    <a:cubicBezTo>
                      <a:pt x="12776" y="6"/>
                      <a:pt x="12775" y="6"/>
                      <a:pt x="12775" y="4"/>
                    </a:cubicBezTo>
                    <a:cubicBezTo>
                      <a:pt x="12775" y="3"/>
                      <a:pt x="12776" y="2"/>
                      <a:pt x="12777" y="2"/>
                    </a:cubicBezTo>
                    <a:close/>
                    <a:moveTo>
                      <a:pt x="12785" y="2"/>
                    </a:moveTo>
                    <a:lnTo>
                      <a:pt x="12785" y="2"/>
                    </a:lnTo>
                    <a:cubicBezTo>
                      <a:pt x="12786" y="2"/>
                      <a:pt x="12787" y="3"/>
                      <a:pt x="12787" y="4"/>
                    </a:cubicBezTo>
                    <a:cubicBezTo>
                      <a:pt x="12787" y="6"/>
                      <a:pt x="12786" y="6"/>
                      <a:pt x="12785" y="6"/>
                    </a:cubicBezTo>
                    <a:lnTo>
                      <a:pt x="12785" y="6"/>
                    </a:lnTo>
                    <a:cubicBezTo>
                      <a:pt x="12784" y="6"/>
                      <a:pt x="12783" y="6"/>
                      <a:pt x="12783" y="4"/>
                    </a:cubicBezTo>
                    <a:cubicBezTo>
                      <a:pt x="12783" y="3"/>
                      <a:pt x="12784" y="2"/>
                      <a:pt x="12785" y="2"/>
                    </a:cubicBezTo>
                    <a:close/>
                    <a:moveTo>
                      <a:pt x="12793" y="2"/>
                    </a:moveTo>
                    <a:lnTo>
                      <a:pt x="12793" y="2"/>
                    </a:lnTo>
                    <a:cubicBezTo>
                      <a:pt x="12794" y="2"/>
                      <a:pt x="12795" y="3"/>
                      <a:pt x="12795" y="4"/>
                    </a:cubicBezTo>
                    <a:cubicBezTo>
                      <a:pt x="12795" y="6"/>
                      <a:pt x="12794" y="6"/>
                      <a:pt x="12793" y="6"/>
                    </a:cubicBezTo>
                    <a:lnTo>
                      <a:pt x="12793" y="6"/>
                    </a:lnTo>
                    <a:cubicBezTo>
                      <a:pt x="12792" y="6"/>
                      <a:pt x="12791" y="6"/>
                      <a:pt x="12791" y="4"/>
                    </a:cubicBezTo>
                    <a:cubicBezTo>
                      <a:pt x="12791" y="3"/>
                      <a:pt x="12792" y="2"/>
                      <a:pt x="12793" y="2"/>
                    </a:cubicBezTo>
                    <a:close/>
                    <a:moveTo>
                      <a:pt x="12801" y="2"/>
                    </a:moveTo>
                    <a:lnTo>
                      <a:pt x="12801" y="2"/>
                    </a:lnTo>
                    <a:cubicBezTo>
                      <a:pt x="12802" y="2"/>
                      <a:pt x="12803" y="3"/>
                      <a:pt x="12803" y="4"/>
                    </a:cubicBezTo>
                    <a:cubicBezTo>
                      <a:pt x="12803" y="6"/>
                      <a:pt x="12802" y="6"/>
                      <a:pt x="12801" y="6"/>
                    </a:cubicBezTo>
                    <a:lnTo>
                      <a:pt x="12801" y="6"/>
                    </a:lnTo>
                    <a:cubicBezTo>
                      <a:pt x="12800" y="6"/>
                      <a:pt x="12799" y="6"/>
                      <a:pt x="12799" y="4"/>
                    </a:cubicBezTo>
                    <a:cubicBezTo>
                      <a:pt x="12799" y="3"/>
                      <a:pt x="12800" y="2"/>
                      <a:pt x="12801" y="2"/>
                    </a:cubicBezTo>
                    <a:close/>
                    <a:moveTo>
                      <a:pt x="12809" y="2"/>
                    </a:moveTo>
                    <a:lnTo>
                      <a:pt x="12809" y="2"/>
                    </a:lnTo>
                    <a:cubicBezTo>
                      <a:pt x="12810" y="2"/>
                      <a:pt x="12811" y="3"/>
                      <a:pt x="12811" y="4"/>
                    </a:cubicBezTo>
                    <a:cubicBezTo>
                      <a:pt x="12811" y="6"/>
                      <a:pt x="12810" y="6"/>
                      <a:pt x="12809" y="6"/>
                    </a:cubicBezTo>
                    <a:lnTo>
                      <a:pt x="12809" y="6"/>
                    </a:lnTo>
                    <a:cubicBezTo>
                      <a:pt x="12808" y="6"/>
                      <a:pt x="12807" y="6"/>
                      <a:pt x="12807" y="4"/>
                    </a:cubicBezTo>
                    <a:cubicBezTo>
                      <a:pt x="12807" y="3"/>
                      <a:pt x="12808" y="2"/>
                      <a:pt x="12809" y="2"/>
                    </a:cubicBezTo>
                    <a:close/>
                    <a:moveTo>
                      <a:pt x="12817" y="2"/>
                    </a:moveTo>
                    <a:lnTo>
                      <a:pt x="12817" y="2"/>
                    </a:lnTo>
                    <a:cubicBezTo>
                      <a:pt x="12818" y="2"/>
                      <a:pt x="12819" y="3"/>
                      <a:pt x="12819" y="4"/>
                    </a:cubicBezTo>
                    <a:cubicBezTo>
                      <a:pt x="12819" y="6"/>
                      <a:pt x="12818" y="6"/>
                      <a:pt x="12817" y="6"/>
                    </a:cubicBezTo>
                    <a:lnTo>
                      <a:pt x="12817" y="6"/>
                    </a:lnTo>
                    <a:cubicBezTo>
                      <a:pt x="12816" y="6"/>
                      <a:pt x="12815" y="6"/>
                      <a:pt x="12815" y="4"/>
                    </a:cubicBezTo>
                    <a:cubicBezTo>
                      <a:pt x="12815" y="3"/>
                      <a:pt x="12816" y="2"/>
                      <a:pt x="12817" y="2"/>
                    </a:cubicBezTo>
                    <a:close/>
                    <a:moveTo>
                      <a:pt x="12825" y="2"/>
                    </a:moveTo>
                    <a:lnTo>
                      <a:pt x="12825" y="2"/>
                    </a:lnTo>
                    <a:cubicBezTo>
                      <a:pt x="12826" y="2"/>
                      <a:pt x="12827" y="3"/>
                      <a:pt x="12827" y="4"/>
                    </a:cubicBezTo>
                    <a:cubicBezTo>
                      <a:pt x="12827" y="6"/>
                      <a:pt x="12826" y="6"/>
                      <a:pt x="12825" y="6"/>
                    </a:cubicBezTo>
                    <a:lnTo>
                      <a:pt x="12825" y="6"/>
                    </a:lnTo>
                    <a:cubicBezTo>
                      <a:pt x="12824" y="6"/>
                      <a:pt x="12823" y="6"/>
                      <a:pt x="12823" y="4"/>
                    </a:cubicBezTo>
                    <a:cubicBezTo>
                      <a:pt x="12823" y="3"/>
                      <a:pt x="12824" y="2"/>
                      <a:pt x="12825" y="2"/>
                    </a:cubicBezTo>
                    <a:close/>
                    <a:moveTo>
                      <a:pt x="12833" y="2"/>
                    </a:moveTo>
                    <a:lnTo>
                      <a:pt x="12833" y="2"/>
                    </a:lnTo>
                    <a:cubicBezTo>
                      <a:pt x="12834" y="2"/>
                      <a:pt x="12835" y="3"/>
                      <a:pt x="12835" y="4"/>
                    </a:cubicBezTo>
                    <a:cubicBezTo>
                      <a:pt x="12835" y="6"/>
                      <a:pt x="12834" y="6"/>
                      <a:pt x="12833" y="6"/>
                    </a:cubicBezTo>
                    <a:lnTo>
                      <a:pt x="12833" y="6"/>
                    </a:lnTo>
                    <a:cubicBezTo>
                      <a:pt x="12832" y="6"/>
                      <a:pt x="12831" y="6"/>
                      <a:pt x="12831" y="4"/>
                    </a:cubicBezTo>
                    <a:cubicBezTo>
                      <a:pt x="12831" y="3"/>
                      <a:pt x="12832" y="2"/>
                      <a:pt x="12833" y="2"/>
                    </a:cubicBezTo>
                    <a:close/>
                    <a:moveTo>
                      <a:pt x="12841" y="2"/>
                    </a:moveTo>
                    <a:lnTo>
                      <a:pt x="12841" y="2"/>
                    </a:lnTo>
                    <a:cubicBezTo>
                      <a:pt x="12842" y="2"/>
                      <a:pt x="12843" y="3"/>
                      <a:pt x="12843" y="4"/>
                    </a:cubicBezTo>
                    <a:cubicBezTo>
                      <a:pt x="12843" y="6"/>
                      <a:pt x="12842" y="6"/>
                      <a:pt x="12841" y="6"/>
                    </a:cubicBezTo>
                    <a:lnTo>
                      <a:pt x="12841" y="6"/>
                    </a:lnTo>
                    <a:cubicBezTo>
                      <a:pt x="12840" y="6"/>
                      <a:pt x="12839" y="6"/>
                      <a:pt x="12839" y="4"/>
                    </a:cubicBezTo>
                    <a:cubicBezTo>
                      <a:pt x="12839" y="3"/>
                      <a:pt x="12840" y="2"/>
                      <a:pt x="12841" y="2"/>
                    </a:cubicBezTo>
                    <a:close/>
                    <a:moveTo>
                      <a:pt x="12849" y="2"/>
                    </a:moveTo>
                    <a:lnTo>
                      <a:pt x="12849" y="2"/>
                    </a:lnTo>
                    <a:cubicBezTo>
                      <a:pt x="12850" y="2"/>
                      <a:pt x="12851" y="3"/>
                      <a:pt x="12851" y="4"/>
                    </a:cubicBezTo>
                    <a:cubicBezTo>
                      <a:pt x="12851" y="6"/>
                      <a:pt x="12850" y="6"/>
                      <a:pt x="12849" y="6"/>
                    </a:cubicBezTo>
                    <a:lnTo>
                      <a:pt x="12849" y="6"/>
                    </a:lnTo>
                    <a:cubicBezTo>
                      <a:pt x="12848" y="6"/>
                      <a:pt x="12847" y="6"/>
                      <a:pt x="12847" y="4"/>
                    </a:cubicBezTo>
                    <a:cubicBezTo>
                      <a:pt x="12847" y="3"/>
                      <a:pt x="12848" y="2"/>
                      <a:pt x="12849" y="2"/>
                    </a:cubicBezTo>
                    <a:close/>
                    <a:moveTo>
                      <a:pt x="12857" y="2"/>
                    </a:moveTo>
                    <a:lnTo>
                      <a:pt x="12857" y="2"/>
                    </a:lnTo>
                    <a:cubicBezTo>
                      <a:pt x="12858" y="2"/>
                      <a:pt x="12859" y="3"/>
                      <a:pt x="12859" y="4"/>
                    </a:cubicBezTo>
                    <a:cubicBezTo>
                      <a:pt x="12859" y="6"/>
                      <a:pt x="12858" y="6"/>
                      <a:pt x="12857" y="6"/>
                    </a:cubicBezTo>
                    <a:lnTo>
                      <a:pt x="12857" y="6"/>
                    </a:lnTo>
                    <a:cubicBezTo>
                      <a:pt x="12856" y="6"/>
                      <a:pt x="12855" y="6"/>
                      <a:pt x="12855" y="4"/>
                    </a:cubicBezTo>
                    <a:cubicBezTo>
                      <a:pt x="12855" y="3"/>
                      <a:pt x="12856" y="2"/>
                      <a:pt x="12857" y="2"/>
                    </a:cubicBezTo>
                    <a:close/>
                    <a:moveTo>
                      <a:pt x="12865" y="2"/>
                    </a:moveTo>
                    <a:lnTo>
                      <a:pt x="12865" y="2"/>
                    </a:lnTo>
                    <a:cubicBezTo>
                      <a:pt x="12866" y="2"/>
                      <a:pt x="12867" y="3"/>
                      <a:pt x="12867" y="4"/>
                    </a:cubicBezTo>
                    <a:cubicBezTo>
                      <a:pt x="12867" y="6"/>
                      <a:pt x="12866" y="6"/>
                      <a:pt x="12865" y="6"/>
                    </a:cubicBezTo>
                    <a:lnTo>
                      <a:pt x="12865" y="6"/>
                    </a:lnTo>
                    <a:cubicBezTo>
                      <a:pt x="12864" y="6"/>
                      <a:pt x="12863" y="6"/>
                      <a:pt x="12863" y="4"/>
                    </a:cubicBezTo>
                    <a:cubicBezTo>
                      <a:pt x="12863" y="3"/>
                      <a:pt x="12864" y="2"/>
                      <a:pt x="12865" y="2"/>
                    </a:cubicBezTo>
                    <a:close/>
                    <a:moveTo>
                      <a:pt x="12873" y="2"/>
                    </a:moveTo>
                    <a:lnTo>
                      <a:pt x="12873" y="2"/>
                    </a:lnTo>
                    <a:cubicBezTo>
                      <a:pt x="12874" y="2"/>
                      <a:pt x="12875" y="3"/>
                      <a:pt x="12875" y="4"/>
                    </a:cubicBezTo>
                    <a:cubicBezTo>
                      <a:pt x="12875" y="6"/>
                      <a:pt x="12874" y="6"/>
                      <a:pt x="12873" y="6"/>
                    </a:cubicBezTo>
                    <a:lnTo>
                      <a:pt x="12873" y="6"/>
                    </a:lnTo>
                    <a:cubicBezTo>
                      <a:pt x="12872" y="6"/>
                      <a:pt x="12871" y="6"/>
                      <a:pt x="12871" y="4"/>
                    </a:cubicBezTo>
                    <a:cubicBezTo>
                      <a:pt x="12871" y="3"/>
                      <a:pt x="12872" y="2"/>
                      <a:pt x="12873" y="2"/>
                    </a:cubicBezTo>
                    <a:close/>
                    <a:moveTo>
                      <a:pt x="12881" y="2"/>
                    </a:moveTo>
                    <a:lnTo>
                      <a:pt x="12881" y="2"/>
                    </a:lnTo>
                    <a:cubicBezTo>
                      <a:pt x="12882" y="2"/>
                      <a:pt x="12883" y="3"/>
                      <a:pt x="12883" y="4"/>
                    </a:cubicBezTo>
                    <a:cubicBezTo>
                      <a:pt x="12883" y="6"/>
                      <a:pt x="12882" y="6"/>
                      <a:pt x="12881" y="6"/>
                    </a:cubicBezTo>
                    <a:lnTo>
                      <a:pt x="12881" y="6"/>
                    </a:lnTo>
                    <a:cubicBezTo>
                      <a:pt x="12880" y="6"/>
                      <a:pt x="12879" y="6"/>
                      <a:pt x="12879" y="4"/>
                    </a:cubicBezTo>
                    <a:cubicBezTo>
                      <a:pt x="12879" y="3"/>
                      <a:pt x="12880" y="2"/>
                      <a:pt x="12881" y="2"/>
                    </a:cubicBezTo>
                    <a:close/>
                    <a:moveTo>
                      <a:pt x="12889" y="2"/>
                    </a:moveTo>
                    <a:lnTo>
                      <a:pt x="12889" y="2"/>
                    </a:lnTo>
                    <a:cubicBezTo>
                      <a:pt x="12890" y="2"/>
                      <a:pt x="12891" y="3"/>
                      <a:pt x="12891" y="4"/>
                    </a:cubicBezTo>
                    <a:cubicBezTo>
                      <a:pt x="12891" y="6"/>
                      <a:pt x="12890" y="6"/>
                      <a:pt x="12889" y="6"/>
                    </a:cubicBezTo>
                    <a:lnTo>
                      <a:pt x="12889" y="6"/>
                    </a:lnTo>
                    <a:cubicBezTo>
                      <a:pt x="12888" y="6"/>
                      <a:pt x="12887" y="6"/>
                      <a:pt x="12887" y="4"/>
                    </a:cubicBezTo>
                    <a:cubicBezTo>
                      <a:pt x="12887" y="3"/>
                      <a:pt x="12888" y="2"/>
                      <a:pt x="12889" y="2"/>
                    </a:cubicBezTo>
                    <a:close/>
                    <a:moveTo>
                      <a:pt x="12897" y="2"/>
                    </a:moveTo>
                    <a:lnTo>
                      <a:pt x="12897" y="2"/>
                    </a:lnTo>
                    <a:cubicBezTo>
                      <a:pt x="12898" y="2"/>
                      <a:pt x="12899" y="3"/>
                      <a:pt x="12899" y="4"/>
                    </a:cubicBezTo>
                    <a:cubicBezTo>
                      <a:pt x="12899" y="6"/>
                      <a:pt x="12898" y="6"/>
                      <a:pt x="12897" y="6"/>
                    </a:cubicBezTo>
                    <a:lnTo>
                      <a:pt x="12897" y="6"/>
                    </a:lnTo>
                    <a:cubicBezTo>
                      <a:pt x="12896" y="6"/>
                      <a:pt x="12895" y="6"/>
                      <a:pt x="12895" y="4"/>
                    </a:cubicBezTo>
                    <a:cubicBezTo>
                      <a:pt x="12895" y="3"/>
                      <a:pt x="12896" y="2"/>
                      <a:pt x="12897" y="2"/>
                    </a:cubicBezTo>
                    <a:close/>
                    <a:moveTo>
                      <a:pt x="12905" y="2"/>
                    </a:moveTo>
                    <a:lnTo>
                      <a:pt x="12905" y="2"/>
                    </a:lnTo>
                    <a:cubicBezTo>
                      <a:pt x="12906" y="2"/>
                      <a:pt x="12907" y="3"/>
                      <a:pt x="12907" y="4"/>
                    </a:cubicBezTo>
                    <a:cubicBezTo>
                      <a:pt x="12907" y="6"/>
                      <a:pt x="12906" y="6"/>
                      <a:pt x="12905" y="6"/>
                    </a:cubicBezTo>
                    <a:lnTo>
                      <a:pt x="12905" y="6"/>
                    </a:lnTo>
                    <a:cubicBezTo>
                      <a:pt x="12904" y="6"/>
                      <a:pt x="12903" y="6"/>
                      <a:pt x="12903" y="4"/>
                    </a:cubicBezTo>
                    <a:cubicBezTo>
                      <a:pt x="12903" y="3"/>
                      <a:pt x="12904" y="2"/>
                      <a:pt x="12905" y="2"/>
                    </a:cubicBezTo>
                    <a:close/>
                    <a:moveTo>
                      <a:pt x="12913" y="2"/>
                    </a:moveTo>
                    <a:lnTo>
                      <a:pt x="12913" y="2"/>
                    </a:lnTo>
                    <a:cubicBezTo>
                      <a:pt x="12914" y="2"/>
                      <a:pt x="12915" y="3"/>
                      <a:pt x="12915" y="4"/>
                    </a:cubicBezTo>
                    <a:cubicBezTo>
                      <a:pt x="12915" y="6"/>
                      <a:pt x="12914" y="6"/>
                      <a:pt x="12913" y="6"/>
                    </a:cubicBezTo>
                    <a:lnTo>
                      <a:pt x="12913" y="6"/>
                    </a:lnTo>
                    <a:cubicBezTo>
                      <a:pt x="12912" y="6"/>
                      <a:pt x="12911" y="6"/>
                      <a:pt x="12911" y="4"/>
                    </a:cubicBezTo>
                    <a:cubicBezTo>
                      <a:pt x="12911" y="3"/>
                      <a:pt x="12912" y="2"/>
                      <a:pt x="12913" y="2"/>
                    </a:cubicBezTo>
                    <a:close/>
                    <a:moveTo>
                      <a:pt x="12921" y="2"/>
                    </a:moveTo>
                    <a:lnTo>
                      <a:pt x="12921" y="2"/>
                    </a:lnTo>
                    <a:cubicBezTo>
                      <a:pt x="12922" y="2"/>
                      <a:pt x="12923" y="3"/>
                      <a:pt x="12923" y="4"/>
                    </a:cubicBezTo>
                    <a:cubicBezTo>
                      <a:pt x="12923" y="6"/>
                      <a:pt x="12922" y="6"/>
                      <a:pt x="12921" y="6"/>
                    </a:cubicBezTo>
                    <a:lnTo>
                      <a:pt x="12921" y="6"/>
                    </a:lnTo>
                    <a:cubicBezTo>
                      <a:pt x="12920" y="6"/>
                      <a:pt x="12919" y="6"/>
                      <a:pt x="12919" y="4"/>
                    </a:cubicBezTo>
                    <a:cubicBezTo>
                      <a:pt x="12919" y="3"/>
                      <a:pt x="12920" y="2"/>
                      <a:pt x="12921" y="2"/>
                    </a:cubicBezTo>
                    <a:close/>
                    <a:moveTo>
                      <a:pt x="12929" y="2"/>
                    </a:moveTo>
                    <a:lnTo>
                      <a:pt x="12929" y="2"/>
                    </a:lnTo>
                    <a:cubicBezTo>
                      <a:pt x="12930" y="2"/>
                      <a:pt x="12931" y="3"/>
                      <a:pt x="12931" y="4"/>
                    </a:cubicBezTo>
                    <a:cubicBezTo>
                      <a:pt x="12931" y="6"/>
                      <a:pt x="12930" y="6"/>
                      <a:pt x="12929" y="6"/>
                    </a:cubicBezTo>
                    <a:lnTo>
                      <a:pt x="12929" y="6"/>
                    </a:lnTo>
                    <a:cubicBezTo>
                      <a:pt x="12928" y="6"/>
                      <a:pt x="12927" y="6"/>
                      <a:pt x="12927" y="4"/>
                    </a:cubicBezTo>
                    <a:cubicBezTo>
                      <a:pt x="12927" y="3"/>
                      <a:pt x="12928" y="2"/>
                      <a:pt x="12929" y="2"/>
                    </a:cubicBezTo>
                    <a:close/>
                    <a:moveTo>
                      <a:pt x="12937" y="2"/>
                    </a:moveTo>
                    <a:lnTo>
                      <a:pt x="12937" y="2"/>
                    </a:lnTo>
                    <a:cubicBezTo>
                      <a:pt x="12938" y="2"/>
                      <a:pt x="12939" y="3"/>
                      <a:pt x="12939" y="4"/>
                    </a:cubicBezTo>
                    <a:cubicBezTo>
                      <a:pt x="12939" y="6"/>
                      <a:pt x="12938" y="6"/>
                      <a:pt x="12937" y="6"/>
                    </a:cubicBezTo>
                    <a:lnTo>
                      <a:pt x="12937" y="6"/>
                    </a:lnTo>
                    <a:cubicBezTo>
                      <a:pt x="12936" y="6"/>
                      <a:pt x="12935" y="6"/>
                      <a:pt x="12935" y="4"/>
                    </a:cubicBezTo>
                    <a:cubicBezTo>
                      <a:pt x="12935" y="3"/>
                      <a:pt x="12936" y="2"/>
                      <a:pt x="12937" y="2"/>
                    </a:cubicBezTo>
                    <a:close/>
                    <a:moveTo>
                      <a:pt x="12945" y="2"/>
                    </a:moveTo>
                    <a:lnTo>
                      <a:pt x="12945" y="2"/>
                    </a:lnTo>
                    <a:cubicBezTo>
                      <a:pt x="12946" y="2"/>
                      <a:pt x="12947" y="3"/>
                      <a:pt x="12947" y="4"/>
                    </a:cubicBezTo>
                    <a:cubicBezTo>
                      <a:pt x="12947" y="6"/>
                      <a:pt x="12946" y="6"/>
                      <a:pt x="12945" y="6"/>
                    </a:cubicBezTo>
                    <a:lnTo>
                      <a:pt x="12945" y="6"/>
                    </a:lnTo>
                    <a:cubicBezTo>
                      <a:pt x="12944" y="6"/>
                      <a:pt x="12943" y="6"/>
                      <a:pt x="12943" y="4"/>
                    </a:cubicBezTo>
                    <a:cubicBezTo>
                      <a:pt x="12943" y="3"/>
                      <a:pt x="12944" y="2"/>
                      <a:pt x="12945" y="2"/>
                    </a:cubicBezTo>
                    <a:close/>
                    <a:moveTo>
                      <a:pt x="12953" y="2"/>
                    </a:moveTo>
                    <a:lnTo>
                      <a:pt x="12953" y="2"/>
                    </a:lnTo>
                    <a:cubicBezTo>
                      <a:pt x="12954" y="2"/>
                      <a:pt x="12955" y="3"/>
                      <a:pt x="12955" y="4"/>
                    </a:cubicBezTo>
                    <a:cubicBezTo>
                      <a:pt x="12955" y="6"/>
                      <a:pt x="12954" y="6"/>
                      <a:pt x="12953" y="6"/>
                    </a:cubicBezTo>
                    <a:lnTo>
                      <a:pt x="12953" y="6"/>
                    </a:lnTo>
                    <a:cubicBezTo>
                      <a:pt x="12952" y="6"/>
                      <a:pt x="12951" y="6"/>
                      <a:pt x="12951" y="4"/>
                    </a:cubicBezTo>
                    <a:cubicBezTo>
                      <a:pt x="12951" y="3"/>
                      <a:pt x="12952" y="2"/>
                      <a:pt x="12953" y="2"/>
                    </a:cubicBezTo>
                    <a:close/>
                    <a:moveTo>
                      <a:pt x="12961" y="2"/>
                    </a:moveTo>
                    <a:lnTo>
                      <a:pt x="12961" y="2"/>
                    </a:lnTo>
                    <a:cubicBezTo>
                      <a:pt x="12962" y="2"/>
                      <a:pt x="12963" y="3"/>
                      <a:pt x="12963" y="4"/>
                    </a:cubicBezTo>
                    <a:cubicBezTo>
                      <a:pt x="12963" y="6"/>
                      <a:pt x="12962" y="6"/>
                      <a:pt x="12961" y="6"/>
                    </a:cubicBezTo>
                    <a:lnTo>
                      <a:pt x="12961" y="6"/>
                    </a:lnTo>
                    <a:cubicBezTo>
                      <a:pt x="12960" y="6"/>
                      <a:pt x="12959" y="6"/>
                      <a:pt x="12959" y="4"/>
                    </a:cubicBezTo>
                    <a:cubicBezTo>
                      <a:pt x="12959" y="3"/>
                      <a:pt x="12960" y="2"/>
                      <a:pt x="12961" y="2"/>
                    </a:cubicBezTo>
                    <a:close/>
                    <a:moveTo>
                      <a:pt x="12969" y="2"/>
                    </a:moveTo>
                    <a:lnTo>
                      <a:pt x="12969" y="2"/>
                    </a:lnTo>
                    <a:cubicBezTo>
                      <a:pt x="12970" y="2"/>
                      <a:pt x="12971" y="3"/>
                      <a:pt x="12971" y="4"/>
                    </a:cubicBezTo>
                    <a:cubicBezTo>
                      <a:pt x="12971" y="6"/>
                      <a:pt x="12970" y="6"/>
                      <a:pt x="12969" y="6"/>
                    </a:cubicBezTo>
                    <a:lnTo>
                      <a:pt x="12969" y="6"/>
                    </a:lnTo>
                    <a:cubicBezTo>
                      <a:pt x="12968" y="6"/>
                      <a:pt x="12967" y="6"/>
                      <a:pt x="12967" y="4"/>
                    </a:cubicBezTo>
                    <a:cubicBezTo>
                      <a:pt x="12967" y="3"/>
                      <a:pt x="12968" y="2"/>
                      <a:pt x="12969" y="2"/>
                    </a:cubicBezTo>
                    <a:close/>
                    <a:moveTo>
                      <a:pt x="12977" y="2"/>
                    </a:moveTo>
                    <a:lnTo>
                      <a:pt x="12977" y="2"/>
                    </a:lnTo>
                    <a:cubicBezTo>
                      <a:pt x="12978" y="2"/>
                      <a:pt x="12979" y="3"/>
                      <a:pt x="12979" y="4"/>
                    </a:cubicBezTo>
                    <a:cubicBezTo>
                      <a:pt x="12979" y="6"/>
                      <a:pt x="12978" y="6"/>
                      <a:pt x="12977" y="6"/>
                    </a:cubicBezTo>
                    <a:lnTo>
                      <a:pt x="12977" y="6"/>
                    </a:lnTo>
                    <a:cubicBezTo>
                      <a:pt x="12976" y="6"/>
                      <a:pt x="12975" y="6"/>
                      <a:pt x="12975" y="4"/>
                    </a:cubicBezTo>
                    <a:cubicBezTo>
                      <a:pt x="12975" y="3"/>
                      <a:pt x="12976" y="2"/>
                      <a:pt x="12977" y="2"/>
                    </a:cubicBezTo>
                    <a:close/>
                    <a:moveTo>
                      <a:pt x="12985" y="2"/>
                    </a:moveTo>
                    <a:lnTo>
                      <a:pt x="12985" y="2"/>
                    </a:lnTo>
                    <a:cubicBezTo>
                      <a:pt x="12986" y="2"/>
                      <a:pt x="12987" y="3"/>
                      <a:pt x="12987" y="4"/>
                    </a:cubicBezTo>
                    <a:cubicBezTo>
                      <a:pt x="12987" y="6"/>
                      <a:pt x="12986" y="6"/>
                      <a:pt x="12985" y="6"/>
                    </a:cubicBezTo>
                    <a:lnTo>
                      <a:pt x="12985" y="6"/>
                    </a:lnTo>
                    <a:cubicBezTo>
                      <a:pt x="12984" y="6"/>
                      <a:pt x="12983" y="6"/>
                      <a:pt x="12983" y="4"/>
                    </a:cubicBezTo>
                    <a:cubicBezTo>
                      <a:pt x="12983" y="3"/>
                      <a:pt x="12984" y="2"/>
                      <a:pt x="12985" y="2"/>
                    </a:cubicBezTo>
                    <a:close/>
                    <a:moveTo>
                      <a:pt x="12993" y="2"/>
                    </a:moveTo>
                    <a:lnTo>
                      <a:pt x="12993" y="2"/>
                    </a:lnTo>
                    <a:cubicBezTo>
                      <a:pt x="12994" y="2"/>
                      <a:pt x="12995" y="3"/>
                      <a:pt x="12995" y="4"/>
                    </a:cubicBezTo>
                    <a:cubicBezTo>
                      <a:pt x="12995" y="6"/>
                      <a:pt x="12994" y="6"/>
                      <a:pt x="12993" y="6"/>
                    </a:cubicBezTo>
                    <a:lnTo>
                      <a:pt x="12993" y="6"/>
                    </a:lnTo>
                    <a:cubicBezTo>
                      <a:pt x="12992" y="6"/>
                      <a:pt x="12991" y="6"/>
                      <a:pt x="12991" y="4"/>
                    </a:cubicBezTo>
                    <a:cubicBezTo>
                      <a:pt x="12991" y="3"/>
                      <a:pt x="12992" y="2"/>
                      <a:pt x="12993" y="2"/>
                    </a:cubicBezTo>
                    <a:close/>
                    <a:moveTo>
                      <a:pt x="13001" y="2"/>
                    </a:moveTo>
                    <a:lnTo>
                      <a:pt x="13001" y="2"/>
                    </a:lnTo>
                    <a:cubicBezTo>
                      <a:pt x="13002" y="2"/>
                      <a:pt x="13003" y="3"/>
                      <a:pt x="13003" y="4"/>
                    </a:cubicBezTo>
                    <a:cubicBezTo>
                      <a:pt x="13003" y="6"/>
                      <a:pt x="13002" y="6"/>
                      <a:pt x="13001" y="6"/>
                    </a:cubicBezTo>
                    <a:lnTo>
                      <a:pt x="13001" y="6"/>
                    </a:lnTo>
                    <a:cubicBezTo>
                      <a:pt x="13000" y="6"/>
                      <a:pt x="12999" y="6"/>
                      <a:pt x="12999" y="4"/>
                    </a:cubicBezTo>
                    <a:cubicBezTo>
                      <a:pt x="12999" y="3"/>
                      <a:pt x="13000" y="2"/>
                      <a:pt x="13001" y="2"/>
                    </a:cubicBezTo>
                    <a:close/>
                    <a:moveTo>
                      <a:pt x="13009" y="2"/>
                    </a:moveTo>
                    <a:lnTo>
                      <a:pt x="13009" y="2"/>
                    </a:lnTo>
                    <a:cubicBezTo>
                      <a:pt x="13010" y="2"/>
                      <a:pt x="13011" y="3"/>
                      <a:pt x="13011" y="4"/>
                    </a:cubicBezTo>
                    <a:cubicBezTo>
                      <a:pt x="13011" y="6"/>
                      <a:pt x="13010" y="6"/>
                      <a:pt x="13009" y="6"/>
                    </a:cubicBezTo>
                    <a:lnTo>
                      <a:pt x="13009" y="6"/>
                    </a:lnTo>
                    <a:cubicBezTo>
                      <a:pt x="13008" y="6"/>
                      <a:pt x="13007" y="6"/>
                      <a:pt x="13007" y="4"/>
                    </a:cubicBezTo>
                    <a:cubicBezTo>
                      <a:pt x="13007" y="3"/>
                      <a:pt x="13008" y="2"/>
                      <a:pt x="13009" y="2"/>
                    </a:cubicBezTo>
                    <a:close/>
                    <a:moveTo>
                      <a:pt x="13017" y="2"/>
                    </a:moveTo>
                    <a:lnTo>
                      <a:pt x="13017" y="2"/>
                    </a:lnTo>
                    <a:cubicBezTo>
                      <a:pt x="13018" y="2"/>
                      <a:pt x="13019" y="3"/>
                      <a:pt x="13019" y="4"/>
                    </a:cubicBezTo>
                    <a:cubicBezTo>
                      <a:pt x="13019" y="6"/>
                      <a:pt x="13018" y="6"/>
                      <a:pt x="13017" y="6"/>
                    </a:cubicBezTo>
                    <a:lnTo>
                      <a:pt x="13017" y="6"/>
                    </a:lnTo>
                    <a:cubicBezTo>
                      <a:pt x="13016" y="6"/>
                      <a:pt x="13015" y="6"/>
                      <a:pt x="13015" y="4"/>
                    </a:cubicBezTo>
                    <a:cubicBezTo>
                      <a:pt x="13015" y="3"/>
                      <a:pt x="13016" y="2"/>
                      <a:pt x="13017" y="2"/>
                    </a:cubicBezTo>
                    <a:close/>
                    <a:moveTo>
                      <a:pt x="13025" y="2"/>
                    </a:moveTo>
                    <a:lnTo>
                      <a:pt x="13025" y="2"/>
                    </a:lnTo>
                    <a:cubicBezTo>
                      <a:pt x="13026" y="2"/>
                      <a:pt x="13027" y="3"/>
                      <a:pt x="13027" y="4"/>
                    </a:cubicBezTo>
                    <a:cubicBezTo>
                      <a:pt x="13027" y="6"/>
                      <a:pt x="13026" y="6"/>
                      <a:pt x="13025" y="6"/>
                    </a:cubicBezTo>
                    <a:lnTo>
                      <a:pt x="13025" y="6"/>
                    </a:lnTo>
                    <a:cubicBezTo>
                      <a:pt x="13024" y="6"/>
                      <a:pt x="13023" y="6"/>
                      <a:pt x="13023" y="4"/>
                    </a:cubicBezTo>
                    <a:cubicBezTo>
                      <a:pt x="13023" y="3"/>
                      <a:pt x="13024" y="2"/>
                      <a:pt x="13025" y="2"/>
                    </a:cubicBezTo>
                    <a:close/>
                    <a:moveTo>
                      <a:pt x="13033" y="2"/>
                    </a:moveTo>
                    <a:lnTo>
                      <a:pt x="13033" y="2"/>
                    </a:lnTo>
                    <a:cubicBezTo>
                      <a:pt x="13034" y="2"/>
                      <a:pt x="13035" y="3"/>
                      <a:pt x="13035" y="4"/>
                    </a:cubicBezTo>
                    <a:cubicBezTo>
                      <a:pt x="13035" y="6"/>
                      <a:pt x="13034" y="6"/>
                      <a:pt x="13033" y="6"/>
                    </a:cubicBezTo>
                    <a:lnTo>
                      <a:pt x="13033" y="6"/>
                    </a:lnTo>
                    <a:cubicBezTo>
                      <a:pt x="13032" y="6"/>
                      <a:pt x="13031" y="6"/>
                      <a:pt x="13031" y="4"/>
                    </a:cubicBezTo>
                    <a:cubicBezTo>
                      <a:pt x="13031" y="3"/>
                      <a:pt x="13032" y="2"/>
                      <a:pt x="13033" y="2"/>
                    </a:cubicBezTo>
                    <a:close/>
                    <a:moveTo>
                      <a:pt x="13041" y="2"/>
                    </a:moveTo>
                    <a:lnTo>
                      <a:pt x="13041" y="2"/>
                    </a:lnTo>
                    <a:cubicBezTo>
                      <a:pt x="13042" y="2"/>
                      <a:pt x="13043" y="3"/>
                      <a:pt x="13043" y="4"/>
                    </a:cubicBezTo>
                    <a:cubicBezTo>
                      <a:pt x="13043" y="6"/>
                      <a:pt x="13042" y="6"/>
                      <a:pt x="13041" y="6"/>
                    </a:cubicBezTo>
                    <a:lnTo>
                      <a:pt x="13041" y="6"/>
                    </a:lnTo>
                    <a:cubicBezTo>
                      <a:pt x="13040" y="6"/>
                      <a:pt x="13039" y="6"/>
                      <a:pt x="13039" y="4"/>
                    </a:cubicBezTo>
                    <a:cubicBezTo>
                      <a:pt x="13039" y="3"/>
                      <a:pt x="13040" y="2"/>
                      <a:pt x="13041" y="2"/>
                    </a:cubicBezTo>
                    <a:close/>
                    <a:moveTo>
                      <a:pt x="13049" y="2"/>
                    </a:moveTo>
                    <a:lnTo>
                      <a:pt x="13049" y="2"/>
                    </a:lnTo>
                    <a:cubicBezTo>
                      <a:pt x="13050" y="2"/>
                      <a:pt x="13051" y="3"/>
                      <a:pt x="13051" y="4"/>
                    </a:cubicBezTo>
                    <a:cubicBezTo>
                      <a:pt x="13051" y="6"/>
                      <a:pt x="13050" y="6"/>
                      <a:pt x="13049" y="6"/>
                    </a:cubicBezTo>
                    <a:lnTo>
                      <a:pt x="13049" y="6"/>
                    </a:lnTo>
                    <a:cubicBezTo>
                      <a:pt x="13048" y="6"/>
                      <a:pt x="13047" y="6"/>
                      <a:pt x="13047" y="4"/>
                    </a:cubicBezTo>
                    <a:cubicBezTo>
                      <a:pt x="13047" y="3"/>
                      <a:pt x="13048" y="2"/>
                      <a:pt x="13049" y="2"/>
                    </a:cubicBezTo>
                    <a:close/>
                    <a:moveTo>
                      <a:pt x="13057" y="2"/>
                    </a:moveTo>
                    <a:lnTo>
                      <a:pt x="13057" y="2"/>
                    </a:lnTo>
                    <a:cubicBezTo>
                      <a:pt x="13058" y="2"/>
                      <a:pt x="13059" y="3"/>
                      <a:pt x="13059" y="4"/>
                    </a:cubicBezTo>
                    <a:cubicBezTo>
                      <a:pt x="13059" y="6"/>
                      <a:pt x="13058" y="6"/>
                      <a:pt x="13057" y="6"/>
                    </a:cubicBezTo>
                    <a:lnTo>
                      <a:pt x="13057" y="6"/>
                    </a:lnTo>
                    <a:cubicBezTo>
                      <a:pt x="13056" y="6"/>
                      <a:pt x="13055" y="6"/>
                      <a:pt x="13055" y="4"/>
                    </a:cubicBezTo>
                    <a:cubicBezTo>
                      <a:pt x="13055" y="3"/>
                      <a:pt x="13056" y="2"/>
                      <a:pt x="13057" y="2"/>
                    </a:cubicBezTo>
                    <a:close/>
                    <a:moveTo>
                      <a:pt x="13065" y="2"/>
                    </a:moveTo>
                    <a:lnTo>
                      <a:pt x="13065" y="2"/>
                    </a:lnTo>
                    <a:cubicBezTo>
                      <a:pt x="13066" y="2"/>
                      <a:pt x="13067" y="3"/>
                      <a:pt x="13067" y="4"/>
                    </a:cubicBezTo>
                    <a:cubicBezTo>
                      <a:pt x="13067" y="6"/>
                      <a:pt x="13066" y="6"/>
                      <a:pt x="13065" y="6"/>
                    </a:cubicBezTo>
                    <a:lnTo>
                      <a:pt x="13065" y="6"/>
                    </a:lnTo>
                    <a:cubicBezTo>
                      <a:pt x="13064" y="6"/>
                      <a:pt x="13063" y="6"/>
                      <a:pt x="13063" y="4"/>
                    </a:cubicBezTo>
                    <a:cubicBezTo>
                      <a:pt x="13063" y="3"/>
                      <a:pt x="13064" y="2"/>
                      <a:pt x="13065" y="2"/>
                    </a:cubicBezTo>
                    <a:close/>
                    <a:moveTo>
                      <a:pt x="13073" y="2"/>
                    </a:moveTo>
                    <a:lnTo>
                      <a:pt x="13073" y="2"/>
                    </a:lnTo>
                    <a:cubicBezTo>
                      <a:pt x="13074" y="2"/>
                      <a:pt x="13075" y="3"/>
                      <a:pt x="13075" y="4"/>
                    </a:cubicBezTo>
                    <a:cubicBezTo>
                      <a:pt x="13075" y="6"/>
                      <a:pt x="13074" y="6"/>
                      <a:pt x="13073" y="6"/>
                    </a:cubicBezTo>
                    <a:lnTo>
                      <a:pt x="13073" y="6"/>
                    </a:lnTo>
                    <a:cubicBezTo>
                      <a:pt x="13072" y="6"/>
                      <a:pt x="13071" y="6"/>
                      <a:pt x="13071" y="4"/>
                    </a:cubicBezTo>
                    <a:cubicBezTo>
                      <a:pt x="13071" y="3"/>
                      <a:pt x="13072" y="2"/>
                      <a:pt x="13073" y="2"/>
                    </a:cubicBezTo>
                    <a:close/>
                    <a:moveTo>
                      <a:pt x="13081" y="2"/>
                    </a:moveTo>
                    <a:lnTo>
                      <a:pt x="13081" y="2"/>
                    </a:lnTo>
                    <a:cubicBezTo>
                      <a:pt x="13082" y="2"/>
                      <a:pt x="13083" y="3"/>
                      <a:pt x="13083" y="4"/>
                    </a:cubicBezTo>
                    <a:cubicBezTo>
                      <a:pt x="13083" y="6"/>
                      <a:pt x="13082" y="6"/>
                      <a:pt x="13081" y="6"/>
                    </a:cubicBezTo>
                    <a:lnTo>
                      <a:pt x="13081" y="6"/>
                    </a:lnTo>
                    <a:cubicBezTo>
                      <a:pt x="13080" y="6"/>
                      <a:pt x="13079" y="6"/>
                      <a:pt x="13079" y="4"/>
                    </a:cubicBezTo>
                    <a:cubicBezTo>
                      <a:pt x="13079" y="3"/>
                      <a:pt x="13080" y="2"/>
                      <a:pt x="13081" y="2"/>
                    </a:cubicBezTo>
                    <a:close/>
                    <a:moveTo>
                      <a:pt x="13089" y="2"/>
                    </a:moveTo>
                    <a:lnTo>
                      <a:pt x="13089" y="2"/>
                    </a:lnTo>
                    <a:cubicBezTo>
                      <a:pt x="13090" y="2"/>
                      <a:pt x="13091" y="3"/>
                      <a:pt x="13091" y="4"/>
                    </a:cubicBezTo>
                    <a:cubicBezTo>
                      <a:pt x="13091" y="6"/>
                      <a:pt x="13090" y="6"/>
                      <a:pt x="13089" y="6"/>
                    </a:cubicBezTo>
                    <a:lnTo>
                      <a:pt x="13089" y="6"/>
                    </a:lnTo>
                    <a:cubicBezTo>
                      <a:pt x="13088" y="6"/>
                      <a:pt x="13087" y="6"/>
                      <a:pt x="13087" y="4"/>
                    </a:cubicBezTo>
                    <a:cubicBezTo>
                      <a:pt x="13087" y="3"/>
                      <a:pt x="13088" y="2"/>
                      <a:pt x="13089" y="2"/>
                    </a:cubicBezTo>
                    <a:close/>
                    <a:moveTo>
                      <a:pt x="13097" y="2"/>
                    </a:moveTo>
                    <a:lnTo>
                      <a:pt x="13097" y="2"/>
                    </a:lnTo>
                    <a:cubicBezTo>
                      <a:pt x="13098" y="2"/>
                      <a:pt x="13099" y="3"/>
                      <a:pt x="13099" y="4"/>
                    </a:cubicBezTo>
                    <a:cubicBezTo>
                      <a:pt x="13099" y="6"/>
                      <a:pt x="13098" y="6"/>
                      <a:pt x="13097" y="6"/>
                    </a:cubicBezTo>
                    <a:lnTo>
                      <a:pt x="13097" y="6"/>
                    </a:lnTo>
                    <a:cubicBezTo>
                      <a:pt x="13096" y="6"/>
                      <a:pt x="13095" y="6"/>
                      <a:pt x="13095" y="4"/>
                    </a:cubicBezTo>
                    <a:cubicBezTo>
                      <a:pt x="13095" y="3"/>
                      <a:pt x="13096" y="2"/>
                      <a:pt x="13097" y="2"/>
                    </a:cubicBezTo>
                    <a:close/>
                    <a:moveTo>
                      <a:pt x="13105" y="2"/>
                    </a:moveTo>
                    <a:lnTo>
                      <a:pt x="13105" y="2"/>
                    </a:lnTo>
                    <a:cubicBezTo>
                      <a:pt x="13106" y="2"/>
                      <a:pt x="13107" y="3"/>
                      <a:pt x="13107" y="4"/>
                    </a:cubicBezTo>
                    <a:cubicBezTo>
                      <a:pt x="13107" y="6"/>
                      <a:pt x="13106" y="6"/>
                      <a:pt x="13105" y="6"/>
                    </a:cubicBezTo>
                    <a:lnTo>
                      <a:pt x="13105" y="6"/>
                    </a:lnTo>
                    <a:cubicBezTo>
                      <a:pt x="13104" y="6"/>
                      <a:pt x="13103" y="6"/>
                      <a:pt x="13103" y="4"/>
                    </a:cubicBezTo>
                    <a:cubicBezTo>
                      <a:pt x="13103" y="3"/>
                      <a:pt x="13104" y="2"/>
                      <a:pt x="13105" y="2"/>
                    </a:cubicBezTo>
                    <a:close/>
                    <a:moveTo>
                      <a:pt x="13113" y="2"/>
                    </a:moveTo>
                    <a:lnTo>
                      <a:pt x="13113" y="2"/>
                    </a:lnTo>
                    <a:cubicBezTo>
                      <a:pt x="13114" y="2"/>
                      <a:pt x="13115" y="3"/>
                      <a:pt x="13115" y="4"/>
                    </a:cubicBezTo>
                    <a:cubicBezTo>
                      <a:pt x="13115" y="6"/>
                      <a:pt x="13114" y="6"/>
                      <a:pt x="13113" y="6"/>
                    </a:cubicBezTo>
                    <a:lnTo>
                      <a:pt x="13113" y="6"/>
                    </a:lnTo>
                    <a:cubicBezTo>
                      <a:pt x="13112" y="6"/>
                      <a:pt x="13111" y="6"/>
                      <a:pt x="13111" y="4"/>
                    </a:cubicBezTo>
                    <a:cubicBezTo>
                      <a:pt x="13111" y="3"/>
                      <a:pt x="13112" y="2"/>
                      <a:pt x="13113" y="2"/>
                    </a:cubicBezTo>
                    <a:close/>
                    <a:moveTo>
                      <a:pt x="13121" y="2"/>
                    </a:moveTo>
                    <a:lnTo>
                      <a:pt x="13121" y="2"/>
                    </a:lnTo>
                    <a:cubicBezTo>
                      <a:pt x="13122" y="2"/>
                      <a:pt x="13123" y="3"/>
                      <a:pt x="13123" y="4"/>
                    </a:cubicBezTo>
                    <a:cubicBezTo>
                      <a:pt x="13123" y="6"/>
                      <a:pt x="13122" y="6"/>
                      <a:pt x="13121" y="6"/>
                    </a:cubicBezTo>
                    <a:lnTo>
                      <a:pt x="13121" y="6"/>
                    </a:lnTo>
                    <a:cubicBezTo>
                      <a:pt x="13120" y="6"/>
                      <a:pt x="13119" y="6"/>
                      <a:pt x="13119" y="4"/>
                    </a:cubicBezTo>
                    <a:cubicBezTo>
                      <a:pt x="13119" y="3"/>
                      <a:pt x="13120" y="2"/>
                      <a:pt x="13121" y="2"/>
                    </a:cubicBezTo>
                    <a:close/>
                    <a:moveTo>
                      <a:pt x="13129" y="2"/>
                    </a:moveTo>
                    <a:lnTo>
                      <a:pt x="13129" y="2"/>
                    </a:lnTo>
                    <a:cubicBezTo>
                      <a:pt x="13130" y="2"/>
                      <a:pt x="13131" y="3"/>
                      <a:pt x="13131" y="4"/>
                    </a:cubicBezTo>
                    <a:cubicBezTo>
                      <a:pt x="13131" y="6"/>
                      <a:pt x="13130" y="6"/>
                      <a:pt x="13129" y="6"/>
                    </a:cubicBezTo>
                    <a:lnTo>
                      <a:pt x="13129" y="6"/>
                    </a:lnTo>
                    <a:cubicBezTo>
                      <a:pt x="13128" y="6"/>
                      <a:pt x="13127" y="6"/>
                      <a:pt x="13127" y="4"/>
                    </a:cubicBezTo>
                    <a:cubicBezTo>
                      <a:pt x="13127" y="3"/>
                      <a:pt x="13128" y="2"/>
                      <a:pt x="13129" y="2"/>
                    </a:cubicBezTo>
                    <a:close/>
                    <a:moveTo>
                      <a:pt x="13137" y="2"/>
                    </a:moveTo>
                    <a:lnTo>
                      <a:pt x="13137" y="2"/>
                    </a:lnTo>
                    <a:cubicBezTo>
                      <a:pt x="13138" y="2"/>
                      <a:pt x="13139" y="3"/>
                      <a:pt x="13139" y="4"/>
                    </a:cubicBezTo>
                    <a:cubicBezTo>
                      <a:pt x="13139" y="6"/>
                      <a:pt x="13138" y="6"/>
                      <a:pt x="13137" y="6"/>
                    </a:cubicBezTo>
                    <a:lnTo>
                      <a:pt x="13137" y="6"/>
                    </a:lnTo>
                    <a:cubicBezTo>
                      <a:pt x="13136" y="6"/>
                      <a:pt x="13135" y="6"/>
                      <a:pt x="13135" y="4"/>
                    </a:cubicBezTo>
                    <a:cubicBezTo>
                      <a:pt x="13135" y="3"/>
                      <a:pt x="13136" y="2"/>
                      <a:pt x="13137" y="2"/>
                    </a:cubicBezTo>
                    <a:close/>
                    <a:moveTo>
                      <a:pt x="13145" y="2"/>
                    </a:moveTo>
                    <a:lnTo>
                      <a:pt x="13145" y="2"/>
                    </a:lnTo>
                    <a:cubicBezTo>
                      <a:pt x="13146" y="2"/>
                      <a:pt x="13147" y="3"/>
                      <a:pt x="13147" y="4"/>
                    </a:cubicBezTo>
                    <a:cubicBezTo>
                      <a:pt x="13147" y="6"/>
                      <a:pt x="13146" y="6"/>
                      <a:pt x="13145" y="6"/>
                    </a:cubicBezTo>
                    <a:lnTo>
                      <a:pt x="13145" y="6"/>
                    </a:lnTo>
                    <a:cubicBezTo>
                      <a:pt x="13144" y="6"/>
                      <a:pt x="13143" y="6"/>
                      <a:pt x="13143" y="4"/>
                    </a:cubicBezTo>
                    <a:cubicBezTo>
                      <a:pt x="13143" y="3"/>
                      <a:pt x="13144" y="2"/>
                      <a:pt x="13145" y="2"/>
                    </a:cubicBezTo>
                    <a:close/>
                    <a:moveTo>
                      <a:pt x="13153" y="2"/>
                    </a:moveTo>
                    <a:lnTo>
                      <a:pt x="13153" y="2"/>
                    </a:lnTo>
                    <a:cubicBezTo>
                      <a:pt x="13154" y="2"/>
                      <a:pt x="13155" y="3"/>
                      <a:pt x="13155" y="4"/>
                    </a:cubicBezTo>
                    <a:cubicBezTo>
                      <a:pt x="13155" y="6"/>
                      <a:pt x="13154" y="6"/>
                      <a:pt x="13153" y="6"/>
                    </a:cubicBezTo>
                    <a:lnTo>
                      <a:pt x="13153" y="6"/>
                    </a:lnTo>
                    <a:cubicBezTo>
                      <a:pt x="13152" y="6"/>
                      <a:pt x="13151" y="6"/>
                      <a:pt x="13151" y="4"/>
                    </a:cubicBezTo>
                    <a:cubicBezTo>
                      <a:pt x="13151" y="3"/>
                      <a:pt x="13152" y="2"/>
                      <a:pt x="13153" y="2"/>
                    </a:cubicBezTo>
                    <a:close/>
                    <a:moveTo>
                      <a:pt x="13161" y="2"/>
                    </a:moveTo>
                    <a:lnTo>
                      <a:pt x="13161" y="2"/>
                    </a:lnTo>
                    <a:cubicBezTo>
                      <a:pt x="13162" y="2"/>
                      <a:pt x="13163" y="3"/>
                      <a:pt x="13163" y="4"/>
                    </a:cubicBezTo>
                    <a:cubicBezTo>
                      <a:pt x="13163" y="6"/>
                      <a:pt x="13162" y="6"/>
                      <a:pt x="13161" y="6"/>
                    </a:cubicBezTo>
                    <a:lnTo>
                      <a:pt x="13161" y="6"/>
                    </a:lnTo>
                    <a:cubicBezTo>
                      <a:pt x="13160" y="6"/>
                      <a:pt x="13159" y="6"/>
                      <a:pt x="13159" y="4"/>
                    </a:cubicBezTo>
                    <a:cubicBezTo>
                      <a:pt x="13159" y="3"/>
                      <a:pt x="13160" y="2"/>
                      <a:pt x="13161" y="2"/>
                    </a:cubicBezTo>
                    <a:close/>
                    <a:moveTo>
                      <a:pt x="13169" y="2"/>
                    </a:moveTo>
                    <a:lnTo>
                      <a:pt x="13169" y="2"/>
                    </a:lnTo>
                    <a:cubicBezTo>
                      <a:pt x="13170" y="2"/>
                      <a:pt x="13171" y="3"/>
                      <a:pt x="13171" y="4"/>
                    </a:cubicBezTo>
                    <a:cubicBezTo>
                      <a:pt x="13171" y="6"/>
                      <a:pt x="13170" y="6"/>
                      <a:pt x="13169" y="6"/>
                    </a:cubicBezTo>
                    <a:lnTo>
                      <a:pt x="13169" y="6"/>
                    </a:lnTo>
                    <a:cubicBezTo>
                      <a:pt x="13168" y="6"/>
                      <a:pt x="13167" y="6"/>
                      <a:pt x="13167" y="4"/>
                    </a:cubicBezTo>
                    <a:cubicBezTo>
                      <a:pt x="13167" y="3"/>
                      <a:pt x="13168" y="2"/>
                      <a:pt x="13169" y="2"/>
                    </a:cubicBezTo>
                    <a:close/>
                    <a:moveTo>
                      <a:pt x="13177" y="2"/>
                    </a:moveTo>
                    <a:lnTo>
                      <a:pt x="13177" y="2"/>
                    </a:lnTo>
                    <a:cubicBezTo>
                      <a:pt x="13178" y="2"/>
                      <a:pt x="13179" y="3"/>
                      <a:pt x="13179" y="4"/>
                    </a:cubicBezTo>
                    <a:cubicBezTo>
                      <a:pt x="13179" y="6"/>
                      <a:pt x="13178" y="6"/>
                      <a:pt x="13177" y="6"/>
                    </a:cubicBezTo>
                    <a:lnTo>
                      <a:pt x="13177" y="6"/>
                    </a:lnTo>
                    <a:cubicBezTo>
                      <a:pt x="13176" y="6"/>
                      <a:pt x="13175" y="6"/>
                      <a:pt x="13175" y="4"/>
                    </a:cubicBezTo>
                    <a:cubicBezTo>
                      <a:pt x="13175" y="3"/>
                      <a:pt x="13176" y="2"/>
                      <a:pt x="13177" y="2"/>
                    </a:cubicBezTo>
                    <a:close/>
                    <a:moveTo>
                      <a:pt x="13185" y="2"/>
                    </a:moveTo>
                    <a:lnTo>
                      <a:pt x="13185" y="2"/>
                    </a:lnTo>
                    <a:cubicBezTo>
                      <a:pt x="13186" y="2"/>
                      <a:pt x="13187" y="3"/>
                      <a:pt x="13187" y="4"/>
                    </a:cubicBezTo>
                    <a:cubicBezTo>
                      <a:pt x="13187" y="6"/>
                      <a:pt x="13186" y="6"/>
                      <a:pt x="13185" y="6"/>
                    </a:cubicBezTo>
                    <a:lnTo>
                      <a:pt x="13185" y="6"/>
                    </a:lnTo>
                    <a:cubicBezTo>
                      <a:pt x="13184" y="6"/>
                      <a:pt x="13183" y="6"/>
                      <a:pt x="13183" y="4"/>
                    </a:cubicBezTo>
                    <a:cubicBezTo>
                      <a:pt x="13183" y="3"/>
                      <a:pt x="13184" y="2"/>
                      <a:pt x="13185" y="2"/>
                    </a:cubicBezTo>
                    <a:close/>
                    <a:moveTo>
                      <a:pt x="13193" y="3"/>
                    </a:moveTo>
                    <a:lnTo>
                      <a:pt x="13193" y="3"/>
                    </a:lnTo>
                    <a:cubicBezTo>
                      <a:pt x="13194" y="3"/>
                      <a:pt x="13195" y="3"/>
                      <a:pt x="13195" y="5"/>
                    </a:cubicBezTo>
                    <a:cubicBezTo>
                      <a:pt x="13195" y="6"/>
                      <a:pt x="13194" y="7"/>
                      <a:pt x="13193" y="7"/>
                    </a:cubicBezTo>
                    <a:lnTo>
                      <a:pt x="13193" y="7"/>
                    </a:lnTo>
                    <a:cubicBezTo>
                      <a:pt x="13192" y="7"/>
                      <a:pt x="13191" y="6"/>
                      <a:pt x="13191" y="5"/>
                    </a:cubicBezTo>
                    <a:cubicBezTo>
                      <a:pt x="13191" y="3"/>
                      <a:pt x="13192" y="3"/>
                      <a:pt x="13193" y="3"/>
                    </a:cubicBezTo>
                    <a:close/>
                    <a:moveTo>
                      <a:pt x="13201" y="3"/>
                    </a:moveTo>
                    <a:lnTo>
                      <a:pt x="13201" y="3"/>
                    </a:lnTo>
                    <a:cubicBezTo>
                      <a:pt x="13202" y="3"/>
                      <a:pt x="13203" y="3"/>
                      <a:pt x="13203" y="5"/>
                    </a:cubicBezTo>
                    <a:cubicBezTo>
                      <a:pt x="13203" y="6"/>
                      <a:pt x="13202" y="7"/>
                      <a:pt x="13201" y="7"/>
                    </a:cubicBezTo>
                    <a:lnTo>
                      <a:pt x="13201" y="7"/>
                    </a:lnTo>
                    <a:cubicBezTo>
                      <a:pt x="13200" y="7"/>
                      <a:pt x="13199" y="6"/>
                      <a:pt x="13199" y="5"/>
                    </a:cubicBezTo>
                    <a:cubicBezTo>
                      <a:pt x="13199" y="3"/>
                      <a:pt x="13200" y="3"/>
                      <a:pt x="13201" y="3"/>
                    </a:cubicBezTo>
                    <a:close/>
                    <a:moveTo>
                      <a:pt x="13209" y="3"/>
                    </a:moveTo>
                    <a:lnTo>
                      <a:pt x="13209" y="3"/>
                    </a:lnTo>
                    <a:cubicBezTo>
                      <a:pt x="13210" y="3"/>
                      <a:pt x="13211" y="3"/>
                      <a:pt x="13211" y="5"/>
                    </a:cubicBezTo>
                    <a:cubicBezTo>
                      <a:pt x="13211" y="6"/>
                      <a:pt x="13210" y="7"/>
                      <a:pt x="13209" y="7"/>
                    </a:cubicBezTo>
                    <a:lnTo>
                      <a:pt x="13209" y="7"/>
                    </a:lnTo>
                    <a:cubicBezTo>
                      <a:pt x="13208" y="7"/>
                      <a:pt x="13207" y="6"/>
                      <a:pt x="13207" y="5"/>
                    </a:cubicBezTo>
                    <a:cubicBezTo>
                      <a:pt x="13207" y="3"/>
                      <a:pt x="13208" y="3"/>
                      <a:pt x="13209" y="3"/>
                    </a:cubicBezTo>
                    <a:close/>
                    <a:moveTo>
                      <a:pt x="13217" y="3"/>
                    </a:moveTo>
                    <a:lnTo>
                      <a:pt x="13217" y="3"/>
                    </a:lnTo>
                    <a:cubicBezTo>
                      <a:pt x="13218" y="3"/>
                      <a:pt x="13219" y="3"/>
                      <a:pt x="13219" y="5"/>
                    </a:cubicBezTo>
                    <a:cubicBezTo>
                      <a:pt x="13219" y="6"/>
                      <a:pt x="13218" y="7"/>
                      <a:pt x="13217" y="7"/>
                    </a:cubicBezTo>
                    <a:lnTo>
                      <a:pt x="13217" y="7"/>
                    </a:lnTo>
                    <a:cubicBezTo>
                      <a:pt x="13216" y="7"/>
                      <a:pt x="13215" y="6"/>
                      <a:pt x="13215" y="5"/>
                    </a:cubicBezTo>
                    <a:cubicBezTo>
                      <a:pt x="13215" y="3"/>
                      <a:pt x="13216" y="3"/>
                      <a:pt x="13217" y="3"/>
                    </a:cubicBezTo>
                    <a:close/>
                    <a:moveTo>
                      <a:pt x="13225" y="3"/>
                    </a:moveTo>
                    <a:lnTo>
                      <a:pt x="13225" y="3"/>
                    </a:lnTo>
                    <a:cubicBezTo>
                      <a:pt x="13226" y="3"/>
                      <a:pt x="13227" y="3"/>
                      <a:pt x="13227" y="5"/>
                    </a:cubicBezTo>
                    <a:cubicBezTo>
                      <a:pt x="13227" y="6"/>
                      <a:pt x="13226" y="7"/>
                      <a:pt x="13225" y="7"/>
                    </a:cubicBezTo>
                    <a:lnTo>
                      <a:pt x="13225" y="7"/>
                    </a:lnTo>
                    <a:cubicBezTo>
                      <a:pt x="13224" y="7"/>
                      <a:pt x="13223" y="6"/>
                      <a:pt x="13223" y="5"/>
                    </a:cubicBezTo>
                    <a:cubicBezTo>
                      <a:pt x="13223" y="3"/>
                      <a:pt x="13224" y="3"/>
                      <a:pt x="13225" y="3"/>
                    </a:cubicBezTo>
                    <a:close/>
                    <a:moveTo>
                      <a:pt x="13233" y="3"/>
                    </a:moveTo>
                    <a:lnTo>
                      <a:pt x="13233" y="3"/>
                    </a:lnTo>
                    <a:cubicBezTo>
                      <a:pt x="13234" y="3"/>
                      <a:pt x="13235" y="3"/>
                      <a:pt x="13235" y="5"/>
                    </a:cubicBezTo>
                    <a:cubicBezTo>
                      <a:pt x="13235" y="6"/>
                      <a:pt x="13234" y="7"/>
                      <a:pt x="13233" y="7"/>
                    </a:cubicBezTo>
                    <a:lnTo>
                      <a:pt x="13233" y="7"/>
                    </a:lnTo>
                    <a:cubicBezTo>
                      <a:pt x="13232" y="7"/>
                      <a:pt x="13231" y="6"/>
                      <a:pt x="13231" y="5"/>
                    </a:cubicBezTo>
                    <a:cubicBezTo>
                      <a:pt x="13231" y="3"/>
                      <a:pt x="13232" y="3"/>
                      <a:pt x="13233" y="3"/>
                    </a:cubicBezTo>
                    <a:close/>
                    <a:moveTo>
                      <a:pt x="13241" y="3"/>
                    </a:moveTo>
                    <a:lnTo>
                      <a:pt x="13241" y="3"/>
                    </a:lnTo>
                    <a:cubicBezTo>
                      <a:pt x="13242" y="3"/>
                      <a:pt x="13243" y="3"/>
                      <a:pt x="13243" y="5"/>
                    </a:cubicBezTo>
                    <a:cubicBezTo>
                      <a:pt x="13243" y="6"/>
                      <a:pt x="13242" y="7"/>
                      <a:pt x="13241" y="7"/>
                    </a:cubicBezTo>
                    <a:lnTo>
                      <a:pt x="13241" y="7"/>
                    </a:lnTo>
                    <a:cubicBezTo>
                      <a:pt x="13240" y="7"/>
                      <a:pt x="13239" y="6"/>
                      <a:pt x="13239" y="5"/>
                    </a:cubicBezTo>
                    <a:cubicBezTo>
                      <a:pt x="13239" y="3"/>
                      <a:pt x="13240" y="3"/>
                      <a:pt x="13241" y="3"/>
                    </a:cubicBezTo>
                    <a:close/>
                    <a:moveTo>
                      <a:pt x="13249" y="3"/>
                    </a:moveTo>
                    <a:lnTo>
                      <a:pt x="13249" y="3"/>
                    </a:lnTo>
                    <a:cubicBezTo>
                      <a:pt x="13250" y="3"/>
                      <a:pt x="13251" y="3"/>
                      <a:pt x="13251" y="5"/>
                    </a:cubicBezTo>
                    <a:cubicBezTo>
                      <a:pt x="13251" y="6"/>
                      <a:pt x="13250" y="7"/>
                      <a:pt x="13249" y="7"/>
                    </a:cubicBezTo>
                    <a:lnTo>
                      <a:pt x="13249" y="7"/>
                    </a:lnTo>
                    <a:cubicBezTo>
                      <a:pt x="13248" y="7"/>
                      <a:pt x="13247" y="6"/>
                      <a:pt x="13247" y="5"/>
                    </a:cubicBezTo>
                    <a:cubicBezTo>
                      <a:pt x="13247" y="3"/>
                      <a:pt x="13248" y="3"/>
                      <a:pt x="13249" y="3"/>
                    </a:cubicBezTo>
                    <a:close/>
                    <a:moveTo>
                      <a:pt x="13257" y="3"/>
                    </a:moveTo>
                    <a:lnTo>
                      <a:pt x="13257" y="3"/>
                    </a:lnTo>
                    <a:cubicBezTo>
                      <a:pt x="13258" y="3"/>
                      <a:pt x="13259" y="3"/>
                      <a:pt x="13259" y="5"/>
                    </a:cubicBezTo>
                    <a:cubicBezTo>
                      <a:pt x="13259" y="6"/>
                      <a:pt x="13258" y="7"/>
                      <a:pt x="13257" y="7"/>
                    </a:cubicBezTo>
                    <a:lnTo>
                      <a:pt x="13257" y="7"/>
                    </a:lnTo>
                    <a:cubicBezTo>
                      <a:pt x="13256" y="7"/>
                      <a:pt x="13255" y="6"/>
                      <a:pt x="13255" y="5"/>
                    </a:cubicBezTo>
                    <a:cubicBezTo>
                      <a:pt x="13255" y="3"/>
                      <a:pt x="13256" y="3"/>
                      <a:pt x="13257" y="3"/>
                    </a:cubicBezTo>
                    <a:close/>
                    <a:moveTo>
                      <a:pt x="13265" y="3"/>
                    </a:moveTo>
                    <a:lnTo>
                      <a:pt x="13265" y="3"/>
                    </a:lnTo>
                    <a:cubicBezTo>
                      <a:pt x="13266" y="3"/>
                      <a:pt x="13267" y="3"/>
                      <a:pt x="13267" y="5"/>
                    </a:cubicBezTo>
                    <a:cubicBezTo>
                      <a:pt x="13267" y="6"/>
                      <a:pt x="13266" y="7"/>
                      <a:pt x="13265" y="7"/>
                    </a:cubicBezTo>
                    <a:lnTo>
                      <a:pt x="13265" y="7"/>
                    </a:lnTo>
                    <a:cubicBezTo>
                      <a:pt x="13264" y="7"/>
                      <a:pt x="13263" y="6"/>
                      <a:pt x="13263" y="5"/>
                    </a:cubicBezTo>
                    <a:cubicBezTo>
                      <a:pt x="13263" y="3"/>
                      <a:pt x="13264" y="3"/>
                      <a:pt x="13265" y="3"/>
                    </a:cubicBezTo>
                    <a:close/>
                    <a:moveTo>
                      <a:pt x="13273" y="3"/>
                    </a:moveTo>
                    <a:lnTo>
                      <a:pt x="13273" y="3"/>
                    </a:lnTo>
                    <a:cubicBezTo>
                      <a:pt x="13274" y="3"/>
                      <a:pt x="13275" y="3"/>
                      <a:pt x="13275" y="5"/>
                    </a:cubicBezTo>
                    <a:cubicBezTo>
                      <a:pt x="13275" y="6"/>
                      <a:pt x="13274" y="7"/>
                      <a:pt x="13273" y="7"/>
                    </a:cubicBezTo>
                    <a:lnTo>
                      <a:pt x="13273" y="7"/>
                    </a:lnTo>
                    <a:cubicBezTo>
                      <a:pt x="13272" y="7"/>
                      <a:pt x="13271" y="6"/>
                      <a:pt x="13271" y="5"/>
                    </a:cubicBezTo>
                    <a:cubicBezTo>
                      <a:pt x="13271" y="3"/>
                      <a:pt x="13272" y="3"/>
                      <a:pt x="13273" y="3"/>
                    </a:cubicBezTo>
                    <a:close/>
                    <a:moveTo>
                      <a:pt x="13281" y="3"/>
                    </a:moveTo>
                    <a:lnTo>
                      <a:pt x="13281" y="3"/>
                    </a:lnTo>
                    <a:cubicBezTo>
                      <a:pt x="13282" y="3"/>
                      <a:pt x="13283" y="3"/>
                      <a:pt x="13283" y="5"/>
                    </a:cubicBezTo>
                    <a:cubicBezTo>
                      <a:pt x="13283" y="6"/>
                      <a:pt x="13282" y="7"/>
                      <a:pt x="13281" y="7"/>
                    </a:cubicBezTo>
                    <a:lnTo>
                      <a:pt x="13281" y="7"/>
                    </a:lnTo>
                    <a:cubicBezTo>
                      <a:pt x="13280" y="7"/>
                      <a:pt x="13279" y="6"/>
                      <a:pt x="13279" y="5"/>
                    </a:cubicBezTo>
                    <a:cubicBezTo>
                      <a:pt x="13279" y="3"/>
                      <a:pt x="13280" y="3"/>
                      <a:pt x="13281" y="3"/>
                    </a:cubicBezTo>
                    <a:close/>
                    <a:moveTo>
                      <a:pt x="13289" y="3"/>
                    </a:moveTo>
                    <a:lnTo>
                      <a:pt x="13289" y="3"/>
                    </a:lnTo>
                    <a:cubicBezTo>
                      <a:pt x="13290" y="3"/>
                      <a:pt x="13291" y="3"/>
                      <a:pt x="13291" y="5"/>
                    </a:cubicBezTo>
                    <a:cubicBezTo>
                      <a:pt x="13291" y="6"/>
                      <a:pt x="13290" y="7"/>
                      <a:pt x="13289" y="7"/>
                    </a:cubicBezTo>
                    <a:lnTo>
                      <a:pt x="13289" y="7"/>
                    </a:lnTo>
                    <a:cubicBezTo>
                      <a:pt x="13288" y="7"/>
                      <a:pt x="13287" y="6"/>
                      <a:pt x="13287" y="5"/>
                    </a:cubicBezTo>
                    <a:cubicBezTo>
                      <a:pt x="13287" y="3"/>
                      <a:pt x="13288" y="3"/>
                      <a:pt x="13289" y="3"/>
                    </a:cubicBezTo>
                    <a:close/>
                    <a:moveTo>
                      <a:pt x="13297" y="3"/>
                    </a:moveTo>
                    <a:lnTo>
                      <a:pt x="13297" y="3"/>
                    </a:lnTo>
                    <a:cubicBezTo>
                      <a:pt x="13298" y="3"/>
                      <a:pt x="13299" y="3"/>
                      <a:pt x="13299" y="5"/>
                    </a:cubicBezTo>
                    <a:cubicBezTo>
                      <a:pt x="13299" y="6"/>
                      <a:pt x="13298" y="7"/>
                      <a:pt x="13297" y="7"/>
                    </a:cubicBezTo>
                    <a:lnTo>
                      <a:pt x="13297" y="7"/>
                    </a:lnTo>
                    <a:cubicBezTo>
                      <a:pt x="13296" y="7"/>
                      <a:pt x="13295" y="6"/>
                      <a:pt x="13295" y="5"/>
                    </a:cubicBezTo>
                    <a:cubicBezTo>
                      <a:pt x="13295" y="3"/>
                      <a:pt x="13296" y="3"/>
                      <a:pt x="13297" y="3"/>
                    </a:cubicBezTo>
                    <a:close/>
                    <a:moveTo>
                      <a:pt x="13305" y="3"/>
                    </a:moveTo>
                    <a:lnTo>
                      <a:pt x="13305" y="3"/>
                    </a:lnTo>
                    <a:cubicBezTo>
                      <a:pt x="13306" y="3"/>
                      <a:pt x="13307" y="3"/>
                      <a:pt x="13307" y="5"/>
                    </a:cubicBezTo>
                    <a:cubicBezTo>
                      <a:pt x="13307" y="6"/>
                      <a:pt x="13306" y="7"/>
                      <a:pt x="13305" y="7"/>
                    </a:cubicBezTo>
                    <a:lnTo>
                      <a:pt x="13305" y="7"/>
                    </a:lnTo>
                    <a:cubicBezTo>
                      <a:pt x="13304" y="7"/>
                      <a:pt x="13303" y="6"/>
                      <a:pt x="13303" y="5"/>
                    </a:cubicBezTo>
                    <a:cubicBezTo>
                      <a:pt x="13303" y="3"/>
                      <a:pt x="13304" y="3"/>
                      <a:pt x="13305" y="3"/>
                    </a:cubicBezTo>
                    <a:close/>
                    <a:moveTo>
                      <a:pt x="13313" y="3"/>
                    </a:moveTo>
                    <a:lnTo>
                      <a:pt x="13313" y="3"/>
                    </a:lnTo>
                    <a:cubicBezTo>
                      <a:pt x="13314" y="3"/>
                      <a:pt x="13315" y="3"/>
                      <a:pt x="13315" y="5"/>
                    </a:cubicBezTo>
                    <a:cubicBezTo>
                      <a:pt x="13315" y="6"/>
                      <a:pt x="13314" y="7"/>
                      <a:pt x="13313" y="7"/>
                    </a:cubicBezTo>
                    <a:lnTo>
                      <a:pt x="13313" y="7"/>
                    </a:lnTo>
                    <a:cubicBezTo>
                      <a:pt x="13312" y="7"/>
                      <a:pt x="13311" y="6"/>
                      <a:pt x="13311" y="5"/>
                    </a:cubicBezTo>
                    <a:cubicBezTo>
                      <a:pt x="13311" y="3"/>
                      <a:pt x="13312" y="3"/>
                      <a:pt x="13313" y="3"/>
                    </a:cubicBezTo>
                    <a:close/>
                    <a:moveTo>
                      <a:pt x="13321" y="3"/>
                    </a:moveTo>
                    <a:lnTo>
                      <a:pt x="13321" y="3"/>
                    </a:lnTo>
                    <a:cubicBezTo>
                      <a:pt x="13322" y="3"/>
                      <a:pt x="13323" y="3"/>
                      <a:pt x="13323" y="5"/>
                    </a:cubicBezTo>
                    <a:cubicBezTo>
                      <a:pt x="13323" y="6"/>
                      <a:pt x="13322" y="7"/>
                      <a:pt x="13321" y="7"/>
                    </a:cubicBezTo>
                    <a:lnTo>
                      <a:pt x="13321" y="7"/>
                    </a:lnTo>
                    <a:cubicBezTo>
                      <a:pt x="13320" y="7"/>
                      <a:pt x="13319" y="6"/>
                      <a:pt x="13319" y="5"/>
                    </a:cubicBezTo>
                    <a:cubicBezTo>
                      <a:pt x="13319" y="3"/>
                      <a:pt x="13320" y="3"/>
                      <a:pt x="13321" y="3"/>
                    </a:cubicBezTo>
                    <a:close/>
                    <a:moveTo>
                      <a:pt x="13329" y="3"/>
                    </a:moveTo>
                    <a:lnTo>
                      <a:pt x="13329" y="3"/>
                    </a:lnTo>
                    <a:cubicBezTo>
                      <a:pt x="13330" y="3"/>
                      <a:pt x="13331" y="3"/>
                      <a:pt x="13331" y="5"/>
                    </a:cubicBezTo>
                    <a:cubicBezTo>
                      <a:pt x="13331" y="6"/>
                      <a:pt x="13330" y="7"/>
                      <a:pt x="13329" y="7"/>
                    </a:cubicBezTo>
                    <a:lnTo>
                      <a:pt x="13329" y="7"/>
                    </a:lnTo>
                    <a:cubicBezTo>
                      <a:pt x="13328" y="7"/>
                      <a:pt x="13327" y="6"/>
                      <a:pt x="13327" y="5"/>
                    </a:cubicBezTo>
                    <a:cubicBezTo>
                      <a:pt x="13327" y="3"/>
                      <a:pt x="13328" y="3"/>
                      <a:pt x="13329" y="3"/>
                    </a:cubicBezTo>
                    <a:close/>
                    <a:moveTo>
                      <a:pt x="13337" y="3"/>
                    </a:moveTo>
                    <a:lnTo>
                      <a:pt x="13337" y="3"/>
                    </a:lnTo>
                    <a:cubicBezTo>
                      <a:pt x="13338" y="3"/>
                      <a:pt x="13339" y="3"/>
                      <a:pt x="13339" y="5"/>
                    </a:cubicBezTo>
                    <a:cubicBezTo>
                      <a:pt x="13339" y="6"/>
                      <a:pt x="13338" y="7"/>
                      <a:pt x="13337" y="7"/>
                    </a:cubicBezTo>
                    <a:lnTo>
                      <a:pt x="13337" y="7"/>
                    </a:lnTo>
                    <a:cubicBezTo>
                      <a:pt x="13336" y="7"/>
                      <a:pt x="13335" y="6"/>
                      <a:pt x="13335" y="5"/>
                    </a:cubicBezTo>
                    <a:cubicBezTo>
                      <a:pt x="13335" y="3"/>
                      <a:pt x="13336" y="3"/>
                      <a:pt x="13337" y="3"/>
                    </a:cubicBezTo>
                    <a:close/>
                    <a:moveTo>
                      <a:pt x="13345" y="3"/>
                    </a:moveTo>
                    <a:lnTo>
                      <a:pt x="13345" y="3"/>
                    </a:lnTo>
                    <a:cubicBezTo>
                      <a:pt x="13346" y="3"/>
                      <a:pt x="13347" y="3"/>
                      <a:pt x="13347" y="5"/>
                    </a:cubicBezTo>
                    <a:cubicBezTo>
                      <a:pt x="13347" y="6"/>
                      <a:pt x="13346" y="7"/>
                      <a:pt x="13345" y="7"/>
                    </a:cubicBezTo>
                    <a:lnTo>
                      <a:pt x="13345" y="7"/>
                    </a:lnTo>
                    <a:cubicBezTo>
                      <a:pt x="13344" y="7"/>
                      <a:pt x="13343" y="6"/>
                      <a:pt x="13343" y="5"/>
                    </a:cubicBezTo>
                    <a:cubicBezTo>
                      <a:pt x="13343" y="3"/>
                      <a:pt x="13344" y="3"/>
                      <a:pt x="13345" y="3"/>
                    </a:cubicBezTo>
                    <a:close/>
                    <a:moveTo>
                      <a:pt x="13353" y="3"/>
                    </a:moveTo>
                    <a:lnTo>
                      <a:pt x="13353" y="3"/>
                    </a:lnTo>
                    <a:cubicBezTo>
                      <a:pt x="13354" y="3"/>
                      <a:pt x="13355" y="3"/>
                      <a:pt x="13355" y="5"/>
                    </a:cubicBezTo>
                    <a:cubicBezTo>
                      <a:pt x="13355" y="6"/>
                      <a:pt x="13354" y="7"/>
                      <a:pt x="13353" y="7"/>
                    </a:cubicBezTo>
                    <a:lnTo>
                      <a:pt x="13353" y="7"/>
                    </a:lnTo>
                    <a:cubicBezTo>
                      <a:pt x="13352" y="7"/>
                      <a:pt x="13351" y="6"/>
                      <a:pt x="13351" y="5"/>
                    </a:cubicBezTo>
                    <a:cubicBezTo>
                      <a:pt x="13351" y="3"/>
                      <a:pt x="13352" y="3"/>
                      <a:pt x="13353" y="3"/>
                    </a:cubicBezTo>
                    <a:close/>
                    <a:moveTo>
                      <a:pt x="13361" y="3"/>
                    </a:moveTo>
                    <a:lnTo>
                      <a:pt x="13361" y="3"/>
                    </a:lnTo>
                    <a:cubicBezTo>
                      <a:pt x="13362" y="3"/>
                      <a:pt x="13363" y="3"/>
                      <a:pt x="13363" y="5"/>
                    </a:cubicBezTo>
                    <a:cubicBezTo>
                      <a:pt x="13363" y="6"/>
                      <a:pt x="13362" y="7"/>
                      <a:pt x="13361" y="7"/>
                    </a:cubicBezTo>
                    <a:lnTo>
                      <a:pt x="13361" y="7"/>
                    </a:lnTo>
                    <a:cubicBezTo>
                      <a:pt x="13360" y="7"/>
                      <a:pt x="13359" y="6"/>
                      <a:pt x="13359" y="5"/>
                    </a:cubicBezTo>
                    <a:cubicBezTo>
                      <a:pt x="13359" y="3"/>
                      <a:pt x="13360" y="3"/>
                      <a:pt x="13361" y="3"/>
                    </a:cubicBezTo>
                    <a:close/>
                    <a:moveTo>
                      <a:pt x="13369" y="3"/>
                    </a:moveTo>
                    <a:lnTo>
                      <a:pt x="13369" y="3"/>
                    </a:lnTo>
                    <a:cubicBezTo>
                      <a:pt x="13370" y="3"/>
                      <a:pt x="13371" y="3"/>
                      <a:pt x="13371" y="5"/>
                    </a:cubicBezTo>
                    <a:cubicBezTo>
                      <a:pt x="13371" y="6"/>
                      <a:pt x="13370" y="7"/>
                      <a:pt x="13369" y="7"/>
                    </a:cubicBezTo>
                    <a:lnTo>
                      <a:pt x="13369" y="7"/>
                    </a:lnTo>
                    <a:cubicBezTo>
                      <a:pt x="13368" y="7"/>
                      <a:pt x="13367" y="6"/>
                      <a:pt x="13367" y="5"/>
                    </a:cubicBezTo>
                    <a:cubicBezTo>
                      <a:pt x="13367" y="3"/>
                      <a:pt x="13368" y="3"/>
                      <a:pt x="13369" y="3"/>
                    </a:cubicBezTo>
                    <a:close/>
                    <a:moveTo>
                      <a:pt x="13377" y="3"/>
                    </a:moveTo>
                    <a:lnTo>
                      <a:pt x="13377" y="3"/>
                    </a:lnTo>
                    <a:cubicBezTo>
                      <a:pt x="13378" y="3"/>
                      <a:pt x="13379" y="3"/>
                      <a:pt x="13379" y="5"/>
                    </a:cubicBezTo>
                    <a:cubicBezTo>
                      <a:pt x="13379" y="6"/>
                      <a:pt x="13378" y="7"/>
                      <a:pt x="13377" y="7"/>
                    </a:cubicBezTo>
                    <a:lnTo>
                      <a:pt x="13377" y="7"/>
                    </a:lnTo>
                    <a:cubicBezTo>
                      <a:pt x="13376" y="7"/>
                      <a:pt x="13375" y="6"/>
                      <a:pt x="13375" y="5"/>
                    </a:cubicBezTo>
                    <a:cubicBezTo>
                      <a:pt x="13375" y="3"/>
                      <a:pt x="13376" y="3"/>
                      <a:pt x="13377" y="3"/>
                    </a:cubicBezTo>
                    <a:close/>
                    <a:moveTo>
                      <a:pt x="13385" y="3"/>
                    </a:moveTo>
                    <a:lnTo>
                      <a:pt x="13385" y="3"/>
                    </a:lnTo>
                    <a:cubicBezTo>
                      <a:pt x="13386" y="3"/>
                      <a:pt x="13387" y="3"/>
                      <a:pt x="13387" y="5"/>
                    </a:cubicBezTo>
                    <a:cubicBezTo>
                      <a:pt x="13387" y="6"/>
                      <a:pt x="13386" y="7"/>
                      <a:pt x="13385" y="7"/>
                    </a:cubicBezTo>
                    <a:lnTo>
                      <a:pt x="13385" y="7"/>
                    </a:lnTo>
                    <a:cubicBezTo>
                      <a:pt x="13384" y="7"/>
                      <a:pt x="13383" y="6"/>
                      <a:pt x="13383" y="5"/>
                    </a:cubicBezTo>
                    <a:cubicBezTo>
                      <a:pt x="13383" y="3"/>
                      <a:pt x="13384" y="3"/>
                      <a:pt x="13385" y="3"/>
                    </a:cubicBezTo>
                    <a:close/>
                    <a:moveTo>
                      <a:pt x="13393" y="3"/>
                    </a:moveTo>
                    <a:lnTo>
                      <a:pt x="13393" y="3"/>
                    </a:lnTo>
                    <a:cubicBezTo>
                      <a:pt x="13394" y="3"/>
                      <a:pt x="13395" y="3"/>
                      <a:pt x="13395" y="5"/>
                    </a:cubicBezTo>
                    <a:cubicBezTo>
                      <a:pt x="13395" y="6"/>
                      <a:pt x="13394" y="7"/>
                      <a:pt x="13393" y="7"/>
                    </a:cubicBezTo>
                    <a:lnTo>
                      <a:pt x="13393" y="7"/>
                    </a:lnTo>
                    <a:cubicBezTo>
                      <a:pt x="13392" y="7"/>
                      <a:pt x="13391" y="6"/>
                      <a:pt x="13391" y="5"/>
                    </a:cubicBezTo>
                    <a:cubicBezTo>
                      <a:pt x="13391" y="3"/>
                      <a:pt x="13392" y="3"/>
                      <a:pt x="13393" y="3"/>
                    </a:cubicBezTo>
                    <a:close/>
                    <a:moveTo>
                      <a:pt x="13401" y="3"/>
                    </a:moveTo>
                    <a:lnTo>
                      <a:pt x="13401" y="3"/>
                    </a:lnTo>
                    <a:cubicBezTo>
                      <a:pt x="13402" y="3"/>
                      <a:pt x="13403" y="3"/>
                      <a:pt x="13403" y="5"/>
                    </a:cubicBezTo>
                    <a:cubicBezTo>
                      <a:pt x="13403" y="6"/>
                      <a:pt x="13402" y="7"/>
                      <a:pt x="13401" y="7"/>
                    </a:cubicBezTo>
                    <a:lnTo>
                      <a:pt x="13401" y="7"/>
                    </a:lnTo>
                    <a:cubicBezTo>
                      <a:pt x="13400" y="7"/>
                      <a:pt x="13399" y="6"/>
                      <a:pt x="13399" y="5"/>
                    </a:cubicBezTo>
                    <a:cubicBezTo>
                      <a:pt x="13399" y="3"/>
                      <a:pt x="13400" y="3"/>
                      <a:pt x="13401" y="3"/>
                    </a:cubicBezTo>
                    <a:close/>
                    <a:moveTo>
                      <a:pt x="13409" y="3"/>
                    </a:moveTo>
                    <a:lnTo>
                      <a:pt x="13409" y="3"/>
                    </a:lnTo>
                    <a:cubicBezTo>
                      <a:pt x="13410" y="3"/>
                      <a:pt x="13411" y="3"/>
                      <a:pt x="13411" y="5"/>
                    </a:cubicBezTo>
                    <a:cubicBezTo>
                      <a:pt x="13411" y="6"/>
                      <a:pt x="13410" y="7"/>
                      <a:pt x="13409" y="7"/>
                    </a:cubicBezTo>
                    <a:lnTo>
                      <a:pt x="13409" y="7"/>
                    </a:lnTo>
                    <a:cubicBezTo>
                      <a:pt x="13408" y="7"/>
                      <a:pt x="13407" y="6"/>
                      <a:pt x="13407" y="5"/>
                    </a:cubicBezTo>
                    <a:cubicBezTo>
                      <a:pt x="13407" y="3"/>
                      <a:pt x="13408" y="3"/>
                      <a:pt x="13409" y="3"/>
                    </a:cubicBezTo>
                    <a:close/>
                    <a:moveTo>
                      <a:pt x="13417" y="3"/>
                    </a:moveTo>
                    <a:lnTo>
                      <a:pt x="13417" y="3"/>
                    </a:lnTo>
                    <a:cubicBezTo>
                      <a:pt x="13418" y="3"/>
                      <a:pt x="13419" y="3"/>
                      <a:pt x="13419" y="5"/>
                    </a:cubicBezTo>
                    <a:cubicBezTo>
                      <a:pt x="13419" y="6"/>
                      <a:pt x="13418" y="7"/>
                      <a:pt x="13417" y="7"/>
                    </a:cubicBezTo>
                    <a:lnTo>
                      <a:pt x="13417" y="7"/>
                    </a:lnTo>
                    <a:cubicBezTo>
                      <a:pt x="13416" y="7"/>
                      <a:pt x="13415" y="6"/>
                      <a:pt x="13415" y="5"/>
                    </a:cubicBezTo>
                    <a:cubicBezTo>
                      <a:pt x="13415" y="3"/>
                      <a:pt x="13416" y="3"/>
                      <a:pt x="13417" y="3"/>
                    </a:cubicBezTo>
                    <a:close/>
                    <a:moveTo>
                      <a:pt x="13425" y="3"/>
                    </a:moveTo>
                    <a:lnTo>
                      <a:pt x="13425" y="3"/>
                    </a:lnTo>
                    <a:cubicBezTo>
                      <a:pt x="13426" y="3"/>
                      <a:pt x="13427" y="3"/>
                      <a:pt x="13427" y="5"/>
                    </a:cubicBezTo>
                    <a:cubicBezTo>
                      <a:pt x="13427" y="6"/>
                      <a:pt x="13426" y="7"/>
                      <a:pt x="13425" y="7"/>
                    </a:cubicBezTo>
                    <a:lnTo>
                      <a:pt x="13425" y="7"/>
                    </a:lnTo>
                    <a:cubicBezTo>
                      <a:pt x="13424" y="7"/>
                      <a:pt x="13423" y="6"/>
                      <a:pt x="13423" y="5"/>
                    </a:cubicBezTo>
                    <a:cubicBezTo>
                      <a:pt x="13423" y="3"/>
                      <a:pt x="13424" y="3"/>
                      <a:pt x="13425" y="3"/>
                    </a:cubicBezTo>
                    <a:close/>
                    <a:moveTo>
                      <a:pt x="13433" y="3"/>
                    </a:moveTo>
                    <a:lnTo>
                      <a:pt x="13433" y="3"/>
                    </a:lnTo>
                    <a:cubicBezTo>
                      <a:pt x="13434" y="3"/>
                      <a:pt x="13435" y="3"/>
                      <a:pt x="13435" y="5"/>
                    </a:cubicBezTo>
                    <a:cubicBezTo>
                      <a:pt x="13435" y="6"/>
                      <a:pt x="13434" y="7"/>
                      <a:pt x="13433" y="7"/>
                    </a:cubicBezTo>
                    <a:lnTo>
                      <a:pt x="13433" y="7"/>
                    </a:lnTo>
                    <a:cubicBezTo>
                      <a:pt x="13432" y="7"/>
                      <a:pt x="13431" y="6"/>
                      <a:pt x="13431" y="5"/>
                    </a:cubicBezTo>
                    <a:cubicBezTo>
                      <a:pt x="13431" y="3"/>
                      <a:pt x="13432" y="3"/>
                      <a:pt x="13433" y="3"/>
                    </a:cubicBezTo>
                    <a:close/>
                    <a:moveTo>
                      <a:pt x="13441" y="3"/>
                    </a:moveTo>
                    <a:lnTo>
                      <a:pt x="13441" y="3"/>
                    </a:lnTo>
                    <a:cubicBezTo>
                      <a:pt x="13442" y="3"/>
                      <a:pt x="13443" y="3"/>
                      <a:pt x="13443" y="5"/>
                    </a:cubicBezTo>
                    <a:cubicBezTo>
                      <a:pt x="13443" y="6"/>
                      <a:pt x="13442" y="7"/>
                      <a:pt x="13441" y="7"/>
                    </a:cubicBezTo>
                    <a:lnTo>
                      <a:pt x="13441" y="7"/>
                    </a:lnTo>
                    <a:cubicBezTo>
                      <a:pt x="13440" y="7"/>
                      <a:pt x="13439" y="6"/>
                      <a:pt x="13439" y="5"/>
                    </a:cubicBezTo>
                    <a:cubicBezTo>
                      <a:pt x="13439" y="3"/>
                      <a:pt x="13440" y="3"/>
                      <a:pt x="13441" y="3"/>
                    </a:cubicBezTo>
                    <a:close/>
                    <a:moveTo>
                      <a:pt x="13449" y="3"/>
                    </a:moveTo>
                    <a:lnTo>
                      <a:pt x="13449" y="3"/>
                    </a:lnTo>
                    <a:cubicBezTo>
                      <a:pt x="13450" y="3"/>
                      <a:pt x="13451" y="3"/>
                      <a:pt x="13451" y="5"/>
                    </a:cubicBezTo>
                    <a:cubicBezTo>
                      <a:pt x="13451" y="6"/>
                      <a:pt x="13450" y="7"/>
                      <a:pt x="13449" y="7"/>
                    </a:cubicBezTo>
                    <a:lnTo>
                      <a:pt x="13449" y="7"/>
                    </a:lnTo>
                    <a:cubicBezTo>
                      <a:pt x="13448" y="7"/>
                      <a:pt x="13447" y="6"/>
                      <a:pt x="13447" y="5"/>
                    </a:cubicBezTo>
                    <a:cubicBezTo>
                      <a:pt x="13447" y="3"/>
                      <a:pt x="13448" y="3"/>
                      <a:pt x="13449" y="3"/>
                    </a:cubicBezTo>
                    <a:close/>
                    <a:moveTo>
                      <a:pt x="13457" y="3"/>
                    </a:moveTo>
                    <a:lnTo>
                      <a:pt x="13457" y="3"/>
                    </a:lnTo>
                    <a:cubicBezTo>
                      <a:pt x="13458" y="3"/>
                      <a:pt x="13459" y="3"/>
                      <a:pt x="13459" y="5"/>
                    </a:cubicBezTo>
                    <a:cubicBezTo>
                      <a:pt x="13459" y="6"/>
                      <a:pt x="13458" y="7"/>
                      <a:pt x="13457" y="7"/>
                    </a:cubicBezTo>
                    <a:lnTo>
                      <a:pt x="13457" y="7"/>
                    </a:lnTo>
                    <a:cubicBezTo>
                      <a:pt x="13456" y="7"/>
                      <a:pt x="13455" y="6"/>
                      <a:pt x="13455" y="5"/>
                    </a:cubicBezTo>
                    <a:cubicBezTo>
                      <a:pt x="13455" y="3"/>
                      <a:pt x="13456" y="3"/>
                      <a:pt x="13457" y="3"/>
                    </a:cubicBezTo>
                    <a:close/>
                    <a:moveTo>
                      <a:pt x="13465" y="3"/>
                    </a:moveTo>
                    <a:lnTo>
                      <a:pt x="13465" y="3"/>
                    </a:lnTo>
                    <a:cubicBezTo>
                      <a:pt x="13466" y="3"/>
                      <a:pt x="13467" y="3"/>
                      <a:pt x="13467" y="5"/>
                    </a:cubicBezTo>
                    <a:cubicBezTo>
                      <a:pt x="13467" y="6"/>
                      <a:pt x="13466" y="7"/>
                      <a:pt x="13465" y="7"/>
                    </a:cubicBezTo>
                    <a:lnTo>
                      <a:pt x="13465" y="7"/>
                    </a:lnTo>
                    <a:cubicBezTo>
                      <a:pt x="13464" y="7"/>
                      <a:pt x="13463" y="6"/>
                      <a:pt x="13463" y="5"/>
                    </a:cubicBezTo>
                    <a:cubicBezTo>
                      <a:pt x="13463" y="3"/>
                      <a:pt x="13464" y="3"/>
                      <a:pt x="13465" y="3"/>
                    </a:cubicBezTo>
                    <a:close/>
                    <a:moveTo>
                      <a:pt x="13473" y="3"/>
                    </a:moveTo>
                    <a:lnTo>
                      <a:pt x="13473" y="3"/>
                    </a:lnTo>
                    <a:cubicBezTo>
                      <a:pt x="13474" y="3"/>
                      <a:pt x="13475" y="3"/>
                      <a:pt x="13475" y="5"/>
                    </a:cubicBezTo>
                    <a:cubicBezTo>
                      <a:pt x="13475" y="6"/>
                      <a:pt x="13474" y="7"/>
                      <a:pt x="13473" y="7"/>
                    </a:cubicBezTo>
                    <a:lnTo>
                      <a:pt x="13473" y="7"/>
                    </a:lnTo>
                    <a:cubicBezTo>
                      <a:pt x="13472" y="7"/>
                      <a:pt x="13471" y="6"/>
                      <a:pt x="13471" y="5"/>
                    </a:cubicBezTo>
                    <a:cubicBezTo>
                      <a:pt x="13471" y="3"/>
                      <a:pt x="13472" y="3"/>
                      <a:pt x="13473" y="3"/>
                    </a:cubicBezTo>
                    <a:close/>
                    <a:moveTo>
                      <a:pt x="13481" y="3"/>
                    </a:moveTo>
                    <a:lnTo>
                      <a:pt x="13481" y="3"/>
                    </a:lnTo>
                    <a:cubicBezTo>
                      <a:pt x="13482" y="3"/>
                      <a:pt x="13483" y="3"/>
                      <a:pt x="13483" y="5"/>
                    </a:cubicBezTo>
                    <a:cubicBezTo>
                      <a:pt x="13483" y="6"/>
                      <a:pt x="13482" y="7"/>
                      <a:pt x="13481" y="7"/>
                    </a:cubicBezTo>
                    <a:lnTo>
                      <a:pt x="13481" y="7"/>
                    </a:lnTo>
                    <a:cubicBezTo>
                      <a:pt x="13480" y="7"/>
                      <a:pt x="13479" y="6"/>
                      <a:pt x="13479" y="5"/>
                    </a:cubicBezTo>
                    <a:cubicBezTo>
                      <a:pt x="13479" y="3"/>
                      <a:pt x="13480" y="3"/>
                      <a:pt x="13481" y="3"/>
                    </a:cubicBezTo>
                    <a:close/>
                    <a:moveTo>
                      <a:pt x="13489" y="3"/>
                    </a:moveTo>
                    <a:lnTo>
                      <a:pt x="13489" y="3"/>
                    </a:lnTo>
                    <a:cubicBezTo>
                      <a:pt x="13490" y="3"/>
                      <a:pt x="13491" y="3"/>
                      <a:pt x="13491" y="5"/>
                    </a:cubicBezTo>
                    <a:cubicBezTo>
                      <a:pt x="13491" y="6"/>
                      <a:pt x="13490" y="7"/>
                      <a:pt x="13489" y="7"/>
                    </a:cubicBezTo>
                    <a:lnTo>
                      <a:pt x="13489" y="7"/>
                    </a:lnTo>
                    <a:cubicBezTo>
                      <a:pt x="13488" y="7"/>
                      <a:pt x="13487" y="6"/>
                      <a:pt x="13487" y="5"/>
                    </a:cubicBezTo>
                    <a:cubicBezTo>
                      <a:pt x="13487" y="3"/>
                      <a:pt x="13488" y="3"/>
                      <a:pt x="13489" y="3"/>
                    </a:cubicBezTo>
                    <a:close/>
                    <a:moveTo>
                      <a:pt x="13497" y="3"/>
                    </a:moveTo>
                    <a:lnTo>
                      <a:pt x="13497" y="3"/>
                    </a:lnTo>
                    <a:cubicBezTo>
                      <a:pt x="13498" y="3"/>
                      <a:pt x="13499" y="3"/>
                      <a:pt x="13499" y="5"/>
                    </a:cubicBezTo>
                    <a:cubicBezTo>
                      <a:pt x="13499" y="6"/>
                      <a:pt x="13498" y="7"/>
                      <a:pt x="13497" y="7"/>
                    </a:cubicBezTo>
                    <a:lnTo>
                      <a:pt x="13497" y="7"/>
                    </a:lnTo>
                    <a:cubicBezTo>
                      <a:pt x="13496" y="7"/>
                      <a:pt x="13495" y="6"/>
                      <a:pt x="13495" y="5"/>
                    </a:cubicBezTo>
                    <a:cubicBezTo>
                      <a:pt x="13495" y="3"/>
                      <a:pt x="13496" y="3"/>
                      <a:pt x="13497" y="3"/>
                    </a:cubicBezTo>
                    <a:close/>
                    <a:moveTo>
                      <a:pt x="13505" y="3"/>
                    </a:moveTo>
                    <a:lnTo>
                      <a:pt x="13505" y="3"/>
                    </a:lnTo>
                    <a:cubicBezTo>
                      <a:pt x="13506" y="3"/>
                      <a:pt x="13507" y="3"/>
                      <a:pt x="13507" y="5"/>
                    </a:cubicBezTo>
                    <a:cubicBezTo>
                      <a:pt x="13507" y="6"/>
                      <a:pt x="13506" y="7"/>
                      <a:pt x="13505" y="7"/>
                    </a:cubicBezTo>
                    <a:lnTo>
                      <a:pt x="13505" y="7"/>
                    </a:lnTo>
                    <a:cubicBezTo>
                      <a:pt x="13504" y="7"/>
                      <a:pt x="13503" y="6"/>
                      <a:pt x="13503" y="5"/>
                    </a:cubicBezTo>
                    <a:cubicBezTo>
                      <a:pt x="13503" y="3"/>
                      <a:pt x="13504" y="3"/>
                      <a:pt x="13505" y="3"/>
                    </a:cubicBezTo>
                    <a:close/>
                    <a:moveTo>
                      <a:pt x="13513" y="3"/>
                    </a:moveTo>
                    <a:lnTo>
                      <a:pt x="13513" y="3"/>
                    </a:lnTo>
                    <a:cubicBezTo>
                      <a:pt x="13514" y="3"/>
                      <a:pt x="13515" y="3"/>
                      <a:pt x="13515" y="5"/>
                    </a:cubicBezTo>
                    <a:cubicBezTo>
                      <a:pt x="13515" y="6"/>
                      <a:pt x="13514" y="7"/>
                      <a:pt x="13513" y="7"/>
                    </a:cubicBezTo>
                    <a:lnTo>
                      <a:pt x="13513" y="7"/>
                    </a:lnTo>
                    <a:cubicBezTo>
                      <a:pt x="13512" y="7"/>
                      <a:pt x="13511" y="6"/>
                      <a:pt x="13511" y="5"/>
                    </a:cubicBezTo>
                    <a:cubicBezTo>
                      <a:pt x="13511" y="3"/>
                      <a:pt x="13512" y="3"/>
                      <a:pt x="13513" y="3"/>
                    </a:cubicBezTo>
                    <a:close/>
                    <a:moveTo>
                      <a:pt x="13521" y="3"/>
                    </a:moveTo>
                    <a:lnTo>
                      <a:pt x="13521" y="3"/>
                    </a:lnTo>
                    <a:cubicBezTo>
                      <a:pt x="13522" y="3"/>
                      <a:pt x="13523" y="3"/>
                      <a:pt x="13523" y="5"/>
                    </a:cubicBezTo>
                    <a:cubicBezTo>
                      <a:pt x="13523" y="6"/>
                      <a:pt x="13522" y="7"/>
                      <a:pt x="13521" y="7"/>
                    </a:cubicBezTo>
                    <a:lnTo>
                      <a:pt x="13521" y="7"/>
                    </a:lnTo>
                    <a:cubicBezTo>
                      <a:pt x="13520" y="7"/>
                      <a:pt x="13519" y="6"/>
                      <a:pt x="13519" y="5"/>
                    </a:cubicBezTo>
                    <a:cubicBezTo>
                      <a:pt x="13519" y="3"/>
                      <a:pt x="13520" y="3"/>
                      <a:pt x="13521" y="3"/>
                    </a:cubicBezTo>
                    <a:close/>
                    <a:moveTo>
                      <a:pt x="13529" y="3"/>
                    </a:moveTo>
                    <a:lnTo>
                      <a:pt x="13529" y="3"/>
                    </a:lnTo>
                    <a:cubicBezTo>
                      <a:pt x="13530" y="3"/>
                      <a:pt x="13531" y="3"/>
                      <a:pt x="13531" y="5"/>
                    </a:cubicBezTo>
                    <a:cubicBezTo>
                      <a:pt x="13531" y="6"/>
                      <a:pt x="13530" y="7"/>
                      <a:pt x="13529" y="7"/>
                    </a:cubicBezTo>
                    <a:lnTo>
                      <a:pt x="13529" y="7"/>
                    </a:lnTo>
                    <a:cubicBezTo>
                      <a:pt x="13528" y="7"/>
                      <a:pt x="13527" y="6"/>
                      <a:pt x="13527" y="5"/>
                    </a:cubicBezTo>
                    <a:cubicBezTo>
                      <a:pt x="13527" y="3"/>
                      <a:pt x="13528" y="3"/>
                      <a:pt x="13529" y="3"/>
                    </a:cubicBezTo>
                    <a:close/>
                    <a:moveTo>
                      <a:pt x="13537" y="3"/>
                    </a:moveTo>
                    <a:lnTo>
                      <a:pt x="13537" y="3"/>
                    </a:lnTo>
                    <a:cubicBezTo>
                      <a:pt x="13538" y="3"/>
                      <a:pt x="13539" y="3"/>
                      <a:pt x="13539" y="5"/>
                    </a:cubicBezTo>
                    <a:cubicBezTo>
                      <a:pt x="13539" y="6"/>
                      <a:pt x="13538" y="7"/>
                      <a:pt x="13537" y="7"/>
                    </a:cubicBezTo>
                    <a:lnTo>
                      <a:pt x="13537" y="7"/>
                    </a:lnTo>
                    <a:cubicBezTo>
                      <a:pt x="13536" y="7"/>
                      <a:pt x="13535" y="6"/>
                      <a:pt x="13535" y="5"/>
                    </a:cubicBezTo>
                    <a:cubicBezTo>
                      <a:pt x="13535" y="3"/>
                      <a:pt x="13536" y="3"/>
                      <a:pt x="13537" y="3"/>
                    </a:cubicBezTo>
                    <a:close/>
                    <a:moveTo>
                      <a:pt x="13545" y="3"/>
                    </a:moveTo>
                    <a:lnTo>
                      <a:pt x="13545" y="3"/>
                    </a:lnTo>
                    <a:cubicBezTo>
                      <a:pt x="13546" y="3"/>
                      <a:pt x="13547" y="3"/>
                      <a:pt x="13547" y="5"/>
                    </a:cubicBezTo>
                    <a:cubicBezTo>
                      <a:pt x="13547" y="6"/>
                      <a:pt x="13546" y="7"/>
                      <a:pt x="13545" y="7"/>
                    </a:cubicBezTo>
                    <a:lnTo>
                      <a:pt x="13545" y="7"/>
                    </a:lnTo>
                    <a:cubicBezTo>
                      <a:pt x="13544" y="7"/>
                      <a:pt x="13543" y="6"/>
                      <a:pt x="13543" y="5"/>
                    </a:cubicBezTo>
                    <a:cubicBezTo>
                      <a:pt x="13543" y="3"/>
                      <a:pt x="13544" y="3"/>
                      <a:pt x="13545" y="3"/>
                    </a:cubicBezTo>
                    <a:close/>
                    <a:moveTo>
                      <a:pt x="13553" y="3"/>
                    </a:moveTo>
                    <a:lnTo>
                      <a:pt x="13553" y="3"/>
                    </a:lnTo>
                    <a:cubicBezTo>
                      <a:pt x="13554" y="3"/>
                      <a:pt x="13555" y="3"/>
                      <a:pt x="13555" y="5"/>
                    </a:cubicBezTo>
                    <a:cubicBezTo>
                      <a:pt x="13555" y="6"/>
                      <a:pt x="13554" y="7"/>
                      <a:pt x="13553" y="7"/>
                    </a:cubicBezTo>
                    <a:lnTo>
                      <a:pt x="13553" y="7"/>
                    </a:lnTo>
                    <a:cubicBezTo>
                      <a:pt x="13552" y="7"/>
                      <a:pt x="13551" y="6"/>
                      <a:pt x="13551" y="5"/>
                    </a:cubicBezTo>
                    <a:cubicBezTo>
                      <a:pt x="13551" y="3"/>
                      <a:pt x="13552" y="3"/>
                      <a:pt x="13553" y="3"/>
                    </a:cubicBezTo>
                    <a:close/>
                    <a:moveTo>
                      <a:pt x="13561" y="3"/>
                    </a:moveTo>
                    <a:lnTo>
                      <a:pt x="13561" y="3"/>
                    </a:lnTo>
                    <a:cubicBezTo>
                      <a:pt x="13562" y="3"/>
                      <a:pt x="13563" y="3"/>
                      <a:pt x="13563" y="5"/>
                    </a:cubicBezTo>
                    <a:cubicBezTo>
                      <a:pt x="13563" y="6"/>
                      <a:pt x="13562" y="7"/>
                      <a:pt x="13561" y="7"/>
                    </a:cubicBezTo>
                    <a:lnTo>
                      <a:pt x="13561" y="7"/>
                    </a:lnTo>
                    <a:cubicBezTo>
                      <a:pt x="13560" y="7"/>
                      <a:pt x="13559" y="6"/>
                      <a:pt x="13559" y="5"/>
                    </a:cubicBezTo>
                    <a:cubicBezTo>
                      <a:pt x="13559" y="3"/>
                      <a:pt x="13560" y="3"/>
                      <a:pt x="13561" y="3"/>
                    </a:cubicBezTo>
                    <a:close/>
                    <a:moveTo>
                      <a:pt x="13569" y="3"/>
                    </a:moveTo>
                    <a:lnTo>
                      <a:pt x="13569" y="3"/>
                    </a:lnTo>
                    <a:cubicBezTo>
                      <a:pt x="13570" y="3"/>
                      <a:pt x="13571" y="3"/>
                      <a:pt x="13571" y="5"/>
                    </a:cubicBezTo>
                    <a:cubicBezTo>
                      <a:pt x="13571" y="6"/>
                      <a:pt x="13570" y="7"/>
                      <a:pt x="13569" y="7"/>
                    </a:cubicBezTo>
                    <a:lnTo>
                      <a:pt x="13569" y="7"/>
                    </a:lnTo>
                    <a:cubicBezTo>
                      <a:pt x="13568" y="7"/>
                      <a:pt x="13567" y="6"/>
                      <a:pt x="13567" y="5"/>
                    </a:cubicBezTo>
                    <a:cubicBezTo>
                      <a:pt x="13567" y="3"/>
                      <a:pt x="13568" y="3"/>
                      <a:pt x="13569" y="3"/>
                    </a:cubicBezTo>
                    <a:close/>
                    <a:moveTo>
                      <a:pt x="13577" y="3"/>
                    </a:moveTo>
                    <a:lnTo>
                      <a:pt x="13577" y="3"/>
                    </a:lnTo>
                    <a:cubicBezTo>
                      <a:pt x="13578" y="3"/>
                      <a:pt x="13579" y="3"/>
                      <a:pt x="13579" y="5"/>
                    </a:cubicBezTo>
                    <a:cubicBezTo>
                      <a:pt x="13579" y="6"/>
                      <a:pt x="13578" y="7"/>
                      <a:pt x="13577" y="7"/>
                    </a:cubicBezTo>
                    <a:lnTo>
                      <a:pt x="13577" y="7"/>
                    </a:lnTo>
                    <a:cubicBezTo>
                      <a:pt x="13576" y="7"/>
                      <a:pt x="13575" y="6"/>
                      <a:pt x="13575" y="5"/>
                    </a:cubicBezTo>
                    <a:cubicBezTo>
                      <a:pt x="13575" y="3"/>
                      <a:pt x="13576" y="3"/>
                      <a:pt x="13577" y="3"/>
                    </a:cubicBezTo>
                    <a:close/>
                    <a:moveTo>
                      <a:pt x="13585" y="3"/>
                    </a:moveTo>
                    <a:lnTo>
                      <a:pt x="13585" y="3"/>
                    </a:lnTo>
                    <a:cubicBezTo>
                      <a:pt x="13586" y="3"/>
                      <a:pt x="13587" y="3"/>
                      <a:pt x="13587" y="5"/>
                    </a:cubicBezTo>
                    <a:cubicBezTo>
                      <a:pt x="13587" y="6"/>
                      <a:pt x="13586" y="7"/>
                      <a:pt x="13585" y="7"/>
                    </a:cubicBezTo>
                    <a:lnTo>
                      <a:pt x="13585" y="7"/>
                    </a:lnTo>
                    <a:cubicBezTo>
                      <a:pt x="13584" y="7"/>
                      <a:pt x="13583" y="6"/>
                      <a:pt x="13583" y="5"/>
                    </a:cubicBezTo>
                    <a:cubicBezTo>
                      <a:pt x="13583" y="3"/>
                      <a:pt x="13584" y="3"/>
                      <a:pt x="13585" y="3"/>
                    </a:cubicBezTo>
                    <a:close/>
                    <a:moveTo>
                      <a:pt x="13593" y="3"/>
                    </a:moveTo>
                    <a:lnTo>
                      <a:pt x="13593" y="3"/>
                    </a:lnTo>
                    <a:cubicBezTo>
                      <a:pt x="13594" y="3"/>
                      <a:pt x="13595" y="3"/>
                      <a:pt x="13595" y="5"/>
                    </a:cubicBezTo>
                    <a:cubicBezTo>
                      <a:pt x="13595" y="6"/>
                      <a:pt x="13594" y="7"/>
                      <a:pt x="13593" y="7"/>
                    </a:cubicBezTo>
                    <a:lnTo>
                      <a:pt x="13593" y="7"/>
                    </a:lnTo>
                    <a:cubicBezTo>
                      <a:pt x="13592" y="7"/>
                      <a:pt x="13591" y="6"/>
                      <a:pt x="13591" y="5"/>
                    </a:cubicBezTo>
                    <a:cubicBezTo>
                      <a:pt x="13591" y="3"/>
                      <a:pt x="13592" y="3"/>
                      <a:pt x="13593" y="3"/>
                    </a:cubicBezTo>
                    <a:close/>
                    <a:moveTo>
                      <a:pt x="13601" y="3"/>
                    </a:moveTo>
                    <a:lnTo>
                      <a:pt x="13601" y="3"/>
                    </a:lnTo>
                    <a:cubicBezTo>
                      <a:pt x="13602" y="3"/>
                      <a:pt x="13603" y="3"/>
                      <a:pt x="13603" y="5"/>
                    </a:cubicBezTo>
                    <a:cubicBezTo>
                      <a:pt x="13603" y="6"/>
                      <a:pt x="13602" y="7"/>
                      <a:pt x="13601" y="7"/>
                    </a:cubicBezTo>
                    <a:lnTo>
                      <a:pt x="13601" y="7"/>
                    </a:lnTo>
                    <a:cubicBezTo>
                      <a:pt x="13600" y="7"/>
                      <a:pt x="13599" y="6"/>
                      <a:pt x="13599" y="5"/>
                    </a:cubicBezTo>
                    <a:cubicBezTo>
                      <a:pt x="13599" y="3"/>
                      <a:pt x="13600" y="3"/>
                      <a:pt x="13601" y="3"/>
                    </a:cubicBezTo>
                    <a:close/>
                    <a:moveTo>
                      <a:pt x="13609" y="3"/>
                    </a:moveTo>
                    <a:lnTo>
                      <a:pt x="13609" y="3"/>
                    </a:lnTo>
                    <a:cubicBezTo>
                      <a:pt x="13610" y="3"/>
                      <a:pt x="13611" y="3"/>
                      <a:pt x="13611" y="5"/>
                    </a:cubicBezTo>
                    <a:cubicBezTo>
                      <a:pt x="13611" y="6"/>
                      <a:pt x="13610" y="7"/>
                      <a:pt x="13609" y="7"/>
                    </a:cubicBezTo>
                    <a:lnTo>
                      <a:pt x="13609" y="7"/>
                    </a:lnTo>
                    <a:cubicBezTo>
                      <a:pt x="13608" y="7"/>
                      <a:pt x="13607" y="6"/>
                      <a:pt x="13607" y="5"/>
                    </a:cubicBezTo>
                    <a:cubicBezTo>
                      <a:pt x="13607" y="3"/>
                      <a:pt x="13608" y="3"/>
                      <a:pt x="13609" y="3"/>
                    </a:cubicBezTo>
                    <a:close/>
                    <a:moveTo>
                      <a:pt x="13617" y="3"/>
                    </a:moveTo>
                    <a:lnTo>
                      <a:pt x="13617" y="3"/>
                    </a:lnTo>
                    <a:cubicBezTo>
                      <a:pt x="13618" y="3"/>
                      <a:pt x="13619" y="4"/>
                      <a:pt x="13619" y="5"/>
                    </a:cubicBezTo>
                    <a:cubicBezTo>
                      <a:pt x="13619" y="6"/>
                      <a:pt x="13618" y="7"/>
                      <a:pt x="13617" y="7"/>
                    </a:cubicBezTo>
                    <a:lnTo>
                      <a:pt x="13617" y="7"/>
                    </a:lnTo>
                    <a:cubicBezTo>
                      <a:pt x="13616" y="7"/>
                      <a:pt x="13615" y="6"/>
                      <a:pt x="13615" y="5"/>
                    </a:cubicBezTo>
                    <a:cubicBezTo>
                      <a:pt x="13615" y="4"/>
                      <a:pt x="13616" y="3"/>
                      <a:pt x="13617" y="3"/>
                    </a:cubicBezTo>
                    <a:close/>
                    <a:moveTo>
                      <a:pt x="13625" y="3"/>
                    </a:moveTo>
                    <a:lnTo>
                      <a:pt x="13625" y="3"/>
                    </a:lnTo>
                    <a:cubicBezTo>
                      <a:pt x="13626" y="3"/>
                      <a:pt x="13627" y="4"/>
                      <a:pt x="13627" y="5"/>
                    </a:cubicBezTo>
                    <a:cubicBezTo>
                      <a:pt x="13627" y="6"/>
                      <a:pt x="13626" y="7"/>
                      <a:pt x="13625" y="7"/>
                    </a:cubicBezTo>
                    <a:lnTo>
                      <a:pt x="13625" y="7"/>
                    </a:lnTo>
                    <a:cubicBezTo>
                      <a:pt x="13624" y="7"/>
                      <a:pt x="13623" y="6"/>
                      <a:pt x="13623" y="5"/>
                    </a:cubicBezTo>
                    <a:cubicBezTo>
                      <a:pt x="13623" y="4"/>
                      <a:pt x="13624" y="3"/>
                      <a:pt x="13625" y="3"/>
                    </a:cubicBezTo>
                    <a:close/>
                    <a:moveTo>
                      <a:pt x="13633" y="3"/>
                    </a:moveTo>
                    <a:lnTo>
                      <a:pt x="13633" y="3"/>
                    </a:lnTo>
                    <a:cubicBezTo>
                      <a:pt x="13634" y="3"/>
                      <a:pt x="13635" y="4"/>
                      <a:pt x="13635" y="5"/>
                    </a:cubicBezTo>
                    <a:cubicBezTo>
                      <a:pt x="13635" y="6"/>
                      <a:pt x="13634" y="7"/>
                      <a:pt x="13633" y="7"/>
                    </a:cubicBezTo>
                    <a:lnTo>
                      <a:pt x="13633" y="7"/>
                    </a:lnTo>
                    <a:cubicBezTo>
                      <a:pt x="13632" y="7"/>
                      <a:pt x="13631" y="6"/>
                      <a:pt x="13631" y="5"/>
                    </a:cubicBezTo>
                    <a:cubicBezTo>
                      <a:pt x="13631" y="4"/>
                      <a:pt x="13632" y="3"/>
                      <a:pt x="13633" y="3"/>
                    </a:cubicBezTo>
                    <a:close/>
                    <a:moveTo>
                      <a:pt x="13641" y="3"/>
                    </a:moveTo>
                    <a:lnTo>
                      <a:pt x="13641" y="3"/>
                    </a:lnTo>
                    <a:cubicBezTo>
                      <a:pt x="13642" y="3"/>
                      <a:pt x="13643" y="4"/>
                      <a:pt x="13643" y="5"/>
                    </a:cubicBezTo>
                    <a:cubicBezTo>
                      <a:pt x="13643" y="6"/>
                      <a:pt x="13642" y="7"/>
                      <a:pt x="13641" y="7"/>
                    </a:cubicBezTo>
                    <a:lnTo>
                      <a:pt x="13641" y="7"/>
                    </a:lnTo>
                    <a:cubicBezTo>
                      <a:pt x="13640" y="7"/>
                      <a:pt x="13639" y="6"/>
                      <a:pt x="13639" y="5"/>
                    </a:cubicBezTo>
                    <a:cubicBezTo>
                      <a:pt x="13639" y="4"/>
                      <a:pt x="13640" y="3"/>
                      <a:pt x="13641" y="3"/>
                    </a:cubicBezTo>
                    <a:close/>
                    <a:moveTo>
                      <a:pt x="13649" y="3"/>
                    </a:moveTo>
                    <a:lnTo>
                      <a:pt x="13649" y="3"/>
                    </a:lnTo>
                    <a:cubicBezTo>
                      <a:pt x="13650" y="3"/>
                      <a:pt x="13651" y="4"/>
                      <a:pt x="13651" y="5"/>
                    </a:cubicBezTo>
                    <a:cubicBezTo>
                      <a:pt x="13651" y="6"/>
                      <a:pt x="13650" y="7"/>
                      <a:pt x="13649" y="7"/>
                    </a:cubicBezTo>
                    <a:lnTo>
                      <a:pt x="13649" y="7"/>
                    </a:lnTo>
                    <a:cubicBezTo>
                      <a:pt x="13648" y="7"/>
                      <a:pt x="13647" y="6"/>
                      <a:pt x="13647" y="5"/>
                    </a:cubicBezTo>
                    <a:cubicBezTo>
                      <a:pt x="13647" y="4"/>
                      <a:pt x="13648" y="3"/>
                      <a:pt x="13649" y="3"/>
                    </a:cubicBezTo>
                    <a:close/>
                    <a:moveTo>
                      <a:pt x="13657" y="3"/>
                    </a:moveTo>
                    <a:lnTo>
                      <a:pt x="13657" y="3"/>
                    </a:lnTo>
                    <a:cubicBezTo>
                      <a:pt x="13658" y="3"/>
                      <a:pt x="13659" y="4"/>
                      <a:pt x="13659" y="5"/>
                    </a:cubicBezTo>
                    <a:cubicBezTo>
                      <a:pt x="13659" y="6"/>
                      <a:pt x="13658" y="7"/>
                      <a:pt x="13657" y="7"/>
                    </a:cubicBezTo>
                    <a:lnTo>
                      <a:pt x="13657" y="7"/>
                    </a:lnTo>
                    <a:cubicBezTo>
                      <a:pt x="13656" y="7"/>
                      <a:pt x="13655" y="6"/>
                      <a:pt x="13655" y="5"/>
                    </a:cubicBezTo>
                    <a:cubicBezTo>
                      <a:pt x="13655" y="4"/>
                      <a:pt x="13656" y="3"/>
                      <a:pt x="13657" y="3"/>
                    </a:cubicBezTo>
                    <a:close/>
                    <a:moveTo>
                      <a:pt x="13665" y="3"/>
                    </a:moveTo>
                    <a:lnTo>
                      <a:pt x="13665" y="3"/>
                    </a:lnTo>
                    <a:cubicBezTo>
                      <a:pt x="13666" y="3"/>
                      <a:pt x="13667" y="4"/>
                      <a:pt x="13667" y="5"/>
                    </a:cubicBezTo>
                    <a:cubicBezTo>
                      <a:pt x="13667" y="6"/>
                      <a:pt x="13666" y="7"/>
                      <a:pt x="13665" y="7"/>
                    </a:cubicBezTo>
                    <a:lnTo>
                      <a:pt x="13665" y="7"/>
                    </a:lnTo>
                    <a:cubicBezTo>
                      <a:pt x="13664" y="7"/>
                      <a:pt x="13663" y="6"/>
                      <a:pt x="13663" y="5"/>
                    </a:cubicBezTo>
                    <a:cubicBezTo>
                      <a:pt x="13663" y="4"/>
                      <a:pt x="13664" y="3"/>
                      <a:pt x="13665" y="3"/>
                    </a:cubicBezTo>
                    <a:close/>
                    <a:moveTo>
                      <a:pt x="13673" y="3"/>
                    </a:moveTo>
                    <a:lnTo>
                      <a:pt x="13673" y="3"/>
                    </a:lnTo>
                    <a:cubicBezTo>
                      <a:pt x="13674" y="3"/>
                      <a:pt x="13675" y="4"/>
                      <a:pt x="13675" y="5"/>
                    </a:cubicBezTo>
                    <a:cubicBezTo>
                      <a:pt x="13675" y="6"/>
                      <a:pt x="13674" y="7"/>
                      <a:pt x="13673" y="7"/>
                    </a:cubicBezTo>
                    <a:lnTo>
                      <a:pt x="13673" y="7"/>
                    </a:lnTo>
                    <a:cubicBezTo>
                      <a:pt x="13672" y="7"/>
                      <a:pt x="13671" y="6"/>
                      <a:pt x="13671" y="5"/>
                    </a:cubicBezTo>
                    <a:cubicBezTo>
                      <a:pt x="13671" y="4"/>
                      <a:pt x="13672" y="3"/>
                      <a:pt x="13673" y="3"/>
                    </a:cubicBezTo>
                    <a:close/>
                    <a:moveTo>
                      <a:pt x="13681" y="3"/>
                    </a:moveTo>
                    <a:lnTo>
                      <a:pt x="13681" y="3"/>
                    </a:lnTo>
                    <a:cubicBezTo>
                      <a:pt x="13682" y="3"/>
                      <a:pt x="13683" y="4"/>
                      <a:pt x="13683" y="5"/>
                    </a:cubicBezTo>
                    <a:cubicBezTo>
                      <a:pt x="13683" y="6"/>
                      <a:pt x="13682" y="7"/>
                      <a:pt x="13681" y="7"/>
                    </a:cubicBezTo>
                    <a:lnTo>
                      <a:pt x="13681" y="7"/>
                    </a:lnTo>
                    <a:cubicBezTo>
                      <a:pt x="13680" y="7"/>
                      <a:pt x="13679" y="6"/>
                      <a:pt x="13679" y="5"/>
                    </a:cubicBezTo>
                    <a:cubicBezTo>
                      <a:pt x="13679" y="4"/>
                      <a:pt x="13680" y="3"/>
                      <a:pt x="13681" y="3"/>
                    </a:cubicBezTo>
                    <a:close/>
                    <a:moveTo>
                      <a:pt x="13689" y="3"/>
                    </a:moveTo>
                    <a:lnTo>
                      <a:pt x="13689" y="3"/>
                    </a:lnTo>
                    <a:cubicBezTo>
                      <a:pt x="13690" y="3"/>
                      <a:pt x="13691" y="4"/>
                      <a:pt x="13691" y="5"/>
                    </a:cubicBezTo>
                    <a:cubicBezTo>
                      <a:pt x="13691" y="6"/>
                      <a:pt x="13690" y="7"/>
                      <a:pt x="13689" y="7"/>
                    </a:cubicBezTo>
                    <a:lnTo>
                      <a:pt x="13689" y="7"/>
                    </a:lnTo>
                    <a:cubicBezTo>
                      <a:pt x="13688" y="7"/>
                      <a:pt x="13687" y="6"/>
                      <a:pt x="13687" y="5"/>
                    </a:cubicBezTo>
                    <a:cubicBezTo>
                      <a:pt x="13687" y="4"/>
                      <a:pt x="13688" y="3"/>
                      <a:pt x="13689" y="3"/>
                    </a:cubicBezTo>
                    <a:close/>
                    <a:moveTo>
                      <a:pt x="13697" y="3"/>
                    </a:moveTo>
                    <a:lnTo>
                      <a:pt x="13697" y="3"/>
                    </a:lnTo>
                    <a:cubicBezTo>
                      <a:pt x="13698" y="3"/>
                      <a:pt x="13699" y="4"/>
                      <a:pt x="13699" y="5"/>
                    </a:cubicBezTo>
                    <a:cubicBezTo>
                      <a:pt x="13699" y="6"/>
                      <a:pt x="13698" y="7"/>
                      <a:pt x="13697" y="7"/>
                    </a:cubicBezTo>
                    <a:lnTo>
                      <a:pt x="13697" y="7"/>
                    </a:lnTo>
                    <a:cubicBezTo>
                      <a:pt x="13696" y="7"/>
                      <a:pt x="13695" y="6"/>
                      <a:pt x="13695" y="5"/>
                    </a:cubicBezTo>
                    <a:cubicBezTo>
                      <a:pt x="13695" y="4"/>
                      <a:pt x="13696" y="3"/>
                      <a:pt x="13697" y="3"/>
                    </a:cubicBezTo>
                    <a:close/>
                    <a:moveTo>
                      <a:pt x="13705" y="3"/>
                    </a:moveTo>
                    <a:lnTo>
                      <a:pt x="13705" y="3"/>
                    </a:lnTo>
                    <a:cubicBezTo>
                      <a:pt x="13706" y="3"/>
                      <a:pt x="13707" y="4"/>
                      <a:pt x="13707" y="5"/>
                    </a:cubicBezTo>
                    <a:cubicBezTo>
                      <a:pt x="13707" y="6"/>
                      <a:pt x="13706" y="7"/>
                      <a:pt x="13705" y="7"/>
                    </a:cubicBezTo>
                    <a:lnTo>
                      <a:pt x="13705" y="7"/>
                    </a:lnTo>
                    <a:cubicBezTo>
                      <a:pt x="13704" y="7"/>
                      <a:pt x="13703" y="6"/>
                      <a:pt x="13703" y="5"/>
                    </a:cubicBezTo>
                    <a:cubicBezTo>
                      <a:pt x="13703" y="4"/>
                      <a:pt x="13704" y="3"/>
                      <a:pt x="13705" y="3"/>
                    </a:cubicBezTo>
                    <a:close/>
                    <a:moveTo>
                      <a:pt x="13713" y="3"/>
                    </a:moveTo>
                    <a:lnTo>
                      <a:pt x="13713" y="3"/>
                    </a:lnTo>
                    <a:cubicBezTo>
                      <a:pt x="13714" y="3"/>
                      <a:pt x="13715" y="4"/>
                      <a:pt x="13715" y="5"/>
                    </a:cubicBezTo>
                    <a:cubicBezTo>
                      <a:pt x="13715" y="6"/>
                      <a:pt x="13714" y="7"/>
                      <a:pt x="13713" y="7"/>
                    </a:cubicBezTo>
                    <a:lnTo>
                      <a:pt x="13713" y="7"/>
                    </a:lnTo>
                    <a:cubicBezTo>
                      <a:pt x="13712" y="7"/>
                      <a:pt x="13711" y="6"/>
                      <a:pt x="13711" y="5"/>
                    </a:cubicBezTo>
                    <a:cubicBezTo>
                      <a:pt x="13711" y="4"/>
                      <a:pt x="13712" y="3"/>
                      <a:pt x="13713" y="3"/>
                    </a:cubicBezTo>
                    <a:close/>
                    <a:moveTo>
                      <a:pt x="13721" y="3"/>
                    </a:moveTo>
                    <a:lnTo>
                      <a:pt x="13721" y="3"/>
                    </a:lnTo>
                    <a:cubicBezTo>
                      <a:pt x="13722" y="3"/>
                      <a:pt x="13723" y="4"/>
                      <a:pt x="13723" y="5"/>
                    </a:cubicBezTo>
                    <a:cubicBezTo>
                      <a:pt x="13723" y="6"/>
                      <a:pt x="13722" y="7"/>
                      <a:pt x="13721" y="7"/>
                    </a:cubicBezTo>
                    <a:lnTo>
                      <a:pt x="13721" y="7"/>
                    </a:lnTo>
                    <a:cubicBezTo>
                      <a:pt x="13720" y="7"/>
                      <a:pt x="13719" y="6"/>
                      <a:pt x="13719" y="5"/>
                    </a:cubicBezTo>
                    <a:cubicBezTo>
                      <a:pt x="13719" y="4"/>
                      <a:pt x="13720" y="3"/>
                      <a:pt x="13721" y="3"/>
                    </a:cubicBezTo>
                    <a:close/>
                    <a:moveTo>
                      <a:pt x="13729" y="3"/>
                    </a:moveTo>
                    <a:lnTo>
                      <a:pt x="13729" y="3"/>
                    </a:lnTo>
                    <a:cubicBezTo>
                      <a:pt x="13730" y="3"/>
                      <a:pt x="13731" y="4"/>
                      <a:pt x="13731" y="5"/>
                    </a:cubicBezTo>
                    <a:cubicBezTo>
                      <a:pt x="13731" y="6"/>
                      <a:pt x="13730" y="7"/>
                      <a:pt x="13729" y="7"/>
                    </a:cubicBezTo>
                    <a:lnTo>
                      <a:pt x="13729" y="7"/>
                    </a:lnTo>
                    <a:cubicBezTo>
                      <a:pt x="13728" y="7"/>
                      <a:pt x="13727" y="6"/>
                      <a:pt x="13727" y="5"/>
                    </a:cubicBezTo>
                    <a:cubicBezTo>
                      <a:pt x="13727" y="4"/>
                      <a:pt x="13728" y="3"/>
                      <a:pt x="13729" y="3"/>
                    </a:cubicBezTo>
                    <a:close/>
                    <a:moveTo>
                      <a:pt x="13737" y="3"/>
                    </a:moveTo>
                    <a:lnTo>
                      <a:pt x="13737" y="3"/>
                    </a:lnTo>
                    <a:cubicBezTo>
                      <a:pt x="13738" y="3"/>
                      <a:pt x="13739" y="4"/>
                      <a:pt x="13739" y="5"/>
                    </a:cubicBezTo>
                    <a:cubicBezTo>
                      <a:pt x="13739" y="6"/>
                      <a:pt x="13738" y="7"/>
                      <a:pt x="13737" y="7"/>
                    </a:cubicBezTo>
                    <a:lnTo>
                      <a:pt x="13737" y="7"/>
                    </a:lnTo>
                    <a:cubicBezTo>
                      <a:pt x="13736" y="7"/>
                      <a:pt x="13735" y="6"/>
                      <a:pt x="13735" y="5"/>
                    </a:cubicBezTo>
                    <a:cubicBezTo>
                      <a:pt x="13735" y="4"/>
                      <a:pt x="13736" y="3"/>
                      <a:pt x="13737" y="3"/>
                    </a:cubicBezTo>
                    <a:close/>
                    <a:moveTo>
                      <a:pt x="13745" y="3"/>
                    </a:moveTo>
                    <a:lnTo>
                      <a:pt x="13745" y="3"/>
                    </a:lnTo>
                    <a:cubicBezTo>
                      <a:pt x="13746" y="3"/>
                      <a:pt x="13747" y="4"/>
                      <a:pt x="13747" y="5"/>
                    </a:cubicBezTo>
                    <a:cubicBezTo>
                      <a:pt x="13747" y="6"/>
                      <a:pt x="13746" y="7"/>
                      <a:pt x="13745" y="7"/>
                    </a:cubicBezTo>
                    <a:lnTo>
                      <a:pt x="13745" y="7"/>
                    </a:lnTo>
                    <a:cubicBezTo>
                      <a:pt x="13744" y="7"/>
                      <a:pt x="13743" y="6"/>
                      <a:pt x="13743" y="5"/>
                    </a:cubicBezTo>
                    <a:cubicBezTo>
                      <a:pt x="13743" y="4"/>
                      <a:pt x="13744" y="3"/>
                      <a:pt x="13745" y="3"/>
                    </a:cubicBezTo>
                    <a:close/>
                    <a:moveTo>
                      <a:pt x="13753" y="3"/>
                    </a:moveTo>
                    <a:lnTo>
                      <a:pt x="13753" y="3"/>
                    </a:lnTo>
                    <a:cubicBezTo>
                      <a:pt x="13754" y="3"/>
                      <a:pt x="13755" y="4"/>
                      <a:pt x="13755" y="5"/>
                    </a:cubicBezTo>
                    <a:cubicBezTo>
                      <a:pt x="13755" y="6"/>
                      <a:pt x="13754" y="7"/>
                      <a:pt x="13753" y="7"/>
                    </a:cubicBezTo>
                    <a:lnTo>
                      <a:pt x="13753" y="7"/>
                    </a:lnTo>
                    <a:cubicBezTo>
                      <a:pt x="13752" y="7"/>
                      <a:pt x="13751" y="6"/>
                      <a:pt x="13751" y="5"/>
                    </a:cubicBezTo>
                    <a:cubicBezTo>
                      <a:pt x="13751" y="4"/>
                      <a:pt x="13752" y="3"/>
                      <a:pt x="13753" y="3"/>
                    </a:cubicBezTo>
                    <a:close/>
                    <a:moveTo>
                      <a:pt x="13761" y="3"/>
                    </a:moveTo>
                    <a:lnTo>
                      <a:pt x="13761" y="3"/>
                    </a:lnTo>
                    <a:cubicBezTo>
                      <a:pt x="13762" y="3"/>
                      <a:pt x="13763" y="4"/>
                      <a:pt x="13763" y="5"/>
                    </a:cubicBezTo>
                    <a:cubicBezTo>
                      <a:pt x="13763" y="6"/>
                      <a:pt x="13762" y="7"/>
                      <a:pt x="13761" y="7"/>
                    </a:cubicBezTo>
                    <a:lnTo>
                      <a:pt x="13761" y="7"/>
                    </a:lnTo>
                    <a:cubicBezTo>
                      <a:pt x="13760" y="7"/>
                      <a:pt x="13759" y="6"/>
                      <a:pt x="13759" y="5"/>
                    </a:cubicBezTo>
                    <a:cubicBezTo>
                      <a:pt x="13759" y="4"/>
                      <a:pt x="13760" y="3"/>
                      <a:pt x="13761" y="3"/>
                    </a:cubicBezTo>
                    <a:close/>
                    <a:moveTo>
                      <a:pt x="13769" y="3"/>
                    </a:moveTo>
                    <a:lnTo>
                      <a:pt x="13769" y="3"/>
                    </a:lnTo>
                    <a:cubicBezTo>
                      <a:pt x="13770" y="3"/>
                      <a:pt x="13771" y="4"/>
                      <a:pt x="13771" y="5"/>
                    </a:cubicBezTo>
                    <a:cubicBezTo>
                      <a:pt x="13771" y="6"/>
                      <a:pt x="13770" y="7"/>
                      <a:pt x="13769" y="7"/>
                    </a:cubicBezTo>
                    <a:lnTo>
                      <a:pt x="13769" y="7"/>
                    </a:lnTo>
                    <a:cubicBezTo>
                      <a:pt x="13768" y="7"/>
                      <a:pt x="13767" y="6"/>
                      <a:pt x="13767" y="5"/>
                    </a:cubicBezTo>
                    <a:cubicBezTo>
                      <a:pt x="13767" y="4"/>
                      <a:pt x="13768" y="3"/>
                      <a:pt x="13769" y="3"/>
                    </a:cubicBezTo>
                    <a:close/>
                    <a:moveTo>
                      <a:pt x="13777" y="3"/>
                    </a:moveTo>
                    <a:lnTo>
                      <a:pt x="13777" y="3"/>
                    </a:lnTo>
                    <a:cubicBezTo>
                      <a:pt x="13778" y="3"/>
                      <a:pt x="13779" y="4"/>
                      <a:pt x="13779" y="5"/>
                    </a:cubicBezTo>
                    <a:cubicBezTo>
                      <a:pt x="13779" y="6"/>
                      <a:pt x="13778" y="7"/>
                      <a:pt x="13777" y="7"/>
                    </a:cubicBezTo>
                    <a:lnTo>
                      <a:pt x="13777" y="7"/>
                    </a:lnTo>
                    <a:cubicBezTo>
                      <a:pt x="13776" y="7"/>
                      <a:pt x="13775" y="6"/>
                      <a:pt x="13775" y="5"/>
                    </a:cubicBezTo>
                    <a:cubicBezTo>
                      <a:pt x="13775" y="4"/>
                      <a:pt x="13776" y="3"/>
                      <a:pt x="13777" y="3"/>
                    </a:cubicBezTo>
                    <a:close/>
                    <a:moveTo>
                      <a:pt x="13785" y="3"/>
                    </a:moveTo>
                    <a:lnTo>
                      <a:pt x="13785" y="3"/>
                    </a:lnTo>
                    <a:cubicBezTo>
                      <a:pt x="13786" y="3"/>
                      <a:pt x="13787" y="4"/>
                      <a:pt x="13787" y="5"/>
                    </a:cubicBezTo>
                    <a:cubicBezTo>
                      <a:pt x="13787" y="6"/>
                      <a:pt x="13786" y="7"/>
                      <a:pt x="13785" y="7"/>
                    </a:cubicBezTo>
                    <a:lnTo>
                      <a:pt x="13785" y="7"/>
                    </a:lnTo>
                    <a:cubicBezTo>
                      <a:pt x="13784" y="7"/>
                      <a:pt x="13783" y="6"/>
                      <a:pt x="13783" y="5"/>
                    </a:cubicBezTo>
                    <a:cubicBezTo>
                      <a:pt x="13783" y="4"/>
                      <a:pt x="13784" y="3"/>
                      <a:pt x="13785" y="3"/>
                    </a:cubicBezTo>
                    <a:close/>
                    <a:moveTo>
                      <a:pt x="13793" y="3"/>
                    </a:moveTo>
                    <a:lnTo>
                      <a:pt x="13793" y="3"/>
                    </a:lnTo>
                    <a:cubicBezTo>
                      <a:pt x="13794" y="3"/>
                      <a:pt x="13795" y="4"/>
                      <a:pt x="13795" y="5"/>
                    </a:cubicBezTo>
                    <a:cubicBezTo>
                      <a:pt x="13795" y="6"/>
                      <a:pt x="13794" y="7"/>
                      <a:pt x="13793" y="7"/>
                    </a:cubicBezTo>
                    <a:lnTo>
                      <a:pt x="13793" y="7"/>
                    </a:lnTo>
                    <a:cubicBezTo>
                      <a:pt x="13792" y="7"/>
                      <a:pt x="13791" y="6"/>
                      <a:pt x="13791" y="5"/>
                    </a:cubicBezTo>
                    <a:cubicBezTo>
                      <a:pt x="13791" y="4"/>
                      <a:pt x="13792" y="3"/>
                      <a:pt x="13793" y="3"/>
                    </a:cubicBezTo>
                    <a:close/>
                    <a:moveTo>
                      <a:pt x="13801" y="3"/>
                    </a:moveTo>
                    <a:lnTo>
                      <a:pt x="13801" y="3"/>
                    </a:lnTo>
                    <a:cubicBezTo>
                      <a:pt x="13802" y="3"/>
                      <a:pt x="13803" y="4"/>
                      <a:pt x="13803" y="5"/>
                    </a:cubicBezTo>
                    <a:cubicBezTo>
                      <a:pt x="13803" y="6"/>
                      <a:pt x="13802" y="7"/>
                      <a:pt x="13801" y="7"/>
                    </a:cubicBezTo>
                    <a:lnTo>
                      <a:pt x="13801" y="7"/>
                    </a:lnTo>
                    <a:cubicBezTo>
                      <a:pt x="13800" y="7"/>
                      <a:pt x="13799" y="6"/>
                      <a:pt x="13799" y="5"/>
                    </a:cubicBezTo>
                    <a:cubicBezTo>
                      <a:pt x="13799" y="4"/>
                      <a:pt x="13800" y="3"/>
                      <a:pt x="13801" y="3"/>
                    </a:cubicBezTo>
                    <a:close/>
                    <a:moveTo>
                      <a:pt x="13809" y="3"/>
                    </a:moveTo>
                    <a:lnTo>
                      <a:pt x="13809" y="3"/>
                    </a:lnTo>
                    <a:cubicBezTo>
                      <a:pt x="13810" y="3"/>
                      <a:pt x="13811" y="4"/>
                      <a:pt x="13811" y="5"/>
                    </a:cubicBezTo>
                    <a:cubicBezTo>
                      <a:pt x="13811" y="6"/>
                      <a:pt x="13810" y="7"/>
                      <a:pt x="13809" y="7"/>
                    </a:cubicBezTo>
                    <a:lnTo>
                      <a:pt x="13809" y="7"/>
                    </a:lnTo>
                    <a:cubicBezTo>
                      <a:pt x="13808" y="7"/>
                      <a:pt x="13807" y="6"/>
                      <a:pt x="13807" y="5"/>
                    </a:cubicBezTo>
                    <a:cubicBezTo>
                      <a:pt x="13807" y="4"/>
                      <a:pt x="13808" y="3"/>
                      <a:pt x="13809" y="3"/>
                    </a:cubicBezTo>
                    <a:close/>
                    <a:moveTo>
                      <a:pt x="13817" y="3"/>
                    </a:moveTo>
                    <a:lnTo>
                      <a:pt x="13817" y="3"/>
                    </a:lnTo>
                    <a:cubicBezTo>
                      <a:pt x="13818" y="3"/>
                      <a:pt x="13819" y="4"/>
                      <a:pt x="13819" y="5"/>
                    </a:cubicBezTo>
                    <a:cubicBezTo>
                      <a:pt x="13819" y="6"/>
                      <a:pt x="13818" y="7"/>
                      <a:pt x="13817" y="7"/>
                    </a:cubicBezTo>
                    <a:lnTo>
                      <a:pt x="13817" y="7"/>
                    </a:lnTo>
                    <a:cubicBezTo>
                      <a:pt x="13816" y="7"/>
                      <a:pt x="13815" y="6"/>
                      <a:pt x="13815" y="5"/>
                    </a:cubicBezTo>
                    <a:cubicBezTo>
                      <a:pt x="13815" y="4"/>
                      <a:pt x="13816" y="3"/>
                      <a:pt x="13817" y="3"/>
                    </a:cubicBezTo>
                    <a:close/>
                    <a:moveTo>
                      <a:pt x="13825" y="3"/>
                    </a:moveTo>
                    <a:lnTo>
                      <a:pt x="13825" y="3"/>
                    </a:lnTo>
                    <a:cubicBezTo>
                      <a:pt x="13826" y="3"/>
                      <a:pt x="13827" y="4"/>
                      <a:pt x="13827" y="5"/>
                    </a:cubicBezTo>
                    <a:cubicBezTo>
                      <a:pt x="13827" y="6"/>
                      <a:pt x="13826" y="7"/>
                      <a:pt x="13825" y="7"/>
                    </a:cubicBezTo>
                    <a:lnTo>
                      <a:pt x="13825" y="7"/>
                    </a:lnTo>
                    <a:cubicBezTo>
                      <a:pt x="13824" y="7"/>
                      <a:pt x="13823" y="6"/>
                      <a:pt x="13823" y="5"/>
                    </a:cubicBezTo>
                    <a:cubicBezTo>
                      <a:pt x="13823" y="4"/>
                      <a:pt x="13824" y="3"/>
                      <a:pt x="13825" y="3"/>
                    </a:cubicBezTo>
                    <a:close/>
                    <a:moveTo>
                      <a:pt x="13833" y="3"/>
                    </a:moveTo>
                    <a:lnTo>
                      <a:pt x="13833" y="3"/>
                    </a:lnTo>
                    <a:cubicBezTo>
                      <a:pt x="13834" y="3"/>
                      <a:pt x="13835" y="4"/>
                      <a:pt x="13835" y="5"/>
                    </a:cubicBezTo>
                    <a:cubicBezTo>
                      <a:pt x="13835" y="6"/>
                      <a:pt x="13834" y="7"/>
                      <a:pt x="13833" y="7"/>
                    </a:cubicBezTo>
                    <a:lnTo>
                      <a:pt x="13833" y="7"/>
                    </a:lnTo>
                    <a:cubicBezTo>
                      <a:pt x="13832" y="7"/>
                      <a:pt x="13831" y="6"/>
                      <a:pt x="13831" y="5"/>
                    </a:cubicBezTo>
                    <a:cubicBezTo>
                      <a:pt x="13831" y="4"/>
                      <a:pt x="13832" y="3"/>
                      <a:pt x="13833" y="3"/>
                    </a:cubicBezTo>
                    <a:close/>
                    <a:moveTo>
                      <a:pt x="13841" y="3"/>
                    </a:moveTo>
                    <a:lnTo>
                      <a:pt x="13841" y="3"/>
                    </a:lnTo>
                    <a:cubicBezTo>
                      <a:pt x="13842" y="3"/>
                      <a:pt x="13843" y="4"/>
                      <a:pt x="13843" y="5"/>
                    </a:cubicBezTo>
                    <a:cubicBezTo>
                      <a:pt x="13843" y="6"/>
                      <a:pt x="13842" y="7"/>
                      <a:pt x="13841" y="7"/>
                    </a:cubicBezTo>
                    <a:lnTo>
                      <a:pt x="13841" y="7"/>
                    </a:lnTo>
                    <a:cubicBezTo>
                      <a:pt x="13840" y="7"/>
                      <a:pt x="13839" y="6"/>
                      <a:pt x="13839" y="5"/>
                    </a:cubicBezTo>
                    <a:cubicBezTo>
                      <a:pt x="13839" y="4"/>
                      <a:pt x="13840" y="3"/>
                      <a:pt x="13841" y="3"/>
                    </a:cubicBezTo>
                    <a:close/>
                    <a:moveTo>
                      <a:pt x="13849" y="3"/>
                    </a:moveTo>
                    <a:lnTo>
                      <a:pt x="13849" y="3"/>
                    </a:lnTo>
                    <a:cubicBezTo>
                      <a:pt x="13850" y="3"/>
                      <a:pt x="13851" y="4"/>
                      <a:pt x="13851" y="5"/>
                    </a:cubicBezTo>
                    <a:cubicBezTo>
                      <a:pt x="13851" y="6"/>
                      <a:pt x="13850" y="7"/>
                      <a:pt x="13849" y="7"/>
                    </a:cubicBezTo>
                    <a:lnTo>
                      <a:pt x="13849" y="7"/>
                    </a:lnTo>
                    <a:cubicBezTo>
                      <a:pt x="13848" y="7"/>
                      <a:pt x="13847" y="6"/>
                      <a:pt x="13847" y="5"/>
                    </a:cubicBezTo>
                    <a:cubicBezTo>
                      <a:pt x="13847" y="4"/>
                      <a:pt x="13848" y="3"/>
                      <a:pt x="13849" y="3"/>
                    </a:cubicBezTo>
                    <a:close/>
                    <a:moveTo>
                      <a:pt x="13857" y="3"/>
                    </a:moveTo>
                    <a:lnTo>
                      <a:pt x="13857" y="3"/>
                    </a:lnTo>
                    <a:cubicBezTo>
                      <a:pt x="13858" y="3"/>
                      <a:pt x="13859" y="4"/>
                      <a:pt x="13859" y="5"/>
                    </a:cubicBezTo>
                    <a:cubicBezTo>
                      <a:pt x="13859" y="6"/>
                      <a:pt x="13858" y="7"/>
                      <a:pt x="13857" y="7"/>
                    </a:cubicBezTo>
                    <a:lnTo>
                      <a:pt x="13857" y="7"/>
                    </a:lnTo>
                    <a:cubicBezTo>
                      <a:pt x="13856" y="7"/>
                      <a:pt x="13855" y="6"/>
                      <a:pt x="13855" y="5"/>
                    </a:cubicBezTo>
                    <a:cubicBezTo>
                      <a:pt x="13855" y="4"/>
                      <a:pt x="13856" y="3"/>
                      <a:pt x="13857" y="3"/>
                    </a:cubicBezTo>
                    <a:close/>
                    <a:moveTo>
                      <a:pt x="13865" y="3"/>
                    </a:moveTo>
                    <a:lnTo>
                      <a:pt x="13865" y="3"/>
                    </a:lnTo>
                    <a:cubicBezTo>
                      <a:pt x="13866" y="3"/>
                      <a:pt x="13867" y="4"/>
                      <a:pt x="13867" y="5"/>
                    </a:cubicBezTo>
                    <a:cubicBezTo>
                      <a:pt x="13867" y="6"/>
                      <a:pt x="13866" y="7"/>
                      <a:pt x="13865" y="7"/>
                    </a:cubicBezTo>
                    <a:lnTo>
                      <a:pt x="13865" y="7"/>
                    </a:lnTo>
                    <a:cubicBezTo>
                      <a:pt x="13864" y="7"/>
                      <a:pt x="13863" y="6"/>
                      <a:pt x="13863" y="5"/>
                    </a:cubicBezTo>
                    <a:cubicBezTo>
                      <a:pt x="13863" y="4"/>
                      <a:pt x="13864" y="3"/>
                      <a:pt x="13865" y="3"/>
                    </a:cubicBezTo>
                    <a:close/>
                    <a:moveTo>
                      <a:pt x="13873" y="3"/>
                    </a:moveTo>
                    <a:lnTo>
                      <a:pt x="13873" y="3"/>
                    </a:lnTo>
                    <a:cubicBezTo>
                      <a:pt x="13874" y="3"/>
                      <a:pt x="13875" y="4"/>
                      <a:pt x="13875" y="5"/>
                    </a:cubicBezTo>
                    <a:cubicBezTo>
                      <a:pt x="13875" y="6"/>
                      <a:pt x="13874" y="7"/>
                      <a:pt x="13873" y="7"/>
                    </a:cubicBezTo>
                    <a:lnTo>
                      <a:pt x="13873" y="7"/>
                    </a:lnTo>
                    <a:cubicBezTo>
                      <a:pt x="13872" y="7"/>
                      <a:pt x="13871" y="6"/>
                      <a:pt x="13871" y="5"/>
                    </a:cubicBezTo>
                    <a:cubicBezTo>
                      <a:pt x="13871" y="4"/>
                      <a:pt x="13872" y="3"/>
                      <a:pt x="13873" y="3"/>
                    </a:cubicBezTo>
                    <a:close/>
                    <a:moveTo>
                      <a:pt x="13881" y="3"/>
                    </a:moveTo>
                    <a:lnTo>
                      <a:pt x="13881" y="3"/>
                    </a:lnTo>
                    <a:cubicBezTo>
                      <a:pt x="13882" y="3"/>
                      <a:pt x="13883" y="4"/>
                      <a:pt x="13883" y="5"/>
                    </a:cubicBezTo>
                    <a:cubicBezTo>
                      <a:pt x="13883" y="6"/>
                      <a:pt x="13882" y="7"/>
                      <a:pt x="13881" y="7"/>
                    </a:cubicBezTo>
                    <a:lnTo>
                      <a:pt x="13881" y="7"/>
                    </a:lnTo>
                    <a:cubicBezTo>
                      <a:pt x="13880" y="7"/>
                      <a:pt x="13879" y="6"/>
                      <a:pt x="13879" y="5"/>
                    </a:cubicBezTo>
                    <a:cubicBezTo>
                      <a:pt x="13879" y="4"/>
                      <a:pt x="13880" y="3"/>
                      <a:pt x="13881" y="3"/>
                    </a:cubicBezTo>
                    <a:close/>
                    <a:moveTo>
                      <a:pt x="13889" y="3"/>
                    </a:moveTo>
                    <a:lnTo>
                      <a:pt x="13889" y="3"/>
                    </a:lnTo>
                    <a:cubicBezTo>
                      <a:pt x="13890" y="3"/>
                      <a:pt x="13891" y="4"/>
                      <a:pt x="13891" y="5"/>
                    </a:cubicBezTo>
                    <a:cubicBezTo>
                      <a:pt x="13891" y="6"/>
                      <a:pt x="13890" y="7"/>
                      <a:pt x="13889" y="7"/>
                    </a:cubicBezTo>
                    <a:lnTo>
                      <a:pt x="13889" y="7"/>
                    </a:lnTo>
                    <a:cubicBezTo>
                      <a:pt x="13888" y="7"/>
                      <a:pt x="13887" y="6"/>
                      <a:pt x="13887" y="5"/>
                    </a:cubicBezTo>
                    <a:cubicBezTo>
                      <a:pt x="13887" y="4"/>
                      <a:pt x="13888" y="3"/>
                      <a:pt x="13889" y="3"/>
                    </a:cubicBezTo>
                    <a:close/>
                    <a:moveTo>
                      <a:pt x="13897" y="3"/>
                    </a:moveTo>
                    <a:lnTo>
                      <a:pt x="13897" y="3"/>
                    </a:lnTo>
                    <a:cubicBezTo>
                      <a:pt x="13898" y="3"/>
                      <a:pt x="13899" y="4"/>
                      <a:pt x="13899" y="5"/>
                    </a:cubicBezTo>
                    <a:cubicBezTo>
                      <a:pt x="13899" y="6"/>
                      <a:pt x="13898" y="7"/>
                      <a:pt x="13897" y="7"/>
                    </a:cubicBezTo>
                    <a:lnTo>
                      <a:pt x="13897" y="7"/>
                    </a:lnTo>
                    <a:cubicBezTo>
                      <a:pt x="13896" y="7"/>
                      <a:pt x="13895" y="6"/>
                      <a:pt x="13895" y="5"/>
                    </a:cubicBezTo>
                    <a:cubicBezTo>
                      <a:pt x="13895" y="4"/>
                      <a:pt x="13896" y="3"/>
                      <a:pt x="13897" y="3"/>
                    </a:cubicBezTo>
                    <a:close/>
                    <a:moveTo>
                      <a:pt x="13905" y="3"/>
                    </a:moveTo>
                    <a:lnTo>
                      <a:pt x="13905" y="3"/>
                    </a:lnTo>
                    <a:cubicBezTo>
                      <a:pt x="13906" y="3"/>
                      <a:pt x="13907" y="4"/>
                      <a:pt x="13907" y="5"/>
                    </a:cubicBezTo>
                    <a:cubicBezTo>
                      <a:pt x="13907" y="6"/>
                      <a:pt x="13906" y="7"/>
                      <a:pt x="13905" y="7"/>
                    </a:cubicBezTo>
                    <a:lnTo>
                      <a:pt x="13905" y="7"/>
                    </a:lnTo>
                    <a:cubicBezTo>
                      <a:pt x="13904" y="7"/>
                      <a:pt x="13903" y="6"/>
                      <a:pt x="13903" y="5"/>
                    </a:cubicBezTo>
                    <a:cubicBezTo>
                      <a:pt x="13903" y="4"/>
                      <a:pt x="13904" y="3"/>
                      <a:pt x="13905" y="3"/>
                    </a:cubicBezTo>
                    <a:close/>
                    <a:moveTo>
                      <a:pt x="13913" y="3"/>
                    </a:moveTo>
                    <a:lnTo>
                      <a:pt x="13913" y="3"/>
                    </a:lnTo>
                    <a:cubicBezTo>
                      <a:pt x="13914" y="3"/>
                      <a:pt x="13915" y="4"/>
                      <a:pt x="13915" y="5"/>
                    </a:cubicBezTo>
                    <a:cubicBezTo>
                      <a:pt x="13915" y="6"/>
                      <a:pt x="13914" y="7"/>
                      <a:pt x="13913" y="7"/>
                    </a:cubicBezTo>
                    <a:lnTo>
                      <a:pt x="13913" y="7"/>
                    </a:lnTo>
                    <a:cubicBezTo>
                      <a:pt x="13912" y="7"/>
                      <a:pt x="13911" y="6"/>
                      <a:pt x="13911" y="5"/>
                    </a:cubicBezTo>
                    <a:cubicBezTo>
                      <a:pt x="13911" y="4"/>
                      <a:pt x="13912" y="3"/>
                      <a:pt x="13913" y="3"/>
                    </a:cubicBezTo>
                    <a:close/>
                    <a:moveTo>
                      <a:pt x="13921" y="3"/>
                    </a:moveTo>
                    <a:lnTo>
                      <a:pt x="13921" y="3"/>
                    </a:lnTo>
                    <a:cubicBezTo>
                      <a:pt x="13922" y="3"/>
                      <a:pt x="13923" y="4"/>
                      <a:pt x="13923" y="5"/>
                    </a:cubicBezTo>
                    <a:cubicBezTo>
                      <a:pt x="13923" y="6"/>
                      <a:pt x="13922" y="7"/>
                      <a:pt x="13921" y="7"/>
                    </a:cubicBezTo>
                    <a:lnTo>
                      <a:pt x="13921" y="7"/>
                    </a:lnTo>
                    <a:cubicBezTo>
                      <a:pt x="13920" y="7"/>
                      <a:pt x="13919" y="6"/>
                      <a:pt x="13919" y="5"/>
                    </a:cubicBezTo>
                    <a:cubicBezTo>
                      <a:pt x="13919" y="4"/>
                      <a:pt x="13920" y="3"/>
                      <a:pt x="13921" y="3"/>
                    </a:cubicBezTo>
                    <a:close/>
                    <a:moveTo>
                      <a:pt x="13929" y="3"/>
                    </a:moveTo>
                    <a:lnTo>
                      <a:pt x="13929" y="3"/>
                    </a:lnTo>
                    <a:cubicBezTo>
                      <a:pt x="13930" y="3"/>
                      <a:pt x="13931" y="4"/>
                      <a:pt x="13931" y="5"/>
                    </a:cubicBezTo>
                    <a:cubicBezTo>
                      <a:pt x="13931" y="6"/>
                      <a:pt x="13930" y="7"/>
                      <a:pt x="13929" y="7"/>
                    </a:cubicBezTo>
                    <a:lnTo>
                      <a:pt x="13929" y="7"/>
                    </a:lnTo>
                    <a:cubicBezTo>
                      <a:pt x="13928" y="7"/>
                      <a:pt x="13927" y="6"/>
                      <a:pt x="13927" y="5"/>
                    </a:cubicBezTo>
                    <a:cubicBezTo>
                      <a:pt x="13927" y="4"/>
                      <a:pt x="13928" y="3"/>
                      <a:pt x="13929" y="3"/>
                    </a:cubicBezTo>
                    <a:close/>
                    <a:moveTo>
                      <a:pt x="13937" y="3"/>
                    </a:moveTo>
                    <a:lnTo>
                      <a:pt x="13937" y="3"/>
                    </a:lnTo>
                    <a:cubicBezTo>
                      <a:pt x="13938" y="3"/>
                      <a:pt x="13939" y="4"/>
                      <a:pt x="13939" y="5"/>
                    </a:cubicBezTo>
                    <a:cubicBezTo>
                      <a:pt x="13939" y="6"/>
                      <a:pt x="13938" y="7"/>
                      <a:pt x="13937" y="7"/>
                    </a:cubicBezTo>
                    <a:lnTo>
                      <a:pt x="13937" y="7"/>
                    </a:lnTo>
                    <a:cubicBezTo>
                      <a:pt x="13936" y="7"/>
                      <a:pt x="13935" y="6"/>
                      <a:pt x="13935" y="5"/>
                    </a:cubicBezTo>
                    <a:cubicBezTo>
                      <a:pt x="13935" y="4"/>
                      <a:pt x="13936" y="3"/>
                      <a:pt x="13937" y="3"/>
                    </a:cubicBezTo>
                    <a:close/>
                    <a:moveTo>
                      <a:pt x="13945" y="3"/>
                    </a:moveTo>
                    <a:lnTo>
                      <a:pt x="13945" y="3"/>
                    </a:lnTo>
                    <a:cubicBezTo>
                      <a:pt x="13946" y="3"/>
                      <a:pt x="13947" y="4"/>
                      <a:pt x="13947" y="5"/>
                    </a:cubicBezTo>
                    <a:cubicBezTo>
                      <a:pt x="13947" y="6"/>
                      <a:pt x="13946" y="7"/>
                      <a:pt x="13945" y="7"/>
                    </a:cubicBezTo>
                    <a:lnTo>
                      <a:pt x="13945" y="7"/>
                    </a:lnTo>
                    <a:cubicBezTo>
                      <a:pt x="13944" y="7"/>
                      <a:pt x="13943" y="6"/>
                      <a:pt x="13943" y="5"/>
                    </a:cubicBezTo>
                    <a:cubicBezTo>
                      <a:pt x="13943" y="4"/>
                      <a:pt x="13944" y="3"/>
                      <a:pt x="13945" y="3"/>
                    </a:cubicBezTo>
                    <a:close/>
                    <a:moveTo>
                      <a:pt x="13953" y="3"/>
                    </a:moveTo>
                    <a:lnTo>
                      <a:pt x="13953" y="3"/>
                    </a:lnTo>
                    <a:cubicBezTo>
                      <a:pt x="13954" y="3"/>
                      <a:pt x="13955" y="4"/>
                      <a:pt x="13955" y="5"/>
                    </a:cubicBezTo>
                    <a:cubicBezTo>
                      <a:pt x="13955" y="6"/>
                      <a:pt x="13954" y="7"/>
                      <a:pt x="13953" y="7"/>
                    </a:cubicBezTo>
                    <a:lnTo>
                      <a:pt x="13953" y="7"/>
                    </a:lnTo>
                    <a:cubicBezTo>
                      <a:pt x="13952" y="7"/>
                      <a:pt x="13951" y="6"/>
                      <a:pt x="13951" y="5"/>
                    </a:cubicBezTo>
                    <a:cubicBezTo>
                      <a:pt x="13951" y="4"/>
                      <a:pt x="13952" y="3"/>
                      <a:pt x="13953" y="3"/>
                    </a:cubicBezTo>
                    <a:close/>
                    <a:moveTo>
                      <a:pt x="13961" y="3"/>
                    </a:moveTo>
                    <a:lnTo>
                      <a:pt x="13961" y="3"/>
                    </a:lnTo>
                    <a:cubicBezTo>
                      <a:pt x="13962" y="3"/>
                      <a:pt x="13963" y="4"/>
                      <a:pt x="13963" y="5"/>
                    </a:cubicBezTo>
                    <a:cubicBezTo>
                      <a:pt x="13963" y="6"/>
                      <a:pt x="13962" y="7"/>
                      <a:pt x="13961" y="7"/>
                    </a:cubicBezTo>
                    <a:lnTo>
                      <a:pt x="13961" y="7"/>
                    </a:lnTo>
                    <a:cubicBezTo>
                      <a:pt x="13960" y="7"/>
                      <a:pt x="13959" y="6"/>
                      <a:pt x="13959" y="5"/>
                    </a:cubicBezTo>
                    <a:cubicBezTo>
                      <a:pt x="13959" y="4"/>
                      <a:pt x="13960" y="3"/>
                      <a:pt x="13961" y="3"/>
                    </a:cubicBezTo>
                    <a:close/>
                    <a:moveTo>
                      <a:pt x="13969" y="3"/>
                    </a:moveTo>
                    <a:lnTo>
                      <a:pt x="13969" y="3"/>
                    </a:lnTo>
                    <a:cubicBezTo>
                      <a:pt x="13970" y="3"/>
                      <a:pt x="13971" y="4"/>
                      <a:pt x="13971" y="5"/>
                    </a:cubicBezTo>
                    <a:cubicBezTo>
                      <a:pt x="13971" y="6"/>
                      <a:pt x="13970" y="7"/>
                      <a:pt x="13969" y="7"/>
                    </a:cubicBezTo>
                    <a:lnTo>
                      <a:pt x="13969" y="7"/>
                    </a:lnTo>
                    <a:cubicBezTo>
                      <a:pt x="13968" y="7"/>
                      <a:pt x="13967" y="6"/>
                      <a:pt x="13967" y="5"/>
                    </a:cubicBezTo>
                    <a:cubicBezTo>
                      <a:pt x="13967" y="4"/>
                      <a:pt x="13968" y="3"/>
                      <a:pt x="13969" y="3"/>
                    </a:cubicBezTo>
                    <a:close/>
                    <a:moveTo>
                      <a:pt x="13977" y="3"/>
                    </a:moveTo>
                    <a:lnTo>
                      <a:pt x="13977" y="3"/>
                    </a:lnTo>
                    <a:cubicBezTo>
                      <a:pt x="13978" y="3"/>
                      <a:pt x="13979" y="4"/>
                      <a:pt x="13979" y="5"/>
                    </a:cubicBezTo>
                    <a:cubicBezTo>
                      <a:pt x="13979" y="6"/>
                      <a:pt x="13978" y="7"/>
                      <a:pt x="13977" y="7"/>
                    </a:cubicBezTo>
                    <a:lnTo>
                      <a:pt x="13977" y="7"/>
                    </a:lnTo>
                    <a:cubicBezTo>
                      <a:pt x="13976" y="7"/>
                      <a:pt x="13975" y="6"/>
                      <a:pt x="13975" y="5"/>
                    </a:cubicBezTo>
                    <a:cubicBezTo>
                      <a:pt x="13975" y="4"/>
                      <a:pt x="13976" y="3"/>
                      <a:pt x="13977" y="3"/>
                    </a:cubicBezTo>
                    <a:close/>
                    <a:moveTo>
                      <a:pt x="13985" y="3"/>
                    </a:moveTo>
                    <a:lnTo>
                      <a:pt x="13985" y="3"/>
                    </a:lnTo>
                    <a:cubicBezTo>
                      <a:pt x="13986" y="3"/>
                      <a:pt x="13987" y="4"/>
                      <a:pt x="13987" y="5"/>
                    </a:cubicBezTo>
                    <a:cubicBezTo>
                      <a:pt x="13987" y="6"/>
                      <a:pt x="13986" y="7"/>
                      <a:pt x="13985" y="7"/>
                    </a:cubicBezTo>
                    <a:lnTo>
                      <a:pt x="13985" y="7"/>
                    </a:lnTo>
                    <a:cubicBezTo>
                      <a:pt x="13984" y="7"/>
                      <a:pt x="13983" y="6"/>
                      <a:pt x="13983" y="5"/>
                    </a:cubicBezTo>
                    <a:cubicBezTo>
                      <a:pt x="13983" y="4"/>
                      <a:pt x="13984" y="3"/>
                      <a:pt x="13985" y="3"/>
                    </a:cubicBezTo>
                    <a:close/>
                    <a:moveTo>
                      <a:pt x="13993" y="3"/>
                    </a:moveTo>
                    <a:lnTo>
                      <a:pt x="13993" y="3"/>
                    </a:lnTo>
                    <a:cubicBezTo>
                      <a:pt x="13994" y="3"/>
                      <a:pt x="13995" y="4"/>
                      <a:pt x="13995" y="5"/>
                    </a:cubicBezTo>
                    <a:cubicBezTo>
                      <a:pt x="13995" y="6"/>
                      <a:pt x="13994" y="7"/>
                      <a:pt x="13993" y="7"/>
                    </a:cubicBezTo>
                    <a:lnTo>
                      <a:pt x="13993" y="7"/>
                    </a:lnTo>
                    <a:cubicBezTo>
                      <a:pt x="13992" y="7"/>
                      <a:pt x="13991" y="6"/>
                      <a:pt x="13991" y="5"/>
                    </a:cubicBezTo>
                    <a:cubicBezTo>
                      <a:pt x="13991" y="4"/>
                      <a:pt x="13992" y="3"/>
                      <a:pt x="13993" y="3"/>
                    </a:cubicBezTo>
                    <a:close/>
                    <a:moveTo>
                      <a:pt x="14001" y="3"/>
                    </a:moveTo>
                    <a:lnTo>
                      <a:pt x="14001" y="3"/>
                    </a:lnTo>
                    <a:cubicBezTo>
                      <a:pt x="14002" y="3"/>
                      <a:pt x="14003" y="4"/>
                      <a:pt x="14003" y="5"/>
                    </a:cubicBezTo>
                    <a:cubicBezTo>
                      <a:pt x="14003" y="6"/>
                      <a:pt x="14002" y="7"/>
                      <a:pt x="14001" y="7"/>
                    </a:cubicBezTo>
                    <a:lnTo>
                      <a:pt x="14001" y="7"/>
                    </a:lnTo>
                    <a:cubicBezTo>
                      <a:pt x="14000" y="7"/>
                      <a:pt x="13999" y="6"/>
                      <a:pt x="13999" y="5"/>
                    </a:cubicBezTo>
                    <a:cubicBezTo>
                      <a:pt x="13999" y="4"/>
                      <a:pt x="14000" y="3"/>
                      <a:pt x="14001" y="3"/>
                    </a:cubicBezTo>
                    <a:close/>
                    <a:moveTo>
                      <a:pt x="14009" y="3"/>
                    </a:moveTo>
                    <a:lnTo>
                      <a:pt x="14009" y="3"/>
                    </a:lnTo>
                    <a:cubicBezTo>
                      <a:pt x="14010" y="3"/>
                      <a:pt x="14011" y="4"/>
                      <a:pt x="14011" y="5"/>
                    </a:cubicBezTo>
                    <a:cubicBezTo>
                      <a:pt x="14011" y="6"/>
                      <a:pt x="14010" y="7"/>
                      <a:pt x="14009" y="7"/>
                    </a:cubicBezTo>
                    <a:lnTo>
                      <a:pt x="14009" y="7"/>
                    </a:lnTo>
                    <a:cubicBezTo>
                      <a:pt x="14008" y="7"/>
                      <a:pt x="14007" y="6"/>
                      <a:pt x="14007" y="5"/>
                    </a:cubicBezTo>
                    <a:cubicBezTo>
                      <a:pt x="14007" y="4"/>
                      <a:pt x="14008" y="3"/>
                      <a:pt x="14009" y="3"/>
                    </a:cubicBezTo>
                    <a:close/>
                    <a:moveTo>
                      <a:pt x="14017" y="3"/>
                    </a:moveTo>
                    <a:lnTo>
                      <a:pt x="14017" y="3"/>
                    </a:lnTo>
                    <a:cubicBezTo>
                      <a:pt x="14018" y="3"/>
                      <a:pt x="14019" y="4"/>
                      <a:pt x="14019" y="5"/>
                    </a:cubicBezTo>
                    <a:cubicBezTo>
                      <a:pt x="14019" y="6"/>
                      <a:pt x="14018" y="7"/>
                      <a:pt x="14017" y="7"/>
                    </a:cubicBezTo>
                    <a:lnTo>
                      <a:pt x="14017" y="7"/>
                    </a:lnTo>
                    <a:cubicBezTo>
                      <a:pt x="14016" y="7"/>
                      <a:pt x="14015" y="6"/>
                      <a:pt x="14015" y="5"/>
                    </a:cubicBezTo>
                    <a:cubicBezTo>
                      <a:pt x="14015" y="4"/>
                      <a:pt x="14016" y="3"/>
                      <a:pt x="14017" y="3"/>
                    </a:cubicBezTo>
                    <a:close/>
                    <a:moveTo>
                      <a:pt x="14025" y="3"/>
                    </a:moveTo>
                    <a:lnTo>
                      <a:pt x="14025" y="3"/>
                    </a:lnTo>
                    <a:cubicBezTo>
                      <a:pt x="14026" y="3"/>
                      <a:pt x="14027" y="4"/>
                      <a:pt x="14027" y="5"/>
                    </a:cubicBezTo>
                    <a:cubicBezTo>
                      <a:pt x="14027" y="6"/>
                      <a:pt x="14026" y="7"/>
                      <a:pt x="14025" y="7"/>
                    </a:cubicBezTo>
                    <a:lnTo>
                      <a:pt x="14025" y="7"/>
                    </a:lnTo>
                    <a:cubicBezTo>
                      <a:pt x="14024" y="7"/>
                      <a:pt x="14023" y="6"/>
                      <a:pt x="14023" y="5"/>
                    </a:cubicBezTo>
                    <a:cubicBezTo>
                      <a:pt x="14023" y="4"/>
                      <a:pt x="14024" y="3"/>
                      <a:pt x="14025" y="3"/>
                    </a:cubicBezTo>
                    <a:close/>
                    <a:moveTo>
                      <a:pt x="14033" y="3"/>
                    </a:moveTo>
                    <a:lnTo>
                      <a:pt x="14033" y="3"/>
                    </a:lnTo>
                    <a:cubicBezTo>
                      <a:pt x="14034" y="3"/>
                      <a:pt x="14035" y="4"/>
                      <a:pt x="14035" y="5"/>
                    </a:cubicBezTo>
                    <a:cubicBezTo>
                      <a:pt x="14035" y="6"/>
                      <a:pt x="14034" y="7"/>
                      <a:pt x="14033" y="7"/>
                    </a:cubicBezTo>
                    <a:lnTo>
                      <a:pt x="14033" y="7"/>
                    </a:lnTo>
                    <a:cubicBezTo>
                      <a:pt x="14032" y="7"/>
                      <a:pt x="14031" y="6"/>
                      <a:pt x="14031" y="5"/>
                    </a:cubicBezTo>
                    <a:cubicBezTo>
                      <a:pt x="14031" y="4"/>
                      <a:pt x="14032" y="3"/>
                      <a:pt x="14033" y="3"/>
                    </a:cubicBezTo>
                    <a:close/>
                    <a:moveTo>
                      <a:pt x="14041" y="3"/>
                    </a:moveTo>
                    <a:lnTo>
                      <a:pt x="14041" y="3"/>
                    </a:lnTo>
                    <a:cubicBezTo>
                      <a:pt x="14042" y="3"/>
                      <a:pt x="14043" y="4"/>
                      <a:pt x="14043" y="5"/>
                    </a:cubicBezTo>
                    <a:cubicBezTo>
                      <a:pt x="14043" y="6"/>
                      <a:pt x="14042" y="7"/>
                      <a:pt x="14041" y="7"/>
                    </a:cubicBezTo>
                    <a:lnTo>
                      <a:pt x="14041" y="7"/>
                    </a:lnTo>
                    <a:cubicBezTo>
                      <a:pt x="14040" y="7"/>
                      <a:pt x="14039" y="6"/>
                      <a:pt x="14039" y="5"/>
                    </a:cubicBezTo>
                    <a:cubicBezTo>
                      <a:pt x="14039" y="4"/>
                      <a:pt x="14040" y="3"/>
                      <a:pt x="14041" y="3"/>
                    </a:cubicBezTo>
                    <a:close/>
                    <a:moveTo>
                      <a:pt x="14049" y="3"/>
                    </a:moveTo>
                    <a:lnTo>
                      <a:pt x="14049" y="3"/>
                    </a:lnTo>
                    <a:cubicBezTo>
                      <a:pt x="14050" y="3"/>
                      <a:pt x="14051" y="4"/>
                      <a:pt x="14051" y="5"/>
                    </a:cubicBezTo>
                    <a:cubicBezTo>
                      <a:pt x="14051" y="6"/>
                      <a:pt x="14050" y="7"/>
                      <a:pt x="14049" y="7"/>
                    </a:cubicBezTo>
                    <a:lnTo>
                      <a:pt x="14049" y="7"/>
                    </a:lnTo>
                    <a:cubicBezTo>
                      <a:pt x="14048" y="7"/>
                      <a:pt x="14047" y="6"/>
                      <a:pt x="14047" y="5"/>
                    </a:cubicBezTo>
                    <a:cubicBezTo>
                      <a:pt x="14047" y="4"/>
                      <a:pt x="14048" y="3"/>
                      <a:pt x="14049" y="3"/>
                    </a:cubicBezTo>
                    <a:close/>
                    <a:moveTo>
                      <a:pt x="14057" y="3"/>
                    </a:moveTo>
                    <a:lnTo>
                      <a:pt x="14057" y="3"/>
                    </a:lnTo>
                    <a:cubicBezTo>
                      <a:pt x="14058" y="3"/>
                      <a:pt x="14059" y="4"/>
                      <a:pt x="14059" y="5"/>
                    </a:cubicBezTo>
                    <a:cubicBezTo>
                      <a:pt x="14059" y="6"/>
                      <a:pt x="14058" y="7"/>
                      <a:pt x="14057" y="7"/>
                    </a:cubicBezTo>
                    <a:lnTo>
                      <a:pt x="14057" y="7"/>
                    </a:lnTo>
                    <a:cubicBezTo>
                      <a:pt x="14056" y="7"/>
                      <a:pt x="14055" y="6"/>
                      <a:pt x="14055" y="5"/>
                    </a:cubicBezTo>
                    <a:cubicBezTo>
                      <a:pt x="14055" y="4"/>
                      <a:pt x="14056" y="3"/>
                      <a:pt x="14057" y="3"/>
                    </a:cubicBezTo>
                    <a:close/>
                    <a:moveTo>
                      <a:pt x="14065" y="3"/>
                    </a:moveTo>
                    <a:lnTo>
                      <a:pt x="14065" y="3"/>
                    </a:lnTo>
                    <a:cubicBezTo>
                      <a:pt x="14066" y="3"/>
                      <a:pt x="14067" y="4"/>
                      <a:pt x="14067" y="5"/>
                    </a:cubicBezTo>
                    <a:cubicBezTo>
                      <a:pt x="14067" y="6"/>
                      <a:pt x="14066" y="7"/>
                      <a:pt x="14065" y="7"/>
                    </a:cubicBezTo>
                    <a:lnTo>
                      <a:pt x="14065" y="7"/>
                    </a:lnTo>
                    <a:cubicBezTo>
                      <a:pt x="14064" y="7"/>
                      <a:pt x="14063" y="6"/>
                      <a:pt x="14063" y="5"/>
                    </a:cubicBezTo>
                    <a:cubicBezTo>
                      <a:pt x="14063" y="4"/>
                      <a:pt x="14064" y="3"/>
                      <a:pt x="14065" y="3"/>
                    </a:cubicBezTo>
                    <a:close/>
                    <a:moveTo>
                      <a:pt x="14073" y="3"/>
                    </a:moveTo>
                    <a:lnTo>
                      <a:pt x="14073" y="3"/>
                    </a:lnTo>
                    <a:cubicBezTo>
                      <a:pt x="14074" y="3"/>
                      <a:pt x="14075" y="4"/>
                      <a:pt x="14075" y="5"/>
                    </a:cubicBezTo>
                    <a:cubicBezTo>
                      <a:pt x="14075" y="6"/>
                      <a:pt x="14074" y="7"/>
                      <a:pt x="14073" y="7"/>
                    </a:cubicBezTo>
                    <a:lnTo>
                      <a:pt x="14073" y="7"/>
                    </a:lnTo>
                    <a:cubicBezTo>
                      <a:pt x="14072" y="7"/>
                      <a:pt x="14071" y="6"/>
                      <a:pt x="14071" y="5"/>
                    </a:cubicBezTo>
                    <a:cubicBezTo>
                      <a:pt x="14071" y="4"/>
                      <a:pt x="14072" y="3"/>
                      <a:pt x="14073" y="3"/>
                    </a:cubicBezTo>
                    <a:close/>
                    <a:moveTo>
                      <a:pt x="14081" y="3"/>
                    </a:moveTo>
                    <a:lnTo>
                      <a:pt x="14081" y="3"/>
                    </a:lnTo>
                    <a:cubicBezTo>
                      <a:pt x="14082" y="3"/>
                      <a:pt x="14083" y="4"/>
                      <a:pt x="14083" y="5"/>
                    </a:cubicBezTo>
                    <a:cubicBezTo>
                      <a:pt x="14083" y="6"/>
                      <a:pt x="14082" y="7"/>
                      <a:pt x="14081" y="7"/>
                    </a:cubicBezTo>
                    <a:lnTo>
                      <a:pt x="14081" y="7"/>
                    </a:lnTo>
                    <a:cubicBezTo>
                      <a:pt x="14080" y="7"/>
                      <a:pt x="14079" y="6"/>
                      <a:pt x="14079" y="5"/>
                    </a:cubicBezTo>
                    <a:cubicBezTo>
                      <a:pt x="14079" y="4"/>
                      <a:pt x="14080" y="3"/>
                      <a:pt x="14081" y="3"/>
                    </a:cubicBezTo>
                    <a:close/>
                    <a:moveTo>
                      <a:pt x="14089" y="3"/>
                    </a:moveTo>
                    <a:lnTo>
                      <a:pt x="14089" y="3"/>
                    </a:lnTo>
                    <a:cubicBezTo>
                      <a:pt x="14090" y="3"/>
                      <a:pt x="14091" y="4"/>
                      <a:pt x="14091" y="5"/>
                    </a:cubicBezTo>
                    <a:cubicBezTo>
                      <a:pt x="14091" y="6"/>
                      <a:pt x="14090" y="7"/>
                      <a:pt x="14089" y="7"/>
                    </a:cubicBezTo>
                    <a:lnTo>
                      <a:pt x="14089" y="7"/>
                    </a:lnTo>
                    <a:cubicBezTo>
                      <a:pt x="14088" y="7"/>
                      <a:pt x="14087" y="6"/>
                      <a:pt x="14087" y="5"/>
                    </a:cubicBezTo>
                    <a:cubicBezTo>
                      <a:pt x="14087" y="4"/>
                      <a:pt x="14088" y="3"/>
                      <a:pt x="14089" y="3"/>
                    </a:cubicBezTo>
                    <a:close/>
                    <a:moveTo>
                      <a:pt x="14097" y="3"/>
                    </a:moveTo>
                    <a:lnTo>
                      <a:pt x="14097" y="3"/>
                    </a:lnTo>
                    <a:cubicBezTo>
                      <a:pt x="14098" y="3"/>
                      <a:pt x="14099" y="4"/>
                      <a:pt x="14099" y="5"/>
                    </a:cubicBezTo>
                    <a:cubicBezTo>
                      <a:pt x="14099" y="6"/>
                      <a:pt x="14098" y="7"/>
                      <a:pt x="14097" y="7"/>
                    </a:cubicBezTo>
                    <a:lnTo>
                      <a:pt x="14097" y="7"/>
                    </a:lnTo>
                    <a:cubicBezTo>
                      <a:pt x="14096" y="7"/>
                      <a:pt x="14095" y="6"/>
                      <a:pt x="14095" y="5"/>
                    </a:cubicBezTo>
                    <a:cubicBezTo>
                      <a:pt x="14095" y="4"/>
                      <a:pt x="14096" y="3"/>
                      <a:pt x="14097" y="3"/>
                    </a:cubicBezTo>
                    <a:close/>
                    <a:moveTo>
                      <a:pt x="14105" y="3"/>
                    </a:moveTo>
                    <a:lnTo>
                      <a:pt x="14105" y="3"/>
                    </a:lnTo>
                    <a:cubicBezTo>
                      <a:pt x="14106" y="3"/>
                      <a:pt x="14107" y="4"/>
                      <a:pt x="14107" y="5"/>
                    </a:cubicBezTo>
                    <a:cubicBezTo>
                      <a:pt x="14107" y="6"/>
                      <a:pt x="14106" y="7"/>
                      <a:pt x="14105" y="7"/>
                    </a:cubicBezTo>
                    <a:lnTo>
                      <a:pt x="14105" y="7"/>
                    </a:lnTo>
                    <a:cubicBezTo>
                      <a:pt x="14104" y="7"/>
                      <a:pt x="14103" y="6"/>
                      <a:pt x="14103" y="5"/>
                    </a:cubicBezTo>
                    <a:cubicBezTo>
                      <a:pt x="14103" y="4"/>
                      <a:pt x="14104" y="3"/>
                      <a:pt x="14105" y="3"/>
                    </a:cubicBezTo>
                    <a:close/>
                    <a:moveTo>
                      <a:pt x="14113" y="3"/>
                    </a:moveTo>
                    <a:lnTo>
                      <a:pt x="14113" y="3"/>
                    </a:lnTo>
                    <a:cubicBezTo>
                      <a:pt x="14114" y="3"/>
                      <a:pt x="14115" y="4"/>
                      <a:pt x="14115" y="5"/>
                    </a:cubicBezTo>
                    <a:cubicBezTo>
                      <a:pt x="14115" y="6"/>
                      <a:pt x="14114" y="7"/>
                      <a:pt x="14113" y="7"/>
                    </a:cubicBezTo>
                    <a:lnTo>
                      <a:pt x="14113" y="7"/>
                    </a:lnTo>
                    <a:cubicBezTo>
                      <a:pt x="14112" y="7"/>
                      <a:pt x="14111" y="6"/>
                      <a:pt x="14111" y="5"/>
                    </a:cubicBezTo>
                    <a:cubicBezTo>
                      <a:pt x="14111" y="4"/>
                      <a:pt x="14112" y="3"/>
                      <a:pt x="14113" y="3"/>
                    </a:cubicBezTo>
                    <a:close/>
                    <a:moveTo>
                      <a:pt x="14121" y="3"/>
                    </a:moveTo>
                    <a:lnTo>
                      <a:pt x="14121" y="3"/>
                    </a:lnTo>
                    <a:cubicBezTo>
                      <a:pt x="14122" y="3"/>
                      <a:pt x="14123" y="4"/>
                      <a:pt x="14123" y="5"/>
                    </a:cubicBezTo>
                    <a:cubicBezTo>
                      <a:pt x="14123" y="6"/>
                      <a:pt x="14122" y="7"/>
                      <a:pt x="14121" y="7"/>
                    </a:cubicBezTo>
                    <a:lnTo>
                      <a:pt x="14121" y="7"/>
                    </a:lnTo>
                    <a:cubicBezTo>
                      <a:pt x="14120" y="7"/>
                      <a:pt x="14119" y="6"/>
                      <a:pt x="14119" y="5"/>
                    </a:cubicBezTo>
                    <a:cubicBezTo>
                      <a:pt x="14119" y="4"/>
                      <a:pt x="14120" y="3"/>
                      <a:pt x="14121" y="3"/>
                    </a:cubicBezTo>
                    <a:close/>
                    <a:moveTo>
                      <a:pt x="14129" y="3"/>
                    </a:moveTo>
                    <a:lnTo>
                      <a:pt x="14129" y="3"/>
                    </a:lnTo>
                    <a:cubicBezTo>
                      <a:pt x="14130" y="3"/>
                      <a:pt x="14131" y="4"/>
                      <a:pt x="14131" y="5"/>
                    </a:cubicBezTo>
                    <a:cubicBezTo>
                      <a:pt x="14131" y="6"/>
                      <a:pt x="14130" y="7"/>
                      <a:pt x="14129" y="7"/>
                    </a:cubicBezTo>
                    <a:lnTo>
                      <a:pt x="14129" y="7"/>
                    </a:lnTo>
                    <a:cubicBezTo>
                      <a:pt x="14128" y="7"/>
                      <a:pt x="14127" y="6"/>
                      <a:pt x="14127" y="5"/>
                    </a:cubicBezTo>
                    <a:cubicBezTo>
                      <a:pt x="14127" y="4"/>
                      <a:pt x="14128" y="3"/>
                      <a:pt x="14129" y="3"/>
                    </a:cubicBezTo>
                    <a:close/>
                    <a:moveTo>
                      <a:pt x="14137" y="3"/>
                    </a:moveTo>
                    <a:lnTo>
                      <a:pt x="14137" y="3"/>
                    </a:lnTo>
                    <a:cubicBezTo>
                      <a:pt x="14138" y="3"/>
                      <a:pt x="14139" y="4"/>
                      <a:pt x="14139" y="5"/>
                    </a:cubicBezTo>
                    <a:cubicBezTo>
                      <a:pt x="14139" y="6"/>
                      <a:pt x="14138" y="7"/>
                      <a:pt x="14137" y="7"/>
                    </a:cubicBezTo>
                    <a:lnTo>
                      <a:pt x="14137" y="7"/>
                    </a:lnTo>
                    <a:cubicBezTo>
                      <a:pt x="14136" y="7"/>
                      <a:pt x="14135" y="6"/>
                      <a:pt x="14135" y="5"/>
                    </a:cubicBezTo>
                    <a:cubicBezTo>
                      <a:pt x="14135" y="4"/>
                      <a:pt x="14136" y="3"/>
                      <a:pt x="14137" y="3"/>
                    </a:cubicBezTo>
                    <a:close/>
                    <a:moveTo>
                      <a:pt x="14145" y="3"/>
                    </a:moveTo>
                    <a:lnTo>
                      <a:pt x="14145" y="3"/>
                    </a:lnTo>
                    <a:cubicBezTo>
                      <a:pt x="14146" y="3"/>
                      <a:pt x="14147" y="4"/>
                      <a:pt x="14147" y="5"/>
                    </a:cubicBezTo>
                    <a:cubicBezTo>
                      <a:pt x="14147" y="6"/>
                      <a:pt x="14146" y="7"/>
                      <a:pt x="14145" y="7"/>
                    </a:cubicBezTo>
                    <a:lnTo>
                      <a:pt x="14145" y="7"/>
                    </a:lnTo>
                    <a:cubicBezTo>
                      <a:pt x="14144" y="7"/>
                      <a:pt x="14143" y="6"/>
                      <a:pt x="14143" y="5"/>
                    </a:cubicBezTo>
                    <a:cubicBezTo>
                      <a:pt x="14143" y="4"/>
                      <a:pt x="14144" y="3"/>
                      <a:pt x="14145" y="3"/>
                    </a:cubicBezTo>
                    <a:close/>
                    <a:moveTo>
                      <a:pt x="14153" y="3"/>
                    </a:moveTo>
                    <a:lnTo>
                      <a:pt x="14153" y="3"/>
                    </a:lnTo>
                    <a:cubicBezTo>
                      <a:pt x="14154" y="3"/>
                      <a:pt x="14155" y="4"/>
                      <a:pt x="14155" y="5"/>
                    </a:cubicBezTo>
                    <a:cubicBezTo>
                      <a:pt x="14155" y="6"/>
                      <a:pt x="14154" y="7"/>
                      <a:pt x="14153" y="7"/>
                    </a:cubicBezTo>
                    <a:lnTo>
                      <a:pt x="14153" y="7"/>
                    </a:lnTo>
                    <a:cubicBezTo>
                      <a:pt x="14152" y="7"/>
                      <a:pt x="14151" y="6"/>
                      <a:pt x="14151" y="5"/>
                    </a:cubicBezTo>
                    <a:cubicBezTo>
                      <a:pt x="14151" y="4"/>
                      <a:pt x="14152" y="3"/>
                      <a:pt x="14153" y="3"/>
                    </a:cubicBezTo>
                    <a:close/>
                    <a:moveTo>
                      <a:pt x="14161" y="3"/>
                    </a:moveTo>
                    <a:lnTo>
                      <a:pt x="14161" y="3"/>
                    </a:lnTo>
                    <a:cubicBezTo>
                      <a:pt x="14162" y="3"/>
                      <a:pt x="14163" y="4"/>
                      <a:pt x="14163" y="5"/>
                    </a:cubicBezTo>
                    <a:cubicBezTo>
                      <a:pt x="14163" y="6"/>
                      <a:pt x="14162" y="7"/>
                      <a:pt x="14161" y="7"/>
                    </a:cubicBezTo>
                    <a:lnTo>
                      <a:pt x="14161" y="7"/>
                    </a:lnTo>
                    <a:cubicBezTo>
                      <a:pt x="14160" y="7"/>
                      <a:pt x="14159" y="6"/>
                      <a:pt x="14159" y="5"/>
                    </a:cubicBezTo>
                    <a:cubicBezTo>
                      <a:pt x="14159" y="4"/>
                      <a:pt x="14160" y="3"/>
                      <a:pt x="14161" y="3"/>
                    </a:cubicBezTo>
                    <a:close/>
                    <a:moveTo>
                      <a:pt x="14169" y="3"/>
                    </a:moveTo>
                    <a:lnTo>
                      <a:pt x="14169" y="3"/>
                    </a:lnTo>
                    <a:cubicBezTo>
                      <a:pt x="14171" y="3"/>
                      <a:pt x="14171" y="4"/>
                      <a:pt x="14171" y="5"/>
                    </a:cubicBezTo>
                    <a:cubicBezTo>
                      <a:pt x="14171" y="6"/>
                      <a:pt x="14171" y="7"/>
                      <a:pt x="14169" y="7"/>
                    </a:cubicBezTo>
                    <a:lnTo>
                      <a:pt x="14169" y="7"/>
                    </a:lnTo>
                    <a:cubicBezTo>
                      <a:pt x="14168" y="7"/>
                      <a:pt x="14167" y="6"/>
                      <a:pt x="14167" y="5"/>
                    </a:cubicBezTo>
                    <a:cubicBezTo>
                      <a:pt x="14167" y="4"/>
                      <a:pt x="14168" y="3"/>
                      <a:pt x="14169" y="3"/>
                    </a:cubicBezTo>
                    <a:close/>
                    <a:moveTo>
                      <a:pt x="14177" y="3"/>
                    </a:moveTo>
                    <a:lnTo>
                      <a:pt x="14177" y="3"/>
                    </a:lnTo>
                    <a:cubicBezTo>
                      <a:pt x="14179" y="3"/>
                      <a:pt x="14179" y="4"/>
                      <a:pt x="14179" y="5"/>
                    </a:cubicBezTo>
                    <a:cubicBezTo>
                      <a:pt x="14179" y="6"/>
                      <a:pt x="14179" y="7"/>
                      <a:pt x="14177" y="7"/>
                    </a:cubicBezTo>
                    <a:lnTo>
                      <a:pt x="14177" y="7"/>
                    </a:lnTo>
                    <a:cubicBezTo>
                      <a:pt x="14176" y="7"/>
                      <a:pt x="14175" y="6"/>
                      <a:pt x="14175" y="5"/>
                    </a:cubicBezTo>
                    <a:cubicBezTo>
                      <a:pt x="14175" y="4"/>
                      <a:pt x="14176" y="3"/>
                      <a:pt x="14177" y="3"/>
                    </a:cubicBezTo>
                    <a:close/>
                    <a:moveTo>
                      <a:pt x="14185" y="3"/>
                    </a:moveTo>
                    <a:lnTo>
                      <a:pt x="14185" y="3"/>
                    </a:lnTo>
                    <a:cubicBezTo>
                      <a:pt x="14187" y="3"/>
                      <a:pt x="14187" y="4"/>
                      <a:pt x="14187" y="5"/>
                    </a:cubicBezTo>
                    <a:cubicBezTo>
                      <a:pt x="14187" y="6"/>
                      <a:pt x="14187" y="7"/>
                      <a:pt x="14185" y="7"/>
                    </a:cubicBezTo>
                    <a:lnTo>
                      <a:pt x="14185" y="7"/>
                    </a:lnTo>
                    <a:cubicBezTo>
                      <a:pt x="14184" y="7"/>
                      <a:pt x="14183" y="6"/>
                      <a:pt x="14183" y="5"/>
                    </a:cubicBezTo>
                    <a:cubicBezTo>
                      <a:pt x="14183" y="4"/>
                      <a:pt x="14184" y="3"/>
                      <a:pt x="14185" y="3"/>
                    </a:cubicBezTo>
                    <a:close/>
                    <a:moveTo>
                      <a:pt x="14193" y="3"/>
                    </a:moveTo>
                    <a:lnTo>
                      <a:pt x="14193" y="3"/>
                    </a:lnTo>
                    <a:cubicBezTo>
                      <a:pt x="14195" y="3"/>
                      <a:pt x="14195" y="4"/>
                      <a:pt x="14195" y="5"/>
                    </a:cubicBezTo>
                    <a:cubicBezTo>
                      <a:pt x="14195" y="6"/>
                      <a:pt x="14195" y="7"/>
                      <a:pt x="14193" y="7"/>
                    </a:cubicBezTo>
                    <a:lnTo>
                      <a:pt x="14193" y="7"/>
                    </a:lnTo>
                    <a:cubicBezTo>
                      <a:pt x="14192" y="7"/>
                      <a:pt x="14191" y="6"/>
                      <a:pt x="14191" y="5"/>
                    </a:cubicBezTo>
                    <a:cubicBezTo>
                      <a:pt x="14191" y="4"/>
                      <a:pt x="14192" y="3"/>
                      <a:pt x="14193" y="3"/>
                    </a:cubicBezTo>
                    <a:close/>
                    <a:moveTo>
                      <a:pt x="14201" y="3"/>
                    </a:moveTo>
                    <a:lnTo>
                      <a:pt x="14201" y="3"/>
                    </a:lnTo>
                    <a:cubicBezTo>
                      <a:pt x="14203" y="3"/>
                      <a:pt x="14203" y="4"/>
                      <a:pt x="14203" y="5"/>
                    </a:cubicBezTo>
                    <a:cubicBezTo>
                      <a:pt x="14203" y="6"/>
                      <a:pt x="14203" y="7"/>
                      <a:pt x="14201" y="7"/>
                    </a:cubicBezTo>
                    <a:lnTo>
                      <a:pt x="14201" y="7"/>
                    </a:lnTo>
                    <a:cubicBezTo>
                      <a:pt x="14200" y="7"/>
                      <a:pt x="14199" y="6"/>
                      <a:pt x="14199" y="5"/>
                    </a:cubicBezTo>
                    <a:cubicBezTo>
                      <a:pt x="14199" y="4"/>
                      <a:pt x="14200" y="3"/>
                      <a:pt x="14201" y="3"/>
                    </a:cubicBezTo>
                    <a:close/>
                    <a:moveTo>
                      <a:pt x="14209" y="3"/>
                    </a:moveTo>
                    <a:lnTo>
                      <a:pt x="14209" y="3"/>
                    </a:lnTo>
                    <a:cubicBezTo>
                      <a:pt x="14211" y="3"/>
                      <a:pt x="14211" y="4"/>
                      <a:pt x="14211" y="5"/>
                    </a:cubicBezTo>
                    <a:cubicBezTo>
                      <a:pt x="14211" y="6"/>
                      <a:pt x="14211" y="7"/>
                      <a:pt x="14209" y="7"/>
                    </a:cubicBezTo>
                    <a:lnTo>
                      <a:pt x="14209" y="7"/>
                    </a:lnTo>
                    <a:cubicBezTo>
                      <a:pt x="14208" y="7"/>
                      <a:pt x="14207" y="6"/>
                      <a:pt x="14207" y="5"/>
                    </a:cubicBezTo>
                    <a:cubicBezTo>
                      <a:pt x="14207" y="4"/>
                      <a:pt x="14208" y="3"/>
                      <a:pt x="14209" y="3"/>
                    </a:cubicBezTo>
                    <a:close/>
                    <a:moveTo>
                      <a:pt x="14217" y="3"/>
                    </a:moveTo>
                    <a:lnTo>
                      <a:pt x="14217" y="3"/>
                    </a:lnTo>
                    <a:cubicBezTo>
                      <a:pt x="14219" y="3"/>
                      <a:pt x="14219" y="4"/>
                      <a:pt x="14219" y="5"/>
                    </a:cubicBezTo>
                    <a:cubicBezTo>
                      <a:pt x="14219" y="6"/>
                      <a:pt x="14219" y="7"/>
                      <a:pt x="14217" y="7"/>
                    </a:cubicBezTo>
                    <a:lnTo>
                      <a:pt x="14217" y="7"/>
                    </a:lnTo>
                    <a:cubicBezTo>
                      <a:pt x="14216" y="7"/>
                      <a:pt x="14215" y="6"/>
                      <a:pt x="14215" y="5"/>
                    </a:cubicBezTo>
                    <a:cubicBezTo>
                      <a:pt x="14215" y="4"/>
                      <a:pt x="14216" y="3"/>
                      <a:pt x="14217" y="3"/>
                    </a:cubicBezTo>
                    <a:close/>
                    <a:moveTo>
                      <a:pt x="14225" y="3"/>
                    </a:moveTo>
                    <a:lnTo>
                      <a:pt x="14225" y="3"/>
                    </a:lnTo>
                    <a:cubicBezTo>
                      <a:pt x="14227" y="3"/>
                      <a:pt x="14227" y="4"/>
                      <a:pt x="14227" y="5"/>
                    </a:cubicBezTo>
                    <a:cubicBezTo>
                      <a:pt x="14227" y="6"/>
                      <a:pt x="14227" y="7"/>
                      <a:pt x="14225" y="7"/>
                    </a:cubicBezTo>
                    <a:lnTo>
                      <a:pt x="14225" y="7"/>
                    </a:lnTo>
                    <a:cubicBezTo>
                      <a:pt x="14224" y="7"/>
                      <a:pt x="14223" y="6"/>
                      <a:pt x="14223" y="5"/>
                    </a:cubicBezTo>
                    <a:cubicBezTo>
                      <a:pt x="14223" y="4"/>
                      <a:pt x="14224" y="3"/>
                      <a:pt x="14225" y="3"/>
                    </a:cubicBezTo>
                    <a:close/>
                    <a:moveTo>
                      <a:pt x="14233" y="3"/>
                    </a:moveTo>
                    <a:lnTo>
                      <a:pt x="14233" y="3"/>
                    </a:lnTo>
                    <a:cubicBezTo>
                      <a:pt x="14235" y="3"/>
                      <a:pt x="14235" y="4"/>
                      <a:pt x="14235" y="5"/>
                    </a:cubicBezTo>
                    <a:cubicBezTo>
                      <a:pt x="14235" y="6"/>
                      <a:pt x="14235" y="7"/>
                      <a:pt x="14233" y="7"/>
                    </a:cubicBezTo>
                    <a:lnTo>
                      <a:pt x="14233" y="7"/>
                    </a:lnTo>
                    <a:cubicBezTo>
                      <a:pt x="14232" y="7"/>
                      <a:pt x="14231" y="6"/>
                      <a:pt x="14231" y="5"/>
                    </a:cubicBezTo>
                    <a:cubicBezTo>
                      <a:pt x="14231" y="4"/>
                      <a:pt x="14232" y="3"/>
                      <a:pt x="14233" y="3"/>
                    </a:cubicBezTo>
                    <a:close/>
                    <a:moveTo>
                      <a:pt x="14241" y="3"/>
                    </a:moveTo>
                    <a:lnTo>
                      <a:pt x="14241" y="3"/>
                    </a:lnTo>
                    <a:cubicBezTo>
                      <a:pt x="14243" y="3"/>
                      <a:pt x="14243" y="4"/>
                      <a:pt x="14243" y="5"/>
                    </a:cubicBezTo>
                    <a:cubicBezTo>
                      <a:pt x="14243" y="6"/>
                      <a:pt x="14243" y="7"/>
                      <a:pt x="14241" y="7"/>
                    </a:cubicBezTo>
                    <a:lnTo>
                      <a:pt x="14241" y="7"/>
                    </a:lnTo>
                    <a:cubicBezTo>
                      <a:pt x="14240" y="7"/>
                      <a:pt x="14239" y="6"/>
                      <a:pt x="14239" y="5"/>
                    </a:cubicBezTo>
                    <a:cubicBezTo>
                      <a:pt x="14239" y="4"/>
                      <a:pt x="14240" y="3"/>
                      <a:pt x="14241" y="3"/>
                    </a:cubicBezTo>
                    <a:close/>
                    <a:moveTo>
                      <a:pt x="14249" y="3"/>
                    </a:moveTo>
                    <a:lnTo>
                      <a:pt x="14249" y="3"/>
                    </a:lnTo>
                    <a:cubicBezTo>
                      <a:pt x="14251" y="3"/>
                      <a:pt x="14251" y="4"/>
                      <a:pt x="14251" y="5"/>
                    </a:cubicBezTo>
                    <a:cubicBezTo>
                      <a:pt x="14251" y="6"/>
                      <a:pt x="14251" y="7"/>
                      <a:pt x="14249" y="7"/>
                    </a:cubicBezTo>
                    <a:lnTo>
                      <a:pt x="14249" y="7"/>
                    </a:lnTo>
                    <a:cubicBezTo>
                      <a:pt x="14248" y="7"/>
                      <a:pt x="14247" y="6"/>
                      <a:pt x="14247" y="5"/>
                    </a:cubicBezTo>
                    <a:cubicBezTo>
                      <a:pt x="14247" y="4"/>
                      <a:pt x="14248" y="3"/>
                      <a:pt x="14249" y="3"/>
                    </a:cubicBezTo>
                    <a:close/>
                    <a:moveTo>
                      <a:pt x="14257" y="3"/>
                    </a:moveTo>
                    <a:lnTo>
                      <a:pt x="14257" y="3"/>
                    </a:lnTo>
                    <a:cubicBezTo>
                      <a:pt x="14259" y="3"/>
                      <a:pt x="14259" y="4"/>
                      <a:pt x="14259" y="5"/>
                    </a:cubicBezTo>
                    <a:cubicBezTo>
                      <a:pt x="14259" y="6"/>
                      <a:pt x="14259" y="7"/>
                      <a:pt x="14257" y="7"/>
                    </a:cubicBezTo>
                    <a:lnTo>
                      <a:pt x="14257" y="7"/>
                    </a:lnTo>
                    <a:cubicBezTo>
                      <a:pt x="14256" y="7"/>
                      <a:pt x="14255" y="6"/>
                      <a:pt x="14255" y="5"/>
                    </a:cubicBezTo>
                    <a:cubicBezTo>
                      <a:pt x="14255" y="4"/>
                      <a:pt x="14256" y="3"/>
                      <a:pt x="14257" y="3"/>
                    </a:cubicBezTo>
                    <a:close/>
                    <a:moveTo>
                      <a:pt x="14265" y="3"/>
                    </a:moveTo>
                    <a:lnTo>
                      <a:pt x="14265" y="3"/>
                    </a:lnTo>
                    <a:cubicBezTo>
                      <a:pt x="14267" y="3"/>
                      <a:pt x="14267" y="4"/>
                      <a:pt x="14267" y="5"/>
                    </a:cubicBezTo>
                    <a:cubicBezTo>
                      <a:pt x="14267" y="6"/>
                      <a:pt x="14267" y="7"/>
                      <a:pt x="14265" y="7"/>
                    </a:cubicBezTo>
                    <a:lnTo>
                      <a:pt x="14265" y="7"/>
                    </a:lnTo>
                    <a:cubicBezTo>
                      <a:pt x="14264" y="7"/>
                      <a:pt x="14263" y="6"/>
                      <a:pt x="14263" y="5"/>
                    </a:cubicBezTo>
                    <a:cubicBezTo>
                      <a:pt x="14263" y="4"/>
                      <a:pt x="14264" y="3"/>
                      <a:pt x="14265" y="3"/>
                    </a:cubicBezTo>
                    <a:close/>
                    <a:moveTo>
                      <a:pt x="14273" y="3"/>
                    </a:moveTo>
                    <a:lnTo>
                      <a:pt x="14273" y="3"/>
                    </a:lnTo>
                    <a:cubicBezTo>
                      <a:pt x="14275" y="3"/>
                      <a:pt x="14275" y="4"/>
                      <a:pt x="14275" y="5"/>
                    </a:cubicBezTo>
                    <a:cubicBezTo>
                      <a:pt x="14275" y="6"/>
                      <a:pt x="14275" y="7"/>
                      <a:pt x="14273" y="7"/>
                    </a:cubicBezTo>
                    <a:lnTo>
                      <a:pt x="14273" y="7"/>
                    </a:lnTo>
                    <a:cubicBezTo>
                      <a:pt x="14272" y="7"/>
                      <a:pt x="14271" y="6"/>
                      <a:pt x="14271" y="5"/>
                    </a:cubicBezTo>
                    <a:cubicBezTo>
                      <a:pt x="14271" y="4"/>
                      <a:pt x="14272" y="3"/>
                      <a:pt x="14273" y="3"/>
                    </a:cubicBezTo>
                    <a:close/>
                    <a:moveTo>
                      <a:pt x="14281" y="3"/>
                    </a:moveTo>
                    <a:lnTo>
                      <a:pt x="14281" y="3"/>
                    </a:lnTo>
                    <a:cubicBezTo>
                      <a:pt x="14283" y="3"/>
                      <a:pt x="14283" y="4"/>
                      <a:pt x="14283" y="5"/>
                    </a:cubicBezTo>
                    <a:cubicBezTo>
                      <a:pt x="14283" y="6"/>
                      <a:pt x="14283" y="7"/>
                      <a:pt x="14281" y="7"/>
                    </a:cubicBezTo>
                    <a:lnTo>
                      <a:pt x="14281" y="7"/>
                    </a:lnTo>
                    <a:cubicBezTo>
                      <a:pt x="14280" y="7"/>
                      <a:pt x="14279" y="6"/>
                      <a:pt x="14279" y="5"/>
                    </a:cubicBezTo>
                    <a:cubicBezTo>
                      <a:pt x="14279" y="4"/>
                      <a:pt x="14280" y="3"/>
                      <a:pt x="14281" y="3"/>
                    </a:cubicBezTo>
                    <a:close/>
                    <a:moveTo>
                      <a:pt x="14289" y="3"/>
                    </a:moveTo>
                    <a:lnTo>
                      <a:pt x="14289" y="3"/>
                    </a:lnTo>
                    <a:cubicBezTo>
                      <a:pt x="14291" y="3"/>
                      <a:pt x="14291" y="4"/>
                      <a:pt x="14291" y="5"/>
                    </a:cubicBezTo>
                    <a:cubicBezTo>
                      <a:pt x="14291" y="6"/>
                      <a:pt x="14291" y="7"/>
                      <a:pt x="14289" y="7"/>
                    </a:cubicBezTo>
                    <a:lnTo>
                      <a:pt x="14289" y="7"/>
                    </a:lnTo>
                    <a:cubicBezTo>
                      <a:pt x="14288" y="7"/>
                      <a:pt x="14287" y="6"/>
                      <a:pt x="14287" y="5"/>
                    </a:cubicBezTo>
                    <a:cubicBezTo>
                      <a:pt x="14287" y="4"/>
                      <a:pt x="14288" y="3"/>
                      <a:pt x="14289" y="3"/>
                    </a:cubicBezTo>
                    <a:close/>
                    <a:moveTo>
                      <a:pt x="14297" y="3"/>
                    </a:moveTo>
                    <a:lnTo>
                      <a:pt x="14297" y="3"/>
                    </a:lnTo>
                    <a:cubicBezTo>
                      <a:pt x="14299" y="3"/>
                      <a:pt x="14299" y="4"/>
                      <a:pt x="14299" y="5"/>
                    </a:cubicBezTo>
                    <a:cubicBezTo>
                      <a:pt x="14299" y="6"/>
                      <a:pt x="14299" y="7"/>
                      <a:pt x="14297" y="7"/>
                    </a:cubicBezTo>
                    <a:lnTo>
                      <a:pt x="14297" y="7"/>
                    </a:lnTo>
                    <a:cubicBezTo>
                      <a:pt x="14296" y="7"/>
                      <a:pt x="14295" y="6"/>
                      <a:pt x="14295" y="5"/>
                    </a:cubicBezTo>
                    <a:cubicBezTo>
                      <a:pt x="14295" y="4"/>
                      <a:pt x="14296" y="3"/>
                      <a:pt x="14297" y="3"/>
                    </a:cubicBezTo>
                    <a:close/>
                    <a:moveTo>
                      <a:pt x="14305" y="3"/>
                    </a:moveTo>
                    <a:lnTo>
                      <a:pt x="14306" y="3"/>
                    </a:lnTo>
                    <a:cubicBezTo>
                      <a:pt x="14307" y="3"/>
                      <a:pt x="14308" y="4"/>
                      <a:pt x="14308" y="5"/>
                    </a:cubicBezTo>
                    <a:cubicBezTo>
                      <a:pt x="14308" y="6"/>
                      <a:pt x="14307" y="7"/>
                      <a:pt x="14306" y="7"/>
                    </a:cubicBezTo>
                    <a:lnTo>
                      <a:pt x="14305" y="7"/>
                    </a:lnTo>
                    <a:cubicBezTo>
                      <a:pt x="14304" y="7"/>
                      <a:pt x="14303" y="6"/>
                      <a:pt x="14303" y="5"/>
                    </a:cubicBezTo>
                    <a:cubicBezTo>
                      <a:pt x="14303" y="4"/>
                      <a:pt x="14304" y="3"/>
                      <a:pt x="14305" y="3"/>
                    </a:cubicBezTo>
                    <a:close/>
                    <a:moveTo>
                      <a:pt x="14314" y="3"/>
                    </a:moveTo>
                    <a:lnTo>
                      <a:pt x="14314" y="3"/>
                    </a:lnTo>
                    <a:cubicBezTo>
                      <a:pt x="14315" y="3"/>
                      <a:pt x="14316" y="4"/>
                      <a:pt x="14316" y="5"/>
                    </a:cubicBezTo>
                    <a:cubicBezTo>
                      <a:pt x="14316" y="6"/>
                      <a:pt x="14315" y="7"/>
                      <a:pt x="14314" y="7"/>
                    </a:cubicBezTo>
                    <a:lnTo>
                      <a:pt x="14314" y="7"/>
                    </a:lnTo>
                    <a:cubicBezTo>
                      <a:pt x="14312" y="7"/>
                      <a:pt x="14312" y="6"/>
                      <a:pt x="14312" y="5"/>
                    </a:cubicBezTo>
                    <a:cubicBezTo>
                      <a:pt x="14312" y="4"/>
                      <a:pt x="14312" y="3"/>
                      <a:pt x="14314" y="3"/>
                    </a:cubicBezTo>
                    <a:close/>
                    <a:moveTo>
                      <a:pt x="14322" y="3"/>
                    </a:moveTo>
                    <a:lnTo>
                      <a:pt x="14322" y="3"/>
                    </a:lnTo>
                    <a:cubicBezTo>
                      <a:pt x="14323" y="3"/>
                      <a:pt x="14324" y="4"/>
                      <a:pt x="14324" y="5"/>
                    </a:cubicBezTo>
                    <a:cubicBezTo>
                      <a:pt x="14324" y="6"/>
                      <a:pt x="14323" y="7"/>
                      <a:pt x="14322" y="7"/>
                    </a:cubicBezTo>
                    <a:lnTo>
                      <a:pt x="14322" y="7"/>
                    </a:lnTo>
                    <a:cubicBezTo>
                      <a:pt x="14320" y="7"/>
                      <a:pt x="14320" y="6"/>
                      <a:pt x="14320" y="5"/>
                    </a:cubicBezTo>
                    <a:cubicBezTo>
                      <a:pt x="14320" y="4"/>
                      <a:pt x="14320" y="3"/>
                      <a:pt x="14322" y="3"/>
                    </a:cubicBezTo>
                    <a:close/>
                    <a:moveTo>
                      <a:pt x="14330" y="3"/>
                    </a:moveTo>
                    <a:lnTo>
                      <a:pt x="14330" y="3"/>
                    </a:lnTo>
                    <a:cubicBezTo>
                      <a:pt x="14331" y="3"/>
                      <a:pt x="14332" y="4"/>
                      <a:pt x="14332" y="5"/>
                    </a:cubicBezTo>
                    <a:cubicBezTo>
                      <a:pt x="14332" y="6"/>
                      <a:pt x="14331" y="7"/>
                      <a:pt x="14330" y="7"/>
                    </a:cubicBezTo>
                    <a:lnTo>
                      <a:pt x="14330" y="7"/>
                    </a:lnTo>
                    <a:cubicBezTo>
                      <a:pt x="14328" y="7"/>
                      <a:pt x="14328" y="6"/>
                      <a:pt x="14328" y="5"/>
                    </a:cubicBezTo>
                    <a:cubicBezTo>
                      <a:pt x="14328" y="4"/>
                      <a:pt x="14328" y="3"/>
                      <a:pt x="14330" y="3"/>
                    </a:cubicBezTo>
                    <a:close/>
                    <a:moveTo>
                      <a:pt x="14338" y="3"/>
                    </a:moveTo>
                    <a:lnTo>
                      <a:pt x="14338" y="3"/>
                    </a:lnTo>
                    <a:cubicBezTo>
                      <a:pt x="14339" y="3"/>
                      <a:pt x="14340" y="4"/>
                      <a:pt x="14340" y="5"/>
                    </a:cubicBezTo>
                    <a:cubicBezTo>
                      <a:pt x="14340" y="6"/>
                      <a:pt x="14339" y="7"/>
                      <a:pt x="14338" y="7"/>
                    </a:cubicBezTo>
                    <a:lnTo>
                      <a:pt x="14338" y="7"/>
                    </a:lnTo>
                    <a:cubicBezTo>
                      <a:pt x="14336" y="7"/>
                      <a:pt x="14336" y="6"/>
                      <a:pt x="14336" y="5"/>
                    </a:cubicBezTo>
                    <a:cubicBezTo>
                      <a:pt x="14336" y="4"/>
                      <a:pt x="14336" y="3"/>
                      <a:pt x="14338" y="3"/>
                    </a:cubicBezTo>
                    <a:close/>
                    <a:moveTo>
                      <a:pt x="14346" y="3"/>
                    </a:moveTo>
                    <a:lnTo>
                      <a:pt x="14346" y="3"/>
                    </a:lnTo>
                    <a:cubicBezTo>
                      <a:pt x="14347" y="3"/>
                      <a:pt x="14348" y="4"/>
                      <a:pt x="14348" y="5"/>
                    </a:cubicBezTo>
                    <a:cubicBezTo>
                      <a:pt x="14348" y="6"/>
                      <a:pt x="14347" y="7"/>
                      <a:pt x="14346" y="7"/>
                    </a:cubicBezTo>
                    <a:lnTo>
                      <a:pt x="14346" y="7"/>
                    </a:lnTo>
                    <a:cubicBezTo>
                      <a:pt x="14344" y="7"/>
                      <a:pt x="14344" y="6"/>
                      <a:pt x="14344" y="5"/>
                    </a:cubicBezTo>
                    <a:cubicBezTo>
                      <a:pt x="14344" y="4"/>
                      <a:pt x="14344" y="3"/>
                      <a:pt x="14346" y="3"/>
                    </a:cubicBezTo>
                    <a:close/>
                    <a:moveTo>
                      <a:pt x="14354" y="3"/>
                    </a:moveTo>
                    <a:lnTo>
                      <a:pt x="14354" y="3"/>
                    </a:lnTo>
                    <a:cubicBezTo>
                      <a:pt x="14355" y="3"/>
                      <a:pt x="14356" y="4"/>
                      <a:pt x="14356" y="5"/>
                    </a:cubicBezTo>
                    <a:cubicBezTo>
                      <a:pt x="14356" y="6"/>
                      <a:pt x="14355" y="7"/>
                      <a:pt x="14354" y="7"/>
                    </a:cubicBezTo>
                    <a:lnTo>
                      <a:pt x="14354" y="7"/>
                    </a:lnTo>
                    <a:cubicBezTo>
                      <a:pt x="14352" y="7"/>
                      <a:pt x="14352" y="6"/>
                      <a:pt x="14352" y="5"/>
                    </a:cubicBezTo>
                    <a:cubicBezTo>
                      <a:pt x="14352" y="4"/>
                      <a:pt x="14352" y="3"/>
                      <a:pt x="14354" y="3"/>
                    </a:cubicBezTo>
                    <a:close/>
                    <a:moveTo>
                      <a:pt x="14362" y="3"/>
                    </a:moveTo>
                    <a:lnTo>
                      <a:pt x="14362" y="3"/>
                    </a:lnTo>
                    <a:cubicBezTo>
                      <a:pt x="14363" y="3"/>
                      <a:pt x="14364" y="4"/>
                      <a:pt x="14364" y="5"/>
                    </a:cubicBezTo>
                    <a:cubicBezTo>
                      <a:pt x="14364" y="6"/>
                      <a:pt x="14363" y="7"/>
                      <a:pt x="14362" y="7"/>
                    </a:cubicBezTo>
                    <a:lnTo>
                      <a:pt x="14362" y="7"/>
                    </a:lnTo>
                    <a:cubicBezTo>
                      <a:pt x="14360" y="7"/>
                      <a:pt x="14360" y="6"/>
                      <a:pt x="14360" y="5"/>
                    </a:cubicBezTo>
                    <a:cubicBezTo>
                      <a:pt x="14360" y="4"/>
                      <a:pt x="14360" y="3"/>
                      <a:pt x="14362" y="3"/>
                    </a:cubicBezTo>
                    <a:close/>
                    <a:moveTo>
                      <a:pt x="14370" y="3"/>
                    </a:moveTo>
                    <a:lnTo>
                      <a:pt x="14370" y="3"/>
                    </a:lnTo>
                    <a:cubicBezTo>
                      <a:pt x="14371" y="3"/>
                      <a:pt x="14372" y="4"/>
                      <a:pt x="14372" y="5"/>
                    </a:cubicBezTo>
                    <a:cubicBezTo>
                      <a:pt x="14372" y="6"/>
                      <a:pt x="14371" y="7"/>
                      <a:pt x="14370" y="7"/>
                    </a:cubicBezTo>
                    <a:lnTo>
                      <a:pt x="14370" y="7"/>
                    </a:lnTo>
                    <a:cubicBezTo>
                      <a:pt x="14368" y="7"/>
                      <a:pt x="14368" y="6"/>
                      <a:pt x="14368" y="5"/>
                    </a:cubicBezTo>
                    <a:cubicBezTo>
                      <a:pt x="14368" y="4"/>
                      <a:pt x="14368" y="3"/>
                      <a:pt x="14370" y="3"/>
                    </a:cubicBezTo>
                    <a:close/>
                    <a:moveTo>
                      <a:pt x="14378" y="3"/>
                    </a:moveTo>
                    <a:lnTo>
                      <a:pt x="14378" y="3"/>
                    </a:lnTo>
                    <a:cubicBezTo>
                      <a:pt x="14379" y="3"/>
                      <a:pt x="14380" y="4"/>
                      <a:pt x="14380" y="5"/>
                    </a:cubicBezTo>
                    <a:cubicBezTo>
                      <a:pt x="14380" y="6"/>
                      <a:pt x="14379" y="7"/>
                      <a:pt x="14378" y="7"/>
                    </a:cubicBezTo>
                    <a:lnTo>
                      <a:pt x="14378" y="7"/>
                    </a:lnTo>
                    <a:cubicBezTo>
                      <a:pt x="14376" y="7"/>
                      <a:pt x="14376" y="6"/>
                      <a:pt x="14376" y="5"/>
                    </a:cubicBezTo>
                    <a:cubicBezTo>
                      <a:pt x="14376" y="4"/>
                      <a:pt x="14376" y="3"/>
                      <a:pt x="14378" y="3"/>
                    </a:cubicBezTo>
                    <a:close/>
                    <a:moveTo>
                      <a:pt x="14386" y="3"/>
                    </a:moveTo>
                    <a:lnTo>
                      <a:pt x="14386" y="3"/>
                    </a:lnTo>
                    <a:cubicBezTo>
                      <a:pt x="14387" y="3"/>
                      <a:pt x="14388" y="4"/>
                      <a:pt x="14388" y="5"/>
                    </a:cubicBezTo>
                    <a:cubicBezTo>
                      <a:pt x="14388" y="6"/>
                      <a:pt x="14387" y="7"/>
                      <a:pt x="14386" y="7"/>
                    </a:cubicBezTo>
                    <a:lnTo>
                      <a:pt x="14386" y="7"/>
                    </a:lnTo>
                    <a:cubicBezTo>
                      <a:pt x="14384" y="7"/>
                      <a:pt x="14384" y="6"/>
                      <a:pt x="14384" y="5"/>
                    </a:cubicBezTo>
                    <a:cubicBezTo>
                      <a:pt x="14384" y="4"/>
                      <a:pt x="14384" y="3"/>
                      <a:pt x="14386" y="3"/>
                    </a:cubicBezTo>
                    <a:close/>
                    <a:moveTo>
                      <a:pt x="14394" y="3"/>
                    </a:moveTo>
                    <a:lnTo>
                      <a:pt x="14394" y="3"/>
                    </a:lnTo>
                    <a:cubicBezTo>
                      <a:pt x="14395" y="3"/>
                      <a:pt x="14396" y="4"/>
                      <a:pt x="14396" y="5"/>
                    </a:cubicBezTo>
                    <a:cubicBezTo>
                      <a:pt x="14396" y="6"/>
                      <a:pt x="14395" y="7"/>
                      <a:pt x="14394" y="7"/>
                    </a:cubicBezTo>
                    <a:lnTo>
                      <a:pt x="14394" y="7"/>
                    </a:lnTo>
                    <a:cubicBezTo>
                      <a:pt x="14392" y="7"/>
                      <a:pt x="14392" y="6"/>
                      <a:pt x="14392" y="5"/>
                    </a:cubicBezTo>
                    <a:cubicBezTo>
                      <a:pt x="14392" y="4"/>
                      <a:pt x="14392" y="3"/>
                      <a:pt x="14394" y="3"/>
                    </a:cubicBezTo>
                    <a:close/>
                    <a:moveTo>
                      <a:pt x="14402" y="3"/>
                    </a:moveTo>
                    <a:lnTo>
                      <a:pt x="14402" y="3"/>
                    </a:lnTo>
                    <a:cubicBezTo>
                      <a:pt x="14403" y="3"/>
                      <a:pt x="14404" y="4"/>
                      <a:pt x="14404" y="5"/>
                    </a:cubicBezTo>
                    <a:cubicBezTo>
                      <a:pt x="14404" y="6"/>
                      <a:pt x="14403" y="7"/>
                      <a:pt x="14402" y="7"/>
                    </a:cubicBezTo>
                    <a:lnTo>
                      <a:pt x="14402" y="7"/>
                    </a:lnTo>
                    <a:cubicBezTo>
                      <a:pt x="14400" y="7"/>
                      <a:pt x="14400" y="6"/>
                      <a:pt x="14400" y="5"/>
                    </a:cubicBezTo>
                    <a:cubicBezTo>
                      <a:pt x="14400" y="4"/>
                      <a:pt x="14400" y="3"/>
                      <a:pt x="14402" y="3"/>
                    </a:cubicBezTo>
                    <a:close/>
                    <a:moveTo>
                      <a:pt x="14410" y="3"/>
                    </a:moveTo>
                    <a:lnTo>
                      <a:pt x="14410" y="3"/>
                    </a:lnTo>
                    <a:cubicBezTo>
                      <a:pt x="14411" y="3"/>
                      <a:pt x="14412" y="4"/>
                      <a:pt x="14412" y="5"/>
                    </a:cubicBezTo>
                    <a:cubicBezTo>
                      <a:pt x="14412" y="6"/>
                      <a:pt x="14411" y="7"/>
                      <a:pt x="14410" y="7"/>
                    </a:cubicBezTo>
                    <a:lnTo>
                      <a:pt x="14410" y="7"/>
                    </a:lnTo>
                    <a:cubicBezTo>
                      <a:pt x="14408" y="7"/>
                      <a:pt x="14408" y="6"/>
                      <a:pt x="14408" y="5"/>
                    </a:cubicBezTo>
                    <a:cubicBezTo>
                      <a:pt x="14408" y="4"/>
                      <a:pt x="14408" y="3"/>
                      <a:pt x="14410" y="3"/>
                    </a:cubicBezTo>
                    <a:close/>
                    <a:moveTo>
                      <a:pt x="14418" y="3"/>
                    </a:moveTo>
                    <a:lnTo>
                      <a:pt x="14418" y="3"/>
                    </a:lnTo>
                    <a:cubicBezTo>
                      <a:pt x="14419" y="3"/>
                      <a:pt x="14420" y="4"/>
                      <a:pt x="14420" y="5"/>
                    </a:cubicBezTo>
                    <a:cubicBezTo>
                      <a:pt x="14420" y="6"/>
                      <a:pt x="14419" y="7"/>
                      <a:pt x="14418" y="7"/>
                    </a:cubicBezTo>
                    <a:lnTo>
                      <a:pt x="14418" y="7"/>
                    </a:lnTo>
                    <a:cubicBezTo>
                      <a:pt x="14416" y="7"/>
                      <a:pt x="14416" y="6"/>
                      <a:pt x="14416" y="5"/>
                    </a:cubicBezTo>
                    <a:cubicBezTo>
                      <a:pt x="14416" y="4"/>
                      <a:pt x="14416" y="3"/>
                      <a:pt x="14418" y="3"/>
                    </a:cubicBezTo>
                    <a:close/>
                    <a:moveTo>
                      <a:pt x="14426" y="3"/>
                    </a:moveTo>
                    <a:lnTo>
                      <a:pt x="14426" y="3"/>
                    </a:lnTo>
                    <a:cubicBezTo>
                      <a:pt x="14427" y="3"/>
                      <a:pt x="14428" y="4"/>
                      <a:pt x="14428" y="5"/>
                    </a:cubicBezTo>
                    <a:cubicBezTo>
                      <a:pt x="14428" y="6"/>
                      <a:pt x="14427" y="7"/>
                      <a:pt x="14426" y="7"/>
                    </a:cubicBezTo>
                    <a:lnTo>
                      <a:pt x="14426" y="7"/>
                    </a:lnTo>
                    <a:cubicBezTo>
                      <a:pt x="14424" y="7"/>
                      <a:pt x="14424" y="6"/>
                      <a:pt x="14424" y="5"/>
                    </a:cubicBezTo>
                    <a:cubicBezTo>
                      <a:pt x="14424" y="4"/>
                      <a:pt x="14424" y="3"/>
                      <a:pt x="14426" y="3"/>
                    </a:cubicBezTo>
                    <a:close/>
                    <a:moveTo>
                      <a:pt x="14434" y="3"/>
                    </a:moveTo>
                    <a:lnTo>
                      <a:pt x="14434" y="3"/>
                    </a:lnTo>
                    <a:cubicBezTo>
                      <a:pt x="14435" y="3"/>
                      <a:pt x="14436" y="4"/>
                      <a:pt x="14436" y="5"/>
                    </a:cubicBezTo>
                    <a:cubicBezTo>
                      <a:pt x="14436" y="6"/>
                      <a:pt x="14435" y="7"/>
                      <a:pt x="14434" y="7"/>
                    </a:cubicBezTo>
                    <a:lnTo>
                      <a:pt x="14434" y="7"/>
                    </a:lnTo>
                    <a:cubicBezTo>
                      <a:pt x="14432" y="7"/>
                      <a:pt x="14432" y="6"/>
                      <a:pt x="14432" y="5"/>
                    </a:cubicBezTo>
                    <a:cubicBezTo>
                      <a:pt x="14432" y="4"/>
                      <a:pt x="14432" y="3"/>
                      <a:pt x="14434" y="3"/>
                    </a:cubicBezTo>
                    <a:close/>
                    <a:moveTo>
                      <a:pt x="14442" y="3"/>
                    </a:moveTo>
                    <a:lnTo>
                      <a:pt x="14442" y="3"/>
                    </a:lnTo>
                    <a:cubicBezTo>
                      <a:pt x="14443" y="3"/>
                      <a:pt x="14444" y="4"/>
                      <a:pt x="14444" y="5"/>
                    </a:cubicBezTo>
                    <a:cubicBezTo>
                      <a:pt x="14444" y="6"/>
                      <a:pt x="14443" y="7"/>
                      <a:pt x="14442" y="7"/>
                    </a:cubicBezTo>
                    <a:lnTo>
                      <a:pt x="14442" y="7"/>
                    </a:lnTo>
                    <a:cubicBezTo>
                      <a:pt x="14440" y="7"/>
                      <a:pt x="14440" y="6"/>
                      <a:pt x="14440" y="5"/>
                    </a:cubicBezTo>
                    <a:cubicBezTo>
                      <a:pt x="14440" y="4"/>
                      <a:pt x="14440" y="3"/>
                      <a:pt x="14442" y="3"/>
                    </a:cubicBezTo>
                    <a:close/>
                    <a:moveTo>
                      <a:pt x="14450" y="3"/>
                    </a:moveTo>
                    <a:lnTo>
                      <a:pt x="14450" y="3"/>
                    </a:lnTo>
                    <a:cubicBezTo>
                      <a:pt x="14451" y="3"/>
                      <a:pt x="14452" y="4"/>
                      <a:pt x="14452" y="5"/>
                    </a:cubicBezTo>
                    <a:cubicBezTo>
                      <a:pt x="14452" y="6"/>
                      <a:pt x="14451" y="7"/>
                      <a:pt x="14450" y="7"/>
                    </a:cubicBezTo>
                    <a:lnTo>
                      <a:pt x="14450" y="7"/>
                    </a:lnTo>
                    <a:cubicBezTo>
                      <a:pt x="14448" y="7"/>
                      <a:pt x="14448" y="6"/>
                      <a:pt x="14448" y="5"/>
                    </a:cubicBezTo>
                    <a:cubicBezTo>
                      <a:pt x="14448" y="4"/>
                      <a:pt x="14448" y="3"/>
                      <a:pt x="14450" y="3"/>
                    </a:cubicBezTo>
                    <a:close/>
                    <a:moveTo>
                      <a:pt x="14458" y="3"/>
                    </a:moveTo>
                    <a:lnTo>
                      <a:pt x="14458" y="3"/>
                    </a:lnTo>
                    <a:cubicBezTo>
                      <a:pt x="14459" y="3"/>
                      <a:pt x="14460" y="4"/>
                      <a:pt x="14460" y="5"/>
                    </a:cubicBezTo>
                    <a:cubicBezTo>
                      <a:pt x="14460" y="6"/>
                      <a:pt x="14459" y="7"/>
                      <a:pt x="14458" y="7"/>
                    </a:cubicBezTo>
                    <a:lnTo>
                      <a:pt x="14458" y="7"/>
                    </a:lnTo>
                    <a:cubicBezTo>
                      <a:pt x="14457" y="7"/>
                      <a:pt x="14456" y="6"/>
                      <a:pt x="14456" y="5"/>
                    </a:cubicBezTo>
                    <a:cubicBezTo>
                      <a:pt x="14456" y="4"/>
                      <a:pt x="14457" y="3"/>
                      <a:pt x="14458" y="3"/>
                    </a:cubicBezTo>
                    <a:close/>
                    <a:moveTo>
                      <a:pt x="14466" y="3"/>
                    </a:moveTo>
                    <a:lnTo>
                      <a:pt x="14466" y="3"/>
                    </a:lnTo>
                    <a:cubicBezTo>
                      <a:pt x="14467" y="3"/>
                      <a:pt x="14468" y="4"/>
                      <a:pt x="14468" y="5"/>
                    </a:cubicBezTo>
                    <a:cubicBezTo>
                      <a:pt x="14468" y="6"/>
                      <a:pt x="14467" y="7"/>
                      <a:pt x="14466" y="7"/>
                    </a:cubicBezTo>
                    <a:lnTo>
                      <a:pt x="14466" y="7"/>
                    </a:lnTo>
                    <a:cubicBezTo>
                      <a:pt x="14465" y="7"/>
                      <a:pt x="14464" y="6"/>
                      <a:pt x="14464" y="5"/>
                    </a:cubicBezTo>
                    <a:cubicBezTo>
                      <a:pt x="14464" y="4"/>
                      <a:pt x="14465" y="3"/>
                      <a:pt x="14466" y="3"/>
                    </a:cubicBezTo>
                    <a:close/>
                    <a:moveTo>
                      <a:pt x="14474" y="3"/>
                    </a:moveTo>
                    <a:lnTo>
                      <a:pt x="14474" y="3"/>
                    </a:lnTo>
                    <a:cubicBezTo>
                      <a:pt x="14475" y="3"/>
                      <a:pt x="14476" y="4"/>
                      <a:pt x="14476" y="5"/>
                    </a:cubicBezTo>
                    <a:cubicBezTo>
                      <a:pt x="14476" y="6"/>
                      <a:pt x="14475" y="7"/>
                      <a:pt x="14474" y="7"/>
                    </a:cubicBezTo>
                    <a:lnTo>
                      <a:pt x="14474" y="7"/>
                    </a:lnTo>
                    <a:cubicBezTo>
                      <a:pt x="14473" y="7"/>
                      <a:pt x="14472" y="6"/>
                      <a:pt x="14472" y="5"/>
                    </a:cubicBezTo>
                    <a:cubicBezTo>
                      <a:pt x="14472" y="4"/>
                      <a:pt x="14473" y="3"/>
                      <a:pt x="14474" y="3"/>
                    </a:cubicBezTo>
                    <a:close/>
                    <a:moveTo>
                      <a:pt x="14482" y="3"/>
                    </a:moveTo>
                    <a:lnTo>
                      <a:pt x="14482" y="3"/>
                    </a:lnTo>
                    <a:cubicBezTo>
                      <a:pt x="14483" y="3"/>
                      <a:pt x="14484" y="4"/>
                      <a:pt x="14484" y="5"/>
                    </a:cubicBezTo>
                    <a:cubicBezTo>
                      <a:pt x="14484" y="6"/>
                      <a:pt x="14483" y="7"/>
                      <a:pt x="14482" y="7"/>
                    </a:cubicBezTo>
                    <a:lnTo>
                      <a:pt x="14482" y="7"/>
                    </a:lnTo>
                    <a:cubicBezTo>
                      <a:pt x="14481" y="7"/>
                      <a:pt x="14480" y="6"/>
                      <a:pt x="14480" y="5"/>
                    </a:cubicBezTo>
                    <a:cubicBezTo>
                      <a:pt x="14480" y="4"/>
                      <a:pt x="14481" y="3"/>
                      <a:pt x="14482" y="3"/>
                    </a:cubicBezTo>
                    <a:close/>
                    <a:moveTo>
                      <a:pt x="14490" y="3"/>
                    </a:moveTo>
                    <a:lnTo>
                      <a:pt x="14490" y="3"/>
                    </a:lnTo>
                    <a:cubicBezTo>
                      <a:pt x="14491" y="3"/>
                      <a:pt x="14492" y="4"/>
                      <a:pt x="14492" y="5"/>
                    </a:cubicBezTo>
                    <a:cubicBezTo>
                      <a:pt x="14492" y="6"/>
                      <a:pt x="14491" y="7"/>
                      <a:pt x="14490" y="7"/>
                    </a:cubicBezTo>
                    <a:lnTo>
                      <a:pt x="14490" y="7"/>
                    </a:lnTo>
                    <a:cubicBezTo>
                      <a:pt x="14489" y="7"/>
                      <a:pt x="14488" y="6"/>
                      <a:pt x="14488" y="5"/>
                    </a:cubicBezTo>
                    <a:cubicBezTo>
                      <a:pt x="14488" y="4"/>
                      <a:pt x="14489" y="3"/>
                      <a:pt x="14490" y="3"/>
                    </a:cubicBezTo>
                    <a:close/>
                    <a:moveTo>
                      <a:pt x="14498" y="3"/>
                    </a:moveTo>
                    <a:lnTo>
                      <a:pt x="14498" y="3"/>
                    </a:lnTo>
                    <a:cubicBezTo>
                      <a:pt x="14499" y="3"/>
                      <a:pt x="14500" y="4"/>
                      <a:pt x="14500" y="5"/>
                    </a:cubicBezTo>
                    <a:cubicBezTo>
                      <a:pt x="14500" y="6"/>
                      <a:pt x="14499" y="7"/>
                      <a:pt x="14498" y="7"/>
                    </a:cubicBezTo>
                    <a:lnTo>
                      <a:pt x="14498" y="7"/>
                    </a:lnTo>
                    <a:cubicBezTo>
                      <a:pt x="14497" y="7"/>
                      <a:pt x="14496" y="6"/>
                      <a:pt x="14496" y="5"/>
                    </a:cubicBezTo>
                    <a:cubicBezTo>
                      <a:pt x="14496" y="4"/>
                      <a:pt x="14497" y="3"/>
                      <a:pt x="14498" y="3"/>
                    </a:cubicBezTo>
                    <a:close/>
                    <a:moveTo>
                      <a:pt x="14506" y="3"/>
                    </a:moveTo>
                    <a:lnTo>
                      <a:pt x="14506" y="3"/>
                    </a:lnTo>
                    <a:cubicBezTo>
                      <a:pt x="14507" y="3"/>
                      <a:pt x="14508" y="4"/>
                      <a:pt x="14508" y="5"/>
                    </a:cubicBezTo>
                    <a:cubicBezTo>
                      <a:pt x="14508" y="6"/>
                      <a:pt x="14507" y="7"/>
                      <a:pt x="14506" y="7"/>
                    </a:cubicBezTo>
                    <a:lnTo>
                      <a:pt x="14506" y="7"/>
                    </a:lnTo>
                    <a:cubicBezTo>
                      <a:pt x="14505" y="7"/>
                      <a:pt x="14504" y="6"/>
                      <a:pt x="14504" y="5"/>
                    </a:cubicBezTo>
                    <a:cubicBezTo>
                      <a:pt x="14504" y="4"/>
                      <a:pt x="14505" y="3"/>
                      <a:pt x="14506" y="3"/>
                    </a:cubicBezTo>
                    <a:close/>
                    <a:moveTo>
                      <a:pt x="14514" y="3"/>
                    </a:moveTo>
                    <a:lnTo>
                      <a:pt x="14514" y="3"/>
                    </a:lnTo>
                    <a:cubicBezTo>
                      <a:pt x="14515" y="3"/>
                      <a:pt x="14516" y="4"/>
                      <a:pt x="14516" y="5"/>
                    </a:cubicBezTo>
                    <a:cubicBezTo>
                      <a:pt x="14516" y="6"/>
                      <a:pt x="14515" y="7"/>
                      <a:pt x="14514" y="7"/>
                    </a:cubicBezTo>
                    <a:lnTo>
                      <a:pt x="14514" y="7"/>
                    </a:lnTo>
                    <a:cubicBezTo>
                      <a:pt x="14513" y="7"/>
                      <a:pt x="14512" y="6"/>
                      <a:pt x="14512" y="5"/>
                    </a:cubicBezTo>
                    <a:cubicBezTo>
                      <a:pt x="14512" y="4"/>
                      <a:pt x="14513" y="3"/>
                      <a:pt x="14514" y="3"/>
                    </a:cubicBezTo>
                    <a:close/>
                    <a:moveTo>
                      <a:pt x="14522" y="3"/>
                    </a:moveTo>
                    <a:lnTo>
                      <a:pt x="14522" y="3"/>
                    </a:lnTo>
                    <a:cubicBezTo>
                      <a:pt x="14523" y="3"/>
                      <a:pt x="14524" y="4"/>
                      <a:pt x="14524" y="5"/>
                    </a:cubicBezTo>
                    <a:cubicBezTo>
                      <a:pt x="14524" y="6"/>
                      <a:pt x="14523" y="7"/>
                      <a:pt x="14522" y="7"/>
                    </a:cubicBezTo>
                    <a:lnTo>
                      <a:pt x="14522" y="7"/>
                    </a:lnTo>
                    <a:cubicBezTo>
                      <a:pt x="14521" y="7"/>
                      <a:pt x="14520" y="6"/>
                      <a:pt x="14520" y="5"/>
                    </a:cubicBezTo>
                    <a:cubicBezTo>
                      <a:pt x="14520" y="4"/>
                      <a:pt x="14521" y="3"/>
                      <a:pt x="14522" y="3"/>
                    </a:cubicBezTo>
                    <a:close/>
                    <a:moveTo>
                      <a:pt x="14530" y="3"/>
                    </a:moveTo>
                    <a:lnTo>
                      <a:pt x="14530" y="3"/>
                    </a:lnTo>
                    <a:cubicBezTo>
                      <a:pt x="14531" y="3"/>
                      <a:pt x="14532" y="4"/>
                      <a:pt x="14532" y="5"/>
                    </a:cubicBezTo>
                    <a:cubicBezTo>
                      <a:pt x="14532" y="6"/>
                      <a:pt x="14531" y="7"/>
                      <a:pt x="14530" y="7"/>
                    </a:cubicBezTo>
                    <a:lnTo>
                      <a:pt x="14530" y="7"/>
                    </a:lnTo>
                    <a:cubicBezTo>
                      <a:pt x="14529" y="7"/>
                      <a:pt x="14528" y="6"/>
                      <a:pt x="14528" y="5"/>
                    </a:cubicBezTo>
                    <a:cubicBezTo>
                      <a:pt x="14528" y="4"/>
                      <a:pt x="14529" y="3"/>
                      <a:pt x="14530" y="3"/>
                    </a:cubicBezTo>
                    <a:close/>
                    <a:moveTo>
                      <a:pt x="14538" y="3"/>
                    </a:moveTo>
                    <a:lnTo>
                      <a:pt x="14538" y="3"/>
                    </a:lnTo>
                    <a:cubicBezTo>
                      <a:pt x="14539" y="3"/>
                      <a:pt x="14540" y="4"/>
                      <a:pt x="14540" y="5"/>
                    </a:cubicBezTo>
                    <a:cubicBezTo>
                      <a:pt x="14540" y="6"/>
                      <a:pt x="14539" y="7"/>
                      <a:pt x="14538" y="7"/>
                    </a:cubicBezTo>
                    <a:lnTo>
                      <a:pt x="14538" y="7"/>
                    </a:lnTo>
                    <a:cubicBezTo>
                      <a:pt x="14537" y="7"/>
                      <a:pt x="14536" y="6"/>
                      <a:pt x="14536" y="5"/>
                    </a:cubicBezTo>
                    <a:cubicBezTo>
                      <a:pt x="14536" y="4"/>
                      <a:pt x="14537" y="3"/>
                      <a:pt x="14538" y="3"/>
                    </a:cubicBezTo>
                    <a:close/>
                    <a:moveTo>
                      <a:pt x="14546" y="3"/>
                    </a:moveTo>
                    <a:lnTo>
                      <a:pt x="14546" y="3"/>
                    </a:lnTo>
                    <a:cubicBezTo>
                      <a:pt x="14547" y="3"/>
                      <a:pt x="14548" y="4"/>
                      <a:pt x="14548" y="5"/>
                    </a:cubicBezTo>
                    <a:cubicBezTo>
                      <a:pt x="14548" y="6"/>
                      <a:pt x="14547" y="7"/>
                      <a:pt x="14546" y="7"/>
                    </a:cubicBezTo>
                    <a:lnTo>
                      <a:pt x="14546" y="7"/>
                    </a:lnTo>
                    <a:cubicBezTo>
                      <a:pt x="14545" y="7"/>
                      <a:pt x="14544" y="6"/>
                      <a:pt x="14544" y="5"/>
                    </a:cubicBezTo>
                    <a:cubicBezTo>
                      <a:pt x="14544" y="4"/>
                      <a:pt x="14545" y="3"/>
                      <a:pt x="14546" y="3"/>
                    </a:cubicBezTo>
                    <a:close/>
                    <a:moveTo>
                      <a:pt x="14554" y="3"/>
                    </a:moveTo>
                    <a:lnTo>
                      <a:pt x="14554" y="3"/>
                    </a:lnTo>
                    <a:cubicBezTo>
                      <a:pt x="14555" y="3"/>
                      <a:pt x="14556" y="4"/>
                      <a:pt x="14556" y="5"/>
                    </a:cubicBezTo>
                    <a:cubicBezTo>
                      <a:pt x="14556" y="6"/>
                      <a:pt x="14555" y="7"/>
                      <a:pt x="14554" y="7"/>
                    </a:cubicBezTo>
                    <a:lnTo>
                      <a:pt x="14554" y="7"/>
                    </a:lnTo>
                    <a:cubicBezTo>
                      <a:pt x="14553" y="7"/>
                      <a:pt x="14552" y="6"/>
                      <a:pt x="14552" y="5"/>
                    </a:cubicBezTo>
                    <a:cubicBezTo>
                      <a:pt x="14552" y="4"/>
                      <a:pt x="14553" y="3"/>
                      <a:pt x="14554" y="3"/>
                    </a:cubicBezTo>
                    <a:close/>
                    <a:moveTo>
                      <a:pt x="14562" y="3"/>
                    </a:moveTo>
                    <a:lnTo>
                      <a:pt x="14562" y="3"/>
                    </a:lnTo>
                    <a:cubicBezTo>
                      <a:pt x="14563" y="3"/>
                      <a:pt x="14564" y="4"/>
                      <a:pt x="14564" y="5"/>
                    </a:cubicBezTo>
                    <a:cubicBezTo>
                      <a:pt x="14564" y="6"/>
                      <a:pt x="14563" y="7"/>
                      <a:pt x="14562" y="7"/>
                    </a:cubicBezTo>
                    <a:lnTo>
                      <a:pt x="14562" y="7"/>
                    </a:lnTo>
                    <a:cubicBezTo>
                      <a:pt x="14561" y="7"/>
                      <a:pt x="14560" y="6"/>
                      <a:pt x="14560" y="5"/>
                    </a:cubicBezTo>
                    <a:cubicBezTo>
                      <a:pt x="14560" y="4"/>
                      <a:pt x="14561" y="3"/>
                      <a:pt x="14562" y="3"/>
                    </a:cubicBezTo>
                    <a:close/>
                    <a:moveTo>
                      <a:pt x="14570" y="3"/>
                    </a:moveTo>
                    <a:lnTo>
                      <a:pt x="14570" y="3"/>
                    </a:lnTo>
                    <a:cubicBezTo>
                      <a:pt x="14571" y="3"/>
                      <a:pt x="14572" y="4"/>
                      <a:pt x="14572" y="5"/>
                    </a:cubicBezTo>
                    <a:cubicBezTo>
                      <a:pt x="14572" y="6"/>
                      <a:pt x="14571" y="7"/>
                      <a:pt x="14570" y="7"/>
                    </a:cubicBezTo>
                    <a:lnTo>
                      <a:pt x="14570" y="7"/>
                    </a:lnTo>
                    <a:cubicBezTo>
                      <a:pt x="14569" y="7"/>
                      <a:pt x="14568" y="6"/>
                      <a:pt x="14568" y="5"/>
                    </a:cubicBezTo>
                    <a:cubicBezTo>
                      <a:pt x="14568" y="4"/>
                      <a:pt x="14569" y="3"/>
                      <a:pt x="14570" y="3"/>
                    </a:cubicBezTo>
                    <a:close/>
                    <a:moveTo>
                      <a:pt x="14578" y="3"/>
                    </a:moveTo>
                    <a:lnTo>
                      <a:pt x="14578" y="3"/>
                    </a:lnTo>
                    <a:cubicBezTo>
                      <a:pt x="14579" y="3"/>
                      <a:pt x="14580" y="4"/>
                      <a:pt x="14580" y="5"/>
                    </a:cubicBezTo>
                    <a:cubicBezTo>
                      <a:pt x="14580" y="6"/>
                      <a:pt x="14579" y="7"/>
                      <a:pt x="14578" y="7"/>
                    </a:cubicBezTo>
                    <a:lnTo>
                      <a:pt x="14578" y="7"/>
                    </a:lnTo>
                    <a:cubicBezTo>
                      <a:pt x="14577" y="7"/>
                      <a:pt x="14576" y="6"/>
                      <a:pt x="14576" y="5"/>
                    </a:cubicBezTo>
                    <a:cubicBezTo>
                      <a:pt x="14576" y="4"/>
                      <a:pt x="14577" y="3"/>
                      <a:pt x="14578" y="3"/>
                    </a:cubicBezTo>
                    <a:close/>
                    <a:moveTo>
                      <a:pt x="14586" y="3"/>
                    </a:moveTo>
                    <a:lnTo>
                      <a:pt x="14586" y="3"/>
                    </a:lnTo>
                    <a:cubicBezTo>
                      <a:pt x="14587" y="3"/>
                      <a:pt x="14588" y="4"/>
                      <a:pt x="14588" y="5"/>
                    </a:cubicBezTo>
                    <a:cubicBezTo>
                      <a:pt x="14588" y="6"/>
                      <a:pt x="14587" y="7"/>
                      <a:pt x="14586" y="7"/>
                    </a:cubicBezTo>
                    <a:lnTo>
                      <a:pt x="14586" y="7"/>
                    </a:lnTo>
                    <a:cubicBezTo>
                      <a:pt x="14585" y="7"/>
                      <a:pt x="14584" y="6"/>
                      <a:pt x="14584" y="5"/>
                    </a:cubicBezTo>
                    <a:cubicBezTo>
                      <a:pt x="14584" y="4"/>
                      <a:pt x="14585" y="3"/>
                      <a:pt x="14586" y="3"/>
                    </a:cubicBezTo>
                    <a:close/>
                    <a:moveTo>
                      <a:pt x="14594" y="3"/>
                    </a:moveTo>
                    <a:lnTo>
                      <a:pt x="14594" y="3"/>
                    </a:lnTo>
                    <a:cubicBezTo>
                      <a:pt x="14595" y="3"/>
                      <a:pt x="14596" y="4"/>
                      <a:pt x="14596" y="5"/>
                    </a:cubicBezTo>
                    <a:cubicBezTo>
                      <a:pt x="14596" y="6"/>
                      <a:pt x="14595" y="7"/>
                      <a:pt x="14594" y="7"/>
                    </a:cubicBezTo>
                    <a:lnTo>
                      <a:pt x="14594" y="7"/>
                    </a:lnTo>
                    <a:cubicBezTo>
                      <a:pt x="14593" y="7"/>
                      <a:pt x="14592" y="6"/>
                      <a:pt x="14592" y="5"/>
                    </a:cubicBezTo>
                    <a:cubicBezTo>
                      <a:pt x="14592" y="4"/>
                      <a:pt x="14593" y="3"/>
                      <a:pt x="14594" y="3"/>
                    </a:cubicBezTo>
                    <a:close/>
                    <a:moveTo>
                      <a:pt x="14602" y="3"/>
                    </a:moveTo>
                    <a:lnTo>
                      <a:pt x="14602" y="3"/>
                    </a:lnTo>
                    <a:cubicBezTo>
                      <a:pt x="14603" y="3"/>
                      <a:pt x="14604" y="4"/>
                      <a:pt x="14604" y="5"/>
                    </a:cubicBezTo>
                    <a:cubicBezTo>
                      <a:pt x="14604" y="6"/>
                      <a:pt x="14603" y="7"/>
                      <a:pt x="14602" y="7"/>
                    </a:cubicBezTo>
                    <a:lnTo>
                      <a:pt x="14602" y="7"/>
                    </a:lnTo>
                    <a:cubicBezTo>
                      <a:pt x="14601" y="7"/>
                      <a:pt x="14600" y="6"/>
                      <a:pt x="14600" y="5"/>
                    </a:cubicBezTo>
                    <a:cubicBezTo>
                      <a:pt x="14600" y="4"/>
                      <a:pt x="14601" y="3"/>
                      <a:pt x="14602" y="3"/>
                    </a:cubicBezTo>
                    <a:close/>
                    <a:moveTo>
                      <a:pt x="14610" y="3"/>
                    </a:moveTo>
                    <a:lnTo>
                      <a:pt x="14610" y="3"/>
                    </a:lnTo>
                    <a:cubicBezTo>
                      <a:pt x="14611" y="3"/>
                      <a:pt x="14612" y="4"/>
                      <a:pt x="14612" y="5"/>
                    </a:cubicBezTo>
                    <a:cubicBezTo>
                      <a:pt x="14612" y="6"/>
                      <a:pt x="14611" y="7"/>
                      <a:pt x="14610" y="7"/>
                    </a:cubicBezTo>
                    <a:lnTo>
                      <a:pt x="14610" y="7"/>
                    </a:lnTo>
                    <a:cubicBezTo>
                      <a:pt x="14609" y="7"/>
                      <a:pt x="14608" y="6"/>
                      <a:pt x="14608" y="5"/>
                    </a:cubicBezTo>
                    <a:cubicBezTo>
                      <a:pt x="14608" y="4"/>
                      <a:pt x="14609" y="3"/>
                      <a:pt x="14610" y="3"/>
                    </a:cubicBezTo>
                    <a:close/>
                    <a:moveTo>
                      <a:pt x="14618" y="3"/>
                    </a:moveTo>
                    <a:lnTo>
                      <a:pt x="14618" y="3"/>
                    </a:lnTo>
                    <a:cubicBezTo>
                      <a:pt x="14619" y="3"/>
                      <a:pt x="14620" y="4"/>
                      <a:pt x="14620" y="5"/>
                    </a:cubicBezTo>
                    <a:cubicBezTo>
                      <a:pt x="14620" y="6"/>
                      <a:pt x="14619" y="7"/>
                      <a:pt x="14618" y="7"/>
                    </a:cubicBezTo>
                    <a:lnTo>
                      <a:pt x="14618" y="7"/>
                    </a:lnTo>
                    <a:cubicBezTo>
                      <a:pt x="14617" y="7"/>
                      <a:pt x="14616" y="6"/>
                      <a:pt x="14616" y="5"/>
                    </a:cubicBezTo>
                    <a:cubicBezTo>
                      <a:pt x="14616" y="4"/>
                      <a:pt x="14617" y="3"/>
                      <a:pt x="14618" y="3"/>
                    </a:cubicBezTo>
                    <a:close/>
                    <a:moveTo>
                      <a:pt x="14626" y="3"/>
                    </a:moveTo>
                    <a:lnTo>
                      <a:pt x="14626" y="3"/>
                    </a:lnTo>
                    <a:cubicBezTo>
                      <a:pt x="14627" y="3"/>
                      <a:pt x="14628" y="4"/>
                      <a:pt x="14628" y="5"/>
                    </a:cubicBezTo>
                    <a:cubicBezTo>
                      <a:pt x="14628" y="6"/>
                      <a:pt x="14627" y="7"/>
                      <a:pt x="14626" y="7"/>
                    </a:cubicBezTo>
                    <a:lnTo>
                      <a:pt x="14626" y="7"/>
                    </a:lnTo>
                    <a:cubicBezTo>
                      <a:pt x="14625" y="7"/>
                      <a:pt x="14624" y="6"/>
                      <a:pt x="14624" y="5"/>
                    </a:cubicBezTo>
                    <a:cubicBezTo>
                      <a:pt x="14624" y="4"/>
                      <a:pt x="14625" y="3"/>
                      <a:pt x="14626" y="3"/>
                    </a:cubicBezTo>
                    <a:close/>
                    <a:moveTo>
                      <a:pt x="14634" y="3"/>
                    </a:moveTo>
                    <a:lnTo>
                      <a:pt x="14634" y="3"/>
                    </a:lnTo>
                    <a:cubicBezTo>
                      <a:pt x="14635" y="3"/>
                      <a:pt x="14636" y="4"/>
                      <a:pt x="14636" y="5"/>
                    </a:cubicBezTo>
                    <a:cubicBezTo>
                      <a:pt x="14636" y="6"/>
                      <a:pt x="14635" y="7"/>
                      <a:pt x="14634" y="7"/>
                    </a:cubicBezTo>
                    <a:lnTo>
                      <a:pt x="14634" y="7"/>
                    </a:lnTo>
                    <a:cubicBezTo>
                      <a:pt x="14633" y="7"/>
                      <a:pt x="14632" y="6"/>
                      <a:pt x="14632" y="5"/>
                    </a:cubicBezTo>
                    <a:cubicBezTo>
                      <a:pt x="14632" y="4"/>
                      <a:pt x="14633" y="3"/>
                      <a:pt x="14634" y="3"/>
                    </a:cubicBezTo>
                    <a:close/>
                    <a:moveTo>
                      <a:pt x="14642" y="3"/>
                    </a:moveTo>
                    <a:lnTo>
                      <a:pt x="14642" y="3"/>
                    </a:lnTo>
                    <a:cubicBezTo>
                      <a:pt x="14643" y="3"/>
                      <a:pt x="14644" y="4"/>
                      <a:pt x="14644" y="5"/>
                    </a:cubicBezTo>
                    <a:cubicBezTo>
                      <a:pt x="14644" y="6"/>
                      <a:pt x="14643" y="7"/>
                      <a:pt x="14642" y="7"/>
                    </a:cubicBezTo>
                    <a:lnTo>
                      <a:pt x="14642" y="7"/>
                    </a:lnTo>
                    <a:cubicBezTo>
                      <a:pt x="14641" y="7"/>
                      <a:pt x="14640" y="6"/>
                      <a:pt x="14640" y="5"/>
                    </a:cubicBezTo>
                    <a:cubicBezTo>
                      <a:pt x="14640" y="4"/>
                      <a:pt x="14641" y="3"/>
                      <a:pt x="14642" y="3"/>
                    </a:cubicBezTo>
                    <a:close/>
                    <a:moveTo>
                      <a:pt x="14650" y="3"/>
                    </a:moveTo>
                    <a:lnTo>
                      <a:pt x="14650" y="3"/>
                    </a:lnTo>
                    <a:cubicBezTo>
                      <a:pt x="14651" y="3"/>
                      <a:pt x="14652" y="4"/>
                      <a:pt x="14652" y="5"/>
                    </a:cubicBezTo>
                    <a:cubicBezTo>
                      <a:pt x="14652" y="6"/>
                      <a:pt x="14651" y="7"/>
                      <a:pt x="14650" y="7"/>
                    </a:cubicBezTo>
                    <a:lnTo>
                      <a:pt x="14650" y="7"/>
                    </a:lnTo>
                    <a:cubicBezTo>
                      <a:pt x="14649" y="7"/>
                      <a:pt x="14648" y="6"/>
                      <a:pt x="14648" y="5"/>
                    </a:cubicBezTo>
                    <a:cubicBezTo>
                      <a:pt x="14648" y="4"/>
                      <a:pt x="14649" y="3"/>
                      <a:pt x="14650" y="3"/>
                    </a:cubicBezTo>
                    <a:close/>
                    <a:moveTo>
                      <a:pt x="14658" y="3"/>
                    </a:moveTo>
                    <a:lnTo>
                      <a:pt x="14658" y="3"/>
                    </a:lnTo>
                    <a:cubicBezTo>
                      <a:pt x="14659" y="3"/>
                      <a:pt x="14660" y="4"/>
                      <a:pt x="14660" y="5"/>
                    </a:cubicBezTo>
                    <a:cubicBezTo>
                      <a:pt x="14660" y="6"/>
                      <a:pt x="14659" y="7"/>
                      <a:pt x="14658" y="7"/>
                    </a:cubicBezTo>
                    <a:lnTo>
                      <a:pt x="14658" y="7"/>
                    </a:lnTo>
                    <a:cubicBezTo>
                      <a:pt x="14657" y="7"/>
                      <a:pt x="14656" y="6"/>
                      <a:pt x="14656" y="5"/>
                    </a:cubicBezTo>
                    <a:cubicBezTo>
                      <a:pt x="14656" y="4"/>
                      <a:pt x="14657" y="3"/>
                      <a:pt x="14658" y="3"/>
                    </a:cubicBezTo>
                    <a:close/>
                    <a:moveTo>
                      <a:pt x="14666" y="3"/>
                    </a:moveTo>
                    <a:lnTo>
                      <a:pt x="14666" y="3"/>
                    </a:lnTo>
                    <a:cubicBezTo>
                      <a:pt x="14667" y="3"/>
                      <a:pt x="14668" y="4"/>
                      <a:pt x="14668" y="5"/>
                    </a:cubicBezTo>
                    <a:cubicBezTo>
                      <a:pt x="14668" y="6"/>
                      <a:pt x="14667" y="7"/>
                      <a:pt x="14666" y="7"/>
                    </a:cubicBezTo>
                    <a:lnTo>
                      <a:pt x="14666" y="7"/>
                    </a:lnTo>
                    <a:cubicBezTo>
                      <a:pt x="14665" y="7"/>
                      <a:pt x="14664" y="6"/>
                      <a:pt x="14664" y="5"/>
                    </a:cubicBezTo>
                    <a:cubicBezTo>
                      <a:pt x="14664" y="4"/>
                      <a:pt x="14665" y="3"/>
                      <a:pt x="14666" y="3"/>
                    </a:cubicBezTo>
                    <a:close/>
                    <a:moveTo>
                      <a:pt x="14674" y="3"/>
                    </a:moveTo>
                    <a:lnTo>
                      <a:pt x="14674" y="3"/>
                    </a:lnTo>
                    <a:cubicBezTo>
                      <a:pt x="14675" y="3"/>
                      <a:pt x="14676" y="4"/>
                      <a:pt x="14676" y="5"/>
                    </a:cubicBezTo>
                    <a:cubicBezTo>
                      <a:pt x="14676" y="6"/>
                      <a:pt x="14675" y="7"/>
                      <a:pt x="14674" y="7"/>
                    </a:cubicBezTo>
                    <a:lnTo>
                      <a:pt x="14674" y="7"/>
                    </a:lnTo>
                    <a:cubicBezTo>
                      <a:pt x="14673" y="7"/>
                      <a:pt x="14672" y="6"/>
                      <a:pt x="14672" y="5"/>
                    </a:cubicBezTo>
                    <a:cubicBezTo>
                      <a:pt x="14672" y="4"/>
                      <a:pt x="14673" y="3"/>
                      <a:pt x="14674" y="3"/>
                    </a:cubicBezTo>
                    <a:close/>
                    <a:moveTo>
                      <a:pt x="14682" y="3"/>
                    </a:moveTo>
                    <a:lnTo>
                      <a:pt x="14682" y="3"/>
                    </a:lnTo>
                    <a:cubicBezTo>
                      <a:pt x="14683" y="3"/>
                      <a:pt x="14684" y="4"/>
                      <a:pt x="14684" y="5"/>
                    </a:cubicBezTo>
                    <a:cubicBezTo>
                      <a:pt x="14684" y="6"/>
                      <a:pt x="14683" y="7"/>
                      <a:pt x="14682" y="7"/>
                    </a:cubicBezTo>
                    <a:lnTo>
                      <a:pt x="14682" y="7"/>
                    </a:lnTo>
                    <a:cubicBezTo>
                      <a:pt x="14681" y="7"/>
                      <a:pt x="14680" y="6"/>
                      <a:pt x="14680" y="5"/>
                    </a:cubicBezTo>
                    <a:cubicBezTo>
                      <a:pt x="14680" y="4"/>
                      <a:pt x="14681" y="3"/>
                      <a:pt x="14682" y="3"/>
                    </a:cubicBezTo>
                    <a:close/>
                    <a:moveTo>
                      <a:pt x="14690" y="3"/>
                    </a:moveTo>
                    <a:lnTo>
                      <a:pt x="14690" y="3"/>
                    </a:lnTo>
                    <a:cubicBezTo>
                      <a:pt x="14691" y="3"/>
                      <a:pt x="14692" y="4"/>
                      <a:pt x="14692" y="5"/>
                    </a:cubicBezTo>
                    <a:cubicBezTo>
                      <a:pt x="14692" y="6"/>
                      <a:pt x="14691" y="7"/>
                      <a:pt x="14690" y="7"/>
                    </a:cubicBezTo>
                    <a:lnTo>
                      <a:pt x="14690" y="7"/>
                    </a:lnTo>
                    <a:cubicBezTo>
                      <a:pt x="14689" y="7"/>
                      <a:pt x="14688" y="6"/>
                      <a:pt x="14688" y="5"/>
                    </a:cubicBezTo>
                    <a:cubicBezTo>
                      <a:pt x="14688" y="4"/>
                      <a:pt x="14689" y="3"/>
                      <a:pt x="14690" y="3"/>
                    </a:cubicBezTo>
                    <a:close/>
                    <a:moveTo>
                      <a:pt x="14698" y="3"/>
                    </a:moveTo>
                    <a:lnTo>
                      <a:pt x="14698" y="3"/>
                    </a:lnTo>
                    <a:cubicBezTo>
                      <a:pt x="14699" y="3"/>
                      <a:pt x="14700" y="4"/>
                      <a:pt x="14700" y="5"/>
                    </a:cubicBezTo>
                    <a:cubicBezTo>
                      <a:pt x="14700" y="6"/>
                      <a:pt x="14699" y="7"/>
                      <a:pt x="14698" y="7"/>
                    </a:cubicBezTo>
                    <a:lnTo>
                      <a:pt x="14698" y="7"/>
                    </a:lnTo>
                    <a:cubicBezTo>
                      <a:pt x="14697" y="7"/>
                      <a:pt x="14696" y="6"/>
                      <a:pt x="14696" y="5"/>
                    </a:cubicBezTo>
                    <a:cubicBezTo>
                      <a:pt x="14696" y="4"/>
                      <a:pt x="14697" y="3"/>
                      <a:pt x="14698" y="3"/>
                    </a:cubicBezTo>
                    <a:close/>
                    <a:moveTo>
                      <a:pt x="14706" y="3"/>
                    </a:moveTo>
                    <a:lnTo>
                      <a:pt x="14706" y="3"/>
                    </a:lnTo>
                    <a:cubicBezTo>
                      <a:pt x="14707" y="3"/>
                      <a:pt x="14708" y="4"/>
                      <a:pt x="14708" y="5"/>
                    </a:cubicBezTo>
                    <a:cubicBezTo>
                      <a:pt x="14708" y="6"/>
                      <a:pt x="14707" y="7"/>
                      <a:pt x="14706" y="7"/>
                    </a:cubicBezTo>
                    <a:lnTo>
                      <a:pt x="14706" y="7"/>
                    </a:lnTo>
                    <a:cubicBezTo>
                      <a:pt x="14705" y="7"/>
                      <a:pt x="14704" y="6"/>
                      <a:pt x="14704" y="5"/>
                    </a:cubicBezTo>
                    <a:cubicBezTo>
                      <a:pt x="14704" y="4"/>
                      <a:pt x="14705" y="3"/>
                      <a:pt x="14706" y="3"/>
                    </a:cubicBezTo>
                    <a:close/>
                    <a:moveTo>
                      <a:pt x="14714" y="3"/>
                    </a:moveTo>
                    <a:lnTo>
                      <a:pt x="14714" y="3"/>
                    </a:lnTo>
                    <a:cubicBezTo>
                      <a:pt x="14715" y="3"/>
                      <a:pt x="14716" y="4"/>
                      <a:pt x="14716" y="5"/>
                    </a:cubicBezTo>
                    <a:cubicBezTo>
                      <a:pt x="14716" y="6"/>
                      <a:pt x="14715" y="7"/>
                      <a:pt x="14714" y="7"/>
                    </a:cubicBezTo>
                    <a:lnTo>
                      <a:pt x="14714" y="7"/>
                    </a:lnTo>
                    <a:cubicBezTo>
                      <a:pt x="14713" y="7"/>
                      <a:pt x="14712" y="6"/>
                      <a:pt x="14712" y="5"/>
                    </a:cubicBezTo>
                    <a:cubicBezTo>
                      <a:pt x="14712" y="4"/>
                      <a:pt x="14713" y="3"/>
                      <a:pt x="14714" y="3"/>
                    </a:cubicBezTo>
                    <a:close/>
                    <a:moveTo>
                      <a:pt x="14722" y="3"/>
                    </a:moveTo>
                    <a:lnTo>
                      <a:pt x="14722" y="3"/>
                    </a:lnTo>
                    <a:cubicBezTo>
                      <a:pt x="14723" y="3"/>
                      <a:pt x="14724" y="4"/>
                      <a:pt x="14724" y="5"/>
                    </a:cubicBezTo>
                    <a:cubicBezTo>
                      <a:pt x="14724" y="6"/>
                      <a:pt x="14723" y="7"/>
                      <a:pt x="14722" y="7"/>
                    </a:cubicBezTo>
                    <a:lnTo>
                      <a:pt x="14722" y="7"/>
                    </a:lnTo>
                    <a:cubicBezTo>
                      <a:pt x="14721" y="7"/>
                      <a:pt x="14720" y="6"/>
                      <a:pt x="14720" y="5"/>
                    </a:cubicBezTo>
                    <a:cubicBezTo>
                      <a:pt x="14720" y="4"/>
                      <a:pt x="14721" y="3"/>
                      <a:pt x="14722" y="3"/>
                    </a:cubicBezTo>
                    <a:close/>
                    <a:moveTo>
                      <a:pt x="14730" y="3"/>
                    </a:moveTo>
                    <a:lnTo>
                      <a:pt x="14730" y="3"/>
                    </a:lnTo>
                    <a:cubicBezTo>
                      <a:pt x="14731" y="3"/>
                      <a:pt x="14732" y="4"/>
                      <a:pt x="14732" y="5"/>
                    </a:cubicBezTo>
                    <a:cubicBezTo>
                      <a:pt x="14732" y="6"/>
                      <a:pt x="14731" y="7"/>
                      <a:pt x="14730" y="7"/>
                    </a:cubicBezTo>
                    <a:lnTo>
                      <a:pt x="14730" y="7"/>
                    </a:lnTo>
                    <a:cubicBezTo>
                      <a:pt x="14729" y="7"/>
                      <a:pt x="14728" y="6"/>
                      <a:pt x="14728" y="5"/>
                    </a:cubicBezTo>
                    <a:cubicBezTo>
                      <a:pt x="14728" y="4"/>
                      <a:pt x="14729" y="3"/>
                      <a:pt x="14730" y="3"/>
                    </a:cubicBezTo>
                    <a:close/>
                    <a:moveTo>
                      <a:pt x="14738" y="3"/>
                    </a:moveTo>
                    <a:lnTo>
                      <a:pt x="14738" y="3"/>
                    </a:lnTo>
                    <a:cubicBezTo>
                      <a:pt x="14739" y="3"/>
                      <a:pt x="14740" y="4"/>
                      <a:pt x="14740" y="5"/>
                    </a:cubicBezTo>
                    <a:cubicBezTo>
                      <a:pt x="14740" y="6"/>
                      <a:pt x="14739" y="7"/>
                      <a:pt x="14738" y="7"/>
                    </a:cubicBezTo>
                    <a:lnTo>
                      <a:pt x="14738" y="7"/>
                    </a:lnTo>
                    <a:cubicBezTo>
                      <a:pt x="14737" y="7"/>
                      <a:pt x="14736" y="6"/>
                      <a:pt x="14736" y="5"/>
                    </a:cubicBezTo>
                    <a:cubicBezTo>
                      <a:pt x="14736" y="4"/>
                      <a:pt x="14737" y="3"/>
                      <a:pt x="14738" y="3"/>
                    </a:cubicBezTo>
                    <a:close/>
                    <a:moveTo>
                      <a:pt x="14746" y="3"/>
                    </a:moveTo>
                    <a:lnTo>
                      <a:pt x="14746" y="3"/>
                    </a:lnTo>
                    <a:cubicBezTo>
                      <a:pt x="14747" y="3"/>
                      <a:pt x="14748" y="4"/>
                      <a:pt x="14748" y="5"/>
                    </a:cubicBezTo>
                    <a:cubicBezTo>
                      <a:pt x="14748" y="6"/>
                      <a:pt x="14747" y="7"/>
                      <a:pt x="14746" y="7"/>
                    </a:cubicBezTo>
                    <a:lnTo>
                      <a:pt x="14746" y="7"/>
                    </a:lnTo>
                    <a:cubicBezTo>
                      <a:pt x="14745" y="7"/>
                      <a:pt x="14744" y="6"/>
                      <a:pt x="14744" y="5"/>
                    </a:cubicBezTo>
                    <a:cubicBezTo>
                      <a:pt x="14744" y="4"/>
                      <a:pt x="14745" y="3"/>
                      <a:pt x="14746" y="3"/>
                    </a:cubicBezTo>
                    <a:close/>
                    <a:moveTo>
                      <a:pt x="14754" y="3"/>
                    </a:moveTo>
                    <a:lnTo>
                      <a:pt x="14754" y="3"/>
                    </a:lnTo>
                    <a:cubicBezTo>
                      <a:pt x="14755" y="3"/>
                      <a:pt x="14756" y="4"/>
                      <a:pt x="14756" y="5"/>
                    </a:cubicBezTo>
                    <a:cubicBezTo>
                      <a:pt x="14756" y="6"/>
                      <a:pt x="14755" y="7"/>
                      <a:pt x="14754" y="7"/>
                    </a:cubicBezTo>
                    <a:lnTo>
                      <a:pt x="14754" y="7"/>
                    </a:lnTo>
                    <a:cubicBezTo>
                      <a:pt x="14753" y="7"/>
                      <a:pt x="14752" y="6"/>
                      <a:pt x="14752" y="5"/>
                    </a:cubicBezTo>
                    <a:cubicBezTo>
                      <a:pt x="14752" y="4"/>
                      <a:pt x="14753" y="3"/>
                      <a:pt x="14754" y="3"/>
                    </a:cubicBezTo>
                    <a:close/>
                    <a:moveTo>
                      <a:pt x="14762" y="3"/>
                    </a:moveTo>
                    <a:lnTo>
                      <a:pt x="14762" y="3"/>
                    </a:lnTo>
                    <a:cubicBezTo>
                      <a:pt x="14763" y="3"/>
                      <a:pt x="14764" y="4"/>
                      <a:pt x="14764" y="5"/>
                    </a:cubicBezTo>
                    <a:cubicBezTo>
                      <a:pt x="14764" y="6"/>
                      <a:pt x="14763" y="7"/>
                      <a:pt x="14762" y="7"/>
                    </a:cubicBezTo>
                    <a:lnTo>
                      <a:pt x="14762" y="7"/>
                    </a:lnTo>
                    <a:cubicBezTo>
                      <a:pt x="14761" y="7"/>
                      <a:pt x="14760" y="6"/>
                      <a:pt x="14760" y="5"/>
                    </a:cubicBezTo>
                    <a:cubicBezTo>
                      <a:pt x="14760" y="4"/>
                      <a:pt x="14761" y="3"/>
                      <a:pt x="14762" y="3"/>
                    </a:cubicBezTo>
                    <a:close/>
                    <a:moveTo>
                      <a:pt x="14770" y="3"/>
                    </a:moveTo>
                    <a:lnTo>
                      <a:pt x="14770" y="3"/>
                    </a:lnTo>
                    <a:cubicBezTo>
                      <a:pt x="14771" y="3"/>
                      <a:pt x="14772" y="4"/>
                      <a:pt x="14772" y="5"/>
                    </a:cubicBezTo>
                    <a:cubicBezTo>
                      <a:pt x="14772" y="6"/>
                      <a:pt x="14771" y="7"/>
                      <a:pt x="14770" y="7"/>
                    </a:cubicBezTo>
                    <a:lnTo>
                      <a:pt x="14770" y="7"/>
                    </a:lnTo>
                    <a:cubicBezTo>
                      <a:pt x="14769" y="7"/>
                      <a:pt x="14768" y="6"/>
                      <a:pt x="14768" y="5"/>
                    </a:cubicBezTo>
                    <a:cubicBezTo>
                      <a:pt x="14768" y="4"/>
                      <a:pt x="14769" y="3"/>
                      <a:pt x="14770" y="3"/>
                    </a:cubicBezTo>
                    <a:close/>
                    <a:moveTo>
                      <a:pt x="14778" y="3"/>
                    </a:moveTo>
                    <a:lnTo>
                      <a:pt x="14778" y="3"/>
                    </a:lnTo>
                    <a:cubicBezTo>
                      <a:pt x="14779" y="3"/>
                      <a:pt x="14780" y="4"/>
                      <a:pt x="14780" y="5"/>
                    </a:cubicBezTo>
                    <a:cubicBezTo>
                      <a:pt x="14780" y="6"/>
                      <a:pt x="14779" y="7"/>
                      <a:pt x="14778" y="7"/>
                    </a:cubicBezTo>
                    <a:lnTo>
                      <a:pt x="14778" y="7"/>
                    </a:lnTo>
                    <a:cubicBezTo>
                      <a:pt x="14777" y="7"/>
                      <a:pt x="14776" y="6"/>
                      <a:pt x="14776" y="5"/>
                    </a:cubicBezTo>
                    <a:cubicBezTo>
                      <a:pt x="14776" y="4"/>
                      <a:pt x="14777" y="3"/>
                      <a:pt x="14778" y="3"/>
                    </a:cubicBezTo>
                    <a:close/>
                    <a:moveTo>
                      <a:pt x="14786" y="3"/>
                    </a:moveTo>
                    <a:lnTo>
                      <a:pt x="14786" y="3"/>
                    </a:lnTo>
                    <a:cubicBezTo>
                      <a:pt x="14787" y="3"/>
                      <a:pt x="14788" y="4"/>
                      <a:pt x="14788" y="5"/>
                    </a:cubicBezTo>
                    <a:cubicBezTo>
                      <a:pt x="14788" y="6"/>
                      <a:pt x="14787" y="7"/>
                      <a:pt x="14786" y="7"/>
                    </a:cubicBezTo>
                    <a:lnTo>
                      <a:pt x="14786" y="7"/>
                    </a:lnTo>
                    <a:cubicBezTo>
                      <a:pt x="14785" y="7"/>
                      <a:pt x="14784" y="6"/>
                      <a:pt x="14784" y="5"/>
                    </a:cubicBezTo>
                    <a:cubicBezTo>
                      <a:pt x="14784" y="4"/>
                      <a:pt x="14785" y="3"/>
                      <a:pt x="14786" y="3"/>
                    </a:cubicBezTo>
                    <a:close/>
                    <a:moveTo>
                      <a:pt x="14794" y="3"/>
                    </a:moveTo>
                    <a:lnTo>
                      <a:pt x="14794" y="3"/>
                    </a:lnTo>
                    <a:cubicBezTo>
                      <a:pt x="14795" y="3"/>
                      <a:pt x="14796" y="4"/>
                      <a:pt x="14796" y="5"/>
                    </a:cubicBezTo>
                    <a:cubicBezTo>
                      <a:pt x="14796" y="6"/>
                      <a:pt x="14795" y="7"/>
                      <a:pt x="14794" y="7"/>
                    </a:cubicBezTo>
                    <a:lnTo>
                      <a:pt x="14794" y="7"/>
                    </a:lnTo>
                    <a:cubicBezTo>
                      <a:pt x="14793" y="7"/>
                      <a:pt x="14792" y="6"/>
                      <a:pt x="14792" y="5"/>
                    </a:cubicBezTo>
                    <a:cubicBezTo>
                      <a:pt x="14792" y="4"/>
                      <a:pt x="14793" y="3"/>
                      <a:pt x="14794" y="3"/>
                    </a:cubicBezTo>
                    <a:close/>
                    <a:moveTo>
                      <a:pt x="14802" y="3"/>
                    </a:moveTo>
                    <a:lnTo>
                      <a:pt x="14802" y="3"/>
                    </a:lnTo>
                    <a:cubicBezTo>
                      <a:pt x="14803" y="3"/>
                      <a:pt x="14804" y="4"/>
                      <a:pt x="14804" y="5"/>
                    </a:cubicBezTo>
                    <a:cubicBezTo>
                      <a:pt x="14804" y="6"/>
                      <a:pt x="14803" y="7"/>
                      <a:pt x="14802" y="7"/>
                    </a:cubicBezTo>
                    <a:lnTo>
                      <a:pt x="14802" y="7"/>
                    </a:lnTo>
                    <a:cubicBezTo>
                      <a:pt x="14801" y="7"/>
                      <a:pt x="14800" y="6"/>
                      <a:pt x="14800" y="5"/>
                    </a:cubicBezTo>
                    <a:cubicBezTo>
                      <a:pt x="14800" y="4"/>
                      <a:pt x="14801" y="3"/>
                      <a:pt x="14802" y="3"/>
                    </a:cubicBezTo>
                    <a:close/>
                    <a:moveTo>
                      <a:pt x="14810" y="3"/>
                    </a:moveTo>
                    <a:lnTo>
                      <a:pt x="14810" y="3"/>
                    </a:lnTo>
                    <a:cubicBezTo>
                      <a:pt x="14811" y="3"/>
                      <a:pt x="14812" y="4"/>
                      <a:pt x="14812" y="5"/>
                    </a:cubicBezTo>
                    <a:cubicBezTo>
                      <a:pt x="14812" y="6"/>
                      <a:pt x="14811" y="7"/>
                      <a:pt x="14810" y="7"/>
                    </a:cubicBezTo>
                    <a:lnTo>
                      <a:pt x="14810" y="7"/>
                    </a:lnTo>
                    <a:cubicBezTo>
                      <a:pt x="14809" y="7"/>
                      <a:pt x="14808" y="6"/>
                      <a:pt x="14808" y="5"/>
                    </a:cubicBezTo>
                    <a:cubicBezTo>
                      <a:pt x="14808" y="4"/>
                      <a:pt x="14809" y="3"/>
                      <a:pt x="14810" y="3"/>
                    </a:cubicBezTo>
                    <a:close/>
                    <a:moveTo>
                      <a:pt x="14818" y="3"/>
                    </a:moveTo>
                    <a:lnTo>
                      <a:pt x="14818" y="3"/>
                    </a:lnTo>
                    <a:cubicBezTo>
                      <a:pt x="14819" y="3"/>
                      <a:pt x="14820" y="4"/>
                      <a:pt x="14820" y="5"/>
                    </a:cubicBezTo>
                    <a:cubicBezTo>
                      <a:pt x="14820" y="6"/>
                      <a:pt x="14819" y="7"/>
                      <a:pt x="14818" y="7"/>
                    </a:cubicBezTo>
                    <a:lnTo>
                      <a:pt x="14818" y="7"/>
                    </a:lnTo>
                    <a:cubicBezTo>
                      <a:pt x="14817" y="7"/>
                      <a:pt x="14816" y="6"/>
                      <a:pt x="14816" y="5"/>
                    </a:cubicBezTo>
                    <a:cubicBezTo>
                      <a:pt x="14816" y="4"/>
                      <a:pt x="14817" y="3"/>
                      <a:pt x="14818" y="3"/>
                    </a:cubicBezTo>
                    <a:close/>
                    <a:moveTo>
                      <a:pt x="14826" y="3"/>
                    </a:moveTo>
                    <a:lnTo>
                      <a:pt x="14826" y="3"/>
                    </a:lnTo>
                    <a:cubicBezTo>
                      <a:pt x="14827" y="3"/>
                      <a:pt x="14828" y="4"/>
                      <a:pt x="14828" y="5"/>
                    </a:cubicBezTo>
                    <a:cubicBezTo>
                      <a:pt x="14828" y="6"/>
                      <a:pt x="14827" y="7"/>
                      <a:pt x="14826" y="7"/>
                    </a:cubicBezTo>
                    <a:lnTo>
                      <a:pt x="14826" y="7"/>
                    </a:lnTo>
                    <a:cubicBezTo>
                      <a:pt x="14825" y="7"/>
                      <a:pt x="14824" y="6"/>
                      <a:pt x="14824" y="5"/>
                    </a:cubicBezTo>
                    <a:cubicBezTo>
                      <a:pt x="14824" y="4"/>
                      <a:pt x="14825" y="3"/>
                      <a:pt x="14826" y="3"/>
                    </a:cubicBezTo>
                    <a:close/>
                    <a:moveTo>
                      <a:pt x="14834" y="3"/>
                    </a:moveTo>
                    <a:lnTo>
                      <a:pt x="14834" y="3"/>
                    </a:lnTo>
                    <a:cubicBezTo>
                      <a:pt x="14835" y="3"/>
                      <a:pt x="14836" y="4"/>
                      <a:pt x="14836" y="5"/>
                    </a:cubicBezTo>
                    <a:cubicBezTo>
                      <a:pt x="14836" y="6"/>
                      <a:pt x="14835" y="7"/>
                      <a:pt x="14834" y="7"/>
                    </a:cubicBezTo>
                    <a:lnTo>
                      <a:pt x="14834" y="7"/>
                    </a:lnTo>
                    <a:cubicBezTo>
                      <a:pt x="14833" y="7"/>
                      <a:pt x="14832" y="6"/>
                      <a:pt x="14832" y="5"/>
                    </a:cubicBezTo>
                    <a:cubicBezTo>
                      <a:pt x="14832" y="4"/>
                      <a:pt x="14833" y="3"/>
                      <a:pt x="14834" y="3"/>
                    </a:cubicBezTo>
                    <a:close/>
                    <a:moveTo>
                      <a:pt x="14842" y="3"/>
                    </a:moveTo>
                    <a:lnTo>
                      <a:pt x="14842" y="3"/>
                    </a:lnTo>
                    <a:cubicBezTo>
                      <a:pt x="14843" y="3"/>
                      <a:pt x="14844" y="4"/>
                      <a:pt x="14844" y="5"/>
                    </a:cubicBezTo>
                    <a:cubicBezTo>
                      <a:pt x="14844" y="6"/>
                      <a:pt x="14843" y="7"/>
                      <a:pt x="14842" y="7"/>
                    </a:cubicBezTo>
                    <a:lnTo>
                      <a:pt x="14842" y="7"/>
                    </a:lnTo>
                    <a:cubicBezTo>
                      <a:pt x="14841" y="7"/>
                      <a:pt x="14840" y="6"/>
                      <a:pt x="14840" y="5"/>
                    </a:cubicBezTo>
                    <a:cubicBezTo>
                      <a:pt x="14840" y="4"/>
                      <a:pt x="14841" y="3"/>
                      <a:pt x="14842" y="3"/>
                    </a:cubicBezTo>
                    <a:close/>
                    <a:moveTo>
                      <a:pt x="14850" y="3"/>
                    </a:moveTo>
                    <a:lnTo>
                      <a:pt x="14850" y="3"/>
                    </a:lnTo>
                    <a:cubicBezTo>
                      <a:pt x="14851" y="3"/>
                      <a:pt x="14852" y="4"/>
                      <a:pt x="14852" y="5"/>
                    </a:cubicBezTo>
                    <a:cubicBezTo>
                      <a:pt x="14852" y="6"/>
                      <a:pt x="14851" y="7"/>
                      <a:pt x="14850" y="7"/>
                    </a:cubicBezTo>
                    <a:lnTo>
                      <a:pt x="14850" y="7"/>
                    </a:lnTo>
                    <a:cubicBezTo>
                      <a:pt x="14849" y="7"/>
                      <a:pt x="14848" y="6"/>
                      <a:pt x="14848" y="5"/>
                    </a:cubicBezTo>
                    <a:cubicBezTo>
                      <a:pt x="14848" y="4"/>
                      <a:pt x="14849" y="3"/>
                      <a:pt x="14850" y="3"/>
                    </a:cubicBezTo>
                    <a:close/>
                    <a:moveTo>
                      <a:pt x="14858" y="3"/>
                    </a:moveTo>
                    <a:lnTo>
                      <a:pt x="14858" y="3"/>
                    </a:lnTo>
                    <a:cubicBezTo>
                      <a:pt x="14859" y="3"/>
                      <a:pt x="14860" y="4"/>
                      <a:pt x="14860" y="5"/>
                    </a:cubicBezTo>
                    <a:cubicBezTo>
                      <a:pt x="14860" y="6"/>
                      <a:pt x="14859" y="7"/>
                      <a:pt x="14858" y="7"/>
                    </a:cubicBezTo>
                    <a:lnTo>
                      <a:pt x="14858" y="7"/>
                    </a:lnTo>
                    <a:cubicBezTo>
                      <a:pt x="14857" y="7"/>
                      <a:pt x="14856" y="6"/>
                      <a:pt x="14856" y="5"/>
                    </a:cubicBezTo>
                    <a:cubicBezTo>
                      <a:pt x="14856" y="4"/>
                      <a:pt x="14857" y="3"/>
                      <a:pt x="14858" y="3"/>
                    </a:cubicBezTo>
                    <a:close/>
                    <a:moveTo>
                      <a:pt x="14866" y="3"/>
                    </a:moveTo>
                    <a:lnTo>
                      <a:pt x="14866" y="3"/>
                    </a:lnTo>
                    <a:cubicBezTo>
                      <a:pt x="14867" y="3"/>
                      <a:pt x="14868" y="4"/>
                      <a:pt x="14868" y="5"/>
                    </a:cubicBezTo>
                    <a:cubicBezTo>
                      <a:pt x="14868" y="6"/>
                      <a:pt x="14867" y="7"/>
                      <a:pt x="14866" y="7"/>
                    </a:cubicBezTo>
                    <a:lnTo>
                      <a:pt x="14866" y="7"/>
                    </a:lnTo>
                    <a:cubicBezTo>
                      <a:pt x="14865" y="7"/>
                      <a:pt x="14864" y="6"/>
                      <a:pt x="14864" y="5"/>
                    </a:cubicBezTo>
                    <a:cubicBezTo>
                      <a:pt x="14864" y="4"/>
                      <a:pt x="14865" y="3"/>
                      <a:pt x="14866" y="3"/>
                    </a:cubicBezTo>
                    <a:close/>
                    <a:moveTo>
                      <a:pt x="14874" y="3"/>
                    </a:moveTo>
                    <a:lnTo>
                      <a:pt x="14874" y="3"/>
                    </a:lnTo>
                    <a:cubicBezTo>
                      <a:pt x="14875" y="3"/>
                      <a:pt x="14876" y="4"/>
                      <a:pt x="14876" y="5"/>
                    </a:cubicBezTo>
                    <a:cubicBezTo>
                      <a:pt x="14876" y="6"/>
                      <a:pt x="14875" y="7"/>
                      <a:pt x="14874" y="7"/>
                    </a:cubicBezTo>
                    <a:lnTo>
                      <a:pt x="14874" y="7"/>
                    </a:lnTo>
                    <a:cubicBezTo>
                      <a:pt x="14873" y="7"/>
                      <a:pt x="14872" y="6"/>
                      <a:pt x="14872" y="5"/>
                    </a:cubicBezTo>
                    <a:cubicBezTo>
                      <a:pt x="14872" y="4"/>
                      <a:pt x="14873" y="3"/>
                      <a:pt x="14874" y="3"/>
                    </a:cubicBezTo>
                    <a:close/>
                    <a:moveTo>
                      <a:pt x="14882" y="3"/>
                    </a:moveTo>
                    <a:lnTo>
                      <a:pt x="14882" y="3"/>
                    </a:lnTo>
                    <a:cubicBezTo>
                      <a:pt x="14883" y="3"/>
                      <a:pt x="14884" y="4"/>
                      <a:pt x="14884" y="5"/>
                    </a:cubicBezTo>
                    <a:cubicBezTo>
                      <a:pt x="14884" y="6"/>
                      <a:pt x="14883" y="7"/>
                      <a:pt x="14882" y="7"/>
                    </a:cubicBezTo>
                    <a:lnTo>
                      <a:pt x="14882" y="7"/>
                    </a:lnTo>
                    <a:cubicBezTo>
                      <a:pt x="14881" y="7"/>
                      <a:pt x="14880" y="6"/>
                      <a:pt x="14880" y="5"/>
                    </a:cubicBezTo>
                    <a:cubicBezTo>
                      <a:pt x="14880" y="4"/>
                      <a:pt x="14881" y="3"/>
                      <a:pt x="14882" y="3"/>
                    </a:cubicBezTo>
                    <a:close/>
                    <a:moveTo>
                      <a:pt x="14890" y="3"/>
                    </a:moveTo>
                    <a:lnTo>
                      <a:pt x="14890" y="3"/>
                    </a:lnTo>
                    <a:cubicBezTo>
                      <a:pt x="14891" y="3"/>
                      <a:pt x="14892" y="4"/>
                      <a:pt x="14892" y="5"/>
                    </a:cubicBezTo>
                    <a:cubicBezTo>
                      <a:pt x="14892" y="6"/>
                      <a:pt x="14891" y="7"/>
                      <a:pt x="14890" y="7"/>
                    </a:cubicBezTo>
                    <a:lnTo>
                      <a:pt x="14890" y="7"/>
                    </a:lnTo>
                    <a:cubicBezTo>
                      <a:pt x="14889" y="7"/>
                      <a:pt x="14888" y="6"/>
                      <a:pt x="14888" y="5"/>
                    </a:cubicBezTo>
                    <a:cubicBezTo>
                      <a:pt x="14888" y="4"/>
                      <a:pt x="14889" y="3"/>
                      <a:pt x="14890" y="3"/>
                    </a:cubicBezTo>
                    <a:close/>
                    <a:moveTo>
                      <a:pt x="14898" y="3"/>
                    </a:moveTo>
                    <a:lnTo>
                      <a:pt x="14898" y="3"/>
                    </a:lnTo>
                    <a:cubicBezTo>
                      <a:pt x="14899" y="3"/>
                      <a:pt x="14900" y="4"/>
                      <a:pt x="14900" y="5"/>
                    </a:cubicBezTo>
                    <a:cubicBezTo>
                      <a:pt x="14900" y="6"/>
                      <a:pt x="14899" y="7"/>
                      <a:pt x="14898" y="7"/>
                    </a:cubicBezTo>
                    <a:lnTo>
                      <a:pt x="14898" y="7"/>
                    </a:lnTo>
                    <a:cubicBezTo>
                      <a:pt x="14897" y="7"/>
                      <a:pt x="14896" y="6"/>
                      <a:pt x="14896" y="5"/>
                    </a:cubicBezTo>
                    <a:cubicBezTo>
                      <a:pt x="14896" y="4"/>
                      <a:pt x="14897" y="3"/>
                      <a:pt x="14898" y="3"/>
                    </a:cubicBezTo>
                    <a:close/>
                    <a:moveTo>
                      <a:pt x="14906" y="3"/>
                    </a:moveTo>
                    <a:lnTo>
                      <a:pt x="14906" y="3"/>
                    </a:lnTo>
                    <a:cubicBezTo>
                      <a:pt x="14907" y="3"/>
                      <a:pt x="14908" y="4"/>
                      <a:pt x="14908" y="5"/>
                    </a:cubicBezTo>
                    <a:cubicBezTo>
                      <a:pt x="14908" y="6"/>
                      <a:pt x="14907" y="7"/>
                      <a:pt x="14906" y="7"/>
                    </a:cubicBezTo>
                    <a:lnTo>
                      <a:pt x="14906" y="7"/>
                    </a:lnTo>
                    <a:cubicBezTo>
                      <a:pt x="14905" y="7"/>
                      <a:pt x="14904" y="6"/>
                      <a:pt x="14904" y="5"/>
                    </a:cubicBezTo>
                    <a:cubicBezTo>
                      <a:pt x="14904" y="4"/>
                      <a:pt x="14905" y="3"/>
                      <a:pt x="14906" y="3"/>
                    </a:cubicBezTo>
                    <a:close/>
                    <a:moveTo>
                      <a:pt x="14914" y="3"/>
                    </a:moveTo>
                    <a:lnTo>
                      <a:pt x="14914" y="3"/>
                    </a:lnTo>
                    <a:cubicBezTo>
                      <a:pt x="14915" y="3"/>
                      <a:pt x="14916" y="4"/>
                      <a:pt x="14916" y="5"/>
                    </a:cubicBezTo>
                    <a:cubicBezTo>
                      <a:pt x="14916" y="6"/>
                      <a:pt x="14915" y="7"/>
                      <a:pt x="14914" y="7"/>
                    </a:cubicBezTo>
                    <a:lnTo>
                      <a:pt x="14914" y="7"/>
                    </a:lnTo>
                    <a:cubicBezTo>
                      <a:pt x="14913" y="7"/>
                      <a:pt x="14912" y="6"/>
                      <a:pt x="14912" y="5"/>
                    </a:cubicBezTo>
                    <a:cubicBezTo>
                      <a:pt x="14912" y="4"/>
                      <a:pt x="14913" y="3"/>
                      <a:pt x="14914" y="3"/>
                    </a:cubicBezTo>
                    <a:close/>
                    <a:moveTo>
                      <a:pt x="14922" y="3"/>
                    </a:moveTo>
                    <a:lnTo>
                      <a:pt x="14922" y="3"/>
                    </a:lnTo>
                    <a:cubicBezTo>
                      <a:pt x="14923" y="3"/>
                      <a:pt x="14924" y="4"/>
                      <a:pt x="14924" y="5"/>
                    </a:cubicBezTo>
                    <a:cubicBezTo>
                      <a:pt x="14924" y="6"/>
                      <a:pt x="14923" y="7"/>
                      <a:pt x="14922" y="7"/>
                    </a:cubicBezTo>
                    <a:lnTo>
                      <a:pt x="14922" y="7"/>
                    </a:lnTo>
                    <a:cubicBezTo>
                      <a:pt x="14921" y="7"/>
                      <a:pt x="14920" y="6"/>
                      <a:pt x="14920" y="5"/>
                    </a:cubicBezTo>
                    <a:cubicBezTo>
                      <a:pt x="14920" y="4"/>
                      <a:pt x="14921" y="3"/>
                      <a:pt x="14922" y="3"/>
                    </a:cubicBezTo>
                    <a:close/>
                    <a:moveTo>
                      <a:pt x="14930" y="3"/>
                    </a:moveTo>
                    <a:lnTo>
                      <a:pt x="14930" y="3"/>
                    </a:lnTo>
                    <a:cubicBezTo>
                      <a:pt x="14931" y="3"/>
                      <a:pt x="14932" y="4"/>
                      <a:pt x="14932" y="5"/>
                    </a:cubicBezTo>
                    <a:cubicBezTo>
                      <a:pt x="14932" y="6"/>
                      <a:pt x="14931" y="7"/>
                      <a:pt x="14930" y="7"/>
                    </a:cubicBezTo>
                    <a:lnTo>
                      <a:pt x="14930" y="7"/>
                    </a:lnTo>
                    <a:cubicBezTo>
                      <a:pt x="14929" y="7"/>
                      <a:pt x="14928" y="6"/>
                      <a:pt x="14928" y="5"/>
                    </a:cubicBezTo>
                    <a:cubicBezTo>
                      <a:pt x="14928" y="4"/>
                      <a:pt x="14929" y="3"/>
                      <a:pt x="14930" y="3"/>
                    </a:cubicBezTo>
                    <a:close/>
                    <a:moveTo>
                      <a:pt x="14938" y="3"/>
                    </a:moveTo>
                    <a:lnTo>
                      <a:pt x="14938" y="3"/>
                    </a:lnTo>
                    <a:cubicBezTo>
                      <a:pt x="14939" y="3"/>
                      <a:pt x="14940" y="4"/>
                      <a:pt x="14940" y="5"/>
                    </a:cubicBezTo>
                    <a:cubicBezTo>
                      <a:pt x="14940" y="6"/>
                      <a:pt x="14939" y="7"/>
                      <a:pt x="14938" y="7"/>
                    </a:cubicBezTo>
                    <a:lnTo>
                      <a:pt x="14938" y="7"/>
                    </a:lnTo>
                    <a:cubicBezTo>
                      <a:pt x="14937" y="7"/>
                      <a:pt x="14936" y="6"/>
                      <a:pt x="14936" y="5"/>
                    </a:cubicBezTo>
                    <a:cubicBezTo>
                      <a:pt x="14936" y="4"/>
                      <a:pt x="14937" y="3"/>
                      <a:pt x="14938" y="3"/>
                    </a:cubicBezTo>
                    <a:close/>
                    <a:moveTo>
                      <a:pt x="14946" y="3"/>
                    </a:moveTo>
                    <a:lnTo>
                      <a:pt x="14946" y="3"/>
                    </a:lnTo>
                    <a:cubicBezTo>
                      <a:pt x="14947" y="3"/>
                      <a:pt x="14948" y="4"/>
                      <a:pt x="14948" y="5"/>
                    </a:cubicBezTo>
                    <a:cubicBezTo>
                      <a:pt x="14948" y="6"/>
                      <a:pt x="14947" y="7"/>
                      <a:pt x="14946" y="7"/>
                    </a:cubicBezTo>
                    <a:lnTo>
                      <a:pt x="14946" y="7"/>
                    </a:lnTo>
                    <a:cubicBezTo>
                      <a:pt x="14945" y="7"/>
                      <a:pt x="14944" y="6"/>
                      <a:pt x="14944" y="5"/>
                    </a:cubicBezTo>
                    <a:cubicBezTo>
                      <a:pt x="14944" y="4"/>
                      <a:pt x="14945" y="3"/>
                      <a:pt x="14946" y="3"/>
                    </a:cubicBezTo>
                    <a:close/>
                    <a:moveTo>
                      <a:pt x="14954" y="3"/>
                    </a:moveTo>
                    <a:lnTo>
                      <a:pt x="14954" y="3"/>
                    </a:lnTo>
                    <a:cubicBezTo>
                      <a:pt x="14955" y="3"/>
                      <a:pt x="14956" y="4"/>
                      <a:pt x="14956" y="5"/>
                    </a:cubicBezTo>
                    <a:cubicBezTo>
                      <a:pt x="14956" y="6"/>
                      <a:pt x="14955" y="7"/>
                      <a:pt x="14954" y="7"/>
                    </a:cubicBezTo>
                    <a:lnTo>
                      <a:pt x="14954" y="7"/>
                    </a:lnTo>
                    <a:cubicBezTo>
                      <a:pt x="14953" y="7"/>
                      <a:pt x="14952" y="6"/>
                      <a:pt x="14952" y="5"/>
                    </a:cubicBezTo>
                    <a:cubicBezTo>
                      <a:pt x="14952" y="4"/>
                      <a:pt x="14953" y="3"/>
                      <a:pt x="14954" y="3"/>
                    </a:cubicBezTo>
                    <a:close/>
                    <a:moveTo>
                      <a:pt x="14962" y="3"/>
                    </a:moveTo>
                    <a:lnTo>
                      <a:pt x="14962" y="3"/>
                    </a:lnTo>
                    <a:cubicBezTo>
                      <a:pt x="14963" y="3"/>
                      <a:pt x="14964" y="4"/>
                      <a:pt x="14964" y="5"/>
                    </a:cubicBezTo>
                    <a:cubicBezTo>
                      <a:pt x="14964" y="6"/>
                      <a:pt x="14963" y="7"/>
                      <a:pt x="14962" y="7"/>
                    </a:cubicBezTo>
                    <a:lnTo>
                      <a:pt x="14962" y="7"/>
                    </a:lnTo>
                    <a:cubicBezTo>
                      <a:pt x="14961" y="7"/>
                      <a:pt x="14960" y="6"/>
                      <a:pt x="14960" y="5"/>
                    </a:cubicBezTo>
                    <a:cubicBezTo>
                      <a:pt x="14960" y="4"/>
                      <a:pt x="14961" y="3"/>
                      <a:pt x="14962" y="3"/>
                    </a:cubicBezTo>
                    <a:close/>
                    <a:moveTo>
                      <a:pt x="14970" y="3"/>
                    </a:moveTo>
                    <a:lnTo>
                      <a:pt x="14970" y="3"/>
                    </a:lnTo>
                    <a:cubicBezTo>
                      <a:pt x="14971" y="3"/>
                      <a:pt x="14972" y="4"/>
                      <a:pt x="14972" y="5"/>
                    </a:cubicBezTo>
                    <a:cubicBezTo>
                      <a:pt x="14972" y="6"/>
                      <a:pt x="14971" y="7"/>
                      <a:pt x="14970" y="7"/>
                    </a:cubicBezTo>
                    <a:lnTo>
                      <a:pt x="14970" y="7"/>
                    </a:lnTo>
                    <a:cubicBezTo>
                      <a:pt x="14969" y="7"/>
                      <a:pt x="14968" y="6"/>
                      <a:pt x="14968" y="5"/>
                    </a:cubicBezTo>
                    <a:cubicBezTo>
                      <a:pt x="14968" y="4"/>
                      <a:pt x="14969" y="3"/>
                      <a:pt x="14970" y="3"/>
                    </a:cubicBezTo>
                    <a:close/>
                    <a:moveTo>
                      <a:pt x="14978" y="3"/>
                    </a:moveTo>
                    <a:lnTo>
                      <a:pt x="14978" y="3"/>
                    </a:lnTo>
                    <a:cubicBezTo>
                      <a:pt x="14979" y="3"/>
                      <a:pt x="14980" y="4"/>
                      <a:pt x="14980" y="5"/>
                    </a:cubicBezTo>
                    <a:cubicBezTo>
                      <a:pt x="14980" y="6"/>
                      <a:pt x="14979" y="7"/>
                      <a:pt x="14978" y="7"/>
                    </a:cubicBezTo>
                    <a:lnTo>
                      <a:pt x="14978" y="7"/>
                    </a:lnTo>
                    <a:cubicBezTo>
                      <a:pt x="14977" y="7"/>
                      <a:pt x="14976" y="6"/>
                      <a:pt x="14976" y="5"/>
                    </a:cubicBezTo>
                    <a:cubicBezTo>
                      <a:pt x="14976" y="4"/>
                      <a:pt x="14977" y="3"/>
                      <a:pt x="14978" y="3"/>
                    </a:cubicBezTo>
                    <a:close/>
                    <a:moveTo>
                      <a:pt x="14986" y="3"/>
                    </a:moveTo>
                    <a:lnTo>
                      <a:pt x="14986" y="3"/>
                    </a:lnTo>
                    <a:cubicBezTo>
                      <a:pt x="14987" y="3"/>
                      <a:pt x="14988" y="4"/>
                      <a:pt x="14988" y="5"/>
                    </a:cubicBezTo>
                    <a:cubicBezTo>
                      <a:pt x="14988" y="6"/>
                      <a:pt x="14987" y="7"/>
                      <a:pt x="14986" y="7"/>
                    </a:cubicBezTo>
                    <a:lnTo>
                      <a:pt x="14986" y="7"/>
                    </a:lnTo>
                    <a:cubicBezTo>
                      <a:pt x="14985" y="7"/>
                      <a:pt x="14984" y="6"/>
                      <a:pt x="14984" y="5"/>
                    </a:cubicBezTo>
                    <a:cubicBezTo>
                      <a:pt x="14984" y="4"/>
                      <a:pt x="14985" y="3"/>
                      <a:pt x="14986" y="3"/>
                    </a:cubicBezTo>
                    <a:close/>
                    <a:moveTo>
                      <a:pt x="14994" y="3"/>
                    </a:moveTo>
                    <a:lnTo>
                      <a:pt x="14994" y="3"/>
                    </a:lnTo>
                    <a:cubicBezTo>
                      <a:pt x="14995" y="3"/>
                      <a:pt x="14996" y="4"/>
                      <a:pt x="14996" y="5"/>
                    </a:cubicBezTo>
                    <a:cubicBezTo>
                      <a:pt x="14996" y="6"/>
                      <a:pt x="14995" y="7"/>
                      <a:pt x="14994" y="7"/>
                    </a:cubicBezTo>
                    <a:lnTo>
                      <a:pt x="14994" y="7"/>
                    </a:lnTo>
                    <a:cubicBezTo>
                      <a:pt x="14993" y="7"/>
                      <a:pt x="14992" y="6"/>
                      <a:pt x="14992" y="5"/>
                    </a:cubicBezTo>
                    <a:cubicBezTo>
                      <a:pt x="14992" y="4"/>
                      <a:pt x="14993" y="3"/>
                      <a:pt x="14994" y="3"/>
                    </a:cubicBezTo>
                    <a:close/>
                    <a:moveTo>
                      <a:pt x="15002" y="3"/>
                    </a:moveTo>
                    <a:lnTo>
                      <a:pt x="15002" y="3"/>
                    </a:lnTo>
                    <a:cubicBezTo>
                      <a:pt x="15003" y="3"/>
                      <a:pt x="15004" y="4"/>
                      <a:pt x="15004" y="5"/>
                    </a:cubicBezTo>
                    <a:cubicBezTo>
                      <a:pt x="15004" y="6"/>
                      <a:pt x="15003" y="7"/>
                      <a:pt x="15002" y="7"/>
                    </a:cubicBezTo>
                    <a:lnTo>
                      <a:pt x="15002" y="7"/>
                    </a:lnTo>
                    <a:cubicBezTo>
                      <a:pt x="15001" y="7"/>
                      <a:pt x="15000" y="6"/>
                      <a:pt x="15000" y="5"/>
                    </a:cubicBezTo>
                    <a:cubicBezTo>
                      <a:pt x="15000" y="4"/>
                      <a:pt x="15001" y="3"/>
                      <a:pt x="15002" y="3"/>
                    </a:cubicBezTo>
                    <a:close/>
                    <a:moveTo>
                      <a:pt x="15010" y="3"/>
                    </a:moveTo>
                    <a:lnTo>
                      <a:pt x="15010" y="3"/>
                    </a:lnTo>
                    <a:cubicBezTo>
                      <a:pt x="15011" y="3"/>
                      <a:pt x="15012" y="4"/>
                      <a:pt x="15012" y="5"/>
                    </a:cubicBezTo>
                    <a:cubicBezTo>
                      <a:pt x="15012" y="6"/>
                      <a:pt x="15011" y="7"/>
                      <a:pt x="15010" y="7"/>
                    </a:cubicBezTo>
                    <a:lnTo>
                      <a:pt x="15010" y="7"/>
                    </a:lnTo>
                    <a:cubicBezTo>
                      <a:pt x="15009" y="7"/>
                      <a:pt x="15008" y="6"/>
                      <a:pt x="15008" y="5"/>
                    </a:cubicBezTo>
                    <a:cubicBezTo>
                      <a:pt x="15008" y="4"/>
                      <a:pt x="15009" y="3"/>
                      <a:pt x="15010" y="3"/>
                    </a:cubicBezTo>
                    <a:close/>
                    <a:moveTo>
                      <a:pt x="15018" y="3"/>
                    </a:moveTo>
                    <a:lnTo>
                      <a:pt x="15018" y="3"/>
                    </a:lnTo>
                    <a:cubicBezTo>
                      <a:pt x="15019" y="3"/>
                      <a:pt x="15020" y="4"/>
                      <a:pt x="15020" y="5"/>
                    </a:cubicBezTo>
                    <a:cubicBezTo>
                      <a:pt x="15020" y="6"/>
                      <a:pt x="15019" y="7"/>
                      <a:pt x="15018" y="7"/>
                    </a:cubicBezTo>
                    <a:lnTo>
                      <a:pt x="15018" y="7"/>
                    </a:lnTo>
                    <a:cubicBezTo>
                      <a:pt x="15017" y="7"/>
                      <a:pt x="15016" y="6"/>
                      <a:pt x="15016" y="5"/>
                    </a:cubicBezTo>
                    <a:cubicBezTo>
                      <a:pt x="15016" y="4"/>
                      <a:pt x="15017" y="3"/>
                      <a:pt x="15018" y="3"/>
                    </a:cubicBezTo>
                    <a:close/>
                    <a:moveTo>
                      <a:pt x="15026" y="3"/>
                    </a:moveTo>
                    <a:lnTo>
                      <a:pt x="15026" y="3"/>
                    </a:lnTo>
                    <a:cubicBezTo>
                      <a:pt x="15027" y="3"/>
                      <a:pt x="15028" y="4"/>
                      <a:pt x="15028" y="5"/>
                    </a:cubicBezTo>
                    <a:cubicBezTo>
                      <a:pt x="15028" y="6"/>
                      <a:pt x="15027" y="7"/>
                      <a:pt x="15026" y="7"/>
                    </a:cubicBezTo>
                    <a:lnTo>
                      <a:pt x="15026" y="7"/>
                    </a:lnTo>
                    <a:cubicBezTo>
                      <a:pt x="15025" y="7"/>
                      <a:pt x="15024" y="6"/>
                      <a:pt x="15024" y="5"/>
                    </a:cubicBezTo>
                    <a:cubicBezTo>
                      <a:pt x="15024" y="4"/>
                      <a:pt x="15025" y="3"/>
                      <a:pt x="15026" y="3"/>
                    </a:cubicBezTo>
                    <a:close/>
                    <a:moveTo>
                      <a:pt x="15034" y="3"/>
                    </a:moveTo>
                    <a:lnTo>
                      <a:pt x="15034" y="3"/>
                    </a:lnTo>
                    <a:cubicBezTo>
                      <a:pt x="15035" y="3"/>
                      <a:pt x="15036" y="4"/>
                      <a:pt x="15036" y="5"/>
                    </a:cubicBezTo>
                    <a:cubicBezTo>
                      <a:pt x="15036" y="6"/>
                      <a:pt x="15035" y="7"/>
                      <a:pt x="15034" y="7"/>
                    </a:cubicBezTo>
                    <a:lnTo>
                      <a:pt x="15034" y="7"/>
                    </a:lnTo>
                    <a:cubicBezTo>
                      <a:pt x="15033" y="7"/>
                      <a:pt x="15032" y="6"/>
                      <a:pt x="15032" y="5"/>
                    </a:cubicBezTo>
                    <a:cubicBezTo>
                      <a:pt x="15032" y="4"/>
                      <a:pt x="15033" y="3"/>
                      <a:pt x="15034" y="3"/>
                    </a:cubicBezTo>
                    <a:close/>
                    <a:moveTo>
                      <a:pt x="15042" y="3"/>
                    </a:moveTo>
                    <a:lnTo>
                      <a:pt x="15042" y="3"/>
                    </a:lnTo>
                    <a:cubicBezTo>
                      <a:pt x="15043" y="3"/>
                      <a:pt x="15044" y="4"/>
                      <a:pt x="15044" y="5"/>
                    </a:cubicBezTo>
                    <a:cubicBezTo>
                      <a:pt x="15044" y="6"/>
                      <a:pt x="15043" y="7"/>
                      <a:pt x="15042" y="7"/>
                    </a:cubicBezTo>
                    <a:lnTo>
                      <a:pt x="15042" y="7"/>
                    </a:lnTo>
                    <a:cubicBezTo>
                      <a:pt x="15041" y="7"/>
                      <a:pt x="15040" y="6"/>
                      <a:pt x="15040" y="5"/>
                    </a:cubicBezTo>
                    <a:cubicBezTo>
                      <a:pt x="15040" y="4"/>
                      <a:pt x="15041" y="3"/>
                      <a:pt x="15042" y="3"/>
                    </a:cubicBezTo>
                    <a:close/>
                    <a:moveTo>
                      <a:pt x="15050" y="3"/>
                    </a:moveTo>
                    <a:lnTo>
                      <a:pt x="15050" y="3"/>
                    </a:lnTo>
                    <a:cubicBezTo>
                      <a:pt x="15051" y="3"/>
                      <a:pt x="15052" y="4"/>
                      <a:pt x="15052" y="5"/>
                    </a:cubicBezTo>
                    <a:cubicBezTo>
                      <a:pt x="15052" y="6"/>
                      <a:pt x="15051" y="7"/>
                      <a:pt x="15050" y="7"/>
                    </a:cubicBezTo>
                    <a:lnTo>
                      <a:pt x="15050" y="7"/>
                    </a:lnTo>
                    <a:cubicBezTo>
                      <a:pt x="15049" y="7"/>
                      <a:pt x="15048" y="6"/>
                      <a:pt x="15048" y="5"/>
                    </a:cubicBezTo>
                    <a:cubicBezTo>
                      <a:pt x="15048" y="4"/>
                      <a:pt x="15049" y="3"/>
                      <a:pt x="15050" y="3"/>
                    </a:cubicBezTo>
                    <a:close/>
                    <a:moveTo>
                      <a:pt x="15058" y="3"/>
                    </a:moveTo>
                    <a:lnTo>
                      <a:pt x="15058" y="3"/>
                    </a:lnTo>
                    <a:cubicBezTo>
                      <a:pt x="15059" y="3"/>
                      <a:pt x="15060" y="4"/>
                      <a:pt x="15060" y="5"/>
                    </a:cubicBezTo>
                    <a:cubicBezTo>
                      <a:pt x="15060" y="6"/>
                      <a:pt x="15059" y="7"/>
                      <a:pt x="15058" y="7"/>
                    </a:cubicBezTo>
                    <a:lnTo>
                      <a:pt x="15058" y="7"/>
                    </a:lnTo>
                    <a:cubicBezTo>
                      <a:pt x="15057" y="7"/>
                      <a:pt x="15056" y="6"/>
                      <a:pt x="15056" y="5"/>
                    </a:cubicBezTo>
                    <a:cubicBezTo>
                      <a:pt x="15056" y="4"/>
                      <a:pt x="15057" y="3"/>
                      <a:pt x="15058" y="3"/>
                    </a:cubicBezTo>
                    <a:close/>
                    <a:moveTo>
                      <a:pt x="15066" y="3"/>
                    </a:moveTo>
                    <a:lnTo>
                      <a:pt x="15066" y="3"/>
                    </a:lnTo>
                    <a:cubicBezTo>
                      <a:pt x="15067" y="3"/>
                      <a:pt x="15068" y="4"/>
                      <a:pt x="15068" y="5"/>
                    </a:cubicBezTo>
                    <a:cubicBezTo>
                      <a:pt x="15068" y="6"/>
                      <a:pt x="15067" y="7"/>
                      <a:pt x="15066" y="7"/>
                    </a:cubicBezTo>
                    <a:lnTo>
                      <a:pt x="15066" y="7"/>
                    </a:lnTo>
                    <a:cubicBezTo>
                      <a:pt x="15065" y="7"/>
                      <a:pt x="15064" y="6"/>
                      <a:pt x="15064" y="5"/>
                    </a:cubicBezTo>
                    <a:cubicBezTo>
                      <a:pt x="15064" y="4"/>
                      <a:pt x="15065" y="3"/>
                      <a:pt x="15066" y="3"/>
                    </a:cubicBezTo>
                    <a:close/>
                    <a:moveTo>
                      <a:pt x="15074" y="3"/>
                    </a:moveTo>
                    <a:lnTo>
                      <a:pt x="15074" y="3"/>
                    </a:lnTo>
                    <a:cubicBezTo>
                      <a:pt x="15075" y="3"/>
                      <a:pt x="15076" y="4"/>
                      <a:pt x="15076" y="5"/>
                    </a:cubicBezTo>
                    <a:cubicBezTo>
                      <a:pt x="15076" y="6"/>
                      <a:pt x="15075" y="7"/>
                      <a:pt x="15074" y="7"/>
                    </a:cubicBezTo>
                    <a:lnTo>
                      <a:pt x="15074" y="7"/>
                    </a:lnTo>
                    <a:cubicBezTo>
                      <a:pt x="15073" y="7"/>
                      <a:pt x="15072" y="6"/>
                      <a:pt x="15072" y="5"/>
                    </a:cubicBezTo>
                    <a:cubicBezTo>
                      <a:pt x="15072" y="4"/>
                      <a:pt x="15073" y="3"/>
                      <a:pt x="15074" y="3"/>
                    </a:cubicBezTo>
                    <a:close/>
                    <a:moveTo>
                      <a:pt x="15082" y="3"/>
                    </a:moveTo>
                    <a:lnTo>
                      <a:pt x="15082" y="3"/>
                    </a:lnTo>
                    <a:cubicBezTo>
                      <a:pt x="15083" y="3"/>
                      <a:pt x="15084" y="4"/>
                      <a:pt x="15084" y="5"/>
                    </a:cubicBezTo>
                    <a:cubicBezTo>
                      <a:pt x="15084" y="6"/>
                      <a:pt x="15083" y="7"/>
                      <a:pt x="15082" y="7"/>
                    </a:cubicBezTo>
                    <a:lnTo>
                      <a:pt x="15082" y="7"/>
                    </a:lnTo>
                    <a:cubicBezTo>
                      <a:pt x="15081" y="7"/>
                      <a:pt x="15080" y="6"/>
                      <a:pt x="15080" y="5"/>
                    </a:cubicBezTo>
                    <a:cubicBezTo>
                      <a:pt x="15080" y="4"/>
                      <a:pt x="15081" y="3"/>
                      <a:pt x="15082" y="3"/>
                    </a:cubicBezTo>
                    <a:close/>
                    <a:moveTo>
                      <a:pt x="15090" y="3"/>
                    </a:moveTo>
                    <a:lnTo>
                      <a:pt x="15090" y="3"/>
                    </a:lnTo>
                    <a:cubicBezTo>
                      <a:pt x="15091" y="3"/>
                      <a:pt x="15092" y="4"/>
                      <a:pt x="15092" y="5"/>
                    </a:cubicBezTo>
                    <a:cubicBezTo>
                      <a:pt x="15092" y="6"/>
                      <a:pt x="15091" y="7"/>
                      <a:pt x="15090" y="7"/>
                    </a:cubicBezTo>
                    <a:lnTo>
                      <a:pt x="15090" y="7"/>
                    </a:lnTo>
                    <a:cubicBezTo>
                      <a:pt x="15089" y="7"/>
                      <a:pt x="15088" y="6"/>
                      <a:pt x="15088" y="5"/>
                    </a:cubicBezTo>
                    <a:cubicBezTo>
                      <a:pt x="15088" y="4"/>
                      <a:pt x="15089" y="3"/>
                      <a:pt x="15090" y="3"/>
                    </a:cubicBezTo>
                    <a:close/>
                    <a:moveTo>
                      <a:pt x="15098" y="3"/>
                    </a:moveTo>
                    <a:lnTo>
                      <a:pt x="15098" y="3"/>
                    </a:lnTo>
                    <a:cubicBezTo>
                      <a:pt x="15099" y="3"/>
                      <a:pt x="15100" y="4"/>
                      <a:pt x="15100" y="5"/>
                    </a:cubicBezTo>
                    <a:cubicBezTo>
                      <a:pt x="15100" y="6"/>
                      <a:pt x="15099" y="7"/>
                      <a:pt x="15098" y="7"/>
                    </a:cubicBezTo>
                    <a:lnTo>
                      <a:pt x="15098" y="7"/>
                    </a:lnTo>
                    <a:cubicBezTo>
                      <a:pt x="15097" y="7"/>
                      <a:pt x="15096" y="6"/>
                      <a:pt x="15096" y="5"/>
                    </a:cubicBezTo>
                    <a:cubicBezTo>
                      <a:pt x="15096" y="4"/>
                      <a:pt x="15097" y="3"/>
                      <a:pt x="15098" y="3"/>
                    </a:cubicBezTo>
                    <a:close/>
                    <a:moveTo>
                      <a:pt x="15106" y="3"/>
                    </a:moveTo>
                    <a:lnTo>
                      <a:pt x="15106" y="3"/>
                    </a:lnTo>
                    <a:cubicBezTo>
                      <a:pt x="15107" y="3"/>
                      <a:pt x="15108" y="4"/>
                      <a:pt x="15108" y="5"/>
                    </a:cubicBezTo>
                    <a:cubicBezTo>
                      <a:pt x="15108" y="6"/>
                      <a:pt x="15107" y="7"/>
                      <a:pt x="15106" y="7"/>
                    </a:cubicBezTo>
                    <a:lnTo>
                      <a:pt x="15106" y="7"/>
                    </a:lnTo>
                    <a:cubicBezTo>
                      <a:pt x="15105" y="7"/>
                      <a:pt x="15104" y="6"/>
                      <a:pt x="15104" y="5"/>
                    </a:cubicBezTo>
                    <a:cubicBezTo>
                      <a:pt x="15104" y="4"/>
                      <a:pt x="15105" y="3"/>
                      <a:pt x="15106" y="3"/>
                    </a:cubicBezTo>
                    <a:close/>
                    <a:moveTo>
                      <a:pt x="15114" y="3"/>
                    </a:moveTo>
                    <a:lnTo>
                      <a:pt x="15114" y="3"/>
                    </a:lnTo>
                    <a:cubicBezTo>
                      <a:pt x="15115" y="3"/>
                      <a:pt x="15116" y="4"/>
                      <a:pt x="15116" y="5"/>
                    </a:cubicBezTo>
                    <a:cubicBezTo>
                      <a:pt x="15116" y="6"/>
                      <a:pt x="15115" y="7"/>
                      <a:pt x="15114" y="7"/>
                    </a:cubicBezTo>
                    <a:lnTo>
                      <a:pt x="15114" y="7"/>
                    </a:lnTo>
                    <a:cubicBezTo>
                      <a:pt x="15113" y="7"/>
                      <a:pt x="15112" y="6"/>
                      <a:pt x="15112" y="5"/>
                    </a:cubicBezTo>
                    <a:cubicBezTo>
                      <a:pt x="15112" y="4"/>
                      <a:pt x="15113" y="3"/>
                      <a:pt x="15114" y="3"/>
                    </a:cubicBezTo>
                    <a:close/>
                    <a:moveTo>
                      <a:pt x="15122" y="3"/>
                    </a:moveTo>
                    <a:lnTo>
                      <a:pt x="15122" y="3"/>
                    </a:lnTo>
                    <a:cubicBezTo>
                      <a:pt x="15123" y="3"/>
                      <a:pt x="15124" y="4"/>
                      <a:pt x="15124" y="5"/>
                    </a:cubicBezTo>
                    <a:cubicBezTo>
                      <a:pt x="15124" y="6"/>
                      <a:pt x="15123" y="7"/>
                      <a:pt x="15122" y="7"/>
                    </a:cubicBezTo>
                    <a:lnTo>
                      <a:pt x="15122" y="7"/>
                    </a:lnTo>
                    <a:cubicBezTo>
                      <a:pt x="15121" y="7"/>
                      <a:pt x="15120" y="6"/>
                      <a:pt x="15120" y="5"/>
                    </a:cubicBezTo>
                    <a:cubicBezTo>
                      <a:pt x="15120" y="4"/>
                      <a:pt x="15121" y="3"/>
                      <a:pt x="15122" y="3"/>
                    </a:cubicBezTo>
                    <a:close/>
                    <a:moveTo>
                      <a:pt x="15130" y="3"/>
                    </a:moveTo>
                    <a:lnTo>
                      <a:pt x="15130" y="3"/>
                    </a:lnTo>
                    <a:cubicBezTo>
                      <a:pt x="15131" y="3"/>
                      <a:pt x="15132" y="4"/>
                      <a:pt x="15132" y="5"/>
                    </a:cubicBezTo>
                    <a:cubicBezTo>
                      <a:pt x="15132" y="6"/>
                      <a:pt x="15131" y="7"/>
                      <a:pt x="15130" y="7"/>
                    </a:cubicBezTo>
                    <a:lnTo>
                      <a:pt x="15130" y="7"/>
                    </a:lnTo>
                    <a:cubicBezTo>
                      <a:pt x="15129" y="7"/>
                      <a:pt x="15128" y="6"/>
                      <a:pt x="15128" y="5"/>
                    </a:cubicBezTo>
                    <a:cubicBezTo>
                      <a:pt x="15128" y="4"/>
                      <a:pt x="15129" y="3"/>
                      <a:pt x="15130" y="3"/>
                    </a:cubicBezTo>
                    <a:close/>
                    <a:moveTo>
                      <a:pt x="15138" y="3"/>
                    </a:moveTo>
                    <a:lnTo>
                      <a:pt x="15138" y="3"/>
                    </a:lnTo>
                    <a:cubicBezTo>
                      <a:pt x="15139" y="3"/>
                      <a:pt x="15140" y="4"/>
                      <a:pt x="15140" y="5"/>
                    </a:cubicBezTo>
                    <a:cubicBezTo>
                      <a:pt x="15140" y="6"/>
                      <a:pt x="15139" y="7"/>
                      <a:pt x="15138" y="7"/>
                    </a:cubicBezTo>
                    <a:lnTo>
                      <a:pt x="15138" y="7"/>
                    </a:lnTo>
                    <a:cubicBezTo>
                      <a:pt x="15137" y="7"/>
                      <a:pt x="15136" y="6"/>
                      <a:pt x="15136" y="5"/>
                    </a:cubicBezTo>
                    <a:cubicBezTo>
                      <a:pt x="15136" y="4"/>
                      <a:pt x="15137" y="3"/>
                      <a:pt x="15138" y="3"/>
                    </a:cubicBezTo>
                    <a:close/>
                    <a:moveTo>
                      <a:pt x="15146" y="3"/>
                    </a:moveTo>
                    <a:lnTo>
                      <a:pt x="15146" y="3"/>
                    </a:lnTo>
                    <a:cubicBezTo>
                      <a:pt x="15147" y="3"/>
                      <a:pt x="15148" y="4"/>
                      <a:pt x="15148" y="5"/>
                    </a:cubicBezTo>
                    <a:cubicBezTo>
                      <a:pt x="15148" y="6"/>
                      <a:pt x="15147" y="7"/>
                      <a:pt x="15146" y="7"/>
                    </a:cubicBezTo>
                    <a:lnTo>
                      <a:pt x="15146" y="7"/>
                    </a:lnTo>
                    <a:cubicBezTo>
                      <a:pt x="15145" y="7"/>
                      <a:pt x="15144" y="6"/>
                      <a:pt x="15144" y="5"/>
                    </a:cubicBezTo>
                    <a:cubicBezTo>
                      <a:pt x="15144" y="4"/>
                      <a:pt x="15145" y="3"/>
                      <a:pt x="15146" y="3"/>
                    </a:cubicBezTo>
                    <a:close/>
                    <a:moveTo>
                      <a:pt x="15154" y="3"/>
                    </a:moveTo>
                    <a:lnTo>
                      <a:pt x="15154" y="3"/>
                    </a:lnTo>
                    <a:cubicBezTo>
                      <a:pt x="15155" y="3"/>
                      <a:pt x="15156" y="4"/>
                      <a:pt x="15156" y="5"/>
                    </a:cubicBezTo>
                    <a:cubicBezTo>
                      <a:pt x="15156" y="6"/>
                      <a:pt x="15155" y="7"/>
                      <a:pt x="15154" y="7"/>
                    </a:cubicBezTo>
                    <a:lnTo>
                      <a:pt x="15154" y="7"/>
                    </a:lnTo>
                    <a:cubicBezTo>
                      <a:pt x="15153" y="7"/>
                      <a:pt x="15152" y="6"/>
                      <a:pt x="15152" y="5"/>
                    </a:cubicBezTo>
                    <a:cubicBezTo>
                      <a:pt x="15152" y="4"/>
                      <a:pt x="15153" y="3"/>
                      <a:pt x="15154" y="3"/>
                    </a:cubicBezTo>
                    <a:close/>
                    <a:moveTo>
                      <a:pt x="15162" y="3"/>
                    </a:moveTo>
                    <a:lnTo>
                      <a:pt x="15162" y="3"/>
                    </a:lnTo>
                    <a:cubicBezTo>
                      <a:pt x="15163" y="3"/>
                      <a:pt x="15164" y="4"/>
                      <a:pt x="15164" y="5"/>
                    </a:cubicBezTo>
                    <a:cubicBezTo>
                      <a:pt x="15164" y="6"/>
                      <a:pt x="15163" y="7"/>
                      <a:pt x="15162" y="7"/>
                    </a:cubicBezTo>
                    <a:lnTo>
                      <a:pt x="15162" y="7"/>
                    </a:lnTo>
                    <a:cubicBezTo>
                      <a:pt x="15161" y="7"/>
                      <a:pt x="15160" y="6"/>
                      <a:pt x="15160" y="5"/>
                    </a:cubicBezTo>
                    <a:cubicBezTo>
                      <a:pt x="15160" y="4"/>
                      <a:pt x="15161" y="3"/>
                      <a:pt x="15162" y="3"/>
                    </a:cubicBezTo>
                    <a:close/>
                    <a:moveTo>
                      <a:pt x="15170" y="3"/>
                    </a:moveTo>
                    <a:lnTo>
                      <a:pt x="15170" y="3"/>
                    </a:lnTo>
                    <a:cubicBezTo>
                      <a:pt x="15171" y="3"/>
                      <a:pt x="15172" y="4"/>
                      <a:pt x="15172" y="5"/>
                    </a:cubicBezTo>
                    <a:cubicBezTo>
                      <a:pt x="15172" y="6"/>
                      <a:pt x="15171" y="7"/>
                      <a:pt x="15170" y="7"/>
                    </a:cubicBezTo>
                    <a:lnTo>
                      <a:pt x="15170" y="7"/>
                    </a:lnTo>
                    <a:cubicBezTo>
                      <a:pt x="15169" y="7"/>
                      <a:pt x="15168" y="6"/>
                      <a:pt x="15168" y="5"/>
                    </a:cubicBezTo>
                    <a:cubicBezTo>
                      <a:pt x="15168" y="4"/>
                      <a:pt x="15169" y="3"/>
                      <a:pt x="15170" y="3"/>
                    </a:cubicBezTo>
                    <a:close/>
                    <a:moveTo>
                      <a:pt x="15178" y="3"/>
                    </a:moveTo>
                    <a:lnTo>
                      <a:pt x="15178" y="3"/>
                    </a:lnTo>
                    <a:cubicBezTo>
                      <a:pt x="15179" y="3"/>
                      <a:pt x="15180" y="4"/>
                      <a:pt x="15180" y="5"/>
                    </a:cubicBezTo>
                    <a:cubicBezTo>
                      <a:pt x="15180" y="6"/>
                      <a:pt x="15179" y="7"/>
                      <a:pt x="15178" y="7"/>
                    </a:cubicBezTo>
                    <a:lnTo>
                      <a:pt x="15178" y="7"/>
                    </a:lnTo>
                    <a:cubicBezTo>
                      <a:pt x="15177" y="7"/>
                      <a:pt x="15176" y="6"/>
                      <a:pt x="15176" y="5"/>
                    </a:cubicBezTo>
                    <a:cubicBezTo>
                      <a:pt x="15176" y="4"/>
                      <a:pt x="15177" y="3"/>
                      <a:pt x="15178" y="3"/>
                    </a:cubicBezTo>
                    <a:close/>
                    <a:moveTo>
                      <a:pt x="15186" y="3"/>
                    </a:moveTo>
                    <a:lnTo>
                      <a:pt x="15186" y="3"/>
                    </a:lnTo>
                    <a:cubicBezTo>
                      <a:pt x="15187" y="3"/>
                      <a:pt x="15188" y="4"/>
                      <a:pt x="15188" y="5"/>
                    </a:cubicBezTo>
                    <a:cubicBezTo>
                      <a:pt x="15188" y="6"/>
                      <a:pt x="15187" y="7"/>
                      <a:pt x="15186" y="7"/>
                    </a:cubicBezTo>
                    <a:lnTo>
                      <a:pt x="15186" y="7"/>
                    </a:lnTo>
                    <a:cubicBezTo>
                      <a:pt x="15185" y="7"/>
                      <a:pt x="15184" y="6"/>
                      <a:pt x="15184" y="5"/>
                    </a:cubicBezTo>
                    <a:cubicBezTo>
                      <a:pt x="15184" y="4"/>
                      <a:pt x="15185" y="3"/>
                      <a:pt x="15186" y="3"/>
                    </a:cubicBezTo>
                    <a:close/>
                    <a:moveTo>
                      <a:pt x="15194" y="3"/>
                    </a:moveTo>
                    <a:lnTo>
                      <a:pt x="15194" y="3"/>
                    </a:lnTo>
                    <a:cubicBezTo>
                      <a:pt x="15195" y="3"/>
                      <a:pt x="15196" y="4"/>
                      <a:pt x="15196" y="5"/>
                    </a:cubicBezTo>
                    <a:cubicBezTo>
                      <a:pt x="15196" y="6"/>
                      <a:pt x="15195" y="7"/>
                      <a:pt x="15194" y="7"/>
                    </a:cubicBezTo>
                    <a:lnTo>
                      <a:pt x="15194" y="7"/>
                    </a:lnTo>
                    <a:cubicBezTo>
                      <a:pt x="15193" y="7"/>
                      <a:pt x="15192" y="6"/>
                      <a:pt x="15192" y="5"/>
                    </a:cubicBezTo>
                    <a:cubicBezTo>
                      <a:pt x="15192" y="4"/>
                      <a:pt x="15193" y="3"/>
                      <a:pt x="15194" y="3"/>
                    </a:cubicBezTo>
                    <a:close/>
                    <a:moveTo>
                      <a:pt x="15202" y="3"/>
                    </a:moveTo>
                    <a:lnTo>
                      <a:pt x="15202" y="3"/>
                    </a:lnTo>
                    <a:cubicBezTo>
                      <a:pt x="15203" y="3"/>
                      <a:pt x="15204" y="4"/>
                      <a:pt x="15204" y="5"/>
                    </a:cubicBezTo>
                    <a:cubicBezTo>
                      <a:pt x="15204" y="6"/>
                      <a:pt x="15203" y="7"/>
                      <a:pt x="15202" y="7"/>
                    </a:cubicBezTo>
                    <a:lnTo>
                      <a:pt x="15202" y="7"/>
                    </a:lnTo>
                    <a:cubicBezTo>
                      <a:pt x="15201" y="7"/>
                      <a:pt x="15200" y="6"/>
                      <a:pt x="15200" y="5"/>
                    </a:cubicBezTo>
                    <a:cubicBezTo>
                      <a:pt x="15200" y="4"/>
                      <a:pt x="15201" y="3"/>
                      <a:pt x="15202" y="3"/>
                    </a:cubicBezTo>
                    <a:close/>
                    <a:moveTo>
                      <a:pt x="15210" y="3"/>
                    </a:moveTo>
                    <a:lnTo>
                      <a:pt x="15210" y="3"/>
                    </a:lnTo>
                    <a:cubicBezTo>
                      <a:pt x="15211" y="3"/>
                      <a:pt x="15212" y="4"/>
                      <a:pt x="15212" y="5"/>
                    </a:cubicBezTo>
                    <a:cubicBezTo>
                      <a:pt x="15212" y="6"/>
                      <a:pt x="15211" y="7"/>
                      <a:pt x="15210" y="7"/>
                    </a:cubicBezTo>
                    <a:lnTo>
                      <a:pt x="15210" y="7"/>
                    </a:lnTo>
                    <a:cubicBezTo>
                      <a:pt x="15209" y="7"/>
                      <a:pt x="15208" y="6"/>
                      <a:pt x="15208" y="5"/>
                    </a:cubicBezTo>
                    <a:cubicBezTo>
                      <a:pt x="15208" y="4"/>
                      <a:pt x="15209" y="3"/>
                      <a:pt x="15210" y="3"/>
                    </a:cubicBezTo>
                    <a:close/>
                    <a:moveTo>
                      <a:pt x="15218" y="3"/>
                    </a:moveTo>
                    <a:lnTo>
                      <a:pt x="15218" y="3"/>
                    </a:lnTo>
                    <a:cubicBezTo>
                      <a:pt x="15219" y="3"/>
                      <a:pt x="15220" y="4"/>
                      <a:pt x="15220" y="5"/>
                    </a:cubicBezTo>
                    <a:cubicBezTo>
                      <a:pt x="15220" y="6"/>
                      <a:pt x="15219" y="7"/>
                      <a:pt x="15218" y="7"/>
                    </a:cubicBezTo>
                    <a:lnTo>
                      <a:pt x="15218" y="7"/>
                    </a:lnTo>
                    <a:cubicBezTo>
                      <a:pt x="15217" y="7"/>
                      <a:pt x="15216" y="6"/>
                      <a:pt x="15216" y="5"/>
                    </a:cubicBezTo>
                    <a:cubicBezTo>
                      <a:pt x="15216" y="4"/>
                      <a:pt x="15217" y="3"/>
                      <a:pt x="15218" y="3"/>
                    </a:cubicBezTo>
                    <a:close/>
                    <a:moveTo>
                      <a:pt x="15226" y="3"/>
                    </a:moveTo>
                    <a:lnTo>
                      <a:pt x="15226" y="3"/>
                    </a:lnTo>
                    <a:cubicBezTo>
                      <a:pt x="15227" y="3"/>
                      <a:pt x="15228" y="4"/>
                      <a:pt x="15228" y="5"/>
                    </a:cubicBezTo>
                    <a:cubicBezTo>
                      <a:pt x="15228" y="6"/>
                      <a:pt x="15227" y="7"/>
                      <a:pt x="15226" y="7"/>
                    </a:cubicBezTo>
                    <a:lnTo>
                      <a:pt x="15226" y="7"/>
                    </a:lnTo>
                    <a:cubicBezTo>
                      <a:pt x="15225" y="7"/>
                      <a:pt x="15224" y="6"/>
                      <a:pt x="15224" y="5"/>
                    </a:cubicBezTo>
                    <a:cubicBezTo>
                      <a:pt x="15224" y="4"/>
                      <a:pt x="15225" y="3"/>
                      <a:pt x="15226" y="3"/>
                    </a:cubicBezTo>
                    <a:close/>
                    <a:moveTo>
                      <a:pt x="15234" y="3"/>
                    </a:moveTo>
                    <a:lnTo>
                      <a:pt x="15234" y="3"/>
                    </a:lnTo>
                    <a:cubicBezTo>
                      <a:pt x="15235" y="3"/>
                      <a:pt x="15236" y="4"/>
                      <a:pt x="15236" y="5"/>
                    </a:cubicBezTo>
                    <a:cubicBezTo>
                      <a:pt x="15236" y="6"/>
                      <a:pt x="15235" y="7"/>
                      <a:pt x="15234" y="7"/>
                    </a:cubicBezTo>
                    <a:lnTo>
                      <a:pt x="15234" y="7"/>
                    </a:lnTo>
                    <a:cubicBezTo>
                      <a:pt x="15233" y="7"/>
                      <a:pt x="15232" y="6"/>
                      <a:pt x="15232" y="5"/>
                    </a:cubicBezTo>
                    <a:cubicBezTo>
                      <a:pt x="15232" y="4"/>
                      <a:pt x="15233" y="3"/>
                      <a:pt x="15234" y="3"/>
                    </a:cubicBezTo>
                    <a:close/>
                    <a:moveTo>
                      <a:pt x="15242" y="3"/>
                    </a:moveTo>
                    <a:lnTo>
                      <a:pt x="15242" y="3"/>
                    </a:lnTo>
                    <a:cubicBezTo>
                      <a:pt x="15243" y="3"/>
                      <a:pt x="15244" y="4"/>
                      <a:pt x="15244" y="5"/>
                    </a:cubicBezTo>
                    <a:cubicBezTo>
                      <a:pt x="15244" y="6"/>
                      <a:pt x="15243" y="7"/>
                      <a:pt x="15242" y="7"/>
                    </a:cubicBezTo>
                    <a:lnTo>
                      <a:pt x="15242" y="7"/>
                    </a:lnTo>
                    <a:cubicBezTo>
                      <a:pt x="15241" y="7"/>
                      <a:pt x="15240" y="6"/>
                      <a:pt x="15240" y="5"/>
                    </a:cubicBezTo>
                    <a:cubicBezTo>
                      <a:pt x="15240" y="4"/>
                      <a:pt x="15241" y="3"/>
                      <a:pt x="15242" y="3"/>
                    </a:cubicBezTo>
                    <a:close/>
                    <a:moveTo>
                      <a:pt x="15250" y="3"/>
                    </a:moveTo>
                    <a:lnTo>
                      <a:pt x="15250" y="3"/>
                    </a:lnTo>
                    <a:cubicBezTo>
                      <a:pt x="15251" y="3"/>
                      <a:pt x="15252" y="4"/>
                      <a:pt x="15252" y="5"/>
                    </a:cubicBezTo>
                    <a:cubicBezTo>
                      <a:pt x="15252" y="6"/>
                      <a:pt x="15251" y="7"/>
                      <a:pt x="15250" y="7"/>
                    </a:cubicBezTo>
                    <a:lnTo>
                      <a:pt x="15250" y="7"/>
                    </a:lnTo>
                    <a:cubicBezTo>
                      <a:pt x="15249" y="7"/>
                      <a:pt x="15248" y="6"/>
                      <a:pt x="15248" y="5"/>
                    </a:cubicBezTo>
                    <a:cubicBezTo>
                      <a:pt x="15248" y="4"/>
                      <a:pt x="15249" y="3"/>
                      <a:pt x="15250" y="3"/>
                    </a:cubicBezTo>
                    <a:close/>
                    <a:moveTo>
                      <a:pt x="15258" y="3"/>
                    </a:moveTo>
                    <a:lnTo>
                      <a:pt x="15258" y="3"/>
                    </a:lnTo>
                    <a:cubicBezTo>
                      <a:pt x="15259" y="3"/>
                      <a:pt x="15260" y="4"/>
                      <a:pt x="15260" y="5"/>
                    </a:cubicBezTo>
                    <a:cubicBezTo>
                      <a:pt x="15260" y="6"/>
                      <a:pt x="15259" y="7"/>
                      <a:pt x="15258" y="7"/>
                    </a:cubicBezTo>
                    <a:lnTo>
                      <a:pt x="15258" y="7"/>
                    </a:lnTo>
                    <a:cubicBezTo>
                      <a:pt x="15257" y="7"/>
                      <a:pt x="15256" y="6"/>
                      <a:pt x="15256" y="5"/>
                    </a:cubicBezTo>
                    <a:cubicBezTo>
                      <a:pt x="15256" y="4"/>
                      <a:pt x="15257" y="3"/>
                      <a:pt x="15258" y="3"/>
                    </a:cubicBezTo>
                    <a:close/>
                    <a:moveTo>
                      <a:pt x="15266" y="3"/>
                    </a:moveTo>
                    <a:lnTo>
                      <a:pt x="15266" y="3"/>
                    </a:lnTo>
                    <a:cubicBezTo>
                      <a:pt x="15267" y="3"/>
                      <a:pt x="15268" y="4"/>
                      <a:pt x="15268" y="5"/>
                    </a:cubicBezTo>
                    <a:cubicBezTo>
                      <a:pt x="15268" y="6"/>
                      <a:pt x="15267" y="7"/>
                      <a:pt x="15266" y="7"/>
                    </a:cubicBezTo>
                    <a:lnTo>
                      <a:pt x="15266" y="7"/>
                    </a:lnTo>
                    <a:cubicBezTo>
                      <a:pt x="15265" y="7"/>
                      <a:pt x="15264" y="6"/>
                      <a:pt x="15264" y="5"/>
                    </a:cubicBezTo>
                    <a:cubicBezTo>
                      <a:pt x="15264" y="4"/>
                      <a:pt x="15265" y="3"/>
                      <a:pt x="15266" y="3"/>
                    </a:cubicBezTo>
                    <a:close/>
                    <a:moveTo>
                      <a:pt x="15274" y="3"/>
                    </a:moveTo>
                    <a:lnTo>
                      <a:pt x="15274" y="3"/>
                    </a:lnTo>
                    <a:cubicBezTo>
                      <a:pt x="15275" y="3"/>
                      <a:pt x="15276" y="4"/>
                      <a:pt x="15276" y="5"/>
                    </a:cubicBezTo>
                    <a:cubicBezTo>
                      <a:pt x="15276" y="6"/>
                      <a:pt x="15275" y="7"/>
                      <a:pt x="15274" y="7"/>
                    </a:cubicBezTo>
                    <a:lnTo>
                      <a:pt x="15274" y="7"/>
                    </a:lnTo>
                    <a:cubicBezTo>
                      <a:pt x="15273" y="7"/>
                      <a:pt x="15272" y="6"/>
                      <a:pt x="15272" y="5"/>
                    </a:cubicBezTo>
                    <a:cubicBezTo>
                      <a:pt x="15272" y="4"/>
                      <a:pt x="15273" y="3"/>
                      <a:pt x="15274" y="3"/>
                    </a:cubicBezTo>
                    <a:close/>
                    <a:moveTo>
                      <a:pt x="15282" y="3"/>
                    </a:moveTo>
                    <a:lnTo>
                      <a:pt x="15282" y="3"/>
                    </a:lnTo>
                    <a:cubicBezTo>
                      <a:pt x="15283" y="3"/>
                      <a:pt x="15284" y="4"/>
                      <a:pt x="15284" y="5"/>
                    </a:cubicBezTo>
                    <a:cubicBezTo>
                      <a:pt x="15284" y="6"/>
                      <a:pt x="15283" y="7"/>
                      <a:pt x="15282" y="7"/>
                    </a:cubicBezTo>
                    <a:lnTo>
                      <a:pt x="15282" y="7"/>
                    </a:lnTo>
                    <a:cubicBezTo>
                      <a:pt x="15281" y="7"/>
                      <a:pt x="15280" y="6"/>
                      <a:pt x="15280" y="5"/>
                    </a:cubicBezTo>
                    <a:cubicBezTo>
                      <a:pt x="15280" y="4"/>
                      <a:pt x="15281" y="3"/>
                      <a:pt x="15282" y="3"/>
                    </a:cubicBezTo>
                    <a:close/>
                    <a:moveTo>
                      <a:pt x="15290" y="3"/>
                    </a:moveTo>
                    <a:lnTo>
                      <a:pt x="15290" y="3"/>
                    </a:lnTo>
                    <a:cubicBezTo>
                      <a:pt x="15291" y="3"/>
                      <a:pt x="15292" y="4"/>
                      <a:pt x="15292" y="5"/>
                    </a:cubicBezTo>
                    <a:cubicBezTo>
                      <a:pt x="15292" y="6"/>
                      <a:pt x="15291" y="7"/>
                      <a:pt x="15290" y="7"/>
                    </a:cubicBezTo>
                    <a:lnTo>
                      <a:pt x="15290" y="7"/>
                    </a:lnTo>
                    <a:cubicBezTo>
                      <a:pt x="15289" y="7"/>
                      <a:pt x="15288" y="6"/>
                      <a:pt x="15288" y="5"/>
                    </a:cubicBezTo>
                    <a:cubicBezTo>
                      <a:pt x="15288" y="4"/>
                      <a:pt x="15289" y="3"/>
                      <a:pt x="15290" y="3"/>
                    </a:cubicBezTo>
                    <a:close/>
                    <a:moveTo>
                      <a:pt x="15298" y="3"/>
                    </a:moveTo>
                    <a:lnTo>
                      <a:pt x="15298" y="3"/>
                    </a:lnTo>
                    <a:cubicBezTo>
                      <a:pt x="15299" y="3"/>
                      <a:pt x="15300" y="4"/>
                      <a:pt x="15300" y="5"/>
                    </a:cubicBezTo>
                    <a:cubicBezTo>
                      <a:pt x="15300" y="6"/>
                      <a:pt x="15299" y="7"/>
                      <a:pt x="15298" y="7"/>
                    </a:cubicBezTo>
                    <a:lnTo>
                      <a:pt x="15298" y="7"/>
                    </a:lnTo>
                    <a:cubicBezTo>
                      <a:pt x="15297" y="7"/>
                      <a:pt x="15296" y="6"/>
                      <a:pt x="15296" y="5"/>
                    </a:cubicBezTo>
                    <a:cubicBezTo>
                      <a:pt x="15296" y="4"/>
                      <a:pt x="15297" y="3"/>
                      <a:pt x="15298" y="3"/>
                    </a:cubicBezTo>
                    <a:close/>
                    <a:moveTo>
                      <a:pt x="15306" y="3"/>
                    </a:moveTo>
                    <a:lnTo>
                      <a:pt x="15306" y="3"/>
                    </a:lnTo>
                    <a:cubicBezTo>
                      <a:pt x="15307" y="3"/>
                      <a:pt x="15308" y="4"/>
                      <a:pt x="15308" y="5"/>
                    </a:cubicBezTo>
                    <a:cubicBezTo>
                      <a:pt x="15308" y="6"/>
                      <a:pt x="15307" y="7"/>
                      <a:pt x="15306" y="7"/>
                    </a:cubicBezTo>
                    <a:lnTo>
                      <a:pt x="15306" y="7"/>
                    </a:lnTo>
                    <a:cubicBezTo>
                      <a:pt x="15305" y="7"/>
                      <a:pt x="15304" y="6"/>
                      <a:pt x="15304" y="5"/>
                    </a:cubicBezTo>
                    <a:cubicBezTo>
                      <a:pt x="15304" y="4"/>
                      <a:pt x="15305" y="3"/>
                      <a:pt x="15306" y="3"/>
                    </a:cubicBezTo>
                    <a:close/>
                    <a:moveTo>
                      <a:pt x="15314" y="3"/>
                    </a:moveTo>
                    <a:lnTo>
                      <a:pt x="15314" y="3"/>
                    </a:lnTo>
                    <a:cubicBezTo>
                      <a:pt x="15315" y="3"/>
                      <a:pt x="15316" y="4"/>
                      <a:pt x="15316" y="5"/>
                    </a:cubicBezTo>
                    <a:cubicBezTo>
                      <a:pt x="15316" y="6"/>
                      <a:pt x="15315" y="7"/>
                      <a:pt x="15314" y="7"/>
                    </a:cubicBezTo>
                    <a:lnTo>
                      <a:pt x="15314" y="7"/>
                    </a:lnTo>
                    <a:cubicBezTo>
                      <a:pt x="15313" y="7"/>
                      <a:pt x="15312" y="6"/>
                      <a:pt x="15312" y="5"/>
                    </a:cubicBezTo>
                    <a:cubicBezTo>
                      <a:pt x="15312" y="4"/>
                      <a:pt x="15313" y="3"/>
                      <a:pt x="15314" y="3"/>
                    </a:cubicBezTo>
                    <a:close/>
                    <a:moveTo>
                      <a:pt x="15322" y="3"/>
                    </a:moveTo>
                    <a:lnTo>
                      <a:pt x="15322" y="3"/>
                    </a:lnTo>
                    <a:cubicBezTo>
                      <a:pt x="15323" y="3"/>
                      <a:pt x="15324" y="4"/>
                      <a:pt x="15324" y="5"/>
                    </a:cubicBezTo>
                    <a:cubicBezTo>
                      <a:pt x="15324" y="6"/>
                      <a:pt x="15323" y="7"/>
                      <a:pt x="15322" y="7"/>
                    </a:cubicBezTo>
                    <a:lnTo>
                      <a:pt x="15322" y="7"/>
                    </a:lnTo>
                    <a:cubicBezTo>
                      <a:pt x="15321" y="7"/>
                      <a:pt x="15320" y="6"/>
                      <a:pt x="15320" y="5"/>
                    </a:cubicBezTo>
                    <a:cubicBezTo>
                      <a:pt x="15320" y="4"/>
                      <a:pt x="15321" y="3"/>
                      <a:pt x="15322" y="3"/>
                    </a:cubicBezTo>
                    <a:close/>
                    <a:moveTo>
                      <a:pt x="15330" y="3"/>
                    </a:moveTo>
                    <a:lnTo>
                      <a:pt x="15330" y="3"/>
                    </a:lnTo>
                    <a:cubicBezTo>
                      <a:pt x="15331" y="3"/>
                      <a:pt x="15332" y="4"/>
                      <a:pt x="15332" y="5"/>
                    </a:cubicBezTo>
                    <a:cubicBezTo>
                      <a:pt x="15332" y="6"/>
                      <a:pt x="15331" y="7"/>
                      <a:pt x="15330" y="7"/>
                    </a:cubicBezTo>
                    <a:lnTo>
                      <a:pt x="15330" y="7"/>
                    </a:lnTo>
                    <a:cubicBezTo>
                      <a:pt x="15329" y="7"/>
                      <a:pt x="15328" y="6"/>
                      <a:pt x="15328" y="5"/>
                    </a:cubicBezTo>
                    <a:cubicBezTo>
                      <a:pt x="15328" y="4"/>
                      <a:pt x="15329" y="3"/>
                      <a:pt x="15330" y="3"/>
                    </a:cubicBezTo>
                    <a:close/>
                    <a:moveTo>
                      <a:pt x="15338" y="3"/>
                    </a:moveTo>
                    <a:lnTo>
                      <a:pt x="15338" y="3"/>
                    </a:lnTo>
                    <a:cubicBezTo>
                      <a:pt x="15339" y="3"/>
                      <a:pt x="15340" y="4"/>
                      <a:pt x="15340" y="5"/>
                    </a:cubicBezTo>
                    <a:cubicBezTo>
                      <a:pt x="15340" y="6"/>
                      <a:pt x="15339" y="7"/>
                      <a:pt x="15338" y="7"/>
                    </a:cubicBezTo>
                    <a:lnTo>
                      <a:pt x="15338" y="7"/>
                    </a:lnTo>
                    <a:cubicBezTo>
                      <a:pt x="15337" y="7"/>
                      <a:pt x="15336" y="6"/>
                      <a:pt x="15336" y="5"/>
                    </a:cubicBezTo>
                    <a:cubicBezTo>
                      <a:pt x="15336" y="4"/>
                      <a:pt x="15337" y="3"/>
                      <a:pt x="15338" y="3"/>
                    </a:cubicBezTo>
                    <a:close/>
                    <a:moveTo>
                      <a:pt x="15346" y="3"/>
                    </a:moveTo>
                    <a:lnTo>
                      <a:pt x="15346" y="3"/>
                    </a:lnTo>
                    <a:cubicBezTo>
                      <a:pt x="15347" y="3"/>
                      <a:pt x="15348" y="4"/>
                      <a:pt x="15348" y="5"/>
                    </a:cubicBezTo>
                    <a:cubicBezTo>
                      <a:pt x="15348" y="6"/>
                      <a:pt x="15347" y="7"/>
                      <a:pt x="15346" y="7"/>
                    </a:cubicBezTo>
                    <a:lnTo>
                      <a:pt x="15346" y="7"/>
                    </a:lnTo>
                    <a:cubicBezTo>
                      <a:pt x="15345" y="7"/>
                      <a:pt x="15344" y="6"/>
                      <a:pt x="15344" y="5"/>
                    </a:cubicBezTo>
                    <a:cubicBezTo>
                      <a:pt x="15344" y="4"/>
                      <a:pt x="15345" y="3"/>
                      <a:pt x="15346" y="3"/>
                    </a:cubicBezTo>
                    <a:close/>
                    <a:moveTo>
                      <a:pt x="15354" y="3"/>
                    </a:moveTo>
                    <a:lnTo>
                      <a:pt x="15354" y="3"/>
                    </a:lnTo>
                    <a:cubicBezTo>
                      <a:pt x="15355" y="3"/>
                      <a:pt x="15356" y="4"/>
                      <a:pt x="15356" y="5"/>
                    </a:cubicBezTo>
                    <a:cubicBezTo>
                      <a:pt x="15356" y="6"/>
                      <a:pt x="15355" y="7"/>
                      <a:pt x="15354" y="7"/>
                    </a:cubicBezTo>
                    <a:lnTo>
                      <a:pt x="15354" y="7"/>
                    </a:lnTo>
                    <a:cubicBezTo>
                      <a:pt x="15353" y="7"/>
                      <a:pt x="15352" y="6"/>
                      <a:pt x="15352" y="5"/>
                    </a:cubicBezTo>
                    <a:cubicBezTo>
                      <a:pt x="15352" y="4"/>
                      <a:pt x="15353" y="3"/>
                      <a:pt x="15354" y="3"/>
                    </a:cubicBezTo>
                    <a:close/>
                    <a:moveTo>
                      <a:pt x="15362" y="3"/>
                    </a:moveTo>
                    <a:lnTo>
                      <a:pt x="15362" y="3"/>
                    </a:lnTo>
                    <a:cubicBezTo>
                      <a:pt x="15363" y="3"/>
                      <a:pt x="15364" y="4"/>
                      <a:pt x="15364" y="5"/>
                    </a:cubicBezTo>
                    <a:cubicBezTo>
                      <a:pt x="15364" y="6"/>
                      <a:pt x="15363" y="7"/>
                      <a:pt x="15362" y="7"/>
                    </a:cubicBezTo>
                    <a:lnTo>
                      <a:pt x="15362" y="7"/>
                    </a:lnTo>
                    <a:cubicBezTo>
                      <a:pt x="15361" y="7"/>
                      <a:pt x="15360" y="6"/>
                      <a:pt x="15360" y="5"/>
                    </a:cubicBezTo>
                    <a:cubicBezTo>
                      <a:pt x="15360" y="4"/>
                      <a:pt x="15361" y="3"/>
                      <a:pt x="15362" y="3"/>
                    </a:cubicBezTo>
                    <a:close/>
                    <a:moveTo>
                      <a:pt x="15370" y="3"/>
                    </a:moveTo>
                    <a:lnTo>
                      <a:pt x="15370" y="3"/>
                    </a:lnTo>
                    <a:cubicBezTo>
                      <a:pt x="15371" y="3"/>
                      <a:pt x="15372" y="4"/>
                      <a:pt x="15372" y="5"/>
                    </a:cubicBezTo>
                    <a:cubicBezTo>
                      <a:pt x="15372" y="6"/>
                      <a:pt x="15371" y="7"/>
                      <a:pt x="15370" y="7"/>
                    </a:cubicBezTo>
                    <a:lnTo>
                      <a:pt x="15370" y="7"/>
                    </a:lnTo>
                    <a:cubicBezTo>
                      <a:pt x="15369" y="7"/>
                      <a:pt x="15368" y="6"/>
                      <a:pt x="15368" y="5"/>
                    </a:cubicBezTo>
                    <a:cubicBezTo>
                      <a:pt x="15368" y="4"/>
                      <a:pt x="15369" y="3"/>
                      <a:pt x="15370" y="3"/>
                    </a:cubicBezTo>
                    <a:close/>
                    <a:moveTo>
                      <a:pt x="15378" y="3"/>
                    </a:moveTo>
                    <a:lnTo>
                      <a:pt x="15378" y="3"/>
                    </a:lnTo>
                    <a:cubicBezTo>
                      <a:pt x="15379" y="3"/>
                      <a:pt x="15380" y="4"/>
                      <a:pt x="15380" y="5"/>
                    </a:cubicBezTo>
                    <a:cubicBezTo>
                      <a:pt x="15380" y="6"/>
                      <a:pt x="15379" y="7"/>
                      <a:pt x="15378" y="7"/>
                    </a:cubicBezTo>
                    <a:lnTo>
                      <a:pt x="15378" y="7"/>
                    </a:lnTo>
                    <a:cubicBezTo>
                      <a:pt x="15377" y="7"/>
                      <a:pt x="15376" y="6"/>
                      <a:pt x="15376" y="5"/>
                    </a:cubicBezTo>
                    <a:cubicBezTo>
                      <a:pt x="15376" y="4"/>
                      <a:pt x="15377" y="3"/>
                      <a:pt x="15378" y="3"/>
                    </a:cubicBezTo>
                    <a:close/>
                    <a:moveTo>
                      <a:pt x="15386" y="3"/>
                    </a:moveTo>
                    <a:lnTo>
                      <a:pt x="15386" y="3"/>
                    </a:lnTo>
                    <a:cubicBezTo>
                      <a:pt x="15387" y="3"/>
                      <a:pt x="15388" y="4"/>
                      <a:pt x="15388" y="5"/>
                    </a:cubicBezTo>
                    <a:cubicBezTo>
                      <a:pt x="15388" y="6"/>
                      <a:pt x="15387" y="7"/>
                      <a:pt x="15386" y="7"/>
                    </a:cubicBezTo>
                    <a:lnTo>
                      <a:pt x="15386" y="7"/>
                    </a:lnTo>
                    <a:cubicBezTo>
                      <a:pt x="15385" y="7"/>
                      <a:pt x="15384" y="6"/>
                      <a:pt x="15384" y="5"/>
                    </a:cubicBezTo>
                    <a:cubicBezTo>
                      <a:pt x="15384" y="4"/>
                      <a:pt x="15385" y="3"/>
                      <a:pt x="15386" y="3"/>
                    </a:cubicBezTo>
                    <a:close/>
                    <a:moveTo>
                      <a:pt x="15394" y="3"/>
                    </a:moveTo>
                    <a:lnTo>
                      <a:pt x="15394" y="3"/>
                    </a:lnTo>
                    <a:cubicBezTo>
                      <a:pt x="15395" y="3"/>
                      <a:pt x="15396" y="4"/>
                      <a:pt x="15396" y="5"/>
                    </a:cubicBezTo>
                    <a:cubicBezTo>
                      <a:pt x="15396" y="6"/>
                      <a:pt x="15395" y="7"/>
                      <a:pt x="15394" y="7"/>
                    </a:cubicBezTo>
                    <a:lnTo>
                      <a:pt x="15394" y="7"/>
                    </a:lnTo>
                    <a:cubicBezTo>
                      <a:pt x="15393" y="7"/>
                      <a:pt x="15392" y="6"/>
                      <a:pt x="15392" y="5"/>
                    </a:cubicBezTo>
                    <a:cubicBezTo>
                      <a:pt x="15392" y="4"/>
                      <a:pt x="15393" y="3"/>
                      <a:pt x="15394" y="3"/>
                    </a:cubicBezTo>
                    <a:close/>
                    <a:moveTo>
                      <a:pt x="15402" y="3"/>
                    </a:moveTo>
                    <a:lnTo>
                      <a:pt x="15402" y="3"/>
                    </a:lnTo>
                    <a:cubicBezTo>
                      <a:pt x="15403" y="3"/>
                      <a:pt x="15404" y="4"/>
                      <a:pt x="15404" y="5"/>
                    </a:cubicBezTo>
                    <a:cubicBezTo>
                      <a:pt x="15404" y="6"/>
                      <a:pt x="15403" y="7"/>
                      <a:pt x="15402" y="7"/>
                    </a:cubicBezTo>
                    <a:lnTo>
                      <a:pt x="15402" y="7"/>
                    </a:lnTo>
                    <a:cubicBezTo>
                      <a:pt x="15401" y="7"/>
                      <a:pt x="15400" y="6"/>
                      <a:pt x="15400" y="5"/>
                    </a:cubicBezTo>
                    <a:cubicBezTo>
                      <a:pt x="15400" y="4"/>
                      <a:pt x="15401" y="3"/>
                      <a:pt x="15402" y="3"/>
                    </a:cubicBezTo>
                    <a:close/>
                    <a:moveTo>
                      <a:pt x="15410" y="3"/>
                    </a:moveTo>
                    <a:lnTo>
                      <a:pt x="15410" y="3"/>
                    </a:lnTo>
                    <a:cubicBezTo>
                      <a:pt x="15411" y="3"/>
                      <a:pt x="15412" y="4"/>
                      <a:pt x="15412" y="5"/>
                    </a:cubicBezTo>
                    <a:cubicBezTo>
                      <a:pt x="15412" y="6"/>
                      <a:pt x="15411" y="7"/>
                      <a:pt x="15410" y="7"/>
                    </a:cubicBezTo>
                    <a:lnTo>
                      <a:pt x="15410" y="7"/>
                    </a:lnTo>
                    <a:cubicBezTo>
                      <a:pt x="15409" y="7"/>
                      <a:pt x="15408" y="6"/>
                      <a:pt x="15408" y="5"/>
                    </a:cubicBezTo>
                    <a:cubicBezTo>
                      <a:pt x="15408" y="4"/>
                      <a:pt x="15409" y="3"/>
                      <a:pt x="15410" y="3"/>
                    </a:cubicBezTo>
                    <a:close/>
                    <a:moveTo>
                      <a:pt x="15418" y="3"/>
                    </a:moveTo>
                    <a:lnTo>
                      <a:pt x="15418" y="3"/>
                    </a:lnTo>
                    <a:cubicBezTo>
                      <a:pt x="15419" y="3"/>
                      <a:pt x="15420" y="4"/>
                      <a:pt x="15420" y="5"/>
                    </a:cubicBezTo>
                    <a:cubicBezTo>
                      <a:pt x="15420" y="6"/>
                      <a:pt x="15419" y="7"/>
                      <a:pt x="15418" y="7"/>
                    </a:cubicBezTo>
                    <a:lnTo>
                      <a:pt x="15418" y="7"/>
                    </a:lnTo>
                    <a:cubicBezTo>
                      <a:pt x="15417" y="7"/>
                      <a:pt x="15416" y="6"/>
                      <a:pt x="15416" y="5"/>
                    </a:cubicBezTo>
                    <a:cubicBezTo>
                      <a:pt x="15416" y="4"/>
                      <a:pt x="15417" y="3"/>
                      <a:pt x="15418" y="3"/>
                    </a:cubicBezTo>
                    <a:close/>
                    <a:moveTo>
                      <a:pt x="15426" y="3"/>
                    </a:moveTo>
                    <a:lnTo>
                      <a:pt x="15426" y="3"/>
                    </a:lnTo>
                    <a:cubicBezTo>
                      <a:pt x="15427" y="3"/>
                      <a:pt x="15428" y="4"/>
                      <a:pt x="15428" y="5"/>
                    </a:cubicBezTo>
                    <a:cubicBezTo>
                      <a:pt x="15428" y="6"/>
                      <a:pt x="15427" y="7"/>
                      <a:pt x="15426" y="7"/>
                    </a:cubicBezTo>
                    <a:lnTo>
                      <a:pt x="15426" y="7"/>
                    </a:lnTo>
                    <a:cubicBezTo>
                      <a:pt x="15425" y="7"/>
                      <a:pt x="15424" y="6"/>
                      <a:pt x="15424" y="5"/>
                    </a:cubicBezTo>
                    <a:cubicBezTo>
                      <a:pt x="15424" y="4"/>
                      <a:pt x="15425" y="3"/>
                      <a:pt x="15426" y="3"/>
                    </a:cubicBezTo>
                    <a:close/>
                    <a:moveTo>
                      <a:pt x="15434" y="3"/>
                    </a:moveTo>
                    <a:lnTo>
                      <a:pt x="15434" y="3"/>
                    </a:lnTo>
                    <a:cubicBezTo>
                      <a:pt x="15435" y="3"/>
                      <a:pt x="15436" y="4"/>
                      <a:pt x="15436" y="5"/>
                    </a:cubicBezTo>
                    <a:cubicBezTo>
                      <a:pt x="15436" y="6"/>
                      <a:pt x="15435" y="7"/>
                      <a:pt x="15434" y="7"/>
                    </a:cubicBezTo>
                    <a:lnTo>
                      <a:pt x="15434" y="7"/>
                    </a:lnTo>
                    <a:cubicBezTo>
                      <a:pt x="15433" y="7"/>
                      <a:pt x="15432" y="6"/>
                      <a:pt x="15432" y="5"/>
                    </a:cubicBezTo>
                    <a:cubicBezTo>
                      <a:pt x="15432" y="4"/>
                      <a:pt x="15433" y="3"/>
                      <a:pt x="15434" y="3"/>
                    </a:cubicBezTo>
                    <a:close/>
                    <a:moveTo>
                      <a:pt x="15442" y="3"/>
                    </a:moveTo>
                    <a:lnTo>
                      <a:pt x="15442" y="3"/>
                    </a:lnTo>
                    <a:cubicBezTo>
                      <a:pt x="15443" y="3"/>
                      <a:pt x="15444" y="4"/>
                      <a:pt x="15444" y="5"/>
                    </a:cubicBezTo>
                    <a:cubicBezTo>
                      <a:pt x="15444" y="6"/>
                      <a:pt x="15443" y="7"/>
                      <a:pt x="15442" y="7"/>
                    </a:cubicBezTo>
                    <a:lnTo>
                      <a:pt x="15442" y="7"/>
                    </a:lnTo>
                    <a:cubicBezTo>
                      <a:pt x="15441" y="7"/>
                      <a:pt x="15440" y="6"/>
                      <a:pt x="15440" y="5"/>
                    </a:cubicBezTo>
                    <a:cubicBezTo>
                      <a:pt x="15440" y="4"/>
                      <a:pt x="15441" y="3"/>
                      <a:pt x="15442" y="3"/>
                    </a:cubicBezTo>
                    <a:close/>
                    <a:moveTo>
                      <a:pt x="15450" y="3"/>
                    </a:moveTo>
                    <a:lnTo>
                      <a:pt x="15450" y="3"/>
                    </a:lnTo>
                    <a:cubicBezTo>
                      <a:pt x="15451" y="3"/>
                      <a:pt x="15452" y="4"/>
                      <a:pt x="15452" y="5"/>
                    </a:cubicBezTo>
                    <a:cubicBezTo>
                      <a:pt x="15452" y="6"/>
                      <a:pt x="15451" y="7"/>
                      <a:pt x="15450" y="7"/>
                    </a:cubicBezTo>
                    <a:lnTo>
                      <a:pt x="15450" y="7"/>
                    </a:lnTo>
                    <a:cubicBezTo>
                      <a:pt x="15449" y="7"/>
                      <a:pt x="15448" y="6"/>
                      <a:pt x="15448" y="5"/>
                    </a:cubicBezTo>
                    <a:cubicBezTo>
                      <a:pt x="15448" y="4"/>
                      <a:pt x="15449" y="3"/>
                      <a:pt x="15450" y="3"/>
                    </a:cubicBezTo>
                    <a:close/>
                    <a:moveTo>
                      <a:pt x="15458" y="3"/>
                    </a:moveTo>
                    <a:lnTo>
                      <a:pt x="15458" y="3"/>
                    </a:lnTo>
                    <a:cubicBezTo>
                      <a:pt x="15459" y="3"/>
                      <a:pt x="15460" y="4"/>
                      <a:pt x="15460" y="5"/>
                    </a:cubicBezTo>
                    <a:cubicBezTo>
                      <a:pt x="15460" y="6"/>
                      <a:pt x="15459" y="7"/>
                      <a:pt x="15458" y="7"/>
                    </a:cubicBezTo>
                    <a:lnTo>
                      <a:pt x="15458" y="7"/>
                    </a:lnTo>
                    <a:cubicBezTo>
                      <a:pt x="15457" y="7"/>
                      <a:pt x="15456" y="6"/>
                      <a:pt x="15456" y="5"/>
                    </a:cubicBezTo>
                    <a:cubicBezTo>
                      <a:pt x="15456" y="4"/>
                      <a:pt x="15457" y="3"/>
                      <a:pt x="15458" y="3"/>
                    </a:cubicBezTo>
                    <a:close/>
                    <a:moveTo>
                      <a:pt x="15466" y="3"/>
                    </a:moveTo>
                    <a:lnTo>
                      <a:pt x="15466" y="3"/>
                    </a:lnTo>
                    <a:cubicBezTo>
                      <a:pt x="15467" y="3"/>
                      <a:pt x="15468" y="4"/>
                      <a:pt x="15468" y="5"/>
                    </a:cubicBezTo>
                    <a:cubicBezTo>
                      <a:pt x="15468" y="6"/>
                      <a:pt x="15467" y="7"/>
                      <a:pt x="15466" y="7"/>
                    </a:cubicBezTo>
                    <a:lnTo>
                      <a:pt x="15466" y="7"/>
                    </a:lnTo>
                    <a:cubicBezTo>
                      <a:pt x="15465" y="7"/>
                      <a:pt x="15464" y="6"/>
                      <a:pt x="15464" y="5"/>
                    </a:cubicBezTo>
                    <a:cubicBezTo>
                      <a:pt x="15464" y="4"/>
                      <a:pt x="15465" y="3"/>
                      <a:pt x="15466" y="3"/>
                    </a:cubicBezTo>
                    <a:close/>
                    <a:moveTo>
                      <a:pt x="15474" y="3"/>
                    </a:moveTo>
                    <a:lnTo>
                      <a:pt x="15474" y="3"/>
                    </a:lnTo>
                    <a:cubicBezTo>
                      <a:pt x="15475" y="3"/>
                      <a:pt x="15476" y="4"/>
                      <a:pt x="15476" y="5"/>
                    </a:cubicBezTo>
                    <a:cubicBezTo>
                      <a:pt x="15476" y="6"/>
                      <a:pt x="15475" y="7"/>
                      <a:pt x="15474" y="7"/>
                    </a:cubicBezTo>
                    <a:lnTo>
                      <a:pt x="15474" y="7"/>
                    </a:lnTo>
                    <a:cubicBezTo>
                      <a:pt x="15473" y="7"/>
                      <a:pt x="15472" y="6"/>
                      <a:pt x="15472" y="5"/>
                    </a:cubicBezTo>
                    <a:cubicBezTo>
                      <a:pt x="15472" y="4"/>
                      <a:pt x="15473" y="3"/>
                      <a:pt x="15474" y="3"/>
                    </a:cubicBezTo>
                    <a:close/>
                    <a:moveTo>
                      <a:pt x="15482" y="3"/>
                    </a:moveTo>
                    <a:lnTo>
                      <a:pt x="15482" y="3"/>
                    </a:lnTo>
                    <a:cubicBezTo>
                      <a:pt x="15483" y="3"/>
                      <a:pt x="15484" y="4"/>
                      <a:pt x="15484" y="5"/>
                    </a:cubicBezTo>
                    <a:cubicBezTo>
                      <a:pt x="15484" y="6"/>
                      <a:pt x="15483" y="7"/>
                      <a:pt x="15482" y="7"/>
                    </a:cubicBezTo>
                    <a:lnTo>
                      <a:pt x="15482" y="7"/>
                    </a:lnTo>
                    <a:cubicBezTo>
                      <a:pt x="15481" y="7"/>
                      <a:pt x="15480" y="6"/>
                      <a:pt x="15480" y="5"/>
                    </a:cubicBezTo>
                    <a:cubicBezTo>
                      <a:pt x="15480" y="4"/>
                      <a:pt x="15481" y="3"/>
                      <a:pt x="15482" y="3"/>
                    </a:cubicBezTo>
                    <a:close/>
                    <a:moveTo>
                      <a:pt x="15490" y="3"/>
                    </a:moveTo>
                    <a:lnTo>
                      <a:pt x="15490" y="3"/>
                    </a:lnTo>
                    <a:cubicBezTo>
                      <a:pt x="15491" y="3"/>
                      <a:pt x="15492" y="4"/>
                      <a:pt x="15492" y="5"/>
                    </a:cubicBezTo>
                    <a:cubicBezTo>
                      <a:pt x="15492" y="6"/>
                      <a:pt x="15491" y="7"/>
                      <a:pt x="15490" y="7"/>
                    </a:cubicBezTo>
                    <a:lnTo>
                      <a:pt x="15490" y="7"/>
                    </a:lnTo>
                    <a:cubicBezTo>
                      <a:pt x="15489" y="7"/>
                      <a:pt x="15488" y="6"/>
                      <a:pt x="15488" y="5"/>
                    </a:cubicBezTo>
                    <a:cubicBezTo>
                      <a:pt x="15488" y="4"/>
                      <a:pt x="15489" y="3"/>
                      <a:pt x="15490" y="3"/>
                    </a:cubicBezTo>
                    <a:close/>
                    <a:moveTo>
                      <a:pt x="15498" y="3"/>
                    </a:moveTo>
                    <a:lnTo>
                      <a:pt x="15498" y="3"/>
                    </a:lnTo>
                    <a:cubicBezTo>
                      <a:pt x="15499" y="3"/>
                      <a:pt x="15500" y="4"/>
                      <a:pt x="15500" y="5"/>
                    </a:cubicBezTo>
                    <a:cubicBezTo>
                      <a:pt x="15500" y="6"/>
                      <a:pt x="15499" y="7"/>
                      <a:pt x="15498" y="7"/>
                    </a:cubicBezTo>
                    <a:lnTo>
                      <a:pt x="15498" y="7"/>
                    </a:lnTo>
                    <a:cubicBezTo>
                      <a:pt x="15497" y="7"/>
                      <a:pt x="15496" y="6"/>
                      <a:pt x="15496" y="5"/>
                    </a:cubicBezTo>
                    <a:cubicBezTo>
                      <a:pt x="15496" y="4"/>
                      <a:pt x="15497" y="3"/>
                      <a:pt x="15498" y="3"/>
                    </a:cubicBezTo>
                    <a:close/>
                    <a:moveTo>
                      <a:pt x="15506" y="3"/>
                    </a:moveTo>
                    <a:lnTo>
                      <a:pt x="15506" y="3"/>
                    </a:lnTo>
                    <a:cubicBezTo>
                      <a:pt x="15507" y="3"/>
                      <a:pt x="15508" y="4"/>
                      <a:pt x="15508" y="5"/>
                    </a:cubicBezTo>
                    <a:cubicBezTo>
                      <a:pt x="15508" y="6"/>
                      <a:pt x="15507" y="7"/>
                      <a:pt x="15506" y="7"/>
                    </a:cubicBezTo>
                    <a:lnTo>
                      <a:pt x="15506" y="7"/>
                    </a:lnTo>
                    <a:cubicBezTo>
                      <a:pt x="15505" y="7"/>
                      <a:pt x="15504" y="6"/>
                      <a:pt x="15504" y="5"/>
                    </a:cubicBezTo>
                    <a:cubicBezTo>
                      <a:pt x="15504" y="4"/>
                      <a:pt x="15505" y="3"/>
                      <a:pt x="15506" y="3"/>
                    </a:cubicBezTo>
                    <a:close/>
                    <a:moveTo>
                      <a:pt x="15514" y="3"/>
                    </a:moveTo>
                    <a:lnTo>
                      <a:pt x="15514" y="3"/>
                    </a:lnTo>
                    <a:cubicBezTo>
                      <a:pt x="15515" y="3"/>
                      <a:pt x="15516" y="4"/>
                      <a:pt x="15516" y="5"/>
                    </a:cubicBezTo>
                    <a:cubicBezTo>
                      <a:pt x="15516" y="6"/>
                      <a:pt x="15515" y="7"/>
                      <a:pt x="15514" y="7"/>
                    </a:cubicBezTo>
                    <a:lnTo>
                      <a:pt x="15514" y="7"/>
                    </a:lnTo>
                    <a:cubicBezTo>
                      <a:pt x="15513" y="7"/>
                      <a:pt x="15512" y="6"/>
                      <a:pt x="15512" y="5"/>
                    </a:cubicBezTo>
                    <a:cubicBezTo>
                      <a:pt x="15512" y="4"/>
                      <a:pt x="15513" y="3"/>
                      <a:pt x="15514" y="3"/>
                    </a:cubicBezTo>
                    <a:close/>
                    <a:moveTo>
                      <a:pt x="15522" y="3"/>
                    </a:moveTo>
                    <a:lnTo>
                      <a:pt x="15522" y="3"/>
                    </a:lnTo>
                    <a:cubicBezTo>
                      <a:pt x="15523" y="3"/>
                      <a:pt x="15524" y="4"/>
                      <a:pt x="15524" y="5"/>
                    </a:cubicBezTo>
                    <a:cubicBezTo>
                      <a:pt x="15524" y="6"/>
                      <a:pt x="15523" y="7"/>
                      <a:pt x="15522" y="7"/>
                    </a:cubicBezTo>
                    <a:lnTo>
                      <a:pt x="15522" y="7"/>
                    </a:lnTo>
                    <a:cubicBezTo>
                      <a:pt x="15521" y="7"/>
                      <a:pt x="15520" y="6"/>
                      <a:pt x="15520" y="5"/>
                    </a:cubicBezTo>
                    <a:cubicBezTo>
                      <a:pt x="15520" y="4"/>
                      <a:pt x="15521" y="3"/>
                      <a:pt x="15522" y="3"/>
                    </a:cubicBezTo>
                    <a:close/>
                    <a:moveTo>
                      <a:pt x="15530" y="3"/>
                    </a:moveTo>
                    <a:lnTo>
                      <a:pt x="15530" y="3"/>
                    </a:lnTo>
                    <a:cubicBezTo>
                      <a:pt x="15532" y="3"/>
                      <a:pt x="15532" y="4"/>
                      <a:pt x="15532" y="5"/>
                    </a:cubicBezTo>
                    <a:cubicBezTo>
                      <a:pt x="15532" y="6"/>
                      <a:pt x="15532" y="7"/>
                      <a:pt x="15530" y="7"/>
                    </a:cubicBezTo>
                    <a:lnTo>
                      <a:pt x="15530" y="7"/>
                    </a:lnTo>
                    <a:cubicBezTo>
                      <a:pt x="15529" y="7"/>
                      <a:pt x="15528" y="6"/>
                      <a:pt x="15528" y="5"/>
                    </a:cubicBezTo>
                    <a:cubicBezTo>
                      <a:pt x="15528" y="4"/>
                      <a:pt x="15529" y="3"/>
                      <a:pt x="15530" y="3"/>
                    </a:cubicBezTo>
                    <a:close/>
                    <a:moveTo>
                      <a:pt x="15538" y="3"/>
                    </a:moveTo>
                    <a:lnTo>
                      <a:pt x="15538" y="3"/>
                    </a:lnTo>
                    <a:cubicBezTo>
                      <a:pt x="15540" y="3"/>
                      <a:pt x="15540" y="4"/>
                      <a:pt x="15540" y="5"/>
                    </a:cubicBezTo>
                    <a:cubicBezTo>
                      <a:pt x="15540" y="6"/>
                      <a:pt x="15540" y="7"/>
                      <a:pt x="15538" y="7"/>
                    </a:cubicBezTo>
                    <a:lnTo>
                      <a:pt x="15538" y="7"/>
                    </a:lnTo>
                    <a:cubicBezTo>
                      <a:pt x="15537" y="7"/>
                      <a:pt x="15536" y="6"/>
                      <a:pt x="15536" y="5"/>
                    </a:cubicBezTo>
                    <a:cubicBezTo>
                      <a:pt x="15536" y="4"/>
                      <a:pt x="15537" y="3"/>
                      <a:pt x="15538" y="3"/>
                    </a:cubicBezTo>
                    <a:close/>
                    <a:moveTo>
                      <a:pt x="15546" y="3"/>
                    </a:moveTo>
                    <a:lnTo>
                      <a:pt x="15546" y="3"/>
                    </a:lnTo>
                    <a:cubicBezTo>
                      <a:pt x="15548" y="3"/>
                      <a:pt x="15548" y="4"/>
                      <a:pt x="15548" y="5"/>
                    </a:cubicBezTo>
                    <a:cubicBezTo>
                      <a:pt x="15548" y="6"/>
                      <a:pt x="15548" y="7"/>
                      <a:pt x="15546" y="7"/>
                    </a:cubicBezTo>
                    <a:lnTo>
                      <a:pt x="15546" y="7"/>
                    </a:lnTo>
                    <a:cubicBezTo>
                      <a:pt x="15545" y="7"/>
                      <a:pt x="15544" y="6"/>
                      <a:pt x="15544" y="5"/>
                    </a:cubicBezTo>
                    <a:cubicBezTo>
                      <a:pt x="15544" y="4"/>
                      <a:pt x="15545" y="3"/>
                      <a:pt x="15546" y="3"/>
                    </a:cubicBezTo>
                    <a:close/>
                    <a:moveTo>
                      <a:pt x="15554" y="3"/>
                    </a:moveTo>
                    <a:lnTo>
                      <a:pt x="15554" y="3"/>
                    </a:lnTo>
                    <a:cubicBezTo>
                      <a:pt x="15556" y="3"/>
                      <a:pt x="15556" y="4"/>
                      <a:pt x="15556" y="5"/>
                    </a:cubicBezTo>
                    <a:cubicBezTo>
                      <a:pt x="15556" y="6"/>
                      <a:pt x="15556" y="7"/>
                      <a:pt x="15554" y="7"/>
                    </a:cubicBezTo>
                    <a:lnTo>
                      <a:pt x="15554" y="7"/>
                    </a:lnTo>
                    <a:cubicBezTo>
                      <a:pt x="15553" y="7"/>
                      <a:pt x="15552" y="6"/>
                      <a:pt x="15552" y="5"/>
                    </a:cubicBezTo>
                    <a:cubicBezTo>
                      <a:pt x="15552" y="4"/>
                      <a:pt x="15553" y="3"/>
                      <a:pt x="15554" y="3"/>
                    </a:cubicBezTo>
                    <a:close/>
                    <a:moveTo>
                      <a:pt x="15562" y="3"/>
                    </a:moveTo>
                    <a:lnTo>
                      <a:pt x="15562" y="3"/>
                    </a:lnTo>
                    <a:cubicBezTo>
                      <a:pt x="15564" y="3"/>
                      <a:pt x="15564" y="4"/>
                      <a:pt x="15564" y="5"/>
                    </a:cubicBezTo>
                    <a:cubicBezTo>
                      <a:pt x="15564" y="6"/>
                      <a:pt x="15564" y="7"/>
                      <a:pt x="15562" y="7"/>
                    </a:cubicBezTo>
                    <a:lnTo>
                      <a:pt x="15562" y="7"/>
                    </a:lnTo>
                    <a:cubicBezTo>
                      <a:pt x="15561" y="7"/>
                      <a:pt x="15560" y="6"/>
                      <a:pt x="15560" y="5"/>
                    </a:cubicBezTo>
                    <a:cubicBezTo>
                      <a:pt x="15560" y="4"/>
                      <a:pt x="15561" y="3"/>
                      <a:pt x="15562" y="3"/>
                    </a:cubicBezTo>
                    <a:close/>
                    <a:moveTo>
                      <a:pt x="15570" y="3"/>
                    </a:moveTo>
                    <a:lnTo>
                      <a:pt x="15570" y="3"/>
                    </a:lnTo>
                    <a:cubicBezTo>
                      <a:pt x="15572" y="3"/>
                      <a:pt x="15572" y="4"/>
                      <a:pt x="15572" y="5"/>
                    </a:cubicBezTo>
                    <a:cubicBezTo>
                      <a:pt x="15572" y="6"/>
                      <a:pt x="15572" y="7"/>
                      <a:pt x="15570" y="7"/>
                    </a:cubicBezTo>
                    <a:lnTo>
                      <a:pt x="15570" y="7"/>
                    </a:lnTo>
                    <a:cubicBezTo>
                      <a:pt x="15569" y="7"/>
                      <a:pt x="15568" y="6"/>
                      <a:pt x="15568" y="5"/>
                    </a:cubicBezTo>
                    <a:cubicBezTo>
                      <a:pt x="15568" y="4"/>
                      <a:pt x="15569" y="3"/>
                      <a:pt x="15570" y="3"/>
                    </a:cubicBezTo>
                    <a:close/>
                    <a:moveTo>
                      <a:pt x="15578" y="3"/>
                    </a:moveTo>
                    <a:lnTo>
                      <a:pt x="15578" y="3"/>
                    </a:lnTo>
                    <a:cubicBezTo>
                      <a:pt x="15580" y="3"/>
                      <a:pt x="15580" y="4"/>
                      <a:pt x="15580" y="5"/>
                    </a:cubicBezTo>
                    <a:cubicBezTo>
                      <a:pt x="15580" y="6"/>
                      <a:pt x="15580" y="7"/>
                      <a:pt x="15578" y="7"/>
                    </a:cubicBezTo>
                    <a:lnTo>
                      <a:pt x="15578" y="7"/>
                    </a:lnTo>
                    <a:cubicBezTo>
                      <a:pt x="15577" y="7"/>
                      <a:pt x="15576" y="6"/>
                      <a:pt x="15576" y="5"/>
                    </a:cubicBezTo>
                    <a:cubicBezTo>
                      <a:pt x="15576" y="4"/>
                      <a:pt x="15577" y="3"/>
                      <a:pt x="15578" y="3"/>
                    </a:cubicBezTo>
                    <a:close/>
                    <a:moveTo>
                      <a:pt x="15586" y="3"/>
                    </a:moveTo>
                    <a:lnTo>
                      <a:pt x="15586" y="3"/>
                    </a:lnTo>
                    <a:cubicBezTo>
                      <a:pt x="15588" y="3"/>
                      <a:pt x="15588" y="4"/>
                      <a:pt x="15588" y="5"/>
                    </a:cubicBezTo>
                    <a:cubicBezTo>
                      <a:pt x="15588" y="6"/>
                      <a:pt x="15588" y="7"/>
                      <a:pt x="15586" y="7"/>
                    </a:cubicBezTo>
                    <a:lnTo>
                      <a:pt x="15586" y="7"/>
                    </a:lnTo>
                    <a:cubicBezTo>
                      <a:pt x="15585" y="7"/>
                      <a:pt x="15584" y="6"/>
                      <a:pt x="15584" y="5"/>
                    </a:cubicBezTo>
                    <a:cubicBezTo>
                      <a:pt x="15584" y="4"/>
                      <a:pt x="15585" y="3"/>
                      <a:pt x="15586" y="3"/>
                    </a:cubicBezTo>
                    <a:close/>
                    <a:moveTo>
                      <a:pt x="15594" y="3"/>
                    </a:moveTo>
                    <a:lnTo>
                      <a:pt x="15594" y="3"/>
                    </a:lnTo>
                    <a:cubicBezTo>
                      <a:pt x="15596" y="3"/>
                      <a:pt x="15596" y="4"/>
                      <a:pt x="15596" y="5"/>
                    </a:cubicBezTo>
                    <a:cubicBezTo>
                      <a:pt x="15596" y="6"/>
                      <a:pt x="15596" y="7"/>
                      <a:pt x="15594" y="7"/>
                    </a:cubicBezTo>
                    <a:lnTo>
                      <a:pt x="15594" y="7"/>
                    </a:lnTo>
                    <a:cubicBezTo>
                      <a:pt x="15593" y="7"/>
                      <a:pt x="15592" y="6"/>
                      <a:pt x="15592" y="5"/>
                    </a:cubicBezTo>
                    <a:cubicBezTo>
                      <a:pt x="15592" y="4"/>
                      <a:pt x="15593" y="3"/>
                      <a:pt x="15594" y="3"/>
                    </a:cubicBezTo>
                    <a:close/>
                    <a:moveTo>
                      <a:pt x="15602" y="3"/>
                    </a:moveTo>
                    <a:lnTo>
                      <a:pt x="15602" y="3"/>
                    </a:lnTo>
                    <a:cubicBezTo>
                      <a:pt x="15604" y="3"/>
                      <a:pt x="15604" y="4"/>
                      <a:pt x="15604" y="5"/>
                    </a:cubicBezTo>
                    <a:cubicBezTo>
                      <a:pt x="15604" y="6"/>
                      <a:pt x="15604" y="7"/>
                      <a:pt x="15602" y="7"/>
                    </a:cubicBezTo>
                    <a:lnTo>
                      <a:pt x="15602" y="7"/>
                    </a:lnTo>
                    <a:cubicBezTo>
                      <a:pt x="15601" y="7"/>
                      <a:pt x="15600" y="6"/>
                      <a:pt x="15600" y="5"/>
                    </a:cubicBezTo>
                    <a:cubicBezTo>
                      <a:pt x="15600" y="4"/>
                      <a:pt x="15601" y="3"/>
                      <a:pt x="15602" y="3"/>
                    </a:cubicBezTo>
                    <a:close/>
                    <a:moveTo>
                      <a:pt x="15610" y="3"/>
                    </a:moveTo>
                    <a:lnTo>
                      <a:pt x="15610" y="3"/>
                    </a:lnTo>
                    <a:cubicBezTo>
                      <a:pt x="15612" y="3"/>
                      <a:pt x="15612" y="4"/>
                      <a:pt x="15612" y="5"/>
                    </a:cubicBezTo>
                    <a:cubicBezTo>
                      <a:pt x="15612" y="6"/>
                      <a:pt x="15612" y="7"/>
                      <a:pt x="15610" y="7"/>
                    </a:cubicBezTo>
                    <a:lnTo>
                      <a:pt x="15610" y="7"/>
                    </a:lnTo>
                    <a:cubicBezTo>
                      <a:pt x="15609" y="7"/>
                      <a:pt x="15608" y="6"/>
                      <a:pt x="15608" y="5"/>
                    </a:cubicBezTo>
                    <a:cubicBezTo>
                      <a:pt x="15608" y="4"/>
                      <a:pt x="15609" y="3"/>
                      <a:pt x="15610" y="3"/>
                    </a:cubicBezTo>
                    <a:close/>
                    <a:moveTo>
                      <a:pt x="15618" y="3"/>
                    </a:moveTo>
                    <a:lnTo>
                      <a:pt x="15618" y="3"/>
                    </a:lnTo>
                    <a:cubicBezTo>
                      <a:pt x="15620" y="3"/>
                      <a:pt x="15620" y="4"/>
                      <a:pt x="15620" y="5"/>
                    </a:cubicBezTo>
                    <a:cubicBezTo>
                      <a:pt x="15620" y="6"/>
                      <a:pt x="15620" y="7"/>
                      <a:pt x="15618" y="7"/>
                    </a:cubicBezTo>
                    <a:lnTo>
                      <a:pt x="15618" y="7"/>
                    </a:lnTo>
                    <a:cubicBezTo>
                      <a:pt x="15617" y="7"/>
                      <a:pt x="15616" y="6"/>
                      <a:pt x="15616" y="5"/>
                    </a:cubicBezTo>
                    <a:cubicBezTo>
                      <a:pt x="15616" y="4"/>
                      <a:pt x="15617" y="3"/>
                      <a:pt x="15618" y="3"/>
                    </a:cubicBezTo>
                    <a:close/>
                    <a:moveTo>
                      <a:pt x="15626" y="3"/>
                    </a:moveTo>
                    <a:lnTo>
                      <a:pt x="15626" y="3"/>
                    </a:lnTo>
                    <a:cubicBezTo>
                      <a:pt x="15628" y="3"/>
                      <a:pt x="15628" y="4"/>
                      <a:pt x="15628" y="5"/>
                    </a:cubicBezTo>
                    <a:cubicBezTo>
                      <a:pt x="15628" y="6"/>
                      <a:pt x="15628" y="7"/>
                      <a:pt x="15626" y="7"/>
                    </a:cubicBezTo>
                    <a:lnTo>
                      <a:pt x="15626" y="7"/>
                    </a:lnTo>
                    <a:cubicBezTo>
                      <a:pt x="15625" y="7"/>
                      <a:pt x="15624" y="6"/>
                      <a:pt x="15624" y="5"/>
                    </a:cubicBezTo>
                    <a:cubicBezTo>
                      <a:pt x="15624" y="4"/>
                      <a:pt x="15625" y="3"/>
                      <a:pt x="15626" y="3"/>
                    </a:cubicBezTo>
                    <a:close/>
                    <a:moveTo>
                      <a:pt x="15634" y="3"/>
                    </a:moveTo>
                    <a:lnTo>
                      <a:pt x="15634" y="3"/>
                    </a:lnTo>
                    <a:cubicBezTo>
                      <a:pt x="15636" y="3"/>
                      <a:pt x="15636" y="4"/>
                      <a:pt x="15636" y="5"/>
                    </a:cubicBezTo>
                    <a:cubicBezTo>
                      <a:pt x="15636" y="6"/>
                      <a:pt x="15636" y="7"/>
                      <a:pt x="15634" y="7"/>
                    </a:cubicBezTo>
                    <a:lnTo>
                      <a:pt x="15634" y="7"/>
                    </a:lnTo>
                    <a:cubicBezTo>
                      <a:pt x="15633" y="7"/>
                      <a:pt x="15632" y="6"/>
                      <a:pt x="15632" y="5"/>
                    </a:cubicBezTo>
                    <a:cubicBezTo>
                      <a:pt x="15632" y="4"/>
                      <a:pt x="15633" y="3"/>
                      <a:pt x="15634" y="3"/>
                    </a:cubicBezTo>
                    <a:close/>
                    <a:moveTo>
                      <a:pt x="15642" y="3"/>
                    </a:moveTo>
                    <a:lnTo>
                      <a:pt x="15642" y="3"/>
                    </a:lnTo>
                    <a:cubicBezTo>
                      <a:pt x="15644" y="3"/>
                      <a:pt x="15644" y="4"/>
                      <a:pt x="15644" y="5"/>
                    </a:cubicBezTo>
                    <a:cubicBezTo>
                      <a:pt x="15644" y="6"/>
                      <a:pt x="15644" y="7"/>
                      <a:pt x="15642" y="7"/>
                    </a:cubicBezTo>
                    <a:lnTo>
                      <a:pt x="15642" y="7"/>
                    </a:lnTo>
                    <a:cubicBezTo>
                      <a:pt x="15641" y="7"/>
                      <a:pt x="15640" y="6"/>
                      <a:pt x="15640" y="5"/>
                    </a:cubicBezTo>
                    <a:cubicBezTo>
                      <a:pt x="15640" y="4"/>
                      <a:pt x="15641" y="3"/>
                      <a:pt x="15642" y="3"/>
                    </a:cubicBezTo>
                    <a:close/>
                    <a:moveTo>
                      <a:pt x="15650" y="3"/>
                    </a:moveTo>
                    <a:lnTo>
                      <a:pt x="15650" y="3"/>
                    </a:lnTo>
                    <a:cubicBezTo>
                      <a:pt x="15652" y="3"/>
                      <a:pt x="15652" y="4"/>
                      <a:pt x="15652" y="5"/>
                    </a:cubicBezTo>
                    <a:cubicBezTo>
                      <a:pt x="15652" y="6"/>
                      <a:pt x="15652" y="7"/>
                      <a:pt x="15650" y="7"/>
                    </a:cubicBezTo>
                    <a:lnTo>
                      <a:pt x="15650" y="7"/>
                    </a:lnTo>
                    <a:cubicBezTo>
                      <a:pt x="15649" y="7"/>
                      <a:pt x="15648" y="6"/>
                      <a:pt x="15648" y="5"/>
                    </a:cubicBezTo>
                    <a:cubicBezTo>
                      <a:pt x="15648" y="4"/>
                      <a:pt x="15649" y="3"/>
                      <a:pt x="15650" y="3"/>
                    </a:cubicBezTo>
                    <a:close/>
                    <a:moveTo>
                      <a:pt x="15658" y="3"/>
                    </a:moveTo>
                    <a:lnTo>
                      <a:pt x="15658" y="3"/>
                    </a:lnTo>
                    <a:cubicBezTo>
                      <a:pt x="15660" y="3"/>
                      <a:pt x="15660" y="4"/>
                      <a:pt x="15660" y="5"/>
                    </a:cubicBezTo>
                    <a:cubicBezTo>
                      <a:pt x="15660" y="6"/>
                      <a:pt x="15660" y="7"/>
                      <a:pt x="15658" y="7"/>
                    </a:cubicBezTo>
                    <a:lnTo>
                      <a:pt x="15658" y="7"/>
                    </a:lnTo>
                    <a:cubicBezTo>
                      <a:pt x="15657" y="7"/>
                      <a:pt x="15656" y="6"/>
                      <a:pt x="15656" y="5"/>
                    </a:cubicBezTo>
                    <a:cubicBezTo>
                      <a:pt x="15656" y="4"/>
                      <a:pt x="15657" y="3"/>
                      <a:pt x="15658" y="3"/>
                    </a:cubicBezTo>
                    <a:close/>
                    <a:moveTo>
                      <a:pt x="15666" y="3"/>
                    </a:moveTo>
                    <a:lnTo>
                      <a:pt x="15666" y="3"/>
                    </a:lnTo>
                    <a:cubicBezTo>
                      <a:pt x="15668" y="3"/>
                      <a:pt x="15668" y="4"/>
                      <a:pt x="15668" y="5"/>
                    </a:cubicBezTo>
                    <a:cubicBezTo>
                      <a:pt x="15668" y="6"/>
                      <a:pt x="15668" y="7"/>
                      <a:pt x="15666" y="7"/>
                    </a:cubicBezTo>
                    <a:lnTo>
                      <a:pt x="15666" y="7"/>
                    </a:lnTo>
                    <a:cubicBezTo>
                      <a:pt x="15665" y="7"/>
                      <a:pt x="15664" y="6"/>
                      <a:pt x="15664" y="5"/>
                    </a:cubicBezTo>
                    <a:cubicBezTo>
                      <a:pt x="15664" y="4"/>
                      <a:pt x="15665" y="3"/>
                      <a:pt x="15666" y="3"/>
                    </a:cubicBezTo>
                    <a:close/>
                    <a:moveTo>
                      <a:pt x="15674" y="3"/>
                    </a:moveTo>
                    <a:lnTo>
                      <a:pt x="15675" y="3"/>
                    </a:lnTo>
                    <a:cubicBezTo>
                      <a:pt x="15676" y="3"/>
                      <a:pt x="15677" y="4"/>
                      <a:pt x="15677" y="5"/>
                    </a:cubicBezTo>
                    <a:cubicBezTo>
                      <a:pt x="15677" y="6"/>
                      <a:pt x="15676" y="7"/>
                      <a:pt x="15675" y="7"/>
                    </a:cubicBezTo>
                    <a:lnTo>
                      <a:pt x="15674" y="7"/>
                    </a:lnTo>
                    <a:cubicBezTo>
                      <a:pt x="15673" y="7"/>
                      <a:pt x="15672" y="6"/>
                      <a:pt x="15672" y="5"/>
                    </a:cubicBezTo>
                    <a:cubicBezTo>
                      <a:pt x="15672" y="4"/>
                      <a:pt x="15673" y="3"/>
                      <a:pt x="15674" y="3"/>
                    </a:cubicBezTo>
                    <a:close/>
                    <a:moveTo>
                      <a:pt x="15683" y="3"/>
                    </a:moveTo>
                    <a:lnTo>
                      <a:pt x="15683" y="3"/>
                    </a:lnTo>
                    <a:cubicBezTo>
                      <a:pt x="15684" y="3"/>
                      <a:pt x="15685" y="4"/>
                      <a:pt x="15685" y="5"/>
                    </a:cubicBezTo>
                    <a:cubicBezTo>
                      <a:pt x="15685" y="6"/>
                      <a:pt x="15684" y="7"/>
                      <a:pt x="15683" y="7"/>
                    </a:cubicBezTo>
                    <a:lnTo>
                      <a:pt x="15683" y="7"/>
                    </a:lnTo>
                    <a:cubicBezTo>
                      <a:pt x="15681" y="7"/>
                      <a:pt x="15681" y="6"/>
                      <a:pt x="15681" y="5"/>
                    </a:cubicBezTo>
                    <a:cubicBezTo>
                      <a:pt x="15681" y="4"/>
                      <a:pt x="15681" y="3"/>
                      <a:pt x="15683" y="3"/>
                    </a:cubicBezTo>
                    <a:close/>
                    <a:moveTo>
                      <a:pt x="15691" y="3"/>
                    </a:moveTo>
                    <a:lnTo>
                      <a:pt x="15691" y="3"/>
                    </a:lnTo>
                    <a:cubicBezTo>
                      <a:pt x="15692" y="3"/>
                      <a:pt x="15693" y="4"/>
                      <a:pt x="15693" y="5"/>
                    </a:cubicBezTo>
                    <a:cubicBezTo>
                      <a:pt x="15693" y="6"/>
                      <a:pt x="15692" y="7"/>
                      <a:pt x="15691" y="7"/>
                    </a:cubicBezTo>
                    <a:lnTo>
                      <a:pt x="15691" y="7"/>
                    </a:lnTo>
                    <a:cubicBezTo>
                      <a:pt x="15689" y="7"/>
                      <a:pt x="15689" y="6"/>
                      <a:pt x="15689" y="5"/>
                    </a:cubicBezTo>
                    <a:cubicBezTo>
                      <a:pt x="15689" y="4"/>
                      <a:pt x="15689" y="3"/>
                      <a:pt x="15691" y="3"/>
                    </a:cubicBezTo>
                    <a:close/>
                    <a:moveTo>
                      <a:pt x="15699" y="3"/>
                    </a:moveTo>
                    <a:lnTo>
                      <a:pt x="15699" y="3"/>
                    </a:lnTo>
                    <a:cubicBezTo>
                      <a:pt x="15700" y="3"/>
                      <a:pt x="15701" y="4"/>
                      <a:pt x="15701" y="5"/>
                    </a:cubicBezTo>
                    <a:cubicBezTo>
                      <a:pt x="15701" y="6"/>
                      <a:pt x="15700" y="7"/>
                      <a:pt x="15699" y="7"/>
                    </a:cubicBezTo>
                    <a:lnTo>
                      <a:pt x="15699" y="7"/>
                    </a:lnTo>
                    <a:cubicBezTo>
                      <a:pt x="15697" y="7"/>
                      <a:pt x="15697" y="6"/>
                      <a:pt x="15697" y="5"/>
                    </a:cubicBezTo>
                    <a:cubicBezTo>
                      <a:pt x="15697" y="4"/>
                      <a:pt x="15697" y="3"/>
                      <a:pt x="15699" y="3"/>
                    </a:cubicBezTo>
                    <a:close/>
                    <a:moveTo>
                      <a:pt x="15707" y="3"/>
                    </a:moveTo>
                    <a:lnTo>
                      <a:pt x="15707" y="3"/>
                    </a:lnTo>
                    <a:cubicBezTo>
                      <a:pt x="15708" y="3"/>
                      <a:pt x="15709" y="4"/>
                      <a:pt x="15709" y="5"/>
                    </a:cubicBezTo>
                    <a:cubicBezTo>
                      <a:pt x="15709" y="6"/>
                      <a:pt x="15708" y="7"/>
                      <a:pt x="15707" y="7"/>
                    </a:cubicBezTo>
                    <a:lnTo>
                      <a:pt x="15707" y="7"/>
                    </a:lnTo>
                    <a:cubicBezTo>
                      <a:pt x="15705" y="7"/>
                      <a:pt x="15705" y="6"/>
                      <a:pt x="15705" y="5"/>
                    </a:cubicBezTo>
                    <a:cubicBezTo>
                      <a:pt x="15705" y="4"/>
                      <a:pt x="15705" y="3"/>
                      <a:pt x="15707" y="3"/>
                    </a:cubicBezTo>
                    <a:close/>
                    <a:moveTo>
                      <a:pt x="15715" y="3"/>
                    </a:moveTo>
                    <a:lnTo>
                      <a:pt x="15715" y="3"/>
                    </a:lnTo>
                    <a:cubicBezTo>
                      <a:pt x="15716" y="3"/>
                      <a:pt x="15717" y="4"/>
                      <a:pt x="15717" y="5"/>
                    </a:cubicBezTo>
                    <a:cubicBezTo>
                      <a:pt x="15717" y="6"/>
                      <a:pt x="15716" y="7"/>
                      <a:pt x="15715" y="7"/>
                    </a:cubicBezTo>
                    <a:lnTo>
                      <a:pt x="15715" y="7"/>
                    </a:lnTo>
                    <a:cubicBezTo>
                      <a:pt x="15713" y="7"/>
                      <a:pt x="15713" y="6"/>
                      <a:pt x="15713" y="5"/>
                    </a:cubicBezTo>
                    <a:cubicBezTo>
                      <a:pt x="15713" y="4"/>
                      <a:pt x="15713" y="3"/>
                      <a:pt x="15715" y="3"/>
                    </a:cubicBezTo>
                    <a:close/>
                    <a:moveTo>
                      <a:pt x="15723" y="3"/>
                    </a:moveTo>
                    <a:lnTo>
                      <a:pt x="15723" y="3"/>
                    </a:lnTo>
                    <a:cubicBezTo>
                      <a:pt x="15724" y="3"/>
                      <a:pt x="15725" y="4"/>
                      <a:pt x="15725" y="5"/>
                    </a:cubicBezTo>
                    <a:cubicBezTo>
                      <a:pt x="15725" y="6"/>
                      <a:pt x="15724" y="7"/>
                      <a:pt x="15723" y="7"/>
                    </a:cubicBezTo>
                    <a:lnTo>
                      <a:pt x="15723" y="7"/>
                    </a:lnTo>
                    <a:cubicBezTo>
                      <a:pt x="15721" y="7"/>
                      <a:pt x="15721" y="6"/>
                      <a:pt x="15721" y="5"/>
                    </a:cubicBezTo>
                    <a:cubicBezTo>
                      <a:pt x="15721" y="4"/>
                      <a:pt x="15721" y="3"/>
                      <a:pt x="15723" y="3"/>
                    </a:cubicBezTo>
                    <a:close/>
                    <a:moveTo>
                      <a:pt x="15731" y="3"/>
                    </a:moveTo>
                    <a:lnTo>
                      <a:pt x="15731" y="3"/>
                    </a:lnTo>
                    <a:cubicBezTo>
                      <a:pt x="15732" y="3"/>
                      <a:pt x="15733" y="4"/>
                      <a:pt x="15733" y="5"/>
                    </a:cubicBezTo>
                    <a:cubicBezTo>
                      <a:pt x="15733" y="6"/>
                      <a:pt x="15732" y="7"/>
                      <a:pt x="15731" y="7"/>
                    </a:cubicBezTo>
                    <a:lnTo>
                      <a:pt x="15731" y="7"/>
                    </a:lnTo>
                    <a:cubicBezTo>
                      <a:pt x="15729" y="7"/>
                      <a:pt x="15729" y="6"/>
                      <a:pt x="15729" y="5"/>
                    </a:cubicBezTo>
                    <a:cubicBezTo>
                      <a:pt x="15729" y="4"/>
                      <a:pt x="15729" y="3"/>
                      <a:pt x="15731" y="3"/>
                    </a:cubicBezTo>
                    <a:close/>
                    <a:moveTo>
                      <a:pt x="15739" y="3"/>
                    </a:moveTo>
                    <a:lnTo>
                      <a:pt x="15739" y="3"/>
                    </a:lnTo>
                    <a:cubicBezTo>
                      <a:pt x="15740" y="3"/>
                      <a:pt x="15741" y="4"/>
                      <a:pt x="15741" y="5"/>
                    </a:cubicBezTo>
                    <a:cubicBezTo>
                      <a:pt x="15741" y="6"/>
                      <a:pt x="15740" y="7"/>
                      <a:pt x="15739" y="7"/>
                    </a:cubicBezTo>
                    <a:lnTo>
                      <a:pt x="15739" y="7"/>
                    </a:lnTo>
                    <a:cubicBezTo>
                      <a:pt x="15737" y="7"/>
                      <a:pt x="15737" y="6"/>
                      <a:pt x="15737" y="5"/>
                    </a:cubicBezTo>
                    <a:cubicBezTo>
                      <a:pt x="15737" y="4"/>
                      <a:pt x="15737" y="3"/>
                      <a:pt x="15739" y="3"/>
                    </a:cubicBezTo>
                    <a:close/>
                    <a:moveTo>
                      <a:pt x="15747" y="3"/>
                    </a:moveTo>
                    <a:lnTo>
                      <a:pt x="15747" y="3"/>
                    </a:lnTo>
                    <a:cubicBezTo>
                      <a:pt x="15748" y="3"/>
                      <a:pt x="15749" y="4"/>
                      <a:pt x="15749" y="5"/>
                    </a:cubicBezTo>
                    <a:cubicBezTo>
                      <a:pt x="15749" y="6"/>
                      <a:pt x="15748" y="7"/>
                      <a:pt x="15747" y="7"/>
                    </a:cubicBezTo>
                    <a:lnTo>
                      <a:pt x="15747" y="7"/>
                    </a:lnTo>
                    <a:cubicBezTo>
                      <a:pt x="15745" y="7"/>
                      <a:pt x="15745" y="6"/>
                      <a:pt x="15745" y="5"/>
                    </a:cubicBezTo>
                    <a:cubicBezTo>
                      <a:pt x="15745" y="4"/>
                      <a:pt x="15745" y="3"/>
                      <a:pt x="15747" y="3"/>
                    </a:cubicBezTo>
                    <a:close/>
                    <a:moveTo>
                      <a:pt x="15755" y="3"/>
                    </a:moveTo>
                    <a:lnTo>
                      <a:pt x="15755" y="3"/>
                    </a:lnTo>
                    <a:cubicBezTo>
                      <a:pt x="15756" y="3"/>
                      <a:pt x="15757" y="4"/>
                      <a:pt x="15757" y="5"/>
                    </a:cubicBezTo>
                    <a:cubicBezTo>
                      <a:pt x="15757" y="6"/>
                      <a:pt x="15756" y="7"/>
                      <a:pt x="15755" y="7"/>
                    </a:cubicBezTo>
                    <a:lnTo>
                      <a:pt x="15755" y="7"/>
                    </a:lnTo>
                    <a:cubicBezTo>
                      <a:pt x="15753" y="7"/>
                      <a:pt x="15753" y="6"/>
                      <a:pt x="15753" y="5"/>
                    </a:cubicBezTo>
                    <a:cubicBezTo>
                      <a:pt x="15753" y="4"/>
                      <a:pt x="15753" y="3"/>
                      <a:pt x="15755" y="3"/>
                    </a:cubicBezTo>
                    <a:close/>
                    <a:moveTo>
                      <a:pt x="15763" y="3"/>
                    </a:moveTo>
                    <a:lnTo>
                      <a:pt x="15763" y="3"/>
                    </a:lnTo>
                    <a:cubicBezTo>
                      <a:pt x="15764" y="3"/>
                      <a:pt x="15765" y="4"/>
                      <a:pt x="15765" y="5"/>
                    </a:cubicBezTo>
                    <a:cubicBezTo>
                      <a:pt x="15765" y="6"/>
                      <a:pt x="15764" y="7"/>
                      <a:pt x="15763" y="7"/>
                    </a:cubicBezTo>
                    <a:lnTo>
                      <a:pt x="15763" y="7"/>
                    </a:lnTo>
                    <a:cubicBezTo>
                      <a:pt x="15761" y="7"/>
                      <a:pt x="15761" y="6"/>
                      <a:pt x="15761" y="5"/>
                    </a:cubicBezTo>
                    <a:cubicBezTo>
                      <a:pt x="15761" y="4"/>
                      <a:pt x="15761" y="3"/>
                      <a:pt x="15763" y="3"/>
                    </a:cubicBezTo>
                    <a:close/>
                    <a:moveTo>
                      <a:pt x="15771" y="3"/>
                    </a:moveTo>
                    <a:lnTo>
                      <a:pt x="15771" y="3"/>
                    </a:lnTo>
                    <a:cubicBezTo>
                      <a:pt x="15772" y="3"/>
                      <a:pt x="15773" y="4"/>
                      <a:pt x="15773" y="5"/>
                    </a:cubicBezTo>
                    <a:cubicBezTo>
                      <a:pt x="15773" y="6"/>
                      <a:pt x="15772" y="7"/>
                      <a:pt x="15771" y="7"/>
                    </a:cubicBezTo>
                    <a:lnTo>
                      <a:pt x="15771" y="7"/>
                    </a:lnTo>
                    <a:cubicBezTo>
                      <a:pt x="15769" y="7"/>
                      <a:pt x="15769" y="6"/>
                      <a:pt x="15769" y="5"/>
                    </a:cubicBezTo>
                    <a:cubicBezTo>
                      <a:pt x="15769" y="4"/>
                      <a:pt x="15769" y="3"/>
                      <a:pt x="15771" y="3"/>
                    </a:cubicBezTo>
                    <a:close/>
                    <a:moveTo>
                      <a:pt x="15779" y="3"/>
                    </a:moveTo>
                    <a:lnTo>
                      <a:pt x="15779" y="3"/>
                    </a:lnTo>
                    <a:cubicBezTo>
                      <a:pt x="15780" y="3"/>
                      <a:pt x="15781" y="4"/>
                      <a:pt x="15781" y="5"/>
                    </a:cubicBezTo>
                    <a:cubicBezTo>
                      <a:pt x="15781" y="6"/>
                      <a:pt x="15780" y="7"/>
                      <a:pt x="15779" y="7"/>
                    </a:cubicBezTo>
                    <a:lnTo>
                      <a:pt x="15779" y="7"/>
                    </a:lnTo>
                    <a:cubicBezTo>
                      <a:pt x="15777" y="7"/>
                      <a:pt x="15777" y="6"/>
                      <a:pt x="15777" y="5"/>
                    </a:cubicBezTo>
                    <a:cubicBezTo>
                      <a:pt x="15777" y="4"/>
                      <a:pt x="15777" y="3"/>
                      <a:pt x="15779" y="3"/>
                    </a:cubicBezTo>
                    <a:close/>
                    <a:moveTo>
                      <a:pt x="15787" y="3"/>
                    </a:moveTo>
                    <a:lnTo>
                      <a:pt x="15787" y="3"/>
                    </a:lnTo>
                    <a:cubicBezTo>
                      <a:pt x="15788" y="3"/>
                      <a:pt x="15789" y="4"/>
                      <a:pt x="15789" y="5"/>
                    </a:cubicBezTo>
                    <a:cubicBezTo>
                      <a:pt x="15789" y="6"/>
                      <a:pt x="15788" y="7"/>
                      <a:pt x="15787" y="7"/>
                    </a:cubicBezTo>
                    <a:lnTo>
                      <a:pt x="15787" y="7"/>
                    </a:lnTo>
                    <a:cubicBezTo>
                      <a:pt x="15785" y="7"/>
                      <a:pt x="15785" y="6"/>
                      <a:pt x="15785" y="5"/>
                    </a:cubicBezTo>
                    <a:cubicBezTo>
                      <a:pt x="15785" y="4"/>
                      <a:pt x="15785" y="3"/>
                      <a:pt x="15787" y="3"/>
                    </a:cubicBezTo>
                    <a:close/>
                    <a:moveTo>
                      <a:pt x="15795" y="3"/>
                    </a:moveTo>
                    <a:lnTo>
                      <a:pt x="15795" y="3"/>
                    </a:lnTo>
                    <a:cubicBezTo>
                      <a:pt x="15796" y="3"/>
                      <a:pt x="15797" y="4"/>
                      <a:pt x="15797" y="5"/>
                    </a:cubicBezTo>
                    <a:cubicBezTo>
                      <a:pt x="15797" y="6"/>
                      <a:pt x="15796" y="7"/>
                      <a:pt x="15795" y="7"/>
                    </a:cubicBezTo>
                    <a:lnTo>
                      <a:pt x="15795" y="7"/>
                    </a:lnTo>
                    <a:cubicBezTo>
                      <a:pt x="15793" y="7"/>
                      <a:pt x="15793" y="6"/>
                      <a:pt x="15793" y="5"/>
                    </a:cubicBezTo>
                    <a:cubicBezTo>
                      <a:pt x="15793" y="4"/>
                      <a:pt x="15793" y="3"/>
                      <a:pt x="15795" y="3"/>
                    </a:cubicBezTo>
                    <a:close/>
                    <a:moveTo>
                      <a:pt x="15803" y="3"/>
                    </a:moveTo>
                    <a:lnTo>
                      <a:pt x="15803" y="3"/>
                    </a:lnTo>
                    <a:cubicBezTo>
                      <a:pt x="15804" y="3"/>
                      <a:pt x="15805" y="4"/>
                      <a:pt x="15805" y="5"/>
                    </a:cubicBezTo>
                    <a:cubicBezTo>
                      <a:pt x="15805" y="6"/>
                      <a:pt x="15804" y="7"/>
                      <a:pt x="15803" y="7"/>
                    </a:cubicBezTo>
                    <a:lnTo>
                      <a:pt x="15803" y="7"/>
                    </a:lnTo>
                    <a:cubicBezTo>
                      <a:pt x="15801" y="7"/>
                      <a:pt x="15801" y="6"/>
                      <a:pt x="15801" y="5"/>
                    </a:cubicBezTo>
                    <a:cubicBezTo>
                      <a:pt x="15801" y="4"/>
                      <a:pt x="15801" y="3"/>
                      <a:pt x="15803" y="3"/>
                    </a:cubicBezTo>
                    <a:close/>
                    <a:moveTo>
                      <a:pt x="15811" y="3"/>
                    </a:moveTo>
                    <a:lnTo>
                      <a:pt x="15811" y="3"/>
                    </a:lnTo>
                    <a:cubicBezTo>
                      <a:pt x="15812" y="3"/>
                      <a:pt x="15813" y="4"/>
                      <a:pt x="15813" y="5"/>
                    </a:cubicBezTo>
                    <a:cubicBezTo>
                      <a:pt x="15813" y="6"/>
                      <a:pt x="15812" y="7"/>
                      <a:pt x="15811" y="7"/>
                    </a:cubicBezTo>
                    <a:lnTo>
                      <a:pt x="15811" y="7"/>
                    </a:lnTo>
                    <a:cubicBezTo>
                      <a:pt x="15809" y="7"/>
                      <a:pt x="15809" y="6"/>
                      <a:pt x="15809" y="5"/>
                    </a:cubicBezTo>
                    <a:cubicBezTo>
                      <a:pt x="15809" y="4"/>
                      <a:pt x="15809" y="3"/>
                      <a:pt x="15811" y="3"/>
                    </a:cubicBezTo>
                    <a:close/>
                    <a:moveTo>
                      <a:pt x="15819" y="3"/>
                    </a:moveTo>
                    <a:lnTo>
                      <a:pt x="15819" y="3"/>
                    </a:lnTo>
                    <a:cubicBezTo>
                      <a:pt x="15820" y="3"/>
                      <a:pt x="15821" y="4"/>
                      <a:pt x="15821" y="5"/>
                    </a:cubicBezTo>
                    <a:cubicBezTo>
                      <a:pt x="15821" y="6"/>
                      <a:pt x="15820" y="7"/>
                      <a:pt x="15819" y="7"/>
                    </a:cubicBezTo>
                    <a:lnTo>
                      <a:pt x="15819" y="7"/>
                    </a:lnTo>
                    <a:cubicBezTo>
                      <a:pt x="15817" y="7"/>
                      <a:pt x="15817" y="6"/>
                      <a:pt x="15817" y="5"/>
                    </a:cubicBezTo>
                    <a:cubicBezTo>
                      <a:pt x="15817" y="4"/>
                      <a:pt x="15817" y="3"/>
                      <a:pt x="15819" y="3"/>
                    </a:cubicBezTo>
                    <a:close/>
                    <a:moveTo>
                      <a:pt x="15827" y="3"/>
                    </a:moveTo>
                    <a:lnTo>
                      <a:pt x="15827" y="3"/>
                    </a:lnTo>
                    <a:cubicBezTo>
                      <a:pt x="15828" y="3"/>
                      <a:pt x="15829" y="4"/>
                      <a:pt x="15829" y="5"/>
                    </a:cubicBezTo>
                    <a:cubicBezTo>
                      <a:pt x="15829" y="6"/>
                      <a:pt x="15828" y="7"/>
                      <a:pt x="15827" y="7"/>
                    </a:cubicBezTo>
                    <a:lnTo>
                      <a:pt x="15827" y="7"/>
                    </a:lnTo>
                    <a:cubicBezTo>
                      <a:pt x="15826" y="7"/>
                      <a:pt x="15825" y="6"/>
                      <a:pt x="15825" y="5"/>
                    </a:cubicBezTo>
                    <a:cubicBezTo>
                      <a:pt x="15825" y="4"/>
                      <a:pt x="15826" y="3"/>
                      <a:pt x="15827" y="3"/>
                    </a:cubicBezTo>
                    <a:close/>
                    <a:moveTo>
                      <a:pt x="15835" y="3"/>
                    </a:moveTo>
                    <a:lnTo>
                      <a:pt x="15835" y="3"/>
                    </a:lnTo>
                    <a:cubicBezTo>
                      <a:pt x="15836" y="3"/>
                      <a:pt x="15837" y="4"/>
                      <a:pt x="15837" y="5"/>
                    </a:cubicBezTo>
                    <a:cubicBezTo>
                      <a:pt x="15837" y="6"/>
                      <a:pt x="15836" y="7"/>
                      <a:pt x="15835" y="7"/>
                    </a:cubicBezTo>
                    <a:lnTo>
                      <a:pt x="15835" y="7"/>
                    </a:lnTo>
                    <a:cubicBezTo>
                      <a:pt x="15834" y="7"/>
                      <a:pt x="15833" y="6"/>
                      <a:pt x="15833" y="5"/>
                    </a:cubicBezTo>
                    <a:cubicBezTo>
                      <a:pt x="15833" y="4"/>
                      <a:pt x="15834" y="3"/>
                      <a:pt x="15835" y="3"/>
                    </a:cubicBezTo>
                    <a:close/>
                    <a:moveTo>
                      <a:pt x="15843" y="3"/>
                    </a:moveTo>
                    <a:lnTo>
                      <a:pt x="15843" y="3"/>
                    </a:lnTo>
                    <a:cubicBezTo>
                      <a:pt x="15844" y="3"/>
                      <a:pt x="15845" y="4"/>
                      <a:pt x="15845" y="5"/>
                    </a:cubicBezTo>
                    <a:cubicBezTo>
                      <a:pt x="15845" y="6"/>
                      <a:pt x="15844" y="7"/>
                      <a:pt x="15843" y="7"/>
                    </a:cubicBezTo>
                    <a:lnTo>
                      <a:pt x="15843" y="7"/>
                    </a:lnTo>
                    <a:cubicBezTo>
                      <a:pt x="15842" y="7"/>
                      <a:pt x="15841" y="6"/>
                      <a:pt x="15841" y="5"/>
                    </a:cubicBezTo>
                    <a:cubicBezTo>
                      <a:pt x="15841" y="4"/>
                      <a:pt x="15842" y="3"/>
                      <a:pt x="15843" y="3"/>
                    </a:cubicBezTo>
                    <a:close/>
                    <a:moveTo>
                      <a:pt x="15851" y="3"/>
                    </a:moveTo>
                    <a:lnTo>
                      <a:pt x="15851" y="3"/>
                    </a:lnTo>
                    <a:cubicBezTo>
                      <a:pt x="15852" y="3"/>
                      <a:pt x="15853" y="4"/>
                      <a:pt x="15853" y="5"/>
                    </a:cubicBezTo>
                    <a:cubicBezTo>
                      <a:pt x="15853" y="6"/>
                      <a:pt x="15852" y="7"/>
                      <a:pt x="15851" y="7"/>
                    </a:cubicBezTo>
                    <a:lnTo>
                      <a:pt x="15851" y="7"/>
                    </a:lnTo>
                    <a:cubicBezTo>
                      <a:pt x="15850" y="7"/>
                      <a:pt x="15849" y="6"/>
                      <a:pt x="15849" y="5"/>
                    </a:cubicBezTo>
                    <a:cubicBezTo>
                      <a:pt x="15849" y="4"/>
                      <a:pt x="15850" y="3"/>
                      <a:pt x="15851" y="3"/>
                    </a:cubicBezTo>
                    <a:close/>
                    <a:moveTo>
                      <a:pt x="15859" y="3"/>
                    </a:moveTo>
                    <a:lnTo>
                      <a:pt x="15859" y="3"/>
                    </a:lnTo>
                    <a:cubicBezTo>
                      <a:pt x="15860" y="3"/>
                      <a:pt x="15861" y="4"/>
                      <a:pt x="15861" y="5"/>
                    </a:cubicBezTo>
                    <a:cubicBezTo>
                      <a:pt x="15861" y="6"/>
                      <a:pt x="15860" y="7"/>
                      <a:pt x="15859" y="7"/>
                    </a:cubicBezTo>
                    <a:lnTo>
                      <a:pt x="15859" y="7"/>
                    </a:lnTo>
                    <a:cubicBezTo>
                      <a:pt x="15858" y="7"/>
                      <a:pt x="15857" y="6"/>
                      <a:pt x="15857" y="5"/>
                    </a:cubicBezTo>
                    <a:cubicBezTo>
                      <a:pt x="15857" y="4"/>
                      <a:pt x="15858" y="3"/>
                      <a:pt x="15859" y="3"/>
                    </a:cubicBezTo>
                    <a:close/>
                    <a:moveTo>
                      <a:pt x="15867" y="3"/>
                    </a:moveTo>
                    <a:lnTo>
                      <a:pt x="15867" y="3"/>
                    </a:lnTo>
                    <a:cubicBezTo>
                      <a:pt x="15868" y="3"/>
                      <a:pt x="15869" y="4"/>
                      <a:pt x="15869" y="5"/>
                    </a:cubicBezTo>
                    <a:cubicBezTo>
                      <a:pt x="15869" y="6"/>
                      <a:pt x="15868" y="7"/>
                      <a:pt x="15867" y="7"/>
                    </a:cubicBezTo>
                    <a:lnTo>
                      <a:pt x="15867" y="7"/>
                    </a:lnTo>
                    <a:cubicBezTo>
                      <a:pt x="15866" y="7"/>
                      <a:pt x="15865" y="6"/>
                      <a:pt x="15865" y="5"/>
                    </a:cubicBezTo>
                    <a:cubicBezTo>
                      <a:pt x="15865" y="4"/>
                      <a:pt x="15866" y="3"/>
                      <a:pt x="15867" y="3"/>
                    </a:cubicBezTo>
                    <a:close/>
                    <a:moveTo>
                      <a:pt x="15875" y="3"/>
                    </a:moveTo>
                    <a:lnTo>
                      <a:pt x="15875" y="3"/>
                    </a:lnTo>
                    <a:cubicBezTo>
                      <a:pt x="15876" y="3"/>
                      <a:pt x="15877" y="4"/>
                      <a:pt x="15877" y="5"/>
                    </a:cubicBezTo>
                    <a:cubicBezTo>
                      <a:pt x="15877" y="6"/>
                      <a:pt x="15876" y="7"/>
                      <a:pt x="15875" y="7"/>
                    </a:cubicBezTo>
                    <a:lnTo>
                      <a:pt x="15875" y="7"/>
                    </a:lnTo>
                    <a:cubicBezTo>
                      <a:pt x="15874" y="7"/>
                      <a:pt x="15873" y="6"/>
                      <a:pt x="15873" y="5"/>
                    </a:cubicBezTo>
                    <a:cubicBezTo>
                      <a:pt x="15873" y="4"/>
                      <a:pt x="15874" y="3"/>
                      <a:pt x="15875" y="3"/>
                    </a:cubicBezTo>
                    <a:close/>
                    <a:moveTo>
                      <a:pt x="15883" y="3"/>
                    </a:moveTo>
                    <a:lnTo>
                      <a:pt x="15883" y="3"/>
                    </a:lnTo>
                    <a:cubicBezTo>
                      <a:pt x="15884" y="3"/>
                      <a:pt x="15885" y="4"/>
                      <a:pt x="15885" y="5"/>
                    </a:cubicBezTo>
                    <a:cubicBezTo>
                      <a:pt x="15885" y="6"/>
                      <a:pt x="15884" y="7"/>
                      <a:pt x="15883" y="7"/>
                    </a:cubicBezTo>
                    <a:lnTo>
                      <a:pt x="15883" y="7"/>
                    </a:lnTo>
                    <a:cubicBezTo>
                      <a:pt x="15882" y="7"/>
                      <a:pt x="15881" y="6"/>
                      <a:pt x="15881" y="5"/>
                    </a:cubicBezTo>
                    <a:cubicBezTo>
                      <a:pt x="15881" y="4"/>
                      <a:pt x="15882" y="3"/>
                      <a:pt x="15883" y="3"/>
                    </a:cubicBezTo>
                    <a:close/>
                    <a:moveTo>
                      <a:pt x="15891" y="3"/>
                    </a:moveTo>
                    <a:lnTo>
                      <a:pt x="15891" y="3"/>
                    </a:lnTo>
                    <a:cubicBezTo>
                      <a:pt x="15892" y="3"/>
                      <a:pt x="15893" y="4"/>
                      <a:pt x="15893" y="5"/>
                    </a:cubicBezTo>
                    <a:cubicBezTo>
                      <a:pt x="15893" y="6"/>
                      <a:pt x="15892" y="7"/>
                      <a:pt x="15891" y="7"/>
                    </a:cubicBezTo>
                    <a:lnTo>
                      <a:pt x="15891" y="7"/>
                    </a:lnTo>
                    <a:cubicBezTo>
                      <a:pt x="15890" y="7"/>
                      <a:pt x="15889" y="6"/>
                      <a:pt x="15889" y="5"/>
                    </a:cubicBezTo>
                    <a:cubicBezTo>
                      <a:pt x="15889" y="4"/>
                      <a:pt x="15890" y="3"/>
                      <a:pt x="15891" y="3"/>
                    </a:cubicBezTo>
                    <a:close/>
                    <a:moveTo>
                      <a:pt x="15899" y="3"/>
                    </a:moveTo>
                    <a:lnTo>
                      <a:pt x="15899" y="3"/>
                    </a:lnTo>
                    <a:cubicBezTo>
                      <a:pt x="15900" y="3"/>
                      <a:pt x="15901" y="4"/>
                      <a:pt x="15901" y="5"/>
                    </a:cubicBezTo>
                    <a:cubicBezTo>
                      <a:pt x="15901" y="6"/>
                      <a:pt x="15900" y="7"/>
                      <a:pt x="15899" y="7"/>
                    </a:cubicBezTo>
                    <a:lnTo>
                      <a:pt x="15899" y="7"/>
                    </a:lnTo>
                    <a:cubicBezTo>
                      <a:pt x="15898" y="7"/>
                      <a:pt x="15897" y="6"/>
                      <a:pt x="15897" y="5"/>
                    </a:cubicBezTo>
                    <a:cubicBezTo>
                      <a:pt x="15897" y="4"/>
                      <a:pt x="15898" y="3"/>
                      <a:pt x="15899" y="3"/>
                    </a:cubicBezTo>
                    <a:close/>
                    <a:moveTo>
                      <a:pt x="15907" y="3"/>
                    </a:moveTo>
                    <a:lnTo>
                      <a:pt x="15907" y="3"/>
                    </a:lnTo>
                    <a:cubicBezTo>
                      <a:pt x="15908" y="3"/>
                      <a:pt x="15909" y="4"/>
                      <a:pt x="15909" y="5"/>
                    </a:cubicBezTo>
                    <a:cubicBezTo>
                      <a:pt x="15909" y="6"/>
                      <a:pt x="15908" y="7"/>
                      <a:pt x="15907" y="7"/>
                    </a:cubicBezTo>
                    <a:lnTo>
                      <a:pt x="15907" y="7"/>
                    </a:lnTo>
                    <a:cubicBezTo>
                      <a:pt x="15906" y="7"/>
                      <a:pt x="15905" y="6"/>
                      <a:pt x="15905" y="5"/>
                    </a:cubicBezTo>
                    <a:cubicBezTo>
                      <a:pt x="15905" y="4"/>
                      <a:pt x="15906" y="3"/>
                      <a:pt x="15907" y="3"/>
                    </a:cubicBezTo>
                    <a:close/>
                    <a:moveTo>
                      <a:pt x="15915" y="3"/>
                    </a:moveTo>
                    <a:lnTo>
                      <a:pt x="15915" y="3"/>
                    </a:lnTo>
                    <a:cubicBezTo>
                      <a:pt x="15916" y="3"/>
                      <a:pt x="15917" y="4"/>
                      <a:pt x="15917" y="5"/>
                    </a:cubicBezTo>
                    <a:cubicBezTo>
                      <a:pt x="15917" y="6"/>
                      <a:pt x="15916" y="7"/>
                      <a:pt x="15915" y="7"/>
                    </a:cubicBezTo>
                    <a:lnTo>
                      <a:pt x="15915" y="7"/>
                    </a:lnTo>
                    <a:cubicBezTo>
                      <a:pt x="15914" y="7"/>
                      <a:pt x="15913" y="6"/>
                      <a:pt x="15913" y="5"/>
                    </a:cubicBezTo>
                    <a:cubicBezTo>
                      <a:pt x="15913" y="4"/>
                      <a:pt x="15914" y="3"/>
                      <a:pt x="15915" y="3"/>
                    </a:cubicBezTo>
                    <a:close/>
                    <a:moveTo>
                      <a:pt x="15923" y="3"/>
                    </a:moveTo>
                    <a:lnTo>
                      <a:pt x="15923" y="3"/>
                    </a:lnTo>
                    <a:cubicBezTo>
                      <a:pt x="15924" y="3"/>
                      <a:pt x="15925" y="4"/>
                      <a:pt x="15925" y="5"/>
                    </a:cubicBezTo>
                    <a:cubicBezTo>
                      <a:pt x="15925" y="6"/>
                      <a:pt x="15924" y="7"/>
                      <a:pt x="15923" y="7"/>
                    </a:cubicBezTo>
                    <a:lnTo>
                      <a:pt x="15923" y="7"/>
                    </a:lnTo>
                    <a:cubicBezTo>
                      <a:pt x="15922" y="7"/>
                      <a:pt x="15921" y="6"/>
                      <a:pt x="15921" y="5"/>
                    </a:cubicBezTo>
                    <a:cubicBezTo>
                      <a:pt x="15921" y="4"/>
                      <a:pt x="15922" y="3"/>
                      <a:pt x="15923" y="3"/>
                    </a:cubicBezTo>
                    <a:close/>
                    <a:moveTo>
                      <a:pt x="15931" y="3"/>
                    </a:moveTo>
                    <a:lnTo>
                      <a:pt x="15931" y="3"/>
                    </a:lnTo>
                    <a:cubicBezTo>
                      <a:pt x="15932" y="3"/>
                      <a:pt x="15933" y="4"/>
                      <a:pt x="15933" y="5"/>
                    </a:cubicBezTo>
                    <a:cubicBezTo>
                      <a:pt x="15933" y="6"/>
                      <a:pt x="15932" y="7"/>
                      <a:pt x="15931" y="7"/>
                    </a:cubicBezTo>
                    <a:lnTo>
                      <a:pt x="15931" y="7"/>
                    </a:lnTo>
                    <a:cubicBezTo>
                      <a:pt x="15930" y="7"/>
                      <a:pt x="15929" y="6"/>
                      <a:pt x="15929" y="5"/>
                    </a:cubicBezTo>
                    <a:cubicBezTo>
                      <a:pt x="15929" y="4"/>
                      <a:pt x="15930" y="3"/>
                      <a:pt x="15931" y="3"/>
                    </a:cubicBezTo>
                    <a:close/>
                    <a:moveTo>
                      <a:pt x="15939" y="3"/>
                    </a:moveTo>
                    <a:lnTo>
                      <a:pt x="15939" y="3"/>
                    </a:lnTo>
                    <a:cubicBezTo>
                      <a:pt x="15940" y="3"/>
                      <a:pt x="15941" y="4"/>
                      <a:pt x="15941" y="5"/>
                    </a:cubicBezTo>
                    <a:cubicBezTo>
                      <a:pt x="15941" y="6"/>
                      <a:pt x="15940" y="7"/>
                      <a:pt x="15939" y="7"/>
                    </a:cubicBezTo>
                    <a:lnTo>
                      <a:pt x="15939" y="7"/>
                    </a:lnTo>
                    <a:cubicBezTo>
                      <a:pt x="15938" y="7"/>
                      <a:pt x="15937" y="6"/>
                      <a:pt x="15937" y="5"/>
                    </a:cubicBezTo>
                    <a:cubicBezTo>
                      <a:pt x="15937" y="4"/>
                      <a:pt x="15938" y="3"/>
                      <a:pt x="15939" y="3"/>
                    </a:cubicBezTo>
                    <a:close/>
                    <a:moveTo>
                      <a:pt x="15947" y="3"/>
                    </a:moveTo>
                    <a:lnTo>
                      <a:pt x="15947" y="3"/>
                    </a:lnTo>
                    <a:cubicBezTo>
                      <a:pt x="15948" y="3"/>
                      <a:pt x="15949" y="4"/>
                      <a:pt x="15949" y="5"/>
                    </a:cubicBezTo>
                    <a:cubicBezTo>
                      <a:pt x="15949" y="6"/>
                      <a:pt x="15948" y="7"/>
                      <a:pt x="15947" y="7"/>
                    </a:cubicBezTo>
                    <a:lnTo>
                      <a:pt x="15947" y="7"/>
                    </a:lnTo>
                    <a:cubicBezTo>
                      <a:pt x="15946" y="7"/>
                      <a:pt x="15945" y="6"/>
                      <a:pt x="15945" y="5"/>
                    </a:cubicBezTo>
                    <a:cubicBezTo>
                      <a:pt x="15945" y="4"/>
                      <a:pt x="15946" y="3"/>
                      <a:pt x="15947" y="3"/>
                    </a:cubicBezTo>
                    <a:close/>
                    <a:moveTo>
                      <a:pt x="15955" y="3"/>
                    </a:moveTo>
                    <a:lnTo>
                      <a:pt x="15955" y="3"/>
                    </a:lnTo>
                    <a:cubicBezTo>
                      <a:pt x="15956" y="3"/>
                      <a:pt x="15957" y="4"/>
                      <a:pt x="15957" y="5"/>
                    </a:cubicBezTo>
                    <a:cubicBezTo>
                      <a:pt x="15957" y="6"/>
                      <a:pt x="15956" y="7"/>
                      <a:pt x="15955" y="7"/>
                    </a:cubicBezTo>
                    <a:lnTo>
                      <a:pt x="15955" y="7"/>
                    </a:lnTo>
                    <a:cubicBezTo>
                      <a:pt x="15954" y="7"/>
                      <a:pt x="15953" y="6"/>
                      <a:pt x="15953" y="5"/>
                    </a:cubicBezTo>
                    <a:cubicBezTo>
                      <a:pt x="15953" y="4"/>
                      <a:pt x="15954" y="3"/>
                      <a:pt x="15955" y="3"/>
                    </a:cubicBezTo>
                    <a:close/>
                    <a:moveTo>
                      <a:pt x="15963" y="3"/>
                    </a:moveTo>
                    <a:lnTo>
                      <a:pt x="15963" y="3"/>
                    </a:lnTo>
                    <a:cubicBezTo>
                      <a:pt x="15964" y="3"/>
                      <a:pt x="15965" y="4"/>
                      <a:pt x="15965" y="5"/>
                    </a:cubicBezTo>
                    <a:cubicBezTo>
                      <a:pt x="15965" y="6"/>
                      <a:pt x="15964" y="7"/>
                      <a:pt x="15963" y="7"/>
                    </a:cubicBezTo>
                    <a:lnTo>
                      <a:pt x="15963" y="7"/>
                    </a:lnTo>
                    <a:cubicBezTo>
                      <a:pt x="15962" y="7"/>
                      <a:pt x="15961" y="6"/>
                      <a:pt x="15961" y="5"/>
                    </a:cubicBezTo>
                    <a:cubicBezTo>
                      <a:pt x="15961" y="4"/>
                      <a:pt x="15962" y="3"/>
                      <a:pt x="15963" y="3"/>
                    </a:cubicBezTo>
                    <a:close/>
                    <a:moveTo>
                      <a:pt x="15971" y="3"/>
                    </a:moveTo>
                    <a:lnTo>
                      <a:pt x="15971" y="3"/>
                    </a:lnTo>
                    <a:cubicBezTo>
                      <a:pt x="15972" y="3"/>
                      <a:pt x="15973" y="4"/>
                      <a:pt x="15973" y="5"/>
                    </a:cubicBezTo>
                    <a:cubicBezTo>
                      <a:pt x="15973" y="6"/>
                      <a:pt x="15972" y="7"/>
                      <a:pt x="15971" y="7"/>
                    </a:cubicBezTo>
                    <a:lnTo>
                      <a:pt x="15971" y="7"/>
                    </a:lnTo>
                    <a:cubicBezTo>
                      <a:pt x="15970" y="7"/>
                      <a:pt x="15969" y="6"/>
                      <a:pt x="15969" y="5"/>
                    </a:cubicBezTo>
                    <a:cubicBezTo>
                      <a:pt x="15969" y="4"/>
                      <a:pt x="15970" y="3"/>
                      <a:pt x="15971" y="3"/>
                    </a:cubicBezTo>
                    <a:close/>
                    <a:moveTo>
                      <a:pt x="15979" y="3"/>
                    </a:moveTo>
                    <a:lnTo>
                      <a:pt x="15979" y="3"/>
                    </a:lnTo>
                    <a:cubicBezTo>
                      <a:pt x="15980" y="3"/>
                      <a:pt x="15981" y="4"/>
                      <a:pt x="15981" y="5"/>
                    </a:cubicBezTo>
                    <a:cubicBezTo>
                      <a:pt x="15981" y="6"/>
                      <a:pt x="15980" y="7"/>
                      <a:pt x="15979" y="7"/>
                    </a:cubicBezTo>
                    <a:lnTo>
                      <a:pt x="15979" y="7"/>
                    </a:lnTo>
                    <a:cubicBezTo>
                      <a:pt x="15978" y="7"/>
                      <a:pt x="15977" y="6"/>
                      <a:pt x="15977" y="5"/>
                    </a:cubicBezTo>
                    <a:cubicBezTo>
                      <a:pt x="15977" y="4"/>
                      <a:pt x="15978" y="3"/>
                      <a:pt x="15979" y="3"/>
                    </a:cubicBezTo>
                    <a:close/>
                    <a:moveTo>
                      <a:pt x="15987" y="3"/>
                    </a:moveTo>
                    <a:lnTo>
                      <a:pt x="15987" y="3"/>
                    </a:lnTo>
                    <a:cubicBezTo>
                      <a:pt x="15988" y="3"/>
                      <a:pt x="15989" y="4"/>
                      <a:pt x="15989" y="5"/>
                    </a:cubicBezTo>
                    <a:cubicBezTo>
                      <a:pt x="15989" y="6"/>
                      <a:pt x="15988" y="7"/>
                      <a:pt x="15987" y="7"/>
                    </a:cubicBezTo>
                    <a:lnTo>
                      <a:pt x="15987" y="7"/>
                    </a:lnTo>
                    <a:cubicBezTo>
                      <a:pt x="15986" y="7"/>
                      <a:pt x="15985" y="6"/>
                      <a:pt x="15985" y="5"/>
                    </a:cubicBezTo>
                    <a:cubicBezTo>
                      <a:pt x="15985" y="4"/>
                      <a:pt x="15986" y="3"/>
                      <a:pt x="15987" y="3"/>
                    </a:cubicBezTo>
                    <a:close/>
                    <a:moveTo>
                      <a:pt x="15995" y="3"/>
                    </a:moveTo>
                    <a:lnTo>
                      <a:pt x="15995" y="3"/>
                    </a:lnTo>
                    <a:cubicBezTo>
                      <a:pt x="15996" y="3"/>
                      <a:pt x="15997" y="4"/>
                      <a:pt x="15997" y="5"/>
                    </a:cubicBezTo>
                    <a:cubicBezTo>
                      <a:pt x="15997" y="6"/>
                      <a:pt x="15996" y="7"/>
                      <a:pt x="15995" y="7"/>
                    </a:cubicBezTo>
                    <a:lnTo>
                      <a:pt x="15995" y="7"/>
                    </a:lnTo>
                    <a:cubicBezTo>
                      <a:pt x="15994" y="7"/>
                      <a:pt x="15993" y="6"/>
                      <a:pt x="15993" y="5"/>
                    </a:cubicBezTo>
                    <a:cubicBezTo>
                      <a:pt x="15993" y="4"/>
                      <a:pt x="15994" y="3"/>
                      <a:pt x="15995" y="3"/>
                    </a:cubicBezTo>
                    <a:close/>
                    <a:moveTo>
                      <a:pt x="16003" y="3"/>
                    </a:moveTo>
                    <a:lnTo>
                      <a:pt x="16003" y="3"/>
                    </a:lnTo>
                    <a:cubicBezTo>
                      <a:pt x="16004" y="3"/>
                      <a:pt x="16005" y="4"/>
                      <a:pt x="16005" y="5"/>
                    </a:cubicBezTo>
                    <a:cubicBezTo>
                      <a:pt x="16005" y="6"/>
                      <a:pt x="16004" y="7"/>
                      <a:pt x="16003" y="7"/>
                    </a:cubicBezTo>
                    <a:lnTo>
                      <a:pt x="16003" y="7"/>
                    </a:lnTo>
                    <a:cubicBezTo>
                      <a:pt x="16002" y="7"/>
                      <a:pt x="16001" y="6"/>
                      <a:pt x="16001" y="5"/>
                    </a:cubicBezTo>
                    <a:cubicBezTo>
                      <a:pt x="16001" y="4"/>
                      <a:pt x="16002" y="3"/>
                      <a:pt x="16003" y="3"/>
                    </a:cubicBezTo>
                    <a:close/>
                    <a:moveTo>
                      <a:pt x="16011" y="3"/>
                    </a:moveTo>
                    <a:lnTo>
                      <a:pt x="16011" y="3"/>
                    </a:lnTo>
                    <a:cubicBezTo>
                      <a:pt x="16012" y="3"/>
                      <a:pt x="16013" y="4"/>
                      <a:pt x="16013" y="5"/>
                    </a:cubicBezTo>
                    <a:cubicBezTo>
                      <a:pt x="16013" y="6"/>
                      <a:pt x="16012" y="7"/>
                      <a:pt x="16011" y="7"/>
                    </a:cubicBezTo>
                    <a:lnTo>
                      <a:pt x="16011" y="7"/>
                    </a:lnTo>
                    <a:cubicBezTo>
                      <a:pt x="16010" y="7"/>
                      <a:pt x="16009" y="6"/>
                      <a:pt x="16009" y="5"/>
                    </a:cubicBezTo>
                    <a:cubicBezTo>
                      <a:pt x="16009" y="4"/>
                      <a:pt x="16010" y="3"/>
                      <a:pt x="16011" y="3"/>
                    </a:cubicBezTo>
                    <a:close/>
                    <a:moveTo>
                      <a:pt x="16019" y="3"/>
                    </a:moveTo>
                    <a:lnTo>
                      <a:pt x="16019" y="3"/>
                    </a:lnTo>
                    <a:cubicBezTo>
                      <a:pt x="16020" y="3"/>
                      <a:pt x="16021" y="4"/>
                      <a:pt x="16021" y="5"/>
                    </a:cubicBezTo>
                    <a:cubicBezTo>
                      <a:pt x="16021" y="6"/>
                      <a:pt x="16020" y="7"/>
                      <a:pt x="16019" y="7"/>
                    </a:cubicBezTo>
                    <a:lnTo>
                      <a:pt x="16019" y="7"/>
                    </a:lnTo>
                    <a:cubicBezTo>
                      <a:pt x="16018" y="7"/>
                      <a:pt x="16017" y="6"/>
                      <a:pt x="16017" y="5"/>
                    </a:cubicBezTo>
                    <a:cubicBezTo>
                      <a:pt x="16017" y="4"/>
                      <a:pt x="16018" y="3"/>
                      <a:pt x="16019" y="3"/>
                    </a:cubicBezTo>
                    <a:close/>
                    <a:moveTo>
                      <a:pt x="16027" y="3"/>
                    </a:moveTo>
                    <a:lnTo>
                      <a:pt x="16027" y="3"/>
                    </a:lnTo>
                    <a:cubicBezTo>
                      <a:pt x="16028" y="3"/>
                      <a:pt x="16029" y="4"/>
                      <a:pt x="16029" y="5"/>
                    </a:cubicBezTo>
                    <a:cubicBezTo>
                      <a:pt x="16029" y="6"/>
                      <a:pt x="16028" y="7"/>
                      <a:pt x="16027" y="7"/>
                    </a:cubicBezTo>
                    <a:lnTo>
                      <a:pt x="16027" y="7"/>
                    </a:lnTo>
                    <a:cubicBezTo>
                      <a:pt x="16026" y="7"/>
                      <a:pt x="16025" y="6"/>
                      <a:pt x="16025" y="5"/>
                    </a:cubicBezTo>
                    <a:cubicBezTo>
                      <a:pt x="16025" y="4"/>
                      <a:pt x="16026" y="3"/>
                      <a:pt x="16027" y="3"/>
                    </a:cubicBezTo>
                    <a:close/>
                    <a:moveTo>
                      <a:pt x="16035" y="3"/>
                    </a:moveTo>
                    <a:lnTo>
                      <a:pt x="16035" y="3"/>
                    </a:lnTo>
                    <a:cubicBezTo>
                      <a:pt x="16036" y="3"/>
                      <a:pt x="16037" y="4"/>
                      <a:pt x="16037" y="5"/>
                    </a:cubicBezTo>
                    <a:cubicBezTo>
                      <a:pt x="16037" y="6"/>
                      <a:pt x="16036" y="7"/>
                      <a:pt x="16035" y="7"/>
                    </a:cubicBezTo>
                    <a:lnTo>
                      <a:pt x="16035" y="7"/>
                    </a:lnTo>
                    <a:cubicBezTo>
                      <a:pt x="16034" y="7"/>
                      <a:pt x="16033" y="6"/>
                      <a:pt x="16033" y="5"/>
                    </a:cubicBezTo>
                    <a:cubicBezTo>
                      <a:pt x="16033" y="4"/>
                      <a:pt x="16034" y="3"/>
                      <a:pt x="16035" y="3"/>
                    </a:cubicBezTo>
                    <a:close/>
                    <a:moveTo>
                      <a:pt x="16043" y="3"/>
                    </a:moveTo>
                    <a:lnTo>
                      <a:pt x="16043" y="3"/>
                    </a:lnTo>
                    <a:cubicBezTo>
                      <a:pt x="16044" y="3"/>
                      <a:pt x="16045" y="4"/>
                      <a:pt x="16045" y="5"/>
                    </a:cubicBezTo>
                    <a:cubicBezTo>
                      <a:pt x="16045" y="6"/>
                      <a:pt x="16044" y="7"/>
                      <a:pt x="16043" y="7"/>
                    </a:cubicBezTo>
                    <a:lnTo>
                      <a:pt x="16043" y="7"/>
                    </a:lnTo>
                    <a:cubicBezTo>
                      <a:pt x="16042" y="7"/>
                      <a:pt x="16041" y="6"/>
                      <a:pt x="16041" y="5"/>
                    </a:cubicBezTo>
                    <a:cubicBezTo>
                      <a:pt x="16041" y="4"/>
                      <a:pt x="16042" y="3"/>
                      <a:pt x="16043" y="3"/>
                    </a:cubicBezTo>
                    <a:close/>
                    <a:moveTo>
                      <a:pt x="16051" y="3"/>
                    </a:moveTo>
                    <a:lnTo>
                      <a:pt x="16051" y="3"/>
                    </a:lnTo>
                    <a:cubicBezTo>
                      <a:pt x="16052" y="3"/>
                      <a:pt x="16053" y="4"/>
                      <a:pt x="16053" y="5"/>
                    </a:cubicBezTo>
                    <a:cubicBezTo>
                      <a:pt x="16053" y="6"/>
                      <a:pt x="16052" y="7"/>
                      <a:pt x="16051" y="7"/>
                    </a:cubicBezTo>
                    <a:lnTo>
                      <a:pt x="16051" y="7"/>
                    </a:lnTo>
                    <a:cubicBezTo>
                      <a:pt x="16050" y="7"/>
                      <a:pt x="16049" y="6"/>
                      <a:pt x="16049" y="5"/>
                    </a:cubicBezTo>
                    <a:cubicBezTo>
                      <a:pt x="16049" y="4"/>
                      <a:pt x="16050" y="3"/>
                      <a:pt x="16051" y="3"/>
                    </a:cubicBezTo>
                    <a:close/>
                    <a:moveTo>
                      <a:pt x="16059" y="3"/>
                    </a:moveTo>
                    <a:lnTo>
                      <a:pt x="16059" y="3"/>
                    </a:lnTo>
                    <a:cubicBezTo>
                      <a:pt x="16060" y="3"/>
                      <a:pt x="16061" y="4"/>
                      <a:pt x="16061" y="5"/>
                    </a:cubicBezTo>
                    <a:cubicBezTo>
                      <a:pt x="16061" y="6"/>
                      <a:pt x="16060" y="7"/>
                      <a:pt x="16059" y="7"/>
                    </a:cubicBezTo>
                    <a:lnTo>
                      <a:pt x="16059" y="7"/>
                    </a:lnTo>
                    <a:cubicBezTo>
                      <a:pt x="16058" y="7"/>
                      <a:pt x="16057" y="6"/>
                      <a:pt x="16057" y="5"/>
                    </a:cubicBezTo>
                    <a:cubicBezTo>
                      <a:pt x="16057" y="4"/>
                      <a:pt x="16058" y="3"/>
                      <a:pt x="16059" y="3"/>
                    </a:cubicBezTo>
                    <a:close/>
                    <a:moveTo>
                      <a:pt x="16067" y="3"/>
                    </a:moveTo>
                    <a:lnTo>
                      <a:pt x="16067" y="3"/>
                    </a:lnTo>
                    <a:cubicBezTo>
                      <a:pt x="16068" y="3"/>
                      <a:pt x="16069" y="4"/>
                      <a:pt x="16069" y="5"/>
                    </a:cubicBezTo>
                    <a:cubicBezTo>
                      <a:pt x="16069" y="6"/>
                      <a:pt x="16068" y="7"/>
                      <a:pt x="16067" y="7"/>
                    </a:cubicBezTo>
                    <a:lnTo>
                      <a:pt x="16067" y="7"/>
                    </a:lnTo>
                    <a:cubicBezTo>
                      <a:pt x="16066" y="7"/>
                      <a:pt x="16065" y="6"/>
                      <a:pt x="16065" y="5"/>
                    </a:cubicBezTo>
                    <a:cubicBezTo>
                      <a:pt x="16065" y="4"/>
                      <a:pt x="16066" y="3"/>
                      <a:pt x="16067" y="3"/>
                    </a:cubicBezTo>
                    <a:close/>
                    <a:moveTo>
                      <a:pt x="16075" y="3"/>
                    </a:moveTo>
                    <a:lnTo>
                      <a:pt x="16075" y="3"/>
                    </a:lnTo>
                    <a:cubicBezTo>
                      <a:pt x="16076" y="3"/>
                      <a:pt x="16077" y="4"/>
                      <a:pt x="16077" y="5"/>
                    </a:cubicBezTo>
                    <a:cubicBezTo>
                      <a:pt x="16077" y="6"/>
                      <a:pt x="16076" y="7"/>
                      <a:pt x="16075" y="7"/>
                    </a:cubicBezTo>
                    <a:lnTo>
                      <a:pt x="16075" y="7"/>
                    </a:lnTo>
                    <a:cubicBezTo>
                      <a:pt x="16074" y="7"/>
                      <a:pt x="16073" y="6"/>
                      <a:pt x="16073" y="5"/>
                    </a:cubicBezTo>
                    <a:cubicBezTo>
                      <a:pt x="16073" y="4"/>
                      <a:pt x="16074" y="3"/>
                      <a:pt x="16075" y="3"/>
                    </a:cubicBezTo>
                    <a:close/>
                    <a:moveTo>
                      <a:pt x="16083" y="3"/>
                    </a:moveTo>
                    <a:lnTo>
                      <a:pt x="16083" y="3"/>
                    </a:lnTo>
                    <a:cubicBezTo>
                      <a:pt x="16084" y="3"/>
                      <a:pt x="16085" y="4"/>
                      <a:pt x="16085" y="5"/>
                    </a:cubicBezTo>
                    <a:cubicBezTo>
                      <a:pt x="16085" y="6"/>
                      <a:pt x="16084" y="7"/>
                      <a:pt x="16083" y="7"/>
                    </a:cubicBezTo>
                    <a:lnTo>
                      <a:pt x="16083" y="7"/>
                    </a:lnTo>
                    <a:cubicBezTo>
                      <a:pt x="16082" y="7"/>
                      <a:pt x="16081" y="6"/>
                      <a:pt x="16081" y="5"/>
                    </a:cubicBezTo>
                    <a:cubicBezTo>
                      <a:pt x="16081" y="4"/>
                      <a:pt x="16082" y="3"/>
                      <a:pt x="16083" y="3"/>
                    </a:cubicBezTo>
                    <a:close/>
                    <a:moveTo>
                      <a:pt x="16091" y="3"/>
                    </a:moveTo>
                    <a:lnTo>
                      <a:pt x="16091" y="3"/>
                    </a:lnTo>
                    <a:cubicBezTo>
                      <a:pt x="16092" y="3"/>
                      <a:pt x="16093" y="4"/>
                      <a:pt x="16093" y="5"/>
                    </a:cubicBezTo>
                    <a:cubicBezTo>
                      <a:pt x="16093" y="6"/>
                      <a:pt x="16092" y="7"/>
                      <a:pt x="16091" y="7"/>
                    </a:cubicBezTo>
                    <a:lnTo>
                      <a:pt x="16091" y="7"/>
                    </a:lnTo>
                    <a:cubicBezTo>
                      <a:pt x="16090" y="7"/>
                      <a:pt x="16089" y="6"/>
                      <a:pt x="16089" y="5"/>
                    </a:cubicBezTo>
                    <a:cubicBezTo>
                      <a:pt x="16089" y="4"/>
                      <a:pt x="16090" y="3"/>
                      <a:pt x="16091" y="3"/>
                    </a:cubicBezTo>
                    <a:close/>
                    <a:moveTo>
                      <a:pt x="16099" y="3"/>
                    </a:moveTo>
                    <a:lnTo>
                      <a:pt x="16099" y="3"/>
                    </a:lnTo>
                    <a:cubicBezTo>
                      <a:pt x="16100" y="3"/>
                      <a:pt x="16101" y="4"/>
                      <a:pt x="16101" y="5"/>
                    </a:cubicBezTo>
                    <a:cubicBezTo>
                      <a:pt x="16101" y="6"/>
                      <a:pt x="16100" y="7"/>
                      <a:pt x="16099" y="7"/>
                    </a:cubicBezTo>
                    <a:lnTo>
                      <a:pt x="16099" y="7"/>
                    </a:lnTo>
                    <a:cubicBezTo>
                      <a:pt x="16098" y="7"/>
                      <a:pt x="16097" y="6"/>
                      <a:pt x="16097" y="5"/>
                    </a:cubicBezTo>
                    <a:cubicBezTo>
                      <a:pt x="16097" y="4"/>
                      <a:pt x="16098" y="3"/>
                      <a:pt x="16099" y="3"/>
                    </a:cubicBezTo>
                    <a:close/>
                    <a:moveTo>
                      <a:pt x="16107" y="3"/>
                    </a:moveTo>
                    <a:lnTo>
                      <a:pt x="16107" y="3"/>
                    </a:lnTo>
                    <a:cubicBezTo>
                      <a:pt x="16108" y="3"/>
                      <a:pt x="16109" y="4"/>
                      <a:pt x="16109" y="5"/>
                    </a:cubicBezTo>
                    <a:cubicBezTo>
                      <a:pt x="16109" y="6"/>
                      <a:pt x="16108" y="7"/>
                      <a:pt x="16107" y="7"/>
                    </a:cubicBezTo>
                    <a:lnTo>
                      <a:pt x="16107" y="7"/>
                    </a:lnTo>
                    <a:cubicBezTo>
                      <a:pt x="16106" y="7"/>
                      <a:pt x="16105" y="6"/>
                      <a:pt x="16105" y="5"/>
                    </a:cubicBezTo>
                    <a:cubicBezTo>
                      <a:pt x="16105" y="4"/>
                      <a:pt x="16106" y="3"/>
                      <a:pt x="16107" y="3"/>
                    </a:cubicBezTo>
                    <a:close/>
                    <a:moveTo>
                      <a:pt x="16115" y="3"/>
                    </a:moveTo>
                    <a:lnTo>
                      <a:pt x="16115" y="3"/>
                    </a:lnTo>
                    <a:cubicBezTo>
                      <a:pt x="16116" y="3"/>
                      <a:pt x="16117" y="4"/>
                      <a:pt x="16117" y="5"/>
                    </a:cubicBezTo>
                    <a:cubicBezTo>
                      <a:pt x="16117" y="6"/>
                      <a:pt x="16116" y="7"/>
                      <a:pt x="16115" y="7"/>
                    </a:cubicBezTo>
                    <a:lnTo>
                      <a:pt x="16115" y="7"/>
                    </a:lnTo>
                    <a:cubicBezTo>
                      <a:pt x="16114" y="7"/>
                      <a:pt x="16113" y="6"/>
                      <a:pt x="16113" y="5"/>
                    </a:cubicBezTo>
                    <a:cubicBezTo>
                      <a:pt x="16113" y="4"/>
                      <a:pt x="16114" y="3"/>
                      <a:pt x="16115" y="3"/>
                    </a:cubicBezTo>
                    <a:close/>
                    <a:moveTo>
                      <a:pt x="16123" y="3"/>
                    </a:moveTo>
                    <a:lnTo>
                      <a:pt x="16123" y="3"/>
                    </a:lnTo>
                    <a:cubicBezTo>
                      <a:pt x="16124" y="3"/>
                      <a:pt x="16125" y="4"/>
                      <a:pt x="16125" y="5"/>
                    </a:cubicBezTo>
                    <a:cubicBezTo>
                      <a:pt x="16125" y="6"/>
                      <a:pt x="16124" y="7"/>
                      <a:pt x="16123" y="7"/>
                    </a:cubicBezTo>
                    <a:lnTo>
                      <a:pt x="16123" y="7"/>
                    </a:lnTo>
                    <a:cubicBezTo>
                      <a:pt x="16122" y="7"/>
                      <a:pt x="16121" y="6"/>
                      <a:pt x="16121" y="5"/>
                    </a:cubicBezTo>
                    <a:cubicBezTo>
                      <a:pt x="16121" y="4"/>
                      <a:pt x="16122" y="3"/>
                      <a:pt x="16123" y="3"/>
                    </a:cubicBezTo>
                    <a:close/>
                    <a:moveTo>
                      <a:pt x="16131" y="3"/>
                    </a:moveTo>
                    <a:lnTo>
                      <a:pt x="16131" y="3"/>
                    </a:lnTo>
                    <a:cubicBezTo>
                      <a:pt x="16132" y="3"/>
                      <a:pt x="16133" y="4"/>
                      <a:pt x="16133" y="5"/>
                    </a:cubicBezTo>
                    <a:cubicBezTo>
                      <a:pt x="16133" y="6"/>
                      <a:pt x="16132" y="7"/>
                      <a:pt x="16131" y="7"/>
                    </a:cubicBezTo>
                    <a:lnTo>
                      <a:pt x="16131" y="7"/>
                    </a:lnTo>
                    <a:cubicBezTo>
                      <a:pt x="16130" y="7"/>
                      <a:pt x="16129" y="6"/>
                      <a:pt x="16129" y="5"/>
                    </a:cubicBezTo>
                    <a:cubicBezTo>
                      <a:pt x="16129" y="4"/>
                      <a:pt x="16130" y="3"/>
                      <a:pt x="16131" y="3"/>
                    </a:cubicBezTo>
                    <a:close/>
                    <a:moveTo>
                      <a:pt x="16139" y="3"/>
                    </a:moveTo>
                    <a:lnTo>
                      <a:pt x="16139" y="3"/>
                    </a:lnTo>
                    <a:cubicBezTo>
                      <a:pt x="16140" y="3"/>
                      <a:pt x="16141" y="4"/>
                      <a:pt x="16141" y="5"/>
                    </a:cubicBezTo>
                    <a:cubicBezTo>
                      <a:pt x="16141" y="6"/>
                      <a:pt x="16140" y="7"/>
                      <a:pt x="16139" y="7"/>
                    </a:cubicBezTo>
                    <a:lnTo>
                      <a:pt x="16139" y="7"/>
                    </a:lnTo>
                    <a:cubicBezTo>
                      <a:pt x="16138" y="7"/>
                      <a:pt x="16137" y="6"/>
                      <a:pt x="16137" y="5"/>
                    </a:cubicBezTo>
                    <a:cubicBezTo>
                      <a:pt x="16137" y="4"/>
                      <a:pt x="16138" y="3"/>
                      <a:pt x="16139" y="3"/>
                    </a:cubicBezTo>
                    <a:close/>
                    <a:moveTo>
                      <a:pt x="16147" y="3"/>
                    </a:moveTo>
                    <a:lnTo>
                      <a:pt x="16147" y="3"/>
                    </a:lnTo>
                    <a:cubicBezTo>
                      <a:pt x="16148" y="3"/>
                      <a:pt x="16149" y="4"/>
                      <a:pt x="16149" y="5"/>
                    </a:cubicBezTo>
                    <a:cubicBezTo>
                      <a:pt x="16149" y="6"/>
                      <a:pt x="16148" y="7"/>
                      <a:pt x="16147" y="7"/>
                    </a:cubicBezTo>
                    <a:lnTo>
                      <a:pt x="16147" y="7"/>
                    </a:lnTo>
                    <a:cubicBezTo>
                      <a:pt x="16146" y="7"/>
                      <a:pt x="16145" y="6"/>
                      <a:pt x="16145" y="5"/>
                    </a:cubicBezTo>
                    <a:cubicBezTo>
                      <a:pt x="16145" y="4"/>
                      <a:pt x="16146" y="3"/>
                      <a:pt x="16147" y="3"/>
                    </a:cubicBezTo>
                    <a:close/>
                    <a:moveTo>
                      <a:pt x="16155" y="3"/>
                    </a:moveTo>
                    <a:lnTo>
                      <a:pt x="16155" y="3"/>
                    </a:lnTo>
                    <a:cubicBezTo>
                      <a:pt x="16156" y="3"/>
                      <a:pt x="16157" y="4"/>
                      <a:pt x="16157" y="5"/>
                    </a:cubicBezTo>
                    <a:cubicBezTo>
                      <a:pt x="16157" y="6"/>
                      <a:pt x="16156" y="7"/>
                      <a:pt x="16155" y="7"/>
                    </a:cubicBezTo>
                    <a:lnTo>
                      <a:pt x="16155" y="7"/>
                    </a:lnTo>
                    <a:cubicBezTo>
                      <a:pt x="16154" y="7"/>
                      <a:pt x="16153" y="6"/>
                      <a:pt x="16153" y="5"/>
                    </a:cubicBezTo>
                    <a:cubicBezTo>
                      <a:pt x="16153" y="4"/>
                      <a:pt x="16154" y="3"/>
                      <a:pt x="16155" y="3"/>
                    </a:cubicBezTo>
                    <a:close/>
                    <a:moveTo>
                      <a:pt x="16163" y="3"/>
                    </a:moveTo>
                    <a:lnTo>
                      <a:pt x="16163" y="3"/>
                    </a:lnTo>
                    <a:cubicBezTo>
                      <a:pt x="16164" y="3"/>
                      <a:pt x="16165" y="4"/>
                      <a:pt x="16165" y="5"/>
                    </a:cubicBezTo>
                    <a:cubicBezTo>
                      <a:pt x="16165" y="6"/>
                      <a:pt x="16164" y="7"/>
                      <a:pt x="16163" y="7"/>
                    </a:cubicBezTo>
                    <a:lnTo>
                      <a:pt x="16163" y="7"/>
                    </a:lnTo>
                    <a:cubicBezTo>
                      <a:pt x="16162" y="7"/>
                      <a:pt x="16161" y="6"/>
                      <a:pt x="16161" y="5"/>
                    </a:cubicBezTo>
                    <a:cubicBezTo>
                      <a:pt x="16161" y="4"/>
                      <a:pt x="16162" y="3"/>
                      <a:pt x="16163" y="3"/>
                    </a:cubicBezTo>
                    <a:close/>
                    <a:moveTo>
                      <a:pt x="16171" y="3"/>
                    </a:moveTo>
                    <a:lnTo>
                      <a:pt x="16171" y="3"/>
                    </a:lnTo>
                    <a:cubicBezTo>
                      <a:pt x="16172" y="3"/>
                      <a:pt x="16173" y="4"/>
                      <a:pt x="16173" y="5"/>
                    </a:cubicBezTo>
                    <a:cubicBezTo>
                      <a:pt x="16173" y="6"/>
                      <a:pt x="16172" y="7"/>
                      <a:pt x="16171" y="7"/>
                    </a:cubicBezTo>
                    <a:lnTo>
                      <a:pt x="16171" y="7"/>
                    </a:lnTo>
                    <a:cubicBezTo>
                      <a:pt x="16170" y="7"/>
                      <a:pt x="16169" y="6"/>
                      <a:pt x="16169" y="5"/>
                    </a:cubicBezTo>
                    <a:cubicBezTo>
                      <a:pt x="16169" y="4"/>
                      <a:pt x="16170" y="3"/>
                      <a:pt x="16171" y="3"/>
                    </a:cubicBezTo>
                    <a:close/>
                    <a:moveTo>
                      <a:pt x="16179" y="3"/>
                    </a:moveTo>
                    <a:lnTo>
                      <a:pt x="16179" y="3"/>
                    </a:lnTo>
                    <a:cubicBezTo>
                      <a:pt x="16180" y="3"/>
                      <a:pt x="16181" y="4"/>
                      <a:pt x="16181" y="5"/>
                    </a:cubicBezTo>
                    <a:cubicBezTo>
                      <a:pt x="16181" y="6"/>
                      <a:pt x="16180" y="7"/>
                      <a:pt x="16179" y="7"/>
                    </a:cubicBezTo>
                    <a:lnTo>
                      <a:pt x="16179" y="7"/>
                    </a:lnTo>
                    <a:cubicBezTo>
                      <a:pt x="16178" y="7"/>
                      <a:pt x="16177" y="6"/>
                      <a:pt x="16177" y="5"/>
                    </a:cubicBezTo>
                    <a:cubicBezTo>
                      <a:pt x="16177" y="4"/>
                      <a:pt x="16178" y="3"/>
                      <a:pt x="16179" y="3"/>
                    </a:cubicBezTo>
                    <a:close/>
                    <a:moveTo>
                      <a:pt x="16187" y="3"/>
                    </a:moveTo>
                    <a:lnTo>
                      <a:pt x="16187" y="3"/>
                    </a:lnTo>
                    <a:cubicBezTo>
                      <a:pt x="16188" y="3"/>
                      <a:pt x="16189" y="4"/>
                      <a:pt x="16189" y="5"/>
                    </a:cubicBezTo>
                    <a:cubicBezTo>
                      <a:pt x="16189" y="6"/>
                      <a:pt x="16188" y="7"/>
                      <a:pt x="16187" y="7"/>
                    </a:cubicBezTo>
                    <a:lnTo>
                      <a:pt x="16187" y="7"/>
                    </a:lnTo>
                    <a:cubicBezTo>
                      <a:pt x="16186" y="7"/>
                      <a:pt x="16185" y="6"/>
                      <a:pt x="16185" y="5"/>
                    </a:cubicBezTo>
                    <a:cubicBezTo>
                      <a:pt x="16185" y="4"/>
                      <a:pt x="16186" y="3"/>
                      <a:pt x="16187" y="3"/>
                    </a:cubicBezTo>
                    <a:close/>
                    <a:moveTo>
                      <a:pt x="16195" y="3"/>
                    </a:moveTo>
                    <a:lnTo>
                      <a:pt x="16195" y="3"/>
                    </a:lnTo>
                    <a:cubicBezTo>
                      <a:pt x="16196" y="3"/>
                      <a:pt x="16197" y="4"/>
                      <a:pt x="16197" y="5"/>
                    </a:cubicBezTo>
                    <a:cubicBezTo>
                      <a:pt x="16197" y="6"/>
                      <a:pt x="16196" y="7"/>
                      <a:pt x="16195" y="7"/>
                    </a:cubicBezTo>
                    <a:lnTo>
                      <a:pt x="16195" y="7"/>
                    </a:lnTo>
                    <a:cubicBezTo>
                      <a:pt x="16194" y="7"/>
                      <a:pt x="16193" y="6"/>
                      <a:pt x="16193" y="5"/>
                    </a:cubicBezTo>
                    <a:cubicBezTo>
                      <a:pt x="16193" y="4"/>
                      <a:pt x="16194" y="3"/>
                      <a:pt x="16195" y="3"/>
                    </a:cubicBezTo>
                    <a:close/>
                    <a:moveTo>
                      <a:pt x="16203" y="3"/>
                    </a:moveTo>
                    <a:lnTo>
                      <a:pt x="16203" y="3"/>
                    </a:lnTo>
                    <a:cubicBezTo>
                      <a:pt x="16204" y="3"/>
                      <a:pt x="16205" y="4"/>
                      <a:pt x="16205" y="5"/>
                    </a:cubicBezTo>
                    <a:cubicBezTo>
                      <a:pt x="16205" y="6"/>
                      <a:pt x="16204" y="7"/>
                      <a:pt x="16203" y="7"/>
                    </a:cubicBezTo>
                    <a:lnTo>
                      <a:pt x="16203" y="7"/>
                    </a:lnTo>
                    <a:cubicBezTo>
                      <a:pt x="16202" y="7"/>
                      <a:pt x="16201" y="6"/>
                      <a:pt x="16201" y="5"/>
                    </a:cubicBezTo>
                    <a:cubicBezTo>
                      <a:pt x="16201" y="4"/>
                      <a:pt x="16202" y="3"/>
                      <a:pt x="16203" y="3"/>
                    </a:cubicBezTo>
                    <a:close/>
                    <a:moveTo>
                      <a:pt x="16211" y="3"/>
                    </a:moveTo>
                    <a:lnTo>
                      <a:pt x="16211" y="3"/>
                    </a:lnTo>
                    <a:cubicBezTo>
                      <a:pt x="16212" y="3"/>
                      <a:pt x="16213" y="4"/>
                      <a:pt x="16213" y="5"/>
                    </a:cubicBezTo>
                    <a:cubicBezTo>
                      <a:pt x="16213" y="6"/>
                      <a:pt x="16212" y="7"/>
                      <a:pt x="16211" y="7"/>
                    </a:cubicBezTo>
                    <a:lnTo>
                      <a:pt x="16211" y="7"/>
                    </a:lnTo>
                    <a:cubicBezTo>
                      <a:pt x="16210" y="7"/>
                      <a:pt x="16209" y="6"/>
                      <a:pt x="16209" y="5"/>
                    </a:cubicBezTo>
                    <a:cubicBezTo>
                      <a:pt x="16209" y="4"/>
                      <a:pt x="16210" y="3"/>
                      <a:pt x="16211" y="3"/>
                    </a:cubicBezTo>
                    <a:close/>
                    <a:moveTo>
                      <a:pt x="16219" y="3"/>
                    </a:moveTo>
                    <a:lnTo>
                      <a:pt x="16219" y="3"/>
                    </a:lnTo>
                    <a:cubicBezTo>
                      <a:pt x="16220" y="3"/>
                      <a:pt x="16221" y="4"/>
                      <a:pt x="16221" y="5"/>
                    </a:cubicBezTo>
                    <a:cubicBezTo>
                      <a:pt x="16221" y="6"/>
                      <a:pt x="16220" y="7"/>
                      <a:pt x="16219" y="7"/>
                    </a:cubicBezTo>
                    <a:lnTo>
                      <a:pt x="16219" y="7"/>
                    </a:lnTo>
                    <a:cubicBezTo>
                      <a:pt x="16218" y="7"/>
                      <a:pt x="16217" y="6"/>
                      <a:pt x="16217" y="5"/>
                    </a:cubicBezTo>
                    <a:cubicBezTo>
                      <a:pt x="16217" y="4"/>
                      <a:pt x="16218" y="3"/>
                      <a:pt x="16219" y="3"/>
                    </a:cubicBezTo>
                    <a:close/>
                    <a:moveTo>
                      <a:pt x="16227" y="3"/>
                    </a:moveTo>
                    <a:lnTo>
                      <a:pt x="16227" y="3"/>
                    </a:lnTo>
                    <a:cubicBezTo>
                      <a:pt x="16228" y="3"/>
                      <a:pt x="16229" y="4"/>
                      <a:pt x="16229" y="5"/>
                    </a:cubicBezTo>
                    <a:cubicBezTo>
                      <a:pt x="16229" y="6"/>
                      <a:pt x="16228" y="7"/>
                      <a:pt x="16227" y="7"/>
                    </a:cubicBezTo>
                    <a:lnTo>
                      <a:pt x="16227" y="7"/>
                    </a:lnTo>
                    <a:cubicBezTo>
                      <a:pt x="16226" y="7"/>
                      <a:pt x="16225" y="6"/>
                      <a:pt x="16225" y="5"/>
                    </a:cubicBezTo>
                    <a:cubicBezTo>
                      <a:pt x="16225" y="4"/>
                      <a:pt x="16226" y="3"/>
                      <a:pt x="16227" y="3"/>
                    </a:cubicBezTo>
                    <a:close/>
                    <a:moveTo>
                      <a:pt x="16235" y="3"/>
                    </a:moveTo>
                    <a:lnTo>
                      <a:pt x="16235" y="3"/>
                    </a:lnTo>
                    <a:cubicBezTo>
                      <a:pt x="16236" y="3"/>
                      <a:pt x="16237" y="4"/>
                      <a:pt x="16237" y="5"/>
                    </a:cubicBezTo>
                    <a:cubicBezTo>
                      <a:pt x="16237" y="6"/>
                      <a:pt x="16236" y="7"/>
                      <a:pt x="16235" y="7"/>
                    </a:cubicBezTo>
                    <a:lnTo>
                      <a:pt x="16235" y="7"/>
                    </a:lnTo>
                    <a:cubicBezTo>
                      <a:pt x="16234" y="7"/>
                      <a:pt x="16233" y="6"/>
                      <a:pt x="16233" y="5"/>
                    </a:cubicBezTo>
                    <a:cubicBezTo>
                      <a:pt x="16233" y="4"/>
                      <a:pt x="16234" y="3"/>
                      <a:pt x="16235" y="3"/>
                    </a:cubicBezTo>
                    <a:close/>
                    <a:moveTo>
                      <a:pt x="16243" y="3"/>
                    </a:moveTo>
                    <a:lnTo>
                      <a:pt x="16243" y="3"/>
                    </a:lnTo>
                    <a:cubicBezTo>
                      <a:pt x="16244" y="3"/>
                      <a:pt x="16245" y="4"/>
                      <a:pt x="16245" y="5"/>
                    </a:cubicBezTo>
                    <a:cubicBezTo>
                      <a:pt x="16245" y="6"/>
                      <a:pt x="16244" y="7"/>
                      <a:pt x="16243" y="7"/>
                    </a:cubicBezTo>
                    <a:lnTo>
                      <a:pt x="16243" y="7"/>
                    </a:lnTo>
                    <a:cubicBezTo>
                      <a:pt x="16242" y="7"/>
                      <a:pt x="16241" y="6"/>
                      <a:pt x="16241" y="5"/>
                    </a:cubicBezTo>
                    <a:cubicBezTo>
                      <a:pt x="16241" y="4"/>
                      <a:pt x="16242" y="3"/>
                      <a:pt x="16243" y="3"/>
                    </a:cubicBezTo>
                    <a:close/>
                    <a:moveTo>
                      <a:pt x="16251" y="3"/>
                    </a:moveTo>
                    <a:lnTo>
                      <a:pt x="16251" y="3"/>
                    </a:lnTo>
                    <a:cubicBezTo>
                      <a:pt x="16252" y="3"/>
                      <a:pt x="16253" y="4"/>
                      <a:pt x="16253" y="5"/>
                    </a:cubicBezTo>
                    <a:cubicBezTo>
                      <a:pt x="16253" y="6"/>
                      <a:pt x="16252" y="7"/>
                      <a:pt x="16251" y="7"/>
                    </a:cubicBezTo>
                    <a:lnTo>
                      <a:pt x="16251" y="7"/>
                    </a:lnTo>
                    <a:cubicBezTo>
                      <a:pt x="16250" y="7"/>
                      <a:pt x="16249" y="6"/>
                      <a:pt x="16249" y="5"/>
                    </a:cubicBezTo>
                    <a:cubicBezTo>
                      <a:pt x="16249" y="4"/>
                      <a:pt x="16250" y="3"/>
                      <a:pt x="16251" y="3"/>
                    </a:cubicBezTo>
                    <a:close/>
                    <a:moveTo>
                      <a:pt x="16259" y="3"/>
                    </a:moveTo>
                    <a:lnTo>
                      <a:pt x="16259" y="3"/>
                    </a:lnTo>
                    <a:cubicBezTo>
                      <a:pt x="16260" y="3"/>
                      <a:pt x="16261" y="4"/>
                      <a:pt x="16261" y="5"/>
                    </a:cubicBezTo>
                    <a:cubicBezTo>
                      <a:pt x="16261" y="6"/>
                      <a:pt x="16260" y="7"/>
                      <a:pt x="16259" y="7"/>
                    </a:cubicBezTo>
                    <a:lnTo>
                      <a:pt x="16259" y="7"/>
                    </a:lnTo>
                    <a:cubicBezTo>
                      <a:pt x="16258" y="7"/>
                      <a:pt x="16257" y="6"/>
                      <a:pt x="16257" y="5"/>
                    </a:cubicBezTo>
                    <a:cubicBezTo>
                      <a:pt x="16257" y="4"/>
                      <a:pt x="16258" y="3"/>
                      <a:pt x="16259" y="3"/>
                    </a:cubicBezTo>
                    <a:close/>
                    <a:moveTo>
                      <a:pt x="16267" y="3"/>
                    </a:moveTo>
                    <a:lnTo>
                      <a:pt x="16267" y="3"/>
                    </a:lnTo>
                    <a:cubicBezTo>
                      <a:pt x="16268" y="3"/>
                      <a:pt x="16269" y="4"/>
                      <a:pt x="16269" y="5"/>
                    </a:cubicBezTo>
                    <a:cubicBezTo>
                      <a:pt x="16269" y="6"/>
                      <a:pt x="16268" y="7"/>
                      <a:pt x="16267" y="7"/>
                    </a:cubicBezTo>
                    <a:lnTo>
                      <a:pt x="16267" y="7"/>
                    </a:lnTo>
                    <a:cubicBezTo>
                      <a:pt x="16266" y="7"/>
                      <a:pt x="16265" y="6"/>
                      <a:pt x="16265" y="5"/>
                    </a:cubicBezTo>
                    <a:cubicBezTo>
                      <a:pt x="16265" y="4"/>
                      <a:pt x="16266" y="3"/>
                      <a:pt x="16267" y="3"/>
                    </a:cubicBezTo>
                    <a:close/>
                    <a:moveTo>
                      <a:pt x="16275" y="3"/>
                    </a:moveTo>
                    <a:lnTo>
                      <a:pt x="16275" y="3"/>
                    </a:lnTo>
                    <a:cubicBezTo>
                      <a:pt x="16276" y="3"/>
                      <a:pt x="16277" y="4"/>
                      <a:pt x="16277" y="5"/>
                    </a:cubicBezTo>
                    <a:cubicBezTo>
                      <a:pt x="16277" y="6"/>
                      <a:pt x="16276" y="7"/>
                      <a:pt x="16275" y="7"/>
                    </a:cubicBezTo>
                    <a:lnTo>
                      <a:pt x="16275" y="7"/>
                    </a:lnTo>
                    <a:cubicBezTo>
                      <a:pt x="16274" y="7"/>
                      <a:pt x="16273" y="6"/>
                      <a:pt x="16273" y="5"/>
                    </a:cubicBezTo>
                    <a:cubicBezTo>
                      <a:pt x="16273" y="4"/>
                      <a:pt x="16274" y="3"/>
                      <a:pt x="16275" y="3"/>
                    </a:cubicBezTo>
                    <a:close/>
                    <a:moveTo>
                      <a:pt x="16283" y="3"/>
                    </a:moveTo>
                    <a:lnTo>
                      <a:pt x="16283" y="3"/>
                    </a:lnTo>
                    <a:cubicBezTo>
                      <a:pt x="16284" y="3"/>
                      <a:pt x="16285" y="4"/>
                      <a:pt x="16285" y="5"/>
                    </a:cubicBezTo>
                    <a:cubicBezTo>
                      <a:pt x="16285" y="6"/>
                      <a:pt x="16284" y="7"/>
                      <a:pt x="16283" y="7"/>
                    </a:cubicBezTo>
                    <a:lnTo>
                      <a:pt x="16283" y="7"/>
                    </a:lnTo>
                    <a:cubicBezTo>
                      <a:pt x="16282" y="7"/>
                      <a:pt x="16281" y="6"/>
                      <a:pt x="16281" y="5"/>
                    </a:cubicBezTo>
                    <a:cubicBezTo>
                      <a:pt x="16281" y="4"/>
                      <a:pt x="16282" y="3"/>
                      <a:pt x="16283" y="3"/>
                    </a:cubicBezTo>
                    <a:close/>
                    <a:moveTo>
                      <a:pt x="16291" y="3"/>
                    </a:moveTo>
                    <a:lnTo>
                      <a:pt x="16291" y="3"/>
                    </a:lnTo>
                    <a:cubicBezTo>
                      <a:pt x="16292" y="3"/>
                      <a:pt x="16293" y="4"/>
                      <a:pt x="16293" y="5"/>
                    </a:cubicBezTo>
                    <a:cubicBezTo>
                      <a:pt x="16293" y="6"/>
                      <a:pt x="16292" y="7"/>
                      <a:pt x="16291" y="7"/>
                    </a:cubicBezTo>
                    <a:lnTo>
                      <a:pt x="16291" y="7"/>
                    </a:lnTo>
                    <a:cubicBezTo>
                      <a:pt x="16290" y="7"/>
                      <a:pt x="16289" y="6"/>
                      <a:pt x="16289" y="5"/>
                    </a:cubicBezTo>
                    <a:cubicBezTo>
                      <a:pt x="16289" y="4"/>
                      <a:pt x="16290" y="3"/>
                      <a:pt x="16291" y="3"/>
                    </a:cubicBezTo>
                    <a:close/>
                    <a:moveTo>
                      <a:pt x="16299" y="3"/>
                    </a:moveTo>
                    <a:lnTo>
                      <a:pt x="16299" y="3"/>
                    </a:lnTo>
                    <a:cubicBezTo>
                      <a:pt x="16300" y="3"/>
                      <a:pt x="16301" y="4"/>
                      <a:pt x="16301" y="5"/>
                    </a:cubicBezTo>
                    <a:cubicBezTo>
                      <a:pt x="16301" y="6"/>
                      <a:pt x="16300" y="7"/>
                      <a:pt x="16299" y="7"/>
                    </a:cubicBezTo>
                    <a:lnTo>
                      <a:pt x="16299" y="7"/>
                    </a:lnTo>
                    <a:cubicBezTo>
                      <a:pt x="16298" y="7"/>
                      <a:pt x="16297" y="6"/>
                      <a:pt x="16297" y="5"/>
                    </a:cubicBezTo>
                    <a:cubicBezTo>
                      <a:pt x="16297" y="4"/>
                      <a:pt x="16298" y="3"/>
                      <a:pt x="16299" y="3"/>
                    </a:cubicBezTo>
                    <a:close/>
                    <a:moveTo>
                      <a:pt x="16307" y="3"/>
                    </a:moveTo>
                    <a:lnTo>
                      <a:pt x="16307" y="3"/>
                    </a:lnTo>
                    <a:cubicBezTo>
                      <a:pt x="16308" y="3"/>
                      <a:pt x="16309" y="4"/>
                      <a:pt x="16309" y="5"/>
                    </a:cubicBezTo>
                    <a:cubicBezTo>
                      <a:pt x="16309" y="6"/>
                      <a:pt x="16308" y="7"/>
                      <a:pt x="16307" y="7"/>
                    </a:cubicBezTo>
                    <a:lnTo>
                      <a:pt x="16307" y="7"/>
                    </a:lnTo>
                    <a:cubicBezTo>
                      <a:pt x="16306" y="7"/>
                      <a:pt x="16305" y="6"/>
                      <a:pt x="16305" y="5"/>
                    </a:cubicBezTo>
                    <a:cubicBezTo>
                      <a:pt x="16305" y="4"/>
                      <a:pt x="16306" y="3"/>
                      <a:pt x="16307" y="3"/>
                    </a:cubicBezTo>
                    <a:close/>
                    <a:moveTo>
                      <a:pt x="16315" y="3"/>
                    </a:moveTo>
                    <a:lnTo>
                      <a:pt x="16315" y="3"/>
                    </a:lnTo>
                    <a:cubicBezTo>
                      <a:pt x="16316" y="3"/>
                      <a:pt x="16317" y="4"/>
                      <a:pt x="16317" y="5"/>
                    </a:cubicBezTo>
                    <a:cubicBezTo>
                      <a:pt x="16317" y="6"/>
                      <a:pt x="16316" y="7"/>
                      <a:pt x="16315" y="7"/>
                    </a:cubicBezTo>
                    <a:lnTo>
                      <a:pt x="16315" y="7"/>
                    </a:lnTo>
                    <a:cubicBezTo>
                      <a:pt x="16314" y="7"/>
                      <a:pt x="16313" y="6"/>
                      <a:pt x="16313" y="5"/>
                    </a:cubicBezTo>
                    <a:cubicBezTo>
                      <a:pt x="16313" y="4"/>
                      <a:pt x="16314" y="3"/>
                      <a:pt x="16315" y="3"/>
                    </a:cubicBezTo>
                    <a:close/>
                    <a:moveTo>
                      <a:pt x="16323" y="3"/>
                    </a:moveTo>
                    <a:lnTo>
                      <a:pt x="16323" y="3"/>
                    </a:lnTo>
                    <a:cubicBezTo>
                      <a:pt x="16324" y="3"/>
                      <a:pt x="16325" y="4"/>
                      <a:pt x="16325" y="5"/>
                    </a:cubicBezTo>
                    <a:cubicBezTo>
                      <a:pt x="16325" y="6"/>
                      <a:pt x="16324" y="7"/>
                      <a:pt x="16323" y="7"/>
                    </a:cubicBezTo>
                    <a:lnTo>
                      <a:pt x="16323" y="7"/>
                    </a:lnTo>
                    <a:cubicBezTo>
                      <a:pt x="16322" y="7"/>
                      <a:pt x="16321" y="6"/>
                      <a:pt x="16321" y="5"/>
                    </a:cubicBezTo>
                    <a:cubicBezTo>
                      <a:pt x="16321" y="4"/>
                      <a:pt x="16322" y="3"/>
                      <a:pt x="16323" y="3"/>
                    </a:cubicBezTo>
                    <a:close/>
                    <a:moveTo>
                      <a:pt x="16331" y="3"/>
                    </a:moveTo>
                    <a:lnTo>
                      <a:pt x="16331" y="3"/>
                    </a:lnTo>
                    <a:cubicBezTo>
                      <a:pt x="16332" y="3"/>
                      <a:pt x="16333" y="4"/>
                      <a:pt x="16333" y="5"/>
                    </a:cubicBezTo>
                    <a:cubicBezTo>
                      <a:pt x="16333" y="6"/>
                      <a:pt x="16332" y="7"/>
                      <a:pt x="16331" y="7"/>
                    </a:cubicBezTo>
                    <a:lnTo>
                      <a:pt x="16331" y="7"/>
                    </a:lnTo>
                    <a:cubicBezTo>
                      <a:pt x="16330" y="7"/>
                      <a:pt x="16329" y="6"/>
                      <a:pt x="16329" y="5"/>
                    </a:cubicBezTo>
                    <a:cubicBezTo>
                      <a:pt x="16329" y="4"/>
                      <a:pt x="16330" y="3"/>
                      <a:pt x="16331" y="3"/>
                    </a:cubicBezTo>
                    <a:close/>
                    <a:moveTo>
                      <a:pt x="16339" y="3"/>
                    </a:moveTo>
                    <a:lnTo>
                      <a:pt x="16339" y="3"/>
                    </a:lnTo>
                    <a:cubicBezTo>
                      <a:pt x="16340" y="3"/>
                      <a:pt x="16341" y="4"/>
                      <a:pt x="16341" y="5"/>
                    </a:cubicBezTo>
                    <a:cubicBezTo>
                      <a:pt x="16341" y="6"/>
                      <a:pt x="16340" y="7"/>
                      <a:pt x="16339" y="7"/>
                    </a:cubicBezTo>
                    <a:lnTo>
                      <a:pt x="16339" y="7"/>
                    </a:lnTo>
                    <a:cubicBezTo>
                      <a:pt x="16338" y="7"/>
                      <a:pt x="16337" y="6"/>
                      <a:pt x="16337" y="5"/>
                    </a:cubicBezTo>
                    <a:cubicBezTo>
                      <a:pt x="16337" y="4"/>
                      <a:pt x="16338" y="3"/>
                      <a:pt x="16339" y="3"/>
                    </a:cubicBezTo>
                    <a:close/>
                    <a:moveTo>
                      <a:pt x="16347" y="3"/>
                    </a:moveTo>
                    <a:lnTo>
                      <a:pt x="16347" y="3"/>
                    </a:lnTo>
                    <a:cubicBezTo>
                      <a:pt x="16348" y="3"/>
                      <a:pt x="16349" y="4"/>
                      <a:pt x="16349" y="5"/>
                    </a:cubicBezTo>
                    <a:cubicBezTo>
                      <a:pt x="16349" y="6"/>
                      <a:pt x="16348" y="7"/>
                      <a:pt x="16347" y="7"/>
                    </a:cubicBezTo>
                    <a:lnTo>
                      <a:pt x="16347" y="7"/>
                    </a:lnTo>
                    <a:cubicBezTo>
                      <a:pt x="16346" y="7"/>
                      <a:pt x="16345" y="6"/>
                      <a:pt x="16345" y="5"/>
                    </a:cubicBezTo>
                    <a:cubicBezTo>
                      <a:pt x="16345" y="4"/>
                      <a:pt x="16346" y="3"/>
                      <a:pt x="16347" y="3"/>
                    </a:cubicBezTo>
                    <a:close/>
                    <a:moveTo>
                      <a:pt x="16355" y="3"/>
                    </a:moveTo>
                    <a:lnTo>
                      <a:pt x="16355" y="3"/>
                    </a:lnTo>
                    <a:cubicBezTo>
                      <a:pt x="16356" y="3"/>
                      <a:pt x="16357" y="4"/>
                      <a:pt x="16357" y="5"/>
                    </a:cubicBezTo>
                    <a:cubicBezTo>
                      <a:pt x="16357" y="6"/>
                      <a:pt x="16356" y="7"/>
                      <a:pt x="16355" y="7"/>
                    </a:cubicBezTo>
                    <a:lnTo>
                      <a:pt x="16355" y="7"/>
                    </a:lnTo>
                    <a:cubicBezTo>
                      <a:pt x="16354" y="7"/>
                      <a:pt x="16353" y="6"/>
                      <a:pt x="16353" y="5"/>
                    </a:cubicBezTo>
                    <a:cubicBezTo>
                      <a:pt x="16353" y="4"/>
                      <a:pt x="16354" y="3"/>
                      <a:pt x="16355" y="3"/>
                    </a:cubicBezTo>
                    <a:close/>
                    <a:moveTo>
                      <a:pt x="16363" y="3"/>
                    </a:moveTo>
                    <a:lnTo>
                      <a:pt x="16363" y="3"/>
                    </a:lnTo>
                    <a:cubicBezTo>
                      <a:pt x="16364" y="3"/>
                      <a:pt x="16365" y="4"/>
                      <a:pt x="16365" y="5"/>
                    </a:cubicBezTo>
                    <a:cubicBezTo>
                      <a:pt x="16365" y="6"/>
                      <a:pt x="16364" y="7"/>
                      <a:pt x="16363" y="7"/>
                    </a:cubicBezTo>
                    <a:lnTo>
                      <a:pt x="16363" y="7"/>
                    </a:lnTo>
                    <a:cubicBezTo>
                      <a:pt x="16362" y="7"/>
                      <a:pt x="16361" y="6"/>
                      <a:pt x="16361" y="5"/>
                    </a:cubicBezTo>
                    <a:cubicBezTo>
                      <a:pt x="16361" y="4"/>
                      <a:pt x="16362" y="3"/>
                      <a:pt x="16363" y="3"/>
                    </a:cubicBezTo>
                    <a:close/>
                    <a:moveTo>
                      <a:pt x="16371" y="3"/>
                    </a:moveTo>
                    <a:lnTo>
                      <a:pt x="16371" y="3"/>
                    </a:lnTo>
                    <a:cubicBezTo>
                      <a:pt x="16372" y="3"/>
                      <a:pt x="16373" y="4"/>
                      <a:pt x="16373" y="5"/>
                    </a:cubicBezTo>
                    <a:cubicBezTo>
                      <a:pt x="16373" y="6"/>
                      <a:pt x="16372" y="7"/>
                      <a:pt x="16371" y="7"/>
                    </a:cubicBezTo>
                    <a:lnTo>
                      <a:pt x="16371" y="7"/>
                    </a:lnTo>
                    <a:cubicBezTo>
                      <a:pt x="16370" y="7"/>
                      <a:pt x="16369" y="6"/>
                      <a:pt x="16369" y="5"/>
                    </a:cubicBezTo>
                    <a:cubicBezTo>
                      <a:pt x="16369" y="4"/>
                      <a:pt x="16370" y="3"/>
                      <a:pt x="16371" y="3"/>
                    </a:cubicBezTo>
                    <a:close/>
                    <a:moveTo>
                      <a:pt x="16379" y="3"/>
                    </a:moveTo>
                    <a:lnTo>
                      <a:pt x="16379" y="3"/>
                    </a:lnTo>
                    <a:cubicBezTo>
                      <a:pt x="16380" y="3"/>
                      <a:pt x="16381" y="4"/>
                      <a:pt x="16381" y="5"/>
                    </a:cubicBezTo>
                    <a:cubicBezTo>
                      <a:pt x="16381" y="6"/>
                      <a:pt x="16380" y="7"/>
                      <a:pt x="16379" y="7"/>
                    </a:cubicBezTo>
                    <a:lnTo>
                      <a:pt x="16379" y="7"/>
                    </a:lnTo>
                    <a:cubicBezTo>
                      <a:pt x="16378" y="7"/>
                      <a:pt x="16377" y="6"/>
                      <a:pt x="16377" y="5"/>
                    </a:cubicBezTo>
                    <a:cubicBezTo>
                      <a:pt x="16377" y="4"/>
                      <a:pt x="16378" y="3"/>
                      <a:pt x="16379" y="3"/>
                    </a:cubicBezTo>
                    <a:close/>
                    <a:moveTo>
                      <a:pt x="16387" y="3"/>
                    </a:moveTo>
                    <a:lnTo>
                      <a:pt x="16387" y="3"/>
                    </a:lnTo>
                    <a:cubicBezTo>
                      <a:pt x="16388" y="3"/>
                      <a:pt x="16389" y="4"/>
                      <a:pt x="16389" y="5"/>
                    </a:cubicBezTo>
                    <a:cubicBezTo>
                      <a:pt x="16389" y="6"/>
                      <a:pt x="16388" y="7"/>
                      <a:pt x="16387" y="7"/>
                    </a:cubicBezTo>
                    <a:lnTo>
                      <a:pt x="16387" y="7"/>
                    </a:lnTo>
                    <a:cubicBezTo>
                      <a:pt x="16386" y="7"/>
                      <a:pt x="16385" y="6"/>
                      <a:pt x="16385" y="5"/>
                    </a:cubicBezTo>
                    <a:cubicBezTo>
                      <a:pt x="16385" y="4"/>
                      <a:pt x="16386" y="3"/>
                      <a:pt x="16387" y="3"/>
                    </a:cubicBezTo>
                    <a:close/>
                    <a:moveTo>
                      <a:pt x="16395" y="3"/>
                    </a:moveTo>
                    <a:lnTo>
                      <a:pt x="16395" y="3"/>
                    </a:lnTo>
                    <a:cubicBezTo>
                      <a:pt x="16396" y="3"/>
                      <a:pt x="16397" y="4"/>
                      <a:pt x="16397" y="5"/>
                    </a:cubicBezTo>
                    <a:cubicBezTo>
                      <a:pt x="16397" y="6"/>
                      <a:pt x="16396" y="7"/>
                      <a:pt x="16395" y="7"/>
                    </a:cubicBezTo>
                    <a:lnTo>
                      <a:pt x="16395" y="7"/>
                    </a:lnTo>
                    <a:cubicBezTo>
                      <a:pt x="16394" y="7"/>
                      <a:pt x="16393" y="6"/>
                      <a:pt x="16393" y="5"/>
                    </a:cubicBezTo>
                    <a:cubicBezTo>
                      <a:pt x="16393" y="4"/>
                      <a:pt x="16394" y="3"/>
                      <a:pt x="16395" y="3"/>
                    </a:cubicBezTo>
                    <a:close/>
                    <a:moveTo>
                      <a:pt x="16403" y="3"/>
                    </a:moveTo>
                    <a:lnTo>
                      <a:pt x="16403" y="3"/>
                    </a:lnTo>
                    <a:cubicBezTo>
                      <a:pt x="16404" y="3"/>
                      <a:pt x="16405" y="4"/>
                      <a:pt x="16405" y="5"/>
                    </a:cubicBezTo>
                    <a:cubicBezTo>
                      <a:pt x="16405" y="6"/>
                      <a:pt x="16404" y="7"/>
                      <a:pt x="16403" y="7"/>
                    </a:cubicBezTo>
                    <a:lnTo>
                      <a:pt x="16403" y="7"/>
                    </a:lnTo>
                    <a:cubicBezTo>
                      <a:pt x="16402" y="7"/>
                      <a:pt x="16401" y="6"/>
                      <a:pt x="16401" y="5"/>
                    </a:cubicBezTo>
                    <a:cubicBezTo>
                      <a:pt x="16401" y="4"/>
                      <a:pt x="16402" y="3"/>
                      <a:pt x="16403" y="3"/>
                    </a:cubicBezTo>
                    <a:close/>
                    <a:moveTo>
                      <a:pt x="16411" y="3"/>
                    </a:moveTo>
                    <a:lnTo>
                      <a:pt x="16411" y="3"/>
                    </a:lnTo>
                    <a:cubicBezTo>
                      <a:pt x="16412" y="3"/>
                      <a:pt x="16413" y="4"/>
                      <a:pt x="16413" y="5"/>
                    </a:cubicBezTo>
                    <a:cubicBezTo>
                      <a:pt x="16413" y="6"/>
                      <a:pt x="16412" y="7"/>
                      <a:pt x="16411" y="7"/>
                    </a:cubicBezTo>
                    <a:lnTo>
                      <a:pt x="16411" y="7"/>
                    </a:lnTo>
                    <a:cubicBezTo>
                      <a:pt x="16410" y="7"/>
                      <a:pt x="16409" y="6"/>
                      <a:pt x="16409" y="5"/>
                    </a:cubicBezTo>
                    <a:cubicBezTo>
                      <a:pt x="16409" y="4"/>
                      <a:pt x="16410" y="3"/>
                      <a:pt x="16411" y="3"/>
                    </a:cubicBezTo>
                    <a:close/>
                    <a:moveTo>
                      <a:pt x="16419" y="3"/>
                    </a:moveTo>
                    <a:lnTo>
                      <a:pt x="16419" y="3"/>
                    </a:lnTo>
                    <a:cubicBezTo>
                      <a:pt x="16420" y="3"/>
                      <a:pt x="16421" y="4"/>
                      <a:pt x="16421" y="5"/>
                    </a:cubicBezTo>
                    <a:cubicBezTo>
                      <a:pt x="16421" y="6"/>
                      <a:pt x="16420" y="7"/>
                      <a:pt x="16419" y="7"/>
                    </a:cubicBezTo>
                    <a:lnTo>
                      <a:pt x="16419" y="7"/>
                    </a:lnTo>
                    <a:cubicBezTo>
                      <a:pt x="16418" y="7"/>
                      <a:pt x="16417" y="6"/>
                      <a:pt x="16417" y="5"/>
                    </a:cubicBezTo>
                    <a:cubicBezTo>
                      <a:pt x="16417" y="4"/>
                      <a:pt x="16418" y="3"/>
                      <a:pt x="16419" y="3"/>
                    </a:cubicBezTo>
                    <a:close/>
                    <a:moveTo>
                      <a:pt x="16427" y="3"/>
                    </a:moveTo>
                    <a:lnTo>
                      <a:pt x="16427" y="3"/>
                    </a:lnTo>
                    <a:cubicBezTo>
                      <a:pt x="16428" y="3"/>
                      <a:pt x="16429" y="4"/>
                      <a:pt x="16429" y="5"/>
                    </a:cubicBezTo>
                    <a:cubicBezTo>
                      <a:pt x="16429" y="6"/>
                      <a:pt x="16428" y="7"/>
                      <a:pt x="16427" y="7"/>
                    </a:cubicBezTo>
                    <a:lnTo>
                      <a:pt x="16427" y="7"/>
                    </a:lnTo>
                    <a:cubicBezTo>
                      <a:pt x="16426" y="7"/>
                      <a:pt x="16425" y="6"/>
                      <a:pt x="16425" y="5"/>
                    </a:cubicBezTo>
                    <a:cubicBezTo>
                      <a:pt x="16425" y="4"/>
                      <a:pt x="16426" y="3"/>
                      <a:pt x="16427" y="3"/>
                    </a:cubicBezTo>
                    <a:close/>
                    <a:moveTo>
                      <a:pt x="16435" y="3"/>
                    </a:moveTo>
                    <a:lnTo>
                      <a:pt x="16435" y="3"/>
                    </a:lnTo>
                    <a:cubicBezTo>
                      <a:pt x="16436" y="3"/>
                      <a:pt x="16437" y="4"/>
                      <a:pt x="16437" y="5"/>
                    </a:cubicBezTo>
                    <a:cubicBezTo>
                      <a:pt x="16437" y="6"/>
                      <a:pt x="16436" y="7"/>
                      <a:pt x="16435" y="7"/>
                    </a:cubicBezTo>
                    <a:lnTo>
                      <a:pt x="16435" y="7"/>
                    </a:lnTo>
                    <a:cubicBezTo>
                      <a:pt x="16434" y="7"/>
                      <a:pt x="16433" y="6"/>
                      <a:pt x="16433" y="5"/>
                    </a:cubicBezTo>
                    <a:cubicBezTo>
                      <a:pt x="16433" y="4"/>
                      <a:pt x="16434" y="3"/>
                      <a:pt x="16435" y="3"/>
                    </a:cubicBezTo>
                    <a:close/>
                    <a:moveTo>
                      <a:pt x="16443" y="3"/>
                    </a:moveTo>
                    <a:lnTo>
                      <a:pt x="16443" y="3"/>
                    </a:lnTo>
                    <a:cubicBezTo>
                      <a:pt x="16444" y="3"/>
                      <a:pt x="16445" y="4"/>
                      <a:pt x="16445" y="5"/>
                    </a:cubicBezTo>
                    <a:cubicBezTo>
                      <a:pt x="16445" y="6"/>
                      <a:pt x="16444" y="7"/>
                      <a:pt x="16443" y="7"/>
                    </a:cubicBezTo>
                    <a:lnTo>
                      <a:pt x="16443" y="7"/>
                    </a:lnTo>
                    <a:cubicBezTo>
                      <a:pt x="16442" y="7"/>
                      <a:pt x="16441" y="6"/>
                      <a:pt x="16441" y="5"/>
                    </a:cubicBezTo>
                    <a:cubicBezTo>
                      <a:pt x="16441" y="4"/>
                      <a:pt x="16442" y="3"/>
                      <a:pt x="16443" y="3"/>
                    </a:cubicBezTo>
                    <a:close/>
                    <a:moveTo>
                      <a:pt x="16451" y="3"/>
                    </a:moveTo>
                    <a:lnTo>
                      <a:pt x="16451" y="3"/>
                    </a:lnTo>
                    <a:cubicBezTo>
                      <a:pt x="16452" y="3"/>
                      <a:pt x="16453" y="4"/>
                      <a:pt x="16453" y="5"/>
                    </a:cubicBezTo>
                    <a:cubicBezTo>
                      <a:pt x="16453" y="6"/>
                      <a:pt x="16452" y="7"/>
                      <a:pt x="16451" y="7"/>
                    </a:cubicBezTo>
                    <a:lnTo>
                      <a:pt x="16451" y="7"/>
                    </a:lnTo>
                    <a:cubicBezTo>
                      <a:pt x="16450" y="7"/>
                      <a:pt x="16449" y="6"/>
                      <a:pt x="16449" y="5"/>
                    </a:cubicBezTo>
                    <a:cubicBezTo>
                      <a:pt x="16449" y="4"/>
                      <a:pt x="16450" y="3"/>
                      <a:pt x="16451" y="3"/>
                    </a:cubicBezTo>
                    <a:close/>
                    <a:moveTo>
                      <a:pt x="16459" y="3"/>
                    </a:moveTo>
                    <a:lnTo>
                      <a:pt x="16459" y="3"/>
                    </a:lnTo>
                    <a:cubicBezTo>
                      <a:pt x="16460" y="3"/>
                      <a:pt x="16461" y="4"/>
                      <a:pt x="16461" y="5"/>
                    </a:cubicBezTo>
                    <a:cubicBezTo>
                      <a:pt x="16461" y="6"/>
                      <a:pt x="16460" y="7"/>
                      <a:pt x="16459" y="7"/>
                    </a:cubicBezTo>
                    <a:lnTo>
                      <a:pt x="16459" y="7"/>
                    </a:lnTo>
                    <a:cubicBezTo>
                      <a:pt x="16458" y="7"/>
                      <a:pt x="16457" y="6"/>
                      <a:pt x="16457" y="5"/>
                    </a:cubicBezTo>
                    <a:cubicBezTo>
                      <a:pt x="16457" y="4"/>
                      <a:pt x="16458" y="3"/>
                      <a:pt x="16459" y="3"/>
                    </a:cubicBezTo>
                    <a:close/>
                    <a:moveTo>
                      <a:pt x="16467" y="3"/>
                    </a:moveTo>
                    <a:lnTo>
                      <a:pt x="16467" y="3"/>
                    </a:lnTo>
                    <a:cubicBezTo>
                      <a:pt x="16468" y="3"/>
                      <a:pt x="16469" y="4"/>
                      <a:pt x="16469" y="5"/>
                    </a:cubicBezTo>
                    <a:cubicBezTo>
                      <a:pt x="16469" y="6"/>
                      <a:pt x="16468" y="7"/>
                      <a:pt x="16467" y="7"/>
                    </a:cubicBezTo>
                    <a:lnTo>
                      <a:pt x="16467" y="7"/>
                    </a:lnTo>
                    <a:cubicBezTo>
                      <a:pt x="16466" y="7"/>
                      <a:pt x="16465" y="6"/>
                      <a:pt x="16465" y="5"/>
                    </a:cubicBezTo>
                    <a:cubicBezTo>
                      <a:pt x="16465" y="4"/>
                      <a:pt x="16466" y="3"/>
                      <a:pt x="16467" y="3"/>
                    </a:cubicBezTo>
                    <a:close/>
                    <a:moveTo>
                      <a:pt x="16475" y="3"/>
                    </a:moveTo>
                    <a:lnTo>
                      <a:pt x="16475" y="3"/>
                    </a:lnTo>
                    <a:cubicBezTo>
                      <a:pt x="16476" y="3"/>
                      <a:pt x="16477" y="4"/>
                      <a:pt x="16477" y="5"/>
                    </a:cubicBezTo>
                    <a:cubicBezTo>
                      <a:pt x="16477" y="6"/>
                      <a:pt x="16476" y="7"/>
                      <a:pt x="16475" y="7"/>
                    </a:cubicBezTo>
                    <a:lnTo>
                      <a:pt x="16475" y="7"/>
                    </a:lnTo>
                    <a:cubicBezTo>
                      <a:pt x="16474" y="7"/>
                      <a:pt x="16473" y="6"/>
                      <a:pt x="16473" y="5"/>
                    </a:cubicBezTo>
                    <a:cubicBezTo>
                      <a:pt x="16473" y="4"/>
                      <a:pt x="16474" y="3"/>
                      <a:pt x="16475" y="3"/>
                    </a:cubicBezTo>
                    <a:close/>
                    <a:moveTo>
                      <a:pt x="16483" y="3"/>
                    </a:moveTo>
                    <a:lnTo>
                      <a:pt x="16483" y="3"/>
                    </a:lnTo>
                    <a:cubicBezTo>
                      <a:pt x="16484" y="3"/>
                      <a:pt x="16485" y="4"/>
                      <a:pt x="16485" y="5"/>
                    </a:cubicBezTo>
                    <a:cubicBezTo>
                      <a:pt x="16485" y="6"/>
                      <a:pt x="16484" y="7"/>
                      <a:pt x="16483" y="7"/>
                    </a:cubicBezTo>
                    <a:lnTo>
                      <a:pt x="16483" y="7"/>
                    </a:lnTo>
                    <a:cubicBezTo>
                      <a:pt x="16482" y="7"/>
                      <a:pt x="16481" y="6"/>
                      <a:pt x="16481" y="5"/>
                    </a:cubicBezTo>
                    <a:cubicBezTo>
                      <a:pt x="16481" y="4"/>
                      <a:pt x="16482" y="3"/>
                      <a:pt x="16483" y="3"/>
                    </a:cubicBezTo>
                    <a:close/>
                    <a:moveTo>
                      <a:pt x="16491" y="3"/>
                    </a:moveTo>
                    <a:lnTo>
                      <a:pt x="16491" y="3"/>
                    </a:lnTo>
                    <a:cubicBezTo>
                      <a:pt x="16492" y="3"/>
                      <a:pt x="16493" y="4"/>
                      <a:pt x="16493" y="5"/>
                    </a:cubicBezTo>
                    <a:cubicBezTo>
                      <a:pt x="16493" y="6"/>
                      <a:pt x="16492" y="7"/>
                      <a:pt x="16491" y="7"/>
                    </a:cubicBezTo>
                    <a:lnTo>
                      <a:pt x="16491" y="7"/>
                    </a:lnTo>
                    <a:cubicBezTo>
                      <a:pt x="16490" y="7"/>
                      <a:pt x="16489" y="6"/>
                      <a:pt x="16489" y="5"/>
                    </a:cubicBezTo>
                    <a:cubicBezTo>
                      <a:pt x="16489" y="4"/>
                      <a:pt x="16490" y="3"/>
                      <a:pt x="16491" y="3"/>
                    </a:cubicBezTo>
                    <a:close/>
                    <a:moveTo>
                      <a:pt x="16499" y="3"/>
                    </a:moveTo>
                    <a:lnTo>
                      <a:pt x="16499" y="3"/>
                    </a:lnTo>
                    <a:cubicBezTo>
                      <a:pt x="16500" y="3"/>
                      <a:pt x="16501" y="4"/>
                      <a:pt x="16501" y="5"/>
                    </a:cubicBezTo>
                    <a:cubicBezTo>
                      <a:pt x="16501" y="6"/>
                      <a:pt x="16500" y="7"/>
                      <a:pt x="16499" y="7"/>
                    </a:cubicBezTo>
                    <a:lnTo>
                      <a:pt x="16499" y="7"/>
                    </a:lnTo>
                    <a:cubicBezTo>
                      <a:pt x="16498" y="7"/>
                      <a:pt x="16497" y="6"/>
                      <a:pt x="16497" y="5"/>
                    </a:cubicBezTo>
                    <a:cubicBezTo>
                      <a:pt x="16497" y="4"/>
                      <a:pt x="16498" y="3"/>
                      <a:pt x="16499" y="3"/>
                    </a:cubicBezTo>
                    <a:close/>
                    <a:moveTo>
                      <a:pt x="16507" y="3"/>
                    </a:moveTo>
                    <a:lnTo>
                      <a:pt x="16507" y="3"/>
                    </a:lnTo>
                    <a:cubicBezTo>
                      <a:pt x="16508" y="3"/>
                      <a:pt x="16509" y="4"/>
                      <a:pt x="16509" y="5"/>
                    </a:cubicBezTo>
                    <a:cubicBezTo>
                      <a:pt x="16509" y="6"/>
                      <a:pt x="16508" y="7"/>
                      <a:pt x="16507" y="7"/>
                    </a:cubicBezTo>
                    <a:lnTo>
                      <a:pt x="16507" y="7"/>
                    </a:lnTo>
                    <a:cubicBezTo>
                      <a:pt x="16506" y="7"/>
                      <a:pt x="16505" y="6"/>
                      <a:pt x="16505" y="5"/>
                    </a:cubicBezTo>
                    <a:cubicBezTo>
                      <a:pt x="16505" y="4"/>
                      <a:pt x="16506" y="3"/>
                      <a:pt x="16507" y="3"/>
                    </a:cubicBezTo>
                    <a:close/>
                    <a:moveTo>
                      <a:pt x="16515" y="3"/>
                    </a:moveTo>
                    <a:lnTo>
                      <a:pt x="16515" y="3"/>
                    </a:lnTo>
                    <a:cubicBezTo>
                      <a:pt x="16516" y="3"/>
                      <a:pt x="16517" y="4"/>
                      <a:pt x="16517" y="5"/>
                    </a:cubicBezTo>
                    <a:cubicBezTo>
                      <a:pt x="16517" y="6"/>
                      <a:pt x="16516" y="7"/>
                      <a:pt x="16515" y="7"/>
                    </a:cubicBezTo>
                    <a:lnTo>
                      <a:pt x="16515" y="7"/>
                    </a:lnTo>
                    <a:cubicBezTo>
                      <a:pt x="16514" y="7"/>
                      <a:pt x="16513" y="6"/>
                      <a:pt x="16513" y="5"/>
                    </a:cubicBezTo>
                    <a:cubicBezTo>
                      <a:pt x="16513" y="4"/>
                      <a:pt x="16514" y="3"/>
                      <a:pt x="16515" y="3"/>
                    </a:cubicBezTo>
                    <a:close/>
                    <a:moveTo>
                      <a:pt x="16523" y="3"/>
                    </a:moveTo>
                    <a:lnTo>
                      <a:pt x="16523" y="3"/>
                    </a:lnTo>
                    <a:cubicBezTo>
                      <a:pt x="16524" y="3"/>
                      <a:pt x="16525" y="4"/>
                      <a:pt x="16525" y="5"/>
                    </a:cubicBezTo>
                    <a:cubicBezTo>
                      <a:pt x="16525" y="6"/>
                      <a:pt x="16524" y="7"/>
                      <a:pt x="16523" y="7"/>
                    </a:cubicBezTo>
                    <a:lnTo>
                      <a:pt x="16523" y="7"/>
                    </a:lnTo>
                    <a:cubicBezTo>
                      <a:pt x="16522" y="7"/>
                      <a:pt x="16521" y="6"/>
                      <a:pt x="16521" y="5"/>
                    </a:cubicBezTo>
                    <a:cubicBezTo>
                      <a:pt x="16521" y="4"/>
                      <a:pt x="16522" y="3"/>
                      <a:pt x="16523" y="3"/>
                    </a:cubicBezTo>
                    <a:close/>
                    <a:moveTo>
                      <a:pt x="16531" y="3"/>
                    </a:moveTo>
                    <a:lnTo>
                      <a:pt x="16531" y="3"/>
                    </a:lnTo>
                    <a:cubicBezTo>
                      <a:pt x="16532" y="3"/>
                      <a:pt x="16533" y="4"/>
                      <a:pt x="16533" y="5"/>
                    </a:cubicBezTo>
                    <a:cubicBezTo>
                      <a:pt x="16533" y="6"/>
                      <a:pt x="16532" y="7"/>
                      <a:pt x="16531" y="7"/>
                    </a:cubicBezTo>
                    <a:lnTo>
                      <a:pt x="16531" y="7"/>
                    </a:lnTo>
                    <a:cubicBezTo>
                      <a:pt x="16530" y="7"/>
                      <a:pt x="16529" y="6"/>
                      <a:pt x="16529" y="5"/>
                    </a:cubicBezTo>
                    <a:cubicBezTo>
                      <a:pt x="16529" y="4"/>
                      <a:pt x="16530" y="3"/>
                      <a:pt x="16531" y="3"/>
                    </a:cubicBezTo>
                    <a:close/>
                    <a:moveTo>
                      <a:pt x="16539" y="3"/>
                    </a:moveTo>
                    <a:lnTo>
                      <a:pt x="16539" y="3"/>
                    </a:lnTo>
                    <a:cubicBezTo>
                      <a:pt x="16540" y="3"/>
                      <a:pt x="16541" y="4"/>
                      <a:pt x="16541" y="5"/>
                    </a:cubicBezTo>
                    <a:cubicBezTo>
                      <a:pt x="16541" y="6"/>
                      <a:pt x="16540" y="7"/>
                      <a:pt x="16539" y="7"/>
                    </a:cubicBezTo>
                    <a:lnTo>
                      <a:pt x="16539" y="7"/>
                    </a:lnTo>
                    <a:cubicBezTo>
                      <a:pt x="16538" y="7"/>
                      <a:pt x="16537" y="6"/>
                      <a:pt x="16537" y="5"/>
                    </a:cubicBezTo>
                    <a:cubicBezTo>
                      <a:pt x="16537" y="4"/>
                      <a:pt x="16538" y="3"/>
                      <a:pt x="16539" y="3"/>
                    </a:cubicBezTo>
                    <a:close/>
                    <a:moveTo>
                      <a:pt x="16547" y="3"/>
                    </a:moveTo>
                    <a:lnTo>
                      <a:pt x="16547" y="3"/>
                    </a:lnTo>
                    <a:cubicBezTo>
                      <a:pt x="16548" y="3"/>
                      <a:pt x="16549" y="4"/>
                      <a:pt x="16549" y="5"/>
                    </a:cubicBezTo>
                    <a:cubicBezTo>
                      <a:pt x="16549" y="6"/>
                      <a:pt x="16548" y="7"/>
                      <a:pt x="16547" y="7"/>
                    </a:cubicBezTo>
                    <a:lnTo>
                      <a:pt x="16547" y="7"/>
                    </a:lnTo>
                    <a:cubicBezTo>
                      <a:pt x="16546" y="7"/>
                      <a:pt x="16545" y="6"/>
                      <a:pt x="16545" y="5"/>
                    </a:cubicBezTo>
                    <a:cubicBezTo>
                      <a:pt x="16545" y="4"/>
                      <a:pt x="16546" y="3"/>
                      <a:pt x="16547" y="3"/>
                    </a:cubicBezTo>
                    <a:close/>
                    <a:moveTo>
                      <a:pt x="16555" y="3"/>
                    </a:moveTo>
                    <a:lnTo>
                      <a:pt x="16555" y="3"/>
                    </a:lnTo>
                    <a:cubicBezTo>
                      <a:pt x="16556" y="3"/>
                      <a:pt x="16557" y="4"/>
                      <a:pt x="16557" y="5"/>
                    </a:cubicBezTo>
                    <a:cubicBezTo>
                      <a:pt x="16557" y="6"/>
                      <a:pt x="16556" y="7"/>
                      <a:pt x="16555" y="7"/>
                    </a:cubicBezTo>
                    <a:lnTo>
                      <a:pt x="16555" y="7"/>
                    </a:lnTo>
                    <a:cubicBezTo>
                      <a:pt x="16554" y="7"/>
                      <a:pt x="16553" y="6"/>
                      <a:pt x="16553" y="5"/>
                    </a:cubicBezTo>
                    <a:cubicBezTo>
                      <a:pt x="16553" y="4"/>
                      <a:pt x="16554" y="3"/>
                      <a:pt x="16555" y="3"/>
                    </a:cubicBezTo>
                    <a:close/>
                    <a:moveTo>
                      <a:pt x="16563" y="3"/>
                    </a:moveTo>
                    <a:lnTo>
                      <a:pt x="16563" y="3"/>
                    </a:lnTo>
                    <a:cubicBezTo>
                      <a:pt x="16564" y="3"/>
                      <a:pt x="16565" y="4"/>
                      <a:pt x="16565" y="5"/>
                    </a:cubicBezTo>
                    <a:cubicBezTo>
                      <a:pt x="16565" y="6"/>
                      <a:pt x="16564" y="7"/>
                      <a:pt x="16563" y="7"/>
                    </a:cubicBezTo>
                    <a:lnTo>
                      <a:pt x="16563" y="7"/>
                    </a:lnTo>
                    <a:cubicBezTo>
                      <a:pt x="16562" y="7"/>
                      <a:pt x="16561" y="6"/>
                      <a:pt x="16561" y="5"/>
                    </a:cubicBezTo>
                    <a:cubicBezTo>
                      <a:pt x="16561" y="4"/>
                      <a:pt x="16562" y="3"/>
                      <a:pt x="16563" y="3"/>
                    </a:cubicBezTo>
                    <a:close/>
                    <a:moveTo>
                      <a:pt x="16571" y="3"/>
                    </a:moveTo>
                    <a:lnTo>
                      <a:pt x="16571" y="3"/>
                    </a:lnTo>
                    <a:cubicBezTo>
                      <a:pt x="16572" y="3"/>
                      <a:pt x="16573" y="4"/>
                      <a:pt x="16573" y="5"/>
                    </a:cubicBezTo>
                    <a:cubicBezTo>
                      <a:pt x="16573" y="6"/>
                      <a:pt x="16572" y="7"/>
                      <a:pt x="16571" y="7"/>
                    </a:cubicBezTo>
                    <a:lnTo>
                      <a:pt x="16571" y="7"/>
                    </a:lnTo>
                    <a:cubicBezTo>
                      <a:pt x="16570" y="7"/>
                      <a:pt x="16569" y="6"/>
                      <a:pt x="16569" y="5"/>
                    </a:cubicBezTo>
                    <a:cubicBezTo>
                      <a:pt x="16569" y="4"/>
                      <a:pt x="16570" y="3"/>
                      <a:pt x="16571" y="3"/>
                    </a:cubicBezTo>
                    <a:close/>
                    <a:moveTo>
                      <a:pt x="16579" y="3"/>
                    </a:moveTo>
                    <a:lnTo>
                      <a:pt x="16579" y="3"/>
                    </a:lnTo>
                    <a:cubicBezTo>
                      <a:pt x="16580" y="3"/>
                      <a:pt x="16581" y="4"/>
                      <a:pt x="16581" y="5"/>
                    </a:cubicBezTo>
                    <a:cubicBezTo>
                      <a:pt x="16581" y="6"/>
                      <a:pt x="16580" y="7"/>
                      <a:pt x="16579" y="7"/>
                    </a:cubicBezTo>
                    <a:lnTo>
                      <a:pt x="16579" y="7"/>
                    </a:lnTo>
                    <a:cubicBezTo>
                      <a:pt x="16578" y="7"/>
                      <a:pt x="16577" y="6"/>
                      <a:pt x="16577" y="5"/>
                    </a:cubicBezTo>
                    <a:cubicBezTo>
                      <a:pt x="16577" y="4"/>
                      <a:pt x="16578" y="3"/>
                      <a:pt x="16579" y="3"/>
                    </a:cubicBezTo>
                    <a:close/>
                    <a:moveTo>
                      <a:pt x="16587" y="3"/>
                    </a:moveTo>
                    <a:lnTo>
                      <a:pt x="16587" y="3"/>
                    </a:lnTo>
                    <a:cubicBezTo>
                      <a:pt x="16588" y="3"/>
                      <a:pt x="16589" y="4"/>
                      <a:pt x="16589" y="5"/>
                    </a:cubicBezTo>
                    <a:cubicBezTo>
                      <a:pt x="16589" y="6"/>
                      <a:pt x="16588" y="7"/>
                      <a:pt x="16587" y="7"/>
                    </a:cubicBezTo>
                    <a:lnTo>
                      <a:pt x="16587" y="7"/>
                    </a:lnTo>
                    <a:cubicBezTo>
                      <a:pt x="16586" y="7"/>
                      <a:pt x="16585" y="6"/>
                      <a:pt x="16585" y="5"/>
                    </a:cubicBezTo>
                    <a:cubicBezTo>
                      <a:pt x="16585" y="4"/>
                      <a:pt x="16586" y="3"/>
                      <a:pt x="16587" y="3"/>
                    </a:cubicBezTo>
                    <a:close/>
                    <a:moveTo>
                      <a:pt x="16595" y="3"/>
                    </a:moveTo>
                    <a:lnTo>
                      <a:pt x="16595" y="3"/>
                    </a:lnTo>
                    <a:cubicBezTo>
                      <a:pt x="16596" y="3"/>
                      <a:pt x="16597" y="4"/>
                      <a:pt x="16597" y="5"/>
                    </a:cubicBezTo>
                    <a:cubicBezTo>
                      <a:pt x="16597" y="6"/>
                      <a:pt x="16596" y="7"/>
                      <a:pt x="16595" y="7"/>
                    </a:cubicBezTo>
                    <a:lnTo>
                      <a:pt x="16595" y="7"/>
                    </a:lnTo>
                    <a:cubicBezTo>
                      <a:pt x="16594" y="7"/>
                      <a:pt x="16593" y="6"/>
                      <a:pt x="16593" y="5"/>
                    </a:cubicBezTo>
                    <a:cubicBezTo>
                      <a:pt x="16593" y="4"/>
                      <a:pt x="16594" y="3"/>
                      <a:pt x="16595" y="3"/>
                    </a:cubicBezTo>
                    <a:close/>
                    <a:moveTo>
                      <a:pt x="16603" y="3"/>
                    </a:moveTo>
                    <a:lnTo>
                      <a:pt x="16603" y="3"/>
                    </a:lnTo>
                    <a:cubicBezTo>
                      <a:pt x="16604" y="3"/>
                      <a:pt x="16605" y="4"/>
                      <a:pt x="16605" y="5"/>
                    </a:cubicBezTo>
                    <a:cubicBezTo>
                      <a:pt x="16605" y="6"/>
                      <a:pt x="16604" y="7"/>
                      <a:pt x="16603" y="7"/>
                    </a:cubicBezTo>
                    <a:lnTo>
                      <a:pt x="16603" y="7"/>
                    </a:lnTo>
                    <a:cubicBezTo>
                      <a:pt x="16602" y="7"/>
                      <a:pt x="16601" y="6"/>
                      <a:pt x="16601" y="5"/>
                    </a:cubicBezTo>
                    <a:cubicBezTo>
                      <a:pt x="16601" y="4"/>
                      <a:pt x="16602" y="3"/>
                      <a:pt x="16603" y="3"/>
                    </a:cubicBezTo>
                    <a:close/>
                    <a:moveTo>
                      <a:pt x="16611" y="3"/>
                    </a:moveTo>
                    <a:lnTo>
                      <a:pt x="16611" y="3"/>
                    </a:lnTo>
                    <a:cubicBezTo>
                      <a:pt x="16612" y="3"/>
                      <a:pt x="16613" y="4"/>
                      <a:pt x="16613" y="5"/>
                    </a:cubicBezTo>
                    <a:cubicBezTo>
                      <a:pt x="16613" y="6"/>
                      <a:pt x="16612" y="7"/>
                      <a:pt x="16611" y="7"/>
                    </a:cubicBezTo>
                    <a:lnTo>
                      <a:pt x="16611" y="7"/>
                    </a:lnTo>
                    <a:cubicBezTo>
                      <a:pt x="16610" y="7"/>
                      <a:pt x="16609" y="6"/>
                      <a:pt x="16609" y="5"/>
                    </a:cubicBezTo>
                    <a:cubicBezTo>
                      <a:pt x="16609" y="4"/>
                      <a:pt x="16610" y="3"/>
                      <a:pt x="16611" y="3"/>
                    </a:cubicBezTo>
                    <a:close/>
                    <a:moveTo>
                      <a:pt x="16619" y="3"/>
                    </a:moveTo>
                    <a:lnTo>
                      <a:pt x="16619" y="3"/>
                    </a:lnTo>
                    <a:cubicBezTo>
                      <a:pt x="16620" y="3"/>
                      <a:pt x="16621" y="4"/>
                      <a:pt x="16621" y="5"/>
                    </a:cubicBezTo>
                    <a:cubicBezTo>
                      <a:pt x="16621" y="6"/>
                      <a:pt x="16620" y="7"/>
                      <a:pt x="16619" y="7"/>
                    </a:cubicBezTo>
                    <a:lnTo>
                      <a:pt x="16619" y="7"/>
                    </a:lnTo>
                    <a:cubicBezTo>
                      <a:pt x="16618" y="7"/>
                      <a:pt x="16617" y="6"/>
                      <a:pt x="16617" y="5"/>
                    </a:cubicBezTo>
                    <a:cubicBezTo>
                      <a:pt x="16617" y="4"/>
                      <a:pt x="16618" y="3"/>
                      <a:pt x="16619" y="3"/>
                    </a:cubicBezTo>
                    <a:close/>
                    <a:moveTo>
                      <a:pt x="16627" y="3"/>
                    </a:moveTo>
                    <a:lnTo>
                      <a:pt x="16627" y="3"/>
                    </a:lnTo>
                    <a:cubicBezTo>
                      <a:pt x="16628" y="3"/>
                      <a:pt x="16629" y="4"/>
                      <a:pt x="16629" y="5"/>
                    </a:cubicBezTo>
                    <a:cubicBezTo>
                      <a:pt x="16629" y="6"/>
                      <a:pt x="16628" y="7"/>
                      <a:pt x="16627" y="7"/>
                    </a:cubicBezTo>
                    <a:lnTo>
                      <a:pt x="16627" y="7"/>
                    </a:lnTo>
                    <a:cubicBezTo>
                      <a:pt x="16626" y="7"/>
                      <a:pt x="16625" y="6"/>
                      <a:pt x="16625" y="5"/>
                    </a:cubicBezTo>
                    <a:cubicBezTo>
                      <a:pt x="16625" y="4"/>
                      <a:pt x="16626" y="3"/>
                      <a:pt x="16627" y="3"/>
                    </a:cubicBezTo>
                    <a:close/>
                    <a:moveTo>
                      <a:pt x="16635" y="3"/>
                    </a:moveTo>
                    <a:lnTo>
                      <a:pt x="16635" y="3"/>
                    </a:lnTo>
                    <a:cubicBezTo>
                      <a:pt x="16636" y="3"/>
                      <a:pt x="16637" y="4"/>
                      <a:pt x="16637" y="5"/>
                    </a:cubicBezTo>
                    <a:cubicBezTo>
                      <a:pt x="16637" y="6"/>
                      <a:pt x="16636" y="7"/>
                      <a:pt x="16635" y="7"/>
                    </a:cubicBezTo>
                    <a:lnTo>
                      <a:pt x="16635" y="7"/>
                    </a:lnTo>
                    <a:cubicBezTo>
                      <a:pt x="16634" y="7"/>
                      <a:pt x="16633" y="6"/>
                      <a:pt x="16633" y="5"/>
                    </a:cubicBezTo>
                    <a:cubicBezTo>
                      <a:pt x="16633" y="4"/>
                      <a:pt x="16634" y="3"/>
                      <a:pt x="16635" y="3"/>
                    </a:cubicBezTo>
                    <a:close/>
                    <a:moveTo>
                      <a:pt x="16643" y="3"/>
                    </a:moveTo>
                    <a:lnTo>
                      <a:pt x="16643" y="3"/>
                    </a:lnTo>
                    <a:cubicBezTo>
                      <a:pt x="16644" y="3"/>
                      <a:pt x="16645" y="4"/>
                      <a:pt x="16645" y="5"/>
                    </a:cubicBezTo>
                    <a:cubicBezTo>
                      <a:pt x="16645" y="6"/>
                      <a:pt x="16644" y="7"/>
                      <a:pt x="16643" y="7"/>
                    </a:cubicBezTo>
                    <a:lnTo>
                      <a:pt x="16643" y="7"/>
                    </a:lnTo>
                    <a:cubicBezTo>
                      <a:pt x="16642" y="7"/>
                      <a:pt x="16641" y="6"/>
                      <a:pt x="16641" y="5"/>
                    </a:cubicBezTo>
                    <a:cubicBezTo>
                      <a:pt x="16641" y="4"/>
                      <a:pt x="16642" y="3"/>
                      <a:pt x="16643" y="3"/>
                    </a:cubicBezTo>
                    <a:close/>
                    <a:moveTo>
                      <a:pt x="16651" y="3"/>
                    </a:moveTo>
                    <a:lnTo>
                      <a:pt x="16651" y="3"/>
                    </a:lnTo>
                    <a:cubicBezTo>
                      <a:pt x="16652" y="3"/>
                      <a:pt x="16653" y="4"/>
                      <a:pt x="16653" y="5"/>
                    </a:cubicBezTo>
                    <a:cubicBezTo>
                      <a:pt x="16653" y="6"/>
                      <a:pt x="16652" y="7"/>
                      <a:pt x="16651" y="7"/>
                    </a:cubicBezTo>
                    <a:lnTo>
                      <a:pt x="16651" y="7"/>
                    </a:lnTo>
                    <a:cubicBezTo>
                      <a:pt x="16650" y="7"/>
                      <a:pt x="16649" y="6"/>
                      <a:pt x="16649" y="5"/>
                    </a:cubicBezTo>
                    <a:cubicBezTo>
                      <a:pt x="16649" y="4"/>
                      <a:pt x="16650" y="3"/>
                      <a:pt x="16651" y="3"/>
                    </a:cubicBezTo>
                    <a:close/>
                    <a:moveTo>
                      <a:pt x="16659" y="3"/>
                    </a:moveTo>
                    <a:lnTo>
                      <a:pt x="16659" y="3"/>
                    </a:lnTo>
                    <a:cubicBezTo>
                      <a:pt x="16660" y="3"/>
                      <a:pt x="16661" y="4"/>
                      <a:pt x="16661" y="5"/>
                    </a:cubicBezTo>
                    <a:cubicBezTo>
                      <a:pt x="16661" y="6"/>
                      <a:pt x="16660" y="7"/>
                      <a:pt x="16659" y="7"/>
                    </a:cubicBezTo>
                    <a:lnTo>
                      <a:pt x="16659" y="7"/>
                    </a:lnTo>
                    <a:cubicBezTo>
                      <a:pt x="16658" y="7"/>
                      <a:pt x="16657" y="6"/>
                      <a:pt x="16657" y="5"/>
                    </a:cubicBezTo>
                    <a:cubicBezTo>
                      <a:pt x="16657" y="4"/>
                      <a:pt x="16658" y="3"/>
                      <a:pt x="16659" y="3"/>
                    </a:cubicBezTo>
                    <a:close/>
                    <a:moveTo>
                      <a:pt x="16667" y="3"/>
                    </a:moveTo>
                    <a:lnTo>
                      <a:pt x="16667" y="3"/>
                    </a:lnTo>
                    <a:cubicBezTo>
                      <a:pt x="16668" y="3"/>
                      <a:pt x="16669" y="4"/>
                      <a:pt x="16669" y="5"/>
                    </a:cubicBezTo>
                    <a:cubicBezTo>
                      <a:pt x="16669" y="6"/>
                      <a:pt x="16668" y="7"/>
                      <a:pt x="16667" y="7"/>
                    </a:cubicBezTo>
                    <a:lnTo>
                      <a:pt x="16667" y="7"/>
                    </a:lnTo>
                    <a:cubicBezTo>
                      <a:pt x="16666" y="7"/>
                      <a:pt x="16665" y="6"/>
                      <a:pt x="16665" y="5"/>
                    </a:cubicBezTo>
                    <a:cubicBezTo>
                      <a:pt x="16665" y="4"/>
                      <a:pt x="16666" y="3"/>
                      <a:pt x="16667" y="3"/>
                    </a:cubicBezTo>
                    <a:close/>
                    <a:moveTo>
                      <a:pt x="16675" y="3"/>
                    </a:moveTo>
                    <a:lnTo>
                      <a:pt x="16675" y="3"/>
                    </a:lnTo>
                    <a:cubicBezTo>
                      <a:pt x="16676" y="3"/>
                      <a:pt x="16677" y="4"/>
                      <a:pt x="16677" y="5"/>
                    </a:cubicBezTo>
                    <a:cubicBezTo>
                      <a:pt x="16677" y="6"/>
                      <a:pt x="16676" y="7"/>
                      <a:pt x="16675" y="7"/>
                    </a:cubicBezTo>
                    <a:lnTo>
                      <a:pt x="16675" y="7"/>
                    </a:lnTo>
                    <a:cubicBezTo>
                      <a:pt x="16674" y="7"/>
                      <a:pt x="16673" y="6"/>
                      <a:pt x="16673" y="5"/>
                    </a:cubicBezTo>
                    <a:cubicBezTo>
                      <a:pt x="16673" y="4"/>
                      <a:pt x="16674" y="3"/>
                      <a:pt x="16675" y="3"/>
                    </a:cubicBezTo>
                    <a:close/>
                    <a:moveTo>
                      <a:pt x="16683" y="3"/>
                    </a:moveTo>
                    <a:lnTo>
                      <a:pt x="16683" y="3"/>
                    </a:lnTo>
                    <a:cubicBezTo>
                      <a:pt x="16684" y="3"/>
                      <a:pt x="16685" y="4"/>
                      <a:pt x="16685" y="5"/>
                    </a:cubicBezTo>
                    <a:cubicBezTo>
                      <a:pt x="16685" y="6"/>
                      <a:pt x="16684" y="7"/>
                      <a:pt x="16683" y="7"/>
                    </a:cubicBezTo>
                    <a:lnTo>
                      <a:pt x="16683" y="7"/>
                    </a:lnTo>
                    <a:cubicBezTo>
                      <a:pt x="16682" y="7"/>
                      <a:pt x="16681" y="6"/>
                      <a:pt x="16681" y="5"/>
                    </a:cubicBezTo>
                    <a:cubicBezTo>
                      <a:pt x="16681" y="4"/>
                      <a:pt x="16682" y="3"/>
                      <a:pt x="16683" y="3"/>
                    </a:cubicBezTo>
                    <a:close/>
                    <a:moveTo>
                      <a:pt x="16691" y="3"/>
                    </a:moveTo>
                    <a:lnTo>
                      <a:pt x="16691" y="3"/>
                    </a:lnTo>
                    <a:cubicBezTo>
                      <a:pt x="16692" y="3"/>
                      <a:pt x="16693" y="4"/>
                      <a:pt x="16693" y="5"/>
                    </a:cubicBezTo>
                    <a:cubicBezTo>
                      <a:pt x="16693" y="6"/>
                      <a:pt x="16692" y="7"/>
                      <a:pt x="16691" y="7"/>
                    </a:cubicBezTo>
                    <a:lnTo>
                      <a:pt x="16691" y="7"/>
                    </a:lnTo>
                    <a:cubicBezTo>
                      <a:pt x="16690" y="7"/>
                      <a:pt x="16689" y="6"/>
                      <a:pt x="16689" y="5"/>
                    </a:cubicBezTo>
                    <a:cubicBezTo>
                      <a:pt x="16689" y="4"/>
                      <a:pt x="16690" y="3"/>
                      <a:pt x="16691" y="3"/>
                    </a:cubicBezTo>
                    <a:close/>
                    <a:moveTo>
                      <a:pt x="16699" y="3"/>
                    </a:moveTo>
                    <a:lnTo>
                      <a:pt x="16699" y="3"/>
                    </a:lnTo>
                    <a:cubicBezTo>
                      <a:pt x="16700" y="3"/>
                      <a:pt x="16701" y="4"/>
                      <a:pt x="16701" y="5"/>
                    </a:cubicBezTo>
                    <a:cubicBezTo>
                      <a:pt x="16701" y="6"/>
                      <a:pt x="16700" y="7"/>
                      <a:pt x="16699" y="7"/>
                    </a:cubicBezTo>
                    <a:lnTo>
                      <a:pt x="16699" y="7"/>
                    </a:lnTo>
                    <a:cubicBezTo>
                      <a:pt x="16698" y="7"/>
                      <a:pt x="16697" y="6"/>
                      <a:pt x="16697" y="5"/>
                    </a:cubicBezTo>
                    <a:cubicBezTo>
                      <a:pt x="16697" y="4"/>
                      <a:pt x="16698" y="3"/>
                      <a:pt x="16699" y="3"/>
                    </a:cubicBezTo>
                    <a:close/>
                    <a:moveTo>
                      <a:pt x="16707" y="3"/>
                    </a:moveTo>
                    <a:lnTo>
                      <a:pt x="16707" y="3"/>
                    </a:lnTo>
                    <a:cubicBezTo>
                      <a:pt x="16708" y="3"/>
                      <a:pt x="16709" y="4"/>
                      <a:pt x="16709" y="5"/>
                    </a:cubicBezTo>
                    <a:cubicBezTo>
                      <a:pt x="16709" y="6"/>
                      <a:pt x="16708" y="7"/>
                      <a:pt x="16707" y="7"/>
                    </a:cubicBezTo>
                    <a:lnTo>
                      <a:pt x="16707" y="7"/>
                    </a:lnTo>
                    <a:cubicBezTo>
                      <a:pt x="16706" y="7"/>
                      <a:pt x="16705" y="6"/>
                      <a:pt x="16705" y="5"/>
                    </a:cubicBezTo>
                    <a:cubicBezTo>
                      <a:pt x="16705" y="4"/>
                      <a:pt x="16706" y="3"/>
                      <a:pt x="16707" y="3"/>
                    </a:cubicBezTo>
                    <a:close/>
                    <a:moveTo>
                      <a:pt x="16715" y="3"/>
                    </a:moveTo>
                    <a:lnTo>
                      <a:pt x="16715" y="3"/>
                    </a:lnTo>
                    <a:cubicBezTo>
                      <a:pt x="16716" y="3"/>
                      <a:pt x="16717" y="4"/>
                      <a:pt x="16717" y="5"/>
                    </a:cubicBezTo>
                    <a:cubicBezTo>
                      <a:pt x="16717" y="6"/>
                      <a:pt x="16716" y="7"/>
                      <a:pt x="16715" y="7"/>
                    </a:cubicBezTo>
                    <a:lnTo>
                      <a:pt x="16715" y="7"/>
                    </a:lnTo>
                    <a:cubicBezTo>
                      <a:pt x="16714" y="7"/>
                      <a:pt x="16713" y="6"/>
                      <a:pt x="16713" y="5"/>
                    </a:cubicBezTo>
                    <a:cubicBezTo>
                      <a:pt x="16713" y="4"/>
                      <a:pt x="16714" y="3"/>
                      <a:pt x="16715" y="3"/>
                    </a:cubicBezTo>
                    <a:close/>
                    <a:moveTo>
                      <a:pt x="16723" y="3"/>
                    </a:moveTo>
                    <a:lnTo>
                      <a:pt x="16723" y="3"/>
                    </a:lnTo>
                    <a:cubicBezTo>
                      <a:pt x="16724" y="3"/>
                      <a:pt x="16725" y="4"/>
                      <a:pt x="16725" y="5"/>
                    </a:cubicBezTo>
                    <a:cubicBezTo>
                      <a:pt x="16725" y="6"/>
                      <a:pt x="16724" y="7"/>
                      <a:pt x="16723" y="7"/>
                    </a:cubicBezTo>
                    <a:lnTo>
                      <a:pt x="16723" y="7"/>
                    </a:lnTo>
                    <a:cubicBezTo>
                      <a:pt x="16722" y="7"/>
                      <a:pt x="16721" y="6"/>
                      <a:pt x="16721" y="5"/>
                    </a:cubicBezTo>
                    <a:cubicBezTo>
                      <a:pt x="16721" y="4"/>
                      <a:pt x="16722" y="3"/>
                      <a:pt x="16723" y="3"/>
                    </a:cubicBezTo>
                    <a:close/>
                    <a:moveTo>
                      <a:pt x="16731" y="3"/>
                    </a:moveTo>
                    <a:lnTo>
                      <a:pt x="16731" y="3"/>
                    </a:lnTo>
                    <a:cubicBezTo>
                      <a:pt x="16732" y="3"/>
                      <a:pt x="16733" y="4"/>
                      <a:pt x="16733" y="5"/>
                    </a:cubicBezTo>
                    <a:cubicBezTo>
                      <a:pt x="16733" y="6"/>
                      <a:pt x="16732" y="7"/>
                      <a:pt x="16731" y="7"/>
                    </a:cubicBezTo>
                    <a:lnTo>
                      <a:pt x="16731" y="7"/>
                    </a:lnTo>
                    <a:cubicBezTo>
                      <a:pt x="16730" y="7"/>
                      <a:pt x="16729" y="6"/>
                      <a:pt x="16729" y="5"/>
                    </a:cubicBezTo>
                    <a:cubicBezTo>
                      <a:pt x="16729" y="4"/>
                      <a:pt x="16730" y="3"/>
                      <a:pt x="16731" y="3"/>
                    </a:cubicBezTo>
                    <a:close/>
                    <a:moveTo>
                      <a:pt x="16739" y="3"/>
                    </a:moveTo>
                    <a:lnTo>
                      <a:pt x="16739" y="3"/>
                    </a:lnTo>
                    <a:cubicBezTo>
                      <a:pt x="16740" y="3"/>
                      <a:pt x="16741" y="4"/>
                      <a:pt x="16741" y="5"/>
                    </a:cubicBezTo>
                    <a:cubicBezTo>
                      <a:pt x="16741" y="6"/>
                      <a:pt x="16740" y="7"/>
                      <a:pt x="16739" y="7"/>
                    </a:cubicBezTo>
                    <a:lnTo>
                      <a:pt x="16739" y="7"/>
                    </a:lnTo>
                    <a:cubicBezTo>
                      <a:pt x="16738" y="7"/>
                      <a:pt x="16737" y="6"/>
                      <a:pt x="16737" y="5"/>
                    </a:cubicBezTo>
                    <a:cubicBezTo>
                      <a:pt x="16737" y="4"/>
                      <a:pt x="16738" y="3"/>
                      <a:pt x="16739" y="3"/>
                    </a:cubicBezTo>
                    <a:close/>
                    <a:moveTo>
                      <a:pt x="16747" y="3"/>
                    </a:moveTo>
                    <a:lnTo>
                      <a:pt x="16747" y="3"/>
                    </a:lnTo>
                    <a:cubicBezTo>
                      <a:pt x="16748" y="3"/>
                      <a:pt x="16749" y="4"/>
                      <a:pt x="16749" y="5"/>
                    </a:cubicBezTo>
                    <a:cubicBezTo>
                      <a:pt x="16749" y="6"/>
                      <a:pt x="16748" y="7"/>
                      <a:pt x="16747" y="7"/>
                    </a:cubicBezTo>
                    <a:lnTo>
                      <a:pt x="16747" y="7"/>
                    </a:lnTo>
                    <a:cubicBezTo>
                      <a:pt x="16746" y="7"/>
                      <a:pt x="16745" y="6"/>
                      <a:pt x="16745" y="5"/>
                    </a:cubicBezTo>
                    <a:cubicBezTo>
                      <a:pt x="16745" y="4"/>
                      <a:pt x="16746" y="3"/>
                      <a:pt x="16747" y="3"/>
                    </a:cubicBezTo>
                    <a:close/>
                    <a:moveTo>
                      <a:pt x="16755" y="3"/>
                    </a:moveTo>
                    <a:lnTo>
                      <a:pt x="16755" y="3"/>
                    </a:lnTo>
                    <a:cubicBezTo>
                      <a:pt x="16756" y="3"/>
                      <a:pt x="16757" y="4"/>
                      <a:pt x="16757" y="5"/>
                    </a:cubicBezTo>
                    <a:cubicBezTo>
                      <a:pt x="16757" y="6"/>
                      <a:pt x="16756" y="7"/>
                      <a:pt x="16755" y="7"/>
                    </a:cubicBezTo>
                    <a:lnTo>
                      <a:pt x="16755" y="7"/>
                    </a:lnTo>
                    <a:cubicBezTo>
                      <a:pt x="16754" y="7"/>
                      <a:pt x="16753" y="6"/>
                      <a:pt x="16753" y="5"/>
                    </a:cubicBezTo>
                    <a:cubicBezTo>
                      <a:pt x="16753" y="4"/>
                      <a:pt x="16754" y="3"/>
                      <a:pt x="16755" y="3"/>
                    </a:cubicBezTo>
                    <a:close/>
                    <a:moveTo>
                      <a:pt x="16763" y="3"/>
                    </a:moveTo>
                    <a:lnTo>
                      <a:pt x="16763" y="3"/>
                    </a:lnTo>
                    <a:cubicBezTo>
                      <a:pt x="16764" y="3"/>
                      <a:pt x="16765" y="4"/>
                      <a:pt x="16765" y="5"/>
                    </a:cubicBezTo>
                    <a:cubicBezTo>
                      <a:pt x="16765" y="6"/>
                      <a:pt x="16764" y="7"/>
                      <a:pt x="16763" y="7"/>
                    </a:cubicBezTo>
                    <a:lnTo>
                      <a:pt x="16763" y="7"/>
                    </a:lnTo>
                    <a:cubicBezTo>
                      <a:pt x="16762" y="7"/>
                      <a:pt x="16761" y="6"/>
                      <a:pt x="16761" y="5"/>
                    </a:cubicBezTo>
                    <a:cubicBezTo>
                      <a:pt x="16761" y="4"/>
                      <a:pt x="16762" y="3"/>
                      <a:pt x="16763" y="3"/>
                    </a:cubicBezTo>
                    <a:close/>
                    <a:moveTo>
                      <a:pt x="16771" y="3"/>
                    </a:moveTo>
                    <a:lnTo>
                      <a:pt x="16771" y="3"/>
                    </a:lnTo>
                    <a:cubicBezTo>
                      <a:pt x="16772" y="3"/>
                      <a:pt x="16773" y="4"/>
                      <a:pt x="16773" y="5"/>
                    </a:cubicBezTo>
                    <a:cubicBezTo>
                      <a:pt x="16773" y="6"/>
                      <a:pt x="16772" y="7"/>
                      <a:pt x="16771" y="7"/>
                    </a:cubicBezTo>
                    <a:lnTo>
                      <a:pt x="16771" y="7"/>
                    </a:lnTo>
                    <a:cubicBezTo>
                      <a:pt x="16770" y="7"/>
                      <a:pt x="16769" y="6"/>
                      <a:pt x="16769" y="5"/>
                    </a:cubicBezTo>
                    <a:cubicBezTo>
                      <a:pt x="16769" y="4"/>
                      <a:pt x="16770" y="3"/>
                      <a:pt x="16771" y="3"/>
                    </a:cubicBezTo>
                    <a:close/>
                    <a:moveTo>
                      <a:pt x="16779" y="3"/>
                    </a:moveTo>
                    <a:lnTo>
                      <a:pt x="16779" y="3"/>
                    </a:lnTo>
                    <a:cubicBezTo>
                      <a:pt x="16780" y="3"/>
                      <a:pt x="16781" y="4"/>
                      <a:pt x="16781" y="5"/>
                    </a:cubicBezTo>
                    <a:cubicBezTo>
                      <a:pt x="16781" y="6"/>
                      <a:pt x="16780" y="7"/>
                      <a:pt x="16779" y="7"/>
                    </a:cubicBezTo>
                    <a:lnTo>
                      <a:pt x="16779" y="7"/>
                    </a:lnTo>
                    <a:cubicBezTo>
                      <a:pt x="16778" y="7"/>
                      <a:pt x="16777" y="6"/>
                      <a:pt x="16777" y="5"/>
                    </a:cubicBezTo>
                    <a:cubicBezTo>
                      <a:pt x="16777" y="4"/>
                      <a:pt x="16778" y="3"/>
                      <a:pt x="16779" y="3"/>
                    </a:cubicBezTo>
                    <a:close/>
                    <a:moveTo>
                      <a:pt x="16787" y="3"/>
                    </a:moveTo>
                    <a:lnTo>
                      <a:pt x="16787" y="3"/>
                    </a:lnTo>
                    <a:cubicBezTo>
                      <a:pt x="16788" y="3"/>
                      <a:pt x="16789" y="4"/>
                      <a:pt x="16789" y="5"/>
                    </a:cubicBezTo>
                    <a:cubicBezTo>
                      <a:pt x="16789" y="6"/>
                      <a:pt x="16788" y="7"/>
                      <a:pt x="16787" y="7"/>
                    </a:cubicBezTo>
                    <a:lnTo>
                      <a:pt x="16787" y="7"/>
                    </a:lnTo>
                    <a:cubicBezTo>
                      <a:pt x="16786" y="7"/>
                      <a:pt x="16785" y="6"/>
                      <a:pt x="16785" y="5"/>
                    </a:cubicBezTo>
                    <a:cubicBezTo>
                      <a:pt x="16785" y="4"/>
                      <a:pt x="16786" y="3"/>
                      <a:pt x="16787" y="3"/>
                    </a:cubicBezTo>
                    <a:close/>
                    <a:moveTo>
                      <a:pt x="16795" y="3"/>
                    </a:moveTo>
                    <a:lnTo>
                      <a:pt x="16795" y="3"/>
                    </a:lnTo>
                    <a:cubicBezTo>
                      <a:pt x="16796" y="3"/>
                      <a:pt x="16797" y="4"/>
                      <a:pt x="16797" y="5"/>
                    </a:cubicBezTo>
                    <a:cubicBezTo>
                      <a:pt x="16797" y="6"/>
                      <a:pt x="16796" y="7"/>
                      <a:pt x="16795" y="7"/>
                    </a:cubicBezTo>
                    <a:lnTo>
                      <a:pt x="16795" y="7"/>
                    </a:lnTo>
                    <a:cubicBezTo>
                      <a:pt x="16794" y="7"/>
                      <a:pt x="16793" y="6"/>
                      <a:pt x="16793" y="5"/>
                    </a:cubicBezTo>
                    <a:cubicBezTo>
                      <a:pt x="16793" y="4"/>
                      <a:pt x="16794" y="3"/>
                      <a:pt x="16795" y="3"/>
                    </a:cubicBezTo>
                    <a:close/>
                    <a:moveTo>
                      <a:pt x="16803" y="3"/>
                    </a:moveTo>
                    <a:lnTo>
                      <a:pt x="16803" y="3"/>
                    </a:lnTo>
                    <a:cubicBezTo>
                      <a:pt x="16804" y="3"/>
                      <a:pt x="16805" y="4"/>
                      <a:pt x="16805" y="5"/>
                    </a:cubicBezTo>
                    <a:cubicBezTo>
                      <a:pt x="16805" y="6"/>
                      <a:pt x="16804" y="7"/>
                      <a:pt x="16803" y="7"/>
                    </a:cubicBezTo>
                    <a:lnTo>
                      <a:pt x="16803" y="7"/>
                    </a:lnTo>
                    <a:cubicBezTo>
                      <a:pt x="16802" y="7"/>
                      <a:pt x="16801" y="6"/>
                      <a:pt x="16801" y="5"/>
                    </a:cubicBezTo>
                    <a:cubicBezTo>
                      <a:pt x="16801" y="4"/>
                      <a:pt x="16802" y="3"/>
                      <a:pt x="16803" y="3"/>
                    </a:cubicBezTo>
                    <a:close/>
                    <a:moveTo>
                      <a:pt x="16811" y="3"/>
                    </a:moveTo>
                    <a:lnTo>
                      <a:pt x="16811" y="3"/>
                    </a:lnTo>
                    <a:cubicBezTo>
                      <a:pt x="16812" y="3"/>
                      <a:pt x="16813" y="4"/>
                      <a:pt x="16813" y="5"/>
                    </a:cubicBezTo>
                    <a:cubicBezTo>
                      <a:pt x="16813" y="6"/>
                      <a:pt x="16812" y="7"/>
                      <a:pt x="16811" y="7"/>
                    </a:cubicBezTo>
                    <a:lnTo>
                      <a:pt x="16811" y="7"/>
                    </a:lnTo>
                    <a:cubicBezTo>
                      <a:pt x="16810" y="7"/>
                      <a:pt x="16809" y="6"/>
                      <a:pt x="16809" y="5"/>
                    </a:cubicBezTo>
                    <a:cubicBezTo>
                      <a:pt x="16809" y="4"/>
                      <a:pt x="16810" y="3"/>
                      <a:pt x="16811" y="3"/>
                    </a:cubicBezTo>
                    <a:close/>
                    <a:moveTo>
                      <a:pt x="16819" y="3"/>
                    </a:moveTo>
                    <a:lnTo>
                      <a:pt x="16819" y="3"/>
                    </a:lnTo>
                    <a:cubicBezTo>
                      <a:pt x="16820" y="3"/>
                      <a:pt x="16821" y="4"/>
                      <a:pt x="16821" y="5"/>
                    </a:cubicBezTo>
                    <a:cubicBezTo>
                      <a:pt x="16821" y="6"/>
                      <a:pt x="16820" y="7"/>
                      <a:pt x="16819" y="7"/>
                    </a:cubicBezTo>
                    <a:lnTo>
                      <a:pt x="16819" y="7"/>
                    </a:lnTo>
                    <a:cubicBezTo>
                      <a:pt x="16818" y="7"/>
                      <a:pt x="16817" y="6"/>
                      <a:pt x="16817" y="5"/>
                    </a:cubicBezTo>
                    <a:cubicBezTo>
                      <a:pt x="16817" y="4"/>
                      <a:pt x="16818" y="3"/>
                      <a:pt x="16819" y="3"/>
                    </a:cubicBezTo>
                    <a:close/>
                    <a:moveTo>
                      <a:pt x="16827" y="3"/>
                    </a:moveTo>
                    <a:lnTo>
                      <a:pt x="16827" y="3"/>
                    </a:lnTo>
                    <a:cubicBezTo>
                      <a:pt x="16828" y="3"/>
                      <a:pt x="16829" y="4"/>
                      <a:pt x="16829" y="5"/>
                    </a:cubicBezTo>
                    <a:cubicBezTo>
                      <a:pt x="16829" y="6"/>
                      <a:pt x="16828" y="7"/>
                      <a:pt x="16827" y="7"/>
                    </a:cubicBezTo>
                    <a:lnTo>
                      <a:pt x="16827" y="7"/>
                    </a:lnTo>
                    <a:cubicBezTo>
                      <a:pt x="16826" y="7"/>
                      <a:pt x="16825" y="6"/>
                      <a:pt x="16825" y="5"/>
                    </a:cubicBezTo>
                    <a:cubicBezTo>
                      <a:pt x="16825" y="4"/>
                      <a:pt x="16826" y="3"/>
                      <a:pt x="16827" y="3"/>
                    </a:cubicBezTo>
                    <a:close/>
                    <a:moveTo>
                      <a:pt x="16835" y="3"/>
                    </a:moveTo>
                    <a:lnTo>
                      <a:pt x="16835" y="3"/>
                    </a:lnTo>
                    <a:cubicBezTo>
                      <a:pt x="16836" y="3"/>
                      <a:pt x="16837" y="4"/>
                      <a:pt x="16837" y="5"/>
                    </a:cubicBezTo>
                    <a:cubicBezTo>
                      <a:pt x="16837" y="6"/>
                      <a:pt x="16836" y="7"/>
                      <a:pt x="16835" y="7"/>
                    </a:cubicBezTo>
                    <a:lnTo>
                      <a:pt x="16835" y="7"/>
                    </a:lnTo>
                    <a:cubicBezTo>
                      <a:pt x="16834" y="7"/>
                      <a:pt x="16833" y="6"/>
                      <a:pt x="16833" y="5"/>
                    </a:cubicBezTo>
                    <a:cubicBezTo>
                      <a:pt x="16833" y="4"/>
                      <a:pt x="16834" y="3"/>
                      <a:pt x="16835" y="3"/>
                    </a:cubicBezTo>
                    <a:close/>
                    <a:moveTo>
                      <a:pt x="16843" y="3"/>
                    </a:moveTo>
                    <a:lnTo>
                      <a:pt x="16843" y="3"/>
                    </a:lnTo>
                    <a:cubicBezTo>
                      <a:pt x="16844" y="3"/>
                      <a:pt x="16845" y="4"/>
                      <a:pt x="16845" y="5"/>
                    </a:cubicBezTo>
                    <a:cubicBezTo>
                      <a:pt x="16845" y="6"/>
                      <a:pt x="16844" y="7"/>
                      <a:pt x="16843" y="7"/>
                    </a:cubicBezTo>
                    <a:lnTo>
                      <a:pt x="16843" y="7"/>
                    </a:lnTo>
                    <a:cubicBezTo>
                      <a:pt x="16842" y="7"/>
                      <a:pt x="16841" y="6"/>
                      <a:pt x="16841" y="5"/>
                    </a:cubicBezTo>
                    <a:cubicBezTo>
                      <a:pt x="16841" y="4"/>
                      <a:pt x="16842" y="3"/>
                      <a:pt x="16843" y="3"/>
                    </a:cubicBezTo>
                    <a:close/>
                    <a:moveTo>
                      <a:pt x="16851" y="3"/>
                    </a:moveTo>
                    <a:lnTo>
                      <a:pt x="16851" y="3"/>
                    </a:lnTo>
                    <a:cubicBezTo>
                      <a:pt x="16852" y="3"/>
                      <a:pt x="16853" y="4"/>
                      <a:pt x="16853" y="5"/>
                    </a:cubicBezTo>
                    <a:cubicBezTo>
                      <a:pt x="16853" y="6"/>
                      <a:pt x="16852" y="7"/>
                      <a:pt x="16851" y="7"/>
                    </a:cubicBezTo>
                    <a:lnTo>
                      <a:pt x="16851" y="7"/>
                    </a:lnTo>
                    <a:cubicBezTo>
                      <a:pt x="16850" y="7"/>
                      <a:pt x="16849" y="6"/>
                      <a:pt x="16849" y="5"/>
                    </a:cubicBezTo>
                    <a:cubicBezTo>
                      <a:pt x="16849" y="4"/>
                      <a:pt x="16850" y="3"/>
                      <a:pt x="16851" y="3"/>
                    </a:cubicBezTo>
                    <a:close/>
                    <a:moveTo>
                      <a:pt x="16859" y="3"/>
                    </a:moveTo>
                    <a:lnTo>
                      <a:pt x="16859" y="3"/>
                    </a:lnTo>
                    <a:cubicBezTo>
                      <a:pt x="16860" y="3"/>
                      <a:pt x="16861" y="4"/>
                      <a:pt x="16861" y="5"/>
                    </a:cubicBezTo>
                    <a:cubicBezTo>
                      <a:pt x="16861" y="7"/>
                      <a:pt x="16860" y="7"/>
                      <a:pt x="16859" y="7"/>
                    </a:cubicBezTo>
                    <a:lnTo>
                      <a:pt x="16859" y="7"/>
                    </a:lnTo>
                    <a:cubicBezTo>
                      <a:pt x="16858" y="7"/>
                      <a:pt x="16857" y="7"/>
                      <a:pt x="16857" y="5"/>
                    </a:cubicBezTo>
                    <a:cubicBezTo>
                      <a:pt x="16857" y="4"/>
                      <a:pt x="16858" y="3"/>
                      <a:pt x="16859" y="3"/>
                    </a:cubicBezTo>
                    <a:close/>
                    <a:moveTo>
                      <a:pt x="16867" y="3"/>
                    </a:moveTo>
                    <a:lnTo>
                      <a:pt x="16867" y="3"/>
                    </a:lnTo>
                    <a:cubicBezTo>
                      <a:pt x="16868" y="3"/>
                      <a:pt x="16869" y="4"/>
                      <a:pt x="16869" y="5"/>
                    </a:cubicBezTo>
                    <a:cubicBezTo>
                      <a:pt x="16869" y="7"/>
                      <a:pt x="16868" y="7"/>
                      <a:pt x="16867" y="7"/>
                    </a:cubicBezTo>
                    <a:lnTo>
                      <a:pt x="16867" y="7"/>
                    </a:lnTo>
                    <a:cubicBezTo>
                      <a:pt x="16866" y="7"/>
                      <a:pt x="16865" y="7"/>
                      <a:pt x="16865" y="5"/>
                    </a:cubicBezTo>
                    <a:cubicBezTo>
                      <a:pt x="16865" y="4"/>
                      <a:pt x="16866" y="3"/>
                      <a:pt x="16867" y="3"/>
                    </a:cubicBezTo>
                    <a:close/>
                    <a:moveTo>
                      <a:pt x="16875" y="3"/>
                    </a:moveTo>
                    <a:lnTo>
                      <a:pt x="16875" y="3"/>
                    </a:lnTo>
                    <a:cubicBezTo>
                      <a:pt x="16876" y="3"/>
                      <a:pt x="16877" y="4"/>
                      <a:pt x="16877" y="5"/>
                    </a:cubicBezTo>
                    <a:cubicBezTo>
                      <a:pt x="16877" y="7"/>
                      <a:pt x="16876" y="7"/>
                      <a:pt x="16875" y="7"/>
                    </a:cubicBezTo>
                    <a:lnTo>
                      <a:pt x="16875" y="7"/>
                    </a:lnTo>
                    <a:cubicBezTo>
                      <a:pt x="16874" y="7"/>
                      <a:pt x="16873" y="7"/>
                      <a:pt x="16873" y="5"/>
                    </a:cubicBezTo>
                    <a:cubicBezTo>
                      <a:pt x="16873" y="4"/>
                      <a:pt x="16874" y="3"/>
                      <a:pt x="16875" y="3"/>
                    </a:cubicBezTo>
                    <a:close/>
                    <a:moveTo>
                      <a:pt x="16883" y="3"/>
                    </a:moveTo>
                    <a:lnTo>
                      <a:pt x="16883" y="3"/>
                    </a:lnTo>
                    <a:cubicBezTo>
                      <a:pt x="16884" y="3"/>
                      <a:pt x="16885" y="4"/>
                      <a:pt x="16885" y="5"/>
                    </a:cubicBezTo>
                    <a:cubicBezTo>
                      <a:pt x="16885" y="7"/>
                      <a:pt x="16884" y="7"/>
                      <a:pt x="16883" y="7"/>
                    </a:cubicBezTo>
                    <a:lnTo>
                      <a:pt x="16883" y="7"/>
                    </a:lnTo>
                    <a:cubicBezTo>
                      <a:pt x="16882" y="7"/>
                      <a:pt x="16881" y="7"/>
                      <a:pt x="16881" y="5"/>
                    </a:cubicBezTo>
                    <a:cubicBezTo>
                      <a:pt x="16881" y="4"/>
                      <a:pt x="16882" y="3"/>
                      <a:pt x="16883" y="3"/>
                    </a:cubicBezTo>
                    <a:close/>
                    <a:moveTo>
                      <a:pt x="16891" y="3"/>
                    </a:moveTo>
                    <a:lnTo>
                      <a:pt x="16891" y="3"/>
                    </a:lnTo>
                    <a:cubicBezTo>
                      <a:pt x="16892" y="3"/>
                      <a:pt x="16893" y="4"/>
                      <a:pt x="16893" y="5"/>
                    </a:cubicBezTo>
                    <a:cubicBezTo>
                      <a:pt x="16893" y="7"/>
                      <a:pt x="16892" y="7"/>
                      <a:pt x="16891" y="7"/>
                    </a:cubicBezTo>
                    <a:lnTo>
                      <a:pt x="16891" y="7"/>
                    </a:lnTo>
                    <a:cubicBezTo>
                      <a:pt x="16890" y="7"/>
                      <a:pt x="16889" y="7"/>
                      <a:pt x="16889" y="5"/>
                    </a:cubicBezTo>
                    <a:cubicBezTo>
                      <a:pt x="16889" y="4"/>
                      <a:pt x="16890" y="3"/>
                      <a:pt x="16891" y="3"/>
                    </a:cubicBezTo>
                    <a:close/>
                    <a:moveTo>
                      <a:pt x="16899" y="3"/>
                    </a:moveTo>
                    <a:lnTo>
                      <a:pt x="16899" y="3"/>
                    </a:lnTo>
                    <a:cubicBezTo>
                      <a:pt x="16901" y="3"/>
                      <a:pt x="16901" y="4"/>
                      <a:pt x="16901" y="5"/>
                    </a:cubicBezTo>
                    <a:cubicBezTo>
                      <a:pt x="16901" y="7"/>
                      <a:pt x="16901" y="7"/>
                      <a:pt x="16899" y="7"/>
                    </a:cubicBezTo>
                    <a:lnTo>
                      <a:pt x="16899" y="7"/>
                    </a:lnTo>
                    <a:cubicBezTo>
                      <a:pt x="16898" y="7"/>
                      <a:pt x="16897" y="7"/>
                      <a:pt x="16897" y="5"/>
                    </a:cubicBezTo>
                    <a:cubicBezTo>
                      <a:pt x="16897" y="4"/>
                      <a:pt x="16898" y="3"/>
                      <a:pt x="16899" y="3"/>
                    </a:cubicBezTo>
                    <a:close/>
                    <a:moveTo>
                      <a:pt x="16907" y="3"/>
                    </a:moveTo>
                    <a:lnTo>
                      <a:pt x="16907" y="3"/>
                    </a:lnTo>
                    <a:cubicBezTo>
                      <a:pt x="16909" y="3"/>
                      <a:pt x="16909" y="4"/>
                      <a:pt x="16909" y="5"/>
                    </a:cubicBezTo>
                    <a:cubicBezTo>
                      <a:pt x="16909" y="7"/>
                      <a:pt x="16909" y="7"/>
                      <a:pt x="16907" y="7"/>
                    </a:cubicBezTo>
                    <a:lnTo>
                      <a:pt x="16907" y="7"/>
                    </a:lnTo>
                    <a:cubicBezTo>
                      <a:pt x="16906" y="7"/>
                      <a:pt x="16905" y="7"/>
                      <a:pt x="16905" y="5"/>
                    </a:cubicBezTo>
                    <a:cubicBezTo>
                      <a:pt x="16905" y="4"/>
                      <a:pt x="16906" y="3"/>
                      <a:pt x="16907" y="3"/>
                    </a:cubicBezTo>
                    <a:close/>
                    <a:moveTo>
                      <a:pt x="16915" y="3"/>
                    </a:moveTo>
                    <a:lnTo>
                      <a:pt x="16915" y="3"/>
                    </a:lnTo>
                    <a:cubicBezTo>
                      <a:pt x="16917" y="3"/>
                      <a:pt x="16917" y="4"/>
                      <a:pt x="16917" y="5"/>
                    </a:cubicBezTo>
                    <a:cubicBezTo>
                      <a:pt x="16917" y="7"/>
                      <a:pt x="16917" y="7"/>
                      <a:pt x="16915" y="7"/>
                    </a:cubicBezTo>
                    <a:lnTo>
                      <a:pt x="16915" y="7"/>
                    </a:lnTo>
                    <a:cubicBezTo>
                      <a:pt x="16914" y="7"/>
                      <a:pt x="16913" y="7"/>
                      <a:pt x="16913" y="5"/>
                    </a:cubicBezTo>
                    <a:cubicBezTo>
                      <a:pt x="16913" y="4"/>
                      <a:pt x="16914" y="3"/>
                      <a:pt x="16915" y="3"/>
                    </a:cubicBezTo>
                    <a:close/>
                    <a:moveTo>
                      <a:pt x="16923" y="3"/>
                    </a:moveTo>
                    <a:lnTo>
                      <a:pt x="16923" y="3"/>
                    </a:lnTo>
                    <a:cubicBezTo>
                      <a:pt x="16925" y="3"/>
                      <a:pt x="16925" y="4"/>
                      <a:pt x="16925" y="5"/>
                    </a:cubicBezTo>
                    <a:cubicBezTo>
                      <a:pt x="16925" y="7"/>
                      <a:pt x="16925" y="7"/>
                      <a:pt x="16923" y="7"/>
                    </a:cubicBezTo>
                    <a:lnTo>
                      <a:pt x="16923" y="7"/>
                    </a:lnTo>
                    <a:cubicBezTo>
                      <a:pt x="16922" y="7"/>
                      <a:pt x="16921" y="7"/>
                      <a:pt x="16921" y="5"/>
                    </a:cubicBezTo>
                    <a:cubicBezTo>
                      <a:pt x="16921" y="4"/>
                      <a:pt x="16922" y="3"/>
                      <a:pt x="16923" y="3"/>
                    </a:cubicBezTo>
                    <a:close/>
                    <a:moveTo>
                      <a:pt x="16931" y="3"/>
                    </a:moveTo>
                    <a:lnTo>
                      <a:pt x="16931" y="3"/>
                    </a:lnTo>
                    <a:cubicBezTo>
                      <a:pt x="16933" y="3"/>
                      <a:pt x="16933" y="4"/>
                      <a:pt x="16933" y="5"/>
                    </a:cubicBezTo>
                    <a:cubicBezTo>
                      <a:pt x="16933" y="7"/>
                      <a:pt x="16933" y="7"/>
                      <a:pt x="16931" y="7"/>
                    </a:cubicBezTo>
                    <a:lnTo>
                      <a:pt x="16931" y="7"/>
                    </a:lnTo>
                    <a:cubicBezTo>
                      <a:pt x="16930" y="7"/>
                      <a:pt x="16929" y="7"/>
                      <a:pt x="16929" y="5"/>
                    </a:cubicBezTo>
                    <a:cubicBezTo>
                      <a:pt x="16929" y="4"/>
                      <a:pt x="16930" y="3"/>
                      <a:pt x="16931" y="3"/>
                    </a:cubicBezTo>
                    <a:close/>
                    <a:moveTo>
                      <a:pt x="16939" y="3"/>
                    </a:moveTo>
                    <a:lnTo>
                      <a:pt x="16939" y="3"/>
                    </a:lnTo>
                    <a:cubicBezTo>
                      <a:pt x="16941" y="3"/>
                      <a:pt x="16941" y="4"/>
                      <a:pt x="16941" y="5"/>
                    </a:cubicBezTo>
                    <a:cubicBezTo>
                      <a:pt x="16941" y="7"/>
                      <a:pt x="16941" y="7"/>
                      <a:pt x="16939" y="7"/>
                    </a:cubicBezTo>
                    <a:lnTo>
                      <a:pt x="16939" y="7"/>
                    </a:lnTo>
                    <a:cubicBezTo>
                      <a:pt x="16938" y="7"/>
                      <a:pt x="16937" y="7"/>
                      <a:pt x="16937" y="5"/>
                    </a:cubicBezTo>
                    <a:cubicBezTo>
                      <a:pt x="16937" y="4"/>
                      <a:pt x="16938" y="3"/>
                      <a:pt x="16939" y="3"/>
                    </a:cubicBezTo>
                    <a:close/>
                    <a:moveTo>
                      <a:pt x="16947" y="3"/>
                    </a:moveTo>
                    <a:lnTo>
                      <a:pt x="16947" y="3"/>
                    </a:lnTo>
                    <a:cubicBezTo>
                      <a:pt x="16949" y="3"/>
                      <a:pt x="16949" y="4"/>
                      <a:pt x="16949" y="5"/>
                    </a:cubicBezTo>
                    <a:cubicBezTo>
                      <a:pt x="16949" y="7"/>
                      <a:pt x="16949" y="7"/>
                      <a:pt x="16947" y="7"/>
                    </a:cubicBezTo>
                    <a:lnTo>
                      <a:pt x="16947" y="7"/>
                    </a:lnTo>
                    <a:cubicBezTo>
                      <a:pt x="16946" y="7"/>
                      <a:pt x="16945" y="7"/>
                      <a:pt x="16945" y="5"/>
                    </a:cubicBezTo>
                    <a:cubicBezTo>
                      <a:pt x="16945" y="4"/>
                      <a:pt x="16946" y="3"/>
                      <a:pt x="16947" y="3"/>
                    </a:cubicBezTo>
                    <a:close/>
                    <a:moveTo>
                      <a:pt x="16955" y="3"/>
                    </a:moveTo>
                    <a:lnTo>
                      <a:pt x="16955" y="3"/>
                    </a:lnTo>
                    <a:cubicBezTo>
                      <a:pt x="16957" y="3"/>
                      <a:pt x="16957" y="4"/>
                      <a:pt x="16957" y="5"/>
                    </a:cubicBezTo>
                    <a:cubicBezTo>
                      <a:pt x="16957" y="7"/>
                      <a:pt x="16957" y="7"/>
                      <a:pt x="16955" y="7"/>
                    </a:cubicBezTo>
                    <a:lnTo>
                      <a:pt x="16955" y="7"/>
                    </a:lnTo>
                    <a:cubicBezTo>
                      <a:pt x="16954" y="7"/>
                      <a:pt x="16953" y="7"/>
                      <a:pt x="16953" y="5"/>
                    </a:cubicBezTo>
                    <a:cubicBezTo>
                      <a:pt x="16953" y="4"/>
                      <a:pt x="16954" y="3"/>
                      <a:pt x="16955" y="3"/>
                    </a:cubicBezTo>
                    <a:close/>
                    <a:moveTo>
                      <a:pt x="16963" y="3"/>
                    </a:moveTo>
                    <a:lnTo>
                      <a:pt x="16963" y="3"/>
                    </a:lnTo>
                    <a:cubicBezTo>
                      <a:pt x="16965" y="3"/>
                      <a:pt x="16965" y="4"/>
                      <a:pt x="16965" y="5"/>
                    </a:cubicBezTo>
                    <a:cubicBezTo>
                      <a:pt x="16965" y="7"/>
                      <a:pt x="16965" y="7"/>
                      <a:pt x="16963" y="7"/>
                    </a:cubicBezTo>
                    <a:lnTo>
                      <a:pt x="16963" y="7"/>
                    </a:lnTo>
                    <a:cubicBezTo>
                      <a:pt x="16962" y="7"/>
                      <a:pt x="16961" y="7"/>
                      <a:pt x="16961" y="5"/>
                    </a:cubicBezTo>
                    <a:cubicBezTo>
                      <a:pt x="16961" y="4"/>
                      <a:pt x="16962" y="3"/>
                      <a:pt x="16963" y="3"/>
                    </a:cubicBezTo>
                    <a:close/>
                    <a:moveTo>
                      <a:pt x="16971" y="3"/>
                    </a:moveTo>
                    <a:lnTo>
                      <a:pt x="16971" y="3"/>
                    </a:lnTo>
                    <a:cubicBezTo>
                      <a:pt x="16973" y="3"/>
                      <a:pt x="16973" y="4"/>
                      <a:pt x="16973" y="5"/>
                    </a:cubicBezTo>
                    <a:cubicBezTo>
                      <a:pt x="16973" y="7"/>
                      <a:pt x="16973" y="7"/>
                      <a:pt x="16971" y="7"/>
                    </a:cubicBezTo>
                    <a:lnTo>
                      <a:pt x="16971" y="7"/>
                    </a:lnTo>
                    <a:cubicBezTo>
                      <a:pt x="16970" y="7"/>
                      <a:pt x="16969" y="7"/>
                      <a:pt x="16969" y="5"/>
                    </a:cubicBezTo>
                    <a:cubicBezTo>
                      <a:pt x="16969" y="4"/>
                      <a:pt x="16970" y="3"/>
                      <a:pt x="16971" y="3"/>
                    </a:cubicBezTo>
                    <a:close/>
                    <a:moveTo>
                      <a:pt x="16979" y="3"/>
                    </a:moveTo>
                    <a:lnTo>
                      <a:pt x="16979" y="3"/>
                    </a:lnTo>
                    <a:cubicBezTo>
                      <a:pt x="16981" y="3"/>
                      <a:pt x="16981" y="4"/>
                      <a:pt x="16981" y="5"/>
                    </a:cubicBezTo>
                    <a:cubicBezTo>
                      <a:pt x="16981" y="7"/>
                      <a:pt x="16981" y="7"/>
                      <a:pt x="16979" y="7"/>
                    </a:cubicBezTo>
                    <a:lnTo>
                      <a:pt x="16979" y="7"/>
                    </a:lnTo>
                    <a:cubicBezTo>
                      <a:pt x="16978" y="7"/>
                      <a:pt x="16977" y="7"/>
                      <a:pt x="16977" y="5"/>
                    </a:cubicBezTo>
                    <a:cubicBezTo>
                      <a:pt x="16977" y="4"/>
                      <a:pt x="16978" y="3"/>
                      <a:pt x="16979" y="3"/>
                    </a:cubicBezTo>
                    <a:close/>
                    <a:moveTo>
                      <a:pt x="16987" y="3"/>
                    </a:moveTo>
                    <a:lnTo>
                      <a:pt x="16987" y="3"/>
                    </a:lnTo>
                    <a:cubicBezTo>
                      <a:pt x="16989" y="3"/>
                      <a:pt x="16989" y="4"/>
                      <a:pt x="16989" y="5"/>
                    </a:cubicBezTo>
                    <a:cubicBezTo>
                      <a:pt x="16989" y="7"/>
                      <a:pt x="16989" y="7"/>
                      <a:pt x="16987" y="7"/>
                    </a:cubicBezTo>
                    <a:lnTo>
                      <a:pt x="16987" y="7"/>
                    </a:lnTo>
                    <a:cubicBezTo>
                      <a:pt x="16986" y="7"/>
                      <a:pt x="16985" y="7"/>
                      <a:pt x="16985" y="5"/>
                    </a:cubicBezTo>
                    <a:cubicBezTo>
                      <a:pt x="16985" y="4"/>
                      <a:pt x="16986" y="3"/>
                      <a:pt x="16987" y="3"/>
                    </a:cubicBezTo>
                    <a:close/>
                    <a:moveTo>
                      <a:pt x="16995" y="3"/>
                    </a:moveTo>
                    <a:lnTo>
                      <a:pt x="16995" y="3"/>
                    </a:lnTo>
                    <a:cubicBezTo>
                      <a:pt x="16997" y="3"/>
                      <a:pt x="16997" y="4"/>
                      <a:pt x="16997" y="5"/>
                    </a:cubicBezTo>
                    <a:cubicBezTo>
                      <a:pt x="16997" y="7"/>
                      <a:pt x="16997" y="7"/>
                      <a:pt x="16995" y="7"/>
                    </a:cubicBezTo>
                    <a:lnTo>
                      <a:pt x="16995" y="7"/>
                    </a:lnTo>
                    <a:cubicBezTo>
                      <a:pt x="16994" y="7"/>
                      <a:pt x="16993" y="7"/>
                      <a:pt x="16993" y="5"/>
                    </a:cubicBezTo>
                    <a:cubicBezTo>
                      <a:pt x="16993" y="4"/>
                      <a:pt x="16994" y="3"/>
                      <a:pt x="16995" y="3"/>
                    </a:cubicBezTo>
                    <a:close/>
                    <a:moveTo>
                      <a:pt x="17003" y="3"/>
                    </a:moveTo>
                    <a:lnTo>
                      <a:pt x="17003" y="3"/>
                    </a:lnTo>
                    <a:cubicBezTo>
                      <a:pt x="17005" y="3"/>
                      <a:pt x="17005" y="4"/>
                      <a:pt x="17005" y="5"/>
                    </a:cubicBezTo>
                    <a:cubicBezTo>
                      <a:pt x="17005" y="7"/>
                      <a:pt x="17005" y="7"/>
                      <a:pt x="17003" y="7"/>
                    </a:cubicBezTo>
                    <a:lnTo>
                      <a:pt x="17003" y="7"/>
                    </a:lnTo>
                    <a:cubicBezTo>
                      <a:pt x="17002" y="7"/>
                      <a:pt x="17001" y="7"/>
                      <a:pt x="17001" y="5"/>
                    </a:cubicBezTo>
                    <a:cubicBezTo>
                      <a:pt x="17001" y="4"/>
                      <a:pt x="17002" y="3"/>
                      <a:pt x="17003" y="3"/>
                    </a:cubicBezTo>
                    <a:close/>
                    <a:moveTo>
                      <a:pt x="17011" y="3"/>
                    </a:moveTo>
                    <a:lnTo>
                      <a:pt x="17011" y="3"/>
                    </a:lnTo>
                    <a:cubicBezTo>
                      <a:pt x="17013" y="3"/>
                      <a:pt x="17013" y="4"/>
                      <a:pt x="17013" y="5"/>
                    </a:cubicBezTo>
                    <a:cubicBezTo>
                      <a:pt x="17013" y="7"/>
                      <a:pt x="17013" y="7"/>
                      <a:pt x="17011" y="7"/>
                    </a:cubicBezTo>
                    <a:lnTo>
                      <a:pt x="17011" y="7"/>
                    </a:lnTo>
                    <a:cubicBezTo>
                      <a:pt x="17010" y="7"/>
                      <a:pt x="17009" y="7"/>
                      <a:pt x="17009" y="5"/>
                    </a:cubicBezTo>
                    <a:cubicBezTo>
                      <a:pt x="17009" y="4"/>
                      <a:pt x="17010" y="3"/>
                      <a:pt x="17011" y="3"/>
                    </a:cubicBezTo>
                    <a:close/>
                    <a:moveTo>
                      <a:pt x="17019" y="3"/>
                    </a:moveTo>
                    <a:lnTo>
                      <a:pt x="17019" y="3"/>
                    </a:lnTo>
                    <a:cubicBezTo>
                      <a:pt x="17021" y="3"/>
                      <a:pt x="17021" y="4"/>
                      <a:pt x="17021" y="5"/>
                    </a:cubicBezTo>
                    <a:cubicBezTo>
                      <a:pt x="17021" y="7"/>
                      <a:pt x="17021" y="7"/>
                      <a:pt x="17019" y="7"/>
                    </a:cubicBezTo>
                    <a:lnTo>
                      <a:pt x="17019" y="7"/>
                    </a:lnTo>
                    <a:cubicBezTo>
                      <a:pt x="17018" y="7"/>
                      <a:pt x="17017" y="7"/>
                      <a:pt x="17017" y="5"/>
                    </a:cubicBezTo>
                    <a:cubicBezTo>
                      <a:pt x="17017" y="4"/>
                      <a:pt x="17018" y="3"/>
                      <a:pt x="17019" y="3"/>
                    </a:cubicBezTo>
                    <a:close/>
                    <a:moveTo>
                      <a:pt x="17027" y="3"/>
                    </a:moveTo>
                    <a:lnTo>
                      <a:pt x="17027" y="3"/>
                    </a:lnTo>
                    <a:cubicBezTo>
                      <a:pt x="17029" y="3"/>
                      <a:pt x="17029" y="4"/>
                      <a:pt x="17029" y="5"/>
                    </a:cubicBezTo>
                    <a:cubicBezTo>
                      <a:pt x="17029" y="7"/>
                      <a:pt x="17029" y="7"/>
                      <a:pt x="17027" y="7"/>
                    </a:cubicBezTo>
                    <a:lnTo>
                      <a:pt x="17027" y="7"/>
                    </a:lnTo>
                    <a:cubicBezTo>
                      <a:pt x="17026" y="7"/>
                      <a:pt x="17025" y="7"/>
                      <a:pt x="17025" y="5"/>
                    </a:cubicBezTo>
                    <a:cubicBezTo>
                      <a:pt x="17025" y="4"/>
                      <a:pt x="17026" y="3"/>
                      <a:pt x="17027" y="3"/>
                    </a:cubicBezTo>
                    <a:close/>
                    <a:moveTo>
                      <a:pt x="17035" y="3"/>
                    </a:moveTo>
                    <a:lnTo>
                      <a:pt x="17035" y="3"/>
                    </a:lnTo>
                    <a:cubicBezTo>
                      <a:pt x="17037" y="3"/>
                      <a:pt x="17037" y="4"/>
                      <a:pt x="17037" y="5"/>
                    </a:cubicBezTo>
                    <a:cubicBezTo>
                      <a:pt x="17037" y="7"/>
                      <a:pt x="17037" y="7"/>
                      <a:pt x="17035" y="7"/>
                    </a:cubicBezTo>
                    <a:lnTo>
                      <a:pt x="17035" y="7"/>
                    </a:lnTo>
                    <a:cubicBezTo>
                      <a:pt x="17034" y="7"/>
                      <a:pt x="17033" y="7"/>
                      <a:pt x="17033" y="5"/>
                    </a:cubicBezTo>
                    <a:cubicBezTo>
                      <a:pt x="17033" y="4"/>
                      <a:pt x="17034" y="3"/>
                      <a:pt x="17035" y="3"/>
                    </a:cubicBezTo>
                    <a:close/>
                    <a:moveTo>
                      <a:pt x="17044" y="3"/>
                    </a:moveTo>
                    <a:lnTo>
                      <a:pt x="17044" y="3"/>
                    </a:lnTo>
                    <a:cubicBezTo>
                      <a:pt x="17045" y="3"/>
                      <a:pt x="17046" y="4"/>
                      <a:pt x="17046" y="5"/>
                    </a:cubicBezTo>
                    <a:cubicBezTo>
                      <a:pt x="17046" y="7"/>
                      <a:pt x="17045" y="7"/>
                      <a:pt x="17044" y="7"/>
                    </a:cubicBezTo>
                    <a:lnTo>
                      <a:pt x="17044" y="7"/>
                    </a:lnTo>
                    <a:cubicBezTo>
                      <a:pt x="17042" y="7"/>
                      <a:pt x="17041" y="7"/>
                      <a:pt x="17041" y="5"/>
                    </a:cubicBezTo>
                    <a:cubicBezTo>
                      <a:pt x="17041" y="4"/>
                      <a:pt x="17042" y="3"/>
                      <a:pt x="17044" y="3"/>
                    </a:cubicBezTo>
                    <a:close/>
                    <a:moveTo>
                      <a:pt x="17052" y="3"/>
                    </a:moveTo>
                    <a:lnTo>
                      <a:pt x="17052" y="3"/>
                    </a:lnTo>
                    <a:cubicBezTo>
                      <a:pt x="17053" y="3"/>
                      <a:pt x="17054" y="4"/>
                      <a:pt x="17054" y="5"/>
                    </a:cubicBezTo>
                    <a:cubicBezTo>
                      <a:pt x="17054" y="7"/>
                      <a:pt x="17053" y="7"/>
                      <a:pt x="17052" y="7"/>
                    </a:cubicBezTo>
                    <a:lnTo>
                      <a:pt x="17052" y="7"/>
                    </a:lnTo>
                    <a:cubicBezTo>
                      <a:pt x="17050" y="7"/>
                      <a:pt x="17050" y="7"/>
                      <a:pt x="17050" y="5"/>
                    </a:cubicBezTo>
                    <a:cubicBezTo>
                      <a:pt x="17050" y="4"/>
                      <a:pt x="17050" y="3"/>
                      <a:pt x="17052" y="3"/>
                    </a:cubicBezTo>
                    <a:close/>
                    <a:moveTo>
                      <a:pt x="17060" y="3"/>
                    </a:moveTo>
                    <a:lnTo>
                      <a:pt x="17060" y="3"/>
                    </a:lnTo>
                    <a:cubicBezTo>
                      <a:pt x="17061" y="3"/>
                      <a:pt x="17062" y="4"/>
                      <a:pt x="17062" y="5"/>
                    </a:cubicBezTo>
                    <a:cubicBezTo>
                      <a:pt x="17062" y="7"/>
                      <a:pt x="17061" y="7"/>
                      <a:pt x="17060" y="7"/>
                    </a:cubicBezTo>
                    <a:lnTo>
                      <a:pt x="17060" y="7"/>
                    </a:lnTo>
                    <a:cubicBezTo>
                      <a:pt x="17058" y="7"/>
                      <a:pt x="17058" y="7"/>
                      <a:pt x="17058" y="5"/>
                    </a:cubicBezTo>
                    <a:cubicBezTo>
                      <a:pt x="17058" y="4"/>
                      <a:pt x="17058" y="3"/>
                      <a:pt x="17060" y="3"/>
                    </a:cubicBezTo>
                    <a:close/>
                    <a:moveTo>
                      <a:pt x="17068" y="3"/>
                    </a:moveTo>
                    <a:lnTo>
                      <a:pt x="17068" y="3"/>
                    </a:lnTo>
                    <a:cubicBezTo>
                      <a:pt x="17069" y="3"/>
                      <a:pt x="17070" y="4"/>
                      <a:pt x="17070" y="5"/>
                    </a:cubicBezTo>
                    <a:cubicBezTo>
                      <a:pt x="17070" y="7"/>
                      <a:pt x="17069" y="7"/>
                      <a:pt x="17068" y="7"/>
                    </a:cubicBezTo>
                    <a:lnTo>
                      <a:pt x="17068" y="7"/>
                    </a:lnTo>
                    <a:cubicBezTo>
                      <a:pt x="17066" y="7"/>
                      <a:pt x="17066" y="7"/>
                      <a:pt x="17066" y="5"/>
                    </a:cubicBezTo>
                    <a:cubicBezTo>
                      <a:pt x="17066" y="4"/>
                      <a:pt x="17066" y="3"/>
                      <a:pt x="17068" y="3"/>
                    </a:cubicBezTo>
                    <a:close/>
                    <a:moveTo>
                      <a:pt x="17076" y="3"/>
                    </a:moveTo>
                    <a:lnTo>
                      <a:pt x="17076" y="3"/>
                    </a:lnTo>
                    <a:cubicBezTo>
                      <a:pt x="17077" y="3"/>
                      <a:pt x="17078" y="4"/>
                      <a:pt x="17078" y="5"/>
                    </a:cubicBezTo>
                    <a:cubicBezTo>
                      <a:pt x="17078" y="7"/>
                      <a:pt x="17077" y="7"/>
                      <a:pt x="17076" y="7"/>
                    </a:cubicBezTo>
                    <a:lnTo>
                      <a:pt x="17076" y="7"/>
                    </a:lnTo>
                    <a:cubicBezTo>
                      <a:pt x="17074" y="7"/>
                      <a:pt x="17074" y="7"/>
                      <a:pt x="17074" y="5"/>
                    </a:cubicBezTo>
                    <a:cubicBezTo>
                      <a:pt x="17074" y="4"/>
                      <a:pt x="17074" y="3"/>
                      <a:pt x="17076" y="3"/>
                    </a:cubicBezTo>
                    <a:close/>
                    <a:moveTo>
                      <a:pt x="17084" y="3"/>
                    </a:moveTo>
                    <a:lnTo>
                      <a:pt x="17084" y="3"/>
                    </a:lnTo>
                    <a:cubicBezTo>
                      <a:pt x="17085" y="3"/>
                      <a:pt x="17086" y="4"/>
                      <a:pt x="17086" y="5"/>
                    </a:cubicBezTo>
                    <a:cubicBezTo>
                      <a:pt x="17086" y="7"/>
                      <a:pt x="17085" y="7"/>
                      <a:pt x="17084" y="7"/>
                    </a:cubicBezTo>
                    <a:lnTo>
                      <a:pt x="17084" y="7"/>
                    </a:lnTo>
                    <a:cubicBezTo>
                      <a:pt x="17082" y="7"/>
                      <a:pt x="17082" y="7"/>
                      <a:pt x="17082" y="5"/>
                    </a:cubicBezTo>
                    <a:cubicBezTo>
                      <a:pt x="17082" y="4"/>
                      <a:pt x="17082" y="3"/>
                      <a:pt x="17084" y="3"/>
                    </a:cubicBezTo>
                    <a:close/>
                    <a:moveTo>
                      <a:pt x="17092" y="3"/>
                    </a:moveTo>
                    <a:lnTo>
                      <a:pt x="17092" y="3"/>
                    </a:lnTo>
                    <a:cubicBezTo>
                      <a:pt x="17093" y="3"/>
                      <a:pt x="17094" y="4"/>
                      <a:pt x="17094" y="5"/>
                    </a:cubicBezTo>
                    <a:cubicBezTo>
                      <a:pt x="17094" y="7"/>
                      <a:pt x="17093" y="7"/>
                      <a:pt x="17092" y="7"/>
                    </a:cubicBezTo>
                    <a:lnTo>
                      <a:pt x="17092" y="7"/>
                    </a:lnTo>
                    <a:cubicBezTo>
                      <a:pt x="17090" y="7"/>
                      <a:pt x="17090" y="7"/>
                      <a:pt x="17090" y="5"/>
                    </a:cubicBezTo>
                    <a:cubicBezTo>
                      <a:pt x="17090" y="4"/>
                      <a:pt x="17090" y="3"/>
                      <a:pt x="17092" y="3"/>
                    </a:cubicBezTo>
                    <a:close/>
                    <a:moveTo>
                      <a:pt x="17100" y="3"/>
                    </a:moveTo>
                    <a:lnTo>
                      <a:pt x="17100" y="3"/>
                    </a:lnTo>
                    <a:cubicBezTo>
                      <a:pt x="17101" y="3"/>
                      <a:pt x="17102" y="4"/>
                      <a:pt x="17102" y="5"/>
                    </a:cubicBezTo>
                    <a:cubicBezTo>
                      <a:pt x="17102" y="7"/>
                      <a:pt x="17101" y="7"/>
                      <a:pt x="17100" y="7"/>
                    </a:cubicBezTo>
                    <a:lnTo>
                      <a:pt x="17100" y="7"/>
                    </a:lnTo>
                    <a:cubicBezTo>
                      <a:pt x="17098" y="7"/>
                      <a:pt x="17098" y="7"/>
                      <a:pt x="17098" y="5"/>
                    </a:cubicBezTo>
                    <a:cubicBezTo>
                      <a:pt x="17098" y="4"/>
                      <a:pt x="17098" y="3"/>
                      <a:pt x="17100" y="3"/>
                    </a:cubicBezTo>
                    <a:close/>
                    <a:moveTo>
                      <a:pt x="17108" y="3"/>
                    </a:moveTo>
                    <a:lnTo>
                      <a:pt x="17108" y="3"/>
                    </a:lnTo>
                    <a:cubicBezTo>
                      <a:pt x="17109" y="3"/>
                      <a:pt x="17110" y="4"/>
                      <a:pt x="17110" y="5"/>
                    </a:cubicBezTo>
                    <a:cubicBezTo>
                      <a:pt x="17110" y="7"/>
                      <a:pt x="17109" y="7"/>
                      <a:pt x="17108" y="7"/>
                    </a:cubicBezTo>
                    <a:lnTo>
                      <a:pt x="17108" y="7"/>
                    </a:lnTo>
                    <a:cubicBezTo>
                      <a:pt x="17106" y="7"/>
                      <a:pt x="17106" y="7"/>
                      <a:pt x="17106" y="5"/>
                    </a:cubicBezTo>
                    <a:cubicBezTo>
                      <a:pt x="17106" y="4"/>
                      <a:pt x="17106" y="3"/>
                      <a:pt x="17108" y="3"/>
                    </a:cubicBezTo>
                    <a:close/>
                    <a:moveTo>
                      <a:pt x="17116" y="3"/>
                    </a:moveTo>
                    <a:lnTo>
                      <a:pt x="17116" y="3"/>
                    </a:lnTo>
                    <a:cubicBezTo>
                      <a:pt x="17117" y="3"/>
                      <a:pt x="17118" y="4"/>
                      <a:pt x="17118" y="5"/>
                    </a:cubicBezTo>
                    <a:cubicBezTo>
                      <a:pt x="17118" y="7"/>
                      <a:pt x="17117" y="7"/>
                      <a:pt x="17116" y="7"/>
                    </a:cubicBezTo>
                    <a:lnTo>
                      <a:pt x="17116" y="7"/>
                    </a:lnTo>
                    <a:cubicBezTo>
                      <a:pt x="17114" y="7"/>
                      <a:pt x="17114" y="7"/>
                      <a:pt x="17114" y="5"/>
                    </a:cubicBezTo>
                    <a:cubicBezTo>
                      <a:pt x="17114" y="4"/>
                      <a:pt x="17114" y="3"/>
                      <a:pt x="17116" y="3"/>
                    </a:cubicBezTo>
                    <a:close/>
                    <a:moveTo>
                      <a:pt x="17124" y="3"/>
                    </a:moveTo>
                    <a:lnTo>
                      <a:pt x="17124" y="3"/>
                    </a:lnTo>
                    <a:cubicBezTo>
                      <a:pt x="17125" y="3"/>
                      <a:pt x="17126" y="4"/>
                      <a:pt x="17126" y="5"/>
                    </a:cubicBezTo>
                    <a:cubicBezTo>
                      <a:pt x="17126" y="7"/>
                      <a:pt x="17125" y="7"/>
                      <a:pt x="17124" y="7"/>
                    </a:cubicBezTo>
                    <a:lnTo>
                      <a:pt x="17124" y="7"/>
                    </a:lnTo>
                    <a:cubicBezTo>
                      <a:pt x="17122" y="7"/>
                      <a:pt x="17122" y="7"/>
                      <a:pt x="17122" y="5"/>
                    </a:cubicBezTo>
                    <a:cubicBezTo>
                      <a:pt x="17122" y="4"/>
                      <a:pt x="17122" y="3"/>
                      <a:pt x="17124" y="3"/>
                    </a:cubicBezTo>
                    <a:close/>
                    <a:moveTo>
                      <a:pt x="17132" y="3"/>
                    </a:moveTo>
                    <a:lnTo>
                      <a:pt x="17132" y="3"/>
                    </a:lnTo>
                    <a:cubicBezTo>
                      <a:pt x="17133" y="3"/>
                      <a:pt x="17134" y="4"/>
                      <a:pt x="17134" y="5"/>
                    </a:cubicBezTo>
                    <a:cubicBezTo>
                      <a:pt x="17134" y="7"/>
                      <a:pt x="17133" y="7"/>
                      <a:pt x="17132" y="7"/>
                    </a:cubicBezTo>
                    <a:lnTo>
                      <a:pt x="17132" y="7"/>
                    </a:lnTo>
                    <a:cubicBezTo>
                      <a:pt x="17130" y="7"/>
                      <a:pt x="17130" y="7"/>
                      <a:pt x="17130" y="5"/>
                    </a:cubicBezTo>
                    <a:cubicBezTo>
                      <a:pt x="17130" y="4"/>
                      <a:pt x="17130" y="3"/>
                      <a:pt x="17132" y="3"/>
                    </a:cubicBezTo>
                    <a:close/>
                    <a:moveTo>
                      <a:pt x="17140" y="3"/>
                    </a:moveTo>
                    <a:lnTo>
                      <a:pt x="17140" y="3"/>
                    </a:lnTo>
                    <a:cubicBezTo>
                      <a:pt x="17141" y="3"/>
                      <a:pt x="17142" y="4"/>
                      <a:pt x="17142" y="5"/>
                    </a:cubicBezTo>
                    <a:cubicBezTo>
                      <a:pt x="17142" y="7"/>
                      <a:pt x="17141" y="7"/>
                      <a:pt x="17140" y="7"/>
                    </a:cubicBezTo>
                    <a:lnTo>
                      <a:pt x="17140" y="7"/>
                    </a:lnTo>
                    <a:cubicBezTo>
                      <a:pt x="17138" y="7"/>
                      <a:pt x="17138" y="7"/>
                      <a:pt x="17138" y="5"/>
                    </a:cubicBezTo>
                    <a:cubicBezTo>
                      <a:pt x="17138" y="4"/>
                      <a:pt x="17138" y="3"/>
                      <a:pt x="17140" y="3"/>
                    </a:cubicBezTo>
                    <a:close/>
                    <a:moveTo>
                      <a:pt x="17148" y="3"/>
                    </a:moveTo>
                    <a:lnTo>
                      <a:pt x="17148" y="3"/>
                    </a:lnTo>
                    <a:cubicBezTo>
                      <a:pt x="17149" y="3"/>
                      <a:pt x="17150" y="4"/>
                      <a:pt x="17150" y="5"/>
                    </a:cubicBezTo>
                    <a:cubicBezTo>
                      <a:pt x="17150" y="7"/>
                      <a:pt x="17149" y="7"/>
                      <a:pt x="17148" y="7"/>
                    </a:cubicBezTo>
                    <a:lnTo>
                      <a:pt x="17148" y="7"/>
                    </a:lnTo>
                    <a:cubicBezTo>
                      <a:pt x="17146" y="7"/>
                      <a:pt x="17146" y="7"/>
                      <a:pt x="17146" y="5"/>
                    </a:cubicBezTo>
                    <a:cubicBezTo>
                      <a:pt x="17146" y="4"/>
                      <a:pt x="17146" y="3"/>
                      <a:pt x="17148" y="3"/>
                    </a:cubicBezTo>
                    <a:close/>
                    <a:moveTo>
                      <a:pt x="17156" y="3"/>
                    </a:moveTo>
                    <a:lnTo>
                      <a:pt x="17156" y="3"/>
                    </a:lnTo>
                    <a:cubicBezTo>
                      <a:pt x="17157" y="3"/>
                      <a:pt x="17158" y="4"/>
                      <a:pt x="17158" y="5"/>
                    </a:cubicBezTo>
                    <a:cubicBezTo>
                      <a:pt x="17158" y="7"/>
                      <a:pt x="17157" y="7"/>
                      <a:pt x="17156" y="7"/>
                    </a:cubicBezTo>
                    <a:lnTo>
                      <a:pt x="17156" y="7"/>
                    </a:lnTo>
                    <a:cubicBezTo>
                      <a:pt x="17154" y="7"/>
                      <a:pt x="17154" y="7"/>
                      <a:pt x="17154" y="5"/>
                    </a:cubicBezTo>
                    <a:cubicBezTo>
                      <a:pt x="17154" y="4"/>
                      <a:pt x="17154" y="3"/>
                      <a:pt x="17156" y="3"/>
                    </a:cubicBezTo>
                    <a:close/>
                    <a:moveTo>
                      <a:pt x="17164" y="3"/>
                    </a:moveTo>
                    <a:lnTo>
                      <a:pt x="17164" y="3"/>
                    </a:lnTo>
                    <a:cubicBezTo>
                      <a:pt x="17165" y="3"/>
                      <a:pt x="17166" y="4"/>
                      <a:pt x="17166" y="5"/>
                    </a:cubicBezTo>
                    <a:cubicBezTo>
                      <a:pt x="17166" y="7"/>
                      <a:pt x="17165" y="7"/>
                      <a:pt x="17164" y="7"/>
                    </a:cubicBezTo>
                    <a:lnTo>
                      <a:pt x="17164" y="7"/>
                    </a:lnTo>
                    <a:cubicBezTo>
                      <a:pt x="17162" y="7"/>
                      <a:pt x="17162" y="7"/>
                      <a:pt x="17162" y="5"/>
                    </a:cubicBezTo>
                    <a:cubicBezTo>
                      <a:pt x="17162" y="4"/>
                      <a:pt x="17162" y="3"/>
                      <a:pt x="17164" y="3"/>
                    </a:cubicBezTo>
                    <a:close/>
                    <a:moveTo>
                      <a:pt x="17172" y="3"/>
                    </a:moveTo>
                    <a:lnTo>
                      <a:pt x="17172" y="3"/>
                    </a:lnTo>
                    <a:cubicBezTo>
                      <a:pt x="17173" y="3"/>
                      <a:pt x="17174" y="4"/>
                      <a:pt x="17174" y="5"/>
                    </a:cubicBezTo>
                    <a:cubicBezTo>
                      <a:pt x="17174" y="7"/>
                      <a:pt x="17173" y="7"/>
                      <a:pt x="17172" y="7"/>
                    </a:cubicBezTo>
                    <a:lnTo>
                      <a:pt x="17172" y="7"/>
                    </a:lnTo>
                    <a:cubicBezTo>
                      <a:pt x="17170" y="7"/>
                      <a:pt x="17170" y="7"/>
                      <a:pt x="17170" y="5"/>
                    </a:cubicBezTo>
                    <a:cubicBezTo>
                      <a:pt x="17170" y="4"/>
                      <a:pt x="17170" y="3"/>
                      <a:pt x="17172" y="3"/>
                    </a:cubicBezTo>
                    <a:close/>
                    <a:moveTo>
                      <a:pt x="17180" y="3"/>
                    </a:moveTo>
                    <a:lnTo>
                      <a:pt x="17180" y="3"/>
                    </a:lnTo>
                    <a:cubicBezTo>
                      <a:pt x="17181" y="3"/>
                      <a:pt x="17182" y="4"/>
                      <a:pt x="17182" y="5"/>
                    </a:cubicBezTo>
                    <a:cubicBezTo>
                      <a:pt x="17182" y="7"/>
                      <a:pt x="17181" y="7"/>
                      <a:pt x="17180" y="7"/>
                    </a:cubicBezTo>
                    <a:lnTo>
                      <a:pt x="17180" y="7"/>
                    </a:lnTo>
                    <a:cubicBezTo>
                      <a:pt x="17178" y="7"/>
                      <a:pt x="17178" y="7"/>
                      <a:pt x="17178" y="5"/>
                    </a:cubicBezTo>
                    <a:cubicBezTo>
                      <a:pt x="17178" y="4"/>
                      <a:pt x="17178" y="3"/>
                      <a:pt x="17180" y="3"/>
                    </a:cubicBezTo>
                    <a:close/>
                    <a:moveTo>
                      <a:pt x="17188" y="3"/>
                    </a:moveTo>
                    <a:lnTo>
                      <a:pt x="17188" y="3"/>
                    </a:lnTo>
                    <a:cubicBezTo>
                      <a:pt x="17189" y="3"/>
                      <a:pt x="17190" y="4"/>
                      <a:pt x="17190" y="5"/>
                    </a:cubicBezTo>
                    <a:cubicBezTo>
                      <a:pt x="17190" y="7"/>
                      <a:pt x="17189" y="7"/>
                      <a:pt x="17188" y="7"/>
                    </a:cubicBezTo>
                    <a:lnTo>
                      <a:pt x="17188" y="7"/>
                    </a:lnTo>
                    <a:cubicBezTo>
                      <a:pt x="17187" y="7"/>
                      <a:pt x="17186" y="7"/>
                      <a:pt x="17186" y="5"/>
                    </a:cubicBezTo>
                    <a:cubicBezTo>
                      <a:pt x="17186" y="4"/>
                      <a:pt x="17187" y="3"/>
                      <a:pt x="17188" y="3"/>
                    </a:cubicBezTo>
                    <a:close/>
                    <a:moveTo>
                      <a:pt x="17196" y="3"/>
                    </a:moveTo>
                    <a:lnTo>
                      <a:pt x="17196" y="3"/>
                    </a:lnTo>
                    <a:cubicBezTo>
                      <a:pt x="17197" y="3"/>
                      <a:pt x="17198" y="4"/>
                      <a:pt x="17198" y="5"/>
                    </a:cubicBezTo>
                    <a:cubicBezTo>
                      <a:pt x="17198" y="7"/>
                      <a:pt x="17197" y="7"/>
                      <a:pt x="17196" y="7"/>
                    </a:cubicBezTo>
                    <a:lnTo>
                      <a:pt x="17196" y="7"/>
                    </a:lnTo>
                    <a:cubicBezTo>
                      <a:pt x="17195" y="7"/>
                      <a:pt x="17194" y="7"/>
                      <a:pt x="17194" y="5"/>
                    </a:cubicBezTo>
                    <a:cubicBezTo>
                      <a:pt x="17194" y="4"/>
                      <a:pt x="17195" y="3"/>
                      <a:pt x="17196" y="3"/>
                    </a:cubicBezTo>
                    <a:close/>
                    <a:moveTo>
                      <a:pt x="17204" y="3"/>
                    </a:moveTo>
                    <a:lnTo>
                      <a:pt x="17204" y="3"/>
                    </a:lnTo>
                    <a:cubicBezTo>
                      <a:pt x="17205" y="3"/>
                      <a:pt x="17206" y="4"/>
                      <a:pt x="17206" y="5"/>
                    </a:cubicBezTo>
                    <a:cubicBezTo>
                      <a:pt x="17206" y="7"/>
                      <a:pt x="17205" y="7"/>
                      <a:pt x="17204" y="7"/>
                    </a:cubicBezTo>
                    <a:lnTo>
                      <a:pt x="17204" y="7"/>
                    </a:lnTo>
                    <a:cubicBezTo>
                      <a:pt x="17203" y="7"/>
                      <a:pt x="17202" y="7"/>
                      <a:pt x="17202" y="5"/>
                    </a:cubicBezTo>
                    <a:cubicBezTo>
                      <a:pt x="17202" y="4"/>
                      <a:pt x="17203" y="3"/>
                      <a:pt x="17204" y="3"/>
                    </a:cubicBezTo>
                    <a:close/>
                    <a:moveTo>
                      <a:pt x="17212" y="3"/>
                    </a:moveTo>
                    <a:lnTo>
                      <a:pt x="17212" y="3"/>
                    </a:lnTo>
                    <a:cubicBezTo>
                      <a:pt x="17213" y="3"/>
                      <a:pt x="17214" y="4"/>
                      <a:pt x="17214" y="5"/>
                    </a:cubicBezTo>
                    <a:cubicBezTo>
                      <a:pt x="17214" y="7"/>
                      <a:pt x="17213" y="7"/>
                      <a:pt x="17212" y="7"/>
                    </a:cubicBezTo>
                    <a:lnTo>
                      <a:pt x="17212" y="7"/>
                    </a:lnTo>
                    <a:cubicBezTo>
                      <a:pt x="17211" y="7"/>
                      <a:pt x="17210" y="7"/>
                      <a:pt x="17210" y="5"/>
                    </a:cubicBezTo>
                    <a:cubicBezTo>
                      <a:pt x="17210" y="4"/>
                      <a:pt x="17211" y="3"/>
                      <a:pt x="17212" y="3"/>
                    </a:cubicBezTo>
                    <a:close/>
                    <a:moveTo>
                      <a:pt x="17220" y="3"/>
                    </a:moveTo>
                    <a:lnTo>
                      <a:pt x="17220" y="3"/>
                    </a:lnTo>
                    <a:cubicBezTo>
                      <a:pt x="17221" y="3"/>
                      <a:pt x="17222" y="4"/>
                      <a:pt x="17222" y="5"/>
                    </a:cubicBezTo>
                    <a:cubicBezTo>
                      <a:pt x="17222" y="7"/>
                      <a:pt x="17221" y="7"/>
                      <a:pt x="17220" y="7"/>
                    </a:cubicBezTo>
                    <a:lnTo>
                      <a:pt x="17220" y="7"/>
                    </a:lnTo>
                    <a:cubicBezTo>
                      <a:pt x="17219" y="7"/>
                      <a:pt x="17218" y="7"/>
                      <a:pt x="17218" y="5"/>
                    </a:cubicBezTo>
                    <a:cubicBezTo>
                      <a:pt x="17218" y="4"/>
                      <a:pt x="17219" y="3"/>
                      <a:pt x="17220" y="3"/>
                    </a:cubicBezTo>
                    <a:close/>
                    <a:moveTo>
                      <a:pt x="17228" y="3"/>
                    </a:moveTo>
                    <a:lnTo>
                      <a:pt x="17228" y="3"/>
                    </a:lnTo>
                    <a:cubicBezTo>
                      <a:pt x="17229" y="3"/>
                      <a:pt x="17230" y="4"/>
                      <a:pt x="17230" y="5"/>
                    </a:cubicBezTo>
                    <a:cubicBezTo>
                      <a:pt x="17230" y="7"/>
                      <a:pt x="17229" y="7"/>
                      <a:pt x="17228" y="7"/>
                    </a:cubicBezTo>
                    <a:lnTo>
                      <a:pt x="17228" y="7"/>
                    </a:lnTo>
                    <a:cubicBezTo>
                      <a:pt x="17227" y="7"/>
                      <a:pt x="17226" y="7"/>
                      <a:pt x="17226" y="5"/>
                    </a:cubicBezTo>
                    <a:cubicBezTo>
                      <a:pt x="17226" y="4"/>
                      <a:pt x="17227" y="3"/>
                      <a:pt x="17228" y="3"/>
                    </a:cubicBezTo>
                    <a:close/>
                    <a:moveTo>
                      <a:pt x="17236" y="3"/>
                    </a:moveTo>
                    <a:lnTo>
                      <a:pt x="17236" y="3"/>
                    </a:lnTo>
                    <a:cubicBezTo>
                      <a:pt x="17237" y="3"/>
                      <a:pt x="17238" y="4"/>
                      <a:pt x="17238" y="5"/>
                    </a:cubicBezTo>
                    <a:cubicBezTo>
                      <a:pt x="17238" y="7"/>
                      <a:pt x="17237" y="7"/>
                      <a:pt x="17236" y="7"/>
                    </a:cubicBezTo>
                    <a:lnTo>
                      <a:pt x="17236" y="7"/>
                    </a:lnTo>
                    <a:cubicBezTo>
                      <a:pt x="17235" y="7"/>
                      <a:pt x="17234" y="7"/>
                      <a:pt x="17234" y="5"/>
                    </a:cubicBezTo>
                    <a:cubicBezTo>
                      <a:pt x="17234" y="4"/>
                      <a:pt x="17235" y="3"/>
                      <a:pt x="17236" y="3"/>
                    </a:cubicBezTo>
                    <a:close/>
                    <a:moveTo>
                      <a:pt x="17244" y="3"/>
                    </a:moveTo>
                    <a:lnTo>
                      <a:pt x="17244" y="3"/>
                    </a:lnTo>
                    <a:cubicBezTo>
                      <a:pt x="17245" y="3"/>
                      <a:pt x="17246" y="4"/>
                      <a:pt x="17246" y="5"/>
                    </a:cubicBezTo>
                    <a:cubicBezTo>
                      <a:pt x="17246" y="7"/>
                      <a:pt x="17245" y="7"/>
                      <a:pt x="17244" y="7"/>
                    </a:cubicBezTo>
                    <a:lnTo>
                      <a:pt x="17244" y="7"/>
                    </a:lnTo>
                    <a:cubicBezTo>
                      <a:pt x="17243" y="7"/>
                      <a:pt x="17242" y="7"/>
                      <a:pt x="17242" y="5"/>
                    </a:cubicBezTo>
                    <a:cubicBezTo>
                      <a:pt x="17242" y="4"/>
                      <a:pt x="17243" y="3"/>
                      <a:pt x="17244" y="3"/>
                    </a:cubicBezTo>
                    <a:close/>
                    <a:moveTo>
                      <a:pt x="17252" y="3"/>
                    </a:moveTo>
                    <a:lnTo>
                      <a:pt x="17252" y="3"/>
                    </a:lnTo>
                    <a:cubicBezTo>
                      <a:pt x="17253" y="3"/>
                      <a:pt x="17254" y="4"/>
                      <a:pt x="17254" y="5"/>
                    </a:cubicBezTo>
                    <a:cubicBezTo>
                      <a:pt x="17254" y="7"/>
                      <a:pt x="17253" y="7"/>
                      <a:pt x="17252" y="7"/>
                    </a:cubicBezTo>
                    <a:lnTo>
                      <a:pt x="17252" y="7"/>
                    </a:lnTo>
                    <a:cubicBezTo>
                      <a:pt x="17251" y="7"/>
                      <a:pt x="17250" y="7"/>
                      <a:pt x="17250" y="5"/>
                    </a:cubicBezTo>
                    <a:cubicBezTo>
                      <a:pt x="17250" y="4"/>
                      <a:pt x="17251" y="3"/>
                      <a:pt x="17252" y="3"/>
                    </a:cubicBezTo>
                    <a:close/>
                    <a:moveTo>
                      <a:pt x="17260" y="3"/>
                    </a:moveTo>
                    <a:lnTo>
                      <a:pt x="17260" y="3"/>
                    </a:lnTo>
                    <a:cubicBezTo>
                      <a:pt x="17261" y="3"/>
                      <a:pt x="17262" y="4"/>
                      <a:pt x="17262" y="5"/>
                    </a:cubicBezTo>
                    <a:cubicBezTo>
                      <a:pt x="17262" y="7"/>
                      <a:pt x="17261" y="7"/>
                      <a:pt x="17260" y="7"/>
                    </a:cubicBezTo>
                    <a:lnTo>
                      <a:pt x="17260" y="7"/>
                    </a:lnTo>
                    <a:cubicBezTo>
                      <a:pt x="17259" y="7"/>
                      <a:pt x="17258" y="7"/>
                      <a:pt x="17258" y="5"/>
                    </a:cubicBezTo>
                    <a:cubicBezTo>
                      <a:pt x="17258" y="4"/>
                      <a:pt x="17259" y="3"/>
                      <a:pt x="17260" y="3"/>
                    </a:cubicBezTo>
                    <a:close/>
                    <a:moveTo>
                      <a:pt x="17268" y="3"/>
                    </a:moveTo>
                    <a:lnTo>
                      <a:pt x="17268" y="3"/>
                    </a:lnTo>
                    <a:cubicBezTo>
                      <a:pt x="17269" y="3"/>
                      <a:pt x="17270" y="4"/>
                      <a:pt x="17270" y="5"/>
                    </a:cubicBezTo>
                    <a:cubicBezTo>
                      <a:pt x="17270" y="7"/>
                      <a:pt x="17269" y="7"/>
                      <a:pt x="17268" y="7"/>
                    </a:cubicBezTo>
                    <a:lnTo>
                      <a:pt x="17268" y="7"/>
                    </a:lnTo>
                    <a:cubicBezTo>
                      <a:pt x="17267" y="7"/>
                      <a:pt x="17266" y="7"/>
                      <a:pt x="17266" y="5"/>
                    </a:cubicBezTo>
                    <a:cubicBezTo>
                      <a:pt x="17266" y="4"/>
                      <a:pt x="17267" y="3"/>
                      <a:pt x="17268" y="3"/>
                    </a:cubicBezTo>
                    <a:close/>
                    <a:moveTo>
                      <a:pt x="17276" y="3"/>
                    </a:moveTo>
                    <a:lnTo>
                      <a:pt x="17276" y="3"/>
                    </a:lnTo>
                    <a:cubicBezTo>
                      <a:pt x="17277" y="3"/>
                      <a:pt x="17278" y="4"/>
                      <a:pt x="17278" y="5"/>
                    </a:cubicBezTo>
                    <a:cubicBezTo>
                      <a:pt x="17278" y="7"/>
                      <a:pt x="17277" y="7"/>
                      <a:pt x="17276" y="7"/>
                    </a:cubicBezTo>
                    <a:lnTo>
                      <a:pt x="17276" y="7"/>
                    </a:lnTo>
                    <a:cubicBezTo>
                      <a:pt x="17275" y="7"/>
                      <a:pt x="17274" y="7"/>
                      <a:pt x="17274" y="5"/>
                    </a:cubicBezTo>
                    <a:cubicBezTo>
                      <a:pt x="17274" y="4"/>
                      <a:pt x="17275" y="3"/>
                      <a:pt x="17276" y="3"/>
                    </a:cubicBezTo>
                    <a:close/>
                    <a:moveTo>
                      <a:pt x="17284" y="3"/>
                    </a:moveTo>
                    <a:lnTo>
                      <a:pt x="17284" y="3"/>
                    </a:lnTo>
                    <a:cubicBezTo>
                      <a:pt x="17285" y="3"/>
                      <a:pt x="17286" y="4"/>
                      <a:pt x="17286" y="5"/>
                    </a:cubicBezTo>
                    <a:cubicBezTo>
                      <a:pt x="17286" y="7"/>
                      <a:pt x="17285" y="7"/>
                      <a:pt x="17284" y="7"/>
                    </a:cubicBezTo>
                    <a:lnTo>
                      <a:pt x="17284" y="7"/>
                    </a:lnTo>
                    <a:cubicBezTo>
                      <a:pt x="17283" y="7"/>
                      <a:pt x="17282" y="7"/>
                      <a:pt x="17282" y="5"/>
                    </a:cubicBezTo>
                    <a:cubicBezTo>
                      <a:pt x="17282" y="4"/>
                      <a:pt x="17283" y="3"/>
                      <a:pt x="17284" y="3"/>
                    </a:cubicBezTo>
                    <a:close/>
                    <a:moveTo>
                      <a:pt x="17292" y="4"/>
                    </a:moveTo>
                    <a:lnTo>
                      <a:pt x="17292" y="4"/>
                    </a:lnTo>
                    <a:cubicBezTo>
                      <a:pt x="17293" y="4"/>
                      <a:pt x="17294" y="4"/>
                      <a:pt x="17294" y="6"/>
                    </a:cubicBezTo>
                    <a:cubicBezTo>
                      <a:pt x="17294" y="7"/>
                      <a:pt x="17293" y="8"/>
                      <a:pt x="17292" y="8"/>
                    </a:cubicBezTo>
                    <a:lnTo>
                      <a:pt x="17292" y="8"/>
                    </a:lnTo>
                    <a:cubicBezTo>
                      <a:pt x="17291" y="8"/>
                      <a:pt x="17290" y="7"/>
                      <a:pt x="17290" y="6"/>
                    </a:cubicBezTo>
                    <a:cubicBezTo>
                      <a:pt x="17290" y="4"/>
                      <a:pt x="17291" y="4"/>
                      <a:pt x="17292" y="4"/>
                    </a:cubicBezTo>
                    <a:close/>
                    <a:moveTo>
                      <a:pt x="17300" y="4"/>
                    </a:moveTo>
                    <a:lnTo>
                      <a:pt x="17300" y="4"/>
                    </a:lnTo>
                    <a:cubicBezTo>
                      <a:pt x="17301" y="4"/>
                      <a:pt x="17302" y="4"/>
                      <a:pt x="17302" y="6"/>
                    </a:cubicBezTo>
                    <a:cubicBezTo>
                      <a:pt x="17302" y="7"/>
                      <a:pt x="17301" y="8"/>
                      <a:pt x="17300" y="8"/>
                    </a:cubicBezTo>
                    <a:lnTo>
                      <a:pt x="17300" y="8"/>
                    </a:lnTo>
                    <a:cubicBezTo>
                      <a:pt x="17299" y="8"/>
                      <a:pt x="17298" y="7"/>
                      <a:pt x="17298" y="6"/>
                    </a:cubicBezTo>
                    <a:cubicBezTo>
                      <a:pt x="17298" y="4"/>
                      <a:pt x="17299" y="4"/>
                      <a:pt x="17300" y="4"/>
                    </a:cubicBezTo>
                    <a:close/>
                    <a:moveTo>
                      <a:pt x="17308" y="4"/>
                    </a:moveTo>
                    <a:lnTo>
                      <a:pt x="17308" y="4"/>
                    </a:lnTo>
                    <a:cubicBezTo>
                      <a:pt x="17309" y="4"/>
                      <a:pt x="17310" y="4"/>
                      <a:pt x="17310" y="6"/>
                    </a:cubicBezTo>
                    <a:cubicBezTo>
                      <a:pt x="17310" y="7"/>
                      <a:pt x="17309" y="8"/>
                      <a:pt x="17308" y="8"/>
                    </a:cubicBezTo>
                    <a:lnTo>
                      <a:pt x="17308" y="8"/>
                    </a:lnTo>
                    <a:cubicBezTo>
                      <a:pt x="17307" y="8"/>
                      <a:pt x="17306" y="7"/>
                      <a:pt x="17306" y="6"/>
                    </a:cubicBezTo>
                    <a:cubicBezTo>
                      <a:pt x="17306" y="4"/>
                      <a:pt x="17307" y="4"/>
                      <a:pt x="17308" y="4"/>
                    </a:cubicBezTo>
                    <a:close/>
                    <a:moveTo>
                      <a:pt x="17316" y="4"/>
                    </a:moveTo>
                    <a:lnTo>
                      <a:pt x="17316" y="4"/>
                    </a:lnTo>
                    <a:cubicBezTo>
                      <a:pt x="17317" y="4"/>
                      <a:pt x="17318" y="4"/>
                      <a:pt x="17318" y="6"/>
                    </a:cubicBezTo>
                    <a:cubicBezTo>
                      <a:pt x="17318" y="7"/>
                      <a:pt x="17317" y="8"/>
                      <a:pt x="17316" y="8"/>
                    </a:cubicBezTo>
                    <a:lnTo>
                      <a:pt x="17316" y="8"/>
                    </a:lnTo>
                    <a:cubicBezTo>
                      <a:pt x="17315" y="8"/>
                      <a:pt x="17314" y="7"/>
                      <a:pt x="17314" y="6"/>
                    </a:cubicBezTo>
                    <a:cubicBezTo>
                      <a:pt x="17314" y="4"/>
                      <a:pt x="17315" y="4"/>
                      <a:pt x="17316" y="4"/>
                    </a:cubicBezTo>
                    <a:close/>
                    <a:moveTo>
                      <a:pt x="17324" y="4"/>
                    </a:moveTo>
                    <a:lnTo>
                      <a:pt x="17324" y="4"/>
                    </a:lnTo>
                    <a:cubicBezTo>
                      <a:pt x="17325" y="4"/>
                      <a:pt x="17326" y="4"/>
                      <a:pt x="17326" y="6"/>
                    </a:cubicBezTo>
                    <a:cubicBezTo>
                      <a:pt x="17326" y="7"/>
                      <a:pt x="17325" y="8"/>
                      <a:pt x="17324" y="8"/>
                    </a:cubicBezTo>
                    <a:lnTo>
                      <a:pt x="17324" y="8"/>
                    </a:lnTo>
                    <a:cubicBezTo>
                      <a:pt x="17323" y="8"/>
                      <a:pt x="17322" y="7"/>
                      <a:pt x="17322" y="6"/>
                    </a:cubicBezTo>
                    <a:cubicBezTo>
                      <a:pt x="17322" y="4"/>
                      <a:pt x="17323" y="4"/>
                      <a:pt x="17324" y="4"/>
                    </a:cubicBezTo>
                    <a:close/>
                    <a:moveTo>
                      <a:pt x="17332" y="4"/>
                    </a:moveTo>
                    <a:lnTo>
                      <a:pt x="17332" y="4"/>
                    </a:lnTo>
                    <a:cubicBezTo>
                      <a:pt x="17333" y="4"/>
                      <a:pt x="17334" y="4"/>
                      <a:pt x="17334" y="6"/>
                    </a:cubicBezTo>
                    <a:cubicBezTo>
                      <a:pt x="17334" y="7"/>
                      <a:pt x="17333" y="8"/>
                      <a:pt x="17332" y="8"/>
                    </a:cubicBezTo>
                    <a:lnTo>
                      <a:pt x="17332" y="8"/>
                    </a:lnTo>
                    <a:cubicBezTo>
                      <a:pt x="17331" y="8"/>
                      <a:pt x="17330" y="7"/>
                      <a:pt x="17330" y="6"/>
                    </a:cubicBezTo>
                    <a:cubicBezTo>
                      <a:pt x="17330" y="4"/>
                      <a:pt x="17331" y="4"/>
                      <a:pt x="17332" y="4"/>
                    </a:cubicBezTo>
                    <a:close/>
                    <a:moveTo>
                      <a:pt x="17340" y="4"/>
                    </a:moveTo>
                    <a:lnTo>
                      <a:pt x="17340" y="4"/>
                    </a:lnTo>
                    <a:cubicBezTo>
                      <a:pt x="17341" y="4"/>
                      <a:pt x="17342" y="4"/>
                      <a:pt x="17342" y="6"/>
                    </a:cubicBezTo>
                    <a:cubicBezTo>
                      <a:pt x="17342" y="7"/>
                      <a:pt x="17341" y="8"/>
                      <a:pt x="17340" y="8"/>
                    </a:cubicBezTo>
                    <a:lnTo>
                      <a:pt x="17340" y="8"/>
                    </a:lnTo>
                    <a:cubicBezTo>
                      <a:pt x="17339" y="8"/>
                      <a:pt x="17338" y="7"/>
                      <a:pt x="17338" y="6"/>
                    </a:cubicBezTo>
                    <a:cubicBezTo>
                      <a:pt x="17338" y="4"/>
                      <a:pt x="17339" y="4"/>
                      <a:pt x="17340" y="4"/>
                    </a:cubicBezTo>
                    <a:close/>
                    <a:moveTo>
                      <a:pt x="17348" y="4"/>
                    </a:moveTo>
                    <a:lnTo>
                      <a:pt x="17348" y="4"/>
                    </a:lnTo>
                    <a:cubicBezTo>
                      <a:pt x="17349" y="4"/>
                      <a:pt x="17350" y="4"/>
                      <a:pt x="17350" y="6"/>
                    </a:cubicBezTo>
                    <a:cubicBezTo>
                      <a:pt x="17350" y="7"/>
                      <a:pt x="17349" y="8"/>
                      <a:pt x="17348" y="8"/>
                    </a:cubicBezTo>
                    <a:lnTo>
                      <a:pt x="17348" y="8"/>
                    </a:lnTo>
                    <a:cubicBezTo>
                      <a:pt x="17347" y="8"/>
                      <a:pt x="17346" y="7"/>
                      <a:pt x="17346" y="6"/>
                    </a:cubicBezTo>
                    <a:cubicBezTo>
                      <a:pt x="17346" y="4"/>
                      <a:pt x="17347" y="4"/>
                      <a:pt x="17348" y="4"/>
                    </a:cubicBezTo>
                    <a:close/>
                    <a:moveTo>
                      <a:pt x="17356" y="4"/>
                    </a:moveTo>
                    <a:lnTo>
                      <a:pt x="17356" y="4"/>
                    </a:lnTo>
                    <a:cubicBezTo>
                      <a:pt x="17357" y="4"/>
                      <a:pt x="17358" y="4"/>
                      <a:pt x="17358" y="6"/>
                    </a:cubicBezTo>
                    <a:cubicBezTo>
                      <a:pt x="17358" y="7"/>
                      <a:pt x="17357" y="8"/>
                      <a:pt x="17356" y="8"/>
                    </a:cubicBezTo>
                    <a:lnTo>
                      <a:pt x="17356" y="8"/>
                    </a:lnTo>
                    <a:cubicBezTo>
                      <a:pt x="17355" y="8"/>
                      <a:pt x="17354" y="7"/>
                      <a:pt x="17354" y="6"/>
                    </a:cubicBezTo>
                    <a:cubicBezTo>
                      <a:pt x="17354" y="4"/>
                      <a:pt x="17355" y="4"/>
                      <a:pt x="17356" y="4"/>
                    </a:cubicBezTo>
                    <a:close/>
                    <a:moveTo>
                      <a:pt x="17364" y="4"/>
                    </a:moveTo>
                    <a:lnTo>
                      <a:pt x="17364" y="4"/>
                    </a:lnTo>
                    <a:cubicBezTo>
                      <a:pt x="17365" y="4"/>
                      <a:pt x="17366" y="4"/>
                      <a:pt x="17366" y="6"/>
                    </a:cubicBezTo>
                    <a:cubicBezTo>
                      <a:pt x="17366" y="7"/>
                      <a:pt x="17365" y="8"/>
                      <a:pt x="17364" y="8"/>
                    </a:cubicBezTo>
                    <a:lnTo>
                      <a:pt x="17364" y="8"/>
                    </a:lnTo>
                    <a:cubicBezTo>
                      <a:pt x="17363" y="8"/>
                      <a:pt x="17362" y="7"/>
                      <a:pt x="17362" y="6"/>
                    </a:cubicBezTo>
                    <a:cubicBezTo>
                      <a:pt x="17362" y="4"/>
                      <a:pt x="17363" y="4"/>
                      <a:pt x="17364" y="4"/>
                    </a:cubicBezTo>
                    <a:close/>
                    <a:moveTo>
                      <a:pt x="17372" y="4"/>
                    </a:moveTo>
                    <a:lnTo>
                      <a:pt x="17372" y="4"/>
                    </a:lnTo>
                    <a:cubicBezTo>
                      <a:pt x="17373" y="4"/>
                      <a:pt x="17374" y="4"/>
                      <a:pt x="17374" y="6"/>
                    </a:cubicBezTo>
                    <a:cubicBezTo>
                      <a:pt x="17374" y="7"/>
                      <a:pt x="17373" y="8"/>
                      <a:pt x="17372" y="8"/>
                    </a:cubicBezTo>
                    <a:lnTo>
                      <a:pt x="17372" y="8"/>
                    </a:lnTo>
                    <a:cubicBezTo>
                      <a:pt x="17371" y="8"/>
                      <a:pt x="17370" y="7"/>
                      <a:pt x="17370" y="6"/>
                    </a:cubicBezTo>
                    <a:cubicBezTo>
                      <a:pt x="17370" y="4"/>
                      <a:pt x="17371" y="4"/>
                      <a:pt x="17372" y="4"/>
                    </a:cubicBezTo>
                    <a:close/>
                    <a:moveTo>
                      <a:pt x="17380" y="4"/>
                    </a:moveTo>
                    <a:lnTo>
                      <a:pt x="17380" y="4"/>
                    </a:lnTo>
                    <a:cubicBezTo>
                      <a:pt x="17381" y="4"/>
                      <a:pt x="17382" y="4"/>
                      <a:pt x="17382" y="6"/>
                    </a:cubicBezTo>
                    <a:cubicBezTo>
                      <a:pt x="17382" y="7"/>
                      <a:pt x="17381" y="8"/>
                      <a:pt x="17380" y="8"/>
                    </a:cubicBezTo>
                    <a:lnTo>
                      <a:pt x="17380" y="8"/>
                    </a:lnTo>
                    <a:cubicBezTo>
                      <a:pt x="17379" y="8"/>
                      <a:pt x="17378" y="7"/>
                      <a:pt x="17378" y="6"/>
                    </a:cubicBezTo>
                    <a:cubicBezTo>
                      <a:pt x="17378" y="4"/>
                      <a:pt x="17379" y="4"/>
                      <a:pt x="17380" y="4"/>
                    </a:cubicBezTo>
                    <a:close/>
                    <a:moveTo>
                      <a:pt x="17388" y="4"/>
                    </a:moveTo>
                    <a:lnTo>
                      <a:pt x="17388" y="4"/>
                    </a:lnTo>
                    <a:cubicBezTo>
                      <a:pt x="17389" y="4"/>
                      <a:pt x="17390" y="4"/>
                      <a:pt x="17390" y="6"/>
                    </a:cubicBezTo>
                    <a:cubicBezTo>
                      <a:pt x="17390" y="7"/>
                      <a:pt x="17389" y="8"/>
                      <a:pt x="17388" y="8"/>
                    </a:cubicBezTo>
                    <a:lnTo>
                      <a:pt x="17388" y="8"/>
                    </a:lnTo>
                    <a:cubicBezTo>
                      <a:pt x="17387" y="8"/>
                      <a:pt x="17386" y="7"/>
                      <a:pt x="17386" y="6"/>
                    </a:cubicBezTo>
                    <a:cubicBezTo>
                      <a:pt x="17386" y="4"/>
                      <a:pt x="17387" y="4"/>
                      <a:pt x="17388" y="4"/>
                    </a:cubicBezTo>
                    <a:close/>
                    <a:moveTo>
                      <a:pt x="17396" y="4"/>
                    </a:moveTo>
                    <a:lnTo>
                      <a:pt x="17396" y="4"/>
                    </a:lnTo>
                    <a:cubicBezTo>
                      <a:pt x="17397" y="4"/>
                      <a:pt x="17398" y="4"/>
                      <a:pt x="17398" y="6"/>
                    </a:cubicBezTo>
                    <a:cubicBezTo>
                      <a:pt x="17398" y="7"/>
                      <a:pt x="17397" y="8"/>
                      <a:pt x="17396" y="8"/>
                    </a:cubicBezTo>
                    <a:lnTo>
                      <a:pt x="17396" y="8"/>
                    </a:lnTo>
                    <a:cubicBezTo>
                      <a:pt x="17395" y="8"/>
                      <a:pt x="17394" y="7"/>
                      <a:pt x="17394" y="6"/>
                    </a:cubicBezTo>
                    <a:cubicBezTo>
                      <a:pt x="17394" y="4"/>
                      <a:pt x="17395" y="4"/>
                      <a:pt x="17396" y="4"/>
                    </a:cubicBezTo>
                    <a:close/>
                    <a:moveTo>
                      <a:pt x="17404" y="4"/>
                    </a:moveTo>
                    <a:lnTo>
                      <a:pt x="17404" y="4"/>
                    </a:lnTo>
                    <a:cubicBezTo>
                      <a:pt x="17405" y="4"/>
                      <a:pt x="17406" y="4"/>
                      <a:pt x="17406" y="6"/>
                    </a:cubicBezTo>
                    <a:cubicBezTo>
                      <a:pt x="17406" y="7"/>
                      <a:pt x="17405" y="8"/>
                      <a:pt x="17404" y="8"/>
                    </a:cubicBezTo>
                    <a:lnTo>
                      <a:pt x="17404" y="8"/>
                    </a:lnTo>
                    <a:cubicBezTo>
                      <a:pt x="17403" y="8"/>
                      <a:pt x="17402" y="7"/>
                      <a:pt x="17402" y="6"/>
                    </a:cubicBezTo>
                    <a:cubicBezTo>
                      <a:pt x="17402" y="4"/>
                      <a:pt x="17403" y="4"/>
                      <a:pt x="17404" y="4"/>
                    </a:cubicBezTo>
                    <a:close/>
                    <a:moveTo>
                      <a:pt x="17412" y="4"/>
                    </a:moveTo>
                    <a:lnTo>
                      <a:pt x="17412" y="4"/>
                    </a:lnTo>
                    <a:cubicBezTo>
                      <a:pt x="17413" y="4"/>
                      <a:pt x="17414" y="4"/>
                      <a:pt x="17414" y="6"/>
                    </a:cubicBezTo>
                    <a:cubicBezTo>
                      <a:pt x="17414" y="7"/>
                      <a:pt x="17413" y="8"/>
                      <a:pt x="17412" y="8"/>
                    </a:cubicBezTo>
                    <a:lnTo>
                      <a:pt x="17412" y="8"/>
                    </a:lnTo>
                    <a:cubicBezTo>
                      <a:pt x="17411" y="8"/>
                      <a:pt x="17410" y="7"/>
                      <a:pt x="17410" y="6"/>
                    </a:cubicBezTo>
                    <a:cubicBezTo>
                      <a:pt x="17410" y="4"/>
                      <a:pt x="17411" y="4"/>
                      <a:pt x="17412" y="4"/>
                    </a:cubicBezTo>
                    <a:close/>
                    <a:moveTo>
                      <a:pt x="17420" y="4"/>
                    </a:moveTo>
                    <a:lnTo>
                      <a:pt x="17420" y="4"/>
                    </a:lnTo>
                    <a:cubicBezTo>
                      <a:pt x="17421" y="4"/>
                      <a:pt x="17422" y="4"/>
                      <a:pt x="17422" y="6"/>
                    </a:cubicBezTo>
                    <a:cubicBezTo>
                      <a:pt x="17422" y="7"/>
                      <a:pt x="17421" y="8"/>
                      <a:pt x="17420" y="8"/>
                    </a:cubicBezTo>
                    <a:lnTo>
                      <a:pt x="17420" y="8"/>
                    </a:lnTo>
                    <a:cubicBezTo>
                      <a:pt x="17419" y="8"/>
                      <a:pt x="17418" y="7"/>
                      <a:pt x="17418" y="6"/>
                    </a:cubicBezTo>
                    <a:cubicBezTo>
                      <a:pt x="17418" y="4"/>
                      <a:pt x="17419" y="4"/>
                      <a:pt x="17420" y="4"/>
                    </a:cubicBezTo>
                    <a:close/>
                    <a:moveTo>
                      <a:pt x="17428" y="4"/>
                    </a:moveTo>
                    <a:lnTo>
                      <a:pt x="17428" y="4"/>
                    </a:lnTo>
                    <a:cubicBezTo>
                      <a:pt x="17429" y="4"/>
                      <a:pt x="17430" y="4"/>
                      <a:pt x="17430" y="6"/>
                    </a:cubicBezTo>
                    <a:cubicBezTo>
                      <a:pt x="17430" y="7"/>
                      <a:pt x="17429" y="8"/>
                      <a:pt x="17428" y="8"/>
                    </a:cubicBezTo>
                    <a:lnTo>
                      <a:pt x="17428" y="8"/>
                    </a:lnTo>
                    <a:cubicBezTo>
                      <a:pt x="17427" y="8"/>
                      <a:pt x="17426" y="7"/>
                      <a:pt x="17426" y="6"/>
                    </a:cubicBezTo>
                    <a:cubicBezTo>
                      <a:pt x="17426" y="4"/>
                      <a:pt x="17427" y="4"/>
                      <a:pt x="17428" y="4"/>
                    </a:cubicBezTo>
                    <a:close/>
                    <a:moveTo>
                      <a:pt x="17436" y="4"/>
                    </a:moveTo>
                    <a:lnTo>
                      <a:pt x="17436" y="4"/>
                    </a:lnTo>
                    <a:cubicBezTo>
                      <a:pt x="17437" y="4"/>
                      <a:pt x="17438" y="4"/>
                      <a:pt x="17438" y="6"/>
                    </a:cubicBezTo>
                    <a:cubicBezTo>
                      <a:pt x="17438" y="7"/>
                      <a:pt x="17437" y="8"/>
                      <a:pt x="17436" y="8"/>
                    </a:cubicBezTo>
                    <a:lnTo>
                      <a:pt x="17436" y="8"/>
                    </a:lnTo>
                    <a:cubicBezTo>
                      <a:pt x="17435" y="8"/>
                      <a:pt x="17434" y="7"/>
                      <a:pt x="17434" y="6"/>
                    </a:cubicBezTo>
                    <a:cubicBezTo>
                      <a:pt x="17434" y="4"/>
                      <a:pt x="17435" y="4"/>
                      <a:pt x="17436" y="4"/>
                    </a:cubicBezTo>
                    <a:close/>
                    <a:moveTo>
                      <a:pt x="17444" y="4"/>
                    </a:moveTo>
                    <a:lnTo>
                      <a:pt x="17444" y="4"/>
                    </a:lnTo>
                    <a:cubicBezTo>
                      <a:pt x="17445" y="4"/>
                      <a:pt x="17446" y="4"/>
                      <a:pt x="17446" y="6"/>
                    </a:cubicBezTo>
                    <a:cubicBezTo>
                      <a:pt x="17446" y="7"/>
                      <a:pt x="17445" y="8"/>
                      <a:pt x="17444" y="8"/>
                    </a:cubicBezTo>
                    <a:lnTo>
                      <a:pt x="17444" y="8"/>
                    </a:lnTo>
                    <a:cubicBezTo>
                      <a:pt x="17443" y="8"/>
                      <a:pt x="17442" y="7"/>
                      <a:pt x="17442" y="6"/>
                    </a:cubicBezTo>
                    <a:cubicBezTo>
                      <a:pt x="17442" y="4"/>
                      <a:pt x="17443" y="4"/>
                      <a:pt x="17444" y="4"/>
                    </a:cubicBezTo>
                    <a:close/>
                    <a:moveTo>
                      <a:pt x="17452" y="4"/>
                    </a:moveTo>
                    <a:lnTo>
                      <a:pt x="17452" y="4"/>
                    </a:lnTo>
                    <a:cubicBezTo>
                      <a:pt x="17453" y="4"/>
                      <a:pt x="17454" y="4"/>
                      <a:pt x="17454" y="6"/>
                    </a:cubicBezTo>
                    <a:cubicBezTo>
                      <a:pt x="17454" y="7"/>
                      <a:pt x="17453" y="8"/>
                      <a:pt x="17452" y="8"/>
                    </a:cubicBezTo>
                    <a:lnTo>
                      <a:pt x="17452" y="8"/>
                    </a:lnTo>
                    <a:cubicBezTo>
                      <a:pt x="17451" y="8"/>
                      <a:pt x="17450" y="7"/>
                      <a:pt x="17450" y="6"/>
                    </a:cubicBezTo>
                    <a:cubicBezTo>
                      <a:pt x="17450" y="4"/>
                      <a:pt x="17451" y="4"/>
                      <a:pt x="17452" y="4"/>
                    </a:cubicBezTo>
                    <a:close/>
                    <a:moveTo>
                      <a:pt x="17460" y="4"/>
                    </a:moveTo>
                    <a:lnTo>
                      <a:pt x="17460" y="4"/>
                    </a:lnTo>
                    <a:cubicBezTo>
                      <a:pt x="17461" y="4"/>
                      <a:pt x="17462" y="4"/>
                      <a:pt x="17462" y="6"/>
                    </a:cubicBezTo>
                    <a:cubicBezTo>
                      <a:pt x="17462" y="7"/>
                      <a:pt x="17461" y="8"/>
                      <a:pt x="17460" y="8"/>
                    </a:cubicBezTo>
                    <a:lnTo>
                      <a:pt x="17460" y="8"/>
                    </a:lnTo>
                    <a:cubicBezTo>
                      <a:pt x="17459" y="8"/>
                      <a:pt x="17458" y="7"/>
                      <a:pt x="17458" y="6"/>
                    </a:cubicBezTo>
                    <a:cubicBezTo>
                      <a:pt x="17458" y="4"/>
                      <a:pt x="17459" y="4"/>
                      <a:pt x="17460" y="4"/>
                    </a:cubicBezTo>
                    <a:close/>
                    <a:moveTo>
                      <a:pt x="17468" y="4"/>
                    </a:moveTo>
                    <a:lnTo>
                      <a:pt x="17468" y="4"/>
                    </a:lnTo>
                    <a:cubicBezTo>
                      <a:pt x="17469" y="4"/>
                      <a:pt x="17470" y="4"/>
                      <a:pt x="17470" y="6"/>
                    </a:cubicBezTo>
                    <a:cubicBezTo>
                      <a:pt x="17470" y="7"/>
                      <a:pt x="17469" y="8"/>
                      <a:pt x="17468" y="8"/>
                    </a:cubicBezTo>
                    <a:lnTo>
                      <a:pt x="17468" y="8"/>
                    </a:lnTo>
                    <a:cubicBezTo>
                      <a:pt x="17467" y="8"/>
                      <a:pt x="17466" y="7"/>
                      <a:pt x="17466" y="6"/>
                    </a:cubicBezTo>
                    <a:cubicBezTo>
                      <a:pt x="17466" y="4"/>
                      <a:pt x="17467" y="4"/>
                      <a:pt x="17468" y="4"/>
                    </a:cubicBezTo>
                    <a:close/>
                    <a:moveTo>
                      <a:pt x="17476" y="4"/>
                    </a:moveTo>
                    <a:lnTo>
                      <a:pt x="17476" y="4"/>
                    </a:lnTo>
                    <a:cubicBezTo>
                      <a:pt x="17477" y="4"/>
                      <a:pt x="17478" y="4"/>
                      <a:pt x="17478" y="6"/>
                    </a:cubicBezTo>
                    <a:cubicBezTo>
                      <a:pt x="17478" y="7"/>
                      <a:pt x="17477" y="8"/>
                      <a:pt x="17476" y="8"/>
                    </a:cubicBezTo>
                    <a:lnTo>
                      <a:pt x="17476" y="8"/>
                    </a:lnTo>
                    <a:cubicBezTo>
                      <a:pt x="17475" y="8"/>
                      <a:pt x="17474" y="7"/>
                      <a:pt x="17474" y="6"/>
                    </a:cubicBezTo>
                    <a:cubicBezTo>
                      <a:pt x="17474" y="4"/>
                      <a:pt x="17475" y="4"/>
                      <a:pt x="17476" y="4"/>
                    </a:cubicBezTo>
                    <a:close/>
                    <a:moveTo>
                      <a:pt x="17484" y="4"/>
                    </a:moveTo>
                    <a:lnTo>
                      <a:pt x="17484" y="4"/>
                    </a:lnTo>
                    <a:cubicBezTo>
                      <a:pt x="17485" y="4"/>
                      <a:pt x="17486" y="4"/>
                      <a:pt x="17486" y="6"/>
                    </a:cubicBezTo>
                    <a:cubicBezTo>
                      <a:pt x="17486" y="7"/>
                      <a:pt x="17485" y="8"/>
                      <a:pt x="17484" y="8"/>
                    </a:cubicBezTo>
                    <a:lnTo>
                      <a:pt x="17484" y="8"/>
                    </a:lnTo>
                    <a:cubicBezTo>
                      <a:pt x="17483" y="8"/>
                      <a:pt x="17482" y="7"/>
                      <a:pt x="17482" y="6"/>
                    </a:cubicBezTo>
                    <a:cubicBezTo>
                      <a:pt x="17482" y="4"/>
                      <a:pt x="17483" y="4"/>
                      <a:pt x="17484" y="4"/>
                    </a:cubicBezTo>
                    <a:close/>
                    <a:moveTo>
                      <a:pt x="17492" y="4"/>
                    </a:moveTo>
                    <a:lnTo>
                      <a:pt x="17492" y="4"/>
                    </a:lnTo>
                    <a:cubicBezTo>
                      <a:pt x="17493" y="4"/>
                      <a:pt x="17494" y="4"/>
                      <a:pt x="17494" y="6"/>
                    </a:cubicBezTo>
                    <a:cubicBezTo>
                      <a:pt x="17494" y="7"/>
                      <a:pt x="17493" y="8"/>
                      <a:pt x="17492" y="8"/>
                    </a:cubicBezTo>
                    <a:lnTo>
                      <a:pt x="17492" y="8"/>
                    </a:lnTo>
                    <a:cubicBezTo>
                      <a:pt x="17491" y="8"/>
                      <a:pt x="17490" y="7"/>
                      <a:pt x="17490" y="6"/>
                    </a:cubicBezTo>
                    <a:cubicBezTo>
                      <a:pt x="17490" y="4"/>
                      <a:pt x="17491" y="4"/>
                      <a:pt x="17492" y="4"/>
                    </a:cubicBezTo>
                    <a:close/>
                    <a:moveTo>
                      <a:pt x="17500" y="4"/>
                    </a:moveTo>
                    <a:lnTo>
                      <a:pt x="17500" y="4"/>
                    </a:lnTo>
                    <a:cubicBezTo>
                      <a:pt x="17501" y="4"/>
                      <a:pt x="17502" y="4"/>
                      <a:pt x="17502" y="6"/>
                    </a:cubicBezTo>
                    <a:cubicBezTo>
                      <a:pt x="17502" y="7"/>
                      <a:pt x="17501" y="8"/>
                      <a:pt x="17500" y="8"/>
                    </a:cubicBezTo>
                    <a:lnTo>
                      <a:pt x="17500" y="8"/>
                    </a:lnTo>
                    <a:cubicBezTo>
                      <a:pt x="17499" y="8"/>
                      <a:pt x="17498" y="7"/>
                      <a:pt x="17498" y="6"/>
                    </a:cubicBezTo>
                    <a:cubicBezTo>
                      <a:pt x="17498" y="4"/>
                      <a:pt x="17499" y="4"/>
                      <a:pt x="17500" y="4"/>
                    </a:cubicBezTo>
                    <a:close/>
                    <a:moveTo>
                      <a:pt x="17508" y="4"/>
                    </a:moveTo>
                    <a:lnTo>
                      <a:pt x="17508" y="4"/>
                    </a:lnTo>
                    <a:cubicBezTo>
                      <a:pt x="17509" y="4"/>
                      <a:pt x="17510" y="4"/>
                      <a:pt x="17510" y="6"/>
                    </a:cubicBezTo>
                    <a:cubicBezTo>
                      <a:pt x="17510" y="7"/>
                      <a:pt x="17509" y="8"/>
                      <a:pt x="17508" y="8"/>
                    </a:cubicBezTo>
                    <a:lnTo>
                      <a:pt x="17508" y="8"/>
                    </a:lnTo>
                    <a:cubicBezTo>
                      <a:pt x="17507" y="8"/>
                      <a:pt x="17506" y="7"/>
                      <a:pt x="17506" y="6"/>
                    </a:cubicBezTo>
                    <a:cubicBezTo>
                      <a:pt x="17506" y="4"/>
                      <a:pt x="17507" y="4"/>
                      <a:pt x="17508" y="4"/>
                    </a:cubicBezTo>
                    <a:close/>
                    <a:moveTo>
                      <a:pt x="17516" y="4"/>
                    </a:moveTo>
                    <a:lnTo>
                      <a:pt x="17516" y="4"/>
                    </a:lnTo>
                    <a:cubicBezTo>
                      <a:pt x="17517" y="4"/>
                      <a:pt x="17518" y="4"/>
                      <a:pt x="17518" y="6"/>
                    </a:cubicBezTo>
                    <a:cubicBezTo>
                      <a:pt x="17518" y="7"/>
                      <a:pt x="17517" y="8"/>
                      <a:pt x="17516" y="8"/>
                    </a:cubicBezTo>
                    <a:lnTo>
                      <a:pt x="17516" y="8"/>
                    </a:lnTo>
                    <a:cubicBezTo>
                      <a:pt x="17515" y="8"/>
                      <a:pt x="17514" y="7"/>
                      <a:pt x="17514" y="6"/>
                    </a:cubicBezTo>
                    <a:cubicBezTo>
                      <a:pt x="17514" y="4"/>
                      <a:pt x="17515" y="4"/>
                      <a:pt x="17516" y="4"/>
                    </a:cubicBezTo>
                    <a:close/>
                    <a:moveTo>
                      <a:pt x="17524" y="4"/>
                    </a:moveTo>
                    <a:lnTo>
                      <a:pt x="17524" y="4"/>
                    </a:lnTo>
                    <a:cubicBezTo>
                      <a:pt x="17525" y="4"/>
                      <a:pt x="17526" y="4"/>
                      <a:pt x="17526" y="6"/>
                    </a:cubicBezTo>
                    <a:cubicBezTo>
                      <a:pt x="17526" y="7"/>
                      <a:pt x="17525" y="8"/>
                      <a:pt x="17524" y="8"/>
                    </a:cubicBezTo>
                    <a:lnTo>
                      <a:pt x="17524" y="8"/>
                    </a:lnTo>
                    <a:cubicBezTo>
                      <a:pt x="17523" y="8"/>
                      <a:pt x="17522" y="7"/>
                      <a:pt x="17522" y="6"/>
                    </a:cubicBezTo>
                    <a:cubicBezTo>
                      <a:pt x="17522" y="4"/>
                      <a:pt x="17523" y="4"/>
                      <a:pt x="17524" y="4"/>
                    </a:cubicBezTo>
                    <a:close/>
                    <a:moveTo>
                      <a:pt x="17532" y="4"/>
                    </a:moveTo>
                    <a:lnTo>
                      <a:pt x="17532" y="4"/>
                    </a:lnTo>
                    <a:cubicBezTo>
                      <a:pt x="17533" y="4"/>
                      <a:pt x="17534" y="4"/>
                      <a:pt x="17534" y="6"/>
                    </a:cubicBezTo>
                    <a:cubicBezTo>
                      <a:pt x="17534" y="7"/>
                      <a:pt x="17533" y="8"/>
                      <a:pt x="17532" y="8"/>
                    </a:cubicBezTo>
                    <a:lnTo>
                      <a:pt x="17532" y="8"/>
                    </a:lnTo>
                    <a:cubicBezTo>
                      <a:pt x="17531" y="8"/>
                      <a:pt x="17530" y="7"/>
                      <a:pt x="17530" y="6"/>
                    </a:cubicBezTo>
                    <a:cubicBezTo>
                      <a:pt x="17530" y="4"/>
                      <a:pt x="17531" y="4"/>
                      <a:pt x="17532" y="4"/>
                    </a:cubicBezTo>
                    <a:close/>
                    <a:moveTo>
                      <a:pt x="17540" y="4"/>
                    </a:moveTo>
                    <a:lnTo>
                      <a:pt x="17540" y="4"/>
                    </a:lnTo>
                    <a:cubicBezTo>
                      <a:pt x="17541" y="4"/>
                      <a:pt x="17542" y="4"/>
                      <a:pt x="17542" y="6"/>
                    </a:cubicBezTo>
                    <a:cubicBezTo>
                      <a:pt x="17542" y="7"/>
                      <a:pt x="17541" y="8"/>
                      <a:pt x="17540" y="8"/>
                    </a:cubicBezTo>
                    <a:lnTo>
                      <a:pt x="17540" y="8"/>
                    </a:lnTo>
                    <a:cubicBezTo>
                      <a:pt x="17539" y="8"/>
                      <a:pt x="17538" y="7"/>
                      <a:pt x="17538" y="6"/>
                    </a:cubicBezTo>
                    <a:cubicBezTo>
                      <a:pt x="17538" y="4"/>
                      <a:pt x="17539" y="4"/>
                      <a:pt x="17540" y="4"/>
                    </a:cubicBezTo>
                    <a:close/>
                    <a:moveTo>
                      <a:pt x="17548" y="4"/>
                    </a:moveTo>
                    <a:lnTo>
                      <a:pt x="17548" y="4"/>
                    </a:lnTo>
                    <a:cubicBezTo>
                      <a:pt x="17549" y="4"/>
                      <a:pt x="17550" y="4"/>
                      <a:pt x="17550" y="6"/>
                    </a:cubicBezTo>
                    <a:cubicBezTo>
                      <a:pt x="17550" y="7"/>
                      <a:pt x="17549" y="8"/>
                      <a:pt x="17548" y="8"/>
                    </a:cubicBezTo>
                    <a:lnTo>
                      <a:pt x="17548" y="8"/>
                    </a:lnTo>
                    <a:cubicBezTo>
                      <a:pt x="17547" y="8"/>
                      <a:pt x="17546" y="7"/>
                      <a:pt x="17546" y="6"/>
                    </a:cubicBezTo>
                    <a:cubicBezTo>
                      <a:pt x="17546" y="4"/>
                      <a:pt x="17547" y="4"/>
                      <a:pt x="17548" y="4"/>
                    </a:cubicBezTo>
                    <a:close/>
                    <a:moveTo>
                      <a:pt x="17556" y="4"/>
                    </a:moveTo>
                    <a:lnTo>
                      <a:pt x="17556" y="4"/>
                    </a:lnTo>
                    <a:cubicBezTo>
                      <a:pt x="17557" y="4"/>
                      <a:pt x="17558" y="4"/>
                      <a:pt x="17558" y="6"/>
                    </a:cubicBezTo>
                    <a:cubicBezTo>
                      <a:pt x="17558" y="7"/>
                      <a:pt x="17557" y="8"/>
                      <a:pt x="17556" y="8"/>
                    </a:cubicBezTo>
                    <a:lnTo>
                      <a:pt x="17556" y="8"/>
                    </a:lnTo>
                    <a:cubicBezTo>
                      <a:pt x="17555" y="8"/>
                      <a:pt x="17554" y="7"/>
                      <a:pt x="17554" y="6"/>
                    </a:cubicBezTo>
                    <a:cubicBezTo>
                      <a:pt x="17554" y="4"/>
                      <a:pt x="17555" y="4"/>
                      <a:pt x="17556" y="4"/>
                    </a:cubicBezTo>
                    <a:close/>
                    <a:moveTo>
                      <a:pt x="17564" y="4"/>
                    </a:moveTo>
                    <a:lnTo>
                      <a:pt x="17564" y="4"/>
                    </a:lnTo>
                    <a:cubicBezTo>
                      <a:pt x="17565" y="4"/>
                      <a:pt x="17566" y="4"/>
                      <a:pt x="17566" y="6"/>
                    </a:cubicBezTo>
                    <a:cubicBezTo>
                      <a:pt x="17566" y="7"/>
                      <a:pt x="17565" y="8"/>
                      <a:pt x="17564" y="8"/>
                    </a:cubicBezTo>
                    <a:lnTo>
                      <a:pt x="17564" y="8"/>
                    </a:lnTo>
                    <a:cubicBezTo>
                      <a:pt x="17563" y="8"/>
                      <a:pt x="17562" y="7"/>
                      <a:pt x="17562" y="6"/>
                    </a:cubicBezTo>
                    <a:cubicBezTo>
                      <a:pt x="17562" y="4"/>
                      <a:pt x="17563" y="4"/>
                      <a:pt x="17564" y="4"/>
                    </a:cubicBezTo>
                    <a:close/>
                    <a:moveTo>
                      <a:pt x="17572" y="4"/>
                    </a:moveTo>
                    <a:lnTo>
                      <a:pt x="17572" y="4"/>
                    </a:lnTo>
                    <a:cubicBezTo>
                      <a:pt x="17573" y="4"/>
                      <a:pt x="17574" y="4"/>
                      <a:pt x="17574" y="6"/>
                    </a:cubicBezTo>
                    <a:cubicBezTo>
                      <a:pt x="17574" y="7"/>
                      <a:pt x="17573" y="8"/>
                      <a:pt x="17572" y="8"/>
                    </a:cubicBezTo>
                    <a:lnTo>
                      <a:pt x="17572" y="8"/>
                    </a:lnTo>
                    <a:cubicBezTo>
                      <a:pt x="17571" y="8"/>
                      <a:pt x="17570" y="7"/>
                      <a:pt x="17570" y="6"/>
                    </a:cubicBezTo>
                    <a:cubicBezTo>
                      <a:pt x="17570" y="4"/>
                      <a:pt x="17571" y="4"/>
                      <a:pt x="17572" y="4"/>
                    </a:cubicBezTo>
                    <a:close/>
                    <a:moveTo>
                      <a:pt x="17580" y="4"/>
                    </a:moveTo>
                    <a:lnTo>
                      <a:pt x="17580" y="4"/>
                    </a:lnTo>
                    <a:cubicBezTo>
                      <a:pt x="17581" y="4"/>
                      <a:pt x="17582" y="4"/>
                      <a:pt x="17582" y="6"/>
                    </a:cubicBezTo>
                    <a:cubicBezTo>
                      <a:pt x="17582" y="7"/>
                      <a:pt x="17581" y="8"/>
                      <a:pt x="17580" y="8"/>
                    </a:cubicBezTo>
                    <a:lnTo>
                      <a:pt x="17580" y="8"/>
                    </a:lnTo>
                    <a:cubicBezTo>
                      <a:pt x="17579" y="8"/>
                      <a:pt x="17578" y="7"/>
                      <a:pt x="17578" y="6"/>
                    </a:cubicBezTo>
                    <a:cubicBezTo>
                      <a:pt x="17578" y="4"/>
                      <a:pt x="17579" y="4"/>
                      <a:pt x="17580" y="4"/>
                    </a:cubicBezTo>
                    <a:close/>
                    <a:moveTo>
                      <a:pt x="17588" y="4"/>
                    </a:moveTo>
                    <a:lnTo>
                      <a:pt x="17588" y="4"/>
                    </a:lnTo>
                    <a:cubicBezTo>
                      <a:pt x="17589" y="4"/>
                      <a:pt x="17590" y="4"/>
                      <a:pt x="17590" y="6"/>
                    </a:cubicBezTo>
                    <a:cubicBezTo>
                      <a:pt x="17590" y="7"/>
                      <a:pt x="17589" y="8"/>
                      <a:pt x="17588" y="8"/>
                    </a:cubicBezTo>
                    <a:lnTo>
                      <a:pt x="17588" y="8"/>
                    </a:lnTo>
                    <a:cubicBezTo>
                      <a:pt x="17587" y="8"/>
                      <a:pt x="17586" y="7"/>
                      <a:pt x="17586" y="6"/>
                    </a:cubicBezTo>
                    <a:cubicBezTo>
                      <a:pt x="17586" y="4"/>
                      <a:pt x="17587" y="4"/>
                      <a:pt x="17588" y="4"/>
                    </a:cubicBezTo>
                    <a:close/>
                    <a:moveTo>
                      <a:pt x="17596" y="4"/>
                    </a:moveTo>
                    <a:lnTo>
                      <a:pt x="17596" y="4"/>
                    </a:lnTo>
                    <a:cubicBezTo>
                      <a:pt x="17597" y="4"/>
                      <a:pt x="17598" y="4"/>
                      <a:pt x="17598" y="6"/>
                    </a:cubicBezTo>
                    <a:cubicBezTo>
                      <a:pt x="17598" y="7"/>
                      <a:pt x="17597" y="8"/>
                      <a:pt x="17596" y="8"/>
                    </a:cubicBezTo>
                    <a:lnTo>
                      <a:pt x="17596" y="8"/>
                    </a:lnTo>
                    <a:cubicBezTo>
                      <a:pt x="17595" y="8"/>
                      <a:pt x="17594" y="7"/>
                      <a:pt x="17594" y="6"/>
                    </a:cubicBezTo>
                    <a:cubicBezTo>
                      <a:pt x="17594" y="4"/>
                      <a:pt x="17595" y="4"/>
                      <a:pt x="17596" y="4"/>
                    </a:cubicBezTo>
                    <a:close/>
                    <a:moveTo>
                      <a:pt x="17604" y="4"/>
                    </a:moveTo>
                    <a:lnTo>
                      <a:pt x="17604" y="4"/>
                    </a:lnTo>
                    <a:cubicBezTo>
                      <a:pt x="17605" y="4"/>
                      <a:pt x="17606" y="4"/>
                      <a:pt x="17606" y="6"/>
                    </a:cubicBezTo>
                    <a:cubicBezTo>
                      <a:pt x="17606" y="7"/>
                      <a:pt x="17605" y="8"/>
                      <a:pt x="17604" y="8"/>
                    </a:cubicBezTo>
                    <a:lnTo>
                      <a:pt x="17604" y="8"/>
                    </a:lnTo>
                    <a:cubicBezTo>
                      <a:pt x="17603" y="8"/>
                      <a:pt x="17602" y="7"/>
                      <a:pt x="17602" y="6"/>
                    </a:cubicBezTo>
                    <a:cubicBezTo>
                      <a:pt x="17602" y="4"/>
                      <a:pt x="17603" y="4"/>
                      <a:pt x="17604" y="4"/>
                    </a:cubicBezTo>
                    <a:close/>
                    <a:moveTo>
                      <a:pt x="17612" y="4"/>
                    </a:moveTo>
                    <a:lnTo>
                      <a:pt x="17612" y="4"/>
                    </a:lnTo>
                    <a:cubicBezTo>
                      <a:pt x="17613" y="4"/>
                      <a:pt x="17614" y="4"/>
                      <a:pt x="17614" y="6"/>
                    </a:cubicBezTo>
                    <a:cubicBezTo>
                      <a:pt x="17614" y="7"/>
                      <a:pt x="17613" y="8"/>
                      <a:pt x="17612" y="8"/>
                    </a:cubicBezTo>
                    <a:lnTo>
                      <a:pt x="17612" y="8"/>
                    </a:lnTo>
                    <a:cubicBezTo>
                      <a:pt x="17611" y="8"/>
                      <a:pt x="17610" y="7"/>
                      <a:pt x="17610" y="6"/>
                    </a:cubicBezTo>
                    <a:cubicBezTo>
                      <a:pt x="17610" y="4"/>
                      <a:pt x="17611" y="4"/>
                      <a:pt x="17612" y="4"/>
                    </a:cubicBezTo>
                    <a:close/>
                    <a:moveTo>
                      <a:pt x="17620" y="4"/>
                    </a:moveTo>
                    <a:lnTo>
                      <a:pt x="17620" y="4"/>
                    </a:lnTo>
                    <a:cubicBezTo>
                      <a:pt x="17621" y="4"/>
                      <a:pt x="17622" y="4"/>
                      <a:pt x="17622" y="6"/>
                    </a:cubicBezTo>
                    <a:cubicBezTo>
                      <a:pt x="17622" y="7"/>
                      <a:pt x="17621" y="8"/>
                      <a:pt x="17620" y="8"/>
                    </a:cubicBezTo>
                    <a:lnTo>
                      <a:pt x="17620" y="8"/>
                    </a:lnTo>
                    <a:cubicBezTo>
                      <a:pt x="17619" y="8"/>
                      <a:pt x="17618" y="7"/>
                      <a:pt x="17618" y="6"/>
                    </a:cubicBezTo>
                    <a:cubicBezTo>
                      <a:pt x="17618" y="4"/>
                      <a:pt x="17619" y="4"/>
                      <a:pt x="17620" y="4"/>
                    </a:cubicBezTo>
                    <a:close/>
                    <a:moveTo>
                      <a:pt x="17628" y="4"/>
                    </a:moveTo>
                    <a:lnTo>
                      <a:pt x="17628" y="4"/>
                    </a:lnTo>
                    <a:cubicBezTo>
                      <a:pt x="17629" y="4"/>
                      <a:pt x="17630" y="4"/>
                      <a:pt x="17630" y="6"/>
                    </a:cubicBezTo>
                    <a:cubicBezTo>
                      <a:pt x="17630" y="7"/>
                      <a:pt x="17629" y="8"/>
                      <a:pt x="17628" y="8"/>
                    </a:cubicBezTo>
                    <a:lnTo>
                      <a:pt x="17628" y="8"/>
                    </a:lnTo>
                    <a:cubicBezTo>
                      <a:pt x="17627" y="8"/>
                      <a:pt x="17626" y="7"/>
                      <a:pt x="17626" y="6"/>
                    </a:cubicBezTo>
                    <a:cubicBezTo>
                      <a:pt x="17626" y="4"/>
                      <a:pt x="17627" y="4"/>
                      <a:pt x="17628" y="4"/>
                    </a:cubicBezTo>
                    <a:close/>
                    <a:moveTo>
                      <a:pt x="17636" y="4"/>
                    </a:moveTo>
                    <a:lnTo>
                      <a:pt x="17636" y="4"/>
                    </a:lnTo>
                    <a:cubicBezTo>
                      <a:pt x="17637" y="4"/>
                      <a:pt x="17638" y="4"/>
                      <a:pt x="17638" y="6"/>
                    </a:cubicBezTo>
                    <a:cubicBezTo>
                      <a:pt x="17638" y="7"/>
                      <a:pt x="17637" y="8"/>
                      <a:pt x="17636" y="8"/>
                    </a:cubicBezTo>
                    <a:lnTo>
                      <a:pt x="17636" y="8"/>
                    </a:lnTo>
                    <a:cubicBezTo>
                      <a:pt x="17635" y="8"/>
                      <a:pt x="17634" y="7"/>
                      <a:pt x="17634" y="6"/>
                    </a:cubicBezTo>
                    <a:cubicBezTo>
                      <a:pt x="17634" y="4"/>
                      <a:pt x="17635" y="4"/>
                      <a:pt x="17636" y="4"/>
                    </a:cubicBezTo>
                    <a:close/>
                    <a:moveTo>
                      <a:pt x="17644" y="4"/>
                    </a:moveTo>
                    <a:lnTo>
                      <a:pt x="17644" y="4"/>
                    </a:lnTo>
                    <a:cubicBezTo>
                      <a:pt x="17645" y="4"/>
                      <a:pt x="17646" y="4"/>
                      <a:pt x="17646" y="6"/>
                    </a:cubicBezTo>
                    <a:cubicBezTo>
                      <a:pt x="17646" y="7"/>
                      <a:pt x="17645" y="8"/>
                      <a:pt x="17644" y="8"/>
                    </a:cubicBezTo>
                    <a:lnTo>
                      <a:pt x="17644" y="8"/>
                    </a:lnTo>
                    <a:cubicBezTo>
                      <a:pt x="17643" y="8"/>
                      <a:pt x="17642" y="7"/>
                      <a:pt x="17642" y="6"/>
                    </a:cubicBezTo>
                    <a:cubicBezTo>
                      <a:pt x="17642" y="4"/>
                      <a:pt x="17643" y="4"/>
                      <a:pt x="17644" y="4"/>
                    </a:cubicBezTo>
                    <a:close/>
                    <a:moveTo>
                      <a:pt x="17652" y="4"/>
                    </a:moveTo>
                    <a:lnTo>
                      <a:pt x="17652" y="4"/>
                    </a:lnTo>
                    <a:cubicBezTo>
                      <a:pt x="17653" y="4"/>
                      <a:pt x="17654" y="4"/>
                      <a:pt x="17654" y="6"/>
                    </a:cubicBezTo>
                    <a:cubicBezTo>
                      <a:pt x="17654" y="7"/>
                      <a:pt x="17653" y="8"/>
                      <a:pt x="17652" y="8"/>
                    </a:cubicBezTo>
                    <a:lnTo>
                      <a:pt x="17652" y="8"/>
                    </a:lnTo>
                    <a:cubicBezTo>
                      <a:pt x="17651" y="8"/>
                      <a:pt x="17650" y="7"/>
                      <a:pt x="17650" y="6"/>
                    </a:cubicBezTo>
                    <a:cubicBezTo>
                      <a:pt x="17650" y="4"/>
                      <a:pt x="17651" y="4"/>
                      <a:pt x="17652" y="4"/>
                    </a:cubicBezTo>
                    <a:close/>
                    <a:moveTo>
                      <a:pt x="17660" y="4"/>
                    </a:moveTo>
                    <a:lnTo>
                      <a:pt x="17660" y="4"/>
                    </a:lnTo>
                    <a:cubicBezTo>
                      <a:pt x="17661" y="4"/>
                      <a:pt x="17662" y="4"/>
                      <a:pt x="17662" y="6"/>
                    </a:cubicBezTo>
                    <a:cubicBezTo>
                      <a:pt x="17662" y="7"/>
                      <a:pt x="17661" y="8"/>
                      <a:pt x="17660" y="8"/>
                    </a:cubicBezTo>
                    <a:lnTo>
                      <a:pt x="17660" y="8"/>
                    </a:lnTo>
                    <a:cubicBezTo>
                      <a:pt x="17659" y="8"/>
                      <a:pt x="17658" y="7"/>
                      <a:pt x="17658" y="6"/>
                    </a:cubicBezTo>
                    <a:cubicBezTo>
                      <a:pt x="17658" y="4"/>
                      <a:pt x="17659" y="4"/>
                      <a:pt x="17660" y="4"/>
                    </a:cubicBezTo>
                    <a:close/>
                    <a:moveTo>
                      <a:pt x="17668" y="4"/>
                    </a:moveTo>
                    <a:lnTo>
                      <a:pt x="17668" y="4"/>
                    </a:lnTo>
                    <a:cubicBezTo>
                      <a:pt x="17669" y="4"/>
                      <a:pt x="17670" y="4"/>
                      <a:pt x="17670" y="6"/>
                    </a:cubicBezTo>
                    <a:cubicBezTo>
                      <a:pt x="17670" y="7"/>
                      <a:pt x="17669" y="8"/>
                      <a:pt x="17668" y="8"/>
                    </a:cubicBezTo>
                    <a:lnTo>
                      <a:pt x="17668" y="8"/>
                    </a:lnTo>
                    <a:cubicBezTo>
                      <a:pt x="17667" y="8"/>
                      <a:pt x="17666" y="7"/>
                      <a:pt x="17666" y="6"/>
                    </a:cubicBezTo>
                    <a:cubicBezTo>
                      <a:pt x="17666" y="4"/>
                      <a:pt x="17667" y="4"/>
                      <a:pt x="17668" y="4"/>
                    </a:cubicBezTo>
                    <a:close/>
                    <a:moveTo>
                      <a:pt x="17676" y="4"/>
                    </a:moveTo>
                    <a:lnTo>
                      <a:pt x="17676" y="4"/>
                    </a:lnTo>
                    <a:cubicBezTo>
                      <a:pt x="17677" y="4"/>
                      <a:pt x="17678" y="4"/>
                      <a:pt x="17678" y="6"/>
                    </a:cubicBezTo>
                    <a:cubicBezTo>
                      <a:pt x="17678" y="7"/>
                      <a:pt x="17677" y="8"/>
                      <a:pt x="17676" y="8"/>
                    </a:cubicBezTo>
                    <a:lnTo>
                      <a:pt x="17676" y="8"/>
                    </a:lnTo>
                    <a:cubicBezTo>
                      <a:pt x="17675" y="8"/>
                      <a:pt x="17674" y="7"/>
                      <a:pt x="17674" y="6"/>
                    </a:cubicBezTo>
                    <a:cubicBezTo>
                      <a:pt x="17674" y="4"/>
                      <a:pt x="17675" y="4"/>
                      <a:pt x="17676" y="4"/>
                    </a:cubicBezTo>
                    <a:close/>
                    <a:moveTo>
                      <a:pt x="17684" y="4"/>
                    </a:moveTo>
                    <a:lnTo>
                      <a:pt x="17684" y="4"/>
                    </a:lnTo>
                    <a:cubicBezTo>
                      <a:pt x="17685" y="4"/>
                      <a:pt x="17686" y="4"/>
                      <a:pt x="17686" y="6"/>
                    </a:cubicBezTo>
                    <a:cubicBezTo>
                      <a:pt x="17686" y="7"/>
                      <a:pt x="17685" y="8"/>
                      <a:pt x="17684" y="8"/>
                    </a:cubicBezTo>
                    <a:lnTo>
                      <a:pt x="17684" y="8"/>
                    </a:lnTo>
                    <a:cubicBezTo>
                      <a:pt x="17683" y="8"/>
                      <a:pt x="17682" y="7"/>
                      <a:pt x="17682" y="6"/>
                    </a:cubicBezTo>
                    <a:cubicBezTo>
                      <a:pt x="17682" y="4"/>
                      <a:pt x="17683" y="4"/>
                      <a:pt x="17684" y="4"/>
                    </a:cubicBezTo>
                    <a:close/>
                    <a:moveTo>
                      <a:pt x="17692" y="4"/>
                    </a:moveTo>
                    <a:lnTo>
                      <a:pt x="17692" y="4"/>
                    </a:lnTo>
                    <a:cubicBezTo>
                      <a:pt x="17693" y="4"/>
                      <a:pt x="17694" y="4"/>
                      <a:pt x="17694" y="6"/>
                    </a:cubicBezTo>
                    <a:cubicBezTo>
                      <a:pt x="17694" y="7"/>
                      <a:pt x="17693" y="8"/>
                      <a:pt x="17692" y="8"/>
                    </a:cubicBezTo>
                    <a:lnTo>
                      <a:pt x="17692" y="8"/>
                    </a:lnTo>
                    <a:cubicBezTo>
                      <a:pt x="17691" y="8"/>
                      <a:pt x="17690" y="7"/>
                      <a:pt x="17690" y="6"/>
                    </a:cubicBezTo>
                    <a:cubicBezTo>
                      <a:pt x="17690" y="4"/>
                      <a:pt x="17691" y="4"/>
                      <a:pt x="17692" y="4"/>
                    </a:cubicBezTo>
                    <a:close/>
                    <a:moveTo>
                      <a:pt x="17700" y="4"/>
                    </a:moveTo>
                    <a:lnTo>
                      <a:pt x="17700" y="4"/>
                    </a:lnTo>
                    <a:cubicBezTo>
                      <a:pt x="17701" y="4"/>
                      <a:pt x="17702" y="4"/>
                      <a:pt x="17702" y="6"/>
                    </a:cubicBezTo>
                    <a:cubicBezTo>
                      <a:pt x="17702" y="7"/>
                      <a:pt x="17701" y="8"/>
                      <a:pt x="17700" y="8"/>
                    </a:cubicBezTo>
                    <a:lnTo>
                      <a:pt x="17700" y="8"/>
                    </a:lnTo>
                    <a:cubicBezTo>
                      <a:pt x="17699" y="8"/>
                      <a:pt x="17698" y="7"/>
                      <a:pt x="17698" y="6"/>
                    </a:cubicBezTo>
                    <a:cubicBezTo>
                      <a:pt x="17698" y="4"/>
                      <a:pt x="17699" y="4"/>
                      <a:pt x="17700" y="4"/>
                    </a:cubicBezTo>
                    <a:close/>
                    <a:moveTo>
                      <a:pt x="17708" y="4"/>
                    </a:moveTo>
                    <a:lnTo>
                      <a:pt x="17708" y="4"/>
                    </a:lnTo>
                    <a:cubicBezTo>
                      <a:pt x="17709" y="4"/>
                      <a:pt x="17710" y="4"/>
                      <a:pt x="17710" y="6"/>
                    </a:cubicBezTo>
                    <a:cubicBezTo>
                      <a:pt x="17710" y="7"/>
                      <a:pt x="17709" y="8"/>
                      <a:pt x="17708" y="8"/>
                    </a:cubicBezTo>
                    <a:lnTo>
                      <a:pt x="17708" y="8"/>
                    </a:lnTo>
                    <a:cubicBezTo>
                      <a:pt x="17707" y="8"/>
                      <a:pt x="17706" y="7"/>
                      <a:pt x="17706" y="6"/>
                    </a:cubicBezTo>
                    <a:cubicBezTo>
                      <a:pt x="17706" y="4"/>
                      <a:pt x="17707" y="4"/>
                      <a:pt x="17708" y="4"/>
                    </a:cubicBezTo>
                    <a:close/>
                    <a:moveTo>
                      <a:pt x="17716" y="4"/>
                    </a:moveTo>
                    <a:lnTo>
                      <a:pt x="17716" y="4"/>
                    </a:lnTo>
                    <a:cubicBezTo>
                      <a:pt x="17717" y="4"/>
                      <a:pt x="17718" y="5"/>
                      <a:pt x="17718" y="6"/>
                    </a:cubicBezTo>
                    <a:cubicBezTo>
                      <a:pt x="17718" y="7"/>
                      <a:pt x="17717" y="8"/>
                      <a:pt x="17716" y="8"/>
                    </a:cubicBezTo>
                    <a:lnTo>
                      <a:pt x="17716" y="8"/>
                    </a:lnTo>
                    <a:cubicBezTo>
                      <a:pt x="17715" y="8"/>
                      <a:pt x="17714" y="7"/>
                      <a:pt x="17714" y="6"/>
                    </a:cubicBezTo>
                    <a:cubicBezTo>
                      <a:pt x="17714" y="5"/>
                      <a:pt x="17715" y="4"/>
                      <a:pt x="17716" y="4"/>
                    </a:cubicBezTo>
                    <a:close/>
                    <a:moveTo>
                      <a:pt x="17724" y="4"/>
                    </a:moveTo>
                    <a:lnTo>
                      <a:pt x="17724" y="4"/>
                    </a:lnTo>
                    <a:cubicBezTo>
                      <a:pt x="17725" y="4"/>
                      <a:pt x="17726" y="5"/>
                      <a:pt x="17726" y="6"/>
                    </a:cubicBezTo>
                    <a:cubicBezTo>
                      <a:pt x="17726" y="7"/>
                      <a:pt x="17725" y="8"/>
                      <a:pt x="17724" y="8"/>
                    </a:cubicBezTo>
                    <a:lnTo>
                      <a:pt x="17724" y="8"/>
                    </a:lnTo>
                    <a:cubicBezTo>
                      <a:pt x="17723" y="8"/>
                      <a:pt x="17722" y="7"/>
                      <a:pt x="17722" y="6"/>
                    </a:cubicBezTo>
                    <a:cubicBezTo>
                      <a:pt x="17722" y="5"/>
                      <a:pt x="17723" y="4"/>
                      <a:pt x="17724" y="4"/>
                    </a:cubicBezTo>
                    <a:close/>
                    <a:moveTo>
                      <a:pt x="17732" y="4"/>
                    </a:moveTo>
                    <a:lnTo>
                      <a:pt x="17732" y="4"/>
                    </a:lnTo>
                    <a:cubicBezTo>
                      <a:pt x="17733" y="4"/>
                      <a:pt x="17734" y="5"/>
                      <a:pt x="17734" y="6"/>
                    </a:cubicBezTo>
                    <a:cubicBezTo>
                      <a:pt x="17734" y="7"/>
                      <a:pt x="17733" y="8"/>
                      <a:pt x="17732" y="8"/>
                    </a:cubicBezTo>
                    <a:lnTo>
                      <a:pt x="17732" y="8"/>
                    </a:lnTo>
                    <a:cubicBezTo>
                      <a:pt x="17731" y="8"/>
                      <a:pt x="17730" y="7"/>
                      <a:pt x="17730" y="6"/>
                    </a:cubicBezTo>
                    <a:cubicBezTo>
                      <a:pt x="17730" y="5"/>
                      <a:pt x="17731" y="4"/>
                      <a:pt x="17732" y="4"/>
                    </a:cubicBezTo>
                    <a:close/>
                    <a:moveTo>
                      <a:pt x="17740" y="4"/>
                    </a:moveTo>
                    <a:lnTo>
                      <a:pt x="17740" y="4"/>
                    </a:lnTo>
                    <a:cubicBezTo>
                      <a:pt x="17741" y="4"/>
                      <a:pt x="17742" y="5"/>
                      <a:pt x="17742" y="6"/>
                    </a:cubicBezTo>
                    <a:cubicBezTo>
                      <a:pt x="17742" y="7"/>
                      <a:pt x="17741" y="8"/>
                      <a:pt x="17740" y="8"/>
                    </a:cubicBezTo>
                    <a:lnTo>
                      <a:pt x="17740" y="8"/>
                    </a:lnTo>
                    <a:cubicBezTo>
                      <a:pt x="17739" y="8"/>
                      <a:pt x="17738" y="7"/>
                      <a:pt x="17738" y="6"/>
                    </a:cubicBezTo>
                    <a:cubicBezTo>
                      <a:pt x="17738" y="5"/>
                      <a:pt x="17739" y="4"/>
                      <a:pt x="17740" y="4"/>
                    </a:cubicBezTo>
                    <a:close/>
                    <a:moveTo>
                      <a:pt x="17748" y="4"/>
                    </a:moveTo>
                    <a:lnTo>
                      <a:pt x="17748" y="4"/>
                    </a:lnTo>
                    <a:cubicBezTo>
                      <a:pt x="17749" y="4"/>
                      <a:pt x="17750" y="5"/>
                      <a:pt x="17750" y="6"/>
                    </a:cubicBezTo>
                    <a:cubicBezTo>
                      <a:pt x="17750" y="7"/>
                      <a:pt x="17749" y="8"/>
                      <a:pt x="17748" y="8"/>
                    </a:cubicBezTo>
                    <a:lnTo>
                      <a:pt x="17748" y="8"/>
                    </a:lnTo>
                    <a:cubicBezTo>
                      <a:pt x="17747" y="8"/>
                      <a:pt x="17746" y="7"/>
                      <a:pt x="17746" y="6"/>
                    </a:cubicBezTo>
                    <a:cubicBezTo>
                      <a:pt x="17746" y="5"/>
                      <a:pt x="17747" y="4"/>
                      <a:pt x="17748" y="4"/>
                    </a:cubicBezTo>
                    <a:close/>
                    <a:moveTo>
                      <a:pt x="17756" y="4"/>
                    </a:moveTo>
                    <a:lnTo>
                      <a:pt x="17756" y="4"/>
                    </a:lnTo>
                    <a:cubicBezTo>
                      <a:pt x="17757" y="4"/>
                      <a:pt x="17758" y="5"/>
                      <a:pt x="17758" y="6"/>
                    </a:cubicBezTo>
                    <a:cubicBezTo>
                      <a:pt x="17758" y="7"/>
                      <a:pt x="17757" y="8"/>
                      <a:pt x="17756" y="8"/>
                    </a:cubicBezTo>
                    <a:lnTo>
                      <a:pt x="17756" y="8"/>
                    </a:lnTo>
                    <a:cubicBezTo>
                      <a:pt x="17755" y="8"/>
                      <a:pt x="17754" y="7"/>
                      <a:pt x="17754" y="6"/>
                    </a:cubicBezTo>
                    <a:cubicBezTo>
                      <a:pt x="17754" y="5"/>
                      <a:pt x="17755" y="4"/>
                      <a:pt x="17756" y="4"/>
                    </a:cubicBezTo>
                    <a:close/>
                    <a:moveTo>
                      <a:pt x="17764" y="4"/>
                    </a:moveTo>
                    <a:lnTo>
                      <a:pt x="17764" y="4"/>
                    </a:lnTo>
                    <a:cubicBezTo>
                      <a:pt x="17765" y="4"/>
                      <a:pt x="17766" y="5"/>
                      <a:pt x="17766" y="6"/>
                    </a:cubicBezTo>
                    <a:cubicBezTo>
                      <a:pt x="17766" y="7"/>
                      <a:pt x="17765" y="8"/>
                      <a:pt x="17764" y="8"/>
                    </a:cubicBezTo>
                    <a:lnTo>
                      <a:pt x="17764" y="8"/>
                    </a:lnTo>
                    <a:cubicBezTo>
                      <a:pt x="17763" y="8"/>
                      <a:pt x="17762" y="7"/>
                      <a:pt x="17762" y="6"/>
                    </a:cubicBezTo>
                    <a:cubicBezTo>
                      <a:pt x="17762" y="5"/>
                      <a:pt x="17763" y="4"/>
                      <a:pt x="17764" y="4"/>
                    </a:cubicBezTo>
                    <a:close/>
                    <a:moveTo>
                      <a:pt x="17772" y="4"/>
                    </a:moveTo>
                    <a:lnTo>
                      <a:pt x="17772" y="4"/>
                    </a:lnTo>
                    <a:cubicBezTo>
                      <a:pt x="17773" y="4"/>
                      <a:pt x="17774" y="5"/>
                      <a:pt x="17774" y="6"/>
                    </a:cubicBezTo>
                    <a:cubicBezTo>
                      <a:pt x="17774" y="7"/>
                      <a:pt x="17773" y="8"/>
                      <a:pt x="17772" y="8"/>
                    </a:cubicBezTo>
                    <a:lnTo>
                      <a:pt x="17772" y="8"/>
                    </a:lnTo>
                    <a:cubicBezTo>
                      <a:pt x="17771" y="8"/>
                      <a:pt x="17770" y="7"/>
                      <a:pt x="17770" y="6"/>
                    </a:cubicBezTo>
                    <a:cubicBezTo>
                      <a:pt x="17770" y="5"/>
                      <a:pt x="17771" y="4"/>
                      <a:pt x="17772" y="4"/>
                    </a:cubicBezTo>
                    <a:close/>
                    <a:moveTo>
                      <a:pt x="17780" y="4"/>
                    </a:moveTo>
                    <a:lnTo>
                      <a:pt x="17780" y="4"/>
                    </a:lnTo>
                    <a:cubicBezTo>
                      <a:pt x="17781" y="4"/>
                      <a:pt x="17782" y="5"/>
                      <a:pt x="17782" y="6"/>
                    </a:cubicBezTo>
                    <a:cubicBezTo>
                      <a:pt x="17782" y="7"/>
                      <a:pt x="17781" y="8"/>
                      <a:pt x="17780" y="8"/>
                    </a:cubicBezTo>
                    <a:lnTo>
                      <a:pt x="17780" y="8"/>
                    </a:lnTo>
                    <a:cubicBezTo>
                      <a:pt x="17779" y="8"/>
                      <a:pt x="17778" y="7"/>
                      <a:pt x="17778" y="6"/>
                    </a:cubicBezTo>
                    <a:cubicBezTo>
                      <a:pt x="17778" y="5"/>
                      <a:pt x="17779" y="4"/>
                      <a:pt x="17780" y="4"/>
                    </a:cubicBezTo>
                    <a:close/>
                    <a:moveTo>
                      <a:pt x="17788" y="4"/>
                    </a:moveTo>
                    <a:lnTo>
                      <a:pt x="17788" y="4"/>
                    </a:lnTo>
                    <a:cubicBezTo>
                      <a:pt x="17789" y="4"/>
                      <a:pt x="17790" y="5"/>
                      <a:pt x="17790" y="6"/>
                    </a:cubicBezTo>
                    <a:cubicBezTo>
                      <a:pt x="17790" y="7"/>
                      <a:pt x="17789" y="8"/>
                      <a:pt x="17788" y="8"/>
                    </a:cubicBezTo>
                    <a:lnTo>
                      <a:pt x="17788" y="8"/>
                    </a:lnTo>
                    <a:cubicBezTo>
                      <a:pt x="17787" y="8"/>
                      <a:pt x="17786" y="7"/>
                      <a:pt x="17786" y="6"/>
                    </a:cubicBezTo>
                    <a:cubicBezTo>
                      <a:pt x="17786" y="5"/>
                      <a:pt x="17787" y="4"/>
                      <a:pt x="17788" y="4"/>
                    </a:cubicBezTo>
                    <a:close/>
                    <a:moveTo>
                      <a:pt x="17796" y="4"/>
                    </a:moveTo>
                    <a:lnTo>
                      <a:pt x="17796" y="4"/>
                    </a:lnTo>
                    <a:cubicBezTo>
                      <a:pt x="17797" y="4"/>
                      <a:pt x="17798" y="5"/>
                      <a:pt x="17798" y="6"/>
                    </a:cubicBezTo>
                    <a:cubicBezTo>
                      <a:pt x="17798" y="7"/>
                      <a:pt x="17797" y="8"/>
                      <a:pt x="17796" y="8"/>
                    </a:cubicBezTo>
                    <a:lnTo>
                      <a:pt x="17796" y="8"/>
                    </a:lnTo>
                    <a:cubicBezTo>
                      <a:pt x="17795" y="8"/>
                      <a:pt x="17794" y="7"/>
                      <a:pt x="17794" y="6"/>
                    </a:cubicBezTo>
                    <a:cubicBezTo>
                      <a:pt x="17794" y="5"/>
                      <a:pt x="17795" y="4"/>
                      <a:pt x="17796" y="4"/>
                    </a:cubicBezTo>
                    <a:close/>
                    <a:moveTo>
                      <a:pt x="17804" y="4"/>
                    </a:moveTo>
                    <a:lnTo>
                      <a:pt x="17804" y="4"/>
                    </a:lnTo>
                    <a:cubicBezTo>
                      <a:pt x="17805" y="4"/>
                      <a:pt x="17806" y="5"/>
                      <a:pt x="17806" y="6"/>
                    </a:cubicBezTo>
                    <a:cubicBezTo>
                      <a:pt x="17806" y="7"/>
                      <a:pt x="17805" y="8"/>
                      <a:pt x="17804" y="8"/>
                    </a:cubicBezTo>
                    <a:lnTo>
                      <a:pt x="17804" y="8"/>
                    </a:lnTo>
                    <a:cubicBezTo>
                      <a:pt x="17803" y="8"/>
                      <a:pt x="17802" y="7"/>
                      <a:pt x="17802" y="6"/>
                    </a:cubicBezTo>
                    <a:cubicBezTo>
                      <a:pt x="17802" y="5"/>
                      <a:pt x="17803" y="4"/>
                      <a:pt x="17804" y="4"/>
                    </a:cubicBezTo>
                    <a:close/>
                    <a:moveTo>
                      <a:pt x="17812" y="4"/>
                    </a:moveTo>
                    <a:lnTo>
                      <a:pt x="17812" y="4"/>
                    </a:lnTo>
                    <a:cubicBezTo>
                      <a:pt x="17813" y="4"/>
                      <a:pt x="17814" y="5"/>
                      <a:pt x="17814" y="6"/>
                    </a:cubicBezTo>
                    <a:cubicBezTo>
                      <a:pt x="17814" y="7"/>
                      <a:pt x="17813" y="8"/>
                      <a:pt x="17812" y="8"/>
                    </a:cubicBezTo>
                    <a:lnTo>
                      <a:pt x="17812" y="8"/>
                    </a:lnTo>
                    <a:cubicBezTo>
                      <a:pt x="17811" y="8"/>
                      <a:pt x="17810" y="7"/>
                      <a:pt x="17810" y="6"/>
                    </a:cubicBezTo>
                    <a:cubicBezTo>
                      <a:pt x="17810" y="5"/>
                      <a:pt x="17811" y="4"/>
                      <a:pt x="17812" y="4"/>
                    </a:cubicBezTo>
                    <a:close/>
                    <a:moveTo>
                      <a:pt x="17820" y="4"/>
                    </a:moveTo>
                    <a:lnTo>
                      <a:pt x="17820" y="4"/>
                    </a:lnTo>
                    <a:cubicBezTo>
                      <a:pt x="17821" y="4"/>
                      <a:pt x="17822" y="5"/>
                      <a:pt x="17822" y="6"/>
                    </a:cubicBezTo>
                    <a:cubicBezTo>
                      <a:pt x="17822" y="7"/>
                      <a:pt x="17821" y="8"/>
                      <a:pt x="17820" y="8"/>
                    </a:cubicBezTo>
                    <a:lnTo>
                      <a:pt x="17820" y="8"/>
                    </a:lnTo>
                    <a:cubicBezTo>
                      <a:pt x="17819" y="8"/>
                      <a:pt x="17818" y="7"/>
                      <a:pt x="17818" y="6"/>
                    </a:cubicBezTo>
                    <a:cubicBezTo>
                      <a:pt x="17818" y="5"/>
                      <a:pt x="17819" y="4"/>
                      <a:pt x="17820" y="4"/>
                    </a:cubicBezTo>
                    <a:close/>
                    <a:moveTo>
                      <a:pt x="17828" y="4"/>
                    </a:moveTo>
                    <a:lnTo>
                      <a:pt x="17828" y="4"/>
                    </a:lnTo>
                    <a:cubicBezTo>
                      <a:pt x="17829" y="4"/>
                      <a:pt x="17830" y="5"/>
                      <a:pt x="17830" y="6"/>
                    </a:cubicBezTo>
                    <a:cubicBezTo>
                      <a:pt x="17830" y="7"/>
                      <a:pt x="17829" y="8"/>
                      <a:pt x="17828" y="8"/>
                    </a:cubicBezTo>
                    <a:lnTo>
                      <a:pt x="17828" y="8"/>
                    </a:lnTo>
                    <a:cubicBezTo>
                      <a:pt x="17827" y="8"/>
                      <a:pt x="17826" y="7"/>
                      <a:pt x="17826" y="6"/>
                    </a:cubicBezTo>
                    <a:cubicBezTo>
                      <a:pt x="17826" y="5"/>
                      <a:pt x="17827" y="4"/>
                      <a:pt x="17828" y="4"/>
                    </a:cubicBezTo>
                    <a:close/>
                    <a:moveTo>
                      <a:pt x="17836" y="4"/>
                    </a:moveTo>
                    <a:lnTo>
                      <a:pt x="17836" y="4"/>
                    </a:lnTo>
                    <a:cubicBezTo>
                      <a:pt x="17837" y="4"/>
                      <a:pt x="17838" y="5"/>
                      <a:pt x="17838" y="6"/>
                    </a:cubicBezTo>
                    <a:cubicBezTo>
                      <a:pt x="17838" y="7"/>
                      <a:pt x="17837" y="8"/>
                      <a:pt x="17836" y="8"/>
                    </a:cubicBezTo>
                    <a:lnTo>
                      <a:pt x="17836" y="8"/>
                    </a:lnTo>
                    <a:cubicBezTo>
                      <a:pt x="17835" y="8"/>
                      <a:pt x="17834" y="7"/>
                      <a:pt x="17834" y="6"/>
                    </a:cubicBezTo>
                    <a:cubicBezTo>
                      <a:pt x="17834" y="5"/>
                      <a:pt x="17835" y="4"/>
                      <a:pt x="17836" y="4"/>
                    </a:cubicBezTo>
                    <a:close/>
                    <a:moveTo>
                      <a:pt x="17844" y="4"/>
                    </a:moveTo>
                    <a:lnTo>
                      <a:pt x="17844" y="4"/>
                    </a:lnTo>
                    <a:cubicBezTo>
                      <a:pt x="17845" y="4"/>
                      <a:pt x="17846" y="5"/>
                      <a:pt x="17846" y="6"/>
                    </a:cubicBezTo>
                    <a:cubicBezTo>
                      <a:pt x="17846" y="7"/>
                      <a:pt x="17845" y="8"/>
                      <a:pt x="17844" y="8"/>
                    </a:cubicBezTo>
                    <a:lnTo>
                      <a:pt x="17844" y="8"/>
                    </a:lnTo>
                    <a:cubicBezTo>
                      <a:pt x="17843" y="8"/>
                      <a:pt x="17842" y="7"/>
                      <a:pt x="17842" y="6"/>
                    </a:cubicBezTo>
                    <a:cubicBezTo>
                      <a:pt x="17842" y="5"/>
                      <a:pt x="17843" y="4"/>
                      <a:pt x="17844" y="4"/>
                    </a:cubicBezTo>
                    <a:close/>
                    <a:moveTo>
                      <a:pt x="17852" y="4"/>
                    </a:moveTo>
                    <a:lnTo>
                      <a:pt x="17852" y="4"/>
                    </a:lnTo>
                    <a:cubicBezTo>
                      <a:pt x="17853" y="4"/>
                      <a:pt x="17854" y="5"/>
                      <a:pt x="17854" y="6"/>
                    </a:cubicBezTo>
                    <a:cubicBezTo>
                      <a:pt x="17854" y="7"/>
                      <a:pt x="17853" y="8"/>
                      <a:pt x="17852" y="8"/>
                    </a:cubicBezTo>
                    <a:lnTo>
                      <a:pt x="17852" y="8"/>
                    </a:lnTo>
                    <a:cubicBezTo>
                      <a:pt x="17851" y="8"/>
                      <a:pt x="17850" y="7"/>
                      <a:pt x="17850" y="6"/>
                    </a:cubicBezTo>
                    <a:cubicBezTo>
                      <a:pt x="17850" y="5"/>
                      <a:pt x="17851" y="4"/>
                      <a:pt x="17852" y="4"/>
                    </a:cubicBezTo>
                    <a:close/>
                    <a:moveTo>
                      <a:pt x="17860" y="4"/>
                    </a:moveTo>
                    <a:lnTo>
                      <a:pt x="17860" y="4"/>
                    </a:lnTo>
                    <a:cubicBezTo>
                      <a:pt x="17861" y="4"/>
                      <a:pt x="17862" y="5"/>
                      <a:pt x="17862" y="6"/>
                    </a:cubicBezTo>
                    <a:cubicBezTo>
                      <a:pt x="17862" y="7"/>
                      <a:pt x="17861" y="8"/>
                      <a:pt x="17860" y="8"/>
                    </a:cubicBezTo>
                    <a:lnTo>
                      <a:pt x="17860" y="8"/>
                    </a:lnTo>
                    <a:cubicBezTo>
                      <a:pt x="17859" y="8"/>
                      <a:pt x="17858" y="7"/>
                      <a:pt x="17858" y="6"/>
                    </a:cubicBezTo>
                    <a:cubicBezTo>
                      <a:pt x="17858" y="5"/>
                      <a:pt x="17859" y="4"/>
                      <a:pt x="17860" y="4"/>
                    </a:cubicBezTo>
                    <a:close/>
                    <a:moveTo>
                      <a:pt x="17868" y="4"/>
                    </a:moveTo>
                    <a:lnTo>
                      <a:pt x="17868" y="4"/>
                    </a:lnTo>
                    <a:cubicBezTo>
                      <a:pt x="17869" y="4"/>
                      <a:pt x="17870" y="5"/>
                      <a:pt x="17870" y="6"/>
                    </a:cubicBezTo>
                    <a:cubicBezTo>
                      <a:pt x="17870" y="7"/>
                      <a:pt x="17869" y="8"/>
                      <a:pt x="17868" y="8"/>
                    </a:cubicBezTo>
                    <a:lnTo>
                      <a:pt x="17868" y="8"/>
                    </a:lnTo>
                    <a:cubicBezTo>
                      <a:pt x="17867" y="8"/>
                      <a:pt x="17866" y="7"/>
                      <a:pt x="17866" y="6"/>
                    </a:cubicBezTo>
                    <a:cubicBezTo>
                      <a:pt x="17866" y="5"/>
                      <a:pt x="17867" y="4"/>
                      <a:pt x="17868" y="4"/>
                    </a:cubicBezTo>
                    <a:close/>
                    <a:moveTo>
                      <a:pt x="17876" y="4"/>
                    </a:moveTo>
                    <a:lnTo>
                      <a:pt x="17876" y="4"/>
                    </a:lnTo>
                    <a:cubicBezTo>
                      <a:pt x="17877" y="4"/>
                      <a:pt x="17878" y="5"/>
                      <a:pt x="17878" y="6"/>
                    </a:cubicBezTo>
                    <a:cubicBezTo>
                      <a:pt x="17878" y="7"/>
                      <a:pt x="17877" y="8"/>
                      <a:pt x="17876" y="8"/>
                    </a:cubicBezTo>
                    <a:lnTo>
                      <a:pt x="17876" y="8"/>
                    </a:lnTo>
                    <a:cubicBezTo>
                      <a:pt x="17875" y="8"/>
                      <a:pt x="17874" y="7"/>
                      <a:pt x="17874" y="6"/>
                    </a:cubicBezTo>
                    <a:cubicBezTo>
                      <a:pt x="17874" y="5"/>
                      <a:pt x="17875" y="4"/>
                      <a:pt x="17876" y="4"/>
                    </a:cubicBezTo>
                    <a:close/>
                    <a:moveTo>
                      <a:pt x="17884" y="4"/>
                    </a:moveTo>
                    <a:lnTo>
                      <a:pt x="17884" y="4"/>
                    </a:lnTo>
                    <a:cubicBezTo>
                      <a:pt x="17885" y="4"/>
                      <a:pt x="17886" y="5"/>
                      <a:pt x="17886" y="6"/>
                    </a:cubicBezTo>
                    <a:cubicBezTo>
                      <a:pt x="17886" y="7"/>
                      <a:pt x="17885" y="8"/>
                      <a:pt x="17884" y="8"/>
                    </a:cubicBezTo>
                    <a:lnTo>
                      <a:pt x="17884" y="8"/>
                    </a:lnTo>
                    <a:cubicBezTo>
                      <a:pt x="17883" y="8"/>
                      <a:pt x="17882" y="7"/>
                      <a:pt x="17882" y="6"/>
                    </a:cubicBezTo>
                    <a:cubicBezTo>
                      <a:pt x="17882" y="5"/>
                      <a:pt x="17883" y="4"/>
                      <a:pt x="17884" y="4"/>
                    </a:cubicBezTo>
                    <a:close/>
                    <a:moveTo>
                      <a:pt x="17892" y="4"/>
                    </a:moveTo>
                    <a:lnTo>
                      <a:pt x="17892" y="4"/>
                    </a:lnTo>
                    <a:cubicBezTo>
                      <a:pt x="17893" y="4"/>
                      <a:pt x="17894" y="5"/>
                      <a:pt x="17894" y="6"/>
                    </a:cubicBezTo>
                    <a:cubicBezTo>
                      <a:pt x="17894" y="7"/>
                      <a:pt x="17893" y="8"/>
                      <a:pt x="17892" y="8"/>
                    </a:cubicBezTo>
                    <a:lnTo>
                      <a:pt x="17892" y="8"/>
                    </a:lnTo>
                    <a:cubicBezTo>
                      <a:pt x="17891" y="8"/>
                      <a:pt x="17890" y="7"/>
                      <a:pt x="17890" y="6"/>
                    </a:cubicBezTo>
                    <a:cubicBezTo>
                      <a:pt x="17890" y="5"/>
                      <a:pt x="17891" y="4"/>
                      <a:pt x="17892" y="4"/>
                    </a:cubicBezTo>
                    <a:close/>
                    <a:moveTo>
                      <a:pt x="17900" y="4"/>
                    </a:moveTo>
                    <a:lnTo>
                      <a:pt x="17900" y="4"/>
                    </a:lnTo>
                    <a:cubicBezTo>
                      <a:pt x="17901" y="4"/>
                      <a:pt x="17902" y="5"/>
                      <a:pt x="17902" y="6"/>
                    </a:cubicBezTo>
                    <a:cubicBezTo>
                      <a:pt x="17902" y="7"/>
                      <a:pt x="17901" y="8"/>
                      <a:pt x="17900" y="8"/>
                    </a:cubicBezTo>
                    <a:lnTo>
                      <a:pt x="17900" y="8"/>
                    </a:lnTo>
                    <a:cubicBezTo>
                      <a:pt x="17899" y="8"/>
                      <a:pt x="17898" y="7"/>
                      <a:pt x="17898" y="6"/>
                    </a:cubicBezTo>
                    <a:cubicBezTo>
                      <a:pt x="17898" y="5"/>
                      <a:pt x="17899" y="4"/>
                      <a:pt x="17900" y="4"/>
                    </a:cubicBezTo>
                    <a:close/>
                    <a:moveTo>
                      <a:pt x="17908" y="4"/>
                    </a:moveTo>
                    <a:lnTo>
                      <a:pt x="17908" y="4"/>
                    </a:lnTo>
                    <a:cubicBezTo>
                      <a:pt x="17909" y="4"/>
                      <a:pt x="17910" y="5"/>
                      <a:pt x="17910" y="6"/>
                    </a:cubicBezTo>
                    <a:cubicBezTo>
                      <a:pt x="17910" y="7"/>
                      <a:pt x="17909" y="8"/>
                      <a:pt x="17908" y="8"/>
                    </a:cubicBezTo>
                    <a:lnTo>
                      <a:pt x="17908" y="8"/>
                    </a:lnTo>
                    <a:cubicBezTo>
                      <a:pt x="17907" y="8"/>
                      <a:pt x="17906" y="7"/>
                      <a:pt x="17906" y="6"/>
                    </a:cubicBezTo>
                    <a:cubicBezTo>
                      <a:pt x="17906" y="5"/>
                      <a:pt x="17907" y="4"/>
                      <a:pt x="17908" y="4"/>
                    </a:cubicBezTo>
                    <a:close/>
                    <a:moveTo>
                      <a:pt x="17916" y="4"/>
                    </a:moveTo>
                    <a:lnTo>
                      <a:pt x="17916" y="4"/>
                    </a:lnTo>
                    <a:cubicBezTo>
                      <a:pt x="17917" y="4"/>
                      <a:pt x="17918" y="5"/>
                      <a:pt x="17918" y="6"/>
                    </a:cubicBezTo>
                    <a:cubicBezTo>
                      <a:pt x="17918" y="7"/>
                      <a:pt x="17917" y="8"/>
                      <a:pt x="17916" y="8"/>
                    </a:cubicBezTo>
                    <a:lnTo>
                      <a:pt x="17916" y="8"/>
                    </a:lnTo>
                    <a:cubicBezTo>
                      <a:pt x="17915" y="8"/>
                      <a:pt x="17914" y="7"/>
                      <a:pt x="17914" y="6"/>
                    </a:cubicBezTo>
                    <a:cubicBezTo>
                      <a:pt x="17914" y="5"/>
                      <a:pt x="17915" y="4"/>
                      <a:pt x="17916" y="4"/>
                    </a:cubicBezTo>
                    <a:close/>
                    <a:moveTo>
                      <a:pt x="17924" y="4"/>
                    </a:moveTo>
                    <a:lnTo>
                      <a:pt x="17924" y="4"/>
                    </a:lnTo>
                    <a:cubicBezTo>
                      <a:pt x="17925" y="4"/>
                      <a:pt x="17926" y="5"/>
                      <a:pt x="17926" y="6"/>
                    </a:cubicBezTo>
                    <a:cubicBezTo>
                      <a:pt x="17926" y="7"/>
                      <a:pt x="17925" y="8"/>
                      <a:pt x="17924" y="8"/>
                    </a:cubicBezTo>
                    <a:lnTo>
                      <a:pt x="17924" y="8"/>
                    </a:lnTo>
                    <a:cubicBezTo>
                      <a:pt x="17923" y="8"/>
                      <a:pt x="17922" y="7"/>
                      <a:pt x="17922" y="6"/>
                    </a:cubicBezTo>
                    <a:cubicBezTo>
                      <a:pt x="17922" y="5"/>
                      <a:pt x="17923" y="4"/>
                      <a:pt x="17924" y="4"/>
                    </a:cubicBezTo>
                    <a:close/>
                    <a:moveTo>
                      <a:pt x="17932" y="4"/>
                    </a:moveTo>
                    <a:lnTo>
                      <a:pt x="17932" y="4"/>
                    </a:lnTo>
                    <a:cubicBezTo>
                      <a:pt x="17933" y="4"/>
                      <a:pt x="17934" y="5"/>
                      <a:pt x="17934" y="6"/>
                    </a:cubicBezTo>
                    <a:cubicBezTo>
                      <a:pt x="17934" y="7"/>
                      <a:pt x="17933" y="8"/>
                      <a:pt x="17932" y="8"/>
                    </a:cubicBezTo>
                    <a:lnTo>
                      <a:pt x="17932" y="8"/>
                    </a:lnTo>
                    <a:cubicBezTo>
                      <a:pt x="17931" y="8"/>
                      <a:pt x="17930" y="7"/>
                      <a:pt x="17930" y="6"/>
                    </a:cubicBezTo>
                    <a:cubicBezTo>
                      <a:pt x="17930" y="5"/>
                      <a:pt x="17931" y="4"/>
                      <a:pt x="17932" y="4"/>
                    </a:cubicBezTo>
                    <a:close/>
                    <a:moveTo>
                      <a:pt x="17940" y="4"/>
                    </a:moveTo>
                    <a:lnTo>
                      <a:pt x="17940" y="4"/>
                    </a:lnTo>
                    <a:cubicBezTo>
                      <a:pt x="17941" y="4"/>
                      <a:pt x="17942" y="5"/>
                      <a:pt x="17942" y="6"/>
                    </a:cubicBezTo>
                    <a:cubicBezTo>
                      <a:pt x="17942" y="7"/>
                      <a:pt x="17941" y="8"/>
                      <a:pt x="17940" y="8"/>
                    </a:cubicBezTo>
                    <a:lnTo>
                      <a:pt x="17940" y="8"/>
                    </a:lnTo>
                    <a:cubicBezTo>
                      <a:pt x="17939" y="8"/>
                      <a:pt x="17938" y="7"/>
                      <a:pt x="17938" y="6"/>
                    </a:cubicBezTo>
                    <a:cubicBezTo>
                      <a:pt x="17938" y="5"/>
                      <a:pt x="17939" y="4"/>
                      <a:pt x="17940" y="4"/>
                    </a:cubicBezTo>
                    <a:close/>
                    <a:moveTo>
                      <a:pt x="17948" y="4"/>
                    </a:moveTo>
                    <a:lnTo>
                      <a:pt x="17948" y="4"/>
                    </a:lnTo>
                    <a:cubicBezTo>
                      <a:pt x="17949" y="4"/>
                      <a:pt x="17950" y="5"/>
                      <a:pt x="17950" y="6"/>
                    </a:cubicBezTo>
                    <a:cubicBezTo>
                      <a:pt x="17950" y="7"/>
                      <a:pt x="17949" y="8"/>
                      <a:pt x="17948" y="8"/>
                    </a:cubicBezTo>
                    <a:lnTo>
                      <a:pt x="17948" y="8"/>
                    </a:lnTo>
                    <a:cubicBezTo>
                      <a:pt x="17947" y="8"/>
                      <a:pt x="17946" y="7"/>
                      <a:pt x="17946" y="6"/>
                    </a:cubicBezTo>
                    <a:cubicBezTo>
                      <a:pt x="17946" y="5"/>
                      <a:pt x="17947" y="4"/>
                      <a:pt x="17948" y="4"/>
                    </a:cubicBezTo>
                    <a:close/>
                    <a:moveTo>
                      <a:pt x="17956" y="4"/>
                    </a:moveTo>
                    <a:lnTo>
                      <a:pt x="17956" y="4"/>
                    </a:lnTo>
                    <a:cubicBezTo>
                      <a:pt x="17957" y="4"/>
                      <a:pt x="17958" y="5"/>
                      <a:pt x="17958" y="6"/>
                    </a:cubicBezTo>
                    <a:cubicBezTo>
                      <a:pt x="17958" y="7"/>
                      <a:pt x="17957" y="8"/>
                      <a:pt x="17956" y="8"/>
                    </a:cubicBezTo>
                    <a:lnTo>
                      <a:pt x="17956" y="8"/>
                    </a:lnTo>
                    <a:cubicBezTo>
                      <a:pt x="17955" y="8"/>
                      <a:pt x="17954" y="7"/>
                      <a:pt x="17954" y="6"/>
                    </a:cubicBezTo>
                    <a:cubicBezTo>
                      <a:pt x="17954" y="5"/>
                      <a:pt x="17955" y="4"/>
                      <a:pt x="17956" y="4"/>
                    </a:cubicBezTo>
                    <a:close/>
                    <a:moveTo>
                      <a:pt x="17964" y="4"/>
                    </a:moveTo>
                    <a:lnTo>
                      <a:pt x="17964" y="4"/>
                    </a:lnTo>
                    <a:cubicBezTo>
                      <a:pt x="17965" y="4"/>
                      <a:pt x="17966" y="5"/>
                      <a:pt x="17966" y="6"/>
                    </a:cubicBezTo>
                    <a:cubicBezTo>
                      <a:pt x="17966" y="7"/>
                      <a:pt x="17965" y="8"/>
                      <a:pt x="17964" y="8"/>
                    </a:cubicBezTo>
                    <a:lnTo>
                      <a:pt x="17964" y="8"/>
                    </a:lnTo>
                    <a:cubicBezTo>
                      <a:pt x="17963" y="8"/>
                      <a:pt x="17962" y="7"/>
                      <a:pt x="17962" y="6"/>
                    </a:cubicBezTo>
                    <a:cubicBezTo>
                      <a:pt x="17962" y="5"/>
                      <a:pt x="17963" y="4"/>
                      <a:pt x="17964" y="4"/>
                    </a:cubicBezTo>
                    <a:close/>
                    <a:moveTo>
                      <a:pt x="17972" y="4"/>
                    </a:moveTo>
                    <a:lnTo>
                      <a:pt x="17972" y="4"/>
                    </a:lnTo>
                    <a:cubicBezTo>
                      <a:pt x="17973" y="4"/>
                      <a:pt x="17974" y="5"/>
                      <a:pt x="17974" y="6"/>
                    </a:cubicBezTo>
                    <a:cubicBezTo>
                      <a:pt x="17974" y="7"/>
                      <a:pt x="17973" y="8"/>
                      <a:pt x="17972" y="8"/>
                    </a:cubicBezTo>
                    <a:lnTo>
                      <a:pt x="17972" y="8"/>
                    </a:lnTo>
                    <a:cubicBezTo>
                      <a:pt x="17971" y="8"/>
                      <a:pt x="17970" y="7"/>
                      <a:pt x="17970" y="6"/>
                    </a:cubicBezTo>
                    <a:cubicBezTo>
                      <a:pt x="17970" y="5"/>
                      <a:pt x="17971" y="4"/>
                      <a:pt x="17972" y="4"/>
                    </a:cubicBezTo>
                    <a:close/>
                    <a:moveTo>
                      <a:pt x="17980" y="4"/>
                    </a:moveTo>
                    <a:lnTo>
                      <a:pt x="17980" y="4"/>
                    </a:lnTo>
                    <a:cubicBezTo>
                      <a:pt x="17981" y="4"/>
                      <a:pt x="17982" y="5"/>
                      <a:pt x="17982" y="6"/>
                    </a:cubicBezTo>
                    <a:cubicBezTo>
                      <a:pt x="17982" y="7"/>
                      <a:pt x="17981" y="8"/>
                      <a:pt x="17980" y="8"/>
                    </a:cubicBezTo>
                    <a:lnTo>
                      <a:pt x="17980" y="8"/>
                    </a:lnTo>
                    <a:cubicBezTo>
                      <a:pt x="17979" y="8"/>
                      <a:pt x="17978" y="7"/>
                      <a:pt x="17978" y="6"/>
                    </a:cubicBezTo>
                    <a:cubicBezTo>
                      <a:pt x="17978" y="5"/>
                      <a:pt x="17979" y="4"/>
                      <a:pt x="17980" y="4"/>
                    </a:cubicBezTo>
                    <a:close/>
                    <a:moveTo>
                      <a:pt x="17988" y="4"/>
                    </a:moveTo>
                    <a:lnTo>
                      <a:pt x="17988" y="4"/>
                    </a:lnTo>
                    <a:cubicBezTo>
                      <a:pt x="17989" y="4"/>
                      <a:pt x="17990" y="5"/>
                      <a:pt x="17990" y="6"/>
                    </a:cubicBezTo>
                    <a:cubicBezTo>
                      <a:pt x="17990" y="7"/>
                      <a:pt x="17989" y="8"/>
                      <a:pt x="17988" y="8"/>
                    </a:cubicBezTo>
                    <a:lnTo>
                      <a:pt x="17988" y="8"/>
                    </a:lnTo>
                    <a:cubicBezTo>
                      <a:pt x="17987" y="8"/>
                      <a:pt x="17986" y="7"/>
                      <a:pt x="17986" y="6"/>
                    </a:cubicBezTo>
                    <a:cubicBezTo>
                      <a:pt x="17986" y="5"/>
                      <a:pt x="17987" y="4"/>
                      <a:pt x="17988" y="4"/>
                    </a:cubicBezTo>
                    <a:close/>
                    <a:moveTo>
                      <a:pt x="17996" y="4"/>
                    </a:moveTo>
                    <a:lnTo>
                      <a:pt x="17996" y="4"/>
                    </a:lnTo>
                    <a:cubicBezTo>
                      <a:pt x="17997" y="4"/>
                      <a:pt x="17998" y="5"/>
                      <a:pt x="17998" y="6"/>
                    </a:cubicBezTo>
                    <a:cubicBezTo>
                      <a:pt x="17998" y="7"/>
                      <a:pt x="17997" y="8"/>
                      <a:pt x="17996" y="8"/>
                    </a:cubicBezTo>
                    <a:lnTo>
                      <a:pt x="17996" y="8"/>
                    </a:lnTo>
                    <a:cubicBezTo>
                      <a:pt x="17995" y="8"/>
                      <a:pt x="17994" y="7"/>
                      <a:pt x="17994" y="6"/>
                    </a:cubicBezTo>
                    <a:cubicBezTo>
                      <a:pt x="17994" y="5"/>
                      <a:pt x="17995" y="4"/>
                      <a:pt x="17996" y="4"/>
                    </a:cubicBezTo>
                    <a:close/>
                    <a:moveTo>
                      <a:pt x="18004" y="4"/>
                    </a:moveTo>
                    <a:lnTo>
                      <a:pt x="18004" y="4"/>
                    </a:lnTo>
                    <a:cubicBezTo>
                      <a:pt x="18005" y="4"/>
                      <a:pt x="18006" y="5"/>
                      <a:pt x="18006" y="6"/>
                    </a:cubicBezTo>
                    <a:cubicBezTo>
                      <a:pt x="18006" y="7"/>
                      <a:pt x="18005" y="8"/>
                      <a:pt x="18004" y="8"/>
                    </a:cubicBezTo>
                    <a:lnTo>
                      <a:pt x="18004" y="8"/>
                    </a:lnTo>
                    <a:cubicBezTo>
                      <a:pt x="18003" y="8"/>
                      <a:pt x="18002" y="7"/>
                      <a:pt x="18002" y="6"/>
                    </a:cubicBezTo>
                    <a:cubicBezTo>
                      <a:pt x="18002" y="5"/>
                      <a:pt x="18003" y="4"/>
                      <a:pt x="18004" y="4"/>
                    </a:cubicBezTo>
                    <a:close/>
                    <a:moveTo>
                      <a:pt x="18012" y="4"/>
                    </a:moveTo>
                    <a:lnTo>
                      <a:pt x="18012" y="4"/>
                    </a:lnTo>
                    <a:cubicBezTo>
                      <a:pt x="18013" y="4"/>
                      <a:pt x="18014" y="5"/>
                      <a:pt x="18014" y="6"/>
                    </a:cubicBezTo>
                    <a:cubicBezTo>
                      <a:pt x="18014" y="7"/>
                      <a:pt x="18013" y="8"/>
                      <a:pt x="18012" y="8"/>
                    </a:cubicBezTo>
                    <a:lnTo>
                      <a:pt x="18012" y="8"/>
                    </a:lnTo>
                    <a:cubicBezTo>
                      <a:pt x="18011" y="8"/>
                      <a:pt x="18010" y="7"/>
                      <a:pt x="18010" y="6"/>
                    </a:cubicBezTo>
                    <a:cubicBezTo>
                      <a:pt x="18010" y="5"/>
                      <a:pt x="18011" y="4"/>
                      <a:pt x="18012" y="4"/>
                    </a:cubicBezTo>
                    <a:close/>
                    <a:moveTo>
                      <a:pt x="18020" y="4"/>
                    </a:moveTo>
                    <a:lnTo>
                      <a:pt x="18020" y="4"/>
                    </a:lnTo>
                    <a:cubicBezTo>
                      <a:pt x="18021" y="4"/>
                      <a:pt x="18022" y="5"/>
                      <a:pt x="18022" y="6"/>
                    </a:cubicBezTo>
                    <a:cubicBezTo>
                      <a:pt x="18022" y="7"/>
                      <a:pt x="18021" y="8"/>
                      <a:pt x="18020" y="8"/>
                    </a:cubicBezTo>
                    <a:lnTo>
                      <a:pt x="18020" y="8"/>
                    </a:lnTo>
                    <a:cubicBezTo>
                      <a:pt x="18019" y="8"/>
                      <a:pt x="18018" y="7"/>
                      <a:pt x="18018" y="6"/>
                    </a:cubicBezTo>
                    <a:cubicBezTo>
                      <a:pt x="18018" y="5"/>
                      <a:pt x="18019" y="4"/>
                      <a:pt x="18020" y="4"/>
                    </a:cubicBezTo>
                    <a:close/>
                    <a:moveTo>
                      <a:pt x="18028" y="4"/>
                    </a:moveTo>
                    <a:lnTo>
                      <a:pt x="18028" y="4"/>
                    </a:lnTo>
                    <a:cubicBezTo>
                      <a:pt x="18029" y="4"/>
                      <a:pt x="18030" y="5"/>
                      <a:pt x="18030" y="6"/>
                    </a:cubicBezTo>
                    <a:cubicBezTo>
                      <a:pt x="18030" y="7"/>
                      <a:pt x="18029" y="8"/>
                      <a:pt x="18028" y="8"/>
                    </a:cubicBezTo>
                    <a:lnTo>
                      <a:pt x="18028" y="8"/>
                    </a:lnTo>
                    <a:cubicBezTo>
                      <a:pt x="18027" y="8"/>
                      <a:pt x="18026" y="7"/>
                      <a:pt x="18026" y="6"/>
                    </a:cubicBezTo>
                    <a:cubicBezTo>
                      <a:pt x="18026" y="5"/>
                      <a:pt x="18027" y="4"/>
                      <a:pt x="18028" y="4"/>
                    </a:cubicBezTo>
                    <a:close/>
                    <a:moveTo>
                      <a:pt x="18036" y="4"/>
                    </a:moveTo>
                    <a:lnTo>
                      <a:pt x="18036" y="4"/>
                    </a:lnTo>
                    <a:cubicBezTo>
                      <a:pt x="18037" y="4"/>
                      <a:pt x="18038" y="5"/>
                      <a:pt x="18038" y="6"/>
                    </a:cubicBezTo>
                    <a:cubicBezTo>
                      <a:pt x="18038" y="7"/>
                      <a:pt x="18037" y="8"/>
                      <a:pt x="18036" y="8"/>
                    </a:cubicBezTo>
                    <a:lnTo>
                      <a:pt x="18036" y="8"/>
                    </a:lnTo>
                    <a:cubicBezTo>
                      <a:pt x="18035" y="8"/>
                      <a:pt x="18034" y="7"/>
                      <a:pt x="18034" y="6"/>
                    </a:cubicBezTo>
                    <a:cubicBezTo>
                      <a:pt x="18034" y="5"/>
                      <a:pt x="18035" y="4"/>
                      <a:pt x="18036" y="4"/>
                    </a:cubicBezTo>
                    <a:close/>
                    <a:moveTo>
                      <a:pt x="18044" y="4"/>
                    </a:moveTo>
                    <a:lnTo>
                      <a:pt x="18044" y="4"/>
                    </a:lnTo>
                    <a:cubicBezTo>
                      <a:pt x="18045" y="4"/>
                      <a:pt x="18046" y="5"/>
                      <a:pt x="18046" y="6"/>
                    </a:cubicBezTo>
                    <a:cubicBezTo>
                      <a:pt x="18046" y="7"/>
                      <a:pt x="18045" y="8"/>
                      <a:pt x="18044" y="8"/>
                    </a:cubicBezTo>
                    <a:lnTo>
                      <a:pt x="18044" y="8"/>
                    </a:lnTo>
                    <a:cubicBezTo>
                      <a:pt x="18043" y="8"/>
                      <a:pt x="18042" y="7"/>
                      <a:pt x="18042" y="6"/>
                    </a:cubicBezTo>
                    <a:cubicBezTo>
                      <a:pt x="18042" y="5"/>
                      <a:pt x="18043" y="4"/>
                      <a:pt x="18044" y="4"/>
                    </a:cubicBezTo>
                    <a:close/>
                    <a:moveTo>
                      <a:pt x="18052" y="4"/>
                    </a:moveTo>
                    <a:lnTo>
                      <a:pt x="18052" y="4"/>
                    </a:lnTo>
                    <a:cubicBezTo>
                      <a:pt x="18053" y="4"/>
                      <a:pt x="18054" y="5"/>
                      <a:pt x="18054" y="6"/>
                    </a:cubicBezTo>
                    <a:cubicBezTo>
                      <a:pt x="18054" y="7"/>
                      <a:pt x="18053" y="8"/>
                      <a:pt x="18052" y="8"/>
                    </a:cubicBezTo>
                    <a:lnTo>
                      <a:pt x="18052" y="8"/>
                    </a:lnTo>
                    <a:cubicBezTo>
                      <a:pt x="18051" y="8"/>
                      <a:pt x="18050" y="7"/>
                      <a:pt x="18050" y="6"/>
                    </a:cubicBezTo>
                    <a:cubicBezTo>
                      <a:pt x="18050" y="5"/>
                      <a:pt x="18051" y="4"/>
                      <a:pt x="18052" y="4"/>
                    </a:cubicBezTo>
                    <a:close/>
                    <a:moveTo>
                      <a:pt x="18060" y="4"/>
                    </a:moveTo>
                    <a:lnTo>
                      <a:pt x="18060" y="4"/>
                    </a:lnTo>
                    <a:cubicBezTo>
                      <a:pt x="18061" y="4"/>
                      <a:pt x="18062" y="5"/>
                      <a:pt x="18062" y="6"/>
                    </a:cubicBezTo>
                    <a:cubicBezTo>
                      <a:pt x="18062" y="7"/>
                      <a:pt x="18061" y="8"/>
                      <a:pt x="18060" y="8"/>
                    </a:cubicBezTo>
                    <a:lnTo>
                      <a:pt x="18060" y="8"/>
                    </a:lnTo>
                    <a:cubicBezTo>
                      <a:pt x="18059" y="8"/>
                      <a:pt x="18058" y="7"/>
                      <a:pt x="18058" y="6"/>
                    </a:cubicBezTo>
                    <a:cubicBezTo>
                      <a:pt x="18058" y="5"/>
                      <a:pt x="18059" y="4"/>
                      <a:pt x="18060" y="4"/>
                    </a:cubicBezTo>
                    <a:close/>
                    <a:moveTo>
                      <a:pt x="18068" y="4"/>
                    </a:moveTo>
                    <a:lnTo>
                      <a:pt x="18068" y="4"/>
                    </a:lnTo>
                    <a:cubicBezTo>
                      <a:pt x="18069" y="4"/>
                      <a:pt x="18070" y="5"/>
                      <a:pt x="18070" y="6"/>
                    </a:cubicBezTo>
                    <a:cubicBezTo>
                      <a:pt x="18070" y="7"/>
                      <a:pt x="18069" y="8"/>
                      <a:pt x="18068" y="8"/>
                    </a:cubicBezTo>
                    <a:lnTo>
                      <a:pt x="18068" y="8"/>
                    </a:lnTo>
                    <a:cubicBezTo>
                      <a:pt x="18067" y="8"/>
                      <a:pt x="18066" y="7"/>
                      <a:pt x="18066" y="6"/>
                    </a:cubicBezTo>
                    <a:cubicBezTo>
                      <a:pt x="18066" y="5"/>
                      <a:pt x="18067" y="4"/>
                      <a:pt x="18068" y="4"/>
                    </a:cubicBezTo>
                    <a:close/>
                    <a:moveTo>
                      <a:pt x="18076" y="4"/>
                    </a:moveTo>
                    <a:lnTo>
                      <a:pt x="18076" y="4"/>
                    </a:lnTo>
                    <a:cubicBezTo>
                      <a:pt x="18077" y="4"/>
                      <a:pt x="18078" y="5"/>
                      <a:pt x="18078" y="6"/>
                    </a:cubicBezTo>
                    <a:cubicBezTo>
                      <a:pt x="18078" y="7"/>
                      <a:pt x="18077" y="8"/>
                      <a:pt x="18076" y="8"/>
                    </a:cubicBezTo>
                    <a:lnTo>
                      <a:pt x="18076" y="8"/>
                    </a:lnTo>
                    <a:cubicBezTo>
                      <a:pt x="18075" y="8"/>
                      <a:pt x="18074" y="7"/>
                      <a:pt x="18074" y="6"/>
                    </a:cubicBezTo>
                    <a:cubicBezTo>
                      <a:pt x="18074" y="5"/>
                      <a:pt x="18075" y="4"/>
                      <a:pt x="18076" y="4"/>
                    </a:cubicBezTo>
                    <a:close/>
                    <a:moveTo>
                      <a:pt x="18084" y="4"/>
                    </a:moveTo>
                    <a:lnTo>
                      <a:pt x="18084" y="4"/>
                    </a:lnTo>
                    <a:cubicBezTo>
                      <a:pt x="18085" y="4"/>
                      <a:pt x="18086" y="5"/>
                      <a:pt x="18086" y="6"/>
                    </a:cubicBezTo>
                    <a:cubicBezTo>
                      <a:pt x="18086" y="7"/>
                      <a:pt x="18085" y="8"/>
                      <a:pt x="18084" y="8"/>
                    </a:cubicBezTo>
                    <a:lnTo>
                      <a:pt x="18084" y="8"/>
                    </a:lnTo>
                    <a:cubicBezTo>
                      <a:pt x="18083" y="8"/>
                      <a:pt x="18082" y="7"/>
                      <a:pt x="18082" y="6"/>
                    </a:cubicBezTo>
                    <a:cubicBezTo>
                      <a:pt x="18082" y="5"/>
                      <a:pt x="18083" y="4"/>
                      <a:pt x="18084" y="4"/>
                    </a:cubicBezTo>
                    <a:close/>
                    <a:moveTo>
                      <a:pt x="18092" y="4"/>
                    </a:moveTo>
                    <a:lnTo>
                      <a:pt x="18092" y="4"/>
                    </a:lnTo>
                    <a:cubicBezTo>
                      <a:pt x="18093" y="4"/>
                      <a:pt x="18094" y="5"/>
                      <a:pt x="18094" y="6"/>
                    </a:cubicBezTo>
                    <a:cubicBezTo>
                      <a:pt x="18094" y="7"/>
                      <a:pt x="18093" y="8"/>
                      <a:pt x="18092" y="8"/>
                    </a:cubicBezTo>
                    <a:lnTo>
                      <a:pt x="18092" y="8"/>
                    </a:lnTo>
                    <a:cubicBezTo>
                      <a:pt x="18091" y="8"/>
                      <a:pt x="18090" y="7"/>
                      <a:pt x="18090" y="6"/>
                    </a:cubicBezTo>
                    <a:cubicBezTo>
                      <a:pt x="18090" y="5"/>
                      <a:pt x="18091" y="4"/>
                      <a:pt x="18092" y="4"/>
                    </a:cubicBezTo>
                    <a:close/>
                    <a:moveTo>
                      <a:pt x="18100" y="4"/>
                    </a:moveTo>
                    <a:lnTo>
                      <a:pt x="18100" y="4"/>
                    </a:lnTo>
                    <a:cubicBezTo>
                      <a:pt x="18101" y="4"/>
                      <a:pt x="18102" y="5"/>
                      <a:pt x="18102" y="6"/>
                    </a:cubicBezTo>
                    <a:cubicBezTo>
                      <a:pt x="18102" y="7"/>
                      <a:pt x="18101" y="8"/>
                      <a:pt x="18100" y="8"/>
                    </a:cubicBezTo>
                    <a:lnTo>
                      <a:pt x="18100" y="8"/>
                    </a:lnTo>
                    <a:cubicBezTo>
                      <a:pt x="18099" y="8"/>
                      <a:pt x="18098" y="7"/>
                      <a:pt x="18098" y="6"/>
                    </a:cubicBezTo>
                    <a:cubicBezTo>
                      <a:pt x="18098" y="5"/>
                      <a:pt x="18099" y="4"/>
                      <a:pt x="18100" y="4"/>
                    </a:cubicBezTo>
                    <a:close/>
                    <a:moveTo>
                      <a:pt x="18108" y="4"/>
                    </a:moveTo>
                    <a:lnTo>
                      <a:pt x="18108" y="4"/>
                    </a:lnTo>
                    <a:cubicBezTo>
                      <a:pt x="18109" y="4"/>
                      <a:pt x="18110" y="5"/>
                      <a:pt x="18110" y="6"/>
                    </a:cubicBezTo>
                    <a:cubicBezTo>
                      <a:pt x="18110" y="7"/>
                      <a:pt x="18109" y="8"/>
                      <a:pt x="18108" y="8"/>
                    </a:cubicBezTo>
                    <a:lnTo>
                      <a:pt x="18108" y="8"/>
                    </a:lnTo>
                    <a:cubicBezTo>
                      <a:pt x="18107" y="8"/>
                      <a:pt x="18106" y="7"/>
                      <a:pt x="18106" y="6"/>
                    </a:cubicBezTo>
                    <a:cubicBezTo>
                      <a:pt x="18106" y="5"/>
                      <a:pt x="18107" y="4"/>
                      <a:pt x="18108" y="4"/>
                    </a:cubicBezTo>
                    <a:close/>
                    <a:moveTo>
                      <a:pt x="18116" y="4"/>
                    </a:moveTo>
                    <a:lnTo>
                      <a:pt x="18116" y="4"/>
                    </a:lnTo>
                    <a:cubicBezTo>
                      <a:pt x="18117" y="4"/>
                      <a:pt x="18118" y="5"/>
                      <a:pt x="18118" y="6"/>
                    </a:cubicBezTo>
                    <a:cubicBezTo>
                      <a:pt x="18118" y="7"/>
                      <a:pt x="18117" y="8"/>
                      <a:pt x="18116" y="8"/>
                    </a:cubicBezTo>
                    <a:lnTo>
                      <a:pt x="18116" y="8"/>
                    </a:lnTo>
                    <a:cubicBezTo>
                      <a:pt x="18115" y="8"/>
                      <a:pt x="18114" y="7"/>
                      <a:pt x="18114" y="6"/>
                    </a:cubicBezTo>
                    <a:cubicBezTo>
                      <a:pt x="18114" y="5"/>
                      <a:pt x="18115" y="4"/>
                      <a:pt x="18116" y="4"/>
                    </a:cubicBezTo>
                    <a:close/>
                    <a:moveTo>
                      <a:pt x="18124" y="4"/>
                    </a:moveTo>
                    <a:lnTo>
                      <a:pt x="18124" y="4"/>
                    </a:lnTo>
                    <a:cubicBezTo>
                      <a:pt x="18125" y="4"/>
                      <a:pt x="18126" y="5"/>
                      <a:pt x="18126" y="6"/>
                    </a:cubicBezTo>
                    <a:cubicBezTo>
                      <a:pt x="18126" y="7"/>
                      <a:pt x="18125" y="8"/>
                      <a:pt x="18124" y="8"/>
                    </a:cubicBezTo>
                    <a:lnTo>
                      <a:pt x="18124" y="8"/>
                    </a:lnTo>
                    <a:cubicBezTo>
                      <a:pt x="18123" y="8"/>
                      <a:pt x="18122" y="7"/>
                      <a:pt x="18122" y="6"/>
                    </a:cubicBezTo>
                    <a:cubicBezTo>
                      <a:pt x="18122" y="5"/>
                      <a:pt x="18123" y="4"/>
                      <a:pt x="18124" y="4"/>
                    </a:cubicBezTo>
                    <a:close/>
                    <a:moveTo>
                      <a:pt x="18132" y="4"/>
                    </a:moveTo>
                    <a:lnTo>
                      <a:pt x="18132" y="4"/>
                    </a:lnTo>
                    <a:cubicBezTo>
                      <a:pt x="18133" y="4"/>
                      <a:pt x="18134" y="5"/>
                      <a:pt x="18134" y="6"/>
                    </a:cubicBezTo>
                    <a:cubicBezTo>
                      <a:pt x="18134" y="7"/>
                      <a:pt x="18133" y="8"/>
                      <a:pt x="18132" y="8"/>
                    </a:cubicBezTo>
                    <a:lnTo>
                      <a:pt x="18132" y="8"/>
                    </a:lnTo>
                    <a:cubicBezTo>
                      <a:pt x="18131" y="8"/>
                      <a:pt x="18130" y="7"/>
                      <a:pt x="18130" y="6"/>
                    </a:cubicBezTo>
                    <a:cubicBezTo>
                      <a:pt x="18130" y="5"/>
                      <a:pt x="18131" y="4"/>
                      <a:pt x="18132" y="4"/>
                    </a:cubicBezTo>
                    <a:close/>
                    <a:moveTo>
                      <a:pt x="18140" y="4"/>
                    </a:moveTo>
                    <a:lnTo>
                      <a:pt x="18140" y="4"/>
                    </a:lnTo>
                    <a:cubicBezTo>
                      <a:pt x="18141" y="4"/>
                      <a:pt x="18142" y="5"/>
                      <a:pt x="18142" y="6"/>
                    </a:cubicBezTo>
                    <a:cubicBezTo>
                      <a:pt x="18142" y="7"/>
                      <a:pt x="18141" y="8"/>
                      <a:pt x="18140" y="8"/>
                    </a:cubicBezTo>
                    <a:lnTo>
                      <a:pt x="18140" y="8"/>
                    </a:lnTo>
                    <a:cubicBezTo>
                      <a:pt x="18139" y="8"/>
                      <a:pt x="18138" y="7"/>
                      <a:pt x="18138" y="6"/>
                    </a:cubicBezTo>
                    <a:cubicBezTo>
                      <a:pt x="18138" y="5"/>
                      <a:pt x="18139" y="4"/>
                      <a:pt x="18140" y="4"/>
                    </a:cubicBezTo>
                    <a:close/>
                    <a:moveTo>
                      <a:pt x="18148" y="4"/>
                    </a:moveTo>
                    <a:lnTo>
                      <a:pt x="18148" y="4"/>
                    </a:lnTo>
                    <a:cubicBezTo>
                      <a:pt x="18149" y="4"/>
                      <a:pt x="18150" y="5"/>
                      <a:pt x="18150" y="6"/>
                    </a:cubicBezTo>
                    <a:cubicBezTo>
                      <a:pt x="18150" y="7"/>
                      <a:pt x="18149" y="8"/>
                      <a:pt x="18148" y="8"/>
                    </a:cubicBezTo>
                    <a:lnTo>
                      <a:pt x="18148" y="8"/>
                    </a:lnTo>
                    <a:cubicBezTo>
                      <a:pt x="18147" y="8"/>
                      <a:pt x="18146" y="7"/>
                      <a:pt x="18146" y="6"/>
                    </a:cubicBezTo>
                    <a:cubicBezTo>
                      <a:pt x="18146" y="5"/>
                      <a:pt x="18147" y="4"/>
                      <a:pt x="18148" y="4"/>
                    </a:cubicBezTo>
                    <a:close/>
                    <a:moveTo>
                      <a:pt x="18156" y="4"/>
                    </a:moveTo>
                    <a:lnTo>
                      <a:pt x="18156" y="4"/>
                    </a:lnTo>
                    <a:cubicBezTo>
                      <a:pt x="18157" y="4"/>
                      <a:pt x="18158" y="5"/>
                      <a:pt x="18158" y="6"/>
                    </a:cubicBezTo>
                    <a:cubicBezTo>
                      <a:pt x="18158" y="7"/>
                      <a:pt x="18157" y="8"/>
                      <a:pt x="18156" y="8"/>
                    </a:cubicBezTo>
                    <a:lnTo>
                      <a:pt x="18156" y="8"/>
                    </a:lnTo>
                    <a:cubicBezTo>
                      <a:pt x="18155" y="8"/>
                      <a:pt x="18154" y="7"/>
                      <a:pt x="18154" y="6"/>
                    </a:cubicBezTo>
                    <a:cubicBezTo>
                      <a:pt x="18154" y="5"/>
                      <a:pt x="18155" y="4"/>
                      <a:pt x="18156" y="4"/>
                    </a:cubicBezTo>
                    <a:close/>
                    <a:moveTo>
                      <a:pt x="18164" y="4"/>
                    </a:moveTo>
                    <a:lnTo>
                      <a:pt x="18164" y="4"/>
                    </a:lnTo>
                    <a:cubicBezTo>
                      <a:pt x="18165" y="4"/>
                      <a:pt x="18166" y="5"/>
                      <a:pt x="18166" y="6"/>
                    </a:cubicBezTo>
                    <a:cubicBezTo>
                      <a:pt x="18166" y="7"/>
                      <a:pt x="18165" y="8"/>
                      <a:pt x="18164" y="8"/>
                    </a:cubicBezTo>
                    <a:lnTo>
                      <a:pt x="18164" y="8"/>
                    </a:lnTo>
                    <a:cubicBezTo>
                      <a:pt x="18163" y="8"/>
                      <a:pt x="18162" y="7"/>
                      <a:pt x="18162" y="6"/>
                    </a:cubicBezTo>
                    <a:cubicBezTo>
                      <a:pt x="18162" y="5"/>
                      <a:pt x="18163" y="4"/>
                      <a:pt x="18164" y="4"/>
                    </a:cubicBezTo>
                    <a:close/>
                    <a:moveTo>
                      <a:pt x="18172" y="4"/>
                    </a:moveTo>
                    <a:lnTo>
                      <a:pt x="18172" y="4"/>
                    </a:lnTo>
                    <a:cubicBezTo>
                      <a:pt x="18173" y="4"/>
                      <a:pt x="18174" y="5"/>
                      <a:pt x="18174" y="6"/>
                    </a:cubicBezTo>
                    <a:cubicBezTo>
                      <a:pt x="18174" y="7"/>
                      <a:pt x="18173" y="8"/>
                      <a:pt x="18172" y="8"/>
                    </a:cubicBezTo>
                    <a:lnTo>
                      <a:pt x="18172" y="8"/>
                    </a:lnTo>
                    <a:cubicBezTo>
                      <a:pt x="18171" y="8"/>
                      <a:pt x="18170" y="7"/>
                      <a:pt x="18170" y="6"/>
                    </a:cubicBezTo>
                    <a:cubicBezTo>
                      <a:pt x="18170" y="5"/>
                      <a:pt x="18171" y="4"/>
                      <a:pt x="18172" y="4"/>
                    </a:cubicBezTo>
                    <a:close/>
                    <a:moveTo>
                      <a:pt x="18180" y="4"/>
                    </a:moveTo>
                    <a:lnTo>
                      <a:pt x="18180" y="4"/>
                    </a:lnTo>
                    <a:cubicBezTo>
                      <a:pt x="18181" y="4"/>
                      <a:pt x="18182" y="5"/>
                      <a:pt x="18182" y="6"/>
                    </a:cubicBezTo>
                    <a:cubicBezTo>
                      <a:pt x="18182" y="7"/>
                      <a:pt x="18181" y="8"/>
                      <a:pt x="18180" y="8"/>
                    </a:cubicBezTo>
                    <a:lnTo>
                      <a:pt x="18180" y="8"/>
                    </a:lnTo>
                    <a:cubicBezTo>
                      <a:pt x="18179" y="8"/>
                      <a:pt x="18178" y="7"/>
                      <a:pt x="18178" y="6"/>
                    </a:cubicBezTo>
                    <a:cubicBezTo>
                      <a:pt x="18178" y="5"/>
                      <a:pt x="18179" y="4"/>
                      <a:pt x="18180" y="4"/>
                    </a:cubicBezTo>
                    <a:close/>
                    <a:moveTo>
                      <a:pt x="18188" y="4"/>
                    </a:moveTo>
                    <a:lnTo>
                      <a:pt x="18188" y="4"/>
                    </a:lnTo>
                    <a:cubicBezTo>
                      <a:pt x="18189" y="4"/>
                      <a:pt x="18190" y="5"/>
                      <a:pt x="18190" y="6"/>
                    </a:cubicBezTo>
                    <a:cubicBezTo>
                      <a:pt x="18190" y="7"/>
                      <a:pt x="18189" y="8"/>
                      <a:pt x="18188" y="8"/>
                    </a:cubicBezTo>
                    <a:lnTo>
                      <a:pt x="18188" y="8"/>
                    </a:lnTo>
                    <a:cubicBezTo>
                      <a:pt x="18187" y="8"/>
                      <a:pt x="18186" y="7"/>
                      <a:pt x="18186" y="6"/>
                    </a:cubicBezTo>
                    <a:cubicBezTo>
                      <a:pt x="18186" y="5"/>
                      <a:pt x="18187" y="4"/>
                      <a:pt x="18188" y="4"/>
                    </a:cubicBezTo>
                    <a:close/>
                    <a:moveTo>
                      <a:pt x="18196" y="4"/>
                    </a:moveTo>
                    <a:lnTo>
                      <a:pt x="18196" y="4"/>
                    </a:lnTo>
                    <a:cubicBezTo>
                      <a:pt x="18197" y="4"/>
                      <a:pt x="18198" y="5"/>
                      <a:pt x="18198" y="6"/>
                    </a:cubicBezTo>
                    <a:cubicBezTo>
                      <a:pt x="18198" y="7"/>
                      <a:pt x="18197" y="8"/>
                      <a:pt x="18196" y="8"/>
                    </a:cubicBezTo>
                    <a:lnTo>
                      <a:pt x="18196" y="8"/>
                    </a:lnTo>
                    <a:cubicBezTo>
                      <a:pt x="18195" y="8"/>
                      <a:pt x="18194" y="7"/>
                      <a:pt x="18194" y="6"/>
                    </a:cubicBezTo>
                    <a:cubicBezTo>
                      <a:pt x="18194" y="5"/>
                      <a:pt x="18195" y="4"/>
                      <a:pt x="18196" y="4"/>
                    </a:cubicBezTo>
                    <a:close/>
                    <a:moveTo>
                      <a:pt x="18204" y="4"/>
                    </a:moveTo>
                    <a:lnTo>
                      <a:pt x="18204" y="4"/>
                    </a:lnTo>
                    <a:cubicBezTo>
                      <a:pt x="18205" y="4"/>
                      <a:pt x="18206" y="5"/>
                      <a:pt x="18206" y="6"/>
                    </a:cubicBezTo>
                    <a:cubicBezTo>
                      <a:pt x="18206" y="7"/>
                      <a:pt x="18205" y="8"/>
                      <a:pt x="18204" y="8"/>
                    </a:cubicBezTo>
                    <a:lnTo>
                      <a:pt x="18204" y="8"/>
                    </a:lnTo>
                    <a:cubicBezTo>
                      <a:pt x="18203" y="8"/>
                      <a:pt x="18202" y="7"/>
                      <a:pt x="18202" y="6"/>
                    </a:cubicBezTo>
                    <a:cubicBezTo>
                      <a:pt x="18202" y="5"/>
                      <a:pt x="18203" y="4"/>
                      <a:pt x="18204" y="4"/>
                    </a:cubicBezTo>
                    <a:close/>
                    <a:moveTo>
                      <a:pt x="18212" y="4"/>
                    </a:moveTo>
                    <a:lnTo>
                      <a:pt x="18212" y="4"/>
                    </a:lnTo>
                    <a:cubicBezTo>
                      <a:pt x="18214" y="4"/>
                      <a:pt x="18214" y="5"/>
                      <a:pt x="18214" y="6"/>
                    </a:cubicBezTo>
                    <a:cubicBezTo>
                      <a:pt x="18214" y="7"/>
                      <a:pt x="18214" y="8"/>
                      <a:pt x="18212" y="8"/>
                    </a:cubicBezTo>
                    <a:lnTo>
                      <a:pt x="18212" y="8"/>
                    </a:lnTo>
                    <a:cubicBezTo>
                      <a:pt x="18211" y="8"/>
                      <a:pt x="18210" y="7"/>
                      <a:pt x="18210" y="6"/>
                    </a:cubicBezTo>
                    <a:cubicBezTo>
                      <a:pt x="18210" y="5"/>
                      <a:pt x="18211" y="4"/>
                      <a:pt x="18212" y="4"/>
                    </a:cubicBezTo>
                    <a:close/>
                    <a:moveTo>
                      <a:pt x="18220" y="4"/>
                    </a:moveTo>
                    <a:lnTo>
                      <a:pt x="18220" y="4"/>
                    </a:lnTo>
                    <a:cubicBezTo>
                      <a:pt x="18222" y="4"/>
                      <a:pt x="18222" y="5"/>
                      <a:pt x="18222" y="6"/>
                    </a:cubicBezTo>
                    <a:cubicBezTo>
                      <a:pt x="18222" y="7"/>
                      <a:pt x="18222" y="8"/>
                      <a:pt x="18220" y="8"/>
                    </a:cubicBezTo>
                    <a:lnTo>
                      <a:pt x="18220" y="8"/>
                    </a:lnTo>
                    <a:cubicBezTo>
                      <a:pt x="18219" y="8"/>
                      <a:pt x="18218" y="7"/>
                      <a:pt x="18218" y="6"/>
                    </a:cubicBezTo>
                    <a:cubicBezTo>
                      <a:pt x="18218" y="5"/>
                      <a:pt x="18219" y="4"/>
                      <a:pt x="18220" y="4"/>
                    </a:cubicBezTo>
                    <a:close/>
                    <a:moveTo>
                      <a:pt x="18228" y="4"/>
                    </a:moveTo>
                    <a:lnTo>
                      <a:pt x="18228" y="4"/>
                    </a:lnTo>
                    <a:cubicBezTo>
                      <a:pt x="18230" y="4"/>
                      <a:pt x="18230" y="5"/>
                      <a:pt x="18230" y="6"/>
                    </a:cubicBezTo>
                    <a:cubicBezTo>
                      <a:pt x="18230" y="7"/>
                      <a:pt x="18230" y="8"/>
                      <a:pt x="18228" y="8"/>
                    </a:cubicBezTo>
                    <a:lnTo>
                      <a:pt x="18228" y="8"/>
                    </a:lnTo>
                    <a:cubicBezTo>
                      <a:pt x="18227" y="8"/>
                      <a:pt x="18226" y="7"/>
                      <a:pt x="18226" y="6"/>
                    </a:cubicBezTo>
                    <a:cubicBezTo>
                      <a:pt x="18226" y="5"/>
                      <a:pt x="18227" y="4"/>
                      <a:pt x="18228" y="4"/>
                    </a:cubicBezTo>
                    <a:close/>
                    <a:moveTo>
                      <a:pt x="18236" y="4"/>
                    </a:moveTo>
                    <a:lnTo>
                      <a:pt x="18236" y="4"/>
                    </a:lnTo>
                    <a:cubicBezTo>
                      <a:pt x="18238" y="4"/>
                      <a:pt x="18238" y="5"/>
                      <a:pt x="18238" y="6"/>
                    </a:cubicBezTo>
                    <a:cubicBezTo>
                      <a:pt x="18238" y="7"/>
                      <a:pt x="18238" y="8"/>
                      <a:pt x="18236" y="8"/>
                    </a:cubicBezTo>
                    <a:lnTo>
                      <a:pt x="18236" y="8"/>
                    </a:lnTo>
                    <a:cubicBezTo>
                      <a:pt x="18235" y="8"/>
                      <a:pt x="18234" y="7"/>
                      <a:pt x="18234" y="6"/>
                    </a:cubicBezTo>
                    <a:cubicBezTo>
                      <a:pt x="18234" y="5"/>
                      <a:pt x="18235" y="4"/>
                      <a:pt x="18236" y="4"/>
                    </a:cubicBezTo>
                    <a:close/>
                    <a:moveTo>
                      <a:pt x="18244" y="4"/>
                    </a:moveTo>
                    <a:lnTo>
                      <a:pt x="18244" y="4"/>
                    </a:lnTo>
                    <a:cubicBezTo>
                      <a:pt x="18246" y="4"/>
                      <a:pt x="18246" y="5"/>
                      <a:pt x="18246" y="6"/>
                    </a:cubicBezTo>
                    <a:cubicBezTo>
                      <a:pt x="18246" y="7"/>
                      <a:pt x="18246" y="8"/>
                      <a:pt x="18244" y="8"/>
                    </a:cubicBezTo>
                    <a:lnTo>
                      <a:pt x="18244" y="8"/>
                    </a:lnTo>
                    <a:cubicBezTo>
                      <a:pt x="18243" y="8"/>
                      <a:pt x="18242" y="7"/>
                      <a:pt x="18242" y="6"/>
                    </a:cubicBezTo>
                    <a:cubicBezTo>
                      <a:pt x="18242" y="5"/>
                      <a:pt x="18243" y="4"/>
                      <a:pt x="18244" y="4"/>
                    </a:cubicBezTo>
                    <a:close/>
                    <a:moveTo>
                      <a:pt x="18252" y="4"/>
                    </a:moveTo>
                    <a:lnTo>
                      <a:pt x="18252" y="4"/>
                    </a:lnTo>
                    <a:cubicBezTo>
                      <a:pt x="18254" y="4"/>
                      <a:pt x="18254" y="5"/>
                      <a:pt x="18254" y="6"/>
                    </a:cubicBezTo>
                    <a:cubicBezTo>
                      <a:pt x="18254" y="7"/>
                      <a:pt x="18254" y="8"/>
                      <a:pt x="18252" y="8"/>
                    </a:cubicBezTo>
                    <a:lnTo>
                      <a:pt x="18252" y="8"/>
                    </a:lnTo>
                    <a:cubicBezTo>
                      <a:pt x="18251" y="8"/>
                      <a:pt x="18250" y="7"/>
                      <a:pt x="18250" y="6"/>
                    </a:cubicBezTo>
                    <a:cubicBezTo>
                      <a:pt x="18250" y="5"/>
                      <a:pt x="18251" y="4"/>
                      <a:pt x="18252" y="4"/>
                    </a:cubicBezTo>
                    <a:close/>
                    <a:moveTo>
                      <a:pt x="18260" y="4"/>
                    </a:moveTo>
                    <a:lnTo>
                      <a:pt x="18260" y="4"/>
                    </a:lnTo>
                    <a:cubicBezTo>
                      <a:pt x="18262" y="4"/>
                      <a:pt x="18262" y="5"/>
                      <a:pt x="18262" y="6"/>
                    </a:cubicBezTo>
                    <a:cubicBezTo>
                      <a:pt x="18262" y="7"/>
                      <a:pt x="18262" y="8"/>
                      <a:pt x="18260" y="8"/>
                    </a:cubicBezTo>
                    <a:lnTo>
                      <a:pt x="18260" y="8"/>
                    </a:lnTo>
                    <a:cubicBezTo>
                      <a:pt x="18259" y="8"/>
                      <a:pt x="18258" y="7"/>
                      <a:pt x="18258" y="6"/>
                    </a:cubicBezTo>
                    <a:cubicBezTo>
                      <a:pt x="18258" y="5"/>
                      <a:pt x="18259" y="4"/>
                      <a:pt x="18260" y="4"/>
                    </a:cubicBezTo>
                    <a:close/>
                    <a:moveTo>
                      <a:pt x="18268" y="4"/>
                    </a:moveTo>
                    <a:lnTo>
                      <a:pt x="18268" y="4"/>
                    </a:lnTo>
                    <a:cubicBezTo>
                      <a:pt x="18270" y="4"/>
                      <a:pt x="18270" y="5"/>
                      <a:pt x="18270" y="6"/>
                    </a:cubicBezTo>
                    <a:cubicBezTo>
                      <a:pt x="18270" y="7"/>
                      <a:pt x="18270" y="8"/>
                      <a:pt x="18268" y="8"/>
                    </a:cubicBezTo>
                    <a:lnTo>
                      <a:pt x="18268" y="8"/>
                    </a:lnTo>
                    <a:cubicBezTo>
                      <a:pt x="18267" y="8"/>
                      <a:pt x="18266" y="7"/>
                      <a:pt x="18266" y="6"/>
                    </a:cubicBezTo>
                    <a:cubicBezTo>
                      <a:pt x="18266" y="5"/>
                      <a:pt x="18267" y="4"/>
                      <a:pt x="18268" y="4"/>
                    </a:cubicBezTo>
                    <a:close/>
                    <a:moveTo>
                      <a:pt x="18276" y="4"/>
                    </a:moveTo>
                    <a:lnTo>
                      <a:pt x="18276" y="4"/>
                    </a:lnTo>
                    <a:cubicBezTo>
                      <a:pt x="18278" y="4"/>
                      <a:pt x="18278" y="5"/>
                      <a:pt x="18278" y="6"/>
                    </a:cubicBezTo>
                    <a:cubicBezTo>
                      <a:pt x="18278" y="7"/>
                      <a:pt x="18278" y="8"/>
                      <a:pt x="18276" y="8"/>
                    </a:cubicBezTo>
                    <a:lnTo>
                      <a:pt x="18276" y="8"/>
                    </a:lnTo>
                    <a:cubicBezTo>
                      <a:pt x="18275" y="8"/>
                      <a:pt x="18274" y="7"/>
                      <a:pt x="18274" y="6"/>
                    </a:cubicBezTo>
                    <a:cubicBezTo>
                      <a:pt x="18274" y="5"/>
                      <a:pt x="18275" y="4"/>
                      <a:pt x="18276" y="4"/>
                    </a:cubicBezTo>
                    <a:close/>
                    <a:moveTo>
                      <a:pt x="18284" y="4"/>
                    </a:moveTo>
                    <a:lnTo>
                      <a:pt x="18284" y="4"/>
                    </a:lnTo>
                    <a:cubicBezTo>
                      <a:pt x="18286" y="4"/>
                      <a:pt x="18286" y="5"/>
                      <a:pt x="18286" y="6"/>
                    </a:cubicBezTo>
                    <a:cubicBezTo>
                      <a:pt x="18286" y="7"/>
                      <a:pt x="18286" y="8"/>
                      <a:pt x="18284" y="8"/>
                    </a:cubicBezTo>
                    <a:lnTo>
                      <a:pt x="18284" y="8"/>
                    </a:lnTo>
                    <a:cubicBezTo>
                      <a:pt x="18283" y="8"/>
                      <a:pt x="18282" y="7"/>
                      <a:pt x="18282" y="6"/>
                    </a:cubicBezTo>
                    <a:cubicBezTo>
                      <a:pt x="18282" y="5"/>
                      <a:pt x="18283" y="4"/>
                      <a:pt x="18284" y="4"/>
                    </a:cubicBezTo>
                    <a:close/>
                    <a:moveTo>
                      <a:pt x="18292" y="4"/>
                    </a:moveTo>
                    <a:lnTo>
                      <a:pt x="18292" y="4"/>
                    </a:lnTo>
                    <a:cubicBezTo>
                      <a:pt x="18294" y="4"/>
                      <a:pt x="18294" y="5"/>
                      <a:pt x="18294" y="6"/>
                    </a:cubicBezTo>
                    <a:cubicBezTo>
                      <a:pt x="18294" y="7"/>
                      <a:pt x="18294" y="8"/>
                      <a:pt x="18292" y="8"/>
                    </a:cubicBezTo>
                    <a:lnTo>
                      <a:pt x="18292" y="8"/>
                    </a:lnTo>
                    <a:cubicBezTo>
                      <a:pt x="18291" y="8"/>
                      <a:pt x="18290" y="7"/>
                      <a:pt x="18290" y="6"/>
                    </a:cubicBezTo>
                    <a:cubicBezTo>
                      <a:pt x="18290" y="5"/>
                      <a:pt x="18291" y="4"/>
                      <a:pt x="18292" y="4"/>
                    </a:cubicBezTo>
                    <a:close/>
                    <a:moveTo>
                      <a:pt x="18300" y="4"/>
                    </a:moveTo>
                    <a:lnTo>
                      <a:pt x="18300" y="4"/>
                    </a:lnTo>
                    <a:cubicBezTo>
                      <a:pt x="18302" y="4"/>
                      <a:pt x="18302" y="5"/>
                      <a:pt x="18302" y="6"/>
                    </a:cubicBezTo>
                    <a:cubicBezTo>
                      <a:pt x="18302" y="7"/>
                      <a:pt x="18302" y="8"/>
                      <a:pt x="18300" y="8"/>
                    </a:cubicBezTo>
                    <a:lnTo>
                      <a:pt x="18300" y="8"/>
                    </a:lnTo>
                    <a:cubicBezTo>
                      <a:pt x="18299" y="8"/>
                      <a:pt x="18298" y="7"/>
                      <a:pt x="18298" y="6"/>
                    </a:cubicBezTo>
                    <a:cubicBezTo>
                      <a:pt x="18298" y="5"/>
                      <a:pt x="18299" y="4"/>
                      <a:pt x="18300" y="4"/>
                    </a:cubicBezTo>
                    <a:close/>
                    <a:moveTo>
                      <a:pt x="18308" y="4"/>
                    </a:moveTo>
                    <a:lnTo>
                      <a:pt x="18308" y="4"/>
                    </a:lnTo>
                    <a:cubicBezTo>
                      <a:pt x="18310" y="4"/>
                      <a:pt x="18310" y="5"/>
                      <a:pt x="18310" y="6"/>
                    </a:cubicBezTo>
                    <a:cubicBezTo>
                      <a:pt x="18310" y="7"/>
                      <a:pt x="18310" y="8"/>
                      <a:pt x="18308" y="8"/>
                    </a:cubicBezTo>
                    <a:lnTo>
                      <a:pt x="18308" y="8"/>
                    </a:lnTo>
                    <a:cubicBezTo>
                      <a:pt x="18307" y="8"/>
                      <a:pt x="18306" y="7"/>
                      <a:pt x="18306" y="6"/>
                    </a:cubicBezTo>
                    <a:cubicBezTo>
                      <a:pt x="18306" y="5"/>
                      <a:pt x="18307" y="4"/>
                      <a:pt x="18308" y="4"/>
                    </a:cubicBezTo>
                    <a:close/>
                    <a:moveTo>
                      <a:pt x="18316" y="4"/>
                    </a:moveTo>
                    <a:lnTo>
                      <a:pt x="18317" y="4"/>
                    </a:lnTo>
                    <a:cubicBezTo>
                      <a:pt x="18318" y="4"/>
                      <a:pt x="18319" y="5"/>
                      <a:pt x="18319" y="6"/>
                    </a:cubicBezTo>
                    <a:cubicBezTo>
                      <a:pt x="18319" y="7"/>
                      <a:pt x="18318" y="8"/>
                      <a:pt x="18317" y="8"/>
                    </a:cubicBezTo>
                    <a:lnTo>
                      <a:pt x="18316" y="8"/>
                    </a:lnTo>
                    <a:cubicBezTo>
                      <a:pt x="18315" y="8"/>
                      <a:pt x="18314" y="7"/>
                      <a:pt x="18314" y="6"/>
                    </a:cubicBezTo>
                    <a:cubicBezTo>
                      <a:pt x="18314" y="5"/>
                      <a:pt x="18315" y="4"/>
                      <a:pt x="18316" y="4"/>
                    </a:cubicBezTo>
                    <a:close/>
                    <a:moveTo>
                      <a:pt x="18325" y="4"/>
                    </a:moveTo>
                    <a:lnTo>
                      <a:pt x="18325" y="4"/>
                    </a:lnTo>
                    <a:cubicBezTo>
                      <a:pt x="18326" y="4"/>
                      <a:pt x="18327" y="5"/>
                      <a:pt x="18327" y="6"/>
                    </a:cubicBezTo>
                    <a:cubicBezTo>
                      <a:pt x="18327" y="7"/>
                      <a:pt x="18326" y="8"/>
                      <a:pt x="18325" y="8"/>
                    </a:cubicBezTo>
                    <a:lnTo>
                      <a:pt x="18325" y="8"/>
                    </a:lnTo>
                    <a:cubicBezTo>
                      <a:pt x="18323" y="8"/>
                      <a:pt x="18323" y="7"/>
                      <a:pt x="18323" y="6"/>
                    </a:cubicBezTo>
                    <a:cubicBezTo>
                      <a:pt x="18323" y="5"/>
                      <a:pt x="18323" y="4"/>
                      <a:pt x="18325" y="4"/>
                    </a:cubicBezTo>
                    <a:close/>
                    <a:moveTo>
                      <a:pt x="18333" y="4"/>
                    </a:moveTo>
                    <a:lnTo>
                      <a:pt x="18333" y="4"/>
                    </a:lnTo>
                    <a:cubicBezTo>
                      <a:pt x="18334" y="4"/>
                      <a:pt x="18335" y="5"/>
                      <a:pt x="18335" y="6"/>
                    </a:cubicBezTo>
                    <a:cubicBezTo>
                      <a:pt x="18335" y="7"/>
                      <a:pt x="18334" y="8"/>
                      <a:pt x="18333" y="8"/>
                    </a:cubicBezTo>
                    <a:lnTo>
                      <a:pt x="18333" y="8"/>
                    </a:lnTo>
                    <a:cubicBezTo>
                      <a:pt x="18331" y="8"/>
                      <a:pt x="18331" y="7"/>
                      <a:pt x="18331" y="6"/>
                    </a:cubicBezTo>
                    <a:cubicBezTo>
                      <a:pt x="18331" y="5"/>
                      <a:pt x="18331" y="4"/>
                      <a:pt x="18333" y="4"/>
                    </a:cubicBezTo>
                    <a:close/>
                    <a:moveTo>
                      <a:pt x="18341" y="4"/>
                    </a:moveTo>
                    <a:lnTo>
                      <a:pt x="18341" y="4"/>
                    </a:lnTo>
                    <a:cubicBezTo>
                      <a:pt x="18342" y="4"/>
                      <a:pt x="18343" y="5"/>
                      <a:pt x="18343" y="6"/>
                    </a:cubicBezTo>
                    <a:cubicBezTo>
                      <a:pt x="18343" y="7"/>
                      <a:pt x="18342" y="8"/>
                      <a:pt x="18341" y="8"/>
                    </a:cubicBezTo>
                    <a:lnTo>
                      <a:pt x="18341" y="8"/>
                    </a:lnTo>
                    <a:cubicBezTo>
                      <a:pt x="18339" y="8"/>
                      <a:pt x="18339" y="7"/>
                      <a:pt x="18339" y="6"/>
                    </a:cubicBezTo>
                    <a:cubicBezTo>
                      <a:pt x="18339" y="5"/>
                      <a:pt x="18339" y="4"/>
                      <a:pt x="18341" y="4"/>
                    </a:cubicBezTo>
                    <a:close/>
                    <a:moveTo>
                      <a:pt x="18349" y="4"/>
                    </a:moveTo>
                    <a:lnTo>
                      <a:pt x="18349" y="4"/>
                    </a:lnTo>
                    <a:cubicBezTo>
                      <a:pt x="18350" y="4"/>
                      <a:pt x="18351" y="5"/>
                      <a:pt x="18351" y="6"/>
                    </a:cubicBezTo>
                    <a:cubicBezTo>
                      <a:pt x="18351" y="7"/>
                      <a:pt x="18350" y="8"/>
                      <a:pt x="18349" y="8"/>
                    </a:cubicBezTo>
                    <a:lnTo>
                      <a:pt x="18349" y="8"/>
                    </a:lnTo>
                    <a:cubicBezTo>
                      <a:pt x="18347" y="8"/>
                      <a:pt x="18347" y="7"/>
                      <a:pt x="18347" y="6"/>
                    </a:cubicBezTo>
                    <a:cubicBezTo>
                      <a:pt x="18347" y="5"/>
                      <a:pt x="18347" y="4"/>
                      <a:pt x="18349" y="4"/>
                    </a:cubicBezTo>
                    <a:close/>
                    <a:moveTo>
                      <a:pt x="18357" y="4"/>
                    </a:moveTo>
                    <a:lnTo>
                      <a:pt x="18357" y="4"/>
                    </a:lnTo>
                    <a:cubicBezTo>
                      <a:pt x="18358" y="4"/>
                      <a:pt x="18359" y="5"/>
                      <a:pt x="18359" y="6"/>
                    </a:cubicBezTo>
                    <a:cubicBezTo>
                      <a:pt x="18359" y="7"/>
                      <a:pt x="18358" y="8"/>
                      <a:pt x="18357" y="8"/>
                    </a:cubicBezTo>
                    <a:lnTo>
                      <a:pt x="18357" y="8"/>
                    </a:lnTo>
                    <a:cubicBezTo>
                      <a:pt x="18355" y="8"/>
                      <a:pt x="18355" y="7"/>
                      <a:pt x="18355" y="6"/>
                    </a:cubicBezTo>
                    <a:cubicBezTo>
                      <a:pt x="18355" y="5"/>
                      <a:pt x="18355" y="4"/>
                      <a:pt x="18357" y="4"/>
                    </a:cubicBezTo>
                    <a:close/>
                    <a:moveTo>
                      <a:pt x="18365" y="4"/>
                    </a:moveTo>
                    <a:lnTo>
                      <a:pt x="18365" y="4"/>
                    </a:lnTo>
                    <a:cubicBezTo>
                      <a:pt x="18366" y="4"/>
                      <a:pt x="18367" y="5"/>
                      <a:pt x="18367" y="6"/>
                    </a:cubicBezTo>
                    <a:cubicBezTo>
                      <a:pt x="18367" y="7"/>
                      <a:pt x="18366" y="8"/>
                      <a:pt x="18365" y="8"/>
                    </a:cubicBezTo>
                    <a:lnTo>
                      <a:pt x="18365" y="8"/>
                    </a:lnTo>
                    <a:cubicBezTo>
                      <a:pt x="18363" y="8"/>
                      <a:pt x="18363" y="7"/>
                      <a:pt x="18363" y="6"/>
                    </a:cubicBezTo>
                    <a:cubicBezTo>
                      <a:pt x="18363" y="5"/>
                      <a:pt x="18363" y="4"/>
                      <a:pt x="18365" y="4"/>
                    </a:cubicBezTo>
                    <a:close/>
                    <a:moveTo>
                      <a:pt x="18373" y="4"/>
                    </a:moveTo>
                    <a:lnTo>
                      <a:pt x="18373" y="4"/>
                    </a:lnTo>
                    <a:cubicBezTo>
                      <a:pt x="18374" y="4"/>
                      <a:pt x="18375" y="5"/>
                      <a:pt x="18375" y="6"/>
                    </a:cubicBezTo>
                    <a:cubicBezTo>
                      <a:pt x="18375" y="7"/>
                      <a:pt x="18374" y="8"/>
                      <a:pt x="18373" y="8"/>
                    </a:cubicBezTo>
                    <a:lnTo>
                      <a:pt x="18373" y="8"/>
                    </a:lnTo>
                    <a:cubicBezTo>
                      <a:pt x="18371" y="8"/>
                      <a:pt x="18371" y="7"/>
                      <a:pt x="18371" y="6"/>
                    </a:cubicBezTo>
                    <a:cubicBezTo>
                      <a:pt x="18371" y="5"/>
                      <a:pt x="18371" y="4"/>
                      <a:pt x="18373" y="4"/>
                    </a:cubicBezTo>
                    <a:close/>
                    <a:moveTo>
                      <a:pt x="18381" y="4"/>
                    </a:moveTo>
                    <a:lnTo>
                      <a:pt x="18381" y="4"/>
                    </a:lnTo>
                    <a:cubicBezTo>
                      <a:pt x="18382" y="4"/>
                      <a:pt x="18383" y="5"/>
                      <a:pt x="18383" y="6"/>
                    </a:cubicBezTo>
                    <a:cubicBezTo>
                      <a:pt x="18383" y="7"/>
                      <a:pt x="18382" y="8"/>
                      <a:pt x="18381" y="8"/>
                    </a:cubicBezTo>
                    <a:lnTo>
                      <a:pt x="18381" y="8"/>
                    </a:lnTo>
                    <a:cubicBezTo>
                      <a:pt x="18379" y="8"/>
                      <a:pt x="18379" y="7"/>
                      <a:pt x="18379" y="6"/>
                    </a:cubicBezTo>
                    <a:cubicBezTo>
                      <a:pt x="18379" y="5"/>
                      <a:pt x="18379" y="4"/>
                      <a:pt x="18381" y="4"/>
                    </a:cubicBezTo>
                    <a:close/>
                    <a:moveTo>
                      <a:pt x="18389" y="4"/>
                    </a:moveTo>
                    <a:lnTo>
                      <a:pt x="18389" y="4"/>
                    </a:lnTo>
                    <a:cubicBezTo>
                      <a:pt x="18390" y="4"/>
                      <a:pt x="18391" y="5"/>
                      <a:pt x="18391" y="6"/>
                    </a:cubicBezTo>
                    <a:cubicBezTo>
                      <a:pt x="18391" y="7"/>
                      <a:pt x="18390" y="8"/>
                      <a:pt x="18389" y="8"/>
                    </a:cubicBezTo>
                    <a:lnTo>
                      <a:pt x="18389" y="8"/>
                    </a:lnTo>
                    <a:cubicBezTo>
                      <a:pt x="18387" y="8"/>
                      <a:pt x="18387" y="7"/>
                      <a:pt x="18387" y="6"/>
                    </a:cubicBezTo>
                    <a:cubicBezTo>
                      <a:pt x="18387" y="5"/>
                      <a:pt x="18387" y="4"/>
                      <a:pt x="18389" y="4"/>
                    </a:cubicBezTo>
                    <a:close/>
                    <a:moveTo>
                      <a:pt x="18397" y="4"/>
                    </a:moveTo>
                    <a:lnTo>
                      <a:pt x="18397" y="4"/>
                    </a:lnTo>
                    <a:cubicBezTo>
                      <a:pt x="18398" y="4"/>
                      <a:pt x="18399" y="5"/>
                      <a:pt x="18399" y="6"/>
                    </a:cubicBezTo>
                    <a:cubicBezTo>
                      <a:pt x="18399" y="7"/>
                      <a:pt x="18398" y="8"/>
                      <a:pt x="18397" y="8"/>
                    </a:cubicBezTo>
                    <a:lnTo>
                      <a:pt x="18397" y="8"/>
                    </a:lnTo>
                    <a:cubicBezTo>
                      <a:pt x="18395" y="8"/>
                      <a:pt x="18395" y="7"/>
                      <a:pt x="18395" y="6"/>
                    </a:cubicBezTo>
                    <a:cubicBezTo>
                      <a:pt x="18395" y="5"/>
                      <a:pt x="18395" y="4"/>
                      <a:pt x="18397" y="4"/>
                    </a:cubicBezTo>
                    <a:close/>
                    <a:moveTo>
                      <a:pt x="18405" y="4"/>
                    </a:moveTo>
                    <a:lnTo>
                      <a:pt x="18405" y="4"/>
                    </a:lnTo>
                    <a:cubicBezTo>
                      <a:pt x="18406" y="4"/>
                      <a:pt x="18407" y="5"/>
                      <a:pt x="18407" y="6"/>
                    </a:cubicBezTo>
                    <a:cubicBezTo>
                      <a:pt x="18407" y="7"/>
                      <a:pt x="18406" y="8"/>
                      <a:pt x="18405" y="8"/>
                    </a:cubicBezTo>
                    <a:lnTo>
                      <a:pt x="18405" y="8"/>
                    </a:lnTo>
                    <a:cubicBezTo>
                      <a:pt x="18403" y="8"/>
                      <a:pt x="18403" y="7"/>
                      <a:pt x="18403" y="6"/>
                    </a:cubicBezTo>
                    <a:cubicBezTo>
                      <a:pt x="18403" y="5"/>
                      <a:pt x="18403" y="4"/>
                      <a:pt x="18405" y="4"/>
                    </a:cubicBezTo>
                    <a:close/>
                    <a:moveTo>
                      <a:pt x="18413" y="4"/>
                    </a:moveTo>
                    <a:lnTo>
                      <a:pt x="18413" y="4"/>
                    </a:lnTo>
                    <a:cubicBezTo>
                      <a:pt x="18414" y="4"/>
                      <a:pt x="18415" y="5"/>
                      <a:pt x="18415" y="6"/>
                    </a:cubicBezTo>
                    <a:cubicBezTo>
                      <a:pt x="18415" y="7"/>
                      <a:pt x="18414" y="8"/>
                      <a:pt x="18413" y="8"/>
                    </a:cubicBezTo>
                    <a:lnTo>
                      <a:pt x="18413" y="8"/>
                    </a:lnTo>
                    <a:cubicBezTo>
                      <a:pt x="18411" y="8"/>
                      <a:pt x="18411" y="7"/>
                      <a:pt x="18411" y="6"/>
                    </a:cubicBezTo>
                    <a:cubicBezTo>
                      <a:pt x="18411" y="5"/>
                      <a:pt x="18411" y="4"/>
                      <a:pt x="18413" y="4"/>
                    </a:cubicBezTo>
                    <a:close/>
                    <a:moveTo>
                      <a:pt x="18421" y="4"/>
                    </a:moveTo>
                    <a:lnTo>
                      <a:pt x="18421" y="4"/>
                    </a:lnTo>
                    <a:cubicBezTo>
                      <a:pt x="18422" y="4"/>
                      <a:pt x="18423" y="5"/>
                      <a:pt x="18423" y="6"/>
                    </a:cubicBezTo>
                    <a:cubicBezTo>
                      <a:pt x="18423" y="7"/>
                      <a:pt x="18422" y="8"/>
                      <a:pt x="18421" y="8"/>
                    </a:cubicBezTo>
                    <a:lnTo>
                      <a:pt x="18421" y="8"/>
                    </a:lnTo>
                    <a:cubicBezTo>
                      <a:pt x="18419" y="8"/>
                      <a:pt x="18419" y="7"/>
                      <a:pt x="18419" y="6"/>
                    </a:cubicBezTo>
                    <a:cubicBezTo>
                      <a:pt x="18419" y="5"/>
                      <a:pt x="18419" y="4"/>
                      <a:pt x="18421" y="4"/>
                    </a:cubicBezTo>
                    <a:close/>
                    <a:moveTo>
                      <a:pt x="18429" y="4"/>
                    </a:moveTo>
                    <a:lnTo>
                      <a:pt x="18429" y="4"/>
                    </a:lnTo>
                    <a:cubicBezTo>
                      <a:pt x="18430" y="4"/>
                      <a:pt x="18431" y="5"/>
                      <a:pt x="18431" y="6"/>
                    </a:cubicBezTo>
                    <a:cubicBezTo>
                      <a:pt x="18431" y="7"/>
                      <a:pt x="18430" y="8"/>
                      <a:pt x="18429" y="8"/>
                    </a:cubicBezTo>
                    <a:lnTo>
                      <a:pt x="18429" y="8"/>
                    </a:lnTo>
                    <a:cubicBezTo>
                      <a:pt x="18428" y="8"/>
                      <a:pt x="18427" y="7"/>
                      <a:pt x="18427" y="6"/>
                    </a:cubicBezTo>
                    <a:cubicBezTo>
                      <a:pt x="18427" y="5"/>
                      <a:pt x="18428" y="4"/>
                      <a:pt x="18429" y="4"/>
                    </a:cubicBezTo>
                    <a:close/>
                    <a:moveTo>
                      <a:pt x="18437" y="4"/>
                    </a:moveTo>
                    <a:lnTo>
                      <a:pt x="18437" y="4"/>
                    </a:lnTo>
                    <a:cubicBezTo>
                      <a:pt x="18438" y="4"/>
                      <a:pt x="18439" y="5"/>
                      <a:pt x="18439" y="6"/>
                    </a:cubicBezTo>
                    <a:cubicBezTo>
                      <a:pt x="18439" y="7"/>
                      <a:pt x="18438" y="8"/>
                      <a:pt x="18437" y="8"/>
                    </a:cubicBezTo>
                    <a:lnTo>
                      <a:pt x="18437" y="8"/>
                    </a:lnTo>
                    <a:cubicBezTo>
                      <a:pt x="18436" y="8"/>
                      <a:pt x="18435" y="7"/>
                      <a:pt x="18435" y="6"/>
                    </a:cubicBezTo>
                    <a:cubicBezTo>
                      <a:pt x="18435" y="5"/>
                      <a:pt x="18436" y="4"/>
                      <a:pt x="18437" y="4"/>
                    </a:cubicBezTo>
                    <a:close/>
                    <a:moveTo>
                      <a:pt x="18445" y="4"/>
                    </a:moveTo>
                    <a:lnTo>
                      <a:pt x="18445" y="4"/>
                    </a:lnTo>
                    <a:cubicBezTo>
                      <a:pt x="18446" y="4"/>
                      <a:pt x="18447" y="5"/>
                      <a:pt x="18447" y="6"/>
                    </a:cubicBezTo>
                    <a:cubicBezTo>
                      <a:pt x="18447" y="7"/>
                      <a:pt x="18446" y="8"/>
                      <a:pt x="18445" y="8"/>
                    </a:cubicBezTo>
                    <a:lnTo>
                      <a:pt x="18445" y="8"/>
                    </a:lnTo>
                    <a:cubicBezTo>
                      <a:pt x="18444" y="8"/>
                      <a:pt x="18443" y="7"/>
                      <a:pt x="18443" y="6"/>
                    </a:cubicBezTo>
                    <a:cubicBezTo>
                      <a:pt x="18443" y="5"/>
                      <a:pt x="18444" y="4"/>
                      <a:pt x="18445" y="4"/>
                    </a:cubicBezTo>
                    <a:close/>
                    <a:moveTo>
                      <a:pt x="18453" y="4"/>
                    </a:moveTo>
                    <a:lnTo>
                      <a:pt x="18453" y="4"/>
                    </a:lnTo>
                    <a:cubicBezTo>
                      <a:pt x="18454" y="4"/>
                      <a:pt x="18455" y="5"/>
                      <a:pt x="18455" y="6"/>
                    </a:cubicBezTo>
                    <a:cubicBezTo>
                      <a:pt x="18455" y="7"/>
                      <a:pt x="18454" y="8"/>
                      <a:pt x="18453" y="8"/>
                    </a:cubicBezTo>
                    <a:lnTo>
                      <a:pt x="18453" y="8"/>
                    </a:lnTo>
                    <a:cubicBezTo>
                      <a:pt x="18452" y="8"/>
                      <a:pt x="18451" y="7"/>
                      <a:pt x="18451" y="6"/>
                    </a:cubicBezTo>
                    <a:cubicBezTo>
                      <a:pt x="18451" y="5"/>
                      <a:pt x="18452" y="4"/>
                      <a:pt x="18453" y="4"/>
                    </a:cubicBezTo>
                    <a:close/>
                    <a:moveTo>
                      <a:pt x="18461" y="4"/>
                    </a:moveTo>
                    <a:lnTo>
                      <a:pt x="18461" y="4"/>
                    </a:lnTo>
                    <a:cubicBezTo>
                      <a:pt x="18462" y="4"/>
                      <a:pt x="18463" y="5"/>
                      <a:pt x="18463" y="6"/>
                    </a:cubicBezTo>
                    <a:cubicBezTo>
                      <a:pt x="18463" y="7"/>
                      <a:pt x="18462" y="8"/>
                      <a:pt x="18461" y="8"/>
                    </a:cubicBezTo>
                    <a:lnTo>
                      <a:pt x="18461" y="8"/>
                    </a:lnTo>
                    <a:cubicBezTo>
                      <a:pt x="18460" y="8"/>
                      <a:pt x="18459" y="7"/>
                      <a:pt x="18459" y="6"/>
                    </a:cubicBezTo>
                    <a:cubicBezTo>
                      <a:pt x="18459" y="5"/>
                      <a:pt x="18460" y="4"/>
                      <a:pt x="18461" y="4"/>
                    </a:cubicBezTo>
                    <a:close/>
                    <a:moveTo>
                      <a:pt x="18469" y="4"/>
                    </a:moveTo>
                    <a:lnTo>
                      <a:pt x="18469" y="4"/>
                    </a:lnTo>
                    <a:cubicBezTo>
                      <a:pt x="18470" y="4"/>
                      <a:pt x="18471" y="5"/>
                      <a:pt x="18471" y="6"/>
                    </a:cubicBezTo>
                    <a:cubicBezTo>
                      <a:pt x="18471" y="7"/>
                      <a:pt x="18470" y="8"/>
                      <a:pt x="18469" y="8"/>
                    </a:cubicBezTo>
                    <a:lnTo>
                      <a:pt x="18469" y="8"/>
                    </a:lnTo>
                    <a:cubicBezTo>
                      <a:pt x="18468" y="8"/>
                      <a:pt x="18467" y="7"/>
                      <a:pt x="18467" y="6"/>
                    </a:cubicBezTo>
                    <a:cubicBezTo>
                      <a:pt x="18467" y="5"/>
                      <a:pt x="18468" y="4"/>
                      <a:pt x="18469" y="4"/>
                    </a:cubicBezTo>
                    <a:close/>
                    <a:moveTo>
                      <a:pt x="18477" y="4"/>
                    </a:moveTo>
                    <a:lnTo>
                      <a:pt x="18477" y="4"/>
                    </a:lnTo>
                    <a:cubicBezTo>
                      <a:pt x="18478" y="4"/>
                      <a:pt x="18479" y="5"/>
                      <a:pt x="18479" y="6"/>
                    </a:cubicBezTo>
                    <a:cubicBezTo>
                      <a:pt x="18479" y="7"/>
                      <a:pt x="18478" y="8"/>
                      <a:pt x="18477" y="8"/>
                    </a:cubicBezTo>
                    <a:lnTo>
                      <a:pt x="18477" y="8"/>
                    </a:lnTo>
                    <a:cubicBezTo>
                      <a:pt x="18476" y="8"/>
                      <a:pt x="18475" y="7"/>
                      <a:pt x="18475" y="6"/>
                    </a:cubicBezTo>
                    <a:cubicBezTo>
                      <a:pt x="18475" y="5"/>
                      <a:pt x="18476" y="4"/>
                      <a:pt x="18477" y="4"/>
                    </a:cubicBezTo>
                    <a:close/>
                    <a:moveTo>
                      <a:pt x="18485" y="4"/>
                    </a:moveTo>
                    <a:lnTo>
                      <a:pt x="18485" y="4"/>
                    </a:lnTo>
                    <a:cubicBezTo>
                      <a:pt x="18486" y="4"/>
                      <a:pt x="18487" y="5"/>
                      <a:pt x="18487" y="6"/>
                    </a:cubicBezTo>
                    <a:cubicBezTo>
                      <a:pt x="18487" y="7"/>
                      <a:pt x="18486" y="8"/>
                      <a:pt x="18485" y="8"/>
                    </a:cubicBezTo>
                    <a:lnTo>
                      <a:pt x="18485" y="8"/>
                    </a:lnTo>
                    <a:cubicBezTo>
                      <a:pt x="18484" y="8"/>
                      <a:pt x="18483" y="7"/>
                      <a:pt x="18483" y="6"/>
                    </a:cubicBezTo>
                    <a:cubicBezTo>
                      <a:pt x="18483" y="5"/>
                      <a:pt x="18484" y="4"/>
                      <a:pt x="18485" y="4"/>
                    </a:cubicBezTo>
                    <a:close/>
                    <a:moveTo>
                      <a:pt x="18493" y="4"/>
                    </a:moveTo>
                    <a:lnTo>
                      <a:pt x="18493" y="4"/>
                    </a:lnTo>
                    <a:cubicBezTo>
                      <a:pt x="18494" y="4"/>
                      <a:pt x="18495" y="5"/>
                      <a:pt x="18495" y="6"/>
                    </a:cubicBezTo>
                    <a:cubicBezTo>
                      <a:pt x="18495" y="7"/>
                      <a:pt x="18494" y="8"/>
                      <a:pt x="18493" y="8"/>
                    </a:cubicBezTo>
                    <a:lnTo>
                      <a:pt x="18493" y="8"/>
                    </a:lnTo>
                    <a:cubicBezTo>
                      <a:pt x="18492" y="8"/>
                      <a:pt x="18491" y="7"/>
                      <a:pt x="18491" y="6"/>
                    </a:cubicBezTo>
                    <a:cubicBezTo>
                      <a:pt x="18491" y="5"/>
                      <a:pt x="18492" y="4"/>
                      <a:pt x="18493" y="4"/>
                    </a:cubicBezTo>
                    <a:close/>
                    <a:moveTo>
                      <a:pt x="18501" y="4"/>
                    </a:moveTo>
                    <a:lnTo>
                      <a:pt x="18501" y="4"/>
                    </a:lnTo>
                    <a:cubicBezTo>
                      <a:pt x="18502" y="4"/>
                      <a:pt x="18503" y="5"/>
                      <a:pt x="18503" y="6"/>
                    </a:cubicBezTo>
                    <a:cubicBezTo>
                      <a:pt x="18503" y="7"/>
                      <a:pt x="18502" y="8"/>
                      <a:pt x="18501" y="8"/>
                    </a:cubicBezTo>
                    <a:lnTo>
                      <a:pt x="18501" y="8"/>
                    </a:lnTo>
                    <a:cubicBezTo>
                      <a:pt x="18500" y="8"/>
                      <a:pt x="18499" y="7"/>
                      <a:pt x="18499" y="6"/>
                    </a:cubicBezTo>
                    <a:cubicBezTo>
                      <a:pt x="18499" y="5"/>
                      <a:pt x="18500" y="4"/>
                      <a:pt x="18501" y="4"/>
                    </a:cubicBezTo>
                    <a:close/>
                    <a:moveTo>
                      <a:pt x="18509" y="4"/>
                    </a:moveTo>
                    <a:lnTo>
                      <a:pt x="18509" y="4"/>
                    </a:lnTo>
                    <a:cubicBezTo>
                      <a:pt x="18510" y="4"/>
                      <a:pt x="18511" y="5"/>
                      <a:pt x="18511" y="6"/>
                    </a:cubicBezTo>
                    <a:cubicBezTo>
                      <a:pt x="18511" y="7"/>
                      <a:pt x="18510" y="8"/>
                      <a:pt x="18509" y="8"/>
                    </a:cubicBezTo>
                    <a:lnTo>
                      <a:pt x="18509" y="8"/>
                    </a:lnTo>
                    <a:cubicBezTo>
                      <a:pt x="18508" y="8"/>
                      <a:pt x="18507" y="7"/>
                      <a:pt x="18507" y="6"/>
                    </a:cubicBezTo>
                    <a:cubicBezTo>
                      <a:pt x="18507" y="5"/>
                      <a:pt x="18508" y="4"/>
                      <a:pt x="18509" y="4"/>
                    </a:cubicBez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563840" y="2550960"/>
                <a:ext cx="6075360" cy="2889360"/>
              </a:xfrm>
              <a:prstGeom prst="rect">
                <a:avLst/>
              </a:prstGeom>
              <a:noFill/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525680" y="5440320"/>
                <a:ext cx="58680" cy="1800"/>
              </a:xfrm>
              <a:prstGeom prst="line">
                <a:avLst/>
              </a:prstGeom>
              <a:ln cap="rnd"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525680" y="4959360"/>
                <a:ext cx="58680" cy="1440"/>
              </a:xfrm>
              <a:prstGeom prst="line">
                <a:avLst/>
              </a:prstGeom>
              <a:ln cap="rnd"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525680" y="4478400"/>
                <a:ext cx="58680" cy="1440"/>
              </a:xfrm>
              <a:prstGeom prst="line">
                <a:avLst/>
              </a:prstGeom>
              <a:ln cap="rnd"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525680" y="3984480"/>
                <a:ext cx="58680" cy="1800"/>
              </a:xfrm>
              <a:prstGeom prst="line">
                <a:avLst/>
              </a:prstGeom>
              <a:ln cap="rnd"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3880" y="3503520"/>
                <a:ext cx="60480" cy="1800"/>
              </a:xfrm>
              <a:prstGeom prst="line">
                <a:avLst/>
              </a:prstGeom>
              <a:ln cap="rnd"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523880" y="3021120"/>
                <a:ext cx="60480" cy="1440"/>
              </a:xfrm>
              <a:prstGeom prst="line">
                <a:avLst/>
              </a:prstGeom>
              <a:ln cap="rnd"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523880" y="2549520"/>
                <a:ext cx="60480" cy="1440"/>
              </a:xfrm>
              <a:prstGeom prst="line">
                <a:avLst/>
              </a:prstGeom>
              <a:ln cap="rnd"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V="1">
                <a:off x="1584360" y="5440320"/>
                <a:ext cx="1440" cy="60480"/>
              </a:xfrm>
              <a:prstGeom prst="line">
                <a:avLst/>
              </a:prstGeom>
              <a:ln cap="rnd"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>
                <a:off x="1790640" y="5440320"/>
                <a:ext cx="0" cy="60480"/>
              </a:xfrm>
              <a:prstGeom prst="line">
                <a:avLst/>
              </a:prstGeom>
              <a:ln cap="rnd"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V="1">
                <a:off x="1982880" y="5440320"/>
                <a:ext cx="1440" cy="60480"/>
              </a:xfrm>
              <a:prstGeom prst="line">
                <a:avLst/>
              </a:prstGeom>
              <a:ln cap="rnd"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V="1">
                <a:off x="2187720" y="5440320"/>
                <a:ext cx="1440" cy="60480"/>
              </a:xfrm>
              <a:prstGeom prst="line">
                <a:avLst/>
              </a:prstGeom>
              <a:ln cap="rnd"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V="1">
                <a:off x="2392200" y="5440320"/>
                <a:ext cx="1800" cy="60480"/>
              </a:xfrm>
              <a:prstGeom prst="line">
                <a:avLst/>
              </a:prstGeom>
              <a:ln cap="rnd"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V="1">
                <a:off x="2598840" y="5440320"/>
                <a:ext cx="1440" cy="60480"/>
              </a:xfrm>
              <a:prstGeom prst="line">
                <a:avLst/>
              </a:prstGeom>
              <a:ln cap="rnd"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V="1">
                <a:off x="2790720" y="5440320"/>
                <a:ext cx="1800" cy="60480"/>
              </a:xfrm>
              <a:prstGeom prst="line">
                <a:avLst/>
              </a:prstGeom>
              <a:ln cap="rnd"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V="1">
                <a:off x="2995560" y="5440320"/>
                <a:ext cx="1800" cy="60480"/>
              </a:xfrm>
              <a:prstGeom prst="line">
                <a:avLst/>
              </a:prstGeom>
              <a:ln cap="rnd"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V="1">
                <a:off x="3200400" y="5440320"/>
                <a:ext cx="1440" cy="60480"/>
              </a:xfrm>
              <a:prstGeom prst="line">
                <a:avLst/>
              </a:prstGeom>
              <a:ln cap="rnd"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3406680" y="5440320"/>
                <a:ext cx="1800" cy="60480"/>
              </a:xfrm>
              <a:prstGeom prst="line">
                <a:avLst/>
              </a:prstGeom>
              <a:ln cap="rnd"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V="1">
                <a:off x="3598920" y="5440320"/>
                <a:ext cx="1440" cy="60480"/>
              </a:xfrm>
              <a:prstGeom prst="line">
                <a:avLst/>
              </a:prstGeom>
              <a:ln cap="rnd"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V="1">
                <a:off x="3803760" y="5440320"/>
                <a:ext cx="1440" cy="60480"/>
              </a:xfrm>
              <a:prstGeom prst="line">
                <a:avLst/>
              </a:prstGeom>
              <a:ln cap="rnd"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V="1">
                <a:off x="4010040" y="5440320"/>
                <a:ext cx="0" cy="60480"/>
              </a:xfrm>
              <a:prstGeom prst="line">
                <a:avLst/>
              </a:prstGeom>
              <a:ln cap="rnd"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V="1">
                <a:off x="4214880" y="5440320"/>
                <a:ext cx="1440" cy="60480"/>
              </a:xfrm>
              <a:prstGeom prst="line">
                <a:avLst/>
              </a:prstGeom>
              <a:ln cap="rnd"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V="1">
                <a:off x="4406760" y="5440320"/>
                <a:ext cx="1800" cy="60480"/>
              </a:xfrm>
              <a:prstGeom prst="line">
                <a:avLst/>
              </a:prstGeom>
              <a:ln cap="rnd"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V="1">
                <a:off x="4611600" y="5440320"/>
                <a:ext cx="1800" cy="60480"/>
              </a:xfrm>
              <a:prstGeom prst="line">
                <a:avLst/>
              </a:prstGeom>
              <a:ln cap="rnd"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V="1">
                <a:off x="4818240" y="5440320"/>
                <a:ext cx="1440" cy="60480"/>
              </a:xfrm>
              <a:prstGeom prst="line">
                <a:avLst/>
              </a:prstGeom>
              <a:ln cap="rnd"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>
                <a:off x="5010120" y="5440320"/>
                <a:ext cx="1440" cy="60480"/>
              </a:xfrm>
              <a:prstGeom prst="line">
                <a:avLst/>
              </a:prstGeom>
              <a:ln cap="rnd"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214960" y="5440320"/>
                <a:ext cx="1440" cy="60480"/>
              </a:xfrm>
              <a:prstGeom prst="line">
                <a:avLst/>
              </a:prstGeom>
              <a:ln cap="rnd"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V="1">
                <a:off x="5419800" y="5440320"/>
                <a:ext cx="1440" cy="60480"/>
              </a:xfrm>
              <a:prstGeom prst="line">
                <a:avLst/>
              </a:prstGeom>
              <a:ln cap="rnd"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V="1">
                <a:off x="5624640" y="5440320"/>
                <a:ext cx="1440" cy="60480"/>
              </a:xfrm>
              <a:prstGeom prst="line">
                <a:avLst/>
              </a:prstGeom>
              <a:ln cap="rnd"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V="1">
                <a:off x="5816520" y="5440320"/>
                <a:ext cx="1800" cy="60480"/>
              </a:xfrm>
              <a:prstGeom prst="line">
                <a:avLst/>
              </a:prstGeom>
              <a:ln cap="rnd"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6022800" y="5440320"/>
                <a:ext cx="0" cy="60480"/>
              </a:xfrm>
              <a:prstGeom prst="line">
                <a:avLst/>
              </a:prstGeom>
              <a:ln cap="rnd"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V="1">
                <a:off x="6227640" y="5440320"/>
                <a:ext cx="1800" cy="60480"/>
              </a:xfrm>
              <a:prstGeom prst="line">
                <a:avLst/>
              </a:prstGeom>
              <a:ln cap="rnd"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V="1">
                <a:off x="6432480" y="5440320"/>
                <a:ext cx="1800" cy="60480"/>
              </a:xfrm>
              <a:prstGeom prst="line">
                <a:avLst/>
              </a:prstGeom>
              <a:ln cap="rnd"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V="1">
                <a:off x="6626160" y="5440320"/>
                <a:ext cx="0" cy="60480"/>
              </a:xfrm>
              <a:prstGeom prst="line">
                <a:avLst/>
              </a:prstGeom>
              <a:ln cap="rnd"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6831000" y="5440320"/>
                <a:ext cx="1440" cy="60480"/>
              </a:xfrm>
              <a:prstGeom prst="line">
                <a:avLst/>
              </a:prstGeom>
              <a:ln cap="rnd"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V="1">
                <a:off x="7035840" y="5440320"/>
                <a:ext cx="1440" cy="60480"/>
              </a:xfrm>
              <a:prstGeom prst="line">
                <a:avLst/>
              </a:prstGeom>
              <a:ln cap="rnd"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V="1">
                <a:off x="7240680" y="5440320"/>
                <a:ext cx="1440" cy="60480"/>
              </a:xfrm>
              <a:prstGeom prst="line">
                <a:avLst/>
              </a:prstGeom>
              <a:ln cap="rnd"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V="1">
                <a:off x="7432560" y="5440320"/>
                <a:ext cx="1800" cy="60480"/>
              </a:xfrm>
              <a:prstGeom prst="line">
                <a:avLst/>
              </a:prstGeom>
              <a:ln cap="rnd"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39200" y="5440320"/>
                <a:ext cx="1440" cy="60480"/>
              </a:xfrm>
              <a:prstGeom prst="line">
                <a:avLst/>
              </a:prstGeom>
              <a:ln cap="rnd"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660680" y="3032280"/>
                <a:ext cx="5881680" cy="2396880"/>
              </a:xfrm>
              <a:custGeom>
                <a:avLst/>
                <a:gdLst/>
                <a:ahLst/>
                <a:rect l="l" t="t" r="r" b="b"/>
                <a:pathLst>
                  <a:path w="3705" h="1510">
                    <a:moveTo>
                      <a:pt x="0" y="989"/>
                    </a:moveTo>
                    <a:lnTo>
                      <a:pt x="129" y="861"/>
                    </a:lnTo>
                    <a:lnTo>
                      <a:pt x="259" y="906"/>
                    </a:lnTo>
                    <a:lnTo>
                      <a:pt x="389" y="951"/>
                    </a:lnTo>
                    <a:lnTo>
                      <a:pt x="511" y="921"/>
                    </a:lnTo>
                    <a:lnTo>
                      <a:pt x="640" y="951"/>
                    </a:lnTo>
                    <a:lnTo>
                      <a:pt x="770" y="672"/>
                    </a:lnTo>
                    <a:lnTo>
                      <a:pt x="899" y="695"/>
                    </a:lnTo>
                    <a:lnTo>
                      <a:pt x="1021" y="596"/>
                    </a:lnTo>
                    <a:lnTo>
                      <a:pt x="1151" y="619"/>
                    </a:lnTo>
                    <a:lnTo>
                      <a:pt x="1280" y="680"/>
                    </a:lnTo>
                    <a:lnTo>
                      <a:pt x="1402" y="755"/>
                    </a:lnTo>
                    <a:lnTo>
                      <a:pt x="1532" y="883"/>
                    </a:lnTo>
                    <a:lnTo>
                      <a:pt x="1662" y="815"/>
                    </a:lnTo>
                    <a:lnTo>
                      <a:pt x="1791" y="483"/>
                    </a:lnTo>
                    <a:lnTo>
                      <a:pt x="1913" y="581"/>
                    </a:lnTo>
                    <a:lnTo>
                      <a:pt x="2043" y="747"/>
                    </a:lnTo>
                    <a:lnTo>
                      <a:pt x="2172" y="385"/>
                    </a:lnTo>
                    <a:lnTo>
                      <a:pt x="2302" y="212"/>
                    </a:lnTo>
                    <a:lnTo>
                      <a:pt x="2424" y="0"/>
                    </a:lnTo>
                    <a:lnTo>
                      <a:pt x="2553" y="151"/>
                    </a:lnTo>
                    <a:lnTo>
                      <a:pt x="2683" y="408"/>
                    </a:lnTo>
                    <a:lnTo>
                      <a:pt x="2813" y="657"/>
                    </a:lnTo>
                    <a:lnTo>
                      <a:pt x="2935" y="808"/>
                    </a:lnTo>
                    <a:lnTo>
                      <a:pt x="3064" y="966"/>
                    </a:lnTo>
                    <a:lnTo>
                      <a:pt x="3194" y="1208"/>
                    </a:lnTo>
                    <a:lnTo>
                      <a:pt x="3316" y="1336"/>
                    </a:lnTo>
                    <a:lnTo>
                      <a:pt x="3445" y="1396"/>
                    </a:lnTo>
                    <a:lnTo>
                      <a:pt x="3575" y="1464"/>
                    </a:lnTo>
                    <a:lnTo>
                      <a:pt x="3705" y="1510"/>
                    </a:lnTo>
                  </a:path>
                </a:pathLst>
              </a:custGeom>
              <a:noFill/>
              <a:ln w="36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660680" y="3032280"/>
                <a:ext cx="5881680" cy="2360520"/>
              </a:xfrm>
              <a:custGeom>
                <a:avLst/>
                <a:gdLst/>
                <a:ahLst/>
                <a:rect l="l" t="t" r="r" b="b"/>
                <a:pathLst>
                  <a:path w="3705" h="1487">
                    <a:moveTo>
                      <a:pt x="0" y="0"/>
                    </a:moveTo>
                    <a:lnTo>
                      <a:pt x="129" y="0"/>
                    </a:lnTo>
                    <a:lnTo>
                      <a:pt x="259" y="0"/>
                    </a:lnTo>
                    <a:lnTo>
                      <a:pt x="389" y="0"/>
                    </a:lnTo>
                    <a:lnTo>
                      <a:pt x="511" y="8"/>
                    </a:lnTo>
                    <a:lnTo>
                      <a:pt x="640" y="0"/>
                    </a:lnTo>
                    <a:lnTo>
                      <a:pt x="770" y="23"/>
                    </a:lnTo>
                    <a:lnTo>
                      <a:pt x="899" y="23"/>
                    </a:lnTo>
                    <a:lnTo>
                      <a:pt x="1021" y="30"/>
                    </a:lnTo>
                    <a:lnTo>
                      <a:pt x="1151" y="8"/>
                    </a:lnTo>
                    <a:lnTo>
                      <a:pt x="1280" y="227"/>
                    </a:lnTo>
                    <a:lnTo>
                      <a:pt x="1402" y="317"/>
                    </a:lnTo>
                    <a:lnTo>
                      <a:pt x="1532" y="15"/>
                    </a:lnTo>
                    <a:lnTo>
                      <a:pt x="1662" y="234"/>
                    </a:lnTo>
                    <a:lnTo>
                      <a:pt x="1791" y="332"/>
                    </a:lnTo>
                    <a:lnTo>
                      <a:pt x="1913" y="317"/>
                    </a:lnTo>
                    <a:lnTo>
                      <a:pt x="2043" y="347"/>
                    </a:lnTo>
                    <a:lnTo>
                      <a:pt x="2172" y="325"/>
                    </a:lnTo>
                    <a:lnTo>
                      <a:pt x="2302" y="325"/>
                    </a:lnTo>
                    <a:lnTo>
                      <a:pt x="2424" y="317"/>
                    </a:lnTo>
                    <a:lnTo>
                      <a:pt x="2553" y="325"/>
                    </a:lnTo>
                    <a:lnTo>
                      <a:pt x="2683" y="332"/>
                    </a:lnTo>
                    <a:lnTo>
                      <a:pt x="2813" y="325"/>
                    </a:lnTo>
                    <a:lnTo>
                      <a:pt x="2935" y="446"/>
                    </a:lnTo>
                    <a:lnTo>
                      <a:pt x="3064" y="649"/>
                    </a:lnTo>
                    <a:lnTo>
                      <a:pt x="3194" y="755"/>
                    </a:lnTo>
                    <a:lnTo>
                      <a:pt x="3316" y="725"/>
                    </a:lnTo>
                    <a:lnTo>
                      <a:pt x="3445" y="747"/>
                    </a:lnTo>
                    <a:lnTo>
                      <a:pt x="3575" y="1480"/>
                    </a:lnTo>
                    <a:lnTo>
                      <a:pt x="3705" y="1487"/>
                    </a:lnTo>
                  </a:path>
                </a:pathLst>
              </a:custGeom>
              <a:noFill/>
              <a:ln w="36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660680" y="3032280"/>
                <a:ext cx="5881680" cy="2384280"/>
              </a:xfrm>
              <a:custGeom>
                <a:avLst/>
                <a:gdLst/>
                <a:ahLst/>
                <a:rect l="l" t="t" r="r" b="b"/>
                <a:pathLst>
                  <a:path w="3705" h="1502">
                    <a:moveTo>
                      <a:pt x="0" y="1434"/>
                    </a:moveTo>
                    <a:lnTo>
                      <a:pt x="129" y="1404"/>
                    </a:lnTo>
                    <a:lnTo>
                      <a:pt x="259" y="1389"/>
                    </a:lnTo>
                    <a:lnTo>
                      <a:pt x="389" y="1442"/>
                    </a:lnTo>
                    <a:lnTo>
                      <a:pt x="511" y="1351"/>
                    </a:lnTo>
                    <a:lnTo>
                      <a:pt x="640" y="1404"/>
                    </a:lnTo>
                    <a:lnTo>
                      <a:pt x="770" y="1374"/>
                    </a:lnTo>
                    <a:lnTo>
                      <a:pt x="899" y="1268"/>
                    </a:lnTo>
                    <a:lnTo>
                      <a:pt x="1021" y="1193"/>
                    </a:lnTo>
                    <a:lnTo>
                      <a:pt x="1151" y="1200"/>
                    </a:lnTo>
                    <a:lnTo>
                      <a:pt x="1280" y="974"/>
                    </a:lnTo>
                    <a:lnTo>
                      <a:pt x="1402" y="732"/>
                    </a:lnTo>
                    <a:lnTo>
                      <a:pt x="1532" y="1185"/>
                    </a:lnTo>
                    <a:lnTo>
                      <a:pt x="1662" y="1057"/>
                    </a:lnTo>
                    <a:lnTo>
                      <a:pt x="1791" y="830"/>
                    </a:lnTo>
                    <a:lnTo>
                      <a:pt x="1913" y="808"/>
                    </a:lnTo>
                    <a:lnTo>
                      <a:pt x="2043" y="710"/>
                    </a:lnTo>
                    <a:lnTo>
                      <a:pt x="2172" y="0"/>
                    </a:lnTo>
                    <a:lnTo>
                      <a:pt x="2302" y="1079"/>
                    </a:lnTo>
                    <a:lnTo>
                      <a:pt x="2424" y="1042"/>
                    </a:lnTo>
                    <a:lnTo>
                      <a:pt x="2553" y="815"/>
                    </a:lnTo>
                    <a:lnTo>
                      <a:pt x="2683" y="861"/>
                    </a:lnTo>
                    <a:lnTo>
                      <a:pt x="2813" y="1110"/>
                    </a:lnTo>
                    <a:lnTo>
                      <a:pt x="2935" y="1087"/>
                    </a:lnTo>
                    <a:lnTo>
                      <a:pt x="3064" y="891"/>
                    </a:lnTo>
                    <a:lnTo>
                      <a:pt x="3194" y="1170"/>
                    </a:lnTo>
                    <a:lnTo>
                      <a:pt x="3316" y="1358"/>
                    </a:lnTo>
                    <a:lnTo>
                      <a:pt x="3445" y="1411"/>
                    </a:lnTo>
                    <a:lnTo>
                      <a:pt x="3575" y="1502"/>
                    </a:lnTo>
                    <a:lnTo>
                      <a:pt x="3705" y="1502"/>
                    </a:lnTo>
                  </a:path>
                </a:pathLst>
              </a:custGeom>
              <a:noFill/>
              <a:ln w="363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362320" y="2022480"/>
                <a:ext cx="1440" cy="36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273560" y="2022480"/>
                <a:ext cx="1440" cy="36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638600" y="2022480"/>
                <a:ext cx="1800" cy="36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979960" y="2022480"/>
                <a:ext cx="1800" cy="36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365480" y="5343480"/>
                <a:ext cx="113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1207800" y="4861080"/>
                <a:ext cx="2826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1207800" y="4378320"/>
                <a:ext cx="2826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0.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1207800" y="3884760"/>
                <a:ext cx="2826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0.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1207800" y="3403440"/>
                <a:ext cx="2826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217520" y="2922480"/>
                <a:ext cx="2826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679760" y="5618160"/>
                <a:ext cx="113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2629080" y="5618160"/>
                <a:ext cx="22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643560" y="5618160"/>
                <a:ext cx="22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17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645080" y="5618160"/>
                <a:ext cx="22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2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656320" y="5618160"/>
                <a:ext cx="22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27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669360" y="5618160"/>
                <a:ext cx="22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3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437640" y="5937120"/>
                <a:ext cx="2567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emana (Temporada 2002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H="1">
                <a:off x="2066400" y="3867120"/>
                <a:ext cx="181080" cy="50184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019240" y="4321080"/>
                <a:ext cx="120600" cy="144720"/>
              </a:xfrm>
              <a:custGeom>
                <a:avLst/>
                <a:gdLst/>
                <a:ahLst/>
                <a:rect l="l" t="t" r="r" b="b"/>
                <a:pathLst>
                  <a:path w="76" h="91">
                    <a:moveTo>
                      <a:pt x="0" y="0"/>
                    </a:moveTo>
                    <a:lnTo>
                      <a:pt x="8" y="91"/>
                    </a:lnTo>
                    <a:lnTo>
                      <a:pt x="76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787400" y="3624120"/>
                <a:ext cx="544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80"/>
                    </a:solidFill>
                    <a:latin typeface="Arial"/>
                  </a:rPr>
                  <a:t>Stock /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321280" y="3624120"/>
                <a:ext cx="30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80"/>
                    </a:solidFill>
                    <a:latin typeface="Arial"/>
                  </a:rPr>
                  <a:t>ma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674440" y="3624120"/>
                <a:ext cx="416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80"/>
                    </a:solidFill>
                    <a:latin typeface="Arial"/>
                  </a:rPr>
                  <a:t>Stoc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H="1" flipV="1">
                <a:off x="3368160" y="5032440"/>
                <a:ext cx="217800" cy="21600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309840" y="4971960"/>
                <a:ext cx="144720" cy="144720"/>
              </a:xfrm>
              <a:custGeom>
                <a:avLst/>
                <a:gdLst/>
                <a:ahLst/>
                <a:rect l="l" t="t" r="r" b="b"/>
                <a:pathLst>
                  <a:path w="91" h="91">
                    <a:moveTo>
                      <a:pt x="91" y="30"/>
                    </a:moveTo>
                    <a:lnTo>
                      <a:pt x="0" y="0"/>
                    </a:lnTo>
                    <a:lnTo>
                      <a:pt x="31" y="91"/>
                    </a:lnTo>
                    <a:lnTo>
                      <a:pt x="91" y="3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V="1">
                <a:off x="2333520" y="2768760"/>
                <a:ext cx="157320" cy="1555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73400" y="2852640"/>
                <a:ext cx="144360" cy="144720"/>
              </a:xfrm>
              <a:custGeom>
                <a:avLst/>
                <a:gdLst/>
                <a:ahLst/>
                <a:rect l="l" t="t" r="r" b="b"/>
                <a:pathLst>
                  <a:path w="91" h="91">
                    <a:moveTo>
                      <a:pt x="30" y="0"/>
                    </a:moveTo>
                    <a:lnTo>
                      <a:pt x="0" y="91"/>
                    </a:lnTo>
                    <a:lnTo>
                      <a:pt x="91" y="6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634120" y="2662200"/>
                <a:ext cx="1218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Arial"/>
                  </a:rPr>
                  <a:t>Precio / P. Inici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45080" y="517680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8000"/>
                    </a:solidFill>
                    <a:latin typeface="Arial"/>
                  </a:rPr>
                  <a:t>Ventas /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359600" y="5176800"/>
                <a:ext cx="30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8000"/>
                    </a:solidFill>
                    <a:latin typeface="Arial"/>
                  </a:rPr>
                  <a:t>ma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717800" y="5176800"/>
                <a:ext cx="502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8000"/>
                    </a:solidFill>
                    <a:latin typeface="Arial"/>
                  </a:rPr>
                  <a:t>Venta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4" name=""/>
              <p:cNvGrpSpPr/>
              <p:nvPr/>
            </p:nvGrpSpPr>
            <p:grpSpPr>
              <a:xfrm>
                <a:off x="6076800" y="2627280"/>
                <a:ext cx="1536840" cy="706320"/>
                <a:chOff x="6076800" y="2627280"/>
                <a:chExt cx="1536840" cy="70632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6076800" y="2627280"/>
                  <a:ext cx="1536840" cy="706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6076800" y="2627280"/>
                  <a:ext cx="1536840" cy="706320"/>
                </a:xfrm>
                <a:prstGeom prst="rect">
                  <a:avLst/>
                </a:pr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6210360" y="2638440"/>
                <a:ext cx="1351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Arial"/>
                  </a:rPr>
                  <a:t>P. Inicial = $18.99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175080" y="2843280"/>
                <a:ext cx="459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80"/>
                    </a:solidFill>
                    <a:latin typeface="Arial"/>
                  </a:rPr>
                  <a:t>Stock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625440" y="2843280"/>
                <a:ext cx="298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80"/>
                    </a:solidFill>
                    <a:latin typeface="Arial"/>
                  </a:rPr>
                  <a:t>Ma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927480" y="2843280"/>
                <a:ext cx="430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80"/>
                    </a:solidFill>
                    <a:latin typeface="Arial"/>
                  </a:rPr>
                  <a:t>.= 5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175080" y="3046320"/>
                <a:ext cx="459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8000"/>
                    </a:solidFill>
                    <a:latin typeface="Arial"/>
                  </a:rPr>
                  <a:t>Venta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625440" y="3046320"/>
                <a:ext cx="298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8000"/>
                    </a:solidFill>
                    <a:latin typeface="Arial"/>
                  </a:rPr>
                  <a:t>Ma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929280" y="3046320"/>
                <a:ext cx="473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8000"/>
                    </a:solidFill>
                    <a:latin typeface="Arial"/>
                  </a:rPr>
                  <a:t>. = 51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4" name=""/>
          <p:cNvSpPr/>
          <p:nvPr/>
        </p:nvSpPr>
        <p:spPr>
          <a:xfrm>
            <a:off x="2906280" y="1371600"/>
            <a:ext cx="339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Tahoma"/>
              </a:rPr>
              <a:t>Modelo de 3 Fac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219320" y="6094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99"/>
                </a:solidFill>
                <a:latin typeface="Tahoma"/>
              </a:rPr>
              <a:t>Aplic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97EEB-3BAD-4A27-ADAF-C6991E266AF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2268360" y="1752480"/>
            <a:ext cx="6180480" cy="1422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Times New Roman"/>
              </a:rPr>
              <a:t>Datos Agrupados por Subclase y Grupos de Tien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O" sz="2000" spc="-1" strike="noStrike">
                <a:solidFill>
                  <a:srgbClr val="000000"/>
                </a:solidFill>
                <a:latin typeface="Times New Roman"/>
              </a:rPr>
              <a:t>Estacionalidad Tempo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O" sz="2000" spc="-1" strike="noStrike">
                <a:solidFill>
                  <a:srgbClr val="000000"/>
                </a:solidFill>
                <a:latin typeface="Times New Roman"/>
              </a:rPr>
              <a:t>Efecto Promoci</a:t>
            </a:r>
            <a:r>
              <a:rPr b="0" lang="es-CO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O" sz="2000" spc="-1" strike="noStrike">
                <a:solidFill>
                  <a:srgbClr val="000000"/>
                </a:solidFill>
                <a:latin typeface="Times New Roman"/>
              </a:rPr>
              <a:t>Elasticidades Precio e Inventario Pro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5214600" y="3263760"/>
            <a:ext cx="4680" cy="339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281320" y="3633840"/>
            <a:ext cx="616752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Times New Roman"/>
              </a:rPr>
              <a:t>Datos Agrupados por Estilo y Grupos de Tien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O" sz="2000" spc="-1" strike="noStrike">
                <a:solidFill>
                  <a:srgbClr val="000000"/>
                </a:solidFill>
                <a:latin typeface="Times New Roman"/>
              </a:rPr>
              <a:t>Estacionalidad Precio Especifica del Esti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281320" y="5237280"/>
            <a:ext cx="6167520" cy="1143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Times New Roman"/>
              </a:rPr>
              <a:t>Datos Agrupados por Estilo y Tie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O" sz="2000" spc="-1" strike="noStrike">
                <a:solidFill>
                  <a:srgbClr val="000000"/>
                </a:solidFill>
                <a:latin typeface="Times New Roman"/>
              </a:rPr>
              <a:t>Factor de Ajuste Magnitud de Ventas Específ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CO" sz="2000" spc="-1" strike="noStrike">
                <a:solidFill>
                  <a:srgbClr val="000000"/>
                </a:solidFill>
                <a:latin typeface="Times New Roman"/>
              </a:rPr>
              <a:t>a cada Estilo y Tie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5214600" y="4870440"/>
            <a:ext cx="4680" cy="339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400480" y="1295280"/>
            <a:ext cx="528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Tahoma"/>
              </a:rPr>
              <a:t>Enfoque de Estimación Jerárqu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219320" y="6094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99"/>
                </a:solidFill>
                <a:latin typeface="Tahoma"/>
              </a:rPr>
              <a:t>Aplic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7F343-5627-49BA-B28F-7A3BE994415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1332000" y="2924280"/>
                <a:ext cx="718956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×</m:t>
                    </m:r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rom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(</m:t>
                        </m:r>
                        <m:r>
                          <m:t xml:space="preserve">γ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icial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μ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(</m:t>
                        </m:r>
                        <m:r>
                          <m:t xml:space="preserve">0,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I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64" name=""/>
          <p:cNvSpPr/>
          <p:nvPr/>
        </p:nvSpPr>
        <p:spPr>
          <a:xfrm>
            <a:off x="1562040" y="2662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220040" y="1989000"/>
            <a:ext cx="105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ma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tilo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2685960" y="347148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815120" y="4005360"/>
            <a:ext cx="17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 V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tilo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235320" y="213372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369880" y="1413000"/>
            <a:ext cx="153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tacion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cl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5021280" y="35348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243680" y="4221000"/>
            <a:ext cx="163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ast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cio Subcl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369040" y="2486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685760" y="1844640"/>
            <a:ext cx="148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ast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cio Estilo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6926400" y="35348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970600" y="4221000"/>
            <a:ext cx="199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ast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ventario Subcl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722600" y="5157720"/>
            <a:ext cx="6476760" cy="1260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= Tiempo (Semana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= Inventar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= Preci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Inventario Crí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nici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Precio Inicial (salida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2960" y="2637000"/>
            <a:ext cx="0" cy="53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307680" y="1989000"/>
            <a:ext cx="118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f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mo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219320" y="6094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99"/>
                </a:solidFill>
                <a:latin typeface="Tahoma"/>
              </a:rPr>
              <a:t>Aplicación: Model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05275-5FD9-410C-99DF-858A2791FB2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0" name=""/>
          <p:cNvGraphicFramePr/>
          <p:nvPr/>
        </p:nvGraphicFramePr>
        <p:xfrm>
          <a:off x="1828800" y="1468440"/>
          <a:ext cx="6095880" cy="4576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468440"/>
                    <a:ext cx="6095880" cy="45766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382" name=""/>
          <p:cNvSpPr/>
          <p:nvPr/>
        </p:nvSpPr>
        <p:spPr>
          <a:xfrm>
            <a:off x="7007400" y="278136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Palatino Linotype"/>
              </a:rPr>
              <a:t>R</a:t>
            </a:r>
            <a:r>
              <a:rPr b="0" lang="es-CL" sz="1200" spc="-1" strike="noStrike" baseline="30000">
                <a:solidFill>
                  <a:srgbClr val="000000"/>
                </a:solidFill>
                <a:latin typeface="Palatino Linotype"/>
              </a:rPr>
              <a:t>2 </a:t>
            </a:r>
            <a:r>
              <a:rPr b="0" lang="es-CL" sz="1200" spc="-1" strike="noStrike">
                <a:solidFill>
                  <a:srgbClr val="000000"/>
                </a:solidFill>
                <a:latin typeface="Palatino Linotype"/>
              </a:rPr>
              <a:t>= 0,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19320" y="6094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99"/>
                </a:solidFill>
                <a:latin typeface="Tahoma"/>
              </a:rPr>
              <a:t>Aplicación: Resulta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429000" y="1676520"/>
            <a:ext cx="32004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308A6-CAD2-455B-A2A1-A707D7D45E9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99"/>
                </a:solidFill>
                <a:latin typeface="Tahoma"/>
              </a:rPr>
              <a:t>Pronósticos Bajo Incertidumbr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421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aramond"/>
              </a:rPr>
              <a:t>En muchos casos no es una buena idea resumir en un numero nuestras predicciones futuras sobre el comportamiento de la demanda. O, depender demasiado de la información histórica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"/>
          <p:cNvSpPr/>
          <p:nvPr/>
        </p:nvSpPr>
        <p:spPr>
          <a:xfrm>
            <a:off x="838080" y="2819520"/>
            <a:ext cx="8686800" cy="29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Ciclos de venta muy cor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Demanda altamente estocást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Rápidos cambios tecnológicos y de mo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Ejemplos: ropa de moda, juguetes , juegos computacionales, música, libros, artículos electrónico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-448920" y="5257800"/>
            <a:ext cx="105454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aramond"/>
              </a:rPr>
              <a:t>En estos casos puede ser mejor modelar la demanda como una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aramond"/>
              </a:rPr>
              <a:t>variable aleatorio (o proceso estocástico)  y usar pronósticos para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aramond"/>
              </a:rPr>
              <a:t>definir su distribución de probabilidad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3A516-F41F-411E-A3A3-EFA9E8BC3FC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333399"/>
                </a:solidFill>
                <a:latin typeface="Garamond"/>
              </a:rPr>
              <a:t>Distribución Empíric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500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Cuando es difícil ajustar una distribución de probabilidades se prefiere usar la distribución empírica asociada con los datos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380880" y="3352680"/>
            <a:ext cx="4638960" cy="261648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>
            <a:off x="5334120" y="3152880"/>
            <a:ext cx="3504960" cy="284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7AF91-E488-4000-B3DB-A5A053F5917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Distribuciones Param</a:t>
            </a:r>
            <a:r>
              <a:rPr b="0" lang="es-CL" sz="4400" spc="-1" strike="noStrike">
                <a:solidFill>
                  <a:srgbClr val="333399"/>
                </a:solidFill>
                <a:latin typeface="Tahoma"/>
                <a:ea typeface="Tahoma"/>
              </a:rPr>
              <a:t>é</a:t>
            </a: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tric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97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Se utiliza una familia especifica de distribuciones (Normal, Weibull, Uniforme, etc.) y se ajustan los parámetros de esta distribución usando información históric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Métodos de Máxima Verosimilitu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Métodos Bayesian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71D8F-276A-4C83-8C65-1B107054041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3818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Uno de los ejemplos más populares es suponer que la demanda está Normalmente distribuida con media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y desviación estándar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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 D tiene  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(x;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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Supongamos que tenemos N observaciones de la deman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{x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: i=1,…,N}. Como podemos estimar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y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457200" y="4114800"/>
                <a:ext cx="5029200" cy="22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etodo de Maxima Verosimilitud</m:t>
                        </m:r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 </m:t>
                            </m:r>
                          </m:e>
                          <m:lim>
                            <m:r>
                              <m:t xml:space="preserve">μ</m:t>
                            </m:r>
                            <m:r>
                              <m:t xml:space="preserve">,</m:t>
                            </m:r>
                            <m:r>
                              <m:t xml:space="preserve">σ</m:t>
                            </m:r>
                          </m:lim>
                        </m:limLow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μ</m:t>
                        </m:r>
                        <m:r>
                          <m:t xml:space="preserve">,</m:t>
                        </m:r>
                        <m:r>
                          <m:t xml:space="preserve">σ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φ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,</m:t>
                        </m:r>
                        <m:r>
                          <m:t xml:space="preserve">μ</m:t>
                        </m:r>
                        <m:r>
                          <m:t xml:space="preserve">,</m:t>
                        </m:r>
                        <m:r>
                          <m:t xml:space="preserve">σ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⇔</m:t>
                        </m:r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 </m:t>
                            </m:r>
                          </m:e>
                          <m:lim>
                            <m:r>
                              <m:t xml:space="preserve">μ</m:t>
                            </m:r>
                            <m:r>
                              <m:t xml:space="preserve">,</m:t>
                            </m:r>
                            <m:r>
                              <m:t xml:space="preserve">σ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V</m:t>
                            </m:r>
                            <m:r>
                              <m:t xml:space="preserve">(</m:t>
                            </m:r>
                            <m:r>
                              <m:t xml:space="preserve">μ</m:t>
                            </m:r>
                            <m:r>
                              <m:t xml:space="preserve">,</m:t>
                            </m:r>
                            <m:r>
                              <m:t xml:space="preserve">σ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π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−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μ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98" name=""/>
          <p:cNvSpPr/>
          <p:nvPr/>
        </p:nvSpPr>
        <p:spPr>
          <a:xfrm>
            <a:off x="5334120" y="49528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990033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6324480" y="4114800"/>
                <a:ext cx="2667240" cy="195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  <m:e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μ</m:t>
                                        </m:r>
                                      </m:e>
                                      <m:sub>
                                        <m:r>
                                          <m:t xml:space="preserve">V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26EDE-5D00-43FC-9118-CE93BA87BAA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304560" y="1523880"/>
            <a:ext cx="88390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En algunos casos la información esta truncada. Por ejemplo, cuando existen quiebres de stock los {xi} no representan la demanda sino las ventas. Es decir, x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= min{D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, C}.  Como podemos estimar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y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en este caso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2" name=""/>
          <p:cNvSpPr/>
          <p:nvPr/>
        </p:nvSpPr>
        <p:spPr>
          <a:xfrm>
            <a:off x="312480" y="3124080"/>
            <a:ext cx="22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Algoritmo 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20" y="3556080"/>
            <a:ext cx="9059760" cy="39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Palatino Linotype"/>
              </a:rPr>
              <a:t>Paso 0: Inicializar los valores de </a:t>
            </a:r>
            <a:r>
              <a:rPr b="0" lang="es-CL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CL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es-CL" sz="2200" spc="-1" strike="noStrike">
                <a:solidFill>
                  <a:srgbClr val="000000"/>
                </a:solidFill>
                <a:latin typeface="Palatino Linotype"/>
              </a:rPr>
              <a:t> y </a:t>
            </a:r>
            <a:r>
              <a:rPr b="0" lang="es-CL" sz="2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es-CL" sz="2200" spc="-1" strike="noStrike">
                <a:solidFill>
                  <a:srgbClr val="000000"/>
                </a:solidFill>
                <a:latin typeface="Palatino Linotype"/>
              </a:rPr>
              <a:t>. Por ejemplo </a:t>
            </a:r>
            <a:r>
              <a:rPr b="0" lang="es-CL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CL" sz="2200" spc="-1" strike="noStrike" baseline="-25000">
                <a:solidFill>
                  <a:srgbClr val="000000"/>
                </a:solidFill>
                <a:latin typeface="Palatino Linotype"/>
              </a:rPr>
              <a:t>V</a:t>
            </a:r>
            <a:r>
              <a:rPr b="0" lang="es-CL" sz="2200" spc="-1" strike="noStrike">
                <a:solidFill>
                  <a:srgbClr val="000000"/>
                </a:solidFill>
                <a:latin typeface="Palatino Linotype"/>
              </a:rPr>
              <a:t> y </a:t>
            </a:r>
            <a:r>
              <a:rPr b="0" lang="es-CL" sz="2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2200" spc="-1" strike="noStrike" baseline="-25000">
                <a:solidFill>
                  <a:srgbClr val="000000"/>
                </a:solidFill>
                <a:latin typeface="Palatino Linotype"/>
              </a:rPr>
              <a:t>V</a:t>
            </a:r>
            <a:r>
              <a:rPr b="0" lang="es-CL" sz="22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Palatino Linotype"/>
              </a:rPr>
              <a:t>Paso E: Definir la secuencia {y</a:t>
            </a:r>
            <a:r>
              <a:rPr b="0" lang="es-CL" sz="2200" spc="-1" strike="noStrike" baseline="-25000">
                <a:solidFill>
                  <a:srgbClr val="000000"/>
                </a:solidFill>
                <a:latin typeface="Palatino Linotype"/>
              </a:rPr>
              <a:t>i</a:t>
            </a:r>
            <a:r>
              <a:rPr b="0" lang="es-CL" sz="2200" spc="-1" strike="noStrike">
                <a:solidFill>
                  <a:srgbClr val="000000"/>
                </a:solidFill>
                <a:latin typeface="Palatino Linotype"/>
              </a:rPr>
              <a:t>} tal que y</a:t>
            </a:r>
            <a:r>
              <a:rPr b="0" lang="es-CL" sz="2200" spc="-1" strike="noStrike" baseline="-25000">
                <a:solidFill>
                  <a:srgbClr val="000000"/>
                </a:solidFill>
                <a:latin typeface="Palatino Linotype"/>
              </a:rPr>
              <a:t>i</a:t>
            </a:r>
            <a:r>
              <a:rPr b="0" lang="es-CL" sz="2200" spc="-1" strike="noStrike">
                <a:solidFill>
                  <a:srgbClr val="000000"/>
                </a:solidFill>
                <a:latin typeface="Palatino Linotype"/>
              </a:rPr>
              <a:t>=x</a:t>
            </a:r>
            <a:r>
              <a:rPr b="0" lang="es-CL" sz="2200" spc="-1" strike="noStrike" baseline="-25000">
                <a:solidFill>
                  <a:srgbClr val="000000"/>
                </a:solidFill>
                <a:latin typeface="Palatino Linotype"/>
              </a:rPr>
              <a:t>i</a:t>
            </a:r>
            <a:r>
              <a:rPr b="0" lang="es-CL" sz="2200" spc="-1" strike="noStrike">
                <a:solidFill>
                  <a:srgbClr val="000000"/>
                </a:solidFill>
                <a:latin typeface="Palatino Linotype"/>
              </a:rPr>
              <a:t> si x</a:t>
            </a:r>
            <a:r>
              <a:rPr b="0" lang="es-CL" sz="2200" spc="-1" strike="noStrike" baseline="-25000">
                <a:solidFill>
                  <a:srgbClr val="000000"/>
                </a:solidFill>
                <a:latin typeface="Palatino Linotype"/>
              </a:rPr>
              <a:t>i</a:t>
            </a:r>
            <a:r>
              <a:rPr b="0" lang="es-CL" sz="2200" spc="-1" strike="noStrike">
                <a:solidFill>
                  <a:srgbClr val="000000"/>
                </a:solidFill>
                <a:latin typeface="Palatino Linotype"/>
              </a:rPr>
              <a:t> &lt;C, de lo contrario y</a:t>
            </a:r>
            <a:r>
              <a:rPr b="0" lang="es-CL" sz="2200" spc="-1" strike="noStrike" baseline="-25000">
                <a:solidFill>
                  <a:srgbClr val="000000"/>
                </a:solidFill>
                <a:latin typeface="Palatino Linotype"/>
              </a:rPr>
              <a:t>i</a:t>
            </a:r>
            <a:r>
              <a:rPr b="0" lang="es-CL" sz="2200" spc="-1" strike="noStrike">
                <a:solidFill>
                  <a:srgbClr val="000000"/>
                </a:solidFill>
                <a:latin typeface="Palatino Linotype"/>
              </a:rPr>
              <a:t> = E [D</a:t>
            </a:r>
            <a:r>
              <a:rPr b="0" lang="es-CL" sz="2200" spc="-1" strike="noStrike" baseline="-25000">
                <a:solidFill>
                  <a:srgbClr val="000000"/>
                </a:solidFill>
                <a:latin typeface="Palatino Linotype"/>
              </a:rPr>
              <a:t>i</a:t>
            </a:r>
            <a:r>
              <a:rPr b="0" lang="es-CL" sz="2200" spc="-1" strike="noStrike">
                <a:solidFill>
                  <a:srgbClr val="000000"/>
                </a:solidFill>
                <a:latin typeface="Palatino Linotype"/>
              </a:rPr>
              <a:t> | D</a:t>
            </a:r>
            <a:r>
              <a:rPr b="0" lang="es-CL" sz="2200" spc="-1" strike="noStrike" baseline="-25000">
                <a:solidFill>
                  <a:srgbClr val="000000"/>
                </a:solidFill>
                <a:latin typeface="Palatino Linotype"/>
              </a:rPr>
              <a:t>i</a:t>
            </a:r>
            <a:r>
              <a:rPr b="0" lang="es-CL" sz="2200" spc="-1" strike="noStrike">
                <a:solidFill>
                  <a:srgbClr val="000000"/>
                </a:solidFill>
                <a:latin typeface="Palatino Linotype"/>
              </a:rPr>
              <a:t> ≥ C, </a:t>
            </a:r>
            <a:r>
              <a:rPr b="0" lang="es-CL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CL" sz="2200" spc="-1" strike="noStrike">
                <a:solidFill>
                  <a:srgbClr val="000000"/>
                </a:solidFill>
                <a:latin typeface="Palatino Linotype"/>
              </a:rPr>
              <a:t>=</a:t>
            </a:r>
            <a:r>
              <a:rPr b="0" lang="es-CL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CL" sz="2200" spc="-1" strike="noStrike" baseline="-25000">
                <a:solidFill>
                  <a:srgbClr val="000000"/>
                </a:solidFill>
                <a:latin typeface="Palatino Linotype"/>
              </a:rPr>
              <a:t>k</a:t>
            </a:r>
            <a:r>
              <a:rPr b="0" lang="es-CL" sz="2200" spc="-1" strike="noStrike">
                <a:solidFill>
                  <a:srgbClr val="000000"/>
                </a:solidFill>
                <a:latin typeface="Palatino Linotype"/>
              </a:rPr>
              <a:t> , </a:t>
            </a:r>
            <a:r>
              <a:rPr b="0" lang="es-CL" sz="2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2200" spc="-1" strike="noStrike">
                <a:solidFill>
                  <a:srgbClr val="000000"/>
                </a:solidFill>
                <a:latin typeface="Palatino Linotype"/>
              </a:rPr>
              <a:t>=</a:t>
            </a:r>
            <a:r>
              <a:rPr b="0" lang="es-CL" sz="2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2200" spc="-1" strike="noStrike" baseline="-25000">
                <a:solidFill>
                  <a:srgbClr val="000000"/>
                </a:solidFill>
                <a:latin typeface="Palatino Linotype"/>
              </a:rPr>
              <a:t>k</a:t>
            </a:r>
            <a:r>
              <a:rPr b="0" lang="es-CL" sz="2200" spc="-1" strike="noStrike">
                <a:solidFill>
                  <a:srgbClr val="000000"/>
                </a:solidFill>
                <a:latin typeface="Palatino Linotype"/>
              </a:rPr>
              <a:t>]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Palatino Linotype"/>
              </a:rPr>
              <a:t>Paso M: Calcular </a:t>
            </a:r>
            <a:r>
              <a:rPr b="0" lang="es-CL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CL" sz="2200" spc="-1" strike="noStrike" baseline="-25000">
                <a:solidFill>
                  <a:srgbClr val="000000"/>
                </a:solidFill>
                <a:latin typeface="Palatino Linotype"/>
              </a:rPr>
              <a:t>k+1</a:t>
            </a:r>
            <a:r>
              <a:rPr b="0" lang="es-CL" sz="2200" spc="-1" strike="noStrike">
                <a:solidFill>
                  <a:srgbClr val="000000"/>
                </a:solidFill>
                <a:latin typeface="Tahoma"/>
              </a:rPr>
              <a:t> y </a:t>
            </a:r>
            <a:r>
              <a:rPr b="0" lang="es-CL" sz="2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2200" spc="-1" strike="noStrike" baseline="-25000">
                <a:solidFill>
                  <a:srgbClr val="000000"/>
                </a:solidFill>
                <a:latin typeface="Tahoma"/>
              </a:rPr>
              <a:t>k+1 </a:t>
            </a:r>
            <a:r>
              <a:rPr b="0" lang="es-CL" sz="2200" spc="-1" strike="noStrike">
                <a:solidFill>
                  <a:srgbClr val="000000"/>
                </a:solidFill>
                <a:latin typeface="Tahoma"/>
              </a:rPr>
              <a:t>usando máxima verosimilitud sobre la secuencia {y</a:t>
            </a:r>
            <a:r>
              <a:rPr b="0" lang="es-CL" sz="2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s-CL" sz="2200" spc="-1" strike="noStrike">
                <a:solidFill>
                  <a:srgbClr val="000000"/>
                </a:solidFill>
                <a:latin typeface="Tahoma"/>
              </a:rPr>
              <a:t>}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ahoma"/>
              </a:rPr>
              <a:t>Si || (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ahoma"/>
              </a:rPr>
              <a:t>k+1</a:t>
            </a: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ahoma"/>
              </a:rPr>
              <a:t>k+1</a:t>
            </a: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)-(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)|| &gt;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entonces i</a:t>
            </a:r>
            <a:r>
              <a:rPr b="0" lang="es-CL" sz="2200" spc="-1" strike="noStrike">
                <a:solidFill>
                  <a:srgbClr val="000000"/>
                </a:solidFill>
                <a:latin typeface="Tahoma"/>
              </a:rPr>
              <a:t>terar paso E y 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C8875-811C-46BF-BD22-C8C56639ECD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500"/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 importante ver el horizonte y nivel de agregación que se requiere para el pronóstico de demand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ivel Estratégico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Garamond"/>
              </a:rPr>
              <a:t>Largo plazo / A nivel del sector industria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ivel Táctic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Garamond"/>
              </a:rPr>
              <a:t>Mediano plazo / A nivel de líneas de product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ivel Operacional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Garamond"/>
              </a:rPr>
              <a:t>Corto Plazo / A nivel de producto (SKU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: Fábrica de Zapa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Garamond"/>
              </a:rPr>
              <a:t>Nivel Estratégico:</a:t>
            </a:r>
            <a:r>
              <a:rPr b="0" lang="es-ES_tradnl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Garamond"/>
              </a:rPr>
              <a:t> Demandas globales a 5 añ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Garamond"/>
              </a:rPr>
              <a:t>Nivel Táctico: Demanda por línea para la próxima temporad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Garamond"/>
              </a:rPr>
              <a:t>Nivel Operativo:</a:t>
            </a:r>
            <a:r>
              <a:rPr b="0" lang="es-ES_tradnl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Garamond"/>
              </a:rPr>
              <a:t>Demanda por modelo y número para la próxima seman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BF2BD-9868-4E1C-BD30-E04C3B8D34D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de Pronóstic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xisten dos tip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Garamond"/>
              </a:rPr>
              <a:t>Métodos Cualitativos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on aquellos que dependen de juici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Garamond"/>
              </a:rPr>
              <a:t>Métodos Cuantitativos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on aquellos que poseen un modelo subyacen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Palatino Linotype"/>
              </a:rPr>
              <a:t>Los datos y patrones de datos se utilizan como indicadores confiables para predecir el futur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Palatino Linotype"/>
              </a:rPr>
              <a:t>Incluyen Series de Tiempo y Modelos Causal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122BB-169A-4CD0-9004-805A94E26B3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ualitativ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1715760"/>
            <a:ext cx="77724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racterísticas Generale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Palatino Linotype"/>
              </a:rPr>
              <a:t>Se posee poca informació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Palatino Linotype"/>
              </a:rPr>
              <a:t>Existe alta incertidumbr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Palatino Linotype"/>
              </a:rPr>
              <a:t>Se tiene escasa capacidad de proces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Palatino Linotype"/>
              </a:rPr>
              <a:t>Horizonte de mediano o largo plaz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so típico: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Decisiones estratégica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Palatino Linotype"/>
              </a:rPr>
              <a:t>Selección de Mercad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Palatino Linotype"/>
              </a:rPr>
              <a:t>Diseño de Proces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Palatino Linotype"/>
              </a:rPr>
              <a:t>Selección de Productos Nuev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étodos Populare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alatino Linotype"/>
              </a:rPr>
              <a:t>Grass Roo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alatino Linotype"/>
              </a:rPr>
              <a:t>Investigación de Mercado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alatino Linotype"/>
              </a:rPr>
              <a:t>Panel de Consens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alatino Linotype"/>
              </a:rPr>
              <a:t>Método Delph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778E4-4B43-4D38-8516-58F4AC12C09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odelos Cuantitativos: Series de Tiempo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os métodos utilizan datos históricos                y los proyectan a futur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on de corto plaz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 necesario contar con datos intern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o captan patrones de camb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616800" y="2057400"/>
            <a:ext cx="252720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4B1AC-F7FE-4FE0-B75C-94F7AD9E88D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8077320" cy="4913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762120" y="1609560"/>
            <a:ext cx="8001000" cy="48675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143000" y="53352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99"/>
                </a:solidFill>
                <a:latin typeface="Tahoma"/>
              </a:rPr>
              <a:t>Factores que Determinan la Deman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66698-F2A9-4CA4-9E64-325654CC999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dentificar Patrones de Demand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7960" y="2066760"/>
            <a:ext cx="8668080" cy="39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F733C-C8B0-47C8-AEBA-FD7F06CF0F5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93760" y="1662120"/>
            <a:ext cx="4430520" cy="32162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222920" y="1509840"/>
            <a:ext cx="29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Tahoma"/>
              </a:rPr>
              <a:t>Serie de tiempo orig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59120" y="4417920"/>
            <a:ext cx="89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16183800">
            <a:off x="-309960" y="2621880"/>
            <a:ext cx="111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Deman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952880" y="1542960"/>
            <a:ext cx="3962520" cy="31100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370480" y="1295280"/>
            <a:ext cx="368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Tahoma"/>
              </a:rPr>
              <a:t>Serie de tiempo descompue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988320" y="4430880"/>
            <a:ext cx="89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4712760"/>
            <a:ext cx="8229600" cy="21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omponentes: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Ruido: parte aleatoria (si es muy alto es difícil hacer pronósticos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Estacionalidad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Tendencia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Nivel (base) ……… Qué mas 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C8D4E-0BF6-4773-B6FC-81EC8F0B1DB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6T14:21:15Z</dcterms:created>
  <dc:creator>Dpto. Ingeniería Industrial</dc:creator>
  <dc:description/>
  <dc:language>en-US</dc:language>
  <cp:lastModifiedBy>Rene Caldentey</cp:lastModifiedBy>
  <cp:lastPrinted>2002-03-21T07:38:08Z</cp:lastPrinted>
  <dcterms:modified xsi:type="dcterms:W3CDTF">2008-07-31T11:16:51Z</dcterms:modified>
  <cp:revision>207</cp:revision>
  <dc:subject/>
  <dc:title>Comercio Electrónico</dc:title>
</cp:coreProperties>
</file>